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media/image28.wmf" ContentType="image/x-wmf"/>
  <Override PartName="/ppt/media/image27.wmf" ContentType="image/x-wmf"/>
  <Override PartName="/ppt/media/image26.wmf" ContentType="image/x-wmf"/>
  <Override PartName="/ppt/media/image5.png" ContentType="image/png"/>
  <Override PartName="/ppt/media/image4.png" ContentType="image/png"/>
  <Override PartName="/ppt/media/image12.wmf" ContentType="image/x-wmf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29.wmf" ContentType="image/x-wmf"/>
  <Override PartName="/ppt/media/image6.wmf" ContentType="image/x-wmf"/>
  <Override PartName="/ppt/media/image11.png" ContentType="image/png"/>
  <Override PartName="/ppt/media/image10.wmf" ContentType="image/x-wmf"/>
  <Override PartName="/ppt/media/image30.wmf" ContentType="image/x-wmf"/>
  <Override PartName="/ppt/media/image32.png" ContentType="image/png"/>
  <Override PartName="/ppt/media/image3.png" ContentType="image/png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14.jpeg" ContentType="image/jpeg"/>
  <Override PartName="/ppt/media/image15.png" ContentType="image/png"/>
  <Override PartName="/ppt/media/image24.jpeg" ContentType="image/jpeg"/>
  <Override PartName="/ppt/media/image16.png" ContentType="image/png"/>
  <Override PartName="/ppt/media/image17.png" ContentType="image/png"/>
  <Override PartName="/ppt/media/image20.png" ContentType="image/png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wmf" ContentType="image/x-wmf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FD207-0377-400F-A745-421594CFD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B5B4F-5E84-42F9-A907-889D2D86F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5DD84-4D40-4331-94CD-BB8031DD4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A83CE-9E0C-4ABE-A681-8CE80AF66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1221F-3313-4174-AF6C-D95494A4D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DE588-4897-48E3-9F0E-39ACDF149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C3510-6D24-41D2-B383-B5711DBA1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9AE0D-BC56-488C-B461-1A1D2CF70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D7155-AE8E-4FBA-B78D-A96C6930D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55A7E-4D4B-4393-BFA7-4F013CD86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9ADC7-9AB8-4759-8C0F-5D3DAA39F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4621B-B141-47D9-8063-0D0DE6E7C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CBDD7-932A-48AF-A36A-7B156E1F2A1D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image" Target="../media/image8.wmf"/><Relationship Id="rId6" Type="http://schemas.openxmlformats.org/officeDocument/2006/relationships/image" Target="../media/image9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5.png"/><Relationship Id="rId9" Type="http://schemas.openxmlformats.org/officeDocument/2006/relationships/image" Target="../media/image10.wmf"/><Relationship Id="rId10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4.jpeg"/><Relationship Id="rId3" Type="http://schemas.openxmlformats.org/officeDocument/2006/relationships/image" Target="../media/image14.jpeg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1.wmf"/><Relationship Id="rId7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5.png"/><Relationship Id="rId8" Type="http://schemas.openxmlformats.org/officeDocument/2006/relationships/image" Target="../media/image17.png"/><Relationship Id="rId9" Type="http://schemas.openxmlformats.org/officeDocument/2006/relationships/image" Target="../media/image16.png"/><Relationship Id="rId10" Type="http://schemas.openxmlformats.org/officeDocument/2006/relationships/image" Target="../media/image14.jpeg"/><Relationship Id="rId11" Type="http://schemas.openxmlformats.org/officeDocument/2006/relationships/image" Target="../media/image14.jpeg"/><Relationship Id="rId12" Type="http://schemas.openxmlformats.org/officeDocument/2006/relationships/image" Target="../media/image14.jpeg"/><Relationship Id="rId13" Type="http://schemas.openxmlformats.org/officeDocument/2006/relationships/image" Target="../media/image1.wmf"/><Relationship Id="rId14" Type="http://schemas.openxmlformats.org/officeDocument/2006/relationships/image" Target="../media/image14.jpeg"/><Relationship Id="rId15" Type="http://schemas.openxmlformats.org/officeDocument/2006/relationships/image" Target="../media/image1.wmf"/><Relationship Id="rId16" Type="http://schemas.openxmlformats.org/officeDocument/2006/relationships/image" Target="../media/image14.jpeg"/><Relationship Id="rId17" Type="http://schemas.openxmlformats.org/officeDocument/2006/relationships/image" Target="../media/image1.wmf"/><Relationship Id="rId18" Type="http://schemas.openxmlformats.org/officeDocument/2006/relationships/image" Target="../media/image14.jpeg"/><Relationship Id="rId19" Type="http://schemas.openxmlformats.org/officeDocument/2006/relationships/image" Target="../media/image14.jpeg"/><Relationship Id="rId20" Type="http://schemas.openxmlformats.org/officeDocument/2006/relationships/image" Target="../media/image14.jpeg"/><Relationship Id="rId2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5.png"/><Relationship Id="rId10" Type="http://schemas.openxmlformats.org/officeDocument/2006/relationships/image" Target="../media/image17.png"/><Relationship Id="rId11" Type="http://schemas.openxmlformats.org/officeDocument/2006/relationships/image" Target="../media/image16.png"/><Relationship Id="rId12" Type="http://schemas.openxmlformats.org/officeDocument/2006/relationships/image" Target="../media/image14.jpeg"/><Relationship Id="rId13" Type="http://schemas.openxmlformats.org/officeDocument/2006/relationships/image" Target="../media/image1.wmf"/><Relationship Id="rId14" Type="http://schemas.openxmlformats.org/officeDocument/2006/relationships/image" Target="../media/image14.jpeg"/><Relationship Id="rId15" Type="http://schemas.openxmlformats.org/officeDocument/2006/relationships/image" Target="../media/image14.jpeg"/><Relationship Id="rId16" Type="http://schemas.openxmlformats.org/officeDocument/2006/relationships/image" Target="../media/image14.jpeg"/><Relationship Id="rId17" Type="http://schemas.openxmlformats.org/officeDocument/2006/relationships/image" Target="../media/image14.jpeg"/><Relationship Id="rId18" Type="http://schemas.openxmlformats.org/officeDocument/2006/relationships/image" Target="../media/image14.jpeg"/><Relationship Id="rId19" Type="http://schemas.openxmlformats.org/officeDocument/2006/relationships/image" Target="../media/image14.jpeg"/><Relationship Id="rId20" Type="http://schemas.openxmlformats.org/officeDocument/2006/relationships/image" Target="../media/image14.jpeg"/><Relationship Id="rId2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9.png"/><Relationship Id="rId4" Type="http://schemas.openxmlformats.org/officeDocument/2006/relationships/image" Target="../media/image15.png"/><Relationship Id="rId5" Type="http://schemas.openxmlformats.org/officeDocument/2006/relationships/image" Target="../media/image20.png"/><Relationship Id="rId6" Type="http://schemas.openxmlformats.org/officeDocument/2006/relationships/image" Target="../media/image20.png"/><Relationship Id="rId7" Type="http://schemas.openxmlformats.org/officeDocument/2006/relationships/image" Target="../media/image20.png"/><Relationship Id="rId8" Type="http://schemas.openxmlformats.org/officeDocument/2006/relationships/image" Target="../media/image19.png"/><Relationship Id="rId9" Type="http://schemas.openxmlformats.org/officeDocument/2006/relationships/image" Target="../media/image16.png"/><Relationship Id="rId10" Type="http://schemas.openxmlformats.org/officeDocument/2006/relationships/image" Target="../media/image16.png"/><Relationship Id="rId11" Type="http://schemas.openxmlformats.org/officeDocument/2006/relationships/image" Target="../media/image20.png"/><Relationship Id="rId12" Type="http://schemas.openxmlformats.org/officeDocument/2006/relationships/image" Target="../media/image19.png"/><Relationship Id="rId1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image" Target="../media/image15.png"/><Relationship Id="rId1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.wmf"/><Relationship Id="rId1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9.png"/><Relationship Id="rId4" Type="http://schemas.openxmlformats.org/officeDocument/2006/relationships/image" Target="../media/image15.png"/><Relationship Id="rId5" Type="http://schemas.openxmlformats.org/officeDocument/2006/relationships/image" Target="../media/image20.png"/><Relationship Id="rId6" Type="http://schemas.openxmlformats.org/officeDocument/2006/relationships/image" Target="../media/image20.png"/><Relationship Id="rId7" Type="http://schemas.openxmlformats.org/officeDocument/2006/relationships/image" Target="../media/image20.png"/><Relationship Id="rId8" Type="http://schemas.openxmlformats.org/officeDocument/2006/relationships/image" Target="../media/image19.png"/><Relationship Id="rId9" Type="http://schemas.openxmlformats.org/officeDocument/2006/relationships/image" Target="../media/image16.png"/><Relationship Id="rId10" Type="http://schemas.openxmlformats.org/officeDocument/2006/relationships/image" Target="../media/image16.png"/><Relationship Id="rId11" Type="http://schemas.openxmlformats.org/officeDocument/2006/relationships/image" Target="../media/image20.png"/><Relationship Id="rId12" Type="http://schemas.openxmlformats.org/officeDocument/2006/relationships/image" Target="../media/image19.png"/><Relationship Id="rId1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image" Target="../media/image15.png"/><Relationship Id="rId1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6.png"/><Relationship Id="rId3" Type="http://schemas.openxmlformats.org/officeDocument/2006/relationships/image" Target="../media/image14.jpeg"/><Relationship Id="rId4" Type="http://schemas.openxmlformats.org/officeDocument/2006/relationships/image" Target="../media/image18.png"/><Relationship Id="rId5" Type="http://schemas.openxmlformats.org/officeDocument/2006/relationships/image" Target="../media/image17.png"/><Relationship Id="rId6" Type="http://schemas.openxmlformats.org/officeDocument/2006/relationships/image" Target="../media/image14.jpeg"/><Relationship Id="rId7" Type="http://schemas.openxmlformats.org/officeDocument/2006/relationships/image" Target="../media/image17.png"/><Relationship Id="rId8" Type="http://schemas.openxmlformats.org/officeDocument/2006/relationships/image" Target="../media/image16.png"/><Relationship Id="rId9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.wmf"/><Relationship Id="rId9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3.wmf"/><Relationship Id="rId4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.png"/><Relationship Id="rId13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0.wmf"/><Relationship Id="rId1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0.wmf"/><Relationship Id="rId7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.wmf"/><Relationship Id="rId9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3.wmf"/><Relationship Id="rId4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png"/><Relationship Id="rId9" Type="http://schemas.openxmlformats.org/officeDocument/2006/relationships/image" Target="../media/image31.wmf"/><Relationship Id="rId10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8.wmf"/><Relationship Id="rId7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image" Target="../media/image32.png"/><Relationship Id="rId4" Type="http://schemas.openxmlformats.org/officeDocument/2006/relationships/image" Target="../media/image32.png"/><Relationship Id="rId5" Type="http://schemas.openxmlformats.org/officeDocument/2006/relationships/image" Target="../media/image32.png"/><Relationship Id="rId6" Type="http://schemas.openxmlformats.org/officeDocument/2006/relationships/image" Target="../media/image32.png"/><Relationship Id="rId7" Type="http://schemas.openxmlformats.org/officeDocument/2006/relationships/image" Target="../media/image32.png"/><Relationship Id="rId8" Type="http://schemas.openxmlformats.org/officeDocument/2006/relationships/image" Target="../media/image32.png"/><Relationship Id="rId9" Type="http://schemas.openxmlformats.org/officeDocument/2006/relationships/image" Target="../media/image32.png"/><Relationship Id="rId10" Type="http://schemas.openxmlformats.org/officeDocument/2006/relationships/image" Target="../media/image32.png"/><Relationship Id="rId1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5724360" y="2678040"/>
            <a:ext cx="1278000" cy="2438640"/>
            <a:chOff x="5724360" y="2678040"/>
            <a:chExt cx="1278000" cy="2438640"/>
          </a:xfrm>
        </p:grpSpPr>
        <p:sp>
          <p:nvSpPr>
            <p:cNvPr id="42" name=""/>
            <p:cNvSpPr/>
            <p:nvPr/>
          </p:nvSpPr>
          <p:spPr>
            <a:xfrm>
              <a:off x="5810040" y="2757240"/>
              <a:ext cx="1100160" cy="1703520"/>
            </a:xfrm>
            <a:prstGeom prst="can">
              <a:avLst>
                <a:gd name="adj" fmla="val 25000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" name=""/>
            <p:cNvGrpSpPr/>
            <p:nvPr/>
          </p:nvGrpSpPr>
          <p:grpSpPr>
            <a:xfrm>
              <a:off x="5810040" y="3960360"/>
              <a:ext cx="1104480" cy="1096200"/>
              <a:chOff x="5810040" y="3960360"/>
              <a:chExt cx="1104480" cy="1096200"/>
            </a:xfrm>
          </p:grpSpPr>
          <p:sp>
            <p:nvSpPr>
              <p:cNvPr id="44" name=""/>
              <p:cNvSpPr/>
              <p:nvPr/>
            </p:nvSpPr>
            <p:spPr>
              <a:xfrm>
                <a:off x="5810040" y="4177080"/>
                <a:ext cx="1099800" cy="879480"/>
              </a:xfrm>
              <a:custGeom>
                <a:avLst/>
                <a:gdLst/>
                <a:ahLst/>
                <a:rect l="l" t="t" r="r" b="b"/>
                <a:pathLst>
                  <a:path w="1915" h="1396">
                    <a:moveTo>
                      <a:pt x="0" y="0"/>
                    </a:moveTo>
                    <a:lnTo>
                      <a:pt x="0" y="1041"/>
                    </a:lnTo>
                    <a:lnTo>
                      <a:pt x="13" y="1098"/>
                    </a:lnTo>
                    <a:lnTo>
                      <a:pt x="31" y="1135"/>
                    </a:lnTo>
                    <a:lnTo>
                      <a:pt x="54" y="1170"/>
                    </a:lnTo>
                    <a:lnTo>
                      <a:pt x="88" y="1197"/>
                    </a:lnTo>
                    <a:lnTo>
                      <a:pt x="132" y="1228"/>
                    </a:lnTo>
                    <a:lnTo>
                      <a:pt x="179" y="1251"/>
                    </a:lnTo>
                    <a:lnTo>
                      <a:pt x="230" y="1275"/>
                    </a:lnTo>
                    <a:lnTo>
                      <a:pt x="296" y="1298"/>
                    </a:lnTo>
                    <a:lnTo>
                      <a:pt x="362" y="1322"/>
                    </a:lnTo>
                    <a:lnTo>
                      <a:pt x="424" y="1337"/>
                    </a:lnTo>
                    <a:lnTo>
                      <a:pt x="501" y="1354"/>
                    </a:lnTo>
                    <a:lnTo>
                      <a:pt x="580" y="1367"/>
                    </a:lnTo>
                    <a:lnTo>
                      <a:pt x="648" y="1377"/>
                    </a:lnTo>
                    <a:lnTo>
                      <a:pt x="718" y="1386"/>
                    </a:lnTo>
                    <a:lnTo>
                      <a:pt x="797" y="1391"/>
                    </a:lnTo>
                    <a:lnTo>
                      <a:pt x="884" y="1396"/>
                    </a:lnTo>
                    <a:lnTo>
                      <a:pt x="983" y="1396"/>
                    </a:lnTo>
                    <a:lnTo>
                      <a:pt x="1081" y="1391"/>
                    </a:lnTo>
                    <a:lnTo>
                      <a:pt x="1176" y="1386"/>
                    </a:lnTo>
                    <a:lnTo>
                      <a:pt x="1265" y="1377"/>
                    </a:lnTo>
                    <a:lnTo>
                      <a:pt x="1355" y="1364"/>
                    </a:lnTo>
                    <a:lnTo>
                      <a:pt x="1420" y="1352"/>
                    </a:lnTo>
                    <a:lnTo>
                      <a:pt x="1503" y="1332"/>
                    </a:lnTo>
                    <a:lnTo>
                      <a:pt x="1568" y="1312"/>
                    </a:lnTo>
                    <a:lnTo>
                      <a:pt x="1629" y="1293"/>
                    </a:lnTo>
                    <a:lnTo>
                      <a:pt x="1689" y="1272"/>
                    </a:lnTo>
                    <a:lnTo>
                      <a:pt x="1747" y="1246"/>
                    </a:lnTo>
                    <a:lnTo>
                      <a:pt x="1789" y="1222"/>
                    </a:lnTo>
                    <a:lnTo>
                      <a:pt x="1830" y="1190"/>
                    </a:lnTo>
                    <a:lnTo>
                      <a:pt x="1858" y="1167"/>
                    </a:lnTo>
                    <a:lnTo>
                      <a:pt x="1881" y="1140"/>
                    </a:lnTo>
                    <a:lnTo>
                      <a:pt x="1904" y="1099"/>
                    </a:lnTo>
                    <a:lnTo>
                      <a:pt x="1915" y="1052"/>
                    </a:lnTo>
                    <a:lnTo>
                      <a:pt x="1915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5810040" y="3960360"/>
                <a:ext cx="1104480" cy="422280"/>
              </a:xfrm>
              <a:prstGeom prst="ellipse">
                <a:avLst/>
              </a:prstGeom>
              <a:solidFill>
                <a:srgbClr val="8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5850360" y="3989160"/>
                <a:ext cx="1020600" cy="3690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" name=""/>
            <p:cNvSpPr/>
            <p:nvPr/>
          </p:nvSpPr>
          <p:spPr>
            <a:xfrm>
              <a:off x="5724360" y="2678040"/>
              <a:ext cx="1278000" cy="2438640"/>
            </a:xfrm>
            <a:prstGeom prst="can">
              <a:avLst>
                <a:gd name="adj" fmla="val 25000"/>
              </a:avLst>
            </a:prstGeom>
            <a:solidFill>
              <a:srgbClr val="b2b2b2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814720" y="2751120"/>
              <a:ext cx="1090800" cy="43488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3b3b3b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7792920" y="5008680"/>
            <a:ext cx="76320" cy="320040"/>
            <a:chOff x="7792920" y="5008680"/>
            <a:chExt cx="76320" cy="320040"/>
          </a:xfrm>
        </p:grpSpPr>
        <p:sp>
          <p:nvSpPr>
            <p:cNvPr id="50" name=""/>
            <p:cNvSpPr/>
            <p:nvPr/>
          </p:nvSpPr>
          <p:spPr>
            <a:xfrm>
              <a:off x="7792920" y="5008680"/>
              <a:ext cx="76320" cy="155520"/>
            </a:xfrm>
            <a:custGeom>
              <a:avLst/>
              <a:gdLst/>
              <a:ahLst/>
              <a:rect l="l" t="t" r="r" b="b"/>
              <a:pathLst>
                <a:path w="196" h="371">
                  <a:moveTo>
                    <a:pt x="95" y="0"/>
                  </a:moveTo>
                  <a:lnTo>
                    <a:pt x="105" y="58"/>
                  </a:lnTo>
                  <a:lnTo>
                    <a:pt x="111" y="88"/>
                  </a:lnTo>
                  <a:lnTo>
                    <a:pt x="121" y="122"/>
                  </a:lnTo>
                  <a:lnTo>
                    <a:pt x="132" y="142"/>
                  </a:lnTo>
                  <a:lnTo>
                    <a:pt x="147" y="166"/>
                  </a:lnTo>
                  <a:lnTo>
                    <a:pt x="167" y="194"/>
                  </a:lnTo>
                  <a:lnTo>
                    <a:pt x="184" y="220"/>
                  </a:lnTo>
                  <a:lnTo>
                    <a:pt x="192" y="246"/>
                  </a:lnTo>
                  <a:lnTo>
                    <a:pt x="196" y="279"/>
                  </a:lnTo>
                  <a:lnTo>
                    <a:pt x="189" y="307"/>
                  </a:lnTo>
                  <a:lnTo>
                    <a:pt x="178" y="328"/>
                  </a:lnTo>
                  <a:lnTo>
                    <a:pt x="162" y="345"/>
                  </a:lnTo>
                  <a:lnTo>
                    <a:pt x="141" y="361"/>
                  </a:lnTo>
                  <a:lnTo>
                    <a:pt x="121" y="368"/>
                  </a:lnTo>
                  <a:lnTo>
                    <a:pt x="99" y="371"/>
                  </a:lnTo>
                  <a:lnTo>
                    <a:pt x="76" y="368"/>
                  </a:lnTo>
                  <a:lnTo>
                    <a:pt x="54" y="362"/>
                  </a:lnTo>
                  <a:lnTo>
                    <a:pt x="34" y="351"/>
                  </a:lnTo>
                  <a:lnTo>
                    <a:pt x="19" y="335"/>
                  </a:lnTo>
                  <a:lnTo>
                    <a:pt x="8" y="316"/>
                  </a:lnTo>
                  <a:lnTo>
                    <a:pt x="3" y="297"/>
                  </a:lnTo>
                  <a:lnTo>
                    <a:pt x="0" y="272"/>
                  </a:lnTo>
                  <a:lnTo>
                    <a:pt x="5" y="240"/>
                  </a:lnTo>
                  <a:lnTo>
                    <a:pt x="13" y="218"/>
                  </a:lnTo>
                  <a:lnTo>
                    <a:pt x="30" y="191"/>
                  </a:lnTo>
                  <a:lnTo>
                    <a:pt x="49" y="166"/>
                  </a:lnTo>
                  <a:lnTo>
                    <a:pt x="62" y="141"/>
                  </a:lnTo>
                  <a:lnTo>
                    <a:pt x="72" y="120"/>
                  </a:lnTo>
                  <a:lnTo>
                    <a:pt x="81" y="90"/>
                  </a:lnTo>
                  <a:lnTo>
                    <a:pt x="86" y="58"/>
                  </a:lnTo>
                  <a:lnTo>
                    <a:pt x="95" y="0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792920" y="5173200"/>
              <a:ext cx="76320" cy="155520"/>
            </a:xfrm>
            <a:custGeom>
              <a:avLst/>
              <a:gdLst/>
              <a:ahLst/>
              <a:rect l="l" t="t" r="r" b="b"/>
              <a:pathLst>
                <a:path w="196" h="372">
                  <a:moveTo>
                    <a:pt x="95" y="0"/>
                  </a:moveTo>
                  <a:lnTo>
                    <a:pt x="105" y="59"/>
                  </a:lnTo>
                  <a:lnTo>
                    <a:pt x="111" y="88"/>
                  </a:lnTo>
                  <a:lnTo>
                    <a:pt x="121" y="122"/>
                  </a:lnTo>
                  <a:lnTo>
                    <a:pt x="132" y="143"/>
                  </a:lnTo>
                  <a:lnTo>
                    <a:pt x="147" y="167"/>
                  </a:lnTo>
                  <a:lnTo>
                    <a:pt x="167" y="195"/>
                  </a:lnTo>
                  <a:lnTo>
                    <a:pt x="184" y="220"/>
                  </a:lnTo>
                  <a:lnTo>
                    <a:pt x="192" y="247"/>
                  </a:lnTo>
                  <a:lnTo>
                    <a:pt x="196" y="279"/>
                  </a:lnTo>
                  <a:lnTo>
                    <a:pt x="189" y="308"/>
                  </a:lnTo>
                  <a:lnTo>
                    <a:pt x="178" y="328"/>
                  </a:lnTo>
                  <a:lnTo>
                    <a:pt x="162" y="345"/>
                  </a:lnTo>
                  <a:lnTo>
                    <a:pt x="141" y="361"/>
                  </a:lnTo>
                  <a:lnTo>
                    <a:pt x="121" y="369"/>
                  </a:lnTo>
                  <a:lnTo>
                    <a:pt x="99" y="372"/>
                  </a:lnTo>
                  <a:lnTo>
                    <a:pt x="76" y="369"/>
                  </a:lnTo>
                  <a:lnTo>
                    <a:pt x="54" y="363"/>
                  </a:lnTo>
                  <a:lnTo>
                    <a:pt x="34" y="351"/>
                  </a:lnTo>
                  <a:lnTo>
                    <a:pt x="19" y="336"/>
                  </a:lnTo>
                  <a:lnTo>
                    <a:pt x="8" y="317"/>
                  </a:lnTo>
                  <a:lnTo>
                    <a:pt x="3" y="298"/>
                  </a:lnTo>
                  <a:lnTo>
                    <a:pt x="0" y="272"/>
                  </a:lnTo>
                  <a:lnTo>
                    <a:pt x="5" y="242"/>
                  </a:lnTo>
                  <a:lnTo>
                    <a:pt x="13" y="219"/>
                  </a:lnTo>
                  <a:lnTo>
                    <a:pt x="30" y="191"/>
                  </a:lnTo>
                  <a:lnTo>
                    <a:pt x="49" y="167"/>
                  </a:lnTo>
                  <a:lnTo>
                    <a:pt x="62" y="141"/>
                  </a:lnTo>
                  <a:lnTo>
                    <a:pt x="72" y="120"/>
                  </a:lnTo>
                  <a:lnTo>
                    <a:pt x="81" y="90"/>
                  </a:lnTo>
                  <a:lnTo>
                    <a:pt x="86" y="59"/>
                  </a:lnTo>
                  <a:lnTo>
                    <a:pt x="95" y="0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52" name=""/>
          <p:cNvGraphicFramePr/>
          <p:nvPr/>
        </p:nvGraphicFramePr>
        <p:xfrm>
          <a:off x="7178760" y="4284720"/>
          <a:ext cx="822240" cy="7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78760" y="4284720"/>
                    <a:ext cx="822240" cy="7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" name=""/>
          <p:cNvSpPr/>
          <p:nvPr/>
        </p:nvSpPr>
        <p:spPr>
          <a:xfrm>
            <a:off x="7004160" y="4465800"/>
            <a:ext cx="371520" cy="387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905520" y="4630680"/>
            <a:ext cx="463680" cy="745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5908680" y="1195560"/>
            <a:ext cx="879480" cy="1404720"/>
            <a:chOff x="5908680" y="1195560"/>
            <a:chExt cx="879480" cy="1404720"/>
          </a:xfrm>
        </p:grpSpPr>
        <p:sp>
          <p:nvSpPr>
            <p:cNvPr id="57" name=""/>
            <p:cNvSpPr/>
            <p:nvPr/>
          </p:nvSpPr>
          <p:spPr>
            <a:xfrm>
              <a:off x="5916600" y="1302480"/>
              <a:ext cx="863280" cy="963360"/>
            </a:xfrm>
            <a:custGeom>
              <a:avLst/>
              <a:gdLst/>
              <a:ahLst/>
              <a:rect l="l" t="t" r="r" b="b"/>
              <a:pathLst>
                <a:path w="2256" h="2295">
                  <a:moveTo>
                    <a:pt x="0" y="0"/>
                  </a:moveTo>
                  <a:lnTo>
                    <a:pt x="939" y="1180"/>
                  </a:lnTo>
                  <a:lnTo>
                    <a:pt x="980" y="2175"/>
                  </a:lnTo>
                  <a:lnTo>
                    <a:pt x="983" y="2202"/>
                  </a:lnTo>
                  <a:lnTo>
                    <a:pt x="991" y="2221"/>
                  </a:lnTo>
                  <a:lnTo>
                    <a:pt x="1000" y="2235"/>
                  </a:lnTo>
                  <a:lnTo>
                    <a:pt x="1010" y="2246"/>
                  </a:lnTo>
                  <a:lnTo>
                    <a:pt x="1024" y="2260"/>
                  </a:lnTo>
                  <a:lnTo>
                    <a:pt x="1038" y="2268"/>
                  </a:lnTo>
                  <a:lnTo>
                    <a:pt x="1060" y="2281"/>
                  </a:lnTo>
                  <a:lnTo>
                    <a:pt x="1083" y="2287"/>
                  </a:lnTo>
                  <a:lnTo>
                    <a:pt x="1111" y="2293"/>
                  </a:lnTo>
                  <a:lnTo>
                    <a:pt x="1128" y="2295"/>
                  </a:lnTo>
                  <a:lnTo>
                    <a:pt x="1145" y="2295"/>
                  </a:lnTo>
                  <a:lnTo>
                    <a:pt x="1163" y="2292"/>
                  </a:lnTo>
                  <a:lnTo>
                    <a:pt x="1183" y="2286"/>
                  </a:lnTo>
                  <a:lnTo>
                    <a:pt x="1202" y="2279"/>
                  </a:lnTo>
                  <a:lnTo>
                    <a:pt x="1221" y="2268"/>
                  </a:lnTo>
                  <a:lnTo>
                    <a:pt x="1235" y="2259"/>
                  </a:lnTo>
                  <a:lnTo>
                    <a:pt x="1251" y="2243"/>
                  </a:lnTo>
                  <a:lnTo>
                    <a:pt x="1262" y="2227"/>
                  </a:lnTo>
                  <a:lnTo>
                    <a:pt x="1273" y="2203"/>
                  </a:lnTo>
                  <a:lnTo>
                    <a:pt x="1276" y="2181"/>
                  </a:lnTo>
                  <a:lnTo>
                    <a:pt x="1336" y="1161"/>
                  </a:lnTo>
                  <a:lnTo>
                    <a:pt x="225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908680" y="1195560"/>
              <a:ext cx="879480" cy="182520"/>
            </a:xfrm>
            <a:prstGeom prst="ellipse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977440" y="1330200"/>
              <a:ext cx="748440" cy="906840"/>
            </a:xfrm>
            <a:custGeom>
              <a:avLst/>
              <a:gdLst/>
              <a:ahLst/>
              <a:rect l="l" t="t" r="r" b="b"/>
              <a:pathLst>
                <a:path w="1956" h="2159">
                  <a:moveTo>
                    <a:pt x="0" y="19"/>
                  </a:moveTo>
                  <a:lnTo>
                    <a:pt x="857" y="1063"/>
                  </a:lnTo>
                  <a:lnTo>
                    <a:pt x="879" y="2090"/>
                  </a:lnTo>
                  <a:lnTo>
                    <a:pt x="887" y="2107"/>
                  </a:lnTo>
                  <a:lnTo>
                    <a:pt x="897" y="2123"/>
                  </a:lnTo>
                  <a:lnTo>
                    <a:pt x="906" y="2137"/>
                  </a:lnTo>
                  <a:lnTo>
                    <a:pt x="922" y="2147"/>
                  </a:lnTo>
                  <a:lnTo>
                    <a:pt x="939" y="2156"/>
                  </a:lnTo>
                  <a:lnTo>
                    <a:pt x="962" y="2159"/>
                  </a:lnTo>
                  <a:lnTo>
                    <a:pt x="983" y="2157"/>
                  </a:lnTo>
                  <a:lnTo>
                    <a:pt x="1005" y="2153"/>
                  </a:lnTo>
                  <a:lnTo>
                    <a:pt x="1026" y="2140"/>
                  </a:lnTo>
                  <a:lnTo>
                    <a:pt x="1040" y="2123"/>
                  </a:lnTo>
                  <a:lnTo>
                    <a:pt x="1048" y="2109"/>
                  </a:lnTo>
                  <a:lnTo>
                    <a:pt x="1056" y="2088"/>
                  </a:lnTo>
                  <a:lnTo>
                    <a:pt x="1100" y="1045"/>
                  </a:lnTo>
                  <a:lnTo>
                    <a:pt x="1956" y="0"/>
                  </a:lnTo>
                  <a:lnTo>
                    <a:pt x="1790" y="41"/>
                  </a:lnTo>
                  <a:lnTo>
                    <a:pt x="1531" y="77"/>
                  </a:lnTo>
                  <a:lnTo>
                    <a:pt x="1247" y="98"/>
                  </a:lnTo>
                  <a:lnTo>
                    <a:pt x="962" y="109"/>
                  </a:lnTo>
                  <a:lnTo>
                    <a:pt x="662" y="98"/>
                  </a:lnTo>
                  <a:lnTo>
                    <a:pt x="398" y="77"/>
                  </a:lnTo>
                  <a:lnTo>
                    <a:pt x="178" y="52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105960" y="1514160"/>
              <a:ext cx="483120" cy="725400"/>
            </a:xfrm>
            <a:custGeom>
              <a:avLst/>
              <a:gdLst/>
              <a:ahLst/>
              <a:rect l="l" t="t" r="r" b="b"/>
              <a:pathLst>
                <a:path w="1264" h="1728">
                  <a:moveTo>
                    <a:pt x="0" y="0"/>
                  </a:moveTo>
                  <a:lnTo>
                    <a:pt x="520" y="624"/>
                  </a:lnTo>
                  <a:lnTo>
                    <a:pt x="531" y="1657"/>
                  </a:lnTo>
                  <a:lnTo>
                    <a:pt x="541" y="1674"/>
                  </a:lnTo>
                  <a:lnTo>
                    <a:pt x="553" y="1688"/>
                  </a:lnTo>
                  <a:lnTo>
                    <a:pt x="564" y="1701"/>
                  </a:lnTo>
                  <a:lnTo>
                    <a:pt x="580" y="1715"/>
                  </a:lnTo>
                  <a:lnTo>
                    <a:pt x="608" y="1723"/>
                  </a:lnTo>
                  <a:lnTo>
                    <a:pt x="632" y="1728"/>
                  </a:lnTo>
                  <a:lnTo>
                    <a:pt x="651" y="1725"/>
                  </a:lnTo>
                  <a:lnTo>
                    <a:pt x="673" y="1720"/>
                  </a:lnTo>
                  <a:lnTo>
                    <a:pt x="694" y="1709"/>
                  </a:lnTo>
                  <a:lnTo>
                    <a:pt x="711" y="1692"/>
                  </a:lnTo>
                  <a:lnTo>
                    <a:pt x="723" y="1669"/>
                  </a:lnTo>
                  <a:lnTo>
                    <a:pt x="730" y="1657"/>
                  </a:lnTo>
                  <a:lnTo>
                    <a:pt x="761" y="605"/>
                  </a:lnTo>
                  <a:lnTo>
                    <a:pt x="126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310440" y="2279160"/>
              <a:ext cx="75600" cy="155880"/>
            </a:xfrm>
            <a:custGeom>
              <a:avLst/>
              <a:gdLst/>
              <a:ahLst/>
              <a:rect l="l" t="t" r="r" b="b"/>
              <a:pathLst>
                <a:path w="196" h="370">
                  <a:moveTo>
                    <a:pt x="95" y="0"/>
                  </a:moveTo>
                  <a:lnTo>
                    <a:pt x="105" y="58"/>
                  </a:lnTo>
                  <a:lnTo>
                    <a:pt x="111" y="87"/>
                  </a:lnTo>
                  <a:lnTo>
                    <a:pt x="121" y="121"/>
                  </a:lnTo>
                  <a:lnTo>
                    <a:pt x="132" y="141"/>
                  </a:lnTo>
                  <a:lnTo>
                    <a:pt x="147" y="166"/>
                  </a:lnTo>
                  <a:lnTo>
                    <a:pt x="167" y="193"/>
                  </a:lnTo>
                  <a:lnTo>
                    <a:pt x="184" y="220"/>
                  </a:lnTo>
                  <a:lnTo>
                    <a:pt x="192" y="245"/>
                  </a:lnTo>
                  <a:lnTo>
                    <a:pt x="196" y="278"/>
                  </a:lnTo>
                  <a:lnTo>
                    <a:pt x="189" y="307"/>
                  </a:lnTo>
                  <a:lnTo>
                    <a:pt x="178" y="328"/>
                  </a:lnTo>
                  <a:lnTo>
                    <a:pt x="162" y="345"/>
                  </a:lnTo>
                  <a:lnTo>
                    <a:pt x="141" y="361"/>
                  </a:lnTo>
                  <a:lnTo>
                    <a:pt x="121" y="367"/>
                  </a:lnTo>
                  <a:lnTo>
                    <a:pt x="99" y="370"/>
                  </a:lnTo>
                  <a:lnTo>
                    <a:pt x="76" y="367"/>
                  </a:lnTo>
                  <a:lnTo>
                    <a:pt x="54" y="362"/>
                  </a:lnTo>
                  <a:lnTo>
                    <a:pt x="34" y="350"/>
                  </a:lnTo>
                  <a:lnTo>
                    <a:pt x="19" y="334"/>
                  </a:lnTo>
                  <a:lnTo>
                    <a:pt x="8" y="315"/>
                  </a:lnTo>
                  <a:lnTo>
                    <a:pt x="3" y="296"/>
                  </a:lnTo>
                  <a:lnTo>
                    <a:pt x="0" y="272"/>
                  </a:lnTo>
                  <a:lnTo>
                    <a:pt x="5" y="240"/>
                  </a:lnTo>
                  <a:lnTo>
                    <a:pt x="13" y="218"/>
                  </a:lnTo>
                  <a:lnTo>
                    <a:pt x="30" y="190"/>
                  </a:lnTo>
                  <a:lnTo>
                    <a:pt x="49" y="166"/>
                  </a:lnTo>
                  <a:lnTo>
                    <a:pt x="62" y="140"/>
                  </a:lnTo>
                  <a:lnTo>
                    <a:pt x="72" y="119"/>
                  </a:lnTo>
                  <a:lnTo>
                    <a:pt x="81" y="90"/>
                  </a:lnTo>
                  <a:lnTo>
                    <a:pt x="86" y="58"/>
                  </a:lnTo>
                  <a:lnTo>
                    <a:pt x="95" y="0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952240" y="1213200"/>
              <a:ext cx="792000" cy="14724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310440" y="2444040"/>
              <a:ext cx="75600" cy="156240"/>
            </a:xfrm>
            <a:custGeom>
              <a:avLst/>
              <a:gdLst/>
              <a:ahLst/>
              <a:rect l="l" t="t" r="r" b="b"/>
              <a:pathLst>
                <a:path w="196" h="372">
                  <a:moveTo>
                    <a:pt x="95" y="0"/>
                  </a:moveTo>
                  <a:lnTo>
                    <a:pt x="105" y="60"/>
                  </a:lnTo>
                  <a:lnTo>
                    <a:pt x="111" y="88"/>
                  </a:lnTo>
                  <a:lnTo>
                    <a:pt x="121" y="122"/>
                  </a:lnTo>
                  <a:lnTo>
                    <a:pt x="132" y="143"/>
                  </a:lnTo>
                  <a:lnTo>
                    <a:pt x="147" y="168"/>
                  </a:lnTo>
                  <a:lnTo>
                    <a:pt x="167" y="195"/>
                  </a:lnTo>
                  <a:lnTo>
                    <a:pt x="184" y="221"/>
                  </a:lnTo>
                  <a:lnTo>
                    <a:pt x="192" y="247"/>
                  </a:lnTo>
                  <a:lnTo>
                    <a:pt x="196" y="279"/>
                  </a:lnTo>
                  <a:lnTo>
                    <a:pt x="189" y="308"/>
                  </a:lnTo>
                  <a:lnTo>
                    <a:pt x="178" y="328"/>
                  </a:lnTo>
                  <a:lnTo>
                    <a:pt x="162" y="345"/>
                  </a:lnTo>
                  <a:lnTo>
                    <a:pt x="141" y="361"/>
                  </a:lnTo>
                  <a:lnTo>
                    <a:pt x="121" y="369"/>
                  </a:lnTo>
                  <a:lnTo>
                    <a:pt x="99" y="372"/>
                  </a:lnTo>
                  <a:lnTo>
                    <a:pt x="76" y="369"/>
                  </a:lnTo>
                  <a:lnTo>
                    <a:pt x="54" y="363"/>
                  </a:lnTo>
                  <a:lnTo>
                    <a:pt x="34" y="351"/>
                  </a:lnTo>
                  <a:lnTo>
                    <a:pt x="19" y="336"/>
                  </a:lnTo>
                  <a:lnTo>
                    <a:pt x="8" y="317"/>
                  </a:lnTo>
                  <a:lnTo>
                    <a:pt x="3" y="298"/>
                  </a:lnTo>
                  <a:lnTo>
                    <a:pt x="0" y="272"/>
                  </a:lnTo>
                  <a:lnTo>
                    <a:pt x="5" y="242"/>
                  </a:lnTo>
                  <a:lnTo>
                    <a:pt x="13" y="219"/>
                  </a:lnTo>
                  <a:lnTo>
                    <a:pt x="30" y="191"/>
                  </a:lnTo>
                  <a:lnTo>
                    <a:pt x="49" y="168"/>
                  </a:lnTo>
                  <a:lnTo>
                    <a:pt x="62" y="141"/>
                  </a:lnTo>
                  <a:lnTo>
                    <a:pt x="72" y="120"/>
                  </a:lnTo>
                  <a:lnTo>
                    <a:pt x="81" y="90"/>
                  </a:lnTo>
                  <a:lnTo>
                    <a:pt x="86" y="60"/>
                  </a:lnTo>
                  <a:lnTo>
                    <a:pt x="95" y="0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101280" y="1456200"/>
              <a:ext cx="493560" cy="94320"/>
            </a:xfrm>
            <a:prstGeom prst="ellipse">
              <a:avLst/>
            </a:pr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315120" y="2180880"/>
              <a:ext cx="65520" cy="72720"/>
            </a:xfrm>
            <a:prstGeom prst="ellipse">
              <a:avLst/>
            </a:prstGeom>
            <a:solidFill>
              <a:srgbClr val="009999"/>
            </a:solidFill>
            <a:ln w="1764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66" name=""/>
          <p:cNvGraphicFramePr/>
          <p:nvPr/>
        </p:nvGraphicFramePr>
        <p:xfrm>
          <a:off x="1338120" y="1195560"/>
          <a:ext cx="2820960" cy="2523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38120" y="1195560"/>
                    <a:ext cx="2820960" cy="25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" name=""/>
          <p:cNvSpPr/>
          <p:nvPr/>
        </p:nvSpPr>
        <p:spPr>
          <a:xfrm>
            <a:off x="6940440" y="1431000"/>
            <a:ext cx="10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Příj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8053920" y="4794840"/>
            <a:ext cx="95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Výde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697360" y="4435920"/>
            <a:ext cx="137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Zásob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-3960" y="3894120"/>
            <a:ext cx="5664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Bilance mezi příjmem a výdejem lát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určuje, zda se rozvíjí retence nebo deple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8" name=""/>
          <p:cNvGrpSpPr/>
          <p:nvPr/>
        </p:nvGrpSpPr>
        <p:grpSpPr>
          <a:xfrm>
            <a:off x="-357120" y="-38160"/>
            <a:ext cx="9866160" cy="7213680"/>
            <a:chOff x="-357120" y="-38160"/>
            <a:chExt cx="9866160" cy="7213680"/>
          </a:xfrm>
        </p:grpSpPr>
        <p:sp>
          <p:nvSpPr>
            <p:cNvPr id="1689" name=""/>
            <p:cNvSpPr/>
            <p:nvPr/>
          </p:nvSpPr>
          <p:spPr>
            <a:xfrm flipH="1" rot="13944000">
              <a:off x="8719560" y="-138240"/>
              <a:ext cx="336600" cy="1197360"/>
            </a:xfrm>
            <a:prstGeom prst="can">
              <a:avLst>
                <a:gd name="adj" fmla="val 25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0" name=""/>
            <p:cNvSpPr/>
            <p:nvPr/>
          </p:nvSpPr>
          <p:spPr>
            <a:xfrm flipH="1">
              <a:off x="-229320" y="3363840"/>
              <a:ext cx="4065480" cy="862200"/>
            </a:xfrm>
            <a:custGeom>
              <a:avLst/>
              <a:gdLst/>
              <a:ahLst/>
              <a:rect l="l" t="t" r="r" b="b"/>
              <a:pathLst>
                <a:path w="2486" h="877">
                  <a:moveTo>
                    <a:pt x="216" y="507"/>
                  </a:moveTo>
                  <a:cubicBezTo>
                    <a:pt x="623" y="421"/>
                    <a:pt x="2094" y="41"/>
                    <a:pt x="2470" y="0"/>
                  </a:cubicBezTo>
                  <a:cubicBezTo>
                    <a:pt x="2486" y="207"/>
                    <a:pt x="2449" y="123"/>
                    <a:pt x="2475" y="261"/>
                  </a:cubicBezTo>
                  <a:cubicBezTo>
                    <a:pt x="2241" y="287"/>
                    <a:pt x="1526" y="407"/>
                    <a:pt x="1254" y="457"/>
                  </a:cubicBezTo>
                  <a:cubicBezTo>
                    <a:pt x="982" y="507"/>
                    <a:pt x="936" y="500"/>
                    <a:pt x="845" y="563"/>
                  </a:cubicBezTo>
                  <a:cubicBezTo>
                    <a:pt x="749" y="584"/>
                    <a:pt x="775" y="796"/>
                    <a:pt x="707" y="834"/>
                  </a:cubicBezTo>
                  <a:cubicBezTo>
                    <a:pt x="644" y="877"/>
                    <a:pt x="531" y="845"/>
                    <a:pt x="468" y="818"/>
                  </a:cubicBezTo>
                  <a:cubicBezTo>
                    <a:pt x="369" y="761"/>
                    <a:pt x="375" y="719"/>
                    <a:pt x="330" y="675"/>
                  </a:cubicBezTo>
                  <a:cubicBezTo>
                    <a:pt x="285" y="631"/>
                    <a:pt x="249" y="577"/>
                    <a:pt x="200" y="555"/>
                  </a:cubicBezTo>
                  <a:cubicBezTo>
                    <a:pt x="151" y="533"/>
                    <a:pt x="63" y="550"/>
                    <a:pt x="35" y="544"/>
                  </a:cubicBezTo>
                  <a:cubicBezTo>
                    <a:pt x="7" y="538"/>
                    <a:pt x="0" y="524"/>
                    <a:pt x="30" y="518"/>
                  </a:cubicBezTo>
                  <a:cubicBezTo>
                    <a:pt x="60" y="512"/>
                    <a:pt x="177" y="509"/>
                    <a:pt x="216" y="507"/>
                  </a:cubicBez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1" name=""/>
            <p:cNvSpPr/>
            <p:nvPr/>
          </p:nvSpPr>
          <p:spPr>
            <a:xfrm flipH="1">
              <a:off x="3972960" y="3879720"/>
              <a:ext cx="268200" cy="74880"/>
            </a:xfrm>
            <a:custGeom>
              <a:avLst/>
              <a:gdLst/>
              <a:ahLst/>
              <a:rect l="l" t="t" r="r" b="b"/>
              <a:pathLst>
                <a:path w="216" h="38">
                  <a:moveTo>
                    <a:pt x="195" y="3"/>
                  </a:moveTo>
                  <a:cubicBezTo>
                    <a:pt x="216" y="9"/>
                    <a:pt x="169" y="31"/>
                    <a:pt x="148" y="35"/>
                  </a:cubicBezTo>
                  <a:cubicBezTo>
                    <a:pt x="123" y="38"/>
                    <a:pt x="89" y="35"/>
                    <a:pt x="68" y="29"/>
                  </a:cubicBezTo>
                  <a:cubicBezTo>
                    <a:pt x="47" y="23"/>
                    <a:pt x="0" y="4"/>
                    <a:pt x="21" y="0"/>
                  </a:cubicBezTo>
                  <a:lnTo>
                    <a:pt x="195" y="3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2" name=""/>
            <p:cNvSpPr/>
            <p:nvPr/>
          </p:nvSpPr>
          <p:spPr>
            <a:xfrm flipH="1">
              <a:off x="4431600" y="3879720"/>
              <a:ext cx="196920" cy="74880"/>
            </a:xfrm>
            <a:custGeom>
              <a:avLst/>
              <a:gdLst/>
              <a:ahLst/>
              <a:rect l="l" t="t" r="r" b="b"/>
              <a:pathLst>
                <a:path w="216" h="38">
                  <a:moveTo>
                    <a:pt x="195" y="3"/>
                  </a:moveTo>
                  <a:cubicBezTo>
                    <a:pt x="216" y="9"/>
                    <a:pt x="169" y="31"/>
                    <a:pt x="148" y="35"/>
                  </a:cubicBezTo>
                  <a:cubicBezTo>
                    <a:pt x="123" y="38"/>
                    <a:pt x="89" y="35"/>
                    <a:pt x="68" y="29"/>
                  </a:cubicBezTo>
                  <a:cubicBezTo>
                    <a:pt x="47" y="23"/>
                    <a:pt x="0" y="4"/>
                    <a:pt x="21" y="0"/>
                  </a:cubicBezTo>
                  <a:lnTo>
                    <a:pt x="195" y="3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3" name=""/>
            <p:cNvSpPr/>
            <p:nvPr/>
          </p:nvSpPr>
          <p:spPr>
            <a:xfrm flipH="1">
              <a:off x="4807080" y="3879720"/>
              <a:ext cx="210960" cy="74880"/>
            </a:xfrm>
            <a:custGeom>
              <a:avLst/>
              <a:gdLst/>
              <a:ahLst/>
              <a:rect l="l" t="t" r="r" b="b"/>
              <a:pathLst>
                <a:path w="216" h="38">
                  <a:moveTo>
                    <a:pt x="195" y="3"/>
                  </a:moveTo>
                  <a:cubicBezTo>
                    <a:pt x="216" y="9"/>
                    <a:pt x="169" y="31"/>
                    <a:pt x="148" y="35"/>
                  </a:cubicBezTo>
                  <a:cubicBezTo>
                    <a:pt x="123" y="38"/>
                    <a:pt x="89" y="35"/>
                    <a:pt x="68" y="29"/>
                  </a:cubicBezTo>
                  <a:cubicBezTo>
                    <a:pt x="47" y="23"/>
                    <a:pt x="0" y="4"/>
                    <a:pt x="21" y="0"/>
                  </a:cubicBezTo>
                  <a:lnTo>
                    <a:pt x="195" y="3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4" name=""/>
            <p:cNvSpPr/>
            <p:nvPr/>
          </p:nvSpPr>
          <p:spPr>
            <a:xfrm flipH="1">
              <a:off x="5226840" y="3879720"/>
              <a:ext cx="179640" cy="74880"/>
            </a:xfrm>
            <a:custGeom>
              <a:avLst/>
              <a:gdLst/>
              <a:ahLst/>
              <a:rect l="l" t="t" r="r" b="b"/>
              <a:pathLst>
                <a:path w="216" h="38">
                  <a:moveTo>
                    <a:pt x="195" y="3"/>
                  </a:moveTo>
                  <a:cubicBezTo>
                    <a:pt x="216" y="9"/>
                    <a:pt x="169" y="31"/>
                    <a:pt x="148" y="35"/>
                  </a:cubicBezTo>
                  <a:cubicBezTo>
                    <a:pt x="123" y="38"/>
                    <a:pt x="89" y="35"/>
                    <a:pt x="68" y="29"/>
                  </a:cubicBezTo>
                  <a:cubicBezTo>
                    <a:pt x="47" y="23"/>
                    <a:pt x="0" y="4"/>
                    <a:pt x="21" y="0"/>
                  </a:cubicBezTo>
                  <a:lnTo>
                    <a:pt x="195" y="3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5" name=""/>
            <p:cNvSpPr/>
            <p:nvPr/>
          </p:nvSpPr>
          <p:spPr>
            <a:xfrm flipH="1">
              <a:off x="5567400" y="3879720"/>
              <a:ext cx="226800" cy="74880"/>
            </a:xfrm>
            <a:custGeom>
              <a:avLst/>
              <a:gdLst/>
              <a:ahLst/>
              <a:rect l="l" t="t" r="r" b="b"/>
              <a:pathLst>
                <a:path w="216" h="38">
                  <a:moveTo>
                    <a:pt x="195" y="3"/>
                  </a:moveTo>
                  <a:cubicBezTo>
                    <a:pt x="216" y="9"/>
                    <a:pt x="169" y="31"/>
                    <a:pt x="148" y="35"/>
                  </a:cubicBezTo>
                  <a:cubicBezTo>
                    <a:pt x="123" y="38"/>
                    <a:pt x="89" y="35"/>
                    <a:pt x="68" y="29"/>
                  </a:cubicBezTo>
                  <a:cubicBezTo>
                    <a:pt x="47" y="23"/>
                    <a:pt x="0" y="4"/>
                    <a:pt x="21" y="0"/>
                  </a:cubicBezTo>
                  <a:lnTo>
                    <a:pt x="195" y="3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6" name=""/>
            <p:cNvSpPr/>
            <p:nvPr/>
          </p:nvSpPr>
          <p:spPr>
            <a:xfrm flipH="1">
              <a:off x="5979240" y="3879720"/>
              <a:ext cx="203400" cy="74880"/>
            </a:xfrm>
            <a:custGeom>
              <a:avLst/>
              <a:gdLst/>
              <a:ahLst/>
              <a:rect l="l" t="t" r="r" b="b"/>
              <a:pathLst>
                <a:path w="216" h="38">
                  <a:moveTo>
                    <a:pt x="195" y="3"/>
                  </a:moveTo>
                  <a:cubicBezTo>
                    <a:pt x="216" y="9"/>
                    <a:pt x="169" y="31"/>
                    <a:pt x="148" y="35"/>
                  </a:cubicBezTo>
                  <a:cubicBezTo>
                    <a:pt x="123" y="38"/>
                    <a:pt x="89" y="35"/>
                    <a:pt x="68" y="29"/>
                  </a:cubicBezTo>
                  <a:cubicBezTo>
                    <a:pt x="47" y="23"/>
                    <a:pt x="0" y="4"/>
                    <a:pt x="21" y="0"/>
                  </a:cubicBezTo>
                  <a:lnTo>
                    <a:pt x="195" y="3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7" name=""/>
            <p:cNvSpPr/>
            <p:nvPr/>
          </p:nvSpPr>
          <p:spPr>
            <a:xfrm flipH="1">
              <a:off x="6384960" y="3879720"/>
              <a:ext cx="185760" cy="74880"/>
            </a:xfrm>
            <a:custGeom>
              <a:avLst/>
              <a:gdLst/>
              <a:ahLst/>
              <a:rect l="l" t="t" r="r" b="b"/>
              <a:pathLst>
                <a:path w="216" h="38">
                  <a:moveTo>
                    <a:pt x="195" y="3"/>
                  </a:moveTo>
                  <a:cubicBezTo>
                    <a:pt x="216" y="9"/>
                    <a:pt x="169" y="31"/>
                    <a:pt x="148" y="35"/>
                  </a:cubicBezTo>
                  <a:cubicBezTo>
                    <a:pt x="123" y="38"/>
                    <a:pt x="89" y="35"/>
                    <a:pt x="68" y="29"/>
                  </a:cubicBezTo>
                  <a:cubicBezTo>
                    <a:pt x="47" y="23"/>
                    <a:pt x="0" y="4"/>
                    <a:pt x="21" y="0"/>
                  </a:cubicBezTo>
                  <a:lnTo>
                    <a:pt x="195" y="3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8" name=""/>
            <p:cNvSpPr/>
            <p:nvPr/>
          </p:nvSpPr>
          <p:spPr>
            <a:xfrm flipH="1">
              <a:off x="6667560" y="3879720"/>
              <a:ext cx="201600" cy="74880"/>
            </a:xfrm>
            <a:custGeom>
              <a:avLst/>
              <a:gdLst/>
              <a:ahLst/>
              <a:rect l="l" t="t" r="r" b="b"/>
              <a:pathLst>
                <a:path w="216" h="38">
                  <a:moveTo>
                    <a:pt x="195" y="3"/>
                  </a:moveTo>
                  <a:cubicBezTo>
                    <a:pt x="216" y="9"/>
                    <a:pt x="169" y="31"/>
                    <a:pt x="148" y="35"/>
                  </a:cubicBezTo>
                  <a:cubicBezTo>
                    <a:pt x="123" y="38"/>
                    <a:pt x="89" y="35"/>
                    <a:pt x="68" y="29"/>
                  </a:cubicBezTo>
                  <a:cubicBezTo>
                    <a:pt x="47" y="23"/>
                    <a:pt x="0" y="4"/>
                    <a:pt x="21" y="0"/>
                  </a:cubicBezTo>
                  <a:lnTo>
                    <a:pt x="195" y="3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9" name=""/>
            <p:cNvSpPr/>
            <p:nvPr/>
          </p:nvSpPr>
          <p:spPr>
            <a:xfrm flipH="1">
              <a:off x="6977160" y="2797200"/>
              <a:ext cx="2379600" cy="1130400"/>
            </a:xfrm>
            <a:custGeom>
              <a:avLst/>
              <a:gdLst/>
              <a:ahLst/>
              <a:rect l="l" t="t" r="r" b="b"/>
              <a:pathLst>
                <a:path w="1471" h="712">
                  <a:moveTo>
                    <a:pt x="1337" y="647"/>
                  </a:moveTo>
                  <a:cubicBezTo>
                    <a:pt x="1239" y="603"/>
                    <a:pt x="1013" y="461"/>
                    <a:pt x="871" y="396"/>
                  </a:cubicBezTo>
                  <a:cubicBezTo>
                    <a:pt x="729" y="331"/>
                    <a:pt x="596" y="304"/>
                    <a:pt x="483" y="257"/>
                  </a:cubicBezTo>
                  <a:cubicBezTo>
                    <a:pt x="370" y="210"/>
                    <a:pt x="262" y="150"/>
                    <a:pt x="191" y="114"/>
                  </a:cubicBezTo>
                  <a:cubicBezTo>
                    <a:pt x="120" y="78"/>
                    <a:pt x="90" y="0"/>
                    <a:pt x="58" y="40"/>
                  </a:cubicBezTo>
                  <a:cubicBezTo>
                    <a:pt x="47" y="247"/>
                    <a:pt x="17" y="215"/>
                    <a:pt x="0" y="353"/>
                  </a:cubicBezTo>
                  <a:cubicBezTo>
                    <a:pt x="157" y="379"/>
                    <a:pt x="319" y="428"/>
                    <a:pt x="488" y="475"/>
                  </a:cubicBezTo>
                  <a:cubicBezTo>
                    <a:pt x="657" y="522"/>
                    <a:pt x="871" y="597"/>
                    <a:pt x="1014" y="634"/>
                  </a:cubicBezTo>
                  <a:cubicBezTo>
                    <a:pt x="1157" y="671"/>
                    <a:pt x="1275" y="683"/>
                    <a:pt x="1348" y="695"/>
                  </a:cubicBezTo>
                  <a:cubicBezTo>
                    <a:pt x="1421" y="707"/>
                    <a:pt x="1439" y="712"/>
                    <a:pt x="1455" y="709"/>
                  </a:cubicBezTo>
                  <a:cubicBezTo>
                    <a:pt x="1471" y="706"/>
                    <a:pt x="1464" y="687"/>
                    <a:pt x="1444" y="677"/>
                  </a:cubicBezTo>
                  <a:cubicBezTo>
                    <a:pt x="1424" y="667"/>
                    <a:pt x="1359" y="653"/>
                    <a:pt x="1337" y="647"/>
                  </a:cubicBez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0" name=""/>
            <p:cNvSpPr/>
            <p:nvPr/>
          </p:nvSpPr>
          <p:spPr>
            <a:xfrm flipH="1" flipV="1">
              <a:off x="-167400" y="5133240"/>
              <a:ext cx="3987720" cy="731880"/>
            </a:xfrm>
            <a:custGeom>
              <a:avLst/>
              <a:gdLst/>
              <a:ahLst/>
              <a:rect l="l" t="t" r="r" b="b"/>
              <a:pathLst>
                <a:path w="2486" h="877">
                  <a:moveTo>
                    <a:pt x="216" y="507"/>
                  </a:moveTo>
                  <a:cubicBezTo>
                    <a:pt x="623" y="421"/>
                    <a:pt x="2094" y="41"/>
                    <a:pt x="2470" y="0"/>
                  </a:cubicBezTo>
                  <a:cubicBezTo>
                    <a:pt x="2486" y="207"/>
                    <a:pt x="2449" y="123"/>
                    <a:pt x="2475" y="261"/>
                  </a:cubicBezTo>
                  <a:cubicBezTo>
                    <a:pt x="2241" y="287"/>
                    <a:pt x="1526" y="407"/>
                    <a:pt x="1254" y="457"/>
                  </a:cubicBezTo>
                  <a:cubicBezTo>
                    <a:pt x="982" y="507"/>
                    <a:pt x="936" y="500"/>
                    <a:pt x="845" y="563"/>
                  </a:cubicBezTo>
                  <a:cubicBezTo>
                    <a:pt x="749" y="584"/>
                    <a:pt x="775" y="796"/>
                    <a:pt x="707" y="834"/>
                  </a:cubicBezTo>
                  <a:cubicBezTo>
                    <a:pt x="644" y="877"/>
                    <a:pt x="531" y="845"/>
                    <a:pt x="468" y="818"/>
                  </a:cubicBezTo>
                  <a:cubicBezTo>
                    <a:pt x="369" y="761"/>
                    <a:pt x="375" y="719"/>
                    <a:pt x="330" y="675"/>
                  </a:cubicBezTo>
                  <a:cubicBezTo>
                    <a:pt x="285" y="631"/>
                    <a:pt x="249" y="577"/>
                    <a:pt x="200" y="555"/>
                  </a:cubicBezTo>
                  <a:cubicBezTo>
                    <a:pt x="151" y="533"/>
                    <a:pt x="63" y="550"/>
                    <a:pt x="35" y="544"/>
                  </a:cubicBezTo>
                  <a:cubicBezTo>
                    <a:pt x="7" y="538"/>
                    <a:pt x="0" y="524"/>
                    <a:pt x="30" y="518"/>
                  </a:cubicBezTo>
                  <a:cubicBezTo>
                    <a:pt x="60" y="512"/>
                    <a:pt x="177" y="509"/>
                    <a:pt x="216" y="507"/>
                  </a:cubicBez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1" name=""/>
            <p:cNvSpPr/>
            <p:nvPr/>
          </p:nvSpPr>
          <p:spPr>
            <a:xfrm flipH="1" flipV="1">
              <a:off x="4089240" y="5326920"/>
              <a:ext cx="162000" cy="74520"/>
            </a:xfrm>
            <a:custGeom>
              <a:avLst/>
              <a:gdLst/>
              <a:ahLst/>
              <a:rect l="l" t="t" r="r" b="b"/>
              <a:pathLst>
                <a:path w="216" h="38">
                  <a:moveTo>
                    <a:pt x="195" y="3"/>
                  </a:moveTo>
                  <a:cubicBezTo>
                    <a:pt x="216" y="9"/>
                    <a:pt x="169" y="31"/>
                    <a:pt x="148" y="35"/>
                  </a:cubicBezTo>
                  <a:cubicBezTo>
                    <a:pt x="123" y="38"/>
                    <a:pt x="89" y="35"/>
                    <a:pt x="68" y="29"/>
                  </a:cubicBezTo>
                  <a:cubicBezTo>
                    <a:pt x="47" y="23"/>
                    <a:pt x="0" y="4"/>
                    <a:pt x="21" y="0"/>
                  </a:cubicBezTo>
                  <a:lnTo>
                    <a:pt x="195" y="3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2" name=""/>
            <p:cNvSpPr/>
            <p:nvPr/>
          </p:nvSpPr>
          <p:spPr>
            <a:xfrm flipH="1" flipV="1">
              <a:off x="4427640" y="5326920"/>
              <a:ext cx="210960" cy="74520"/>
            </a:xfrm>
            <a:custGeom>
              <a:avLst/>
              <a:gdLst/>
              <a:ahLst/>
              <a:rect l="l" t="t" r="r" b="b"/>
              <a:pathLst>
                <a:path w="216" h="38">
                  <a:moveTo>
                    <a:pt x="195" y="3"/>
                  </a:moveTo>
                  <a:cubicBezTo>
                    <a:pt x="216" y="9"/>
                    <a:pt x="169" y="31"/>
                    <a:pt x="148" y="35"/>
                  </a:cubicBezTo>
                  <a:cubicBezTo>
                    <a:pt x="123" y="38"/>
                    <a:pt x="89" y="35"/>
                    <a:pt x="68" y="29"/>
                  </a:cubicBezTo>
                  <a:cubicBezTo>
                    <a:pt x="47" y="23"/>
                    <a:pt x="0" y="4"/>
                    <a:pt x="21" y="0"/>
                  </a:cubicBezTo>
                  <a:lnTo>
                    <a:pt x="195" y="3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3" name=""/>
            <p:cNvSpPr/>
            <p:nvPr/>
          </p:nvSpPr>
          <p:spPr>
            <a:xfrm flipH="1" flipV="1">
              <a:off x="4807800" y="5326920"/>
              <a:ext cx="219240" cy="74520"/>
            </a:xfrm>
            <a:custGeom>
              <a:avLst/>
              <a:gdLst/>
              <a:ahLst/>
              <a:rect l="l" t="t" r="r" b="b"/>
              <a:pathLst>
                <a:path w="216" h="38">
                  <a:moveTo>
                    <a:pt x="195" y="3"/>
                  </a:moveTo>
                  <a:cubicBezTo>
                    <a:pt x="216" y="9"/>
                    <a:pt x="169" y="31"/>
                    <a:pt x="148" y="35"/>
                  </a:cubicBezTo>
                  <a:cubicBezTo>
                    <a:pt x="123" y="38"/>
                    <a:pt x="89" y="35"/>
                    <a:pt x="68" y="29"/>
                  </a:cubicBezTo>
                  <a:cubicBezTo>
                    <a:pt x="47" y="23"/>
                    <a:pt x="0" y="4"/>
                    <a:pt x="21" y="0"/>
                  </a:cubicBezTo>
                  <a:lnTo>
                    <a:pt x="195" y="3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4" name=""/>
            <p:cNvSpPr/>
            <p:nvPr/>
          </p:nvSpPr>
          <p:spPr>
            <a:xfrm flipH="1" flipV="1">
              <a:off x="5179320" y="5326920"/>
              <a:ext cx="236520" cy="74520"/>
            </a:xfrm>
            <a:custGeom>
              <a:avLst/>
              <a:gdLst/>
              <a:ahLst/>
              <a:rect l="l" t="t" r="r" b="b"/>
              <a:pathLst>
                <a:path w="216" h="38">
                  <a:moveTo>
                    <a:pt x="195" y="3"/>
                  </a:moveTo>
                  <a:cubicBezTo>
                    <a:pt x="216" y="9"/>
                    <a:pt x="169" y="31"/>
                    <a:pt x="148" y="35"/>
                  </a:cubicBezTo>
                  <a:cubicBezTo>
                    <a:pt x="123" y="38"/>
                    <a:pt x="89" y="35"/>
                    <a:pt x="68" y="29"/>
                  </a:cubicBezTo>
                  <a:cubicBezTo>
                    <a:pt x="47" y="23"/>
                    <a:pt x="0" y="4"/>
                    <a:pt x="21" y="0"/>
                  </a:cubicBezTo>
                  <a:lnTo>
                    <a:pt x="195" y="3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5" name=""/>
            <p:cNvSpPr/>
            <p:nvPr/>
          </p:nvSpPr>
          <p:spPr>
            <a:xfrm flipH="1" flipV="1">
              <a:off x="5550840" y="5326920"/>
              <a:ext cx="252360" cy="74520"/>
            </a:xfrm>
            <a:custGeom>
              <a:avLst/>
              <a:gdLst/>
              <a:ahLst/>
              <a:rect l="l" t="t" r="r" b="b"/>
              <a:pathLst>
                <a:path w="216" h="38">
                  <a:moveTo>
                    <a:pt x="195" y="3"/>
                  </a:moveTo>
                  <a:cubicBezTo>
                    <a:pt x="216" y="9"/>
                    <a:pt x="169" y="31"/>
                    <a:pt x="148" y="35"/>
                  </a:cubicBezTo>
                  <a:cubicBezTo>
                    <a:pt x="123" y="38"/>
                    <a:pt x="89" y="35"/>
                    <a:pt x="68" y="29"/>
                  </a:cubicBezTo>
                  <a:cubicBezTo>
                    <a:pt x="47" y="23"/>
                    <a:pt x="0" y="4"/>
                    <a:pt x="21" y="0"/>
                  </a:cubicBezTo>
                  <a:lnTo>
                    <a:pt x="195" y="3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6" name=""/>
            <p:cNvSpPr/>
            <p:nvPr/>
          </p:nvSpPr>
          <p:spPr>
            <a:xfrm flipH="1" flipV="1">
              <a:off x="5934240" y="5326920"/>
              <a:ext cx="258480" cy="74520"/>
            </a:xfrm>
            <a:custGeom>
              <a:avLst/>
              <a:gdLst/>
              <a:ahLst/>
              <a:rect l="l" t="t" r="r" b="b"/>
              <a:pathLst>
                <a:path w="216" h="38">
                  <a:moveTo>
                    <a:pt x="195" y="3"/>
                  </a:moveTo>
                  <a:cubicBezTo>
                    <a:pt x="216" y="9"/>
                    <a:pt x="169" y="31"/>
                    <a:pt x="148" y="35"/>
                  </a:cubicBezTo>
                  <a:cubicBezTo>
                    <a:pt x="123" y="38"/>
                    <a:pt x="89" y="35"/>
                    <a:pt x="68" y="29"/>
                  </a:cubicBezTo>
                  <a:cubicBezTo>
                    <a:pt x="47" y="23"/>
                    <a:pt x="0" y="4"/>
                    <a:pt x="21" y="0"/>
                  </a:cubicBezTo>
                  <a:lnTo>
                    <a:pt x="195" y="3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7" name=""/>
            <p:cNvSpPr/>
            <p:nvPr/>
          </p:nvSpPr>
          <p:spPr>
            <a:xfrm flipH="1" flipV="1">
              <a:off x="6345360" y="5326920"/>
              <a:ext cx="234720" cy="74520"/>
            </a:xfrm>
            <a:custGeom>
              <a:avLst/>
              <a:gdLst/>
              <a:ahLst/>
              <a:rect l="l" t="t" r="r" b="b"/>
              <a:pathLst>
                <a:path w="216" h="38">
                  <a:moveTo>
                    <a:pt x="195" y="3"/>
                  </a:moveTo>
                  <a:cubicBezTo>
                    <a:pt x="216" y="9"/>
                    <a:pt x="169" y="31"/>
                    <a:pt x="148" y="35"/>
                  </a:cubicBezTo>
                  <a:cubicBezTo>
                    <a:pt x="123" y="38"/>
                    <a:pt x="89" y="35"/>
                    <a:pt x="68" y="29"/>
                  </a:cubicBezTo>
                  <a:cubicBezTo>
                    <a:pt x="47" y="23"/>
                    <a:pt x="0" y="4"/>
                    <a:pt x="21" y="0"/>
                  </a:cubicBezTo>
                  <a:lnTo>
                    <a:pt x="195" y="3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8" name=""/>
            <p:cNvSpPr/>
            <p:nvPr/>
          </p:nvSpPr>
          <p:spPr>
            <a:xfrm flipH="1" flipV="1">
              <a:off x="6620040" y="5326920"/>
              <a:ext cx="234720" cy="74520"/>
            </a:xfrm>
            <a:custGeom>
              <a:avLst/>
              <a:gdLst/>
              <a:ahLst/>
              <a:rect l="l" t="t" r="r" b="b"/>
              <a:pathLst>
                <a:path w="216" h="38">
                  <a:moveTo>
                    <a:pt x="195" y="3"/>
                  </a:moveTo>
                  <a:cubicBezTo>
                    <a:pt x="216" y="9"/>
                    <a:pt x="169" y="31"/>
                    <a:pt x="148" y="35"/>
                  </a:cubicBezTo>
                  <a:cubicBezTo>
                    <a:pt x="123" y="38"/>
                    <a:pt x="89" y="35"/>
                    <a:pt x="68" y="29"/>
                  </a:cubicBezTo>
                  <a:cubicBezTo>
                    <a:pt x="47" y="23"/>
                    <a:pt x="0" y="4"/>
                    <a:pt x="21" y="0"/>
                  </a:cubicBezTo>
                  <a:lnTo>
                    <a:pt x="195" y="3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9" name=""/>
            <p:cNvSpPr/>
            <p:nvPr/>
          </p:nvSpPr>
          <p:spPr>
            <a:xfrm flipH="1" flipV="1">
              <a:off x="6986520" y="5368320"/>
              <a:ext cx="2379600" cy="1130040"/>
            </a:xfrm>
            <a:custGeom>
              <a:avLst/>
              <a:gdLst/>
              <a:ahLst/>
              <a:rect l="l" t="t" r="r" b="b"/>
              <a:pathLst>
                <a:path w="1471" h="712">
                  <a:moveTo>
                    <a:pt x="1337" y="647"/>
                  </a:moveTo>
                  <a:cubicBezTo>
                    <a:pt x="1239" y="603"/>
                    <a:pt x="1013" y="461"/>
                    <a:pt x="871" y="396"/>
                  </a:cubicBezTo>
                  <a:cubicBezTo>
                    <a:pt x="729" y="331"/>
                    <a:pt x="596" y="304"/>
                    <a:pt x="483" y="257"/>
                  </a:cubicBezTo>
                  <a:cubicBezTo>
                    <a:pt x="370" y="210"/>
                    <a:pt x="262" y="150"/>
                    <a:pt x="191" y="114"/>
                  </a:cubicBezTo>
                  <a:cubicBezTo>
                    <a:pt x="120" y="78"/>
                    <a:pt x="90" y="0"/>
                    <a:pt x="58" y="40"/>
                  </a:cubicBezTo>
                  <a:cubicBezTo>
                    <a:pt x="47" y="247"/>
                    <a:pt x="17" y="215"/>
                    <a:pt x="0" y="353"/>
                  </a:cubicBezTo>
                  <a:cubicBezTo>
                    <a:pt x="157" y="379"/>
                    <a:pt x="319" y="428"/>
                    <a:pt x="488" y="475"/>
                  </a:cubicBezTo>
                  <a:cubicBezTo>
                    <a:pt x="657" y="522"/>
                    <a:pt x="871" y="597"/>
                    <a:pt x="1014" y="634"/>
                  </a:cubicBezTo>
                  <a:cubicBezTo>
                    <a:pt x="1157" y="671"/>
                    <a:pt x="1275" y="683"/>
                    <a:pt x="1348" y="695"/>
                  </a:cubicBezTo>
                  <a:cubicBezTo>
                    <a:pt x="1421" y="707"/>
                    <a:pt x="1439" y="712"/>
                    <a:pt x="1455" y="709"/>
                  </a:cubicBezTo>
                  <a:cubicBezTo>
                    <a:pt x="1471" y="706"/>
                    <a:pt x="1464" y="687"/>
                    <a:pt x="1444" y="677"/>
                  </a:cubicBezTo>
                  <a:cubicBezTo>
                    <a:pt x="1424" y="667"/>
                    <a:pt x="1359" y="653"/>
                    <a:pt x="1337" y="647"/>
                  </a:cubicBez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0" name=""/>
            <p:cNvSpPr/>
            <p:nvPr/>
          </p:nvSpPr>
          <p:spPr>
            <a:xfrm flipH="1">
              <a:off x="220320" y="4286160"/>
              <a:ext cx="1200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arteriol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1" name=""/>
            <p:cNvSpPr/>
            <p:nvPr/>
          </p:nvSpPr>
          <p:spPr>
            <a:xfrm flipH="1">
              <a:off x="7773480" y="4397400"/>
              <a:ext cx="994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venul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2" name=""/>
            <p:cNvSpPr/>
            <p:nvPr/>
          </p:nvSpPr>
          <p:spPr>
            <a:xfrm flipH="1">
              <a:off x="4551840" y="4387680"/>
              <a:ext cx="1165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kapilár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3" name=""/>
            <p:cNvSpPr/>
            <p:nvPr/>
          </p:nvSpPr>
          <p:spPr>
            <a:xfrm flipV="1">
              <a:off x="3776760" y="2139480"/>
              <a:ext cx="0" cy="1500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4" name=""/>
            <p:cNvSpPr/>
            <p:nvPr/>
          </p:nvSpPr>
          <p:spPr>
            <a:xfrm flipV="1">
              <a:off x="4064040" y="2224080"/>
              <a:ext cx="0" cy="1409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5" name=""/>
            <p:cNvSpPr/>
            <p:nvPr/>
          </p:nvSpPr>
          <p:spPr>
            <a:xfrm flipV="1">
              <a:off x="4351320" y="2350800"/>
              <a:ext cx="0" cy="1282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6" name=""/>
            <p:cNvSpPr/>
            <p:nvPr/>
          </p:nvSpPr>
          <p:spPr>
            <a:xfrm flipV="1">
              <a:off x="4638600" y="2427120"/>
              <a:ext cx="0" cy="1214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7" name=""/>
            <p:cNvSpPr/>
            <p:nvPr/>
          </p:nvSpPr>
          <p:spPr>
            <a:xfrm flipV="1">
              <a:off x="4925880" y="2544840"/>
              <a:ext cx="0" cy="107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8" name=""/>
            <p:cNvSpPr/>
            <p:nvPr/>
          </p:nvSpPr>
          <p:spPr>
            <a:xfrm flipV="1">
              <a:off x="5213520" y="2655360"/>
              <a:ext cx="0" cy="96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9" name=""/>
            <p:cNvSpPr/>
            <p:nvPr/>
          </p:nvSpPr>
          <p:spPr>
            <a:xfrm flipV="1">
              <a:off x="5500800" y="2747520"/>
              <a:ext cx="0" cy="878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0" name=""/>
            <p:cNvSpPr/>
            <p:nvPr/>
          </p:nvSpPr>
          <p:spPr>
            <a:xfrm flipV="1">
              <a:off x="5788080" y="2831760"/>
              <a:ext cx="0" cy="785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1" name=""/>
            <p:cNvSpPr/>
            <p:nvPr/>
          </p:nvSpPr>
          <p:spPr>
            <a:xfrm flipV="1">
              <a:off x="6075360" y="2950920"/>
              <a:ext cx="0" cy="69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2" name=""/>
            <p:cNvSpPr/>
            <p:nvPr/>
          </p:nvSpPr>
          <p:spPr>
            <a:xfrm flipV="1">
              <a:off x="6362640" y="3085920"/>
              <a:ext cx="0" cy="55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3" name=""/>
            <p:cNvSpPr/>
            <p:nvPr/>
          </p:nvSpPr>
          <p:spPr>
            <a:xfrm flipV="1">
              <a:off x="6649920" y="3154320"/>
              <a:ext cx="0" cy="47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4" name=""/>
            <p:cNvSpPr/>
            <p:nvPr/>
          </p:nvSpPr>
          <p:spPr>
            <a:xfrm flipV="1">
              <a:off x="6937200" y="3265200"/>
              <a:ext cx="0" cy="32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5" name=""/>
            <p:cNvSpPr/>
            <p:nvPr/>
          </p:nvSpPr>
          <p:spPr>
            <a:xfrm flipV="1">
              <a:off x="5594400" y="3078000"/>
              <a:ext cx="0" cy="54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6" name=""/>
            <p:cNvSpPr/>
            <p:nvPr/>
          </p:nvSpPr>
          <p:spPr>
            <a:xfrm flipV="1">
              <a:off x="5899320" y="3063960"/>
              <a:ext cx="0" cy="55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7" name=""/>
            <p:cNvSpPr/>
            <p:nvPr/>
          </p:nvSpPr>
          <p:spPr>
            <a:xfrm flipV="1">
              <a:off x="6145200" y="2769840"/>
              <a:ext cx="0" cy="878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8" name=""/>
            <p:cNvSpPr/>
            <p:nvPr/>
          </p:nvSpPr>
          <p:spPr>
            <a:xfrm flipV="1">
              <a:off x="6443640" y="3068640"/>
              <a:ext cx="0" cy="565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9" name=""/>
            <p:cNvSpPr/>
            <p:nvPr/>
          </p:nvSpPr>
          <p:spPr>
            <a:xfrm flipV="1">
              <a:off x="6723000" y="3068640"/>
              <a:ext cx="0" cy="54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0" name=""/>
            <p:cNvSpPr/>
            <p:nvPr/>
          </p:nvSpPr>
          <p:spPr>
            <a:xfrm flipV="1">
              <a:off x="7018200" y="3038400"/>
              <a:ext cx="0" cy="566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1" name=""/>
            <p:cNvSpPr/>
            <p:nvPr/>
          </p:nvSpPr>
          <p:spPr>
            <a:xfrm flipV="1">
              <a:off x="5300640" y="3056040"/>
              <a:ext cx="0" cy="58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2" name=""/>
            <p:cNvSpPr/>
            <p:nvPr/>
          </p:nvSpPr>
          <p:spPr>
            <a:xfrm flipV="1">
              <a:off x="4998960" y="3071880"/>
              <a:ext cx="0" cy="54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3" name=""/>
            <p:cNvSpPr/>
            <p:nvPr/>
          </p:nvSpPr>
          <p:spPr>
            <a:xfrm flipV="1">
              <a:off x="4722840" y="3071880"/>
              <a:ext cx="0" cy="54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4" name=""/>
            <p:cNvSpPr/>
            <p:nvPr/>
          </p:nvSpPr>
          <p:spPr>
            <a:xfrm flipV="1">
              <a:off x="4421160" y="3087720"/>
              <a:ext cx="0" cy="55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5" name=""/>
            <p:cNvSpPr/>
            <p:nvPr/>
          </p:nvSpPr>
          <p:spPr>
            <a:xfrm flipV="1">
              <a:off x="4152960" y="3087360"/>
              <a:ext cx="0" cy="53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6" name=""/>
            <p:cNvSpPr/>
            <p:nvPr/>
          </p:nvSpPr>
          <p:spPr>
            <a:xfrm flipV="1">
              <a:off x="3868560" y="3085920"/>
              <a:ext cx="0" cy="53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7" name=""/>
            <p:cNvSpPr/>
            <p:nvPr/>
          </p:nvSpPr>
          <p:spPr>
            <a:xfrm flipV="1">
              <a:off x="3524400" y="1606680"/>
              <a:ext cx="0" cy="2039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8" name=""/>
            <p:cNvSpPr/>
            <p:nvPr/>
          </p:nvSpPr>
          <p:spPr>
            <a:xfrm flipV="1">
              <a:off x="3271680" y="1073160"/>
              <a:ext cx="0" cy="257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9" name=""/>
            <p:cNvSpPr/>
            <p:nvPr/>
          </p:nvSpPr>
          <p:spPr>
            <a:xfrm flipV="1">
              <a:off x="3019320" y="539640"/>
              <a:ext cx="0" cy="3106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0" name=""/>
            <p:cNvSpPr/>
            <p:nvPr/>
          </p:nvSpPr>
          <p:spPr>
            <a:xfrm flipV="1">
              <a:off x="2766960" y="-360"/>
              <a:ext cx="0" cy="3639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1" name=""/>
            <p:cNvSpPr/>
            <p:nvPr/>
          </p:nvSpPr>
          <p:spPr>
            <a:xfrm flipH="1" flipV="1">
              <a:off x="3774960" y="2131560"/>
              <a:ext cx="3354480" cy="1197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2" name=""/>
            <p:cNvSpPr/>
            <p:nvPr/>
          </p:nvSpPr>
          <p:spPr>
            <a:xfrm flipH="1" flipV="1">
              <a:off x="2816280" y="-360"/>
              <a:ext cx="952560" cy="214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3" name=""/>
            <p:cNvSpPr/>
            <p:nvPr/>
          </p:nvSpPr>
          <p:spPr>
            <a:xfrm flipV="1">
              <a:off x="3751200" y="3033360"/>
              <a:ext cx="5159520" cy="50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4" name=""/>
            <p:cNvSpPr/>
            <p:nvPr/>
          </p:nvSpPr>
          <p:spPr>
            <a:xfrm flipV="1">
              <a:off x="4197240" y="1846080"/>
              <a:ext cx="1800" cy="10443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5" name=""/>
            <p:cNvSpPr/>
            <p:nvPr/>
          </p:nvSpPr>
          <p:spPr>
            <a:xfrm rot="3949800">
              <a:off x="2761200" y="1013040"/>
              <a:ext cx="18554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Zvýšení gradientu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hydrostatického tlak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6" name=""/>
            <p:cNvSpPr/>
            <p:nvPr/>
          </p:nvSpPr>
          <p:spPr>
            <a:xfrm flipH="1">
              <a:off x="4530240" y="622440"/>
              <a:ext cx="16329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Hromadění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filtrát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v interstici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7" name=""/>
            <p:cNvSpPr/>
            <p:nvPr/>
          </p:nvSpPr>
          <p:spPr>
            <a:xfrm>
              <a:off x="1637640" y="3948120"/>
              <a:ext cx="10569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400" spc="-1" strike="noStrike">
                  <a:solidFill>
                    <a:srgbClr val="000000"/>
                  </a:solidFill>
                  <a:latin typeface="Times New Roman"/>
                </a:rPr>
                <a:t>Prekapilární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400" spc="-1" strike="noStrike">
                  <a:solidFill>
                    <a:srgbClr val="000000"/>
                  </a:solidFill>
                  <a:latin typeface="Times New Roman"/>
                </a:rPr>
                <a:t>sfinkt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8" name=""/>
            <p:cNvSpPr/>
            <p:nvPr/>
          </p:nvSpPr>
          <p:spPr>
            <a:xfrm>
              <a:off x="3960720" y="4964040"/>
              <a:ext cx="7488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4113360" y="511668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0" name=""/>
            <p:cNvSpPr/>
            <p:nvPr/>
          </p:nvSpPr>
          <p:spPr>
            <a:xfrm>
              <a:off x="4265640" y="526896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1" name=""/>
            <p:cNvSpPr/>
            <p:nvPr/>
          </p:nvSpPr>
          <p:spPr>
            <a:xfrm>
              <a:off x="4410000" y="558972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2" name=""/>
            <p:cNvSpPr/>
            <p:nvPr/>
          </p:nvSpPr>
          <p:spPr>
            <a:xfrm>
              <a:off x="4189320" y="5006880"/>
              <a:ext cx="74880" cy="74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3" name=""/>
            <p:cNvSpPr/>
            <p:nvPr/>
          </p:nvSpPr>
          <p:spPr>
            <a:xfrm>
              <a:off x="3886200" y="457668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4" name=""/>
            <p:cNvSpPr/>
            <p:nvPr/>
          </p:nvSpPr>
          <p:spPr>
            <a:xfrm>
              <a:off x="3878280" y="410544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5" name=""/>
            <p:cNvSpPr/>
            <p:nvPr/>
          </p:nvSpPr>
          <p:spPr>
            <a:xfrm>
              <a:off x="4089240" y="4340160"/>
              <a:ext cx="7488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6" name=""/>
            <p:cNvSpPr/>
            <p:nvPr/>
          </p:nvSpPr>
          <p:spPr>
            <a:xfrm>
              <a:off x="4494240" y="456876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7" name=""/>
            <p:cNvSpPr/>
            <p:nvPr/>
          </p:nvSpPr>
          <p:spPr>
            <a:xfrm>
              <a:off x="4570560" y="445932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8" name=""/>
            <p:cNvSpPr/>
            <p:nvPr/>
          </p:nvSpPr>
          <p:spPr>
            <a:xfrm>
              <a:off x="4646520" y="4349880"/>
              <a:ext cx="7488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9" name=""/>
            <p:cNvSpPr/>
            <p:nvPr/>
          </p:nvSpPr>
          <p:spPr>
            <a:xfrm>
              <a:off x="4722840" y="4240080"/>
              <a:ext cx="74520" cy="74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0" name=""/>
            <p:cNvSpPr/>
            <p:nvPr/>
          </p:nvSpPr>
          <p:spPr>
            <a:xfrm>
              <a:off x="4908600" y="429912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1" name=""/>
            <p:cNvSpPr/>
            <p:nvPr/>
          </p:nvSpPr>
          <p:spPr>
            <a:xfrm>
              <a:off x="5094360" y="435780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2" name=""/>
            <p:cNvSpPr/>
            <p:nvPr/>
          </p:nvSpPr>
          <p:spPr>
            <a:xfrm>
              <a:off x="5313240" y="4197240"/>
              <a:ext cx="74880" cy="74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3" name=""/>
            <p:cNvSpPr/>
            <p:nvPr/>
          </p:nvSpPr>
          <p:spPr>
            <a:xfrm>
              <a:off x="5532480" y="403704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4" name=""/>
            <p:cNvSpPr/>
            <p:nvPr/>
          </p:nvSpPr>
          <p:spPr>
            <a:xfrm>
              <a:off x="5751360" y="3876840"/>
              <a:ext cx="7488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5" name=""/>
            <p:cNvSpPr/>
            <p:nvPr/>
          </p:nvSpPr>
          <p:spPr>
            <a:xfrm>
              <a:off x="5851440" y="433080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6" name=""/>
            <p:cNvSpPr/>
            <p:nvPr/>
          </p:nvSpPr>
          <p:spPr>
            <a:xfrm>
              <a:off x="5951520" y="478476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7" name=""/>
            <p:cNvSpPr/>
            <p:nvPr/>
          </p:nvSpPr>
          <p:spPr>
            <a:xfrm>
              <a:off x="6078600" y="473544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8" name=""/>
            <p:cNvSpPr/>
            <p:nvPr/>
          </p:nvSpPr>
          <p:spPr>
            <a:xfrm>
              <a:off x="6164280" y="460224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9" name=""/>
            <p:cNvSpPr/>
            <p:nvPr/>
          </p:nvSpPr>
          <p:spPr>
            <a:xfrm>
              <a:off x="6332400" y="4695840"/>
              <a:ext cx="7488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0" name=""/>
            <p:cNvSpPr/>
            <p:nvPr/>
          </p:nvSpPr>
          <p:spPr>
            <a:xfrm>
              <a:off x="6240600" y="424188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1" name=""/>
            <p:cNvSpPr/>
            <p:nvPr/>
          </p:nvSpPr>
          <p:spPr>
            <a:xfrm>
              <a:off x="6586560" y="4538520"/>
              <a:ext cx="74520" cy="74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2" name=""/>
            <p:cNvSpPr/>
            <p:nvPr/>
          </p:nvSpPr>
          <p:spPr>
            <a:xfrm>
              <a:off x="5724360" y="4727520"/>
              <a:ext cx="7488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3" name=""/>
            <p:cNvSpPr/>
            <p:nvPr/>
          </p:nvSpPr>
          <p:spPr>
            <a:xfrm>
              <a:off x="5370480" y="471960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4" name=""/>
            <p:cNvSpPr/>
            <p:nvPr/>
          </p:nvSpPr>
          <p:spPr>
            <a:xfrm>
              <a:off x="5083200" y="484668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5" name=""/>
            <p:cNvSpPr/>
            <p:nvPr/>
          </p:nvSpPr>
          <p:spPr>
            <a:xfrm>
              <a:off x="4662360" y="4846680"/>
              <a:ext cx="7488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6" name=""/>
            <p:cNvSpPr/>
            <p:nvPr/>
          </p:nvSpPr>
          <p:spPr>
            <a:xfrm>
              <a:off x="5818320" y="491976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7" name=""/>
            <p:cNvSpPr/>
            <p:nvPr/>
          </p:nvSpPr>
          <p:spPr>
            <a:xfrm>
              <a:off x="5962680" y="4910040"/>
              <a:ext cx="74520" cy="74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8" name=""/>
            <p:cNvSpPr/>
            <p:nvPr/>
          </p:nvSpPr>
          <p:spPr>
            <a:xfrm>
              <a:off x="5551560" y="5189400"/>
              <a:ext cx="74520" cy="74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9" name=""/>
            <p:cNvSpPr/>
            <p:nvPr/>
          </p:nvSpPr>
          <p:spPr>
            <a:xfrm>
              <a:off x="5878440" y="502128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0" name=""/>
            <p:cNvSpPr/>
            <p:nvPr/>
          </p:nvSpPr>
          <p:spPr>
            <a:xfrm>
              <a:off x="5929200" y="5165640"/>
              <a:ext cx="7488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1" name=""/>
            <p:cNvSpPr/>
            <p:nvPr/>
          </p:nvSpPr>
          <p:spPr>
            <a:xfrm>
              <a:off x="6064200" y="508176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2" name=""/>
            <p:cNvSpPr/>
            <p:nvPr/>
          </p:nvSpPr>
          <p:spPr>
            <a:xfrm>
              <a:off x="6199200" y="499752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3" name=""/>
            <p:cNvSpPr/>
            <p:nvPr/>
          </p:nvSpPr>
          <p:spPr>
            <a:xfrm>
              <a:off x="6334200" y="491328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4" name=""/>
            <p:cNvSpPr/>
            <p:nvPr/>
          </p:nvSpPr>
          <p:spPr>
            <a:xfrm>
              <a:off x="6469200" y="4829040"/>
              <a:ext cx="74520" cy="74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5" name=""/>
            <p:cNvSpPr/>
            <p:nvPr/>
          </p:nvSpPr>
          <p:spPr>
            <a:xfrm>
              <a:off x="6603840" y="4745160"/>
              <a:ext cx="7488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6" name=""/>
            <p:cNvSpPr/>
            <p:nvPr/>
          </p:nvSpPr>
          <p:spPr>
            <a:xfrm>
              <a:off x="6216480" y="5234040"/>
              <a:ext cx="7488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7" name=""/>
            <p:cNvSpPr/>
            <p:nvPr/>
          </p:nvSpPr>
          <p:spPr>
            <a:xfrm>
              <a:off x="6181560" y="4854600"/>
              <a:ext cx="7488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8" name=""/>
            <p:cNvSpPr/>
            <p:nvPr/>
          </p:nvSpPr>
          <p:spPr>
            <a:xfrm>
              <a:off x="6392880" y="439416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9" name=""/>
            <p:cNvSpPr/>
            <p:nvPr/>
          </p:nvSpPr>
          <p:spPr>
            <a:xfrm>
              <a:off x="5877000" y="4627440"/>
              <a:ext cx="74520" cy="74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0" name=""/>
            <p:cNvSpPr/>
            <p:nvPr/>
          </p:nvSpPr>
          <p:spPr>
            <a:xfrm>
              <a:off x="6459480" y="459432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1" name=""/>
            <p:cNvSpPr/>
            <p:nvPr/>
          </p:nvSpPr>
          <p:spPr>
            <a:xfrm>
              <a:off x="5961240" y="444492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2" name=""/>
            <p:cNvSpPr/>
            <p:nvPr/>
          </p:nvSpPr>
          <p:spPr>
            <a:xfrm>
              <a:off x="5734080" y="449748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3" name=""/>
            <p:cNvSpPr/>
            <p:nvPr/>
          </p:nvSpPr>
          <p:spPr>
            <a:xfrm>
              <a:off x="5624640" y="4221000"/>
              <a:ext cx="74520" cy="74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4" name=""/>
            <p:cNvSpPr/>
            <p:nvPr/>
          </p:nvSpPr>
          <p:spPr>
            <a:xfrm>
              <a:off x="6205680" y="4433760"/>
              <a:ext cx="74520" cy="74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5" name=""/>
            <p:cNvSpPr/>
            <p:nvPr/>
          </p:nvSpPr>
          <p:spPr>
            <a:xfrm>
              <a:off x="7429680" y="477360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6" name=""/>
            <p:cNvSpPr/>
            <p:nvPr/>
          </p:nvSpPr>
          <p:spPr>
            <a:xfrm>
              <a:off x="6392880" y="439416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7" name=""/>
            <p:cNvSpPr/>
            <p:nvPr/>
          </p:nvSpPr>
          <p:spPr>
            <a:xfrm>
              <a:off x="6738840" y="4691160"/>
              <a:ext cx="7488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8" name=""/>
            <p:cNvSpPr/>
            <p:nvPr/>
          </p:nvSpPr>
          <p:spPr>
            <a:xfrm>
              <a:off x="6486480" y="5065560"/>
              <a:ext cx="74520" cy="74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9" name=""/>
            <p:cNvSpPr/>
            <p:nvPr/>
          </p:nvSpPr>
          <p:spPr>
            <a:xfrm>
              <a:off x="6621480" y="498168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0" name=""/>
            <p:cNvSpPr/>
            <p:nvPr/>
          </p:nvSpPr>
          <p:spPr>
            <a:xfrm>
              <a:off x="6627960" y="371484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1" name=""/>
            <p:cNvSpPr/>
            <p:nvPr/>
          </p:nvSpPr>
          <p:spPr>
            <a:xfrm>
              <a:off x="7689960" y="441000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2" name=""/>
            <p:cNvSpPr/>
            <p:nvPr/>
          </p:nvSpPr>
          <p:spPr>
            <a:xfrm>
              <a:off x="7294680" y="4941720"/>
              <a:ext cx="74520" cy="74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3" name=""/>
            <p:cNvSpPr/>
            <p:nvPr/>
          </p:nvSpPr>
          <p:spPr>
            <a:xfrm>
              <a:off x="6773760" y="4116240"/>
              <a:ext cx="74880" cy="74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4" name=""/>
            <p:cNvSpPr/>
            <p:nvPr/>
          </p:nvSpPr>
          <p:spPr>
            <a:xfrm>
              <a:off x="6891480" y="484344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5" name=""/>
            <p:cNvSpPr/>
            <p:nvPr/>
          </p:nvSpPr>
          <p:spPr>
            <a:xfrm>
              <a:off x="6638760" y="5218200"/>
              <a:ext cx="7488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6" name=""/>
            <p:cNvSpPr/>
            <p:nvPr/>
          </p:nvSpPr>
          <p:spPr>
            <a:xfrm>
              <a:off x="6773760" y="5133960"/>
              <a:ext cx="7488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7" name=""/>
            <p:cNvSpPr/>
            <p:nvPr/>
          </p:nvSpPr>
          <p:spPr>
            <a:xfrm>
              <a:off x="6891480" y="450540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8" name=""/>
            <p:cNvSpPr/>
            <p:nvPr/>
          </p:nvSpPr>
          <p:spPr>
            <a:xfrm>
              <a:off x="7142040" y="4764240"/>
              <a:ext cx="7488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9" name=""/>
            <p:cNvSpPr/>
            <p:nvPr/>
          </p:nvSpPr>
          <p:spPr>
            <a:xfrm>
              <a:off x="7321680" y="511812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0" name=""/>
            <p:cNvSpPr/>
            <p:nvPr/>
          </p:nvSpPr>
          <p:spPr>
            <a:xfrm>
              <a:off x="7010280" y="4243320"/>
              <a:ext cx="7488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1" name=""/>
            <p:cNvSpPr/>
            <p:nvPr/>
          </p:nvSpPr>
          <p:spPr>
            <a:xfrm>
              <a:off x="7043760" y="4995720"/>
              <a:ext cx="74520" cy="74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2" name=""/>
            <p:cNvSpPr/>
            <p:nvPr/>
          </p:nvSpPr>
          <p:spPr>
            <a:xfrm>
              <a:off x="6791400" y="537048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3" name=""/>
            <p:cNvSpPr/>
            <p:nvPr/>
          </p:nvSpPr>
          <p:spPr>
            <a:xfrm>
              <a:off x="6926400" y="5286240"/>
              <a:ext cx="74520" cy="74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4" name=""/>
            <p:cNvSpPr/>
            <p:nvPr/>
          </p:nvSpPr>
          <p:spPr>
            <a:xfrm>
              <a:off x="7364520" y="427032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5" name=""/>
            <p:cNvSpPr/>
            <p:nvPr/>
          </p:nvSpPr>
          <p:spPr>
            <a:xfrm>
              <a:off x="7169040" y="4554360"/>
              <a:ext cx="74880" cy="74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6" name=""/>
            <p:cNvSpPr/>
            <p:nvPr/>
          </p:nvSpPr>
          <p:spPr>
            <a:xfrm>
              <a:off x="4241880" y="449280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7" name=""/>
            <p:cNvSpPr/>
            <p:nvPr/>
          </p:nvSpPr>
          <p:spPr>
            <a:xfrm>
              <a:off x="4394160" y="464508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8" name=""/>
            <p:cNvSpPr/>
            <p:nvPr/>
          </p:nvSpPr>
          <p:spPr>
            <a:xfrm>
              <a:off x="4038480" y="4729320"/>
              <a:ext cx="7488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9" name=""/>
            <p:cNvSpPr/>
            <p:nvPr/>
          </p:nvSpPr>
          <p:spPr>
            <a:xfrm>
              <a:off x="3895560" y="4433760"/>
              <a:ext cx="74880" cy="74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0" name=""/>
            <p:cNvSpPr/>
            <p:nvPr/>
          </p:nvSpPr>
          <p:spPr>
            <a:xfrm>
              <a:off x="4048200" y="458640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1" name=""/>
            <p:cNvSpPr/>
            <p:nvPr/>
          </p:nvSpPr>
          <p:spPr>
            <a:xfrm>
              <a:off x="4200480" y="473868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2" name=""/>
            <p:cNvSpPr/>
            <p:nvPr/>
          </p:nvSpPr>
          <p:spPr>
            <a:xfrm>
              <a:off x="4352760" y="4890960"/>
              <a:ext cx="74880" cy="74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3" name=""/>
            <p:cNvSpPr/>
            <p:nvPr/>
          </p:nvSpPr>
          <p:spPr>
            <a:xfrm>
              <a:off x="4505400" y="504360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4" name=""/>
            <p:cNvSpPr/>
            <p:nvPr/>
          </p:nvSpPr>
          <p:spPr>
            <a:xfrm>
              <a:off x="4259160" y="4156200"/>
              <a:ext cx="7488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5" name=""/>
            <p:cNvSpPr/>
            <p:nvPr/>
          </p:nvSpPr>
          <p:spPr>
            <a:xfrm>
              <a:off x="4395960" y="4259160"/>
              <a:ext cx="74520" cy="74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6" name=""/>
            <p:cNvSpPr/>
            <p:nvPr/>
          </p:nvSpPr>
          <p:spPr>
            <a:xfrm>
              <a:off x="4583160" y="408456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7" name=""/>
            <p:cNvSpPr/>
            <p:nvPr/>
          </p:nvSpPr>
          <p:spPr>
            <a:xfrm>
              <a:off x="4657680" y="519588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8" name=""/>
            <p:cNvSpPr/>
            <p:nvPr/>
          </p:nvSpPr>
          <p:spPr>
            <a:xfrm>
              <a:off x="4815000" y="499896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9" name=""/>
            <p:cNvSpPr/>
            <p:nvPr/>
          </p:nvSpPr>
          <p:spPr>
            <a:xfrm>
              <a:off x="4967280" y="515160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0" name=""/>
            <p:cNvSpPr/>
            <p:nvPr/>
          </p:nvSpPr>
          <p:spPr>
            <a:xfrm>
              <a:off x="6126120" y="5754600"/>
              <a:ext cx="74520" cy="74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1" name=""/>
            <p:cNvSpPr/>
            <p:nvPr/>
          </p:nvSpPr>
          <p:spPr>
            <a:xfrm>
              <a:off x="5119560" y="5303880"/>
              <a:ext cx="7488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2" name=""/>
            <p:cNvSpPr/>
            <p:nvPr/>
          </p:nvSpPr>
          <p:spPr>
            <a:xfrm>
              <a:off x="5235480" y="4998960"/>
              <a:ext cx="7488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3" name=""/>
            <p:cNvSpPr/>
            <p:nvPr/>
          </p:nvSpPr>
          <p:spPr>
            <a:xfrm>
              <a:off x="5549760" y="4991040"/>
              <a:ext cx="7488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4" name=""/>
            <p:cNvSpPr/>
            <p:nvPr/>
          </p:nvSpPr>
          <p:spPr>
            <a:xfrm>
              <a:off x="2673360" y="453564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5" name=""/>
            <p:cNvSpPr/>
            <p:nvPr/>
          </p:nvSpPr>
          <p:spPr>
            <a:xfrm>
              <a:off x="1603440" y="478944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6" name=""/>
            <p:cNvSpPr/>
            <p:nvPr/>
          </p:nvSpPr>
          <p:spPr>
            <a:xfrm>
              <a:off x="314280" y="507528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7" name=""/>
            <p:cNvSpPr/>
            <p:nvPr/>
          </p:nvSpPr>
          <p:spPr>
            <a:xfrm>
              <a:off x="1216080" y="491976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8" name=""/>
            <p:cNvSpPr/>
            <p:nvPr/>
          </p:nvSpPr>
          <p:spPr>
            <a:xfrm>
              <a:off x="1754280" y="483876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9" name=""/>
            <p:cNvSpPr/>
            <p:nvPr/>
          </p:nvSpPr>
          <p:spPr>
            <a:xfrm>
              <a:off x="1704960" y="451008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0" name=""/>
            <p:cNvSpPr/>
            <p:nvPr/>
          </p:nvSpPr>
          <p:spPr>
            <a:xfrm>
              <a:off x="1957320" y="460224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1" name=""/>
            <p:cNvSpPr/>
            <p:nvPr/>
          </p:nvSpPr>
          <p:spPr>
            <a:xfrm>
              <a:off x="2109960" y="475452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2" name=""/>
            <p:cNvSpPr/>
            <p:nvPr/>
          </p:nvSpPr>
          <p:spPr>
            <a:xfrm>
              <a:off x="2262240" y="4906800"/>
              <a:ext cx="74520" cy="74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3" name=""/>
            <p:cNvSpPr/>
            <p:nvPr/>
          </p:nvSpPr>
          <p:spPr>
            <a:xfrm>
              <a:off x="1906560" y="499104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4" name=""/>
            <p:cNvSpPr/>
            <p:nvPr/>
          </p:nvSpPr>
          <p:spPr>
            <a:xfrm>
              <a:off x="1763640" y="469584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5" name=""/>
            <p:cNvSpPr/>
            <p:nvPr/>
          </p:nvSpPr>
          <p:spPr>
            <a:xfrm>
              <a:off x="1916280" y="4848120"/>
              <a:ext cx="74520" cy="74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6" name=""/>
            <p:cNvSpPr/>
            <p:nvPr/>
          </p:nvSpPr>
          <p:spPr>
            <a:xfrm>
              <a:off x="2068560" y="500076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7" name=""/>
            <p:cNvSpPr/>
            <p:nvPr/>
          </p:nvSpPr>
          <p:spPr>
            <a:xfrm>
              <a:off x="2220840" y="515304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8" name=""/>
            <p:cNvSpPr/>
            <p:nvPr/>
          </p:nvSpPr>
          <p:spPr>
            <a:xfrm>
              <a:off x="2127240" y="4417920"/>
              <a:ext cx="74520" cy="74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9" name=""/>
            <p:cNvSpPr/>
            <p:nvPr/>
          </p:nvSpPr>
          <p:spPr>
            <a:xfrm>
              <a:off x="2263680" y="4521240"/>
              <a:ext cx="7488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0" name=""/>
            <p:cNvSpPr/>
            <p:nvPr/>
          </p:nvSpPr>
          <p:spPr>
            <a:xfrm>
              <a:off x="8319960" y="5319720"/>
              <a:ext cx="7488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1" name=""/>
            <p:cNvSpPr/>
            <p:nvPr/>
          </p:nvSpPr>
          <p:spPr>
            <a:xfrm>
              <a:off x="8177040" y="5024520"/>
              <a:ext cx="7488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2" name=""/>
            <p:cNvSpPr/>
            <p:nvPr/>
          </p:nvSpPr>
          <p:spPr>
            <a:xfrm>
              <a:off x="8523360" y="508320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3" name=""/>
            <p:cNvSpPr/>
            <p:nvPr/>
          </p:nvSpPr>
          <p:spPr>
            <a:xfrm>
              <a:off x="8675640" y="5235480"/>
              <a:ext cx="74520" cy="74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4" name=""/>
            <p:cNvSpPr/>
            <p:nvPr/>
          </p:nvSpPr>
          <p:spPr>
            <a:xfrm>
              <a:off x="8827920" y="5388120"/>
              <a:ext cx="7488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5" name=""/>
            <p:cNvSpPr/>
            <p:nvPr/>
          </p:nvSpPr>
          <p:spPr>
            <a:xfrm>
              <a:off x="8472600" y="5472000"/>
              <a:ext cx="74520" cy="74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6" name=""/>
            <p:cNvSpPr/>
            <p:nvPr/>
          </p:nvSpPr>
          <p:spPr>
            <a:xfrm>
              <a:off x="8329680" y="517680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7" name=""/>
            <p:cNvSpPr/>
            <p:nvPr/>
          </p:nvSpPr>
          <p:spPr>
            <a:xfrm>
              <a:off x="8481960" y="5329080"/>
              <a:ext cx="74520" cy="74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8" name=""/>
            <p:cNvSpPr/>
            <p:nvPr/>
          </p:nvSpPr>
          <p:spPr>
            <a:xfrm>
              <a:off x="8634240" y="5481720"/>
              <a:ext cx="7488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9" name=""/>
            <p:cNvSpPr/>
            <p:nvPr/>
          </p:nvSpPr>
          <p:spPr>
            <a:xfrm>
              <a:off x="8786880" y="563400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0" name=""/>
            <p:cNvSpPr/>
            <p:nvPr/>
          </p:nvSpPr>
          <p:spPr>
            <a:xfrm>
              <a:off x="8693280" y="4898880"/>
              <a:ext cx="74520" cy="74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1" name=""/>
            <p:cNvSpPr/>
            <p:nvPr/>
          </p:nvSpPr>
          <p:spPr>
            <a:xfrm>
              <a:off x="8829720" y="500220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2" name=""/>
            <p:cNvSpPr/>
            <p:nvPr/>
          </p:nvSpPr>
          <p:spPr>
            <a:xfrm>
              <a:off x="8439120" y="418140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3" name=""/>
            <p:cNvSpPr/>
            <p:nvPr/>
          </p:nvSpPr>
          <p:spPr>
            <a:xfrm>
              <a:off x="8296200" y="388620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4" name=""/>
            <p:cNvSpPr/>
            <p:nvPr/>
          </p:nvSpPr>
          <p:spPr>
            <a:xfrm>
              <a:off x="8642520" y="394488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5" name=""/>
            <p:cNvSpPr/>
            <p:nvPr/>
          </p:nvSpPr>
          <p:spPr>
            <a:xfrm>
              <a:off x="8794800" y="4097160"/>
              <a:ext cx="74520" cy="74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6" name=""/>
            <p:cNvSpPr/>
            <p:nvPr/>
          </p:nvSpPr>
          <p:spPr>
            <a:xfrm>
              <a:off x="8947080" y="424980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7" name=""/>
            <p:cNvSpPr/>
            <p:nvPr/>
          </p:nvSpPr>
          <p:spPr>
            <a:xfrm>
              <a:off x="8591400" y="4334040"/>
              <a:ext cx="7488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8" name=""/>
            <p:cNvSpPr/>
            <p:nvPr/>
          </p:nvSpPr>
          <p:spPr>
            <a:xfrm>
              <a:off x="8448840" y="4038480"/>
              <a:ext cx="74520" cy="74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9" name=""/>
            <p:cNvSpPr/>
            <p:nvPr/>
          </p:nvSpPr>
          <p:spPr>
            <a:xfrm>
              <a:off x="8601120" y="419112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0" name=""/>
            <p:cNvSpPr/>
            <p:nvPr/>
          </p:nvSpPr>
          <p:spPr>
            <a:xfrm>
              <a:off x="8753400" y="434340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1" name=""/>
            <p:cNvSpPr/>
            <p:nvPr/>
          </p:nvSpPr>
          <p:spPr>
            <a:xfrm>
              <a:off x="8906040" y="4495680"/>
              <a:ext cx="74520" cy="74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2" name=""/>
            <p:cNvSpPr/>
            <p:nvPr/>
          </p:nvSpPr>
          <p:spPr>
            <a:xfrm>
              <a:off x="8812080" y="3760920"/>
              <a:ext cx="7488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3" name=""/>
            <p:cNvSpPr/>
            <p:nvPr/>
          </p:nvSpPr>
          <p:spPr>
            <a:xfrm>
              <a:off x="8948880" y="3863880"/>
              <a:ext cx="74520" cy="74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4" name=""/>
            <p:cNvSpPr/>
            <p:nvPr/>
          </p:nvSpPr>
          <p:spPr>
            <a:xfrm>
              <a:off x="1081080" y="4240080"/>
              <a:ext cx="74520" cy="74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5" name=""/>
            <p:cNvSpPr/>
            <p:nvPr/>
          </p:nvSpPr>
          <p:spPr>
            <a:xfrm>
              <a:off x="938160" y="394488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6" name=""/>
            <p:cNvSpPr/>
            <p:nvPr/>
          </p:nvSpPr>
          <p:spPr>
            <a:xfrm>
              <a:off x="1284120" y="4003560"/>
              <a:ext cx="74880" cy="74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7" name=""/>
            <p:cNvSpPr/>
            <p:nvPr/>
          </p:nvSpPr>
          <p:spPr>
            <a:xfrm>
              <a:off x="1436760" y="415620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8" name=""/>
            <p:cNvSpPr/>
            <p:nvPr/>
          </p:nvSpPr>
          <p:spPr>
            <a:xfrm>
              <a:off x="1589040" y="430848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9" name=""/>
            <p:cNvSpPr/>
            <p:nvPr/>
          </p:nvSpPr>
          <p:spPr>
            <a:xfrm>
              <a:off x="1233360" y="4392720"/>
              <a:ext cx="7488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0" name=""/>
            <p:cNvSpPr/>
            <p:nvPr/>
          </p:nvSpPr>
          <p:spPr>
            <a:xfrm>
              <a:off x="1090440" y="4097160"/>
              <a:ext cx="74880" cy="74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1" name=""/>
            <p:cNvSpPr/>
            <p:nvPr/>
          </p:nvSpPr>
          <p:spPr>
            <a:xfrm>
              <a:off x="1243080" y="424980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2" name=""/>
            <p:cNvSpPr/>
            <p:nvPr/>
          </p:nvSpPr>
          <p:spPr>
            <a:xfrm>
              <a:off x="1395360" y="440208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3" name=""/>
            <p:cNvSpPr/>
            <p:nvPr/>
          </p:nvSpPr>
          <p:spPr>
            <a:xfrm>
              <a:off x="1547640" y="4554360"/>
              <a:ext cx="74880" cy="74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4" name=""/>
            <p:cNvSpPr/>
            <p:nvPr/>
          </p:nvSpPr>
          <p:spPr>
            <a:xfrm>
              <a:off x="1389240" y="385128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5" name=""/>
            <p:cNvSpPr/>
            <p:nvPr/>
          </p:nvSpPr>
          <p:spPr>
            <a:xfrm>
              <a:off x="1639800" y="3914640"/>
              <a:ext cx="74880" cy="74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6" name=""/>
            <p:cNvSpPr/>
            <p:nvPr/>
          </p:nvSpPr>
          <p:spPr>
            <a:xfrm>
              <a:off x="1908000" y="5094360"/>
              <a:ext cx="7488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7" name=""/>
            <p:cNvSpPr/>
            <p:nvPr/>
          </p:nvSpPr>
          <p:spPr>
            <a:xfrm>
              <a:off x="2058840" y="5143680"/>
              <a:ext cx="7488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8" name=""/>
            <p:cNvSpPr/>
            <p:nvPr/>
          </p:nvSpPr>
          <p:spPr>
            <a:xfrm>
              <a:off x="2414520" y="505944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9" name=""/>
            <p:cNvSpPr/>
            <p:nvPr/>
          </p:nvSpPr>
          <p:spPr>
            <a:xfrm>
              <a:off x="1790640" y="520380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0" name=""/>
            <p:cNvSpPr/>
            <p:nvPr/>
          </p:nvSpPr>
          <p:spPr>
            <a:xfrm>
              <a:off x="2211480" y="529596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1" name=""/>
            <p:cNvSpPr/>
            <p:nvPr/>
          </p:nvSpPr>
          <p:spPr>
            <a:xfrm>
              <a:off x="2220840" y="515304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2" name=""/>
            <p:cNvSpPr/>
            <p:nvPr/>
          </p:nvSpPr>
          <p:spPr>
            <a:xfrm>
              <a:off x="2500200" y="4791240"/>
              <a:ext cx="7488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3" name=""/>
            <p:cNvSpPr/>
            <p:nvPr/>
          </p:nvSpPr>
          <p:spPr>
            <a:xfrm>
              <a:off x="2695680" y="471492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4" name=""/>
            <p:cNvSpPr/>
            <p:nvPr/>
          </p:nvSpPr>
          <p:spPr>
            <a:xfrm>
              <a:off x="3137040" y="469260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5" name=""/>
            <p:cNvSpPr/>
            <p:nvPr/>
          </p:nvSpPr>
          <p:spPr>
            <a:xfrm>
              <a:off x="3263760" y="4643280"/>
              <a:ext cx="74880" cy="74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6" name=""/>
            <p:cNvSpPr/>
            <p:nvPr/>
          </p:nvSpPr>
          <p:spPr>
            <a:xfrm>
              <a:off x="3349800" y="451008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7" name=""/>
            <p:cNvSpPr/>
            <p:nvPr/>
          </p:nvSpPr>
          <p:spPr>
            <a:xfrm>
              <a:off x="3517920" y="460368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8" name=""/>
            <p:cNvSpPr/>
            <p:nvPr/>
          </p:nvSpPr>
          <p:spPr>
            <a:xfrm>
              <a:off x="3425760" y="414972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9" name=""/>
            <p:cNvSpPr/>
            <p:nvPr/>
          </p:nvSpPr>
          <p:spPr>
            <a:xfrm>
              <a:off x="3772080" y="444672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0" name=""/>
            <p:cNvSpPr/>
            <p:nvPr/>
          </p:nvSpPr>
          <p:spPr>
            <a:xfrm>
              <a:off x="3147840" y="4818240"/>
              <a:ext cx="7488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1" name=""/>
            <p:cNvSpPr/>
            <p:nvPr/>
          </p:nvSpPr>
          <p:spPr>
            <a:xfrm>
              <a:off x="3519360" y="4821120"/>
              <a:ext cx="74880" cy="74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2" name=""/>
            <p:cNvSpPr/>
            <p:nvPr/>
          </p:nvSpPr>
          <p:spPr>
            <a:xfrm>
              <a:off x="3654360" y="473724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3" name=""/>
            <p:cNvSpPr/>
            <p:nvPr/>
          </p:nvSpPr>
          <p:spPr>
            <a:xfrm>
              <a:off x="3789360" y="465300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3367080" y="476244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3578400" y="4302000"/>
              <a:ext cx="74520" cy="74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6" name=""/>
            <p:cNvSpPr/>
            <p:nvPr/>
          </p:nvSpPr>
          <p:spPr>
            <a:xfrm>
              <a:off x="3645000" y="450216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7" name=""/>
            <p:cNvSpPr/>
            <p:nvPr/>
          </p:nvSpPr>
          <p:spPr>
            <a:xfrm>
              <a:off x="2862360" y="465300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8" name=""/>
            <p:cNvSpPr/>
            <p:nvPr/>
          </p:nvSpPr>
          <p:spPr>
            <a:xfrm>
              <a:off x="3390840" y="434196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9" name=""/>
            <p:cNvSpPr/>
            <p:nvPr/>
          </p:nvSpPr>
          <p:spPr>
            <a:xfrm>
              <a:off x="3578400" y="4302000"/>
              <a:ext cx="74520" cy="74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0" name=""/>
            <p:cNvSpPr/>
            <p:nvPr/>
          </p:nvSpPr>
          <p:spPr>
            <a:xfrm>
              <a:off x="3822840" y="421020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1" name=""/>
            <p:cNvSpPr/>
            <p:nvPr/>
          </p:nvSpPr>
          <p:spPr>
            <a:xfrm>
              <a:off x="642960" y="526572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2" name=""/>
            <p:cNvSpPr/>
            <p:nvPr/>
          </p:nvSpPr>
          <p:spPr>
            <a:xfrm>
              <a:off x="770040" y="5216400"/>
              <a:ext cx="74520" cy="74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3" name=""/>
            <p:cNvSpPr/>
            <p:nvPr/>
          </p:nvSpPr>
          <p:spPr>
            <a:xfrm>
              <a:off x="855720" y="508320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4" name=""/>
            <p:cNvSpPr/>
            <p:nvPr/>
          </p:nvSpPr>
          <p:spPr>
            <a:xfrm>
              <a:off x="1023840" y="5176800"/>
              <a:ext cx="7488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5" name=""/>
            <p:cNvSpPr/>
            <p:nvPr/>
          </p:nvSpPr>
          <p:spPr>
            <a:xfrm>
              <a:off x="932040" y="472284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6" name=""/>
            <p:cNvSpPr/>
            <p:nvPr/>
          </p:nvSpPr>
          <p:spPr>
            <a:xfrm>
              <a:off x="1278000" y="501984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7" name=""/>
            <p:cNvSpPr/>
            <p:nvPr/>
          </p:nvSpPr>
          <p:spPr>
            <a:xfrm>
              <a:off x="654120" y="5391000"/>
              <a:ext cx="74520" cy="74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8" name=""/>
            <p:cNvSpPr/>
            <p:nvPr/>
          </p:nvSpPr>
          <p:spPr>
            <a:xfrm>
              <a:off x="1025640" y="539424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9" name=""/>
            <p:cNvSpPr/>
            <p:nvPr/>
          </p:nvSpPr>
          <p:spPr>
            <a:xfrm>
              <a:off x="1160640" y="531036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0" name=""/>
            <p:cNvSpPr/>
            <p:nvPr/>
          </p:nvSpPr>
          <p:spPr>
            <a:xfrm>
              <a:off x="1295280" y="5226120"/>
              <a:ext cx="7488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1" name=""/>
            <p:cNvSpPr/>
            <p:nvPr/>
          </p:nvSpPr>
          <p:spPr>
            <a:xfrm>
              <a:off x="873000" y="5335560"/>
              <a:ext cx="7488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2" name=""/>
            <p:cNvSpPr/>
            <p:nvPr/>
          </p:nvSpPr>
          <p:spPr>
            <a:xfrm>
              <a:off x="1084320" y="4875120"/>
              <a:ext cx="74520" cy="74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3" name=""/>
            <p:cNvSpPr/>
            <p:nvPr/>
          </p:nvSpPr>
          <p:spPr>
            <a:xfrm>
              <a:off x="1150920" y="507528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4" name=""/>
            <p:cNvSpPr/>
            <p:nvPr/>
          </p:nvSpPr>
          <p:spPr>
            <a:xfrm>
              <a:off x="652320" y="4925880"/>
              <a:ext cx="74880" cy="74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5" name=""/>
            <p:cNvSpPr/>
            <p:nvPr/>
          </p:nvSpPr>
          <p:spPr>
            <a:xfrm>
              <a:off x="896760" y="4915080"/>
              <a:ext cx="7488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6" name=""/>
            <p:cNvSpPr/>
            <p:nvPr/>
          </p:nvSpPr>
          <p:spPr>
            <a:xfrm>
              <a:off x="1084320" y="4875120"/>
              <a:ext cx="74520" cy="74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7" name=""/>
            <p:cNvSpPr/>
            <p:nvPr/>
          </p:nvSpPr>
          <p:spPr>
            <a:xfrm>
              <a:off x="1328760" y="4782960"/>
              <a:ext cx="74520" cy="74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8" name=""/>
            <p:cNvSpPr/>
            <p:nvPr/>
          </p:nvSpPr>
          <p:spPr>
            <a:xfrm>
              <a:off x="152280" y="4321080"/>
              <a:ext cx="74880" cy="74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9" name=""/>
            <p:cNvSpPr/>
            <p:nvPr/>
          </p:nvSpPr>
          <p:spPr>
            <a:xfrm>
              <a:off x="279360" y="427212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0" name=""/>
            <p:cNvSpPr/>
            <p:nvPr/>
          </p:nvSpPr>
          <p:spPr>
            <a:xfrm>
              <a:off x="365040" y="413856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1" name=""/>
            <p:cNvSpPr/>
            <p:nvPr/>
          </p:nvSpPr>
          <p:spPr>
            <a:xfrm>
              <a:off x="533520" y="4232160"/>
              <a:ext cx="74520" cy="74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2" name=""/>
            <p:cNvSpPr/>
            <p:nvPr/>
          </p:nvSpPr>
          <p:spPr>
            <a:xfrm>
              <a:off x="441360" y="377820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3" name=""/>
            <p:cNvSpPr/>
            <p:nvPr/>
          </p:nvSpPr>
          <p:spPr>
            <a:xfrm>
              <a:off x="787320" y="407520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4" name=""/>
            <p:cNvSpPr/>
            <p:nvPr/>
          </p:nvSpPr>
          <p:spPr>
            <a:xfrm>
              <a:off x="163440" y="444672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5" name=""/>
            <p:cNvSpPr/>
            <p:nvPr/>
          </p:nvSpPr>
          <p:spPr>
            <a:xfrm>
              <a:off x="160200" y="4856040"/>
              <a:ext cx="74880" cy="74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6" name=""/>
            <p:cNvSpPr/>
            <p:nvPr/>
          </p:nvSpPr>
          <p:spPr>
            <a:xfrm>
              <a:off x="669960" y="436572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7" name=""/>
            <p:cNvSpPr/>
            <p:nvPr/>
          </p:nvSpPr>
          <p:spPr>
            <a:xfrm>
              <a:off x="804960" y="428148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8" name=""/>
            <p:cNvSpPr/>
            <p:nvPr/>
          </p:nvSpPr>
          <p:spPr>
            <a:xfrm>
              <a:off x="382680" y="4390920"/>
              <a:ext cx="74520" cy="74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9" name=""/>
            <p:cNvSpPr/>
            <p:nvPr/>
          </p:nvSpPr>
          <p:spPr>
            <a:xfrm>
              <a:off x="593640" y="3930480"/>
              <a:ext cx="74520" cy="74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0" name=""/>
            <p:cNvSpPr/>
            <p:nvPr/>
          </p:nvSpPr>
          <p:spPr>
            <a:xfrm>
              <a:off x="660240" y="4130640"/>
              <a:ext cx="7488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1" name=""/>
            <p:cNvSpPr/>
            <p:nvPr/>
          </p:nvSpPr>
          <p:spPr>
            <a:xfrm>
              <a:off x="162000" y="398160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2" name=""/>
            <p:cNvSpPr/>
            <p:nvPr/>
          </p:nvSpPr>
          <p:spPr>
            <a:xfrm>
              <a:off x="406440" y="397044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3" name=""/>
            <p:cNvSpPr/>
            <p:nvPr/>
          </p:nvSpPr>
          <p:spPr>
            <a:xfrm>
              <a:off x="593640" y="3930480"/>
              <a:ext cx="74520" cy="74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4" name=""/>
            <p:cNvSpPr/>
            <p:nvPr/>
          </p:nvSpPr>
          <p:spPr>
            <a:xfrm>
              <a:off x="838080" y="3838680"/>
              <a:ext cx="7488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5" name=""/>
            <p:cNvSpPr/>
            <p:nvPr/>
          </p:nvSpPr>
          <p:spPr>
            <a:xfrm>
              <a:off x="1089000" y="469584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6" name=""/>
            <p:cNvSpPr/>
            <p:nvPr/>
          </p:nvSpPr>
          <p:spPr>
            <a:xfrm>
              <a:off x="1251000" y="4705200"/>
              <a:ext cx="74520" cy="74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7" name=""/>
            <p:cNvSpPr/>
            <p:nvPr/>
          </p:nvSpPr>
          <p:spPr>
            <a:xfrm>
              <a:off x="1090440" y="4799160"/>
              <a:ext cx="7488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8" name=""/>
            <p:cNvSpPr/>
            <p:nvPr/>
          </p:nvSpPr>
          <p:spPr>
            <a:xfrm>
              <a:off x="460440" y="4724280"/>
              <a:ext cx="74520" cy="74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9" name=""/>
            <p:cNvSpPr/>
            <p:nvPr/>
          </p:nvSpPr>
          <p:spPr>
            <a:xfrm>
              <a:off x="554040" y="5065560"/>
              <a:ext cx="74520" cy="74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0" name=""/>
            <p:cNvSpPr/>
            <p:nvPr/>
          </p:nvSpPr>
          <p:spPr>
            <a:xfrm>
              <a:off x="326880" y="4871880"/>
              <a:ext cx="74880" cy="74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1" name=""/>
            <p:cNvSpPr/>
            <p:nvPr/>
          </p:nvSpPr>
          <p:spPr>
            <a:xfrm>
              <a:off x="401760" y="516888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2" name=""/>
            <p:cNvSpPr/>
            <p:nvPr/>
          </p:nvSpPr>
          <p:spPr>
            <a:xfrm>
              <a:off x="0" y="508644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3" name=""/>
            <p:cNvSpPr/>
            <p:nvPr/>
          </p:nvSpPr>
          <p:spPr>
            <a:xfrm>
              <a:off x="2252520" y="4621320"/>
              <a:ext cx="7488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4" name=""/>
            <p:cNvSpPr/>
            <p:nvPr/>
          </p:nvSpPr>
          <p:spPr>
            <a:xfrm>
              <a:off x="2414520" y="463068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5" name=""/>
            <p:cNvSpPr/>
            <p:nvPr/>
          </p:nvSpPr>
          <p:spPr>
            <a:xfrm>
              <a:off x="2254320" y="4724280"/>
              <a:ext cx="74520" cy="74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6" name=""/>
            <p:cNvSpPr/>
            <p:nvPr/>
          </p:nvSpPr>
          <p:spPr>
            <a:xfrm>
              <a:off x="1623960" y="464976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7" name=""/>
            <p:cNvSpPr/>
            <p:nvPr/>
          </p:nvSpPr>
          <p:spPr>
            <a:xfrm>
              <a:off x="1906560" y="499104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8" name=""/>
            <p:cNvSpPr/>
            <p:nvPr/>
          </p:nvSpPr>
          <p:spPr>
            <a:xfrm>
              <a:off x="1368360" y="507204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9" name=""/>
            <p:cNvSpPr/>
            <p:nvPr/>
          </p:nvSpPr>
          <p:spPr>
            <a:xfrm>
              <a:off x="1521000" y="5224320"/>
              <a:ext cx="74520" cy="74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0" name=""/>
            <p:cNvSpPr/>
            <p:nvPr/>
          </p:nvSpPr>
          <p:spPr>
            <a:xfrm>
              <a:off x="1481040" y="4935600"/>
              <a:ext cx="7488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1" name=""/>
            <p:cNvSpPr/>
            <p:nvPr/>
          </p:nvSpPr>
          <p:spPr>
            <a:xfrm>
              <a:off x="1633680" y="508788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2" name=""/>
            <p:cNvSpPr/>
            <p:nvPr/>
          </p:nvSpPr>
          <p:spPr>
            <a:xfrm>
              <a:off x="155520" y="5297400"/>
              <a:ext cx="74520" cy="74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3" name=""/>
            <p:cNvSpPr/>
            <p:nvPr/>
          </p:nvSpPr>
          <p:spPr>
            <a:xfrm>
              <a:off x="7581960" y="4925880"/>
              <a:ext cx="74520" cy="74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4" name=""/>
            <p:cNvSpPr/>
            <p:nvPr/>
          </p:nvSpPr>
          <p:spPr>
            <a:xfrm>
              <a:off x="7734240" y="507852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5" name=""/>
            <p:cNvSpPr/>
            <p:nvPr/>
          </p:nvSpPr>
          <p:spPr>
            <a:xfrm>
              <a:off x="7886880" y="523080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6" name=""/>
            <p:cNvSpPr/>
            <p:nvPr/>
          </p:nvSpPr>
          <p:spPr>
            <a:xfrm>
              <a:off x="8039160" y="5383080"/>
              <a:ext cx="74520" cy="74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7" name=""/>
            <p:cNvSpPr/>
            <p:nvPr/>
          </p:nvSpPr>
          <p:spPr>
            <a:xfrm>
              <a:off x="8448840" y="4038480"/>
              <a:ext cx="74520" cy="74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8" name=""/>
            <p:cNvSpPr/>
            <p:nvPr/>
          </p:nvSpPr>
          <p:spPr>
            <a:xfrm>
              <a:off x="7513560" y="435132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9" name=""/>
            <p:cNvSpPr/>
            <p:nvPr/>
          </p:nvSpPr>
          <p:spPr>
            <a:xfrm>
              <a:off x="7767720" y="4194000"/>
              <a:ext cx="74520" cy="74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0" name=""/>
            <p:cNvSpPr/>
            <p:nvPr/>
          </p:nvSpPr>
          <p:spPr>
            <a:xfrm>
              <a:off x="7785000" y="4400640"/>
              <a:ext cx="7488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1" name=""/>
            <p:cNvSpPr/>
            <p:nvPr/>
          </p:nvSpPr>
          <p:spPr>
            <a:xfrm>
              <a:off x="7574040" y="404964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2" name=""/>
            <p:cNvSpPr/>
            <p:nvPr/>
          </p:nvSpPr>
          <p:spPr>
            <a:xfrm>
              <a:off x="7640640" y="424980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3" name=""/>
            <p:cNvSpPr/>
            <p:nvPr/>
          </p:nvSpPr>
          <p:spPr>
            <a:xfrm>
              <a:off x="7574040" y="404964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4" name=""/>
            <p:cNvSpPr/>
            <p:nvPr/>
          </p:nvSpPr>
          <p:spPr>
            <a:xfrm>
              <a:off x="7920000" y="434664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5" name=""/>
            <p:cNvSpPr/>
            <p:nvPr/>
          </p:nvSpPr>
          <p:spPr>
            <a:xfrm>
              <a:off x="7818480" y="3957480"/>
              <a:ext cx="74520" cy="74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6" name=""/>
            <p:cNvSpPr/>
            <p:nvPr/>
          </p:nvSpPr>
          <p:spPr>
            <a:xfrm>
              <a:off x="8072280" y="4160880"/>
              <a:ext cx="7488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7" name=""/>
            <p:cNvSpPr/>
            <p:nvPr/>
          </p:nvSpPr>
          <p:spPr>
            <a:xfrm>
              <a:off x="8323200" y="441972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8" name=""/>
            <p:cNvSpPr/>
            <p:nvPr/>
          </p:nvSpPr>
          <p:spPr>
            <a:xfrm>
              <a:off x="8191440" y="3898800"/>
              <a:ext cx="74520" cy="74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9" name=""/>
            <p:cNvSpPr/>
            <p:nvPr/>
          </p:nvSpPr>
          <p:spPr>
            <a:xfrm>
              <a:off x="8350200" y="421020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0" name=""/>
            <p:cNvSpPr/>
            <p:nvPr/>
          </p:nvSpPr>
          <p:spPr>
            <a:xfrm>
              <a:off x="6369120" y="538632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1" name=""/>
            <p:cNvSpPr/>
            <p:nvPr/>
          </p:nvSpPr>
          <p:spPr>
            <a:xfrm>
              <a:off x="5956200" y="6381720"/>
              <a:ext cx="7488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2" name=""/>
            <p:cNvSpPr/>
            <p:nvPr/>
          </p:nvSpPr>
          <p:spPr>
            <a:xfrm>
              <a:off x="8207280" y="1562040"/>
              <a:ext cx="7488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3" name=""/>
            <p:cNvSpPr/>
            <p:nvPr/>
          </p:nvSpPr>
          <p:spPr>
            <a:xfrm>
              <a:off x="5386320" y="586908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4" name=""/>
            <p:cNvSpPr/>
            <p:nvPr/>
          </p:nvSpPr>
          <p:spPr>
            <a:xfrm>
              <a:off x="6978600" y="599616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5" name=""/>
            <p:cNvSpPr/>
            <p:nvPr/>
          </p:nvSpPr>
          <p:spPr>
            <a:xfrm>
              <a:off x="6715080" y="433548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6" name=""/>
            <p:cNvSpPr/>
            <p:nvPr/>
          </p:nvSpPr>
          <p:spPr>
            <a:xfrm>
              <a:off x="6831000" y="394020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7" name=""/>
            <p:cNvSpPr/>
            <p:nvPr/>
          </p:nvSpPr>
          <p:spPr>
            <a:xfrm>
              <a:off x="7194600" y="342756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8" name=""/>
            <p:cNvSpPr/>
            <p:nvPr/>
          </p:nvSpPr>
          <p:spPr>
            <a:xfrm>
              <a:off x="7415280" y="219708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9" name=""/>
            <p:cNvSpPr/>
            <p:nvPr/>
          </p:nvSpPr>
          <p:spPr>
            <a:xfrm>
              <a:off x="7104240" y="186228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0" name=""/>
            <p:cNvSpPr/>
            <p:nvPr/>
          </p:nvSpPr>
          <p:spPr>
            <a:xfrm>
              <a:off x="8346960" y="663480"/>
              <a:ext cx="74880" cy="74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1" name=""/>
            <p:cNvSpPr/>
            <p:nvPr/>
          </p:nvSpPr>
          <p:spPr>
            <a:xfrm>
              <a:off x="7391520" y="598320"/>
              <a:ext cx="74520" cy="74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2" name=""/>
            <p:cNvSpPr/>
            <p:nvPr/>
          </p:nvSpPr>
          <p:spPr>
            <a:xfrm>
              <a:off x="8494560" y="739800"/>
              <a:ext cx="7488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3" name=""/>
            <p:cNvSpPr/>
            <p:nvPr/>
          </p:nvSpPr>
          <p:spPr>
            <a:xfrm>
              <a:off x="8167680" y="75420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4" name=""/>
            <p:cNvSpPr/>
            <p:nvPr/>
          </p:nvSpPr>
          <p:spPr>
            <a:xfrm flipH="1" rot="17793600">
              <a:off x="7882920" y="6001200"/>
              <a:ext cx="312480" cy="1425600"/>
            </a:xfrm>
            <a:prstGeom prst="can">
              <a:avLst>
                <a:gd name="adj" fmla="val 25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5" name=""/>
            <p:cNvSpPr/>
            <p:nvPr/>
          </p:nvSpPr>
          <p:spPr>
            <a:xfrm>
              <a:off x="7469280" y="646740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6" name=""/>
            <p:cNvSpPr/>
            <p:nvPr/>
          </p:nvSpPr>
          <p:spPr>
            <a:xfrm>
              <a:off x="6939000" y="6289560"/>
              <a:ext cx="74520" cy="74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7" name=""/>
            <p:cNvSpPr/>
            <p:nvPr/>
          </p:nvSpPr>
          <p:spPr>
            <a:xfrm>
              <a:off x="7404120" y="6375240"/>
              <a:ext cx="74520" cy="74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8" name=""/>
            <p:cNvSpPr/>
            <p:nvPr/>
          </p:nvSpPr>
          <p:spPr>
            <a:xfrm>
              <a:off x="7238880" y="0"/>
              <a:ext cx="152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400" spc="-1" strike="noStrike">
                  <a:solidFill>
                    <a:srgbClr val="000000"/>
                  </a:solidFill>
                  <a:latin typeface="Times New Roman"/>
                </a:rPr>
                <a:t>Lymfatická drenáž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9" name=""/>
            <p:cNvSpPr/>
            <p:nvPr/>
          </p:nvSpPr>
          <p:spPr>
            <a:xfrm>
              <a:off x="5941800" y="6553080"/>
              <a:ext cx="152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400" spc="-1" strike="noStrike">
                  <a:solidFill>
                    <a:srgbClr val="000000"/>
                  </a:solidFill>
                  <a:latin typeface="Times New Roman"/>
                </a:rPr>
                <a:t>Lymfatická drenáž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0" name=""/>
            <p:cNvSpPr/>
            <p:nvPr/>
          </p:nvSpPr>
          <p:spPr>
            <a:xfrm>
              <a:off x="4853160" y="5442120"/>
              <a:ext cx="871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400" spc="-1" strike="noStrike">
                  <a:solidFill>
                    <a:srgbClr val="000000"/>
                  </a:solidFill>
                  <a:latin typeface="Times New Roman"/>
                </a:rPr>
                <a:t>bílkovin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1" name=""/>
            <p:cNvSpPr/>
            <p:nvPr/>
          </p:nvSpPr>
          <p:spPr>
            <a:xfrm>
              <a:off x="8276040" y="1143000"/>
              <a:ext cx="871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400" spc="-1" strike="noStrike">
                  <a:solidFill>
                    <a:srgbClr val="000000"/>
                  </a:solidFill>
                  <a:latin typeface="Times New Roman"/>
                </a:rPr>
                <a:t>bílkovin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2" name=""/>
            <p:cNvSpPr/>
            <p:nvPr/>
          </p:nvSpPr>
          <p:spPr>
            <a:xfrm flipH="1" flipV="1">
              <a:off x="8259480" y="860400"/>
              <a:ext cx="261720" cy="30960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3" name=""/>
            <p:cNvSpPr/>
            <p:nvPr/>
          </p:nvSpPr>
          <p:spPr>
            <a:xfrm flipH="1">
              <a:off x="8319600" y="1400040"/>
              <a:ext cx="227160" cy="15264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4" name=""/>
            <p:cNvSpPr/>
            <p:nvPr/>
          </p:nvSpPr>
          <p:spPr>
            <a:xfrm flipV="1">
              <a:off x="5419800" y="4992840"/>
              <a:ext cx="17280" cy="51264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5" name=""/>
            <p:cNvSpPr/>
            <p:nvPr/>
          </p:nvSpPr>
          <p:spPr>
            <a:xfrm>
              <a:off x="5618160" y="490068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6" name=""/>
            <p:cNvSpPr/>
            <p:nvPr/>
          </p:nvSpPr>
          <p:spPr>
            <a:xfrm flipH="1" flipV="1">
              <a:off x="5311800" y="5118120"/>
              <a:ext cx="100080" cy="30312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7" name=""/>
            <p:cNvSpPr/>
            <p:nvPr/>
          </p:nvSpPr>
          <p:spPr>
            <a:xfrm flipV="1">
              <a:off x="5430960" y="5091120"/>
              <a:ext cx="134640" cy="2872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8" name=""/>
            <p:cNvSpPr/>
            <p:nvPr/>
          </p:nvSpPr>
          <p:spPr>
            <a:xfrm>
              <a:off x="5408640" y="488628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9" name=""/>
            <p:cNvSpPr/>
            <p:nvPr/>
          </p:nvSpPr>
          <p:spPr>
            <a:xfrm>
              <a:off x="5641920" y="5614920"/>
              <a:ext cx="471600" cy="1684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0" name=""/>
            <p:cNvSpPr/>
            <p:nvPr/>
          </p:nvSpPr>
          <p:spPr>
            <a:xfrm flipH="1">
              <a:off x="404280" y="496800"/>
              <a:ext cx="17276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Intersticiální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tekutin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1" name=""/>
            <p:cNvSpPr/>
            <p:nvPr/>
          </p:nvSpPr>
          <p:spPr>
            <a:xfrm>
              <a:off x="4181400" y="1189080"/>
              <a:ext cx="463680" cy="555480"/>
            </a:xfrm>
            <a:custGeom>
              <a:avLst/>
              <a:gdLst/>
              <a:ahLst/>
              <a:rect l="l" t="t" r="r" b="b"/>
              <a:pathLst>
                <a:path w="292" h="350">
                  <a:moveTo>
                    <a:pt x="0" y="350"/>
                  </a:moveTo>
                  <a:cubicBezTo>
                    <a:pt x="11" y="302"/>
                    <a:pt x="9" y="121"/>
                    <a:pt x="58" y="63"/>
                  </a:cubicBezTo>
                  <a:cubicBezTo>
                    <a:pt x="107" y="5"/>
                    <a:pt x="243" y="13"/>
                    <a:pt x="292" y="0"/>
                  </a:cubicBezTo>
                </a:path>
              </a:pathLst>
            </a:custGeom>
            <a:noFill/>
            <a:ln w="7632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2" name=""/>
            <p:cNvSpPr/>
            <p:nvPr/>
          </p:nvSpPr>
          <p:spPr>
            <a:xfrm>
              <a:off x="6886440" y="2664000"/>
              <a:ext cx="0" cy="504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3" name=""/>
            <p:cNvSpPr/>
            <p:nvPr/>
          </p:nvSpPr>
          <p:spPr>
            <a:xfrm>
              <a:off x="6010200" y="1077840"/>
              <a:ext cx="916200" cy="1501920"/>
            </a:xfrm>
            <a:custGeom>
              <a:avLst/>
              <a:gdLst/>
              <a:ahLst/>
              <a:rect l="l" t="t" r="r" b="b"/>
              <a:pathLst>
                <a:path w="577" h="946">
                  <a:moveTo>
                    <a:pt x="0" y="54"/>
                  </a:moveTo>
                  <a:cubicBezTo>
                    <a:pt x="80" y="70"/>
                    <a:pt x="389" y="0"/>
                    <a:pt x="483" y="149"/>
                  </a:cubicBezTo>
                  <a:cubicBezTo>
                    <a:pt x="577" y="298"/>
                    <a:pt x="546" y="780"/>
                    <a:pt x="563" y="946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4" name=""/>
            <p:cNvSpPr/>
            <p:nvPr/>
          </p:nvSpPr>
          <p:spPr>
            <a:xfrm>
              <a:off x="6906240" y="2530440"/>
              <a:ext cx="1570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Snížení gradientu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onkotických tlaků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5" name=""/>
            <p:cNvSpPr/>
            <p:nvPr/>
          </p:nvSpPr>
          <p:spPr>
            <a:xfrm>
              <a:off x="6438960" y="408312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6" name=""/>
            <p:cNvSpPr/>
            <p:nvPr/>
          </p:nvSpPr>
          <p:spPr>
            <a:xfrm>
              <a:off x="6545160" y="4229280"/>
              <a:ext cx="7488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7" name=""/>
            <p:cNvSpPr/>
            <p:nvPr/>
          </p:nvSpPr>
          <p:spPr>
            <a:xfrm>
              <a:off x="7122960" y="2170080"/>
              <a:ext cx="7488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8" name=""/>
            <p:cNvSpPr/>
            <p:nvPr/>
          </p:nvSpPr>
          <p:spPr>
            <a:xfrm>
              <a:off x="5433840" y="3751200"/>
              <a:ext cx="7488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9" name=""/>
            <p:cNvSpPr/>
            <p:nvPr/>
          </p:nvSpPr>
          <p:spPr>
            <a:xfrm>
              <a:off x="6516720" y="614520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0" name=""/>
            <p:cNvSpPr/>
            <p:nvPr/>
          </p:nvSpPr>
          <p:spPr>
            <a:xfrm>
              <a:off x="5776920" y="602460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1" name=""/>
            <p:cNvSpPr/>
            <p:nvPr/>
          </p:nvSpPr>
          <p:spPr>
            <a:xfrm>
              <a:off x="4738680" y="600228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2" name=""/>
            <p:cNvSpPr/>
            <p:nvPr/>
          </p:nvSpPr>
          <p:spPr>
            <a:xfrm>
              <a:off x="4052880" y="597708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3" name=""/>
            <p:cNvSpPr/>
            <p:nvPr/>
          </p:nvSpPr>
          <p:spPr>
            <a:xfrm>
              <a:off x="5300640" y="632772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4" name=""/>
            <p:cNvSpPr/>
            <p:nvPr/>
          </p:nvSpPr>
          <p:spPr>
            <a:xfrm>
              <a:off x="6308640" y="371628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5" name=""/>
            <p:cNvSpPr/>
            <p:nvPr/>
          </p:nvSpPr>
          <p:spPr>
            <a:xfrm>
              <a:off x="6118200" y="408780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6" name=""/>
            <p:cNvSpPr/>
            <p:nvPr/>
          </p:nvSpPr>
          <p:spPr>
            <a:xfrm>
              <a:off x="5808600" y="4127400"/>
              <a:ext cx="74520" cy="74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7" name=""/>
            <p:cNvSpPr/>
            <p:nvPr/>
          </p:nvSpPr>
          <p:spPr>
            <a:xfrm>
              <a:off x="4986360" y="4108320"/>
              <a:ext cx="74520" cy="74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8" name=""/>
            <p:cNvSpPr/>
            <p:nvPr/>
          </p:nvSpPr>
          <p:spPr>
            <a:xfrm>
              <a:off x="5462640" y="441648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9" name=""/>
            <p:cNvSpPr/>
            <p:nvPr/>
          </p:nvSpPr>
          <p:spPr>
            <a:xfrm>
              <a:off x="7205760" y="406404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0" name=""/>
            <p:cNvSpPr/>
            <p:nvPr/>
          </p:nvSpPr>
          <p:spPr>
            <a:xfrm>
              <a:off x="7262640" y="1415880"/>
              <a:ext cx="74880" cy="74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1" name=""/>
            <p:cNvSpPr/>
            <p:nvPr/>
          </p:nvSpPr>
          <p:spPr>
            <a:xfrm>
              <a:off x="6513480" y="328788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2" name=""/>
            <p:cNvSpPr/>
            <p:nvPr/>
          </p:nvSpPr>
          <p:spPr>
            <a:xfrm>
              <a:off x="6961320" y="402588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3" name=""/>
            <p:cNvSpPr/>
            <p:nvPr/>
          </p:nvSpPr>
          <p:spPr>
            <a:xfrm>
              <a:off x="6095880" y="2430360"/>
              <a:ext cx="74880" cy="74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4" name=""/>
            <p:cNvSpPr/>
            <p:nvPr/>
          </p:nvSpPr>
          <p:spPr>
            <a:xfrm>
              <a:off x="6973920" y="156996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5" name=""/>
            <p:cNvSpPr/>
            <p:nvPr/>
          </p:nvSpPr>
          <p:spPr>
            <a:xfrm>
              <a:off x="7661160" y="1668600"/>
              <a:ext cx="7488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6" name=""/>
            <p:cNvSpPr/>
            <p:nvPr/>
          </p:nvSpPr>
          <p:spPr>
            <a:xfrm>
              <a:off x="7213680" y="87804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7" name=""/>
            <p:cNvSpPr/>
            <p:nvPr/>
          </p:nvSpPr>
          <p:spPr>
            <a:xfrm>
              <a:off x="6818400" y="1082520"/>
              <a:ext cx="74520" cy="74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8" name=""/>
            <p:cNvSpPr/>
            <p:nvPr/>
          </p:nvSpPr>
          <p:spPr>
            <a:xfrm>
              <a:off x="6256440" y="1674720"/>
              <a:ext cx="74520" cy="74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9" name=""/>
            <p:cNvSpPr/>
            <p:nvPr/>
          </p:nvSpPr>
          <p:spPr>
            <a:xfrm>
              <a:off x="6716880" y="714240"/>
              <a:ext cx="74520" cy="74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0" name=""/>
            <p:cNvSpPr/>
            <p:nvPr/>
          </p:nvSpPr>
          <p:spPr>
            <a:xfrm>
              <a:off x="6264360" y="612144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1" name=""/>
            <p:cNvSpPr/>
            <p:nvPr/>
          </p:nvSpPr>
          <p:spPr>
            <a:xfrm>
              <a:off x="3457800" y="-25560"/>
              <a:ext cx="68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Záně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2" name=""/>
            <p:cNvSpPr/>
            <p:nvPr/>
          </p:nvSpPr>
          <p:spPr>
            <a:xfrm>
              <a:off x="5448240" y="0"/>
              <a:ext cx="21754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Hromadění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 </a:t>
              </a:r>
              <a:r>
                <a:rPr b="1" lang="cs-CZ" sz="1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makromolekulárníc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produktů zánětlivé reak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3" name=""/>
            <p:cNvSpPr/>
            <p:nvPr/>
          </p:nvSpPr>
          <p:spPr>
            <a:xfrm>
              <a:off x="3621240" y="3575160"/>
              <a:ext cx="239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Zvýšení permeability kapilá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4" name=""/>
            <p:cNvSpPr/>
            <p:nvPr/>
          </p:nvSpPr>
          <p:spPr>
            <a:xfrm>
              <a:off x="6953400" y="782640"/>
              <a:ext cx="415800" cy="183996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5" name=""/>
            <p:cNvSpPr/>
            <p:nvPr/>
          </p:nvSpPr>
          <p:spPr>
            <a:xfrm>
              <a:off x="-189000" y="7920"/>
              <a:ext cx="3990960" cy="3720960"/>
            </a:xfrm>
            <a:custGeom>
              <a:avLst/>
              <a:gdLst/>
              <a:ahLst/>
              <a:rect l="l" t="t" r="r" b="b"/>
              <a:pathLst>
                <a:path w="2514" h="2344">
                  <a:moveTo>
                    <a:pt x="2514" y="200"/>
                  </a:moveTo>
                  <a:cubicBezTo>
                    <a:pt x="2156" y="207"/>
                    <a:pt x="730" y="0"/>
                    <a:pt x="365" y="237"/>
                  </a:cubicBezTo>
                  <a:cubicBezTo>
                    <a:pt x="0" y="474"/>
                    <a:pt x="198" y="1300"/>
                    <a:pt x="324" y="1622"/>
                  </a:cubicBezTo>
                  <a:cubicBezTo>
                    <a:pt x="450" y="1944"/>
                    <a:pt x="867" y="2056"/>
                    <a:pt x="1119" y="2170"/>
                  </a:cubicBezTo>
                  <a:lnTo>
                    <a:pt x="1837" y="2308"/>
                  </a:lnTo>
                  <a:cubicBezTo>
                    <a:pt x="2055" y="2337"/>
                    <a:pt x="2304" y="2337"/>
                    <a:pt x="2427" y="2344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prstDash val="dash"/>
              <a:round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6" name=""/>
            <p:cNvSpPr/>
            <p:nvPr/>
          </p:nvSpPr>
          <p:spPr>
            <a:xfrm>
              <a:off x="3803760" y="326880"/>
              <a:ext cx="1635120" cy="1440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7" name=""/>
            <p:cNvSpPr/>
            <p:nvPr/>
          </p:nvSpPr>
          <p:spPr>
            <a:xfrm>
              <a:off x="6200640" y="3917880"/>
              <a:ext cx="7488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8" name=""/>
            <p:cNvSpPr/>
            <p:nvPr/>
          </p:nvSpPr>
          <p:spPr>
            <a:xfrm>
              <a:off x="6153120" y="368928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9" name=""/>
            <p:cNvSpPr/>
            <p:nvPr/>
          </p:nvSpPr>
          <p:spPr>
            <a:xfrm>
              <a:off x="5151600" y="396252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0" name=""/>
            <p:cNvSpPr/>
            <p:nvPr/>
          </p:nvSpPr>
          <p:spPr>
            <a:xfrm>
              <a:off x="4782960" y="3978360"/>
              <a:ext cx="7488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1" name=""/>
            <p:cNvSpPr/>
            <p:nvPr/>
          </p:nvSpPr>
          <p:spPr>
            <a:xfrm>
              <a:off x="3803760" y="556416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2" name=""/>
            <p:cNvSpPr/>
            <p:nvPr/>
          </p:nvSpPr>
          <p:spPr>
            <a:xfrm>
              <a:off x="4483080" y="607860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3" name=""/>
            <p:cNvSpPr/>
            <p:nvPr/>
          </p:nvSpPr>
          <p:spPr>
            <a:xfrm>
              <a:off x="3913200" y="5313240"/>
              <a:ext cx="74520" cy="74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4" name=""/>
            <p:cNvSpPr/>
            <p:nvPr/>
          </p:nvSpPr>
          <p:spPr>
            <a:xfrm>
              <a:off x="4678200" y="5386320"/>
              <a:ext cx="7488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5" name=""/>
            <p:cNvSpPr/>
            <p:nvPr/>
          </p:nvSpPr>
          <p:spPr>
            <a:xfrm>
              <a:off x="3519360" y="5065560"/>
              <a:ext cx="74880" cy="74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6" name=""/>
            <p:cNvSpPr/>
            <p:nvPr/>
          </p:nvSpPr>
          <p:spPr>
            <a:xfrm>
              <a:off x="3703680" y="5014800"/>
              <a:ext cx="74520" cy="74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7" name=""/>
            <p:cNvSpPr/>
            <p:nvPr/>
          </p:nvSpPr>
          <p:spPr>
            <a:xfrm>
              <a:off x="3813120" y="4871880"/>
              <a:ext cx="74520" cy="74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8" name=""/>
            <p:cNvSpPr/>
            <p:nvPr/>
          </p:nvSpPr>
          <p:spPr>
            <a:xfrm>
              <a:off x="1499040" y="2986200"/>
              <a:ext cx="140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Dilatace kapilá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9" name=""/>
            <p:cNvSpPr/>
            <p:nvPr/>
          </p:nvSpPr>
          <p:spPr>
            <a:xfrm>
              <a:off x="1167480" y="1790640"/>
              <a:ext cx="15022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Zvýšení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 </a:t>
              </a:r>
              <a:r>
                <a:rPr b="1" lang="cs-CZ" sz="1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hydrostatického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tlaku v kapilář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0" name=""/>
            <p:cNvSpPr/>
            <p:nvPr/>
          </p:nvSpPr>
          <p:spPr>
            <a:xfrm>
              <a:off x="814320" y="3086280"/>
              <a:ext cx="684360" cy="31680"/>
            </a:xfrm>
            <a:custGeom>
              <a:avLst/>
              <a:gdLst/>
              <a:ahLst/>
              <a:rect l="l" t="t" r="r" b="b"/>
              <a:pathLst>
                <a:path w="431" h="20">
                  <a:moveTo>
                    <a:pt x="0" y="0"/>
                  </a:moveTo>
                  <a:lnTo>
                    <a:pt x="251" y="10"/>
                  </a:lnTo>
                  <a:lnTo>
                    <a:pt x="431" y="2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1" name=""/>
            <p:cNvSpPr/>
            <p:nvPr/>
          </p:nvSpPr>
          <p:spPr>
            <a:xfrm flipV="1">
              <a:off x="1969920" y="2532240"/>
              <a:ext cx="1800" cy="49824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2" name=""/>
            <p:cNvSpPr/>
            <p:nvPr/>
          </p:nvSpPr>
          <p:spPr>
            <a:xfrm flipV="1">
              <a:off x="2075040" y="1359000"/>
              <a:ext cx="1304640" cy="62064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3" name=""/>
            <p:cNvSpPr/>
            <p:nvPr/>
          </p:nvSpPr>
          <p:spPr>
            <a:xfrm>
              <a:off x="7726320" y="102564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4" name=""/>
            <p:cNvSpPr/>
            <p:nvPr/>
          </p:nvSpPr>
          <p:spPr>
            <a:xfrm>
              <a:off x="7304040" y="35712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5" name=""/>
            <p:cNvSpPr/>
            <p:nvPr/>
          </p:nvSpPr>
          <p:spPr>
            <a:xfrm>
              <a:off x="6334200" y="81288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66" name=""/>
            <p:cNvGrpSpPr/>
            <p:nvPr/>
          </p:nvGrpSpPr>
          <p:grpSpPr>
            <a:xfrm>
              <a:off x="-357120" y="0"/>
              <a:ext cx="9866160" cy="7175520"/>
              <a:chOff x="-357120" y="0"/>
              <a:chExt cx="9866160" cy="7175520"/>
            </a:xfrm>
          </p:grpSpPr>
          <p:sp>
            <p:nvSpPr>
              <p:cNvPr id="2067" name=""/>
              <p:cNvSpPr/>
              <p:nvPr/>
            </p:nvSpPr>
            <p:spPr>
              <a:xfrm>
                <a:off x="9144000" y="0"/>
                <a:ext cx="357120" cy="6858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8" name=""/>
              <p:cNvSpPr/>
              <p:nvPr/>
            </p:nvSpPr>
            <p:spPr>
              <a:xfrm>
                <a:off x="-357120" y="0"/>
                <a:ext cx="357120" cy="6980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9" name=""/>
              <p:cNvSpPr/>
              <p:nvPr/>
            </p:nvSpPr>
            <p:spPr>
              <a:xfrm>
                <a:off x="-357120" y="6858000"/>
                <a:ext cx="9866160" cy="317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0" name=""/>
          <p:cNvSpPr/>
          <p:nvPr/>
        </p:nvSpPr>
        <p:spPr>
          <a:xfrm rot="19737000">
            <a:off x="5524560" y="3708000"/>
            <a:ext cx="271440" cy="104760"/>
          </a:xfrm>
          <a:prstGeom prst="leftArrow">
            <a:avLst>
              <a:gd name="adj1" fmla="val 47250"/>
              <a:gd name="adj2" fmla="val 7354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" bIns="2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1" name=""/>
          <p:cNvSpPr/>
          <p:nvPr/>
        </p:nvSpPr>
        <p:spPr>
          <a:xfrm>
            <a:off x="639720" y="1504800"/>
            <a:ext cx="1033560" cy="482616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2" name=""/>
          <p:cNvSpPr/>
          <p:nvPr/>
        </p:nvSpPr>
        <p:spPr>
          <a:xfrm>
            <a:off x="614520" y="1504800"/>
            <a:ext cx="0" cy="482616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3" name=""/>
          <p:cNvSpPr/>
          <p:nvPr/>
        </p:nvSpPr>
        <p:spPr>
          <a:xfrm>
            <a:off x="825840" y="2082960"/>
            <a:ext cx="91980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bílkoviny</a:t>
            </a:r>
            <a:r>
              <a:rPr b="1" lang="cs-CZ" sz="20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fosfáty</a:t>
            </a:r>
            <a:r>
              <a:rPr b="1" lang="cs-CZ" sz="20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4" name=""/>
          <p:cNvSpPr/>
          <p:nvPr/>
        </p:nvSpPr>
        <p:spPr>
          <a:xfrm>
            <a:off x="820440" y="2978280"/>
            <a:ext cx="384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Cl</a:t>
            </a:r>
            <a:r>
              <a:rPr b="0" lang="cs-CZ" sz="1400" spc="-1" strike="noStrike" baseline="40000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5" name=""/>
          <p:cNvSpPr/>
          <p:nvPr/>
        </p:nvSpPr>
        <p:spPr>
          <a:xfrm>
            <a:off x="106560" y="2944800"/>
            <a:ext cx="40752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Cl</a:t>
            </a:r>
            <a:r>
              <a:rPr b="0" lang="cs-CZ" sz="1400" spc="-1" strike="noStrike" baseline="40000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6" name=""/>
          <p:cNvSpPr/>
          <p:nvPr/>
        </p:nvSpPr>
        <p:spPr>
          <a:xfrm>
            <a:off x="859320" y="3929040"/>
            <a:ext cx="39240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cs-CZ" sz="1600" spc="-1" strike="noStrike" baseline="4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7" name=""/>
          <p:cNvSpPr/>
          <p:nvPr/>
        </p:nvSpPr>
        <p:spPr>
          <a:xfrm>
            <a:off x="-21600" y="3897360"/>
            <a:ext cx="366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cs-CZ" sz="1400" spc="-1" strike="noStrike" baseline="4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8" name=""/>
          <p:cNvSpPr/>
          <p:nvPr/>
        </p:nvSpPr>
        <p:spPr>
          <a:xfrm>
            <a:off x="875520" y="4946760"/>
            <a:ext cx="48240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Na</a:t>
            </a:r>
            <a:r>
              <a:rPr b="0" lang="cs-CZ" sz="1600" spc="-1" strike="noStrike" baseline="4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9" name=""/>
          <p:cNvSpPr/>
          <p:nvPr/>
        </p:nvSpPr>
        <p:spPr>
          <a:xfrm>
            <a:off x="-5760" y="5013360"/>
            <a:ext cx="4460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Na</a:t>
            </a:r>
            <a:r>
              <a:rPr b="0" lang="cs-CZ" sz="1400" spc="-1" strike="noStrike" baseline="4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0" name=""/>
          <p:cNvSpPr/>
          <p:nvPr/>
        </p:nvSpPr>
        <p:spPr>
          <a:xfrm>
            <a:off x="655560" y="1643040"/>
            <a:ext cx="385920" cy="631800"/>
          </a:xfrm>
          <a:custGeom>
            <a:avLst/>
            <a:gdLst/>
            <a:ahLst/>
            <a:rect l="l" t="t" r="r" b="b"/>
            <a:pathLst>
              <a:path w="243" h="398">
                <a:moveTo>
                  <a:pt x="150" y="398"/>
                </a:moveTo>
                <a:cubicBezTo>
                  <a:pt x="80" y="334"/>
                  <a:pt x="10" y="271"/>
                  <a:pt x="5" y="212"/>
                </a:cubicBezTo>
                <a:cubicBezTo>
                  <a:pt x="0" y="153"/>
                  <a:pt x="79" y="81"/>
                  <a:pt x="119" y="46"/>
                </a:cubicBezTo>
                <a:cubicBezTo>
                  <a:pt x="159" y="11"/>
                  <a:pt x="201" y="5"/>
                  <a:pt x="243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1" name=""/>
          <p:cNvSpPr/>
          <p:nvPr/>
        </p:nvSpPr>
        <p:spPr>
          <a:xfrm>
            <a:off x="2397240" y="1512720"/>
            <a:ext cx="1033200" cy="482616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2" name=""/>
          <p:cNvSpPr/>
          <p:nvPr/>
        </p:nvSpPr>
        <p:spPr>
          <a:xfrm>
            <a:off x="2413080" y="1512720"/>
            <a:ext cx="0" cy="482616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3" name=""/>
          <p:cNvSpPr/>
          <p:nvPr/>
        </p:nvSpPr>
        <p:spPr>
          <a:xfrm>
            <a:off x="2624400" y="2100240"/>
            <a:ext cx="91980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bílkoviny</a:t>
            </a:r>
            <a:r>
              <a:rPr b="1" lang="cs-CZ" sz="20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fosfáty</a:t>
            </a:r>
            <a:r>
              <a:rPr b="1" lang="cs-CZ" sz="20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4" name=""/>
          <p:cNvSpPr/>
          <p:nvPr/>
        </p:nvSpPr>
        <p:spPr>
          <a:xfrm>
            <a:off x="2587320" y="2765520"/>
            <a:ext cx="38952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Cl</a:t>
            </a:r>
            <a:r>
              <a:rPr b="0" lang="cs-CZ" sz="1600" spc="-1" strike="noStrike" baseline="40000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5" name=""/>
          <p:cNvSpPr/>
          <p:nvPr/>
        </p:nvSpPr>
        <p:spPr>
          <a:xfrm>
            <a:off x="1900440" y="2747880"/>
            <a:ext cx="41220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Cl</a:t>
            </a:r>
            <a:r>
              <a:rPr b="0" lang="cs-CZ" sz="1600" spc="-1" strike="noStrike" baseline="40000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6" name=""/>
          <p:cNvSpPr/>
          <p:nvPr/>
        </p:nvSpPr>
        <p:spPr>
          <a:xfrm>
            <a:off x="2517840" y="3171960"/>
            <a:ext cx="523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cs-CZ" sz="1800" spc="-1" strike="noStrike" baseline="4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7" name=""/>
          <p:cNvSpPr/>
          <p:nvPr/>
        </p:nvSpPr>
        <p:spPr>
          <a:xfrm>
            <a:off x="1818360" y="3970440"/>
            <a:ext cx="366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cs-CZ" sz="1400" spc="-1" strike="noStrike" baseline="4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8" name=""/>
          <p:cNvSpPr/>
          <p:nvPr/>
        </p:nvSpPr>
        <p:spPr>
          <a:xfrm>
            <a:off x="2415240" y="5126040"/>
            <a:ext cx="4460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Na</a:t>
            </a:r>
            <a:r>
              <a:rPr b="0" lang="cs-CZ" sz="1400" spc="-1" strike="noStrike" baseline="4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9" name=""/>
          <p:cNvSpPr/>
          <p:nvPr/>
        </p:nvSpPr>
        <p:spPr>
          <a:xfrm>
            <a:off x="1656360" y="4594320"/>
            <a:ext cx="48240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Na</a:t>
            </a:r>
            <a:r>
              <a:rPr b="0" lang="cs-CZ" sz="1600" spc="-1" strike="noStrike" baseline="4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0" name=""/>
          <p:cNvSpPr/>
          <p:nvPr/>
        </p:nvSpPr>
        <p:spPr>
          <a:xfrm>
            <a:off x="2454120" y="1660680"/>
            <a:ext cx="385920" cy="631800"/>
          </a:xfrm>
          <a:custGeom>
            <a:avLst/>
            <a:gdLst/>
            <a:ahLst/>
            <a:rect l="l" t="t" r="r" b="b"/>
            <a:pathLst>
              <a:path w="243" h="398">
                <a:moveTo>
                  <a:pt x="150" y="398"/>
                </a:moveTo>
                <a:cubicBezTo>
                  <a:pt x="80" y="334"/>
                  <a:pt x="10" y="271"/>
                  <a:pt x="5" y="212"/>
                </a:cubicBezTo>
                <a:cubicBezTo>
                  <a:pt x="0" y="153"/>
                  <a:pt x="79" y="81"/>
                  <a:pt x="119" y="46"/>
                </a:cubicBezTo>
                <a:cubicBezTo>
                  <a:pt x="159" y="11"/>
                  <a:pt x="201" y="5"/>
                  <a:pt x="243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1" name=""/>
          <p:cNvSpPr/>
          <p:nvPr/>
        </p:nvSpPr>
        <p:spPr>
          <a:xfrm>
            <a:off x="4332240" y="1512720"/>
            <a:ext cx="1033560" cy="482616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2" name=""/>
          <p:cNvSpPr/>
          <p:nvPr/>
        </p:nvSpPr>
        <p:spPr>
          <a:xfrm>
            <a:off x="4322880" y="1501920"/>
            <a:ext cx="0" cy="482580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3" name=""/>
          <p:cNvSpPr/>
          <p:nvPr/>
        </p:nvSpPr>
        <p:spPr>
          <a:xfrm>
            <a:off x="4534200" y="2079720"/>
            <a:ext cx="91980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bílkoviny</a:t>
            </a:r>
            <a:r>
              <a:rPr b="1" lang="cs-CZ" sz="20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fosfáty</a:t>
            </a:r>
            <a:r>
              <a:rPr b="1" lang="cs-CZ" sz="20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4" name=""/>
          <p:cNvSpPr/>
          <p:nvPr/>
        </p:nvSpPr>
        <p:spPr>
          <a:xfrm>
            <a:off x="4505040" y="2778120"/>
            <a:ext cx="384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Cl</a:t>
            </a:r>
            <a:r>
              <a:rPr b="0" lang="cs-CZ" sz="1400" spc="-1" strike="noStrike" baseline="40000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5" name=""/>
          <p:cNvSpPr/>
          <p:nvPr/>
        </p:nvSpPr>
        <p:spPr>
          <a:xfrm>
            <a:off x="4363920" y="3244680"/>
            <a:ext cx="530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cs-CZ" sz="1800" spc="-1" strike="noStrike" baseline="4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6" name=""/>
          <p:cNvSpPr/>
          <p:nvPr/>
        </p:nvSpPr>
        <p:spPr>
          <a:xfrm>
            <a:off x="3570480" y="3770280"/>
            <a:ext cx="340920" cy="22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cs-CZ" sz="1200" spc="-1" strike="noStrike" baseline="4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7" name=""/>
          <p:cNvSpPr/>
          <p:nvPr/>
        </p:nvSpPr>
        <p:spPr>
          <a:xfrm>
            <a:off x="4384800" y="5264280"/>
            <a:ext cx="419040" cy="22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Na</a:t>
            </a:r>
            <a:r>
              <a:rPr b="0" lang="cs-CZ" sz="1200" spc="-1" strike="noStrike" baseline="4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8" name=""/>
          <p:cNvSpPr/>
          <p:nvPr/>
        </p:nvSpPr>
        <p:spPr>
          <a:xfrm>
            <a:off x="3483000" y="4646520"/>
            <a:ext cx="550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Na</a:t>
            </a:r>
            <a:r>
              <a:rPr b="1" lang="cs-CZ" sz="1800" spc="-1" strike="noStrike" baseline="4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9" name=""/>
          <p:cNvSpPr/>
          <p:nvPr/>
        </p:nvSpPr>
        <p:spPr>
          <a:xfrm>
            <a:off x="4363920" y="1639800"/>
            <a:ext cx="385920" cy="631800"/>
          </a:xfrm>
          <a:custGeom>
            <a:avLst/>
            <a:gdLst/>
            <a:ahLst/>
            <a:rect l="l" t="t" r="r" b="b"/>
            <a:pathLst>
              <a:path w="243" h="398">
                <a:moveTo>
                  <a:pt x="150" y="398"/>
                </a:moveTo>
                <a:cubicBezTo>
                  <a:pt x="80" y="334"/>
                  <a:pt x="10" y="271"/>
                  <a:pt x="5" y="212"/>
                </a:cubicBezTo>
                <a:cubicBezTo>
                  <a:pt x="0" y="153"/>
                  <a:pt x="79" y="81"/>
                  <a:pt x="119" y="46"/>
                </a:cubicBezTo>
                <a:cubicBezTo>
                  <a:pt x="159" y="11"/>
                  <a:pt x="201" y="5"/>
                  <a:pt x="243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0" name=""/>
          <p:cNvSpPr/>
          <p:nvPr/>
        </p:nvSpPr>
        <p:spPr>
          <a:xfrm>
            <a:off x="6170760" y="1512720"/>
            <a:ext cx="1033200" cy="482616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1" name=""/>
          <p:cNvSpPr/>
          <p:nvPr/>
        </p:nvSpPr>
        <p:spPr>
          <a:xfrm flipH="1">
            <a:off x="6151680" y="1512720"/>
            <a:ext cx="1440" cy="482760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2" name=""/>
          <p:cNvSpPr/>
          <p:nvPr/>
        </p:nvSpPr>
        <p:spPr>
          <a:xfrm>
            <a:off x="6372720" y="2087640"/>
            <a:ext cx="91980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bílkoviny</a:t>
            </a:r>
            <a:r>
              <a:rPr b="1" lang="cs-CZ" sz="20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fosfáty</a:t>
            </a:r>
            <a:r>
              <a:rPr b="1" lang="cs-CZ" sz="20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3" name=""/>
          <p:cNvSpPr/>
          <p:nvPr/>
        </p:nvSpPr>
        <p:spPr>
          <a:xfrm>
            <a:off x="6538680" y="2711520"/>
            <a:ext cx="384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Cl</a:t>
            </a:r>
            <a:r>
              <a:rPr b="0" lang="cs-CZ" sz="1400" spc="-1" strike="noStrike" baseline="40000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4" name=""/>
          <p:cNvSpPr/>
          <p:nvPr/>
        </p:nvSpPr>
        <p:spPr>
          <a:xfrm>
            <a:off x="5257440" y="2579760"/>
            <a:ext cx="4993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Cl</a:t>
            </a:r>
            <a:r>
              <a:rPr b="0" lang="cs-CZ" sz="1800" spc="-1" strike="noStrike" baseline="40000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5" name=""/>
          <p:cNvSpPr/>
          <p:nvPr/>
        </p:nvSpPr>
        <p:spPr>
          <a:xfrm>
            <a:off x="5664240" y="4059360"/>
            <a:ext cx="340920" cy="22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cs-CZ" sz="1200" spc="-1" strike="noStrike" baseline="4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6" name=""/>
          <p:cNvSpPr/>
          <p:nvPr/>
        </p:nvSpPr>
        <p:spPr>
          <a:xfrm>
            <a:off x="6202440" y="1647720"/>
            <a:ext cx="385560" cy="631800"/>
          </a:xfrm>
          <a:custGeom>
            <a:avLst/>
            <a:gdLst/>
            <a:ahLst/>
            <a:rect l="l" t="t" r="r" b="b"/>
            <a:pathLst>
              <a:path w="243" h="398">
                <a:moveTo>
                  <a:pt x="150" y="398"/>
                </a:moveTo>
                <a:cubicBezTo>
                  <a:pt x="80" y="334"/>
                  <a:pt x="10" y="271"/>
                  <a:pt x="5" y="212"/>
                </a:cubicBezTo>
                <a:cubicBezTo>
                  <a:pt x="0" y="153"/>
                  <a:pt x="79" y="81"/>
                  <a:pt x="119" y="46"/>
                </a:cubicBezTo>
                <a:cubicBezTo>
                  <a:pt x="159" y="11"/>
                  <a:pt x="201" y="5"/>
                  <a:pt x="243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7" name=""/>
          <p:cNvSpPr/>
          <p:nvPr/>
        </p:nvSpPr>
        <p:spPr>
          <a:xfrm>
            <a:off x="8061480" y="1512720"/>
            <a:ext cx="1033200" cy="482616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8" name=""/>
          <p:cNvSpPr/>
          <p:nvPr/>
        </p:nvSpPr>
        <p:spPr>
          <a:xfrm>
            <a:off x="8040600" y="1525680"/>
            <a:ext cx="0" cy="482580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9" name=""/>
          <p:cNvSpPr/>
          <p:nvPr/>
        </p:nvSpPr>
        <p:spPr>
          <a:xfrm>
            <a:off x="8252280" y="2103480"/>
            <a:ext cx="91980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bílkoviny</a:t>
            </a:r>
            <a:r>
              <a:rPr b="1" lang="cs-CZ" sz="20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fosfáty</a:t>
            </a:r>
            <a:r>
              <a:rPr b="1" lang="cs-CZ" sz="20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0" name=""/>
          <p:cNvSpPr/>
          <p:nvPr/>
        </p:nvSpPr>
        <p:spPr>
          <a:xfrm>
            <a:off x="7166160" y="3697200"/>
            <a:ext cx="340920" cy="22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cs-CZ" sz="1200" spc="-1" strike="noStrike" baseline="4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1" name=""/>
          <p:cNvSpPr/>
          <p:nvPr/>
        </p:nvSpPr>
        <p:spPr>
          <a:xfrm>
            <a:off x="8082000" y="1663560"/>
            <a:ext cx="385560" cy="631800"/>
          </a:xfrm>
          <a:custGeom>
            <a:avLst/>
            <a:gdLst/>
            <a:ahLst/>
            <a:rect l="l" t="t" r="r" b="b"/>
            <a:pathLst>
              <a:path w="243" h="398">
                <a:moveTo>
                  <a:pt x="150" y="398"/>
                </a:moveTo>
                <a:cubicBezTo>
                  <a:pt x="80" y="334"/>
                  <a:pt x="10" y="271"/>
                  <a:pt x="5" y="212"/>
                </a:cubicBezTo>
                <a:cubicBezTo>
                  <a:pt x="0" y="153"/>
                  <a:pt x="79" y="81"/>
                  <a:pt x="119" y="46"/>
                </a:cubicBezTo>
                <a:cubicBezTo>
                  <a:pt x="159" y="11"/>
                  <a:pt x="201" y="5"/>
                  <a:pt x="243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12" name=""/>
          <p:cNvGrpSpPr/>
          <p:nvPr/>
        </p:nvGrpSpPr>
        <p:grpSpPr>
          <a:xfrm>
            <a:off x="2139480" y="4151160"/>
            <a:ext cx="1467360" cy="830520"/>
            <a:chOff x="2139480" y="4151160"/>
            <a:chExt cx="1467360" cy="830520"/>
          </a:xfrm>
        </p:grpSpPr>
        <p:sp>
          <p:nvSpPr>
            <p:cNvPr id="2113" name=""/>
            <p:cNvSpPr/>
            <p:nvPr/>
          </p:nvSpPr>
          <p:spPr>
            <a:xfrm flipH="1">
              <a:off x="2139120" y="4151160"/>
              <a:ext cx="506520" cy="53028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4" name=""/>
            <p:cNvSpPr/>
            <p:nvPr/>
          </p:nvSpPr>
          <p:spPr>
            <a:xfrm flipH="1">
              <a:off x="2226600" y="4243320"/>
              <a:ext cx="338040" cy="3366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5" name=""/>
            <p:cNvSpPr/>
            <p:nvPr/>
          </p:nvSpPr>
          <p:spPr>
            <a:xfrm flipH="1">
              <a:off x="2967120" y="4268880"/>
              <a:ext cx="209520" cy="20772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6" name=""/>
            <p:cNvSpPr/>
            <p:nvPr/>
          </p:nvSpPr>
          <p:spPr>
            <a:xfrm flipH="1" flipV="1">
              <a:off x="2386080" y="4254480"/>
              <a:ext cx="727200" cy="1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7" name=""/>
            <p:cNvSpPr/>
            <p:nvPr/>
          </p:nvSpPr>
          <p:spPr>
            <a:xfrm flipH="1">
              <a:off x="2410920" y="4464000"/>
              <a:ext cx="654120" cy="112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8" name=""/>
            <p:cNvSpPr/>
            <p:nvPr/>
          </p:nvSpPr>
          <p:spPr>
            <a:xfrm>
              <a:off x="2639880" y="4468680"/>
              <a:ext cx="966960" cy="51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200" spc="-1" strike="noStrike">
                  <a:solidFill>
                    <a:srgbClr val="000000"/>
                  </a:solidFill>
                  <a:latin typeface="Times New Roman"/>
                </a:rPr>
                <a:t>Na</a:t>
              </a:r>
              <a:r>
                <a:rPr b="1" lang="cs-CZ" sz="1200" spc="-1" strike="noStrike" baseline="60000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lang="cs-CZ" sz="1200" spc="-1" strike="noStrike">
                  <a:solidFill>
                    <a:srgbClr val="000000"/>
                  </a:solidFill>
                  <a:latin typeface="Times New Roman"/>
                </a:rPr>
                <a:t>-K</a:t>
              </a:r>
              <a:r>
                <a:rPr b="1" lang="cs-CZ" sz="1200" spc="-1" strike="noStrike" baseline="60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200" spc="-1" strike="noStrike" baseline="60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1200" spc="-1" strike="noStrike">
                  <a:solidFill>
                    <a:srgbClr val="000000"/>
                  </a:solidFill>
                  <a:latin typeface="Times New Roman"/>
                </a:rPr>
                <a:t>ATPáz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9" name=""/>
          <p:cNvSpPr/>
          <p:nvPr/>
        </p:nvSpPr>
        <p:spPr>
          <a:xfrm flipH="1">
            <a:off x="2012400" y="4578480"/>
            <a:ext cx="634680" cy="507960"/>
          </a:xfrm>
          <a:custGeom>
            <a:avLst/>
            <a:gdLst>
              <a:gd name="textAreaLeft" fmla="*/ -360 w 634680"/>
              <a:gd name="textAreaRight" fmla="*/ 634680 w 634680"/>
              <a:gd name="textAreaTop" fmla="*/ 0 h 507960"/>
              <a:gd name="textAreaBottom" fmla="*/ 508320 h 5079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111" stAng="10800000" swAng="5400000"/>
                <a:lnTo>
                  <a:pt x="14688" y="4049"/>
                </a:lnTo>
                <a:lnTo>
                  <a:pt x="14688" y="0"/>
                </a:lnTo>
                <a:lnTo>
                  <a:pt x="21600" y="6079"/>
                </a:lnTo>
                <a:lnTo>
                  <a:pt x="14688" y="12158"/>
                </a:lnTo>
                <a:lnTo>
                  <a:pt x="14688" y="8109"/>
                </a:lnTo>
                <a:lnTo>
                  <a:pt x="12427" y="8109"/>
                </a:lnTo>
                <a:arcTo wR="8367" hR="4051" stAng="16200000" swAng="-5400000"/>
                <a:lnTo>
                  <a:pt x="406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0" name=""/>
          <p:cNvSpPr/>
          <p:nvPr/>
        </p:nvSpPr>
        <p:spPr>
          <a:xfrm flipV="1" rot="16200000">
            <a:off x="2162880" y="3553560"/>
            <a:ext cx="650880" cy="541440"/>
          </a:xfrm>
          <a:custGeom>
            <a:avLst/>
            <a:gdLst>
              <a:gd name="textAreaLeft" fmla="*/ 0 w 650880"/>
              <a:gd name="textAreaRight" fmla="*/ 651240 w 650880"/>
              <a:gd name="textAreaTop" fmla="*/ 360 h 541440"/>
              <a:gd name="textAreaBottom" fmla="*/ 542160 h 5414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7283" stAng="10800000" swAng="5400000"/>
                <a:lnTo>
                  <a:pt x="15699" y="4877"/>
                </a:lnTo>
                <a:lnTo>
                  <a:pt x="15699" y="0"/>
                </a:lnTo>
                <a:lnTo>
                  <a:pt x="21600" y="6079"/>
                </a:lnTo>
                <a:lnTo>
                  <a:pt x="15699" y="12158"/>
                </a:lnTo>
                <a:lnTo>
                  <a:pt x="15699" y="7281"/>
                </a:lnTo>
                <a:lnTo>
                  <a:pt x="12427" y="7281"/>
                </a:lnTo>
                <a:arcTo wR="10023" hR="4879" stAng="16200000" swAng="-5400000"/>
                <a:lnTo>
                  <a:pt x="2404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1" name=""/>
          <p:cNvGrpSpPr/>
          <p:nvPr/>
        </p:nvGrpSpPr>
        <p:grpSpPr>
          <a:xfrm>
            <a:off x="4052520" y="4210200"/>
            <a:ext cx="1467360" cy="830520"/>
            <a:chOff x="4052520" y="4210200"/>
            <a:chExt cx="1467360" cy="830520"/>
          </a:xfrm>
        </p:grpSpPr>
        <p:sp>
          <p:nvSpPr>
            <p:cNvPr id="2122" name=""/>
            <p:cNvSpPr/>
            <p:nvPr/>
          </p:nvSpPr>
          <p:spPr>
            <a:xfrm flipH="1">
              <a:off x="4052160" y="4210200"/>
              <a:ext cx="506520" cy="53028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3" name=""/>
            <p:cNvSpPr/>
            <p:nvPr/>
          </p:nvSpPr>
          <p:spPr>
            <a:xfrm flipH="1">
              <a:off x="4139640" y="4302360"/>
              <a:ext cx="338040" cy="3366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4" name=""/>
            <p:cNvSpPr/>
            <p:nvPr/>
          </p:nvSpPr>
          <p:spPr>
            <a:xfrm flipH="1">
              <a:off x="4880160" y="4327920"/>
              <a:ext cx="209520" cy="20772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5" name=""/>
            <p:cNvSpPr/>
            <p:nvPr/>
          </p:nvSpPr>
          <p:spPr>
            <a:xfrm flipH="1" flipV="1">
              <a:off x="4299120" y="4313520"/>
              <a:ext cx="727200" cy="1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6" name=""/>
            <p:cNvSpPr/>
            <p:nvPr/>
          </p:nvSpPr>
          <p:spPr>
            <a:xfrm flipH="1">
              <a:off x="4323960" y="4523040"/>
              <a:ext cx="654120" cy="112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7" name=""/>
            <p:cNvSpPr/>
            <p:nvPr/>
          </p:nvSpPr>
          <p:spPr>
            <a:xfrm>
              <a:off x="4552920" y="4527720"/>
              <a:ext cx="966960" cy="51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200" spc="-1" strike="noStrike">
                  <a:solidFill>
                    <a:srgbClr val="000000"/>
                  </a:solidFill>
                  <a:latin typeface="Times New Roman"/>
                </a:rPr>
                <a:t>Na</a:t>
              </a:r>
              <a:r>
                <a:rPr b="1" lang="cs-CZ" sz="1200" spc="-1" strike="noStrike" baseline="60000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lang="cs-CZ" sz="1200" spc="-1" strike="noStrike">
                  <a:solidFill>
                    <a:srgbClr val="000000"/>
                  </a:solidFill>
                  <a:latin typeface="Times New Roman"/>
                </a:rPr>
                <a:t>-K</a:t>
              </a:r>
              <a:r>
                <a:rPr b="1" lang="cs-CZ" sz="1200" spc="-1" strike="noStrike" baseline="60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200" spc="-1" strike="noStrike" baseline="60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1200" spc="-1" strike="noStrike">
                  <a:solidFill>
                    <a:srgbClr val="000000"/>
                  </a:solidFill>
                  <a:latin typeface="Times New Roman"/>
                </a:rPr>
                <a:t>ATPáz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28" name=""/>
          <p:cNvSpPr/>
          <p:nvPr/>
        </p:nvSpPr>
        <p:spPr>
          <a:xfrm flipH="1">
            <a:off x="3925800" y="4637160"/>
            <a:ext cx="635040" cy="507960"/>
          </a:xfrm>
          <a:custGeom>
            <a:avLst/>
            <a:gdLst>
              <a:gd name="textAreaLeft" fmla="*/ 360 w 635040"/>
              <a:gd name="textAreaRight" fmla="*/ 635760 w 635040"/>
              <a:gd name="textAreaTop" fmla="*/ 0 h 507960"/>
              <a:gd name="textAreaBottom" fmla="*/ 508320 h 5079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111" stAng="10800000" swAng="5400000"/>
                <a:lnTo>
                  <a:pt x="14688" y="4049"/>
                </a:lnTo>
                <a:lnTo>
                  <a:pt x="14688" y="0"/>
                </a:lnTo>
                <a:lnTo>
                  <a:pt x="21600" y="6079"/>
                </a:lnTo>
                <a:lnTo>
                  <a:pt x="14688" y="12158"/>
                </a:lnTo>
                <a:lnTo>
                  <a:pt x="14688" y="8109"/>
                </a:lnTo>
                <a:lnTo>
                  <a:pt x="12427" y="8109"/>
                </a:lnTo>
                <a:arcTo wR="8367" hR="4051" stAng="16200000" swAng="-5400000"/>
                <a:lnTo>
                  <a:pt x="406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9" name=""/>
          <p:cNvSpPr/>
          <p:nvPr/>
        </p:nvSpPr>
        <p:spPr>
          <a:xfrm flipV="1" rot="16200000">
            <a:off x="4075920" y="3612240"/>
            <a:ext cx="650880" cy="541440"/>
          </a:xfrm>
          <a:custGeom>
            <a:avLst/>
            <a:gdLst>
              <a:gd name="textAreaLeft" fmla="*/ 0 w 650880"/>
              <a:gd name="textAreaRight" fmla="*/ 651240 w 650880"/>
              <a:gd name="textAreaTop" fmla="*/ 360 h 541440"/>
              <a:gd name="textAreaBottom" fmla="*/ 542160 h 5414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7283" stAng="10800000" swAng="5400000"/>
                <a:lnTo>
                  <a:pt x="15699" y="4877"/>
                </a:lnTo>
                <a:lnTo>
                  <a:pt x="15699" y="0"/>
                </a:lnTo>
                <a:lnTo>
                  <a:pt x="21600" y="6079"/>
                </a:lnTo>
                <a:lnTo>
                  <a:pt x="15699" y="12158"/>
                </a:lnTo>
                <a:lnTo>
                  <a:pt x="15699" y="7281"/>
                </a:lnTo>
                <a:lnTo>
                  <a:pt x="12427" y="7281"/>
                </a:lnTo>
                <a:arcTo wR="10023" hR="4879" stAng="16200000" swAng="-5400000"/>
                <a:lnTo>
                  <a:pt x="2404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0" name=""/>
          <p:cNvGrpSpPr/>
          <p:nvPr/>
        </p:nvGrpSpPr>
        <p:grpSpPr>
          <a:xfrm>
            <a:off x="5857920" y="4186080"/>
            <a:ext cx="1466280" cy="830520"/>
            <a:chOff x="5857920" y="4186080"/>
            <a:chExt cx="1466280" cy="830520"/>
          </a:xfrm>
        </p:grpSpPr>
        <p:sp>
          <p:nvSpPr>
            <p:cNvPr id="2131" name=""/>
            <p:cNvSpPr/>
            <p:nvPr/>
          </p:nvSpPr>
          <p:spPr>
            <a:xfrm flipH="1">
              <a:off x="5857920" y="4186080"/>
              <a:ext cx="506160" cy="53028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2" name=""/>
            <p:cNvSpPr/>
            <p:nvPr/>
          </p:nvSpPr>
          <p:spPr>
            <a:xfrm flipH="1">
              <a:off x="5945040" y="4278240"/>
              <a:ext cx="337680" cy="3366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3" name=""/>
            <p:cNvSpPr/>
            <p:nvPr/>
          </p:nvSpPr>
          <p:spPr>
            <a:xfrm flipH="1">
              <a:off x="6684120" y="4303800"/>
              <a:ext cx="209160" cy="20772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4" name=""/>
            <p:cNvSpPr/>
            <p:nvPr/>
          </p:nvSpPr>
          <p:spPr>
            <a:xfrm flipH="1" flipV="1">
              <a:off x="6103440" y="4289400"/>
              <a:ext cx="726840" cy="1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5" name=""/>
            <p:cNvSpPr/>
            <p:nvPr/>
          </p:nvSpPr>
          <p:spPr>
            <a:xfrm flipH="1">
              <a:off x="6129000" y="4498920"/>
              <a:ext cx="653760" cy="112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6" name=""/>
            <p:cNvSpPr/>
            <p:nvPr/>
          </p:nvSpPr>
          <p:spPr>
            <a:xfrm>
              <a:off x="6357600" y="4503600"/>
              <a:ext cx="966600" cy="51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200" spc="-1" strike="noStrike">
                  <a:solidFill>
                    <a:srgbClr val="000000"/>
                  </a:solidFill>
                  <a:latin typeface="Times New Roman"/>
                </a:rPr>
                <a:t>Na</a:t>
              </a:r>
              <a:r>
                <a:rPr b="1" lang="cs-CZ" sz="1200" spc="-1" strike="noStrike" baseline="60000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lang="cs-CZ" sz="1200" spc="-1" strike="noStrike">
                  <a:solidFill>
                    <a:srgbClr val="000000"/>
                  </a:solidFill>
                  <a:latin typeface="Times New Roman"/>
                </a:rPr>
                <a:t>-K</a:t>
              </a:r>
              <a:r>
                <a:rPr b="1" lang="cs-CZ" sz="1200" spc="-1" strike="noStrike" baseline="60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200" spc="-1" strike="noStrike" baseline="60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1200" spc="-1" strike="noStrike">
                  <a:solidFill>
                    <a:srgbClr val="000000"/>
                  </a:solidFill>
                  <a:latin typeface="Times New Roman"/>
                </a:rPr>
                <a:t>ATPáz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37" name=""/>
          <p:cNvSpPr/>
          <p:nvPr/>
        </p:nvSpPr>
        <p:spPr>
          <a:xfrm flipH="1">
            <a:off x="5764320" y="4605480"/>
            <a:ext cx="635040" cy="507960"/>
          </a:xfrm>
          <a:custGeom>
            <a:avLst/>
            <a:gdLst>
              <a:gd name="textAreaLeft" fmla="*/ 360 w 635040"/>
              <a:gd name="textAreaRight" fmla="*/ 635760 w 635040"/>
              <a:gd name="textAreaTop" fmla="*/ 0 h 507960"/>
              <a:gd name="textAreaBottom" fmla="*/ 508320 h 5079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111" stAng="10800000" swAng="5400000"/>
                <a:lnTo>
                  <a:pt x="14688" y="4049"/>
                </a:lnTo>
                <a:lnTo>
                  <a:pt x="14688" y="0"/>
                </a:lnTo>
                <a:lnTo>
                  <a:pt x="21600" y="6079"/>
                </a:lnTo>
                <a:lnTo>
                  <a:pt x="14688" y="12158"/>
                </a:lnTo>
                <a:lnTo>
                  <a:pt x="14688" y="8109"/>
                </a:lnTo>
                <a:lnTo>
                  <a:pt x="12427" y="8109"/>
                </a:lnTo>
                <a:arcTo wR="8367" hR="4051" stAng="16200000" swAng="-5400000"/>
                <a:lnTo>
                  <a:pt x="406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8" name=""/>
          <p:cNvSpPr/>
          <p:nvPr/>
        </p:nvSpPr>
        <p:spPr>
          <a:xfrm flipV="1" rot="16200000">
            <a:off x="5913720" y="3580560"/>
            <a:ext cx="650880" cy="541080"/>
          </a:xfrm>
          <a:custGeom>
            <a:avLst/>
            <a:gdLst>
              <a:gd name="textAreaLeft" fmla="*/ 0 w 650880"/>
              <a:gd name="textAreaRight" fmla="*/ 651240 w 650880"/>
              <a:gd name="textAreaTop" fmla="*/ -360 h 541080"/>
              <a:gd name="textAreaBottom" fmla="*/ 541080 h 5410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7283" stAng="10800000" swAng="5400000"/>
                <a:lnTo>
                  <a:pt x="15699" y="4877"/>
                </a:lnTo>
                <a:lnTo>
                  <a:pt x="15699" y="0"/>
                </a:lnTo>
                <a:lnTo>
                  <a:pt x="21600" y="6079"/>
                </a:lnTo>
                <a:lnTo>
                  <a:pt x="15699" y="12158"/>
                </a:lnTo>
                <a:lnTo>
                  <a:pt x="15699" y="7281"/>
                </a:lnTo>
                <a:lnTo>
                  <a:pt x="12427" y="7281"/>
                </a:lnTo>
                <a:arcTo wR="10023" hR="4879" stAng="16200000" swAng="-5400000"/>
                <a:lnTo>
                  <a:pt x="2404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9" name=""/>
          <p:cNvGrpSpPr/>
          <p:nvPr/>
        </p:nvGrpSpPr>
        <p:grpSpPr>
          <a:xfrm>
            <a:off x="7778880" y="4170240"/>
            <a:ext cx="1466280" cy="830520"/>
            <a:chOff x="7778880" y="4170240"/>
            <a:chExt cx="1466280" cy="830520"/>
          </a:xfrm>
        </p:grpSpPr>
        <p:sp>
          <p:nvSpPr>
            <p:cNvPr id="2140" name=""/>
            <p:cNvSpPr/>
            <p:nvPr/>
          </p:nvSpPr>
          <p:spPr>
            <a:xfrm flipH="1">
              <a:off x="7778880" y="4170240"/>
              <a:ext cx="506160" cy="53028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1" name=""/>
            <p:cNvSpPr/>
            <p:nvPr/>
          </p:nvSpPr>
          <p:spPr>
            <a:xfrm flipH="1">
              <a:off x="7866000" y="4262400"/>
              <a:ext cx="337680" cy="3366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2" name=""/>
            <p:cNvSpPr/>
            <p:nvPr/>
          </p:nvSpPr>
          <p:spPr>
            <a:xfrm flipH="1">
              <a:off x="8605080" y="4287960"/>
              <a:ext cx="209160" cy="20772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3" name=""/>
            <p:cNvSpPr/>
            <p:nvPr/>
          </p:nvSpPr>
          <p:spPr>
            <a:xfrm flipH="1" flipV="1">
              <a:off x="8024400" y="4273560"/>
              <a:ext cx="726840" cy="1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4" name=""/>
            <p:cNvSpPr/>
            <p:nvPr/>
          </p:nvSpPr>
          <p:spPr>
            <a:xfrm flipH="1">
              <a:off x="8049960" y="4483080"/>
              <a:ext cx="653760" cy="112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5" name=""/>
            <p:cNvSpPr/>
            <p:nvPr/>
          </p:nvSpPr>
          <p:spPr>
            <a:xfrm>
              <a:off x="8278560" y="4487760"/>
              <a:ext cx="966600" cy="51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200" spc="-1" strike="noStrike">
                  <a:solidFill>
                    <a:srgbClr val="000000"/>
                  </a:solidFill>
                  <a:latin typeface="Times New Roman"/>
                </a:rPr>
                <a:t>Na</a:t>
              </a:r>
              <a:r>
                <a:rPr b="1" lang="cs-CZ" sz="1200" spc="-1" strike="noStrike" baseline="60000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lang="cs-CZ" sz="1200" spc="-1" strike="noStrike">
                  <a:solidFill>
                    <a:srgbClr val="000000"/>
                  </a:solidFill>
                  <a:latin typeface="Times New Roman"/>
                </a:rPr>
                <a:t>-K</a:t>
              </a:r>
              <a:r>
                <a:rPr b="1" lang="cs-CZ" sz="1200" spc="-1" strike="noStrike" baseline="60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200" spc="-1" strike="noStrike" baseline="60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1200" spc="-1" strike="noStrike">
                  <a:solidFill>
                    <a:srgbClr val="000000"/>
                  </a:solidFill>
                  <a:latin typeface="Times New Roman"/>
                </a:rPr>
                <a:t>ATPáz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46" name=""/>
          <p:cNvSpPr/>
          <p:nvPr/>
        </p:nvSpPr>
        <p:spPr>
          <a:xfrm flipH="1">
            <a:off x="7651800" y="4597560"/>
            <a:ext cx="635040" cy="507960"/>
          </a:xfrm>
          <a:custGeom>
            <a:avLst/>
            <a:gdLst>
              <a:gd name="textAreaLeft" fmla="*/ 360 w 635040"/>
              <a:gd name="textAreaRight" fmla="*/ 635760 w 635040"/>
              <a:gd name="textAreaTop" fmla="*/ 0 h 507960"/>
              <a:gd name="textAreaBottom" fmla="*/ 508320 h 5079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111" stAng="10800000" swAng="5400000"/>
                <a:lnTo>
                  <a:pt x="14688" y="4049"/>
                </a:lnTo>
                <a:lnTo>
                  <a:pt x="14688" y="0"/>
                </a:lnTo>
                <a:lnTo>
                  <a:pt x="21600" y="6079"/>
                </a:lnTo>
                <a:lnTo>
                  <a:pt x="14688" y="12158"/>
                </a:lnTo>
                <a:lnTo>
                  <a:pt x="14688" y="8109"/>
                </a:lnTo>
                <a:lnTo>
                  <a:pt x="12427" y="8109"/>
                </a:lnTo>
                <a:arcTo wR="8367" hR="4051" stAng="16200000" swAng="-5400000"/>
                <a:lnTo>
                  <a:pt x="406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7" name=""/>
          <p:cNvSpPr/>
          <p:nvPr/>
        </p:nvSpPr>
        <p:spPr>
          <a:xfrm>
            <a:off x="3797640" y="2747880"/>
            <a:ext cx="41220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Cl</a:t>
            </a:r>
            <a:r>
              <a:rPr b="0" lang="cs-CZ" sz="1600" spc="-1" strike="noStrike" baseline="40000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8" name=""/>
          <p:cNvSpPr/>
          <p:nvPr/>
        </p:nvSpPr>
        <p:spPr>
          <a:xfrm rot="14452200">
            <a:off x="4129200" y="3306240"/>
            <a:ext cx="234720" cy="508320"/>
          </a:xfrm>
          <a:prstGeom prst="can">
            <a:avLst>
              <a:gd name="adj" fmla="val 22083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9" name=""/>
          <p:cNvSpPr/>
          <p:nvPr/>
        </p:nvSpPr>
        <p:spPr>
          <a:xfrm rot="19737000">
            <a:off x="3792600" y="3661920"/>
            <a:ext cx="333360" cy="96840"/>
          </a:xfrm>
          <a:prstGeom prst="leftArrow">
            <a:avLst>
              <a:gd name="adj1" fmla="val 50000"/>
              <a:gd name="adj2" fmla="val 8605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0" name=""/>
          <p:cNvSpPr/>
          <p:nvPr/>
        </p:nvSpPr>
        <p:spPr>
          <a:xfrm>
            <a:off x="3735360" y="4075200"/>
            <a:ext cx="340920" cy="22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cs-CZ" sz="1200" spc="-1" strike="noStrike" baseline="4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1" name=""/>
          <p:cNvSpPr/>
          <p:nvPr/>
        </p:nvSpPr>
        <p:spPr>
          <a:xfrm rot="17794800">
            <a:off x="4264560" y="5180400"/>
            <a:ext cx="74520" cy="241200"/>
          </a:xfrm>
          <a:prstGeom prst="can">
            <a:avLst>
              <a:gd name="adj" fmla="val 11689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2" name=""/>
          <p:cNvSpPr/>
          <p:nvPr/>
        </p:nvSpPr>
        <p:spPr>
          <a:xfrm rot="7410600">
            <a:off x="3744360" y="4952880"/>
            <a:ext cx="355680" cy="453960"/>
          </a:xfrm>
          <a:prstGeom prst="uturnArrow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3" name=""/>
          <p:cNvSpPr/>
          <p:nvPr/>
        </p:nvSpPr>
        <p:spPr>
          <a:xfrm>
            <a:off x="6237360" y="3124080"/>
            <a:ext cx="620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cs-CZ" sz="2000" spc="-1" strike="noStrike" baseline="4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4" name=""/>
          <p:cNvSpPr/>
          <p:nvPr/>
        </p:nvSpPr>
        <p:spPr>
          <a:xfrm rot="14452200">
            <a:off x="5959080" y="3249000"/>
            <a:ext cx="235080" cy="507960"/>
          </a:xfrm>
          <a:prstGeom prst="can">
            <a:avLst>
              <a:gd name="adj" fmla="val 22083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5" name=""/>
          <p:cNvSpPr/>
          <p:nvPr/>
        </p:nvSpPr>
        <p:spPr>
          <a:xfrm flipV="1" rot="3389400">
            <a:off x="5729040" y="3573000"/>
            <a:ext cx="239760" cy="338040"/>
          </a:xfrm>
          <a:prstGeom prst="uturnArrow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6" name=""/>
          <p:cNvSpPr/>
          <p:nvPr/>
        </p:nvSpPr>
        <p:spPr>
          <a:xfrm>
            <a:off x="5675400" y="3803760"/>
            <a:ext cx="32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7" name=""/>
          <p:cNvSpPr/>
          <p:nvPr/>
        </p:nvSpPr>
        <p:spPr>
          <a:xfrm>
            <a:off x="5524560" y="3708360"/>
            <a:ext cx="32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8" name=""/>
          <p:cNvSpPr/>
          <p:nvPr/>
        </p:nvSpPr>
        <p:spPr>
          <a:xfrm>
            <a:off x="5586480" y="3781440"/>
            <a:ext cx="32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9" name=""/>
          <p:cNvSpPr/>
          <p:nvPr/>
        </p:nvSpPr>
        <p:spPr>
          <a:xfrm>
            <a:off x="5762520" y="3762360"/>
            <a:ext cx="32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0" name=""/>
          <p:cNvSpPr/>
          <p:nvPr/>
        </p:nvSpPr>
        <p:spPr>
          <a:xfrm>
            <a:off x="5284800" y="3703680"/>
            <a:ext cx="377640" cy="22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cs-CZ" sz="1200" spc="-1" strike="noStrike" baseline="4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1" name=""/>
          <p:cNvSpPr/>
          <p:nvPr/>
        </p:nvSpPr>
        <p:spPr>
          <a:xfrm rot="13783800">
            <a:off x="5493600" y="3983760"/>
            <a:ext cx="271440" cy="85680"/>
          </a:xfrm>
          <a:prstGeom prst="leftArrow">
            <a:avLst>
              <a:gd name="adj1" fmla="val 47250"/>
              <a:gd name="adj2" fmla="val 8992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480" bIns="-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2" name=""/>
          <p:cNvSpPr/>
          <p:nvPr/>
        </p:nvSpPr>
        <p:spPr>
          <a:xfrm>
            <a:off x="5253120" y="482112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Na</a:t>
            </a:r>
            <a:r>
              <a:rPr b="1" lang="cs-CZ" sz="2000" spc="-1" strike="noStrike" baseline="4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3" name=""/>
          <p:cNvSpPr/>
          <p:nvPr/>
        </p:nvSpPr>
        <p:spPr>
          <a:xfrm rot="18754200">
            <a:off x="6102720" y="5523480"/>
            <a:ext cx="76320" cy="496800"/>
          </a:xfrm>
          <a:prstGeom prst="can">
            <a:avLst>
              <a:gd name="adj" fmla="val 11689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4" name=""/>
          <p:cNvSpPr/>
          <p:nvPr/>
        </p:nvSpPr>
        <p:spPr>
          <a:xfrm rot="13767600">
            <a:off x="5753520" y="5492880"/>
            <a:ext cx="269640" cy="74520"/>
          </a:xfrm>
          <a:prstGeom prst="leftArrow">
            <a:avLst>
              <a:gd name="adj1" fmla="val 47250"/>
              <a:gd name="adj2" fmla="val 10270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160" bIns="-11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5" name=""/>
          <p:cNvSpPr/>
          <p:nvPr/>
        </p:nvSpPr>
        <p:spPr>
          <a:xfrm rot="8512200">
            <a:off x="5476680" y="5199840"/>
            <a:ext cx="303120" cy="414360"/>
          </a:xfrm>
          <a:prstGeom prst="uturnArrow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6" name=""/>
          <p:cNvSpPr/>
          <p:nvPr/>
        </p:nvSpPr>
        <p:spPr>
          <a:xfrm rot="5400000">
            <a:off x="6228720" y="5519520"/>
            <a:ext cx="363600" cy="74520"/>
          </a:xfrm>
          <a:prstGeom prst="leftArrow">
            <a:avLst>
              <a:gd name="adj1" fmla="val 47250"/>
              <a:gd name="adj2" fmla="val 13849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160" bIns="-11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7" name=""/>
          <p:cNvSpPr/>
          <p:nvPr/>
        </p:nvSpPr>
        <p:spPr>
          <a:xfrm rot="330600">
            <a:off x="6339960" y="2746080"/>
            <a:ext cx="271440" cy="95040"/>
          </a:xfrm>
          <a:prstGeom prst="leftArrow">
            <a:avLst>
              <a:gd name="adj1" fmla="val 47250"/>
              <a:gd name="adj2" fmla="val 810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8" name=""/>
          <p:cNvSpPr/>
          <p:nvPr/>
        </p:nvSpPr>
        <p:spPr>
          <a:xfrm flipV="1" rot="5785200">
            <a:off x="6002280" y="2500920"/>
            <a:ext cx="235080" cy="507960"/>
          </a:xfrm>
          <a:prstGeom prst="can">
            <a:avLst>
              <a:gd name="adj" fmla="val 22083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9" name=""/>
          <p:cNvSpPr/>
          <p:nvPr/>
        </p:nvSpPr>
        <p:spPr>
          <a:xfrm rot="330600">
            <a:off x="5705280" y="2688840"/>
            <a:ext cx="271440" cy="95400"/>
          </a:xfrm>
          <a:prstGeom prst="leftArrow">
            <a:avLst>
              <a:gd name="adj1" fmla="val 47250"/>
              <a:gd name="adj2" fmla="val 80761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0" name=""/>
          <p:cNvSpPr/>
          <p:nvPr/>
        </p:nvSpPr>
        <p:spPr>
          <a:xfrm>
            <a:off x="6808680" y="2587680"/>
            <a:ext cx="32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1" name=""/>
          <p:cNvSpPr/>
          <p:nvPr/>
        </p:nvSpPr>
        <p:spPr>
          <a:xfrm>
            <a:off x="6769080" y="2678040"/>
            <a:ext cx="32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2" name=""/>
          <p:cNvSpPr/>
          <p:nvPr/>
        </p:nvSpPr>
        <p:spPr>
          <a:xfrm>
            <a:off x="6686640" y="2727360"/>
            <a:ext cx="32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3" name=""/>
          <p:cNvSpPr/>
          <p:nvPr/>
        </p:nvSpPr>
        <p:spPr>
          <a:xfrm>
            <a:off x="6575400" y="2768760"/>
            <a:ext cx="32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4" name=""/>
          <p:cNvSpPr/>
          <p:nvPr/>
        </p:nvSpPr>
        <p:spPr>
          <a:xfrm>
            <a:off x="6789600" y="2484360"/>
            <a:ext cx="32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5" name=""/>
          <p:cNvSpPr/>
          <p:nvPr/>
        </p:nvSpPr>
        <p:spPr>
          <a:xfrm>
            <a:off x="6713640" y="2401920"/>
            <a:ext cx="32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6" name=""/>
          <p:cNvSpPr/>
          <p:nvPr/>
        </p:nvSpPr>
        <p:spPr>
          <a:xfrm>
            <a:off x="8124840" y="6140520"/>
            <a:ext cx="4190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Times New Roman"/>
              </a:rPr>
              <a:t>Na</a:t>
            </a:r>
            <a:r>
              <a:rPr b="1" lang="cs-CZ" sz="1000" spc="-1" strike="noStrike" baseline="4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7" name=""/>
          <p:cNvSpPr/>
          <p:nvPr/>
        </p:nvSpPr>
        <p:spPr>
          <a:xfrm rot="20611200">
            <a:off x="8010360" y="5468760"/>
            <a:ext cx="74880" cy="719280"/>
          </a:xfrm>
          <a:prstGeom prst="can">
            <a:avLst>
              <a:gd name="adj" fmla="val 11689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78" name=""/>
          <p:cNvGrpSpPr/>
          <p:nvPr/>
        </p:nvGrpSpPr>
        <p:grpSpPr>
          <a:xfrm>
            <a:off x="7464240" y="4920480"/>
            <a:ext cx="538920" cy="621000"/>
            <a:chOff x="7464240" y="4920480"/>
            <a:chExt cx="538920" cy="621000"/>
          </a:xfrm>
        </p:grpSpPr>
        <p:sp>
          <p:nvSpPr>
            <p:cNvPr id="2179" name=""/>
            <p:cNvSpPr/>
            <p:nvPr/>
          </p:nvSpPr>
          <p:spPr>
            <a:xfrm rot="15145800">
              <a:off x="7776360" y="5343840"/>
              <a:ext cx="271440" cy="104760"/>
            </a:xfrm>
            <a:prstGeom prst="leftArrow">
              <a:avLst>
                <a:gd name="adj1" fmla="val 47250"/>
                <a:gd name="adj2" fmla="val 73545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0" name=""/>
            <p:cNvSpPr/>
            <p:nvPr/>
          </p:nvSpPr>
          <p:spPr>
            <a:xfrm rot="9891000">
              <a:off x="7517160" y="4959720"/>
              <a:ext cx="362160" cy="453960"/>
            </a:xfrm>
            <a:prstGeom prst="uturnArrow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1" name=""/>
          <p:cNvSpPr/>
          <p:nvPr/>
        </p:nvSpPr>
        <p:spPr>
          <a:xfrm rot="5400000">
            <a:off x="8029440" y="5608440"/>
            <a:ext cx="436680" cy="201600"/>
          </a:xfrm>
          <a:prstGeom prst="leftArrow">
            <a:avLst>
              <a:gd name="adj1" fmla="val 47250"/>
              <a:gd name="adj2" fmla="val 614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2" name=""/>
          <p:cNvSpPr/>
          <p:nvPr/>
        </p:nvSpPr>
        <p:spPr>
          <a:xfrm>
            <a:off x="8083440" y="5276880"/>
            <a:ext cx="4190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Times New Roman"/>
              </a:rPr>
              <a:t>Na</a:t>
            </a:r>
            <a:r>
              <a:rPr b="1" lang="cs-CZ" sz="1000" spc="-1" strike="noStrike" baseline="4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3" name=""/>
          <p:cNvSpPr/>
          <p:nvPr/>
        </p:nvSpPr>
        <p:spPr>
          <a:xfrm>
            <a:off x="6199200" y="5181480"/>
            <a:ext cx="419040" cy="22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Na</a:t>
            </a:r>
            <a:r>
              <a:rPr b="0" lang="cs-CZ" sz="1200" spc="-1" strike="noStrike" baseline="4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4" name=""/>
          <p:cNvSpPr/>
          <p:nvPr/>
        </p:nvSpPr>
        <p:spPr>
          <a:xfrm>
            <a:off x="6281640" y="5862600"/>
            <a:ext cx="419040" cy="22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Na</a:t>
            </a:r>
            <a:r>
              <a:rPr b="0" lang="cs-CZ" sz="1200" spc="-1" strike="noStrike" baseline="4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5" name=""/>
          <p:cNvSpPr/>
          <p:nvPr/>
        </p:nvSpPr>
        <p:spPr>
          <a:xfrm>
            <a:off x="7097760" y="4772160"/>
            <a:ext cx="7891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Na</a:t>
            </a:r>
            <a:r>
              <a:rPr b="1" lang="cs-CZ" sz="2400" spc="-1" strike="noStrike" baseline="4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6" name=""/>
          <p:cNvSpPr/>
          <p:nvPr/>
        </p:nvSpPr>
        <p:spPr>
          <a:xfrm rot="19737000">
            <a:off x="7429680" y="3684240"/>
            <a:ext cx="271440" cy="104760"/>
          </a:xfrm>
          <a:prstGeom prst="leftArrow">
            <a:avLst>
              <a:gd name="adj1" fmla="val 47250"/>
              <a:gd name="adj2" fmla="val 7354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" bIns="2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7" name=""/>
          <p:cNvSpPr/>
          <p:nvPr/>
        </p:nvSpPr>
        <p:spPr>
          <a:xfrm flipV="1" rot="16200000">
            <a:off x="7819200" y="3556800"/>
            <a:ext cx="650880" cy="541440"/>
          </a:xfrm>
          <a:custGeom>
            <a:avLst/>
            <a:gdLst>
              <a:gd name="textAreaLeft" fmla="*/ 0 w 650880"/>
              <a:gd name="textAreaRight" fmla="*/ 651240 w 650880"/>
              <a:gd name="textAreaTop" fmla="*/ 360 h 541440"/>
              <a:gd name="textAreaBottom" fmla="*/ 542160 h 5414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7283" stAng="10800000" swAng="5400000"/>
                <a:lnTo>
                  <a:pt x="15699" y="4877"/>
                </a:lnTo>
                <a:lnTo>
                  <a:pt x="15699" y="0"/>
                </a:lnTo>
                <a:lnTo>
                  <a:pt x="21600" y="6079"/>
                </a:lnTo>
                <a:lnTo>
                  <a:pt x="15699" y="12158"/>
                </a:lnTo>
                <a:lnTo>
                  <a:pt x="15699" y="7281"/>
                </a:lnTo>
                <a:lnTo>
                  <a:pt x="12427" y="7281"/>
                </a:lnTo>
                <a:arcTo wR="10023" hR="4879" stAng="16200000" swAng="-5400000"/>
                <a:lnTo>
                  <a:pt x="2404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8" name=""/>
          <p:cNvSpPr/>
          <p:nvPr/>
        </p:nvSpPr>
        <p:spPr>
          <a:xfrm rot="14452200">
            <a:off x="7864560" y="3225600"/>
            <a:ext cx="234720" cy="507960"/>
          </a:xfrm>
          <a:prstGeom prst="can">
            <a:avLst>
              <a:gd name="adj" fmla="val 22083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9" name=""/>
          <p:cNvSpPr/>
          <p:nvPr/>
        </p:nvSpPr>
        <p:spPr>
          <a:xfrm flipV="1" rot="3389400">
            <a:off x="7634160" y="3549240"/>
            <a:ext cx="239760" cy="338040"/>
          </a:xfrm>
          <a:prstGeom prst="uturnArrow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0" name=""/>
          <p:cNvSpPr/>
          <p:nvPr/>
        </p:nvSpPr>
        <p:spPr>
          <a:xfrm>
            <a:off x="7580160" y="3780000"/>
            <a:ext cx="32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1" name=""/>
          <p:cNvSpPr/>
          <p:nvPr/>
        </p:nvSpPr>
        <p:spPr>
          <a:xfrm>
            <a:off x="7429680" y="3684600"/>
            <a:ext cx="32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2" name=""/>
          <p:cNvSpPr/>
          <p:nvPr/>
        </p:nvSpPr>
        <p:spPr>
          <a:xfrm>
            <a:off x="7491240" y="3757680"/>
            <a:ext cx="32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3" name=""/>
          <p:cNvSpPr/>
          <p:nvPr/>
        </p:nvSpPr>
        <p:spPr>
          <a:xfrm>
            <a:off x="7667640" y="3738600"/>
            <a:ext cx="32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4" name=""/>
          <p:cNvSpPr/>
          <p:nvPr/>
        </p:nvSpPr>
        <p:spPr>
          <a:xfrm rot="13783800">
            <a:off x="7398360" y="3959640"/>
            <a:ext cx="271440" cy="86040"/>
          </a:xfrm>
          <a:prstGeom prst="leftArrow">
            <a:avLst>
              <a:gd name="adj1" fmla="val 47250"/>
              <a:gd name="adj2" fmla="val 8954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5" name=""/>
          <p:cNvSpPr/>
          <p:nvPr/>
        </p:nvSpPr>
        <p:spPr>
          <a:xfrm>
            <a:off x="7574040" y="4041720"/>
            <a:ext cx="340920" cy="22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cs-CZ" sz="1200" spc="-1" strike="noStrike" baseline="4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6" name=""/>
          <p:cNvSpPr/>
          <p:nvPr/>
        </p:nvSpPr>
        <p:spPr>
          <a:xfrm>
            <a:off x="8134200" y="3147840"/>
            <a:ext cx="62100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cs-CZ" sz="2400" spc="-1" strike="noStrike" baseline="4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7" name=""/>
          <p:cNvSpPr/>
          <p:nvPr/>
        </p:nvSpPr>
        <p:spPr>
          <a:xfrm>
            <a:off x="8497800" y="2828880"/>
            <a:ext cx="3315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Times New Roman"/>
              </a:rPr>
              <a:t>Cl</a:t>
            </a:r>
            <a:r>
              <a:rPr b="1" lang="cs-CZ" sz="1000" spc="-1" strike="noStrike" baseline="40000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8" name=""/>
          <p:cNvSpPr/>
          <p:nvPr/>
        </p:nvSpPr>
        <p:spPr>
          <a:xfrm>
            <a:off x="8402760" y="2719440"/>
            <a:ext cx="32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9" name=""/>
          <p:cNvSpPr/>
          <p:nvPr/>
        </p:nvSpPr>
        <p:spPr>
          <a:xfrm>
            <a:off x="8381880" y="2782800"/>
            <a:ext cx="32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0" name=""/>
          <p:cNvSpPr/>
          <p:nvPr/>
        </p:nvSpPr>
        <p:spPr>
          <a:xfrm>
            <a:off x="8258040" y="2844720"/>
            <a:ext cx="32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1" name=""/>
          <p:cNvSpPr/>
          <p:nvPr/>
        </p:nvSpPr>
        <p:spPr>
          <a:xfrm>
            <a:off x="8329680" y="2824200"/>
            <a:ext cx="32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2" name=""/>
          <p:cNvSpPr/>
          <p:nvPr/>
        </p:nvSpPr>
        <p:spPr>
          <a:xfrm>
            <a:off x="8393040" y="2670120"/>
            <a:ext cx="32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3" name=""/>
          <p:cNvSpPr/>
          <p:nvPr/>
        </p:nvSpPr>
        <p:spPr>
          <a:xfrm>
            <a:off x="8373960" y="2619360"/>
            <a:ext cx="32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4" name=""/>
          <p:cNvSpPr/>
          <p:nvPr/>
        </p:nvSpPr>
        <p:spPr>
          <a:xfrm flipV="1" rot="18852000">
            <a:off x="8252280" y="2660760"/>
            <a:ext cx="181440" cy="338040"/>
          </a:xfrm>
          <a:prstGeom prst="uturnArrow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5" name=""/>
          <p:cNvSpPr/>
          <p:nvPr/>
        </p:nvSpPr>
        <p:spPr>
          <a:xfrm flipV="1" rot="7944600">
            <a:off x="7932240" y="2402280"/>
            <a:ext cx="234720" cy="507960"/>
          </a:xfrm>
          <a:prstGeom prst="can">
            <a:avLst>
              <a:gd name="adj" fmla="val 22083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6" name=""/>
          <p:cNvSpPr/>
          <p:nvPr/>
        </p:nvSpPr>
        <p:spPr>
          <a:xfrm flipV="1" rot="13686600">
            <a:off x="7728480" y="2415960"/>
            <a:ext cx="271080" cy="95760"/>
          </a:xfrm>
          <a:prstGeom prst="leftArrow">
            <a:avLst>
              <a:gd name="adj1" fmla="val 47250"/>
              <a:gd name="adj2" fmla="val 80351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7" name=""/>
          <p:cNvSpPr/>
          <p:nvPr/>
        </p:nvSpPr>
        <p:spPr>
          <a:xfrm>
            <a:off x="7310160" y="2101680"/>
            <a:ext cx="54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Cl</a:t>
            </a:r>
            <a:r>
              <a:rPr b="1" lang="cs-CZ" sz="2000" spc="-1" strike="noStrike" baseline="40000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8" name=""/>
          <p:cNvGrpSpPr/>
          <p:nvPr/>
        </p:nvGrpSpPr>
        <p:grpSpPr>
          <a:xfrm>
            <a:off x="4016520" y="649440"/>
            <a:ext cx="603000" cy="576000"/>
            <a:chOff x="4016520" y="649440"/>
            <a:chExt cx="603000" cy="576000"/>
          </a:xfrm>
        </p:grpSpPr>
        <p:sp>
          <p:nvSpPr>
            <p:cNvPr id="2209" name=""/>
            <p:cNvSpPr/>
            <p:nvPr/>
          </p:nvSpPr>
          <p:spPr>
            <a:xfrm>
              <a:off x="4016520" y="649440"/>
              <a:ext cx="603000" cy="5760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0" name=""/>
            <p:cNvSpPr/>
            <p:nvPr/>
          </p:nvSpPr>
          <p:spPr>
            <a:xfrm>
              <a:off x="4038480" y="682560"/>
              <a:ext cx="539280" cy="520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1" name=""/>
            <p:cNvSpPr/>
            <p:nvPr/>
          </p:nvSpPr>
          <p:spPr>
            <a:xfrm>
              <a:off x="4302000" y="709560"/>
              <a:ext cx="129960" cy="303120"/>
            </a:xfrm>
            <a:custGeom>
              <a:avLst/>
              <a:gdLst/>
              <a:ahLst/>
              <a:rect l="l" t="t" r="r" b="b"/>
              <a:pathLst>
                <a:path w="82" h="191">
                  <a:moveTo>
                    <a:pt x="1" y="188"/>
                  </a:moveTo>
                  <a:lnTo>
                    <a:pt x="0" y="0"/>
                  </a:lnTo>
                  <a:cubicBezTo>
                    <a:pt x="31" y="0"/>
                    <a:pt x="55" y="2"/>
                    <a:pt x="82" y="21"/>
                  </a:cubicBezTo>
                  <a:lnTo>
                    <a:pt x="3" y="191"/>
                  </a:lnTo>
                  <a:lnTo>
                    <a:pt x="1" y="188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2" name=""/>
            <p:cNvSpPr/>
            <p:nvPr/>
          </p:nvSpPr>
          <p:spPr>
            <a:xfrm rot="3520200">
              <a:off x="4246920" y="759600"/>
              <a:ext cx="228600" cy="296640"/>
            </a:xfrm>
            <a:custGeom>
              <a:avLst/>
              <a:gdLst/>
              <a:ahLst/>
              <a:rect l="l" t="t" r="r" b="b"/>
              <a:pathLst>
                <a:path w="406" h="695">
                  <a:moveTo>
                    <a:pt x="406" y="610"/>
                  </a:moveTo>
                  <a:lnTo>
                    <a:pt x="154" y="230"/>
                  </a:lnTo>
                  <a:lnTo>
                    <a:pt x="269" y="176"/>
                  </a:lnTo>
                  <a:lnTo>
                    <a:pt x="0" y="0"/>
                  </a:lnTo>
                  <a:lnTo>
                    <a:pt x="8" y="320"/>
                  </a:lnTo>
                  <a:lnTo>
                    <a:pt x="89" y="206"/>
                  </a:lnTo>
                  <a:lnTo>
                    <a:pt x="358" y="695"/>
                  </a:lnTo>
                  <a:lnTo>
                    <a:pt x="406" y="6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13" name=""/>
          <p:cNvGrpSpPr/>
          <p:nvPr/>
        </p:nvGrpSpPr>
        <p:grpSpPr>
          <a:xfrm>
            <a:off x="5853240" y="649440"/>
            <a:ext cx="603000" cy="576000"/>
            <a:chOff x="5853240" y="649440"/>
            <a:chExt cx="603000" cy="576000"/>
          </a:xfrm>
        </p:grpSpPr>
        <p:sp>
          <p:nvSpPr>
            <p:cNvPr id="2214" name=""/>
            <p:cNvSpPr/>
            <p:nvPr/>
          </p:nvSpPr>
          <p:spPr>
            <a:xfrm>
              <a:off x="5853240" y="649440"/>
              <a:ext cx="603000" cy="5760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5" name=""/>
            <p:cNvSpPr/>
            <p:nvPr/>
          </p:nvSpPr>
          <p:spPr>
            <a:xfrm>
              <a:off x="5875200" y="682560"/>
              <a:ext cx="539280" cy="520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6" name=""/>
            <p:cNvSpPr/>
            <p:nvPr/>
          </p:nvSpPr>
          <p:spPr>
            <a:xfrm>
              <a:off x="6127560" y="703440"/>
              <a:ext cx="190080" cy="311040"/>
            </a:xfrm>
            <a:custGeom>
              <a:avLst/>
              <a:gdLst/>
              <a:ahLst/>
              <a:rect l="l" t="t" r="r" b="b"/>
              <a:pathLst>
                <a:path w="120" h="196">
                  <a:moveTo>
                    <a:pt x="1" y="193"/>
                  </a:moveTo>
                  <a:lnTo>
                    <a:pt x="0" y="5"/>
                  </a:lnTo>
                  <a:cubicBezTo>
                    <a:pt x="35" y="0"/>
                    <a:pt x="53" y="7"/>
                    <a:pt x="73" y="16"/>
                  </a:cubicBezTo>
                  <a:cubicBezTo>
                    <a:pt x="93" y="25"/>
                    <a:pt x="105" y="26"/>
                    <a:pt x="120" y="59"/>
                  </a:cubicBezTo>
                  <a:cubicBezTo>
                    <a:pt x="52" y="118"/>
                    <a:pt x="3" y="196"/>
                    <a:pt x="3" y="196"/>
                  </a:cubicBezTo>
                  <a:lnTo>
                    <a:pt x="1" y="193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7" name=""/>
            <p:cNvSpPr/>
            <p:nvPr/>
          </p:nvSpPr>
          <p:spPr>
            <a:xfrm rot="4677000">
              <a:off x="6089760" y="784800"/>
              <a:ext cx="228600" cy="296640"/>
            </a:xfrm>
            <a:custGeom>
              <a:avLst/>
              <a:gdLst/>
              <a:ahLst/>
              <a:rect l="l" t="t" r="r" b="b"/>
              <a:pathLst>
                <a:path w="406" h="695">
                  <a:moveTo>
                    <a:pt x="406" y="610"/>
                  </a:moveTo>
                  <a:lnTo>
                    <a:pt x="154" y="230"/>
                  </a:lnTo>
                  <a:lnTo>
                    <a:pt x="269" y="176"/>
                  </a:lnTo>
                  <a:lnTo>
                    <a:pt x="0" y="0"/>
                  </a:lnTo>
                  <a:lnTo>
                    <a:pt x="8" y="320"/>
                  </a:lnTo>
                  <a:lnTo>
                    <a:pt x="89" y="206"/>
                  </a:lnTo>
                  <a:lnTo>
                    <a:pt x="358" y="695"/>
                  </a:lnTo>
                  <a:lnTo>
                    <a:pt x="406" y="6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18" name=""/>
          <p:cNvGrpSpPr/>
          <p:nvPr/>
        </p:nvGrpSpPr>
        <p:grpSpPr>
          <a:xfrm>
            <a:off x="7767720" y="649440"/>
            <a:ext cx="603000" cy="576000"/>
            <a:chOff x="7767720" y="649440"/>
            <a:chExt cx="603000" cy="576000"/>
          </a:xfrm>
        </p:grpSpPr>
        <p:sp>
          <p:nvSpPr>
            <p:cNvPr id="2219" name=""/>
            <p:cNvSpPr/>
            <p:nvPr/>
          </p:nvSpPr>
          <p:spPr>
            <a:xfrm>
              <a:off x="7767720" y="649440"/>
              <a:ext cx="603000" cy="5760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0" name=""/>
            <p:cNvSpPr/>
            <p:nvPr/>
          </p:nvSpPr>
          <p:spPr>
            <a:xfrm>
              <a:off x="7789680" y="682560"/>
              <a:ext cx="540000" cy="520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1" name=""/>
            <p:cNvSpPr/>
            <p:nvPr/>
          </p:nvSpPr>
          <p:spPr>
            <a:xfrm>
              <a:off x="8035920" y="709560"/>
              <a:ext cx="252360" cy="328680"/>
            </a:xfrm>
            <a:custGeom>
              <a:avLst/>
              <a:gdLst/>
              <a:ahLst/>
              <a:rect l="l" t="t" r="r" b="b"/>
              <a:pathLst>
                <a:path w="159" h="207">
                  <a:moveTo>
                    <a:pt x="3" y="188"/>
                  </a:moveTo>
                  <a:cubicBezTo>
                    <a:pt x="2" y="197"/>
                    <a:pt x="1" y="207"/>
                    <a:pt x="1" y="177"/>
                  </a:cubicBezTo>
                  <a:lnTo>
                    <a:pt x="0" y="5"/>
                  </a:lnTo>
                  <a:cubicBezTo>
                    <a:pt x="35" y="0"/>
                    <a:pt x="57" y="8"/>
                    <a:pt x="79" y="17"/>
                  </a:cubicBezTo>
                  <a:cubicBezTo>
                    <a:pt x="101" y="26"/>
                    <a:pt x="122" y="44"/>
                    <a:pt x="135" y="59"/>
                  </a:cubicBezTo>
                  <a:cubicBezTo>
                    <a:pt x="148" y="74"/>
                    <a:pt x="141" y="72"/>
                    <a:pt x="159" y="108"/>
                  </a:cubicBezTo>
                  <a:cubicBezTo>
                    <a:pt x="88" y="148"/>
                    <a:pt x="9" y="197"/>
                    <a:pt x="9" y="197"/>
                  </a:cubicBezTo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2" name=""/>
            <p:cNvSpPr/>
            <p:nvPr/>
          </p:nvSpPr>
          <p:spPr>
            <a:xfrm rot="6058800">
              <a:off x="7995240" y="827640"/>
              <a:ext cx="228600" cy="296640"/>
            </a:xfrm>
            <a:custGeom>
              <a:avLst/>
              <a:gdLst/>
              <a:ahLst/>
              <a:rect l="l" t="t" r="r" b="b"/>
              <a:pathLst>
                <a:path w="406" h="695">
                  <a:moveTo>
                    <a:pt x="406" y="610"/>
                  </a:moveTo>
                  <a:lnTo>
                    <a:pt x="154" y="230"/>
                  </a:lnTo>
                  <a:lnTo>
                    <a:pt x="269" y="176"/>
                  </a:lnTo>
                  <a:lnTo>
                    <a:pt x="0" y="0"/>
                  </a:lnTo>
                  <a:lnTo>
                    <a:pt x="8" y="320"/>
                  </a:lnTo>
                  <a:lnTo>
                    <a:pt x="89" y="206"/>
                  </a:lnTo>
                  <a:lnTo>
                    <a:pt x="358" y="695"/>
                  </a:lnTo>
                  <a:lnTo>
                    <a:pt x="406" y="6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3" name=""/>
          <p:cNvSpPr/>
          <p:nvPr/>
        </p:nvSpPr>
        <p:spPr>
          <a:xfrm>
            <a:off x="2905200" y="1405080"/>
            <a:ext cx="179280" cy="1695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baseline="8000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4" name=""/>
          <p:cNvSpPr/>
          <p:nvPr/>
        </p:nvSpPr>
        <p:spPr>
          <a:xfrm>
            <a:off x="1816200" y="1425600"/>
            <a:ext cx="179280" cy="169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baseline="4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25" name=""/>
          <p:cNvCxnSpPr>
            <a:stCxn id="2224" idx="0"/>
          </p:cNvCxnSpPr>
          <p:nvPr/>
        </p:nvCxnSpPr>
        <p:spPr>
          <a:xfrm flipH="1" flipV="1" rot="5400000">
            <a:off x="1760760" y="1082880"/>
            <a:ext cx="488160" cy="197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226" name=""/>
          <p:cNvCxnSpPr>
            <a:stCxn id="2223" idx="0"/>
          </p:cNvCxnSpPr>
          <p:nvPr/>
        </p:nvCxnSpPr>
        <p:spPr>
          <a:xfrm flipV="1" rot="16200000">
            <a:off x="2617200" y="1026360"/>
            <a:ext cx="467640" cy="2894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227" name=""/>
          <p:cNvSpPr/>
          <p:nvPr/>
        </p:nvSpPr>
        <p:spPr>
          <a:xfrm>
            <a:off x="4773600" y="1457280"/>
            <a:ext cx="179280" cy="169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baseline="8000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8" name=""/>
          <p:cNvSpPr/>
          <p:nvPr/>
        </p:nvSpPr>
        <p:spPr>
          <a:xfrm>
            <a:off x="3708360" y="1469880"/>
            <a:ext cx="179280" cy="169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baseline="4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29" name=""/>
          <p:cNvCxnSpPr>
            <a:stCxn id="2228" idx="0"/>
            <a:endCxn id="2210" idx="2"/>
          </p:cNvCxnSpPr>
          <p:nvPr/>
        </p:nvCxnSpPr>
        <p:spPr>
          <a:xfrm flipH="1" flipV="1" rot="5400000">
            <a:off x="3654720" y="1086120"/>
            <a:ext cx="527760" cy="240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230" name=""/>
          <p:cNvCxnSpPr>
            <a:endCxn id="2209" idx="6"/>
          </p:cNvCxnSpPr>
          <p:nvPr/>
        </p:nvCxnSpPr>
        <p:spPr>
          <a:xfrm flipV="1" rot="16200000">
            <a:off x="4481640" y="1074960"/>
            <a:ext cx="519840" cy="2448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231" name=""/>
          <p:cNvSpPr/>
          <p:nvPr/>
        </p:nvSpPr>
        <p:spPr>
          <a:xfrm>
            <a:off x="6551640" y="1444680"/>
            <a:ext cx="179280" cy="169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baseline="8000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2" name=""/>
          <p:cNvSpPr/>
          <p:nvPr/>
        </p:nvSpPr>
        <p:spPr>
          <a:xfrm>
            <a:off x="5527800" y="1449360"/>
            <a:ext cx="179280" cy="169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baseline="4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33" name=""/>
          <p:cNvCxnSpPr>
            <a:stCxn id="2232" idx="0"/>
            <a:endCxn id="2215" idx="2"/>
          </p:cNvCxnSpPr>
          <p:nvPr/>
        </p:nvCxnSpPr>
        <p:spPr>
          <a:xfrm flipH="1" flipV="1" rot="5400000">
            <a:off x="5493240" y="1067040"/>
            <a:ext cx="506880" cy="2577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234" name=""/>
          <p:cNvCxnSpPr>
            <a:endCxn id="2215" idx="6"/>
          </p:cNvCxnSpPr>
          <p:nvPr/>
        </p:nvCxnSpPr>
        <p:spPr>
          <a:xfrm flipV="1" rot="16200000">
            <a:off x="6277320" y="1079640"/>
            <a:ext cx="502560" cy="2275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235" name=""/>
          <p:cNvSpPr/>
          <p:nvPr/>
        </p:nvSpPr>
        <p:spPr>
          <a:xfrm>
            <a:off x="8461440" y="1424160"/>
            <a:ext cx="179280" cy="1695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baseline="8000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6" name=""/>
          <p:cNvSpPr/>
          <p:nvPr/>
        </p:nvSpPr>
        <p:spPr>
          <a:xfrm>
            <a:off x="7437600" y="1428840"/>
            <a:ext cx="179280" cy="169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baseline="4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37" name=""/>
          <p:cNvCxnSpPr>
            <a:stCxn id="2236" idx="0"/>
            <a:endCxn id="2220" idx="2"/>
          </p:cNvCxnSpPr>
          <p:nvPr/>
        </p:nvCxnSpPr>
        <p:spPr>
          <a:xfrm flipH="1" flipV="1" rot="5400000">
            <a:off x="7415640" y="1054440"/>
            <a:ext cx="486720" cy="2628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238" name=""/>
          <p:cNvCxnSpPr>
            <a:endCxn id="2220" idx="6"/>
          </p:cNvCxnSpPr>
          <p:nvPr/>
        </p:nvCxnSpPr>
        <p:spPr>
          <a:xfrm flipV="1" rot="16200000">
            <a:off x="8199360" y="1071720"/>
            <a:ext cx="482040" cy="222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239" name=""/>
          <p:cNvGrpSpPr/>
          <p:nvPr/>
        </p:nvGrpSpPr>
        <p:grpSpPr>
          <a:xfrm>
            <a:off x="287280" y="649440"/>
            <a:ext cx="603000" cy="576000"/>
            <a:chOff x="287280" y="649440"/>
            <a:chExt cx="603000" cy="576000"/>
          </a:xfrm>
        </p:grpSpPr>
        <p:sp>
          <p:nvSpPr>
            <p:cNvPr id="2240" name=""/>
            <p:cNvSpPr/>
            <p:nvPr/>
          </p:nvSpPr>
          <p:spPr>
            <a:xfrm>
              <a:off x="287280" y="649440"/>
              <a:ext cx="603000" cy="5760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1" name=""/>
            <p:cNvSpPr/>
            <p:nvPr/>
          </p:nvSpPr>
          <p:spPr>
            <a:xfrm>
              <a:off x="309240" y="682560"/>
              <a:ext cx="540000" cy="520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2" name=""/>
            <p:cNvSpPr/>
            <p:nvPr/>
          </p:nvSpPr>
          <p:spPr>
            <a:xfrm rot="2269800">
              <a:off x="469440" y="755640"/>
              <a:ext cx="228600" cy="297000"/>
            </a:xfrm>
            <a:custGeom>
              <a:avLst/>
              <a:gdLst/>
              <a:ahLst/>
              <a:rect l="l" t="t" r="r" b="b"/>
              <a:pathLst>
                <a:path w="406" h="695">
                  <a:moveTo>
                    <a:pt x="406" y="610"/>
                  </a:moveTo>
                  <a:lnTo>
                    <a:pt x="154" y="230"/>
                  </a:lnTo>
                  <a:lnTo>
                    <a:pt x="269" y="176"/>
                  </a:lnTo>
                  <a:lnTo>
                    <a:pt x="0" y="0"/>
                  </a:lnTo>
                  <a:lnTo>
                    <a:pt x="8" y="320"/>
                  </a:lnTo>
                  <a:lnTo>
                    <a:pt x="89" y="206"/>
                  </a:lnTo>
                  <a:lnTo>
                    <a:pt x="358" y="695"/>
                  </a:lnTo>
                  <a:lnTo>
                    <a:pt x="406" y="6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43" name=""/>
          <p:cNvSpPr/>
          <p:nvPr/>
        </p:nvSpPr>
        <p:spPr>
          <a:xfrm>
            <a:off x="1089000" y="1405080"/>
            <a:ext cx="179280" cy="1695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4" name=""/>
          <p:cNvSpPr/>
          <p:nvPr/>
        </p:nvSpPr>
        <p:spPr>
          <a:xfrm>
            <a:off x="0" y="1415880"/>
            <a:ext cx="179280" cy="169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45" name=""/>
          <p:cNvCxnSpPr>
            <a:stCxn id="2244" idx="0"/>
            <a:endCxn id="2240" idx="2"/>
          </p:cNvCxnSpPr>
          <p:nvPr/>
        </p:nvCxnSpPr>
        <p:spPr>
          <a:xfrm flipH="1" flipV="1" rot="5400000">
            <a:off x="-50400" y="1077840"/>
            <a:ext cx="478440" cy="197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246" name=""/>
          <p:cNvCxnSpPr>
            <a:stCxn id="2243" idx="0"/>
            <a:endCxn id="2240" idx="6"/>
          </p:cNvCxnSpPr>
          <p:nvPr/>
        </p:nvCxnSpPr>
        <p:spPr>
          <a:xfrm flipV="1" rot="16200000">
            <a:off x="801000" y="1026360"/>
            <a:ext cx="467640" cy="2894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247" name=""/>
          <p:cNvSpPr/>
          <p:nvPr/>
        </p:nvSpPr>
        <p:spPr>
          <a:xfrm>
            <a:off x="401040" y="62784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8" name=""/>
          <p:cNvSpPr/>
          <p:nvPr/>
        </p:nvSpPr>
        <p:spPr>
          <a:xfrm>
            <a:off x="2251080" y="62784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9" name=""/>
          <p:cNvSpPr/>
          <p:nvPr/>
        </p:nvSpPr>
        <p:spPr>
          <a:xfrm>
            <a:off x="4140000" y="627840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0" name=""/>
          <p:cNvSpPr/>
          <p:nvPr/>
        </p:nvSpPr>
        <p:spPr>
          <a:xfrm>
            <a:off x="5878440" y="62784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1" name=""/>
          <p:cNvSpPr/>
          <p:nvPr/>
        </p:nvSpPr>
        <p:spPr>
          <a:xfrm>
            <a:off x="7808760" y="627840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2" name=""/>
          <p:cNvSpPr/>
          <p:nvPr/>
        </p:nvSpPr>
        <p:spPr>
          <a:xfrm>
            <a:off x="2139840" y="647640"/>
            <a:ext cx="603360" cy="5763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3" name=""/>
          <p:cNvSpPr/>
          <p:nvPr/>
        </p:nvSpPr>
        <p:spPr>
          <a:xfrm>
            <a:off x="2162160" y="681120"/>
            <a:ext cx="539640" cy="5205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4" name=""/>
          <p:cNvSpPr/>
          <p:nvPr/>
        </p:nvSpPr>
        <p:spPr>
          <a:xfrm>
            <a:off x="2425680" y="708120"/>
            <a:ext cx="69840" cy="303120"/>
          </a:xfrm>
          <a:custGeom>
            <a:avLst/>
            <a:gdLst/>
            <a:ahLst/>
            <a:rect l="l" t="t" r="r" b="b"/>
            <a:pathLst>
              <a:path w="82" h="191">
                <a:moveTo>
                  <a:pt x="1" y="188"/>
                </a:moveTo>
                <a:lnTo>
                  <a:pt x="0" y="0"/>
                </a:lnTo>
                <a:cubicBezTo>
                  <a:pt x="31" y="0"/>
                  <a:pt x="55" y="2"/>
                  <a:pt x="82" y="21"/>
                </a:cubicBezTo>
                <a:lnTo>
                  <a:pt x="3" y="191"/>
                </a:lnTo>
                <a:lnTo>
                  <a:pt x="1" y="188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5" name=""/>
          <p:cNvSpPr/>
          <p:nvPr/>
        </p:nvSpPr>
        <p:spPr>
          <a:xfrm rot="2525400">
            <a:off x="2347560" y="701640"/>
            <a:ext cx="228600" cy="297000"/>
          </a:xfrm>
          <a:custGeom>
            <a:avLst/>
            <a:gdLst/>
            <a:ahLst/>
            <a:rect l="l" t="t" r="r" b="b"/>
            <a:pathLst>
              <a:path w="406" h="695">
                <a:moveTo>
                  <a:pt x="406" y="610"/>
                </a:moveTo>
                <a:lnTo>
                  <a:pt x="154" y="230"/>
                </a:lnTo>
                <a:lnTo>
                  <a:pt x="269" y="176"/>
                </a:lnTo>
                <a:lnTo>
                  <a:pt x="0" y="0"/>
                </a:lnTo>
                <a:lnTo>
                  <a:pt x="8" y="320"/>
                </a:lnTo>
                <a:lnTo>
                  <a:pt x="89" y="206"/>
                </a:lnTo>
                <a:lnTo>
                  <a:pt x="358" y="695"/>
                </a:lnTo>
                <a:lnTo>
                  <a:pt x="406" y="61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6" name=""/>
          <p:cNvSpPr/>
          <p:nvPr/>
        </p:nvSpPr>
        <p:spPr>
          <a:xfrm>
            <a:off x="824040" y="13622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7" name=""/>
          <p:cNvSpPr/>
          <p:nvPr/>
        </p:nvSpPr>
        <p:spPr>
          <a:xfrm>
            <a:off x="858960" y="15019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8" name=""/>
          <p:cNvSpPr/>
          <p:nvPr/>
        </p:nvSpPr>
        <p:spPr>
          <a:xfrm>
            <a:off x="885960" y="12542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9" name=""/>
          <p:cNvSpPr/>
          <p:nvPr/>
        </p:nvSpPr>
        <p:spPr>
          <a:xfrm>
            <a:off x="888840" y="11685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0" name=""/>
          <p:cNvSpPr/>
          <p:nvPr/>
        </p:nvSpPr>
        <p:spPr>
          <a:xfrm>
            <a:off x="741240" y="965160"/>
            <a:ext cx="367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1" name=""/>
          <p:cNvSpPr/>
          <p:nvPr/>
        </p:nvSpPr>
        <p:spPr>
          <a:xfrm>
            <a:off x="804960" y="11271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2" name=""/>
          <p:cNvSpPr/>
          <p:nvPr/>
        </p:nvSpPr>
        <p:spPr>
          <a:xfrm>
            <a:off x="663480" y="14414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3" name=""/>
          <p:cNvSpPr/>
          <p:nvPr/>
        </p:nvSpPr>
        <p:spPr>
          <a:xfrm>
            <a:off x="743040" y="19256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4" name=""/>
          <p:cNvSpPr/>
          <p:nvPr/>
        </p:nvSpPr>
        <p:spPr>
          <a:xfrm>
            <a:off x="717480" y="137304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5" name=""/>
          <p:cNvSpPr/>
          <p:nvPr/>
        </p:nvSpPr>
        <p:spPr>
          <a:xfrm>
            <a:off x="649440" y="1173240"/>
            <a:ext cx="3636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6" name=""/>
          <p:cNvSpPr/>
          <p:nvPr/>
        </p:nvSpPr>
        <p:spPr>
          <a:xfrm>
            <a:off x="787320" y="12524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7" name=""/>
          <p:cNvSpPr/>
          <p:nvPr/>
        </p:nvSpPr>
        <p:spPr>
          <a:xfrm>
            <a:off x="720720" y="107460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8" name=""/>
          <p:cNvSpPr/>
          <p:nvPr/>
        </p:nvSpPr>
        <p:spPr>
          <a:xfrm>
            <a:off x="863640" y="103968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9" name=""/>
          <p:cNvSpPr/>
          <p:nvPr/>
        </p:nvSpPr>
        <p:spPr>
          <a:xfrm>
            <a:off x="824040" y="9446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0" name=""/>
          <p:cNvSpPr/>
          <p:nvPr/>
        </p:nvSpPr>
        <p:spPr>
          <a:xfrm>
            <a:off x="882720" y="18050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1" name=""/>
          <p:cNvSpPr/>
          <p:nvPr/>
        </p:nvSpPr>
        <p:spPr>
          <a:xfrm>
            <a:off x="725400" y="1781280"/>
            <a:ext cx="34920" cy="29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560" bIns="-25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2" name=""/>
          <p:cNvSpPr/>
          <p:nvPr/>
        </p:nvSpPr>
        <p:spPr>
          <a:xfrm>
            <a:off x="797040" y="1844640"/>
            <a:ext cx="3636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3" name=""/>
          <p:cNvSpPr/>
          <p:nvPr/>
        </p:nvSpPr>
        <p:spPr>
          <a:xfrm>
            <a:off x="777960" y="17272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4" name=""/>
          <p:cNvSpPr/>
          <p:nvPr/>
        </p:nvSpPr>
        <p:spPr>
          <a:xfrm>
            <a:off x="849240" y="17319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5" name=""/>
          <p:cNvSpPr/>
          <p:nvPr/>
        </p:nvSpPr>
        <p:spPr>
          <a:xfrm>
            <a:off x="873000" y="16588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6" name=""/>
          <p:cNvSpPr/>
          <p:nvPr/>
        </p:nvSpPr>
        <p:spPr>
          <a:xfrm>
            <a:off x="774720" y="166356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7" name=""/>
          <p:cNvSpPr/>
          <p:nvPr/>
        </p:nvSpPr>
        <p:spPr>
          <a:xfrm>
            <a:off x="676440" y="1627200"/>
            <a:ext cx="34920" cy="302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8" name=""/>
          <p:cNvSpPr/>
          <p:nvPr/>
        </p:nvSpPr>
        <p:spPr>
          <a:xfrm>
            <a:off x="681120" y="17128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9" name=""/>
          <p:cNvSpPr/>
          <p:nvPr/>
        </p:nvSpPr>
        <p:spPr>
          <a:xfrm>
            <a:off x="907920" y="15685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0" name=""/>
          <p:cNvSpPr/>
          <p:nvPr/>
        </p:nvSpPr>
        <p:spPr>
          <a:xfrm>
            <a:off x="757080" y="153180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1" name=""/>
          <p:cNvSpPr/>
          <p:nvPr/>
        </p:nvSpPr>
        <p:spPr>
          <a:xfrm>
            <a:off x="876240" y="13971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2" name=""/>
          <p:cNvSpPr/>
          <p:nvPr/>
        </p:nvSpPr>
        <p:spPr>
          <a:xfrm>
            <a:off x="968400" y="14382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3" name=""/>
          <p:cNvSpPr/>
          <p:nvPr/>
        </p:nvSpPr>
        <p:spPr>
          <a:xfrm>
            <a:off x="1003320" y="15778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4" name=""/>
          <p:cNvSpPr/>
          <p:nvPr/>
        </p:nvSpPr>
        <p:spPr>
          <a:xfrm>
            <a:off x="1030320" y="133020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5" name=""/>
          <p:cNvSpPr/>
          <p:nvPr/>
        </p:nvSpPr>
        <p:spPr>
          <a:xfrm>
            <a:off x="1033560" y="12445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6" name=""/>
          <p:cNvSpPr/>
          <p:nvPr/>
        </p:nvSpPr>
        <p:spPr>
          <a:xfrm>
            <a:off x="1444680" y="10098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7" name=""/>
          <p:cNvSpPr/>
          <p:nvPr/>
        </p:nvSpPr>
        <p:spPr>
          <a:xfrm>
            <a:off x="1023840" y="9097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8" name=""/>
          <p:cNvSpPr/>
          <p:nvPr/>
        </p:nvSpPr>
        <p:spPr>
          <a:xfrm>
            <a:off x="932040" y="13287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9" name=""/>
          <p:cNvSpPr/>
          <p:nvPr/>
        </p:nvSpPr>
        <p:spPr>
          <a:xfrm>
            <a:off x="1008000" y="11160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0" name=""/>
          <p:cNvSpPr/>
          <p:nvPr/>
        </p:nvSpPr>
        <p:spPr>
          <a:xfrm>
            <a:off x="968400" y="102060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1" name=""/>
          <p:cNvSpPr/>
          <p:nvPr/>
        </p:nvSpPr>
        <p:spPr>
          <a:xfrm>
            <a:off x="1027080" y="18813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2" name=""/>
          <p:cNvSpPr/>
          <p:nvPr/>
        </p:nvSpPr>
        <p:spPr>
          <a:xfrm>
            <a:off x="941400" y="1920960"/>
            <a:ext cx="3636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3" name=""/>
          <p:cNvSpPr/>
          <p:nvPr/>
        </p:nvSpPr>
        <p:spPr>
          <a:xfrm>
            <a:off x="1217520" y="19731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4" name=""/>
          <p:cNvSpPr/>
          <p:nvPr/>
        </p:nvSpPr>
        <p:spPr>
          <a:xfrm>
            <a:off x="993600" y="1808280"/>
            <a:ext cx="3528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5" name=""/>
          <p:cNvSpPr/>
          <p:nvPr/>
        </p:nvSpPr>
        <p:spPr>
          <a:xfrm>
            <a:off x="1017720" y="17352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6" name=""/>
          <p:cNvSpPr/>
          <p:nvPr/>
        </p:nvSpPr>
        <p:spPr>
          <a:xfrm>
            <a:off x="1006560" y="16844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7" name=""/>
          <p:cNvSpPr/>
          <p:nvPr/>
        </p:nvSpPr>
        <p:spPr>
          <a:xfrm>
            <a:off x="1020600" y="14731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8" name=""/>
          <p:cNvSpPr/>
          <p:nvPr/>
        </p:nvSpPr>
        <p:spPr>
          <a:xfrm>
            <a:off x="2119320" y="10270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9" name=""/>
          <p:cNvSpPr/>
          <p:nvPr/>
        </p:nvSpPr>
        <p:spPr>
          <a:xfrm>
            <a:off x="2035080" y="98568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0" name=""/>
          <p:cNvSpPr/>
          <p:nvPr/>
        </p:nvSpPr>
        <p:spPr>
          <a:xfrm>
            <a:off x="1887480" y="9399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1" name=""/>
          <p:cNvSpPr/>
          <p:nvPr/>
        </p:nvSpPr>
        <p:spPr>
          <a:xfrm>
            <a:off x="2100240" y="186516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2" name=""/>
          <p:cNvSpPr/>
          <p:nvPr/>
        </p:nvSpPr>
        <p:spPr>
          <a:xfrm>
            <a:off x="2093760" y="8985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3" name=""/>
          <p:cNvSpPr/>
          <p:nvPr/>
        </p:nvSpPr>
        <p:spPr>
          <a:xfrm>
            <a:off x="2112840" y="166356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4" name=""/>
          <p:cNvSpPr/>
          <p:nvPr/>
        </p:nvSpPr>
        <p:spPr>
          <a:xfrm>
            <a:off x="1652760" y="11923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5" name=""/>
          <p:cNvSpPr/>
          <p:nvPr/>
        </p:nvSpPr>
        <p:spPr>
          <a:xfrm>
            <a:off x="1494000" y="13842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6" name=""/>
          <p:cNvSpPr/>
          <p:nvPr/>
        </p:nvSpPr>
        <p:spPr>
          <a:xfrm>
            <a:off x="2103480" y="15177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7" name=""/>
          <p:cNvSpPr/>
          <p:nvPr/>
        </p:nvSpPr>
        <p:spPr>
          <a:xfrm>
            <a:off x="1635120" y="10382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8" name=""/>
          <p:cNvSpPr/>
          <p:nvPr/>
        </p:nvSpPr>
        <p:spPr>
          <a:xfrm>
            <a:off x="1338120" y="13478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9" name=""/>
          <p:cNvSpPr/>
          <p:nvPr/>
        </p:nvSpPr>
        <p:spPr>
          <a:xfrm>
            <a:off x="1895400" y="11415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0" name=""/>
          <p:cNvSpPr/>
          <p:nvPr/>
        </p:nvSpPr>
        <p:spPr>
          <a:xfrm>
            <a:off x="1467000" y="11667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1" name=""/>
          <p:cNvSpPr/>
          <p:nvPr/>
        </p:nvSpPr>
        <p:spPr>
          <a:xfrm>
            <a:off x="2173320" y="19303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2" name=""/>
          <p:cNvSpPr/>
          <p:nvPr/>
        </p:nvSpPr>
        <p:spPr>
          <a:xfrm>
            <a:off x="2238480" y="9748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3" name=""/>
          <p:cNvSpPr/>
          <p:nvPr/>
        </p:nvSpPr>
        <p:spPr>
          <a:xfrm>
            <a:off x="2198520" y="8794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4" name=""/>
          <p:cNvSpPr/>
          <p:nvPr/>
        </p:nvSpPr>
        <p:spPr>
          <a:xfrm>
            <a:off x="2257560" y="17398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5" name=""/>
          <p:cNvSpPr/>
          <p:nvPr/>
        </p:nvSpPr>
        <p:spPr>
          <a:xfrm>
            <a:off x="2171880" y="1779480"/>
            <a:ext cx="3636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6" name=""/>
          <p:cNvSpPr/>
          <p:nvPr/>
        </p:nvSpPr>
        <p:spPr>
          <a:xfrm>
            <a:off x="2346480" y="17319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7" name=""/>
          <p:cNvSpPr/>
          <p:nvPr/>
        </p:nvSpPr>
        <p:spPr>
          <a:xfrm>
            <a:off x="1825560" y="12556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8" name=""/>
          <p:cNvSpPr/>
          <p:nvPr/>
        </p:nvSpPr>
        <p:spPr>
          <a:xfrm>
            <a:off x="2130480" y="12366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9" name=""/>
          <p:cNvSpPr/>
          <p:nvPr/>
        </p:nvSpPr>
        <p:spPr>
          <a:xfrm>
            <a:off x="2251080" y="13320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0" name=""/>
          <p:cNvSpPr/>
          <p:nvPr/>
        </p:nvSpPr>
        <p:spPr>
          <a:xfrm>
            <a:off x="1165320" y="12924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1" name=""/>
          <p:cNvSpPr/>
          <p:nvPr/>
        </p:nvSpPr>
        <p:spPr>
          <a:xfrm>
            <a:off x="1200240" y="14320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2" name=""/>
          <p:cNvSpPr/>
          <p:nvPr/>
        </p:nvSpPr>
        <p:spPr>
          <a:xfrm>
            <a:off x="1082520" y="895320"/>
            <a:ext cx="367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3" name=""/>
          <p:cNvSpPr/>
          <p:nvPr/>
        </p:nvSpPr>
        <p:spPr>
          <a:xfrm>
            <a:off x="1763640" y="9637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4" name=""/>
          <p:cNvSpPr/>
          <p:nvPr/>
        </p:nvSpPr>
        <p:spPr>
          <a:xfrm>
            <a:off x="1206360" y="185724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5" name=""/>
          <p:cNvSpPr/>
          <p:nvPr/>
        </p:nvSpPr>
        <p:spPr>
          <a:xfrm>
            <a:off x="1128600" y="11826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6" name=""/>
          <p:cNvSpPr/>
          <p:nvPr/>
        </p:nvSpPr>
        <p:spPr>
          <a:xfrm>
            <a:off x="1204920" y="96984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7" name=""/>
          <p:cNvSpPr/>
          <p:nvPr/>
        </p:nvSpPr>
        <p:spPr>
          <a:xfrm>
            <a:off x="1092240" y="7524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8" name=""/>
          <p:cNvSpPr/>
          <p:nvPr/>
        </p:nvSpPr>
        <p:spPr>
          <a:xfrm>
            <a:off x="1224000" y="17352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9" name=""/>
          <p:cNvSpPr/>
          <p:nvPr/>
        </p:nvSpPr>
        <p:spPr>
          <a:xfrm>
            <a:off x="1138320" y="1774800"/>
            <a:ext cx="3636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0" name=""/>
          <p:cNvSpPr/>
          <p:nvPr/>
        </p:nvSpPr>
        <p:spPr>
          <a:xfrm>
            <a:off x="1119240" y="16574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1" name=""/>
          <p:cNvSpPr/>
          <p:nvPr/>
        </p:nvSpPr>
        <p:spPr>
          <a:xfrm>
            <a:off x="1190520" y="16621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2" name=""/>
          <p:cNvSpPr/>
          <p:nvPr/>
        </p:nvSpPr>
        <p:spPr>
          <a:xfrm>
            <a:off x="1116000" y="159372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3" name=""/>
          <p:cNvSpPr/>
          <p:nvPr/>
        </p:nvSpPr>
        <p:spPr>
          <a:xfrm>
            <a:off x="1098720" y="13953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4" name=""/>
          <p:cNvSpPr/>
          <p:nvPr/>
        </p:nvSpPr>
        <p:spPr>
          <a:xfrm>
            <a:off x="1344600" y="15080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5" name=""/>
          <p:cNvSpPr/>
          <p:nvPr/>
        </p:nvSpPr>
        <p:spPr>
          <a:xfrm>
            <a:off x="1901880" y="104760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6" name=""/>
          <p:cNvSpPr/>
          <p:nvPr/>
        </p:nvSpPr>
        <p:spPr>
          <a:xfrm>
            <a:off x="662040" y="9572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7" name=""/>
          <p:cNvSpPr/>
          <p:nvPr/>
        </p:nvSpPr>
        <p:spPr>
          <a:xfrm>
            <a:off x="1349280" y="10461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8" name=""/>
          <p:cNvSpPr/>
          <p:nvPr/>
        </p:nvSpPr>
        <p:spPr>
          <a:xfrm>
            <a:off x="1309680" y="95076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9" name=""/>
          <p:cNvSpPr/>
          <p:nvPr/>
        </p:nvSpPr>
        <p:spPr>
          <a:xfrm>
            <a:off x="1368360" y="181116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0" name=""/>
          <p:cNvSpPr/>
          <p:nvPr/>
        </p:nvSpPr>
        <p:spPr>
          <a:xfrm>
            <a:off x="1282680" y="1851120"/>
            <a:ext cx="3636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1" name=""/>
          <p:cNvSpPr/>
          <p:nvPr/>
        </p:nvSpPr>
        <p:spPr>
          <a:xfrm>
            <a:off x="1271520" y="17827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2" name=""/>
          <p:cNvSpPr/>
          <p:nvPr/>
        </p:nvSpPr>
        <p:spPr>
          <a:xfrm>
            <a:off x="1335240" y="17384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3" name=""/>
          <p:cNvSpPr/>
          <p:nvPr/>
        </p:nvSpPr>
        <p:spPr>
          <a:xfrm>
            <a:off x="1359000" y="16653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4" name=""/>
          <p:cNvSpPr/>
          <p:nvPr/>
        </p:nvSpPr>
        <p:spPr>
          <a:xfrm>
            <a:off x="1260360" y="16700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5" name=""/>
          <p:cNvSpPr/>
          <p:nvPr/>
        </p:nvSpPr>
        <p:spPr>
          <a:xfrm>
            <a:off x="1457280" y="15955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6" name=""/>
          <p:cNvSpPr/>
          <p:nvPr/>
        </p:nvSpPr>
        <p:spPr>
          <a:xfrm>
            <a:off x="1366920" y="19321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7" name=""/>
          <p:cNvSpPr/>
          <p:nvPr/>
        </p:nvSpPr>
        <p:spPr>
          <a:xfrm>
            <a:off x="1447920" y="18255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8" name=""/>
          <p:cNvSpPr/>
          <p:nvPr/>
        </p:nvSpPr>
        <p:spPr>
          <a:xfrm>
            <a:off x="1471680" y="175248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9" name=""/>
          <p:cNvSpPr/>
          <p:nvPr/>
        </p:nvSpPr>
        <p:spPr>
          <a:xfrm>
            <a:off x="1566720" y="153180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0" name=""/>
          <p:cNvSpPr/>
          <p:nvPr/>
        </p:nvSpPr>
        <p:spPr>
          <a:xfrm>
            <a:off x="1546200" y="9399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1" name=""/>
          <p:cNvSpPr/>
          <p:nvPr/>
        </p:nvSpPr>
        <p:spPr>
          <a:xfrm>
            <a:off x="1521000" y="18972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2" name=""/>
          <p:cNvSpPr/>
          <p:nvPr/>
        </p:nvSpPr>
        <p:spPr>
          <a:xfrm>
            <a:off x="1592280" y="19018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3" name=""/>
          <p:cNvSpPr/>
          <p:nvPr/>
        </p:nvSpPr>
        <p:spPr>
          <a:xfrm>
            <a:off x="1616040" y="18288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4" name=""/>
          <p:cNvSpPr/>
          <p:nvPr/>
        </p:nvSpPr>
        <p:spPr>
          <a:xfrm>
            <a:off x="1517760" y="18334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5" name=""/>
          <p:cNvSpPr/>
          <p:nvPr/>
        </p:nvSpPr>
        <p:spPr>
          <a:xfrm>
            <a:off x="2233440" y="14716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6" name=""/>
          <p:cNvSpPr/>
          <p:nvPr/>
        </p:nvSpPr>
        <p:spPr>
          <a:xfrm>
            <a:off x="1798560" y="15256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7" name=""/>
          <p:cNvSpPr/>
          <p:nvPr/>
        </p:nvSpPr>
        <p:spPr>
          <a:xfrm>
            <a:off x="1682640" y="19494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8" name=""/>
          <p:cNvSpPr/>
          <p:nvPr/>
        </p:nvSpPr>
        <p:spPr>
          <a:xfrm>
            <a:off x="1803240" y="10638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9" name=""/>
          <p:cNvSpPr/>
          <p:nvPr/>
        </p:nvSpPr>
        <p:spPr>
          <a:xfrm>
            <a:off x="1822320" y="18288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0" name=""/>
          <p:cNvSpPr/>
          <p:nvPr/>
        </p:nvSpPr>
        <p:spPr>
          <a:xfrm>
            <a:off x="1736640" y="1868400"/>
            <a:ext cx="367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1" name=""/>
          <p:cNvSpPr/>
          <p:nvPr/>
        </p:nvSpPr>
        <p:spPr>
          <a:xfrm>
            <a:off x="1717560" y="17510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2" name=""/>
          <p:cNvSpPr/>
          <p:nvPr/>
        </p:nvSpPr>
        <p:spPr>
          <a:xfrm>
            <a:off x="1812960" y="168264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3" name=""/>
          <p:cNvSpPr/>
          <p:nvPr/>
        </p:nvSpPr>
        <p:spPr>
          <a:xfrm>
            <a:off x="1714680" y="16876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4" name=""/>
          <p:cNvSpPr/>
          <p:nvPr/>
        </p:nvSpPr>
        <p:spPr>
          <a:xfrm>
            <a:off x="1623960" y="14018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5" name=""/>
          <p:cNvSpPr/>
          <p:nvPr/>
        </p:nvSpPr>
        <p:spPr>
          <a:xfrm>
            <a:off x="1943280" y="160164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6" name=""/>
          <p:cNvSpPr/>
          <p:nvPr/>
        </p:nvSpPr>
        <p:spPr>
          <a:xfrm>
            <a:off x="1967040" y="19051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7" name=""/>
          <p:cNvSpPr/>
          <p:nvPr/>
        </p:nvSpPr>
        <p:spPr>
          <a:xfrm>
            <a:off x="1881360" y="1944720"/>
            <a:ext cx="3636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8" name=""/>
          <p:cNvSpPr/>
          <p:nvPr/>
        </p:nvSpPr>
        <p:spPr>
          <a:xfrm>
            <a:off x="1870200" y="18763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9" name=""/>
          <p:cNvSpPr/>
          <p:nvPr/>
        </p:nvSpPr>
        <p:spPr>
          <a:xfrm>
            <a:off x="1933560" y="18320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0" name=""/>
          <p:cNvSpPr/>
          <p:nvPr/>
        </p:nvSpPr>
        <p:spPr>
          <a:xfrm>
            <a:off x="1957320" y="17589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1" name=""/>
          <p:cNvSpPr/>
          <p:nvPr/>
        </p:nvSpPr>
        <p:spPr>
          <a:xfrm>
            <a:off x="1859040" y="17636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2" name=""/>
          <p:cNvSpPr/>
          <p:nvPr/>
        </p:nvSpPr>
        <p:spPr>
          <a:xfrm>
            <a:off x="2403360" y="16495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3" name=""/>
          <p:cNvSpPr/>
          <p:nvPr/>
        </p:nvSpPr>
        <p:spPr>
          <a:xfrm>
            <a:off x="2430360" y="14018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4" name=""/>
          <p:cNvSpPr/>
          <p:nvPr/>
        </p:nvSpPr>
        <p:spPr>
          <a:xfrm>
            <a:off x="2433600" y="13161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5" name=""/>
          <p:cNvSpPr/>
          <p:nvPr/>
        </p:nvSpPr>
        <p:spPr>
          <a:xfrm>
            <a:off x="2332080" y="140004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6" name=""/>
          <p:cNvSpPr/>
          <p:nvPr/>
        </p:nvSpPr>
        <p:spPr>
          <a:xfrm>
            <a:off x="2427120" y="19526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7" name=""/>
          <p:cNvSpPr/>
          <p:nvPr/>
        </p:nvSpPr>
        <p:spPr>
          <a:xfrm>
            <a:off x="2394000" y="18795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8" name=""/>
          <p:cNvSpPr/>
          <p:nvPr/>
        </p:nvSpPr>
        <p:spPr>
          <a:xfrm>
            <a:off x="2417760" y="18064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9" name=""/>
          <p:cNvSpPr/>
          <p:nvPr/>
        </p:nvSpPr>
        <p:spPr>
          <a:xfrm>
            <a:off x="2268360" y="1862280"/>
            <a:ext cx="3528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0" name=""/>
          <p:cNvSpPr/>
          <p:nvPr/>
        </p:nvSpPr>
        <p:spPr>
          <a:xfrm>
            <a:off x="2421000" y="15447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1" name=""/>
          <p:cNvSpPr/>
          <p:nvPr/>
        </p:nvSpPr>
        <p:spPr>
          <a:xfrm>
            <a:off x="3500280" y="19368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2" name=""/>
          <p:cNvSpPr/>
          <p:nvPr/>
        </p:nvSpPr>
        <p:spPr>
          <a:xfrm>
            <a:off x="3513240" y="17352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3" name=""/>
          <p:cNvSpPr/>
          <p:nvPr/>
        </p:nvSpPr>
        <p:spPr>
          <a:xfrm>
            <a:off x="3427560" y="1774800"/>
            <a:ext cx="3636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4" name=""/>
          <p:cNvSpPr/>
          <p:nvPr/>
        </p:nvSpPr>
        <p:spPr>
          <a:xfrm>
            <a:off x="3408480" y="16574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5" name=""/>
          <p:cNvSpPr/>
          <p:nvPr/>
        </p:nvSpPr>
        <p:spPr>
          <a:xfrm>
            <a:off x="3479760" y="16621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6" name=""/>
          <p:cNvSpPr/>
          <p:nvPr/>
        </p:nvSpPr>
        <p:spPr>
          <a:xfrm>
            <a:off x="3503520" y="15890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7" name=""/>
          <p:cNvSpPr/>
          <p:nvPr/>
        </p:nvSpPr>
        <p:spPr>
          <a:xfrm>
            <a:off x="3436920" y="15462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8" name=""/>
          <p:cNvSpPr/>
          <p:nvPr/>
        </p:nvSpPr>
        <p:spPr>
          <a:xfrm>
            <a:off x="3538440" y="14986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9" name=""/>
          <p:cNvSpPr/>
          <p:nvPr/>
        </p:nvSpPr>
        <p:spPr>
          <a:xfrm>
            <a:off x="3119400" y="14810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0" name=""/>
          <p:cNvSpPr/>
          <p:nvPr/>
        </p:nvSpPr>
        <p:spPr>
          <a:xfrm>
            <a:off x="3549600" y="16700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1" name=""/>
          <p:cNvSpPr/>
          <p:nvPr/>
        </p:nvSpPr>
        <p:spPr>
          <a:xfrm>
            <a:off x="2565360" y="13636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2" name=""/>
          <p:cNvSpPr/>
          <p:nvPr/>
        </p:nvSpPr>
        <p:spPr>
          <a:xfrm>
            <a:off x="2600280" y="15033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3" name=""/>
          <p:cNvSpPr/>
          <p:nvPr/>
        </p:nvSpPr>
        <p:spPr>
          <a:xfrm>
            <a:off x="2627280" y="12556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4" name=""/>
          <p:cNvSpPr/>
          <p:nvPr/>
        </p:nvSpPr>
        <p:spPr>
          <a:xfrm>
            <a:off x="2630520" y="11700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5" name=""/>
          <p:cNvSpPr/>
          <p:nvPr/>
        </p:nvSpPr>
        <p:spPr>
          <a:xfrm>
            <a:off x="2606760" y="19288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6" name=""/>
          <p:cNvSpPr/>
          <p:nvPr/>
        </p:nvSpPr>
        <p:spPr>
          <a:xfrm>
            <a:off x="2529000" y="12542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7" name=""/>
          <p:cNvSpPr/>
          <p:nvPr/>
        </p:nvSpPr>
        <p:spPr>
          <a:xfrm>
            <a:off x="2624040" y="18064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8" name=""/>
          <p:cNvSpPr/>
          <p:nvPr/>
        </p:nvSpPr>
        <p:spPr>
          <a:xfrm>
            <a:off x="2538360" y="1846440"/>
            <a:ext cx="367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9" name=""/>
          <p:cNvSpPr/>
          <p:nvPr/>
        </p:nvSpPr>
        <p:spPr>
          <a:xfrm>
            <a:off x="2519280" y="17287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0" name=""/>
          <p:cNvSpPr/>
          <p:nvPr/>
        </p:nvSpPr>
        <p:spPr>
          <a:xfrm>
            <a:off x="2590920" y="173340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1" name=""/>
          <p:cNvSpPr/>
          <p:nvPr/>
        </p:nvSpPr>
        <p:spPr>
          <a:xfrm>
            <a:off x="2614680" y="16606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2" name=""/>
          <p:cNvSpPr/>
          <p:nvPr/>
        </p:nvSpPr>
        <p:spPr>
          <a:xfrm>
            <a:off x="2516040" y="16653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3" name=""/>
          <p:cNvSpPr/>
          <p:nvPr/>
        </p:nvSpPr>
        <p:spPr>
          <a:xfrm>
            <a:off x="2649600" y="15699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4" name=""/>
          <p:cNvSpPr/>
          <p:nvPr/>
        </p:nvSpPr>
        <p:spPr>
          <a:xfrm>
            <a:off x="2498760" y="14670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5" name=""/>
          <p:cNvSpPr/>
          <p:nvPr/>
        </p:nvSpPr>
        <p:spPr>
          <a:xfrm>
            <a:off x="762120" y="8128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6" name=""/>
          <p:cNvSpPr/>
          <p:nvPr/>
        </p:nvSpPr>
        <p:spPr>
          <a:xfrm>
            <a:off x="2709720" y="14400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7" name=""/>
          <p:cNvSpPr/>
          <p:nvPr/>
        </p:nvSpPr>
        <p:spPr>
          <a:xfrm>
            <a:off x="2744640" y="15796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8" name=""/>
          <p:cNvSpPr/>
          <p:nvPr/>
        </p:nvSpPr>
        <p:spPr>
          <a:xfrm>
            <a:off x="2771640" y="13320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9" name=""/>
          <p:cNvSpPr/>
          <p:nvPr/>
        </p:nvSpPr>
        <p:spPr>
          <a:xfrm>
            <a:off x="2774880" y="12463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0" name=""/>
          <p:cNvSpPr/>
          <p:nvPr/>
        </p:nvSpPr>
        <p:spPr>
          <a:xfrm>
            <a:off x="2673360" y="133020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1" name=""/>
          <p:cNvSpPr/>
          <p:nvPr/>
        </p:nvSpPr>
        <p:spPr>
          <a:xfrm>
            <a:off x="2768760" y="18828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2" name=""/>
          <p:cNvSpPr/>
          <p:nvPr/>
        </p:nvSpPr>
        <p:spPr>
          <a:xfrm>
            <a:off x="2682720" y="1922400"/>
            <a:ext cx="367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3" name=""/>
          <p:cNvSpPr/>
          <p:nvPr/>
        </p:nvSpPr>
        <p:spPr>
          <a:xfrm>
            <a:off x="2671920" y="18543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4" name=""/>
          <p:cNvSpPr/>
          <p:nvPr/>
        </p:nvSpPr>
        <p:spPr>
          <a:xfrm>
            <a:off x="2735280" y="18097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5" name=""/>
          <p:cNvSpPr/>
          <p:nvPr/>
        </p:nvSpPr>
        <p:spPr>
          <a:xfrm>
            <a:off x="2759040" y="17366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6" name=""/>
          <p:cNvSpPr/>
          <p:nvPr/>
        </p:nvSpPr>
        <p:spPr>
          <a:xfrm>
            <a:off x="2660760" y="174132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7" name=""/>
          <p:cNvSpPr/>
          <p:nvPr/>
        </p:nvSpPr>
        <p:spPr>
          <a:xfrm>
            <a:off x="2784600" y="14176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8" name=""/>
          <p:cNvSpPr/>
          <p:nvPr/>
        </p:nvSpPr>
        <p:spPr>
          <a:xfrm>
            <a:off x="2822400" y="1527120"/>
            <a:ext cx="3528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9" name=""/>
          <p:cNvSpPr/>
          <p:nvPr/>
        </p:nvSpPr>
        <p:spPr>
          <a:xfrm>
            <a:off x="2857680" y="16668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0" name=""/>
          <p:cNvSpPr/>
          <p:nvPr/>
        </p:nvSpPr>
        <p:spPr>
          <a:xfrm>
            <a:off x="2884320" y="14191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1" name=""/>
          <p:cNvSpPr/>
          <p:nvPr/>
        </p:nvSpPr>
        <p:spPr>
          <a:xfrm>
            <a:off x="2887560" y="13334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2" name=""/>
          <p:cNvSpPr/>
          <p:nvPr/>
        </p:nvSpPr>
        <p:spPr>
          <a:xfrm>
            <a:off x="2803680" y="12924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3" name=""/>
          <p:cNvSpPr/>
          <p:nvPr/>
        </p:nvSpPr>
        <p:spPr>
          <a:xfrm>
            <a:off x="2862360" y="12049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4" name=""/>
          <p:cNvSpPr/>
          <p:nvPr/>
        </p:nvSpPr>
        <p:spPr>
          <a:xfrm>
            <a:off x="2766960" y="20034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5" name=""/>
          <p:cNvSpPr/>
          <p:nvPr/>
        </p:nvSpPr>
        <p:spPr>
          <a:xfrm>
            <a:off x="2847960" y="18972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6" name=""/>
          <p:cNvSpPr/>
          <p:nvPr/>
        </p:nvSpPr>
        <p:spPr>
          <a:xfrm>
            <a:off x="2871720" y="18241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7" name=""/>
          <p:cNvSpPr/>
          <p:nvPr/>
        </p:nvSpPr>
        <p:spPr>
          <a:xfrm>
            <a:off x="2906640" y="173340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8" name=""/>
          <p:cNvSpPr/>
          <p:nvPr/>
        </p:nvSpPr>
        <p:spPr>
          <a:xfrm>
            <a:off x="2994120" y="154764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9" name=""/>
          <p:cNvSpPr/>
          <p:nvPr/>
        </p:nvSpPr>
        <p:spPr>
          <a:xfrm>
            <a:off x="2967120" y="16034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0" name=""/>
          <p:cNvSpPr/>
          <p:nvPr/>
        </p:nvSpPr>
        <p:spPr>
          <a:xfrm>
            <a:off x="3002040" y="17431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1" name=""/>
          <p:cNvSpPr/>
          <p:nvPr/>
        </p:nvSpPr>
        <p:spPr>
          <a:xfrm>
            <a:off x="3029040" y="14954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2" name=""/>
          <p:cNvSpPr/>
          <p:nvPr/>
        </p:nvSpPr>
        <p:spPr>
          <a:xfrm>
            <a:off x="2930400" y="14940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3" name=""/>
          <p:cNvSpPr/>
          <p:nvPr/>
        </p:nvSpPr>
        <p:spPr>
          <a:xfrm>
            <a:off x="2921040" y="19684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4" name=""/>
          <p:cNvSpPr/>
          <p:nvPr/>
        </p:nvSpPr>
        <p:spPr>
          <a:xfrm>
            <a:off x="2992320" y="19731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5" name=""/>
          <p:cNvSpPr/>
          <p:nvPr/>
        </p:nvSpPr>
        <p:spPr>
          <a:xfrm>
            <a:off x="3016080" y="190008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6" name=""/>
          <p:cNvSpPr/>
          <p:nvPr/>
        </p:nvSpPr>
        <p:spPr>
          <a:xfrm>
            <a:off x="2917800" y="19051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7" name=""/>
          <p:cNvSpPr/>
          <p:nvPr/>
        </p:nvSpPr>
        <p:spPr>
          <a:xfrm>
            <a:off x="3019320" y="16383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8" name=""/>
          <p:cNvSpPr/>
          <p:nvPr/>
        </p:nvSpPr>
        <p:spPr>
          <a:xfrm>
            <a:off x="3198960" y="15969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9" name=""/>
          <p:cNvSpPr/>
          <p:nvPr/>
        </p:nvSpPr>
        <p:spPr>
          <a:xfrm>
            <a:off x="3222720" y="190008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0" name=""/>
          <p:cNvSpPr/>
          <p:nvPr/>
        </p:nvSpPr>
        <p:spPr>
          <a:xfrm>
            <a:off x="3137040" y="1940040"/>
            <a:ext cx="3636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1" name=""/>
          <p:cNvSpPr/>
          <p:nvPr/>
        </p:nvSpPr>
        <p:spPr>
          <a:xfrm>
            <a:off x="3117960" y="182232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2" name=""/>
          <p:cNvSpPr/>
          <p:nvPr/>
        </p:nvSpPr>
        <p:spPr>
          <a:xfrm>
            <a:off x="3189240" y="18273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3" name=""/>
          <p:cNvSpPr/>
          <p:nvPr/>
        </p:nvSpPr>
        <p:spPr>
          <a:xfrm>
            <a:off x="3213000" y="17542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4" name=""/>
          <p:cNvSpPr/>
          <p:nvPr/>
        </p:nvSpPr>
        <p:spPr>
          <a:xfrm>
            <a:off x="3114720" y="17589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5" name=""/>
          <p:cNvSpPr/>
          <p:nvPr/>
        </p:nvSpPr>
        <p:spPr>
          <a:xfrm>
            <a:off x="3247920" y="166356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6" name=""/>
          <p:cNvSpPr/>
          <p:nvPr/>
        </p:nvSpPr>
        <p:spPr>
          <a:xfrm>
            <a:off x="3097080" y="15606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7" name=""/>
          <p:cNvSpPr/>
          <p:nvPr/>
        </p:nvSpPr>
        <p:spPr>
          <a:xfrm>
            <a:off x="3216240" y="14922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8" name=""/>
          <p:cNvSpPr/>
          <p:nvPr/>
        </p:nvSpPr>
        <p:spPr>
          <a:xfrm>
            <a:off x="3308400" y="15336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9" name=""/>
          <p:cNvSpPr/>
          <p:nvPr/>
        </p:nvSpPr>
        <p:spPr>
          <a:xfrm>
            <a:off x="3343320" y="16732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0" name=""/>
          <p:cNvSpPr/>
          <p:nvPr/>
        </p:nvSpPr>
        <p:spPr>
          <a:xfrm>
            <a:off x="3367080" y="19764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1" name=""/>
          <p:cNvSpPr/>
          <p:nvPr/>
        </p:nvSpPr>
        <p:spPr>
          <a:xfrm>
            <a:off x="3270240" y="19479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2" name=""/>
          <p:cNvSpPr/>
          <p:nvPr/>
        </p:nvSpPr>
        <p:spPr>
          <a:xfrm>
            <a:off x="3333600" y="19033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3" name=""/>
          <p:cNvSpPr/>
          <p:nvPr/>
        </p:nvSpPr>
        <p:spPr>
          <a:xfrm>
            <a:off x="3357720" y="183024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4" name=""/>
          <p:cNvSpPr/>
          <p:nvPr/>
        </p:nvSpPr>
        <p:spPr>
          <a:xfrm>
            <a:off x="3259080" y="18352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5" name=""/>
          <p:cNvSpPr/>
          <p:nvPr/>
        </p:nvSpPr>
        <p:spPr>
          <a:xfrm>
            <a:off x="3414600" y="14684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6" name=""/>
          <p:cNvSpPr/>
          <p:nvPr/>
        </p:nvSpPr>
        <p:spPr>
          <a:xfrm>
            <a:off x="2370240" y="6764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7" name=""/>
          <p:cNvSpPr/>
          <p:nvPr/>
        </p:nvSpPr>
        <p:spPr>
          <a:xfrm>
            <a:off x="2332080" y="8492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8" name=""/>
          <p:cNvSpPr/>
          <p:nvPr/>
        </p:nvSpPr>
        <p:spPr>
          <a:xfrm>
            <a:off x="2460600" y="5256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9" name=""/>
          <p:cNvSpPr/>
          <p:nvPr/>
        </p:nvSpPr>
        <p:spPr>
          <a:xfrm>
            <a:off x="2362320" y="5238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0" name=""/>
          <p:cNvSpPr/>
          <p:nvPr/>
        </p:nvSpPr>
        <p:spPr>
          <a:xfrm>
            <a:off x="2457360" y="10764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1" name=""/>
          <p:cNvSpPr/>
          <p:nvPr/>
        </p:nvSpPr>
        <p:spPr>
          <a:xfrm>
            <a:off x="2371680" y="1116000"/>
            <a:ext cx="367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2" name=""/>
          <p:cNvSpPr/>
          <p:nvPr/>
        </p:nvSpPr>
        <p:spPr>
          <a:xfrm>
            <a:off x="2424240" y="10033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3" name=""/>
          <p:cNvSpPr/>
          <p:nvPr/>
        </p:nvSpPr>
        <p:spPr>
          <a:xfrm>
            <a:off x="2436840" y="8794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4" name=""/>
          <p:cNvSpPr/>
          <p:nvPr/>
        </p:nvSpPr>
        <p:spPr>
          <a:xfrm>
            <a:off x="2451240" y="66816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5" name=""/>
          <p:cNvSpPr/>
          <p:nvPr/>
        </p:nvSpPr>
        <p:spPr>
          <a:xfrm>
            <a:off x="3543480" y="8589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6" name=""/>
          <p:cNvSpPr/>
          <p:nvPr/>
        </p:nvSpPr>
        <p:spPr>
          <a:xfrm>
            <a:off x="3457440" y="898560"/>
            <a:ext cx="367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7" name=""/>
          <p:cNvSpPr/>
          <p:nvPr/>
        </p:nvSpPr>
        <p:spPr>
          <a:xfrm>
            <a:off x="3438360" y="7812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8" name=""/>
          <p:cNvSpPr/>
          <p:nvPr/>
        </p:nvSpPr>
        <p:spPr>
          <a:xfrm>
            <a:off x="3510000" y="7858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9" name=""/>
          <p:cNvSpPr/>
          <p:nvPr/>
        </p:nvSpPr>
        <p:spPr>
          <a:xfrm>
            <a:off x="3533760" y="7128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0" name=""/>
          <p:cNvSpPr/>
          <p:nvPr/>
        </p:nvSpPr>
        <p:spPr>
          <a:xfrm>
            <a:off x="3467160" y="6699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1" name=""/>
          <p:cNvSpPr/>
          <p:nvPr/>
        </p:nvSpPr>
        <p:spPr>
          <a:xfrm>
            <a:off x="3568680" y="6224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2" name=""/>
          <p:cNvSpPr/>
          <p:nvPr/>
        </p:nvSpPr>
        <p:spPr>
          <a:xfrm>
            <a:off x="3149640" y="6048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3" name=""/>
          <p:cNvSpPr/>
          <p:nvPr/>
        </p:nvSpPr>
        <p:spPr>
          <a:xfrm>
            <a:off x="3579840" y="7938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4" name=""/>
          <p:cNvSpPr/>
          <p:nvPr/>
        </p:nvSpPr>
        <p:spPr>
          <a:xfrm>
            <a:off x="2630520" y="6271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5" name=""/>
          <p:cNvSpPr/>
          <p:nvPr/>
        </p:nvSpPr>
        <p:spPr>
          <a:xfrm>
            <a:off x="2637000" y="10526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6" name=""/>
          <p:cNvSpPr/>
          <p:nvPr/>
        </p:nvSpPr>
        <p:spPr>
          <a:xfrm>
            <a:off x="2654280" y="9302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7" name=""/>
          <p:cNvSpPr/>
          <p:nvPr/>
        </p:nvSpPr>
        <p:spPr>
          <a:xfrm>
            <a:off x="2568600" y="969840"/>
            <a:ext cx="3636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8" name=""/>
          <p:cNvSpPr/>
          <p:nvPr/>
        </p:nvSpPr>
        <p:spPr>
          <a:xfrm>
            <a:off x="2549520" y="8524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9" name=""/>
          <p:cNvSpPr/>
          <p:nvPr/>
        </p:nvSpPr>
        <p:spPr>
          <a:xfrm>
            <a:off x="2620800" y="8571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0" name=""/>
          <p:cNvSpPr/>
          <p:nvPr/>
        </p:nvSpPr>
        <p:spPr>
          <a:xfrm>
            <a:off x="2644920" y="78408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1" name=""/>
          <p:cNvSpPr/>
          <p:nvPr/>
        </p:nvSpPr>
        <p:spPr>
          <a:xfrm>
            <a:off x="2546280" y="7891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2" name=""/>
          <p:cNvSpPr/>
          <p:nvPr/>
        </p:nvSpPr>
        <p:spPr>
          <a:xfrm>
            <a:off x="2679840" y="6937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3" name=""/>
          <p:cNvSpPr/>
          <p:nvPr/>
        </p:nvSpPr>
        <p:spPr>
          <a:xfrm>
            <a:off x="2529000" y="59040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4" name=""/>
          <p:cNvSpPr/>
          <p:nvPr/>
        </p:nvSpPr>
        <p:spPr>
          <a:xfrm>
            <a:off x="2647800" y="5223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5" name=""/>
          <p:cNvSpPr/>
          <p:nvPr/>
        </p:nvSpPr>
        <p:spPr>
          <a:xfrm>
            <a:off x="2739960" y="56340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6" name=""/>
          <p:cNvSpPr/>
          <p:nvPr/>
        </p:nvSpPr>
        <p:spPr>
          <a:xfrm>
            <a:off x="2774880" y="7034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7" name=""/>
          <p:cNvSpPr/>
          <p:nvPr/>
        </p:nvSpPr>
        <p:spPr>
          <a:xfrm>
            <a:off x="2798640" y="10065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8" name=""/>
          <p:cNvSpPr/>
          <p:nvPr/>
        </p:nvSpPr>
        <p:spPr>
          <a:xfrm>
            <a:off x="2712960" y="1046160"/>
            <a:ext cx="367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9" name=""/>
          <p:cNvSpPr/>
          <p:nvPr/>
        </p:nvSpPr>
        <p:spPr>
          <a:xfrm>
            <a:off x="2701800" y="97776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0" name=""/>
          <p:cNvSpPr/>
          <p:nvPr/>
        </p:nvSpPr>
        <p:spPr>
          <a:xfrm>
            <a:off x="2765520" y="9334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1" name=""/>
          <p:cNvSpPr/>
          <p:nvPr/>
        </p:nvSpPr>
        <p:spPr>
          <a:xfrm>
            <a:off x="2789280" y="8604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2" name=""/>
          <p:cNvSpPr/>
          <p:nvPr/>
        </p:nvSpPr>
        <p:spPr>
          <a:xfrm>
            <a:off x="2690640" y="8650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3" name=""/>
          <p:cNvSpPr/>
          <p:nvPr/>
        </p:nvSpPr>
        <p:spPr>
          <a:xfrm>
            <a:off x="2814480" y="5414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4" name=""/>
          <p:cNvSpPr/>
          <p:nvPr/>
        </p:nvSpPr>
        <p:spPr>
          <a:xfrm>
            <a:off x="2852640" y="6508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5" name=""/>
          <p:cNvSpPr/>
          <p:nvPr/>
        </p:nvSpPr>
        <p:spPr>
          <a:xfrm>
            <a:off x="2887560" y="7905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6" name=""/>
          <p:cNvSpPr/>
          <p:nvPr/>
        </p:nvSpPr>
        <p:spPr>
          <a:xfrm>
            <a:off x="2914560" y="5428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7" name=""/>
          <p:cNvSpPr/>
          <p:nvPr/>
        </p:nvSpPr>
        <p:spPr>
          <a:xfrm>
            <a:off x="2797200" y="11271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8" name=""/>
          <p:cNvSpPr/>
          <p:nvPr/>
        </p:nvSpPr>
        <p:spPr>
          <a:xfrm>
            <a:off x="2878200" y="102060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9" name=""/>
          <p:cNvSpPr/>
          <p:nvPr/>
        </p:nvSpPr>
        <p:spPr>
          <a:xfrm>
            <a:off x="2901960" y="9478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0" name=""/>
          <p:cNvSpPr/>
          <p:nvPr/>
        </p:nvSpPr>
        <p:spPr>
          <a:xfrm>
            <a:off x="2936880" y="8571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1" name=""/>
          <p:cNvSpPr/>
          <p:nvPr/>
        </p:nvSpPr>
        <p:spPr>
          <a:xfrm>
            <a:off x="3024360" y="67140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2" name=""/>
          <p:cNvSpPr/>
          <p:nvPr/>
        </p:nvSpPr>
        <p:spPr>
          <a:xfrm>
            <a:off x="2997360" y="7272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3" name=""/>
          <p:cNvSpPr/>
          <p:nvPr/>
        </p:nvSpPr>
        <p:spPr>
          <a:xfrm>
            <a:off x="3032280" y="8668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4" name=""/>
          <p:cNvSpPr/>
          <p:nvPr/>
        </p:nvSpPr>
        <p:spPr>
          <a:xfrm>
            <a:off x="3059280" y="6192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5" name=""/>
          <p:cNvSpPr/>
          <p:nvPr/>
        </p:nvSpPr>
        <p:spPr>
          <a:xfrm>
            <a:off x="2960640" y="61740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6" name=""/>
          <p:cNvSpPr/>
          <p:nvPr/>
        </p:nvSpPr>
        <p:spPr>
          <a:xfrm>
            <a:off x="2951280" y="10922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7" name=""/>
          <p:cNvSpPr/>
          <p:nvPr/>
        </p:nvSpPr>
        <p:spPr>
          <a:xfrm>
            <a:off x="3049560" y="7621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8" name=""/>
          <p:cNvSpPr/>
          <p:nvPr/>
        </p:nvSpPr>
        <p:spPr>
          <a:xfrm>
            <a:off x="3228840" y="7207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9" name=""/>
          <p:cNvSpPr/>
          <p:nvPr/>
        </p:nvSpPr>
        <p:spPr>
          <a:xfrm>
            <a:off x="3147840" y="9460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0" name=""/>
          <p:cNvSpPr/>
          <p:nvPr/>
        </p:nvSpPr>
        <p:spPr>
          <a:xfrm>
            <a:off x="3219480" y="95076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1" name=""/>
          <p:cNvSpPr/>
          <p:nvPr/>
        </p:nvSpPr>
        <p:spPr>
          <a:xfrm>
            <a:off x="3243240" y="8780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2" name=""/>
          <p:cNvSpPr/>
          <p:nvPr/>
        </p:nvSpPr>
        <p:spPr>
          <a:xfrm>
            <a:off x="3144960" y="8827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3" name=""/>
          <p:cNvSpPr/>
          <p:nvPr/>
        </p:nvSpPr>
        <p:spPr>
          <a:xfrm>
            <a:off x="3278160" y="7873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4" name=""/>
          <p:cNvSpPr/>
          <p:nvPr/>
        </p:nvSpPr>
        <p:spPr>
          <a:xfrm>
            <a:off x="3127320" y="6843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5" name=""/>
          <p:cNvSpPr/>
          <p:nvPr/>
        </p:nvSpPr>
        <p:spPr>
          <a:xfrm>
            <a:off x="3246480" y="6159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6" name=""/>
          <p:cNvSpPr/>
          <p:nvPr/>
        </p:nvSpPr>
        <p:spPr>
          <a:xfrm>
            <a:off x="3338640" y="6573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7" name=""/>
          <p:cNvSpPr/>
          <p:nvPr/>
        </p:nvSpPr>
        <p:spPr>
          <a:xfrm>
            <a:off x="3373560" y="7970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8" name=""/>
          <p:cNvSpPr/>
          <p:nvPr/>
        </p:nvSpPr>
        <p:spPr>
          <a:xfrm>
            <a:off x="3387600" y="9540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9" name=""/>
          <p:cNvSpPr/>
          <p:nvPr/>
        </p:nvSpPr>
        <p:spPr>
          <a:xfrm>
            <a:off x="3289320" y="95868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0" name=""/>
          <p:cNvSpPr/>
          <p:nvPr/>
        </p:nvSpPr>
        <p:spPr>
          <a:xfrm>
            <a:off x="3444840" y="5922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1" name=""/>
          <p:cNvSpPr/>
          <p:nvPr/>
        </p:nvSpPr>
        <p:spPr>
          <a:xfrm>
            <a:off x="846000" y="6285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2" name=""/>
          <p:cNvSpPr/>
          <p:nvPr/>
        </p:nvSpPr>
        <p:spPr>
          <a:xfrm>
            <a:off x="880920" y="76824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3" name=""/>
          <p:cNvSpPr/>
          <p:nvPr/>
        </p:nvSpPr>
        <p:spPr>
          <a:xfrm>
            <a:off x="907920" y="52056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4" name=""/>
          <p:cNvSpPr/>
          <p:nvPr/>
        </p:nvSpPr>
        <p:spPr>
          <a:xfrm>
            <a:off x="898560" y="6634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5" name=""/>
          <p:cNvSpPr/>
          <p:nvPr/>
        </p:nvSpPr>
        <p:spPr>
          <a:xfrm>
            <a:off x="1967040" y="5508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6" name=""/>
          <p:cNvSpPr/>
          <p:nvPr/>
        </p:nvSpPr>
        <p:spPr>
          <a:xfrm>
            <a:off x="2090880" y="70632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7" name=""/>
          <p:cNvSpPr/>
          <p:nvPr/>
        </p:nvSpPr>
        <p:spPr>
          <a:xfrm>
            <a:off x="1914480" y="6652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8" name=""/>
          <p:cNvSpPr/>
          <p:nvPr/>
        </p:nvSpPr>
        <p:spPr>
          <a:xfrm>
            <a:off x="1596960" y="6001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9" name=""/>
          <p:cNvSpPr/>
          <p:nvPr/>
        </p:nvSpPr>
        <p:spPr>
          <a:xfrm>
            <a:off x="1042920" y="4827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0" name=""/>
          <p:cNvSpPr/>
          <p:nvPr/>
        </p:nvSpPr>
        <p:spPr>
          <a:xfrm>
            <a:off x="1077840" y="6224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1" name=""/>
          <p:cNvSpPr/>
          <p:nvPr/>
        </p:nvSpPr>
        <p:spPr>
          <a:xfrm>
            <a:off x="996840" y="8478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2" name=""/>
          <p:cNvSpPr/>
          <p:nvPr/>
        </p:nvSpPr>
        <p:spPr>
          <a:xfrm>
            <a:off x="1625760" y="8524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3" name=""/>
          <p:cNvSpPr/>
          <p:nvPr/>
        </p:nvSpPr>
        <p:spPr>
          <a:xfrm>
            <a:off x="993600" y="784080"/>
            <a:ext cx="3528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4" name=""/>
          <p:cNvSpPr/>
          <p:nvPr/>
        </p:nvSpPr>
        <p:spPr>
          <a:xfrm>
            <a:off x="1127160" y="6890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5" name=""/>
          <p:cNvSpPr/>
          <p:nvPr/>
        </p:nvSpPr>
        <p:spPr>
          <a:xfrm>
            <a:off x="976320" y="5857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6" name=""/>
          <p:cNvSpPr/>
          <p:nvPr/>
        </p:nvSpPr>
        <p:spPr>
          <a:xfrm>
            <a:off x="1095480" y="5176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7" name=""/>
          <p:cNvSpPr/>
          <p:nvPr/>
        </p:nvSpPr>
        <p:spPr>
          <a:xfrm>
            <a:off x="1187280" y="5587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8" name=""/>
          <p:cNvSpPr/>
          <p:nvPr/>
        </p:nvSpPr>
        <p:spPr>
          <a:xfrm>
            <a:off x="1222200" y="698400"/>
            <a:ext cx="3528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9" name=""/>
          <p:cNvSpPr/>
          <p:nvPr/>
        </p:nvSpPr>
        <p:spPr>
          <a:xfrm>
            <a:off x="676440" y="6364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0" name=""/>
          <p:cNvSpPr/>
          <p:nvPr/>
        </p:nvSpPr>
        <p:spPr>
          <a:xfrm>
            <a:off x="1262160" y="53640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1" name=""/>
          <p:cNvSpPr/>
          <p:nvPr/>
        </p:nvSpPr>
        <p:spPr>
          <a:xfrm>
            <a:off x="1300320" y="6462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2" name=""/>
          <p:cNvSpPr/>
          <p:nvPr/>
        </p:nvSpPr>
        <p:spPr>
          <a:xfrm>
            <a:off x="1335240" y="7858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3" name=""/>
          <p:cNvSpPr/>
          <p:nvPr/>
        </p:nvSpPr>
        <p:spPr>
          <a:xfrm>
            <a:off x="1362240" y="5382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4" name=""/>
          <p:cNvSpPr/>
          <p:nvPr/>
        </p:nvSpPr>
        <p:spPr>
          <a:xfrm>
            <a:off x="1506600" y="6145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5" name=""/>
          <p:cNvSpPr/>
          <p:nvPr/>
        </p:nvSpPr>
        <p:spPr>
          <a:xfrm>
            <a:off x="1509840" y="52848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6" name=""/>
          <p:cNvSpPr/>
          <p:nvPr/>
        </p:nvSpPr>
        <p:spPr>
          <a:xfrm>
            <a:off x="1407960" y="6127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7" name=""/>
          <p:cNvSpPr/>
          <p:nvPr/>
        </p:nvSpPr>
        <p:spPr>
          <a:xfrm>
            <a:off x="1496880" y="75708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8" name=""/>
          <p:cNvSpPr/>
          <p:nvPr/>
        </p:nvSpPr>
        <p:spPr>
          <a:xfrm>
            <a:off x="1468440" y="4953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9" name=""/>
          <p:cNvSpPr/>
          <p:nvPr/>
        </p:nvSpPr>
        <p:spPr>
          <a:xfrm>
            <a:off x="1676520" y="7160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0" name=""/>
          <p:cNvSpPr/>
          <p:nvPr/>
        </p:nvSpPr>
        <p:spPr>
          <a:xfrm>
            <a:off x="2095560" y="60948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1" name=""/>
          <p:cNvSpPr/>
          <p:nvPr/>
        </p:nvSpPr>
        <p:spPr>
          <a:xfrm>
            <a:off x="1900080" y="138096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2" name=""/>
          <p:cNvSpPr/>
          <p:nvPr/>
        </p:nvSpPr>
        <p:spPr>
          <a:xfrm>
            <a:off x="1693800" y="6112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3" name=""/>
          <p:cNvSpPr/>
          <p:nvPr/>
        </p:nvSpPr>
        <p:spPr>
          <a:xfrm>
            <a:off x="1785960" y="65232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4" name=""/>
          <p:cNvSpPr/>
          <p:nvPr/>
        </p:nvSpPr>
        <p:spPr>
          <a:xfrm>
            <a:off x="1847880" y="5446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5" name=""/>
          <p:cNvSpPr/>
          <p:nvPr/>
        </p:nvSpPr>
        <p:spPr>
          <a:xfrm>
            <a:off x="2103480" y="53964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6" name=""/>
          <p:cNvSpPr/>
          <p:nvPr/>
        </p:nvSpPr>
        <p:spPr>
          <a:xfrm>
            <a:off x="1749600" y="5428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7" name=""/>
          <p:cNvSpPr/>
          <p:nvPr/>
        </p:nvSpPr>
        <p:spPr>
          <a:xfrm>
            <a:off x="1892160" y="5875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8" name=""/>
          <p:cNvSpPr/>
          <p:nvPr/>
        </p:nvSpPr>
        <p:spPr>
          <a:xfrm>
            <a:off x="2205000" y="7002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9" name=""/>
          <p:cNvSpPr/>
          <p:nvPr/>
        </p:nvSpPr>
        <p:spPr>
          <a:xfrm>
            <a:off x="2173320" y="5922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0" name=""/>
          <p:cNvSpPr/>
          <p:nvPr/>
        </p:nvSpPr>
        <p:spPr>
          <a:xfrm>
            <a:off x="2065320" y="198900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1" name=""/>
          <p:cNvSpPr/>
          <p:nvPr/>
        </p:nvSpPr>
        <p:spPr>
          <a:xfrm>
            <a:off x="1752480" y="19922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2" name=""/>
          <p:cNvSpPr/>
          <p:nvPr/>
        </p:nvSpPr>
        <p:spPr>
          <a:xfrm>
            <a:off x="1496880" y="20019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3" name=""/>
          <p:cNvSpPr/>
          <p:nvPr/>
        </p:nvSpPr>
        <p:spPr>
          <a:xfrm>
            <a:off x="1319040" y="1984320"/>
            <a:ext cx="367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4" name=""/>
          <p:cNvSpPr/>
          <p:nvPr/>
        </p:nvSpPr>
        <p:spPr>
          <a:xfrm>
            <a:off x="1090440" y="19670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5" name=""/>
          <p:cNvSpPr/>
          <p:nvPr/>
        </p:nvSpPr>
        <p:spPr>
          <a:xfrm>
            <a:off x="1123920" y="1874880"/>
            <a:ext cx="367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6" name=""/>
          <p:cNvSpPr/>
          <p:nvPr/>
        </p:nvSpPr>
        <p:spPr>
          <a:xfrm>
            <a:off x="825480" y="1976400"/>
            <a:ext cx="3636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7" name=""/>
          <p:cNvSpPr/>
          <p:nvPr/>
        </p:nvSpPr>
        <p:spPr>
          <a:xfrm>
            <a:off x="4168800" y="16034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8" name=""/>
          <p:cNvSpPr/>
          <p:nvPr/>
        </p:nvSpPr>
        <p:spPr>
          <a:xfrm>
            <a:off x="3614760" y="14860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9" name=""/>
          <p:cNvSpPr/>
          <p:nvPr/>
        </p:nvSpPr>
        <p:spPr>
          <a:xfrm>
            <a:off x="3649680" y="16257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0" name=""/>
          <p:cNvSpPr/>
          <p:nvPr/>
        </p:nvSpPr>
        <p:spPr>
          <a:xfrm>
            <a:off x="3676680" y="13780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1" name=""/>
          <p:cNvSpPr/>
          <p:nvPr/>
        </p:nvSpPr>
        <p:spPr>
          <a:xfrm>
            <a:off x="3679920" y="12924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2" name=""/>
          <p:cNvSpPr/>
          <p:nvPr/>
        </p:nvSpPr>
        <p:spPr>
          <a:xfrm>
            <a:off x="3673440" y="19288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3" name=""/>
          <p:cNvSpPr/>
          <p:nvPr/>
        </p:nvSpPr>
        <p:spPr>
          <a:xfrm>
            <a:off x="3568680" y="18511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4" name=""/>
          <p:cNvSpPr/>
          <p:nvPr/>
        </p:nvSpPr>
        <p:spPr>
          <a:xfrm>
            <a:off x="3639960" y="1855800"/>
            <a:ext cx="3528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5" name=""/>
          <p:cNvSpPr/>
          <p:nvPr/>
        </p:nvSpPr>
        <p:spPr>
          <a:xfrm>
            <a:off x="3664080" y="17827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6" name=""/>
          <p:cNvSpPr/>
          <p:nvPr/>
        </p:nvSpPr>
        <p:spPr>
          <a:xfrm>
            <a:off x="3565440" y="178740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7" name=""/>
          <p:cNvSpPr/>
          <p:nvPr/>
        </p:nvSpPr>
        <p:spPr>
          <a:xfrm>
            <a:off x="3699000" y="16923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8" name=""/>
          <p:cNvSpPr/>
          <p:nvPr/>
        </p:nvSpPr>
        <p:spPr>
          <a:xfrm>
            <a:off x="3666960" y="15210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9" name=""/>
          <p:cNvSpPr/>
          <p:nvPr/>
        </p:nvSpPr>
        <p:spPr>
          <a:xfrm>
            <a:off x="3759120" y="15620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0" name=""/>
          <p:cNvSpPr/>
          <p:nvPr/>
        </p:nvSpPr>
        <p:spPr>
          <a:xfrm>
            <a:off x="3794040" y="17017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1" name=""/>
          <p:cNvSpPr/>
          <p:nvPr/>
        </p:nvSpPr>
        <p:spPr>
          <a:xfrm>
            <a:off x="3821040" y="145404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2" name=""/>
          <p:cNvSpPr/>
          <p:nvPr/>
        </p:nvSpPr>
        <p:spPr>
          <a:xfrm>
            <a:off x="3824280" y="13683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3" name=""/>
          <p:cNvSpPr/>
          <p:nvPr/>
        </p:nvSpPr>
        <p:spPr>
          <a:xfrm>
            <a:off x="3722760" y="14526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4" name=""/>
          <p:cNvSpPr/>
          <p:nvPr/>
        </p:nvSpPr>
        <p:spPr>
          <a:xfrm>
            <a:off x="3784680" y="19321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5" name=""/>
          <p:cNvSpPr/>
          <p:nvPr/>
        </p:nvSpPr>
        <p:spPr>
          <a:xfrm>
            <a:off x="3808440" y="18590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6" name=""/>
          <p:cNvSpPr/>
          <p:nvPr/>
        </p:nvSpPr>
        <p:spPr>
          <a:xfrm>
            <a:off x="3710160" y="18637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7" name=""/>
          <p:cNvSpPr/>
          <p:nvPr/>
        </p:nvSpPr>
        <p:spPr>
          <a:xfrm>
            <a:off x="3833640" y="153972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8" name=""/>
          <p:cNvSpPr/>
          <p:nvPr/>
        </p:nvSpPr>
        <p:spPr>
          <a:xfrm>
            <a:off x="3871800" y="16495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9" name=""/>
          <p:cNvSpPr/>
          <p:nvPr/>
        </p:nvSpPr>
        <p:spPr>
          <a:xfrm>
            <a:off x="3906720" y="17892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0" name=""/>
          <p:cNvSpPr/>
          <p:nvPr/>
        </p:nvSpPr>
        <p:spPr>
          <a:xfrm>
            <a:off x="3933720" y="15415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1" name=""/>
          <p:cNvSpPr/>
          <p:nvPr/>
        </p:nvSpPr>
        <p:spPr>
          <a:xfrm>
            <a:off x="3936960" y="14558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2" name=""/>
          <p:cNvSpPr/>
          <p:nvPr/>
        </p:nvSpPr>
        <p:spPr>
          <a:xfrm>
            <a:off x="3852720" y="14144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3" name=""/>
          <p:cNvSpPr/>
          <p:nvPr/>
        </p:nvSpPr>
        <p:spPr>
          <a:xfrm>
            <a:off x="3911760" y="13273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4" name=""/>
          <p:cNvSpPr/>
          <p:nvPr/>
        </p:nvSpPr>
        <p:spPr>
          <a:xfrm>
            <a:off x="3921120" y="194616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5" name=""/>
          <p:cNvSpPr/>
          <p:nvPr/>
        </p:nvSpPr>
        <p:spPr>
          <a:xfrm>
            <a:off x="3956040" y="18558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6" name=""/>
          <p:cNvSpPr/>
          <p:nvPr/>
        </p:nvSpPr>
        <p:spPr>
          <a:xfrm>
            <a:off x="4043520" y="16700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7" name=""/>
          <p:cNvSpPr/>
          <p:nvPr/>
        </p:nvSpPr>
        <p:spPr>
          <a:xfrm>
            <a:off x="4016520" y="172548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8" name=""/>
          <p:cNvSpPr/>
          <p:nvPr/>
        </p:nvSpPr>
        <p:spPr>
          <a:xfrm>
            <a:off x="4051440" y="186516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9" name=""/>
          <p:cNvSpPr/>
          <p:nvPr/>
        </p:nvSpPr>
        <p:spPr>
          <a:xfrm>
            <a:off x="4078440" y="16178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0" name=""/>
          <p:cNvSpPr/>
          <p:nvPr/>
        </p:nvSpPr>
        <p:spPr>
          <a:xfrm>
            <a:off x="4081320" y="153180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1" name=""/>
          <p:cNvSpPr/>
          <p:nvPr/>
        </p:nvSpPr>
        <p:spPr>
          <a:xfrm>
            <a:off x="3979800" y="16160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2" name=""/>
          <p:cNvSpPr/>
          <p:nvPr/>
        </p:nvSpPr>
        <p:spPr>
          <a:xfrm>
            <a:off x="4056120" y="14032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3" name=""/>
          <p:cNvSpPr/>
          <p:nvPr/>
        </p:nvSpPr>
        <p:spPr>
          <a:xfrm>
            <a:off x="4016520" y="13082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4" name=""/>
          <p:cNvSpPr/>
          <p:nvPr/>
        </p:nvSpPr>
        <p:spPr>
          <a:xfrm>
            <a:off x="4068720" y="176040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5" name=""/>
          <p:cNvSpPr/>
          <p:nvPr/>
        </p:nvSpPr>
        <p:spPr>
          <a:xfrm>
            <a:off x="4040280" y="14986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6" name=""/>
          <p:cNvSpPr/>
          <p:nvPr/>
        </p:nvSpPr>
        <p:spPr>
          <a:xfrm>
            <a:off x="4248000" y="17193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7" name=""/>
          <p:cNvSpPr/>
          <p:nvPr/>
        </p:nvSpPr>
        <p:spPr>
          <a:xfrm>
            <a:off x="4194000" y="1344600"/>
            <a:ext cx="3528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8" name=""/>
          <p:cNvSpPr/>
          <p:nvPr/>
        </p:nvSpPr>
        <p:spPr>
          <a:xfrm>
            <a:off x="4176720" y="146988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9" name=""/>
          <p:cNvSpPr/>
          <p:nvPr/>
        </p:nvSpPr>
        <p:spPr>
          <a:xfrm>
            <a:off x="4167360" y="19447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0" name=""/>
          <p:cNvSpPr/>
          <p:nvPr/>
        </p:nvSpPr>
        <p:spPr>
          <a:xfrm>
            <a:off x="4238640" y="19494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1" name=""/>
          <p:cNvSpPr/>
          <p:nvPr/>
        </p:nvSpPr>
        <p:spPr>
          <a:xfrm>
            <a:off x="4164120" y="18813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2" name=""/>
          <p:cNvSpPr/>
          <p:nvPr/>
        </p:nvSpPr>
        <p:spPr>
          <a:xfrm>
            <a:off x="4146480" y="168264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3" name=""/>
          <p:cNvSpPr/>
          <p:nvPr/>
        </p:nvSpPr>
        <p:spPr>
          <a:xfrm>
            <a:off x="4199040" y="7272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4" name=""/>
          <p:cNvSpPr/>
          <p:nvPr/>
        </p:nvSpPr>
        <p:spPr>
          <a:xfrm>
            <a:off x="3645000" y="60948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5" name=""/>
          <p:cNvSpPr/>
          <p:nvPr/>
        </p:nvSpPr>
        <p:spPr>
          <a:xfrm>
            <a:off x="3679920" y="74916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6" name=""/>
          <p:cNvSpPr/>
          <p:nvPr/>
        </p:nvSpPr>
        <p:spPr>
          <a:xfrm>
            <a:off x="3686040" y="11746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7" name=""/>
          <p:cNvSpPr/>
          <p:nvPr/>
        </p:nvSpPr>
        <p:spPr>
          <a:xfrm>
            <a:off x="3703680" y="10526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8" name=""/>
          <p:cNvSpPr/>
          <p:nvPr/>
        </p:nvSpPr>
        <p:spPr>
          <a:xfrm>
            <a:off x="3618000" y="1092240"/>
            <a:ext cx="3636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9" name=""/>
          <p:cNvSpPr/>
          <p:nvPr/>
        </p:nvSpPr>
        <p:spPr>
          <a:xfrm>
            <a:off x="3598920" y="9748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0" name=""/>
          <p:cNvSpPr/>
          <p:nvPr/>
        </p:nvSpPr>
        <p:spPr>
          <a:xfrm>
            <a:off x="3670200" y="9795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1" name=""/>
          <p:cNvSpPr/>
          <p:nvPr/>
        </p:nvSpPr>
        <p:spPr>
          <a:xfrm>
            <a:off x="3693960" y="9064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2" name=""/>
          <p:cNvSpPr/>
          <p:nvPr/>
        </p:nvSpPr>
        <p:spPr>
          <a:xfrm>
            <a:off x="3595680" y="9111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3" name=""/>
          <p:cNvSpPr/>
          <p:nvPr/>
        </p:nvSpPr>
        <p:spPr>
          <a:xfrm>
            <a:off x="3728880" y="8161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4" name=""/>
          <p:cNvSpPr/>
          <p:nvPr/>
        </p:nvSpPr>
        <p:spPr>
          <a:xfrm>
            <a:off x="3578400" y="7128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5" name=""/>
          <p:cNvSpPr/>
          <p:nvPr/>
        </p:nvSpPr>
        <p:spPr>
          <a:xfrm>
            <a:off x="3697200" y="64440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6" name=""/>
          <p:cNvSpPr/>
          <p:nvPr/>
        </p:nvSpPr>
        <p:spPr>
          <a:xfrm>
            <a:off x="3789360" y="6858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7" name=""/>
          <p:cNvSpPr/>
          <p:nvPr/>
        </p:nvSpPr>
        <p:spPr>
          <a:xfrm>
            <a:off x="3824280" y="8254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8" name=""/>
          <p:cNvSpPr/>
          <p:nvPr/>
        </p:nvSpPr>
        <p:spPr>
          <a:xfrm>
            <a:off x="3851280" y="5778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9" name=""/>
          <p:cNvSpPr/>
          <p:nvPr/>
        </p:nvSpPr>
        <p:spPr>
          <a:xfrm>
            <a:off x="3753000" y="5763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0" name=""/>
          <p:cNvSpPr/>
          <p:nvPr/>
        </p:nvSpPr>
        <p:spPr>
          <a:xfrm>
            <a:off x="3848040" y="112860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1" name=""/>
          <p:cNvSpPr/>
          <p:nvPr/>
        </p:nvSpPr>
        <p:spPr>
          <a:xfrm>
            <a:off x="3762360" y="1168560"/>
            <a:ext cx="3636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2" name=""/>
          <p:cNvSpPr/>
          <p:nvPr/>
        </p:nvSpPr>
        <p:spPr>
          <a:xfrm>
            <a:off x="3751200" y="11001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3" name=""/>
          <p:cNvSpPr/>
          <p:nvPr/>
        </p:nvSpPr>
        <p:spPr>
          <a:xfrm>
            <a:off x="3814920" y="105552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4" name=""/>
          <p:cNvSpPr/>
          <p:nvPr/>
        </p:nvSpPr>
        <p:spPr>
          <a:xfrm>
            <a:off x="3838680" y="9828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5" name=""/>
          <p:cNvSpPr/>
          <p:nvPr/>
        </p:nvSpPr>
        <p:spPr>
          <a:xfrm>
            <a:off x="3740040" y="9874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6" name=""/>
          <p:cNvSpPr/>
          <p:nvPr/>
        </p:nvSpPr>
        <p:spPr>
          <a:xfrm>
            <a:off x="3863880" y="6634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7" name=""/>
          <p:cNvSpPr/>
          <p:nvPr/>
        </p:nvSpPr>
        <p:spPr>
          <a:xfrm>
            <a:off x="3902040" y="7732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8" name=""/>
          <p:cNvSpPr/>
          <p:nvPr/>
        </p:nvSpPr>
        <p:spPr>
          <a:xfrm>
            <a:off x="3936960" y="9129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9" name=""/>
          <p:cNvSpPr/>
          <p:nvPr/>
        </p:nvSpPr>
        <p:spPr>
          <a:xfrm>
            <a:off x="3963960" y="6652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0" name=""/>
          <p:cNvSpPr/>
          <p:nvPr/>
        </p:nvSpPr>
        <p:spPr>
          <a:xfrm>
            <a:off x="3967200" y="5796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1" name=""/>
          <p:cNvSpPr/>
          <p:nvPr/>
        </p:nvSpPr>
        <p:spPr>
          <a:xfrm>
            <a:off x="3846600" y="124920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2" name=""/>
          <p:cNvSpPr/>
          <p:nvPr/>
        </p:nvSpPr>
        <p:spPr>
          <a:xfrm>
            <a:off x="3927600" y="11430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3" name=""/>
          <p:cNvSpPr/>
          <p:nvPr/>
        </p:nvSpPr>
        <p:spPr>
          <a:xfrm>
            <a:off x="3951360" y="10699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4" name=""/>
          <p:cNvSpPr/>
          <p:nvPr/>
        </p:nvSpPr>
        <p:spPr>
          <a:xfrm>
            <a:off x="3986280" y="9795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5" name=""/>
          <p:cNvSpPr/>
          <p:nvPr/>
        </p:nvSpPr>
        <p:spPr>
          <a:xfrm>
            <a:off x="4073400" y="7938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6" name=""/>
          <p:cNvSpPr/>
          <p:nvPr/>
        </p:nvSpPr>
        <p:spPr>
          <a:xfrm>
            <a:off x="4046400" y="8492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7" name=""/>
          <p:cNvSpPr/>
          <p:nvPr/>
        </p:nvSpPr>
        <p:spPr>
          <a:xfrm>
            <a:off x="4081320" y="9889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8" name=""/>
          <p:cNvSpPr/>
          <p:nvPr/>
        </p:nvSpPr>
        <p:spPr>
          <a:xfrm>
            <a:off x="4108320" y="74124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9" name=""/>
          <p:cNvSpPr/>
          <p:nvPr/>
        </p:nvSpPr>
        <p:spPr>
          <a:xfrm>
            <a:off x="4111560" y="6555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0" name=""/>
          <p:cNvSpPr/>
          <p:nvPr/>
        </p:nvSpPr>
        <p:spPr>
          <a:xfrm>
            <a:off x="4010040" y="7398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1" name=""/>
          <p:cNvSpPr/>
          <p:nvPr/>
        </p:nvSpPr>
        <p:spPr>
          <a:xfrm>
            <a:off x="4000680" y="121428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2" name=""/>
          <p:cNvSpPr/>
          <p:nvPr/>
        </p:nvSpPr>
        <p:spPr>
          <a:xfrm>
            <a:off x="4071960" y="12193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3" name=""/>
          <p:cNvSpPr/>
          <p:nvPr/>
        </p:nvSpPr>
        <p:spPr>
          <a:xfrm>
            <a:off x="4095720" y="11462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4" name=""/>
          <p:cNvSpPr/>
          <p:nvPr/>
        </p:nvSpPr>
        <p:spPr>
          <a:xfrm>
            <a:off x="3997440" y="11509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5" name=""/>
          <p:cNvSpPr/>
          <p:nvPr/>
        </p:nvSpPr>
        <p:spPr>
          <a:xfrm>
            <a:off x="4098960" y="8841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6" name=""/>
          <p:cNvSpPr/>
          <p:nvPr/>
        </p:nvSpPr>
        <p:spPr>
          <a:xfrm>
            <a:off x="4070520" y="6224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7" name=""/>
          <p:cNvSpPr/>
          <p:nvPr/>
        </p:nvSpPr>
        <p:spPr>
          <a:xfrm>
            <a:off x="4206960" y="5936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8" name=""/>
          <p:cNvSpPr/>
          <p:nvPr/>
        </p:nvSpPr>
        <p:spPr>
          <a:xfrm>
            <a:off x="4216320" y="1185840"/>
            <a:ext cx="367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9" name=""/>
          <p:cNvSpPr/>
          <p:nvPr/>
        </p:nvSpPr>
        <p:spPr>
          <a:xfrm>
            <a:off x="4197240" y="10684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0" name=""/>
          <p:cNvSpPr/>
          <p:nvPr/>
        </p:nvSpPr>
        <p:spPr>
          <a:xfrm>
            <a:off x="4194000" y="1004760"/>
            <a:ext cx="3528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1" name=""/>
          <p:cNvSpPr/>
          <p:nvPr/>
        </p:nvSpPr>
        <p:spPr>
          <a:xfrm>
            <a:off x="4176720" y="8064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2" name=""/>
          <p:cNvSpPr/>
          <p:nvPr/>
        </p:nvSpPr>
        <p:spPr>
          <a:xfrm>
            <a:off x="3327480" y="29415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3" name=""/>
          <p:cNvSpPr/>
          <p:nvPr/>
        </p:nvSpPr>
        <p:spPr>
          <a:xfrm>
            <a:off x="3362400" y="30812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4" name=""/>
          <p:cNvSpPr/>
          <p:nvPr/>
        </p:nvSpPr>
        <p:spPr>
          <a:xfrm>
            <a:off x="3389400" y="283356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5" name=""/>
          <p:cNvSpPr/>
          <p:nvPr/>
        </p:nvSpPr>
        <p:spPr>
          <a:xfrm>
            <a:off x="3290760" y="28321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6" name=""/>
          <p:cNvSpPr/>
          <p:nvPr/>
        </p:nvSpPr>
        <p:spPr>
          <a:xfrm>
            <a:off x="3386160" y="33847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7" name=""/>
          <p:cNvSpPr/>
          <p:nvPr/>
        </p:nvSpPr>
        <p:spPr>
          <a:xfrm>
            <a:off x="3300480" y="3424320"/>
            <a:ext cx="3636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8" name=""/>
          <p:cNvSpPr/>
          <p:nvPr/>
        </p:nvSpPr>
        <p:spPr>
          <a:xfrm>
            <a:off x="3281400" y="330660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9" name=""/>
          <p:cNvSpPr/>
          <p:nvPr/>
        </p:nvSpPr>
        <p:spPr>
          <a:xfrm>
            <a:off x="3352680" y="33116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0" name=""/>
          <p:cNvSpPr/>
          <p:nvPr/>
        </p:nvSpPr>
        <p:spPr>
          <a:xfrm>
            <a:off x="3376440" y="32385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1" name=""/>
          <p:cNvSpPr/>
          <p:nvPr/>
        </p:nvSpPr>
        <p:spPr>
          <a:xfrm>
            <a:off x="3309840" y="31957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2" name=""/>
          <p:cNvSpPr/>
          <p:nvPr/>
        </p:nvSpPr>
        <p:spPr>
          <a:xfrm>
            <a:off x="3411360" y="3147840"/>
            <a:ext cx="3528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3" name=""/>
          <p:cNvSpPr/>
          <p:nvPr/>
        </p:nvSpPr>
        <p:spPr>
          <a:xfrm>
            <a:off x="3379680" y="29764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4" name=""/>
          <p:cNvSpPr/>
          <p:nvPr/>
        </p:nvSpPr>
        <p:spPr>
          <a:xfrm>
            <a:off x="2992320" y="31305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5" name=""/>
          <p:cNvSpPr/>
          <p:nvPr/>
        </p:nvSpPr>
        <p:spPr>
          <a:xfrm>
            <a:off x="3422520" y="33195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6" name=""/>
          <p:cNvSpPr/>
          <p:nvPr/>
        </p:nvSpPr>
        <p:spPr>
          <a:xfrm>
            <a:off x="2438280" y="30132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7" name=""/>
          <p:cNvSpPr/>
          <p:nvPr/>
        </p:nvSpPr>
        <p:spPr>
          <a:xfrm>
            <a:off x="2473200" y="31528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8" name=""/>
          <p:cNvSpPr/>
          <p:nvPr/>
        </p:nvSpPr>
        <p:spPr>
          <a:xfrm>
            <a:off x="2500200" y="29052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9" name=""/>
          <p:cNvSpPr/>
          <p:nvPr/>
        </p:nvSpPr>
        <p:spPr>
          <a:xfrm>
            <a:off x="2503440" y="28195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0" name=""/>
          <p:cNvSpPr/>
          <p:nvPr/>
        </p:nvSpPr>
        <p:spPr>
          <a:xfrm>
            <a:off x="2401920" y="290340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1" name=""/>
          <p:cNvSpPr/>
          <p:nvPr/>
        </p:nvSpPr>
        <p:spPr>
          <a:xfrm>
            <a:off x="2496960" y="3456000"/>
            <a:ext cx="3528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2" name=""/>
          <p:cNvSpPr/>
          <p:nvPr/>
        </p:nvSpPr>
        <p:spPr>
          <a:xfrm>
            <a:off x="2411280" y="3495600"/>
            <a:ext cx="367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3" name=""/>
          <p:cNvSpPr/>
          <p:nvPr/>
        </p:nvSpPr>
        <p:spPr>
          <a:xfrm>
            <a:off x="2392200" y="33782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4" name=""/>
          <p:cNvSpPr/>
          <p:nvPr/>
        </p:nvSpPr>
        <p:spPr>
          <a:xfrm>
            <a:off x="2463840" y="33829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5" name=""/>
          <p:cNvSpPr/>
          <p:nvPr/>
        </p:nvSpPr>
        <p:spPr>
          <a:xfrm>
            <a:off x="2487600" y="33098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6" name=""/>
          <p:cNvSpPr/>
          <p:nvPr/>
        </p:nvSpPr>
        <p:spPr>
          <a:xfrm>
            <a:off x="2389320" y="33148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7" name=""/>
          <p:cNvSpPr/>
          <p:nvPr/>
        </p:nvSpPr>
        <p:spPr>
          <a:xfrm>
            <a:off x="2522520" y="32194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8" name=""/>
          <p:cNvSpPr/>
          <p:nvPr/>
        </p:nvSpPr>
        <p:spPr>
          <a:xfrm>
            <a:off x="2371680" y="31161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9" name=""/>
          <p:cNvSpPr/>
          <p:nvPr/>
        </p:nvSpPr>
        <p:spPr>
          <a:xfrm>
            <a:off x="2490840" y="30481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0" name=""/>
          <p:cNvSpPr/>
          <p:nvPr/>
        </p:nvSpPr>
        <p:spPr>
          <a:xfrm>
            <a:off x="2583000" y="308916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1" name=""/>
          <p:cNvSpPr/>
          <p:nvPr/>
        </p:nvSpPr>
        <p:spPr>
          <a:xfrm>
            <a:off x="2617920" y="322884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2" name=""/>
          <p:cNvSpPr/>
          <p:nvPr/>
        </p:nvSpPr>
        <p:spPr>
          <a:xfrm>
            <a:off x="2644920" y="298116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3" name=""/>
          <p:cNvSpPr/>
          <p:nvPr/>
        </p:nvSpPr>
        <p:spPr>
          <a:xfrm>
            <a:off x="2647800" y="289548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4" name=""/>
          <p:cNvSpPr/>
          <p:nvPr/>
        </p:nvSpPr>
        <p:spPr>
          <a:xfrm>
            <a:off x="2546280" y="29797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5" name=""/>
          <p:cNvSpPr/>
          <p:nvPr/>
        </p:nvSpPr>
        <p:spPr>
          <a:xfrm>
            <a:off x="2544840" y="35035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6" name=""/>
          <p:cNvSpPr/>
          <p:nvPr/>
        </p:nvSpPr>
        <p:spPr>
          <a:xfrm>
            <a:off x="2608200" y="34592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7" name=""/>
          <p:cNvSpPr/>
          <p:nvPr/>
        </p:nvSpPr>
        <p:spPr>
          <a:xfrm>
            <a:off x="2631960" y="33861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8" name=""/>
          <p:cNvSpPr/>
          <p:nvPr/>
        </p:nvSpPr>
        <p:spPr>
          <a:xfrm>
            <a:off x="2533680" y="33908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9" name=""/>
          <p:cNvSpPr/>
          <p:nvPr/>
        </p:nvSpPr>
        <p:spPr>
          <a:xfrm>
            <a:off x="2657520" y="30672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0" name=""/>
          <p:cNvSpPr/>
          <p:nvPr/>
        </p:nvSpPr>
        <p:spPr>
          <a:xfrm>
            <a:off x="2695680" y="31766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1" name=""/>
          <p:cNvSpPr/>
          <p:nvPr/>
        </p:nvSpPr>
        <p:spPr>
          <a:xfrm>
            <a:off x="2730600" y="33163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2" name=""/>
          <p:cNvSpPr/>
          <p:nvPr/>
        </p:nvSpPr>
        <p:spPr>
          <a:xfrm>
            <a:off x="2757600" y="30686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3" name=""/>
          <p:cNvSpPr/>
          <p:nvPr/>
        </p:nvSpPr>
        <p:spPr>
          <a:xfrm>
            <a:off x="2760840" y="29829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4" name=""/>
          <p:cNvSpPr/>
          <p:nvPr/>
        </p:nvSpPr>
        <p:spPr>
          <a:xfrm>
            <a:off x="2676600" y="29415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5" name=""/>
          <p:cNvSpPr/>
          <p:nvPr/>
        </p:nvSpPr>
        <p:spPr>
          <a:xfrm>
            <a:off x="2735280" y="28544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6" name=""/>
          <p:cNvSpPr/>
          <p:nvPr/>
        </p:nvSpPr>
        <p:spPr>
          <a:xfrm>
            <a:off x="2744640" y="347328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7" name=""/>
          <p:cNvSpPr/>
          <p:nvPr/>
        </p:nvSpPr>
        <p:spPr>
          <a:xfrm>
            <a:off x="2779560" y="33829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8" name=""/>
          <p:cNvSpPr/>
          <p:nvPr/>
        </p:nvSpPr>
        <p:spPr>
          <a:xfrm>
            <a:off x="2867040" y="31971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9" name=""/>
          <p:cNvSpPr/>
          <p:nvPr/>
        </p:nvSpPr>
        <p:spPr>
          <a:xfrm>
            <a:off x="2840040" y="32529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0" name=""/>
          <p:cNvSpPr/>
          <p:nvPr/>
        </p:nvSpPr>
        <p:spPr>
          <a:xfrm>
            <a:off x="2874960" y="33926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1" name=""/>
          <p:cNvSpPr/>
          <p:nvPr/>
        </p:nvSpPr>
        <p:spPr>
          <a:xfrm>
            <a:off x="2901960" y="31449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2" name=""/>
          <p:cNvSpPr/>
          <p:nvPr/>
        </p:nvSpPr>
        <p:spPr>
          <a:xfrm>
            <a:off x="2905200" y="30592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3" name=""/>
          <p:cNvSpPr/>
          <p:nvPr/>
        </p:nvSpPr>
        <p:spPr>
          <a:xfrm>
            <a:off x="2803680" y="31431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4" name=""/>
          <p:cNvSpPr/>
          <p:nvPr/>
        </p:nvSpPr>
        <p:spPr>
          <a:xfrm>
            <a:off x="2879640" y="293040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5" name=""/>
          <p:cNvSpPr/>
          <p:nvPr/>
        </p:nvSpPr>
        <p:spPr>
          <a:xfrm>
            <a:off x="2840040" y="28353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6" name=""/>
          <p:cNvSpPr/>
          <p:nvPr/>
        </p:nvSpPr>
        <p:spPr>
          <a:xfrm>
            <a:off x="2892600" y="32878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7" name=""/>
          <p:cNvSpPr/>
          <p:nvPr/>
        </p:nvSpPr>
        <p:spPr>
          <a:xfrm>
            <a:off x="2863800" y="30258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8" name=""/>
          <p:cNvSpPr/>
          <p:nvPr/>
        </p:nvSpPr>
        <p:spPr>
          <a:xfrm>
            <a:off x="3071880" y="32464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9" name=""/>
          <p:cNvSpPr/>
          <p:nvPr/>
        </p:nvSpPr>
        <p:spPr>
          <a:xfrm>
            <a:off x="3098880" y="29988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0" name=""/>
          <p:cNvSpPr/>
          <p:nvPr/>
        </p:nvSpPr>
        <p:spPr>
          <a:xfrm>
            <a:off x="3102120" y="29131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1" name=""/>
          <p:cNvSpPr/>
          <p:nvPr/>
        </p:nvSpPr>
        <p:spPr>
          <a:xfrm>
            <a:off x="3017880" y="28717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2" name=""/>
          <p:cNvSpPr/>
          <p:nvPr/>
        </p:nvSpPr>
        <p:spPr>
          <a:xfrm>
            <a:off x="3000240" y="29973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3" name=""/>
          <p:cNvSpPr/>
          <p:nvPr/>
        </p:nvSpPr>
        <p:spPr>
          <a:xfrm>
            <a:off x="2990880" y="34718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4" name=""/>
          <p:cNvSpPr/>
          <p:nvPr/>
        </p:nvSpPr>
        <p:spPr>
          <a:xfrm>
            <a:off x="3062160" y="34765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5" name=""/>
          <p:cNvSpPr/>
          <p:nvPr/>
        </p:nvSpPr>
        <p:spPr>
          <a:xfrm>
            <a:off x="3086280" y="340344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6" name=""/>
          <p:cNvSpPr/>
          <p:nvPr/>
        </p:nvSpPr>
        <p:spPr>
          <a:xfrm>
            <a:off x="2987640" y="34084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7" name=""/>
          <p:cNvSpPr/>
          <p:nvPr/>
        </p:nvSpPr>
        <p:spPr>
          <a:xfrm>
            <a:off x="3121200" y="33130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8" name=""/>
          <p:cNvSpPr/>
          <p:nvPr/>
        </p:nvSpPr>
        <p:spPr>
          <a:xfrm>
            <a:off x="2970360" y="320976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9" name=""/>
          <p:cNvSpPr/>
          <p:nvPr/>
        </p:nvSpPr>
        <p:spPr>
          <a:xfrm>
            <a:off x="3089160" y="31417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0" name=""/>
          <p:cNvSpPr/>
          <p:nvPr/>
        </p:nvSpPr>
        <p:spPr>
          <a:xfrm>
            <a:off x="3181320" y="318276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1" name=""/>
          <p:cNvSpPr/>
          <p:nvPr/>
        </p:nvSpPr>
        <p:spPr>
          <a:xfrm>
            <a:off x="3216240" y="33228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2" name=""/>
          <p:cNvSpPr/>
          <p:nvPr/>
        </p:nvSpPr>
        <p:spPr>
          <a:xfrm>
            <a:off x="3243240" y="30751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3" name=""/>
          <p:cNvSpPr/>
          <p:nvPr/>
        </p:nvSpPr>
        <p:spPr>
          <a:xfrm>
            <a:off x="3246480" y="29894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4" name=""/>
          <p:cNvSpPr/>
          <p:nvPr/>
        </p:nvSpPr>
        <p:spPr>
          <a:xfrm>
            <a:off x="3162240" y="29480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5" name=""/>
          <p:cNvSpPr/>
          <p:nvPr/>
        </p:nvSpPr>
        <p:spPr>
          <a:xfrm>
            <a:off x="3144960" y="30733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6" name=""/>
          <p:cNvSpPr/>
          <p:nvPr/>
        </p:nvSpPr>
        <p:spPr>
          <a:xfrm>
            <a:off x="3220920" y="286056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7" name=""/>
          <p:cNvSpPr/>
          <p:nvPr/>
        </p:nvSpPr>
        <p:spPr>
          <a:xfrm>
            <a:off x="3230640" y="34797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8" name=""/>
          <p:cNvSpPr/>
          <p:nvPr/>
        </p:nvSpPr>
        <p:spPr>
          <a:xfrm>
            <a:off x="3132000" y="348444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9" name=""/>
          <p:cNvSpPr/>
          <p:nvPr/>
        </p:nvSpPr>
        <p:spPr>
          <a:xfrm>
            <a:off x="3287880" y="31179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0" name=""/>
          <p:cNvSpPr/>
          <p:nvPr/>
        </p:nvSpPr>
        <p:spPr>
          <a:xfrm>
            <a:off x="2333520" y="217476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1" name=""/>
          <p:cNvSpPr/>
          <p:nvPr/>
        </p:nvSpPr>
        <p:spPr>
          <a:xfrm>
            <a:off x="2336760" y="20890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2" name=""/>
          <p:cNvSpPr/>
          <p:nvPr/>
        </p:nvSpPr>
        <p:spPr>
          <a:xfrm>
            <a:off x="2330280" y="272556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3" name=""/>
          <p:cNvSpPr/>
          <p:nvPr/>
        </p:nvSpPr>
        <p:spPr>
          <a:xfrm>
            <a:off x="2324160" y="23176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4" name=""/>
          <p:cNvSpPr/>
          <p:nvPr/>
        </p:nvSpPr>
        <p:spPr>
          <a:xfrm>
            <a:off x="3357720" y="20653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5" name=""/>
          <p:cNvSpPr/>
          <p:nvPr/>
        </p:nvSpPr>
        <p:spPr>
          <a:xfrm>
            <a:off x="3392640" y="22050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6" name=""/>
          <p:cNvSpPr/>
          <p:nvPr/>
        </p:nvSpPr>
        <p:spPr>
          <a:xfrm>
            <a:off x="3403440" y="270972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7" name=""/>
          <p:cNvSpPr/>
          <p:nvPr/>
        </p:nvSpPr>
        <p:spPr>
          <a:xfrm>
            <a:off x="3416400" y="250812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8" name=""/>
          <p:cNvSpPr/>
          <p:nvPr/>
        </p:nvSpPr>
        <p:spPr>
          <a:xfrm>
            <a:off x="3330720" y="2548080"/>
            <a:ext cx="3636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9" name=""/>
          <p:cNvSpPr/>
          <p:nvPr/>
        </p:nvSpPr>
        <p:spPr>
          <a:xfrm>
            <a:off x="3311640" y="24303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0" name=""/>
          <p:cNvSpPr/>
          <p:nvPr/>
        </p:nvSpPr>
        <p:spPr>
          <a:xfrm>
            <a:off x="3382920" y="24354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1" name=""/>
          <p:cNvSpPr/>
          <p:nvPr/>
        </p:nvSpPr>
        <p:spPr>
          <a:xfrm>
            <a:off x="3406680" y="23623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2" name=""/>
          <p:cNvSpPr/>
          <p:nvPr/>
        </p:nvSpPr>
        <p:spPr>
          <a:xfrm>
            <a:off x="3340080" y="23194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3" name=""/>
          <p:cNvSpPr/>
          <p:nvPr/>
        </p:nvSpPr>
        <p:spPr>
          <a:xfrm>
            <a:off x="3441600" y="227160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4" name=""/>
          <p:cNvSpPr/>
          <p:nvPr/>
        </p:nvSpPr>
        <p:spPr>
          <a:xfrm>
            <a:off x="3409920" y="21002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5" name=""/>
          <p:cNvSpPr/>
          <p:nvPr/>
        </p:nvSpPr>
        <p:spPr>
          <a:xfrm>
            <a:off x="3022560" y="22543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6" name=""/>
          <p:cNvSpPr/>
          <p:nvPr/>
        </p:nvSpPr>
        <p:spPr>
          <a:xfrm>
            <a:off x="3452760" y="24433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7" name=""/>
          <p:cNvSpPr/>
          <p:nvPr/>
        </p:nvSpPr>
        <p:spPr>
          <a:xfrm>
            <a:off x="2468520" y="213660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8" name=""/>
          <p:cNvSpPr/>
          <p:nvPr/>
        </p:nvSpPr>
        <p:spPr>
          <a:xfrm>
            <a:off x="2503440" y="22766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9" name=""/>
          <p:cNvSpPr/>
          <p:nvPr/>
        </p:nvSpPr>
        <p:spPr>
          <a:xfrm>
            <a:off x="2530440" y="20289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0" name=""/>
          <p:cNvSpPr/>
          <p:nvPr/>
        </p:nvSpPr>
        <p:spPr>
          <a:xfrm>
            <a:off x="2509920" y="270180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1" name=""/>
          <p:cNvSpPr/>
          <p:nvPr/>
        </p:nvSpPr>
        <p:spPr>
          <a:xfrm>
            <a:off x="2432160" y="20271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2" name=""/>
          <p:cNvSpPr/>
          <p:nvPr/>
        </p:nvSpPr>
        <p:spPr>
          <a:xfrm>
            <a:off x="2527200" y="25797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3" name=""/>
          <p:cNvSpPr/>
          <p:nvPr/>
        </p:nvSpPr>
        <p:spPr>
          <a:xfrm>
            <a:off x="2441520" y="2619360"/>
            <a:ext cx="367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4" name=""/>
          <p:cNvSpPr/>
          <p:nvPr/>
        </p:nvSpPr>
        <p:spPr>
          <a:xfrm>
            <a:off x="2422440" y="25020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5" name=""/>
          <p:cNvSpPr/>
          <p:nvPr/>
        </p:nvSpPr>
        <p:spPr>
          <a:xfrm>
            <a:off x="2494080" y="25066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6" name=""/>
          <p:cNvSpPr/>
          <p:nvPr/>
        </p:nvSpPr>
        <p:spPr>
          <a:xfrm>
            <a:off x="2517840" y="24336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7" name=""/>
          <p:cNvSpPr/>
          <p:nvPr/>
        </p:nvSpPr>
        <p:spPr>
          <a:xfrm>
            <a:off x="2419200" y="243828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8" name=""/>
          <p:cNvSpPr/>
          <p:nvPr/>
        </p:nvSpPr>
        <p:spPr>
          <a:xfrm>
            <a:off x="2552760" y="23432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9" name=""/>
          <p:cNvSpPr/>
          <p:nvPr/>
        </p:nvSpPr>
        <p:spPr>
          <a:xfrm>
            <a:off x="2401920" y="22399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0" name=""/>
          <p:cNvSpPr/>
          <p:nvPr/>
        </p:nvSpPr>
        <p:spPr>
          <a:xfrm>
            <a:off x="2521080" y="21718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1" name=""/>
          <p:cNvSpPr/>
          <p:nvPr/>
        </p:nvSpPr>
        <p:spPr>
          <a:xfrm>
            <a:off x="2612880" y="22129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2" name=""/>
          <p:cNvSpPr/>
          <p:nvPr/>
        </p:nvSpPr>
        <p:spPr>
          <a:xfrm>
            <a:off x="2647800" y="23526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3" name=""/>
          <p:cNvSpPr/>
          <p:nvPr/>
        </p:nvSpPr>
        <p:spPr>
          <a:xfrm>
            <a:off x="2674800" y="21049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4" name=""/>
          <p:cNvSpPr/>
          <p:nvPr/>
        </p:nvSpPr>
        <p:spPr>
          <a:xfrm>
            <a:off x="2678040" y="20192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5" name=""/>
          <p:cNvSpPr/>
          <p:nvPr/>
        </p:nvSpPr>
        <p:spPr>
          <a:xfrm>
            <a:off x="2576520" y="21034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6" name=""/>
          <p:cNvSpPr/>
          <p:nvPr/>
        </p:nvSpPr>
        <p:spPr>
          <a:xfrm>
            <a:off x="2671920" y="265572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7" name=""/>
          <p:cNvSpPr/>
          <p:nvPr/>
        </p:nvSpPr>
        <p:spPr>
          <a:xfrm>
            <a:off x="2585880" y="2695680"/>
            <a:ext cx="367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8" name=""/>
          <p:cNvSpPr/>
          <p:nvPr/>
        </p:nvSpPr>
        <p:spPr>
          <a:xfrm>
            <a:off x="2575080" y="26272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9" name=""/>
          <p:cNvSpPr/>
          <p:nvPr/>
        </p:nvSpPr>
        <p:spPr>
          <a:xfrm>
            <a:off x="2638440" y="25830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0" name=""/>
          <p:cNvSpPr/>
          <p:nvPr/>
        </p:nvSpPr>
        <p:spPr>
          <a:xfrm>
            <a:off x="2662200" y="25099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1" name=""/>
          <p:cNvSpPr/>
          <p:nvPr/>
        </p:nvSpPr>
        <p:spPr>
          <a:xfrm>
            <a:off x="2563920" y="25146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2" name=""/>
          <p:cNvSpPr/>
          <p:nvPr/>
        </p:nvSpPr>
        <p:spPr>
          <a:xfrm>
            <a:off x="2687760" y="219060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3" name=""/>
          <p:cNvSpPr/>
          <p:nvPr/>
        </p:nvSpPr>
        <p:spPr>
          <a:xfrm>
            <a:off x="2725560" y="2300400"/>
            <a:ext cx="3528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4" name=""/>
          <p:cNvSpPr/>
          <p:nvPr/>
        </p:nvSpPr>
        <p:spPr>
          <a:xfrm>
            <a:off x="2760840" y="24400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5" name=""/>
          <p:cNvSpPr/>
          <p:nvPr/>
        </p:nvSpPr>
        <p:spPr>
          <a:xfrm>
            <a:off x="2787480" y="21924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6" name=""/>
          <p:cNvSpPr/>
          <p:nvPr/>
        </p:nvSpPr>
        <p:spPr>
          <a:xfrm>
            <a:off x="2790720" y="21067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7" name=""/>
          <p:cNvSpPr/>
          <p:nvPr/>
        </p:nvSpPr>
        <p:spPr>
          <a:xfrm>
            <a:off x="2252520" y="20829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8" name=""/>
          <p:cNvSpPr/>
          <p:nvPr/>
        </p:nvSpPr>
        <p:spPr>
          <a:xfrm>
            <a:off x="2670120" y="27766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9" name=""/>
          <p:cNvSpPr/>
          <p:nvPr/>
        </p:nvSpPr>
        <p:spPr>
          <a:xfrm>
            <a:off x="2751120" y="26701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0" name=""/>
          <p:cNvSpPr/>
          <p:nvPr/>
        </p:nvSpPr>
        <p:spPr>
          <a:xfrm>
            <a:off x="2774880" y="259704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1" name=""/>
          <p:cNvSpPr/>
          <p:nvPr/>
        </p:nvSpPr>
        <p:spPr>
          <a:xfrm>
            <a:off x="2809800" y="25066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2" name=""/>
          <p:cNvSpPr/>
          <p:nvPr/>
        </p:nvSpPr>
        <p:spPr>
          <a:xfrm>
            <a:off x="2897280" y="23209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3" name=""/>
          <p:cNvSpPr/>
          <p:nvPr/>
        </p:nvSpPr>
        <p:spPr>
          <a:xfrm>
            <a:off x="2870280" y="237636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4" name=""/>
          <p:cNvSpPr/>
          <p:nvPr/>
        </p:nvSpPr>
        <p:spPr>
          <a:xfrm>
            <a:off x="2905200" y="251604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5" name=""/>
          <p:cNvSpPr/>
          <p:nvPr/>
        </p:nvSpPr>
        <p:spPr>
          <a:xfrm>
            <a:off x="2932200" y="226836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6" name=""/>
          <p:cNvSpPr/>
          <p:nvPr/>
        </p:nvSpPr>
        <p:spPr>
          <a:xfrm>
            <a:off x="2935440" y="218268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7" name=""/>
          <p:cNvSpPr/>
          <p:nvPr/>
        </p:nvSpPr>
        <p:spPr>
          <a:xfrm>
            <a:off x="2833560" y="22669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8" name=""/>
          <p:cNvSpPr/>
          <p:nvPr/>
        </p:nvSpPr>
        <p:spPr>
          <a:xfrm>
            <a:off x="2909880" y="20541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9" name=""/>
          <p:cNvSpPr/>
          <p:nvPr/>
        </p:nvSpPr>
        <p:spPr>
          <a:xfrm>
            <a:off x="2824200" y="27417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0" name=""/>
          <p:cNvSpPr/>
          <p:nvPr/>
        </p:nvSpPr>
        <p:spPr>
          <a:xfrm>
            <a:off x="2895480" y="27464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1" name=""/>
          <p:cNvSpPr/>
          <p:nvPr/>
        </p:nvSpPr>
        <p:spPr>
          <a:xfrm>
            <a:off x="2919240" y="26733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2" name=""/>
          <p:cNvSpPr/>
          <p:nvPr/>
        </p:nvSpPr>
        <p:spPr>
          <a:xfrm>
            <a:off x="2820960" y="26780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3" name=""/>
          <p:cNvSpPr/>
          <p:nvPr/>
        </p:nvSpPr>
        <p:spPr>
          <a:xfrm>
            <a:off x="2922480" y="241128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4" name=""/>
          <p:cNvSpPr/>
          <p:nvPr/>
        </p:nvSpPr>
        <p:spPr>
          <a:xfrm>
            <a:off x="2894040" y="21495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5" name=""/>
          <p:cNvSpPr/>
          <p:nvPr/>
        </p:nvSpPr>
        <p:spPr>
          <a:xfrm>
            <a:off x="3102120" y="23702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6" name=""/>
          <p:cNvSpPr/>
          <p:nvPr/>
        </p:nvSpPr>
        <p:spPr>
          <a:xfrm>
            <a:off x="3129120" y="21225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7" name=""/>
          <p:cNvSpPr/>
          <p:nvPr/>
        </p:nvSpPr>
        <p:spPr>
          <a:xfrm>
            <a:off x="3132000" y="20368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8" name=""/>
          <p:cNvSpPr/>
          <p:nvPr/>
        </p:nvSpPr>
        <p:spPr>
          <a:xfrm>
            <a:off x="3030480" y="212076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9" name=""/>
          <p:cNvSpPr/>
          <p:nvPr/>
        </p:nvSpPr>
        <p:spPr>
          <a:xfrm>
            <a:off x="3125880" y="26733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0" name=""/>
          <p:cNvSpPr/>
          <p:nvPr/>
        </p:nvSpPr>
        <p:spPr>
          <a:xfrm>
            <a:off x="3040200" y="2712960"/>
            <a:ext cx="3636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1" name=""/>
          <p:cNvSpPr/>
          <p:nvPr/>
        </p:nvSpPr>
        <p:spPr>
          <a:xfrm>
            <a:off x="3021120" y="25956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2" name=""/>
          <p:cNvSpPr/>
          <p:nvPr/>
        </p:nvSpPr>
        <p:spPr>
          <a:xfrm>
            <a:off x="3092400" y="26002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3" name=""/>
          <p:cNvSpPr/>
          <p:nvPr/>
        </p:nvSpPr>
        <p:spPr>
          <a:xfrm>
            <a:off x="3116160" y="25272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4" name=""/>
          <p:cNvSpPr/>
          <p:nvPr/>
        </p:nvSpPr>
        <p:spPr>
          <a:xfrm>
            <a:off x="3017880" y="25322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5" name=""/>
          <p:cNvSpPr/>
          <p:nvPr/>
        </p:nvSpPr>
        <p:spPr>
          <a:xfrm>
            <a:off x="3151080" y="24368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6" name=""/>
          <p:cNvSpPr/>
          <p:nvPr/>
        </p:nvSpPr>
        <p:spPr>
          <a:xfrm>
            <a:off x="3011400" y="24289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7" name=""/>
          <p:cNvSpPr/>
          <p:nvPr/>
        </p:nvSpPr>
        <p:spPr>
          <a:xfrm>
            <a:off x="3119400" y="22654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8" name=""/>
          <p:cNvSpPr/>
          <p:nvPr/>
        </p:nvSpPr>
        <p:spPr>
          <a:xfrm>
            <a:off x="3211560" y="230652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9" name=""/>
          <p:cNvSpPr/>
          <p:nvPr/>
        </p:nvSpPr>
        <p:spPr>
          <a:xfrm>
            <a:off x="3246480" y="244620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0" name=""/>
          <p:cNvSpPr/>
          <p:nvPr/>
        </p:nvSpPr>
        <p:spPr>
          <a:xfrm>
            <a:off x="3273480" y="219852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1" name=""/>
          <p:cNvSpPr/>
          <p:nvPr/>
        </p:nvSpPr>
        <p:spPr>
          <a:xfrm>
            <a:off x="3276720" y="211284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2" name=""/>
          <p:cNvSpPr/>
          <p:nvPr/>
        </p:nvSpPr>
        <p:spPr>
          <a:xfrm>
            <a:off x="3192480" y="20718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3" name=""/>
          <p:cNvSpPr/>
          <p:nvPr/>
        </p:nvSpPr>
        <p:spPr>
          <a:xfrm>
            <a:off x="3174840" y="21970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4" name=""/>
          <p:cNvSpPr/>
          <p:nvPr/>
        </p:nvSpPr>
        <p:spPr>
          <a:xfrm>
            <a:off x="3270240" y="27496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5" name=""/>
          <p:cNvSpPr/>
          <p:nvPr/>
        </p:nvSpPr>
        <p:spPr>
          <a:xfrm>
            <a:off x="3173400" y="27208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6" name=""/>
          <p:cNvSpPr/>
          <p:nvPr/>
        </p:nvSpPr>
        <p:spPr>
          <a:xfrm>
            <a:off x="3236760" y="26766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7" name=""/>
          <p:cNvSpPr/>
          <p:nvPr/>
        </p:nvSpPr>
        <p:spPr>
          <a:xfrm>
            <a:off x="3260880" y="26035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8" name=""/>
          <p:cNvSpPr/>
          <p:nvPr/>
        </p:nvSpPr>
        <p:spPr>
          <a:xfrm>
            <a:off x="3162240" y="26082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9" name=""/>
          <p:cNvSpPr/>
          <p:nvPr/>
        </p:nvSpPr>
        <p:spPr>
          <a:xfrm>
            <a:off x="3317760" y="22417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0" name=""/>
          <p:cNvSpPr/>
          <p:nvPr/>
        </p:nvSpPr>
        <p:spPr>
          <a:xfrm>
            <a:off x="3089160" y="2822400"/>
            <a:ext cx="367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1" name=""/>
          <p:cNvSpPr/>
          <p:nvPr/>
        </p:nvSpPr>
        <p:spPr>
          <a:xfrm>
            <a:off x="4041720" y="32529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2" name=""/>
          <p:cNvSpPr/>
          <p:nvPr/>
        </p:nvSpPr>
        <p:spPr>
          <a:xfrm>
            <a:off x="3487680" y="31352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3" name=""/>
          <p:cNvSpPr/>
          <p:nvPr/>
        </p:nvSpPr>
        <p:spPr>
          <a:xfrm>
            <a:off x="3522600" y="32749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4" name=""/>
          <p:cNvSpPr/>
          <p:nvPr/>
        </p:nvSpPr>
        <p:spPr>
          <a:xfrm>
            <a:off x="3549600" y="302724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5" name=""/>
          <p:cNvSpPr/>
          <p:nvPr/>
        </p:nvSpPr>
        <p:spPr>
          <a:xfrm>
            <a:off x="3552840" y="29415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6" name=""/>
          <p:cNvSpPr/>
          <p:nvPr/>
        </p:nvSpPr>
        <p:spPr>
          <a:xfrm>
            <a:off x="3451320" y="30258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7" name=""/>
          <p:cNvSpPr/>
          <p:nvPr/>
        </p:nvSpPr>
        <p:spPr>
          <a:xfrm>
            <a:off x="3441600" y="350028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8" name=""/>
          <p:cNvSpPr/>
          <p:nvPr/>
        </p:nvSpPr>
        <p:spPr>
          <a:xfrm>
            <a:off x="3513240" y="35053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9" name=""/>
          <p:cNvSpPr/>
          <p:nvPr/>
        </p:nvSpPr>
        <p:spPr>
          <a:xfrm>
            <a:off x="3537000" y="34322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0" name=""/>
          <p:cNvSpPr/>
          <p:nvPr/>
        </p:nvSpPr>
        <p:spPr>
          <a:xfrm>
            <a:off x="3438360" y="34369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1" name=""/>
          <p:cNvSpPr/>
          <p:nvPr/>
        </p:nvSpPr>
        <p:spPr>
          <a:xfrm>
            <a:off x="3571920" y="334152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2" name=""/>
          <p:cNvSpPr/>
          <p:nvPr/>
        </p:nvSpPr>
        <p:spPr>
          <a:xfrm>
            <a:off x="3540240" y="31701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3" name=""/>
          <p:cNvSpPr/>
          <p:nvPr/>
        </p:nvSpPr>
        <p:spPr>
          <a:xfrm>
            <a:off x="3632040" y="32115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4" name=""/>
          <p:cNvSpPr/>
          <p:nvPr/>
        </p:nvSpPr>
        <p:spPr>
          <a:xfrm>
            <a:off x="3666960" y="33512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5" name=""/>
          <p:cNvSpPr/>
          <p:nvPr/>
        </p:nvSpPr>
        <p:spPr>
          <a:xfrm>
            <a:off x="3693960" y="31035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6" name=""/>
          <p:cNvSpPr/>
          <p:nvPr/>
        </p:nvSpPr>
        <p:spPr>
          <a:xfrm>
            <a:off x="3697200" y="30178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7" name=""/>
          <p:cNvSpPr/>
          <p:nvPr/>
        </p:nvSpPr>
        <p:spPr>
          <a:xfrm>
            <a:off x="3595680" y="31021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8" name=""/>
          <p:cNvSpPr/>
          <p:nvPr/>
        </p:nvSpPr>
        <p:spPr>
          <a:xfrm>
            <a:off x="3683160" y="34322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9" name=""/>
          <p:cNvSpPr/>
          <p:nvPr/>
        </p:nvSpPr>
        <p:spPr>
          <a:xfrm>
            <a:off x="3583080" y="35132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0" name=""/>
          <p:cNvSpPr/>
          <p:nvPr/>
        </p:nvSpPr>
        <p:spPr>
          <a:xfrm>
            <a:off x="3706920" y="31892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1" name=""/>
          <p:cNvSpPr/>
          <p:nvPr/>
        </p:nvSpPr>
        <p:spPr>
          <a:xfrm>
            <a:off x="3745080" y="329868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2" name=""/>
          <p:cNvSpPr/>
          <p:nvPr/>
        </p:nvSpPr>
        <p:spPr>
          <a:xfrm>
            <a:off x="3780000" y="343836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3" name=""/>
          <p:cNvSpPr/>
          <p:nvPr/>
        </p:nvSpPr>
        <p:spPr>
          <a:xfrm>
            <a:off x="3807000" y="31910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4" name=""/>
          <p:cNvSpPr/>
          <p:nvPr/>
        </p:nvSpPr>
        <p:spPr>
          <a:xfrm>
            <a:off x="3809880" y="310500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5" name=""/>
          <p:cNvSpPr/>
          <p:nvPr/>
        </p:nvSpPr>
        <p:spPr>
          <a:xfrm>
            <a:off x="3726000" y="30639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6" name=""/>
          <p:cNvSpPr/>
          <p:nvPr/>
        </p:nvSpPr>
        <p:spPr>
          <a:xfrm>
            <a:off x="3784680" y="29764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7" name=""/>
          <p:cNvSpPr/>
          <p:nvPr/>
        </p:nvSpPr>
        <p:spPr>
          <a:xfrm>
            <a:off x="3828960" y="35053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8" name=""/>
          <p:cNvSpPr/>
          <p:nvPr/>
        </p:nvSpPr>
        <p:spPr>
          <a:xfrm>
            <a:off x="3916440" y="33195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9" name=""/>
          <p:cNvSpPr/>
          <p:nvPr/>
        </p:nvSpPr>
        <p:spPr>
          <a:xfrm>
            <a:off x="3889440" y="33750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0" name=""/>
          <p:cNvSpPr/>
          <p:nvPr/>
        </p:nvSpPr>
        <p:spPr>
          <a:xfrm>
            <a:off x="3924360" y="35146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1" name=""/>
          <p:cNvSpPr/>
          <p:nvPr/>
        </p:nvSpPr>
        <p:spPr>
          <a:xfrm>
            <a:off x="3951360" y="32670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2" name=""/>
          <p:cNvSpPr/>
          <p:nvPr/>
        </p:nvSpPr>
        <p:spPr>
          <a:xfrm>
            <a:off x="3954600" y="31813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3" name=""/>
          <p:cNvSpPr/>
          <p:nvPr/>
        </p:nvSpPr>
        <p:spPr>
          <a:xfrm>
            <a:off x="3852720" y="32655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4" name=""/>
          <p:cNvSpPr/>
          <p:nvPr/>
        </p:nvSpPr>
        <p:spPr>
          <a:xfrm>
            <a:off x="3929040" y="30528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5" name=""/>
          <p:cNvSpPr/>
          <p:nvPr/>
        </p:nvSpPr>
        <p:spPr>
          <a:xfrm>
            <a:off x="3889440" y="295740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6" name=""/>
          <p:cNvSpPr/>
          <p:nvPr/>
        </p:nvSpPr>
        <p:spPr>
          <a:xfrm>
            <a:off x="3941640" y="34099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7" name=""/>
          <p:cNvSpPr/>
          <p:nvPr/>
        </p:nvSpPr>
        <p:spPr>
          <a:xfrm>
            <a:off x="3913200" y="314784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8" name=""/>
          <p:cNvSpPr/>
          <p:nvPr/>
        </p:nvSpPr>
        <p:spPr>
          <a:xfrm>
            <a:off x="4121280" y="336852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9" name=""/>
          <p:cNvSpPr/>
          <p:nvPr/>
        </p:nvSpPr>
        <p:spPr>
          <a:xfrm>
            <a:off x="4148280" y="31212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0" name=""/>
          <p:cNvSpPr/>
          <p:nvPr/>
        </p:nvSpPr>
        <p:spPr>
          <a:xfrm>
            <a:off x="4151160" y="303516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1" name=""/>
          <p:cNvSpPr/>
          <p:nvPr/>
        </p:nvSpPr>
        <p:spPr>
          <a:xfrm>
            <a:off x="4067280" y="29941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2" name=""/>
          <p:cNvSpPr/>
          <p:nvPr/>
        </p:nvSpPr>
        <p:spPr>
          <a:xfrm>
            <a:off x="4049640" y="31194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3" name=""/>
          <p:cNvSpPr/>
          <p:nvPr/>
        </p:nvSpPr>
        <p:spPr>
          <a:xfrm>
            <a:off x="4170240" y="34354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4" name=""/>
          <p:cNvSpPr/>
          <p:nvPr/>
        </p:nvSpPr>
        <p:spPr>
          <a:xfrm>
            <a:off x="4019400" y="33321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5" name=""/>
          <p:cNvSpPr/>
          <p:nvPr/>
        </p:nvSpPr>
        <p:spPr>
          <a:xfrm>
            <a:off x="4138560" y="326376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6" name=""/>
          <p:cNvSpPr/>
          <p:nvPr/>
        </p:nvSpPr>
        <p:spPr>
          <a:xfrm>
            <a:off x="4230720" y="33051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7" name=""/>
          <p:cNvSpPr/>
          <p:nvPr/>
        </p:nvSpPr>
        <p:spPr>
          <a:xfrm>
            <a:off x="4211640" y="307008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8" name=""/>
          <p:cNvSpPr/>
          <p:nvPr/>
        </p:nvSpPr>
        <p:spPr>
          <a:xfrm>
            <a:off x="4194000" y="3195720"/>
            <a:ext cx="3528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9" name=""/>
          <p:cNvSpPr/>
          <p:nvPr/>
        </p:nvSpPr>
        <p:spPr>
          <a:xfrm>
            <a:off x="4071960" y="237636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0" name=""/>
          <p:cNvSpPr/>
          <p:nvPr/>
        </p:nvSpPr>
        <p:spPr>
          <a:xfrm>
            <a:off x="3517920" y="22590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1" name=""/>
          <p:cNvSpPr/>
          <p:nvPr/>
        </p:nvSpPr>
        <p:spPr>
          <a:xfrm>
            <a:off x="3552840" y="23986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2" name=""/>
          <p:cNvSpPr/>
          <p:nvPr/>
        </p:nvSpPr>
        <p:spPr>
          <a:xfrm>
            <a:off x="3559320" y="28242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3" name=""/>
          <p:cNvSpPr/>
          <p:nvPr/>
        </p:nvSpPr>
        <p:spPr>
          <a:xfrm>
            <a:off x="3576600" y="270180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4" name=""/>
          <p:cNvSpPr/>
          <p:nvPr/>
        </p:nvSpPr>
        <p:spPr>
          <a:xfrm>
            <a:off x="3490920" y="2741760"/>
            <a:ext cx="3636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5" name=""/>
          <p:cNvSpPr/>
          <p:nvPr/>
        </p:nvSpPr>
        <p:spPr>
          <a:xfrm>
            <a:off x="3471840" y="26240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6" name=""/>
          <p:cNvSpPr/>
          <p:nvPr/>
        </p:nvSpPr>
        <p:spPr>
          <a:xfrm>
            <a:off x="3543480" y="26290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7" name=""/>
          <p:cNvSpPr/>
          <p:nvPr/>
        </p:nvSpPr>
        <p:spPr>
          <a:xfrm>
            <a:off x="3567240" y="25560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8" name=""/>
          <p:cNvSpPr/>
          <p:nvPr/>
        </p:nvSpPr>
        <p:spPr>
          <a:xfrm>
            <a:off x="3468600" y="25606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9" name=""/>
          <p:cNvSpPr/>
          <p:nvPr/>
        </p:nvSpPr>
        <p:spPr>
          <a:xfrm>
            <a:off x="3602160" y="24652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0" name=""/>
          <p:cNvSpPr/>
          <p:nvPr/>
        </p:nvSpPr>
        <p:spPr>
          <a:xfrm>
            <a:off x="3510000" y="23464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1" name=""/>
          <p:cNvSpPr/>
          <p:nvPr/>
        </p:nvSpPr>
        <p:spPr>
          <a:xfrm>
            <a:off x="3570120" y="22939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2" name=""/>
          <p:cNvSpPr/>
          <p:nvPr/>
        </p:nvSpPr>
        <p:spPr>
          <a:xfrm>
            <a:off x="3662280" y="23353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3" name=""/>
          <p:cNvSpPr/>
          <p:nvPr/>
        </p:nvSpPr>
        <p:spPr>
          <a:xfrm>
            <a:off x="3697200" y="24750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4" name=""/>
          <p:cNvSpPr/>
          <p:nvPr/>
        </p:nvSpPr>
        <p:spPr>
          <a:xfrm>
            <a:off x="3724200" y="22273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5" name=""/>
          <p:cNvSpPr/>
          <p:nvPr/>
        </p:nvSpPr>
        <p:spPr>
          <a:xfrm>
            <a:off x="3625920" y="222552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6" name=""/>
          <p:cNvSpPr/>
          <p:nvPr/>
        </p:nvSpPr>
        <p:spPr>
          <a:xfrm>
            <a:off x="3720960" y="27781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7" name=""/>
          <p:cNvSpPr/>
          <p:nvPr/>
        </p:nvSpPr>
        <p:spPr>
          <a:xfrm>
            <a:off x="3635280" y="2817720"/>
            <a:ext cx="367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8" name=""/>
          <p:cNvSpPr/>
          <p:nvPr/>
        </p:nvSpPr>
        <p:spPr>
          <a:xfrm>
            <a:off x="3624120" y="27496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9" name=""/>
          <p:cNvSpPr/>
          <p:nvPr/>
        </p:nvSpPr>
        <p:spPr>
          <a:xfrm>
            <a:off x="3687840" y="27050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0" name=""/>
          <p:cNvSpPr/>
          <p:nvPr/>
        </p:nvSpPr>
        <p:spPr>
          <a:xfrm>
            <a:off x="3711600" y="263196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1" name=""/>
          <p:cNvSpPr/>
          <p:nvPr/>
        </p:nvSpPr>
        <p:spPr>
          <a:xfrm>
            <a:off x="3613320" y="26370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2" name=""/>
          <p:cNvSpPr/>
          <p:nvPr/>
        </p:nvSpPr>
        <p:spPr>
          <a:xfrm>
            <a:off x="3736800" y="2313000"/>
            <a:ext cx="3528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3" name=""/>
          <p:cNvSpPr/>
          <p:nvPr/>
        </p:nvSpPr>
        <p:spPr>
          <a:xfrm>
            <a:off x="3774960" y="24224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4" name=""/>
          <p:cNvSpPr/>
          <p:nvPr/>
        </p:nvSpPr>
        <p:spPr>
          <a:xfrm>
            <a:off x="3809880" y="25621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5" name=""/>
          <p:cNvSpPr/>
          <p:nvPr/>
        </p:nvSpPr>
        <p:spPr>
          <a:xfrm>
            <a:off x="3836880" y="231444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6" name=""/>
          <p:cNvSpPr/>
          <p:nvPr/>
        </p:nvSpPr>
        <p:spPr>
          <a:xfrm>
            <a:off x="3840120" y="22287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7" name=""/>
          <p:cNvSpPr/>
          <p:nvPr/>
        </p:nvSpPr>
        <p:spPr>
          <a:xfrm>
            <a:off x="3755880" y="21877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8" name=""/>
          <p:cNvSpPr/>
          <p:nvPr/>
        </p:nvSpPr>
        <p:spPr>
          <a:xfrm>
            <a:off x="3719520" y="28987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9" name=""/>
          <p:cNvSpPr/>
          <p:nvPr/>
        </p:nvSpPr>
        <p:spPr>
          <a:xfrm>
            <a:off x="3800520" y="27925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0" name=""/>
          <p:cNvSpPr/>
          <p:nvPr/>
        </p:nvSpPr>
        <p:spPr>
          <a:xfrm>
            <a:off x="3824280" y="27194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1" name=""/>
          <p:cNvSpPr/>
          <p:nvPr/>
        </p:nvSpPr>
        <p:spPr>
          <a:xfrm>
            <a:off x="3859200" y="26290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2" name=""/>
          <p:cNvSpPr/>
          <p:nvPr/>
        </p:nvSpPr>
        <p:spPr>
          <a:xfrm>
            <a:off x="3946680" y="24433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3" name=""/>
          <p:cNvSpPr/>
          <p:nvPr/>
        </p:nvSpPr>
        <p:spPr>
          <a:xfrm>
            <a:off x="3919680" y="24987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4" name=""/>
          <p:cNvSpPr/>
          <p:nvPr/>
        </p:nvSpPr>
        <p:spPr>
          <a:xfrm>
            <a:off x="3954600" y="26384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5" name=""/>
          <p:cNvSpPr/>
          <p:nvPr/>
        </p:nvSpPr>
        <p:spPr>
          <a:xfrm>
            <a:off x="3981600" y="23907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6" name=""/>
          <p:cNvSpPr/>
          <p:nvPr/>
        </p:nvSpPr>
        <p:spPr>
          <a:xfrm>
            <a:off x="3984480" y="23050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7" name=""/>
          <p:cNvSpPr/>
          <p:nvPr/>
        </p:nvSpPr>
        <p:spPr>
          <a:xfrm>
            <a:off x="3882960" y="23893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8" name=""/>
          <p:cNvSpPr/>
          <p:nvPr/>
        </p:nvSpPr>
        <p:spPr>
          <a:xfrm>
            <a:off x="3873600" y="28638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9" name=""/>
          <p:cNvSpPr/>
          <p:nvPr/>
        </p:nvSpPr>
        <p:spPr>
          <a:xfrm>
            <a:off x="3944880" y="286848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0" name=""/>
          <p:cNvSpPr/>
          <p:nvPr/>
        </p:nvSpPr>
        <p:spPr>
          <a:xfrm>
            <a:off x="3968640" y="27957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1" name=""/>
          <p:cNvSpPr/>
          <p:nvPr/>
        </p:nvSpPr>
        <p:spPr>
          <a:xfrm>
            <a:off x="3870360" y="28004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2" name=""/>
          <p:cNvSpPr/>
          <p:nvPr/>
        </p:nvSpPr>
        <p:spPr>
          <a:xfrm>
            <a:off x="3971880" y="25336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3" name=""/>
          <p:cNvSpPr/>
          <p:nvPr/>
        </p:nvSpPr>
        <p:spPr>
          <a:xfrm>
            <a:off x="3943440" y="227160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4" name=""/>
          <p:cNvSpPr/>
          <p:nvPr/>
        </p:nvSpPr>
        <p:spPr>
          <a:xfrm>
            <a:off x="4151160" y="24922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5" name=""/>
          <p:cNvSpPr/>
          <p:nvPr/>
        </p:nvSpPr>
        <p:spPr>
          <a:xfrm>
            <a:off x="4178160" y="224460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6" name=""/>
          <p:cNvSpPr/>
          <p:nvPr/>
        </p:nvSpPr>
        <p:spPr>
          <a:xfrm>
            <a:off x="4079880" y="22431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7" name=""/>
          <p:cNvSpPr/>
          <p:nvPr/>
        </p:nvSpPr>
        <p:spPr>
          <a:xfrm>
            <a:off x="4175280" y="27957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8" name=""/>
          <p:cNvSpPr/>
          <p:nvPr/>
        </p:nvSpPr>
        <p:spPr>
          <a:xfrm>
            <a:off x="4089240" y="2835360"/>
            <a:ext cx="367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9" name=""/>
          <p:cNvSpPr/>
          <p:nvPr/>
        </p:nvSpPr>
        <p:spPr>
          <a:xfrm>
            <a:off x="4070520" y="271764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0" name=""/>
          <p:cNvSpPr/>
          <p:nvPr/>
        </p:nvSpPr>
        <p:spPr>
          <a:xfrm>
            <a:off x="4141800" y="27226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1" name=""/>
          <p:cNvSpPr/>
          <p:nvPr/>
        </p:nvSpPr>
        <p:spPr>
          <a:xfrm>
            <a:off x="4165560" y="26496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2" name=""/>
          <p:cNvSpPr/>
          <p:nvPr/>
        </p:nvSpPr>
        <p:spPr>
          <a:xfrm>
            <a:off x="4067280" y="26542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3" name=""/>
          <p:cNvSpPr/>
          <p:nvPr/>
        </p:nvSpPr>
        <p:spPr>
          <a:xfrm>
            <a:off x="4200480" y="255888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4" name=""/>
          <p:cNvSpPr/>
          <p:nvPr/>
        </p:nvSpPr>
        <p:spPr>
          <a:xfrm>
            <a:off x="4049640" y="24559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5" name=""/>
          <p:cNvSpPr/>
          <p:nvPr/>
        </p:nvSpPr>
        <p:spPr>
          <a:xfrm>
            <a:off x="4168800" y="23875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6" name=""/>
          <p:cNvSpPr/>
          <p:nvPr/>
        </p:nvSpPr>
        <p:spPr>
          <a:xfrm>
            <a:off x="4241880" y="21938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7" name=""/>
          <p:cNvSpPr/>
          <p:nvPr/>
        </p:nvSpPr>
        <p:spPr>
          <a:xfrm>
            <a:off x="4224240" y="23194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8" name=""/>
          <p:cNvSpPr/>
          <p:nvPr/>
        </p:nvSpPr>
        <p:spPr>
          <a:xfrm>
            <a:off x="4222800" y="28432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9" name=""/>
          <p:cNvSpPr/>
          <p:nvPr/>
        </p:nvSpPr>
        <p:spPr>
          <a:xfrm>
            <a:off x="4211640" y="27306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0" name=""/>
          <p:cNvSpPr/>
          <p:nvPr/>
        </p:nvSpPr>
        <p:spPr>
          <a:xfrm>
            <a:off x="4138560" y="2944800"/>
            <a:ext cx="367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1" name=""/>
          <p:cNvSpPr/>
          <p:nvPr/>
        </p:nvSpPr>
        <p:spPr>
          <a:xfrm>
            <a:off x="3492360" y="20098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2" name=""/>
          <p:cNvSpPr/>
          <p:nvPr/>
        </p:nvSpPr>
        <p:spPr>
          <a:xfrm>
            <a:off x="3483000" y="21528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3" name=""/>
          <p:cNvSpPr/>
          <p:nvPr/>
        </p:nvSpPr>
        <p:spPr>
          <a:xfrm>
            <a:off x="3575160" y="21938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4" name=""/>
          <p:cNvSpPr/>
          <p:nvPr/>
        </p:nvSpPr>
        <p:spPr>
          <a:xfrm>
            <a:off x="3637080" y="208584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5" name=""/>
          <p:cNvSpPr/>
          <p:nvPr/>
        </p:nvSpPr>
        <p:spPr>
          <a:xfrm>
            <a:off x="3538440" y="20844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6" name=""/>
          <p:cNvSpPr/>
          <p:nvPr/>
        </p:nvSpPr>
        <p:spPr>
          <a:xfrm>
            <a:off x="3649680" y="21718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7" name=""/>
          <p:cNvSpPr/>
          <p:nvPr/>
        </p:nvSpPr>
        <p:spPr>
          <a:xfrm>
            <a:off x="4035600" y="20019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8" name=""/>
          <p:cNvSpPr/>
          <p:nvPr/>
        </p:nvSpPr>
        <p:spPr>
          <a:xfrm>
            <a:off x="3753000" y="20876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9" name=""/>
          <p:cNvSpPr/>
          <p:nvPr/>
        </p:nvSpPr>
        <p:spPr>
          <a:xfrm>
            <a:off x="3668760" y="20462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0" name=""/>
          <p:cNvSpPr/>
          <p:nvPr/>
        </p:nvSpPr>
        <p:spPr>
          <a:xfrm>
            <a:off x="3897360" y="216360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1" name=""/>
          <p:cNvSpPr/>
          <p:nvPr/>
        </p:nvSpPr>
        <p:spPr>
          <a:xfrm>
            <a:off x="3871800" y="20350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2" name=""/>
          <p:cNvSpPr/>
          <p:nvPr/>
        </p:nvSpPr>
        <p:spPr>
          <a:xfrm>
            <a:off x="3855960" y="21304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3" name=""/>
          <p:cNvSpPr/>
          <p:nvPr/>
        </p:nvSpPr>
        <p:spPr>
          <a:xfrm>
            <a:off x="4091040" y="21034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4" name=""/>
          <p:cNvSpPr/>
          <p:nvPr/>
        </p:nvSpPr>
        <p:spPr>
          <a:xfrm>
            <a:off x="4094280" y="20178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5" name=""/>
          <p:cNvSpPr/>
          <p:nvPr/>
        </p:nvSpPr>
        <p:spPr>
          <a:xfrm>
            <a:off x="3992400" y="210168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6" name=""/>
          <p:cNvSpPr/>
          <p:nvPr/>
        </p:nvSpPr>
        <p:spPr>
          <a:xfrm>
            <a:off x="4235400" y="21798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7" name=""/>
          <p:cNvSpPr/>
          <p:nvPr/>
        </p:nvSpPr>
        <p:spPr>
          <a:xfrm>
            <a:off x="4238640" y="209376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8" name=""/>
          <p:cNvSpPr/>
          <p:nvPr/>
        </p:nvSpPr>
        <p:spPr>
          <a:xfrm>
            <a:off x="4154400" y="20527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9" name=""/>
          <p:cNvSpPr/>
          <p:nvPr/>
        </p:nvSpPr>
        <p:spPr>
          <a:xfrm>
            <a:off x="4137120" y="21780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0" name=""/>
          <p:cNvSpPr/>
          <p:nvPr/>
        </p:nvSpPr>
        <p:spPr>
          <a:xfrm>
            <a:off x="2320920" y="19908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1" name=""/>
          <p:cNvSpPr/>
          <p:nvPr/>
        </p:nvSpPr>
        <p:spPr>
          <a:xfrm>
            <a:off x="768240" y="22813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2" name=""/>
          <p:cNvSpPr/>
          <p:nvPr/>
        </p:nvSpPr>
        <p:spPr>
          <a:xfrm>
            <a:off x="803160" y="24210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3" name=""/>
          <p:cNvSpPr/>
          <p:nvPr/>
        </p:nvSpPr>
        <p:spPr>
          <a:xfrm>
            <a:off x="830160" y="21733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4" name=""/>
          <p:cNvSpPr/>
          <p:nvPr/>
        </p:nvSpPr>
        <p:spPr>
          <a:xfrm>
            <a:off x="833400" y="20876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5" name=""/>
          <p:cNvSpPr/>
          <p:nvPr/>
        </p:nvSpPr>
        <p:spPr>
          <a:xfrm>
            <a:off x="749160" y="20462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6" name=""/>
          <p:cNvSpPr/>
          <p:nvPr/>
        </p:nvSpPr>
        <p:spPr>
          <a:xfrm>
            <a:off x="608040" y="23605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7" name=""/>
          <p:cNvSpPr/>
          <p:nvPr/>
        </p:nvSpPr>
        <p:spPr>
          <a:xfrm>
            <a:off x="687240" y="28447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8" name=""/>
          <p:cNvSpPr/>
          <p:nvPr/>
        </p:nvSpPr>
        <p:spPr>
          <a:xfrm>
            <a:off x="662040" y="22924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9" name=""/>
          <p:cNvSpPr/>
          <p:nvPr/>
        </p:nvSpPr>
        <p:spPr>
          <a:xfrm>
            <a:off x="593640" y="2092320"/>
            <a:ext cx="367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0" name=""/>
          <p:cNvSpPr/>
          <p:nvPr/>
        </p:nvSpPr>
        <p:spPr>
          <a:xfrm>
            <a:off x="731880" y="21718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1" name=""/>
          <p:cNvSpPr/>
          <p:nvPr/>
        </p:nvSpPr>
        <p:spPr>
          <a:xfrm>
            <a:off x="826920" y="27241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2" name=""/>
          <p:cNvSpPr/>
          <p:nvPr/>
        </p:nvSpPr>
        <p:spPr>
          <a:xfrm>
            <a:off x="669960" y="2700360"/>
            <a:ext cx="34920" cy="302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3" name=""/>
          <p:cNvSpPr/>
          <p:nvPr/>
        </p:nvSpPr>
        <p:spPr>
          <a:xfrm>
            <a:off x="741240" y="2763720"/>
            <a:ext cx="367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4" name=""/>
          <p:cNvSpPr/>
          <p:nvPr/>
        </p:nvSpPr>
        <p:spPr>
          <a:xfrm>
            <a:off x="722160" y="26463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5" name=""/>
          <p:cNvSpPr/>
          <p:nvPr/>
        </p:nvSpPr>
        <p:spPr>
          <a:xfrm>
            <a:off x="793800" y="26510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6" name=""/>
          <p:cNvSpPr/>
          <p:nvPr/>
        </p:nvSpPr>
        <p:spPr>
          <a:xfrm>
            <a:off x="817560" y="257796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7" name=""/>
          <p:cNvSpPr/>
          <p:nvPr/>
        </p:nvSpPr>
        <p:spPr>
          <a:xfrm>
            <a:off x="719280" y="25830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8" name=""/>
          <p:cNvSpPr/>
          <p:nvPr/>
        </p:nvSpPr>
        <p:spPr>
          <a:xfrm>
            <a:off x="620640" y="2546280"/>
            <a:ext cx="34920" cy="302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9" name=""/>
          <p:cNvSpPr/>
          <p:nvPr/>
        </p:nvSpPr>
        <p:spPr>
          <a:xfrm>
            <a:off x="625320" y="263196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0" name=""/>
          <p:cNvSpPr/>
          <p:nvPr/>
        </p:nvSpPr>
        <p:spPr>
          <a:xfrm>
            <a:off x="852480" y="24876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1" name=""/>
          <p:cNvSpPr/>
          <p:nvPr/>
        </p:nvSpPr>
        <p:spPr>
          <a:xfrm>
            <a:off x="701640" y="24512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2" name=""/>
          <p:cNvSpPr/>
          <p:nvPr/>
        </p:nvSpPr>
        <p:spPr>
          <a:xfrm>
            <a:off x="820800" y="23162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3" name=""/>
          <p:cNvSpPr/>
          <p:nvPr/>
        </p:nvSpPr>
        <p:spPr>
          <a:xfrm>
            <a:off x="912960" y="235728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4" name=""/>
          <p:cNvSpPr/>
          <p:nvPr/>
        </p:nvSpPr>
        <p:spPr>
          <a:xfrm>
            <a:off x="947880" y="249696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5" name=""/>
          <p:cNvSpPr/>
          <p:nvPr/>
        </p:nvSpPr>
        <p:spPr>
          <a:xfrm>
            <a:off x="974880" y="22496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6" name=""/>
          <p:cNvSpPr/>
          <p:nvPr/>
        </p:nvSpPr>
        <p:spPr>
          <a:xfrm>
            <a:off x="977760" y="216360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7" name=""/>
          <p:cNvSpPr/>
          <p:nvPr/>
        </p:nvSpPr>
        <p:spPr>
          <a:xfrm>
            <a:off x="876240" y="22478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8" name=""/>
          <p:cNvSpPr/>
          <p:nvPr/>
        </p:nvSpPr>
        <p:spPr>
          <a:xfrm>
            <a:off x="952560" y="20350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9" name=""/>
          <p:cNvSpPr/>
          <p:nvPr/>
        </p:nvSpPr>
        <p:spPr>
          <a:xfrm>
            <a:off x="971640" y="28004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0" name=""/>
          <p:cNvSpPr/>
          <p:nvPr/>
        </p:nvSpPr>
        <p:spPr>
          <a:xfrm>
            <a:off x="885960" y="2840040"/>
            <a:ext cx="3636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1" name=""/>
          <p:cNvSpPr/>
          <p:nvPr/>
        </p:nvSpPr>
        <p:spPr>
          <a:xfrm>
            <a:off x="1162080" y="28926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2" name=""/>
          <p:cNvSpPr/>
          <p:nvPr/>
        </p:nvSpPr>
        <p:spPr>
          <a:xfrm>
            <a:off x="938160" y="27273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3" name=""/>
          <p:cNvSpPr/>
          <p:nvPr/>
        </p:nvSpPr>
        <p:spPr>
          <a:xfrm>
            <a:off x="961920" y="26542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4" name=""/>
          <p:cNvSpPr/>
          <p:nvPr/>
        </p:nvSpPr>
        <p:spPr>
          <a:xfrm>
            <a:off x="950760" y="26035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5" name=""/>
          <p:cNvSpPr/>
          <p:nvPr/>
        </p:nvSpPr>
        <p:spPr>
          <a:xfrm>
            <a:off x="965160" y="239220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6" name=""/>
          <p:cNvSpPr/>
          <p:nvPr/>
        </p:nvSpPr>
        <p:spPr>
          <a:xfrm>
            <a:off x="1998720" y="213984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7" name=""/>
          <p:cNvSpPr/>
          <p:nvPr/>
        </p:nvSpPr>
        <p:spPr>
          <a:xfrm>
            <a:off x="2033640" y="227952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8" name=""/>
          <p:cNvSpPr/>
          <p:nvPr/>
        </p:nvSpPr>
        <p:spPr>
          <a:xfrm>
            <a:off x="2060640" y="203184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9" name=""/>
          <p:cNvSpPr/>
          <p:nvPr/>
        </p:nvSpPr>
        <p:spPr>
          <a:xfrm>
            <a:off x="2044800" y="27846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0" name=""/>
          <p:cNvSpPr/>
          <p:nvPr/>
        </p:nvSpPr>
        <p:spPr>
          <a:xfrm>
            <a:off x="1962000" y="20304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1" name=""/>
          <p:cNvSpPr/>
          <p:nvPr/>
        </p:nvSpPr>
        <p:spPr>
          <a:xfrm>
            <a:off x="2057400" y="25830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2" name=""/>
          <p:cNvSpPr/>
          <p:nvPr/>
        </p:nvSpPr>
        <p:spPr>
          <a:xfrm>
            <a:off x="1971720" y="2622600"/>
            <a:ext cx="3636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3" name=""/>
          <p:cNvSpPr/>
          <p:nvPr/>
        </p:nvSpPr>
        <p:spPr>
          <a:xfrm>
            <a:off x="1952640" y="25052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4" name=""/>
          <p:cNvSpPr/>
          <p:nvPr/>
        </p:nvSpPr>
        <p:spPr>
          <a:xfrm>
            <a:off x="2023920" y="25099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5" name=""/>
          <p:cNvSpPr/>
          <p:nvPr/>
        </p:nvSpPr>
        <p:spPr>
          <a:xfrm>
            <a:off x="1981080" y="23940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6" name=""/>
          <p:cNvSpPr/>
          <p:nvPr/>
        </p:nvSpPr>
        <p:spPr>
          <a:xfrm>
            <a:off x="2082960" y="23464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7" name=""/>
          <p:cNvSpPr/>
          <p:nvPr/>
        </p:nvSpPr>
        <p:spPr>
          <a:xfrm>
            <a:off x="2050920" y="217476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8" name=""/>
          <p:cNvSpPr/>
          <p:nvPr/>
        </p:nvSpPr>
        <p:spPr>
          <a:xfrm>
            <a:off x="2143080" y="22161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9" name=""/>
          <p:cNvSpPr/>
          <p:nvPr/>
        </p:nvSpPr>
        <p:spPr>
          <a:xfrm>
            <a:off x="2178000" y="23558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0" name=""/>
          <p:cNvSpPr/>
          <p:nvPr/>
        </p:nvSpPr>
        <p:spPr>
          <a:xfrm>
            <a:off x="2205000" y="21081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1" name=""/>
          <p:cNvSpPr/>
          <p:nvPr/>
        </p:nvSpPr>
        <p:spPr>
          <a:xfrm>
            <a:off x="2208240" y="20224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2" name=""/>
          <p:cNvSpPr/>
          <p:nvPr/>
        </p:nvSpPr>
        <p:spPr>
          <a:xfrm>
            <a:off x="2117880" y="284940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3" name=""/>
          <p:cNvSpPr/>
          <p:nvPr/>
        </p:nvSpPr>
        <p:spPr>
          <a:xfrm>
            <a:off x="2106720" y="21067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4" name=""/>
          <p:cNvSpPr/>
          <p:nvPr/>
        </p:nvSpPr>
        <p:spPr>
          <a:xfrm>
            <a:off x="2201760" y="26589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5" name=""/>
          <p:cNvSpPr/>
          <p:nvPr/>
        </p:nvSpPr>
        <p:spPr>
          <a:xfrm>
            <a:off x="2116080" y="2698920"/>
            <a:ext cx="367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6" name=""/>
          <p:cNvSpPr/>
          <p:nvPr/>
        </p:nvSpPr>
        <p:spPr>
          <a:xfrm>
            <a:off x="1663560" y="23288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7" name=""/>
          <p:cNvSpPr/>
          <p:nvPr/>
        </p:nvSpPr>
        <p:spPr>
          <a:xfrm>
            <a:off x="2168640" y="258588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8" name=""/>
          <p:cNvSpPr/>
          <p:nvPr/>
        </p:nvSpPr>
        <p:spPr>
          <a:xfrm>
            <a:off x="2192400" y="25131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9" name=""/>
          <p:cNvSpPr/>
          <p:nvPr/>
        </p:nvSpPr>
        <p:spPr>
          <a:xfrm>
            <a:off x="2093760" y="25178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0" name=""/>
          <p:cNvSpPr/>
          <p:nvPr/>
        </p:nvSpPr>
        <p:spPr>
          <a:xfrm>
            <a:off x="2195640" y="22510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1" name=""/>
          <p:cNvSpPr/>
          <p:nvPr/>
        </p:nvSpPr>
        <p:spPr>
          <a:xfrm>
            <a:off x="1109520" y="22114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2" name=""/>
          <p:cNvSpPr/>
          <p:nvPr/>
        </p:nvSpPr>
        <p:spPr>
          <a:xfrm>
            <a:off x="1144440" y="23511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3" name=""/>
          <p:cNvSpPr/>
          <p:nvPr/>
        </p:nvSpPr>
        <p:spPr>
          <a:xfrm>
            <a:off x="1171440" y="21034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4" name=""/>
          <p:cNvSpPr/>
          <p:nvPr/>
        </p:nvSpPr>
        <p:spPr>
          <a:xfrm>
            <a:off x="1174680" y="20178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5" name=""/>
          <p:cNvSpPr/>
          <p:nvPr/>
        </p:nvSpPr>
        <p:spPr>
          <a:xfrm>
            <a:off x="1150920" y="27766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6" name=""/>
          <p:cNvSpPr/>
          <p:nvPr/>
        </p:nvSpPr>
        <p:spPr>
          <a:xfrm>
            <a:off x="1073160" y="210168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7" name=""/>
          <p:cNvSpPr/>
          <p:nvPr/>
        </p:nvSpPr>
        <p:spPr>
          <a:xfrm>
            <a:off x="1168560" y="26542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8" name=""/>
          <p:cNvSpPr/>
          <p:nvPr/>
        </p:nvSpPr>
        <p:spPr>
          <a:xfrm>
            <a:off x="1082520" y="2693880"/>
            <a:ext cx="367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9" name=""/>
          <p:cNvSpPr/>
          <p:nvPr/>
        </p:nvSpPr>
        <p:spPr>
          <a:xfrm>
            <a:off x="1063800" y="25765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0" name=""/>
          <p:cNvSpPr/>
          <p:nvPr/>
        </p:nvSpPr>
        <p:spPr>
          <a:xfrm>
            <a:off x="1135080" y="25812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1" name=""/>
          <p:cNvSpPr/>
          <p:nvPr/>
        </p:nvSpPr>
        <p:spPr>
          <a:xfrm>
            <a:off x="1158840" y="250812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2" name=""/>
          <p:cNvSpPr/>
          <p:nvPr/>
        </p:nvSpPr>
        <p:spPr>
          <a:xfrm>
            <a:off x="1060560" y="25131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3" name=""/>
          <p:cNvSpPr/>
          <p:nvPr/>
        </p:nvSpPr>
        <p:spPr>
          <a:xfrm>
            <a:off x="1193760" y="24177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4" name=""/>
          <p:cNvSpPr/>
          <p:nvPr/>
        </p:nvSpPr>
        <p:spPr>
          <a:xfrm>
            <a:off x="1042920" y="231444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5" name=""/>
          <p:cNvSpPr/>
          <p:nvPr/>
        </p:nvSpPr>
        <p:spPr>
          <a:xfrm>
            <a:off x="1162080" y="22464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6" name=""/>
          <p:cNvSpPr/>
          <p:nvPr/>
        </p:nvSpPr>
        <p:spPr>
          <a:xfrm>
            <a:off x="1254240" y="228744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7" name=""/>
          <p:cNvSpPr/>
          <p:nvPr/>
        </p:nvSpPr>
        <p:spPr>
          <a:xfrm>
            <a:off x="1289160" y="242712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8" name=""/>
          <p:cNvSpPr/>
          <p:nvPr/>
        </p:nvSpPr>
        <p:spPr>
          <a:xfrm>
            <a:off x="1316160" y="21798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9" name=""/>
          <p:cNvSpPr/>
          <p:nvPr/>
        </p:nvSpPr>
        <p:spPr>
          <a:xfrm>
            <a:off x="1319040" y="209376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0" name=""/>
          <p:cNvSpPr/>
          <p:nvPr/>
        </p:nvSpPr>
        <p:spPr>
          <a:xfrm>
            <a:off x="1217520" y="21780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1" name=""/>
          <p:cNvSpPr/>
          <p:nvPr/>
        </p:nvSpPr>
        <p:spPr>
          <a:xfrm>
            <a:off x="1312920" y="27306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2" name=""/>
          <p:cNvSpPr/>
          <p:nvPr/>
        </p:nvSpPr>
        <p:spPr>
          <a:xfrm>
            <a:off x="1227240" y="2770200"/>
            <a:ext cx="3636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3" name=""/>
          <p:cNvSpPr/>
          <p:nvPr/>
        </p:nvSpPr>
        <p:spPr>
          <a:xfrm>
            <a:off x="1216080" y="270180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4" name=""/>
          <p:cNvSpPr/>
          <p:nvPr/>
        </p:nvSpPr>
        <p:spPr>
          <a:xfrm>
            <a:off x="1279440" y="26575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5" name=""/>
          <p:cNvSpPr/>
          <p:nvPr/>
        </p:nvSpPr>
        <p:spPr>
          <a:xfrm>
            <a:off x="1303200" y="25844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6" name=""/>
          <p:cNvSpPr/>
          <p:nvPr/>
        </p:nvSpPr>
        <p:spPr>
          <a:xfrm>
            <a:off x="1204920" y="25891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7" name=""/>
          <p:cNvSpPr/>
          <p:nvPr/>
        </p:nvSpPr>
        <p:spPr>
          <a:xfrm>
            <a:off x="1328760" y="22654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8" name=""/>
          <p:cNvSpPr/>
          <p:nvPr/>
        </p:nvSpPr>
        <p:spPr>
          <a:xfrm>
            <a:off x="1366920" y="23749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9" name=""/>
          <p:cNvSpPr/>
          <p:nvPr/>
        </p:nvSpPr>
        <p:spPr>
          <a:xfrm>
            <a:off x="1401840" y="25146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0" name=""/>
          <p:cNvSpPr/>
          <p:nvPr/>
        </p:nvSpPr>
        <p:spPr>
          <a:xfrm>
            <a:off x="1428840" y="22669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1" name=""/>
          <p:cNvSpPr/>
          <p:nvPr/>
        </p:nvSpPr>
        <p:spPr>
          <a:xfrm>
            <a:off x="1432080" y="21812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2" name=""/>
          <p:cNvSpPr/>
          <p:nvPr/>
        </p:nvSpPr>
        <p:spPr>
          <a:xfrm>
            <a:off x="1347840" y="213984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3" name=""/>
          <p:cNvSpPr/>
          <p:nvPr/>
        </p:nvSpPr>
        <p:spPr>
          <a:xfrm>
            <a:off x="1406520" y="20527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4" name=""/>
          <p:cNvSpPr/>
          <p:nvPr/>
        </p:nvSpPr>
        <p:spPr>
          <a:xfrm>
            <a:off x="1311120" y="28512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5" name=""/>
          <p:cNvSpPr/>
          <p:nvPr/>
        </p:nvSpPr>
        <p:spPr>
          <a:xfrm>
            <a:off x="1392120" y="274464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6" name=""/>
          <p:cNvSpPr/>
          <p:nvPr/>
        </p:nvSpPr>
        <p:spPr>
          <a:xfrm>
            <a:off x="1415880" y="26719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7" name=""/>
          <p:cNvSpPr/>
          <p:nvPr/>
        </p:nvSpPr>
        <p:spPr>
          <a:xfrm>
            <a:off x="1450800" y="2581200"/>
            <a:ext cx="3528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8" name=""/>
          <p:cNvSpPr/>
          <p:nvPr/>
        </p:nvSpPr>
        <p:spPr>
          <a:xfrm>
            <a:off x="1511280" y="24512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9" name=""/>
          <p:cNvSpPr/>
          <p:nvPr/>
        </p:nvSpPr>
        <p:spPr>
          <a:xfrm>
            <a:off x="1546200" y="25909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0" name=""/>
          <p:cNvSpPr/>
          <p:nvPr/>
        </p:nvSpPr>
        <p:spPr>
          <a:xfrm>
            <a:off x="1573200" y="23432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1" name=""/>
          <p:cNvSpPr/>
          <p:nvPr/>
        </p:nvSpPr>
        <p:spPr>
          <a:xfrm>
            <a:off x="1576440" y="22575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2" name=""/>
          <p:cNvSpPr/>
          <p:nvPr/>
        </p:nvSpPr>
        <p:spPr>
          <a:xfrm>
            <a:off x="1474920" y="234144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3" name=""/>
          <p:cNvSpPr/>
          <p:nvPr/>
        </p:nvSpPr>
        <p:spPr>
          <a:xfrm>
            <a:off x="1550880" y="212868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4" name=""/>
          <p:cNvSpPr/>
          <p:nvPr/>
        </p:nvSpPr>
        <p:spPr>
          <a:xfrm>
            <a:off x="1606680" y="20336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5" name=""/>
          <p:cNvSpPr/>
          <p:nvPr/>
        </p:nvSpPr>
        <p:spPr>
          <a:xfrm>
            <a:off x="1465200" y="28162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6" name=""/>
          <p:cNvSpPr/>
          <p:nvPr/>
        </p:nvSpPr>
        <p:spPr>
          <a:xfrm>
            <a:off x="1536840" y="28209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7" name=""/>
          <p:cNvSpPr/>
          <p:nvPr/>
        </p:nvSpPr>
        <p:spPr>
          <a:xfrm>
            <a:off x="1560600" y="27478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8" name=""/>
          <p:cNvSpPr/>
          <p:nvPr/>
        </p:nvSpPr>
        <p:spPr>
          <a:xfrm>
            <a:off x="1461960" y="275256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9" name=""/>
          <p:cNvSpPr/>
          <p:nvPr/>
        </p:nvSpPr>
        <p:spPr>
          <a:xfrm>
            <a:off x="1563840" y="24861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0" name=""/>
          <p:cNvSpPr/>
          <p:nvPr/>
        </p:nvSpPr>
        <p:spPr>
          <a:xfrm>
            <a:off x="1535040" y="22240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1" name=""/>
          <p:cNvSpPr/>
          <p:nvPr/>
        </p:nvSpPr>
        <p:spPr>
          <a:xfrm>
            <a:off x="1743120" y="24447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2" name=""/>
          <p:cNvSpPr/>
          <p:nvPr/>
        </p:nvSpPr>
        <p:spPr>
          <a:xfrm>
            <a:off x="1770120" y="21970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3" name=""/>
          <p:cNvSpPr/>
          <p:nvPr/>
        </p:nvSpPr>
        <p:spPr>
          <a:xfrm>
            <a:off x="1773360" y="21114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4" name=""/>
          <p:cNvSpPr/>
          <p:nvPr/>
        </p:nvSpPr>
        <p:spPr>
          <a:xfrm>
            <a:off x="1689120" y="20700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5" name=""/>
          <p:cNvSpPr/>
          <p:nvPr/>
        </p:nvSpPr>
        <p:spPr>
          <a:xfrm>
            <a:off x="1627200" y="286848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6" name=""/>
          <p:cNvSpPr/>
          <p:nvPr/>
        </p:nvSpPr>
        <p:spPr>
          <a:xfrm>
            <a:off x="1671480" y="21956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7" name=""/>
          <p:cNvSpPr/>
          <p:nvPr/>
        </p:nvSpPr>
        <p:spPr>
          <a:xfrm>
            <a:off x="1681200" y="2787480"/>
            <a:ext cx="3636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8" name=""/>
          <p:cNvSpPr/>
          <p:nvPr/>
        </p:nvSpPr>
        <p:spPr>
          <a:xfrm>
            <a:off x="1662120" y="26701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9" name=""/>
          <p:cNvSpPr/>
          <p:nvPr/>
        </p:nvSpPr>
        <p:spPr>
          <a:xfrm>
            <a:off x="1733400" y="267480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0" name=""/>
          <p:cNvSpPr/>
          <p:nvPr/>
        </p:nvSpPr>
        <p:spPr>
          <a:xfrm>
            <a:off x="1757520" y="26020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1" name=""/>
          <p:cNvSpPr/>
          <p:nvPr/>
        </p:nvSpPr>
        <p:spPr>
          <a:xfrm>
            <a:off x="1658880" y="26067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2" name=""/>
          <p:cNvSpPr/>
          <p:nvPr/>
        </p:nvSpPr>
        <p:spPr>
          <a:xfrm>
            <a:off x="1792440" y="25113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3" name=""/>
          <p:cNvSpPr/>
          <p:nvPr/>
        </p:nvSpPr>
        <p:spPr>
          <a:xfrm>
            <a:off x="1641600" y="24084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4" name=""/>
          <p:cNvSpPr/>
          <p:nvPr/>
        </p:nvSpPr>
        <p:spPr>
          <a:xfrm>
            <a:off x="1760400" y="23400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5" name=""/>
          <p:cNvSpPr/>
          <p:nvPr/>
        </p:nvSpPr>
        <p:spPr>
          <a:xfrm>
            <a:off x="1852560" y="23814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6" name=""/>
          <p:cNvSpPr/>
          <p:nvPr/>
        </p:nvSpPr>
        <p:spPr>
          <a:xfrm>
            <a:off x="1887480" y="25210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7" name=""/>
          <p:cNvSpPr/>
          <p:nvPr/>
        </p:nvSpPr>
        <p:spPr>
          <a:xfrm>
            <a:off x="1914480" y="22734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8" name=""/>
          <p:cNvSpPr/>
          <p:nvPr/>
        </p:nvSpPr>
        <p:spPr>
          <a:xfrm>
            <a:off x="1917720" y="21877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9" name=""/>
          <p:cNvSpPr/>
          <p:nvPr/>
        </p:nvSpPr>
        <p:spPr>
          <a:xfrm>
            <a:off x="1833480" y="21463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0" name=""/>
          <p:cNvSpPr/>
          <p:nvPr/>
        </p:nvSpPr>
        <p:spPr>
          <a:xfrm>
            <a:off x="1816200" y="227160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1" name=""/>
          <p:cNvSpPr/>
          <p:nvPr/>
        </p:nvSpPr>
        <p:spPr>
          <a:xfrm>
            <a:off x="1892160" y="205884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2" name=""/>
          <p:cNvSpPr/>
          <p:nvPr/>
        </p:nvSpPr>
        <p:spPr>
          <a:xfrm>
            <a:off x="1911240" y="28242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3" name=""/>
          <p:cNvSpPr/>
          <p:nvPr/>
        </p:nvSpPr>
        <p:spPr>
          <a:xfrm>
            <a:off x="1825560" y="2863800"/>
            <a:ext cx="367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4" name=""/>
          <p:cNvSpPr/>
          <p:nvPr/>
        </p:nvSpPr>
        <p:spPr>
          <a:xfrm>
            <a:off x="1814400" y="27957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5" name=""/>
          <p:cNvSpPr/>
          <p:nvPr/>
        </p:nvSpPr>
        <p:spPr>
          <a:xfrm>
            <a:off x="1878120" y="27511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6" name=""/>
          <p:cNvSpPr/>
          <p:nvPr/>
        </p:nvSpPr>
        <p:spPr>
          <a:xfrm>
            <a:off x="1901880" y="26780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7" name=""/>
          <p:cNvSpPr/>
          <p:nvPr/>
        </p:nvSpPr>
        <p:spPr>
          <a:xfrm>
            <a:off x="1803240" y="268272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8" name=""/>
          <p:cNvSpPr/>
          <p:nvPr/>
        </p:nvSpPr>
        <p:spPr>
          <a:xfrm>
            <a:off x="1959120" y="23162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9" name=""/>
          <p:cNvSpPr/>
          <p:nvPr/>
        </p:nvSpPr>
        <p:spPr>
          <a:xfrm>
            <a:off x="2009880" y="29084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0" name=""/>
          <p:cNvSpPr/>
          <p:nvPr/>
        </p:nvSpPr>
        <p:spPr>
          <a:xfrm>
            <a:off x="1697040" y="291132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1" name=""/>
          <p:cNvSpPr/>
          <p:nvPr/>
        </p:nvSpPr>
        <p:spPr>
          <a:xfrm>
            <a:off x="1441440" y="29210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2" name=""/>
          <p:cNvSpPr/>
          <p:nvPr/>
        </p:nvSpPr>
        <p:spPr>
          <a:xfrm>
            <a:off x="1263600" y="2903400"/>
            <a:ext cx="367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3" name=""/>
          <p:cNvSpPr/>
          <p:nvPr/>
        </p:nvSpPr>
        <p:spPr>
          <a:xfrm>
            <a:off x="1035000" y="28861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4" name=""/>
          <p:cNvSpPr/>
          <p:nvPr/>
        </p:nvSpPr>
        <p:spPr>
          <a:xfrm>
            <a:off x="1068480" y="2793960"/>
            <a:ext cx="3636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5" name=""/>
          <p:cNvSpPr/>
          <p:nvPr/>
        </p:nvSpPr>
        <p:spPr>
          <a:xfrm>
            <a:off x="770040" y="2895480"/>
            <a:ext cx="3636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6" name=""/>
          <p:cNvSpPr/>
          <p:nvPr/>
        </p:nvSpPr>
        <p:spPr>
          <a:xfrm>
            <a:off x="2309760" y="25146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7" name=""/>
          <p:cNvSpPr/>
          <p:nvPr/>
        </p:nvSpPr>
        <p:spPr>
          <a:xfrm>
            <a:off x="2263680" y="24084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8" name=""/>
          <p:cNvSpPr/>
          <p:nvPr/>
        </p:nvSpPr>
        <p:spPr>
          <a:xfrm>
            <a:off x="2282760" y="2884320"/>
            <a:ext cx="367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9" name=""/>
          <p:cNvSpPr/>
          <p:nvPr/>
        </p:nvSpPr>
        <p:spPr>
          <a:xfrm>
            <a:off x="2198520" y="27622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0" name=""/>
          <p:cNvSpPr/>
          <p:nvPr/>
        </p:nvSpPr>
        <p:spPr>
          <a:xfrm>
            <a:off x="2300400" y="26193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1" name=""/>
          <p:cNvSpPr/>
          <p:nvPr/>
        </p:nvSpPr>
        <p:spPr>
          <a:xfrm>
            <a:off x="654120" y="29844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2" name=""/>
          <p:cNvSpPr/>
          <p:nvPr/>
        </p:nvSpPr>
        <p:spPr>
          <a:xfrm>
            <a:off x="650880" y="353520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3" name=""/>
          <p:cNvSpPr/>
          <p:nvPr/>
        </p:nvSpPr>
        <p:spPr>
          <a:xfrm>
            <a:off x="644400" y="31273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4" name=""/>
          <p:cNvSpPr/>
          <p:nvPr/>
        </p:nvSpPr>
        <p:spPr>
          <a:xfrm>
            <a:off x="1712880" y="30146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5" name=""/>
          <p:cNvSpPr/>
          <p:nvPr/>
        </p:nvSpPr>
        <p:spPr>
          <a:xfrm>
            <a:off x="1724040" y="351936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6" name=""/>
          <p:cNvSpPr/>
          <p:nvPr/>
        </p:nvSpPr>
        <p:spPr>
          <a:xfrm>
            <a:off x="1736640" y="331776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7" name=""/>
          <p:cNvSpPr/>
          <p:nvPr/>
        </p:nvSpPr>
        <p:spPr>
          <a:xfrm>
            <a:off x="1650960" y="3357720"/>
            <a:ext cx="367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8" name=""/>
          <p:cNvSpPr/>
          <p:nvPr/>
        </p:nvSpPr>
        <p:spPr>
          <a:xfrm>
            <a:off x="1631880" y="32400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9" name=""/>
          <p:cNvSpPr/>
          <p:nvPr/>
        </p:nvSpPr>
        <p:spPr>
          <a:xfrm>
            <a:off x="1703520" y="324468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0" name=""/>
          <p:cNvSpPr/>
          <p:nvPr/>
        </p:nvSpPr>
        <p:spPr>
          <a:xfrm>
            <a:off x="1727280" y="31719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1" name=""/>
          <p:cNvSpPr/>
          <p:nvPr/>
        </p:nvSpPr>
        <p:spPr>
          <a:xfrm>
            <a:off x="1660680" y="31291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2" name=""/>
          <p:cNvSpPr/>
          <p:nvPr/>
        </p:nvSpPr>
        <p:spPr>
          <a:xfrm>
            <a:off x="1762200" y="30812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3" name=""/>
          <p:cNvSpPr/>
          <p:nvPr/>
        </p:nvSpPr>
        <p:spPr>
          <a:xfrm>
            <a:off x="1343160" y="30639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4" name=""/>
          <p:cNvSpPr/>
          <p:nvPr/>
        </p:nvSpPr>
        <p:spPr>
          <a:xfrm>
            <a:off x="1773360" y="32529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5" name=""/>
          <p:cNvSpPr/>
          <p:nvPr/>
        </p:nvSpPr>
        <p:spPr>
          <a:xfrm>
            <a:off x="824040" y="30862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6" name=""/>
          <p:cNvSpPr/>
          <p:nvPr/>
        </p:nvSpPr>
        <p:spPr>
          <a:xfrm>
            <a:off x="830160" y="351144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7" name=""/>
          <p:cNvSpPr/>
          <p:nvPr/>
        </p:nvSpPr>
        <p:spPr>
          <a:xfrm>
            <a:off x="847800" y="33894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8" name=""/>
          <p:cNvSpPr/>
          <p:nvPr/>
        </p:nvSpPr>
        <p:spPr>
          <a:xfrm>
            <a:off x="762120" y="3429000"/>
            <a:ext cx="3636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9" name=""/>
          <p:cNvSpPr/>
          <p:nvPr/>
        </p:nvSpPr>
        <p:spPr>
          <a:xfrm>
            <a:off x="743040" y="33116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0" name=""/>
          <p:cNvSpPr/>
          <p:nvPr/>
        </p:nvSpPr>
        <p:spPr>
          <a:xfrm>
            <a:off x="814320" y="33163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1" name=""/>
          <p:cNvSpPr/>
          <p:nvPr/>
        </p:nvSpPr>
        <p:spPr>
          <a:xfrm>
            <a:off x="838080" y="32432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2" name=""/>
          <p:cNvSpPr/>
          <p:nvPr/>
        </p:nvSpPr>
        <p:spPr>
          <a:xfrm>
            <a:off x="739800" y="32479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3" name=""/>
          <p:cNvSpPr/>
          <p:nvPr/>
        </p:nvSpPr>
        <p:spPr>
          <a:xfrm>
            <a:off x="873000" y="31528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4" name=""/>
          <p:cNvSpPr/>
          <p:nvPr/>
        </p:nvSpPr>
        <p:spPr>
          <a:xfrm>
            <a:off x="722160" y="30495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5" name=""/>
          <p:cNvSpPr/>
          <p:nvPr/>
        </p:nvSpPr>
        <p:spPr>
          <a:xfrm>
            <a:off x="841320" y="298116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6" name=""/>
          <p:cNvSpPr/>
          <p:nvPr/>
        </p:nvSpPr>
        <p:spPr>
          <a:xfrm>
            <a:off x="933480" y="30225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7" name=""/>
          <p:cNvSpPr/>
          <p:nvPr/>
        </p:nvSpPr>
        <p:spPr>
          <a:xfrm>
            <a:off x="968400" y="31622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8" name=""/>
          <p:cNvSpPr/>
          <p:nvPr/>
        </p:nvSpPr>
        <p:spPr>
          <a:xfrm>
            <a:off x="992160" y="346536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9" name=""/>
          <p:cNvSpPr/>
          <p:nvPr/>
        </p:nvSpPr>
        <p:spPr>
          <a:xfrm>
            <a:off x="906480" y="3505320"/>
            <a:ext cx="3636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0" name=""/>
          <p:cNvSpPr/>
          <p:nvPr/>
        </p:nvSpPr>
        <p:spPr>
          <a:xfrm>
            <a:off x="895320" y="34369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1" name=""/>
          <p:cNvSpPr/>
          <p:nvPr/>
        </p:nvSpPr>
        <p:spPr>
          <a:xfrm>
            <a:off x="958680" y="33926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2" name=""/>
          <p:cNvSpPr/>
          <p:nvPr/>
        </p:nvSpPr>
        <p:spPr>
          <a:xfrm>
            <a:off x="982800" y="33195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3" name=""/>
          <p:cNvSpPr/>
          <p:nvPr/>
        </p:nvSpPr>
        <p:spPr>
          <a:xfrm>
            <a:off x="884160" y="33242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4" name=""/>
          <p:cNvSpPr/>
          <p:nvPr/>
        </p:nvSpPr>
        <p:spPr>
          <a:xfrm>
            <a:off x="1008000" y="300024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5" name=""/>
          <p:cNvSpPr/>
          <p:nvPr/>
        </p:nvSpPr>
        <p:spPr>
          <a:xfrm>
            <a:off x="1046160" y="31100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6" name=""/>
          <p:cNvSpPr/>
          <p:nvPr/>
        </p:nvSpPr>
        <p:spPr>
          <a:xfrm>
            <a:off x="1081080" y="32497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7" name=""/>
          <p:cNvSpPr/>
          <p:nvPr/>
        </p:nvSpPr>
        <p:spPr>
          <a:xfrm>
            <a:off x="1108080" y="30020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8" name=""/>
          <p:cNvSpPr/>
          <p:nvPr/>
        </p:nvSpPr>
        <p:spPr>
          <a:xfrm>
            <a:off x="1071720" y="34797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9" name=""/>
          <p:cNvSpPr/>
          <p:nvPr/>
        </p:nvSpPr>
        <p:spPr>
          <a:xfrm>
            <a:off x="1095480" y="34066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0" name=""/>
          <p:cNvSpPr/>
          <p:nvPr/>
        </p:nvSpPr>
        <p:spPr>
          <a:xfrm>
            <a:off x="1130400" y="33163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1" name=""/>
          <p:cNvSpPr/>
          <p:nvPr/>
        </p:nvSpPr>
        <p:spPr>
          <a:xfrm>
            <a:off x="1217520" y="31305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2" name=""/>
          <p:cNvSpPr/>
          <p:nvPr/>
        </p:nvSpPr>
        <p:spPr>
          <a:xfrm>
            <a:off x="1190520" y="318600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3" name=""/>
          <p:cNvSpPr/>
          <p:nvPr/>
        </p:nvSpPr>
        <p:spPr>
          <a:xfrm>
            <a:off x="1225440" y="332568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4" name=""/>
          <p:cNvSpPr/>
          <p:nvPr/>
        </p:nvSpPr>
        <p:spPr>
          <a:xfrm>
            <a:off x="1252440" y="307800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5" name=""/>
          <p:cNvSpPr/>
          <p:nvPr/>
        </p:nvSpPr>
        <p:spPr>
          <a:xfrm>
            <a:off x="1255680" y="299232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6" name=""/>
          <p:cNvSpPr/>
          <p:nvPr/>
        </p:nvSpPr>
        <p:spPr>
          <a:xfrm>
            <a:off x="1154160" y="30765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7" name=""/>
          <p:cNvSpPr/>
          <p:nvPr/>
        </p:nvSpPr>
        <p:spPr>
          <a:xfrm>
            <a:off x="1239840" y="34830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8" name=""/>
          <p:cNvSpPr/>
          <p:nvPr/>
        </p:nvSpPr>
        <p:spPr>
          <a:xfrm>
            <a:off x="1141560" y="34876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9" name=""/>
          <p:cNvSpPr/>
          <p:nvPr/>
        </p:nvSpPr>
        <p:spPr>
          <a:xfrm>
            <a:off x="1243080" y="322092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0" name=""/>
          <p:cNvSpPr/>
          <p:nvPr/>
        </p:nvSpPr>
        <p:spPr>
          <a:xfrm>
            <a:off x="1214280" y="29592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1" name=""/>
          <p:cNvSpPr/>
          <p:nvPr/>
        </p:nvSpPr>
        <p:spPr>
          <a:xfrm>
            <a:off x="1422360" y="31798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2" name=""/>
          <p:cNvSpPr/>
          <p:nvPr/>
        </p:nvSpPr>
        <p:spPr>
          <a:xfrm>
            <a:off x="1446120" y="34830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3" name=""/>
          <p:cNvSpPr/>
          <p:nvPr/>
        </p:nvSpPr>
        <p:spPr>
          <a:xfrm>
            <a:off x="1360440" y="3522600"/>
            <a:ext cx="367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4" name=""/>
          <p:cNvSpPr/>
          <p:nvPr/>
        </p:nvSpPr>
        <p:spPr>
          <a:xfrm>
            <a:off x="1341360" y="34052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5" name=""/>
          <p:cNvSpPr/>
          <p:nvPr/>
        </p:nvSpPr>
        <p:spPr>
          <a:xfrm>
            <a:off x="1413000" y="34099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6" name=""/>
          <p:cNvSpPr/>
          <p:nvPr/>
        </p:nvSpPr>
        <p:spPr>
          <a:xfrm>
            <a:off x="1436760" y="33368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7" name=""/>
          <p:cNvSpPr/>
          <p:nvPr/>
        </p:nvSpPr>
        <p:spPr>
          <a:xfrm>
            <a:off x="1338120" y="334152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8" name=""/>
          <p:cNvSpPr/>
          <p:nvPr/>
        </p:nvSpPr>
        <p:spPr>
          <a:xfrm>
            <a:off x="1471680" y="32464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9" name=""/>
          <p:cNvSpPr/>
          <p:nvPr/>
        </p:nvSpPr>
        <p:spPr>
          <a:xfrm>
            <a:off x="1332000" y="32385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0" name=""/>
          <p:cNvSpPr/>
          <p:nvPr/>
        </p:nvSpPr>
        <p:spPr>
          <a:xfrm>
            <a:off x="1440000" y="30751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1" name=""/>
          <p:cNvSpPr/>
          <p:nvPr/>
        </p:nvSpPr>
        <p:spPr>
          <a:xfrm>
            <a:off x="1531800" y="31161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2" name=""/>
          <p:cNvSpPr/>
          <p:nvPr/>
        </p:nvSpPr>
        <p:spPr>
          <a:xfrm>
            <a:off x="1566720" y="325584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3" name=""/>
          <p:cNvSpPr/>
          <p:nvPr/>
        </p:nvSpPr>
        <p:spPr>
          <a:xfrm>
            <a:off x="1593720" y="300816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4" name=""/>
          <p:cNvSpPr/>
          <p:nvPr/>
        </p:nvSpPr>
        <p:spPr>
          <a:xfrm>
            <a:off x="1495440" y="30067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5" name=""/>
          <p:cNvSpPr/>
          <p:nvPr/>
        </p:nvSpPr>
        <p:spPr>
          <a:xfrm>
            <a:off x="1494000" y="35305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6" name=""/>
          <p:cNvSpPr/>
          <p:nvPr/>
        </p:nvSpPr>
        <p:spPr>
          <a:xfrm>
            <a:off x="1557360" y="34862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7" name=""/>
          <p:cNvSpPr/>
          <p:nvPr/>
        </p:nvSpPr>
        <p:spPr>
          <a:xfrm>
            <a:off x="1581120" y="34131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8" name=""/>
          <p:cNvSpPr/>
          <p:nvPr/>
        </p:nvSpPr>
        <p:spPr>
          <a:xfrm>
            <a:off x="1482840" y="34178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9" name=""/>
          <p:cNvSpPr/>
          <p:nvPr/>
        </p:nvSpPr>
        <p:spPr>
          <a:xfrm>
            <a:off x="1638360" y="305100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0" name=""/>
          <p:cNvSpPr/>
          <p:nvPr/>
        </p:nvSpPr>
        <p:spPr>
          <a:xfrm>
            <a:off x="1838160" y="30686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1" name=""/>
          <p:cNvSpPr/>
          <p:nvPr/>
        </p:nvSpPr>
        <p:spPr>
          <a:xfrm>
            <a:off x="1873080" y="32083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2" name=""/>
          <p:cNvSpPr/>
          <p:nvPr/>
        </p:nvSpPr>
        <p:spPr>
          <a:xfrm>
            <a:off x="1897200" y="351144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3" name=""/>
          <p:cNvSpPr/>
          <p:nvPr/>
        </p:nvSpPr>
        <p:spPr>
          <a:xfrm>
            <a:off x="1792440" y="34336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4" name=""/>
          <p:cNvSpPr/>
          <p:nvPr/>
        </p:nvSpPr>
        <p:spPr>
          <a:xfrm>
            <a:off x="1863720" y="343836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5" name=""/>
          <p:cNvSpPr/>
          <p:nvPr/>
        </p:nvSpPr>
        <p:spPr>
          <a:xfrm>
            <a:off x="1887480" y="33656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6" name=""/>
          <p:cNvSpPr/>
          <p:nvPr/>
        </p:nvSpPr>
        <p:spPr>
          <a:xfrm>
            <a:off x="1789200" y="33703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7" name=""/>
          <p:cNvSpPr/>
          <p:nvPr/>
        </p:nvSpPr>
        <p:spPr>
          <a:xfrm>
            <a:off x="1922400" y="32749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8" name=""/>
          <p:cNvSpPr/>
          <p:nvPr/>
        </p:nvSpPr>
        <p:spPr>
          <a:xfrm>
            <a:off x="1830240" y="31561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9" name=""/>
          <p:cNvSpPr/>
          <p:nvPr/>
        </p:nvSpPr>
        <p:spPr>
          <a:xfrm>
            <a:off x="1890720" y="31035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0" name=""/>
          <p:cNvSpPr/>
          <p:nvPr/>
        </p:nvSpPr>
        <p:spPr>
          <a:xfrm>
            <a:off x="1982880" y="31449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1" name=""/>
          <p:cNvSpPr/>
          <p:nvPr/>
        </p:nvSpPr>
        <p:spPr>
          <a:xfrm>
            <a:off x="2017800" y="32846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2" name=""/>
          <p:cNvSpPr/>
          <p:nvPr/>
        </p:nvSpPr>
        <p:spPr>
          <a:xfrm>
            <a:off x="2044800" y="30369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3" name=""/>
          <p:cNvSpPr/>
          <p:nvPr/>
        </p:nvSpPr>
        <p:spPr>
          <a:xfrm>
            <a:off x="1946160" y="303516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4" name=""/>
          <p:cNvSpPr/>
          <p:nvPr/>
        </p:nvSpPr>
        <p:spPr>
          <a:xfrm>
            <a:off x="2008080" y="35146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5" name=""/>
          <p:cNvSpPr/>
          <p:nvPr/>
        </p:nvSpPr>
        <p:spPr>
          <a:xfrm>
            <a:off x="2031840" y="34416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6" name=""/>
          <p:cNvSpPr/>
          <p:nvPr/>
        </p:nvSpPr>
        <p:spPr>
          <a:xfrm>
            <a:off x="1933560" y="34466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7" name=""/>
          <p:cNvSpPr/>
          <p:nvPr/>
        </p:nvSpPr>
        <p:spPr>
          <a:xfrm>
            <a:off x="2057400" y="31226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8" name=""/>
          <p:cNvSpPr/>
          <p:nvPr/>
        </p:nvSpPr>
        <p:spPr>
          <a:xfrm>
            <a:off x="2095560" y="32320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9" name=""/>
          <p:cNvSpPr/>
          <p:nvPr/>
        </p:nvSpPr>
        <p:spPr>
          <a:xfrm>
            <a:off x="2130480" y="33717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0" name=""/>
          <p:cNvSpPr/>
          <p:nvPr/>
        </p:nvSpPr>
        <p:spPr>
          <a:xfrm>
            <a:off x="2157480" y="312408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1" name=""/>
          <p:cNvSpPr/>
          <p:nvPr/>
        </p:nvSpPr>
        <p:spPr>
          <a:xfrm>
            <a:off x="2160720" y="30384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2" name=""/>
          <p:cNvSpPr/>
          <p:nvPr/>
        </p:nvSpPr>
        <p:spPr>
          <a:xfrm>
            <a:off x="2076480" y="29973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3" name=""/>
          <p:cNvSpPr/>
          <p:nvPr/>
        </p:nvSpPr>
        <p:spPr>
          <a:xfrm>
            <a:off x="2144880" y="35290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4" name=""/>
          <p:cNvSpPr/>
          <p:nvPr/>
        </p:nvSpPr>
        <p:spPr>
          <a:xfrm>
            <a:off x="2179800" y="343836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5" name=""/>
          <p:cNvSpPr/>
          <p:nvPr/>
        </p:nvSpPr>
        <p:spPr>
          <a:xfrm>
            <a:off x="2266920" y="32529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6" name=""/>
          <p:cNvSpPr/>
          <p:nvPr/>
        </p:nvSpPr>
        <p:spPr>
          <a:xfrm>
            <a:off x="2239920" y="33084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7" name=""/>
          <p:cNvSpPr/>
          <p:nvPr/>
        </p:nvSpPr>
        <p:spPr>
          <a:xfrm>
            <a:off x="2274840" y="34480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8" name=""/>
          <p:cNvSpPr/>
          <p:nvPr/>
        </p:nvSpPr>
        <p:spPr>
          <a:xfrm>
            <a:off x="2397240" y="32130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9" name=""/>
          <p:cNvSpPr/>
          <p:nvPr/>
        </p:nvSpPr>
        <p:spPr>
          <a:xfrm>
            <a:off x="2362320" y="29718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0" name=""/>
          <p:cNvSpPr/>
          <p:nvPr/>
        </p:nvSpPr>
        <p:spPr>
          <a:xfrm>
            <a:off x="2203560" y="31989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1" name=""/>
          <p:cNvSpPr/>
          <p:nvPr/>
        </p:nvSpPr>
        <p:spPr>
          <a:xfrm>
            <a:off x="2292480" y="33433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2" name=""/>
          <p:cNvSpPr/>
          <p:nvPr/>
        </p:nvSpPr>
        <p:spPr>
          <a:xfrm>
            <a:off x="2263680" y="30812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3" name=""/>
          <p:cNvSpPr/>
          <p:nvPr/>
        </p:nvSpPr>
        <p:spPr>
          <a:xfrm>
            <a:off x="1803240" y="29624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4" name=""/>
          <p:cNvSpPr/>
          <p:nvPr/>
        </p:nvSpPr>
        <p:spPr>
          <a:xfrm>
            <a:off x="1895400" y="30034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5" name=""/>
          <p:cNvSpPr/>
          <p:nvPr/>
        </p:nvSpPr>
        <p:spPr>
          <a:xfrm>
            <a:off x="1969920" y="298116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6" name=""/>
          <p:cNvSpPr/>
          <p:nvPr/>
        </p:nvSpPr>
        <p:spPr>
          <a:xfrm>
            <a:off x="2217600" y="297324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7" name=""/>
          <p:cNvSpPr/>
          <p:nvPr/>
        </p:nvSpPr>
        <p:spPr>
          <a:xfrm>
            <a:off x="498600" y="31654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8" name=""/>
          <p:cNvSpPr/>
          <p:nvPr/>
        </p:nvSpPr>
        <p:spPr>
          <a:xfrm>
            <a:off x="522360" y="34686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9" name=""/>
          <p:cNvSpPr/>
          <p:nvPr/>
        </p:nvSpPr>
        <p:spPr>
          <a:xfrm>
            <a:off x="488880" y="339552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0" name=""/>
          <p:cNvSpPr/>
          <p:nvPr/>
        </p:nvSpPr>
        <p:spPr>
          <a:xfrm>
            <a:off x="512640" y="33228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1" name=""/>
          <p:cNvSpPr/>
          <p:nvPr/>
        </p:nvSpPr>
        <p:spPr>
          <a:xfrm>
            <a:off x="515880" y="30607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2" name=""/>
          <p:cNvSpPr/>
          <p:nvPr/>
        </p:nvSpPr>
        <p:spPr>
          <a:xfrm>
            <a:off x="630360" y="33242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3" name=""/>
          <p:cNvSpPr/>
          <p:nvPr/>
        </p:nvSpPr>
        <p:spPr>
          <a:xfrm>
            <a:off x="584280" y="32180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4" name=""/>
          <p:cNvSpPr/>
          <p:nvPr/>
        </p:nvSpPr>
        <p:spPr>
          <a:xfrm>
            <a:off x="620640" y="34290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5" name=""/>
          <p:cNvSpPr/>
          <p:nvPr/>
        </p:nvSpPr>
        <p:spPr>
          <a:xfrm>
            <a:off x="652320" y="7938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6" name=""/>
          <p:cNvSpPr/>
          <p:nvPr/>
        </p:nvSpPr>
        <p:spPr>
          <a:xfrm>
            <a:off x="720720" y="4636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7" name=""/>
          <p:cNvSpPr/>
          <p:nvPr/>
        </p:nvSpPr>
        <p:spPr>
          <a:xfrm>
            <a:off x="776160" y="5414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8" name=""/>
          <p:cNvSpPr/>
          <p:nvPr/>
        </p:nvSpPr>
        <p:spPr>
          <a:xfrm>
            <a:off x="2330280" y="16239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9" name=""/>
          <p:cNvSpPr/>
          <p:nvPr/>
        </p:nvSpPr>
        <p:spPr>
          <a:xfrm>
            <a:off x="2225520" y="28558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0" name=""/>
          <p:cNvSpPr/>
          <p:nvPr/>
        </p:nvSpPr>
        <p:spPr>
          <a:xfrm>
            <a:off x="2432160" y="236520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1" name=""/>
          <p:cNvSpPr/>
          <p:nvPr/>
        </p:nvSpPr>
        <p:spPr>
          <a:xfrm>
            <a:off x="2287440" y="6159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2" name=""/>
          <p:cNvSpPr/>
          <p:nvPr/>
        </p:nvSpPr>
        <p:spPr>
          <a:xfrm>
            <a:off x="817560" y="35593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3" name=""/>
          <p:cNvSpPr/>
          <p:nvPr/>
        </p:nvSpPr>
        <p:spPr>
          <a:xfrm>
            <a:off x="701640" y="39830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4" name=""/>
          <p:cNvSpPr/>
          <p:nvPr/>
        </p:nvSpPr>
        <p:spPr>
          <a:xfrm>
            <a:off x="841320" y="38624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5" name=""/>
          <p:cNvSpPr/>
          <p:nvPr/>
        </p:nvSpPr>
        <p:spPr>
          <a:xfrm>
            <a:off x="684360" y="3838680"/>
            <a:ext cx="34920" cy="29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560" bIns="-25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6" name=""/>
          <p:cNvSpPr/>
          <p:nvPr/>
        </p:nvSpPr>
        <p:spPr>
          <a:xfrm>
            <a:off x="755640" y="3902040"/>
            <a:ext cx="3636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7" name=""/>
          <p:cNvSpPr/>
          <p:nvPr/>
        </p:nvSpPr>
        <p:spPr>
          <a:xfrm>
            <a:off x="736560" y="37846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8" name=""/>
          <p:cNvSpPr/>
          <p:nvPr/>
        </p:nvSpPr>
        <p:spPr>
          <a:xfrm>
            <a:off x="808200" y="37893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9" name=""/>
          <p:cNvSpPr/>
          <p:nvPr/>
        </p:nvSpPr>
        <p:spPr>
          <a:xfrm>
            <a:off x="831960" y="37162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0" name=""/>
          <p:cNvSpPr/>
          <p:nvPr/>
        </p:nvSpPr>
        <p:spPr>
          <a:xfrm>
            <a:off x="733320" y="372096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1" name=""/>
          <p:cNvSpPr/>
          <p:nvPr/>
        </p:nvSpPr>
        <p:spPr>
          <a:xfrm>
            <a:off x="635040" y="3684600"/>
            <a:ext cx="34920" cy="302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2" name=""/>
          <p:cNvSpPr/>
          <p:nvPr/>
        </p:nvSpPr>
        <p:spPr>
          <a:xfrm>
            <a:off x="639720" y="37702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3" name=""/>
          <p:cNvSpPr/>
          <p:nvPr/>
        </p:nvSpPr>
        <p:spPr>
          <a:xfrm>
            <a:off x="866880" y="36259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4" name=""/>
          <p:cNvSpPr/>
          <p:nvPr/>
        </p:nvSpPr>
        <p:spPr>
          <a:xfrm>
            <a:off x="716040" y="358920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5" name=""/>
          <p:cNvSpPr/>
          <p:nvPr/>
        </p:nvSpPr>
        <p:spPr>
          <a:xfrm>
            <a:off x="961920" y="36352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6" name=""/>
          <p:cNvSpPr/>
          <p:nvPr/>
        </p:nvSpPr>
        <p:spPr>
          <a:xfrm>
            <a:off x="985680" y="39387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7" name=""/>
          <p:cNvSpPr/>
          <p:nvPr/>
        </p:nvSpPr>
        <p:spPr>
          <a:xfrm>
            <a:off x="900000" y="3978360"/>
            <a:ext cx="367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8" name=""/>
          <p:cNvSpPr/>
          <p:nvPr/>
        </p:nvSpPr>
        <p:spPr>
          <a:xfrm>
            <a:off x="1176480" y="40305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9" name=""/>
          <p:cNvSpPr/>
          <p:nvPr/>
        </p:nvSpPr>
        <p:spPr>
          <a:xfrm>
            <a:off x="952560" y="38656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0" name=""/>
          <p:cNvSpPr/>
          <p:nvPr/>
        </p:nvSpPr>
        <p:spPr>
          <a:xfrm>
            <a:off x="976320" y="37926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1" name=""/>
          <p:cNvSpPr/>
          <p:nvPr/>
        </p:nvSpPr>
        <p:spPr>
          <a:xfrm>
            <a:off x="965160" y="37418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2" name=""/>
          <p:cNvSpPr/>
          <p:nvPr/>
        </p:nvSpPr>
        <p:spPr>
          <a:xfrm>
            <a:off x="2058840" y="392256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3" name=""/>
          <p:cNvSpPr/>
          <p:nvPr/>
        </p:nvSpPr>
        <p:spPr>
          <a:xfrm>
            <a:off x="2071800" y="372096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4" name=""/>
          <p:cNvSpPr/>
          <p:nvPr/>
        </p:nvSpPr>
        <p:spPr>
          <a:xfrm>
            <a:off x="1986120" y="3760920"/>
            <a:ext cx="3636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5" name=""/>
          <p:cNvSpPr/>
          <p:nvPr/>
        </p:nvSpPr>
        <p:spPr>
          <a:xfrm>
            <a:off x="1967040" y="364320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6" name=""/>
          <p:cNvSpPr/>
          <p:nvPr/>
        </p:nvSpPr>
        <p:spPr>
          <a:xfrm>
            <a:off x="2038320" y="36482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7" name=""/>
          <p:cNvSpPr/>
          <p:nvPr/>
        </p:nvSpPr>
        <p:spPr>
          <a:xfrm>
            <a:off x="2062080" y="35751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8" name=""/>
          <p:cNvSpPr/>
          <p:nvPr/>
        </p:nvSpPr>
        <p:spPr>
          <a:xfrm>
            <a:off x="2131920" y="39877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9" name=""/>
          <p:cNvSpPr/>
          <p:nvPr/>
        </p:nvSpPr>
        <p:spPr>
          <a:xfrm>
            <a:off x="2216160" y="37972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0" name=""/>
          <p:cNvSpPr/>
          <p:nvPr/>
        </p:nvSpPr>
        <p:spPr>
          <a:xfrm>
            <a:off x="2130480" y="3836880"/>
            <a:ext cx="3636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1" name=""/>
          <p:cNvSpPr/>
          <p:nvPr/>
        </p:nvSpPr>
        <p:spPr>
          <a:xfrm>
            <a:off x="2305080" y="37893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2" name=""/>
          <p:cNvSpPr/>
          <p:nvPr/>
        </p:nvSpPr>
        <p:spPr>
          <a:xfrm>
            <a:off x="2206800" y="365112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3" name=""/>
          <p:cNvSpPr/>
          <p:nvPr/>
        </p:nvSpPr>
        <p:spPr>
          <a:xfrm>
            <a:off x="2108160" y="36561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4" name=""/>
          <p:cNvSpPr/>
          <p:nvPr/>
        </p:nvSpPr>
        <p:spPr>
          <a:xfrm>
            <a:off x="1165320" y="391464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5" name=""/>
          <p:cNvSpPr/>
          <p:nvPr/>
        </p:nvSpPr>
        <p:spPr>
          <a:xfrm>
            <a:off x="1182600" y="37926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6" name=""/>
          <p:cNvSpPr/>
          <p:nvPr/>
        </p:nvSpPr>
        <p:spPr>
          <a:xfrm>
            <a:off x="1096920" y="3832200"/>
            <a:ext cx="367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7" name=""/>
          <p:cNvSpPr/>
          <p:nvPr/>
        </p:nvSpPr>
        <p:spPr>
          <a:xfrm>
            <a:off x="1077840" y="37148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8" name=""/>
          <p:cNvSpPr/>
          <p:nvPr/>
        </p:nvSpPr>
        <p:spPr>
          <a:xfrm>
            <a:off x="1149480" y="37195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9" name=""/>
          <p:cNvSpPr/>
          <p:nvPr/>
        </p:nvSpPr>
        <p:spPr>
          <a:xfrm>
            <a:off x="1173240" y="36464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0" name=""/>
          <p:cNvSpPr/>
          <p:nvPr/>
        </p:nvSpPr>
        <p:spPr>
          <a:xfrm>
            <a:off x="1074600" y="365112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1" name=""/>
          <p:cNvSpPr/>
          <p:nvPr/>
        </p:nvSpPr>
        <p:spPr>
          <a:xfrm>
            <a:off x="1303200" y="35654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2" name=""/>
          <p:cNvSpPr/>
          <p:nvPr/>
        </p:nvSpPr>
        <p:spPr>
          <a:xfrm>
            <a:off x="1327320" y="386856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3" name=""/>
          <p:cNvSpPr/>
          <p:nvPr/>
        </p:nvSpPr>
        <p:spPr>
          <a:xfrm>
            <a:off x="1241280" y="3908520"/>
            <a:ext cx="367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4" name=""/>
          <p:cNvSpPr/>
          <p:nvPr/>
        </p:nvSpPr>
        <p:spPr>
          <a:xfrm>
            <a:off x="1230480" y="38401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5" name=""/>
          <p:cNvSpPr/>
          <p:nvPr/>
        </p:nvSpPr>
        <p:spPr>
          <a:xfrm>
            <a:off x="1293840" y="37958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6" name=""/>
          <p:cNvSpPr/>
          <p:nvPr/>
        </p:nvSpPr>
        <p:spPr>
          <a:xfrm>
            <a:off x="1317600" y="37227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7" name=""/>
          <p:cNvSpPr/>
          <p:nvPr/>
        </p:nvSpPr>
        <p:spPr>
          <a:xfrm>
            <a:off x="1219320" y="37274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8" name=""/>
          <p:cNvSpPr/>
          <p:nvPr/>
        </p:nvSpPr>
        <p:spPr>
          <a:xfrm>
            <a:off x="1415880" y="36529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9" name=""/>
          <p:cNvSpPr/>
          <p:nvPr/>
        </p:nvSpPr>
        <p:spPr>
          <a:xfrm>
            <a:off x="1325520" y="39895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0" name=""/>
          <p:cNvSpPr/>
          <p:nvPr/>
        </p:nvSpPr>
        <p:spPr>
          <a:xfrm>
            <a:off x="1406520" y="38829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1" name=""/>
          <p:cNvSpPr/>
          <p:nvPr/>
        </p:nvSpPr>
        <p:spPr>
          <a:xfrm>
            <a:off x="1430280" y="380988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2" name=""/>
          <p:cNvSpPr/>
          <p:nvPr/>
        </p:nvSpPr>
        <p:spPr>
          <a:xfrm>
            <a:off x="1465200" y="37195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3" name=""/>
          <p:cNvSpPr/>
          <p:nvPr/>
        </p:nvSpPr>
        <p:spPr>
          <a:xfrm>
            <a:off x="1525680" y="358920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4" name=""/>
          <p:cNvSpPr/>
          <p:nvPr/>
        </p:nvSpPr>
        <p:spPr>
          <a:xfrm>
            <a:off x="1560600" y="372888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5" name=""/>
          <p:cNvSpPr/>
          <p:nvPr/>
        </p:nvSpPr>
        <p:spPr>
          <a:xfrm>
            <a:off x="1479600" y="39546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6" name=""/>
          <p:cNvSpPr/>
          <p:nvPr/>
        </p:nvSpPr>
        <p:spPr>
          <a:xfrm>
            <a:off x="1550880" y="39592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7" name=""/>
          <p:cNvSpPr/>
          <p:nvPr/>
        </p:nvSpPr>
        <p:spPr>
          <a:xfrm>
            <a:off x="1574640" y="38862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8" name=""/>
          <p:cNvSpPr/>
          <p:nvPr/>
        </p:nvSpPr>
        <p:spPr>
          <a:xfrm>
            <a:off x="1476360" y="38908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9" name=""/>
          <p:cNvSpPr/>
          <p:nvPr/>
        </p:nvSpPr>
        <p:spPr>
          <a:xfrm>
            <a:off x="1577880" y="362412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0" name=""/>
          <p:cNvSpPr/>
          <p:nvPr/>
        </p:nvSpPr>
        <p:spPr>
          <a:xfrm>
            <a:off x="1757520" y="35830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1" name=""/>
          <p:cNvSpPr/>
          <p:nvPr/>
        </p:nvSpPr>
        <p:spPr>
          <a:xfrm>
            <a:off x="1714680" y="39672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2" name=""/>
          <p:cNvSpPr/>
          <p:nvPr/>
        </p:nvSpPr>
        <p:spPr>
          <a:xfrm>
            <a:off x="1781280" y="38862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3" name=""/>
          <p:cNvSpPr/>
          <p:nvPr/>
        </p:nvSpPr>
        <p:spPr>
          <a:xfrm>
            <a:off x="1695600" y="3925800"/>
            <a:ext cx="3636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4" name=""/>
          <p:cNvSpPr/>
          <p:nvPr/>
        </p:nvSpPr>
        <p:spPr>
          <a:xfrm>
            <a:off x="1676520" y="38084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5" name=""/>
          <p:cNvSpPr/>
          <p:nvPr/>
        </p:nvSpPr>
        <p:spPr>
          <a:xfrm>
            <a:off x="1747800" y="38131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6" name=""/>
          <p:cNvSpPr/>
          <p:nvPr/>
        </p:nvSpPr>
        <p:spPr>
          <a:xfrm>
            <a:off x="1771560" y="374004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7" name=""/>
          <p:cNvSpPr/>
          <p:nvPr/>
        </p:nvSpPr>
        <p:spPr>
          <a:xfrm>
            <a:off x="1673280" y="37450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8" name=""/>
          <p:cNvSpPr/>
          <p:nvPr/>
        </p:nvSpPr>
        <p:spPr>
          <a:xfrm>
            <a:off x="1806480" y="36496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9" name=""/>
          <p:cNvSpPr/>
          <p:nvPr/>
        </p:nvSpPr>
        <p:spPr>
          <a:xfrm>
            <a:off x="1901880" y="365904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0" name=""/>
          <p:cNvSpPr/>
          <p:nvPr/>
        </p:nvSpPr>
        <p:spPr>
          <a:xfrm>
            <a:off x="1925640" y="39625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1" name=""/>
          <p:cNvSpPr/>
          <p:nvPr/>
        </p:nvSpPr>
        <p:spPr>
          <a:xfrm>
            <a:off x="1839960" y="4002120"/>
            <a:ext cx="3636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2" name=""/>
          <p:cNvSpPr/>
          <p:nvPr/>
        </p:nvSpPr>
        <p:spPr>
          <a:xfrm>
            <a:off x="1828800" y="39337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3" name=""/>
          <p:cNvSpPr/>
          <p:nvPr/>
        </p:nvSpPr>
        <p:spPr>
          <a:xfrm>
            <a:off x="1892160" y="38894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4" name=""/>
          <p:cNvSpPr/>
          <p:nvPr/>
        </p:nvSpPr>
        <p:spPr>
          <a:xfrm>
            <a:off x="1916280" y="38163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5" name=""/>
          <p:cNvSpPr/>
          <p:nvPr/>
        </p:nvSpPr>
        <p:spPr>
          <a:xfrm>
            <a:off x="1817640" y="38210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6" name=""/>
          <p:cNvSpPr/>
          <p:nvPr/>
        </p:nvSpPr>
        <p:spPr>
          <a:xfrm>
            <a:off x="2327400" y="35672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7" name=""/>
          <p:cNvSpPr/>
          <p:nvPr/>
        </p:nvSpPr>
        <p:spPr>
          <a:xfrm>
            <a:off x="2362320" y="37069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8" name=""/>
          <p:cNvSpPr/>
          <p:nvPr/>
        </p:nvSpPr>
        <p:spPr>
          <a:xfrm>
            <a:off x="2386080" y="40100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9" name=""/>
          <p:cNvSpPr/>
          <p:nvPr/>
        </p:nvSpPr>
        <p:spPr>
          <a:xfrm>
            <a:off x="2352600" y="39369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0" name=""/>
          <p:cNvSpPr/>
          <p:nvPr/>
        </p:nvSpPr>
        <p:spPr>
          <a:xfrm>
            <a:off x="2376360" y="38638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1" name=""/>
          <p:cNvSpPr/>
          <p:nvPr/>
        </p:nvSpPr>
        <p:spPr>
          <a:xfrm>
            <a:off x="2227320" y="39196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2" name=""/>
          <p:cNvSpPr/>
          <p:nvPr/>
        </p:nvSpPr>
        <p:spPr>
          <a:xfrm>
            <a:off x="2379600" y="36021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3" name=""/>
          <p:cNvSpPr/>
          <p:nvPr/>
        </p:nvSpPr>
        <p:spPr>
          <a:xfrm>
            <a:off x="3459240" y="39942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4" name=""/>
          <p:cNvSpPr/>
          <p:nvPr/>
        </p:nvSpPr>
        <p:spPr>
          <a:xfrm>
            <a:off x="3471840" y="37926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5" name=""/>
          <p:cNvSpPr/>
          <p:nvPr/>
        </p:nvSpPr>
        <p:spPr>
          <a:xfrm>
            <a:off x="3386160" y="3832200"/>
            <a:ext cx="3636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6" name=""/>
          <p:cNvSpPr/>
          <p:nvPr/>
        </p:nvSpPr>
        <p:spPr>
          <a:xfrm>
            <a:off x="3367080" y="37148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7" name=""/>
          <p:cNvSpPr/>
          <p:nvPr/>
        </p:nvSpPr>
        <p:spPr>
          <a:xfrm>
            <a:off x="3438360" y="37195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8" name=""/>
          <p:cNvSpPr/>
          <p:nvPr/>
        </p:nvSpPr>
        <p:spPr>
          <a:xfrm>
            <a:off x="3462480" y="36464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9" name=""/>
          <p:cNvSpPr/>
          <p:nvPr/>
        </p:nvSpPr>
        <p:spPr>
          <a:xfrm>
            <a:off x="3395520" y="36036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0" name=""/>
          <p:cNvSpPr/>
          <p:nvPr/>
        </p:nvSpPr>
        <p:spPr>
          <a:xfrm>
            <a:off x="3508200" y="3727440"/>
            <a:ext cx="3528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1" name=""/>
          <p:cNvSpPr/>
          <p:nvPr/>
        </p:nvSpPr>
        <p:spPr>
          <a:xfrm>
            <a:off x="2558880" y="35607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2" name=""/>
          <p:cNvSpPr/>
          <p:nvPr/>
        </p:nvSpPr>
        <p:spPr>
          <a:xfrm>
            <a:off x="2565360" y="39862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3" name=""/>
          <p:cNvSpPr/>
          <p:nvPr/>
        </p:nvSpPr>
        <p:spPr>
          <a:xfrm>
            <a:off x="2583000" y="38638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4" name=""/>
          <p:cNvSpPr/>
          <p:nvPr/>
        </p:nvSpPr>
        <p:spPr>
          <a:xfrm>
            <a:off x="2496960" y="3903840"/>
            <a:ext cx="367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5" name=""/>
          <p:cNvSpPr/>
          <p:nvPr/>
        </p:nvSpPr>
        <p:spPr>
          <a:xfrm>
            <a:off x="2478240" y="37861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6" name=""/>
          <p:cNvSpPr/>
          <p:nvPr/>
        </p:nvSpPr>
        <p:spPr>
          <a:xfrm>
            <a:off x="2549520" y="379080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7" name=""/>
          <p:cNvSpPr/>
          <p:nvPr/>
        </p:nvSpPr>
        <p:spPr>
          <a:xfrm>
            <a:off x="2573280" y="37180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8" name=""/>
          <p:cNvSpPr/>
          <p:nvPr/>
        </p:nvSpPr>
        <p:spPr>
          <a:xfrm>
            <a:off x="2475000" y="37227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9" name=""/>
          <p:cNvSpPr/>
          <p:nvPr/>
        </p:nvSpPr>
        <p:spPr>
          <a:xfrm>
            <a:off x="2608200" y="36273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0" name=""/>
          <p:cNvSpPr/>
          <p:nvPr/>
        </p:nvSpPr>
        <p:spPr>
          <a:xfrm>
            <a:off x="2703600" y="36370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1" name=""/>
          <p:cNvSpPr/>
          <p:nvPr/>
        </p:nvSpPr>
        <p:spPr>
          <a:xfrm>
            <a:off x="2727360" y="39402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2" name=""/>
          <p:cNvSpPr/>
          <p:nvPr/>
        </p:nvSpPr>
        <p:spPr>
          <a:xfrm>
            <a:off x="2641680" y="3979800"/>
            <a:ext cx="3636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3" name=""/>
          <p:cNvSpPr/>
          <p:nvPr/>
        </p:nvSpPr>
        <p:spPr>
          <a:xfrm>
            <a:off x="2630520" y="39117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4" name=""/>
          <p:cNvSpPr/>
          <p:nvPr/>
        </p:nvSpPr>
        <p:spPr>
          <a:xfrm>
            <a:off x="2693880" y="38671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5" name=""/>
          <p:cNvSpPr/>
          <p:nvPr/>
        </p:nvSpPr>
        <p:spPr>
          <a:xfrm>
            <a:off x="2717640" y="37940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6" name=""/>
          <p:cNvSpPr/>
          <p:nvPr/>
        </p:nvSpPr>
        <p:spPr>
          <a:xfrm>
            <a:off x="2619360" y="379872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7" name=""/>
          <p:cNvSpPr/>
          <p:nvPr/>
        </p:nvSpPr>
        <p:spPr>
          <a:xfrm>
            <a:off x="2781360" y="35845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8" name=""/>
          <p:cNvSpPr/>
          <p:nvPr/>
        </p:nvSpPr>
        <p:spPr>
          <a:xfrm>
            <a:off x="2816280" y="37242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9" name=""/>
          <p:cNvSpPr/>
          <p:nvPr/>
        </p:nvSpPr>
        <p:spPr>
          <a:xfrm>
            <a:off x="2725560" y="4060800"/>
            <a:ext cx="3528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0" name=""/>
          <p:cNvSpPr/>
          <p:nvPr/>
        </p:nvSpPr>
        <p:spPr>
          <a:xfrm>
            <a:off x="2806560" y="39546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1" name=""/>
          <p:cNvSpPr/>
          <p:nvPr/>
        </p:nvSpPr>
        <p:spPr>
          <a:xfrm>
            <a:off x="2830680" y="38815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2" name=""/>
          <p:cNvSpPr/>
          <p:nvPr/>
        </p:nvSpPr>
        <p:spPr>
          <a:xfrm>
            <a:off x="2865600" y="379080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3" name=""/>
          <p:cNvSpPr/>
          <p:nvPr/>
        </p:nvSpPr>
        <p:spPr>
          <a:xfrm>
            <a:off x="2952720" y="360504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4" name=""/>
          <p:cNvSpPr/>
          <p:nvPr/>
        </p:nvSpPr>
        <p:spPr>
          <a:xfrm>
            <a:off x="2925720" y="36608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5" name=""/>
          <p:cNvSpPr/>
          <p:nvPr/>
        </p:nvSpPr>
        <p:spPr>
          <a:xfrm>
            <a:off x="2960640" y="38005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6" name=""/>
          <p:cNvSpPr/>
          <p:nvPr/>
        </p:nvSpPr>
        <p:spPr>
          <a:xfrm>
            <a:off x="2879640" y="40258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7" name=""/>
          <p:cNvSpPr/>
          <p:nvPr/>
        </p:nvSpPr>
        <p:spPr>
          <a:xfrm>
            <a:off x="2951280" y="40305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8" name=""/>
          <p:cNvSpPr/>
          <p:nvPr/>
        </p:nvSpPr>
        <p:spPr>
          <a:xfrm>
            <a:off x="2975040" y="395748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9" name=""/>
          <p:cNvSpPr/>
          <p:nvPr/>
        </p:nvSpPr>
        <p:spPr>
          <a:xfrm>
            <a:off x="2876400" y="39625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0" name=""/>
          <p:cNvSpPr/>
          <p:nvPr/>
        </p:nvSpPr>
        <p:spPr>
          <a:xfrm>
            <a:off x="2978280" y="36957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1" name=""/>
          <p:cNvSpPr/>
          <p:nvPr/>
        </p:nvSpPr>
        <p:spPr>
          <a:xfrm>
            <a:off x="3157560" y="36543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2" name=""/>
          <p:cNvSpPr/>
          <p:nvPr/>
        </p:nvSpPr>
        <p:spPr>
          <a:xfrm>
            <a:off x="3181320" y="395748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3" name=""/>
          <p:cNvSpPr/>
          <p:nvPr/>
        </p:nvSpPr>
        <p:spPr>
          <a:xfrm>
            <a:off x="3095640" y="3997440"/>
            <a:ext cx="3636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4" name=""/>
          <p:cNvSpPr/>
          <p:nvPr/>
        </p:nvSpPr>
        <p:spPr>
          <a:xfrm>
            <a:off x="3076560" y="387972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5" name=""/>
          <p:cNvSpPr/>
          <p:nvPr/>
        </p:nvSpPr>
        <p:spPr>
          <a:xfrm>
            <a:off x="3147840" y="38847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6" name=""/>
          <p:cNvSpPr/>
          <p:nvPr/>
        </p:nvSpPr>
        <p:spPr>
          <a:xfrm>
            <a:off x="3171960" y="38116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7" name=""/>
          <p:cNvSpPr/>
          <p:nvPr/>
        </p:nvSpPr>
        <p:spPr>
          <a:xfrm>
            <a:off x="3073320" y="38163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8" name=""/>
          <p:cNvSpPr/>
          <p:nvPr/>
        </p:nvSpPr>
        <p:spPr>
          <a:xfrm>
            <a:off x="3206880" y="372096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9" name=""/>
          <p:cNvSpPr/>
          <p:nvPr/>
        </p:nvSpPr>
        <p:spPr>
          <a:xfrm>
            <a:off x="3056040" y="36180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0" name=""/>
          <p:cNvSpPr/>
          <p:nvPr/>
        </p:nvSpPr>
        <p:spPr>
          <a:xfrm>
            <a:off x="3267000" y="35910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1" name=""/>
          <p:cNvSpPr/>
          <p:nvPr/>
        </p:nvSpPr>
        <p:spPr>
          <a:xfrm>
            <a:off x="3301920" y="37306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2" name=""/>
          <p:cNvSpPr/>
          <p:nvPr/>
        </p:nvSpPr>
        <p:spPr>
          <a:xfrm>
            <a:off x="3325680" y="40338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3" name=""/>
          <p:cNvSpPr/>
          <p:nvPr/>
        </p:nvSpPr>
        <p:spPr>
          <a:xfrm>
            <a:off x="3228840" y="40053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4" name=""/>
          <p:cNvSpPr/>
          <p:nvPr/>
        </p:nvSpPr>
        <p:spPr>
          <a:xfrm>
            <a:off x="3292560" y="39607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5" name=""/>
          <p:cNvSpPr/>
          <p:nvPr/>
        </p:nvSpPr>
        <p:spPr>
          <a:xfrm>
            <a:off x="3316320" y="388764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6" name=""/>
          <p:cNvSpPr/>
          <p:nvPr/>
        </p:nvSpPr>
        <p:spPr>
          <a:xfrm>
            <a:off x="3218040" y="38926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7" name=""/>
          <p:cNvSpPr/>
          <p:nvPr/>
        </p:nvSpPr>
        <p:spPr>
          <a:xfrm>
            <a:off x="2023920" y="404640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8" name=""/>
          <p:cNvSpPr/>
          <p:nvPr/>
        </p:nvSpPr>
        <p:spPr>
          <a:xfrm>
            <a:off x="1711440" y="40496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9" name=""/>
          <p:cNvSpPr/>
          <p:nvPr/>
        </p:nvSpPr>
        <p:spPr>
          <a:xfrm>
            <a:off x="1446120" y="392256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0" name=""/>
          <p:cNvSpPr/>
          <p:nvPr/>
        </p:nvSpPr>
        <p:spPr>
          <a:xfrm>
            <a:off x="1278000" y="4041720"/>
            <a:ext cx="3636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1" name=""/>
          <p:cNvSpPr/>
          <p:nvPr/>
        </p:nvSpPr>
        <p:spPr>
          <a:xfrm>
            <a:off x="1049400" y="40244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2" name=""/>
          <p:cNvSpPr/>
          <p:nvPr/>
        </p:nvSpPr>
        <p:spPr>
          <a:xfrm>
            <a:off x="1082520" y="3932280"/>
            <a:ext cx="367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3" name=""/>
          <p:cNvSpPr/>
          <p:nvPr/>
        </p:nvSpPr>
        <p:spPr>
          <a:xfrm>
            <a:off x="784080" y="4033800"/>
            <a:ext cx="367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4" name=""/>
          <p:cNvSpPr/>
          <p:nvPr/>
        </p:nvSpPr>
        <p:spPr>
          <a:xfrm>
            <a:off x="4127400" y="36608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5" name=""/>
          <p:cNvSpPr/>
          <p:nvPr/>
        </p:nvSpPr>
        <p:spPr>
          <a:xfrm>
            <a:off x="3608280" y="36831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6" name=""/>
          <p:cNvSpPr/>
          <p:nvPr/>
        </p:nvSpPr>
        <p:spPr>
          <a:xfrm>
            <a:off x="3632040" y="39862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7" name=""/>
          <p:cNvSpPr/>
          <p:nvPr/>
        </p:nvSpPr>
        <p:spPr>
          <a:xfrm>
            <a:off x="3527280" y="39085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8" name=""/>
          <p:cNvSpPr/>
          <p:nvPr/>
        </p:nvSpPr>
        <p:spPr>
          <a:xfrm>
            <a:off x="3598920" y="39132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9" name=""/>
          <p:cNvSpPr/>
          <p:nvPr/>
        </p:nvSpPr>
        <p:spPr>
          <a:xfrm>
            <a:off x="3622680" y="38401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0" name=""/>
          <p:cNvSpPr/>
          <p:nvPr/>
        </p:nvSpPr>
        <p:spPr>
          <a:xfrm>
            <a:off x="3524400" y="384480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1" name=""/>
          <p:cNvSpPr/>
          <p:nvPr/>
        </p:nvSpPr>
        <p:spPr>
          <a:xfrm>
            <a:off x="3657600" y="37497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2" name=""/>
          <p:cNvSpPr/>
          <p:nvPr/>
        </p:nvSpPr>
        <p:spPr>
          <a:xfrm>
            <a:off x="3625920" y="35784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3" name=""/>
          <p:cNvSpPr/>
          <p:nvPr/>
        </p:nvSpPr>
        <p:spPr>
          <a:xfrm>
            <a:off x="3718080" y="36194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4" name=""/>
          <p:cNvSpPr/>
          <p:nvPr/>
        </p:nvSpPr>
        <p:spPr>
          <a:xfrm>
            <a:off x="3753000" y="37591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5" name=""/>
          <p:cNvSpPr/>
          <p:nvPr/>
        </p:nvSpPr>
        <p:spPr>
          <a:xfrm>
            <a:off x="3743280" y="39895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6" name=""/>
          <p:cNvSpPr/>
          <p:nvPr/>
        </p:nvSpPr>
        <p:spPr>
          <a:xfrm>
            <a:off x="3767040" y="39164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7" name=""/>
          <p:cNvSpPr/>
          <p:nvPr/>
        </p:nvSpPr>
        <p:spPr>
          <a:xfrm>
            <a:off x="3668760" y="39211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8" name=""/>
          <p:cNvSpPr/>
          <p:nvPr/>
        </p:nvSpPr>
        <p:spPr>
          <a:xfrm>
            <a:off x="3792600" y="359712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9" name=""/>
          <p:cNvSpPr/>
          <p:nvPr/>
        </p:nvSpPr>
        <p:spPr>
          <a:xfrm>
            <a:off x="3830760" y="37069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0" name=""/>
          <p:cNvSpPr/>
          <p:nvPr/>
        </p:nvSpPr>
        <p:spPr>
          <a:xfrm>
            <a:off x="3865680" y="38466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1" name=""/>
          <p:cNvSpPr/>
          <p:nvPr/>
        </p:nvSpPr>
        <p:spPr>
          <a:xfrm>
            <a:off x="3892680" y="35989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2" name=""/>
          <p:cNvSpPr/>
          <p:nvPr/>
        </p:nvSpPr>
        <p:spPr>
          <a:xfrm>
            <a:off x="3879720" y="400356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3" name=""/>
          <p:cNvSpPr/>
          <p:nvPr/>
        </p:nvSpPr>
        <p:spPr>
          <a:xfrm>
            <a:off x="3914640" y="39132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4" name=""/>
          <p:cNvSpPr/>
          <p:nvPr/>
        </p:nvSpPr>
        <p:spPr>
          <a:xfrm>
            <a:off x="4002120" y="37274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5" name=""/>
          <p:cNvSpPr/>
          <p:nvPr/>
        </p:nvSpPr>
        <p:spPr>
          <a:xfrm>
            <a:off x="3975120" y="378288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6" name=""/>
          <p:cNvSpPr/>
          <p:nvPr/>
        </p:nvSpPr>
        <p:spPr>
          <a:xfrm>
            <a:off x="4010040" y="392256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7" name=""/>
          <p:cNvSpPr/>
          <p:nvPr/>
        </p:nvSpPr>
        <p:spPr>
          <a:xfrm>
            <a:off x="4037040" y="36752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8" name=""/>
          <p:cNvSpPr/>
          <p:nvPr/>
        </p:nvSpPr>
        <p:spPr>
          <a:xfrm>
            <a:off x="4040280" y="358920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9" name=""/>
          <p:cNvSpPr/>
          <p:nvPr/>
        </p:nvSpPr>
        <p:spPr>
          <a:xfrm>
            <a:off x="3938760" y="36734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0" name=""/>
          <p:cNvSpPr/>
          <p:nvPr/>
        </p:nvSpPr>
        <p:spPr>
          <a:xfrm>
            <a:off x="4027320" y="381780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1" name=""/>
          <p:cNvSpPr/>
          <p:nvPr/>
        </p:nvSpPr>
        <p:spPr>
          <a:xfrm>
            <a:off x="4206960" y="37767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2" name=""/>
          <p:cNvSpPr/>
          <p:nvPr/>
        </p:nvSpPr>
        <p:spPr>
          <a:xfrm>
            <a:off x="4125960" y="40021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3" name=""/>
          <p:cNvSpPr/>
          <p:nvPr/>
        </p:nvSpPr>
        <p:spPr>
          <a:xfrm>
            <a:off x="4197240" y="40068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4" name=""/>
          <p:cNvSpPr/>
          <p:nvPr/>
        </p:nvSpPr>
        <p:spPr>
          <a:xfrm>
            <a:off x="4221000" y="39337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5" name=""/>
          <p:cNvSpPr/>
          <p:nvPr/>
        </p:nvSpPr>
        <p:spPr>
          <a:xfrm>
            <a:off x="4122720" y="39387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6" name=""/>
          <p:cNvSpPr/>
          <p:nvPr/>
        </p:nvSpPr>
        <p:spPr>
          <a:xfrm>
            <a:off x="4105440" y="374004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7" name=""/>
          <p:cNvSpPr/>
          <p:nvPr/>
        </p:nvSpPr>
        <p:spPr>
          <a:xfrm>
            <a:off x="4224240" y="36720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8" name=""/>
          <p:cNvSpPr/>
          <p:nvPr/>
        </p:nvSpPr>
        <p:spPr>
          <a:xfrm>
            <a:off x="3286080" y="49989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9" name=""/>
          <p:cNvSpPr/>
          <p:nvPr/>
        </p:nvSpPr>
        <p:spPr>
          <a:xfrm>
            <a:off x="3321000" y="51386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0" name=""/>
          <p:cNvSpPr/>
          <p:nvPr/>
        </p:nvSpPr>
        <p:spPr>
          <a:xfrm>
            <a:off x="3348000" y="489096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1" name=""/>
          <p:cNvSpPr/>
          <p:nvPr/>
        </p:nvSpPr>
        <p:spPr>
          <a:xfrm>
            <a:off x="3249720" y="48895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2" name=""/>
          <p:cNvSpPr/>
          <p:nvPr/>
        </p:nvSpPr>
        <p:spPr>
          <a:xfrm>
            <a:off x="3344760" y="54421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3" name=""/>
          <p:cNvSpPr/>
          <p:nvPr/>
        </p:nvSpPr>
        <p:spPr>
          <a:xfrm>
            <a:off x="3259080" y="5481720"/>
            <a:ext cx="367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4" name=""/>
          <p:cNvSpPr/>
          <p:nvPr/>
        </p:nvSpPr>
        <p:spPr>
          <a:xfrm>
            <a:off x="3240000" y="536400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5" name=""/>
          <p:cNvSpPr/>
          <p:nvPr/>
        </p:nvSpPr>
        <p:spPr>
          <a:xfrm>
            <a:off x="3311640" y="53690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6" name=""/>
          <p:cNvSpPr/>
          <p:nvPr/>
        </p:nvSpPr>
        <p:spPr>
          <a:xfrm>
            <a:off x="3335400" y="52959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7" name=""/>
          <p:cNvSpPr/>
          <p:nvPr/>
        </p:nvSpPr>
        <p:spPr>
          <a:xfrm>
            <a:off x="3268800" y="52531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8" name=""/>
          <p:cNvSpPr/>
          <p:nvPr/>
        </p:nvSpPr>
        <p:spPr>
          <a:xfrm>
            <a:off x="3370320" y="520524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9" name=""/>
          <p:cNvSpPr/>
          <p:nvPr/>
        </p:nvSpPr>
        <p:spPr>
          <a:xfrm>
            <a:off x="3338640" y="50338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0" name=""/>
          <p:cNvSpPr/>
          <p:nvPr/>
        </p:nvSpPr>
        <p:spPr>
          <a:xfrm>
            <a:off x="2951280" y="51879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1" name=""/>
          <p:cNvSpPr/>
          <p:nvPr/>
        </p:nvSpPr>
        <p:spPr>
          <a:xfrm>
            <a:off x="3381480" y="53769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2" name=""/>
          <p:cNvSpPr/>
          <p:nvPr/>
        </p:nvSpPr>
        <p:spPr>
          <a:xfrm>
            <a:off x="2397240" y="50706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3" name=""/>
          <p:cNvSpPr/>
          <p:nvPr/>
        </p:nvSpPr>
        <p:spPr>
          <a:xfrm>
            <a:off x="2432160" y="52102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4" name=""/>
          <p:cNvSpPr/>
          <p:nvPr/>
        </p:nvSpPr>
        <p:spPr>
          <a:xfrm>
            <a:off x="2459160" y="49626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5" name=""/>
          <p:cNvSpPr/>
          <p:nvPr/>
        </p:nvSpPr>
        <p:spPr>
          <a:xfrm>
            <a:off x="2462040" y="48769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6" name=""/>
          <p:cNvSpPr/>
          <p:nvPr/>
        </p:nvSpPr>
        <p:spPr>
          <a:xfrm>
            <a:off x="2360520" y="496080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7" name=""/>
          <p:cNvSpPr/>
          <p:nvPr/>
        </p:nvSpPr>
        <p:spPr>
          <a:xfrm>
            <a:off x="2455920" y="55134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8" name=""/>
          <p:cNvSpPr/>
          <p:nvPr/>
        </p:nvSpPr>
        <p:spPr>
          <a:xfrm>
            <a:off x="2370240" y="5553000"/>
            <a:ext cx="3636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9" name=""/>
          <p:cNvSpPr/>
          <p:nvPr/>
        </p:nvSpPr>
        <p:spPr>
          <a:xfrm>
            <a:off x="2351160" y="54356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0" name=""/>
          <p:cNvSpPr/>
          <p:nvPr/>
        </p:nvSpPr>
        <p:spPr>
          <a:xfrm>
            <a:off x="2422440" y="54403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1" name=""/>
          <p:cNvSpPr/>
          <p:nvPr/>
        </p:nvSpPr>
        <p:spPr>
          <a:xfrm>
            <a:off x="2446200" y="53672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2" name=""/>
          <p:cNvSpPr/>
          <p:nvPr/>
        </p:nvSpPr>
        <p:spPr>
          <a:xfrm>
            <a:off x="2347920" y="53722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3" name=""/>
          <p:cNvSpPr/>
          <p:nvPr/>
        </p:nvSpPr>
        <p:spPr>
          <a:xfrm>
            <a:off x="2481120" y="52768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4" name=""/>
          <p:cNvSpPr/>
          <p:nvPr/>
        </p:nvSpPr>
        <p:spPr>
          <a:xfrm>
            <a:off x="2330280" y="51735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5" name=""/>
          <p:cNvSpPr/>
          <p:nvPr/>
        </p:nvSpPr>
        <p:spPr>
          <a:xfrm>
            <a:off x="2449440" y="51055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6" name=""/>
          <p:cNvSpPr/>
          <p:nvPr/>
        </p:nvSpPr>
        <p:spPr>
          <a:xfrm>
            <a:off x="2541600" y="514656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7" name=""/>
          <p:cNvSpPr/>
          <p:nvPr/>
        </p:nvSpPr>
        <p:spPr>
          <a:xfrm>
            <a:off x="2576520" y="528624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8" name=""/>
          <p:cNvSpPr/>
          <p:nvPr/>
        </p:nvSpPr>
        <p:spPr>
          <a:xfrm>
            <a:off x="2603520" y="503856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9" name=""/>
          <p:cNvSpPr/>
          <p:nvPr/>
        </p:nvSpPr>
        <p:spPr>
          <a:xfrm>
            <a:off x="2606760" y="495288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0" name=""/>
          <p:cNvSpPr/>
          <p:nvPr/>
        </p:nvSpPr>
        <p:spPr>
          <a:xfrm>
            <a:off x="2505240" y="50371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1" name=""/>
          <p:cNvSpPr/>
          <p:nvPr/>
        </p:nvSpPr>
        <p:spPr>
          <a:xfrm>
            <a:off x="2503440" y="55609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2" name=""/>
          <p:cNvSpPr/>
          <p:nvPr/>
        </p:nvSpPr>
        <p:spPr>
          <a:xfrm>
            <a:off x="2567160" y="55166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3" name=""/>
          <p:cNvSpPr/>
          <p:nvPr/>
        </p:nvSpPr>
        <p:spPr>
          <a:xfrm>
            <a:off x="2590920" y="54435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4" name=""/>
          <p:cNvSpPr/>
          <p:nvPr/>
        </p:nvSpPr>
        <p:spPr>
          <a:xfrm>
            <a:off x="2492280" y="54482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5" name=""/>
          <p:cNvSpPr/>
          <p:nvPr/>
        </p:nvSpPr>
        <p:spPr>
          <a:xfrm>
            <a:off x="2616120" y="51246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6" name=""/>
          <p:cNvSpPr/>
          <p:nvPr/>
        </p:nvSpPr>
        <p:spPr>
          <a:xfrm>
            <a:off x="2654280" y="52340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7" name=""/>
          <p:cNvSpPr/>
          <p:nvPr/>
        </p:nvSpPr>
        <p:spPr>
          <a:xfrm>
            <a:off x="2689200" y="53737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8" name=""/>
          <p:cNvSpPr/>
          <p:nvPr/>
        </p:nvSpPr>
        <p:spPr>
          <a:xfrm>
            <a:off x="2716200" y="51260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9" name=""/>
          <p:cNvSpPr/>
          <p:nvPr/>
        </p:nvSpPr>
        <p:spPr>
          <a:xfrm>
            <a:off x="2719440" y="50403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0" name=""/>
          <p:cNvSpPr/>
          <p:nvPr/>
        </p:nvSpPr>
        <p:spPr>
          <a:xfrm>
            <a:off x="2635200" y="49989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1" name=""/>
          <p:cNvSpPr/>
          <p:nvPr/>
        </p:nvSpPr>
        <p:spPr>
          <a:xfrm>
            <a:off x="2693880" y="49118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2" name=""/>
          <p:cNvSpPr/>
          <p:nvPr/>
        </p:nvSpPr>
        <p:spPr>
          <a:xfrm>
            <a:off x="2703600" y="553068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3" name=""/>
          <p:cNvSpPr/>
          <p:nvPr/>
        </p:nvSpPr>
        <p:spPr>
          <a:xfrm>
            <a:off x="2738520" y="54403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4" name=""/>
          <p:cNvSpPr/>
          <p:nvPr/>
        </p:nvSpPr>
        <p:spPr>
          <a:xfrm>
            <a:off x="2825640" y="52545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5" name=""/>
          <p:cNvSpPr/>
          <p:nvPr/>
        </p:nvSpPr>
        <p:spPr>
          <a:xfrm>
            <a:off x="2798640" y="53103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6" name=""/>
          <p:cNvSpPr/>
          <p:nvPr/>
        </p:nvSpPr>
        <p:spPr>
          <a:xfrm>
            <a:off x="2833560" y="54500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7" name=""/>
          <p:cNvSpPr/>
          <p:nvPr/>
        </p:nvSpPr>
        <p:spPr>
          <a:xfrm>
            <a:off x="2860560" y="52023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8" name=""/>
          <p:cNvSpPr/>
          <p:nvPr/>
        </p:nvSpPr>
        <p:spPr>
          <a:xfrm>
            <a:off x="2863800" y="51166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9" name=""/>
          <p:cNvSpPr/>
          <p:nvPr/>
        </p:nvSpPr>
        <p:spPr>
          <a:xfrm>
            <a:off x="2762280" y="52005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0" name=""/>
          <p:cNvSpPr/>
          <p:nvPr/>
        </p:nvSpPr>
        <p:spPr>
          <a:xfrm>
            <a:off x="2838600" y="498780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1" name=""/>
          <p:cNvSpPr/>
          <p:nvPr/>
        </p:nvSpPr>
        <p:spPr>
          <a:xfrm>
            <a:off x="2798640" y="48927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2" name=""/>
          <p:cNvSpPr/>
          <p:nvPr/>
        </p:nvSpPr>
        <p:spPr>
          <a:xfrm>
            <a:off x="2851200" y="53452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3" name=""/>
          <p:cNvSpPr/>
          <p:nvPr/>
        </p:nvSpPr>
        <p:spPr>
          <a:xfrm>
            <a:off x="2822400" y="5083200"/>
            <a:ext cx="3528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4" name=""/>
          <p:cNvSpPr/>
          <p:nvPr/>
        </p:nvSpPr>
        <p:spPr>
          <a:xfrm>
            <a:off x="3030480" y="53038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5" name=""/>
          <p:cNvSpPr/>
          <p:nvPr/>
        </p:nvSpPr>
        <p:spPr>
          <a:xfrm>
            <a:off x="3057480" y="50562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6" name=""/>
          <p:cNvSpPr/>
          <p:nvPr/>
        </p:nvSpPr>
        <p:spPr>
          <a:xfrm>
            <a:off x="3060720" y="49705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7" name=""/>
          <p:cNvSpPr/>
          <p:nvPr/>
        </p:nvSpPr>
        <p:spPr>
          <a:xfrm>
            <a:off x="2976480" y="49291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8" name=""/>
          <p:cNvSpPr/>
          <p:nvPr/>
        </p:nvSpPr>
        <p:spPr>
          <a:xfrm>
            <a:off x="2959200" y="50547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9" name=""/>
          <p:cNvSpPr/>
          <p:nvPr/>
        </p:nvSpPr>
        <p:spPr>
          <a:xfrm>
            <a:off x="2949480" y="55292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0" name=""/>
          <p:cNvSpPr/>
          <p:nvPr/>
        </p:nvSpPr>
        <p:spPr>
          <a:xfrm>
            <a:off x="3021120" y="55339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1" name=""/>
          <p:cNvSpPr/>
          <p:nvPr/>
        </p:nvSpPr>
        <p:spPr>
          <a:xfrm>
            <a:off x="3044880" y="546084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2" name=""/>
          <p:cNvSpPr/>
          <p:nvPr/>
        </p:nvSpPr>
        <p:spPr>
          <a:xfrm>
            <a:off x="2946240" y="54658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3" name=""/>
          <p:cNvSpPr/>
          <p:nvPr/>
        </p:nvSpPr>
        <p:spPr>
          <a:xfrm>
            <a:off x="3079800" y="53704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4" name=""/>
          <p:cNvSpPr/>
          <p:nvPr/>
        </p:nvSpPr>
        <p:spPr>
          <a:xfrm>
            <a:off x="2928960" y="526716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5" name=""/>
          <p:cNvSpPr/>
          <p:nvPr/>
        </p:nvSpPr>
        <p:spPr>
          <a:xfrm>
            <a:off x="3048120" y="51991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6" name=""/>
          <p:cNvSpPr/>
          <p:nvPr/>
        </p:nvSpPr>
        <p:spPr>
          <a:xfrm>
            <a:off x="3139920" y="524016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7" name=""/>
          <p:cNvSpPr/>
          <p:nvPr/>
        </p:nvSpPr>
        <p:spPr>
          <a:xfrm>
            <a:off x="3174840" y="53802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8" name=""/>
          <p:cNvSpPr/>
          <p:nvPr/>
        </p:nvSpPr>
        <p:spPr>
          <a:xfrm>
            <a:off x="3201840" y="51325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9" name=""/>
          <p:cNvSpPr/>
          <p:nvPr/>
        </p:nvSpPr>
        <p:spPr>
          <a:xfrm>
            <a:off x="3205080" y="50468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0" name=""/>
          <p:cNvSpPr/>
          <p:nvPr/>
        </p:nvSpPr>
        <p:spPr>
          <a:xfrm>
            <a:off x="3121200" y="50054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1" name=""/>
          <p:cNvSpPr/>
          <p:nvPr/>
        </p:nvSpPr>
        <p:spPr>
          <a:xfrm>
            <a:off x="3103560" y="51307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2" name=""/>
          <p:cNvSpPr/>
          <p:nvPr/>
        </p:nvSpPr>
        <p:spPr>
          <a:xfrm>
            <a:off x="3179880" y="491796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3" name=""/>
          <p:cNvSpPr/>
          <p:nvPr/>
        </p:nvSpPr>
        <p:spPr>
          <a:xfrm>
            <a:off x="3189240" y="55371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4" name=""/>
          <p:cNvSpPr/>
          <p:nvPr/>
        </p:nvSpPr>
        <p:spPr>
          <a:xfrm>
            <a:off x="3090960" y="554184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5" name=""/>
          <p:cNvSpPr/>
          <p:nvPr/>
        </p:nvSpPr>
        <p:spPr>
          <a:xfrm>
            <a:off x="3246480" y="51753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6" name=""/>
          <p:cNvSpPr/>
          <p:nvPr/>
        </p:nvSpPr>
        <p:spPr>
          <a:xfrm>
            <a:off x="2292480" y="423216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7" name=""/>
          <p:cNvSpPr/>
          <p:nvPr/>
        </p:nvSpPr>
        <p:spPr>
          <a:xfrm>
            <a:off x="2295360" y="41464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8" name=""/>
          <p:cNvSpPr/>
          <p:nvPr/>
        </p:nvSpPr>
        <p:spPr>
          <a:xfrm>
            <a:off x="2289240" y="478296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9" name=""/>
          <p:cNvSpPr/>
          <p:nvPr/>
        </p:nvSpPr>
        <p:spPr>
          <a:xfrm>
            <a:off x="2325600" y="409716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0" name=""/>
          <p:cNvSpPr/>
          <p:nvPr/>
        </p:nvSpPr>
        <p:spPr>
          <a:xfrm>
            <a:off x="3362400" y="476712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1" name=""/>
          <p:cNvSpPr/>
          <p:nvPr/>
        </p:nvSpPr>
        <p:spPr>
          <a:xfrm>
            <a:off x="3375000" y="456552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2" name=""/>
          <p:cNvSpPr/>
          <p:nvPr/>
        </p:nvSpPr>
        <p:spPr>
          <a:xfrm>
            <a:off x="3289320" y="4605480"/>
            <a:ext cx="3636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3" name=""/>
          <p:cNvSpPr/>
          <p:nvPr/>
        </p:nvSpPr>
        <p:spPr>
          <a:xfrm>
            <a:off x="2427120" y="419400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4" name=""/>
          <p:cNvSpPr/>
          <p:nvPr/>
        </p:nvSpPr>
        <p:spPr>
          <a:xfrm>
            <a:off x="2462040" y="43340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5" name=""/>
          <p:cNvSpPr/>
          <p:nvPr/>
        </p:nvSpPr>
        <p:spPr>
          <a:xfrm>
            <a:off x="2489040" y="40863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6" name=""/>
          <p:cNvSpPr/>
          <p:nvPr/>
        </p:nvSpPr>
        <p:spPr>
          <a:xfrm>
            <a:off x="2468520" y="475920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7" name=""/>
          <p:cNvSpPr/>
          <p:nvPr/>
        </p:nvSpPr>
        <p:spPr>
          <a:xfrm>
            <a:off x="2390760" y="40845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8" name=""/>
          <p:cNvSpPr/>
          <p:nvPr/>
        </p:nvSpPr>
        <p:spPr>
          <a:xfrm>
            <a:off x="2486160" y="46371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9" name=""/>
          <p:cNvSpPr/>
          <p:nvPr/>
        </p:nvSpPr>
        <p:spPr>
          <a:xfrm>
            <a:off x="2400480" y="4676760"/>
            <a:ext cx="3636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0" name=""/>
          <p:cNvSpPr/>
          <p:nvPr/>
        </p:nvSpPr>
        <p:spPr>
          <a:xfrm>
            <a:off x="2381400" y="45594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1" name=""/>
          <p:cNvSpPr/>
          <p:nvPr/>
        </p:nvSpPr>
        <p:spPr>
          <a:xfrm>
            <a:off x="2452680" y="45640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2" name=""/>
          <p:cNvSpPr/>
          <p:nvPr/>
        </p:nvSpPr>
        <p:spPr>
          <a:xfrm>
            <a:off x="2476440" y="44910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3" name=""/>
          <p:cNvSpPr/>
          <p:nvPr/>
        </p:nvSpPr>
        <p:spPr>
          <a:xfrm>
            <a:off x="2378160" y="449568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4" name=""/>
          <p:cNvSpPr/>
          <p:nvPr/>
        </p:nvSpPr>
        <p:spPr>
          <a:xfrm>
            <a:off x="2511360" y="44006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5" name=""/>
          <p:cNvSpPr/>
          <p:nvPr/>
        </p:nvSpPr>
        <p:spPr>
          <a:xfrm>
            <a:off x="2360520" y="42973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6" name=""/>
          <p:cNvSpPr/>
          <p:nvPr/>
        </p:nvSpPr>
        <p:spPr>
          <a:xfrm>
            <a:off x="2479680" y="42292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7" name=""/>
          <p:cNvSpPr/>
          <p:nvPr/>
        </p:nvSpPr>
        <p:spPr>
          <a:xfrm>
            <a:off x="2571840" y="42703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8" name=""/>
          <p:cNvSpPr/>
          <p:nvPr/>
        </p:nvSpPr>
        <p:spPr>
          <a:xfrm>
            <a:off x="2606760" y="44100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9" name=""/>
          <p:cNvSpPr/>
          <p:nvPr/>
        </p:nvSpPr>
        <p:spPr>
          <a:xfrm>
            <a:off x="2633760" y="41623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0" name=""/>
          <p:cNvSpPr/>
          <p:nvPr/>
        </p:nvSpPr>
        <p:spPr>
          <a:xfrm>
            <a:off x="2637000" y="40766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1" name=""/>
          <p:cNvSpPr/>
          <p:nvPr/>
        </p:nvSpPr>
        <p:spPr>
          <a:xfrm>
            <a:off x="2535120" y="41608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2" name=""/>
          <p:cNvSpPr/>
          <p:nvPr/>
        </p:nvSpPr>
        <p:spPr>
          <a:xfrm>
            <a:off x="2630520" y="471312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3" name=""/>
          <p:cNvSpPr/>
          <p:nvPr/>
        </p:nvSpPr>
        <p:spPr>
          <a:xfrm>
            <a:off x="2544840" y="4753080"/>
            <a:ext cx="3636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4" name=""/>
          <p:cNvSpPr/>
          <p:nvPr/>
        </p:nvSpPr>
        <p:spPr>
          <a:xfrm>
            <a:off x="2533680" y="46846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5" name=""/>
          <p:cNvSpPr/>
          <p:nvPr/>
        </p:nvSpPr>
        <p:spPr>
          <a:xfrm>
            <a:off x="2597040" y="46404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6" name=""/>
          <p:cNvSpPr/>
          <p:nvPr/>
        </p:nvSpPr>
        <p:spPr>
          <a:xfrm>
            <a:off x="2620800" y="45673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7" name=""/>
          <p:cNvSpPr/>
          <p:nvPr/>
        </p:nvSpPr>
        <p:spPr>
          <a:xfrm>
            <a:off x="2522520" y="45720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8" name=""/>
          <p:cNvSpPr/>
          <p:nvPr/>
        </p:nvSpPr>
        <p:spPr>
          <a:xfrm>
            <a:off x="2646360" y="424800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9" name=""/>
          <p:cNvSpPr/>
          <p:nvPr/>
        </p:nvSpPr>
        <p:spPr>
          <a:xfrm>
            <a:off x="2563920" y="44942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0" name=""/>
          <p:cNvSpPr/>
          <p:nvPr/>
        </p:nvSpPr>
        <p:spPr>
          <a:xfrm>
            <a:off x="2719440" y="44974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1" name=""/>
          <p:cNvSpPr/>
          <p:nvPr/>
        </p:nvSpPr>
        <p:spPr>
          <a:xfrm>
            <a:off x="2746440" y="42498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2" name=""/>
          <p:cNvSpPr/>
          <p:nvPr/>
        </p:nvSpPr>
        <p:spPr>
          <a:xfrm>
            <a:off x="2749680" y="41641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3" name=""/>
          <p:cNvSpPr/>
          <p:nvPr/>
        </p:nvSpPr>
        <p:spPr>
          <a:xfrm>
            <a:off x="2211480" y="41403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4" name=""/>
          <p:cNvSpPr/>
          <p:nvPr/>
        </p:nvSpPr>
        <p:spPr>
          <a:xfrm>
            <a:off x="2629080" y="48340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5" name=""/>
          <p:cNvSpPr/>
          <p:nvPr/>
        </p:nvSpPr>
        <p:spPr>
          <a:xfrm>
            <a:off x="2709720" y="47275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6" name=""/>
          <p:cNvSpPr/>
          <p:nvPr/>
        </p:nvSpPr>
        <p:spPr>
          <a:xfrm>
            <a:off x="2733840" y="465444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7" name=""/>
          <p:cNvSpPr/>
          <p:nvPr/>
        </p:nvSpPr>
        <p:spPr>
          <a:xfrm>
            <a:off x="2768760" y="45640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8" name=""/>
          <p:cNvSpPr/>
          <p:nvPr/>
        </p:nvSpPr>
        <p:spPr>
          <a:xfrm>
            <a:off x="2792520" y="43243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9" name=""/>
          <p:cNvSpPr/>
          <p:nvPr/>
        </p:nvSpPr>
        <p:spPr>
          <a:xfrm>
            <a:off x="2782800" y="47991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0" name=""/>
          <p:cNvSpPr/>
          <p:nvPr/>
        </p:nvSpPr>
        <p:spPr>
          <a:xfrm>
            <a:off x="2854440" y="48038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1" name=""/>
          <p:cNvSpPr/>
          <p:nvPr/>
        </p:nvSpPr>
        <p:spPr>
          <a:xfrm>
            <a:off x="2878200" y="47307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2" name=""/>
          <p:cNvSpPr/>
          <p:nvPr/>
        </p:nvSpPr>
        <p:spPr>
          <a:xfrm>
            <a:off x="2779560" y="47354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3" name=""/>
          <p:cNvSpPr/>
          <p:nvPr/>
        </p:nvSpPr>
        <p:spPr>
          <a:xfrm>
            <a:off x="3090960" y="40942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4" name=""/>
          <p:cNvSpPr/>
          <p:nvPr/>
        </p:nvSpPr>
        <p:spPr>
          <a:xfrm>
            <a:off x="3084480" y="47307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5" name=""/>
          <p:cNvSpPr/>
          <p:nvPr/>
        </p:nvSpPr>
        <p:spPr>
          <a:xfrm>
            <a:off x="2998800" y="4770360"/>
            <a:ext cx="3636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6" name=""/>
          <p:cNvSpPr/>
          <p:nvPr/>
        </p:nvSpPr>
        <p:spPr>
          <a:xfrm>
            <a:off x="2979720" y="46530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7" name=""/>
          <p:cNvSpPr/>
          <p:nvPr/>
        </p:nvSpPr>
        <p:spPr>
          <a:xfrm>
            <a:off x="3051000" y="4657680"/>
            <a:ext cx="3528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8" name=""/>
          <p:cNvSpPr/>
          <p:nvPr/>
        </p:nvSpPr>
        <p:spPr>
          <a:xfrm>
            <a:off x="3075120" y="45846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9" name=""/>
          <p:cNvSpPr/>
          <p:nvPr/>
        </p:nvSpPr>
        <p:spPr>
          <a:xfrm>
            <a:off x="2976480" y="45896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0" name=""/>
          <p:cNvSpPr/>
          <p:nvPr/>
        </p:nvSpPr>
        <p:spPr>
          <a:xfrm>
            <a:off x="3228840" y="48070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1" name=""/>
          <p:cNvSpPr/>
          <p:nvPr/>
        </p:nvSpPr>
        <p:spPr>
          <a:xfrm>
            <a:off x="3132000" y="47782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2" name=""/>
          <p:cNvSpPr/>
          <p:nvPr/>
        </p:nvSpPr>
        <p:spPr>
          <a:xfrm>
            <a:off x="3195720" y="47340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3" name=""/>
          <p:cNvSpPr/>
          <p:nvPr/>
        </p:nvSpPr>
        <p:spPr>
          <a:xfrm>
            <a:off x="3219480" y="46609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4" name=""/>
          <p:cNvSpPr/>
          <p:nvPr/>
        </p:nvSpPr>
        <p:spPr>
          <a:xfrm>
            <a:off x="3121200" y="46656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5" name=""/>
          <p:cNvSpPr/>
          <p:nvPr/>
        </p:nvSpPr>
        <p:spPr>
          <a:xfrm>
            <a:off x="3048120" y="4879800"/>
            <a:ext cx="3636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6" name=""/>
          <p:cNvSpPr/>
          <p:nvPr/>
        </p:nvSpPr>
        <p:spPr>
          <a:xfrm>
            <a:off x="4000680" y="53103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7" name=""/>
          <p:cNvSpPr/>
          <p:nvPr/>
        </p:nvSpPr>
        <p:spPr>
          <a:xfrm>
            <a:off x="3446640" y="51926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8" name=""/>
          <p:cNvSpPr/>
          <p:nvPr/>
        </p:nvSpPr>
        <p:spPr>
          <a:xfrm>
            <a:off x="3481560" y="53323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9" name=""/>
          <p:cNvSpPr/>
          <p:nvPr/>
        </p:nvSpPr>
        <p:spPr>
          <a:xfrm>
            <a:off x="3508200" y="5084640"/>
            <a:ext cx="3528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0" name=""/>
          <p:cNvSpPr/>
          <p:nvPr/>
        </p:nvSpPr>
        <p:spPr>
          <a:xfrm>
            <a:off x="3511440" y="49989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1" name=""/>
          <p:cNvSpPr/>
          <p:nvPr/>
        </p:nvSpPr>
        <p:spPr>
          <a:xfrm>
            <a:off x="3409920" y="50832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2" name=""/>
          <p:cNvSpPr/>
          <p:nvPr/>
        </p:nvSpPr>
        <p:spPr>
          <a:xfrm>
            <a:off x="3400560" y="555768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3" name=""/>
          <p:cNvSpPr/>
          <p:nvPr/>
        </p:nvSpPr>
        <p:spPr>
          <a:xfrm>
            <a:off x="3471840" y="55627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4" name=""/>
          <p:cNvSpPr/>
          <p:nvPr/>
        </p:nvSpPr>
        <p:spPr>
          <a:xfrm>
            <a:off x="3495600" y="54896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5" name=""/>
          <p:cNvSpPr/>
          <p:nvPr/>
        </p:nvSpPr>
        <p:spPr>
          <a:xfrm>
            <a:off x="3397320" y="54943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6" name=""/>
          <p:cNvSpPr/>
          <p:nvPr/>
        </p:nvSpPr>
        <p:spPr>
          <a:xfrm>
            <a:off x="3530520" y="539892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7" name=""/>
          <p:cNvSpPr/>
          <p:nvPr/>
        </p:nvSpPr>
        <p:spPr>
          <a:xfrm>
            <a:off x="3498840" y="52275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8" name=""/>
          <p:cNvSpPr/>
          <p:nvPr/>
        </p:nvSpPr>
        <p:spPr>
          <a:xfrm>
            <a:off x="3591000" y="52689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9" name=""/>
          <p:cNvSpPr/>
          <p:nvPr/>
        </p:nvSpPr>
        <p:spPr>
          <a:xfrm>
            <a:off x="3625920" y="54086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0" name=""/>
          <p:cNvSpPr/>
          <p:nvPr/>
        </p:nvSpPr>
        <p:spPr>
          <a:xfrm>
            <a:off x="3652920" y="51609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1" name=""/>
          <p:cNvSpPr/>
          <p:nvPr/>
        </p:nvSpPr>
        <p:spPr>
          <a:xfrm>
            <a:off x="3656160" y="50752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2" name=""/>
          <p:cNvSpPr/>
          <p:nvPr/>
        </p:nvSpPr>
        <p:spPr>
          <a:xfrm>
            <a:off x="3554280" y="51595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3" name=""/>
          <p:cNvSpPr/>
          <p:nvPr/>
        </p:nvSpPr>
        <p:spPr>
          <a:xfrm>
            <a:off x="3641760" y="54896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4" name=""/>
          <p:cNvSpPr/>
          <p:nvPr/>
        </p:nvSpPr>
        <p:spPr>
          <a:xfrm>
            <a:off x="3541680" y="55706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5" name=""/>
          <p:cNvSpPr/>
          <p:nvPr/>
        </p:nvSpPr>
        <p:spPr>
          <a:xfrm>
            <a:off x="3665520" y="52466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6" name=""/>
          <p:cNvSpPr/>
          <p:nvPr/>
        </p:nvSpPr>
        <p:spPr>
          <a:xfrm>
            <a:off x="3703680" y="535608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7" name=""/>
          <p:cNvSpPr/>
          <p:nvPr/>
        </p:nvSpPr>
        <p:spPr>
          <a:xfrm>
            <a:off x="3738600" y="549576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8" name=""/>
          <p:cNvSpPr/>
          <p:nvPr/>
        </p:nvSpPr>
        <p:spPr>
          <a:xfrm>
            <a:off x="3765600" y="52484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9" name=""/>
          <p:cNvSpPr/>
          <p:nvPr/>
        </p:nvSpPr>
        <p:spPr>
          <a:xfrm>
            <a:off x="3768840" y="516240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0" name=""/>
          <p:cNvSpPr/>
          <p:nvPr/>
        </p:nvSpPr>
        <p:spPr>
          <a:xfrm>
            <a:off x="3684600" y="51213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1" name=""/>
          <p:cNvSpPr/>
          <p:nvPr/>
        </p:nvSpPr>
        <p:spPr>
          <a:xfrm>
            <a:off x="3743280" y="50338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2" name=""/>
          <p:cNvSpPr/>
          <p:nvPr/>
        </p:nvSpPr>
        <p:spPr>
          <a:xfrm>
            <a:off x="3787920" y="55627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3" name=""/>
          <p:cNvSpPr/>
          <p:nvPr/>
        </p:nvSpPr>
        <p:spPr>
          <a:xfrm>
            <a:off x="3875040" y="53769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4" name=""/>
          <p:cNvSpPr/>
          <p:nvPr/>
        </p:nvSpPr>
        <p:spPr>
          <a:xfrm>
            <a:off x="3848040" y="54324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5" name=""/>
          <p:cNvSpPr/>
          <p:nvPr/>
        </p:nvSpPr>
        <p:spPr>
          <a:xfrm>
            <a:off x="3882960" y="55720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6" name=""/>
          <p:cNvSpPr/>
          <p:nvPr/>
        </p:nvSpPr>
        <p:spPr>
          <a:xfrm>
            <a:off x="3909960" y="53244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7" name=""/>
          <p:cNvSpPr/>
          <p:nvPr/>
        </p:nvSpPr>
        <p:spPr>
          <a:xfrm>
            <a:off x="3913200" y="52387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8" name=""/>
          <p:cNvSpPr/>
          <p:nvPr/>
        </p:nvSpPr>
        <p:spPr>
          <a:xfrm>
            <a:off x="3811680" y="53229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9" name=""/>
          <p:cNvSpPr/>
          <p:nvPr/>
        </p:nvSpPr>
        <p:spPr>
          <a:xfrm>
            <a:off x="3887640" y="51102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0" name=""/>
          <p:cNvSpPr/>
          <p:nvPr/>
        </p:nvSpPr>
        <p:spPr>
          <a:xfrm>
            <a:off x="3848040" y="501480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1" name=""/>
          <p:cNvSpPr/>
          <p:nvPr/>
        </p:nvSpPr>
        <p:spPr>
          <a:xfrm>
            <a:off x="3900600" y="54673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2" name=""/>
          <p:cNvSpPr/>
          <p:nvPr/>
        </p:nvSpPr>
        <p:spPr>
          <a:xfrm>
            <a:off x="3871800" y="520524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3" name=""/>
          <p:cNvSpPr/>
          <p:nvPr/>
        </p:nvSpPr>
        <p:spPr>
          <a:xfrm>
            <a:off x="4079880" y="542592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4" name=""/>
          <p:cNvSpPr/>
          <p:nvPr/>
        </p:nvSpPr>
        <p:spPr>
          <a:xfrm>
            <a:off x="4106880" y="51786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5" name=""/>
          <p:cNvSpPr/>
          <p:nvPr/>
        </p:nvSpPr>
        <p:spPr>
          <a:xfrm>
            <a:off x="4110120" y="509256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6" name=""/>
          <p:cNvSpPr/>
          <p:nvPr/>
        </p:nvSpPr>
        <p:spPr>
          <a:xfrm>
            <a:off x="4025880" y="50515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7" name=""/>
          <p:cNvSpPr/>
          <p:nvPr/>
        </p:nvSpPr>
        <p:spPr>
          <a:xfrm>
            <a:off x="4008600" y="51768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8" name=""/>
          <p:cNvSpPr/>
          <p:nvPr/>
        </p:nvSpPr>
        <p:spPr>
          <a:xfrm>
            <a:off x="4129200" y="54928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9" name=""/>
          <p:cNvSpPr/>
          <p:nvPr/>
        </p:nvSpPr>
        <p:spPr>
          <a:xfrm>
            <a:off x="3978360" y="53895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0" name=""/>
          <p:cNvSpPr/>
          <p:nvPr/>
        </p:nvSpPr>
        <p:spPr>
          <a:xfrm>
            <a:off x="4097160" y="5321160"/>
            <a:ext cx="3528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1" name=""/>
          <p:cNvSpPr/>
          <p:nvPr/>
        </p:nvSpPr>
        <p:spPr>
          <a:xfrm>
            <a:off x="4189320" y="53625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2" name=""/>
          <p:cNvSpPr/>
          <p:nvPr/>
        </p:nvSpPr>
        <p:spPr>
          <a:xfrm>
            <a:off x="4170240" y="512748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3" name=""/>
          <p:cNvSpPr/>
          <p:nvPr/>
        </p:nvSpPr>
        <p:spPr>
          <a:xfrm>
            <a:off x="4152960" y="52531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4" name=""/>
          <p:cNvSpPr/>
          <p:nvPr/>
        </p:nvSpPr>
        <p:spPr>
          <a:xfrm>
            <a:off x="4030560" y="443376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5" name=""/>
          <p:cNvSpPr/>
          <p:nvPr/>
        </p:nvSpPr>
        <p:spPr>
          <a:xfrm>
            <a:off x="3517920" y="48816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6" name=""/>
          <p:cNvSpPr/>
          <p:nvPr/>
        </p:nvSpPr>
        <p:spPr>
          <a:xfrm>
            <a:off x="3535200" y="475920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7" name=""/>
          <p:cNvSpPr/>
          <p:nvPr/>
        </p:nvSpPr>
        <p:spPr>
          <a:xfrm>
            <a:off x="3449520" y="4799160"/>
            <a:ext cx="367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8" name=""/>
          <p:cNvSpPr/>
          <p:nvPr/>
        </p:nvSpPr>
        <p:spPr>
          <a:xfrm>
            <a:off x="3430440" y="46814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9" name=""/>
          <p:cNvSpPr/>
          <p:nvPr/>
        </p:nvSpPr>
        <p:spPr>
          <a:xfrm>
            <a:off x="3502080" y="46864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0" name=""/>
          <p:cNvSpPr/>
          <p:nvPr/>
        </p:nvSpPr>
        <p:spPr>
          <a:xfrm>
            <a:off x="3525840" y="46134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1" name=""/>
          <p:cNvSpPr/>
          <p:nvPr/>
        </p:nvSpPr>
        <p:spPr>
          <a:xfrm>
            <a:off x="3427560" y="46180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2" name=""/>
          <p:cNvSpPr/>
          <p:nvPr/>
        </p:nvSpPr>
        <p:spPr>
          <a:xfrm>
            <a:off x="3560760" y="45226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3" name=""/>
          <p:cNvSpPr/>
          <p:nvPr/>
        </p:nvSpPr>
        <p:spPr>
          <a:xfrm>
            <a:off x="3621240" y="43927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4" name=""/>
          <p:cNvSpPr/>
          <p:nvPr/>
        </p:nvSpPr>
        <p:spPr>
          <a:xfrm>
            <a:off x="3656160" y="45324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5" name=""/>
          <p:cNvSpPr/>
          <p:nvPr/>
        </p:nvSpPr>
        <p:spPr>
          <a:xfrm>
            <a:off x="3683160" y="42847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6" name=""/>
          <p:cNvSpPr/>
          <p:nvPr/>
        </p:nvSpPr>
        <p:spPr>
          <a:xfrm>
            <a:off x="3679920" y="48355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7" name=""/>
          <p:cNvSpPr/>
          <p:nvPr/>
        </p:nvSpPr>
        <p:spPr>
          <a:xfrm>
            <a:off x="3594240" y="4875120"/>
            <a:ext cx="3636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8" name=""/>
          <p:cNvSpPr/>
          <p:nvPr/>
        </p:nvSpPr>
        <p:spPr>
          <a:xfrm>
            <a:off x="3583080" y="48070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9" name=""/>
          <p:cNvSpPr/>
          <p:nvPr/>
        </p:nvSpPr>
        <p:spPr>
          <a:xfrm>
            <a:off x="3646440" y="47624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0" name=""/>
          <p:cNvSpPr/>
          <p:nvPr/>
        </p:nvSpPr>
        <p:spPr>
          <a:xfrm>
            <a:off x="3670200" y="468936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1" name=""/>
          <p:cNvSpPr/>
          <p:nvPr/>
        </p:nvSpPr>
        <p:spPr>
          <a:xfrm>
            <a:off x="3571920" y="46944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2" name=""/>
          <p:cNvSpPr/>
          <p:nvPr/>
        </p:nvSpPr>
        <p:spPr>
          <a:xfrm>
            <a:off x="3695760" y="43704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3" name=""/>
          <p:cNvSpPr/>
          <p:nvPr/>
        </p:nvSpPr>
        <p:spPr>
          <a:xfrm>
            <a:off x="3733920" y="44798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4" name=""/>
          <p:cNvSpPr/>
          <p:nvPr/>
        </p:nvSpPr>
        <p:spPr>
          <a:xfrm>
            <a:off x="3768840" y="46195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5" name=""/>
          <p:cNvSpPr/>
          <p:nvPr/>
        </p:nvSpPr>
        <p:spPr>
          <a:xfrm>
            <a:off x="3795840" y="437184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6" name=""/>
          <p:cNvSpPr/>
          <p:nvPr/>
        </p:nvSpPr>
        <p:spPr>
          <a:xfrm>
            <a:off x="3798720" y="42861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7" name=""/>
          <p:cNvSpPr/>
          <p:nvPr/>
        </p:nvSpPr>
        <p:spPr>
          <a:xfrm>
            <a:off x="3714840" y="42451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8" name=""/>
          <p:cNvSpPr/>
          <p:nvPr/>
        </p:nvSpPr>
        <p:spPr>
          <a:xfrm>
            <a:off x="3678120" y="49561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9" name=""/>
          <p:cNvSpPr/>
          <p:nvPr/>
        </p:nvSpPr>
        <p:spPr>
          <a:xfrm>
            <a:off x="3759120" y="48499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0" name=""/>
          <p:cNvSpPr/>
          <p:nvPr/>
        </p:nvSpPr>
        <p:spPr>
          <a:xfrm>
            <a:off x="3782880" y="47768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1" name=""/>
          <p:cNvSpPr/>
          <p:nvPr/>
        </p:nvSpPr>
        <p:spPr>
          <a:xfrm>
            <a:off x="3817800" y="46864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2" name=""/>
          <p:cNvSpPr/>
          <p:nvPr/>
        </p:nvSpPr>
        <p:spPr>
          <a:xfrm>
            <a:off x="3905280" y="45007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3" name=""/>
          <p:cNvSpPr/>
          <p:nvPr/>
        </p:nvSpPr>
        <p:spPr>
          <a:xfrm>
            <a:off x="3878280" y="45561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4" name=""/>
          <p:cNvSpPr/>
          <p:nvPr/>
        </p:nvSpPr>
        <p:spPr>
          <a:xfrm>
            <a:off x="3913200" y="46958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5" name=""/>
          <p:cNvSpPr/>
          <p:nvPr/>
        </p:nvSpPr>
        <p:spPr>
          <a:xfrm>
            <a:off x="3940200" y="44481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6" name=""/>
          <p:cNvSpPr/>
          <p:nvPr/>
        </p:nvSpPr>
        <p:spPr>
          <a:xfrm>
            <a:off x="3943440" y="43624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7" name=""/>
          <p:cNvSpPr/>
          <p:nvPr/>
        </p:nvSpPr>
        <p:spPr>
          <a:xfrm>
            <a:off x="3841920" y="44467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8" name=""/>
          <p:cNvSpPr/>
          <p:nvPr/>
        </p:nvSpPr>
        <p:spPr>
          <a:xfrm>
            <a:off x="3832200" y="49212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9" name=""/>
          <p:cNvSpPr/>
          <p:nvPr/>
        </p:nvSpPr>
        <p:spPr>
          <a:xfrm>
            <a:off x="3903840" y="492588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0" name=""/>
          <p:cNvSpPr/>
          <p:nvPr/>
        </p:nvSpPr>
        <p:spPr>
          <a:xfrm>
            <a:off x="3927600" y="48531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1" name=""/>
          <p:cNvSpPr/>
          <p:nvPr/>
        </p:nvSpPr>
        <p:spPr>
          <a:xfrm>
            <a:off x="3828960" y="48578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2" name=""/>
          <p:cNvSpPr/>
          <p:nvPr/>
        </p:nvSpPr>
        <p:spPr>
          <a:xfrm>
            <a:off x="3930480" y="45910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3" name=""/>
          <p:cNvSpPr/>
          <p:nvPr/>
        </p:nvSpPr>
        <p:spPr>
          <a:xfrm>
            <a:off x="3902040" y="432900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4" name=""/>
          <p:cNvSpPr/>
          <p:nvPr/>
        </p:nvSpPr>
        <p:spPr>
          <a:xfrm>
            <a:off x="4110120" y="45496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5" name=""/>
          <p:cNvSpPr/>
          <p:nvPr/>
        </p:nvSpPr>
        <p:spPr>
          <a:xfrm>
            <a:off x="4137120" y="430200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6" name=""/>
          <p:cNvSpPr/>
          <p:nvPr/>
        </p:nvSpPr>
        <p:spPr>
          <a:xfrm>
            <a:off x="4038480" y="43005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7" name=""/>
          <p:cNvSpPr/>
          <p:nvPr/>
        </p:nvSpPr>
        <p:spPr>
          <a:xfrm>
            <a:off x="4133880" y="48531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8" name=""/>
          <p:cNvSpPr/>
          <p:nvPr/>
        </p:nvSpPr>
        <p:spPr>
          <a:xfrm>
            <a:off x="4048200" y="4892760"/>
            <a:ext cx="3636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9" name=""/>
          <p:cNvSpPr/>
          <p:nvPr/>
        </p:nvSpPr>
        <p:spPr>
          <a:xfrm>
            <a:off x="4029120" y="477504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0" name=""/>
          <p:cNvSpPr/>
          <p:nvPr/>
        </p:nvSpPr>
        <p:spPr>
          <a:xfrm>
            <a:off x="4100400" y="47800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1" name=""/>
          <p:cNvSpPr/>
          <p:nvPr/>
        </p:nvSpPr>
        <p:spPr>
          <a:xfrm>
            <a:off x="4124160" y="47070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2" name=""/>
          <p:cNvSpPr/>
          <p:nvPr/>
        </p:nvSpPr>
        <p:spPr>
          <a:xfrm>
            <a:off x="4025880" y="47116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3" name=""/>
          <p:cNvSpPr/>
          <p:nvPr/>
        </p:nvSpPr>
        <p:spPr>
          <a:xfrm>
            <a:off x="4159080" y="461628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4" name=""/>
          <p:cNvSpPr/>
          <p:nvPr/>
        </p:nvSpPr>
        <p:spPr>
          <a:xfrm>
            <a:off x="4008600" y="45133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5" name=""/>
          <p:cNvSpPr/>
          <p:nvPr/>
        </p:nvSpPr>
        <p:spPr>
          <a:xfrm>
            <a:off x="4127400" y="44449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6" name=""/>
          <p:cNvSpPr/>
          <p:nvPr/>
        </p:nvSpPr>
        <p:spPr>
          <a:xfrm>
            <a:off x="4219560" y="44863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7" name=""/>
          <p:cNvSpPr/>
          <p:nvPr/>
        </p:nvSpPr>
        <p:spPr>
          <a:xfrm>
            <a:off x="4200480" y="42512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8" name=""/>
          <p:cNvSpPr/>
          <p:nvPr/>
        </p:nvSpPr>
        <p:spPr>
          <a:xfrm>
            <a:off x="4183200" y="43768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9" name=""/>
          <p:cNvSpPr/>
          <p:nvPr/>
        </p:nvSpPr>
        <p:spPr>
          <a:xfrm>
            <a:off x="4181400" y="49006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0" name=""/>
          <p:cNvSpPr/>
          <p:nvPr/>
        </p:nvSpPr>
        <p:spPr>
          <a:xfrm>
            <a:off x="4170240" y="47880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1" name=""/>
          <p:cNvSpPr/>
          <p:nvPr/>
        </p:nvSpPr>
        <p:spPr>
          <a:xfrm>
            <a:off x="4097160" y="5002200"/>
            <a:ext cx="367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2" name=""/>
          <p:cNvSpPr/>
          <p:nvPr/>
        </p:nvSpPr>
        <p:spPr>
          <a:xfrm>
            <a:off x="3451320" y="40672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3" name=""/>
          <p:cNvSpPr/>
          <p:nvPr/>
        </p:nvSpPr>
        <p:spPr>
          <a:xfrm>
            <a:off x="3608280" y="42292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4" name=""/>
          <p:cNvSpPr/>
          <p:nvPr/>
        </p:nvSpPr>
        <p:spPr>
          <a:xfrm>
            <a:off x="3994200" y="40593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5" name=""/>
          <p:cNvSpPr/>
          <p:nvPr/>
        </p:nvSpPr>
        <p:spPr>
          <a:xfrm>
            <a:off x="3711600" y="41450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6" name=""/>
          <p:cNvSpPr/>
          <p:nvPr/>
        </p:nvSpPr>
        <p:spPr>
          <a:xfrm>
            <a:off x="3627360" y="41036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7" name=""/>
          <p:cNvSpPr/>
          <p:nvPr/>
        </p:nvSpPr>
        <p:spPr>
          <a:xfrm>
            <a:off x="3855960" y="422100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8" name=""/>
          <p:cNvSpPr/>
          <p:nvPr/>
        </p:nvSpPr>
        <p:spPr>
          <a:xfrm>
            <a:off x="3830760" y="40924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9" name=""/>
          <p:cNvSpPr/>
          <p:nvPr/>
        </p:nvSpPr>
        <p:spPr>
          <a:xfrm>
            <a:off x="3814920" y="41878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0" name=""/>
          <p:cNvSpPr/>
          <p:nvPr/>
        </p:nvSpPr>
        <p:spPr>
          <a:xfrm>
            <a:off x="4049640" y="41608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1" name=""/>
          <p:cNvSpPr/>
          <p:nvPr/>
        </p:nvSpPr>
        <p:spPr>
          <a:xfrm>
            <a:off x="4052880" y="40752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2" name=""/>
          <p:cNvSpPr/>
          <p:nvPr/>
        </p:nvSpPr>
        <p:spPr>
          <a:xfrm>
            <a:off x="3951360" y="415908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3" name=""/>
          <p:cNvSpPr/>
          <p:nvPr/>
        </p:nvSpPr>
        <p:spPr>
          <a:xfrm>
            <a:off x="4194000" y="4237200"/>
            <a:ext cx="3528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4" name=""/>
          <p:cNvSpPr/>
          <p:nvPr/>
        </p:nvSpPr>
        <p:spPr>
          <a:xfrm>
            <a:off x="4197240" y="415116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5" name=""/>
          <p:cNvSpPr/>
          <p:nvPr/>
        </p:nvSpPr>
        <p:spPr>
          <a:xfrm>
            <a:off x="4113360" y="41101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6" name=""/>
          <p:cNvSpPr/>
          <p:nvPr/>
        </p:nvSpPr>
        <p:spPr>
          <a:xfrm>
            <a:off x="4095720" y="42354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7" name=""/>
          <p:cNvSpPr/>
          <p:nvPr/>
        </p:nvSpPr>
        <p:spPr>
          <a:xfrm>
            <a:off x="2279520" y="40482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8" name=""/>
          <p:cNvSpPr/>
          <p:nvPr/>
        </p:nvSpPr>
        <p:spPr>
          <a:xfrm>
            <a:off x="727200" y="43387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9" name=""/>
          <p:cNvSpPr/>
          <p:nvPr/>
        </p:nvSpPr>
        <p:spPr>
          <a:xfrm>
            <a:off x="762120" y="44784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0" name=""/>
          <p:cNvSpPr/>
          <p:nvPr/>
        </p:nvSpPr>
        <p:spPr>
          <a:xfrm>
            <a:off x="789120" y="42307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1" name=""/>
          <p:cNvSpPr/>
          <p:nvPr/>
        </p:nvSpPr>
        <p:spPr>
          <a:xfrm>
            <a:off x="792000" y="41450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2" name=""/>
          <p:cNvSpPr/>
          <p:nvPr/>
        </p:nvSpPr>
        <p:spPr>
          <a:xfrm>
            <a:off x="708120" y="41036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3" name=""/>
          <p:cNvSpPr/>
          <p:nvPr/>
        </p:nvSpPr>
        <p:spPr>
          <a:xfrm>
            <a:off x="566640" y="44179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4" name=""/>
          <p:cNvSpPr/>
          <p:nvPr/>
        </p:nvSpPr>
        <p:spPr>
          <a:xfrm>
            <a:off x="646200" y="49021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5" name=""/>
          <p:cNvSpPr/>
          <p:nvPr/>
        </p:nvSpPr>
        <p:spPr>
          <a:xfrm>
            <a:off x="620640" y="43498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6" name=""/>
          <p:cNvSpPr/>
          <p:nvPr/>
        </p:nvSpPr>
        <p:spPr>
          <a:xfrm>
            <a:off x="690480" y="42292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7" name=""/>
          <p:cNvSpPr/>
          <p:nvPr/>
        </p:nvSpPr>
        <p:spPr>
          <a:xfrm>
            <a:off x="785880" y="47815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8" name=""/>
          <p:cNvSpPr/>
          <p:nvPr/>
        </p:nvSpPr>
        <p:spPr>
          <a:xfrm>
            <a:off x="628560" y="4757760"/>
            <a:ext cx="34920" cy="302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9" name=""/>
          <p:cNvSpPr/>
          <p:nvPr/>
        </p:nvSpPr>
        <p:spPr>
          <a:xfrm>
            <a:off x="700200" y="4821120"/>
            <a:ext cx="3636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0" name=""/>
          <p:cNvSpPr/>
          <p:nvPr/>
        </p:nvSpPr>
        <p:spPr>
          <a:xfrm>
            <a:off x="681120" y="47037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1" name=""/>
          <p:cNvSpPr/>
          <p:nvPr/>
        </p:nvSpPr>
        <p:spPr>
          <a:xfrm>
            <a:off x="752400" y="47084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2" name=""/>
          <p:cNvSpPr/>
          <p:nvPr/>
        </p:nvSpPr>
        <p:spPr>
          <a:xfrm>
            <a:off x="776160" y="463536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3" name=""/>
          <p:cNvSpPr/>
          <p:nvPr/>
        </p:nvSpPr>
        <p:spPr>
          <a:xfrm>
            <a:off x="677880" y="46404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4" name=""/>
          <p:cNvSpPr/>
          <p:nvPr/>
        </p:nvSpPr>
        <p:spPr>
          <a:xfrm>
            <a:off x="579600" y="4603680"/>
            <a:ext cx="34920" cy="302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5" name=""/>
          <p:cNvSpPr/>
          <p:nvPr/>
        </p:nvSpPr>
        <p:spPr>
          <a:xfrm>
            <a:off x="584280" y="468936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6" name=""/>
          <p:cNvSpPr/>
          <p:nvPr/>
        </p:nvSpPr>
        <p:spPr>
          <a:xfrm>
            <a:off x="811080" y="45450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7" name=""/>
          <p:cNvSpPr/>
          <p:nvPr/>
        </p:nvSpPr>
        <p:spPr>
          <a:xfrm>
            <a:off x="660240" y="45086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8" name=""/>
          <p:cNvSpPr/>
          <p:nvPr/>
        </p:nvSpPr>
        <p:spPr>
          <a:xfrm>
            <a:off x="779400" y="43736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9" name=""/>
          <p:cNvSpPr/>
          <p:nvPr/>
        </p:nvSpPr>
        <p:spPr>
          <a:xfrm>
            <a:off x="871560" y="441468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0" name=""/>
          <p:cNvSpPr/>
          <p:nvPr/>
        </p:nvSpPr>
        <p:spPr>
          <a:xfrm>
            <a:off x="906480" y="455436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1" name=""/>
          <p:cNvSpPr/>
          <p:nvPr/>
        </p:nvSpPr>
        <p:spPr>
          <a:xfrm>
            <a:off x="933480" y="43070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2" name=""/>
          <p:cNvSpPr/>
          <p:nvPr/>
        </p:nvSpPr>
        <p:spPr>
          <a:xfrm>
            <a:off x="936720" y="422100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3" name=""/>
          <p:cNvSpPr/>
          <p:nvPr/>
        </p:nvSpPr>
        <p:spPr>
          <a:xfrm>
            <a:off x="835200" y="43052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4" name=""/>
          <p:cNvSpPr/>
          <p:nvPr/>
        </p:nvSpPr>
        <p:spPr>
          <a:xfrm>
            <a:off x="911160" y="40924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5" name=""/>
          <p:cNvSpPr/>
          <p:nvPr/>
        </p:nvSpPr>
        <p:spPr>
          <a:xfrm>
            <a:off x="930240" y="48578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6" name=""/>
          <p:cNvSpPr/>
          <p:nvPr/>
        </p:nvSpPr>
        <p:spPr>
          <a:xfrm>
            <a:off x="844560" y="4897440"/>
            <a:ext cx="3636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7" name=""/>
          <p:cNvSpPr/>
          <p:nvPr/>
        </p:nvSpPr>
        <p:spPr>
          <a:xfrm>
            <a:off x="1120680" y="49500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8" name=""/>
          <p:cNvSpPr/>
          <p:nvPr/>
        </p:nvSpPr>
        <p:spPr>
          <a:xfrm>
            <a:off x="896760" y="4784760"/>
            <a:ext cx="3528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9" name=""/>
          <p:cNvSpPr/>
          <p:nvPr/>
        </p:nvSpPr>
        <p:spPr>
          <a:xfrm>
            <a:off x="920880" y="47116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0" name=""/>
          <p:cNvSpPr/>
          <p:nvPr/>
        </p:nvSpPr>
        <p:spPr>
          <a:xfrm>
            <a:off x="909720" y="46609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1" name=""/>
          <p:cNvSpPr/>
          <p:nvPr/>
        </p:nvSpPr>
        <p:spPr>
          <a:xfrm>
            <a:off x="923760" y="444960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2" name=""/>
          <p:cNvSpPr/>
          <p:nvPr/>
        </p:nvSpPr>
        <p:spPr>
          <a:xfrm>
            <a:off x="2000160" y="414324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3" name=""/>
          <p:cNvSpPr/>
          <p:nvPr/>
        </p:nvSpPr>
        <p:spPr>
          <a:xfrm>
            <a:off x="1996920" y="42800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4" name=""/>
          <p:cNvSpPr/>
          <p:nvPr/>
        </p:nvSpPr>
        <p:spPr>
          <a:xfrm>
            <a:off x="2019240" y="408924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5" name=""/>
          <p:cNvSpPr/>
          <p:nvPr/>
        </p:nvSpPr>
        <p:spPr>
          <a:xfrm>
            <a:off x="2003400" y="48420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6" name=""/>
          <p:cNvSpPr/>
          <p:nvPr/>
        </p:nvSpPr>
        <p:spPr>
          <a:xfrm>
            <a:off x="2048040" y="42782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7" name=""/>
          <p:cNvSpPr/>
          <p:nvPr/>
        </p:nvSpPr>
        <p:spPr>
          <a:xfrm>
            <a:off x="2016000" y="46404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8" name=""/>
          <p:cNvSpPr/>
          <p:nvPr/>
        </p:nvSpPr>
        <p:spPr>
          <a:xfrm>
            <a:off x="1930320" y="4680000"/>
            <a:ext cx="367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9" name=""/>
          <p:cNvSpPr/>
          <p:nvPr/>
        </p:nvSpPr>
        <p:spPr>
          <a:xfrm>
            <a:off x="1911240" y="45626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0" name=""/>
          <p:cNvSpPr/>
          <p:nvPr/>
        </p:nvSpPr>
        <p:spPr>
          <a:xfrm>
            <a:off x="1982880" y="45673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1" name=""/>
          <p:cNvSpPr/>
          <p:nvPr/>
        </p:nvSpPr>
        <p:spPr>
          <a:xfrm>
            <a:off x="2006640" y="44942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2" name=""/>
          <p:cNvSpPr/>
          <p:nvPr/>
        </p:nvSpPr>
        <p:spPr>
          <a:xfrm>
            <a:off x="1940040" y="44514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3" name=""/>
          <p:cNvSpPr/>
          <p:nvPr/>
        </p:nvSpPr>
        <p:spPr>
          <a:xfrm>
            <a:off x="2041560" y="44038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4" name=""/>
          <p:cNvSpPr/>
          <p:nvPr/>
        </p:nvSpPr>
        <p:spPr>
          <a:xfrm>
            <a:off x="2170080" y="42372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5" name=""/>
          <p:cNvSpPr/>
          <p:nvPr/>
        </p:nvSpPr>
        <p:spPr>
          <a:xfrm>
            <a:off x="2103480" y="419724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6" name=""/>
          <p:cNvSpPr/>
          <p:nvPr/>
        </p:nvSpPr>
        <p:spPr>
          <a:xfrm>
            <a:off x="1914480" y="44798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7" name=""/>
          <p:cNvSpPr/>
          <p:nvPr/>
        </p:nvSpPr>
        <p:spPr>
          <a:xfrm>
            <a:off x="2163600" y="41655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8" name=""/>
          <p:cNvSpPr/>
          <p:nvPr/>
        </p:nvSpPr>
        <p:spPr>
          <a:xfrm>
            <a:off x="2166840" y="40798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9" name=""/>
          <p:cNvSpPr/>
          <p:nvPr/>
        </p:nvSpPr>
        <p:spPr>
          <a:xfrm>
            <a:off x="2076480" y="490680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0" name=""/>
          <p:cNvSpPr/>
          <p:nvPr/>
        </p:nvSpPr>
        <p:spPr>
          <a:xfrm>
            <a:off x="1442880" y="39956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1" name=""/>
          <p:cNvSpPr/>
          <p:nvPr/>
        </p:nvSpPr>
        <p:spPr>
          <a:xfrm>
            <a:off x="2160720" y="47163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2" name=""/>
          <p:cNvSpPr/>
          <p:nvPr/>
        </p:nvSpPr>
        <p:spPr>
          <a:xfrm>
            <a:off x="2075040" y="4756320"/>
            <a:ext cx="3636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3" name=""/>
          <p:cNvSpPr/>
          <p:nvPr/>
        </p:nvSpPr>
        <p:spPr>
          <a:xfrm>
            <a:off x="1622520" y="43862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4" name=""/>
          <p:cNvSpPr/>
          <p:nvPr/>
        </p:nvSpPr>
        <p:spPr>
          <a:xfrm>
            <a:off x="2127240" y="464328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5" name=""/>
          <p:cNvSpPr/>
          <p:nvPr/>
        </p:nvSpPr>
        <p:spPr>
          <a:xfrm>
            <a:off x="2151000" y="45705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6" name=""/>
          <p:cNvSpPr/>
          <p:nvPr/>
        </p:nvSpPr>
        <p:spPr>
          <a:xfrm>
            <a:off x="2052720" y="45752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7" name=""/>
          <p:cNvSpPr/>
          <p:nvPr/>
        </p:nvSpPr>
        <p:spPr>
          <a:xfrm>
            <a:off x="2154240" y="43084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8" name=""/>
          <p:cNvSpPr/>
          <p:nvPr/>
        </p:nvSpPr>
        <p:spPr>
          <a:xfrm>
            <a:off x="1068480" y="42688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9" name=""/>
          <p:cNvSpPr/>
          <p:nvPr/>
        </p:nvSpPr>
        <p:spPr>
          <a:xfrm>
            <a:off x="1103400" y="44085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0" name=""/>
          <p:cNvSpPr/>
          <p:nvPr/>
        </p:nvSpPr>
        <p:spPr>
          <a:xfrm>
            <a:off x="1130400" y="41608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1" name=""/>
          <p:cNvSpPr/>
          <p:nvPr/>
        </p:nvSpPr>
        <p:spPr>
          <a:xfrm>
            <a:off x="1133640" y="40752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2" name=""/>
          <p:cNvSpPr/>
          <p:nvPr/>
        </p:nvSpPr>
        <p:spPr>
          <a:xfrm>
            <a:off x="1109520" y="48340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3" name=""/>
          <p:cNvSpPr/>
          <p:nvPr/>
        </p:nvSpPr>
        <p:spPr>
          <a:xfrm>
            <a:off x="1031760" y="415908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4" name=""/>
          <p:cNvSpPr/>
          <p:nvPr/>
        </p:nvSpPr>
        <p:spPr>
          <a:xfrm>
            <a:off x="1127160" y="47116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5" name=""/>
          <p:cNvSpPr/>
          <p:nvPr/>
        </p:nvSpPr>
        <p:spPr>
          <a:xfrm>
            <a:off x="1041480" y="4751280"/>
            <a:ext cx="3636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6" name=""/>
          <p:cNvSpPr/>
          <p:nvPr/>
        </p:nvSpPr>
        <p:spPr>
          <a:xfrm>
            <a:off x="1022400" y="46339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7" name=""/>
          <p:cNvSpPr/>
          <p:nvPr/>
        </p:nvSpPr>
        <p:spPr>
          <a:xfrm>
            <a:off x="1093680" y="46386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8" name=""/>
          <p:cNvSpPr/>
          <p:nvPr/>
        </p:nvSpPr>
        <p:spPr>
          <a:xfrm>
            <a:off x="1117440" y="456552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9" name=""/>
          <p:cNvSpPr/>
          <p:nvPr/>
        </p:nvSpPr>
        <p:spPr>
          <a:xfrm>
            <a:off x="1019160" y="45705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0" name=""/>
          <p:cNvSpPr/>
          <p:nvPr/>
        </p:nvSpPr>
        <p:spPr>
          <a:xfrm>
            <a:off x="1152360" y="44751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1" name=""/>
          <p:cNvSpPr/>
          <p:nvPr/>
        </p:nvSpPr>
        <p:spPr>
          <a:xfrm>
            <a:off x="1001880" y="437184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2" name=""/>
          <p:cNvSpPr/>
          <p:nvPr/>
        </p:nvSpPr>
        <p:spPr>
          <a:xfrm>
            <a:off x="1120680" y="43038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3" name=""/>
          <p:cNvSpPr/>
          <p:nvPr/>
        </p:nvSpPr>
        <p:spPr>
          <a:xfrm>
            <a:off x="1212840" y="434484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4" name=""/>
          <p:cNvSpPr/>
          <p:nvPr/>
        </p:nvSpPr>
        <p:spPr>
          <a:xfrm>
            <a:off x="1247760" y="448452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5" name=""/>
          <p:cNvSpPr/>
          <p:nvPr/>
        </p:nvSpPr>
        <p:spPr>
          <a:xfrm>
            <a:off x="1274760" y="42372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6" name=""/>
          <p:cNvSpPr/>
          <p:nvPr/>
        </p:nvSpPr>
        <p:spPr>
          <a:xfrm>
            <a:off x="1278000" y="415116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7" name=""/>
          <p:cNvSpPr/>
          <p:nvPr/>
        </p:nvSpPr>
        <p:spPr>
          <a:xfrm>
            <a:off x="1176480" y="42354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8" name=""/>
          <p:cNvSpPr/>
          <p:nvPr/>
        </p:nvSpPr>
        <p:spPr>
          <a:xfrm>
            <a:off x="1271520" y="47880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9" name=""/>
          <p:cNvSpPr/>
          <p:nvPr/>
        </p:nvSpPr>
        <p:spPr>
          <a:xfrm>
            <a:off x="1185840" y="4827600"/>
            <a:ext cx="3636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0" name=""/>
          <p:cNvSpPr/>
          <p:nvPr/>
        </p:nvSpPr>
        <p:spPr>
          <a:xfrm>
            <a:off x="1174680" y="475920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1" name=""/>
          <p:cNvSpPr/>
          <p:nvPr/>
        </p:nvSpPr>
        <p:spPr>
          <a:xfrm>
            <a:off x="1238400" y="47149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2" name=""/>
          <p:cNvSpPr/>
          <p:nvPr/>
        </p:nvSpPr>
        <p:spPr>
          <a:xfrm>
            <a:off x="1262160" y="46418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3" name=""/>
          <p:cNvSpPr/>
          <p:nvPr/>
        </p:nvSpPr>
        <p:spPr>
          <a:xfrm>
            <a:off x="1163520" y="46465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4" name=""/>
          <p:cNvSpPr/>
          <p:nvPr/>
        </p:nvSpPr>
        <p:spPr>
          <a:xfrm>
            <a:off x="1287360" y="43228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5" name=""/>
          <p:cNvSpPr/>
          <p:nvPr/>
        </p:nvSpPr>
        <p:spPr>
          <a:xfrm>
            <a:off x="1273320" y="451944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6" name=""/>
          <p:cNvSpPr/>
          <p:nvPr/>
        </p:nvSpPr>
        <p:spPr>
          <a:xfrm>
            <a:off x="1360440" y="45720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7" name=""/>
          <p:cNvSpPr/>
          <p:nvPr/>
        </p:nvSpPr>
        <p:spPr>
          <a:xfrm>
            <a:off x="1387440" y="43243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8" name=""/>
          <p:cNvSpPr/>
          <p:nvPr/>
        </p:nvSpPr>
        <p:spPr>
          <a:xfrm>
            <a:off x="1224000" y="40910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9" name=""/>
          <p:cNvSpPr/>
          <p:nvPr/>
        </p:nvSpPr>
        <p:spPr>
          <a:xfrm>
            <a:off x="1306440" y="419724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0" name=""/>
          <p:cNvSpPr/>
          <p:nvPr/>
        </p:nvSpPr>
        <p:spPr>
          <a:xfrm>
            <a:off x="1284120" y="40798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1" name=""/>
          <p:cNvSpPr/>
          <p:nvPr/>
        </p:nvSpPr>
        <p:spPr>
          <a:xfrm>
            <a:off x="1270080" y="49086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2" name=""/>
          <p:cNvSpPr/>
          <p:nvPr/>
        </p:nvSpPr>
        <p:spPr>
          <a:xfrm>
            <a:off x="1351080" y="480204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3" name=""/>
          <p:cNvSpPr/>
          <p:nvPr/>
        </p:nvSpPr>
        <p:spPr>
          <a:xfrm>
            <a:off x="1374840" y="47293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4" name=""/>
          <p:cNvSpPr/>
          <p:nvPr/>
        </p:nvSpPr>
        <p:spPr>
          <a:xfrm>
            <a:off x="1409760" y="46386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5" name=""/>
          <p:cNvSpPr/>
          <p:nvPr/>
        </p:nvSpPr>
        <p:spPr>
          <a:xfrm>
            <a:off x="1496880" y="44528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6" name=""/>
          <p:cNvSpPr/>
          <p:nvPr/>
        </p:nvSpPr>
        <p:spPr>
          <a:xfrm>
            <a:off x="1469880" y="45086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7" name=""/>
          <p:cNvSpPr/>
          <p:nvPr/>
        </p:nvSpPr>
        <p:spPr>
          <a:xfrm>
            <a:off x="1504800" y="46483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8" name=""/>
          <p:cNvSpPr/>
          <p:nvPr/>
        </p:nvSpPr>
        <p:spPr>
          <a:xfrm>
            <a:off x="1552680" y="44355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9" name=""/>
          <p:cNvSpPr/>
          <p:nvPr/>
        </p:nvSpPr>
        <p:spPr>
          <a:xfrm>
            <a:off x="1535040" y="43149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0" name=""/>
          <p:cNvSpPr/>
          <p:nvPr/>
        </p:nvSpPr>
        <p:spPr>
          <a:xfrm>
            <a:off x="1433520" y="439884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1" name=""/>
          <p:cNvSpPr/>
          <p:nvPr/>
        </p:nvSpPr>
        <p:spPr>
          <a:xfrm>
            <a:off x="1509840" y="418608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2" name=""/>
          <p:cNvSpPr/>
          <p:nvPr/>
        </p:nvSpPr>
        <p:spPr>
          <a:xfrm>
            <a:off x="1565280" y="40910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3" name=""/>
          <p:cNvSpPr/>
          <p:nvPr/>
        </p:nvSpPr>
        <p:spPr>
          <a:xfrm>
            <a:off x="1424160" y="48736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4" name=""/>
          <p:cNvSpPr/>
          <p:nvPr/>
        </p:nvSpPr>
        <p:spPr>
          <a:xfrm>
            <a:off x="1495440" y="48783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5" name=""/>
          <p:cNvSpPr/>
          <p:nvPr/>
        </p:nvSpPr>
        <p:spPr>
          <a:xfrm>
            <a:off x="1519200" y="48052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6" name=""/>
          <p:cNvSpPr/>
          <p:nvPr/>
        </p:nvSpPr>
        <p:spPr>
          <a:xfrm>
            <a:off x="1420920" y="480996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7" name=""/>
          <p:cNvSpPr/>
          <p:nvPr/>
        </p:nvSpPr>
        <p:spPr>
          <a:xfrm>
            <a:off x="1522440" y="45435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8" name=""/>
          <p:cNvSpPr/>
          <p:nvPr/>
        </p:nvSpPr>
        <p:spPr>
          <a:xfrm>
            <a:off x="1494000" y="42814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9" name=""/>
          <p:cNvSpPr/>
          <p:nvPr/>
        </p:nvSpPr>
        <p:spPr>
          <a:xfrm>
            <a:off x="1701720" y="45021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0" name=""/>
          <p:cNvSpPr/>
          <p:nvPr/>
        </p:nvSpPr>
        <p:spPr>
          <a:xfrm>
            <a:off x="1728720" y="42544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1" name=""/>
          <p:cNvSpPr/>
          <p:nvPr/>
        </p:nvSpPr>
        <p:spPr>
          <a:xfrm>
            <a:off x="1731960" y="41688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2" name=""/>
          <p:cNvSpPr/>
          <p:nvPr/>
        </p:nvSpPr>
        <p:spPr>
          <a:xfrm>
            <a:off x="1647720" y="41274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3" name=""/>
          <p:cNvSpPr/>
          <p:nvPr/>
        </p:nvSpPr>
        <p:spPr>
          <a:xfrm>
            <a:off x="1585800" y="492588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4" name=""/>
          <p:cNvSpPr/>
          <p:nvPr/>
        </p:nvSpPr>
        <p:spPr>
          <a:xfrm>
            <a:off x="1600200" y="43196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5" name=""/>
          <p:cNvSpPr/>
          <p:nvPr/>
        </p:nvSpPr>
        <p:spPr>
          <a:xfrm>
            <a:off x="1725480" y="48052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6" name=""/>
          <p:cNvSpPr/>
          <p:nvPr/>
        </p:nvSpPr>
        <p:spPr>
          <a:xfrm>
            <a:off x="1639800" y="4844880"/>
            <a:ext cx="367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7" name=""/>
          <p:cNvSpPr/>
          <p:nvPr/>
        </p:nvSpPr>
        <p:spPr>
          <a:xfrm>
            <a:off x="1620720" y="47275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8" name=""/>
          <p:cNvSpPr/>
          <p:nvPr/>
        </p:nvSpPr>
        <p:spPr>
          <a:xfrm>
            <a:off x="1692360" y="473220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9" name=""/>
          <p:cNvSpPr/>
          <p:nvPr/>
        </p:nvSpPr>
        <p:spPr>
          <a:xfrm>
            <a:off x="1716120" y="46594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0" name=""/>
          <p:cNvSpPr/>
          <p:nvPr/>
        </p:nvSpPr>
        <p:spPr>
          <a:xfrm>
            <a:off x="1617840" y="46641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1" name=""/>
          <p:cNvSpPr/>
          <p:nvPr/>
        </p:nvSpPr>
        <p:spPr>
          <a:xfrm>
            <a:off x="1751040" y="45687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2" name=""/>
          <p:cNvSpPr/>
          <p:nvPr/>
        </p:nvSpPr>
        <p:spPr>
          <a:xfrm>
            <a:off x="1600200" y="44658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3" name=""/>
          <p:cNvSpPr/>
          <p:nvPr/>
        </p:nvSpPr>
        <p:spPr>
          <a:xfrm>
            <a:off x="1719360" y="43974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4" name=""/>
          <p:cNvSpPr/>
          <p:nvPr/>
        </p:nvSpPr>
        <p:spPr>
          <a:xfrm>
            <a:off x="1811160" y="4438800"/>
            <a:ext cx="3528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5" name=""/>
          <p:cNvSpPr/>
          <p:nvPr/>
        </p:nvSpPr>
        <p:spPr>
          <a:xfrm>
            <a:off x="1846440" y="45784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6" name=""/>
          <p:cNvSpPr/>
          <p:nvPr/>
        </p:nvSpPr>
        <p:spPr>
          <a:xfrm>
            <a:off x="1873080" y="43308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7" name=""/>
          <p:cNvSpPr/>
          <p:nvPr/>
        </p:nvSpPr>
        <p:spPr>
          <a:xfrm>
            <a:off x="1876320" y="42451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8" name=""/>
          <p:cNvSpPr/>
          <p:nvPr/>
        </p:nvSpPr>
        <p:spPr>
          <a:xfrm>
            <a:off x="1792440" y="42037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9" name=""/>
          <p:cNvSpPr/>
          <p:nvPr/>
        </p:nvSpPr>
        <p:spPr>
          <a:xfrm>
            <a:off x="1774800" y="432900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0" name=""/>
          <p:cNvSpPr/>
          <p:nvPr/>
        </p:nvSpPr>
        <p:spPr>
          <a:xfrm>
            <a:off x="1851120" y="411624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1" name=""/>
          <p:cNvSpPr/>
          <p:nvPr/>
        </p:nvSpPr>
        <p:spPr>
          <a:xfrm>
            <a:off x="1870200" y="48816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2" name=""/>
          <p:cNvSpPr/>
          <p:nvPr/>
        </p:nvSpPr>
        <p:spPr>
          <a:xfrm>
            <a:off x="1784520" y="4921200"/>
            <a:ext cx="3636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3" name=""/>
          <p:cNvSpPr/>
          <p:nvPr/>
        </p:nvSpPr>
        <p:spPr>
          <a:xfrm>
            <a:off x="1773360" y="48531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4" name=""/>
          <p:cNvSpPr/>
          <p:nvPr/>
        </p:nvSpPr>
        <p:spPr>
          <a:xfrm>
            <a:off x="1836720" y="48085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5" name=""/>
          <p:cNvSpPr/>
          <p:nvPr/>
        </p:nvSpPr>
        <p:spPr>
          <a:xfrm>
            <a:off x="1860480" y="47354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6" name=""/>
          <p:cNvSpPr/>
          <p:nvPr/>
        </p:nvSpPr>
        <p:spPr>
          <a:xfrm>
            <a:off x="1762200" y="474012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7" name=""/>
          <p:cNvSpPr/>
          <p:nvPr/>
        </p:nvSpPr>
        <p:spPr>
          <a:xfrm>
            <a:off x="1917720" y="43736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8" name=""/>
          <p:cNvSpPr/>
          <p:nvPr/>
        </p:nvSpPr>
        <p:spPr>
          <a:xfrm>
            <a:off x="1968480" y="49658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9" name=""/>
          <p:cNvSpPr/>
          <p:nvPr/>
        </p:nvSpPr>
        <p:spPr>
          <a:xfrm>
            <a:off x="1655640" y="496872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0" name=""/>
          <p:cNvSpPr/>
          <p:nvPr/>
        </p:nvSpPr>
        <p:spPr>
          <a:xfrm>
            <a:off x="1400040" y="49784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1" name=""/>
          <p:cNvSpPr/>
          <p:nvPr/>
        </p:nvSpPr>
        <p:spPr>
          <a:xfrm>
            <a:off x="1222200" y="4960800"/>
            <a:ext cx="367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2" name=""/>
          <p:cNvSpPr/>
          <p:nvPr/>
        </p:nvSpPr>
        <p:spPr>
          <a:xfrm>
            <a:off x="993600" y="4943520"/>
            <a:ext cx="3528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3" name=""/>
          <p:cNvSpPr/>
          <p:nvPr/>
        </p:nvSpPr>
        <p:spPr>
          <a:xfrm>
            <a:off x="1027080" y="4851360"/>
            <a:ext cx="367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4" name=""/>
          <p:cNvSpPr/>
          <p:nvPr/>
        </p:nvSpPr>
        <p:spPr>
          <a:xfrm>
            <a:off x="728640" y="4952880"/>
            <a:ext cx="3636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5" name=""/>
          <p:cNvSpPr/>
          <p:nvPr/>
        </p:nvSpPr>
        <p:spPr>
          <a:xfrm>
            <a:off x="2268360" y="4572000"/>
            <a:ext cx="3528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6" name=""/>
          <p:cNvSpPr/>
          <p:nvPr/>
        </p:nvSpPr>
        <p:spPr>
          <a:xfrm>
            <a:off x="2222640" y="44658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7" name=""/>
          <p:cNvSpPr/>
          <p:nvPr/>
        </p:nvSpPr>
        <p:spPr>
          <a:xfrm>
            <a:off x="2241720" y="4941720"/>
            <a:ext cx="3636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8" name=""/>
          <p:cNvSpPr/>
          <p:nvPr/>
        </p:nvSpPr>
        <p:spPr>
          <a:xfrm>
            <a:off x="2157480" y="48196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9" name=""/>
          <p:cNvSpPr/>
          <p:nvPr/>
        </p:nvSpPr>
        <p:spPr>
          <a:xfrm>
            <a:off x="2259000" y="46767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0" name=""/>
          <p:cNvSpPr/>
          <p:nvPr/>
        </p:nvSpPr>
        <p:spPr>
          <a:xfrm>
            <a:off x="612720" y="50418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1" name=""/>
          <p:cNvSpPr/>
          <p:nvPr/>
        </p:nvSpPr>
        <p:spPr>
          <a:xfrm>
            <a:off x="603360" y="51847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2" name=""/>
          <p:cNvSpPr/>
          <p:nvPr/>
        </p:nvSpPr>
        <p:spPr>
          <a:xfrm>
            <a:off x="1671480" y="50720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3" name=""/>
          <p:cNvSpPr/>
          <p:nvPr/>
        </p:nvSpPr>
        <p:spPr>
          <a:xfrm>
            <a:off x="1682640" y="557676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4" name=""/>
          <p:cNvSpPr/>
          <p:nvPr/>
        </p:nvSpPr>
        <p:spPr>
          <a:xfrm>
            <a:off x="1695600" y="537516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5" name=""/>
          <p:cNvSpPr/>
          <p:nvPr/>
        </p:nvSpPr>
        <p:spPr>
          <a:xfrm>
            <a:off x="1609560" y="5415120"/>
            <a:ext cx="367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6" name=""/>
          <p:cNvSpPr/>
          <p:nvPr/>
        </p:nvSpPr>
        <p:spPr>
          <a:xfrm>
            <a:off x="1590840" y="52974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7" name=""/>
          <p:cNvSpPr/>
          <p:nvPr/>
        </p:nvSpPr>
        <p:spPr>
          <a:xfrm>
            <a:off x="1662120" y="530208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8" name=""/>
          <p:cNvSpPr/>
          <p:nvPr/>
        </p:nvSpPr>
        <p:spPr>
          <a:xfrm>
            <a:off x="1685880" y="52293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9" name=""/>
          <p:cNvSpPr/>
          <p:nvPr/>
        </p:nvSpPr>
        <p:spPr>
          <a:xfrm>
            <a:off x="1619280" y="51865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0" name=""/>
          <p:cNvSpPr/>
          <p:nvPr/>
        </p:nvSpPr>
        <p:spPr>
          <a:xfrm>
            <a:off x="1720800" y="51386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1" name=""/>
          <p:cNvSpPr/>
          <p:nvPr/>
        </p:nvSpPr>
        <p:spPr>
          <a:xfrm>
            <a:off x="1301760" y="51213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2" name=""/>
          <p:cNvSpPr/>
          <p:nvPr/>
        </p:nvSpPr>
        <p:spPr>
          <a:xfrm>
            <a:off x="1731960" y="53103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3" name=""/>
          <p:cNvSpPr/>
          <p:nvPr/>
        </p:nvSpPr>
        <p:spPr>
          <a:xfrm>
            <a:off x="782640" y="51436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4" name=""/>
          <p:cNvSpPr/>
          <p:nvPr/>
        </p:nvSpPr>
        <p:spPr>
          <a:xfrm>
            <a:off x="789120" y="556884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5" name=""/>
          <p:cNvSpPr/>
          <p:nvPr/>
        </p:nvSpPr>
        <p:spPr>
          <a:xfrm>
            <a:off x="806400" y="54468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6" name=""/>
          <p:cNvSpPr/>
          <p:nvPr/>
        </p:nvSpPr>
        <p:spPr>
          <a:xfrm>
            <a:off x="720720" y="5486400"/>
            <a:ext cx="3636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7" name=""/>
          <p:cNvSpPr/>
          <p:nvPr/>
        </p:nvSpPr>
        <p:spPr>
          <a:xfrm>
            <a:off x="701640" y="53690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8" name=""/>
          <p:cNvSpPr/>
          <p:nvPr/>
        </p:nvSpPr>
        <p:spPr>
          <a:xfrm>
            <a:off x="773280" y="53737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9" name=""/>
          <p:cNvSpPr/>
          <p:nvPr/>
        </p:nvSpPr>
        <p:spPr>
          <a:xfrm>
            <a:off x="797040" y="53006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0" name=""/>
          <p:cNvSpPr/>
          <p:nvPr/>
        </p:nvSpPr>
        <p:spPr>
          <a:xfrm>
            <a:off x="698400" y="53053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1" name=""/>
          <p:cNvSpPr/>
          <p:nvPr/>
        </p:nvSpPr>
        <p:spPr>
          <a:xfrm>
            <a:off x="831960" y="52102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2" name=""/>
          <p:cNvSpPr/>
          <p:nvPr/>
        </p:nvSpPr>
        <p:spPr>
          <a:xfrm>
            <a:off x="681120" y="51069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3" name=""/>
          <p:cNvSpPr/>
          <p:nvPr/>
        </p:nvSpPr>
        <p:spPr>
          <a:xfrm>
            <a:off x="800280" y="503856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4" name=""/>
          <p:cNvSpPr/>
          <p:nvPr/>
        </p:nvSpPr>
        <p:spPr>
          <a:xfrm>
            <a:off x="892080" y="50799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5" name=""/>
          <p:cNvSpPr/>
          <p:nvPr/>
        </p:nvSpPr>
        <p:spPr>
          <a:xfrm>
            <a:off x="927000" y="52196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6" name=""/>
          <p:cNvSpPr/>
          <p:nvPr/>
        </p:nvSpPr>
        <p:spPr>
          <a:xfrm>
            <a:off x="950760" y="552276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7" name=""/>
          <p:cNvSpPr/>
          <p:nvPr/>
        </p:nvSpPr>
        <p:spPr>
          <a:xfrm>
            <a:off x="865080" y="5562720"/>
            <a:ext cx="367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8" name=""/>
          <p:cNvSpPr/>
          <p:nvPr/>
        </p:nvSpPr>
        <p:spPr>
          <a:xfrm>
            <a:off x="853920" y="54943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9" name=""/>
          <p:cNvSpPr/>
          <p:nvPr/>
        </p:nvSpPr>
        <p:spPr>
          <a:xfrm>
            <a:off x="917640" y="54500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0" name=""/>
          <p:cNvSpPr/>
          <p:nvPr/>
        </p:nvSpPr>
        <p:spPr>
          <a:xfrm>
            <a:off x="941400" y="53769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1" name=""/>
          <p:cNvSpPr/>
          <p:nvPr/>
        </p:nvSpPr>
        <p:spPr>
          <a:xfrm>
            <a:off x="843120" y="53816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2" name=""/>
          <p:cNvSpPr/>
          <p:nvPr/>
        </p:nvSpPr>
        <p:spPr>
          <a:xfrm>
            <a:off x="966960" y="505764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3" name=""/>
          <p:cNvSpPr/>
          <p:nvPr/>
        </p:nvSpPr>
        <p:spPr>
          <a:xfrm>
            <a:off x="1004760" y="51674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4" name=""/>
          <p:cNvSpPr/>
          <p:nvPr/>
        </p:nvSpPr>
        <p:spPr>
          <a:xfrm>
            <a:off x="1039680" y="53071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5" name=""/>
          <p:cNvSpPr/>
          <p:nvPr/>
        </p:nvSpPr>
        <p:spPr>
          <a:xfrm>
            <a:off x="1066680" y="50594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6" name=""/>
          <p:cNvSpPr/>
          <p:nvPr/>
        </p:nvSpPr>
        <p:spPr>
          <a:xfrm>
            <a:off x="1030320" y="55371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7" name=""/>
          <p:cNvSpPr/>
          <p:nvPr/>
        </p:nvSpPr>
        <p:spPr>
          <a:xfrm>
            <a:off x="1054080" y="54640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8" name=""/>
          <p:cNvSpPr/>
          <p:nvPr/>
        </p:nvSpPr>
        <p:spPr>
          <a:xfrm>
            <a:off x="1089000" y="53737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9" name=""/>
          <p:cNvSpPr/>
          <p:nvPr/>
        </p:nvSpPr>
        <p:spPr>
          <a:xfrm>
            <a:off x="1176480" y="51879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0" name=""/>
          <p:cNvSpPr/>
          <p:nvPr/>
        </p:nvSpPr>
        <p:spPr>
          <a:xfrm>
            <a:off x="1149480" y="524340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1" name=""/>
          <p:cNvSpPr/>
          <p:nvPr/>
        </p:nvSpPr>
        <p:spPr>
          <a:xfrm>
            <a:off x="1184400" y="538308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2" name=""/>
          <p:cNvSpPr/>
          <p:nvPr/>
        </p:nvSpPr>
        <p:spPr>
          <a:xfrm>
            <a:off x="1211400" y="513540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3" name=""/>
          <p:cNvSpPr/>
          <p:nvPr/>
        </p:nvSpPr>
        <p:spPr>
          <a:xfrm>
            <a:off x="1214280" y="504972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4" name=""/>
          <p:cNvSpPr/>
          <p:nvPr/>
        </p:nvSpPr>
        <p:spPr>
          <a:xfrm>
            <a:off x="1112760" y="51339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5" name=""/>
          <p:cNvSpPr/>
          <p:nvPr/>
        </p:nvSpPr>
        <p:spPr>
          <a:xfrm>
            <a:off x="1198440" y="55404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6" name=""/>
          <p:cNvSpPr/>
          <p:nvPr/>
        </p:nvSpPr>
        <p:spPr>
          <a:xfrm>
            <a:off x="1100160" y="55450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7" name=""/>
          <p:cNvSpPr/>
          <p:nvPr/>
        </p:nvSpPr>
        <p:spPr>
          <a:xfrm>
            <a:off x="1201680" y="527832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8" name=""/>
          <p:cNvSpPr/>
          <p:nvPr/>
        </p:nvSpPr>
        <p:spPr>
          <a:xfrm>
            <a:off x="1173240" y="50166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9" name=""/>
          <p:cNvSpPr/>
          <p:nvPr/>
        </p:nvSpPr>
        <p:spPr>
          <a:xfrm>
            <a:off x="1380960" y="52372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0" name=""/>
          <p:cNvSpPr/>
          <p:nvPr/>
        </p:nvSpPr>
        <p:spPr>
          <a:xfrm>
            <a:off x="1405080" y="55404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1" name=""/>
          <p:cNvSpPr/>
          <p:nvPr/>
        </p:nvSpPr>
        <p:spPr>
          <a:xfrm>
            <a:off x="1319040" y="5580000"/>
            <a:ext cx="367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2" name=""/>
          <p:cNvSpPr/>
          <p:nvPr/>
        </p:nvSpPr>
        <p:spPr>
          <a:xfrm>
            <a:off x="1300320" y="54626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3" name=""/>
          <p:cNvSpPr/>
          <p:nvPr/>
        </p:nvSpPr>
        <p:spPr>
          <a:xfrm>
            <a:off x="1371600" y="54673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4" name=""/>
          <p:cNvSpPr/>
          <p:nvPr/>
        </p:nvSpPr>
        <p:spPr>
          <a:xfrm>
            <a:off x="1395360" y="53942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5" name=""/>
          <p:cNvSpPr/>
          <p:nvPr/>
        </p:nvSpPr>
        <p:spPr>
          <a:xfrm>
            <a:off x="1297080" y="539892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6" name=""/>
          <p:cNvSpPr/>
          <p:nvPr/>
        </p:nvSpPr>
        <p:spPr>
          <a:xfrm>
            <a:off x="1430280" y="53038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7" name=""/>
          <p:cNvSpPr/>
          <p:nvPr/>
        </p:nvSpPr>
        <p:spPr>
          <a:xfrm>
            <a:off x="1290600" y="52959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8" name=""/>
          <p:cNvSpPr/>
          <p:nvPr/>
        </p:nvSpPr>
        <p:spPr>
          <a:xfrm>
            <a:off x="1398600" y="51325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9" name=""/>
          <p:cNvSpPr/>
          <p:nvPr/>
        </p:nvSpPr>
        <p:spPr>
          <a:xfrm>
            <a:off x="1490760" y="51735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0" name=""/>
          <p:cNvSpPr/>
          <p:nvPr/>
        </p:nvSpPr>
        <p:spPr>
          <a:xfrm>
            <a:off x="1525680" y="531324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1" name=""/>
          <p:cNvSpPr/>
          <p:nvPr/>
        </p:nvSpPr>
        <p:spPr>
          <a:xfrm>
            <a:off x="1552680" y="506556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2" name=""/>
          <p:cNvSpPr/>
          <p:nvPr/>
        </p:nvSpPr>
        <p:spPr>
          <a:xfrm>
            <a:off x="1454040" y="50641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3" name=""/>
          <p:cNvSpPr/>
          <p:nvPr/>
        </p:nvSpPr>
        <p:spPr>
          <a:xfrm>
            <a:off x="1515960" y="55436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4" name=""/>
          <p:cNvSpPr/>
          <p:nvPr/>
        </p:nvSpPr>
        <p:spPr>
          <a:xfrm>
            <a:off x="1539720" y="54705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5" name=""/>
          <p:cNvSpPr/>
          <p:nvPr/>
        </p:nvSpPr>
        <p:spPr>
          <a:xfrm>
            <a:off x="1441440" y="54752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6" name=""/>
          <p:cNvSpPr/>
          <p:nvPr/>
        </p:nvSpPr>
        <p:spPr>
          <a:xfrm>
            <a:off x="1596960" y="510840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7" name=""/>
          <p:cNvSpPr/>
          <p:nvPr/>
        </p:nvSpPr>
        <p:spPr>
          <a:xfrm>
            <a:off x="1797120" y="51260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8" name=""/>
          <p:cNvSpPr/>
          <p:nvPr/>
        </p:nvSpPr>
        <p:spPr>
          <a:xfrm>
            <a:off x="1832040" y="52657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9" name=""/>
          <p:cNvSpPr/>
          <p:nvPr/>
        </p:nvSpPr>
        <p:spPr>
          <a:xfrm>
            <a:off x="1855800" y="556884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0" name=""/>
          <p:cNvSpPr/>
          <p:nvPr/>
        </p:nvSpPr>
        <p:spPr>
          <a:xfrm>
            <a:off x="1751040" y="54910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1" name=""/>
          <p:cNvSpPr/>
          <p:nvPr/>
        </p:nvSpPr>
        <p:spPr>
          <a:xfrm>
            <a:off x="1822320" y="549576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2" name=""/>
          <p:cNvSpPr/>
          <p:nvPr/>
        </p:nvSpPr>
        <p:spPr>
          <a:xfrm>
            <a:off x="1846440" y="54230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3" name=""/>
          <p:cNvSpPr/>
          <p:nvPr/>
        </p:nvSpPr>
        <p:spPr>
          <a:xfrm>
            <a:off x="1747800" y="54277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4" name=""/>
          <p:cNvSpPr/>
          <p:nvPr/>
        </p:nvSpPr>
        <p:spPr>
          <a:xfrm>
            <a:off x="1881360" y="53323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5" name=""/>
          <p:cNvSpPr/>
          <p:nvPr/>
        </p:nvSpPr>
        <p:spPr>
          <a:xfrm>
            <a:off x="1789200" y="52135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6" name=""/>
          <p:cNvSpPr/>
          <p:nvPr/>
        </p:nvSpPr>
        <p:spPr>
          <a:xfrm>
            <a:off x="1849320" y="51609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7" name=""/>
          <p:cNvSpPr/>
          <p:nvPr/>
        </p:nvSpPr>
        <p:spPr>
          <a:xfrm>
            <a:off x="1941480" y="52023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8" name=""/>
          <p:cNvSpPr/>
          <p:nvPr/>
        </p:nvSpPr>
        <p:spPr>
          <a:xfrm>
            <a:off x="1976400" y="53420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9" name=""/>
          <p:cNvSpPr/>
          <p:nvPr/>
        </p:nvSpPr>
        <p:spPr>
          <a:xfrm>
            <a:off x="2003400" y="50943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0" name=""/>
          <p:cNvSpPr/>
          <p:nvPr/>
        </p:nvSpPr>
        <p:spPr>
          <a:xfrm>
            <a:off x="1905120" y="509256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1" name=""/>
          <p:cNvSpPr/>
          <p:nvPr/>
        </p:nvSpPr>
        <p:spPr>
          <a:xfrm>
            <a:off x="1967040" y="55720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2" name=""/>
          <p:cNvSpPr/>
          <p:nvPr/>
        </p:nvSpPr>
        <p:spPr>
          <a:xfrm>
            <a:off x="1990800" y="54990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3" name=""/>
          <p:cNvSpPr/>
          <p:nvPr/>
        </p:nvSpPr>
        <p:spPr>
          <a:xfrm>
            <a:off x="1892160" y="55040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4" name=""/>
          <p:cNvSpPr/>
          <p:nvPr/>
        </p:nvSpPr>
        <p:spPr>
          <a:xfrm>
            <a:off x="2016000" y="51800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5" name=""/>
          <p:cNvSpPr/>
          <p:nvPr/>
        </p:nvSpPr>
        <p:spPr>
          <a:xfrm>
            <a:off x="2054160" y="52894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6" name=""/>
          <p:cNvSpPr/>
          <p:nvPr/>
        </p:nvSpPr>
        <p:spPr>
          <a:xfrm>
            <a:off x="2089080" y="54291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7" name=""/>
          <p:cNvSpPr/>
          <p:nvPr/>
        </p:nvSpPr>
        <p:spPr>
          <a:xfrm>
            <a:off x="2116080" y="518148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8" name=""/>
          <p:cNvSpPr/>
          <p:nvPr/>
        </p:nvSpPr>
        <p:spPr>
          <a:xfrm>
            <a:off x="2119320" y="50958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9" name=""/>
          <p:cNvSpPr/>
          <p:nvPr/>
        </p:nvSpPr>
        <p:spPr>
          <a:xfrm>
            <a:off x="2035080" y="50547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0" name=""/>
          <p:cNvSpPr/>
          <p:nvPr/>
        </p:nvSpPr>
        <p:spPr>
          <a:xfrm>
            <a:off x="2138400" y="549576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1" name=""/>
          <p:cNvSpPr/>
          <p:nvPr/>
        </p:nvSpPr>
        <p:spPr>
          <a:xfrm>
            <a:off x="2225520" y="53103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2" name=""/>
          <p:cNvSpPr/>
          <p:nvPr/>
        </p:nvSpPr>
        <p:spPr>
          <a:xfrm>
            <a:off x="2198520" y="53658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3" name=""/>
          <p:cNvSpPr/>
          <p:nvPr/>
        </p:nvSpPr>
        <p:spPr>
          <a:xfrm>
            <a:off x="2233440" y="55054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4" name=""/>
          <p:cNvSpPr/>
          <p:nvPr/>
        </p:nvSpPr>
        <p:spPr>
          <a:xfrm>
            <a:off x="2355840" y="52704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5" name=""/>
          <p:cNvSpPr/>
          <p:nvPr/>
        </p:nvSpPr>
        <p:spPr>
          <a:xfrm>
            <a:off x="2320920" y="50292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6" name=""/>
          <p:cNvSpPr/>
          <p:nvPr/>
        </p:nvSpPr>
        <p:spPr>
          <a:xfrm>
            <a:off x="2162160" y="52563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7" name=""/>
          <p:cNvSpPr/>
          <p:nvPr/>
        </p:nvSpPr>
        <p:spPr>
          <a:xfrm>
            <a:off x="2251080" y="54007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8" name=""/>
          <p:cNvSpPr/>
          <p:nvPr/>
        </p:nvSpPr>
        <p:spPr>
          <a:xfrm>
            <a:off x="2222640" y="51386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9" name=""/>
          <p:cNvSpPr/>
          <p:nvPr/>
        </p:nvSpPr>
        <p:spPr>
          <a:xfrm>
            <a:off x="1762200" y="50198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0" name=""/>
          <p:cNvSpPr/>
          <p:nvPr/>
        </p:nvSpPr>
        <p:spPr>
          <a:xfrm>
            <a:off x="1854360" y="50608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1" name=""/>
          <p:cNvSpPr/>
          <p:nvPr/>
        </p:nvSpPr>
        <p:spPr>
          <a:xfrm>
            <a:off x="1928880" y="503856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2" name=""/>
          <p:cNvSpPr/>
          <p:nvPr/>
        </p:nvSpPr>
        <p:spPr>
          <a:xfrm>
            <a:off x="2176560" y="503064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3" name=""/>
          <p:cNvSpPr/>
          <p:nvPr/>
        </p:nvSpPr>
        <p:spPr>
          <a:xfrm>
            <a:off x="588960" y="53816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4" name=""/>
          <p:cNvSpPr/>
          <p:nvPr/>
        </p:nvSpPr>
        <p:spPr>
          <a:xfrm>
            <a:off x="579600" y="54864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5" name=""/>
          <p:cNvSpPr/>
          <p:nvPr/>
        </p:nvSpPr>
        <p:spPr>
          <a:xfrm>
            <a:off x="2289240" y="36813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6" name=""/>
          <p:cNvSpPr/>
          <p:nvPr/>
        </p:nvSpPr>
        <p:spPr>
          <a:xfrm>
            <a:off x="2184480" y="49132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7" name=""/>
          <p:cNvSpPr/>
          <p:nvPr/>
        </p:nvSpPr>
        <p:spPr>
          <a:xfrm>
            <a:off x="2390760" y="442260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8" name=""/>
          <p:cNvSpPr/>
          <p:nvPr/>
        </p:nvSpPr>
        <p:spPr>
          <a:xfrm>
            <a:off x="544680" y="4043520"/>
            <a:ext cx="34920" cy="29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560" bIns="-25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9" name=""/>
          <p:cNvSpPr/>
          <p:nvPr/>
        </p:nvSpPr>
        <p:spPr>
          <a:xfrm>
            <a:off x="717480" y="59929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0" name=""/>
          <p:cNvSpPr/>
          <p:nvPr/>
        </p:nvSpPr>
        <p:spPr>
          <a:xfrm>
            <a:off x="857160" y="58723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1" name=""/>
          <p:cNvSpPr/>
          <p:nvPr/>
        </p:nvSpPr>
        <p:spPr>
          <a:xfrm>
            <a:off x="700200" y="5848200"/>
            <a:ext cx="34920" cy="302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2" name=""/>
          <p:cNvSpPr/>
          <p:nvPr/>
        </p:nvSpPr>
        <p:spPr>
          <a:xfrm>
            <a:off x="771480" y="5911920"/>
            <a:ext cx="367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3" name=""/>
          <p:cNvSpPr/>
          <p:nvPr/>
        </p:nvSpPr>
        <p:spPr>
          <a:xfrm>
            <a:off x="752400" y="579420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4" name=""/>
          <p:cNvSpPr/>
          <p:nvPr/>
        </p:nvSpPr>
        <p:spPr>
          <a:xfrm>
            <a:off x="824040" y="57992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5" name=""/>
          <p:cNvSpPr/>
          <p:nvPr/>
        </p:nvSpPr>
        <p:spPr>
          <a:xfrm>
            <a:off x="847800" y="57261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6" name=""/>
          <p:cNvSpPr/>
          <p:nvPr/>
        </p:nvSpPr>
        <p:spPr>
          <a:xfrm>
            <a:off x="749160" y="57308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7" name=""/>
          <p:cNvSpPr/>
          <p:nvPr/>
        </p:nvSpPr>
        <p:spPr>
          <a:xfrm>
            <a:off x="650880" y="5694480"/>
            <a:ext cx="34920" cy="29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560" bIns="-25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8" name=""/>
          <p:cNvSpPr/>
          <p:nvPr/>
        </p:nvSpPr>
        <p:spPr>
          <a:xfrm>
            <a:off x="655560" y="57801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9" name=""/>
          <p:cNvSpPr/>
          <p:nvPr/>
        </p:nvSpPr>
        <p:spPr>
          <a:xfrm>
            <a:off x="882720" y="56358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0" name=""/>
          <p:cNvSpPr/>
          <p:nvPr/>
        </p:nvSpPr>
        <p:spPr>
          <a:xfrm>
            <a:off x="731880" y="55990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1" name=""/>
          <p:cNvSpPr/>
          <p:nvPr/>
        </p:nvSpPr>
        <p:spPr>
          <a:xfrm>
            <a:off x="977760" y="56451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2" name=""/>
          <p:cNvSpPr/>
          <p:nvPr/>
        </p:nvSpPr>
        <p:spPr>
          <a:xfrm>
            <a:off x="1001880" y="59482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3" name=""/>
          <p:cNvSpPr/>
          <p:nvPr/>
        </p:nvSpPr>
        <p:spPr>
          <a:xfrm>
            <a:off x="915840" y="5987880"/>
            <a:ext cx="367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4" name=""/>
          <p:cNvSpPr/>
          <p:nvPr/>
        </p:nvSpPr>
        <p:spPr>
          <a:xfrm>
            <a:off x="1192320" y="60404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5" name=""/>
          <p:cNvSpPr/>
          <p:nvPr/>
        </p:nvSpPr>
        <p:spPr>
          <a:xfrm>
            <a:off x="968400" y="587520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6" name=""/>
          <p:cNvSpPr/>
          <p:nvPr/>
        </p:nvSpPr>
        <p:spPr>
          <a:xfrm>
            <a:off x="992160" y="58024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7" name=""/>
          <p:cNvSpPr/>
          <p:nvPr/>
        </p:nvSpPr>
        <p:spPr>
          <a:xfrm>
            <a:off x="981000" y="575136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8" name=""/>
          <p:cNvSpPr/>
          <p:nvPr/>
        </p:nvSpPr>
        <p:spPr>
          <a:xfrm>
            <a:off x="2075040" y="59324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9" name=""/>
          <p:cNvSpPr/>
          <p:nvPr/>
        </p:nvSpPr>
        <p:spPr>
          <a:xfrm>
            <a:off x="2087640" y="57308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0" name=""/>
          <p:cNvSpPr/>
          <p:nvPr/>
        </p:nvSpPr>
        <p:spPr>
          <a:xfrm>
            <a:off x="2001960" y="5770440"/>
            <a:ext cx="3636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1" name=""/>
          <p:cNvSpPr/>
          <p:nvPr/>
        </p:nvSpPr>
        <p:spPr>
          <a:xfrm>
            <a:off x="1982880" y="56530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2" name=""/>
          <p:cNvSpPr/>
          <p:nvPr/>
        </p:nvSpPr>
        <p:spPr>
          <a:xfrm>
            <a:off x="2054160" y="56577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3" name=""/>
          <p:cNvSpPr/>
          <p:nvPr/>
        </p:nvSpPr>
        <p:spPr>
          <a:xfrm>
            <a:off x="2077920" y="558468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4" name=""/>
          <p:cNvSpPr/>
          <p:nvPr/>
        </p:nvSpPr>
        <p:spPr>
          <a:xfrm>
            <a:off x="2147760" y="59976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5" name=""/>
          <p:cNvSpPr/>
          <p:nvPr/>
        </p:nvSpPr>
        <p:spPr>
          <a:xfrm>
            <a:off x="2232000" y="58071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6" name=""/>
          <p:cNvSpPr/>
          <p:nvPr/>
        </p:nvSpPr>
        <p:spPr>
          <a:xfrm>
            <a:off x="2146320" y="5846760"/>
            <a:ext cx="3636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7" name=""/>
          <p:cNvSpPr/>
          <p:nvPr/>
        </p:nvSpPr>
        <p:spPr>
          <a:xfrm>
            <a:off x="2320920" y="57992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8" name=""/>
          <p:cNvSpPr/>
          <p:nvPr/>
        </p:nvSpPr>
        <p:spPr>
          <a:xfrm>
            <a:off x="2222640" y="56610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9" name=""/>
          <p:cNvSpPr/>
          <p:nvPr/>
        </p:nvSpPr>
        <p:spPr>
          <a:xfrm>
            <a:off x="2124000" y="56656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0" name=""/>
          <p:cNvSpPr/>
          <p:nvPr/>
        </p:nvSpPr>
        <p:spPr>
          <a:xfrm>
            <a:off x="1181160" y="59245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1" name=""/>
          <p:cNvSpPr/>
          <p:nvPr/>
        </p:nvSpPr>
        <p:spPr>
          <a:xfrm>
            <a:off x="1198440" y="58024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2" name=""/>
          <p:cNvSpPr/>
          <p:nvPr/>
        </p:nvSpPr>
        <p:spPr>
          <a:xfrm>
            <a:off x="1112760" y="5842080"/>
            <a:ext cx="367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3" name=""/>
          <p:cNvSpPr/>
          <p:nvPr/>
        </p:nvSpPr>
        <p:spPr>
          <a:xfrm>
            <a:off x="1093680" y="572436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4" name=""/>
          <p:cNvSpPr/>
          <p:nvPr/>
        </p:nvSpPr>
        <p:spPr>
          <a:xfrm>
            <a:off x="1165320" y="57294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5" name=""/>
          <p:cNvSpPr/>
          <p:nvPr/>
        </p:nvSpPr>
        <p:spPr>
          <a:xfrm>
            <a:off x="1189080" y="56563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6" name=""/>
          <p:cNvSpPr/>
          <p:nvPr/>
        </p:nvSpPr>
        <p:spPr>
          <a:xfrm>
            <a:off x="1090440" y="56610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7" name=""/>
          <p:cNvSpPr/>
          <p:nvPr/>
        </p:nvSpPr>
        <p:spPr>
          <a:xfrm>
            <a:off x="1343160" y="58784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8" name=""/>
          <p:cNvSpPr/>
          <p:nvPr/>
        </p:nvSpPr>
        <p:spPr>
          <a:xfrm>
            <a:off x="1257480" y="5918040"/>
            <a:ext cx="3636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9" name=""/>
          <p:cNvSpPr/>
          <p:nvPr/>
        </p:nvSpPr>
        <p:spPr>
          <a:xfrm>
            <a:off x="1246320" y="58500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0" name=""/>
          <p:cNvSpPr/>
          <p:nvPr/>
        </p:nvSpPr>
        <p:spPr>
          <a:xfrm>
            <a:off x="1309680" y="580536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1" name=""/>
          <p:cNvSpPr/>
          <p:nvPr/>
        </p:nvSpPr>
        <p:spPr>
          <a:xfrm>
            <a:off x="1333440" y="57326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2" name=""/>
          <p:cNvSpPr/>
          <p:nvPr/>
        </p:nvSpPr>
        <p:spPr>
          <a:xfrm>
            <a:off x="1235160" y="57373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3" name=""/>
          <p:cNvSpPr/>
          <p:nvPr/>
        </p:nvSpPr>
        <p:spPr>
          <a:xfrm>
            <a:off x="1432080" y="566244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4" name=""/>
          <p:cNvSpPr/>
          <p:nvPr/>
        </p:nvSpPr>
        <p:spPr>
          <a:xfrm>
            <a:off x="1341360" y="599904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5" name=""/>
          <p:cNvSpPr/>
          <p:nvPr/>
        </p:nvSpPr>
        <p:spPr>
          <a:xfrm>
            <a:off x="1422360" y="58928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6" name=""/>
          <p:cNvSpPr/>
          <p:nvPr/>
        </p:nvSpPr>
        <p:spPr>
          <a:xfrm>
            <a:off x="1446120" y="58197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7" name=""/>
          <p:cNvSpPr/>
          <p:nvPr/>
        </p:nvSpPr>
        <p:spPr>
          <a:xfrm>
            <a:off x="1481040" y="57294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8" name=""/>
          <p:cNvSpPr/>
          <p:nvPr/>
        </p:nvSpPr>
        <p:spPr>
          <a:xfrm>
            <a:off x="1541520" y="55990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9" name=""/>
          <p:cNvSpPr/>
          <p:nvPr/>
        </p:nvSpPr>
        <p:spPr>
          <a:xfrm>
            <a:off x="1576440" y="57387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0" name=""/>
          <p:cNvSpPr/>
          <p:nvPr/>
        </p:nvSpPr>
        <p:spPr>
          <a:xfrm>
            <a:off x="1495440" y="596412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1" name=""/>
          <p:cNvSpPr/>
          <p:nvPr/>
        </p:nvSpPr>
        <p:spPr>
          <a:xfrm>
            <a:off x="1566720" y="59691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2" name=""/>
          <p:cNvSpPr/>
          <p:nvPr/>
        </p:nvSpPr>
        <p:spPr>
          <a:xfrm>
            <a:off x="1590840" y="58960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3" name=""/>
          <p:cNvSpPr/>
          <p:nvPr/>
        </p:nvSpPr>
        <p:spPr>
          <a:xfrm>
            <a:off x="1492200" y="59007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4" name=""/>
          <p:cNvSpPr/>
          <p:nvPr/>
        </p:nvSpPr>
        <p:spPr>
          <a:xfrm>
            <a:off x="1593720" y="56340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5" name=""/>
          <p:cNvSpPr/>
          <p:nvPr/>
        </p:nvSpPr>
        <p:spPr>
          <a:xfrm>
            <a:off x="1773360" y="559260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6" name=""/>
          <p:cNvSpPr/>
          <p:nvPr/>
        </p:nvSpPr>
        <p:spPr>
          <a:xfrm>
            <a:off x="1657440" y="60166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7" name=""/>
          <p:cNvSpPr/>
          <p:nvPr/>
        </p:nvSpPr>
        <p:spPr>
          <a:xfrm>
            <a:off x="1797120" y="58960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8" name=""/>
          <p:cNvSpPr/>
          <p:nvPr/>
        </p:nvSpPr>
        <p:spPr>
          <a:xfrm>
            <a:off x="1711440" y="5935680"/>
            <a:ext cx="3636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9" name=""/>
          <p:cNvSpPr/>
          <p:nvPr/>
        </p:nvSpPr>
        <p:spPr>
          <a:xfrm>
            <a:off x="1692360" y="58183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0" name=""/>
          <p:cNvSpPr/>
          <p:nvPr/>
        </p:nvSpPr>
        <p:spPr>
          <a:xfrm>
            <a:off x="1763640" y="58230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1" name=""/>
          <p:cNvSpPr/>
          <p:nvPr/>
        </p:nvSpPr>
        <p:spPr>
          <a:xfrm>
            <a:off x="1787400" y="57499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2" name=""/>
          <p:cNvSpPr/>
          <p:nvPr/>
        </p:nvSpPr>
        <p:spPr>
          <a:xfrm>
            <a:off x="1689120" y="57546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3" name=""/>
          <p:cNvSpPr/>
          <p:nvPr/>
        </p:nvSpPr>
        <p:spPr>
          <a:xfrm>
            <a:off x="1822320" y="56595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4" name=""/>
          <p:cNvSpPr/>
          <p:nvPr/>
        </p:nvSpPr>
        <p:spPr>
          <a:xfrm>
            <a:off x="1917720" y="56689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5" name=""/>
          <p:cNvSpPr/>
          <p:nvPr/>
        </p:nvSpPr>
        <p:spPr>
          <a:xfrm>
            <a:off x="1941480" y="597204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6" name=""/>
          <p:cNvSpPr/>
          <p:nvPr/>
        </p:nvSpPr>
        <p:spPr>
          <a:xfrm>
            <a:off x="1855800" y="6012000"/>
            <a:ext cx="3636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7" name=""/>
          <p:cNvSpPr/>
          <p:nvPr/>
        </p:nvSpPr>
        <p:spPr>
          <a:xfrm>
            <a:off x="1844640" y="59436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8" name=""/>
          <p:cNvSpPr/>
          <p:nvPr/>
        </p:nvSpPr>
        <p:spPr>
          <a:xfrm>
            <a:off x="1908000" y="5899320"/>
            <a:ext cx="3528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9" name=""/>
          <p:cNvSpPr/>
          <p:nvPr/>
        </p:nvSpPr>
        <p:spPr>
          <a:xfrm>
            <a:off x="1932120" y="58262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0" name=""/>
          <p:cNvSpPr/>
          <p:nvPr/>
        </p:nvSpPr>
        <p:spPr>
          <a:xfrm>
            <a:off x="1833480" y="58309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1" name=""/>
          <p:cNvSpPr/>
          <p:nvPr/>
        </p:nvSpPr>
        <p:spPr>
          <a:xfrm>
            <a:off x="2378160" y="571644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2" name=""/>
          <p:cNvSpPr/>
          <p:nvPr/>
        </p:nvSpPr>
        <p:spPr>
          <a:xfrm>
            <a:off x="2401920" y="60199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3" name=""/>
          <p:cNvSpPr/>
          <p:nvPr/>
        </p:nvSpPr>
        <p:spPr>
          <a:xfrm>
            <a:off x="2368440" y="59468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4" name=""/>
          <p:cNvSpPr/>
          <p:nvPr/>
        </p:nvSpPr>
        <p:spPr>
          <a:xfrm>
            <a:off x="2392200" y="58737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5" name=""/>
          <p:cNvSpPr/>
          <p:nvPr/>
        </p:nvSpPr>
        <p:spPr>
          <a:xfrm>
            <a:off x="2243160" y="592920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6" name=""/>
          <p:cNvSpPr/>
          <p:nvPr/>
        </p:nvSpPr>
        <p:spPr>
          <a:xfrm>
            <a:off x="2395440" y="561168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7" name=""/>
          <p:cNvSpPr/>
          <p:nvPr/>
        </p:nvSpPr>
        <p:spPr>
          <a:xfrm>
            <a:off x="3475080" y="60040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8" name=""/>
          <p:cNvSpPr/>
          <p:nvPr/>
        </p:nvSpPr>
        <p:spPr>
          <a:xfrm>
            <a:off x="3487680" y="58024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9" name=""/>
          <p:cNvSpPr/>
          <p:nvPr/>
        </p:nvSpPr>
        <p:spPr>
          <a:xfrm>
            <a:off x="3402000" y="5842080"/>
            <a:ext cx="3636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0" name=""/>
          <p:cNvSpPr/>
          <p:nvPr/>
        </p:nvSpPr>
        <p:spPr>
          <a:xfrm>
            <a:off x="3382920" y="572436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1" name=""/>
          <p:cNvSpPr/>
          <p:nvPr/>
        </p:nvSpPr>
        <p:spPr>
          <a:xfrm>
            <a:off x="3454560" y="57294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2" name=""/>
          <p:cNvSpPr/>
          <p:nvPr/>
        </p:nvSpPr>
        <p:spPr>
          <a:xfrm>
            <a:off x="3478320" y="56563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3" name=""/>
          <p:cNvSpPr/>
          <p:nvPr/>
        </p:nvSpPr>
        <p:spPr>
          <a:xfrm>
            <a:off x="3411360" y="5613480"/>
            <a:ext cx="3528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4" name=""/>
          <p:cNvSpPr/>
          <p:nvPr/>
        </p:nvSpPr>
        <p:spPr>
          <a:xfrm>
            <a:off x="3524400" y="57373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5" name=""/>
          <p:cNvSpPr/>
          <p:nvPr/>
        </p:nvSpPr>
        <p:spPr>
          <a:xfrm>
            <a:off x="2581200" y="59961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6" name=""/>
          <p:cNvSpPr/>
          <p:nvPr/>
        </p:nvSpPr>
        <p:spPr>
          <a:xfrm>
            <a:off x="2598840" y="58737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7" name=""/>
          <p:cNvSpPr/>
          <p:nvPr/>
        </p:nvSpPr>
        <p:spPr>
          <a:xfrm>
            <a:off x="2513160" y="5913360"/>
            <a:ext cx="3636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8" name=""/>
          <p:cNvSpPr/>
          <p:nvPr/>
        </p:nvSpPr>
        <p:spPr>
          <a:xfrm>
            <a:off x="2494080" y="57960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9" name=""/>
          <p:cNvSpPr/>
          <p:nvPr/>
        </p:nvSpPr>
        <p:spPr>
          <a:xfrm>
            <a:off x="2565360" y="58006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0" name=""/>
          <p:cNvSpPr/>
          <p:nvPr/>
        </p:nvSpPr>
        <p:spPr>
          <a:xfrm>
            <a:off x="2589120" y="57276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1" name=""/>
          <p:cNvSpPr/>
          <p:nvPr/>
        </p:nvSpPr>
        <p:spPr>
          <a:xfrm>
            <a:off x="2490840" y="57326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2" name=""/>
          <p:cNvSpPr/>
          <p:nvPr/>
        </p:nvSpPr>
        <p:spPr>
          <a:xfrm>
            <a:off x="2624040" y="56372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3" name=""/>
          <p:cNvSpPr/>
          <p:nvPr/>
        </p:nvSpPr>
        <p:spPr>
          <a:xfrm>
            <a:off x="2719440" y="564660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4" name=""/>
          <p:cNvSpPr/>
          <p:nvPr/>
        </p:nvSpPr>
        <p:spPr>
          <a:xfrm>
            <a:off x="2743200" y="59500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5" name=""/>
          <p:cNvSpPr/>
          <p:nvPr/>
        </p:nvSpPr>
        <p:spPr>
          <a:xfrm>
            <a:off x="2657520" y="5989680"/>
            <a:ext cx="3636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6" name=""/>
          <p:cNvSpPr/>
          <p:nvPr/>
        </p:nvSpPr>
        <p:spPr>
          <a:xfrm>
            <a:off x="2646360" y="59212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7" name=""/>
          <p:cNvSpPr/>
          <p:nvPr/>
        </p:nvSpPr>
        <p:spPr>
          <a:xfrm>
            <a:off x="2709720" y="58770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8" name=""/>
          <p:cNvSpPr/>
          <p:nvPr/>
        </p:nvSpPr>
        <p:spPr>
          <a:xfrm>
            <a:off x="2733840" y="58039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9" name=""/>
          <p:cNvSpPr/>
          <p:nvPr/>
        </p:nvSpPr>
        <p:spPr>
          <a:xfrm>
            <a:off x="2635200" y="58086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0" name=""/>
          <p:cNvSpPr/>
          <p:nvPr/>
        </p:nvSpPr>
        <p:spPr>
          <a:xfrm>
            <a:off x="2797200" y="55944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1" name=""/>
          <p:cNvSpPr/>
          <p:nvPr/>
        </p:nvSpPr>
        <p:spPr>
          <a:xfrm>
            <a:off x="2832120" y="57340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2" name=""/>
          <p:cNvSpPr/>
          <p:nvPr/>
        </p:nvSpPr>
        <p:spPr>
          <a:xfrm>
            <a:off x="2741760" y="60706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3" name=""/>
          <p:cNvSpPr/>
          <p:nvPr/>
        </p:nvSpPr>
        <p:spPr>
          <a:xfrm>
            <a:off x="2822400" y="5964120"/>
            <a:ext cx="3528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4" name=""/>
          <p:cNvSpPr/>
          <p:nvPr/>
        </p:nvSpPr>
        <p:spPr>
          <a:xfrm>
            <a:off x="2846520" y="589104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5" name=""/>
          <p:cNvSpPr/>
          <p:nvPr/>
        </p:nvSpPr>
        <p:spPr>
          <a:xfrm>
            <a:off x="2881440" y="58006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6" name=""/>
          <p:cNvSpPr/>
          <p:nvPr/>
        </p:nvSpPr>
        <p:spPr>
          <a:xfrm>
            <a:off x="2968560" y="56149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7" name=""/>
          <p:cNvSpPr/>
          <p:nvPr/>
        </p:nvSpPr>
        <p:spPr>
          <a:xfrm>
            <a:off x="2941560" y="56707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8" name=""/>
          <p:cNvSpPr/>
          <p:nvPr/>
        </p:nvSpPr>
        <p:spPr>
          <a:xfrm>
            <a:off x="2976480" y="58104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9" name=""/>
          <p:cNvSpPr/>
          <p:nvPr/>
        </p:nvSpPr>
        <p:spPr>
          <a:xfrm>
            <a:off x="2895480" y="60357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0" name=""/>
          <p:cNvSpPr/>
          <p:nvPr/>
        </p:nvSpPr>
        <p:spPr>
          <a:xfrm>
            <a:off x="2967120" y="60404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1" name=""/>
          <p:cNvSpPr/>
          <p:nvPr/>
        </p:nvSpPr>
        <p:spPr>
          <a:xfrm>
            <a:off x="2990880" y="59673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2" name=""/>
          <p:cNvSpPr/>
          <p:nvPr/>
        </p:nvSpPr>
        <p:spPr>
          <a:xfrm>
            <a:off x="2892600" y="597204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3" name=""/>
          <p:cNvSpPr/>
          <p:nvPr/>
        </p:nvSpPr>
        <p:spPr>
          <a:xfrm>
            <a:off x="2994120" y="57056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4" name=""/>
          <p:cNvSpPr/>
          <p:nvPr/>
        </p:nvSpPr>
        <p:spPr>
          <a:xfrm>
            <a:off x="3173400" y="56642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5" name=""/>
          <p:cNvSpPr/>
          <p:nvPr/>
        </p:nvSpPr>
        <p:spPr>
          <a:xfrm>
            <a:off x="3197160" y="59673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6" name=""/>
          <p:cNvSpPr/>
          <p:nvPr/>
        </p:nvSpPr>
        <p:spPr>
          <a:xfrm>
            <a:off x="3111480" y="6006960"/>
            <a:ext cx="3636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7" name=""/>
          <p:cNvSpPr/>
          <p:nvPr/>
        </p:nvSpPr>
        <p:spPr>
          <a:xfrm>
            <a:off x="3092400" y="58896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8" name=""/>
          <p:cNvSpPr/>
          <p:nvPr/>
        </p:nvSpPr>
        <p:spPr>
          <a:xfrm>
            <a:off x="3164040" y="58942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9" name=""/>
          <p:cNvSpPr/>
          <p:nvPr/>
        </p:nvSpPr>
        <p:spPr>
          <a:xfrm>
            <a:off x="3187800" y="582120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0" name=""/>
          <p:cNvSpPr/>
          <p:nvPr/>
        </p:nvSpPr>
        <p:spPr>
          <a:xfrm>
            <a:off x="3089160" y="58262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1" name=""/>
          <p:cNvSpPr/>
          <p:nvPr/>
        </p:nvSpPr>
        <p:spPr>
          <a:xfrm>
            <a:off x="3222720" y="57308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2" name=""/>
          <p:cNvSpPr/>
          <p:nvPr/>
        </p:nvSpPr>
        <p:spPr>
          <a:xfrm>
            <a:off x="3071880" y="562752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3" name=""/>
          <p:cNvSpPr/>
          <p:nvPr/>
        </p:nvSpPr>
        <p:spPr>
          <a:xfrm>
            <a:off x="3282840" y="56008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4" name=""/>
          <p:cNvSpPr/>
          <p:nvPr/>
        </p:nvSpPr>
        <p:spPr>
          <a:xfrm>
            <a:off x="3317760" y="57405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5" name=""/>
          <p:cNvSpPr/>
          <p:nvPr/>
        </p:nvSpPr>
        <p:spPr>
          <a:xfrm>
            <a:off x="3341520" y="60436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6" name=""/>
          <p:cNvSpPr/>
          <p:nvPr/>
        </p:nvSpPr>
        <p:spPr>
          <a:xfrm>
            <a:off x="3244680" y="601488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7" name=""/>
          <p:cNvSpPr/>
          <p:nvPr/>
        </p:nvSpPr>
        <p:spPr>
          <a:xfrm>
            <a:off x="3308400" y="59706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8" name=""/>
          <p:cNvSpPr/>
          <p:nvPr/>
        </p:nvSpPr>
        <p:spPr>
          <a:xfrm>
            <a:off x="3332160" y="58975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9" name=""/>
          <p:cNvSpPr/>
          <p:nvPr/>
        </p:nvSpPr>
        <p:spPr>
          <a:xfrm>
            <a:off x="3233880" y="590220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0" name=""/>
          <p:cNvSpPr/>
          <p:nvPr/>
        </p:nvSpPr>
        <p:spPr>
          <a:xfrm>
            <a:off x="2039760" y="6056280"/>
            <a:ext cx="3528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1" name=""/>
          <p:cNvSpPr/>
          <p:nvPr/>
        </p:nvSpPr>
        <p:spPr>
          <a:xfrm>
            <a:off x="1727280" y="60595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2" name=""/>
          <p:cNvSpPr/>
          <p:nvPr/>
        </p:nvSpPr>
        <p:spPr>
          <a:xfrm>
            <a:off x="1471680" y="606888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3" name=""/>
          <p:cNvSpPr/>
          <p:nvPr/>
        </p:nvSpPr>
        <p:spPr>
          <a:xfrm>
            <a:off x="1293840" y="6051600"/>
            <a:ext cx="3636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4" name=""/>
          <p:cNvSpPr/>
          <p:nvPr/>
        </p:nvSpPr>
        <p:spPr>
          <a:xfrm>
            <a:off x="1065240" y="603396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5" name=""/>
          <p:cNvSpPr/>
          <p:nvPr/>
        </p:nvSpPr>
        <p:spPr>
          <a:xfrm>
            <a:off x="1098720" y="5942160"/>
            <a:ext cx="3636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6" name=""/>
          <p:cNvSpPr/>
          <p:nvPr/>
        </p:nvSpPr>
        <p:spPr>
          <a:xfrm>
            <a:off x="800280" y="6043680"/>
            <a:ext cx="3636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7" name=""/>
          <p:cNvSpPr/>
          <p:nvPr/>
        </p:nvSpPr>
        <p:spPr>
          <a:xfrm>
            <a:off x="4143240" y="56707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8" name=""/>
          <p:cNvSpPr/>
          <p:nvPr/>
        </p:nvSpPr>
        <p:spPr>
          <a:xfrm>
            <a:off x="3624120" y="56926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9" name=""/>
          <p:cNvSpPr/>
          <p:nvPr/>
        </p:nvSpPr>
        <p:spPr>
          <a:xfrm>
            <a:off x="3648240" y="59961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0" name=""/>
          <p:cNvSpPr/>
          <p:nvPr/>
        </p:nvSpPr>
        <p:spPr>
          <a:xfrm>
            <a:off x="3543480" y="591804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1" name=""/>
          <p:cNvSpPr/>
          <p:nvPr/>
        </p:nvSpPr>
        <p:spPr>
          <a:xfrm>
            <a:off x="3614760" y="59230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2" name=""/>
          <p:cNvSpPr/>
          <p:nvPr/>
        </p:nvSpPr>
        <p:spPr>
          <a:xfrm>
            <a:off x="3638520" y="58500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3" name=""/>
          <p:cNvSpPr/>
          <p:nvPr/>
        </p:nvSpPr>
        <p:spPr>
          <a:xfrm>
            <a:off x="3540240" y="58546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4" name=""/>
          <p:cNvSpPr/>
          <p:nvPr/>
        </p:nvSpPr>
        <p:spPr>
          <a:xfrm>
            <a:off x="3673440" y="575928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5" name=""/>
          <p:cNvSpPr/>
          <p:nvPr/>
        </p:nvSpPr>
        <p:spPr>
          <a:xfrm>
            <a:off x="3641760" y="55879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6" name=""/>
          <p:cNvSpPr/>
          <p:nvPr/>
        </p:nvSpPr>
        <p:spPr>
          <a:xfrm>
            <a:off x="3733920" y="56293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7" name=""/>
          <p:cNvSpPr/>
          <p:nvPr/>
        </p:nvSpPr>
        <p:spPr>
          <a:xfrm>
            <a:off x="3768840" y="57690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8" name=""/>
          <p:cNvSpPr/>
          <p:nvPr/>
        </p:nvSpPr>
        <p:spPr>
          <a:xfrm>
            <a:off x="3759120" y="599904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9" name=""/>
          <p:cNvSpPr/>
          <p:nvPr/>
        </p:nvSpPr>
        <p:spPr>
          <a:xfrm>
            <a:off x="3782880" y="592596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0" name=""/>
          <p:cNvSpPr/>
          <p:nvPr/>
        </p:nvSpPr>
        <p:spPr>
          <a:xfrm>
            <a:off x="3684600" y="59310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1" name=""/>
          <p:cNvSpPr/>
          <p:nvPr/>
        </p:nvSpPr>
        <p:spPr>
          <a:xfrm>
            <a:off x="3808440" y="56070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2" name=""/>
          <p:cNvSpPr/>
          <p:nvPr/>
        </p:nvSpPr>
        <p:spPr>
          <a:xfrm>
            <a:off x="3846600" y="571644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3" name=""/>
          <p:cNvSpPr/>
          <p:nvPr/>
        </p:nvSpPr>
        <p:spPr>
          <a:xfrm>
            <a:off x="3881520" y="585612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4" name=""/>
          <p:cNvSpPr/>
          <p:nvPr/>
        </p:nvSpPr>
        <p:spPr>
          <a:xfrm>
            <a:off x="3908520" y="56088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5" name=""/>
          <p:cNvSpPr/>
          <p:nvPr/>
        </p:nvSpPr>
        <p:spPr>
          <a:xfrm>
            <a:off x="3895560" y="60134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6" name=""/>
          <p:cNvSpPr/>
          <p:nvPr/>
        </p:nvSpPr>
        <p:spPr>
          <a:xfrm>
            <a:off x="3930480" y="59230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7" name=""/>
          <p:cNvSpPr/>
          <p:nvPr/>
        </p:nvSpPr>
        <p:spPr>
          <a:xfrm>
            <a:off x="4017960" y="57373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8" name=""/>
          <p:cNvSpPr/>
          <p:nvPr/>
        </p:nvSpPr>
        <p:spPr>
          <a:xfrm>
            <a:off x="3990960" y="57927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9" name=""/>
          <p:cNvSpPr/>
          <p:nvPr/>
        </p:nvSpPr>
        <p:spPr>
          <a:xfrm>
            <a:off x="4025880" y="59324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0" name=""/>
          <p:cNvSpPr/>
          <p:nvPr/>
        </p:nvSpPr>
        <p:spPr>
          <a:xfrm>
            <a:off x="4052880" y="56847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1" name=""/>
          <p:cNvSpPr/>
          <p:nvPr/>
        </p:nvSpPr>
        <p:spPr>
          <a:xfrm>
            <a:off x="4056120" y="55990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2" name=""/>
          <p:cNvSpPr/>
          <p:nvPr/>
        </p:nvSpPr>
        <p:spPr>
          <a:xfrm>
            <a:off x="3954600" y="56833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3" name=""/>
          <p:cNvSpPr/>
          <p:nvPr/>
        </p:nvSpPr>
        <p:spPr>
          <a:xfrm>
            <a:off x="4043520" y="58276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4" name=""/>
          <p:cNvSpPr/>
          <p:nvPr/>
        </p:nvSpPr>
        <p:spPr>
          <a:xfrm>
            <a:off x="4222800" y="578628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5" name=""/>
          <p:cNvSpPr/>
          <p:nvPr/>
        </p:nvSpPr>
        <p:spPr>
          <a:xfrm>
            <a:off x="4141800" y="60120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6" name=""/>
          <p:cNvSpPr/>
          <p:nvPr/>
        </p:nvSpPr>
        <p:spPr>
          <a:xfrm>
            <a:off x="4213080" y="60166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7" name=""/>
          <p:cNvSpPr/>
          <p:nvPr/>
        </p:nvSpPr>
        <p:spPr>
          <a:xfrm>
            <a:off x="4237200" y="59436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8" name=""/>
          <p:cNvSpPr/>
          <p:nvPr/>
        </p:nvSpPr>
        <p:spPr>
          <a:xfrm>
            <a:off x="4138560" y="59482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9" name=""/>
          <p:cNvSpPr/>
          <p:nvPr/>
        </p:nvSpPr>
        <p:spPr>
          <a:xfrm>
            <a:off x="4121280" y="57499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0" name=""/>
          <p:cNvSpPr/>
          <p:nvPr/>
        </p:nvSpPr>
        <p:spPr>
          <a:xfrm>
            <a:off x="4240080" y="568152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1" name=""/>
          <p:cNvSpPr/>
          <p:nvPr/>
        </p:nvSpPr>
        <p:spPr>
          <a:xfrm>
            <a:off x="2308320" y="62420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2" name=""/>
          <p:cNvSpPr/>
          <p:nvPr/>
        </p:nvSpPr>
        <p:spPr>
          <a:xfrm>
            <a:off x="2311560" y="61563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3" name=""/>
          <p:cNvSpPr/>
          <p:nvPr/>
        </p:nvSpPr>
        <p:spPr>
          <a:xfrm>
            <a:off x="2298600" y="63849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4" name=""/>
          <p:cNvSpPr/>
          <p:nvPr/>
        </p:nvSpPr>
        <p:spPr>
          <a:xfrm>
            <a:off x="3332160" y="61326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5" name=""/>
          <p:cNvSpPr/>
          <p:nvPr/>
        </p:nvSpPr>
        <p:spPr>
          <a:xfrm>
            <a:off x="3367080" y="62722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6" name=""/>
          <p:cNvSpPr/>
          <p:nvPr/>
        </p:nvSpPr>
        <p:spPr>
          <a:xfrm>
            <a:off x="3390840" y="65754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7" name=""/>
          <p:cNvSpPr/>
          <p:nvPr/>
        </p:nvSpPr>
        <p:spPr>
          <a:xfrm>
            <a:off x="3305160" y="6615000"/>
            <a:ext cx="3636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8" name=""/>
          <p:cNvSpPr/>
          <p:nvPr/>
        </p:nvSpPr>
        <p:spPr>
          <a:xfrm>
            <a:off x="3286080" y="64976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9" name=""/>
          <p:cNvSpPr/>
          <p:nvPr/>
        </p:nvSpPr>
        <p:spPr>
          <a:xfrm>
            <a:off x="3357720" y="65023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0" name=""/>
          <p:cNvSpPr/>
          <p:nvPr/>
        </p:nvSpPr>
        <p:spPr>
          <a:xfrm>
            <a:off x="3381480" y="642924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1" name=""/>
          <p:cNvSpPr/>
          <p:nvPr/>
        </p:nvSpPr>
        <p:spPr>
          <a:xfrm>
            <a:off x="3314880" y="638640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2" name=""/>
          <p:cNvSpPr/>
          <p:nvPr/>
        </p:nvSpPr>
        <p:spPr>
          <a:xfrm>
            <a:off x="3416400" y="63388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3" name=""/>
          <p:cNvSpPr/>
          <p:nvPr/>
        </p:nvSpPr>
        <p:spPr>
          <a:xfrm>
            <a:off x="3384720" y="61675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4" name=""/>
          <p:cNvSpPr/>
          <p:nvPr/>
        </p:nvSpPr>
        <p:spPr>
          <a:xfrm>
            <a:off x="2997360" y="63216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5" name=""/>
          <p:cNvSpPr/>
          <p:nvPr/>
        </p:nvSpPr>
        <p:spPr>
          <a:xfrm>
            <a:off x="3427560" y="65102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6" name=""/>
          <p:cNvSpPr/>
          <p:nvPr/>
        </p:nvSpPr>
        <p:spPr>
          <a:xfrm>
            <a:off x="2443320" y="62038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7" name=""/>
          <p:cNvSpPr/>
          <p:nvPr/>
        </p:nvSpPr>
        <p:spPr>
          <a:xfrm>
            <a:off x="2478240" y="63435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8" name=""/>
          <p:cNvSpPr/>
          <p:nvPr/>
        </p:nvSpPr>
        <p:spPr>
          <a:xfrm>
            <a:off x="2505240" y="609588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9" name=""/>
          <p:cNvSpPr/>
          <p:nvPr/>
        </p:nvSpPr>
        <p:spPr>
          <a:xfrm>
            <a:off x="2406600" y="60944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0" name=""/>
          <p:cNvSpPr/>
          <p:nvPr/>
        </p:nvSpPr>
        <p:spPr>
          <a:xfrm>
            <a:off x="2502000" y="66470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1" name=""/>
          <p:cNvSpPr/>
          <p:nvPr/>
        </p:nvSpPr>
        <p:spPr>
          <a:xfrm>
            <a:off x="2397240" y="656892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2" name=""/>
          <p:cNvSpPr/>
          <p:nvPr/>
        </p:nvSpPr>
        <p:spPr>
          <a:xfrm>
            <a:off x="2468520" y="65739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3" name=""/>
          <p:cNvSpPr/>
          <p:nvPr/>
        </p:nvSpPr>
        <p:spPr>
          <a:xfrm>
            <a:off x="2492280" y="65008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4" name=""/>
          <p:cNvSpPr/>
          <p:nvPr/>
        </p:nvSpPr>
        <p:spPr>
          <a:xfrm>
            <a:off x="2394000" y="65055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5" name=""/>
          <p:cNvSpPr/>
          <p:nvPr/>
        </p:nvSpPr>
        <p:spPr>
          <a:xfrm>
            <a:off x="2527200" y="641016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6" name=""/>
          <p:cNvSpPr/>
          <p:nvPr/>
        </p:nvSpPr>
        <p:spPr>
          <a:xfrm>
            <a:off x="2376360" y="63072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7" name=""/>
          <p:cNvSpPr/>
          <p:nvPr/>
        </p:nvSpPr>
        <p:spPr>
          <a:xfrm>
            <a:off x="2495520" y="62388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8" name=""/>
          <p:cNvSpPr/>
          <p:nvPr/>
        </p:nvSpPr>
        <p:spPr>
          <a:xfrm>
            <a:off x="2587680" y="62802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9" name=""/>
          <p:cNvSpPr/>
          <p:nvPr/>
        </p:nvSpPr>
        <p:spPr>
          <a:xfrm>
            <a:off x="2622600" y="64198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0" name=""/>
          <p:cNvSpPr/>
          <p:nvPr/>
        </p:nvSpPr>
        <p:spPr>
          <a:xfrm>
            <a:off x="2649600" y="61722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1" name=""/>
          <p:cNvSpPr/>
          <p:nvPr/>
        </p:nvSpPr>
        <p:spPr>
          <a:xfrm>
            <a:off x="2652840" y="60865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2" name=""/>
          <p:cNvSpPr/>
          <p:nvPr/>
        </p:nvSpPr>
        <p:spPr>
          <a:xfrm>
            <a:off x="2550960" y="61707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3" name=""/>
          <p:cNvSpPr/>
          <p:nvPr/>
        </p:nvSpPr>
        <p:spPr>
          <a:xfrm>
            <a:off x="2612880" y="664992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4" name=""/>
          <p:cNvSpPr/>
          <p:nvPr/>
        </p:nvSpPr>
        <p:spPr>
          <a:xfrm>
            <a:off x="2637000" y="657684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5" name=""/>
          <p:cNvSpPr/>
          <p:nvPr/>
        </p:nvSpPr>
        <p:spPr>
          <a:xfrm>
            <a:off x="2538360" y="65818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6" name=""/>
          <p:cNvSpPr/>
          <p:nvPr/>
        </p:nvSpPr>
        <p:spPr>
          <a:xfrm>
            <a:off x="2662200" y="62578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7" name=""/>
          <p:cNvSpPr/>
          <p:nvPr/>
        </p:nvSpPr>
        <p:spPr>
          <a:xfrm>
            <a:off x="2700360" y="636732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8" name=""/>
          <p:cNvSpPr/>
          <p:nvPr/>
        </p:nvSpPr>
        <p:spPr>
          <a:xfrm>
            <a:off x="2735280" y="650700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9" name=""/>
          <p:cNvSpPr/>
          <p:nvPr/>
        </p:nvSpPr>
        <p:spPr>
          <a:xfrm>
            <a:off x="2762280" y="62596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0" name=""/>
          <p:cNvSpPr/>
          <p:nvPr/>
        </p:nvSpPr>
        <p:spPr>
          <a:xfrm>
            <a:off x="2765520" y="617364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1" name=""/>
          <p:cNvSpPr/>
          <p:nvPr/>
        </p:nvSpPr>
        <p:spPr>
          <a:xfrm>
            <a:off x="2227320" y="61498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2" name=""/>
          <p:cNvSpPr/>
          <p:nvPr/>
        </p:nvSpPr>
        <p:spPr>
          <a:xfrm>
            <a:off x="2749680" y="66643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3" name=""/>
          <p:cNvSpPr/>
          <p:nvPr/>
        </p:nvSpPr>
        <p:spPr>
          <a:xfrm>
            <a:off x="2784600" y="65739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4" name=""/>
          <p:cNvSpPr/>
          <p:nvPr/>
        </p:nvSpPr>
        <p:spPr>
          <a:xfrm>
            <a:off x="2871720" y="63882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5" name=""/>
          <p:cNvSpPr/>
          <p:nvPr/>
        </p:nvSpPr>
        <p:spPr>
          <a:xfrm>
            <a:off x="2844720" y="64436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6" name=""/>
          <p:cNvSpPr/>
          <p:nvPr/>
        </p:nvSpPr>
        <p:spPr>
          <a:xfrm>
            <a:off x="2879640" y="65833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7" name=""/>
          <p:cNvSpPr/>
          <p:nvPr/>
        </p:nvSpPr>
        <p:spPr>
          <a:xfrm>
            <a:off x="2906640" y="63356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8" name=""/>
          <p:cNvSpPr/>
          <p:nvPr/>
        </p:nvSpPr>
        <p:spPr>
          <a:xfrm>
            <a:off x="2909880" y="62499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9" name=""/>
          <p:cNvSpPr/>
          <p:nvPr/>
        </p:nvSpPr>
        <p:spPr>
          <a:xfrm>
            <a:off x="2808360" y="63342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0" name=""/>
          <p:cNvSpPr/>
          <p:nvPr/>
        </p:nvSpPr>
        <p:spPr>
          <a:xfrm>
            <a:off x="2884320" y="61214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1" name=""/>
          <p:cNvSpPr/>
          <p:nvPr/>
        </p:nvSpPr>
        <p:spPr>
          <a:xfrm>
            <a:off x="2897280" y="64785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2" name=""/>
          <p:cNvSpPr/>
          <p:nvPr/>
        </p:nvSpPr>
        <p:spPr>
          <a:xfrm>
            <a:off x="2868480" y="621648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3" name=""/>
          <p:cNvSpPr/>
          <p:nvPr/>
        </p:nvSpPr>
        <p:spPr>
          <a:xfrm>
            <a:off x="3076560" y="643716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4" name=""/>
          <p:cNvSpPr/>
          <p:nvPr/>
        </p:nvSpPr>
        <p:spPr>
          <a:xfrm>
            <a:off x="3103560" y="61898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5" name=""/>
          <p:cNvSpPr/>
          <p:nvPr/>
        </p:nvSpPr>
        <p:spPr>
          <a:xfrm>
            <a:off x="3106800" y="610380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6" name=""/>
          <p:cNvSpPr/>
          <p:nvPr/>
        </p:nvSpPr>
        <p:spPr>
          <a:xfrm>
            <a:off x="3005280" y="61880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7" name=""/>
          <p:cNvSpPr/>
          <p:nvPr/>
        </p:nvSpPr>
        <p:spPr>
          <a:xfrm>
            <a:off x="2995560" y="66628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8" name=""/>
          <p:cNvSpPr/>
          <p:nvPr/>
        </p:nvSpPr>
        <p:spPr>
          <a:xfrm>
            <a:off x="3067200" y="66675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9" name=""/>
          <p:cNvSpPr/>
          <p:nvPr/>
        </p:nvSpPr>
        <p:spPr>
          <a:xfrm>
            <a:off x="3090960" y="65944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0" name=""/>
          <p:cNvSpPr/>
          <p:nvPr/>
        </p:nvSpPr>
        <p:spPr>
          <a:xfrm>
            <a:off x="2992320" y="65991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1" name=""/>
          <p:cNvSpPr/>
          <p:nvPr/>
        </p:nvSpPr>
        <p:spPr>
          <a:xfrm>
            <a:off x="3125880" y="65041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2" name=""/>
          <p:cNvSpPr/>
          <p:nvPr/>
        </p:nvSpPr>
        <p:spPr>
          <a:xfrm>
            <a:off x="2986200" y="64962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3" name=""/>
          <p:cNvSpPr/>
          <p:nvPr/>
        </p:nvSpPr>
        <p:spPr>
          <a:xfrm>
            <a:off x="3094200" y="633240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4" name=""/>
          <p:cNvSpPr/>
          <p:nvPr/>
        </p:nvSpPr>
        <p:spPr>
          <a:xfrm>
            <a:off x="3186000" y="63738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5" name=""/>
          <p:cNvSpPr/>
          <p:nvPr/>
        </p:nvSpPr>
        <p:spPr>
          <a:xfrm>
            <a:off x="3220920" y="65134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6" name=""/>
          <p:cNvSpPr/>
          <p:nvPr/>
        </p:nvSpPr>
        <p:spPr>
          <a:xfrm>
            <a:off x="3247920" y="62658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7" name=""/>
          <p:cNvSpPr/>
          <p:nvPr/>
        </p:nvSpPr>
        <p:spPr>
          <a:xfrm>
            <a:off x="3251160" y="61801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8" name=""/>
          <p:cNvSpPr/>
          <p:nvPr/>
        </p:nvSpPr>
        <p:spPr>
          <a:xfrm>
            <a:off x="3166920" y="613872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9" name=""/>
          <p:cNvSpPr/>
          <p:nvPr/>
        </p:nvSpPr>
        <p:spPr>
          <a:xfrm>
            <a:off x="3149640" y="62643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0" name=""/>
          <p:cNvSpPr/>
          <p:nvPr/>
        </p:nvSpPr>
        <p:spPr>
          <a:xfrm>
            <a:off x="3235320" y="66708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1" name=""/>
          <p:cNvSpPr/>
          <p:nvPr/>
        </p:nvSpPr>
        <p:spPr>
          <a:xfrm>
            <a:off x="3137040" y="66754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2" name=""/>
          <p:cNvSpPr/>
          <p:nvPr/>
        </p:nvSpPr>
        <p:spPr>
          <a:xfrm>
            <a:off x="3292560" y="63086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3" name=""/>
          <p:cNvSpPr/>
          <p:nvPr/>
        </p:nvSpPr>
        <p:spPr>
          <a:xfrm>
            <a:off x="4046400" y="64436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4" name=""/>
          <p:cNvSpPr/>
          <p:nvPr/>
        </p:nvSpPr>
        <p:spPr>
          <a:xfrm>
            <a:off x="3492360" y="63262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5" name=""/>
          <p:cNvSpPr/>
          <p:nvPr/>
        </p:nvSpPr>
        <p:spPr>
          <a:xfrm>
            <a:off x="3527280" y="64659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6" name=""/>
          <p:cNvSpPr/>
          <p:nvPr/>
        </p:nvSpPr>
        <p:spPr>
          <a:xfrm>
            <a:off x="3541680" y="662292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7" name=""/>
          <p:cNvSpPr/>
          <p:nvPr/>
        </p:nvSpPr>
        <p:spPr>
          <a:xfrm>
            <a:off x="3443400" y="66279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8" name=""/>
          <p:cNvSpPr/>
          <p:nvPr/>
        </p:nvSpPr>
        <p:spPr>
          <a:xfrm>
            <a:off x="3576600" y="65325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9" name=""/>
          <p:cNvSpPr/>
          <p:nvPr/>
        </p:nvSpPr>
        <p:spPr>
          <a:xfrm>
            <a:off x="3484440" y="64134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0" name=""/>
          <p:cNvSpPr/>
          <p:nvPr/>
        </p:nvSpPr>
        <p:spPr>
          <a:xfrm>
            <a:off x="3544920" y="63612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1" name=""/>
          <p:cNvSpPr/>
          <p:nvPr/>
        </p:nvSpPr>
        <p:spPr>
          <a:xfrm>
            <a:off x="3637080" y="640224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2" name=""/>
          <p:cNvSpPr/>
          <p:nvPr/>
        </p:nvSpPr>
        <p:spPr>
          <a:xfrm>
            <a:off x="3672000" y="654192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3" name=""/>
          <p:cNvSpPr/>
          <p:nvPr/>
        </p:nvSpPr>
        <p:spPr>
          <a:xfrm>
            <a:off x="3699000" y="62946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4" name=""/>
          <p:cNvSpPr/>
          <p:nvPr/>
        </p:nvSpPr>
        <p:spPr>
          <a:xfrm>
            <a:off x="3600360" y="62928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5" name=""/>
          <p:cNvSpPr/>
          <p:nvPr/>
        </p:nvSpPr>
        <p:spPr>
          <a:xfrm>
            <a:off x="3711600" y="63802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6" name=""/>
          <p:cNvSpPr/>
          <p:nvPr/>
        </p:nvSpPr>
        <p:spPr>
          <a:xfrm>
            <a:off x="3749760" y="64897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7" name=""/>
          <p:cNvSpPr/>
          <p:nvPr/>
        </p:nvSpPr>
        <p:spPr>
          <a:xfrm>
            <a:off x="3784680" y="66294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8" name=""/>
          <p:cNvSpPr/>
          <p:nvPr/>
        </p:nvSpPr>
        <p:spPr>
          <a:xfrm>
            <a:off x="3811680" y="63817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9" name=""/>
          <p:cNvSpPr/>
          <p:nvPr/>
        </p:nvSpPr>
        <p:spPr>
          <a:xfrm>
            <a:off x="3814920" y="62960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0" name=""/>
          <p:cNvSpPr/>
          <p:nvPr/>
        </p:nvSpPr>
        <p:spPr>
          <a:xfrm>
            <a:off x="3730680" y="625464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1" name=""/>
          <p:cNvSpPr/>
          <p:nvPr/>
        </p:nvSpPr>
        <p:spPr>
          <a:xfrm>
            <a:off x="3921120" y="65102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2" name=""/>
          <p:cNvSpPr/>
          <p:nvPr/>
        </p:nvSpPr>
        <p:spPr>
          <a:xfrm>
            <a:off x="3894120" y="65660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3" name=""/>
          <p:cNvSpPr/>
          <p:nvPr/>
        </p:nvSpPr>
        <p:spPr>
          <a:xfrm>
            <a:off x="3956040" y="64580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4" name=""/>
          <p:cNvSpPr/>
          <p:nvPr/>
        </p:nvSpPr>
        <p:spPr>
          <a:xfrm>
            <a:off x="3959280" y="63723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5" name=""/>
          <p:cNvSpPr/>
          <p:nvPr/>
        </p:nvSpPr>
        <p:spPr>
          <a:xfrm>
            <a:off x="3857760" y="645624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6" name=""/>
          <p:cNvSpPr/>
          <p:nvPr/>
        </p:nvSpPr>
        <p:spPr>
          <a:xfrm>
            <a:off x="3946680" y="66009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7" name=""/>
          <p:cNvSpPr/>
          <p:nvPr/>
        </p:nvSpPr>
        <p:spPr>
          <a:xfrm>
            <a:off x="3917880" y="63388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8" name=""/>
          <p:cNvSpPr/>
          <p:nvPr/>
        </p:nvSpPr>
        <p:spPr>
          <a:xfrm>
            <a:off x="4125960" y="65595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9" name=""/>
          <p:cNvSpPr/>
          <p:nvPr/>
        </p:nvSpPr>
        <p:spPr>
          <a:xfrm>
            <a:off x="4152960" y="63118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0" name=""/>
          <p:cNvSpPr/>
          <p:nvPr/>
        </p:nvSpPr>
        <p:spPr>
          <a:xfrm>
            <a:off x="4054320" y="63104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1" name=""/>
          <p:cNvSpPr/>
          <p:nvPr/>
        </p:nvSpPr>
        <p:spPr>
          <a:xfrm>
            <a:off x="4175280" y="66261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2" name=""/>
          <p:cNvSpPr/>
          <p:nvPr/>
        </p:nvSpPr>
        <p:spPr>
          <a:xfrm>
            <a:off x="4024440" y="65232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3" name=""/>
          <p:cNvSpPr/>
          <p:nvPr/>
        </p:nvSpPr>
        <p:spPr>
          <a:xfrm>
            <a:off x="4143240" y="64548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4" name=""/>
          <p:cNvSpPr/>
          <p:nvPr/>
        </p:nvSpPr>
        <p:spPr>
          <a:xfrm>
            <a:off x="4235400" y="64962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5" name=""/>
          <p:cNvSpPr/>
          <p:nvPr/>
        </p:nvSpPr>
        <p:spPr>
          <a:xfrm>
            <a:off x="4216320" y="62611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6" name=""/>
          <p:cNvSpPr/>
          <p:nvPr/>
        </p:nvSpPr>
        <p:spPr>
          <a:xfrm>
            <a:off x="4199040" y="638640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7" name=""/>
          <p:cNvSpPr/>
          <p:nvPr/>
        </p:nvSpPr>
        <p:spPr>
          <a:xfrm>
            <a:off x="3467160" y="607680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8" name=""/>
          <p:cNvSpPr/>
          <p:nvPr/>
        </p:nvSpPr>
        <p:spPr>
          <a:xfrm>
            <a:off x="3457440" y="62197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9" name=""/>
          <p:cNvSpPr/>
          <p:nvPr/>
        </p:nvSpPr>
        <p:spPr>
          <a:xfrm>
            <a:off x="3549600" y="62611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0" name=""/>
          <p:cNvSpPr/>
          <p:nvPr/>
        </p:nvSpPr>
        <p:spPr>
          <a:xfrm>
            <a:off x="3611520" y="61531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1" name=""/>
          <p:cNvSpPr/>
          <p:nvPr/>
        </p:nvSpPr>
        <p:spPr>
          <a:xfrm>
            <a:off x="3513240" y="61516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2" name=""/>
          <p:cNvSpPr/>
          <p:nvPr/>
        </p:nvSpPr>
        <p:spPr>
          <a:xfrm>
            <a:off x="3624120" y="62388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3" name=""/>
          <p:cNvSpPr/>
          <p:nvPr/>
        </p:nvSpPr>
        <p:spPr>
          <a:xfrm>
            <a:off x="4010040" y="606888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4" name=""/>
          <p:cNvSpPr/>
          <p:nvPr/>
        </p:nvSpPr>
        <p:spPr>
          <a:xfrm>
            <a:off x="3727440" y="615456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5" name=""/>
          <p:cNvSpPr/>
          <p:nvPr/>
        </p:nvSpPr>
        <p:spPr>
          <a:xfrm>
            <a:off x="3643200" y="61135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6" name=""/>
          <p:cNvSpPr/>
          <p:nvPr/>
        </p:nvSpPr>
        <p:spPr>
          <a:xfrm>
            <a:off x="3871800" y="62308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7" name=""/>
          <p:cNvSpPr/>
          <p:nvPr/>
        </p:nvSpPr>
        <p:spPr>
          <a:xfrm>
            <a:off x="3846600" y="61023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8" name=""/>
          <p:cNvSpPr/>
          <p:nvPr/>
        </p:nvSpPr>
        <p:spPr>
          <a:xfrm>
            <a:off x="3830760" y="61977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9" name=""/>
          <p:cNvSpPr/>
          <p:nvPr/>
        </p:nvSpPr>
        <p:spPr>
          <a:xfrm>
            <a:off x="4065480" y="61707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0" name=""/>
          <p:cNvSpPr/>
          <p:nvPr/>
        </p:nvSpPr>
        <p:spPr>
          <a:xfrm>
            <a:off x="4068720" y="608472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1" name=""/>
          <p:cNvSpPr/>
          <p:nvPr/>
        </p:nvSpPr>
        <p:spPr>
          <a:xfrm>
            <a:off x="3967200" y="61689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2" name=""/>
          <p:cNvSpPr/>
          <p:nvPr/>
        </p:nvSpPr>
        <p:spPr>
          <a:xfrm>
            <a:off x="4210200" y="62467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3" name=""/>
          <p:cNvSpPr/>
          <p:nvPr/>
        </p:nvSpPr>
        <p:spPr>
          <a:xfrm>
            <a:off x="4213080" y="61610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4" name=""/>
          <p:cNvSpPr/>
          <p:nvPr/>
        </p:nvSpPr>
        <p:spPr>
          <a:xfrm>
            <a:off x="4129200" y="611964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5" name=""/>
          <p:cNvSpPr/>
          <p:nvPr/>
        </p:nvSpPr>
        <p:spPr>
          <a:xfrm>
            <a:off x="4111560" y="62452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6" name=""/>
          <p:cNvSpPr/>
          <p:nvPr/>
        </p:nvSpPr>
        <p:spPr>
          <a:xfrm>
            <a:off x="2295360" y="60580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7" name=""/>
          <p:cNvSpPr/>
          <p:nvPr/>
        </p:nvSpPr>
        <p:spPr>
          <a:xfrm>
            <a:off x="743040" y="634824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8" name=""/>
          <p:cNvSpPr/>
          <p:nvPr/>
        </p:nvSpPr>
        <p:spPr>
          <a:xfrm>
            <a:off x="777960" y="64882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9" name=""/>
          <p:cNvSpPr/>
          <p:nvPr/>
        </p:nvSpPr>
        <p:spPr>
          <a:xfrm>
            <a:off x="804960" y="62406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0" name=""/>
          <p:cNvSpPr/>
          <p:nvPr/>
        </p:nvSpPr>
        <p:spPr>
          <a:xfrm>
            <a:off x="808200" y="615456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1" name=""/>
          <p:cNvSpPr/>
          <p:nvPr/>
        </p:nvSpPr>
        <p:spPr>
          <a:xfrm>
            <a:off x="723960" y="61135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2" name=""/>
          <p:cNvSpPr/>
          <p:nvPr/>
        </p:nvSpPr>
        <p:spPr>
          <a:xfrm>
            <a:off x="636480" y="635940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3" name=""/>
          <p:cNvSpPr/>
          <p:nvPr/>
        </p:nvSpPr>
        <p:spPr>
          <a:xfrm>
            <a:off x="706320" y="62388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4" name=""/>
          <p:cNvSpPr/>
          <p:nvPr/>
        </p:nvSpPr>
        <p:spPr>
          <a:xfrm>
            <a:off x="792000" y="66452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5" name=""/>
          <p:cNvSpPr/>
          <p:nvPr/>
        </p:nvSpPr>
        <p:spPr>
          <a:xfrm>
            <a:off x="693720" y="664992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6" name=""/>
          <p:cNvSpPr/>
          <p:nvPr/>
        </p:nvSpPr>
        <p:spPr>
          <a:xfrm>
            <a:off x="826920" y="65548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7" name=""/>
          <p:cNvSpPr/>
          <p:nvPr/>
        </p:nvSpPr>
        <p:spPr>
          <a:xfrm>
            <a:off x="676440" y="651816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8" name=""/>
          <p:cNvSpPr/>
          <p:nvPr/>
        </p:nvSpPr>
        <p:spPr>
          <a:xfrm>
            <a:off x="795240" y="638316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9" name=""/>
          <p:cNvSpPr/>
          <p:nvPr/>
        </p:nvSpPr>
        <p:spPr>
          <a:xfrm>
            <a:off x="887400" y="64245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0" name=""/>
          <p:cNvSpPr/>
          <p:nvPr/>
        </p:nvSpPr>
        <p:spPr>
          <a:xfrm>
            <a:off x="922320" y="65642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1" name=""/>
          <p:cNvSpPr/>
          <p:nvPr/>
        </p:nvSpPr>
        <p:spPr>
          <a:xfrm>
            <a:off x="949320" y="63165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2" name=""/>
          <p:cNvSpPr/>
          <p:nvPr/>
        </p:nvSpPr>
        <p:spPr>
          <a:xfrm>
            <a:off x="952560" y="62308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3" name=""/>
          <p:cNvSpPr/>
          <p:nvPr/>
        </p:nvSpPr>
        <p:spPr>
          <a:xfrm>
            <a:off x="851040" y="63151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4" name=""/>
          <p:cNvSpPr/>
          <p:nvPr/>
        </p:nvSpPr>
        <p:spPr>
          <a:xfrm>
            <a:off x="927000" y="61023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5" name=""/>
          <p:cNvSpPr/>
          <p:nvPr/>
        </p:nvSpPr>
        <p:spPr>
          <a:xfrm>
            <a:off x="925560" y="66708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6" name=""/>
          <p:cNvSpPr/>
          <p:nvPr/>
        </p:nvSpPr>
        <p:spPr>
          <a:xfrm>
            <a:off x="939960" y="64594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7" name=""/>
          <p:cNvSpPr/>
          <p:nvPr/>
        </p:nvSpPr>
        <p:spPr>
          <a:xfrm>
            <a:off x="1973160" y="62071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8" name=""/>
          <p:cNvSpPr/>
          <p:nvPr/>
        </p:nvSpPr>
        <p:spPr>
          <a:xfrm>
            <a:off x="2008080" y="63468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9" name=""/>
          <p:cNvSpPr/>
          <p:nvPr/>
        </p:nvSpPr>
        <p:spPr>
          <a:xfrm>
            <a:off x="2035080" y="60991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0" name=""/>
          <p:cNvSpPr/>
          <p:nvPr/>
        </p:nvSpPr>
        <p:spPr>
          <a:xfrm>
            <a:off x="1936800" y="60976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1" name=""/>
          <p:cNvSpPr/>
          <p:nvPr/>
        </p:nvSpPr>
        <p:spPr>
          <a:xfrm>
            <a:off x="2031840" y="664992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2" name=""/>
          <p:cNvSpPr/>
          <p:nvPr/>
        </p:nvSpPr>
        <p:spPr>
          <a:xfrm>
            <a:off x="1927080" y="65721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3" name=""/>
          <p:cNvSpPr/>
          <p:nvPr/>
        </p:nvSpPr>
        <p:spPr>
          <a:xfrm>
            <a:off x="1998720" y="657684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4" name=""/>
          <p:cNvSpPr/>
          <p:nvPr/>
        </p:nvSpPr>
        <p:spPr>
          <a:xfrm>
            <a:off x="2022480" y="65041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5" name=""/>
          <p:cNvSpPr/>
          <p:nvPr/>
        </p:nvSpPr>
        <p:spPr>
          <a:xfrm>
            <a:off x="1955880" y="64612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6" name=""/>
          <p:cNvSpPr/>
          <p:nvPr/>
        </p:nvSpPr>
        <p:spPr>
          <a:xfrm>
            <a:off x="2057400" y="64134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7" name=""/>
          <p:cNvSpPr/>
          <p:nvPr/>
        </p:nvSpPr>
        <p:spPr>
          <a:xfrm>
            <a:off x="2025720" y="62420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8" name=""/>
          <p:cNvSpPr/>
          <p:nvPr/>
        </p:nvSpPr>
        <p:spPr>
          <a:xfrm>
            <a:off x="2117880" y="62834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9" name=""/>
          <p:cNvSpPr/>
          <p:nvPr/>
        </p:nvSpPr>
        <p:spPr>
          <a:xfrm>
            <a:off x="2152800" y="64231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0" name=""/>
          <p:cNvSpPr/>
          <p:nvPr/>
        </p:nvSpPr>
        <p:spPr>
          <a:xfrm>
            <a:off x="2179800" y="61754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1" name=""/>
          <p:cNvSpPr/>
          <p:nvPr/>
        </p:nvSpPr>
        <p:spPr>
          <a:xfrm>
            <a:off x="2182680" y="60897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2" name=""/>
          <p:cNvSpPr/>
          <p:nvPr/>
        </p:nvSpPr>
        <p:spPr>
          <a:xfrm>
            <a:off x="2081160" y="617364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3" name=""/>
          <p:cNvSpPr/>
          <p:nvPr/>
        </p:nvSpPr>
        <p:spPr>
          <a:xfrm>
            <a:off x="1638360" y="63961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4" name=""/>
          <p:cNvSpPr/>
          <p:nvPr/>
        </p:nvSpPr>
        <p:spPr>
          <a:xfrm>
            <a:off x="2143080" y="66531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5" name=""/>
          <p:cNvSpPr/>
          <p:nvPr/>
        </p:nvSpPr>
        <p:spPr>
          <a:xfrm>
            <a:off x="2166840" y="65800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6" name=""/>
          <p:cNvSpPr/>
          <p:nvPr/>
        </p:nvSpPr>
        <p:spPr>
          <a:xfrm>
            <a:off x="2068560" y="65851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7" name=""/>
          <p:cNvSpPr/>
          <p:nvPr/>
        </p:nvSpPr>
        <p:spPr>
          <a:xfrm>
            <a:off x="2170080" y="63183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8" name=""/>
          <p:cNvSpPr/>
          <p:nvPr/>
        </p:nvSpPr>
        <p:spPr>
          <a:xfrm>
            <a:off x="1084320" y="627840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9" name=""/>
          <p:cNvSpPr/>
          <p:nvPr/>
        </p:nvSpPr>
        <p:spPr>
          <a:xfrm>
            <a:off x="1119240" y="64184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0" name=""/>
          <p:cNvSpPr/>
          <p:nvPr/>
        </p:nvSpPr>
        <p:spPr>
          <a:xfrm>
            <a:off x="1146240" y="61707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1" name=""/>
          <p:cNvSpPr/>
          <p:nvPr/>
        </p:nvSpPr>
        <p:spPr>
          <a:xfrm>
            <a:off x="1149480" y="608472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2" name=""/>
          <p:cNvSpPr/>
          <p:nvPr/>
        </p:nvSpPr>
        <p:spPr>
          <a:xfrm>
            <a:off x="1047600" y="61689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3" name=""/>
          <p:cNvSpPr/>
          <p:nvPr/>
        </p:nvSpPr>
        <p:spPr>
          <a:xfrm>
            <a:off x="1038240" y="66438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4" name=""/>
          <p:cNvSpPr/>
          <p:nvPr/>
        </p:nvSpPr>
        <p:spPr>
          <a:xfrm>
            <a:off x="1109520" y="66484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5" name=""/>
          <p:cNvSpPr/>
          <p:nvPr/>
        </p:nvSpPr>
        <p:spPr>
          <a:xfrm>
            <a:off x="1133640" y="65754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6" name=""/>
          <p:cNvSpPr/>
          <p:nvPr/>
        </p:nvSpPr>
        <p:spPr>
          <a:xfrm>
            <a:off x="1035000" y="65800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7" name=""/>
          <p:cNvSpPr/>
          <p:nvPr/>
        </p:nvSpPr>
        <p:spPr>
          <a:xfrm>
            <a:off x="1168560" y="64850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8" name=""/>
          <p:cNvSpPr/>
          <p:nvPr/>
        </p:nvSpPr>
        <p:spPr>
          <a:xfrm>
            <a:off x="1017720" y="63817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9" name=""/>
          <p:cNvSpPr/>
          <p:nvPr/>
        </p:nvSpPr>
        <p:spPr>
          <a:xfrm>
            <a:off x="1136520" y="631332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0" name=""/>
          <p:cNvSpPr/>
          <p:nvPr/>
        </p:nvSpPr>
        <p:spPr>
          <a:xfrm>
            <a:off x="1228680" y="63547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1" name=""/>
          <p:cNvSpPr/>
          <p:nvPr/>
        </p:nvSpPr>
        <p:spPr>
          <a:xfrm>
            <a:off x="1263600" y="64944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2" name=""/>
          <p:cNvSpPr/>
          <p:nvPr/>
        </p:nvSpPr>
        <p:spPr>
          <a:xfrm>
            <a:off x="1290600" y="62467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3" name=""/>
          <p:cNvSpPr/>
          <p:nvPr/>
        </p:nvSpPr>
        <p:spPr>
          <a:xfrm>
            <a:off x="1293840" y="61610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4" name=""/>
          <p:cNvSpPr/>
          <p:nvPr/>
        </p:nvSpPr>
        <p:spPr>
          <a:xfrm>
            <a:off x="1192320" y="62452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5" name=""/>
          <p:cNvSpPr/>
          <p:nvPr/>
        </p:nvSpPr>
        <p:spPr>
          <a:xfrm>
            <a:off x="1278000" y="66517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6" name=""/>
          <p:cNvSpPr/>
          <p:nvPr/>
        </p:nvSpPr>
        <p:spPr>
          <a:xfrm>
            <a:off x="1179360" y="66564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7" name=""/>
          <p:cNvSpPr/>
          <p:nvPr/>
        </p:nvSpPr>
        <p:spPr>
          <a:xfrm>
            <a:off x="1303200" y="633240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8" name=""/>
          <p:cNvSpPr/>
          <p:nvPr/>
        </p:nvSpPr>
        <p:spPr>
          <a:xfrm>
            <a:off x="1341360" y="64422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9" name=""/>
          <p:cNvSpPr/>
          <p:nvPr/>
        </p:nvSpPr>
        <p:spPr>
          <a:xfrm>
            <a:off x="1376280" y="65818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0" name=""/>
          <p:cNvSpPr/>
          <p:nvPr/>
        </p:nvSpPr>
        <p:spPr>
          <a:xfrm>
            <a:off x="1403280" y="63342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1" name=""/>
          <p:cNvSpPr/>
          <p:nvPr/>
        </p:nvSpPr>
        <p:spPr>
          <a:xfrm>
            <a:off x="1406520" y="62485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2" name=""/>
          <p:cNvSpPr/>
          <p:nvPr/>
        </p:nvSpPr>
        <p:spPr>
          <a:xfrm>
            <a:off x="1322280" y="62071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3" name=""/>
          <p:cNvSpPr/>
          <p:nvPr/>
        </p:nvSpPr>
        <p:spPr>
          <a:xfrm>
            <a:off x="1380960" y="611964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4" name=""/>
          <p:cNvSpPr/>
          <p:nvPr/>
        </p:nvSpPr>
        <p:spPr>
          <a:xfrm>
            <a:off x="1425600" y="66484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5" name=""/>
          <p:cNvSpPr/>
          <p:nvPr/>
        </p:nvSpPr>
        <p:spPr>
          <a:xfrm>
            <a:off x="1512720" y="64627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6" name=""/>
          <p:cNvSpPr/>
          <p:nvPr/>
        </p:nvSpPr>
        <p:spPr>
          <a:xfrm>
            <a:off x="1486080" y="651816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7" name=""/>
          <p:cNvSpPr/>
          <p:nvPr/>
        </p:nvSpPr>
        <p:spPr>
          <a:xfrm>
            <a:off x="1521000" y="665784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8" name=""/>
          <p:cNvSpPr/>
          <p:nvPr/>
        </p:nvSpPr>
        <p:spPr>
          <a:xfrm>
            <a:off x="1547640" y="641016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9" name=""/>
          <p:cNvSpPr/>
          <p:nvPr/>
        </p:nvSpPr>
        <p:spPr>
          <a:xfrm>
            <a:off x="1550880" y="632448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0" name=""/>
          <p:cNvSpPr/>
          <p:nvPr/>
        </p:nvSpPr>
        <p:spPr>
          <a:xfrm>
            <a:off x="1449360" y="64087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1" name=""/>
          <p:cNvSpPr/>
          <p:nvPr/>
        </p:nvSpPr>
        <p:spPr>
          <a:xfrm>
            <a:off x="1525680" y="61959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2" name=""/>
          <p:cNvSpPr/>
          <p:nvPr/>
        </p:nvSpPr>
        <p:spPr>
          <a:xfrm>
            <a:off x="1581120" y="61009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3" name=""/>
          <p:cNvSpPr/>
          <p:nvPr/>
        </p:nvSpPr>
        <p:spPr>
          <a:xfrm>
            <a:off x="1538280" y="655308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4" name=""/>
          <p:cNvSpPr/>
          <p:nvPr/>
        </p:nvSpPr>
        <p:spPr>
          <a:xfrm>
            <a:off x="1509840" y="62913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5" name=""/>
          <p:cNvSpPr/>
          <p:nvPr/>
        </p:nvSpPr>
        <p:spPr>
          <a:xfrm>
            <a:off x="1717560" y="65120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6" name=""/>
          <p:cNvSpPr/>
          <p:nvPr/>
        </p:nvSpPr>
        <p:spPr>
          <a:xfrm>
            <a:off x="1744560" y="62643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7" name=""/>
          <p:cNvSpPr/>
          <p:nvPr/>
        </p:nvSpPr>
        <p:spPr>
          <a:xfrm>
            <a:off x="1747800" y="61786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8" name=""/>
          <p:cNvSpPr/>
          <p:nvPr/>
        </p:nvSpPr>
        <p:spPr>
          <a:xfrm>
            <a:off x="1663560" y="61372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9" name=""/>
          <p:cNvSpPr/>
          <p:nvPr/>
        </p:nvSpPr>
        <p:spPr>
          <a:xfrm>
            <a:off x="1646280" y="626256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0" name=""/>
          <p:cNvSpPr/>
          <p:nvPr/>
        </p:nvSpPr>
        <p:spPr>
          <a:xfrm>
            <a:off x="1731960" y="66690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1" name=""/>
          <p:cNvSpPr/>
          <p:nvPr/>
        </p:nvSpPr>
        <p:spPr>
          <a:xfrm>
            <a:off x="1633680" y="667368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2" name=""/>
          <p:cNvSpPr/>
          <p:nvPr/>
        </p:nvSpPr>
        <p:spPr>
          <a:xfrm>
            <a:off x="1766880" y="65786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3" name=""/>
          <p:cNvSpPr/>
          <p:nvPr/>
        </p:nvSpPr>
        <p:spPr>
          <a:xfrm>
            <a:off x="1616040" y="64753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4" name=""/>
          <p:cNvSpPr/>
          <p:nvPr/>
        </p:nvSpPr>
        <p:spPr>
          <a:xfrm>
            <a:off x="1735200" y="64072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5" name=""/>
          <p:cNvSpPr/>
          <p:nvPr/>
        </p:nvSpPr>
        <p:spPr>
          <a:xfrm>
            <a:off x="1827360" y="64483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6" name=""/>
          <p:cNvSpPr/>
          <p:nvPr/>
        </p:nvSpPr>
        <p:spPr>
          <a:xfrm>
            <a:off x="1862280" y="658800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7" name=""/>
          <p:cNvSpPr/>
          <p:nvPr/>
        </p:nvSpPr>
        <p:spPr>
          <a:xfrm>
            <a:off x="1889280" y="634032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8" name=""/>
          <p:cNvSpPr/>
          <p:nvPr/>
        </p:nvSpPr>
        <p:spPr>
          <a:xfrm>
            <a:off x="1892160" y="625464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9" name=""/>
          <p:cNvSpPr/>
          <p:nvPr/>
        </p:nvSpPr>
        <p:spPr>
          <a:xfrm>
            <a:off x="1808280" y="62136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0" name=""/>
          <p:cNvSpPr/>
          <p:nvPr/>
        </p:nvSpPr>
        <p:spPr>
          <a:xfrm>
            <a:off x="1790640" y="63388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1" name=""/>
          <p:cNvSpPr/>
          <p:nvPr/>
        </p:nvSpPr>
        <p:spPr>
          <a:xfrm>
            <a:off x="1866960" y="61261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2" name=""/>
          <p:cNvSpPr/>
          <p:nvPr/>
        </p:nvSpPr>
        <p:spPr>
          <a:xfrm>
            <a:off x="1933560" y="638316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3" name=""/>
          <p:cNvSpPr/>
          <p:nvPr/>
        </p:nvSpPr>
        <p:spPr>
          <a:xfrm>
            <a:off x="2284560" y="65818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4" name=""/>
          <p:cNvSpPr/>
          <p:nvPr/>
        </p:nvSpPr>
        <p:spPr>
          <a:xfrm>
            <a:off x="2238480" y="64753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5" name=""/>
          <p:cNvSpPr/>
          <p:nvPr/>
        </p:nvSpPr>
        <p:spPr>
          <a:xfrm>
            <a:off x="2305080" y="56912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6" name=""/>
          <p:cNvSpPr/>
          <p:nvPr/>
        </p:nvSpPr>
        <p:spPr>
          <a:xfrm>
            <a:off x="2406600" y="64324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7" name=""/>
          <p:cNvSpPr/>
          <p:nvPr/>
        </p:nvSpPr>
        <p:spPr>
          <a:xfrm>
            <a:off x="990720" y="552600"/>
            <a:ext cx="1698480" cy="1326960"/>
          </a:xfrm>
          <a:custGeom>
            <a:avLst/>
            <a:gdLst/>
            <a:ahLst/>
            <a:rect l="l" t="t" r="r" b="b"/>
            <a:pathLst>
              <a:path w="1178" h="1047">
                <a:moveTo>
                  <a:pt x="153" y="161"/>
                </a:moveTo>
                <a:cubicBezTo>
                  <a:pt x="4" y="294"/>
                  <a:pt x="0" y="800"/>
                  <a:pt x="143" y="925"/>
                </a:cubicBezTo>
                <a:cubicBezTo>
                  <a:pt x="280" y="1047"/>
                  <a:pt x="861" y="1043"/>
                  <a:pt x="1010" y="910"/>
                </a:cubicBezTo>
                <a:cubicBezTo>
                  <a:pt x="1159" y="777"/>
                  <a:pt x="1178" y="250"/>
                  <a:pt x="1035" y="125"/>
                </a:cubicBezTo>
                <a:cubicBezTo>
                  <a:pt x="892" y="0"/>
                  <a:pt x="302" y="28"/>
                  <a:pt x="153" y="161"/>
                </a:cubicBez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8" name=""/>
          <p:cNvSpPr/>
          <p:nvPr/>
        </p:nvSpPr>
        <p:spPr>
          <a:xfrm>
            <a:off x="1231920" y="2178000"/>
            <a:ext cx="1363680" cy="1013040"/>
          </a:xfrm>
          <a:custGeom>
            <a:avLst/>
            <a:gdLst/>
            <a:ahLst/>
            <a:rect l="l" t="t" r="r" b="b"/>
            <a:pathLst>
              <a:path w="859" h="638">
                <a:moveTo>
                  <a:pt x="85" y="18"/>
                </a:moveTo>
                <a:cubicBezTo>
                  <a:pt x="41" y="42"/>
                  <a:pt x="11" y="84"/>
                  <a:pt x="9" y="141"/>
                </a:cubicBezTo>
                <a:cubicBezTo>
                  <a:pt x="7" y="198"/>
                  <a:pt x="74" y="317"/>
                  <a:pt x="73" y="362"/>
                </a:cubicBezTo>
                <a:cubicBezTo>
                  <a:pt x="72" y="407"/>
                  <a:pt x="0" y="383"/>
                  <a:pt x="0" y="412"/>
                </a:cubicBezTo>
                <a:cubicBezTo>
                  <a:pt x="0" y="441"/>
                  <a:pt x="30" y="525"/>
                  <a:pt x="75" y="535"/>
                </a:cubicBezTo>
                <a:cubicBezTo>
                  <a:pt x="120" y="545"/>
                  <a:pt x="197" y="454"/>
                  <a:pt x="273" y="470"/>
                </a:cubicBezTo>
                <a:cubicBezTo>
                  <a:pt x="349" y="486"/>
                  <a:pt x="476" y="630"/>
                  <a:pt x="529" y="634"/>
                </a:cubicBezTo>
                <a:cubicBezTo>
                  <a:pt x="582" y="638"/>
                  <a:pt x="553" y="502"/>
                  <a:pt x="591" y="491"/>
                </a:cubicBezTo>
                <a:cubicBezTo>
                  <a:pt x="629" y="480"/>
                  <a:pt x="730" y="594"/>
                  <a:pt x="760" y="568"/>
                </a:cubicBezTo>
                <a:cubicBezTo>
                  <a:pt x="790" y="542"/>
                  <a:pt x="758" y="399"/>
                  <a:pt x="771" y="334"/>
                </a:cubicBezTo>
                <a:cubicBezTo>
                  <a:pt x="784" y="269"/>
                  <a:pt x="859" y="213"/>
                  <a:pt x="837" y="178"/>
                </a:cubicBezTo>
                <a:cubicBezTo>
                  <a:pt x="815" y="143"/>
                  <a:pt x="683" y="150"/>
                  <a:pt x="637" y="121"/>
                </a:cubicBezTo>
                <a:cubicBezTo>
                  <a:pt x="591" y="92"/>
                  <a:pt x="613" y="8"/>
                  <a:pt x="562" y="4"/>
                </a:cubicBezTo>
                <a:cubicBezTo>
                  <a:pt x="511" y="0"/>
                  <a:pt x="408" y="94"/>
                  <a:pt x="329" y="96"/>
                </a:cubicBezTo>
                <a:cubicBezTo>
                  <a:pt x="250" y="98"/>
                  <a:pt x="136" y="34"/>
                  <a:pt x="85" y="18"/>
                </a:cubicBez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9" name=""/>
          <p:cNvSpPr/>
          <p:nvPr/>
        </p:nvSpPr>
        <p:spPr>
          <a:xfrm>
            <a:off x="1006560" y="5573880"/>
            <a:ext cx="1528560" cy="1123920"/>
          </a:xfrm>
          <a:custGeom>
            <a:avLst/>
            <a:gdLst/>
            <a:ahLst/>
            <a:rect l="l" t="t" r="r" b="b"/>
            <a:pathLst>
              <a:path w="1178" h="1047">
                <a:moveTo>
                  <a:pt x="153" y="161"/>
                </a:moveTo>
                <a:cubicBezTo>
                  <a:pt x="4" y="294"/>
                  <a:pt x="0" y="800"/>
                  <a:pt x="143" y="925"/>
                </a:cubicBezTo>
                <a:cubicBezTo>
                  <a:pt x="280" y="1047"/>
                  <a:pt x="861" y="1043"/>
                  <a:pt x="1010" y="910"/>
                </a:cubicBezTo>
                <a:cubicBezTo>
                  <a:pt x="1159" y="777"/>
                  <a:pt x="1178" y="250"/>
                  <a:pt x="1035" y="125"/>
                </a:cubicBezTo>
                <a:cubicBezTo>
                  <a:pt x="892" y="0"/>
                  <a:pt x="302" y="28"/>
                  <a:pt x="153" y="161"/>
                </a:cubicBez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0" name=""/>
          <p:cNvSpPr/>
          <p:nvPr/>
        </p:nvSpPr>
        <p:spPr>
          <a:xfrm>
            <a:off x="1141560" y="3782880"/>
            <a:ext cx="1363680" cy="1013040"/>
          </a:xfrm>
          <a:custGeom>
            <a:avLst/>
            <a:gdLst/>
            <a:ahLst/>
            <a:rect l="l" t="t" r="r" b="b"/>
            <a:pathLst>
              <a:path w="859" h="638">
                <a:moveTo>
                  <a:pt x="85" y="18"/>
                </a:moveTo>
                <a:cubicBezTo>
                  <a:pt x="41" y="42"/>
                  <a:pt x="11" y="84"/>
                  <a:pt x="9" y="141"/>
                </a:cubicBezTo>
                <a:cubicBezTo>
                  <a:pt x="7" y="198"/>
                  <a:pt x="74" y="317"/>
                  <a:pt x="73" y="362"/>
                </a:cubicBezTo>
                <a:cubicBezTo>
                  <a:pt x="72" y="407"/>
                  <a:pt x="0" y="383"/>
                  <a:pt x="0" y="412"/>
                </a:cubicBezTo>
                <a:cubicBezTo>
                  <a:pt x="0" y="441"/>
                  <a:pt x="30" y="525"/>
                  <a:pt x="75" y="535"/>
                </a:cubicBezTo>
                <a:cubicBezTo>
                  <a:pt x="120" y="545"/>
                  <a:pt x="197" y="454"/>
                  <a:pt x="273" y="470"/>
                </a:cubicBezTo>
                <a:cubicBezTo>
                  <a:pt x="349" y="486"/>
                  <a:pt x="476" y="630"/>
                  <a:pt x="529" y="634"/>
                </a:cubicBezTo>
                <a:cubicBezTo>
                  <a:pt x="582" y="638"/>
                  <a:pt x="553" y="502"/>
                  <a:pt x="591" y="491"/>
                </a:cubicBezTo>
                <a:cubicBezTo>
                  <a:pt x="629" y="480"/>
                  <a:pt x="730" y="594"/>
                  <a:pt x="760" y="568"/>
                </a:cubicBezTo>
                <a:cubicBezTo>
                  <a:pt x="790" y="542"/>
                  <a:pt x="758" y="399"/>
                  <a:pt x="771" y="334"/>
                </a:cubicBezTo>
                <a:cubicBezTo>
                  <a:pt x="784" y="269"/>
                  <a:pt x="859" y="213"/>
                  <a:pt x="837" y="178"/>
                </a:cubicBezTo>
                <a:cubicBezTo>
                  <a:pt x="815" y="143"/>
                  <a:pt x="683" y="150"/>
                  <a:pt x="637" y="121"/>
                </a:cubicBezTo>
                <a:cubicBezTo>
                  <a:pt x="591" y="92"/>
                  <a:pt x="613" y="8"/>
                  <a:pt x="562" y="4"/>
                </a:cubicBezTo>
                <a:cubicBezTo>
                  <a:pt x="511" y="0"/>
                  <a:pt x="408" y="94"/>
                  <a:pt x="329" y="96"/>
                </a:cubicBezTo>
                <a:cubicBezTo>
                  <a:pt x="250" y="98"/>
                  <a:pt x="136" y="34"/>
                  <a:pt x="85" y="18"/>
                </a:cubicBez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1" name=""/>
          <p:cNvSpPr/>
          <p:nvPr/>
        </p:nvSpPr>
        <p:spPr>
          <a:xfrm>
            <a:off x="1765440" y="39988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2" name=""/>
          <p:cNvSpPr/>
          <p:nvPr/>
        </p:nvSpPr>
        <p:spPr>
          <a:xfrm>
            <a:off x="1386000" y="39466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3" name=""/>
          <p:cNvSpPr/>
          <p:nvPr/>
        </p:nvSpPr>
        <p:spPr>
          <a:xfrm>
            <a:off x="1406520" y="41544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4" name=""/>
          <p:cNvSpPr/>
          <p:nvPr/>
        </p:nvSpPr>
        <p:spPr>
          <a:xfrm>
            <a:off x="2340000" y="42591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5" name=""/>
          <p:cNvSpPr/>
          <p:nvPr/>
        </p:nvSpPr>
        <p:spPr>
          <a:xfrm>
            <a:off x="1935000" y="42703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6" name=""/>
          <p:cNvSpPr/>
          <p:nvPr/>
        </p:nvSpPr>
        <p:spPr>
          <a:xfrm>
            <a:off x="2120760" y="44560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7" name=""/>
          <p:cNvSpPr/>
          <p:nvPr/>
        </p:nvSpPr>
        <p:spPr>
          <a:xfrm>
            <a:off x="2170080" y="45226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8" name=""/>
          <p:cNvSpPr/>
          <p:nvPr/>
        </p:nvSpPr>
        <p:spPr>
          <a:xfrm>
            <a:off x="2138400" y="43513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9" name=""/>
          <p:cNvSpPr/>
          <p:nvPr/>
        </p:nvSpPr>
        <p:spPr>
          <a:xfrm>
            <a:off x="2230560" y="43927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0" name=""/>
          <p:cNvSpPr/>
          <p:nvPr/>
        </p:nvSpPr>
        <p:spPr>
          <a:xfrm>
            <a:off x="2265480" y="45324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1" name=""/>
          <p:cNvSpPr/>
          <p:nvPr/>
        </p:nvSpPr>
        <p:spPr>
          <a:xfrm>
            <a:off x="2292480" y="42847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2" name=""/>
          <p:cNvSpPr/>
          <p:nvPr/>
        </p:nvSpPr>
        <p:spPr>
          <a:xfrm>
            <a:off x="2065320" y="42069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3" name=""/>
          <p:cNvSpPr/>
          <p:nvPr/>
        </p:nvSpPr>
        <p:spPr>
          <a:xfrm>
            <a:off x="2282760" y="44276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4" name=""/>
          <p:cNvSpPr/>
          <p:nvPr/>
        </p:nvSpPr>
        <p:spPr>
          <a:xfrm>
            <a:off x="1857240" y="43736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5" name=""/>
          <p:cNvSpPr/>
          <p:nvPr/>
        </p:nvSpPr>
        <p:spPr>
          <a:xfrm>
            <a:off x="1860480" y="42879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6" name=""/>
          <p:cNvSpPr/>
          <p:nvPr/>
        </p:nvSpPr>
        <p:spPr>
          <a:xfrm>
            <a:off x="1776240" y="42465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7" name=""/>
          <p:cNvSpPr/>
          <p:nvPr/>
        </p:nvSpPr>
        <p:spPr>
          <a:xfrm>
            <a:off x="1758960" y="437184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8" name=""/>
          <p:cNvSpPr/>
          <p:nvPr/>
        </p:nvSpPr>
        <p:spPr>
          <a:xfrm>
            <a:off x="1847880" y="45165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9" name=""/>
          <p:cNvSpPr/>
          <p:nvPr/>
        </p:nvSpPr>
        <p:spPr>
          <a:xfrm>
            <a:off x="1868400" y="44308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0" name=""/>
          <p:cNvSpPr/>
          <p:nvPr/>
        </p:nvSpPr>
        <p:spPr>
          <a:xfrm>
            <a:off x="2001960" y="444960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1" name=""/>
          <p:cNvSpPr/>
          <p:nvPr/>
        </p:nvSpPr>
        <p:spPr>
          <a:xfrm>
            <a:off x="2004840" y="436392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2" name=""/>
          <p:cNvSpPr/>
          <p:nvPr/>
        </p:nvSpPr>
        <p:spPr>
          <a:xfrm>
            <a:off x="1920960" y="43228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3" name=""/>
          <p:cNvSpPr/>
          <p:nvPr/>
        </p:nvSpPr>
        <p:spPr>
          <a:xfrm>
            <a:off x="1374840" y="40878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4" name=""/>
          <p:cNvSpPr/>
          <p:nvPr/>
        </p:nvSpPr>
        <p:spPr>
          <a:xfrm>
            <a:off x="1979640" y="42354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5" name=""/>
          <p:cNvSpPr/>
          <p:nvPr/>
        </p:nvSpPr>
        <p:spPr>
          <a:xfrm>
            <a:off x="2055960" y="44640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6" name=""/>
          <p:cNvSpPr/>
          <p:nvPr/>
        </p:nvSpPr>
        <p:spPr>
          <a:xfrm>
            <a:off x="2004840" y="39481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7" name=""/>
          <p:cNvSpPr/>
          <p:nvPr/>
        </p:nvSpPr>
        <p:spPr>
          <a:xfrm>
            <a:off x="1695600" y="40942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8" name=""/>
          <p:cNvSpPr/>
          <p:nvPr/>
        </p:nvSpPr>
        <p:spPr>
          <a:xfrm>
            <a:off x="1206360" y="44467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9" name=""/>
          <p:cNvSpPr/>
          <p:nvPr/>
        </p:nvSpPr>
        <p:spPr>
          <a:xfrm>
            <a:off x="1498680" y="40417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0" name=""/>
          <p:cNvSpPr/>
          <p:nvPr/>
        </p:nvSpPr>
        <p:spPr>
          <a:xfrm>
            <a:off x="1747800" y="41292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1" name=""/>
          <p:cNvSpPr/>
          <p:nvPr/>
        </p:nvSpPr>
        <p:spPr>
          <a:xfrm>
            <a:off x="1839960" y="417024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2" name=""/>
          <p:cNvSpPr/>
          <p:nvPr/>
        </p:nvSpPr>
        <p:spPr>
          <a:xfrm>
            <a:off x="1233360" y="396540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3" name=""/>
          <p:cNvSpPr/>
          <p:nvPr/>
        </p:nvSpPr>
        <p:spPr>
          <a:xfrm>
            <a:off x="1901880" y="406224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4" name=""/>
          <p:cNvSpPr/>
          <p:nvPr/>
        </p:nvSpPr>
        <p:spPr>
          <a:xfrm>
            <a:off x="1803240" y="40608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5" name=""/>
          <p:cNvSpPr/>
          <p:nvPr/>
        </p:nvSpPr>
        <p:spPr>
          <a:xfrm>
            <a:off x="1766880" y="446868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6" name=""/>
          <p:cNvSpPr/>
          <p:nvPr/>
        </p:nvSpPr>
        <p:spPr>
          <a:xfrm>
            <a:off x="1467000" y="415116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7" name=""/>
          <p:cNvSpPr/>
          <p:nvPr/>
        </p:nvSpPr>
        <p:spPr>
          <a:xfrm>
            <a:off x="1469880" y="40654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8" name=""/>
          <p:cNvSpPr/>
          <p:nvPr/>
        </p:nvSpPr>
        <p:spPr>
          <a:xfrm>
            <a:off x="1386000" y="40244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9" name=""/>
          <p:cNvSpPr/>
          <p:nvPr/>
        </p:nvSpPr>
        <p:spPr>
          <a:xfrm>
            <a:off x="1368360" y="41497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0" name=""/>
          <p:cNvSpPr/>
          <p:nvPr/>
        </p:nvSpPr>
        <p:spPr>
          <a:xfrm>
            <a:off x="1457280" y="42940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1" name=""/>
          <p:cNvSpPr/>
          <p:nvPr/>
        </p:nvSpPr>
        <p:spPr>
          <a:xfrm>
            <a:off x="1392120" y="443376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2" name=""/>
          <p:cNvSpPr/>
          <p:nvPr/>
        </p:nvSpPr>
        <p:spPr>
          <a:xfrm>
            <a:off x="1611360" y="42274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3" name=""/>
          <p:cNvSpPr/>
          <p:nvPr/>
        </p:nvSpPr>
        <p:spPr>
          <a:xfrm>
            <a:off x="1547640" y="41673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4" name=""/>
          <p:cNvSpPr/>
          <p:nvPr/>
        </p:nvSpPr>
        <p:spPr>
          <a:xfrm>
            <a:off x="1530360" y="410040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5" name=""/>
          <p:cNvSpPr/>
          <p:nvPr/>
        </p:nvSpPr>
        <p:spPr>
          <a:xfrm>
            <a:off x="1512720" y="42260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6" name=""/>
          <p:cNvSpPr/>
          <p:nvPr/>
        </p:nvSpPr>
        <p:spPr>
          <a:xfrm>
            <a:off x="1589040" y="40132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7" name=""/>
          <p:cNvSpPr/>
          <p:nvPr/>
        </p:nvSpPr>
        <p:spPr>
          <a:xfrm>
            <a:off x="1660680" y="44276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8" name=""/>
          <p:cNvSpPr/>
          <p:nvPr/>
        </p:nvSpPr>
        <p:spPr>
          <a:xfrm>
            <a:off x="1789200" y="41752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9" name=""/>
          <p:cNvSpPr/>
          <p:nvPr/>
        </p:nvSpPr>
        <p:spPr>
          <a:xfrm>
            <a:off x="1535040" y="423216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0" name=""/>
          <p:cNvSpPr/>
          <p:nvPr/>
        </p:nvSpPr>
        <p:spPr>
          <a:xfrm>
            <a:off x="1569960" y="437184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1" name=""/>
          <p:cNvSpPr/>
          <p:nvPr/>
        </p:nvSpPr>
        <p:spPr>
          <a:xfrm>
            <a:off x="1333440" y="44784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2" name=""/>
          <p:cNvSpPr/>
          <p:nvPr/>
        </p:nvSpPr>
        <p:spPr>
          <a:xfrm>
            <a:off x="1889280" y="46324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3" name=""/>
          <p:cNvSpPr/>
          <p:nvPr/>
        </p:nvSpPr>
        <p:spPr>
          <a:xfrm>
            <a:off x="1679400" y="4308480"/>
            <a:ext cx="3528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4" name=""/>
          <p:cNvSpPr/>
          <p:nvPr/>
        </p:nvSpPr>
        <p:spPr>
          <a:xfrm>
            <a:off x="1714680" y="44481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5" name=""/>
          <p:cNvSpPr/>
          <p:nvPr/>
        </p:nvSpPr>
        <p:spPr>
          <a:xfrm>
            <a:off x="1339920" y="39322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6" name=""/>
          <p:cNvSpPr/>
          <p:nvPr/>
        </p:nvSpPr>
        <p:spPr>
          <a:xfrm>
            <a:off x="1643040" y="41990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7" name=""/>
          <p:cNvSpPr/>
          <p:nvPr/>
        </p:nvSpPr>
        <p:spPr>
          <a:xfrm>
            <a:off x="1731960" y="43434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8" name=""/>
          <p:cNvSpPr/>
          <p:nvPr/>
        </p:nvSpPr>
        <p:spPr>
          <a:xfrm>
            <a:off x="1347840" y="42861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9" name=""/>
          <p:cNvSpPr/>
          <p:nvPr/>
        </p:nvSpPr>
        <p:spPr>
          <a:xfrm>
            <a:off x="1309680" y="42037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0" name=""/>
          <p:cNvSpPr/>
          <p:nvPr/>
        </p:nvSpPr>
        <p:spPr>
          <a:xfrm>
            <a:off x="1225440" y="41623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1" name=""/>
          <p:cNvSpPr/>
          <p:nvPr/>
        </p:nvSpPr>
        <p:spPr>
          <a:xfrm>
            <a:off x="1208160" y="42879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2" name=""/>
          <p:cNvSpPr/>
          <p:nvPr/>
        </p:nvSpPr>
        <p:spPr>
          <a:xfrm>
            <a:off x="1297080" y="44323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3" name=""/>
          <p:cNvSpPr/>
          <p:nvPr/>
        </p:nvSpPr>
        <p:spPr>
          <a:xfrm>
            <a:off x="1389240" y="44737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4" name=""/>
          <p:cNvSpPr/>
          <p:nvPr/>
        </p:nvSpPr>
        <p:spPr>
          <a:xfrm>
            <a:off x="1450800" y="4365720"/>
            <a:ext cx="3528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5" name=""/>
          <p:cNvSpPr/>
          <p:nvPr/>
        </p:nvSpPr>
        <p:spPr>
          <a:xfrm>
            <a:off x="1454040" y="42800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6" name=""/>
          <p:cNvSpPr/>
          <p:nvPr/>
        </p:nvSpPr>
        <p:spPr>
          <a:xfrm>
            <a:off x="1370160" y="42386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7" name=""/>
          <p:cNvSpPr/>
          <p:nvPr/>
        </p:nvSpPr>
        <p:spPr>
          <a:xfrm>
            <a:off x="1352520" y="436392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8" name=""/>
          <p:cNvSpPr/>
          <p:nvPr/>
        </p:nvSpPr>
        <p:spPr>
          <a:xfrm>
            <a:off x="1457280" y="421308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9" name=""/>
          <p:cNvSpPr/>
          <p:nvPr/>
        </p:nvSpPr>
        <p:spPr>
          <a:xfrm>
            <a:off x="1495440" y="44085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0" name=""/>
          <p:cNvSpPr/>
          <p:nvPr/>
        </p:nvSpPr>
        <p:spPr>
          <a:xfrm>
            <a:off x="2146320" y="398448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1" name=""/>
          <p:cNvSpPr/>
          <p:nvPr/>
        </p:nvSpPr>
        <p:spPr>
          <a:xfrm>
            <a:off x="1978200" y="387972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2" name=""/>
          <p:cNvSpPr/>
          <p:nvPr/>
        </p:nvSpPr>
        <p:spPr>
          <a:xfrm>
            <a:off x="1927080" y="41814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3" name=""/>
          <p:cNvSpPr/>
          <p:nvPr/>
        </p:nvSpPr>
        <p:spPr>
          <a:xfrm>
            <a:off x="2217600" y="42037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4" name=""/>
          <p:cNvSpPr/>
          <p:nvPr/>
        </p:nvSpPr>
        <p:spPr>
          <a:xfrm>
            <a:off x="1944720" y="40766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5" name=""/>
          <p:cNvSpPr/>
          <p:nvPr/>
        </p:nvSpPr>
        <p:spPr>
          <a:xfrm>
            <a:off x="2119320" y="40845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6" name=""/>
          <p:cNvSpPr/>
          <p:nvPr/>
        </p:nvSpPr>
        <p:spPr>
          <a:xfrm>
            <a:off x="2000160" y="419400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7" name=""/>
          <p:cNvSpPr/>
          <p:nvPr/>
        </p:nvSpPr>
        <p:spPr>
          <a:xfrm>
            <a:off x="2098800" y="40100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8" name=""/>
          <p:cNvSpPr/>
          <p:nvPr/>
        </p:nvSpPr>
        <p:spPr>
          <a:xfrm>
            <a:off x="2000160" y="40086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9" name=""/>
          <p:cNvSpPr/>
          <p:nvPr/>
        </p:nvSpPr>
        <p:spPr>
          <a:xfrm>
            <a:off x="2089080" y="41529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0" name=""/>
          <p:cNvSpPr/>
          <p:nvPr/>
        </p:nvSpPr>
        <p:spPr>
          <a:xfrm>
            <a:off x="1663560" y="40989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1" name=""/>
          <p:cNvSpPr/>
          <p:nvPr/>
        </p:nvSpPr>
        <p:spPr>
          <a:xfrm>
            <a:off x="1666800" y="40132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2" name=""/>
          <p:cNvSpPr/>
          <p:nvPr/>
        </p:nvSpPr>
        <p:spPr>
          <a:xfrm>
            <a:off x="1582560" y="3971880"/>
            <a:ext cx="3528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3" name=""/>
          <p:cNvSpPr/>
          <p:nvPr/>
        </p:nvSpPr>
        <p:spPr>
          <a:xfrm>
            <a:off x="1565280" y="409716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4" name=""/>
          <p:cNvSpPr/>
          <p:nvPr/>
        </p:nvSpPr>
        <p:spPr>
          <a:xfrm>
            <a:off x="1654200" y="42418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5" name=""/>
          <p:cNvSpPr/>
          <p:nvPr/>
        </p:nvSpPr>
        <p:spPr>
          <a:xfrm>
            <a:off x="1746360" y="428292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6" name=""/>
          <p:cNvSpPr/>
          <p:nvPr/>
        </p:nvSpPr>
        <p:spPr>
          <a:xfrm>
            <a:off x="2255760" y="40878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7" name=""/>
          <p:cNvSpPr/>
          <p:nvPr/>
        </p:nvSpPr>
        <p:spPr>
          <a:xfrm>
            <a:off x="1940040" y="40179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8" name=""/>
          <p:cNvSpPr/>
          <p:nvPr/>
        </p:nvSpPr>
        <p:spPr>
          <a:xfrm>
            <a:off x="1424160" y="408924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9" name=""/>
          <p:cNvSpPr/>
          <p:nvPr/>
        </p:nvSpPr>
        <p:spPr>
          <a:xfrm>
            <a:off x="1709640" y="41734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0" name=""/>
          <p:cNvSpPr/>
          <p:nvPr/>
        </p:nvSpPr>
        <p:spPr>
          <a:xfrm>
            <a:off x="1785960" y="39607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1" name=""/>
          <p:cNvSpPr/>
          <p:nvPr/>
        </p:nvSpPr>
        <p:spPr>
          <a:xfrm>
            <a:off x="1887480" y="462744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2" name=""/>
          <p:cNvSpPr/>
          <p:nvPr/>
        </p:nvSpPr>
        <p:spPr>
          <a:xfrm flipH="1">
            <a:off x="2058480" y="1170000"/>
            <a:ext cx="986040" cy="3168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3" name=""/>
          <p:cNvSpPr/>
          <p:nvPr/>
        </p:nvSpPr>
        <p:spPr>
          <a:xfrm flipH="1">
            <a:off x="2046240" y="4341960"/>
            <a:ext cx="798480" cy="7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4" name=""/>
          <p:cNvSpPr/>
          <p:nvPr/>
        </p:nvSpPr>
        <p:spPr>
          <a:xfrm>
            <a:off x="2823480" y="4086360"/>
            <a:ext cx="744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5" name=""/>
          <p:cNvSpPr/>
          <p:nvPr/>
        </p:nvSpPr>
        <p:spPr>
          <a:xfrm>
            <a:off x="3010680" y="946080"/>
            <a:ext cx="744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6" name=""/>
          <p:cNvSpPr/>
          <p:nvPr/>
        </p:nvSpPr>
        <p:spPr>
          <a:xfrm>
            <a:off x="2129040" y="0"/>
            <a:ext cx="5711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a) Buňka v hypertonickém prostřed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7" name=""/>
          <p:cNvSpPr/>
          <p:nvPr/>
        </p:nvSpPr>
        <p:spPr>
          <a:xfrm>
            <a:off x="4430160" y="965160"/>
            <a:ext cx="414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Osmotický přesun vody z buň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8" name=""/>
          <p:cNvSpPr/>
          <p:nvPr/>
        </p:nvSpPr>
        <p:spPr>
          <a:xfrm>
            <a:off x="4387680" y="2568600"/>
            <a:ext cx="321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Zmenšení objemu buň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9" name=""/>
          <p:cNvSpPr/>
          <p:nvPr/>
        </p:nvSpPr>
        <p:spPr>
          <a:xfrm>
            <a:off x="4367160" y="3895560"/>
            <a:ext cx="4522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ktivní zvýšení osmotického tlak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 buňce a následný přesun vo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0" name=""/>
          <p:cNvSpPr/>
          <p:nvPr/>
        </p:nvSpPr>
        <p:spPr>
          <a:xfrm>
            <a:off x="4356000" y="5621400"/>
            <a:ext cx="428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Buněčný objem se poněkud zvýš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1" name=""/>
          <p:cNvSpPr/>
          <p:nvPr/>
        </p:nvSpPr>
        <p:spPr>
          <a:xfrm>
            <a:off x="860400" y="14256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2" name=""/>
          <p:cNvSpPr/>
          <p:nvPr/>
        </p:nvSpPr>
        <p:spPr>
          <a:xfrm>
            <a:off x="922320" y="13176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3" name=""/>
          <p:cNvSpPr/>
          <p:nvPr/>
        </p:nvSpPr>
        <p:spPr>
          <a:xfrm>
            <a:off x="777960" y="1028880"/>
            <a:ext cx="3636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4" name=""/>
          <p:cNvSpPr/>
          <p:nvPr/>
        </p:nvSpPr>
        <p:spPr>
          <a:xfrm>
            <a:off x="817560" y="241920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5" name=""/>
          <p:cNvSpPr/>
          <p:nvPr/>
        </p:nvSpPr>
        <p:spPr>
          <a:xfrm>
            <a:off x="700200" y="150480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6" name=""/>
          <p:cNvSpPr/>
          <p:nvPr/>
        </p:nvSpPr>
        <p:spPr>
          <a:xfrm>
            <a:off x="779400" y="198900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7" name=""/>
          <p:cNvSpPr/>
          <p:nvPr/>
        </p:nvSpPr>
        <p:spPr>
          <a:xfrm>
            <a:off x="754200" y="14367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8" name=""/>
          <p:cNvSpPr/>
          <p:nvPr/>
        </p:nvSpPr>
        <p:spPr>
          <a:xfrm>
            <a:off x="685800" y="1236600"/>
            <a:ext cx="3636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9" name=""/>
          <p:cNvSpPr/>
          <p:nvPr/>
        </p:nvSpPr>
        <p:spPr>
          <a:xfrm>
            <a:off x="824040" y="13161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0" name=""/>
          <p:cNvSpPr/>
          <p:nvPr/>
        </p:nvSpPr>
        <p:spPr>
          <a:xfrm>
            <a:off x="757080" y="11383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1" name=""/>
          <p:cNvSpPr/>
          <p:nvPr/>
        </p:nvSpPr>
        <p:spPr>
          <a:xfrm>
            <a:off x="900000" y="11034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2" name=""/>
          <p:cNvSpPr/>
          <p:nvPr/>
        </p:nvSpPr>
        <p:spPr>
          <a:xfrm>
            <a:off x="860400" y="10080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3" name=""/>
          <p:cNvSpPr/>
          <p:nvPr/>
        </p:nvSpPr>
        <p:spPr>
          <a:xfrm>
            <a:off x="919080" y="18684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4" name=""/>
          <p:cNvSpPr/>
          <p:nvPr/>
        </p:nvSpPr>
        <p:spPr>
          <a:xfrm>
            <a:off x="762120" y="1844640"/>
            <a:ext cx="34920" cy="302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5" name=""/>
          <p:cNvSpPr/>
          <p:nvPr/>
        </p:nvSpPr>
        <p:spPr>
          <a:xfrm>
            <a:off x="833400" y="1908000"/>
            <a:ext cx="367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6" name=""/>
          <p:cNvSpPr/>
          <p:nvPr/>
        </p:nvSpPr>
        <p:spPr>
          <a:xfrm>
            <a:off x="814320" y="17906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7" name=""/>
          <p:cNvSpPr/>
          <p:nvPr/>
        </p:nvSpPr>
        <p:spPr>
          <a:xfrm>
            <a:off x="885960" y="179532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8" name=""/>
          <p:cNvSpPr/>
          <p:nvPr/>
        </p:nvSpPr>
        <p:spPr>
          <a:xfrm>
            <a:off x="909720" y="17226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9" name=""/>
          <p:cNvSpPr/>
          <p:nvPr/>
        </p:nvSpPr>
        <p:spPr>
          <a:xfrm>
            <a:off x="712800" y="27766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0" name=""/>
          <p:cNvSpPr/>
          <p:nvPr/>
        </p:nvSpPr>
        <p:spPr>
          <a:xfrm>
            <a:off x="712800" y="1690560"/>
            <a:ext cx="34920" cy="302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1" name=""/>
          <p:cNvSpPr/>
          <p:nvPr/>
        </p:nvSpPr>
        <p:spPr>
          <a:xfrm>
            <a:off x="717480" y="177624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2" name=""/>
          <p:cNvSpPr/>
          <p:nvPr/>
        </p:nvSpPr>
        <p:spPr>
          <a:xfrm>
            <a:off x="944640" y="16318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3" name=""/>
          <p:cNvSpPr/>
          <p:nvPr/>
        </p:nvSpPr>
        <p:spPr>
          <a:xfrm>
            <a:off x="793800" y="15955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4" name=""/>
          <p:cNvSpPr/>
          <p:nvPr/>
        </p:nvSpPr>
        <p:spPr>
          <a:xfrm>
            <a:off x="912960" y="14605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5" name=""/>
          <p:cNvSpPr/>
          <p:nvPr/>
        </p:nvSpPr>
        <p:spPr>
          <a:xfrm>
            <a:off x="1004760" y="15019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6" name=""/>
          <p:cNvSpPr/>
          <p:nvPr/>
        </p:nvSpPr>
        <p:spPr>
          <a:xfrm>
            <a:off x="1039680" y="16416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7" name=""/>
          <p:cNvSpPr/>
          <p:nvPr/>
        </p:nvSpPr>
        <p:spPr>
          <a:xfrm>
            <a:off x="1066680" y="13939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8" name=""/>
          <p:cNvSpPr/>
          <p:nvPr/>
        </p:nvSpPr>
        <p:spPr>
          <a:xfrm>
            <a:off x="1069920" y="13082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9" name=""/>
          <p:cNvSpPr/>
          <p:nvPr/>
        </p:nvSpPr>
        <p:spPr>
          <a:xfrm>
            <a:off x="1481040" y="10731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0" name=""/>
          <p:cNvSpPr/>
          <p:nvPr/>
        </p:nvSpPr>
        <p:spPr>
          <a:xfrm>
            <a:off x="1060560" y="9730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1" name=""/>
          <p:cNvSpPr/>
          <p:nvPr/>
        </p:nvSpPr>
        <p:spPr>
          <a:xfrm>
            <a:off x="968400" y="139212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2" name=""/>
          <p:cNvSpPr/>
          <p:nvPr/>
        </p:nvSpPr>
        <p:spPr>
          <a:xfrm>
            <a:off x="1044720" y="117936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3" name=""/>
          <p:cNvSpPr/>
          <p:nvPr/>
        </p:nvSpPr>
        <p:spPr>
          <a:xfrm>
            <a:off x="1004760" y="10843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4" name=""/>
          <p:cNvSpPr/>
          <p:nvPr/>
        </p:nvSpPr>
        <p:spPr>
          <a:xfrm>
            <a:off x="1063800" y="19447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5" name=""/>
          <p:cNvSpPr/>
          <p:nvPr/>
        </p:nvSpPr>
        <p:spPr>
          <a:xfrm>
            <a:off x="977760" y="1984320"/>
            <a:ext cx="367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6" name=""/>
          <p:cNvSpPr/>
          <p:nvPr/>
        </p:nvSpPr>
        <p:spPr>
          <a:xfrm>
            <a:off x="1254240" y="20368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7" name=""/>
          <p:cNvSpPr/>
          <p:nvPr/>
        </p:nvSpPr>
        <p:spPr>
          <a:xfrm>
            <a:off x="1030320" y="18716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8" name=""/>
          <p:cNvSpPr/>
          <p:nvPr/>
        </p:nvSpPr>
        <p:spPr>
          <a:xfrm>
            <a:off x="1054080" y="17985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9" name=""/>
          <p:cNvSpPr/>
          <p:nvPr/>
        </p:nvSpPr>
        <p:spPr>
          <a:xfrm>
            <a:off x="1042920" y="17478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0" name=""/>
          <p:cNvSpPr/>
          <p:nvPr/>
        </p:nvSpPr>
        <p:spPr>
          <a:xfrm>
            <a:off x="1057320" y="15368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1" name=""/>
          <p:cNvSpPr/>
          <p:nvPr/>
        </p:nvSpPr>
        <p:spPr>
          <a:xfrm>
            <a:off x="2152800" y="11764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2" name=""/>
          <p:cNvSpPr/>
          <p:nvPr/>
        </p:nvSpPr>
        <p:spPr>
          <a:xfrm>
            <a:off x="2071800" y="10494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3" name=""/>
          <p:cNvSpPr/>
          <p:nvPr/>
        </p:nvSpPr>
        <p:spPr>
          <a:xfrm>
            <a:off x="1924200" y="10033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4" name=""/>
          <p:cNvSpPr/>
          <p:nvPr/>
        </p:nvSpPr>
        <p:spPr>
          <a:xfrm>
            <a:off x="2136600" y="1928880"/>
            <a:ext cx="3528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5" name=""/>
          <p:cNvSpPr/>
          <p:nvPr/>
        </p:nvSpPr>
        <p:spPr>
          <a:xfrm>
            <a:off x="2054160" y="11746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6" name=""/>
          <p:cNvSpPr/>
          <p:nvPr/>
        </p:nvSpPr>
        <p:spPr>
          <a:xfrm>
            <a:off x="2212920" y="10112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7" name=""/>
          <p:cNvSpPr/>
          <p:nvPr/>
        </p:nvSpPr>
        <p:spPr>
          <a:xfrm>
            <a:off x="2090880" y="8668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8" name=""/>
          <p:cNvSpPr/>
          <p:nvPr/>
        </p:nvSpPr>
        <p:spPr>
          <a:xfrm>
            <a:off x="2149560" y="17272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9" name=""/>
          <p:cNvSpPr/>
          <p:nvPr/>
        </p:nvSpPr>
        <p:spPr>
          <a:xfrm>
            <a:off x="2116080" y="16542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0" name=""/>
          <p:cNvSpPr/>
          <p:nvPr/>
        </p:nvSpPr>
        <p:spPr>
          <a:xfrm>
            <a:off x="2073240" y="15382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1" name=""/>
          <p:cNvSpPr/>
          <p:nvPr/>
        </p:nvSpPr>
        <p:spPr>
          <a:xfrm>
            <a:off x="2328840" y="15177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2" name=""/>
          <p:cNvSpPr/>
          <p:nvPr/>
        </p:nvSpPr>
        <p:spPr>
          <a:xfrm>
            <a:off x="1671480" y="110160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3" name=""/>
          <p:cNvSpPr/>
          <p:nvPr/>
        </p:nvSpPr>
        <p:spPr>
          <a:xfrm>
            <a:off x="2311560" y="100476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4" name=""/>
          <p:cNvSpPr/>
          <p:nvPr/>
        </p:nvSpPr>
        <p:spPr>
          <a:xfrm>
            <a:off x="2209680" y="19940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5" name=""/>
          <p:cNvSpPr/>
          <p:nvPr/>
        </p:nvSpPr>
        <p:spPr>
          <a:xfrm>
            <a:off x="1179360" y="108252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6" name=""/>
          <p:cNvSpPr/>
          <p:nvPr/>
        </p:nvSpPr>
        <p:spPr>
          <a:xfrm>
            <a:off x="2293920" y="180324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7" name=""/>
          <p:cNvSpPr/>
          <p:nvPr/>
        </p:nvSpPr>
        <p:spPr>
          <a:xfrm>
            <a:off x="2208240" y="1843200"/>
            <a:ext cx="3636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8" name=""/>
          <p:cNvSpPr/>
          <p:nvPr/>
        </p:nvSpPr>
        <p:spPr>
          <a:xfrm>
            <a:off x="2382840" y="179532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9" name=""/>
          <p:cNvSpPr/>
          <p:nvPr/>
        </p:nvSpPr>
        <p:spPr>
          <a:xfrm>
            <a:off x="2284560" y="16574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0" name=""/>
          <p:cNvSpPr/>
          <p:nvPr/>
        </p:nvSpPr>
        <p:spPr>
          <a:xfrm>
            <a:off x="1201680" y="13557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1" name=""/>
          <p:cNvSpPr/>
          <p:nvPr/>
        </p:nvSpPr>
        <p:spPr>
          <a:xfrm>
            <a:off x="1236600" y="14954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2" name=""/>
          <p:cNvSpPr/>
          <p:nvPr/>
        </p:nvSpPr>
        <p:spPr>
          <a:xfrm>
            <a:off x="1266840" y="11620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3" name=""/>
          <p:cNvSpPr/>
          <p:nvPr/>
        </p:nvSpPr>
        <p:spPr>
          <a:xfrm>
            <a:off x="1119240" y="958680"/>
            <a:ext cx="3636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4" name=""/>
          <p:cNvSpPr/>
          <p:nvPr/>
        </p:nvSpPr>
        <p:spPr>
          <a:xfrm>
            <a:off x="1800360" y="10270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5" name=""/>
          <p:cNvSpPr/>
          <p:nvPr/>
        </p:nvSpPr>
        <p:spPr>
          <a:xfrm>
            <a:off x="1243080" y="19209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6" name=""/>
          <p:cNvSpPr/>
          <p:nvPr/>
        </p:nvSpPr>
        <p:spPr>
          <a:xfrm>
            <a:off x="1165320" y="12463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7" name=""/>
          <p:cNvSpPr/>
          <p:nvPr/>
        </p:nvSpPr>
        <p:spPr>
          <a:xfrm>
            <a:off x="1241280" y="10335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8" name=""/>
          <p:cNvSpPr/>
          <p:nvPr/>
        </p:nvSpPr>
        <p:spPr>
          <a:xfrm>
            <a:off x="1128600" y="8161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9" name=""/>
          <p:cNvSpPr/>
          <p:nvPr/>
        </p:nvSpPr>
        <p:spPr>
          <a:xfrm>
            <a:off x="1260360" y="17985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0" name=""/>
          <p:cNvSpPr/>
          <p:nvPr/>
        </p:nvSpPr>
        <p:spPr>
          <a:xfrm>
            <a:off x="1174680" y="1838160"/>
            <a:ext cx="367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1" name=""/>
          <p:cNvSpPr/>
          <p:nvPr/>
        </p:nvSpPr>
        <p:spPr>
          <a:xfrm>
            <a:off x="1155600" y="17208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2" name=""/>
          <p:cNvSpPr/>
          <p:nvPr/>
        </p:nvSpPr>
        <p:spPr>
          <a:xfrm>
            <a:off x="1227240" y="172548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3" name=""/>
          <p:cNvSpPr/>
          <p:nvPr/>
        </p:nvSpPr>
        <p:spPr>
          <a:xfrm>
            <a:off x="1251000" y="16527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4" name=""/>
          <p:cNvSpPr/>
          <p:nvPr/>
        </p:nvSpPr>
        <p:spPr>
          <a:xfrm>
            <a:off x="1152360" y="16574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5" name=""/>
          <p:cNvSpPr/>
          <p:nvPr/>
        </p:nvSpPr>
        <p:spPr>
          <a:xfrm>
            <a:off x="1135080" y="14590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6" name=""/>
          <p:cNvSpPr/>
          <p:nvPr/>
        </p:nvSpPr>
        <p:spPr>
          <a:xfrm>
            <a:off x="1380960" y="15717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7" name=""/>
          <p:cNvSpPr/>
          <p:nvPr/>
        </p:nvSpPr>
        <p:spPr>
          <a:xfrm>
            <a:off x="1171440" y="11509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8" name=""/>
          <p:cNvSpPr/>
          <p:nvPr/>
        </p:nvSpPr>
        <p:spPr>
          <a:xfrm>
            <a:off x="698400" y="102060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9" name=""/>
          <p:cNvSpPr/>
          <p:nvPr/>
        </p:nvSpPr>
        <p:spPr>
          <a:xfrm>
            <a:off x="1309680" y="13222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0" name=""/>
          <p:cNvSpPr/>
          <p:nvPr/>
        </p:nvSpPr>
        <p:spPr>
          <a:xfrm>
            <a:off x="1346040" y="10144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1" name=""/>
          <p:cNvSpPr/>
          <p:nvPr/>
        </p:nvSpPr>
        <p:spPr>
          <a:xfrm>
            <a:off x="1405080" y="18748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2" name=""/>
          <p:cNvSpPr/>
          <p:nvPr/>
        </p:nvSpPr>
        <p:spPr>
          <a:xfrm>
            <a:off x="1319040" y="1914480"/>
            <a:ext cx="367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3" name=""/>
          <p:cNvSpPr/>
          <p:nvPr/>
        </p:nvSpPr>
        <p:spPr>
          <a:xfrm>
            <a:off x="1371600" y="18018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4" name=""/>
          <p:cNvSpPr/>
          <p:nvPr/>
        </p:nvSpPr>
        <p:spPr>
          <a:xfrm>
            <a:off x="1297080" y="173340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5" name=""/>
          <p:cNvSpPr/>
          <p:nvPr/>
        </p:nvSpPr>
        <p:spPr>
          <a:xfrm>
            <a:off x="1420920" y="14097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6" name=""/>
          <p:cNvSpPr/>
          <p:nvPr/>
        </p:nvSpPr>
        <p:spPr>
          <a:xfrm>
            <a:off x="1494000" y="16588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7" name=""/>
          <p:cNvSpPr/>
          <p:nvPr/>
        </p:nvSpPr>
        <p:spPr>
          <a:xfrm>
            <a:off x="1523880" y="13255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8" name=""/>
          <p:cNvSpPr/>
          <p:nvPr/>
        </p:nvSpPr>
        <p:spPr>
          <a:xfrm>
            <a:off x="1403280" y="19954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9" name=""/>
          <p:cNvSpPr/>
          <p:nvPr/>
        </p:nvSpPr>
        <p:spPr>
          <a:xfrm>
            <a:off x="3138480" y="20192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0" name=""/>
          <p:cNvSpPr/>
          <p:nvPr/>
        </p:nvSpPr>
        <p:spPr>
          <a:xfrm>
            <a:off x="1508040" y="18162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1" name=""/>
          <p:cNvSpPr/>
          <p:nvPr/>
        </p:nvSpPr>
        <p:spPr>
          <a:xfrm>
            <a:off x="1542960" y="172548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2" name=""/>
          <p:cNvSpPr/>
          <p:nvPr/>
        </p:nvSpPr>
        <p:spPr>
          <a:xfrm>
            <a:off x="1638360" y="17352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3" name=""/>
          <p:cNvSpPr/>
          <p:nvPr/>
        </p:nvSpPr>
        <p:spPr>
          <a:xfrm>
            <a:off x="1566720" y="14860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4" name=""/>
          <p:cNvSpPr/>
          <p:nvPr/>
        </p:nvSpPr>
        <p:spPr>
          <a:xfrm>
            <a:off x="1643040" y="12733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5" name=""/>
          <p:cNvSpPr/>
          <p:nvPr/>
        </p:nvSpPr>
        <p:spPr>
          <a:xfrm>
            <a:off x="1603440" y="11779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6" name=""/>
          <p:cNvSpPr/>
          <p:nvPr/>
        </p:nvSpPr>
        <p:spPr>
          <a:xfrm>
            <a:off x="1557360" y="19605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7" name=""/>
          <p:cNvSpPr/>
          <p:nvPr/>
        </p:nvSpPr>
        <p:spPr>
          <a:xfrm>
            <a:off x="1628640" y="19652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8" name=""/>
          <p:cNvSpPr/>
          <p:nvPr/>
        </p:nvSpPr>
        <p:spPr>
          <a:xfrm>
            <a:off x="1652760" y="189216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9" name=""/>
          <p:cNvSpPr/>
          <p:nvPr/>
        </p:nvSpPr>
        <p:spPr>
          <a:xfrm>
            <a:off x="1554120" y="18972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0" name=""/>
          <p:cNvSpPr/>
          <p:nvPr/>
        </p:nvSpPr>
        <p:spPr>
          <a:xfrm>
            <a:off x="1655640" y="16304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1" name=""/>
          <p:cNvSpPr/>
          <p:nvPr/>
        </p:nvSpPr>
        <p:spPr>
          <a:xfrm>
            <a:off x="1835280" y="15890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2" name=""/>
          <p:cNvSpPr/>
          <p:nvPr/>
        </p:nvSpPr>
        <p:spPr>
          <a:xfrm>
            <a:off x="1719360" y="20131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3" name=""/>
          <p:cNvSpPr/>
          <p:nvPr/>
        </p:nvSpPr>
        <p:spPr>
          <a:xfrm>
            <a:off x="1763640" y="13399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4" name=""/>
          <p:cNvSpPr/>
          <p:nvPr/>
        </p:nvSpPr>
        <p:spPr>
          <a:xfrm>
            <a:off x="1839960" y="11271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5" name=""/>
          <p:cNvSpPr/>
          <p:nvPr/>
        </p:nvSpPr>
        <p:spPr>
          <a:xfrm>
            <a:off x="1859040" y="189216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6" name=""/>
          <p:cNvSpPr/>
          <p:nvPr/>
        </p:nvSpPr>
        <p:spPr>
          <a:xfrm>
            <a:off x="1754280" y="181440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7" name=""/>
          <p:cNvSpPr/>
          <p:nvPr/>
        </p:nvSpPr>
        <p:spPr>
          <a:xfrm>
            <a:off x="1825560" y="18194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8" name=""/>
          <p:cNvSpPr/>
          <p:nvPr/>
        </p:nvSpPr>
        <p:spPr>
          <a:xfrm>
            <a:off x="1849320" y="17463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9" name=""/>
          <p:cNvSpPr/>
          <p:nvPr/>
        </p:nvSpPr>
        <p:spPr>
          <a:xfrm>
            <a:off x="1733400" y="15526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0" name=""/>
          <p:cNvSpPr/>
          <p:nvPr/>
        </p:nvSpPr>
        <p:spPr>
          <a:xfrm>
            <a:off x="1944720" y="15256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1" name=""/>
          <p:cNvSpPr/>
          <p:nvPr/>
        </p:nvSpPr>
        <p:spPr>
          <a:xfrm>
            <a:off x="1895400" y="15876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2" name=""/>
          <p:cNvSpPr/>
          <p:nvPr/>
        </p:nvSpPr>
        <p:spPr>
          <a:xfrm>
            <a:off x="2006640" y="14176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3" name=""/>
          <p:cNvSpPr/>
          <p:nvPr/>
        </p:nvSpPr>
        <p:spPr>
          <a:xfrm>
            <a:off x="2031840" y="12207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4" name=""/>
          <p:cNvSpPr/>
          <p:nvPr/>
        </p:nvSpPr>
        <p:spPr>
          <a:xfrm>
            <a:off x="2003400" y="19684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5" name=""/>
          <p:cNvSpPr/>
          <p:nvPr/>
        </p:nvSpPr>
        <p:spPr>
          <a:xfrm>
            <a:off x="1917720" y="2008080"/>
            <a:ext cx="3636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6" name=""/>
          <p:cNvSpPr/>
          <p:nvPr/>
        </p:nvSpPr>
        <p:spPr>
          <a:xfrm>
            <a:off x="1969920" y="18954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7" name=""/>
          <p:cNvSpPr/>
          <p:nvPr/>
        </p:nvSpPr>
        <p:spPr>
          <a:xfrm>
            <a:off x="1994040" y="182232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8" name=""/>
          <p:cNvSpPr/>
          <p:nvPr/>
        </p:nvSpPr>
        <p:spPr>
          <a:xfrm>
            <a:off x="1895400" y="18273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9" name=""/>
          <p:cNvSpPr/>
          <p:nvPr/>
        </p:nvSpPr>
        <p:spPr>
          <a:xfrm>
            <a:off x="2440080" y="17128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0" name=""/>
          <p:cNvSpPr/>
          <p:nvPr/>
        </p:nvSpPr>
        <p:spPr>
          <a:xfrm>
            <a:off x="2467080" y="14652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1" name=""/>
          <p:cNvSpPr/>
          <p:nvPr/>
        </p:nvSpPr>
        <p:spPr>
          <a:xfrm>
            <a:off x="1766880" y="7603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2" name=""/>
          <p:cNvSpPr/>
          <p:nvPr/>
        </p:nvSpPr>
        <p:spPr>
          <a:xfrm>
            <a:off x="2387520" y="13240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3" name=""/>
          <p:cNvSpPr/>
          <p:nvPr/>
        </p:nvSpPr>
        <p:spPr>
          <a:xfrm>
            <a:off x="2463840" y="201600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4" name=""/>
          <p:cNvSpPr/>
          <p:nvPr/>
        </p:nvSpPr>
        <p:spPr>
          <a:xfrm>
            <a:off x="2430360" y="19432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5" name=""/>
          <p:cNvSpPr/>
          <p:nvPr/>
        </p:nvSpPr>
        <p:spPr>
          <a:xfrm>
            <a:off x="2454120" y="18702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6" name=""/>
          <p:cNvSpPr/>
          <p:nvPr/>
        </p:nvSpPr>
        <p:spPr>
          <a:xfrm>
            <a:off x="2305080" y="19256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7" name=""/>
          <p:cNvSpPr/>
          <p:nvPr/>
        </p:nvSpPr>
        <p:spPr>
          <a:xfrm>
            <a:off x="2457360" y="16081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8" name=""/>
          <p:cNvSpPr/>
          <p:nvPr/>
        </p:nvSpPr>
        <p:spPr>
          <a:xfrm>
            <a:off x="3537000" y="20001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9" name=""/>
          <p:cNvSpPr/>
          <p:nvPr/>
        </p:nvSpPr>
        <p:spPr>
          <a:xfrm>
            <a:off x="3549600" y="17985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0" name=""/>
          <p:cNvSpPr/>
          <p:nvPr/>
        </p:nvSpPr>
        <p:spPr>
          <a:xfrm>
            <a:off x="3473280" y="160956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1" name=""/>
          <p:cNvSpPr/>
          <p:nvPr/>
        </p:nvSpPr>
        <p:spPr>
          <a:xfrm>
            <a:off x="3575160" y="15620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2" name=""/>
          <p:cNvSpPr/>
          <p:nvPr/>
        </p:nvSpPr>
        <p:spPr>
          <a:xfrm>
            <a:off x="3586320" y="173340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3" name=""/>
          <p:cNvSpPr/>
          <p:nvPr/>
        </p:nvSpPr>
        <p:spPr>
          <a:xfrm>
            <a:off x="2602080" y="142704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4" name=""/>
          <p:cNvSpPr/>
          <p:nvPr/>
        </p:nvSpPr>
        <p:spPr>
          <a:xfrm>
            <a:off x="2637000" y="156672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5" name=""/>
          <p:cNvSpPr/>
          <p:nvPr/>
        </p:nvSpPr>
        <p:spPr>
          <a:xfrm>
            <a:off x="2664000" y="131904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6" name=""/>
          <p:cNvSpPr/>
          <p:nvPr/>
        </p:nvSpPr>
        <p:spPr>
          <a:xfrm>
            <a:off x="2666880" y="11746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7" name=""/>
          <p:cNvSpPr/>
          <p:nvPr/>
        </p:nvSpPr>
        <p:spPr>
          <a:xfrm>
            <a:off x="2565360" y="13176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8" name=""/>
          <p:cNvSpPr/>
          <p:nvPr/>
        </p:nvSpPr>
        <p:spPr>
          <a:xfrm>
            <a:off x="2660760" y="18702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9" name=""/>
          <p:cNvSpPr/>
          <p:nvPr/>
        </p:nvSpPr>
        <p:spPr>
          <a:xfrm>
            <a:off x="1725480" y="17352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0" name=""/>
          <p:cNvSpPr/>
          <p:nvPr/>
        </p:nvSpPr>
        <p:spPr>
          <a:xfrm>
            <a:off x="2627280" y="17971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1" name=""/>
          <p:cNvSpPr/>
          <p:nvPr/>
        </p:nvSpPr>
        <p:spPr>
          <a:xfrm>
            <a:off x="2552760" y="17287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2" name=""/>
          <p:cNvSpPr/>
          <p:nvPr/>
        </p:nvSpPr>
        <p:spPr>
          <a:xfrm>
            <a:off x="2685960" y="16336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3" name=""/>
          <p:cNvSpPr/>
          <p:nvPr/>
        </p:nvSpPr>
        <p:spPr>
          <a:xfrm>
            <a:off x="2535120" y="15303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4" name=""/>
          <p:cNvSpPr/>
          <p:nvPr/>
        </p:nvSpPr>
        <p:spPr>
          <a:xfrm>
            <a:off x="798480" y="8762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5" name=""/>
          <p:cNvSpPr/>
          <p:nvPr/>
        </p:nvSpPr>
        <p:spPr>
          <a:xfrm>
            <a:off x="2746440" y="15033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6" name=""/>
          <p:cNvSpPr/>
          <p:nvPr/>
        </p:nvSpPr>
        <p:spPr>
          <a:xfrm>
            <a:off x="2781360" y="16430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7" name=""/>
          <p:cNvSpPr/>
          <p:nvPr/>
        </p:nvSpPr>
        <p:spPr>
          <a:xfrm>
            <a:off x="2808360" y="13953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8" name=""/>
          <p:cNvSpPr/>
          <p:nvPr/>
        </p:nvSpPr>
        <p:spPr>
          <a:xfrm>
            <a:off x="2811600" y="13096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9" name=""/>
          <p:cNvSpPr/>
          <p:nvPr/>
        </p:nvSpPr>
        <p:spPr>
          <a:xfrm>
            <a:off x="2709720" y="13939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0" name=""/>
          <p:cNvSpPr/>
          <p:nvPr/>
        </p:nvSpPr>
        <p:spPr>
          <a:xfrm>
            <a:off x="2805120" y="194616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1" name=""/>
          <p:cNvSpPr/>
          <p:nvPr/>
        </p:nvSpPr>
        <p:spPr>
          <a:xfrm>
            <a:off x="2771640" y="187308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2" name=""/>
          <p:cNvSpPr/>
          <p:nvPr/>
        </p:nvSpPr>
        <p:spPr>
          <a:xfrm>
            <a:off x="2795760" y="18003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3" name=""/>
          <p:cNvSpPr/>
          <p:nvPr/>
        </p:nvSpPr>
        <p:spPr>
          <a:xfrm>
            <a:off x="1900080" y="15526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4" name=""/>
          <p:cNvSpPr/>
          <p:nvPr/>
        </p:nvSpPr>
        <p:spPr>
          <a:xfrm>
            <a:off x="2859120" y="15908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5" name=""/>
          <p:cNvSpPr/>
          <p:nvPr/>
        </p:nvSpPr>
        <p:spPr>
          <a:xfrm>
            <a:off x="2894040" y="17305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6" name=""/>
          <p:cNvSpPr/>
          <p:nvPr/>
        </p:nvSpPr>
        <p:spPr>
          <a:xfrm>
            <a:off x="2921040" y="14828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7" name=""/>
          <p:cNvSpPr/>
          <p:nvPr/>
        </p:nvSpPr>
        <p:spPr>
          <a:xfrm>
            <a:off x="2924280" y="13971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8" name=""/>
          <p:cNvSpPr/>
          <p:nvPr/>
        </p:nvSpPr>
        <p:spPr>
          <a:xfrm>
            <a:off x="2840040" y="13557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9" name=""/>
          <p:cNvSpPr/>
          <p:nvPr/>
        </p:nvSpPr>
        <p:spPr>
          <a:xfrm>
            <a:off x="2803680" y="206676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0" name=""/>
          <p:cNvSpPr/>
          <p:nvPr/>
        </p:nvSpPr>
        <p:spPr>
          <a:xfrm>
            <a:off x="3386160" y="28018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1" name=""/>
          <p:cNvSpPr/>
          <p:nvPr/>
        </p:nvSpPr>
        <p:spPr>
          <a:xfrm>
            <a:off x="3254400" y="265572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2" name=""/>
          <p:cNvSpPr/>
          <p:nvPr/>
        </p:nvSpPr>
        <p:spPr>
          <a:xfrm>
            <a:off x="2943360" y="17971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3" name=""/>
          <p:cNvSpPr/>
          <p:nvPr/>
        </p:nvSpPr>
        <p:spPr>
          <a:xfrm>
            <a:off x="3030480" y="16113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4" name=""/>
          <p:cNvSpPr/>
          <p:nvPr/>
        </p:nvSpPr>
        <p:spPr>
          <a:xfrm>
            <a:off x="3003480" y="16668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5" name=""/>
          <p:cNvSpPr/>
          <p:nvPr/>
        </p:nvSpPr>
        <p:spPr>
          <a:xfrm>
            <a:off x="3038400" y="18064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6" name=""/>
          <p:cNvSpPr/>
          <p:nvPr/>
        </p:nvSpPr>
        <p:spPr>
          <a:xfrm>
            <a:off x="3065400" y="155880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7" name=""/>
          <p:cNvSpPr/>
          <p:nvPr/>
        </p:nvSpPr>
        <p:spPr>
          <a:xfrm>
            <a:off x="2967120" y="15573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8" name=""/>
          <p:cNvSpPr/>
          <p:nvPr/>
        </p:nvSpPr>
        <p:spPr>
          <a:xfrm>
            <a:off x="2957400" y="203184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9" name=""/>
          <p:cNvSpPr/>
          <p:nvPr/>
        </p:nvSpPr>
        <p:spPr>
          <a:xfrm>
            <a:off x="3200400" y="21448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0" name=""/>
          <p:cNvSpPr/>
          <p:nvPr/>
        </p:nvSpPr>
        <p:spPr>
          <a:xfrm>
            <a:off x="3052800" y="19638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1" name=""/>
          <p:cNvSpPr/>
          <p:nvPr/>
        </p:nvSpPr>
        <p:spPr>
          <a:xfrm>
            <a:off x="2954160" y="1968480"/>
            <a:ext cx="3528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2" name=""/>
          <p:cNvSpPr/>
          <p:nvPr/>
        </p:nvSpPr>
        <p:spPr>
          <a:xfrm>
            <a:off x="3235320" y="16606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3" name=""/>
          <p:cNvSpPr/>
          <p:nvPr/>
        </p:nvSpPr>
        <p:spPr>
          <a:xfrm>
            <a:off x="3259080" y="19638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4" name=""/>
          <p:cNvSpPr/>
          <p:nvPr/>
        </p:nvSpPr>
        <p:spPr>
          <a:xfrm>
            <a:off x="3056040" y="2425680"/>
            <a:ext cx="3636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5" name=""/>
          <p:cNvSpPr/>
          <p:nvPr/>
        </p:nvSpPr>
        <p:spPr>
          <a:xfrm>
            <a:off x="3154320" y="18860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6" name=""/>
          <p:cNvSpPr/>
          <p:nvPr/>
        </p:nvSpPr>
        <p:spPr>
          <a:xfrm>
            <a:off x="3181320" y="251604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7" name=""/>
          <p:cNvSpPr/>
          <p:nvPr/>
        </p:nvSpPr>
        <p:spPr>
          <a:xfrm>
            <a:off x="3249720" y="18176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8" name=""/>
          <p:cNvSpPr/>
          <p:nvPr/>
        </p:nvSpPr>
        <p:spPr>
          <a:xfrm>
            <a:off x="3151080" y="182232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9" name=""/>
          <p:cNvSpPr/>
          <p:nvPr/>
        </p:nvSpPr>
        <p:spPr>
          <a:xfrm>
            <a:off x="3284640" y="17272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0" name=""/>
          <p:cNvSpPr/>
          <p:nvPr/>
        </p:nvSpPr>
        <p:spPr>
          <a:xfrm>
            <a:off x="3133800" y="16239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1" name=""/>
          <p:cNvSpPr/>
          <p:nvPr/>
        </p:nvSpPr>
        <p:spPr>
          <a:xfrm>
            <a:off x="3252960" y="15559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2" name=""/>
          <p:cNvSpPr/>
          <p:nvPr/>
        </p:nvSpPr>
        <p:spPr>
          <a:xfrm>
            <a:off x="3344760" y="15969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3" name=""/>
          <p:cNvSpPr/>
          <p:nvPr/>
        </p:nvSpPr>
        <p:spPr>
          <a:xfrm>
            <a:off x="3379680" y="17366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4" name=""/>
          <p:cNvSpPr/>
          <p:nvPr/>
        </p:nvSpPr>
        <p:spPr>
          <a:xfrm>
            <a:off x="3403440" y="203976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5" name=""/>
          <p:cNvSpPr/>
          <p:nvPr/>
        </p:nvSpPr>
        <p:spPr>
          <a:xfrm>
            <a:off x="3306600" y="20113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6" name=""/>
          <p:cNvSpPr/>
          <p:nvPr/>
        </p:nvSpPr>
        <p:spPr>
          <a:xfrm>
            <a:off x="3878280" y="31449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7" name=""/>
          <p:cNvSpPr/>
          <p:nvPr/>
        </p:nvSpPr>
        <p:spPr>
          <a:xfrm>
            <a:off x="2962440" y="27669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8" name=""/>
          <p:cNvSpPr/>
          <p:nvPr/>
        </p:nvSpPr>
        <p:spPr>
          <a:xfrm>
            <a:off x="3295800" y="18986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9" name=""/>
          <p:cNvSpPr/>
          <p:nvPr/>
        </p:nvSpPr>
        <p:spPr>
          <a:xfrm>
            <a:off x="2406600" y="7398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0" name=""/>
          <p:cNvSpPr/>
          <p:nvPr/>
        </p:nvSpPr>
        <p:spPr>
          <a:xfrm>
            <a:off x="2470320" y="8366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1" name=""/>
          <p:cNvSpPr/>
          <p:nvPr/>
        </p:nvSpPr>
        <p:spPr>
          <a:xfrm>
            <a:off x="2496960" y="588960"/>
            <a:ext cx="3528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2" name=""/>
          <p:cNvSpPr/>
          <p:nvPr/>
        </p:nvSpPr>
        <p:spPr>
          <a:xfrm>
            <a:off x="2398680" y="5875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3" name=""/>
          <p:cNvSpPr/>
          <p:nvPr/>
        </p:nvSpPr>
        <p:spPr>
          <a:xfrm>
            <a:off x="2522520" y="10526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4" name=""/>
          <p:cNvSpPr/>
          <p:nvPr/>
        </p:nvSpPr>
        <p:spPr>
          <a:xfrm>
            <a:off x="2408400" y="1179360"/>
            <a:ext cx="3636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5" name=""/>
          <p:cNvSpPr/>
          <p:nvPr/>
        </p:nvSpPr>
        <p:spPr>
          <a:xfrm>
            <a:off x="2460600" y="106668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6" name=""/>
          <p:cNvSpPr/>
          <p:nvPr/>
        </p:nvSpPr>
        <p:spPr>
          <a:xfrm>
            <a:off x="2487600" y="10238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7" name=""/>
          <p:cNvSpPr/>
          <p:nvPr/>
        </p:nvSpPr>
        <p:spPr>
          <a:xfrm>
            <a:off x="2487600" y="7318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8" name=""/>
          <p:cNvSpPr/>
          <p:nvPr/>
        </p:nvSpPr>
        <p:spPr>
          <a:xfrm>
            <a:off x="3556080" y="6192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9" name=""/>
          <p:cNvSpPr/>
          <p:nvPr/>
        </p:nvSpPr>
        <p:spPr>
          <a:xfrm>
            <a:off x="3579840" y="9223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0" name=""/>
          <p:cNvSpPr/>
          <p:nvPr/>
        </p:nvSpPr>
        <p:spPr>
          <a:xfrm>
            <a:off x="3494160" y="961920"/>
            <a:ext cx="3636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1" name=""/>
          <p:cNvSpPr/>
          <p:nvPr/>
        </p:nvSpPr>
        <p:spPr>
          <a:xfrm>
            <a:off x="1339920" y="14922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2" name=""/>
          <p:cNvSpPr/>
          <p:nvPr/>
        </p:nvSpPr>
        <p:spPr>
          <a:xfrm>
            <a:off x="3186000" y="66816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3" name=""/>
          <p:cNvSpPr/>
          <p:nvPr/>
        </p:nvSpPr>
        <p:spPr>
          <a:xfrm>
            <a:off x="3616200" y="8571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4" name=""/>
          <p:cNvSpPr/>
          <p:nvPr/>
        </p:nvSpPr>
        <p:spPr>
          <a:xfrm>
            <a:off x="2631960" y="5508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5" name=""/>
          <p:cNvSpPr/>
          <p:nvPr/>
        </p:nvSpPr>
        <p:spPr>
          <a:xfrm>
            <a:off x="2666880" y="6904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6" name=""/>
          <p:cNvSpPr/>
          <p:nvPr/>
        </p:nvSpPr>
        <p:spPr>
          <a:xfrm>
            <a:off x="2690640" y="99360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7" name=""/>
          <p:cNvSpPr/>
          <p:nvPr/>
        </p:nvSpPr>
        <p:spPr>
          <a:xfrm>
            <a:off x="2604960" y="1033560"/>
            <a:ext cx="367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8" name=""/>
          <p:cNvSpPr/>
          <p:nvPr/>
        </p:nvSpPr>
        <p:spPr>
          <a:xfrm>
            <a:off x="2585880" y="91584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9" name=""/>
          <p:cNvSpPr/>
          <p:nvPr/>
        </p:nvSpPr>
        <p:spPr>
          <a:xfrm>
            <a:off x="2657520" y="9208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0" name=""/>
          <p:cNvSpPr/>
          <p:nvPr/>
        </p:nvSpPr>
        <p:spPr>
          <a:xfrm>
            <a:off x="2681280" y="8478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1" name=""/>
          <p:cNvSpPr/>
          <p:nvPr/>
        </p:nvSpPr>
        <p:spPr>
          <a:xfrm>
            <a:off x="2583000" y="8524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2" name=""/>
          <p:cNvSpPr/>
          <p:nvPr/>
        </p:nvSpPr>
        <p:spPr>
          <a:xfrm>
            <a:off x="2716200" y="75708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3" name=""/>
          <p:cNvSpPr/>
          <p:nvPr/>
        </p:nvSpPr>
        <p:spPr>
          <a:xfrm>
            <a:off x="2565360" y="6541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4" name=""/>
          <p:cNvSpPr/>
          <p:nvPr/>
        </p:nvSpPr>
        <p:spPr>
          <a:xfrm>
            <a:off x="2776680" y="6271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5" name=""/>
          <p:cNvSpPr/>
          <p:nvPr/>
        </p:nvSpPr>
        <p:spPr>
          <a:xfrm>
            <a:off x="2811600" y="7668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6" name=""/>
          <p:cNvSpPr/>
          <p:nvPr/>
        </p:nvSpPr>
        <p:spPr>
          <a:xfrm>
            <a:off x="2835360" y="10699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7" name=""/>
          <p:cNvSpPr/>
          <p:nvPr/>
        </p:nvSpPr>
        <p:spPr>
          <a:xfrm>
            <a:off x="2738520" y="10414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8" name=""/>
          <p:cNvSpPr/>
          <p:nvPr/>
        </p:nvSpPr>
        <p:spPr>
          <a:xfrm>
            <a:off x="2801880" y="99684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9" name=""/>
          <p:cNvSpPr/>
          <p:nvPr/>
        </p:nvSpPr>
        <p:spPr>
          <a:xfrm>
            <a:off x="2825640" y="92376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0" name=""/>
          <p:cNvSpPr/>
          <p:nvPr/>
        </p:nvSpPr>
        <p:spPr>
          <a:xfrm>
            <a:off x="2727360" y="9288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1" name=""/>
          <p:cNvSpPr/>
          <p:nvPr/>
        </p:nvSpPr>
        <p:spPr>
          <a:xfrm>
            <a:off x="2851200" y="6048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2" name=""/>
          <p:cNvSpPr/>
          <p:nvPr/>
        </p:nvSpPr>
        <p:spPr>
          <a:xfrm>
            <a:off x="2889360" y="71424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3" name=""/>
          <p:cNvSpPr/>
          <p:nvPr/>
        </p:nvSpPr>
        <p:spPr>
          <a:xfrm>
            <a:off x="2924280" y="85392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4" name=""/>
          <p:cNvSpPr/>
          <p:nvPr/>
        </p:nvSpPr>
        <p:spPr>
          <a:xfrm>
            <a:off x="2951280" y="6066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5" name=""/>
          <p:cNvSpPr/>
          <p:nvPr/>
        </p:nvSpPr>
        <p:spPr>
          <a:xfrm>
            <a:off x="2833560" y="11905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6" name=""/>
          <p:cNvSpPr/>
          <p:nvPr/>
        </p:nvSpPr>
        <p:spPr>
          <a:xfrm>
            <a:off x="2914560" y="10843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7" name=""/>
          <p:cNvSpPr/>
          <p:nvPr/>
        </p:nvSpPr>
        <p:spPr>
          <a:xfrm>
            <a:off x="2938320" y="10112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8" name=""/>
          <p:cNvSpPr/>
          <p:nvPr/>
        </p:nvSpPr>
        <p:spPr>
          <a:xfrm>
            <a:off x="2973240" y="9208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9" name=""/>
          <p:cNvSpPr/>
          <p:nvPr/>
        </p:nvSpPr>
        <p:spPr>
          <a:xfrm>
            <a:off x="3060720" y="7351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0" name=""/>
          <p:cNvSpPr/>
          <p:nvPr/>
        </p:nvSpPr>
        <p:spPr>
          <a:xfrm>
            <a:off x="3068640" y="9302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1" name=""/>
          <p:cNvSpPr/>
          <p:nvPr/>
        </p:nvSpPr>
        <p:spPr>
          <a:xfrm>
            <a:off x="2997360" y="6811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2" name=""/>
          <p:cNvSpPr/>
          <p:nvPr/>
        </p:nvSpPr>
        <p:spPr>
          <a:xfrm>
            <a:off x="3581280" y="11080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3" name=""/>
          <p:cNvSpPr/>
          <p:nvPr/>
        </p:nvSpPr>
        <p:spPr>
          <a:xfrm>
            <a:off x="2984400" y="10922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4" name=""/>
          <p:cNvSpPr/>
          <p:nvPr/>
        </p:nvSpPr>
        <p:spPr>
          <a:xfrm>
            <a:off x="3086280" y="8254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5" name=""/>
          <p:cNvSpPr/>
          <p:nvPr/>
        </p:nvSpPr>
        <p:spPr>
          <a:xfrm>
            <a:off x="3057480" y="56340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6" name=""/>
          <p:cNvSpPr/>
          <p:nvPr/>
        </p:nvSpPr>
        <p:spPr>
          <a:xfrm>
            <a:off x="3265560" y="78408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7" name=""/>
          <p:cNvSpPr/>
          <p:nvPr/>
        </p:nvSpPr>
        <p:spPr>
          <a:xfrm>
            <a:off x="3292560" y="53640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8" name=""/>
          <p:cNvSpPr/>
          <p:nvPr/>
        </p:nvSpPr>
        <p:spPr>
          <a:xfrm>
            <a:off x="3193920" y="5349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9" name=""/>
          <p:cNvSpPr/>
          <p:nvPr/>
        </p:nvSpPr>
        <p:spPr>
          <a:xfrm>
            <a:off x="3184560" y="10098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0" name=""/>
          <p:cNvSpPr/>
          <p:nvPr/>
        </p:nvSpPr>
        <p:spPr>
          <a:xfrm>
            <a:off x="3255840" y="10144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1" name=""/>
          <p:cNvSpPr/>
          <p:nvPr/>
        </p:nvSpPr>
        <p:spPr>
          <a:xfrm>
            <a:off x="3279600" y="941400"/>
            <a:ext cx="3528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2" name=""/>
          <p:cNvSpPr/>
          <p:nvPr/>
        </p:nvSpPr>
        <p:spPr>
          <a:xfrm>
            <a:off x="3181320" y="9460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3" name=""/>
          <p:cNvSpPr/>
          <p:nvPr/>
        </p:nvSpPr>
        <p:spPr>
          <a:xfrm>
            <a:off x="3314880" y="8510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4" name=""/>
          <p:cNvSpPr/>
          <p:nvPr/>
        </p:nvSpPr>
        <p:spPr>
          <a:xfrm>
            <a:off x="3164040" y="7477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5" name=""/>
          <p:cNvSpPr/>
          <p:nvPr/>
        </p:nvSpPr>
        <p:spPr>
          <a:xfrm>
            <a:off x="3282840" y="67932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6" name=""/>
          <p:cNvSpPr/>
          <p:nvPr/>
        </p:nvSpPr>
        <p:spPr>
          <a:xfrm>
            <a:off x="3375000" y="7207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7" name=""/>
          <p:cNvSpPr/>
          <p:nvPr/>
        </p:nvSpPr>
        <p:spPr>
          <a:xfrm>
            <a:off x="3409920" y="8604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8" name=""/>
          <p:cNvSpPr/>
          <p:nvPr/>
        </p:nvSpPr>
        <p:spPr>
          <a:xfrm>
            <a:off x="3436920" y="6127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9" name=""/>
          <p:cNvSpPr/>
          <p:nvPr/>
        </p:nvSpPr>
        <p:spPr>
          <a:xfrm>
            <a:off x="3338640" y="6112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0" name=""/>
          <p:cNvSpPr/>
          <p:nvPr/>
        </p:nvSpPr>
        <p:spPr>
          <a:xfrm>
            <a:off x="3424320" y="10177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1" name=""/>
          <p:cNvSpPr/>
          <p:nvPr/>
        </p:nvSpPr>
        <p:spPr>
          <a:xfrm>
            <a:off x="3325680" y="10224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2" name=""/>
          <p:cNvSpPr/>
          <p:nvPr/>
        </p:nvSpPr>
        <p:spPr>
          <a:xfrm>
            <a:off x="3481560" y="6555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3" name=""/>
          <p:cNvSpPr/>
          <p:nvPr/>
        </p:nvSpPr>
        <p:spPr>
          <a:xfrm>
            <a:off x="882720" y="6922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4" name=""/>
          <p:cNvSpPr/>
          <p:nvPr/>
        </p:nvSpPr>
        <p:spPr>
          <a:xfrm>
            <a:off x="917640" y="8319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5" name=""/>
          <p:cNvSpPr/>
          <p:nvPr/>
        </p:nvSpPr>
        <p:spPr>
          <a:xfrm>
            <a:off x="944640" y="5842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6" name=""/>
          <p:cNvSpPr/>
          <p:nvPr/>
        </p:nvSpPr>
        <p:spPr>
          <a:xfrm>
            <a:off x="781200" y="351936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7" name=""/>
          <p:cNvSpPr/>
          <p:nvPr/>
        </p:nvSpPr>
        <p:spPr>
          <a:xfrm>
            <a:off x="2003400" y="6145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8" name=""/>
          <p:cNvSpPr/>
          <p:nvPr/>
        </p:nvSpPr>
        <p:spPr>
          <a:xfrm>
            <a:off x="1922400" y="8398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9" name=""/>
          <p:cNvSpPr/>
          <p:nvPr/>
        </p:nvSpPr>
        <p:spPr>
          <a:xfrm>
            <a:off x="1951200" y="7286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0" name=""/>
          <p:cNvSpPr/>
          <p:nvPr/>
        </p:nvSpPr>
        <p:spPr>
          <a:xfrm>
            <a:off x="1633680" y="6634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1" name=""/>
          <p:cNvSpPr/>
          <p:nvPr/>
        </p:nvSpPr>
        <p:spPr>
          <a:xfrm>
            <a:off x="1079640" y="5461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2" name=""/>
          <p:cNvSpPr/>
          <p:nvPr/>
        </p:nvSpPr>
        <p:spPr>
          <a:xfrm>
            <a:off x="1114560" y="6858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3" name=""/>
          <p:cNvSpPr/>
          <p:nvPr/>
        </p:nvSpPr>
        <p:spPr>
          <a:xfrm>
            <a:off x="1033560" y="9111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4" name=""/>
          <p:cNvSpPr/>
          <p:nvPr/>
        </p:nvSpPr>
        <p:spPr>
          <a:xfrm>
            <a:off x="1662120" y="91584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5" name=""/>
          <p:cNvSpPr/>
          <p:nvPr/>
        </p:nvSpPr>
        <p:spPr>
          <a:xfrm>
            <a:off x="1927080" y="14367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6" name=""/>
          <p:cNvSpPr/>
          <p:nvPr/>
        </p:nvSpPr>
        <p:spPr>
          <a:xfrm>
            <a:off x="1030320" y="8478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7" name=""/>
          <p:cNvSpPr/>
          <p:nvPr/>
        </p:nvSpPr>
        <p:spPr>
          <a:xfrm>
            <a:off x="1163520" y="7524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8" name=""/>
          <p:cNvSpPr/>
          <p:nvPr/>
        </p:nvSpPr>
        <p:spPr>
          <a:xfrm>
            <a:off x="1012680" y="6494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9" name=""/>
          <p:cNvSpPr/>
          <p:nvPr/>
        </p:nvSpPr>
        <p:spPr>
          <a:xfrm>
            <a:off x="1131840" y="5810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0" name=""/>
          <p:cNvSpPr/>
          <p:nvPr/>
        </p:nvSpPr>
        <p:spPr>
          <a:xfrm>
            <a:off x="1224000" y="6224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1" name=""/>
          <p:cNvSpPr/>
          <p:nvPr/>
        </p:nvSpPr>
        <p:spPr>
          <a:xfrm>
            <a:off x="1258920" y="7621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2" name=""/>
          <p:cNvSpPr/>
          <p:nvPr/>
        </p:nvSpPr>
        <p:spPr>
          <a:xfrm>
            <a:off x="712800" y="7002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3" name=""/>
          <p:cNvSpPr/>
          <p:nvPr/>
        </p:nvSpPr>
        <p:spPr>
          <a:xfrm>
            <a:off x="1298520" y="6001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4" name=""/>
          <p:cNvSpPr/>
          <p:nvPr/>
        </p:nvSpPr>
        <p:spPr>
          <a:xfrm>
            <a:off x="1336680" y="7095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5" name=""/>
          <p:cNvSpPr/>
          <p:nvPr/>
        </p:nvSpPr>
        <p:spPr>
          <a:xfrm>
            <a:off x="1371600" y="8492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6" name=""/>
          <p:cNvSpPr/>
          <p:nvPr/>
        </p:nvSpPr>
        <p:spPr>
          <a:xfrm>
            <a:off x="1398600" y="6015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7" name=""/>
          <p:cNvSpPr/>
          <p:nvPr/>
        </p:nvSpPr>
        <p:spPr>
          <a:xfrm>
            <a:off x="1542960" y="6778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8" name=""/>
          <p:cNvSpPr/>
          <p:nvPr/>
        </p:nvSpPr>
        <p:spPr>
          <a:xfrm>
            <a:off x="1546200" y="5922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9" name=""/>
          <p:cNvSpPr/>
          <p:nvPr/>
        </p:nvSpPr>
        <p:spPr>
          <a:xfrm>
            <a:off x="1444680" y="6764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0" name=""/>
          <p:cNvSpPr/>
          <p:nvPr/>
        </p:nvSpPr>
        <p:spPr>
          <a:xfrm>
            <a:off x="1504800" y="5587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1" name=""/>
          <p:cNvSpPr/>
          <p:nvPr/>
        </p:nvSpPr>
        <p:spPr>
          <a:xfrm>
            <a:off x="1712880" y="7794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2" name=""/>
          <p:cNvSpPr/>
          <p:nvPr/>
        </p:nvSpPr>
        <p:spPr>
          <a:xfrm>
            <a:off x="2131920" y="6732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3" name=""/>
          <p:cNvSpPr/>
          <p:nvPr/>
        </p:nvSpPr>
        <p:spPr>
          <a:xfrm>
            <a:off x="1611360" y="7430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4" name=""/>
          <p:cNvSpPr/>
          <p:nvPr/>
        </p:nvSpPr>
        <p:spPr>
          <a:xfrm>
            <a:off x="1730520" y="6746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5" name=""/>
          <p:cNvSpPr/>
          <p:nvPr/>
        </p:nvSpPr>
        <p:spPr>
          <a:xfrm>
            <a:off x="1822320" y="7160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6" name=""/>
          <p:cNvSpPr/>
          <p:nvPr/>
        </p:nvSpPr>
        <p:spPr>
          <a:xfrm>
            <a:off x="1884240" y="6080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7" name=""/>
          <p:cNvSpPr/>
          <p:nvPr/>
        </p:nvSpPr>
        <p:spPr>
          <a:xfrm>
            <a:off x="2139840" y="6033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8" name=""/>
          <p:cNvSpPr/>
          <p:nvPr/>
        </p:nvSpPr>
        <p:spPr>
          <a:xfrm>
            <a:off x="1785960" y="6066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9" name=""/>
          <p:cNvSpPr/>
          <p:nvPr/>
        </p:nvSpPr>
        <p:spPr>
          <a:xfrm>
            <a:off x="1928880" y="6508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0" name=""/>
          <p:cNvSpPr/>
          <p:nvPr/>
        </p:nvSpPr>
        <p:spPr>
          <a:xfrm>
            <a:off x="2241720" y="7635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1" name=""/>
          <p:cNvSpPr/>
          <p:nvPr/>
        </p:nvSpPr>
        <p:spPr>
          <a:xfrm>
            <a:off x="2209680" y="6555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2" name=""/>
          <p:cNvSpPr/>
          <p:nvPr/>
        </p:nvSpPr>
        <p:spPr>
          <a:xfrm>
            <a:off x="2273400" y="8557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3" name=""/>
          <p:cNvSpPr/>
          <p:nvPr/>
        </p:nvSpPr>
        <p:spPr>
          <a:xfrm>
            <a:off x="2390760" y="8906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4" name=""/>
          <p:cNvSpPr/>
          <p:nvPr/>
        </p:nvSpPr>
        <p:spPr>
          <a:xfrm>
            <a:off x="1409760" y="97776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5" name=""/>
          <p:cNvSpPr/>
          <p:nvPr/>
        </p:nvSpPr>
        <p:spPr>
          <a:xfrm>
            <a:off x="1789200" y="20559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6" name=""/>
          <p:cNvSpPr/>
          <p:nvPr/>
        </p:nvSpPr>
        <p:spPr>
          <a:xfrm>
            <a:off x="1533600" y="20653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7" name=""/>
          <p:cNvSpPr/>
          <p:nvPr/>
        </p:nvSpPr>
        <p:spPr>
          <a:xfrm>
            <a:off x="1355760" y="2048040"/>
            <a:ext cx="3636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8" name=""/>
          <p:cNvSpPr/>
          <p:nvPr/>
        </p:nvSpPr>
        <p:spPr>
          <a:xfrm>
            <a:off x="1127160" y="20304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9" name=""/>
          <p:cNvSpPr/>
          <p:nvPr/>
        </p:nvSpPr>
        <p:spPr>
          <a:xfrm>
            <a:off x="861840" y="2039760"/>
            <a:ext cx="367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0" name=""/>
          <p:cNvSpPr/>
          <p:nvPr/>
        </p:nvSpPr>
        <p:spPr>
          <a:xfrm>
            <a:off x="4205160" y="16668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1" name=""/>
          <p:cNvSpPr/>
          <p:nvPr/>
        </p:nvSpPr>
        <p:spPr>
          <a:xfrm>
            <a:off x="3686040" y="16891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2" name=""/>
          <p:cNvSpPr/>
          <p:nvPr/>
        </p:nvSpPr>
        <p:spPr>
          <a:xfrm>
            <a:off x="3716280" y="13557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3" name=""/>
          <p:cNvSpPr/>
          <p:nvPr/>
        </p:nvSpPr>
        <p:spPr>
          <a:xfrm>
            <a:off x="3710160" y="19922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4" name=""/>
          <p:cNvSpPr/>
          <p:nvPr/>
        </p:nvSpPr>
        <p:spPr>
          <a:xfrm>
            <a:off x="3605040" y="19144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5" name=""/>
          <p:cNvSpPr/>
          <p:nvPr/>
        </p:nvSpPr>
        <p:spPr>
          <a:xfrm>
            <a:off x="3676680" y="191916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6" name=""/>
          <p:cNvSpPr/>
          <p:nvPr/>
        </p:nvSpPr>
        <p:spPr>
          <a:xfrm>
            <a:off x="3700440" y="18464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7" name=""/>
          <p:cNvSpPr/>
          <p:nvPr/>
        </p:nvSpPr>
        <p:spPr>
          <a:xfrm>
            <a:off x="3602160" y="18511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8" name=""/>
          <p:cNvSpPr/>
          <p:nvPr/>
        </p:nvSpPr>
        <p:spPr>
          <a:xfrm>
            <a:off x="3735360" y="17557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9" name=""/>
          <p:cNvSpPr/>
          <p:nvPr/>
        </p:nvSpPr>
        <p:spPr>
          <a:xfrm>
            <a:off x="3703680" y="15843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0" name=""/>
          <p:cNvSpPr/>
          <p:nvPr/>
        </p:nvSpPr>
        <p:spPr>
          <a:xfrm>
            <a:off x="3795840" y="16257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1" name=""/>
          <p:cNvSpPr/>
          <p:nvPr/>
        </p:nvSpPr>
        <p:spPr>
          <a:xfrm>
            <a:off x="3830760" y="17654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2" name=""/>
          <p:cNvSpPr/>
          <p:nvPr/>
        </p:nvSpPr>
        <p:spPr>
          <a:xfrm>
            <a:off x="3857760" y="15177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3" name=""/>
          <p:cNvSpPr/>
          <p:nvPr/>
        </p:nvSpPr>
        <p:spPr>
          <a:xfrm>
            <a:off x="3860640" y="14320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4" name=""/>
          <p:cNvSpPr/>
          <p:nvPr/>
        </p:nvSpPr>
        <p:spPr>
          <a:xfrm>
            <a:off x="3759120" y="15159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5" name=""/>
          <p:cNvSpPr/>
          <p:nvPr/>
        </p:nvSpPr>
        <p:spPr>
          <a:xfrm>
            <a:off x="3844800" y="19224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6" name=""/>
          <p:cNvSpPr/>
          <p:nvPr/>
        </p:nvSpPr>
        <p:spPr>
          <a:xfrm>
            <a:off x="3746520" y="192708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7" name=""/>
          <p:cNvSpPr/>
          <p:nvPr/>
        </p:nvSpPr>
        <p:spPr>
          <a:xfrm>
            <a:off x="3870360" y="16034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8" name=""/>
          <p:cNvSpPr/>
          <p:nvPr/>
        </p:nvSpPr>
        <p:spPr>
          <a:xfrm>
            <a:off x="3908520" y="17128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9" name=""/>
          <p:cNvSpPr/>
          <p:nvPr/>
        </p:nvSpPr>
        <p:spPr>
          <a:xfrm>
            <a:off x="3943440" y="18525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0" name=""/>
          <p:cNvSpPr/>
          <p:nvPr/>
        </p:nvSpPr>
        <p:spPr>
          <a:xfrm>
            <a:off x="3970440" y="16048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1" name=""/>
          <p:cNvSpPr/>
          <p:nvPr/>
        </p:nvSpPr>
        <p:spPr>
          <a:xfrm>
            <a:off x="3973680" y="15192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2" name=""/>
          <p:cNvSpPr/>
          <p:nvPr/>
        </p:nvSpPr>
        <p:spPr>
          <a:xfrm>
            <a:off x="3889440" y="147780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3" name=""/>
          <p:cNvSpPr/>
          <p:nvPr/>
        </p:nvSpPr>
        <p:spPr>
          <a:xfrm>
            <a:off x="3948120" y="13906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4" name=""/>
          <p:cNvSpPr/>
          <p:nvPr/>
        </p:nvSpPr>
        <p:spPr>
          <a:xfrm>
            <a:off x="3957480" y="20098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5" name=""/>
          <p:cNvSpPr/>
          <p:nvPr/>
        </p:nvSpPr>
        <p:spPr>
          <a:xfrm>
            <a:off x="3992400" y="191916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6" name=""/>
          <p:cNvSpPr/>
          <p:nvPr/>
        </p:nvSpPr>
        <p:spPr>
          <a:xfrm>
            <a:off x="4079880" y="173340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7" name=""/>
          <p:cNvSpPr/>
          <p:nvPr/>
        </p:nvSpPr>
        <p:spPr>
          <a:xfrm>
            <a:off x="4052880" y="17892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8" name=""/>
          <p:cNvSpPr/>
          <p:nvPr/>
        </p:nvSpPr>
        <p:spPr>
          <a:xfrm>
            <a:off x="4087800" y="19288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9" name=""/>
          <p:cNvSpPr/>
          <p:nvPr/>
        </p:nvSpPr>
        <p:spPr>
          <a:xfrm>
            <a:off x="4118040" y="15955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0" name=""/>
          <p:cNvSpPr/>
          <p:nvPr/>
        </p:nvSpPr>
        <p:spPr>
          <a:xfrm>
            <a:off x="4016520" y="167940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1" name=""/>
          <p:cNvSpPr/>
          <p:nvPr/>
        </p:nvSpPr>
        <p:spPr>
          <a:xfrm>
            <a:off x="4092480" y="14670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2" name=""/>
          <p:cNvSpPr/>
          <p:nvPr/>
        </p:nvSpPr>
        <p:spPr>
          <a:xfrm>
            <a:off x="4052880" y="13716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3" name=""/>
          <p:cNvSpPr/>
          <p:nvPr/>
        </p:nvSpPr>
        <p:spPr>
          <a:xfrm>
            <a:off x="4076640" y="15620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4" name=""/>
          <p:cNvSpPr/>
          <p:nvPr/>
        </p:nvSpPr>
        <p:spPr>
          <a:xfrm>
            <a:off x="4230720" y="140796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5" name=""/>
          <p:cNvSpPr/>
          <p:nvPr/>
        </p:nvSpPr>
        <p:spPr>
          <a:xfrm>
            <a:off x="4213080" y="15336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6" name=""/>
          <p:cNvSpPr/>
          <p:nvPr/>
        </p:nvSpPr>
        <p:spPr>
          <a:xfrm>
            <a:off x="4203720" y="20080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7" name=""/>
          <p:cNvSpPr/>
          <p:nvPr/>
        </p:nvSpPr>
        <p:spPr>
          <a:xfrm>
            <a:off x="4200480" y="19447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8" name=""/>
          <p:cNvSpPr/>
          <p:nvPr/>
        </p:nvSpPr>
        <p:spPr>
          <a:xfrm>
            <a:off x="4183200" y="17463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9" name=""/>
          <p:cNvSpPr/>
          <p:nvPr/>
        </p:nvSpPr>
        <p:spPr>
          <a:xfrm>
            <a:off x="4235400" y="7905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0" name=""/>
          <p:cNvSpPr/>
          <p:nvPr/>
        </p:nvSpPr>
        <p:spPr>
          <a:xfrm>
            <a:off x="3681360" y="6732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1" name=""/>
          <p:cNvSpPr/>
          <p:nvPr/>
        </p:nvSpPr>
        <p:spPr>
          <a:xfrm>
            <a:off x="3716280" y="8128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2" name=""/>
          <p:cNvSpPr/>
          <p:nvPr/>
        </p:nvSpPr>
        <p:spPr>
          <a:xfrm>
            <a:off x="3722760" y="12384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3" name=""/>
          <p:cNvSpPr/>
          <p:nvPr/>
        </p:nvSpPr>
        <p:spPr>
          <a:xfrm>
            <a:off x="3740040" y="11160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4" name=""/>
          <p:cNvSpPr/>
          <p:nvPr/>
        </p:nvSpPr>
        <p:spPr>
          <a:xfrm>
            <a:off x="3635280" y="10382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5" name=""/>
          <p:cNvSpPr/>
          <p:nvPr/>
        </p:nvSpPr>
        <p:spPr>
          <a:xfrm>
            <a:off x="3730680" y="96984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6" name=""/>
          <p:cNvSpPr/>
          <p:nvPr/>
        </p:nvSpPr>
        <p:spPr>
          <a:xfrm>
            <a:off x="3632040" y="9748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7" name=""/>
          <p:cNvSpPr/>
          <p:nvPr/>
        </p:nvSpPr>
        <p:spPr>
          <a:xfrm>
            <a:off x="3765600" y="8794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8" name=""/>
          <p:cNvSpPr/>
          <p:nvPr/>
        </p:nvSpPr>
        <p:spPr>
          <a:xfrm>
            <a:off x="3614760" y="77616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9" name=""/>
          <p:cNvSpPr/>
          <p:nvPr/>
        </p:nvSpPr>
        <p:spPr>
          <a:xfrm>
            <a:off x="3733920" y="7081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0" name=""/>
          <p:cNvSpPr/>
          <p:nvPr/>
        </p:nvSpPr>
        <p:spPr>
          <a:xfrm>
            <a:off x="3825720" y="74916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1" name=""/>
          <p:cNvSpPr/>
          <p:nvPr/>
        </p:nvSpPr>
        <p:spPr>
          <a:xfrm>
            <a:off x="3860640" y="88884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2" name=""/>
          <p:cNvSpPr/>
          <p:nvPr/>
        </p:nvSpPr>
        <p:spPr>
          <a:xfrm>
            <a:off x="3887640" y="6415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3" name=""/>
          <p:cNvSpPr/>
          <p:nvPr/>
        </p:nvSpPr>
        <p:spPr>
          <a:xfrm>
            <a:off x="3789360" y="6397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4" name=""/>
          <p:cNvSpPr/>
          <p:nvPr/>
        </p:nvSpPr>
        <p:spPr>
          <a:xfrm>
            <a:off x="3884760" y="11923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5" name=""/>
          <p:cNvSpPr/>
          <p:nvPr/>
        </p:nvSpPr>
        <p:spPr>
          <a:xfrm>
            <a:off x="3798720" y="1231920"/>
            <a:ext cx="367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6" name=""/>
          <p:cNvSpPr/>
          <p:nvPr/>
        </p:nvSpPr>
        <p:spPr>
          <a:xfrm>
            <a:off x="3851280" y="11192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7" name=""/>
          <p:cNvSpPr/>
          <p:nvPr/>
        </p:nvSpPr>
        <p:spPr>
          <a:xfrm>
            <a:off x="3875040" y="10461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8" name=""/>
          <p:cNvSpPr/>
          <p:nvPr/>
        </p:nvSpPr>
        <p:spPr>
          <a:xfrm>
            <a:off x="3776760" y="10508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9" name=""/>
          <p:cNvSpPr/>
          <p:nvPr/>
        </p:nvSpPr>
        <p:spPr>
          <a:xfrm>
            <a:off x="3900600" y="7272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0" name=""/>
          <p:cNvSpPr/>
          <p:nvPr/>
        </p:nvSpPr>
        <p:spPr>
          <a:xfrm>
            <a:off x="3938760" y="8366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1" name=""/>
          <p:cNvSpPr/>
          <p:nvPr/>
        </p:nvSpPr>
        <p:spPr>
          <a:xfrm>
            <a:off x="3973680" y="9763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2" name=""/>
          <p:cNvSpPr/>
          <p:nvPr/>
        </p:nvSpPr>
        <p:spPr>
          <a:xfrm>
            <a:off x="4000680" y="7286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3" name=""/>
          <p:cNvSpPr/>
          <p:nvPr/>
        </p:nvSpPr>
        <p:spPr>
          <a:xfrm>
            <a:off x="4003560" y="6429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4" name=""/>
          <p:cNvSpPr/>
          <p:nvPr/>
        </p:nvSpPr>
        <p:spPr>
          <a:xfrm>
            <a:off x="3882960" y="13129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5" name=""/>
          <p:cNvSpPr/>
          <p:nvPr/>
        </p:nvSpPr>
        <p:spPr>
          <a:xfrm>
            <a:off x="3963960" y="120636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6" name=""/>
          <p:cNvSpPr/>
          <p:nvPr/>
        </p:nvSpPr>
        <p:spPr>
          <a:xfrm>
            <a:off x="3987720" y="11336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7" name=""/>
          <p:cNvSpPr/>
          <p:nvPr/>
        </p:nvSpPr>
        <p:spPr>
          <a:xfrm>
            <a:off x="4022640" y="10429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8" name=""/>
          <p:cNvSpPr/>
          <p:nvPr/>
        </p:nvSpPr>
        <p:spPr>
          <a:xfrm>
            <a:off x="4110120" y="8571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9" name=""/>
          <p:cNvSpPr/>
          <p:nvPr/>
        </p:nvSpPr>
        <p:spPr>
          <a:xfrm>
            <a:off x="4083120" y="9129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0" name=""/>
          <p:cNvSpPr/>
          <p:nvPr/>
        </p:nvSpPr>
        <p:spPr>
          <a:xfrm>
            <a:off x="4118040" y="10526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1" name=""/>
          <p:cNvSpPr/>
          <p:nvPr/>
        </p:nvSpPr>
        <p:spPr>
          <a:xfrm>
            <a:off x="4037040" y="12780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2" name=""/>
          <p:cNvSpPr/>
          <p:nvPr/>
        </p:nvSpPr>
        <p:spPr>
          <a:xfrm>
            <a:off x="4108320" y="12826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3" name=""/>
          <p:cNvSpPr/>
          <p:nvPr/>
        </p:nvSpPr>
        <p:spPr>
          <a:xfrm>
            <a:off x="4132440" y="12096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4" name=""/>
          <p:cNvSpPr/>
          <p:nvPr/>
        </p:nvSpPr>
        <p:spPr>
          <a:xfrm>
            <a:off x="4033800" y="121428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5" name=""/>
          <p:cNvSpPr/>
          <p:nvPr/>
        </p:nvSpPr>
        <p:spPr>
          <a:xfrm>
            <a:off x="4135320" y="9478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6" name=""/>
          <p:cNvSpPr/>
          <p:nvPr/>
        </p:nvSpPr>
        <p:spPr>
          <a:xfrm>
            <a:off x="4243320" y="6573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7" name=""/>
          <p:cNvSpPr/>
          <p:nvPr/>
        </p:nvSpPr>
        <p:spPr>
          <a:xfrm>
            <a:off x="4253040" y="1249200"/>
            <a:ext cx="3636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8" name=""/>
          <p:cNvSpPr/>
          <p:nvPr/>
        </p:nvSpPr>
        <p:spPr>
          <a:xfrm>
            <a:off x="4233960" y="11318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9" name=""/>
          <p:cNvSpPr/>
          <p:nvPr/>
        </p:nvSpPr>
        <p:spPr>
          <a:xfrm>
            <a:off x="4230720" y="10684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0" name=""/>
          <p:cNvSpPr/>
          <p:nvPr/>
        </p:nvSpPr>
        <p:spPr>
          <a:xfrm>
            <a:off x="4213080" y="8701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1" name=""/>
          <p:cNvSpPr/>
          <p:nvPr/>
        </p:nvSpPr>
        <p:spPr>
          <a:xfrm>
            <a:off x="4060800" y="5778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2" name=""/>
          <p:cNvSpPr/>
          <p:nvPr/>
        </p:nvSpPr>
        <p:spPr>
          <a:xfrm>
            <a:off x="4019400" y="5446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3" name=""/>
          <p:cNvSpPr/>
          <p:nvPr/>
        </p:nvSpPr>
        <p:spPr>
          <a:xfrm>
            <a:off x="3422520" y="34480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4" name=""/>
          <p:cNvSpPr/>
          <p:nvPr/>
        </p:nvSpPr>
        <p:spPr>
          <a:xfrm>
            <a:off x="3205080" y="29750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5" name=""/>
          <p:cNvSpPr/>
          <p:nvPr/>
        </p:nvSpPr>
        <p:spPr>
          <a:xfrm>
            <a:off x="3413160" y="33019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6" name=""/>
          <p:cNvSpPr/>
          <p:nvPr/>
        </p:nvSpPr>
        <p:spPr>
          <a:xfrm>
            <a:off x="3448080" y="32115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7" name=""/>
          <p:cNvSpPr/>
          <p:nvPr/>
        </p:nvSpPr>
        <p:spPr>
          <a:xfrm>
            <a:off x="3060720" y="29494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8" name=""/>
          <p:cNvSpPr/>
          <p:nvPr/>
        </p:nvSpPr>
        <p:spPr>
          <a:xfrm>
            <a:off x="2509920" y="32162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9" name=""/>
          <p:cNvSpPr/>
          <p:nvPr/>
        </p:nvSpPr>
        <p:spPr>
          <a:xfrm>
            <a:off x="2533680" y="351936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0" name=""/>
          <p:cNvSpPr/>
          <p:nvPr/>
        </p:nvSpPr>
        <p:spPr>
          <a:xfrm>
            <a:off x="2448000" y="3559320"/>
            <a:ext cx="3636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1" name=""/>
          <p:cNvSpPr/>
          <p:nvPr/>
        </p:nvSpPr>
        <p:spPr>
          <a:xfrm>
            <a:off x="2428920" y="34416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2" name=""/>
          <p:cNvSpPr/>
          <p:nvPr/>
        </p:nvSpPr>
        <p:spPr>
          <a:xfrm>
            <a:off x="2567160" y="30751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3" name=""/>
          <p:cNvSpPr/>
          <p:nvPr/>
        </p:nvSpPr>
        <p:spPr>
          <a:xfrm>
            <a:off x="2133720" y="304308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4" name=""/>
          <p:cNvSpPr/>
          <p:nvPr/>
        </p:nvSpPr>
        <p:spPr>
          <a:xfrm>
            <a:off x="2425680" y="33782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5" name=""/>
          <p:cNvSpPr/>
          <p:nvPr/>
        </p:nvSpPr>
        <p:spPr>
          <a:xfrm>
            <a:off x="2286000" y="32162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6" name=""/>
          <p:cNvSpPr/>
          <p:nvPr/>
        </p:nvSpPr>
        <p:spPr>
          <a:xfrm>
            <a:off x="2595600" y="26719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7" name=""/>
          <p:cNvSpPr/>
          <p:nvPr/>
        </p:nvSpPr>
        <p:spPr>
          <a:xfrm>
            <a:off x="2371680" y="27432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8" name=""/>
          <p:cNvSpPr/>
          <p:nvPr/>
        </p:nvSpPr>
        <p:spPr>
          <a:xfrm>
            <a:off x="2619360" y="31528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9" name=""/>
          <p:cNvSpPr/>
          <p:nvPr/>
        </p:nvSpPr>
        <p:spPr>
          <a:xfrm>
            <a:off x="2654280" y="32925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0" name=""/>
          <p:cNvSpPr/>
          <p:nvPr/>
        </p:nvSpPr>
        <p:spPr>
          <a:xfrm>
            <a:off x="2581200" y="35672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1" name=""/>
          <p:cNvSpPr/>
          <p:nvPr/>
        </p:nvSpPr>
        <p:spPr>
          <a:xfrm>
            <a:off x="2644920" y="35226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2" name=""/>
          <p:cNvSpPr/>
          <p:nvPr/>
        </p:nvSpPr>
        <p:spPr>
          <a:xfrm>
            <a:off x="2668680" y="344952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3" name=""/>
          <p:cNvSpPr/>
          <p:nvPr/>
        </p:nvSpPr>
        <p:spPr>
          <a:xfrm>
            <a:off x="2570040" y="34545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4" name=""/>
          <p:cNvSpPr/>
          <p:nvPr/>
        </p:nvSpPr>
        <p:spPr>
          <a:xfrm>
            <a:off x="2693880" y="31305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5" name=""/>
          <p:cNvSpPr/>
          <p:nvPr/>
        </p:nvSpPr>
        <p:spPr>
          <a:xfrm>
            <a:off x="2732040" y="32400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6" name=""/>
          <p:cNvSpPr/>
          <p:nvPr/>
        </p:nvSpPr>
        <p:spPr>
          <a:xfrm>
            <a:off x="2766960" y="33796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7" name=""/>
          <p:cNvSpPr/>
          <p:nvPr/>
        </p:nvSpPr>
        <p:spPr>
          <a:xfrm>
            <a:off x="2793960" y="313200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8" name=""/>
          <p:cNvSpPr/>
          <p:nvPr/>
        </p:nvSpPr>
        <p:spPr>
          <a:xfrm>
            <a:off x="2781360" y="35370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9" name=""/>
          <p:cNvSpPr/>
          <p:nvPr/>
        </p:nvSpPr>
        <p:spPr>
          <a:xfrm>
            <a:off x="2816280" y="34466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0" name=""/>
          <p:cNvSpPr/>
          <p:nvPr/>
        </p:nvSpPr>
        <p:spPr>
          <a:xfrm>
            <a:off x="3100320" y="31305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1" name=""/>
          <p:cNvSpPr/>
          <p:nvPr/>
        </p:nvSpPr>
        <p:spPr>
          <a:xfrm>
            <a:off x="2876400" y="33163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2" name=""/>
          <p:cNvSpPr/>
          <p:nvPr/>
        </p:nvSpPr>
        <p:spPr>
          <a:xfrm>
            <a:off x="2911320" y="34560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3" name=""/>
          <p:cNvSpPr/>
          <p:nvPr/>
        </p:nvSpPr>
        <p:spPr>
          <a:xfrm>
            <a:off x="2938320" y="32083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4" name=""/>
          <p:cNvSpPr/>
          <p:nvPr/>
        </p:nvSpPr>
        <p:spPr>
          <a:xfrm>
            <a:off x="2840040" y="32068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5" name=""/>
          <p:cNvSpPr/>
          <p:nvPr/>
        </p:nvSpPr>
        <p:spPr>
          <a:xfrm>
            <a:off x="2928960" y="33512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6" name=""/>
          <p:cNvSpPr/>
          <p:nvPr/>
        </p:nvSpPr>
        <p:spPr>
          <a:xfrm>
            <a:off x="3098880" y="29988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7" name=""/>
          <p:cNvSpPr/>
          <p:nvPr/>
        </p:nvSpPr>
        <p:spPr>
          <a:xfrm>
            <a:off x="3098880" y="35402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8" name=""/>
          <p:cNvSpPr/>
          <p:nvPr/>
        </p:nvSpPr>
        <p:spPr>
          <a:xfrm>
            <a:off x="3122640" y="34671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9" name=""/>
          <p:cNvSpPr/>
          <p:nvPr/>
        </p:nvSpPr>
        <p:spPr>
          <a:xfrm>
            <a:off x="3024360" y="34718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0" name=""/>
          <p:cNvSpPr/>
          <p:nvPr/>
        </p:nvSpPr>
        <p:spPr>
          <a:xfrm>
            <a:off x="3157560" y="337644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1" name=""/>
          <p:cNvSpPr/>
          <p:nvPr/>
        </p:nvSpPr>
        <p:spPr>
          <a:xfrm>
            <a:off x="3003480" y="26542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2" name=""/>
          <p:cNvSpPr/>
          <p:nvPr/>
        </p:nvSpPr>
        <p:spPr>
          <a:xfrm>
            <a:off x="3125880" y="32050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3" name=""/>
          <p:cNvSpPr/>
          <p:nvPr/>
        </p:nvSpPr>
        <p:spPr>
          <a:xfrm>
            <a:off x="3309840" y="304308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4" name=""/>
          <p:cNvSpPr/>
          <p:nvPr/>
        </p:nvSpPr>
        <p:spPr>
          <a:xfrm>
            <a:off x="3321000" y="32940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5" name=""/>
          <p:cNvSpPr/>
          <p:nvPr/>
        </p:nvSpPr>
        <p:spPr>
          <a:xfrm>
            <a:off x="3267000" y="35434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6" name=""/>
          <p:cNvSpPr/>
          <p:nvPr/>
        </p:nvSpPr>
        <p:spPr>
          <a:xfrm>
            <a:off x="3168720" y="35481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7" name=""/>
          <p:cNvSpPr/>
          <p:nvPr/>
        </p:nvSpPr>
        <p:spPr>
          <a:xfrm>
            <a:off x="2370240" y="22384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8" name=""/>
          <p:cNvSpPr/>
          <p:nvPr/>
        </p:nvSpPr>
        <p:spPr>
          <a:xfrm>
            <a:off x="2373480" y="21528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9" name=""/>
          <p:cNvSpPr/>
          <p:nvPr/>
        </p:nvSpPr>
        <p:spPr>
          <a:xfrm>
            <a:off x="2360520" y="23814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0" name=""/>
          <p:cNvSpPr/>
          <p:nvPr/>
        </p:nvSpPr>
        <p:spPr>
          <a:xfrm>
            <a:off x="3429000" y="226836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1" name=""/>
          <p:cNvSpPr/>
          <p:nvPr/>
        </p:nvSpPr>
        <p:spPr>
          <a:xfrm>
            <a:off x="3452760" y="25718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2" name=""/>
          <p:cNvSpPr/>
          <p:nvPr/>
        </p:nvSpPr>
        <p:spPr>
          <a:xfrm>
            <a:off x="3348000" y="24940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3" name=""/>
          <p:cNvSpPr/>
          <p:nvPr/>
        </p:nvSpPr>
        <p:spPr>
          <a:xfrm>
            <a:off x="3376440" y="23828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4" name=""/>
          <p:cNvSpPr/>
          <p:nvPr/>
        </p:nvSpPr>
        <p:spPr>
          <a:xfrm>
            <a:off x="3478320" y="23353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5" name=""/>
          <p:cNvSpPr/>
          <p:nvPr/>
        </p:nvSpPr>
        <p:spPr>
          <a:xfrm>
            <a:off x="3059280" y="23176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6" name=""/>
          <p:cNvSpPr/>
          <p:nvPr/>
        </p:nvSpPr>
        <p:spPr>
          <a:xfrm>
            <a:off x="2505240" y="22003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7" name=""/>
          <p:cNvSpPr/>
          <p:nvPr/>
        </p:nvSpPr>
        <p:spPr>
          <a:xfrm>
            <a:off x="2540160" y="23400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8" name=""/>
          <p:cNvSpPr/>
          <p:nvPr/>
        </p:nvSpPr>
        <p:spPr>
          <a:xfrm>
            <a:off x="2567160" y="20923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9" name=""/>
          <p:cNvSpPr/>
          <p:nvPr/>
        </p:nvSpPr>
        <p:spPr>
          <a:xfrm>
            <a:off x="2468520" y="20908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0" name=""/>
          <p:cNvSpPr/>
          <p:nvPr/>
        </p:nvSpPr>
        <p:spPr>
          <a:xfrm>
            <a:off x="2459160" y="25653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1" name=""/>
          <p:cNvSpPr/>
          <p:nvPr/>
        </p:nvSpPr>
        <p:spPr>
          <a:xfrm>
            <a:off x="2708280" y="29512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2" name=""/>
          <p:cNvSpPr/>
          <p:nvPr/>
        </p:nvSpPr>
        <p:spPr>
          <a:xfrm>
            <a:off x="2373480" y="28623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3" name=""/>
          <p:cNvSpPr/>
          <p:nvPr/>
        </p:nvSpPr>
        <p:spPr>
          <a:xfrm>
            <a:off x="2455920" y="25020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4" name=""/>
          <p:cNvSpPr/>
          <p:nvPr/>
        </p:nvSpPr>
        <p:spPr>
          <a:xfrm>
            <a:off x="2589120" y="24066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5" name=""/>
          <p:cNvSpPr/>
          <p:nvPr/>
        </p:nvSpPr>
        <p:spPr>
          <a:xfrm>
            <a:off x="2438280" y="23036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6" name=""/>
          <p:cNvSpPr/>
          <p:nvPr/>
        </p:nvSpPr>
        <p:spPr>
          <a:xfrm>
            <a:off x="2557440" y="22352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7" name=""/>
          <p:cNvSpPr/>
          <p:nvPr/>
        </p:nvSpPr>
        <p:spPr>
          <a:xfrm>
            <a:off x="2649600" y="22766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8" name=""/>
          <p:cNvSpPr/>
          <p:nvPr/>
        </p:nvSpPr>
        <p:spPr>
          <a:xfrm>
            <a:off x="2684520" y="24163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9" name=""/>
          <p:cNvSpPr/>
          <p:nvPr/>
        </p:nvSpPr>
        <p:spPr>
          <a:xfrm>
            <a:off x="2711520" y="21686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0" name=""/>
          <p:cNvSpPr/>
          <p:nvPr/>
        </p:nvSpPr>
        <p:spPr>
          <a:xfrm>
            <a:off x="2714760" y="20829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1" name=""/>
          <p:cNvSpPr/>
          <p:nvPr/>
        </p:nvSpPr>
        <p:spPr>
          <a:xfrm>
            <a:off x="2612880" y="21668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2" name=""/>
          <p:cNvSpPr/>
          <p:nvPr/>
        </p:nvSpPr>
        <p:spPr>
          <a:xfrm>
            <a:off x="2698920" y="25732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3" name=""/>
          <p:cNvSpPr/>
          <p:nvPr/>
        </p:nvSpPr>
        <p:spPr>
          <a:xfrm>
            <a:off x="2600280" y="257796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4" name=""/>
          <p:cNvSpPr/>
          <p:nvPr/>
        </p:nvSpPr>
        <p:spPr>
          <a:xfrm>
            <a:off x="2724120" y="22543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5" name=""/>
          <p:cNvSpPr/>
          <p:nvPr/>
        </p:nvSpPr>
        <p:spPr>
          <a:xfrm>
            <a:off x="2762280" y="23637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6" name=""/>
          <p:cNvSpPr/>
          <p:nvPr/>
        </p:nvSpPr>
        <p:spPr>
          <a:xfrm>
            <a:off x="2797200" y="25034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7" name=""/>
          <p:cNvSpPr/>
          <p:nvPr/>
        </p:nvSpPr>
        <p:spPr>
          <a:xfrm>
            <a:off x="2824200" y="22557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8" name=""/>
          <p:cNvSpPr/>
          <p:nvPr/>
        </p:nvSpPr>
        <p:spPr>
          <a:xfrm>
            <a:off x="2827440" y="21700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9" name=""/>
          <p:cNvSpPr/>
          <p:nvPr/>
        </p:nvSpPr>
        <p:spPr>
          <a:xfrm>
            <a:off x="2289240" y="21463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0" name=""/>
          <p:cNvSpPr/>
          <p:nvPr/>
        </p:nvSpPr>
        <p:spPr>
          <a:xfrm>
            <a:off x="2846520" y="257004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1" name=""/>
          <p:cNvSpPr/>
          <p:nvPr/>
        </p:nvSpPr>
        <p:spPr>
          <a:xfrm>
            <a:off x="2933640" y="238428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2" name=""/>
          <p:cNvSpPr/>
          <p:nvPr/>
        </p:nvSpPr>
        <p:spPr>
          <a:xfrm>
            <a:off x="2906640" y="24400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3" name=""/>
          <p:cNvSpPr/>
          <p:nvPr/>
        </p:nvSpPr>
        <p:spPr>
          <a:xfrm>
            <a:off x="2971800" y="22464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4" name=""/>
          <p:cNvSpPr/>
          <p:nvPr/>
        </p:nvSpPr>
        <p:spPr>
          <a:xfrm>
            <a:off x="2870280" y="233028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5" name=""/>
          <p:cNvSpPr/>
          <p:nvPr/>
        </p:nvSpPr>
        <p:spPr>
          <a:xfrm>
            <a:off x="3137040" y="28512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6" name=""/>
          <p:cNvSpPr/>
          <p:nvPr/>
        </p:nvSpPr>
        <p:spPr>
          <a:xfrm>
            <a:off x="1911240" y="28083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7" name=""/>
          <p:cNvSpPr/>
          <p:nvPr/>
        </p:nvSpPr>
        <p:spPr>
          <a:xfrm>
            <a:off x="2930400" y="22129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8" name=""/>
          <p:cNvSpPr/>
          <p:nvPr/>
        </p:nvSpPr>
        <p:spPr>
          <a:xfrm>
            <a:off x="3067200" y="21844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9" name=""/>
          <p:cNvSpPr/>
          <p:nvPr/>
        </p:nvSpPr>
        <p:spPr>
          <a:xfrm>
            <a:off x="3159000" y="272880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0" name=""/>
          <p:cNvSpPr/>
          <p:nvPr/>
        </p:nvSpPr>
        <p:spPr>
          <a:xfrm>
            <a:off x="3048120" y="24922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1" name=""/>
          <p:cNvSpPr/>
          <p:nvPr/>
        </p:nvSpPr>
        <p:spPr>
          <a:xfrm>
            <a:off x="3156120" y="23288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2" name=""/>
          <p:cNvSpPr/>
          <p:nvPr/>
        </p:nvSpPr>
        <p:spPr>
          <a:xfrm>
            <a:off x="3247920" y="23702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3" name=""/>
          <p:cNvSpPr/>
          <p:nvPr/>
        </p:nvSpPr>
        <p:spPr>
          <a:xfrm>
            <a:off x="3282840" y="25099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4" name=""/>
          <p:cNvSpPr/>
          <p:nvPr/>
        </p:nvSpPr>
        <p:spPr>
          <a:xfrm>
            <a:off x="3309840" y="22622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5" name=""/>
          <p:cNvSpPr/>
          <p:nvPr/>
        </p:nvSpPr>
        <p:spPr>
          <a:xfrm>
            <a:off x="3373560" y="29718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6" name=""/>
          <p:cNvSpPr/>
          <p:nvPr/>
        </p:nvSpPr>
        <p:spPr>
          <a:xfrm>
            <a:off x="4078440" y="33163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7" name=""/>
          <p:cNvSpPr/>
          <p:nvPr/>
        </p:nvSpPr>
        <p:spPr>
          <a:xfrm>
            <a:off x="3621240" y="33195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8" name=""/>
          <p:cNvSpPr/>
          <p:nvPr/>
        </p:nvSpPr>
        <p:spPr>
          <a:xfrm>
            <a:off x="3478320" y="35640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9" name=""/>
          <p:cNvSpPr/>
          <p:nvPr/>
        </p:nvSpPr>
        <p:spPr>
          <a:xfrm>
            <a:off x="3503520" y="29131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0" name=""/>
          <p:cNvSpPr/>
          <p:nvPr/>
        </p:nvSpPr>
        <p:spPr>
          <a:xfrm>
            <a:off x="3703680" y="341460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1" name=""/>
          <p:cNvSpPr/>
          <p:nvPr/>
        </p:nvSpPr>
        <p:spPr>
          <a:xfrm>
            <a:off x="3719520" y="34956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2" name=""/>
          <p:cNvSpPr/>
          <p:nvPr/>
        </p:nvSpPr>
        <p:spPr>
          <a:xfrm>
            <a:off x="3619440" y="35766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3" name=""/>
          <p:cNvSpPr/>
          <p:nvPr/>
        </p:nvSpPr>
        <p:spPr>
          <a:xfrm>
            <a:off x="3743280" y="32529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4" name=""/>
          <p:cNvSpPr/>
          <p:nvPr/>
        </p:nvSpPr>
        <p:spPr>
          <a:xfrm>
            <a:off x="3768840" y="29433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5" name=""/>
          <p:cNvSpPr/>
          <p:nvPr/>
        </p:nvSpPr>
        <p:spPr>
          <a:xfrm>
            <a:off x="3816360" y="35020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6" name=""/>
          <p:cNvSpPr/>
          <p:nvPr/>
        </p:nvSpPr>
        <p:spPr>
          <a:xfrm>
            <a:off x="3726000" y="280656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7" name=""/>
          <p:cNvSpPr/>
          <p:nvPr/>
        </p:nvSpPr>
        <p:spPr>
          <a:xfrm>
            <a:off x="3643200" y="282240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8" name=""/>
          <p:cNvSpPr/>
          <p:nvPr/>
        </p:nvSpPr>
        <p:spPr>
          <a:xfrm>
            <a:off x="3890880" y="30574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9" name=""/>
          <p:cNvSpPr/>
          <p:nvPr/>
        </p:nvSpPr>
        <p:spPr>
          <a:xfrm>
            <a:off x="3960720" y="35784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0" name=""/>
          <p:cNvSpPr/>
          <p:nvPr/>
        </p:nvSpPr>
        <p:spPr>
          <a:xfrm>
            <a:off x="3987720" y="33307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1" name=""/>
          <p:cNvSpPr/>
          <p:nvPr/>
        </p:nvSpPr>
        <p:spPr>
          <a:xfrm>
            <a:off x="3984480" y="29718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2" name=""/>
          <p:cNvSpPr/>
          <p:nvPr/>
        </p:nvSpPr>
        <p:spPr>
          <a:xfrm>
            <a:off x="3889440" y="33289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3" name=""/>
          <p:cNvSpPr/>
          <p:nvPr/>
        </p:nvSpPr>
        <p:spPr>
          <a:xfrm>
            <a:off x="3978360" y="347328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4" name=""/>
          <p:cNvSpPr/>
          <p:nvPr/>
        </p:nvSpPr>
        <p:spPr>
          <a:xfrm>
            <a:off x="3936960" y="28940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5" name=""/>
          <p:cNvSpPr/>
          <p:nvPr/>
        </p:nvSpPr>
        <p:spPr>
          <a:xfrm>
            <a:off x="4157640" y="34322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6" name=""/>
          <p:cNvSpPr/>
          <p:nvPr/>
        </p:nvSpPr>
        <p:spPr>
          <a:xfrm>
            <a:off x="4184640" y="31845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7" name=""/>
          <p:cNvSpPr/>
          <p:nvPr/>
        </p:nvSpPr>
        <p:spPr>
          <a:xfrm>
            <a:off x="4187880" y="30988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8" name=""/>
          <p:cNvSpPr/>
          <p:nvPr/>
        </p:nvSpPr>
        <p:spPr>
          <a:xfrm>
            <a:off x="4103640" y="30574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9" name=""/>
          <p:cNvSpPr/>
          <p:nvPr/>
        </p:nvSpPr>
        <p:spPr>
          <a:xfrm>
            <a:off x="4086360" y="318276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0" name=""/>
          <p:cNvSpPr/>
          <p:nvPr/>
        </p:nvSpPr>
        <p:spPr>
          <a:xfrm>
            <a:off x="4206960" y="34988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1" name=""/>
          <p:cNvSpPr/>
          <p:nvPr/>
        </p:nvSpPr>
        <p:spPr>
          <a:xfrm>
            <a:off x="4056120" y="339552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2" name=""/>
          <p:cNvSpPr/>
          <p:nvPr/>
        </p:nvSpPr>
        <p:spPr>
          <a:xfrm>
            <a:off x="4175280" y="33274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3" name=""/>
          <p:cNvSpPr/>
          <p:nvPr/>
        </p:nvSpPr>
        <p:spPr>
          <a:xfrm>
            <a:off x="4267080" y="336852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4" name=""/>
          <p:cNvSpPr/>
          <p:nvPr/>
        </p:nvSpPr>
        <p:spPr>
          <a:xfrm>
            <a:off x="4248000" y="31338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5" name=""/>
          <p:cNvSpPr/>
          <p:nvPr/>
        </p:nvSpPr>
        <p:spPr>
          <a:xfrm>
            <a:off x="4230720" y="32590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6" name=""/>
          <p:cNvSpPr/>
          <p:nvPr/>
        </p:nvSpPr>
        <p:spPr>
          <a:xfrm>
            <a:off x="4108320" y="24400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7" name=""/>
          <p:cNvSpPr/>
          <p:nvPr/>
        </p:nvSpPr>
        <p:spPr>
          <a:xfrm>
            <a:off x="3732120" y="30751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8" name=""/>
          <p:cNvSpPr/>
          <p:nvPr/>
        </p:nvSpPr>
        <p:spPr>
          <a:xfrm>
            <a:off x="3638520" y="25290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9" name=""/>
          <p:cNvSpPr/>
          <p:nvPr/>
        </p:nvSpPr>
        <p:spPr>
          <a:xfrm>
            <a:off x="3546360" y="24098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0" name=""/>
          <p:cNvSpPr/>
          <p:nvPr/>
        </p:nvSpPr>
        <p:spPr>
          <a:xfrm>
            <a:off x="3594240" y="26780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1" name=""/>
          <p:cNvSpPr/>
          <p:nvPr/>
        </p:nvSpPr>
        <p:spPr>
          <a:xfrm>
            <a:off x="3699000" y="23986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2" name=""/>
          <p:cNvSpPr/>
          <p:nvPr/>
        </p:nvSpPr>
        <p:spPr>
          <a:xfrm>
            <a:off x="3733920" y="25383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3" name=""/>
          <p:cNvSpPr/>
          <p:nvPr/>
        </p:nvSpPr>
        <p:spPr>
          <a:xfrm>
            <a:off x="3817800" y="25416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4" name=""/>
          <p:cNvSpPr/>
          <p:nvPr/>
        </p:nvSpPr>
        <p:spPr>
          <a:xfrm>
            <a:off x="3662280" y="22892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5" name=""/>
          <p:cNvSpPr/>
          <p:nvPr/>
        </p:nvSpPr>
        <p:spPr>
          <a:xfrm>
            <a:off x="3792600" y="270972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6" name=""/>
          <p:cNvSpPr/>
          <p:nvPr/>
        </p:nvSpPr>
        <p:spPr>
          <a:xfrm>
            <a:off x="3873600" y="23781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7" name=""/>
          <p:cNvSpPr/>
          <p:nvPr/>
        </p:nvSpPr>
        <p:spPr>
          <a:xfrm>
            <a:off x="3876840" y="22924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8" name=""/>
          <p:cNvSpPr/>
          <p:nvPr/>
        </p:nvSpPr>
        <p:spPr>
          <a:xfrm>
            <a:off x="3792600" y="22510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9" name=""/>
          <p:cNvSpPr/>
          <p:nvPr/>
        </p:nvSpPr>
        <p:spPr>
          <a:xfrm>
            <a:off x="3606840" y="31813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0" name=""/>
          <p:cNvSpPr/>
          <p:nvPr/>
        </p:nvSpPr>
        <p:spPr>
          <a:xfrm>
            <a:off x="3956040" y="25621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1" name=""/>
          <p:cNvSpPr/>
          <p:nvPr/>
        </p:nvSpPr>
        <p:spPr>
          <a:xfrm>
            <a:off x="4024440" y="27338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2" name=""/>
          <p:cNvSpPr/>
          <p:nvPr/>
        </p:nvSpPr>
        <p:spPr>
          <a:xfrm>
            <a:off x="4021200" y="236844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3" name=""/>
          <p:cNvSpPr/>
          <p:nvPr/>
        </p:nvSpPr>
        <p:spPr>
          <a:xfrm>
            <a:off x="3875040" y="27068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4" name=""/>
          <p:cNvSpPr/>
          <p:nvPr/>
        </p:nvSpPr>
        <p:spPr>
          <a:xfrm>
            <a:off x="3979800" y="23353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5" name=""/>
          <p:cNvSpPr/>
          <p:nvPr/>
        </p:nvSpPr>
        <p:spPr>
          <a:xfrm>
            <a:off x="4187880" y="25560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6" name=""/>
          <p:cNvSpPr/>
          <p:nvPr/>
        </p:nvSpPr>
        <p:spPr>
          <a:xfrm>
            <a:off x="4214880" y="23083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7" name=""/>
          <p:cNvSpPr/>
          <p:nvPr/>
        </p:nvSpPr>
        <p:spPr>
          <a:xfrm>
            <a:off x="4116240" y="230652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8" name=""/>
          <p:cNvSpPr/>
          <p:nvPr/>
        </p:nvSpPr>
        <p:spPr>
          <a:xfrm>
            <a:off x="4211640" y="28591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9" name=""/>
          <p:cNvSpPr/>
          <p:nvPr/>
        </p:nvSpPr>
        <p:spPr>
          <a:xfrm>
            <a:off x="4125960" y="2898720"/>
            <a:ext cx="3636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0" name=""/>
          <p:cNvSpPr/>
          <p:nvPr/>
        </p:nvSpPr>
        <p:spPr>
          <a:xfrm>
            <a:off x="4106880" y="27813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1" name=""/>
          <p:cNvSpPr/>
          <p:nvPr/>
        </p:nvSpPr>
        <p:spPr>
          <a:xfrm>
            <a:off x="4178160" y="27860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2" name=""/>
          <p:cNvSpPr/>
          <p:nvPr/>
        </p:nvSpPr>
        <p:spPr>
          <a:xfrm>
            <a:off x="4202280" y="27129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3" name=""/>
          <p:cNvSpPr/>
          <p:nvPr/>
        </p:nvSpPr>
        <p:spPr>
          <a:xfrm>
            <a:off x="3957480" y="26798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4" name=""/>
          <p:cNvSpPr/>
          <p:nvPr/>
        </p:nvSpPr>
        <p:spPr>
          <a:xfrm>
            <a:off x="4237200" y="26226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5" name=""/>
          <p:cNvSpPr/>
          <p:nvPr/>
        </p:nvSpPr>
        <p:spPr>
          <a:xfrm>
            <a:off x="4086360" y="25192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6" name=""/>
          <p:cNvSpPr/>
          <p:nvPr/>
        </p:nvSpPr>
        <p:spPr>
          <a:xfrm>
            <a:off x="4205160" y="24512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7" name=""/>
          <p:cNvSpPr/>
          <p:nvPr/>
        </p:nvSpPr>
        <p:spPr>
          <a:xfrm>
            <a:off x="4260960" y="23828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8" name=""/>
          <p:cNvSpPr/>
          <p:nvPr/>
        </p:nvSpPr>
        <p:spPr>
          <a:xfrm>
            <a:off x="4259160" y="29066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9" name=""/>
          <p:cNvSpPr/>
          <p:nvPr/>
        </p:nvSpPr>
        <p:spPr>
          <a:xfrm>
            <a:off x="4248000" y="27939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0" name=""/>
          <p:cNvSpPr/>
          <p:nvPr/>
        </p:nvSpPr>
        <p:spPr>
          <a:xfrm>
            <a:off x="4175280" y="3008160"/>
            <a:ext cx="3636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1" name=""/>
          <p:cNvSpPr/>
          <p:nvPr/>
        </p:nvSpPr>
        <p:spPr>
          <a:xfrm>
            <a:off x="3529080" y="20732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2" name=""/>
          <p:cNvSpPr/>
          <p:nvPr/>
        </p:nvSpPr>
        <p:spPr>
          <a:xfrm>
            <a:off x="3519360" y="22161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3" name=""/>
          <p:cNvSpPr/>
          <p:nvPr/>
        </p:nvSpPr>
        <p:spPr>
          <a:xfrm>
            <a:off x="3611520" y="22575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4" name=""/>
          <p:cNvSpPr/>
          <p:nvPr/>
        </p:nvSpPr>
        <p:spPr>
          <a:xfrm>
            <a:off x="3686040" y="22352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5" name=""/>
          <p:cNvSpPr/>
          <p:nvPr/>
        </p:nvSpPr>
        <p:spPr>
          <a:xfrm>
            <a:off x="4071960" y="20653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6" name=""/>
          <p:cNvSpPr/>
          <p:nvPr/>
        </p:nvSpPr>
        <p:spPr>
          <a:xfrm>
            <a:off x="3705120" y="21099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7" name=""/>
          <p:cNvSpPr/>
          <p:nvPr/>
        </p:nvSpPr>
        <p:spPr>
          <a:xfrm>
            <a:off x="3933720" y="22273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8" name=""/>
          <p:cNvSpPr/>
          <p:nvPr/>
        </p:nvSpPr>
        <p:spPr>
          <a:xfrm>
            <a:off x="3463920" y="18986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9" name=""/>
          <p:cNvSpPr/>
          <p:nvPr/>
        </p:nvSpPr>
        <p:spPr>
          <a:xfrm>
            <a:off x="3892680" y="21938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0" name=""/>
          <p:cNvSpPr/>
          <p:nvPr/>
        </p:nvSpPr>
        <p:spPr>
          <a:xfrm>
            <a:off x="4127400" y="21668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1" name=""/>
          <p:cNvSpPr/>
          <p:nvPr/>
        </p:nvSpPr>
        <p:spPr>
          <a:xfrm>
            <a:off x="4130640" y="20811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2" name=""/>
          <p:cNvSpPr/>
          <p:nvPr/>
        </p:nvSpPr>
        <p:spPr>
          <a:xfrm>
            <a:off x="4029120" y="21654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3" name=""/>
          <p:cNvSpPr/>
          <p:nvPr/>
        </p:nvSpPr>
        <p:spPr>
          <a:xfrm>
            <a:off x="4191120" y="21160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4" name=""/>
          <p:cNvSpPr/>
          <p:nvPr/>
        </p:nvSpPr>
        <p:spPr>
          <a:xfrm>
            <a:off x="4173480" y="22417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5" name=""/>
          <p:cNvSpPr/>
          <p:nvPr/>
        </p:nvSpPr>
        <p:spPr>
          <a:xfrm>
            <a:off x="2357280" y="20541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6" name=""/>
          <p:cNvSpPr/>
          <p:nvPr/>
        </p:nvSpPr>
        <p:spPr>
          <a:xfrm>
            <a:off x="804960" y="23446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7" name=""/>
          <p:cNvSpPr/>
          <p:nvPr/>
        </p:nvSpPr>
        <p:spPr>
          <a:xfrm>
            <a:off x="658800" y="30146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8" name=""/>
          <p:cNvSpPr/>
          <p:nvPr/>
        </p:nvSpPr>
        <p:spPr>
          <a:xfrm>
            <a:off x="866880" y="22366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9" name=""/>
          <p:cNvSpPr/>
          <p:nvPr/>
        </p:nvSpPr>
        <p:spPr>
          <a:xfrm>
            <a:off x="870120" y="21510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0" name=""/>
          <p:cNvSpPr/>
          <p:nvPr/>
        </p:nvSpPr>
        <p:spPr>
          <a:xfrm>
            <a:off x="752400" y="28670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1" name=""/>
          <p:cNvSpPr/>
          <p:nvPr/>
        </p:nvSpPr>
        <p:spPr>
          <a:xfrm>
            <a:off x="644400" y="24242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2" name=""/>
          <p:cNvSpPr/>
          <p:nvPr/>
        </p:nvSpPr>
        <p:spPr>
          <a:xfrm>
            <a:off x="698400" y="23558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3" name=""/>
          <p:cNvSpPr/>
          <p:nvPr/>
        </p:nvSpPr>
        <p:spPr>
          <a:xfrm>
            <a:off x="630360" y="2155680"/>
            <a:ext cx="3636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4" name=""/>
          <p:cNvSpPr/>
          <p:nvPr/>
        </p:nvSpPr>
        <p:spPr>
          <a:xfrm>
            <a:off x="768240" y="22352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5" name=""/>
          <p:cNvSpPr/>
          <p:nvPr/>
        </p:nvSpPr>
        <p:spPr>
          <a:xfrm>
            <a:off x="888840" y="255096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6" name=""/>
          <p:cNvSpPr/>
          <p:nvPr/>
        </p:nvSpPr>
        <p:spPr>
          <a:xfrm>
            <a:off x="738360" y="25146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7" name=""/>
          <p:cNvSpPr/>
          <p:nvPr/>
        </p:nvSpPr>
        <p:spPr>
          <a:xfrm>
            <a:off x="758880" y="26892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8" name=""/>
          <p:cNvSpPr/>
          <p:nvPr/>
        </p:nvSpPr>
        <p:spPr>
          <a:xfrm>
            <a:off x="949320" y="24210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9" name=""/>
          <p:cNvSpPr/>
          <p:nvPr/>
        </p:nvSpPr>
        <p:spPr>
          <a:xfrm>
            <a:off x="984240" y="25606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0" name=""/>
          <p:cNvSpPr/>
          <p:nvPr/>
        </p:nvSpPr>
        <p:spPr>
          <a:xfrm>
            <a:off x="1011240" y="23130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1" name=""/>
          <p:cNvSpPr/>
          <p:nvPr/>
        </p:nvSpPr>
        <p:spPr>
          <a:xfrm>
            <a:off x="1014480" y="22273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2" name=""/>
          <p:cNvSpPr/>
          <p:nvPr/>
        </p:nvSpPr>
        <p:spPr>
          <a:xfrm>
            <a:off x="912960" y="23115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3" name=""/>
          <p:cNvSpPr/>
          <p:nvPr/>
        </p:nvSpPr>
        <p:spPr>
          <a:xfrm>
            <a:off x="988920" y="20988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4" name=""/>
          <p:cNvSpPr/>
          <p:nvPr/>
        </p:nvSpPr>
        <p:spPr>
          <a:xfrm>
            <a:off x="1001880" y="24559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5" name=""/>
          <p:cNvSpPr/>
          <p:nvPr/>
        </p:nvSpPr>
        <p:spPr>
          <a:xfrm>
            <a:off x="2035080" y="22035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6" name=""/>
          <p:cNvSpPr/>
          <p:nvPr/>
        </p:nvSpPr>
        <p:spPr>
          <a:xfrm>
            <a:off x="1971720" y="28987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7" name=""/>
          <p:cNvSpPr/>
          <p:nvPr/>
        </p:nvSpPr>
        <p:spPr>
          <a:xfrm>
            <a:off x="2097000" y="20955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8" name=""/>
          <p:cNvSpPr/>
          <p:nvPr/>
        </p:nvSpPr>
        <p:spPr>
          <a:xfrm>
            <a:off x="1998720" y="209376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9" name=""/>
          <p:cNvSpPr/>
          <p:nvPr/>
        </p:nvSpPr>
        <p:spPr>
          <a:xfrm>
            <a:off x="2592360" y="28098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0" name=""/>
          <p:cNvSpPr/>
          <p:nvPr/>
        </p:nvSpPr>
        <p:spPr>
          <a:xfrm>
            <a:off x="2060640" y="25732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1" name=""/>
          <p:cNvSpPr/>
          <p:nvPr/>
        </p:nvSpPr>
        <p:spPr>
          <a:xfrm>
            <a:off x="1195560" y="26971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2" name=""/>
          <p:cNvSpPr/>
          <p:nvPr/>
        </p:nvSpPr>
        <p:spPr>
          <a:xfrm>
            <a:off x="2017800" y="24573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3" name=""/>
          <p:cNvSpPr/>
          <p:nvPr/>
        </p:nvSpPr>
        <p:spPr>
          <a:xfrm>
            <a:off x="2119320" y="24098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4" name=""/>
          <p:cNvSpPr/>
          <p:nvPr/>
        </p:nvSpPr>
        <p:spPr>
          <a:xfrm>
            <a:off x="2392200" y="305424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5" name=""/>
          <p:cNvSpPr/>
          <p:nvPr/>
        </p:nvSpPr>
        <p:spPr>
          <a:xfrm>
            <a:off x="2179800" y="227952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6" name=""/>
          <p:cNvSpPr/>
          <p:nvPr/>
        </p:nvSpPr>
        <p:spPr>
          <a:xfrm>
            <a:off x="2214720" y="241920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7" name=""/>
          <p:cNvSpPr/>
          <p:nvPr/>
        </p:nvSpPr>
        <p:spPr>
          <a:xfrm>
            <a:off x="2241720" y="21718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8" name=""/>
          <p:cNvSpPr/>
          <p:nvPr/>
        </p:nvSpPr>
        <p:spPr>
          <a:xfrm>
            <a:off x="2244600" y="208584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9" name=""/>
          <p:cNvSpPr/>
          <p:nvPr/>
        </p:nvSpPr>
        <p:spPr>
          <a:xfrm>
            <a:off x="2143080" y="21700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0" name=""/>
          <p:cNvSpPr/>
          <p:nvPr/>
        </p:nvSpPr>
        <p:spPr>
          <a:xfrm>
            <a:off x="1843200" y="24843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1" name=""/>
          <p:cNvSpPr/>
          <p:nvPr/>
        </p:nvSpPr>
        <p:spPr>
          <a:xfrm>
            <a:off x="2136600" y="2916360"/>
            <a:ext cx="3528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2" name=""/>
          <p:cNvSpPr/>
          <p:nvPr/>
        </p:nvSpPr>
        <p:spPr>
          <a:xfrm>
            <a:off x="2130480" y="25812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3" name=""/>
          <p:cNvSpPr/>
          <p:nvPr/>
        </p:nvSpPr>
        <p:spPr>
          <a:xfrm>
            <a:off x="2232000" y="231444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4" name=""/>
          <p:cNvSpPr/>
          <p:nvPr/>
        </p:nvSpPr>
        <p:spPr>
          <a:xfrm>
            <a:off x="1146240" y="22748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5" name=""/>
          <p:cNvSpPr/>
          <p:nvPr/>
        </p:nvSpPr>
        <p:spPr>
          <a:xfrm>
            <a:off x="1181160" y="24145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6" name=""/>
          <p:cNvSpPr/>
          <p:nvPr/>
        </p:nvSpPr>
        <p:spPr>
          <a:xfrm>
            <a:off x="1208160" y="21668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7" name=""/>
          <p:cNvSpPr/>
          <p:nvPr/>
        </p:nvSpPr>
        <p:spPr>
          <a:xfrm>
            <a:off x="1211400" y="20811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8" name=""/>
          <p:cNvSpPr/>
          <p:nvPr/>
        </p:nvSpPr>
        <p:spPr>
          <a:xfrm>
            <a:off x="1109520" y="21654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9" name=""/>
          <p:cNvSpPr/>
          <p:nvPr/>
        </p:nvSpPr>
        <p:spPr>
          <a:xfrm>
            <a:off x="1195560" y="25718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0" name=""/>
          <p:cNvSpPr/>
          <p:nvPr/>
        </p:nvSpPr>
        <p:spPr>
          <a:xfrm>
            <a:off x="1096920" y="25765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1" name=""/>
          <p:cNvSpPr/>
          <p:nvPr/>
        </p:nvSpPr>
        <p:spPr>
          <a:xfrm>
            <a:off x="1576440" y="26528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2" name=""/>
          <p:cNvSpPr/>
          <p:nvPr/>
        </p:nvSpPr>
        <p:spPr>
          <a:xfrm>
            <a:off x="1079640" y="23781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3" name=""/>
          <p:cNvSpPr/>
          <p:nvPr/>
        </p:nvSpPr>
        <p:spPr>
          <a:xfrm>
            <a:off x="2360520" y="30052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4" name=""/>
          <p:cNvSpPr/>
          <p:nvPr/>
        </p:nvSpPr>
        <p:spPr>
          <a:xfrm>
            <a:off x="1100160" y="28814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5" name=""/>
          <p:cNvSpPr/>
          <p:nvPr/>
        </p:nvSpPr>
        <p:spPr>
          <a:xfrm>
            <a:off x="2109960" y="283356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6" name=""/>
          <p:cNvSpPr/>
          <p:nvPr/>
        </p:nvSpPr>
        <p:spPr>
          <a:xfrm>
            <a:off x="1352520" y="22431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7" name=""/>
          <p:cNvSpPr/>
          <p:nvPr/>
        </p:nvSpPr>
        <p:spPr>
          <a:xfrm>
            <a:off x="1355760" y="21574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8" name=""/>
          <p:cNvSpPr/>
          <p:nvPr/>
        </p:nvSpPr>
        <p:spPr>
          <a:xfrm>
            <a:off x="1254240" y="22417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9" name=""/>
          <p:cNvSpPr/>
          <p:nvPr/>
        </p:nvSpPr>
        <p:spPr>
          <a:xfrm>
            <a:off x="1508040" y="27576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0" name=""/>
          <p:cNvSpPr/>
          <p:nvPr/>
        </p:nvSpPr>
        <p:spPr>
          <a:xfrm>
            <a:off x="1212840" y="30067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1" name=""/>
          <p:cNvSpPr/>
          <p:nvPr/>
        </p:nvSpPr>
        <p:spPr>
          <a:xfrm>
            <a:off x="1438200" y="257796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2" name=""/>
          <p:cNvSpPr/>
          <p:nvPr/>
        </p:nvSpPr>
        <p:spPr>
          <a:xfrm>
            <a:off x="1465200" y="233028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3" name=""/>
          <p:cNvSpPr/>
          <p:nvPr/>
        </p:nvSpPr>
        <p:spPr>
          <a:xfrm>
            <a:off x="1468440" y="224460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4" name=""/>
          <p:cNvSpPr/>
          <p:nvPr/>
        </p:nvSpPr>
        <p:spPr>
          <a:xfrm>
            <a:off x="1384200" y="22035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5" name=""/>
          <p:cNvSpPr/>
          <p:nvPr/>
        </p:nvSpPr>
        <p:spPr>
          <a:xfrm>
            <a:off x="1442880" y="21160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6" name=""/>
          <p:cNvSpPr/>
          <p:nvPr/>
        </p:nvSpPr>
        <p:spPr>
          <a:xfrm>
            <a:off x="1276200" y="24210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7" name=""/>
          <p:cNvSpPr/>
          <p:nvPr/>
        </p:nvSpPr>
        <p:spPr>
          <a:xfrm>
            <a:off x="1547640" y="25146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8" name=""/>
          <p:cNvSpPr/>
          <p:nvPr/>
        </p:nvSpPr>
        <p:spPr>
          <a:xfrm>
            <a:off x="1409760" y="26892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9" name=""/>
          <p:cNvSpPr/>
          <p:nvPr/>
        </p:nvSpPr>
        <p:spPr>
          <a:xfrm>
            <a:off x="1612800" y="23209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0" name=""/>
          <p:cNvSpPr/>
          <p:nvPr/>
        </p:nvSpPr>
        <p:spPr>
          <a:xfrm>
            <a:off x="1406520" y="29415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1" name=""/>
          <p:cNvSpPr/>
          <p:nvPr/>
        </p:nvSpPr>
        <p:spPr>
          <a:xfrm>
            <a:off x="1587600" y="21924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2" name=""/>
          <p:cNvSpPr/>
          <p:nvPr/>
        </p:nvSpPr>
        <p:spPr>
          <a:xfrm>
            <a:off x="1643040" y="20970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3" name=""/>
          <p:cNvSpPr/>
          <p:nvPr/>
        </p:nvSpPr>
        <p:spPr>
          <a:xfrm>
            <a:off x="1600200" y="25495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4" name=""/>
          <p:cNvSpPr/>
          <p:nvPr/>
        </p:nvSpPr>
        <p:spPr>
          <a:xfrm>
            <a:off x="1571760" y="228744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5" name=""/>
          <p:cNvSpPr/>
          <p:nvPr/>
        </p:nvSpPr>
        <p:spPr>
          <a:xfrm>
            <a:off x="1068480" y="30132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6" name=""/>
          <p:cNvSpPr/>
          <p:nvPr/>
        </p:nvSpPr>
        <p:spPr>
          <a:xfrm>
            <a:off x="1806480" y="226044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7" name=""/>
          <p:cNvSpPr/>
          <p:nvPr/>
        </p:nvSpPr>
        <p:spPr>
          <a:xfrm>
            <a:off x="1809720" y="217476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8" name=""/>
          <p:cNvSpPr/>
          <p:nvPr/>
        </p:nvSpPr>
        <p:spPr>
          <a:xfrm>
            <a:off x="1725480" y="21337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9" name=""/>
          <p:cNvSpPr/>
          <p:nvPr/>
        </p:nvSpPr>
        <p:spPr>
          <a:xfrm>
            <a:off x="1708200" y="22590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0" name=""/>
          <p:cNvSpPr/>
          <p:nvPr/>
        </p:nvSpPr>
        <p:spPr>
          <a:xfrm>
            <a:off x="1689120" y="266688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1" name=""/>
          <p:cNvSpPr/>
          <p:nvPr/>
        </p:nvSpPr>
        <p:spPr>
          <a:xfrm>
            <a:off x="1677960" y="24717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2" name=""/>
          <p:cNvSpPr/>
          <p:nvPr/>
        </p:nvSpPr>
        <p:spPr>
          <a:xfrm>
            <a:off x="2590920" y="29559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3" name=""/>
          <p:cNvSpPr/>
          <p:nvPr/>
        </p:nvSpPr>
        <p:spPr>
          <a:xfrm>
            <a:off x="3247920" y="28130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4" name=""/>
          <p:cNvSpPr/>
          <p:nvPr/>
        </p:nvSpPr>
        <p:spPr>
          <a:xfrm>
            <a:off x="1924200" y="25844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5" name=""/>
          <p:cNvSpPr/>
          <p:nvPr/>
        </p:nvSpPr>
        <p:spPr>
          <a:xfrm>
            <a:off x="1941480" y="29844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6" name=""/>
          <p:cNvSpPr/>
          <p:nvPr/>
        </p:nvSpPr>
        <p:spPr>
          <a:xfrm>
            <a:off x="1954080" y="22510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7" name=""/>
          <p:cNvSpPr/>
          <p:nvPr/>
        </p:nvSpPr>
        <p:spPr>
          <a:xfrm>
            <a:off x="1870200" y="220968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8" name=""/>
          <p:cNvSpPr/>
          <p:nvPr/>
        </p:nvSpPr>
        <p:spPr>
          <a:xfrm>
            <a:off x="1852560" y="23353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9" name=""/>
          <p:cNvSpPr/>
          <p:nvPr/>
        </p:nvSpPr>
        <p:spPr>
          <a:xfrm>
            <a:off x="1928880" y="21225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0" name=""/>
          <p:cNvSpPr/>
          <p:nvPr/>
        </p:nvSpPr>
        <p:spPr>
          <a:xfrm>
            <a:off x="1995480" y="23796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1" name=""/>
          <p:cNvSpPr/>
          <p:nvPr/>
        </p:nvSpPr>
        <p:spPr>
          <a:xfrm>
            <a:off x="2346480" y="257796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2" name=""/>
          <p:cNvSpPr/>
          <p:nvPr/>
        </p:nvSpPr>
        <p:spPr>
          <a:xfrm>
            <a:off x="2300400" y="24717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3" name=""/>
          <p:cNvSpPr/>
          <p:nvPr/>
        </p:nvSpPr>
        <p:spPr>
          <a:xfrm>
            <a:off x="687240" y="35989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4" name=""/>
          <p:cNvSpPr/>
          <p:nvPr/>
        </p:nvSpPr>
        <p:spPr>
          <a:xfrm>
            <a:off x="595440" y="27939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5" name=""/>
          <p:cNvSpPr/>
          <p:nvPr/>
        </p:nvSpPr>
        <p:spPr>
          <a:xfrm>
            <a:off x="1760400" y="35830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6" name=""/>
          <p:cNvSpPr/>
          <p:nvPr/>
        </p:nvSpPr>
        <p:spPr>
          <a:xfrm>
            <a:off x="1773360" y="33814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7" name=""/>
          <p:cNvSpPr/>
          <p:nvPr/>
        </p:nvSpPr>
        <p:spPr>
          <a:xfrm>
            <a:off x="1687680" y="3421080"/>
            <a:ext cx="3636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8" name=""/>
          <p:cNvSpPr/>
          <p:nvPr/>
        </p:nvSpPr>
        <p:spPr>
          <a:xfrm>
            <a:off x="1668600" y="33037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9" name=""/>
          <p:cNvSpPr/>
          <p:nvPr/>
        </p:nvSpPr>
        <p:spPr>
          <a:xfrm>
            <a:off x="1285920" y="27241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0" name=""/>
          <p:cNvSpPr/>
          <p:nvPr/>
        </p:nvSpPr>
        <p:spPr>
          <a:xfrm>
            <a:off x="1763640" y="32353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1" name=""/>
          <p:cNvSpPr/>
          <p:nvPr/>
        </p:nvSpPr>
        <p:spPr>
          <a:xfrm>
            <a:off x="1697040" y="31924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2" name=""/>
          <p:cNvSpPr/>
          <p:nvPr/>
        </p:nvSpPr>
        <p:spPr>
          <a:xfrm>
            <a:off x="1798560" y="31449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3" name=""/>
          <p:cNvSpPr/>
          <p:nvPr/>
        </p:nvSpPr>
        <p:spPr>
          <a:xfrm>
            <a:off x="1379520" y="31273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4" name=""/>
          <p:cNvSpPr/>
          <p:nvPr/>
        </p:nvSpPr>
        <p:spPr>
          <a:xfrm>
            <a:off x="1809720" y="33163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5" name=""/>
          <p:cNvSpPr/>
          <p:nvPr/>
        </p:nvSpPr>
        <p:spPr>
          <a:xfrm>
            <a:off x="860400" y="31496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6" name=""/>
          <p:cNvSpPr/>
          <p:nvPr/>
        </p:nvSpPr>
        <p:spPr>
          <a:xfrm>
            <a:off x="779400" y="33750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7" name=""/>
          <p:cNvSpPr/>
          <p:nvPr/>
        </p:nvSpPr>
        <p:spPr>
          <a:xfrm>
            <a:off x="851040" y="33796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8" name=""/>
          <p:cNvSpPr/>
          <p:nvPr/>
        </p:nvSpPr>
        <p:spPr>
          <a:xfrm>
            <a:off x="874800" y="330660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9" name=""/>
          <p:cNvSpPr/>
          <p:nvPr/>
        </p:nvSpPr>
        <p:spPr>
          <a:xfrm>
            <a:off x="1084320" y="27558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0" name=""/>
          <p:cNvSpPr/>
          <p:nvPr/>
        </p:nvSpPr>
        <p:spPr>
          <a:xfrm>
            <a:off x="909720" y="32162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1" name=""/>
          <p:cNvSpPr/>
          <p:nvPr/>
        </p:nvSpPr>
        <p:spPr>
          <a:xfrm>
            <a:off x="758880" y="311292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2" name=""/>
          <p:cNvSpPr/>
          <p:nvPr/>
        </p:nvSpPr>
        <p:spPr>
          <a:xfrm>
            <a:off x="1004760" y="32259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3" name=""/>
          <p:cNvSpPr/>
          <p:nvPr/>
        </p:nvSpPr>
        <p:spPr>
          <a:xfrm>
            <a:off x="1028880" y="35290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4" name=""/>
          <p:cNvSpPr/>
          <p:nvPr/>
        </p:nvSpPr>
        <p:spPr>
          <a:xfrm>
            <a:off x="942840" y="3568680"/>
            <a:ext cx="367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5" name=""/>
          <p:cNvSpPr/>
          <p:nvPr/>
        </p:nvSpPr>
        <p:spPr>
          <a:xfrm>
            <a:off x="932040" y="350028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6" name=""/>
          <p:cNvSpPr/>
          <p:nvPr/>
        </p:nvSpPr>
        <p:spPr>
          <a:xfrm>
            <a:off x="995400" y="34560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7" name=""/>
          <p:cNvSpPr/>
          <p:nvPr/>
        </p:nvSpPr>
        <p:spPr>
          <a:xfrm>
            <a:off x="1019160" y="33829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8" name=""/>
          <p:cNvSpPr/>
          <p:nvPr/>
        </p:nvSpPr>
        <p:spPr>
          <a:xfrm>
            <a:off x="920880" y="338760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9" name=""/>
          <p:cNvSpPr/>
          <p:nvPr/>
        </p:nvSpPr>
        <p:spPr>
          <a:xfrm>
            <a:off x="1082520" y="31734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0" name=""/>
          <p:cNvSpPr/>
          <p:nvPr/>
        </p:nvSpPr>
        <p:spPr>
          <a:xfrm>
            <a:off x="1117440" y="33130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1" name=""/>
          <p:cNvSpPr/>
          <p:nvPr/>
        </p:nvSpPr>
        <p:spPr>
          <a:xfrm>
            <a:off x="1108080" y="35434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2" name=""/>
          <p:cNvSpPr/>
          <p:nvPr/>
        </p:nvSpPr>
        <p:spPr>
          <a:xfrm>
            <a:off x="1131840" y="34704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3" name=""/>
          <p:cNvSpPr/>
          <p:nvPr/>
        </p:nvSpPr>
        <p:spPr>
          <a:xfrm>
            <a:off x="1166760" y="33796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4" name=""/>
          <p:cNvSpPr/>
          <p:nvPr/>
        </p:nvSpPr>
        <p:spPr>
          <a:xfrm>
            <a:off x="1254240" y="319392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5" name=""/>
          <p:cNvSpPr/>
          <p:nvPr/>
        </p:nvSpPr>
        <p:spPr>
          <a:xfrm>
            <a:off x="1227240" y="32497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6" name=""/>
          <p:cNvSpPr/>
          <p:nvPr/>
        </p:nvSpPr>
        <p:spPr>
          <a:xfrm>
            <a:off x="1262160" y="33894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7" name=""/>
          <p:cNvSpPr/>
          <p:nvPr/>
        </p:nvSpPr>
        <p:spPr>
          <a:xfrm>
            <a:off x="1270080" y="29066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8" name=""/>
          <p:cNvSpPr/>
          <p:nvPr/>
        </p:nvSpPr>
        <p:spPr>
          <a:xfrm>
            <a:off x="1190520" y="313992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9" name=""/>
          <p:cNvSpPr/>
          <p:nvPr/>
        </p:nvSpPr>
        <p:spPr>
          <a:xfrm>
            <a:off x="1276200" y="354636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0" name=""/>
          <p:cNvSpPr/>
          <p:nvPr/>
        </p:nvSpPr>
        <p:spPr>
          <a:xfrm>
            <a:off x="1177920" y="35514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1" name=""/>
          <p:cNvSpPr/>
          <p:nvPr/>
        </p:nvSpPr>
        <p:spPr>
          <a:xfrm>
            <a:off x="1279440" y="32846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2" name=""/>
          <p:cNvSpPr/>
          <p:nvPr/>
        </p:nvSpPr>
        <p:spPr>
          <a:xfrm>
            <a:off x="1459080" y="32432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3" name=""/>
          <p:cNvSpPr/>
          <p:nvPr/>
        </p:nvSpPr>
        <p:spPr>
          <a:xfrm>
            <a:off x="1482840" y="354636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4" name=""/>
          <p:cNvSpPr/>
          <p:nvPr/>
        </p:nvSpPr>
        <p:spPr>
          <a:xfrm>
            <a:off x="1397160" y="3586320"/>
            <a:ext cx="3636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5" name=""/>
          <p:cNvSpPr/>
          <p:nvPr/>
        </p:nvSpPr>
        <p:spPr>
          <a:xfrm>
            <a:off x="1819440" y="29448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6" name=""/>
          <p:cNvSpPr/>
          <p:nvPr/>
        </p:nvSpPr>
        <p:spPr>
          <a:xfrm>
            <a:off x="1998720" y="26701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7" name=""/>
          <p:cNvSpPr/>
          <p:nvPr/>
        </p:nvSpPr>
        <p:spPr>
          <a:xfrm>
            <a:off x="1276200" y="28004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8" name=""/>
          <p:cNvSpPr/>
          <p:nvPr/>
        </p:nvSpPr>
        <p:spPr>
          <a:xfrm>
            <a:off x="1374840" y="34052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9" name=""/>
          <p:cNvSpPr/>
          <p:nvPr/>
        </p:nvSpPr>
        <p:spPr>
          <a:xfrm>
            <a:off x="1508040" y="33098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0" name=""/>
          <p:cNvSpPr/>
          <p:nvPr/>
        </p:nvSpPr>
        <p:spPr>
          <a:xfrm>
            <a:off x="1368360" y="33019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1" name=""/>
          <p:cNvSpPr/>
          <p:nvPr/>
        </p:nvSpPr>
        <p:spPr>
          <a:xfrm>
            <a:off x="990720" y="28972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2" name=""/>
          <p:cNvSpPr/>
          <p:nvPr/>
        </p:nvSpPr>
        <p:spPr>
          <a:xfrm>
            <a:off x="1568520" y="31798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3" name=""/>
          <p:cNvSpPr/>
          <p:nvPr/>
        </p:nvSpPr>
        <p:spPr>
          <a:xfrm>
            <a:off x="1603440" y="33195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4" name=""/>
          <p:cNvSpPr/>
          <p:nvPr/>
        </p:nvSpPr>
        <p:spPr>
          <a:xfrm>
            <a:off x="1866960" y="26575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5" name=""/>
          <p:cNvSpPr/>
          <p:nvPr/>
        </p:nvSpPr>
        <p:spPr>
          <a:xfrm>
            <a:off x="1546200" y="30322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6" name=""/>
          <p:cNvSpPr/>
          <p:nvPr/>
        </p:nvSpPr>
        <p:spPr>
          <a:xfrm>
            <a:off x="1617840" y="34765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7" name=""/>
          <p:cNvSpPr/>
          <p:nvPr/>
        </p:nvSpPr>
        <p:spPr>
          <a:xfrm>
            <a:off x="1531800" y="28717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8" name=""/>
          <p:cNvSpPr/>
          <p:nvPr/>
        </p:nvSpPr>
        <p:spPr>
          <a:xfrm>
            <a:off x="1674720" y="31147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9" name=""/>
          <p:cNvSpPr/>
          <p:nvPr/>
        </p:nvSpPr>
        <p:spPr>
          <a:xfrm>
            <a:off x="1801800" y="28083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0" name=""/>
          <p:cNvSpPr/>
          <p:nvPr/>
        </p:nvSpPr>
        <p:spPr>
          <a:xfrm>
            <a:off x="1909800" y="327168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1" name=""/>
          <p:cNvSpPr/>
          <p:nvPr/>
        </p:nvSpPr>
        <p:spPr>
          <a:xfrm>
            <a:off x="1933560" y="35751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2" name=""/>
          <p:cNvSpPr/>
          <p:nvPr/>
        </p:nvSpPr>
        <p:spPr>
          <a:xfrm>
            <a:off x="1828800" y="34974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3" name=""/>
          <p:cNvSpPr/>
          <p:nvPr/>
        </p:nvSpPr>
        <p:spPr>
          <a:xfrm>
            <a:off x="2500200" y="29433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4" name=""/>
          <p:cNvSpPr/>
          <p:nvPr/>
        </p:nvSpPr>
        <p:spPr>
          <a:xfrm>
            <a:off x="1924200" y="34290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5" name=""/>
          <p:cNvSpPr/>
          <p:nvPr/>
        </p:nvSpPr>
        <p:spPr>
          <a:xfrm>
            <a:off x="1698480" y="28558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6" name=""/>
          <p:cNvSpPr/>
          <p:nvPr/>
        </p:nvSpPr>
        <p:spPr>
          <a:xfrm>
            <a:off x="1959120" y="33386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7" name=""/>
          <p:cNvSpPr/>
          <p:nvPr/>
        </p:nvSpPr>
        <p:spPr>
          <a:xfrm>
            <a:off x="1866960" y="32194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8" name=""/>
          <p:cNvSpPr/>
          <p:nvPr/>
        </p:nvSpPr>
        <p:spPr>
          <a:xfrm>
            <a:off x="3301920" y="316692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9" name=""/>
          <p:cNvSpPr/>
          <p:nvPr/>
        </p:nvSpPr>
        <p:spPr>
          <a:xfrm>
            <a:off x="2019240" y="32083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0" name=""/>
          <p:cNvSpPr/>
          <p:nvPr/>
        </p:nvSpPr>
        <p:spPr>
          <a:xfrm>
            <a:off x="1714680" y="30146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1" name=""/>
          <p:cNvSpPr/>
          <p:nvPr/>
        </p:nvSpPr>
        <p:spPr>
          <a:xfrm>
            <a:off x="2081160" y="31003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2" name=""/>
          <p:cNvSpPr/>
          <p:nvPr/>
        </p:nvSpPr>
        <p:spPr>
          <a:xfrm>
            <a:off x="1982880" y="30988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3" name=""/>
          <p:cNvSpPr/>
          <p:nvPr/>
        </p:nvSpPr>
        <p:spPr>
          <a:xfrm>
            <a:off x="2044800" y="35784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4" name=""/>
          <p:cNvSpPr/>
          <p:nvPr/>
        </p:nvSpPr>
        <p:spPr>
          <a:xfrm>
            <a:off x="2068560" y="35053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5" name=""/>
          <p:cNvSpPr/>
          <p:nvPr/>
        </p:nvSpPr>
        <p:spPr>
          <a:xfrm>
            <a:off x="1969920" y="35100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6" name=""/>
          <p:cNvSpPr/>
          <p:nvPr/>
        </p:nvSpPr>
        <p:spPr>
          <a:xfrm>
            <a:off x="2093760" y="318600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7" name=""/>
          <p:cNvSpPr/>
          <p:nvPr/>
        </p:nvSpPr>
        <p:spPr>
          <a:xfrm>
            <a:off x="2131920" y="32958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8" name=""/>
          <p:cNvSpPr/>
          <p:nvPr/>
        </p:nvSpPr>
        <p:spPr>
          <a:xfrm>
            <a:off x="2166840" y="34354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9" name=""/>
          <p:cNvSpPr/>
          <p:nvPr/>
        </p:nvSpPr>
        <p:spPr>
          <a:xfrm>
            <a:off x="2193840" y="31878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0" name=""/>
          <p:cNvSpPr/>
          <p:nvPr/>
        </p:nvSpPr>
        <p:spPr>
          <a:xfrm>
            <a:off x="2197080" y="31021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1" name=""/>
          <p:cNvSpPr/>
          <p:nvPr/>
        </p:nvSpPr>
        <p:spPr>
          <a:xfrm>
            <a:off x="2181240" y="35924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2" name=""/>
          <p:cNvSpPr/>
          <p:nvPr/>
        </p:nvSpPr>
        <p:spPr>
          <a:xfrm>
            <a:off x="2216160" y="35020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3" name=""/>
          <p:cNvSpPr/>
          <p:nvPr/>
        </p:nvSpPr>
        <p:spPr>
          <a:xfrm>
            <a:off x="2262240" y="29066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4" name=""/>
          <p:cNvSpPr/>
          <p:nvPr/>
        </p:nvSpPr>
        <p:spPr>
          <a:xfrm>
            <a:off x="2276640" y="33717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5" name=""/>
          <p:cNvSpPr/>
          <p:nvPr/>
        </p:nvSpPr>
        <p:spPr>
          <a:xfrm>
            <a:off x="2311560" y="351144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6" name=""/>
          <p:cNvSpPr/>
          <p:nvPr/>
        </p:nvSpPr>
        <p:spPr>
          <a:xfrm>
            <a:off x="2230560" y="27306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7" name=""/>
          <p:cNvSpPr/>
          <p:nvPr/>
        </p:nvSpPr>
        <p:spPr>
          <a:xfrm>
            <a:off x="2401920" y="32860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8" name=""/>
          <p:cNvSpPr/>
          <p:nvPr/>
        </p:nvSpPr>
        <p:spPr>
          <a:xfrm>
            <a:off x="2328840" y="34066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9" name=""/>
          <p:cNvSpPr/>
          <p:nvPr/>
        </p:nvSpPr>
        <p:spPr>
          <a:xfrm>
            <a:off x="2300400" y="31449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0" name=""/>
          <p:cNvSpPr/>
          <p:nvPr/>
        </p:nvSpPr>
        <p:spPr>
          <a:xfrm>
            <a:off x="534960" y="322884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1" name=""/>
          <p:cNvSpPr/>
          <p:nvPr/>
        </p:nvSpPr>
        <p:spPr>
          <a:xfrm>
            <a:off x="558720" y="35323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2" name=""/>
          <p:cNvSpPr/>
          <p:nvPr/>
        </p:nvSpPr>
        <p:spPr>
          <a:xfrm>
            <a:off x="525600" y="34592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3" name=""/>
          <p:cNvSpPr/>
          <p:nvPr/>
        </p:nvSpPr>
        <p:spPr>
          <a:xfrm>
            <a:off x="549360" y="33861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4" name=""/>
          <p:cNvSpPr/>
          <p:nvPr/>
        </p:nvSpPr>
        <p:spPr>
          <a:xfrm>
            <a:off x="552600" y="312408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5" name=""/>
          <p:cNvSpPr/>
          <p:nvPr/>
        </p:nvSpPr>
        <p:spPr>
          <a:xfrm>
            <a:off x="666720" y="338760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6" name=""/>
          <p:cNvSpPr/>
          <p:nvPr/>
        </p:nvSpPr>
        <p:spPr>
          <a:xfrm>
            <a:off x="620640" y="32814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7" name=""/>
          <p:cNvSpPr/>
          <p:nvPr/>
        </p:nvSpPr>
        <p:spPr>
          <a:xfrm>
            <a:off x="657360" y="349236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8" name=""/>
          <p:cNvSpPr/>
          <p:nvPr/>
        </p:nvSpPr>
        <p:spPr>
          <a:xfrm>
            <a:off x="689040" y="8571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9" name=""/>
          <p:cNvSpPr/>
          <p:nvPr/>
        </p:nvSpPr>
        <p:spPr>
          <a:xfrm>
            <a:off x="812880" y="6048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0" name=""/>
          <p:cNvSpPr/>
          <p:nvPr/>
        </p:nvSpPr>
        <p:spPr>
          <a:xfrm>
            <a:off x="2367000" y="16876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1" name=""/>
          <p:cNvSpPr/>
          <p:nvPr/>
        </p:nvSpPr>
        <p:spPr>
          <a:xfrm>
            <a:off x="2468520" y="24289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2" name=""/>
          <p:cNvSpPr/>
          <p:nvPr/>
        </p:nvSpPr>
        <p:spPr>
          <a:xfrm>
            <a:off x="2324160" y="67932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3" name=""/>
          <p:cNvSpPr/>
          <p:nvPr/>
        </p:nvSpPr>
        <p:spPr>
          <a:xfrm>
            <a:off x="738360" y="404640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4" name=""/>
          <p:cNvSpPr/>
          <p:nvPr/>
        </p:nvSpPr>
        <p:spPr>
          <a:xfrm>
            <a:off x="792000" y="3965400"/>
            <a:ext cx="367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5" name=""/>
          <p:cNvSpPr/>
          <p:nvPr/>
        </p:nvSpPr>
        <p:spPr>
          <a:xfrm>
            <a:off x="773280" y="38480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6" name=""/>
          <p:cNvSpPr/>
          <p:nvPr/>
        </p:nvSpPr>
        <p:spPr>
          <a:xfrm>
            <a:off x="770040" y="37846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7" name=""/>
          <p:cNvSpPr/>
          <p:nvPr/>
        </p:nvSpPr>
        <p:spPr>
          <a:xfrm>
            <a:off x="671400" y="3747960"/>
            <a:ext cx="34920" cy="302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8" name=""/>
          <p:cNvSpPr/>
          <p:nvPr/>
        </p:nvSpPr>
        <p:spPr>
          <a:xfrm>
            <a:off x="676440" y="383364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9" name=""/>
          <p:cNvSpPr/>
          <p:nvPr/>
        </p:nvSpPr>
        <p:spPr>
          <a:xfrm>
            <a:off x="903240" y="36892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0" name=""/>
          <p:cNvSpPr/>
          <p:nvPr/>
        </p:nvSpPr>
        <p:spPr>
          <a:xfrm>
            <a:off x="557280" y="291132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1" name=""/>
          <p:cNvSpPr/>
          <p:nvPr/>
        </p:nvSpPr>
        <p:spPr>
          <a:xfrm>
            <a:off x="998640" y="36990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2" name=""/>
          <p:cNvSpPr/>
          <p:nvPr/>
        </p:nvSpPr>
        <p:spPr>
          <a:xfrm>
            <a:off x="1022400" y="40021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3" name=""/>
          <p:cNvSpPr/>
          <p:nvPr/>
        </p:nvSpPr>
        <p:spPr>
          <a:xfrm>
            <a:off x="936720" y="4041720"/>
            <a:ext cx="3636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4" name=""/>
          <p:cNvSpPr/>
          <p:nvPr/>
        </p:nvSpPr>
        <p:spPr>
          <a:xfrm>
            <a:off x="1212840" y="40942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5" name=""/>
          <p:cNvSpPr/>
          <p:nvPr/>
        </p:nvSpPr>
        <p:spPr>
          <a:xfrm>
            <a:off x="988920" y="39290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6" name=""/>
          <p:cNvSpPr/>
          <p:nvPr/>
        </p:nvSpPr>
        <p:spPr>
          <a:xfrm>
            <a:off x="1012680" y="38559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7" name=""/>
          <p:cNvSpPr/>
          <p:nvPr/>
        </p:nvSpPr>
        <p:spPr>
          <a:xfrm>
            <a:off x="1001880" y="38052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8" name=""/>
          <p:cNvSpPr/>
          <p:nvPr/>
        </p:nvSpPr>
        <p:spPr>
          <a:xfrm>
            <a:off x="2095560" y="39862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9" name=""/>
          <p:cNvSpPr/>
          <p:nvPr/>
        </p:nvSpPr>
        <p:spPr>
          <a:xfrm>
            <a:off x="2108160" y="37846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0" name=""/>
          <p:cNvSpPr/>
          <p:nvPr/>
        </p:nvSpPr>
        <p:spPr>
          <a:xfrm>
            <a:off x="2022480" y="3824280"/>
            <a:ext cx="3636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1" name=""/>
          <p:cNvSpPr/>
          <p:nvPr/>
        </p:nvSpPr>
        <p:spPr>
          <a:xfrm>
            <a:off x="2003400" y="37069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2" name=""/>
          <p:cNvSpPr/>
          <p:nvPr/>
        </p:nvSpPr>
        <p:spPr>
          <a:xfrm>
            <a:off x="2075040" y="37116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3" name=""/>
          <p:cNvSpPr/>
          <p:nvPr/>
        </p:nvSpPr>
        <p:spPr>
          <a:xfrm>
            <a:off x="2098800" y="36385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4" name=""/>
          <p:cNvSpPr/>
          <p:nvPr/>
        </p:nvSpPr>
        <p:spPr>
          <a:xfrm>
            <a:off x="1857240" y="43354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5" name=""/>
          <p:cNvSpPr/>
          <p:nvPr/>
        </p:nvSpPr>
        <p:spPr>
          <a:xfrm>
            <a:off x="2252520" y="386064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6" name=""/>
          <p:cNvSpPr/>
          <p:nvPr/>
        </p:nvSpPr>
        <p:spPr>
          <a:xfrm>
            <a:off x="2166840" y="3900600"/>
            <a:ext cx="367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7" name=""/>
          <p:cNvSpPr/>
          <p:nvPr/>
        </p:nvSpPr>
        <p:spPr>
          <a:xfrm>
            <a:off x="2341440" y="385272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8" name=""/>
          <p:cNvSpPr/>
          <p:nvPr/>
        </p:nvSpPr>
        <p:spPr>
          <a:xfrm>
            <a:off x="2243160" y="37148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9" name=""/>
          <p:cNvSpPr/>
          <p:nvPr/>
        </p:nvSpPr>
        <p:spPr>
          <a:xfrm>
            <a:off x="2144880" y="37195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0" name=""/>
          <p:cNvSpPr/>
          <p:nvPr/>
        </p:nvSpPr>
        <p:spPr>
          <a:xfrm>
            <a:off x="1201680" y="39783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1" name=""/>
          <p:cNvSpPr/>
          <p:nvPr/>
        </p:nvSpPr>
        <p:spPr>
          <a:xfrm>
            <a:off x="1219320" y="38559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2" name=""/>
          <p:cNvSpPr/>
          <p:nvPr/>
        </p:nvSpPr>
        <p:spPr>
          <a:xfrm>
            <a:off x="1133640" y="3895560"/>
            <a:ext cx="3636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3" name=""/>
          <p:cNvSpPr/>
          <p:nvPr/>
        </p:nvSpPr>
        <p:spPr>
          <a:xfrm>
            <a:off x="1114560" y="37782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4" name=""/>
          <p:cNvSpPr/>
          <p:nvPr/>
        </p:nvSpPr>
        <p:spPr>
          <a:xfrm>
            <a:off x="1185840" y="378288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5" name=""/>
          <p:cNvSpPr/>
          <p:nvPr/>
        </p:nvSpPr>
        <p:spPr>
          <a:xfrm>
            <a:off x="1209600" y="37101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6" name=""/>
          <p:cNvSpPr/>
          <p:nvPr/>
        </p:nvSpPr>
        <p:spPr>
          <a:xfrm>
            <a:off x="1111320" y="37148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7" name=""/>
          <p:cNvSpPr/>
          <p:nvPr/>
        </p:nvSpPr>
        <p:spPr>
          <a:xfrm>
            <a:off x="1339920" y="36291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8" name=""/>
          <p:cNvSpPr/>
          <p:nvPr/>
        </p:nvSpPr>
        <p:spPr>
          <a:xfrm>
            <a:off x="1347840" y="4853160"/>
            <a:ext cx="3636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9" name=""/>
          <p:cNvSpPr/>
          <p:nvPr/>
        </p:nvSpPr>
        <p:spPr>
          <a:xfrm>
            <a:off x="1266840" y="39038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0" name=""/>
          <p:cNvSpPr/>
          <p:nvPr/>
        </p:nvSpPr>
        <p:spPr>
          <a:xfrm>
            <a:off x="1330200" y="38592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1" name=""/>
          <p:cNvSpPr/>
          <p:nvPr/>
        </p:nvSpPr>
        <p:spPr>
          <a:xfrm>
            <a:off x="1353960" y="3786120"/>
            <a:ext cx="3528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2" name=""/>
          <p:cNvSpPr/>
          <p:nvPr/>
        </p:nvSpPr>
        <p:spPr>
          <a:xfrm>
            <a:off x="1255680" y="379080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3" name=""/>
          <p:cNvSpPr/>
          <p:nvPr/>
        </p:nvSpPr>
        <p:spPr>
          <a:xfrm>
            <a:off x="1452600" y="37162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4" name=""/>
          <p:cNvSpPr/>
          <p:nvPr/>
        </p:nvSpPr>
        <p:spPr>
          <a:xfrm>
            <a:off x="1498680" y="45514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5" name=""/>
          <p:cNvSpPr/>
          <p:nvPr/>
        </p:nvSpPr>
        <p:spPr>
          <a:xfrm>
            <a:off x="1442880" y="39466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6" name=""/>
          <p:cNvSpPr/>
          <p:nvPr/>
        </p:nvSpPr>
        <p:spPr>
          <a:xfrm>
            <a:off x="1467000" y="38736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7" name=""/>
          <p:cNvSpPr/>
          <p:nvPr/>
        </p:nvSpPr>
        <p:spPr>
          <a:xfrm>
            <a:off x="1501920" y="378288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8" name=""/>
          <p:cNvSpPr/>
          <p:nvPr/>
        </p:nvSpPr>
        <p:spPr>
          <a:xfrm>
            <a:off x="1562040" y="36529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9" name=""/>
          <p:cNvSpPr/>
          <p:nvPr/>
        </p:nvSpPr>
        <p:spPr>
          <a:xfrm>
            <a:off x="1596960" y="37926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0" name=""/>
          <p:cNvSpPr/>
          <p:nvPr/>
        </p:nvSpPr>
        <p:spPr>
          <a:xfrm>
            <a:off x="1611360" y="394956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1" name=""/>
          <p:cNvSpPr/>
          <p:nvPr/>
        </p:nvSpPr>
        <p:spPr>
          <a:xfrm>
            <a:off x="1614600" y="36878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2" name=""/>
          <p:cNvSpPr/>
          <p:nvPr/>
        </p:nvSpPr>
        <p:spPr>
          <a:xfrm>
            <a:off x="1793880" y="36464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3" name=""/>
          <p:cNvSpPr/>
          <p:nvPr/>
        </p:nvSpPr>
        <p:spPr>
          <a:xfrm>
            <a:off x="2511360" y="455436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4" name=""/>
          <p:cNvSpPr/>
          <p:nvPr/>
        </p:nvSpPr>
        <p:spPr>
          <a:xfrm>
            <a:off x="2016000" y="4551480"/>
            <a:ext cx="367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5" name=""/>
          <p:cNvSpPr/>
          <p:nvPr/>
        </p:nvSpPr>
        <p:spPr>
          <a:xfrm>
            <a:off x="1712880" y="387180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6" name=""/>
          <p:cNvSpPr/>
          <p:nvPr/>
        </p:nvSpPr>
        <p:spPr>
          <a:xfrm>
            <a:off x="1784520" y="38768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7" name=""/>
          <p:cNvSpPr/>
          <p:nvPr/>
        </p:nvSpPr>
        <p:spPr>
          <a:xfrm>
            <a:off x="1808280" y="38037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8" name=""/>
          <p:cNvSpPr/>
          <p:nvPr/>
        </p:nvSpPr>
        <p:spPr>
          <a:xfrm>
            <a:off x="1709640" y="38084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9" name=""/>
          <p:cNvSpPr/>
          <p:nvPr/>
        </p:nvSpPr>
        <p:spPr>
          <a:xfrm>
            <a:off x="1843200" y="371304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0" name=""/>
          <p:cNvSpPr/>
          <p:nvPr/>
        </p:nvSpPr>
        <p:spPr>
          <a:xfrm>
            <a:off x="1938240" y="37227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1" name=""/>
          <p:cNvSpPr/>
          <p:nvPr/>
        </p:nvSpPr>
        <p:spPr>
          <a:xfrm>
            <a:off x="1962000" y="40258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2" name=""/>
          <p:cNvSpPr/>
          <p:nvPr/>
        </p:nvSpPr>
        <p:spPr>
          <a:xfrm>
            <a:off x="1928880" y="39528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3" name=""/>
          <p:cNvSpPr/>
          <p:nvPr/>
        </p:nvSpPr>
        <p:spPr>
          <a:xfrm>
            <a:off x="1952640" y="387972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4" name=""/>
          <p:cNvSpPr/>
          <p:nvPr/>
        </p:nvSpPr>
        <p:spPr>
          <a:xfrm>
            <a:off x="1854360" y="38847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5" name=""/>
          <p:cNvSpPr/>
          <p:nvPr/>
        </p:nvSpPr>
        <p:spPr>
          <a:xfrm>
            <a:off x="2363760" y="36306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6" name=""/>
          <p:cNvSpPr/>
          <p:nvPr/>
        </p:nvSpPr>
        <p:spPr>
          <a:xfrm>
            <a:off x="2398680" y="37702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7" name=""/>
          <p:cNvSpPr/>
          <p:nvPr/>
        </p:nvSpPr>
        <p:spPr>
          <a:xfrm>
            <a:off x="2422440" y="407340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8" name=""/>
          <p:cNvSpPr/>
          <p:nvPr/>
        </p:nvSpPr>
        <p:spPr>
          <a:xfrm>
            <a:off x="2413080" y="39276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9" name=""/>
          <p:cNvSpPr/>
          <p:nvPr/>
        </p:nvSpPr>
        <p:spPr>
          <a:xfrm>
            <a:off x="2263680" y="39830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0" name=""/>
          <p:cNvSpPr/>
          <p:nvPr/>
        </p:nvSpPr>
        <p:spPr>
          <a:xfrm>
            <a:off x="2416320" y="36655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1" name=""/>
          <p:cNvSpPr/>
          <p:nvPr/>
        </p:nvSpPr>
        <p:spPr>
          <a:xfrm>
            <a:off x="3495600" y="40575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2" name=""/>
          <p:cNvSpPr/>
          <p:nvPr/>
        </p:nvSpPr>
        <p:spPr>
          <a:xfrm>
            <a:off x="3508200" y="3341520"/>
            <a:ext cx="3528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3" name=""/>
          <p:cNvSpPr/>
          <p:nvPr/>
        </p:nvSpPr>
        <p:spPr>
          <a:xfrm>
            <a:off x="3422520" y="3895560"/>
            <a:ext cx="367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4" name=""/>
          <p:cNvSpPr/>
          <p:nvPr/>
        </p:nvSpPr>
        <p:spPr>
          <a:xfrm>
            <a:off x="3403440" y="37782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5" name=""/>
          <p:cNvSpPr/>
          <p:nvPr/>
        </p:nvSpPr>
        <p:spPr>
          <a:xfrm>
            <a:off x="3495600" y="31003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6" name=""/>
          <p:cNvSpPr/>
          <p:nvPr/>
        </p:nvSpPr>
        <p:spPr>
          <a:xfrm>
            <a:off x="3432240" y="366696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7" name=""/>
          <p:cNvSpPr/>
          <p:nvPr/>
        </p:nvSpPr>
        <p:spPr>
          <a:xfrm>
            <a:off x="3544920" y="379080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8" name=""/>
          <p:cNvSpPr/>
          <p:nvPr/>
        </p:nvSpPr>
        <p:spPr>
          <a:xfrm>
            <a:off x="2595600" y="362412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9" name=""/>
          <p:cNvSpPr/>
          <p:nvPr/>
        </p:nvSpPr>
        <p:spPr>
          <a:xfrm>
            <a:off x="2619360" y="39276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0" name=""/>
          <p:cNvSpPr/>
          <p:nvPr/>
        </p:nvSpPr>
        <p:spPr>
          <a:xfrm>
            <a:off x="2533680" y="3967200"/>
            <a:ext cx="3636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1" name=""/>
          <p:cNvSpPr/>
          <p:nvPr/>
        </p:nvSpPr>
        <p:spPr>
          <a:xfrm>
            <a:off x="2514600" y="38498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2" name=""/>
          <p:cNvSpPr/>
          <p:nvPr/>
        </p:nvSpPr>
        <p:spPr>
          <a:xfrm>
            <a:off x="2610000" y="37814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3" name=""/>
          <p:cNvSpPr/>
          <p:nvPr/>
        </p:nvSpPr>
        <p:spPr>
          <a:xfrm>
            <a:off x="2511360" y="37861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4" name=""/>
          <p:cNvSpPr/>
          <p:nvPr/>
        </p:nvSpPr>
        <p:spPr>
          <a:xfrm>
            <a:off x="2644920" y="36910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5" name=""/>
          <p:cNvSpPr/>
          <p:nvPr/>
        </p:nvSpPr>
        <p:spPr>
          <a:xfrm>
            <a:off x="2739960" y="37004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6" name=""/>
          <p:cNvSpPr/>
          <p:nvPr/>
        </p:nvSpPr>
        <p:spPr>
          <a:xfrm>
            <a:off x="2763720" y="400356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7" name=""/>
          <p:cNvSpPr/>
          <p:nvPr/>
        </p:nvSpPr>
        <p:spPr>
          <a:xfrm>
            <a:off x="2678040" y="4043520"/>
            <a:ext cx="367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8" name=""/>
          <p:cNvSpPr/>
          <p:nvPr/>
        </p:nvSpPr>
        <p:spPr>
          <a:xfrm>
            <a:off x="2666880" y="39751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9" name=""/>
          <p:cNvSpPr/>
          <p:nvPr/>
        </p:nvSpPr>
        <p:spPr>
          <a:xfrm>
            <a:off x="2730600" y="393048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0" name=""/>
          <p:cNvSpPr/>
          <p:nvPr/>
        </p:nvSpPr>
        <p:spPr>
          <a:xfrm>
            <a:off x="2754360" y="38577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1" name=""/>
          <p:cNvSpPr/>
          <p:nvPr/>
        </p:nvSpPr>
        <p:spPr>
          <a:xfrm>
            <a:off x="2817720" y="36482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2" name=""/>
          <p:cNvSpPr/>
          <p:nvPr/>
        </p:nvSpPr>
        <p:spPr>
          <a:xfrm>
            <a:off x="2852640" y="37879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3" name=""/>
          <p:cNvSpPr/>
          <p:nvPr/>
        </p:nvSpPr>
        <p:spPr>
          <a:xfrm>
            <a:off x="2762280" y="412416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4" name=""/>
          <p:cNvSpPr/>
          <p:nvPr/>
        </p:nvSpPr>
        <p:spPr>
          <a:xfrm>
            <a:off x="2843280" y="40179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5" name=""/>
          <p:cNvSpPr/>
          <p:nvPr/>
        </p:nvSpPr>
        <p:spPr>
          <a:xfrm>
            <a:off x="2867040" y="39448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6" name=""/>
          <p:cNvSpPr/>
          <p:nvPr/>
        </p:nvSpPr>
        <p:spPr>
          <a:xfrm>
            <a:off x="2889360" y="30639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7" name=""/>
          <p:cNvSpPr/>
          <p:nvPr/>
        </p:nvSpPr>
        <p:spPr>
          <a:xfrm>
            <a:off x="2989440" y="36687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8" name=""/>
          <p:cNvSpPr/>
          <p:nvPr/>
        </p:nvSpPr>
        <p:spPr>
          <a:xfrm>
            <a:off x="3006720" y="29592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9" name=""/>
          <p:cNvSpPr/>
          <p:nvPr/>
        </p:nvSpPr>
        <p:spPr>
          <a:xfrm>
            <a:off x="2997360" y="38638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0" name=""/>
          <p:cNvSpPr/>
          <p:nvPr/>
        </p:nvSpPr>
        <p:spPr>
          <a:xfrm>
            <a:off x="2916360" y="408924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1" name=""/>
          <p:cNvSpPr/>
          <p:nvPr/>
        </p:nvSpPr>
        <p:spPr>
          <a:xfrm>
            <a:off x="2987640" y="40942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2" name=""/>
          <p:cNvSpPr/>
          <p:nvPr/>
        </p:nvSpPr>
        <p:spPr>
          <a:xfrm>
            <a:off x="3011400" y="33098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3" name=""/>
          <p:cNvSpPr/>
          <p:nvPr/>
        </p:nvSpPr>
        <p:spPr>
          <a:xfrm>
            <a:off x="3014640" y="37591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4" name=""/>
          <p:cNvSpPr/>
          <p:nvPr/>
        </p:nvSpPr>
        <p:spPr>
          <a:xfrm>
            <a:off x="3193920" y="37180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5" name=""/>
          <p:cNvSpPr/>
          <p:nvPr/>
        </p:nvSpPr>
        <p:spPr>
          <a:xfrm>
            <a:off x="3218040" y="40212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6" name=""/>
          <p:cNvSpPr/>
          <p:nvPr/>
        </p:nvSpPr>
        <p:spPr>
          <a:xfrm>
            <a:off x="3132000" y="4060800"/>
            <a:ext cx="367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7" name=""/>
          <p:cNvSpPr/>
          <p:nvPr/>
        </p:nvSpPr>
        <p:spPr>
          <a:xfrm>
            <a:off x="3112920" y="39434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8" name=""/>
          <p:cNvSpPr/>
          <p:nvPr/>
        </p:nvSpPr>
        <p:spPr>
          <a:xfrm>
            <a:off x="3208320" y="38750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9" name=""/>
          <p:cNvSpPr/>
          <p:nvPr/>
        </p:nvSpPr>
        <p:spPr>
          <a:xfrm>
            <a:off x="3243240" y="37846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0" name=""/>
          <p:cNvSpPr/>
          <p:nvPr/>
        </p:nvSpPr>
        <p:spPr>
          <a:xfrm>
            <a:off x="2955960" y="29005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1" name=""/>
          <p:cNvSpPr/>
          <p:nvPr/>
        </p:nvSpPr>
        <p:spPr>
          <a:xfrm>
            <a:off x="3303720" y="36543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2" name=""/>
          <p:cNvSpPr/>
          <p:nvPr/>
        </p:nvSpPr>
        <p:spPr>
          <a:xfrm>
            <a:off x="3338640" y="37940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3" name=""/>
          <p:cNvSpPr/>
          <p:nvPr/>
        </p:nvSpPr>
        <p:spPr>
          <a:xfrm>
            <a:off x="3362400" y="409716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4" name=""/>
          <p:cNvSpPr/>
          <p:nvPr/>
        </p:nvSpPr>
        <p:spPr>
          <a:xfrm>
            <a:off x="3265560" y="40687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5" name=""/>
          <p:cNvSpPr/>
          <p:nvPr/>
        </p:nvSpPr>
        <p:spPr>
          <a:xfrm>
            <a:off x="3328920" y="40244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6" name=""/>
          <p:cNvSpPr/>
          <p:nvPr/>
        </p:nvSpPr>
        <p:spPr>
          <a:xfrm>
            <a:off x="3352680" y="39513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7" name=""/>
          <p:cNvSpPr/>
          <p:nvPr/>
        </p:nvSpPr>
        <p:spPr>
          <a:xfrm>
            <a:off x="3254400" y="39560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8" name=""/>
          <p:cNvSpPr/>
          <p:nvPr/>
        </p:nvSpPr>
        <p:spPr>
          <a:xfrm>
            <a:off x="1747800" y="41133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9" name=""/>
          <p:cNvSpPr/>
          <p:nvPr/>
        </p:nvSpPr>
        <p:spPr>
          <a:xfrm>
            <a:off x="1492200" y="41227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0" name=""/>
          <p:cNvSpPr/>
          <p:nvPr/>
        </p:nvSpPr>
        <p:spPr>
          <a:xfrm>
            <a:off x="1155600" y="4357800"/>
            <a:ext cx="367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1" name=""/>
          <p:cNvSpPr/>
          <p:nvPr/>
        </p:nvSpPr>
        <p:spPr>
          <a:xfrm>
            <a:off x="1119240" y="3995640"/>
            <a:ext cx="3636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2" name=""/>
          <p:cNvSpPr/>
          <p:nvPr/>
        </p:nvSpPr>
        <p:spPr>
          <a:xfrm>
            <a:off x="820800" y="4097160"/>
            <a:ext cx="3636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3" name=""/>
          <p:cNvSpPr/>
          <p:nvPr/>
        </p:nvSpPr>
        <p:spPr>
          <a:xfrm>
            <a:off x="4164120" y="37242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4" name=""/>
          <p:cNvSpPr/>
          <p:nvPr/>
        </p:nvSpPr>
        <p:spPr>
          <a:xfrm>
            <a:off x="3635280" y="397656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5" name=""/>
          <p:cNvSpPr/>
          <p:nvPr/>
        </p:nvSpPr>
        <p:spPr>
          <a:xfrm>
            <a:off x="3659040" y="39038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6" name=""/>
          <p:cNvSpPr/>
          <p:nvPr/>
        </p:nvSpPr>
        <p:spPr>
          <a:xfrm>
            <a:off x="3560760" y="39085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7" name=""/>
          <p:cNvSpPr/>
          <p:nvPr/>
        </p:nvSpPr>
        <p:spPr>
          <a:xfrm>
            <a:off x="3649680" y="30290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8" name=""/>
          <p:cNvSpPr/>
          <p:nvPr/>
        </p:nvSpPr>
        <p:spPr>
          <a:xfrm>
            <a:off x="3754440" y="36831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9" name=""/>
          <p:cNvSpPr/>
          <p:nvPr/>
        </p:nvSpPr>
        <p:spPr>
          <a:xfrm>
            <a:off x="3789360" y="38228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0" name=""/>
          <p:cNvSpPr/>
          <p:nvPr/>
        </p:nvSpPr>
        <p:spPr>
          <a:xfrm>
            <a:off x="3780000" y="40528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1" name=""/>
          <p:cNvSpPr/>
          <p:nvPr/>
        </p:nvSpPr>
        <p:spPr>
          <a:xfrm>
            <a:off x="3803760" y="39798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2" name=""/>
          <p:cNvSpPr/>
          <p:nvPr/>
        </p:nvSpPr>
        <p:spPr>
          <a:xfrm>
            <a:off x="3568680" y="34765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3" name=""/>
          <p:cNvSpPr/>
          <p:nvPr/>
        </p:nvSpPr>
        <p:spPr>
          <a:xfrm>
            <a:off x="3828960" y="36608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4" name=""/>
          <p:cNvSpPr/>
          <p:nvPr/>
        </p:nvSpPr>
        <p:spPr>
          <a:xfrm>
            <a:off x="3867120" y="37702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5" name=""/>
          <p:cNvSpPr/>
          <p:nvPr/>
        </p:nvSpPr>
        <p:spPr>
          <a:xfrm>
            <a:off x="3902040" y="39099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6" name=""/>
          <p:cNvSpPr/>
          <p:nvPr/>
        </p:nvSpPr>
        <p:spPr>
          <a:xfrm>
            <a:off x="3929040" y="36622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7" name=""/>
          <p:cNvSpPr/>
          <p:nvPr/>
        </p:nvSpPr>
        <p:spPr>
          <a:xfrm>
            <a:off x="3916440" y="40672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8" name=""/>
          <p:cNvSpPr/>
          <p:nvPr/>
        </p:nvSpPr>
        <p:spPr>
          <a:xfrm>
            <a:off x="3951360" y="397656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9" name=""/>
          <p:cNvSpPr/>
          <p:nvPr/>
        </p:nvSpPr>
        <p:spPr>
          <a:xfrm>
            <a:off x="4011480" y="38466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0" name=""/>
          <p:cNvSpPr/>
          <p:nvPr/>
        </p:nvSpPr>
        <p:spPr>
          <a:xfrm>
            <a:off x="4046400" y="39862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1" name=""/>
          <p:cNvSpPr/>
          <p:nvPr/>
        </p:nvSpPr>
        <p:spPr>
          <a:xfrm>
            <a:off x="4073400" y="37386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2" name=""/>
          <p:cNvSpPr/>
          <p:nvPr/>
        </p:nvSpPr>
        <p:spPr>
          <a:xfrm>
            <a:off x="4076640" y="36529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3" name=""/>
          <p:cNvSpPr/>
          <p:nvPr/>
        </p:nvSpPr>
        <p:spPr>
          <a:xfrm>
            <a:off x="3975120" y="373680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4" name=""/>
          <p:cNvSpPr/>
          <p:nvPr/>
        </p:nvSpPr>
        <p:spPr>
          <a:xfrm>
            <a:off x="4064040" y="38815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5" name=""/>
          <p:cNvSpPr/>
          <p:nvPr/>
        </p:nvSpPr>
        <p:spPr>
          <a:xfrm>
            <a:off x="4243320" y="38401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6" name=""/>
          <p:cNvSpPr/>
          <p:nvPr/>
        </p:nvSpPr>
        <p:spPr>
          <a:xfrm>
            <a:off x="4162320" y="40654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7" name=""/>
          <p:cNvSpPr/>
          <p:nvPr/>
        </p:nvSpPr>
        <p:spPr>
          <a:xfrm>
            <a:off x="4233960" y="40705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8" name=""/>
          <p:cNvSpPr/>
          <p:nvPr/>
        </p:nvSpPr>
        <p:spPr>
          <a:xfrm>
            <a:off x="4257720" y="39974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9" name=""/>
          <p:cNvSpPr/>
          <p:nvPr/>
        </p:nvSpPr>
        <p:spPr>
          <a:xfrm>
            <a:off x="4159080" y="40021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0" name=""/>
          <p:cNvSpPr/>
          <p:nvPr/>
        </p:nvSpPr>
        <p:spPr>
          <a:xfrm>
            <a:off x="4141800" y="38037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1" name=""/>
          <p:cNvSpPr/>
          <p:nvPr/>
        </p:nvSpPr>
        <p:spPr>
          <a:xfrm>
            <a:off x="4260960" y="37353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2" name=""/>
          <p:cNvSpPr/>
          <p:nvPr/>
        </p:nvSpPr>
        <p:spPr>
          <a:xfrm>
            <a:off x="3322800" y="50626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3" name=""/>
          <p:cNvSpPr/>
          <p:nvPr/>
        </p:nvSpPr>
        <p:spPr>
          <a:xfrm>
            <a:off x="3357720" y="52023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4" name=""/>
          <p:cNvSpPr/>
          <p:nvPr/>
        </p:nvSpPr>
        <p:spPr>
          <a:xfrm>
            <a:off x="3384720" y="49546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5" name=""/>
          <p:cNvSpPr/>
          <p:nvPr/>
        </p:nvSpPr>
        <p:spPr>
          <a:xfrm>
            <a:off x="3286080" y="495288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6" name=""/>
          <p:cNvSpPr/>
          <p:nvPr/>
        </p:nvSpPr>
        <p:spPr>
          <a:xfrm>
            <a:off x="3381480" y="55054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7" name=""/>
          <p:cNvSpPr/>
          <p:nvPr/>
        </p:nvSpPr>
        <p:spPr>
          <a:xfrm>
            <a:off x="3295800" y="5545080"/>
            <a:ext cx="3636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8" name=""/>
          <p:cNvSpPr/>
          <p:nvPr/>
        </p:nvSpPr>
        <p:spPr>
          <a:xfrm>
            <a:off x="3181320" y="578628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9" name=""/>
          <p:cNvSpPr/>
          <p:nvPr/>
        </p:nvSpPr>
        <p:spPr>
          <a:xfrm>
            <a:off x="3179880" y="60865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0" name=""/>
          <p:cNvSpPr/>
          <p:nvPr/>
        </p:nvSpPr>
        <p:spPr>
          <a:xfrm>
            <a:off x="3371760" y="53593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1" name=""/>
          <p:cNvSpPr/>
          <p:nvPr/>
        </p:nvSpPr>
        <p:spPr>
          <a:xfrm>
            <a:off x="3305160" y="53164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2" name=""/>
          <p:cNvSpPr/>
          <p:nvPr/>
        </p:nvSpPr>
        <p:spPr>
          <a:xfrm>
            <a:off x="3168720" y="58942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3" name=""/>
          <p:cNvSpPr/>
          <p:nvPr/>
        </p:nvSpPr>
        <p:spPr>
          <a:xfrm>
            <a:off x="3375000" y="50976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4" name=""/>
          <p:cNvSpPr/>
          <p:nvPr/>
        </p:nvSpPr>
        <p:spPr>
          <a:xfrm>
            <a:off x="2987640" y="525132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5" name=""/>
          <p:cNvSpPr/>
          <p:nvPr/>
        </p:nvSpPr>
        <p:spPr>
          <a:xfrm>
            <a:off x="3417840" y="54403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6" name=""/>
          <p:cNvSpPr/>
          <p:nvPr/>
        </p:nvSpPr>
        <p:spPr>
          <a:xfrm>
            <a:off x="2225520" y="44863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7" name=""/>
          <p:cNvSpPr/>
          <p:nvPr/>
        </p:nvSpPr>
        <p:spPr>
          <a:xfrm>
            <a:off x="2397240" y="50245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8" name=""/>
          <p:cNvSpPr/>
          <p:nvPr/>
        </p:nvSpPr>
        <p:spPr>
          <a:xfrm>
            <a:off x="2492280" y="557676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9" name=""/>
          <p:cNvSpPr/>
          <p:nvPr/>
        </p:nvSpPr>
        <p:spPr>
          <a:xfrm>
            <a:off x="2406600" y="5616720"/>
            <a:ext cx="367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0" name=""/>
          <p:cNvSpPr/>
          <p:nvPr/>
        </p:nvSpPr>
        <p:spPr>
          <a:xfrm>
            <a:off x="2387520" y="54990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1" name=""/>
          <p:cNvSpPr/>
          <p:nvPr/>
        </p:nvSpPr>
        <p:spPr>
          <a:xfrm>
            <a:off x="2459160" y="55040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2" name=""/>
          <p:cNvSpPr/>
          <p:nvPr/>
        </p:nvSpPr>
        <p:spPr>
          <a:xfrm>
            <a:off x="2482920" y="54309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3" name=""/>
          <p:cNvSpPr/>
          <p:nvPr/>
        </p:nvSpPr>
        <p:spPr>
          <a:xfrm>
            <a:off x="2384280" y="54356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4" name=""/>
          <p:cNvSpPr/>
          <p:nvPr/>
        </p:nvSpPr>
        <p:spPr>
          <a:xfrm>
            <a:off x="2517840" y="534024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5" name=""/>
          <p:cNvSpPr/>
          <p:nvPr/>
        </p:nvSpPr>
        <p:spPr>
          <a:xfrm>
            <a:off x="2577960" y="52102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6" name=""/>
          <p:cNvSpPr/>
          <p:nvPr/>
        </p:nvSpPr>
        <p:spPr>
          <a:xfrm>
            <a:off x="2612880" y="53499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7" name=""/>
          <p:cNvSpPr/>
          <p:nvPr/>
        </p:nvSpPr>
        <p:spPr>
          <a:xfrm>
            <a:off x="2540160" y="56246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8" name=""/>
          <p:cNvSpPr/>
          <p:nvPr/>
        </p:nvSpPr>
        <p:spPr>
          <a:xfrm>
            <a:off x="2603520" y="55800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9" name=""/>
          <p:cNvSpPr/>
          <p:nvPr/>
        </p:nvSpPr>
        <p:spPr>
          <a:xfrm>
            <a:off x="3071880" y="54975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0" name=""/>
          <p:cNvSpPr/>
          <p:nvPr/>
        </p:nvSpPr>
        <p:spPr>
          <a:xfrm>
            <a:off x="2529000" y="55119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1" name=""/>
          <p:cNvSpPr/>
          <p:nvPr/>
        </p:nvSpPr>
        <p:spPr>
          <a:xfrm>
            <a:off x="2576520" y="49896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2" name=""/>
          <p:cNvSpPr/>
          <p:nvPr/>
        </p:nvSpPr>
        <p:spPr>
          <a:xfrm>
            <a:off x="2690640" y="52974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3" name=""/>
          <p:cNvSpPr/>
          <p:nvPr/>
        </p:nvSpPr>
        <p:spPr>
          <a:xfrm>
            <a:off x="2725560" y="5437080"/>
            <a:ext cx="3528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4" name=""/>
          <p:cNvSpPr/>
          <p:nvPr/>
        </p:nvSpPr>
        <p:spPr>
          <a:xfrm>
            <a:off x="2752560" y="518940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5" name=""/>
          <p:cNvSpPr/>
          <p:nvPr/>
        </p:nvSpPr>
        <p:spPr>
          <a:xfrm>
            <a:off x="2755800" y="51037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6" name=""/>
          <p:cNvSpPr/>
          <p:nvPr/>
        </p:nvSpPr>
        <p:spPr>
          <a:xfrm>
            <a:off x="2730600" y="49752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7" name=""/>
          <p:cNvSpPr/>
          <p:nvPr/>
        </p:nvSpPr>
        <p:spPr>
          <a:xfrm>
            <a:off x="2739960" y="55944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8" name=""/>
          <p:cNvSpPr/>
          <p:nvPr/>
        </p:nvSpPr>
        <p:spPr>
          <a:xfrm>
            <a:off x="2774880" y="55040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9" name=""/>
          <p:cNvSpPr/>
          <p:nvPr/>
        </p:nvSpPr>
        <p:spPr>
          <a:xfrm>
            <a:off x="2836800" y="59054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0" name=""/>
          <p:cNvSpPr/>
          <p:nvPr/>
        </p:nvSpPr>
        <p:spPr>
          <a:xfrm>
            <a:off x="2835360" y="53737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1" name=""/>
          <p:cNvSpPr/>
          <p:nvPr/>
        </p:nvSpPr>
        <p:spPr>
          <a:xfrm>
            <a:off x="2870280" y="55134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2" name=""/>
          <p:cNvSpPr/>
          <p:nvPr/>
        </p:nvSpPr>
        <p:spPr>
          <a:xfrm>
            <a:off x="2897280" y="52657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3" name=""/>
          <p:cNvSpPr/>
          <p:nvPr/>
        </p:nvSpPr>
        <p:spPr>
          <a:xfrm>
            <a:off x="3094200" y="50562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4" name=""/>
          <p:cNvSpPr/>
          <p:nvPr/>
        </p:nvSpPr>
        <p:spPr>
          <a:xfrm>
            <a:off x="2798640" y="52642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5" name=""/>
          <p:cNvSpPr/>
          <p:nvPr/>
        </p:nvSpPr>
        <p:spPr>
          <a:xfrm>
            <a:off x="2874960" y="50515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6" name=""/>
          <p:cNvSpPr/>
          <p:nvPr/>
        </p:nvSpPr>
        <p:spPr>
          <a:xfrm>
            <a:off x="2835360" y="49561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7" name=""/>
          <p:cNvSpPr/>
          <p:nvPr/>
        </p:nvSpPr>
        <p:spPr>
          <a:xfrm>
            <a:off x="2887560" y="54086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8" name=""/>
          <p:cNvSpPr/>
          <p:nvPr/>
        </p:nvSpPr>
        <p:spPr>
          <a:xfrm>
            <a:off x="2859120" y="514656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9" name=""/>
          <p:cNvSpPr/>
          <p:nvPr/>
        </p:nvSpPr>
        <p:spPr>
          <a:xfrm>
            <a:off x="3013200" y="49928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0" name=""/>
          <p:cNvSpPr/>
          <p:nvPr/>
        </p:nvSpPr>
        <p:spPr>
          <a:xfrm>
            <a:off x="2995560" y="51181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1" name=""/>
          <p:cNvSpPr/>
          <p:nvPr/>
        </p:nvSpPr>
        <p:spPr>
          <a:xfrm>
            <a:off x="3084480" y="582120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2" name=""/>
          <p:cNvSpPr/>
          <p:nvPr/>
        </p:nvSpPr>
        <p:spPr>
          <a:xfrm>
            <a:off x="2982960" y="55292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3" name=""/>
          <p:cNvSpPr/>
          <p:nvPr/>
        </p:nvSpPr>
        <p:spPr>
          <a:xfrm>
            <a:off x="2965320" y="53308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4" name=""/>
          <p:cNvSpPr/>
          <p:nvPr/>
        </p:nvSpPr>
        <p:spPr>
          <a:xfrm>
            <a:off x="3176640" y="53038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5" name=""/>
          <p:cNvSpPr/>
          <p:nvPr/>
        </p:nvSpPr>
        <p:spPr>
          <a:xfrm>
            <a:off x="3211560" y="54435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6" name=""/>
          <p:cNvSpPr/>
          <p:nvPr/>
        </p:nvSpPr>
        <p:spPr>
          <a:xfrm>
            <a:off x="3238560" y="51958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7" name=""/>
          <p:cNvSpPr/>
          <p:nvPr/>
        </p:nvSpPr>
        <p:spPr>
          <a:xfrm>
            <a:off x="3241800" y="51102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8" name=""/>
          <p:cNvSpPr/>
          <p:nvPr/>
        </p:nvSpPr>
        <p:spPr>
          <a:xfrm>
            <a:off x="3139920" y="51944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9" name=""/>
          <p:cNvSpPr/>
          <p:nvPr/>
        </p:nvSpPr>
        <p:spPr>
          <a:xfrm>
            <a:off x="3216240" y="49816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0" name=""/>
          <p:cNvSpPr/>
          <p:nvPr/>
        </p:nvSpPr>
        <p:spPr>
          <a:xfrm>
            <a:off x="3225960" y="56008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1" name=""/>
          <p:cNvSpPr/>
          <p:nvPr/>
        </p:nvSpPr>
        <p:spPr>
          <a:xfrm>
            <a:off x="3127320" y="56055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2" name=""/>
          <p:cNvSpPr/>
          <p:nvPr/>
        </p:nvSpPr>
        <p:spPr>
          <a:xfrm>
            <a:off x="2965320" y="58262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3" name=""/>
          <p:cNvSpPr/>
          <p:nvPr/>
        </p:nvSpPr>
        <p:spPr>
          <a:xfrm>
            <a:off x="3387600" y="432576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4" name=""/>
          <p:cNvSpPr/>
          <p:nvPr/>
        </p:nvSpPr>
        <p:spPr>
          <a:xfrm>
            <a:off x="3402000" y="44830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5" name=""/>
          <p:cNvSpPr/>
          <p:nvPr/>
        </p:nvSpPr>
        <p:spPr>
          <a:xfrm>
            <a:off x="3335400" y="44402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6" name=""/>
          <p:cNvSpPr/>
          <p:nvPr/>
        </p:nvSpPr>
        <p:spPr>
          <a:xfrm>
            <a:off x="3436920" y="43927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7" name=""/>
          <p:cNvSpPr/>
          <p:nvPr/>
        </p:nvSpPr>
        <p:spPr>
          <a:xfrm>
            <a:off x="3405240" y="422100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8" name=""/>
          <p:cNvSpPr/>
          <p:nvPr/>
        </p:nvSpPr>
        <p:spPr>
          <a:xfrm>
            <a:off x="3017880" y="43750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9" name=""/>
          <p:cNvSpPr/>
          <p:nvPr/>
        </p:nvSpPr>
        <p:spPr>
          <a:xfrm>
            <a:off x="2303640" y="46926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0" name=""/>
          <p:cNvSpPr/>
          <p:nvPr/>
        </p:nvSpPr>
        <p:spPr>
          <a:xfrm>
            <a:off x="2444760" y="48308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1" name=""/>
          <p:cNvSpPr/>
          <p:nvPr/>
        </p:nvSpPr>
        <p:spPr>
          <a:xfrm>
            <a:off x="2643120" y="44737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2" name=""/>
          <p:cNvSpPr/>
          <p:nvPr/>
        </p:nvSpPr>
        <p:spPr>
          <a:xfrm>
            <a:off x="2670120" y="42260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3" name=""/>
          <p:cNvSpPr/>
          <p:nvPr/>
        </p:nvSpPr>
        <p:spPr>
          <a:xfrm>
            <a:off x="2673360" y="41403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4" name=""/>
          <p:cNvSpPr/>
          <p:nvPr/>
        </p:nvSpPr>
        <p:spPr>
          <a:xfrm>
            <a:off x="2401920" y="44719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5" name=""/>
          <p:cNvSpPr/>
          <p:nvPr/>
        </p:nvSpPr>
        <p:spPr>
          <a:xfrm>
            <a:off x="2581200" y="4816440"/>
            <a:ext cx="367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6" name=""/>
          <p:cNvSpPr/>
          <p:nvPr/>
        </p:nvSpPr>
        <p:spPr>
          <a:xfrm>
            <a:off x="2308320" y="428292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7" name=""/>
          <p:cNvSpPr/>
          <p:nvPr/>
        </p:nvSpPr>
        <p:spPr>
          <a:xfrm>
            <a:off x="2048040" y="50626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8" name=""/>
          <p:cNvSpPr/>
          <p:nvPr/>
        </p:nvSpPr>
        <p:spPr>
          <a:xfrm>
            <a:off x="2511360" y="43322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9" name=""/>
          <p:cNvSpPr/>
          <p:nvPr/>
        </p:nvSpPr>
        <p:spPr>
          <a:xfrm>
            <a:off x="2786040" y="42274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0" name=""/>
          <p:cNvSpPr/>
          <p:nvPr/>
        </p:nvSpPr>
        <p:spPr>
          <a:xfrm>
            <a:off x="2754360" y="48402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1" name=""/>
          <p:cNvSpPr/>
          <p:nvPr/>
        </p:nvSpPr>
        <p:spPr>
          <a:xfrm>
            <a:off x="2892600" y="444168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2" name=""/>
          <p:cNvSpPr/>
          <p:nvPr/>
        </p:nvSpPr>
        <p:spPr>
          <a:xfrm>
            <a:off x="2865600" y="44974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3" name=""/>
          <p:cNvSpPr/>
          <p:nvPr/>
        </p:nvSpPr>
        <p:spPr>
          <a:xfrm>
            <a:off x="2900520" y="46371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4" name=""/>
          <p:cNvSpPr/>
          <p:nvPr/>
        </p:nvSpPr>
        <p:spPr>
          <a:xfrm>
            <a:off x="2927520" y="43894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5" name=""/>
          <p:cNvSpPr/>
          <p:nvPr/>
        </p:nvSpPr>
        <p:spPr>
          <a:xfrm>
            <a:off x="2930400" y="43038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6" name=""/>
          <p:cNvSpPr/>
          <p:nvPr/>
        </p:nvSpPr>
        <p:spPr>
          <a:xfrm>
            <a:off x="2828880" y="438768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7" name=""/>
          <p:cNvSpPr/>
          <p:nvPr/>
        </p:nvSpPr>
        <p:spPr>
          <a:xfrm>
            <a:off x="2905200" y="41752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8" name=""/>
          <p:cNvSpPr/>
          <p:nvPr/>
        </p:nvSpPr>
        <p:spPr>
          <a:xfrm>
            <a:off x="2819520" y="48625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9" name=""/>
          <p:cNvSpPr/>
          <p:nvPr/>
        </p:nvSpPr>
        <p:spPr>
          <a:xfrm>
            <a:off x="2890800" y="48672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0" name=""/>
          <p:cNvSpPr/>
          <p:nvPr/>
        </p:nvSpPr>
        <p:spPr>
          <a:xfrm>
            <a:off x="2914560" y="479412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1" name=""/>
          <p:cNvSpPr/>
          <p:nvPr/>
        </p:nvSpPr>
        <p:spPr>
          <a:xfrm>
            <a:off x="2340000" y="47721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2" name=""/>
          <p:cNvSpPr/>
          <p:nvPr/>
        </p:nvSpPr>
        <p:spPr>
          <a:xfrm>
            <a:off x="2917800" y="45324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3" name=""/>
          <p:cNvSpPr/>
          <p:nvPr/>
        </p:nvSpPr>
        <p:spPr>
          <a:xfrm>
            <a:off x="2889360" y="42703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4" name=""/>
          <p:cNvSpPr/>
          <p:nvPr/>
        </p:nvSpPr>
        <p:spPr>
          <a:xfrm>
            <a:off x="3124080" y="42433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5" name=""/>
          <p:cNvSpPr/>
          <p:nvPr/>
        </p:nvSpPr>
        <p:spPr>
          <a:xfrm>
            <a:off x="3127320" y="41576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6" name=""/>
          <p:cNvSpPr/>
          <p:nvPr/>
        </p:nvSpPr>
        <p:spPr>
          <a:xfrm>
            <a:off x="3121200" y="479412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7" name=""/>
          <p:cNvSpPr/>
          <p:nvPr/>
        </p:nvSpPr>
        <p:spPr>
          <a:xfrm>
            <a:off x="3016080" y="47163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8" name=""/>
          <p:cNvSpPr/>
          <p:nvPr/>
        </p:nvSpPr>
        <p:spPr>
          <a:xfrm>
            <a:off x="3013200" y="46530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9" name=""/>
          <p:cNvSpPr/>
          <p:nvPr/>
        </p:nvSpPr>
        <p:spPr>
          <a:xfrm>
            <a:off x="3006720" y="45496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0" name=""/>
          <p:cNvSpPr/>
          <p:nvPr/>
        </p:nvSpPr>
        <p:spPr>
          <a:xfrm>
            <a:off x="3206880" y="44276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1" name=""/>
          <p:cNvSpPr/>
          <p:nvPr/>
        </p:nvSpPr>
        <p:spPr>
          <a:xfrm>
            <a:off x="3268800" y="43196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2" name=""/>
          <p:cNvSpPr/>
          <p:nvPr/>
        </p:nvSpPr>
        <p:spPr>
          <a:xfrm>
            <a:off x="3187800" y="41925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3" name=""/>
          <p:cNvSpPr/>
          <p:nvPr/>
        </p:nvSpPr>
        <p:spPr>
          <a:xfrm>
            <a:off x="3170160" y="431784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4" name=""/>
          <p:cNvSpPr/>
          <p:nvPr/>
        </p:nvSpPr>
        <p:spPr>
          <a:xfrm>
            <a:off x="3313080" y="43624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5" name=""/>
          <p:cNvSpPr/>
          <p:nvPr/>
        </p:nvSpPr>
        <p:spPr>
          <a:xfrm>
            <a:off x="4037040" y="53737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6" name=""/>
          <p:cNvSpPr/>
          <p:nvPr/>
        </p:nvSpPr>
        <p:spPr>
          <a:xfrm>
            <a:off x="3483000" y="52563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7" name=""/>
          <p:cNvSpPr/>
          <p:nvPr/>
        </p:nvSpPr>
        <p:spPr>
          <a:xfrm>
            <a:off x="3517920" y="53960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8" name=""/>
          <p:cNvSpPr/>
          <p:nvPr/>
        </p:nvSpPr>
        <p:spPr>
          <a:xfrm>
            <a:off x="3544920" y="51483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9" name=""/>
          <p:cNvSpPr/>
          <p:nvPr/>
        </p:nvSpPr>
        <p:spPr>
          <a:xfrm>
            <a:off x="3548160" y="50626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0" name=""/>
          <p:cNvSpPr/>
          <p:nvPr/>
        </p:nvSpPr>
        <p:spPr>
          <a:xfrm>
            <a:off x="3446640" y="514656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1" name=""/>
          <p:cNvSpPr/>
          <p:nvPr/>
        </p:nvSpPr>
        <p:spPr>
          <a:xfrm>
            <a:off x="3508200" y="5626080"/>
            <a:ext cx="3528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2" name=""/>
          <p:cNvSpPr/>
          <p:nvPr/>
        </p:nvSpPr>
        <p:spPr>
          <a:xfrm>
            <a:off x="3433680" y="555768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3" name=""/>
          <p:cNvSpPr/>
          <p:nvPr/>
        </p:nvSpPr>
        <p:spPr>
          <a:xfrm>
            <a:off x="3567240" y="54626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4" name=""/>
          <p:cNvSpPr/>
          <p:nvPr/>
        </p:nvSpPr>
        <p:spPr>
          <a:xfrm>
            <a:off x="3627360" y="53323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5" name=""/>
          <p:cNvSpPr/>
          <p:nvPr/>
        </p:nvSpPr>
        <p:spPr>
          <a:xfrm>
            <a:off x="3662280" y="547200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6" name=""/>
          <p:cNvSpPr/>
          <p:nvPr/>
        </p:nvSpPr>
        <p:spPr>
          <a:xfrm>
            <a:off x="3689280" y="522432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7" name=""/>
          <p:cNvSpPr/>
          <p:nvPr/>
        </p:nvSpPr>
        <p:spPr>
          <a:xfrm>
            <a:off x="3692520" y="51386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8" name=""/>
          <p:cNvSpPr/>
          <p:nvPr/>
        </p:nvSpPr>
        <p:spPr>
          <a:xfrm>
            <a:off x="3591000" y="52228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9" name=""/>
          <p:cNvSpPr/>
          <p:nvPr/>
        </p:nvSpPr>
        <p:spPr>
          <a:xfrm>
            <a:off x="3678120" y="55530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0" name=""/>
          <p:cNvSpPr/>
          <p:nvPr/>
        </p:nvSpPr>
        <p:spPr>
          <a:xfrm>
            <a:off x="3613320" y="613872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1" name=""/>
          <p:cNvSpPr/>
          <p:nvPr/>
        </p:nvSpPr>
        <p:spPr>
          <a:xfrm>
            <a:off x="3701880" y="53103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2" name=""/>
          <p:cNvSpPr/>
          <p:nvPr/>
        </p:nvSpPr>
        <p:spPr>
          <a:xfrm>
            <a:off x="3740040" y="54198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3" name=""/>
          <p:cNvSpPr/>
          <p:nvPr/>
        </p:nvSpPr>
        <p:spPr>
          <a:xfrm>
            <a:off x="3774960" y="55594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4" name=""/>
          <p:cNvSpPr/>
          <p:nvPr/>
        </p:nvSpPr>
        <p:spPr>
          <a:xfrm>
            <a:off x="3801960" y="53118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5" name=""/>
          <p:cNvSpPr/>
          <p:nvPr/>
        </p:nvSpPr>
        <p:spPr>
          <a:xfrm>
            <a:off x="3805200" y="52261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6" name=""/>
          <p:cNvSpPr/>
          <p:nvPr/>
        </p:nvSpPr>
        <p:spPr>
          <a:xfrm>
            <a:off x="3780000" y="50976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7" name=""/>
          <p:cNvSpPr/>
          <p:nvPr/>
        </p:nvSpPr>
        <p:spPr>
          <a:xfrm>
            <a:off x="3284640" y="58644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8" name=""/>
          <p:cNvSpPr/>
          <p:nvPr/>
        </p:nvSpPr>
        <p:spPr>
          <a:xfrm>
            <a:off x="3919680" y="56358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9" name=""/>
          <p:cNvSpPr/>
          <p:nvPr/>
        </p:nvSpPr>
        <p:spPr>
          <a:xfrm>
            <a:off x="3946680" y="53881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0" name=""/>
          <p:cNvSpPr/>
          <p:nvPr/>
        </p:nvSpPr>
        <p:spPr>
          <a:xfrm>
            <a:off x="3949560" y="530208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1" name=""/>
          <p:cNvSpPr/>
          <p:nvPr/>
        </p:nvSpPr>
        <p:spPr>
          <a:xfrm>
            <a:off x="3848040" y="53863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2" name=""/>
          <p:cNvSpPr/>
          <p:nvPr/>
        </p:nvSpPr>
        <p:spPr>
          <a:xfrm>
            <a:off x="3924360" y="51735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3" name=""/>
          <p:cNvSpPr/>
          <p:nvPr/>
        </p:nvSpPr>
        <p:spPr>
          <a:xfrm>
            <a:off x="3884760" y="50785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4" name=""/>
          <p:cNvSpPr/>
          <p:nvPr/>
        </p:nvSpPr>
        <p:spPr>
          <a:xfrm>
            <a:off x="3936960" y="553068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5" name=""/>
          <p:cNvSpPr/>
          <p:nvPr/>
        </p:nvSpPr>
        <p:spPr>
          <a:xfrm>
            <a:off x="3070080" y="53546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6" name=""/>
          <p:cNvSpPr/>
          <p:nvPr/>
        </p:nvSpPr>
        <p:spPr>
          <a:xfrm>
            <a:off x="4116240" y="54896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7" name=""/>
          <p:cNvSpPr/>
          <p:nvPr/>
        </p:nvSpPr>
        <p:spPr>
          <a:xfrm>
            <a:off x="4143240" y="52419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8" name=""/>
          <p:cNvSpPr/>
          <p:nvPr/>
        </p:nvSpPr>
        <p:spPr>
          <a:xfrm>
            <a:off x="4146480" y="51562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9" name=""/>
          <p:cNvSpPr/>
          <p:nvPr/>
        </p:nvSpPr>
        <p:spPr>
          <a:xfrm>
            <a:off x="4062240" y="51148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0" name=""/>
          <p:cNvSpPr/>
          <p:nvPr/>
        </p:nvSpPr>
        <p:spPr>
          <a:xfrm>
            <a:off x="4044960" y="524016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1" name=""/>
          <p:cNvSpPr/>
          <p:nvPr/>
        </p:nvSpPr>
        <p:spPr>
          <a:xfrm>
            <a:off x="4165560" y="55562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2" name=""/>
          <p:cNvSpPr/>
          <p:nvPr/>
        </p:nvSpPr>
        <p:spPr>
          <a:xfrm>
            <a:off x="4014720" y="545292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3" name=""/>
          <p:cNvSpPr/>
          <p:nvPr/>
        </p:nvSpPr>
        <p:spPr>
          <a:xfrm>
            <a:off x="4133880" y="53848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4" name=""/>
          <p:cNvSpPr/>
          <p:nvPr/>
        </p:nvSpPr>
        <p:spPr>
          <a:xfrm>
            <a:off x="4226040" y="542592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5" name=""/>
          <p:cNvSpPr/>
          <p:nvPr/>
        </p:nvSpPr>
        <p:spPr>
          <a:xfrm>
            <a:off x="4206960" y="51912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6" name=""/>
          <p:cNvSpPr/>
          <p:nvPr/>
        </p:nvSpPr>
        <p:spPr>
          <a:xfrm>
            <a:off x="4189320" y="53164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7" name=""/>
          <p:cNvSpPr/>
          <p:nvPr/>
        </p:nvSpPr>
        <p:spPr>
          <a:xfrm>
            <a:off x="3513240" y="437976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8" name=""/>
          <p:cNvSpPr/>
          <p:nvPr/>
        </p:nvSpPr>
        <p:spPr>
          <a:xfrm>
            <a:off x="3554280" y="49449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9" name=""/>
          <p:cNvSpPr/>
          <p:nvPr/>
        </p:nvSpPr>
        <p:spPr>
          <a:xfrm>
            <a:off x="3505320" y="44672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0" name=""/>
          <p:cNvSpPr/>
          <p:nvPr/>
        </p:nvSpPr>
        <p:spPr>
          <a:xfrm>
            <a:off x="3657600" y="44560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1" name=""/>
          <p:cNvSpPr/>
          <p:nvPr/>
        </p:nvSpPr>
        <p:spPr>
          <a:xfrm>
            <a:off x="3719520" y="43480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2" name=""/>
          <p:cNvSpPr/>
          <p:nvPr/>
        </p:nvSpPr>
        <p:spPr>
          <a:xfrm>
            <a:off x="3621240" y="43466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3" name=""/>
          <p:cNvSpPr/>
          <p:nvPr/>
        </p:nvSpPr>
        <p:spPr>
          <a:xfrm>
            <a:off x="3732120" y="443376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4" name=""/>
          <p:cNvSpPr/>
          <p:nvPr/>
        </p:nvSpPr>
        <p:spPr>
          <a:xfrm>
            <a:off x="3832200" y="44355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5" name=""/>
          <p:cNvSpPr/>
          <p:nvPr/>
        </p:nvSpPr>
        <p:spPr>
          <a:xfrm>
            <a:off x="3835440" y="43498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6" name=""/>
          <p:cNvSpPr/>
          <p:nvPr/>
        </p:nvSpPr>
        <p:spPr>
          <a:xfrm>
            <a:off x="3098880" y="45291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7" name=""/>
          <p:cNvSpPr/>
          <p:nvPr/>
        </p:nvSpPr>
        <p:spPr>
          <a:xfrm>
            <a:off x="3714840" y="50198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8" name=""/>
          <p:cNvSpPr/>
          <p:nvPr/>
        </p:nvSpPr>
        <p:spPr>
          <a:xfrm>
            <a:off x="3941640" y="45640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9" name=""/>
          <p:cNvSpPr/>
          <p:nvPr/>
        </p:nvSpPr>
        <p:spPr>
          <a:xfrm>
            <a:off x="3949560" y="475920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0" name=""/>
          <p:cNvSpPr/>
          <p:nvPr/>
        </p:nvSpPr>
        <p:spPr>
          <a:xfrm>
            <a:off x="3976560" y="451152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1" name=""/>
          <p:cNvSpPr/>
          <p:nvPr/>
        </p:nvSpPr>
        <p:spPr>
          <a:xfrm>
            <a:off x="3979800" y="442584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2" name=""/>
          <p:cNvSpPr/>
          <p:nvPr/>
        </p:nvSpPr>
        <p:spPr>
          <a:xfrm>
            <a:off x="3878280" y="45100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3" name=""/>
          <p:cNvSpPr/>
          <p:nvPr/>
        </p:nvSpPr>
        <p:spPr>
          <a:xfrm>
            <a:off x="3868560" y="4984920"/>
            <a:ext cx="3528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4" name=""/>
          <p:cNvSpPr/>
          <p:nvPr/>
        </p:nvSpPr>
        <p:spPr>
          <a:xfrm>
            <a:off x="3940200" y="49896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5" name=""/>
          <p:cNvSpPr/>
          <p:nvPr/>
        </p:nvSpPr>
        <p:spPr>
          <a:xfrm>
            <a:off x="3963960" y="49165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6" name=""/>
          <p:cNvSpPr/>
          <p:nvPr/>
        </p:nvSpPr>
        <p:spPr>
          <a:xfrm>
            <a:off x="3967200" y="465444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7" name=""/>
          <p:cNvSpPr/>
          <p:nvPr/>
        </p:nvSpPr>
        <p:spPr>
          <a:xfrm>
            <a:off x="4146480" y="46134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8" name=""/>
          <p:cNvSpPr/>
          <p:nvPr/>
        </p:nvSpPr>
        <p:spPr>
          <a:xfrm>
            <a:off x="4173480" y="43657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9" name=""/>
          <p:cNvSpPr/>
          <p:nvPr/>
        </p:nvSpPr>
        <p:spPr>
          <a:xfrm>
            <a:off x="4075200" y="436392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0" name=""/>
          <p:cNvSpPr/>
          <p:nvPr/>
        </p:nvSpPr>
        <p:spPr>
          <a:xfrm>
            <a:off x="4170240" y="49165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1" name=""/>
          <p:cNvSpPr/>
          <p:nvPr/>
        </p:nvSpPr>
        <p:spPr>
          <a:xfrm>
            <a:off x="4084560" y="4956120"/>
            <a:ext cx="367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2" name=""/>
          <p:cNvSpPr/>
          <p:nvPr/>
        </p:nvSpPr>
        <p:spPr>
          <a:xfrm>
            <a:off x="4065480" y="48387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3" name=""/>
          <p:cNvSpPr/>
          <p:nvPr/>
        </p:nvSpPr>
        <p:spPr>
          <a:xfrm>
            <a:off x="4137120" y="48434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4" name=""/>
          <p:cNvSpPr/>
          <p:nvPr/>
        </p:nvSpPr>
        <p:spPr>
          <a:xfrm>
            <a:off x="4160880" y="47703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5" name=""/>
          <p:cNvSpPr/>
          <p:nvPr/>
        </p:nvSpPr>
        <p:spPr>
          <a:xfrm>
            <a:off x="4062240" y="477504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6" name=""/>
          <p:cNvSpPr/>
          <p:nvPr/>
        </p:nvSpPr>
        <p:spPr>
          <a:xfrm>
            <a:off x="4195800" y="46800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7" name=""/>
          <p:cNvSpPr/>
          <p:nvPr/>
        </p:nvSpPr>
        <p:spPr>
          <a:xfrm>
            <a:off x="4044960" y="45766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8" name=""/>
          <p:cNvSpPr/>
          <p:nvPr/>
        </p:nvSpPr>
        <p:spPr>
          <a:xfrm>
            <a:off x="4164120" y="45086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9" name=""/>
          <p:cNvSpPr/>
          <p:nvPr/>
        </p:nvSpPr>
        <p:spPr>
          <a:xfrm>
            <a:off x="4255920" y="45496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0" name=""/>
          <p:cNvSpPr/>
          <p:nvPr/>
        </p:nvSpPr>
        <p:spPr>
          <a:xfrm>
            <a:off x="4237200" y="43149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1" name=""/>
          <p:cNvSpPr/>
          <p:nvPr/>
        </p:nvSpPr>
        <p:spPr>
          <a:xfrm>
            <a:off x="4219560" y="44402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2" name=""/>
          <p:cNvSpPr/>
          <p:nvPr/>
        </p:nvSpPr>
        <p:spPr>
          <a:xfrm>
            <a:off x="4218120" y="49640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3" name=""/>
          <p:cNvSpPr/>
          <p:nvPr/>
        </p:nvSpPr>
        <p:spPr>
          <a:xfrm>
            <a:off x="4206960" y="48513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4" name=""/>
          <p:cNvSpPr/>
          <p:nvPr/>
        </p:nvSpPr>
        <p:spPr>
          <a:xfrm>
            <a:off x="4133880" y="5065560"/>
            <a:ext cx="3636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5" name=""/>
          <p:cNvSpPr/>
          <p:nvPr/>
        </p:nvSpPr>
        <p:spPr>
          <a:xfrm>
            <a:off x="3487680" y="41306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6" name=""/>
          <p:cNvSpPr/>
          <p:nvPr/>
        </p:nvSpPr>
        <p:spPr>
          <a:xfrm>
            <a:off x="3478320" y="42735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7" name=""/>
          <p:cNvSpPr/>
          <p:nvPr/>
        </p:nvSpPr>
        <p:spPr>
          <a:xfrm>
            <a:off x="3632040" y="42069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8" name=""/>
          <p:cNvSpPr/>
          <p:nvPr/>
        </p:nvSpPr>
        <p:spPr>
          <a:xfrm>
            <a:off x="3533760" y="420516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9" name=""/>
          <p:cNvSpPr/>
          <p:nvPr/>
        </p:nvSpPr>
        <p:spPr>
          <a:xfrm>
            <a:off x="3645000" y="42926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0" name=""/>
          <p:cNvSpPr/>
          <p:nvPr/>
        </p:nvSpPr>
        <p:spPr>
          <a:xfrm>
            <a:off x="4030560" y="41227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1" name=""/>
          <p:cNvSpPr/>
          <p:nvPr/>
        </p:nvSpPr>
        <p:spPr>
          <a:xfrm>
            <a:off x="3747960" y="42084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2" name=""/>
          <p:cNvSpPr/>
          <p:nvPr/>
        </p:nvSpPr>
        <p:spPr>
          <a:xfrm>
            <a:off x="3664080" y="41673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3" name=""/>
          <p:cNvSpPr/>
          <p:nvPr/>
        </p:nvSpPr>
        <p:spPr>
          <a:xfrm>
            <a:off x="3892680" y="42847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4" name=""/>
          <p:cNvSpPr/>
          <p:nvPr/>
        </p:nvSpPr>
        <p:spPr>
          <a:xfrm>
            <a:off x="3867120" y="41562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5" name=""/>
          <p:cNvSpPr/>
          <p:nvPr/>
        </p:nvSpPr>
        <p:spPr>
          <a:xfrm>
            <a:off x="3851280" y="42512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6" name=""/>
          <p:cNvSpPr/>
          <p:nvPr/>
        </p:nvSpPr>
        <p:spPr>
          <a:xfrm>
            <a:off x="4086360" y="42242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7" name=""/>
          <p:cNvSpPr/>
          <p:nvPr/>
        </p:nvSpPr>
        <p:spPr>
          <a:xfrm>
            <a:off x="3987720" y="42228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8" name=""/>
          <p:cNvSpPr/>
          <p:nvPr/>
        </p:nvSpPr>
        <p:spPr>
          <a:xfrm>
            <a:off x="4230720" y="43005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9" name=""/>
          <p:cNvSpPr/>
          <p:nvPr/>
        </p:nvSpPr>
        <p:spPr>
          <a:xfrm>
            <a:off x="4233960" y="42148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0" name=""/>
          <p:cNvSpPr/>
          <p:nvPr/>
        </p:nvSpPr>
        <p:spPr>
          <a:xfrm>
            <a:off x="4149720" y="41734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1" name=""/>
          <p:cNvSpPr/>
          <p:nvPr/>
        </p:nvSpPr>
        <p:spPr>
          <a:xfrm>
            <a:off x="2316240" y="41115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2" name=""/>
          <p:cNvSpPr/>
          <p:nvPr/>
        </p:nvSpPr>
        <p:spPr>
          <a:xfrm>
            <a:off x="763560" y="44020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3" name=""/>
          <p:cNvSpPr/>
          <p:nvPr/>
        </p:nvSpPr>
        <p:spPr>
          <a:xfrm>
            <a:off x="798480" y="45417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4" name=""/>
          <p:cNvSpPr/>
          <p:nvPr/>
        </p:nvSpPr>
        <p:spPr>
          <a:xfrm>
            <a:off x="646200" y="46530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5" name=""/>
          <p:cNvSpPr/>
          <p:nvPr/>
        </p:nvSpPr>
        <p:spPr>
          <a:xfrm>
            <a:off x="828720" y="42084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6" name=""/>
          <p:cNvSpPr/>
          <p:nvPr/>
        </p:nvSpPr>
        <p:spPr>
          <a:xfrm>
            <a:off x="744480" y="41673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7" name=""/>
          <p:cNvSpPr/>
          <p:nvPr/>
        </p:nvSpPr>
        <p:spPr>
          <a:xfrm>
            <a:off x="603360" y="44816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8" name=""/>
          <p:cNvSpPr/>
          <p:nvPr/>
        </p:nvSpPr>
        <p:spPr>
          <a:xfrm>
            <a:off x="682560" y="49658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9" name=""/>
          <p:cNvSpPr/>
          <p:nvPr/>
        </p:nvSpPr>
        <p:spPr>
          <a:xfrm>
            <a:off x="657360" y="44132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0" name=""/>
          <p:cNvSpPr/>
          <p:nvPr/>
        </p:nvSpPr>
        <p:spPr>
          <a:xfrm>
            <a:off x="727200" y="42926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1" name=""/>
          <p:cNvSpPr/>
          <p:nvPr/>
        </p:nvSpPr>
        <p:spPr>
          <a:xfrm>
            <a:off x="822240" y="484488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2" name=""/>
          <p:cNvSpPr/>
          <p:nvPr/>
        </p:nvSpPr>
        <p:spPr>
          <a:xfrm>
            <a:off x="736560" y="4884840"/>
            <a:ext cx="367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3" name=""/>
          <p:cNvSpPr/>
          <p:nvPr/>
        </p:nvSpPr>
        <p:spPr>
          <a:xfrm>
            <a:off x="789120" y="47721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4" name=""/>
          <p:cNvSpPr/>
          <p:nvPr/>
        </p:nvSpPr>
        <p:spPr>
          <a:xfrm>
            <a:off x="812880" y="46990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5" name=""/>
          <p:cNvSpPr/>
          <p:nvPr/>
        </p:nvSpPr>
        <p:spPr>
          <a:xfrm>
            <a:off x="847800" y="460836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6" name=""/>
          <p:cNvSpPr/>
          <p:nvPr/>
        </p:nvSpPr>
        <p:spPr>
          <a:xfrm>
            <a:off x="696960" y="45720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7" name=""/>
          <p:cNvSpPr/>
          <p:nvPr/>
        </p:nvSpPr>
        <p:spPr>
          <a:xfrm>
            <a:off x="816120" y="44370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8" name=""/>
          <p:cNvSpPr/>
          <p:nvPr/>
        </p:nvSpPr>
        <p:spPr>
          <a:xfrm>
            <a:off x="907920" y="44784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9" name=""/>
          <p:cNvSpPr/>
          <p:nvPr/>
        </p:nvSpPr>
        <p:spPr>
          <a:xfrm>
            <a:off x="942840" y="46180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0" name=""/>
          <p:cNvSpPr/>
          <p:nvPr/>
        </p:nvSpPr>
        <p:spPr>
          <a:xfrm>
            <a:off x="973080" y="42847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1" name=""/>
          <p:cNvSpPr/>
          <p:nvPr/>
        </p:nvSpPr>
        <p:spPr>
          <a:xfrm>
            <a:off x="871560" y="43689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2" name=""/>
          <p:cNvSpPr/>
          <p:nvPr/>
        </p:nvSpPr>
        <p:spPr>
          <a:xfrm>
            <a:off x="947880" y="41562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3" name=""/>
          <p:cNvSpPr/>
          <p:nvPr/>
        </p:nvSpPr>
        <p:spPr>
          <a:xfrm>
            <a:off x="880920" y="4960800"/>
            <a:ext cx="367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4" name=""/>
          <p:cNvSpPr/>
          <p:nvPr/>
        </p:nvSpPr>
        <p:spPr>
          <a:xfrm>
            <a:off x="1889280" y="49118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5" name=""/>
          <p:cNvSpPr/>
          <p:nvPr/>
        </p:nvSpPr>
        <p:spPr>
          <a:xfrm>
            <a:off x="933480" y="48481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6" name=""/>
          <p:cNvSpPr/>
          <p:nvPr/>
        </p:nvSpPr>
        <p:spPr>
          <a:xfrm>
            <a:off x="2111400" y="42814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7" name=""/>
          <p:cNvSpPr/>
          <p:nvPr/>
        </p:nvSpPr>
        <p:spPr>
          <a:xfrm>
            <a:off x="2203560" y="414324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8" name=""/>
          <p:cNvSpPr/>
          <p:nvPr/>
        </p:nvSpPr>
        <p:spPr>
          <a:xfrm>
            <a:off x="2179800" y="472428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9" name=""/>
          <p:cNvSpPr/>
          <p:nvPr/>
        </p:nvSpPr>
        <p:spPr>
          <a:xfrm>
            <a:off x="1068480" y="42228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0" name=""/>
          <p:cNvSpPr/>
          <p:nvPr/>
        </p:nvSpPr>
        <p:spPr>
          <a:xfrm>
            <a:off x="2003400" y="4221000"/>
            <a:ext cx="3636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1" name=""/>
          <p:cNvSpPr/>
          <p:nvPr/>
        </p:nvSpPr>
        <p:spPr>
          <a:xfrm>
            <a:off x="1058760" y="469728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2" name=""/>
          <p:cNvSpPr/>
          <p:nvPr/>
        </p:nvSpPr>
        <p:spPr>
          <a:xfrm>
            <a:off x="1608120" y="43322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3" name=""/>
          <p:cNvSpPr/>
          <p:nvPr/>
        </p:nvSpPr>
        <p:spPr>
          <a:xfrm>
            <a:off x="1347840" y="43052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4" name=""/>
          <p:cNvSpPr/>
          <p:nvPr/>
        </p:nvSpPr>
        <p:spPr>
          <a:xfrm>
            <a:off x="2009880" y="43959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5" name=""/>
          <p:cNvSpPr/>
          <p:nvPr/>
        </p:nvSpPr>
        <p:spPr>
          <a:xfrm>
            <a:off x="1712880" y="44658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6" name=""/>
          <p:cNvSpPr/>
          <p:nvPr/>
        </p:nvSpPr>
        <p:spPr>
          <a:xfrm>
            <a:off x="1030320" y="50068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7" name=""/>
          <p:cNvSpPr/>
          <p:nvPr/>
        </p:nvSpPr>
        <p:spPr>
          <a:xfrm>
            <a:off x="765000" y="5016600"/>
            <a:ext cx="367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8" name=""/>
          <p:cNvSpPr/>
          <p:nvPr/>
        </p:nvSpPr>
        <p:spPr>
          <a:xfrm>
            <a:off x="649440" y="51055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9" name=""/>
          <p:cNvSpPr/>
          <p:nvPr/>
        </p:nvSpPr>
        <p:spPr>
          <a:xfrm>
            <a:off x="639720" y="52484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0" name=""/>
          <p:cNvSpPr/>
          <p:nvPr/>
        </p:nvSpPr>
        <p:spPr>
          <a:xfrm>
            <a:off x="1719360" y="56404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1" name=""/>
          <p:cNvSpPr/>
          <p:nvPr/>
        </p:nvSpPr>
        <p:spPr>
          <a:xfrm>
            <a:off x="1731960" y="54388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2" name=""/>
          <p:cNvSpPr/>
          <p:nvPr/>
        </p:nvSpPr>
        <p:spPr>
          <a:xfrm>
            <a:off x="1646280" y="5478480"/>
            <a:ext cx="3636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3" name=""/>
          <p:cNvSpPr/>
          <p:nvPr/>
        </p:nvSpPr>
        <p:spPr>
          <a:xfrm>
            <a:off x="2195640" y="51055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4" name=""/>
          <p:cNvSpPr/>
          <p:nvPr/>
        </p:nvSpPr>
        <p:spPr>
          <a:xfrm>
            <a:off x="1620720" y="49276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5" name=""/>
          <p:cNvSpPr/>
          <p:nvPr/>
        </p:nvSpPr>
        <p:spPr>
          <a:xfrm>
            <a:off x="1676520" y="50958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6" name=""/>
          <p:cNvSpPr/>
          <p:nvPr/>
        </p:nvSpPr>
        <p:spPr>
          <a:xfrm>
            <a:off x="1541520" y="48038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7" name=""/>
          <p:cNvSpPr/>
          <p:nvPr/>
        </p:nvSpPr>
        <p:spPr>
          <a:xfrm>
            <a:off x="1252440" y="49719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8" name=""/>
          <p:cNvSpPr/>
          <p:nvPr/>
        </p:nvSpPr>
        <p:spPr>
          <a:xfrm>
            <a:off x="819000" y="52070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9" name=""/>
          <p:cNvSpPr/>
          <p:nvPr/>
        </p:nvSpPr>
        <p:spPr>
          <a:xfrm>
            <a:off x="825480" y="56325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0" name=""/>
          <p:cNvSpPr/>
          <p:nvPr/>
        </p:nvSpPr>
        <p:spPr>
          <a:xfrm>
            <a:off x="843120" y="55101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1" name=""/>
          <p:cNvSpPr/>
          <p:nvPr/>
        </p:nvSpPr>
        <p:spPr>
          <a:xfrm>
            <a:off x="809640" y="54370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2" name=""/>
          <p:cNvSpPr/>
          <p:nvPr/>
        </p:nvSpPr>
        <p:spPr>
          <a:xfrm>
            <a:off x="833400" y="536400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3" name=""/>
          <p:cNvSpPr/>
          <p:nvPr/>
        </p:nvSpPr>
        <p:spPr>
          <a:xfrm>
            <a:off x="735120" y="53690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4" name=""/>
          <p:cNvSpPr/>
          <p:nvPr/>
        </p:nvSpPr>
        <p:spPr>
          <a:xfrm>
            <a:off x="868320" y="52736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5" name=""/>
          <p:cNvSpPr/>
          <p:nvPr/>
        </p:nvSpPr>
        <p:spPr>
          <a:xfrm>
            <a:off x="717480" y="517032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6" name=""/>
          <p:cNvSpPr/>
          <p:nvPr/>
        </p:nvSpPr>
        <p:spPr>
          <a:xfrm>
            <a:off x="836640" y="51022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7" name=""/>
          <p:cNvSpPr/>
          <p:nvPr/>
        </p:nvSpPr>
        <p:spPr>
          <a:xfrm>
            <a:off x="928800" y="51436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8" name=""/>
          <p:cNvSpPr/>
          <p:nvPr/>
        </p:nvSpPr>
        <p:spPr>
          <a:xfrm>
            <a:off x="963720" y="52833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9" name=""/>
          <p:cNvSpPr/>
          <p:nvPr/>
        </p:nvSpPr>
        <p:spPr>
          <a:xfrm>
            <a:off x="987480" y="55864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0" name=""/>
          <p:cNvSpPr/>
          <p:nvPr/>
        </p:nvSpPr>
        <p:spPr>
          <a:xfrm>
            <a:off x="879480" y="6039000"/>
            <a:ext cx="3636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1" name=""/>
          <p:cNvSpPr/>
          <p:nvPr/>
        </p:nvSpPr>
        <p:spPr>
          <a:xfrm>
            <a:off x="954000" y="55134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2" name=""/>
          <p:cNvSpPr/>
          <p:nvPr/>
        </p:nvSpPr>
        <p:spPr>
          <a:xfrm>
            <a:off x="977760" y="54403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3" name=""/>
          <p:cNvSpPr/>
          <p:nvPr/>
        </p:nvSpPr>
        <p:spPr>
          <a:xfrm>
            <a:off x="879480" y="544500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4" name=""/>
          <p:cNvSpPr/>
          <p:nvPr/>
        </p:nvSpPr>
        <p:spPr>
          <a:xfrm>
            <a:off x="1003320" y="51213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5" name=""/>
          <p:cNvSpPr/>
          <p:nvPr/>
        </p:nvSpPr>
        <p:spPr>
          <a:xfrm>
            <a:off x="1041480" y="52308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6" name=""/>
          <p:cNvSpPr/>
          <p:nvPr/>
        </p:nvSpPr>
        <p:spPr>
          <a:xfrm>
            <a:off x="1076400" y="53704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7" name=""/>
          <p:cNvSpPr/>
          <p:nvPr/>
        </p:nvSpPr>
        <p:spPr>
          <a:xfrm>
            <a:off x="1698480" y="52419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8" name=""/>
          <p:cNvSpPr/>
          <p:nvPr/>
        </p:nvSpPr>
        <p:spPr>
          <a:xfrm>
            <a:off x="1066680" y="56008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9" name=""/>
          <p:cNvSpPr/>
          <p:nvPr/>
        </p:nvSpPr>
        <p:spPr>
          <a:xfrm>
            <a:off x="1090440" y="55278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0" name=""/>
          <p:cNvSpPr/>
          <p:nvPr/>
        </p:nvSpPr>
        <p:spPr>
          <a:xfrm>
            <a:off x="1125360" y="5437080"/>
            <a:ext cx="3528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1" name=""/>
          <p:cNvSpPr/>
          <p:nvPr/>
        </p:nvSpPr>
        <p:spPr>
          <a:xfrm>
            <a:off x="1185840" y="53071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2" name=""/>
          <p:cNvSpPr/>
          <p:nvPr/>
        </p:nvSpPr>
        <p:spPr>
          <a:xfrm>
            <a:off x="1220760" y="54468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3" name=""/>
          <p:cNvSpPr/>
          <p:nvPr/>
        </p:nvSpPr>
        <p:spPr>
          <a:xfrm>
            <a:off x="1973160" y="47307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4" name=""/>
          <p:cNvSpPr/>
          <p:nvPr/>
        </p:nvSpPr>
        <p:spPr>
          <a:xfrm>
            <a:off x="1235160" y="560376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5" name=""/>
          <p:cNvSpPr/>
          <p:nvPr/>
        </p:nvSpPr>
        <p:spPr>
          <a:xfrm>
            <a:off x="1136520" y="56088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6" name=""/>
          <p:cNvSpPr/>
          <p:nvPr/>
        </p:nvSpPr>
        <p:spPr>
          <a:xfrm>
            <a:off x="1238400" y="53420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7" name=""/>
          <p:cNvSpPr/>
          <p:nvPr/>
        </p:nvSpPr>
        <p:spPr>
          <a:xfrm>
            <a:off x="1417680" y="53006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8" name=""/>
          <p:cNvSpPr/>
          <p:nvPr/>
        </p:nvSpPr>
        <p:spPr>
          <a:xfrm>
            <a:off x="1441440" y="560376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9" name=""/>
          <p:cNvSpPr/>
          <p:nvPr/>
        </p:nvSpPr>
        <p:spPr>
          <a:xfrm>
            <a:off x="1355760" y="5643720"/>
            <a:ext cx="3636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0" name=""/>
          <p:cNvSpPr/>
          <p:nvPr/>
        </p:nvSpPr>
        <p:spPr>
          <a:xfrm>
            <a:off x="1336680" y="55260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1" name=""/>
          <p:cNvSpPr/>
          <p:nvPr/>
        </p:nvSpPr>
        <p:spPr>
          <a:xfrm>
            <a:off x="1407960" y="553068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2" name=""/>
          <p:cNvSpPr/>
          <p:nvPr/>
        </p:nvSpPr>
        <p:spPr>
          <a:xfrm>
            <a:off x="1432080" y="54579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3" name=""/>
          <p:cNvSpPr/>
          <p:nvPr/>
        </p:nvSpPr>
        <p:spPr>
          <a:xfrm>
            <a:off x="1333440" y="54626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4" name=""/>
          <p:cNvSpPr/>
          <p:nvPr/>
        </p:nvSpPr>
        <p:spPr>
          <a:xfrm>
            <a:off x="1467000" y="53672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5" name=""/>
          <p:cNvSpPr/>
          <p:nvPr/>
        </p:nvSpPr>
        <p:spPr>
          <a:xfrm>
            <a:off x="1327320" y="53593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6" name=""/>
          <p:cNvSpPr/>
          <p:nvPr/>
        </p:nvSpPr>
        <p:spPr>
          <a:xfrm>
            <a:off x="1247760" y="51577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7" name=""/>
          <p:cNvSpPr/>
          <p:nvPr/>
        </p:nvSpPr>
        <p:spPr>
          <a:xfrm>
            <a:off x="2101680" y="48531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8" name=""/>
          <p:cNvSpPr/>
          <p:nvPr/>
        </p:nvSpPr>
        <p:spPr>
          <a:xfrm>
            <a:off x="1562040" y="53769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9" name=""/>
          <p:cNvSpPr/>
          <p:nvPr/>
        </p:nvSpPr>
        <p:spPr>
          <a:xfrm>
            <a:off x="1552680" y="56070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0" name=""/>
          <p:cNvSpPr/>
          <p:nvPr/>
        </p:nvSpPr>
        <p:spPr>
          <a:xfrm>
            <a:off x="1576440" y="55339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1" name=""/>
          <p:cNvSpPr/>
          <p:nvPr/>
        </p:nvSpPr>
        <p:spPr>
          <a:xfrm>
            <a:off x="1477800" y="55389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2" name=""/>
          <p:cNvSpPr/>
          <p:nvPr/>
        </p:nvSpPr>
        <p:spPr>
          <a:xfrm>
            <a:off x="1868400" y="532908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3" name=""/>
          <p:cNvSpPr/>
          <p:nvPr/>
        </p:nvSpPr>
        <p:spPr>
          <a:xfrm>
            <a:off x="1892160" y="56325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4" name=""/>
          <p:cNvSpPr/>
          <p:nvPr/>
        </p:nvSpPr>
        <p:spPr>
          <a:xfrm>
            <a:off x="1787400" y="55548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5" name=""/>
          <p:cNvSpPr/>
          <p:nvPr/>
        </p:nvSpPr>
        <p:spPr>
          <a:xfrm>
            <a:off x="1817640" y="57754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6" name=""/>
          <p:cNvSpPr/>
          <p:nvPr/>
        </p:nvSpPr>
        <p:spPr>
          <a:xfrm>
            <a:off x="1882800" y="54864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7" name=""/>
          <p:cNvSpPr/>
          <p:nvPr/>
        </p:nvSpPr>
        <p:spPr>
          <a:xfrm>
            <a:off x="1784520" y="54910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8" name=""/>
          <p:cNvSpPr/>
          <p:nvPr/>
        </p:nvSpPr>
        <p:spPr>
          <a:xfrm>
            <a:off x="1917720" y="53960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9" name=""/>
          <p:cNvSpPr/>
          <p:nvPr/>
        </p:nvSpPr>
        <p:spPr>
          <a:xfrm>
            <a:off x="1882800" y="50958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0" name=""/>
          <p:cNvSpPr/>
          <p:nvPr/>
        </p:nvSpPr>
        <p:spPr>
          <a:xfrm>
            <a:off x="1978200" y="52657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1" name=""/>
          <p:cNvSpPr/>
          <p:nvPr/>
        </p:nvSpPr>
        <p:spPr>
          <a:xfrm>
            <a:off x="2013120" y="54054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2" name=""/>
          <p:cNvSpPr/>
          <p:nvPr/>
        </p:nvSpPr>
        <p:spPr>
          <a:xfrm>
            <a:off x="2006640" y="58546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3" name=""/>
          <p:cNvSpPr/>
          <p:nvPr/>
        </p:nvSpPr>
        <p:spPr>
          <a:xfrm>
            <a:off x="2027160" y="55627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4" name=""/>
          <p:cNvSpPr/>
          <p:nvPr/>
        </p:nvSpPr>
        <p:spPr>
          <a:xfrm>
            <a:off x="1928880" y="55674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5" name=""/>
          <p:cNvSpPr/>
          <p:nvPr/>
        </p:nvSpPr>
        <p:spPr>
          <a:xfrm>
            <a:off x="1725480" y="46846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6" name=""/>
          <p:cNvSpPr/>
          <p:nvPr/>
        </p:nvSpPr>
        <p:spPr>
          <a:xfrm>
            <a:off x="2125800" y="54928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7" name=""/>
          <p:cNvSpPr/>
          <p:nvPr/>
        </p:nvSpPr>
        <p:spPr>
          <a:xfrm>
            <a:off x="2333520" y="51055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8" name=""/>
          <p:cNvSpPr/>
          <p:nvPr/>
        </p:nvSpPr>
        <p:spPr>
          <a:xfrm>
            <a:off x="2184480" y="58802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9" name=""/>
          <p:cNvSpPr/>
          <p:nvPr/>
        </p:nvSpPr>
        <p:spPr>
          <a:xfrm>
            <a:off x="2262240" y="53737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0" name=""/>
          <p:cNvSpPr/>
          <p:nvPr/>
        </p:nvSpPr>
        <p:spPr>
          <a:xfrm>
            <a:off x="2235240" y="54291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1" name=""/>
          <p:cNvSpPr/>
          <p:nvPr/>
        </p:nvSpPr>
        <p:spPr>
          <a:xfrm>
            <a:off x="2270160" y="556884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2" name=""/>
          <p:cNvSpPr/>
          <p:nvPr/>
        </p:nvSpPr>
        <p:spPr>
          <a:xfrm>
            <a:off x="2287440" y="54640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3" name=""/>
          <p:cNvSpPr/>
          <p:nvPr/>
        </p:nvSpPr>
        <p:spPr>
          <a:xfrm>
            <a:off x="1873080" y="45846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4" name=""/>
          <p:cNvSpPr/>
          <p:nvPr/>
        </p:nvSpPr>
        <p:spPr>
          <a:xfrm>
            <a:off x="1309680" y="45784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5" name=""/>
          <p:cNvSpPr/>
          <p:nvPr/>
        </p:nvSpPr>
        <p:spPr>
          <a:xfrm>
            <a:off x="625320" y="544500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6" name=""/>
          <p:cNvSpPr/>
          <p:nvPr/>
        </p:nvSpPr>
        <p:spPr>
          <a:xfrm>
            <a:off x="898560" y="59151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7" name=""/>
          <p:cNvSpPr/>
          <p:nvPr/>
        </p:nvSpPr>
        <p:spPr>
          <a:xfrm>
            <a:off x="2325600" y="37450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8" name=""/>
          <p:cNvSpPr/>
          <p:nvPr/>
        </p:nvSpPr>
        <p:spPr>
          <a:xfrm>
            <a:off x="581040" y="4106880"/>
            <a:ext cx="34920" cy="302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9" name=""/>
          <p:cNvSpPr/>
          <p:nvPr/>
        </p:nvSpPr>
        <p:spPr>
          <a:xfrm>
            <a:off x="884160" y="57895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0" name=""/>
          <p:cNvSpPr/>
          <p:nvPr/>
        </p:nvSpPr>
        <p:spPr>
          <a:xfrm>
            <a:off x="776160" y="61754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1" name=""/>
          <p:cNvSpPr/>
          <p:nvPr/>
        </p:nvSpPr>
        <p:spPr>
          <a:xfrm>
            <a:off x="687240" y="5757840"/>
            <a:ext cx="34920" cy="302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2" name=""/>
          <p:cNvSpPr/>
          <p:nvPr/>
        </p:nvSpPr>
        <p:spPr>
          <a:xfrm>
            <a:off x="633240" y="59626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3" name=""/>
          <p:cNvSpPr/>
          <p:nvPr/>
        </p:nvSpPr>
        <p:spPr>
          <a:xfrm>
            <a:off x="768240" y="566244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4" name=""/>
          <p:cNvSpPr/>
          <p:nvPr/>
        </p:nvSpPr>
        <p:spPr>
          <a:xfrm>
            <a:off x="1014480" y="570852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5" name=""/>
          <p:cNvSpPr/>
          <p:nvPr/>
        </p:nvSpPr>
        <p:spPr>
          <a:xfrm>
            <a:off x="1017720" y="58150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6" name=""/>
          <p:cNvSpPr/>
          <p:nvPr/>
        </p:nvSpPr>
        <p:spPr>
          <a:xfrm>
            <a:off x="2235240" y="572436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7" name=""/>
          <p:cNvSpPr/>
          <p:nvPr/>
        </p:nvSpPr>
        <p:spPr>
          <a:xfrm>
            <a:off x="1517760" y="59230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8" name=""/>
          <p:cNvSpPr/>
          <p:nvPr/>
        </p:nvSpPr>
        <p:spPr>
          <a:xfrm>
            <a:off x="2090880" y="57214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9" name=""/>
          <p:cNvSpPr/>
          <p:nvPr/>
        </p:nvSpPr>
        <p:spPr>
          <a:xfrm>
            <a:off x="2124000" y="58960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0" name=""/>
          <p:cNvSpPr/>
          <p:nvPr/>
        </p:nvSpPr>
        <p:spPr>
          <a:xfrm>
            <a:off x="2255760" y="602280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1" name=""/>
          <p:cNvSpPr/>
          <p:nvPr/>
        </p:nvSpPr>
        <p:spPr>
          <a:xfrm>
            <a:off x="2494080" y="59612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2" name=""/>
          <p:cNvSpPr/>
          <p:nvPr/>
        </p:nvSpPr>
        <p:spPr>
          <a:xfrm>
            <a:off x="1130400" y="57880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3" name=""/>
          <p:cNvSpPr/>
          <p:nvPr/>
        </p:nvSpPr>
        <p:spPr>
          <a:xfrm>
            <a:off x="1141560" y="61452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4" name=""/>
          <p:cNvSpPr/>
          <p:nvPr/>
        </p:nvSpPr>
        <p:spPr>
          <a:xfrm>
            <a:off x="1225440" y="57196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5" name=""/>
          <p:cNvSpPr/>
          <p:nvPr/>
        </p:nvSpPr>
        <p:spPr>
          <a:xfrm>
            <a:off x="1127160" y="572436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6" name=""/>
          <p:cNvSpPr/>
          <p:nvPr/>
        </p:nvSpPr>
        <p:spPr>
          <a:xfrm>
            <a:off x="1370160" y="57960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7" name=""/>
          <p:cNvSpPr/>
          <p:nvPr/>
        </p:nvSpPr>
        <p:spPr>
          <a:xfrm>
            <a:off x="1173240" y="61945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8" name=""/>
          <p:cNvSpPr/>
          <p:nvPr/>
        </p:nvSpPr>
        <p:spPr>
          <a:xfrm>
            <a:off x="1468440" y="57261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9" name=""/>
          <p:cNvSpPr/>
          <p:nvPr/>
        </p:nvSpPr>
        <p:spPr>
          <a:xfrm>
            <a:off x="1517760" y="57927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0" name=""/>
          <p:cNvSpPr/>
          <p:nvPr/>
        </p:nvSpPr>
        <p:spPr>
          <a:xfrm>
            <a:off x="1577880" y="566244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1" name=""/>
          <p:cNvSpPr/>
          <p:nvPr/>
        </p:nvSpPr>
        <p:spPr>
          <a:xfrm>
            <a:off x="1622520" y="61070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2" name=""/>
          <p:cNvSpPr/>
          <p:nvPr/>
        </p:nvSpPr>
        <p:spPr>
          <a:xfrm>
            <a:off x="1630440" y="569736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3" name=""/>
          <p:cNvSpPr/>
          <p:nvPr/>
        </p:nvSpPr>
        <p:spPr>
          <a:xfrm>
            <a:off x="1317600" y="58500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4" name=""/>
          <p:cNvSpPr/>
          <p:nvPr/>
        </p:nvSpPr>
        <p:spPr>
          <a:xfrm>
            <a:off x="1716120" y="61056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5" name=""/>
          <p:cNvSpPr/>
          <p:nvPr/>
        </p:nvSpPr>
        <p:spPr>
          <a:xfrm>
            <a:off x="1725480" y="58183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6" name=""/>
          <p:cNvSpPr/>
          <p:nvPr/>
        </p:nvSpPr>
        <p:spPr>
          <a:xfrm>
            <a:off x="1859040" y="57229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7" name=""/>
          <p:cNvSpPr/>
          <p:nvPr/>
        </p:nvSpPr>
        <p:spPr>
          <a:xfrm>
            <a:off x="1954080" y="57326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8" name=""/>
          <p:cNvSpPr/>
          <p:nvPr/>
        </p:nvSpPr>
        <p:spPr>
          <a:xfrm>
            <a:off x="2414520" y="57801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9" name=""/>
          <p:cNvSpPr/>
          <p:nvPr/>
        </p:nvSpPr>
        <p:spPr>
          <a:xfrm>
            <a:off x="2600280" y="61167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0" name=""/>
          <p:cNvSpPr/>
          <p:nvPr/>
        </p:nvSpPr>
        <p:spPr>
          <a:xfrm>
            <a:off x="3475080" y="59072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1" name=""/>
          <p:cNvSpPr/>
          <p:nvPr/>
        </p:nvSpPr>
        <p:spPr>
          <a:xfrm>
            <a:off x="3514680" y="57196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2" name=""/>
          <p:cNvSpPr/>
          <p:nvPr/>
        </p:nvSpPr>
        <p:spPr>
          <a:xfrm>
            <a:off x="3560760" y="58006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3" name=""/>
          <p:cNvSpPr/>
          <p:nvPr/>
        </p:nvSpPr>
        <p:spPr>
          <a:xfrm>
            <a:off x="2629080" y="59468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4" name=""/>
          <p:cNvSpPr/>
          <p:nvPr/>
        </p:nvSpPr>
        <p:spPr>
          <a:xfrm>
            <a:off x="2527200" y="57960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5" name=""/>
          <p:cNvSpPr/>
          <p:nvPr/>
        </p:nvSpPr>
        <p:spPr>
          <a:xfrm>
            <a:off x="2660760" y="570060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6" name=""/>
          <p:cNvSpPr/>
          <p:nvPr/>
        </p:nvSpPr>
        <p:spPr>
          <a:xfrm>
            <a:off x="2755800" y="57103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7" name=""/>
          <p:cNvSpPr/>
          <p:nvPr/>
        </p:nvSpPr>
        <p:spPr>
          <a:xfrm>
            <a:off x="2833560" y="56577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8" name=""/>
          <p:cNvSpPr/>
          <p:nvPr/>
        </p:nvSpPr>
        <p:spPr>
          <a:xfrm>
            <a:off x="2868480" y="579744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9" name=""/>
          <p:cNvSpPr/>
          <p:nvPr/>
        </p:nvSpPr>
        <p:spPr>
          <a:xfrm>
            <a:off x="3005280" y="56786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0" name=""/>
          <p:cNvSpPr/>
          <p:nvPr/>
        </p:nvSpPr>
        <p:spPr>
          <a:xfrm>
            <a:off x="2994120" y="59436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1" name=""/>
          <p:cNvSpPr/>
          <p:nvPr/>
        </p:nvSpPr>
        <p:spPr>
          <a:xfrm>
            <a:off x="3049560" y="607680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2" name=""/>
          <p:cNvSpPr/>
          <p:nvPr/>
        </p:nvSpPr>
        <p:spPr>
          <a:xfrm>
            <a:off x="3193920" y="598788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3" name=""/>
          <p:cNvSpPr/>
          <p:nvPr/>
        </p:nvSpPr>
        <p:spPr>
          <a:xfrm>
            <a:off x="3236760" y="61977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4" name=""/>
          <p:cNvSpPr/>
          <p:nvPr/>
        </p:nvSpPr>
        <p:spPr>
          <a:xfrm>
            <a:off x="3108240" y="56912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5" name=""/>
          <p:cNvSpPr/>
          <p:nvPr/>
        </p:nvSpPr>
        <p:spPr>
          <a:xfrm>
            <a:off x="3319560" y="56642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6" name=""/>
          <p:cNvSpPr/>
          <p:nvPr/>
        </p:nvSpPr>
        <p:spPr>
          <a:xfrm>
            <a:off x="3354480" y="58039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7" name=""/>
          <p:cNvSpPr/>
          <p:nvPr/>
        </p:nvSpPr>
        <p:spPr>
          <a:xfrm>
            <a:off x="4179960" y="57340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8" name=""/>
          <p:cNvSpPr/>
          <p:nvPr/>
        </p:nvSpPr>
        <p:spPr>
          <a:xfrm>
            <a:off x="3660840" y="57564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9" name=""/>
          <p:cNvSpPr/>
          <p:nvPr/>
        </p:nvSpPr>
        <p:spPr>
          <a:xfrm>
            <a:off x="3710160" y="58230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0" name=""/>
          <p:cNvSpPr/>
          <p:nvPr/>
        </p:nvSpPr>
        <p:spPr>
          <a:xfrm>
            <a:off x="3678120" y="56516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1" name=""/>
          <p:cNvSpPr/>
          <p:nvPr/>
        </p:nvSpPr>
        <p:spPr>
          <a:xfrm>
            <a:off x="3770280" y="56926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2" name=""/>
          <p:cNvSpPr/>
          <p:nvPr/>
        </p:nvSpPr>
        <p:spPr>
          <a:xfrm>
            <a:off x="3800520" y="60102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3" name=""/>
          <p:cNvSpPr/>
          <p:nvPr/>
        </p:nvSpPr>
        <p:spPr>
          <a:xfrm>
            <a:off x="3882960" y="57801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4" name=""/>
          <p:cNvSpPr/>
          <p:nvPr/>
        </p:nvSpPr>
        <p:spPr>
          <a:xfrm>
            <a:off x="3944880" y="56721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5" name=""/>
          <p:cNvSpPr/>
          <p:nvPr/>
        </p:nvSpPr>
        <p:spPr>
          <a:xfrm>
            <a:off x="3932280" y="607680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6" name=""/>
          <p:cNvSpPr/>
          <p:nvPr/>
        </p:nvSpPr>
        <p:spPr>
          <a:xfrm>
            <a:off x="3967200" y="59864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7" name=""/>
          <p:cNvSpPr/>
          <p:nvPr/>
        </p:nvSpPr>
        <p:spPr>
          <a:xfrm>
            <a:off x="4054320" y="58006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8" name=""/>
          <p:cNvSpPr/>
          <p:nvPr/>
        </p:nvSpPr>
        <p:spPr>
          <a:xfrm>
            <a:off x="3846600" y="58658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9" name=""/>
          <p:cNvSpPr/>
          <p:nvPr/>
        </p:nvSpPr>
        <p:spPr>
          <a:xfrm>
            <a:off x="4062240" y="59961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0" name=""/>
          <p:cNvSpPr/>
          <p:nvPr/>
        </p:nvSpPr>
        <p:spPr>
          <a:xfrm>
            <a:off x="4089240" y="57484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1" name=""/>
          <p:cNvSpPr/>
          <p:nvPr/>
        </p:nvSpPr>
        <p:spPr>
          <a:xfrm>
            <a:off x="4092480" y="566244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2" name=""/>
          <p:cNvSpPr/>
          <p:nvPr/>
        </p:nvSpPr>
        <p:spPr>
          <a:xfrm>
            <a:off x="3990960" y="57466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3" name=""/>
          <p:cNvSpPr/>
          <p:nvPr/>
        </p:nvSpPr>
        <p:spPr>
          <a:xfrm>
            <a:off x="4079880" y="589104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4" name=""/>
          <p:cNvSpPr/>
          <p:nvPr/>
        </p:nvSpPr>
        <p:spPr>
          <a:xfrm>
            <a:off x="4259160" y="58500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5" name=""/>
          <p:cNvSpPr/>
          <p:nvPr/>
        </p:nvSpPr>
        <p:spPr>
          <a:xfrm>
            <a:off x="4178160" y="60753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6" name=""/>
          <p:cNvSpPr/>
          <p:nvPr/>
        </p:nvSpPr>
        <p:spPr>
          <a:xfrm>
            <a:off x="4249800" y="60800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7" name=""/>
          <p:cNvSpPr/>
          <p:nvPr/>
        </p:nvSpPr>
        <p:spPr>
          <a:xfrm>
            <a:off x="4273560" y="600696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8" name=""/>
          <p:cNvSpPr/>
          <p:nvPr/>
        </p:nvSpPr>
        <p:spPr>
          <a:xfrm>
            <a:off x="3743280" y="59515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9" name=""/>
          <p:cNvSpPr/>
          <p:nvPr/>
        </p:nvSpPr>
        <p:spPr>
          <a:xfrm>
            <a:off x="4157640" y="581328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0" name=""/>
          <p:cNvSpPr/>
          <p:nvPr/>
        </p:nvSpPr>
        <p:spPr>
          <a:xfrm>
            <a:off x="4276800" y="57452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1" name=""/>
          <p:cNvSpPr/>
          <p:nvPr/>
        </p:nvSpPr>
        <p:spPr>
          <a:xfrm>
            <a:off x="2344680" y="630540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2" name=""/>
          <p:cNvSpPr/>
          <p:nvPr/>
        </p:nvSpPr>
        <p:spPr>
          <a:xfrm>
            <a:off x="2335320" y="64483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3" name=""/>
          <p:cNvSpPr/>
          <p:nvPr/>
        </p:nvSpPr>
        <p:spPr>
          <a:xfrm>
            <a:off x="3403440" y="63356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4" name=""/>
          <p:cNvSpPr/>
          <p:nvPr/>
        </p:nvSpPr>
        <p:spPr>
          <a:xfrm>
            <a:off x="3497400" y="61596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5" name=""/>
          <p:cNvSpPr/>
          <p:nvPr/>
        </p:nvSpPr>
        <p:spPr>
          <a:xfrm>
            <a:off x="3341520" y="6678720"/>
            <a:ext cx="367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6" name=""/>
          <p:cNvSpPr/>
          <p:nvPr/>
        </p:nvSpPr>
        <p:spPr>
          <a:xfrm>
            <a:off x="3348000" y="61610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7" name=""/>
          <p:cNvSpPr/>
          <p:nvPr/>
        </p:nvSpPr>
        <p:spPr>
          <a:xfrm>
            <a:off x="3394080" y="65660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8" name=""/>
          <p:cNvSpPr/>
          <p:nvPr/>
        </p:nvSpPr>
        <p:spPr>
          <a:xfrm>
            <a:off x="3351240" y="64501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9" name=""/>
          <p:cNvSpPr/>
          <p:nvPr/>
        </p:nvSpPr>
        <p:spPr>
          <a:xfrm>
            <a:off x="3033720" y="63849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0" name=""/>
          <p:cNvSpPr/>
          <p:nvPr/>
        </p:nvSpPr>
        <p:spPr>
          <a:xfrm>
            <a:off x="3463920" y="65739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1" name=""/>
          <p:cNvSpPr/>
          <p:nvPr/>
        </p:nvSpPr>
        <p:spPr>
          <a:xfrm>
            <a:off x="2378160" y="62136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2" name=""/>
          <p:cNvSpPr/>
          <p:nvPr/>
        </p:nvSpPr>
        <p:spPr>
          <a:xfrm>
            <a:off x="2538360" y="67104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3" name=""/>
          <p:cNvSpPr/>
          <p:nvPr/>
        </p:nvSpPr>
        <p:spPr>
          <a:xfrm>
            <a:off x="2433600" y="66326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4" name=""/>
          <p:cNvSpPr/>
          <p:nvPr/>
        </p:nvSpPr>
        <p:spPr>
          <a:xfrm>
            <a:off x="2505240" y="66373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5" name=""/>
          <p:cNvSpPr/>
          <p:nvPr/>
        </p:nvSpPr>
        <p:spPr>
          <a:xfrm>
            <a:off x="2529000" y="65642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6" name=""/>
          <p:cNvSpPr/>
          <p:nvPr/>
        </p:nvSpPr>
        <p:spPr>
          <a:xfrm>
            <a:off x="2376360" y="58896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7" name=""/>
          <p:cNvSpPr/>
          <p:nvPr/>
        </p:nvSpPr>
        <p:spPr>
          <a:xfrm>
            <a:off x="2360520" y="60134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8" name=""/>
          <p:cNvSpPr/>
          <p:nvPr/>
        </p:nvSpPr>
        <p:spPr>
          <a:xfrm>
            <a:off x="2413080" y="63705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9" name=""/>
          <p:cNvSpPr/>
          <p:nvPr/>
        </p:nvSpPr>
        <p:spPr>
          <a:xfrm>
            <a:off x="2532240" y="63025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0" name=""/>
          <p:cNvSpPr/>
          <p:nvPr/>
        </p:nvSpPr>
        <p:spPr>
          <a:xfrm>
            <a:off x="2624040" y="63435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1" name=""/>
          <p:cNvSpPr/>
          <p:nvPr/>
        </p:nvSpPr>
        <p:spPr>
          <a:xfrm>
            <a:off x="2658960" y="648324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2" name=""/>
          <p:cNvSpPr/>
          <p:nvPr/>
        </p:nvSpPr>
        <p:spPr>
          <a:xfrm>
            <a:off x="2649600" y="67136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3" name=""/>
          <p:cNvSpPr/>
          <p:nvPr/>
        </p:nvSpPr>
        <p:spPr>
          <a:xfrm>
            <a:off x="2673360" y="66405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4" name=""/>
          <p:cNvSpPr/>
          <p:nvPr/>
        </p:nvSpPr>
        <p:spPr>
          <a:xfrm>
            <a:off x="2575080" y="66452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5" name=""/>
          <p:cNvSpPr/>
          <p:nvPr/>
        </p:nvSpPr>
        <p:spPr>
          <a:xfrm>
            <a:off x="2698920" y="63216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6" name=""/>
          <p:cNvSpPr/>
          <p:nvPr/>
        </p:nvSpPr>
        <p:spPr>
          <a:xfrm>
            <a:off x="2736720" y="64310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7" name=""/>
          <p:cNvSpPr/>
          <p:nvPr/>
        </p:nvSpPr>
        <p:spPr>
          <a:xfrm>
            <a:off x="2771640" y="65707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8" name=""/>
          <p:cNvSpPr/>
          <p:nvPr/>
        </p:nvSpPr>
        <p:spPr>
          <a:xfrm>
            <a:off x="2798640" y="63230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9" name=""/>
          <p:cNvSpPr/>
          <p:nvPr/>
        </p:nvSpPr>
        <p:spPr>
          <a:xfrm>
            <a:off x="2786040" y="672768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0" name=""/>
          <p:cNvSpPr/>
          <p:nvPr/>
        </p:nvSpPr>
        <p:spPr>
          <a:xfrm>
            <a:off x="2820960" y="66373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1" name=""/>
          <p:cNvSpPr/>
          <p:nvPr/>
        </p:nvSpPr>
        <p:spPr>
          <a:xfrm>
            <a:off x="2857680" y="61088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2" name=""/>
          <p:cNvSpPr/>
          <p:nvPr/>
        </p:nvSpPr>
        <p:spPr>
          <a:xfrm>
            <a:off x="2881440" y="650700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3" name=""/>
          <p:cNvSpPr/>
          <p:nvPr/>
        </p:nvSpPr>
        <p:spPr>
          <a:xfrm>
            <a:off x="2916360" y="66470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4" name=""/>
          <p:cNvSpPr/>
          <p:nvPr/>
        </p:nvSpPr>
        <p:spPr>
          <a:xfrm>
            <a:off x="2911320" y="62056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5" name=""/>
          <p:cNvSpPr/>
          <p:nvPr/>
        </p:nvSpPr>
        <p:spPr>
          <a:xfrm>
            <a:off x="2930400" y="59864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6" name=""/>
          <p:cNvSpPr/>
          <p:nvPr/>
        </p:nvSpPr>
        <p:spPr>
          <a:xfrm>
            <a:off x="2844720" y="63975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7" name=""/>
          <p:cNvSpPr/>
          <p:nvPr/>
        </p:nvSpPr>
        <p:spPr>
          <a:xfrm>
            <a:off x="2952720" y="63612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8" name=""/>
          <p:cNvSpPr/>
          <p:nvPr/>
        </p:nvSpPr>
        <p:spPr>
          <a:xfrm>
            <a:off x="3112920" y="65008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9" name=""/>
          <p:cNvSpPr/>
          <p:nvPr/>
        </p:nvSpPr>
        <p:spPr>
          <a:xfrm>
            <a:off x="3032280" y="67262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0" name=""/>
          <p:cNvSpPr/>
          <p:nvPr/>
        </p:nvSpPr>
        <p:spPr>
          <a:xfrm>
            <a:off x="3103560" y="67309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1" name=""/>
          <p:cNvSpPr/>
          <p:nvPr/>
        </p:nvSpPr>
        <p:spPr>
          <a:xfrm>
            <a:off x="3127320" y="665784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2" name=""/>
          <p:cNvSpPr/>
          <p:nvPr/>
        </p:nvSpPr>
        <p:spPr>
          <a:xfrm>
            <a:off x="3029040" y="66628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3" name=""/>
          <p:cNvSpPr/>
          <p:nvPr/>
        </p:nvSpPr>
        <p:spPr>
          <a:xfrm>
            <a:off x="3162240" y="65674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4" name=""/>
          <p:cNvSpPr/>
          <p:nvPr/>
        </p:nvSpPr>
        <p:spPr>
          <a:xfrm>
            <a:off x="3025800" y="62722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5" name=""/>
          <p:cNvSpPr/>
          <p:nvPr/>
        </p:nvSpPr>
        <p:spPr>
          <a:xfrm>
            <a:off x="3222720" y="643716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6" name=""/>
          <p:cNvSpPr/>
          <p:nvPr/>
        </p:nvSpPr>
        <p:spPr>
          <a:xfrm>
            <a:off x="3257640" y="657684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7" name=""/>
          <p:cNvSpPr/>
          <p:nvPr/>
        </p:nvSpPr>
        <p:spPr>
          <a:xfrm>
            <a:off x="3186000" y="63277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8" name=""/>
          <p:cNvSpPr/>
          <p:nvPr/>
        </p:nvSpPr>
        <p:spPr>
          <a:xfrm>
            <a:off x="3271680" y="67341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9" name=""/>
          <p:cNvSpPr/>
          <p:nvPr/>
        </p:nvSpPr>
        <p:spPr>
          <a:xfrm>
            <a:off x="3443400" y="60660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0" name=""/>
          <p:cNvSpPr/>
          <p:nvPr/>
        </p:nvSpPr>
        <p:spPr>
          <a:xfrm>
            <a:off x="3328920" y="63723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1" name=""/>
          <p:cNvSpPr/>
          <p:nvPr/>
        </p:nvSpPr>
        <p:spPr>
          <a:xfrm>
            <a:off x="4083120" y="650700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2" name=""/>
          <p:cNvSpPr/>
          <p:nvPr/>
        </p:nvSpPr>
        <p:spPr>
          <a:xfrm>
            <a:off x="3529080" y="63896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3" name=""/>
          <p:cNvSpPr/>
          <p:nvPr/>
        </p:nvSpPr>
        <p:spPr>
          <a:xfrm>
            <a:off x="3564000" y="65293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4" name=""/>
          <p:cNvSpPr/>
          <p:nvPr/>
        </p:nvSpPr>
        <p:spPr>
          <a:xfrm>
            <a:off x="3578400" y="66866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5" name=""/>
          <p:cNvSpPr/>
          <p:nvPr/>
        </p:nvSpPr>
        <p:spPr>
          <a:xfrm>
            <a:off x="3479760" y="66913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6" name=""/>
          <p:cNvSpPr/>
          <p:nvPr/>
        </p:nvSpPr>
        <p:spPr>
          <a:xfrm>
            <a:off x="3613320" y="659592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7" name=""/>
          <p:cNvSpPr/>
          <p:nvPr/>
        </p:nvSpPr>
        <p:spPr>
          <a:xfrm>
            <a:off x="3263760" y="60040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8" name=""/>
          <p:cNvSpPr/>
          <p:nvPr/>
        </p:nvSpPr>
        <p:spPr>
          <a:xfrm>
            <a:off x="3517920" y="59770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9" name=""/>
          <p:cNvSpPr/>
          <p:nvPr/>
        </p:nvSpPr>
        <p:spPr>
          <a:xfrm>
            <a:off x="3673440" y="64659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0" name=""/>
          <p:cNvSpPr/>
          <p:nvPr/>
        </p:nvSpPr>
        <p:spPr>
          <a:xfrm>
            <a:off x="3708360" y="66056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1" name=""/>
          <p:cNvSpPr/>
          <p:nvPr/>
        </p:nvSpPr>
        <p:spPr>
          <a:xfrm>
            <a:off x="3532320" y="62881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2" name=""/>
          <p:cNvSpPr/>
          <p:nvPr/>
        </p:nvSpPr>
        <p:spPr>
          <a:xfrm>
            <a:off x="3633840" y="59770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3" name=""/>
          <p:cNvSpPr/>
          <p:nvPr/>
        </p:nvSpPr>
        <p:spPr>
          <a:xfrm>
            <a:off x="3786120" y="655308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4" name=""/>
          <p:cNvSpPr/>
          <p:nvPr/>
        </p:nvSpPr>
        <p:spPr>
          <a:xfrm>
            <a:off x="3821040" y="669276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5" name=""/>
          <p:cNvSpPr/>
          <p:nvPr/>
        </p:nvSpPr>
        <p:spPr>
          <a:xfrm>
            <a:off x="3848040" y="644508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6" name=""/>
          <p:cNvSpPr/>
          <p:nvPr/>
        </p:nvSpPr>
        <p:spPr>
          <a:xfrm>
            <a:off x="3851280" y="635940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7" name=""/>
          <p:cNvSpPr/>
          <p:nvPr/>
        </p:nvSpPr>
        <p:spPr>
          <a:xfrm>
            <a:off x="3767040" y="63183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8" name=""/>
          <p:cNvSpPr/>
          <p:nvPr/>
        </p:nvSpPr>
        <p:spPr>
          <a:xfrm>
            <a:off x="3957480" y="65739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9" name=""/>
          <p:cNvSpPr/>
          <p:nvPr/>
        </p:nvSpPr>
        <p:spPr>
          <a:xfrm>
            <a:off x="3930480" y="66294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0" name=""/>
          <p:cNvSpPr/>
          <p:nvPr/>
        </p:nvSpPr>
        <p:spPr>
          <a:xfrm>
            <a:off x="3992400" y="65214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1" name=""/>
          <p:cNvSpPr/>
          <p:nvPr/>
        </p:nvSpPr>
        <p:spPr>
          <a:xfrm>
            <a:off x="3792600" y="614664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2" name=""/>
          <p:cNvSpPr/>
          <p:nvPr/>
        </p:nvSpPr>
        <p:spPr>
          <a:xfrm>
            <a:off x="3713040" y="61261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3" name=""/>
          <p:cNvSpPr/>
          <p:nvPr/>
        </p:nvSpPr>
        <p:spPr>
          <a:xfrm>
            <a:off x="3983040" y="66643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4" name=""/>
          <p:cNvSpPr/>
          <p:nvPr/>
        </p:nvSpPr>
        <p:spPr>
          <a:xfrm>
            <a:off x="3954600" y="640224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5" name=""/>
          <p:cNvSpPr/>
          <p:nvPr/>
        </p:nvSpPr>
        <p:spPr>
          <a:xfrm>
            <a:off x="4162320" y="662292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6" name=""/>
          <p:cNvSpPr/>
          <p:nvPr/>
        </p:nvSpPr>
        <p:spPr>
          <a:xfrm>
            <a:off x="4189320" y="637524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7" name=""/>
          <p:cNvSpPr/>
          <p:nvPr/>
        </p:nvSpPr>
        <p:spPr>
          <a:xfrm>
            <a:off x="4091040" y="63738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8" name=""/>
          <p:cNvSpPr/>
          <p:nvPr/>
        </p:nvSpPr>
        <p:spPr>
          <a:xfrm>
            <a:off x="4211640" y="66898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9" name=""/>
          <p:cNvSpPr/>
          <p:nvPr/>
        </p:nvSpPr>
        <p:spPr>
          <a:xfrm>
            <a:off x="4060800" y="65865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0" name=""/>
          <p:cNvSpPr/>
          <p:nvPr/>
        </p:nvSpPr>
        <p:spPr>
          <a:xfrm>
            <a:off x="4179960" y="651816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1" name=""/>
          <p:cNvSpPr/>
          <p:nvPr/>
        </p:nvSpPr>
        <p:spPr>
          <a:xfrm>
            <a:off x="4272120" y="65595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2" name=""/>
          <p:cNvSpPr/>
          <p:nvPr/>
        </p:nvSpPr>
        <p:spPr>
          <a:xfrm>
            <a:off x="4253040" y="632448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3" name=""/>
          <p:cNvSpPr/>
          <p:nvPr/>
        </p:nvSpPr>
        <p:spPr>
          <a:xfrm>
            <a:off x="4235400" y="64501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4" name=""/>
          <p:cNvSpPr/>
          <p:nvPr/>
        </p:nvSpPr>
        <p:spPr>
          <a:xfrm>
            <a:off x="3354480" y="598788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5" name=""/>
          <p:cNvSpPr/>
          <p:nvPr/>
        </p:nvSpPr>
        <p:spPr>
          <a:xfrm>
            <a:off x="3660840" y="63025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6" name=""/>
          <p:cNvSpPr/>
          <p:nvPr/>
        </p:nvSpPr>
        <p:spPr>
          <a:xfrm>
            <a:off x="4046400" y="61326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7" name=""/>
          <p:cNvSpPr/>
          <p:nvPr/>
        </p:nvSpPr>
        <p:spPr>
          <a:xfrm>
            <a:off x="3873600" y="62247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8" name=""/>
          <p:cNvSpPr/>
          <p:nvPr/>
        </p:nvSpPr>
        <p:spPr>
          <a:xfrm>
            <a:off x="4105440" y="61484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9" name=""/>
          <p:cNvSpPr/>
          <p:nvPr/>
        </p:nvSpPr>
        <p:spPr>
          <a:xfrm>
            <a:off x="4003560" y="62326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0" name=""/>
          <p:cNvSpPr/>
          <p:nvPr/>
        </p:nvSpPr>
        <p:spPr>
          <a:xfrm>
            <a:off x="4246560" y="63104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1" name=""/>
          <p:cNvSpPr/>
          <p:nvPr/>
        </p:nvSpPr>
        <p:spPr>
          <a:xfrm>
            <a:off x="4249800" y="62247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2" name=""/>
          <p:cNvSpPr/>
          <p:nvPr/>
        </p:nvSpPr>
        <p:spPr>
          <a:xfrm>
            <a:off x="4165560" y="61833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3" name=""/>
          <p:cNvSpPr/>
          <p:nvPr/>
        </p:nvSpPr>
        <p:spPr>
          <a:xfrm>
            <a:off x="4148280" y="63086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4" name=""/>
          <p:cNvSpPr/>
          <p:nvPr/>
        </p:nvSpPr>
        <p:spPr>
          <a:xfrm>
            <a:off x="779400" y="64119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5" name=""/>
          <p:cNvSpPr/>
          <p:nvPr/>
        </p:nvSpPr>
        <p:spPr>
          <a:xfrm>
            <a:off x="696960" y="608472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6" name=""/>
          <p:cNvSpPr/>
          <p:nvPr/>
        </p:nvSpPr>
        <p:spPr>
          <a:xfrm>
            <a:off x="841320" y="63039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7" name=""/>
          <p:cNvSpPr/>
          <p:nvPr/>
        </p:nvSpPr>
        <p:spPr>
          <a:xfrm>
            <a:off x="673200" y="64231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8" name=""/>
          <p:cNvSpPr/>
          <p:nvPr/>
        </p:nvSpPr>
        <p:spPr>
          <a:xfrm>
            <a:off x="743040" y="63025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9" name=""/>
          <p:cNvSpPr/>
          <p:nvPr/>
        </p:nvSpPr>
        <p:spPr>
          <a:xfrm>
            <a:off x="828720" y="670860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0" name=""/>
          <p:cNvSpPr/>
          <p:nvPr/>
        </p:nvSpPr>
        <p:spPr>
          <a:xfrm>
            <a:off x="730080" y="67136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1" name=""/>
          <p:cNvSpPr/>
          <p:nvPr/>
        </p:nvSpPr>
        <p:spPr>
          <a:xfrm>
            <a:off x="762120" y="59324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2" name=""/>
          <p:cNvSpPr/>
          <p:nvPr/>
        </p:nvSpPr>
        <p:spPr>
          <a:xfrm>
            <a:off x="712800" y="65818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3" name=""/>
          <p:cNvSpPr/>
          <p:nvPr/>
        </p:nvSpPr>
        <p:spPr>
          <a:xfrm>
            <a:off x="831960" y="64468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4" name=""/>
          <p:cNvSpPr/>
          <p:nvPr/>
        </p:nvSpPr>
        <p:spPr>
          <a:xfrm>
            <a:off x="955800" y="61419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5" name=""/>
          <p:cNvSpPr/>
          <p:nvPr/>
        </p:nvSpPr>
        <p:spPr>
          <a:xfrm>
            <a:off x="958680" y="66279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6" name=""/>
          <p:cNvSpPr/>
          <p:nvPr/>
        </p:nvSpPr>
        <p:spPr>
          <a:xfrm>
            <a:off x="985680" y="63802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7" name=""/>
          <p:cNvSpPr/>
          <p:nvPr/>
        </p:nvSpPr>
        <p:spPr>
          <a:xfrm>
            <a:off x="887400" y="63784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8" name=""/>
          <p:cNvSpPr/>
          <p:nvPr/>
        </p:nvSpPr>
        <p:spPr>
          <a:xfrm>
            <a:off x="961920" y="67341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9" name=""/>
          <p:cNvSpPr/>
          <p:nvPr/>
        </p:nvSpPr>
        <p:spPr>
          <a:xfrm>
            <a:off x="976320" y="65232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0" name=""/>
          <p:cNvSpPr/>
          <p:nvPr/>
        </p:nvSpPr>
        <p:spPr>
          <a:xfrm>
            <a:off x="2041560" y="61149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1" name=""/>
          <p:cNvSpPr/>
          <p:nvPr/>
        </p:nvSpPr>
        <p:spPr>
          <a:xfrm>
            <a:off x="2068560" y="67136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2" name=""/>
          <p:cNvSpPr/>
          <p:nvPr/>
        </p:nvSpPr>
        <p:spPr>
          <a:xfrm>
            <a:off x="1963800" y="66358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3" name=""/>
          <p:cNvSpPr/>
          <p:nvPr/>
        </p:nvSpPr>
        <p:spPr>
          <a:xfrm>
            <a:off x="1587600" y="62578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4" name=""/>
          <p:cNvSpPr/>
          <p:nvPr/>
        </p:nvSpPr>
        <p:spPr>
          <a:xfrm>
            <a:off x="2058840" y="65674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5" name=""/>
          <p:cNvSpPr/>
          <p:nvPr/>
        </p:nvSpPr>
        <p:spPr>
          <a:xfrm>
            <a:off x="1992240" y="65246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6" name=""/>
          <p:cNvSpPr/>
          <p:nvPr/>
        </p:nvSpPr>
        <p:spPr>
          <a:xfrm>
            <a:off x="1941480" y="63975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7" name=""/>
          <p:cNvSpPr/>
          <p:nvPr/>
        </p:nvSpPr>
        <p:spPr>
          <a:xfrm>
            <a:off x="2058840" y="60102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8" name=""/>
          <p:cNvSpPr/>
          <p:nvPr/>
        </p:nvSpPr>
        <p:spPr>
          <a:xfrm>
            <a:off x="2154240" y="63468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9" name=""/>
          <p:cNvSpPr/>
          <p:nvPr/>
        </p:nvSpPr>
        <p:spPr>
          <a:xfrm>
            <a:off x="2189160" y="64864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0" name=""/>
          <p:cNvSpPr/>
          <p:nvPr/>
        </p:nvSpPr>
        <p:spPr>
          <a:xfrm>
            <a:off x="1865160" y="59389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1" name=""/>
          <p:cNvSpPr/>
          <p:nvPr/>
        </p:nvSpPr>
        <p:spPr>
          <a:xfrm>
            <a:off x="2179800" y="67168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2" name=""/>
          <p:cNvSpPr/>
          <p:nvPr/>
        </p:nvSpPr>
        <p:spPr>
          <a:xfrm>
            <a:off x="2203560" y="60786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3" name=""/>
          <p:cNvSpPr/>
          <p:nvPr/>
        </p:nvSpPr>
        <p:spPr>
          <a:xfrm>
            <a:off x="2104920" y="66484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4" name=""/>
          <p:cNvSpPr/>
          <p:nvPr/>
        </p:nvSpPr>
        <p:spPr>
          <a:xfrm>
            <a:off x="2206800" y="63817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5" name=""/>
          <p:cNvSpPr/>
          <p:nvPr/>
        </p:nvSpPr>
        <p:spPr>
          <a:xfrm>
            <a:off x="1120680" y="63421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6" name=""/>
          <p:cNvSpPr/>
          <p:nvPr/>
        </p:nvSpPr>
        <p:spPr>
          <a:xfrm>
            <a:off x="1155600" y="64818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7" name=""/>
          <p:cNvSpPr/>
          <p:nvPr/>
        </p:nvSpPr>
        <p:spPr>
          <a:xfrm>
            <a:off x="1074600" y="67071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8" name=""/>
          <p:cNvSpPr/>
          <p:nvPr/>
        </p:nvSpPr>
        <p:spPr>
          <a:xfrm>
            <a:off x="1146240" y="671184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9" name=""/>
          <p:cNvSpPr/>
          <p:nvPr/>
        </p:nvSpPr>
        <p:spPr>
          <a:xfrm>
            <a:off x="1170000" y="663876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0" name=""/>
          <p:cNvSpPr/>
          <p:nvPr/>
        </p:nvSpPr>
        <p:spPr>
          <a:xfrm>
            <a:off x="1071720" y="66438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1" name=""/>
          <p:cNvSpPr/>
          <p:nvPr/>
        </p:nvSpPr>
        <p:spPr>
          <a:xfrm>
            <a:off x="1204920" y="65484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2" name=""/>
          <p:cNvSpPr/>
          <p:nvPr/>
        </p:nvSpPr>
        <p:spPr>
          <a:xfrm>
            <a:off x="1054080" y="644508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3" name=""/>
          <p:cNvSpPr/>
          <p:nvPr/>
        </p:nvSpPr>
        <p:spPr>
          <a:xfrm>
            <a:off x="1173240" y="63770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4" name=""/>
          <p:cNvSpPr/>
          <p:nvPr/>
        </p:nvSpPr>
        <p:spPr>
          <a:xfrm>
            <a:off x="1217520" y="59770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5" name=""/>
          <p:cNvSpPr/>
          <p:nvPr/>
        </p:nvSpPr>
        <p:spPr>
          <a:xfrm>
            <a:off x="1300320" y="65581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6" name=""/>
          <p:cNvSpPr/>
          <p:nvPr/>
        </p:nvSpPr>
        <p:spPr>
          <a:xfrm>
            <a:off x="1324080" y="615780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7" name=""/>
          <p:cNvSpPr/>
          <p:nvPr/>
        </p:nvSpPr>
        <p:spPr>
          <a:xfrm>
            <a:off x="1228680" y="63086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8" name=""/>
          <p:cNvSpPr/>
          <p:nvPr/>
        </p:nvSpPr>
        <p:spPr>
          <a:xfrm>
            <a:off x="1314360" y="67150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9" name=""/>
          <p:cNvSpPr/>
          <p:nvPr/>
        </p:nvSpPr>
        <p:spPr>
          <a:xfrm>
            <a:off x="1216080" y="671976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0" name=""/>
          <p:cNvSpPr/>
          <p:nvPr/>
        </p:nvSpPr>
        <p:spPr>
          <a:xfrm>
            <a:off x="1339920" y="63961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1" name=""/>
          <p:cNvSpPr/>
          <p:nvPr/>
        </p:nvSpPr>
        <p:spPr>
          <a:xfrm>
            <a:off x="1378080" y="65055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2" name=""/>
          <p:cNvSpPr/>
          <p:nvPr/>
        </p:nvSpPr>
        <p:spPr>
          <a:xfrm>
            <a:off x="1413000" y="66452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3" name=""/>
          <p:cNvSpPr/>
          <p:nvPr/>
        </p:nvSpPr>
        <p:spPr>
          <a:xfrm>
            <a:off x="1440000" y="63975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4" name=""/>
          <p:cNvSpPr/>
          <p:nvPr/>
        </p:nvSpPr>
        <p:spPr>
          <a:xfrm>
            <a:off x="1373040" y="59500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5" name=""/>
          <p:cNvSpPr/>
          <p:nvPr/>
        </p:nvSpPr>
        <p:spPr>
          <a:xfrm>
            <a:off x="1461960" y="671184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6" name=""/>
          <p:cNvSpPr/>
          <p:nvPr/>
        </p:nvSpPr>
        <p:spPr>
          <a:xfrm>
            <a:off x="1409760" y="63039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7" name=""/>
          <p:cNvSpPr/>
          <p:nvPr/>
        </p:nvSpPr>
        <p:spPr>
          <a:xfrm>
            <a:off x="1494000" y="60451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8" name=""/>
          <p:cNvSpPr/>
          <p:nvPr/>
        </p:nvSpPr>
        <p:spPr>
          <a:xfrm>
            <a:off x="1506600" y="625140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9" name=""/>
          <p:cNvSpPr/>
          <p:nvPr/>
        </p:nvSpPr>
        <p:spPr>
          <a:xfrm>
            <a:off x="1774800" y="595296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0" name=""/>
          <p:cNvSpPr/>
          <p:nvPr/>
        </p:nvSpPr>
        <p:spPr>
          <a:xfrm>
            <a:off x="1704960" y="65023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1" name=""/>
          <p:cNvSpPr/>
          <p:nvPr/>
        </p:nvSpPr>
        <p:spPr>
          <a:xfrm>
            <a:off x="1486080" y="647208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2" name=""/>
          <p:cNvSpPr/>
          <p:nvPr/>
        </p:nvSpPr>
        <p:spPr>
          <a:xfrm>
            <a:off x="1574640" y="66168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3" name=""/>
          <p:cNvSpPr/>
          <p:nvPr/>
        </p:nvSpPr>
        <p:spPr>
          <a:xfrm>
            <a:off x="1546200" y="63547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4" name=""/>
          <p:cNvSpPr/>
          <p:nvPr/>
        </p:nvSpPr>
        <p:spPr>
          <a:xfrm>
            <a:off x="1754280" y="65754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5" name=""/>
          <p:cNvSpPr/>
          <p:nvPr/>
        </p:nvSpPr>
        <p:spPr>
          <a:xfrm>
            <a:off x="1781280" y="63277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6" name=""/>
          <p:cNvSpPr/>
          <p:nvPr/>
        </p:nvSpPr>
        <p:spPr>
          <a:xfrm>
            <a:off x="1682640" y="63262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7" name=""/>
          <p:cNvSpPr/>
          <p:nvPr/>
        </p:nvSpPr>
        <p:spPr>
          <a:xfrm>
            <a:off x="1768320" y="67327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8" name=""/>
          <p:cNvSpPr/>
          <p:nvPr/>
        </p:nvSpPr>
        <p:spPr>
          <a:xfrm>
            <a:off x="1670040" y="67374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9" name=""/>
          <p:cNvSpPr/>
          <p:nvPr/>
        </p:nvSpPr>
        <p:spPr>
          <a:xfrm>
            <a:off x="1803240" y="66420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0" name=""/>
          <p:cNvSpPr/>
          <p:nvPr/>
        </p:nvSpPr>
        <p:spPr>
          <a:xfrm>
            <a:off x="1830240" y="61833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1" name=""/>
          <p:cNvSpPr/>
          <p:nvPr/>
        </p:nvSpPr>
        <p:spPr>
          <a:xfrm>
            <a:off x="1962000" y="59500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2" name=""/>
          <p:cNvSpPr/>
          <p:nvPr/>
        </p:nvSpPr>
        <p:spPr>
          <a:xfrm>
            <a:off x="1863720" y="65120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3" name=""/>
          <p:cNvSpPr/>
          <p:nvPr/>
        </p:nvSpPr>
        <p:spPr>
          <a:xfrm>
            <a:off x="2208240" y="62215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4" name=""/>
          <p:cNvSpPr/>
          <p:nvPr/>
        </p:nvSpPr>
        <p:spPr>
          <a:xfrm>
            <a:off x="1922400" y="61088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5" name=""/>
          <p:cNvSpPr/>
          <p:nvPr/>
        </p:nvSpPr>
        <p:spPr>
          <a:xfrm>
            <a:off x="1655640" y="59212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6" name=""/>
          <p:cNvSpPr/>
          <p:nvPr/>
        </p:nvSpPr>
        <p:spPr>
          <a:xfrm>
            <a:off x="1827360" y="640224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7" name=""/>
          <p:cNvSpPr/>
          <p:nvPr/>
        </p:nvSpPr>
        <p:spPr>
          <a:xfrm>
            <a:off x="2033640" y="62532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8" name=""/>
          <p:cNvSpPr/>
          <p:nvPr/>
        </p:nvSpPr>
        <p:spPr>
          <a:xfrm>
            <a:off x="2320920" y="66452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9" name=""/>
          <p:cNvSpPr/>
          <p:nvPr/>
        </p:nvSpPr>
        <p:spPr>
          <a:xfrm>
            <a:off x="2274840" y="65390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0" name=""/>
          <p:cNvSpPr/>
          <p:nvPr/>
        </p:nvSpPr>
        <p:spPr>
          <a:xfrm>
            <a:off x="2341440" y="57546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1" name=""/>
          <p:cNvSpPr/>
          <p:nvPr/>
        </p:nvSpPr>
        <p:spPr>
          <a:xfrm>
            <a:off x="2462040" y="61246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2" name=""/>
          <p:cNvSpPr/>
          <p:nvPr/>
        </p:nvSpPr>
        <p:spPr>
          <a:xfrm>
            <a:off x="1027080" y="615960"/>
            <a:ext cx="1649520" cy="1262160"/>
          </a:xfrm>
          <a:custGeom>
            <a:avLst/>
            <a:gdLst/>
            <a:ahLst/>
            <a:rect l="l" t="t" r="r" b="b"/>
            <a:pathLst>
              <a:path w="1178" h="1047">
                <a:moveTo>
                  <a:pt x="153" y="161"/>
                </a:moveTo>
                <a:cubicBezTo>
                  <a:pt x="4" y="294"/>
                  <a:pt x="0" y="800"/>
                  <a:pt x="143" y="925"/>
                </a:cubicBezTo>
                <a:cubicBezTo>
                  <a:pt x="280" y="1047"/>
                  <a:pt x="861" y="1043"/>
                  <a:pt x="1010" y="910"/>
                </a:cubicBezTo>
                <a:cubicBezTo>
                  <a:pt x="1159" y="777"/>
                  <a:pt x="1178" y="250"/>
                  <a:pt x="1035" y="125"/>
                </a:cubicBezTo>
                <a:cubicBezTo>
                  <a:pt x="892" y="0"/>
                  <a:pt x="302" y="28"/>
                  <a:pt x="153" y="161"/>
                </a:cubicBez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3" name=""/>
          <p:cNvSpPr/>
          <p:nvPr/>
        </p:nvSpPr>
        <p:spPr>
          <a:xfrm>
            <a:off x="892080" y="2173320"/>
            <a:ext cx="1954440" cy="1544760"/>
          </a:xfrm>
          <a:custGeom>
            <a:avLst/>
            <a:gdLst/>
            <a:ahLst/>
            <a:rect l="l" t="t" r="r" b="b"/>
            <a:pathLst>
              <a:path w="1231" h="973">
                <a:moveTo>
                  <a:pt x="150" y="47"/>
                </a:moveTo>
                <a:cubicBezTo>
                  <a:pt x="82" y="85"/>
                  <a:pt x="54" y="138"/>
                  <a:pt x="32" y="242"/>
                </a:cubicBezTo>
                <a:cubicBezTo>
                  <a:pt x="10" y="346"/>
                  <a:pt x="0" y="568"/>
                  <a:pt x="17" y="672"/>
                </a:cubicBezTo>
                <a:cubicBezTo>
                  <a:pt x="34" y="776"/>
                  <a:pt x="63" y="819"/>
                  <a:pt x="135" y="867"/>
                </a:cubicBezTo>
                <a:cubicBezTo>
                  <a:pt x="207" y="915"/>
                  <a:pt x="310" y="947"/>
                  <a:pt x="447" y="960"/>
                </a:cubicBezTo>
                <a:cubicBezTo>
                  <a:pt x="584" y="973"/>
                  <a:pt x="833" y="971"/>
                  <a:pt x="955" y="944"/>
                </a:cubicBezTo>
                <a:cubicBezTo>
                  <a:pt x="1077" y="917"/>
                  <a:pt x="1136" y="861"/>
                  <a:pt x="1181" y="795"/>
                </a:cubicBezTo>
                <a:cubicBezTo>
                  <a:pt x="1226" y="729"/>
                  <a:pt x="1228" y="653"/>
                  <a:pt x="1227" y="549"/>
                </a:cubicBezTo>
                <a:cubicBezTo>
                  <a:pt x="1226" y="445"/>
                  <a:pt x="1231" y="257"/>
                  <a:pt x="1176" y="170"/>
                </a:cubicBezTo>
                <a:cubicBezTo>
                  <a:pt x="1121" y="83"/>
                  <a:pt x="1021" y="52"/>
                  <a:pt x="899" y="26"/>
                </a:cubicBezTo>
                <a:cubicBezTo>
                  <a:pt x="777" y="0"/>
                  <a:pt x="567" y="8"/>
                  <a:pt x="442" y="11"/>
                </a:cubicBezTo>
                <a:cubicBezTo>
                  <a:pt x="317" y="14"/>
                  <a:pt x="218" y="9"/>
                  <a:pt x="150" y="47"/>
                </a:cubicBez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4" name=""/>
          <p:cNvSpPr/>
          <p:nvPr/>
        </p:nvSpPr>
        <p:spPr>
          <a:xfrm>
            <a:off x="969840" y="5457960"/>
            <a:ext cx="1870200" cy="1400040"/>
          </a:xfrm>
          <a:custGeom>
            <a:avLst/>
            <a:gdLst/>
            <a:ahLst/>
            <a:rect l="l" t="t" r="r" b="b"/>
            <a:pathLst>
              <a:path w="1178" h="1047">
                <a:moveTo>
                  <a:pt x="153" y="161"/>
                </a:moveTo>
                <a:cubicBezTo>
                  <a:pt x="4" y="294"/>
                  <a:pt x="0" y="800"/>
                  <a:pt x="143" y="925"/>
                </a:cubicBezTo>
                <a:cubicBezTo>
                  <a:pt x="280" y="1047"/>
                  <a:pt x="861" y="1043"/>
                  <a:pt x="1010" y="910"/>
                </a:cubicBezTo>
                <a:cubicBezTo>
                  <a:pt x="1159" y="777"/>
                  <a:pt x="1178" y="250"/>
                  <a:pt x="1035" y="125"/>
                </a:cubicBezTo>
                <a:cubicBezTo>
                  <a:pt x="892" y="0"/>
                  <a:pt x="302" y="28"/>
                  <a:pt x="153" y="161"/>
                </a:cubicBez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5" name=""/>
          <p:cNvSpPr/>
          <p:nvPr/>
        </p:nvSpPr>
        <p:spPr>
          <a:xfrm>
            <a:off x="925560" y="3889440"/>
            <a:ext cx="1954080" cy="1544400"/>
          </a:xfrm>
          <a:custGeom>
            <a:avLst/>
            <a:gdLst/>
            <a:ahLst/>
            <a:rect l="l" t="t" r="r" b="b"/>
            <a:pathLst>
              <a:path w="1231" h="973">
                <a:moveTo>
                  <a:pt x="150" y="47"/>
                </a:moveTo>
                <a:cubicBezTo>
                  <a:pt x="82" y="85"/>
                  <a:pt x="54" y="138"/>
                  <a:pt x="32" y="242"/>
                </a:cubicBezTo>
                <a:cubicBezTo>
                  <a:pt x="10" y="346"/>
                  <a:pt x="0" y="568"/>
                  <a:pt x="17" y="672"/>
                </a:cubicBezTo>
                <a:cubicBezTo>
                  <a:pt x="34" y="776"/>
                  <a:pt x="63" y="819"/>
                  <a:pt x="135" y="867"/>
                </a:cubicBezTo>
                <a:cubicBezTo>
                  <a:pt x="207" y="915"/>
                  <a:pt x="310" y="947"/>
                  <a:pt x="447" y="960"/>
                </a:cubicBezTo>
                <a:cubicBezTo>
                  <a:pt x="584" y="973"/>
                  <a:pt x="833" y="971"/>
                  <a:pt x="955" y="944"/>
                </a:cubicBezTo>
                <a:cubicBezTo>
                  <a:pt x="1077" y="917"/>
                  <a:pt x="1136" y="861"/>
                  <a:pt x="1181" y="795"/>
                </a:cubicBezTo>
                <a:cubicBezTo>
                  <a:pt x="1226" y="729"/>
                  <a:pt x="1228" y="653"/>
                  <a:pt x="1227" y="549"/>
                </a:cubicBezTo>
                <a:cubicBezTo>
                  <a:pt x="1226" y="445"/>
                  <a:pt x="1231" y="257"/>
                  <a:pt x="1176" y="170"/>
                </a:cubicBezTo>
                <a:cubicBezTo>
                  <a:pt x="1121" y="83"/>
                  <a:pt x="1021" y="52"/>
                  <a:pt x="899" y="26"/>
                </a:cubicBezTo>
                <a:cubicBezTo>
                  <a:pt x="777" y="0"/>
                  <a:pt x="567" y="8"/>
                  <a:pt x="442" y="11"/>
                </a:cubicBezTo>
                <a:cubicBezTo>
                  <a:pt x="317" y="14"/>
                  <a:pt x="218" y="9"/>
                  <a:pt x="150" y="47"/>
                </a:cubicBez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6" name=""/>
          <p:cNvSpPr/>
          <p:nvPr/>
        </p:nvSpPr>
        <p:spPr>
          <a:xfrm>
            <a:off x="1284120" y="15541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7" name=""/>
          <p:cNvSpPr/>
          <p:nvPr/>
        </p:nvSpPr>
        <p:spPr>
          <a:xfrm>
            <a:off x="1643040" y="16876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8" name=""/>
          <p:cNvSpPr/>
          <p:nvPr/>
        </p:nvSpPr>
        <p:spPr>
          <a:xfrm>
            <a:off x="1685880" y="15033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9" name=""/>
          <p:cNvSpPr/>
          <p:nvPr/>
        </p:nvSpPr>
        <p:spPr>
          <a:xfrm>
            <a:off x="1770120" y="16113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0" name=""/>
          <p:cNvSpPr/>
          <p:nvPr/>
        </p:nvSpPr>
        <p:spPr>
          <a:xfrm>
            <a:off x="1652760" y="14526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1" name=""/>
          <p:cNvSpPr/>
          <p:nvPr/>
        </p:nvSpPr>
        <p:spPr>
          <a:xfrm>
            <a:off x="1395360" y="16686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2" name=""/>
          <p:cNvSpPr/>
          <p:nvPr/>
        </p:nvSpPr>
        <p:spPr>
          <a:xfrm>
            <a:off x="1328760" y="141588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3" name=""/>
          <p:cNvSpPr/>
          <p:nvPr/>
        </p:nvSpPr>
        <p:spPr>
          <a:xfrm>
            <a:off x="1525680" y="15922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4" name=""/>
          <p:cNvSpPr/>
          <p:nvPr/>
        </p:nvSpPr>
        <p:spPr>
          <a:xfrm>
            <a:off x="1542960" y="16588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5" name=""/>
          <p:cNvSpPr/>
          <p:nvPr/>
        </p:nvSpPr>
        <p:spPr>
          <a:xfrm>
            <a:off x="1459080" y="16178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6" name=""/>
          <p:cNvSpPr/>
          <p:nvPr/>
        </p:nvSpPr>
        <p:spPr>
          <a:xfrm>
            <a:off x="1441440" y="17431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7" name=""/>
          <p:cNvSpPr/>
          <p:nvPr/>
        </p:nvSpPr>
        <p:spPr>
          <a:xfrm>
            <a:off x="1517760" y="15303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8" name=""/>
          <p:cNvSpPr/>
          <p:nvPr/>
        </p:nvSpPr>
        <p:spPr>
          <a:xfrm>
            <a:off x="1654200" y="7351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9" name=""/>
          <p:cNvSpPr/>
          <p:nvPr/>
        </p:nvSpPr>
        <p:spPr>
          <a:xfrm>
            <a:off x="1689120" y="8748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0" name=""/>
          <p:cNvSpPr/>
          <p:nvPr/>
        </p:nvSpPr>
        <p:spPr>
          <a:xfrm>
            <a:off x="1700280" y="13795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1" name=""/>
          <p:cNvSpPr/>
          <p:nvPr/>
        </p:nvSpPr>
        <p:spPr>
          <a:xfrm>
            <a:off x="1712880" y="11779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2" name=""/>
          <p:cNvSpPr/>
          <p:nvPr/>
        </p:nvSpPr>
        <p:spPr>
          <a:xfrm>
            <a:off x="1627200" y="1217520"/>
            <a:ext cx="3636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3" name=""/>
          <p:cNvSpPr/>
          <p:nvPr/>
        </p:nvSpPr>
        <p:spPr>
          <a:xfrm>
            <a:off x="1608120" y="11001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4" name=""/>
          <p:cNvSpPr/>
          <p:nvPr/>
        </p:nvSpPr>
        <p:spPr>
          <a:xfrm>
            <a:off x="1679400" y="1104840"/>
            <a:ext cx="3528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5" name=""/>
          <p:cNvSpPr/>
          <p:nvPr/>
        </p:nvSpPr>
        <p:spPr>
          <a:xfrm>
            <a:off x="1703520" y="103176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6" name=""/>
          <p:cNvSpPr/>
          <p:nvPr/>
        </p:nvSpPr>
        <p:spPr>
          <a:xfrm>
            <a:off x="1636560" y="9889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7" name=""/>
          <p:cNvSpPr/>
          <p:nvPr/>
        </p:nvSpPr>
        <p:spPr>
          <a:xfrm>
            <a:off x="1738440" y="9414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8" name=""/>
          <p:cNvSpPr/>
          <p:nvPr/>
        </p:nvSpPr>
        <p:spPr>
          <a:xfrm>
            <a:off x="1706400" y="7700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9" name=""/>
          <p:cNvSpPr/>
          <p:nvPr/>
        </p:nvSpPr>
        <p:spPr>
          <a:xfrm>
            <a:off x="1749600" y="11127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0" name=""/>
          <p:cNvSpPr/>
          <p:nvPr/>
        </p:nvSpPr>
        <p:spPr>
          <a:xfrm>
            <a:off x="1398600" y="103968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1" name=""/>
          <p:cNvSpPr/>
          <p:nvPr/>
        </p:nvSpPr>
        <p:spPr>
          <a:xfrm>
            <a:off x="1425600" y="79200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2" name=""/>
          <p:cNvSpPr/>
          <p:nvPr/>
        </p:nvSpPr>
        <p:spPr>
          <a:xfrm>
            <a:off x="1422360" y="13431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3" name=""/>
          <p:cNvSpPr/>
          <p:nvPr/>
        </p:nvSpPr>
        <p:spPr>
          <a:xfrm>
            <a:off x="1389240" y="12700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4" name=""/>
          <p:cNvSpPr/>
          <p:nvPr/>
        </p:nvSpPr>
        <p:spPr>
          <a:xfrm>
            <a:off x="1517760" y="119844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5" name=""/>
          <p:cNvSpPr/>
          <p:nvPr/>
        </p:nvSpPr>
        <p:spPr>
          <a:xfrm>
            <a:off x="1447920" y="11066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6" name=""/>
          <p:cNvSpPr/>
          <p:nvPr/>
        </p:nvSpPr>
        <p:spPr>
          <a:xfrm>
            <a:off x="1415880" y="93492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7" name=""/>
          <p:cNvSpPr/>
          <p:nvPr/>
        </p:nvSpPr>
        <p:spPr>
          <a:xfrm>
            <a:off x="1508040" y="9763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8" name=""/>
          <p:cNvSpPr/>
          <p:nvPr/>
        </p:nvSpPr>
        <p:spPr>
          <a:xfrm>
            <a:off x="1542960" y="11160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9" name=""/>
          <p:cNvSpPr/>
          <p:nvPr/>
        </p:nvSpPr>
        <p:spPr>
          <a:xfrm>
            <a:off x="1569960" y="8683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0" name=""/>
          <p:cNvSpPr/>
          <p:nvPr/>
        </p:nvSpPr>
        <p:spPr>
          <a:xfrm>
            <a:off x="1573200" y="7826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1" name=""/>
          <p:cNvSpPr/>
          <p:nvPr/>
        </p:nvSpPr>
        <p:spPr>
          <a:xfrm>
            <a:off x="1488960" y="74124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2" name=""/>
          <p:cNvSpPr/>
          <p:nvPr/>
        </p:nvSpPr>
        <p:spPr>
          <a:xfrm>
            <a:off x="1471680" y="8668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3" name=""/>
          <p:cNvSpPr/>
          <p:nvPr/>
        </p:nvSpPr>
        <p:spPr>
          <a:xfrm>
            <a:off x="1566720" y="14191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4" name=""/>
          <p:cNvSpPr/>
          <p:nvPr/>
        </p:nvSpPr>
        <p:spPr>
          <a:xfrm>
            <a:off x="1469880" y="13906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5" name=""/>
          <p:cNvSpPr/>
          <p:nvPr/>
        </p:nvSpPr>
        <p:spPr>
          <a:xfrm>
            <a:off x="1611360" y="13492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6" name=""/>
          <p:cNvSpPr/>
          <p:nvPr/>
        </p:nvSpPr>
        <p:spPr>
          <a:xfrm>
            <a:off x="1557360" y="12733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7" name=""/>
          <p:cNvSpPr/>
          <p:nvPr/>
        </p:nvSpPr>
        <p:spPr>
          <a:xfrm>
            <a:off x="1459080" y="12780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8" name=""/>
          <p:cNvSpPr/>
          <p:nvPr/>
        </p:nvSpPr>
        <p:spPr>
          <a:xfrm>
            <a:off x="1614600" y="9111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9" name=""/>
          <p:cNvSpPr/>
          <p:nvPr/>
        </p:nvSpPr>
        <p:spPr>
          <a:xfrm>
            <a:off x="1386000" y="1492200"/>
            <a:ext cx="3636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0" name=""/>
          <p:cNvSpPr/>
          <p:nvPr/>
        </p:nvSpPr>
        <p:spPr>
          <a:xfrm>
            <a:off x="1846440" y="16970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1" name=""/>
          <p:cNvSpPr/>
          <p:nvPr/>
        </p:nvSpPr>
        <p:spPr>
          <a:xfrm>
            <a:off x="1274760" y="143496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2" name=""/>
          <p:cNvSpPr/>
          <p:nvPr/>
        </p:nvSpPr>
        <p:spPr>
          <a:xfrm>
            <a:off x="1747800" y="16956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3" name=""/>
          <p:cNvSpPr/>
          <p:nvPr/>
        </p:nvSpPr>
        <p:spPr>
          <a:xfrm>
            <a:off x="1994040" y="16876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4" name=""/>
          <p:cNvSpPr/>
          <p:nvPr/>
        </p:nvSpPr>
        <p:spPr>
          <a:xfrm>
            <a:off x="2022480" y="173340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5" name=""/>
          <p:cNvSpPr/>
          <p:nvPr/>
        </p:nvSpPr>
        <p:spPr>
          <a:xfrm>
            <a:off x="1962000" y="16304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6" name=""/>
          <p:cNvSpPr/>
          <p:nvPr/>
        </p:nvSpPr>
        <p:spPr>
          <a:xfrm>
            <a:off x="2225520" y="17226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7" name=""/>
          <p:cNvSpPr/>
          <p:nvPr/>
        </p:nvSpPr>
        <p:spPr>
          <a:xfrm>
            <a:off x="2185920" y="16272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8" name=""/>
          <p:cNvSpPr/>
          <p:nvPr/>
        </p:nvSpPr>
        <p:spPr>
          <a:xfrm>
            <a:off x="1814400" y="9288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9" name=""/>
          <p:cNvSpPr/>
          <p:nvPr/>
        </p:nvSpPr>
        <p:spPr>
          <a:xfrm>
            <a:off x="1849320" y="10684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0" name=""/>
          <p:cNvSpPr/>
          <p:nvPr/>
        </p:nvSpPr>
        <p:spPr>
          <a:xfrm>
            <a:off x="1855800" y="14940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1" name=""/>
          <p:cNvSpPr/>
          <p:nvPr/>
        </p:nvSpPr>
        <p:spPr>
          <a:xfrm>
            <a:off x="1873080" y="13716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2" name=""/>
          <p:cNvSpPr/>
          <p:nvPr/>
        </p:nvSpPr>
        <p:spPr>
          <a:xfrm>
            <a:off x="1787400" y="1411200"/>
            <a:ext cx="367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3" name=""/>
          <p:cNvSpPr/>
          <p:nvPr/>
        </p:nvSpPr>
        <p:spPr>
          <a:xfrm>
            <a:off x="1768320" y="12938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4" name=""/>
          <p:cNvSpPr/>
          <p:nvPr/>
        </p:nvSpPr>
        <p:spPr>
          <a:xfrm>
            <a:off x="1839960" y="12985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5" name=""/>
          <p:cNvSpPr/>
          <p:nvPr/>
        </p:nvSpPr>
        <p:spPr>
          <a:xfrm>
            <a:off x="1863720" y="122544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6" name=""/>
          <p:cNvSpPr/>
          <p:nvPr/>
        </p:nvSpPr>
        <p:spPr>
          <a:xfrm>
            <a:off x="1765440" y="12304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7" name=""/>
          <p:cNvSpPr/>
          <p:nvPr/>
        </p:nvSpPr>
        <p:spPr>
          <a:xfrm>
            <a:off x="1898640" y="11350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8" name=""/>
          <p:cNvSpPr/>
          <p:nvPr/>
        </p:nvSpPr>
        <p:spPr>
          <a:xfrm>
            <a:off x="1747800" y="103176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9" name=""/>
          <p:cNvSpPr/>
          <p:nvPr/>
        </p:nvSpPr>
        <p:spPr>
          <a:xfrm>
            <a:off x="1866960" y="9637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0" name=""/>
          <p:cNvSpPr/>
          <p:nvPr/>
        </p:nvSpPr>
        <p:spPr>
          <a:xfrm>
            <a:off x="1959120" y="9460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1" name=""/>
          <p:cNvSpPr/>
          <p:nvPr/>
        </p:nvSpPr>
        <p:spPr>
          <a:xfrm>
            <a:off x="1994040" y="114444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2" name=""/>
          <p:cNvSpPr/>
          <p:nvPr/>
        </p:nvSpPr>
        <p:spPr>
          <a:xfrm>
            <a:off x="2021040" y="89676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3" name=""/>
          <p:cNvSpPr/>
          <p:nvPr/>
        </p:nvSpPr>
        <p:spPr>
          <a:xfrm>
            <a:off x="1922400" y="8953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4" name=""/>
          <p:cNvSpPr/>
          <p:nvPr/>
        </p:nvSpPr>
        <p:spPr>
          <a:xfrm>
            <a:off x="2427120" y="11271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5" name=""/>
          <p:cNvSpPr/>
          <p:nvPr/>
        </p:nvSpPr>
        <p:spPr>
          <a:xfrm>
            <a:off x="1932120" y="1487520"/>
            <a:ext cx="3636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6" name=""/>
          <p:cNvSpPr/>
          <p:nvPr/>
        </p:nvSpPr>
        <p:spPr>
          <a:xfrm>
            <a:off x="1839960" y="140796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7" name=""/>
          <p:cNvSpPr/>
          <p:nvPr/>
        </p:nvSpPr>
        <p:spPr>
          <a:xfrm>
            <a:off x="1984320" y="13748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8" name=""/>
          <p:cNvSpPr/>
          <p:nvPr/>
        </p:nvSpPr>
        <p:spPr>
          <a:xfrm>
            <a:off x="2008080" y="13017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9" name=""/>
          <p:cNvSpPr/>
          <p:nvPr/>
        </p:nvSpPr>
        <p:spPr>
          <a:xfrm>
            <a:off x="1909800" y="13064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0" name=""/>
          <p:cNvSpPr/>
          <p:nvPr/>
        </p:nvSpPr>
        <p:spPr>
          <a:xfrm>
            <a:off x="2033640" y="9828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1" name=""/>
          <p:cNvSpPr/>
          <p:nvPr/>
        </p:nvSpPr>
        <p:spPr>
          <a:xfrm>
            <a:off x="2071800" y="10922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2" name=""/>
          <p:cNvSpPr/>
          <p:nvPr/>
        </p:nvSpPr>
        <p:spPr>
          <a:xfrm>
            <a:off x="1938240" y="12175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3" name=""/>
          <p:cNvSpPr/>
          <p:nvPr/>
        </p:nvSpPr>
        <p:spPr>
          <a:xfrm>
            <a:off x="1241280" y="9255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4" name=""/>
          <p:cNvSpPr/>
          <p:nvPr/>
        </p:nvSpPr>
        <p:spPr>
          <a:xfrm>
            <a:off x="2136600" y="898560"/>
            <a:ext cx="3528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5" name=""/>
          <p:cNvSpPr/>
          <p:nvPr/>
        </p:nvSpPr>
        <p:spPr>
          <a:xfrm>
            <a:off x="2052720" y="8571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6" name=""/>
          <p:cNvSpPr/>
          <p:nvPr/>
        </p:nvSpPr>
        <p:spPr>
          <a:xfrm>
            <a:off x="2016000" y="15685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7" name=""/>
          <p:cNvSpPr/>
          <p:nvPr/>
        </p:nvSpPr>
        <p:spPr>
          <a:xfrm>
            <a:off x="2097000" y="146196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8" name=""/>
          <p:cNvSpPr/>
          <p:nvPr/>
        </p:nvSpPr>
        <p:spPr>
          <a:xfrm>
            <a:off x="2120760" y="13892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9" name=""/>
          <p:cNvSpPr/>
          <p:nvPr/>
        </p:nvSpPr>
        <p:spPr>
          <a:xfrm>
            <a:off x="2190600" y="13669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0" name=""/>
          <p:cNvSpPr/>
          <p:nvPr/>
        </p:nvSpPr>
        <p:spPr>
          <a:xfrm>
            <a:off x="1295280" y="11034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1" name=""/>
          <p:cNvSpPr/>
          <p:nvPr/>
        </p:nvSpPr>
        <p:spPr>
          <a:xfrm>
            <a:off x="2232000" y="11080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2" name=""/>
          <p:cNvSpPr/>
          <p:nvPr/>
        </p:nvSpPr>
        <p:spPr>
          <a:xfrm>
            <a:off x="1600200" y="154764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3" name=""/>
          <p:cNvSpPr/>
          <p:nvPr/>
        </p:nvSpPr>
        <p:spPr>
          <a:xfrm>
            <a:off x="2278080" y="10605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4" name=""/>
          <p:cNvSpPr/>
          <p:nvPr/>
        </p:nvSpPr>
        <p:spPr>
          <a:xfrm>
            <a:off x="2281320" y="9748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5" name=""/>
          <p:cNvSpPr/>
          <p:nvPr/>
        </p:nvSpPr>
        <p:spPr>
          <a:xfrm>
            <a:off x="2179800" y="10587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6" name=""/>
          <p:cNvSpPr/>
          <p:nvPr/>
        </p:nvSpPr>
        <p:spPr>
          <a:xfrm>
            <a:off x="2170080" y="15336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7" name=""/>
          <p:cNvSpPr/>
          <p:nvPr/>
        </p:nvSpPr>
        <p:spPr>
          <a:xfrm>
            <a:off x="2241720" y="15382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8" name=""/>
          <p:cNvSpPr/>
          <p:nvPr/>
        </p:nvSpPr>
        <p:spPr>
          <a:xfrm>
            <a:off x="2265480" y="14652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9" name=""/>
          <p:cNvSpPr/>
          <p:nvPr/>
        </p:nvSpPr>
        <p:spPr>
          <a:xfrm>
            <a:off x="2166840" y="146988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0" name=""/>
          <p:cNvSpPr/>
          <p:nvPr/>
        </p:nvSpPr>
        <p:spPr>
          <a:xfrm>
            <a:off x="2001960" y="10843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1" name=""/>
          <p:cNvSpPr/>
          <p:nvPr/>
        </p:nvSpPr>
        <p:spPr>
          <a:xfrm>
            <a:off x="2239920" y="9414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2" name=""/>
          <p:cNvSpPr/>
          <p:nvPr/>
        </p:nvSpPr>
        <p:spPr>
          <a:xfrm>
            <a:off x="1779480" y="8222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3" name=""/>
          <p:cNvSpPr/>
          <p:nvPr/>
        </p:nvSpPr>
        <p:spPr>
          <a:xfrm>
            <a:off x="1871640" y="8636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4" name=""/>
          <p:cNvSpPr/>
          <p:nvPr/>
        </p:nvSpPr>
        <p:spPr>
          <a:xfrm>
            <a:off x="1866960" y="8082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5" name=""/>
          <p:cNvSpPr/>
          <p:nvPr/>
        </p:nvSpPr>
        <p:spPr>
          <a:xfrm>
            <a:off x="1338120" y="8874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6" name=""/>
          <p:cNvSpPr/>
          <p:nvPr/>
        </p:nvSpPr>
        <p:spPr>
          <a:xfrm>
            <a:off x="1631880" y="82692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7" name=""/>
          <p:cNvSpPr/>
          <p:nvPr/>
        </p:nvSpPr>
        <p:spPr>
          <a:xfrm>
            <a:off x="1943280" y="7905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8" name=""/>
          <p:cNvSpPr/>
          <p:nvPr/>
        </p:nvSpPr>
        <p:spPr>
          <a:xfrm>
            <a:off x="2049480" y="75708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9" name=""/>
          <p:cNvSpPr/>
          <p:nvPr/>
        </p:nvSpPr>
        <p:spPr>
          <a:xfrm>
            <a:off x="2193840" y="8334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0" name=""/>
          <p:cNvSpPr/>
          <p:nvPr/>
        </p:nvSpPr>
        <p:spPr>
          <a:xfrm>
            <a:off x="2152800" y="8002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1" name=""/>
          <p:cNvSpPr/>
          <p:nvPr/>
        </p:nvSpPr>
        <p:spPr>
          <a:xfrm>
            <a:off x="2289240" y="7714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2" name=""/>
          <p:cNvSpPr/>
          <p:nvPr/>
        </p:nvSpPr>
        <p:spPr>
          <a:xfrm>
            <a:off x="2187720" y="9129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3" name=""/>
          <p:cNvSpPr/>
          <p:nvPr/>
        </p:nvSpPr>
        <p:spPr>
          <a:xfrm>
            <a:off x="2198520" y="14176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4" name=""/>
          <p:cNvSpPr/>
          <p:nvPr/>
        </p:nvSpPr>
        <p:spPr>
          <a:xfrm>
            <a:off x="2335320" y="11890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5" name=""/>
          <p:cNvSpPr/>
          <p:nvPr/>
        </p:nvSpPr>
        <p:spPr>
          <a:xfrm>
            <a:off x="2117880" y="1327320"/>
            <a:ext cx="3636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6" name=""/>
          <p:cNvSpPr/>
          <p:nvPr/>
        </p:nvSpPr>
        <p:spPr>
          <a:xfrm>
            <a:off x="2106720" y="11383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7" name=""/>
          <p:cNvSpPr/>
          <p:nvPr/>
        </p:nvSpPr>
        <p:spPr>
          <a:xfrm>
            <a:off x="2120760" y="10857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8" name=""/>
          <p:cNvSpPr/>
          <p:nvPr/>
        </p:nvSpPr>
        <p:spPr>
          <a:xfrm>
            <a:off x="1704960" y="12654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9" name=""/>
          <p:cNvSpPr/>
          <p:nvPr/>
        </p:nvSpPr>
        <p:spPr>
          <a:xfrm>
            <a:off x="2135160" y="10270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0" name=""/>
          <p:cNvSpPr/>
          <p:nvPr/>
        </p:nvSpPr>
        <p:spPr>
          <a:xfrm>
            <a:off x="1360440" y="113652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1" name=""/>
          <p:cNvSpPr/>
          <p:nvPr/>
        </p:nvSpPr>
        <p:spPr>
          <a:xfrm>
            <a:off x="1258920" y="12556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2" name=""/>
          <p:cNvSpPr/>
          <p:nvPr/>
        </p:nvSpPr>
        <p:spPr>
          <a:xfrm>
            <a:off x="1279440" y="9889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3" name=""/>
          <p:cNvSpPr/>
          <p:nvPr/>
        </p:nvSpPr>
        <p:spPr>
          <a:xfrm>
            <a:off x="2284560" y="140004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4" name=""/>
          <p:cNvSpPr/>
          <p:nvPr/>
        </p:nvSpPr>
        <p:spPr>
          <a:xfrm>
            <a:off x="1746360" y="145404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5" name=""/>
          <p:cNvSpPr/>
          <p:nvPr/>
        </p:nvSpPr>
        <p:spPr>
          <a:xfrm>
            <a:off x="2058840" y="13827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6" name=""/>
          <p:cNvSpPr/>
          <p:nvPr/>
        </p:nvSpPr>
        <p:spPr>
          <a:xfrm>
            <a:off x="2112840" y="9493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7" name=""/>
          <p:cNvSpPr/>
          <p:nvPr/>
        </p:nvSpPr>
        <p:spPr>
          <a:xfrm>
            <a:off x="2355840" y="7858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8" name=""/>
          <p:cNvSpPr/>
          <p:nvPr/>
        </p:nvSpPr>
        <p:spPr>
          <a:xfrm>
            <a:off x="2347920" y="11066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9" name=""/>
          <p:cNvSpPr/>
          <p:nvPr/>
        </p:nvSpPr>
        <p:spPr>
          <a:xfrm>
            <a:off x="2371680" y="14097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0" name=""/>
          <p:cNvSpPr/>
          <p:nvPr/>
        </p:nvSpPr>
        <p:spPr>
          <a:xfrm>
            <a:off x="2347920" y="1601640"/>
            <a:ext cx="3636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1" name=""/>
          <p:cNvSpPr/>
          <p:nvPr/>
        </p:nvSpPr>
        <p:spPr>
          <a:xfrm>
            <a:off x="1322280" y="12636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2" name=""/>
          <p:cNvSpPr/>
          <p:nvPr/>
        </p:nvSpPr>
        <p:spPr>
          <a:xfrm>
            <a:off x="2338560" y="13366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3" name=""/>
          <p:cNvSpPr/>
          <p:nvPr/>
        </p:nvSpPr>
        <p:spPr>
          <a:xfrm>
            <a:off x="1914480" y="171612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4" name=""/>
          <p:cNvSpPr/>
          <p:nvPr/>
        </p:nvSpPr>
        <p:spPr>
          <a:xfrm>
            <a:off x="2233440" y="12873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5" name=""/>
          <p:cNvSpPr/>
          <p:nvPr/>
        </p:nvSpPr>
        <p:spPr>
          <a:xfrm>
            <a:off x="2400480" y="106668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6" name=""/>
          <p:cNvSpPr/>
          <p:nvPr/>
        </p:nvSpPr>
        <p:spPr>
          <a:xfrm>
            <a:off x="1946160" y="10605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7" name=""/>
          <p:cNvSpPr/>
          <p:nvPr/>
        </p:nvSpPr>
        <p:spPr>
          <a:xfrm>
            <a:off x="2365200" y="1001880"/>
            <a:ext cx="3528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8" name=""/>
          <p:cNvSpPr/>
          <p:nvPr/>
        </p:nvSpPr>
        <p:spPr>
          <a:xfrm>
            <a:off x="2124000" y="7430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9" name=""/>
          <p:cNvSpPr/>
          <p:nvPr/>
        </p:nvSpPr>
        <p:spPr>
          <a:xfrm>
            <a:off x="2492280" y="11826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0" name=""/>
          <p:cNvSpPr/>
          <p:nvPr/>
        </p:nvSpPr>
        <p:spPr>
          <a:xfrm>
            <a:off x="2421000" y="9334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1" name=""/>
          <p:cNvSpPr/>
          <p:nvPr/>
        </p:nvSpPr>
        <p:spPr>
          <a:xfrm>
            <a:off x="2433600" y="15620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2" name=""/>
          <p:cNvSpPr/>
          <p:nvPr/>
        </p:nvSpPr>
        <p:spPr>
          <a:xfrm>
            <a:off x="2482920" y="14130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3" name=""/>
          <p:cNvSpPr/>
          <p:nvPr/>
        </p:nvSpPr>
        <p:spPr>
          <a:xfrm>
            <a:off x="2444760" y="13320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4" name=""/>
          <p:cNvSpPr/>
          <p:nvPr/>
        </p:nvSpPr>
        <p:spPr>
          <a:xfrm>
            <a:off x="1557360" y="102888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5" name=""/>
          <p:cNvSpPr/>
          <p:nvPr/>
        </p:nvSpPr>
        <p:spPr>
          <a:xfrm>
            <a:off x="1276200" y="853920"/>
            <a:ext cx="34920" cy="3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6" name=""/>
          <p:cNvSpPr/>
          <p:nvPr/>
        </p:nvSpPr>
        <p:spPr>
          <a:xfrm>
            <a:off x="1407960" y="11970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7" name=""/>
          <p:cNvSpPr/>
          <p:nvPr/>
        </p:nvSpPr>
        <p:spPr>
          <a:xfrm>
            <a:off x="1193760" y="15494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8" name=""/>
          <p:cNvSpPr/>
          <p:nvPr/>
        </p:nvSpPr>
        <p:spPr>
          <a:xfrm>
            <a:off x="1122480" y="133344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9" name=""/>
          <p:cNvSpPr/>
          <p:nvPr/>
        </p:nvSpPr>
        <p:spPr>
          <a:xfrm>
            <a:off x="2011320" y="1486080"/>
            <a:ext cx="367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0" name=""/>
          <p:cNvSpPr/>
          <p:nvPr/>
        </p:nvSpPr>
        <p:spPr>
          <a:xfrm>
            <a:off x="2371680" y="14763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1" name=""/>
          <p:cNvSpPr/>
          <p:nvPr/>
        </p:nvSpPr>
        <p:spPr>
          <a:xfrm>
            <a:off x="2508120" y="134460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2" name=""/>
          <p:cNvSpPr/>
          <p:nvPr/>
        </p:nvSpPr>
        <p:spPr>
          <a:xfrm>
            <a:off x="2506680" y="938160"/>
            <a:ext cx="349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3" name=""/>
          <p:cNvSpPr/>
          <p:nvPr/>
        </p:nvSpPr>
        <p:spPr>
          <a:xfrm>
            <a:off x="2336760" y="914400"/>
            <a:ext cx="36720" cy="3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4" name=""/>
          <p:cNvSpPr/>
          <p:nvPr/>
        </p:nvSpPr>
        <p:spPr>
          <a:xfrm flipH="1">
            <a:off x="2095200" y="1265400"/>
            <a:ext cx="9205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5" name=""/>
          <p:cNvSpPr/>
          <p:nvPr/>
        </p:nvSpPr>
        <p:spPr>
          <a:xfrm flipH="1">
            <a:off x="2430360" y="4700520"/>
            <a:ext cx="798480" cy="792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6" name=""/>
          <p:cNvSpPr/>
          <p:nvPr/>
        </p:nvSpPr>
        <p:spPr>
          <a:xfrm>
            <a:off x="3202920" y="4483080"/>
            <a:ext cx="744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7" name=""/>
          <p:cNvSpPr/>
          <p:nvPr/>
        </p:nvSpPr>
        <p:spPr>
          <a:xfrm>
            <a:off x="2958480" y="1071720"/>
            <a:ext cx="744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8" name=""/>
          <p:cNvSpPr/>
          <p:nvPr/>
        </p:nvSpPr>
        <p:spPr>
          <a:xfrm>
            <a:off x="2109960" y="63360"/>
            <a:ext cx="559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b) Buňka v hypotonickém prostřed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9" name=""/>
          <p:cNvSpPr/>
          <p:nvPr/>
        </p:nvSpPr>
        <p:spPr>
          <a:xfrm>
            <a:off x="4467240" y="1028880"/>
            <a:ext cx="431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Osmotický přesun vody do buň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0" name=""/>
          <p:cNvSpPr/>
          <p:nvPr/>
        </p:nvSpPr>
        <p:spPr>
          <a:xfrm>
            <a:off x="4424400" y="2631960"/>
            <a:ext cx="30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Zvětšení objemu buň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1" name=""/>
          <p:cNvSpPr/>
          <p:nvPr/>
        </p:nvSpPr>
        <p:spPr>
          <a:xfrm>
            <a:off x="4428720" y="4479840"/>
            <a:ext cx="4455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ktivní snížení osmotického tlak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 buňce a následný přesun vo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2" name=""/>
          <p:cNvSpPr/>
          <p:nvPr/>
        </p:nvSpPr>
        <p:spPr>
          <a:xfrm>
            <a:off x="4392000" y="5684760"/>
            <a:ext cx="421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Buněčný objem se poněkud sníž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3" name=""/>
          <p:cNvSpPr/>
          <p:nvPr/>
        </p:nvSpPr>
        <p:spPr>
          <a:xfrm>
            <a:off x="7778880" y="925560"/>
            <a:ext cx="1257120" cy="56214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4" name=""/>
          <p:cNvSpPr/>
          <p:nvPr/>
        </p:nvSpPr>
        <p:spPr>
          <a:xfrm>
            <a:off x="4900680" y="933480"/>
            <a:ext cx="1520640" cy="5580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5" name=""/>
          <p:cNvSpPr/>
          <p:nvPr/>
        </p:nvSpPr>
        <p:spPr>
          <a:xfrm>
            <a:off x="239760" y="911160"/>
            <a:ext cx="2222280" cy="5610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6" name=""/>
          <p:cNvSpPr/>
          <p:nvPr/>
        </p:nvSpPr>
        <p:spPr>
          <a:xfrm rot="21547800">
            <a:off x="7808760" y="2716200"/>
            <a:ext cx="1189080" cy="3584520"/>
          </a:xfrm>
          <a:custGeom>
            <a:avLst/>
            <a:gdLst/>
            <a:ahLst/>
            <a:rect l="l" t="t" r="r" b="b"/>
            <a:pathLst>
              <a:path w="1392" h="3179">
                <a:moveTo>
                  <a:pt x="1320" y="1675"/>
                </a:moveTo>
                <a:cubicBezTo>
                  <a:pt x="1318" y="1684"/>
                  <a:pt x="1300" y="1706"/>
                  <a:pt x="1297" y="1727"/>
                </a:cubicBezTo>
                <a:cubicBezTo>
                  <a:pt x="1294" y="1747"/>
                  <a:pt x="1310" y="1777"/>
                  <a:pt x="1306" y="1796"/>
                </a:cubicBezTo>
                <a:lnTo>
                  <a:pt x="1273" y="1839"/>
                </a:lnTo>
                <a:cubicBezTo>
                  <a:pt x="1255" y="1843"/>
                  <a:pt x="1216" y="1833"/>
                  <a:pt x="1196" y="1826"/>
                </a:cubicBezTo>
                <a:lnTo>
                  <a:pt x="1153" y="1796"/>
                </a:lnTo>
                <a:cubicBezTo>
                  <a:pt x="1144" y="1775"/>
                  <a:pt x="1142" y="1735"/>
                  <a:pt x="1144" y="1701"/>
                </a:cubicBezTo>
                <a:cubicBezTo>
                  <a:pt x="1147" y="1667"/>
                  <a:pt x="1170" y="1629"/>
                  <a:pt x="1168" y="1593"/>
                </a:cubicBezTo>
                <a:cubicBezTo>
                  <a:pt x="1165" y="1557"/>
                  <a:pt x="1147" y="1539"/>
                  <a:pt x="1125" y="1486"/>
                </a:cubicBezTo>
                <a:cubicBezTo>
                  <a:pt x="1104" y="1433"/>
                  <a:pt x="1056" y="1328"/>
                  <a:pt x="1039" y="1274"/>
                </a:cubicBezTo>
                <a:cubicBezTo>
                  <a:pt x="1022" y="1221"/>
                  <a:pt x="1029" y="1199"/>
                  <a:pt x="1025" y="1163"/>
                </a:cubicBezTo>
                <a:cubicBezTo>
                  <a:pt x="1021" y="1126"/>
                  <a:pt x="1028" y="1103"/>
                  <a:pt x="1020" y="1055"/>
                </a:cubicBezTo>
                <a:lnTo>
                  <a:pt x="982" y="875"/>
                </a:lnTo>
                <a:cubicBezTo>
                  <a:pt x="967" y="872"/>
                  <a:pt x="942" y="978"/>
                  <a:pt x="930" y="1034"/>
                </a:cubicBezTo>
                <a:cubicBezTo>
                  <a:pt x="917" y="1090"/>
                  <a:pt x="907" y="1164"/>
                  <a:pt x="906" y="1210"/>
                </a:cubicBezTo>
                <a:cubicBezTo>
                  <a:pt x="906" y="1257"/>
                  <a:pt x="920" y="1270"/>
                  <a:pt x="925" y="1309"/>
                </a:cubicBezTo>
                <a:cubicBezTo>
                  <a:pt x="931" y="1349"/>
                  <a:pt x="934" y="1401"/>
                  <a:pt x="940" y="1447"/>
                </a:cubicBezTo>
                <a:cubicBezTo>
                  <a:pt x="945" y="1493"/>
                  <a:pt x="950" y="1539"/>
                  <a:pt x="959" y="1589"/>
                </a:cubicBezTo>
                <a:cubicBezTo>
                  <a:pt x="967" y="1638"/>
                  <a:pt x="982" y="1692"/>
                  <a:pt x="987" y="1744"/>
                </a:cubicBezTo>
                <a:cubicBezTo>
                  <a:pt x="993" y="1796"/>
                  <a:pt x="990" y="1848"/>
                  <a:pt x="992" y="1899"/>
                </a:cubicBezTo>
                <a:cubicBezTo>
                  <a:pt x="994" y="1949"/>
                  <a:pt x="998" y="2002"/>
                  <a:pt x="996" y="2045"/>
                </a:cubicBezTo>
                <a:cubicBezTo>
                  <a:pt x="994" y="2088"/>
                  <a:pt x="984" y="2117"/>
                  <a:pt x="982" y="2157"/>
                </a:cubicBezTo>
                <a:cubicBezTo>
                  <a:pt x="980" y="2197"/>
                  <a:pt x="993" y="2249"/>
                  <a:pt x="987" y="2282"/>
                </a:cubicBezTo>
                <a:lnTo>
                  <a:pt x="949" y="2359"/>
                </a:lnTo>
                <a:lnTo>
                  <a:pt x="944" y="2463"/>
                </a:lnTo>
                <a:cubicBezTo>
                  <a:pt x="940" y="2506"/>
                  <a:pt x="937" y="2562"/>
                  <a:pt x="920" y="2617"/>
                </a:cubicBezTo>
                <a:cubicBezTo>
                  <a:pt x="903" y="2672"/>
                  <a:pt x="853" y="2742"/>
                  <a:pt x="844" y="2794"/>
                </a:cubicBezTo>
                <a:cubicBezTo>
                  <a:pt x="835" y="2846"/>
                  <a:pt x="858" y="2898"/>
                  <a:pt x="863" y="2927"/>
                </a:cubicBezTo>
                <a:cubicBezTo>
                  <a:pt x="869" y="2956"/>
                  <a:pt x="875" y="2958"/>
                  <a:pt x="878" y="2970"/>
                </a:cubicBezTo>
                <a:lnTo>
                  <a:pt x="878" y="3000"/>
                </a:lnTo>
                <a:cubicBezTo>
                  <a:pt x="887" y="3015"/>
                  <a:pt x="915" y="3037"/>
                  <a:pt x="934" y="3061"/>
                </a:cubicBezTo>
                <a:cubicBezTo>
                  <a:pt x="953" y="3084"/>
                  <a:pt x="994" y="3126"/>
                  <a:pt x="992" y="3143"/>
                </a:cubicBezTo>
                <a:cubicBezTo>
                  <a:pt x="990" y="3160"/>
                  <a:pt x="951" y="3161"/>
                  <a:pt x="925" y="3164"/>
                </a:cubicBezTo>
                <a:cubicBezTo>
                  <a:pt x="899" y="3166"/>
                  <a:pt x="859" y="3164"/>
                  <a:pt x="835" y="3155"/>
                </a:cubicBezTo>
                <a:lnTo>
                  <a:pt x="782" y="3108"/>
                </a:lnTo>
                <a:cubicBezTo>
                  <a:pt x="772" y="3089"/>
                  <a:pt x="787" y="3069"/>
                  <a:pt x="773" y="3044"/>
                </a:cubicBezTo>
                <a:cubicBezTo>
                  <a:pt x="758" y="3019"/>
                  <a:pt x="712" y="2976"/>
                  <a:pt x="696" y="2957"/>
                </a:cubicBezTo>
                <a:lnTo>
                  <a:pt x="682" y="2927"/>
                </a:lnTo>
                <a:lnTo>
                  <a:pt x="725" y="2867"/>
                </a:lnTo>
                <a:lnTo>
                  <a:pt x="740" y="2746"/>
                </a:lnTo>
                <a:cubicBezTo>
                  <a:pt x="741" y="2709"/>
                  <a:pt x="738" y="2675"/>
                  <a:pt x="734" y="2643"/>
                </a:cubicBezTo>
                <a:cubicBezTo>
                  <a:pt x="731" y="2612"/>
                  <a:pt x="718" y="2584"/>
                  <a:pt x="715" y="2557"/>
                </a:cubicBezTo>
                <a:cubicBezTo>
                  <a:pt x="713" y="2529"/>
                  <a:pt x="716" y="2505"/>
                  <a:pt x="721" y="2480"/>
                </a:cubicBezTo>
                <a:cubicBezTo>
                  <a:pt x="725" y="2454"/>
                  <a:pt x="734" y="2428"/>
                  <a:pt x="744" y="2407"/>
                </a:cubicBezTo>
                <a:cubicBezTo>
                  <a:pt x="754" y="2386"/>
                  <a:pt x="780" y="2376"/>
                  <a:pt x="782" y="2351"/>
                </a:cubicBezTo>
                <a:lnTo>
                  <a:pt x="753" y="2256"/>
                </a:lnTo>
                <a:cubicBezTo>
                  <a:pt x="745" y="2221"/>
                  <a:pt x="739" y="2178"/>
                  <a:pt x="734" y="2139"/>
                </a:cubicBezTo>
                <a:cubicBezTo>
                  <a:pt x="730" y="2100"/>
                  <a:pt x="732" y="2063"/>
                  <a:pt x="725" y="2023"/>
                </a:cubicBezTo>
                <a:cubicBezTo>
                  <a:pt x="718" y="1984"/>
                  <a:pt x="703" y="1953"/>
                  <a:pt x="692" y="1899"/>
                </a:cubicBezTo>
                <a:cubicBezTo>
                  <a:pt x="681" y="1844"/>
                  <a:pt x="668" y="1701"/>
                  <a:pt x="658" y="1697"/>
                </a:cubicBezTo>
                <a:cubicBezTo>
                  <a:pt x="648" y="1693"/>
                  <a:pt x="635" y="1821"/>
                  <a:pt x="630" y="1873"/>
                </a:cubicBezTo>
                <a:cubicBezTo>
                  <a:pt x="626" y="1924"/>
                  <a:pt x="632" y="1949"/>
                  <a:pt x="630" y="2010"/>
                </a:cubicBezTo>
                <a:lnTo>
                  <a:pt x="620" y="2243"/>
                </a:lnTo>
                <a:cubicBezTo>
                  <a:pt x="615" y="2304"/>
                  <a:pt x="598" y="2339"/>
                  <a:pt x="596" y="2377"/>
                </a:cubicBezTo>
                <a:cubicBezTo>
                  <a:pt x="594" y="2414"/>
                  <a:pt x="607" y="2429"/>
                  <a:pt x="610" y="2467"/>
                </a:cubicBezTo>
                <a:cubicBezTo>
                  <a:pt x="614" y="2504"/>
                  <a:pt x="621" y="2555"/>
                  <a:pt x="620" y="2600"/>
                </a:cubicBezTo>
                <a:cubicBezTo>
                  <a:pt x="619" y="2646"/>
                  <a:pt x="608" y="2692"/>
                  <a:pt x="606" y="2737"/>
                </a:cubicBezTo>
                <a:cubicBezTo>
                  <a:pt x="604" y="2783"/>
                  <a:pt x="607" y="2835"/>
                  <a:pt x="610" y="2875"/>
                </a:cubicBezTo>
                <a:lnTo>
                  <a:pt x="625" y="2979"/>
                </a:lnTo>
                <a:lnTo>
                  <a:pt x="610" y="3087"/>
                </a:lnTo>
                <a:lnTo>
                  <a:pt x="596" y="3151"/>
                </a:lnTo>
                <a:cubicBezTo>
                  <a:pt x="574" y="3165"/>
                  <a:pt x="511" y="3179"/>
                  <a:pt x="482" y="3173"/>
                </a:cubicBezTo>
                <a:cubicBezTo>
                  <a:pt x="453" y="3166"/>
                  <a:pt x="432" y="3134"/>
                  <a:pt x="425" y="3112"/>
                </a:cubicBezTo>
                <a:lnTo>
                  <a:pt x="438" y="3040"/>
                </a:lnTo>
                <a:cubicBezTo>
                  <a:pt x="447" y="3014"/>
                  <a:pt x="471" y="2985"/>
                  <a:pt x="481" y="2962"/>
                </a:cubicBezTo>
                <a:cubicBezTo>
                  <a:pt x="491" y="2938"/>
                  <a:pt x="496" y="2929"/>
                  <a:pt x="496" y="2897"/>
                </a:cubicBezTo>
                <a:cubicBezTo>
                  <a:pt x="496" y="2865"/>
                  <a:pt x="491" y="2809"/>
                  <a:pt x="481" y="2767"/>
                </a:cubicBezTo>
                <a:cubicBezTo>
                  <a:pt x="471" y="2726"/>
                  <a:pt x="452" y="2689"/>
                  <a:pt x="438" y="2651"/>
                </a:cubicBezTo>
                <a:cubicBezTo>
                  <a:pt x="424" y="2612"/>
                  <a:pt x="402" y="2579"/>
                  <a:pt x="395" y="2534"/>
                </a:cubicBezTo>
                <a:cubicBezTo>
                  <a:pt x="388" y="2489"/>
                  <a:pt x="391" y="2424"/>
                  <a:pt x="395" y="2378"/>
                </a:cubicBezTo>
                <a:cubicBezTo>
                  <a:pt x="398" y="2333"/>
                  <a:pt x="411" y="2296"/>
                  <a:pt x="416" y="2260"/>
                </a:cubicBezTo>
                <a:cubicBezTo>
                  <a:pt x="420" y="2224"/>
                  <a:pt x="425" y="2203"/>
                  <a:pt x="420" y="2165"/>
                </a:cubicBezTo>
                <a:cubicBezTo>
                  <a:pt x="415" y="2127"/>
                  <a:pt x="396" y="2088"/>
                  <a:pt x="381" y="2032"/>
                </a:cubicBezTo>
                <a:cubicBezTo>
                  <a:pt x="367" y="1976"/>
                  <a:pt x="346" y="1902"/>
                  <a:pt x="334" y="1830"/>
                </a:cubicBezTo>
                <a:cubicBezTo>
                  <a:pt x="322" y="1757"/>
                  <a:pt x="313" y="1664"/>
                  <a:pt x="309" y="1600"/>
                </a:cubicBezTo>
                <a:cubicBezTo>
                  <a:pt x="304" y="1536"/>
                  <a:pt x="303" y="1501"/>
                  <a:pt x="309" y="1445"/>
                </a:cubicBezTo>
                <a:cubicBezTo>
                  <a:pt x="314" y="1388"/>
                  <a:pt x="333" y="1319"/>
                  <a:pt x="339" y="1262"/>
                </a:cubicBezTo>
                <a:cubicBezTo>
                  <a:pt x="346" y="1204"/>
                  <a:pt x="354" y="1146"/>
                  <a:pt x="348" y="1099"/>
                </a:cubicBezTo>
                <a:cubicBezTo>
                  <a:pt x="343" y="1052"/>
                  <a:pt x="315" y="1018"/>
                  <a:pt x="309" y="978"/>
                </a:cubicBezTo>
                <a:cubicBezTo>
                  <a:pt x="302" y="938"/>
                  <a:pt x="316" y="855"/>
                  <a:pt x="309" y="861"/>
                </a:cubicBezTo>
                <a:cubicBezTo>
                  <a:pt x="302" y="868"/>
                  <a:pt x="280" y="971"/>
                  <a:pt x="266" y="1017"/>
                </a:cubicBezTo>
                <a:cubicBezTo>
                  <a:pt x="251" y="1062"/>
                  <a:pt x="230" y="1101"/>
                  <a:pt x="223" y="1133"/>
                </a:cubicBezTo>
                <a:cubicBezTo>
                  <a:pt x="215" y="1166"/>
                  <a:pt x="223" y="1185"/>
                  <a:pt x="223" y="1211"/>
                </a:cubicBezTo>
                <a:cubicBezTo>
                  <a:pt x="223" y="1237"/>
                  <a:pt x="230" y="1250"/>
                  <a:pt x="223" y="1289"/>
                </a:cubicBezTo>
                <a:cubicBezTo>
                  <a:pt x="215" y="1328"/>
                  <a:pt x="187" y="1393"/>
                  <a:pt x="179" y="1445"/>
                </a:cubicBezTo>
                <a:cubicBezTo>
                  <a:pt x="172" y="1497"/>
                  <a:pt x="173" y="1558"/>
                  <a:pt x="179" y="1600"/>
                </a:cubicBezTo>
                <a:cubicBezTo>
                  <a:pt x="186" y="1642"/>
                  <a:pt x="208" y="1670"/>
                  <a:pt x="215" y="1696"/>
                </a:cubicBezTo>
                <a:cubicBezTo>
                  <a:pt x="223" y="1722"/>
                  <a:pt x="222" y="1740"/>
                  <a:pt x="223" y="1756"/>
                </a:cubicBezTo>
                <a:cubicBezTo>
                  <a:pt x="223" y="1772"/>
                  <a:pt x="229" y="1789"/>
                  <a:pt x="223" y="1795"/>
                </a:cubicBezTo>
                <a:cubicBezTo>
                  <a:pt x="216" y="1800"/>
                  <a:pt x="194" y="1804"/>
                  <a:pt x="187" y="1791"/>
                </a:cubicBezTo>
                <a:cubicBezTo>
                  <a:pt x="179" y="1778"/>
                  <a:pt x="188" y="1716"/>
                  <a:pt x="179" y="1717"/>
                </a:cubicBezTo>
                <a:cubicBezTo>
                  <a:pt x="171" y="1718"/>
                  <a:pt x="144" y="1769"/>
                  <a:pt x="136" y="1795"/>
                </a:cubicBezTo>
                <a:cubicBezTo>
                  <a:pt x="129" y="1821"/>
                  <a:pt x="141" y="1856"/>
                  <a:pt x="136" y="1873"/>
                </a:cubicBezTo>
                <a:cubicBezTo>
                  <a:pt x="132" y="1889"/>
                  <a:pt x="125" y="1894"/>
                  <a:pt x="110" y="1894"/>
                </a:cubicBezTo>
                <a:cubicBezTo>
                  <a:pt x="96" y="1894"/>
                  <a:pt x="67" y="1883"/>
                  <a:pt x="50" y="1873"/>
                </a:cubicBezTo>
                <a:cubicBezTo>
                  <a:pt x="33" y="1862"/>
                  <a:pt x="14" y="1860"/>
                  <a:pt x="7" y="1834"/>
                </a:cubicBezTo>
                <a:cubicBezTo>
                  <a:pt x="0" y="1808"/>
                  <a:pt x="0" y="1756"/>
                  <a:pt x="7" y="1717"/>
                </a:cubicBezTo>
                <a:cubicBezTo>
                  <a:pt x="14" y="1678"/>
                  <a:pt x="43" y="1646"/>
                  <a:pt x="50" y="1600"/>
                </a:cubicBezTo>
                <a:cubicBezTo>
                  <a:pt x="57" y="1555"/>
                  <a:pt x="52" y="1497"/>
                  <a:pt x="50" y="1445"/>
                </a:cubicBezTo>
                <a:cubicBezTo>
                  <a:pt x="48" y="1393"/>
                  <a:pt x="32" y="1337"/>
                  <a:pt x="39" y="1287"/>
                </a:cubicBezTo>
                <a:cubicBezTo>
                  <a:pt x="45" y="1238"/>
                  <a:pt x="77" y="1189"/>
                  <a:pt x="86" y="1150"/>
                </a:cubicBezTo>
                <a:cubicBezTo>
                  <a:pt x="95" y="1111"/>
                  <a:pt x="85" y="1123"/>
                  <a:pt x="93" y="1056"/>
                </a:cubicBezTo>
                <a:cubicBezTo>
                  <a:pt x="101" y="988"/>
                  <a:pt x="122" y="816"/>
                  <a:pt x="136" y="744"/>
                </a:cubicBezTo>
                <a:cubicBezTo>
                  <a:pt x="151" y="673"/>
                  <a:pt x="144" y="660"/>
                  <a:pt x="179" y="628"/>
                </a:cubicBezTo>
                <a:cubicBezTo>
                  <a:pt x="215" y="595"/>
                  <a:pt x="294" y="576"/>
                  <a:pt x="352" y="550"/>
                </a:cubicBezTo>
                <a:cubicBezTo>
                  <a:pt x="409" y="524"/>
                  <a:pt x="494" y="490"/>
                  <a:pt x="524" y="472"/>
                </a:cubicBezTo>
                <a:cubicBezTo>
                  <a:pt x="555" y="454"/>
                  <a:pt x="534" y="462"/>
                  <a:pt x="534" y="443"/>
                </a:cubicBezTo>
                <a:cubicBezTo>
                  <a:pt x="534" y="424"/>
                  <a:pt x="533" y="389"/>
                  <a:pt x="524" y="355"/>
                </a:cubicBezTo>
                <a:cubicBezTo>
                  <a:pt x="515" y="321"/>
                  <a:pt x="487" y="282"/>
                  <a:pt x="481" y="239"/>
                </a:cubicBezTo>
                <a:cubicBezTo>
                  <a:pt x="475" y="195"/>
                  <a:pt x="473" y="129"/>
                  <a:pt x="486" y="94"/>
                </a:cubicBezTo>
                <a:cubicBezTo>
                  <a:pt x="499" y="59"/>
                  <a:pt x="530" y="43"/>
                  <a:pt x="559" y="28"/>
                </a:cubicBezTo>
                <a:cubicBezTo>
                  <a:pt x="588" y="13"/>
                  <a:pt x="627" y="2"/>
                  <a:pt x="660" y="1"/>
                </a:cubicBezTo>
                <a:cubicBezTo>
                  <a:pt x="693" y="0"/>
                  <a:pt x="733" y="13"/>
                  <a:pt x="760" y="23"/>
                </a:cubicBezTo>
                <a:cubicBezTo>
                  <a:pt x="787" y="33"/>
                  <a:pt x="806" y="45"/>
                  <a:pt x="824" y="60"/>
                </a:cubicBezTo>
                <a:cubicBezTo>
                  <a:pt x="842" y="75"/>
                  <a:pt x="865" y="84"/>
                  <a:pt x="867" y="113"/>
                </a:cubicBezTo>
                <a:cubicBezTo>
                  <a:pt x="869" y="142"/>
                  <a:pt x="843" y="200"/>
                  <a:pt x="835" y="237"/>
                </a:cubicBezTo>
                <a:cubicBezTo>
                  <a:pt x="827" y="274"/>
                  <a:pt x="827" y="304"/>
                  <a:pt x="820" y="336"/>
                </a:cubicBezTo>
                <a:cubicBezTo>
                  <a:pt x="813" y="368"/>
                  <a:pt x="801" y="411"/>
                  <a:pt x="792" y="432"/>
                </a:cubicBezTo>
                <a:cubicBezTo>
                  <a:pt x="783" y="452"/>
                  <a:pt x="772" y="448"/>
                  <a:pt x="768" y="457"/>
                </a:cubicBezTo>
                <a:cubicBezTo>
                  <a:pt x="765" y="466"/>
                  <a:pt x="740" y="471"/>
                  <a:pt x="767" y="487"/>
                </a:cubicBezTo>
                <a:cubicBezTo>
                  <a:pt x="794" y="502"/>
                  <a:pt x="878" y="527"/>
                  <a:pt x="930" y="551"/>
                </a:cubicBezTo>
                <a:cubicBezTo>
                  <a:pt x="982" y="574"/>
                  <a:pt x="1046" y="592"/>
                  <a:pt x="1082" y="629"/>
                </a:cubicBezTo>
                <a:cubicBezTo>
                  <a:pt x="1119" y="665"/>
                  <a:pt x="1134" y="713"/>
                  <a:pt x="1149" y="771"/>
                </a:cubicBezTo>
                <a:cubicBezTo>
                  <a:pt x="1163" y="830"/>
                  <a:pt x="1164" y="931"/>
                  <a:pt x="1168" y="981"/>
                </a:cubicBezTo>
                <a:cubicBezTo>
                  <a:pt x="1171" y="1031"/>
                  <a:pt x="1165" y="1040"/>
                  <a:pt x="1173" y="1073"/>
                </a:cubicBezTo>
                <a:cubicBezTo>
                  <a:pt x="1181" y="1105"/>
                  <a:pt x="1204" y="1129"/>
                  <a:pt x="1216" y="1176"/>
                </a:cubicBezTo>
                <a:cubicBezTo>
                  <a:pt x="1228" y="1222"/>
                  <a:pt x="1236" y="1291"/>
                  <a:pt x="1244" y="1348"/>
                </a:cubicBezTo>
                <a:cubicBezTo>
                  <a:pt x="1252" y="1405"/>
                  <a:pt x="1249" y="1476"/>
                  <a:pt x="1264" y="1516"/>
                </a:cubicBezTo>
                <a:cubicBezTo>
                  <a:pt x="1278" y="1556"/>
                  <a:pt x="1314" y="1559"/>
                  <a:pt x="1330" y="1585"/>
                </a:cubicBezTo>
                <a:cubicBezTo>
                  <a:pt x="1346" y="1611"/>
                  <a:pt x="1349" y="1648"/>
                  <a:pt x="1359" y="1674"/>
                </a:cubicBezTo>
                <a:cubicBezTo>
                  <a:pt x="1369" y="1700"/>
                  <a:pt x="1392" y="1733"/>
                  <a:pt x="1392" y="1743"/>
                </a:cubicBezTo>
                <a:cubicBezTo>
                  <a:pt x="1392" y="1753"/>
                  <a:pt x="1372" y="1746"/>
                  <a:pt x="1359" y="1735"/>
                </a:cubicBezTo>
                <a:cubicBezTo>
                  <a:pt x="1345" y="1723"/>
                  <a:pt x="1318" y="1685"/>
                  <a:pt x="1311" y="1675"/>
                </a:cubicBezTo>
                <a:lnTo>
                  <a:pt x="1320" y="1675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47" name=""/>
          <p:cNvGraphicFramePr/>
          <p:nvPr/>
        </p:nvGraphicFramePr>
        <p:xfrm>
          <a:off x="5400720" y="5351400"/>
          <a:ext cx="798480" cy="95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00720" y="5351400"/>
                    <a:ext cx="798480" cy="95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049" name="" descr=""/>
          <p:cNvPicPr/>
          <p:nvPr/>
        </p:nvPicPr>
        <p:blipFill>
          <a:blip r:embed="rId3"/>
          <a:stretch/>
        </p:blipFill>
        <p:spPr>
          <a:xfrm>
            <a:off x="5270400" y="2230560"/>
            <a:ext cx="615960" cy="1027080"/>
          </a:xfrm>
          <a:prstGeom prst="rect">
            <a:avLst/>
          </a:prstGeom>
          <a:ln w="0">
            <a:noFill/>
          </a:ln>
        </p:spPr>
      </p:pic>
      <p:grpSp>
        <p:nvGrpSpPr>
          <p:cNvPr id="6050" name=""/>
          <p:cNvGrpSpPr/>
          <p:nvPr/>
        </p:nvGrpSpPr>
        <p:grpSpPr>
          <a:xfrm>
            <a:off x="998640" y="2557440"/>
            <a:ext cx="1108080" cy="1271160"/>
            <a:chOff x="998640" y="2557440"/>
            <a:chExt cx="1108080" cy="1271160"/>
          </a:xfrm>
        </p:grpSpPr>
        <p:grpSp>
          <p:nvGrpSpPr>
            <p:cNvPr id="6051" name=""/>
            <p:cNvGrpSpPr/>
            <p:nvPr/>
          </p:nvGrpSpPr>
          <p:grpSpPr>
            <a:xfrm>
              <a:off x="998640" y="2557440"/>
              <a:ext cx="1108080" cy="750600"/>
              <a:chOff x="998640" y="2557440"/>
              <a:chExt cx="1108080" cy="750600"/>
            </a:xfrm>
          </p:grpSpPr>
          <p:grpSp>
            <p:nvGrpSpPr>
              <p:cNvPr id="6052" name=""/>
              <p:cNvGrpSpPr/>
              <p:nvPr/>
            </p:nvGrpSpPr>
            <p:grpSpPr>
              <a:xfrm>
                <a:off x="998640" y="2557440"/>
                <a:ext cx="1108080" cy="657360"/>
                <a:chOff x="998640" y="2557440"/>
                <a:chExt cx="1108080" cy="657360"/>
              </a:xfrm>
            </p:grpSpPr>
            <p:sp>
              <p:nvSpPr>
                <p:cNvPr id="6053" name=""/>
                <p:cNvSpPr/>
                <p:nvPr/>
              </p:nvSpPr>
              <p:spPr>
                <a:xfrm flipH="1">
                  <a:off x="998640" y="2557440"/>
                  <a:ext cx="1108080" cy="657360"/>
                </a:xfrm>
                <a:custGeom>
                  <a:avLst/>
                  <a:gdLst/>
                  <a:ahLst/>
                  <a:rect l="l" t="t" r="r" b="b"/>
                  <a:pathLst>
                    <a:path w="1966" h="1139">
                      <a:moveTo>
                        <a:pt x="624" y="55"/>
                      </a:moveTo>
                      <a:lnTo>
                        <a:pt x="685" y="35"/>
                      </a:lnTo>
                      <a:lnTo>
                        <a:pt x="744" y="25"/>
                      </a:lnTo>
                      <a:lnTo>
                        <a:pt x="818" y="13"/>
                      </a:lnTo>
                      <a:lnTo>
                        <a:pt x="900" y="4"/>
                      </a:lnTo>
                      <a:lnTo>
                        <a:pt x="969" y="0"/>
                      </a:lnTo>
                      <a:lnTo>
                        <a:pt x="1048" y="5"/>
                      </a:lnTo>
                      <a:lnTo>
                        <a:pt x="1152" y="22"/>
                      </a:lnTo>
                      <a:lnTo>
                        <a:pt x="1282" y="48"/>
                      </a:lnTo>
                      <a:lnTo>
                        <a:pt x="1386" y="79"/>
                      </a:lnTo>
                      <a:lnTo>
                        <a:pt x="1475" y="114"/>
                      </a:lnTo>
                      <a:lnTo>
                        <a:pt x="1520" y="140"/>
                      </a:lnTo>
                      <a:lnTo>
                        <a:pt x="1559" y="163"/>
                      </a:lnTo>
                      <a:lnTo>
                        <a:pt x="1612" y="208"/>
                      </a:lnTo>
                      <a:lnTo>
                        <a:pt x="1634" y="233"/>
                      </a:lnTo>
                      <a:lnTo>
                        <a:pt x="1662" y="252"/>
                      </a:lnTo>
                      <a:lnTo>
                        <a:pt x="1705" y="269"/>
                      </a:lnTo>
                      <a:lnTo>
                        <a:pt x="1750" y="285"/>
                      </a:lnTo>
                      <a:lnTo>
                        <a:pt x="1794" y="306"/>
                      </a:lnTo>
                      <a:lnTo>
                        <a:pt x="1830" y="337"/>
                      </a:lnTo>
                      <a:lnTo>
                        <a:pt x="1851" y="363"/>
                      </a:lnTo>
                      <a:lnTo>
                        <a:pt x="1877" y="410"/>
                      </a:lnTo>
                      <a:lnTo>
                        <a:pt x="1907" y="489"/>
                      </a:lnTo>
                      <a:lnTo>
                        <a:pt x="1932" y="575"/>
                      </a:lnTo>
                      <a:lnTo>
                        <a:pt x="1953" y="648"/>
                      </a:lnTo>
                      <a:lnTo>
                        <a:pt x="1965" y="691"/>
                      </a:lnTo>
                      <a:lnTo>
                        <a:pt x="1966" y="739"/>
                      </a:lnTo>
                      <a:lnTo>
                        <a:pt x="1957" y="790"/>
                      </a:lnTo>
                      <a:lnTo>
                        <a:pt x="1946" y="851"/>
                      </a:lnTo>
                      <a:lnTo>
                        <a:pt x="1934" y="909"/>
                      </a:lnTo>
                      <a:lnTo>
                        <a:pt x="1920" y="956"/>
                      </a:lnTo>
                      <a:lnTo>
                        <a:pt x="1900" y="992"/>
                      </a:lnTo>
                      <a:lnTo>
                        <a:pt x="1880" y="1016"/>
                      </a:lnTo>
                      <a:lnTo>
                        <a:pt x="1852" y="1036"/>
                      </a:lnTo>
                      <a:lnTo>
                        <a:pt x="1829" y="1045"/>
                      </a:lnTo>
                      <a:lnTo>
                        <a:pt x="1793" y="1051"/>
                      </a:lnTo>
                      <a:lnTo>
                        <a:pt x="1711" y="1057"/>
                      </a:lnTo>
                      <a:lnTo>
                        <a:pt x="1625" y="1067"/>
                      </a:lnTo>
                      <a:lnTo>
                        <a:pt x="1539" y="1085"/>
                      </a:lnTo>
                      <a:lnTo>
                        <a:pt x="1349" y="1115"/>
                      </a:lnTo>
                      <a:lnTo>
                        <a:pt x="1239" y="1127"/>
                      </a:lnTo>
                      <a:lnTo>
                        <a:pt x="1067" y="1139"/>
                      </a:lnTo>
                      <a:lnTo>
                        <a:pt x="938" y="1127"/>
                      </a:lnTo>
                      <a:lnTo>
                        <a:pt x="790" y="1109"/>
                      </a:lnTo>
                      <a:lnTo>
                        <a:pt x="686" y="1073"/>
                      </a:lnTo>
                      <a:lnTo>
                        <a:pt x="645" y="1044"/>
                      </a:lnTo>
                      <a:lnTo>
                        <a:pt x="615" y="1023"/>
                      </a:lnTo>
                      <a:lnTo>
                        <a:pt x="575" y="1005"/>
                      </a:lnTo>
                      <a:lnTo>
                        <a:pt x="541" y="996"/>
                      </a:lnTo>
                      <a:lnTo>
                        <a:pt x="510" y="996"/>
                      </a:lnTo>
                      <a:lnTo>
                        <a:pt x="478" y="993"/>
                      </a:lnTo>
                      <a:lnTo>
                        <a:pt x="429" y="971"/>
                      </a:lnTo>
                      <a:lnTo>
                        <a:pt x="395" y="948"/>
                      </a:lnTo>
                      <a:lnTo>
                        <a:pt x="374" y="925"/>
                      </a:lnTo>
                      <a:lnTo>
                        <a:pt x="364" y="897"/>
                      </a:lnTo>
                      <a:lnTo>
                        <a:pt x="356" y="866"/>
                      </a:lnTo>
                      <a:lnTo>
                        <a:pt x="343" y="846"/>
                      </a:lnTo>
                      <a:lnTo>
                        <a:pt x="312" y="821"/>
                      </a:lnTo>
                      <a:lnTo>
                        <a:pt x="263" y="796"/>
                      </a:lnTo>
                      <a:lnTo>
                        <a:pt x="212" y="786"/>
                      </a:lnTo>
                      <a:lnTo>
                        <a:pt x="168" y="777"/>
                      </a:lnTo>
                      <a:lnTo>
                        <a:pt x="117" y="759"/>
                      </a:lnTo>
                      <a:lnTo>
                        <a:pt x="77" y="741"/>
                      </a:lnTo>
                      <a:lnTo>
                        <a:pt x="45" y="718"/>
                      </a:lnTo>
                      <a:lnTo>
                        <a:pt x="28" y="697"/>
                      </a:lnTo>
                      <a:lnTo>
                        <a:pt x="14" y="653"/>
                      </a:lnTo>
                      <a:lnTo>
                        <a:pt x="5" y="606"/>
                      </a:lnTo>
                      <a:lnTo>
                        <a:pt x="0" y="563"/>
                      </a:lnTo>
                      <a:lnTo>
                        <a:pt x="5" y="514"/>
                      </a:lnTo>
                      <a:lnTo>
                        <a:pt x="22" y="453"/>
                      </a:lnTo>
                      <a:lnTo>
                        <a:pt x="48" y="398"/>
                      </a:lnTo>
                      <a:lnTo>
                        <a:pt x="89" y="339"/>
                      </a:lnTo>
                      <a:lnTo>
                        <a:pt x="143" y="290"/>
                      </a:lnTo>
                      <a:lnTo>
                        <a:pt x="196" y="256"/>
                      </a:lnTo>
                      <a:lnTo>
                        <a:pt x="238" y="232"/>
                      </a:lnTo>
                      <a:lnTo>
                        <a:pt x="300" y="216"/>
                      </a:lnTo>
                      <a:lnTo>
                        <a:pt x="343" y="210"/>
                      </a:lnTo>
                      <a:lnTo>
                        <a:pt x="384" y="194"/>
                      </a:lnTo>
                      <a:lnTo>
                        <a:pt x="450" y="156"/>
                      </a:lnTo>
                      <a:lnTo>
                        <a:pt x="502" y="118"/>
                      </a:lnTo>
                      <a:lnTo>
                        <a:pt x="566" y="81"/>
                      </a:lnTo>
                      <a:lnTo>
                        <a:pt x="624" y="55"/>
                      </a:lnTo>
                      <a:close/>
                    </a:path>
                  </a:pathLst>
                </a:custGeom>
                <a:solidFill>
                  <a:srgbClr val="ff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054" name=""/>
                <p:cNvGrpSpPr/>
                <p:nvPr/>
              </p:nvGrpSpPr>
              <p:grpSpPr>
                <a:xfrm>
                  <a:off x="1037160" y="2576880"/>
                  <a:ext cx="1042560" cy="531000"/>
                  <a:chOff x="1037160" y="2576880"/>
                  <a:chExt cx="1042560" cy="531000"/>
                </a:xfrm>
              </p:grpSpPr>
              <p:grpSp>
                <p:nvGrpSpPr>
                  <p:cNvPr id="6055" name=""/>
                  <p:cNvGrpSpPr/>
                  <p:nvPr/>
                </p:nvGrpSpPr>
                <p:grpSpPr>
                  <a:xfrm>
                    <a:off x="1891440" y="2806200"/>
                    <a:ext cx="188280" cy="255960"/>
                    <a:chOff x="1891440" y="2806200"/>
                    <a:chExt cx="188280" cy="255960"/>
                  </a:xfrm>
                </p:grpSpPr>
                <p:sp>
                  <p:nvSpPr>
                    <p:cNvPr id="6056" name=""/>
                    <p:cNvSpPr/>
                    <p:nvPr/>
                  </p:nvSpPr>
                  <p:spPr>
                    <a:xfrm flipH="1">
                      <a:off x="1891080" y="2806200"/>
                      <a:ext cx="188280" cy="25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34" h="445">
                          <a:moveTo>
                            <a:pt x="5" y="0"/>
                          </a:moveTo>
                          <a:lnTo>
                            <a:pt x="2" y="18"/>
                          </a:lnTo>
                          <a:lnTo>
                            <a:pt x="0" y="41"/>
                          </a:lnTo>
                          <a:lnTo>
                            <a:pt x="2" y="60"/>
                          </a:lnTo>
                          <a:lnTo>
                            <a:pt x="8" y="83"/>
                          </a:lnTo>
                          <a:lnTo>
                            <a:pt x="16" y="101"/>
                          </a:lnTo>
                          <a:lnTo>
                            <a:pt x="30" y="123"/>
                          </a:lnTo>
                          <a:lnTo>
                            <a:pt x="47" y="143"/>
                          </a:lnTo>
                          <a:lnTo>
                            <a:pt x="71" y="159"/>
                          </a:lnTo>
                          <a:lnTo>
                            <a:pt x="97" y="169"/>
                          </a:lnTo>
                          <a:lnTo>
                            <a:pt x="123" y="180"/>
                          </a:lnTo>
                          <a:lnTo>
                            <a:pt x="128" y="200"/>
                          </a:lnTo>
                          <a:lnTo>
                            <a:pt x="137" y="224"/>
                          </a:lnTo>
                          <a:lnTo>
                            <a:pt x="152" y="248"/>
                          </a:lnTo>
                          <a:lnTo>
                            <a:pt x="172" y="273"/>
                          </a:lnTo>
                          <a:lnTo>
                            <a:pt x="203" y="302"/>
                          </a:lnTo>
                          <a:lnTo>
                            <a:pt x="227" y="322"/>
                          </a:lnTo>
                          <a:lnTo>
                            <a:pt x="246" y="332"/>
                          </a:lnTo>
                          <a:lnTo>
                            <a:pt x="277" y="345"/>
                          </a:lnTo>
                          <a:lnTo>
                            <a:pt x="310" y="354"/>
                          </a:lnTo>
                          <a:lnTo>
                            <a:pt x="323" y="359"/>
                          </a:lnTo>
                          <a:lnTo>
                            <a:pt x="331" y="368"/>
                          </a:lnTo>
                          <a:lnTo>
                            <a:pt x="334" y="380"/>
                          </a:lnTo>
                          <a:lnTo>
                            <a:pt x="329" y="418"/>
                          </a:lnTo>
                          <a:lnTo>
                            <a:pt x="322" y="445"/>
                          </a:lnTo>
                        </a:path>
                      </a:pathLst>
                    </a:custGeom>
                    <a:noFill/>
                    <a:ln w="12600">
                      <a:solidFill>
                        <a:srgbClr val="ff808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057" name=""/>
                    <p:cNvSpPr/>
                    <p:nvPr/>
                  </p:nvSpPr>
                  <p:spPr>
                    <a:xfrm flipH="1">
                      <a:off x="2001240" y="2837160"/>
                      <a:ext cx="10080" cy="7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26">
                          <a:moveTo>
                            <a:pt x="11" y="0"/>
                          </a:moveTo>
                          <a:lnTo>
                            <a:pt x="14" y="36"/>
                          </a:lnTo>
                          <a:lnTo>
                            <a:pt x="17" y="67"/>
                          </a:lnTo>
                          <a:lnTo>
                            <a:pt x="12" y="98"/>
                          </a:lnTo>
                          <a:lnTo>
                            <a:pt x="0" y="126"/>
                          </a:lnTo>
                        </a:path>
                      </a:pathLst>
                    </a:custGeom>
                    <a:noFill/>
                    <a:ln w="12600">
                      <a:solidFill>
                        <a:srgbClr val="ff808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5560" bIns="25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6058" name=""/>
                  <p:cNvSpPr/>
                  <p:nvPr/>
                </p:nvSpPr>
                <p:spPr>
                  <a:xfrm flipH="1">
                    <a:off x="1738080" y="2873160"/>
                    <a:ext cx="176760" cy="133560"/>
                  </a:xfrm>
                  <a:custGeom>
                    <a:avLst/>
                    <a:gdLst/>
                    <a:ahLst/>
                    <a:rect l="l" t="t" r="r" b="b"/>
                    <a:pathLst>
                      <a:path w="316" h="233">
                        <a:moveTo>
                          <a:pt x="0" y="0"/>
                        </a:moveTo>
                        <a:lnTo>
                          <a:pt x="6" y="32"/>
                        </a:lnTo>
                        <a:lnTo>
                          <a:pt x="18" y="74"/>
                        </a:lnTo>
                        <a:lnTo>
                          <a:pt x="28" y="101"/>
                        </a:lnTo>
                        <a:lnTo>
                          <a:pt x="40" y="119"/>
                        </a:lnTo>
                        <a:lnTo>
                          <a:pt x="70" y="138"/>
                        </a:lnTo>
                        <a:lnTo>
                          <a:pt x="95" y="148"/>
                        </a:lnTo>
                        <a:lnTo>
                          <a:pt x="122" y="159"/>
                        </a:lnTo>
                        <a:lnTo>
                          <a:pt x="163" y="177"/>
                        </a:lnTo>
                        <a:lnTo>
                          <a:pt x="200" y="202"/>
                        </a:lnTo>
                        <a:lnTo>
                          <a:pt x="226" y="222"/>
                        </a:lnTo>
                        <a:lnTo>
                          <a:pt x="249" y="228"/>
                        </a:lnTo>
                        <a:lnTo>
                          <a:pt x="277" y="233"/>
                        </a:lnTo>
                        <a:lnTo>
                          <a:pt x="314" y="230"/>
                        </a:lnTo>
                        <a:lnTo>
                          <a:pt x="316" y="230"/>
                        </a:lnTo>
                      </a:path>
                    </a:pathLst>
                  </a:custGeom>
                  <a:noFill/>
                  <a:ln w="12600">
                    <a:solidFill>
                      <a:srgbClr val="ff80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59" name=""/>
                  <p:cNvSpPr/>
                  <p:nvPr/>
                </p:nvSpPr>
                <p:spPr>
                  <a:xfrm flipH="1">
                    <a:off x="1781280" y="2761200"/>
                    <a:ext cx="121680" cy="34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" h="60">
                        <a:moveTo>
                          <a:pt x="0" y="60"/>
                        </a:moveTo>
                        <a:lnTo>
                          <a:pt x="28" y="42"/>
                        </a:lnTo>
                        <a:lnTo>
                          <a:pt x="53" y="26"/>
                        </a:lnTo>
                        <a:lnTo>
                          <a:pt x="88" y="11"/>
                        </a:lnTo>
                        <a:lnTo>
                          <a:pt x="119" y="5"/>
                        </a:lnTo>
                        <a:lnTo>
                          <a:pt x="153" y="0"/>
                        </a:lnTo>
                        <a:lnTo>
                          <a:pt x="185" y="3"/>
                        </a:lnTo>
                        <a:lnTo>
                          <a:pt x="216" y="11"/>
                        </a:lnTo>
                      </a:path>
                    </a:pathLst>
                  </a:custGeom>
                  <a:noFill/>
                  <a:ln w="12600">
                    <a:solidFill>
                      <a:srgbClr val="ff80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600" bIns="-12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60" name=""/>
                  <p:cNvSpPr/>
                  <p:nvPr/>
                </p:nvSpPr>
                <p:spPr>
                  <a:xfrm flipH="1">
                    <a:off x="1916640" y="2694240"/>
                    <a:ext cx="36000" cy="16488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287">
                        <a:moveTo>
                          <a:pt x="25" y="0"/>
                        </a:moveTo>
                        <a:lnTo>
                          <a:pt x="41" y="26"/>
                        </a:lnTo>
                        <a:lnTo>
                          <a:pt x="53" y="47"/>
                        </a:lnTo>
                        <a:lnTo>
                          <a:pt x="62" y="75"/>
                        </a:lnTo>
                        <a:lnTo>
                          <a:pt x="65" y="109"/>
                        </a:lnTo>
                        <a:lnTo>
                          <a:pt x="62" y="149"/>
                        </a:lnTo>
                        <a:lnTo>
                          <a:pt x="56" y="188"/>
                        </a:lnTo>
                        <a:lnTo>
                          <a:pt x="47" y="219"/>
                        </a:lnTo>
                        <a:lnTo>
                          <a:pt x="34" y="241"/>
                        </a:lnTo>
                        <a:lnTo>
                          <a:pt x="16" y="268"/>
                        </a:lnTo>
                        <a:lnTo>
                          <a:pt x="0" y="287"/>
                        </a:lnTo>
                      </a:path>
                    </a:pathLst>
                  </a:custGeom>
                  <a:noFill/>
                  <a:ln w="12600">
                    <a:solidFill>
                      <a:srgbClr val="ff80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61" name=""/>
                  <p:cNvSpPr/>
                  <p:nvPr/>
                </p:nvSpPr>
                <p:spPr>
                  <a:xfrm flipH="1">
                    <a:off x="1807200" y="2638800"/>
                    <a:ext cx="95760" cy="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169" h="138">
                        <a:moveTo>
                          <a:pt x="0" y="138"/>
                        </a:moveTo>
                        <a:lnTo>
                          <a:pt x="40" y="105"/>
                        </a:lnTo>
                        <a:lnTo>
                          <a:pt x="77" y="73"/>
                        </a:lnTo>
                        <a:lnTo>
                          <a:pt x="117" y="39"/>
                        </a:lnTo>
                        <a:lnTo>
                          <a:pt x="169" y="0"/>
                        </a:lnTo>
                      </a:path>
                    </a:pathLst>
                  </a:custGeom>
                  <a:noFill/>
                  <a:ln w="12600">
                    <a:solidFill>
                      <a:srgbClr val="ff80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400" bIns="32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62" name=""/>
                  <p:cNvSpPr/>
                  <p:nvPr/>
                </p:nvSpPr>
                <p:spPr>
                  <a:xfrm flipH="1">
                    <a:off x="1576440" y="2576880"/>
                    <a:ext cx="504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89" h="65">
                        <a:moveTo>
                          <a:pt x="0" y="65"/>
                        </a:moveTo>
                        <a:lnTo>
                          <a:pt x="34" y="37"/>
                        </a:lnTo>
                        <a:lnTo>
                          <a:pt x="89" y="0"/>
                        </a:lnTo>
                      </a:path>
                    </a:pathLst>
                  </a:custGeom>
                  <a:noFill/>
                  <a:ln w="12600">
                    <a:solidFill>
                      <a:srgbClr val="ff80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000" bIns="-9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63" name=""/>
                  <p:cNvSpPr/>
                  <p:nvPr/>
                </p:nvSpPr>
                <p:spPr>
                  <a:xfrm flipH="1">
                    <a:off x="1395000" y="2604240"/>
                    <a:ext cx="369360" cy="99360"/>
                  </a:xfrm>
                  <a:custGeom>
                    <a:avLst/>
                    <a:gdLst/>
                    <a:ahLst/>
                    <a:rect l="l" t="t" r="r" b="b"/>
                    <a:pathLst>
                      <a:path w="656" h="172">
                        <a:moveTo>
                          <a:pt x="0" y="172"/>
                        </a:moveTo>
                        <a:lnTo>
                          <a:pt x="25" y="165"/>
                        </a:lnTo>
                        <a:lnTo>
                          <a:pt x="44" y="156"/>
                        </a:lnTo>
                        <a:lnTo>
                          <a:pt x="59" y="147"/>
                        </a:lnTo>
                        <a:lnTo>
                          <a:pt x="72" y="131"/>
                        </a:lnTo>
                        <a:lnTo>
                          <a:pt x="78" y="110"/>
                        </a:lnTo>
                        <a:lnTo>
                          <a:pt x="82" y="89"/>
                        </a:lnTo>
                        <a:lnTo>
                          <a:pt x="90" y="113"/>
                        </a:lnTo>
                        <a:lnTo>
                          <a:pt x="101" y="128"/>
                        </a:lnTo>
                        <a:lnTo>
                          <a:pt x="118" y="137"/>
                        </a:lnTo>
                        <a:lnTo>
                          <a:pt x="141" y="144"/>
                        </a:lnTo>
                        <a:lnTo>
                          <a:pt x="167" y="146"/>
                        </a:lnTo>
                        <a:lnTo>
                          <a:pt x="209" y="143"/>
                        </a:lnTo>
                        <a:lnTo>
                          <a:pt x="252" y="137"/>
                        </a:lnTo>
                        <a:lnTo>
                          <a:pt x="290" y="132"/>
                        </a:lnTo>
                        <a:lnTo>
                          <a:pt x="321" y="124"/>
                        </a:lnTo>
                        <a:lnTo>
                          <a:pt x="355" y="109"/>
                        </a:lnTo>
                        <a:lnTo>
                          <a:pt x="381" y="94"/>
                        </a:lnTo>
                        <a:lnTo>
                          <a:pt x="405" y="76"/>
                        </a:lnTo>
                        <a:lnTo>
                          <a:pt x="422" y="52"/>
                        </a:lnTo>
                        <a:lnTo>
                          <a:pt x="433" y="70"/>
                        </a:lnTo>
                        <a:lnTo>
                          <a:pt x="445" y="84"/>
                        </a:lnTo>
                        <a:lnTo>
                          <a:pt x="462" y="98"/>
                        </a:lnTo>
                        <a:lnTo>
                          <a:pt x="489" y="106"/>
                        </a:lnTo>
                        <a:lnTo>
                          <a:pt x="520" y="109"/>
                        </a:lnTo>
                        <a:lnTo>
                          <a:pt x="547" y="106"/>
                        </a:lnTo>
                        <a:lnTo>
                          <a:pt x="566" y="101"/>
                        </a:lnTo>
                        <a:lnTo>
                          <a:pt x="593" y="94"/>
                        </a:lnTo>
                        <a:lnTo>
                          <a:pt x="613" y="84"/>
                        </a:lnTo>
                        <a:lnTo>
                          <a:pt x="628" y="73"/>
                        </a:lnTo>
                        <a:lnTo>
                          <a:pt x="640" y="55"/>
                        </a:lnTo>
                        <a:lnTo>
                          <a:pt x="647" y="33"/>
                        </a:lnTo>
                        <a:lnTo>
                          <a:pt x="656" y="0"/>
                        </a:lnTo>
                      </a:path>
                    </a:pathLst>
                  </a:custGeom>
                  <a:noFill/>
                  <a:ln w="12600">
                    <a:solidFill>
                      <a:srgbClr val="ff80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64" name=""/>
                  <p:cNvSpPr/>
                  <p:nvPr/>
                </p:nvSpPr>
                <p:spPr>
                  <a:xfrm flipH="1">
                    <a:off x="1388880" y="2758680"/>
                    <a:ext cx="414360" cy="83160"/>
                  </a:xfrm>
                  <a:custGeom>
                    <a:avLst/>
                    <a:gdLst/>
                    <a:ahLst/>
                    <a:rect l="l" t="t" r="r" b="b"/>
                    <a:pathLst>
                      <a:path w="736" h="144">
                        <a:moveTo>
                          <a:pt x="0" y="93"/>
                        </a:moveTo>
                        <a:lnTo>
                          <a:pt x="27" y="73"/>
                        </a:lnTo>
                        <a:lnTo>
                          <a:pt x="56" y="53"/>
                        </a:lnTo>
                        <a:lnTo>
                          <a:pt x="84" y="36"/>
                        </a:lnTo>
                        <a:lnTo>
                          <a:pt x="111" y="24"/>
                        </a:lnTo>
                        <a:lnTo>
                          <a:pt x="141" y="12"/>
                        </a:lnTo>
                        <a:lnTo>
                          <a:pt x="160" y="6"/>
                        </a:lnTo>
                        <a:lnTo>
                          <a:pt x="191" y="3"/>
                        </a:lnTo>
                        <a:lnTo>
                          <a:pt x="251" y="0"/>
                        </a:lnTo>
                        <a:lnTo>
                          <a:pt x="316" y="2"/>
                        </a:lnTo>
                        <a:lnTo>
                          <a:pt x="376" y="6"/>
                        </a:lnTo>
                        <a:lnTo>
                          <a:pt x="437" y="12"/>
                        </a:lnTo>
                        <a:lnTo>
                          <a:pt x="485" y="19"/>
                        </a:lnTo>
                        <a:lnTo>
                          <a:pt x="528" y="28"/>
                        </a:lnTo>
                        <a:lnTo>
                          <a:pt x="568" y="42"/>
                        </a:lnTo>
                        <a:lnTo>
                          <a:pt x="609" y="61"/>
                        </a:lnTo>
                        <a:lnTo>
                          <a:pt x="651" y="80"/>
                        </a:lnTo>
                        <a:lnTo>
                          <a:pt x="682" y="99"/>
                        </a:lnTo>
                        <a:lnTo>
                          <a:pt x="713" y="123"/>
                        </a:lnTo>
                        <a:lnTo>
                          <a:pt x="736" y="144"/>
                        </a:lnTo>
                      </a:path>
                    </a:pathLst>
                  </a:custGeom>
                  <a:noFill/>
                  <a:ln w="12600">
                    <a:solidFill>
                      <a:srgbClr val="ff80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360" bIns="36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65" name=""/>
                  <p:cNvSpPr/>
                  <p:nvPr/>
                </p:nvSpPr>
                <p:spPr>
                  <a:xfrm flipH="1">
                    <a:off x="1414440" y="2721960"/>
                    <a:ext cx="84600" cy="482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83">
                        <a:moveTo>
                          <a:pt x="0" y="74"/>
                        </a:moveTo>
                        <a:lnTo>
                          <a:pt x="28" y="80"/>
                        </a:lnTo>
                        <a:lnTo>
                          <a:pt x="55" y="83"/>
                        </a:lnTo>
                        <a:lnTo>
                          <a:pt x="81" y="77"/>
                        </a:lnTo>
                        <a:lnTo>
                          <a:pt x="105" y="65"/>
                        </a:lnTo>
                        <a:lnTo>
                          <a:pt x="126" y="47"/>
                        </a:lnTo>
                        <a:lnTo>
                          <a:pt x="140" y="24"/>
                        </a:lnTo>
                        <a:lnTo>
                          <a:pt x="151" y="0"/>
                        </a:lnTo>
                      </a:path>
                    </a:pathLst>
                  </a:custGeom>
                  <a:noFill/>
                  <a:ln w="12600">
                    <a:solidFill>
                      <a:srgbClr val="ff80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40" bIns="1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66" name=""/>
                  <p:cNvSpPr/>
                  <p:nvPr/>
                </p:nvSpPr>
                <p:spPr>
                  <a:xfrm flipH="1">
                    <a:off x="1294920" y="2630880"/>
                    <a:ext cx="73080" cy="182160"/>
                  </a:xfrm>
                  <a:custGeom>
                    <a:avLst/>
                    <a:gdLst/>
                    <a:ahLst/>
                    <a:rect l="l" t="t" r="r" b="b"/>
                    <a:pathLst>
                      <a:path w="130" h="316">
                        <a:moveTo>
                          <a:pt x="114" y="0"/>
                        </a:moveTo>
                        <a:lnTo>
                          <a:pt x="102" y="28"/>
                        </a:lnTo>
                        <a:lnTo>
                          <a:pt x="86" y="55"/>
                        </a:lnTo>
                        <a:lnTo>
                          <a:pt x="68" y="70"/>
                        </a:lnTo>
                        <a:lnTo>
                          <a:pt x="55" y="76"/>
                        </a:lnTo>
                        <a:lnTo>
                          <a:pt x="37" y="78"/>
                        </a:lnTo>
                        <a:lnTo>
                          <a:pt x="16" y="75"/>
                        </a:lnTo>
                        <a:lnTo>
                          <a:pt x="0" y="67"/>
                        </a:lnTo>
                        <a:lnTo>
                          <a:pt x="25" y="89"/>
                        </a:lnTo>
                        <a:lnTo>
                          <a:pt x="40" y="101"/>
                        </a:lnTo>
                        <a:lnTo>
                          <a:pt x="50" y="113"/>
                        </a:lnTo>
                        <a:lnTo>
                          <a:pt x="53" y="125"/>
                        </a:lnTo>
                        <a:lnTo>
                          <a:pt x="52" y="140"/>
                        </a:lnTo>
                        <a:lnTo>
                          <a:pt x="49" y="160"/>
                        </a:lnTo>
                        <a:lnTo>
                          <a:pt x="46" y="189"/>
                        </a:lnTo>
                        <a:lnTo>
                          <a:pt x="50" y="215"/>
                        </a:lnTo>
                        <a:lnTo>
                          <a:pt x="58" y="243"/>
                        </a:lnTo>
                        <a:lnTo>
                          <a:pt x="67" y="261"/>
                        </a:lnTo>
                        <a:lnTo>
                          <a:pt x="80" y="279"/>
                        </a:lnTo>
                        <a:lnTo>
                          <a:pt x="102" y="295"/>
                        </a:lnTo>
                        <a:lnTo>
                          <a:pt x="130" y="316"/>
                        </a:lnTo>
                      </a:path>
                    </a:pathLst>
                  </a:custGeom>
                  <a:noFill/>
                  <a:ln w="12600">
                    <a:solidFill>
                      <a:srgbClr val="ff80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67" name=""/>
                  <p:cNvSpPr/>
                  <p:nvPr/>
                </p:nvSpPr>
                <p:spPr>
                  <a:xfrm flipH="1">
                    <a:off x="1048680" y="2676960"/>
                    <a:ext cx="233280" cy="162360"/>
                  </a:xfrm>
                  <a:custGeom>
                    <a:avLst/>
                    <a:gdLst/>
                    <a:ahLst/>
                    <a:rect l="l" t="t" r="r" b="b"/>
                    <a:pathLst>
                      <a:path w="416" h="281">
                        <a:moveTo>
                          <a:pt x="93" y="0"/>
                        </a:moveTo>
                        <a:lnTo>
                          <a:pt x="84" y="20"/>
                        </a:lnTo>
                        <a:lnTo>
                          <a:pt x="71" y="40"/>
                        </a:lnTo>
                        <a:lnTo>
                          <a:pt x="56" y="57"/>
                        </a:lnTo>
                        <a:lnTo>
                          <a:pt x="31" y="76"/>
                        </a:lnTo>
                        <a:lnTo>
                          <a:pt x="0" y="97"/>
                        </a:lnTo>
                        <a:lnTo>
                          <a:pt x="25" y="100"/>
                        </a:lnTo>
                        <a:lnTo>
                          <a:pt x="53" y="104"/>
                        </a:lnTo>
                        <a:lnTo>
                          <a:pt x="74" y="110"/>
                        </a:lnTo>
                        <a:lnTo>
                          <a:pt x="90" y="117"/>
                        </a:lnTo>
                        <a:lnTo>
                          <a:pt x="102" y="126"/>
                        </a:lnTo>
                        <a:lnTo>
                          <a:pt x="114" y="143"/>
                        </a:lnTo>
                        <a:lnTo>
                          <a:pt x="124" y="159"/>
                        </a:lnTo>
                        <a:lnTo>
                          <a:pt x="130" y="178"/>
                        </a:lnTo>
                        <a:lnTo>
                          <a:pt x="133" y="209"/>
                        </a:lnTo>
                        <a:lnTo>
                          <a:pt x="130" y="264"/>
                        </a:lnTo>
                        <a:lnTo>
                          <a:pt x="144" y="248"/>
                        </a:lnTo>
                        <a:lnTo>
                          <a:pt x="163" y="233"/>
                        </a:lnTo>
                        <a:lnTo>
                          <a:pt x="182" y="220"/>
                        </a:lnTo>
                        <a:lnTo>
                          <a:pt x="206" y="208"/>
                        </a:lnTo>
                        <a:lnTo>
                          <a:pt x="228" y="205"/>
                        </a:lnTo>
                        <a:lnTo>
                          <a:pt x="255" y="202"/>
                        </a:lnTo>
                        <a:lnTo>
                          <a:pt x="284" y="206"/>
                        </a:lnTo>
                        <a:lnTo>
                          <a:pt x="314" y="214"/>
                        </a:lnTo>
                        <a:lnTo>
                          <a:pt x="333" y="221"/>
                        </a:lnTo>
                        <a:lnTo>
                          <a:pt x="357" y="233"/>
                        </a:lnTo>
                        <a:lnTo>
                          <a:pt x="376" y="246"/>
                        </a:lnTo>
                        <a:lnTo>
                          <a:pt x="416" y="281"/>
                        </a:lnTo>
                      </a:path>
                    </a:pathLst>
                  </a:custGeom>
                  <a:noFill/>
                  <a:ln w="12600">
                    <a:solidFill>
                      <a:srgbClr val="ff80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68" name=""/>
                  <p:cNvSpPr/>
                  <p:nvPr/>
                </p:nvSpPr>
                <p:spPr>
                  <a:xfrm flipH="1">
                    <a:off x="1200600" y="2799360"/>
                    <a:ext cx="87840" cy="11520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00">
                        <a:moveTo>
                          <a:pt x="22" y="0"/>
                        </a:moveTo>
                        <a:lnTo>
                          <a:pt x="11" y="27"/>
                        </a:lnTo>
                        <a:lnTo>
                          <a:pt x="3" y="50"/>
                        </a:lnTo>
                        <a:lnTo>
                          <a:pt x="0" y="72"/>
                        </a:lnTo>
                        <a:lnTo>
                          <a:pt x="5" y="97"/>
                        </a:lnTo>
                        <a:lnTo>
                          <a:pt x="16" y="129"/>
                        </a:lnTo>
                        <a:lnTo>
                          <a:pt x="31" y="169"/>
                        </a:lnTo>
                        <a:lnTo>
                          <a:pt x="40" y="183"/>
                        </a:lnTo>
                        <a:lnTo>
                          <a:pt x="51" y="192"/>
                        </a:lnTo>
                        <a:lnTo>
                          <a:pt x="64" y="195"/>
                        </a:lnTo>
                        <a:lnTo>
                          <a:pt x="103" y="200"/>
                        </a:lnTo>
                        <a:lnTo>
                          <a:pt x="156" y="195"/>
                        </a:lnTo>
                      </a:path>
                    </a:pathLst>
                  </a:custGeom>
                  <a:noFill/>
                  <a:ln w="12600">
                    <a:solidFill>
                      <a:srgbClr val="ff80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69" name=""/>
                  <p:cNvSpPr/>
                  <p:nvPr/>
                </p:nvSpPr>
                <p:spPr>
                  <a:xfrm flipH="1">
                    <a:off x="1060920" y="2887920"/>
                    <a:ext cx="131760" cy="50400"/>
                  </a:xfrm>
                  <a:custGeom>
                    <a:avLst/>
                    <a:gdLst/>
                    <a:ahLst/>
                    <a:rect l="l" t="t" r="r" b="b"/>
                    <a:pathLst>
                      <a:path w="233" h="89">
                        <a:moveTo>
                          <a:pt x="0" y="64"/>
                        </a:moveTo>
                        <a:lnTo>
                          <a:pt x="27" y="76"/>
                        </a:lnTo>
                        <a:lnTo>
                          <a:pt x="52" y="84"/>
                        </a:lnTo>
                        <a:lnTo>
                          <a:pt x="81" y="89"/>
                        </a:lnTo>
                        <a:lnTo>
                          <a:pt x="114" y="89"/>
                        </a:lnTo>
                        <a:lnTo>
                          <a:pt x="143" y="80"/>
                        </a:lnTo>
                        <a:lnTo>
                          <a:pt x="170" y="68"/>
                        </a:lnTo>
                        <a:lnTo>
                          <a:pt x="195" y="50"/>
                        </a:lnTo>
                        <a:lnTo>
                          <a:pt x="218" y="22"/>
                        </a:lnTo>
                        <a:lnTo>
                          <a:pt x="233" y="0"/>
                        </a:lnTo>
                      </a:path>
                    </a:pathLst>
                  </a:custGeom>
                  <a:noFill/>
                  <a:ln w="12600">
                    <a:solidFill>
                      <a:srgbClr val="ff80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0" bIns="3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70" name=""/>
                  <p:cNvSpPr/>
                  <p:nvPr/>
                </p:nvSpPr>
                <p:spPr>
                  <a:xfrm flipH="1">
                    <a:off x="1037160" y="2967480"/>
                    <a:ext cx="185760" cy="140400"/>
                  </a:xfrm>
                  <a:custGeom>
                    <a:avLst/>
                    <a:gdLst/>
                    <a:ahLst/>
                    <a:rect l="l" t="t" r="r" b="b"/>
                    <a:pathLst>
                      <a:path w="329" h="245">
                        <a:moveTo>
                          <a:pt x="329" y="0"/>
                        </a:moveTo>
                        <a:lnTo>
                          <a:pt x="319" y="22"/>
                        </a:lnTo>
                        <a:lnTo>
                          <a:pt x="301" y="45"/>
                        </a:lnTo>
                        <a:lnTo>
                          <a:pt x="277" y="65"/>
                        </a:lnTo>
                        <a:lnTo>
                          <a:pt x="261" y="71"/>
                        </a:lnTo>
                        <a:lnTo>
                          <a:pt x="237" y="76"/>
                        </a:lnTo>
                        <a:lnTo>
                          <a:pt x="204" y="71"/>
                        </a:lnTo>
                        <a:lnTo>
                          <a:pt x="167" y="65"/>
                        </a:lnTo>
                        <a:lnTo>
                          <a:pt x="123" y="58"/>
                        </a:lnTo>
                        <a:lnTo>
                          <a:pt x="86" y="48"/>
                        </a:lnTo>
                        <a:lnTo>
                          <a:pt x="55" y="42"/>
                        </a:lnTo>
                        <a:lnTo>
                          <a:pt x="19" y="45"/>
                        </a:lnTo>
                        <a:lnTo>
                          <a:pt x="0" y="48"/>
                        </a:lnTo>
                        <a:lnTo>
                          <a:pt x="24" y="55"/>
                        </a:lnTo>
                        <a:lnTo>
                          <a:pt x="40" y="67"/>
                        </a:lnTo>
                        <a:lnTo>
                          <a:pt x="58" y="79"/>
                        </a:lnTo>
                        <a:lnTo>
                          <a:pt x="80" y="100"/>
                        </a:lnTo>
                        <a:lnTo>
                          <a:pt x="98" y="121"/>
                        </a:lnTo>
                        <a:lnTo>
                          <a:pt x="120" y="150"/>
                        </a:lnTo>
                        <a:lnTo>
                          <a:pt x="138" y="175"/>
                        </a:lnTo>
                        <a:lnTo>
                          <a:pt x="157" y="208"/>
                        </a:lnTo>
                        <a:lnTo>
                          <a:pt x="173" y="245"/>
                        </a:lnTo>
                      </a:path>
                    </a:pathLst>
                  </a:custGeom>
                  <a:noFill/>
                  <a:ln w="12600">
                    <a:solidFill>
                      <a:srgbClr val="ff80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71" name=""/>
                  <p:cNvSpPr/>
                  <p:nvPr/>
                </p:nvSpPr>
                <p:spPr>
                  <a:xfrm flipH="1">
                    <a:off x="1213200" y="2854440"/>
                    <a:ext cx="128160" cy="235080"/>
                  </a:xfrm>
                  <a:custGeom>
                    <a:avLst/>
                    <a:gdLst/>
                    <a:ahLst/>
                    <a:rect l="l" t="t" r="r" b="b"/>
                    <a:pathLst>
                      <a:path w="228" h="407">
                        <a:moveTo>
                          <a:pt x="58" y="0"/>
                        </a:moveTo>
                        <a:lnTo>
                          <a:pt x="40" y="7"/>
                        </a:lnTo>
                        <a:lnTo>
                          <a:pt x="18" y="22"/>
                        </a:lnTo>
                        <a:lnTo>
                          <a:pt x="6" y="38"/>
                        </a:lnTo>
                        <a:lnTo>
                          <a:pt x="1" y="50"/>
                        </a:lnTo>
                        <a:lnTo>
                          <a:pt x="0" y="61"/>
                        </a:lnTo>
                        <a:lnTo>
                          <a:pt x="4" y="84"/>
                        </a:lnTo>
                        <a:lnTo>
                          <a:pt x="12" y="108"/>
                        </a:lnTo>
                        <a:lnTo>
                          <a:pt x="24" y="140"/>
                        </a:lnTo>
                        <a:lnTo>
                          <a:pt x="38" y="167"/>
                        </a:lnTo>
                        <a:lnTo>
                          <a:pt x="55" y="191"/>
                        </a:lnTo>
                        <a:lnTo>
                          <a:pt x="75" y="214"/>
                        </a:lnTo>
                        <a:lnTo>
                          <a:pt x="99" y="235"/>
                        </a:lnTo>
                        <a:lnTo>
                          <a:pt x="121" y="250"/>
                        </a:lnTo>
                        <a:lnTo>
                          <a:pt x="149" y="268"/>
                        </a:lnTo>
                        <a:lnTo>
                          <a:pt x="164" y="305"/>
                        </a:lnTo>
                        <a:lnTo>
                          <a:pt x="179" y="335"/>
                        </a:lnTo>
                        <a:lnTo>
                          <a:pt x="205" y="375"/>
                        </a:lnTo>
                        <a:lnTo>
                          <a:pt x="228" y="407"/>
                        </a:lnTo>
                      </a:path>
                    </a:pathLst>
                  </a:custGeom>
                  <a:noFill/>
                  <a:ln w="12600">
                    <a:solidFill>
                      <a:srgbClr val="ff80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6072" name=""/>
              <p:cNvGrpSpPr/>
              <p:nvPr/>
            </p:nvGrpSpPr>
            <p:grpSpPr>
              <a:xfrm>
                <a:off x="1224360" y="2971440"/>
                <a:ext cx="312120" cy="336600"/>
                <a:chOff x="1224360" y="2971440"/>
                <a:chExt cx="312120" cy="336600"/>
              </a:xfrm>
            </p:grpSpPr>
            <p:sp>
              <p:nvSpPr>
                <p:cNvPr id="6073" name=""/>
                <p:cNvSpPr/>
                <p:nvPr/>
              </p:nvSpPr>
              <p:spPr>
                <a:xfrm flipH="1">
                  <a:off x="1224000" y="2971440"/>
                  <a:ext cx="312120" cy="336600"/>
                </a:xfrm>
                <a:custGeom>
                  <a:avLst/>
                  <a:gdLst/>
                  <a:ahLst/>
                  <a:rect l="l" t="t" r="r" b="b"/>
                  <a:pathLst>
                    <a:path w="554" h="586">
                      <a:moveTo>
                        <a:pt x="114" y="319"/>
                      </a:moveTo>
                      <a:lnTo>
                        <a:pt x="89" y="310"/>
                      </a:lnTo>
                      <a:lnTo>
                        <a:pt x="64" y="298"/>
                      </a:lnTo>
                      <a:lnTo>
                        <a:pt x="50" y="285"/>
                      </a:lnTo>
                      <a:lnTo>
                        <a:pt x="37" y="266"/>
                      </a:lnTo>
                      <a:lnTo>
                        <a:pt x="24" y="246"/>
                      </a:lnTo>
                      <a:lnTo>
                        <a:pt x="12" y="221"/>
                      </a:lnTo>
                      <a:lnTo>
                        <a:pt x="5" y="196"/>
                      </a:lnTo>
                      <a:lnTo>
                        <a:pt x="0" y="166"/>
                      </a:lnTo>
                      <a:lnTo>
                        <a:pt x="2" y="138"/>
                      </a:lnTo>
                      <a:lnTo>
                        <a:pt x="9" y="113"/>
                      </a:lnTo>
                      <a:lnTo>
                        <a:pt x="25" y="85"/>
                      </a:lnTo>
                      <a:lnTo>
                        <a:pt x="40" y="66"/>
                      </a:lnTo>
                      <a:lnTo>
                        <a:pt x="62" y="43"/>
                      </a:lnTo>
                      <a:lnTo>
                        <a:pt x="82" y="25"/>
                      </a:lnTo>
                      <a:lnTo>
                        <a:pt x="104" y="14"/>
                      </a:lnTo>
                      <a:lnTo>
                        <a:pt x="130" y="6"/>
                      </a:lnTo>
                      <a:lnTo>
                        <a:pt x="158" y="0"/>
                      </a:lnTo>
                      <a:lnTo>
                        <a:pt x="199" y="0"/>
                      </a:lnTo>
                      <a:lnTo>
                        <a:pt x="249" y="4"/>
                      </a:lnTo>
                      <a:lnTo>
                        <a:pt x="291" y="12"/>
                      </a:lnTo>
                      <a:lnTo>
                        <a:pt x="331" y="23"/>
                      </a:lnTo>
                      <a:lnTo>
                        <a:pt x="379" y="43"/>
                      </a:lnTo>
                      <a:lnTo>
                        <a:pt x="414" y="62"/>
                      </a:lnTo>
                      <a:lnTo>
                        <a:pt x="444" y="83"/>
                      </a:lnTo>
                      <a:lnTo>
                        <a:pt x="468" y="108"/>
                      </a:lnTo>
                      <a:lnTo>
                        <a:pt x="492" y="145"/>
                      </a:lnTo>
                      <a:lnTo>
                        <a:pt x="514" y="175"/>
                      </a:lnTo>
                      <a:lnTo>
                        <a:pt x="531" y="209"/>
                      </a:lnTo>
                      <a:lnTo>
                        <a:pt x="542" y="243"/>
                      </a:lnTo>
                      <a:lnTo>
                        <a:pt x="553" y="286"/>
                      </a:lnTo>
                      <a:lnTo>
                        <a:pt x="554" y="329"/>
                      </a:lnTo>
                      <a:lnTo>
                        <a:pt x="548" y="371"/>
                      </a:lnTo>
                      <a:lnTo>
                        <a:pt x="539" y="405"/>
                      </a:lnTo>
                      <a:lnTo>
                        <a:pt x="524" y="430"/>
                      </a:lnTo>
                      <a:lnTo>
                        <a:pt x="506" y="448"/>
                      </a:lnTo>
                      <a:lnTo>
                        <a:pt x="481" y="468"/>
                      </a:lnTo>
                      <a:lnTo>
                        <a:pt x="443" y="496"/>
                      </a:lnTo>
                      <a:lnTo>
                        <a:pt x="411" y="518"/>
                      </a:lnTo>
                      <a:lnTo>
                        <a:pt x="370" y="546"/>
                      </a:lnTo>
                      <a:lnTo>
                        <a:pt x="331" y="564"/>
                      </a:lnTo>
                      <a:lnTo>
                        <a:pt x="297" y="573"/>
                      </a:lnTo>
                      <a:lnTo>
                        <a:pt x="254" y="583"/>
                      </a:lnTo>
                      <a:lnTo>
                        <a:pt x="217" y="586"/>
                      </a:lnTo>
                      <a:lnTo>
                        <a:pt x="178" y="583"/>
                      </a:lnTo>
                      <a:lnTo>
                        <a:pt x="146" y="575"/>
                      </a:lnTo>
                      <a:lnTo>
                        <a:pt x="119" y="561"/>
                      </a:lnTo>
                      <a:lnTo>
                        <a:pt x="92" y="543"/>
                      </a:lnTo>
                      <a:lnTo>
                        <a:pt x="67" y="515"/>
                      </a:lnTo>
                      <a:lnTo>
                        <a:pt x="52" y="492"/>
                      </a:lnTo>
                      <a:lnTo>
                        <a:pt x="39" y="469"/>
                      </a:lnTo>
                      <a:lnTo>
                        <a:pt x="34" y="440"/>
                      </a:lnTo>
                      <a:lnTo>
                        <a:pt x="37" y="408"/>
                      </a:lnTo>
                      <a:lnTo>
                        <a:pt x="43" y="374"/>
                      </a:lnTo>
                      <a:lnTo>
                        <a:pt x="53" y="347"/>
                      </a:lnTo>
                      <a:lnTo>
                        <a:pt x="68" y="332"/>
                      </a:lnTo>
                      <a:lnTo>
                        <a:pt x="89" y="323"/>
                      </a:lnTo>
                      <a:lnTo>
                        <a:pt x="114" y="319"/>
                      </a:lnTo>
                      <a:close/>
                    </a:path>
                  </a:pathLst>
                </a:custGeom>
                <a:solidFill>
                  <a:srgbClr val="a05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074" name=""/>
                <p:cNvGrpSpPr/>
                <p:nvPr/>
              </p:nvGrpSpPr>
              <p:grpSpPr>
                <a:xfrm>
                  <a:off x="1296720" y="3057480"/>
                  <a:ext cx="163080" cy="181080"/>
                  <a:chOff x="1296720" y="3057480"/>
                  <a:chExt cx="163080" cy="181080"/>
                </a:xfrm>
              </p:grpSpPr>
              <p:sp>
                <p:nvSpPr>
                  <p:cNvPr id="6075" name=""/>
                  <p:cNvSpPr/>
                  <p:nvPr/>
                </p:nvSpPr>
                <p:spPr>
                  <a:xfrm flipH="1">
                    <a:off x="1296360" y="3101400"/>
                    <a:ext cx="163080" cy="59760"/>
                  </a:xfrm>
                  <a:custGeom>
                    <a:avLst/>
                    <a:gdLst/>
                    <a:ahLst/>
                    <a:rect l="l" t="t" r="r" b="b"/>
                    <a:pathLst>
                      <a:path w="290" h="105">
                        <a:moveTo>
                          <a:pt x="290" y="0"/>
                        </a:moveTo>
                        <a:lnTo>
                          <a:pt x="279" y="16"/>
                        </a:lnTo>
                        <a:lnTo>
                          <a:pt x="259" y="40"/>
                        </a:lnTo>
                        <a:lnTo>
                          <a:pt x="236" y="61"/>
                        </a:lnTo>
                        <a:lnTo>
                          <a:pt x="210" y="77"/>
                        </a:lnTo>
                        <a:lnTo>
                          <a:pt x="184" y="87"/>
                        </a:lnTo>
                        <a:lnTo>
                          <a:pt x="156" y="95"/>
                        </a:lnTo>
                        <a:lnTo>
                          <a:pt x="128" y="102"/>
                        </a:lnTo>
                        <a:lnTo>
                          <a:pt x="109" y="105"/>
                        </a:lnTo>
                        <a:lnTo>
                          <a:pt x="74" y="102"/>
                        </a:lnTo>
                        <a:lnTo>
                          <a:pt x="41" y="99"/>
                        </a:lnTo>
                        <a:lnTo>
                          <a:pt x="0" y="93"/>
                        </a:lnTo>
                      </a:path>
                    </a:pathLst>
                  </a:custGeom>
                  <a:noFill/>
                  <a:ln w="12600">
                    <a:solidFill>
                      <a:srgbClr val="ffe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960" bIns="12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76" name=""/>
                  <p:cNvSpPr/>
                  <p:nvPr/>
                </p:nvSpPr>
                <p:spPr>
                  <a:xfrm flipH="1">
                    <a:off x="1354680" y="3057480"/>
                    <a:ext cx="16560" cy="18108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314">
                        <a:moveTo>
                          <a:pt x="0" y="0"/>
                        </a:moveTo>
                        <a:lnTo>
                          <a:pt x="9" y="23"/>
                        </a:lnTo>
                        <a:lnTo>
                          <a:pt x="21" y="57"/>
                        </a:lnTo>
                        <a:lnTo>
                          <a:pt x="25" y="84"/>
                        </a:lnTo>
                        <a:lnTo>
                          <a:pt x="28" y="102"/>
                        </a:lnTo>
                        <a:lnTo>
                          <a:pt x="22" y="121"/>
                        </a:lnTo>
                        <a:lnTo>
                          <a:pt x="11" y="145"/>
                        </a:lnTo>
                        <a:lnTo>
                          <a:pt x="5" y="160"/>
                        </a:lnTo>
                        <a:lnTo>
                          <a:pt x="2" y="177"/>
                        </a:lnTo>
                        <a:lnTo>
                          <a:pt x="6" y="192"/>
                        </a:lnTo>
                        <a:lnTo>
                          <a:pt x="16" y="210"/>
                        </a:lnTo>
                        <a:lnTo>
                          <a:pt x="24" y="226"/>
                        </a:lnTo>
                        <a:lnTo>
                          <a:pt x="30" y="237"/>
                        </a:lnTo>
                        <a:lnTo>
                          <a:pt x="25" y="246"/>
                        </a:lnTo>
                        <a:lnTo>
                          <a:pt x="18" y="265"/>
                        </a:lnTo>
                        <a:lnTo>
                          <a:pt x="9" y="289"/>
                        </a:lnTo>
                        <a:lnTo>
                          <a:pt x="2" y="314"/>
                        </a:lnTo>
                      </a:path>
                    </a:pathLst>
                  </a:custGeom>
                  <a:noFill/>
                  <a:ln w="12600">
                    <a:solidFill>
                      <a:srgbClr val="ffe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77" name=""/>
                  <p:cNvSpPr/>
                  <p:nvPr/>
                </p:nvSpPr>
                <p:spPr>
                  <a:xfrm flipH="1">
                    <a:off x="1398960" y="3098880"/>
                    <a:ext cx="27000" cy="12672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20">
                        <a:moveTo>
                          <a:pt x="0" y="0"/>
                        </a:moveTo>
                        <a:lnTo>
                          <a:pt x="16" y="16"/>
                        </a:lnTo>
                        <a:lnTo>
                          <a:pt x="27" y="30"/>
                        </a:lnTo>
                        <a:lnTo>
                          <a:pt x="37" y="53"/>
                        </a:lnTo>
                        <a:lnTo>
                          <a:pt x="44" y="80"/>
                        </a:lnTo>
                        <a:lnTo>
                          <a:pt x="49" y="116"/>
                        </a:lnTo>
                        <a:lnTo>
                          <a:pt x="46" y="145"/>
                        </a:lnTo>
                        <a:lnTo>
                          <a:pt x="40" y="174"/>
                        </a:lnTo>
                        <a:lnTo>
                          <a:pt x="28" y="198"/>
                        </a:lnTo>
                        <a:lnTo>
                          <a:pt x="10" y="220"/>
                        </a:lnTo>
                      </a:path>
                    </a:pathLst>
                  </a:custGeom>
                  <a:noFill/>
                  <a:ln w="12600">
                    <a:solidFill>
                      <a:srgbClr val="ffe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78" name=""/>
                  <p:cNvSpPr/>
                  <p:nvPr/>
                </p:nvSpPr>
                <p:spPr>
                  <a:xfrm flipH="1">
                    <a:off x="1299960" y="3151800"/>
                    <a:ext cx="51840" cy="3564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61">
                        <a:moveTo>
                          <a:pt x="0" y="0"/>
                        </a:moveTo>
                        <a:lnTo>
                          <a:pt x="28" y="6"/>
                        </a:lnTo>
                        <a:lnTo>
                          <a:pt x="49" y="14"/>
                        </a:lnTo>
                        <a:lnTo>
                          <a:pt x="65" y="24"/>
                        </a:lnTo>
                        <a:lnTo>
                          <a:pt x="81" y="45"/>
                        </a:lnTo>
                        <a:lnTo>
                          <a:pt x="94" y="61"/>
                        </a:lnTo>
                      </a:path>
                    </a:pathLst>
                  </a:custGeom>
                  <a:noFill/>
                  <a:ln w="12600">
                    <a:solidFill>
                      <a:srgbClr val="ffe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160" bIns="-11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6079" name=""/>
            <p:cNvGrpSpPr/>
            <p:nvPr/>
          </p:nvGrpSpPr>
          <p:grpSpPr>
            <a:xfrm>
              <a:off x="1369800" y="2805480"/>
              <a:ext cx="485640" cy="1023120"/>
              <a:chOff x="1369800" y="2805480"/>
              <a:chExt cx="485640" cy="1023120"/>
            </a:xfrm>
          </p:grpSpPr>
          <p:grpSp>
            <p:nvGrpSpPr>
              <p:cNvPr id="6080" name=""/>
              <p:cNvGrpSpPr/>
              <p:nvPr/>
            </p:nvGrpSpPr>
            <p:grpSpPr>
              <a:xfrm>
                <a:off x="1369800" y="2805480"/>
                <a:ext cx="485640" cy="290520"/>
                <a:chOff x="1369800" y="2805480"/>
                <a:chExt cx="485640" cy="290520"/>
              </a:xfrm>
            </p:grpSpPr>
            <p:grpSp>
              <p:nvGrpSpPr>
                <p:cNvPr id="6081" name=""/>
                <p:cNvGrpSpPr/>
                <p:nvPr/>
              </p:nvGrpSpPr>
              <p:grpSpPr>
                <a:xfrm>
                  <a:off x="1369800" y="2805480"/>
                  <a:ext cx="485640" cy="290520"/>
                  <a:chOff x="1369800" y="2805480"/>
                  <a:chExt cx="485640" cy="290520"/>
                </a:xfrm>
              </p:grpSpPr>
              <p:grpSp>
                <p:nvGrpSpPr>
                  <p:cNvPr id="6082" name=""/>
                  <p:cNvGrpSpPr/>
                  <p:nvPr/>
                </p:nvGrpSpPr>
                <p:grpSpPr>
                  <a:xfrm>
                    <a:off x="1369800" y="2805480"/>
                    <a:ext cx="485640" cy="290520"/>
                    <a:chOff x="1369800" y="2805480"/>
                    <a:chExt cx="485640" cy="290520"/>
                  </a:xfrm>
                </p:grpSpPr>
                <p:sp>
                  <p:nvSpPr>
                    <p:cNvPr id="6083" name=""/>
                    <p:cNvSpPr/>
                    <p:nvPr/>
                  </p:nvSpPr>
                  <p:spPr>
                    <a:xfrm flipH="1">
                      <a:off x="1369440" y="2805480"/>
                      <a:ext cx="485640" cy="290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2" h="505">
                          <a:moveTo>
                            <a:pt x="284" y="485"/>
                          </a:moveTo>
                          <a:lnTo>
                            <a:pt x="263" y="494"/>
                          </a:lnTo>
                          <a:lnTo>
                            <a:pt x="246" y="500"/>
                          </a:lnTo>
                          <a:lnTo>
                            <a:pt x="221" y="505"/>
                          </a:lnTo>
                          <a:lnTo>
                            <a:pt x="202" y="504"/>
                          </a:lnTo>
                          <a:lnTo>
                            <a:pt x="187" y="499"/>
                          </a:lnTo>
                          <a:lnTo>
                            <a:pt x="176" y="490"/>
                          </a:lnTo>
                          <a:lnTo>
                            <a:pt x="170" y="477"/>
                          </a:lnTo>
                          <a:lnTo>
                            <a:pt x="169" y="462"/>
                          </a:lnTo>
                          <a:lnTo>
                            <a:pt x="173" y="448"/>
                          </a:lnTo>
                          <a:lnTo>
                            <a:pt x="183" y="434"/>
                          </a:lnTo>
                          <a:lnTo>
                            <a:pt x="199" y="420"/>
                          </a:lnTo>
                          <a:lnTo>
                            <a:pt x="222" y="407"/>
                          </a:lnTo>
                          <a:lnTo>
                            <a:pt x="248" y="400"/>
                          </a:lnTo>
                          <a:lnTo>
                            <a:pt x="271" y="393"/>
                          </a:lnTo>
                          <a:lnTo>
                            <a:pt x="294" y="384"/>
                          </a:lnTo>
                          <a:lnTo>
                            <a:pt x="242" y="372"/>
                          </a:lnTo>
                          <a:lnTo>
                            <a:pt x="257" y="355"/>
                          </a:lnTo>
                          <a:lnTo>
                            <a:pt x="277" y="330"/>
                          </a:lnTo>
                          <a:lnTo>
                            <a:pt x="293" y="306"/>
                          </a:lnTo>
                          <a:lnTo>
                            <a:pt x="299" y="284"/>
                          </a:lnTo>
                          <a:lnTo>
                            <a:pt x="300" y="262"/>
                          </a:lnTo>
                          <a:lnTo>
                            <a:pt x="285" y="256"/>
                          </a:lnTo>
                          <a:lnTo>
                            <a:pt x="263" y="251"/>
                          </a:lnTo>
                          <a:lnTo>
                            <a:pt x="230" y="244"/>
                          </a:lnTo>
                          <a:lnTo>
                            <a:pt x="182" y="245"/>
                          </a:lnTo>
                          <a:lnTo>
                            <a:pt x="27" y="247"/>
                          </a:lnTo>
                          <a:lnTo>
                            <a:pt x="12" y="224"/>
                          </a:lnTo>
                          <a:lnTo>
                            <a:pt x="3" y="205"/>
                          </a:lnTo>
                          <a:lnTo>
                            <a:pt x="0" y="186"/>
                          </a:lnTo>
                          <a:lnTo>
                            <a:pt x="3" y="168"/>
                          </a:lnTo>
                          <a:lnTo>
                            <a:pt x="9" y="152"/>
                          </a:lnTo>
                          <a:lnTo>
                            <a:pt x="19" y="136"/>
                          </a:lnTo>
                          <a:lnTo>
                            <a:pt x="31" y="123"/>
                          </a:lnTo>
                          <a:lnTo>
                            <a:pt x="49" y="107"/>
                          </a:lnTo>
                          <a:lnTo>
                            <a:pt x="73" y="91"/>
                          </a:lnTo>
                          <a:lnTo>
                            <a:pt x="96" y="79"/>
                          </a:lnTo>
                          <a:lnTo>
                            <a:pt x="129" y="66"/>
                          </a:lnTo>
                          <a:lnTo>
                            <a:pt x="172" y="53"/>
                          </a:lnTo>
                          <a:lnTo>
                            <a:pt x="216" y="41"/>
                          </a:lnTo>
                          <a:lnTo>
                            <a:pt x="258" y="27"/>
                          </a:lnTo>
                          <a:lnTo>
                            <a:pt x="299" y="16"/>
                          </a:lnTo>
                          <a:lnTo>
                            <a:pt x="335" y="9"/>
                          </a:lnTo>
                          <a:lnTo>
                            <a:pt x="371" y="6"/>
                          </a:lnTo>
                          <a:lnTo>
                            <a:pt x="417" y="0"/>
                          </a:lnTo>
                          <a:lnTo>
                            <a:pt x="467" y="4"/>
                          </a:lnTo>
                          <a:lnTo>
                            <a:pt x="495" y="12"/>
                          </a:lnTo>
                          <a:lnTo>
                            <a:pt x="523" y="26"/>
                          </a:lnTo>
                          <a:lnTo>
                            <a:pt x="542" y="43"/>
                          </a:lnTo>
                          <a:lnTo>
                            <a:pt x="560" y="60"/>
                          </a:lnTo>
                          <a:lnTo>
                            <a:pt x="598" y="58"/>
                          </a:lnTo>
                          <a:lnTo>
                            <a:pt x="642" y="61"/>
                          </a:lnTo>
                          <a:lnTo>
                            <a:pt x="690" y="70"/>
                          </a:lnTo>
                          <a:lnTo>
                            <a:pt x="728" y="92"/>
                          </a:lnTo>
                          <a:lnTo>
                            <a:pt x="757" y="113"/>
                          </a:lnTo>
                          <a:lnTo>
                            <a:pt x="785" y="136"/>
                          </a:lnTo>
                          <a:lnTo>
                            <a:pt x="815" y="165"/>
                          </a:lnTo>
                          <a:lnTo>
                            <a:pt x="838" y="196"/>
                          </a:lnTo>
                          <a:lnTo>
                            <a:pt x="853" y="222"/>
                          </a:lnTo>
                          <a:lnTo>
                            <a:pt x="862" y="247"/>
                          </a:lnTo>
                          <a:lnTo>
                            <a:pt x="838" y="290"/>
                          </a:lnTo>
                          <a:lnTo>
                            <a:pt x="796" y="269"/>
                          </a:lnTo>
                          <a:lnTo>
                            <a:pt x="723" y="235"/>
                          </a:lnTo>
                          <a:lnTo>
                            <a:pt x="698" y="238"/>
                          </a:lnTo>
                          <a:lnTo>
                            <a:pt x="664" y="248"/>
                          </a:lnTo>
                          <a:lnTo>
                            <a:pt x="628" y="275"/>
                          </a:lnTo>
                          <a:lnTo>
                            <a:pt x="591" y="309"/>
                          </a:lnTo>
                          <a:lnTo>
                            <a:pt x="566" y="347"/>
                          </a:lnTo>
                          <a:lnTo>
                            <a:pt x="525" y="405"/>
                          </a:lnTo>
                          <a:lnTo>
                            <a:pt x="284" y="485"/>
                          </a:lnTo>
                          <a:close/>
                        </a:path>
                      </a:pathLst>
                    </a:custGeom>
                    <a:solidFill>
                      <a:srgbClr val="e0e0e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084" name=""/>
                    <p:cNvSpPr/>
                    <p:nvPr/>
                  </p:nvSpPr>
                  <p:spPr>
                    <a:xfrm flipH="1">
                      <a:off x="1463400" y="2855880"/>
                      <a:ext cx="314280" cy="140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58" h="244">
                          <a:moveTo>
                            <a:pt x="0" y="124"/>
                          </a:moveTo>
                          <a:lnTo>
                            <a:pt x="13" y="94"/>
                          </a:lnTo>
                          <a:lnTo>
                            <a:pt x="28" y="73"/>
                          </a:lnTo>
                          <a:lnTo>
                            <a:pt x="49" y="54"/>
                          </a:lnTo>
                          <a:lnTo>
                            <a:pt x="72" y="40"/>
                          </a:lnTo>
                          <a:lnTo>
                            <a:pt x="99" y="28"/>
                          </a:lnTo>
                          <a:lnTo>
                            <a:pt x="131" y="14"/>
                          </a:lnTo>
                          <a:lnTo>
                            <a:pt x="168" y="5"/>
                          </a:lnTo>
                          <a:lnTo>
                            <a:pt x="215" y="2"/>
                          </a:lnTo>
                          <a:lnTo>
                            <a:pt x="278" y="0"/>
                          </a:lnTo>
                          <a:lnTo>
                            <a:pt x="359" y="2"/>
                          </a:lnTo>
                          <a:lnTo>
                            <a:pt x="405" y="8"/>
                          </a:lnTo>
                          <a:lnTo>
                            <a:pt x="434" y="19"/>
                          </a:lnTo>
                          <a:lnTo>
                            <a:pt x="466" y="33"/>
                          </a:lnTo>
                          <a:lnTo>
                            <a:pt x="501" y="48"/>
                          </a:lnTo>
                          <a:lnTo>
                            <a:pt x="531" y="61"/>
                          </a:lnTo>
                          <a:lnTo>
                            <a:pt x="558" y="75"/>
                          </a:lnTo>
                          <a:lnTo>
                            <a:pt x="554" y="85"/>
                          </a:lnTo>
                          <a:lnTo>
                            <a:pt x="544" y="97"/>
                          </a:lnTo>
                          <a:lnTo>
                            <a:pt x="532" y="107"/>
                          </a:lnTo>
                          <a:lnTo>
                            <a:pt x="334" y="244"/>
                          </a:lnTo>
                          <a:lnTo>
                            <a:pt x="168" y="238"/>
                          </a:lnTo>
                          <a:lnTo>
                            <a:pt x="165" y="180"/>
                          </a:lnTo>
                          <a:lnTo>
                            <a:pt x="153" y="168"/>
                          </a:lnTo>
                          <a:lnTo>
                            <a:pt x="134" y="156"/>
                          </a:lnTo>
                          <a:lnTo>
                            <a:pt x="110" y="147"/>
                          </a:lnTo>
                          <a:lnTo>
                            <a:pt x="75" y="140"/>
                          </a:lnTo>
                          <a:lnTo>
                            <a:pt x="28" y="131"/>
                          </a:lnTo>
                          <a:lnTo>
                            <a:pt x="0" y="124"/>
                          </a:lnTo>
                          <a:close/>
                        </a:path>
                      </a:pathLst>
                    </a:custGeom>
                    <a:solidFill>
                      <a:srgbClr val="8080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6085" name=""/>
                  <p:cNvSpPr/>
                  <p:nvPr/>
                </p:nvSpPr>
                <p:spPr>
                  <a:xfrm flipH="1">
                    <a:off x="1629000" y="2911320"/>
                    <a:ext cx="47160" cy="28800"/>
                  </a:xfrm>
                  <a:prstGeom prst="ellipse">
                    <a:avLst/>
                  </a:pr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086" name=""/>
                <p:cNvGrpSpPr/>
                <p:nvPr/>
              </p:nvGrpSpPr>
              <p:grpSpPr>
                <a:xfrm>
                  <a:off x="1389960" y="2809800"/>
                  <a:ext cx="445320" cy="116640"/>
                  <a:chOff x="1389960" y="2809800"/>
                  <a:chExt cx="445320" cy="116640"/>
                </a:xfrm>
              </p:grpSpPr>
              <p:sp>
                <p:nvSpPr>
                  <p:cNvPr id="6087" name=""/>
                  <p:cNvSpPr/>
                  <p:nvPr/>
                </p:nvSpPr>
                <p:spPr>
                  <a:xfrm flipH="1">
                    <a:off x="1776960" y="2910240"/>
                    <a:ext cx="58320" cy="16200"/>
                  </a:xfrm>
                  <a:prstGeom prst="line">
                    <a:avLst/>
                  </a:prstGeom>
                  <a:ln w="6480">
                    <a:solidFill>
                      <a:srgbClr val="c06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88" name=""/>
                  <p:cNvSpPr/>
                  <p:nvPr/>
                </p:nvSpPr>
                <p:spPr>
                  <a:xfrm flipH="1">
                    <a:off x="1763640" y="2869920"/>
                    <a:ext cx="49320" cy="28440"/>
                  </a:xfrm>
                  <a:prstGeom prst="line">
                    <a:avLst/>
                  </a:prstGeom>
                  <a:ln w="6480">
                    <a:solidFill>
                      <a:srgbClr val="c06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360" bIns="-18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89" name=""/>
                  <p:cNvSpPr/>
                  <p:nvPr/>
                </p:nvSpPr>
                <p:spPr>
                  <a:xfrm flipH="1">
                    <a:off x="1742040" y="2840760"/>
                    <a:ext cx="24480" cy="41400"/>
                  </a:xfrm>
                  <a:prstGeom prst="line">
                    <a:avLst/>
                  </a:prstGeom>
                  <a:ln w="6480">
                    <a:solidFill>
                      <a:srgbClr val="c06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400" bIns="-5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90" name=""/>
                  <p:cNvSpPr/>
                  <p:nvPr/>
                </p:nvSpPr>
                <p:spPr>
                  <a:xfrm flipH="1">
                    <a:off x="1692360" y="2826000"/>
                    <a:ext cx="21240" cy="38160"/>
                  </a:xfrm>
                  <a:prstGeom prst="line">
                    <a:avLst/>
                  </a:prstGeom>
                  <a:ln w="6480">
                    <a:solidFill>
                      <a:srgbClr val="c06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91" name=""/>
                  <p:cNvSpPr/>
                  <p:nvPr/>
                </p:nvSpPr>
                <p:spPr>
                  <a:xfrm flipH="1">
                    <a:off x="1655280" y="2810880"/>
                    <a:ext cx="1080" cy="45720"/>
                  </a:xfrm>
                  <a:prstGeom prst="line">
                    <a:avLst/>
                  </a:prstGeom>
                  <a:ln w="6480">
                    <a:solidFill>
                      <a:srgbClr val="c06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" bIns="-1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92" name=""/>
                  <p:cNvSpPr/>
                  <p:nvPr/>
                </p:nvSpPr>
                <p:spPr>
                  <a:xfrm>
                    <a:off x="1604880" y="2809800"/>
                    <a:ext cx="13320" cy="50760"/>
                  </a:xfrm>
                  <a:prstGeom prst="line">
                    <a:avLst/>
                  </a:prstGeom>
                  <a:ln w="6480">
                    <a:solidFill>
                      <a:srgbClr val="c06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" bIns="3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93" name=""/>
                  <p:cNvSpPr/>
                  <p:nvPr/>
                </p:nvSpPr>
                <p:spPr>
                  <a:xfrm>
                    <a:off x="1560240" y="2824920"/>
                    <a:ext cx="15840" cy="27360"/>
                  </a:xfrm>
                  <a:prstGeom prst="line">
                    <a:avLst/>
                  </a:prstGeom>
                  <a:ln w="6480">
                    <a:solidFill>
                      <a:srgbClr val="c06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440" bIns="-19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94" name=""/>
                  <p:cNvSpPr/>
                  <p:nvPr/>
                </p:nvSpPr>
                <p:spPr>
                  <a:xfrm>
                    <a:off x="1521360" y="2840760"/>
                    <a:ext cx="15480" cy="18360"/>
                  </a:xfrm>
                  <a:prstGeom prst="line">
                    <a:avLst/>
                  </a:prstGeom>
                  <a:ln w="6480">
                    <a:solidFill>
                      <a:srgbClr val="c06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95" name=""/>
                  <p:cNvSpPr/>
                  <p:nvPr/>
                </p:nvSpPr>
                <p:spPr>
                  <a:xfrm>
                    <a:off x="1470240" y="2849040"/>
                    <a:ext cx="30240" cy="28440"/>
                  </a:xfrm>
                  <a:prstGeom prst="line">
                    <a:avLst/>
                  </a:prstGeom>
                  <a:ln w="6480">
                    <a:solidFill>
                      <a:srgbClr val="c06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360" bIns="-18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96" name=""/>
                  <p:cNvSpPr/>
                  <p:nvPr/>
                </p:nvSpPr>
                <p:spPr>
                  <a:xfrm>
                    <a:off x="1428480" y="2873160"/>
                    <a:ext cx="30240" cy="22680"/>
                  </a:xfrm>
                  <a:prstGeom prst="line">
                    <a:avLst/>
                  </a:prstGeom>
                  <a:ln w="6480">
                    <a:solidFill>
                      <a:srgbClr val="c06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120" bIns="-24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97" name=""/>
                  <p:cNvSpPr/>
                  <p:nvPr/>
                </p:nvSpPr>
                <p:spPr>
                  <a:xfrm>
                    <a:off x="1389960" y="2905560"/>
                    <a:ext cx="64080" cy="10440"/>
                  </a:xfrm>
                  <a:prstGeom prst="line">
                    <a:avLst/>
                  </a:prstGeom>
                  <a:ln w="6480">
                    <a:solidFill>
                      <a:srgbClr val="c06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360" bIns="-36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6098" name=""/>
              <p:cNvGrpSpPr/>
              <p:nvPr/>
            </p:nvGrpSpPr>
            <p:grpSpPr>
              <a:xfrm>
                <a:off x="1431360" y="2910240"/>
                <a:ext cx="322920" cy="918360"/>
                <a:chOff x="1431360" y="2910240"/>
                <a:chExt cx="322920" cy="918360"/>
              </a:xfrm>
            </p:grpSpPr>
            <p:grpSp>
              <p:nvGrpSpPr>
                <p:cNvPr id="6099" name=""/>
                <p:cNvGrpSpPr/>
                <p:nvPr/>
              </p:nvGrpSpPr>
              <p:grpSpPr>
                <a:xfrm>
                  <a:off x="1431360" y="2910240"/>
                  <a:ext cx="322920" cy="918360"/>
                  <a:chOff x="1431360" y="2910240"/>
                  <a:chExt cx="322920" cy="918360"/>
                </a:xfrm>
              </p:grpSpPr>
              <p:grpSp>
                <p:nvGrpSpPr>
                  <p:cNvPr id="6100" name=""/>
                  <p:cNvGrpSpPr/>
                  <p:nvPr/>
                </p:nvGrpSpPr>
                <p:grpSpPr>
                  <a:xfrm>
                    <a:off x="1431360" y="2910240"/>
                    <a:ext cx="322920" cy="918360"/>
                    <a:chOff x="1431360" y="2910240"/>
                    <a:chExt cx="322920" cy="918360"/>
                  </a:xfrm>
                </p:grpSpPr>
                <p:grpSp>
                  <p:nvGrpSpPr>
                    <p:cNvPr id="6101" name=""/>
                    <p:cNvGrpSpPr/>
                    <p:nvPr/>
                  </p:nvGrpSpPr>
                  <p:grpSpPr>
                    <a:xfrm>
                      <a:off x="1431360" y="2985120"/>
                      <a:ext cx="322920" cy="843120"/>
                      <a:chOff x="1431360" y="2985120"/>
                      <a:chExt cx="322920" cy="843120"/>
                    </a:xfrm>
                  </p:grpSpPr>
                  <p:sp>
                    <p:nvSpPr>
                      <p:cNvPr id="6102" name=""/>
                      <p:cNvSpPr/>
                      <p:nvPr/>
                    </p:nvSpPr>
                    <p:spPr>
                      <a:xfrm flipH="1">
                        <a:off x="1431360" y="2985120"/>
                        <a:ext cx="321120" cy="843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69" h="1462">
                            <a:moveTo>
                              <a:pt x="257" y="0"/>
                            </a:moveTo>
                            <a:lnTo>
                              <a:pt x="226" y="3"/>
                            </a:lnTo>
                            <a:lnTo>
                              <a:pt x="193" y="9"/>
                            </a:lnTo>
                            <a:lnTo>
                              <a:pt x="161" y="17"/>
                            </a:lnTo>
                            <a:lnTo>
                              <a:pt x="135" y="28"/>
                            </a:lnTo>
                            <a:lnTo>
                              <a:pt x="119" y="40"/>
                            </a:lnTo>
                            <a:lnTo>
                              <a:pt x="108" y="51"/>
                            </a:lnTo>
                            <a:lnTo>
                              <a:pt x="96" y="76"/>
                            </a:lnTo>
                            <a:lnTo>
                              <a:pt x="86" y="97"/>
                            </a:lnTo>
                            <a:lnTo>
                              <a:pt x="73" y="133"/>
                            </a:lnTo>
                            <a:lnTo>
                              <a:pt x="55" y="167"/>
                            </a:lnTo>
                            <a:lnTo>
                              <a:pt x="37" y="195"/>
                            </a:lnTo>
                            <a:lnTo>
                              <a:pt x="23" y="215"/>
                            </a:lnTo>
                            <a:lnTo>
                              <a:pt x="10" y="241"/>
                            </a:lnTo>
                            <a:lnTo>
                              <a:pt x="1" y="272"/>
                            </a:lnTo>
                            <a:lnTo>
                              <a:pt x="0" y="298"/>
                            </a:lnTo>
                            <a:lnTo>
                              <a:pt x="4" y="337"/>
                            </a:lnTo>
                            <a:lnTo>
                              <a:pt x="10" y="366"/>
                            </a:lnTo>
                            <a:lnTo>
                              <a:pt x="20" y="396"/>
                            </a:lnTo>
                            <a:lnTo>
                              <a:pt x="31" y="416"/>
                            </a:lnTo>
                            <a:lnTo>
                              <a:pt x="47" y="440"/>
                            </a:lnTo>
                            <a:lnTo>
                              <a:pt x="71" y="464"/>
                            </a:lnTo>
                            <a:lnTo>
                              <a:pt x="89" y="480"/>
                            </a:lnTo>
                            <a:lnTo>
                              <a:pt x="113" y="484"/>
                            </a:lnTo>
                            <a:lnTo>
                              <a:pt x="155" y="489"/>
                            </a:lnTo>
                            <a:lnTo>
                              <a:pt x="180" y="486"/>
                            </a:lnTo>
                            <a:lnTo>
                              <a:pt x="171" y="523"/>
                            </a:lnTo>
                            <a:lnTo>
                              <a:pt x="164" y="551"/>
                            </a:lnTo>
                            <a:lnTo>
                              <a:pt x="157" y="583"/>
                            </a:lnTo>
                            <a:lnTo>
                              <a:pt x="152" y="617"/>
                            </a:lnTo>
                            <a:lnTo>
                              <a:pt x="154" y="643"/>
                            </a:lnTo>
                            <a:lnTo>
                              <a:pt x="161" y="662"/>
                            </a:lnTo>
                            <a:lnTo>
                              <a:pt x="180" y="690"/>
                            </a:lnTo>
                            <a:lnTo>
                              <a:pt x="203" y="727"/>
                            </a:lnTo>
                            <a:lnTo>
                              <a:pt x="220" y="755"/>
                            </a:lnTo>
                            <a:lnTo>
                              <a:pt x="237" y="778"/>
                            </a:lnTo>
                            <a:lnTo>
                              <a:pt x="250" y="812"/>
                            </a:lnTo>
                            <a:lnTo>
                              <a:pt x="262" y="861"/>
                            </a:lnTo>
                            <a:lnTo>
                              <a:pt x="274" y="913"/>
                            </a:lnTo>
                            <a:lnTo>
                              <a:pt x="281" y="949"/>
                            </a:lnTo>
                            <a:lnTo>
                              <a:pt x="287" y="995"/>
                            </a:lnTo>
                            <a:lnTo>
                              <a:pt x="291" y="1042"/>
                            </a:lnTo>
                            <a:lnTo>
                              <a:pt x="299" y="1121"/>
                            </a:lnTo>
                            <a:lnTo>
                              <a:pt x="308" y="1228"/>
                            </a:lnTo>
                            <a:lnTo>
                              <a:pt x="314" y="1322"/>
                            </a:lnTo>
                            <a:lnTo>
                              <a:pt x="321" y="1399"/>
                            </a:lnTo>
                            <a:lnTo>
                              <a:pt x="324" y="1462"/>
                            </a:lnTo>
                            <a:lnTo>
                              <a:pt x="569" y="1462"/>
                            </a:lnTo>
                            <a:lnTo>
                              <a:pt x="559" y="1428"/>
                            </a:lnTo>
                            <a:lnTo>
                              <a:pt x="551" y="1393"/>
                            </a:lnTo>
                            <a:lnTo>
                              <a:pt x="545" y="1360"/>
                            </a:lnTo>
                            <a:lnTo>
                              <a:pt x="537" y="1262"/>
                            </a:lnTo>
                            <a:lnTo>
                              <a:pt x="529" y="1145"/>
                            </a:lnTo>
                            <a:lnTo>
                              <a:pt x="523" y="1053"/>
                            </a:lnTo>
                            <a:lnTo>
                              <a:pt x="508" y="971"/>
                            </a:lnTo>
                            <a:lnTo>
                              <a:pt x="489" y="863"/>
                            </a:lnTo>
                            <a:lnTo>
                              <a:pt x="474" y="753"/>
                            </a:lnTo>
                            <a:lnTo>
                              <a:pt x="460" y="634"/>
                            </a:lnTo>
                            <a:lnTo>
                              <a:pt x="447" y="548"/>
                            </a:lnTo>
                            <a:lnTo>
                              <a:pt x="437" y="514"/>
                            </a:lnTo>
                            <a:lnTo>
                              <a:pt x="426" y="478"/>
                            </a:lnTo>
                            <a:lnTo>
                              <a:pt x="417" y="449"/>
                            </a:lnTo>
                            <a:lnTo>
                              <a:pt x="414" y="415"/>
                            </a:lnTo>
                            <a:lnTo>
                              <a:pt x="414" y="367"/>
                            </a:lnTo>
                            <a:lnTo>
                              <a:pt x="408" y="318"/>
                            </a:lnTo>
                            <a:lnTo>
                              <a:pt x="396" y="260"/>
                            </a:lnTo>
                            <a:lnTo>
                              <a:pt x="379" y="184"/>
                            </a:lnTo>
                            <a:lnTo>
                              <a:pt x="364" y="124"/>
                            </a:lnTo>
                            <a:lnTo>
                              <a:pt x="355" y="104"/>
                            </a:lnTo>
                            <a:lnTo>
                              <a:pt x="338" y="78"/>
                            </a:lnTo>
                            <a:lnTo>
                              <a:pt x="309" y="43"/>
                            </a:lnTo>
                            <a:lnTo>
                              <a:pt x="280" y="17"/>
                            </a:lnTo>
                            <a:lnTo>
                              <a:pt x="257" y="0"/>
                            </a:lnTo>
                            <a:close/>
                          </a:path>
                        </a:pathLst>
                      </a:custGeom>
                      <a:solidFill>
                        <a:srgbClr val="ffff4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103" name=""/>
                      <p:cNvSpPr/>
                      <p:nvPr/>
                    </p:nvSpPr>
                    <p:spPr>
                      <a:xfrm flipH="1">
                        <a:off x="1670760" y="3013560"/>
                        <a:ext cx="83160" cy="84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49" h="146">
                            <a:moveTo>
                              <a:pt x="149" y="0"/>
                            </a:moveTo>
                            <a:lnTo>
                              <a:pt x="128" y="15"/>
                            </a:lnTo>
                            <a:lnTo>
                              <a:pt x="115" y="22"/>
                            </a:lnTo>
                            <a:lnTo>
                              <a:pt x="93" y="31"/>
                            </a:lnTo>
                            <a:lnTo>
                              <a:pt x="73" y="37"/>
                            </a:lnTo>
                            <a:lnTo>
                              <a:pt x="54" y="39"/>
                            </a:lnTo>
                            <a:lnTo>
                              <a:pt x="36" y="42"/>
                            </a:lnTo>
                            <a:lnTo>
                              <a:pt x="25" y="48"/>
                            </a:lnTo>
                            <a:lnTo>
                              <a:pt x="16" y="61"/>
                            </a:lnTo>
                            <a:lnTo>
                              <a:pt x="8" y="72"/>
                            </a:lnTo>
                            <a:lnTo>
                              <a:pt x="3" y="82"/>
                            </a:lnTo>
                            <a:lnTo>
                              <a:pt x="0" y="96"/>
                            </a:lnTo>
                            <a:lnTo>
                              <a:pt x="0" y="107"/>
                            </a:lnTo>
                            <a:lnTo>
                              <a:pt x="3" y="121"/>
                            </a:lnTo>
                            <a:lnTo>
                              <a:pt x="8" y="136"/>
                            </a:lnTo>
                            <a:lnTo>
                              <a:pt x="14" y="143"/>
                            </a:lnTo>
                            <a:lnTo>
                              <a:pt x="23" y="146"/>
                            </a:lnTo>
                            <a:lnTo>
                              <a:pt x="40" y="143"/>
                            </a:lnTo>
                            <a:lnTo>
                              <a:pt x="54" y="141"/>
                            </a:lnTo>
                            <a:lnTo>
                              <a:pt x="68" y="144"/>
                            </a:lnTo>
                            <a:lnTo>
                              <a:pt x="76" y="131"/>
                            </a:lnTo>
                            <a:lnTo>
                              <a:pt x="85" y="116"/>
                            </a:lnTo>
                            <a:lnTo>
                              <a:pt x="93" y="106"/>
                            </a:lnTo>
                            <a:lnTo>
                              <a:pt x="101" y="95"/>
                            </a:lnTo>
                            <a:lnTo>
                              <a:pt x="110" y="85"/>
                            </a:lnTo>
                            <a:lnTo>
                              <a:pt x="109" y="76"/>
                            </a:lnTo>
                            <a:lnTo>
                              <a:pt x="111" y="62"/>
                            </a:lnTo>
                            <a:lnTo>
                              <a:pt x="114" y="47"/>
                            </a:lnTo>
                            <a:lnTo>
                              <a:pt x="122" y="36"/>
                            </a:lnTo>
                            <a:lnTo>
                              <a:pt x="133" y="22"/>
                            </a:lnTo>
                            <a:lnTo>
                              <a:pt x="149" y="0"/>
                            </a:lnTo>
                            <a:close/>
                          </a:path>
                        </a:pathLst>
                      </a:custGeom>
                      <a:solidFill>
                        <a:srgbClr val="ffe0c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7440" bIns="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6104" name=""/>
                    <p:cNvSpPr/>
                    <p:nvPr/>
                  </p:nvSpPr>
                  <p:spPr>
                    <a:xfrm flipH="1">
                      <a:off x="1450080" y="2910240"/>
                      <a:ext cx="222840" cy="91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95" h="1593">
                          <a:moveTo>
                            <a:pt x="346" y="6"/>
                          </a:moveTo>
                          <a:lnTo>
                            <a:pt x="332" y="3"/>
                          </a:lnTo>
                          <a:lnTo>
                            <a:pt x="318" y="1"/>
                          </a:lnTo>
                          <a:lnTo>
                            <a:pt x="302" y="0"/>
                          </a:lnTo>
                          <a:lnTo>
                            <a:pt x="288" y="2"/>
                          </a:lnTo>
                          <a:lnTo>
                            <a:pt x="275" y="6"/>
                          </a:lnTo>
                          <a:lnTo>
                            <a:pt x="261" y="16"/>
                          </a:lnTo>
                          <a:lnTo>
                            <a:pt x="241" y="30"/>
                          </a:lnTo>
                          <a:lnTo>
                            <a:pt x="223" y="46"/>
                          </a:lnTo>
                          <a:lnTo>
                            <a:pt x="205" y="67"/>
                          </a:lnTo>
                          <a:lnTo>
                            <a:pt x="193" y="84"/>
                          </a:lnTo>
                          <a:lnTo>
                            <a:pt x="184" y="102"/>
                          </a:lnTo>
                          <a:lnTo>
                            <a:pt x="174" y="122"/>
                          </a:lnTo>
                          <a:lnTo>
                            <a:pt x="165" y="136"/>
                          </a:lnTo>
                          <a:lnTo>
                            <a:pt x="150" y="148"/>
                          </a:lnTo>
                          <a:lnTo>
                            <a:pt x="134" y="159"/>
                          </a:lnTo>
                          <a:lnTo>
                            <a:pt x="125" y="156"/>
                          </a:lnTo>
                          <a:lnTo>
                            <a:pt x="111" y="154"/>
                          </a:lnTo>
                          <a:lnTo>
                            <a:pt x="98" y="153"/>
                          </a:lnTo>
                          <a:lnTo>
                            <a:pt x="86" y="154"/>
                          </a:lnTo>
                          <a:lnTo>
                            <a:pt x="69" y="159"/>
                          </a:lnTo>
                          <a:lnTo>
                            <a:pt x="52" y="167"/>
                          </a:lnTo>
                          <a:lnTo>
                            <a:pt x="37" y="177"/>
                          </a:lnTo>
                          <a:lnTo>
                            <a:pt x="26" y="186"/>
                          </a:lnTo>
                          <a:lnTo>
                            <a:pt x="17" y="199"/>
                          </a:lnTo>
                          <a:lnTo>
                            <a:pt x="11" y="214"/>
                          </a:lnTo>
                          <a:lnTo>
                            <a:pt x="8" y="229"/>
                          </a:lnTo>
                          <a:lnTo>
                            <a:pt x="1" y="322"/>
                          </a:lnTo>
                          <a:lnTo>
                            <a:pt x="0" y="422"/>
                          </a:lnTo>
                          <a:lnTo>
                            <a:pt x="80" y="554"/>
                          </a:lnTo>
                          <a:lnTo>
                            <a:pt x="84" y="586"/>
                          </a:lnTo>
                          <a:lnTo>
                            <a:pt x="55" y="593"/>
                          </a:lnTo>
                          <a:lnTo>
                            <a:pt x="78" y="645"/>
                          </a:lnTo>
                          <a:lnTo>
                            <a:pt x="98" y="706"/>
                          </a:lnTo>
                          <a:lnTo>
                            <a:pt x="114" y="753"/>
                          </a:lnTo>
                          <a:lnTo>
                            <a:pt x="137" y="818"/>
                          </a:lnTo>
                          <a:lnTo>
                            <a:pt x="153" y="897"/>
                          </a:lnTo>
                          <a:lnTo>
                            <a:pt x="168" y="976"/>
                          </a:lnTo>
                          <a:lnTo>
                            <a:pt x="179" y="1032"/>
                          </a:lnTo>
                          <a:lnTo>
                            <a:pt x="196" y="1076"/>
                          </a:lnTo>
                          <a:lnTo>
                            <a:pt x="212" y="1123"/>
                          </a:lnTo>
                          <a:lnTo>
                            <a:pt x="226" y="1162"/>
                          </a:lnTo>
                          <a:lnTo>
                            <a:pt x="232" y="1197"/>
                          </a:lnTo>
                          <a:lnTo>
                            <a:pt x="241" y="1241"/>
                          </a:lnTo>
                          <a:lnTo>
                            <a:pt x="251" y="1291"/>
                          </a:lnTo>
                          <a:lnTo>
                            <a:pt x="258" y="1341"/>
                          </a:lnTo>
                          <a:lnTo>
                            <a:pt x="265" y="1385"/>
                          </a:lnTo>
                          <a:lnTo>
                            <a:pt x="271" y="1430"/>
                          </a:lnTo>
                          <a:lnTo>
                            <a:pt x="270" y="1465"/>
                          </a:lnTo>
                          <a:lnTo>
                            <a:pt x="269" y="1510"/>
                          </a:lnTo>
                          <a:lnTo>
                            <a:pt x="271" y="1552"/>
                          </a:lnTo>
                          <a:lnTo>
                            <a:pt x="272" y="1593"/>
                          </a:lnTo>
                          <a:lnTo>
                            <a:pt x="392" y="1593"/>
                          </a:lnTo>
                          <a:lnTo>
                            <a:pt x="388" y="1499"/>
                          </a:lnTo>
                          <a:lnTo>
                            <a:pt x="385" y="1440"/>
                          </a:lnTo>
                          <a:lnTo>
                            <a:pt x="384" y="1382"/>
                          </a:lnTo>
                          <a:lnTo>
                            <a:pt x="381" y="1324"/>
                          </a:lnTo>
                          <a:lnTo>
                            <a:pt x="374" y="1275"/>
                          </a:lnTo>
                          <a:lnTo>
                            <a:pt x="367" y="1227"/>
                          </a:lnTo>
                          <a:lnTo>
                            <a:pt x="358" y="1175"/>
                          </a:lnTo>
                          <a:lnTo>
                            <a:pt x="350" y="1118"/>
                          </a:lnTo>
                          <a:lnTo>
                            <a:pt x="339" y="1049"/>
                          </a:lnTo>
                          <a:lnTo>
                            <a:pt x="330" y="994"/>
                          </a:lnTo>
                          <a:lnTo>
                            <a:pt x="317" y="937"/>
                          </a:lnTo>
                          <a:lnTo>
                            <a:pt x="299" y="848"/>
                          </a:lnTo>
                          <a:lnTo>
                            <a:pt x="297" y="790"/>
                          </a:lnTo>
                          <a:lnTo>
                            <a:pt x="294" y="734"/>
                          </a:lnTo>
                          <a:lnTo>
                            <a:pt x="291" y="707"/>
                          </a:lnTo>
                          <a:lnTo>
                            <a:pt x="281" y="675"/>
                          </a:lnTo>
                          <a:lnTo>
                            <a:pt x="272" y="639"/>
                          </a:lnTo>
                          <a:lnTo>
                            <a:pt x="265" y="608"/>
                          </a:lnTo>
                          <a:lnTo>
                            <a:pt x="262" y="576"/>
                          </a:lnTo>
                          <a:lnTo>
                            <a:pt x="260" y="543"/>
                          </a:lnTo>
                          <a:lnTo>
                            <a:pt x="263" y="502"/>
                          </a:lnTo>
                          <a:lnTo>
                            <a:pt x="265" y="471"/>
                          </a:lnTo>
                          <a:lnTo>
                            <a:pt x="267" y="445"/>
                          </a:lnTo>
                          <a:lnTo>
                            <a:pt x="265" y="431"/>
                          </a:lnTo>
                          <a:lnTo>
                            <a:pt x="258" y="410"/>
                          </a:lnTo>
                          <a:lnTo>
                            <a:pt x="248" y="383"/>
                          </a:lnTo>
                          <a:lnTo>
                            <a:pt x="237" y="351"/>
                          </a:lnTo>
                          <a:lnTo>
                            <a:pt x="226" y="316"/>
                          </a:lnTo>
                          <a:lnTo>
                            <a:pt x="218" y="287"/>
                          </a:lnTo>
                          <a:lnTo>
                            <a:pt x="212" y="263"/>
                          </a:lnTo>
                          <a:lnTo>
                            <a:pt x="208" y="247"/>
                          </a:lnTo>
                          <a:lnTo>
                            <a:pt x="205" y="231"/>
                          </a:lnTo>
                          <a:lnTo>
                            <a:pt x="215" y="221"/>
                          </a:lnTo>
                          <a:lnTo>
                            <a:pt x="227" y="206"/>
                          </a:lnTo>
                          <a:lnTo>
                            <a:pt x="240" y="186"/>
                          </a:lnTo>
                          <a:lnTo>
                            <a:pt x="253" y="169"/>
                          </a:lnTo>
                          <a:lnTo>
                            <a:pt x="267" y="146"/>
                          </a:lnTo>
                          <a:lnTo>
                            <a:pt x="281" y="127"/>
                          </a:lnTo>
                          <a:lnTo>
                            <a:pt x="294" y="111"/>
                          </a:lnTo>
                          <a:lnTo>
                            <a:pt x="310" y="98"/>
                          </a:lnTo>
                          <a:lnTo>
                            <a:pt x="329" y="86"/>
                          </a:lnTo>
                          <a:lnTo>
                            <a:pt x="347" y="77"/>
                          </a:lnTo>
                          <a:lnTo>
                            <a:pt x="367" y="71"/>
                          </a:lnTo>
                          <a:lnTo>
                            <a:pt x="384" y="68"/>
                          </a:lnTo>
                          <a:lnTo>
                            <a:pt x="395" y="68"/>
                          </a:lnTo>
                          <a:lnTo>
                            <a:pt x="346" y="6"/>
                          </a:lnTo>
                          <a:close/>
                        </a:path>
                      </a:pathLst>
                    </a:custGeom>
                    <a:solidFill>
                      <a:srgbClr val="ffa04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6105" name=""/>
                  <p:cNvSpPr/>
                  <p:nvPr/>
                </p:nvSpPr>
                <p:spPr>
                  <a:xfrm flipH="1">
                    <a:off x="1603440" y="3039480"/>
                    <a:ext cx="132840" cy="205200"/>
                  </a:xfrm>
                  <a:custGeom>
                    <a:avLst/>
                    <a:gdLst/>
                    <a:ahLst/>
                    <a:rect l="l" t="t" r="r" b="b"/>
                    <a:pathLst>
                      <a:path w="235" h="357">
                        <a:moveTo>
                          <a:pt x="6" y="141"/>
                        </a:moveTo>
                        <a:lnTo>
                          <a:pt x="15" y="117"/>
                        </a:lnTo>
                        <a:lnTo>
                          <a:pt x="26" y="98"/>
                        </a:lnTo>
                        <a:lnTo>
                          <a:pt x="39" y="79"/>
                        </a:lnTo>
                        <a:lnTo>
                          <a:pt x="53" y="58"/>
                        </a:lnTo>
                        <a:lnTo>
                          <a:pt x="69" y="39"/>
                        </a:lnTo>
                        <a:lnTo>
                          <a:pt x="86" y="23"/>
                        </a:lnTo>
                        <a:lnTo>
                          <a:pt x="100" y="10"/>
                        </a:lnTo>
                        <a:lnTo>
                          <a:pt x="112" y="4"/>
                        </a:lnTo>
                        <a:lnTo>
                          <a:pt x="124" y="1"/>
                        </a:lnTo>
                        <a:lnTo>
                          <a:pt x="134" y="0"/>
                        </a:lnTo>
                        <a:lnTo>
                          <a:pt x="137" y="0"/>
                        </a:lnTo>
                        <a:lnTo>
                          <a:pt x="149" y="3"/>
                        </a:lnTo>
                        <a:lnTo>
                          <a:pt x="161" y="10"/>
                        </a:lnTo>
                        <a:lnTo>
                          <a:pt x="170" y="18"/>
                        </a:lnTo>
                        <a:lnTo>
                          <a:pt x="187" y="34"/>
                        </a:lnTo>
                        <a:lnTo>
                          <a:pt x="199" y="50"/>
                        </a:lnTo>
                        <a:lnTo>
                          <a:pt x="211" y="67"/>
                        </a:lnTo>
                        <a:lnTo>
                          <a:pt x="221" y="87"/>
                        </a:lnTo>
                        <a:lnTo>
                          <a:pt x="228" y="108"/>
                        </a:lnTo>
                        <a:lnTo>
                          <a:pt x="232" y="131"/>
                        </a:lnTo>
                        <a:lnTo>
                          <a:pt x="234" y="156"/>
                        </a:lnTo>
                        <a:lnTo>
                          <a:pt x="235" y="184"/>
                        </a:lnTo>
                        <a:lnTo>
                          <a:pt x="232" y="205"/>
                        </a:lnTo>
                        <a:lnTo>
                          <a:pt x="224" y="233"/>
                        </a:lnTo>
                        <a:lnTo>
                          <a:pt x="220" y="251"/>
                        </a:lnTo>
                        <a:lnTo>
                          <a:pt x="213" y="276"/>
                        </a:lnTo>
                        <a:lnTo>
                          <a:pt x="205" y="298"/>
                        </a:lnTo>
                        <a:lnTo>
                          <a:pt x="193" y="318"/>
                        </a:lnTo>
                        <a:lnTo>
                          <a:pt x="181" y="332"/>
                        </a:lnTo>
                        <a:lnTo>
                          <a:pt x="167" y="343"/>
                        </a:lnTo>
                        <a:lnTo>
                          <a:pt x="153" y="351"/>
                        </a:lnTo>
                        <a:lnTo>
                          <a:pt x="136" y="355"/>
                        </a:lnTo>
                        <a:lnTo>
                          <a:pt x="118" y="356"/>
                        </a:lnTo>
                        <a:lnTo>
                          <a:pt x="98" y="357"/>
                        </a:lnTo>
                        <a:lnTo>
                          <a:pt x="80" y="355"/>
                        </a:lnTo>
                        <a:lnTo>
                          <a:pt x="62" y="352"/>
                        </a:lnTo>
                        <a:lnTo>
                          <a:pt x="50" y="346"/>
                        </a:lnTo>
                        <a:lnTo>
                          <a:pt x="40" y="337"/>
                        </a:lnTo>
                        <a:lnTo>
                          <a:pt x="32" y="328"/>
                        </a:lnTo>
                        <a:lnTo>
                          <a:pt x="22" y="313"/>
                        </a:lnTo>
                        <a:lnTo>
                          <a:pt x="15" y="293"/>
                        </a:lnTo>
                        <a:lnTo>
                          <a:pt x="9" y="271"/>
                        </a:lnTo>
                        <a:lnTo>
                          <a:pt x="5" y="255"/>
                        </a:lnTo>
                        <a:lnTo>
                          <a:pt x="2" y="237"/>
                        </a:lnTo>
                        <a:lnTo>
                          <a:pt x="1" y="213"/>
                        </a:lnTo>
                        <a:lnTo>
                          <a:pt x="0" y="189"/>
                        </a:lnTo>
                        <a:lnTo>
                          <a:pt x="2" y="163"/>
                        </a:lnTo>
                        <a:lnTo>
                          <a:pt x="6" y="141"/>
                        </a:lnTo>
                        <a:close/>
                      </a:path>
                    </a:pathLst>
                  </a:custGeom>
                  <a:solidFill>
                    <a:srgbClr val="e07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106" name=""/>
                <p:cNvGrpSpPr/>
                <p:nvPr/>
              </p:nvGrpSpPr>
              <p:grpSpPr>
                <a:xfrm>
                  <a:off x="1515960" y="3154680"/>
                  <a:ext cx="100800" cy="447120"/>
                  <a:chOff x="1515960" y="3154680"/>
                  <a:chExt cx="100800" cy="447120"/>
                </a:xfrm>
              </p:grpSpPr>
              <p:sp>
                <p:nvSpPr>
                  <p:cNvPr id="6107" name=""/>
                  <p:cNvSpPr/>
                  <p:nvPr/>
                </p:nvSpPr>
                <p:spPr>
                  <a:xfrm flipH="1">
                    <a:off x="1523160" y="3154680"/>
                    <a:ext cx="349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63" h="164">
                        <a:moveTo>
                          <a:pt x="59" y="0"/>
                        </a:moveTo>
                        <a:lnTo>
                          <a:pt x="43" y="1"/>
                        </a:lnTo>
                        <a:lnTo>
                          <a:pt x="32" y="5"/>
                        </a:lnTo>
                        <a:lnTo>
                          <a:pt x="22" y="11"/>
                        </a:lnTo>
                        <a:lnTo>
                          <a:pt x="14" y="23"/>
                        </a:lnTo>
                        <a:lnTo>
                          <a:pt x="8" y="38"/>
                        </a:lnTo>
                        <a:lnTo>
                          <a:pt x="4" y="52"/>
                        </a:lnTo>
                        <a:lnTo>
                          <a:pt x="1" y="68"/>
                        </a:lnTo>
                        <a:lnTo>
                          <a:pt x="0" y="85"/>
                        </a:lnTo>
                        <a:lnTo>
                          <a:pt x="2" y="107"/>
                        </a:lnTo>
                        <a:lnTo>
                          <a:pt x="7" y="124"/>
                        </a:lnTo>
                        <a:lnTo>
                          <a:pt x="15" y="140"/>
                        </a:lnTo>
                        <a:lnTo>
                          <a:pt x="23" y="149"/>
                        </a:lnTo>
                        <a:lnTo>
                          <a:pt x="34" y="155"/>
                        </a:lnTo>
                        <a:lnTo>
                          <a:pt x="48" y="161"/>
                        </a:lnTo>
                        <a:lnTo>
                          <a:pt x="59" y="164"/>
                        </a:lnTo>
                        <a:lnTo>
                          <a:pt x="57" y="140"/>
                        </a:lnTo>
                        <a:lnTo>
                          <a:pt x="56" y="112"/>
                        </a:lnTo>
                        <a:lnTo>
                          <a:pt x="60" y="74"/>
                        </a:lnTo>
                        <a:lnTo>
                          <a:pt x="61" y="42"/>
                        </a:lnTo>
                        <a:lnTo>
                          <a:pt x="63" y="17"/>
                        </a:lnTo>
                        <a:lnTo>
                          <a:pt x="59" y="0"/>
                        </a:lnTo>
                        <a:close/>
                      </a:path>
                    </a:pathLst>
                  </a:custGeom>
                  <a:solidFill>
                    <a:srgbClr val="c0c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08" name=""/>
                  <p:cNvSpPr/>
                  <p:nvPr/>
                </p:nvSpPr>
                <p:spPr>
                  <a:xfrm flipH="1">
                    <a:off x="1567080" y="3268440"/>
                    <a:ext cx="493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89" h="166">
                        <a:moveTo>
                          <a:pt x="16" y="0"/>
                        </a:moveTo>
                        <a:lnTo>
                          <a:pt x="28" y="3"/>
                        </a:lnTo>
                        <a:lnTo>
                          <a:pt x="44" y="9"/>
                        </a:lnTo>
                        <a:lnTo>
                          <a:pt x="57" y="20"/>
                        </a:lnTo>
                        <a:lnTo>
                          <a:pt x="67" y="31"/>
                        </a:lnTo>
                        <a:lnTo>
                          <a:pt x="75" y="45"/>
                        </a:lnTo>
                        <a:lnTo>
                          <a:pt x="84" y="65"/>
                        </a:lnTo>
                        <a:lnTo>
                          <a:pt x="87" y="83"/>
                        </a:lnTo>
                        <a:lnTo>
                          <a:pt x="89" y="107"/>
                        </a:lnTo>
                        <a:lnTo>
                          <a:pt x="87" y="124"/>
                        </a:lnTo>
                        <a:lnTo>
                          <a:pt x="83" y="140"/>
                        </a:lnTo>
                        <a:lnTo>
                          <a:pt x="74" y="155"/>
                        </a:lnTo>
                        <a:lnTo>
                          <a:pt x="67" y="166"/>
                        </a:lnTo>
                        <a:lnTo>
                          <a:pt x="57" y="161"/>
                        </a:lnTo>
                        <a:lnTo>
                          <a:pt x="44" y="154"/>
                        </a:lnTo>
                        <a:lnTo>
                          <a:pt x="35" y="148"/>
                        </a:lnTo>
                        <a:lnTo>
                          <a:pt x="25" y="137"/>
                        </a:lnTo>
                        <a:lnTo>
                          <a:pt x="20" y="127"/>
                        </a:lnTo>
                        <a:lnTo>
                          <a:pt x="13" y="113"/>
                        </a:lnTo>
                        <a:lnTo>
                          <a:pt x="8" y="95"/>
                        </a:lnTo>
                        <a:lnTo>
                          <a:pt x="3" y="76"/>
                        </a:lnTo>
                        <a:lnTo>
                          <a:pt x="1" y="60"/>
                        </a:lnTo>
                        <a:lnTo>
                          <a:pt x="0" y="40"/>
                        </a:lnTo>
                        <a:lnTo>
                          <a:pt x="5" y="24"/>
                        </a:lnTo>
                        <a:lnTo>
                          <a:pt x="10" y="9"/>
                        </a:lnTo>
                        <a:lnTo>
                          <a:pt x="16" y="0"/>
                        </a:lnTo>
                        <a:close/>
                      </a:path>
                    </a:pathLst>
                  </a:custGeom>
                  <a:solidFill>
                    <a:srgbClr val="c0c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09" name=""/>
                  <p:cNvSpPr/>
                  <p:nvPr/>
                </p:nvSpPr>
                <p:spPr>
                  <a:xfrm flipH="1">
                    <a:off x="1515600" y="3486600"/>
                    <a:ext cx="49320" cy="11520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199">
                        <a:moveTo>
                          <a:pt x="0" y="0"/>
                        </a:moveTo>
                        <a:lnTo>
                          <a:pt x="15" y="0"/>
                        </a:lnTo>
                        <a:lnTo>
                          <a:pt x="26" y="3"/>
                        </a:lnTo>
                        <a:lnTo>
                          <a:pt x="35" y="8"/>
                        </a:lnTo>
                        <a:lnTo>
                          <a:pt x="44" y="17"/>
                        </a:lnTo>
                        <a:lnTo>
                          <a:pt x="53" y="28"/>
                        </a:lnTo>
                        <a:lnTo>
                          <a:pt x="61" y="41"/>
                        </a:lnTo>
                        <a:lnTo>
                          <a:pt x="67" y="55"/>
                        </a:lnTo>
                        <a:lnTo>
                          <a:pt x="73" y="74"/>
                        </a:lnTo>
                        <a:lnTo>
                          <a:pt x="74" y="93"/>
                        </a:lnTo>
                        <a:lnTo>
                          <a:pt x="77" y="107"/>
                        </a:lnTo>
                        <a:lnTo>
                          <a:pt x="82" y="118"/>
                        </a:lnTo>
                        <a:lnTo>
                          <a:pt x="86" y="128"/>
                        </a:lnTo>
                        <a:lnTo>
                          <a:pt x="88" y="141"/>
                        </a:lnTo>
                        <a:lnTo>
                          <a:pt x="86" y="154"/>
                        </a:lnTo>
                        <a:lnTo>
                          <a:pt x="80" y="169"/>
                        </a:lnTo>
                        <a:lnTo>
                          <a:pt x="73" y="182"/>
                        </a:lnTo>
                        <a:lnTo>
                          <a:pt x="67" y="191"/>
                        </a:lnTo>
                        <a:lnTo>
                          <a:pt x="61" y="197"/>
                        </a:lnTo>
                        <a:lnTo>
                          <a:pt x="53" y="199"/>
                        </a:lnTo>
                        <a:lnTo>
                          <a:pt x="45" y="197"/>
                        </a:lnTo>
                        <a:lnTo>
                          <a:pt x="41" y="194"/>
                        </a:lnTo>
                        <a:lnTo>
                          <a:pt x="32" y="159"/>
                        </a:lnTo>
                        <a:lnTo>
                          <a:pt x="29" y="143"/>
                        </a:lnTo>
                        <a:lnTo>
                          <a:pt x="25" y="119"/>
                        </a:lnTo>
                        <a:lnTo>
                          <a:pt x="20" y="92"/>
                        </a:lnTo>
                        <a:lnTo>
                          <a:pt x="14" y="69"/>
                        </a:lnTo>
                        <a:lnTo>
                          <a:pt x="9" y="44"/>
                        </a:lnTo>
                        <a:lnTo>
                          <a:pt x="4" y="23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c0c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pic>
        <p:nvPicPr>
          <p:cNvPr id="6110" name="" descr=""/>
          <p:cNvPicPr/>
          <p:nvPr/>
        </p:nvPicPr>
        <p:blipFill>
          <a:blip r:embed="rId4"/>
          <a:stretch/>
        </p:blipFill>
        <p:spPr>
          <a:xfrm>
            <a:off x="5048280" y="0"/>
            <a:ext cx="968400" cy="915840"/>
          </a:xfrm>
          <a:prstGeom prst="rect">
            <a:avLst/>
          </a:prstGeom>
          <a:ln w="0">
            <a:noFill/>
          </a:ln>
        </p:spPr>
      </p:pic>
      <p:pic>
        <p:nvPicPr>
          <p:cNvPr id="6111" name="" descr=""/>
          <p:cNvPicPr/>
          <p:nvPr/>
        </p:nvPicPr>
        <p:blipFill>
          <a:blip r:embed="rId5"/>
          <a:stretch/>
        </p:blipFill>
        <p:spPr>
          <a:xfrm>
            <a:off x="1060560" y="0"/>
            <a:ext cx="457200" cy="878040"/>
          </a:xfrm>
          <a:prstGeom prst="rect">
            <a:avLst/>
          </a:prstGeom>
          <a:ln w="0">
            <a:noFill/>
          </a:ln>
        </p:spPr>
      </p:pic>
      <p:pic>
        <p:nvPicPr>
          <p:cNvPr id="6112" name="" descr=""/>
          <p:cNvPicPr/>
          <p:nvPr/>
        </p:nvPicPr>
        <p:blipFill>
          <a:blip r:embed="rId6"/>
          <a:stretch/>
        </p:blipFill>
        <p:spPr>
          <a:xfrm>
            <a:off x="7810560" y="0"/>
            <a:ext cx="1333440" cy="835200"/>
          </a:xfrm>
          <a:prstGeom prst="rect">
            <a:avLst/>
          </a:prstGeom>
          <a:ln w="0">
            <a:noFill/>
          </a:ln>
        </p:spPr>
      </p:pic>
      <p:sp>
        <p:nvSpPr>
          <p:cNvPr id="6113" name=""/>
          <p:cNvSpPr/>
          <p:nvPr/>
        </p:nvSpPr>
        <p:spPr>
          <a:xfrm>
            <a:off x="255600" y="915840"/>
            <a:ext cx="2190600" cy="1554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Řídící systé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(reguláto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(vyhodnocuje regulační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odchylky a stanovuje hodnoty řídících signálů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4" name=""/>
          <p:cNvSpPr/>
          <p:nvPr/>
        </p:nvSpPr>
        <p:spPr>
          <a:xfrm>
            <a:off x="4924440" y="933480"/>
            <a:ext cx="1479600" cy="1067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Regulační orgá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(uskutečňuj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vlastní řízení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5" name=""/>
          <p:cNvSpPr/>
          <p:nvPr/>
        </p:nvSpPr>
        <p:spPr>
          <a:xfrm>
            <a:off x="7785000" y="933480"/>
            <a:ext cx="1219320" cy="1554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Řízený systé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(ovládaný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systém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který je říze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16" name=""/>
          <p:cNvGraphicFramePr/>
          <p:nvPr/>
        </p:nvGraphicFramePr>
        <p:xfrm>
          <a:off x="1476360" y="5751360"/>
          <a:ext cx="523800" cy="622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11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476360" y="5751360"/>
                    <a:ext cx="523800" cy="62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18" name=""/>
          <p:cNvSpPr/>
          <p:nvPr/>
        </p:nvSpPr>
        <p:spPr>
          <a:xfrm>
            <a:off x="1600200" y="5580000"/>
            <a:ext cx="255600" cy="244440"/>
          </a:xfrm>
          <a:custGeom>
            <a:avLst/>
            <a:gdLst/>
            <a:ahLst/>
            <a:rect l="l" t="t" r="r" b="b"/>
            <a:pathLst>
              <a:path w="1492" h="2422">
                <a:moveTo>
                  <a:pt x="248" y="124"/>
                </a:moveTo>
                <a:lnTo>
                  <a:pt x="278" y="83"/>
                </a:lnTo>
                <a:lnTo>
                  <a:pt x="326" y="47"/>
                </a:lnTo>
                <a:lnTo>
                  <a:pt x="379" y="24"/>
                </a:lnTo>
                <a:lnTo>
                  <a:pt x="430" y="9"/>
                </a:lnTo>
                <a:lnTo>
                  <a:pt x="502" y="0"/>
                </a:lnTo>
                <a:lnTo>
                  <a:pt x="557" y="7"/>
                </a:lnTo>
                <a:lnTo>
                  <a:pt x="619" y="21"/>
                </a:lnTo>
                <a:lnTo>
                  <a:pt x="681" y="44"/>
                </a:lnTo>
                <a:lnTo>
                  <a:pt x="727" y="73"/>
                </a:lnTo>
                <a:lnTo>
                  <a:pt x="778" y="118"/>
                </a:lnTo>
                <a:lnTo>
                  <a:pt x="867" y="214"/>
                </a:lnTo>
                <a:lnTo>
                  <a:pt x="944" y="304"/>
                </a:lnTo>
                <a:lnTo>
                  <a:pt x="1018" y="408"/>
                </a:lnTo>
                <a:lnTo>
                  <a:pt x="1089" y="526"/>
                </a:lnTo>
                <a:lnTo>
                  <a:pt x="1145" y="634"/>
                </a:lnTo>
                <a:lnTo>
                  <a:pt x="1192" y="737"/>
                </a:lnTo>
                <a:lnTo>
                  <a:pt x="1226" y="829"/>
                </a:lnTo>
                <a:lnTo>
                  <a:pt x="1251" y="920"/>
                </a:lnTo>
                <a:lnTo>
                  <a:pt x="1281" y="1015"/>
                </a:lnTo>
                <a:lnTo>
                  <a:pt x="1313" y="1101"/>
                </a:lnTo>
                <a:lnTo>
                  <a:pt x="1365" y="1250"/>
                </a:lnTo>
                <a:lnTo>
                  <a:pt x="1420" y="1375"/>
                </a:lnTo>
                <a:lnTo>
                  <a:pt x="1448" y="1445"/>
                </a:lnTo>
                <a:lnTo>
                  <a:pt x="1468" y="1529"/>
                </a:lnTo>
                <a:lnTo>
                  <a:pt x="1483" y="1631"/>
                </a:lnTo>
                <a:lnTo>
                  <a:pt x="1492" y="1743"/>
                </a:lnTo>
                <a:lnTo>
                  <a:pt x="1490" y="1850"/>
                </a:lnTo>
                <a:lnTo>
                  <a:pt x="1469" y="2107"/>
                </a:lnTo>
                <a:lnTo>
                  <a:pt x="1448" y="2258"/>
                </a:lnTo>
                <a:lnTo>
                  <a:pt x="1437" y="2299"/>
                </a:lnTo>
                <a:lnTo>
                  <a:pt x="1420" y="2334"/>
                </a:lnTo>
                <a:lnTo>
                  <a:pt x="1398" y="2363"/>
                </a:lnTo>
                <a:lnTo>
                  <a:pt x="1375" y="2384"/>
                </a:lnTo>
                <a:lnTo>
                  <a:pt x="1350" y="2401"/>
                </a:lnTo>
                <a:lnTo>
                  <a:pt x="1313" y="2413"/>
                </a:lnTo>
                <a:lnTo>
                  <a:pt x="1270" y="2420"/>
                </a:lnTo>
                <a:lnTo>
                  <a:pt x="1225" y="2422"/>
                </a:lnTo>
                <a:lnTo>
                  <a:pt x="1168" y="2415"/>
                </a:lnTo>
                <a:lnTo>
                  <a:pt x="1109" y="2401"/>
                </a:lnTo>
                <a:lnTo>
                  <a:pt x="985" y="2362"/>
                </a:lnTo>
                <a:lnTo>
                  <a:pt x="840" y="2314"/>
                </a:lnTo>
                <a:lnTo>
                  <a:pt x="770" y="2328"/>
                </a:lnTo>
                <a:lnTo>
                  <a:pt x="726" y="2333"/>
                </a:lnTo>
                <a:lnTo>
                  <a:pt x="674" y="2328"/>
                </a:lnTo>
                <a:lnTo>
                  <a:pt x="570" y="2307"/>
                </a:lnTo>
                <a:lnTo>
                  <a:pt x="439" y="2273"/>
                </a:lnTo>
                <a:lnTo>
                  <a:pt x="322" y="2237"/>
                </a:lnTo>
                <a:lnTo>
                  <a:pt x="245" y="2211"/>
                </a:lnTo>
                <a:lnTo>
                  <a:pt x="201" y="2191"/>
                </a:lnTo>
                <a:lnTo>
                  <a:pt x="160" y="2165"/>
                </a:lnTo>
                <a:lnTo>
                  <a:pt x="126" y="2125"/>
                </a:lnTo>
                <a:lnTo>
                  <a:pt x="101" y="2079"/>
                </a:lnTo>
                <a:lnTo>
                  <a:pt x="79" y="2025"/>
                </a:lnTo>
                <a:lnTo>
                  <a:pt x="59" y="1968"/>
                </a:lnTo>
                <a:lnTo>
                  <a:pt x="38" y="1878"/>
                </a:lnTo>
                <a:lnTo>
                  <a:pt x="27" y="1807"/>
                </a:lnTo>
                <a:lnTo>
                  <a:pt x="17" y="1735"/>
                </a:lnTo>
                <a:lnTo>
                  <a:pt x="4" y="1624"/>
                </a:lnTo>
                <a:lnTo>
                  <a:pt x="0" y="1550"/>
                </a:lnTo>
                <a:lnTo>
                  <a:pt x="10" y="1450"/>
                </a:lnTo>
                <a:lnTo>
                  <a:pt x="38" y="1306"/>
                </a:lnTo>
                <a:lnTo>
                  <a:pt x="66" y="1119"/>
                </a:lnTo>
                <a:lnTo>
                  <a:pt x="96" y="982"/>
                </a:lnTo>
                <a:lnTo>
                  <a:pt x="118" y="926"/>
                </a:lnTo>
                <a:lnTo>
                  <a:pt x="143" y="875"/>
                </a:lnTo>
                <a:lnTo>
                  <a:pt x="164" y="822"/>
                </a:lnTo>
                <a:lnTo>
                  <a:pt x="178" y="780"/>
                </a:lnTo>
                <a:lnTo>
                  <a:pt x="190" y="704"/>
                </a:lnTo>
                <a:lnTo>
                  <a:pt x="169" y="595"/>
                </a:lnTo>
                <a:lnTo>
                  <a:pt x="165" y="528"/>
                </a:lnTo>
                <a:lnTo>
                  <a:pt x="171" y="461"/>
                </a:lnTo>
                <a:lnTo>
                  <a:pt x="182" y="376"/>
                </a:lnTo>
                <a:lnTo>
                  <a:pt x="201" y="262"/>
                </a:lnTo>
                <a:lnTo>
                  <a:pt x="222" y="180"/>
                </a:lnTo>
                <a:lnTo>
                  <a:pt x="248" y="124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9" name=""/>
          <p:cNvSpPr/>
          <p:nvPr/>
        </p:nvSpPr>
        <p:spPr>
          <a:xfrm>
            <a:off x="242640" y="5521320"/>
            <a:ext cx="137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000000"/>
                </a:solidFill>
                <a:latin typeface="Times New Roman"/>
              </a:rPr>
              <a:t>Nadledvina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000000"/>
                </a:solidFill>
                <a:latin typeface="Times New Roman"/>
              </a:rPr>
              <a:t>juxtaglomerul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1600" spc="-1" strike="noStrike">
                <a:solidFill>
                  <a:srgbClr val="000000"/>
                </a:solidFill>
                <a:latin typeface="Times New Roman"/>
              </a:rPr>
              <a:t>apará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0" name=""/>
          <p:cNvSpPr/>
          <p:nvPr/>
        </p:nvSpPr>
        <p:spPr>
          <a:xfrm>
            <a:off x="527760" y="2536920"/>
            <a:ext cx="55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000000"/>
                </a:solidFill>
                <a:latin typeface="Times New Roman"/>
              </a:rPr>
              <a:t>C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1" name=""/>
          <p:cNvSpPr/>
          <p:nvPr/>
        </p:nvSpPr>
        <p:spPr>
          <a:xfrm>
            <a:off x="229320" y="3249720"/>
            <a:ext cx="1323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000000"/>
                </a:solidFill>
                <a:latin typeface="Times New Roman"/>
              </a:rPr>
              <a:t>hypothalam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22" name=""/>
          <p:cNvGrpSpPr/>
          <p:nvPr/>
        </p:nvGrpSpPr>
        <p:grpSpPr>
          <a:xfrm>
            <a:off x="1082520" y="4406760"/>
            <a:ext cx="456480" cy="678960"/>
            <a:chOff x="1082520" y="4406760"/>
            <a:chExt cx="456480" cy="678960"/>
          </a:xfrm>
        </p:grpSpPr>
        <p:grpSp>
          <p:nvGrpSpPr>
            <p:cNvPr id="6123" name=""/>
            <p:cNvGrpSpPr/>
            <p:nvPr/>
          </p:nvGrpSpPr>
          <p:grpSpPr>
            <a:xfrm>
              <a:off x="1086120" y="4406760"/>
              <a:ext cx="452880" cy="678960"/>
              <a:chOff x="1086120" y="4406760"/>
              <a:chExt cx="452880" cy="678960"/>
            </a:xfrm>
          </p:grpSpPr>
          <p:grpSp>
            <p:nvGrpSpPr>
              <p:cNvPr id="6124" name=""/>
              <p:cNvGrpSpPr/>
              <p:nvPr/>
            </p:nvGrpSpPr>
            <p:grpSpPr>
              <a:xfrm>
                <a:off x="1102320" y="4563720"/>
                <a:ext cx="436680" cy="522000"/>
                <a:chOff x="1102320" y="4563720"/>
                <a:chExt cx="436680" cy="522000"/>
              </a:xfrm>
            </p:grpSpPr>
            <p:grpSp>
              <p:nvGrpSpPr>
                <p:cNvPr id="6125" name=""/>
                <p:cNvGrpSpPr/>
                <p:nvPr/>
              </p:nvGrpSpPr>
              <p:grpSpPr>
                <a:xfrm>
                  <a:off x="1102320" y="4563720"/>
                  <a:ext cx="352080" cy="110160"/>
                  <a:chOff x="1102320" y="4563720"/>
                  <a:chExt cx="352080" cy="110160"/>
                </a:xfrm>
              </p:grpSpPr>
              <p:grpSp>
                <p:nvGrpSpPr>
                  <p:cNvPr id="6126" name=""/>
                  <p:cNvGrpSpPr/>
                  <p:nvPr/>
                </p:nvGrpSpPr>
                <p:grpSpPr>
                  <a:xfrm>
                    <a:off x="1378440" y="4578840"/>
                    <a:ext cx="75960" cy="95040"/>
                    <a:chOff x="1378440" y="4578840"/>
                    <a:chExt cx="75960" cy="95040"/>
                  </a:xfrm>
                </p:grpSpPr>
                <p:grpSp>
                  <p:nvGrpSpPr>
                    <p:cNvPr id="6127" name=""/>
                    <p:cNvGrpSpPr/>
                    <p:nvPr/>
                  </p:nvGrpSpPr>
                  <p:grpSpPr>
                    <a:xfrm>
                      <a:off x="1378440" y="4578840"/>
                      <a:ext cx="54360" cy="59400"/>
                      <a:chOff x="1378440" y="4578840"/>
                      <a:chExt cx="54360" cy="59400"/>
                    </a:xfrm>
                  </p:grpSpPr>
                  <p:sp>
                    <p:nvSpPr>
                      <p:cNvPr id="6128" name=""/>
                      <p:cNvSpPr/>
                      <p:nvPr/>
                    </p:nvSpPr>
                    <p:spPr>
                      <a:xfrm>
                        <a:off x="1378440" y="4583520"/>
                        <a:ext cx="49320" cy="489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98" h="161">
                            <a:moveTo>
                              <a:pt x="0" y="161"/>
                            </a:moveTo>
                            <a:lnTo>
                              <a:pt x="18" y="132"/>
                            </a:lnTo>
                            <a:lnTo>
                              <a:pt x="37" y="108"/>
                            </a:lnTo>
                            <a:lnTo>
                              <a:pt x="58" y="81"/>
                            </a:lnTo>
                            <a:lnTo>
                              <a:pt x="82" y="57"/>
                            </a:lnTo>
                            <a:lnTo>
                              <a:pt x="107" y="37"/>
                            </a:lnTo>
                            <a:lnTo>
                              <a:pt x="131" y="23"/>
                            </a:lnTo>
                            <a:lnTo>
                              <a:pt x="150" y="12"/>
                            </a:lnTo>
                            <a:lnTo>
                              <a:pt x="170" y="6"/>
                            </a:lnTo>
                            <a:lnTo>
                              <a:pt x="198" y="0"/>
                            </a:lnTo>
                          </a:path>
                        </a:pathLst>
                      </a:custGeom>
                      <a:noFill/>
                      <a:ln w="25560">
                        <a:solidFill>
                          <a:srgbClr val="60006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160" bIns="21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129" name=""/>
                      <p:cNvSpPr/>
                      <p:nvPr/>
                    </p:nvSpPr>
                    <p:spPr>
                      <a:xfrm>
                        <a:off x="1384560" y="4589280"/>
                        <a:ext cx="48240" cy="489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95" h="160">
                            <a:moveTo>
                              <a:pt x="0" y="160"/>
                            </a:moveTo>
                            <a:lnTo>
                              <a:pt x="19" y="131"/>
                            </a:lnTo>
                            <a:lnTo>
                              <a:pt x="37" y="106"/>
                            </a:lnTo>
                            <a:lnTo>
                              <a:pt x="59" y="80"/>
                            </a:lnTo>
                            <a:lnTo>
                              <a:pt x="82" y="55"/>
                            </a:lnTo>
                            <a:lnTo>
                              <a:pt x="108" y="35"/>
                            </a:lnTo>
                            <a:lnTo>
                              <a:pt x="131" y="21"/>
                            </a:lnTo>
                            <a:lnTo>
                              <a:pt x="156" y="11"/>
                            </a:lnTo>
                            <a:lnTo>
                              <a:pt x="177" y="3"/>
                            </a:lnTo>
                            <a:lnTo>
                              <a:pt x="195" y="0"/>
                            </a:lnTo>
                          </a:path>
                        </a:pathLst>
                      </a:custGeom>
                      <a:noFill/>
                      <a:ln w="11160">
                        <a:solidFill>
                          <a:srgbClr val="40004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160" bIns="21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130" name=""/>
                      <p:cNvSpPr/>
                      <p:nvPr/>
                    </p:nvSpPr>
                    <p:spPr>
                      <a:xfrm>
                        <a:off x="1378440" y="4578840"/>
                        <a:ext cx="48240" cy="49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94" h="160">
                            <a:moveTo>
                              <a:pt x="0" y="160"/>
                            </a:moveTo>
                            <a:lnTo>
                              <a:pt x="18" y="131"/>
                            </a:lnTo>
                            <a:lnTo>
                              <a:pt x="37" y="106"/>
                            </a:lnTo>
                            <a:lnTo>
                              <a:pt x="58" y="80"/>
                            </a:lnTo>
                            <a:lnTo>
                              <a:pt x="82" y="55"/>
                            </a:lnTo>
                            <a:lnTo>
                              <a:pt x="107" y="36"/>
                            </a:lnTo>
                            <a:lnTo>
                              <a:pt x="131" y="21"/>
                            </a:lnTo>
                            <a:lnTo>
                              <a:pt x="155" y="11"/>
                            </a:lnTo>
                            <a:lnTo>
                              <a:pt x="178" y="3"/>
                            </a:lnTo>
                            <a:lnTo>
                              <a:pt x="194" y="0"/>
                            </a:lnTo>
                          </a:path>
                        </a:pathLst>
                      </a:custGeom>
                      <a:noFill/>
                      <a:ln w="4680">
                        <a:solidFill>
                          <a:srgbClr val="a000a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520" bIns="25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6131" name=""/>
                    <p:cNvGrpSpPr/>
                    <p:nvPr/>
                  </p:nvGrpSpPr>
                  <p:grpSpPr>
                    <a:xfrm>
                      <a:off x="1399320" y="4615560"/>
                      <a:ext cx="55080" cy="58320"/>
                      <a:chOff x="1399320" y="4615560"/>
                      <a:chExt cx="55080" cy="58320"/>
                    </a:xfrm>
                  </p:grpSpPr>
                  <p:sp>
                    <p:nvSpPr>
                      <p:cNvPr id="6132" name=""/>
                      <p:cNvSpPr/>
                      <p:nvPr/>
                    </p:nvSpPr>
                    <p:spPr>
                      <a:xfrm>
                        <a:off x="1399320" y="4618440"/>
                        <a:ext cx="49320" cy="489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98" h="160">
                            <a:moveTo>
                              <a:pt x="0" y="160"/>
                            </a:moveTo>
                            <a:lnTo>
                              <a:pt x="18" y="131"/>
                            </a:lnTo>
                            <a:lnTo>
                              <a:pt x="37" y="107"/>
                            </a:lnTo>
                            <a:lnTo>
                              <a:pt x="58" y="81"/>
                            </a:lnTo>
                            <a:lnTo>
                              <a:pt x="82" y="56"/>
                            </a:lnTo>
                            <a:lnTo>
                              <a:pt x="106" y="37"/>
                            </a:lnTo>
                            <a:lnTo>
                              <a:pt x="130" y="23"/>
                            </a:lnTo>
                            <a:lnTo>
                              <a:pt x="149" y="12"/>
                            </a:lnTo>
                            <a:lnTo>
                              <a:pt x="168" y="6"/>
                            </a:lnTo>
                            <a:lnTo>
                              <a:pt x="198" y="0"/>
                            </a:lnTo>
                          </a:path>
                        </a:pathLst>
                      </a:custGeom>
                      <a:noFill/>
                      <a:ln w="25560">
                        <a:solidFill>
                          <a:srgbClr val="60006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160" bIns="21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133" name=""/>
                      <p:cNvSpPr/>
                      <p:nvPr/>
                    </p:nvSpPr>
                    <p:spPr>
                      <a:xfrm>
                        <a:off x="1406520" y="4624920"/>
                        <a:ext cx="47880" cy="489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95" h="159">
                            <a:moveTo>
                              <a:pt x="0" y="159"/>
                            </a:moveTo>
                            <a:lnTo>
                              <a:pt x="19" y="131"/>
                            </a:lnTo>
                            <a:lnTo>
                              <a:pt x="37" y="106"/>
                            </a:lnTo>
                            <a:lnTo>
                              <a:pt x="59" y="79"/>
                            </a:lnTo>
                            <a:lnTo>
                              <a:pt x="81" y="56"/>
                            </a:lnTo>
                            <a:lnTo>
                              <a:pt x="107" y="36"/>
                            </a:lnTo>
                            <a:lnTo>
                              <a:pt x="130" y="22"/>
                            </a:lnTo>
                            <a:lnTo>
                              <a:pt x="155" y="12"/>
                            </a:lnTo>
                            <a:lnTo>
                              <a:pt x="177" y="4"/>
                            </a:lnTo>
                            <a:lnTo>
                              <a:pt x="195" y="0"/>
                            </a:lnTo>
                          </a:path>
                        </a:pathLst>
                      </a:custGeom>
                      <a:noFill/>
                      <a:ln w="11160">
                        <a:solidFill>
                          <a:srgbClr val="40004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160" bIns="21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134" name=""/>
                      <p:cNvSpPr/>
                      <p:nvPr/>
                    </p:nvSpPr>
                    <p:spPr>
                      <a:xfrm>
                        <a:off x="1399320" y="4615560"/>
                        <a:ext cx="47880" cy="47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94" h="159">
                            <a:moveTo>
                              <a:pt x="0" y="159"/>
                            </a:moveTo>
                            <a:lnTo>
                              <a:pt x="18" y="130"/>
                            </a:lnTo>
                            <a:lnTo>
                              <a:pt x="37" y="106"/>
                            </a:lnTo>
                            <a:lnTo>
                              <a:pt x="58" y="80"/>
                            </a:lnTo>
                            <a:lnTo>
                              <a:pt x="82" y="55"/>
                            </a:lnTo>
                            <a:lnTo>
                              <a:pt x="106" y="36"/>
                            </a:lnTo>
                            <a:lnTo>
                              <a:pt x="130" y="21"/>
                            </a:lnTo>
                            <a:lnTo>
                              <a:pt x="154" y="11"/>
                            </a:lnTo>
                            <a:lnTo>
                              <a:pt x="177" y="3"/>
                            </a:lnTo>
                            <a:lnTo>
                              <a:pt x="194" y="0"/>
                            </a:lnTo>
                          </a:path>
                        </a:pathLst>
                      </a:custGeom>
                      <a:noFill/>
                      <a:ln w="4680">
                        <a:solidFill>
                          <a:srgbClr val="a000a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720" bIns="7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6135" name=""/>
                  <p:cNvGrpSpPr/>
                  <p:nvPr/>
                </p:nvGrpSpPr>
                <p:grpSpPr>
                  <a:xfrm>
                    <a:off x="1102320" y="4563720"/>
                    <a:ext cx="263160" cy="84240"/>
                    <a:chOff x="1102320" y="4563720"/>
                    <a:chExt cx="263160" cy="84240"/>
                  </a:xfrm>
                </p:grpSpPr>
                <p:grpSp>
                  <p:nvGrpSpPr>
                    <p:cNvPr id="6136" name=""/>
                    <p:cNvGrpSpPr/>
                    <p:nvPr/>
                  </p:nvGrpSpPr>
                  <p:grpSpPr>
                    <a:xfrm>
                      <a:off x="1134000" y="4603680"/>
                      <a:ext cx="183240" cy="44280"/>
                      <a:chOff x="1134000" y="4603680"/>
                      <a:chExt cx="183240" cy="44280"/>
                    </a:xfrm>
                  </p:grpSpPr>
                  <p:grpSp>
                    <p:nvGrpSpPr>
                      <p:cNvPr id="6137" name=""/>
                      <p:cNvGrpSpPr/>
                      <p:nvPr/>
                    </p:nvGrpSpPr>
                    <p:grpSpPr>
                      <a:xfrm>
                        <a:off x="1141560" y="4603680"/>
                        <a:ext cx="175680" cy="44280"/>
                        <a:chOff x="1141560" y="4603680"/>
                        <a:chExt cx="175680" cy="44280"/>
                      </a:xfrm>
                    </p:grpSpPr>
                    <p:sp>
                      <p:nvSpPr>
                        <p:cNvPr id="6138" name=""/>
                        <p:cNvSpPr/>
                        <p:nvPr/>
                      </p:nvSpPr>
                      <p:spPr>
                        <a:xfrm>
                          <a:off x="1142640" y="4608000"/>
                          <a:ext cx="172080" cy="306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694" h="101">
                              <a:moveTo>
                                <a:pt x="0" y="80"/>
                              </a:moveTo>
                              <a:lnTo>
                                <a:pt x="42" y="67"/>
                              </a:lnTo>
                              <a:lnTo>
                                <a:pt x="85" y="54"/>
                              </a:lnTo>
                              <a:lnTo>
                                <a:pt x="143" y="40"/>
                              </a:lnTo>
                              <a:lnTo>
                                <a:pt x="205" y="27"/>
                              </a:lnTo>
                              <a:lnTo>
                                <a:pt x="268" y="14"/>
                              </a:lnTo>
                              <a:lnTo>
                                <a:pt x="315" y="8"/>
                              </a:lnTo>
                              <a:lnTo>
                                <a:pt x="372" y="2"/>
                              </a:lnTo>
                              <a:lnTo>
                                <a:pt x="433" y="0"/>
                              </a:lnTo>
                              <a:lnTo>
                                <a:pt x="490" y="3"/>
                              </a:lnTo>
                              <a:lnTo>
                                <a:pt x="540" y="6"/>
                              </a:lnTo>
                              <a:lnTo>
                                <a:pt x="590" y="14"/>
                              </a:lnTo>
                              <a:lnTo>
                                <a:pt x="617" y="25"/>
                              </a:lnTo>
                              <a:lnTo>
                                <a:pt x="642" y="39"/>
                              </a:lnTo>
                              <a:lnTo>
                                <a:pt x="663" y="56"/>
                              </a:lnTo>
                              <a:lnTo>
                                <a:pt x="685" y="83"/>
                              </a:lnTo>
                              <a:lnTo>
                                <a:pt x="694" y="101"/>
                              </a:lnTo>
                            </a:path>
                          </a:pathLst>
                        </a:custGeom>
                        <a:noFill/>
                        <a:ln w="25560">
                          <a:solidFill>
                            <a:srgbClr val="60006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6200" bIns="-162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139" name=""/>
                        <p:cNvSpPr/>
                        <p:nvPr/>
                      </p:nvSpPr>
                      <p:spPr>
                        <a:xfrm>
                          <a:off x="1141560" y="4617360"/>
                          <a:ext cx="170640" cy="306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694" h="100">
                              <a:moveTo>
                                <a:pt x="0" y="80"/>
                              </a:moveTo>
                              <a:lnTo>
                                <a:pt x="41" y="66"/>
                              </a:lnTo>
                              <a:lnTo>
                                <a:pt x="84" y="54"/>
                              </a:lnTo>
                              <a:lnTo>
                                <a:pt x="143" y="40"/>
                              </a:lnTo>
                              <a:lnTo>
                                <a:pt x="205" y="26"/>
                              </a:lnTo>
                              <a:lnTo>
                                <a:pt x="267" y="14"/>
                              </a:lnTo>
                              <a:lnTo>
                                <a:pt x="315" y="8"/>
                              </a:lnTo>
                              <a:lnTo>
                                <a:pt x="372" y="2"/>
                              </a:lnTo>
                              <a:lnTo>
                                <a:pt x="433" y="0"/>
                              </a:lnTo>
                              <a:lnTo>
                                <a:pt x="489" y="3"/>
                              </a:lnTo>
                              <a:lnTo>
                                <a:pt x="540" y="6"/>
                              </a:lnTo>
                              <a:lnTo>
                                <a:pt x="590" y="14"/>
                              </a:lnTo>
                              <a:lnTo>
                                <a:pt x="617" y="24"/>
                              </a:lnTo>
                              <a:lnTo>
                                <a:pt x="642" y="39"/>
                              </a:lnTo>
                              <a:lnTo>
                                <a:pt x="663" y="55"/>
                              </a:lnTo>
                              <a:lnTo>
                                <a:pt x="685" y="83"/>
                              </a:lnTo>
                              <a:lnTo>
                                <a:pt x="694" y="100"/>
                              </a:lnTo>
                            </a:path>
                          </a:pathLst>
                        </a:custGeom>
                        <a:noFill/>
                        <a:ln w="11160">
                          <a:solidFill>
                            <a:srgbClr val="40004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6200" bIns="-162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140" name=""/>
                        <p:cNvSpPr/>
                        <p:nvPr/>
                      </p:nvSpPr>
                      <p:spPr>
                        <a:xfrm>
                          <a:off x="1145160" y="4603680"/>
                          <a:ext cx="172080" cy="306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694" h="100">
                              <a:moveTo>
                                <a:pt x="0" y="80"/>
                              </a:moveTo>
                              <a:lnTo>
                                <a:pt x="42" y="66"/>
                              </a:lnTo>
                              <a:lnTo>
                                <a:pt x="85" y="54"/>
                              </a:lnTo>
                              <a:lnTo>
                                <a:pt x="143" y="40"/>
                              </a:lnTo>
                              <a:lnTo>
                                <a:pt x="204" y="26"/>
                              </a:lnTo>
                              <a:lnTo>
                                <a:pt x="268" y="14"/>
                              </a:lnTo>
                              <a:lnTo>
                                <a:pt x="315" y="8"/>
                              </a:lnTo>
                              <a:lnTo>
                                <a:pt x="372" y="2"/>
                              </a:lnTo>
                              <a:lnTo>
                                <a:pt x="434" y="0"/>
                              </a:lnTo>
                              <a:lnTo>
                                <a:pt x="490" y="3"/>
                              </a:lnTo>
                              <a:lnTo>
                                <a:pt x="540" y="6"/>
                              </a:lnTo>
                              <a:lnTo>
                                <a:pt x="590" y="14"/>
                              </a:lnTo>
                              <a:lnTo>
                                <a:pt x="618" y="24"/>
                              </a:lnTo>
                              <a:lnTo>
                                <a:pt x="642" y="39"/>
                              </a:lnTo>
                              <a:lnTo>
                                <a:pt x="664" y="55"/>
                              </a:lnTo>
                              <a:lnTo>
                                <a:pt x="685" y="83"/>
                              </a:lnTo>
                              <a:lnTo>
                                <a:pt x="694" y="100"/>
                              </a:lnTo>
                            </a:path>
                          </a:pathLst>
                        </a:custGeom>
                        <a:noFill/>
                        <a:ln w="4680">
                          <a:solidFill>
                            <a:srgbClr val="a000a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6200" bIns="-162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6141" name=""/>
                      <p:cNvSpPr/>
                      <p:nvPr/>
                    </p:nvSpPr>
                    <p:spPr>
                      <a:xfrm>
                        <a:off x="1134000" y="4623480"/>
                        <a:ext cx="10080" cy="21600"/>
                      </a:xfrm>
                      <a:prstGeom prst="ellipse">
                        <a:avLst/>
                      </a:prstGeom>
                      <a:solidFill>
                        <a:srgbClr val="200020"/>
                      </a:solidFill>
                      <a:ln w="3240">
                        <a:solidFill>
                          <a:srgbClr val="80008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0960" bIns="-309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6142" name=""/>
                    <p:cNvGrpSpPr/>
                    <p:nvPr/>
                  </p:nvGrpSpPr>
                  <p:grpSpPr>
                    <a:xfrm>
                      <a:off x="1102320" y="4563720"/>
                      <a:ext cx="263160" cy="64440"/>
                      <a:chOff x="1102320" y="4563720"/>
                      <a:chExt cx="263160" cy="64440"/>
                    </a:xfrm>
                  </p:grpSpPr>
                  <p:grpSp>
                    <p:nvGrpSpPr>
                      <p:cNvPr id="6143" name=""/>
                      <p:cNvGrpSpPr/>
                      <p:nvPr/>
                    </p:nvGrpSpPr>
                    <p:grpSpPr>
                      <a:xfrm>
                        <a:off x="1108440" y="4563720"/>
                        <a:ext cx="257040" cy="64440"/>
                        <a:chOff x="1108440" y="4563720"/>
                        <a:chExt cx="257040" cy="64440"/>
                      </a:xfrm>
                    </p:grpSpPr>
                    <p:sp>
                      <p:nvSpPr>
                        <p:cNvPr id="6144" name=""/>
                        <p:cNvSpPr/>
                        <p:nvPr/>
                      </p:nvSpPr>
                      <p:spPr>
                        <a:xfrm>
                          <a:off x="1110960" y="4571280"/>
                          <a:ext cx="249840" cy="442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012" h="148">
                              <a:moveTo>
                                <a:pt x="0" y="117"/>
                              </a:moveTo>
                              <a:lnTo>
                                <a:pt x="60" y="98"/>
                              </a:lnTo>
                              <a:lnTo>
                                <a:pt x="123" y="80"/>
                              </a:lnTo>
                              <a:lnTo>
                                <a:pt x="207" y="59"/>
                              </a:lnTo>
                              <a:lnTo>
                                <a:pt x="298" y="39"/>
                              </a:lnTo>
                              <a:lnTo>
                                <a:pt x="390" y="22"/>
                              </a:lnTo>
                              <a:lnTo>
                                <a:pt x="459" y="12"/>
                              </a:lnTo>
                              <a:lnTo>
                                <a:pt x="543" y="3"/>
                              </a:lnTo>
                              <a:lnTo>
                                <a:pt x="632" y="0"/>
                              </a:lnTo>
                              <a:lnTo>
                                <a:pt x="714" y="4"/>
                              </a:lnTo>
                              <a:lnTo>
                                <a:pt x="788" y="9"/>
                              </a:lnTo>
                              <a:lnTo>
                                <a:pt x="861" y="22"/>
                              </a:lnTo>
                              <a:lnTo>
                                <a:pt x="901" y="36"/>
                              </a:lnTo>
                              <a:lnTo>
                                <a:pt x="937" y="58"/>
                              </a:lnTo>
                              <a:lnTo>
                                <a:pt x="967" y="81"/>
                              </a:lnTo>
                              <a:lnTo>
                                <a:pt x="999" y="122"/>
                              </a:lnTo>
                              <a:lnTo>
                                <a:pt x="1012" y="148"/>
                              </a:lnTo>
                            </a:path>
                          </a:pathLst>
                        </a:custGeom>
                        <a:noFill/>
                        <a:ln w="25560">
                          <a:solidFill>
                            <a:srgbClr val="60006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520" bIns="-25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145" name=""/>
                        <p:cNvSpPr/>
                        <p:nvPr/>
                      </p:nvSpPr>
                      <p:spPr>
                        <a:xfrm>
                          <a:off x="1108440" y="4583880"/>
                          <a:ext cx="251280" cy="442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012" h="147">
                              <a:moveTo>
                                <a:pt x="0" y="117"/>
                              </a:moveTo>
                              <a:lnTo>
                                <a:pt x="60" y="98"/>
                              </a:lnTo>
                              <a:lnTo>
                                <a:pt x="122" y="79"/>
                              </a:lnTo>
                              <a:lnTo>
                                <a:pt x="208" y="59"/>
                              </a:lnTo>
                              <a:lnTo>
                                <a:pt x="299" y="39"/>
                              </a:lnTo>
                              <a:lnTo>
                                <a:pt x="390" y="21"/>
                              </a:lnTo>
                              <a:lnTo>
                                <a:pt x="459" y="11"/>
                              </a:lnTo>
                              <a:lnTo>
                                <a:pt x="543" y="3"/>
                              </a:lnTo>
                              <a:lnTo>
                                <a:pt x="633" y="0"/>
                              </a:lnTo>
                              <a:lnTo>
                                <a:pt x="713" y="4"/>
                              </a:lnTo>
                              <a:lnTo>
                                <a:pt x="788" y="8"/>
                              </a:lnTo>
                              <a:lnTo>
                                <a:pt x="861" y="21"/>
                              </a:lnTo>
                              <a:lnTo>
                                <a:pt x="902" y="36"/>
                              </a:lnTo>
                              <a:lnTo>
                                <a:pt x="937" y="57"/>
                              </a:lnTo>
                              <a:lnTo>
                                <a:pt x="968" y="81"/>
                              </a:lnTo>
                              <a:lnTo>
                                <a:pt x="999" y="121"/>
                              </a:lnTo>
                              <a:lnTo>
                                <a:pt x="1012" y="147"/>
                              </a:lnTo>
                            </a:path>
                          </a:pathLst>
                        </a:custGeom>
                        <a:noFill/>
                        <a:ln w="11160">
                          <a:solidFill>
                            <a:srgbClr val="40004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520" bIns="-25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146" name=""/>
                        <p:cNvSpPr/>
                        <p:nvPr/>
                      </p:nvSpPr>
                      <p:spPr>
                        <a:xfrm>
                          <a:off x="1115640" y="4563720"/>
                          <a:ext cx="249840" cy="442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012" h="147">
                              <a:moveTo>
                                <a:pt x="0" y="117"/>
                              </a:moveTo>
                              <a:lnTo>
                                <a:pt x="60" y="98"/>
                              </a:lnTo>
                              <a:lnTo>
                                <a:pt x="123" y="79"/>
                              </a:lnTo>
                              <a:lnTo>
                                <a:pt x="208" y="59"/>
                              </a:lnTo>
                              <a:lnTo>
                                <a:pt x="299" y="39"/>
                              </a:lnTo>
                              <a:lnTo>
                                <a:pt x="390" y="21"/>
                              </a:lnTo>
                              <a:lnTo>
                                <a:pt x="458" y="12"/>
                              </a:lnTo>
                              <a:lnTo>
                                <a:pt x="542" y="3"/>
                              </a:lnTo>
                              <a:lnTo>
                                <a:pt x="632" y="0"/>
                              </a:lnTo>
                              <a:lnTo>
                                <a:pt x="713" y="5"/>
                              </a:lnTo>
                              <a:lnTo>
                                <a:pt x="788" y="9"/>
                              </a:lnTo>
                              <a:lnTo>
                                <a:pt x="861" y="21"/>
                              </a:lnTo>
                              <a:lnTo>
                                <a:pt x="901" y="36"/>
                              </a:lnTo>
                              <a:lnTo>
                                <a:pt x="937" y="57"/>
                              </a:lnTo>
                              <a:lnTo>
                                <a:pt x="968" y="82"/>
                              </a:lnTo>
                              <a:lnTo>
                                <a:pt x="998" y="122"/>
                              </a:lnTo>
                              <a:lnTo>
                                <a:pt x="1012" y="147"/>
                              </a:lnTo>
                            </a:path>
                          </a:pathLst>
                        </a:custGeom>
                        <a:noFill/>
                        <a:ln w="4680">
                          <a:solidFill>
                            <a:srgbClr val="a000a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520" bIns="-25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6147" name=""/>
                      <p:cNvSpPr/>
                      <p:nvPr/>
                    </p:nvSpPr>
                    <p:spPr>
                      <a:xfrm>
                        <a:off x="1102320" y="4596120"/>
                        <a:ext cx="12240" cy="25920"/>
                      </a:xfrm>
                      <a:prstGeom prst="ellipse">
                        <a:avLst/>
                      </a:prstGeom>
                      <a:solidFill>
                        <a:srgbClr val="200020"/>
                      </a:solidFill>
                      <a:ln w="3240">
                        <a:solidFill>
                          <a:srgbClr val="80008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8080" bIns="-280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6148" name=""/>
                <p:cNvGrpSpPr/>
                <p:nvPr/>
              </p:nvGrpSpPr>
              <p:grpSpPr>
                <a:xfrm>
                  <a:off x="1113120" y="4614840"/>
                  <a:ext cx="425880" cy="470880"/>
                  <a:chOff x="1113120" y="4614840"/>
                  <a:chExt cx="425880" cy="470880"/>
                </a:xfrm>
              </p:grpSpPr>
              <p:grpSp>
                <p:nvGrpSpPr>
                  <p:cNvPr id="6149" name=""/>
                  <p:cNvGrpSpPr/>
                  <p:nvPr/>
                </p:nvGrpSpPr>
                <p:grpSpPr>
                  <a:xfrm>
                    <a:off x="1113120" y="4614840"/>
                    <a:ext cx="425880" cy="470880"/>
                    <a:chOff x="1113120" y="4614840"/>
                    <a:chExt cx="425880" cy="470880"/>
                  </a:xfrm>
                </p:grpSpPr>
                <p:grpSp>
                  <p:nvGrpSpPr>
                    <p:cNvPr id="6150" name=""/>
                    <p:cNvGrpSpPr/>
                    <p:nvPr/>
                  </p:nvGrpSpPr>
                  <p:grpSpPr>
                    <a:xfrm>
                      <a:off x="1113120" y="4614840"/>
                      <a:ext cx="425880" cy="470880"/>
                      <a:chOff x="1113120" y="4614840"/>
                      <a:chExt cx="425880" cy="470880"/>
                    </a:xfrm>
                  </p:grpSpPr>
                  <p:grpSp>
                    <p:nvGrpSpPr>
                      <p:cNvPr id="6151" name=""/>
                      <p:cNvGrpSpPr/>
                      <p:nvPr/>
                    </p:nvGrpSpPr>
                    <p:grpSpPr>
                      <a:xfrm>
                        <a:off x="1113120" y="4614840"/>
                        <a:ext cx="425880" cy="470880"/>
                        <a:chOff x="1113120" y="4614840"/>
                        <a:chExt cx="425880" cy="470880"/>
                      </a:xfrm>
                    </p:grpSpPr>
                    <p:grpSp>
                      <p:nvGrpSpPr>
                        <p:cNvPr id="6152" name=""/>
                        <p:cNvGrpSpPr/>
                        <p:nvPr/>
                      </p:nvGrpSpPr>
                      <p:grpSpPr>
                        <a:xfrm>
                          <a:off x="1113120" y="4614840"/>
                          <a:ext cx="425880" cy="470880"/>
                          <a:chOff x="1113120" y="4614840"/>
                          <a:chExt cx="425880" cy="470880"/>
                        </a:xfrm>
                      </p:grpSpPr>
                      <p:sp>
                        <p:nvSpPr>
                          <p:cNvPr id="6153" name=""/>
                          <p:cNvSpPr/>
                          <p:nvPr/>
                        </p:nvSpPr>
                        <p:spPr>
                          <a:xfrm>
                            <a:off x="1113120" y="4614840"/>
                            <a:ext cx="425880" cy="4708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716" h="1521">
                                <a:moveTo>
                                  <a:pt x="499" y="282"/>
                                </a:moveTo>
                                <a:lnTo>
                                  <a:pt x="548" y="246"/>
                                </a:lnTo>
                                <a:lnTo>
                                  <a:pt x="591" y="194"/>
                                </a:lnTo>
                                <a:lnTo>
                                  <a:pt x="634" y="140"/>
                                </a:lnTo>
                                <a:lnTo>
                                  <a:pt x="673" y="105"/>
                                </a:lnTo>
                                <a:lnTo>
                                  <a:pt x="716" y="70"/>
                                </a:lnTo>
                                <a:lnTo>
                                  <a:pt x="768" y="40"/>
                                </a:lnTo>
                                <a:lnTo>
                                  <a:pt x="806" y="19"/>
                                </a:lnTo>
                                <a:lnTo>
                                  <a:pt x="854" y="9"/>
                                </a:lnTo>
                                <a:lnTo>
                                  <a:pt x="906" y="0"/>
                                </a:lnTo>
                                <a:lnTo>
                                  <a:pt x="960" y="6"/>
                                </a:lnTo>
                                <a:lnTo>
                                  <a:pt x="1004" y="13"/>
                                </a:lnTo>
                                <a:lnTo>
                                  <a:pt x="1040" y="22"/>
                                </a:lnTo>
                                <a:lnTo>
                                  <a:pt x="1084" y="43"/>
                                </a:lnTo>
                                <a:lnTo>
                                  <a:pt x="1130" y="64"/>
                                </a:lnTo>
                                <a:lnTo>
                                  <a:pt x="1168" y="84"/>
                                </a:lnTo>
                                <a:lnTo>
                                  <a:pt x="1211" y="116"/>
                                </a:lnTo>
                                <a:lnTo>
                                  <a:pt x="1244" y="152"/>
                                </a:lnTo>
                                <a:lnTo>
                                  <a:pt x="1270" y="199"/>
                                </a:lnTo>
                                <a:lnTo>
                                  <a:pt x="1281" y="227"/>
                                </a:lnTo>
                                <a:lnTo>
                                  <a:pt x="1283" y="263"/>
                                </a:lnTo>
                                <a:lnTo>
                                  <a:pt x="1298" y="294"/>
                                </a:lnTo>
                                <a:lnTo>
                                  <a:pt x="1319" y="323"/>
                                </a:lnTo>
                                <a:lnTo>
                                  <a:pt x="1347" y="343"/>
                                </a:lnTo>
                                <a:lnTo>
                                  <a:pt x="1381" y="360"/>
                                </a:lnTo>
                                <a:lnTo>
                                  <a:pt x="1401" y="378"/>
                                </a:lnTo>
                                <a:lnTo>
                                  <a:pt x="1418" y="404"/>
                                </a:lnTo>
                                <a:lnTo>
                                  <a:pt x="1444" y="438"/>
                                </a:lnTo>
                                <a:lnTo>
                                  <a:pt x="1472" y="471"/>
                                </a:lnTo>
                                <a:lnTo>
                                  <a:pt x="1503" y="505"/>
                                </a:lnTo>
                                <a:lnTo>
                                  <a:pt x="1534" y="539"/>
                                </a:lnTo>
                                <a:lnTo>
                                  <a:pt x="1567" y="601"/>
                                </a:lnTo>
                                <a:lnTo>
                                  <a:pt x="1591" y="661"/>
                                </a:lnTo>
                                <a:lnTo>
                                  <a:pt x="1609" y="707"/>
                                </a:lnTo>
                                <a:lnTo>
                                  <a:pt x="1622" y="769"/>
                                </a:lnTo>
                                <a:lnTo>
                                  <a:pt x="1641" y="832"/>
                                </a:lnTo>
                                <a:lnTo>
                                  <a:pt x="1656" y="891"/>
                                </a:lnTo>
                                <a:lnTo>
                                  <a:pt x="1668" y="947"/>
                                </a:lnTo>
                                <a:lnTo>
                                  <a:pt x="1680" y="1005"/>
                                </a:lnTo>
                                <a:lnTo>
                                  <a:pt x="1695" y="1057"/>
                                </a:lnTo>
                                <a:lnTo>
                                  <a:pt x="1702" y="1122"/>
                                </a:lnTo>
                                <a:lnTo>
                                  <a:pt x="1710" y="1190"/>
                                </a:lnTo>
                                <a:lnTo>
                                  <a:pt x="1716" y="1253"/>
                                </a:lnTo>
                                <a:lnTo>
                                  <a:pt x="1708" y="1301"/>
                                </a:lnTo>
                                <a:lnTo>
                                  <a:pt x="1702" y="1340"/>
                                </a:lnTo>
                                <a:lnTo>
                                  <a:pt x="1698" y="1374"/>
                                </a:lnTo>
                                <a:lnTo>
                                  <a:pt x="1683" y="1404"/>
                                </a:lnTo>
                                <a:lnTo>
                                  <a:pt x="1658" y="1435"/>
                                </a:lnTo>
                                <a:lnTo>
                                  <a:pt x="1621" y="1463"/>
                                </a:lnTo>
                                <a:lnTo>
                                  <a:pt x="1576" y="1480"/>
                                </a:lnTo>
                                <a:lnTo>
                                  <a:pt x="1525" y="1491"/>
                                </a:lnTo>
                                <a:lnTo>
                                  <a:pt x="1464" y="1499"/>
                                </a:lnTo>
                                <a:lnTo>
                                  <a:pt x="1408" y="1506"/>
                                </a:lnTo>
                                <a:lnTo>
                                  <a:pt x="1346" y="1509"/>
                                </a:lnTo>
                                <a:lnTo>
                                  <a:pt x="1273" y="1516"/>
                                </a:lnTo>
                                <a:lnTo>
                                  <a:pt x="1210" y="1521"/>
                                </a:lnTo>
                                <a:lnTo>
                                  <a:pt x="1152" y="1521"/>
                                </a:lnTo>
                                <a:lnTo>
                                  <a:pt x="1094" y="1516"/>
                                </a:lnTo>
                                <a:lnTo>
                                  <a:pt x="1042" y="1509"/>
                                </a:lnTo>
                                <a:lnTo>
                                  <a:pt x="1001" y="1505"/>
                                </a:lnTo>
                                <a:lnTo>
                                  <a:pt x="957" y="1493"/>
                                </a:lnTo>
                                <a:lnTo>
                                  <a:pt x="903" y="1478"/>
                                </a:lnTo>
                                <a:lnTo>
                                  <a:pt x="843" y="1459"/>
                                </a:lnTo>
                                <a:lnTo>
                                  <a:pt x="796" y="1441"/>
                                </a:lnTo>
                                <a:lnTo>
                                  <a:pt x="741" y="1419"/>
                                </a:lnTo>
                                <a:lnTo>
                                  <a:pt x="694" y="1399"/>
                                </a:lnTo>
                                <a:lnTo>
                                  <a:pt x="647" y="1375"/>
                                </a:lnTo>
                                <a:lnTo>
                                  <a:pt x="597" y="1349"/>
                                </a:lnTo>
                                <a:lnTo>
                                  <a:pt x="550" y="1321"/>
                                </a:lnTo>
                                <a:lnTo>
                                  <a:pt x="503" y="1286"/>
                                </a:lnTo>
                                <a:lnTo>
                                  <a:pt x="460" y="1252"/>
                                </a:lnTo>
                                <a:lnTo>
                                  <a:pt x="429" y="1224"/>
                                </a:lnTo>
                                <a:lnTo>
                                  <a:pt x="388" y="1170"/>
                                </a:lnTo>
                                <a:lnTo>
                                  <a:pt x="355" y="1127"/>
                                </a:lnTo>
                                <a:lnTo>
                                  <a:pt x="321" y="1079"/>
                                </a:lnTo>
                                <a:lnTo>
                                  <a:pt x="301" y="1051"/>
                                </a:lnTo>
                                <a:lnTo>
                                  <a:pt x="285" y="1014"/>
                                </a:lnTo>
                                <a:lnTo>
                                  <a:pt x="255" y="1006"/>
                                </a:lnTo>
                                <a:lnTo>
                                  <a:pt x="221" y="996"/>
                                </a:lnTo>
                                <a:lnTo>
                                  <a:pt x="190" y="981"/>
                                </a:lnTo>
                                <a:lnTo>
                                  <a:pt x="150" y="957"/>
                                </a:lnTo>
                                <a:lnTo>
                                  <a:pt x="111" y="928"/>
                                </a:lnTo>
                                <a:lnTo>
                                  <a:pt x="85" y="894"/>
                                </a:lnTo>
                                <a:lnTo>
                                  <a:pt x="55" y="854"/>
                                </a:lnTo>
                                <a:lnTo>
                                  <a:pt x="33" y="817"/>
                                </a:lnTo>
                                <a:lnTo>
                                  <a:pt x="12" y="777"/>
                                </a:lnTo>
                                <a:lnTo>
                                  <a:pt x="4" y="738"/>
                                </a:lnTo>
                                <a:lnTo>
                                  <a:pt x="0" y="684"/>
                                </a:lnTo>
                                <a:lnTo>
                                  <a:pt x="3" y="641"/>
                                </a:lnTo>
                                <a:lnTo>
                                  <a:pt x="12" y="597"/>
                                </a:lnTo>
                                <a:lnTo>
                                  <a:pt x="27" y="547"/>
                                </a:lnTo>
                                <a:lnTo>
                                  <a:pt x="49" y="499"/>
                                </a:lnTo>
                                <a:lnTo>
                                  <a:pt x="76" y="451"/>
                                </a:lnTo>
                                <a:lnTo>
                                  <a:pt x="107" y="409"/>
                                </a:lnTo>
                                <a:lnTo>
                                  <a:pt x="134" y="378"/>
                                </a:lnTo>
                                <a:lnTo>
                                  <a:pt x="168" y="347"/>
                                </a:lnTo>
                                <a:lnTo>
                                  <a:pt x="208" y="320"/>
                                </a:lnTo>
                                <a:lnTo>
                                  <a:pt x="248" y="301"/>
                                </a:lnTo>
                                <a:lnTo>
                                  <a:pt x="298" y="289"/>
                                </a:lnTo>
                                <a:lnTo>
                                  <a:pt x="360" y="281"/>
                                </a:lnTo>
                                <a:lnTo>
                                  <a:pt x="415" y="282"/>
                                </a:lnTo>
                                <a:lnTo>
                                  <a:pt x="466" y="288"/>
                                </a:lnTo>
                                <a:lnTo>
                                  <a:pt x="499" y="282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ffc08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6154" name=""/>
                          <p:cNvSpPr/>
                          <p:nvPr/>
                        </p:nvSpPr>
                        <p:spPr>
                          <a:xfrm>
                            <a:off x="1200960" y="4731840"/>
                            <a:ext cx="338040" cy="35352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361" h="1143">
                                <a:moveTo>
                                  <a:pt x="1051" y="53"/>
                                </a:moveTo>
                                <a:lnTo>
                                  <a:pt x="1042" y="25"/>
                                </a:lnTo>
                                <a:lnTo>
                                  <a:pt x="1046" y="0"/>
                                </a:lnTo>
                                <a:lnTo>
                                  <a:pt x="1063" y="27"/>
                                </a:lnTo>
                                <a:lnTo>
                                  <a:pt x="1089" y="61"/>
                                </a:lnTo>
                                <a:lnTo>
                                  <a:pt x="1117" y="94"/>
                                </a:lnTo>
                                <a:lnTo>
                                  <a:pt x="1148" y="128"/>
                                </a:lnTo>
                                <a:lnTo>
                                  <a:pt x="1179" y="162"/>
                                </a:lnTo>
                                <a:lnTo>
                                  <a:pt x="1212" y="224"/>
                                </a:lnTo>
                                <a:lnTo>
                                  <a:pt x="1236" y="284"/>
                                </a:lnTo>
                                <a:lnTo>
                                  <a:pt x="1254" y="329"/>
                                </a:lnTo>
                                <a:lnTo>
                                  <a:pt x="1267" y="391"/>
                                </a:lnTo>
                                <a:lnTo>
                                  <a:pt x="1286" y="454"/>
                                </a:lnTo>
                                <a:lnTo>
                                  <a:pt x="1301" y="513"/>
                                </a:lnTo>
                                <a:lnTo>
                                  <a:pt x="1313" y="569"/>
                                </a:lnTo>
                                <a:lnTo>
                                  <a:pt x="1325" y="627"/>
                                </a:lnTo>
                                <a:lnTo>
                                  <a:pt x="1340" y="679"/>
                                </a:lnTo>
                                <a:lnTo>
                                  <a:pt x="1347" y="744"/>
                                </a:lnTo>
                                <a:lnTo>
                                  <a:pt x="1355" y="813"/>
                                </a:lnTo>
                                <a:lnTo>
                                  <a:pt x="1361" y="875"/>
                                </a:lnTo>
                                <a:lnTo>
                                  <a:pt x="1353" y="923"/>
                                </a:lnTo>
                                <a:lnTo>
                                  <a:pt x="1347" y="962"/>
                                </a:lnTo>
                                <a:lnTo>
                                  <a:pt x="1343" y="996"/>
                                </a:lnTo>
                                <a:lnTo>
                                  <a:pt x="1328" y="1026"/>
                                </a:lnTo>
                                <a:lnTo>
                                  <a:pt x="1303" y="1057"/>
                                </a:lnTo>
                                <a:lnTo>
                                  <a:pt x="1266" y="1085"/>
                                </a:lnTo>
                                <a:lnTo>
                                  <a:pt x="1221" y="1102"/>
                                </a:lnTo>
                                <a:lnTo>
                                  <a:pt x="1170" y="1113"/>
                                </a:lnTo>
                                <a:lnTo>
                                  <a:pt x="1109" y="1121"/>
                                </a:lnTo>
                                <a:lnTo>
                                  <a:pt x="1053" y="1128"/>
                                </a:lnTo>
                                <a:lnTo>
                                  <a:pt x="992" y="1131"/>
                                </a:lnTo>
                                <a:lnTo>
                                  <a:pt x="918" y="1138"/>
                                </a:lnTo>
                                <a:lnTo>
                                  <a:pt x="855" y="1143"/>
                                </a:lnTo>
                                <a:lnTo>
                                  <a:pt x="797" y="1143"/>
                                </a:lnTo>
                                <a:lnTo>
                                  <a:pt x="739" y="1138"/>
                                </a:lnTo>
                                <a:lnTo>
                                  <a:pt x="687" y="1131"/>
                                </a:lnTo>
                                <a:lnTo>
                                  <a:pt x="646" y="1127"/>
                                </a:lnTo>
                                <a:lnTo>
                                  <a:pt x="602" y="1115"/>
                                </a:lnTo>
                                <a:lnTo>
                                  <a:pt x="548" y="1100"/>
                                </a:lnTo>
                                <a:lnTo>
                                  <a:pt x="488" y="1081"/>
                                </a:lnTo>
                                <a:lnTo>
                                  <a:pt x="441" y="1063"/>
                                </a:lnTo>
                                <a:lnTo>
                                  <a:pt x="386" y="1041"/>
                                </a:lnTo>
                                <a:lnTo>
                                  <a:pt x="341" y="1021"/>
                                </a:lnTo>
                                <a:lnTo>
                                  <a:pt x="293" y="997"/>
                                </a:lnTo>
                                <a:lnTo>
                                  <a:pt x="243" y="971"/>
                                </a:lnTo>
                                <a:lnTo>
                                  <a:pt x="196" y="943"/>
                                </a:lnTo>
                                <a:lnTo>
                                  <a:pt x="149" y="908"/>
                                </a:lnTo>
                                <a:lnTo>
                                  <a:pt x="106" y="874"/>
                                </a:lnTo>
                                <a:lnTo>
                                  <a:pt x="74" y="847"/>
                                </a:lnTo>
                                <a:lnTo>
                                  <a:pt x="33" y="793"/>
                                </a:lnTo>
                                <a:lnTo>
                                  <a:pt x="0" y="749"/>
                                </a:lnTo>
                                <a:lnTo>
                                  <a:pt x="29" y="760"/>
                                </a:lnTo>
                                <a:lnTo>
                                  <a:pt x="54" y="782"/>
                                </a:lnTo>
                                <a:lnTo>
                                  <a:pt x="84" y="819"/>
                                </a:lnTo>
                                <a:lnTo>
                                  <a:pt x="122" y="853"/>
                                </a:lnTo>
                                <a:lnTo>
                                  <a:pt x="157" y="879"/>
                                </a:lnTo>
                                <a:lnTo>
                                  <a:pt x="198" y="908"/>
                                </a:lnTo>
                                <a:lnTo>
                                  <a:pt x="236" y="932"/>
                                </a:lnTo>
                                <a:lnTo>
                                  <a:pt x="278" y="960"/>
                                </a:lnTo>
                                <a:lnTo>
                                  <a:pt x="318" y="976"/>
                                </a:lnTo>
                                <a:lnTo>
                                  <a:pt x="366" y="1001"/>
                                </a:lnTo>
                                <a:lnTo>
                                  <a:pt x="406" y="1013"/>
                                </a:lnTo>
                                <a:lnTo>
                                  <a:pt x="443" y="1033"/>
                                </a:lnTo>
                                <a:lnTo>
                                  <a:pt x="483" y="1047"/>
                                </a:lnTo>
                                <a:lnTo>
                                  <a:pt x="519" y="1058"/>
                                </a:lnTo>
                                <a:lnTo>
                                  <a:pt x="568" y="1078"/>
                                </a:lnTo>
                                <a:lnTo>
                                  <a:pt x="613" y="1085"/>
                                </a:lnTo>
                                <a:lnTo>
                                  <a:pt x="660" y="1093"/>
                                </a:lnTo>
                                <a:lnTo>
                                  <a:pt x="708" y="1100"/>
                                </a:lnTo>
                                <a:lnTo>
                                  <a:pt x="757" y="1106"/>
                                </a:lnTo>
                                <a:lnTo>
                                  <a:pt x="805" y="1109"/>
                                </a:lnTo>
                                <a:lnTo>
                                  <a:pt x="845" y="1107"/>
                                </a:lnTo>
                                <a:lnTo>
                                  <a:pt x="889" y="1106"/>
                                </a:lnTo>
                                <a:lnTo>
                                  <a:pt x="928" y="1104"/>
                                </a:lnTo>
                                <a:lnTo>
                                  <a:pt x="971" y="1100"/>
                                </a:lnTo>
                                <a:lnTo>
                                  <a:pt x="1012" y="1097"/>
                                </a:lnTo>
                                <a:lnTo>
                                  <a:pt x="1052" y="1090"/>
                                </a:lnTo>
                                <a:lnTo>
                                  <a:pt x="1098" y="1084"/>
                                </a:lnTo>
                                <a:lnTo>
                                  <a:pt x="1140" y="1081"/>
                                </a:lnTo>
                                <a:lnTo>
                                  <a:pt x="1163" y="1067"/>
                                </a:lnTo>
                                <a:lnTo>
                                  <a:pt x="1190" y="1047"/>
                                </a:lnTo>
                                <a:lnTo>
                                  <a:pt x="1216" y="1033"/>
                                </a:lnTo>
                                <a:lnTo>
                                  <a:pt x="1234" y="1008"/>
                                </a:lnTo>
                                <a:lnTo>
                                  <a:pt x="1251" y="980"/>
                                </a:lnTo>
                                <a:lnTo>
                                  <a:pt x="1265" y="952"/>
                                </a:lnTo>
                                <a:lnTo>
                                  <a:pt x="1280" y="921"/>
                                </a:lnTo>
                                <a:lnTo>
                                  <a:pt x="1290" y="888"/>
                                </a:lnTo>
                                <a:lnTo>
                                  <a:pt x="1302" y="867"/>
                                </a:lnTo>
                                <a:lnTo>
                                  <a:pt x="1297" y="809"/>
                                </a:lnTo>
                                <a:lnTo>
                                  <a:pt x="1293" y="750"/>
                                </a:lnTo>
                                <a:lnTo>
                                  <a:pt x="1290" y="692"/>
                                </a:lnTo>
                                <a:lnTo>
                                  <a:pt x="1287" y="644"/>
                                </a:lnTo>
                                <a:lnTo>
                                  <a:pt x="1277" y="604"/>
                                </a:lnTo>
                                <a:lnTo>
                                  <a:pt x="1266" y="558"/>
                                </a:lnTo>
                                <a:lnTo>
                                  <a:pt x="1253" y="516"/>
                                </a:lnTo>
                                <a:lnTo>
                                  <a:pt x="1245" y="479"/>
                                </a:lnTo>
                                <a:lnTo>
                                  <a:pt x="1234" y="436"/>
                                </a:lnTo>
                                <a:lnTo>
                                  <a:pt x="1220" y="387"/>
                                </a:lnTo>
                                <a:lnTo>
                                  <a:pt x="1208" y="337"/>
                                </a:lnTo>
                                <a:lnTo>
                                  <a:pt x="1203" y="299"/>
                                </a:lnTo>
                                <a:lnTo>
                                  <a:pt x="1180" y="263"/>
                                </a:lnTo>
                                <a:lnTo>
                                  <a:pt x="1159" y="232"/>
                                </a:lnTo>
                                <a:lnTo>
                                  <a:pt x="1137" y="192"/>
                                </a:lnTo>
                                <a:lnTo>
                                  <a:pt x="1113" y="149"/>
                                </a:lnTo>
                                <a:lnTo>
                                  <a:pt x="1092" y="113"/>
                                </a:lnTo>
                                <a:lnTo>
                                  <a:pt x="1070" y="84"/>
                                </a:lnTo>
                                <a:lnTo>
                                  <a:pt x="1051" y="53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ffa04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6155" name=""/>
                        <p:cNvSpPr/>
                        <p:nvPr/>
                      </p:nvSpPr>
                      <p:spPr>
                        <a:xfrm>
                          <a:off x="1337400" y="4874040"/>
                          <a:ext cx="119880" cy="1512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88" h="488">
                              <a:moveTo>
                                <a:pt x="22" y="0"/>
                              </a:moveTo>
                              <a:lnTo>
                                <a:pt x="57" y="24"/>
                              </a:lnTo>
                              <a:lnTo>
                                <a:pt x="89" y="55"/>
                              </a:lnTo>
                              <a:lnTo>
                                <a:pt x="122" y="89"/>
                              </a:lnTo>
                              <a:lnTo>
                                <a:pt x="158" y="130"/>
                              </a:lnTo>
                              <a:lnTo>
                                <a:pt x="197" y="173"/>
                              </a:lnTo>
                              <a:lnTo>
                                <a:pt x="243" y="221"/>
                              </a:lnTo>
                              <a:lnTo>
                                <a:pt x="290" y="273"/>
                              </a:lnTo>
                              <a:lnTo>
                                <a:pt x="323" y="313"/>
                              </a:lnTo>
                              <a:lnTo>
                                <a:pt x="352" y="339"/>
                              </a:lnTo>
                              <a:lnTo>
                                <a:pt x="381" y="364"/>
                              </a:lnTo>
                              <a:lnTo>
                                <a:pt x="413" y="386"/>
                              </a:lnTo>
                              <a:lnTo>
                                <a:pt x="444" y="412"/>
                              </a:lnTo>
                              <a:lnTo>
                                <a:pt x="470" y="433"/>
                              </a:lnTo>
                              <a:lnTo>
                                <a:pt x="484" y="449"/>
                              </a:lnTo>
                              <a:lnTo>
                                <a:pt x="488" y="466"/>
                              </a:lnTo>
                              <a:lnTo>
                                <a:pt x="485" y="479"/>
                              </a:lnTo>
                              <a:lnTo>
                                <a:pt x="476" y="486"/>
                              </a:lnTo>
                              <a:lnTo>
                                <a:pt x="462" y="488"/>
                              </a:lnTo>
                              <a:lnTo>
                                <a:pt x="444" y="482"/>
                              </a:lnTo>
                              <a:lnTo>
                                <a:pt x="417" y="463"/>
                              </a:lnTo>
                              <a:lnTo>
                                <a:pt x="390" y="448"/>
                              </a:lnTo>
                              <a:lnTo>
                                <a:pt x="365" y="436"/>
                              </a:lnTo>
                              <a:lnTo>
                                <a:pt x="336" y="411"/>
                              </a:lnTo>
                              <a:lnTo>
                                <a:pt x="308" y="389"/>
                              </a:lnTo>
                              <a:lnTo>
                                <a:pt x="274" y="361"/>
                              </a:lnTo>
                              <a:lnTo>
                                <a:pt x="243" y="336"/>
                              </a:lnTo>
                              <a:lnTo>
                                <a:pt x="208" y="307"/>
                              </a:lnTo>
                              <a:lnTo>
                                <a:pt x="179" y="281"/>
                              </a:lnTo>
                              <a:lnTo>
                                <a:pt x="155" y="252"/>
                              </a:lnTo>
                              <a:lnTo>
                                <a:pt x="130" y="228"/>
                              </a:lnTo>
                              <a:lnTo>
                                <a:pt x="116" y="208"/>
                              </a:lnTo>
                              <a:lnTo>
                                <a:pt x="92" y="176"/>
                              </a:lnTo>
                              <a:lnTo>
                                <a:pt x="71" y="142"/>
                              </a:lnTo>
                              <a:lnTo>
                                <a:pt x="49" y="109"/>
                              </a:lnTo>
                              <a:lnTo>
                                <a:pt x="31" y="79"/>
                              </a:lnTo>
                              <a:lnTo>
                                <a:pt x="15" y="52"/>
                              </a:lnTo>
                              <a:lnTo>
                                <a:pt x="4" y="30"/>
                              </a:lnTo>
                              <a:lnTo>
                                <a:pt x="0" y="15"/>
                              </a:lnTo>
                              <a:lnTo>
                                <a:pt x="4" y="5"/>
                              </a:lnTo>
                              <a:lnTo>
                                <a:pt x="22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e0c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6156" name=""/>
                      <p:cNvSpPr/>
                      <p:nvPr/>
                    </p:nvSpPr>
                    <p:spPr>
                      <a:xfrm>
                        <a:off x="1401480" y="4963680"/>
                        <a:ext cx="105120" cy="100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22" h="325">
                            <a:moveTo>
                              <a:pt x="422" y="0"/>
                            </a:moveTo>
                            <a:lnTo>
                              <a:pt x="422" y="44"/>
                            </a:lnTo>
                            <a:lnTo>
                              <a:pt x="421" y="99"/>
                            </a:lnTo>
                            <a:lnTo>
                              <a:pt x="415" y="148"/>
                            </a:lnTo>
                            <a:lnTo>
                              <a:pt x="403" y="188"/>
                            </a:lnTo>
                            <a:lnTo>
                              <a:pt x="383" y="215"/>
                            </a:lnTo>
                            <a:lnTo>
                              <a:pt x="359" y="238"/>
                            </a:lnTo>
                            <a:lnTo>
                              <a:pt x="325" y="260"/>
                            </a:lnTo>
                            <a:lnTo>
                              <a:pt x="290" y="279"/>
                            </a:lnTo>
                            <a:lnTo>
                              <a:pt x="239" y="300"/>
                            </a:lnTo>
                            <a:lnTo>
                              <a:pt x="193" y="313"/>
                            </a:lnTo>
                            <a:lnTo>
                              <a:pt x="141" y="320"/>
                            </a:lnTo>
                            <a:lnTo>
                              <a:pt x="95" y="325"/>
                            </a:lnTo>
                            <a:lnTo>
                              <a:pt x="47" y="323"/>
                            </a:lnTo>
                            <a:lnTo>
                              <a:pt x="0" y="320"/>
                            </a:lnTo>
                          </a:path>
                        </a:pathLst>
                      </a:custGeom>
                      <a:noFill/>
                      <a:ln w="3240">
                        <a:solidFill>
                          <a:srgbClr val="ff8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6157" name=""/>
                    <p:cNvGrpSpPr/>
                    <p:nvPr/>
                  </p:nvGrpSpPr>
                  <p:grpSpPr>
                    <a:xfrm>
                      <a:off x="1126800" y="4629960"/>
                      <a:ext cx="362160" cy="417960"/>
                      <a:chOff x="1126800" y="4629960"/>
                      <a:chExt cx="362160" cy="417960"/>
                    </a:xfrm>
                  </p:grpSpPr>
                  <p:grpSp>
                    <p:nvGrpSpPr>
                      <p:cNvPr id="6158" name=""/>
                      <p:cNvGrpSpPr/>
                      <p:nvPr/>
                    </p:nvGrpSpPr>
                    <p:grpSpPr>
                      <a:xfrm>
                        <a:off x="1256400" y="4629960"/>
                        <a:ext cx="232560" cy="375120"/>
                        <a:chOff x="1256400" y="4629960"/>
                        <a:chExt cx="232560" cy="375120"/>
                      </a:xfrm>
                    </p:grpSpPr>
                    <p:grpSp>
                      <p:nvGrpSpPr>
                        <p:cNvPr id="6159" name=""/>
                        <p:cNvGrpSpPr/>
                        <p:nvPr/>
                      </p:nvGrpSpPr>
                      <p:grpSpPr>
                        <a:xfrm>
                          <a:off x="1256400" y="4629960"/>
                          <a:ext cx="232560" cy="375120"/>
                          <a:chOff x="1256400" y="4629960"/>
                          <a:chExt cx="232560" cy="375120"/>
                        </a:xfrm>
                      </p:grpSpPr>
                      <p:grpSp>
                        <p:nvGrpSpPr>
                          <p:cNvPr id="6160" name=""/>
                          <p:cNvGrpSpPr/>
                          <p:nvPr/>
                        </p:nvGrpSpPr>
                        <p:grpSpPr>
                          <a:xfrm>
                            <a:off x="1256400" y="4629960"/>
                            <a:ext cx="232560" cy="375120"/>
                            <a:chOff x="1256400" y="4629960"/>
                            <a:chExt cx="232560" cy="375120"/>
                          </a:xfrm>
                        </p:grpSpPr>
                        <p:grpSp>
                          <p:nvGrpSpPr>
                            <p:cNvPr id="6161" name=""/>
                            <p:cNvGrpSpPr/>
                            <p:nvPr/>
                          </p:nvGrpSpPr>
                          <p:grpSpPr>
                            <a:xfrm>
                              <a:off x="1256400" y="4629960"/>
                              <a:ext cx="232560" cy="375120"/>
                              <a:chOff x="1256400" y="4629960"/>
                              <a:chExt cx="232560" cy="375120"/>
                            </a:xfrm>
                          </p:grpSpPr>
                          <p:grpSp>
                            <p:nvGrpSpPr>
                              <p:cNvPr id="6162" name=""/>
                              <p:cNvGrpSpPr/>
                              <p:nvPr/>
                            </p:nvGrpSpPr>
                            <p:grpSpPr>
                              <a:xfrm>
                                <a:off x="1256400" y="4629960"/>
                                <a:ext cx="232560" cy="375120"/>
                                <a:chOff x="1256400" y="4629960"/>
                                <a:chExt cx="232560" cy="375120"/>
                              </a:xfrm>
                            </p:grpSpPr>
                            <p:sp>
                              <p:nvSpPr>
                                <p:cNvPr id="6163" name=""/>
                                <p:cNvSpPr/>
                                <p:nvPr/>
                              </p:nvSpPr>
                              <p:spPr>
                                <a:xfrm>
                                  <a:off x="1256400" y="4629960"/>
                                  <a:ext cx="232560" cy="37512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939" h="1215">
                                      <a:moveTo>
                                        <a:pt x="2" y="270"/>
                                      </a:moveTo>
                                      <a:lnTo>
                                        <a:pt x="10" y="248"/>
                                      </a:lnTo>
                                      <a:lnTo>
                                        <a:pt x="20" y="228"/>
                                      </a:lnTo>
                                      <a:lnTo>
                                        <a:pt x="32" y="206"/>
                                      </a:lnTo>
                                      <a:lnTo>
                                        <a:pt x="45" y="191"/>
                                      </a:lnTo>
                                      <a:lnTo>
                                        <a:pt x="58" y="178"/>
                                      </a:lnTo>
                                      <a:lnTo>
                                        <a:pt x="75" y="160"/>
                                      </a:lnTo>
                                      <a:lnTo>
                                        <a:pt x="95" y="137"/>
                                      </a:lnTo>
                                      <a:lnTo>
                                        <a:pt x="110" y="116"/>
                                      </a:lnTo>
                                      <a:lnTo>
                                        <a:pt x="126" y="96"/>
                                      </a:lnTo>
                                      <a:lnTo>
                                        <a:pt x="143" y="80"/>
                                      </a:lnTo>
                                      <a:lnTo>
                                        <a:pt x="164" y="62"/>
                                      </a:lnTo>
                                      <a:lnTo>
                                        <a:pt x="184" y="47"/>
                                      </a:lnTo>
                                      <a:lnTo>
                                        <a:pt x="205" y="34"/>
                                      </a:lnTo>
                                      <a:lnTo>
                                        <a:pt x="231" y="21"/>
                                      </a:lnTo>
                                      <a:lnTo>
                                        <a:pt x="259" y="11"/>
                                      </a:lnTo>
                                      <a:lnTo>
                                        <a:pt x="288" y="4"/>
                                      </a:lnTo>
                                      <a:lnTo>
                                        <a:pt x="324" y="1"/>
                                      </a:lnTo>
                                      <a:lnTo>
                                        <a:pt x="358" y="0"/>
                                      </a:lnTo>
                                      <a:lnTo>
                                        <a:pt x="385" y="2"/>
                                      </a:lnTo>
                                      <a:lnTo>
                                        <a:pt x="413" y="6"/>
                                      </a:lnTo>
                                      <a:lnTo>
                                        <a:pt x="439" y="11"/>
                                      </a:lnTo>
                                      <a:lnTo>
                                        <a:pt x="471" y="19"/>
                                      </a:lnTo>
                                      <a:lnTo>
                                        <a:pt x="499" y="32"/>
                                      </a:lnTo>
                                      <a:lnTo>
                                        <a:pt x="521" y="43"/>
                                      </a:lnTo>
                                      <a:lnTo>
                                        <a:pt x="546" y="56"/>
                                      </a:lnTo>
                                      <a:lnTo>
                                        <a:pt x="565" y="74"/>
                                      </a:lnTo>
                                      <a:lnTo>
                                        <a:pt x="584" y="93"/>
                                      </a:lnTo>
                                      <a:lnTo>
                                        <a:pt x="599" y="112"/>
                                      </a:lnTo>
                                      <a:lnTo>
                                        <a:pt x="616" y="135"/>
                                      </a:lnTo>
                                      <a:lnTo>
                                        <a:pt x="631" y="158"/>
                                      </a:lnTo>
                                      <a:lnTo>
                                        <a:pt x="640" y="179"/>
                                      </a:lnTo>
                                      <a:lnTo>
                                        <a:pt x="646" y="206"/>
                                      </a:lnTo>
                                      <a:lnTo>
                                        <a:pt x="651" y="231"/>
                                      </a:lnTo>
                                      <a:lnTo>
                                        <a:pt x="654" y="250"/>
                                      </a:lnTo>
                                      <a:lnTo>
                                        <a:pt x="653" y="271"/>
                                      </a:lnTo>
                                      <a:lnTo>
                                        <a:pt x="648" y="286"/>
                                      </a:lnTo>
                                      <a:lnTo>
                                        <a:pt x="638" y="310"/>
                                      </a:lnTo>
                                      <a:lnTo>
                                        <a:pt x="624" y="339"/>
                                      </a:lnTo>
                                      <a:lnTo>
                                        <a:pt x="611" y="365"/>
                                      </a:lnTo>
                                      <a:lnTo>
                                        <a:pt x="601" y="386"/>
                                      </a:lnTo>
                                      <a:lnTo>
                                        <a:pt x="594" y="409"/>
                                      </a:lnTo>
                                      <a:lnTo>
                                        <a:pt x="586" y="433"/>
                                      </a:lnTo>
                                      <a:lnTo>
                                        <a:pt x="580" y="454"/>
                                      </a:lnTo>
                                      <a:lnTo>
                                        <a:pt x="577" y="465"/>
                                      </a:lnTo>
                                      <a:lnTo>
                                        <a:pt x="578" y="473"/>
                                      </a:lnTo>
                                      <a:lnTo>
                                        <a:pt x="583" y="476"/>
                                      </a:lnTo>
                                      <a:lnTo>
                                        <a:pt x="590" y="476"/>
                                      </a:lnTo>
                                      <a:lnTo>
                                        <a:pt x="596" y="470"/>
                                      </a:lnTo>
                                      <a:lnTo>
                                        <a:pt x="603" y="459"/>
                                      </a:lnTo>
                                      <a:lnTo>
                                        <a:pt x="612" y="439"/>
                                      </a:lnTo>
                                      <a:lnTo>
                                        <a:pt x="625" y="411"/>
                                      </a:lnTo>
                                      <a:lnTo>
                                        <a:pt x="640" y="385"/>
                                      </a:lnTo>
                                      <a:lnTo>
                                        <a:pt x="654" y="363"/>
                                      </a:lnTo>
                                      <a:lnTo>
                                        <a:pt x="668" y="343"/>
                                      </a:lnTo>
                                      <a:lnTo>
                                        <a:pt x="676" y="334"/>
                                      </a:lnTo>
                                      <a:lnTo>
                                        <a:pt x="684" y="329"/>
                                      </a:lnTo>
                                      <a:lnTo>
                                        <a:pt x="694" y="327"/>
                                      </a:lnTo>
                                      <a:lnTo>
                                        <a:pt x="701" y="333"/>
                                      </a:lnTo>
                                      <a:lnTo>
                                        <a:pt x="711" y="351"/>
                                      </a:lnTo>
                                      <a:lnTo>
                                        <a:pt x="720" y="367"/>
                                      </a:lnTo>
                                      <a:lnTo>
                                        <a:pt x="731" y="389"/>
                                      </a:lnTo>
                                      <a:lnTo>
                                        <a:pt x="743" y="410"/>
                                      </a:lnTo>
                                      <a:lnTo>
                                        <a:pt x="753" y="429"/>
                                      </a:lnTo>
                                      <a:lnTo>
                                        <a:pt x="761" y="450"/>
                                      </a:lnTo>
                                      <a:lnTo>
                                        <a:pt x="770" y="469"/>
                                      </a:lnTo>
                                      <a:lnTo>
                                        <a:pt x="778" y="491"/>
                                      </a:lnTo>
                                      <a:lnTo>
                                        <a:pt x="792" y="505"/>
                                      </a:lnTo>
                                      <a:lnTo>
                                        <a:pt x="808" y="524"/>
                                      </a:lnTo>
                                      <a:lnTo>
                                        <a:pt x="820" y="541"/>
                                      </a:lnTo>
                                      <a:lnTo>
                                        <a:pt x="823" y="561"/>
                                      </a:lnTo>
                                      <a:lnTo>
                                        <a:pt x="821" y="581"/>
                                      </a:lnTo>
                                      <a:lnTo>
                                        <a:pt x="817" y="608"/>
                                      </a:lnTo>
                                      <a:lnTo>
                                        <a:pt x="812" y="633"/>
                                      </a:lnTo>
                                      <a:lnTo>
                                        <a:pt x="807" y="659"/>
                                      </a:lnTo>
                                      <a:lnTo>
                                        <a:pt x="817" y="675"/>
                                      </a:lnTo>
                                      <a:lnTo>
                                        <a:pt x="827" y="691"/>
                                      </a:lnTo>
                                      <a:lnTo>
                                        <a:pt x="836" y="709"/>
                                      </a:lnTo>
                                      <a:lnTo>
                                        <a:pt x="847" y="729"/>
                                      </a:lnTo>
                                      <a:lnTo>
                                        <a:pt x="863" y="762"/>
                                      </a:lnTo>
                                      <a:lnTo>
                                        <a:pt x="877" y="790"/>
                                      </a:lnTo>
                                      <a:lnTo>
                                        <a:pt x="893" y="817"/>
                                      </a:lnTo>
                                      <a:lnTo>
                                        <a:pt x="905" y="843"/>
                                      </a:lnTo>
                                      <a:lnTo>
                                        <a:pt x="911" y="861"/>
                                      </a:lnTo>
                                      <a:lnTo>
                                        <a:pt x="917" y="888"/>
                                      </a:lnTo>
                                      <a:lnTo>
                                        <a:pt x="922" y="918"/>
                                      </a:lnTo>
                                      <a:lnTo>
                                        <a:pt x="927" y="940"/>
                                      </a:lnTo>
                                      <a:lnTo>
                                        <a:pt x="933" y="971"/>
                                      </a:lnTo>
                                      <a:lnTo>
                                        <a:pt x="935" y="1002"/>
                                      </a:lnTo>
                                      <a:lnTo>
                                        <a:pt x="934" y="1023"/>
                                      </a:lnTo>
                                      <a:lnTo>
                                        <a:pt x="934" y="1047"/>
                                      </a:lnTo>
                                      <a:lnTo>
                                        <a:pt x="935" y="1096"/>
                                      </a:lnTo>
                                      <a:lnTo>
                                        <a:pt x="939" y="1153"/>
                                      </a:lnTo>
                                      <a:lnTo>
                                        <a:pt x="938" y="1179"/>
                                      </a:lnTo>
                                      <a:lnTo>
                                        <a:pt x="935" y="1196"/>
                                      </a:lnTo>
                                      <a:lnTo>
                                        <a:pt x="924" y="1206"/>
                                      </a:lnTo>
                                      <a:lnTo>
                                        <a:pt x="906" y="1214"/>
                                      </a:lnTo>
                                      <a:lnTo>
                                        <a:pt x="888" y="1215"/>
                                      </a:lnTo>
                                      <a:lnTo>
                                        <a:pt x="873" y="1208"/>
                                      </a:lnTo>
                                      <a:lnTo>
                                        <a:pt x="862" y="1199"/>
                                      </a:lnTo>
                                      <a:lnTo>
                                        <a:pt x="833" y="1181"/>
                                      </a:lnTo>
                                      <a:lnTo>
                                        <a:pt x="806" y="1167"/>
                                      </a:lnTo>
                                      <a:lnTo>
                                        <a:pt x="779" y="1155"/>
                                      </a:lnTo>
                                      <a:lnTo>
                                        <a:pt x="758" y="1136"/>
                                      </a:lnTo>
                                      <a:lnTo>
                                        <a:pt x="721" y="1103"/>
                                      </a:lnTo>
                                      <a:lnTo>
                                        <a:pt x="687" y="1069"/>
                                      </a:lnTo>
                                      <a:lnTo>
                                        <a:pt x="653" y="1038"/>
                                      </a:lnTo>
                                      <a:lnTo>
                                        <a:pt x="621" y="1002"/>
                                      </a:lnTo>
                                      <a:lnTo>
                                        <a:pt x="582" y="954"/>
                                      </a:lnTo>
                                      <a:lnTo>
                                        <a:pt x="553" y="918"/>
                                      </a:lnTo>
                                      <a:lnTo>
                                        <a:pt x="520" y="888"/>
                                      </a:lnTo>
                                      <a:lnTo>
                                        <a:pt x="481" y="847"/>
                                      </a:lnTo>
                                      <a:lnTo>
                                        <a:pt x="441" y="806"/>
                                      </a:lnTo>
                                      <a:lnTo>
                                        <a:pt x="385" y="754"/>
                                      </a:lnTo>
                                      <a:lnTo>
                                        <a:pt x="334" y="711"/>
                                      </a:lnTo>
                                      <a:lnTo>
                                        <a:pt x="310" y="684"/>
                                      </a:lnTo>
                                      <a:lnTo>
                                        <a:pt x="291" y="662"/>
                                      </a:lnTo>
                                      <a:lnTo>
                                        <a:pt x="280" y="643"/>
                                      </a:lnTo>
                                      <a:lnTo>
                                        <a:pt x="271" y="619"/>
                                      </a:lnTo>
                                      <a:lnTo>
                                        <a:pt x="270" y="607"/>
                                      </a:lnTo>
                                      <a:lnTo>
                                        <a:pt x="275" y="599"/>
                                      </a:lnTo>
                                      <a:lnTo>
                                        <a:pt x="287" y="590"/>
                                      </a:lnTo>
                                      <a:lnTo>
                                        <a:pt x="306" y="576"/>
                                      </a:lnTo>
                                      <a:lnTo>
                                        <a:pt x="327" y="562"/>
                                      </a:lnTo>
                                      <a:lnTo>
                                        <a:pt x="347" y="548"/>
                                      </a:lnTo>
                                      <a:lnTo>
                                        <a:pt x="363" y="538"/>
                                      </a:lnTo>
                                      <a:lnTo>
                                        <a:pt x="381" y="531"/>
                                      </a:lnTo>
                                      <a:lnTo>
                                        <a:pt x="402" y="524"/>
                                      </a:lnTo>
                                      <a:lnTo>
                                        <a:pt x="422" y="517"/>
                                      </a:lnTo>
                                      <a:lnTo>
                                        <a:pt x="443" y="510"/>
                                      </a:lnTo>
                                      <a:lnTo>
                                        <a:pt x="457" y="504"/>
                                      </a:lnTo>
                                      <a:lnTo>
                                        <a:pt x="459" y="498"/>
                                      </a:lnTo>
                                      <a:lnTo>
                                        <a:pt x="454" y="491"/>
                                      </a:lnTo>
                                      <a:lnTo>
                                        <a:pt x="445" y="489"/>
                                      </a:lnTo>
                                      <a:lnTo>
                                        <a:pt x="422" y="492"/>
                                      </a:lnTo>
                                      <a:lnTo>
                                        <a:pt x="398" y="496"/>
                                      </a:lnTo>
                                      <a:lnTo>
                                        <a:pt x="369" y="502"/>
                                      </a:lnTo>
                                      <a:lnTo>
                                        <a:pt x="340" y="510"/>
                                      </a:lnTo>
                                      <a:lnTo>
                                        <a:pt x="327" y="515"/>
                                      </a:lnTo>
                                      <a:lnTo>
                                        <a:pt x="311" y="527"/>
                                      </a:lnTo>
                                      <a:lnTo>
                                        <a:pt x="292" y="541"/>
                                      </a:lnTo>
                                      <a:lnTo>
                                        <a:pt x="268" y="562"/>
                                      </a:lnTo>
                                      <a:lnTo>
                                        <a:pt x="254" y="565"/>
                                      </a:lnTo>
                                      <a:lnTo>
                                        <a:pt x="232" y="567"/>
                                      </a:lnTo>
                                      <a:lnTo>
                                        <a:pt x="211" y="568"/>
                                      </a:lnTo>
                                      <a:lnTo>
                                        <a:pt x="197" y="564"/>
                                      </a:lnTo>
                                      <a:lnTo>
                                        <a:pt x="182" y="557"/>
                                      </a:lnTo>
                                      <a:lnTo>
                                        <a:pt x="162" y="549"/>
                                      </a:lnTo>
                                      <a:lnTo>
                                        <a:pt x="152" y="539"/>
                                      </a:lnTo>
                                      <a:lnTo>
                                        <a:pt x="141" y="523"/>
                                      </a:lnTo>
                                      <a:lnTo>
                                        <a:pt x="129" y="504"/>
                                      </a:lnTo>
                                      <a:lnTo>
                                        <a:pt x="119" y="489"/>
                                      </a:lnTo>
                                      <a:lnTo>
                                        <a:pt x="98" y="468"/>
                                      </a:lnTo>
                                      <a:lnTo>
                                        <a:pt x="83" y="449"/>
                                      </a:lnTo>
                                      <a:lnTo>
                                        <a:pt x="61" y="428"/>
                                      </a:lnTo>
                                      <a:lnTo>
                                        <a:pt x="44" y="410"/>
                                      </a:lnTo>
                                      <a:lnTo>
                                        <a:pt x="33" y="398"/>
                                      </a:lnTo>
                                      <a:lnTo>
                                        <a:pt x="26" y="383"/>
                                      </a:lnTo>
                                      <a:lnTo>
                                        <a:pt x="18" y="362"/>
                                      </a:lnTo>
                                      <a:lnTo>
                                        <a:pt x="9" y="338"/>
                                      </a:lnTo>
                                      <a:lnTo>
                                        <a:pt x="4" y="314"/>
                                      </a:lnTo>
                                      <a:lnTo>
                                        <a:pt x="0" y="288"/>
                                      </a:lnTo>
                                      <a:lnTo>
                                        <a:pt x="2" y="270"/>
                                      </a:lnTo>
                                      <a:close/>
                                    </a:path>
                                  </a:pathLst>
                                </a:custGeom>
                                <a:solidFill>
                                  <a:srgbClr val="ff808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grpSp>
                              <p:nvGrpSpPr>
                                <p:cNvPr id="6164" name=""/>
                                <p:cNvGrpSpPr/>
                                <p:nvPr/>
                              </p:nvGrpSpPr>
                              <p:grpSpPr>
                                <a:xfrm>
                                  <a:off x="1256400" y="4629960"/>
                                  <a:ext cx="232200" cy="372960"/>
                                  <a:chOff x="1256400" y="4629960"/>
                                  <a:chExt cx="232200" cy="372960"/>
                                </a:xfrm>
                              </p:grpSpPr>
                              <p:sp>
                                <p:nvSpPr>
                                  <p:cNvPr id="6165" name=""/>
                                  <p:cNvSpPr/>
                                  <p:nvPr/>
                                </p:nvSpPr>
                                <p:spPr>
                                  <a:xfrm>
                                    <a:off x="1323000" y="4730040"/>
                                    <a:ext cx="165600" cy="272880"/>
                                  </a:xfrm>
                                  <a:custGeom>
                                    <a:avLst/>
                                    <a:gdLst/>
                                    <a:ahLst/>
                                    <a:rect l="l" t="t" r="r" b="b"/>
                                    <a:pathLst>
                                      <a:path w="668" h="887">
                                        <a:moveTo>
                                          <a:pt x="408" y="53"/>
                                        </a:moveTo>
                                        <a:lnTo>
                                          <a:pt x="395" y="57"/>
                                        </a:lnTo>
                                        <a:lnTo>
                                          <a:pt x="379" y="68"/>
                                        </a:lnTo>
                                        <a:lnTo>
                                          <a:pt x="365" y="77"/>
                                        </a:lnTo>
                                        <a:lnTo>
                                          <a:pt x="354" y="84"/>
                                        </a:lnTo>
                                        <a:lnTo>
                                          <a:pt x="369" y="58"/>
                                        </a:lnTo>
                                        <a:lnTo>
                                          <a:pt x="383" y="36"/>
                                        </a:lnTo>
                                        <a:lnTo>
                                          <a:pt x="397" y="16"/>
                                        </a:lnTo>
                                        <a:lnTo>
                                          <a:pt x="405" y="7"/>
                                        </a:lnTo>
                                        <a:lnTo>
                                          <a:pt x="413" y="2"/>
                                        </a:lnTo>
                                        <a:lnTo>
                                          <a:pt x="423" y="0"/>
                                        </a:lnTo>
                                        <a:lnTo>
                                          <a:pt x="430" y="6"/>
                                        </a:lnTo>
                                        <a:lnTo>
                                          <a:pt x="441" y="24"/>
                                        </a:lnTo>
                                        <a:lnTo>
                                          <a:pt x="450" y="40"/>
                                        </a:lnTo>
                                        <a:lnTo>
                                          <a:pt x="461" y="62"/>
                                        </a:lnTo>
                                        <a:lnTo>
                                          <a:pt x="473" y="83"/>
                                        </a:lnTo>
                                        <a:lnTo>
                                          <a:pt x="483" y="102"/>
                                        </a:lnTo>
                                        <a:lnTo>
                                          <a:pt x="491" y="123"/>
                                        </a:lnTo>
                                        <a:lnTo>
                                          <a:pt x="500" y="142"/>
                                        </a:lnTo>
                                        <a:lnTo>
                                          <a:pt x="507" y="164"/>
                                        </a:lnTo>
                                        <a:lnTo>
                                          <a:pt x="521" y="178"/>
                                        </a:lnTo>
                                        <a:lnTo>
                                          <a:pt x="537" y="197"/>
                                        </a:lnTo>
                                        <a:lnTo>
                                          <a:pt x="549" y="214"/>
                                        </a:lnTo>
                                        <a:lnTo>
                                          <a:pt x="552" y="233"/>
                                        </a:lnTo>
                                        <a:lnTo>
                                          <a:pt x="550" y="253"/>
                                        </a:lnTo>
                                        <a:lnTo>
                                          <a:pt x="546" y="280"/>
                                        </a:lnTo>
                                        <a:lnTo>
                                          <a:pt x="541" y="305"/>
                                        </a:lnTo>
                                        <a:lnTo>
                                          <a:pt x="536" y="331"/>
                                        </a:lnTo>
                                        <a:lnTo>
                                          <a:pt x="546" y="347"/>
                                        </a:lnTo>
                                        <a:lnTo>
                                          <a:pt x="556" y="363"/>
                                        </a:lnTo>
                                        <a:lnTo>
                                          <a:pt x="565" y="381"/>
                                        </a:lnTo>
                                        <a:lnTo>
                                          <a:pt x="576" y="401"/>
                                        </a:lnTo>
                                        <a:lnTo>
                                          <a:pt x="592" y="434"/>
                                        </a:lnTo>
                                        <a:lnTo>
                                          <a:pt x="606" y="462"/>
                                        </a:lnTo>
                                        <a:lnTo>
                                          <a:pt x="622" y="489"/>
                                        </a:lnTo>
                                        <a:lnTo>
                                          <a:pt x="634" y="515"/>
                                        </a:lnTo>
                                        <a:lnTo>
                                          <a:pt x="640" y="533"/>
                                        </a:lnTo>
                                        <a:lnTo>
                                          <a:pt x="646" y="560"/>
                                        </a:lnTo>
                                        <a:lnTo>
                                          <a:pt x="651" y="591"/>
                                        </a:lnTo>
                                        <a:lnTo>
                                          <a:pt x="656" y="613"/>
                                        </a:lnTo>
                                        <a:lnTo>
                                          <a:pt x="662" y="644"/>
                                        </a:lnTo>
                                        <a:lnTo>
                                          <a:pt x="664" y="674"/>
                                        </a:lnTo>
                                        <a:lnTo>
                                          <a:pt x="663" y="695"/>
                                        </a:lnTo>
                                        <a:lnTo>
                                          <a:pt x="663" y="719"/>
                                        </a:lnTo>
                                        <a:lnTo>
                                          <a:pt x="664" y="768"/>
                                        </a:lnTo>
                                        <a:lnTo>
                                          <a:pt x="668" y="825"/>
                                        </a:lnTo>
                                        <a:lnTo>
                                          <a:pt x="667" y="851"/>
                                        </a:lnTo>
                                        <a:lnTo>
                                          <a:pt x="664" y="868"/>
                                        </a:lnTo>
                                        <a:lnTo>
                                          <a:pt x="653" y="878"/>
                                        </a:lnTo>
                                        <a:lnTo>
                                          <a:pt x="635" y="886"/>
                                        </a:lnTo>
                                        <a:lnTo>
                                          <a:pt x="617" y="887"/>
                                        </a:lnTo>
                                        <a:lnTo>
                                          <a:pt x="602" y="880"/>
                                        </a:lnTo>
                                        <a:lnTo>
                                          <a:pt x="591" y="871"/>
                                        </a:lnTo>
                                        <a:lnTo>
                                          <a:pt x="562" y="853"/>
                                        </a:lnTo>
                                        <a:lnTo>
                                          <a:pt x="535" y="839"/>
                                        </a:lnTo>
                                        <a:lnTo>
                                          <a:pt x="508" y="827"/>
                                        </a:lnTo>
                                        <a:lnTo>
                                          <a:pt x="488" y="808"/>
                                        </a:lnTo>
                                        <a:lnTo>
                                          <a:pt x="451" y="775"/>
                                        </a:lnTo>
                                        <a:lnTo>
                                          <a:pt x="416" y="741"/>
                                        </a:lnTo>
                                        <a:lnTo>
                                          <a:pt x="382" y="710"/>
                                        </a:lnTo>
                                        <a:lnTo>
                                          <a:pt x="350" y="674"/>
                                        </a:lnTo>
                                        <a:lnTo>
                                          <a:pt x="311" y="627"/>
                                        </a:lnTo>
                                        <a:lnTo>
                                          <a:pt x="282" y="591"/>
                                        </a:lnTo>
                                        <a:lnTo>
                                          <a:pt x="249" y="560"/>
                                        </a:lnTo>
                                        <a:lnTo>
                                          <a:pt x="210" y="519"/>
                                        </a:lnTo>
                                        <a:lnTo>
                                          <a:pt x="170" y="478"/>
                                        </a:lnTo>
                                        <a:lnTo>
                                          <a:pt x="115" y="426"/>
                                        </a:lnTo>
                                        <a:lnTo>
                                          <a:pt x="64" y="383"/>
                                        </a:lnTo>
                                        <a:lnTo>
                                          <a:pt x="40" y="356"/>
                                        </a:lnTo>
                                        <a:lnTo>
                                          <a:pt x="21" y="334"/>
                                        </a:lnTo>
                                        <a:lnTo>
                                          <a:pt x="10" y="315"/>
                                        </a:lnTo>
                                        <a:lnTo>
                                          <a:pt x="1" y="291"/>
                                        </a:lnTo>
                                        <a:lnTo>
                                          <a:pt x="0" y="279"/>
                                        </a:lnTo>
                                        <a:lnTo>
                                          <a:pt x="5" y="271"/>
                                        </a:lnTo>
                                        <a:lnTo>
                                          <a:pt x="17" y="262"/>
                                        </a:lnTo>
                                        <a:lnTo>
                                          <a:pt x="36" y="248"/>
                                        </a:lnTo>
                                        <a:lnTo>
                                          <a:pt x="57" y="234"/>
                                        </a:lnTo>
                                        <a:lnTo>
                                          <a:pt x="77" y="221"/>
                                        </a:lnTo>
                                        <a:lnTo>
                                          <a:pt x="93" y="211"/>
                                        </a:lnTo>
                                        <a:lnTo>
                                          <a:pt x="82" y="237"/>
                                        </a:lnTo>
                                        <a:lnTo>
                                          <a:pt x="71" y="258"/>
                                        </a:lnTo>
                                        <a:lnTo>
                                          <a:pt x="60" y="280"/>
                                        </a:lnTo>
                                        <a:lnTo>
                                          <a:pt x="54" y="295"/>
                                        </a:lnTo>
                                        <a:lnTo>
                                          <a:pt x="55" y="308"/>
                                        </a:lnTo>
                                        <a:lnTo>
                                          <a:pt x="62" y="325"/>
                                        </a:lnTo>
                                        <a:lnTo>
                                          <a:pt x="74" y="347"/>
                                        </a:lnTo>
                                        <a:lnTo>
                                          <a:pt x="91" y="366"/>
                                        </a:lnTo>
                                        <a:lnTo>
                                          <a:pt x="109" y="390"/>
                                        </a:lnTo>
                                        <a:lnTo>
                                          <a:pt x="138" y="411"/>
                                        </a:lnTo>
                                        <a:lnTo>
                                          <a:pt x="167" y="436"/>
                                        </a:lnTo>
                                        <a:lnTo>
                                          <a:pt x="190" y="455"/>
                                        </a:lnTo>
                                        <a:lnTo>
                                          <a:pt x="215" y="475"/>
                                        </a:lnTo>
                                        <a:lnTo>
                                          <a:pt x="239" y="495"/>
                                        </a:lnTo>
                                        <a:lnTo>
                                          <a:pt x="264" y="516"/>
                                        </a:lnTo>
                                        <a:lnTo>
                                          <a:pt x="284" y="541"/>
                                        </a:lnTo>
                                        <a:lnTo>
                                          <a:pt x="307" y="559"/>
                                        </a:lnTo>
                                        <a:lnTo>
                                          <a:pt x="322" y="577"/>
                                        </a:lnTo>
                                        <a:lnTo>
                                          <a:pt x="341" y="603"/>
                                        </a:lnTo>
                                        <a:lnTo>
                                          <a:pt x="358" y="628"/>
                                        </a:lnTo>
                                        <a:lnTo>
                                          <a:pt x="377" y="655"/>
                                        </a:lnTo>
                                        <a:lnTo>
                                          <a:pt x="397" y="678"/>
                                        </a:lnTo>
                                        <a:lnTo>
                                          <a:pt x="420" y="697"/>
                                        </a:lnTo>
                                        <a:lnTo>
                                          <a:pt x="453" y="724"/>
                                        </a:lnTo>
                                        <a:lnTo>
                                          <a:pt x="475" y="743"/>
                                        </a:lnTo>
                                        <a:lnTo>
                                          <a:pt x="496" y="760"/>
                                        </a:lnTo>
                                        <a:lnTo>
                                          <a:pt x="509" y="776"/>
                                        </a:lnTo>
                                        <a:lnTo>
                                          <a:pt x="528" y="783"/>
                                        </a:lnTo>
                                        <a:lnTo>
                                          <a:pt x="546" y="792"/>
                                        </a:lnTo>
                                        <a:lnTo>
                                          <a:pt x="564" y="798"/>
                                        </a:lnTo>
                                        <a:lnTo>
                                          <a:pt x="582" y="803"/>
                                        </a:lnTo>
                                        <a:lnTo>
                                          <a:pt x="594" y="802"/>
                                        </a:lnTo>
                                        <a:lnTo>
                                          <a:pt x="604" y="798"/>
                                        </a:lnTo>
                                        <a:lnTo>
                                          <a:pt x="614" y="792"/>
                                        </a:lnTo>
                                        <a:lnTo>
                                          <a:pt x="620" y="779"/>
                                        </a:lnTo>
                                        <a:lnTo>
                                          <a:pt x="623" y="766"/>
                                        </a:lnTo>
                                        <a:lnTo>
                                          <a:pt x="620" y="738"/>
                                        </a:lnTo>
                                        <a:lnTo>
                                          <a:pt x="618" y="704"/>
                                        </a:lnTo>
                                        <a:lnTo>
                                          <a:pt x="614" y="673"/>
                                        </a:lnTo>
                                        <a:lnTo>
                                          <a:pt x="610" y="640"/>
                                        </a:lnTo>
                                        <a:lnTo>
                                          <a:pt x="607" y="617"/>
                                        </a:lnTo>
                                        <a:lnTo>
                                          <a:pt x="601" y="595"/>
                                        </a:lnTo>
                                        <a:lnTo>
                                          <a:pt x="595" y="566"/>
                                        </a:lnTo>
                                        <a:lnTo>
                                          <a:pt x="586" y="539"/>
                                        </a:lnTo>
                                        <a:lnTo>
                                          <a:pt x="583" y="521"/>
                                        </a:lnTo>
                                        <a:lnTo>
                                          <a:pt x="577" y="502"/>
                                        </a:lnTo>
                                        <a:lnTo>
                                          <a:pt x="564" y="481"/>
                                        </a:lnTo>
                                        <a:lnTo>
                                          <a:pt x="555" y="459"/>
                                        </a:lnTo>
                                        <a:lnTo>
                                          <a:pt x="543" y="440"/>
                                        </a:lnTo>
                                        <a:lnTo>
                                          <a:pt x="531" y="417"/>
                                        </a:lnTo>
                                        <a:lnTo>
                                          <a:pt x="519" y="395"/>
                                        </a:lnTo>
                                        <a:lnTo>
                                          <a:pt x="506" y="370"/>
                                        </a:lnTo>
                                        <a:lnTo>
                                          <a:pt x="492" y="347"/>
                                        </a:lnTo>
                                        <a:lnTo>
                                          <a:pt x="485" y="334"/>
                                        </a:lnTo>
                                        <a:lnTo>
                                          <a:pt x="483" y="325"/>
                                        </a:lnTo>
                                        <a:lnTo>
                                          <a:pt x="487" y="313"/>
                                        </a:lnTo>
                                        <a:lnTo>
                                          <a:pt x="492" y="291"/>
                                        </a:lnTo>
                                        <a:lnTo>
                                          <a:pt x="498" y="267"/>
                                        </a:lnTo>
                                        <a:lnTo>
                                          <a:pt x="501" y="253"/>
                                        </a:lnTo>
                                        <a:lnTo>
                                          <a:pt x="506" y="242"/>
                                        </a:lnTo>
                                        <a:lnTo>
                                          <a:pt x="497" y="222"/>
                                        </a:lnTo>
                                        <a:lnTo>
                                          <a:pt x="487" y="196"/>
                                        </a:lnTo>
                                        <a:lnTo>
                                          <a:pt x="475" y="165"/>
                                        </a:lnTo>
                                        <a:lnTo>
                                          <a:pt x="463" y="135"/>
                                        </a:lnTo>
                                        <a:lnTo>
                                          <a:pt x="449" y="103"/>
                                        </a:lnTo>
                                        <a:lnTo>
                                          <a:pt x="438" y="78"/>
                                        </a:lnTo>
                                        <a:lnTo>
                                          <a:pt x="427" y="57"/>
                                        </a:lnTo>
                                        <a:lnTo>
                                          <a:pt x="418" y="52"/>
                                        </a:lnTo>
                                        <a:lnTo>
                                          <a:pt x="408" y="53"/>
                                        </a:lnTo>
                                        <a:close/>
                                      </a:path>
                                    </a:pathLst>
                                  </a:custGeom>
                                  <a:solidFill>
                                    <a:srgbClr val="ff4040"/>
                                  </a:solidFill>
                                  <a:ln w="0">
                                    <a:noFill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6166" name=""/>
                                  <p:cNvSpPr/>
                                  <p:nvPr/>
                                </p:nvSpPr>
                                <p:spPr>
                                  <a:xfrm>
                                    <a:off x="1256400" y="4629960"/>
                                    <a:ext cx="160560" cy="174240"/>
                                  </a:xfrm>
                                  <a:custGeom>
                                    <a:avLst/>
                                    <a:gdLst/>
                                    <a:ahLst/>
                                    <a:rect l="l" t="t" r="r" b="b"/>
                                    <a:pathLst>
                                      <a:path w="653" h="567">
                                        <a:moveTo>
                                          <a:pt x="2" y="269"/>
                                        </a:moveTo>
                                        <a:lnTo>
                                          <a:pt x="10" y="247"/>
                                        </a:lnTo>
                                        <a:lnTo>
                                          <a:pt x="20" y="226"/>
                                        </a:lnTo>
                                        <a:lnTo>
                                          <a:pt x="32" y="205"/>
                                        </a:lnTo>
                                        <a:lnTo>
                                          <a:pt x="45" y="190"/>
                                        </a:lnTo>
                                        <a:lnTo>
                                          <a:pt x="58" y="177"/>
                                        </a:lnTo>
                                        <a:lnTo>
                                          <a:pt x="75" y="159"/>
                                        </a:lnTo>
                                        <a:lnTo>
                                          <a:pt x="95" y="137"/>
                                        </a:lnTo>
                                        <a:lnTo>
                                          <a:pt x="110" y="116"/>
                                        </a:lnTo>
                                        <a:lnTo>
                                          <a:pt x="126" y="96"/>
                                        </a:lnTo>
                                        <a:lnTo>
                                          <a:pt x="143" y="80"/>
                                        </a:lnTo>
                                        <a:lnTo>
                                          <a:pt x="163" y="62"/>
                                        </a:lnTo>
                                        <a:lnTo>
                                          <a:pt x="183" y="47"/>
                                        </a:lnTo>
                                        <a:lnTo>
                                          <a:pt x="204" y="34"/>
                                        </a:lnTo>
                                        <a:lnTo>
                                          <a:pt x="230" y="21"/>
                                        </a:lnTo>
                                        <a:lnTo>
                                          <a:pt x="259" y="11"/>
                                        </a:lnTo>
                                        <a:lnTo>
                                          <a:pt x="288" y="4"/>
                                        </a:lnTo>
                                        <a:lnTo>
                                          <a:pt x="324" y="1"/>
                                        </a:lnTo>
                                        <a:lnTo>
                                          <a:pt x="358" y="0"/>
                                        </a:lnTo>
                                        <a:lnTo>
                                          <a:pt x="385" y="2"/>
                                        </a:lnTo>
                                        <a:lnTo>
                                          <a:pt x="413" y="6"/>
                                        </a:lnTo>
                                        <a:lnTo>
                                          <a:pt x="439" y="11"/>
                                        </a:lnTo>
                                        <a:lnTo>
                                          <a:pt x="471" y="19"/>
                                        </a:lnTo>
                                        <a:lnTo>
                                          <a:pt x="498" y="32"/>
                                        </a:lnTo>
                                        <a:lnTo>
                                          <a:pt x="520" y="43"/>
                                        </a:lnTo>
                                        <a:lnTo>
                                          <a:pt x="545" y="56"/>
                                        </a:lnTo>
                                        <a:lnTo>
                                          <a:pt x="564" y="74"/>
                                        </a:lnTo>
                                        <a:lnTo>
                                          <a:pt x="583" y="93"/>
                                        </a:lnTo>
                                        <a:lnTo>
                                          <a:pt x="598" y="112"/>
                                        </a:lnTo>
                                        <a:lnTo>
                                          <a:pt x="615" y="135"/>
                                        </a:lnTo>
                                        <a:lnTo>
                                          <a:pt x="630" y="157"/>
                                        </a:lnTo>
                                        <a:lnTo>
                                          <a:pt x="639" y="178"/>
                                        </a:lnTo>
                                        <a:lnTo>
                                          <a:pt x="645" y="205"/>
                                        </a:lnTo>
                                        <a:lnTo>
                                          <a:pt x="650" y="230"/>
                                        </a:lnTo>
                                        <a:lnTo>
                                          <a:pt x="653" y="249"/>
                                        </a:lnTo>
                                        <a:lnTo>
                                          <a:pt x="634" y="208"/>
                                        </a:lnTo>
                                        <a:lnTo>
                                          <a:pt x="623" y="188"/>
                                        </a:lnTo>
                                        <a:lnTo>
                                          <a:pt x="610" y="162"/>
                                        </a:lnTo>
                                        <a:lnTo>
                                          <a:pt x="599" y="142"/>
                                        </a:lnTo>
                                        <a:lnTo>
                                          <a:pt x="586" y="125"/>
                                        </a:lnTo>
                                        <a:lnTo>
                                          <a:pt x="571" y="105"/>
                                        </a:lnTo>
                                        <a:lnTo>
                                          <a:pt x="552" y="89"/>
                                        </a:lnTo>
                                        <a:lnTo>
                                          <a:pt x="537" y="75"/>
                                        </a:lnTo>
                                        <a:lnTo>
                                          <a:pt x="521" y="65"/>
                                        </a:lnTo>
                                        <a:lnTo>
                                          <a:pt x="503" y="59"/>
                                        </a:lnTo>
                                        <a:lnTo>
                                          <a:pt x="486" y="51"/>
                                        </a:lnTo>
                                        <a:lnTo>
                                          <a:pt x="464" y="43"/>
                                        </a:lnTo>
                                        <a:lnTo>
                                          <a:pt x="445" y="38"/>
                                        </a:lnTo>
                                        <a:lnTo>
                                          <a:pt x="422" y="32"/>
                                        </a:lnTo>
                                        <a:lnTo>
                                          <a:pt x="397" y="26"/>
                                        </a:lnTo>
                                        <a:lnTo>
                                          <a:pt x="371" y="24"/>
                                        </a:lnTo>
                                        <a:lnTo>
                                          <a:pt x="349" y="22"/>
                                        </a:lnTo>
                                        <a:lnTo>
                                          <a:pt x="331" y="24"/>
                                        </a:lnTo>
                                        <a:lnTo>
                                          <a:pt x="305" y="29"/>
                                        </a:lnTo>
                                        <a:lnTo>
                                          <a:pt x="280" y="35"/>
                                        </a:lnTo>
                                        <a:lnTo>
                                          <a:pt x="260" y="40"/>
                                        </a:lnTo>
                                        <a:lnTo>
                                          <a:pt x="240" y="49"/>
                                        </a:lnTo>
                                        <a:lnTo>
                                          <a:pt x="215" y="61"/>
                                        </a:lnTo>
                                        <a:lnTo>
                                          <a:pt x="199" y="69"/>
                                        </a:lnTo>
                                        <a:lnTo>
                                          <a:pt x="183" y="82"/>
                                        </a:lnTo>
                                        <a:lnTo>
                                          <a:pt x="161" y="99"/>
                                        </a:lnTo>
                                        <a:lnTo>
                                          <a:pt x="140" y="120"/>
                                        </a:lnTo>
                                        <a:lnTo>
                                          <a:pt x="118" y="141"/>
                                        </a:lnTo>
                                        <a:lnTo>
                                          <a:pt x="100" y="164"/>
                                        </a:lnTo>
                                        <a:lnTo>
                                          <a:pt x="82" y="189"/>
                                        </a:lnTo>
                                        <a:lnTo>
                                          <a:pt x="64" y="211"/>
                                        </a:lnTo>
                                        <a:lnTo>
                                          <a:pt x="56" y="225"/>
                                        </a:lnTo>
                                        <a:lnTo>
                                          <a:pt x="51" y="244"/>
                                        </a:lnTo>
                                        <a:lnTo>
                                          <a:pt x="43" y="261"/>
                                        </a:lnTo>
                                        <a:lnTo>
                                          <a:pt x="37" y="274"/>
                                        </a:lnTo>
                                        <a:lnTo>
                                          <a:pt x="40" y="298"/>
                                        </a:lnTo>
                                        <a:lnTo>
                                          <a:pt x="41" y="321"/>
                                        </a:lnTo>
                                        <a:lnTo>
                                          <a:pt x="47" y="336"/>
                                        </a:lnTo>
                                        <a:lnTo>
                                          <a:pt x="55" y="356"/>
                                        </a:lnTo>
                                        <a:lnTo>
                                          <a:pt x="63" y="375"/>
                                        </a:lnTo>
                                        <a:lnTo>
                                          <a:pt x="72" y="393"/>
                                        </a:lnTo>
                                        <a:lnTo>
                                          <a:pt x="91" y="415"/>
                                        </a:lnTo>
                                        <a:lnTo>
                                          <a:pt x="112" y="439"/>
                                        </a:lnTo>
                                        <a:lnTo>
                                          <a:pt x="133" y="463"/>
                                        </a:lnTo>
                                        <a:lnTo>
                                          <a:pt x="149" y="484"/>
                                        </a:lnTo>
                                        <a:lnTo>
                                          <a:pt x="163" y="502"/>
                                        </a:lnTo>
                                        <a:lnTo>
                                          <a:pt x="176" y="517"/>
                                        </a:lnTo>
                                        <a:lnTo>
                                          <a:pt x="184" y="529"/>
                                        </a:lnTo>
                                        <a:lnTo>
                                          <a:pt x="194" y="533"/>
                                        </a:lnTo>
                                        <a:lnTo>
                                          <a:pt x="208" y="536"/>
                                        </a:lnTo>
                                        <a:lnTo>
                                          <a:pt x="225" y="540"/>
                                        </a:lnTo>
                                        <a:lnTo>
                                          <a:pt x="242" y="545"/>
                                        </a:lnTo>
                                        <a:lnTo>
                                          <a:pt x="256" y="553"/>
                                        </a:lnTo>
                                        <a:lnTo>
                                          <a:pt x="268" y="561"/>
                                        </a:lnTo>
                                        <a:lnTo>
                                          <a:pt x="253" y="564"/>
                                        </a:lnTo>
                                        <a:lnTo>
                                          <a:pt x="231" y="566"/>
                                        </a:lnTo>
                                        <a:lnTo>
                                          <a:pt x="210" y="567"/>
                                        </a:lnTo>
                                        <a:lnTo>
                                          <a:pt x="196" y="563"/>
                                        </a:lnTo>
                                        <a:lnTo>
                                          <a:pt x="181" y="556"/>
                                        </a:lnTo>
                                        <a:lnTo>
                                          <a:pt x="162" y="548"/>
                                        </a:lnTo>
                                        <a:lnTo>
                                          <a:pt x="152" y="538"/>
                                        </a:lnTo>
                                        <a:lnTo>
                                          <a:pt x="141" y="522"/>
                                        </a:lnTo>
                                        <a:lnTo>
                                          <a:pt x="129" y="503"/>
                                        </a:lnTo>
                                        <a:lnTo>
                                          <a:pt x="118" y="488"/>
                                        </a:lnTo>
                                        <a:lnTo>
                                          <a:pt x="98" y="466"/>
                                        </a:lnTo>
                                        <a:lnTo>
                                          <a:pt x="83" y="448"/>
                                        </a:lnTo>
                                        <a:lnTo>
                                          <a:pt x="61" y="426"/>
                                        </a:lnTo>
                                        <a:lnTo>
                                          <a:pt x="44" y="410"/>
                                        </a:lnTo>
                                        <a:lnTo>
                                          <a:pt x="33" y="398"/>
                                        </a:lnTo>
                                        <a:lnTo>
                                          <a:pt x="26" y="383"/>
                                        </a:lnTo>
                                        <a:lnTo>
                                          <a:pt x="18" y="362"/>
                                        </a:lnTo>
                                        <a:lnTo>
                                          <a:pt x="9" y="338"/>
                                        </a:lnTo>
                                        <a:lnTo>
                                          <a:pt x="4" y="314"/>
                                        </a:lnTo>
                                        <a:lnTo>
                                          <a:pt x="0" y="287"/>
                                        </a:lnTo>
                                        <a:lnTo>
                                          <a:pt x="2" y="269"/>
                                        </a:lnTo>
                                        <a:close/>
                                      </a:path>
                                    </a:pathLst>
                                  </a:custGeom>
                                  <a:solidFill>
                                    <a:srgbClr val="ff4040"/>
                                  </a:solidFill>
                                  <a:ln w="0">
                                    <a:noFill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</p:grpSp>
                          </p:grpSp>
                          <p:sp>
                            <p:nvSpPr>
                              <p:cNvPr id="6167" name=""/>
                              <p:cNvSpPr/>
                              <p:nvPr/>
                            </p:nvSpPr>
                            <p:spPr>
                              <a:xfrm>
                                <a:off x="1367640" y="4785480"/>
                                <a:ext cx="96480" cy="15588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391" h="501">
                                    <a:moveTo>
                                      <a:pt x="103" y="64"/>
                                    </a:moveTo>
                                    <a:lnTo>
                                      <a:pt x="132" y="49"/>
                                    </a:lnTo>
                                    <a:lnTo>
                                      <a:pt x="152" y="31"/>
                                    </a:lnTo>
                                    <a:lnTo>
                                      <a:pt x="178" y="12"/>
                                    </a:lnTo>
                                    <a:lnTo>
                                      <a:pt x="198" y="3"/>
                                    </a:lnTo>
                                    <a:lnTo>
                                      <a:pt x="217" y="0"/>
                                    </a:lnTo>
                                    <a:lnTo>
                                      <a:pt x="229" y="3"/>
                                    </a:lnTo>
                                    <a:lnTo>
                                      <a:pt x="241" y="13"/>
                                    </a:lnTo>
                                    <a:lnTo>
                                      <a:pt x="249" y="31"/>
                                    </a:lnTo>
                                    <a:lnTo>
                                      <a:pt x="259" y="62"/>
                                    </a:lnTo>
                                    <a:lnTo>
                                      <a:pt x="262" y="95"/>
                                    </a:lnTo>
                                    <a:lnTo>
                                      <a:pt x="263" y="131"/>
                                    </a:lnTo>
                                    <a:lnTo>
                                      <a:pt x="269" y="165"/>
                                    </a:lnTo>
                                    <a:lnTo>
                                      <a:pt x="283" y="197"/>
                                    </a:lnTo>
                                    <a:lnTo>
                                      <a:pt x="301" y="237"/>
                                    </a:lnTo>
                                    <a:lnTo>
                                      <a:pt x="319" y="277"/>
                                    </a:lnTo>
                                    <a:lnTo>
                                      <a:pt x="340" y="319"/>
                                    </a:lnTo>
                                    <a:lnTo>
                                      <a:pt x="365" y="368"/>
                                    </a:lnTo>
                                    <a:lnTo>
                                      <a:pt x="383" y="409"/>
                                    </a:lnTo>
                                    <a:lnTo>
                                      <a:pt x="391" y="434"/>
                                    </a:lnTo>
                                    <a:lnTo>
                                      <a:pt x="391" y="458"/>
                                    </a:lnTo>
                                    <a:lnTo>
                                      <a:pt x="384" y="480"/>
                                    </a:lnTo>
                                    <a:lnTo>
                                      <a:pt x="371" y="494"/>
                                    </a:lnTo>
                                    <a:lnTo>
                                      <a:pt x="350" y="501"/>
                                    </a:lnTo>
                                    <a:lnTo>
                                      <a:pt x="326" y="498"/>
                                    </a:lnTo>
                                    <a:lnTo>
                                      <a:pt x="298" y="490"/>
                                    </a:lnTo>
                                    <a:lnTo>
                                      <a:pt x="274" y="468"/>
                                    </a:lnTo>
                                    <a:lnTo>
                                      <a:pt x="249" y="446"/>
                                    </a:lnTo>
                                    <a:lnTo>
                                      <a:pt x="227" y="416"/>
                                    </a:lnTo>
                                    <a:lnTo>
                                      <a:pt x="198" y="378"/>
                                    </a:lnTo>
                                    <a:lnTo>
                                      <a:pt x="177" y="346"/>
                                    </a:lnTo>
                                    <a:lnTo>
                                      <a:pt x="143" y="317"/>
                                    </a:lnTo>
                                    <a:lnTo>
                                      <a:pt x="112" y="288"/>
                                    </a:lnTo>
                                    <a:lnTo>
                                      <a:pt x="89" y="259"/>
                                    </a:lnTo>
                                    <a:lnTo>
                                      <a:pt x="64" y="222"/>
                                    </a:lnTo>
                                    <a:lnTo>
                                      <a:pt x="35" y="186"/>
                                    </a:lnTo>
                                    <a:lnTo>
                                      <a:pt x="15" y="163"/>
                                    </a:lnTo>
                                    <a:lnTo>
                                      <a:pt x="3" y="143"/>
                                    </a:lnTo>
                                    <a:lnTo>
                                      <a:pt x="0" y="125"/>
                                    </a:lnTo>
                                    <a:lnTo>
                                      <a:pt x="4" y="102"/>
                                    </a:lnTo>
                                    <a:lnTo>
                                      <a:pt x="16" y="87"/>
                                    </a:lnTo>
                                    <a:lnTo>
                                      <a:pt x="34" y="80"/>
                                    </a:lnTo>
                                    <a:lnTo>
                                      <a:pt x="55" y="74"/>
                                    </a:lnTo>
                                    <a:lnTo>
                                      <a:pt x="80" y="68"/>
                                    </a:lnTo>
                                    <a:lnTo>
                                      <a:pt x="103" y="64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ff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6168" name=""/>
                            <p:cNvGrpSpPr/>
                            <p:nvPr/>
                          </p:nvGrpSpPr>
                          <p:grpSpPr>
                            <a:xfrm>
                              <a:off x="1271160" y="4646880"/>
                              <a:ext cx="133560" cy="144720"/>
                              <a:chOff x="1271160" y="4646880"/>
                              <a:chExt cx="133560" cy="144720"/>
                            </a:xfrm>
                          </p:grpSpPr>
                          <p:sp>
                            <p:nvSpPr>
                              <p:cNvPr id="6169" name=""/>
                              <p:cNvSpPr/>
                              <p:nvPr/>
                            </p:nvSpPr>
                            <p:spPr>
                              <a:xfrm>
                                <a:off x="1271160" y="4646880"/>
                                <a:ext cx="133560" cy="14472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541" h="470">
                                    <a:moveTo>
                                      <a:pt x="1" y="223"/>
                                    </a:moveTo>
                                    <a:lnTo>
                                      <a:pt x="7" y="204"/>
                                    </a:lnTo>
                                    <a:lnTo>
                                      <a:pt x="16" y="188"/>
                                    </a:lnTo>
                                    <a:lnTo>
                                      <a:pt x="25" y="169"/>
                                    </a:lnTo>
                                    <a:lnTo>
                                      <a:pt x="36" y="157"/>
                                    </a:lnTo>
                                    <a:lnTo>
                                      <a:pt x="47" y="147"/>
                                    </a:lnTo>
                                    <a:lnTo>
                                      <a:pt x="62" y="131"/>
                                    </a:lnTo>
                                    <a:lnTo>
                                      <a:pt x="79" y="114"/>
                                    </a:lnTo>
                                    <a:lnTo>
                                      <a:pt x="91" y="96"/>
                                    </a:lnTo>
                                    <a:lnTo>
                                      <a:pt x="104" y="79"/>
                                    </a:lnTo>
                                    <a:lnTo>
                                      <a:pt x="119" y="66"/>
                                    </a:lnTo>
                                    <a:lnTo>
                                      <a:pt x="135" y="51"/>
                                    </a:lnTo>
                                    <a:lnTo>
                                      <a:pt x="152" y="38"/>
                                    </a:lnTo>
                                    <a:lnTo>
                                      <a:pt x="169" y="27"/>
                                    </a:lnTo>
                                    <a:lnTo>
                                      <a:pt x="190" y="17"/>
                                    </a:lnTo>
                                    <a:lnTo>
                                      <a:pt x="214" y="8"/>
                                    </a:lnTo>
                                    <a:lnTo>
                                      <a:pt x="239" y="3"/>
                                    </a:lnTo>
                                    <a:lnTo>
                                      <a:pt x="268" y="0"/>
                                    </a:lnTo>
                                    <a:lnTo>
                                      <a:pt x="297" y="0"/>
                                    </a:lnTo>
                                    <a:lnTo>
                                      <a:pt x="319" y="1"/>
                                    </a:lnTo>
                                    <a:lnTo>
                                      <a:pt x="342" y="4"/>
                                    </a:lnTo>
                                    <a:lnTo>
                                      <a:pt x="363" y="8"/>
                                    </a:lnTo>
                                    <a:lnTo>
                                      <a:pt x="391" y="15"/>
                                    </a:lnTo>
                                    <a:lnTo>
                                      <a:pt x="412" y="25"/>
                                    </a:lnTo>
                                    <a:lnTo>
                                      <a:pt x="431" y="34"/>
                                    </a:lnTo>
                                    <a:lnTo>
                                      <a:pt x="451" y="45"/>
                                    </a:lnTo>
                                    <a:lnTo>
                                      <a:pt x="468" y="61"/>
                                    </a:lnTo>
                                    <a:lnTo>
                                      <a:pt x="483" y="77"/>
                                    </a:lnTo>
                                    <a:lnTo>
                                      <a:pt x="496" y="93"/>
                                    </a:lnTo>
                                    <a:lnTo>
                                      <a:pt x="510" y="112"/>
                                    </a:lnTo>
                                    <a:lnTo>
                                      <a:pt x="522" y="129"/>
                                    </a:lnTo>
                                    <a:lnTo>
                                      <a:pt x="530" y="148"/>
                                    </a:lnTo>
                                    <a:lnTo>
                                      <a:pt x="535" y="169"/>
                                    </a:lnTo>
                                    <a:lnTo>
                                      <a:pt x="539" y="190"/>
                                    </a:lnTo>
                                    <a:lnTo>
                                      <a:pt x="541" y="206"/>
                                    </a:lnTo>
                                    <a:lnTo>
                                      <a:pt x="541" y="224"/>
                                    </a:lnTo>
                                    <a:lnTo>
                                      <a:pt x="536" y="236"/>
                                    </a:lnTo>
                                    <a:lnTo>
                                      <a:pt x="528" y="257"/>
                                    </a:lnTo>
                                    <a:lnTo>
                                      <a:pt x="516" y="281"/>
                                    </a:lnTo>
                                    <a:lnTo>
                                      <a:pt x="506" y="303"/>
                                    </a:lnTo>
                                    <a:lnTo>
                                      <a:pt x="497" y="320"/>
                                    </a:lnTo>
                                    <a:lnTo>
                                      <a:pt x="491" y="340"/>
                                    </a:lnTo>
                                    <a:lnTo>
                                      <a:pt x="485" y="358"/>
                                    </a:lnTo>
                                    <a:lnTo>
                                      <a:pt x="480" y="376"/>
                                    </a:lnTo>
                                    <a:lnTo>
                                      <a:pt x="477" y="385"/>
                                    </a:lnTo>
                                    <a:lnTo>
                                      <a:pt x="476" y="399"/>
                                    </a:lnTo>
                                    <a:lnTo>
                                      <a:pt x="475" y="421"/>
                                    </a:lnTo>
                                    <a:lnTo>
                                      <a:pt x="389" y="441"/>
                                    </a:lnTo>
                                    <a:lnTo>
                                      <a:pt x="387" y="427"/>
                                    </a:lnTo>
                                    <a:lnTo>
                                      <a:pt x="384" y="417"/>
                                    </a:lnTo>
                                    <a:lnTo>
                                      <a:pt x="379" y="409"/>
                                    </a:lnTo>
                                    <a:lnTo>
                                      <a:pt x="368" y="404"/>
                                    </a:lnTo>
                                    <a:lnTo>
                                      <a:pt x="350" y="407"/>
                                    </a:lnTo>
                                    <a:lnTo>
                                      <a:pt x="330" y="410"/>
                                    </a:lnTo>
                                    <a:lnTo>
                                      <a:pt x="306" y="416"/>
                                    </a:lnTo>
                                    <a:lnTo>
                                      <a:pt x="283" y="422"/>
                                    </a:lnTo>
                                    <a:lnTo>
                                      <a:pt x="271" y="426"/>
                                    </a:lnTo>
                                    <a:lnTo>
                                      <a:pt x="258" y="436"/>
                                    </a:lnTo>
                                    <a:lnTo>
                                      <a:pt x="243" y="448"/>
                                    </a:lnTo>
                                    <a:lnTo>
                                      <a:pt x="222" y="465"/>
                                    </a:lnTo>
                                    <a:lnTo>
                                      <a:pt x="210" y="468"/>
                                    </a:lnTo>
                                    <a:lnTo>
                                      <a:pt x="191" y="470"/>
                                    </a:lnTo>
                                    <a:lnTo>
                                      <a:pt x="173" y="470"/>
                                    </a:lnTo>
                                    <a:lnTo>
                                      <a:pt x="163" y="467"/>
                                    </a:lnTo>
                                    <a:lnTo>
                                      <a:pt x="150" y="461"/>
                                    </a:lnTo>
                                    <a:lnTo>
                                      <a:pt x="134" y="455"/>
                                    </a:lnTo>
                                    <a:lnTo>
                                      <a:pt x="126" y="446"/>
                                    </a:lnTo>
                                    <a:lnTo>
                                      <a:pt x="117" y="433"/>
                                    </a:lnTo>
                                    <a:lnTo>
                                      <a:pt x="107" y="418"/>
                                    </a:lnTo>
                                    <a:lnTo>
                                      <a:pt x="98" y="404"/>
                                    </a:lnTo>
                                    <a:lnTo>
                                      <a:pt x="81" y="387"/>
                                    </a:lnTo>
                                    <a:lnTo>
                                      <a:pt x="69" y="371"/>
                                    </a:lnTo>
                                    <a:lnTo>
                                      <a:pt x="49" y="354"/>
                                    </a:lnTo>
                                    <a:lnTo>
                                      <a:pt x="35" y="340"/>
                                    </a:lnTo>
                                    <a:lnTo>
                                      <a:pt x="26" y="329"/>
                                    </a:lnTo>
                                    <a:lnTo>
                                      <a:pt x="21" y="319"/>
                                    </a:lnTo>
                                    <a:lnTo>
                                      <a:pt x="14" y="301"/>
                                    </a:lnTo>
                                    <a:lnTo>
                                      <a:pt x="6" y="280"/>
                                    </a:lnTo>
                                    <a:lnTo>
                                      <a:pt x="2" y="260"/>
                                    </a:lnTo>
                                    <a:lnTo>
                                      <a:pt x="0" y="238"/>
                                    </a:lnTo>
                                    <a:lnTo>
                                      <a:pt x="1" y="223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ff404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6170" name=""/>
                              <p:cNvSpPr/>
                              <p:nvPr/>
                            </p:nvSpPr>
                            <p:spPr>
                              <a:xfrm>
                                <a:off x="1279800" y="4657320"/>
                                <a:ext cx="122400" cy="1310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492" h="428">
                                    <a:moveTo>
                                      <a:pt x="0" y="203"/>
                                    </a:moveTo>
                                    <a:lnTo>
                                      <a:pt x="7" y="187"/>
                                    </a:lnTo>
                                    <a:lnTo>
                                      <a:pt x="14" y="171"/>
                                    </a:lnTo>
                                    <a:lnTo>
                                      <a:pt x="23" y="155"/>
                                    </a:lnTo>
                                    <a:lnTo>
                                      <a:pt x="33" y="144"/>
                                    </a:lnTo>
                                    <a:lnTo>
                                      <a:pt x="43" y="134"/>
                                    </a:lnTo>
                                    <a:lnTo>
                                      <a:pt x="56" y="120"/>
                                    </a:lnTo>
                                    <a:lnTo>
                                      <a:pt x="72" y="105"/>
                                    </a:lnTo>
                                    <a:lnTo>
                                      <a:pt x="83" y="87"/>
                                    </a:lnTo>
                                    <a:lnTo>
                                      <a:pt x="94" y="73"/>
                                    </a:lnTo>
                                    <a:lnTo>
                                      <a:pt x="108" y="61"/>
                                    </a:lnTo>
                                    <a:lnTo>
                                      <a:pt x="123" y="47"/>
                                    </a:lnTo>
                                    <a:lnTo>
                                      <a:pt x="138" y="35"/>
                                    </a:lnTo>
                                    <a:lnTo>
                                      <a:pt x="153" y="25"/>
                                    </a:lnTo>
                                    <a:lnTo>
                                      <a:pt x="174" y="15"/>
                                    </a:lnTo>
                                    <a:lnTo>
                                      <a:pt x="194" y="8"/>
                                    </a:lnTo>
                                    <a:lnTo>
                                      <a:pt x="217" y="2"/>
                                    </a:lnTo>
                                    <a:lnTo>
                                      <a:pt x="244" y="0"/>
                                    </a:lnTo>
                                    <a:lnTo>
                                      <a:pt x="270" y="0"/>
                                    </a:lnTo>
                                    <a:lnTo>
                                      <a:pt x="290" y="0"/>
                                    </a:lnTo>
                                    <a:lnTo>
                                      <a:pt x="311" y="3"/>
                                    </a:lnTo>
                                    <a:lnTo>
                                      <a:pt x="330" y="8"/>
                                    </a:lnTo>
                                    <a:lnTo>
                                      <a:pt x="356" y="13"/>
                                    </a:lnTo>
                                    <a:lnTo>
                                      <a:pt x="375" y="23"/>
                                    </a:lnTo>
                                    <a:lnTo>
                                      <a:pt x="392" y="31"/>
                                    </a:lnTo>
                                    <a:lnTo>
                                      <a:pt x="410" y="42"/>
                                    </a:lnTo>
                                    <a:lnTo>
                                      <a:pt x="425" y="55"/>
                                    </a:lnTo>
                                    <a:lnTo>
                                      <a:pt x="440" y="71"/>
                                    </a:lnTo>
                                    <a:lnTo>
                                      <a:pt x="451" y="84"/>
                                    </a:lnTo>
                                    <a:lnTo>
                                      <a:pt x="463" y="103"/>
                                    </a:lnTo>
                                    <a:lnTo>
                                      <a:pt x="475" y="118"/>
                                    </a:lnTo>
                                    <a:lnTo>
                                      <a:pt x="482" y="135"/>
                                    </a:lnTo>
                                    <a:lnTo>
                                      <a:pt x="487" y="155"/>
                                    </a:lnTo>
                                    <a:lnTo>
                                      <a:pt x="491" y="173"/>
                                    </a:lnTo>
                                    <a:lnTo>
                                      <a:pt x="492" y="188"/>
                                    </a:lnTo>
                                    <a:lnTo>
                                      <a:pt x="492" y="204"/>
                                    </a:lnTo>
                                    <a:lnTo>
                                      <a:pt x="488" y="215"/>
                                    </a:lnTo>
                                    <a:lnTo>
                                      <a:pt x="481" y="234"/>
                                    </a:lnTo>
                                    <a:lnTo>
                                      <a:pt x="469" y="257"/>
                                    </a:lnTo>
                                    <a:lnTo>
                                      <a:pt x="461" y="276"/>
                                    </a:lnTo>
                                    <a:lnTo>
                                      <a:pt x="452" y="292"/>
                                    </a:lnTo>
                                    <a:lnTo>
                                      <a:pt x="447" y="310"/>
                                    </a:lnTo>
                                    <a:lnTo>
                                      <a:pt x="441" y="326"/>
                                    </a:lnTo>
                                    <a:lnTo>
                                      <a:pt x="437" y="343"/>
                                    </a:lnTo>
                                    <a:lnTo>
                                      <a:pt x="434" y="351"/>
                                    </a:lnTo>
                                    <a:lnTo>
                                      <a:pt x="433" y="364"/>
                                    </a:lnTo>
                                    <a:lnTo>
                                      <a:pt x="432" y="384"/>
                                    </a:lnTo>
                                    <a:lnTo>
                                      <a:pt x="354" y="402"/>
                                    </a:lnTo>
                                    <a:lnTo>
                                      <a:pt x="352" y="389"/>
                                    </a:lnTo>
                                    <a:lnTo>
                                      <a:pt x="349" y="380"/>
                                    </a:lnTo>
                                    <a:lnTo>
                                      <a:pt x="345" y="373"/>
                                    </a:lnTo>
                                    <a:lnTo>
                                      <a:pt x="335" y="368"/>
                                    </a:lnTo>
                                    <a:lnTo>
                                      <a:pt x="318" y="371"/>
                                    </a:lnTo>
                                    <a:lnTo>
                                      <a:pt x="300" y="374"/>
                                    </a:lnTo>
                                    <a:lnTo>
                                      <a:pt x="277" y="379"/>
                                    </a:lnTo>
                                    <a:lnTo>
                                      <a:pt x="257" y="385"/>
                                    </a:lnTo>
                                    <a:lnTo>
                                      <a:pt x="247" y="388"/>
                                    </a:lnTo>
                                    <a:lnTo>
                                      <a:pt x="235" y="397"/>
                                    </a:lnTo>
                                    <a:lnTo>
                                      <a:pt x="221" y="408"/>
                                    </a:lnTo>
                                    <a:lnTo>
                                      <a:pt x="203" y="424"/>
                                    </a:lnTo>
                                    <a:lnTo>
                                      <a:pt x="191" y="427"/>
                                    </a:lnTo>
                                    <a:lnTo>
                                      <a:pt x="174" y="428"/>
                                    </a:lnTo>
                                    <a:lnTo>
                                      <a:pt x="158" y="428"/>
                                    </a:lnTo>
                                    <a:lnTo>
                                      <a:pt x="148" y="426"/>
                                    </a:lnTo>
                                    <a:lnTo>
                                      <a:pt x="136" y="420"/>
                                    </a:lnTo>
                                    <a:lnTo>
                                      <a:pt x="123" y="414"/>
                                    </a:lnTo>
                                    <a:lnTo>
                                      <a:pt x="115" y="407"/>
                                    </a:lnTo>
                                    <a:lnTo>
                                      <a:pt x="106" y="395"/>
                                    </a:lnTo>
                                    <a:lnTo>
                                      <a:pt x="97" y="381"/>
                                    </a:lnTo>
                                    <a:lnTo>
                                      <a:pt x="90" y="368"/>
                                    </a:lnTo>
                                    <a:lnTo>
                                      <a:pt x="74" y="353"/>
                                    </a:lnTo>
                                    <a:lnTo>
                                      <a:pt x="62" y="339"/>
                                    </a:lnTo>
                                    <a:lnTo>
                                      <a:pt x="45" y="323"/>
                                    </a:lnTo>
                                    <a:lnTo>
                                      <a:pt x="32" y="310"/>
                                    </a:lnTo>
                                    <a:lnTo>
                                      <a:pt x="24" y="301"/>
                                    </a:lnTo>
                                    <a:lnTo>
                                      <a:pt x="19" y="290"/>
                                    </a:lnTo>
                                    <a:lnTo>
                                      <a:pt x="12" y="274"/>
                                    </a:lnTo>
                                    <a:lnTo>
                                      <a:pt x="6" y="255"/>
                                    </a:lnTo>
                                    <a:lnTo>
                                      <a:pt x="2" y="237"/>
                                    </a:lnTo>
                                    <a:lnTo>
                                      <a:pt x="0" y="218"/>
                                    </a:lnTo>
                                    <a:lnTo>
                                      <a:pt x="0" y="203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ff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6171" name=""/>
                              <p:cNvSpPr/>
                              <p:nvPr/>
                            </p:nvSpPr>
                            <p:spPr>
                              <a:xfrm>
                                <a:off x="1288440" y="4666680"/>
                                <a:ext cx="109800" cy="1184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441" h="383">
                                    <a:moveTo>
                                      <a:pt x="0" y="182"/>
                                    </a:moveTo>
                                    <a:lnTo>
                                      <a:pt x="6" y="167"/>
                                    </a:lnTo>
                                    <a:lnTo>
                                      <a:pt x="12" y="154"/>
                                    </a:lnTo>
                                    <a:lnTo>
                                      <a:pt x="19" y="138"/>
                                    </a:lnTo>
                                    <a:lnTo>
                                      <a:pt x="28" y="128"/>
                                    </a:lnTo>
                                    <a:lnTo>
                                      <a:pt x="38" y="120"/>
                                    </a:lnTo>
                                    <a:lnTo>
                                      <a:pt x="50" y="108"/>
                                    </a:lnTo>
                                    <a:lnTo>
                                      <a:pt x="63" y="93"/>
                                    </a:lnTo>
                                    <a:lnTo>
                                      <a:pt x="73" y="78"/>
                                    </a:lnTo>
                                    <a:lnTo>
                                      <a:pt x="84" y="64"/>
                                    </a:lnTo>
                                    <a:lnTo>
                                      <a:pt x="97" y="54"/>
                                    </a:lnTo>
                                    <a:lnTo>
                                      <a:pt x="110" y="42"/>
                                    </a:lnTo>
                                    <a:lnTo>
                                      <a:pt x="124" y="31"/>
                                    </a:lnTo>
                                    <a:lnTo>
                                      <a:pt x="137" y="21"/>
                                    </a:lnTo>
                                    <a:lnTo>
                                      <a:pt x="155" y="13"/>
                                    </a:lnTo>
                                    <a:lnTo>
                                      <a:pt x="174" y="7"/>
                                    </a:lnTo>
                                    <a:lnTo>
                                      <a:pt x="194" y="1"/>
                                    </a:lnTo>
                                    <a:lnTo>
                                      <a:pt x="219" y="0"/>
                                    </a:lnTo>
                                    <a:lnTo>
                                      <a:pt x="241" y="0"/>
                                    </a:lnTo>
                                    <a:lnTo>
                                      <a:pt x="261" y="0"/>
                                    </a:lnTo>
                                    <a:lnTo>
                                      <a:pt x="279" y="2"/>
                                    </a:lnTo>
                                    <a:lnTo>
                                      <a:pt x="296" y="7"/>
                                    </a:lnTo>
                                    <a:lnTo>
                                      <a:pt x="319" y="11"/>
                                    </a:lnTo>
                                    <a:lnTo>
                                      <a:pt x="336" y="19"/>
                                    </a:lnTo>
                                    <a:lnTo>
                                      <a:pt x="351" y="27"/>
                                    </a:lnTo>
                                    <a:lnTo>
                                      <a:pt x="368" y="37"/>
                                    </a:lnTo>
                                    <a:lnTo>
                                      <a:pt x="381" y="49"/>
                                    </a:lnTo>
                                    <a:lnTo>
                                      <a:pt x="395" y="63"/>
                                    </a:lnTo>
                                    <a:lnTo>
                                      <a:pt x="405" y="75"/>
                                    </a:lnTo>
                                    <a:lnTo>
                                      <a:pt x="415" y="91"/>
                                    </a:lnTo>
                                    <a:lnTo>
                                      <a:pt x="425" y="106"/>
                                    </a:lnTo>
                                    <a:lnTo>
                                      <a:pt x="432" y="121"/>
                                    </a:lnTo>
                                    <a:lnTo>
                                      <a:pt x="437" y="138"/>
                                    </a:lnTo>
                                    <a:lnTo>
                                      <a:pt x="441" y="155"/>
                                    </a:lnTo>
                                    <a:lnTo>
                                      <a:pt x="441" y="168"/>
                                    </a:lnTo>
                                    <a:lnTo>
                                      <a:pt x="441" y="182"/>
                                    </a:lnTo>
                                    <a:lnTo>
                                      <a:pt x="438" y="193"/>
                                    </a:lnTo>
                                    <a:lnTo>
                                      <a:pt x="431" y="210"/>
                                    </a:lnTo>
                                    <a:lnTo>
                                      <a:pt x="421" y="230"/>
                                    </a:lnTo>
                                    <a:lnTo>
                                      <a:pt x="414" y="247"/>
                                    </a:lnTo>
                                    <a:lnTo>
                                      <a:pt x="405" y="262"/>
                                    </a:lnTo>
                                    <a:lnTo>
                                      <a:pt x="401" y="278"/>
                                    </a:lnTo>
                                    <a:lnTo>
                                      <a:pt x="396" y="292"/>
                                    </a:lnTo>
                                    <a:lnTo>
                                      <a:pt x="392" y="308"/>
                                    </a:lnTo>
                                    <a:lnTo>
                                      <a:pt x="388" y="315"/>
                                    </a:lnTo>
                                    <a:lnTo>
                                      <a:pt x="387" y="327"/>
                                    </a:lnTo>
                                    <a:lnTo>
                                      <a:pt x="386" y="344"/>
                                    </a:lnTo>
                                    <a:lnTo>
                                      <a:pt x="317" y="361"/>
                                    </a:lnTo>
                                    <a:lnTo>
                                      <a:pt x="315" y="349"/>
                                    </a:lnTo>
                                    <a:lnTo>
                                      <a:pt x="313" y="340"/>
                                    </a:lnTo>
                                    <a:lnTo>
                                      <a:pt x="309" y="335"/>
                                    </a:lnTo>
                                    <a:lnTo>
                                      <a:pt x="301" y="330"/>
                                    </a:lnTo>
                                    <a:lnTo>
                                      <a:pt x="285" y="333"/>
                                    </a:lnTo>
                                    <a:lnTo>
                                      <a:pt x="269" y="336"/>
                                    </a:lnTo>
                                    <a:lnTo>
                                      <a:pt x="248" y="339"/>
                                    </a:lnTo>
                                    <a:lnTo>
                                      <a:pt x="230" y="346"/>
                                    </a:lnTo>
                                    <a:lnTo>
                                      <a:pt x="221" y="348"/>
                                    </a:lnTo>
                                    <a:lnTo>
                                      <a:pt x="211" y="356"/>
                                    </a:lnTo>
                                    <a:lnTo>
                                      <a:pt x="198" y="366"/>
                                    </a:lnTo>
                                    <a:lnTo>
                                      <a:pt x="181" y="380"/>
                                    </a:lnTo>
                                    <a:lnTo>
                                      <a:pt x="171" y="383"/>
                                    </a:lnTo>
                                    <a:lnTo>
                                      <a:pt x="155" y="383"/>
                                    </a:lnTo>
                                    <a:lnTo>
                                      <a:pt x="141" y="383"/>
                                    </a:lnTo>
                                    <a:lnTo>
                                      <a:pt x="133" y="382"/>
                                    </a:lnTo>
                                    <a:lnTo>
                                      <a:pt x="122" y="376"/>
                                    </a:lnTo>
                                    <a:lnTo>
                                      <a:pt x="109" y="372"/>
                                    </a:lnTo>
                                    <a:lnTo>
                                      <a:pt x="102" y="365"/>
                                    </a:lnTo>
                                    <a:lnTo>
                                      <a:pt x="95" y="355"/>
                                    </a:lnTo>
                                    <a:lnTo>
                                      <a:pt x="87" y="341"/>
                                    </a:lnTo>
                                    <a:lnTo>
                                      <a:pt x="81" y="330"/>
                                    </a:lnTo>
                                    <a:lnTo>
                                      <a:pt x="65" y="317"/>
                                    </a:lnTo>
                                    <a:lnTo>
                                      <a:pt x="55" y="303"/>
                                    </a:lnTo>
                                    <a:lnTo>
                                      <a:pt x="40" y="290"/>
                                    </a:lnTo>
                                    <a:lnTo>
                                      <a:pt x="27" y="278"/>
                                    </a:lnTo>
                                    <a:lnTo>
                                      <a:pt x="20" y="270"/>
                                    </a:lnTo>
                                    <a:lnTo>
                                      <a:pt x="17" y="260"/>
                                    </a:lnTo>
                                    <a:lnTo>
                                      <a:pt x="10" y="246"/>
                                    </a:lnTo>
                                    <a:lnTo>
                                      <a:pt x="5" y="229"/>
                                    </a:lnTo>
                                    <a:lnTo>
                                      <a:pt x="1" y="212"/>
                                    </a:lnTo>
                                    <a:lnTo>
                                      <a:pt x="0" y="195"/>
                                    </a:lnTo>
                                    <a:lnTo>
                                      <a:pt x="0" y="182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e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6172" name=""/>
                              <p:cNvSpPr/>
                              <p:nvPr/>
                            </p:nvSpPr>
                            <p:spPr>
                              <a:xfrm>
                                <a:off x="1296720" y="4675680"/>
                                <a:ext cx="97920" cy="1065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396" h="345">
                                    <a:moveTo>
                                      <a:pt x="0" y="164"/>
                                    </a:moveTo>
                                    <a:lnTo>
                                      <a:pt x="5" y="150"/>
                                    </a:lnTo>
                                    <a:lnTo>
                                      <a:pt x="10" y="138"/>
                                    </a:lnTo>
                                    <a:lnTo>
                                      <a:pt x="17" y="125"/>
                                    </a:lnTo>
                                    <a:lnTo>
                                      <a:pt x="25" y="114"/>
                                    </a:lnTo>
                                    <a:lnTo>
                                      <a:pt x="33" y="107"/>
                                    </a:lnTo>
                                    <a:lnTo>
                                      <a:pt x="45" y="96"/>
                                    </a:lnTo>
                                    <a:lnTo>
                                      <a:pt x="56" y="84"/>
                                    </a:lnTo>
                                    <a:lnTo>
                                      <a:pt x="66" y="69"/>
                                    </a:lnTo>
                                    <a:lnTo>
                                      <a:pt x="75" y="57"/>
                                    </a:lnTo>
                                    <a:lnTo>
                                      <a:pt x="86" y="48"/>
                                    </a:lnTo>
                                    <a:lnTo>
                                      <a:pt x="99" y="38"/>
                                    </a:lnTo>
                                    <a:lnTo>
                                      <a:pt x="111" y="27"/>
                                    </a:lnTo>
                                    <a:lnTo>
                                      <a:pt x="122" y="18"/>
                                    </a:lnTo>
                                    <a:lnTo>
                                      <a:pt x="140" y="11"/>
                                    </a:lnTo>
                                    <a:lnTo>
                                      <a:pt x="156" y="6"/>
                                    </a:lnTo>
                                    <a:lnTo>
                                      <a:pt x="174" y="0"/>
                                    </a:lnTo>
                                    <a:lnTo>
                                      <a:pt x="197" y="0"/>
                                    </a:lnTo>
                                    <a:lnTo>
                                      <a:pt x="216" y="0"/>
                                    </a:lnTo>
                                    <a:lnTo>
                                      <a:pt x="235" y="0"/>
                                    </a:lnTo>
                                    <a:lnTo>
                                      <a:pt x="251" y="1"/>
                                    </a:lnTo>
                                    <a:lnTo>
                                      <a:pt x="266" y="6"/>
                                    </a:lnTo>
                                    <a:lnTo>
                                      <a:pt x="287" y="9"/>
                                    </a:lnTo>
                                    <a:lnTo>
                                      <a:pt x="302" y="17"/>
                                    </a:lnTo>
                                    <a:lnTo>
                                      <a:pt x="316" y="23"/>
                                    </a:lnTo>
                                    <a:lnTo>
                                      <a:pt x="331" y="32"/>
                                    </a:lnTo>
                                    <a:lnTo>
                                      <a:pt x="343" y="44"/>
                                    </a:lnTo>
                                    <a:lnTo>
                                      <a:pt x="355" y="57"/>
                                    </a:lnTo>
                                    <a:lnTo>
                                      <a:pt x="365" y="67"/>
                                    </a:lnTo>
                                    <a:lnTo>
                                      <a:pt x="374" y="82"/>
                                    </a:lnTo>
                                    <a:lnTo>
                                      <a:pt x="383" y="95"/>
                                    </a:lnTo>
                                    <a:lnTo>
                                      <a:pt x="389" y="108"/>
                                    </a:lnTo>
                                    <a:lnTo>
                                      <a:pt x="393" y="125"/>
                                    </a:lnTo>
                                    <a:lnTo>
                                      <a:pt x="396" y="139"/>
                                    </a:lnTo>
                                    <a:lnTo>
                                      <a:pt x="396" y="151"/>
                                    </a:lnTo>
                                    <a:lnTo>
                                      <a:pt x="396" y="164"/>
                                    </a:lnTo>
                                    <a:lnTo>
                                      <a:pt x="394" y="173"/>
                                    </a:lnTo>
                                    <a:lnTo>
                                      <a:pt x="388" y="189"/>
                                    </a:lnTo>
                                    <a:lnTo>
                                      <a:pt x="379" y="207"/>
                                    </a:lnTo>
                                    <a:lnTo>
                                      <a:pt x="373" y="222"/>
                                    </a:lnTo>
                                    <a:lnTo>
                                      <a:pt x="365" y="237"/>
                                    </a:lnTo>
                                    <a:lnTo>
                                      <a:pt x="361" y="250"/>
                                    </a:lnTo>
                                    <a:lnTo>
                                      <a:pt x="356" y="263"/>
                                    </a:lnTo>
                                    <a:lnTo>
                                      <a:pt x="352" y="278"/>
                                    </a:lnTo>
                                    <a:lnTo>
                                      <a:pt x="349" y="284"/>
                                    </a:lnTo>
                                    <a:lnTo>
                                      <a:pt x="349" y="295"/>
                                    </a:lnTo>
                                    <a:lnTo>
                                      <a:pt x="348" y="310"/>
                                    </a:lnTo>
                                    <a:lnTo>
                                      <a:pt x="285" y="326"/>
                                    </a:lnTo>
                                    <a:lnTo>
                                      <a:pt x="283" y="314"/>
                                    </a:lnTo>
                                    <a:lnTo>
                                      <a:pt x="282" y="307"/>
                                    </a:lnTo>
                                    <a:lnTo>
                                      <a:pt x="278" y="302"/>
                                    </a:lnTo>
                                    <a:lnTo>
                                      <a:pt x="271" y="297"/>
                                    </a:lnTo>
                                    <a:lnTo>
                                      <a:pt x="256" y="300"/>
                                    </a:lnTo>
                                    <a:lnTo>
                                      <a:pt x="242" y="303"/>
                                    </a:lnTo>
                                    <a:lnTo>
                                      <a:pt x="223" y="306"/>
                                    </a:lnTo>
                                    <a:lnTo>
                                      <a:pt x="206" y="311"/>
                                    </a:lnTo>
                                    <a:lnTo>
                                      <a:pt x="198" y="313"/>
                                    </a:lnTo>
                                    <a:lnTo>
                                      <a:pt x="189" y="321"/>
                                    </a:lnTo>
                                    <a:lnTo>
                                      <a:pt x="178" y="330"/>
                                    </a:lnTo>
                                    <a:lnTo>
                                      <a:pt x="162" y="343"/>
                                    </a:lnTo>
                                    <a:lnTo>
                                      <a:pt x="153" y="345"/>
                                    </a:lnTo>
                                    <a:lnTo>
                                      <a:pt x="140" y="345"/>
                                    </a:lnTo>
                                    <a:lnTo>
                                      <a:pt x="126" y="345"/>
                                    </a:lnTo>
                                    <a:lnTo>
                                      <a:pt x="119" y="345"/>
                                    </a:lnTo>
                                    <a:lnTo>
                                      <a:pt x="109" y="339"/>
                                    </a:lnTo>
                                    <a:lnTo>
                                      <a:pt x="98" y="336"/>
                                    </a:lnTo>
                                    <a:lnTo>
                                      <a:pt x="92" y="329"/>
                                    </a:lnTo>
                                    <a:lnTo>
                                      <a:pt x="84" y="320"/>
                                    </a:lnTo>
                                    <a:lnTo>
                                      <a:pt x="77" y="307"/>
                                    </a:lnTo>
                                    <a:lnTo>
                                      <a:pt x="72" y="297"/>
                                    </a:lnTo>
                                    <a:lnTo>
                                      <a:pt x="58" y="286"/>
                                    </a:lnTo>
                                    <a:lnTo>
                                      <a:pt x="49" y="273"/>
                                    </a:lnTo>
                                    <a:lnTo>
                                      <a:pt x="35" y="261"/>
                                    </a:lnTo>
                                    <a:lnTo>
                                      <a:pt x="24" y="250"/>
                                    </a:lnTo>
                                    <a:lnTo>
                                      <a:pt x="18" y="243"/>
                                    </a:lnTo>
                                    <a:lnTo>
                                      <a:pt x="15" y="234"/>
                                    </a:lnTo>
                                    <a:lnTo>
                                      <a:pt x="9" y="221"/>
                                    </a:lnTo>
                                    <a:lnTo>
                                      <a:pt x="4" y="206"/>
                                    </a:lnTo>
                                    <a:lnTo>
                                      <a:pt x="0" y="191"/>
                                    </a:lnTo>
                                    <a:lnTo>
                                      <a:pt x="0" y="175"/>
                                    </a:lnTo>
                                    <a:lnTo>
                                      <a:pt x="0" y="164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c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6173" name=""/>
                          <p:cNvGrpSpPr/>
                          <p:nvPr/>
                        </p:nvGrpSpPr>
                        <p:grpSpPr>
                          <a:xfrm>
                            <a:off x="1316880" y="4643640"/>
                            <a:ext cx="90000" cy="51840"/>
                            <a:chOff x="1316880" y="4643640"/>
                            <a:chExt cx="90000" cy="51840"/>
                          </a:xfrm>
                        </p:grpSpPr>
                        <p:sp>
                          <p:nvSpPr>
                            <p:cNvPr id="6174" name=""/>
                            <p:cNvSpPr/>
                            <p:nvPr/>
                          </p:nvSpPr>
                          <p:spPr>
                            <a:xfrm>
                              <a:off x="1316880" y="4644720"/>
                              <a:ext cx="20880" cy="1512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88" h="49">
                                  <a:moveTo>
                                    <a:pt x="37" y="2"/>
                                  </a:moveTo>
                                  <a:lnTo>
                                    <a:pt x="48" y="0"/>
                                  </a:lnTo>
                                  <a:lnTo>
                                    <a:pt x="60" y="0"/>
                                  </a:lnTo>
                                  <a:lnTo>
                                    <a:pt x="68" y="1"/>
                                  </a:lnTo>
                                  <a:lnTo>
                                    <a:pt x="79" y="6"/>
                                  </a:lnTo>
                                  <a:lnTo>
                                    <a:pt x="85" y="10"/>
                                  </a:lnTo>
                                  <a:lnTo>
                                    <a:pt x="88" y="19"/>
                                  </a:lnTo>
                                  <a:lnTo>
                                    <a:pt x="85" y="29"/>
                                  </a:lnTo>
                                  <a:lnTo>
                                    <a:pt x="79" y="37"/>
                                  </a:lnTo>
                                  <a:lnTo>
                                    <a:pt x="70" y="41"/>
                                  </a:lnTo>
                                  <a:lnTo>
                                    <a:pt x="61" y="45"/>
                                  </a:lnTo>
                                  <a:lnTo>
                                    <a:pt x="48" y="47"/>
                                  </a:lnTo>
                                  <a:lnTo>
                                    <a:pt x="36" y="49"/>
                                  </a:lnTo>
                                  <a:lnTo>
                                    <a:pt x="23" y="49"/>
                                  </a:lnTo>
                                  <a:lnTo>
                                    <a:pt x="12" y="47"/>
                                  </a:lnTo>
                                  <a:lnTo>
                                    <a:pt x="3" y="42"/>
                                  </a:lnTo>
                                  <a:lnTo>
                                    <a:pt x="0" y="35"/>
                                  </a:lnTo>
                                  <a:lnTo>
                                    <a:pt x="1" y="25"/>
                                  </a:lnTo>
                                  <a:lnTo>
                                    <a:pt x="6" y="16"/>
                                  </a:lnTo>
                                  <a:lnTo>
                                    <a:pt x="16" y="9"/>
                                  </a:lnTo>
                                  <a:lnTo>
                                    <a:pt x="25" y="5"/>
                                  </a:lnTo>
                                  <a:lnTo>
                                    <a:pt x="37" y="2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a000a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31680" bIns="-3168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6175" name=""/>
                            <p:cNvSpPr/>
                            <p:nvPr/>
                          </p:nvSpPr>
                          <p:spPr>
                            <a:xfrm>
                              <a:off x="1344960" y="4643640"/>
                              <a:ext cx="22320" cy="1332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87" h="49">
                                  <a:moveTo>
                                    <a:pt x="36" y="47"/>
                                  </a:moveTo>
                                  <a:lnTo>
                                    <a:pt x="47" y="49"/>
                                  </a:lnTo>
                                  <a:lnTo>
                                    <a:pt x="58" y="49"/>
                                  </a:lnTo>
                                  <a:lnTo>
                                    <a:pt x="66" y="48"/>
                                  </a:lnTo>
                                  <a:lnTo>
                                    <a:pt x="78" y="43"/>
                                  </a:lnTo>
                                  <a:lnTo>
                                    <a:pt x="84" y="38"/>
                                  </a:lnTo>
                                  <a:lnTo>
                                    <a:pt x="87" y="30"/>
                                  </a:lnTo>
                                  <a:lnTo>
                                    <a:pt x="84" y="19"/>
                                  </a:lnTo>
                                  <a:lnTo>
                                    <a:pt x="78" y="12"/>
                                  </a:lnTo>
                                  <a:lnTo>
                                    <a:pt x="68" y="8"/>
                                  </a:lnTo>
                                  <a:lnTo>
                                    <a:pt x="59" y="4"/>
                                  </a:lnTo>
                                  <a:lnTo>
                                    <a:pt x="47" y="2"/>
                                  </a:lnTo>
                                  <a:lnTo>
                                    <a:pt x="35" y="0"/>
                                  </a:lnTo>
                                  <a:lnTo>
                                    <a:pt x="21" y="0"/>
                                  </a:lnTo>
                                  <a:lnTo>
                                    <a:pt x="10" y="2"/>
                                  </a:lnTo>
                                  <a:lnTo>
                                    <a:pt x="3" y="7"/>
                                  </a:lnTo>
                                  <a:lnTo>
                                    <a:pt x="0" y="14"/>
                                  </a:lnTo>
                                  <a:lnTo>
                                    <a:pt x="1" y="24"/>
                                  </a:lnTo>
                                  <a:lnTo>
                                    <a:pt x="6" y="33"/>
                                  </a:lnTo>
                                  <a:lnTo>
                                    <a:pt x="14" y="39"/>
                                  </a:lnTo>
                                  <a:lnTo>
                                    <a:pt x="23" y="44"/>
                                  </a:lnTo>
                                  <a:lnTo>
                                    <a:pt x="36" y="47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a000a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33480" bIns="-3348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6176" name=""/>
                            <p:cNvSpPr/>
                            <p:nvPr/>
                          </p:nvSpPr>
                          <p:spPr>
                            <a:xfrm>
                              <a:off x="1373760" y="4654080"/>
                              <a:ext cx="15840" cy="1656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68" h="56">
                                  <a:moveTo>
                                    <a:pt x="34" y="53"/>
                                  </a:moveTo>
                                  <a:lnTo>
                                    <a:pt x="45" y="56"/>
                                  </a:lnTo>
                                  <a:lnTo>
                                    <a:pt x="53" y="56"/>
                                  </a:lnTo>
                                  <a:lnTo>
                                    <a:pt x="61" y="54"/>
                                  </a:lnTo>
                                  <a:lnTo>
                                    <a:pt x="65" y="48"/>
                                  </a:lnTo>
                                  <a:lnTo>
                                    <a:pt x="68" y="40"/>
                                  </a:lnTo>
                                  <a:lnTo>
                                    <a:pt x="66" y="31"/>
                                  </a:lnTo>
                                  <a:lnTo>
                                    <a:pt x="60" y="19"/>
                                  </a:lnTo>
                                  <a:lnTo>
                                    <a:pt x="52" y="11"/>
                                  </a:lnTo>
                                  <a:lnTo>
                                    <a:pt x="41" y="5"/>
                                  </a:lnTo>
                                  <a:lnTo>
                                    <a:pt x="29" y="1"/>
                                  </a:lnTo>
                                  <a:lnTo>
                                    <a:pt x="20" y="0"/>
                                  </a:lnTo>
                                  <a:lnTo>
                                    <a:pt x="12" y="2"/>
                                  </a:lnTo>
                                  <a:lnTo>
                                    <a:pt x="4" y="7"/>
                                  </a:lnTo>
                                  <a:lnTo>
                                    <a:pt x="0" y="14"/>
                                  </a:lnTo>
                                  <a:lnTo>
                                    <a:pt x="1" y="24"/>
                                  </a:lnTo>
                                  <a:lnTo>
                                    <a:pt x="7" y="34"/>
                                  </a:lnTo>
                                  <a:lnTo>
                                    <a:pt x="16" y="41"/>
                                  </a:lnTo>
                                  <a:lnTo>
                                    <a:pt x="25" y="47"/>
                                  </a:lnTo>
                                  <a:lnTo>
                                    <a:pt x="34" y="53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a000a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30240" bIns="-3024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6177" name=""/>
                            <p:cNvSpPr/>
                            <p:nvPr/>
                          </p:nvSpPr>
                          <p:spPr>
                            <a:xfrm>
                              <a:off x="1392120" y="4675320"/>
                              <a:ext cx="14760" cy="2016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57" h="65">
                                  <a:moveTo>
                                    <a:pt x="24" y="61"/>
                                  </a:moveTo>
                                  <a:lnTo>
                                    <a:pt x="35" y="65"/>
                                  </a:lnTo>
                                  <a:lnTo>
                                    <a:pt x="45" y="64"/>
                                  </a:lnTo>
                                  <a:lnTo>
                                    <a:pt x="52" y="59"/>
                                  </a:lnTo>
                                  <a:lnTo>
                                    <a:pt x="57" y="48"/>
                                  </a:lnTo>
                                  <a:lnTo>
                                    <a:pt x="55" y="34"/>
                                  </a:lnTo>
                                  <a:lnTo>
                                    <a:pt x="52" y="23"/>
                                  </a:lnTo>
                                  <a:lnTo>
                                    <a:pt x="46" y="14"/>
                                  </a:lnTo>
                                  <a:lnTo>
                                    <a:pt x="40" y="6"/>
                                  </a:lnTo>
                                  <a:lnTo>
                                    <a:pt x="29" y="1"/>
                                  </a:lnTo>
                                  <a:lnTo>
                                    <a:pt x="21" y="0"/>
                                  </a:lnTo>
                                  <a:lnTo>
                                    <a:pt x="11" y="2"/>
                                  </a:lnTo>
                                  <a:lnTo>
                                    <a:pt x="3" y="7"/>
                                  </a:lnTo>
                                  <a:lnTo>
                                    <a:pt x="0" y="15"/>
                                  </a:lnTo>
                                  <a:lnTo>
                                    <a:pt x="1" y="24"/>
                                  </a:lnTo>
                                  <a:lnTo>
                                    <a:pt x="3" y="34"/>
                                  </a:lnTo>
                                  <a:lnTo>
                                    <a:pt x="9" y="44"/>
                                  </a:lnTo>
                                  <a:lnTo>
                                    <a:pt x="17" y="53"/>
                                  </a:lnTo>
                                  <a:lnTo>
                                    <a:pt x="24" y="61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a000a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26640" bIns="-2664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6178" name=""/>
                        <p:cNvGrpSpPr/>
                        <p:nvPr/>
                      </p:nvGrpSpPr>
                      <p:grpSpPr>
                        <a:xfrm>
                          <a:off x="1346760" y="4723920"/>
                          <a:ext cx="100800" cy="201960"/>
                          <a:chOff x="1346760" y="4723920"/>
                          <a:chExt cx="100800" cy="201960"/>
                        </a:xfrm>
                      </p:grpSpPr>
                      <p:sp>
                        <p:nvSpPr>
                          <p:cNvPr id="6179" name=""/>
                          <p:cNvSpPr/>
                          <p:nvPr/>
                        </p:nvSpPr>
                        <p:spPr>
                          <a:xfrm>
                            <a:off x="1391040" y="4725000"/>
                            <a:ext cx="56520" cy="12636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29" h="410">
                                <a:moveTo>
                                  <a:pt x="27" y="0"/>
                                </a:moveTo>
                                <a:lnTo>
                                  <a:pt x="17" y="28"/>
                                </a:lnTo>
                                <a:lnTo>
                                  <a:pt x="8" y="64"/>
                                </a:lnTo>
                                <a:lnTo>
                                  <a:pt x="3" y="103"/>
                                </a:lnTo>
                                <a:lnTo>
                                  <a:pt x="0" y="137"/>
                                </a:lnTo>
                                <a:lnTo>
                                  <a:pt x="5" y="166"/>
                                </a:lnTo>
                                <a:lnTo>
                                  <a:pt x="14" y="190"/>
                                </a:lnTo>
                                <a:lnTo>
                                  <a:pt x="30" y="215"/>
                                </a:lnTo>
                                <a:lnTo>
                                  <a:pt x="52" y="245"/>
                                </a:lnTo>
                                <a:lnTo>
                                  <a:pt x="82" y="272"/>
                                </a:lnTo>
                                <a:lnTo>
                                  <a:pt x="122" y="304"/>
                                </a:lnTo>
                                <a:lnTo>
                                  <a:pt x="152" y="329"/>
                                </a:lnTo>
                                <a:lnTo>
                                  <a:pt x="176" y="347"/>
                                </a:lnTo>
                                <a:lnTo>
                                  <a:pt x="192" y="366"/>
                                </a:lnTo>
                                <a:lnTo>
                                  <a:pt x="213" y="389"/>
                                </a:lnTo>
                                <a:lnTo>
                                  <a:pt x="229" y="410"/>
                                </a:lnTo>
                              </a:path>
                            </a:pathLst>
                          </a:custGeom>
                          <a:noFill/>
                          <a:ln w="4680">
                            <a:solidFill>
                              <a:srgbClr val="ffc0c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6180" name=""/>
                          <p:cNvSpPr/>
                          <p:nvPr/>
                        </p:nvSpPr>
                        <p:spPr>
                          <a:xfrm>
                            <a:off x="1346760" y="4766760"/>
                            <a:ext cx="54360" cy="1198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16" h="391">
                                <a:moveTo>
                                  <a:pt x="0" y="0"/>
                                </a:moveTo>
                                <a:lnTo>
                                  <a:pt x="24" y="4"/>
                                </a:lnTo>
                                <a:lnTo>
                                  <a:pt x="47" y="9"/>
                                </a:lnTo>
                                <a:lnTo>
                                  <a:pt x="73" y="18"/>
                                </a:lnTo>
                                <a:lnTo>
                                  <a:pt x="93" y="29"/>
                                </a:lnTo>
                                <a:lnTo>
                                  <a:pt x="112" y="41"/>
                                </a:lnTo>
                                <a:lnTo>
                                  <a:pt x="128" y="65"/>
                                </a:lnTo>
                                <a:lnTo>
                                  <a:pt x="142" y="87"/>
                                </a:lnTo>
                                <a:lnTo>
                                  <a:pt x="152" y="114"/>
                                </a:lnTo>
                                <a:lnTo>
                                  <a:pt x="162" y="146"/>
                                </a:lnTo>
                                <a:lnTo>
                                  <a:pt x="171" y="182"/>
                                </a:lnTo>
                                <a:lnTo>
                                  <a:pt x="174" y="222"/>
                                </a:lnTo>
                                <a:lnTo>
                                  <a:pt x="177" y="276"/>
                                </a:lnTo>
                                <a:lnTo>
                                  <a:pt x="180" y="314"/>
                                </a:lnTo>
                                <a:lnTo>
                                  <a:pt x="188" y="347"/>
                                </a:lnTo>
                                <a:lnTo>
                                  <a:pt x="201" y="372"/>
                                </a:lnTo>
                                <a:lnTo>
                                  <a:pt x="216" y="391"/>
                                </a:lnTo>
                                <a:lnTo>
                                  <a:pt x="214" y="390"/>
                                </a:lnTo>
                              </a:path>
                            </a:pathLst>
                          </a:custGeom>
                          <a:noFill/>
                          <a:ln w="4680">
                            <a:solidFill>
                              <a:srgbClr val="ffc0c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6181" name=""/>
                          <p:cNvSpPr/>
                          <p:nvPr/>
                        </p:nvSpPr>
                        <p:spPr>
                          <a:xfrm>
                            <a:off x="1349280" y="4723920"/>
                            <a:ext cx="91080" cy="20196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371" h="657">
                                <a:moveTo>
                                  <a:pt x="0" y="0"/>
                                </a:moveTo>
                                <a:lnTo>
                                  <a:pt x="26" y="25"/>
                                </a:lnTo>
                                <a:lnTo>
                                  <a:pt x="60" y="56"/>
                                </a:lnTo>
                                <a:lnTo>
                                  <a:pt x="84" y="86"/>
                                </a:lnTo>
                                <a:lnTo>
                                  <a:pt x="108" y="120"/>
                                </a:lnTo>
                                <a:lnTo>
                                  <a:pt x="132" y="159"/>
                                </a:lnTo>
                                <a:lnTo>
                                  <a:pt x="154" y="196"/>
                                </a:lnTo>
                                <a:lnTo>
                                  <a:pt x="176" y="236"/>
                                </a:lnTo>
                                <a:lnTo>
                                  <a:pt x="195" y="272"/>
                                </a:lnTo>
                                <a:lnTo>
                                  <a:pt x="213" y="313"/>
                                </a:lnTo>
                                <a:lnTo>
                                  <a:pt x="230" y="357"/>
                                </a:lnTo>
                                <a:lnTo>
                                  <a:pt x="247" y="409"/>
                                </a:lnTo>
                                <a:lnTo>
                                  <a:pt x="261" y="452"/>
                                </a:lnTo>
                                <a:lnTo>
                                  <a:pt x="277" y="496"/>
                                </a:lnTo>
                                <a:lnTo>
                                  <a:pt x="292" y="533"/>
                                </a:lnTo>
                                <a:lnTo>
                                  <a:pt x="312" y="577"/>
                                </a:lnTo>
                                <a:lnTo>
                                  <a:pt x="338" y="616"/>
                                </a:lnTo>
                                <a:lnTo>
                                  <a:pt x="371" y="657"/>
                                </a:lnTo>
                              </a:path>
                            </a:pathLst>
                          </a:custGeom>
                          <a:noFill/>
                          <a:ln w="4680">
                            <a:solidFill>
                              <a:srgbClr val="ffc0c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6182" name=""/>
                      <p:cNvGrpSpPr/>
                      <p:nvPr/>
                    </p:nvGrpSpPr>
                    <p:grpSpPr>
                      <a:xfrm>
                        <a:off x="1126800" y="4716360"/>
                        <a:ext cx="301680" cy="331560"/>
                        <a:chOff x="1126800" y="4716360"/>
                        <a:chExt cx="301680" cy="331560"/>
                      </a:xfrm>
                    </p:grpSpPr>
                    <p:grpSp>
                      <p:nvGrpSpPr>
                        <p:cNvPr id="6183" name=""/>
                        <p:cNvGrpSpPr/>
                        <p:nvPr/>
                      </p:nvGrpSpPr>
                      <p:grpSpPr>
                        <a:xfrm>
                          <a:off x="1126800" y="4716360"/>
                          <a:ext cx="301680" cy="331560"/>
                          <a:chOff x="1126800" y="4716360"/>
                          <a:chExt cx="301680" cy="331560"/>
                        </a:xfrm>
                      </p:grpSpPr>
                      <p:grpSp>
                        <p:nvGrpSpPr>
                          <p:cNvPr id="6184" name=""/>
                          <p:cNvGrpSpPr/>
                          <p:nvPr/>
                        </p:nvGrpSpPr>
                        <p:grpSpPr>
                          <a:xfrm>
                            <a:off x="1126800" y="4716360"/>
                            <a:ext cx="301680" cy="331560"/>
                            <a:chOff x="1126800" y="4716360"/>
                            <a:chExt cx="301680" cy="331560"/>
                          </a:xfrm>
                        </p:grpSpPr>
                        <p:grpSp>
                          <p:nvGrpSpPr>
                            <p:cNvPr id="6185" name=""/>
                            <p:cNvGrpSpPr/>
                            <p:nvPr/>
                          </p:nvGrpSpPr>
                          <p:grpSpPr>
                            <a:xfrm>
                              <a:off x="1126800" y="4716360"/>
                              <a:ext cx="301680" cy="331560"/>
                              <a:chOff x="1126800" y="4716360"/>
                              <a:chExt cx="301680" cy="331560"/>
                            </a:xfrm>
                          </p:grpSpPr>
                          <p:grpSp>
                            <p:nvGrpSpPr>
                              <p:cNvPr id="6186" name=""/>
                              <p:cNvGrpSpPr/>
                              <p:nvPr/>
                            </p:nvGrpSpPr>
                            <p:grpSpPr>
                              <a:xfrm>
                                <a:off x="1126800" y="4716360"/>
                                <a:ext cx="301680" cy="331560"/>
                                <a:chOff x="1126800" y="4716360"/>
                                <a:chExt cx="301680" cy="331560"/>
                              </a:xfrm>
                            </p:grpSpPr>
                            <p:sp>
                              <p:nvSpPr>
                                <p:cNvPr id="6187" name=""/>
                                <p:cNvSpPr/>
                                <p:nvPr/>
                              </p:nvSpPr>
                              <p:spPr>
                                <a:xfrm>
                                  <a:off x="1126800" y="4716360"/>
                                  <a:ext cx="301680" cy="33156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1224" h="1076">
                                      <a:moveTo>
                                        <a:pt x="95" y="86"/>
                                      </a:moveTo>
                                      <a:lnTo>
                                        <a:pt x="127" y="60"/>
                                      </a:lnTo>
                                      <a:lnTo>
                                        <a:pt x="158" y="37"/>
                                      </a:lnTo>
                                      <a:lnTo>
                                        <a:pt x="193" y="18"/>
                                      </a:lnTo>
                                      <a:lnTo>
                                        <a:pt x="234" y="6"/>
                                      </a:lnTo>
                                      <a:lnTo>
                                        <a:pt x="269" y="2"/>
                                      </a:lnTo>
                                      <a:lnTo>
                                        <a:pt x="309" y="0"/>
                                      </a:lnTo>
                                      <a:lnTo>
                                        <a:pt x="367" y="5"/>
                                      </a:lnTo>
                                      <a:lnTo>
                                        <a:pt x="424" y="17"/>
                                      </a:lnTo>
                                      <a:lnTo>
                                        <a:pt x="460" y="42"/>
                                      </a:lnTo>
                                      <a:lnTo>
                                        <a:pt x="488" y="77"/>
                                      </a:lnTo>
                                      <a:lnTo>
                                        <a:pt x="512" y="119"/>
                                      </a:lnTo>
                                      <a:lnTo>
                                        <a:pt x="537" y="159"/>
                                      </a:lnTo>
                                      <a:lnTo>
                                        <a:pt x="567" y="193"/>
                                      </a:lnTo>
                                      <a:lnTo>
                                        <a:pt x="593" y="220"/>
                                      </a:lnTo>
                                      <a:lnTo>
                                        <a:pt x="628" y="260"/>
                                      </a:lnTo>
                                      <a:lnTo>
                                        <a:pt x="642" y="297"/>
                                      </a:lnTo>
                                      <a:lnTo>
                                        <a:pt x="646" y="326"/>
                                      </a:lnTo>
                                      <a:lnTo>
                                        <a:pt x="642" y="342"/>
                                      </a:lnTo>
                                      <a:lnTo>
                                        <a:pt x="633" y="370"/>
                                      </a:lnTo>
                                      <a:lnTo>
                                        <a:pt x="618" y="396"/>
                                      </a:lnTo>
                                      <a:lnTo>
                                        <a:pt x="596" y="424"/>
                                      </a:lnTo>
                                      <a:lnTo>
                                        <a:pt x="570" y="461"/>
                                      </a:lnTo>
                                      <a:lnTo>
                                        <a:pt x="546" y="489"/>
                                      </a:lnTo>
                                      <a:lnTo>
                                        <a:pt x="527" y="520"/>
                                      </a:lnTo>
                                      <a:lnTo>
                                        <a:pt x="519" y="538"/>
                                      </a:lnTo>
                                      <a:lnTo>
                                        <a:pt x="518" y="550"/>
                                      </a:lnTo>
                                      <a:lnTo>
                                        <a:pt x="523" y="559"/>
                                      </a:lnTo>
                                      <a:lnTo>
                                        <a:pt x="533" y="563"/>
                                      </a:lnTo>
                                      <a:lnTo>
                                        <a:pt x="542" y="561"/>
                                      </a:lnTo>
                                      <a:lnTo>
                                        <a:pt x="552" y="552"/>
                                      </a:lnTo>
                                      <a:lnTo>
                                        <a:pt x="565" y="532"/>
                                      </a:lnTo>
                                      <a:lnTo>
                                        <a:pt x="585" y="502"/>
                                      </a:lnTo>
                                      <a:lnTo>
                                        <a:pt x="609" y="470"/>
                                      </a:lnTo>
                                      <a:lnTo>
                                        <a:pt x="631" y="442"/>
                                      </a:lnTo>
                                      <a:lnTo>
                                        <a:pt x="653" y="417"/>
                                      </a:lnTo>
                                      <a:lnTo>
                                        <a:pt x="676" y="395"/>
                                      </a:lnTo>
                                      <a:lnTo>
                                        <a:pt x="687" y="388"/>
                                      </a:lnTo>
                                      <a:lnTo>
                                        <a:pt x="701" y="386"/>
                                      </a:lnTo>
                                      <a:lnTo>
                                        <a:pt x="714" y="390"/>
                                      </a:lnTo>
                                      <a:lnTo>
                                        <a:pt x="722" y="395"/>
                                      </a:lnTo>
                                      <a:lnTo>
                                        <a:pt x="737" y="421"/>
                                      </a:lnTo>
                                      <a:lnTo>
                                        <a:pt x="758" y="467"/>
                                      </a:lnTo>
                                      <a:lnTo>
                                        <a:pt x="781" y="520"/>
                                      </a:lnTo>
                                      <a:lnTo>
                                        <a:pt x="803" y="571"/>
                                      </a:lnTo>
                                      <a:lnTo>
                                        <a:pt x="825" y="614"/>
                                      </a:lnTo>
                                      <a:lnTo>
                                        <a:pt x="863" y="674"/>
                                      </a:lnTo>
                                      <a:lnTo>
                                        <a:pt x="902" y="734"/>
                                      </a:lnTo>
                                      <a:lnTo>
                                        <a:pt x="944" y="793"/>
                                      </a:lnTo>
                                      <a:lnTo>
                                        <a:pt x="983" y="839"/>
                                      </a:lnTo>
                                      <a:lnTo>
                                        <a:pt x="1027" y="874"/>
                                      </a:lnTo>
                                      <a:lnTo>
                                        <a:pt x="1069" y="910"/>
                                      </a:lnTo>
                                      <a:lnTo>
                                        <a:pt x="1108" y="941"/>
                                      </a:lnTo>
                                      <a:lnTo>
                                        <a:pt x="1150" y="972"/>
                                      </a:lnTo>
                                      <a:lnTo>
                                        <a:pt x="1202" y="1009"/>
                                      </a:lnTo>
                                      <a:lnTo>
                                        <a:pt x="1213" y="1021"/>
                                      </a:lnTo>
                                      <a:lnTo>
                                        <a:pt x="1223" y="1035"/>
                                      </a:lnTo>
                                      <a:lnTo>
                                        <a:pt x="1224" y="1045"/>
                                      </a:lnTo>
                                      <a:lnTo>
                                        <a:pt x="1219" y="1059"/>
                                      </a:lnTo>
                                      <a:lnTo>
                                        <a:pt x="1209" y="1067"/>
                                      </a:lnTo>
                                      <a:lnTo>
                                        <a:pt x="1194" y="1072"/>
                                      </a:lnTo>
                                      <a:lnTo>
                                        <a:pt x="1162" y="1075"/>
                                      </a:lnTo>
                                      <a:lnTo>
                                        <a:pt x="1125" y="1076"/>
                                      </a:lnTo>
                                      <a:lnTo>
                                        <a:pt x="1062" y="1071"/>
                                      </a:lnTo>
                                      <a:lnTo>
                                        <a:pt x="1003" y="1063"/>
                                      </a:lnTo>
                                      <a:lnTo>
                                        <a:pt x="951" y="1056"/>
                                      </a:lnTo>
                                      <a:lnTo>
                                        <a:pt x="888" y="1044"/>
                                      </a:lnTo>
                                      <a:lnTo>
                                        <a:pt x="826" y="1026"/>
                                      </a:lnTo>
                                      <a:lnTo>
                                        <a:pt x="778" y="1006"/>
                                      </a:lnTo>
                                      <a:lnTo>
                                        <a:pt x="735" y="981"/>
                                      </a:lnTo>
                                      <a:lnTo>
                                        <a:pt x="670" y="954"/>
                                      </a:lnTo>
                                      <a:lnTo>
                                        <a:pt x="603" y="921"/>
                                      </a:lnTo>
                                      <a:lnTo>
                                        <a:pt x="542" y="890"/>
                                      </a:lnTo>
                                      <a:lnTo>
                                        <a:pt x="496" y="856"/>
                                      </a:lnTo>
                                      <a:lnTo>
                                        <a:pt x="453" y="826"/>
                                      </a:lnTo>
                                      <a:lnTo>
                                        <a:pt x="413" y="796"/>
                                      </a:lnTo>
                                      <a:lnTo>
                                        <a:pt x="373" y="753"/>
                                      </a:lnTo>
                                      <a:lnTo>
                                        <a:pt x="340" y="720"/>
                                      </a:lnTo>
                                      <a:lnTo>
                                        <a:pt x="311" y="689"/>
                                      </a:lnTo>
                                      <a:lnTo>
                                        <a:pt x="306" y="675"/>
                                      </a:lnTo>
                                      <a:lnTo>
                                        <a:pt x="306" y="658"/>
                                      </a:lnTo>
                                      <a:lnTo>
                                        <a:pt x="317" y="641"/>
                                      </a:lnTo>
                                      <a:lnTo>
                                        <a:pt x="335" y="629"/>
                                      </a:lnTo>
                                      <a:lnTo>
                                        <a:pt x="358" y="620"/>
                                      </a:lnTo>
                                      <a:lnTo>
                                        <a:pt x="387" y="616"/>
                                      </a:lnTo>
                                      <a:lnTo>
                                        <a:pt x="421" y="621"/>
                                      </a:lnTo>
                                      <a:lnTo>
                                        <a:pt x="453" y="631"/>
                                      </a:lnTo>
                                      <a:lnTo>
                                        <a:pt x="467" y="635"/>
                                      </a:lnTo>
                                      <a:lnTo>
                                        <a:pt x="478" y="637"/>
                                      </a:lnTo>
                                      <a:lnTo>
                                        <a:pt x="485" y="634"/>
                                      </a:lnTo>
                                      <a:lnTo>
                                        <a:pt x="490" y="626"/>
                                      </a:lnTo>
                                      <a:lnTo>
                                        <a:pt x="488" y="616"/>
                                      </a:lnTo>
                                      <a:lnTo>
                                        <a:pt x="481" y="606"/>
                                      </a:lnTo>
                                      <a:lnTo>
                                        <a:pt x="454" y="593"/>
                                      </a:lnTo>
                                      <a:lnTo>
                                        <a:pt x="425" y="586"/>
                                      </a:lnTo>
                                      <a:lnTo>
                                        <a:pt x="395" y="583"/>
                                      </a:lnTo>
                                      <a:lnTo>
                                        <a:pt x="365" y="589"/>
                                      </a:lnTo>
                                      <a:lnTo>
                                        <a:pt x="327" y="599"/>
                                      </a:lnTo>
                                      <a:lnTo>
                                        <a:pt x="283" y="613"/>
                                      </a:lnTo>
                                      <a:lnTo>
                                        <a:pt x="249" y="623"/>
                                      </a:lnTo>
                                      <a:lnTo>
                                        <a:pt x="222" y="628"/>
                                      </a:lnTo>
                                      <a:lnTo>
                                        <a:pt x="196" y="624"/>
                                      </a:lnTo>
                                      <a:lnTo>
                                        <a:pt x="170" y="616"/>
                                      </a:lnTo>
                                      <a:lnTo>
                                        <a:pt x="142" y="602"/>
                                      </a:lnTo>
                                      <a:lnTo>
                                        <a:pt x="122" y="584"/>
                                      </a:lnTo>
                                      <a:lnTo>
                                        <a:pt x="100" y="561"/>
                                      </a:lnTo>
                                      <a:lnTo>
                                        <a:pt x="72" y="525"/>
                                      </a:lnTo>
                                      <a:lnTo>
                                        <a:pt x="41" y="477"/>
                                      </a:lnTo>
                                      <a:lnTo>
                                        <a:pt x="18" y="431"/>
                                      </a:lnTo>
                                      <a:lnTo>
                                        <a:pt x="3" y="387"/>
                                      </a:lnTo>
                                      <a:lnTo>
                                        <a:pt x="0" y="356"/>
                                      </a:lnTo>
                                      <a:lnTo>
                                        <a:pt x="4" y="327"/>
                                      </a:lnTo>
                                      <a:lnTo>
                                        <a:pt x="13" y="269"/>
                                      </a:lnTo>
                                      <a:lnTo>
                                        <a:pt x="23" y="205"/>
                                      </a:lnTo>
                                      <a:lnTo>
                                        <a:pt x="44" y="153"/>
                                      </a:lnTo>
                                      <a:lnTo>
                                        <a:pt x="69" y="116"/>
                                      </a:lnTo>
                                      <a:lnTo>
                                        <a:pt x="95" y="86"/>
                                      </a:lnTo>
                                      <a:close/>
                                    </a:path>
                                  </a:pathLst>
                                </a:custGeom>
                                <a:solidFill>
                                  <a:srgbClr val="ff808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grpSp>
                              <p:nvGrpSpPr>
                                <p:cNvPr id="6188" name=""/>
                                <p:cNvGrpSpPr/>
                                <p:nvPr/>
                              </p:nvGrpSpPr>
                              <p:grpSpPr>
                                <a:xfrm>
                                  <a:off x="1126800" y="4716360"/>
                                  <a:ext cx="301320" cy="331200"/>
                                  <a:chOff x="1126800" y="4716360"/>
                                  <a:chExt cx="301320" cy="331200"/>
                                </a:xfrm>
                              </p:grpSpPr>
                              <p:sp>
                                <p:nvSpPr>
                                  <p:cNvPr id="6189" name=""/>
                                  <p:cNvSpPr/>
                                  <p:nvPr/>
                                </p:nvSpPr>
                                <p:spPr>
                                  <a:xfrm>
                                    <a:off x="1200600" y="4835160"/>
                                    <a:ext cx="227520" cy="212400"/>
                                  </a:xfrm>
                                  <a:custGeom>
                                    <a:avLst/>
                                    <a:gdLst/>
                                    <a:ahLst/>
                                    <a:rect l="l" t="t" r="r" b="b"/>
                                    <a:pathLst>
                                      <a:path w="919" h="689">
                                        <a:moveTo>
                                          <a:pt x="304" y="84"/>
                                        </a:moveTo>
                                        <a:lnTo>
                                          <a:pt x="326" y="56"/>
                                        </a:lnTo>
                                        <a:lnTo>
                                          <a:pt x="348" y="31"/>
                                        </a:lnTo>
                                        <a:lnTo>
                                          <a:pt x="371" y="9"/>
                                        </a:lnTo>
                                        <a:lnTo>
                                          <a:pt x="382" y="2"/>
                                        </a:lnTo>
                                        <a:lnTo>
                                          <a:pt x="396" y="0"/>
                                        </a:lnTo>
                                        <a:lnTo>
                                          <a:pt x="409" y="4"/>
                                        </a:lnTo>
                                        <a:lnTo>
                                          <a:pt x="417" y="9"/>
                                        </a:lnTo>
                                        <a:lnTo>
                                          <a:pt x="432" y="35"/>
                                        </a:lnTo>
                                        <a:lnTo>
                                          <a:pt x="453" y="81"/>
                                        </a:lnTo>
                                        <a:lnTo>
                                          <a:pt x="476" y="134"/>
                                        </a:lnTo>
                                        <a:lnTo>
                                          <a:pt x="498" y="184"/>
                                        </a:lnTo>
                                        <a:lnTo>
                                          <a:pt x="519" y="227"/>
                                        </a:lnTo>
                                        <a:lnTo>
                                          <a:pt x="558" y="287"/>
                                        </a:lnTo>
                                        <a:lnTo>
                                          <a:pt x="597" y="347"/>
                                        </a:lnTo>
                                        <a:lnTo>
                                          <a:pt x="640" y="406"/>
                                        </a:lnTo>
                                        <a:lnTo>
                                          <a:pt x="679" y="453"/>
                                        </a:lnTo>
                                        <a:lnTo>
                                          <a:pt x="722" y="488"/>
                                        </a:lnTo>
                                        <a:lnTo>
                                          <a:pt x="764" y="523"/>
                                        </a:lnTo>
                                        <a:lnTo>
                                          <a:pt x="803" y="554"/>
                                        </a:lnTo>
                                        <a:lnTo>
                                          <a:pt x="845" y="585"/>
                                        </a:lnTo>
                                        <a:lnTo>
                                          <a:pt x="897" y="622"/>
                                        </a:lnTo>
                                        <a:lnTo>
                                          <a:pt x="908" y="634"/>
                                        </a:lnTo>
                                        <a:lnTo>
                                          <a:pt x="918" y="648"/>
                                        </a:lnTo>
                                        <a:lnTo>
                                          <a:pt x="919" y="658"/>
                                        </a:lnTo>
                                        <a:lnTo>
                                          <a:pt x="914" y="672"/>
                                        </a:lnTo>
                                        <a:lnTo>
                                          <a:pt x="904" y="680"/>
                                        </a:lnTo>
                                        <a:lnTo>
                                          <a:pt x="889" y="685"/>
                                        </a:lnTo>
                                        <a:lnTo>
                                          <a:pt x="857" y="688"/>
                                        </a:lnTo>
                                        <a:lnTo>
                                          <a:pt x="820" y="689"/>
                                        </a:lnTo>
                                        <a:lnTo>
                                          <a:pt x="757" y="684"/>
                                        </a:lnTo>
                                        <a:lnTo>
                                          <a:pt x="698" y="676"/>
                                        </a:lnTo>
                                        <a:lnTo>
                                          <a:pt x="647" y="669"/>
                                        </a:lnTo>
                                        <a:lnTo>
                                          <a:pt x="583" y="657"/>
                                        </a:lnTo>
                                        <a:lnTo>
                                          <a:pt x="521" y="639"/>
                                        </a:lnTo>
                                        <a:lnTo>
                                          <a:pt x="473" y="619"/>
                                        </a:lnTo>
                                        <a:lnTo>
                                          <a:pt x="429" y="594"/>
                                        </a:lnTo>
                                        <a:lnTo>
                                          <a:pt x="365" y="567"/>
                                        </a:lnTo>
                                        <a:lnTo>
                                          <a:pt x="298" y="534"/>
                                        </a:lnTo>
                                        <a:lnTo>
                                          <a:pt x="237" y="504"/>
                                        </a:lnTo>
                                        <a:lnTo>
                                          <a:pt x="192" y="470"/>
                                        </a:lnTo>
                                        <a:lnTo>
                                          <a:pt x="149" y="440"/>
                                        </a:lnTo>
                                        <a:lnTo>
                                          <a:pt x="109" y="409"/>
                                        </a:lnTo>
                                        <a:lnTo>
                                          <a:pt x="69" y="366"/>
                                        </a:lnTo>
                                        <a:lnTo>
                                          <a:pt x="36" y="333"/>
                                        </a:lnTo>
                                        <a:lnTo>
                                          <a:pt x="7" y="302"/>
                                        </a:lnTo>
                                        <a:lnTo>
                                          <a:pt x="0" y="288"/>
                                        </a:lnTo>
                                        <a:lnTo>
                                          <a:pt x="3" y="271"/>
                                        </a:lnTo>
                                        <a:lnTo>
                                          <a:pt x="13" y="254"/>
                                        </a:lnTo>
                                        <a:lnTo>
                                          <a:pt x="31" y="242"/>
                                        </a:lnTo>
                                        <a:lnTo>
                                          <a:pt x="54" y="233"/>
                                        </a:lnTo>
                                        <a:lnTo>
                                          <a:pt x="83" y="229"/>
                                        </a:lnTo>
                                        <a:lnTo>
                                          <a:pt x="110" y="231"/>
                                        </a:lnTo>
                                        <a:lnTo>
                                          <a:pt x="131" y="236"/>
                                        </a:lnTo>
                                        <a:lnTo>
                                          <a:pt x="156" y="245"/>
                                        </a:lnTo>
                                        <a:lnTo>
                                          <a:pt x="170" y="249"/>
                                        </a:lnTo>
                                        <a:lnTo>
                                          <a:pt x="148" y="249"/>
                                        </a:lnTo>
                                        <a:lnTo>
                                          <a:pt x="126" y="247"/>
                                        </a:lnTo>
                                        <a:lnTo>
                                          <a:pt x="107" y="248"/>
                                        </a:lnTo>
                                        <a:lnTo>
                                          <a:pt x="89" y="251"/>
                                        </a:lnTo>
                                        <a:lnTo>
                                          <a:pt x="73" y="257"/>
                                        </a:lnTo>
                                        <a:lnTo>
                                          <a:pt x="57" y="265"/>
                                        </a:lnTo>
                                        <a:lnTo>
                                          <a:pt x="46" y="277"/>
                                        </a:lnTo>
                                        <a:lnTo>
                                          <a:pt x="40" y="288"/>
                                        </a:lnTo>
                                        <a:lnTo>
                                          <a:pt x="41" y="294"/>
                                        </a:lnTo>
                                        <a:lnTo>
                                          <a:pt x="46" y="302"/>
                                        </a:lnTo>
                                        <a:lnTo>
                                          <a:pt x="56" y="315"/>
                                        </a:lnTo>
                                        <a:lnTo>
                                          <a:pt x="75" y="339"/>
                                        </a:lnTo>
                                        <a:lnTo>
                                          <a:pt x="99" y="368"/>
                                        </a:lnTo>
                                        <a:lnTo>
                                          <a:pt x="128" y="391"/>
                                        </a:lnTo>
                                        <a:lnTo>
                                          <a:pt x="159" y="420"/>
                                        </a:lnTo>
                                        <a:lnTo>
                                          <a:pt x="193" y="445"/>
                                        </a:lnTo>
                                        <a:lnTo>
                                          <a:pt x="219" y="462"/>
                                        </a:lnTo>
                                        <a:lnTo>
                                          <a:pt x="241" y="477"/>
                                        </a:lnTo>
                                        <a:lnTo>
                                          <a:pt x="270" y="493"/>
                                        </a:lnTo>
                                        <a:lnTo>
                                          <a:pt x="292" y="507"/>
                                        </a:lnTo>
                                        <a:lnTo>
                                          <a:pt x="315" y="516"/>
                                        </a:lnTo>
                                        <a:lnTo>
                                          <a:pt x="334" y="520"/>
                                        </a:lnTo>
                                        <a:lnTo>
                                          <a:pt x="355" y="526"/>
                                        </a:lnTo>
                                        <a:lnTo>
                                          <a:pt x="376" y="537"/>
                                        </a:lnTo>
                                        <a:lnTo>
                                          <a:pt x="411" y="554"/>
                                        </a:lnTo>
                                        <a:lnTo>
                                          <a:pt x="448" y="572"/>
                                        </a:lnTo>
                                        <a:lnTo>
                                          <a:pt x="481" y="587"/>
                                        </a:lnTo>
                                        <a:lnTo>
                                          <a:pt x="512" y="604"/>
                                        </a:lnTo>
                                        <a:lnTo>
                                          <a:pt x="543" y="620"/>
                                        </a:lnTo>
                                        <a:lnTo>
                                          <a:pt x="570" y="625"/>
                                        </a:lnTo>
                                        <a:lnTo>
                                          <a:pt x="598" y="633"/>
                                        </a:lnTo>
                                        <a:lnTo>
                                          <a:pt x="628" y="642"/>
                                        </a:lnTo>
                                        <a:lnTo>
                                          <a:pt x="657" y="645"/>
                                        </a:lnTo>
                                        <a:lnTo>
                                          <a:pt x="693" y="649"/>
                                        </a:lnTo>
                                        <a:lnTo>
                                          <a:pt x="730" y="652"/>
                                        </a:lnTo>
                                        <a:lnTo>
                                          <a:pt x="764" y="655"/>
                                        </a:lnTo>
                                        <a:lnTo>
                                          <a:pt x="777" y="653"/>
                                        </a:lnTo>
                                        <a:lnTo>
                                          <a:pt x="791" y="647"/>
                                        </a:lnTo>
                                        <a:lnTo>
                                          <a:pt x="799" y="635"/>
                                        </a:lnTo>
                                        <a:lnTo>
                                          <a:pt x="803" y="621"/>
                                        </a:lnTo>
                                        <a:lnTo>
                                          <a:pt x="801" y="609"/>
                                        </a:lnTo>
                                        <a:lnTo>
                                          <a:pt x="787" y="589"/>
                                        </a:lnTo>
                                        <a:lnTo>
                                          <a:pt x="764" y="562"/>
                                        </a:lnTo>
                                        <a:lnTo>
                                          <a:pt x="739" y="540"/>
                                        </a:lnTo>
                                        <a:lnTo>
                                          <a:pt x="716" y="520"/>
                                        </a:lnTo>
                                        <a:lnTo>
                                          <a:pt x="688" y="502"/>
                                        </a:lnTo>
                                        <a:lnTo>
                                          <a:pt x="661" y="483"/>
                                        </a:lnTo>
                                        <a:lnTo>
                                          <a:pt x="635" y="461"/>
                                        </a:lnTo>
                                        <a:lnTo>
                                          <a:pt x="616" y="437"/>
                                        </a:lnTo>
                                        <a:lnTo>
                                          <a:pt x="597" y="412"/>
                                        </a:lnTo>
                                        <a:lnTo>
                                          <a:pt x="577" y="380"/>
                                        </a:lnTo>
                                        <a:lnTo>
                                          <a:pt x="561" y="355"/>
                                        </a:lnTo>
                                        <a:lnTo>
                                          <a:pt x="545" y="330"/>
                                        </a:lnTo>
                                        <a:lnTo>
                                          <a:pt x="526" y="299"/>
                                        </a:lnTo>
                                        <a:lnTo>
                                          <a:pt x="508" y="268"/>
                                        </a:lnTo>
                                        <a:lnTo>
                                          <a:pt x="493" y="240"/>
                                        </a:lnTo>
                                        <a:lnTo>
                                          <a:pt x="478" y="211"/>
                                        </a:lnTo>
                                        <a:lnTo>
                                          <a:pt x="463" y="181"/>
                                        </a:lnTo>
                                        <a:lnTo>
                                          <a:pt x="449" y="154"/>
                                        </a:lnTo>
                                        <a:lnTo>
                                          <a:pt x="436" y="128"/>
                                        </a:lnTo>
                                        <a:lnTo>
                                          <a:pt x="426" y="99"/>
                                        </a:lnTo>
                                        <a:lnTo>
                                          <a:pt x="419" y="80"/>
                                        </a:lnTo>
                                        <a:lnTo>
                                          <a:pt x="412" y="68"/>
                                        </a:lnTo>
                                        <a:lnTo>
                                          <a:pt x="401" y="59"/>
                                        </a:lnTo>
                                        <a:lnTo>
                                          <a:pt x="389" y="55"/>
                                        </a:lnTo>
                                        <a:lnTo>
                                          <a:pt x="375" y="56"/>
                                        </a:lnTo>
                                        <a:lnTo>
                                          <a:pt x="360" y="61"/>
                                        </a:lnTo>
                                        <a:lnTo>
                                          <a:pt x="344" y="70"/>
                                        </a:lnTo>
                                        <a:lnTo>
                                          <a:pt x="325" y="77"/>
                                        </a:lnTo>
                                        <a:lnTo>
                                          <a:pt x="304" y="84"/>
                                        </a:lnTo>
                                        <a:close/>
                                      </a:path>
                                    </a:pathLst>
                                  </a:custGeom>
                                  <a:solidFill>
                                    <a:srgbClr val="ff4040"/>
                                  </a:solidFill>
                                  <a:ln w="0">
                                    <a:noFill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6190" name=""/>
                                  <p:cNvSpPr/>
                                  <p:nvPr/>
                                </p:nvSpPr>
                                <p:spPr>
                                  <a:xfrm>
                                    <a:off x="1126800" y="4716360"/>
                                    <a:ext cx="159480" cy="192600"/>
                                  </a:xfrm>
                                  <a:custGeom>
                                    <a:avLst/>
                                    <a:gdLst/>
                                    <a:ahLst/>
                                    <a:rect l="l" t="t" r="r" b="b"/>
                                    <a:pathLst>
                                      <a:path w="645" h="627">
                                        <a:moveTo>
                                          <a:pt x="95" y="86"/>
                                        </a:moveTo>
                                        <a:lnTo>
                                          <a:pt x="127" y="60"/>
                                        </a:lnTo>
                                        <a:lnTo>
                                          <a:pt x="158" y="37"/>
                                        </a:lnTo>
                                        <a:lnTo>
                                          <a:pt x="192" y="18"/>
                                        </a:lnTo>
                                        <a:lnTo>
                                          <a:pt x="233" y="6"/>
                                        </a:lnTo>
                                        <a:lnTo>
                                          <a:pt x="268" y="2"/>
                                        </a:lnTo>
                                        <a:lnTo>
                                          <a:pt x="309" y="0"/>
                                        </a:lnTo>
                                        <a:lnTo>
                                          <a:pt x="367" y="5"/>
                                        </a:lnTo>
                                        <a:lnTo>
                                          <a:pt x="424" y="17"/>
                                        </a:lnTo>
                                        <a:lnTo>
                                          <a:pt x="460" y="42"/>
                                        </a:lnTo>
                                        <a:lnTo>
                                          <a:pt x="487" y="77"/>
                                        </a:lnTo>
                                        <a:lnTo>
                                          <a:pt x="511" y="119"/>
                                        </a:lnTo>
                                        <a:lnTo>
                                          <a:pt x="536" y="158"/>
                                        </a:lnTo>
                                        <a:lnTo>
                                          <a:pt x="566" y="192"/>
                                        </a:lnTo>
                                        <a:lnTo>
                                          <a:pt x="592" y="219"/>
                                        </a:lnTo>
                                        <a:lnTo>
                                          <a:pt x="627" y="259"/>
                                        </a:lnTo>
                                        <a:lnTo>
                                          <a:pt x="641" y="297"/>
                                        </a:lnTo>
                                        <a:lnTo>
                                          <a:pt x="645" y="326"/>
                                        </a:lnTo>
                                        <a:lnTo>
                                          <a:pt x="641" y="342"/>
                                        </a:lnTo>
                                        <a:lnTo>
                                          <a:pt x="632" y="370"/>
                                        </a:lnTo>
                                        <a:lnTo>
                                          <a:pt x="617" y="396"/>
                                        </a:lnTo>
                                        <a:lnTo>
                                          <a:pt x="595" y="424"/>
                                        </a:lnTo>
                                        <a:lnTo>
                                          <a:pt x="569" y="461"/>
                                        </a:lnTo>
                                        <a:lnTo>
                                          <a:pt x="545" y="488"/>
                                        </a:lnTo>
                                        <a:lnTo>
                                          <a:pt x="559" y="462"/>
                                        </a:lnTo>
                                        <a:lnTo>
                                          <a:pt x="569" y="445"/>
                                        </a:lnTo>
                                        <a:lnTo>
                                          <a:pt x="582" y="424"/>
                                        </a:lnTo>
                                        <a:lnTo>
                                          <a:pt x="591" y="407"/>
                                        </a:lnTo>
                                        <a:lnTo>
                                          <a:pt x="604" y="381"/>
                                        </a:lnTo>
                                        <a:lnTo>
                                          <a:pt x="611" y="355"/>
                                        </a:lnTo>
                                        <a:lnTo>
                                          <a:pt x="618" y="327"/>
                                        </a:lnTo>
                                        <a:lnTo>
                                          <a:pt x="620" y="312"/>
                                        </a:lnTo>
                                        <a:lnTo>
                                          <a:pt x="616" y="297"/>
                                        </a:lnTo>
                                        <a:lnTo>
                                          <a:pt x="608" y="279"/>
                                        </a:lnTo>
                                        <a:lnTo>
                                          <a:pt x="602" y="263"/>
                                        </a:lnTo>
                                        <a:lnTo>
                                          <a:pt x="589" y="251"/>
                                        </a:lnTo>
                                        <a:lnTo>
                                          <a:pt x="574" y="238"/>
                                        </a:lnTo>
                                        <a:lnTo>
                                          <a:pt x="562" y="221"/>
                                        </a:lnTo>
                                        <a:lnTo>
                                          <a:pt x="546" y="203"/>
                                        </a:lnTo>
                                        <a:lnTo>
                                          <a:pt x="531" y="181"/>
                                        </a:lnTo>
                                        <a:lnTo>
                                          <a:pt x="515" y="159"/>
                                        </a:lnTo>
                                        <a:lnTo>
                                          <a:pt x="500" y="141"/>
                                        </a:lnTo>
                                        <a:lnTo>
                                          <a:pt x="488" y="120"/>
                                        </a:lnTo>
                                        <a:lnTo>
                                          <a:pt x="477" y="97"/>
                                        </a:lnTo>
                                        <a:lnTo>
                                          <a:pt x="468" y="81"/>
                                        </a:lnTo>
                                        <a:lnTo>
                                          <a:pt x="453" y="68"/>
                                        </a:lnTo>
                                        <a:lnTo>
                                          <a:pt x="437" y="55"/>
                                        </a:lnTo>
                                        <a:lnTo>
                                          <a:pt x="421" y="43"/>
                                        </a:lnTo>
                                        <a:lnTo>
                                          <a:pt x="403" y="35"/>
                                        </a:lnTo>
                                        <a:lnTo>
                                          <a:pt x="385" y="31"/>
                                        </a:lnTo>
                                        <a:lnTo>
                                          <a:pt x="355" y="29"/>
                                        </a:lnTo>
                                        <a:lnTo>
                                          <a:pt x="325" y="29"/>
                                        </a:lnTo>
                                        <a:lnTo>
                                          <a:pt x="302" y="30"/>
                                        </a:lnTo>
                                        <a:lnTo>
                                          <a:pt x="280" y="29"/>
                                        </a:lnTo>
                                        <a:lnTo>
                                          <a:pt x="259" y="31"/>
                                        </a:lnTo>
                                        <a:lnTo>
                                          <a:pt x="236" y="36"/>
                                        </a:lnTo>
                                        <a:lnTo>
                                          <a:pt x="215" y="41"/>
                                        </a:lnTo>
                                        <a:lnTo>
                                          <a:pt x="195" y="49"/>
                                        </a:lnTo>
                                        <a:lnTo>
                                          <a:pt x="176" y="60"/>
                                        </a:lnTo>
                                        <a:lnTo>
                                          <a:pt x="158" y="74"/>
                                        </a:lnTo>
                                        <a:lnTo>
                                          <a:pt x="138" y="87"/>
                                        </a:lnTo>
                                        <a:lnTo>
                                          <a:pt x="119" y="103"/>
                                        </a:lnTo>
                                        <a:lnTo>
                                          <a:pt x="99" y="124"/>
                                        </a:lnTo>
                                        <a:lnTo>
                                          <a:pt x="83" y="143"/>
                                        </a:lnTo>
                                        <a:lnTo>
                                          <a:pt x="72" y="160"/>
                                        </a:lnTo>
                                        <a:lnTo>
                                          <a:pt x="65" y="181"/>
                                        </a:lnTo>
                                        <a:lnTo>
                                          <a:pt x="56" y="202"/>
                                        </a:lnTo>
                                        <a:lnTo>
                                          <a:pt x="47" y="223"/>
                                        </a:lnTo>
                                        <a:lnTo>
                                          <a:pt x="37" y="247"/>
                                        </a:lnTo>
                                        <a:lnTo>
                                          <a:pt x="35" y="275"/>
                                        </a:lnTo>
                                        <a:lnTo>
                                          <a:pt x="32" y="300"/>
                                        </a:lnTo>
                                        <a:lnTo>
                                          <a:pt x="29" y="324"/>
                                        </a:lnTo>
                                        <a:lnTo>
                                          <a:pt x="29" y="340"/>
                                        </a:lnTo>
                                        <a:lnTo>
                                          <a:pt x="31" y="361"/>
                                        </a:lnTo>
                                        <a:lnTo>
                                          <a:pt x="36" y="384"/>
                                        </a:lnTo>
                                        <a:lnTo>
                                          <a:pt x="40" y="408"/>
                                        </a:lnTo>
                                        <a:lnTo>
                                          <a:pt x="51" y="436"/>
                                        </a:lnTo>
                                        <a:lnTo>
                                          <a:pt x="61" y="462"/>
                                        </a:lnTo>
                                        <a:lnTo>
                                          <a:pt x="68" y="477"/>
                                        </a:lnTo>
                                        <a:lnTo>
                                          <a:pt x="80" y="496"/>
                                        </a:lnTo>
                                        <a:lnTo>
                                          <a:pt x="95" y="519"/>
                                        </a:lnTo>
                                        <a:lnTo>
                                          <a:pt x="108" y="535"/>
                                        </a:lnTo>
                                        <a:lnTo>
                                          <a:pt x="120" y="551"/>
                                        </a:lnTo>
                                        <a:lnTo>
                                          <a:pt x="136" y="566"/>
                                        </a:lnTo>
                                        <a:lnTo>
                                          <a:pt x="155" y="581"/>
                                        </a:lnTo>
                                        <a:lnTo>
                                          <a:pt x="170" y="593"/>
                                        </a:lnTo>
                                        <a:lnTo>
                                          <a:pt x="183" y="600"/>
                                        </a:lnTo>
                                        <a:lnTo>
                                          <a:pt x="202" y="607"/>
                                        </a:lnTo>
                                        <a:lnTo>
                                          <a:pt x="218" y="611"/>
                                        </a:lnTo>
                                        <a:lnTo>
                                          <a:pt x="235" y="614"/>
                                        </a:lnTo>
                                        <a:lnTo>
                                          <a:pt x="253" y="615"/>
                                        </a:lnTo>
                                        <a:lnTo>
                                          <a:pt x="282" y="612"/>
                                        </a:lnTo>
                                        <a:lnTo>
                                          <a:pt x="248" y="622"/>
                                        </a:lnTo>
                                        <a:lnTo>
                                          <a:pt x="221" y="627"/>
                                        </a:lnTo>
                                        <a:lnTo>
                                          <a:pt x="195" y="623"/>
                                        </a:lnTo>
                                        <a:lnTo>
                                          <a:pt x="169" y="615"/>
                                        </a:lnTo>
                                        <a:lnTo>
                                          <a:pt x="142" y="601"/>
                                        </a:lnTo>
                                        <a:lnTo>
                                          <a:pt x="122" y="583"/>
                                        </a:lnTo>
                                        <a:lnTo>
                                          <a:pt x="100" y="560"/>
                                        </a:lnTo>
                                        <a:lnTo>
                                          <a:pt x="72" y="524"/>
                                        </a:lnTo>
                                        <a:lnTo>
                                          <a:pt x="41" y="476"/>
                                        </a:lnTo>
                                        <a:lnTo>
                                          <a:pt x="18" y="431"/>
                                        </a:lnTo>
                                        <a:lnTo>
                                          <a:pt x="3" y="387"/>
                                        </a:lnTo>
                                        <a:lnTo>
                                          <a:pt x="0" y="356"/>
                                        </a:lnTo>
                                        <a:lnTo>
                                          <a:pt x="4" y="327"/>
                                        </a:lnTo>
                                        <a:lnTo>
                                          <a:pt x="13" y="269"/>
                                        </a:lnTo>
                                        <a:lnTo>
                                          <a:pt x="23" y="204"/>
                                        </a:lnTo>
                                        <a:lnTo>
                                          <a:pt x="44" y="153"/>
                                        </a:lnTo>
                                        <a:lnTo>
                                          <a:pt x="69" y="116"/>
                                        </a:lnTo>
                                        <a:lnTo>
                                          <a:pt x="95" y="86"/>
                                        </a:lnTo>
                                        <a:close/>
                                      </a:path>
                                    </a:pathLst>
                                  </a:custGeom>
                                  <a:solidFill>
                                    <a:srgbClr val="ff4040"/>
                                  </a:solidFill>
                                  <a:ln w="0">
                                    <a:noFill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</p:grpSp>
                          </p:grpSp>
                          <p:sp>
                            <p:nvSpPr>
                              <p:cNvPr id="6191" name=""/>
                              <p:cNvSpPr/>
                              <p:nvPr/>
                            </p:nvSpPr>
                            <p:spPr>
                              <a:xfrm>
                                <a:off x="1252800" y="4893480"/>
                                <a:ext cx="111240" cy="1245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447" h="407">
                                    <a:moveTo>
                                      <a:pt x="48" y="55"/>
                                    </a:moveTo>
                                    <a:lnTo>
                                      <a:pt x="71" y="35"/>
                                    </a:lnTo>
                                    <a:lnTo>
                                      <a:pt x="95" y="18"/>
                                    </a:lnTo>
                                    <a:lnTo>
                                      <a:pt x="111" y="7"/>
                                    </a:lnTo>
                                    <a:lnTo>
                                      <a:pt x="124" y="2"/>
                                    </a:lnTo>
                                    <a:lnTo>
                                      <a:pt x="139" y="0"/>
                                    </a:lnTo>
                                    <a:lnTo>
                                      <a:pt x="154" y="1"/>
                                    </a:lnTo>
                                    <a:lnTo>
                                      <a:pt x="171" y="8"/>
                                    </a:lnTo>
                                    <a:lnTo>
                                      <a:pt x="195" y="24"/>
                                    </a:lnTo>
                                    <a:lnTo>
                                      <a:pt x="218" y="43"/>
                                    </a:lnTo>
                                    <a:lnTo>
                                      <a:pt x="239" y="69"/>
                                    </a:lnTo>
                                    <a:lnTo>
                                      <a:pt x="256" y="96"/>
                                    </a:lnTo>
                                    <a:lnTo>
                                      <a:pt x="278" y="134"/>
                                    </a:lnTo>
                                    <a:lnTo>
                                      <a:pt x="301" y="174"/>
                                    </a:lnTo>
                                    <a:lnTo>
                                      <a:pt x="321" y="207"/>
                                    </a:lnTo>
                                    <a:lnTo>
                                      <a:pt x="341" y="240"/>
                                    </a:lnTo>
                                    <a:lnTo>
                                      <a:pt x="361" y="265"/>
                                    </a:lnTo>
                                    <a:lnTo>
                                      <a:pt x="381" y="290"/>
                                    </a:lnTo>
                                    <a:lnTo>
                                      <a:pt x="410" y="313"/>
                                    </a:lnTo>
                                    <a:lnTo>
                                      <a:pt x="432" y="338"/>
                                    </a:lnTo>
                                    <a:lnTo>
                                      <a:pt x="444" y="357"/>
                                    </a:lnTo>
                                    <a:lnTo>
                                      <a:pt x="447" y="375"/>
                                    </a:lnTo>
                                    <a:lnTo>
                                      <a:pt x="442" y="389"/>
                                    </a:lnTo>
                                    <a:lnTo>
                                      <a:pt x="433" y="399"/>
                                    </a:lnTo>
                                    <a:lnTo>
                                      <a:pt x="416" y="405"/>
                                    </a:lnTo>
                                    <a:lnTo>
                                      <a:pt x="394" y="407"/>
                                    </a:lnTo>
                                    <a:lnTo>
                                      <a:pt x="374" y="405"/>
                                    </a:lnTo>
                                    <a:lnTo>
                                      <a:pt x="338" y="397"/>
                                    </a:lnTo>
                                    <a:lnTo>
                                      <a:pt x="315" y="390"/>
                                    </a:lnTo>
                                    <a:lnTo>
                                      <a:pt x="287" y="379"/>
                                    </a:lnTo>
                                    <a:lnTo>
                                      <a:pt x="261" y="365"/>
                                    </a:lnTo>
                                    <a:lnTo>
                                      <a:pt x="235" y="350"/>
                                    </a:lnTo>
                                    <a:lnTo>
                                      <a:pt x="203" y="332"/>
                                    </a:lnTo>
                                    <a:lnTo>
                                      <a:pt x="162" y="309"/>
                                    </a:lnTo>
                                    <a:lnTo>
                                      <a:pt x="124" y="288"/>
                                    </a:lnTo>
                                    <a:lnTo>
                                      <a:pt x="94" y="269"/>
                                    </a:lnTo>
                                    <a:lnTo>
                                      <a:pt x="64" y="248"/>
                                    </a:lnTo>
                                    <a:lnTo>
                                      <a:pt x="38" y="227"/>
                                    </a:lnTo>
                                    <a:lnTo>
                                      <a:pt x="21" y="204"/>
                                    </a:lnTo>
                                    <a:lnTo>
                                      <a:pt x="9" y="183"/>
                                    </a:lnTo>
                                    <a:lnTo>
                                      <a:pt x="3" y="161"/>
                                    </a:lnTo>
                                    <a:lnTo>
                                      <a:pt x="0" y="141"/>
                                    </a:lnTo>
                                    <a:lnTo>
                                      <a:pt x="3" y="125"/>
                                    </a:lnTo>
                                    <a:lnTo>
                                      <a:pt x="8" y="108"/>
                                    </a:lnTo>
                                    <a:lnTo>
                                      <a:pt x="18" y="90"/>
                                    </a:lnTo>
                                    <a:lnTo>
                                      <a:pt x="31" y="73"/>
                                    </a:lnTo>
                                    <a:lnTo>
                                      <a:pt x="48" y="55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ff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6192" name=""/>
                            <p:cNvGrpSpPr/>
                            <p:nvPr/>
                          </p:nvGrpSpPr>
                          <p:grpSpPr>
                            <a:xfrm>
                              <a:off x="1140120" y="4734720"/>
                              <a:ext cx="132120" cy="161640"/>
                              <a:chOff x="1140120" y="4734720"/>
                              <a:chExt cx="132120" cy="161640"/>
                            </a:xfrm>
                          </p:grpSpPr>
                          <p:sp>
                            <p:nvSpPr>
                              <p:cNvPr id="6193" name=""/>
                              <p:cNvSpPr/>
                              <p:nvPr/>
                            </p:nvSpPr>
                            <p:spPr>
                              <a:xfrm>
                                <a:off x="1140120" y="4734720"/>
                                <a:ext cx="132120" cy="161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535" h="522">
                                    <a:moveTo>
                                      <a:pt x="79" y="71"/>
                                    </a:moveTo>
                                    <a:lnTo>
                                      <a:pt x="106" y="50"/>
                                    </a:lnTo>
                                    <a:lnTo>
                                      <a:pt x="131" y="31"/>
                                    </a:lnTo>
                                    <a:lnTo>
                                      <a:pt x="160" y="16"/>
                                    </a:lnTo>
                                    <a:lnTo>
                                      <a:pt x="194" y="6"/>
                                    </a:lnTo>
                                    <a:lnTo>
                                      <a:pt x="222" y="1"/>
                                    </a:lnTo>
                                    <a:lnTo>
                                      <a:pt x="257" y="0"/>
                                    </a:lnTo>
                                    <a:lnTo>
                                      <a:pt x="305" y="5"/>
                                    </a:lnTo>
                                    <a:lnTo>
                                      <a:pt x="352" y="15"/>
                                    </a:lnTo>
                                    <a:lnTo>
                                      <a:pt x="383" y="34"/>
                                    </a:lnTo>
                                    <a:lnTo>
                                      <a:pt x="404" y="63"/>
                                    </a:lnTo>
                                    <a:lnTo>
                                      <a:pt x="424" y="99"/>
                                    </a:lnTo>
                                    <a:lnTo>
                                      <a:pt x="445" y="132"/>
                                    </a:lnTo>
                                    <a:lnTo>
                                      <a:pt x="470" y="159"/>
                                    </a:lnTo>
                                    <a:lnTo>
                                      <a:pt x="493" y="183"/>
                                    </a:lnTo>
                                    <a:lnTo>
                                      <a:pt x="522" y="217"/>
                                    </a:lnTo>
                                    <a:lnTo>
                                      <a:pt x="533" y="249"/>
                                    </a:lnTo>
                                    <a:lnTo>
                                      <a:pt x="535" y="272"/>
                                    </a:lnTo>
                                    <a:lnTo>
                                      <a:pt x="533" y="286"/>
                                    </a:lnTo>
                                    <a:lnTo>
                                      <a:pt x="526" y="309"/>
                                    </a:lnTo>
                                    <a:lnTo>
                                      <a:pt x="514" y="331"/>
                                    </a:lnTo>
                                    <a:lnTo>
                                      <a:pt x="495" y="354"/>
                                    </a:lnTo>
                                    <a:lnTo>
                                      <a:pt x="473" y="385"/>
                                    </a:lnTo>
                                    <a:lnTo>
                                      <a:pt x="453" y="408"/>
                                    </a:lnTo>
                                    <a:lnTo>
                                      <a:pt x="437" y="433"/>
                                    </a:lnTo>
                                    <a:lnTo>
                                      <a:pt x="430" y="449"/>
                                    </a:lnTo>
                                    <a:lnTo>
                                      <a:pt x="429" y="458"/>
                                    </a:lnTo>
                                    <a:lnTo>
                                      <a:pt x="434" y="465"/>
                                    </a:lnTo>
                                    <a:lnTo>
                                      <a:pt x="442" y="469"/>
                                    </a:lnTo>
                                    <a:lnTo>
                                      <a:pt x="404" y="513"/>
                                    </a:lnTo>
                                    <a:lnTo>
                                      <a:pt x="400" y="505"/>
                                    </a:lnTo>
                                    <a:lnTo>
                                      <a:pt x="378" y="494"/>
                                    </a:lnTo>
                                    <a:lnTo>
                                      <a:pt x="353" y="488"/>
                                    </a:lnTo>
                                    <a:lnTo>
                                      <a:pt x="329" y="486"/>
                                    </a:lnTo>
                                    <a:lnTo>
                                      <a:pt x="303" y="491"/>
                                    </a:lnTo>
                                    <a:lnTo>
                                      <a:pt x="272" y="499"/>
                                    </a:lnTo>
                                    <a:lnTo>
                                      <a:pt x="235" y="511"/>
                                    </a:lnTo>
                                    <a:lnTo>
                                      <a:pt x="206" y="519"/>
                                    </a:lnTo>
                                    <a:lnTo>
                                      <a:pt x="183" y="522"/>
                                    </a:lnTo>
                                    <a:lnTo>
                                      <a:pt x="162" y="520"/>
                                    </a:lnTo>
                                    <a:lnTo>
                                      <a:pt x="141" y="513"/>
                                    </a:lnTo>
                                    <a:lnTo>
                                      <a:pt x="118" y="502"/>
                                    </a:lnTo>
                                    <a:lnTo>
                                      <a:pt x="102" y="487"/>
                                    </a:lnTo>
                                    <a:lnTo>
                                      <a:pt x="83" y="467"/>
                                    </a:lnTo>
                                    <a:lnTo>
                                      <a:pt x="60" y="437"/>
                                    </a:lnTo>
                                    <a:lnTo>
                                      <a:pt x="34" y="397"/>
                                    </a:lnTo>
                                    <a:lnTo>
                                      <a:pt x="15" y="359"/>
                                    </a:lnTo>
                                    <a:lnTo>
                                      <a:pt x="2" y="322"/>
                                    </a:lnTo>
                                    <a:lnTo>
                                      <a:pt x="0" y="297"/>
                                    </a:lnTo>
                                    <a:lnTo>
                                      <a:pt x="3" y="273"/>
                                    </a:lnTo>
                                    <a:lnTo>
                                      <a:pt x="11" y="224"/>
                                    </a:lnTo>
                                    <a:lnTo>
                                      <a:pt x="19" y="170"/>
                                    </a:lnTo>
                                    <a:lnTo>
                                      <a:pt x="36" y="128"/>
                                    </a:lnTo>
                                    <a:lnTo>
                                      <a:pt x="57" y="97"/>
                                    </a:lnTo>
                                    <a:lnTo>
                                      <a:pt x="79" y="71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ff404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6194" name=""/>
                              <p:cNvSpPr/>
                              <p:nvPr/>
                            </p:nvSpPr>
                            <p:spPr>
                              <a:xfrm>
                                <a:off x="1147680" y="4745520"/>
                                <a:ext cx="114480" cy="14112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466" h="457">
                                    <a:moveTo>
                                      <a:pt x="69" y="63"/>
                                    </a:moveTo>
                                    <a:lnTo>
                                      <a:pt x="91" y="43"/>
                                    </a:lnTo>
                                    <a:lnTo>
                                      <a:pt x="114" y="27"/>
                                    </a:lnTo>
                                    <a:lnTo>
                                      <a:pt x="139" y="14"/>
                                    </a:lnTo>
                                    <a:lnTo>
                                      <a:pt x="168" y="4"/>
                                    </a:lnTo>
                                    <a:lnTo>
                                      <a:pt x="192" y="0"/>
                                    </a:lnTo>
                                    <a:lnTo>
                                      <a:pt x="223" y="0"/>
                                    </a:lnTo>
                                    <a:lnTo>
                                      <a:pt x="265" y="3"/>
                                    </a:lnTo>
                                    <a:lnTo>
                                      <a:pt x="306" y="13"/>
                                    </a:lnTo>
                                    <a:lnTo>
                                      <a:pt x="334" y="30"/>
                                    </a:lnTo>
                                    <a:lnTo>
                                      <a:pt x="352" y="56"/>
                                    </a:lnTo>
                                    <a:lnTo>
                                      <a:pt x="368" y="86"/>
                                    </a:lnTo>
                                    <a:lnTo>
                                      <a:pt x="388" y="115"/>
                                    </a:lnTo>
                                    <a:lnTo>
                                      <a:pt x="409" y="140"/>
                                    </a:lnTo>
                                    <a:lnTo>
                                      <a:pt x="430" y="160"/>
                                    </a:lnTo>
                                    <a:lnTo>
                                      <a:pt x="454" y="190"/>
                                    </a:lnTo>
                                    <a:lnTo>
                                      <a:pt x="465" y="218"/>
                                    </a:lnTo>
                                    <a:lnTo>
                                      <a:pt x="466" y="238"/>
                                    </a:lnTo>
                                    <a:lnTo>
                                      <a:pt x="465" y="251"/>
                                    </a:lnTo>
                                    <a:lnTo>
                                      <a:pt x="458" y="271"/>
                                    </a:lnTo>
                                    <a:lnTo>
                                      <a:pt x="447" y="290"/>
                                    </a:lnTo>
                                    <a:lnTo>
                                      <a:pt x="432" y="311"/>
                                    </a:lnTo>
                                    <a:lnTo>
                                      <a:pt x="411" y="337"/>
                                    </a:lnTo>
                                    <a:lnTo>
                                      <a:pt x="395" y="356"/>
                                    </a:lnTo>
                                    <a:lnTo>
                                      <a:pt x="381" y="379"/>
                                    </a:lnTo>
                                    <a:lnTo>
                                      <a:pt x="374" y="392"/>
                                    </a:lnTo>
                                    <a:lnTo>
                                      <a:pt x="373" y="400"/>
                                    </a:lnTo>
                                    <a:lnTo>
                                      <a:pt x="377" y="406"/>
                                    </a:lnTo>
                                    <a:lnTo>
                                      <a:pt x="385" y="411"/>
                                    </a:lnTo>
                                    <a:lnTo>
                                      <a:pt x="352" y="450"/>
                                    </a:lnTo>
                                    <a:lnTo>
                                      <a:pt x="348" y="442"/>
                                    </a:lnTo>
                                    <a:lnTo>
                                      <a:pt x="328" y="432"/>
                                    </a:lnTo>
                                    <a:lnTo>
                                      <a:pt x="307" y="427"/>
                                    </a:lnTo>
                                    <a:lnTo>
                                      <a:pt x="285" y="425"/>
                                    </a:lnTo>
                                    <a:lnTo>
                                      <a:pt x="264" y="429"/>
                                    </a:lnTo>
                                    <a:lnTo>
                                      <a:pt x="236" y="436"/>
                                    </a:lnTo>
                                    <a:lnTo>
                                      <a:pt x="204" y="447"/>
                                    </a:lnTo>
                                    <a:lnTo>
                                      <a:pt x="179" y="455"/>
                                    </a:lnTo>
                                    <a:lnTo>
                                      <a:pt x="160" y="457"/>
                                    </a:lnTo>
                                    <a:lnTo>
                                      <a:pt x="140" y="456"/>
                                    </a:lnTo>
                                    <a:lnTo>
                                      <a:pt x="122" y="450"/>
                                    </a:lnTo>
                                    <a:lnTo>
                                      <a:pt x="102" y="439"/>
                                    </a:lnTo>
                                    <a:lnTo>
                                      <a:pt x="88" y="426"/>
                                    </a:lnTo>
                                    <a:lnTo>
                                      <a:pt x="72" y="409"/>
                                    </a:lnTo>
                                    <a:lnTo>
                                      <a:pt x="51" y="383"/>
                                    </a:lnTo>
                                    <a:lnTo>
                                      <a:pt x="29" y="348"/>
                                    </a:lnTo>
                                    <a:lnTo>
                                      <a:pt x="12" y="314"/>
                                    </a:lnTo>
                                    <a:lnTo>
                                      <a:pt x="1" y="282"/>
                                    </a:lnTo>
                                    <a:lnTo>
                                      <a:pt x="0" y="260"/>
                                    </a:lnTo>
                                    <a:lnTo>
                                      <a:pt x="2" y="239"/>
                                    </a:lnTo>
                                    <a:lnTo>
                                      <a:pt x="8" y="196"/>
                                    </a:lnTo>
                                    <a:lnTo>
                                      <a:pt x="15" y="149"/>
                                    </a:lnTo>
                                    <a:lnTo>
                                      <a:pt x="31" y="112"/>
                                    </a:lnTo>
                                    <a:lnTo>
                                      <a:pt x="49" y="85"/>
                                    </a:lnTo>
                                    <a:lnTo>
                                      <a:pt x="69" y="63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ff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6195" name=""/>
                              <p:cNvSpPr/>
                              <p:nvPr/>
                            </p:nvSpPr>
                            <p:spPr>
                              <a:xfrm>
                                <a:off x="1156320" y="4758840"/>
                                <a:ext cx="96120" cy="1184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390" h="383">
                                    <a:moveTo>
                                      <a:pt x="57" y="53"/>
                                    </a:moveTo>
                                    <a:lnTo>
                                      <a:pt x="76" y="36"/>
                                    </a:lnTo>
                                    <a:lnTo>
                                      <a:pt x="95" y="22"/>
                                    </a:lnTo>
                                    <a:lnTo>
                                      <a:pt x="115" y="11"/>
                                    </a:lnTo>
                                    <a:lnTo>
                                      <a:pt x="140" y="3"/>
                                    </a:lnTo>
                                    <a:lnTo>
                                      <a:pt x="160" y="0"/>
                                    </a:lnTo>
                                    <a:lnTo>
                                      <a:pt x="186" y="0"/>
                                    </a:lnTo>
                                    <a:lnTo>
                                      <a:pt x="221" y="2"/>
                                    </a:lnTo>
                                    <a:lnTo>
                                      <a:pt x="256" y="11"/>
                                    </a:lnTo>
                                    <a:lnTo>
                                      <a:pt x="279" y="25"/>
                                    </a:lnTo>
                                    <a:lnTo>
                                      <a:pt x="293" y="47"/>
                                    </a:lnTo>
                                    <a:lnTo>
                                      <a:pt x="308" y="72"/>
                                    </a:lnTo>
                                    <a:lnTo>
                                      <a:pt x="324" y="97"/>
                                    </a:lnTo>
                                    <a:lnTo>
                                      <a:pt x="342" y="117"/>
                                    </a:lnTo>
                                    <a:lnTo>
                                      <a:pt x="359" y="135"/>
                                    </a:lnTo>
                                    <a:lnTo>
                                      <a:pt x="379" y="159"/>
                                    </a:lnTo>
                                    <a:lnTo>
                                      <a:pt x="390" y="183"/>
                                    </a:lnTo>
                                    <a:lnTo>
                                      <a:pt x="390" y="200"/>
                                    </a:lnTo>
                                    <a:lnTo>
                                      <a:pt x="390" y="211"/>
                                    </a:lnTo>
                                    <a:lnTo>
                                      <a:pt x="383" y="227"/>
                                    </a:lnTo>
                                    <a:lnTo>
                                      <a:pt x="373" y="243"/>
                                    </a:lnTo>
                                    <a:lnTo>
                                      <a:pt x="361" y="261"/>
                                    </a:lnTo>
                                    <a:lnTo>
                                      <a:pt x="344" y="282"/>
                                    </a:lnTo>
                                    <a:lnTo>
                                      <a:pt x="330" y="299"/>
                                    </a:lnTo>
                                    <a:lnTo>
                                      <a:pt x="318" y="317"/>
                                    </a:lnTo>
                                    <a:lnTo>
                                      <a:pt x="313" y="329"/>
                                    </a:lnTo>
                                    <a:lnTo>
                                      <a:pt x="312" y="336"/>
                                    </a:lnTo>
                                    <a:lnTo>
                                      <a:pt x="315" y="341"/>
                                    </a:lnTo>
                                    <a:lnTo>
                                      <a:pt x="321" y="345"/>
                                    </a:lnTo>
                                    <a:lnTo>
                                      <a:pt x="293" y="378"/>
                                    </a:lnTo>
                                    <a:lnTo>
                                      <a:pt x="290" y="372"/>
                                    </a:lnTo>
                                    <a:lnTo>
                                      <a:pt x="274" y="362"/>
                                    </a:lnTo>
                                    <a:lnTo>
                                      <a:pt x="257" y="358"/>
                                    </a:lnTo>
                                    <a:lnTo>
                                      <a:pt x="238" y="356"/>
                                    </a:lnTo>
                                    <a:lnTo>
                                      <a:pt x="221" y="360"/>
                                    </a:lnTo>
                                    <a:lnTo>
                                      <a:pt x="197" y="367"/>
                                    </a:lnTo>
                                    <a:lnTo>
                                      <a:pt x="170" y="376"/>
                                    </a:lnTo>
                                    <a:lnTo>
                                      <a:pt x="149" y="382"/>
                                    </a:lnTo>
                                    <a:lnTo>
                                      <a:pt x="133" y="383"/>
                                    </a:lnTo>
                                    <a:lnTo>
                                      <a:pt x="117" y="383"/>
                                    </a:lnTo>
                                    <a:lnTo>
                                      <a:pt x="101" y="378"/>
                                    </a:lnTo>
                                    <a:lnTo>
                                      <a:pt x="85" y="369"/>
                                    </a:lnTo>
                                    <a:lnTo>
                                      <a:pt x="74" y="357"/>
                                    </a:lnTo>
                                    <a:lnTo>
                                      <a:pt x="59" y="343"/>
                                    </a:lnTo>
                                    <a:lnTo>
                                      <a:pt x="42" y="321"/>
                                    </a:lnTo>
                                    <a:lnTo>
                                      <a:pt x="23" y="292"/>
                                    </a:lnTo>
                                    <a:lnTo>
                                      <a:pt x="10" y="265"/>
                                    </a:lnTo>
                                    <a:lnTo>
                                      <a:pt x="0" y="237"/>
                                    </a:lnTo>
                                    <a:lnTo>
                                      <a:pt x="0" y="218"/>
                                    </a:lnTo>
                                    <a:lnTo>
                                      <a:pt x="1" y="200"/>
                                    </a:lnTo>
                                    <a:lnTo>
                                      <a:pt x="6" y="164"/>
                                    </a:lnTo>
                                    <a:lnTo>
                                      <a:pt x="12" y="124"/>
                                    </a:lnTo>
                                    <a:lnTo>
                                      <a:pt x="25" y="94"/>
                                    </a:lnTo>
                                    <a:lnTo>
                                      <a:pt x="41" y="71"/>
                                    </a:lnTo>
                                    <a:lnTo>
                                      <a:pt x="57" y="53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e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6196" name=""/>
                              <p:cNvSpPr/>
                              <p:nvPr/>
                            </p:nvSpPr>
                            <p:spPr>
                              <a:xfrm>
                                <a:off x="1162440" y="4769640"/>
                                <a:ext cx="87480" cy="10908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357" h="351">
                                    <a:moveTo>
                                      <a:pt x="53" y="47"/>
                                    </a:moveTo>
                                    <a:lnTo>
                                      <a:pt x="70" y="33"/>
                                    </a:lnTo>
                                    <a:lnTo>
                                      <a:pt x="87" y="20"/>
                                    </a:lnTo>
                                    <a:lnTo>
                                      <a:pt x="106" y="10"/>
                                    </a:lnTo>
                                    <a:lnTo>
                                      <a:pt x="128" y="2"/>
                                    </a:lnTo>
                                    <a:lnTo>
                                      <a:pt x="148" y="0"/>
                                    </a:lnTo>
                                    <a:lnTo>
                                      <a:pt x="171" y="0"/>
                                    </a:lnTo>
                                    <a:lnTo>
                                      <a:pt x="203" y="1"/>
                                    </a:lnTo>
                                    <a:lnTo>
                                      <a:pt x="235" y="10"/>
                                    </a:lnTo>
                                    <a:lnTo>
                                      <a:pt x="256" y="23"/>
                                    </a:lnTo>
                                    <a:lnTo>
                                      <a:pt x="269" y="42"/>
                                    </a:lnTo>
                                    <a:lnTo>
                                      <a:pt x="283" y="66"/>
                                    </a:lnTo>
                                    <a:lnTo>
                                      <a:pt x="298" y="89"/>
                                    </a:lnTo>
                                    <a:lnTo>
                                      <a:pt x="313" y="107"/>
                                    </a:lnTo>
                                    <a:lnTo>
                                      <a:pt x="330" y="123"/>
                                    </a:lnTo>
                                    <a:lnTo>
                                      <a:pt x="348" y="146"/>
                                    </a:lnTo>
                                    <a:lnTo>
                                      <a:pt x="357" y="167"/>
                                    </a:lnTo>
                                    <a:lnTo>
                                      <a:pt x="357" y="184"/>
                                    </a:lnTo>
                                    <a:lnTo>
                                      <a:pt x="357" y="193"/>
                                    </a:lnTo>
                                    <a:lnTo>
                                      <a:pt x="352" y="209"/>
                                    </a:lnTo>
                                    <a:lnTo>
                                      <a:pt x="343" y="224"/>
                                    </a:lnTo>
                                    <a:lnTo>
                                      <a:pt x="332" y="238"/>
                                    </a:lnTo>
                                    <a:lnTo>
                                      <a:pt x="315" y="259"/>
                                    </a:lnTo>
                                    <a:lnTo>
                                      <a:pt x="303" y="274"/>
                                    </a:lnTo>
                                    <a:lnTo>
                                      <a:pt x="292" y="292"/>
                                    </a:lnTo>
                                    <a:lnTo>
                                      <a:pt x="288" y="302"/>
                                    </a:lnTo>
                                    <a:lnTo>
                                      <a:pt x="287" y="308"/>
                                    </a:lnTo>
                                    <a:lnTo>
                                      <a:pt x="289" y="313"/>
                                    </a:lnTo>
                                    <a:lnTo>
                                      <a:pt x="295" y="316"/>
                                    </a:lnTo>
                                    <a:lnTo>
                                      <a:pt x="269" y="347"/>
                                    </a:lnTo>
                                    <a:lnTo>
                                      <a:pt x="266" y="341"/>
                                    </a:lnTo>
                                    <a:lnTo>
                                      <a:pt x="252" y="333"/>
                                    </a:lnTo>
                                    <a:lnTo>
                                      <a:pt x="236" y="329"/>
                                    </a:lnTo>
                                    <a:lnTo>
                                      <a:pt x="219" y="327"/>
                                    </a:lnTo>
                                    <a:lnTo>
                                      <a:pt x="203" y="331"/>
                                    </a:lnTo>
                                    <a:lnTo>
                                      <a:pt x="181" y="337"/>
                                    </a:lnTo>
                                    <a:lnTo>
                                      <a:pt x="156" y="345"/>
                                    </a:lnTo>
                                    <a:lnTo>
                                      <a:pt x="136" y="351"/>
                                    </a:lnTo>
                                    <a:lnTo>
                                      <a:pt x="122" y="351"/>
                                    </a:lnTo>
                                    <a:lnTo>
                                      <a:pt x="107" y="351"/>
                                    </a:lnTo>
                                    <a:lnTo>
                                      <a:pt x="93" y="347"/>
                                    </a:lnTo>
                                    <a:lnTo>
                                      <a:pt x="78" y="339"/>
                                    </a:lnTo>
                                    <a:lnTo>
                                      <a:pt x="68" y="327"/>
                                    </a:lnTo>
                                    <a:lnTo>
                                      <a:pt x="55" y="315"/>
                                    </a:lnTo>
                                    <a:lnTo>
                                      <a:pt x="38" y="295"/>
                                    </a:lnTo>
                                    <a:lnTo>
                                      <a:pt x="22" y="268"/>
                                    </a:lnTo>
                                    <a:lnTo>
                                      <a:pt x="10" y="242"/>
                                    </a:lnTo>
                                    <a:lnTo>
                                      <a:pt x="0" y="218"/>
                                    </a:lnTo>
                                    <a:lnTo>
                                      <a:pt x="0" y="200"/>
                                    </a:lnTo>
                                    <a:lnTo>
                                      <a:pt x="0" y="184"/>
                                    </a:lnTo>
                                    <a:lnTo>
                                      <a:pt x="6" y="151"/>
                                    </a:lnTo>
                                    <a:lnTo>
                                      <a:pt x="12" y="114"/>
                                    </a:lnTo>
                                    <a:lnTo>
                                      <a:pt x="23" y="85"/>
                                    </a:lnTo>
                                    <a:lnTo>
                                      <a:pt x="37" y="65"/>
                                    </a:lnTo>
                                    <a:lnTo>
                                      <a:pt x="53" y="47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c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6197" name=""/>
                          <p:cNvGrpSpPr/>
                          <p:nvPr/>
                        </p:nvGrpSpPr>
                        <p:grpSpPr>
                          <a:xfrm>
                            <a:off x="1135440" y="4745520"/>
                            <a:ext cx="44280" cy="146160"/>
                            <a:chOff x="1135440" y="4745520"/>
                            <a:chExt cx="44280" cy="146160"/>
                          </a:xfrm>
                        </p:grpSpPr>
                        <p:grpSp>
                          <p:nvGrpSpPr>
                            <p:cNvPr id="6198" name=""/>
                            <p:cNvGrpSpPr/>
                            <p:nvPr/>
                          </p:nvGrpSpPr>
                          <p:grpSpPr>
                            <a:xfrm>
                              <a:off x="1145160" y="4745520"/>
                              <a:ext cx="24480" cy="35280"/>
                              <a:chOff x="1145160" y="4745520"/>
                              <a:chExt cx="24480" cy="35280"/>
                            </a:xfrm>
                          </p:grpSpPr>
                          <p:sp>
                            <p:nvSpPr>
                              <p:cNvPr id="6199" name=""/>
                              <p:cNvSpPr/>
                              <p:nvPr/>
                            </p:nvSpPr>
                            <p:spPr>
                              <a:xfrm>
                                <a:off x="1145160" y="4745520"/>
                                <a:ext cx="24480" cy="3528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01" h="112">
                                    <a:moveTo>
                                      <a:pt x="16" y="35"/>
                                    </a:moveTo>
                                    <a:lnTo>
                                      <a:pt x="26" y="24"/>
                                    </a:lnTo>
                                    <a:lnTo>
                                      <a:pt x="37" y="16"/>
                                    </a:lnTo>
                                    <a:lnTo>
                                      <a:pt x="49" y="9"/>
                                    </a:lnTo>
                                    <a:lnTo>
                                      <a:pt x="64" y="2"/>
                                    </a:lnTo>
                                    <a:lnTo>
                                      <a:pt x="76" y="0"/>
                                    </a:lnTo>
                                    <a:lnTo>
                                      <a:pt x="86" y="3"/>
                                    </a:lnTo>
                                    <a:lnTo>
                                      <a:pt x="95" y="11"/>
                                    </a:lnTo>
                                    <a:lnTo>
                                      <a:pt x="99" y="22"/>
                                    </a:lnTo>
                                    <a:lnTo>
                                      <a:pt x="101" y="33"/>
                                    </a:lnTo>
                                    <a:lnTo>
                                      <a:pt x="98" y="49"/>
                                    </a:lnTo>
                                    <a:lnTo>
                                      <a:pt x="92" y="63"/>
                                    </a:lnTo>
                                    <a:lnTo>
                                      <a:pt x="84" y="75"/>
                                    </a:lnTo>
                                    <a:lnTo>
                                      <a:pt x="75" y="86"/>
                                    </a:lnTo>
                                    <a:lnTo>
                                      <a:pt x="63" y="97"/>
                                    </a:lnTo>
                                    <a:lnTo>
                                      <a:pt x="50" y="106"/>
                                    </a:lnTo>
                                    <a:lnTo>
                                      <a:pt x="37" y="111"/>
                                    </a:lnTo>
                                    <a:lnTo>
                                      <a:pt x="24" y="112"/>
                                    </a:lnTo>
                                    <a:lnTo>
                                      <a:pt x="13" y="108"/>
                                    </a:lnTo>
                                    <a:lnTo>
                                      <a:pt x="6" y="99"/>
                                    </a:lnTo>
                                    <a:lnTo>
                                      <a:pt x="1" y="89"/>
                                    </a:lnTo>
                                    <a:lnTo>
                                      <a:pt x="0" y="75"/>
                                    </a:lnTo>
                                    <a:lnTo>
                                      <a:pt x="3" y="61"/>
                                    </a:lnTo>
                                    <a:lnTo>
                                      <a:pt x="7" y="50"/>
                                    </a:lnTo>
                                    <a:lnTo>
                                      <a:pt x="16" y="35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8080ff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1520" bIns="-1152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6200" name=""/>
                              <p:cNvSpPr/>
                              <p:nvPr/>
                            </p:nvSpPr>
                            <p:spPr>
                              <a:xfrm>
                                <a:off x="1151280" y="4753080"/>
                                <a:ext cx="12240" cy="183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54" h="61">
                                    <a:moveTo>
                                      <a:pt x="9" y="18"/>
                                    </a:moveTo>
                                    <a:lnTo>
                                      <a:pt x="14" y="13"/>
                                    </a:lnTo>
                                    <a:lnTo>
                                      <a:pt x="20" y="7"/>
                                    </a:lnTo>
                                    <a:lnTo>
                                      <a:pt x="26" y="4"/>
                                    </a:lnTo>
                                    <a:lnTo>
                                      <a:pt x="34" y="1"/>
                                    </a:lnTo>
                                    <a:lnTo>
                                      <a:pt x="40" y="0"/>
                                    </a:lnTo>
                                    <a:lnTo>
                                      <a:pt x="45" y="1"/>
                                    </a:lnTo>
                                    <a:lnTo>
                                      <a:pt x="51" y="5"/>
                                    </a:lnTo>
                                    <a:lnTo>
                                      <a:pt x="53" y="11"/>
                                    </a:lnTo>
                                    <a:lnTo>
                                      <a:pt x="54" y="17"/>
                                    </a:lnTo>
                                    <a:lnTo>
                                      <a:pt x="53" y="27"/>
                                    </a:lnTo>
                                    <a:lnTo>
                                      <a:pt x="50" y="35"/>
                                    </a:lnTo>
                                    <a:lnTo>
                                      <a:pt x="45" y="41"/>
                                    </a:lnTo>
                                    <a:lnTo>
                                      <a:pt x="40" y="47"/>
                                    </a:lnTo>
                                    <a:lnTo>
                                      <a:pt x="34" y="54"/>
                                    </a:lnTo>
                                    <a:lnTo>
                                      <a:pt x="27" y="58"/>
                                    </a:lnTo>
                                    <a:lnTo>
                                      <a:pt x="20" y="61"/>
                                    </a:lnTo>
                                    <a:lnTo>
                                      <a:pt x="14" y="61"/>
                                    </a:lnTo>
                                    <a:lnTo>
                                      <a:pt x="8" y="59"/>
                                    </a:lnTo>
                                    <a:lnTo>
                                      <a:pt x="3" y="54"/>
                                    </a:lnTo>
                                    <a:lnTo>
                                      <a:pt x="0" y="48"/>
                                    </a:lnTo>
                                    <a:lnTo>
                                      <a:pt x="0" y="41"/>
                                    </a:lnTo>
                                    <a:lnTo>
                                      <a:pt x="1" y="34"/>
                                    </a:lnTo>
                                    <a:lnTo>
                                      <a:pt x="3" y="27"/>
                                    </a:lnTo>
                                    <a:lnTo>
                                      <a:pt x="9" y="18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60006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8440" bIns="-2844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6201" name=""/>
                            <p:cNvSpPr/>
                            <p:nvPr/>
                          </p:nvSpPr>
                          <p:spPr>
                            <a:xfrm>
                              <a:off x="1135440" y="4816440"/>
                              <a:ext cx="25560" cy="3384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101" h="111">
                                  <a:moveTo>
                                    <a:pt x="85" y="35"/>
                                  </a:moveTo>
                                  <a:lnTo>
                                    <a:pt x="75" y="24"/>
                                  </a:lnTo>
                                  <a:lnTo>
                                    <a:pt x="64" y="15"/>
                                  </a:lnTo>
                                  <a:lnTo>
                                    <a:pt x="52" y="8"/>
                                  </a:lnTo>
                                  <a:lnTo>
                                    <a:pt x="37" y="2"/>
                                  </a:lnTo>
                                  <a:lnTo>
                                    <a:pt x="26" y="0"/>
                                  </a:lnTo>
                                  <a:lnTo>
                                    <a:pt x="15" y="3"/>
                                  </a:lnTo>
                                  <a:lnTo>
                                    <a:pt x="6" y="10"/>
                                  </a:lnTo>
                                  <a:lnTo>
                                    <a:pt x="2" y="22"/>
                                  </a:lnTo>
                                  <a:lnTo>
                                    <a:pt x="0" y="33"/>
                                  </a:lnTo>
                                  <a:lnTo>
                                    <a:pt x="3" y="48"/>
                                  </a:lnTo>
                                  <a:lnTo>
                                    <a:pt x="9" y="63"/>
                                  </a:lnTo>
                                  <a:lnTo>
                                    <a:pt x="17" y="75"/>
                                  </a:lnTo>
                                  <a:lnTo>
                                    <a:pt x="27" y="85"/>
                                  </a:lnTo>
                                  <a:lnTo>
                                    <a:pt x="38" y="95"/>
                                  </a:lnTo>
                                  <a:lnTo>
                                    <a:pt x="51" y="105"/>
                                  </a:lnTo>
                                  <a:lnTo>
                                    <a:pt x="64" y="110"/>
                                  </a:lnTo>
                                  <a:lnTo>
                                    <a:pt x="77" y="111"/>
                                  </a:lnTo>
                                  <a:lnTo>
                                    <a:pt x="88" y="107"/>
                                  </a:lnTo>
                                  <a:lnTo>
                                    <a:pt x="95" y="97"/>
                                  </a:lnTo>
                                  <a:lnTo>
                                    <a:pt x="100" y="87"/>
                                  </a:lnTo>
                                  <a:lnTo>
                                    <a:pt x="101" y="75"/>
                                  </a:lnTo>
                                  <a:lnTo>
                                    <a:pt x="98" y="61"/>
                                  </a:lnTo>
                                  <a:lnTo>
                                    <a:pt x="94" y="49"/>
                                  </a:lnTo>
                                  <a:lnTo>
                                    <a:pt x="85" y="35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a000a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12960" bIns="-1296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6202" name=""/>
                            <p:cNvSpPr/>
                            <p:nvPr/>
                          </p:nvSpPr>
                          <p:spPr>
                            <a:xfrm>
                              <a:off x="1157400" y="4856040"/>
                              <a:ext cx="22320" cy="3564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91" h="114">
                                  <a:moveTo>
                                    <a:pt x="79" y="37"/>
                                  </a:moveTo>
                                  <a:lnTo>
                                    <a:pt x="71" y="23"/>
                                  </a:lnTo>
                                  <a:lnTo>
                                    <a:pt x="62" y="12"/>
                                  </a:lnTo>
                                  <a:lnTo>
                                    <a:pt x="51" y="4"/>
                                  </a:lnTo>
                                  <a:lnTo>
                                    <a:pt x="37" y="0"/>
                                  </a:lnTo>
                                  <a:lnTo>
                                    <a:pt x="27" y="3"/>
                                  </a:lnTo>
                                  <a:lnTo>
                                    <a:pt x="17" y="11"/>
                                  </a:lnTo>
                                  <a:lnTo>
                                    <a:pt x="7" y="19"/>
                                  </a:lnTo>
                                  <a:lnTo>
                                    <a:pt x="2" y="29"/>
                                  </a:lnTo>
                                  <a:lnTo>
                                    <a:pt x="0" y="38"/>
                                  </a:lnTo>
                                  <a:lnTo>
                                    <a:pt x="1" y="48"/>
                                  </a:lnTo>
                                  <a:lnTo>
                                    <a:pt x="3" y="62"/>
                                  </a:lnTo>
                                  <a:lnTo>
                                    <a:pt x="10" y="77"/>
                                  </a:lnTo>
                                  <a:lnTo>
                                    <a:pt x="18" y="88"/>
                                  </a:lnTo>
                                  <a:lnTo>
                                    <a:pt x="28" y="99"/>
                                  </a:lnTo>
                                  <a:lnTo>
                                    <a:pt x="41" y="108"/>
                                  </a:lnTo>
                                  <a:lnTo>
                                    <a:pt x="54" y="113"/>
                                  </a:lnTo>
                                  <a:lnTo>
                                    <a:pt x="67" y="114"/>
                                  </a:lnTo>
                                  <a:lnTo>
                                    <a:pt x="78" y="110"/>
                                  </a:lnTo>
                                  <a:lnTo>
                                    <a:pt x="85" y="101"/>
                                  </a:lnTo>
                                  <a:lnTo>
                                    <a:pt x="90" y="91"/>
                                  </a:lnTo>
                                  <a:lnTo>
                                    <a:pt x="91" y="77"/>
                                  </a:lnTo>
                                  <a:lnTo>
                                    <a:pt x="88" y="63"/>
                                  </a:lnTo>
                                  <a:lnTo>
                                    <a:pt x="85" y="49"/>
                                  </a:lnTo>
                                  <a:lnTo>
                                    <a:pt x="79" y="37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a000a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11160" bIns="-1116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6203" name=""/>
                        <p:cNvGrpSpPr/>
                        <p:nvPr/>
                      </p:nvGrpSpPr>
                      <p:grpSpPr>
                        <a:xfrm>
                          <a:off x="1214280" y="4819320"/>
                          <a:ext cx="160200" cy="185040"/>
                          <a:chOff x="1214280" y="4819320"/>
                          <a:chExt cx="160200" cy="185040"/>
                        </a:xfrm>
                      </p:grpSpPr>
                      <p:sp>
                        <p:nvSpPr>
                          <p:cNvPr id="6204" name=""/>
                          <p:cNvSpPr/>
                          <p:nvPr/>
                        </p:nvSpPr>
                        <p:spPr>
                          <a:xfrm>
                            <a:off x="1251000" y="4863960"/>
                            <a:ext cx="93600" cy="986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380" h="322">
                                <a:moveTo>
                                  <a:pt x="10" y="0"/>
                                </a:moveTo>
                                <a:lnTo>
                                  <a:pt x="3" y="34"/>
                                </a:lnTo>
                                <a:lnTo>
                                  <a:pt x="0" y="61"/>
                                </a:lnTo>
                                <a:lnTo>
                                  <a:pt x="6" y="92"/>
                                </a:lnTo>
                                <a:lnTo>
                                  <a:pt x="18" y="114"/>
                                </a:lnTo>
                                <a:lnTo>
                                  <a:pt x="33" y="127"/>
                                </a:lnTo>
                                <a:lnTo>
                                  <a:pt x="59" y="148"/>
                                </a:lnTo>
                                <a:lnTo>
                                  <a:pt x="84" y="163"/>
                                </a:lnTo>
                                <a:lnTo>
                                  <a:pt x="121" y="179"/>
                                </a:lnTo>
                                <a:lnTo>
                                  <a:pt x="161" y="194"/>
                                </a:lnTo>
                                <a:lnTo>
                                  <a:pt x="199" y="206"/>
                                </a:lnTo>
                                <a:lnTo>
                                  <a:pt x="239" y="219"/>
                                </a:lnTo>
                                <a:lnTo>
                                  <a:pt x="268" y="234"/>
                                </a:lnTo>
                                <a:lnTo>
                                  <a:pt x="300" y="252"/>
                                </a:lnTo>
                                <a:lnTo>
                                  <a:pt x="330" y="273"/>
                                </a:lnTo>
                                <a:lnTo>
                                  <a:pt x="355" y="295"/>
                                </a:lnTo>
                                <a:lnTo>
                                  <a:pt x="380" y="322"/>
                                </a:lnTo>
                              </a:path>
                            </a:pathLst>
                          </a:custGeom>
                          <a:noFill/>
                          <a:ln w="4680">
                            <a:solidFill>
                              <a:srgbClr val="ffc0c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6205" name=""/>
                          <p:cNvSpPr/>
                          <p:nvPr/>
                        </p:nvSpPr>
                        <p:spPr>
                          <a:xfrm>
                            <a:off x="1214280" y="4882320"/>
                            <a:ext cx="108720" cy="1216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443" h="393">
                                <a:moveTo>
                                  <a:pt x="0" y="0"/>
                                </a:moveTo>
                                <a:lnTo>
                                  <a:pt x="34" y="9"/>
                                </a:lnTo>
                                <a:lnTo>
                                  <a:pt x="65" y="18"/>
                                </a:lnTo>
                                <a:lnTo>
                                  <a:pt x="95" y="30"/>
                                </a:lnTo>
                                <a:lnTo>
                                  <a:pt x="117" y="43"/>
                                </a:lnTo>
                                <a:lnTo>
                                  <a:pt x="135" y="65"/>
                                </a:lnTo>
                                <a:lnTo>
                                  <a:pt x="150" y="93"/>
                                </a:lnTo>
                                <a:lnTo>
                                  <a:pt x="160" y="117"/>
                                </a:lnTo>
                                <a:lnTo>
                                  <a:pt x="169" y="148"/>
                                </a:lnTo>
                                <a:lnTo>
                                  <a:pt x="180" y="183"/>
                                </a:lnTo>
                                <a:lnTo>
                                  <a:pt x="193" y="214"/>
                                </a:lnTo>
                                <a:lnTo>
                                  <a:pt x="212" y="242"/>
                                </a:lnTo>
                                <a:lnTo>
                                  <a:pt x="233" y="273"/>
                                </a:lnTo>
                                <a:lnTo>
                                  <a:pt x="253" y="295"/>
                                </a:lnTo>
                                <a:lnTo>
                                  <a:pt x="280" y="316"/>
                                </a:lnTo>
                                <a:lnTo>
                                  <a:pt x="309" y="335"/>
                                </a:lnTo>
                                <a:lnTo>
                                  <a:pt x="343" y="350"/>
                                </a:lnTo>
                                <a:lnTo>
                                  <a:pt x="382" y="368"/>
                                </a:lnTo>
                                <a:lnTo>
                                  <a:pt x="415" y="381"/>
                                </a:lnTo>
                                <a:lnTo>
                                  <a:pt x="443" y="393"/>
                                </a:lnTo>
                              </a:path>
                            </a:pathLst>
                          </a:custGeom>
                          <a:noFill/>
                          <a:ln w="4680">
                            <a:solidFill>
                              <a:srgbClr val="ffc0c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6206" name=""/>
                          <p:cNvSpPr/>
                          <p:nvPr/>
                        </p:nvSpPr>
                        <p:spPr>
                          <a:xfrm>
                            <a:off x="1221480" y="4819320"/>
                            <a:ext cx="153000" cy="1850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618" h="602">
                                <a:moveTo>
                                  <a:pt x="0" y="0"/>
                                </a:moveTo>
                                <a:lnTo>
                                  <a:pt x="7" y="41"/>
                                </a:lnTo>
                                <a:lnTo>
                                  <a:pt x="18" y="82"/>
                                </a:lnTo>
                                <a:lnTo>
                                  <a:pt x="35" y="128"/>
                                </a:lnTo>
                                <a:lnTo>
                                  <a:pt x="55" y="163"/>
                                </a:lnTo>
                                <a:lnTo>
                                  <a:pt x="83" y="202"/>
                                </a:lnTo>
                                <a:lnTo>
                                  <a:pt x="104" y="237"/>
                                </a:lnTo>
                                <a:lnTo>
                                  <a:pt x="129" y="280"/>
                                </a:lnTo>
                                <a:lnTo>
                                  <a:pt x="157" y="328"/>
                                </a:lnTo>
                                <a:lnTo>
                                  <a:pt x="176" y="356"/>
                                </a:lnTo>
                                <a:lnTo>
                                  <a:pt x="199" y="385"/>
                                </a:lnTo>
                                <a:lnTo>
                                  <a:pt x="226" y="415"/>
                                </a:lnTo>
                                <a:lnTo>
                                  <a:pt x="260" y="445"/>
                                </a:lnTo>
                                <a:lnTo>
                                  <a:pt x="304" y="482"/>
                                </a:lnTo>
                                <a:lnTo>
                                  <a:pt x="342" y="512"/>
                                </a:lnTo>
                                <a:lnTo>
                                  <a:pt x="385" y="537"/>
                                </a:lnTo>
                                <a:lnTo>
                                  <a:pt x="432" y="558"/>
                                </a:lnTo>
                                <a:lnTo>
                                  <a:pt x="485" y="578"/>
                                </a:lnTo>
                                <a:lnTo>
                                  <a:pt x="525" y="589"/>
                                </a:lnTo>
                                <a:lnTo>
                                  <a:pt x="573" y="598"/>
                                </a:lnTo>
                                <a:lnTo>
                                  <a:pt x="618" y="602"/>
                                </a:lnTo>
                              </a:path>
                            </a:pathLst>
                          </a:custGeom>
                          <a:noFill/>
                          <a:ln w="4680">
                            <a:solidFill>
                              <a:srgbClr val="ffc0c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</p:grpSp>
              </p:grpSp>
              <p:grpSp>
                <p:nvGrpSpPr>
                  <p:cNvPr id="6207" name=""/>
                  <p:cNvGrpSpPr/>
                  <p:nvPr/>
                </p:nvGrpSpPr>
                <p:grpSpPr>
                  <a:xfrm>
                    <a:off x="1257840" y="4815360"/>
                    <a:ext cx="231480" cy="233640"/>
                    <a:chOff x="1257840" y="4815360"/>
                    <a:chExt cx="231480" cy="233640"/>
                  </a:xfrm>
                </p:grpSpPr>
                <p:grpSp>
                  <p:nvGrpSpPr>
                    <p:cNvPr id="6208" name=""/>
                    <p:cNvGrpSpPr/>
                    <p:nvPr/>
                  </p:nvGrpSpPr>
                  <p:grpSpPr>
                    <a:xfrm>
                      <a:off x="1345680" y="4932360"/>
                      <a:ext cx="140760" cy="116280"/>
                      <a:chOff x="1345680" y="4932360"/>
                      <a:chExt cx="140760" cy="116280"/>
                    </a:xfrm>
                  </p:grpSpPr>
                  <p:grpSp>
                    <p:nvGrpSpPr>
                      <p:cNvPr id="6209" name=""/>
                      <p:cNvGrpSpPr/>
                      <p:nvPr/>
                    </p:nvGrpSpPr>
                    <p:grpSpPr>
                      <a:xfrm>
                        <a:off x="1431000" y="4932360"/>
                        <a:ext cx="55440" cy="58320"/>
                        <a:chOff x="1431000" y="4932360"/>
                        <a:chExt cx="55440" cy="58320"/>
                      </a:xfrm>
                    </p:grpSpPr>
                    <p:sp>
                      <p:nvSpPr>
                        <p:cNvPr id="6210" name=""/>
                        <p:cNvSpPr/>
                        <p:nvPr/>
                      </p:nvSpPr>
                      <p:spPr>
                        <a:xfrm>
                          <a:off x="1454040" y="4935240"/>
                          <a:ext cx="6120" cy="324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7" h="101">
                              <a:moveTo>
                                <a:pt x="14" y="0"/>
                              </a:moveTo>
                              <a:lnTo>
                                <a:pt x="21" y="21"/>
                              </a:lnTo>
                              <a:lnTo>
                                <a:pt x="27" y="51"/>
                              </a:lnTo>
                              <a:lnTo>
                                <a:pt x="24" y="69"/>
                              </a:lnTo>
                              <a:lnTo>
                                <a:pt x="11" y="89"/>
                              </a:lnTo>
                              <a:lnTo>
                                <a:pt x="0" y="101"/>
                              </a:lnTo>
                            </a:path>
                          </a:pathLst>
                        </a:custGeom>
                        <a:noFill/>
                        <a:ln w="3240">
                          <a:solidFill>
                            <a:srgbClr val="8080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4400" bIns="-144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211" name=""/>
                        <p:cNvSpPr/>
                        <p:nvPr/>
                      </p:nvSpPr>
                      <p:spPr>
                        <a:xfrm>
                          <a:off x="1431000" y="4949280"/>
                          <a:ext cx="30600" cy="414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24" h="137">
                              <a:moveTo>
                                <a:pt x="0" y="0"/>
                              </a:moveTo>
                              <a:lnTo>
                                <a:pt x="30" y="5"/>
                              </a:lnTo>
                              <a:lnTo>
                                <a:pt x="61" y="11"/>
                              </a:lnTo>
                              <a:lnTo>
                                <a:pt x="75" y="20"/>
                              </a:lnTo>
                              <a:lnTo>
                                <a:pt x="89" y="40"/>
                              </a:lnTo>
                              <a:lnTo>
                                <a:pt x="92" y="61"/>
                              </a:lnTo>
                              <a:lnTo>
                                <a:pt x="104" y="85"/>
                              </a:lnTo>
                              <a:lnTo>
                                <a:pt x="115" y="109"/>
                              </a:lnTo>
                              <a:lnTo>
                                <a:pt x="124" y="137"/>
                              </a:lnTo>
                            </a:path>
                          </a:pathLst>
                        </a:custGeom>
                        <a:noFill/>
                        <a:ln w="3240">
                          <a:solidFill>
                            <a:srgbClr val="8080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5400" bIns="-54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212" name=""/>
                        <p:cNvSpPr/>
                        <p:nvPr/>
                      </p:nvSpPr>
                      <p:spPr>
                        <a:xfrm>
                          <a:off x="1475280" y="4932360"/>
                          <a:ext cx="11160" cy="507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5" h="162">
                              <a:moveTo>
                                <a:pt x="0" y="80"/>
                              </a:moveTo>
                              <a:lnTo>
                                <a:pt x="2" y="110"/>
                              </a:lnTo>
                              <a:lnTo>
                                <a:pt x="6" y="138"/>
                              </a:lnTo>
                              <a:lnTo>
                                <a:pt x="17" y="151"/>
                              </a:lnTo>
                              <a:lnTo>
                                <a:pt x="45" y="162"/>
                              </a:lnTo>
                              <a:lnTo>
                                <a:pt x="45" y="0"/>
                              </a:lnTo>
                            </a:path>
                          </a:pathLst>
                        </a:custGeom>
                        <a:noFill/>
                        <a:ln w="3240">
                          <a:solidFill>
                            <a:srgbClr val="8080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3960" bIns="39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6213" name=""/>
                      <p:cNvGrpSpPr/>
                      <p:nvPr/>
                    </p:nvGrpSpPr>
                    <p:grpSpPr>
                      <a:xfrm>
                        <a:off x="1345680" y="5014080"/>
                        <a:ext cx="75240" cy="34560"/>
                        <a:chOff x="1345680" y="5014080"/>
                        <a:chExt cx="75240" cy="34560"/>
                      </a:xfrm>
                    </p:grpSpPr>
                    <p:sp>
                      <p:nvSpPr>
                        <p:cNvPr id="6214" name=""/>
                        <p:cNvSpPr/>
                        <p:nvPr/>
                      </p:nvSpPr>
                      <p:spPr>
                        <a:xfrm>
                          <a:off x="1372680" y="5018400"/>
                          <a:ext cx="44280" cy="7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79" h="24">
                              <a:moveTo>
                                <a:pt x="0" y="0"/>
                              </a:moveTo>
                              <a:lnTo>
                                <a:pt x="43" y="13"/>
                              </a:lnTo>
                              <a:lnTo>
                                <a:pt x="80" y="21"/>
                              </a:lnTo>
                              <a:lnTo>
                                <a:pt x="124" y="24"/>
                              </a:lnTo>
                              <a:lnTo>
                                <a:pt x="179" y="16"/>
                              </a:lnTo>
                            </a:path>
                          </a:pathLst>
                        </a:custGeom>
                        <a:noFill/>
                        <a:ln w="3240">
                          <a:solidFill>
                            <a:srgbClr val="8080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9240" bIns="-392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215" name=""/>
                        <p:cNvSpPr/>
                        <p:nvPr/>
                      </p:nvSpPr>
                      <p:spPr>
                        <a:xfrm>
                          <a:off x="1392480" y="5014080"/>
                          <a:ext cx="8640" cy="118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5" h="42">
                              <a:moveTo>
                                <a:pt x="0" y="0"/>
                              </a:moveTo>
                              <a:lnTo>
                                <a:pt x="22" y="20"/>
                              </a:lnTo>
                              <a:lnTo>
                                <a:pt x="35" y="42"/>
                              </a:lnTo>
                            </a:path>
                          </a:pathLst>
                        </a:custGeom>
                        <a:noFill/>
                        <a:ln w="3240">
                          <a:solidFill>
                            <a:srgbClr val="8080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4920" bIns="-349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216" name=""/>
                        <p:cNvSpPr/>
                        <p:nvPr/>
                      </p:nvSpPr>
                      <p:spPr>
                        <a:xfrm>
                          <a:off x="1345680" y="5038560"/>
                          <a:ext cx="54000" cy="100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20" h="35">
                              <a:moveTo>
                                <a:pt x="0" y="0"/>
                              </a:moveTo>
                              <a:lnTo>
                                <a:pt x="57" y="9"/>
                              </a:lnTo>
                              <a:lnTo>
                                <a:pt x="115" y="16"/>
                              </a:lnTo>
                              <a:lnTo>
                                <a:pt x="168" y="25"/>
                              </a:lnTo>
                              <a:lnTo>
                                <a:pt x="220" y="35"/>
                              </a:lnTo>
                            </a:path>
                          </a:pathLst>
                        </a:custGeom>
                        <a:noFill/>
                        <a:ln w="3240">
                          <a:solidFill>
                            <a:srgbClr val="8080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6720" bIns="-367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217" name=""/>
                        <p:cNvSpPr/>
                        <p:nvPr/>
                      </p:nvSpPr>
                      <p:spPr>
                        <a:xfrm>
                          <a:off x="1392480" y="5036760"/>
                          <a:ext cx="17280" cy="7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66" h="25">
                              <a:moveTo>
                                <a:pt x="0" y="0"/>
                              </a:moveTo>
                              <a:lnTo>
                                <a:pt x="31" y="2"/>
                              </a:lnTo>
                              <a:lnTo>
                                <a:pt x="50" y="8"/>
                              </a:lnTo>
                              <a:lnTo>
                                <a:pt x="66" y="25"/>
                              </a:lnTo>
                            </a:path>
                          </a:pathLst>
                        </a:custGeom>
                        <a:noFill/>
                        <a:ln w="3240">
                          <a:solidFill>
                            <a:srgbClr val="8080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9240" bIns="-392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218" name=""/>
                        <p:cNvSpPr/>
                        <p:nvPr/>
                      </p:nvSpPr>
                      <p:spPr>
                        <a:xfrm>
                          <a:off x="1414800" y="5033520"/>
                          <a:ext cx="6120" cy="15120"/>
                        </a:xfrm>
                        <a:prstGeom prst="line">
                          <a:avLst/>
                        </a:prstGeom>
                        <a:ln w="3240">
                          <a:solidFill>
                            <a:srgbClr val="8080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1680" bIns="-316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6219" name=""/>
                    <p:cNvGrpSpPr/>
                    <p:nvPr/>
                  </p:nvGrpSpPr>
                  <p:grpSpPr>
                    <a:xfrm>
                      <a:off x="1257840" y="4815360"/>
                      <a:ext cx="231480" cy="233640"/>
                      <a:chOff x="1257840" y="4815360"/>
                      <a:chExt cx="231480" cy="233640"/>
                    </a:xfrm>
                  </p:grpSpPr>
                  <p:grpSp>
                    <p:nvGrpSpPr>
                      <p:cNvPr id="6220" name=""/>
                      <p:cNvGrpSpPr/>
                      <p:nvPr/>
                    </p:nvGrpSpPr>
                    <p:grpSpPr>
                      <a:xfrm>
                        <a:off x="1271520" y="4829040"/>
                        <a:ext cx="217800" cy="219960"/>
                        <a:chOff x="1271520" y="4829040"/>
                        <a:chExt cx="217800" cy="219960"/>
                      </a:xfrm>
                    </p:grpSpPr>
                    <p:sp>
                      <p:nvSpPr>
                        <p:cNvPr id="6221" name=""/>
                        <p:cNvSpPr/>
                        <p:nvPr/>
                      </p:nvSpPr>
                      <p:spPr>
                        <a:xfrm>
                          <a:off x="1271520" y="4829040"/>
                          <a:ext cx="217800" cy="175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77" h="567">
                              <a:moveTo>
                                <a:pt x="0" y="0"/>
                              </a:moveTo>
                              <a:lnTo>
                                <a:pt x="35" y="15"/>
                              </a:lnTo>
                              <a:lnTo>
                                <a:pt x="69" y="25"/>
                              </a:lnTo>
                              <a:lnTo>
                                <a:pt x="109" y="31"/>
                              </a:lnTo>
                              <a:lnTo>
                                <a:pt x="142" y="31"/>
                              </a:lnTo>
                              <a:lnTo>
                                <a:pt x="185" y="34"/>
                              </a:lnTo>
                              <a:lnTo>
                                <a:pt x="215" y="43"/>
                              </a:lnTo>
                              <a:lnTo>
                                <a:pt x="244" y="54"/>
                              </a:lnTo>
                              <a:lnTo>
                                <a:pt x="276" y="76"/>
                              </a:lnTo>
                              <a:lnTo>
                                <a:pt x="308" y="103"/>
                              </a:lnTo>
                              <a:lnTo>
                                <a:pt x="350" y="140"/>
                              </a:lnTo>
                              <a:lnTo>
                                <a:pt x="381" y="167"/>
                              </a:lnTo>
                              <a:lnTo>
                                <a:pt x="429" y="217"/>
                              </a:lnTo>
                              <a:lnTo>
                                <a:pt x="481" y="267"/>
                              </a:lnTo>
                              <a:lnTo>
                                <a:pt x="524" y="312"/>
                              </a:lnTo>
                              <a:lnTo>
                                <a:pt x="571" y="364"/>
                              </a:lnTo>
                              <a:lnTo>
                                <a:pt x="621" y="418"/>
                              </a:lnTo>
                              <a:lnTo>
                                <a:pt x="664" y="458"/>
                              </a:lnTo>
                              <a:lnTo>
                                <a:pt x="707" y="496"/>
                              </a:lnTo>
                              <a:lnTo>
                                <a:pt x="744" y="520"/>
                              </a:lnTo>
                              <a:lnTo>
                                <a:pt x="782" y="540"/>
                              </a:lnTo>
                              <a:lnTo>
                                <a:pt x="812" y="560"/>
                              </a:lnTo>
                              <a:lnTo>
                                <a:pt x="833" y="567"/>
                              </a:lnTo>
                              <a:lnTo>
                                <a:pt x="851" y="563"/>
                              </a:lnTo>
                              <a:lnTo>
                                <a:pt x="867" y="552"/>
                              </a:lnTo>
                              <a:lnTo>
                                <a:pt x="876" y="532"/>
                              </a:lnTo>
                              <a:lnTo>
                                <a:pt x="877" y="492"/>
                              </a:lnTo>
                              <a:lnTo>
                                <a:pt x="873" y="452"/>
                              </a:lnTo>
                            </a:path>
                          </a:pathLst>
                        </a:custGeom>
                        <a:noFill/>
                        <a:ln w="11160">
                          <a:solidFill>
                            <a:srgbClr val="8080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222" name=""/>
                        <p:cNvSpPr/>
                        <p:nvPr/>
                      </p:nvSpPr>
                      <p:spPr>
                        <a:xfrm>
                          <a:off x="1305720" y="4838040"/>
                          <a:ext cx="122400" cy="2109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94" h="685">
                              <a:moveTo>
                                <a:pt x="0" y="0"/>
                              </a:moveTo>
                              <a:lnTo>
                                <a:pt x="18" y="59"/>
                              </a:lnTo>
                              <a:lnTo>
                                <a:pt x="37" y="116"/>
                              </a:lnTo>
                              <a:lnTo>
                                <a:pt x="55" y="155"/>
                              </a:lnTo>
                              <a:lnTo>
                                <a:pt x="82" y="202"/>
                              </a:lnTo>
                              <a:lnTo>
                                <a:pt x="119" y="256"/>
                              </a:lnTo>
                              <a:lnTo>
                                <a:pt x="150" y="299"/>
                              </a:lnTo>
                              <a:lnTo>
                                <a:pt x="182" y="344"/>
                              </a:lnTo>
                              <a:lnTo>
                                <a:pt x="219" y="397"/>
                              </a:lnTo>
                              <a:lnTo>
                                <a:pt x="244" y="431"/>
                              </a:lnTo>
                              <a:lnTo>
                                <a:pt x="268" y="450"/>
                              </a:lnTo>
                              <a:lnTo>
                                <a:pt x="299" y="471"/>
                              </a:lnTo>
                              <a:lnTo>
                                <a:pt x="322" y="489"/>
                              </a:lnTo>
                              <a:lnTo>
                                <a:pt x="345" y="516"/>
                              </a:lnTo>
                              <a:lnTo>
                                <a:pt x="376" y="541"/>
                              </a:lnTo>
                              <a:lnTo>
                                <a:pt x="406" y="565"/>
                              </a:lnTo>
                              <a:lnTo>
                                <a:pt x="435" y="584"/>
                              </a:lnTo>
                              <a:lnTo>
                                <a:pt x="465" y="608"/>
                              </a:lnTo>
                              <a:lnTo>
                                <a:pt x="485" y="627"/>
                              </a:lnTo>
                              <a:lnTo>
                                <a:pt x="494" y="645"/>
                              </a:lnTo>
                              <a:lnTo>
                                <a:pt x="491" y="669"/>
                              </a:lnTo>
                              <a:lnTo>
                                <a:pt x="479" y="675"/>
                              </a:lnTo>
                              <a:lnTo>
                                <a:pt x="449" y="682"/>
                              </a:lnTo>
                              <a:lnTo>
                                <a:pt x="420" y="685"/>
                              </a:lnTo>
                              <a:lnTo>
                                <a:pt x="385" y="684"/>
                              </a:lnTo>
                            </a:path>
                          </a:pathLst>
                        </a:custGeom>
                        <a:noFill/>
                        <a:ln w="11160">
                          <a:solidFill>
                            <a:srgbClr val="8080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6223" name=""/>
                      <p:cNvGrpSpPr/>
                      <p:nvPr/>
                    </p:nvGrpSpPr>
                    <p:grpSpPr>
                      <a:xfrm>
                        <a:off x="1257840" y="4815360"/>
                        <a:ext cx="18360" cy="24480"/>
                        <a:chOff x="1257840" y="4815360"/>
                        <a:chExt cx="18360" cy="24480"/>
                      </a:xfrm>
                    </p:grpSpPr>
                    <p:sp>
                      <p:nvSpPr>
                        <p:cNvPr id="6224" name=""/>
                        <p:cNvSpPr/>
                        <p:nvPr/>
                      </p:nvSpPr>
                      <p:spPr>
                        <a:xfrm>
                          <a:off x="1257840" y="4815360"/>
                          <a:ext cx="18360" cy="24480"/>
                        </a:xfrm>
                        <a:prstGeom prst="ellipse">
                          <a:avLst/>
                        </a:prstGeom>
                        <a:solidFill>
                          <a:srgbClr val="8080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520" bIns="-295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225" name=""/>
                        <p:cNvSpPr/>
                        <p:nvPr/>
                      </p:nvSpPr>
                      <p:spPr>
                        <a:xfrm>
                          <a:off x="1260000" y="4819680"/>
                          <a:ext cx="11160" cy="13680"/>
                        </a:xfrm>
                        <a:prstGeom prst="ellipse">
                          <a:avLst/>
                        </a:prstGeom>
                        <a:solidFill>
                          <a:srgbClr val="40004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6720" bIns="-367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6226" name=""/>
              <p:cNvGrpSpPr/>
              <p:nvPr/>
            </p:nvGrpSpPr>
            <p:grpSpPr>
              <a:xfrm>
                <a:off x="1086120" y="4406760"/>
                <a:ext cx="340560" cy="318960"/>
                <a:chOff x="1086120" y="4406760"/>
                <a:chExt cx="340560" cy="318960"/>
              </a:xfrm>
            </p:grpSpPr>
            <p:grpSp>
              <p:nvGrpSpPr>
                <p:cNvPr id="6227" name=""/>
                <p:cNvGrpSpPr/>
                <p:nvPr/>
              </p:nvGrpSpPr>
              <p:grpSpPr>
                <a:xfrm>
                  <a:off x="1086120" y="4406760"/>
                  <a:ext cx="257040" cy="281880"/>
                  <a:chOff x="1086120" y="4406760"/>
                  <a:chExt cx="257040" cy="281880"/>
                </a:xfrm>
              </p:grpSpPr>
              <p:grpSp>
                <p:nvGrpSpPr>
                  <p:cNvPr id="6228" name=""/>
                  <p:cNvGrpSpPr/>
                  <p:nvPr/>
                </p:nvGrpSpPr>
                <p:grpSpPr>
                  <a:xfrm>
                    <a:off x="1086120" y="4461840"/>
                    <a:ext cx="257040" cy="81720"/>
                    <a:chOff x="1086120" y="4461840"/>
                    <a:chExt cx="257040" cy="81720"/>
                  </a:xfrm>
                </p:grpSpPr>
                <p:grpSp>
                  <p:nvGrpSpPr>
                    <p:cNvPr id="6229" name=""/>
                    <p:cNvGrpSpPr/>
                    <p:nvPr/>
                  </p:nvGrpSpPr>
                  <p:grpSpPr>
                    <a:xfrm>
                      <a:off x="1089720" y="4461840"/>
                      <a:ext cx="253440" cy="81720"/>
                      <a:chOff x="1089720" y="4461840"/>
                      <a:chExt cx="253440" cy="81720"/>
                    </a:xfrm>
                  </p:grpSpPr>
                  <p:sp>
                    <p:nvSpPr>
                      <p:cNvPr id="6230" name=""/>
                      <p:cNvSpPr/>
                      <p:nvPr/>
                    </p:nvSpPr>
                    <p:spPr>
                      <a:xfrm>
                        <a:off x="1089720" y="4461840"/>
                        <a:ext cx="252360" cy="81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20" h="265">
                            <a:moveTo>
                              <a:pt x="1020" y="106"/>
                            </a:moveTo>
                            <a:lnTo>
                              <a:pt x="970" y="100"/>
                            </a:lnTo>
                            <a:lnTo>
                              <a:pt x="913" y="94"/>
                            </a:lnTo>
                            <a:lnTo>
                              <a:pt x="851" y="82"/>
                            </a:lnTo>
                            <a:lnTo>
                              <a:pt x="781" y="69"/>
                            </a:lnTo>
                            <a:lnTo>
                              <a:pt x="712" y="55"/>
                            </a:lnTo>
                            <a:lnTo>
                              <a:pt x="650" y="42"/>
                            </a:lnTo>
                            <a:lnTo>
                              <a:pt x="596" y="33"/>
                            </a:lnTo>
                            <a:lnTo>
                              <a:pt x="538" y="24"/>
                            </a:lnTo>
                            <a:lnTo>
                              <a:pt x="470" y="15"/>
                            </a:lnTo>
                            <a:lnTo>
                              <a:pt x="419" y="5"/>
                            </a:lnTo>
                            <a:lnTo>
                              <a:pt x="367" y="0"/>
                            </a:lnTo>
                            <a:lnTo>
                              <a:pt x="320" y="2"/>
                            </a:lnTo>
                            <a:lnTo>
                              <a:pt x="275" y="8"/>
                            </a:lnTo>
                            <a:lnTo>
                              <a:pt x="214" y="19"/>
                            </a:lnTo>
                            <a:lnTo>
                              <a:pt x="165" y="31"/>
                            </a:lnTo>
                            <a:lnTo>
                              <a:pt x="134" y="41"/>
                            </a:lnTo>
                            <a:lnTo>
                              <a:pt x="99" y="58"/>
                            </a:lnTo>
                            <a:lnTo>
                              <a:pt x="62" y="75"/>
                            </a:lnTo>
                            <a:lnTo>
                              <a:pt x="29" y="94"/>
                            </a:lnTo>
                            <a:lnTo>
                              <a:pt x="0" y="113"/>
                            </a:lnTo>
                            <a:lnTo>
                              <a:pt x="68" y="265"/>
                            </a:lnTo>
                            <a:lnTo>
                              <a:pt x="107" y="250"/>
                            </a:lnTo>
                            <a:lnTo>
                              <a:pt x="141" y="237"/>
                            </a:lnTo>
                            <a:lnTo>
                              <a:pt x="174" y="226"/>
                            </a:lnTo>
                            <a:lnTo>
                              <a:pt x="208" y="217"/>
                            </a:lnTo>
                            <a:lnTo>
                              <a:pt x="248" y="204"/>
                            </a:lnTo>
                            <a:lnTo>
                              <a:pt x="283" y="198"/>
                            </a:lnTo>
                            <a:lnTo>
                              <a:pt x="335" y="193"/>
                            </a:lnTo>
                            <a:lnTo>
                              <a:pt x="404" y="192"/>
                            </a:lnTo>
                            <a:lnTo>
                              <a:pt x="464" y="195"/>
                            </a:lnTo>
                            <a:lnTo>
                              <a:pt x="529" y="195"/>
                            </a:lnTo>
                            <a:lnTo>
                              <a:pt x="578" y="198"/>
                            </a:lnTo>
                            <a:lnTo>
                              <a:pt x="629" y="206"/>
                            </a:lnTo>
                            <a:lnTo>
                              <a:pt x="1020" y="106"/>
                            </a:lnTo>
                            <a:close/>
                          </a:path>
                        </a:pathLst>
                      </a:custGeom>
                      <a:solidFill>
                        <a:srgbClr val="60006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4920" bIns="349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6231" name=""/>
                      <p:cNvGrpSpPr/>
                      <p:nvPr/>
                    </p:nvGrpSpPr>
                    <p:grpSpPr>
                      <a:xfrm>
                        <a:off x="1106640" y="4472640"/>
                        <a:ext cx="236520" cy="70200"/>
                        <a:chOff x="1106640" y="4472640"/>
                        <a:chExt cx="236520" cy="70200"/>
                      </a:xfrm>
                    </p:grpSpPr>
                    <p:grpSp>
                      <p:nvGrpSpPr>
                        <p:cNvPr id="6232" name=""/>
                        <p:cNvGrpSpPr/>
                        <p:nvPr/>
                      </p:nvGrpSpPr>
                      <p:grpSpPr>
                        <a:xfrm>
                          <a:off x="1106640" y="4493880"/>
                          <a:ext cx="236520" cy="48960"/>
                          <a:chOff x="1106640" y="4493880"/>
                          <a:chExt cx="236520" cy="48960"/>
                        </a:xfrm>
                      </p:grpSpPr>
                      <p:sp>
                        <p:nvSpPr>
                          <p:cNvPr id="6233" name=""/>
                          <p:cNvSpPr/>
                          <p:nvPr/>
                        </p:nvSpPr>
                        <p:spPr>
                          <a:xfrm>
                            <a:off x="1106640" y="4494960"/>
                            <a:ext cx="236520" cy="410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956" h="134">
                                <a:moveTo>
                                  <a:pt x="956" y="0"/>
                                </a:moveTo>
                                <a:lnTo>
                                  <a:pt x="597" y="47"/>
                                </a:lnTo>
                                <a:lnTo>
                                  <a:pt x="535" y="39"/>
                                </a:lnTo>
                                <a:lnTo>
                                  <a:pt x="480" y="35"/>
                                </a:lnTo>
                                <a:lnTo>
                                  <a:pt x="428" y="34"/>
                                </a:lnTo>
                                <a:lnTo>
                                  <a:pt x="374" y="31"/>
                                </a:lnTo>
                                <a:lnTo>
                                  <a:pt x="325" y="33"/>
                                </a:lnTo>
                                <a:lnTo>
                                  <a:pt x="281" y="35"/>
                                </a:lnTo>
                                <a:lnTo>
                                  <a:pt x="242" y="36"/>
                                </a:lnTo>
                                <a:lnTo>
                                  <a:pt x="193" y="42"/>
                                </a:lnTo>
                                <a:lnTo>
                                  <a:pt x="153" y="51"/>
                                </a:lnTo>
                                <a:lnTo>
                                  <a:pt x="114" y="63"/>
                                </a:lnTo>
                                <a:lnTo>
                                  <a:pt x="79" y="75"/>
                                </a:lnTo>
                                <a:lnTo>
                                  <a:pt x="52" y="85"/>
                                </a:lnTo>
                                <a:lnTo>
                                  <a:pt x="23" y="100"/>
                                </a:lnTo>
                                <a:lnTo>
                                  <a:pt x="0" y="118"/>
                                </a:lnTo>
                                <a:lnTo>
                                  <a:pt x="5" y="134"/>
                                </a:lnTo>
                                <a:lnTo>
                                  <a:pt x="43" y="120"/>
                                </a:lnTo>
                                <a:lnTo>
                                  <a:pt x="77" y="107"/>
                                </a:lnTo>
                                <a:lnTo>
                                  <a:pt x="110" y="96"/>
                                </a:lnTo>
                                <a:lnTo>
                                  <a:pt x="144" y="87"/>
                                </a:lnTo>
                                <a:lnTo>
                                  <a:pt x="185" y="75"/>
                                </a:lnTo>
                                <a:lnTo>
                                  <a:pt x="220" y="68"/>
                                </a:lnTo>
                                <a:lnTo>
                                  <a:pt x="271" y="63"/>
                                </a:lnTo>
                                <a:lnTo>
                                  <a:pt x="340" y="62"/>
                                </a:lnTo>
                                <a:lnTo>
                                  <a:pt x="400" y="65"/>
                                </a:lnTo>
                                <a:lnTo>
                                  <a:pt x="465" y="65"/>
                                </a:lnTo>
                                <a:lnTo>
                                  <a:pt x="514" y="68"/>
                                </a:lnTo>
                                <a:lnTo>
                                  <a:pt x="565" y="77"/>
                                </a:lnTo>
                                <a:lnTo>
                                  <a:pt x="956" y="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80008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5760" bIns="-57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6234" name=""/>
                          <p:cNvSpPr/>
                          <p:nvPr/>
                        </p:nvSpPr>
                        <p:spPr>
                          <a:xfrm>
                            <a:off x="1106640" y="4493880"/>
                            <a:ext cx="236520" cy="4896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956" h="158">
                                <a:moveTo>
                                  <a:pt x="956" y="0"/>
                                </a:moveTo>
                                <a:lnTo>
                                  <a:pt x="597" y="71"/>
                                </a:lnTo>
                                <a:lnTo>
                                  <a:pt x="535" y="62"/>
                                </a:lnTo>
                                <a:lnTo>
                                  <a:pt x="480" y="58"/>
                                </a:lnTo>
                                <a:lnTo>
                                  <a:pt x="428" y="56"/>
                                </a:lnTo>
                                <a:lnTo>
                                  <a:pt x="374" y="53"/>
                                </a:lnTo>
                                <a:lnTo>
                                  <a:pt x="325" y="55"/>
                                </a:lnTo>
                                <a:lnTo>
                                  <a:pt x="281" y="58"/>
                                </a:lnTo>
                                <a:lnTo>
                                  <a:pt x="242" y="59"/>
                                </a:lnTo>
                                <a:lnTo>
                                  <a:pt x="193" y="66"/>
                                </a:lnTo>
                                <a:lnTo>
                                  <a:pt x="153" y="75"/>
                                </a:lnTo>
                                <a:lnTo>
                                  <a:pt x="114" y="86"/>
                                </a:lnTo>
                                <a:lnTo>
                                  <a:pt x="79" y="98"/>
                                </a:lnTo>
                                <a:lnTo>
                                  <a:pt x="52" y="109"/>
                                </a:lnTo>
                                <a:lnTo>
                                  <a:pt x="23" y="123"/>
                                </a:lnTo>
                                <a:lnTo>
                                  <a:pt x="0" y="141"/>
                                </a:lnTo>
                                <a:lnTo>
                                  <a:pt x="5" y="158"/>
                                </a:lnTo>
                                <a:lnTo>
                                  <a:pt x="43" y="144"/>
                                </a:lnTo>
                                <a:lnTo>
                                  <a:pt x="77" y="130"/>
                                </a:lnTo>
                                <a:lnTo>
                                  <a:pt x="110" y="119"/>
                                </a:lnTo>
                                <a:lnTo>
                                  <a:pt x="144" y="111"/>
                                </a:lnTo>
                                <a:lnTo>
                                  <a:pt x="185" y="98"/>
                                </a:lnTo>
                                <a:lnTo>
                                  <a:pt x="220" y="91"/>
                                </a:lnTo>
                                <a:lnTo>
                                  <a:pt x="271" y="86"/>
                                </a:lnTo>
                                <a:lnTo>
                                  <a:pt x="340" y="85"/>
                                </a:lnTo>
                                <a:lnTo>
                                  <a:pt x="400" y="88"/>
                                </a:lnTo>
                                <a:lnTo>
                                  <a:pt x="465" y="88"/>
                                </a:lnTo>
                                <a:lnTo>
                                  <a:pt x="514" y="91"/>
                                </a:lnTo>
                                <a:lnTo>
                                  <a:pt x="565" y="100"/>
                                </a:lnTo>
                                <a:lnTo>
                                  <a:pt x="956" y="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40004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2160" bIns="21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6235" name=""/>
                        <p:cNvSpPr/>
                        <p:nvPr/>
                      </p:nvSpPr>
                      <p:spPr>
                        <a:xfrm>
                          <a:off x="1110240" y="4472640"/>
                          <a:ext cx="169200" cy="244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687" h="78">
                              <a:moveTo>
                                <a:pt x="0" y="78"/>
                              </a:moveTo>
                              <a:lnTo>
                                <a:pt x="32" y="62"/>
                              </a:lnTo>
                              <a:lnTo>
                                <a:pt x="65" y="47"/>
                              </a:lnTo>
                              <a:lnTo>
                                <a:pt x="111" y="34"/>
                              </a:lnTo>
                              <a:lnTo>
                                <a:pt x="161" y="20"/>
                              </a:lnTo>
                              <a:lnTo>
                                <a:pt x="212" y="10"/>
                              </a:lnTo>
                              <a:lnTo>
                                <a:pt x="256" y="4"/>
                              </a:lnTo>
                              <a:lnTo>
                                <a:pt x="318" y="0"/>
                              </a:lnTo>
                              <a:lnTo>
                                <a:pt x="357" y="0"/>
                              </a:lnTo>
                              <a:lnTo>
                                <a:pt x="414" y="3"/>
                              </a:lnTo>
                              <a:lnTo>
                                <a:pt x="469" y="10"/>
                              </a:lnTo>
                              <a:lnTo>
                                <a:pt x="509" y="17"/>
                              </a:lnTo>
                              <a:lnTo>
                                <a:pt x="556" y="26"/>
                              </a:lnTo>
                              <a:lnTo>
                                <a:pt x="601" y="38"/>
                              </a:lnTo>
                              <a:lnTo>
                                <a:pt x="642" y="50"/>
                              </a:lnTo>
                              <a:lnTo>
                                <a:pt x="687" y="68"/>
                              </a:lnTo>
                            </a:path>
                          </a:pathLst>
                        </a:custGeom>
                        <a:noFill/>
                        <a:ln w="4680">
                          <a:solidFill>
                            <a:srgbClr val="e000e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2320" bIns="-223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6236" name=""/>
                    <p:cNvGrpSpPr/>
                    <p:nvPr/>
                  </p:nvGrpSpPr>
                  <p:grpSpPr>
                    <a:xfrm>
                      <a:off x="1086120" y="4494240"/>
                      <a:ext cx="25920" cy="48960"/>
                      <a:chOff x="1086120" y="4494240"/>
                      <a:chExt cx="25920" cy="48960"/>
                    </a:xfrm>
                  </p:grpSpPr>
                  <p:sp>
                    <p:nvSpPr>
                      <p:cNvPr id="6237" name=""/>
                      <p:cNvSpPr/>
                      <p:nvPr/>
                    </p:nvSpPr>
                    <p:spPr>
                      <a:xfrm>
                        <a:off x="1086120" y="4494240"/>
                        <a:ext cx="25920" cy="489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6" h="160">
                            <a:moveTo>
                              <a:pt x="24" y="3"/>
                            </a:moveTo>
                            <a:lnTo>
                              <a:pt x="15" y="10"/>
                            </a:lnTo>
                            <a:lnTo>
                              <a:pt x="8" y="18"/>
                            </a:lnTo>
                            <a:lnTo>
                              <a:pt x="3" y="30"/>
                            </a:lnTo>
                            <a:lnTo>
                              <a:pt x="0" y="43"/>
                            </a:lnTo>
                            <a:lnTo>
                              <a:pt x="0" y="59"/>
                            </a:lnTo>
                            <a:lnTo>
                              <a:pt x="1" y="77"/>
                            </a:lnTo>
                            <a:lnTo>
                              <a:pt x="5" y="91"/>
                            </a:lnTo>
                            <a:lnTo>
                              <a:pt x="10" y="104"/>
                            </a:lnTo>
                            <a:lnTo>
                              <a:pt x="15" y="114"/>
                            </a:lnTo>
                            <a:lnTo>
                              <a:pt x="22" y="127"/>
                            </a:lnTo>
                            <a:lnTo>
                              <a:pt x="32" y="138"/>
                            </a:lnTo>
                            <a:lnTo>
                              <a:pt x="42" y="149"/>
                            </a:lnTo>
                            <a:lnTo>
                              <a:pt x="51" y="155"/>
                            </a:lnTo>
                            <a:lnTo>
                              <a:pt x="60" y="159"/>
                            </a:lnTo>
                            <a:lnTo>
                              <a:pt x="70" y="160"/>
                            </a:lnTo>
                            <a:lnTo>
                              <a:pt x="78" y="160"/>
                            </a:lnTo>
                            <a:lnTo>
                              <a:pt x="89" y="156"/>
                            </a:lnTo>
                            <a:lnTo>
                              <a:pt x="96" y="145"/>
                            </a:lnTo>
                            <a:lnTo>
                              <a:pt x="101" y="133"/>
                            </a:lnTo>
                            <a:lnTo>
                              <a:pt x="105" y="116"/>
                            </a:lnTo>
                            <a:lnTo>
                              <a:pt x="106" y="101"/>
                            </a:lnTo>
                            <a:lnTo>
                              <a:pt x="106" y="83"/>
                            </a:lnTo>
                            <a:lnTo>
                              <a:pt x="103" y="68"/>
                            </a:lnTo>
                            <a:lnTo>
                              <a:pt x="99" y="53"/>
                            </a:lnTo>
                            <a:lnTo>
                              <a:pt x="94" y="42"/>
                            </a:lnTo>
                            <a:lnTo>
                              <a:pt x="88" y="32"/>
                            </a:lnTo>
                            <a:lnTo>
                              <a:pt x="78" y="22"/>
                            </a:lnTo>
                            <a:lnTo>
                              <a:pt x="68" y="13"/>
                            </a:lnTo>
                            <a:lnTo>
                              <a:pt x="56" y="5"/>
                            </a:lnTo>
                            <a:lnTo>
                              <a:pt x="46" y="1"/>
                            </a:lnTo>
                            <a:lnTo>
                              <a:pt x="35" y="0"/>
                            </a:lnTo>
                            <a:lnTo>
                              <a:pt x="24" y="3"/>
                            </a:lnTo>
                            <a:close/>
                          </a:path>
                        </a:pathLst>
                      </a:custGeom>
                      <a:solidFill>
                        <a:srgbClr val="800080"/>
                      </a:solidFill>
                      <a:ln w="3240">
                        <a:solidFill>
                          <a:srgbClr val="40004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160" bIns="21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238" name=""/>
                      <p:cNvSpPr/>
                      <p:nvPr/>
                    </p:nvSpPr>
                    <p:spPr>
                      <a:xfrm>
                        <a:off x="1090800" y="4501800"/>
                        <a:ext cx="17280" cy="32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1" h="108">
                            <a:moveTo>
                              <a:pt x="16" y="3"/>
                            </a:moveTo>
                            <a:lnTo>
                              <a:pt x="10" y="7"/>
                            </a:lnTo>
                            <a:lnTo>
                              <a:pt x="5" y="13"/>
                            </a:lnTo>
                            <a:lnTo>
                              <a:pt x="2" y="20"/>
                            </a:lnTo>
                            <a:lnTo>
                              <a:pt x="0" y="29"/>
                            </a:lnTo>
                            <a:lnTo>
                              <a:pt x="0" y="40"/>
                            </a:lnTo>
                            <a:lnTo>
                              <a:pt x="0" y="52"/>
                            </a:lnTo>
                            <a:lnTo>
                              <a:pt x="3" y="62"/>
                            </a:lnTo>
                            <a:lnTo>
                              <a:pt x="6" y="71"/>
                            </a:lnTo>
                            <a:lnTo>
                              <a:pt x="10" y="77"/>
                            </a:lnTo>
                            <a:lnTo>
                              <a:pt x="14" y="87"/>
                            </a:lnTo>
                            <a:lnTo>
                              <a:pt x="21" y="94"/>
                            </a:lnTo>
                            <a:lnTo>
                              <a:pt x="28" y="101"/>
                            </a:lnTo>
                            <a:lnTo>
                              <a:pt x="34" y="105"/>
                            </a:lnTo>
                            <a:lnTo>
                              <a:pt x="40" y="108"/>
                            </a:lnTo>
                            <a:lnTo>
                              <a:pt x="47" y="108"/>
                            </a:lnTo>
                            <a:lnTo>
                              <a:pt x="52" y="108"/>
                            </a:lnTo>
                            <a:lnTo>
                              <a:pt x="59" y="106"/>
                            </a:lnTo>
                            <a:lnTo>
                              <a:pt x="64" y="99"/>
                            </a:lnTo>
                            <a:lnTo>
                              <a:pt x="67" y="91"/>
                            </a:lnTo>
                            <a:lnTo>
                              <a:pt x="71" y="78"/>
                            </a:lnTo>
                            <a:lnTo>
                              <a:pt x="71" y="69"/>
                            </a:lnTo>
                            <a:lnTo>
                              <a:pt x="71" y="57"/>
                            </a:lnTo>
                            <a:lnTo>
                              <a:pt x="68" y="46"/>
                            </a:lnTo>
                            <a:lnTo>
                              <a:pt x="66" y="36"/>
                            </a:lnTo>
                            <a:lnTo>
                              <a:pt x="62" y="28"/>
                            </a:lnTo>
                            <a:lnTo>
                              <a:pt x="58" y="22"/>
                            </a:lnTo>
                            <a:lnTo>
                              <a:pt x="52" y="15"/>
                            </a:lnTo>
                            <a:lnTo>
                              <a:pt x="46" y="9"/>
                            </a:lnTo>
                            <a:lnTo>
                              <a:pt x="38" y="4"/>
                            </a:lnTo>
                            <a:lnTo>
                              <a:pt x="31" y="0"/>
                            </a:lnTo>
                            <a:lnTo>
                              <a:pt x="23" y="0"/>
                            </a:lnTo>
                            <a:lnTo>
                              <a:pt x="16" y="3"/>
                            </a:lnTo>
                            <a:close/>
                          </a:path>
                        </a:pathLst>
                      </a:custGeom>
                      <a:solidFill>
                        <a:srgbClr val="600060"/>
                      </a:solidFill>
                      <a:ln w="3240">
                        <a:solidFill>
                          <a:srgbClr val="40004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4760" bIns="-147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6239" name=""/>
                  <p:cNvGrpSpPr/>
                  <p:nvPr/>
                </p:nvGrpSpPr>
                <p:grpSpPr>
                  <a:xfrm>
                    <a:off x="1160280" y="4406760"/>
                    <a:ext cx="138600" cy="281880"/>
                    <a:chOff x="1160280" y="4406760"/>
                    <a:chExt cx="138600" cy="281880"/>
                  </a:xfrm>
                </p:grpSpPr>
                <p:grpSp>
                  <p:nvGrpSpPr>
                    <p:cNvPr id="6240" name=""/>
                    <p:cNvGrpSpPr/>
                    <p:nvPr/>
                  </p:nvGrpSpPr>
                  <p:grpSpPr>
                    <a:xfrm>
                      <a:off x="1160280" y="4406760"/>
                      <a:ext cx="138600" cy="275760"/>
                      <a:chOff x="1160280" y="4406760"/>
                      <a:chExt cx="138600" cy="275760"/>
                    </a:xfrm>
                  </p:grpSpPr>
                  <p:sp>
                    <p:nvSpPr>
                      <p:cNvPr id="6241" name=""/>
                      <p:cNvSpPr/>
                      <p:nvPr/>
                    </p:nvSpPr>
                    <p:spPr>
                      <a:xfrm>
                        <a:off x="1160280" y="4406760"/>
                        <a:ext cx="138600" cy="275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62" h="898">
                            <a:moveTo>
                              <a:pt x="0" y="500"/>
                            </a:moveTo>
                            <a:lnTo>
                              <a:pt x="3" y="451"/>
                            </a:lnTo>
                            <a:lnTo>
                              <a:pt x="13" y="398"/>
                            </a:lnTo>
                            <a:lnTo>
                              <a:pt x="25" y="352"/>
                            </a:lnTo>
                            <a:lnTo>
                              <a:pt x="38" y="305"/>
                            </a:lnTo>
                            <a:lnTo>
                              <a:pt x="53" y="267"/>
                            </a:lnTo>
                            <a:lnTo>
                              <a:pt x="74" y="230"/>
                            </a:lnTo>
                            <a:lnTo>
                              <a:pt x="98" y="199"/>
                            </a:lnTo>
                            <a:lnTo>
                              <a:pt x="127" y="167"/>
                            </a:lnTo>
                            <a:lnTo>
                              <a:pt x="162" y="134"/>
                            </a:lnTo>
                            <a:lnTo>
                              <a:pt x="202" y="103"/>
                            </a:lnTo>
                            <a:lnTo>
                              <a:pt x="245" y="74"/>
                            </a:lnTo>
                            <a:lnTo>
                              <a:pt x="287" y="49"/>
                            </a:lnTo>
                            <a:lnTo>
                              <a:pt x="334" y="29"/>
                            </a:lnTo>
                            <a:lnTo>
                              <a:pt x="376" y="15"/>
                            </a:lnTo>
                            <a:lnTo>
                              <a:pt x="416" y="5"/>
                            </a:lnTo>
                            <a:lnTo>
                              <a:pt x="448" y="0"/>
                            </a:lnTo>
                            <a:lnTo>
                              <a:pt x="463" y="3"/>
                            </a:lnTo>
                            <a:lnTo>
                              <a:pt x="481" y="11"/>
                            </a:lnTo>
                            <a:lnTo>
                              <a:pt x="503" y="24"/>
                            </a:lnTo>
                            <a:lnTo>
                              <a:pt x="527" y="43"/>
                            </a:lnTo>
                            <a:lnTo>
                              <a:pt x="540" y="61"/>
                            </a:lnTo>
                            <a:lnTo>
                              <a:pt x="551" y="82"/>
                            </a:lnTo>
                            <a:lnTo>
                              <a:pt x="559" y="104"/>
                            </a:lnTo>
                            <a:lnTo>
                              <a:pt x="562" y="137"/>
                            </a:lnTo>
                            <a:lnTo>
                              <a:pt x="559" y="167"/>
                            </a:lnTo>
                            <a:lnTo>
                              <a:pt x="551" y="186"/>
                            </a:lnTo>
                            <a:lnTo>
                              <a:pt x="540" y="199"/>
                            </a:lnTo>
                            <a:lnTo>
                              <a:pt x="524" y="208"/>
                            </a:lnTo>
                            <a:lnTo>
                              <a:pt x="496" y="219"/>
                            </a:lnTo>
                            <a:lnTo>
                              <a:pt x="467" y="230"/>
                            </a:lnTo>
                            <a:lnTo>
                              <a:pt x="437" y="244"/>
                            </a:lnTo>
                            <a:lnTo>
                              <a:pt x="401" y="265"/>
                            </a:lnTo>
                            <a:lnTo>
                              <a:pt x="364" y="295"/>
                            </a:lnTo>
                            <a:lnTo>
                              <a:pt x="342" y="320"/>
                            </a:lnTo>
                            <a:lnTo>
                              <a:pt x="323" y="347"/>
                            </a:lnTo>
                            <a:lnTo>
                              <a:pt x="309" y="378"/>
                            </a:lnTo>
                            <a:lnTo>
                              <a:pt x="299" y="413"/>
                            </a:lnTo>
                            <a:lnTo>
                              <a:pt x="297" y="448"/>
                            </a:lnTo>
                            <a:lnTo>
                              <a:pt x="305" y="488"/>
                            </a:lnTo>
                            <a:lnTo>
                              <a:pt x="314" y="525"/>
                            </a:lnTo>
                            <a:lnTo>
                              <a:pt x="326" y="556"/>
                            </a:lnTo>
                            <a:lnTo>
                              <a:pt x="348" y="592"/>
                            </a:lnTo>
                            <a:lnTo>
                              <a:pt x="376" y="633"/>
                            </a:lnTo>
                            <a:lnTo>
                              <a:pt x="406" y="668"/>
                            </a:lnTo>
                            <a:lnTo>
                              <a:pt x="427" y="698"/>
                            </a:lnTo>
                            <a:lnTo>
                              <a:pt x="439" y="729"/>
                            </a:lnTo>
                            <a:lnTo>
                              <a:pt x="207" y="898"/>
                            </a:lnTo>
                            <a:lnTo>
                              <a:pt x="168" y="866"/>
                            </a:lnTo>
                            <a:lnTo>
                              <a:pt x="138" y="827"/>
                            </a:lnTo>
                            <a:lnTo>
                              <a:pt x="109" y="787"/>
                            </a:lnTo>
                            <a:lnTo>
                              <a:pt x="78" y="738"/>
                            </a:lnTo>
                            <a:lnTo>
                              <a:pt x="50" y="687"/>
                            </a:lnTo>
                            <a:lnTo>
                              <a:pt x="31" y="648"/>
                            </a:lnTo>
                            <a:lnTo>
                              <a:pt x="16" y="602"/>
                            </a:lnTo>
                            <a:lnTo>
                              <a:pt x="4" y="549"/>
                            </a:lnTo>
                            <a:lnTo>
                              <a:pt x="0" y="500"/>
                            </a:lnTo>
                            <a:close/>
                          </a:path>
                        </a:pathLst>
                      </a:custGeom>
                      <a:solidFill>
                        <a:srgbClr val="80008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6242" name=""/>
                      <p:cNvGrpSpPr/>
                      <p:nvPr/>
                    </p:nvGrpSpPr>
                    <p:grpSpPr>
                      <a:xfrm>
                        <a:off x="1160280" y="4406760"/>
                        <a:ext cx="138600" cy="275760"/>
                        <a:chOff x="1160280" y="4406760"/>
                        <a:chExt cx="138600" cy="275760"/>
                      </a:xfrm>
                    </p:grpSpPr>
                    <p:sp>
                      <p:nvSpPr>
                        <p:cNvPr id="6243" name=""/>
                        <p:cNvSpPr/>
                        <p:nvPr/>
                      </p:nvSpPr>
                      <p:spPr>
                        <a:xfrm>
                          <a:off x="1184760" y="4426560"/>
                          <a:ext cx="102600" cy="2156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17" h="703">
                              <a:moveTo>
                                <a:pt x="124" y="703"/>
                              </a:moveTo>
                              <a:lnTo>
                                <a:pt x="97" y="668"/>
                              </a:lnTo>
                              <a:lnTo>
                                <a:pt x="75" y="637"/>
                              </a:lnTo>
                              <a:lnTo>
                                <a:pt x="58" y="606"/>
                              </a:lnTo>
                              <a:lnTo>
                                <a:pt x="43" y="573"/>
                              </a:lnTo>
                              <a:lnTo>
                                <a:pt x="32" y="540"/>
                              </a:lnTo>
                              <a:lnTo>
                                <a:pt x="23" y="508"/>
                              </a:lnTo>
                              <a:lnTo>
                                <a:pt x="15" y="480"/>
                              </a:lnTo>
                              <a:lnTo>
                                <a:pt x="9" y="452"/>
                              </a:lnTo>
                              <a:lnTo>
                                <a:pt x="5" y="421"/>
                              </a:lnTo>
                              <a:lnTo>
                                <a:pt x="2" y="398"/>
                              </a:lnTo>
                              <a:lnTo>
                                <a:pt x="0" y="378"/>
                              </a:lnTo>
                              <a:lnTo>
                                <a:pt x="2" y="358"/>
                              </a:lnTo>
                              <a:lnTo>
                                <a:pt x="10" y="329"/>
                              </a:lnTo>
                              <a:lnTo>
                                <a:pt x="18" y="299"/>
                              </a:lnTo>
                              <a:lnTo>
                                <a:pt x="29" y="269"/>
                              </a:lnTo>
                              <a:lnTo>
                                <a:pt x="42" y="242"/>
                              </a:lnTo>
                              <a:lnTo>
                                <a:pt x="55" y="217"/>
                              </a:lnTo>
                              <a:lnTo>
                                <a:pt x="71" y="191"/>
                              </a:lnTo>
                              <a:lnTo>
                                <a:pt x="88" y="168"/>
                              </a:lnTo>
                              <a:lnTo>
                                <a:pt x="106" y="148"/>
                              </a:lnTo>
                              <a:lnTo>
                                <a:pt x="124" y="132"/>
                              </a:lnTo>
                              <a:lnTo>
                                <a:pt x="156" y="108"/>
                              </a:lnTo>
                              <a:lnTo>
                                <a:pt x="184" y="91"/>
                              </a:lnTo>
                              <a:lnTo>
                                <a:pt x="219" y="69"/>
                              </a:lnTo>
                              <a:lnTo>
                                <a:pt x="255" y="51"/>
                              </a:lnTo>
                              <a:lnTo>
                                <a:pt x="301" y="31"/>
                              </a:lnTo>
                              <a:lnTo>
                                <a:pt x="342" y="19"/>
                              </a:lnTo>
                              <a:lnTo>
                                <a:pt x="382" y="9"/>
                              </a:lnTo>
                              <a:lnTo>
                                <a:pt x="417" y="0"/>
                              </a:lnTo>
                            </a:path>
                          </a:pathLst>
                        </a:custGeom>
                        <a:noFill/>
                        <a:ln w="4680">
                          <a:solidFill>
                            <a:srgbClr val="ff40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244" name=""/>
                        <p:cNvSpPr/>
                        <p:nvPr/>
                      </p:nvSpPr>
                      <p:spPr>
                        <a:xfrm>
                          <a:off x="1211040" y="4449600"/>
                          <a:ext cx="87840" cy="1800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56" h="585">
                              <a:moveTo>
                                <a:pt x="6" y="348"/>
                              </a:moveTo>
                              <a:lnTo>
                                <a:pt x="2" y="319"/>
                              </a:lnTo>
                              <a:lnTo>
                                <a:pt x="0" y="288"/>
                              </a:lnTo>
                              <a:lnTo>
                                <a:pt x="2" y="254"/>
                              </a:lnTo>
                              <a:lnTo>
                                <a:pt x="6" y="229"/>
                              </a:lnTo>
                              <a:lnTo>
                                <a:pt x="13" y="204"/>
                              </a:lnTo>
                              <a:lnTo>
                                <a:pt x="24" y="174"/>
                              </a:lnTo>
                              <a:lnTo>
                                <a:pt x="43" y="146"/>
                              </a:lnTo>
                              <a:lnTo>
                                <a:pt x="60" y="123"/>
                              </a:lnTo>
                              <a:lnTo>
                                <a:pt x="78" y="108"/>
                              </a:lnTo>
                              <a:lnTo>
                                <a:pt x="98" y="89"/>
                              </a:lnTo>
                              <a:lnTo>
                                <a:pt x="119" y="73"/>
                              </a:lnTo>
                              <a:lnTo>
                                <a:pt x="145" y="58"/>
                              </a:lnTo>
                              <a:lnTo>
                                <a:pt x="172" y="42"/>
                              </a:lnTo>
                              <a:lnTo>
                                <a:pt x="196" y="31"/>
                              </a:lnTo>
                              <a:lnTo>
                                <a:pt x="221" y="21"/>
                              </a:lnTo>
                              <a:lnTo>
                                <a:pt x="244" y="14"/>
                              </a:lnTo>
                              <a:lnTo>
                                <a:pt x="268" y="7"/>
                              </a:lnTo>
                              <a:lnTo>
                                <a:pt x="297" y="2"/>
                              </a:lnTo>
                              <a:lnTo>
                                <a:pt x="324" y="1"/>
                              </a:lnTo>
                              <a:lnTo>
                                <a:pt x="342" y="0"/>
                              </a:lnTo>
                              <a:lnTo>
                                <a:pt x="356" y="1"/>
                              </a:lnTo>
                              <a:lnTo>
                                <a:pt x="355" y="17"/>
                              </a:lnTo>
                              <a:lnTo>
                                <a:pt x="353" y="30"/>
                              </a:lnTo>
                              <a:lnTo>
                                <a:pt x="339" y="32"/>
                              </a:lnTo>
                              <a:lnTo>
                                <a:pt x="319" y="37"/>
                              </a:lnTo>
                              <a:lnTo>
                                <a:pt x="296" y="44"/>
                              </a:lnTo>
                              <a:lnTo>
                                <a:pt x="270" y="55"/>
                              </a:lnTo>
                              <a:lnTo>
                                <a:pt x="244" y="66"/>
                              </a:lnTo>
                              <a:lnTo>
                                <a:pt x="216" y="78"/>
                              </a:lnTo>
                              <a:lnTo>
                                <a:pt x="187" y="91"/>
                              </a:lnTo>
                              <a:lnTo>
                                <a:pt x="150" y="113"/>
                              </a:lnTo>
                              <a:lnTo>
                                <a:pt x="113" y="143"/>
                              </a:lnTo>
                              <a:lnTo>
                                <a:pt x="91" y="166"/>
                              </a:lnTo>
                              <a:lnTo>
                                <a:pt x="73" y="194"/>
                              </a:lnTo>
                              <a:lnTo>
                                <a:pt x="59" y="225"/>
                              </a:lnTo>
                              <a:lnTo>
                                <a:pt x="49" y="260"/>
                              </a:lnTo>
                              <a:lnTo>
                                <a:pt x="47" y="295"/>
                              </a:lnTo>
                              <a:lnTo>
                                <a:pt x="55" y="335"/>
                              </a:lnTo>
                              <a:lnTo>
                                <a:pt x="64" y="371"/>
                              </a:lnTo>
                              <a:lnTo>
                                <a:pt x="76" y="402"/>
                              </a:lnTo>
                              <a:lnTo>
                                <a:pt x="97" y="438"/>
                              </a:lnTo>
                              <a:lnTo>
                                <a:pt x="125" y="478"/>
                              </a:lnTo>
                              <a:lnTo>
                                <a:pt x="155" y="514"/>
                              </a:lnTo>
                              <a:lnTo>
                                <a:pt x="177" y="545"/>
                              </a:lnTo>
                              <a:lnTo>
                                <a:pt x="198" y="579"/>
                              </a:lnTo>
                              <a:lnTo>
                                <a:pt x="165" y="585"/>
                              </a:lnTo>
                              <a:lnTo>
                                <a:pt x="148" y="570"/>
                              </a:lnTo>
                              <a:lnTo>
                                <a:pt x="130" y="553"/>
                              </a:lnTo>
                              <a:lnTo>
                                <a:pt x="108" y="535"/>
                              </a:lnTo>
                              <a:lnTo>
                                <a:pt x="89" y="513"/>
                              </a:lnTo>
                              <a:lnTo>
                                <a:pt x="67" y="483"/>
                              </a:lnTo>
                              <a:lnTo>
                                <a:pt x="49" y="454"/>
                              </a:lnTo>
                              <a:lnTo>
                                <a:pt x="31" y="424"/>
                              </a:lnTo>
                              <a:lnTo>
                                <a:pt x="19" y="395"/>
                              </a:lnTo>
                              <a:lnTo>
                                <a:pt x="13" y="376"/>
                              </a:lnTo>
                              <a:lnTo>
                                <a:pt x="6" y="348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a000a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245" name=""/>
                        <p:cNvSpPr/>
                        <p:nvPr/>
                      </p:nvSpPr>
                      <p:spPr>
                        <a:xfrm>
                          <a:off x="1221840" y="4457160"/>
                          <a:ext cx="76680" cy="1738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08" h="566">
                              <a:moveTo>
                                <a:pt x="6" y="337"/>
                              </a:moveTo>
                              <a:lnTo>
                                <a:pt x="2" y="308"/>
                              </a:lnTo>
                              <a:lnTo>
                                <a:pt x="0" y="278"/>
                              </a:lnTo>
                              <a:lnTo>
                                <a:pt x="2" y="243"/>
                              </a:lnTo>
                              <a:lnTo>
                                <a:pt x="6" y="218"/>
                              </a:lnTo>
                              <a:lnTo>
                                <a:pt x="13" y="194"/>
                              </a:lnTo>
                              <a:lnTo>
                                <a:pt x="24" y="163"/>
                              </a:lnTo>
                              <a:lnTo>
                                <a:pt x="43" y="135"/>
                              </a:lnTo>
                              <a:lnTo>
                                <a:pt x="60" y="113"/>
                              </a:lnTo>
                              <a:lnTo>
                                <a:pt x="77" y="97"/>
                              </a:lnTo>
                              <a:lnTo>
                                <a:pt x="98" y="79"/>
                              </a:lnTo>
                              <a:lnTo>
                                <a:pt x="119" y="62"/>
                              </a:lnTo>
                              <a:lnTo>
                                <a:pt x="145" y="47"/>
                              </a:lnTo>
                              <a:lnTo>
                                <a:pt x="172" y="32"/>
                              </a:lnTo>
                              <a:lnTo>
                                <a:pt x="196" y="20"/>
                              </a:lnTo>
                              <a:lnTo>
                                <a:pt x="220" y="10"/>
                              </a:lnTo>
                              <a:lnTo>
                                <a:pt x="242" y="4"/>
                              </a:lnTo>
                              <a:lnTo>
                                <a:pt x="267" y="0"/>
                              </a:lnTo>
                              <a:lnTo>
                                <a:pt x="291" y="0"/>
                              </a:lnTo>
                              <a:lnTo>
                                <a:pt x="308" y="3"/>
                              </a:lnTo>
                              <a:lnTo>
                                <a:pt x="300" y="22"/>
                              </a:lnTo>
                              <a:lnTo>
                                <a:pt x="289" y="35"/>
                              </a:lnTo>
                              <a:lnTo>
                                <a:pt x="273" y="44"/>
                              </a:lnTo>
                              <a:lnTo>
                                <a:pt x="245" y="55"/>
                              </a:lnTo>
                              <a:lnTo>
                                <a:pt x="217" y="68"/>
                              </a:lnTo>
                              <a:lnTo>
                                <a:pt x="187" y="81"/>
                              </a:lnTo>
                              <a:lnTo>
                                <a:pt x="150" y="102"/>
                              </a:lnTo>
                              <a:lnTo>
                                <a:pt x="113" y="132"/>
                              </a:lnTo>
                              <a:lnTo>
                                <a:pt x="91" y="156"/>
                              </a:lnTo>
                              <a:lnTo>
                                <a:pt x="73" y="183"/>
                              </a:lnTo>
                              <a:lnTo>
                                <a:pt x="59" y="214"/>
                              </a:lnTo>
                              <a:lnTo>
                                <a:pt x="49" y="249"/>
                              </a:lnTo>
                              <a:lnTo>
                                <a:pt x="47" y="284"/>
                              </a:lnTo>
                              <a:lnTo>
                                <a:pt x="55" y="324"/>
                              </a:lnTo>
                              <a:lnTo>
                                <a:pt x="64" y="361"/>
                              </a:lnTo>
                              <a:lnTo>
                                <a:pt x="77" y="392"/>
                              </a:lnTo>
                              <a:lnTo>
                                <a:pt x="97" y="426"/>
                              </a:lnTo>
                              <a:lnTo>
                                <a:pt x="125" y="468"/>
                              </a:lnTo>
                              <a:lnTo>
                                <a:pt x="155" y="503"/>
                              </a:lnTo>
                              <a:lnTo>
                                <a:pt x="177" y="534"/>
                              </a:lnTo>
                              <a:lnTo>
                                <a:pt x="189" y="565"/>
                              </a:lnTo>
                              <a:lnTo>
                                <a:pt x="159" y="566"/>
                              </a:lnTo>
                              <a:lnTo>
                                <a:pt x="131" y="542"/>
                              </a:lnTo>
                              <a:lnTo>
                                <a:pt x="108" y="524"/>
                              </a:lnTo>
                              <a:lnTo>
                                <a:pt x="88" y="502"/>
                              </a:lnTo>
                              <a:lnTo>
                                <a:pt x="67" y="473"/>
                              </a:lnTo>
                              <a:lnTo>
                                <a:pt x="49" y="443"/>
                              </a:lnTo>
                              <a:lnTo>
                                <a:pt x="32" y="413"/>
                              </a:lnTo>
                              <a:lnTo>
                                <a:pt x="19" y="384"/>
                              </a:lnTo>
                              <a:lnTo>
                                <a:pt x="13" y="365"/>
                              </a:lnTo>
                              <a:lnTo>
                                <a:pt x="6" y="337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0004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246" name=""/>
                        <p:cNvSpPr/>
                        <p:nvPr/>
                      </p:nvSpPr>
                      <p:spPr>
                        <a:xfrm>
                          <a:off x="1160280" y="4406760"/>
                          <a:ext cx="124920" cy="2757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503" h="898">
                              <a:moveTo>
                                <a:pt x="0" y="500"/>
                              </a:moveTo>
                              <a:lnTo>
                                <a:pt x="3" y="451"/>
                              </a:lnTo>
                              <a:lnTo>
                                <a:pt x="13" y="398"/>
                              </a:lnTo>
                              <a:lnTo>
                                <a:pt x="25" y="352"/>
                              </a:lnTo>
                              <a:lnTo>
                                <a:pt x="38" y="305"/>
                              </a:lnTo>
                              <a:lnTo>
                                <a:pt x="53" y="267"/>
                              </a:lnTo>
                              <a:lnTo>
                                <a:pt x="74" y="230"/>
                              </a:lnTo>
                              <a:lnTo>
                                <a:pt x="98" y="199"/>
                              </a:lnTo>
                              <a:lnTo>
                                <a:pt x="126" y="167"/>
                              </a:lnTo>
                              <a:lnTo>
                                <a:pt x="162" y="134"/>
                              </a:lnTo>
                              <a:lnTo>
                                <a:pt x="202" y="103"/>
                              </a:lnTo>
                              <a:lnTo>
                                <a:pt x="245" y="74"/>
                              </a:lnTo>
                              <a:lnTo>
                                <a:pt x="287" y="49"/>
                              </a:lnTo>
                              <a:lnTo>
                                <a:pt x="334" y="29"/>
                              </a:lnTo>
                              <a:lnTo>
                                <a:pt x="376" y="15"/>
                              </a:lnTo>
                              <a:lnTo>
                                <a:pt x="415" y="5"/>
                              </a:lnTo>
                              <a:lnTo>
                                <a:pt x="448" y="0"/>
                              </a:lnTo>
                              <a:lnTo>
                                <a:pt x="463" y="3"/>
                              </a:lnTo>
                              <a:lnTo>
                                <a:pt x="481" y="11"/>
                              </a:lnTo>
                              <a:lnTo>
                                <a:pt x="503" y="24"/>
                              </a:lnTo>
                              <a:lnTo>
                                <a:pt x="480" y="28"/>
                              </a:lnTo>
                              <a:lnTo>
                                <a:pt x="452" y="34"/>
                              </a:lnTo>
                              <a:lnTo>
                                <a:pt x="425" y="40"/>
                              </a:lnTo>
                              <a:lnTo>
                                <a:pt x="394" y="48"/>
                              </a:lnTo>
                              <a:lnTo>
                                <a:pt x="370" y="57"/>
                              </a:lnTo>
                              <a:lnTo>
                                <a:pt x="345" y="68"/>
                              </a:lnTo>
                              <a:lnTo>
                                <a:pt x="319" y="82"/>
                              </a:lnTo>
                              <a:lnTo>
                                <a:pt x="295" y="95"/>
                              </a:lnTo>
                              <a:lnTo>
                                <a:pt x="272" y="108"/>
                              </a:lnTo>
                              <a:lnTo>
                                <a:pt x="248" y="124"/>
                              </a:lnTo>
                              <a:lnTo>
                                <a:pt x="222" y="141"/>
                              </a:lnTo>
                              <a:lnTo>
                                <a:pt x="199" y="158"/>
                              </a:lnTo>
                              <a:lnTo>
                                <a:pt x="177" y="174"/>
                              </a:lnTo>
                              <a:lnTo>
                                <a:pt x="159" y="190"/>
                              </a:lnTo>
                              <a:lnTo>
                                <a:pt x="141" y="210"/>
                              </a:lnTo>
                              <a:lnTo>
                                <a:pt x="127" y="230"/>
                              </a:lnTo>
                              <a:lnTo>
                                <a:pt x="115" y="254"/>
                              </a:lnTo>
                              <a:lnTo>
                                <a:pt x="98" y="282"/>
                              </a:lnTo>
                              <a:lnTo>
                                <a:pt x="84" y="308"/>
                              </a:lnTo>
                              <a:lnTo>
                                <a:pt x="75" y="332"/>
                              </a:lnTo>
                              <a:lnTo>
                                <a:pt x="67" y="354"/>
                              </a:lnTo>
                              <a:lnTo>
                                <a:pt x="61" y="377"/>
                              </a:lnTo>
                              <a:lnTo>
                                <a:pt x="56" y="402"/>
                              </a:lnTo>
                              <a:lnTo>
                                <a:pt x="51" y="426"/>
                              </a:lnTo>
                              <a:lnTo>
                                <a:pt x="48" y="457"/>
                              </a:lnTo>
                              <a:lnTo>
                                <a:pt x="47" y="491"/>
                              </a:lnTo>
                              <a:lnTo>
                                <a:pt x="48" y="519"/>
                              </a:lnTo>
                              <a:lnTo>
                                <a:pt x="51" y="546"/>
                              </a:lnTo>
                              <a:lnTo>
                                <a:pt x="59" y="575"/>
                              </a:lnTo>
                              <a:lnTo>
                                <a:pt x="66" y="602"/>
                              </a:lnTo>
                              <a:lnTo>
                                <a:pt x="76" y="628"/>
                              </a:lnTo>
                              <a:lnTo>
                                <a:pt x="89" y="652"/>
                              </a:lnTo>
                              <a:lnTo>
                                <a:pt x="103" y="676"/>
                              </a:lnTo>
                              <a:lnTo>
                                <a:pt x="118" y="703"/>
                              </a:lnTo>
                              <a:lnTo>
                                <a:pt x="133" y="731"/>
                              </a:lnTo>
                              <a:lnTo>
                                <a:pt x="149" y="759"/>
                              </a:lnTo>
                              <a:lnTo>
                                <a:pt x="166" y="785"/>
                              </a:lnTo>
                              <a:lnTo>
                                <a:pt x="182" y="810"/>
                              </a:lnTo>
                              <a:lnTo>
                                <a:pt x="203" y="839"/>
                              </a:lnTo>
                              <a:lnTo>
                                <a:pt x="224" y="865"/>
                              </a:lnTo>
                              <a:lnTo>
                                <a:pt x="214" y="883"/>
                              </a:lnTo>
                              <a:lnTo>
                                <a:pt x="207" y="898"/>
                              </a:lnTo>
                              <a:lnTo>
                                <a:pt x="188" y="884"/>
                              </a:lnTo>
                              <a:lnTo>
                                <a:pt x="161" y="858"/>
                              </a:lnTo>
                              <a:lnTo>
                                <a:pt x="136" y="827"/>
                              </a:lnTo>
                              <a:lnTo>
                                <a:pt x="109" y="787"/>
                              </a:lnTo>
                              <a:lnTo>
                                <a:pt x="78" y="738"/>
                              </a:lnTo>
                              <a:lnTo>
                                <a:pt x="50" y="687"/>
                              </a:lnTo>
                              <a:lnTo>
                                <a:pt x="31" y="648"/>
                              </a:lnTo>
                              <a:lnTo>
                                <a:pt x="16" y="602"/>
                              </a:lnTo>
                              <a:lnTo>
                                <a:pt x="4" y="549"/>
                              </a:lnTo>
                              <a:lnTo>
                                <a:pt x="0" y="50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e000e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6247" name=""/>
                    <p:cNvGrpSpPr/>
                    <p:nvPr/>
                  </p:nvGrpSpPr>
                  <p:grpSpPr>
                    <a:xfrm>
                      <a:off x="1209600" y="4623840"/>
                      <a:ext cx="60480" cy="64800"/>
                      <a:chOff x="1209600" y="4623840"/>
                      <a:chExt cx="60480" cy="64800"/>
                    </a:xfrm>
                  </p:grpSpPr>
                  <p:sp>
                    <p:nvSpPr>
                      <p:cNvPr id="6248" name=""/>
                      <p:cNvSpPr/>
                      <p:nvPr/>
                    </p:nvSpPr>
                    <p:spPr>
                      <a:xfrm>
                        <a:off x="1209600" y="4623840"/>
                        <a:ext cx="60480" cy="64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44" h="210">
                            <a:moveTo>
                              <a:pt x="238" y="16"/>
                            </a:moveTo>
                            <a:lnTo>
                              <a:pt x="223" y="7"/>
                            </a:lnTo>
                            <a:lnTo>
                              <a:pt x="202" y="1"/>
                            </a:lnTo>
                            <a:lnTo>
                              <a:pt x="183" y="0"/>
                            </a:lnTo>
                            <a:lnTo>
                              <a:pt x="165" y="1"/>
                            </a:lnTo>
                            <a:lnTo>
                              <a:pt x="144" y="7"/>
                            </a:lnTo>
                            <a:lnTo>
                              <a:pt x="122" y="14"/>
                            </a:lnTo>
                            <a:lnTo>
                              <a:pt x="101" y="25"/>
                            </a:lnTo>
                            <a:lnTo>
                              <a:pt x="79" y="37"/>
                            </a:lnTo>
                            <a:lnTo>
                              <a:pt x="57" y="54"/>
                            </a:lnTo>
                            <a:lnTo>
                              <a:pt x="33" y="78"/>
                            </a:lnTo>
                            <a:lnTo>
                              <a:pt x="20" y="101"/>
                            </a:lnTo>
                            <a:lnTo>
                              <a:pt x="11" y="120"/>
                            </a:lnTo>
                            <a:lnTo>
                              <a:pt x="5" y="141"/>
                            </a:lnTo>
                            <a:lnTo>
                              <a:pt x="0" y="162"/>
                            </a:lnTo>
                            <a:lnTo>
                              <a:pt x="3" y="182"/>
                            </a:lnTo>
                            <a:lnTo>
                              <a:pt x="11" y="197"/>
                            </a:lnTo>
                            <a:lnTo>
                              <a:pt x="27" y="203"/>
                            </a:lnTo>
                            <a:lnTo>
                              <a:pt x="45" y="209"/>
                            </a:lnTo>
                            <a:lnTo>
                              <a:pt x="66" y="210"/>
                            </a:lnTo>
                            <a:lnTo>
                              <a:pt x="94" y="206"/>
                            </a:lnTo>
                            <a:lnTo>
                              <a:pt x="122" y="194"/>
                            </a:lnTo>
                            <a:lnTo>
                              <a:pt x="150" y="179"/>
                            </a:lnTo>
                            <a:lnTo>
                              <a:pt x="178" y="156"/>
                            </a:lnTo>
                            <a:lnTo>
                              <a:pt x="201" y="133"/>
                            </a:lnTo>
                            <a:lnTo>
                              <a:pt x="221" y="108"/>
                            </a:lnTo>
                            <a:lnTo>
                              <a:pt x="236" y="83"/>
                            </a:lnTo>
                            <a:lnTo>
                              <a:pt x="242" y="59"/>
                            </a:lnTo>
                            <a:lnTo>
                              <a:pt x="244" y="34"/>
                            </a:lnTo>
                            <a:lnTo>
                              <a:pt x="238" y="16"/>
                            </a:lnTo>
                            <a:close/>
                          </a:path>
                        </a:pathLst>
                      </a:custGeom>
                      <a:solidFill>
                        <a:srgbClr val="a000a0"/>
                      </a:solidFill>
                      <a:ln w="3240">
                        <a:solidFill>
                          <a:srgbClr val="20002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8000" bIns="18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249" name=""/>
                      <p:cNvSpPr/>
                      <p:nvPr/>
                    </p:nvSpPr>
                    <p:spPr>
                      <a:xfrm>
                        <a:off x="1217160" y="4633200"/>
                        <a:ext cx="45360" cy="47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82" h="155">
                            <a:moveTo>
                              <a:pt x="178" y="11"/>
                            </a:moveTo>
                            <a:lnTo>
                              <a:pt x="167" y="4"/>
                            </a:lnTo>
                            <a:lnTo>
                              <a:pt x="152" y="0"/>
                            </a:lnTo>
                            <a:lnTo>
                              <a:pt x="137" y="0"/>
                            </a:lnTo>
                            <a:lnTo>
                              <a:pt x="124" y="0"/>
                            </a:lnTo>
                            <a:lnTo>
                              <a:pt x="108" y="4"/>
                            </a:lnTo>
                            <a:lnTo>
                              <a:pt x="91" y="9"/>
                            </a:lnTo>
                            <a:lnTo>
                              <a:pt x="76" y="18"/>
                            </a:lnTo>
                            <a:lnTo>
                              <a:pt x="60" y="27"/>
                            </a:lnTo>
                            <a:lnTo>
                              <a:pt x="42" y="39"/>
                            </a:lnTo>
                            <a:lnTo>
                              <a:pt x="25" y="57"/>
                            </a:lnTo>
                            <a:lnTo>
                              <a:pt x="15" y="74"/>
                            </a:lnTo>
                            <a:lnTo>
                              <a:pt x="9" y="89"/>
                            </a:lnTo>
                            <a:lnTo>
                              <a:pt x="3" y="104"/>
                            </a:lnTo>
                            <a:lnTo>
                              <a:pt x="0" y="120"/>
                            </a:lnTo>
                            <a:lnTo>
                              <a:pt x="2" y="134"/>
                            </a:lnTo>
                            <a:lnTo>
                              <a:pt x="9" y="147"/>
                            </a:lnTo>
                            <a:lnTo>
                              <a:pt x="21" y="151"/>
                            </a:lnTo>
                            <a:lnTo>
                              <a:pt x="33" y="155"/>
                            </a:lnTo>
                            <a:lnTo>
                              <a:pt x="49" y="155"/>
                            </a:lnTo>
                            <a:lnTo>
                              <a:pt x="70" y="153"/>
                            </a:lnTo>
                            <a:lnTo>
                              <a:pt x="91" y="144"/>
                            </a:lnTo>
                            <a:lnTo>
                              <a:pt x="113" y="132"/>
                            </a:lnTo>
                            <a:lnTo>
                              <a:pt x="133" y="116"/>
                            </a:lnTo>
                            <a:lnTo>
                              <a:pt x="151" y="99"/>
                            </a:lnTo>
                            <a:lnTo>
                              <a:pt x="165" y="80"/>
                            </a:lnTo>
                            <a:lnTo>
                              <a:pt x="177" y="62"/>
                            </a:lnTo>
                            <a:lnTo>
                              <a:pt x="181" y="43"/>
                            </a:lnTo>
                            <a:lnTo>
                              <a:pt x="182" y="25"/>
                            </a:lnTo>
                            <a:lnTo>
                              <a:pt x="178" y="11"/>
                            </a:lnTo>
                            <a:close/>
                          </a:path>
                        </a:pathLst>
                      </a:custGeom>
                      <a:solidFill>
                        <a:srgbClr val="600060"/>
                      </a:solidFill>
                      <a:ln w="3240">
                        <a:solidFill>
                          <a:srgbClr val="20002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720" bIns="7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6250" name=""/>
                <p:cNvGrpSpPr/>
                <p:nvPr/>
              </p:nvGrpSpPr>
              <p:grpSpPr>
                <a:xfrm>
                  <a:off x="1160280" y="4493160"/>
                  <a:ext cx="266400" cy="232560"/>
                  <a:chOff x="1160280" y="4493160"/>
                  <a:chExt cx="266400" cy="232560"/>
                </a:xfrm>
              </p:grpSpPr>
              <p:grpSp>
                <p:nvGrpSpPr>
                  <p:cNvPr id="6251" name=""/>
                  <p:cNvGrpSpPr/>
                  <p:nvPr/>
                </p:nvGrpSpPr>
                <p:grpSpPr>
                  <a:xfrm>
                    <a:off x="1160280" y="4493160"/>
                    <a:ext cx="266400" cy="215640"/>
                    <a:chOff x="1160280" y="4493160"/>
                    <a:chExt cx="266400" cy="215640"/>
                  </a:xfrm>
                </p:grpSpPr>
                <p:sp>
                  <p:nvSpPr>
                    <p:cNvPr id="6252" name=""/>
                    <p:cNvSpPr/>
                    <p:nvPr/>
                  </p:nvSpPr>
                  <p:spPr>
                    <a:xfrm>
                      <a:off x="1160280" y="4493160"/>
                      <a:ext cx="266400" cy="215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73" h="702">
                          <a:moveTo>
                            <a:pt x="680" y="5"/>
                          </a:moveTo>
                          <a:lnTo>
                            <a:pt x="713" y="1"/>
                          </a:lnTo>
                          <a:lnTo>
                            <a:pt x="751" y="0"/>
                          </a:lnTo>
                          <a:lnTo>
                            <a:pt x="789" y="1"/>
                          </a:lnTo>
                          <a:lnTo>
                            <a:pt x="835" y="4"/>
                          </a:lnTo>
                          <a:lnTo>
                            <a:pt x="876" y="6"/>
                          </a:lnTo>
                          <a:lnTo>
                            <a:pt x="911" y="8"/>
                          </a:lnTo>
                          <a:lnTo>
                            <a:pt x="947" y="11"/>
                          </a:lnTo>
                          <a:lnTo>
                            <a:pt x="975" y="14"/>
                          </a:lnTo>
                          <a:lnTo>
                            <a:pt x="999" y="20"/>
                          </a:lnTo>
                          <a:lnTo>
                            <a:pt x="1019" y="27"/>
                          </a:lnTo>
                          <a:lnTo>
                            <a:pt x="1035" y="37"/>
                          </a:lnTo>
                          <a:lnTo>
                            <a:pt x="1046" y="46"/>
                          </a:lnTo>
                          <a:lnTo>
                            <a:pt x="1058" y="58"/>
                          </a:lnTo>
                          <a:lnTo>
                            <a:pt x="1065" y="69"/>
                          </a:lnTo>
                          <a:lnTo>
                            <a:pt x="1070" y="87"/>
                          </a:lnTo>
                          <a:lnTo>
                            <a:pt x="1073" y="102"/>
                          </a:lnTo>
                          <a:lnTo>
                            <a:pt x="1072" y="122"/>
                          </a:lnTo>
                          <a:lnTo>
                            <a:pt x="1067" y="142"/>
                          </a:lnTo>
                          <a:lnTo>
                            <a:pt x="1062" y="155"/>
                          </a:lnTo>
                          <a:lnTo>
                            <a:pt x="1054" y="167"/>
                          </a:lnTo>
                          <a:lnTo>
                            <a:pt x="1043" y="175"/>
                          </a:lnTo>
                          <a:lnTo>
                            <a:pt x="1034" y="181"/>
                          </a:lnTo>
                          <a:lnTo>
                            <a:pt x="1024" y="186"/>
                          </a:lnTo>
                          <a:lnTo>
                            <a:pt x="1008" y="188"/>
                          </a:lnTo>
                          <a:lnTo>
                            <a:pt x="985" y="187"/>
                          </a:lnTo>
                          <a:lnTo>
                            <a:pt x="961" y="186"/>
                          </a:lnTo>
                          <a:lnTo>
                            <a:pt x="935" y="188"/>
                          </a:lnTo>
                          <a:lnTo>
                            <a:pt x="913" y="189"/>
                          </a:lnTo>
                          <a:lnTo>
                            <a:pt x="886" y="190"/>
                          </a:lnTo>
                          <a:lnTo>
                            <a:pt x="860" y="190"/>
                          </a:lnTo>
                          <a:lnTo>
                            <a:pt x="832" y="188"/>
                          </a:lnTo>
                          <a:lnTo>
                            <a:pt x="801" y="188"/>
                          </a:lnTo>
                          <a:lnTo>
                            <a:pt x="771" y="186"/>
                          </a:lnTo>
                          <a:lnTo>
                            <a:pt x="745" y="188"/>
                          </a:lnTo>
                          <a:lnTo>
                            <a:pt x="714" y="190"/>
                          </a:lnTo>
                          <a:lnTo>
                            <a:pt x="682" y="192"/>
                          </a:lnTo>
                          <a:lnTo>
                            <a:pt x="655" y="198"/>
                          </a:lnTo>
                          <a:lnTo>
                            <a:pt x="627" y="207"/>
                          </a:lnTo>
                          <a:lnTo>
                            <a:pt x="600" y="216"/>
                          </a:lnTo>
                          <a:lnTo>
                            <a:pt x="570" y="227"/>
                          </a:lnTo>
                          <a:lnTo>
                            <a:pt x="541" y="238"/>
                          </a:lnTo>
                          <a:lnTo>
                            <a:pt x="517" y="248"/>
                          </a:lnTo>
                          <a:lnTo>
                            <a:pt x="489" y="259"/>
                          </a:lnTo>
                          <a:lnTo>
                            <a:pt x="467" y="272"/>
                          </a:lnTo>
                          <a:lnTo>
                            <a:pt x="447" y="283"/>
                          </a:lnTo>
                          <a:lnTo>
                            <a:pt x="426" y="295"/>
                          </a:lnTo>
                          <a:lnTo>
                            <a:pt x="404" y="308"/>
                          </a:lnTo>
                          <a:lnTo>
                            <a:pt x="387" y="324"/>
                          </a:lnTo>
                          <a:lnTo>
                            <a:pt x="366" y="346"/>
                          </a:lnTo>
                          <a:lnTo>
                            <a:pt x="350" y="365"/>
                          </a:lnTo>
                          <a:lnTo>
                            <a:pt x="335" y="381"/>
                          </a:lnTo>
                          <a:lnTo>
                            <a:pt x="319" y="403"/>
                          </a:lnTo>
                          <a:lnTo>
                            <a:pt x="307" y="424"/>
                          </a:lnTo>
                          <a:lnTo>
                            <a:pt x="295" y="448"/>
                          </a:lnTo>
                          <a:lnTo>
                            <a:pt x="283" y="470"/>
                          </a:lnTo>
                          <a:lnTo>
                            <a:pt x="273" y="494"/>
                          </a:lnTo>
                          <a:lnTo>
                            <a:pt x="268" y="517"/>
                          </a:lnTo>
                          <a:lnTo>
                            <a:pt x="262" y="539"/>
                          </a:lnTo>
                          <a:lnTo>
                            <a:pt x="258" y="564"/>
                          </a:lnTo>
                          <a:lnTo>
                            <a:pt x="255" y="587"/>
                          </a:lnTo>
                          <a:lnTo>
                            <a:pt x="252" y="617"/>
                          </a:lnTo>
                          <a:lnTo>
                            <a:pt x="251" y="645"/>
                          </a:lnTo>
                          <a:lnTo>
                            <a:pt x="250" y="672"/>
                          </a:lnTo>
                          <a:lnTo>
                            <a:pt x="248" y="702"/>
                          </a:lnTo>
                          <a:lnTo>
                            <a:pt x="5" y="700"/>
                          </a:lnTo>
                          <a:lnTo>
                            <a:pt x="1" y="675"/>
                          </a:lnTo>
                          <a:lnTo>
                            <a:pt x="0" y="651"/>
                          </a:lnTo>
                          <a:lnTo>
                            <a:pt x="2" y="623"/>
                          </a:lnTo>
                          <a:lnTo>
                            <a:pt x="5" y="589"/>
                          </a:lnTo>
                          <a:lnTo>
                            <a:pt x="8" y="558"/>
                          </a:lnTo>
                          <a:lnTo>
                            <a:pt x="11" y="533"/>
                          </a:lnTo>
                          <a:lnTo>
                            <a:pt x="17" y="509"/>
                          </a:lnTo>
                          <a:lnTo>
                            <a:pt x="23" y="485"/>
                          </a:lnTo>
                          <a:lnTo>
                            <a:pt x="33" y="457"/>
                          </a:lnTo>
                          <a:lnTo>
                            <a:pt x="42" y="430"/>
                          </a:lnTo>
                          <a:lnTo>
                            <a:pt x="51" y="407"/>
                          </a:lnTo>
                          <a:lnTo>
                            <a:pt x="62" y="384"/>
                          </a:lnTo>
                          <a:lnTo>
                            <a:pt x="73" y="360"/>
                          </a:lnTo>
                          <a:lnTo>
                            <a:pt x="86" y="339"/>
                          </a:lnTo>
                          <a:lnTo>
                            <a:pt x="100" y="315"/>
                          </a:lnTo>
                          <a:lnTo>
                            <a:pt x="117" y="290"/>
                          </a:lnTo>
                          <a:lnTo>
                            <a:pt x="134" y="265"/>
                          </a:lnTo>
                          <a:lnTo>
                            <a:pt x="151" y="244"/>
                          </a:lnTo>
                          <a:lnTo>
                            <a:pt x="170" y="219"/>
                          </a:lnTo>
                          <a:lnTo>
                            <a:pt x="190" y="200"/>
                          </a:lnTo>
                          <a:lnTo>
                            <a:pt x="215" y="179"/>
                          </a:lnTo>
                          <a:lnTo>
                            <a:pt x="240" y="159"/>
                          </a:lnTo>
                          <a:lnTo>
                            <a:pt x="266" y="137"/>
                          </a:lnTo>
                          <a:lnTo>
                            <a:pt x="291" y="120"/>
                          </a:lnTo>
                          <a:lnTo>
                            <a:pt x="315" y="103"/>
                          </a:lnTo>
                          <a:lnTo>
                            <a:pt x="338" y="90"/>
                          </a:lnTo>
                          <a:lnTo>
                            <a:pt x="362" y="77"/>
                          </a:lnTo>
                          <a:lnTo>
                            <a:pt x="384" y="64"/>
                          </a:lnTo>
                          <a:lnTo>
                            <a:pt x="410" y="52"/>
                          </a:lnTo>
                          <a:lnTo>
                            <a:pt x="438" y="43"/>
                          </a:lnTo>
                          <a:lnTo>
                            <a:pt x="469" y="36"/>
                          </a:lnTo>
                          <a:lnTo>
                            <a:pt x="501" y="29"/>
                          </a:lnTo>
                          <a:lnTo>
                            <a:pt x="533" y="24"/>
                          </a:lnTo>
                          <a:lnTo>
                            <a:pt x="572" y="19"/>
                          </a:lnTo>
                          <a:lnTo>
                            <a:pt x="611" y="14"/>
                          </a:lnTo>
                          <a:lnTo>
                            <a:pt x="645" y="9"/>
                          </a:lnTo>
                          <a:lnTo>
                            <a:pt x="680" y="5"/>
                          </a:lnTo>
                          <a:close/>
                        </a:path>
                      </a:pathLst>
                    </a:custGeom>
                    <a:solidFill>
                      <a:srgbClr val="800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6253" name=""/>
                    <p:cNvGrpSpPr/>
                    <p:nvPr/>
                  </p:nvGrpSpPr>
                  <p:grpSpPr>
                    <a:xfrm>
                      <a:off x="1181160" y="4506480"/>
                      <a:ext cx="244800" cy="201240"/>
                      <a:chOff x="1181160" y="4506480"/>
                      <a:chExt cx="244800" cy="201240"/>
                    </a:xfrm>
                  </p:grpSpPr>
                  <p:grpSp>
                    <p:nvGrpSpPr>
                      <p:cNvPr id="6254" name=""/>
                      <p:cNvGrpSpPr/>
                      <p:nvPr/>
                    </p:nvGrpSpPr>
                    <p:grpSpPr>
                      <a:xfrm>
                        <a:off x="1207080" y="4524840"/>
                        <a:ext cx="218880" cy="182880"/>
                        <a:chOff x="1207080" y="4524840"/>
                        <a:chExt cx="218880" cy="182880"/>
                      </a:xfrm>
                    </p:grpSpPr>
                    <p:sp>
                      <p:nvSpPr>
                        <p:cNvPr id="6255" name=""/>
                        <p:cNvSpPr/>
                        <p:nvPr/>
                      </p:nvSpPr>
                      <p:spPr>
                        <a:xfrm>
                          <a:off x="1207080" y="4524840"/>
                          <a:ext cx="218880" cy="1710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83" h="559">
                              <a:moveTo>
                                <a:pt x="450" y="11"/>
                              </a:moveTo>
                              <a:lnTo>
                                <a:pt x="463" y="8"/>
                              </a:lnTo>
                              <a:lnTo>
                                <a:pt x="490" y="5"/>
                              </a:lnTo>
                              <a:lnTo>
                                <a:pt x="522" y="3"/>
                              </a:lnTo>
                              <a:lnTo>
                                <a:pt x="552" y="1"/>
                              </a:lnTo>
                              <a:lnTo>
                                <a:pt x="580" y="2"/>
                              </a:lnTo>
                              <a:lnTo>
                                <a:pt x="610" y="3"/>
                              </a:lnTo>
                              <a:lnTo>
                                <a:pt x="641" y="4"/>
                              </a:lnTo>
                              <a:lnTo>
                                <a:pt x="669" y="6"/>
                              </a:lnTo>
                              <a:lnTo>
                                <a:pt x="699" y="4"/>
                              </a:lnTo>
                              <a:lnTo>
                                <a:pt x="727" y="3"/>
                              </a:lnTo>
                              <a:lnTo>
                                <a:pt x="760" y="1"/>
                              </a:lnTo>
                              <a:lnTo>
                                <a:pt x="791" y="0"/>
                              </a:lnTo>
                              <a:lnTo>
                                <a:pt x="816" y="1"/>
                              </a:lnTo>
                              <a:lnTo>
                                <a:pt x="840" y="2"/>
                              </a:lnTo>
                              <a:lnTo>
                                <a:pt x="866" y="3"/>
                              </a:lnTo>
                              <a:lnTo>
                                <a:pt x="883" y="6"/>
                              </a:lnTo>
                              <a:lnTo>
                                <a:pt x="881" y="20"/>
                              </a:lnTo>
                              <a:lnTo>
                                <a:pt x="878" y="32"/>
                              </a:lnTo>
                              <a:lnTo>
                                <a:pt x="875" y="43"/>
                              </a:lnTo>
                              <a:lnTo>
                                <a:pt x="811" y="44"/>
                              </a:lnTo>
                              <a:lnTo>
                                <a:pt x="795" y="46"/>
                              </a:lnTo>
                              <a:lnTo>
                                <a:pt x="773" y="45"/>
                              </a:lnTo>
                              <a:lnTo>
                                <a:pt x="748" y="44"/>
                              </a:lnTo>
                              <a:lnTo>
                                <a:pt x="723" y="46"/>
                              </a:lnTo>
                              <a:lnTo>
                                <a:pt x="700" y="48"/>
                              </a:lnTo>
                              <a:lnTo>
                                <a:pt x="673" y="49"/>
                              </a:lnTo>
                              <a:lnTo>
                                <a:pt x="649" y="49"/>
                              </a:lnTo>
                              <a:lnTo>
                                <a:pt x="620" y="46"/>
                              </a:lnTo>
                              <a:lnTo>
                                <a:pt x="589" y="46"/>
                              </a:lnTo>
                              <a:lnTo>
                                <a:pt x="560" y="44"/>
                              </a:lnTo>
                              <a:lnTo>
                                <a:pt x="532" y="46"/>
                              </a:lnTo>
                              <a:lnTo>
                                <a:pt x="502" y="49"/>
                              </a:lnTo>
                              <a:lnTo>
                                <a:pt x="470" y="51"/>
                              </a:lnTo>
                              <a:lnTo>
                                <a:pt x="442" y="57"/>
                              </a:lnTo>
                              <a:lnTo>
                                <a:pt x="415" y="66"/>
                              </a:lnTo>
                              <a:lnTo>
                                <a:pt x="387" y="75"/>
                              </a:lnTo>
                              <a:lnTo>
                                <a:pt x="357" y="86"/>
                              </a:lnTo>
                              <a:lnTo>
                                <a:pt x="329" y="96"/>
                              </a:lnTo>
                              <a:lnTo>
                                <a:pt x="304" y="106"/>
                              </a:lnTo>
                              <a:lnTo>
                                <a:pt x="277" y="117"/>
                              </a:lnTo>
                              <a:lnTo>
                                <a:pt x="255" y="130"/>
                              </a:lnTo>
                              <a:lnTo>
                                <a:pt x="235" y="140"/>
                              </a:lnTo>
                              <a:lnTo>
                                <a:pt x="214" y="152"/>
                              </a:lnTo>
                              <a:lnTo>
                                <a:pt x="193" y="165"/>
                              </a:lnTo>
                              <a:lnTo>
                                <a:pt x="175" y="181"/>
                              </a:lnTo>
                              <a:lnTo>
                                <a:pt x="155" y="203"/>
                              </a:lnTo>
                              <a:lnTo>
                                <a:pt x="139" y="222"/>
                              </a:lnTo>
                              <a:lnTo>
                                <a:pt x="123" y="238"/>
                              </a:lnTo>
                              <a:lnTo>
                                <a:pt x="108" y="260"/>
                              </a:lnTo>
                              <a:lnTo>
                                <a:pt x="96" y="281"/>
                              </a:lnTo>
                              <a:lnTo>
                                <a:pt x="83" y="305"/>
                              </a:lnTo>
                              <a:lnTo>
                                <a:pt x="71" y="328"/>
                              </a:lnTo>
                              <a:lnTo>
                                <a:pt x="62" y="351"/>
                              </a:lnTo>
                              <a:lnTo>
                                <a:pt x="56" y="375"/>
                              </a:lnTo>
                              <a:lnTo>
                                <a:pt x="50" y="398"/>
                              </a:lnTo>
                              <a:lnTo>
                                <a:pt x="45" y="421"/>
                              </a:lnTo>
                              <a:lnTo>
                                <a:pt x="42" y="444"/>
                              </a:lnTo>
                              <a:lnTo>
                                <a:pt x="39" y="474"/>
                              </a:lnTo>
                              <a:lnTo>
                                <a:pt x="38" y="502"/>
                              </a:lnTo>
                              <a:lnTo>
                                <a:pt x="37" y="529"/>
                              </a:lnTo>
                              <a:lnTo>
                                <a:pt x="35" y="559"/>
                              </a:lnTo>
                              <a:lnTo>
                                <a:pt x="8" y="553"/>
                              </a:lnTo>
                              <a:lnTo>
                                <a:pt x="5" y="525"/>
                              </a:lnTo>
                              <a:lnTo>
                                <a:pt x="3" y="501"/>
                              </a:lnTo>
                              <a:lnTo>
                                <a:pt x="0" y="475"/>
                              </a:lnTo>
                              <a:lnTo>
                                <a:pt x="1" y="444"/>
                              </a:lnTo>
                              <a:lnTo>
                                <a:pt x="4" y="415"/>
                              </a:lnTo>
                              <a:lnTo>
                                <a:pt x="10" y="380"/>
                              </a:lnTo>
                              <a:lnTo>
                                <a:pt x="15" y="355"/>
                              </a:lnTo>
                              <a:lnTo>
                                <a:pt x="23" y="329"/>
                              </a:lnTo>
                              <a:lnTo>
                                <a:pt x="31" y="305"/>
                              </a:lnTo>
                              <a:lnTo>
                                <a:pt x="41" y="283"/>
                              </a:lnTo>
                              <a:lnTo>
                                <a:pt x="54" y="262"/>
                              </a:lnTo>
                              <a:lnTo>
                                <a:pt x="68" y="238"/>
                              </a:lnTo>
                              <a:lnTo>
                                <a:pt x="85" y="215"/>
                              </a:lnTo>
                              <a:lnTo>
                                <a:pt x="103" y="193"/>
                              </a:lnTo>
                              <a:lnTo>
                                <a:pt x="122" y="173"/>
                              </a:lnTo>
                              <a:lnTo>
                                <a:pt x="142" y="151"/>
                              </a:lnTo>
                              <a:lnTo>
                                <a:pt x="163" y="132"/>
                              </a:lnTo>
                              <a:lnTo>
                                <a:pt x="186" y="114"/>
                              </a:lnTo>
                              <a:lnTo>
                                <a:pt x="211" y="99"/>
                              </a:lnTo>
                              <a:lnTo>
                                <a:pt x="239" y="85"/>
                              </a:lnTo>
                              <a:lnTo>
                                <a:pt x="270" y="69"/>
                              </a:lnTo>
                              <a:lnTo>
                                <a:pt x="300" y="59"/>
                              </a:lnTo>
                              <a:lnTo>
                                <a:pt x="332" y="46"/>
                              </a:lnTo>
                              <a:lnTo>
                                <a:pt x="367" y="34"/>
                              </a:lnTo>
                              <a:lnTo>
                                <a:pt x="396" y="24"/>
                              </a:lnTo>
                              <a:lnTo>
                                <a:pt x="426" y="16"/>
                              </a:lnTo>
                              <a:lnTo>
                                <a:pt x="450" y="11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000c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256" name=""/>
                        <p:cNvSpPr/>
                        <p:nvPr/>
                      </p:nvSpPr>
                      <p:spPr>
                        <a:xfrm>
                          <a:off x="1213200" y="4535640"/>
                          <a:ext cx="210240" cy="1720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54" h="560">
                              <a:moveTo>
                                <a:pt x="450" y="12"/>
                              </a:moveTo>
                              <a:lnTo>
                                <a:pt x="462" y="8"/>
                              </a:lnTo>
                              <a:lnTo>
                                <a:pt x="490" y="6"/>
                              </a:lnTo>
                              <a:lnTo>
                                <a:pt x="522" y="4"/>
                              </a:lnTo>
                              <a:lnTo>
                                <a:pt x="550" y="2"/>
                              </a:lnTo>
                              <a:lnTo>
                                <a:pt x="580" y="3"/>
                              </a:lnTo>
                              <a:lnTo>
                                <a:pt x="610" y="4"/>
                              </a:lnTo>
                              <a:lnTo>
                                <a:pt x="640" y="5"/>
                              </a:lnTo>
                              <a:lnTo>
                                <a:pt x="669" y="7"/>
                              </a:lnTo>
                              <a:lnTo>
                                <a:pt x="698" y="5"/>
                              </a:lnTo>
                              <a:lnTo>
                                <a:pt x="726" y="4"/>
                              </a:lnTo>
                              <a:lnTo>
                                <a:pt x="760" y="2"/>
                              </a:lnTo>
                              <a:lnTo>
                                <a:pt x="791" y="1"/>
                              </a:lnTo>
                              <a:lnTo>
                                <a:pt x="815" y="2"/>
                              </a:lnTo>
                              <a:lnTo>
                                <a:pt x="840" y="3"/>
                              </a:lnTo>
                              <a:lnTo>
                                <a:pt x="854" y="0"/>
                              </a:lnTo>
                              <a:lnTo>
                                <a:pt x="849" y="13"/>
                              </a:lnTo>
                              <a:lnTo>
                                <a:pt x="841" y="25"/>
                              </a:lnTo>
                              <a:lnTo>
                                <a:pt x="830" y="34"/>
                              </a:lnTo>
                              <a:lnTo>
                                <a:pt x="821" y="40"/>
                              </a:lnTo>
                              <a:lnTo>
                                <a:pt x="811" y="45"/>
                              </a:lnTo>
                              <a:lnTo>
                                <a:pt x="795" y="47"/>
                              </a:lnTo>
                              <a:lnTo>
                                <a:pt x="772" y="46"/>
                              </a:lnTo>
                              <a:lnTo>
                                <a:pt x="748" y="45"/>
                              </a:lnTo>
                              <a:lnTo>
                                <a:pt x="722" y="47"/>
                              </a:lnTo>
                              <a:lnTo>
                                <a:pt x="700" y="48"/>
                              </a:lnTo>
                              <a:lnTo>
                                <a:pt x="673" y="50"/>
                              </a:lnTo>
                              <a:lnTo>
                                <a:pt x="647" y="50"/>
                              </a:lnTo>
                              <a:lnTo>
                                <a:pt x="620" y="47"/>
                              </a:lnTo>
                              <a:lnTo>
                                <a:pt x="588" y="47"/>
                              </a:lnTo>
                              <a:lnTo>
                                <a:pt x="558" y="45"/>
                              </a:lnTo>
                              <a:lnTo>
                                <a:pt x="532" y="47"/>
                              </a:lnTo>
                              <a:lnTo>
                                <a:pt x="501" y="50"/>
                              </a:lnTo>
                              <a:lnTo>
                                <a:pt x="469" y="51"/>
                              </a:lnTo>
                              <a:lnTo>
                                <a:pt x="442" y="57"/>
                              </a:lnTo>
                              <a:lnTo>
                                <a:pt x="414" y="66"/>
                              </a:lnTo>
                              <a:lnTo>
                                <a:pt x="387" y="75"/>
                              </a:lnTo>
                              <a:lnTo>
                                <a:pt x="357" y="86"/>
                              </a:lnTo>
                              <a:lnTo>
                                <a:pt x="328" y="97"/>
                              </a:lnTo>
                              <a:lnTo>
                                <a:pt x="304" y="107"/>
                              </a:lnTo>
                              <a:lnTo>
                                <a:pt x="276" y="118"/>
                              </a:lnTo>
                              <a:lnTo>
                                <a:pt x="254" y="131"/>
                              </a:lnTo>
                              <a:lnTo>
                                <a:pt x="234" y="141"/>
                              </a:lnTo>
                              <a:lnTo>
                                <a:pt x="214" y="153"/>
                              </a:lnTo>
                              <a:lnTo>
                                <a:pt x="192" y="166"/>
                              </a:lnTo>
                              <a:lnTo>
                                <a:pt x="175" y="182"/>
                              </a:lnTo>
                              <a:lnTo>
                                <a:pt x="154" y="204"/>
                              </a:lnTo>
                              <a:lnTo>
                                <a:pt x="138" y="223"/>
                              </a:lnTo>
                              <a:lnTo>
                                <a:pt x="123" y="239"/>
                              </a:lnTo>
                              <a:lnTo>
                                <a:pt x="107" y="261"/>
                              </a:lnTo>
                              <a:lnTo>
                                <a:pt x="95" y="282"/>
                              </a:lnTo>
                              <a:lnTo>
                                <a:pt x="83" y="306"/>
                              </a:lnTo>
                              <a:lnTo>
                                <a:pt x="71" y="328"/>
                              </a:lnTo>
                              <a:lnTo>
                                <a:pt x="61" y="352"/>
                              </a:lnTo>
                              <a:lnTo>
                                <a:pt x="55" y="375"/>
                              </a:lnTo>
                              <a:lnTo>
                                <a:pt x="49" y="398"/>
                              </a:lnTo>
                              <a:lnTo>
                                <a:pt x="45" y="422"/>
                              </a:lnTo>
                              <a:lnTo>
                                <a:pt x="42" y="445"/>
                              </a:lnTo>
                              <a:lnTo>
                                <a:pt x="39" y="475"/>
                              </a:lnTo>
                              <a:lnTo>
                                <a:pt x="38" y="503"/>
                              </a:lnTo>
                              <a:lnTo>
                                <a:pt x="37" y="530"/>
                              </a:lnTo>
                              <a:lnTo>
                                <a:pt x="35" y="560"/>
                              </a:lnTo>
                              <a:lnTo>
                                <a:pt x="7" y="554"/>
                              </a:lnTo>
                              <a:lnTo>
                                <a:pt x="4" y="526"/>
                              </a:lnTo>
                              <a:lnTo>
                                <a:pt x="2" y="502"/>
                              </a:lnTo>
                              <a:lnTo>
                                <a:pt x="0" y="476"/>
                              </a:lnTo>
                              <a:lnTo>
                                <a:pt x="1" y="445"/>
                              </a:lnTo>
                              <a:lnTo>
                                <a:pt x="3" y="416"/>
                              </a:lnTo>
                              <a:lnTo>
                                <a:pt x="9" y="380"/>
                              </a:lnTo>
                              <a:lnTo>
                                <a:pt x="14" y="356"/>
                              </a:lnTo>
                              <a:lnTo>
                                <a:pt x="22" y="330"/>
                              </a:lnTo>
                              <a:lnTo>
                                <a:pt x="31" y="306"/>
                              </a:lnTo>
                              <a:lnTo>
                                <a:pt x="41" y="284"/>
                              </a:lnTo>
                              <a:lnTo>
                                <a:pt x="53" y="263"/>
                              </a:lnTo>
                              <a:lnTo>
                                <a:pt x="67" y="239"/>
                              </a:lnTo>
                              <a:lnTo>
                                <a:pt x="85" y="216"/>
                              </a:lnTo>
                              <a:lnTo>
                                <a:pt x="102" y="194"/>
                              </a:lnTo>
                              <a:lnTo>
                                <a:pt x="122" y="174"/>
                              </a:lnTo>
                              <a:lnTo>
                                <a:pt x="141" y="152"/>
                              </a:lnTo>
                              <a:lnTo>
                                <a:pt x="163" y="133"/>
                              </a:lnTo>
                              <a:lnTo>
                                <a:pt x="185" y="115"/>
                              </a:lnTo>
                              <a:lnTo>
                                <a:pt x="211" y="100"/>
                              </a:lnTo>
                              <a:lnTo>
                                <a:pt x="237" y="85"/>
                              </a:lnTo>
                              <a:lnTo>
                                <a:pt x="270" y="69"/>
                              </a:lnTo>
                              <a:lnTo>
                                <a:pt x="300" y="59"/>
                              </a:lnTo>
                              <a:lnTo>
                                <a:pt x="331" y="47"/>
                              </a:lnTo>
                              <a:lnTo>
                                <a:pt x="366" y="35"/>
                              </a:lnTo>
                              <a:lnTo>
                                <a:pt x="396" y="25"/>
                              </a:lnTo>
                              <a:lnTo>
                                <a:pt x="425" y="17"/>
                              </a:lnTo>
                              <a:lnTo>
                                <a:pt x="450" y="12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0006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6257" name=""/>
                      <p:cNvSpPr/>
                      <p:nvPr/>
                    </p:nvSpPr>
                    <p:spPr>
                      <a:xfrm>
                        <a:off x="1181160" y="4506480"/>
                        <a:ext cx="222840" cy="167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01" h="544">
                            <a:moveTo>
                              <a:pt x="901" y="6"/>
                            </a:moveTo>
                            <a:lnTo>
                              <a:pt x="865" y="3"/>
                            </a:lnTo>
                            <a:lnTo>
                              <a:pt x="836" y="2"/>
                            </a:lnTo>
                            <a:lnTo>
                              <a:pt x="796" y="1"/>
                            </a:lnTo>
                            <a:lnTo>
                              <a:pt x="756" y="0"/>
                            </a:lnTo>
                            <a:lnTo>
                              <a:pt x="709" y="1"/>
                            </a:lnTo>
                            <a:lnTo>
                              <a:pt x="660" y="2"/>
                            </a:lnTo>
                            <a:lnTo>
                              <a:pt x="615" y="4"/>
                            </a:lnTo>
                            <a:lnTo>
                              <a:pt x="578" y="7"/>
                            </a:lnTo>
                            <a:lnTo>
                              <a:pt x="536" y="12"/>
                            </a:lnTo>
                            <a:lnTo>
                              <a:pt x="490" y="18"/>
                            </a:lnTo>
                            <a:lnTo>
                              <a:pt x="461" y="24"/>
                            </a:lnTo>
                            <a:lnTo>
                              <a:pt x="437" y="31"/>
                            </a:lnTo>
                            <a:lnTo>
                              <a:pt x="411" y="37"/>
                            </a:lnTo>
                            <a:lnTo>
                              <a:pt x="385" y="45"/>
                            </a:lnTo>
                            <a:lnTo>
                              <a:pt x="357" y="55"/>
                            </a:lnTo>
                            <a:lnTo>
                              <a:pt x="326" y="70"/>
                            </a:lnTo>
                            <a:lnTo>
                              <a:pt x="299" y="82"/>
                            </a:lnTo>
                            <a:lnTo>
                              <a:pt x="274" y="94"/>
                            </a:lnTo>
                            <a:lnTo>
                              <a:pt x="254" y="107"/>
                            </a:lnTo>
                            <a:lnTo>
                              <a:pt x="233" y="123"/>
                            </a:lnTo>
                            <a:lnTo>
                              <a:pt x="212" y="139"/>
                            </a:lnTo>
                            <a:lnTo>
                              <a:pt x="186" y="160"/>
                            </a:lnTo>
                            <a:lnTo>
                              <a:pt x="163" y="180"/>
                            </a:lnTo>
                            <a:lnTo>
                              <a:pt x="146" y="196"/>
                            </a:lnTo>
                            <a:lnTo>
                              <a:pt x="130" y="212"/>
                            </a:lnTo>
                            <a:lnTo>
                              <a:pt x="112" y="231"/>
                            </a:lnTo>
                            <a:lnTo>
                              <a:pt x="96" y="246"/>
                            </a:lnTo>
                            <a:lnTo>
                              <a:pt x="81" y="266"/>
                            </a:lnTo>
                            <a:lnTo>
                              <a:pt x="69" y="287"/>
                            </a:lnTo>
                            <a:lnTo>
                              <a:pt x="56" y="315"/>
                            </a:lnTo>
                            <a:lnTo>
                              <a:pt x="43" y="343"/>
                            </a:lnTo>
                            <a:lnTo>
                              <a:pt x="33" y="369"/>
                            </a:lnTo>
                            <a:lnTo>
                              <a:pt x="24" y="394"/>
                            </a:lnTo>
                            <a:lnTo>
                              <a:pt x="17" y="419"/>
                            </a:lnTo>
                            <a:lnTo>
                              <a:pt x="9" y="451"/>
                            </a:lnTo>
                            <a:lnTo>
                              <a:pt x="5" y="480"/>
                            </a:lnTo>
                            <a:lnTo>
                              <a:pt x="1" y="509"/>
                            </a:lnTo>
                            <a:lnTo>
                              <a:pt x="0" y="544"/>
                            </a:lnTo>
                          </a:path>
                        </a:pathLst>
                      </a:custGeom>
                      <a:noFill/>
                      <a:ln w="4680">
                        <a:solidFill>
                          <a:srgbClr val="ffc0f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6258" name=""/>
                  <p:cNvGrpSpPr/>
                  <p:nvPr/>
                </p:nvGrpSpPr>
                <p:grpSpPr>
                  <a:xfrm>
                    <a:off x="1161360" y="4689000"/>
                    <a:ext cx="59400" cy="36720"/>
                    <a:chOff x="1161360" y="4689000"/>
                    <a:chExt cx="59400" cy="36720"/>
                  </a:xfrm>
                </p:grpSpPr>
                <p:sp>
                  <p:nvSpPr>
                    <p:cNvPr id="6259" name=""/>
                    <p:cNvSpPr/>
                    <p:nvPr/>
                  </p:nvSpPr>
                  <p:spPr>
                    <a:xfrm>
                      <a:off x="1161360" y="4689000"/>
                      <a:ext cx="59400" cy="36720"/>
                    </a:xfrm>
                    <a:prstGeom prst="ellipse">
                      <a:avLst/>
                    </a:prstGeom>
                    <a:solidFill>
                      <a:srgbClr val="ff00ff"/>
                    </a:solidFill>
                    <a:ln w="3240">
                      <a:solidFill>
                        <a:srgbClr val="40004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880" bIns="-20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260" name=""/>
                    <p:cNvSpPr/>
                    <p:nvPr/>
                  </p:nvSpPr>
                  <p:spPr>
                    <a:xfrm>
                      <a:off x="1166400" y="4693320"/>
                      <a:ext cx="48240" cy="27360"/>
                    </a:xfrm>
                    <a:prstGeom prst="ellipse">
                      <a:avLst/>
                    </a:prstGeom>
                    <a:solidFill>
                      <a:srgbClr val="600060"/>
                    </a:solidFill>
                    <a:ln w="3240">
                      <a:solidFill>
                        <a:srgbClr val="40004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360" bIns="-27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grpSp>
          <p:nvGrpSpPr>
            <p:cNvPr id="6261" name=""/>
            <p:cNvGrpSpPr/>
            <p:nvPr/>
          </p:nvGrpSpPr>
          <p:grpSpPr>
            <a:xfrm>
              <a:off x="1082520" y="4663080"/>
              <a:ext cx="101520" cy="385560"/>
              <a:chOff x="1082520" y="4663080"/>
              <a:chExt cx="101520" cy="385560"/>
            </a:xfrm>
          </p:grpSpPr>
          <p:grpSp>
            <p:nvGrpSpPr>
              <p:cNvPr id="6262" name=""/>
              <p:cNvGrpSpPr/>
              <p:nvPr/>
            </p:nvGrpSpPr>
            <p:grpSpPr>
              <a:xfrm>
                <a:off x="1082520" y="4678200"/>
                <a:ext cx="101520" cy="370440"/>
                <a:chOff x="1082520" y="4678200"/>
                <a:chExt cx="101520" cy="370440"/>
              </a:xfrm>
            </p:grpSpPr>
            <p:sp>
              <p:nvSpPr>
                <p:cNvPr id="6263" name=""/>
                <p:cNvSpPr/>
                <p:nvPr/>
              </p:nvSpPr>
              <p:spPr>
                <a:xfrm>
                  <a:off x="1082520" y="4678200"/>
                  <a:ext cx="101520" cy="370440"/>
                </a:xfrm>
                <a:custGeom>
                  <a:avLst/>
                  <a:gdLst/>
                  <a:ahLst/>
                  <a:rect l="l" t="t" r="r" b="b"/>
                  <a:pathLst>
                    <a:path w="410" h="1199">
                      <a:moveTo>
                        <a:pt x="270" y="0"/>
                      </a:moveTo>
                      <a:lnTo>
                        <a:pt x="0" y="18"/>
                      </a:lnTo>
                      <a:lnTo>
                        <a:pt x="3" y="47"/>
                      </a:lnTo>
                      <a:lnTo>
                        <a:pt x="9" y="79"/>
                      </a:lnTo>
                      <a:lnTo>
                        <a:pt x="16" y="113"/>
                      </a:lnTo>
                      <a:lnTo>
                        <a:pt x="22" y="152"/>
                      </a:lnTo>
                      <a:lnTo>
                        <a:pt x="31" y="198"/>
                      </a:lnTo>
                      <a:lnTo>
                        <a:pt x="41" y="242"/>
                      </a:lnTo>
                      <a:lnTo>
                        <a:pt x="49" y="279"/>
                      </a:lnTo>
                      <a:lnTo>
                        <a:pt x="58" y="315"/>
                      </a:lnTo>
                      <a:lnTo>
                        <a:pt x="66" y="354"/>
                      </a:lnTo>
                      <a:lnTo>
                        <a:pt x="75" y="397"/>
                      </a:lnTo>
                      <a:lnTo>
                        <a:pt x="83" y="442"/>
                      </a:lnTo>
                      <a:lnTo>
                        <a:pt x="92" y="490"/>
                      </a:lnTo>
                      <a:lnTo>
                        <a:pt x="97" y="517"/>
                      </a:lnTo>
                      <a:lnTo>
                        <a:pt x="101" y="552"/>
                      </a:lnTo>
                      <a:lnTo>
                        <a:pt x="106" y="593"/>
                      </a:lnTo>
                      <a:lnTo>
                        <a:pt x="110" y="631"/>
                      </a:lnTo>
                      <a:lnTo>
                        <a:pt x="117" y="679"/>
                      </a:lnTo>
                      <a:lnTo>
                        <a:pt x="123" y="729"/>
                      </a:lnTo>
                      <a:lnTo>
                        <a:pt x="127" y="769"/>
                      </a:lnTo>
                      <a:lnTo>
                        <a:pt x="128" y="809"/>
                      </a:lnTo>
                      <a:lnTo>
                        <a:pt x="130" y="843"/>
                      </a:lnTo>
                      <a:lnTo>
                        <a:pt x="133" y="887"/>
                      </a:lnTo>
                      <a:lnTo>
                        <a:pt x="135" y="932"/>
                      </a:lnTo>
                      <a:lnTo>
                        <a:pt x="133" y="974"/>
                      </a:lnTo>
                      <a:lnTo>
                        <a:pt x="134" y="1024"/>
                      </a:lnTo>
                      <a:lnTo>
                        <a:pt x="136" y="1054"/>
                      </a:lnTo>
                      <a:lnTo>
                        <a:pt x="134" y="1079"/>
                      </a:lnTo>
                      <a:lnTo>
                        <a:pt x="132" y="1110"/>
                      </a:lnTo>
                      <a:lnTo>
                        <a:pt x="133" y="1131"/>
                      </a:lnTo>
                      <a:lnTo>
                        <a:pt x="138" y="1145"/>
                      </a:lnTo>
                      <a:lnTo>
                        <a:pt x="146" y="1159"/>
                      </a:lnTo>
                      <a:lnTo>
                        <a:pt x="158" y="1170"/>
                      </a:lnTo>
                      <a:lnTo>
                        <a:pt x="175" y="1178"/>
                      </a:lnTo>
                      <a:lnTo>
                        <a:pt x="191" y="1183"/>
                      </a:lnTo>
                      <a:lnTo>
                        <a:pt x="212" y="1190"/>
                      </a:lnTo>
                      <a:lnTo>
                        <a:pt x="240" y="1195"/>
                      </a:lnTo>
                      <a:lnTo>
                        <a:pt x="266" y="1196"/>
                      </a:lnTo>
                      <a:lnTo>
                        <a:pt x="292" y="1198"/>
                      </a:lnTo>
                      <a:lnTo>
                        <a:pt x="315" y="1199"/>
                      </a:lnTo>
                      <a:lnTo>
                        <a:pt x="336" y="1197"/>
                      </a:lnTo>
                      <a:lnTo>
                        <a:pt x="354" y="1194"/>
                      </a:lnTo>
                      <a:lnTo>
                        <a:pt x="373" y="1187"/>
                      </a:lnTo>
                      <a:lnTo>
                        <a:pt x="385" y="1180"/>
                      </a:lnTo>
                      <a:lnTo>
                        <a:pt x="396" y="1173"/>
                      </a:lnTo>
                      <a:lnTo>
                        <a:pt x="404" y="1164"/>
                      </a:lnTo>
                      <a:lnTo>
                        <a:pt x="406" y="1154"/>
                      </a:lnTo>
                      <a:lnTo>
                        <a:pt x="404" y="1123"/>
                      </a:lnTo>
                      <a:lnTo>
                        <a:pt x="402" y="1093"/>
                      </a:lnTo>
                      <a:lnTo>
                        <a:pt x="404" y="1053"/>
                      </a:lnTo>
                      <a:lnTo>
                        <a:pt x="407" y="1022"/>
                      </a:lnTo>
                      <a:lnTo>
                        <a:pt x="410" y="995"/>
                      </a:lnTo>
                      <a:lnTo>
                        <a:pt x="408" y="968"/>
                      </a:lnTo>
                      <a:lnTo>
                        <a:pt x="406" y="932"/>
                      </a:lnTo>
                      <a:lnTo>
                        <a:pt x="405" y="906"/>
                      </a:lnTo>
                      <a:lnTo>
                        <a:pt x="403" y="878"/>
                      </a:lnTo>
                      <a:lnTo>
                        <a:pt x="398" y="851"/>
                      </a:lnTo>
                      <a:lnTo>
                        <a:pt x="393" y="821"/>
                      </a:lnTo>
                      <a:lnTo>
                        <a:pt x="392" y="785"/>
                      </a:lnTo>
                      <a:lnTo>
                        <a:pt x="390" y="756"/>
                      </a:lnTo>
                      <a:lnTo>
                        <a:pt x="389" y="719"/>
                      </a:lnTo>
                      <a:lnTo>
                        <a:pt x="387" y="681"/>
                      </a:lnTo>
                      <a:lnTo>
                        <a:pt x="384" y="642"/>
                      </a:lnTo>
                      <a:lnTo>
                        <a:pt x="379" y="598"/>
                      </a:lnTo>
                      <a:lnTo>
                        <a:pt x="375" y="556"/>
                      </a:lnTo>
                      <a:lnTo>
                        <a:pt x="371" y="517"/>
                      </a:lnTo>
                      <a:lnTo>
                        <a:pt x="367" y="487"/>
                      </a:lnTo>
                      <a:lnTo>
                        <a:pt x="362" y="454"/>
                      </a:lnTo>
                      <a:lnTo>
                        <a:pt x="358" y="422"/>
                      </a:lnTo>
                      <a:lnTo>
                        <a:pt x="353" y="387"/>
                      </a:lnTo>
                      <a:lnTo>
                        <a:pt x="347" y="351"/>
                      </a:lnTo>
                      <a:lnTo>
                        <a:pt x="341" y="311"/>
                      </a:lnTo>
                      <a:lnTo>
                        <a:pt x="335" y="276"/>
                      </a:lnTo>
                      <a:lnTo>
                        <a:pt x="325" y="232"/>
                      </a:lnTo>
                      <a:lnTo>
                        <a:pt x="316" y="190"/>
                      </a:lnTo>
                      <a:lnTo>
                        <a:pt x="307" y="137"/>
                      </a:lnTo>
                      <a:lnTo>
                        <a:pt x="294" y="81"/>
                      </a:lnTo>
                      <a:lnTo>
                        <a:pt x="283" y="37"/>
                      </a:lnTo>
                      <a:lnTo>
                        <a:pt x="270" y="0"/>
                      </a:lnTo>
                      <a:close/>
                    </a:path>
                  </a:pathLst>
                </a:custGeom>
                <a:solidFill>
                  <a:srgbClr val="000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264" name=""/>
                <p:cNvGrpSpPr/>
                <p:nvPr/>
              </p:nvGrpSpPr>
              <p:grpSpPr>
                <a:xfrm>
                  <a:off x="1082520" y="4678200"/>
                  <a:ext cx="101520" cy="369000"/>
                  <a:chOff x="1082520" y="4678200"/>
                  <a:chExt cx="101520" cy="369000"/>
                </a:xfrm>
              </p:grpSpPr>
              <p:grpSp>
                <p:nvGrpSpPr>
                  <p:cNvPr id="6265" name=""/>
                  <p:cNvGrpSpPr/>
                  <p:nvPr/>
                </p:nvGrpSpPr>
                <p:grpSpPr>
                  <a:xfrm>
                    <a:off x="1082520" y="4678200"/>
                    <a:ext cx="101520" cy="369000"/>
                    <a:chOff x="1082520" y="4678200"/>
                    <a:chExt cx="101520" cy="369000"/>
                  </a:xfrm>
                </p:grpSpPr>
                <p:grpSp>
                  <p:nvGrpSpPr>
                    <p:cNvPr id="6266" name=""/>
                    <p:cNvGrpSpPr/>
                    <p:nvPr/>
                  </p:nvGrpSpPr>
                  <p:grpSpPr>
                    <a:xfrm>
                      <a:off x="1082520" y="4678200"/>
                      <a:ext cx="101520" cy="369000"/>
                      <a:chOff x="1082520" y="4678200"/>
                      <a:chExt cx="101520" cy="369000"/>
                    </a:xfrm>
                  </p:grpSpPr>
                  <p:sp>
                    <p:nvSpPr>
                      <p:cNvPr id="6267" name=""/>
                      <p:cNvSpPr/>
                      <p:nvPr/>
                    </p:nvSpPr>
                    <p:spPr>
                      <a:xfrm>
                        <a:off x="1082520" y="4683960"/>
                        <a:ext cx="44280" cy="355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81" h="1152">
                            <a:moveTo>
                              <a:pt x="55" y="70"/>
                            </a:moveTo>
                            <a:lnTo>
                              <a:pt x="41" y="28"/>
                            </a:lnTo>
                            <a:lnTo>
                              <a:pt x="0" y="0"/>
                            </a:lnTo>
                            <a:lnTo>
                              <a:pt x="3" y="29"/>
                            </a:lnTo>
                            <a:lnTo>
                              <a:pt x="9" y="61"/>
                            </a:lnTo>
                            <a:lnTo>
                              <a:pt x="16" y="95"/>
                            </a:lnTo>
                            <a:lnTo>
                              <a:pt x="22" y="134"/>
                            </a:lnTo>
                            <a:lnTo>
                              <a:pt x="31" y="180"/>
                            </a:lnTo>
                            <a:lnTo>
                              <a:pt x="41" y="224"/>
                            </a:lnTo>
                            <a:lnTo>
                              <a:pt x="48" y="261"/>
                            </a:lnTo>
                            <a:lnTo>
                              <a:pt x="56" y="297"/>
                            </a:lnTo>
                            <a:lnTo>
                              <a:pt x="65" y="336"/>
                            </a:lnTo>
                            <a:lnTo>
                              <a:pt x="74" y="379"/>
                            </a:lnTo>
                            <a:lnTo>
                              <a:pt x="82" y="424"/>
                            </a:lnTo>
                            <a:lnTo>
                              <a:pt x="91" y="472"/>
                            </a:lnTo>
                            <a:lnTo>
                              <a:pt x="96" y="499"/>
                            </a:lnTo>
                            <a:lnTo>
                              <a:pt x="100" y="534"/>
                            </a:lnTo>
                            <a:lnTo>
                              <a:pt x="106" y="575"/>
                            </a:lnTo>
                            <a:lnTo>
                              <a:pt x="110" y="613"/>
                            </a:lnTo>
                            <a:lnTo>
                              <a:pt x="117" y="661"/>
                            </a:lnTo>
                            <a:lnTo>
                              <a:pt x="123" y="711"/>
                            </a:lnTo>
                            <a:lnTo>
                              <a:pt x="127" y="751"/>
                            </a:lnTo>
                            <a:lnTo>
                              <a:pt x="128" y="791"/>
                            </a:lnTo>
                            <a:lnTo>
                              <a:pt x="130" y="825"/>
                            </a:lnTo>
                            <a:lnTo>
                              <a:pt x="133" y="868"/>
                            </a:lnTo>
                            <a:lnTo>
                              <a:pt x="135" y="914"/>
                            </a:lnTo>
                            <a:lnTo>
                              <a:pt x="133" y="956"/>
                            </a:lnTo>
                            <a:lnTo>
                              <a:pt x="134" y="1006"/>
                            </a:lnTo>
                            <a:lnTo>
                              <a:pt x="136" y="1036"/>
                            </a:lnTo>
                            <a:lnTo>
                              <a:pt x="134" y="1061"/>
                            </a:lnTo>
                            <a:lnTo>
                              <a:pt x="132" y="1091"/>
                            </a:lnTo>
                            <a:lnTo>
                              <a:pt x="133" y="1113"/>
                            </a:lnTo>
                            <a:lnTo>
                              <a:pt x="137" y="1127"/>
                            </a:lnTo>
                            <a:lnTo>
                              <a:pt x="145" y="1141"/>
                            </a:lnTo>
                            <a:lnTo>
                              <a:pt x="157" y="1152"/>
                            </a:lnTo>
                            <a:lnTo>
                              <a:pt x="163" y="1122"/>
                            </a:lnTo>
                            <a:lnTo>
                              <a:pt x="166" y="1088"/>
                            </a:lnTo>
                            <a:lnTo>
                              <a:pt x="169" y="1051"/>
                            </a:lnTo>
                            <a:lnTo>
                              <a:pt x="173" y="1008"/>
                            </a:lnTo>
                            <a:lnTo>
                              <a:pt x="178" y="956"/>
                            </a:lnTo>
                            <a:lnTo>
                              <a:pt x="181" y="896"/>
                            </a:lnTo>
                            <a:lnTo>
                              <a:pt x="176" y="843"/>
                            </a:lnTo>
                            <a:lnTo>
                              <a:pt x="175" y="789"/>
                            </a:lnTo>
                            <a:lnTo>
                              <a:pt x="169" y="731"/>
                            </a:lnTo>
                            <a:lnTo>
                              <a:pt x="163" y="681"/>
                            </a:lnTo>
                            <a:lnTo>
                              <a:pt x="158" y="633"/>
                            </a:lnTo>
                            <a:lnTo>
                              <a:pt x="154" y="590"/>
                            </a:lnTo>
                            <a:lnTo>
                              <a:pt x="151" y="548"/>
                            </a:lnTo>
                            <a:lnTo>
                              <a:pt x="148" y="511"/>
                            </a:lnTo>
                            <a:lnTo>
                              <a:pt x="145" y="472"/>
                            </a:lnTo>
                            <a:lnTo>
                              <a:pt x="139" y="429"/>
                            </a:lnTo>
                            <a:lnTo>
                              <a:pt x="134" y="382"/>
                            </a:lnTo>
                            <a:lnTo>
                              <a:pt x="122" y="342"/>
                            </a:lnTo>
                            <a:lnTo>
                              <a:pt x="111" y="300"/>
                            </a:lnTo>
                            <a:lnTo>
                              <a:pt x="100" y="266"/>
                            </a:lnTo>
                            <a:lnTo>
                              <a:pt x="94" y="232"/>
                            </a:lnTo>
                            <a:lnTo>
                              <a:pt x="88" y="194"/>
                            </a:lnTo>
                            <a:lnTo>
                              <a:pt x="83" y="156"/>
                            </a:lnTo>
                            <a:lnTo>
                              <a:pt x="70" y="113"/>
                            </a:lnTo>
                            <a:lnTo>
                              <a:pt x="55" y="70"/>
                            </a:lnTo>
                            <a:close/>
                          </a:path>
                        </a:pathLst>
                      </a:custGeom>
                      <a:solidFill>
                        <a:srgbClr val="00004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268" name=""/>
                      <p:cNvSpPr/>
                      <p:nvPr/>
                    </p:nvSpPr>
                    <p:spPr>
                      <a:xfrm>
                        <a:off x="1138320" y="4678200"/>
                        <a:ext cx="45720" cy="369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88" h="1194">
                            <a:moveTo>
                              <a:pt x="48" y="0"/>
                            </a:moveTo>
                            <a:lnTo>
                              <a:pt x="0" y="38"/>
                            </a:lnTo>
                            <a:lnTo>
                              <a:pt x="17" y="57"/>
                            </a:lnTo>
                            <a:lnTo>
                              <a:pt x="29" y="78"/>
                            </a:lnTo>
                            <a:lnTo>
                              <a:pt x="35" y="106"/>
                            </a:lnTo>
                            <a:lnTo>
                              <a:pt x="41" y="148"/>
                            </a:lnTo>
                            <a:lnTo>
                              <a:pt x="49" y="188"/>
                            </a:lnTo>
                            <a:lnTo>
                              <a:pt x="61" y="240"/>
                            </a:lnTo>
                            <a:lnTo>
                              <a:pt x="70" y="290"/>
                            </a:lnTo>
                            <a:lnTo>
                              <a:pt x="79" y="334"/>
                            </a:lnTo>
                            <a:lnTo>
                              <a:pt x="85" y="383"/>
                            </a:lnTo>
                            <a:lnTo>
                              <a:pt x="92" y="427"/>
                            </a:lnTo>
                            <a:lnTo>
                              <a:pt x="101" y="476"/>
                            </a:lnTo>
                            <a:lnTo>
                              <a:pt x="111" y="516"/>
                            </a:lnTo>
                            <a:lnTo>
                              <a:pt x="117" y="564"/>
                            </a:lnTo>
                            <a:lnTo>
                              <a:pt x="113" y="610"/>
                            </a:lnTo>
                            <a:lnTo>
                              <a:pt x="117" y="651"/>
                            </a:lnTo>
                            <a:lnTo>
                              <a:pt x="120" y="703"/>
                            </a:lnTo>
                            <a:lnTo>
                              <a:pt x="122" y="762"/>
                            </a:lnTo>
                            <a:lnTo>
                              <a:pt x="126" y="825"/>
                            </a:lnTo>
                            <a:lnTo>
                              <a:pt x="134" y="886"/>
                            </a:lnTo>
                            <a:lnTo>
                              <a:pt x="140" y="928"/>
                            </a:lnTo>
                            <a:lnTo>
                              <a:pt x="140" y="968"/>
                            </a:lnTo>
                            <a:lnTo>
                              <a:pt x="142" y="1017"/>
                            </a:lnTo>
                            <a:lnTo>
                              <a:pt x="138" y="1073"/>
                            </a:lnTo>
                            <a:lnTo>
                              <a:pt x="137" y="1119"/>
                            </a:lnTo>
                            <a:lnTo>
                              <a:pt x="132" y="1160"/>
                            </a:lnTo>
                            <a:lnTo>
                              <a:pt x="133" y="1194"/>
                            </a:lnTo>
                            <a:lnTo>
                              <a:pt x="151" y="1187"/>
                            </a:lnTo>
                            <a:lnTo>
                              <a:pt x="163" y="1180"/>
                            </a:lnTo>
                            <a:lnTo>
                              <a:pt x="174" y="1173"/>
                            </a:lnTo>
                            <a:lnTo>
                              <a:pt x="182" y="1164"/>
                            </a:lnTo>
                            <a:lnTo>
                              <a:pt x="184" y="1154"/>
                            </a:lnTo>
                            <a:lnTo>
                              <a:pt x="182" y="1123"/>
                            </a:lnTo>
                            <a:lnTo>
                              <a:pt x="180" y="1093"/>
                            </a:lnTo>
                            <a:lnTo>
                              <a:pt x="182" y="1053"/>
                            </a:lnTo>
                            <a:lnTo>
                              <a:pt x="185" y="1022"/>
                            </a:lnTo>
                            <a:lnTo>
                              <a:pt x="188" y="995"/>
                            </a:lnTo>
                            <a:lnTo>
                              <a:pt x="186" y="968"/>
                            </a:lnTo>
                            <a:lnTo>
                              <a:pt x="184" y="932"/>
                            </a:lnTo>
                            <a:lnTo>
                              <a:pt x="183" y="906"/>
                            </a:lnTo>
                            <a:lnTo>
                              <a:pt x="181" y="878"/>
                            </a:lnTo>
                            <a:lnTo>
                              <a:pt x="176" y="851"/>
                            </a:lnTo>
                            <a:lnTo>
                              <a:pt x="171" y="821"/>
                            </a:lnTo>
                            <a:lnTo>
                              <a:pt x="170" y="785"/>
                            </a:lnTo>
                            <a:lnTo>
                              <a:pt x="168" y="756"/>
                            </a:lnTo>
                            <a:lnTo>
                              <a:pt x="167" y="719"/>
                            </a:lnTo>
                            <a:lnTo>
                              <a:pt x="165" y="681"/>
                            </a:lnTo>
                            <a:lnTo>
                              <a:pt x="162" y="642"/>
                            </a:lnTo>
                            <a:lnTo>
                              <a:pt x="157" y="598"/>
                            </a:lnTo>
                            <a:lnTo>
                              <a:pt x="153" y="556"/>
                            </a:lnTo>
                            <a:lnTo>
                              <a:pt x="150" y="517"/>
                            </a:lnTo>
                            <a:lnTo>
                              <a:pt x="145" y="487"/>
                            </a:lnTo>
                            <a:lnTo>
                              <a:pt x="141" y="454"/>
                            </a:lnTo>
                            <a:lnTo>
                              <a:pt x="137" y="422"/>
                            </a:lnTo>
                            <a:lnTo>
                              <a:pt x="132" y="387"/>
                            </a:lnTo>
                            <a:lnTo>
                              <a:pt x="126" y="351"/>
                            </a:lnTo>
                            <a:lnTo>
                              <a:pt x="120" y="311"/>
                            </a:lnTo>
                            <a:lnTo>
                              <a:pt x="114" y="276"/>
                            </a:lnTo>
                            <a:lnTo>
                              <a:pt x="105" y="232"/>
                            </a:lnTo>
                            <a:lnTo>
                              <a:pt x="95" y="190"/>
                            </a:lnTo>
                            <a:lnTo>
                              <a:pt x="85" y="137"/>
                            </a:lnTo>
                            <a:lnTo>
                              <a:pt x="72" y="81"/>
                            </a:lnTo>
                            <a:lnTo>
                              <a:pt x="61" y="37"/>
                            </a:lnTo>
                            <a:lnTo>
                              <a:pt x="48" y="0"/>
                            </a:lnTo>
                            <a:close/>
                          </a:path>
                        </a:pathLst>
                      </a:custGeom>
                      <a:solidFill>
                        <a:srgbClr val="00004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6269" name=""/>
                    <p:cNvSpPr/>
                    <p:nvPr/>
                  </p:nvSpPr>
                  <p:spPr>
                    <a:xfrm>
                      <a:off x="1092240" y="4691520"/>
                      <a:ext cx="50760" cy="35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6" h="1149">
                          <a:moveTo>
                            <a:pt x="15" y="42"/>
                          </a:moveTo>
                          <a:lnTo>
                            <a:pt x="0" y="0"/>
                          </a:lnTo>
                          <a:lnTo>
                            <a:pt x="73" y="28"/>
                          </a:lnTo>
                          <a:lnTo>
                            <a:pt x="77" y="57"/>
                          </a:lnTo>
                          <a:lnTo>
                            <a:pt x="82" y="82"/>
                          </a:lnTo>
                          <a:lnTo>
                            <a:pt x="90" y="111"/>
                          </a:lnTo>
                          <a:lnTo>
                            <a:pt x="98" y="133"/>
                          </a:lnTo>
                          <a:lnTo>
                            <a:pt x="108" y="159"/>
                          </a:lnTo>
                          <a:lnTo>
                            <a:pt x="118" y="189"/>
                          </a:lnTo>
                          <a:lnTo>
                            <a:pt x="124" y="217"/>
                          </a:lnTo>
                          <a:lnTo>
                            <a:pt x="129" y="249"/>
                          </a:lnTo>
                          <a:lnTo>
                            <a:pt x="135" y="281"/>
                          </a:lnTo>
                          <a:lnTo>
                            <a:pt x="140" y="316"/>
                          </a:lnTo>
                          <a:lnTo>
                            <a:pt x="149" y="351"/>
                          </a:lnTo>
                          <a:lnTo>
                            <a:pt x="155" y="376"/>
                          </a:lnTo>
                          <a:lnTo>
                            <a:pt x="163" y="407"/>
                          </a:lnTo>
                          <a:lnTo>
                            <a:pt x="169" y="429"/>
                          </a:lnTo>
                          <a:lnTo>
                            <a:pt x="174" y="452"/>
                          </a:lnTo>
                          <a:lnTo>
                            <a:pt x="176" y="479"/>
                          </a:lnTo>
                          <a:lnTo>
                            <a:pt x="178" y="505"/>
                          </a:lnTo>
                          <a:lnTo>
                            <a:pt x="180" y="535"/>
                          </a:lnTo>
                          <a:lnTo>
                            <a:pt x="185" y="574"/>
                          </a:lnTo>
                          <a:lnTo>
                            <a:pt x="189" y="608"/>
                          </a:lnTo>
                          <a:lnTo>
                            <a:pt x="193" y="644"/>
                          </a:lnTo>
                          <a:lnTo>
                            <a:pt x="199" y="678"/>
                          </a:lnTo>
                          <a:lnTo>
                            <a:pt x="201" y="708"/>
                          </a:lnTo>
                          <a:lnTo>
                            <a:pt x="204" y="759"/>
                          </a:lnTo>
                          <a:lnTo>
                            <a:pt x="205" y="795"/>
                          </a:lnTo>
                          <a:lnTo>
                            <a:pt x="205" y="837"/>
                          </a:lnTo>
                          <a:lnTo>
                            <a:pt x="206" y="864"/>
                          </a:lnTo>
                          <a:lnTo>
                            <a:pt x="205" y="900"/>
                          </a:lnTo>
                          <a:lnTo>
                            <a:pt x="203" y="942"/>
                          </a:lnTo>
                          <a:lnTo>
                            <a:pt x="200" y="976"/>
                          </a:lnTo>
                          <a:lnTo>
                            <a:pt x="202" y="1017"/>
                          </a:lnTo>
                          <a:lnTo>
                            <a:pt x="203" y="1055"/>
                          </a:lnTo>
                          <a:lnTo>
                            <a:pt x="199" y="1079"/>
                          </a:lnTo>
                          <a:lnTo>
                            <a:pt x="195" y="1102"/>
                          </a:lnTo>
                          <a:lnTo>
                            <a:pt x="191" y="1117"/>
                          </a:lnTo>
                          <a:lnTo>
                            <a:pt x="192" y="1134"/>
                          </a:lnTo>
                          <a:lnTo>
                            <a:pt x="197" y="1149"/>
                          </a:lnTo>
                          <a:lnTo>
                            <a:pt x="169" y="1145"/>
                          </a:lnTo>
                          <a:lnTo>
                            <a:pt x="153" y="1138"/>
                          </a:lnTo>
                          <a:lnTo>
                            <a:pt x="134" y="1132"/>
                          </a:lnTo>
                          <a:lnTo>
                            <a:pt x="117" y="1124"/>
                          </a:lnTo>
                          <a:lnTo>
                            <a:pt x="123" y="1094"/>
                          </a:lnTo>
                          <a:lnTo>
                            <a:pt x="126" y="1060"/>
                          </a:lnTo>
                          <a:lnTo>
                            <a:pt x="129" y="1024"/>
                          </a:lnTo>
                          <a:lnTo>
                            <a:pt x="133" y="980"/>
                          </a:lnTo>
                          <a:lnTo>
                            <a:pt x="138" y="928"/>
                          </a:lnTo>
                          <a:lnTo>
                            <a:pt x="141" y="868"/>
                          </a:lnTo>
                          <a:lnTo>
                            <a:pt x="136" y="815"/>
                          </a:lnTo>
                          <a:lnTo>
                            <a:pt x="135" y="761"/>
                          </a:lnTo>
                          <a:lnTo>
                            <a:pt x="129" y="704"/>
                          </a:lnTo>
                          <a:lnTo>
                            <a:pt x="123" y="653"/>
                          </a:lnTo>
                          <a:lnTo>
                            <a:pt x="118" y="605"/>
                          </a:lnTo>
                          <a:lnTo>
                            <a:pt x="114" y="562"/>
                          </a:lnTo>
                          <a:lnTo>
                            <a:pt x="111" y="520"/>
                          </a:lnTo>
                          <a:lnTo>
                            <a:pt x="108" y="483"/>
                          </a:lnTo>
                          <a:lnTo>
                            <a:pt x="105" y="444"/>
                          </a:lnTo>
                          <a:lnTo>
                            <a:pt x="99" y="401"/>
                          </a:lnTo>
                          <a:lnTo>
                            <a:pt x="93" y="354"/>
                          </a:lnTo>
                          <a:lnTo>
                            <a:pt x="81" y="314"/>
                          </a:lnTo>
                          <a:lnTo>
                            <a:pt x="70" y="273"/>
                          </a:lnTo>
                          <a:lnTo>
                            <a:pt x="59" y="238"/>
                          </a:lnTo>
                          <a:lnTo>
                            <a:pt x="53" y="204"/>
                          </a:lnTo>
                          <a:lnTo>
                            <a:pt x="48" y="166"/>
                          </a:lnTo>
                          <a:lnTo>
                            <a:pt x="43" y="128"/>
                          </a:lnTo>
                          <a:lnTo>
                            <a:pt x="30" y="85"/>
                          </a:lnTo>
                          <a:lnTo>
                            <a:pt x="15" y="42"/>
                          </a:lnTo>
                          <a:close/>
                        </a:path>
                      </a:pathLst>
                    </a:custGeom>
                    <a:solidFill>
                      <a:srgbClr val="4040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6270" name=""/>
                  <p:cNvSpPr/>
                  <p:nvPr/>
                </p:nvSpPr>
                <p:spPr>
                  <a:xfrm>
                    <a:off x="1128240" y="4704120"/>
                    <a:ext cx="33120" cy="31896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036">
                        <a:moveTo>
                          <a:pt x="0" y="0"/>
                        </a:moveTo>
                        <a:lnTo>
                          <a:pt x="13" y="33"/>
                        </a:lnTo>
                        <a:lnTo>
                          <a:pt x="26" y="64"/>
                        </a:lnTo>
                        <a:lnTo>
                          <a:pt x="37" y="97"/>
                        </a:lnTo>
                        <a:lnTo>
                          <a:pt x="47" y="134"/>
                        </a:lnTo>
                        <a:lnTo>
                          <a:pt x="55" y="168"/>
                        </a:lnTo>
                        <a:lnTo>
                          <a:pt x="63" y="203"/>
                        </a:lnTo>
                        <a:lnTo>
                          <a:pt x="71" y="246"/>
                        </a:lnTo>
                        <a:lnTo>
                          <a:pt x="79" y="298"/>
                        </a:lnTo>
                        <a:lnTo>
                          <a:pt x="88" y="352"/>
                        </a:lnTo>
                        <a:lnTo>
                          <a:pt x="94" y="388"/>
                        </a:lnTo>
                        <a:lnTo>
                          <a:pt x="102" y="434"/>
                        </a:lnTo>
                        <a:lnTo>
                          <a:pt x="108" y="479"/>
                        </a:lnTo>
                        <a:lnTo>
                          <a:pt x="111" y="522"/>
                        </a:lnTo>
                        <a:lnTo>
                          <a:pt x="114" y="569"/>
                        </a:lnTo>
                        <a:lnTo>
                          <a:pt x="117" y="616"/>
                        </a:lnTo>
                        <a:lnTo>
                          <a:pt x="120" y="671"/>
                        </a:lnTo>
                        <a:lnTo>
                          <a:pt x="124" y="722"/>
                        </a:lnTo>
                        <a:lnTo>
                          <a:pt x="128" y="777"/>
                        </a:lnTo>
                        <a:lnTo>
                          <a:pt x="131" y="818"/>
                        </a:lnTo>
                        <a:lnTo>
                          <a:pt x="136" y="854"/>
                        </a:lnTo>
                        <a:lnTo>
                          <a:pt x="138" y="898"/>
                        </a:lnTo>
                        <a:lnTo>
                          <a:pt x="137" y="942"/>
                        </a:lnTo>
                        <a:lnTo>
                          <a:pt x="135" y="986"/>
                        </a:lnTo>
                        <a:lnTo>
                          <a:pt x="133" y="1036"/>
                        </a:lnTo>
                      </a:path>
                    </a:pathLst>
                  </a:custGeom>
                  <a:noFill/>
                  <a:ln w="4680">
                    <a:solidFill>
                      <a:srgbClr val="c0c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6271" name=""/>
              <p:cNvGrpSpPr/>
              <p:nvPr/>
            </p:nvGrpSpPr>
            <p:grpSpPr>
              <a:xfrm>
                <a:off x="1083600" y="4663080"/>
                <a:ext cx="65160" cy="39600"/>
                <a:chOff x="1083600" y="4663080"/>
                <a:chExt cx="65160" cy="39600"/>
              </a:xfrm>
            </p:grpSpPr>
            <p:sp>
              <p:nvSpPr>
                <p:cNvPr id="6272" name=""/>
                <p:cNvSpPr/>
                <p:nvPr/>
              </p:nvSpPr>
              <p:spPr>
                <a:xfrm>
                  <a:off x="1083600" y="4663080"/>
                  <a:ext cx="65160" cy="39600"/>
                </a:xfrm>
                <a:prstGeom prst="ellipse">
                  <a:avLst/>
                </a:prstGeom>
                <a:solidFill>
                  <a:srgbClr val="4040ff"/>
                </a:solidFill>
                <a:ln w="3240">
                  <a:solidFill>
                    <a:srgbClr val="00002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73" name=""/>
                <p:cNvSpPr/>
                <p:nvPr/>
              </p:nvSpPr>
              <p:spPr>
                <a:xfrm>
                  <a:off x="1090800" y="4667400"/>
                  <a:ext cx="50400" cy="30240"/>
                </a:xfrm>
                <a:prstGeom prst="ellipse">
                  <a:avLst/>
                </a:prstGeom>
                <a:solidFill>
                  <a:srgbClr val="000080"/>
                </a:solidFill>
                <a:ln w="3240">
                  <a:solidFill>
                    <a:srgbClr val="00002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0" bIns="-25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74" name=""/>
                <p:cNvSpPr/>
                <p:nvPr/>
              </p:nvSpPr>
              <p:spPr>
                <a:xfrm>
                  <a:off x="1093320" y="4670640"/>
                  <a:ext cx="42840" cy="22680"/>
                </a:xfrm>
                <a:prstGeom prst="ellipse">
                  <a:avLst/>
                </a:prstGeom>
                <a:solidFill>
                  <a:srgbClr val="400040"/>
                </a:solidFill>
                <a:ln w="3240">
                  <a:solidFill>
                    <a:srgbClr val="00002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275" name=""/>
          <p:cNvSpPr/>
          <p:nvPr/>
        </p:nvSpPr>
        <p:spPr>
          <a:xfrm>
            <a:off x="230760" y="4568760"/>
            <a:ext cx="779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000000"/>
                </a:solidFill>
                <a:latin typeface="Times New Roman"/>
              </a:rPr>
              <a:t>Atri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000000"/>
                </a:solidFill>
                <a:latin typeface="Times New Roman"/>
              </a:rPr>
              <a:t>srdeční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6" name=""/>
          <p:cNvSpPr/>
          <p:nvPr/>
        </p:nvSpPr>
        <p:spPr>
          <a:xfrm>
            <a:off x="2640960" y="4511520"/>
            <a:ext cx="1823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600" spc="-1" strike="noStrike">
                <a:solidFill>
                  <a:srgbClr val="000000"/>
                </a:solidFill>
                <a:latin typeface="Times New Roman"/>
              </a:rPr>
              <a:t>Atriální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600" spc="-1" strike="noStrike">
                <a:solidFill>
                  <a:srgbClr val="000000"/>
                </a:solidFill>
                <a:latin typeface="Times New Roman"/>
              </a:rPr>
              <a:t>natriuretický fak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77" name=""/>
          <p:cNvGrpSpPr/>
          <p:nvPr/>
        </p:nvGrpSpPr>
        <p:grpSpPr>
          <a:xfrm>
            <a:off x="5432400" y="3668760"/>
            <a:ext cx="772920" cy="1620360"/>
            <a:chOff x="5432400" y="3668760"/>
            <a:chExt cx="772920" cy="1620360"/>
          </a:xfrm>
        </p:grpSpPr>
        <p:sp>
          <p:nvSpPr>
            <p:cNvPr id="6278" name=""/>
            <p:cNvSpPr/>
            <p:nvPr/>
          </p:nvSpPr>
          <p:spPr>
            <a:xfrm>
              <a:off x="5845680" y="4345920"/>
              <a:ext cx="133560" cy="158040"/>
            </a:xfrm>
            <a:custGeom>
              <a:avLst/>
              <a:gdLst/>
              <a:ahLst/>
              <a:rect l="l" t="t" r="r" b="b"/>
              <a:pathLst>
                <a:path w="326" h="434">
                  <a:moveTo>
                    <a:pt x="240" y="3"/>
                  </a:moveTo>
                  <a:lnTo>
                    <a:pt x="273" y="0"/>
                  </a:lnTo>
                  <a:lnTo>
                    <a:pt x="297" y="13"/>
                  </a:lnTo>
                  <a:lnTo>
                    <a:pt x="313" y="34"/>
                  </a:lnTo>
                  <a:lnTo>
                    <a:pt x="323" y="65"/>
                  </a:lnTo>
                  <a:lnTo>
                    <a:pt x="326" y="89"/>
                  </a:lnTo>
                  <a:lnTo>
                    <a:pt x="326" y="126"/>
                  </a:lnTo>
                  <a:lnTo>
                    <a:pt x="321" y="164"/>
                  </a:lnTo>
                  <a:lnTo>
                    <a:pt x="316" y="195"/>
                  </a:lnTo>
                  <a:lnTo>
                    <a:pt x="307" y="232"/>
                  </a:lnTo>
                  <a:lnTo>
                    <a:pt x="294" y="261"/>
                  </a:lnTo>
                  <a:lnTo>
                    <a:pt x="277" y="299"/>
                  </a:lnTo>
                  <a:lnTo>
                    <a:pt x="263" y="331"/>
                  </a:lnTo>
                  <a:lnTo>
                    <a:pt x="245" y="359"/>
                  </a:lnTo>
                  <a:lnTo>
                    <a:pt x="219" y="385"/>
                  </a:lnTo>
                  <a:lnTo>
                    <a:pt x="187" y="413"/>
                  </a:lnTo>
                  <a:lnTo>
                    <a:pt x="156" y="419"/>
                  </a:lnTo>
                  <a:lnTo>
                    <a:pt x="126" y="429"/>
                  </a:lnTo>
                  <a:lnTo>
                    <a:pt x="99" y="434"/>
                  </a:lnTo>
                  <a:lnTo>
                    <a:pt x="65" y="424"/>
                  </a:lnTo>
                  <a:lnTo>
                    <a:pt x="31" y="395"/>
                  </a:lnTo>
                  <a:lnTo>
                    <a:pt x="11" y="374"/>
                  </a:lnTo>
                  <a:lnTo>
                    <a:pt x="5" y="349"/>
                  </a:lnTo>
                  <a:lnTo>
                    <a:pt x="0" y="310"/>
                  </a:lnTo>
                  <a:lnTo>
                    <a:pt x="9" y="266"/>
                  </a:lnTo>
                  <a:lnTo>
                    <a:pt x="21" y="234"/>
                  </a:lnTo>
                  <a:lnTo>
                    <a:pt x="34" y="208"/>
                  </a:lnTo>
                  <a:lnTo>
                    <a:pt x="66" y="166"/>
                  </a:lnTo>
                  <a:lnTo>
                    <a:pt x="94" y="154"/>
                  </a:lnTo>
                  <a:lnTo>
                    <a:pt x="122" y="146"/>
                  </a:lnTo>
                  <a:lnTo>
                    <a:pt x="177" y="78"/>
                  </a:lnTo>
                  <a:lnTo>
                    <a:pt x="196" y="44"/>
                  </a:lnTo>
                  <a:lnTo>
                    <a:pt x="216" y="22"/>
                  </a:lnTo>
                  <a:lnTo>
                    <a:pt x="240" y="3"/>
                  </a:lnTo>
                  <a:close/>
                </a:path>
              </a:pathLst>
            </a:custGeom>
            <a:solidFill>
              <a:srgbClr val="dfd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9" name=""/>
            <p:cNvSpPr/>
            <p:nvPr/>
          </p:nvSpPr>
          <p:spPr>
            <a:xfrm>
              <a:off x="5867640" y="4434120"/>
              <a:ext cx="130320" cy="114120"/>
            </a:xfrm>
            <a:custGeom>
              <a:avLst/>
              <a:gdLst/>
              <a:ahLst/>
              <a:rect l="l" t="t" r="r" b="b"/>
              <a:pathLst>
                <a:path w="317" h="314">
                  <a:moveTo>
                    <a:pt x="276" y="8"/>
                  </a:moveTo>
                  <a:lnTo>
                    <a:pt x="297" y="0"/>
                  </a:lnTo>
                  <a:lnTo>
                    <a:pt x="309" y="11"/>
                  </a:lnTo>
                  <a:lnTo>
                    <a:pt x="315" y="34"/>
                  </a:lnTo>
                  <a:lnTo>
                    <a:pt x="315" y="55"/>
                  </a:lnTo>
                  <a:lnTo>
                    <a:pt x="317" y="83"/>
                  </a:lnTo>
                  <a:lnTo>
                    <a:pt x="317" y="104"/>
                  </a:lnTo>
                  <a:lnTo>
                    <a:pt x="317" y="132"/>
                  </a:lnTo>
                  <a:lnTo>
                    <a:pt x="317" y="166"/>
                  </a:lnTo>
                  <a:lnTo>
                    <a:pt x="315" y="195"/>
                  </a:lnTo>
                  <a:lnTo>
                    <a:pt x="307" y="224"/>
                  </a:lnTo>
                  <a:lnTo>
                    <a:pt x="292" y="250"/>
                  </a:lnTo>
                  <a:lnTo>
                    <a:pt x="268" y="272"/>
                  </a:lnTo>
                  <a:lnTo>
                    <a:pt x="240" y="289"/>
                  </a:lnTo>
                  <a:lnTo>
                    <a:pt x="195" y="304"/>
                  </a:lnTo>
                  <a:lnTo>
                    <a:pt x="154" y="311"/>
                  </a:lnTo>
                  <a:lnTo>
                    <a:pt x="115" y="314"/>
                  </a:lnTo>
                  <a:lnTo>
                    <a:pt x="71" y="311"/>
                  </a:lnTo>
                  <a:lnTo>
                    <a:pt x="41" y="304"/>
                  </a:lnTo>
                  <a:lnTo>
                    <a:pt x="15" y="299"/>
                  </a:lnTo>
                  <a:lnTo>
                    <a:pt x="0" y="286"/>
                  </a:lnTo>
                  <a:lnTo>
                    <a:pt x="2" y="268"/>
                  </a:lnTo>
                  <a:lnTo>
                    <a:pt x="19" y="254"/>
                  </a:lnTo>
                  <a:lnTo>
                    <a:pt x="52" y="244"/>
                  </a:lnTo>
                  <a:lnTo>
                    <a:pt x="88" y="226"/>
                  </a:lnTo>
                  <a:lnTo>
                    <a:pt x="125" y="211"/>
                  </a:lnTo>
                  <a:lnTo>
                    <a:pt x="166" y="179"/>
                  </a:lnTo>
                  <a:lnTo>
                    <a:pt x="193" y="153"/>
                  </a:lnTo>
                  <a:lnTo>
                    <a:pt x="209" y="133"/>
                  </a:lnTo>
                  <a:lnTo>
                    <a:pt x="226" y="104"/>
                  </a:lnTo>
                  <a:lnTo>
                    <a:pt x="239" y="73"/>
                  </a:lnTo>
                  <a:lnTo>
                    <a:pt x="248" y="41"/>
                  </a:lnTo>
                  <a:lnTo>
                    <a:pt x="261" y="21"/>
                  </a:lnTo>
                  <a:lnTo>
                    <a:pt x="276" y="8"/>
                  </a:lnTo>
                  <a:close/>
                </a:path>
              </a:pathLst>
            </a:custGeom>
            <a:solidFill>
              <a:srgbClr val="dfd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0" name=""/>
            <p:cNvSpPr/>
            <p:nvPr/>
          </p:nvSpPr>
          <p:spPr>
            <a:xfrm>
              <a:off x="5661000" y="4349520"/>
              <a:ext cx="133560" cy="158040"/>
            </a:xfrm>
            <a:custGeom>
              <a:avLst/>
              <a:gdLst/>
              <a:ahLst/>
              <a:rect l="l" t="t" r="r" b="b"/>
              <a:pathLst>
                <a:path w="326" h="435">
                  <a:moveTo>
                    <a:pt x="86" y="4"/>
                  </a:moveTo>
                  <a:lnTo>
                    <a:pt x="53" y="0"/>
                  </a:lnTo>
                  <a:lnTo>
                    <a:pt x="29" y="13"/>
                  </a:lnTo>
                  <a:lnTo>
                    <a:pt x="13" y="35"/>
                  </a:lnTo>
                  <a:lnTo>
                    <a:pt x="3" y="65"/>
                  </a:lnTo>
                  <a:lnTo>
                    <a:pt x="0" y="90"/>
                  </a:lnTo>
                  <a:lnTo>
                    <a:pt x="0" y="127"/>
                  </a:lnTo>
                  <a:lnTo>
                    <a:pt x="5" y="165"/>
                  </a:lnTo>
                  <a:lnTo>
                    <a:pt x="9" y="196"/>
                  </a:lnTo>
                  <a:lnTo>
                    <a:pt x="19" y="233"/>
                  </a:lnTo>
                  <a:lnTo>
                    <a:pt x="32" y="262"/>
                  </a:lnTo>
                  <a:lnTo>
                    <a:pt x="48" y="300"/>
                  </a:lnTo>
                  <a:lnTo>
                    <a:pt x="63" y="332"/>
                  </a:lnTo>
                  <a:lnTo>
                    <a:pt x="81" y="360"/>
                  </a:lnTo>
                  <a:lnTo>
                    <a:pt x="107" y="386"/>
                  </a:lnTo>
                  <a:lnTo>
                    <a:pt x="139" y="413"/>
                  </a:lnTo>
                  <a:lnTo>
                    <a:pt x="170" y="420"/>
                  </a:lnTo>
                  <a:lnTo>
                    <a:pt x="199" y="430"/>
                  </a:lnTo>
                  <a:lnTo>
                    <a:pt x="227" y="435"/>
                  </a:lnTo>
                  <a:lnTo>
                    <a:pt x="261" y="425"/>
                  </a:lnTo>
                  <a:lnTo>
                    <a:pt x="295" y="396"/>
                  </a:lnTo>
                  <a:lnTo>
                    <a:pt x="315" y="374"/>
                  </a:lnTo>
                  <a:lnTo>
                    <a:pt x="321" y="350"/>
                  </a:lnTo>
                  <a:lnTo>
                    <a:pt x="326" y="311"/>
                  </a:lnTo>
                  <a:lnTo>
                    <a:pt x="316" y="267"/>
                  </a:lnTo>
                  <a:lnTo>
                    <a:pt x="305" y="235"/>
                  </a:lnTo>
                  <a:lnTo>
                    <a:pt x="292" y="209"/>
                  </a:lnTo>
                  <a:lnTo>
                    <a:pt x="260" y="166"/>
                  </a:lnTo>
                  <a:lnTo>
                    <a:pt x="232" y="155"/>
                  </a:lnTo>
                  <a:lnTo>
                    <a:pt x="204" y="147"/>
                  </a:lnTo>
                  <a:lnTo>
                    <a:pt x="149" y="78"/>
                  </a:lnTo>
                  <a:lnTo>
                    <a:pt x="130" y="44"/>
                  </a:lnTo>
                  <a:lnTo>
                    <a:pt x="110" y="23"/>
                  </a:lnTo>
                  <a:lnTo>
                    <a:pt x="86" y="4"/>
                  </a:lnTo>
                  <a:close/>
                </a:path>
              </a:pathLst>
            </a:custGeom>
            <a:solidFill>
              <a:srgbClr val="dfd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1" name=""/>
            <p:cNvSpPr/>
            <p:nvPr/>
          </p:nvSpPr>
          <p:spPr>
            <a:xfrm>
              <a:off x="5642280" y="4438080"/>
              <a:ext cx="129240" cy="114120"/>
            </a:xfrm>
            <a:custGeom>
              <a:avLst/>
              <a:gdLst/>
              <a:ahLst/>
              <a:rect l="l" t="t" r="r" b="b"/>
              <a:pathLst>
                <a:path w="317" h="314">
                  <a:moveTo>
                    <a:pt x="41" y="8"/>
                  </a:moveTo>
                  <a:lnTo>
                    <a:pt x="20" y="0"/>
                  </a:lnTo>
                  <a:lnTo>
                    <a:pt x="8" y="11"/>
                  </a:lnTo>
                  <a:lnTo>
                    <a:pt x="2" y="34"/>
                  </a:lnTo>
                  <a:lnTo>
                    <a:pt x="2" y="55"/>
                  </a:lnTo>
                  <a:lnTo>
                    <a:pt x="0" y="83"/>
                  </a:lnTo>
                  <a:lnTo>
                    <a:pt x="0" y="104"/>
                  </a:lnTo>
                  <a:lnTo>
                    <a:pt x="0" y="131"/>
                  </a:lnTo>
                  <a:lnTo>
                    <a:pt x="0" y="166"/>
                  </a:lnTo>
                  <a:lnTo>
                    <a:pt x="2" y="195"/>
                  </a:lnTo>
                  <a:lnTo>
                    <a:pt x="10" y="224"/>
                  </a:lnTo>
                  <a:lnTo>
                    <a:pt x="25" y="250"/>
                  </a:lnTo>
                  <a:lnTo>
                    <a:pt x="49" y="271"/>
                  </a:lnTo>
                  <a:lnTo>
                    <a:pt x="77" y="289"/>
                  </a:lnTo>
                  <a:lnTo>
                    <a:pt x="122" y="304"/>
                  </a:lnTo>
                  <a:lnTo>
                    <a:pt x="163" y="310"/>
                  </a:lnTo>
                  <a:lnTo>
                    <a:pt x="202" y="314"/>
                  </a:lnTo>
                  <a:lnTo>
                    <a:pt x="245" y="310"/>
                  </a:lnTo>
                  <a:lnTo>
                    <a:pt x="276" y="304"/>
                  </a:lnTo>
                  <a:lnTo>
                    <a:pt x="302" y="299"/>
                  </a:lnTo>
                  <a:lnTo>
                    <a:pt x="317" y="286"/>
                  </a:lnTo>
                  <a:lnTo>
                    <a:pt x="315" y="268"/>
                  </a:lnTo>
                  <a:lnTo>
                    <a:pt x="297" y="253"/>
                  </a:lnTo>
                  <a:lnTo>
                    <a:pt x="265" y="244"/>
                  </a:lnTo>
                  <a:lnTo>
                    <a:pt x="229" y="226"/>
                  </a:lnTo>
                  <a:lnTo>
                    <a:pt x="192" y="211"/>
                  </a:lnTo>
                  <a:lnTo>
                    <a:pt x="151" y="179"/>
                  </a:lnTo>
                  <a:lnTo>
                    <a:pt x="124" y="153"/>
                  </a:lnTo>
                  <a:lnTo>
                    <a:pt x="107" y="133"/>
                  </a:lnTo>
                  <a:lnTo>
                    <a:pt x="91" y="104"/>
                  </a:lnTo>
                  <a:lnTo>
                    <a:pt x="78" y="73"/>
                  </a:lnTo>
                  <a:lnTo>
                    <a:pt x="68" y="40"/>
                  </a:lnTo>
                  <a:lnTo>
                    <a:pt x="55" y="21"/>
                  </a:lnTo>
                  <a:lnTo>
                    <a:pt x="41" y="8"/>
                  </a:lnTo>
                  <a:close/>
                </a:path>
              </a:pathLst>
            </a:custGeom>
            <a:solidFill>
              <a:srgbClr val="dfd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2" name=""/>
            <p:cNvSpPr/>
            <p:nvPr/>
          </p:nvSpPr>
          <p:spPr>
            <a:xfrm>
              <a:off x="5859360" y="4395600"/>
              <a:ext cx="39240" cy="36360"/>
            </a:xfrm>
            <a:custGeom>
              <a:avLst/>
              <a:gdLst/>
              <a:ahLst/>
              <a:rect l="l" t="t" r="r" b="b"/>
              <a:pathLst>
                <a:path w="96" h="99">
                  <a:moveTo>
                    <a:pt x="0" y="0"/>
                  </a:moveTo>
                  <a:lnTo>
                    <a:pt x="19" y="7"/>
                  </a:lnTo>
                  <a:lnTo>
                    <a:pt x="27" y="13"/>
                  </a:lnTo>
                  <a:lnTo>
                    <a:pt x="39" y="26"/>
                  </a:lnTo>
                  <a:lnTo>
                    <a:pt x="49" y="34"/>
                  </a:lnTo>
                  <a:lnTo>
                    <a:pt x="53" y="43"/>
                  </a:lnTo>
                  <a:lnTo>
                    <a:pt x="65" y="59"/>
                  </a:lnTo>
                  <a:lnTo>
                    <a:pt x="75" y="70"/>
                  </a:lnTo>
                  <a:lnTo>
                    <a:pt x="83" y="78"/>
                  </a:lnTo>
                  <a:lnTo>
                    <a:pt x="89" y="86"/>
                  </a:lnTo>
                  <a:lnTo>
                    <a:pt x="94" y="95"/>
                  </a:lnTo>
                  <a:lnTo>
                    <a:pt x="96" y="99"/>
                  </a:lnTo>
                </a:path>
              </a:pathLst>
            </a:custGeom>
            <a:noFill/>
            <a:ln w="9360">
              <a:solidFill>
                <a:srgbClr val="7f3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3" name=""/>
            <p:cNvSpPr/>
            <p:nvPr/>
          </p:nvSpPr>
          <p:spPr>
            <a:xfrm>
              <a:off x="5793120" y="4370760"/>
              <a:ext cx="31680" cy="6480"/>
            </a:xfrm>
            <a:custGeom>
              <a:avLst/>
              <a:gdLst/>
              <a:ahLst/>
              <a:rect l="l" t="t" r="r" b="b"/>
              <a:pathLst>
                <a:path w="76" h="18">
                  <a:moveTo>
                    <a:pt x="76" y="6"/>
                  </a:moveTo>
                  <a:lnTo>
                    <a:pt x="54" y="0"/>
                  </a:lnTo>
                  <a:lnTo>
                    <a:pt x="34" y="0"/>
                  </a:lnTo>
                  <a:lnTo>
                    <a:pt x="24" y="0"/>
                  </a:lnTo>
                  <a:lnTo>
                    <a:pt x="10" y="5"/>
                  </a:lnTo>
                  <a:lnTo>
                    <a:pt x="5" y="11"/>
                  </a:lnTo>
                  <a:lnTo>
                    <a:pt x="0" y="18"/>
                  </a:lnTo>
                </a:path>
              </a:pathLst>
            </a:custGeom>
            <a:noFill/>
            <a:ln w="9360">
              <a:solidFill>
                <a:srgbClr val="7f3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4" name=""/>
            <p:cNvSpPr/>
            <p:nvPr/>
          </p:nvSpPr>
          <p:spPr>
            <a:xfrm>
              <a:off x="5786640" y="4409640"/>
              <a:ext cx="20160" cy="5760"/>
            </a:xfrm>
            <a:custGeom>
              <a:avLst/>
              <a:gdLst/>
              <a:ahLst/>
              <a:rect l="l" t="t" r="r" b="b"/>
              <a:pathLst>
                <a:path w="50" h="16">
                  <a:moveTo>
                    <a:pt x="0" y="16"/>
                  </a:moveTo>
                  <a:lnTo>
                    <a:pt x="5" y="6"/>
                  </a:lnTo>
                  <a:lnTo>
                    <a:pt x="15" y="1"/>
                  </a:lnTo>
                  <a:lnTo>
                    <a:pt x="28" y="0"/>
                  </a:lnTo>
                  <a:lnTo>
                    <a:pt x="42" y="3"/>
                  </a:lnTo>
                  <a:lnTo>
                    <a:pt x="50" y="11"/>
                  </a:lnTo>
                </a:path>
              </a:pathLst>
            </a:custGeom>
            <a:noFill/>
            <a:ln w="9360">
              <a:solidFill>
                <a:srgbClr val="7f3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5" name=""/>
            <p:cNvSpPr/>
            <p:nvPr/>
          </p:nvSpPr>
          <p:spPr>
            <a:xfrm>
              <a:off x="5784120" y="4414680"/>
              <a:ext cx="5760" cy="3600"/>
            </a:xfrm>
            <a:custGeom>
              <a:avLst/>
              <a:gdLst/>
              <a:ahLst/>
              <a:rect l="l" t="t" r="r" b="b"/>
              <a:pathLst>
                <a:path w="15" h="10">
                  <a:moveTo>
                    <a:pt x="0" y="0"/>
                  </a:moveTo>
                  <a:lnTo>
                    <a:pt x="5" y="4"/>
                  </a:lnTo>
                  <a:lnTo>
                    <a:pt x="15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7f3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6" name=""/>
            <p:cNvSpPr/>
            <p:nvPr/>
          </p:nvSpPr>
          <p:spPr>
            <a:xfrm>
              <a:off x="5681520" y="4366440"/>
              <a:ext cx="144000" cy="922680"/>
            </a:xfrm>
            <a:custGeom>
              <a:avLst/>
              <a:gdLst/>
              <a:ahLst/>
              <a:rect l="l" t="t" r="r" b="b"/>
              <a:pathLst>
                <a:path w="353" h="2533">
                  <a:moveTo>
                    <a:pt x="353" y="0"/>
                  </a:moveTo>
                  <a:lnTo>
                    <a:pt x="309" y="27"/>
                  </a:lnTo>
                  <a:lnTo>
                    <a:pt x="279" y="48"/>
                  </a:lnTo>
                  <a:lnTo>
                    <a:pt x="252" y="68"/>
                  </a:lnTo>
                  <a:lnTo>
                    <a:pt x="223" y="89"/>
                  </a:lnTo>
                  <a:lnTo>
                    <a:pt x="185" y="122"/>
                  </a:lnTo>
                  <a:lnTo>
                    <a:pt x="154" y="157"/>
                  </a:lnTo>
                  <a:lnTo>
                    <a:pt x="130" y="193"/>
                  </a:lnTo>
                  <a:lnTo>
                    <a:pt x="117" y="211"/>
                  </a:lnTo>
                  <a:lnTo>
                    <a:pt x="104" y="237"/>
                  </a:lnTo>
                  <a:lnTo>
                    <a:pt x="94" y="265"/>
                  </a:lnTo>
                  <a:lnTo>
                    <a:pt x="84" y="297"/>
                  </a:lnTo>
                  <a:lnTo>
                    <a:pt x="80" y="326"/>
                  </a:lnTo>
                  <a:lnTo>
                    <a:pt x="75" y="362"/>
                  </a:lnTo>
                  <a:lnTo>
                    <a:pt x="73" y="400"/>
                  </a:lnTo>
                  <a:lnTo>
                    <a:pt x="70" y="450"/>
                  </a:lnTo>
                  <a:lnTo>
                    <a:pt x="68" y="499"/>
                  </a:lnTo>
                  <a:lnTo>
                    <a:pt x="68" y="549"/>
                  </a:lnTo>
                  <a:lnTo>
                    <a:pt x="68" y="579"/>
                  </a:lnTo>
                  <a:lnTo>
                    <a:pt x="71" y="647"/>
                  </a:lnTo>
                  <a:lnTo>
                    <a:pt x="75" y="714"/>
                  </a:lnTo>
                  <a:lnTo>
                    <a:pt x="80" y="785"/>
                  </a:lnTo>
                  <a:lnTo>
                    <a:pt x="86" y="904"/>
                  </a:lnTo>
                  <a:lnTo>
                    <a:pt x="91" y="975"/>
                  </a:lnTo>
                  <a:lnTo>
                    <a:pt x="94" y="1036"/>
                  </a:lnTo>
                  <a:lnTo>
                    <a:pt x="96" y="1166"/>
                  </a:lnTo>
                  <a:lnTo>
                    <a:pt x="60" y="1198"/>
                  </a:lnTo>
                  <a:lnTo>
                    <a:pt x="96" y="1171"/>
                  </a:lnTo>
                  <a:lnTo>
                    <a:pt x="63" y="1211"/>
                  </a:lnTo>
                  <a:lnTo>
                    <a:pt x="94" y="1177"/>
                  </a:lnTo>
                  <a:lnTo>
                    <a:pt x="78" y="1218"/>
                  </a:lnTo>
                  <a:lnTo>
                    <a:pt x="96" y="1184"/>
                  </a:lnTo>
                  <a:lnTo>
                    <a:pt x="96" y="1244"/>
                  </a:lnTo>
                  <a:lnTo>
                    <a:pt x="115" y="956"/>
                  </a:lnTo>
                  <a:lnTo>
                    <a:pt x="109" y="787"/>
                  </a:lnTo>
                  <a:lnTo>
                    <a:pt x="104" y="709"/>
                  </a:lnTo>
                  <a:lnTo>
                    <a:pt x="101" y="653"/>
                  </a:lnTo>
                  <a:lnTo>
                    <a:pt x="101" y="600"/>
                  </a:lnTo>
                  <a:lnTo>
                    <a:pt x="101" y="551"/>
                  </a:lnTo>
                  <a:lnTo>
                    <a:pt x="101" y="509"/>
                  </a:lnTo>
                  <a:lnTo>
                    <a:pt x="104" y="473"/>
                  </a:lnTo>
                  <a:lnTo>
                    <a:pt x="106" y="435"/>
                  </a:lnTo>
                  <a:lnTo>
                    <a:pt x="110" y="392"/>
                  </a:lnTo>
                  <a:lnTo>
                    <a:pt x="127" y="413"/>
                  </a:lnTo>
                  <a:lnTo>
                    <a:pt x="148" y="455"/>
                  </a:lnTo>
                  <a:lnTo>
                    <a:pt x="162" y="489"/>
                  </a:lnTo>
                  <a:lnTo>
                    <a:pt x="175" y="522"/>
                  </a:lnTo>
                  <a:lnTo>
                    <a:pt x="185" y="554"/>
                  </a:lnTo>
                  <a:lnTo>
                    <a:pt x="192" y="579"/>
                  </a:lnTo>
                  <a:lnTo>
                    <a:pt x="195" y="609"/>
                  </a:lnTo>
                  <a:lnTo>
                    <a:pt x="198" y="639"/>
                  </a:lnTo>
                  <a:lnTo>
                    <a:pt x="198" y="725"/>
                  </a:lnTo>
                  <a:lnTo>
                    <a:pt x="197" y="792"/>
                  </a:lnTo>
                  <a:lnTo>
                    <a:pt x="195" y="941"/>
                  </a:lnTo>
                  <a:lnTo>
                    <a:pt x="190" y="1182"/>
                  </a:lnTo>
                  <a:lnTo>
                    <a:pt x="184" y="1253"/>
                  </a:lnTo>
                  <a:lnTo>
                    <a:pt x="175" y="1296"/>
                  </a:lnTo>
                  <a:lnTo>
                    <a:pt x="164" y="1349"/>
                  </a:lnTo>
                  <a:lnTo>
                    <a:pt x="161" y="1362"/>
                  </a:lnTo>
                  <a:lnTo>
                    <a:pt x="135" y="1442"/>
                  </a:lnTo>
                  <a:lnTo>
                    <a:pt x="123" y="1507"/>
                  </a:lnTo>
                  <a:lnTo>
                    <a:pt x="107" y="1528"/>
                  </a:lnTo>
                  <a:lnTo>
                    <a:pt x="88" y="1545"/>
                  </a:lnTo>
                  <a:lnTo>
                    <a:pt x="62" y="1566"/>
                  </a:lnTo>
                  <a:lnTo>
                    <a:pt x="45" y="1585"/>
                  </a:lnTo>
                  <a:lnTo>
                    <a:pt x="29" y="1605"/>
                  </a:lnTo>
                  <a:lnTo>
                    <a:pt x="18" y="1624"/>
                  </a:lnTo>
                  <a:lnTo>
                    <a:pt x="10" y="1649"/>
                  </a:lnTo>
                  <a:lnTo>
                    <a:pt x="5" y="1668"/>
                  </a:lnTo>
                  <a:lnTo>
                    <a:pt x="2" y="1691"/>
                  </a:lnTo>
                  <a:lnTo>
                    <a:pt x="0" y="1722"/>
                  </a:lnTo>
                  <a:lnTo>
                    <a:pt x="2" y="1746"/>
                  </a:lnTo>
                  <a:lnTo>
                    <a:pt x="8" y="1782"/>
                  </a:lnTo>
                  <a:lnTo>
                    <a:pt x="16" y="1813"/>
                  </a:lnTo>
                  <a:lnTo>
                    <a:pt x="31" y="1849"/>
                  </a:lnTo>
                  <a:lnTo>
                    <a:pt x="50" y="1891"/>
                  </a:lnTo>
                  <a:lnTo>
                    <a:pt x="62" y="1915"/>
                  </a:lnTo>
                  <a:lnTo>
                    <a:pt x="73" y="1941"/>
                  </a:lnTo>
                  <a:lnTo>
                    <a:pt x="84" y="1961"/>
                  </a:lnTo>
                  <a:lnTo>
                    <a:pt x="89" y="1984"/>
                  </a:lnTo>
                  <a:lnTo>
                    <a:pt x="91" y="2010"/>
                  </a:lnTo>
                  <a:lnTo>
                    <a:pt x="89" y="2037"/>
                  </a:lnTo>
                  <a:lnTo>
                    <a:pt x="84" y="2156"/>
                  </a:lnTo>
                  <a:lnTo>
                    <a:pt x="83" y="2171"/>
                  </a:lnTo>
                  <a:lnTo>
                    <a:pt x="88" y="2189"/>
                  </a:lnTo>
                  <a:lnTo>
                    <a:pt x="93" y="2203"/>
                  </a:lnTo>
                  <a:lnTo>
                    <a:pt x="125" y="2299"/>
                  </a:lnTo>
                  <a:lnTo>
                    <a:pt x="127" y="2307"/>
                  </a:lnTo>
                  <a:lnTo>
                    <a:pt x="122" y="2330"/>
                  </a:lnTo>
                  <a:lnTo>
                    <a:pt x="115" y="2350"/>
                  </a:lnTo>
                  <a:lnTo>
                    <a:pt x="107" y="2364"/>
                  </a:lnTo>
                  <a:lnTo>
                    <a:pt x="76" y="2411"/>
                  </a:lnTo>
                  <a:lnTo>
                    <a:pt x="97" y="2389"/>
                  </a:lnTo>
                  <a:lnTo>
                    <a:pt x="112" y="2369"/>
                  </a:lnTo>
                  <a:lnTo>
                    <a:pt x="122" y="2355"/>
                  </a:lnTo>
                  <a:lnTo>
                    <a:pt x="128" y="2338"/>
                  </a:lnTo>
                  <a:lnTo>
                    <a:pt x="132" y="2322"/>
                  </a:lnTo>
                  <a:lnTo>
                    <a:pt x="143" y="2359"/>
                  </a:lnTo>
                  <a:lnTo>
                    <a:pt x="140" y="2376"/>
                  </a:lnTo>
                  <a:lnTo>
                    <a:pt x="128" y="2397"/>
                  </a:lnTo>
                  <a:lnTo>
                    <a:pt x="120" y="2408"/>
                  </a:lnTo>
                  <a:lnTo>
                    <a:pt x="110" y="2420"/>
                  </a:lnTo>
                  <a:lnTo>
                    <a:pt x="96" y="2433"/>
                  </a:lnTo>
                  <a:lnTo>
                    <a:pt x="55" y="2462"/>
                  </a:lnTo>
                  <a:lnTo>
                    <a:pt x="89" y="2441"/>
                  </a:lnTo>
                  <a:lnTo>
                    <a:pt x="94" y="2449"/>
                  </a:lnTo>
                  <a:lnTo>
                    <a:pt x="93" y="2486"/>
                  </a:lnTo>
                  <a:lnTo>
                    <a:pt x="99" y="2459"/>
                  </a:lnTo>
                  <a:lnTo>
                    <a:pt x="96" y="2439"/>
                  </a:lnTo>
                  <a:lnTo>
                    <a:pt x="114" y="2428"/>
                  </a:lnTo>
                  <a:lnTo>
                    <a:pt x="132" y="2410"/>
                  </a:lnTo>
                  <a:lnTo>
                    <a:pt x="141" y="2397"/>
                  </a:lnTo>
                  <a:lnTo>
                    <a:pt x="151" y="2376"/>
                  </a:lnTo>
                  <a:lnTo>
                    <a:pt x="159" y="2390"/>
                  </a:lnTo>
                  <a:lnTo>
                    <a:pt x="171" y="2416"/>
                  </a:lnTo>
                  <a:lnTo>
                    <a:pt x="164" y="2429"/>
                  </a:lnTo>
                  <a:lnTo>
                    <a:pt x="145" y="2447"/>
                  </a:lnTo>
                  <a:lnTo>
                    <a:pt x="161" y="2439"/>
                  </a:lnTo>
                  <a:lnTo>
                    <a:pt x="174" y="2428"/>
                  </a:lnTo>
                  <a:lnTo>
                    <a:pt x="221" y="2533"/>
                  </a:lnTo>
                  <a:lnTo>
                    <a:pt x="167" y="2384"/>
                  </a:lnTo>
                  <a:lnTo>
                    <a:pt x="149" y="2342"/>
                  </a:lnTo>
                  <a:lnTo>
                    <a:pt x="143" y="2325"/>
                  </a:lnTo>
                  <a:lnTo>
                    <a:pt x="140" y="2307"/>
                  </a:lnTo>
                  <a:lnTo>
                    <a:pt x="130" y="2276"/>
                  </a:lnTo>
                  <a:lnTo>
                    <a:pt x="107" y="2205"/>
                  </a:lnTo>
                  <a:lnTo>
                    <a:pt x="101" y="2181"/>
                  </a:lnTo>
                  <a:lnTo>
                    <a:pt x="97" y="2163"/>
                  </a:lnTo>
                  <a:lnTo>
                    <a:pt x="97" y="2146"/>
                  </a:lnTo>
                  <a:lnTo>
                    <a:pt x="107" y="2033"/>
                  </a:lnTo>
                  <a:lnTo>
                    <a:pt x="110" y="2008"/>
                  </a:lnTo>
                  <a:lnTo>
                    <a:pt x="107" y="1984"/>
                  </a:lnTo>
                  <a:lnTo>
                    <a:pt x="104" y="1961"/>
                  </a:lnTo>
                  <a:lnTo>
                    <a:pt x="96" y="1943"/>
                  </a:lnTo>
                  <a:lnTo>
                    <a:pt x="83" y="1915"/>
                  </a:lnTo>
                  <a:lnTo>
                    <a:pt x="71" y="1893"/>
                  </a:lnTo>
                  <a:lnTo>
                    <a:pt x="58" y="1867"/>
                  </a:lnTo>
                  <a:lnTo>
                    <a:pt x="45" y="1834"/>
                  </a:lnTo>
                  <a:lnTo>
                    <a:pt x="34" y="1808"/>
                  </a:lnTo>
                  <a:lnTo>
                    <a:pt x="28" y="1782"/>
                  </a:lnTo>
                  <a:lnTo>
                    <a:pt x="21" y="1745"/>
                  </a:lnTo>
                  <a:lnTo>
                    <a:pt x="21" y="1717"/>
                  </a:lnTo>
                  <a:lnTo>
                    <a:pt x="23" y="1691"/>
                  </a:lnTo>
                  <a:lnTo>
                    <a:pt x="28" y="1667"/>
                  </a:lnTo>
                  <a:lnTo>
                    <a:pt x="32" y="1645"/>
                  </a:lnTo>
                  <a:lnTo>
                    <a:pt x="41" y="1628"/>
                  </a:lnTo>
                  <a:lnTo>
                    <a:pt x="52" y="1610"/>
                  </a:lnTo>
                  <a:lnTo>
                    <a:pt x="63" y="1595"/>
                  </a:lnTo>
                  <a:lnTo>
                    <a:pt x="83" y="1579"/>
                  </a:lnTo>
                  <a:lnTo>
                    <a:pt x="104" y="1561"/>
                  </a:lnTo>
                  <a:lnTo>
                    <a:pt x="128" y="1538"/>
                  </a:lnTo>
                  <a:lnTo>
                    <a:pt x="136" y="1761"/>
                  </a:lnTo>
                  <a:lnTo>
                    <a:pt x="120" y="1771"/>
                  </a:lnTo>
                  <a:lnTo>
                    <a:pt x="107" y="1780"/>
                  </a:lnTo>
                  <a:lnTo>
                    <a:pt x="96" y="1793"/>
                  </a:lnTo>
                  <a:lnTo>
                    <a:pt x="86" y="1808"/>
                  </a:lnTo>
                  <a:lnTo>
                    <a:pt x="78" y="1828"/>
                  </a:lnTo>
                  <a:lnTo>
                    <a:pt x="70" y="1858"/>
                  </a:lnTo>
                  <a:lnTo>
                    <a:pt x="88" y="1824"/>
                  </a:lnTo>
                  <a:lnTo>
                    <a:pt x="102" y="1803"/>
                  </a:lnTo>
                  <a:lnTo>
                    <a:pt x="117" y="1789"/>
                  </a:lnTo>
                  <a:lnTo>
                    <a:pt x="130" y="1780"/>
                  </a:lnTo>
                  <a:lnTo>
                    <a:pt x="140" y="1777"/>
                  </a:lnTo>
                  <a:lnTo>
                    <a:pt x="136" y="1795"/>
                  </a:lnTo>
                  <a:lnTo>
                    <a:pt x="154" y="2145"/>
                  </a:lnTo>
                  <a:lnTo>
                    <a:pt x="154" y="2174"/>
                  </a:lnTo>
                  <a:lnTo>
                    <a:pt x="156" y="2213"/>
                  </a:lnTo>
                  <a:lnTo>
                    <a:pt x="161" y="2281"/>
                  </a:lnTo>
                  <a:lnTo>
                    <a:pt x="171" y="2350"/>
                  </a:lnTo>
                  <a:lnTo>
                    <a:pt x="166" y="2215"/>
                  </a:lnTo>
                  <a:lnTo>
                    <a:pt x="171" y="2185"/>
                  </a:lnTo>
                  <a:lnTo>
                    <a:pt x="185" y="2187"/>
                  </a:lnTo>
                  <a:lnTo>
                    <a:pt x="167" y="2179"/>
                  </a:lnTo>
                  <a:lnTo>
                    <a:pt x="167" y="2141"/>
                  </a:lnTo>
                  <a:lnTo>
                    <a:pt x="161" y="1954"/>
                  </a:lnTo>
                  <a:lnTo>
                    <a:pt x="164" y="1937"/>
                  </a:lnTo>
                  <a:lnTo>
                    <a:pt x="192" y="1937"/>
                  </a:lnTo>
                  <a:lnTo>
                    <a:pt x="161" y="1930"/>
                  </a:lnTo>
                  <a:lnTo>
                    <a:pt x="154" y="1639"/>
                  </a:lnTo>
                  <a:lnTo>
                    <a:pt x="156" y="1538"/>
                  </a:lnTo>
                  <a:lnTo>
                    <a:pt x="153" y="1497"/>
                  </a:lnTo>
                  <a:lnTo>
                    <a:pt x="159" y="1436"/>
                  </a:lnTo>
                  <a:lnTo>
                    <a:pt x="182" y="1366"/>
                  </a:lnTo>
                  <a:lnTo>
                    <a:pt x="187" y="1351"/>
                  </a:lnTo>
                  <a:lnTo>
                    <a:pt x="200" y="1289"/>
                  </a:lnTo>
                  <a:lnTo>
                    <a:pt x="206" y="1249"/>
                  </a:lnTo>
                  <a:lnTo>
                    <a:pt x="213" y="1193"/>
                  </a:lnTo>
                  <a:lnTo>
                    <a:pt x="218" y="985"/>
                  </a:lnTo>
                  <a:lnTo>
                    <a:pt x="223" y="795"/>
                  </a:lnTo>
                  <a:lnTo>
                    <a:pt x="223" y="738"/>
                  </a:lnTo>
                  <a:lnTo>
                    <a:pt x="224" y="642"/>
                  </a:lnTo>
                  <a:lnTo>
                    <a:pt x="223" y="608"/>
                  </a:lnTo>
                  <a:lnTo>
                    <a:pt x="219" y="575"/>
                  </a:lnTo>
                  <a:lnTo>
                    <a:pt x="213" y="543"/>
                  </a:lnTo>
                  <a:lnTo>
                    <a:pt x="206" y="518"/>
                  </a:lnTo>
                  <a:lnTo>
                    <a:pt x="198" y="492"/>
                  </a:lnTo>
                  <a:lnTo>
                    <a:pt x="184" y="457"/>
                  </a:lnTo>
                  <a:lnTo>
                    <a:pt x="164" y="416"/>
                  </a:lnTo>
                  <a:lnTo>
                    <a:pt x="146" y="383"/>
                  </a:lnTo>
                  <a:lnTo>
                    <a:pt x="130" y="356"/>
                  </a:lnTo>
                  <a:lnTo>
                    <a:pt x="125" y="326"/>
                  </a:lnTo>
                  <a:lnTo>
                    <a:pt x="127" y="304"/>
                  </a:lnTo>
                  <a:lnTo>
                    <a:pt x="135" y="281"/>
                  </a:lnTo>
                  <a:lnTo>
                    <a:pt x="148" y="248"/>
                  </a:lnTo>
                  <a:lnTo>
                    <a:pt x="161" y="226"/>
                  </a:lnTo>
                  <a:lnTo>
                    <a:pt x="174" y="206"/>
                  </a:lnTo>
                  <a:lnTo>
                    <a:pt x="200" y="172"/>
                  </a:lnTo>
                  <a:lnTo>
                    <a:pt x="231" y="141"/>
                  </a:lnTo>
                  <a:lnTo>
                    <a:pt x="270" y="112"/>
                  </a:lnTo>
                  <a:lnTo>
                    <a:pt x="304" y="87"/>
                  </a:lnTo>
                  <a:lnTo>
                    <a:pt x="348" y="56"/>
                  </a:lnTo>
                  <a:lnTo>
                    <a:pt x="353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7" name=""/>
            <p:cNvSpPr/>
            <p:nvPr/>
          </p:nvSpPr>
          <p:spPr>
            <a:xfrm>
              <a:off x="5655240" y="4541400"/>
              <a:ext cx="60480" cy="257760"/>
            </a:xfrm>
            <a:custGeom>
              <a:avLst/>
              <a:gdLst/>
              <a:ahLst/>
              <a:rect l="l" t="t" r="r" b="b"/>
              <a:pathLst>
                <a:path w="149" h="708">
                  <a:moveTo>
                    <a:pt x="146" y="0"/>
                  </a:moveTo>
                  <a:lnTo>
                    <a:pt x="115" y="21"/>
                  </a:lnTo>
                  <a:lnTo>
                    <a:pt x="99" y="36"/>
                  </a:lnTo>
                  <a:lnTo>
                    <a:pt x="84" y="49"/>
                  </a:lnTo>
                  <a:lnTo>
                    <a:pt x="71" y="67"/>
                  </a:lnTo>
                  <a:lnTo>
                    <a:pt x="59" y="88"/>
                  </a:lnTo>
                  <a:lnTo>
                    <a:pt x="49" y="111"/>
                  </a:lnTo>
                  <a:lnTo>
                    <a:pt x="39" y="132"/>
                  </a:lnTo>
                  <a:lnTo>
                    <a:pt x="28" y="152"/>
                  </a:lnTo>
                  <a:lnTo>
                    <a:pt x="18" y="166"/>
                  </a:lnTo>
                  <a:lnTo>
                    <a:pt x="10" y="184"/>
                  </a:lnTo>
                  <a:lnTo>
                    <a:pt x="5" y="204"/>
                  </a:lnTo>
                  <a:lnTo>
                    <a:pt x="2" y="226"/>
                  </a:lnTo>
                  <a:lnTo>
                    <a:pt x="0" y="249"/>
                  </a:lnTo>
                  <a:lnTo>
                    <a:pt x="2" y="272"/>
                  </a:lnTo>
                  <a:lnTo>
                    <a:pt x="10" y="329"/>
                  </a:lnTo>
                  <a:lnTo>
                    <a:pt x="8" y="270"/>
                  </a:lnTo>
                  <a:lnTo>
                    <a:pt x="8" y="249"/>
                  </a:lnTo>
                  <a:lnTo>
                    <a:pt x="11" y="223"/>
                  </a:lnTo>
                  <a:lnTo>
                    <a:pt x="15" y="204"/>
                  </a:lnTo>
                  <a:lnTo>
                    <a:pt x="23" y="181"/>
                  </a:lnTo>
                  <a:lnTo>
                    <a:pt x="34" y="165"/>
                  </a:lnTo>
                  <a:lnTo>
                    <a:pt x="42" y="155"/>
                  </a:lnTo>
                  <a:lnTo>
                    <a:pt x="34" y="199"/>
                  </a:lnTo>
                  <a:lnTo>
                    <a:pt x="33" y="220"/>
                  </a:lnTo>
                  <a:lnTo>
                    <a:pt x="28" y="256"/>
                  </a:lnTo>
                  <a:lnTo>
                    <a:pt x="29" y="313"/>
                  </a:lnTo>
                  <a:lnTo>
                    <a:pt x="31" y="365"/>
                  </a:lnTo>
                  <a:lnTo>
                    <a:pt x="33" y="407"/>
                  </a:lnTo>
                  <a:lnTo>
                    <a:pt x="33" y="438"/>
                  </a:lnTo>
                  <a:lnTo>
                    <a:pt x="34" y="461"/>
                  </a:lnTo>
                  <a:lnTo>
                    <a:pt x="36" y="483"/>
                  </a:lnTo>
                  <a:lnTo>
                    <a:pt x="42" y="508"/>
                  </a:lnTo>
                  <a:lnTo>
                    <a:pt x="47" y="605"/>
                  </a:lnTo>
                  <a:lnTo>
                    <a:pt x="54" y="545"/>
                  </a:lnTo>
                  <a:lnTo>
                    <a:pt x="54" y="511"/>
                  </a:lnTo>
                  <a:lnTo>
                    <a:pt x="50" y="490"/>
                  </a:lnTo>
                  <a:lnTo>
                    <a:pt x="47" y="467"/>
                  </a:lnTo>
                  <a:lnTo>
                    <a:pt x="47" y="443"/>
                  </a:lnTo>
                  <a:lnTo>
                    <a:pt x="67" y="492"/>
                  </a:lnTo>
                  <a:lnTo>
                    <a:pt x="86" y="537"/>
                  </a:lnTo>
                  <a:lnTo>
                    <a:pt x="93" y="561"/>
                  </a:lnTo>
                  <a:lnTo>
                    <a:pt x="97" y="592"/>
                  </a:lnTo>
                  <a:lnTo>
                    <a:pt x="99" y="623"/>
                  </a:lnTo>
                  <a:lnTo>
                    <a:pt x="101" y="649"/>
                  </a:lnTo>
                  <a:lnTo>
                    <a:pt x="110" y="708"/>
                  </a:lnTo>
                  <a:lnTo>
                    <a:pt x="106" y="633"/>
                  </a:lnTo>
                  <a:lnTo>
                    <a:pt x="106" y="604"/>
                  </a:lnTo>
                  <a:lnTo>
                    <a:pt x="106" y="581"/>
                  </a:lnTo>
                  <a:lnTo>
                    <a:pt x="104" y="560"/>
                  </a:lnTo>
                  <a:lnTo>
                    <a:pt x="99" y="544"/>
                  </a:lnTo>
                  <a:lnTo>
                    <a:pt x="96" y="529"/>
                  </a:lnTo>
                  <a:lnTo>
                    <a:pt x="89" y="513"/>
                  </a:lnTo>
                  <a:lnTo>
                    <a:pt x="80" y="487"/>
                  </a:lnTo>
                  <a:lnTo>
                    <a:pt x="62" y="446"/>
                  </a:lnTo>
                  <a:lnTo>
                    <a:pt x="55" y="425"/>
                  </a:lnTo>
                  <a:lnTo>
                    <a:pt x="52" y="409"/>
                  </a:lnTo>
                  <a:lnTo>
                    <a:pt x="49" y="361"/>
                  </a:lnTo>
                  <a:lnTo>
                    <a:pt x="47" y="301"/>
                  </a:lnTo>
                  <a:lnTo>
                    <a:pt x="47" y="264"/>
                  </a:lnTo>
                  <a:lnTo>
                    <a:pt x="50" y="220"/>
                  </a:lnTo>
                  <a:lnTo>
                    <a:pt x="55" y="182"/>
                  </a:lnTo>
                  <a:lnTo>
                    <a:pt x="65" y="143"/>
                  </a:lnTo>
                  <a:lnTo>
                    <a:pt x="75" y="116"/>
                  </a:lnTo>
                  <a:lnTo>
                    <a:pt x="89" y="87"/>
                  </a:lnTo>
                  <a:lnTo>
                    <a:pt x="104" y="69"/>
                  </a:lnTo>
                  <a:lnTo>
                    <a:pt x="123" y="51"/>
                  </a:lnTo>
                  <a:lnTo>
                    <a:pt x="149" y="33"/>
                  </a:lnTo>
                  <a:lnTo>
                    <a:pt x="14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8" name=""/>
            <p:cNvSpPr/>
            <p:nvPr/>
          </p:nvSpPr>
          <p:spPr>
            <a:xfrm>
              <a:off x="5814360" y="4362840"/>
              <a:ext cx="144000" cy="922680"/>
            </a:xfrm>
            <a:custGeom>
              <a:avLst/>
              <a:gdLst/>
              <a:ahLst/>
              <a:rect l="l" t="t" r="r" b="b"/>
              <a:pathLst>
                <a:path w="353" h="2534">
                  <a:moveTo>
                    <a:pt x="0" y="0"/>
                  </a:moveTo>
                  <a:lnTo>
                    <a:pt x="44" y="27"/>
                  </a:lnTo>
                  <a:lnTo>
                    <a:pt x="73" y="49"/>
                  </a:lnTo>
                  <a:lnTo>
                    <a:pt x="101" y="68"/>
                  </a:lnTo>
                  <a:lnTo>
                    <a:pt x="130" y="89"/>
                  </a:lnTo>
                  <a:lnTo>
                    <a:pt x="168" y="122"/>
                  </a:lnTo>
                  <a:lnTo>
                    <a:pt x="199" y="158"/>
                  </a:lnTo>
                  <a:lnTo>
                    <a:pt x="223" y="193"/>
                  </a:lnTo>
                  <a:lnTo>
                    <a:pt x="236" y="211"/>
                  </a:lnTo>
                  <a:lnTo>
                    <a:pt x="249" y="237"/>
                  </a:lnTo>
                  <a:lnTo>
                    <a:pt x="259" y="265"/>
                  </a:lnTo>
                  <a:lnTo>
                    <a:pt x="268" y="297"/>
                  </a:lnTo>
                  <a:lnTo>
                    <a:pt x="273" y="327"/>
                  </a:lnTo>
                  <a:lnTo>
                    <a:pt x="278" y="362"/>
                  </a:lnTo>
                  <a:lnTo>
                    <a:pt x="280" y="400"/>
                  </a:lnTo>
                  <a:lnTo>
                    <a:pt x="283" y="450"/>
                  </a:lnTo>
                  <a:lnTo>
                    <a:pt x="285" y="499"/>
                  </a:lnTo>
                  <a:lnTo>
                    <a:pt x="285" y="550"/>
                  </a:lnTo>
                  <a:lnTo>
                    <a:pt x="285" y="579"/>
                  </a:lnTo>
                  <a:lnTo>
                    <a:pt x="281" y="647"/>
                  </a:lnTo>
                  <a:lnTo>
                    <a:pt x="278" y="714"/>
                  </a:lnTo>
                  <a:lnTo>
                    <a:pt x="273" y="785"/>
                  </a:lnTo>
                  <a:lnTo>
                    <a:pt x="267" y="904"/>
                  </a:lnTo>
                  <a:lnTo>
                    <a:pt x="262" y="976"/>
                  </a:lnTo>
                  <a:lnTo>
                    <a:pt x="259" y="1036"/>
                  </a:lnTo>
                  <a:lnTo>
                    <a:pt x="257" y="1166"/>
                  </a:lnTo>
                  <a:lnTo>
                    <a:pt x="293" y="1198"/>
                  </a:lnTo>
                  <a:lnTo>
                    <a:pt x="257" y="1171"/>
                  </a:lnTo>
                  <a:lnTo>
                    <a:pt x="290" y="1211"/>
                  </a:lnTo>
                  <a:lnTo>
                    <a:pt x="259" y="1177"/>
                  </a:lnTo>
                  <a:lnTo>
                    <a:pt x="275" y="1218"/>
                  </a:lnTo>
                  <a:lnTo>
                    <a:pt x="257" y="1184"/>
                  </a:lnTo>
                  <a:lnTo>
                    <a:pt x="257" y="1244"/>
                  </a:lnTo>
                  <a:lnTo>
                    <a:pt x="238" y="956"/>
                  </a:lnTo>
                  <a:lnTo>
                    <a:pt x="244" y="787"/>
                  </a:lnTo>
                  <a:lnTo>
                    <a:pt x="249" y="709"/>
                  </a:lnTo>
                  <a:lnTo>
                    <a:pt x="252" y="654"/>
                  </a:lnTo>
                  <a:lnTo>
                    <a:pt x="252" y="600"/>
                  </a:lnTo>
                  <a:lnTo>
                    <a:pt x="252" y="551"/>
                  </a:lnTo>
                  <a:lnTo>
                    <a:pt x="252" y="509"/>
                  </a:lnTo>
                  <a:lnTo>
                    <a:pt x="249" y="473"/>
                  </a:lnTo>
                  <a:lnTo>
                    <a:pt x="247" y="436"/>
                  </a:lnTo>
                  <a:lnTo>
                    <a:pt x="242" y="392"/>
                  </a:lnTo>
                  <a:lnTo>
                    <a:pt x="226" y="413"/>
                  </a:lnTo>
                  <a:lnTo>
                    <a:pt x="205" y="455"/>
                  </a:lnTo>
                  <a:lnTo>
                    <a:pt x="190" y="489"/>
                  </a:lnTo>
                  <a:lnTo>
                    <a:pt x="177" y="522"/>
                  </a:lnTo>
                  <a:lnTo>
                    <a:pt x="168" y="554"/>
                  </a:lnTo>
                  <a:lnTo>
                    <a:pt x="161" y="579"/>
                  </a:lnTo>
                  <a:lnTo>
                    <a:pt x="158" y="610"/>
                  </a:lnTo>
                  <a:lnTo>
                    <a:pt x="155" y="639"/>
                  </a:lnTo>
                  <a:lnTo>
                    <a:pt x="155" y="725"/>
                  </a:lnTo>
                  <a:lnTo>
                    <a:pt x="156" y="792"/>
                  </a:lnTo>
                  <a:lnTo>
                    <a:pt x="158" y="941"/>
                  </a:lnTo>
                  <a:lnTo>
                    <a:pt x="163" y="1182"/>
                  </a:lnTo>
                  <a:lnTo>
                    <a:pt x="169" y="1254"/>
                  </a:lnTo>
                  <a:lnTo>
                    <a:pt x="177" y="1296"/>
                  </a:lnTo>
                  <a:lnTo>
                    <a:pt x="189" y="1350"/>
                  </a:lnTo>
                  <a:lnTo>
                    <a:pt x="192" y="1363"/>
                  </a:lnTo>
                  <a:lnTo>
                    <a:pt x="218" y="1442"/>
                  </a:lnTo>
                  <a:lnTo>
                    <a:pt x="229" y="1507"/>
                  </a:lnTo>
                  <a:lnTo>
                    <a:pt x="246" y="1529"/>
                  </a:lnTo>
                  <a:lnTo>
                    <a:pt x="265" y="1545"/>
                  </a:lnTo>
                  <a:lnTo>
                    <a:pt x="291" y="1566"/>
                  </a:lnTo>
                  <a:lnTo>
                    <a:pt x="307" y="1586"/>
                  </a:lnTo>
                  <a:lnTo>
                    <a:pt x="324" y="1605"/>
                  </a:lnTo>
                  <a:lnTo>
                    <a:pt x="335" y="1625"/>
                  </a:lnTo>
                  <a:lnTo>
                    <a:pt x="343" y="1649"/>
                  </a:lnTo>
                  <a:lnTo>
                    <a:pt x="348" y="1668"/>
                  </a:lnTo>
                  <a:lnTo>
                    <a:pt x="351" y="1691"/>
                  </a:lnTo>
                  <a:lnTo>
                    <a:pt x="353" y="1722"/>
                  </a:lnTo>
                  <a:lnTo>
                    <a:pt x="351" y="1747"/>
                  </a:lnTo>
                  <a:lnTo>
                    <a:pt x="345" y="1782"/>
                  </a:lnTo>
                  <a:lnTo>
                    <a:pt x="337" y="1813"/>
                  </a:lnTo>
                  <a:lnTo>
                    <a:pt x="322" y="1849"/>
                  </a:lnTo>
                  <a:lnTo>
                    <a:pt x="303" y="1891"/>
                  </a:lnTo>
                  <a:lnTo>
                    <a:pt x="291" y="1916"/>
                  </a:lnTo>
                  <a:lnTo>
                    <a:pt x="280" y="1942"/>
                  </a:lnTo>
                  <a:lnTo>
                    <a:pt x="268" y="1961"/>
                  </a:lnTo>
                  <a:lnTo>
                    <a:pt x="264" y="1984"/>
                  </a:lnTo>
                  <a:lnTo>
                    <a:pt x="262" y="2010"/>
                  </a:lnTo>
                  <a:lnTo>
                    <a:pt x="264" y="2038"/>
                  </a:lnTo>
                  <a:lnTo>
                    <a:pt x="268" y="2156"/>
                  </a:lnTo>
                  <a:lnTo>
                    <a:pt x="270" y="2171"/>
                  </a:lnTo>
                  <a:lnTo>
                    <a:pt x="265" y="2189"/>
                  </a:lnTo>
                  <a:lnTo>
                    <a:pt x="260" y="2204"/>
                  </a:lnTo>
                  <a:lnTo>
                    <a:pt x="228" y="2299"/>
                  </a:lnTo>
                  <a:lnTo>
                    <a:pt x="226" y="2308"/>
                  </a:lnTo>
                  <a:lnTo>
                    <a:pt x="231" y="2330"/>
                  </a:lnTo>
                  <a:lnTo>
                    <a:pt x="238" y="2350"/>
                  </a:lnTo>
                  <a:lnTo>
                    <a:pt x="246" y="2365"/>
                  </a:lnTo>
                  <a:lnTo>
                    <a:pt x="277" y="2412"/>
                  </a:lnTo>
                  <a:lnTo>
                    <a:pt x="255" y="2389"/>
                  </a:lnTo>
                  <a:lnTo>
                    <a:pt x="241" y="2369"/>
                  </a:lnTo>
                  <a:lnTo>
                    <a:pt x="231" y="2355"/>
                  </a:lnTo>
                  <a:lnTo>
                    <a:pt x="225" y="2339"/>
                  </a:lnTo>
                  <a:lnTo>
                    <a:pt x="221" y="2322"/>
                  </a:lnTo>
                  <a:lnTo>
                    <a:pt x="210" y="2360"/>
                  </a:lnTo>
                  <a:lnTo>
                    <a:pt x="213" y="2376"/>
                  </a:lnTo>
                  <a:lnTo>
                    <a:pt x="225" y="2397"/>
                  </a:lnTo>
                  <a:lnTo>
                    <a:pt x="233" y="2408"/>
                  </a:lnTo>
                  <a:lnTo>
                    <a:pt x="242" y="2420"/>
                  </a:lnTo>
                  <a:lnTo>
                    <a:pt x="257" y="2433"/>
                  </a:lnTo>
                  <a:lnTo>
                    <a:pt x="298" y="2462"/>
                  </a:lnTo>
                  <a:lnTo>
                    <a:pt x="264" y="2441"/>
                  </a:lnTo>
                  <a:lnTo>
                    <a:pt x="259" y="2449"/>
                  </a:lnTo>
                  <a:lnTo>
                    <a:pt x="260" y="2487"/>
                  </a:lnTo>
                  <a:lnTo>
                    <a:pt x="254" y="2459"/>
                  </a:lnTo>
                  <a:lnTo>
                    <a:pt x="257" y="2439"/>
                  </a:lnTo>
                  <a:lnTo>
                    <a:pt x="239" y="2428"/>
                  </a:lnTo>
                  <a:lnTo>
                    <a:pt x="221" y="2410"/>
                  </a:lnTo>
                  <a:lnTo>
                    <a:pt x="212" y="2397"/>
                  </a:lnTo>
                  <a:lnTo>
                    <a:pt x="202" y="2376"/>
                  </a:lnTo>
                  <a:lnTo>
                    <a:pt x="194" y="2391"/>
                  </a:lnTo>
                  <a:lnTo>
                    <a:pt x="182" y="2417"/>
                  </a:lnTo>
                  <a:lnTo>
                    <a:pt x="189" y="2430"/>
                  </a:lnTo>
                  <a:lnTo>
                    <a:pt x="208" y="2447"/>
                  </a:lnTo>
                  <a:lnTo>
                    <a:pt x="192" y="2439"/>
                  </a:lnTo>
                  <a:lnTo>
                    <a:pt x="179" y="2428"/>
                  </a:lnTo>
                  <a:lnTo>
                    <a:pt x="132" y="2534"/>
                  </a:lnTo>
                  <a:lnTo>
                    <a:pt x="186" y="2384"/>
                  </a:lnTo>
                  <a:lnTo>
                    <a:pt x="203" y="2342"/>
                  </a:lnTo>
                  <a:lnTo>
                    <a:pt x="210" y="2326"/>
                  </a:lnTo>
                  <a:lnTo>
                    <a:pt x="213" y="2308"/>
                  </a:lnTo>
                  <a:lnTo>
                    <a:pt x="223" y="2277"/>
                  </a:lnTo>
                  <a:lnTo>
                    <a:pt x="246" y="2205"/>
                  </a:lnTo>
                  <a:lnTo>
                    <a:pt x="252" y="2181"/>
                  </a:lnTo>
                  <a:lnTo>
                    <a:pt x="255" y="2163"/>
                  </a:lnTo>
                  <a:lnTo>
                    <a:pt x="255" y="2147"/>
                  </a:lnTo>
                  <a:lnTo>
                    <a:pt x="246" y="2033"/>
                  </a:lnTo>
                  <a:lnTo>
                    <a:pt x="242" y="2008"/>
                  </a:lnTo>
                  <a:lnTo>
                    <a:pt x="246" y="1984"/>
                  </a:lnTo>
                  <a:lnTo>
                    <a:pt x="249" y="1961"/>
                  </a:lnTo>
                  <a:lnTo>
                    <a:pt x="257" y="1943"/>
                  </a:lnTo>
                  <a:lnTo>
                    <a:pt x="270" y="1916"/>
                  </a:lnTo>
                  <a:lnTo>
                    <a:pt x="281" y="1893"/>
                  </a:lnTo>
                  <a:lnTo>
                    <a:pt x="294" y="1867"/>
                  </a:lnTo>
                  <a:lnTo>
                    <a:pt x="307" y="1834"/>
                  </a:lnTo>
                  <a:lnTo>
                    <a:pt x="319" y="1808"/>
                  </a:lnTo>
                  <a:lnTo>
                    <a:pt x="325" y="1782"/>
                  </a:lnTo>
                  <a:lnTo>
                    <a:pt x="332" y="1745"/>
                  </a:lnTo>
                  <a:lnTo>
                    <a:pt x="332" y="1717"/>
                  </a:lnTo>
                  <a:lnTo>
                    <a:pt x="330" y="1691"/>
                  </a:lnTo>
                  <a:lnTo>
                    <a:pt x="325" y="1667"/>
                  </a:lnTo>
                  <a:lnTo>
                    <a:pt x="320" y="1646"/>
                  </a:lnTo>
                  <a:lnTo>
                    <a:pt x="312" y="1628"/>
                  </a:lnTo>
                  <a:lnTo>
                    <a:pt x="301" y="1610"/>
                  </a:lnTo>
                  <a:lnTo>
                    <a:pt x="290" y="1595"/>
                  </a:lnTo>
                  <a:lnTo>
                    <a:pt x="270" y="1579"/>
                  </a:lnTo>
                  <a:lnTo>
                    <a:pt x="249" y="1561"/>
                  </a:lnTo>
                  <a:lnTo>
                    <a:pt x="225" y="1538"/>
                  </a:lnTo>
                  <a:lnTo>
                    <a:pt x="216" y="1761"/>
                  </a:lnTo>
                  <a:lnTo>
                    <a:pt x="233" y="1771"/>
                  </a:lnTo>
                  <a:lnTo>
                    <a:pt x="246" y="1781"/>
                  </a:lnTo>
                  <a:lnTo>
                    <a:pt x="257" y="1794"/>
                  </a:lnTo>
                  <a:lnTo>
                    <a:pt x="267" y="1808"/>
                  </a:lnTo>
                  <a:lnTo>
                    <a:pt x="275" y="1828"/>
                  </a:lnTo>
                  <a:lnTo>
                    <a:pt x="283" y="1859"/>
                  </a:lnTo>
                  <a:lnTo>
                    <a:pt x="265" y="1825"/>
                  </a:lnTo>
                  <a:lnTo>
                    <a:pt x="251" y="1803"/>
                  </a:lnTo>
                  <a:lnTo>
                    <a:pt x="236" y="1789"/>
                  </a:lnTo>
                  <a:lnTo>
                    <a:pt x="223" y="1781"/>
                  </a:lnTo>
                  <a:lnTo>
                    <a:pt x="213" y="1777"/>
                  </a:lnTo>
                  <a:lnTo>
                    <a:pt x="216" y="1795"/>
                  </a:lnTo>
                  <a:lnTo>
                    <a:pt x="199" y="2145"/>
                  </a:lnTo>
                  <a:lnTo>
                    <a:pt x="199" y="2174"/>
                  </a:lnTo>
                  <a:lnTo>
                    <a:pt x="197" y="2213"/>
                  </a:lnTo>
                  <a:lnTo>
                    <a:pt x="192" y="2282"/>
                  </a:lnTo>
                  <a:lnTo>
                    <a:pt x="182" y="2350"/>
                  </a:lnTo>
                  <a:lnTo>
                    <a:pt x="187" y="2215"/>
                  </a:lnTo>
                  <a:lnTo>
                    <a:pt x="182" y="2186"/>
                  </a:lnTo>
                  <a:lnTo>
                    <a:pt x="168" y="2187"/>
                  </a:lnTo>
                  <a:lnTo>
                    <a:pt x="186" y="2179"/>
                  </a:lnTo>
                  <a:lnTo>
                    <a:pt x="186" y="2142"/>
                  </a:lnTo>
                  <a:lnTo>
                    <a:pt x="192" y="1955"/>
                  </a:lnTo>
                  <a:lnTo>
                    <a:pt x="189" y="1937"/>
                  </a:lnTo>
                  <a:lnTo>
                    <a:pt x="161" y="1937"/>
                  </a:lnTo>
                  <a:lnTo>
                    <a:pt x="192" y="1930"/>
                  </a:lnTo>
                  <a:lnTo>
                    <a:pt x="199" y="1639"/>
                  </a:lnTo>
                  <a:lnTo>
                    <a:pt x="197" y="1538"/>
                  </a:lnTo>
                  <a:lnTo>
                    <a:pt x="200" y="1498"/>
                  </a:lnTo>
                  <a:lnTo>
                    <a:pt x="194" y="1436"/>
                  </a:lnTo>
                  <a:lnTo>
                    <a:pt x="171" y="1366"/>
                  </a:lnTo>
                  <a:lnTo>
                    <a:pt x="166" y="1351"/>
                  </a:lnTo>
                  <a:lnTo>
                    <a:pt x="153" y="1290"/>
                  </a:lnTo>
                  <a:lnTo>
                    <a:pt x="147" y="1249"/>
                  </a:lnTo>
                  <a:lnTo>
                    <a:pt x="140" y="1194"/>
                  </a:lnTo>
                  <a:lnTo>
                    <a:pt x="135" y="985"/>
                  </a:lnTo>
                  <a:lnTo>
                    <a:pt x="130" y="795"/>
                  </a:lnTo>
                  <a:lnTo>
                    <a:pt x="130" y="738"/>
                  </a:lnTo>
                  <a:lnTo>
                    <a:pt x="129" y="642"/>
                  </a:lnTo>
                  <a:lnTo>
                    <a:pt x="130" y="608"/>
                  </a:lnTo>
                  <a:lnTo>
                    <a:pt x="134" y="576"/>
                  </a:lnTo>
                  <a:lnTo>
                    <a:pt x="140" y="543"/>
                  </a:lnTo>
                  <a:lnTo>
                    <a:pt x="147" y="519"/>
                  </a:lnTo>
                  <a:lnTo>
                    <a:pt x="155" y="493"/>
                  </a:lnTo>
                  <a:lnTo>
                    <a:pt x="169" y="457"/>
                  </a:lnTo>
                  <a:lnTo>
                    <a:pt x="189" y="416"/>
                  </a:lnTo>
                  <a:lnTo>
                    <a:pt x="207" y="384"/>
                  </a:lnTo>
                  <a:lnTo>
                    <a:pt x="223" y="356"/>
                  </a:lnTo>
                  <a:lnTo>
                    <a:pt x="228" y="327"/>
                  </a:lnTo>
                  <a:lnTo>
                    <a:pt x="226" y="304"/>
                  </a:lnTo>
                  <a:lnTo>
                    <a:pt x="218" y="281"/>
                  </a:lnTo>
                  <a:lnTo>
                    <a:pt x="205" y="249"/>
                  </a:lnTo>
                  <a:lnTo>
                    <a:pt x="192" y="226"/>
                  </a:lnTo>
                  <a:lnTo>
                    <a:pt x="179" y="206"/>
                  </a:lnTo>
                  <a:lnTo>
                    <a:pt x="153" y="172"/>
                  </a:lnTo>
                  <a:lnTo>
                    <a:pt x="122" y="141"/>
                  </a:lnTo>
                  <a:lnTo>
                    <a:pt x="83" y="112"/>
                  </a:lnTo>
                  <a:lnTo>
                    <a:pt x="49" y="88"/>
                  </a:lnTo>
                  <a:lnTo>
                    <a:pt x="5" y="5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9" name=""/>
            <p:cNvSpPr/>
            <p:nvPr/>
          </p:nvSpPr>
          <p:spPr>
            <a:xfrm>
              <a:off x="5924160" y="4537800"/>
              <a:ext cx="60480" cy="257760"/>
            </a:xfrm>
            <a:custGeom>
              <a:avLst/>
              <a:gdLst/>
              <a:ahLst/>
              <a:rect l="l" t="t" r="r" b="b"/>
              <a:pathLst>
                <a:path w="150" h="707">
                  <a:moveTo>
                    <a:pt x="4" y="0"/>
                  </a:moveTo>
                  <a:lnTo>
                    <a:pt x="35" y="21"/>
                  </a:lnTo>
                  <a:lnTo>
                    <a:pt x="51" y="35"/>
                  </a:lnTo>
                  <a:lnTo>
                    <a:pt x="65" y="48"/>
                  </a:lnTo>
                  <a:lnTo>
                    <a:pt x="78" y="66"/>
                  </a:lnTo>
                  <a:lnTo>
                    <a:pt x="91" y="87"/>
                  </a:lnTo>
                  <a:lnTo>
                    <a:pt x="101" y="110"/>
                  </a:lnTo>
                  <a:lnTo>
                    <a:pt x="111" y="131"/>
                  </a:lnTo>
                  <a:lnTo>
                    <a:pt x="122" y="151"/>
                  </a:lnTo>
                  <a:lnTo>
                    <a:pt x="132" y="165"/>
                  </a:lnTo>
                  <a:lnTo>
                    <a:pt x="140" y="183"/>
                  </a:lnTo>
                  <a:lnTo>
                    <a:pt x="145" y="203"/>
                  </a:lnTo>
                  <a:lnTo>
                    <a:pt x="148" y="226"/>
                  </a:lnTo>
                  <a:lnTo>
                    <a:pt x="150" y="248"/>
                  </a:lnTo>
                  <a:lnTo>
                    <a:pt x="148" y="271"/>
                  </a:lnTo>
                  <a:lnTo>
                    <a:pt x="140" y="328"/>
                  </a:lnTo>
                  <a:lnTo>
                    <a:pt x="142" y="270"/>
                  </a:lnTo>
                  <a:lnTo>
                    <a:pt x="142" y="248"/>
                  </a:lnTo>
                  <a:lnTo>
                    <a:pt x="138" y="222"/>
                  </a:lnTo>
                  <a:lnTo>
                    <a:pt x="135" y="203"/>
                  </a:lnTo>
                  <a:lnTo>
                    <a:pt x="127" y="180"/>
                  </a:lnTo>
                  <a:lnTo>
                    <a:pt x="116" y="164"/>
                  </a:lnTo>
                  <a:lnTo>
                    <a:pt x="108" y="154"/>
                  </a:lnTo>
                  <a:lnTo>
                    <a:pt x="116" y="198"/>
                  </a:lnTo>
                  <a:lnTo>
                    <a:pt x="117" y="219"/>
                  </a:lnTo>
                  <a:lnTo>
                    <a:pt x="122" y="255"/>
                  </a:lnTo>
                  <a:lnTo>
                    <a:pt x="121" y="312"/>
                  </a:lnTo>
                  <a:lnTo>
                    <a:pt x="119" y="364"/>
                  </a:lnTo>
                  <a:lnTo>
                    <a:pt x="117" y="406"/>
                  </a:lnTo>
                  <a:lnTo>
                    <a:pt x="117" y="437"/>
                  </a:lnTo>
                  <a:lnTo>
                    <a:pt x="116" y="460"/>
                  </a:lnTo>
                  <a:lnTo>
                    <a:pt x="114" y="483"/>
                  </a:lnTo>
                  <a:lnTo>
                    <a:pt x="108" y="507"/>
                  </a:lnTo>
                  <a:lnTo>
                    <a:pt x="103" y="605"/>
                  </a:lnTo>
                  <a:lnTo>
                    <a:pt x="96" y="544"/>
                  </a:lnTo>
                  <a:lnTo>
                    <a:pt x="96" y="510"/>
                  </a:lnTo>
                  <a:lnTo>
                    <a:pt x="99" y="489"/>
                  </a:lnTo>
                  <a:lnTo>
                    <a:pt x="103" y="466"/>
                  </a:lnTo>
                  <a:lnTo>
                    <a:pt x="103" y="442"/>
                  </a:lnTo>
                  <a:lnTo>
                    <a:pt x="83" y="491"/>
                  </a:lnTo>
                  <a:lnTo>
                    <a:pt x="64" y="536"/>
                  </a:lnTo>
                  <a:lnTo>
                    <a:pt x="57" y="561"/>
                  </a:lnTo>
                  <a:lnTo>
                    <a:pt x="52" y="592"/>
                  </a:lnTo>
                  <a:lnTo>
                    <a:pt x="51" y="622"/>
                  </a:lnTo>
                  <a:lnTo>
                    <a:pt x="49" y="649"/>
                  </a:lnTo>
                  <a:lnTo>
                    <a:pt x="39" y="707"/>
                  </a:lnTo>
                  <a:lnTo>
                    <a:pt x="44" y="632"/>
                  </a:lnTo>
                  <a:lnTo>
                    <a:pt x="44" y="603"/>
                  </a:lnTo>
                  <a:lnTo>
                    <a:pt x="44" y="580"/>
                  </a:lnTo>
                  <a:lnTo>
                    <a:pt x="46" y="559"/>
                  </a:lnTo>
                  <a:lnTo>
                    <a:pt x="51" y="543"/>
                  </a:lnTo>
                  <a:lnTo>
                    <a:pt x="54" y="528"/>
                  </a:lnTo>
                  <a:lnTo>
                    <a:pt x="61" y="512"/>
                  </a:lnTo>
                  <a:lnTo>
                    <a:pt x="70" y="486"/>
                  </a:lnTo>
                  <a:lnTo>
                    <a:pt x="88" y="445"/>
                  </a:lnTo>
                  <a:lnTo>
                    <a:pt x="95" y="424"/>
                  </a:lnTo>
                  <a:lnTo>
                    <a:pt x="98" y="408"/>
                  </a:lnTo>
                  <a:lnTo>
                    <a:pt x="101" y="361"/>
                  </a:lnTo>
                  <a:lnTo>
                    <a:pt x="103" y="300"/>
                  </a:lnTo>
                  <a:lnTo>
                    <a:pt x="103" y="263"/>
                  </a:lnTo>
                  <a:lnTo>
                    <a:pt x="99" y="219"/>
                  </a:lnTo>
                  <a:lnTo>
                    <a:pt x="95" y="182"/>
                  </a:lnTo>
                  <a:lnTo>
                    <a:pt x="85" y="143"/>
                  </a:lnTo>
                  <a:lnTo>
                    <a:pt x="75" y="115"/>
                  </a:lnTo>
                  <a:lnTo>
                    <a:pt x="61" y="86"/>
                  </a:lnTo>
                  <a:lnTo>
                    <a:pt x="46" y="68"/>
                  </a:lnTo>
                  <a:lnTo>
                    <a:pt x="26" y="50"/>
                  </a:lnTo>
                  <a:lnTo>
                    <a:pt x="0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0" name=""/>
            <p:cNvSpPr/>
            <p:nvPr/>
          </p:nvSpPr>
          <p:spPr>
            <a:xfrm>
              <a:off x="5770080" y="3945600"/>
              <a:ext cx="85320" cy="448560"/>
            </a:xfrm>
            <a:custGeom>
              <a:avLst/>
              <a:gdLst/>
              <a:ahLst/>
              <a:rect l="l" t="t" r="r" b="b"/>
              <a:pathLst>
                <a:path w="208" h="1231">
                  <a:moveTo>
                    <a:pt x="101" y="49"/>
                  </a:moveTo>
                  <a:lnTo>
                    <a:pt x="101" y="363"/>
                  </a:lnTo>
                  <a:lnTo>
                    <a:pt x="93" y="568"/>
                  </a:lnTo>
                  <a:lnTo>
                    <a:pt x="76" y="582"/>
                  </a:lnTo>
                  <a:lnTo>
                    <a:pt x="60" y="586"/>
                  </a:lnTo>
                  <a:lnTo>
                    <a:pt x="50" y="581"/>
                  </a:lnTo>
                  <a:lnTo>
                    <a:pt x="44" y="574"/>
                  </a:lnTo>
                  <a:lnTo>
                    <a:pt x="23" y="550"/>
                  </a:lnTo>
                  <a:lnTo>
                    <a:pt x="0" y="565"/>
                  </a:lnTo>
                  <a:lnTo>
                    <a:pt x="21" y="594"/>
                  </a:lnTo>
                  <a:lnTo>
                    <a:pt x="33" y="604"/>
                  </a:lnTo>
                  <a:lnTo>
                    <a:pt x="46" y="610"/>
                  </a:lnTo>
                  <a:lnTo>
                    <a:pt x="57" y="613"/>
                  </a:lnTo>
                  <a:lnTo>
                    <a:pt x="70" y="615"/>
                  </a:lnTo>
                  <a:lnTo>
                    <a:pt x="81" y="612"/>
                  </a:lnTo>
                  <a:lnTo>
                    <a:pt x="93" y="605"/>
                  </a:lnTo>
                  <a:lnTo>
                    <a:pt x="93" y="625"/>
                  </a:lnTo>
                  <a:lnTo>
                    <a:pt x="23" y="625"/>
                  </a:lnTo>
                  <a:lnTo>
                    <a:pt x="21" y="651"/>
                  </a:lnTo>
                  <a:lnTo>
                    <a:pt x="91" y="651"/>
                  </a:lnTo>
                  <a:lnTo>
                    <a:pt x="91" y="825"/>
                  </a:lnTo>
                  <a:lnTo>
                    <a:pt x="91" y="1222"/>
                  </a:lnTo>
                  <a:lnTo>
                    <a:pt x="145" y="1231"/>
                  </a:lnTo>
                  <a:lnTo>
                    <a:pt x="145" y="1109"/>
                  </a:lnTo>
                  <a:lnTo>
                    <a:pt x="150" y="836"/>
                  </a:lnTo>
                  <a:lnTo>
                    <a:pt x="193" y="900"/>
                  </a:lnTo>
                  <a:lnTo>
                    <a:pt x="208" y="870"/>
                  </a:lnTo>
                  <a:lnTo>
                    <a:pt x="151" y="804"/>
                  </a:lnTo>
                  <a:lnTo>
                    <a:pt x="151" y="652"/>
                  </a:lnTo>
                  <a:lnTo>
                    <a:pt x="182" y="649"/>
                  </a:lnTo>
                  <a:lnTo>
                    <a:pt x="177" y="625"/>
                  </a:lnTo>
                  <a:lnTo>
                    <a:pt x="148" y="623"/>
                  </a:lnTo>
                  <a:lnTo>
                    <a:pt x="150" y="319"/>
                  </a:lnTo>
                  <a:lnTo>
                    <a:pt x="150" y="0"/>
                  </a:lnTo>
                  <a:lnTo>
                    <a:pt x="101" y="49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1" name=""/>
            <p:cNvSpPr/>
            <p:nvPr/>
          </p:nvSpPr>
          <p:spPr>
            <a:xfrm>
              <a:off x="5832360" y="3668760"/>
              <a:ext cx="48240" cy="259920"/>
            </a:xfrm>
            <a:custGeom>
              <a:avLst/>
              <a:gdLst/>
              <a:ahLst/>
              <a:rect l="l" t="t" r="r" b="b"/>
              <a:pathLst>
                <a:path w="117" h="714">
                  <a:moveTo>
                    <a:pt x="0" y="699"/>
                  </a:moveTo>
                  <a:lnTo>
                    <a:pt x="5" y="636"/>
                  </a:lnTo>
                  <a:lnTo>
                    <a:pt x="8" y="577"/>
                  </a:lnTo>
                  <a:lnTo>
                    <a:pt x="18" y="484"/>
                  </a:lnTo>
                  <a:lnTo>
                    <a:pt x="23" y="440"/>
                  </a:lnTo>
                  <a:lnTo>
                    <a:pt x="29" y="401"/>
                  </a:lnTo>
                  <a:lnTo>
                    <a:pt x="42" y="336"/>
                  </a:lnTo>
                  <a:lnTo>
                    <a:pt x="47" y="299"/>
                  </a:lnTo>
                  <a:lnTo>
                    <a:pt x="47" y="268"/>
                  </a:lnTo>
                  <a:lnTo>
                    <a:pt x="49" y="206"/>
                  </a:lnTo>
                  <a:lnTo>
                    <a:pt x="45" y="172"/>
                  </a:lnTo>
                  <a:lnTo>
                    <a:pt x="44" y="140"/>
                  </a:lnTo>
                  <a:lnTo>
                    <a:pt x="39" y="118"/>
                  </a:lnTo>
                  <a:lnTo>
                    <a:pt x="29" y="99"/>
                  </a:lnTo>
                  <a:lnTo>
                    <a:pt x="10" y="58"/>
                  </a:lnTo>
                  <a:lnTo>
                    <a:pt x="0" y="39"/>
                  </a:lnTo>
                  <a:lnTo>
                    <a:pt x="19" y="68"/>
                  </a:lnTo>
                  <a:lnTo>
                    <a:pt x="29" y="88"/>
                  </a:lnTo>
                  <a:lnTo>
                    <a:pt x="39" y="94"/>
                  </a:lnTo>
                  <a:lnTo>
                    <a:pt x="47" y="86"/>
                  </a:lnTo>
                  <a:lnTo>
                    <a:pt x="63" y="52"/>
                  </a:lnTo>
                  <a:lnTo>
                    <a:pt x="73" y="35"/>
                  </a:lnTo>
                  <a:lnTo>
                    <a:pt x="84" y="21"/>
                  </a:lnTo>
                  <a:lnTo>
                    <a:pt x="117" y="0"/>
                  </a:lnTo>
                  <a:lnTo>
                    <a:pt x="86" y="26"/>
                  </a:lnTo>
                  <a:lnTo>
                    <a:pt x="75" y="42"/>
                  </a:lnTo>
                  <a:lnTo>
                    <a:pt x="63" y="68"/>
                  </a:lnTo>
                  <a:lnTo>
                    <a:pt x="58" y="89"/>
                  </a:lnTo>
                  <a:lnTo>
                    <a:pt x="55" y="117"/>
                  </a:lnTo>
                  <a:lnTo>
                    <a:pt x="58" y="143"/>
                  </a:lnTo>
                  <a:lnTo>
                    <a:pt x="60" y="177"/>
                  </a:lnTo>
                  <a:lnTo>
                    <a:pt x="63" y="236"/>
                  </a:lnTo>
                  <a:lnTo>
                    <a:pt x="63" y="273"/>
                  </a:lnTo>
                  <a:lnTo>
                    <a:pt x="63" y="309"/>
                  </a:lnTo>
                  <a:lnTo>
                    <a:pt x="62" y="343"/>
                  </a:lnTo>
                  <a:lnTo>
                    <a:pt x="57" y="397"/>
                  </a:lnTo>
                  <a:lnTo>
                    <a:pt x="49" y="450"/>
                  </a:lnTo>
                  <a:lnTo>
                    <a:pt x="42" y="509"/>
                  </a:lnTo>
                  <a:lnTo>
                    <a:pt x="34" y="577"/>
                  </a:lnTo>
                  <a:lnTo>
                    <a:pt x="32" y="629"/>
                  </a:lnTo>
                  <a:lnTo>
                    <a:pt x="29" y="688"/>
                  </a:lnTo>
                  <a:lnTo>
                    <a:pt x="27" y="714"/>
                  </a:lnTo>
                  <a:lnTo>
                    <a:pt x="0" y="699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2" name=""/>
            <p:cNvSpPr/>
            <p:nvPr/>
          </p:nvSpPr>
          <p:spPr>
            <a:xfrm>
              <a:off x="5864400" y="4826880"/>
              <a:ext cx="83520" cy="76320"/>
            </a:xfrm>
            <a:custGeom>
              <a:avLst/>
              <a:gdLst/>
              <a:ahLst/>
              <a:rect l="l" t="t" r="r" b="b"/>
              <a:pathLst>
                <a:path w="205" h="210">
                  <a:moveTo>
                    <a:pt x="26" y="0"/>
                  </a:moveTo>
                  <a:lnTo>
                    <a:pt x="59" y="44"/>
                  </a:lnTo>
                  <a:lnTo>
                    <a:pt x="80" y="51"/>
                  </a:lnTo>
                  <a:lnTo>
                    <a:pt x="98" y="54"/>
                  </a:lnTo>
                  <a:lnTo>
                    <a:pt x="119" y="49"/>
                  </a:lnTo>
                  <a:lnTo>
                    <a:pt x="133" y="41"/>
                  </a:lnTo>
                  <a:lnTo>
                    <a:pt x="158" y="34"/>
                  </a:lnTo>
                  <a:lnTo>
                    <a:pt x="171" y="36"/>
                  </a:lnTo>
                  <a:lnTo>
                    <a:pt x="182" y="43"/>
                  </a:lnTo>
                  <a:lnTo>
                    <a:pt x="194" y="51"/>
                  </a:lnTo>
                  <a:lnTo>
                    <a:pt x="202" y="64"/>
                  </a:lnTo>
                  <a:lnTo>
                    <a:pt x="203" y="78"/>
                  </a:lnTo>
                  <a:lnTo>
                    <a:pt x="205" y="93"/>
                  </a:lnTo>
                  <a:lnTo>
                    <a:pt x="202" y="109"/>
                  </a:lnTo>
                  <a:lnTo>
                    <a:pt x="195" y="122"/>
                  </a:lnTo>
                  <a:lnTo>
                    <a:pt x="181" y="132"/>
                  </a:lnTo>
                  <a:lnTo>
                    <a:pt x="163" y="137"/>
                  </a:lnTo>
                  <a:lnTo>
                    <a:pt x="143" y="137"/>
                  </a:lnTo>
                  <a:lnTo>
                    <a:pt x="125" y="127"/>
                  </a:lnTo>
                  <a:lnTo>
                    <a:pt x="122" y="116"/>
                  </a:lnTo>
                  <a:lnTo>
                    <a:pt x="117" y="88"/>
                  </a:lnTo>
                  <a:lnTo>
                    <a:pt x="117" y="124"/>
                  </a:lnTo>
                  <a:lnTo>
                    <a:pt x="114" y="138"/>
                  </a:lnTo>
                  <a:lnTo>
                    <a:pt x="133" y="135"/>
                  </a:lnTo>
                  <a:lnTo>
                    <a:pt x="156" y="143"/>
                  </a:lnTo>
                  <a:lnTo>
                    <a:pt x="172" y="160"/>
                  </a:lnTo>
                  <a:lnTo>
                    <a:pt x="182" y="182"/>
                  </a:lnTo>
                  <a:lnTo>
                    <a:pt x="181" y="197"/>
                  </a:lnTo>
                  <a:lnTo>
                    <a:pt x="169" y="210"/>
                  </a:lnTo>
                  <a:lnTo>
                    <a:pt x="155" y="210"/>
                  </a:lnTo>
                  <a:lnTo>
                    <a:pt x="132" y="202"/>
                  </a:lnTo>
                  <a:lnTo>
                    <a:pt x="107" y="194"/>
                  </a:lnTo>
                  <a:lnTo>
                    <a:pt x="85" y="189"/>
                  </a:lnTo>
                  <a:lnTo>
                    <a:pt x="60" y="191"/>
                  </a:lnTo>
                  <a:lnTo>
                    <a:pt x="38" y="187"/>
                  </a:lnTo>
                  <a:lnTo>
                    <a:pt x="23" y="182"/>
                  </a:lnTo>
                  <a:lnTo>
                    <a:pt x="10" y="173"/>
                  </a:lnTo>
                  <a:lnTo>
                    <a:pt x="3" y="156"/>
                  </a:lnTo>
                  <a:lnTo>
                    <a:pt x="2" y="137"/>
                  </a:lnTo>
                  <a:lnTo>
                    <a:pt x="7" y="114"/>
                  </a:lnTo>
                  <a:lnTo>
                    <a:pt x="7" y="82"/>
                  </a:lnTo>
                  <a:lnTo>
                    <a:pt x="0" y="54"/>
                  </a:lnTo>
                  <a:lnTo>
                    <a:pt x="7" y="21"/>
                  </a:lnTo>
                  <a:lnTo>
                    <a:pt x="0" y="54"/>
                  </a:lnTo>
                  <a:lnTo>
                    <a:pt x="8" y="80"/>
                  </a:lnTo>
                  <a:lnTo>
                    <a:pt x="10" y="98"/>
                  </a:lnTo>
                  <a:lnTo>
                    <a:pt x="13" y="108"/>
                  </a:lnTo>
                  <a:lnTo>
                    <a:pt x="23" y="117"/>
                  </a:lnTo>
                  <a:lnTo>
                    <a:pt x="39" y="119"/>
                  </a:lnTo>
                  <a:lnTo>
                    <a:pt x="57" y="117"/>
                  </a:lnTo>
                  <a:lnTo>
                    <a:pt x="77" y="111"/>
                  </a:lnTo>
                </a:path>
              </a:pathLst>
            </a:custGeom>
            <a:noFill/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3" name=""/>
            <p:cNvSpPr/>
            <p:nvPr/>
          </p:nvSpPr>
          <p:spPr>
            <a:xfrm>
              <a:off x="5689080" y="4829040"/>
              <a:ext cx="83520" cy="75600"/>
            </a:xfrm>
            <a:custGeom>
              <a:avLst/>
              <a:gdLst/>
              <a:ahLst/>
              <a:rect l="l" t="t" r="r" b="b"/>
              <a:pathLst>
                <a:path w="205" h="210">
                  <a:moveTo>
                    <a:pt x="179" y="0"/>
                  </a:moveTo>
                  <a:lnTo>
                    <a:pt x="146" y="44"/>
                  </a:lnTo>
                  <a:lnTo>
                    <a:pt x="125" y="51"/>
                  </a:lnTo>
                  <a:lnTo>
                    <a:pt x="107" y="54"/>
                  </a:lnTo>
                  <a:lnTo>
                    <a:pt x="86" y="49"/>
                  </a:lnTo>
                  <a:lnTo>
                    <a:pt x="71" y="41"/>
                  </a:lnTo>
                  <a:lnTo>
                    <a:pt x="47" y="34"/>
                  </a:lnTo>
                  <a:lnTo>
                    <a:pt x="34" y="36"/>
                  </a:lnTo>
                  <a:lnTo>
                    <a:pt x="23" y="42"/>
                  </a:lnTo>
                  <a:lnTo>
                    <a:pt x="11" y="51"/>
                  </a:lnTo>
                  <a:lnTo>
                    <a:pt x="3" y="64"/>
                  </a:lnTo>
                  <a:lnTo>
                    <a:pt x="1" y="78"/>
                  </a:lnTo>
                  <a:lnTo>
                    <a:pt x="0" y="93"/>
                  </a:lnTo>
                  <a:lnTo>
                    <a:pt x="3" y="111"/>
                  </a:lnTo>
                  <a:lnTo>
                    <a:pt x="10" y="122"/>
                  </a:lnTo>
                  <a:lnTo>
                    <a:pt x="24" y="132"/>
                  </a:lnTo>
                  <a:lnTo>
                    <a:pt x="42" y="137"/>
                  </a:lnTo>
                  <a:lnTo>
                    <a:pt x="62" y="137"/>
                  </a:lnTo>
                  <a:lnTo>
                    <a:pt x="79" y="127"/>
                  </a:lnTo>
                  <a:lnTo>
                    <a:pt x="83" y="116"/>
                  </a:lnTo>
                  <a:lnTo>
                    <a:pt x="88" y="88"/>
                  </a:lnTo>
                  <a:lnTo>
                    <a:pt x="88" y="124"/>
                  </a:lnTo>
                  <a:lnTo>
                    <a:pt x="91" y="138"/>
                  </a:lnTo>
                  <a:lnTo>
                    <a:pt x="71" y="135"/>
                  </a:lnTo>
                  <a:lnTo>
                    <a:pt x="49" y="143"/>
                  </a:lnTo>
                  <a:lnTo>
                    <a:pt x="32" y="160"/>
                  </a:lnTo>
                  <a:lnTo>
                    <a:pt x="23" y="182"/>
                  </a:lnTo>
                  <a:lnTo>
                    <a:pt x="24" y="197"/>
                  </a:lnTo>
                  <a:lnTo>
                    <a:pt x="36" y="210"/>
                  </a:lnTo>
                  <a:lnTo>
                    <a:pt x="50" y="210"/>
                  </a:lnTo>
                  <a:lnTo>
                    <a:pt x="73" y="202"/>
                  </a:lnTo>
                  <a:lnTo>
                    <a:pt x="97" y="194"/>
                  </a:lnTo>
                  <a:lnTo>
                    <a:pt x="120" y="189"/>
                  </a:lnTo>
                  <a:lnTo>
                    <a:pt x="144" y="190"/>
                  </a:lnTo>
                  <a:lnTo>
                    <a:pt x="167" y="187"/>
                  </a:lnTo>
                  <a:lnTo>
                    <a:pt x="182" y="182"/>
                  </a:lnTo>
                  <a:lnTo>
                    <a:pt x="195" y="173"/>
                  </a:lnTo>
                  <a:lnTo>
                    <a:pt x="201" y="156"/>
                  </a:lnTo>
                  <a:lnTo>
                    <a:pt x="203" y="137"/>
                  </a:lnTo>
                  <a:lnTo>
                    <a:pt x="198" y="114"/>
                  </a:lnTo>
                  <a:lnTo>
                    <a:pt x="198" y="81"/>
                  </a:lnTo>
                  <a:lnTo>
                    <a:pt x="205" y="54"/>
                  </a:lnTo>
                  <a:lnTo>
                    <a:pt x="198" y="21"/>
                  </a:lnTo>
                  <a:lnTo>
                    <a:pt x="205" y="54"/>
                  </a:lnTo>
                  <a:lnTo>
                    <a:pt x="196" y="80"/>
                  </a:lnTo>
                  <a:lnTo>
                    <a:pt x="195" y="98"/>
                  </a:lnTo>
                  <a:lnTo>
                    <a:pt x="192" y="109"/>
                  </a:lnTo>
                  <a:lnTo>
                    <a:pt x="182" y="117"/>
                  </a:lnTo>
                  <a:lnTo>
                    <a:pt x="166" y="119"/>
                  </a:lnTo>
                  <a:lnTo>
                    <a:pt x="148" y="117"/>
                  </a:lnTo>
                  <a:lnTo>
                    <a:pt x="128" y="112"/>
                  </a:lnTo>
                </a:path>
              </a:pathLst>
            </a:custGeom>
            <a:noFill/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4" name=""/>
            <p:cNvSpPr/>
            <p:nvPr/>
          </p:nvSpPr>
          <p:spPr>
            <a:xfrm>
              <a:off x="5841360" y="3833280"/>
              <a:ext cx="363960" cy="632160"/>
            </a:xfrm>
            <a:custGeom>
              <a:avLst/>
              <a:gdLst/>
              <a:ahLst/>
              <a:rect l="l" t="t" r="r" b="b"/>
              <a:pathLst>
                <a:path w="887" h="1735">
                  <a:moveTo>
                    <a:pt x="83" y="3"/>
                  </a:moveTo>
                  <a:lnTo>
                    <a:pt x="109" y="0"/>
                  </a:lnTo>
                  <a:lnTo>
                    <a:pt x="151" y="8"/>
                  </a:lnTo>
                  <a:lnTo>
                    <a:pt x="184" y="18"/>
                  </a:lnTo>
                  <a:lnTo>
                    <a:pt x="213" y="31"/>
                  </a:lnTo>
                  <a:lnTo>
                    <a:pt x="232" y="39"/>
                  </a:lnTo>
                  <a:lnTo>
                    <a:pt x="258" y="54"/>
                  </a:lnTo>
                  <a:lnTo>
                    <a:pt x="292" y="73"/>
                  </a:lnTo>
                  <a:lnTo>
                    <a:pt x="326" y="93"/>
                  </a:lnTo>
                  <a:lnTo>
                    <a:pt x="344" y="104"/>
                  </a:lnTo>
                  <a:lnTo>
                    <a:pt x="357" y="106"/>
                  </a:lnTo>
                  <a:lnTo>
                    <a:pt x="398" y="101"/>
                  </a:lnTo>
                  <a:lnTo>
                    <a:pt x="432" y="97"/>
                  </a:lnTo>
                  <a:lnTo>
                    <a:pt x="453" y="97"/>
                  </a:lnTo>
                  <a:lnTo>
                    <a:pt x="473" y="97"/>
                  </a:lnTo>
                  <a:lnTo>
                    <a:pt x="487" y="97"/>
                  </a:lnTo>
                  <a:lnTo>
                    <a:pt x="512" y="102"/>
                  </a:lnTo>
                  <a:lnTo>
                    <a:pt x="528" y="110"/>
                  </a:lnTo>
                  <a:lnTo>
                    <a:pt x="547" y="127"/>
                  </a:lnTo>
                  <a:lnTo>
                    <a:pt x="531" y="117"/>
                  </a:lnTo>
                  <a:lnTo>
                    <a:pt x="518" y="112"/>
                  </a:lnTo>
                  <a:lnTo>
                    <a:pt x="504" y="110"/>
                  </a:lnTo>
                  <a:lnTo>
                    <a:pt x="499" y="119"/>
                  </a:lnTo>
                  <a:lnTo>
                    <a:pt x="497" y="133"/>
                  </a:lnTo>
                  <a:lnTo>
                    <a:pt x="502" y="148"/>
                  </a:lnTo>
                  <a:lnTo>
                    <a:pt x="512" y="166"/>
                  </a:lnTo>
                  <a:lnTo>
                    <a:pt x="500" y="153"/>
                  </a:lnTo>
                  <a:lnTo>
                    <a:pt x="494" y="141"/>
                  </a:lnTo>
                  <a:lnTo>
                    <a:pt x="489" y="125"/>
                  </a:lnTo>
                  <a:lnTo>
                    <a:pt x="491" y="112"/>
                  </a:lnTo>
                  <a:lnTo>
                    <a:pt x="482" y="107"/>
                  </a:lnTo>
                  <a:lnTo>
                    <a:pt x="465" y="106"/>
                  </a:lnTo>
                  <a:lnTo>
                    <a:pt x="445" y="106"/>
                  </a:lnTo>
                  <a:lnTo>
                    <a:pt x="422" y="106"/>
                  </a:lnTo>
                  <a:lnTo>
                    <a:pt x="388" y="110"/>
                  </a:lnTo>
                  <a:lnTo>
                    <a:pt x="364" y="117"/>
                  </a:lnTo>
                  <a:lnTo>
                    <a:pt x="387" y="133"/>
                  </a:lnTo>
                  <a:lnTo>
                    <a:pt x="422" y="158"/>
                  </a:lnTo>
                  <a:lnTo>
                    <a:pt x="447" y="177"/>
                  </a:lnTo>
                  <a:lnTo>
                    <a:pt x="463" y="192"/>
                  </a:lnTo>
                  <a:lnTo>
                    <a:pt x="478" y="210"/>
                  </a:lnTo>
                  <a:lnTo>
                    <a:pt x="489" y="224"/>
                  </a:lnTo>
                  <a:lnTo>
                    <a:pt x="502" y="244"/>
                  </a:lnTo>
                  <a:lnTo>
                    <a:pt x="512" y="263"/>
                  </a:lnTo>
                  <a:lnTo>
                    <a:pt x="551" y="249"/>
                  </a:lnTo>
                  <a:lnTo>
                    <a:pt x="560" y="226"/>
                  </a:lnTo>
                  <a:lnTo>
                    <a:pt x="569" y="211"/>
                  </a:lnTo>
                  <a:lnTo>
                    <a:pt x="565" y="228"/>
                  </a:lnTo>
                  <a:lnTo>
                    <a:pt x="562" y="247"/>
                  </a:lnTo>
                  <a:lnTo>
                    <a:pt x="573" y="257"/>
                  </a:lnTo>
                  <a:lnTo>
                    <a:pt x="591" y="262"/>
                  </a:lnTo>
                  <a:lnTo>
                    <a:pt x="611" y="262"/>
                  </a:lnTo>
                  <a:lnTo>
                    <a:pt x="591" y="267"/>
                  </a:lnTo>
                  <a:lnTo>
                    <a:pt x="578" y="267"/>
                  </a:lnTo>
                  <a:lnTo>
                    <a:pt x="565" y="260"/>
                  </a:lnTo>
                  <a:lnTo>
                    <a:pt x="557" y="254"/>
                  </a:lnTo>
                  <a:lnTo>
                    <a:pt x="538" y="262"/>
                  </a:lnTo>
                  <a:lnTo>
                    <a:pt x="517" y="271"/>
                  </a:lnTo>
                  <a:lnTo>
                    <a:pt x="523" y="289"/>
                  </a:lnTo>
                  <a:lnTo>
                    <a:pt x="533" y="314"/>
                  </a:lnTo>
                  <a:lnTo>
                    <a:pt x="543" y="343"/>
                  </a:lnTo>
                  <a:lnTo>
                    <a:pt x="556" y="390"/>
                  </a:lnTo>
                  <a:lnTo>
                    <a:pt x="572" y="389"/>
                  </a:lnTo>
                  <a:lnTo>
                    <a:pt x="590" y="390"/>
                  </a:lnTo>
                  <a:lnTo>
                    <a:pt x="606" y="397"/>
                  </a:lnTo>
                  <a:lnTo>
                    <a:pt x="619" y="403"/>
                  </a:lnTo>
                  <a:lnTo>
                    <a:pt x="630" y="421"/>
                  </a:lnTo>
                  <a:lnTo>
                    <a:pt x="616" y="406"/>
                  </a:lnTo>
                  <a:lnTo>
                    <a:pt x="601" y="400"/>
                  </a:lnTo>
                  <a:lnTo>
                    <a:pt x="593" y="397"/>
                  </a:lnTo>
                  <a:lnTo>
                    <a:pt x="577" y="395"/>
                  </a:lnTo>
                  <a:lnTo>
                    <a:pt x="559" y="402"/>
                  </a:lnTo>
                  <a:lnTo>
                    <a:pt x="565" y="429"/>
                  </a:lnTo>
                  <a:lnTo>
                    <a:pt x="588" y="444"/>
                  </a:lnTo>
                  <a:lnTo>
                    <a:pt x="601" y="457"/>
                  </a:lnTo>
                  <a:lnTo>
                    <a:pt x="614" y="476"/>
                  </a:lnTo>
                  <a:lnTo>
                    <a:pt x="625" y="497"/>
                  </a:lnTo>
                  <a:lnTo>
                    <a:pt x="637" y="527"/>
                  </a:lnTo>
                  <a:lnTo>
                    <a:pt x="647" y="561"/>
                  </a:lnTo>
                  <a:lnTo>
                    <a:pt x="656" y="600"/>
                  </a:lnTo>
                  <a:lnTo>
                    <a:pt x="666" y="642"/>
                  </a:lnTo>
                  <a:lnTo>
                    <a:pt x="684" y="642"/>
                  </a:lnTo>
                  <a:lnTo>
                    <a:pt x="700" y="650"/>
                  </a:lnTo>
                  <a:lnTo>
                    <a:pt x="713" y="662"/>
                  </a:lnTo>
                  <a:lnTo>
                    <a:pt x="723" y="676"/>
                  </a:lnTo>
                  <a:lnTo>
                    <a:pt x="734" y="701"/>
                  </a:lnTo>
                  <a:lnTo>
                    <a:pt x="744" y="733"/>
                  </a:lnTo>
                  <a:lnTo>
                    <a:pt x="736" y="712"/>
                  </a:lnTo>
                  <a:lnTo>
                    <a:pt x="726" y="696"/>
                  </a:lnTo>
                  <a:lnTo>
                    <a:pt x="715" y="678"/>
                  </a:lnTo>
                  <a:lnTo>
                    <a:pt x="707" y="667"/>
                  </a:lnTo>
                  <a:lnTo>
                    <a:pt x="695" y="659"/>
                  </a:lnTo>
                  <a:lnTo>
                    <a:pt x="681" y="652"/>
                  </a:lnTo>
                  <a:lnTo>
                    <a:pt x="669" y="654"/>
                  </a:lnTo>
                  <a:lnTo>
                    <a:pt x="673" y="683"/>
                  </a:lnTo>
                  <a:lnTo>
                    <a:pt x="676" y="709"/>
                  </a:lnTo>
                  <a:lnTo>
                    <a:pt x="679" y="733"/>
                  </a:lnTo>
                  <a:lnTo>
                    <a:pt x="682" y="767"/>
                  </a:lnTo>
                  <a:lnTo>
                    <a:pt x="684" y="802"/>
                  </a:lnTo>
                  <a:lnTo>
                    <a:pt x="692" y="818"/>
                  </a:lnTo>
                  <a:lnTo>
                    <a:pt x="720" y="839"/>
                  </a:lnTo>
                  <a:lnTo>
                    <a:pt x="689" y="821"/>
                  </a:lnTo>
                  <a:lnTo>
                    <a:pt x="681" y="810"/>
                  </a:lnTo>
                  <a:lnTo>
                    <a:pt x="673" y="823"/>
                  </a:lnTo>
                  <a:lnTo>
                    <a:pt x="664" y="855"/>
                  </a:lnTo>
                  <a:lnTo>
                    <a:pt x="669" y="828"/>
                  </a:lnTo>
                  <a:lnTo>
                    <a:pt x="677" y="800"/>
                  </a:lnTo>
                  <a:lnTo>
                    <a:pt x="674" y="767"/>
                  </a:lnTo>
                  <a:lnTo>
                    <a:pt x="669" y="732"/>
                  </a:lnTo>
                  <a:lnTo>
                    <a:pt x="664" y="698"/>
                  </a:lnTo>
                  <a:lnTo>
                    <a:pt x="658" y="663"/>
                  </a:lnTo>
                  <a:lnTo>
                    <a:pt x="653" y="639"/>
                  </a:lnTo>
                  <a:lnTo>
                    <a:pt x="647" y="610"/>
                  </a:lnTo>
                  <a:lnTo>
                    <a:pt x="638" y="577"/>
                  </a:lnTo>
                  <a:lnTo>
                    <a:pt x="629" y="543"/>
                  </a:lnTo>
                  <a:lnTo>
                    <a:pt x="622" y="524"/>
                  </a:lnTo>
                  <a:lnTo>
                    <a:pt x="609" y="497"/>
                  </a:lnTo>
                  <a:lnTo>
                    <a:pt x="598" y="480"/>
                  </a:lnTo>
                  <a:lnTo>
                    <a:pt x="583" y="465"/>
                  </a:lnTo>
                  <a:lnTo>
                    <a:pt x="570" y="457"/>
                  </a:lnTo>
                  <a:lnTo>
                    <a:pt x="573" y="480"/>
                  </a:lnTo>
                  <a:lnTo>
                    <a:pt x="578" y="512"/>
                  </a:lnTo>
                  <a:lnTo>
                    <a:pt x="586" y="559"/>
                  </a:lnTo>
                  <a:lnTo>
                    <a:pt x="593" y="613"/>
                  </a:lnTo>
                  <a:lnTo>
                    <a:pt x="599" y="660"/>
                  </a:lnTo>
                  <a:lnTo>
                    <a:pt x="617" y="777"/>
                  </a:lnTo>
                  <a:lnTo>
                    <a:pt x="629" y="852"/>
                  </a:lnTo>
                  <a:lnTo>
                    <a:pt x="637" y="886"/>
                  </a:lnTo>
                  <a:lnTo>
                    <a:pt x="647" y="912"/>
                  </a:lnTo>
                  <a:lnTo>
                    <a:pt x="663" y="950"/>
                  </a:lnTo>
                  <a:lnTo>
                    <a:pt x="677" y="984"/>
                  </a:lnTo>
                  <a:lnTo>
                    <a:pt x="690" y="1016"/>
                  </a:lnTo>
                  <a:lnTo>
                    <a:pt x="708" y="1062"/>
                  </a:lnTo>
                  <a:lnTo>
                    <a:pt x="721" y="1065"/>
                  </a:lnTo>
                  <a:lnTo>
                    <a:pt x="733" y="1062"/>
                  </a:lnTo>
                  <a:lnTo>
                    <a:pt x="742" y="1052"/>
                  </a:lnTo>
                  <a:lnTo>
                    <a:pt x="749" y="1037"/>
                  </a:lnTo>
                  <a:lnTo>
                    <a:pt x="747" y="1024"/>
                  </a:lnTo>
                  <a:lnTo>
                    <a:pt x="741" y="1002"/>
                  </a:lnTo>
                  <a:lnTo>
                    <a:pt x="738" y="979"/>
                  </a:lnTo>
                  <a:lnTo>
                    <a:pt x="751" y="961"/>
                  </a:lnTo>
                  <a:lnTo>
                    <a:pt x="742" y="948"/>
                  </a:lnTo>
                  <a:lnTo>
                    <a:pt x="746" y="930"/>
                  </a:lnTo>
                  <a:lnTo>
                    <a:pt x="747" y="948"/>
                  </a:lnTo>
                  <a:lnTo>
                    <a:pt x="759" y="961"/>
                  </a:lnTo>
                  <a:lnTo>
                    <a:pt x="747" y="979"/>
                  </a:lnTo>
                  <a:lnTo>
                    <a:pt x="749" y="997"/>
                  </a:lnTo>
                  <a:lnTo>
                    <a:pt x="757" y="1033"/>
                  </a:lnTo>
                  <a:lnTo>
                    <a:pt x="773" y="1041"/>
                  </a:lnTo>
                  <a:lnTo>
                    <a:pt x="788" y="1049"/>
                  </a:lnTo>
                  <a:lnTo>
                    <a:pt x="796" y="1059"/>
                  </a:lnTo>
                  <a:lnTo>
                    <a:pt x="801" y="1072"/>
                  </a:lnTo>
                  <a:lnTo>
                    <a:pt x="804" y="1089"/>
                  </a:lnTo>
                  <a:lnTo>
                    <a:pt x="794" y="1067"/>
                  </a:lnTo>
                  <a:lnTo>
                    <a:pt x="783" y="1054"/>
                  </a:lnTo>
                  <a:lnTo>
                    <a:pt x="768" y="1047"/>
                  </a:lnTo>
                  <a:lnTo>
                    <a:pt x="759" y="1046"/>
                  </a:lnTo>
                  <a:lnTo>
                    <a:pt x="754" y="1055"/>
                  </a:lnTo>
                  <a:lnTo>
                    <a:pt x="747" y="1065"/>
                  </a:lnTo>
                  <a:lnTo>
                    <a:pt x="739" y="1073"/>
                  </a:lnTo>
                  <a:lnTo>
                    <a:pt x="728" y="1080"/>
                  </a:lnTo>
                  <a:lnTo>
                    <a:pt x="715" y="1080"/>
                  </a:lnTo>
                  <a:lnTo>
                    <a:pt x="723" y="1099"/>
                  </a:lnTo>
                  <a:lnTo>
                    <a:pt x="734" y="1116"/>
                  </a:lnTo>
                  <a:lnTo>
                    <a:pt x="747" y="1132"/>
                  </a:lnTo>
                  <a:lnTo>
                    <a:pt x="765" y="1155"/>
                  </a:lnTo>
                  <a:lnTo>
                    <a:pt x="778" y="1169"/>
                  </a:lnTo>
                  <a:lnTo>
                    <a:pt x="791" y="1182"/>
                  </a:lnTo>
                  <a:lnTo>
                    <a:pt x="799" y="1190"/>
                  </a:lnTo>
                  <a:lnTo>
                    <a:pt x="804" y="1200"/>
                  </a:lnTo>
                  <a:lnTo>
                    <a:pt x="806" y="1213"/>
                  </a:lnTo>
                  <a:lnTo>
                    <a:pt x="809" y="1288"/>
                  </a:lnTo>
                  <a:lnTo>
                    <a:pt x="811" y="1330"/>
                  </a:lnTo>
                  <a:lnTo>
                    <a:pt x="812" y="1345"/>
                  </a:lnTo>
                  <a:lnTo>
                    <a:pt x="812" y="1355"/>
                  </a:lnTo>
                  <a:lnTo>
                    <a:pt x="819" y="1374"/>
                  </a:lnTo>
                  <a:lnTo>
                    <a:pt x="827" y="1394"/>
                  </a:lnTo>
                  <a:lnTo>
                    <a:pt x="835" y="1407"/>
                  </a:lnTo>
                  <a:lnTo>
                    <a:pt x="848" y="1425"/>
                  </a:lnTo>
                  <a:lnTo>
                    <a:pt x="858" y="1436"/>
                  </a:lnTo>
                  <a:lnTo>
                    <a:pt x="859" y="1530"/>
                  </a:lnTo>
                  <a:lnTo>
                    <a:pt x="887" y="1550"/>
                  </a:lnTo>
                  <a:lnTo>
                    <a:pt x="859" y="1533"/>
                  </a:lnTo>
                  <a:lnTo>
                    <a:pt x="858" y="1564"/>
                  </a:lnTo>
                  <a:lnTo>
                    <a:pt x="853" y="1457"/>
                  </a:lnTo>
                  <a:lnTo>
                    <a:pt x="851" y="1438"/>
                  </a:lnTo>
                  <a:lnTo>
                    <a:pt x="837" y="1421"/>
                  </a:lnTo>
                  <a:lnTo>
                    <a:pt x="829" y="1410"/>
                  </a:lnTo>
                  <a:lnTo>
                    <a:pt x="819" y="1395"/>
                  </a:lnTo>
                  <a:lnTo>
                    <a:pt x="811" y="1381"/>
                  </a:lnTo>
                  <a:lnTo>
                    <a:pt x="806" y="1366"/>
                  </a:lnTo>
                  <a:lnTo>
                    <a:pt x="803" y="1351"/>
                  </a:lnTo>
                  <a:lnTo>
                    <a:pt x="801" y="1330"/>
                  </a:lnTo>
                  <a:lnTo>
                    <a:pt x="799" y="1309"/>
                  </a:lnTo>
                  <a:lnTo>
                    <a:pt x="796" y="1257"/>
                  </a:lnTo>
                  <a:lnTo>
                    <a:pt x="794" y="1211"/>
                  </a:lnTo>
                  <a:lnTo>
                    <a:pt x="791" y="1200"/>
                  </a:lnTo>
                  <a:lnTo>
                    <a:pt x="785" y="1192"/>
                  </a:lnTo>
                  <a:lnTo>
                    <a:pt x="770" y="1177"/>
                  </a:lnTo>
                  <a:lnTo>
                    <a:pt x="755" y="1163"/>
                  </a:lnTo>
                  <a:lnTo>
                    <a:pt x="742" y="1145"/>
                  </a:lnTo>
                  <a:lnTo>
                    <a:pt x="713" y="1109"/>
                  </a:lnTo>
                  <a:lnTo>
                    <a:pt x="703" y="1150"/>
                  </a:lnTo>
                  <a:lnTo>
                    <a:pt x="697" y="1192"/>
                  </a:lnTo>
                  <a:lnTo>
                    <a:pt x="694" y="1213"/>
                  </a:lnTo>
                  <a:lnTo>
                    <a:pt x="710" y="1228"/>
                  </a:lnTo>
                  <a:lnTo>
                    <a:pt x="725" y="1244"/>
                  </a:lnTo>
                  <a:lnTo>
                    <a:pt x="736" y="1244"/>
                  </a:lnTo>
                  <a:lnTo>
                    <a:pt x="764" y="1239"/>
                  </a:lnTo>
                  <a:lnTo>
                    <a:pt x="729" y="1251"/>
                  </a:lnTo>
                  <a:lnTo>
                    <a:pt x="738" y="1262"/>
                  </a:lnTo>
                  <a:lnTo>
                    <a:pt x="757" y="1291"/>
                  </a:lnTo>
                  <a:lnTo>
                    <a:pt x="772" y="1316"/>
                  </a:lnTo>
                  <a:lnTo>
                    <a:pt x="781" y="1340"/>
                  </a:lnTo>
                  <a:lnTo>
                    <a:pt x="788" y="1361"/>
                  </a:lnTo>
                  <a:lnTo>
                    <a:pt x="793" y="1382"/>
                  </a:lnTo>
                  <a:lnTo>
                    <a:pt x="796" y="1410"/>
                  </a:lnTo>
                  <a:lnTo>
                    <a:pt x="798" y="1428"/>
                  </a:lnTo>
                  <a:lnTo>
                    <a:pt x="796" y="1454"/>
                  </a:lnTo>
                  <a:lnTo>
                    <a:pt x="798" y="1477"/>
                  </a:lnTo>
                  <a:lnTo>
                    <a:pt x="798" y="1493"/>
                  </a:lnTo>
                  <a:lnTo>
                    <a:pt x="803" y="1527"/>
                  </a:lnTo>
                  <a:lnTo>
                    <a:pt x="812" y="1543"/>
                  </a:lnTo>
                  <a:lnTo>
                    <a:pt x="819" y="1555"/>
                  </a:lnTo>
                  <a:lnTo>
                    <a:pt x="827" y="1655"/>
                  </a:lnTo>
                  <a:lnTo>
                    <a:pt x="842" y="1662"/>
                  </a:lnTo>
                  <a:lnTo>
                    <a:pt x="855" y="1670"/>
                  </a:lnTo>
                  <a:lnTo>
                    <a:pt x="866" y="1673"/>
                  </a:lnTo>
                  <a:lnTo>
                    <a:pt x="882" y="1667"/>
                  </a:lnTo>
                  <a:lnTo>
                    <a:pt x="866" y="1678"/>
                  </a:lnTo>
                  <a:lnTo>
                    <a:pt x="853" y="1675"/>
                  </a:lnTo>
                  <a:lnTo>
                    <a:pt x="840" y="1668"/>
                  </a:lnTo>
                  <a:lnTo>
                    <a:pt x="827" y="1664"/>
                  </a:lnTo>
                  <a:lnTo>
                    <a:pt x="830" y="1678"/>
                  </a:lnTo>
                  <a:lnTo>
                    <a:pt x="837" y="1695"/>
                  </a:lnTo>
                  <a:lnTo>
                    <a:pt x="851" y="1716"/>
                  </a:lnTo>
                  <a:lnTo>
                    <a:pt x="871" y="1735"/>
                  </a:lnTo>
                  <a:lnTo>
                    <a:pt x="851" y="1719"/>
                  </a:lnTo>
                  <a:lnTo>
                    <a:pt x="840" y="1709"/>
                  </a:lnTo>
                  <a:lnTo>
                    <a:pt x="833" y="1698"/>
                  </a:lnTo>
                  <a:lnTo>
                    <a:pt x="825" y="1685"/>
                  </a:lnTo>
                  <a:lnTo>
                    <a:pt x="819" y="1655"/>
                  </a:lnTo>
                  <a:lnTo>
                    <a:pt x="814" y="1587"/>
                  </a:lnTo>
                  <a:lnTo>
                    <a:pt x="812" y="1558"/>
                  </a:lnTo>
                  <a:lnTo>
                    <a:pt x="804" y="1545"/>
                  </a:lnTo>
                  <a:lnTo>
                    <a:pt x="796" y="1533"/>
                  </a:lnTo>
                  <a:lnTo>
                    <a:pt x="791" y="1501"/>
                  </a:lnTo>
                  <a:lnTo>
                    <a:pt x="788" y="1467"/>
                  </a:lnTo>
                  <a:lnTo>
                    <a:pt x="788" y="1436"/>
                  </a:lnTo>
                  <a:lnTo>
                    <a:pt x="785" y="1403"/>
                  </a:lnTo>
                  <a:lnTo>
                    <a:pt x="783" y="1382"/>
                  </a:lnTo>
                  <a:lnTo>
                    <a:pt x="775" y="1351"/>
                  </a:lnTo>
                  <a:lnTo>
                    <a:pt x="767" y="1327"/>
                  </a:lnTo>
                  <a:lnTo>
                    <a:pt x="757" y="1307"/>
                  </a:lnTo>
                  <a:lnTo>
                    <a:pt x="741" y="1285"/>
                  </a:lnTo>
                  <a:lnTo>
                    <a:pt x="723" y="1259"/>
                  </a:lnTo>
                  <a:lnTo>
                    <a:pt x="708" y="1241"/>
                  </a:lnTo>
                  <a:lnTo>
                    <a:pt x="695" y="1231"/>
                  </a:lnTo>
                  <a:lnTo>
                    <a:pt x="687" y="1234"/>
                  </a:lnTo>
                  <a:lnTo>
                    <a:pt x="686" y="1267"/>
                  </a:lnTo>
                  <a:lnTo>
                    <a:pt x="686" y="1298"/>
                  </a:lnTo>
                  <a:lnTo>
                    <a:pt x="687" y="1324"/>
                  </a:lnTo>
                  <a:lnTo>
                    <a:pt x="690" y="1343"/>
                  </a:lnTo>
                  <a:lnTo>
                    <a:pt x="695" y="1363"/>
                  </a:lnTo>
                  <a:lnTo>
                    <a:pt x="707" y="1392"/>
                  </a:lnTo>
                  <a:lnTo>
                    <a:pt x="723" y="1421"/>
                  </a:lnTo>
                  <a:lnTo>
                    <a:pt x="739" y="1451"/>
                  </a:lnTo>
                  <a:lnTo>
                    <a:pt x="754" y="1481"/>
                  </a:lnTo>
                  <a:lnTo>
                    <a:pt x="768" y="1516"/>
                  </a:lnTo>
                  <a:lnTo>
                    <a:pt x="775" y="1537"/>
                  </a:lnTo>
                  <a:lnTo>
                    <a:pt x="778" y="1550"/>
                  </a:lnTo>
                  <a:lnTo>
                    <a:pt x="783" y="1586"/>
                  </a:lnTo>
                  <a:lnTo>
                    <a:pt x="786" y="1616"/>
                  </a:lnTo>
                  <a:lnTo>
                    <a:pt x="811" y="1629"/>
                  </a:lnTo>
                  <a:lnTo>
                    <a:pt x="788" y="1621"/>
                  </a:lnTo>
                  <a:lnTo>
                    <a:pt x="790" y="1638"/>
                  </a:lnTo>
                  <a:lnTo>
                    <a:pt x="793" y="1657"/>
                  </a:lnTo>
                  <a:lnTo>
                    <a:pt x="799" y="1677"/>
                  </a:lnTo>
                  <a:lnTo>
                    <a:pt x="809" y="1701"/>
                  </a:lnTo>
                  <a:lnTo>
                    <a:pt x="793" y="1670"/>
                  </a:lnTo>
                  <a:lnTo>
                    <a:pt x="785" y="1646"/>
                  </a:lnTo>
                  <a:lnTo>
                    <a:pt x="781" y="1633"/>
                  </a:lnTo>
                  <a:lnTo>
                    <a:pt x="778" y="1613"/>
                  </a:lnTo>
                  <a:lnTo>
                    <a:pt x="777" y="1594"/>
                  </a:lnTo>
                  <a:lnTo>
                    <a:pt x="770" y="1560"/>
                  </a:lnTo>
                  <a:lnTo>
                    <a:pt x="764" y="1535"/>
                  </a:lnTo>
                  <a:lnTo>
                    <a:pt x="749" y="1501"/>
                  </a:lnTo>
                  <a:lnTo>
                    <a:pt x="731" y="1467"/>
                  </a:lnTo>
                  <a:lnTo>
                    <a:pt x="712" y="1429"/>
                  </a:lnTo>
                  <a:lnTo>
                    <a:pt x="700" y="1408"/>
                  </a:lnTo>
                  <a:lnTo>
                    <a:pt x="689" y="1384"/>
                  </a:lnTo>
                  <a:lnTo>
                    <a:pt x="681" y="1366"/>
                  </a:lnTo>
                  <a:lnTo>
                    <a:pt x="676" y="1343"/>
                  </a:lnTo>
                  <a:lnTo>
                    <a:pt x="674" y="1316"/>
                  </a:lnTo>
                  <a:lnTo>
                    <a:pt x="673" y="1285"/>
                  </a:lnTo>
                  <a:lnTo>
                    <a:pt x="674" y="1242"/>
                  </a:lnTo>
                  <a:lnTo>
                    <a:pt x="677" y="1216"/>
                  </a:lnTo>
                  <a:lnTo>
                    <a:pt x="664" y="1205"/>
                  </a:lnTo>
                  <a:lnTo>
                    <a:pt x="648" y="1203"/>
                  </a:lnTo>
                  <a:lnTo>
                    <a:pt x="625" y="1203"/>
                  </a:lnTo>
                  <a:lnTo>
                    <a:pt x="664" y="1198"/>
                  </a:lnTo>
                  <a:lnTo>
                    <a:pt x="681" y="1205"/>
                  </a:lnTo>
                  <a:lnTo>
                    <a:pt x="686" y="1171"/>
                  </a:lnTo>
                  <a:lnTo>
                    <a:pt x="690" y="1140"/>
                  </a:lnTo>
                  <a:lnTo>
                    <a:pt x="702" y="1096"/>
                  </a:lnTo>
                  <a:lnTo>
                    <a:pt x="694" y="1072"/>
                  </a:lnTo>
                  <a:lnTo>
                    <a:pt x="679" y="1028"/>
                  </a:lnTo>
                  <a:lnTo>
                    <a:pt x="668" y="1000"/>
                  </a:lnTo>
                  <a:lnTo>
                    <a:pt x="656" y="974"/>
                  </a:lnTo>
                  <a:lnTo>
                    <a:pt x="645" y="946"/>
                  </a:lnTo>
                  <a:lnTo>
                    <a:pt x="632" y="919"/>
                  </a:lnTo>
                  <a:lnTo>
                    <a:pt x="621" y="888"/>
                  </a:lnTo>
                  <a:lnTo>
                    <a:pt x="614" y="862"/>
                  </a:lnTo>
                  <a:lnTo>
                    <a:pt x="609" y="831"/>
                  </a:lnTo>
                  <a:lnTo>
                    <a:pt x="598" y="759"/>
                  </a:lnTo>
                  <a:lnTo>
                    <a:pt x="586" y="688"/>
                  </a:lnTo>
                  <a:lnTo>
                    <a:pt x="577" y="689"/>
                  </a:lnTo>
                  <a:lnTo>
                    <a:pt x="570" y="694"/>
                  </a:lnTo>
                  <a:lnTo>
                    <a:pt x="562" y="706"/>
                  </a:lnTo>
                  <a:lnTo>
                    <a:pt x="559" y="720"/>
                  </a:lnTo>
                  <a:lnTo>
                    <a:pt x="557" y="761"/>
                  </a:lnTo>
                  <a:lnTo>
                    <a:pt x="562" y="803"/>
                  </a:lnTo>
                  <a:lnTo>
                    <a:pt x="562" y="839"/>
                  </a:lnTo>
                  <a:lnTo>
                    <a:pt x="562" y="865"/>
                  </a:lnTo>
                  <a:lnTo>
                    <a:pt x="565" y="880"/>
                  </a:lnTo>
                  <a:lnTo>
                    <a:pt x="572" y="896"/>
                  </a:lnTo>
                  <a:lnTo>
                    <a:pt x="586" y="920"/>
                  </a:lnTo>
                  <a:lnTo>
                    <a:pt x="603" y="953"/>
                  </a:lnTo>
                  <a:lnTo>
                    <a:pt x="625" y="995"/>
                  </a:lnTo>
                  <a:lnTo>
                    <a:pt x="638" y="1033"/>
                  </a:lnTo>
                  <a:lnTo>
                    <a:pt x="643" y="1062"/>
                  </a:lnTo>
                  <a:lnTo>
                    <a:pt x="651" y="1088"/>
                  </a:lnTo>
                  <a:lnTo>
                    <a:pt x="656" y="1120"/>
                  </a:lnTo>
                  <a:lnTo>
                    <a:pt x="676" y="1174"/>
                  </a:lnTo>
                  <a:lnTo>
                    <a:pt x="658" y="1133"/>
                  </a:lnTo>
                  <a:lnTo>
                    <a:pt x="647" y="1091"/>
                  </a:lnTo>
                  <a:lnTo>
                    <a:pt x="637" y="1063"/>
                  </a:lnTo>
                  <a:lnTo>
                    <a:pt x="632" y="1034"/>
                  </a:lnTo>
                  <a:lnTo>
                    <a:pt x="624" y="1010"/>
                  </a:lnTo>
                  <a:lnTo>
                    <a:pt x="612" y="985"/>
                  </a:lnTo>
                  <a:lnTo>
                    <a:pt x="598" y="956"/>
                  </a:lnTo>
                  <a:lnTo>
                    <a:pt x="580" y="924"/>
                  </a:lnTo>
                  <a:lnTo>
                    <a:pt x="567" y="904"/>
                  </a:lnTo>
                  <a:lnTo>
                    <a:pt x="559" y="886"/>
                  </a:lnTo>
                  <a:lnTo>
                    <a:pt x="556" y="872"/>
                  </a:lnTo>
                  <a:lnTo>
                    <a:pt x="556" y="839"/>
                  </a:lnTo>
                  <a:lnTo>
                    <a:pt x="556" y="815"/>
                  </a:lnTo>
                  <a:lnTo>
                    <a:pt x="549" y="766"/>
                  </a:lnTo>
                  <a:lnTo>
                    <a:pt x="549" y="740"/>
                  </a:lnTo>
                  <a:lnTo>
                    <a:pt x="551" y="712"/>
                  </a:lnTo>
                  <a:lnTo>
                    <a:pt x="554" y="694"/>
                  </a:lnTo>
                  <a:lnTo>
                    <a:pt x="560" y="683"/>
                  </a:lnTo>
                  <a:lnTo>
                    <a:pt x="572" y="672"/>
                  </a:lnTo>
                  <a:lnTo>
                    <a:pt x="583" y="667"/>
                  </a:lnTo>
                  <a:lnTo>
                    <a:pt x="575" y="610"/>
                  </a:lnTo>
                  <a:lnTo>
                    <a:pt x="564" y="535"/>
                  </a:lnTo>
                  <a:lnTo>
                    <a:pt x="554" y="483"/>
                  </a:lnTo>
                  <a:lnTo>
                    <a:pt x="546" y="444"/>
                  </a:lnTo>
                  <a:lnTo>
                    <a:pt x="541" y="419"/>
                  </a:lnTo>
                  <a:lnTo>
                    <a:pt x="533" y="382"/>
                  </a:lnTo>
                  <a:lnTo>
                    <a:pt x="525" y="356"/>
                  </a:lnTo>
                  <a:lnTo>
                    <a:pt x="515" y="323"/>
                  </a:lnTo>
                  <a:lnTo>
                    <a:pt x="505" y="297"/>
                  </a:lnTo>
                  <a:lnTo>
                    <a:pt x="497" y="275"/>
                  </a:lnTo>
                  <a:lnTo>
                    <a:pt x="487" y="254"/>
                  </a:lnTo>
                  <a:lnTo>
                    <a:pt x="478" y="236"/>
                  </a:lnTo>
                  <a:lnTo>
                    <a:pt x="460" y="213"/>
                  </a:lnTo>
                  <a:lnTo>
                    <a:pt x="455" y="237"/>
                  </a:lnTo>
                  <a:lnTo>
                    <a:pt x="447" y="262"/>
                  </a:lnTo>
                  <a:lnTo>
                    <a:pt x="440" y="281"/>
                  </a:lnTo>
                  <a:lnTo>
                    <a:pt x="432" y="302"/>
                  </a:lnTo>
                  <a:lnTo>
                    <a:pt x="419" y="328"/>
                  </a:lnTo>
                  <a:lnTo>
                    <a:pt x="413" y="359"/>
                  </a:lnTo>
                  <a:lnTo>
                    <a:pt x="411" y="397"/>
                  </a:lnTo>
                  <a:lnTo>
                    <a:pt x="413" y="424"/>
                  </a:lnTo>
                  <a:lnTo>
                    <a:pt x="419" y="462"/>
                  </a:lnTo>
                  <a:lnTo>
                    <a:pt x="424" y="493"/>
                  </a:lnTo>
                  <a:lnTo>
                    <a:pt x="430" y="519"/>
                  </a:lnTo>
                  <a:lnTo>
                    <a:pt x="435" y="545"/>
                  </a:lnTo>
                  <a:lnTo>
                    <a:pt x="439" y="571"/>
                  </a:lnTo>
                  <a:lnTo>
                    <a:pt x="440" y="592"/>
                  </a:lnTo>
                  <a:lnTo>
                    <a:pt x="440" y="628"/>
                  </a:lnTo>
                  <a:lnTo>
                    <a:pt x="437" y="662"/>
                  </a:lnTo>
                  <a:lnTo>
                    <a:pt x="417" y="758"/>
                  </a:lnTo>
                  <a:lnTo>
                    <a:pt x="426" y="685"/>
                  </a:lnTo>
                  <a:lnTo>
                    <a:pt x="430" y="655"/>
                  </a:lnTo>
                  <a:lnTo>
                    <a:pt x="432" y="636"/>
                  </a:lnTo>
                  <a:lnTo>
                    <a:pt x="430" y="616"/>
                  </a:lnTo>
                  <a:lnTo>
                    <a:pt x="426" y="587"/>
                  </a:lnTo>
                  <a:lnTo>
                    <a:pt x="422" y="553"/>
                  </a:lnTo>
                  <a:lnTo>
                    <a:pt x="416" y="522"/>
                  </a:lnTo>
                  <a:lnTo>
                    <a:pt x="409" y="491"/>
                  </a:lnTo>
                  <a:lnTo>
                    <a:pt x="403" y="465"/>
                  </a:lnTo>
                  <a:lnTo>
                    <a:pt x="398" y="441"/>
                  </a:lnTo>
                  <a:lnTo>
                    <a:pt x="395" y="408"/>
                  </a:lnTo>
                  <a:lnTo>
                    <a:pt x="393" y="382"/>
                  </a:lnTo>
                  <a:lnTo>
                    <a:pt x="396" y="350"/>
                  </a:lnTo>
                  <a:lnTo>
                    <a:pt x="401" y="325"/>
                  </a:lnTo>
                  <a:lnTo>
                    <a:pt x="409" y="302"/>
                  </a:lnTo>
                  <a:lnTo>
                    <a:pt x="419" y="281"/>
                  </a:lnTo>
                  <a:lnTo>
                    <a:pt x="434" y="244"/>
                  </a:lnTo>
                  <a:lnTo>
                    <a:pt x="439" y="223"/>
                  </a:lnTo>
                  <a:lnTo>
                    <a:pt x="442" y="198"/>
                  </a:lnTo>
                  <a:lnTo>
                    <a:pt x="430" y="185"/>
                  </a:lnTo>
                  <a:lnTo>
                    <a:pt x="411" y="171"/>
                  </a:lnTo>
                  <a:lnTo>
                    <a:pt x="396" y="159"/>
                  </a:lnTo>
                  <a:lnTo>
                    <a:pt x="380" y="148"/>
                  </a:lnTo>
                  <a:lnTo>
                    <a:pt x="354" y="128"/>
                  </a:lnTo>
                  <a:lnTo>
                    <a:pt x="326" y="110"/>
                  </a:lnTo>
                  <a:lnTo>
                    <a:pt x="305" y="97"/>
                  </a:lnTo>
                  <a:lnTo>
                    <a:pt x="284" y="84"/>
                  </a:lnTo>
                  <a:lnTo>
                    <a:pt x="255" y="67"/>
                  </a:lnTo>
                  <a:lnTo>
                    <a:pt x="227" y="54"/>
                  </a:lnTo>
                  <a:lnTo>
                    <a:pt x="210" y="45"/>
                  </a:lnTo>
                  <a:lnTo>
                    <a:pt x="185" y="36"/>
                  </a:lnTo>
                  <a:lnTo>
                    <a:pt x="161" y="27"/>
                  </a:lnTo>
                  <a:lnTo>
                    <a:pt x="138" y="23"/>
                  </a:lnTo>
                  <a:lnTo>
                    <a:pt x="115" y="19"/>
                  </a:lnTo>
                  <a:lnTo>
                    <a:pt x="96" y="21"/>
                  </a:lnTo>
                  <a:lnTo>
                    <a:pt x="80" y="36"/>
                  </a:lnTo>
                  <a:lnTo>
                    <a:pt x="70" y="58"/>
                  </a:lnTo>
                  <a:lnTo>
                    <a:pt x="65" y="86"/>
                  </a:lnTo>
                  <a:lnTo>
                    <a:pt x="60" y="120"/>
                  </a:lnTo>
                  <a:lnTo>
                    <a:pt x="60" y="167"/>
                  </a:lnTo>
                  <a:lnTo>
                    <a:pt x="57" y="211"/>
                  </a:lnTo>
                  <a:lnTo>
                    <a:pt x="47" y="242"/>
                  </a:lnTo>
                  <a:lnTo>
                    <a:pt x="26" y="284"/>
                  </a:lnTo>
                  <a:lnTo>
                    <a:pt x="0" y="265"/>
                  </a:lnTo>
                  <a:lnTo>
                    <a:pt x="19" y="228"/>
                  </a:lnTo>
                  <a:lnTo>
                    <a:pt x="29" y="202"/>
                  </a:lnTo>
                  <a:lnTo>
                    <a:pt x="31" y="166"/>
                  </a:lnTo>
                  <a:lnTo>
                    <a:pt x="32" y="133"/>
                  </a:lnTo>
                  <a:lnTo>
                    <a:pt x="36" y="93"/>
                  </a:lnTo>
                  <a:lnTo>
                    <a:pt x="42" y="63"/>
                  </a:lnTo>
                  <a:lnTo>
                    <a:pt x="50" y="36"/>
                  </a:lnTo>
                  <a:lnTo>
                    <a:pt x="65" y="16"/>
                  </a:lnTo>
                  <a:lnTo>
                    <a:pt x="83" y="3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5" name=""/>
            <p:cNvSpPr/>
            <p:nvPr/>
          </p:nvSpPr>
          <p:spPr>
            <a:xfrm>
              <a:off x="5432400" y="3830400"/>
              <a:ext cx="401040" cy="631440"/>
            </a:xfrm>
            <a:custGeom>
              <a:avLst/>
              <a:gdLst/>
              <a:ahLst/>
              <a:rect l="l" t="t" r="r" b="b"/>
              <a:pathLst>
                <a:path w="978" h="1735">
                  <a:moveTo>
                    <a:pt x="978" y="265"/>
                  </a:moveTo>
                  <a:lnTo>
                    <a:pt x="972" y="200"/>
                  </a:lnTo>
                  <a:lnTo>
                    <a:pt x="964" y="151"/>
                  </a:lnTo>
                  <a:lnTo>
                    <a:pt x="961" y="130"/>
                  </a:lnTo>
                  <a:lnTo>
                    <a:pt x="954" y="111"/>
                  </a:lnTo>
                  <a:lnTo>
                    <a:pt x="946" y="93"/>
                  </a:lnTo>
                  <a:lnTo>
                    <a:pt x="935" y="73"/>
                  </a:lnTo>
                  <a:lnTo>
                    <a:pt x="918" y="55"/>
                  </a:lnTo>
                  <a:lnTo>
                    <a:pt x="904" y="41"/>
                  </a:lnTo>
                  <a:lnTo>
                    <a:pt x="887" y="28"/>
                  </a:lnTo>
                  <a:lnTo>
                    <a:pt x="866" y="16"/>
                  </a:lnTo>
                  <a:lnTo>
                    <a:pt x="845" y="8"/>
                  </a:lnTo>
                  <a:lnTo>
                    <a:pt x="826" y="3"/>
                  </a:lnTo>
                  <a:lnTo>
                    <a:pt x="779" y="0"/>
                  </a:lnTo>
                  <a:lnTo>
                    <a:pt x="736" y="8"/>
                  </a:lnTo>
                  <a:lnTo>
                    <a:pt x="704" y="18"/>
                  </a:lnTo>
                  <a:lnTo>
                    <a:pt x="675" y="31"/>
                  </a:lnTo>
                  <a:lnTo>
                    <a:pt x="655" y="39"/>
                  </a:lnTo>
                  <a:lnTo>
                    <a:pt x="629" y="54"/>
                  </a:lnTo>
                  <a:lnTo>
                    <a:pt x="595" y="73"/>
                  </a:lnTo>
                  <a:lnTo>
                    <a:pt x="561" y="93"/>
                  </a:lnTo>
                  <a:lnTo>
                    <a:pt x="543" y="104"/>
                  </a:lnTo>
                  <a:lnTo>
                    <a:pt x="530" y="106"/>
                  </a:lnTo>
                  <a:lnTo>
                    <a:pt x="489" y="101"/>
                  </a:lnTo>
                  <a:lnTo>
                    <a:pt x="457" y="98"/>
                  </a:lnTo>
                  <a:lnTo>
                    <a:pt x="434" y="98"/>
                  </a:lnTo>
                  <a:lnTo>
                    <a:pt x="415" y="98"/>
                  </a:lnTo>
                  <a:lnTo>
                    <a:pt x="400" y="98"/>
                  </a:lnTo>
                  <a:lnTo>
                    <a:pt x="376" y="103"/>
                  </a:lnTo>
                  <a:lnTo>
                    <a:pt x="359" y="111"/>
                  </a:lnTo>
                  <a:lnTo>
                    <a:pt x="340" y="127"/>
                  </a:lnTo>
                  <a:lnTo>
                    <a:pt x="356" y="117"/>
                  </a:lnTo>
                  <a:lnTo>
                    <a:pt x="369" y="112"/>
                  </a:lnTo>
                  <a:lnTo>
                    <a:pt x="384" y="111"/>
                  </a:lnTo>
                  <a:lnTo>
                    <a:pt x="389" y="119"/>
                  </a:lnTo>
                  <a:lnTo>
                    <a:pt x="390" y="133"/>
                  </a:lnTo>
                  <a:lnTo>
                    <a:pt x="385" y="148"/>
                  </a:lnTo>
                  <a:lnTo>
                    <a:pt x="376" y="166"/>
                  </a:lnTo>
                  <a:lnTo>
                    <a:pt x="387" y="153"/>
                  </a:lnTo>
                  <a:lnTo>
                    <a:pt x="394" y="142"/>
                  </a:lnTo>
                  <a:lnTo>
                    <a:pt x="398" y="125"/>
                  </a:lnTo>
                  <a:lnTo>
                    <a:pt x="397" y="112"/>
                  </a:lnTo>
                  <a:lnTo>
                    <a:pt x="405" y="107"/>
                  </a:lnTo>
                  <a:lnTo>
                    <a:pt x="423" y="106"/>
                  </a:lnTo>
                  <a:lnTo>
                    <a:pt x="444" y="106"/>
                  </a:lnTo>
                  <a:lnTo>
                    <a:pt x="465" y="106"/>
                  </a:lnTo>
                  <a:lnTo>
                    <a:pt x="499" y="111"/>
                  </a:lnTo>
                  <a:lnTo>
                    <a:pt x="524" y="117"/>
                  </a:lnTo>
                  <a:lnTo>
                    <a:pt x="501" y="133"/>
                  </a:lnTo>
                  <a:lnTo>
                    <a:pt x="465" y="158"/>
                  </a:lnTo>
                  <a:lnTo>
                    <a:pt x="442" y="177"/>
                  </a:lnTo>
                  <a:lnTo>
                    <a:pt x="424" y="192"/>
                  </a:lnTo>
                  <a:lnTo>
                    <a:pt x="410" y="210"/>
                  </a:lnTo>
                  <a:lnTo>
                    <a:pt x="398" y="225"/>
                  </a:lnTo>
                  <a:lnTo>
                    <a:pt x="385" y="244"/>
                  </a:lnTo>
                  <a:lnTo>
                    <a:pt x="376" y="264"/>
                  </a:lnTo>
                  <a:lnTo>
                    <a:pt x="337" y="249"/>
                  </a:lnTo>
                  <a:lnTo>
                    <a:pt x="327" y="226"/>
                  </a:lnTo>
                  <a:lnTo>
                    <a:pt x="319" y="212"/>
                  </a:lnTo>
                  <a:lnTo>
                    <a:pt x="322" y="228"/>
                  </a:lnTo>
                  <a:lnTo>
                    <a:pt x="325" y="247"/>
                  </a:lnTo>
                  <a:lnTo>
                    <a:pt x="314" y="257"/>
                  </a:lnTo>
                  <a:lnTo>
                    <a:pt x="296" y="262"/>
                  </a:lnTo>
                  <a:lnTo>
                    <a:pt x="277" y="262"/>
                  </a:lnTo>
                  <a:lnTo>
                    <a:pt x="296" y="267"/>
                  </a:lnTo>
                  <a:lnTo>
                    <a:pt x="309" y="267"/>
                  </a:lnTo>
                  <a:lnTo>
                    <a:pt x="322" y="260"/>
                  </a:lnTo>
                  <a:lnTo>
                    <a:pt x="330" y="254"/>
                  </a:lnTo>
                  <a:lnTo>
                    <a:pt x="350" y="262"/>
                  </a:lnTo>
                  <a:lnTo>
                    <a:pt x="371" y="272"/>
                  </a:lnTo>
                  <a:lnTo>
                    <a:pt x="364" y="290"/>
                  </a:lnTo>
                  <a:lnTo>
                    <a:pt x="355" y="314"/>
                  </a:lnTo>
                  <a:lnTo>
                    <a:pt x="345" y="343"/>
                  </a:lnTo>
                  <a:lnTo>
                    <a:pt x="332" y="389"/>
                  </a:lnTo>
                  <a:lnTo>
                    <a:pt x="316" y="387"/>
                  </a:lnTo>
                  <a:lnTo>
                    <a:pt x="298" y="389"/>
                  </a:lnTo>
                  <a:lnTo>
                    <a:pt x="281" y="397"/>
                  </a:lnTo>
                  <a:lnTo>
                    <a:pt x="268" y="403"/>
                  </a:lnTo>
                  <a:lnTo>
                    <a:pt x="257" y="421"/>
                  </a:lnTo>
                  <a:lnTo>
                    <a:pt x="272" y="407"/>
                  </a:lnTo>
                  <a:lnTo>
                    <a:pt x="286" y="400"/>
                  </a:lnTo>
                  <a:lnTo>
                    <a:pt x="294" y="397"/>
                  </a:lnTo>
                  <a:lnTo>
                    <a:pt x="311" y="395"/>
                  </a:lnTo>
                  <a:lnTo>
                    <a:pt x="329" y="402"/>
                  </a:lnTo>
                  <a:lnTo>
                    <a:pt x="322" y="429"/>
                  </a:lnTo>
                  <a:lnTo>
                    <a:pt x="299" y="444"/>
                  </a:lnTo>
                  <a:lnTo>
                    <a:pt x="286" y="457"/>
                  </a:lnTo>
                  <a:lnTo>
                    <a:pt x="273" y="477"/>
                  </a:lnTo>
                  <a:lnTo>
                    <a:pt x="262" y="498"/>
                  </a:lnTo>
                  <a:lnTo>
                    <a:pt x="251" y="527"/>
                  </a:lnTo>
                  <a:lnTo>
                    <a:pt x="241" y="561"/>
                  </a:lnTo>
                  <a:lnTo>
                    <a:pt x="231" y="600"/>
                  </a:lnTo>
                  <a:lnTo>
                    <a:pt x="221" y="642"/>
                  </a:lnTo>
                  <a:lnTo>
                    <a:pt x="203" y="642"/>
                  </a:lnTo>
                  <a:lnTo>
                    <a:pt x="187" y="651"/>
                  </a:lnTo>
                  <a:lnTo>
                    <a:pt x="174" y="662"/>
                  </a:lnTo>
                  <a:lnTo>
                    <a:pt x="164" y="677"/>
                  </a:lnTo>
                  <a:lnTo>
                    <a:pt x="153" y="701"/>
                  </a:lnTo>
                  <a:lnTo>
                    <a:pt x="143" y="734"/>
                  </a:lnTo>
                  <a:lnTo>
                    <a:pt x="151" y="712"/>
                  </a:lnTo>
                  <a:lnTo>
                    <a:pt x="161" y="696"/>
                  </a:lnTo>
                  <a:lnTo>
                    <a:pt x="173" y="678"/>
                  </a:lnTo>
                  <a:lnTo>
                    <a:pt x="181" y="667"/>
                  </a:lnTo>
                  <a:lnTo>
                    <a:pt x="192" y="659"/>
                  </a:lnTo>
                  <a:lnTo>
                    <a:pt x="207" y="652"/>
                  </a:lnTo>
                  <a:lnTo>
                    <a:pt x="218" y="654"/>
                  </a:lnTo>
                  <a:lnTo>
                    <a:pt x="215" y="683"/>
                  </a:lnTo>
                  <a:lnTo>
                    <a:pt x="212" y="709"/>
                  </a:lnTo>
                  <a:lnTo>
                    <a:pt x="208" y="734"/>
                  </a:lnTo>
                  <a:lnTo>
                    <a:pt x="205" y="768"/>
                  </a:lnTo>
                  <a:lnTo>
                    <a:pt x="203" y="802"/>
                  </a:lnTo>
                  <a:lnTo>
                    <a:pt x="195" y="818"/>
                  </a:lnTo>
                  <a:lnTo>
                    <a:pt x="168" y="839"/>
                  </a:lnTo>
                  <a:lnTo>
                    <a:pt x="199" y="821"/>
                  </a:lnTo>
                  <a:lnTo>
                    <a:pt x="207" y="810"/>
                  </a:lnTo>
                  <a:lnTo>
                    <a:pt x="215" y="823"/>
                  </a:lnTo>
                  <a:lnTo>
                    <a:pt x="223" y="856"/>
                  </a:lnTo>
                  <a:lnTo>
                    <a:pt x="218" y="828"/>
                  </a:lnTo>
                  <a:lnTo>
                    <a:pt x="210" y="800"/>
                  </a:lnTo>
                  <a:lnTo>
                    <a:pt x="213" y="768"/>
                  </a:lnTo>
                  <a:lnTo>
                    <a:pt x="218" y="732"/>
                  </a:lnTo>
                  <a:lnTo>
                    <a:pt x="223" y="698"/>
                  </a:lnTo>
                  <a:lnTo>
                    <a:pt x="229" y="664"/>
                  </a:lnTo>
                  <a:lnTo>
                    <a:pt x="234" y="639"/>
                  </a:lnTo>
                  <a:lnTo>
                    <a:pt x="241" y="610"/>
                  </a:lnTo>
                  <a:lnTo>
                    <a:pt x="249" y="577"/>
                  </a:lnTo>
                  <a:lnTo>
                    <a:pt x="259" y="543"/>
                  </a:lnTo>
                  <a:lnTo>
                    <a:pt x="265" y="524"/>
                  </a:lnTo>
                  <a:lnTo>
                    <a:pt x="278" y="498"/>
                  </a:lnTo>
                  <a:lnTo>
                    <a:pt x="290" y="480"/>
                  </a:lnTo>
                  <a:lnTo>
                    <a:pt x="304" y="465"/>
                  </a:lnTo>
                  <a:lnTo>
                    <a:pt x="317" y="457"/>
                  </a:lnTo>
                  <a:lnTo>
                    <a:pt x="314" y="480"/>
                  </a:lnTo>
                  <a:lnTo>
                    <a:pt x="309" y="512"/>
                  </a:lnTo>
                  <a:lnTo>
                    <a:pt x="301" y="560"/>
                  </a:lnTo>
                  <a:lnTo>
                    <a:pt x="294" y="613"/>
                  </a:lnTo>
                  <a:lnTo>
                    <a:pt x="288" y="660"/>
                  </a:lnTo>
                  <a:lnTo>
                    <a:pt x="270" y="777"/>
                  </a:lnTo>
                  <a:lnTo>
                    <a:pt x="259" y="852"/>
                  </a:lnTo>
                  <a:lnTo>
                    <a:pt x="251" y="886"/>
                  </a:lnTo>
                  <a:lnTo>
                    <a:pt x="241" y="912"/>
                  </a:lnTo>
                  <a:lnTo>
                    <a:pt x="225" y="950"/>
                  </a:lnTo>
                  <a:lnTo>
                    <a:pt x="210" y="984"/>
                  </a:lnTo>
                  <a:lnTo>
                    <a:pt x="197" y="1017"/>
                  </a:lnTo>
                  <a:lnTo>
                    <a:pt x="179" y="1062"/>
                  </a:lnTo>
                  <a:lnTo>
                    <a:pt x="166" y="1065"/>
                  </a:lnTo>
                  <a:lnTo>
                    <a:pt x="155" y="1062"/>
                  </a:lnTo>
                  <a:lnTo>
                    <a:pt x="145" y="1052"/>
                  </a:lnTo>
                  <a:lnTo>
                    <a:pt x="138" y="1038"/>
                  </a:lnTo>
                  <a:lnTo>
                    <a:pt x="140" y="1025"/>
                  </a:lnTo>
                  <a:lnTo>
                    <a:pt x="147" y="1002"/>
                  </a:lnTo>
                  <a:lnTo>
                    <a:pt x="150" y="979"/>
                  </a:lnTo>
                  <a:lnTo>
                    <a:pt x="137" y="961"/>
                  </a:lnTo>
                  <a:lnTo>
                    <a:pt x="145" y="948"/>
                  </a:lnTo>
                  <a:lnTo>
                    <a:pt x="142" y="930"/>
                  </a:lnTo>
                  <a:lnTo>
                    <a:pt x="140" y="948"/>
                  </a:lnTo>
                  <a:lnTo>
                    <a:pt x="129" y="961"/>
                  </a:lnTo>
                  <a:lnTo>
                    <a:pt x="140" y="979"/>
                  </a:lnTo>
                  <a:lnTo>
                    <a:pt x="138" y="997"/>
                  </a:lnTo>
                  <a:lnTo>
                    <a:pt x="130" y="1033"/>
                  </a:lnTo>
                  <a:lnTo>
                    <a:pt x="114" y="1041"/>
                  </a:lnTo>
                  <a:lnTo>
                    <a:pt x="99" y="1049"/>
                  </a:lnTo>
                  <a:lnTo>
                    <a:pt x="91" y="1059"/>
                  </a:lnTo>
                  <a:lnTo>
                    <a:pt x="86" y="1072"/>
                  </a:lnTo>
                  <a:lnTo>
                    <a:pt x="83" y="1090"/>
                  </a:lnTo>
                  <a:lnTo>
                    <a:pt x="93" y="1067"/>
                  </a:lnTo>
                  <a:lnTo>
                    <a:pt x="104" y="1054"/>
                  </a:lnTo>
                  <a:lnTo>
                    <a:pt x="119" y="1047"/>
                  </a:lnTo>
                  <a:lnTo>
                    <a:pt x="129" y="1046"/>
                  </a:lnTo>
                  <a:lnTo>
                    <a:pt x="134" y="1056"/>
                  </a:lnTo>
                  <a:lnTo>
                    <a:pt x="140" y="1065"/>
                  </a:lnTo>
                  <a:lnTo>
                    <a:pt x="148" y="1073"/>
                  </a:lnTo>
                  <a:lnTo>
                    <a:pt x="160" y="1080"/>
                  </a:lnTo>
                  <a:lnTo>
                    <a:pt x="173" y="1080"/>
                  </a:lnTo>
                  <a:lnTo>
                    <a:pt x="164" y="1099"/>
                  </a:lnTo>
                  <a:lnTo>
                    <a:pt x="153" y="1116"/>
                  </a:lnTo>
                  <a:lnTo>
                    <a:pt x="140" y="1132"/>
                  </a:lnTo>
                  <a:lnTo>
                    <a:pt x="122" y="1155"/>
                  </a:lnTo>
                  <a:lnTo>
                    <a:pt x="109" y="1169"/>
                  </a:lnTo>
                  <a:lnTo>
                    <a:pt x="96" y="1182"/>
                  </a:lnTo>
                  <a:lnTo>
                    <a:pt x="88" y="1191"/>
                  </a:lnTo>
                  <a:lnTo>
                    <a:pt x="83" y="1200"/>
                  </a:lnTo>
                  <a:lnTo>
                    <a:pt x="82" y="1213"/>
                  </a:lnTo>
                  <a:lnTo>
                    <a:pt x="78" y="1288"/>
                  </a:lnTo>
                  <a:lnTo>
                    <a:pt x="77" y="1330"/>
                  </a:lnTo>
                  <a:lnTo>
                    <a:pt x="75" y="1345"/>
                  </a:lnTo>
                  <a:lnTo>
                    <a:pt x="75" y="1355"/>
                  </a:lnTo>
                  <a:lnTo>
                    <a:pt x="69" y="1374"/>
                  </a:lnTo>
                  <a:lnTo>
                    <a:pt x="60" y="1394"/>
                  </a:lnTo>
                  <a:lnTo>
                    <a:pt x="52" y="1407"/>
                  </a:lnTo>
                  <a:lnTo>
                    <a:pt x="39" y="1425"/>
                  </a:lnTo>
                  <a:lnTo>
                    <a:pt x="30" y="1436"/>
                  </a:lnTo>
                  <a:lnTo>
                    <a:pt x="28" y="1530"/>
                  </a:lnTo>
                  <a:lnTo>
                    <a:pt x="0" y="1550"/>
                  </a:lnTo>
                  <a:lnTo>
                    <a:pt x="28" y="1534"/>
                  </a:lnTo>
                  <a:lnTo>
                    <a:pt x="30" y="1565"/>
                  </a:lnTo>
                  <a:lnTo>
                    <a:pt x="34" y="1457"/>
                  </a:lnTo>
                  <a:lnTo>
                    <a:pt x="36" y="1438"/>
                  </a:lnTo>
                  <a:lnTo>
                    <a:pt x="51" y="1422"/>
                  </a:lnTo>
                  <a:lnTo>
                    <a:pt x="59" y="1410"/>
                  </a:lnTo>
                  <a:lnTo>
                    <a:pt x="69" y="1395"/>
                  </a:lnTo>
                  <a:lnTo>
                    <a:pt x="77" y="1381"/>
                  </a:lnTo>
                  <a:lnTo>
                    <a:pt x="82" y="1366"/>
                  </a:lnTo>
                  <a:lnTo>
                    <a:pt x="85" y="1352"/>
                  </a:lnTo>
                  <a:lnTo>
                    <a:pt x="86" y="1330"/>
                  </a:lnTo>
                  <a:lnTo>
                    <a:pt x="88" y="1309"/>
                  </a:lnTo>
                  <a:lnTo>
                    <a:pt x="91" y="1257"/>
                  </a:lnTo>
                  <a:lnTo>
                    <a:pt x="93" y="1212"/>
                  </a:lnTo>
                  <a:lnTo>
                    <a:pt x="96" y="1200"/>
                  </a:lnTo>
                  <a:lnTo>
                    <a:pt x="103" y="1192"/>
                  </a:lnTo>
                  <a:lnTo>
                    <a:pt x="117" y="1178"/>
                  </a:lnTo>
                  <a:lnTo>
                    <a:pt x="132" y="1163"/>
                  </a:lnTo>
                  <a:lnTo>
                    <a:pt x="145" y="1145"/>
                  </a:lnTo>
                  <a:lnTo>
                    <a:pt x="174" y="1109"/>
                  </a:lnTo>
                  <a:lnTo>
                    <a:pt x="184" y="1150"/>
                  </a:lnTo>
                  <a:lnTo>
                    <a:pt x="190" y="1192"/>
                  </a:lnTo>
                  <a:lnTo>
                    <a:pt x="194" y="1213"/>
                  </a:lnTo>
                  <a:lnTo>
                    <a:pt x="177" y="1228"/>
                  </a:lnTo>
                  <a:lnTo>
                    <a:pt x="163" y="1244"/>
                  </a:lnTo>
                  <a:lnTo>
                    <a:pt x="151" y="1244"/>
                  </a:lnTo>
                  <a:lnTo>
                    <a:pt x="124" y="1239"/>
                  </a:lnTo>
                  <a:lnTo>
                    <a:pt x="158" y="1251"/>
                  </a:lnTo>
                  <a:lnTo>
                    <a:pt x="150" y="1262"/>
                  </a:lnTo>
                  <a:lnTo>
                    <a:pt x="130" y="1291"/>
                  </a:lnTo>
                  <a:lnTo>
                    <a:pt x="116" y="1316"/>
                  </a:lnTo>
                  <a:lnTo>
                    <a:pt x="106" y="1340"/>
                  </a:lnTo>
                  <a:lnTo>
                    <a:pt x="99" y="1361"/>
                  </a:lnTo>
                  <a:lnTo>
                    <a:pt x="95" y="1382"/>
                  </a:lnTo>
                  <a:lnTo>
                    <a:pt x="91" y="1410"/>
                  </a:lnTo>
                  <a:lnTo>
                    <a:pt x="90" y="1428"/>
                  </a:lnTo>
                  <a:lnTo>
                    <a:pt x="91" y="1454"/>
                  </a:lnTo>
                  <a:lnTo>
                    <a:pt x="90" y="1477"/>
                  </a:lnTo>
                  <a:lnTo>
                    <a:pt x="90" y="1493"/>
                  </a:lnTo>
                  <a:lnTo>
                    <a:pt x="85" y="1527"/>
                  </a:lnTo>
                  <a:lnTo>
                    <a:pt x="75" y="1543"/>
                  </a:lnTo>
                  <a:lnTo>
                    <a:pt x="69" y="1555"/>
                  </a:lnTo>
                  <a:lnTo>
                    <a:pt x="60" y="1656"/>
                  </a:lnTo>
                  <a:lnTo>
                    <a:pt x="46" y="1662"/>
                  </a:lnTo>
                  <a:lnTo>
                    <a:pt x="33" y="1670"/>
                  </a:lnTo>
                  <a:lnTo>
                    <a:pt x="21" y="1674"/>
                  </a:lnTo>
                  <a:lnTo>
                    <a:pt x="5" y="1667"/>
                  </a:lnTo>
                  <a:lnTo>
                    <a:pt x="21" y="1678"/>
                  </a:lnTo>
                  <a:lnTo>
                    <a:pt x="34" y="1675"/>
                  </a:lnTo>
                  <a:lnTo>
                    <a:pt x="47" y="1669"/>
                  </a:lnTo>
                  <a:lnTo>
                    <a:pt x="60" y="1664"/>
                  </a:lnTo>
                  <a:lnTo>
                    <a:pt x="57" y="1678"/>
                  </a:lnTo>
                  <a:lnTo>
                    <a:pt x="51" y="1695"/>
                  </a:lnTo>
                  <a:lnTo>
                    <a:pt x="36" y="1716"/>
                  </a:lnTo>
                  <a:lnTo>
                    <a:pt x="17" y="1735"/>
                  </a:lnTo>
                  <a:lnTo>
                    <a:pt x="36" y="1719"/>
                  </a:lnTo>
                  <a:lnTo>
                    <a:pt x="47" y="1709"/>
                  </a:lnTo>
                  <a:lnTo>
                    <a:pt x="54" y="1698"/>
                  </a:lnTo>
                  <a:lnTo>
                    <a:pt x="62" y="1685"/>
                  </a:lnTo>
                  <a:lnTo>
                    <a:pt x="69" y="1656"/>
                  </a:lnTo>
                  <a:lnTo>
                    <a:pt x="73" y="1587"/>
                  </a:lnTo>
                  <a:lnTo>
                    <a:pt x="75" y="1558"/>
                  </a:lnTo>
                  <a:lnTo>
                    <a:pt x="83" y="1545"/>
                  </a:lnTo>
                  <a:lnTo>
                    <a:pt x="91" y="1534"/>
                  </a:lnTo>
                  <a:lnTo>
                    <a:pt x="96" y="1501"/>
                  </a:lnTo>
                  <a:lnTo>
                    <a:pt x="99" y="1467"/>
                  </a:lnTo>
                  <a:lnTo>
                    <a:pt x="99" y="1436"/>
                  </a:lnTo>
                  <a:lnTo>
                    <a:pt x="103" y="1404"/>
                  </a:lnTo>
                  <a:lnTo>
                    <a:pt x="104" y="1382"/>
                  </a:lnTo>
                  <a:lnTo>
                    <a:pt x="112" y="1352"/>
                  </a:lnTo>
                  <a:lnTo>
                    <a:pt x="121" y="1327"/>
                  </a:lnTo>
                  <a:lnTo>
                    <a:pt x="130" y="1308"/>
                  </a:lnTo>
                  <a:lnTo>
                    <a:pt x="147" y="1285"/>
                  </a:lnTo>
                  <a:lnTo>
                    <a:pt x="164" y="1259"/>
                  </a:lnTo>
                  <a:lnTo>
                    <a:pt x="179" y="1241"/>
                  </a:lnTo>
                  <a:lnTo>
                    <a:pt x="192" y="1231"/>
                  </a:lnTo>
                  <a:lnTo>
                    <a:pt x="200" y="1234"/>
                  </a:lnTo>
                  <a:lnTo>
                    <a:pt x="202" y="1267"/>
                  </a:lnTo>
                  <a:lnTo>
                    <a:pt x="202" y="1298"/>
                  </a:lnTo>
                  <a:lnTo>
                    <a:pt x="200" y="1324"/>
                  </a:lnTo>
                  <a:lnTo>
                    <a:pt x="197" y="1343"/>
                  </a:lnTo>
                  <a:lnTo>
                    <a:pt x="192" y="1363"/>
                  </a:lnTo>
                  <a:lnTo>
                    <a:pt x="181" y="1392"/>
                  </a:lnTo>
                  <a:lnTo>
                    <a:pt x="164" y="1422"/>
                  </a:lnTo>
                  <a:lnTo>
                    <a:pt x="148" y="1451"/>
                  </a:lnTo>
                  <a:lnTo>
                    <a:pt x="134" y="1482"/>
                  </a:lnTo>
                  <a:lnTo>
                    <a:pt x="119" y="1516"/>
                  </a:lnTo>
                  <a:lnTo>
                    <a:pt x="112" y="1537"/>
                  </a:lnTo>
                  <a:lnTo>
                    <a:pt x="109" y="1550"/>
                  </a:lnTo>
                  <a:lnTo>
                    <a:pt x="104" y="1586"/>
                  </a:lnTo>
                  <a:lnTo>
                    <a:pt x="101" y="1617"/>
                  </a:lnTo>
                  <a:lnTo>
                    <a:pt x="77" y="1630"/>
                  </a:lnTo>
                  <a:lnTo>
                    <a:pt x="99" y="1622"/>
                  </a:lnTo>
                  <a:lnTo>
                    <a:pt x="98" y="1638"/>
                  </a:lnTo>
                  <a:lnTo>
                    <a:pt x="95" y="1657"/>
                  </a:lnTo>
                  <a:lnTo>
                    <a:pt x="88" y="1677"/>
                  </a:lnTo>
                  <a:lnTo>
                    <a:pt x="78" y="1701"/>
                  </a:lnTo>
                  <a:lnTo>
                    <a:pt x="95" y="1670"/>
                  </a:lnTo>
                  <a:lnTo>
                    <a:pt x="103" y="1646"/>
                  </a:lnTo>
                  <a:lnTo>
                    <a:pt x="106" y="1633"/>
                  </a:lnTo>
                  <a:lnTo>
                    <a:pt x="109" y="1613"/>
                  </a:lnTo>
                  <a:lnTo>
                    <a:pt x="111" y="1594"/>
                  </a:lnTo>
                  <a:lnTo>
                    <a:pt x="117" y="1560"/>
                  </a:lnTo>
                  <a:lnTo>
                    <a:pt x="124" y="1535"/>
                  </a:lnTo>
                  <a:lnTo>
                    <a:pt x="138" y="1501"/>
                  </a:lnTo>
                  <a:lnTo>
                    <a:pt x="156" y="1467"/>
                  </a:lnTo>
                  <a:lnTo>
                    <a:pt x="176" y="1430"/>
                  </a:lnTo>
                  <a:lnTo>
                    <a:pt x="187" y="1409"/>
                  </a:lnTo>
                  <a:lnTo>
                    <a:pt x="199" y="1384"/>
                  </a:lnTo>
                  <a:lnTo>
                    <a:pt x="207" y="1366"/>
                  </a:lnTo>
                  <a:lnTo>
                    <a:pt x="212" y="1343"/>
                  </a:lnTo>
                  <a:lnTo>
                    <a:pt x="213" y="1316"/>
                  </a:lnTo>
                  <a:lnTo>
                    <a:pt x="215" y="1285"/>
                  </a:lnTo>
                  <a:lnTo>
                    <a:pt x="213" y="1243"/>
                  </a:lnTo>
                  <a:lnTo>
                    <a:pt x="210" y="1217"/>
                  </a:lnTo>
                  <a:lnTo>
                    <a:pt x="223" y="1205"/>
                  </a:lnTo>
                  <a:lnTo>
                    <a:pt x="239" y="1204"/>
                  </a:lnTo>
                  <a:lnTo>
                    <a:pt x="262" y="1204"/>
                  </a:lnTo>
                  <a:lnTo>
                    <a:pt x="223" y="1199"/>
                  </a:lnTo>
                  <a:lnTo>
                    <a:pt x="207" y="1205"/>
                  </a:lnTo>
                  <a:lnTo>
                    <a:pt x="202" y="1171"/>
                  </a:lnTo>
                  <a:lnTo>
                    <a:pt x="197" y="1140"/>
                  </a:lnTo>
                  <a:lnTo>
                    <a:pt x="186" y="1096"/>
                  </a:lnTo>
                  <a:lnTo>
                    <a:pt x="194" y="1072"/>
                  </a:lnTo>
                  <a:lnTo>
                    <a:pt x="208" y="1028"/>
                  </a:lnTo>
                  <a:lnTo>
                    <a:pt x="220" y="1000"/>
                  </a:lnTo>
                  <a:lnTo>
                    <a:pt x="231" y="974"/>
                  </a:lnTo>
                  <a:lnTo>
                    <a:pt x="242" y="947"/>
                  </a:lnTo>
                  <a:lnTo>
                    <a:pt x="255" y="919"/>
                  </a:lnTo>
                  <a:lnTo>
                    <a:pt x="267" y="888"/>
                  </a:lnTo>
                  <a:lnTo>
                    <a:pt x="273" y="862"/>
                  </a:lnTo>
                  <a:lnTo>
                    <a:pt x="278" y="831"/>
                  </a:lnTo>
                  <a:lnTo>
                    <a:pt x="290" y="760"/>
                  </a:lnTo>
                  <a:lnTo>
                    <a:pt x="301" y="688"/>
                  </a:lnTo>
                  <a:lnTo>
                    <a:pt x="311" y="690"/>
                  </a:lnTo>
                  <a:lnTo>
                    <a:pt x="317" y="695"/>
                  </a:lnTo>
                  <a:lnTo>
                    <a:pt x="325" y="706"/>
                  </a:lnTo>
                  <a:lnTo>
                    <a:pt x="329" y="721"/>
                  </a:lnTo>
                  <a:lnTo>
                    <a:pt x="330" y="761"/>
                  </a:lnTo>
                  <a:lnTo>
                    <a:pt x="325" y="803"/>
                  </a:lnTo>
                  <a:lnTo>
                    <a:pt x="325" y="839"/>
                  </a:lnTo>
                  <a:lnTo>
                    <a:pt x="325" y="865"/>
                  </a:lnTo>
                  <a:lnTo>
                    <a:pt x="322" y="880"/>
                  </a:lnTo>
                  <a:lnTo>
                    <a:pt x="316" y="896"/>
                  </a:lnTo>
                  <a:lnTo>
                    <a:pt x="301" y="921"/>
                  </a:lnTo>
                  <a:lnTo>
                    <a:pt x="285" y="953"/>
                  </a:lnTo>
                  <a:lnTo>
                    <a:pt x="262" y="995"/>
                  </a:lnTo>
                  <a:lnTo>
                    <a:pt x="249" y="1033"/>
                  </a:lnTo>
                  <a:lnTo>
                    <a:pt x="244" y="1062"/>
                  </a:lnTo>
                  <a:lnTo>
                    <a:pt x="236" y="1088"/>
                  </a:lnTo>
                  <a:lnTo>
                    <a:pt x="231" y="1121"/>
                  </a:lnTo>
                  <a:lnTo>
                    <a:pt x="212" y="1174"/>
                  </a:lnTo>
                  <a:lnTo>
                    <a:pt x="229" y="1134"/>
                  </a:lnTo>
                  <a:lnTo>
                    <a:pt x="241" y="1091"/>
                  </a:lnTo>
                  <a:lnTo>
                    <a:pt x="251" y="1064"/>
                  </a:lnTo>
                  <a:lnTo>
                    <a:pt x="255" y="1034"/>
                  </a:lnTo>
                  <a:lnTo>
                    <a:pt x="264" y="1010"/>
                  </a:lnTo>
                  <a:lnTo>
                    <a:pt x="275" y="986"/>
                  </a:lnTo>
                  <a:lnTo>
                    <a:pt x="290" y="956"/>
                  </a:lnTo>
                  <a:lnTo>
                    <a:pt x="307" y="924"/>
                  </a:lnTo>
                  <a:lnTo>
                    <a:pt x="320" y="904"/>
                  </a:lnTo>
                  <a:lnTo>
                    <a:pt x="329" y="886"/>
                  </a:lnTo>
                  <a:lnTo>
                    <a:pt x="332" y="872"/>
                  </a:lnTo>
                  <a:lnTo>
                    <a:pt x="332" y="839"/>
                  </a:lnTo>
                  <a:lnTo>
                    <a:pt x="332" y="815"/>
                  </a:lnTo>
                  <a:lnTo>
                    <a:pt x="338" y="766"/>
                  </a:lnTo>
                  <a:lnTo>
                    <a:pt x="338" y="740"/>
                  </a:lnTo>
                  <a:lnTo>
                    <a:pt x="337" y="712"/>
                  </a:lnTo>
                  <a:lnTo>
                    <a:pt x="333" y="695"/>
                  </a:lnTo>
                  <a:lnTo>
                    <a:pt x="327" y="683"/>
                  </a:lnTo>
                  <a:lnTo>
                    <a:pt x="316" y="672"/>
                  </a:lnTo>
                  <a:lnTo>
                    <a:pt x="304" y="667"/>
                  </a:lnTo>
                  <a:lnTo>
                    <a:pt x="312" y="610"/>
                  </a:lnTo>
                  <a:lnTo>
                    <a:pt x="324" y="535"/>
                  </a:lnTo>
                  <a:lnTo>
                    <a:pt x="333" y="483"/>
                  </a:lnTo>
                  <a:lnTo>
                    <a:pt x="342" y="444"/>
                  </a:lnTo>
                  <a:lnTo>
                    <a:pt x="346" y="420"/>
                  </a:lnTo>
                  <a:lnTo>
                    <a:pt x="355" y="382"/>
                  </a:lnTo>
                  <a:lnTo>
                    <a:pt x="363" y="356"/>
                  </a:lnTo>
                  <a:lnTo>
                    <a:pt x="372" y="324"/>
                  </a:lnTo>
                  <a:lnTo>
                    <a:pt x="382" y="298"/>
                  </a:lnTo>
                  <a:lnTo>
                    <a:pt x="390" y="275"/>
                  </a:lnTo>
                  <a:lnTo>
                    <a:pt x="400" y="254"/>
                  </a:lnTo>
                  <a:lnTo>
                    <a:pt x="410" y="236"/>
                  </a:lnTo>
                  <a:lnTo>
                    <a:pt x="428" y="213"/>
                  </a:lnTo>
                  <a:lnTo>
                    <a:pt x="433" y="238"/>
                  </a:lnTo>
                  <a:lnTo>
                    <a:pt x="442" y="262"/>
                  </a:lnTo>
                  <a:lnTo>
                    <a:pt x="449" y="281"/>
                  </a:lnTo>
                  <a:lnTo>
                    <a:pt x="457" y="303"/>
                  </a:lnTo>
                  <a:lnTo>
                    <a:pt x="468" y="329"/>
                  </a:lnTo>
                  <a:lnTo>
                    <a:pt x="475" y="360"/>
                  </a:lnTo>
                  <a:lnTo>
                    <a:pt x="476" y="397"/>
                  </a:lnTo>
                  <a:lnTo>
                    <a:pt x="475" y="425"/>
                  </a:lnTo>
                  <a:lnTo>
                    <a:pt x="468" y="462"/>
                  </a:lnTo>
                  <a:lnTo>
                    <a:pt x="463" y="493"/>
                  </a:lnTo>
                  <a:lnTo>
                    <a:pt x="459" y="519"/>
                  </a:lnTo>
                  <a:lnTo>
                    <a:pt x="454" y="545"/>
                  </a:lnTo>
                  <a:lnTo>
                    <a:pt x="450" y="571"/>
                  </a:lnTo>
                  <a:lnTo>
                    <a:pt x="449" y="592"/>
                  </a:lnTo>
                  <a:lnTo>
                    <a:pt x="449" y="628"/>
                  </a:lnTo>
                  <a:lnTo>
                    <a:pt x="452" y="662"/>
                  </a:lnTo>
                  <a:lnTo>
                    <a:pt x="470" y="758"/>
                  </a:lnTo>
                  <a:lnTo>
                    <a:pt x="462" y="685"/>
                  </a:lnTo>
                  <a:lnTo>
                    <a:pt x="459" y="655"/>
                  </a:lnTo>
                  <a:lnTo>
                    <a:pt x="457" y="636"/>
                  </a:lnTo>
                  <a:lnTo>
                    <a:pt x="459" y="616"/>
                  </a:lnTo>
                  <a:lnTo>
                    <a:pt x="462" y="587"/>
                  </a:lnTo>
                  <a:lnTo>
                    <a:pt x="465" y="553"/>
                  </a:lnTo>
                  <a:lnTo>
                    <a:pt x="472" y="522"/>
                  </a:lnTo>
                  <a:lnTo>
                    <a:pt x="478" y="491"/>
                  </a:lnTo>
                  <a:lnTo>
                    <a:pt x="485" y="465"/>
                  </a:lnTo>
                  <a:lnTo>
                    <a:pt x="489" y="441"/>
                  </a:lnTo>
                  <a:lnTo>
                    <a:pt x="493" y="408"/>
                  </a:lnTo>
                  <a:lnTo>
                    <a:pt x="494" y="382"/>
                  </a:lnTo>
                  <a:lnTo>
                    <a:pt x="491" y="350"/>
                  </a:lnTo>
                  <a:lnTo>
                    <a:pt x="486" y="325"/>
                  </a:lnTo>
                  <a:lnTo>
                    <a:pt x="478" y="303"/>
                  </a:lnTo>
                  <a:lnTo>
                    <a:pt x="468" y="281"/>
                  </a:lnTo>
                  <a:lnTo>
                    <a:pt x="455" y="244"/>
                  </a:lnTo>
                  <a:lnTo>
                    <a:pt x="450" y="223"/>
                  </a:lnTo>
                  <a:lnTo>
                    <a:pt x="447" y="198"/>
                  </a:lnTo>
                  <a:lnTo>
                    <a:pt x="459" y="185"/>
                  </a:lnTo>
                  <a:lnTo>
                    <a:pt x="476" y="171"/>
                  </a:lnTo>
                  <a:lnTo>
                    <a:pt x="491" y="159"/>
                  </a:lnTo>
                  <a:lnTo>
                    <a:pt x="507" y="148"/>
                  </a:lnTo>
                  <a:lnTo>
                    <a:pt x="533" y="129"/>
                  </a:lnTo>
                  <a:lnTo>
                    <a:pt x="561" y="111"/>
                  </a:lnTo>
                  <a:lnTo>
                    <a:pt x="582" y="98"/>
                  </a:lnTo>
                  <a:lnTo>
                    <a:pt x="603" y="85"/>
                  </a:lnTo>
                  <a:lnTo>
                    <a:pt x="632" y="67"/>
                  </a:lnTo>
                  <a:lnTo>
                    <a:pt x="660" y="54"/>
                  </a:lnTo>
                  <a:lnTo>
                    <a:pt x="678" y="46"/>
                  </a:lnTo>
                  <a:lnTo>
                    <a:pt x="702" y="36"/>
                  </a:lnTo>
                  <a:lnTo>
                    <a:pt x="727" y="28"/>
                  </a:lnTo>
                  <a:lnTo>
                    <a:pt x="749" y="23"/>
                  </a:lnTo>
                  <a:lnTo>
                    <a:pt x="772" y="20"/>
                  </a:lnTo>
                  <a:lnTo>
                    <a:pt x="792" y="21"/>
                  </a:lnTo>
                  <a:lnTo>
                    <a:pt x="811" y="24"/>
                  </a:lnTo>
                  <a:lnTo>
                    <a:pt x="829" y="29"/>
                  </a:lnTo>
                  <a:lnTo>
                    <a:pt x="850" y="36"/>
                  </a:lnTo>
                  <a:lnTo>
                    <a:pt x="871" y="49"/>
                  </a:lnTo>
                  <a:lnTo>
                    <a:pt x="886" y="62"/>
                  </a:lnTo>
                  <a:lnTo>
                    <a:pt x="900" y="77"/>
                  </a:lnTo>
                  <a:lnTo>
                    <a:pt x="912" y="91"/>
                  </a:lnTo>
                  <a:lnTo>
                    <a:pt x="922" y="106"/>
                  </a:lnTo>
                  <a:lnTo>
                    <a:pt x="928" y="122"/>
                  </a:lnTo>
                  <a:lnTo>
                    <a:pt x="933" y="140"/>
                  </a:lnTo>
                  <a:lnTo>
                    <a:pt x="936" y="156"/>
                  </a:lnTo>
                  <a:lnTo>
                    <a:pt x="939" y="184"/>
                  </a:lnTo>
                  <a:lnTo>
                    <a:pt x="941" y="205"/>
                  </a:lnTo>
                  <a:lnTo>
                    <a:pt x="944" y="268"/>
                  </a:lnTo>
                  <a:lnTo>
                    <a:pt x="978" y="265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6" name=""/>
            <p:cNvSpPr/>
            <p:nvPr/>
          </p:nvSpPr>
          <p:spPr>
            <a:xfrm>
              <a:off x="5870880" y="3857400"/>
              <a:ext cx="135000" cy="235080"/>
            </a:xfrm>
            <a:custGeom>
              <a:avLst/>
              <a:gdLst/>
              <a:ahLst/>
              <a:rect l="l" t="t" r="r" b="b"/>
              <a:pathLst>
                <a:path w="332" h="646">
                  <a:moveTo>
                    <a:pt x="44" y="0"/>
                  </a:moveTo>
                  <a:lnTo>
                    <a:pt x="61" y="3"/>
                  </a:lnTo>
                  <a:lnTo>
                    <a:pt x="82" y="11"/>
                  </a:lnTo>
                  <a:lnTo>
                    <a:pt x="101" y="21"/>
                  </a:lnTo>
                  <a:lnTo>
                    <a:pt x="117" y="31"/>
                  </a:lnTo>
                  <a:lnTo>
                    <a:pt x="135" y="44"/>
                  </a:lnTo>
                  <a:lnTo>
                    <a:pt x="156" y="60"/>
                  </a:lnTo>
                  <a:lnTo>
                    <a:pt x="174" y="76"/>
                  </a:lnTo>
                  <a:lnTo>
                    <a:pt x="191" y="94"/>
                  </a:lnTo>
                  <a:lnTo>
                    <a:pt x="208" y="117"/>
                  </a:lnTo>
                  <a:lnTo>
                    <a:pt x="225" y="141"/>
                  </a:lnTo>
                  <a:lnTo>
                    <a:pt x="238" y="163"/>
                  </a:lnTo>
                  <a:lnTo>
                    <a:pt x="254" y="192"/>
                  </a:lnTo>
                  <a:lnTo>
                    <a:pt x="272" y="231"/>
                  </a:lnTo>
                  <a:lnTo>
                    <a:pt x="286" y="270"/>
                  </a:lnTo>
                  <a:lnTo>
                    <a:pt x="299" y="312"/>
                  </a:lnTo>
                  <a:lnTo>
                    <a:pt x="309" y="350"/>
                  </a:lnTo>
                  <a:lnTo>
                    <a:pt x="317" y="385"/>
                  </a:lnTo>
                  <a:lnTo>
                    <a:pt x="322" y="415"/>
                  </a:lnTo>
                  <a:lnTo>
                    <a:pt x="325" y="442"/>
                  </a:lnTo>
                  <a:lnTo>
                    <a:pt x="330" y="486"/>
                  </a:lnTo>
                  <a:lnTo>
                    <a:pt x="332" y="530"/>
                  </a:lnTo>
                  <a:lnTo>
                    <a:pt x="332" y="572"/>
                  </a:lnTo>
                  <a:lnTo>
                    <a:pt x="330" y="589"/>
                  </a:lnTo>
                  <a:lnTo>
                    <a:pt x="329" y="608"/>
                  </a:lnTo>
                  <a:lnTo>
                    <a:pt x="327" y="616"/>
                  </a:lnTo>
                  <a:lnTo>
                    <a:pt x="325" y="624"/>
                  </a:lnTo>
                  <a:lnTo>
                    <a:pt x="322" y="634"/>
                  </a:lnTo>
                  <a:lnTo>
                    <a:pt x="316" y="641"/>
                  </a:lnTo>
                  <a:lnTo>
                    <a:pt x="306" y="646"/>
                  </a:lnTo>
                  <a:lnTo>
                    <a:pt x="296" y="646"/>
                  </a:lnTo>
                  <a:lnTo>
                    <a:pt x="285" y="642"/>
                  </a:lnTo>
                  <a:lnTo>
                    <a:pt x="272" y="633"/>
                  </a:lnTo>
                  <a:lnTo>
                    <a:pt x="260" y="621"/>
                  </a:lnTo>
                  <a:lnTo>
                    <a:pt x="246" y="611"/>
                  </a:lnTo>
                  <a:lnTo>
                    <a:pt x="226" y="598"/>
                  </a:lnTo>
                  <a:lnTo>
                    <a:pt x="207" y="590"/>
                  </a:lnTo>
                  <a:lnTo>
                    <a:pt x="186" y="585"/>
                  </a:lnTo>
                  <a:lnTo>
                    <a:pt x="153" y="577"/>
                  </a:lnTo>
                  <a:lnTo>
                    <a:pt x="122" y="571"/>
                  </a:lnTo>
                  <a:lnTo>
                    <a:pt x="103" y="563"/>
                  </a:lnTo>
                  <a:lnTo>
                    <a:pt x="83" y="553"/>
                  </a:lnTo>
                  <a:lnTo>
                    <a:pt x="69" y="541"/>
                  </a:lnTo>
                  <a:lnTo>
                    <a:pt x="61" y="528"/>
                  </a:lnTo>
                  <a:lnTo>
                    <a:pt x="56" y="517"/>
                  </a:lnTo>
                  <a:lnTo>
                    <a:pt x="54" y="502"/>
                  </a:lnTo>
                  <a:lnTo>
                    <a:pt x="54" y="489"/>
                  </a:lnTo>
                  <a:lnTo>
                    <a:pt x="56" y="431"/>
                  </a:lnTo>
                  <a:lnTo>
                    <a:pt x="54" y="384"/>
                  </a:lnTo>
                  <a:lnTo>
                    <a:pt x="49" y="328"/>
                  </a:lnTo>
                  <a:lnTo>
                    <a:pt x="44" y="275"/>
                  </a:lnTo>
                  <a:lnTo>
                    <a:pt x="38" y="231"/>
                  </a:lnTo>
                  <a:lnTo>
                    <a:pt x="31" y="190"/>
                  </a:lnTo>
                  <a:lnTo>
                    <a:pt x="25" y="156"/>
                  </a:lnTo>
                  <a:lnTo>
                    <a:pt x="15" y="109"/>
                  </a:lnTo>
                  <a:lnTo>
                    <a:pt x="10" y="84"/>
                  </a:lnTo>
                  <a:lnTo>
                    <a:pt x="4" y="57"/>
                  </a:lnTo>
                  <a:lnTo>
                    <a:pt x="0" y="34"/>
                  </a:lnTo>
                  <a:lnTo>
                    <a:pt x="2" y="19"/>
                  </a:lnTo>
                  <a:lnTo>
                    <a:pt x="7" y="10"/>
                  </a:lnTo>
                  <a:lnTo>
                    <a:pt x="17" y="3"/>
                  </a:lnTo>
                  <a:lnTo>
                    <a:pt x="31" y="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f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7" name=""/>
            <p:cNvSpPr/>
            <p:nvPr/>
          </p:nvSpPr>
          <p:spPr>
            <a:xfrm>
              <a:off x="5633280" y="3857400"/>
              <a:ext cx="135360" cy="235080"/>
            </a:xfrm>
            <a:custGeom>
              <a:avLst/>
              <a:gdLst/>
              <a:ahLst/>
              <a:rect l="l" t="t" r="r" b="b"/>
              <a:pathLst>
                <a:path w="332" h="646">
                  <a:moveTo>
                    <a:pt x="288" y="0"/>
                  </a:moveTo>
                  <a:lnTo>
                    <a:pt x="272" y="3"/>
                  </a:lnTo>
                  <a:lnTo>
                    <a:pt x="251" y="11"/>
                  </a:lnTo>
                  <a:lnTo>
                    <a:pt x="231" y="21"/>
                  </a:lnTo>
                  <a:lnTo>
                    <a:pt x="215" y="31"/>
                  </a:lnTo>
                  <a:lnTo>
                    <a:pt x="197" y="44"/>
                  </a:lnTo>
                  <a:lnTo>
                    <a:pt x="176" y="60"/>
                  </a:lnTo>
                  <a:lnTo>
                    <a:pt x="158" y="76"/>
                  </a:lnTo>
                  <a:lnTo>
                    <a:pt x="142" y="94"/>
                  </a:lnTo>
                  <a:lnTo>
                    <a:pt x="124" y="117"/>
                  </a:lnTo>
                  <a:lnTo>
                    <a:pt x="108" y="141"/>
                  </a:lnTo>
                  <a:lnTo>
                    <a:pt x="95" y="163"/>
                  </a:lnTo>
                  <a:lnTo>
                    <a:pt x="78" y="192"/>
                  </a:lnTo>
                  <a:lnTo>
                    <a:pt x="61" y="231"/>
                  </a:lnTo>
                  <a:lnTo>
                    <a:pt x="46" y="270"/>
                  </a:lnTo>
                  <a:lnTo>
                    <a:pt x="33" y="312"/>
                  </a:lnTo>
                  <a:lnTo>
                    <a:pt x="23" y="350"/>
                  </a:lnTo>
                  <a:lnTo>
                    <a:pt x="15" y="385"/>
                  </a:lnTo>
                  <a:lnTo>
                    <a:pt x="10" y="415"/>
                  </a:lnTo>
                  <a:lnTo>
                    <a:pt x="7" y="442"/>
                  </a:lnTo>
                  <a:lnTo>
                    <a:pt x="2" y="486"/>
                  </a:lnTo>
                  <a:lnTo>
                    <a:pt x="0" y="530"/>
                  </a:lnTo>
                  <a:lnTo>
                    <a:pt x="0" y="572"/>
                  </a:lnTo>
                  <a:lnTo>
                    <a:pt x="2" y="589"/>
                  </a:lnTo>
                  <a:lnTo>
                    <a:pt x="4" y="608"/>
                  </a:lnTo>
                  <a:lnTo>
                    <a:pt x="5" y="616"/>
                  </a:lnTo>
                  <a:lnTo>
                    <a:pt x="7" y="624"/>
                  </a:lnTo>
                  <a:lnTo>
                    <a:pt x="10" y="634"/>
                  </a:lnTo>
                  <a:lnTo>
                    <a:pt x="17" y="641"/>
                  </a:lnTo>
                  <a:lnTo>
                    <a:pt x="26" y="646"/>
                  </a:lnTo>
                  <a:lnTo>
                    <a:pt x="36" y="646"/>
                  </a:lnTo>
                  <a:lnTo>
                    <a:pt x="48" y="642"/>
                  </a:lnTo>
                  <a:lnTo>
                    <a:pt x="61" y="633"/>
                  </a:lnTo>
                  <a:lnTo>
                    <a:pt x="72" y="621"/>
                  </a:lnTo>
                  <a:lnTo>
                    <a:pt x="87" y="611"/>
                  </a:lnTo>
                  <a:lnTo>
                    <a:pt x="106" y="598"/>
                  </a:lnTo>
                  <a:lnTo>
                    <a:pt x="125" y="590"/>
                  </a:lnTo>
                  <a:lnTo>
                    <a:pt x="147" y="585"/>
                  </a:lnTo>
                  <a:lnTo>
                    <a:pt x="179" y="577"/>
                  </a:lnTo>
                  <a:lnTo>
                    <a:pt x="210" y="571"/>
                  </a:lnTo>
                  <a:lnTo>
                    <a:pt x="229" y="563"/>
                  </a:lnTo>
                  <a:lnTo>
                    <a:pt x="249" y="553"/>
                  </a:lnTo>
                  <a:lnTo>
                    <a:pt x="264" y="541"/>
                  </a:lnTo>
                  <a:lnTo>
                    <a:pt x="272" y="528"/>
                  </a:lnTo>
                  <a:lnTo>
                    <a:pt x="277" y="517"/>
                  </a:lnTo>
                  <a:lnTo>
                    <a:pt x="278" y="502"/>
                  </a:lnTo>
                  <a:lnTo>
                    <a:pt x="278" y="489"/>
                  </a:lnTo>
                  <a:lnTo>
                    <a:pt x="277" y="431"/>
                  </a:lnTo>
                  <a:lnTo>
                    <a:pt x="278" y="384"/>
                  </a:lnTo>
                  <a:lnTo>
                    <a:pt x="283" y="328"/>
                  </a:lnTo>
                  <a:lnTo>
                    <a:pt x="288" y="275"/>
                  </a:lnTo>
                  <a:lnTo>
                    <a:pt x="294" y="231"/>
                  </a:lnTo>
                  <a:lnTo>
                    <a:pt x="301" y="190"/>
                  </a:lnTo>
                  <a:lnTo>
                    <a:pt x="307" y="156"/>
                  </a:lnTo>
                  <a:lnTo>
                    <a:pt x="317" y="109"/>
                  </a:lnTo>
                  <a:lnTo>
                    <a:pt x="322" y="84"/>
                  </a:lnTo>
                  <a:lnTo>
                    <a:pt x="329" y="57"/>
                  </a:lnTo>
                  <a:lnTo>
                    <a:pt x="332" y="34"/>
                  </a:lnTo>
                  <a:lnTo>
                    <a:pt x="330" y="19"/>
                  </a:lnTo>
                  <a:lnTo>
                    <a:pt x="325" y="10"/>
                  </a:lnTo>
                  <a:lnTo>
                    <a:pt x="316" y="3"/>
                  </a:lnTo>
                  <a:lnTo>
                    <a:pt x="301" y="0"/>
                  </a:lnTo>
                  <a:lnTo>
                    <a:pt x="288" y="0"/>
                  </a:lnTo>
                  <a:close/>
                </a:path>
              </a:pathLst>
            </a:custGeom>
            <a:solidFill>
              <a:srgbClr val="f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8" name=""/>
            <p:cNvSpPr/>
            <p:nvPr/>
          </p:nvSpPr>
          <p:spPr>
            <a:xfrm>
              <a:off x="5792040" y="3921480"/>
              <a:ext cx="73800" cy="66960"/>
            </a:xfrm>
            <a:custGeom>
              <a:avLst/>
              <a:gdLst/>
              <a:ahLst/>
              <a:rect l="l" t="t" r="r" b="b"/>
              <a:pathLst>
                <a:path w="180" h="183">
                  <a:moveTo>
                    <a:pt x="0" y="133"/>
                  </a:moveTo>
                  <a:lnTo>
                    <a:pt x="0" y="117"/>
                  </a:lnTo>
                  <a:lnTo>
                    <a:pt x="1" y="97"/>
                  </a:lnTo>
                  <a:lnTo>
                    <a:pt x="6" y="79"/>
                  </a:lnTo>
                  <a:lnTo>
                    <a:pt x="13" y="61"/>
                  </a:lnTo>
                  <a:lnTo>
                    <a:pt x="19" y="48"/>
                  </a:lnTo>
                  <a:lnTo>
                    <a:pt x="26" y="37"/>
                  </a:lnTo>
                  <a:lnTo>
                    <a:pt x="35" y="26"/>
                  </a:lnTo>
                  <a:lnTo>
                    <a:pt x="45" y="17"/>
                  </a:lnTo>
                  <a:lnTo>
                    <a:pt x="55" y="11"/>
                  </a:lnTo>
                  <a:lnTo>
                    <a:pt x="73" y="4"/>
                  </a:lnTo>
                  <a:lnTo>
                    <a:pt x="94" y="0"/>
                  </a:lnTo>
                  <a:lnTo>
                    <a:pt x="117" y="1"/>
                  </a:lnTo>
                  <a:lnTo>
                    <a:pt x="136" y="8"/>
                  </a:lnTo>
                  <a:lnTo>
                    <a:pt x="149" y="16"/>
                  </a:lnTo>
                  <a:lnTo>
                    <a:pt x="162" y="27"/>
                  </a:lnTo>
                  <a:lnTo>
                    <a:pt x="174" y="43"/>
                  </a:lnTo>
                  <a:lnTo>
                    <a:pt x="178" y="61"/>
                  </a:lnTo>
                  <a:lnTo>
                    <a:pt x="180" y="81"/>
                  </a:lnTo>
                  <a:lnTo>
                    <a:pt x="178" y="104"/>
                  </a:lnTo>
                  <a:lnTo>
                    <a:pt x="170" y="126"/>
                  </a:lnTo>
                  <a:lnTo>
                    <a:pt x="149" y="183"/>
                  </a:lnTo>
                  <a:lnTo>
                    <a:pt x="1" y="183"/>
                  </a:lnTo>
                  <a:lnTo>
                    <a:pt x="0" y="133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9" name=""/>
            <p:cNvSpPr/>
            <p:nvPr/>
          </p:nvSpPr>
          <p:spPr>
            <a:xfrm>
              <a:off x="5804640" y="3934440"/>
              <a:ext cx="51480" cy="47880"/>
            </a:xfrm>
            <a:custGeom>
              <a:avLst/>
              <a:gdLst/>
              <a:ahLst/>
              <a:rect l="l" t="t" r="r" b="b"/>
              <a:pathLst>
                <a:path w="125" h="130">
                  <a:moveTo>
                    <a:pt x="0" y="96"/>
                  </a:moveTo>
                  <a:lnTo>
                    <a:pt x="0" y="81"/>
                  </a:lnTo>
                  <a:lnTo>
                    <a:pt x="3" y="62"/>
                  </a:lnTo>
                  <a:lnTo>
                    <a:pt x="8" y="44"/>
                  </a:lnTo>
                  <a:lnTo>
                    <a:pt x="16" y="29"/>
                  </a:lnTo>
                  <a:lnTo>
                    <a:pt x="24" y="19"/>
                  </a:lnTo>
                  <a:lnTo>
                    <a:pt x="34" y="10"/>
                  </a:lnTo>
                  <a:lnTo>
                    <a:pt x="45" y="3"/>
                  </a:lnTo>
                  <a:lnTo>
                    <a:pt x="61" y="0"/>
                  </a:lnTo>
                  <a:lnTo>
                    <a:pt x="81" y="2"/>
                  </a:lnTo>
                  <a:lnTo>
                    <a:pt x="63" y="6"/>
                  </a:lnTo>
                  <a:lnTo>
                    <a:pt x="52" y="13"/>
                  </a:lnTo>
                  <a:lnTo>
                    <a:pt x="42" y="23"/>
                  </a:lnTo>
                  <a:lnTo>
                    <a:pt x="37" y="31"/>
                  </a:lnTo>
                  <a:lnTo>
                    <a:pt x="30" y="47"/>
                  </a:lnTo>
                  <a:lnTo>
                    <a:pt x="27" y="65"/>
                  </a:lnTo>
                  <a:lnTo>
                    <a:pt x="34" y="52"/>
                  </a:lnTo>
                  <a:lnTo>
                    <a:pt x="40" y="42"/>
                  </a:lnTo>
                  <a:lnTo>
                    <a:pt x="48" y="32"/>
                  </a:lnTo>
                  <a:lnTo>
                    <a:pt x="60" y="23"/>
                  </a:lnTo>
                  <a:lnTo>
                    <a:pt x="73" y="16"/>
                  </a:lnTo>
                  <a:lnTo>
                    <a:pt x="92" y="10"/>
                  </a:lnTo>
                  <a:lnTo>
                    <a:pt x="104" y="10"/>
                  </a:lnTo>
                  <a:lnTo>
                    <a:pt x="117" y="13"/>
                  </a:lnTo>
                  <a:lnTo>
                    <a:pt x="123" y="21"/>
                  </a:lnTo>
                  <a:lnTo>
                    <a:pt x="125" y="29"/>
                  </a:lnTo>
                  <a:lnTo>
                    <a:pt x="125" y="39"/>
                  </a:lnTo>
                  <a:lnTo>
                    <a:pt x="123" y="50"/>
                  </a:lnTo>
                  <a:lnTo>
                    <a:pt x="120" y="58"/>
                  </a:lnTo>
                  <a:lnTo>
                    <a:pt x="112" y="67"/>
                  </a:lnTo>
                  <a:lnTo>
                    <a:pt x="99" y="72"/>
                  </a:lnTo>
                  <a:lnTo>
                    <a:pt x="81" y="81"/>
                  </a:lnTo>
                  <a:lnTo>
                    <a:pt x="68" y="91"/>
                  </a:lnTo>
                  <a:lnTo>
                    <a:pt x="58" y="107"/>
                  </a:lnTo>
                  <a:lnTo>
                    <a:pt x="52" y="130"/>
                  </a:lnTo>
                  <a:lnTo>
                    <a:pt x="4" y="130"/>
                  </a:lnTo>
                  <a:lnTo>
                    <a:pt x="1" y="114"/>
                  </a:lnTo>
                  <a:lnTo>
                    <a:pt x="0" y="96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0" name=""/>
            <p:cNvSpPr/>
            <p:nvPr/>
          </p:nvSpPr>
          <p:spPr>
            <a:xfrm>
              <a:off x="5755320" y="3957120"/>
              <a:ext cx="131040" cy="114120"/>
            </a:xfrm>
            <a:custGeom>
              <a:avLst/>
              <a:gdLst/>
              <a:ahLst/>
              <a:rect l="l" t="t" r="r" b="b"/>
              <a:pathLst>
                <a:path w="320" h="314">
                  <a:moveTo>
                    <a:pt x="119" y="55"/>
                  </a:moveTo>
                  <a:lnTo>
                    <a:pt x="112" y="47"/>
                  </a:lnTo>
                  <a:lnTo>
                    <a:pt x="103" y="38"/>
                  </a:lnTo>
                  <a:lnTo>
                    <a:pt x="85" y="29"/>
                  </a:lnTo>
                  <a:lnTo>
                    <a:pt x="78" y="28"/>
                  </a:lnTo>
                  <a:lnTo>
                    <a:pt x="67" y="28"/>
                  </a:lnTo>
                  <a:lnTo>
                    <a:pt x="56" y="28"/>
                  </a:lnTo>
                  <a:lnTo>
                    <a:pt x="39" y="31"/>
                  </a:lnTo>
                  <a:lnTo>
                    <a:pt x="30" y="36"/>
                  </a:lnTo>
                  <a:lnTo>
                    <a:pt x="20" y="44"/>
                  </a:lnTo>
                  <a:lnTo>
                    <a:pt x="13" y="54"/>
                  </a:lnTo>
                  <a:lnTo>
                    <a:pt x="7" y="65"/>
                  </a:lnTo>
                  <a:lnTo>
                    <a:pt x="2" y="80"/>
                  </a:lnTo>
                  <a:lnTo>
                    <a:pt x="0" y="90"/>
                  </a:lnTo>
                  <a:lnTo>
                    <a:pt x="0" y="104"/>
                  </a:lnTo>
                  <a:lnTo>
                    <a:pt x="4" y="119"/>
                  </a:lnTo>
                  <a:lnTo>
                    <a:pt x="8" y="133"/>
                  </a:lnTo>
                  <a:lnTo>
                    <a:pt x="18" y="145"/>
                  </a:lnTo>
                  <a:lnTo>
                    <a:pt x="30" y="153"/>
                  </a:lnTo>
                  <a:lnTo>
                    <a:pt x="23" y="169"/>
                  </a:lnTo>
                  <a:lnTo>
                    <a:pt x="20" y="184"/>
                  </a:lnTo>
                  <a:lnTo>
                    <a:pt x="20" y="199"/>
                  </a:lnTo>
                  <a:lnTo>
                    <a:pt x="21" y="207"/>
                  </a:lnTo>
                  <a:lnTo>
                    <a:pt x="28" y="221"/>
                  </a:lnTo>
                  <a:lnTo>
                    <a:pt x="36" y="233"/>
                  </a:lnTo>
                  <a:lnTo>
                    <a:pt x="52" y="249"/>
                  </a:lnTo>
                  <a:lnTo>
                    <a:pt x="77" y="264"/>
                  </a:lnTo>
                  <a:lnTo>
                    <a:pt x="111" y="280"/>
                  </a:lnTo>
                  <a:lnTo>
                    <a:pt x="143" y="293"/>
                  </a:lnTo>
                  <a:lnTo>
                    <a:pt x="173" y="301"/>
                  </a:lnTo>
                  <a:lnTo>
                    <a:pt x="212" y="309"/>
                  </a:lnTo>
                  <a:lnTo>
                    <a:pt x="239" y="312"/>
                  </a:lnTo>
                  <a:lnTo>
                    <a:pt x="259" y="314"/>
                  </a:lnTo>
                  <a:lnTo>
                    <a:pt x="280" y="311"/>
                  </a:lnTo>
                  <a:lnTo>
                    <a:pt x="294" y="306"/>
                  </a:lnTo>
                  <a:lnTo>
                    <a:pt x="303" y="299"/>
                  </a:lnTo>
                  <a:lnTo>
                    <a:pt x="312" y="286"/>
                  </a:lnTo>
                  <a:lnTo>
                    <a:pt x="319" y="270"/>
                  </a:lnTo>
                  <a:lnTo>
                    <a:pt x="320" y="254"/>
                  </a:lnTo>
                  <a:lnTo>
                    <a:pt x="317" y="225"/>
                  </a:lnTo>
                  <a:lnTo>
                    <a:pt x="312" y="195"/>
                  </a:lnTo>
                  <a:lnTo>
                    <a:pt x="304" y="148"/>
                  </a:lnTo>
                  <a:lnTo>
                    <a:pt x="299" y="119"/>
                  </a:lnTo>
                  <a:lnTo>
                    <a:pt x="298" y="83"/>
                  </a:lnTo>
                  <a:lnTo>
                    <a:pt x="294" y="54"/>
                  </a:lnTo>
                  <a:lnTo>
                    <a:pt x="288" y="34"/>
                  </a:lnTo>
                  <a:lnTo>
                    <a:pt x="275" y="15"/>
                  </a:lnTo>
                  <a:lnTo>
                    <a:pt x="260" y="5"/>
                  </a:lnTo>
                  <a:lnTo>
                    <a:pt x="244" y="0"/>
                  </a:lnTo>
                  <a:lnTo>
                    <a:pt x="223" y="2"/>
                  </a:lnTo>
                  <a:lnTo>
                    <a:pt x="200" y="10"/>
                  </a:lnTo>
                  <a:lnTo>
                    <a:pt x="177" y="25"/>
                  </a:lnTo>
                  <a:lnTo>
                    <a:pt x="163" y="39"/>
                  </a:lnTo>
                  <a:lnTo>
                    <a:pt x="148" y="60"/>
                  </a:lnTo>
                  <a:lnTo>
                    <a:pt x="142" y="70"/>
                  </a:lnTo>
                  <a:lnTo>
                    <a:pt x="119" y="55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1" name=""/>
            <p:cNvSpPr/>
            <p:nvPr/>
          </p:nvSpPr>
          <p:spPr>
            <a:xfrm>
              <a:off x="5856120" y="3889440"/>
              <a:ext cx="122040" cy="92160"/>
            </a:xfrm>
            <a:custGeom>
              <a:avLst/>
              <a:gdLst/>
              <a:ahLst/>
              <a:rect l="l" t="t" r="r" b="b"/>
              <a:pathLst>
                <a:path w="299" h="253">
                  <a:moveTo>
                    <a:pt x="0" y="118"/>
                  </a:moveTo>
                  <a:lnTo>
                    <a:pt x="58" y="118"/>
                  </a:lnTo>
                  <a:lnTo>
                    <a:pt x="78" y="117"/>
                  </a:lnTo>
                  <a:lnTo>
                    <a:pt x="89" y="110"/>
                  </a:lnTo>
                  <a:lnTo>
                    <a:pt x="96" y="102"/>
                  </a:lnTo>
                  <a:lnTo>
                    <a:pt x="99" y="94"/>
                  </a:lnTo>
                  <a:lnTo>
                    <a:pt x="99" y="79"/>
                  </a:lnTo>
                  <a:lnTo>
                    <a:pt x="99" y="53"/>
                  </a:lnTo>
                  <a:lnTo>
                    <a:pt x="100" y="35"/>
                  </a:lnTo>
                  <a:lnTo>
                    <a:pt x="105" y="21"/>
                  </a:lnTo>
                  <a:lnTo>
                    <a:pt x="115" y="9"/>
                  </a:lnTo>
                  <a:lnTo>
                    <a:pt x="126" y="3"/>
                  </a:lnTo>
                  <a:lnTo>
                    <a:pt x="141" y="0"/>
                  </a:lnTo>
                  <a:lnTo>
                    <a:pt x="161" y="0"/>
                  </a:lnTo>
                  <a:lnTo>
                    <a:pt x="180" y="6"/>
                  </a:lnTo>
                  <a:lnTo>
                    <a:pt x="198" y="18"/>
                  </a:lnTo>
                  <a:lnTo>
                    <a:pt x="214" y="34"/>
                  </a:lnTo>
                  <a:lnTo>
                    <a:pt x="232" y="57"/>
                  </a:lnTo>
                  <a:lnTo>
                    <a:pt x="247" y="79"/>
                  </a:lnTo>
                  <a:lnTo>
                    <a:pt x="258" y="101"/>
                  </a:lnTo>
                  <a:lnTo>
                    <a:pt x="273" y="133"/>
                  </a:lnTo>
                  <a:lnTo>
                    <a:pt x="282" y="159"/>
                  </a:lnTo>
                  <a:lnTo>
                    <a:pt x="290" y="182"/>
                  </a:lnTo>
                  <a:lnTo>
                    <a:pt x="297" y="206"/>
                  </a:lnTo>
                  <a:lnTo>
                    <a:pt x="299" y="239"/>
                  </a:lnTo>
                  <a:lnTo>
                    <a:pt x="290" y="208"/>
                  </a:lnTo>
                  <a:lnTo>
                    <a:pt x="284" y="188"/>
                  </a:lnTo>
                  <a:lnTo>
                    <a:pt x="274" y="169"/>
                  </a:lnTo>
                  <a:lnTo>
                    <a:pt x="264" y="148"/>
                  </a:lnTo>
                  <a:lnTo>
                    <a:pt x="256" y="130"/>
                  </a:lnTo>
                  <a:lnTo>
                    <a:pt x="243" y="104"/>
                  </a:lnTo>
                  <a:lnTo>
                    <a:pt x="232" y="84"/>
                  </a:lnTo>
                  <a:lnTo>
                    <a:pt x="219" y="63"/>
                  </a:lnTo>
                  <a:lnTo>
                    <a:pt x="209" y="50"/>
                  </a:lnTo>
                  <a:lnTo>
                    <a:pt x="196" y="37"/>
                  </a:lnTo>
                  <a:lnTo>
                    <a:pt x="178" y="22"/>
                  </a:lnTo>
                  <a:lnTo>
                    <a:pt x="162" y="18"/>
                  </a:lnTo>
                  <a:lnTo>
                    <a:pt x="146" y="18"/>
                  </a:lnTo>
                  <a:lnTo>
                    <a:pt x="135" y="21"/>
                  </a:lnTo>
                  <a:lnTo>
                    <a:pt x="128" y="27"/>
                  </a:lnTo>
                  <a:lnTo>
                    <a:pt x="123" y="39"/>
                  </a:lnTo>
                  <a:lnTo>
                    <a:pt x="135" y="31"/>
                  </a:lnTo>
                  <a:lnTo>
                    <a:pt x="143" y="27"/>
                  </a:lnTo>
                  <a:lnTo>
                    <a:pt x="154" y="27"/>
                  </a:lnTo>
                  <a:lnTo>
                    <a:pt x="172" y="31"/>
                  </a:lnTo>
                  <a:lnTo>
                    <a:pt x="187" y="42"/>
                  </a:lnTo>
                  <a:lnTo>
                    <a:pt x="195" y="52"/>
                  </a:lnTo>
                  <a:lnTo>
                    <a:pt x="206" y="68"/>
                  </a:lnTo>
                  <a:lnTo>
                    <a:pt x="219" y="89"/>
                  </a:lnTo>
                  <a:lnTo>
                    <a:pt x="234" y="115"/>
                  </a:lnTo>
                  <a:lnTo>
                    <a:pt x="243" y="135"/>
                  </a:lnTo>
                  <a:lnTo>
                    <a:pt x="250" y="151"/>
                  </a:lnTo>
                  <a:lnTo>
                    <a:pt x="258" y="174"/>
                  </a:lnTo>
                  <a:lnTo>
                    <a:pt x="264" y="195"/>
                  </a:lnTo>
                  <a:lnTo>
                    <a:pt x="271" y="226"/>
                  </a:lnTo>
                  <a:lnTo>
                    <a:pt x="255" y="185"/>
                  </a:lnTo>
                  <a:lnTo>
                    <a:pt x="243" y="159"/>
                  </a:lnTo>
                  <a:lnTo>
                    <a:pt x="232" y="140"/>
                  </a:lnTo>
                  <a:lnTo>
                    <a:pt x="222" y="122"/>
                  </a:lnTo>
                  <a:lnTo>
                    <a:pt x="211" y="104"/>
                  </a:lnTo>
                  <a:lnTo>
                    <a:pt x="200" y="83"/>
                  </a:lnTo>
                  <a:lnTo>
                    <a:pt x="180" y="60"/>
                  </a:lnTo>
                  <a:lnTo>
                    <a:pt x="169" y="50"/>
                  </a:lnTo>
                  <a:lnTo>
                    <a:pt x="156" y="47"/>
                  </a:lnTo>
                  <a:lnTo>
                    <a:pt x="143" y="47"/>
                  </a:lnTo>
                  <a:lnTo>
                    <a:pt x="131" y="55"/>
                  </a:lnTo>
                  <a:lnTo>
                    <a:pt x="126" y="65"/>
                  </a:lnTo>
                  <a:lnTo>
                    <a:pt x="136" y="58"/>
                  </a:lnTo>
                  <a:lnTo>
                    <a:pt x="148" y="57"/>
                  </a:lnTo>
                  <a:lnTo>
                    <a:pt x="159" y="58"/>
                  </a:lnTo>
                  <a:lnTo>
                    <a:pt x="170" y="65"/>
                  </a:lnTo>
                  <a:lnTo>
                    <a:pt x="180" y="75"/>
                  </a:lnTo>
                  <a:lnTo>
                    <a:pt x="191" y="88"/>
                  </a:lnTo>
                  <a:lnTo>
                    <a:pt x="204" y="109"/>
                  </a:lnTo>
                  <a:lnTo>
                    <a:pt x="222" y="138"/>
                  </a:lnTo>
                  <a:lnTo>
                    <a:pt x="234" y="157"/>
                  </a:lnTo>
                  <a:lnTo>
                    <a:pt x="247" y="182"/>
                  </a:lnTo>
                  <a:lnTo>
                    <a:pt x="255" y="206"/>
                  </a:lnTo>
                  <a:lnTo>
                    <a:pt x="263" y="239"/>
                  </a:lnTo>
                  <a:lnTo>
                    <a:pt x="237" y="185"/>
                  </a:lnTo>
                  <a:lnTo>
                    <a:pt x="229" y="170"/>
                  </a:lnTo>
                  <a:lnTo>
                    <a:pt x="221" y="162"/>
                  </a:lnTo>
                  <a:lnTo>
                    <a:pt x="221" y="193"/>
                  </a:lnTo>
                  <a:lnTo>
                    <a:pt x="214" y="167"/>
                  </a:lnTo>
                  <a:lnTo>
                    <a:pt x="208" y="148"/>
                  </a:lnTo>
                  <a:lnTo>
                    <a:pt x="198" y="130"/>
                  </a:lnTo>
                  <a:lnTo>
                    <a:pt x="185" y="110"/>
                  </a:lnTo>
                  <a:lnTo>
                    <a:pt x="177" y="97"/>
                  </a:lnTo>
                  <a:lnTo>
                    <a:pt x="165" y="88"/>
                  </a:lnTo>
                  <a:lnTo>
                    <a:pt x="152" y="83"/>
                  </a:lnTo>
                  <a:lnTo>
                    <a:pt x="141" y="83"/>
                  </a:lnTo>
                  <a:lnTo>
                    <a:pt x="130" y="86"/>
                  </a:lnTo>
                  <a:lnTo>
                    <a:pt x="125" y="92"/>
                  </a:lnTo>
                  <a:lnTo>
                    <a:pt x="141" y="92"/>
                  </a:lnTo>
                  <a:lnTo>
                    <a:pt x="156" y="99"/>
                  </a:lnTo>
                  <a:lnTo>
                    <a:pt x="167" y="107"/>
                  </a:lnTo>
                  <a:lnTo>
                    <a:pt x="180" y="122"/>
                  </a:lnTo>
                  <a:lnTo>
                    <a:pt x="195" y="143"/>
                  </a:lnTo>
                  <a:lnTo>
                    <a:pt x="206" y="167"/>
                  </a:lnTo>
                  <a:lnTo>
                    <a:pt x="213" y="187"/>
                  </a:lnTo>
                  <a:lnTo>
                    <a:pt x="216" y="210"/>
                  </a:lnTo>
                  <a:lnTo>
                    <a:pt x="204" y="183"/>
                  </a:lnTo>
                  <a:lnTo>
                    <a:pt x="196" y="169"/>
                  </a:lnTo>
                  <a:lnTo>
                    <a:pt x="187" y="156"/>
                  </a:lnTo>
                  <a:lnTo>
                    <a:pt x="170" y="131"/>
                  </a:lnTo>
                  <a:lnTo>
                    <a:pt x="159" y="122"/>
                  </a:lnTo>
                  <a:lnTo>
                    <a:pt x="148" y="117"/>
                  </a:lnTo>
                  <a:lnTo>
                    <a:pt x="135" y="112"/>
                  </a:lnTo>
                  <a:lnTo>
                    <a:pt x="120" y="112"/>
                  </a:lnTo>
                  <a:lnTo>
                    <a:pt x="141" y="118"/>
                  </a:lnTo>
                  <a:lnTo>
                    <a:pt x="154" y="128"/>
                  </a:lnTo>
                  <a:lnTo>
                    <a:pt x="165" y="140"/>
                  </a:lnTo>
                  <a:lnTo>
                    <a:pt x="175" y="149"/>
                  </a:lnTo>
                  <a:lnTo>
                    <a:pt x="187" y="169"/>
                  </a:lnTo>
                  <a:lnTo>
                    <a:pt x="200" y="198"/>
                  </a:lnTo>
                  <a:lnTo>
                    <a:pt x="170" y="154"/>
                  </a:lnTo>
                  <a:lnTo>
                    <a:pt x="178" y="179"/>
                  </a:lnTo>
                  <a:lnTo>
                    <a:pt x="157" y="146"/>
                  </a:lnTo>
                  <a:lnTo>
                    <a:pt x="148" y="140"/>
                  </a:lnTo>
                  <a:lnTo>
                    <a:pt x="141" y="135"/>
                  </a:lnTo>
                  <a:lnTo>
                    <a:pt x="130" y="131"/>
                  </a:lnTo>
                  <a:lnTo>
                    <a:pt x="138" y="138"/>
                  </a:lnTo>
                  <a:lnTo>
                    <a:pt x="148" y="148"/>
                  </a:lnTo>
                  <a:lnTo>
                    <a:pt x="156" y="157"/>
                  </a:lnTo>
                  <a:lnTo>
                    <a:pt x="165" y="170"/>
                  </a:lnTo>
                  <a:lnTo>
                    <a:pt x="177" y="187"/>
                  </a:lnTo>
                  <a:lnTo>
                    <a:pt x="185" y="203"/>
                  </a:lnTo>
                  <a:lnTo>
                    <a:pt x="191" y="224"/>
                  </a:lnTo>
                  <a:lnTo>
                    <a:pt x="195" y="242"/>
                  </a:lnTo>
                  <a:lnTo>
                    <a:pt x="182" y="211"/>
                  </a:lnTo>
                  <a:lnTo>
                    <a:pt x="170" y="193"/>
                  </a:lnTo>
                  <a:lnTo>
                    <a:pt x="172" y="223"/>
                  </a:lnTo>
                  <a:lnTo>
                    <a:pt x="165" y="201"/>
                  </a:lnTo>
                  <a:lnTo>
                    <a:pt x="156" y="188"/>
                  </a:lnTo>
                  <a:lnTo>
                    <a:pt x="161" y="213"/>
                  </a:lnTo>
                  <a:lnTo>
                    <a:pt x="162" y="227"/>
                  </a:lnTo>
                  <a:lnTo>
                    <a:pt x="161" y="253"/>
                  </a:lnTo>
                  <a:lnTo>
                    <a:pt x="157" y="219"/>
                  </a:lnTo>
                  <a:lnTo>
                    <a:pt x="152" y="201"/>
                  </a:lnTo>
                  <a:lnTo>
                    <a:pt x="148" y="187"/>
                  </a:lnTo>
                  <a:lnTo>
                    <a:pt x="141" y="175"/>
                  </a:lnTo>
                  <a:lnTo>
                    <a:pt x="131" y="162"/>
                  </a:lnTo>
                  <a:lnTo>
                    <a:pt x="122" y="151"/>
                  </a:lnTo>
                  <a:lnTo>
                    <a:pt x="109" y="143"/>
                  </a:lnTo>
                  <a:lnTo>
                    <a:pt x="92" y="138"/>
                  </a:lnTo>
                  <a:lnTo>
                    <a:pt x="107" y="149"/>
                  </a:lnTo>
                  <a:lnTo>
                    <a:pt x="115" y="161"/>
                  </a:lnTo>
                  <a:lnTo>
                    <a:pt x="123" y="174"/>
                  </a:lnTo>
                  <a:lnTo>
                    <a:pt x="131" y="187"/>
                  </a:lnTo>
                  <a:lnTo>
                    <a:pt x="136" y="201"/>
                  </a:lnTo>
                  <a:lnTo>
                    <a:pt x="139" y="219"/>
                  </a:lnTo>
                  <a:lnTo>
                    <a:pt x="139" y="244"/>
                  </a:lnTo>
                  <a:lnTo>
                    <a:pt x="131" y="213"/>
                  </a:lnTo>
                  <a:lnTo>
                    <a:pt x="126" y="198"/>
                  </a:lnTo>
                  <a:lnTo>
                    <a:pt x="118" y="183"/>
                  </a:lnTo>
                  <a:lnTo>
                    <a:pt x="110" y="170"/>
                  </a:lnTo>
                  <a:lnTo>
                    <a:pt x="102" y="159"/>
                  </a:lnTo>
                  <a:lnTo>
                    <a:pt x="87" y="146"/>
                  </a:lnTo>
                  <a:lnTo>
                    <a:pt x="74" y="141"/>
                  </a:lnTo>
                  <a:lnTo>
                    <a:pt x="60" y="138"/>
                  </a:lnTo>
                  <a:lnTo>
                    <a:pt x="3" y="138"/>
                  </a:lnTo>
                  <a:lnTo>
                    <a:pt x="0" y="11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2" name=""/>
            <p:cNvSpPr/>
            <p:nvPr/>
          </p:nvSpPr>
          <p:spPr>
            <a:xfrm>
              <a:off x="5761080" y="3970800"/>
              <a:ext cx="86760" cy="86040"/>
            </a:xfrm>
            <a:custGeom>
              <a:avLst/>
              <a:gdLst/>
              <a:ahLst/>
              <a:rect l="l" t="t" r="r" b="b"/>
              <a:pathLst>
                <a:path w="211" h="236">
                  <a:moveTo>
                    <a:pt x="102" y="33"/>
                  </a:moveTo>
                  <a:lnTo>
                    <a:pt x="84" y="18"/>
                  </a:lnTo>
                  <a:lnTo>
                    <a:pt x="71" y="10"/>
                  </a:lnTo>
                  <a:lnTo>
                    <a:pt x="47" y="3"/>
                  </a:lnTo>
                  <a:lnTo>
                    <a:pt x="36" y="5"/>
                  </a:lnTo>
                  <a:lnTo>
                    <a:pt x="23" y="12"/>
                  </a:lnTo>
                  <a:lnTo>
                    <a:pt x="10" y="23"/>
                  </a:lnTo>
                  <a:lnTo>
                    <a:pt x="3" y="34"/>
                  </a:lnTo>
                  <a:lnTo>
                    <a:pt x="0" y="49"/>
                  </a:lnTo>
                  <a:lnTo>
                    <a:pt x="0" y="62"/>
                  </a:lnTo>
                  <a:lnTo>
                    <a:pt x="3" y="75"/>
                  </a:lnTo>
                  <a:lnTo>
                    <a:pt x="8" y="85"/>
                  </a:lnTo>
                  <a:lnTo>
                    <a:pt x="19" y="94"/>
                  </a:lnTo>
                  <a:lnTo>
                    <a:pt x="36" y="103"/>
                  </a:lnTo>
                  <a:lnTo>
                    <a:pt x="67" y="112"/>
                  </a:lnTo>
                  <a:lnTo>
                    <a:pt x="49" y="114"/>
                  </a:lnTo>
                  <a:lnTo>
                    <a:pt x="39" y="120"/>
                  </a:lnTo>
                  <a:lnTo>
                    <a:pt x="32" y="129"/>
                  </a:lnTo>
                  <a:lnTo>
                    <a:pt x="31" y="140"/>
                  </a:lnTo>
                  <a:lnTo>
                    <a:pt x="31" y="150"/>
                  </a:lnTo>
                  <a:lnTo>
                    <a:pt x="32" y="161"/>
                  </a:lnTo>
                  <a:lnTo>
                    <a:pt x="36" y="169"/>
                  </a:lnTo>
                  <a:lnTo>
                    <a:pt x="42" y="179"/>
                  </a:lnTo>
                  <a:lnTo>
                    <a:pt x="52" y="189"/>
                  </a:lnTo>
                  <a:lnTo>
                    <a:pt x="70" y="200"/>
                  </a:lnTo>
                  <a:lnTo>
                    <a:pt x="94" y="212"/>
                  </a:lnTo>
                  <a:lnTo>
                    <a:pt x="119" y="221"/>
                  </a:lnTo>
                  <a:lnTo>
                    <a:pt x="143" y="228"/>
                  </a:lnTo>
                  <a:lnTo>
                    <a:pt x="171" y="233"/>
                  </a:lnTo>
                  <a:lnTo>
                    <a:pt x="198" y="236"/>
                  </a:lnTo>
                  <a:lnTo>
                    <a:pt x="211" y="236"/>
                  </a:lnTo>
                  <a:lnTo>
                    <a:pt x="188" y="215"/>
                  </a:lnTo>
                  <a:lnTo>
                    <a:pt x="179" y="202"/>
                  </a:lnTo>
                  <a:lnTo>
                    <a:pt x="169" y="189"/>
                  </a:lnTo>
                  <a:lnTo>
                    <a:pt x="159" y="176"/>
                  </a:lnTo>
                  <a:lnTo>
                    <a:pt x="151" y="163"/>
                  </a:lnTo>
                  <a:lnTo>
                    <a:pt x="145" y="150"/>
                  </a:lnTo>
                  <a:lnTo>
                    <a:pt x="140" y="137"/>
                  </a:lnTo>
                  <a:lnTo>
                    <a:pt x="136" y="122"/>
                  </a:lnTo>
                  <a:lnTo>
                    <a:pt x="135" y="101"/>
                  </a:lnTo>
                  <a:lnTo>
                    <a:pt x="136" y="83"/>
                  </a:lnTo>
                  <a:lnTo>
                    <a:pt x="141" y="68"/>
                  </a:lnTo>
                  <a:lnTo>
                    <a:pt x="151" y="54"/>
                  </a:lnTo>
                  <a:lnTo>
                    <a:pt x="161" y="46"/>
                  </a:lnTo>
                  <a:lnTo>
                    <a:pt x="171" y="39"/>
                  </a:lnTo>
                  <a:lnTo>
                    <a:pt x="180" y="33"/>
                  </a:lnTo>
                  <a:lnTo>
                    <a:pt x="182" y="21"/>
                  </a:lnTo>
                  <a:lnTo>
                    <a:pt x="180" y="12"/>
                  </a:lnTo>
                  <a:lnTo>
                    <a:pt x="175" y="3"/>
                  </a:lnTo>
                  <a:lnTo>
                    <a:pt x="166" y="0"/>
                  </a:lnTo>
                  <a:lnTo>
                    <a:pt x="154" y="3"/>
                  </a:lnTo>
                  <a:lnTo>
                    <a:pt x="148" y="10"/>
                  </a:lnTo>
                  <a:lnTo>
                    <a:pt x="141" y="18"/>
                  </a:lnTo>
                  <a:lnTo>
                    <a:pt x="138" y="26"/>
                  </a:lnTo>
                  <a:lnTo>
                    <a:pt x="138" y="38"/>
                  </a:lnTo>
                  <a:lnTo>
                    <a:pt x="130" y="46"/>
                  </a:lnTo>
                  <a:lnTo>
                    <a:pt x="123" y="54"/>
                  </a:lnTo>
                  <a:lnTo>
                    <a:pt x="112" y="72"/>
                  </a:lnTo>
                  <a:lnTo>
                    <a:pt x="112" y="47"/>
                  </a:lnTo>
                  <a:lnTo>
                    <a:pt x="102" y="33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3" name=""/>
            <p:cNvSpPr/>
            <p:nvPr/>
          </p:nvSpPr>
          <p:spPr>
            <a:xfrm>
              <a:off x="5823360" y="3964320"/>
              <a:ext cx="45720" cy="82800"/>
            </a:xfrm>
            <a:custGeom>
              <a:avLst/>
              <a:gdLst/>
              <a:ahLst/>
              <a:rect l="l" t="t" r="r" b="b"/>
              <a:pathLst>
                <a:path w="112" h="228">
                  <a:moveTo>
                    <a:pt x="65" y="0"/>
                  </a:moveTo>
                  <a:lnTo>
                    <a:pt x="80" y="2"/>
                  </a:lnTo>
                  <a:lnTo>
                    <a:pt x="93" y="10"/>
                  </a:lnTo>
                  <a:lnTo>
                    <a:pt x="99" y="18"/>
                  </a:lnTo>
                  <a:lnTo>
                    <a:pt x="104" y="33"/>
                  </a:lnTo>
                  <a:lnTo>
                    <a:pt x="106" y="47"/>
                  </a:lnTo>
                  <a:lnTo>
                    <a:pt x="106" y="62"/>
                  </a:lnTo>
                  <a:lnTo>
                    <a:pt x="101" y="75"/>
                  </a:lnTo>
                  <a:lnTo>
                    <a:pt x="93" y="83"/>
                  </a:lnTo>
                  <a:lnTo>
                    <a:pt x="81" y="88"/>
                  </a:lnTo>
                  <a:lnTo>
                    <a:pt x="93" y="98"/>
                  </a:lnTo>
                  <a:lnTo>
                    <a:pt x="101" y="112"/>
                  </a:lnTo>
                  <a:lnTo>
                    <a:pt x="106" y="127"/>
                  </a:lnTo>
                  <a:lnTo>
                    <a:pt x="109" y="138"/>
                  </a:lnTo>
                  <a:lnTo>
                    <a:pt x="111" y="161"/>
                  </a:lnTo>
                  <a:lnTo>
                    <a:pt x="112" y="182"/>
                  </a:lnTo>
                  <a:lnTo>
                    <a:pt x="111" y="200"/>
                  </a:lnTo>
                  <a:lnTo>
                    <a:pt x="106" y="220"/>
                  </a:lnTo>
                  <a:lnTo>
                    <a:pt x="101" y="226"/>
                  </a:lnTo>
                  <a:lnTo>
                    <a:pt x="91" y="228"/>
                  </a:lnTo>
                  <a:lnTo>
                    <a:pt x="70" y="217"/>
                  </a:lnTo>
                  <a:lnTo>
                    <a:pt x="52" y="205"/>
                  </a:lnTo>
                  <a:lnTo>
                    <a:pt x="34" y="191"/>
                  </a:lnTo>
                  <a:lnTo>
                    <a:pt x="21" y="176"/>
                  </a:lnTo>
                  <a:lnTo>
                    <a:pt x="11" y="161"/>
                  </a:lnTo>
                  <a:lnTo>
                    <a:pt x="7" y="148"/>
                  </a:lnTo>
                  <a:lnTo>
                    <a:pt x="2" y="132"/>
                  </a:lnTo>
                  <a:lnTo>
                    <a:pt x="0" y="117"/>
                  </a:lnTo>
                  <a:lnTo>
                    <a:pt x="0" y="104"/>
                  </a:lnTo>
                  <a:lnTo>
                    <a:pt x="5" y="88"/>
                  </a:lnTo>
                  <a:lnTo>
                    <a:pt x="11" y="77"/>
                  </a:lnTo>
                  <a:lnTo>
                    <a:pt x="21" y="69"/>
                  </a:lnTo>
                  <a:lnTo>
                    <a:pt x="33" y="65"/>
                  </a:lnTo>
                  <a:lnTo>
                    <a:pt x="42" y="67"/>
                  </a:lnTo>
                  <a:lnTo>
                    <a:pt x="54" y="77"/>
                  </a:lnTo>
                  <a:lnTo>
                    <a:pt x="62" y="98"/>
                  </a:lnTo>
                  <a:lnTo>
                    <a:pt x="59" y="70"/>
                  </a:lnTo>
                  <a:lnTo>
                    <a:pt x="52" y="56"/>
                  </a:lnTo>
                  <a:lnTo>
                    <a:pt x="44" y="46"/>
                  </a:lnTo>
                  <a:lnTo>
                    <a:pt x="39" y="36"/>
                  </a:lnTo>
                  <a:lnTo>
                    <a:pt x="39" y="23"/>
                  </a:lnTo>
                  <a:lnTo>
                    <a:pt x="42" y="12"/>
                  </a:lnTo>
                  <a:lnTo>
                    <a:pt x="54" y="2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4" name=""/>
            <p:cNvSpPr/>
            <p:nvPr/>
          </p:nvSpPr>
          <p:spPr>
            <a:xfrm>
              <a:off x="5664960" y="3888000"/>
              <a:ext cx="141840" cy="92160"/>
            </a:xfrm>
            <a:custGeom>
              <a:avLst/>
              <a:gdLst/>
              <a:ahLst/>
              <a:rect l="l" t="t" r="r" b="b"/>
              <a:pathLst>
                <a:path w="346" h="254">
                  <a:moveTo>
                    <a:pt x="346" y="126"/>
                  </a:moveTo>
                  <a:lnTo>
                    <a:pt x="320" y="119"/>
                  </a:lnTo>
                  <a:lnTo>
                    <a:pt x="286" y="114"/>
                  </a:lnTo>
                  <a:lnTo>
                    <a:pt x="262" y="113"/>
                  </a:lnTo>
                  <a:lnTo>
                    <a:pt x="241" y="114"/>
                  </a:lnTo>
                  <a:lnTo>
                    <a:pt x="221" y="116"/>
                  </a:lnTo>
                  <a:lnTo>
                    <a:pt x="210" y="111"/>
                  </a:lnTo>
                  <a:lnTo>
                    <a:pt x="203" y="103"/>
                  </a:lnTo>
                  <a:lnTo>
                    <a:pt x="200" y="95"/>
                  </a:lnTo>
                  <a:lnTo>
                    <a:pt x="200" y="80"/>
                  </a:lnTo>
                  <a:lnTo>
                    <a:pt x="200" y="54"/>
                  </a:lnTo>
                  <a:lnTo>
                    <a:pt x="199" y="36"/>
                  </a:lnTo>
                  <a:lnTo>
                    <a:pt x="194" y="22"/>
                  </a:lnTo>
                  <a:lnTo>
                    <a:pt x="184" y="10"/>
                  </a:lnTo>
                  <a:lnTo>
                    <a:pt x="173" y="4"/>
                  </a:lnTo>
                  <a:lnTo>
                    <a:pt x="158" y="0"/>
                  </a:lnTo>
                  <a:lnTo>
                    <a:pt x="138" y="0"/>
                  </a:lnTo>
                  <a:lnTo>
                    <a:pt x="119" y="7"/>
                  </a:lnTo>
                  <a:lnTo>
                    <a:pt x="101" y="18"/>
                  </a:lnTo>
                  <a:lnTo>
                    <a:pt x="85" y="35"/>
                  </a:lnTo>
                  <a:lnTo>
                    <a:pt x="67" y="57"/>
                  </a:lnTo>
                  <a:lnTo>
                    <a:pt x="52" y="80"/>
                  </a:lnTo>
                  <a:lnTo>
                    <a:pt x="41" y="101"/>
                  </a:lnTo>
                  <a:lnTo>
                    <a:pt x="26" y="134"/>
                  </a:lnTo>
                  <a:lnTo>
                    <a:pt x="17" y="160"/>
                  </a:lnTo>
                  <a:lnTo>
                    <a:pt x="9" y="183"/>
                  </a:lnTo>
                  <a:lnTo>
                    <a:pt x="2" y="207"/>
                  </a:lnTo>
                  <a:lnTo>
                    <a:pt x="0" y="240"/>
                  </a:lnTo>
                  <a:lnTo>
                    <a:pt x="9" y="209"/>
                  </a:lnTo>
                  <a:lnTo>
                    <a:pt x="15" y="189"/>
                  </a:lnTo>
                  <a:lnTo>
                    <a:pt x="25" y="170"/>
                  </a:lnTo>
                  <a:lnTo>
                    <a:pt x="35" y="148"/>
                  </a:lnTo>
                  <a:lnTo>
                    <a:pt x="43" y="131"/>
                  </a:lnTo>
                  <a:lnTo>
                    <a:pt x="56" y="105"/>
                  </a:lnTo>
                  <a:lnTo>
                    <a:pt x="67" y="85"/>
                  </a:lnTo>
                  <a:lnTo>
                    <a:pt x="80" y="64"/>
                  </a:lnTo>
                  <a:lnTo>
                    <a:pt x="90" y="51"/>
                  </a:lnTo>
                  <a:lnTo>
                    <a:pt x="103" y="38"/>
                  </a:lnTo>
                  <a:lnTo>
                    <a:pt x="121" y="23"/>
                  </a:lnTo>
                  <a:lnTo>
                    <a:pt x="137" y="18"/>
                  </a:lnTo>
                  <a:lnTo>
                    <a:pt x="153" y="18"/>
                  </a:lnTo>
                  <a:lnTo>
                    <a:pt x="164" y="22"/>
                  </a:lnTo>
                  <a:lnTo>
                    <a:pt x="171" y="28"/>
                  </a:lnTo>
                  <a:lnTo>
                    <a:pt x="176" y="39"/>
                  </a:lnTo>
                  <a:lnTo>
                    <a:pt x="164" y="31"/>
                  </a:lnTo>
                  <a:lnTo>
                    <a:pt x="156" y="28"/>
                  </a:lnTo>
                  <a:lnTo>
                    <a:pt x="145" y="28"/>
                  </a:lnTo>
                  <a:lnTo>
                    <a:pt x="127" y="31"/>
                  </a:lnTo>
                  <a:lnTo>
                    <a:pt x="112" y="43"/>
                  </a:lnTo>
                  <a:lnTo>
                    <a:pt x="104" y="53"/>
                  </a:lnTo>
                  <a:lnTo>
                    <a:pt x="93" y="69"/>
                  </a:lnTo>
                  <a:lnTo>
                    <a:pt x="80" y="90"/>
                  </a:lnTo>
                  <a:lnTo>
                    <a:pt x="65" y="116"/>
                  </a:lnTo>
                  <a:lnTo>
                    <a:pt x="56" y="135"/>
                  </a:lnTo>
                  <a:lnTo>
                    <a:pt x="49" y="152"/>
                  </a:lnTo>
                  <a:lnTo>
                    <a:pt x="41" y="174"/>
                  </a:lnTo>
                  <a:lnTo>
                    <a:pt x="35" y="196"/>
                  </a:lnTo>
                  <a:lnTo>
                    <a:pt x="28" y="227"/>
                  </a:lnTo>
                  <a:lnTo>
                    <a:pt x="44" y="186"/>
                  </a:lnTo>
                  <a:lnTo>
                    <a:pt x="56" y="160"/>
                  </a:lnTo>
                  <a:lnTo>
                    <a:pt x="67" y="140"/>
                  </a:lnTo>
                  <a:lnTo>
                    <a:pt x="77" y="122"/>
                  </a:lnTo>
                  <a:lnTo>
                    <a:pt x="88" y="105"/>
                  </a:lnTo>
                  <a:lnTo>
                    <a:pt x="99" y="83"/>
                  </a:lnTo>
                  <a:lnTo>
                    <a:pt x="119" y="61"/>
                  </a:lnTo>
                  <a:lnTo>
                    <a:pt x="130" y="51"/>
                  </a:lnTo>
                  <a:lnTo>
                    <a:pt x="143" y="48"/>
                  </a:lnTo>
                  <a:lnTo>
                    <a:pt x="156" y="48"/>
                  </a:lnTo>
                  <a:lnTo>
                    <a:pt x="168" y="56"/>
                  </a:lnTo>
                  <a:lnTo>
                    <a:pt x="173" y="66"/>
                  </a:lnTo>
                  <a:lnTo>
                    <a:pt x="163" y="59"/>
                  </a:lnTo>
                  <a:lnTo>
                    <a:pt x="151" y="57"/>
                  </a:lnTo>
                  <a:lnTo>
                    <a:pt x="140" y="59"/>
                  </a:lnTo>
                  <a:lnTo>
                    <a:pt x="129" y="66"/>
                  </a:lnTo>
                  <a:lnTo>
                    <a:pt x="119" y="75"/>
                  </a:lnTo>
                  <a:lnTo>
                    <a:pt x="108" y="88"/>
                  </a:lnTo>
                  <a:lnTo>
                    <a:pt x="95" y="109"/>
                  </a:lnTo>
                  <a:lnTo>
                    <a:pt x="77" y="139"/>
                  </a:lnTo>
                  <a:lnTo>
                    <a:pt x="65" y="158"/>
                  </a:lnTo>
                  <a:lnTo>
                    <a:pt x="52" y="183"/>
                  </a:lnTo>
                  <a:lnTo>
                    <a:pt x="44" y="207"/>
                  </a:lnTo>
                  <a:lnTo>
                    <a:pt x="36" y="240"/>
                  </a:lnTo>
                  <a:lnTo>
                    <a:pt x="62" y="186"/>
                  </a:lnTo>
                  <a:lnTo>
                    <a:pt x="70" y="171"/>
                  </a:lnTo>
                  <a:lnTo>
                    <a:pt x="78" y="163"/>
                  </a:lnTo>
                  <a:lnTo>
                    <a:pt x="78" y="194"/>
                  </a:lnTo>
                  <a:lnTo>
                    <a:pt x="85" y="168"/>
                  </a:lnTo>
                  <a:lnTo>
                    <a:pt x="91" y="148"/>
                  </a:lnTo>
                  <a:lnTo>
                    <a:pt x="101" y="131"/>
                  </a:lnTo>
                  <a:lnTo>
                    <a:pt x="114" y="111"/>
                  </a:lnTo>
                  <a:lnTo>
                    <a:pt x="122" y="98"/>
                  </a:lnTo>
                  <a:lnTo>
                    <a:pt x="134" y="88"/>
                  </a:lnTo>
                  <a:lnTo>
                    <a:pt x="147" y="83"/>
                  </a:lnTo>
                  <a:lnTo>
                    <a:pt x="158" y="83"/>
                  </a:lnTo>
                  <a:lnTo>
                    <a:pt x="169" y="87"/>
                  </a:lnTo>
                  <a:lnTo>
                    <a:pt x="174" y="93"/>
                  </a:lnTo>
                  <a:lnTo>
                    <a:pt x="158" y="93"/>
                  </a:lnTo>
                  <a:lnTo>
                    <a:pt x="143" y="100"/>
                  </a:lnTo>
                  <a:lnTo>
                    <a:pt x="132" y="108"/>
                  </a:lnTo>
                  <a:lnTo>
                    <a:pt x="119" y="122"/>
                  </a:lnTo>
                  <a:lnTo>
                    <a:pt x="104" y="144"/>
                  </a:lnTo>
                  <a:lnTo>
                    <a:pt x="93" y="168"/>
                  </a:lnTo>
                  <a:lnTo>
                    <a:pt x="86" y="187"/>
                  </a:lnTo>
                  <a:lnTo>
                    <a:pt x="83" y="210"/>
                  </a:lnTo>
                  <a:lnTo>
                    <a:pt x="95" y="184"/>
                  </a:lnTo>
                  <a:lnTo>
                    <a:pt x="103" y="170"/>
                  </a:lnTo>
                  <a:lnTo>
                    <a:pt x="112" y="157"/>
                  </a:lnTo>
                  <a:lnTo>
                    <a:pt x="129" y="132"/>
                  </a:lnTo>
                  <a:lnTo>
                    <a:pt x="140" y="122"/>
                  </a:lnTo>
                  <a:lnTo>
                    <a:pt x="151" y="118"/>
                  </a:lnTo>
                  <a:lnTo>
                    <a:pt x="164" y="113"/>
                  </a:lnTo>
                  <a:lnTo>
                    <a:pt x="179" y="113"/>
                  </a:lnTo>
                  <a:lnTo>
                    <a:pt x="158" y="119"/>
                  </a:lnTo>
                  <a:lnTo>
                    <a:pt x="145" y="129"/>
                  </a:lnTo>
                  <a:lnTo>
                    <a:pt x="134" y="140"/>
                  </a:lnTo>
                  <a:lnTo>
                    <a:pt x="124" y="150"/>
                  </a:lnTo>
                  <a:lnTo>
                    <a:pt x="112" y="170"/>
                  </a:lnTo>
                  <a:lnTo>
                    <a:pt x="99" y="199"/>
                  </a:lnTo>
                  <a:lnTo>
                    <a:pt x="129" y="155"/>
                  </a:lnTo>
                  <a:lnTo>
                    <a:pt x="121" y="179"/>
                  </a:lnTo>
                  <a:lnTo>
                    <a:pt x="142" y="147"/>
                  </a:lnTo>
                  <a:lnTo>
                    <a:pt x="151" y="140"/>
                  </a:lnTo>
                  <a:lnTo>
                    <a:pt x="158" y="135"/>
                  </a:lnTo>
                  <a:lnTo>
                    <a:pt x="169" y="132"/>
                  </a:lnTo>
                  <a:lnTo>
                    <a:pt x="161" y="139"/>
                  </a:lnTo>
                  <a:lnTo>
                    <a:pt x="151" y="148"/>
                  </a:lnTo>
                  <a:lnTo>
                    <a:pt x="143" y="158"/>
                  </a:lnTo>
                  <a:lnTo>
                    <a:pt x="134" y="171"/>
                  </a:lnTo>
                  <a:lnTo>
                    <a:pt x="122" y="187"/>
                  </a:lnTo>
                  <a:lnTo>
                    <a:pt x="114" y="204"/>
                  </a:lnTo>
                  <a:lnTo>
                    <a:pt x="108" y="225"/>
                  </a:lnTo>
                  <a:lnTo>
                    <a:pt x="104" y="243"/>
                  </a:lnTo>
                  <a:lnTo>
                    <a:pt x="117" y="212"/>
                  </a:lnTo>
                  <a:lnTo>
                    <a:pt x="129" y="194"/>
                  </a:lnTo>
                  <a:lnTo>
                    <a:pt x="127" y="223"/>
                  </a:lnTo>
                  <a:lnTo>
                    <a:pt x="134" y="202"/>
                  </a:lnTo>
                  <a:lnTo>
                    <a:pt x="143" y="189"/>
                  </a:lnTo>
                  <a:lnTo>
                    <a:pt x="138" y="214"/>
                  </a:lnTo>
                  <a:lnTo>
                    <a:pt x="137" y="228"/>
                  </a:lnTo>
                  <a:lnTo>
                    <a:pt x="138" y="254"/>
                  </a:lnTo>
                  <a:lnTo>
                    <a:pt x="142" y="220"/>
                  </a:lnTo>
                  <a:lnTo>
                    <a:pt x="147" y="202"/>
                  </a:lnTo>
                  <a:lnTo>
                    <a:pt x="151" y="187"/>
                  </a:lnTo>
                  <a:lnTo>
                    <a:pt x="158" y="176"/>
                  </a:lnTo>
                  <a:lnTo>
                    <a:pt x="168" y="163"/>
                  </a:lnTo>
                  <a:lnTo>
                    <a:pt x="177" y="152"/>
                  </a:lnTo>
                  <a:lnTo>
                    <a:pt x="190" y="144"/>
                  </a:lnTo>
                  <a:lnTo>
                    <a:pt x="207" y="139"/>
                  </a:lnTo>
                  <a:lnTo>
                    <a:pt x="192" y="150"/>
                  </a:lnTo>
                  <a:lnTo>
                    <a:pt x="184" y="161"/>
                  </a:lnTo>
                  <a:lnTo>
                    <a:pt x="176" y="174"/>
                  </a:lnTo>
                  <a:lnTo>
                    <a:pt x="168" y="187"/>
                  </a:lnTo>
                  <a:lnTo>
                    <a:pt x="163" y="202"/>
                  </a:lnTo>
                  <a:lnTo>
                    <a:pt x="160" y="220"/>
                  </a:lnTo>
                  <a:lnTo>
                    <a:pt x="160" y="244"/>
                  </a:lnTo>
                  <a:lnTo>
                    <a:pt x="168" y="214"/>
                  </a:lnTo>
                  <a:lnTo>
                    <a:pt x="173" y="199"/>
                  </a:lnTo>
                  <a:lnTo>
                    <a:pt x="181" y="184"/>
                  </a:lnTo>
                  <a:lnTo>
                    <a:pt x="189" y="171"/>
                  </a:lnTo>
                  <a:lnTo>
                    <a:pt x="197" y="160"/>
                  </a:lnTo>
                  <a:lnTo>
                    <a:pt x="212" y="147"/>
                  </a:lnTo>
                  <a:lnTo>
                    <a:pt x="225" y="142"/>
                  </a:lnTo>
                  <a:lnTo>
                    <a:pt x="242" y="135"/>
                  </a:lnTo>
                  <a:lnTo>
                    <a:pt x="265" y="132"/>
                  </a:lnTo>
                  <a:lnTo>
                    <a:pt x="290" y="132"/>
                  </a:lnTo>
                  <a:lnTo>
                    <a:pt x="317" y="137"/>
                  </a:lnTo>
                  <a:lnTo>
                    <a:pt x="343" y="144"/>
                  </a:lnTo>
                  <a:lnTo>
                    <a:pt x="346" y="126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5" name=""/>
            <p:cNvSpPr/>
            <p:nvPr/>
          </p:nvSpPr>
          <p:spPr>
            <a:xfrm>
              <a:off x="5715000" y="4147200"/>
              <a:ext cx="99000" cy="55440"/>
            </a:xfrm>
            <a:custGeom>
              <a:avLst/>
              <a:gdLst/>
              <a:ahLst/>
              <a:rect l="l" t="t" r="r" b="b"/>
              <a:pathLst>
                <a:path w="240" h="151">
                  <a:moveTo>
                    <a:pt x="237" y="96"/>
                  </a:moveTo>
                  <a:lnTo>
                    <a:pt x="131" y="96"/>
                  </a:lnTo>
                  <a:lnTo>
                    <a:pt x="125" y="97"/>
                  </a:lnTo>
                  <a:lnTo>
                    <a:pt x="118" y="107"/>
                  </a:lnTo>
                  <a:lnTo>
                    <a:pt x="110" y="119"/>
                  </a:lnTo>
                  <a:lnTo>
                    <a:pt x="105" y="133"/>
                  </a:lnTo>
                  <a:lnTo>
                    <a:pt x="105" y="151"/>
                  </a:lnTo>
                  <a:lnTo>
                    <a:pt x="99" y="143"/>
                  </a:lnTo>
                  <a:lnTo>
                    <a:pt x="97" y="133"/>
                  </a:lnTo>
                  <a:lnTo>
                    <a:pt x="99" y="127"/>
                  </a:lnTo>
                  <a:lnTo>
                    <a:pt x="101" y="120"/>
                  </a:lnTo>
                  <a:lnTo>
                    <a:pt x="105" y="114"/>
                  </a:lnTo>
                  <a:lnTo>
                    <a:pt x="107" y="97"/>
                  </a:lnTo>
                  <a:lnTo>
                    <a:pt x="94" y="94"/>
                  </a:lnTo>
                  <a:lnTo>
                    <a:pt x="86" y="97"/>
                  </a:lnTo>
                  <a:lnTo>
                    <a:pt x="83" y="104"/>
                  </a:lnTo>
                  <a:lnTo>
                    <a:pt x="84" y="114"/>
                  </a:lnTo>
                  <a:lnTo>
                    <a:pt x="92" y="140"/>
                  </a:lnTo>
                  <a:lnTo>
                    <a:pt x="81" y="128"/>
                  </a:lnTo>
                  <a:lnTo>
                    <a:pt x="76" y="117"/>
                  </a:lnTo>
                  <a:lnTo>
                    <a:pt x="73" y="106"/>
                  </a:lnTo>
                  <a:lnTo>
                    <a:pt x="73" y="96"/>
                  </a:lnTo>
                  <a:lnTo>
                    <a:pt x="78" y="86"/>
                  </a:lnTo>
                  <a:lnTo>
                    <a:pt x="91" y="81"/>
                  </a:lnTo>
                  <a:lnTo>
                    <a:pt x="105" y="83"/>
                  </a:lnTo>
                  <a:lnTo>
                    <a:pt x="117" y="91"/>
                  </a:lnTo>
                  <a:lnTo>
                    <a:pt x="115" y="81"/>
                  </a:lnTo>
                  <a:lnTo>
                    <a:pt x="109" y="73"/>
                  </a:lnTo>
                  <a:lnTo>
                    <a:pt x="97" y="70"/>
                  </a:lnTo>
                  <a:lnTo>
                    <a:pt x="83" y="71"/>
                  </a:lnTo>
                  <a:lnTo>
                    <a:pt x="75" y="78"/>
                  </a:lnTo>
                  <a:lnTo>
                    <a:pt x="70" y="88"/>
                  </a:lnTo>
                  <a:lnTo>
                    <a:pt x="65" y="109"/>
                  </a:lnTo>
                  <a:lnTo>
                    <a:pt x="62" y="86"/>
                  </a:lnTo>
                  <a:lnTo>
                    <a:pt x="63" y="71"/>
                  </a:lnTo>
                  <a:lnTo>
                    <a:pt x="66" y="63"/>
                  </a:lnTo>
                  <a:lnTo>
                    <a:pt x="76" y="57"/>
                  </a:lnTo>
                  <a:lnTo>
                    <a:pt x="91" y="53"/>
                  </a:lnTo>
                  <a:lnTo>
                    <a:pt x="105" y="57"/>
                  </a:lnTo>
                  <a:lnTo>
                    <a:pt x="92" y="47"/>
                  </a:lnTo>
                  <a:lnTo>
                    <a:pt x="83" y="42"/>
                  </a:lnTo>
                  <a:lnTo>
                    <a:pt x="73" y="40"/>
                  </a:lnTo>
                  <a:lnTo>
                    <a:pt x="57" y="45"/>
                  </a:lnTo>
                  <a:lnTo>
                    <a:pt x="66" y="36"/>
                  </a:lnTo>
                  <a:lnTo>
                    <a:pt x="84" y="32"/>
                  </a:lnTo>
                  <a:lnTo>
                    <a:pt x="102" y="40"/>
                  </a:lnTo>
                  <a:lnTo>
                    <a:pt x="91" y="27"/>
                  </a:lnTo>
                  <a:lnTo>
                    <a:pt x="83" y="19"/>
                  </a:lnTo>
                  <a:lnTo>
                    <a:pt x="73" y="14"/>
                  </a:lnTo>
                  <a:lnTo>
                    <a:pt x="62" y="16"/>
                  </a:lnTo>
                  <a:lnTo>
                    <a:pt x="53" y="24"/>
                  </a:lnTo>
                  <a:lnTo>
                    <a:pt x="50" y="36"/>
                  </a:lnTo>
                  <a:lnTo>
                    <a:pt x="50" y="47"/>
                  </a:lnTo>
                  <a:lnTo>
                    <a:pt x="50" y="62"/>
                  </a:lnTo>
                  <a:lnTo>
                    <a:pt x="52" y="84"/>
                  </a:lnTo>
                  <a:lnTo>
                    <a:pt x="53" y="101"/>
                  </a:lnTo>
                  <a:lnTo>
                    <a:pt x="55" y="117"/>
                  </a:lnTo>
                  <a:lnTo>
                    <a:pt x="60" y="133"/>
                  </a:lnTo>
                  <a:lnTo>
                    <a:pt x="66" y="149"/>
                  </a:lnTo>
                  <a:lnTo>
                    <a:pt x="58" y="138"/>
                  </a:lnTo>
                  <a:lnTo>
                    <a:pt x="52" y="127"/>
                  </a:lnTo>
                  <a:lnTo>
                    <a:pt x="47" y="115"/>
                  </a:lnTo>
                  <a:lnTo>
                    <a:pt x="42" y="97"/>
                  </a:lnTo>
                  <a:lnTo>
                    <a:pt x="39" y="79"/>
                  </a:lnTo>
                  <a:lnTo>
                    <a:pt x="39" y="63"/>
                  </a:lnTo>
                  <a:lnTo>
                    <a:pt x="37" y="47"/>
                  </a:lnTo>
                  <a:lnTo>
                    <a:pt x="24" y="47"/>
                  </a:lnTo>
                  <a:lnTo>
                    <a:pt x="16" y="55"/>
                  </a:lnTo>
                  <a:lnTo>
                    <a:pt x="14" y="65"/>
                  </a:lnTo>
                  <a:lnTo>
                    <a:pt x="14" y="75"/>
                  </a:lnTo>
                  <a:lnTo>
                    <a:pt x="16" y="89"/>
                  </a:lnTo>
                  <a:lnTo>
                    <a:pt x="19" y="102"/>
                  </a:lnTo>
                  <a:lnTo>
                    <a:pt x="23" y="114"/>
                  </a:lnTo>
                  <a:lnTo>
                    <a:pt x="29" y="128"/>
                  </a:lnTo>
                  <a:lnTo>
                    <a:pt x="44" y="151"/>
                  </a:lnTo>
                  <a:lnTo>
                    <a:pt x="24" y="135"/>
                  </a:lnTo>
                  <a:lnTo>
                    <a:pt x="13" y="119"/>
                  </a:lnTo>
                  <a:lnTo>
                    <a:pt x="5" y="99"/>
                  </a:lnTo>
                  <a:lnTo>
                    <a:pt x="1" y="86"/>
                  </a:lnTo>
                  <a:lnTo>
                    <a:pt x="0" y="68"/>
                  </a:lnTo>
                  <a:lnTo>
                    <a:pt x="0" y="53"/>
                  </a:lnTo>
                  <a:lnTo>
                    <a:pt x="5" y="40"/>
                  </a:lnTo>
                  <a:lnTo>
                    <a:pt x="13" y="34"/>
                  </a:lnTo>
                  <a:lnTo>
                    <a:pt x="24" y="29"/>
                  </a:lnTo>
                  <a:lnTo>
                    <a:pt x="39" y="26"/>
                  </a:lnTo>
                  <a:lnTo>
                    <a:pt x="40" y="14"/>
                  </a:lnTo>
                  <a:lnTo>
                    <a:pt x="45" y="6"/>
                  </a:lnTo>
                  <a:lnTo>
                    <a:pt x="58" y="0"/>
                  </a:lnTo>
                  <a:lnTo>
                    <a:pt x="75" y="0"/>
                  </a:lnTo>
                  <a:lnTo>
                    <a:pt x="91" y="8"/>
                  </a:lnTo>
                  <a:lnTo>
                    <a:pt x="104" y="19"/>
                  </a:lnTo>
                  <a:lnTo>
                    <a:pt x="112" y="29"/>
                  </a:lnTo>
                  <a:lnTo>
                    <a:pt x="120" y="42"/>
                  </a:lnTo>
                  <a:lnTo>
                    <a:pt x="125" y="55"/>
                  </a:lnTo>
                  <a:lnTo>
                    <a:pt x="128" y="70"/>
                  </a:lnTo>
                  <a:lnTo>
                    <a:pt x="240" y="70"/>
                  </a:lnTo>
                  <a:lnTo>
                    <a:pt x="237" y="96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6" name=""/>
            <p:cNvSpPr/>
            <p:nvPr/>
          </p:nvSpPr>
          <p:spPr>
            <a:xfrm>
              <a:off x="5840640" y="4147200"/>
              <a:ext cx="98280" cy="55440"/>
            </a:xfrm>
            <a:custGeom>
              <a:avLst/>
              <a:gdLst/>
              <a:ahLst/>
              <a:rect l="l" t="t" r="r" b="b"/>
              <a:pathLst>
                <a:path w="241" h="151">
                  <a:moveTo>
                    <a:pt x="4" y="96"/>
                  </a:moveTo>
                  <a:lnTo>
                    <a:pt x="109" y="96"/>
                  </a:lnTo>
                  <a:lnTo>
                    <a:pt x="116" y="97"/>
                  </a:lnTo>
                  <a:lnTo>
                    <a:pt x="122" y="107"/>
                  </a:lnTo>
                  <a:lnTo>
                    <a:pt x="130" y="119"/>
                  </a:lnTo>
                  <a:lnTo>
                    <a:pt x="135" y="133"/>
                  </a:lnTo>
                  <a:lnTo>
                    <a:pt x="135" y="151"/>
                  </a:lnTo>
                  <a:lnTo>
                    <a:pt x="142" y="143"/>
                  </a:lnTo>
                  <a:lnTo>
                    <a:pt x="143" y="133"/>
                  </a:lnTo>
                  <a:lnTo>
                    <a:pt x="142" y="127"/>
                  </a:lnTo>
                  <a:lnTo>
                    <a:pt x="140" y="120"/>
                  </a:lnTo>
                  <a:lnTo>
                    <a:pt x="135" y="114"/>
                  </a:lnTo>
                  <a:lnTo>
                    <a:pt x="134" y="97"/>
                  </a:lnTo>
                  <a:lnTo>
                    <a:pt x="147" y="94"/>
                  </a:lnTo>
                  <a:lnTo>
                    <a:pt x="155" y="97"/>
                  </a:lnTo>
                  <a:lnTo>
                    <a:pt x="158" y="104"/>
                  </a:lnTo>
                  <a:lnTo>
                    <a:pt x="156" y="114"/>
                  </a:lnTo>
                  <a:lnTo>
                    <a:pt x="148" y="140"/>
                  </a:lnTo>
                  <a:lnTo>
                    <a:pt x="160" y="128"/>
                  </a:lnTo>
                  <a:lnTo>
                    <a:pt x="164" y="117"/>
                  </a:lnTo>
                  <a:lnTo>
                    <a:pt x="168" y="106"/>
                  </a:lnTo>
                  <a:lnTo>
                    <a:pt x="168" y="96"/>
                  </a:lnTo>
                  <a:lnTo>
                    <a:pt x="163" y="86"/>
                  </a:lnTo>
                  <a:lnTo>
                    <a:pt x="150" y="81"/>
                  </a:lnTo>
                  <a:lnTo>
                    <a:pt x="135" y="83"/>
                  </a:lnTo>
                  <a:lnTo>
                    <a:pt x="124" y="91"/>
                  </a:lnTo>
                  <a:lnTo>
                    <a:pt x="125" y="81"/>
                  </a:lnTo>
                  <a:lnTo>
                    <a:pt x="132" y="73"/>
                  </a:lnTo>
                  <a:lnTo>
                    <a:pt x="143" y="70"/>
                  </a:lnTo>
                  <a:lnTo>
                    <a:pt x="158" y="71"/>
                  </a:lnTo>
                  <a:lnTo>
                    <a:pt x="166" y="78"/>
                  </a:lnTo>
                  <a:lnTo>
                    <a:pt x="171" y="88"/>
                  </a:lnTo>
                  <a:lnTo>
                    <a:pt x="176" y="109"/>
                  </a:lnTo>
                  <a:lnTo>
                    <a:pt x="179" y="86"/>
                  </a:lnTo>
                  <a:lnTo>
                    <a:pt x="177" y="71"/>
                  </a:lnTo>
                  <a:lnTo>
                    <a:pt x="174" y="63"/>
                  </a:lnTo>
                  <a:lnTo>
                    <a:pt x="164" y="57"/>
                  </a:lnTo>
                  <a:lnTo>
                    <a:pt x="150" y="53"/>
                  </a:lnTo>
                  <a:lnTo>
                    <a:pt x="135" y="57"/>
                  </a:lnTo>
                  <a:lnTo>
                    <a:pt x="148" y="47"/>
                  </a:lnTo>
                  <a:lnTo>
                    <a:pt x="158" y="42"/>
                  </a:lnTo>
                  <a:lnTo>
                    <a:pt x="168" y="40"/>
                  </a:lnTo>
                  <a:lnTo>
                    <a:pt x="184" y="45"/>
                  </a:lnTo>
                  <a:lnTo>
                    <a:pt x="174" y="36"/>
                  </a:lnTo>
                  <a:lnTo>
                    <a:pt x="156" y="32"/>
                  </a:lnTo>
                  <a:lnTo>
                    <a:pt x="138" y="40"/>
                  </a:lnTo>
                  <a:lnTo>
                    <a:pt x="150" y="27"/>
                  </a:lnTo>
                  <a:lnTo>
                    <a:pt x="158" y="19"/>
                  </a:lnTo>
                  <a:lnTo>
                    <a:pt x="168" y="14"/>
                  </a:lnTo>
                  <a:lnTo>
                    <a:pt x="179" y="16"/>
                  </a:lnTo>
                  <a:lnTo>
                    <a:pt x="187" y="24"/>
                  </a:lnTo>
                  <a:lnTo>
                    <a:pt x="190" y="36"/>
                  </a:lnTo>
                  <a:lnTo>
                    <a:pt x="190" y="47"/>
                  </a:lnTo>
                  <a:lnTo>
                    <a:pt x="190" y="62"/>
                  </a:lnTo>
                  <a:lnTo>
                    <a:pt x="189" y="84"/>
                  </a:lnTo>
                  <a:lnTo>
                    <a:pt x="187" y="101"/>
                  </a:lnTo>
                  <a:lnTo>
                    <a:pt x="186" y="117"/>
                  </a:lnTo>
                  <a:lnTo>
                    <a:pt x="181" y="133"/>
                  </a:lnTo>
                  <a:lnTo>
                    <a:pt x="174" y="149"/>
                  </a:lnTo>
                  <a:lnTo>
                    <a:pt x="182" y="138"/>
                  </a:lnTo>
                  <a:lnTo>
                    <a:pt x="189" y="127"/>
                  </a:lnTo>
                  <a:lnTo>
                    <a:pt x="194" y="115"/>
                  </a:lnTo>
                  <a:lnTo>
                    <a:pt x="199" y="97"/>
                  </a:lnTo>
                  <a:lnTo>
                    <a:pt x="202" y="79"/>
                  </a:lnTo>
                  <a:lnTo>
                    <a:pt x="202" y="63"/>
                  </a:lnTo>
                  <a:lnTo>
                    <a:pt x="203" y="47"/>
                  </a:lnTo>
                  <a:lnTo>
                    <a:pt x="216" y="47"/>
                  </a:lnTo>
                  <a:lnTo>
                    <a:pt x="225" y="55"/>
                  </a:lnTo>
                  <a:lnTo>
                    <a:pt x="226" y="65"/>
                  </a:lnTo>
                  <a:lnTo>
                    <a:pt x="226" y="75"/>
                  </a:lnTo>
                  <a:lnTo>
                    <a:pt x="225" y="89"/>
                  </a:lnTo>
                  <a:lnTo>
                    <a:pt x="221" y="102"/>
                  </a:lnTo>
                  <a:lnTo>
                    <a:pt x="218" y="114"/>
                  </a:lnTo>
                  <a:lnTo>
                    <a:pt x="212" y="128"/>
                  </a:lnTo>
                  <a:lnTo>
                    <a:pt x="197" y="151"/>
                  </a:lnTo>
                  <a:lnTo>
                    <a:pt x="216" y="135"/>
                  </a:lnTo>
                  <a:lnTo>
                    <a:pt x="228" y="119"/>
                  </a:lnTo>
                  <a:lnTo>
                    <a:pt x="236" y="99"/>
                  </a:lnTo>
                  <a:lnTo>
                    <a:pt x="239" y="86"/>
                  </a:lnTo>
                  <a:lnTo>
                    <a:pt x="241" y="68"/>
                  </a:lnTo>
                  <a:lnTo>
                    <a:pt x="241" y="53"/>
                  </a:lnTo>
                  <a:lnTo>
                    <a:pt x="236" y="40"/>
                  </a:lnTo>
                  <a:lnTo>
                    <a:pt x="228" y="34"/>
                  </a:lnTo>
                  <a:lnTo>
                    <a:pt x="216" y="29"/>
                  </a:lnTo>
                  <a:lnTo>
                    <a:pt x="202" y="26"/>
                  </a:lnTo>
                  <a:lnTo>
                    <a:pt x="200" y="14"/>
                  </a:lnTo>
                  <a:lnTo>
                    <a:pt x="195" y="6"/>
                  </a:lnTo>
                  <a:lnTo>
                    <a:pt x="182" y="0"/>
                  </a:lnTo>
                  <a:lnTo>
                    <a:pt x="166" y="0"/>
                  </a:lnTo>
                  <a:lnTo>
                    <a:pt x="150" y="8"/>
                  </a:lnTo>
                  <a:lnTo>
                    <a:pt x="137" y="19"/>
                  </a:lnTo>
                  <a:lnTo>
                    <a:pt x="129" y="29"/>
                  </a:lnTo>
                  <a:lnTo>
                    <a:pt x="121" y="42"/>
                  </a:lnTo>
                  <a:lnTo>
                    <a:pt x="116" y="55"/>
                  </a:lnTo>
                  <a:lnTo>
                    <a:pt x="112" y="70"/>
                  </a:lnTo>
                  <a:lnTo>
                    <a:pt x="0" y="70"/>
                  </a:lnTo>
                  <a:lnTo>
                    <a:pt x="4" y="96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07" name=""/>
          <p:cNvSpPr/>
          <p:nvPr/>
        </p:nvSpPr>
        <p:spPr>
          <a:xfrm>
            <a:off x="3025440" y="5477040"/>
            <a:ext cx="1230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600" spc="-1" strike="noStrike">
                <a:solidFill>
                  <a:srgbClr val="000000"/>
                </a:solidFill>
                <a:latin typeface="Times New Roman"/>
              </a:rPr>
              <a:t>Ren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600" spc="-1" strike="noStrike">
                <a:solidFill>
                  <a:srgbClr val="000000"/>
                </a:solidFill>
                <a:latin typeface="Times New Roman"/>
              </a:rPr>
              <a:t>-angiotens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600" spc="-1" strike="noStrike">
                <a:solidFill>
                  <a:srgbClr val="000000"/>
                </a:solidFill>
                <a:latin typeface="Times New Roman"/>
              </a:rPr>
              <a:t>-aldoster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8" name=""/>
          <p:cNvSpPr/>
          <p:nvPr/>
        </p:nvSpPr>
        <p:spPr>
          <a:xfrm>
            <a:off x="2640960" y="3513240"/>
            <a:ext cx="20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600" spc="-1" strike="noStrike">
                <a:solidFill>
                  <a:srgbClr val="000000"/>
                </a:solidFill>
                <a:latin typeface="Times New Roman"/>
              </a:rPr>
              <a:t>Antidiuretický horm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9" name=""/>
          <p:cNvSpPr/>
          <p:nvPr/>
        </p:nvSpPr>
        <p:spPr>
          <a:xfrm>
            <a:off x="4956480" y="3105000"/>
            <a:ext cx="14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000000"/>
                </a:solidFill>
                <a:latin typeface="Times New Roman"/>
              </a:rPr>
              <a:t>Zažívací systé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0" name=""/>
          <p:cNvSpPr/>
          <p:nvPr/>
        </p:nvSpPr>
        <p:spPr>
          <a:xfrm>
            <a:off x="3013560" y="2860560"/>
            <a:ext cx="165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600" spc="-1" strike="noStrike">
                <a:solidFill>
                  <a:srgbClr val="000000"/>
                </a:solidFill>
                <a:latin typeface="Times New Roman"/>
              </a:rPr>
              <a:t>Sympatik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600" spc="-1" strike="noStrike">
                <a:solidFill>
                  <a:srgbClr val="000000"/>
                </a:solidFill>
                <a:latin typeface="Times New Roman"/>
              </a:rPr>
              <a:t>a parasympatik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1" name=""/>
          <p:cNvSpPr/>
          <p:nvPr/>
        </p:nvSpPr>
        <p:spPr>
          <a:xfrm flipV="1">
            <a:off x="1693800" y="2401560"/>
            <a:ext cx="1594080" cy="244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2" name=""/>
          <p:cNvSpPr/>
          <p:nvPr/>
        </p:nvSpPr>
        <p:spPr>
          <a:xfrm>
            <a:off x="1692360" y="2770200"/>
            <a:ext cx="1476360" cy="341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3" name=""/>
          <p:cNvSpPr/>
          <p:nvPr/>
        </p:nvSpPr>
        <p:spPr>
          <a:xfrm>
            <a:off x="1654200" y="2962440"/>
            <a:ext cx="1162080" cy="639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4" name=""/>
          <p:cNvSpPr/>
          <p:nvPr/>
        </p:nvSpPr>
        <p:spPr>
          <a:xfrm>
            <a:off x="1238400" y="4811760"/>
            <a:ext cx="1577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5" name=""/>
          <p:cNvSpPr/>
          <p:nvPr/>
        </p:nvSpPr>
        <p:spPr>
          <a:xfrm>
            <a:off x="2030400" y="5992920"/>
            <a:ext cx="9111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6" name=""/>
          <p:cNvSpPr/>
          <p:nvPr/>
        </p:nvSpPr>
        <p:spPr>
          <a:xfrm flipV="1">
            <a:off x="4452840" y="2401920"/>
            <a:ext cx="897120" cy="7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7" name=""/>
          <p:cNvSpPr/>
          <p:nvPr/>
        </p:nvSpPr>
        <p:spPr>
          <a:xfrm>
            <a:off x="5833800" y="500544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000000"/>
                </a:solidFill>
                <a:latin typeface="Times New Roman"/>
              </a:rPr>
              <a:t>Obě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8" name=""/>
          <p:cNvSpPr/>
          <p:nvPr/>
        </p:nvSpPr>
        <p:spPr>
          <a:xfrm>
            <a:off x="5484960" y="6210360"/>
            <a:ext cx="83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000000"/>
                </a:solidFill>
                <a:latin typeface="Times New Roman"/>
              </a:rPr>
              <a:t>Ledvi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9" name=""/>
          <p:cNvSpPr/>
          <p:nvPr/>
        </p:nvSpPr>
        <p:spPr>
          <a:xfrm>
            <a:off x="3291480" y="2217600"/>
            <a:ext cx="1076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600" spc="-1" strike="noStrike">
                <a:solidFill>
                  <a:srgbClr val="000000"/>
                </a:solidFill>
                <a:latin typeface="Times New Roman"/>
              </a:rPr>
              <a:t>Pocit žízně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0" name=""/>
          <p:cNvSpPr/>
          <p:nvPr/>
        </p:nvSpPr>
        <p:spPr>
          <a:xfrm rot="1220400">
            <a:off x="6624360" y="2725200"/>
            <a:ext cx="90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600" spc="-1" strike="noStrike">
                <a:solidFill>
                  <a:srgbClr val="000000"/>
                </a:solidFill>
                <a:latin typeface="Times New Roman"/>
              </a:rPr>
              <a:t>Pití vod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1" name=""/>
          <p:cNvSpPr/>
          <p:nvPr/>
        </p:nvSpPr>
        <p:spPr>
          <a:xfrm>
            <a:off x="6360480" y="3441600"/>
            <a:ext cx="14806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600" spc="-1" strike="noStrike">
                <a:solidFill>
                  <a:srgbClr val="000000"/>
                </a:solidFill>
                <a:latin typeface="Times New Roman"/>
              </a:rPr>
              <a:t>Srdeční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1600" spc="-1" strike="noStrike">
                <a:solidFill>
                  <a:srgbClr val="000000"/>
                </a:solidFill>
                <a:latin typeface="Times New Roman"/>
              </a:rPr>
              <a:t>frekvence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600" spc="-1" strike="noStrike">
                <a:solidFill>
                  <a:srgbClr val="000000"/>
                </a:solidFill>
                <a:latin typeface="Times New Roman"/>
              </a:rPr>
              <a:t>vasodilat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600" spc="-1" strike="noStrike">
                <a:solidFill>
                  <a:srgbClr val="000000"/>
                </a:solidFill>
                <a:latin typeface="Times New Roman"/>
              </a:rPr>
              <a:t>/vasokonstrik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2" name=""/>
          <p:cNvSpPr/>
          <p:nvPr/>
        </p:nvSpPr>
        <p:spPr>
          <a:xfrm rot="20086800">
            <a:off x="6360120" y="5149800"/>
            <a:ext cx="1563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600" spc="-1" strike="noStrike">
                <a:solidFill>
                  <a:srgbClr val="000000"/>
                </a:solidFill>
                <a:latin typeface="Times New Roman"/>
              </a:rPr>
              <a:t>Vylučování vod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600" spc="-1" strike="noStrike">
                <a:solidFill>
                  <a:srgbClr val="000000"/>
                </a:solidFill>
                <a:latin typeface="Times New Roman"/>
              </a:rPr>
              <a:t>a iontů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3" name=""/>
          <p:cNvSpPr/>
          <p:nvPr/>
        </p:nvSpPr>
        <p:spPr>
          <a:xfrm>
            <a:off x="4467240" y="4911840"/>
            <a:ext cx="1287360" cy="819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4" name=""/>
          <p:cNvSpPr/>
          <p:nvPr/>
        </p:nvSpPr>
        <p:spPr>
          <a:xfrm flipV="1">
            <a:off x="4452840" y="4066920"/>
            <a:ext cx="1276560" cy="8506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5" name=""/>
          <p:cNvSpPr/>
          <p:nvPr/>
        </p:nvSpPr>
        <p:spPr>
          <a:xfrm flipV="1">
            <a:off x="4273560" y="4254120"/>
            <a:ext cx="1503360" cy="17067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6" name=""/>
          <p:cNvSpPr/>
          <p:nvPr/>
        </p:nvSpPr>
        <p:spPr>
          <a:xfrm>
            <a:off x="4273560" y="5961240"/>
            <a:ext cx="1496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7" name=""/>
          <p:cNvSpPr/>
          <p:nvPr/>
        </p:nvSpPr>
        <p:spPr>
          <a:xfrm>
            <a:off x="4632480" y="3394080"/>
            <a:ext cx="1101600" cy="601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8" name=""/>
          <p:cNvSpPr/>
          <p:nvPr/>
        </p:nvSpPr>
        <p:spPr>
          <a:xfrm>
            <a:off x="5715000" y="2576520"/>
            <a:ext cx="2427120" cy="876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9" name=""/>
          <p:cNvSpPr/>
          <p:nvPr/>
        </p:nvSpPr>
        <p:spPr>
          <a:xfrm>
            <a:off x="6008760" y="4014720"/>
            <a:ext cx="2133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0" name=""/>
          <p:cNvSpPr/>
          <p:nvPr/>
        </p:nvSpPr>
        <p:spPr>
          <a:xfrm flipV="1">
            <a:off x="5997600" y="4887720"/>
            <a:ext cx="2298600" cy="112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1" name=""/>
          <p:cNvSpPr/>
          <p:nvPr/>
        </p:nvSpPr>
        <p:spPr>
          <a:xfrm rot="5478000">
            <a:off x="7817040" y="3832920"/>
            <a:ext cx="1107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Objem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osmolari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2" name=""/>
          <p:cNvSpPr/>
          <p:nvPr/>
        </p:nvSpPr>
        <p:spPr>
          <a:xfrm>
            <a:off x="4135320" y="3814920"/>
            <a:ext cx="1654200" cy="17776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3" name=""/>
          <p:cNvSpPr/>
          <p:nvPr/>
        </p:nvSpPr>
        <p:spPr>
          <a:xfrm>
            <a:off x="2979000" y="922320"/>
            <a:ext cx="1787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Řídící signá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(signály, kterými 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působí 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regulační orgá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34" name="" descr=""/>
          <p:cNvPicPr/>
          <p:nvPr/>
        </p:nvPicPr>
        <p:blipFill>
          <a:blip r:embed="rId9"/>
          <a:stretch/>
        </p:blipFill>
        <p:spPr>
          <a:xfrm>
            <a:off x="3495600" y="0"/>
            <a:ext cx="763560" cy="880920"/>
          </a:xfrm>
          <a:prstGeom prst="rect">
            <a:avLst/>
          </a:prstGeom>
          <a:ln w="0">
            <a:noFill/>
          </a:ln>
        </p:spPr>
      </p:pic>
      <p:sp>
        <p:nvSpPr>
          <p:cNvPr id="6335" name=""/>
          <p:cNvSpPr/>
          <p:nvPr/>
        </p:nvSpPr>
        <p:spPr>
          <a:xfrm rot="5400000">
            <a:off x="-1434600" y="4112640"/>
            <a:ext cx="320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600" spc="-1" strike="noStrike">
                <a:solidFill>
                  <a:srgbClr val="000000"/>
                </a:solidFill>
                <a:latin typeface="Times New Roman"/>
              </a:rPr>
              <a:t>Volumoreceptory, osmoreceptory aj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6" name=""/>
          <p:cNvSpPr/>
          <p:nvPr/>
        </p:nvSpPr>
        <p:spPr>
          <a:xfrm>
            <a:off x="114480" y="5870520"/>
            <a:ext cx="8400960" cy="932040"/>
          </a:xfrm>
          <a:custGeom>
            <a:avLst/>
            <a:gdLst/>
            <a:ahLst/>
            <a:rect l="l" t="t" r="r" b="b"/>
            <a:pathLst>
              <a:path w="5292" h="507">
                <a:moveTo>
                  <a:pt x="0" y="0"/>
                </a:moveTo>
                <a:lnTo>
                  <a:pt x="0" y="507"/>
                </a:lnTo>
                <a:lnTo>
                  <a:pt x="5292" y="497"/>
                </a:lnTo>
                <a:lnTo>
                  <a:pt x="5292" y="241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7" name=""/>
          <p:cNvSpPr/>
          <p:nvPr/>
        </p:nvSpPr>
        <p:spPr>
          <a:xfrm>
            <a:off x="6402600" y="938160"/>
            <a:ext cx="1419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Akční veliči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(působí 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řízený systé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38" name=""/>
          <p:cNvGrpSpPr/>
          <p:nvPr/>
        </p:nvGrpSpPr>
        <p:grpSpPr>
          <a:xfrm>
            <a:off x="1585800" y="0"/>
            <a:ext cx="523800" cy="566640"/>
            <a:chOff x="1585800" y="0"/>
            <a:chExt cx="523800" cy="566640"/>
          </a:xfrm>
        </p:grpSpPr>
        <p:sp>
          <p:nvSpPr>
            <p:cNvPr id="6339" name=""/>
            <p:cNvSpPr/>
            <p:nvPr/>
          </p:nvSpPr>
          <p:spPr>
            <a:xfrm>
              <a:off x="1590480" y="7920"/>
              <a:ext cx="515880" cy="552240"/>
            </a:xfrm>
            <a:custGeom>
              <a:avLst/>
              <a:gdLst/>
              <a:ahLst/>
              <a:rect l="l" t="t" r="r" b="b"/>
              <a:pathLst>
                <a:path w="974" h="1045">
                  <a:moveTo>
                    <a:pt x="183" y="698"/>
                  </a:moveTo>
                  <a:lnTo>
                    <a:pt x="108" y="765"/>
                  </a:lnTo>
                  <a:lnTo>
                    <a:pt x="14" y="847"/>
                  </a:lnTo>
                  <a:lnTo>
                    <a:pt x="14" y="917"/>
                  </a:lnTo>
                  <a:lnTo>
                    <a:pt x="30" y="1045"/>
                  </a:lnTo>
                  <a:lnTo>
                    <a:pt x="188" y="1039"/>
                  </a:lnTo>
                  <a:lnTo>
                    <a:pt x="364" y="1021"/>
                  </a:lnTo>
                  <a:lnTo>
                    <a:pt x="627" y="1015"/>
                  </a:lnTo>
                  <a:lnTo>
                    <a:pt x="824" y="1021"/>
                  </a:lnTo>
                  <a:lnTo>
                    <a:pt x="893" y="894"/>
                  </a:lnTo>
                  <a:lnTo>
                    <a:pt x="974" y="646"/>
                  </a:lnTo>
                  <a:lnTo>
                    <a:pt x="959" y="571"/>
                  </a:lnTo>
                  <a:lnTo>
                    <a:pt x="929" y="541"/>
                  </a:lnTo>
                  <a:lnTo>
                    <a:pt x="841" y="547"/>
                  </a:lnTo>
                  <a:lnTo>
                    <a:pt x="882" y="359"/>
                  </a:lnTo>
                  <a:lnTo>
                    <a:pt x="887" y="301"/>
                  </a:lnTo>
                  <a:lnTo>
                    <a:pt x="866" y="155"/>
                  </a:lnTo>
                  <a:lnTo>
                    <a:pt x="845" y="47"/>
                  </a:lnTo>
                  <a:lnTo>
                    <a:pt x="809" y="0"/>
                  </a:lnTo>
                  <a:lnTo>
                    <a:pt x="781" y="0"/>
                  </a:lnTo>
                  <a:lnTo>
                    <a:pt x="709" y="12"/>
                  </a:lnTo>
                  <a:lnTo>
                    <a:pt x="595" y="18"/>
                  </a:lnTo>
                  <a:lnTo>
                    <a:pt x="520" y="7"/>
                  </a:lnTo>
                  <a:lnTo>
                    <a:pt x="438" y="2"/>
                  </a:lnTo>
                  <a:lnTo>
                    <a:pt x="407" y="10"/>
                  </a:lnTo>
                  <a:lnTo>
                    <a:pt x="338" y="42"/>
                  </a:lnTo>
                  <a:lnTo>
                    <a:pt x="235" y="70"/>
                  </a:lnTo>
                  <a:lnTo>
                    <a:pt x="105" y="115"/>
                  </a:lnTo>
                  <a:lnTo>
                    <a:pt x="55" y="144"/>
                  </a:lnTo>
                  <a:lnTo>
                    <a:pt x="10" y="192"/>
                  </a:lnTo>
                  <a:lnTo>
                    <a:pt x="0" y="264"/>
                  </a:lnTo>
                  <a:lnTo>
                    <a:pt x="0" y="383"/>
                  </a:lnTo>
                  <a:lnTo>
                    <a:pt x="5" y="525"/>
                  </a:lnTo>
                  <a:lnTo>
                    <a:pt x="15" y="608"/>
                  </a:lnTo>
                  <a:lnTo>
                    <a:pt x="35" y="656"/>
                  </a:lnTo>
                  <a:lnTo>
                    <a:pt x="66" y="680"/>
                  </a:lnTo>
                  <a:lnTo>
                    <a:pt x="103" y="690"/>
                  </a:lnTo>
                  <a:lnTo>
                    <a:pt x="183" y="698"/>
                  </a:lnTo>
                  <a:close/>
                </a:path>
              </a:pathLst>
            </a:cu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0" name=""/>
            <p:cNvSpPr/>
            <p:nvPr/>
          </p:nvSpPr>
          <p:spPr>
            <a:xfrm>
              <a:off x="1641240" y="107640"/>
              <a:ext cx="301680" cy="228600"/>
            </a:xfrm>
            <a:custGeom>
              <a:avLst/>
              <a:gdLst/>
              <a:ahLst/>
              <a:rect l="l" t="t" r="r" b="b"/>
              <a:pathLst>
                <a:path w="570" h="433">
                  <a:moveTo>
                    <a:pt x="3" y="118"/>
                  </a:moveTo>
                  <a:lnTo>
                    <a:pt x="9" y="39"/>
                  </a:lnTo>
                  <a:lnTo>
                    <a:pt x="21" y="15"/>
                  </a:lnTo>
                  <a:lnTo>
                    <a:pt x="56" y="7"/>
                  </a:lnTo>
                  <a:lnTo>
                    <a:pt x="197" y="2"/>
                  </a:lnTo>
                  <a:lnTo>
                    <a:pt x="370" y="0"/>
                  </a:lnTo>
                  <a:lnTo>
                    <a:pt x="472" y="2"/>
                  </a:lnTo>
                  <a:lnTo>
                    <a:pt x="496" y="18"/>
                  </a:lnTo>
                  <a:lnTo>
                    <a:pt x="514" y="47"/>
                  </a:lnTo>
                  <a:lnTo>
                    <a:pt x="540" y="176"/>
                  </a:lnTo>
                  <a:lnTo>
                    <a:pt x="565" y="317"/>
                  </a:lnTo>
                  <a:lnTo>
                    <a:pt x="570" y="406"/>
                  </a:lnTo>
                  <a:lnTo>
                    <a:pt x="561" y="422"/>
                  </a:lnTo>
                  <a:lnTo>
                    <a:pt x="530" y="433"/>
                  </a:lnTo>
                  <a:lnTo>
                    <a:pt x="382" y="430"/>
                  </a:lnTo>
                  <a:lnTo>
                    <a:pt x="152" y="419"/>
                  </a:lnTo>
                  <a:lnTo>
                    <a:pt x="39" y="409"/>
                  </a:lnTo>
                  <a:lnTo>
                    <a:pt x="21" y="385"/>
                  </a:lnTo>
                  <a:lnTo>
                    <a:pt x="11" y="340"/>
                  </a:lnTo>
                  <a:lnTo>
                    <a:pt x="0" y="229"/>
                  </a:lnTo>
                  <a:lnTo>
                    <a:pt x="3" y="118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41" name=""/>
            <p:cNvGrpSpPr/>
            <p:nvPr/>
          </p:nvGrpSpPr>
          <p:grpSpPr>
            <a:xfrm>
              <a:off x="1585800" y="0"/>
              <a:ext cx="523800" cy="566640"/>
              <a:chOff x="1585800" y="0"/>
              <a:chExt cx="523800" cy="566640"/>
            </a:xfrm>
          </p:grpSpPr>
          <p:sp>
            <p:nvSpPr>
              <p:cNvPr id="6342" name=""/>
              <p:cNvSpPr/>
              <p:nvPr/>
            </p:nvSpPr>
            <p:spPr>
              <a:xfrm>
                <a:off x="1590480" y="285480"/>
                <a:ext cx="519120" cy="281160"/>
              </a:xfrm>
              <a:custGeom>
                <a:avLst/>
                <a:gdLst/>
                <a:ahLst/>
                <a:rect l="l" t="t" r="r" b="b"/>
                <a:pathLst>
                  <a:path w="980" h="530">
                    <a:moveTo>
                      <a:pt x="0" y="320"/>
                    </a:moveTo>
                    <a:lnTo>
                      <a:pt x="121" y="215"/>
                    </a:lnTo>
                    <a:lnTo>
                      <a:pt x="125" y="240"/>
                    </a:lnTo>
                    <a:lnTo>
                      <a:pt x="42" y="315"/>
                    </a:lnTo>
                    <a:lnTo>
                      <a:pt x="187" y="308"/>
                    </a:lnTo>
                    <a:lnTo>
                      <a:pt x="495" y="309"/>
                    </a:lnTo>
                    <a:lnTo>
                      <a:pt x="659" y="297"/>
                    </a:lnTo>
                    <a:lnTo>
                      <a:pt x="761" y="278"/>
                    </a:lnTo>
                    <a:lnTo>
                      <a:pt x="787" y="272"/>
                    </a:lnTo>
                    <a:lnTo>
                      <a:pt x="907" y="30"/>
                    </a:lnTo>
                    <a:lnTo>
                      <a:pt x="851" y="14"/>
                    </a:lnTo>
                    <a:lnTo>
                      <a:pt x="934" y="0"/>
                    </a:lnTo>
                    <a:lnTo>
                      <a:pt x="965" y="26"/>
                    </a:lnTo>
                    <a:lnTo>
                      <a:pt x="980" y="116"/>
                    </a:lnTo>
                    <a:lnTo>
                      <a:pt x="955" y="189"/>
                    </a:lnTo>
                    <a:lnTo>
                      <a:pt x="877" y="425"/>
                    </a:lnTo>
                    <a:lnTo>
                      <a:pt x="841" y="498"/>
                    </a:lnTo>
                    <a:lnTo>
                      <a:pt x="808" y="507"/>
                    </a:lnTo>
                    <a:lnTo>
                      <a:pt x="559" y="502"/>
                    </a:lnTo>
                    <a:lnTo>
                      <a:pt x="299" y="509"/>
                    </a:lnTo>
                    <a:lnTo>
                      <a:pt x="52" y="528"/>
                    </a:lnTo>
                    <a:lnTo>
                      <a:pt x="15" y="530"/>
                    </a:lnTo>
                    <a:lnTo>
                      <a:pt x="12" y="460"/>
                    </a:lnTo>
                    <a:lnTo>
                      <a:pt x="6" y="392"/>
                    </a:lnTo>
                    <a:lnTo>
                      <a:pt x="5" y="356"/>
                    </a:lnTo>
                    <a:lnTo>
                      <a:pt x="26" y="378"/>
                    </a:lnTo>
                    <a:lnTo>
                      <a:pt x="31" y="434"/>
                    </a:lnTo>
                    <a:lnTo>
                      <a:pt x="38" y="494"/>
                    </a:lnTo>
                    <a:lnTo>
                      <a:pt x="109" y="503"/>
                    </a:lnTo>
                    <a:lnTo>
                      <a:pt x="271" y="488"/>
                    </a:lnTo>
                    <a:lnTo>
                      <a:pt x="408" y="477"/>
                    </a:lnTo>
                    <a:lnTo>
                      <a:pt x="523" y="477"/>
                    </a:lnTo>
                    <a:lnTo>
                      <a:pt x="695" y="477"/>
                    </a:lnTo>
                    <a:lnTo>
                      <a:pt x="804" y="476"/>
                    </a:lnTo>
                    <a:lnTo>
                      <a:pt x="808" y="444"/>
                    </a:lnTo>
                    <a:lnTo>
                      <a:pt x="798" y="376"/>
                    </a:lnTo>
                    <a:lnTo>
                      <a:pt x="789" y="303"/>
                    </a:lnTo>
                    <a:lnTo>
                      <a:pt x="804" y="320"/>
                    </a:lnTo>
                    <a:lnTo>
                      <a:pt x="820" y="402"/>
                    </a:lnTo>
                    <a:lnTo>
                      <a:pt x="834" y="444"/>
                    </a:lnTo>
                    <a:lnTo>
                      <a:pt x="851" y="423"/>
                    </a:lnTo>
                    <a:lnTo>
                      <a:pt x="880" y="341"/>
                    </a:lnTo>
                    <a:lnTo>
                      <a:pt x="925" y="225"/>
                    </a:lnTo>
                    <a:lnTo>
                      <a:pt x="955" y="131"/>
                    </a:lnTo>
                    <a:lnTo>
                      <a:pt x="961" y="103"/>
                    </a:lnTo>
                    <a:lnTo>
                      <a:pt x="945" y="36"/>
                    </a:lnTo>
                    <a:lnTo>
                      <a:pt x="929" y="32"/>
                    </a:lnTo>
                    <a:lnTo>
                      <a:pt x="896" y="110"/>
                    </a:lnTo>
                    <a:lnTo>
                      <a:pt x="838" y="213"/>
                    </a:lnTo>
                    <a:lnTo>
                      <a:pt x="798" y="293"/>
                    </a:lnTo>
                    <a:lnTo>
                      <a:pt x="756" y="305"/>
                    </a:lnTo>
                    <a:lnTo>
                      <a:pt x="606" y="323"/>
                    </a:lnTo>
                    <a:lnTo>
                      <a:pt x="429" y="335"/>
                    </a:lnTo>
                    <a:lnTo>
                      <a:pt x="255" y="335"/>
                    </a:lnTo>
                    <a:lnTo>
                      <a:pt x="57" y="336"/>
                    </a:lnTo>
                    <a:lnTo>
                      <a:pt x="0" y="3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3" name=""/>
              <p:cNvSpPr/>
              <p:nvPr/>
            </p:nvSpPr>
            <p:spPr>
              <a:xfrm>
                <a:off x="1685520" y="380880"/>
                <a:ext cx="268560" cy="61920"/>
              </a:xfrm>
              <a:custGeom>
                <a:avLst/>
                <a:gdLst/>
                <a:ahLst/>
                <a:rect l="l" t="t" r="r" b="b"/>
                <a:pathLst>
                  <a:path w="506" h="116">
                    <a:moveTo>
                      <a:pt x="12" y="21"/>
                    </a:moveTo>
                    <a:lnTo>
                      <a:pt x="47" y="0"/>
                    </a:lnTo>
                    <a:lnTo>
                      <a:pt x="65" y="5"/>
                    </a:lnTo>
                    <a:lnTo>
                      <a:pt x="54" y="32"/>
                    </a:lnTo>
                    <a:lnTo>
                      <a:pt x="27" y="49"/>
                    </a:lnTo>
                    <a:lnTo>
                      <a:pt x="78" y="73"/>
                    </a:lnTo>
                    <a:lnTo>
                      <a:pt x="154" y="76"/>
                    </a:lnTo>
                    <a:lnTo>
                      <a:pt x="220" y="71"/>
                    </a:lnTo>
                    <a:lnTo>
                      <a:pt x="268" y="65"/>
                    </a:lnTo>
                    <a:lnTo>
                      <a:pt x="357" y="56"/>
                    </a:lnTo>
                    <a:lnTo>
                      <a:pt x="415" y="51"/>
                    </a:lnTo>
                    <a:lnTo>
                      <a:pt x="452" y="40"/>
                    </a:lnTo>
                    <a:lnTo>
                      <a:pt x="489" y="16"/>
                    </a:lnTo>
                    <a:lnTo>
                      <a:pt x="485" y="0"/>
                    </a:lnTo>
                    <a:lnTo>
                      <a:pt x="506" y="5"/>
                    </a:lnTo>
                    <a:lnTo>
                      <a:pt x="501" y="62"/>
                    </a:lnTo>
                    <a:lnTo>
                      <a:pt x="447" y="88"/>
                    </a:lnTo>
                    <a:lnTo>
                      <a:pt x="328" y="95"/>
                    </a:lnTo>
                    <a:lnTo>
                      <a:pt x="206" y="107"/>
                    </a:lnTo>
                    <a:lnTo>
                      <a:pt x="137" y="116"/>
                    </a:lnTo>
                    <a:lnTo>
                      <a:pt x="53" y="95"/>
                    </a:lnTo>
                    <a:lnTo>
                      <a:pt x="12" y="83"/>
                    </a:lnTo>
                    <a:lnTo>
                      <a:pt x="0" y="51"/>
                    </a:lnTo>
                    <a:lnTo>
                      <a:pt x="12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4" name=""/>
              <p:cNvSpPr/>
              <p:nvPr/>
            </p:nvSpPr>
            <p:spPr>
              <a:xfrm>
                <a:off x="1644480" y="484200"/>
                <a:ext cx="28440" cy="25200"/>
              </a:xfrm>
              <a:custGeom>
                <a:avLst/>
                <a:gdLst/>
                <a:ahLst/>
                <a:rect l="l" t="t" r="r" b="b"/>
                <a:pathLst>
                  <a:path w="53" h="47">
                    <a:moveTo>
                      <a:pt x="3" y="3"/>
                    </a:moveTo>
                    <a:lnTo>
                      <a:pt x="51" y="0"/>
                    </a:lnTo>
                    <a:lnTo>
                      <a:pt x="53" y="47"/>
                    </a:lnTo>
                    <a:lnTo>
                      <a:pt x="0" y="47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5" name=""/>
              <p:cNvSpPr/>
              <p:nvPr/>
            </p:nvSpPr>
            <p:spPr>
              <a:xfrm>
                <a:off x="1696680" y="482400"/>
                <a:ext cx="28800" cy="23760"/>
              </a:xfrm>
              <a:custGeom>
                <a:avLst/>
                <a:gdLst/>
                <a:ahLst/>
                <a:rect l="l" t="t" r="r" b="b"/>
                <a:pathLst>
                  <a:path w="53" h="46">
                    <a:moveTo>
                      <a:pt x="2" y="2"/>
                    </a:moveTo>
                    <a:lnTo>
                      <a:pt x="50" y="0"/>
                    </a:lnTo>
                    <a:lnTo>
                      <a:pt x="53" y="46"/>
                    </a:lnTo>
                    <a:lnTo>
                      <a:pt x="0" y="46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6" name=""/>
              <p:cNvSpPr/>
              <p:nvPr/>
            </p:nvSpPr>
            <p:spPr>
              <a:xfrm>
                <a:off x="1866600" y="474480"/>
                <a:ext cx="114480" cy="28440"/>
              </a:xfrm>
              <a:custGeom>
                <a:avLst/>
                <a:gdLst/>
                <a:ahLst/>
                <a:rect l="l" t="t" r="r" b="b"/>
                <a:pathLst>
                  <a:path w="215" h="54">
                    <a:moveTo>
                      <a:pt x="0" y="16"/>
                    </a:moveTo>
                    <a:lnTo>
                      <a:pt x="209" y="0"/>
                    </a:lnTo>
                    <a:lnTo>
                      <a:pt x="215" y="35"/>
                    </a:lnTo>
                    <a:lnTo>
                      <a:pt x="0" y="54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7" name=""/>
              <p:cNvSpPr/>
              <p:nvPr/>
            </p:nvSpPr>
            <p:spPr>
              <a:xfrm>
                <a:off x="1585800" y="0"/>
                <a:ext cx="479160" cy="377640"/>
              </a:xfrm>
              <a:custGeom>
                <a:avLst/>
                <a:gdLst/>
                <a:ahLst/>
                <a:rect l="l" t="t" r="r" b="b"/>
                <a:pathLst>
                  <a:path w="906" h="713">
                    <a:moveTo>
                      <a:pt x="76" y="680"/>
                    </a:moveTo>
                    <a:lnTo>
                      <a:pt x="51" y="654"/>
                    </a:lnTo>
                    <a:lnTo>
                      <a:pt x="35" y="608"/>
                    </a:lnTo>
                    <a:lnTo>
                      <a:pt x="30" y="508"/>
                    </a:lnTo>
                    <a:lnTo>
                      <a:pt x="30" y="341"/>
                    </a:lnTo>
                    <a:lnTo>
                      <a:pt x="35" y="215"/>
                    </a:lnTo>
                    <a:lnTo>
                      <a:pt x="51" y="187"/>
                    </a:lnTo>
                    <a:lnTo>
                      <a:pt x="78" y="150"/>
                    </a:lnTo>
                    <a:lnTo>
                      <a:pt x="146" y="124"/>
                    </a:lnTo>
                    <a:lnTo>
                      <a:pt x="265" y="88"/>
                    </a:lnTo>
                    <a:lnTo>
                      <a:pt x="363" y="63"/>
                    </a:lnTo>
                    <a:lnTo>
                      <a:pt x="407" y="36"/>
                    </a:lnTo>
                    <a:lnTo>
                      <a:pt x="486" y="30"/>
                    </a:lnTo>
                    <a:lnTo>
                      <a:pt x="625" y="42"/>
                    </a:lnTo>
                    <a:lnTo>
                      <a:pt x="739" y="35"/>
                    </a:lnTo>
                    <a:lnTo>
                      <a:pt x="788" y="24"/>
                    </a:lnTo>
                    <a:lnTo>
                      <a:pt x="828" y="35"/>
                    </a:lnTo>
                    <a:lnTo>
                      <a:pt x="854" y="105"/>
                    </a:lnTo>
                    <a:lnTo>
                      <a:pt x="871" y="232"/>
                    </a:lnTo>
                    <a:lnTo>
                      <a:pt x="887" y="332"/>
                    </a:lnTo>
                    <a:lnTo>
                      <a:pt x="879" y="379"/>
                    </a:lnTo>
                    <a:lnTo>
                      <a:pt x="849" y="492"/>
                    </a:lnTo>
                    <a:lnTo>
                      <a:pt x="809" y="607"/>
                    </a:lnTo>
                    <a:lnTo>
                      <a:pt x="782" y="650"/>
                    </a:lnTo>
                    <a:lnTo>
                      <a:pt x="765" y="671"/>
                    </a:lnTo>
                    <a:lnTo>
                      <a:pt x="791" y="687"/>
                    </a:lnTo>
                    <a:lnTo>
                      <a:pt x="819" y="638"/>
                    </a:lnTo>
                    <a:lnTo>
                      <a:pt x="861" y="536"/>
                    </a:lnTo>
                    <a:lnTo>
                      <a:pt x="892" y="426"/>
                    </a:lnTo>
                    <a:lnTo>
                      <a:pt x="903" y="372"/>
                    </a:lnTo>
                    <a:lnTo>
                      <a:pt x="906" y="321"/>
                    </a:lnTo>
                    <a:lnTo>
                      <a:pt x="896" y="236"/>
                    </a:lnTo>
                    <a:lnTo>
                      <a:pt x="879" y="109"/>
                    </a:lnTo>
                    <a:lnTo>
                      <a:pt x="855" y="40"/>
                    </a:lnTo>
                    <a:lnTo>
                      <a:pt x="833" y="9"/>
                    </a:lnTo>
                    <a:lnTo>
                      <a:pt x="797" y="0"/>
                    </a:lnTo>
                    <a:lnTo>
                      <a:pt x="749" y="14"/>
                    </a:lnTo>
                    <a:lnTo>
                      <a:pt x="679" y="19"/>
                    </a:lnTo>
                    <a:lnTo>
                      <a:pt x="588" y="19"/>
                    </a:lnTo>
                    <a:lnTo>
                      <a:pt x="494" y="5"/>
                    </a:lnTo>
                    <a:lnTo>
                      <a:pt x="431" y="9"/>
                    </a:lnTo>
                    <a:lnTo>
                      <a:pt x="399" y="21"/>
                    </a:lnTo>
                    <a:lnTo>
                      <a:pt x="329" y="55"/>
                    </a:lnTo>
                    <a:lnTo>
                      <a:pt x="193" y="93"/>
                    </a:lnTo>
                    <a:lnTo>
                      <a:pt x="63" y="136"/>
                    </a:lnTo>
                    <a:lnTo>
                      <a:pt x="26" y="181"/>
                    </a:lnTo>
                    <a:lnTo>
                      <a:pt x="3" y="242"/>
                    </a:lnTo>
                    <a:lnTo>
                      <a:pt x="0" y="363"/>
                    </a:lnTo>
                    <a:lnTo>
                      <a:pt x="6" y="478"/>
                    </a:lnTo>
                    <a:lnTo>
                      <a:pt x="10" y="596"/>
                    </a:lnTo>
                    <a:lnTo>
                      <a:pt x="31" y="665"/>
                    </a:lnTo>
                    <a:lnTo>
                      <a:pt x="52" y="701"/>
                    </a:lnTo>
                    <a:lnTo>
                      <a:pt x="88" y="713"/>
                    </a:lnTo>
                    <a:lnTo>
                      <a:pt x="109" y="707"/>
                    </a:lnTo>
                    <a:lnTo>
                      <a:pt x="76" y="6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8" name=""/>
              <p:cNvSpPr/>
              <p:nvPr/>
            </p:nvSpPr>
            <p:spPr>
              <a:xfrm>
                <a:off x="1617480" y="7920"/>
                <a:ext cx="412560" cy="376200"/>
              </a:xfrm>
              <a:custGeom>
                <a:avLst/>
                <a:gdLst/>
                <a:ahLst/>
                <a:rect l="l" t="t" r="r" b="b"/>
                <a:pathLst>
                  <a:path w="780" h="711">
                    <a:moveTo>
                      <a:pt x="12" y="675"/>
                    </a:moveTo>
                    <a:lnTo>
                      <a:pt x="142" y="684"/>
                    </a:lnTo>
                    <a:lnTo>
                      <a:pt x="324" y="688"/>
                    </a:lnTo>
                    <a:lnTo>
                      <a:pt x="470" y="688"/>
                    </a:lnTo>
                    <a:lnTo>
                      <a:pt x="600" y="673"/>
                    </a:lnTo>
                    <a:lnTo>
                      <a:pt x="686" y="659"/>
                    </a:lnTo>
                    <a:lnTo>
                      <a:pt x="710" y="647"/>
                    </a:lnTo>
                    <a:lnTo>
                      <a:pt x="710" y="584"/>
                    </a:lnTo>
                    <a:lnTo>
                      <a:pt x="678" y="416"/>
                    </a:lnTo>
                    <a:lnTo>
                      <a:pt x="642" y="213"/>
                    </a:lnTo>
                    <a:lnTo>
                      <a:pt x="623" y="139"/>
                    </a:lnTo>
                    <a:lnTo>
                      <a:pt x="605" y="112"/>
                    </a:lnTo>
                    <a:lnTo>
                      <a:pt x="381" y="136"/>
                    </a:lnTo>
                    <a:lnTo>
                      <a:pt x="162" y="142"/>
                    </a:lnTo>
                    <a:lnTo>
                      <a:pt x="42" y="145"/>
                    </a:lnTo>
                    <a:lnTo>
                      <a:pt x="0" y="150"/>
                    </a:lnTo>
                    <a:lnTo>
                      <a:pt x="23" y="121"/>
                    </a:lnTo>
                    <a:lnTo>
                      <a:pt x="75" y="126"/>
                    </a:lnTo>
                    <a:lnTo>
                      <a:pt x="225" y="121"/>
                    </a:lnTo>
                    <a:lnTo>
                      <a:pt x="367" y="112"/>
                    </a:lnTo>
                    <a:lnTo>
                      <a:pt x="493" y="102"/>
                    </a:lnTo>
                    <a:lnTo>
                      <a:pt x="613" y="91"/>
                    </a:lnTo>
                    <a:lnTo>
                      <a:pt x="707" y="48"/>
                    </a:lnTo>
                    <a:lnTo>
                      <a:pt x="759" y="0"/>
                    </a:lnTo>
                    <a:lnTo>
                      <a:pt x="780" y="23"/>
                    </a:lnTo>
                    <a:lnTo>
                      <a:pt x="731" y="52"/>
                    </a:lnTo>
                    <a:lnTo>
                      <a:pt x="660" y="100"/>
                    </a:lnTo>
                    <a:lnTo>
                      <a:pt x="637" y="115"/>
                    </a:lnTo>
                    <a:lnTo>
                      <a:pt x="663" y="223"/>
                    </a:lnTo>
                    <a:lnTo>
                      <a:pt x="684" y="328"/>
                    </a:lnTo>
                    <a:lnTo>
                      <a:pt x="701" y="424"/>
                    </a:lnTo>
                    <a:lnTo>
                      <a:pt x="717" y="516"/>
                    </a:lnTo>
                    <a:lnTo>
                      <a:pt x="731" y="584"/>
                    </a:lnTo>
                    <a:lnTo>
                      <a:pt x="738" y="643"/>
                    </a:lnTo>
                    <a:lnTo>
                      <a:pt x="728" y="675"/>
                    </a:lnTo>
                    <a:lnTo>
                      <a:pt x="629" y="699"/>
                    </a:lnTo>
                    <a:lnTo>
                      <a:pt x="454" y="711"/>
                    </a:lnTo>
                    <a:lnTo>
                      <a:pt x="271" y="705"/>
                    </a:lnTo>
                    <a:lnTo>
                      <a:pt x="138" y="705"/>
                    </a:lnTo>
                    <a:lnTo>
                      <a:pt x="27" y="701"/>
                    </a:lnTo>
                    <a:lnTo>
                      <a:pt x="12" y="67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9" name=""/>
              <p:cNvSpPr/>
              <p:nvPr/>
            </p:nvSpPr>
            <p:spPr>
              <a:xfrm>
                <a:off x="1663560" y="101520"/>
                <a:ext cx="285480" cy="241200"/>
              </a:xfrm>
              <a:custGeom>
                <a:avLst/>
                <a:gdLst/>
                <a:ahLst/>
                <a:rect l="l" t="t" r="r" b="b"/>
                <a:pathLst>
                  <a:path w="538" h="455">
                    <a:moveTo>
                      <a:pt x="0" y="12"/>
                    </a:moveTo>
                    <a:lnTo>
                      <a:pt x="179" y="6"/>
                    </a:lnTo>
                    <a:lnTo>
                      <a:pt x="301" y="0"/>
                    </a:lnTo>
                    <a:lnTo>
                      <a:pt x="438" y="2"/>
                    </a:lnTo>
                    <a:lnTo>
                      <a:pt x="459" y="18"/>
                    </a:lnTo>
                    <a:lnTo>
                      <a:pt x="475" y="42"/>
                    </a:lnTo>
                    <a:lnTo>
                      <a:pt x="505" y="170"/>
                    </a:lnTo>
                    <a:lnTo>
                      <a:pt x="527" y="316"/>
                    </a:lnTo>
                    <a:lnTo>
                      <a:pt x="538" y="416"/>
                    </a:lnTo>
                    <a:lnTo>
                      <a:pt x="527" y="448"/>
                    </a:lnTo>
                    <a:lnTo>
                      <a:pt x="500" y="455"/>
                    </a:lnTo>
                    <a:lnTo>
                      <a:pt x="342" y="437"/>
                    </a:lnTo>
                    <a:lnTo>
                      <a:pt x="506" y="423"/>
                    </a:lnTo>
                    <a:lnTo>
                      <a:pt x="515" y="419"/>
                    </a:lnTo>
                    <a:lnTo>
                      <a:pt x="512" y="350"/>
                    </a:lnTo>
                    <a:lnTo>
                      <a:pt x="500" y="253"/>
                    </a:lnTo>
                    <a:lnTo>
                      <a:pt x="473" y="122"/>
                    </a:lnTo>
                    <a:lnTo>
                      <a:pt x="452" y="39"/>
                    </a:lnTo>
                    <a:lnTo>
                      <a:pt x="431" y="27"/>
                    </a:lnTo>
                    <a:lnTo>
                      <a:pt x="333" y="21"/>
                    </a:lnTo>
                    <a:lnTo>
                      <a:pt x="200" y="27"/>
                    </a:lnTo>
                    <a:lnTo>
                      <a:pt x="89" y="23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0" name=""/>
              <p:cNvSpPr/>
              <p:nvPr/>
            </p:nvSpPr>
            <p:spPr>
              <a:xfrm>
                <a:off x="1634760" y="106200"/>
                <a:ext cx="282600" cy="233280"/>
              </a:xfrm>
              <a:custGeom>
                <a:avLst/>
                <a:gdLst/>
                <a:ahLst/>
                <a:rect l="l" t="t" r="r" b="b"/>
                <a:pathLst>
                  <a:path w="535" h="443">
                    <a:moveTo>
                      <a:pt x="247" y="0"/>
                    </a:moveTo>
                    <a:lnTo>
                      <a:pt x="74" y="0"/>
                    </a:lnTo>
                    <a:lnTo>
                      <a:pt x="24" y="5"/>
                    </a:lnTo>
                    <a:lnTo>
                      <a:pt x="15" y="24"/>
                    </a:lnTo>
                    <a:lnTo>
                      <a:pt x="5" y="63"/>
                    </a:lnTo>
                    <a:lnTo>
                      <a:pt x="0" y="166"/>
                    </a:lnTo>
                    <a:lnTo>
                      <a:pt x="5" y="268"/>
                    </a:lnTo>
                    <a:lnTo>
                      <a:pt x="18" y="369"/>
                    </a:lnTo>
                    <a:lnTo>
                      <a:pt x="41" y="409"/>
                    </a:lnTo>
                    <a:lnTo>
                      <a:pt x="50" y="419"/>
                    </a:lnTo>
                    <a:lnTo>
                      <a:pt x="161" y="430"/>
                    </a:lnTo>
                    <a:lnTo>
                      <a:pt x="303" y="436"/>
                    </a:lnTo>
                    <a:lnTo>
                      <a:pt x="409" y="437"/>
                    </a:lnTo>
                    <a:lnTo>
                      <a:pt x="535" y="443"/>
                    </a:lnTo>
                    <a:lnTo>
                      <a:pt x="529" y="427"/>
                    </a:lnTo>
                    <a:lnTo>
                      <a:pt x="431" y="419"/>
                    </a:lnTo>
                    <a:lnTo>
                      <a:pt x="303" y="410"/>
                    </a:lnTo>
                    <a:lnTo>
                      <a:pt x="125" y="409"/>
                    </a:lnTo>
                    <a:lnTo>
                      <a:pt x="61" y="390"/>
                    </a:lnTo>
                    <a:lnTo>
                      <a:pt x="42" y="374"/>
                    </a:lnTo>
                    <a:lnTo>
                      <a:pt x="35" y="345"/>
                    </a:lnTo>
                    <a:lnTo>
                      <a:pt x="26" y="261"/>
                    </a:lnTo>
                    <a:lnTo>
                      <a:pt x="24" y="156"/>
                    </a:lnTo>
                    <a:lnTo>
                      <a:pt x="32" y="50"/>
                    </a:lnTo>
                    <a:lnTo>
                      <a:pt x="42" y="26"/>
                    </a:lnTo>
                    <a:lnTo>
                      <a:pt x="157" y="11"/>
                    </a:lnTo>
                    <a:lnTo>
                      <a:pt x="24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351" name=""/>
          <p:cNvGrpSpPr/>
          <p:nvPr/>
        </p:nvGrpSpPr>
        <p:grpSpPr>
          <a:xfrm>
            <a:off x="6543000" y="0"/>
            <a:ext cx="938520" cy="1019880"/>
            <a:chOff x="6543000" y="0"/>
            <a:chExt cx="938520" cy="1019880"/>
          </a:xfrm>
        </p:grpSpPr>
        <p:grpSp>
          <p:nvGrpSpPr>
            <p:cNvPr id="6352" name=""/>
            <p:cNvGrpSpPr/>
            <p:nvPr/>
          </p:nvGrpSpPr>
          <p:grpSpPr>
            <a:xfrm>
              <a:off x="6543000" y="0"/>
              <a:ext cx="613440" cy="379800"/>
              <a:chOff x="6543000" y="0"/>
              <a:chExt cx="613440" cy="379800"/>
            </a:xfrm>
          </p:grpSpPr>
          <p:sp>
            <p:nvSpPr>
              <p:cNvPr id="6353" name=""/>
              <p:cNvSpPr/>
              <p:nvPr/>
            </p:nvSpPr>
            <p:spPr>
              <a:xfrm flipH="1">
                <a:off x="6739200" y="133200"/>
                <a:ext cx="404280" cy="235800"/>
              </a:xfrm>
              <a:custGeom>
                <a:avLst/>
                <a:gdLst/>
                <a:ahLst/>
                <a:rect l="l" t="t" r="r" b="b"/>
                <a:pathLst>
                  <a:path w="475" h="372">
                    <a:moveTo>
                      <a:pt x="422" y="0"/>
                    </a:moveTo>
                    <a:lnTo>
                      <a:pt x="273" y="95"/>
                    </a:lnTo>
                    <a:lnTo>
                      <a:pt x="136" y="166"/>
                    </a:lnTo>
                    <a:lnTo>
                      <a:pt x="69" y="217"/>
                    </a:lnTo>
                    <a:lnTo>
                      <a:pt x="14" y="277"/>
                    </a:lnTo>
                    <a:lnTo>
                      <a:pt x="0" y="317"/>
                    </a:lnTo>
                    <a:lnTo>
                      <a:pt x="24" y="355"/>
                    </a:lnTo>
                    <a:lnTo>
                      <a:pt x="72" y="372"/>
                    </a:lnTo>
                    <a:lnTo>
                      <a:pt x="137" y="293"/>
                    </a:lnTo>
                    <a:lnTo>
                      <a:pt x="201" y="233"/>
                    </a:lnTo>
                    <a:lnTo>
                      <a:pt x="294" y="177"/>
                    </a:lnTo>
                    <a:lnTo>
                      <a:pt x="374" y="134"/>
                    </a:lnTo>
                    <a:lnTo>
                      <a:pt x="475" y="81"/>
                    </a:lnTo>
                    <a:lnTo>
                      <a:pt x="459" y="38"/>
                    </a:lnTo>
                    <a:lnTo>
                      <a:pt x="422" y="0"/>
                    </a:lnTo>
                    <a:close/>
                  </a:path>
                </a:pathLst>
              </a:custGeom>
              <a:solidFill>
                <a:srgbClr val="d8c8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4" name=""/>
              <p:cNvSpPr/>
              <p:nvPr/>
            </p:nvSpPr>
            <p:spPr>
              <a:xfrm flipH="1">
                <a:off x="6550200" y="5760"/>
                <a:ext cx="314280" cy="313560"/>
              </a:xfrm>
              <a:custGeom>
                <a:avLst/>
                <a:gdLst/>
                <a:ahLst/>
                <a:rect l="l" t="t" r="r" b="b"/>
                <a:pathLst>
                  <a:path w="367" h="495">
                    <a:moveTo>
                      <a:pt x="193" y="356"/>
                    </a:moveTo>
                    <a:lnTo>
                      <a:pt x="76" y="194"/>
                    </a:lnTo>
                    <a:lnTo>
                      <a:pt x="53" y="156"/>
                    </a:lnTo>
                    <a:lnTo>
                      <a:pt x="58" y="131"/>
                    </a:lnTo>
                    <a:lnTo>
                      <a:pt x="21" y="125"/>
                    </a:lnTo>
                    <a:lnTo>
                      <a:pt x="0" y="105"/>
                    </a:lnTo>
                    <a:lnTo>
                      <a:pt x="23" y="48"/>
                    </a:lnTo>
                    <a:lnTo>
                      <a:pt x="65" y="16"/>
                    </a:lnTo>
                    <a:lnTo>
                      <a:pt x="117" y="0"/>
                    </a:lnTo>
                    <a:lnTo>
                      <a:pt x="150" y="9"/>
                    </a:lnTo>
                    <a:lnTo>
                      <a:pt x="159" y="62"/>
                    </a:lnTo>
                    <a:lnTo>
                      <a:pt x="188" y="69"/>
                    </a:lnTo>
                    <a:lnTo>
                      <a:pt x="255" y="146"/>
                    </a:lnTo>
                    <a:lnTo>
                      <a:pt x="320" y="241"/>
                    </a:lnTo>
                    <a:lnTo>
                      <a:pt x="356" y="301"/>
                    </a:lnTo>
                    <a:lnTo>
                      <a:pt x="367" y="374"/>
                    </a:lnTo>
                    <a:lnTo>
                      <a:pt x="350" y="435"/>
                    </a:lnTo>
                    <a:lnTo>
                      <a:pt x="323" y="480"/>
                    </a:lnTo>
                    <a:lnTo>
                      <a:pt x="309" y="488"/>
                    </a:lnTo>
                    <a:lnTo>
                      <a:pt x="277" y="472"/>
                    </a:lnTo>
                    <a:lnTo>
                      <a:pt x="291" y="400"/>
                    </a:lnTo>
                    <a:lnTo>
                      <a:pt x="246" y="456"/>
                    </a:lnTo>
                    <a:lnTo>
                      <a:pt x="214" y="495"/>
                    </a:lnTo>
                    <a:lnTo>
                      <a:pt x="191" y="484"/>
                    </a:lnTo>
                    <a:lnTo>
                      <a:pt x="208" y="409"/>
                    </a:lnTo>
                    <a:lnTo>
                      <a:pt x="193" y="356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355" name=""/>
              <p:cNvGrpSpPr/>
              <p:nvPr/>
            </p:nvGrpSpPr>
            <p:grpSpPr>
              <a:xfrm>
                <a:off x="6543000" y="0"/>
                <a:ext cx="613440" cy="379800"/>
                <a:chOff x="6543000" y="0"/>
                <a:chExt cx="613440" cy="379800"/>
              </a:xfrm>
            </p:grpSpPr>
            <p:sp>
              <p:nvSpPr>
                <p:cNvPr id="6356" name=""/>
                <p:cNvSpPr/>
                <p:nvPr/>
              </p:nvSpPr>
              <p:spPr>
                <a:xfrm flipH="1">
                  <a:off x="6543000" y="0"/>
                  <a:ext cx="613440" cy="379800"/>
                </a:xfrm>
                <a:custGeom>
                  <a:avLst/>
                  <a:gdLst/>
                  <a:ahLst/>
                  <a:rect l="l" t="t" r="r" b="b"/>
                  <a:pathLst>
                    <a:path w="720" h="601">
                      <a:moveTo>
                        <a:pt x="450" y="105"/>
                      </a:moveTo>
                      <a:lnTo>
                        <a:pt x="480" y="79"/>
                      </a:lnTo>
                      <a:lnTo>
                        <a:pt x="492" y="52"/>
                      </a:lnTo>
                      <a:lnTo>
                        <a:pt x="486" y="37"/>
                      </a:lnTo>
                      <a:lnTo>
                        <a:pt x="471" y="19"/>
                      </a:lnTo>
                      <a:lnTo>
                        <a:pt x="439" y="30"/>
                      </a:lnTo>
                      <a:lnTo>
                        <a:pt x="402" y="42"/>
                      </a:lnTo>
                      <a:lnTo>
                        <a:pt x="381" y="73"/>
                      </a:lnTo>
                      <a:lnTo>
                        <a:pt x="372" y="99"/>
                      </a:lnTo>
                      <a:lnTo>
                        <a:pt x="372" y="124"/>
                      </a:lnTo>
                      <a:lnTo>
                        <a:pt x="390" y="132"/>
                      </a:lnTo>
                      <a:lnTo>
                        <a:pt x="411" y="130"/>
                      </a:lnTo>
                      <a:lnTo>
                        <a:pt x="417" y="147"/>
                      </a:lnTo>
                      <a:lnTo>
                        <a:pt x="417" y="163"/>
                      </a:lnTo>
                      <a:lnTo>
                        <a:pt x="443" y="216"/>
                      </a:lnTo>
                      <a:lnTo>
                        <a:pt x="356" y="271"/>
                      </a:lnTo>
                      <a:lnTo>
                        <a:pt x="255" y="336"/>
                      </a:lnTo>
                      <a:lnTo>
                        <a:pt x="131" y="397"/>
                      </a:lnTo>
                      <a:lnTo>
                        <a:pt x="71" y="456"/>
                      </a:lnTo>
                      <a:lnTo>
                        <a:pt x="36" y="498"/>
                      </a:lnTo>
                      <a:lnTo>
                        <a:pt x="35" y="529"/>
                      </a:lnTo>
                      <a:lnTo>
                        <a:pt x="63" y="550"/>
                      </a:lnTo>
                      <a:lnTo>
                        <a:pt x="87" y="559"/>
                      </a:lnTo>
                      <a:lnTo>
                        <a:pt x="113" y="524"/>
                      </a:lnTo>
                      <a:lnTo>
                        <a:pt x="167" y="461"/>
                      </a:lnTo>
                      <a:lnTo>
                        <a:pt x="234" y="412"/>
                      </a:lnTo>
                      <a:lnTo>
                        <a:pt x="314" y="370"/>
                      </a:lnTo>
                      <a:lnTo>
                        <a:pt x="396" y="325"/>
                      </a:lnTo>
                      <a:lnTo>
                        <a:pt x="464" y="289"/>
                      </a:lnTo>
                      <a:lnTo>
                        <a:pt x="443" y="250"/>
                      </a:lnTo>
                      <a:lnTo>
                        <a:pt x="453" y="229"/>
                      </a:lnTo>
                      <a:lnTo>
                        <a:pt x="501" y="289"/>
                      </a:lnTo>
                      <a:lnTo>
                        <a:pt x="539" y="345"/>
                      </a:lnTo>
                      <a:lnTo>
                        <a:pt x="560" y="382"/>
                      </a:lnTo>
                      <a:lnTo>
                        <a:pt x="568" y="423"/>
                      </a:lnTo>
                      <a:lnTo>
                        <a:pt x="552" y="486"/>
                      </a:lnTo>
                      <a:lnTo>
                        <a:pt x="584" y="456"/>
                      </a:lnTo>
                      <a:lnTo>
                        <a:pt x="621" y="407"/>
                      </a:lnTo>
                      <a:lnTo>
                        <a:pt x="622" y="349"/>
                      </a:lnTo>
                      <a:lnTo>
                        <a:pt x="621" y="315"/>
                      </a:lnTo>
                      <a:lnTo>
                        <a:pt x="642" y="355"/>
                      </a:lnTo>
                      <a:lnTo>
                        <a:pt x="648" y="402"/>
                      </a:lnTo>
                      <a:lnTo>
                        <a:pt x="639" y="461"/>
                      </a:lnTo>
                      <a:lnTo>
                        <a:pt x="660" y="475"/>
                      </a:lnTo>
                      <a:lnTo>
                        <a:pt x="669" y="465"/>
                      </a:lnTo>
                      <a:lnTo>
                        <a:pt x="694" y="402"/>
                      </a:lnTo>
                      <a:lnTo>
                        <a:pt x="696" y="349"/>
                      </a:lnTo>
                      <a:lnTo>
                        <a:pt x="685" y="307"/>
                      </a:lnTo>
                      <a:lnTo>
                        <a:pt x="669" y="271"/>
                      </a:lnTo>
                      <a:lnTo>
                        <a:pt x="628" y="219"/>
                      </a:lnTo>
                      <a:lnTo>
                        <a:pt x="589" y="160"/>
                      </a:lnTo>
                      <a:lnTo>
                        <a:pt x="549" y="124"/>
                      </a:lnTo>
                      <a:lnTo>
                        <a:pt x="526" y="100"/>
                      </a:lnTo>
                      <a:lnTo>
                        <a:pt x="516" y="82"/>
                      </a:lnTo>
                      <a:lnTo>
                        <a:pt x="526" y="61"/>
                      </a:lnTo>
                      <a:lnTo>
                        <a:pt x="597" y="135"/>
                      </a:lnTo>
                      <a:lnTo>
                        <a:pt x="652" y="208"/>
                      </a:lnTo>
                      <a:lnTo>
                        <a:pt x="694" y="273"/>
                      </a:lnTo>
                      <a:lnTo>
                        <a:pt x="715" y="324"/>
                      </a:lnTo>
                      <a:lnTo>
                        <a:pt x="720" y="370"/>
                      </a:lnTo>
                      <a:lnTo>
                        <a:pt x="717" y="420"/>
                      </a:lnTo>
                      <a:lnTo>
                        <a:pt x="689" y="487"/>
                      </a:lnTo>
                      <a:lnTo>
                        <a:pt x="654" y="519"/>
                      </a:lnTo>
                      <a:lnTo>
                        <a:pt x="610" y="487"/>
                      </a:lnTo>
                      <a:lnTo>
                        <a:pt x="621" y="435"/>
                      </a:lnTo>
                      <a:lnTo>
                        <a:pt x="564" y="528"/>
                      </a:lnTo>
                      <a:lnTo>
                        <a:pt x="518" y="503"/>
                      </a:lnTo>
                      <a:lnTo>
                        <a:pt x="534" y="449"/>
                      </a:lnTo>
                      <a:lnTo>
                        <a:pt x="537" y="397"/>
                      </a:lnTo>
                      <a:lnTo>
                        <a:pt x="523" y="357"/>
                      </a:lnTo>
                      <a:lnTo>
                        <a:pt x="481" y="307"/>
                      </a:lnTo>
                      <a:lnTo>
                        <a:pt x="392" y="355"/>
                      </a:lnTo>
                      <a:lnTo>
                        <a:pt x="330" y="386"/>
                      </a:lnTo>
                      <a:lnTo>
                        <a:pt x="261" y="424"/>
                      </a:lnTo>
                      <a:lnTo>
                        <a:pt x="198" y="465"/>
                      </a:lnTo>
                      <a:lnTo>
                        <a:pt x="160" y="514"/>
                      </a:lnTo>
                      <a:lnTo>
                        <a:pt x="120" y="556"/>
                      </a:lnTo>
                      <a:lnTo>
                        <a:pt x="89" y="601"/>
                      </a:lnTo>
                      <a:lnTo>
                        <a:pt x="42" y="582"/>
                      </a:lnTo>
                      <a:lnTo>
                        <a:pt x="10" y="554"/>
                      </a:lnTo>
                      <a:lnTo>
                        <a:pt x="0" y="519"/>
                      </a:lnTo>
                      <a:lnTo>
                        <a:pt x="21" y="477"/>
                      </a:lnTo>
                      <a:lnTo>
                        <a:pt x="87" y="409"/>
                      </a:lnTo>
                      <a:lnTo>
                        <a:pt x="156" y="361"/>
                      </a:lnTo>
                      <a:lnTo>
                        <a:pt x="234" y="313"/>
                      </a:lnTo>
                      <a:lnTo>
                        <a:pt x="338" y="261"/>
                      </a:lnTo>
                      <a:lnTo>
                        <a:pt x="411" y="205"/>
                      </a:lnTo>
                      <a:lnTo>
                        <a:pt x="392" y="171"/>
                      </a:lnTo>
                      <a:lnTo>
                        <a:pt x="396" y="151"/>
                      </a:lnTo>
                      <a:lnTo>
                        <a:pt x="354" y="147"/>
                      </a:lnTo>
                      <a:lnTo>
                        <a:pt x="340" y="115"/>
                      </a:lnTo>
                      <a:lnTo>
                        <a:pt x="351" y="79"/>
                      </a:lnTo>
                      <a:lnTo>
                        <a:pt x="372" y="46"/>
                      </a:lnTo>
                      <a:lnTo>
                        <a:pt x="411" y="16"/>
                      </a:lnTo>
                      <a:lnTo>
                        <a:pt x="453" y="4"/>
                      </a:lnTo>
                      <a:lnTo>
                        <a:pt x="485" y="0"/>
                      </a:lnTo>
                      <a:lnTo>
                        <a:pt x="507" y="19"/>
                      </a:lnTo>
                      <a:lnTo>
                        <a:pt x="522" y="40"/>
                      </a:lnTo>
                      <a:lnTo>
                        <a:pt x="511" y="67"/>
                      </a:lnTo>
                      <a:lnTo>
                        <a:pt x="492" y="94"/>
                      </a:lnTo>
                      <a:lnTo>
                        <a:pt x="460" y="124"/>
                      </a:lnTo>
                      <a:lnTo>
                        <a:pt x="427" y="126"/>
                      </a:lnTo>
                      <a:lnTo>
                        <a:pt x="450" y="10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57" name=""/>
                <p:cNvSpPr/>
                <p:nvPr/>
              </p:nvSpPr>
              <p:spPr>
                <a:xfrm flipH="1">
                  <a:off x="6645240" y="92880"/>
                  <a:ext cx="71280" cy="49320"/>
                </a:xfrm>
                <a:custGeom>
                  <a:avLst/>
                  <a:gdLst/>
                  <a:ahLst/>
                  <a:rect l="l" t="t" r="r" b="b"/>
                  <a:pathLst>
                    <a:path w="84" h="78">
                      <a:moveTo>
                        <a:pt x="27" y="0"/>
                      </a:moveTo>
                      <a:lnTo>
                        <a:pt x="55" y="20"/>
                      </a:lnTo>
                      <a:lnTo>
                        <a:pt x="81" y="49"/>
                      </a:lnTo>
                      <a:lnTo>
                        <a:pt x="84" y="75"/>
                      </a:lnTo>
                      <a:lnTo>
                        <a:pt x="58" y="78"/>
                      </a:lnTo>
                      <a:lnTo>
                        <a:pt x="18" y="43"/>
                      </a:lnTo>
                      <a:lnTo>
                        <a:pt x="0" y="3"/>
                      </a:lnTo>
                      <a:lnTo>
                        <a:pt x="2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358" name=""/>
            <p:cNvGrpSpPr/>
            <p:nvPr/>
          </p:nvGrpSpPr>
          <p:grpSpPr>
            <a:xfrm>
              <a:off x="6988320" y="245520"/>
              <a:ext cx="493200" cy="774360"/>
              <a:chOff x="6988320" y="245520"/>
              <a:chExt cx="493200" cy="774360"/>
            </a:xfrm>
          </p:grpSpPr>
          <p:sp>
            <p:nvSpPr>
              <p:cNvPr id="6359" name=""/>
              <p:cNvSpPr/>
              <p:nvPr/>
            </p:nvSpPr>
            <p:spPr>
              <a:xfrm flipH="1">
                <a:off x="7121160" y="367200"/>
                <a:ext cx="288720" cy="146520"/>
              </a:xfrm>
              <a:custGeom>
                <a:avLst/>
                <a:gdLst/>
                <a:ahLst/>
                <a:rect l="l" t="t" r="r" b="b"/>
                <a:pathLst>
                  <a:path w="339" h="232">
                    <a:moveTo>
                      <a:pt x="120" y="72"/>
                    </a:moveTo>
                    <a:lnTo>
                      <a:pt x="152" y="34"/>
                    </a:lnTo>
                    <a:lnTo>
                      <a:pt x="194" y="7"/>
                    </a:lnTo>
                    <a:lnTo>
                      <a:pt x="236" y="0"/>
                    </a:lnTo>
                    <a:lnTo>
                      <a:pt x="280" y="0"/>
                    </a:lnTo>
                    <a:lnTo>
                      <a:pt x="310" y="12"/>
                    </a:lnTo>
                    <a:lnTo>
                      <a:pt x="327" y="34"/>
                    </a:lnTo>
                    <a:lnTo>
                      <a:pt x="336" y="64"/>
                    </a:lnTo>
                    <a:lnTo>
                      <a:pt x="339" y="96"/>
                    </a:lnTo>
                    <a:lnTo>
                      <a:pt x="332" y="128"/>
                    </a:lnTo>
                    <a:lnTo>
                      <a:pt x="306" y="162"/>
                    </a:lnTo>
                    <a:lnTo>
                      <a:pt x="270" y="192"/>
                    </a:lnTo>
                    <a:lnTo>
                      <a:pt x="227" y="215"/>
                    </a:lnTo>
                    <a:lnTo>
                      <a:pt x="189" y="232"/>
                    </a:lnTo>
                    <a:lnTo>
                      <a:pt x="152" y="230"/>
                    </a:lnTo>
                    <a:lnTo>
                      <a:pt x="132" y="221"/>
                    </a:lnTo>
                    <a:lnTo>
                      <a:pt x="117" y="211"/>
                    </a:lnTo>
                    <a:lnTo>
                      <a:pt x="99" y="192"/>
                    </a:lnTo>
                    <a:lnTo>
                      <a:pt x="88" y="151"/>
                    </a:lnTo>
                    <a:lnTo>
                      <a:pt x="95" y="118"/>
                    </a:lnTo>
                    <a:lnTo>
                      <a:pt x="67" y="134"/>
                    </a:lnTo>
                    <a:lnTo>
                      <a:pt x="32" y="146"/>
                    </a:lnTo>
                    <a:lnTo>
                      <a:pt x="12" y="146"/>
                    </a:lnTo>
                    <a:lnTo>
                      <a:pt x="0" y="134"/>
                    </a:lnTo>
                    <a:lnTo>
                      <a:pt x="0" y="118"/>
                    </a:lnTo>
                    <a:lnTo>
                      <a:pt x="24" y="113"/>
                    </a:lnTo>
                    <a:lnTo>
                      <a:pt x="53" y="104"/>
                    </a:lnTo>
                    <a:lnTo>
                      <a:pt x="90" y="87"/>
                    </a:lnTo>
                    <a:lnTo>
                      <a:pt x="12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0" name=""/>
              <p:cNvSpPr/>
              <p:nvPr/>
            </p:nvSpPr>
            <p:spPr>
              <a:xfrm flipH="1">
                <a:off x="7251120" y="515520"/>
                <a:ext cx="191880" cy="231840"/>
              </a:xfrm>
              <a:custGeom>
                <a:avLst/>
                <a:gdLst/>
                <a:ahLst/>
                <a:rect l="l" t="t" r="r" b="b"/>
                <a:pathLst>
                  <a:path w="225" h="364">
                    <a:moveTo>
                      <a:pt x="63" y="38"/>
                    </a:moveTo>
                    <a:lnTo>
                      <a:pt x="92" y="12"/>
                    </a:lnTo>
                    <a:lnTo>
                      <a:pt x="129" y="0"/>
                    </a:lnTo>
                    <a:lnTo>
                      <a:pt x="161" y="2"/>
                    </a:lnTo>
                    <a:lnTo>
                      <a:pt x="197" y="11"/>
                    </a:lnTo>
                    <a:lnTo>
                      <a:pt x="219" y="29"/>
                    </a:lnTo>
                    <a:lnTo>
                      <a:pt x="225" y="55"/>
                    </a:lnTo>
                    <a:lnTo>
                      <a:pt x="209" y="89"/>
                    </a:lnTo>
                    <a:lnTo>
                      <a:pt x="181" y="121"/>
                    </a:lnTo>
                    <a:lnTo>
                      <a:pt x="167" y="159"/>
                    </a:lnTo>
                    <a:lnTo>
                      <a:pt x="167" y="195"/>
                    </a:lnTo>
                    <a:lnTo>
                      <a:pt x="181" y="221"/>
                    </a:lnTo>
                    <a:lnTo>
                      <a:pt x="199" y="237"/>
                    </a:lnTo>
                    <a:lnTo>
                      <a:pt x="213" y="258"/>
                    </a:lnTo>
                    <a:lnTo>
                      <a:pt x="214" y="284"/>
                    </a:lnTo>
                    <a:lnTo>
                      <a:pt x="208" y="316"/>
                    </a:lnTo>
                    <a:lnTo>
                      <a:pt x="193" y="337"/>
                    </a:lnTo>
                    <a:lnTo>
                      <a:pt x="161" y="355"/>
                    </a:lnTo>
                    <a:lnTo>
                      <a:pt x="127" y="364"/>
                    </a:lnTo>
                    <a:lnTo>
                      <a:pt x="96" y="358"/>
                    </a:lnTo>
                    <a:lnTo>
                      <a:pt x="63" y="348"/>
                    </a:lnTo>
                    <a:lnTo>
                      <a:pt x="36" y="322"/>
                    </a:lnTo>
                    <a:lnTo>
                      <a:pt x="17" y="290"/>
                    </a:lnTo>
                    <a:lnTo>
                      <a:pt x="4" y="248"/>
                    </a:lnTo>
                    <a:lnTo>
                      <a:pt x="0" y="199"/>
                    </a:lnTo>
                    <a:lnTo>
                      <a:pt x="6" y="147"/>
                    </a:lnTo>
                    <a:lnTo>
                      <a:pt x="20" y="106"/>
                    </a:lnTo>
                    <a:lnTo>
                      <a:pt x="38" y="63"/>
                    </a:lnTo>
                    <a:lnTo>
                      <a:pt x="63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1" name=""/>
              <p:cNvSpPr/>
              <p:nvPr/>
            </p:nvSpPr>
            <p:spPr>
              <a:xfrm flipH="1">
                <a:off x="7136640" y="700200"/>
                <a:ext cx="201600" cy="319680"/>
              </a:xfrm>
              <a:custGeom>
                <a:avLst/>
                <a:gdLst/>
                <a:ahLst/>
                <a:rect l="l" t="t" r="r" b="b"/>
                <a:pathLst>
                  <a:path w="237" h="504">
                    <a:moveTo>
                      <a:pt x="17" y="115"/>
                    </a:moveTo>
                    <a:lnTo>
                      <a:pt x="0" y="53"/>
                    </a:lnTo>
                    <a:lnTo>
                      <a:pt x="2" y="11"/>
                    </a:lnTo>
                    <a:lnTo>
                      <a:pt x="26" y="0"/>
                    </a:lnTo>
                    <a:lnTo>
                      <a:pt x="58" y="5"/>
                    </a:lnTo>
                    <a:lnTo>
                      <a:pt x="75" y="26"/>
                    </a:lnTo>
                    <a:lnTo>
                      <a:pt x="80" y="98"/>
                    </a:lnTo>
                    <a:lnTo>
                      <a:pt x="96" y="167"/>
                    </a:lnTo>
                    <a:lnTo>
                      <a:pt x="113" y="229"/>
                    </a:lnTo>
                    <a:lnTo>
                      <a:pt x="139" y="278"/>
                    </a:lnTo>
                    <a:lnTo>
                      <a:pt x="167" y="308"/>
                    </a:lnTo>
                    <a:lnTo>
                      <a:pt x="188" y="352"/>
                    </a:lnTo>
                    <a:lnTo>
                      <a:pt x="208" y="384"/>
                    </a:lnTo>
                    <a:lnTo>
                      <a:pt x="225" y="399"/>
                    </a:lnTo>
                    <a:lnTo>
                      <a:pt x="237" y="420"/>
                    </a:lnTo>
                    <a:lnTo>
                      <a:pt x="231" y="441"/>
                    </a:lnTo>
                    <a:lnTo>
                      <a:pt x="219" y="447"/>
                    </a:lnTo>
                    <a:lnTo>
                      <a:pt x="193" y="456"/>
                    </a:lnTo>
                    <a:lnTo>
                      <a:pt x="156" y="462"/>
                    </a:lnTo>
                    <a:lnTo>
                      <a:pt x="112" y="492"/>
                    </a:lnTo>
                    <a:lnTo>
                      <a:pt x="98" y="504"/>
                    </a:lnTo>
                    <a:lnTo>
                      <a:pt x="80" y="499"/>
                    </a:lnTo>
                    <a:lnTo>
                      <a:pt x="66" y="478"/>
                    </a:lnTo>
                    <a:lnTo>
                      <a:pt x="71" y="460"/>
                    </a:lnTo>
                    <a:lnTo>
                      <a:pt x="98" y="441"/>
                    </a:lnTo>
                    <a:lnTo>
                      <a:pt x="155" y="424"/>
                    </a:lnTo>
                    <a:lnTo>
                      <a:pt x="173" y="418"/>
                    </a:lnTo>
                    <a:lnTo>
                      <a:pt x="182" y="399"/>
                    </a:lnTo>
                    <a:lnTo>
                      <a:pt x="173" y="388"/>
                    </a:lnTo>
                    <a:lnTo>
                      <a:pt x="146" y="352"/>
                    </a:lnTo>
                    <a:lnTo>
                      <a:pt x="119" y="310"/>
                    </a:lnTo>
                    <a:lnTo>
                      <a:pt x="87" y="266"/>
                    </a:lnTo>
                    <a:lnTo>
                      <a:pt x="64" y="218"/>
                    </a:lnTo>
                    <a:lnTo>
                      <a:pt x="39" y="167"/>
                    </a:lnTo>
                    <a:lnTo>
                      <a:pt x="17" y="1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2" name=""/>
              <p:cNvSpPr/>
              <p:nvPr/>
            </p:nvSpPr>
            <p:spPr>
              <a:xfrm flipH="1">
                <a:off x="7340400" y="693000"/>
                <a:ext cx="140760" cy="313560"/>
              </a:xfrm>
              <a:custGeom>
                <a:avLst/>
                <a:gdLst/>
                <a:ahLst/>
                <a:rect l="l" t="t" r="r" b="b"/>
                <a:pathLst>
                  <a:path w="165" h="496">
                    <a:moveTo>
                      <a:pt x="67" y="143"/>
                    </a:moveTo>
                    <a:lnTo>
                      <a:pt x="78" y="70"/>
                    </a:lnTo>
                    <a:lnTo>
                      <a:pt x="101" y="16"/>
                    </a:lnTo>
                    <a:lnTo>
                      <a:pt x="146" y="0"/>
                    </a:lnTo>
                    <a:lnTo>
                      <a:pt x="165" y="24"/>
                    </a:lnTo>
                    <a:lnTo>
                      <a:pt x="160" y="70"/>
                    </a:lnTo>
                    <a:lnTo>
                      <a:pt x="124" y="132"/>
                    </a:lnTo>
                    <a:lnTo>
                      <a:pt x="106" y="207"/>
                    </a:lnTo>
                    <a:lnTo>
                      <a:pt x="100" y="265"/>
                    </a:lnTo>
                    <a:lnTo>
                      <a:pt x="101" y="290"/>
                    </a:lnTo>
                    <a:lnTo>
                      <a:pt x="121" y="332"/>
                    </a:lnTo>
                    <a:lnTo>
                      <a:pt x="132" y="370"/>
                    </a:lnTo>
                    <a:lnTo>
                      <a:pt x="132" y="416"/>
                    </a:lnTo>
                    <a:lnTo>
                      <a:pt x="129" y="437"/>
                    </a:lnTo>
                    <a:lnTo>
                      <a:pt x="135" y="454"/>
                    </a:lnTo>
                    <a:lnTo>
                      <a:pt x="132" y="473"/>
                    </a:lnTo>
                    <a:lnTo>
                      <a:pt x="113" y="475"/>
                    </a:lnTo>
                    <a:lnTo>
                      <a:pt x="75" y="475"/>
                    </a:lnTo>
                    <a:lnTo>
                      <a:pt x="33" y="484"/>
                    </a:lnTo>
                    <a:lnTo>
                      <a:pt x="11" y="496"/>
                    </a:lnTo>
                    <a:lnTo>
                      <a:pt x="0" y="479"/>
                    </a:lnTo>
                    <a:lnTo>
                      <a:pt x="9" y="452"/>
                    </a:lnTo>
                    <a:lnTo>
                      <a:pt x="36" y="439"/>
                    </a:lnTo>
                    <a:lnTo>
                      <a:pt x="67" y="439"/>
                    </a:lnTo>
                    <a:lnTo>
                      <a:pt x="95" y="433"/>
                    </a:lnTo>
                    <a:lnTo>
                      <a:pt x="101" y="418"/>
                    </a:lnTo>
                    <a:lnTo>
                      <a:pt x="96" y="380"/>
                    </a:lnTo>
                    <a:lnTo>
                      <a:pt x="84" y="326"/>
                    </a:lnTo>
                    <a:lnTo>
                      <a:pt x="62" y="286"/>
                    </a:lnTo>
                    <a:lnTo>
                      <a:pt x="58" y="244"/>
                    </a:lnTo>
                    <a:lnTo>
                      <a:pt x="62" y="206"/>
                    </a:lnTo>
                    <a:lnTo>
                      <a:pt x="67" y="1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3" name=""/>
              <p:cNvSpPr/>
              <p:nvPr/>
            </p:nvSpPr>
            <p:spPr>
              <a:xfrm flipH="1">
                <a:off x="6988320" y="287280"/>
                <a:ext cx="324720" cy="306360"/>
              </a:xfrm>
              <a:custGeom>
                <a:avLst/>
                <a:gdLst/>
                <a:ahLst/>
                <a:rect l="l" t="t" r="r" b="b"/>
                <a:pathLst>
                  <a:path w="380" h="482">
                    <a:moveTo>
                      <a:pt x="100" y="386"/>
                    </a:moveTo>
                    <a:lnTo>
                      <a:pt x="46" y="386"/>
                    </a:lnTo>
                    <a:lnTo>
                      <a:pt x="0" y="401"/>
                    </a:lnTo>
                    <a:lnTo>
                      <a:pt x="9" y="442"/>
                    </a:lnTo>
                    <a:lnTo>
                      <a:pt x="41" y="450"/>
                    </a:lnTo>
                    <a:lnTo>
                      <a:pt x="103" y="445"/>
                    </a:lnTo>
                    <a:lnTo>
                      <a:pt x="173" y="455"/>
                    </a:lnTo>
                    <a:lnTo>
                      <a:pt x="269" y="478"/>
                    </a:lnTo>
                    <a:lnTo>
                      <a:pt x="300" y="482"/>
                    </a:lnTo>
                    <a:lnTo>
                      <a:pt x="315" y="463"/>
                    </a:lnTo>
                    <a:lnTo>
                      <a:pt x="327" y="416"/>
                    </a:lnTo>
                    <a:lnTo>
                      <a:pt x="336" y="247"/>
                    </a:lnTo>
                    <a:lnTo>
                      <a:pt x="336" y="176"/>
                    </a:lnTo>
                    <a:lnTo>
                      <a:pt x="333" y="120"/>
                    </a:lnTo>
                    <a:lnTo>
                      <a:pt x="354" y="96"/>
                    </a:lnTo>
                    <a:lnTo>
                      <a:pt x="375" y="65"/>
                    </a:lnTo>
                    <a:lnTo>
                      <a:pt x="378" y="42"/>
                    </a:lnTo>
                    <a:lnTo>
                      <a:pt x="380" y="0"/>
                    </a:lnTo>
                    <a:lnTo>
                      <a:pt x="301" y="75"/>
                    </a:lnTo>
                    <a:lnTo>
                      <a:pt x="289" y="116"/>
                    </a:lnTo>
                    <a:lnTo>
                      <a:pt x="310" y="147"/>
                    </a:lnTo>
                    <a:lnTo>
                      <a:pt x="310" y="242"/>
                    </a:lnTo>
                    <a:lnTo>
                      <a:pt x="300" y="312"/>
                    </a:lnTo>
                    <a:lnTo>
                      <a:pt x="291" y="373"/>
                    </a:lnTo>
                    <a:lnTo>
                      <a:pt x="278" y="415"/>
                    </a:lnTo>
                    <a:lnTo>
                      <a:pt x="262" y="442"/>
                    </a:lnTo>
                    <a:lnTo>
                      <a:pt x="220" y="425"/>
                    </a:lnTo>
                    <a:lnTo>
                      <a:pt x="162" y="404"/>
                    </a:lnTo>
                    <a:lnTo>
                      <a:pt x="100" y="38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4" name=""/>
              <p:cNvSpPr/>
              <p:nvPr/>
            </p:nvSpPr>
            <p:spPr>
              <a:xfrm flipH="1">
                <a:off x="7028640" y="245520"/>
                <a:ext cx="427320" cy="329040"/>
              </a:xfrm>
              <a:custGeom>
                <a:avLst/>
                <a:gdLst/>
                <a:ahLst/>
                <a:rect l="l" t="t" r="r" b="b"/>
                <a:pathLst>
                  <a:path w="503" h="518">
                    <a:moveTo>
                      <a:pt x="140" y="462"/>
                    </a:moveTo>
                    <a:lnTo>
                      <a:pt x="152" y="486"/>
                    </a:lnTo>
                    <a:lnTo>
                      <a:pt x="140" y="511"/>
                    </a:lnTo>
                    <a:lnTo>
                      <a:pt x="92" y="518"/>
                    </a:lnTo>
                    <a:lnTo>
                      <a:pt x="83" y="476"/>
                    </a:lnTo>
                    <a:lnTo>
                      <a:pt x="53" y="399"/>
                    </a:lnTo>
                    <a:lnTo>
                      <a:pt x="26" y="314"/>
                    </a:lnTo>
                    <a:lnTo>
                      <a:pt x="5" y="245"/>
                    </a:lnTo>
                    <a:lnTo>
                      <a:pt x="0" y="188"/>
                    </a:lnTo>
                    <a:lnTo>
                      <a:pt x="14" y="152"/>
                    </a:lnTo>
                    <a:lnTo>
                      <a:pt x="51" y="120"/>
                    </a:lnTo>
                    <a:lnTo>
                      <a:pt x="172" y="82"/>
                    </a:lnTo>
                    <a:lnTo>
                      <a:pt x="283" y="63"/>
                    </a:lnTo>
                    <a:lnTo>
                      <a:pt x="363" y="45"/>
                    </a:lnTo>
                    <a:lnTo>
                      <a:pt x="414" y="30"/>
                    </a:lnTo>
                    <a:lnTo>
                      <a:pt x="441" y="14"/>
                    </a:lnTo>
                    <a:lnTo>
                      <a:pt x="476" y="0"/>
                    </a:lnTo>
                    <a:lnTo>
                      <a:pt x="503" y="14"/>
                    </a:lnTo>
                    <a:lnTo>
                      <a:pt x="497" y="45"/>
                    </a:lnTo>
                    <a:lnTo>
                      <a:pt x="473" y="74"/>
                    </a:lnTo>
                    <a:lnTo>
                      <a:pt x="441" y="87"/>
                    </a:lnTo>
                    <a:lnTo>
                      <a:pt x="408" y="74"/>
                    </a:lnTo>
                    <a:lnTo>
                      <a:pt x="382" y="66"/>
                    </a:lnTo>
                    <a:lnTo>
                      <a:pt x="315" y="84"/>
                    </a:lnTo>
                    <a:lnTo>
                      <a:pt x="211" y="108"/>
                    </a:lnTo>
                    <a:lnTo>
                      <a:pt x="126" y="135"/>
                    </a:lnTo>
                    <a:lnTo>
                      <a:pt x="62" y="158"/>
                    </a:lnTo>
                    <a:lnTo>
                      <a:pt x="45" y="179"/>
                    </a:lnTo>
                    <a:lnTo>
                      <a:pt x="42" y="204"/>
                    </a:lnTo>
                    <a:lnTo>
                      <a:pt x="56" y="261"/>
                    </a:lnTo>
                    <a:lnTo>
                      <a:pt x="87" y="344"/>
                    </a:lnTo>
                    <a:lnTo>
                      <a:pt x="124" y="420"/>
                    </a:lnTo>
                    <a:lnTo>
                      <a:pt x="140" y="4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365" name=""/>
          <p:cNvSpPr/>
          <p:nvPr/>
        </p:nvSpPr>
        <p:spPr>
          <a:xfrm>
            <a:off x="5027760" y="6513480"/>
            <a:ext cx="1293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600" spc="-1" strike="noStrike">
                <a:solidFill>
                  <a:srgbClr val="000000"/>
                </a:solidFill>
                <a:latin typeface="Times New Roman"/>
              </a:rPr>
              <a:t>Zpětná vazb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6" name=""/>
          <p:cNvSpPr/>
          <p:nvPr/>
        </p:nvSpPr>
        <p:spPr>
          <a:xfrm>
            <a:off x="735120" y="6521400"/>
            <a:ext cx="1293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600" spc="-1" strike="noStrike">
                <a:solidFill>
                  <a:srgbClr val="000000"/>
                </a:solidFill>
                <a:latin typeface="Times New Roman"/>
              </a:rPr>
              <a:t>Zpětná vazb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7" name=""/>
          <p:cNvSpPr/>
          <p:nvPr/>
        </p:nvSpPr>
        <p:spPr>
          <a:xfrm>
            <a:off x="4648320" y="3409920"/>
            <a:ext cx="1216080" cy="2085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68" name=""/>
          <p:cNvGrpSpPr/>
          <p:nvPr/>
        </p:nvGrpSpPr>
        <p:grpSpPr>
          <a:xfrm>
            <a:off x="30960" y="76320"/>
            <a:ext cx="9014760" cy="6728040"/>
            <a:chOff x="30960" y="76320"/>
            <a:chExt cx="9014760" cy="6728040"/>
          </a:xfrm>
        </p:grpSpPr>
        <p:grpSp>
          <p:nvGrpSpPr>
            <p:cNvPr id="6369" name=""/>
            <p:cNvGrpSpPr/>
            <p:nvPr/>
          </p:nvGrpSpPr>
          <p:grpSpPr>
            <a:xfrm>
              <a:off x="304920" y="76320"/>
              <a:ext cx="8740800" cy="6728040"/>
              <a:chOff x="304920" y="76320"/>
              <a:chExt cx="8740800" cy="6728040"/>
            </a:xfrm>
          </p:grpSpPr>
          <p:sp>
            <p:nvSpPr>
              <p:cNvPr id="6370" name=""/>
              <p:cNvSpPr/>
              <p:nvPr/>
            </p:nvSpPr>
            <p:spPr>
              <a:xfrm>
                <a:off x="3311640" y="1506600"/>
                <a:ext cx="2209680" cy="5046480"/>
              </a:xfrm>
              <a:custGeom>
                <a:avLst/>
                <a:gdLst/>
                <a:ahLst/>
                <a:rect l="l" t="t" r="r" b="b"/>
                <a:pathLst>
                  <a:path w="1392" h="3179">
                    <a:moveTo>
                      <a:pt x="1320" y="1675"/>
                    </a:moveTo>
                    <a:cubicBezTo>
                      <a:pt x="1318" y="1684"/>
                      <a:pt x="1300" y="1706"/>
                      <a:pt x="1297" y="1727"/>
                    </a:cubicBezTo>
                    <a:cubicBezTo>
                      <a:pt x="1294" y="1747"/>
                      <a:pt x="1310" y="1777"/>
                      <a:pt x="1306" y="1796"/>
                    </a:cubicBezTo>
                    <a:lnTo>
                      <a:pt x="1273" y="1839"/>
                    </a:lnTo>
                    <a:cubicBezTo>
                      <a:pt x="1255" y="1843"/>
                      <a:pt x="1216" y="1833"/>
                      <a:pt x="1196" y="1826"/>
                    </a:cubicBezTo>
                    <a:lnTo>
                      <a:pt x="1153" y="1796"/>
                    </a:lnTo>
                    <a:cubicBezTo>
                      <a:pt x="1144" y="1775"/>
                      <a:pt x="1142" y="1735"/>
                      <a:pt x="1144" y="1701"/>
                    </a:cubicBezTo>
                    <a:cubicBezTo>
                      <a:pt x="1147" y="1667"/>
                      <a:pt x="1170" y="1629"/>
                      <a:pt x="1168" y="1593"/>
                    </a:cubicBezTo>
                    <a:cubicBezTo>
                      <a:pt x="1165" y="1557"/>
                      <a:pt x="1147" y="1539"/>
                      <a:pt x="1125" y="1486"/>
                    </a:cubicBezTo>
                    <a:cubicBezTo>
                      <a:pt x="1104" y="1433"/>
                      <a:pt x="1056" y="1328"/>
                      <a:pt x="1039" y="1274"/>
                    </a:cubicBezTo>
                    <a:cubicBezTo>
                      <a:pt x="1022" y="1221"/>
                      <a:pt x="1029" y="1199"/>
                      <a:pt x="1025" y="1163"/>
                    </a:cubicBezTo>
                    <a:cubicBezTo>
                      <a:pt x="1021" y="1126"/>
                      <a:pt x="1028" y="1103"/>
                      <a:pt x="1020" y="1055"/>
                    </a:cubicBezTo>
                    <a:lnTo>
                      <a:pt x="982" y="875"/>
                    </a:lnTo>
                    <a:cubicBezTo>
                      <a:pt x="967" y="872"/>
                      <a:pt x="942" y="978"/>
                      <a:pt x="930" y="1034"/>
                    </a:cubicBezTo>
                    <a:cubicBezTo>
                      <a:pt x="917" y="1090"/>
                      <a:pt x="907" y="1164"/>
                      <a:pt x="906" y="1210"/>
                    </a:cubicBezTo>
                    <a:cubicBezTo>
                      <a:pt x="906" y="1257"/>
                      <a:pt x="920" y="1270"/>
                      <a:pt x="925" y="1309"/>
                    </a:cubicBezTo>
                    <a:cubicBezTo>
                      <a:pt x="931" y="1349"/>
                      <a:pt x="934" y="1401"/>
                      <a:pt x="940" y="1447"/>
                    </a:cubicBezTo>
                    <a:cubicBezTo>
                      <a:pt x="945" y="1493"/>
                      <a:pt x="950" y="1539"/>
                      <a:pt x="959" y="1589"/>
                    </a:cubicBezTo>
                    <a:cubicBezTo>
                      <a:pt x="967" y="1638"/>
                      <a:pt x="982" y="1692"/>
                      <a:pt x="987" y="1744"/>
                    </a:cubicBezTo>
                    <a:cubicBezTo>
                      <a:pt x="993" y="1796"/>
                      <a:pt x="990" y="1848"/>
                      <a:pt x="992" y="1899"/>
                    </a:cubicBezTo>
                    <a:cubicBezTo>
                      <a:pt x="994" y="1949"/>
                      <a:pt x="998" y="2002"/>
                      <a:pt x="996" y="2045"/>
                    </a:cubicBezTo>
                    <a:cubicBezTo>
                      <a:pt x="994" y="2088"/>
                      <a:pt x="984" y="2117"/>
                      <a:pt x="982" y="2157"/>
                    </a:cubicBezTo>
                    <a:cubicBezTo>
                      <a:pt x="980" y="2197"/>
                      <a:pt x="993" y="2249"/>
                      <a:pt x="987" y="2282"/>
                    </a:cubicBezTo>
                    <a:lnTo>
                      <a:pt x="949" y="2359"/>
                    </a:lnTo>
                    <a:lnTo>
                      <a:pt x="944" y="2463"/>
                    </a:lnTo>
                    <a:cubicBezTo>
                      <a:pt x="940" y="2506"/>
                      <a:pt x="937" y="2562"/>
                      <a:pt x="920" y="2617"/>
                    </a:cubicBezTo>
                    <a:cubicBezTo>
                      <a:pt x="903" y="2672"/>
                      <a:pt x="853" y="2742"/>
                      <a:pt x="844" y="2794"/>
                    </a:cubicBezTo>
                    <a:cubicBezTo>
                      <a:pt x="835" y="2846"/>
                      <a:pt x="858" y="2898"/>
                      <a:pt x="863" y="2927"/>
                    </a:cubicBezTo>
                    <a:cubicBezTo>
                      <a:pt x="869" y="2956"/>
                      <a:pt x="875" y="2958"/>
                      <a:pt x="878" y="2970"/>
                    </a:cubicBezTo>
                    <a:lnTo>
                      <a:pt x="878" y="3000"/>
                    </a:lnTo>
                    <a:cubicBezTo>
                      <a:pt x="887" y="3015"/>
                      <a:pt x="915" y="3037"/>
                      <a:pt x="934" y="3061"/>
                    </a:cubicBezTo>
                    <a:cubicBezTo>
                      <a:pt x="953" y="3084"/>
                      <a:pt x="994" y="3126"/>
                      <a:pt x="992" y="3143"/>
                    </a:cubicBezTo>
                    <a:cubicBezTo>
                      <a:pt x="990" y="3160"/>
                      <a:pt x="951" y="3161"/>
                      <a:pt x="925" y="3164"/>
                    </a:cubicBezTo>
                    <a:cubicBezTo>
                      <a:pt x="899" y="3166"/>
                      <a:pt x="859" y="3164"/>
                      <a:pt x="835" y="3155"/>
                    </a:cubicBezTo>
                    <a:lnTo>
                      <a:pt x="782" y="3108"/>
                    </a:lnTo>
                    <a:cubicBezTo>
                      <a:pt x="772" y="3089"/>
                      <a:pt x="787" y="3069"/>
                      <a:pt x="773" y="3044"/>
                    </a:cubicBezTo>
                    <a:cubicBezTo>
                      <a:pt x="758" y="3019"/>
                      <a:pt x="712" y="2976"/>
                      <a:pt x="696" y="2957"/>
                    </a:cubicBezTo>
                    <a:lnTo>
                      <a:pt x="682" y="2927"/>
                    </a:lnTo>
                    <a:lnTo>
                      <a:pt x="725" y="2867"/>
                    </a:lnTo>
                    <a:lnTo>
                      <a:pt x="740" y="2746"/>
                    </a:lnTo>
                    <a:cubicBezTo>
                      <a:pt x="741" y="2709"/>
                      <a:pt x="738" y="2675"/>
                      <a:pt x="734" y="2643"/>
                    </a:cubicBezTo>
                    <a:cubicBezTo>
                      <a:pt x="731" y="2612"/>
                      <a:pt x="718" y="2584"/>
                      <a:pt x="715" y="2557"/>
                    </a:cubicBezTo>
                    <a:cubicBezTo>
                      <a:pt x="713" y="2529"/>
                      <a:pt x="716" y="2505"/>
                      <a:pt x="721" y="2480"/>
                    </a:cubicBezTo>
                    <a:cubicBezTo>
                      <a:pt x="725" y="2454"/>
                      <a:pt x="734" y="2428"/>
                      <a:pt x="744" y="2407"/>
                    </a:cubicBezTo>
                    <a:cubicBezTo>
                      <a:pt x="754" y="2386"/>
                      <a:pt x="780" y="2376"/>
                      <a:pt x="782" y="2351"/>
                    </a:cubicBezTo>
                    <a:lnTo>
                      <a:pt x="753" y="2256"/>
                    </a:lnTo>
                    <a:cubicBezTo>
                      <a:pt x="745" y="2221"/>
                      <a:pt x="739" y="2178"/>
                      <a:pt x="734" y="2139"/>
                    </a:cubicBezTo>
                    <a:cubicBezTo>
                      <a:pt x="730" y="2100"/>
                      <a:pt x="732" y="2063"/>
                      <a:pt x="725" y="2023"/>
                    </a:cubicBezTo>
                    <a:cubicBezTo>
                      <a:pt x="718" y="1984"/>
                      <a:pt x="703" y="1953"/>
                      <a:pt x="692" y="1899"/>
                    </a:cubicBezTo>
                    <a:cubicBezTo>
                      <a:pt x="681" y="1844"/>
                      <a:pt x="668" y="1701"/>
                      <a:pt x="658" y="1697"/>
                    </a:cubicBezTo>
                    <a:cubicBezTo>
                      <a:pt x="648" y="1693"/>
                      <a:pt x="635" y="1821"/>
                      <a:pt x="630" y="1873"/>
                    </a:cubicBezTo>
                    <a:cubicBezTo>
                      <a:pt x="626" y="1924"/>
                      <a:pt x="632" y="1949"/>
                      <a:pt x="630" y="2010"/>
                    </a:cubicBezTo>
                    <a:lnTo>
                      <a:pt x="620" y="2243"/>
                    </a:lnTo>
                    <a:cubicBezTo>
                      <a:pt x="615" y="2304"/>
                      <a:pt x="598" y="2339"/>
                      <a:pt x="596" y="2377"/>
                    </a:cubicBezTo>
                    <a:cubicBezTo>
                      <a:pt x="594" y="2414"/>
                      <a:pt x="607" y="2429"/>
                      <a:pt x="610" y="2467"/>
                    </a:cubicBezTo>
                    <a:cubicBezTo>
                      <a:pt x="614" y="2504"/>
                      <a:pt x="621" y="2555"/>
                      <a:pt x="620" y="2600"/>
                    </a:cubicBezTo>
                    <a:cubicBezTo>
                      <a:pt x="619" y="2646"/>
                      <a:pt x="608" y="2692"/>
                      <a:pt x="606" y="2737"/>
                    </a:cubicBezTo>
                    <a:cubicBezTo>
                      <a:pt x="604" y="2783"/>
                      <a:pt x="607" y="2835"/>
                      <a:pt x="610" y="2875"/>
                    </a:cubicBezTo>
                    <a:lnTo>
                      <a:pt x="625" y="2979"/>
                    </a:lnTo>
                    <a:lnTo>
                      <a:pt x="610" y="3087"/>
                    </a:lnTo>
                    <a:lnTo>
                      <a:pt x="596" y="3151"/>
                    </a:lnTo>
                    <a:cubicBezTo>
                      <a:pt x="574" y="3165"/>
                      <a:pt x="511" y="3179"/>
                      <a:pt x="482" y="3173"/>
                    </a:cubicBezTo>
                    <a:cubicBezTo>
                      <a:pt x="453" y="3166"/>
                      <a:pt x="432" y="3134"/>
                      <a:pt x="425" y="3112"/>
                    </a:cubicBezTo>
                    <a:lnTo>
                      <a:pt x="438" y="3040"/>
                    </a:lnTo>
                    <a:cubicBezTo>
                      <a:pt x="447" y="3014"/>
                      <a:pt x="471" y="2985"/>
                      <a:pt x="481" y="2962"/>
                    </a:cubicBezTo>
                    <a:cubicBezTo>
                      <a:pt x="491" y="2938"/>
                      <a:pt x="496" y="2929"/>
                      <a:pt x="496" y="2897"/>
                    </a:cubicBezTo>
                    <a:cubicBezTo>
                      <a:pt x="496" y="2865"/>
                      <a:pt x="491" y="2809"/>
                      <a:pt x="481" y="2767"/>
                    </a:cubicBezTo>
                    <a:cubicBezTo>
                      <a:pt x="471" y="2726"/>
                      <a:pt x="452" y="2689"/>
                      <a:pt x="438" y="2651"/>
                    </a:cubicBezTo>
                    <a:cubicBezTo>
                      <a:pt x="424" y="2612"/>
                      <a:pt x="402" y="2579"/>
                      <a:pt x="395" y="2534"/>
                    </a:cubicBezTo>
                    <a:cubicBezTo>
                      <a:pt x="388" y="2489"/>
                      <a:pt x="391" y="2424"/>
                      <a:pt x="395" y="2378"/>
                    </a:cubicBezTo>
                    <a:cubicBezTo>
                      <a:pt x="398" y="2333"/>
                      <a:pt x="411" y="2296"/>
                      <a:pt x="416" y="2260"/>
                    </a:cubicBezTo>
                    <a:cubicBezTo>
                      <a:pt x="420" y="2224"/>
                      <a:pt x="425" y="2203"/>
                      <a:pt x="420" y="2165"/>
                    </a:cubicBezTo>
                    <a:cubicBezTo>
                      <a:pt x="415" y="2127"/>
                      <a:pt x="396" y="2088"/>
                      <a:pt x="381" y="2032"/>
                    </a:cubicBezTo>
                    <a:cubicBezTo>
                      <a:pt x="367" y="1976"/>
                      <a:pt x="346" y="1902"/>
                      <a:pt x="334" y="1830"/>
                    </a:cubicBezTo>
                    <a:cubicBezTo>
                      <a:pt x="322" y="1757"/>
                      <a:pt x="313" y="1664"/>
                      <a:pt x="309" y="1600"/>
                    </a:cubicBezTo>
                    <a:cubicBezTo>
                      <a:pt x="304" y="1536"/>
                      <a:pt x="303" y="1501"/>
                      <a:pt x="309" y="1445"/>
                    </a:cubicBezTo>
                    <a:cubicBezTo>
                      <a:pt x="314" y="1388"/>
                      <a:pt x="333" y="1319"/>
                      <a:pt x="339" y="1262"/>
                    </a:cubicBezTo>
                    <a:cubicBezTo>
                      <a:pt x="346" y="1204"/>
                      <a:pt x="354" y="1146"/>
                      <a:pt x="348" y="1099"/>
                    </a:cubicBezTo>
                    <a:cubicBezTo>
                      <a:pt x="343" y="1052"/>
                      <a:pt x="315" y="1018"/>
                      <a:pt x="309" y="978"/>
                    </a:cubicBezTo>
                    <a:cubicBezTo>
                      <a:pt x="302" y="938"/>
                      <a:pt x="316" y="855"/>
                      <a:pt x="309" y="861"/>
                    </a:cubicBezTo>
                    <a:cubicBezTo>
                      <a:pt x="302" y="868"/>
                      <a:pt x="280" y="971"/>
                      <a:pt x="266" y="1017"/>
                    </a:cubicBezTo>
                    <a:cubicBezTo>
                      <a:pt x="251" y="1062"/>
                      <a:pt x="230" y="1101"/>
                      <a:pt x="223" y="1133"/>
                    </a:cubicBezTo>
                    <a:cubicBezTo>
                      <a:pt x="215" y="1166"/>
                      <a:pt x="223" y="1185"/>
                      <a:pt x="223" y="1211"/>
                    </a:cubicBezTo>
                    <a:cubicBezTo>
                      <a:pt x="223" y="1237"/>
                      <a:pt x="230" y="1250"/>
                      <a:pt x="223" y="1289"/>
                    </a:cubicBezTo>
                    <a:cubicBezTo>
                      <a:pt x="215" y="1328"/>
                      <a:pt x="187" y="1393"/>
                      <a:pt x="179" y="1445"/>
                    </a:cubicBezTo>
                    <a:cubicBezTo>
                      <a:pt x="172" y="1497"/>
                      <a:pt x="173" y="1558"/>
                      <a:pt x="179" y="1600"/>
                    </a:cubicBezTo>
                    <a:cubicBezTo>
                      <a:pt x="186" y="1642"/>
                      <a:pt x="208" y="1670"/>
                      <a:pt x="215" y="1696"/>
                    </a:cubicBezTo>
                    <a:cubicBezTo>
                      <a:pt x="223" y="1722"/>
                      <a:pt x="222" y="1740"/>
                      <a:pt x="223" y="1756"/>
                    </a:cubicBezTo>
                    <a:cubicBezTo>
                      <a:pt x="223" y="1772"/>
                      <a:pt x="229" y="1789"/>
                      <a:pt x="223" y="1795"/>
                    </a:cubicBezTo>
                    <a:cubicBezTo>
                      <a:pt x="216" y="1800"/>
                      <a:pt x="194" y="1804"/>
                      <a:pt x="187" y="1791"/>
                    </a:cubicBezTo>
                    <a:cubicBezTo>
                      <a:pt x="179" y="1778"/>
                      <a:pt x="188" y="1716"/>
                      <a:pt x="179" y="1717"/>
                    </a:cubicBezTo>
                    <a:cubicBezTo>
                      <a:pt x="171" y="1718"/>
                      <a:pt x="144" y="1769"/>
                      <a:pt x="136" y="1795"/>
                    </a:cubicBezTo>
                    <a:cubicBezTo>
                      <a:pt x="129" y="1821"/>
                      <a:pt x="141" y="1856"/>
                      <a:pt x="136" y="1873"/>
                    </a:cubicBezTo>
                    <a:cubicBezTo>
                      <a:pt x="132" y="1889"/>
                      <a:pt x="125" y="1894"/>
                      <a:pt x="110" y="1894"/>
                    </a:cubicBezTo>
                    <a:cubicBezTo>
                      <a:pt x="96" y="1894"/>
                      <a:pt x="67" y="1883"/>
                      <a:pt x="50" y="1873"/>
                    </a:cubicBezTo>
                    <a:cubicBezTo>
                      <a:pt x="33" y="1862"/>
                      <a:pt x="14" y="1860"/>
                      <a:pt x="7" y="1834"/>
                    </a:cubicBezTo>
                    <a:cubicBezTo>
                      <a:pt x="0" y="1808"/>
                      <a:pt x="0" y="1756"/>
                      <a:pt x="7" y="1717"/>
                    </a:cubicBezTo>
                    <a:cubicBezTo>
                      <a:pt x="14" y="1678"/>
                      <a:pt x="43" y="1646"/>
                      <a:pt x="50" y="1600"/>
                    </a:cubicBezTo>
                    <a:cubicBezTo>
                      <a:pt x="57" y="1555"/>
                      <a:pt x="52" y="1497"/>
                      <a:pt x="50" y="1445"/>
                    </a:cubicBezTo>
                    <a:cubicBezTo>
                      <a:pt x="48" y="1393"/>
                      <a:pt x="32" y="1337"/>
                      <a:pt x="39" y="1287"/>
                    </a:cubicBezTo>
                    <a:cubicBezTo>
                      <a:pt x="45" y="1238"/>
                      <a:pt x="77" y="1189"/>
                      <a:pt x="86" y="1150"/>
                    </a:cubicBezTo>
                    <a:cubicBezTo>
                      <a:pt x="95" y="1111"/>
                      <a:pt x="85" y="1123"/>
                      <a:pt x="93" y="1056"/>
                    </a:cubicBezTo>
                    <a:cubicBezTo>
                      <a:pt x="101" y="988"/>
                      <a:pt x="122" y="816"/>
                      <a:pt x="136" y="744"/>
                    </a:cubicBezTo>
                    <a:cubicBezTo>
                      <a:pt x="151" y="673"/>
                      <a:pt x="144" y="660"/>
                      <a:pt x="179" y="628"/>
                    </a:cubicBezTo>
                    <a:cubicBezTo>
                      <a:pt x="215" y="595"/>
                      <a:pt x="294" y="576"/>
                      <a:pt x="352" y="550"/>
                    </a:cubicBezTo>
                    <a:cubicBezTo>
                      <a:pt x="409" y="524"/>
                      <a:pt x="494" y="490"/>
                      <a:pt x="524" y="472"/>
                    </a:cubicBezTo>
                    <a:cubicBezTo>
                      <a:pt x="555" y="454"/>
                      <a:pt x="534" y="462"/>
                      <a:pt x="534" y="443"/>
                    </a:cubicBezTo>
                    <a:cubicBezTo>
                      <a:pt x="534" y="424"/>
                      <a:pt x="533" y="389"/>
                      <a:pt x="524" y="355"/>
                    </a:cubicBezTo>
                    <a:cubicBezTo>
                      <a:pt x="515" y="321"/>
                      <a:pt x="487" y="282"/>
                      <a:pt x="481" y="239"/>
                    </a:cubicBezTo>
                    <a:cubicBezTo>
                      <a:pt x="475" y="195"/>
                      <a:pt x="473" y="129"/>
                      <a:pt x="486" y="94"/>
                    </a:cubicBezTo>
                    <a:cubicBezTo>
                      <a:pt x="499" y="59"/>
                      <a:pt x="530" y="43"/>
                      <a:pt x="559" y="28"/>
                    </a:cubicBezTo>
                    <a:cubicBezTo>
                      <a:pt x="588" y="13"/>
                      <a:pt x="627" y="2"/>
                      <a:pt x="660" y="1"/>
                    </a:cubicBezTo>
                    <a:cubicBezTo>
                      <a:pt x="693" y="0"/>
                      <a:pt x="733" y="13"/>
                      <a:pt x="760" y="23"/>
                    </a:cubicBezTo>
                    <a:cubicBezTo>
                      <a:pt x="787" y="33"/>
                      <a:pt x="806" y="45"/>
                      <a:pt x="824" y="60"/>
                    </a:cubicBezTo>
                    <a:cubicBezTo>
                      <a:pt x="842" y="75"/>
                      <a:pt x="865" y="84"/>
                      <a:pt x="867" y="113"/>
                    </a:cubicBezTo>
                    <a:cubicBezTo>
                      <a:pt x="869" y="142"/>
                      <a:pt x="843" y="200"/>
                      <a:pt x="835" y="237"/>
                    </a:cubicBezTo>
                    <a:cubicBezTo>
                      <a:pt x="827" y="274"/>
                      <a:pt x="827" y="304"/>
                      <a:pt x="820" y="336"/>
                    </a:cubicBezTo>
                    <a:cubicBezTo>
                      <a:pt x="813" y="368"/>
                      <a:pt x="801" y="411"/>
                      <a:pt x="792" y="432"/>
                    </a:cubicBezTo>
                    <a:cubicBezTo>
                      <a:pt x="783" y="452"/>
                      <a:pt x="772" y="448"/>
                      <a:pt x="768" y="457"/>
                    </a:cubicBezTo>
                    <a:cubicBezTo>
                      <a:pt x="765" y="466"/>
                      <a:pt x="740" y="471"/>
                      <a:pt x="767" y="487"/>
                    </a:cubicBezTo>
                    <a:cubicBezTo>
                      <a:pt x="794" y="502"/>
                      <a:pt x="878" y="527"/>
                      <a:pt x="930" y="551"/>
                    </a:cubicBezTo>
                    <a:cubicBezTo>
                      <a:pt x="982" y="574"/>
                      <a:pt x="1046" y="592"/>
                      <a:pt x="1082" y="629"/>
                    </a:cubicBezTo>
                    <a:cubicBezTo>
                      <a:pt x="1119" y="665"/>
                      <a:pt x="1134" y="713"/>
                      <a:pt x="1149" y="771"/>
                    </a:cubicBezTo>
                    <a:cubicBezTo>
                      <a:pt x="1163" y="830"/>
                      <a:pt x="1164" y="931"/>
                      <a:pt x="1168" y="981"/>
                    </a:cubicBezTo>
                    <a:cubicBezTo>
                      <a:pt x="1171" y="1031"/>
                      <a:pt x="1165" y="1040"/>
                      <a:pt x="1173" y="1073"/>
                    </a:cubicBezTo>
                    <a:cubicBezTo>
                      <a:pt x="1181" y="1105"/>
                      <a:pt x="1204" y="1129"/>
                      <a:pt x="1216" y="1176"/>
                    </a:cubicBezTo>
                    <a:cubicBezTo>
                      <a:pt x="1228" y="1222"/>
                      <a:pt x="1236" y="1291"/>
                      <a:pt x="1244" y="1348"/>
                    </a:cubicBezTo>
                    <a:cubicBezTo>
                      <a:pt x="1252" y="1405"/>
                      <a:pt x="1249" y="1476"/>
                      <a:pt x="1264" y="1516"/>
                    </a:cubicBezTo>
                    <a:cubicBezTo>
                      <a:pt x="1278" y="1556"/>
                      <a:pt x="1314" y="1559"/>
                      <a:pt x="1330" y="1585"/>
                    </a:cubicBezTo>
                    <a:cubicBezTo>
                      <a:pt x="1346" y="1611"/>
                      <a:pt x="1349" y="1648"/>
                      <a:pt x="1359" y="1674"/>
                    </a:cubicBezTo>
                    <a:cubicBezTo>
                      <a:pt x="1369" y="1700"/>
                      <a:pt x="1392" y="1733"/>
                      <a:pt x="1392" y="1743"/>
                    </a:cubicBezTo>
                    <a:cubicBezTo>
                      <a:pt x="1392" y="1753"/>
                      <a:pt x="1372" y="1746"/>
                      <a:pt x="1359" y="1735"/>
                    </a:cubicBezTo>
                    <a:cubicBezTo>
                      <a:pt x="1345" y="1723"/>
                      <a:pt x="1318" y="1685"/>
                      <a:pt x="1311" y="1675"/>
                    </a:cubicBezTo>
                    <a:lnTo>
                      <a:pt x="1320" y="1675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371" name=""/>
              <p:cNvGrpSpPr/>
              <p:nvPr/>
            </p:nvGrpSpPr>
            <p:grpSpPr>
              <a:xfrm>
                <a:off x="4191120" y="2286000"/>
                <a:ext cx="456480" cy="1065960"/>
                <a:chOff x="4191120" y="2286000"/>
                <a:chExt cx="456480" cy="1065960"/>
              </a:xfrm>
            </p:grpSpPr>
            <p:grpSp>
              <p:nvGrpSpPr>
                <p:cNvPr id="6372" name=""/>
                <p:cNvGrpSpPr/>
                <p:nvPr/>
              </p:nvGrpSpPr>
              <p:grpSpPr>
                <a:xfrm>
                  <a:off x="4191120" y="2673720"/>
                  <a:ext cx="456480" cy="678240"/>
                  <a:chOff x="4191120" y="2673720"/>
                  <a:chExt cx="456480" cy="678240"/>
                </a:xfrm>
              </p:grpSpPr>
              <p:grpSp>
                <p:nvGrpSpPr>
                  <p:cNvPr id="6373" name=""/>
                  <p:cNvGrpSpPr/>
                  <p:nvPr/>
                </p:nvGrpSpPr>
                <p:grpSpPr>
                  <a:xfrm>
                    <a:off x="4194720" y="2673720"/>
                    <a:ext cx="452880" cy="678240"/>
                    <a:chOff x="4194720" y="2673720"/>
                    <a:chExt cx="452880" cy="678240"/>
                  </a:xfrm>
                </p:grpSpPr>
                <p:grpSp>
                  <p:nvGrpSpPr>
                    <p:cNvPr id="6374" name=""/>
                    <p:cNvGrpSpPr/>
                    <p:nvPr/>
                  </p:nvGrpSpPr>
                  <p:grpSpPr>
                    <a:xfrm>
                      <a:off x="4210920" y="2830680"/>
                      <a:ext cx="436680" cy="521280"/>
                      <a:chOff x="4210920" y="2830680"/>
                      <a:chExt cx="436680" cy="521280"/>
                    </a:xfrm>
                  </p:grpSpPr>
                  <p:grpSp>
                    <p:nvGrpSpPr>
                      <p:cNvPr id="6375" name=""/>
                      <p:cNvGrpSpPr/>
                      <p:nvPr/>
                    </p:nvGrpSpPr>
                    <p:grpSpPr>
                      <a:xfrm>
                        <a:off x="4210920" y="2830680"/>
                        <a:ext cx="352080" cy="110160"/>
                        <a:chOff x="4210920" y="2830680"/>
                        <a:chExt cx="352080" cy="110160"/>
                      </a:xfrm>
                    </p:grpSpPr>
                    <p:grpSp>
                      <p:nvGrpSpPr>
                        <p:cNvPr id="6376" name=""/>
                        <p:cNvGrpSpPr/>
                        <p:nvPr/>
                      </p:nvGrpSpPr>
                      <p:grpSpPr>
                        <a:xfrm>
                          <a:off x="4487040" y="2845800"/>
                          <a:ext cx="75960" cy="95040"/>
                          <a:chOff x="4487040" y="2845800"/>
                          <a:chExt cx="75960" cy="95040"/>
                        </a:xfrm>
                      </p:grpSpPr>
                      <p:grpSp>
                        <p:nvGrpSpPr>
                          <p:cNvPr id="6377" name=""/>
                          <p:cNvGrpSpPr/>
                          <p:nvPr/>
                        </p:nvGrpSpPr>
                        <p:grpSpPr>
                          <a:xfrm>
                            <a:off x="4487040" y="2845800"/>
                            <a:ext cx="54360" cy="59400"/>
                            <a:chOff x="4487040" y="2845800"/>
                            <a:chExt cx="54360" cy="59400"/>
                          </a:xfrm>
                        </p:grpSpPr>
                        <p:sp>
                          <p:nvSpPr>
                            <p:cNvPr id="6378" name=""/>
                            <p:cNvSpPr/>
                            <p:nvPr/>
                          </p:nvSpPr>
                          <p:spPr>
                            <a:xfrm>
                              <a:off x="4487040" y="2850480"/>
                              <a:ext cx="49320" cy="4896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198" h="161">
                                  <a:moveTo>
                                    <a:pt x="0" y="161"/>
                                  </a:moveTo>
                                  <a:lnTo>
                                    <a:pt x="18" y="132"/>
                                  </a:lnTo>
                                  <a:lnTo>
                                    <a:pt x="37" y="108"/>
                                  </a:lnTo>
                                  <a:lnTo>
                                    <a:pt x="58" y="81"/>
                                  </a:lnTo>
                                  <a:lnTo>
                                    <a:pt x="82" y="57"/>
                                  </a:lnTo>
                                  <a:lnTo>
                                    <a:pt x="107" y="37"/>
                                  </a:lnTo>
                                  <a:lnTo>
                                    <a:pt x="131" y="23"/>
                                  </a:lnTo>
                                  <a:lnTo>
                                    <a:pt x="150" y="12"/>
                                  </a:lnTo>
                                  <a:lnTo>
                                    <a:pt x="170" y="6"/>
                                  </a:lnTo>
                                  <a:lnTo>
                                    <a:pt x="198" y="0"/>
                                  </a:lnTo>
                                </a:path>
                              </a:pathLst>
                            </a:custGeom>
                            <a:noFill/>
                            <a:ln w="25560">
                              <a:solidFill>
                                <a:srgbClr val="60006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2160" bIns="216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6379" name=""/>
                            <p:cNvSpPr/>
                            <p:nvPr/>
                          </p:nvSpPr>
                          <p:spPr>
                            <a:xfrm>
                              <a:off x="4493160" y="2856240"/>
                              <a:ext cx="48240" cy="4896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195" h="160">
                                  <a:moveTo>
                                    <a:pt x="0" y="160"/>
                                  </a:moveTo>
                                  <a:lnTo>
                                    <a:pt x="19" y="131"/>
                                  </a:lnTo>
                                  <a:lnTo>
                                    <a:pt x="37" y="106"/>
                                  </a:lnTo>
                                  <a:lnTo>
                                    <a:pt x="59" y="80"/>
                                  </a:lnTo>
                                  <a:lnTo>
                                    <a:pt x="82" y="55"/>
                                  </a:lnTo>
                                  <a:lnTo>
                                    <a:pt x="108" y="35"/>
                                  </a:lnTo>
                                  <a:lnTo>
                                    <a:pt x="131" y="21"/>
                                  </a:lnTo>
                                  <a:lnTo>
                                    <a:pt x="156" y="11"/>
                                  </a:lnTo>
                                  <a:lnTo>
                                    <a:pt x="177" y="3"/>
                                  </a:lnTo>
                                  <a:lnTo>
                                    <a:pt x="195" y="0"/>
                                  </a:lnTo>
                                </a:path>
                              </a:pathLst>
                            </a:custGeom>
                            <a:noFill/>
                            <a:ln w="11160">
                              <a:solidFill>
                                <a:srgbClr val="40004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2160" bIns="216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6380" name=""/>
                            <p:cNvSpPr/>
                            <p:nvPr/>
                          </p:nvSpPr>
                          <p:spPr>
                            <a:xfrm>
                              <a:off x="4487040" y="2845800"/>
                              <a:ext cx="48240" cy="4932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194" h="160">
                                  <a:moveTo>
                                    <a:pt x="0" y="160"/>
                                  </a:moveTo>
                                  <a:lnTo>
                                    <a:pt x="18" y="131"/>
                                  </a:lnTo>
                                  <a:lnTo>
                                    <a:pt x="37" y="106"/>
                                  </a:lnTo>
                                  <a:lnTo>
                                    <a:pt x="58" y="80"/>
                                  </a:lnTo>
                                  <a:lnTo>
                                    <a:pt x="82" y="55"/>
                                  </a:lnTo>
                                  <a:lnTo>
                                    <a:pt x="107" y="36"/>
                                  </a:lnTo>
                                  <a:lnTo>
                                    <a:pt x="131" y="21"/>
                                  </a:lnTo>
                                  <a:lnTo>
                                    <a:pt x="155" y="11"/>
                                  </a:lnTo>
                                  <a:lnTo>
                                    <a:pt x="178" y="3"/>
                                  </a:lnTo>
                                  <a:lnTo>
                                    <a:pt x="194" y="0"/>
                                  </a:lnTo>
                                </a:path>
                              </a:pathLst>
                            </a:custGeom>
                            <a:noFill/>
                            <a:ln w="4680">
                              <a:solidFill>
                                <a:srgbClr val="a000a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2520" bIns="25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6381" name=""/>
                          <p:cNvGrpSpPr/>
                          <p:nvPr/>
                        </p:nvGrpSpPr>
                        <p:grpSpPr>
                          <a:xfrm>
                            <a:off x="4507920" y="2882520"/>
                            <a:ext cx="55080" cy="58320"/>
                            <a:chOff x="4507920" y="2882520"/>
                            <a:chExt cx="55080" cy="58320"/>
                          </a:xfrm>
                        </p:grpSpPr>
                        <p:sp>
                          <p:nvSpPr>
                            <p:cNvPr id="6382" name=""/>
                            <p:cNvSpPr/>
                            <p:nvPr/>
                          </p:nvSpPr>
                          <p:spPr>
                            <a:xfrm>
                              <a:off x="4507920" y="2885400"/>
                              <a:ext cx="49320" cy="4896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198" h="160">
                                  <a:moveTo>
                                    <a:pt x="0" y="160"/>
                                  </a:moveTo>
                                  <a:lnTo>
                                    <a:pt x="18" y="131"/>
                                  </a:lnTo>
                                  <a:lnTo>
                                    <a:pt x="37" y="107"/>
                                  </a:lnTo>
                                  <a:lnTo>
                                    <a:pt x="58" y="81"/>
                                  </a:lnTo>
                                  <a:lnTo>
                                    <a:pt x="82" y="56"/>
                                  </a:lnTo>
                                  <a:lnTo>
                                    <a:pt x="106" y="37"/>
                                  </a:lnTo>
                                  <a:lnTo>
                                    <a:pt x="130" y="23"/>
                                  </a:lnTo>
                                  <a:lnTo>
                                    <a:pt x="149" y="12"/>
                                  </a:lnTo>
                                  <a:lnTo>
                                    <a:pt x="168" y="6"/>
                                  </a:lnTo>
                                  <a:lnTo>
                                    <a:pt x="198" y="0"/>
                                  </a:lnTo>
                                </a:path>
                              </a:pathLst>
                            </a:custGeom>
                            <a:noFill/>
                            <a:ln w="25560">
                              <a:solidFill>
                                <a:srgbClr val="60006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2160" bIns="216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6383" name=""/>
                            <p:cNvSpPr/>
                            <p:nvPr/>
                          </p:nvSpPr>
                          <p:spPr>
                            <a:xfrm>
                              <a:off x="4515120" y="2891880"/>
                              <a:ext cx="47880" cy="4896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195" h="159">
                                  <a:moveTo>
                                    <a:pt x="0" y="159"/>
                                  </a:moveTo>
                                  <a:lnTo>
                                    <a:pt x="19" y="131"/>
                                  </a:lnTo>
                                  <a:lnTo>
                                    <a:pt x="37" y="106"/>
                                  </a:lnTo>
                                  <a:lnTo>
                                    <a:pt x="59" y="79"/>
                                  </a:lnTo>
                                  <a:lnTo>
                                    <a:pt x="81" y="56"/>
                                  </a:lnTo>
                                  <a:lnTo>
                                    <a:pt x="107" y="36"/>
                                  </a:lnTo>
                                  <a:lnTo>
                                    <a:pt x="130" y="22"/>
                                  </a:lnTo>
                                  <a:lnTo>
                                    <a:pt x="155" y="12"/>
                                  </a:lnTo>
                                  <a:lnTo>
                                    <a:pt x="177" y="4"/>
                                  </a:lnTo>
                                  <a:lnTo>
                                    <a:pt x="195" y="0"/>
                                  </a:lnTo>
                                </a:path>
                              </a:pathLst>
                            </a:custGeom>
                            <a:noFill/>
                            <a:ln w="11160">
                              <a:solidFill>
                                <a:srgbClr val="40004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2160" bIns="216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6384" name=""/>
                            <p:cNvSpPr/>
                            <p:nvPr/>
                          </p:nvSpPr>
                          <p:spPr>
                            <a:xfrm>
                              <a:off x="4507920" y="2882520"/>
                              <a:ext cx="47880" cy="4752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194" h="159">
                                  <a:moveTo>
                                    <a:pt x="0" y="159"/>
                                  </a:moveTo>
                                  <a:lnTo>
                                    <a:pt x="18" y="130"/>
                                  </a:lnTo>
                                  <a:lnTo>
                                    <a:pt x="37" y="106"/>
                                  </a:lnTo>
                                  <a:lnTo>
                                    <a:pt x="58" y="80"/>
                                  </a:lnTo>
                                  <a:lnTo>
                                    <a:pt x="82" y="55"/>
                                  </a:lnTo>
                                  <a:lnTo>
                                    <a:pt x="106" y="36"/>
                                  </a:lnTo>
                                  <a:lnTo>
                                    <a:pt x="130" y="21"/>
                                  </a:lnTo>
                                  <a:lnTo>
                                    <a:pt x="154" y="11"/>
                                  </a:lnTo>
                                  <a:lnTo>
                                    <a:pt x="177" y="3"/>
                                  </a:lnTo>
                                  <a:lnTo>
                                    <a:pt x="194" y="0"/>
                                  </a:lnTo>
                                </a:path>
                              </a:pathLst>
                            </a:custGeom>
                            <a:noFill/>
                            <a:ln w="4680">
                              <a:solidFill>
                                <a:srgbClr val="a000a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720" bIns="7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6385" name=""/>
                        <p:cNvGrpSpPr/>
                        <p:nvPr/>
                      </p:nvGrpSpPr>
                      <p:grpSpPr>
                        <a:xfrm>
                          <a:off x="4210920" y="2830680"/>
                          <a:ext cx="263160" cy="84240"/>
                          <a:chOff x="4210920" y="2830680"/>
                          <a:chExt cx="263160" cy="84240"/>
                        </a:xfrm>
                      </p:grpSpPr>
                      <p:grpSp>
                        <p:nvGrpSpPr>
                          <p:cNvPr id="6386" name=""/>
                          <p:cNvGrpSpPr/>
                          <p:nvPr/>
                        </p:nvGrpSpPr>
                        <p:grpSpPr>
                          <a:xfrm>
                            <a:off x="4242600" y="2870640"/>
                            <a:ext cx="183240" cy="44280"/>
                            <a:chOff x="4242600" y="2870640"/>
                            <a:chExt cx="183240" cy="44280"/>
                          </a:xfrm>
                        </p:grpSpPr>
                        <p:grpSp>
                          <p:nvGrpSpPr>
                            <p:cNvPr id="6387" name=""/>
                            <p:cNvGrpSpPr/>
                            <p:nvPr/>
                          </p:nvGrpSpPr>
                          <p:grpSpPr>
                            <a:xfrm>
                              <a:off x="4250160" y="2870640"/>
                              <a:ext cx="175680" cy="44280"/>
                              <a:chOff x="4250160" y="2870640"/>
                              <a:chExt cx="175680" cy="44280"/>
                            </a:xfrm>
                          </p:grpSpPr>
                          <p:sp>
                            <p:nvSpPr>
                              <p:cNvPr id="6388" name=""/>
                              <p:cNvSpPr/>
                              <p:nvPr/>
                            </p:nvSpPr>
                            <p:spPr>
                              <a:xfrm>
                                <a:off x="4251240" y="2874960"/>
                                <a:ext cx="172080" cy="306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694" h="101">
                                    <a:moveTo>
                                      <a:pt x="0" y="80"/>
                                    </a:moveTo>
                                    <a:lnTo>
                                      <a:pt x="42" y="67"/>
                                    </a:lnTo>
                                    <a:lnTo>
                                      <a:pt x="85" y="54"/>
                                    </a:lnTo>
                                    <a:lnTo>
                                      <a:pt x="143" y="40"/>
                                    </a:lnTo>
                                    <a:lnTo>
                                      <a:pt x="205" y="27"/>
                                    </a:lnTo>
                                    <a:lnTo>
                                      <a:pt x="268" y="14"/>
                                    </a:lnTo>
                                    <a:lnTo>
                                      <a:pt x="315" y="8"/>
                                    </a:lnTo>
                                    <a:lnTo>
                                      <a:pt x="372" y="2"/>
                                    </a:lnTo>
                                    <a:lnTo>
                                      <a:pt x="433" y="0"/>
                                    </a:lnTo>
                                    <a:lnTo>
                                      <a:pt x="490" y="3"/>
                                    </a:lnTo>
                                    <a:lnTo>
                                      <a:pt x="540" y="6"/>
                                    </a:lnTo>
                                    <a:lnTo>
                                      <a:pt x="590" y="14"/>
                                    </a:lnTo>
                                    <a:lnTo>
                                      <a:pt x="617" y="25"/>
                                    </a:lnTo>
                                    <a:lnTo>
                                      <a:pt x="642" y="39"/>
                                    </a:lnTo>
                                    <a:lnTo>
                                      <a:pt x="663" y="56"/>
                                    </a:lnTo>
                                    <a:lnTo>
                                      <a:pt x="685" y="83"/>
                                    </a:lnTo>
                                    <a:lnTo>
                                      <a:pt x="694" y="101"/>
                                    </a:lnTo>
                                  </a:path>
                                </a:pathLst>
                              </a:custGeom>
                              <a:noFill/>
                              <a:ln w="25560">
                                <a:solidFill>
                                  <a:srgbClr val="60006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6200" bIns="-162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6389" name=""/>
                              <p:cNvSpPr/>
                              <p:nvPr/>
                            </p:nvSpPr>
                            <p:spPr>
                              <a:xfrm>
                                <a:off x="4250160" y="2884320"/>
                                <a:ext cx="170640" cy="306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694" h="100">
                                    <a:moveTo>
                                      <a:pt x="0" y="80"/>
                                    </a:moveTo>
                                    <a:lnTo>
                                      <a:pt x="41" y="66"/>
                                    </a:lnTo>
                                    <a:lnTo>
                                      <a:pt x="84" y="54"/>
                                    </a:lnTo>
                                    <a:lnTo>
                                      <a:pt x="143" y="40"/>
                                    </a:lnTo>
                                    <a:lnTo>
                                      <a:pt x="205" y="26"/>
                                    </a:lnTo>
                                    <a:lnTo>
                                      <a:pt x="267" y="14"/>
                                    </a:lnTo>
                                    <a:lnTo>
                                      <a:pt x="315" y="8"/>
                                    </a:lnTo>
                                    <a:lnTo>
                                      <a:pt x="372" y="2"/>
                                    </a:lnTo>
                                    <a:lnTo>
                                      <a:pt x="433" y="0"/>
                                    </a:lnTo>
                                    <a:lnTo>
                                      <a:pt x="489" y="3"/>
                                    </a:lnTo>
                                    <a:lnTo>
                                      <a:pt x="540" y="6"/>
                                    </a:lnTo>
                                    <a:lnTo>
                                      <a:pt x="590" y="14"/>
                                    </a:lnTo>
                                    <a:lnTo>
                                      <a:pt x="617" y="24"/>
                                    </a:lnTo>
                                    <a:lnTo>
                                      <a:pt x="642" y="39"/>
                                    </a:lnTo>
                                    <a:lnTo>
                                      <a:pt x="663" y="55"/>
                                    </a:lnTo>
                                    <a:lnTo>
                                      <a:pt x="685" y="83"/>
                                    </a:lnTo>
                                    <a:lnTo>
                                      <a:pt x="694" y="100"/>
                                    </a:lnTo>
                                  </a:path>
                                </a:pathLst>
                              </a:custGeom>
                              <a:noFill/>
                              <a:ln w="11160">
                                <a:solidFill>
                                  <a:srgbClr val="40004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6200" bIns="-162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6390" name=""/>
                              <p:cNvSpPr/>
                              <p:nvPr/>
                            </p:nvSpPr>
                            <p:spPr>
                              <a:xfrm>
                                <a:off x="4253760" y="2870640"/>
                                <a:ext cx="172080" cy="306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694" h="100">
                                    <a:moveTo>
                                      <a:pt x="0" y="80"/>
                                    </a:moveTo>
                                    <a:lnTo>
                                      <a:pt x="42" y="66"/>
                                    </a:lnTo>
                                    <a:lnTo>
                                      <a:pt x="85" y="54"/>
                                    </a:lnTo>
                                    <a:lnTo>
                                      <a:pt x="143" y="40"/>
                                    </a:lnTo>
                                    <a:lnTo>
                                      <a:pt x="204" y="26"/>
                                    </a:lnTo>
                                    <a:lnTo>
                                      <a:pt x="268" y="14"/>
                                    </a:lnTo>
                                    <a:lnTo>
                                      <a:pt x="315" y="8"/>
                                    </a:lnTo>
                                    <a:lnTo>
                                      <a:pt x="372" y="2"/>
                                    </a:lnTo>
                                    <a:lnTo>
                                      <a:pt x="434" y="0"/>
                                    </a:lnTo>
                                    <a:lnTo>
                                      <a:pt x="490" y="3"/>
                                    </a:lnTo>
                                    <a:lnTo>
                                      <a:pt x="540" y="6"/>
                                    </a:lnTo>
                                    <a:lnTo>
                                      <a:pt x="590" y="14"/>
                                    </a:lnTo>
                                    <a:lnTo>
                                      <a:pt x="618" y="24"/>
                                    </a:lnTo>
                                    <a:lnTo>
                                      <a:pt x="642" y="39"/>
                                    </a:lnTo>
                                    <a:lnTo>
                                      <a:pt x="664" y="55"/>
                                    </a:lnTo>
                                    <a:lnTo>
                                      <a:pt x="685" y="83"/>
                                    </a:lnTo>
                                    <a:lnTo>
                                      <a:pt x="694" y="100"/>
                                    </a:lnTo>
                                  </a:path>
                                </a:pathLst>
                              </a:custGeom>
                              <a:noFill/>
                              <a:ln w="4680">
                                <a:solidFill>
                                  <a:srgbClr val="a000a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6200" bIns="-162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6391" name=""/>
                            <p:cNvSpPr/>
                            <p:nvPr/>
                          </p:nvSpPr>
                          <p:spPr>
                            <a:xfrm>
                              <a:off x="4242600" y="2890440"/>
                              <a:ext cx="10080" cy="21600"/>
                            </a:xfrm>
                            <a:prstGeom prst="ellipse">
                              <a:avLst/>
                            </a:prstGeom>
                            <a:solidFill>
                              <a:srgbClr val="200020"/>
                            </a:solidFill>
                            <a:ln w="3240">
                              <a:solidFill>
                                <a:srgbClr val="80008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30960" bIns="-3096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6392" name=""/>
                          <p:cNvGrpSpPr/>
                          <p:nvPr/>
                        </p:nvGrpSpPr>
                        <p:grpSpPr>
                          <a:xfrm>
                            <a:off x="4210920" y="2830680"/>
                            <a:ext cx="263160" cy="64440"/>
                            <a:chOff x="4210920" y="2830680"/>
                            <a:chExt cx="263160" cy="64440"/>
                          </a:xfrm>
                        </p:grpSpPr>
                        <p:grpSp>
                          <p:nvGrpSpPr>
                            <p:cNvPr id="6393" name=""/>
                            <p:cNvGrpSpPr/>
                            <p:nvPr/>
                          </p:nvGrpSpPr>
                          <p:grpSpPr>
                            <a:xfrm>
                              <a:off x="4217040" y="2830680"/>
                              <a:ext cx="257040" cy="64440"/>
                              <a:chOff x="4217040" y="2830680"/>
                              <a:chExt cx="257040" cy="64440"/>
                            </a:xfrm>
                          </p:grpSpPr>
                          <p:sp>
                            <p:nvSpPr>
                              <p:cNvPr id="6394" name=""/>
                              <p:cNvSpPr/>
                              <p:nvPr/>
                            </p:nvSpPr>
                            <p:spPr>
                              <a:xfrm>
                                <a:off x="4219560" y="2838240"/>
                                <a:ext cx="249840" cy="4428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012" h="148">
                                    <a:moveTo>
                                      <a:pt x="0" y="117"/>
                                    </a:moveTo>
                                    <a:lnTo>
                                      <a:pt x="60" y="98"/>
                                    </a:lnTo>
                                    <a:lnTo>
                                      <a:pt x="123" y="80"/>
                                    </a:lnTo>
                                    <a:lnTo>
                                      <a:pt x="207" y="59"/>
                                    </a:lnTo>
                                    <a:lnTo>
                                      <a:pt x="298" y="39"/>
                                    </a:lnTo>
                                    <a:lnTo>
                                      <a:pt x="390" y="22"/>
                                    </a:lnTo>
                                    <a:lnTo>
                                      <a:pt x="459" y="12"/>
                                    </a:lnTo>
                                    <a:lnTo>
                                      <a:pt x="543" y="3"/>
                                    </a:lnTo>
                                    <a:lnTo>
                                      <a:pt x="632" y="0"/>
                                    </a:lnTo>
                                    <a:lnTo>
                                      <a:pt x="714" y="4"/>
                                    </a:lnTo>
                                    <a:lnTo>
                                      <a:pt x="788" y="9"/>
                                    </a:lnTo>
                                    <a:lnTo>
                                      <a:pt x="861" y="22"/>
                                    </a:lnTo>
                                    <a:lnTo>
                                      <a:pt x="901" y="36"/>
                                    </a:lnTo>
                                    <a:lnTo>
                                      <a:pt x="937" y="58"/>
                                    </a:lnTo>
                                    <a:lnTo>
                                      <a:pt x="967" y="81"/>
                                    </a:lnTo>
                                    <a:lnTo>
                                      <a:pt x="999" y="122"/>
                                    </a:lnTo>
                                    <a:lnTo>
                                      <a:pt x="1012" y="148"/>
                                    </a:lnTo>
                                  </a:path>
                                </a:pathLst>
                              </a:custGeom>
                              <a:noFill/>
                              <a:ln w="25560">
                                <a:solidFill>
                                  <a:srgbClr val="60006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520" bIns="-252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6395" name=""/>
                              <p:cNvSpPr/>
                              <p:nvPr/>
                            </p:nvSpPr>
                            <p:spPr>
                              <a:xfrm>
                                <a:off x="4217040" y="2850840"/>
                                <a:ext cx="251280" cy="4428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012" h="147">
                                    <a:moveTo>
                                      <a:pt x="0" y="117"/>
                                    </a:moveTo>
                                    <a:lnTo>
                                      <a:pt x="60" y="98"/>
                                    </a:lnTo>
                                    <a:lnTo>
                                      <a:pt x="122" y="79"/>
                                    </a:lnTo>
                                    <a:lnTo>
                                      <a:pt x="208" y="59"/>
                                    </a:lnTo>
                                    <a:lnTo>
                                      <a:pt x="299" y="39"/>
                                    </a:lnTo>
                                    <a:lnTo>
                                      <a:pt x="390" y="21"/>
                                    </a:lnTo>
                                    <a:lnTo>
                                      <a:pt x="459" y="11"/>
                                    </a:lnTo>
                                    <a:lnTo>
                                      <a:pt x="543" y="3"/>
                                    </a:lnTo>
                                    <a:lnTo>
                                      <a:pt x="633" y="0"/>
                                    </a:lnTo>
                                    <a:lnTo>
                                      <a:pt x="713" y="4"/>
                                    </a:lnTo>
                                    <a:lnTo>
                                      <a:pt x="788" y="8"/>
                                    </a:lnTo>
                                    <a:lnTo>
                                      <a:pt x="861" y="21"/>
                                    </a:lnTo>
                                    <a:lnTo>
                                      <a:pt x="902" y="36"/>
                                    </a:lnTo>
                                    <a:lnTo>
                                      <a:pt x="937" y="57"/>
                                    </a:lnTo>
                                    <a:lnTo>
                                      <a:pt x="968" y="81"/>
                                    </a:lnTo>
                                    <a:lnTo>
                                      <a:pt x="999" y="121"/>
                                    </a:lnTo>
                                    <a:lnTo>
                                      <a:pt x="1012" y="147"/>
                                    </a:lnTo>
                                  </a:path>
                                </a:pathLst>
                              </a:custGeom>
                              <a:noFill/>
                              <a:ln w="11160">
                                <a:solidFill>
                                  <a:srgbClr val="40004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520" bIns="-252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6396" name=""/>
                              <p:cNvSpPr/>
                              <p:nvPr/>
                            </p:nvSpPr>
                            <p:spPr>
                              <a:xfrm>
                                <a:off x="4224240" y="2830680"/>
                                <a:ext cx="249840" cy="4428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012" h="147">
                                    <a:moveTo>
                                      <a:pt x="0" y="117"/>
                                    </a:moveTo>
                                    <a:lnTo>
                                      <a:pt x="60" y="98"/>
                                    </a:lnTo>
                                    <a:lnTo>
                                      <a:pt x="123" y="79"/>
                                    </a:lnTo>
                                    <a:lnTo>
                                      <a:pt x="208" y="59"/>
                                    </a:lnTo>
                                    <a:lnTo>
                                      <a:pt x="299" y="39"/>
                                    </a:lnTo>
                                    <a:lnTo>
                                      <a:pt x="390" y="21"/>
                                    </a:lnTo>
                                    <a:lnTo>
                                      <a:pt x="458" y="12"/>
                                    </a:lnTo>
                                    <a:lnTo>
                                      <a:pt x="542" y="3"/>
                                    </a:lnTo>
                                    <a:lnTo>
                                      <a:pt x="632" y="0"/>
                                    </a:lnTo>
                                    <a:lnTo>
                                      <a:pt x="713" y="5"/>
                                    </a:lnTo>
                                    <a:lnTo>
                                      <a:pt x="788" y="9"/>
                                    </a:lnTo>
                                    <a:lnTo>
                                      <a:pt x="861" y="21"/>
                                    </a:lnTo>
                                    <a:lnTo>
                                      <a:pt x="901" y="36"/>
                                    </a:lnTo>
                                    <a:lnTo>
                                      <a:pt x="937" y="57"/>
                                    </a:lnTo>
                                    <a:lnTo>
                                      <a:pt x="968" y="82"/>
                                    </a:lnTo>
                                    <a:lnTo>
                                      <a:pt x="998" y="122"/>
                                    </a:lnTo>
                                    <a:lnTo>
                                      <a:pt x="1012" y="147"/>
                                    </a:lnTo>
                                  </a:path>
                                </a:pathLst>
                              </a:custGeom>
                              <a:noFill/>
                              <a:ln w="4680">
                                <a:solidFill>
                                  <a:srgbClr val="a000a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520" bIns="-252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6397" name=""/>
                            <p:cNvSpPr/>
                            <p:nvPr/>
                          </p:nvSpPr>
                          <p:spPr>
                            <a:xfrm>
                              <a:off x="4210920" y="2863080"/>
                              <a:ext cx="12240" cy="25920"/>
                            </a:xfrm>
                            <a:prstGeom prst="ellipse">
                              <a:avLst/>
                            </a:prstGeom>
                            <a:solidFill>
                              <a:srgbClr val="200020"/>
                            </a:solidFill>
                            <a:ln w="3240">
                              <a:solidFill>
                                <a:srgbClr val="80008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28080" bIns="-2808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</p:grpSp>
                  <p:grpSp>
                    <p:nvGrpSpPr>
                      <p:cNvPr id="6398" name=""/>
                      <p:cNvGrpSpPr/>
                      <p:nvPr/>
                    </p:nvGrpSpPr>
                    <p:grpSpPr>
                      <a:xfrm>
                        <a:off x="4221720" y="2881440"/>
                        <a:ext cx="425880" cy="470520"/>
                        <a:chOff x="4221720" y="2881440"/>
                        <a:chExt cx="425880" cy="470520"/>
                      </a:xfrm>
                    </p:grpSpPr>
                    <p:grpSp>
                      <p:nvGrpSpPr>
                        <p:cNvPr id="6399" name=""/>
                        <p:cNvGrpSpPr/>
                        <p:nvPr/>
                      </p:nvGrpSpPr>
                      <p:grpSpPr>
                        <a:xfrm>
                          <a:off x="4221720" y="2881440"/>
                          <a:ext cx="425880" cy="470520"/>
                          <a:chOff x="4221720" y="2881440"/>
                          <a:chExt cx="425880" cy="470520"/>
                        </a:xfrm>
                      </p:grpSpPr>
                      <p:grpSp>
                        <p:nvGrpSpPr>
                          <p:cNvPr id="6400" name=""/>
                          <p:cNvGrpSpPr/>
                          <p:nvPr/>
                        </p:nvGrpSpPr>
                        <p:grpSpPr>
                          <a:xfrm>
                            <a:off x="4221720" y="2881440"/>
                            <a:ext cx="425880" cy="470520"/>
                            <a:chOff x="4221720" y="2881440"/>
                            <a:chExt cx="425880" cy="470520"/>
                          </a:xfrm>
                        </p:grpSpPr>
                        <p:grpSp>
                          <p:nvGrpSpPr>
                            <p:cNvPr id="6401" name=""/>
                            <p:cNvGrpSpPr/>
                            <p:nvPr/>
                          </p:nvGrpSpPr>
                          <p:grpSpPr>
                            <a:xfrm>
                              <a:off x="4221720" y="2881440"/>
                              <a:ext cx="425880" cy="470520"/>
                              <a:chOff x="4221720" y="2881440"/>
                              <a:chExt cx="425880" cy="470520"/>
                            </a:xfrm>
                          </p:grpSpPr>
                          <p:grpSp>
                            <p:nvGrpSpPr>
                              <p:cNvPr id="6402" name=""/>
                              <p:cNvGrpSpPr/>
                              <p:nvPr/>
                            </p:nvGrpSpPr>
                            <p:grpSpPr>
                              <a:xfrm>
                                <a:off x="4221720" y="2881440"/>
                                <a:ext cx="425880" cy="470520"/>
                                <a:chOff x="4221720" y="2881440"/>
                                <a:chExt cx="425880" cy="470520"/>
                              </a:xfrm>
                            </p:grpSpPr>
                            <p:sp>
                              <p:nvSpPr>
                                <p:cNvPr id="6403" name=""/>
                                <p:cNvSpPr/>
                                <p:nvPr/>
                              </p:nvSpPr>
                              <p:spPr>
                                <a:xfrm>
                                  <a:off x="4221720" y="2881440"/>
                                  <a:ext cx="425880" cy="47052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1716" h="1521">
                                      <a:moveTo>
                                        <a:pt x="499" y="282"/>
                                      </a:moveTo>
                                      <a:lnTo>
                                        <a:pt x="548" y="246"/>
                                      </a:lnTo>
                                      <a:lnTo>
                                        <a:pt x="591" y="194"/>
                                      </a:lnTo>
                                      <a:lnTo>
                                        <a:pt x="634" y="140"/>
                                      </a:lnTo>
                                      <a:lnTo>
                                        <a:pt x="673" y="105"/>
                                      </a:lnTo>
                                      <a:lnTo>
                                        <a:pt x="716" y="70"/>
                                      </a:lnTo>
                                      <a:lnTo>
                                        <a:pt x="768" y="40"/>
                                      </a:lnTo>
                                      <a:lnTo>
                                        <a:pt x="806" y="19"/>
                                      </a:lnTo>
                                      <a:lnTo>
                                        <a:pt x="854" y="9"/>
                                      </a:lnTo>
                                      <a:lnTo>
                                        <a:pt x="906" y="0"/>
                                      </a:lnTo>
                                      <a:lnTo>
                                        <a:pt x="960" y="6"/>
                                      </a:lnTo>
                                      <a:lnTo>
                                        <a:pt x="1004" y="13"/>
                                      </a:lnTo>
                                      <a:lnTo>
                                        <a:pt x="1040" y="22"/>
                                      </a:lnTo>
                                      <a:lnTo>
                                        <a:pt x="1084" y="43"/>
                                      </a:lnTo>
                                      <a:lnTo>
                                        <a:pt x="1130" y="64"/>
                                      </a:lnTo>
                                      <a:lnTo>
                                        <a:pt x="1168" y="84"/>
                                      </a:lnTo>
                                      <a:lnTo>
                                        <a:pt x="1211" y="116"/>
                                      </a:lnTo>
                                      <a:lnTo>
                                        <a:pt x="1244" y="152"/>
                                      </a:lnTo>
                                      <a:lnTo>
                                        <a:pt x="1270" y="199"/>
                                      </a:lnTo>
                                      <a:lnTo>
                                        <a:pt x="1281" y="227"/>
                                      </a:lnTo>
                                      <a:lnTo>
                                        <a:pt x="1283" y="263"/>
                                      </a:lnTo>
                                      <a:lnTo>
                                        <a:pt x="1298" y="294"/>
                                      </a:lnTo>
                                      <a:lnTo>
                                        <a:pt x="1319" y="323"/>
                                      </a:lnTo>
                                      <a:lnTo>
                                        <a:pt x="1347" y="343"/>
                                      </a:lnTo>
                                      <a:lnTo>
                                        <a:pt x="1381" y="360"/>
                                      </a:lnTo>
                                      <a:lnTo>
                                        <a:pt x="1401" y="378"/>
                                      </a:lnTo>
                                      <a:lnTo>
                                        <a:pt x="1418" y="404"/>
                                      </a:lnTo>
                                      <a:lnTo>
                                        <a:pt x="1444" y="438"/>
                                      </a:lnTo>
                                      <a:lnTo>
                                        <a:pt x="1472" y="471"/>
                                      </a:lnTo>
                                      <a:lnTo>
                                        <a:pt x="1503" y="505"/>
                                      </a:lnTo>
                                      <a:lnTo>
                                        <a:pt x="1534" y="539"/>
                                      </a:lnTo>
                                      <a:lnTo>
                                        <a:pt x="1567" y="601"/>
                                      </a:lnTo>
                                      <a:lnTo>
                                        <a:pt x="1591" y="661"/>
                                      </a:lnTo>
                                      <a:lnTo>
                                        <a:pt x="1609" y="707"/>
                                      </a:lnTo>
                                      <a:lnTo>
                                        <a:pt x="1622" y="769"/>
                                      </a:lnTo>
                                      <a:lnTo>
                                        <a:pt x="1641" y="832"/>
                                      </a:lnTo>
                                      <a:lnTo>
                                        <a:pt x="1656" y="891"/>
                                      </a:lnTo>
                                      <a:lnTo>
                                        <a:pt x="1668" y="947"/>
                                      </a:lnTo>
                                      <a:lnTo>
                                        <a:pt x="1680" y="1005"/>
                                      </a:lnTo>
                                      <a:lnTo>
                                        <a:pt x="1695" y="1057"/>
                                      </a:lnTo>
                                      <a:lnTo>
                                        <a:pt x="1702" y="1122"/>
                                      </a:lnTo>
                                      <a:lnTo>
                                        <a:pt x="1710" y="1190"/>
                                      </a:lnTo>
                                      <a:lnTo>
                                        <a:pt x="1716" y="1253"/>
                                      </a:lnTo>
                                      <a:lnTo>
                                        <a:pt x="1708" y="1301"/>
                                      </a:lnTo>
                                      <a:lnTo>
                                        <a:pt x="1702" y="1340"/>
                                      </a:lnTo>
                                      <a:lnTo>
                                        <a:pt x="1698" y="1374"/>
                                      </a:lnTo>
                                      <a:lnTo>
                                        <a:pt x="1683" y="1404"/>
                                      </a:lnTo>
                                      <a:lnTo>
                                        <a:pt x="1658" y="1435"/>
                                      </a:lnTo>
                                      <a:lnTo>
                                        <a:pt x="1621" y="1463"/>
                                      </a:lnTo>
                                      <a:lnTo>
                                        <a:pt x="1576" y="1480"/>
                                      </a:lnTo>
                                      <a:lnTo>
                                        <a:pt x="1525" y="1491"/>
                                      </a:lnTo>
                                      <a:lnTo>
                                        <a:pt x="1464" y="1499"/>
                                      </a:lnTo>
                                      <a:lnTo>
                                        <a:pt x="1408" y="1506"/>
                                      </a:lnTo>
                                      <a:lnTo>
                                        <a:pt x="1346" y="1509"/>
                                      </a:lnTo>
                                      <a:lnTo>
                                        <a:pt x="1273" y="1516"/>
                                      </a:lnTo>
                                      <a:lnTo>
                                        <a:pt x="1210" y="1521"/>
                                      </a:lnTo>
                                      <a:lnTo>
                                        <a:pt x="1152" y="1521"/>
                                      </a:lnTo>
                                      <a:lnTo>
                                        <a:pt x="1094" y="1516"/>
                                      </a:lnTo>
                                      <a:lnTo>
                                        <a:pt x="1042" y="1509"/>
                                      </a:lnTo>
                                      <a:lnTo>
                                        <a:pt x="1001" y="1505"/>
                                      </a:lnTo>
                                      <a:lnTo>
                                        <a:pt x="957" y="1493"/>
                                      </a:lnTo>
                                      <a:lnTo>
                                        <a:pt x="903" y="1478"/>
                                      </a:lnTo>
                                      <a:lnTo>
                                        <a:pt x="843" y="1459"/>
                                      </a:lnTo>
                                      <a:lnTo>
                                        <a:pt x="796" y="1441"/>
                                      </a:lnTo>
                                      <a:lnTo>
                                        <a:pt x="741" y="1419"/>
                                      </a:lnTo>
                                      <a:lnTo>
                                        <a:pt x="694" y="1399"/>
                                      </a:lnTo>
                                      <a:lnTo>
                                        <a:pt x="647" y="1375"/>
                                      </a:lnTo>
                                      <a:lnTo>
                                        <a:pt x="597" y="1349"/>
                                      </a:lnTo>
                                      <a:lnTo>
                                        <a:pt x="550" y="1321"/>
                                      </a:lnTo>
                                      <a:lnTo>
                                        <a:pt x="503" y="1286"/>
                                      </a:lnTo>
                                      <a:lnTo>
                                        <a:pt x="460" y="1252"/>
                                      </a:lnTo>
                                      <a:lnTo>
                                        <a:pt x="429" y="1224"/>
                                      </a:lnTo>
                                      <a:lnTo>
                                        <a:pt x="388" y="1170"/>
                                      </a:lnTo>
                                      <a:lnTo>
                                        <a:pt x="355" y="1127"/>
                                      </a:lnTo>
                                      <a:lnTo>
                                        <a:pt x="321" y="1079"/>
                                      </a:lnTo>
                                      <a:lnTo>
                                        <a:pt x="301" y="1051"/>
                                      </a:lnTo>
                                      <a:lnTo>
                                        <a:pt x="285" y="1014"/>
                                      </a:lnTo>
                                      <a:lnTo>
                                        <a:pt x="255" y="1006"/>
                                      </a:lnTo>
                                      <a:lnTo>
                                        <a:pt x="221" y="996"/>
                                      </a:lnTo>
                                      <a:lnTo>
                                        <a:pt x="190" y="981"/>
                                      </a:lnTo>
                                      <a:lnTo>
                                        <a:pt x="150" y="957"/>
                                      </a:lnTo>
                                      <a:lnTo>
                                        <a:pt x="111" y="928"/>
                                      </a:lnTo>
                                      <a:lnTo>
                                        <a:pt x="85" y="894"/>
                                      </a:lnTo>
                                      <a:lnTo>
                                        <a:pt x="55" y="854"/>
                                      </a:lnTo>
                                      <a:lnTo>
                                        <a:pt x="33" y="817"/>
                                      </a:lnTo>
                                      <a:lnTo>
                                        <a:pt x="12" y="777"/>
                                      </a:lnTo>
                                      <a:lnTo>
                                        <a:pt x="4" y="738"/>
                                      </a:lnTo>
                                      <a:lnTo>
                                        <a:pt x="0" y="684"/>
                                      </a:lnTo>
                                      <a:lnTo>
                                        <a:pt x="3" y="641"/>
                                      </a:lnTo>
                                      <a:lnTo>
                                        <a:pt x="12" y="597"/>
                                      </a:lnTo>
                                      <a:lnTo>
                                        <a:pt x="27" y="547"/>
                                      </a:lnTo>
                                      <a:lnTo>
                                        <a:pt x="49" y="499"/>
                                      </a:lnTo>
                                      <a:lnTo>
                                        <a:pt x="76" y="451"/>
                                      </a:lnTo>
                                      <a:lnTo>
                                        <a:pt x="107" y="409"/>
                                      </a:lnTo>
                                      <a:lnTo>
                                        <a:pt x="134" y="378"/>
                                      </a:lnTo>
                                      <a:lnTo>
                                        <a:pt x="168" y="347"/>
                                      </a:lnTo>
                                      <a:lnTo>
                                        <a:pt x="208" y="320"/>
                                      </a:lnTo>
                                      <a:lnTo>
                                        <a:pt x="248" y="301"/>
                                      </a:lnTo>
                                      <a:lnTo>
                                        <a:pt x="298" y="289"/>
                                      </a:lnTo>
                                      <a:lnTo>
                                        <a:pt x="360" y="281"/>
                                      </a:lnTo>
                                      <a:lnTo>
                                        <a:pt x="415" y="282"/>
                                      </a:lnTo>
                                      <a:lnTo>
                                        <a:pt x="466" y="288"/>
                                      </a:lnTo>
                                      <a:lnTo>
                                        <a:pt x="499" y="282"/>
                                      </a:lnTo>
                                      <a:close/>
                                    </a:path>
                                  </a:pathLst>
                                </a:custGeom>
                                <a:solidFill>
                                  <a:srgbClr val="ffc08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6404" name=""/>
                                <p:cNvSpPr/>
                                <p:nvPr/>
                              </p:nvSpPr>
                              <p:spPr>
                                <a:xfrm>
                                  <a:off x="4309560" y="2998440"/>
                                  <a:ext cx="338040" cy="35316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1361" h="1143">
                                      <a:moveTo>
                                        <a:pt x="1051" y="53"/>
                                      </a:moveTo>
                                      <a:lnTo>
                                        <a:pt x="1042" y="25"/>
                                      </a:lnTo>
                                      <a:lnTo>
                                        <a:pt x="1046" y="0"/>
                                      </a:lnTo>
                                      <a:lnTo>
                                        <a:pt x="1063" y="27"/>
                                      </a:lnTo>
                                      <a:lnTo>
                                        <a:pt x="1089" y="61"/>
                                      </a:lnTo>
                                      <a:lnTo>
                                        <a:pt x="1117" y="94"/>
                                      </a:lnTo>
                                      <a:lnTo>
                                        <a:pt x="1148" y="128"/>
                                      </a:lnTo>
                                      <a:lnTo>
                                        <a:pt x="1179" y="162"/>
                                      </a:lnTo>
                                      <a:lnTo>
                                        <a:pt x="1212" y="224"/>
                                      </a:lnTo>
                                      <a:lnTo>
                                        <a:pt x="1236" y="284"/>
                                      </a:lnTo>
                                      <a:lnTo>
                                        <a:pt x="1254" y="329"/>
                                      </a:lnTo>
                                      <a:lnTo>
                                        <a:pt x="1267" y="391"/>
                                      </a:lnTo>
                                      <a:lnTo>
                                        <a:pt x="1286" y="454"/>
                                      </a:lnTo>
                                      <a:lnTo>
                                        <a:pt x="1301" y="513"/>
                                      </a:lnTo>
                                      <a:lnTo>
                                        <a:pt x="1313" y="569"/>
                                      </a:lnTo>
                                      <a:lnTo>
                                        <a:pt x="1325" y="627"/>
                                      </a:lnTo>
                                      <a:lnTo>
                                        <a:pt x="1340" y="679"/>
                                      </a:lnTo>
                                      <a:lnTo>
                                        <a:pt x="1347" y="744"/>
                                      </a:lnTo>
                                      <a:lnTo>
                                        <a:pt x="1355" y="813"/>
                                      </a:lnTo>
                                      <a:lnTo>
                                        <a:pt x="1361" y="875"/>
                                      </a:lnTo>
                                      <a:lnTo>
                                        <a:pt x="1353" y="923"/>
                                      </a:lnTo>
                                      <a:lnTo>
                                        <a:pt x="1347" y="962"/>
                                      </a:lnTo>
                                      <a:lnTo>
                                        <a:pt x="1343" y="996"/>
                                      </a:lnTo>
                                      <a:lnTo>
                                        <a:pt x="1328" y="1026"/>
                                      </a:lnTo>
                                      <a:lnTo>
                                        <a:pt x="1303" y="1057"/>
                                      </a:lnTo>
                                      <a:lnTo>
                                        <a:pt x="1266" y="1085"/>
                                      </a:lnTo>
                                      <a:lnTo>
                                        <a:pt x="1221" y="1102"/>
                                      </a:lnTo>
                                      <a:lnTo>
                                        <a:pt x="1170" y="1113"/>
                                      </a:lnTo>
                                      <a:lnTo>
                                        <a:pt x="1109" y="1121"/>
                                      </a:lnTo>
                                      <a:lnTo>
                                        <a:pt x="1053" y="1128"/>
                                      </a:lnTo>
                                      <a:lnTo>
                                        <a:pt x="992" y="1131"/>
                                      </a:lnTo>
                                      <a:lnTo>
                                        <a:pt x="918" y="1138"/>
                                      </a:lnTo>
                                      <a:lnTo>
                                        <a:pt x="855" y="1143"/>
                                      </a:lnTo>
                                      <a:lnTo>
                                        <a:pt x="797" y="1143"/>
                                      </a:lnTo>
                                      <a:lnTo>
                                        <a:pt x="739" y="1138"/>
                                      </a:lnTo>
                                      <a:lnTo>
                                        <a:pt x="687" y="1131"/>
                                      </a:lnTo>
                                      <a:lnTo>
                                        <a:pt x="646" y="1127"/>
                                      </a:lnTo>
                                      <a:lnTo>
                                        <a:pt x="602" y="1115"/>
                                      </a:lnTo>
                                      <a:lnTo>
                                        <a:pt x="548" y="1100"/>
                                      </a:lnTo>
                                      <a:lnTo>
                                        <a:pt x="488" y="1081"/>
                                      </a:lnTo>
                                      <a:lnTo>
                                        <a:pt x="441" y="1063"/>
                                      </a:lnTo>
                                      <a:lnTo>
                                        <a:pt x="386" y="1041"/>
                                      </a:lnTo>
                                      <a:lnTo>
                                        <a:pt x="341" y="1021"/>
                                      </a:lnTo>
                                      <a:lnTo>
                                        <a:pt x="293" y="997"/>
                                      </a:lnTo>
                                      <a:lnTo>
                                        <a:pt x="243" y="971"/>
                                      </a:lnTo>
                                      <a:lnTo>
                                        <a:pt x="196" y="943"/>
                                      </a:lnTo>
                                      <a:lnTo>
                                        <a:pt x="149" y="908"/>
                                      </a:lnTo>
                                      <a:lnTo>
                                        <a:pt x="106" y="874"/>
                                      </a:lnTo>
                                      <a:lnTo>
                                        <a:pt x="74" y="847"/>
                                      </a:lnTo>
                                      <a:lnTo>
                                        <a:pt x="33" y="793"/>
                                      </a:lnTo>
                                      <a:lnTo>
                                        <a:pt x="0" y="749"/>
                                      </a:lnTo>
                                      <a:lnTo>
                                        <a:pt x="29" y="760"/>
                                      </a:lnTo>
                                      <a:lnTo>
                                        <a:pt x="54" y="782"/>
                                      </a:lnTo>
                                      <a:lnTo>
                                        <a:pt x="84" y="819"/>
                                      </a:lnTo>
                                      <a:lnTo>
                                        <a:pt x="122" y="853"/>
                                      </a:lnTo>
                                      <a:lnTo>
                                        <a:pt x="157" y="879"/>
                                      </a:lnTo>
                                      <a:lnTo>
                                        <a:pt x="198" y="908"/>
                                      </a:lnTo>
                                      <a:lnTo>
                                        <a:pt x="236" y="932"/>
                                      </a:lnTo>
                                      <a:lnTo>
                                        <a:pt x="278" y="960"/>
                                      </a:lnTo>
                                      <a:lnTo>
                                        <a:pt x="318" y="976"/>
                                      </a:lnTo>
                                      <a:lnTo>
                                        <a:pt x="366" y="1001"/>
                                      </a:lnTo>
                                      <a:lnTo>
                                        <a:pt x="406" y="1013"/>
                                      </a:lnTo>
                                      <a:lnTo>
                                        <a:pt x="443" y="1033"/>
                                      </a:lnTo>
                                      <a:lnTo>
                                        <a:pt x="483" y="1047"/>
                                      </a:lnTo>
                                      <a:lnTo>
                                        <a:pt x="519" y="1058"/>
                                      </a:lnTo>
                                      <a:lnTo>
                                        <a:pt x="568" y="1078"/>
                                      </a:lnTo>
                                      <a:lnTo>
                                        <a:pt x="613" y="1085"/>
                                      </a:lnTo>
                                      <a:lnTo>
                                        <a:pt x="660" y="1093"/>
                                      </a:lnTo>
                                      <a:lnTo>
                                        <a:pt x="708" y="1100"/>
                                      </a:lnTo>
                                      <a:lnTo>
                                        <a:pt x="757" y="1106"/>
                                      </a:lnTo>
                                      <a:lnTo>
                                        <a:pt x="805" y="1109"/>
                                      </a:lnTo>
                                      <a:lnTo>
                                        <a:pt x="845" y="1107"/>
                                      </a:lnTo>
                                      <a:lnTo>
                                        <a:pt x="889" y="1106"/>
                                      </a:lnTo>
                                      <a:lnTo>
                                        <a:pt x="928" y="1104"/>
                                      </a:lnTo>
                                      <a:lnTo>
                                        <a:pt x="971" y="1100"/>
                                      </a:lnTo>
                                      <a:lnTo>
                                        <a:pt x="1012" y="1097"/>
                                      </a:lnTo>
                                      <a:lnTo>
                                        <a:pt x="1052" y="1090"/>
                                      </a:lnTo>
                                      <a:lnTo>
                                        <a:pt x="1098" y="1084"/>
                                      </a:lnTo>
                                      <a:lnTo>
                                        <a:pt x="1140" y="1081"/>
                                      </a:lnTo>
                                      <a:lnTo>
                                        <a:pt x="1163" y="1067"/>
                                      </a:lnTo>
                                      <a:lnTo>
                                        <a:pt x="1190" y="1047"/>
                                      </a:lnTo>
                                      <a:lnTo>
                                        <a:pt x="1216" y="1033"/>
                                      </a:lnTo>
                                      <a:lnTo>
                                        <a:pt x="1234" y="1008"/>
                                      </a:lnTo>
                                      <a:lnTo>
                                        <a:pt x="1251" y="980"/>
                                      </a:lnTo>
                                      <a:lnTo>
                                        <a:pt x="1265" y="952"/>
                                      </a:lnTo>
                                      <a:lnTo>
                                        <a:pt x="1280" y="921"/>
                                      </a:lnTo>
                                      <a:lnTo>
                                        <a:pt x="1290" y="888"/>
                                      </a:lnTo>
                                      <a:lnTo>
                                        <a:pt x="1302" y="867"/>
                                      </a:lnTo>
                                      <a:lnTo>
                                        <a:pt x="1297" y="809"/>
                                      </a:lnTo>
                                      <a:lnTo>
                                        <a:pt x="1293" y="750"/>
                                      </a:lnTo>
                                      <a:lnTo>
                                        <a:pt x="1290" y="692"/>
                                      </a:lnTo>
                                      <a:lnTo>
                                        <a:pt x="1287" y="644"/>
                                      </a:lnTo>
                                      <a:lnTo>
                                        <a:pt x="1277" y="604"/>
                                      </a:lnTo>
                                      <a:lnTo>
                                        <a:pt x="1266" y="558"/>
                                      </a:lnTo>
                                      <a:lnTo>
                                        <a:pt x="1253" y="516"/>
                                      </a:lnTo>
                                      <a:lnTo>
                                        <a:pt x="1245" y="479"/>
                                      </a:lnTo>
                                      <a:lnTo>
                                        <a:pt x="1234" y="436"/>
                                      </a:lnTo>
                                      <a:lnTo>
                                        <a:pt x="1220" y="387"/>
                                      </a:lnTo>
                                      <a:lnTo>
                                        <a:pt x="1208" y="337"/>
                                      </a:lnTo>
                                      <a:lnTo>
                                        <a:pt x="1203" y="299"/>
                                      </a:lnTo>
                                      <a:lnTo>
                                        <a:pt x="1180" y="263"/>
                                      </a:lnTo>
                                      <a:lnTo>
                                        <a:pt x="1159" y="232"/>
                                      </a:lnTo>
                                      <a:lnTo>
                                        <a:pt x="1137" y="192"/>
                                      </a:lnTo>
                                      <a:lnTo>
                                        <a:pt x="1113" y="149"/>
                                      </a:lnTo>
                                      <a:lnTo>
                                        <a:pt x="1092" y="113"/>
                                      </a:lnTo>
                                      <a:lnTo>
                                        <a:pt x="1070" y="84"/>
                                      </a:lnTo>
                                      <a:lnTo>
                                        <a:pt x="1051" y="53"/>
                                      </a:lnTo>
                                      <a:close/>
                                    </a:path>
                                  </a:pathLst>
                                </a:custGeom>
                                <a:solidFill>
                                  <a:srgbClr val="ffa04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sp>
                            <p:nvSpPr>
                              <p:cNvPr id="6405" name=""/>
                              <p:cNvSpPr/>
                              <p:nvPr/>
                            </p:nvSpPr>
                            <p:spPr>
                              <a:xfrm>
                                <a:off x="4446000" y="3140640"/>
                                <a:ext cx="119880" cy="1508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488" h="488">
                                    <a:moveTo>
                                      <a:pt x="22" y="0"/>
                                    </a:moveTo>
                                    <a:lnTo>
                                      <a:pt x="57" y="24"/>
                                    </a:lnTo>
                                    <a:lnTo>
                                      <a:pt x="89" y="55"/>
                                    </a:lnTo>
                                    <a:lnTo>
                                      <a:pt x="122" y="89"/>
                                    </a:lnTo>
                                    <a:lnTo>
                                      <a:pt x="158" y="130"/>
                                    </a:lnTo>
                                    <a:lnTo>
                                      <a:pt x="197" y="173"/>
                                    </a:lnTo>
                                    <a:lnTo>
                                      <a:pt x="243" y="221"/>
                                    </a:lnTo>
                                    <a:lnTo>
                                      <a:pt x="290" y="273"/>
                                    </a:lnTo>
                                    <a:lnTo>
                                      <a:pt x="323" y="313"/>
                                    </a:lnTo>
                                    <a:lnTo>
                                      <a:pt x="352" y="339"/>
                                    </a:lnTo>
                                    <a:lnTo>
                                      <a:pt x="381" y="364"/>
                                    </a:lnTo>
                                    <a:lnTo>
                                      <a:pt x="413" y="386"/>
                                    </a:lnTo>
                                    <a:lnTo>
                                      <a:pt x="444" y="412"/>
                                    </a:lnTo>
                                    <a:lnTo>
                                      <a:pt x="470" y="433"/>
                                    </a:lnTo>
                                    <a:lnTo>
                                      <a:pt x="484" y="449"/>
                                    </a:lnTo>
                                    <a:lnTo>
                                      <a:pt x="488" y="466"/>
                                    </a:lnTo>
                                    <a:lnTo>
                                      <a:pt x="485" y="479"/>
                                    </a:lnTo>
                                    <a:lnTo>
                                      <a:pt x="476" y="486"/>
                                    </a:lnTo>
                                    <a:lnTo>
                                      <a:pt x="462" y="488"/>
                                    </a:lnTo>
                                    <a:lnTo>
                                      <a:pt x="444" y="482"/>
                                    </a:lnTo>
                                    <a:lnTo>
                                      <a:pt x="417" y="463"/>
                                    </a:lnTo>
                                    <a:lnTo>
                                      <a:pt x="390" y="448"/>
                                    </a:lnTo>
                                    <a:lnTo>
                                      <a:pt x="365" y="436"/>
                                    </a:lnTo>
                                    <a:lnTo>
                                      <a:pt x="336" y="411"/>
                                    </a:lnTo>
                                    <a:lnTo>
                                      <a:pt x="308" y="389"/>
                                    </a:lnTo>
                                    <a:lnTo>
                                      <a:pt x="274" y="361"/>
                                    </a:lnTo>
                                    <a:lnTo>
                                      <a:pt x="243" y="336"/>
                                    </a:lnTo>
                                    <a:lnTo>
                                      <a:pt x="208" y="307"/>
                                    </a:lnTo>
                                    <a:lnTo>
                                      <a:pt x="179" y="281"/>
                                    </a:lnTo>
                                    <a:lnTo>
                                      <a:pt x="155" y="252"/>
                                    </a:lnTo>
                                    <a:lnTo>
                                      <a:pt x="130" y="228"/>
                                    </a:lnTo>
                                    <a:lnTo>
                                      <a:pt x="116" y="208"/>
                                    </a:lnTo>
                                    <a:lnTo>
                                      <a:pt x="92" y="176"/>
                                    </a:lnTo>
                                    <a:lnTo>
                                      <a:pt x="71" y="142"/>
                                    </a:lnTo>
                                    <a:lnTo>
                                      <a:pt x="49" y="109"/>
                                    </a:lnTo>
                                    <a:lnTo>
                                      <a:pt x="31" y="79"/>
                                    </a:lnTo>
                                    <a:lnTo>
                                      <a:pt x="15" y="52"/>
                                    </a:lnTo>
                                    <a:lnTo>
                                      <a:pt x="4" y="30"/>
                                    </a:lnTo>
                                    <a:lnTo>
                                      <a:pt x="0" y="15"/>
                                    </a:lnTo>
                                    <a:lnTo>
                                      <a:pt x="4" y="5"/>
                                    </a:lnTo>
                                    <a:lnTo>
                                      <a:pt x="22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ffe0c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6406" name=""/>
                            <p:cNvSpPr/>
                            <p:nvPr/>
                          </p:nvSpPr>
                          <p:spPr>
                            <a:xfrm>
                              <a:off x="4510080" y="3229920"/>
                              <a:ext cx="105120" cy="9972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422" h="325">
                                  <a:moveTo>
                                    <a:pt x="422" y="0"/>
                                  </a:moveTo>
                                  <a:lnTo>
                                    <a:pt x="422" y="44"/>
                                  </a:lnTo>
                                  <a:lnTo>
                                    <a:pt x="421" y="99"/>
                                  </a:lnTo>
                                  <a:lnTo>
                                    <a:pt x="415" y="148"/>
                                  </a:lnTo>
                                  <a:lnTo>
                                    <a:pt x="403" y="188"/>
                                  </a:lnTo>
                                  <a:lnTo>
                                    <a:pt x="383" y="215"/>
                                  </a:lnTo>
                                  <a:lnTo>
                                    <a:pt x="359" y="238"/>
                                  </a:lnTo>
                                  <a:lnTo>
                                    <a:pt x="325" y="260"/>
                                  </a:lnTo>
                                  <a:lnTo>
                                    <a:pt x="290" y="279"/>
                                  </a:lnTo>
                                  <a:lnTo>
                                    <a:pt x="239" y="300"/>
                                  </a:lnTo>
                                  <a:lnTo>
                                    <a:pt x="193" y="313"/>
                                  </a:lnTo>
                                  <a:lnTo>
                                    <a:pt x="141" y="320"/>
                                  </a:lnTo>
                                  <a:lnTo>
                                    <a:pt x="95" y="325"/>
                                  </a:lnTo>
                                  <a:lnTo>
                                    <a:pt x="47" y="323"/>
                                  </a:lnTo>
                                  <a:lnTo>
                                    <a:pt x="0" y="320"/>
                                  </a:lnTo>
                                </a:path>
                              </a:pathLst>
                            </a:custGeom>
                            <a:noFill/>
                            <a:ln w="3240">
                              <a:solidFill>
                                <a:srgbClr val="ff8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6407" name=""/>
                          <p:cNvGrpSpPr/>
                          <p:nvPr/>
                        </p:nvGrpSpPr>
                        <p:grpSpPr>
                          <a:xfrm>
                            <a:off x="4235400" y="2896560"/>
                            <a:ext cx="362160" cy="417600"/>
                            <a:chOff x="4235400" y="2896560"/>
                            <a:chExt cx="362160" cy="417600"/>
                          </a:xfrm>
                        </p:grpSpPr>
                        <p:grpSp>
                          <p:nvGrpSpPr>
                            <p:cNvPr id="6408" name=""/>
                            <p:cNvGrpSpPr/>
                            <p:nvPr/>
                          </p:nvGrpSpPr>
                          <p:grpSpPr>
                            <a:xfrm>
                              <a:off x="4365000" y="2896560"/>
                              <a:ext cx="232560" cy="374760"/>
                              <a:chOff x="4365000" y="2896560"/>
                              <a:chExt cx="232560" cy="374760"/>
                            </a:xfrm>
                          </p:grpSpPr>
                          <p:grpSp>
                            <p:nvGrpSpPr>
                              <p:cNvPr id="6409" name=""/>
                              <p:cNvGrpSpPr/>
                              <p:nvPr/>
                            </p:nvGrpSpPr>
                            <p:grpSpPr>
                              <a:xfrm>
                                <a:off x="4365000" y="2896560"/>
                                <a:ext cx="232560" cy="374760"/>
                                <a:chOff x="4365000" y="2896560"/>
                                <a:chExt cx="232560" cy="374760"/>
                              </a:xfrm>
                            </p:grpSpPr>
                            <p:grpSp>
                              <p:nvGrpSpPr>
                                <p:cNvPr id="6410" name=""/>
                                <p:cNvGrpSpPr/>
                                <p:nvPr/>
                              </p:nvGrpSpPr>
                              <p:grpSpPr>
                                <a:xfrm>
                                  <a:off x="4365000" y="2896560"/>
                                  <a:ext cx="232560" cy="374760"/>
                                  <a:chOff x="4365000" y="2896560"/>
                                  <a:chExt cx="232560" cy="374760"/>
                                </a:xfrm>
                              </p:grpSpPr>
                              <p:grpSp>
                                <p:nvGrpSpPr>
                                  <p:cNvPr id="6411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4365000" y="2896560"/>
                                    <a:ext cx="232560" cy="374760"/>
                                    <a:chOff x="4365000" y="2896560"/>
                                    <a:chExt cx="232560" cy="374760"/>
                                  </a:xfrm>
                                </p:grpSpPr>
                                <p:grpSp>
                                  <p:nvGrpSpPr>
                                    <p:cNvPr id="6412" name=""/>
                                    <p:cNvGrpSpPr/>
                                    <p:nvPr/>
                                  </p:nvGrpSpPr>
                                  <p:grpSpPr>
                                    <a:xfrm>
                                      <a:off x="4365000" y="2896560"/>
                                      <a:ext cx="232560" cy="374760"/>
                                      <a:chOff x="4365000" y="2896560"/>
                                      <a:chExt cx="232560" cy="374760"/>
                                    </a:xfrm>
                                  </p:grpSpPr>
                                  <p:sp>
                                    <p:nvSpPr>
                                      <p:cNvPr id="6413" name=""/>
                                      <p:cNvSpPr/>
                                      <p:nvPr/>
                                    </p:nvSpPr>
                                    <p:spPr>
                                      <a:xfrm>
                                        <a:off x="4365000" y="2896560"/>
                                        <a:ext cx="232560" cy="374760"/>
                                      </a:xfrm>
                                      <a:custGeom>
                                        <a:avLst/>
                                        <a:gdLst/>
                                        <a:ahLst/>
                                        <a:rect l="l" t="t" r="r" b="b"/>
                                        <a:pathLst>
                                          <a:path w="939" h="1215">
                                            <a:moveTo>
                                              <a:pt x="2" y="270"/>
                                            </a:moveTo>
                                            <a:lnTo>
                                              <a:pt x="10" y="248"/>
                                            </a:lnTo>
                                            <a:lnTo>
                                              <a:pt x="20" y="228"/>
                                            </a:lnTo>
                                            <a:lnTo>
                                              <a:pt x="32" y="206"/>
                                            </a:lnTo>
                                            <a:lnTo>
                                              <a:pt x="45" y="191"/>
                                            </a:lnTo>
                                            <a:lnTo>
                                              <a:pt x="58" y="178"/>
                                            </a:lnTo>
                                            <a:lnTo>
                                              <a:pt x="75" y="160"/>
                                            </a:lnTo>
                                            <a:lnTo>
                                              <a:pt x="95" y="137"/>
                                            </a:lnTo>
                                            <a:lnTo>
                                              <a:pt x="110" y="116"/>
                                            </a:lnTo>
                                            <a:lnTo>
                                              <a:pt x="126" y="96"/>
                                            </a:lnTo>
                                            <a:lnTo>
                                              <a:pt x="143" y="80"/>
                                            </a:lnTo>
                                            <a:lnTo>
                                              <a:pt x="164" y="62"/>
                                            </a:lnTo>
                                            <a:lnTo>
                                              <a:pt x="184" y="47"/>
                                            </a:lnTo>
                                            <a:lnTo>
                                              <a:pt x="205" y="34"/>
                                            </a:lnTo>
                                            <a:lnTo>
                                              <a:pt x="231" y="21"/>
                                            </a:lnTo>
                                            <a:lnTo>
                                              <a:pt x="259" y="11"/>
                                            </a:lnTo>
                                            <a:lnTo>
                                              <a:pt x="288" y="4"/>
                                            </a:lnTo>
                                            <a:lnTo>
                                              <a:pt x="324" y="1"/>
                                            </a:lnTo>
                                            <a:lnTo>
                                              <a:pt x="358" y="0"/>
                                            </a:lnTo>
                                            <a:lnTo>
                                              <a:pt x="385" y="2"/>
                                            </a:lnTo>
                                            <a:lnTo>
                                              <a:pt x="413" y="6"/>
                                            </a:lnTo>
                                            <a:lnTo>
                                              <a:pt x="439" y="11"/>
                                            </a:lnTo>
                                            <a:lnTo>
                                              <a:pt x="471" y="19"/>
                                            </a:lnTo>
                                            <a:lnTo>
                                              <a:pt x="499" y="32"/>
                                            </a:lnTo>
                                            <a:lnTo>
                                              <a:pt x="521" y="43"/>
                                            </a:lnTo>
                                            <a:lnTo>
                                              <a:pt x="546" y="56"/>
                                            </a:lnTo>
                                            <a:lnTo>
                                              <a:pt x="565" y="74"/>
                                            </a:lnTo>
                                            <a:lnTo>
                                              <a:pt x="584" y="93"/>
                                            </a:lnTo>
                                            <a:lnTo>
                                              <a:pt x="599" y="112"/>
                                            </a:lnTo>
                                            <a:lnTo>
                                              <a:pt x="616" y="135"/>
                                            </a:lnTo>
                                            <a:lnTo>
                                              <a:pt x="631" y="158"/>
                                            </a:lnTo>
                                            <a:lnTo>
                                              <a:pt x="640" y="179"/>
                                            </a:lnTo>
                                            <a:lnTo>
                                              <a:pt x="646" y="206"/>
                                            </a:lnTo>
                                            <a:lnTo>
                                              <a:pt x="651" y="231"/>
                                            </a:lnTo>
                                            <a:lnTo>
                                              <a:pt x="654" y="250"/>
                                            </a:lnTo>
                                            <a:lnTo>
                                              <a:pt x="653" y="271"/>
                                            </a:lnTo>
                                            <a:lnTo>
                                              <a:pt x="648" y="286"/>
                                            </a:lnTo>
                                            <a:lnTo>
                                              <a:pt x="638" y="310"/>
                                            </a:lnTo>
                                            <a:lnTo>
                                              <a:pt x="624" y="339"/>
                                            </a:lnTo>
                                            <a:lnTo>
                                              <a:pt x="611" y="365"/>
                                            </a:lnTo>
                                            <a:lnTo>
                                              <a:pt x="601" y="386"/>
                                            </a:lnTo>
                                            <a:lnTo>
                                              <a:pt x="594" y="409"/>
                                            </a:lnTo>
                                            <a:lnTo>
                                              <a:pt x="586" y="433"/>
                                            </a:lnTo>
                                            <a:lnTo>
                                              <a:pt x="580" y="454"/>
                                            </a:lnTo>
                                            <a:lnTo>
                                              <a:pt x="577" y="465"/>
                                            </a:lnTo>
                                            <a:lnTo>
                                              <a:pt x="578" y="473"/>
                                            </a:lnTo>
                                            <a:lnTo>
                                              <a:pt x="583" y="476"/>
                                            </a:lnTo>
                                            <a:lnTo>
                                              <a:pt x="590" y="476"/>
                                            </a:lnTo>
                                            <a:lnTo>
                                              <a:pt x="596" y="470"/>
                                            </a:lnTo>
                                            <a:lnTo>
                                              <a:pt x="603" y="459"/>
                                            </a:lnTo>
                                            <a:lnTo>
                                              <a:pt x="612" y="439"/>
                                            </a:lnTo>
                                            <a:lnTo>
                                              <a:pt x="625" y="411"/>
                                            </a:lnTo>
                                            <a:lnTo>
                                              <a:pt x="640" y="385"/>
                                            </a:lnTo>
                                            <a:lnTo>
                                              <a:pt x="654" y="363"/>
                                            </a:lnTo>
                                            <a:lnTo>
                                              <a:pt x="668" y="343"/>
                                            </a:lnTo>
                                            <a:lnTo>
                                              <a:pt x="676" y="334"/>
                                            </a:lnTo>
                                            <a:lnTo>
                                              <a:pt x="684" y="329"/>
                                            </a:lnTo>
                                            <a:lnTo>
                                              <a:pt x="694" y="327"/>
                                            </a:lnTo>
                                            <a:lnTo>
                                              <a:pt x="701" y="333"/>
                                            </a:lnTo>
                                            <a:lnTo>
                                              <a:pt x="711" y="351"/>
                                            </a:lnTo>
                                            <a:lnTo>
                                              <a:pt x="720" y="367"/>
                                            </a:lnTo>
                                            <a:lnTo>
                                              <a:pt x="731" y="389"/>
                                            </a:lnTo>
                                            <a:lnTo>
                                              <a:pt x="743" y="410"/>
                                            </a:lnTo>
                                            <a:lnTo>
                                              <a:pt x="753" y="429"/>
                                            </a:lnTo>
                                            <a:lnTo>
                                              <a:pt x="761" y="450"/>
                                            </a:lnTo>
                                            <a:lnTo>
                                              <a:pt x="770" y="469"/>
                                            </a:lnTo>
                                            <a:lnTo>
                                              <a:pt x="778" y="491"/>
                                            </a:lnTo>
                                            <a:lnTo>
                                              <a:pt x="792" y="505"/>
                                            </a:lnTo>
                                            <a:lnTo>
                                              <a:pt x="808" y="524"/>
                                            </a:lnTo>
                                            <a:lnTo>
                                              <a:pt x="820" y="541"/>
                                            </a:lnTo>
                                            <a:lnTo>
                                              <a:pt x="823" y="561"/>
                                            </a:lnTo>
                                            <a:lnTo>
                                              <a:pt x="821" y="581"/>
                                            </a:lnTo>
                                            <a:lnTo>
                                              <a:pt x="817" y="608"/>
                                            </a:lnTo>
                                            <a:lnTo>
                                              <a:pt x="812" y="633"/>
                                            </a:lnTo>
                                            <a:lnTo>
                                              <a:pt x="807" y="659"/>
                                            </a:lnTo>
                                            <a:lnTo>
                                              <a:pt x="817" y="675"/>
                                            </a:lnTo>
                                            <a:lnTo>
                                              <a:pt x="827" y="691"/>
                                            </a:lnTo>
                                            <a:lnTo>
                                              <a:pt x="836" y="709"/>
                                            </a:lnTo>
                                            <a:lnTo>
                                              <a:pt x="847" y="729"/>
                                            </a:lnTo>
                                            <a:lnTo>
                                              <a:pt x="863" y="762"/>
                                            </a:lnTo>
                                            <a:lnTo>
                                              <a:pt x="877" y="790"/>
                                            </a:lnTo>
                                            <a:lnTo>
                                              <a:pt x="893" y="817"/>
                                            </a:lnTo>
                                            <a:lnTo>
                                              <a:pt x="905" y="843"/>
                                            </a:lnTo>
                                            <a:lnTo>
                                              <a:pt x="911" y="861"/>
                                            </a:lnTo>
                                            <a:lnTo>
                                              <a:pt x="917" y="888"/>
                                            </a:lnTo>
                                            <a:lnTo>
                                              <a:pt x="922" y="918"/>
                                            </a:lnTo>
                                            <a:lnTo>
                                              <a:pt x="927" y="940"/>
                                            </a:lnTo>
                                            <a:lnTo>
                                              <a:pt x="933" y="971"/>
                                            </a:lnTo>
                                            <a:lnTo>
                                              <a:pt x="935" y="1002"/>
                                            </a:lnTo>
                                            <a:lnTo>
                                              <a:pt x="934" y="1023"/>
                                            </a:lnTo>
                                            <a:lnTo>
                                              <a:pt x="934" y="1047"/>
                                            </a:lnTo>
                                            <a:lnTo>
                                              <a:pt x="935" y="1096"/>
                                            </a:lnTo>
                                            <a:lnTo>
                                              <a:pt x="939" y="1153"/>
                                            </a:lnTo>
                                            <a:lnTo>
                                              <a:pt x="938" y="1179"/>
                                            </a:lnTo>
                                            <a:lnTo>
                                              <a:pt x="935" y="1196"/>
                                            </a:lnTo>
                                            <a:lnTo>
                                              <a:pt x="924" y="1206"/>
                                            </a:lnTo>
                                            <a:lnTo>
                                              <a:pt x="906" y="1214"/>
                                            </a:lnTo>
                                            <a:lnTo>
                                              <a:pt x="888" y="1215"/>
                                            </a:lnTo>
                                            <a:lnTo>
                                              <a:pt x="873" y="1208"/>
                                            </a:lnTo>
                                            <a:lnTo>
                                              <a:pt x="862" y="1199"/>
                                            </a:lnTo>
                                            <a:lnTo>
                                              <a:pt x="833" y="1181"/>
                                            </a:lnTo>
                                            <a:lnTo>
                                              <a:pt x="806" y="1167"/>
                                            </a:lnTo>
                                            <a:lnTo>
                                              <a:pt x="779" y="1155"/>
                                            </a:lnTo>
                                            <a:lnTo>
                                              <a:pt x="758" y="1136"/>
                                            </a:lnTo>
                                            <a:lnTo>
                                              <a:pt x="721" y="1103"/>
                                            </a:lnTo>
                                            <a:lnTo>
                                              <a:pt x="687" y="1069"/>
                                            </a:lnTo>
                                            <a:lnTo>
                                              <a:pt x="653" y="1038"/>
                                            </a:lnTo>
                                            <a:lnTo>
                                              <a:pt x="621" y="1002"/>
                                            </a:lnTo>
                                            <a:lnTo>
                                              <a:pt x="582" y="954"/>
                                            </a:lnTo>
                                            <a:lnTo>
                                              <a:pt x="553" y="918"/>
                                            </a:lnTo>
                                            <a:lnTo>
                                              <a:pt x="520" y="888"/>
                                            </a:lnTo>
                                            <a:lnTo>
                                              <a:pt x="481" y="847"/>
                                            </a:lnTo>
                                            <a:lnTo>
                                              <a:pt x="441" y="806"/>
                                            </a:lnTo>
                                            <a:lnTo>
                                              <a:pt x="385" y="754"/>
                                            </a:lnTo>
                                            <a:lnTo>
                                              <a:pt x="334" y="711"/>
                                            </a:lnTo>
                                            <a:lnTo>
                                              <a:pt x="310" y="684"/>
                                            </a:lnTo>
                                            <a:lnTo>
                                              <a:pt x="291" y="662"/>
                                            </a:lnTo>
                                            <a:lnTo>
                                              <a:pt x="280" y="643"/>
                                            </a:lnTo>
                                            <a:lnTo>
                                              <a:pt x="271" y="619"/>
                                            </a:lnTo>
                                            <a:lnTo>
                                              <a:pt x="270" y="607"/>
                                            </a:lnTo>
                                            <a:lnTo>
                                              <a:pt x="275" y="599"/>
                                            </a:lnTo>
                                            <a:lnTo>
                                              <a:pt x="287" y="590"/>
                                            </a:lnTo>
                                            <a:lnTo>
                                              <a:pt x="306" y="576"/>
                                            </a:lnTo>
                                            <a:lnTo>
                                              <a:pt x="327" y="562"/>
                                            </a:lnTo>
                                            <a:lnTo>
                                              <a:pt x="347" y="548"/>
                                            </a:lnTo>
                                            <a:lnTo>
                                              <a:pt x="363" y="538"/>
                                            </a:lnTo>
                                            <a:lnTo>
                                              <a:pt x="381" y="531"/>
                                            </a:lnTo>
                                            <a:lnTo>
                                              <a:pt x="402" y="524"/>
                                            </a:lnTo>
                                            <a:lnTo>
                                              <a:pt x="422" y="517"/>
                                            </a:lnTo>
                                            <a:lnTo>
                                              <a:pt x="443" y="510"/>
                                            </a:lnTo>
                                            <a:lnTo>
                                              <a:pt x="457" y="504"/>
                                            </a:lnTo>
                                            <a:lnTo>
                                              <a:pt x="459" y="498"/>
                                            </a:lnTo>
                                            <a:lnTo>
                                              <a:pt x="454" y="491"/>
                                            </a:lnTo>
                                            <a:lnTo>
                                              <a:pt x="445" y="489"/>
                                            </a:lnTo>
                                            <a:lnTo>
                                              <a:pt x="422" y="492"/>
                                            </a:lnTo>
                                            <a:lnTo>
                                              <a:pt x="398" y="496"/>
                                            </a:lnTo>
                                            <a:lnTo>
                                              <a:pt x="369" y="502"/>
                                            </a:lnTo>
                                            <a:lnTo>
                                              <a:pt x="340" y="510"/>
                                            </a:lnTo>
                                            <a:lnTo>
                                              <a:pt x="327" y="515"/>
                                            </a:lnTo>
                                            <a:lnTo>
                                              <a:pt x="311" y="527"/>
                                            </a:lnTo>
                                            <a:lnTo>
                                              <a:pt x="292" y="541"/>
                                            </a:lnTo>
                                            <a:lnTo>
                                              <a:pt x="268" y="562"/>
                                            </a:lnTo>
                                            <a:lnTo>
                                              <a:pt x="254" y="565"/>
                                            </a:lnTo>
                                            <a:lnTo>
                                              <a:pt x="232" y="567"/>
                                            </a:lnTo>
                                            <a:lnTo>
                                              <a:pt x="211" y="568"/>
                                            </a:lnTo>
                                            <a:lnTo>
                                              <a:pt x="197" y="564"/>
                                            </a:lnTo>
                                            <a:lnTo>
                                              <a:pt x="182" y="557"/>
                                            </a:lnTo>
                                            <a:lnTo>
                                              <a:pt x="162" y="549"/>
                                            </a:lnTo>
                                            <a:lnTo>
                                              <a:pt x="152" y="539"/>
                                            </a:lnTo>
                                            <a:lnTo>
                                              <a:pt x="141" y="523"/>
                                            </a:lnTo>
                                            <a:lnTo>
                                              <a:pt x="129" y="504"/>
                                            </a:lnTo>
                                            <a:lnTo>
                                              <a:pt x="119" y="489"/>
                                            </a:lnTo>
                                            <a:lnTo>
                                              <a:pt x="98" y="468"/>
                                            </a:lnTo>
                                            <a:lnTo>
                                              <a:pt x="83" y="449"/>
                                            </a:lnTo>
                                            <a:lnTo>
                                              <a:pt x="61" y="428"/>
                                            </a:lnTo>
                                            <a:lnTo>
                                              <a:pt x="44" y="410"/>
                                            </a:lnTo>
                                            <a:lnTo>
                                              <a:pt x="33" y="398"/>
                                            </a:lnTo>
                                            <a:lnTo>
                                              <a:pt x="26" y="383"/>
                                            </a:lnTo>
                                            <a:lnTo>
                                              <a:pt x="18" y="362"/>
                                            </a:lnTo>
                                            <a:lnTo>
                                              <a:pt x="9" y="338"/>
                                            </a:lnTo>
                                            <a:lnTo>
                                              <a:pt x="4" y="314"/>
                                            </a:lnTo>
                                            <a:lnTo>
                                              <a:pt x="0" y="288"/>
                                            </a:lnTo>
                                            <a:lnTo>
                                              <a:pt x="2" y="270"/>
                                            </a:lnTo>
                                            <a:close/>
                                          </a:path>
                                        </a:pathLst>
                                      </a:custGeom>
                                      <a:solidFill>
                                        <a:srgbClr val="ff8080"/>
                                      </a:solidFill>
                                      <a:ln w="0">
                                        <a:noFill/>
                                      </a:ln>
                                    </p:spPr>
                                    <p:style>
                                      <a:lnRef idx="0"/>
                                      <a:fillRef idx="0"/>
                                      <a:effectRef idx="0"/>
                                      <a:fontRef idx="minor"/>
                                    </p:style>
                                    <p:txBody>
                                      <a:bodyPr lIns="90000" rIns="90000" tIns="46800" bIns="46800" anchor="t">
                                        <a:noAutofit/>
                                      </a:bodyPr>
                                      <a:p>
                                        <a:endParaRPr b="0" lang="en-US" sz="2400" spc="-1" strike="noStrike">
                                          <a:solidFill>
                                            <a:srgbClr val="000000"/>
                                          </a:solidFill>
                                          <a:latin typeface="Times New Roman"/>
                                        </a:endParaRPr>
                                      </a:p>
                                    </p:txBody>
                                  </p:sp>
                                  <p:grpSp>
                                    <p:nvGrpSpPr>
                                      <p:cNvPr id="6414" name=""/>
                                      <p:cNvGrpSpPr/>
                                      <p:nvPr/>
                                    </p:nvGrpSpPr>
                                    <p:grpSpPr>
                                      <a:xfrm>
                                        <a:off x="4365000" y="2896560"/>
                                        <a:ext cx="232200" cy="372600"/>
                                        <a:chOff x="4365000" y="2896560"/>
                                        <a:chExt cx="232200" cy="372600"/>
                                      </a:xfrm>
                                    </p:grpSpPr>
                                    <p:sp>
                                      <p:nvSpPr>
                                        <p:cNvPr id="6415" name=""/>
                                        <p:cNvSpPr/>
                                        <p:nvPr/>
                                      </p:nvSpPr>
                                      <p:spPr>
                                        <a:xfrm>
                                          <a:off x="4431600" y="2996640"/>
                                          <a:ext cx="165600" cy="272520"/>
                                        </a:xfrm>
                                        <a:custGeom>
                                          <a:avLst/>
                                          <a:gdLst/>
                                          <a:ahLst/>
                                          <a:rect l="l" t="t" r="r" b="b"/>
                                          <a:pathLst>
                                            <a:path w="668" h="887">
                                              <a:moveTo>
                                                <a:pt x="408" y="53"/>
                                              </a:moveTo>
                                              <a:lnTo>
                                                <a:pt x="395" y="57"/>
                                              </a:lnTo>
                                              <a:lnTo>
                                                <a:pt x="379" y="68"/>
                                              </a:lnTo>
                                              <a:lnTo>
                                                <a:pt x="365" y="77"/>
                                              </a:lnTo>
                                              <a:lnTo>
                                                <a:pt x="354" y="84"/>
                                              </a:lnTo>
                                              <a:lnTo>
                                                <a:pt x="369" y="58"/>
                                              </a:lnTo>
                                              <a:lnTo>
                                                <a:pt x="383" y="36"/>
                                              </a:lnTo>
                                              <a:lnTo>
                                                <a:pt x="397" y="16"/>
                                              </a:lnTo>
                                              <a:lnTo>
                                                <a:pt x="405" y="7"/>
                                              </a:lnTo>
                                              <a:lnTo>
                                                <a:pt x="413" y="2"/>
                                              </a:lnTo>
                                              <a:lnTo>
                                                <a:pt x="423" y="0"/>
                                              </a:lnTo>
                                              <a:lnTo>
                                                <a:pt x="430" y="6"/>
                                              </a:lnTo>
                                              <a:lnTo>
                                                <a:pt x="441" y="24"/>
                                              </a:lnTo>
                                              <a:lnTo>
                                                <a:pt x="450" y="40"/>
                                              </a:lnTo>
                                              <a:lnTo>
                                                <a:pt x="461" y="62"/>
                                              </a:lnTo>
                                              <a:lnTo>
                                                <a:pt x="473" y="83"/>
                                              </a:lnTo>
                                              <a:lnTo>
                                                <a:pt x="483" y="102"/>
                                              </a:lnTo>
                                              <a:lnTo>
                                                <a:pt x="491" y="123"/>
                                              </a:lnTo>
                                              <a:lnTo>
                                                <a:pt x="500" y="142"/>
                                              </a:lnTo>
                                              <a:lnTo>
                                                <a:pt x="507" y="164"/>
                                              </a:lnTo>
                                              <a:lnTo>
                                                <a:pt x="521" y="178"/>
                                              </a:lnTo>
                                              <a:lnTo>
                                                <a:pt x="537" y="197"/>
                                              </a:lnTo>
                                              <a:lnTo>
                                                <a:pt x="549" y="214"/>
                                              </a:lnTo>
                                              <a:lnTo>
                                                <a:pt x="552" y="233"/>
                                              </a:lnTo>
                                              <a:lnTo>
                                                <a:pt x="550" y="253"/>
                                              </a:lnTo>
                                              <a:lnTo>
                                                <a:pt x="546" y="280"/>
                                              </a:lnTo>
                                              <a:lnTo>
                                                <a:pt x="541" y="305"/>
                                              </a:lnTo>
                                              <a:lnTo>
                                                <a:pt x="536" y="331"/>
                                              </a:lnTo>
                                              <a:lnTo>
                                                <a:pt x="546" y="347"/>
                                              </a:lnTo>
                                              <a:lnTo>
                                                <a:pt x="556" y="363"/>
                                              </a:lnTo>
                                              <a:lnTo>
                                                <a:pt x="565" y="381"/>
                                              </a:lnTo>
                                              <a:lnTo>
                                                <a:pt x="576" y="401"/>
                                              </a:lnTo>
                                              <a:lnTo>
                                                <a:pt x="592" y="434"/>
                                              </a:lnTo>
                                              <a:lnTo>
                                                <a:pt x="606" y="462"/>
                                              </a:lnTo>
                                              <a:lnTo>
                                                <a:pt x="622" y="489"/>
                                              </a:lnTo>
                                              <a:lnTo>
                                                <a:pt x="634" y="515"/>
                                              </a:lnTo>
                                              <a:lnTo>
                                                <a:pt x="640" y="533"/>
                                              </a:lnTo>
                                              <a:lnTo>
                                                <a:pt x="646" y="560"/>
                                              </a:lnTo>
                                              <a:lnTo>
                                                <a:pt x="651" y="591"/>
                                              </a:lnTo>
                                              <a:lnTo>
                                                <a:pt x="656" y="613"/>
                                              </a:lnTo>
                                              <a:lnTo>
                                                <a:pt x="662" y="644"/>
                                              </a:lnTo>
                                              <a:lnTo>
                                                <a:pt x="664" y="674"/>
                                              </a:lnTo>
                                              <a:lnTo>
                                                <a:pt x="663" y="695"/>
                                              </a:lnTo>
                                              <a:lnTo>
                                                <a:pt x="663" y="719"/>
                                              </a:lnTo>
                                              <a:lnTo>
                                                <a:pt x="664" y="768"/>
                                              </a:lnTo>
                                              <a:lnTo>
                                                <a:pt x="668" y="825"/>
                                              </a:lnTo>
                                              <a:lnTo>
                                                <a:pt x="667" y="851"/>
                                              </a:lnTo>
                                              <a:lnTo>
                                                <a:pt x="664" y="868"/>
                                              </a:lnTo>
                                              <a:lnTo>
                                                <a:pt x="653" y="878"/>
                                              </a:lnTo>
                                              <a:lnTo>
                                                <a:pt x="635" y="886"/>
                                              </a:lnTo>
                                              <a:lnTo>
                                                <a:pt x="617" y="887"/>
                                              </a:lnTo>
                                              <a:lnTo>
                                                <a:pt x="602" y="880"/>
                                              </a:lnTo>
                                              <a:lnTo>
                                                <a:pt x="591" y="871"/>
                                              </a:lnTo>
                                              <a:lnTo>
                                                <a:pt x="562" y="853"/>
                                              </a:lnTo>
                                              <a:lnTo>
                                                <a:pt x="535" y="839"/>
                                              </a:lnTo>
                                              <a:lnTo>
                                                <a:pt x="508" y="827"/>
                                              </a:lnTo>
                                              <a:lnTo>
                                                <a:pt x="488" y="808"/>
                                              </a:lnTo>
                                              <a:lnTo>
                                                <a:pt x="451" y="775"/>
                                              </a:lnTo>
                                              <a:lnTo>
                                                <a:pt x="416" y="741"/>
                                              </a:lnTo>
                                              <a:lnTo>
                                                <a:pt x="382" y="710"/>
                                              </a:lnTo>
                                              <a:lnTo>
                                                <a:pt x="350" y="674"/>
                                              </a:lnTo>
                                              <a:lnTo>
                                                <a:pt x="311" y="627"/>
                                              </a:lnTo>
                                              <a:lnTo>
                                                <a:pt x="282" y="591"/>
                                              </a:lnTo>
                                              <a:lnTo>
                                                <a:pt x="249" y="560"/>
                                              </a:lnTo>
                                              <a:lnTo>
                                                <a:pt x="210" y="519"/>
                                              </a:lnTo>
                                              <a:lnTo>
                                                <a:pt x="170" y="478"/>
                                              </a:lnTo>
                                              <a:lnTo>
                                                <a:pt x="115" y="426"/>
                                              </a:lnTo>
                                              <a:lnTo>
                                                <a:pt x="64" y="383"/>
                                              </a:lnTo>
                                              <a:lnTo>
                                                <a:pt x="40" y="356"/>
                                              </a:lnTo>
                                              <a:lnTo>
                                                <a:pt x="21" y="334"/>
                                              </a:lnTo>
                                              <a:lnTo>
                                                <a:pt x="10" y="315"/>
                                              </a:lnTo>
                                              <a:lnTo>
                                                <a:pt x="1" y="291"/>
                                              </a:lnTo>
                                              <a:lnTo>
                                                <a:pt x="0" y="279"/>
                                              </a:lnTo>
                                              <a:lnTo>
                                                <a:pt x="5" y="271"/>
                                              </a:lnTo>
                                              <a:lnTo>
                                                <a:pt x="17" y="262"/>
                                              </a:lnTo>
                                              <a:lnTo>
                                                <a:pt x="36" y="248"/>
                                              </a:lnTo>
                                              <a:lnTo>
                                                <a:pt x="57" y="234"/>
                                              </a:lnTo>
                                              <a:lnTo>
                                                <a:pt x="77" y="221"/>
                                              </a:lnTo>
                                              <a:lnTo>
                                                <a:pt x="93" y="211"/>
                                              </a:lnTo>
                                              <a:lnTo>
                                                <a:pt x="82" y="237"/>
                                              </a:lnTo>
                                              <a:lnTo>
                                                <a:pt x="71" y="258"/>
                                              </a:lnTo>
                                              <a:lnTo>
                                                <a:pt x="60" y="280"/>
                                              </a:lnTo>
                                              <a:lnTo>
                                                <a:pt x="54" y="295"/>
                                              </a:lnTo>
                                              <a:lnTo>
                                                <a:pt x="55" y="308"/>
                                              </a:lnTo>
                                              <a:lnTo>
                                                <a:pt x="62" y="325"/>
                                              </a:lnTo>
                                              <a:lnTo>
                                                <a:pt x="74" y="347"/>
                                              </a:lnTo>
                                              <a:lnTo>
                                                <a:pt x="91" y="366"/>
                                              </a:lnTo>
                                              <a:lnTo>
                                                <a:pt x="109" y="390"/>
                                              </a:lnTo>
                                              <a:lnTo>
                                                <a:pt x="138" y="411"/>
                                              </a:lnTo>
                                              <a:lnTo>
                                                <a:pt x="167" y="436"/>
                                              </a:lnTo>
                                              <a:lnTo>
                                                <a:pt x="190" y="455"/>
                                              </a:lnTo>
                                              <a:lnTo>
                                                <a:pt x="215" y="475"/>
                                              </a:lnTo>
                                              <a:lnTo>
                                                <a:pt x="239" y="495"/>
                                              </a:lnTo>
                                              <a:lnTo>
                                                <a:pt x="264" y="516"/>
                                              </a:lnTo>
                                              <a:lnTo>
                                                <a:pt x="284" y="541"/>
                                              </a:lnTo>
                                              <a:lnTo>
                                                <a:pt x="307" y="559"/>
                                              </a:lnTo>
                                              <a:lnTo>
                                                <a:pt x="322" y="577"/>
                                              </a:lnTo>
                                              <a:lnTo>
                                                <a:pt x="341" y="603"/>
                                              </a:lnTo>
                                              <a:lnTo>
                                                <a:pt x="358" y="628"/>
                                              </a:lnTo>
                                              <a:lnTo>
                                                <a:pt x="377" y="655"/>
                                              </a:lnTo>
                                              <a:lnTo>
                                                <a:pt x="397" y="678"/>
                                              </a:lnTo>
                                              <a:lnTo>
                                                <a:pt x="420" y="697"/>
                                              </a:lnTo>
                                              <a:lnTo>
                                                <a:pt x="453" y="724"/>
                                              </a:lnTo>
                                              <a:lnTo>
                                                <a:pt x="475" y="743"/>
                                              </a:lnTo>
                                              <a:lnTo>
                                                <a:pt x="496" y="760"/>
                                              </a:lnTo>
                                              <a:lnTo>
                                                <a:pt x="509" y="776"/>
                                              </a:lnTo>
                                              <a:lnTo>
                                                <a:pt x="528" y="783"/>
                                              </a:lnTo>
                                              <a:lnTo>
                                                <a:pt x="546" y="792"/>
                                              </a:lnTo>
                                              <a:lnTo>
                                                <a:pt x="564" y="798"/>
                                              </a:lnTo>
                                              <a:lnTo>
                                                <a:pt x="582" y="803"/>
                                              </a:lnTo>
                                              <a:lnTo>
                                                <a:pt x="594" y="802"/>
                                              </a:lnTo>
                                              <a:lnTo>
                                                <a:pt x="604" y="798"/>
                                              </a:lnTo>
                                              <a:lnTo>
                                                <a:pt x="614" y="792"/>
                                              </a:lnTo>
                                              <a:lnTo>
                                                <a:pt x="620" y="779"/>
                                              </a:lnTo>
                                              <a:lnTo>
                                                <a:pt x="623" y="766"/>
                                              </a:lnTo>
                                              <a:lnTo>
                                                <a:pt x="620" y="738"/>
                                              </a:lnTo>
                                              <a:lnTo>
                                                <a:pt x="618" y="704"/>
                                              </a:lnTo>
                                              <a:lnTo>
                                                <a:pt x="614" y="673"/>
                                              </a:lnTo>
                                              <a:lnTo>
                                                <a:pt x="610" y="640"/>
                                              </a:lnTo>
                                              <a:lnTo>
                                                <a:pt x="607" y="617"/>
                                              </a:lnTo>
                                              <a:lnTo>
                                                <a:pt x="601" y="595"/>
                                              </a:lnTo>
                                              <a:lnTo>
                                                <a:pt x="595" y="566"/>
                                              </a:lnTo>
                                              <a:lnTo>
                                                <a:pt x="586" y="539"/>
                                              </a:lnTo>
                                              <a:lnTo>
                                                <a:pt x="583" y="521"/>
                                              </a:lnTo>
                                              <a:lnTo>
                                                <a:pt x="577" y="502"/>
                                              </a:lnTo>
                                              <a:lnTo>
                                                <a:pt x="564" y="481"/>
                                              </a:lnTo>
                                              <a:lnTo>
                                                <a:pt x="555" y="459"/>
                                              </a:lnTo>
                                              <a:lnTo>
                                                <a:pt x="543" y="440"/>
                                              </a:lnTo>
                                              <a:lnTo>
                                                <a:pt x="531" y="417"/>
                                              </a:lnTo>
                                              <a:lnTo>
                                                <a:pt x="519" y="395"/>
                                              </a:lnTo>
                                              <a:lnTo>
                                                <a:pt x="506" y="370"/>
                                              </a:lnTo>
                                              <a:lnTo>
                                                <a:pt x="492" y="347"/>
                                              </a:lnTo>
                                              <a:lnTo>
                                                <a:pt x="485" y="334"/>
                                              </a:lnTo>
                                              <a:lnTo>
                                                <a:pt x="483" y="325"/>
                                              </a:lnTo>
                                              <a:lnTo>
                                                <a:pt x="487" y="313"/>
                                              </a:lnTo>
                                              <a:lnTo>
                                                <a:pt x="492" y="291"/>
                                              </a:lnTo>
                                              <a:lnTo>
                                                <a:pt x="498" y="267"/>
                                              </a:lnTo>
                                              <a:lnTo>
                                                <a:pt x="501" y="253"/>
                                              </a:lnTo>
                                              <a:lnTo>
                                                <a:pt x="506" y="242"/>
                                              </a:lnTo>
                                              <a:lnTo>
                                                <a:pt x="497" y="222"/>
                                              </a:lnTo>
                                              <a:lnTo>
                                                <a:pt x="487" y="196"/>
                                              </a:lnTo>
                                              <a:lnTo>
                                                <a:pt x="475" y="165"/>
                                              </a:lnTo>
                                              <a:lnTo>
                                                <a:pt x="463" y="135"/>
                                              </a:lnTo>
                                              <a:lnTo>
                                                <a:pt x="449" y="103"/>
                                              </a:lnTo>
                                              <a:lnTo>
                                                <a:pt x="438" y="78"/>
                                              </a:lnTo>
                                              <a:lnTo>
                                                <a:pt x="427" y="57"/>
                                              </a:lnTo>
                                              <a:lnTo>
                                                <a:pt x="418" y="52"/>
                                              </a:lnTo>
                                              <a:lnTo>
                                                <a:pt x="408" y="53"/>
                                              </a:lnTo>
                                              <a:close/>
                                            </a:path>
                                          </a:pathLst>
                                        </a:custGeom>
                                        <a:solidFill>
                                          <a:srgbClr val="ff4040"/>
                                        </a:solidFill>
                                        <a:ln w="0">
                                          <a:noFill/>
                                        </a:ln>
                                      </p:spPr>
                                      <p:style>
                                        <a:lnRef idx="0"/>
                                        <a:fillRef idx="0"/>
                                        <a:effectRef idx="0"/>
                                        <a:fontRef idx="minor"/>
                                      </p:style>
                                      <p:txBody>
                                        <a:bodyPr lIns="90000" rIns="90000" tIns="46800" bIns="46800" anchor="t">
                                          <a:noAutofit/>
                                        </a:bodyPr>
                                        <a:p>
                                          <a:endParaRPr b="0" lang="en-US" sz="2400" spc="-1" strike="noStrike">
                                            <a:solidFill>
                                              <a:srgbClr val="000000"/>
                                            </a:solidFill>
                                            <a:latin typeface="Times New Roman"/>
                                          </a:endParaRPr>
                                        </a:p>
                                      </p:txBody>
                                    </p:sp>
                                    <p:sp>
                                      <p:nvSpPr>
                                        <p:cNvPr id="6416" name=""/>
                                        <p:cNvSpPr/>
                                        <p:nvPr/>
                                      </p:nvSpPr>
                                      <p:spPr>
                                        <a:xfrm>
                                          <a:off x="4365000" y="2896560"/>
                                          <a:ext cx="160560" cy="173880"/>
                                        </a:xfrm>
                                        <a:custGeom>
                                          <a:avLst/>
                                          <a:gdLst/>
                                          <a:ahLst/>
                                          <a:rect l="l" t="t" r="r" b="b"/>
                                          <a:pathLst>
                                            <a:path w="653" h="567">
                                              <a:moveTo>
                                                <a:pt x="2" y="269"/>
                                              </a:moveTo>
                                              <a:lnTo>
                                                <a:pt x="10" y="247"/>
                                              </a:lnTo>
                                              <a:lnTo>
                                                <a:pt x="20" y="226"/>
                                              </a:lnTo>
                                              <a:lnTo>
                                                <a:pt x="32" y="205"/>
                                              </a:lnTo>
                                              <a:lnTo>
                                                <a:pt x="45" y="190"/>
                                              </a:lnTo>
                                              <a:lnTo>
                                                <a:pt x="58" y="177"/>
                                              </a:lnTo>
                                              <a:lnTo>
                                                <a:pt x="75" y="159"/>
                                              </a:lnTo>
                                              <a:lnTo>
                                                <a:pt x="95" y="137"/>
                                              </a:lnTo>
                                              <a:lnTo>
                                                <a:pt x="110" y="116"/>
                                              </a:lnTo>
                                              <a:lnTo>
                                                <a:pt x="126" y="96"/>
                                              </a:lnTo>
                                              <a:lnTo>
                                                <a:pt x="143" y="80"/>
                                              </a:lnTo>
                                              <a:lnTo>
                                                <a:pt x="163" y="62"/>
                                              </a:lnTo>
                                              <a:lnTo>
                                                <a:pt x="183" y="47"/>
                                              </a:lnTo>
                                              <a:lnTo>
                                                <a:pt x="204" y="34"/>
                                              </a:lnTo>
                                              <a:lnTo>
                                                <a:pt x="230" y="21"/>
                                              </a:lnTo>
                                              <a:lnTo>
                                                <a:pt x="259" y="11"/>
                                              </a:lnTo>
                                              <a:lnTo>
                                                <a:pt x="288" y="4"/>
                                              </a:lnTo>
                                              <a:lnTo>
                                                <a:pt x="324" y="1"/>
                                              </a:lnTo>
                                              <a:lnTo>
                                                <a:pt x="358" y="0"/>
                                              </a:lnTo>
                                              <a:lnTo>
                                                <a:pt x="385" y="2"/>
                                              </a:lnTo>
                                              <a:lnTo>
                                                <a:pt x="413" y="6"/>
                                              </a:lnTo>
                                              <a:lnTo>
                                                <a:pt x="439" y="11"/>
                                              </a:lnTo>
                                              <a:lnTo>
                                                <a:pt x="471" y="19"/>
                                              </a:lnTo>
                                              <a:lnTo>
                                                <a:pt x="498" y="32"/>
                                              </a:lnTo>
                                              <a:lnTo>
                                                <a:pt x="520" y="43"/>
                                              </a:lnTo>
                                              <a:lnTo>
                                                <a:pt x="545" y="56"/>
                                              </a:lnTo>
                                              <a:lnTo>
                                                <a:pt x="564" y="74"/>
                                              </a:lnTo>
                                              <a:lnTo>
                                                <a:pt x="583" y="93"/>
                                              </a:lnTo>
                                              <a:lnTo>
                                                <a:pt x="598" y="112"/>
                                              </a:lnTo>
                                              <a:lnTo>
                                                <a:pt x="615" y="135"/>
                                              </a:lnTo>
                                              <a:lnTo>
                                                <a:pt x="630" y="157"/>
                                              </a:lnTo>
                                              <a:lnTo>
                                                <a:pt x="639" y="178"/>
                                              </a:lnTo>
                                              <a:lnTo>
                                                <a:pt x="645" y="205"/>
                                              </a:lnTo>
                                              <a:lnTo>
                                                <a:pt x="650" y="230"/>
                                              </a:lnTo>
                                              <a:lnTo>
                                                <a:pt x="653" y="249"/>
                                              </a:lnTo>
                                              <a:lnTo>
                                                <a:pt x="634" y="208"/>
                                              </a:lnTo>
                                              <a:lnTo>
                                                <a:pt x="623" y="188"/>
                                              </a:lnTo>
                                              <a:lnTo>
                                                <a:pt x="610" y="162"/>
                                              </a:lnTo>
                                              <a:lnTo>
                                                <a:pt x="599" y="142"/>
                                              </a:lnTo>
                                              <a:lnTo>
                                                <a:pt x="586" y="125"/>
                                              </a:lnTo>
                                              <a:lnTo>
                                                <a:pt x="571" y="105"/>
                                              </a:lnTo>
                                              <a:lnTo>
                                                <a:pt x="552" y="89"/>
                                              </a:lnTo>
                                              <a:lnTo>
                                                <a:pt x="537" y="75"/>
                                              </a:lnTo>
                                              <a:lnTo>
                                                <a:pt x="521" y="65"/>
                                              </a:lnTo>
                                              <a:lnTo>
                                                <a:pt x="503" y="59"/>
                                              </a:lnTo>
                                              <a:lnTo>
                                                <a:pt x="486" y="51"/>
                                              </a:lnTo>
                                              <a:lnTo>
                                                <a:pt x="464" y="43"/>
                                              </a:lnTo>
                                              <a:lnTo>
                                                <a:pt x="445" y="38"/>
                                              </a:lnTo>
                                              <a:lnTo>
                                                <a:pt x="422" y="32"/>
                                              </a:lnTo>
                                              <a:lnTo>
                                                <a:pt x="397" y="26"/>
                                              </a:lnTo>
                                              <a:lnTo>
                                                <a:pt x="371" y="24"/>
                                              </a:lnTo>
                                              <a:lnTo>
                                                <a:pt x="349" y="22"/>
                                              </a:lnTo>
                                              <a:lnTo>
                                                <a:pt x="331" y="24"/>
                                              </a:lnTo>
                                              <a:lnTo>
                                                <a:pt x="305" y="29"/>
                                              </a:lnTo>
                                              <a:lnTo>
                                                <a:pt x="280" y="35"/>
                                              </a:lnTo>
                                              <a:lnTo>
                                                <a:pt x="260" y="40"/>
                                              </a:lnTo>
                                              <a:lnTo>
                                                <a:pt x="240" y="49"/>
                                              </a:lnTo>
                                              <a:lnTo>
                                                <a:pt x="215" y="61"/>
                                              </a:lnTo>
                                              <a:lnTo>
                                                <a:pt x="199" y="69"/>
                                              </a:lnTo>
                                              <a:lnTo>
                                                <a:pt x="183" y="82"/>
                                              </a:lnTo>
                                              <a:lnTo>
                                                <a:pt x="161" y="99"/>
                                              </a:lnTo>
                                              <a:lnTo>
                                                <a:pt x="140" y="120"/>
                                              </a:lnTo>
                                              <a:lnTo>
                                                <a:pt x="118" y="141"/>
                                              </a:lnTo>
                                              <a:lnTo>
                                                <a:pt x="100" y="164"/>
                                              </a:lnTo>
                                              <a:lnTo>
                                                <a:pt x="82" y="189"/>
                                              </a:lnTo>
                                              <a:lnTo>
                                                <a:pt x="64" y="211"/>
                                              </a:lnTo>
                                              <a:lnTo>
                                                <a:pt x="56" y="225"/>
                                              </a:lnTo>
                                              <a:lnTo>
                                                <a:pt x="51" y="244"/>
                                              </a:lnTo>
                                              <a:lnTo>
                                                <a:pt x="43" y="261"/>
                                              </a:lnTo>
                                              <a:lnTo>
                                                <a:pt x="37" y="274"/>
                                              </a:lnTo>
                                              <a:lnTo>
                                                <a:pt x="40" y="298"/>
                                              </a:lnTo>
                                              <a:lnTo>
                                                <a:pt x="41" y="321"/>
                                              </a:lnTo>
                                              <a:lnTo>
                                                <a:pt x="47" y="336"/>
                                              </a:lnTo>
                                              <a:lnTo>
                                                <a:pt x="55" y="356"/>
                                              </a:lnTo>
                                              <a:lnTo>
                                                <a:pt x="63" y="375"/>
                                              </a:lnTo>
                                              <a:lnTo>
                                                <a:pt x="72" y="393"/>
                                              </a:lnTo>
                                              <a:lnTo>
                                                <a:pt x="91" y="415"/>
                                              </a:lnTo>
                                              <a:lnTo>
                                                <a:pt x="112" y="439"/>
                                              </a:lnTo>
                                              <a:lnTo>
                                                <a:pt x="133" y="463"/>
                                              </a:lnTo>
                                              <a:lnTo>
                                                <a:pt x="149" y="484"/>
                                              </a:lnTo>
                                              <a:lnTo>
                                                <a:pt x="163" y="502"/>
                                              </a:lnTo>
                                              <a:lnTo>
                                                <a:pt x="176" y="517"/>
                                              </a:lnTo>
                                              <a:lnTo>
                                                <a:pt x="184" y="529"/>
                                              </a:lnTo>
                                              <a:lnTo>
                                                <a:pt x="194" y="533"/>
                                              </a:lnTo>
                                              <a:lnTo>
                                                <a:pt x="208" y="536"/>
                                              </a:lnTo>
                                              <a:lnTo>
                                                <a:pt x="225" y="540"/>
                                              </a:lnTo>
                                              <a:lnTo>
                                                <a:pt x="242" y="545"/>
                                              </a:lnTo>
                                              <a:lnTo>
                                                <a:pt x="256" y="553"/>
                                              </a:lnTo>
                                              <a:lnTo>
                                                <a:pt x="268" y="561"/>
                                              </a:lnTo>
                                              <a:lnTo>
                                                <a:pt x="253" y="564"/>
                                              </a:lnTo>
                                              <a:lnTo>
                                                <a:pt x="231" y="566"/>
                                              </a:lnTo>
                                              <a:lnTo>
                                                <a:pt x="210" y="567"/>
                                              </a:lnTo>
                                              <a:lnTo>
                                                <a:pt x="196" y="563"/>
                                              </a:lnTo>
                                              <a:lnTo>
                                                <a:pt x="181" y="556"/>
                                              </a:lnTo>
                                              <a:lnTo>
                                                <a:pt x="162" y="548"/>
                                              </a:lnTo>
                                              <a:lnTo>
                                                <a:pt x="152" y="538"/>
                                              </a:lnTo>
                                              <a:lnTo>
                                                <a:pt x="141" y="522"/>
                                              </a:lnTo>
                                              <a:lnTo>
                                                <a:pt x="129" y="503"/>
                                              </a:lnTo>
                                              <a:lnTo>
                                                <a:pt x="118" y="488"/>
                                              </a:lnTo>
                                              <a:lnTo>
                                                <a:pt x="98" y="466"/>
                                              </a:lnTo>
                                              <a:lnTo>
                                                <a:pt x="83" y="448"/>
                                              </a:lnTo>
                                              <a:lnTo>
                                                <a:pt x="61" y="426"/>
                                              </a:lnTo>
                                              <a:lnTo>
                                                <a:pt x="44" y="410"/>
                                              </a:lnTo>
                                              <a:lnTo>
                                                <a:pt x="33" y="398"/>
                                              </a:lnTo>
                                              <a:lnTo>
                                                <a:pt x="26" y="383"/>
                                              </a:lnTo>
                                              <a:lnTo>
                                                <a:pt x="18" y="362"/>
                                              </a:lnTo>
                                              <a:lnTo>
                                                <a:pt x="9" y="338"/>
                                              </a:lnTo>
                                              <a:lnTo>
                                                <a:pt x="4" y="314"/>
                                              </a:lnTo>
                                              <a:lnTo>
                                                <a:pt x="0" y="287"/>
                                              </a:lnTo>
                                              <a:lnTo>
                                                <a:pt x="2" y="269"/>
                                              </a:lnTo>
                                              <a:close/>
                                            </a:path>
                                          </a:pathLst>
                                        </a:custGeom>
                                        <a:solidFill>
                                          <a:srgbClr val="ff4040"/>
                                        </a:solidFill>
                                        <a:ln w="0">
                                          <a:noFill/>
                                        </a:ln>
                                      </p:spPr>
                                      <p:style>
                                        <a:lnRef idx="0"/>
                                        <a:fillRef idx="0"/>
                                        <a:effectRef idx="0"/>
                                        <a:fontRef idx="minor"/>
                                      </p:style>
                                      <p:txBody>
                                        <a:bodyPr lIns="90000" rIns="90000" tIns="46800" bIns="46800" anchor="t">
                                          <a:noAutofit/>
                                        </a:bodyPr>
                                        <a:p>
                                          <a:endParaRPr b="0" lang="en-US" sz="2400" spc="-1" strike="noStrike">
                                            <a:solidFill>
                                              <a:srgbClr val="000000"/>
                                            </a:solidFill>
                                            <a:latin typeface="Times New Roman"/>
                                          </a:endParaRPr>
                                        </a:p>
                                      </p:txBody>
                                    </p:sp>
                                  </p:grpSp>
                                </p:grpSp>
                                <p:sp>
                                  <p:nvSpPr>
                                    <p:cNvPr id="6417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4476240" y="3052080"/>
                                      <a:ext cx="96480" cy="155880"/>
                                    </a:xfrm>
                                    <a:custGeom>
                                      <a:avLst/>
                                      <a:gdLst/>
                                      <a:ahLst/>
                                      <a:rect l="l" t="t" r="r" b="b"/>
                                      <a:pathLst>
                                        <a:path w="391" h="501">
                                          <a:moveTo>
                                            <a:pt x="103" y="64"/>
                                          </a:moveTo>
                                          <a:lnTo>
                                            <a:pt x="132" y="49"/>
                                          </a:lnTo>
                                          <a:lnTo>
                                            <a:pt x="152" y="31"/>
                                          </a:lnTo>
                                          <a:lnTo>
                                            <a:pt x="178" y="12"/>
                                          </a:lnTo>
                                          <a:lnTo>
                                            <a:pt x="198" y="3"/>
                                          </a:lnTo>
                                          <a:lnTo>
                                            <a:pt x="217" y="0"/>
                                          </a:lnTo>
                                          <a:lnTo>
                                            <a:pt x="229" y="3"/>
                                          </a:lnTo>
                                          <a:lnTo>
                                            <a:pt x="241" y="13"/>
                                          </a:lnTo>
                                          <a:lnTo>
                                            <a:pt x="249" y="31"/>
                                          </a:lnTo>
                                          <a:lnTo>
                                            <a:pt x="259" y="62"/>
                                          </a:lnTo>
                                          <a:lnTo>
                                            <a:pt x="262" y="95"/>
                                          </a:lnTo>
                                          <a:lnTo>
                                            <a:pt x="263" y="131"/>
                                          </a:lnTo>
                                          <a:lnTo>
                                            <a:pt x="269" y="165"/>
                                          </a:lnTo>
                                          <a:lnTo>
                                            <a:pt x="283" y="197"/>
                                          </a:lnTo>
                                          <a:lnTo>
                                            <a:pt x="301" y="237"/>
                                          </a:lnTo>
                                          <a:lnTo>
                                            <a:pt x="319" y="277"/>
                                          </a:lnTo>
                                          <a:lnTo>
                                            <a:pt x="340" y="319"/>
                                          </a:lnTo>
                                          <a:lnTo>
                                            <a:pt x="365" y="368"/>
                                          </a:lnTo>
                                          <a:lnTo>
                                            <a:pt x="383" y="409"/>
                                          </a:lnTo>
                                          <a:lnTo>
                                            <a:pt x="391" y="434"/>
                                          </a:lnTo>
                                          <a:lnTo>
                                            <a:pt x="391" y="458"/>
                                          </a:lnTo>
                                          <a:lnTo>
                                            <a:pt x="384" y="480"/>
                                          </a:lnTo>
                                          <a:lnTo>
                                            <a:pt x="371" y="494"/>
                                          </a:lnTo>
                                          <a:lnTo>
                                            <a:pt x="350" y="501"/>
                                          </a:lnTo>
                                          <a:lnTo>
                                            <a:pt x="326" y="498"/>
                                          </a:lnTo>
                                          <a:lnTo>
                                            <a:pt x="298" y="490"/>
                                          </a:lnTo>
                                          <a:lnTo>
                                            <a:pt x="274" y="468"/>
                                          </a:lnTo>
                                          <a:lnTo>
                                            <a:pt x="249" y="446"/>
                                          </a:lnTo>
                                          <a:lnTo>
                                            <a:pt x="227" y="416"/>
                                          </a:lnTo>
                                          <a:lnTo>
                                            <a:pt x="198" y="378"/>
                                          </a:lnTo>
                                          <a:lnTo>
                                            <a:pt x="177" y="346"/>
                                          </a:lnTo>
                                          <a:lnTo>
                                            <a:pt x="143" y="317"/>
                                          </a:lnTo>
                                          <a:lnTo>
                                            <a:pt x="112" y="288"/>
                                          </a:lnTo>
                                          <a:lnTo>
                                            <a:pt x="89" y="259"/>
                                          </a:lnTo>
                                          <a:lnTo>
                                            <a:pt x="64" y="222"/>
                                          </a:lnTo>
                                          <a:lnTo>
                                            <a:pt x="35" y="186"/>
                                          </a:lnTo>
                                          <a:lnTo>
                                            <a:pt x="15" y="163"/>
                                          </a:lnTo>
                                          <a:lnTo>
                                            <a:pt x="3" y="143"/>
                                          </a:lnTo>
                                          <a:lnTo>
                                            <a:pt x="0" y="125"/>
                                          </a:lnTo>
                                          <a:lnTo>
                                            <a:pt x="4" y="102"/>
                                          </a:lnTo>
                                          <a:lnTo>
                                            <a:pt x="16" y="87"/>
                                          </a:lnTo>
                                          <a:lnTo>
                                            <a:pt x="34" y="80"/>
                                          </a:lnTo>
                                          <a:lnTo>
                                            <a:pt x="55" y="74"/>
                                          </a:lnTo>
                                          <a:lnTo>
                                            <a:pt x="80" y="68"/>
                                          </a:lnTo>
                                          <a:lnTo>
                                            <a:pt x="103" y="64"/>
                                          </a:lnTo>
                                          <a:close/>
                                        </a:path>
                                      </a:pathLst>
                                    </a:custGeom>
                                    <a:solidFill>
                                      <a:srgbClr val="ff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46800" bIns="4680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000000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6418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4379760" y="2913480"/>
                                    <a:ext cx="133560" cy="144720"/>
                                    <a:chOff x="4379760" y="2913480"/>
                                    <a:chExt cx="133560" cy="144720"/>
                                  </a:xfrm>
                                </p:grpSpPr>
                                <p:sp>
                                  <p:nvSpPr>
                                    <p:cNvPr id="641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4379760" y="2913480"/>
                                      <a:ext cx="133560" cy="144720"/>
                                    </a:xfrm>
                                    <a:custGeom>
                                      <a:avLst/>
                                      <a:gdLst/>
                                      <a:ahLst/>
                                      <a:rect l="l" t="t" r="r" b="b"/>
                                      <a:pathLst>
                                        <a:path w="541" h="470">
                                          <a:moveTo>
                                            <a:pt x="1" y="223"/>
                                          </a:moveTo>
                                          <a:lnTo>
                                            <a:pt x="7" y="204"/>
                                          </a:lnTo>
                                          <a:lnTo>
                                            <a:pt x="16" y="188"/>
                                          </a:lnTo>
                                          <a:lnTo>
                                            <a:pt x="25" y="169"/>
                                          </a:lnTo>
                                          <a:lnTo>
                                            <a:pt x="36" y="157"/>
                                          </a:lnTo>
                                          <a:lnTo>
                                            <a:pt x="47" y="147"/>
                                          </a:lnTo>
                                          <a:lnTo>
                                            <a:pt x="62" y="131"/>
                                          </a:lnTo>
                                          <a:lnTo>
                                            <a:pt x="79" y="114"/>
                                          </a:lnTo>
                                          <a:lnTo>
                                            <a:pt x="91" y="96"/>
                                          </a:lnTo>
                                          <a:lnTo>
                                            <a:pt x="104" y="79"/>
                                          </a:lnTo>
                                          <a:lnTo>
                                            <a:pt x="119" y="66"/>
                                          </a:lnTo>
                                          <a:lnTo>
                                            <a:pt x="135" y="51"/>
                                          </a:lnTo>
                                          <a:lnTo>
                                            <a:pt x="152" y="38"/>
                                          </a:lnTo>
                                          <a:lnTo>
                                            <a:pt x="169" y="27"/>
                                          </a:lnTo>
                                          <a:lnTo>
                                            <a:pt x="190" y="17"/>
                                          </a:lnTo>
                                          <a:lnTo>
                                            <a:pt x="214" y="8"/>
                                          </a:lnTo>
                                          <a:lnTo>
                                            <a:pt x="239" y="3"/>
                                          </a:lnTo>
                                          <a:lnTo>
                                            <a:pt x="268" y="0"/>
                                          </a:lnTo>
                                          <a:lnTo>
                                            <a:pt x="297" y="0"/>
                                          </a:lnTo>
                                          <a:lnTo>
                                            <a:pt x="319" y="1"/>
                                          </a:lnTo>
                                          <a:lnTo>
                                            <a:pt x="342" y="4"/>
                                          </a:lnTo>
                                          <a:lnTo>
                                            <a:pt x="363" y="8"/>
                                          </a:lnTo>
                                          <a:lnTo>
                                            <a:pt x="391" y="15"/>
                                          </a:lnTo>
                                          <a:lnTo>
                                            <a:pt x="412" y="25"/>
                                          </a:lnTo>
                                          <a:lnTo>
                                            <a:pt x="431" y="34"/>
                                          </a:lnTo>
                                          <a:lnTo>
                                            <a:pt x="451" y="45"/>
                                          </a:lnTo>
                                          <a:lnTo>
                                            <a:pt x="468" y="61"/>
                                          </a:lnTo>
                                          <a:lnTo>
                                            <a:pt x="483" y="77"/>
                                          </a:lnTo>
                                          <a:lnTo>
                                            <a:pt x="496" y="93"/>
                                          </a:lnTo>
                                          <a:lnTo>
                                            <a:pt x="510" y="112"/>
                                          </a:lnTo>
                                          <a:lnTo>
                                            <a:pt x="522" y="129"/>
                                          </a:lnTo>
                                          <a:lnTo>
                                            <a:pt x="530" y="148"/>
                                          </a:lnTo>
                                          <a:lnTo>
                                            <a:pt x="535" y="169"/>
                                          </a:lnTo>
                                          <a:lnTo>
                                            <a:pt x="539" y="190"/>
                                          </a:lnTo>
                                          <a:lnTo>
                                            <a:pt x="541" y="206"/>
                                          </a:lnTo>
                                          <a:lnTo>
                                            <a:pt x="541" y="224"/>
                                          </a:lnTo>
                                          <a:lnTo>
                                            <a:pt x="536" y="236"/>
                                          </a:lnTo>
                                          <a:lnTo>
                                            <a:pt x="528" y="257"/>
                                          </a:lnTo>
                                          <a:lnTo>
                                            <a:pt x="516" y="281"/>
                                          </a:lnTo>
                                          <a:lnTo>
                                            <a:pt x="506" y="303"/>
                                          </a:lnTo>
                                          <a:lnTo>
                                            <a:pt x="497" y="320"/>
                                          </a:lnTo>
                                          <a:lnTo>
                                            <a:pt x="491" y="340"/>
                                          </a:lnTo>
                                          <a:lnTo>
                                            <a:pt x="485" y="358"/>
                                          </a:lnTo>
                                          <a:lnTo>
                                            <a:pt x="480" y="376"/>
                                          </a:lnTo>
                                          <a:lnTo>
                                            <a:pt x="477" y="385"/>
                                          </a:lnTo>
                                          <a:lnTo>
                                            <a:pt x="476" y="399"/>
                                          </a:lnTo>
                                          <a:lnTo>
                                            <a:pt x="475" y="421"/>
                                          </a:lnTo>
                                          <a:lnTo>
                                            <a:pt x="389" y="441"/>
                                          </a:lnTo>
                                          <a:lnTo>
                                            <a:pt x="387" y="427"/>
                                          </a:lnTo>
                                          <a:lnTo>
                                            <a:pt x="384" y="417"/>
                                          </a:lnTo>
                                          <a:lnTo>
                                            <a:pt x="379" y="409"/>
                                          </a:lnTo>
                                          <a:lnTo>
                                            <a:pt x="368" y="404"/>
                                          </a:lnTo>
                                          <a:lnTo>
                                            <a:pt x="350" y="407"/>
                                          </a:lnTo>
                                          <a:lnTo>
                                            <a:pt x="330" y="410"/>
                                          </a:lnTo>
                                          <a:lnTo>
                                            <a:pt x="306" y="416"/>
                                          </a:lnTo>
                                          <a:lnTo>
                                            <a:pt x="283" y="422"/>
                                          </a:lnTo>
                                          <a:lnTo>
                                            <a:pt x="271" y="426"/>
                                          </a:lnTo>
                                          <a:lnTo>
                                            <a:pt x="258" y="436"/>
                                          </a:lnTo>
                                          <a:lnTo>
                                            <a:pt x="243" y="448"/>
                                          </a:lnTo>
                                          <a:lnTo>
                                            <a:pt x="222" y="465"/>
                                          </a:lnTo>
                                          <a:lnTo>
                                            <a:pt x="210" y="468"/>
                                          </a:lnTo>
                                          <a:lnTo>
                                            <a:pt x="191" y="470"/>
                                          </a:lnTo>
                                          <a:lnTo>
                                            <a:pt x="173" y="470"/>
                                          </a:lnTo>
                                          <a:lnTo>
                                            <a:pt x="163" y="467"/>
                                          </a:lnTo>
                                          <a:lnTo>
                                            <a:pt x="150" y="461"/>
                                          </a:lnTo>
                                          <a:lnTo>
                                            <a:pt x="134" y="455"/>
                                          </a:lnTo>
                                          <a:lnTo>
                                            <a:pt x="126" y="446"/>
                                          </a:lnTo>
                                          <a:lnTo>
                                            <a:pt x="117" y="433"/>
                                          </a:lnTo>
                                          <a:lnTo>
                                            <a:pt x="107" y="418"/>
                                          </a:lnTo>
                                          <a:lnTo>
                                            <a:pt x="98" y="404"/>
                                          </a:lnTo>
                                          <a:lnTo>
                                            <a:pt x="81" y="387"/>
                                          </a:lnTo>
                                          <a:lnTo>
                                            <a:pt x="69" y="371"/>
                                          </a:lnTo>
                                          <a:lnTo>
                                            <a:pt x="49" y="354"/>
                                          </a:lnTo>
                                          <a:lnTo>
                                            <a:pt x="35" y="340"/>
                                          </a:lnTo>
                                          <a:lnTo>
                                            <a:pt x="26" y="329"/>
                                          </a:lnTo>
                                          <a:lnTo>
                                            <a:pt x="21" y="319"/>
                                          </a:lnTo>
                                          <a:lnTo>
                                            <a:pt x="14" y="301"/>
                                          </a:lnTo>
                                          <a:lnTo>
                                            <a:pt x="6" y="280"/>
                                          </a:lnTo>
                                          <a:lnTo>
                                            <a:pt x="2" y="260"/>
                                          </a:lnTo>
                                          <a:lnTo>
                                            <a:pt x="0" y="238"/>
                                          </a:lnTo>
                                          <a:lnTo>
                                            <a:pt x="1" y="223"/>
                                          </a:lnTo>
                                          <a:close/>
                                        </a:path>
                                      </a:pathLst>
                                    </a:custGeom>
                                    <a:solidFill>
                                      <a:srgbClr val="ff404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46800" bIns="4680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000000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6420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4388400" y="2923920"/>
                                      <a:ext cx="122400" cy="131040"/>
                                    </a:xfrm>
                                    <a:custGeom>
                                      <a:avLst/>
                                      <a:gdLst/>
                                      <a:ahLst/>
                                      <a:rect l="l" t="t" r="r" b="b"/>
                                      <a:pathLst>
                                        <a:path w="492" h="428">
                                          <a:moveTo>
                                            <a:pt x="0" y="203"/>
                                          </a:moveTo>
                                          <a:lnTo>
                                            <a:pt x="7" y="187"/>
                                          </a:lnTo>
                                          <a:lnTo>
                                            <a:pt x="14" y="171"/>
                                          </a:lnTo>
                                          <a:lnTo>
                                            <a:pt x="23" y="155"/>
                                          </a:lnTo>
                                          <a:lnTo>
                                            <a:pt x="33" y="144"/>
                                          </a:lnTo>
                                          <a:lnTo>
                                            <a:pt x="43" y="134"/>
                                          </a:lnTo>
                                          <a:lnTo>
                                            <a:pt x="56" y="120"/>
                                          </a:lnTo>
                                          <a:lnTo>
                                            <a:pt x="72" y="105"/>
                                          </a:lnTo>
                                          <a:lnTo>
                                            <a:pt x="83" y="87"/>
                                          </a:lnTo>
                                          <a:lnTo>
                                            <a:pt x="94" y="73"/>
                                          </a:lnTo>
                                          <a:lnTo>
                                            <a:pt x="108" y="61"/>
                                          </a:lnTo>
                                          <a:lnTo>
                                            <a:pt x="123" y="47"/>
                                          </a:lnTo>
                                          <a:lnTo>
                                            <a:pt x="138" y="35"/>
                                          </a:lnTo>
                                          <a:lnTo>
                                            <a:pt x="153" y="25"/>
                                          </a:lnTo>
                                          <a:lnTo>
                                            <a:pt x="174" y="15"/>
                                          </a:lnTo>
                                          <a:lnTo>
                                            <a:pt x="194" y="8"/>
                                          </a:lnTo>
                                          <a:lnTo>
                                            <a:pt x="217" y="2"/>
                                          </a:lnTo>
                                          <a:lnTo>
                                            <a:pt x="244" y="0"/>
                                          </a:lnTo>
                                          <a:lnTo>
                                            <a:pt x="270" y="0"/>
                                          </a:lnTo>
                                          <a:lnTo>
                                            <a:pt x="290" y="0"/>
                                          </a:lnTo>
                                          <a:lnTo>
                                            <a:pt x="311" y="3"/>
                                          </a:lnTo>
                                          <a:lnTo>
                                            <a:pt x="330" y="8"/>
                                          </a:lnTo>
                                          <a:lnTo>
                                            <a:pt x="356" y="13"/>
                                          </a:lnTo>
                                          <a:lnTo>
                                            <a:pt x="375" y="23"/>
                                          </a:lnTo>
                                          <a:lnTo>
                                            <a:pt x="392" y="31"/>
                                          </a:lnTo>
                                          <a:lnTo>
                                            <a:pt x="410" y="42"/>
                                          </a:lnTo>
                                          <a:lnTo>
                                            <a:pt x="425" y="55"/>
                                          </a:lnTo>
                                          <a:lnTo>
                                            <a:pt x="440" y="71"/>
                                          </a:lnTo>
                                          <a:lnTo>
                                            <a:pt x="451" y="84"/>
                                          </a:lnTo>
                                          <a:lnTo>
                                            <a:pt x="463" y="103"/>
                                          </a:lnTo>
                                          <a:lnTo>
                                            <a:pt x="475" y="118"/>
                                          </a:lnTo>
                                          <a:lnTo>
                                            <a:pt x="482" y="135"/>
                                          </a:lnTo>
                                          <a:lnTo>
                                            <a:pt x="487" y="155"/>
                                          </a:lnTo>
                                          <a:lnTo>
                                            <a:pt x="491" y="173"/>
                                          </a:lnTo>
                                          <a:lnTo>
                                            <a:pt x="492" y="188"/>
                                          </a:lnTo>
                                          <a:lnTo>
                                            <a:pt x="492" y="204"/>
                                          </a:lnTo>
                                          <a:lnTo>
                                            <a:pt x="488" y="215"/>
                                          </a:lnTo>
                                          <a:lnTo>
                                            <a:pt x="481" y="234"/>
                                          </a:lnTo>
                                          <a:lnTo>
                                            <a:pt x="469" y="257"/>
                                          </a:lnTo>
                                          <a:lnTo>
                                            <a:pt x="461" y="276"/>
                                          </a:lnTo>
                                          <a:lnTo>
                                            <a:pt x="452" y="292"/>
                                          </a:lnTo>
                                          <a:lnTo>
                                            <a:pt x="447" y="310"/>
                                          </a:lnTo>
                                          <a:lnTo>
                                            <a:pt x="441" y="326"/>
                                          </a:lnTo>
                                          <a:lnTo>
                                            <a:pt x="437" y="343"/>
                                          </a:lnTo>
                                          <a:lnTo>
                                            <a:pt x="434" y="351"/>
                                          </a:lnTo>
                                          <a:lnTo>
                                            <a:pt x="433" y="364"/>
                                          </a:lnTo>
                                          <a:lnTo>
                                            <a:pt x="432" y="384"/>
                                          </a:lnTo>
                                          <a:lnTo>
                                            <a:pt x="354" y="402"/>
                                          </a:lnTo>
                                          <a:lnTo>
                                            <a:pt x="352" y="389"/>
                                          </a:lnTo>
                                          <a:lnTo>
                                            <a:pt x="349" y="380"/>
                                          </a:lnTo>
                                          <a:lnTo>
                                            <a:pt x="345" y="373"/>
                                          </a:lnTo>
                                          <a:lnTo>
                                            <a:pt x="335" y="368"/>
                                          </a:lnTo>
                                          <a:lnTo>
                                            <a:pt x="318" y="371"/>
                                          </a:lnTo>
                                          <a:lnTo>
                                            <a:pt x="300" y="374"/>
                                          </a:lnTo>
                                          <a:lnTo>
                                            <a:pt x="277" y="379"/>
                                          </a:lnTo>
                                          <a:lnTo>
                                            <a:pt x="257" y="385"/>
                                          </a:lnTo>
                                          <a:lnTo>
                                            <a:pt x="247" y="388"/>
                                          </a:lnTo>
                                          <a:lnTo>
                                            <a:pt x="235" y="397"/>
                                          </a:lnTo>
                                          <a:lnTo>
                                            <a:pt x="221" y="408"/>
                                          </a:lnTo>
                                          <a:lnTo>
                                            <a:pt x="203" y="424"/>
                                          </a:lnTo>
                                          <a:lnTo>
                                            <a:pt x="191" y="427"/>
                                          </a:lnTo>
                                          <a:lnTo>
                                            <a:pt x="174" y="428"/>
                                          </a:lnTo>
                                          <a:lnTo>
                                            <a:pt x="158" y="428"/>
                                          </a:lnTo>
                                          <a:lnTo>
                                            <a:pt x="148" y="426"/>
                                          </a:lnTo>
                                          <a:lnTo>
                                            <a:pt x="136" y="420"/>
                                          </a:lnTo>
                                          <a:lnTo>
                                            <a:pt x="123" y="414"/>
                                          </a:lnTo>
                                          <a:lnTo>
                                            <a:pt x="115" y="407"/>
                                          </a:lnTo>
                                          <a:lnTo>
                                            <a:pt x="106" y="395"/>
                                          </a:lnTo>
                                          <a:lnTo>
                                            <a:pt x="97" y="381"/>
                                          </a:lnTo>
                                          <a:lnTo>
                                            <a:pt x="90" y="368"/>
                                          </a:lnTo>
                                          <a:lnTo>
                                            <a:pt x="74" y="353"/>
                                          </a:lnTo>
                                          <a:lnTo>
                                            <a:pt x="62" y="339"/>
                                          </a:lnTo>
                                          <a:lnTo>
                                            <a:pt x="45" y="323"/>
                                          </a:lnTo>
                                          <a:lnTo>
                                            <a:pt x="32" y="310"/>
                                          </a:lnTo>
                                          <a:lnTo>
                                            <a:pt x="24" y="301"/>
                                          </a:lnTo>
                                          <a:lnTo>
                                            <a:pt x="19" y="290"/>
                                          </a:lnTo>
                                          <a:lnTo>
                                            <a:pt x="12" y="274"/>
                                          </a:lnTo>
                                          <a:lnTo>
                                            <a:pt x="6" y="255"/>
                                          </a:lnTo>
                                          <a:lnTo>
                                            <a:pt x="2" y="237"/>
                                          </a:lnTo>
                                          <a:lnTo>
                                            <a:pt x="0" y="218"/>
                                          </a:lnTo>
                                          <a:lnTo>
                                            <a:pt x="0" y="203"/>
                                          </a:lnTo>
                                          <a:close/>
                                        </a:path>
                                      </a:pathLst>
                                    </a:custGeom>
                                    <a:solidFill>
                                      <a:srgbClr val="ff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46800" bIns="4680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000000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642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4397040" y="2933280"/>
                                      <a:ext cx="109800" cy="118440"/>
                                    </a:xfrm>
                                    <a:custGeom>
                                      <a:avLst/>
                                      <a:gdLst/>
                                      <a:ahLst/>
                                      <a:rect l="l" t="t" r="r" b="b"/>
                                      <a:pathLst>
                                        <a:path w="441" h="383">
                                          <a:moveTo>
                                            <a:pt x="0" y="182"/>
                                          </a:moveTo>
                                          <a:lnTo>
                                            <a:pt x="6" y="167"/>
                                          </a:lnTo>
                                          <a:lnTo>
                                            <a:pt x="12" y="154"/>
                                          </a:lnTo>
                                          <a:lnTo>
                                            <a:pt x="19" y="138"/>
                                          </a:lnTo>
                                          <a:lnTo>
                                            <a:pt x="28" y="128"/>
                                          </a:lnTo>
                                          <a:lnTo>
                                            <a:pt x="38" y="120"/>
                                          </a:lnTo>
                                          <a:lnTo>
                                            <a:pt x="50" y="108"/>
                                          </a:lnTo>
                                          <a:lnTo>
                                            <a:pt x="63" y="93"/>
                                          </a:lnTo>
                                          <a:lnTo>
                                            <a:pt x="73" y="78"/>
                                          </a:lnTo>
                                          <a:lnTo>
                                            <a:pt x="84" y="64"/>
                                          </a:lnTo>
                                          <a:lnTo>
                                            <a:pt x="97" y="54"/>
                                          </a:lnTo>
                                          <a:lnTo>
                                            <a:pt x="110" y="42"/>
                                          </a:lnTo>
                                          <a:lnTo>
                                            <a:pt x="124" y="31"/>
                                          </a:lnTo>
                                          <a:lnTo>
                                            <a:pt x="137" y="21"/>
                                          </a:lnTo>
                                          <a:lnTo>
                                            <a:pt x="155" y="13"/>
                                          </a:lnTo>
                                          <a:lnTo>
                                            <a:pt x="174" y="7"/>
                                          </a:lnTo>
                                          <a:lnTo>
                                            <a:pt x="194" y="1"/>
                                          </a:lnTo>
                                          <a:lnTo>
                                            <a:pt x="219" y="0"/>
                                          </a:lnTo>
                                          <a:lnTo>
                                            <a:pt x="241" y="0"/>
                                          </a:lnTo>
                                          <a:lnTo>
                                            <a:pt x="261" y="0"/>
                                          </a:lnTo>
                                          <a:lnTo>
                                            <a:pt x="279" y="2"/>
                                          </a:lnTo>
                                          <a:lnTo>
                                            <a:pt x="296" y="7"/>
                                          </a:lnTo>
                                          <a:lnTo>
                                            <a:pt x="319" y="11"/>
                                          </a:lnTo>
                                          <a:lnTo>
                                            <a:pt x="336" y="19"/>
                                          </a:lnTo>
                                          <a:lnTo>
                                            <a:pt x="351" y="27"/>
                                          </a:lnTo>
                                          <a:lnTo>
                                            <a:pt x="368" y="37"/>
                                          </a:lnTo>
                                          <a:lnTo>
                                            <a:pt x="381" y="49"/>
                                          </a:lnTo>
                                          <a:lnTo>
                                            <a:pt x="395" y="63"/>
                                          </a:lnTo>
                                          <a:lnTo>
                                            <a:pt x="405" y="75"/>
                                          </a:lnTo>
                                          <a:lnTo>
                                            <a:pt x="415" y="91"/>
                                          </a:lnTo>
                                          <a:lnTo>
                                            <a:pt x="425" y="106"/>
                                          </a:lnTo>
                                          <a:lnTo>
                                            <a:pt x="432" y="121"/>
                                          </a:lnTo>
                                          <a:lnTo>
                                            <a:pt x="437" y="138"/>
                                          </a:lnTo>
                                          <a:lnTo>
                                            <a:pt x="441" y="155"/>
                                          </a:lnTo>
                                          <a:lnTo>
                                            <a:pt x="441" y="168"/>
                                          </a:lnTo>
                                          <a:lnTo>
                                            <a:pt x="441" y="182"/>
                                          </a:lnTo>
                                          <a:lnTo>
                                            <a:pt x="438" y="193"/>
                                          </a:lnTo>
                                          <a:lnTo>
                                            <a:pt x="431" y="210"/>
                                          </a:lnTo>
                                          <a:lnTo>
                                            <a:pt x="421" y="230"/>
                                          </a:lnTo>
                                          <a:lnTo>
                                            <a:pt x="414" y="247"/>
                                          </a:lnTo>
                                          <a:lnTo>
                                            <a:pt x="405" y="262"/>
                                          </a:lnTo>
                                          <a:lnTo>
                                            <a:pt x="401" y="278"/>
                                          </a:lnTo>
                                          <a:lnTo>
                                            <a:pt x="396" y="292"/>
                                          </a:lnTo>
                                          <a:lnTo>
                                            <a:pt x="392" y="308"/>
                                          </a:lnTo>
                                          <a:lnTo>
                                            <a:pt x="388" y="315"/>
                                          </a:lnTo>
                                          <a:lnTo>
                                            <a:pt x="387" y="327"/>
                                          </a:lnTo>
                                          <a:lnTo>
                                            <a:pt x="386" y="344"/>
                                          </a:lnTo>
                                          <a:lnTo>
                                            <a:pt x="317" y="361"/>
                                          </a:lnTo>
                                          <a:lnTo>
                                            <a:pt x="315" y="349"/>
                                          </a:lnTo>
                                          <a:lnTo>
                                            <a:pt x="313" y="340"/>
                                          </a:lnTo>
                                          <a:lnTo>
                                            <a:pt x="309" y="335"/>
                                          </a:lnTo>
                                          <a:lnTo>
                                            <a:pt x="301" y="330"/>
                                          </a:lnTo>
                                          <a:lnTo>
                                            <a:pt x="285" y="333"/>
                                          </a:lnTo>
                                          <a:lnTo>
                                            <a:pt x="269" y="336"/>
                                          </a:lnTo>
                                          <a:lnTo>
                                            <a:pt x="248" y="339"/>
                                          </a:lnTo>
                                          <a:lnTo>
                                            <a:pt x="230" y="346"/>
                                          </a:lnTo>
                                          <a:lnTo>
                                            <a:pt x="221" y="348"/>
                                          </a:lnTo>
                                          <a:lnTo>
                                            <a:pt x="211" y="356"/>
                                          </a:lnTo>
                                          <a:lnTo>
                                            <a:pt x="198" y="366"/>
                                          </a:lnTo>
                                          <a:lnTo>
                                            <a:pt x="181" y="380"/>
                                          </a:lnTo>
                                          <a:lnTo>
                                            <a:pt x="171" y="383"/>
                                          </a:lnTo>
                                          <a:lnTo>
                                            <a:pt x="155" y="383"/>
                                          </a:lnTo>
                                          <a:lnTo>
                                            <a:pt x="141" y="383"/>
                                          </a:lnTo>
                                          <a:lnTo>
                                            <a:pt x="133" y="382"/>
                                          </a:lnTo>
                                          <a:lnTo>
                                            <a:pt x="122" y="376"/>
                                          </a:lnTo>
                                          <a:lnTo>
                                            <a:pt x="109" y="372"/>
                                          </a:lnTo>
                                          <a:lnTo>
                                            <a:pt x="102" y="365"/>
                                          </a:lnTo>
                                          <a:lnTo>
                                            <a:pt x="95" y="355"/>
                                          </a:lnTo>
                                          <a:lnTo>
                                            <a:pt x="87" y="341"/>
                                          </a:lnTo>
                                          <a:lnTo>
                                            <a:pt x="81" y="330"/>
                                          </a:lnTo>
                                          <a:lnTo>
                                            <a:pt x="65" y="317"/>
                                          </a:lnTo>
                                          <a:lnTo>
                                            <a:pt x="55" y="303"/>
                                          </a:lnTo>
                                          <a:lnTo>
                                            <a:pt x="40" y="290"/>
                                          </a:lnTo>
                                          <a:lnTo>
                                            <a:pt x="27" y="278"/>
                                          </a:lnTo>
                                          <a:lnTo>
                                            <a:pt x="20" y="270"/>
                                          </a:lnTo>
                                          <a:lnTo>
                                            <a:pt x="17" y="260"/>
                                          </a:lnTo>
                                          <a:lnTo>
                                            <a:pt x="10" y="246"/>
                                          </a:lnTo>
                                          <a:lnTo>
                                            <a:pt x="5" y="229"/>
                                          </a:lnTo>
                                          <a:lnTo>
                                            <a:pt x="1" y="212"/>
                                          </a:lnTo>
                                          <a:lnTo>
                                            <a:pt x="0" y="195"/>
                                          </a:lnTo>
                                          <a:lnTo>
                                            <a:pt x="0" y="182"/>
                                          </a:lnTo>
                                          <a:close/>
                                        </a:path>
                                      </a:pathLst>
                                    </a:custGeom>
                                    <a:solidFill>
                                      <a:srgbClr val="e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46800" bIns="4680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000000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6422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4405320" y="2942280"/>
                                      <a:ext cx="97920" cy="106560"/>
                                    </a:xfrm>
                                    <a:custGeom>
                                      <a:avLst/>
                                      <a:gdLst/>
                                      <a:ahLst/>
                                      <a:rect l="l" t="t" r="r" b="b"/>
                                      <a:pathLst>
                                        <a:path w="396" h="345">
                                          <a:moveTo>
                                            <a:pt x="0" y="164"/>
                                          </a:moveTo>
                                          <a:lnTo>
                                            <a:pt x="5" y="150"/>
                                          </a:lnTo>
                                          <a:lnTo>
                                            <a:pt x="10" y="138"/>
                                          </a:lnTo>
                                          <a:lnTo>
                                            <a:pt x="17" y="125"/>
                                          </a:lnTo>
                                          <a:lnTo>
                                            <a:pt x="25" y="114"/>
                                          </a:lnTo>
                                          <a:lnTo>
                                            <a:pt x="33" y="107"/>
                                          </a:lnTo>
                                          <a:lnTo>
                                            <a:pt x="45" y="96"/>
                                          </a:lnTo>
                                          <a:lnTo>
                                            <a:pt x="56" y="84"/>
                                          </a:lnTo>
                                          <a:lnTo>
                                            <a:pt x="66" y="69"/>
                                          </a:lnTo>
                                          <a:lnTo>
                                            <a:pt x="75" y="57"/>
                                          </a:lnTo>
                                          <a:lnTo>
                                            <a:pt x="86" y="48"/>
                                          </a:lnTo>
                                          <a:lnTo>
                                            <a:pt x="99" y="38"/>
                                          </a:lnTo>
                                          <a:lnTo>
                                            <a:pt x="111" y="27"/>
                                          </a:lnTo>
                                          <a:lnTo>
                                            <a:pt x="122" y="18"/>
                                          </a:lnTo>
                                          <a:lnTo>
                                            <a:pt x="140" y="11"/>
                                          </a:lnTo>
                                          <a:lnTo>
                                            <a:pt x="156" y="6"/>
                                          </a:lnTo>
                                          <a:lnTo>
                                            <a:pt x="174" y="0"/>
                                          </a:lnTo>
                                          <a:lnTo>
                                            <a:pt x="197" y="0"/>
                                          </a:lnTo>
                                          <a:lnTo>
                                            <a:pt x="216" y="0"/>
                                          </a:lnTo>
                                          <a:lnTo>
                                            <a:pt x="235" y="0"/>
                                          </a:lnTo>
                                          <a:lnTo>
                                            <a:pt x="251" y="1"/>
                                          </a:lnTo>
                                          <a:lnTo>
                                            <a:pt x="266" y="6"/>
                                          </a:lnTo>
                                          <a:lnTo>
                                            <a:pt x="287" y="9"/>
                                          </a:lnTo>
                                          <a:lnTo>
                                            <a:pt x="302" y="17"/>
                                          </a:lnTo>
                                          <a:lnTo>
                                            <a:pt x="316" y="23"/>
                                          </a:lnTo>
                                          <a:lnTo>
                                            <a:pt x="331" y="32"/>
                                          </a:lnTo>
                                          <a:lnTo>
                                            <a:pt x="343" y="44"/>
                                          </a:lnTo>
                                          <a:lnTo>
                                            <a:pt x="355" y="57"/>
                                          </a:lnTo>
                                          <a:lnTo>
                                            <a:pt x="365" y="67"/>
                                          </a:lnTo>
                                          <a:lnTo>
                                            <a:pt x="374" y="82"/>
                                          </a:lnTo>
                                          <a:lnTo>
                                            <a:pt x="383" y="95"/>
                                          </a:lnTo>
                                          <a:lnTo>
                                            <a:pt x="389" y="108"/>
                                          </a:lnTo>
                                          <a:lnTo>
                                            <a:pt x="393" y="125"/>
                                          </a:lnTo>
                                          <a:lnTo>
                                            <a:pt x="396" y="139"/>
                                          </a:lnTo>
                                          <a:lnTo>
                                            <a:pt x="396" y="151"/>
                                          </a:lnTo>
                                          <a:lnTo>
                                            <a:pt x="396" y="164"/>
                                          </a:lnTo>
                                          <a:lnTo>
                                            <a:pt x="394" y="173"/>
                                          </a:lnTo>
                                          <a:lnTo>
                                            <a:pt x="388" y="189"/>
                                          </a:lnTo>
                                          <a:lnTo>
                                            <a:pt x="379" y="207"/>
                                          </a:lnTo>
                                          <a:lnTo>
                                            <a:pt x="373" y="222"/>
                                          </a:lnTo>
                                          <a:lnTo>
                                            <a:pt x="365" y="237"/>
                                          </a:lnTo>
                                          <a:lnTo>
                                            <a:pt x="361" y="250"/>
                                          </a:lnTo>
                                          <a:lnTo>
                                            <a:pt x="356" y="263"/>
                                          </a:lnTo>
                                          <a:lnTo>
                                            <a:pt x="352" y="278"/>
                                          </a:lnTo>
                                          <a:lnTo>
                                            <a:pt x="349" y="284"/>
                                          </a:lnTo>
                                          <a:lnTo>
                                            <a:pt x="349" y="295"/>
                                          </a:lnTo>
                                          <a:lnTo>
                                            <a:pt x="348" y="310"/>
                                          </a:lnTo>
                                          <a:lnTo>
                                            <a:pt x="285" y="326"/>
                                          </a:lnTo>
                                          <a:lnTo>
                                            <a:pt x="283" y="314"/>
                                          </a:lnTo>
                                          <a:lnTo>
                                            <a:pt x="282" y="307"/>
                                          </a:lnTo>
                                          <a:lnTo>
                                            <a:pt x="278" y="302"/>
                                          </a:lnTo>
                                          <a:lnTo>
                                            <a:pt x="271" y="297"/>
                                          </a:lnTo>
                                          <a:lnTo>
                                            <a:pt x="256" y="300"/>
                                          </a:lnTo>
                                          <a:lnTo>
                                            <a:pt x="242" y="303"/>
                                          </a:lnTo>
                                          <a:lnTo>
                                            <a:pt x="223" y="306"/>
                                          </a:lnTo>
                                          <a:lnTo>
                                            <a:pt x="206" y="311"/>
                                          </a:lnTo>
                                          <a:lnTo>
                                            <a:pt x="198" y="313"/>
                                          </a:lnTo>
                                          <a:lnTo>
                                            <a:pt x="189" y="321"/>
                                          </a:lnTo>
                                          <a:lnTo>
                                            <a:pt x="178" y="330"/>
                                          </a:lnTo>
                                          <a:lnTo>
                                            <a:pt x="162" y="343"/>
                                          </a:lnTo>
                                          <a:lnTo>
                                            <a:pt x="153" y="345"/>
                                          </a:lnTo>
                                          <a:lnTo>
                                            <a:pt x="140" y="345"/>
                                          </a:lnTo>
                                          <a:lnTo>
                                            <a:pt x="126" y="345"/>
                                          </a:lnTo>
                                          <a:lnTo>
                                            <a:pt x="119" y="345"/>
                                          </a:lnTo>
                                          <a:lnTo>
                                            <a:pt x="109" y="339"/>
                                          </a:lnTo>
                                          <a:lnTo>
                                            <a:pt x="98" y="336"/>
                                          </a:lnTo>
                                          <a:lnTo>
                                            <a:pt x="92" y="329"/>
                                          </a:lnTo>
                                          <a:lnTo>
                                            <a:pt x="84" y="320"/>
                                          </a:lnTo>
                                          <a:lnTo>
                                            <a:pt x="77" y="307"/>
                                          </a:lnTo>
                                          <a:lnTo>
                                            <a:pt x="72" y="297"/>
                                          </a:lnTo>
                                          <a:lnTo>
                                            <a:pt x="58" y="286"/>
                                          </a:lnTo>
                                          <a:lnTo>
                                            <a:pt x="49" y="273"/>
                                          </a:lnTo>
                                          <a:lnTo>
                                            <a:pt x="35" y="261"/>
                                          </a:lnTo>
                                          <a:lnTo>
                                            <a:pt x="24" y="250"/>
                                          </a:lnTo>
                                          <a:lnTo>
                                            <a:pt x="18" y="243"/>
                                          </a:lnTo>
                                          <a:lnTo>
                                            <a:pt x="15" y="234"/>
                                          </a:lnTo>
                                          <a:lnTo>
                                            <a:pt x="9" y="221"/>
                                          </a:lnTo>
                                          <a:lnTo>
                                            <a:pt x="4" y="206"/>
                                          </a:lnTo>
                                          <a:lnTo>
                                            <a:pt x="0" y="191"/>
                                          </a:lnTo>
                                          <a:lnTo>
                                            <a:pt x="0" y="175"/>
                                          </a:lnTo>
                                          <a:lnTo>
                                            <a:pt x="0" y="164"/>
                                          </a:lnTo>
                                          <a:close/>
                                        </a:path>
                                      </a:pathLst>
                                    </a:custGeom>
                                    <a:solidFill>
                                      <a:srgbClr val="c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46800" bIns="4680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000000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6423" name=""/>
                                <p:cNvGrpSpPr/>
                                <p:nvPr/>
                              </p:nvGrpSpPr>
                              <p:grpSpPr>
                                <a:xfrm>
                                  <a:off x="4425480" y="2910240"/>
                                  <a:ext cx="90000" cy="51840"/>
                                  <a:chOff x="4425480" y="2910240"/>
                                  <a:chExt cx="90000" cy="51840"/>
                                </a:xfrm>
                              </p:grpSpPr>
                              <p:sp>
                                <p:nvSpPr>
                                  <p:cNvPr id="6424" name=""/>
                                  <p:cNvSpPr/>
                                  <p:nvPr/>
                                </p:nvSpPr>
                                <p:spPr>
                                  <a:xfrm>
                                    <a:off x="4425480" y="2911320"/>
                                    <a:ext cx="20880" cy="15120"/>
                                  </a:xfrm>
                                  <a:custGeom>
                                    <a:avLst/>
                                    <a:gdLst/>
                                    <a:ahLst/>
                                    <a:rect l="l" t="t" r="r" b="b"/>
                                    <a:pathLst>
                                      <a:path w="88" h="49">
                                        <a:moveTo>
                                          <a:pt x="37" y="2"/>
                                        </a:moveTo>
                                        <a:lnTo>
                                          <a:pt x="48" y="0"/>
                                        </a:lnTo>
                                        <a:lnTo>
                                          <a:pt x="60" y="0"/>
                                        </a:lnTo>
                                        <a:lnTo>
                                          <a:pt x="68" y="1"/>
                                        </a:lnTo>
                                        <a:lnTo>
                                          <a:pt x="79" y="6"/>
                                        </a:lnTo>
                                        <a:lnTo>
                                          <a:pt x="85" y="10"/>
                                        </a:lnTo>
                                        <a:lnTo>
                                          <a:pt x="88" y="19"/>
                                        </a:lnTo>
                                        <a:lnTo>
                                          <a:pt x="85" y="29"/>
                                        </a:lnTo>
                                        <a:lnTo>
                                          <a:pt x="79" y="37"/>
                                        </a:lnTo>
                                        <a:lnTo>
                                          <a:pt x="70" y="41"/>
                                        </a:lnTo>
                                        <a:lnTo>
                                          <a:pt x="61" y="45"/>
                                        </a:lnTo>
                                        <a:lnTo>
                                          <a:pt x="48" y="47"/>
                                        </a:lnTo>
                                        <a:lnTo>
                                          <a:pt x="36" y="49"/>
                                        </a:lnTo>
                                        <a:lnTo>
                                          <a:pt x="23" y="49"/>
                                        </a:lnTo>
                                        <a:lnTo>
                                          <a:pt x="12" y="47"/>
                                        </a:lnTo>
                                        <a:lnTo>
                                          <a:pt x="3" y="42"/>
                                        </a:lnTo>
                                        <a:lnTo>
                                          <a:pt x="0" y="35"/>
                                        </a:lnTo>
                                        <a:lnTo>
                                          <a:pt x="1" y="25"/>
                                        </a:lnTo>
                                        <a:lnTo>
                                          <a:pt x="6" y="16"/>
                                        </a:lnTo>
                                        <a:lnTo>
                                          <a:pt x="16" y="9"/>
                                        </a:lnTo>
                                        <a:lnTo>
                                          <a:pt x="25" y="5"/>
                                        </a:lnTo>
                                        <a:lnTo>
                                          <a:pt x="37" y="2"/>
                                        </a:lnTo>
                                        <a:close/>
                                      </a:path>
                                    </a:pathLst>
                                  </a:custGeom>
                                  <a:solidFill>
                                    <a:srgbClr val="a000a0"/>
                                  </a:solidFill>
                                  <a:ln w="0">
                                    <a:noFill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-31680" bIns="-31680" anchor="t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6425" name=""/>
                                  <p:cNvSpPr/>
                                  <p:nvPr/>
                                </p:nvSpPr>
                                <p:spPr>
                                  <a:xfrm>
                                    <a:off x="4453560" y="2910240"/>
                                    <a:ext cx="22320" cy="13320"/>
                                  </a:xfrm>
                                  <a:custGeom>
                                    <a:avLst/>
                                    <a:gdLst/>
                                    <a:ahLst/>
                                    <a:rect l="l" t="t" r="r" b="b"/>
                                    <a:pathLst>
                                      <a:path w="87" h="49">
                                        <a:moveTo>
                                          <a:pt x="36" y="47"/>
                                        </a:moveTo>
                                        <a:lnTo>
                                          <a:pt x="47" y="49"/>
                                        </a:lnTo>
                                        <a:lnTo>
                                          <a:pt x="58" y="49"/>
                                        </a:lnTo>
                                        <a:lnTo>
                                          <a:pt x="66" y="48"/>
                                        </a:lnTo>
                                        <a:lnTo>
                                          <a:pt x="78" y="43"/>
                                        </a:lnTo>
                                        <a:lnTo>
                                          <a:pt x="84" y="38"/>
                                        </a:lnTo>
                                        <a:lnTo>
                                          <a:pt x="87" y="30"/>
                                        </a:lnTo>
                                        <a:lnTo>
                                          <a:pt x="84" y="19"/>
                                        </a:lnTo>
                                        <a:lnTo>
                                          <a:pt x="78" y="12"/>
                                        </a:lnTo>
                                        <a:lnTo>
                                          <a:pt x="68" y="8"/>
                                        </a:lnTo>
                                        <a:lnTo>
                                          <a:pt x="59" y="4"/>
                                        </a:lnTo>
                                        <a:lnTo>
                                          <a:pt x="47" y="2"/>
                                        </a:lnTo>
                                        <a:lnTo>
                                          <a:pt x="35" y="0"/>
                                        </a:lnTo>
                                        <a:lnTo>
                                          <a:pt x="21" y="0"/>
                                        </a:lnTo>
                                        <a:lnTo>
                                          <a:pt x="10" y="2"/>
                                        </a:lnTo>
                                        <a:lnTo>
                                          <a:pt x="3" y="7"/>
                                        </a:lnTo>
                                        <a:lnTo>
                                          <a:pt x="0" y="14"/>
                                        </a:lnTo>
                                        <a:lnTo>
                                          <a:pt x="1" y="24"/>
                                        </a:lnTo>
                                        <a:lnTo>
                                          <a:pt x="6" y="33"/>
                                        </a:lnTo>
                                        <a:lnTo>
                                          <a:pt x="14" y="39"/>
                                        </a:lnTo>
                                        <a:lnTo>
                                          <a:pt x="23" y="44"/>
                                        </a:lnTo>
                                        <a:lnTo>
                                          <a:pt x="36" y="47"/>
                                        </a:lnTo>
                                        <a:close/>
                                      </a:path>
                                    </a:pathLst>
                                  </a:custGeom>
                                  <a:solidFill>
                                    <a:srgbClr val="a000a0"/>
                                  </a:solidFill>
                                  <a:ln w="0">
                                    <a:noFill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-33480" bIns="-33480" anchor="t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6426" name=""/>
                                  <p:cNvSpPr/>
                                  <p:nvPr/>
                                </p:nvSpPr>
                                <p:spPr>
                                  <a:xfrm>
                                    <a:off x="4482360" y="2920680"/>
                                    <a:ext cx="15840" cy="16560"/>
                                  </a:xfrm>
                                  <a:custGeom>
                                    <a:avLst/>
                                    <a:gdLst/>
                                    <a:ahLst/>
                                    <a:rect l="l" t="t" r="r" b="b"/>
                                    <a:pathLst>
                                      <a:path w="68" h="56">
                                        <a:moveTo>
                                          <a:pt x="34" y="53"/>
                                        </a:moveTo>
                                        <a:lnTo>
                                          <a:pt x="45" y="56"/>
                                        </a:lnTo>
                                        <a:lnTo>
                                          <a:pt x="53" y="56"/>
                                        </a:lnTo>
                                        <a:lnTo>
                                          <a:pt x="61" y="54"/>
                                        </a:lnTo>
                                        <a:lnTo>
                                          <a:pt x="65" y="48"/>
                                        </a:lnTo>
                                        <a:lnTo>
                                          <a:pt x="68" y="40"/>
                                        </a:lnTo>
                                        <a:lnTo>
                                          <a:pt x="66" y="31"/>
                                        </a:lnTo>
                                        <a:lnTo>
                                          <a:pt x="60" y="19"/>
                                        </a:lnTo>
                                        <a:lnTo>
                                          <a:pt x="52" y="11"/>
                                        </a:lnTo>
                                        <a:lnTo>
                                          <a:pt x="41" y="5"/>
                                        </a:lnTo>
                                        <a:lnTo>
                                          <a:pt x="29" y="1"/>
                                        </a:lnTo>
                                        <a:lnTo>
                                          <a:pt x="20" y="0"/>
                                        </a:lnTo>
                                        <a:lnTo>
                                          <a:pt x="12" y="2"/>
                                        </a:lnTo>
                                        <a:lnTo>
                                          <a:pt x="4" y="7"/>
                                        </a:lnTo>
                                        <a:lnTo>
                                          <a:pt x="0" y="14"/>
                                        </a:lnTo>
                                        <a:lnTo>
                                          <a:pt x="1" y="24"/>
                                        </a:lnTo>
                                        <a:lnTo>
                                          <a:pt x="7" y="34"/>
                                        </a:lnTo>
                                        <a:lnTo>
                                          <a:pt x="16" y="41"/>
                                        </a:lnTo>
                                        <a:lnTo>
                                          <a:pt x="25" y="47"/>
                                        </a:lnTo>
                                        <a:lnTo>
                                          <a:pt x="34" y="53"/>
                                        </a:lnTo>
                                        <a:close/>
                                      </a:path>
                                    </a:pathLst>
                                  </a:custGeom>
                                  <a:solidFill>
                                    <a:srgbClr val="a000a0"/>
                                  </a:solidFill>
                                  <a:ln w="0">
                                    <a:noFill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-30240" bIns="-30240" anchor="t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6427" name=""/>
                                  <p:cNvSpPr/>
                                  <p:nvPr/>
                                </p:nvSpPr>
                                <p:spPr>
                                  <a:xfrm>
                                    <a:off x="4500720" y="2941920"/>
                                    <a:ext cx="14760" cy="20160"/>
                                  </a:xfrm>
                                  <a:custGeom>
                                    <a:avLst/>
                                    <a:gdLst/>
                                    <a:ahLst/>
                                    <a:rect l="l" t="t" r="r" b="b"/>
                                    <a:pathLst>
                                      <a:path w="57" h="65">
                                        <a:moveTo>
                                          <a:pt x="24" y="61"/>
                                        </a:moveTo>
                                        <a:lnTo>
                                          <a:pt x="35" y="65"/>
                                        </a:lnTo>
                                        <a:lnTo>
                                          <a:pt x="45" y="64"/>
                                        </a:lnTo>
                                        <a:lnTo>
                                          <a:pt x="52" y="59"/>
                                        </a:lnTo>
                                        <a:lnTo>
                                          <a:pt x="57" y="48"/>
                                        </a:lnTo>
                                        <a:lnTo>
                                          <a:pt x="55" y="34"/>
                                        </a:lnTo>
                                        <a:lnTo>
                                          <a:pt x="52" y="23"/>
                                        </a:lnTo>
                                        <a:lnTo>
                                          <a:pt x="46" y="14"/>
                                        </a:lnTo>
                                        <a:lnTo>
                                          <a:pt x="40" y="6"/>
                                        </a:lnTo>
                                        <a:lnTo>
                                          <a:pt x="29" y="1"/>
                                        </a:lnTo>
                                        <a:lnTo>
                                          <a:pt x="21" y="0"/>
                                        </a:lnTo>
                                        <a:lnTo>
                                          <a:pt x="11" y="2"/>
                                        </a:lnTo>
                                        <a:lnTo>
                                          <a:pt x="3" y="7"/>
                                        </a:lnTo>
                                        <a:lnTo>
                                          <a:pt x="0" y="15"/>
                                        </a:lnTo>
                                        <a:lnTo>
                                          <a:pt x="1" y="24"/>
                                        </a:lnTo>
                                        <a:lnTo>
                                          <a:pt x="3" y="34"/>
                                        </a:lnTo>
                                        <a:lnTo>
                                          <a:pt x="9" y="44"/>
                                        </a:lnTo>
                                        <a:lnTo>
                                          <a:pt x="17" y="53"/>
                                        </a:lnTo>
                                        <a:lnTo>
                                          <a:pt x="24" y="61"/>
                                        </a:lnTo>
                                        <a:close/>
                                      </a:path>
                                    </a:pathLst>
                                  </a:custGeom>
                                  <a:solidFill>
                                    <a:srgbClr val="a000a0"/>
                                  </a:solidFill>
                                  <a:ln w="0">
                                    <a:noFill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-26640" bIns="-26640" anchor="t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</p:grpSp>
                          </p:grpSp>
                          <p:grpSp>
                            <p:nvGrpSpPr>
                              <p:cNvPr id="6428" name=""/>
                              <p:cNvGrpSpPr/>
                              <p:nvPr/>
                            </p:nvGrpSpPr>
                            <p:grpSpPr>
                              <a:xfrm>
                                <a:off x="4455360" y="2990520"/>
                                <a:ext cx="100800" cy="201960"/>
                                <a:chOff x="4455360" y="2990520"/>
                                <a:chExt cx="100800" cy="201960"/>
                              </a:xfrm>
                            </p:grpSpPr>
                            <p:sp>
                              <p:nvSpPr>
                                <p:cNvPr id="6429" name=""/>
                                <p:cNvSpPr/>
                                <p:nvPr/>
                              </p:nvSpPr>
                              <p:spPr>
                                <a:xfrm>
                                  <a:off x="4499640" y="2991600"/>
                                  <a:ext cx="56520" cy="12636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229" h="410">
                                      <a:moveTo>
                                        <a:pt x="27" y="0"/>
                                      </a:moveTo>
                                      <a:lnTo>
                                        <a:pt x="17" y="28"/>
                                      </a:lnTo>
                                      <a:lnTo>
                                        <a:pt x="8" y="64"/>
                                      </a:lnTo>
                                      <a:lnTo>
                                        <a:pt x="3" y="103"/>
                                      </a:lnTo>
                                      <a:lnTo>
                                        <a:pt x="0" y="137"/>
                                      </a:lnTo>
                                      <a:lnTo>
                                        <a:pt x="5" y="166"/>
                                      </a:lnTo>
                                      <a:lnTo>
                                        <a:pt x="14" y="190"/>
                                      </a:lnTo>
                                      <a:lnTo>
                                        <a:pt x="30" y="215"/>
                                      </a:lnTo>
                                      <a:lnTo>
                                        <a:pt x="52" y="245"/>
                                      </a:lnTo>
                                      <a:lnTo>
                                        <a:pt x="82" y="272"/>
                                      </a:lnTo>
                                      <a:lnTo>
                                        <a:pt x="122" y="304"/>
                                      </a:lnTo>
                                      <a:lnTo>
                                        <a:pt x="152" y="329"/>
                                      </a:lnTo>
                                      <a:lnTo>
                                        <a:pt x="176" y="347"/>
                                      </a:lnTo>
                                      <a:lnTo>
                                        <a:pt x="192" y="366"/>
                                      </a:lnTo>
                                      <a:lnTo>
                                        <a:pt x="213" y="389"/>
                                      </a:lnTo>
                                      <a:lnTo>
                                        <a:pt x="229" y="410"/>
                                      </a:lnTo>
                                    </a:path>
                                  </a:pathLst>
                                </a:custGeom>
                                <a:noFill/>
                                <a:ln w="4680">
                                  <a:solidFill>
                                    <a:srgbClr val="ffc0c0"/>
                                  </a:solidFill>
                                  <a:round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6430" name=""/>
                                <p:cNvSpPr/>
                                <p:nvPr/>
                              </p:nvSpPr>
                              <p:spPr>
                                <a:xfrm>
                                  <a:off x="4455360" y="3033360"/>
                                  <a:ext cx="54360" cy="11988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216" h="391">
                                      <a:moveTo>
                                        <a:pt x="0" y="0"/>
                                      </a:moveTo>
                                      <a:lnTo>
                                        <a:pt x="24" y="4"/>
                                      </a:lnTo>
                                      <a:lnTo>
                                        <a:pt x="47" y="9"/>
                                      </a:lnTo>
                                      <a:lnTo>
                                        <a:pt x="73" y="18"/>
                                      </a:lnTo>
                                      <a:lnTo>
                                        <a:pt x="93" y="29"/>
                                      </a:lnTo>
                                      <a:lnTo>
                                        <a:pt x="112" y="41"/>
                                      </a:lnTo>
                                      <a:lnTo>
                                        <a:pt x="128" y="65"/>
                                      </a:lnTo>
                                      <a:lnTo>
                                        <a:pt x="142" y="87"/>
                                      </a:lnTo>
                                      <a:lnTo>
                                        <a:pt x="152" y="114"/>
                                      </a:lnTo>
                                      <a:lnTo>
                                        <a:pt x="162" y="146"/>
                                      </a:lnTo>
                                      <a:lnTo>
                                        <a:pt x="171" y="182"/>
                                      </a:lnTo>
                                      <a:lnTo>
                                        <a:pt x="174" y="222"/>
                                      </a:lnTo>
                                      <a:lnTo>
                                        <a:pt x="177" y="276"/>
                                      </a:lnTo>
                                      <a:lnTo>
                                        <a:pt x="180" y="314"/>
                                      </a:lnTo>
                                      <a:lnTo>
                                        <a:pt x="188" y="347"/>
                                      </a:lnTo>
                                      <a:lnTo>
                                        <a:pt x="201" y="372"/>
                                      </a:lnTo>
                                      <a:lnTo>
                                        <a:pt x="216" y="391"/>
                                      </a:lnTo>
                                      <a:lnTo>
                                        <a:pt x="214" y="390"/>
                                      </a:lnTo>
                                    </a:path>
                                  </a:pathLst>
                                </a:custGeom>
                                <a:noFill/>
                                <a:ln w="4680">
                                  <a:solidFill>
                                    <a:srgbClr val="ffc0c0"/>
                                  </a:solidFill>
                                  <a:round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6431" name=""/>
                                <p:cNvSpPr/>
                                <p:nvPr/>
                              </p:nvSpPr>
                              <p:spPr>
                                <a:xfrm>
                                  <a:off x="4457880" y="2990520"/>
                                  <a:ext cx="91080" cy="20196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371" h="657">
                                      <a:moveTo>
                                        <a:pt x="0" y="0"/>
                                      </a:moveTo>
                                      <a:lnTo>
                                        <a:pt x="26" y="25"/>
                                      </a:lnTo>
                                      <a:lnTo>
                                        <a:pt x="60" y="56"/>
                                      </a:lnTo>
                                      <a:lnTo>
                                        <a:pt x="84" y="86"/>
                                      </a:lnTo>
                                      <a:lnTo>
                                        <a:pt x="108" y="120"/>
                                      </a:lnTo>
                                      <a:lnTo>
                                        <a:pt x="132" y="159"/>
                                      </a:lnTo>
                                      <a:lnTo>
                                        <a:pt x="154" y="196"/>
                                      </a:lnTo>
                                      <a:lnTo>
                                        <a:pt x="176" y="236"/>
                                      </a:lnTo>
                                      <a:lnTo>
                                        <a:pt x="195" y="272"/>
                                      </a:lnTo>
                                      <a:lnTo>
                                        <a:pt x="213" y="313"/>
                                      </a:lnTo>
                                      <a:lnTo>
                                        <a:pt x="230" y="357"/>
                                      </a:lnTo>
                                      <a:lnTo>
                                        <a:pt x="247" y="409"/>
                                      </a:lnTo>
                                      <a:lnTo>
                                        <a:pt x="261" y="452"/>
                                      </a:lnTo>
                                      <a:lnTo>
                                        <a:pt x="277" y="496"/>
                                      </a:lnTo>
                                      <a:lnTo>
                                        <a:pt x="292" y="533"/>
                                      </a:lnTo>
                                      <a:lnTo>
                                        <a:pt x="312" y="577"/>
                                      </a:lnTo>
                                      <a:lnTo>
                                        <a:pt x="338" y="616"/>
                                      </a:lnTo>
                                      <a:lnTo>
                                        <a:pt x="371" y="657"/>
                                      </a:lnTo>
                                    </a:path>
                                  </a:pathLst>
                                </a:custGeom>
                                <a:noFill/>
                                <a:ln w="4680">
                                  <a:solidFill>
                                    <a:srgbClr val="ffc0c0"/>
                                  </a:solidFill>
                                  <a:round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</p:grpSp>
                        <p:grpSp>
                          <p:nvGrpSpPr>
                            <p:cNvPr id="6432" name=""/>
                            <p:cNvGrpSpPr/>
                            <p:nvPr/>
                          </p:nvGrpSpPr>
                          <p:grpSpPr>
                            <a:xfrm>
                              <a:off x="4235400" y="2982600"/>
                              <a:ext cx="301680" cy="331560"/>
                              <a:chOff x="4235400" y="2982600"/>
                              <a:chExt cx="301680" cy="331560"/>
                            </a:xfrm>
                          </p:grpSpPr>
                          <p:grpSp>
                            <p:nvGrpSpPr>
                              <p:cNvPr id="6433" name=""/>
                              <p:cNvGrpSpPr/>
                              <p:nvPr/>
                            </p:nvGrpSpPr>
                            <p:grpSpPr>
                              <a:xfrm>
                                <a:off x="4235400" y="2982600"/>
                                <a:ext cx="301680" cy="331560"/>
                                <a:chOff x="4235400" y="2982600"/>
                                <a:chExt cx="301680" cy="331560"/>
                              </a:xfrm>
                            </p:grpSpPr>
                            <p:grpSp>
                              <p:nvGrpSpPr>
                                <p:cNvPr id="6434" name=""/>
                                <p:cNvGrpSpPr/>
                                <p:nvPr/>
                              </p:nvGrpSpPr>
                              <p:grpSpPr>
                                <a:xfrm>
                                  <a:off x="4235400" y="2982600"/>
                                  <a:ext cx="301680" cy="331560"/>
                                  <a:chOff x="4235400" y="2982600"/>
                                  <a:chExt cx="301680" cy="331560"/>
                                </a:xfrm>
                              </p:grpSpPr>
                              <p:grpSp>
                                <p:nvGrpSpPr>
                                  <p:cNvPr id="6435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4235400" y="2982600"/>
                                    <a:ext cx="301680" cy="331560"/>
                                    <a:chOff x="4235400" y="2982600"/>
                                    <a:chExt cx="301680" cy="331560"/>
                                  </a:xfrm>
                                </p:grpSpPr>
                                <p:grpSp>
                                  <p:nvGrpSpPr>
                                    <p:cNvPr id="6436" name=""/>
                                    <p:cNvGrpSpPr/>
                                    <p:nvPr/>
                                  </p:nvGrpSpPr>
                                  <p:grpSpPr>
                                    <a:xfrm>
                                      <a:off x="4235400" y="2982600"/>
                                      <a:ext cx="301680" cy="331560"/>
                                      <a:chOff x="4235400" y="2982600"/>
                                      <a:chExt cx="301680" cy="331560"/>
                                    </a:xfrm>
                                  </p:grpSpPr>
                                  <p:sp>
                                    <p:nvSpPr>
                                      <p:cNvPr id="6437" name=""/>
                                      <p:cNvSpPr/>
                                      <p:nvPr/>
                                    </p:nvSpPr>
                                    <p:spPr>
                                      <a:xfrm>
                                        <a:off x="4235400" y="2982600"/>
                                        <a:ext cx="301680" cy="331560"/>
                                      </a:xfrm>
                                      <a:custGeom>
                                        <a:avLst/>
                                        <a:gdLst/>
                                        <a:ahLst/>
                                        <a:rect l="l" t="t" r="r" b="b"/>
                                        <a:pathLst>
                                          <a:path w="1224" h="1076">
                                            <a:moveTo>
                                              <a:pt x="95" y="86"/>
                                            </a:moveTo>
                                            <a:lnTo>
                                              <a:pt x="127" y="60"/>
                                            </a:lnTo>
                                            <a:lnTo>
                                              <a:pt x="158" y="37"/>
                                            </a:lnTo>
                                            <a:lnTo>
                                              <a:pt x="193" y="18"/>
                                            </a:lnTo>
                                            <a:lnTo>
                                              <a:pt x="234" y="6"/>
                                            </a:lnTo>
                                            <a:lnTo>
                                              <a:pt x="269" y="2"/>
                                            </a:lnTo>
                                            <a:lnTo>
                                              <a:pt x="309" y="0"/>
                                            </a:lnTo>
                                            <a:lnTo>
                                              <a:pt x="367" y="5"/>
                                            </a:lnTo>
                                            <a:lnTo>
                                              <a:pt x="424" y="17"/>
                                            </a:lnTo>
                                            <a:lnTo>
                                              <a:pt x="460" y="42"/>
                                            </a:lnTo>
                                            <a:lnTo>
                                              <a:pt x="488" y="77"/>
                                            </a:lnTo>
                                            <a:lnTo>
                                              <a:pt x="512" y="119"/>
                                            </a:lnTo>
                                            <a:lnTo>
                                              <a:pt x="537" y="159"/>
                                            </a:lnTo>
                                            <a:lnTo>
                                              <a:pt x="567" y="193"/>
                                            </a:lnTo>
                                            <a:lnTo>
                                              <a:pt x="593" y="220"/>
                                            </a:lnTo>
                                            <a:lnTo>
                                              <a:pt x="628" y="260"/>
                                            </a:lnTo>
                                            <a:lnTo>
                                              <a:pt x="642" y="297"/>
                                            </a:lnTo>
                                            <a:lnTo>
                                              <a:pt x="646" y="326"/>
                                            </a:lnTo>
                                            <a:lnTo>
                                              <a:pt x="642" y="342"/>
                                            </a:lnTo>
                                            <a:lnTo>
                                              <a:pt x="633" y="370"/>
                                            </a:lnTo>
                                            <a:lnTo>
                                              <a:pt x="618" y="396"/>
                                            </a:lnTo>
                                            <a:lnTo>
                                              <a:pt x="596" y="424"/>
                                            </a:lnTo>
                                            <a:lnTo>
                                              <a:pt x="570" y="461"/>
                                            </a:lnTo>
                                            <a:lnTo>
                                              <a:pt x="546" y="489"/>
                                            </a:lnTo>
                                            <a:lnTo>
                                              <a:pt x="527" y="520"/>
                                            </a:lnTo>
                                            <a:lnTo>
                                              <a:pt x="519" y="538"/>
                                            </a:lnTo>
                                            <a:lnTo>
                                              <a:pt x="518" y="550"/>
                                            </a:lnTo>
                                            <a:lnTo>
                                              <a:pt x="523" y="559"/>
                                            </a:lnTo>
                                            <a:lnTo>
                                              <a:pt x="533" y="563"/>
                                            </a:lnTo>
                                            <a:lnTo>
                                              <a:pt x="542" y="561"/>
                                            </a:lnTo>
                                            <a:lnTo>
                                              <a:pt x="552" y="552"/>
                                            </a:lnTo>
                                            <a:lnTo>
                                              <a:pt x="565" y="532"/>
                                            </a:lnTo>
                                            <a:lnTo>
                                              <a:pt x="585" y="502"/>
                                            </a:lnTo>
                                            <a:lnTo>
                                              <a:pt x="609" y="470"/>
                                            </a:lnTo>
                                            <a:lnTo>
                                              <a:pt x="631" y="442"/>
                                            </a:lnTo>
                                            <a:lnTo>
                                              <a:pt x="653" y="417"/>
                                            </a:lnTo>
                                            <a:lnTo>
                                              <a:pt x="676" y="395"/>
                                            </a:lnTo>
                                            <a:lnTo>
                                              <a:pt x="687" y="388"/>
                                            </a:lnTo>
                                            <a:lnTo>
                                              <a:pt x="701" y="386"/>
                                            </a:lnTo>
                                            <a:lnTo>
                                              <a:pt x="714" y="390"/>
                                            </a:lnTo>
                                            <a:lnTo>
                                              <a:pt x="722" y="395"/>
                                            </a:lnTo>
                                            <a:lnTo>
                                              <a:pt x="737" y="421"/>
                                            </a:lnTo>
                                            <a:lnTo>
                                              <a:pt x="758" y="467"/>
                                            </a:lnTo>
                                            <a:lnTo>
                                              <a:pt x="781" y="520"/>
                                            </a:lnTo>
                                            <a:lnTo>
                                              <a:pt x="803" y="571"/>
                                            </a:lnTo>
                                            <a:lnTo>
                                              <a:pt x="825" y="614"/>
                                            </a:lnTo>
                                            <a:lnTo>
                                              <a:pt x="863" y="674"/>
                                            </a:lnTo>
                                            <a:lnTo>
                                              <a:pt x="902" y="734"/>
                                            </a:lnTo>
                                            <a:lnTo>
                                              <a:pt x="944" y="793"/>
                                            </a:lnTo>
                                            <a:lnTo>
                                              <a:pt x="983" y="839"/>
                                            </a:lnTo>
                                            <a:lnTo>
                                              <a:pt x="1027" y="874"/>
                                            </a:lnTo>
                                            <a:lnTo>
                                              <a:pt x="1069" y="910"/>
                                            </a:lnTo>
                                            <a:lnTo>
                                              <a:pt x="1108" y="941"/>
                                            </a:lnTo>
                                            <a:lnTo>
                                              <a:pt x="1150" y="972"/>
                                            </a:lnTo>
                                            <a:lnTo>
                                              <a:pt x="1202" y="1009"/>
                                            </a:lnTo>
                                            <a:lnTo>
                                              <a:pt x="1213" y="1021"/>
                                            </a:lnTo>
                                            <a:lnTo>
                                              <a:pt x="1223" y="1035"/>
                                            </a:lnTo>
                                            <a:lnTo>
                                              <a:pt x="1224" y="1045"/>
                                            </a:lnTo>
                                            <a:lnTo>
                                              <a:pt x="1219" y="1059"/>
                                            </a:lnTo>
                                            <a:lnTo>
                                              <a:pt x="1209" y="1067"/>
                                            </a:lnTo>
                                            <a:lnTo>
                                              <a:pt x="1194" y="1072"/>
                                            </a:lnTo>
                                            <a:lnTo>
                                              <a:pt x="1162" y="1075"/>
                                            </a:lnTo>
                                            <a:lnTo>
                                              <a:pt x="1125" y="1076"/>
                                            </a:lnTo>
                                            <a:lnTo>
                                              <a:pt x="1062" y="1071"/>
                                            </a:lnTo>
                                            <a:lnTo>
                                              <a:pt x="1003" y="1063"/>
                                            </a:lnTo>
                                            <a:lnTo>
                                              <a:pt x="951" y="1056"/>
                                            </a:lnTo>
                                            <a:lnTo>
                                              <a:pt x="888" y="1044"/>
                                            </a:lnTo>
                                            <a:lnTo>
                                              <a:pt x="826" y="1026"/>
                                            </a:lnTo>
                                            <a:lnTo>
                                              <a:pt x="778" y="1006"/>
                                            </a:lnTo>
                                            <a:lnTo>
                                              <a:pt x="735" y="981"/>
                                            </a:lnTo>
                                            <a:lnTo>
                                              <a:pt x="670" y="954"/>
                                            </a:lnTo>
                                            <a:lnTo>
                                              <a:pt x="603" y="921"/>
                                            </a:lnTo>
                                            <a:lnTo>
                                              <a:pt x="542" y="890"/>
                                            </a:lnTo>
                                            <a:lnTo>
                                              <a:pt x="496" y="856"/>
                                            </a:lnTo>
                                            <a:lnTo>
                                              <a:pt x="453" y="826"/>
                                            </a:lnTo>
                                            <a:lnTo>
                                              <a:pt x="413" y="796"/>
                                            </a:lnTo>
                                            <a:lnTo>
                                              <a:pt x="373" y="753"/>
                                            </a:lnTo>
                                            <a:lnTo>
                                              <a:pt x="340" y="720"/>
                                            </a:lnTo>
                                            <a:lnTo>
                                              <a:pt x="311" y="689"/>
                                            </a:lnTo>
                                            <a:lnTo>
                                              <a:pt x="306" y="675"/>
                                            </a:lnTo>
                                            <a:lnTo>
                                              <a:pt x="306" y="658"/>
                                            </a:lnTo>
                                            <a:lnTo>
                                              <a:pt x="317" y="641"/>
                                            </a:lnTo>
                                            <a:lnTo>
                                              <a:pt x="335" y="629"/>
                                            </a:lnTo>
                                            <a:lnTo>
                                              <a:pt x="358" y="620"/>
                                            </a:lnTo>
                                            <a:lnTo>
                                              <a:pt x="387" y="616"/>
                                            </a:lnTo>
                                            <a:lnTo>
                                              <a:pt x="421" y="621"/>
                                            </a:lnTo>
                                            <a:lnTo>
                                              <a:pt x="453" y="631"/>
                                            </a:lnTo>
                                            <a:lnTo>
                                              <a:pt x="467" y="635"/>
                                            </a:lnTo>
                                            <a:lnTo>
                                              <a:pt x="478" y="637"/>
                                            </a:lnTo>
                                            <a:lnTo>
                                              <a:pt x="485" y="634"/>
                                            </a:lnTo>
                                            <a:lnTo>
                                              <a:pt x="490" y="626"/>
                                            </a:lnTo>
                                            <a:lnTo>
                                              <a:pt x="488" y="616"/>
                                            </a:lnTo>
                                            <a:lnTo>
                                              <a:pt x="481" y="606"/>
                                            </a:lnTo>
                                            <a:lnTo>
                                              <a:pt x="454" y="593"/>
                                            </a:lnTo>
                                            <a:lnTo>
                                              <a:pt x="425" y="586"/>
                                            </a:lnTo>
                                            <a:lnTo>
                                              <a:pt x="395" y="583"/>
                                            </a:lnTo>
                                            <a:lnTo>
                                              <a:pt x="365" y="589"/>
                                            </a:lnTo>
                                            <a:lnTo>
                                              <a:pt x="327" y="599"/>
                                            </a:lnTo>
                                            <a:lnTo>
                                              <a:pt x="283" y="613"/>
                                            </a:lnTo>
                                            <a:lnTo>
                                              <a:pt x="249" y="623"/>
                                            </a:lnTo>
                                            <a:lnTo>
                                              <a:pt x="222" y="628"/>
                                            </a:lnTo>
                                            <a:lnTo>
                                              <a:pt x="196" y="624"/>
                                            </a:lnTo>
                                            <a:lnTo>
                                              <a:pt x="170" y="616"/>
                                            </a:lnTo>
                                            <a:lnTo>
                                              <a:pt x="142" y="602"/>
                                            </a:lnTo>
                                            <a:lnTo>
                                              <a:pt x="122" y="584"/>
                                            </a:lnTo>
                                            <a:lnTo>
                                              <a:pt x="100" y="561"/>
                                            </a:lnTo>
                                            <a:lnTo>
                                              <a:pt x="72" y="525"/>
                                            </a:lnTo>
                                            <a:lnTo>
                                              <a:pt x="41" y="477"/>
                                            </a:lnTo>
                                            <a:lnTo>
                                              <a:pt x="18" y="431"/>
                                            </a:lnTo>
                                            <a:lnTo>
                                              <a:pt x="3" y="387"/>
                                            </a:lnTo>
                                            <a:lnTo>
                                              <a:pt x="0" y="356"/>
                                            </a:lnTo>
                                            <a:lnTo>
                                              <a:pt x="4" y="327"/>
                                            </a:lnTo>
                                            <a:lnTo>
                                              <a:pt x="13" y="269"/>
                                            </a:lnTo>
                                            <a:lnTo>
                                              <a:pt x="23" y="205"/>
                                            </a:lnTo>
                                            <a:lnTo>
                                              <a:pt x="44" y="153"/>
                                            </a:lnTo>
                                            <a:lnTo>
                                              <a:pt x="69" y="116"/>
                                            </a:lnTo>
                                            <a:lnTo>
                                              <a:pt x="95" y="86"/>
                                            </a:lnTo>
                                            <a:close/>
                                          </a:path>
                                        </a:pathLst>
                                      </a:custGeom>
                                      <a:solidFill>
                                        <a:srgbClr val="ff8080"/>
                                      </a:solidFill>
                                      <a:ln w="0">
                                        <a:noFill/>
                                      </a:ln>
                                    </p:spPr>
                                    <p:style>
                                      <a:lnRef idx="0"/>
                                      <a:fillRef idx="0"/>
                                      <a:effectRef idx="0"/>
                                      <a:fontRef idx="minor"/>
                                    </p:style>
                                    <p:txBody>
                                      <a:bodyPr lIns="90000" rIns="90000" tIns="46800" bIns="46800" anchor="t">
                                        <a:noAutofit/>
                                      </a:bodyPr>
                                      <a:p>
                                        <a:endParaRPr b="0" lang="en-US" sz="2400" spc="-1" strike="noStrike">
                                          <a:solidFill>
                                            <a:srgbClr val="000000"/>
                                          </a:solidFill>
                                          <a:latin typeface="Times New Roman"/>
                                        </a:endParaRPr>
                                      </a:p>
                                    </p:txBody>
                                  </p:sp>
                                  <p:grpSp>
                                    <p:nvGrpSpPr>
                                      <p:cNvPr id="6438" name=""/>
                                      <p:cNvGrpSpPr/>
                                      <p:nvPr/>
                                    </p:nvGrpSpPr>
                                    <p:grpSpPr>
                                      <a:xfrm>
                                        <a:off x="4235400" y="2982600"/>
                                        <a:ext cx="301320" cy="331200"/>
                                        <a:chOff x="4235400" y="2982600"/>
                                        <a:chExt cx="301320" cy="331200"/>
                                      </a:xfrm>
                                    </p:grpSpPr>
                                    <p:sp>
                                      <p:nvSpPr>
                                        <p:cNvPr id="6439" name=""/>
                                        <p:cNvSpPr/>
                                        <p:nvPr/>
                                      </p:nvSpPr>
                                      <p:spPr>
                                        <a:xfrm>
                                          <a:off x="4309200" y="3101400"/>
                                          <a:ext cx="227520" cy="212400"/>
                                        </a:xfrm>
                                        <a:custGeom>
                                          <a:avLst/>
                                          <a:gdLst/>
                                          <a:ahLst/>
                                          <a:rect l="l" t="t" r="r" b="b"/>
                                          <a:pathLst>
                                            <a:path w="919" h="689">
                                              <a:moveTo>
                                                <a:pt x="304" y="84"/>
                                              </a:moveTo>
                                              <a:lnTo>
                                                <a:pt x="326" y="56"/>
                                              </a:lnTo>
                                              <a:lnTo>
                                                <a:pt x="348" y="31"/>
                                              </a:lnTo>
                                              <a:lnTo>
                                                <a:pt x="371" y="9"/>
                                              </a:lnTo>
                                              <a:lnTo>
                                                <a:pt x="382" y="2"/>
                                              </a:lnTo>
                                              <a:lnTo>
                                                <a:pt x="396" y="0"/>
                                              </a:lnTo>
                                              <a:lnTo>
                                                <a:pt x="409" y="4"/>
                                              </a:lnTo>
                                              <a:lnTo>
                                                <a:pt x="417" y="9"/>
                                              </a:lnTo>
                                              <a:lnTo>
                                                <a:pt x="432" y="35"/>
                                              </a:lnTo>
                                              <a:lnTo>
                                                <a:pt x="453" y="81"/>
                                              </a:lnTo>
                                              <a:lnTo>
                                                <a:pt x="476" y="134"/>
                                              </a:lnTo>
                                              <a:lnTo>
                                                <a:pt x="498" y="184"/>
                                              </a:lnTo>
                                              <a:lnTo>
                                                <a:pt x="519" y="227"/>
                                              </a:lnTo>
                                              <a:lnTo>
                                                <a:pt x="558" y="287"/>
                                              </a:lnTo>
                                              <a:lnTo>
                                                <a:pt x="597" y="347"/>
                                              </a:lnTo>
                                              <a:lnTo>
                                                <a:pt x="640" y="406"/>
                                              </a:lnTo>
                                              <a:lnTo>
                                                <a:pt x="679" y="453"/>
                                              </a:lnTo>
                                              <a:lnTo>
                                                <a:pt x="722" y="488"/>
                                              </a:lnTo>
                                              <a:lnTo>
                                                <a:pt x="764" y="523"/>
                                              </a:lnTo>
                                              <a:lnTo>
                                                <a:pt x="803" y="554"/>
                                              </a:lnTo>
                                              <a:lnTo>
                                                <a:pt x="845" y="585"/>
                                              </a:lnTo>
                                              <a:lnTo>
                                                <a:pt x="897" y="622"/>
                                              </a:lnTo>
                                              <a:lnTo>
                                                <a:pt x="908" y="634"/>
                                              </a:lnTo>
                                              <a:lnTo>
                                                <a:pt x="918" y="648"/>
                                              </a:lnTo>
                                              <a:lnTo>
                                                <a:pt x="919" y="658"/>
                                              </a:lnTo>
                                              <a:lnTo>
                                                <a:pt x="914" y="672"/>
                                              </a:lnTo>
                                              <a:lnTo>
                                                <a:pt x="904" y="680"/>
                                              </a:lnTo>
                                              <a:lnTo>
                                                <a:pt x="889" y="685"/>
                                              </a:lnTo>
                                              <a:lnTo>
                                                <a:pt x="857" y="688"/>
                                              </a:lnTo>
                                              <a:lnTo>
                                                <a:pt x="820" y="689"/>
                                              </a:lnTo>
                                              <a:lnTo>
                                                <a:pt x="757" y="684"/>
                                              </a:lnTo>
                                              <a:lnTo>
                                                <a:pt x="698" y="676"/>
                                              </a:lnTo>
                                              <a:lnTo>
                                                <a:pt x="647" y="669"/>
                                              </a:lnTo>
                                              <a:lnTo>
                                                <a:pt x="583" y="657"/>
                                              </a:lnTo>
                                              <a:lnTo>
                                                <a:pt x="521" y="639"/>
                                              </a:lnTo>
                                              <a:lnTo>
                                                <a:pt x="473" y="619"/>
                                              </a:lnTo>
                                              <a:lnTo>
                                                <a:pt x="429" y="594"/>
                                              </a:lnTo>
                                              <a:lnTo>
                                                <a:pt x="365" y="567"/>
                                              </a:lnTo>
                                              <a:lnTo>
                                                <a:pt x="298" y="534"/>
                                              </a:lnTo>
                                              <a:lnTo>
                                                <a:pt x="237" y="504"/>
                                              </a:lnTo>
                                              <a:lnTo>
                                                <a:pt x="192" y="470"/>
                                              </a:lnTo>
                                              <a:lnTo>
                                                <a:pt x="149" y="440"/>
                                              </a:lnTo>
                                              <a:lnTo>
                                                <a:pt x="109" y="409"/>
                                              </a:lnTo>
                                              <a:lnTo>
                                                <a:pt x="69" y="366"/>
                                              </a:lnTo>
                                              <a:lnTo>
                                                <a:pt x="36" y="333"/>
                                              </a:lnTo>
                                              <a:lnTo>
                                                <a:pt x="7" y="302"/>
                                              </a:lnTo>
                                              <a:lnTo>
                                                <a:pt x="0" y="288"/>
                                              </a:lnTo>
                                              <a:lnTo>
                                                <a:pt x="3" y="271"/>
                                              </a:lnTo>
                                              <a:lnTo>
                                                <a:pt x="13" y="254"/>
                                              </a:lnTo>
                                              <a:lnTo>
                                                <a:pt x="31" y="242"/>
                                              </a:lnTo>
                                              <a:lnTo>
                                                <a:pt x="54" y="233"/>
                                              </a:lnTo>
                                              <a:lnTo>
                                                <a:pt x="83" y="229"/>
                                              </a:lnTo>
                                              <a:lnTo>
                                                <a:pt x="110" y="231"/>
                                              </a:lnTo>
                                              <a:lnTo>
                                                <a:pt x="131" y="236"/>
                                              </a:lnTo>
                                              <a:lnTo>
                                                <a:pt x="156" y="245"/>
                                              </a:lnTo>
                                              <a:lnTo>
                                                <a:pt x="170" y="249"/>
                                              </a:lnTo>
                                              <a:lnTo>
                                                <a:pt x="148" y="249"/>
                                              </a:lnTo>
                                              <a:lnTo>
                                                <a:pt x="126" y="247"/>
                                              </a:lnTo>
                                              <a:lnTo>
                                                <a:pt x="107" y="248"/>
                                              </a:lnTo>
                                              <a:lnTo>
                                                <a:pt x="89" y="251"/>
                                              </a:lnTo>
                                              <a:lnTo>
                                                <a:pt x="73" y="257"/>
                                              </a:lnTo>
                                              <a:lnTo>
                                                <a:pt x="57" y="265"/>
                                              </a:lnTo>
                                              <a:lnTo>
                                                <a:pt x="46" y="277"/>
                                              </a:lnTo>
                                              <a:lnTo>
                                                <a:pt x="40" y="288"/>
                                              </a:lnTo>
                                              <a:lnTo>
                                                <a:pt x="41" y="294"/>
                                              </a:lnTo>
                                              <a:lnTo>
                                                <a:pt x="46" y="302"/>
                                              </a:lnTo>
                                              <a:lnTo>
                                                <a:pt x="56" y="315"/>
                                              </a:lnTo>
                                              <a:lnTo>
                                                <a:pt x="75" y="339"/>
                                              </a:lnTo>
                                              <a:lnTo>
                                                <a:pt x="99" y="368"/>
                                              </a:lnTo>
                                              <a:lnTo>
                                                <a:pt x="128" y="391"/>
                                              </a:lnTo>
                                              <a:lnTo>
                                                <a:pt x="159" y="420"/>
                                              </a:lnTo>
                                              <a:lnTo>
                                                <a:pt x="193" y="445"/>
                                              </a:lnTo>
                                              <a:lnTo>
                                                <a:pt x="219" y="462"/>
                                              </a:lnTo>
                                              <a:lnTo>
                                                <a:pt x="241" y="477"/>
                                              </a:lnTo>
                                              <a:lnTo>
                                                <a:pt x="270" y="493"/>
                                              </a:lnTo>
                                              <a:lnTo>
                                                <a:pt x="292" y="507"/>
                                              </a:lnTo>
                                              <a:lnTo>
                                                <a:pt x="315" y="516"/>
                                              </a:lnTo>
                                              <a:lnTo>
                                                <a:pt x="334" y="520"/>
                                              </a:lnTo>
                                              <a:lnTo>
                                                <a:pt x="355" y="526"/>
                                              </a:lnTo>
                                              <a:lnTo>
                                                <a:pt x="376" y="537"/>
                                              </a:lnTo>
                                              <a:lnTo>
                                                <a:pt x="411" y="554"/>
                                              </a:lnTo>
                                              <a:lnTo>
                                                <a:pt x="448" y="572"/>
                                              </a:lnTo>
                                              <a:lnTo>
                                                <a:pt x="481" y="587"/>
                                              </a:lnTo>
                                              <a:lnTo>
                                                <a:pt x="512" y="604"/>
                                              </a:lnTo>
                                              <a:lnTo>
                                                <a:pt x="543" y="620"/>
                                              </a:lnTo>
                                              <a:lnTo>
                                                <a:pt x="570" y="625"/>
                                              </a:lnTo>
                                              <a:lnTo>
                                                <a:pt x="598" y="633"/>
                                              </a:lnTo>
                                              <a:lnTo>
                                                <a:pt x="628" y="642"/>
                                              </a:lnTo>
                                              <a:lnTo>
                                                <a:pt x="657" y="645"/>
                                              </a:lnTo>
                                              <a:lnTo>
                                                <a:pt x="693" y="649"/>
                                              </a:lnTo>
                                              <a:lnTo>
                                                <a:pt x="730" y="652"/>
                                              </a:lnTo>
                                              <a:lnTo>
                                                <a:pt x="764" y="655"/>
                                              </a:lnTo>
                                              <a:lnTo>
                                                <a:pt x="777" y="653"/>
                                              </a:lnTo>
                                              <a:lnTo>
                                                <a:pt x="791" y="647"/>
                                              </a:lnTo>
                                              <a:lnTo>
                                                <a:pt x="799" y="635"/>
                                              </a:lnTo>
                                              <a:lnTo>
                                                <a:pt x="803" y="621"/>
                                              </a:lnTo>
                                              <a:lnTo>
                                                <a:pt x="801" y="609"/>
                                              </a:lnTo>
                                              <a:lnTo>
                                                <a:pt x="787" y="589"/>
                                              </a:lnTo>
                                              <a:lnTo>
                                                <a:pt x="764" y="562"/>
                                              </a:lnTo>
                                              <a:lnTo>
                                                <a:pt x="739" y="540"/>
                                              </a:lnTo>
                                              <a:lnTo>
                                                <a:pt x="716" y="520"/>
                                              </a:lnTo>
                                              <a:lnTo>
                                                <a:pt x="688" y="502"/>
                                              </a:lnTo>
                                              <a:lnTo>
                                                <a:pt x="661" y="483"/>
                                              </a:lnTo>
                                              <a:lnTo>
                                                <a:pt x="635" y="461"/>
                                              </a:lnTo>
                                              <a:lnTo>
                                                <a:pt x="616" y="437"/>
                                              </a:lnTo>
                                              <a:lnTo>
                                                <a:pt x="597" y="412"/>
                                              </a:lnTo>
                                              <a:lnTo>
                                                <a:pt x="577" y="380"/>
                                              </a:lnTo>
                                              <a:lnTo>
                                                <a:pt x="561" y="355"/>
                                              </a:lnTo>
                                              <a:lnTo>
                                                <a:pt x="545" y="330"/>
                                              </a:lnTo>
                                              <a:lnTo>
                                                <a:pt x="526" y="299"/>
                                              </a:lnTo>
                                              <a:lnTo>
                                                <a:pt x="508" y="268"/>
                                              </a:lnTo>
                                              <a:lnTo>
                                                <a:pt x="493" y="240"/>
                                              </a:lnTo>
                                              <a:lnTo>
                                                <a:pt x="478" y="211"/>
                                              </a:lnTo>
                                              <a:lnTo>
                                                <a:pt x="463" y="181"/>
                                              </a:lnTo>
                                              <a:lnTo>
                                                <a:pt x="449" y="154"/>
                                              </a:lnTo>
                                              <a:lnTo>
                                                <a:pt x="436" y="128"/>
                                              </a:lnTo>
                                              <a:lnTo>
                                                <a:pt x="426" y="99"/>
                                              </a:lnTo>
                                              <a:lnTo>
                                                <a:pt x="419" y="80"/>
                                              </a:lnTo>
                                              <a:lnTo>
                                                <a:pt x="412" y="68"/>
                                              </a:lnTo>
                                              <a:lnTo>
                                                <a:pt x="401" y="59"/>
                                              </a:lnTo>
                                              <a:lnTo>
                                                <a:pt x="389" y="55"/>
                                              </a:lnTo>
                                              <a:lnTo>
                                                <a:pt x="375" y="56"/>
                                              </a:lnTo>
                                              <a:lnTo>
                                                <a:pt x="360" y="61"/>
                                              </a:lnTo>
                                              <a:lnTo>
                                                <a:pt x="344" y="70"/>
                                              </a:lnTo>
                                              <a:lnTo>
                                                <a:pt x="325" y="77"/>
                                              </a:lnTo>
                                              <a:lnTo>
                                                <a:pt x="304" y="84"/>
                                              </a:lnTo>
                                              <a:close/>
                                            </a:path>
                                          </a:pathLst>
                                        </a:custGeom>
                                        <a:solidFill>
                                          <a:srgbClr val="ff4040"/>
                                        </a:solidFill>
                                        <a:ln w="0">
                                          <a:noFill/>
                                        </a:ln>
                                      </p:spPr>
                                      <p:style>
                                        <a:lnRef idx="0"/>
                                        <a:fillRef idx="0"/>
                                        <a:effectRef idx="0"/>
                                        <a:fontRef idx="minor"/>
                                      </p:style>
                                      <p:txBody>
                                        <a:bodyPr lIns="90000" rIns="90000" tIns="46800" bIns="46800" anchor="t">
                                          <a:noAutofit/>
                                        </a:bodyPr>
                                        <a:p>
                                          <a:endParaRPr b="0" lang="en-US" sz="2400" spc="-1" strike="noStrike">
                                            <a:solidFill>
                                              <a:srgbClr val="000000"/>
                                            </a:solidFill>
                                            <a:latin typeface="Times New Roman"/>
                                          </a:endParaRPr>
                                        </a:p>
                                      </p:txBody>
                                    </p:sp>
                                    <p:sp>
                                      <p:nvSpPr>
                                        <p:cNvPr id="6440" name=""/>
                                        <p:cNvSpPr/>
                                        <p:nvPr/>
                                      </p:nvSpPr>
                                      <p:spPr>
                                        <a:xfrm>
                                          <a:off x="4235400" y="2982600"/>
                                          <a:ext cx="159480" cy="192600"/>
                                        </a:xfrm>
                                        <a:custGeom>
                                          <a:avLst/>
                                          <a:gdLst/>
                                          <a:ahLst/>
                                          <a:rect l="l" t="t" r="r" b="b"/>
                                          <a:pathLst>
                                            <a:path w="645" h="627">
                                              <a:moveTo>
                                                <a:pt x="95" y="86"/>
                                              </a:moveTo>
                                              <a:lnTo>
                                                <a:pt x="127" y="60"/>
                                              </a:lnTo>
                                              <a:lnTo>
                                                <a:pt x="158" y="37"/>
                                              </a:lnTo>
                                              <a:lnTo>
                                                <a:pt x="192" y="18"/>
                                              </a:lnTo>
                                              <a:lnTo>
                                                <a:pt x="233" y="6"/>
                                              </a:lnTo>
                                              <a:lnTo>
                                                <a:pt x="268" y="2"/>
                                              </a:lnTo>
                                              <a:lnTo>
                                                <a:pt x="309" y="0"/>
                                              </a:lnTo>
                                              <a:lnTo>
                                                <a:pt x="367" y="5"/>
                                              </a:lnTo>
                                              <a:lnTo>
                                                <a:pt x="424" y="17"/>
                                              </a:lnTo>
                                              <a:lnTo>
                                                <a:pt x="460" y="42"/>
                                              </a:lnTo>
                                              <a:lnTo>
                                                <a:pt x="487" y="77"/>
                                              </a:lnTo>
                                              <a:lnTo>
                                                <a:pt x="511" y="119"/>
                                              </a:lnTo>
                                              <a:lnTo>
                                                <a:pt x="536" y="158"/>
                                              </a:lnTo>
                                              <a:lnTo>
                                                <a:pt x="566" y="192"/>
                                              </a:lnTo>
                                              <a:lnTo>
                                                <a:pt x="592" y="219"/>
                                              </a:lnTo>
                                              <a:lnTo>
                                                <a:pt x="627" y="259"/>
                                              </a:lnTo>
                                              <a:lnTo>
                                                <a:pt x="641" y="297"/>
                                              </a:lnTo>
                                              <a:lnTo>
                                                <a:pt x="645" y="326"/>
                                              </a:lnTo>
                                              <a:lnTo>
                                                <a:pt x="641" y="342"/>
                                              </a:lnTo>
                                              <a:lnTo>
                                                <a:pt x="632" y="370"/>
                                              </a:lnTo>
                                              <a:lnTo>
                                                <a:pt x="617" y="396"/>
                                              </a:lnTo>
                                              <a:lnTo>
                                                <a:pt x="595" y="424"/>
                                              </a:lnTo>
                                              <a:lnTo>
                                                <a:pt x="569" y="461"/>
                                              </a:lnTo>
                                              <a:lnTo>
                                                <a:pt x="545" y="488"/>
                                              </a:lnTo>
                                              <a:lnTo>
                                                <a:pt x="559" y="462"/>
                                              </a:lnTo>
                                              <a:lnTo>
                                                <a:pt x="569" y="445"/>
                                              </a:lnTo>
                                              <a:lnTo>
                                                <a:pt x="582" y="424"/>
                                              </a:lnTo>
                                              <a:lnTo>
                                                <a:pt x="591" y="407"/>
                                              </a:lnTo>
                                              <a:lnTo>
                                                <a:pt x="604" y="381"/>
                                              </a:lnTo>
                                              <a:lnTo>
                                                <a:pt x="611" y="355"/>
                                              </a:lnTo>
                                              <a:lnTo>
                                                <a:pt x="618" y="327"/>
                                              </a:lnTo>
                                              <a:lnTo>
                                                <a:pt x="620" y="312"/>
                                              </a:lnTo>
                                              <a:lnTo>
                                                <a:pt x="616" y="297"/>
                                              </a:lnTo>
                                              <a:lnTo>
                                                <a:pt x="608" y="279"/>
                                              </a:lnTo>
                                              <a:lnTo>
                                                <a:pt x="602" y="263"/>
                                              </a:lnTo>
                                              <a:lnTo>
                                                <a:pt x="589" y="251"/>
                                              </a:lnTo>
                                              <a:lnTo>
                                                <a:pt x="574" y="238"/>
                                              </a:lnTo>
                                              <a:lnTo>
                                                <a:pt x="562" y="221"/>
                                              </a:lnTo>
                                              <a:lnTo>
                                                <a:pt x="546" y="203"/>
                                              </a:lnTo>
                                              <a:lnTo>
                                                <a:pt x="531" y="181"/>
                                              </a:lnTo>
                                              <a:lnTo>
                                                <a:pt x="515" y="159"/>
                                              </a:lnTo>
                                              <a:lnTo>
                                                <a:pt x="500" y="141"/>
                                              </a:lnTo>
                                              <a:lnTo>
                                                <a:pt x="488" y="120"/>
                                              </a:lnTo>
                                              <a:lnTo>
                                                <a:pt x="477" y="97"/>
                                              </a:lnTo>
                                              <a:lnTo>
                                                <a:pt x="468" y="81"/>
                                              </a:lnTo>
                                              <a:lnTo>
                                                <a:pt x="453" y="68"/>
                                              </a:lnTo>
                                              <a:lnTo>
                                                <a:pt x="437" y="55"/>
                                              </a:lnTo>
                                              <a:lnTo>
                                                <a:pt x="421" y="43"/>
                                              </a:lnTo>
                                              <a:lnTo>
                                                <a:pt x="403" y="35"/>
                                              </a:lnTo>
                                              <a:lnTo>
                                                <a:pt x="385" y="31"/>
                                              </a:lnTo>
                                              <a:lnTo>
                                                <a:pt x="355" y="29"/>
                                              </a:lnTo>
                                              <a:lnTo>
                                                <a:pt x="325" y="29"/>
                                              </a:lnTo>
                                              <a:lnTo>
                                                <a:pt x="302" y="30"/>
                                              </a:lnTo>
                                              <a:lnTo>
                                                <a:pt x="280" y="29"/>
                                              </a:lnTo>
                                              <a:lnTo>
                                                <a:pt x="259" y="31"/>
                                              </a:lnTo>
                                              <a:lnTo>
                                                <a:pt x="236" y="36"/>
                                              </a:lnTo>
                                              <a:lnTo>
                                                <a:pt x="215" y="41"/>
                                              </a:lnTo>
                                              <a:lnTo>
                                                <a:pt x="195" y="49"/>
                                              </a:lnTo>
                                              <a:lnTo>
                                                <a:pt x="176" y="60"/>
                                              </a:lnTo>
                                              <a:lnTo>
                                                <a:pt x="158" y="74"/>
                                              </a:lnTo>
                                              <a:lnTo>
                                                <a:pt x="138" y="87"/>
                                              </a:lnTo>
                                              <a:lnTo>
                                                <a:pt x="119" y="103"/>
                                              </a:lnTo>
                                              <a:lnTo>
                                                <a:pt x="99" y="124"/>
                                              </a:lnTo>
                                              <a:lnTo>
                                                <a:pt x="83" y="143"/>
                                              </a:lnTo>
                                              <a:lnTo>
                                                <a:pt x="72" y="160"/>
                                              </a:lnTo>
                                              <a:lnTo>
                                                <a:pt x="65" y="181"/>
                                              </a:lnTo>
                                              <a:lnTo>
                                                <a:pt x="56" y="202"/>
                                              </a:lnTo>
                                              <a:lnTo>
                                                <a:pt x="47" y="223"/>
                                              </a:lnTo>
                                              <a:lnTo>
                                                <a:pt x="37" y="247"/>
                                              </a:lnTo>
                                              <a:lnTo>
                                                <a:pt x="35" y="275"/>
                                              </a:lnTo>
                                              <a:lnTo>
                                                <a:pt x="32" y="300"/>
                                              </a:lnTo>
                                              <a:lnTo>
                                                <a:pt x="29" y="324"/>
                                              </a:lnTo>
                                              <a:lnTo>
                                                <a:pt x="29" y="340"/>
                                              </a:lnTo>
                                              <a:lnTo>
                                                <a:pt x="31" y="361"/>
                                              </a:lnTo>
                                              <a:lnTo>
                                                <a:pt x="36" y="384"/>
                                              </a:lnTo>
                                              <a:lnTo>
                                                <a:pt x="40" y="408"/>
                                              </a:lnTo>
                                              <a:lnTo>
                                                <a:pt x="51" y="436"/>
                                              </a:lnTo>
                                              <a:lnTo>
                                                <a:pt x="61" y="462"/>
                                              </a:lnTo>
                                              <a:lnTo>
                                                <a:pt x="68" y="477"/>
                                              </a:lnTo>
                                              <a:lnTo>
                                                <a:pt x="80" y="496"/>
                                              </a:lnTo>
                                              <a:lnTo>
                                                <a:pt x="95" y="519"/>
                                              </a:lnTo>
                                              <a:lnTo>
                                                <a:pt x="108" y="535"/>
                                              </a:lnTo>
                                              <a:lnTo>
                                                <a:pt x="120" y="551"/>
                                              </a:lnTo>
                                              <a:lnTo>
                                                <a:pt x="136" y="566"/>
                                              </a:lnTo>
                                              <a:lnTo>
                                                <a:pt x="155" y="581"/>
                                              </a:lnTo>
                                              <a:lnTo>
                                                <a:pt x="170" y="593"/>
                                              </a:lnTo>
                                              <a:lnTo>
                                                <a:pt x="183" y="600"/>
                                              </a:lnTo>
                                              <a:lnTo>
                                                <a:pt x="202" y="607"/>
                                              </a:lnTo>
                                              <a:lnTo>
                                                <a:pt x="218" y="611"/>
                                              </a:lnTo>
                                              <a:lnTo>
                                                <a:pt x="235" y="614"/>
                                              </a:lnTo>
                                              <a:lnTo>
                                                <a:pt x="253" y="615"/>
                                              </a:lnTo>
                                              <a:lnTo>
                                                <a:pt x="282" y="612"/>
                                              </a:lnTo>
                                              <a:lnTo>
                                                <a:pt x="248" y="622"/>
                                              </a:lnTo>
                                              <a:lnTo>
                                                <a:pt x="221" y="627"/>
                                              </a:lnTo>
                                              <a:lnTo>
                                                <a:pt x="195" y="623"/>
                                              </a:lnTo>
                                              <a:lnTo>
                                                <a:pt x="169" y="615"/>
                                              </a:lnTo>
                                              <a:lnTo>
                                                <a:pt x="142" y="601"/>
                                              </a:lnTo>
                                              <a:lnTo>
                                                <a:pt x="122" y="583"/>
                                              </a:lnTo>
                                              <a:lnTo>
                                                <a:pt x="100" y="560"/>
                                              </a:lnTo>
                                              <a:lnTo>
                                                <a:pt x="72" y="524"/>
                                              </a:lnTo>
                                              <a:lnTo>
                                                <a:pt x="41" y="476"/>
                                              </a:lnTo>
                                              <a:lnTo>
                                                <a:pt x="18" y="431"/>
                                              </a:lnTo>
                                              <a:lnTo>
                                                <a:pt x="3" y="387"/>
                                              </a:lnTo>
                                              <a:lnTo>
                                                <a:pt x="0" y="356"/>
                                              </a:lnTo>
                                              <a:lnTo>
                                                <a:pt x="4" y="327"/>
                                              </a:lnTo>
                                              <a:lnTo>
                                                <a:pt x="13" y="269"/>
                                              </a:lnTo>
                                              <a:lnTo>
                                                <a:pt x="23" y="204"/>
                                              </a:lnTo>
                                              <a:lnTo>
                                                <a:pt x="44" y="153"/>
                                              </a:lnTo>
                                              <a:lnTo>
                                                <a:pt x="69" y="116"/>
                                              </a:lnTo>
                                              <a:lnTo>
                                                <a:pt x="95" y="86"/>
                                              </a:lnTo>
                                              <a:close/>
                                            </a:path>
                                          </a:pathLst>
                                        </a:custGeom>
                                        <a:solidFill>
                                          <a:srgbClr val="ff4040"/>
                                        </a:solidFill>
                                        <a:ln w="0">
                                          <a:noFill/>
                                        </a:ln>
                                      </p:spPr>
                                      <p:style>
                                        <a:lnRef idx="0"/>
                                        <a:fillRef idx="0"/>
                                        <a:effectRef idx="0"/>
                                        <a:fontRef idx="minor"/>
                                      </p:style>
                                      <p:txBody>
                                        <a:bodyPr lIns="90000" rIns="90000" tIns="46800" bIns="46800" anchor="t">
                                          <a:noAutofit/>
                                        </a:bodyPr>
                                        <a:p>
                                          <a:endParaRPr b="0" lang="en-US" sz="2400" spc="-1" strike="noStrike">
                                            <a:solidFill>
                                              <a:srgbClr val="000000"/>
                                            </a:solidFill>
                                            <a:latin typeface="Times New Roman"/>
                                          </a:endParaRPr>
                                        </a:p>
                                      </p:txBody>
                                    </p:sp>
                                  </p:grpSp>
                                </p:grpSp>
                                <p:sp>
                                  <p:nvSpPr>
                                    <p:cNvPr id="644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4361400" y="3159720"/>
                                      <a:ext cx="111240" cy="124560"/>
                                    </a:xfrm>
                                    <a:custGeom>
                                      <a:avLst/>
                                      <a:gdLst/>
                                      <a:ahLst/>
                                      <a:rect l="l" t="t" r="r" b="b"/>
                                      <a:pathLst>
                                        <a:path w="447" h="407">
                                          <a:moveTo>
                                            <a:pt x="48" y="55"/>
                                          </a:moveTo>
                                          <a:lnTo>
                                            <a:pt x="71" y="35"/>
                                          </a:lnTo>
                                          <a:lnTo>
                                            <a:pt x="95" y="18"/>
                                          </a:lnTo>
                                          <a:lnTo>
                                            <a:pt x="111" y="7"/>
                                          </a:lnTo>
                                          <a:lnTo>
                                            <a:pt x="124" y="2"/>
                                          </a:lnTo>
                                          <a:lnTo>
                                            <a:pt x="139" y="0"/>
                                          </a:lnTo>
                                          <a:lnTo>
                                            <a:pt x="154" y="1"/>
                                          </a:lnTo>
                                          <a:lnTo>
                                            <a:pt x="171" y="8"/>
                                          </a:lnTo>
                                          <a:lnTo>
                                            <a:pt x="195" y="24"/>
                                          </a:lnTo>
                                          <a:lnTo>
                                            <a:pt x="218" y="43"/>
                                          </a:lnTo>
                                          <a:lnTo>
                                            <a:pt x="239" y="69"/>
                                          </a:lnTo>
                                          <a:lnTo>
                                            <a:pt x="256" y="96"/>
                                          </a:lnTo>
                                          <a:lnTo>
                                            <a:pt x="278" y="134"/>
                                          </a:lnTo>
                                          <a:lnTo>
                                            <a:pt x="301" y="174"/>
                                          </a:lnTo>
                                          <a:lnTo>
                                            <a:pt x="321" y="207"/>
                                          </a:lnTo>
                                          <a:lnTo>
                                            <a:pt x="341" y="240"/>
                                          </a:lnTo>
                                          <a:lnTo>
                                            <a:pt x="361" y="265"/>
                                          </a:lnTo>
                                          <a:lnTo>
                                            <a:pt x="381" y="290"/>
                                          </a:lnTo>
                                          <a:lnTo>
                                            <a:pt x="410" y="313"/>
                                          </a:lnTo>
                                          <a:lnTo>
                                            <a:pt x="432" y="338"/>
                                          </a:lnTo>
                                          <a:lnTo>
                                            <a:pt x="444" y="357"/>
                                          </a:lnTo>
                                          <a:lnTo>
                                            <a:pt x="447" y="375"/>
                                          </a:lnTo>
                                          <a:lnTo>
                                            <a:pt x="442" y="389"/>
                                          </a:lnTo>
                                          <a:lnTo>
                                            <a:pt x="433" y="399"/>
                                          </a:lnTo>
                                          <a:lnTo>
                                            <a:pt x="416" y="405"/>
                                          </a:lnTo>
                                          <a:lnTo>
                                            <a:pt x="394" y="407"/>
                                          </a:lnTo>
                                          <a:lnTo>
                                            <a:pt x="374" y="405"/>
                                          </a:lnTo>
                                          <a:lnTo>
                                            <a:pt x="338" y="397"/>
                                          </a:lnTo>
                                          <a:lnTo>
                                            <a:pt x="315" y="390"/>
                                          </a:lnTo>
                                          <a:lnTo>
                                            <a:pt x="287" y="379"/>
                                          </a:lnTo>
                                          <a:lnTo>
                                            <a:pt x="261" y="365"/>
                                          </a:lnTo>
                                          <a:lnTo>
                                            <a:pt x="235" y="350"/>
                                          </a:lnTo>
                                          <a:lnTo>
                                            <a:pt x="203" y="332"/>
                                          </a:lnTo>
                                          <a:lnTo>
                                            <a:pt x="162" y="309"/>
                                          </a:lnTo>
                                          <a:lnTo>
                                            <a:pt x="124" y="288"/>
                                          </a:lnTo>
                                          <a:lnTo>
                                            <a:pt x="94" y="269"/>
                                          </a:lnTo>
                                          <a:lnTo>
                                            <a:pt x="64" y="248"/>
                                          </a:lnTo>
                                          <a:lnTo>
                                            <a:pt x="38" y="227"/>
                                          </a:lnTo>
                                          <a:lnTo>
                                            <a:pt x="21" y="204"/>
                                          </a:lnTo>
                                          <a:lnTo>
                                            <a:pt x="9" y="183"/>
                                          </a:lnTo>
                                          <a:lnTo>
                                            <a:pt x="3" y="161"/>
                                          </a:lnTo>
                                          <a:lnTo>
                                            <a:pt x="0" y="141"/>
                                          </a:lnTo>
                                          <a:lnTo>
                                            <a:pt x="3" y="125"/>
                                          </a:lnTo>
                                          <a:lnTo>
                                            <a:pt x="8" y="108"/>
                                          </a:lnTo>
                                          <a:lnTo>
                                            <a:pt x="18" y="90"/>
                                          </a:lnTo>
                                          <a:lnTo>
                                            <a:pt x="31" y="73"/>
                                          </a:lnTo>
                                          <a:lnTo>
                                            <a:pt x="48" y="55"/>
                                          </a:lnTo>
                                          <a:close/>
                                        </a:path>
                                      </a:pathLst>
                                    </a:custGeom>
                                    <a:solidFill>
                                      <a:srgbClr val="ff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46800" bIns="4680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000000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6442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4248720" y="3000960"/>
                                    <a:ext cx="132120" cy="161640"/>
                                    <a:chOff x="4248720" y="3000960"/>
                                    <a:chExt cx="132120" cy="161640"/>
                                  </a:xfrm>
                                </p:grpSpPr>
                                <p:sp>
                                  <p:nvSpPr>
                                    <p:cNvPr id="6443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4248720" y="3000960"/>
                                      <a:ext cx="132120" cy="161640"/>
                                    </a:xfrm>
                                    <a:custGeom>
                                      <a:avLst/>
                                      <a:gdLst/>
                                      <a:ahLst/>
                                      <a:rect l="l" t="t" r="r" b="b"/>
                                      <a:pathLst>
                                        <a:path w="535" h="522">
                                          <a:moveTo>
                                            <a:pt x="79" y="71"/>
                                          </a:moveTo>
                                          <a:lnTo>
                                            <a:pt x="106" y="50"/>
                                          </a:lnTo>
                                          <a:lnTo>
                                            <a:pt x="131" y="31"/>
                                          </a:lnTo>
                                          <a:lnTo>
                                            <a:pt x="160" y="16"/>
                                          </a:lnTo>
                                          <a:lnTo>
                                            <a:pt x="194" y="6"/>
                                          </a:lnTo>
                                          <a:lnTo>
                                            <a:pt x="222" y="1"/>
                                          </a:lnTo>
                                          <a:lnTo>
                                            <a:pt x="257" y="0"/>
                                          </a:lnTo>
                                          <a:lnTo>
                                            <a:pt x="305" y="5"/>
                                          </a:lnTo>
                                          <a:lnTo>
                                            <a:pt x="352" y="15"/>
                                          </a:lnTo>
                                          <a:lnTo>
                                            <a:pt x="383" y="34"/>
                                          </a:lnTo>
                                          <a:lnTo>
                                            <a:pt x="404" y="63"/>
                                          </a:lnTo>
                                          <a:lnTo>
                                            <a:pt x="424" y="99"/>
                                          </a:lnTo>
                                          <a:lnTo>
                                            <a:pt x="445" y="132"/>
                                          </a:lnTo>
                                          <a:lnTo>
                                            <a:pt x="470" y="159"/>
                                          </a:lnTo>
                                          <a:lnTo>
                                            <a:pt x="493" y="183"/>
                                          </a:lnTo>
                                          <a:lnTo>
                                            <a:pt x="522" y="217"/>
                                          </a:lnTo>
                                          <a:lnTo>
                                            <a:pt x="533" y="249"/>
                                          </a:lnTo>
                                          <a:lnTo>
                                            <a:pt x="535" y="272"/>
                                          </a:lnTo>
                                          <a:lnTo>
                                            <a:pt x="533" y="286"/>
                                          </a:lnTo>
                                          <a:lnTo>
                                            <a:pt x="526" y="309"/>
                                          </a:lnTo>
                                          <a:lnTo>
                                            <a:pt x="514" y="331"/>
                                          </a:lnTo>
                                          <a:lnTo>
                                            <a:pt x="495" y="354"/>
                                          </a:lnTo>
                                          <a:lnTo>
                                            <a:pt x="473" y="385"/>
                                          </a:lnTo>
                                          <a:lnTo>
                                            <a:pt x="453" y="408"/>
                                          </a:lnTo>
                                          <a:lnTo>
                                            <a:pt x="437" y="433"/>
                                          </a:lnTo>
                                          <a:lnTo>
                                            <a:pt x="430" y="449"/>
                                          </a:lnTo>
                                          <a:lnTo>
                                            <a:pt x="429" y="458"/>
                                          </a:lnTo>
                                          <a:lnTo>
                                            <a:pt x="434" y="465"/>
                                          </a:lnTo>
                                          <a:lnTo>
                                            <a:pt x="442" y="469"/>
                                          </a:lnTo>
                                          <a:lnTo>
                                            <a:pt x="404" y="513"/>
                                          </a:lnTo>
                                          <a:lnTo>
                                            <a:pt x="400" y="505"/>
                                          </a:lnTo>
                                          <a:lnTo>
                                            <a:pt x="378" y="494"/>
                                          </a:lnTo>
                                          <a:lnTo>
                                            <a:pt x="353" y="488"/>
                                          </a:lnTo>
                                          <a:lnTo>
                                            <a:pt x="329" y="486"/>
                                          </a:lnTo>
                                          <a:lnTo>
                                            <a:pt x="303" y="491"/>
                                          </a:lnTo>
                                          <a:lnTo>
                                            <a:pt x="272" y="499"/>
                                          </a:lnTo>
                                          <a:lnTo>
                                            <a:pt x="235" y="511"/>
                                          </a:lnTo>
                                          <a:lnTo>
                                            <a:pt x="206" y="519"/>
                                          </a:lnTo>
                                          <a:lnTo>
                                            <a:pt x="183" y="522"/>
                                          </a:lnTo>
                                          <a:lnTo>
                                            <a:pt x="162" y="520"/>
                                          </a:lnTo>
                                          <a:lnTo>
                                            <a:pt x="141" y="513"/>
                                          </a:lnTo>
                                          <a:lnTo>
                                            <a:pt x="118" y="502"/>
                                          </a:lnTo>
                                          <a:lnTo>
                                            <a:pt x="102" y="487"/>
                                          </a:lnTo>
                                          <a:lnTo>
                                            <a:pt x="83" y="467"/>
                                          </a:lnTo>
                                          <a:lnTo>
                                            <a:pt x="60" y="437"/>
                                          </a:lnTo>
                                          <a:lnTo>
                                            <a:pt x="34" y="397"/>
                                          </a:lnTo>
                                          <a:lnTo>
                                            <a:pt x="15" y="359"/>
                                          </a:lnTo>
                                          <a:lnTo>
                                            <a:pt x="2" y="322"/>
                                          </a:lnTo>
                                          <a:lnTo>
                                            <a:pt x="0" y="297"/>
                                          </a:lnTo>
                                          <a:lnTo>
                                            <a:pt x="3" y="273"/>
                                          </a:lnTo>
                                          <a:lnTo>
                                            <a:pt x="11" y="224"/>
                                          </a:lnTo>
                                          <a:lnTo>
                                            <a:pt x="19" y="170"/>
                                          </a:lnTo>
                                          <a:lnTo>
                                            <a:pt x="36" y="128"/>
                                          </a:lnTo>
                                          <a:lnTo>
                                            <a:pt x="57" y="97"/>
                                          </a:lnTo>
                                          <a:lnTo>
                                            <a:pt x="79" y="71"/>
                                          </a:lnTo>
                                          <a:close/>
                                        </a:path>
                                      </a:pathLst>
                                    </a:custGeom>
                                    <a:solidFill>
                                      <a:srgbClr val="ff404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46800" bIns="4680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000000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644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4256280" y="3011760"/>
                                      <a:ext cx="114480" cy="141120"/>
                                    </a:xfrm>
                                    <a:custGeom>
                                      <a:avLst/>
                                      <a:gdLst/>
                                      <a:ahLst/>
                                      <a:rect l="l" t="t" r="r" b="b"/>
                                      <a:pathLst>
                                        <a:path w="466" h="457">
                                          <a:moveTo>
                                            <a:pt x="69" y="63"/>
                                          </a:moveTo>
                                          <a:lnTo>
                                            <a:pt x="91" y="43"/>
                                          </a:lnTo>
                                          <a:lnTo>
                                            <a:pt x="114" y="27"/>
                                          </a:lnTo>
                                          <a:lnTo>
                                            <a:pt x="139" y="14"/>
                                          </a:lnTo>
                                          <a:lnTo>
                                            <a:pt x="168" y="4"/>
                                          </a:lnTo>
                                          <a:lnTo>
                                            <a:pt x="192" y="0"/>
                                          </a:lnTo>
                                          <a:lnTo>
                                            <a:pt x="223" y="0"/>
                                          </a:lnTo>
                                          <a:lnTo>
                                            <a:pt x="265" y="3"/>
                                          </a:lnTo>
                                          <a:lnTo>
                                            <a:pt x="306" y="13"/>
                                          </a:lnTo>
                                          <a:lnTo>
                                            <a:pt x="334" y="30"/>
                                          </a:lnTo>
                                          <a:lnTo>
                                            <a:pt x="352" y="56"/>
                                          </a:lnTo>
                                          <a:lnTo>
                                            <a:pt x="368" y="86"/>
                                          </a:lnTo>
                                          <a:lnTo>
                                            <a:pt x="388" y="115"/>
                                          </a:lnTo>
                                          <a:lnTo>
                                            <a:pt x="409" y="140"/>
                                          </a:lnTo>
                                          <a:lnTo>
                                            <a:pt x="430" y="160"/>
                                          </a:lnTo>
                                          <a:lnTo>
                                            <a:pt x="454" y="190"/>
                                          </a:lnTo>
                                          <a:lnTo>
                                            <a:pt x="465" y="218"/>
                                          </a:lnTo>
                                          <a:lnTo>
                                            <a:pt x="466" y="238"/>
                                          </a:lnTo>
                                          <a:lnTo>
                                            <a:pt x="465" y="251"/>
                                          </a:lnTo>
                                          <a:lnTo>
                                            <a:pt x="458" y="271"/>
                                          </a:lnTo>
                                          <a:lnTo>
                                            <a:pt x="447" y="290"/>
                                          </a:lnTo>
                                          <a:lnTo>
                                            <a:pt x="432" y="311"/>
                                          </a:lnTo>
                                          <a:lnTo>
                                            <a:pt x="411" y="337"/>
                                          </a:lnTo>
                                          <a:lnTo>
                                            <a:pt x="395" y="356"/>
                                          </a:lnTo>
                                          <a:lnTo>
                                            <a:pt x="381" y="379"/>
                                          </a:lnTo>
                                          <a:lnTo>
                                            <a:pt x="374" y="392"/>
                                          </a:lnTo>
                                          <a:lnTo>
                                            <a:pt x="373" y="400"/>
                                          </a:lnTo>
                                          <a:lnTo>
                                            <a:pt x="377" y="406"/>
                                          </a:lnTo>
                                          <a:lnTo>
                                            <a:pt x="385" y="411"/>
                                          </a:lnTo>
                                          <a:lnTo>
                                            <a:pt x="352" y="450"/>
                                          </a:lnTo>
                                          <a:lnTo>
                                            <a:pt x="348" y="442"/>
                                          </a:lnTo>
                                          <a:lnTo>
                                            <a:pt x="328" y="432"/>
                                          </a:lnTo>
                                          <a:lnTo>
                                            <a:pt x="307" y="427"/>
                                          </a:lnTo>
                                          <a:lnTo>
                                            <a:pt x="285" y="425"/>
                                          </a:lnTo>
                                          <a:lnTo>
                                            <a:pt x="264" y="429"/>
                                          </a:lnTo>
                                          <a:lnTo>
                                            <a:pt x="236" y="436"/>
                                          </a:lnTo>
                                          <a:lnTo>
                                            <a:pt x="204" y="447"/>
                                          </a:lnTo>
                                          <a:lnTo>
                                            <a:pt x="179" y="455"/>
                                          </a:lnTo>
                                          <a:lnTo>
                                            <a:pt x="160" y="457"/>
                                          </a:lnTo>
                                          <a:lnTo>
                                            <a:pt x="140" y="456"/>
                                          </a:lnTo>
                                          <a:lnTo>
                                            <a:pt x="122" y="450"/>
                                          </a:lnTo>
                                          <a:lnTo>
                                            <a:pt x="102" y="439"/>
                                          </a:lnTo>
                                          <a:lnTo>
                                            <a:pt x="88" y="426"/>
                                          </a:lnTo>
                                          <a:lnTo>
                                            <a:pt x="72" y="409"/>
                                          </a:lnTo>
                                          <a:lnTo>
                                            <a:pt x="51" y="383"/>
                                          </a:lnTo>
                                          <a:lnTo>
                                            <a:pt x="29" y="348"/>
                                          </a:lnTo>
                                          <a:lnTo>
                                            <a:pt x="12" y="314"/>
                                          </a:lnTo>
                                          <a:lnTo>
                                            <a:pt x="1" y="282"/>
                                          </a:lnTo>
                                          <a:lnTo>
                                            <a:pt x="0" y="260"/>
                                          </a:lnTo>
                                          <a:lnTo>
                                            <a:pt x="2" y="239"/>
                                          </a:lnTo>
                                          <a:lnTo>
                                            <a:pt x="8" y="196"/>
                                          </a:lnTo>
                                          <a:lnTo>
                                            <a:pt x="15" y="149"/>
                                          </a:lnTo>
                                          <a:lnTo>
                                            <a:pt x="31" y="112"/>
                                          </a:lnTo>
                                          <a:lnTo>
                                            <a:pt x="49" y="85"/>
                                          </a:lnTo>
                                          <a:lnTo>
                                            <a:pt x="69" y="63"/>
                                          </a:lnTo>
                                          <a:close/>
                                        </a:path>
                                      </a:pathLst>
                                    </a:custGeom>
                                    <a:solidFill>
                                      <a:srgbClr val="ff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46800" bIns="4680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000000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644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4264920" y="3025080"/>
                                      <a:ext cx="96120" cy="118440"/>
                                    </a:xfrm>
                                    <a:custGeom>
                                      <a:avLst/>
                                      <a:gdLst/>
                                      <a:ahLst/>
                                      <a:rect l="l" t="t" r="r" b="b"/>
                                      <a:pathLst>
                                        <a:path w="390" h="383">
                                          <a:moveTo>
                                            <a:pt x="57" y="53"/>
                                          </a:moveTo>
                                          <a:lnTo>
                                            <a:pt x="76" y="36"/>
                                          </a:lnTo>
                                          <a:lnTo>
                                            <a:pt x="95" y="22"/>
                                          </a:lnTo>
                                          <a:lnTo>
                                            <a:pt x="115" y="11"/>
                                          </a:lnTo>
                                          <a:lnTo>
                                            <a:pt x="140" y="3"/>
                                          </a:lnTo>
                                          <a:lnTo>
                                            <a:pt x="160" y="0"/>
                                          </a:lnTo>
                                          <a:lnTo>
                                            <a:pt x="186" y="0"/>
                                          </a:lnTo>
                                          <a:lnTo>
                                            <a:pt x="221" y="2"/>
                                          </a:lnTo>
                                          <a:lnTo>
                                            <a:pt x="256" y="11"/>
                                          </a:lnTo>
                                          <a:lnTo>
                                            <a:pt x="279" y="25"/>
                                          </a:lnTo>
                                          <a:lnTo>
                                            <a:pt x="293" y="47"/>
                                          </a:lnTo>
                                          <a:lnTo>
                                            <a:pt x="308" y="72"/>
                                          </a:lnTo>
                                          <a:lnTo>
                                            <a:pt x="324" y="97"/>
                                          </a:lnTo>
                                          <a:lnTo>
                                            <a:pt x="342" y="117"/>
                                          </a:lnTo>
                                          <a:lnTo>
                                            <a:pt x="359" y="135"/>
                                          </a:lnTo>
                                          <a:lnTo>
                                            <a:pt x="379" y="159"/>
                                          </a:lnTo>
                                          <a:lnTo>
                                            <a:pt x="390" y="183"/>
                                          </a:lnTo>
                                          <a:lnTo>
                                            <a:pt x="390" y="200"/>
                                          </a:lnTo>
                                          <a:lnTo>
                                            <a:pt x="390" y="211"/>
                                          </a:lnTo>
                                          <a:lnTo>
                                            <a:pt x="383" y="227"/>
                                          </a:lnTo>
                                          <a:lnTo>
                                            <a:pt x="373" y="243"/>
                                          </a:lnTo>
                                          <a:lnTo>
                                            <a:pt x="361" y="261"/>
                                          </a:lnTo>
                                          <a:lnTo>
                                            <a:pt x="344" y="282"/>
                                          </a:lnTo>
                                          <a:lnTo>
                                            <a:pt x="330" y="299"/>
                                          </a:lnTo>
                                          <a:lnTo>
                                            <a:pt x="318" y="317"/>
                                          </a:lnTo>
                                          <a:lnTo>
                                            <a:pt x="313" y="329"/>
                                          </a:lnTo>
                                          <a:lnTo>
                                            <a:pt x="312" y="336"/>
                                          </a:lnTo>
                                          <a:lnTo>
                                            <a:pt x="315" y="341"/>
                                          </a:lnTo>
                                          <a:lnTo>
                                            <a:pt x="321" y="345"/>
                                          </a:lnTo>
                                          <a:lnTo>
                                            <a:pt x="293" y="378"/>
                                          </a:lnTo>
                                          <a:lnTo>
                                            <a:pt x="290" y="372"/>
                                          </a:lnTo>
                                          <a:lnTo>
                                            <a:pt x="274" y="362"/>
                                          </a:lnTo>
                                          <a:lnTo>
                                            <a:pt x="257" y="358"/>
                                          </a:lnTo>
                                          <a:lnTo>
                                            <a:pt x="238" y="356"/>
                                          </a:lnTo>
                                          <a:lnTo>
                                            <a:pt x="221" y="360"/>
                                          </a:lnTo>
                                          <a:lnTo>
                                            <a:pt x="197" y="367"/>
                                          </a:lnTo>
                                          <a:lnTo>
                                            <a:pt x="170" y="376"/>
                                          </a:lnTo>
                                          <a:lnTo>
                                            <a:pt x="149" y="382"/>
                                          </a:lnTo>
                                          <a:lnTo>
                                            <a:pt x="133" y="383"/>
                                          </a:lnTo>
                                          <a:lnTo>
                                            <a:pt x="117" y="383"/>
                                          </a:lnTo>
                                          <a:lnTo>
                                            <a:pt x="101" y="378"/>
                                          </a:lnTo>
                                          <a:lnTo>
                                            <a:pt x="85" y="369"/>
                                          </a:lnTo>
                                          <a:lnTo>
                                            <a:pt x="74" y="357"/>
                                          </a:lnTo>
                                          <a:lnTo>
                                            <a:pt x="59" y="343"/>
                                          </a:lnTo>
                                          <a:lnTo>
                                            <a:pt x="42" y="321"/>
                                          </a:lnTo>
                                          <a:lnTo>
                                            <a:pt x="23" y="292"/>
                                          </a:lnTo>
                                          <a:lnTo>
                                            <a:pt x="10" y="265"/>
                                          </a:lnTo>
                                          <a:lnTo>
                                            <a:pt x="0" y="237"/>
                                          </a:lnTo>
                                          <a:lnTo>
                                            <a:pt x="0" y="218"/>
                                          </a:lnTo>
                                          <a:lnTo>
                                            <a:pt x="1" y="200"/>
                                          </a:lnTo>
                                          <a:lnTo>
                                            <a:pt x="6" y="164"/>
                                          </a:lnTo>
                                          <a:lnTo>
                                            <a:pt x="12" y="124"/>
                                          </a:lnTo>
                                          <a:lnTo>
                                            <a:pt x="25" y="94"/>
                                          </a:lnTo>
                                          <a:lnTo>
                                            <a:pt x="41" y="71"/>
                                          </a:lnTo>
                                          <a:lnTo>
                                            <a:pt x="57" y="53"/>
                                          </a:lnTo>
                                          <a:close/>
                                        </a:path>
                                      </a:pathLst>
                                    </a:custGeom>
                                    <a:solidFill>
                                      <a:srgbClr val="e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46800" bIns="4680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000000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644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4271040" y="3035880"/>
                                      <a:ext cx="87480" cy="109080"/>
                                    </a:xfrm>
                                    <a:custGeom>
                                      <a:avLst/>
                                      <a:gdLst/>
                                      <a:ahLst/>
                                      <a:rect l="l" t="t" r="r" b="b"/>
                                      <a:pathLst>
                                        <a:path w="357" h="351">
                                          <a:moveTo>
                                            <a:pt x="53" y="47"/>
                                          </a:moveTo>
                                          <a:lnTo>
                                            <a:pt x="70" y="33"/>
                                          </a:lnTo>
                                          <a:lnTo>
                                            <a:pt x="87" y="20"/>
                                          </a:lnTo>
                                          <a:lnTo>
                                            <a:pt x="106" y="10"/>
                                          </a:lnTo>
                                          <a:lnTo>
                                            <a:pt x="128" y="2"/>
                                          </a:lnTo>
                                          <a:lnTo>
                                            <a:pt x="148" y="0"/>
                                          </a:lnTo>
                                          <a:lnTo>
                                            <a:pt x="171" y="0"/>
                                          </a:lnTo>
                                          <a:lnTo>
                                            <a:pt x="203" y="1"/>
                                          </a:lnTo>
                                          <a:lnTo>
                                            <a:pt x="235" y="10"/>
                                          </a:lnTo>
                                          <a:lnTo>
                                            <a:pt x="256" y="23"/>
                                          </a:lnTo>
                                          <a:lnTo>
                                            <a:pt x="269" y="42"/>
                                          </a:lnTo>
                                          <a:lnTo>
                                            <a:pt x="283" y="66"/>
                                          </a:lnTo>
                                          <a:lnTo>
                                            <a:pt x="298" y="89"/>
                                          </a:lnTo>
                                          <a:lnTo>
                                            <a:pt x="313" y="107"/>
                                          </a:lnTo>
                                          <a:lnTo>
                                            <a:pt x="330" y="123"/>
                                          </a:lnTo>
                                          <a:lnTo>
                                            <a:pt x="348" y="146"/>
                                          </a:lnTo>
                                          <a:lnTo>
                                            <a:pt x="357" y="167"/>
                                          </a:lnTo>
                                          <a:lnTo>
                                            <a:pt x="357" y="184"/>
                                          </a:lnTo>
                                          <a:lnTo>
                                            <a:pt x="357" y="193"/>
                                          </a:lnTo>
                                          <a:lnTo>
                                            <a:pt x="352" y="209"/>
                                          </a:lnTo>
                                          <a:lnTo>
                                            <a:pt x="343" y="224"/>
                                          </a:lnTo>
                                          <a:lnTo>
                                            <a:pt x="332" y="238"/>
                                          </a:lnTo>
                                          <a:lnTo>
                                            <a:pt x="315" y="259"/>
                                          </a:lnTo>
                                          <a:lnTo>
                                            <a:pt x="303" y="274"/>
                                          </a:lnTo>
                                          <a:lnTo>
                                            <a:pt x="292" y="292"/>
                                          </a:lnTo>
                                          <a:lnTo>
                                            <a:pt x="288" y="302"/>
                                          </a:lnTo>
                                          <a:lnTo>
                                            <a:pt x="287" y="308"/>
                                          </a:lnTo>
                                          <a:lnTo>
                                            <a:pt x="289" y="313"/>
                                          </a:lnTo>
                                          <a:lnTo>
                                            <a:pt x="295" y="316"/>
                                          </a:lnTo>
                                          <a:lnTo>
                                            <a:pt x="269" y="347"/>
                                          </a:lnTo>
                                          <a:lnTo>
                                            <a:pt x="266" y="341"/>
                                          </a:lnTo>
                                          <a:lnTo>
                                            <a:pt x="252" y="333"/>
                                          </a:lnTo>
                                          <a:lnTo>
                                            <a:pt x="236" y="329"/>
                                          </a:lnTo>
                                          <a:lnTo>
                                            <a:pt x="219" y="327"/>
                                          </a:lnTo>
                                          <a:lnTo>
                                            <a:pt x="203" y="331"/>
                                          </a:lnTo>
                                          <a:lnTo>
                                            <a:pt x="181" y="337"/>
                                          </a:lnTo>
                                          <a:lnTo>
                                            <a:pt x="156" y="345"/>
                                          </a:lnTo>
                                          <a:lnTo>
                                            <a:pt x="136" y="351"/>
                                          </a:lnTo>
                                          <a:lnTo>
                                            <a:pt x="122" y="351"/>
                                          </a:lnTo>
                                          <a:lnTo>
                                            <a:pt x="107" y="351"/>
                                          </a:lnTo>
                                          <a:lnTo>
                                            <a:pt x="93" y="347"/>
                                          </a:lnTo>
                                          <a:lnTo>
                                            <a:pt x="78" y="339"/>
                                          </a:lnTo>
                                          <a:lnTo>
                                            <a:pt x="68" y="327"/>
                                          </a:lnTo>
                                          <a:lnTo>
                                            <a:pt x="55" y="315"/>
                                          </a:lnTo>
                                          <a:lnTo>
                                            <a:pt x="38" y="295"/>
                                          </a:lnTo>
                                          <a:lnTo>
                                            <a:pt x="22" y="268"/>
                                          </a:lnTo>
                                          <a:lnTo>
                                            <a:pt x="10" y="242"/>
                                          </a:lnTo>
                                          <a:lnTo>
                                            <a:pt x="0" y="218"/>
                                          </a:lnTo>
                                          <a:lnTo>
                                            <a:pt x="0" y="200"/>
                                          </a:lnTo>
                                          <a:lnTo>
                                            <a:pt x="0" y="184"/>
                                          </a:lnTo>
                                          <a:lnTo>
                                            <a:pt x="6" y="151"/>
                                          </a:lnTo>
                                          <a:lnTo>
                                            <a:pt x="12" y="114"/>
                                          </a:lnTo>
                                          <a:lnTo>
                                            <a:pt x="23" y="85"/>
                                          </a:lnTo>
                                          <a:lnTo>
                                            <a:pt x="37" y="65"/>
                                          </a:lnTo>
                                          <a:lnTo>
                                            <a:pt x="53" y="47"/>
                                          </a:lnTo>
                                          <a:close/>
                                        </a:path>
                                      </a:pathLst>
                                    </a:custGeom>
                                    <a:solidFill>
                                      <a:srgbClr val="c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46800" bIns="4680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000000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6447" name=""/>
                                <p:cNvGrpSpPr/>
                                <p:nvPr/>
                              </p:nvGrpSpPr>
                              <p:grpSpPr>
                                <a:xfrm>
                                  <a:off x="4244040" y="3011760"/>
                                  <a:ext cx="44280" cy="146160"/>
                                  <a:chOff x="4244040" y="3011760"/>
                                  <a:chExt cx="44280" cy="146160"/>
                                </a:xfrm>
                              </p:grpSpPr>
                              <p:grpSp>
                                <p:nvGrpSpPr>
                                  <p:cNvPr id="6448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4253760" y="3011760"/>
                                    <a:ext cx="24480" cy="35280"/>
                                    <a:chOff x="4253760" y="3011760"/>
                                    <a:chExt cx="24480" cy="35280"/>
                                  </a:xfrm>
                                </p:grpSpPr>
                                <p:sp>
                                  <p:nvSpPr>
                                    <p:cNvPr id="644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4253760" y="3011760"/>
                                      <a:ext cx="24480" cy="35280"/>
                                    </a:xfrm>
                                    <a:custGeom>
                                      <a:avLst/>
                                      <a:gdLst/>
                                      <a:ahLst/>
                                      <a:rect l="l" t="t" r="r" b="b"/>
                                      <a:pathLst>
                                        <a:path w="101" h="112">
                                          <a:moveTo>
                                            <a:pt x="16" y="35"/>
                                          </a:moveTo>
                                          <a:lnTo>
                                            <a:pt x="26" y="24"/>
                                          </a:lnTo>
                                          <a:lnTo>
                                            <a:pt x="37" y="16"/>
                                          </a:lnTo>
                                          <a:lnTo>
                                            <a:pt x="49" y="9"/>
                                          </a:lnTo>
                                          <a:lnTo>
                                            <a:pt x="64" y="2"/>
                                          </a:lnTo>
                                          <a:lnTo>
                                            <a:pt x="76" y="0"/>
                                          </a:lnTo>
                                          <a:lnTo>
                                            <a:pt x="86" y="3"/>
                                          </a:lnTo>
                                          <a:lnTo>
                                            <a:pt x="95" y="11"/>
                                          </a:lnTo>
                                          <a:lnTo>
                                            <a:pt x="99" y="22"/>
                                          </a:lnTo>
                                          <a:lnTo>
                                            <a:pt x="101" y="33"/>
                                          </a:lnTo>
                                          <a:lnTo>
                                            <a:pt x="98" y="49"/>
                                          </a:lnTo>
                                          <a:lnTo>
                                            <a:pt x="92" y="63"/>
                                          </a:lnTo>
                                          <a:lnTo>
                                            <a:pt x="84" y="75"/>
                                          </a:lnTo>
                                          <a:lnTo>
                                            <a:pt x="75" y="86"/>
                                          </a:lnTo>
                                          <a:lnTo>
                                            <a:pt x="63" y="97"/>
                                          </a:lnTo>
                                          <a:lnTo>
                                            <a:pt x="50" y="106"/>
                                          </a:lnTo>
                                          <a:lnTo>
                                            <a:pt x="37" y="111"/>
                                          </a:lnTo>
                                          <a:lnTo>
                                            <a:pt x="24" y="112"/>
                                          </a:lnTo>
                                          <a:lnTo>
                                            <a:pt x="13" y="108"/>
                                          </a:lnTo>
                                          <a:lnTo>
                                            <a:pt x="6" y="99"/>
                                          </a:lnTo>
                                          <a:lnTo>
                                            <a:pt x="1" y="89"/>
                                          </a:lnTo>
                                          <a:lnTo>
                                            <a:pt x="0" y="75"/>
                                          </a:lnTo>
                                          <a:lnTo>
                                            <a:pt x="3" y="61"/>
                                          </a:lnTo>
                                          <a:lnTo>
                                            <a:pt x="7" y="50"/>
                                          </a:lnTo>
                                          <a:lnTo>
                                            <a:pt x="16" y="35"/>
                                          </a:lnTo>
                                          <a:close/>
                                        </a:path>
                                      </a:pathLst>
                                    </a:custGeom>
                                    <a:solidFill>
                                      <a:srgbClr val="8080ff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11520" bIns="-1152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000000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6450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4259880" y="3019320"/>
                                      <a:ext cx="12240" cy="18360"/>
                                    </a:xfrm>
                                    <a:custGeom>
                                      <a:avLst/>
                                      <a:gdLst/>
                                      <a:ahLst/>
                                      <a:rect l="l" t="t" r="r" b="b"/>
                                      <a:pathLst>
                                        <a:path w="54" h="61">
                                          <a:moveTo>
                                            <a:pt x="9" y="18"/>
                                          </a:moveTo>
                                          <a:lnTo>
                                            <a:pt x="14" y="13"/>
                                          </a:lnTo>
                                          <a:lnTo>
                                            <a:pt x="20" y="7"/>
                                          </a:lnTo>
                                          <a:lnTo>
                                            <a:pt x="26" y="4"/>
                                          </a:lnTo>
                                          <a:lnTo>
                                            <a:pt x="34" y="1"/>
                                          </a:lnTo>
                                          <a:lnTo>
                                            <a:pt x="40" y="0"/>
                                          </a:lnTo>
                                          <a:lnTo>
                                            <a:pt x="45" y="1"/>
                                          </a:lnTo>
                                          <a:lnTo>
                                            <a:pt x="51" y="5"/>
                                          </a:lnTo>
                                          <a:lnTo>
                                            <a:pt x="53" y="11"/>
                                          </a:lnTo>
                                          <a:lnTo>
                                            <a:pt x="54" y="17"/>
                                          </a:lnTo>
                                          <a:lnTo>
                                            <a:pt x="53" y="27"/>
                                          </a:lnTo>
                                          <a:lnTo>
                                            <a:pt x="50" y="35"/>
                                          </a:lnTo>
                                          <a:lnTo>
                                            <a:pt x="45" y="41"/>
                                          </a:lnTo>
                                          <a:lnTo>
                                            <a:pt x="40" y="47"/>
                                          </a:lnTo>
                                          <a:lnTo>
                                            <a:pt x="34" y="54"/>
                                          </a:lnTo>
                                          <a:lnTo>
                                            <a:pt x="27" y="58"/>
                                          </a:lnTo>
                                          <a:lnTo>
                                            <a:pt x="20" y="61"/>
                                          </a:lnTo>
                                          <a:lnTo>
                                            <a:pt x="14" y="61"/>
                                          </a:lnTo>
                                          <a:lnTo>
                                            <a:pt x="8" y="59"/>
                                          </a:lnTo>
                                          <a:lnTo>
                                            <a:pt x="3" y="54"/>
                                          </a:lnTo>
                                          <a:lnTo>
                                            <a:pt x="0" y="48"/>
                                          </a:lnTo>
                                          <a:lnTo>
                                            <a:pt x="0" y="41"/>
                                          </a:lnTo>
                                          <a:lnTo>
                                            <a:pt x="1" y="34"/>
                                          </a:lnTo>
                                          <a:lnTo>
                                            <a:pt x="3" y="27"/>
                                          </a:lnTo>
                                          <a:lnTo>
                                            <a:pt x="9" y="18"/>
                                          </a:lnTo>
                                          <a:close/>
                                        </a:path>
                                      </a:pathLst>
                                    </a:custGeom>
                                    <a:solidFill>
                                      <a:srgbClr val="60006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28440" bIns="-2844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000000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sp>
                                <p:nvSpPr>
                                  <p:cNvPr id="6451" name=""/>
                                  <p:cNvSpPr/>
                                  <p:nvPr/>
                                </p:nvSpPr>
                                <p:spPr>
                                  <a:xfrm>
                                    <a:off x="4244040" y="3082680"/>
                                    <a:ext cx="25560" cy="33840"/>
                                  </a:xfrm>
                                  <a:custGeom>
                                    <a:avLst/>
                                    <a:gdLst/>
                                    <a:ahLst/>
                                    <a:rect l="l" t="t" r="r" b="b"/>
                                    <a:pathLst>
                                      <a:path w="101" h="111">
                                        <a:moveTo>
                                          <a:pt x="85" y="35"/>
                                        </a:moveTo>
                                        <a:lnTo>
                                          <a:pt x="75" y="24"/>
                                        </a:lnTo>
                                        <a:lnTo>
                                          <a:pt x="64" y="15"/>
                                        </a:lnTo>
                                        <a:lnTo>
                                          <a:pt x="52" y="8"/>
                                        </a:lnTo>
                                        <a:lnTo>
                                          <a:pt x="37" y="2"/>
                                        </a:lnTo>
                                        <a:lnTo>
                                          <a:pt x="26" y="0"/>
                                        </a:lnTo>
                                        <a:lnTo>
                                          <a:pt x="15" y="3"/>
                                        </a:lnTo>
                                        <a:lnTo>
                                          <a:pt x="6" y="10"/>
                                        </a:lnTo>
                                        <a:lnTo>
                                          <a:pt x="2" y="22"/>
                                        </a:lnTo>
                                        <a:lnTo>
                                          <a:pt x="0" y="33"/>
                                        </a:lnTo>
                                        <a:lnTo>
                                          <a:pt x="3" y="48"/>
                                        </a:lnTo>
                                        <a:lnTo>
                                          <a:pt x="9" y="63"/>
                                        </a:lnTo>
                                        <a:lnTo>
                                          <a:pt x="17" y="75"/>
                                        </a:lnTo>
                                        <a:lnTo>
                                          <a:pt x="27" y="85"/>
                                        </a:lnTo>
                                        <a:lnTo>
                                          <a:pt x="38" y="95"/>
                                        </a:lnTo>
                                        <a:lnTo>
                                          <a:pt x="51" y="105"/>
                                        </a:lnTo>
                                        <a:lnTo>
                                          <a:pt x="64" y="110"/>
                                        </a:lnTo>
                                        <a:lnTo>
                                          <a:pt x="77" y="111"/>
                                        </a:lnTo>
                                        <a:lnTo>
                                          <a:pt x="88" y="107"/>
                                        </a:lnTo>
                                        <a:lnTo>
                                          <a:pt x="95" y="97"/>
                                        </a:lnTo>
                                        <a:lnTo>
                                          <a:pt x="100" y="87"/>
                                        </a:lnTo>
                                        <a:lnTo>
                                          <a:pt x="101" y="75"/>
                                        </a:lnTo>
                                        <a:lnTo>
                                          <a:pt x="98" y="61"/>
                                        </a:lnTo>
                                        <a:lnTo>
                                          <a:pt x="94" y="49"/>
                                        </a:lnTo>
                                        <a:lnTo>
                                          <a:pt x="85" y="35"/>
                                        </a:lnTo>
                                        <a:close/>
                                      </a:path>
                                    </a:pathLst>
                                  </a:custGeom>
                                  <a:solidFill>
                                    <a:srgbClr val="a000a0"/>
                                  </a:solidFill>
                                  <a:ln w="0">
                                    <a:noFill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-12960" bIns="-12960" anchor="t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6452" name=""/>
                                  <p:cNvSpPr/>
                                  <p:nvPr/>
                                </p:nvSpPr>
                                <p:spPr>
                                  <a:xfrm>
                                    <a:off x="4266000" y="3122280"/>
                                    <a:ext cx="22320" cy="35640"/>
                                  </a:xfrm>
                                  <a:custGeom>
                                    <a:avLst/>
                                    <a:gdLst/>
                                    <a:ahLst/>
                                    <a:rect l="l" t="t" r="r" b="b"/>
                                    <a:pathLst>
                                      <a:path w="91" h="114">
                                        <a:moveTo>
                                          <a:pt x="79" y="37"/>
                                        </a:moveTo>
                                        <a:lnTo>
                                          <a:pt x="71" y="23"/>
                                        </a:lnTo>
                                        <a:lnTo>
                                          <a:pt x="62" y="12"/>
                                        </a:lnTo>
                                        <a:lnTo>
                                          <a:pt x="51" y="4"/>
                                        </a:lnTo>
                                        <a:lnTo>
                                          <a:pt x="37" y="0"/>
                                        </a:lnTo>
                                        <a:lnTo>
                                          <a:pt x="27" y="3"/>
                                        </a:lnTo>
                                        <a:lnTo>
                                          <a:pt x="17" y="11"/>
                                        </a:lnTo>
                                        <a:lnTo>
                                          <a:pt x="7" y="19"/>
                                        </a:lnTo>
                                        <a:lnTo>
                                          <a:pt x="2" y="29"/>
                                        </a:lnTo>
                                        <a:lnTo>
                                          <a:pt x="0" y="38"/>
                                        </a:lnTo>
                                        <a:lnTo>
                                          <a:pt x="1" y="48"/>
                                        </a:lnTo>
                                        <a:lnTo>
                                          <a:pt x="3" y="62"/>
                                        </a:lnTo>
                                        <a:lnTo>
                                          <a:pt x="10" y="77"/>
                                        </a:lnTo>
                                        <a:lnTo>
                                          <a:pt x="18" y="88"/>
                                        </a:lnTo>
                                        <a:lnTo>
                                          <a:pt x="28" y="99"/>
                                        </a:lnTo>
                                        <a:lnTo>
                                          <a:pt x="41" y="108"/>
                                        </a:lnTo>
                                        <a:lnTo>
                                          <a:pt x="54" y="113"/>
                                        </a:lnTo>
                                        <a:lnTo>
                                          <a:pt x="67" y="114"/>
                                        </a:lnTo>
                                        <a:lnTo>
                                          <a:pt x="78" y="110"/>
                                        </a:lnTo>
                                        <a:lnTo>
                                          <a:pt x="85" y="101"/>
                                        </a:lnTo>
                                        <a:lnTo>
                                          <a:pt x="90" y="91"/>
                                        </a:lnTo>
                                        <a:lnTo>
                                          <a:pt x="91" y="77"/>
                                        </a:lnTo>
                                        <a:lnTo>
                                          <a:pt x="88" y="63"/>
                                        </a:lnTo>
                                        <a:lnTo>
                                          <a:pt x="85" y="49"/>
                                        </a:lnTo>
                                        <a:lnTo>
                                          <a:pt x="79" y="37"/>
                                        </a:lnTo>
                                        <a:close/>
                                      </a:path>
                                    </a:pathLst>
                                  </a:custGeom>
                                  <a:solidFill>
                                    <a:srgbClr val="a000a0"/>
                                  </a:solidFill>
                                  <a:ln w="0">
                                    <a:noFill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-11160" bIns="-11160" anchor="t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</p:grpSp>
                          </p:grpSp>
                          <p:grpSp>
                            <p:nvGrpSpPr>
                              <p:cNvPr id="6453" name=""/>
                              <p:cNvGrpSpPr/>
                              <p:nvPr/>
                            </p:nvGrpSpPr>
                            <p:grpSpPr>
                              <a:xfrm>
                                <a:off x="4322880" y="3085560"/>
                                <a:ext cx="160200" cy="185040"/>
                                <a:chOff x="4322880" y="3085560"/>
                                <a:chExt cx="160200" cy="185040"/>
                              </a:xfrm>
                            </p:grpSpPr>
                            <p:sp>
                              <p:nvSpPr>
                                <p:cNvPr id="6454" name=""/>
                                <p:cNvSpPr/>
                                <p:nvPr/>
                              </p:nvSpPr>
                              <p:spPr>
                                <a:xfrm>
                                  <a:off x="4359600" y="3130200"/>
                                  <a:ext cx="93600" cy="9864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380" h="322">
                                      <a:moveTo>
                                        <a:pt x="10" y="0"/>
                                      </a:moveTo>
                                      <a:lnTo>
                                        <a:pt x="3" y="34"/>
                                      </a:lnTo>
                                      <a:lnTo>
                                        <a:pt x="0" y="61"/>
                                      </a:lnTo>
                                      <a:lnTo>
                                        <a:pt x="6" y="92"/>
                                      </a:lnTo>
                                      <a:lnTo>
                                        <a:pt x="18" y="114"/>
                                      </a:lnTo>
                                      <a:lnTo>
                                        <a:pt x="33" y="127"/>
                                      </a:lnTo>
                                      <a:lnTo>
                                        <a:pt x="59" y="148"/>
                                      </a:lnTo>
                                      <a:lnTo>
                                        <a:pt x="84" y="163"/>
                                      </a:lnTo>
                                      <a:lnTo>
                                        <a:pt x="121" y="179"/>
                                      </a:lnTo>
                                      <a:lnTo>
                                        <a:pt x="161" y="194"/>
                                      </a:lnTo>
                                      <a:lnTo>
                                        <a:pt x="199" y="206"/>
                                      </a:lnTo>
                                      <a:lnTo>
                                        <a:pt x="239" y="219"/>
                                      </a:lnTo>
                                      <a:lnTo>
                                        <a:pt x="268" y="234"/>
                                      </a:lnTo>
                                      <a:lnTo>
                                        <a:pt x="300" y="252"/>
                                      </a:lnTo>
                                      <a:lnTo>
                                        <a:pt x="330" y="273"/>
                                      </a:lnTo>
                                      <a:lnTo>
                                        <a:pt x="355" y="295"/>
                                      </a:lnTo>
                                      <a:lnTo>
                                        <a:pt x="380" y="322"/>
                                      </a:lnTo>
                                    </a:path>
                                  </a:pathLst>
                                </a:custGeom>
                                <a:noFill/>
                                <a:ln w="4680">
                                  <a:solidFill>
                                    <a:srgbClr val="ffc0c0"/>
                                  </a:solidFill>
                                  <a:round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6455" name=""/>
                                <p:cNvSpPr/>
                                <p:nvPr/>
                              </p:nvSpPr>
                              <p:spPr>
                                <a:xfrm>
                                  <a:off x="4322880" y="3148560"/>
                                  <a:ext cx="108720" cy="12168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443" h="393">
                                      <a:moveTo>
                                        <a:pt x="0" y="0"/>
                                      </a:moveTo>
                                      <a:lnTo>
                                        <a:pt x="34" y="9"/>
                                      </a:lnTo>
                                      <a:lnTo>
                                        <a:pt x="65" y="18"/>
                                      </a:lnTo>
                                      <a:lnTo>
                                        <a:pt x="95" y="30"/>
                                      </a:lnTo>
                                      <a:lnTo>
                                        <a:pt x="117" y="43"/>
                                      </a:lnTo>
                                      <a:lnTo>
                                        <a:pt x="135" y="65"/>
                                      </a:lnTo>
                                      <a:lnTo>
                                        <a:pt x="150" y="93"/>
                                      </a:lnTo>
                                      <a:lnTo>
                                        <a:pt x="160" y="117"/>
                                      </a:lnTo>
                                      <a:lnTo>
                                        <a:pt x="169" y="148"/>
                                      </a:lnTo>
                                      <a:lnTo>
                                        <a:pt x="180" y="183"/>
                                      </a:lnTo>
                                      <a:lnTo>
                                        <a:pt x="193" y="214"/>
                                      </a:lnTo>
                                      <a:lnTo>
                                        <a:pt x="212" y="242"/>
                                      </a:lnTo>
                                      <a:lnTo>
                                        <a:pt x="233" y="273"/>
                                      </a:lnTo>
                                      <a:lnTo>
                                        <a:pt x="253" y="295"/>
                                      </a:lnTo>
                                      <a:lnTo>
                                        <a:pt x="280" y="316"/>
                                      </a:lnTo>
                                      <a:lnTo>
                                        <a:pt x="309" y="335"/>
                                      </a:lnTo>
                                      <a:lnTo>
                                        <a:pt x="343" y="350"/>
                                      </a:lnTo>
                                      <a:lnTo>
                                        <a:pt x="382" y="368"/>
                                      </a:lnTo>
                                      <a:lnTo>
                                        <a:pt x="415" y="381"/>
                                      </a:lnTo>
                                      <a:lnTo>
                                        <a:pt x="443" y="393"/>
                                      </a:lnTo>
                                    </a:path>
                                  </a:pathLst>
                                </a:custGeom>
                                <a:noFill/>
                                <a:ln w="4680">
                                  <a:solidFill>
                                    <a:srgbClr val="ffc0c0"/>
                                  </a:solidFill>
                                  <a:round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6456" name=""/>
                                <p:cNvSpPr/>
                                <p:nvPr/>
                              </p:nvSpPr>
                              <p:spPr>
                                <a:xfrm>
                                  <a:off x="4330080" y="3085560"/>
                                  <a:ext cx="153000" cy="18504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618" h="602">
                                      <a:moveTo>
                                        <a:pt x="0" y="0"/>
                                      </a:moveTo>
                                      <a:lnTo>
                                        <a:pt x="7" y="41"/>
                                      </a:lnTo>
                                      <a:lnTo>
                                        <a:pt x="18" y="82"/>
                                      </a:lnTo>
                                      <a:lnTo>
                                        <a:pt x="35" y="128"/>
                                      </a:lnTo>
                                      <a:lnTo>
                                        <a:pt x="55" y="163"/>
                                      </a:lnTo>
                                      <a:lnTo>
                                        <a:pt x="83" y="202"/>
                                      </a:lnTo>
                                      <a:lnTo>
                                        <a:pt x="104" y="237"/>
                                      </a:lnTo>
                                      <a:lnTo>
                                        <a:pt x="129" y="280"/>
                                      </a:lnTo>
                                      <a:lnTo>
                                        <a:pt x="157" y="328"/>
                                      </a:lnTo>
                                      <a:lnTo>
                                        <a:pt x="176" y="356"/>
                                      </a:lnTo>
                                      <a:lnTo>
                                        <a:pt x="199" y="385"/>
                                      </a:lnTo>
                                      <a:lnTo>
                                        <a:pt x="226" y="415"/>
                                      </a:lnTo>
                                      <a:lnTo>
                                        <a:pt x="260" y="445"/>
                                      </a:lnTo>
                                      <a:lnTo>
                                        <a:pt x="304" y="482"/>
                                      </a:lnTo>
                                      <a:lnTo>
                                        <a:pt x="342" y="512"/>
                                      </a:lnTo>
                                      <a:lnTo>
                                        <a:pt x="385" y="537"/>
                                      </a:lnTo>
                                      <a:lnTo>
                                        <a:pt x="432" y="558"/>
                                      </a:lnTo>
                                      <a:lnTo>
                                        <a:pt x="485" y="578"/>
                                      </a:lnTo>
                                      <a:lnTo>
                                        <a:pt x="525" y="589"/>
                                      </a:lnTo>
                                      <a:lnTo>
                                        <a:pt x="573" y="598"/>
                                      </a:lnTo>
                                      <a:lnTo>
                                        <a:pt x="618" y="602"/>
                                      </a:lnTo>
                                    </a:path>
                                  </a:pathLst>
                                </a:custGeom>
                                <a:noFill/>
                                <a:ln w="4680">
                                  <a:solidFill>
                                    <a:srgbClr val="ffc0c0"/>
                                  </a:solidFill>
                                  <a:round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</p:grpSp>
                      </p:grpSp>
                    </p:grpSp>
                    <p:grpSp>
                      <p:nvGrpSpPr>
                        <p:cNvPr id="6457" name=""/>
                        <p:cNvGrpSpPr/>
                        <p:nvPr/>
                      </p:nvGrpSpPr>
                      <p:grpSpPr>
                        <a:xfrm>
                          <a:off x="4366440" y="3081600"/>
                          <a:ext cx="231480" cy="233640"/>
                          <a:chOff x="4366440" y="3081600"/>
                          <a:chExt cx="231480" cy="233640"/>
                        </a:xfrm>
                      </p:grpSpPr>
                      <p:grpSp>
                        <p:nvGrpSpPr>
                          <p:cNvPr id="6458" name=""/>
                          <p:cNvGrpSpPr/>
                          <p:nvPr/>
                        </p:nvGrpSpPr>
                        <p:grpSpPr>
                          <a:xfrm>
                            <a:off x="4454280" y="3198600"/>
                            <a:ext cx="140760" cy="116280"/>
                            <a:chOff x="4454280" y="3198600"/>
                            <a:chExt cx="140760" cy="116280"/>
                          </a:xfrm>
                        </p:grpSpPr>
                        <p:grpSp>
                          <p:nvGrpSpPr>
                            <p:cNvPr id="6459" name=""/>
                            <p:cNvGrpSpPr/>
                            <p:nvPr/>
                          </p:nvGrpSpPr>
                          <p:grpSpPr>
                            <a:xfrm>
                              <a:off x="4539600" y="3198600"/>
                              <a:ext cx="55440" cy="58320"/>
                              <a:chOff x="4539600" y="3198600"/>
                              <a:chExt cx="55440" cy="58320"/>
                            </a:xfrm>
                          </p:grpSpPr>
                          <p:sp>
                            <p:nvSpPr>
                              <p:cNvPr id="6460" name=""/>
                              <p:cNvSpPr/>
                              <p:nvPr/>
                            </p:nvSpPr>
                            <p:spPr>
                              <a:xfrm>
                                <a:off x="4562640" y="3201480"/>
                                <a:ext cx="6120" cy="324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27" h="101">
                                    <a:moveTo>
                                      <a:pt x="14" y="0"/>
                                    </a:moveTo>
                                    <a:lnTo>
                                      <a:pt x="21" y="21"/>
                                    </a:lnTo>
                                    <a:lnTo>
                                      <a:pt x="27" y="51"/>
                                    </a:lnTo>
                                    <a:lnTo>
                                      <a:pt x="24" y="69"/>
                                    </a:lnTo>
                                    <a:lnTo>
                                      <a:pt x="11" y="89"/>
                                    </a:lnTo>
                                    <a:lnTo>
                                      <a:pt x="0" y="101"/>
                                    </a:lnTo>
                                  </a:path>
                                </a:pathLst>
                              </a:custGeom>
                              <a:noFill/>
                              <a:ln w="3240">
                                <a:solidFill>
                                  <a:srgbClr val="8080ff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4400" bIns="-144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6461" name=""/>
                              <p:cNvSpPr/>
                              <p:nvPr/>
                            </p:nvSpPr>
                            <p:spPr>
                              <a:xfrm>
                                <a:off x="4539600" y="3215520"/>
                                <a:ext cx="30600" cy="414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24" h="137">
                                    <a:moveTo>
                                      <a:pt x="0" y="0"/>
                                    </a:moveTo>
                                    <a:lnTo>
                                      <a:pt x="30" y="5"/>
                                    </a:lnTo>
                                    <a:lnTo>
                                      <a:pt x="61" y="11"/>
                                    </a:lnTo>
                                    <a:lnTo>
                                      <a:pt x="75" y="20"/>
                                    </a:lnTo>
                                    <a:lnTo>
                                      <a:pt x="89" y="40"/>
                                    </a:lnTo>
                                    <a:lnTo>
                                      <a:pt x="92" y="61"/>
                                    </a:lnTo>
                                    <a:lnTo>
                                      <a:pt x="104" y="85"/>
                                    </a:lnTo>
                                    <a:lnTo>
                                      <a:pt x="115" y="109"/>
                                    </a:lnTo>
                                    <a:lnTo>
                                      <a:pt x="124" y="137"/>
                                    </a:lnTo>
                                  </a:path>
                                </a:pathLst>
                              </a:custGeom>
                              <a:noFill/>
                              <a:ln w="3240">
                                <a:solidFill>
                                  <a:srgbClr val="8080ff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5400" bIns="-54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6462" name=""/>
                              <p:cNvSpPr/>
                              <p:nvPr/>
                            </p:nvSpPr>
                            <p:spPr>
                              <a:xfrm>
                                <a:off x="4583880" y="3198600"/>
                                <a:ext cx="11160" cy="507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45" h="162">
                                    <a:moveTo>
                                      <a:pt x="0" y="80"/>
                                    </a:moveTo>
                                    <a:lnTo>
                                      <a:pt x="2" y="110"/>
                                    </a:lnTo>
                                    <a:lnTo>
                                      <a:pt x="6" y="138"/>
                                    </a:lnTo>
                                    <a:lnTo>
                                      <a:pt x="17" y="151"/>
                                    </a:lnTo>
                                    <a:lnTo>
                                      <a:pt x="45" y="162"/>
                                    </a:lnTo>
                                    <a:lnTo>
                                      <a:pt x="45" y="0"/>
                                    </a:lnTo>
                                  </a:path>
                                </a:pathLst>
                              </a:custGeom>
                              <a:noFill/>
                              <a:ln w="3240">
                                <a:solidFill>
                                  <a:srgbClr val="8080ff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3960" bIns="39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6463" name=""/>
                            <p:cNvGrpSpPr/>
                            <p:nvPr/>
                          </p:nvGrpSpPr>
                          <p:grpSpPr>
                            <a:xfrm>
                              <a:off x="4454280" y="3280320"/>
                              <a:ext cx="75240" cy="34560"/>
                              <a:chOff x="4454280" y="3280320"/>
                              <a:chExt cx="75240" cy="34560"/>
                            </a:xfrm>
                          </p:grpSpPr>
                          <p:sp>
                            <p:nvSpPr>
                              <p:cNvPr id="6464" name=""/>
                              <p:cNvSpPr/>
                              <p:nvPr/>
                            </p:nvSpPr>
                            <p:spPr>
                              <a:xfrm>
                                <a:off x="4481280" y="3284640"/>
                                <a:ext cx="44280" cy="75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9" h="24">
                                    <a:moveTo>
                                      <a:pt x="0" y="0"/>
                                    </a:moveTo>
                                    <a:lnTo>
                                      <a:pt x="43" y="13"/>
                                    </a:lnTo>
                                    <a:lnTo>
                                      <a:pt x="80" y="21"/>
                                    </a:lnTo>
                                    <a:lnTo>
                                      <a:pt x="124" y="24"/>
                                    </a:lnTo>
                                    <a:lnTo>
                                      <a:pt x="179" y="16"/>
                                    </a:lnTo>
                                  </a:path>
                                </a:pathLst>
                              </a:custGeom>
                              <a:noFill/>
                              <a:ln w="3240">
                                <a:solidFill>
                                  <a:srgbClr val="8080ff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9240" bIns="-3924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6465" name=""/>
                              <p:cNvSpPr/>
                              <p:nvPr/>
                            </p:nvSpPr>
                            <p:spPr>
                              <a:xfrm>
                                <a:off x="4501080" y="3280320"/>
                                <a:ext cx="8640" cy="1188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35" h="42">
                                    <a:moveTo>
                                      <a:pt x="0" y="0"/>
                                    </a:moveTo>
                                    <a:lnTo>
                                      <a:pt x="22" y="20"/>
                                    </a:lnTo>
                                    <a:lnTo>
                                      <a:pt x="35" y="42"/>
                                    </a:lnTo>
                                  </a:path>
                                </a:pathLst>
                              </a:custGeom>
                              <a:noFill/>
                              <a:ln w="3240">
                                <a:solidFill>
                                  <a:srgbClr val="8080ff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4920" bIns="-3492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6466" name=""/>
                              <p:cNvSpPr/>
                              <p:nvPr/>
                            </p:nvSpPr>
                            <p:spPr>
                              <a:xfrm>
                                <a:off x="4454280" y="3304800"/>
                                <a:ext cx="54000" cy="1008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220" h="35">
                                    <a:moveTo>
                                      <a:pt x="0" y="0"/>
                                    </a:moveTo>
                                    <a:lnTo>
                                      <a:pt x="57" y="9"/>
                                    </a:lnTo>
                                    <a:lnTo>
                                      <a:pt x="115" y="16"/>
                                    </a:lnTo>
                                    <a:lnTo>
                                      <a:pt x="168" y="25"/>
                                    </a:lnTo>
                                    <a:lnTo>
                                      <a:pt x="220" y="35"/>
                                    </a:lnTo>
                                  </a:path>
                                </a:pathLst>
                              </a:custGeom>
                              <a:noFill/>
                              <a:ln w="3240">
                                <a:solidFill>
                                  <a:srgbClr val="8080ff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6720" bIns="-3672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6467" name=""/>
                              <p:cNvSpPr/>
                              <p:nvPr/>
                            </p:nvSpPr>
                            <p:spPr>
                              <a:xfrm>
                                <a:off x="4501080" y="3303000"/>
                                <a:ext cx="17280" cy="75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66" h="25">
                                    <a:moveTo>
                                      <a:pt x="0" y="0"/>
                                    </a:moveTo>
                                    <a:lnTo>
                                      <a:pt x="31" y="2"/>
                                    </a:lnTo>
                                    <a:lnTo>
                                      <a:pt x="50" y="8"/>
                                    </a:lnTo>
                                    <a:lnTo>
                                      <a:pt x="66" y="25"/>
                                    </a:lnTo>
                                  </a:path>
                                </a:pathLst>
                              </a:custGeom>
                              <a:noFill/>
                              <a:ln w="3240">
                                <a:solidFill>
                                  <a:srgbClr val="8080ff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9240" bIns="-3924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6468" name=""/>
                              <p:cNvSpPr/>
                              <p:nvPr/>
                            </p:nvSpPr>
                            <p:spPr>
                              <a:xfrm>
                                <a:off x="4523400" y="3299760"/>
                                <a:ext cx="6120" cy="15120"/>
                              </a:xfrm>
                              <a:prstGeom prst="line">
                                <a:avLst/>
                              </a:prstGeom>
                              <a:ln w="3240">
                                <a:solidFill>
                                  <a:srgbClr val="8080ff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1680" bIns="-3168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6469" name=""/>
                          <p:cNvGrpSpPr/>
                          <p:nvPr/>
                        </p:nvGrpSpPr>
                        <p:grpSpPr>
                          <a:xfrm>
                            <a:off x="4366440" y="3081600"/>
                            <a:ext cx="231480" cy="233640"/>
                            <a:chOff x="4366440" y="3081600"/>
                            <a:chExt cx="231480" cy="233640"/>
                          </a:xfrm>
                        </p:grpSpPr>
                        <p:grpSp>
                          <p:nvGrpSpPr>
                            <p:cNvPr id="6470" name=""/>
                            <p:cNvGrpSpPr/>
                            <p:nvPr/>
                          </p:nvGrpSpPr>
                          <p:grpSpPr>
                            <a:xfrm>
                              <a:off x="4380120" y="3095280"/>
                              <a:ext cx="217800" cy="219960"/>
                              <a:chOff x="4380120" y="3095280"/>
                              <a:chExt cx="217800" cy="219960"/>
                            </a:xfrm>
                          </p:grpSpPr>
                          <p:sp>
                            <p:nvSpPr>
                              <p:cNvPr id="6471" name=""/>
                              <p:cNvSpPr/>
                              <p:nvPr/>
                            </p:nvSpPr>
                            <p:spPr>
                              <a:xfrm>
                                <a:off x="4380120" y="3095280"/>
                                <a:ext cx="217800" cy="17568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877" h="567">
                                    <a:moveTo>
                                      <a:pt x="0" y="0"/>
                                    </a:moveTo>
                                    <a:lnTo>
                                      <a:pt x="35" y="15"/>
                                    </a:lnTo>
                                    <a:lnTo>
                                      <a:pt x="69" y="25"/>
                                    </a:lnTo>
                                    <a:lnTo>
                                      <a:pt x="109" y="31"/>
                                    </a:lnTo>
                                    <a:lnTo>
                                      <a:pt x="142" y="31"/>
                                    </a:lnTo>
                                    <a:lnTo>
                                      <a:pt x="185" y="34"/>
                                    </a:lnTo>
                                    <a:lnTo>
                                      <a:pt x="215" y="43"/>
                                    </a:lnTo>
                                    <a:lnTo>
                                      <a:pt x="244" y="54"/>
                                    </a:lnTo>
                                    <a:lnTo>
                                      <a:pt x="276" y="76"/>
                                    </a:lnTo>
                                    <a:lnTo>
                                      <a:pt x="308" y="103"/>
                                    </a:lnTo>
                                    <a:lnTo>
                                      <a:pt x="350" y="140"/>
                                    </a:lnTo>
                                    <a:lnTo>
                                      <a:pt x="381" y="167"/>
                                    </a:lnTo>
                                    <a:lnTo>
                                      <a:pt x="429" y="217"/>
                                    </a:lnTo>
                                    <a:lnTo>
                                      <a:pt x="481" y="267"/>
                                    </a:lnTo>
                                    <a:lnTo>
                                      <a:pt x="524" y="312"/>
                                    </a:lnTo>
                                    <a:lnTo>
                                      <a:pt x="571" y="364"/>
                                    </a:lnTo>
                                    <a:lnTo>
                                      <a:pt x="621" y="418"/>
                                    </a:lnTo>
                                    <a:lnTo>
                                      <a:pt x="664" y="458"/>
                                    </a:lnTo>
                                    <a:lnTo>
                                      <a:pt x="707" y="496"/>
                                    </a:lnTo>
                                    <a:lnTo>
                                      <a:pt x="744" y="520"/>
                                    </a:lnTo>
                                    <a:lnTo>
                                      <a:pt x="782" y="540"/>
                                    </a:lnTo>
                                    <a:lnTo>
                                      <a:pt x="812" y="560"/>
                                    </a:lnTo>
                                    <a:lnTo>
                                      <a:pt x="833" y="567"/>
                                    </a:lnTo>
                                    <a:lnTo>
                                      <a:pt x="851" y="563"/>
                                    </a:lnTo>
                                    <a:lnTo>
                                      <a:pt x="867" y="552"/>
                                    </a:lnTo>
                                    <a:lnTo>
                                      <a:pt x="876" y="532"/>
                                    </a:lnTo>
                                    <a:lnTo>
                                      <a:pt x="877" y="492"/>
                                    </a:lnTo>
                                    <a:lnTo>
                                      <a:pt x="873" y="452"/>
                                    </a:lnTo>
                                  </a:path>
                                </a:pathLst>
                              </a:custGeom>
                              <a:noFill/>
                              <a:ln w="11160">
                                <a:solidFill>
                                  <a:srgbClr val="8080ff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6472" name=""/>
                              <p:cNvSpPr/>
                              <p:nvPr/>
                            </p:nvSpPr>
                            <p:spPr>
                              <a:xfrm>
                                <a:off x="4414320" y="3104280"/>
                                <a:ext cx="122400" cy="2109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494" h="685">
                                    <a:moveTo>
                                      <a:pt x="0" y="0"/>
                                    </a:moveTo>
                                    <a:lnTo>
                                      <a:pt x="18" y="59"/>
                                    </a:lnTo>
                                    <a:lnTo>
                                      <a:pt x="37" y="116"/>
                                    </a:lnTo>
                                    <a:lnTo>
                                      <a:pt x="55" y="155"/>
                                    </a:lnTo>
                                    <a:lnTo>
                                      <a:pt x="82" y="202"/>
                                    </a:lnTo>
                                    <a:lnTo>
                                      <a:pt x="119" y="256"/>
                                    </a:lnTo>
                                    <a:lnTo>
                                      <a:pt x="150" y="299"/>
                                    </a:lnTo>
                                    <a:lnTo>
                                      <a:pt x="182" y="344"/>
                                    </a:lnTo>
                                    <a:lnTo>
                                      <a:pt x="219" y="397"/>
                                    </a:lnTo>
                                    <a:lnTo>
                                      <a:pt x="244" y="431"/>
                                    </a:lnTo>
                                    <a:lnTo>
                                      <a:pt x="268" y="450"/>
                                    </a:lnTo>
                                    <a:lnTo>
                                      <a:pt x="299" y="471"/>
                                    </a:lnTo>
                                    <a:lnTo>
                                      <a:pt x="322" y="489"/>
                                    </a:lnTo>
                                    <a:lnTo>
                                      <a:pt x="345" y="516"/>
                                    </a:lnTo>
                                    <a:lnTo>
                                      <a:pt x="376" y="541"/>
                                    </a:lnTo>
                                    <a:lnTo>
                                      <a:pt x="406" y="565"/>
                                    </a:lnTo>
                                    <a:lnTo>
                                      <a:pt x="435" y="584"/>
                                    </a:lnTo>
                                    <a:lnTo>
                                      <a:pt x="465" y="608"/>
                                    </a:lnTo>
                                    <a:lnTo>
                                      <a:pt x="485" y="627"/>
                                    </a:lnTo>
                                    <a:lnTo>
                                      <a:pt x="494" y="645"/>
                                    </a:lnTo>
                                    <a:lnTo>
                                      <a:pt x="491" y="669"/>
                                    </a:lnTo>
                                    <a:lnTo>
                                      <a:pt x="479" y="675"/>
                                    </a:lnTo>
                                    <a:lnTo>
                                      <a:pt x="449" y="682"/>
                                    </a:lnTo>
                                    <a:lnTo>
                                      <a:pt x="420" y="685"/>
                                    </a:lnTo>
                                    <a:lnTo>
                                      <a:pt x="385" y="684"/>
                                    </a:lnTo>
                                  </a:path>
                                </a:pathLst>
                              </a:custGeom>
                              <a:noFill/>
                              <a:ln w="11160">
                                <a:solidFill>
                                  <a:srgbClr val="8080ff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6473" name=""/>
                            <p:cNvGrpSpPr/>
                            <p:nvPr/>
                          </p:nvGrpSpPr>
                          <p:grpSpPr>
                            <a:xfrm>
                              <a:off x="4366440" y="3081600"/>
                              <a:ext cx="18360" cy="24480"/>
                              <a:chOff x="4366440" y="3081600"/>
                              <a:chExt cx="18360" cy="24480"/>
                            </a:xfrm>
                          </p:grpSpPr>
                          <p:sp>
                            <p:nvSpPr>
                              <p:cNvPr id="6474" name=""/>
                              <p:cNvSpPr/>
                              <p:nvPr/>
                            </p:nvSpPr>
                            <p:spPr>
                              <a:xfrm>
                                <a:off x="4366440" y="3081600"/>
                                <a:ext cx="18360" cy="24480"/>
                              </a:xfrm>
                              <a:prstGeom prst="ellipse">
                                <a:avLst/>
                              </a:prstGeom>
                              <a:solidFill>
                                <a:srgbClr val="8080ff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520" bIns="-2952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6475" name=""/>
                              <p:cNvSpPr/>
                              <p:nvPr/>
                            </p:nvSpPr>
                            <p:spPr>
                              <a:xfrm>
                                <a:off x="4368600" y="3085920"/>
                                <a:ext cx="11160" cy="13680"/>
                              </a:xfrm>
                              <a:prstGeom prst="ellipse">
                                <a:avLst/>
                              </a:prstGeom>
                              <a:solidFill>
                                <a:srgbClr val="40004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6720" bIns="-3672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</p:grpSp>
                </p:grpSp>
                <p:grpSp>
                  <p:nvGrpSpPr>
                    <p:cNvPr id="6476" name=""/>
                    <p:cNvGrpSpPr/>
                    <p:nvPr/>
                  </p:nvGrpSpPr>
                  <p:grpSpPr>
                    <a:xfrm>
                      <a:off x="4194720" y="2673720"/>
                      <a:ext cx="340560" cy="318600"/>
                      <a:chOff x="4194720" y="2673720"/>
                      <a:chExt cx="340560" cy="318600"/>
                    </a:xfrm>
                  </p:grpSpPr>
                  <p:grpSp>
                    <p:nvGrpSpPr>
                      <p:cNvPr id="6477" name=""/>
                      <p:cNvGrpSpPr/>
                      <p:nvPr/>
                    </p:nvGrpSpPr>
                    <p:grpSpPr>
                      <a:xfrm>
                        <a:off x="4194720" y="2673720"/>
                        <a:ext cx="257040" cy="281880"/>
                        <a:chOff x="4194720" y="2673720"/>
                        <a:chExt cx="257040" cy="281880"/>
                      </a:xfrm>
                    </p:grpSpPr>
                    <p:grpSp>
                      <p:nvGrpSpPr>
                        <p:cNvPr id="6478" name=""/>
                        <p:cNvGrpSpPr/>
                        <p:nvPr/>
                      </p:nvGrpSpPr>
                      <p:grpSpPr>
                        <a:xfrm>
                          <a:off x="4194720" y="2728800"/>
                          <a:ext cx="257040" cy="81720"/>
                          <a:chOff x="4194720" y="2728800"/>
                          <a:chExt cx="257040" cy="81720"/>
                        </a:xfrm>
                      </p:grpSpPr>
                      <p:grpSp>
                        <p:nvGrpSpPr>
                          <p:cNvPr id="6479" name=""/>
                          <p:cNvGrpSpPr/>
                          <p:nvPr/>
                        </p:nvGrpSpPr>
                        <p:grpSpPr>
                          <a:xfrm>
                            <a:off x="4198320" y="2728800"/>
                            <a:ext cx="253440" cy="81720"/>
                            <a:chOff x="4198320" y="2728800"/>
                            <a:chExt cx="253440" cy="81720"/>
                          </a:xfrm>
                        </p:grpSpPr>
                        <p:sp>
                          <p:nvSpPr>
                            <p:cNvPr id="6480" name=""/>
                            <p:cNvSpPr/>
                            <p:nvPr/>
                          </p:nvSpPr>
                          <p:spPr>
                            <a:xfrm>
                              <a:off x="4198320" y="2728800"/>
                              <a:ext cx="252360" cy="8172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1020" h="265">
                                  <a:moveTo>
                                    <a:pt x="1020" y="106"/>
                                  </a:moveTo>
                                  <a:lnTo>
                                    <a:pt x="970" y="100"/>
                                  </a:lnTo>
                                  <a:lnTo>
                                    <a:pt x="913" y="94"/>
                                  </a:lnTo>
                                  <a:lnTo>
                                    <a:pt x="851" y="82"/>
                                  </a:lnTo>
                                  <a:lnTo>
                                    <a:pt x="781" y="69"/>
                                  </a:lnTo>
                                  <a:lnTo>
                                    <a:pt x="712" y="55"/>
                                  </a:lnTo>
                                  <a:lnTo>
                                    <a:pt x="650" y="42"/>
                                  </a:lnTo>
                                  <a:lnTo>
                                    <a:pt x="596" y="33"/>
                                  </a:lnTo>
                                  <a:lnTo>
                                    <a:pt x="538" y="24"/>
                                  </a:lnTo>
                                  <a:lnTo>
                                    <a:pt x="470" y="15"/>
                                  </a:lnTo>
                                  <a:lnTo>
                                    <a:pt x="419" y="5"/>
                                  </a:lnTo>
                                  <a:lnTo>
                                    <a:pt x="367" y="0"/>
                                  </a:lnTo>
                                  <a:lnTo>
                                    <a:pt x="320" y="2"/>
                                  </a:lnTo>
                                  <a:lnTo>
                                    <a:pt x="275" y="8"/>
                                  </a:lnTo>
                                  <a:lnTo>
                                    <a:pt x="214" y="19"/>
                                  </a:lnTo>
                                  <a:lnTo>
                                    <a:pt x="165" y="31"/>
                                  </a:lnTo>
                                  <a:lnTo>
                                    <a:pt x="134" y="41"/>
                                  </a:lnTo>
                                  <a:lnTo>
                                    <a:pt x="99" y="58"/>
                                  </a:lnTo>
                                  <a:lnTo>
                                    <a:pt x="62" y="75"/>
                                  </a:lnTo>
                                  <a:lnTo>
                                    <a:pt x="29" y="94"/>
                                  </a:lnTo>
                                  <a:lnTo>
                                    <a:pt x="0" y="113"/>
                                  </a:lnTo>
                                  <a:lnTo>
                                    <a:pt x="68" y="265"/>
                                  </a:lnTo>
                                  <a:lnTo>
                                    <a:pt x="107" y="250"/>
                                  </a:lnTo>
                                  <a:lnTo>
                                    <a:pt x="141" y="237"/>
                                  </a:lnTo>
                                  <a:lnTo>
                                    <a:pt x="174" y="226"/>
                                  </a:lnTo>
                                  <a:lnTo>
                                    <a:pt x="208" y="217"/>
                                  </a:lnTo>
                                  <a:lnTo>
                                    <a:pt x="248" y="204"/>
                                  </a:lnTo>
                                  <a:lnTo>
                                    <a:pt x="283" y="198"/>
                                  </a:lnTo>
                                  <a:lnTo>
                                    <a:pt x="335" y="193"/>
                                  </a:lnTo>
                                  <a:lnTo>
                                    <a:pt x="404" y="192"/>
                                  </a:lnTo>
                                  <a:lnTo>
                                    <a:pt x="464" y="195"/>
                                  </a:lnTo>
                                  <a:lnTo>
                                    <a:pt x="529" y="195"/>
                                  </a:lnTo>
                                  <a:lnTo>
                                    <a:pt x="578" y="198"/>
                                  </a:lnTo>
                                  <a:lnTo>
                                    <a:pt x="629" y="206"/>
                                  </a:lnTo>
                                  <a:lnTo>
                                    <a:pt x="1020" y="106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60006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34920" bIns="349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grpSp>
                          <p:nvGrpSpPr>
                            <p:cNvPr id="6481" name=""/>
                            <p:cNvGrpSpPr/>
                            <p:nvPr/>
                          </p:nvGrpSpPr>
                          <p:grpSpPr>
                            <a:xfrm>
                              <a:off x="4215240" y="2739600"/>
                              <a:ext cx="236520" cy="70200"/>
                              <a:chOff x="4215240" y="2739600"/>
                              <a:chExt cx="236520" cy="70200"/>
                            </a:xfrm>
                          </p:grpSpPr>
                          <p:grpSp>
                            <p:nvGrpSpPr>
                              <p:cNvPr id="6482" name=""/>
                              <p:cNvGrpSpPr/>
                              <p:nvPr/>
                            </p:nvGrpSpPr>
                            <p:grpSpPr>
                              <a:xfrm>
                                <a:off x="4215240" y="2760840"/>
                                <a:ext cx="236520" cy="48960"/>
                                <a:chOff x="4215240" y="2760840"/>
                                <a:chExt cx="236520" cy="48960"/>
                              </a:xfrm>
                            </p:grpSpPr>
                            <p:sp>
                              <p:nvSpPr>
                                <p:cNvPr id="6483" name=""/>
                                <p:cNvSpPr/>
                                <p:nvPr/>
                              </p:nvSpPr>
                              <p:spPr>
                                <a:xfrm>
                                  <a:off x="4215240" y="2761920"/>
                                  <a:ext cx="236520" cy="4104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956" h="134">
                                      <a:moveTo>
                                        <a:pt x="956" y="0"/>
                                      </a:moveTo>
                                      <a:lnTo>
                                        <a:pt x="597" y="47"/>
                                      </a:lnTo>
                                      <a:lnTo>
                                        <a:pt x="535" y="39"/>
                                      </a:lnTo>
                                      <a:lnTo>
                                        <a:pt x="480" y="35"/>
                                      </a:lnTo>
                                      <a:lnTo>
                                        <a:pt x="428" y="34"/>
                                      </a:lnTo>
                                      <a:lnTo>
                                        <a:pt x="374" y="31"/>
                                      </a:lnTo>
                                      <a:lnTo>
                                        <a:pt x="325" y="33"/>
                                      </a:lnTo>
                                      <a:lnTo>
                                        <a:pt x="281" y="35"/>
                                      </a:lnTo>
                                      <a:lnTo>
                                        <a:pt x="242" y="36"/>
                                      </a:lnTo>
                                      <a:lnTo>
                                        <a:pt x="193" y="42"/>
                                      </a:lnTo>
                                      <a:lnTo>
                                        <a:pt x="153" y="51"/>
                                      </a:lnTo>
                                      <a:lnTo>
                                        <a:pt x="114" y="63"/>
                                      </a:lnTo>
                                      <a:lnTo>
                                        <a:pt x="79" y="75"/>
                                      </a:lnTo>
                                      <a:lnTo>
                                        <a:pt x="52" y="85"/>
                                      </a:lnTo>
                                      <a:lnTo>
                                        <a:pt x="23" y="100"/>
                                      </a:lnTo>
                                      <a:lnTo>
                                        <a:pt x="0" y="118"/>
                                      </a:lnTo>
                                      <a:lnTo>
                                        <a:pt x="5" y="134"/>
                                      </a:lnTo>
                                      <a:lnTo>
                                        <a:pt x="43" y="120"/>
                                      </a:lnTo>
                                      <a:lnTo>
                                        <a:pt x="77" y="107"/>
                                      </a:lnTo>
                                      <a:lnTo>
                                        <a:pt x="110" y="96"/>
                                      </a:lnTo>
                                      <a:lnTo>
                                        <a:pt x="144" y="87"/>
                                      </a:lnTo>
                                      <a:lnTo>
                                        <a:pt x="185" y="75"/>
                                      </a:lnTo>
                                      <a:lnTo>
                                        <a:pt x="220" y="68"/>
                                      </a:lnTo>
                                      <a:lnTo>
                                        <a:pt x="271" y="63"/>
                                      </a:lnTo>
                                      <a:lnTo>
                                        <a:pt x="340" y="62"/>
                                      </a:lnTo>
                                      <a:lnTo>
                                        <a:pt x="400" y="65"/>
                                      </a:lnTo>
                                      <a:lnTo>
                                        <a:pt x="465" y="65"/>
                                      </a:lnTo>
                                      <a:lnTo>
                                        <a:pt x="514" y="68"/>
                                      </a:lnTo>
                                      <a:lnTo>
                                        <a:pt x="565" y="77"/>
                                      </a:lnTo>
                                      <a:lnTo>
                                        <a:pt x="956" y="0"/>
                                      </a:lnTo>
                                      <a:close/>
                                    </a:path>
                                  </a:pathLst>
                                </a:custGeom>
                                <a:solidFill>
                                  <a:srgbClr val="80008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5760" bIns="-576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6484" name=""/>
                                <p:cNvSpPr/>
                                <p:nvPr/>
                              </p:nvSpPr>
                              <p:spPr>
                                <a:xfrm>
                                  <a:off x="4215240" y="2760840"/>
                                  <a:ext cx="236520" cy="4896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956" h="158">
                                      <a:moveTo>
                                        <a:pt x="956" y="0"/>
                                      </a:moveTo>
                                      <a:lnTo>
                                        <a:pt x="597" y="71"/>
                                      </a:lnTo>
                                      <a:lnTo>
                                        <a:pt x="535" y="62"/>
                                      </a:lnTo>
                                      <a:lnTo>
                                        <a:pt x="480" y="58"/>
                                      </a:lnTo>
                                      <a:lnTo>
                                        <a:pt x="428" y="56"/>
                                      </a:lnTo>
                                      <a:lnTo>
                                        <a:pt x="374" y="53"/>
                                      </a:lnTo>
                                      <a:lnTo>
                                        <a:pt x="325" y="55"/>
                                      </a:lnTo>
                                      <a:lnTo>
                                        <a:pt x="281" y="58"/>
                                      </a:lnTo>
                                      <a:lnTo>
                                        <a:pt x="242" y="59"/>
                                      </a:lnTo>
                                      <a:lnTo>
                                        <a:pt x="193" y="66"/>
                                      </a:lnTo>
                                      <a:lnTo>
                                        <a:pt x="153" y="75"/>
                                      </a:lnTo>
                                      <a:lnTo>
                                        <a:pt x="114" y="86"/>
                                      </a:lnTo>
                                      <a:lnTo>
                                        <a:pt x="79" y="98"/>
                                      </a:lnTo>
                                      <a:lnTo>
                                        <a:pt x="52" y="109"/>
                                      </a:lnTo>
                                      <a:lnTo>
                                        <a:pt x="23" y="123"/>
                                      </a:lnTo>
                                      <a:lnTo>
                                        <a:pt x="0" y="141"/>
                                      </a:lnTo>
                                      <a:lnTo>
                                        <a:pt x="5" y="158"/>
                                      </a:lnTo>
                                      <a:lnTo>
                                        <a:pt x="43" y="144"/>
                                      </a:lnTo>
                                      <a:lnTo>
                                        <a:pt x="77" y="130"/>
                                      </a:lnTo>
                                      <a:lnTo>
                                        <a:pt x="110" y="119"/>
                                      </a:lnTo>
                                      <a:lnTo>
                                        <a:pt x="144" y="111"/>
                                      </a:lnTo>
                                      <a:lnTo>
                                        <a:pt x="185" y="98"/>
                                      </a:lnTo>
                                      <a:lnTo>
                                        <a:pt x="220" y="91"/>
                                      </a:lnTo>
                                      <a:lnTo>
                                        <a:pt x="271" y="86"/>
                                      </a:lnTo>
                                      <a:lnTo>
                                        <a:pt x="340" y="85"/>
                                      </a:lnTo>
                                      <a:lnTo>
                                        <a:pt x="400" y="88"/>
                                      </a:lnTo>
                                      <a:lnTo>
                                        <a:pt x="465" y="88"/>
                                      </a:lnTo>
                                      <a:lnTo>
                                        <a:pt x="514" y="91"/>
                                      </a:lnTo>
                                      <a:lnTo>
                                        <a:pt x="565" y="100"/>
                                      </a:lnTo>
                                      <a:lnTo>
                                        <a:pt x="956" y="0"/>
                                      </a:lnTo>
                                      <a:close/>
                                    </a:path>
                                  </a:pathLst>
                                </a:custGeom>
                                <a:solidFill>
                                  <a:srgbClr val="40004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2160" bIns="216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sp>
                            <p:nvSpPr>
                              <p:cNvPr id="6485" name=""/>
                              <p:cNvSpPr/>
                              <p:nvPr/>
                            </p:nvSpPr>
                            <p:spPr>
                              <a:xfrm>
                                <a:off x="4218840" y="2739600"/>
                                <a:ext cx="169200" cy="2448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687" h="78">
                                    <a:moveTo>
                                      <a:pt x="0" y="78"/>
                                    </a:moveTo>
                                    <a:lnTo>
                                      <a:pt x="32" y="62"/>
                                    </a:lnTo>
                                    <a:lnTo>
                                      <a:pt x="65" y="47"/>
                                    </a:lnTo>
                                    <a:lnTo>
                                      <a:pt x="111" y="34"/>
                                    </a:lnTo>
                                    <a:lnTo>
                                      <a:pt x="161" y="20"/>
                                    </a:lnTo>
                                    <a:lnTo>
                                      <a:pt x="212" y="10"/>
                                    </a:lnTo>
                                    <a:lnTo>
                                      <a:pt x="256" y="4"/>
                                    </a:lnTo>
                                    <a:lnTo>
                                      <a:pt x="318" y="0"/>
                                    </a:lnTo>
                                    <a:lnTo>
                                      <a:pt x="357" y="0"/>
                                    </a:lnTo>
                                    <a:lnTo>
                                      <a:pt x="414" y="3"/>
                                    </a:lnTo>
                                    <a:lnTo>
                                      <a:pt x="469" y="10"/>
                                    </a:lnTo>
                                    <a:lnTo>
                                      <a:pt x="509" y="17"/>
                                    </a:lnTo>
                                    <a:lnTo>
                                      <a:pt x="556" y="26"/>
                                    </a:lnTo>
                                    <a:lnTo>
                                      <a:pt x="601" y="38"/>
                                    </a:lnTo>
                                    <a:lnTo>
                                      <a:pt x="642" y="50"/>
                                    </a:lnTo>
                                    <a:lnTo>
                                      <a:pt x="687" y="68"/>
                                    </a:lnTo>
                                  </a:path>
                                </a:pathLst>
                              </a:custGeom>
                              <a:noFill/>
                              <a:ln w="4680">
                                <a:solidFill>
                                  <a:srgbClr val="e000e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2320" bIns="-2232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6486" name=""/>
                          <p:cNvGrpSpPr/>
                          <p:nvPr/>
                        </p:nvGrpSpPr>
                        <p:grpSpPr>
                          <a:xfrm>
                            <a:off x="4194720" y="2761200"/>
                            <a:ext cx="25920" cy="48960"/>
                            <a:chOff x="4194720" y="2761200"/>
                            <a:chExt cx="25920" cy="48960"/>
                          </a:xfrm>
                        </p:grpSpPr>
                        <p:sp>
                          <p:nvSpPr>
                            <p:cNvPr id="6487" name=""/>
                            <p:cNvSpPr/>
                            <p:nvPr/>
                          </p:nvSpPr>
                          <p:spPr>
                            <a:xfrm>
                              <a:off x="4194720" y="2761200"/>
                              <a:ext cx="25920" cy="4896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106" h="160">
                                  <a:moveTo>
                                    <a:pt x="24" y="3"/>
                                  </a:moveTo>
                                  <a:lnTo>
                                    <a:pt x="15" y="10"/>
                                  </a:lnTo>
                                  <a:lnTo>
                                    <a:pt x="8" y="18"/>
                                  </a:lnTo>
                                  <a:lnTo>
                                    <a:pt x="3" y="30"/>
                                  </a:lnTo>
                                  <a:lnTo>
                                    <a:pt x="0" y="43"/>
                                  </a:lnTo>
                                  <a:lnTo>
                                    <a:pt x="0" y="59"/>
                                  </a:lnTo>
                                  <a:lnTo>
                                    <a:pt x="1" y="77"/>
                                  </a:lnTo>
                                  <a:lnTo>
                                    <a:pt x="5" y="91"/>
                                  </a:lnTo>
                                  <a:lnTo>
                                    <a:pt x="10" y="104"/>
                                  </a:lnTo>
                                  <a:lnTo>
                                    <a:pt x="15" y="114"/>
                                  </a:lnTo>
                                  <a:lnTo>
                                    <a:pt x="22" y="127"/>
                                  </a:lnTo>
                                  <a:lnTo>
                                    <a:pt x="32" y="138"/>
                                  </a:lnTo>
                                  <a:lnTo>
                                    <a:pt x="42" y="149"/>
                                  </a:lnTo>
                                  <a:lnTo>
                                    <a:pt x="51" y="155"/>
                                  </a:lnTo>
                                  <a:lnTo>
                                    <a:pt x="60" y="159"/>
                                  </a:lnTo>
                                  <a:lnTo>
                                    <a:pt x="70" y="160"/>
                                  </a:lnTo>
                                  <a:lnTo>
                                    <a:pt x="78" y="160"/>
                                  </a:lnTo>
                                  <a:lnTo>
                                    <a:pt x="89" y="156"/>
                                  </a:lnTo>
                                  <a:lnTo>
                                    <a:pt x="96" y="145"/>
                                  </a:lnTo>
                                  <a:lnTo>
                                    <a:pt x="101" y="133"/>
                                  </a:lnTo>
                                  <a:lnTo>
                                    <a:pt x="105" y="116"/>
                                  </a:lnTo>
                                  <a:lnTo>
                                    <a:pt x="106" y="101"/>
                                  </a:lnTo>
                                  <a:lnTo>
                                    <a:pt x="106" y="83"/>
                                  </a:lnTo>
                                  <a:lnTo>
                                    <a:pt x="103" y="68"/>
                                  </a:lnTo>
                                  <a:lnTo>
                                    <a:pt x="99" y="53"/>
                                  </a:lnTo>
                                  <a:lnTo>
                                    <a:pt x="94" y="42"/>
                                  </a:lnTo>
                                  <a:lnTo>
                                    <a:pt x="88" y="32"/>
                                  </a:lnTo>
                                  <a:lnTo>
                                    <a:pt x="78" y="22"/>
                                  </a:lnTo>
                                  <a:lnTo>
                                    <a:pt x="68" y="13"/>
                                  </a:lnTo>
                                  <a:lnTo>
                                    <a:pt x="56" y="5"/>
                                  </a:lnTo>
                                  <a:lnTo>
                                    <a:pt x="46" y="1"/>
                                  </a:lnTo>
                                  <a:lnTo>
                                    <a:pt x="35" y="0"/>
                                  </a:lnTo>
                                  <a:lnTo>
                                    <a:pt x="24" y="3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800080"/>
                            </a:solidFill>
                            <a:ln w="3240">
                              <a:solidFill>
                                <a:srgbClr val="40004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2160" bIns="216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6488" name=""/>
                            <p:cNvSpPr/>
                            <p:nvPr/>
                          </p:nvSpPr>
                          <p:spPr>
                            <a:xfrm>
                              <a:off x="4199400" y="2768760"/>
                              <a:ext cx="17280" cy="3204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71" h="108">
                                  <a:moveTo>
                                    <a:pt x="16" y="3"/>
                                  </a:moveTo>
                                  <a:lnTo>
                                    <a:pt x="10" y="7"/>
                                  </a:lnTo>
                                  <a:lnTo>
                                    <a:pt x="5" y="13"/>
                                  </a:lnTo>
                                  <a:lnTo>
                                    <a:pt x="2" y="20"/>
                                  </a:lnTo>
                                  <a:lnTo>
                                    <a:pt x="0" y="29"/>
                                  </a:lnTo>
                                  <a:lnTo>
                                    <a:pt x="0" y="40"/>
                                  </a:lnTo>
                                  <a:lnTo>
                                    <a:pt x="0" y="52"/>
                                  </a:lnTo>
                                  <a:lnTo>
                                    <a:pt x="3" y="62"/>
                                  </a:lnTo>
                                  <a:lnTo>
                                    <a:pt x="6" y="71"/>
                                  </a:lnTo>
                                  <a:lnTo>
                                    <a:pt x="10" y="77"/>
                                  </a:lnTo>
                                  <a:lnTo>
                                    <a:pt x="14" y="87"/>
                                  </a:lnTo>
                                  <a:lnTo>
                                    <a:pt x="21" y="94"/>
                                  </a:lnTo>
                                  <a:lnTo>
                                    <a:pt x="28" y="101"/>
                                  </a:lnTo>
                                  <a:lnTo>
                                    <a:pt x="34" y="105"/>
                                  </a:lnTo>
                                  <a:lnTo>
                                    <a:pt x="40" y="108"/>
                                  </a:lnTo>
                                  <a:lnTo>
                                    <a:pt x="47" y="108"/>
                                  </a:lnTo>
                                  <a:lnTo>
                                    <a:pt x="52" y="108"/>
                                  </a:lnTo>
                                  <a:lnTo>
                                    <a:pt x="59" y="106"/>
                                  </a:lnTo>
                                  <a:lnTo>
                                    <a:pt x="64" y="99"/>
                                  </a:lnTo>
                                  <a:lnTo>
                                    <a:pt x="67" y="91"/>
                                  </a:lnTo>
                                  <a:lnTo>
                                    <a:pt x="71" y="78"/>
                                  </a:lnTo>
                                  <a:lnTo>
                                    <a:pt x="71" y="69"/>
                                  </a:lnTo>
                                  <a:lnTo>
                                    <a:pt x="71" y="57"/>
                                  </a:lnTo>
                                  <a:lnTo>
                                    <a:pt x="68" y="46"/>
                                  </a:lnTo>
                                  <a:lnTo>
                                    <a:pt x="66" y="36"/>
                                  </a:lnTo>
                                  <a:lnTo>
                                    <a:pt x="62" y="28"/>
                                  </a:lnTo>
                                  <a:lnTo>
                                    <a:pt x="58" y="22"/>
                                  </a:lnTo>
                                  <a:lnTo>
                                    <a:pt x="52" y="15"/>
                                  </a:lnTo>
                                  <a:lnTo>
                                    <a:pt x="46" y="9"/>
                                  </a:lnTo>
                                  <a:lnTo>
                                    <a:pt x="38" y="4"/>
                                  </a:lnTo>
                                  <a:lnTo>
                                    <a:pt x="31" y="0"/>
                                  </a:lnTo>
                                  <a:lnTo>
                                    <a:pt x="23" y="0"/>
                                  </a:lnTo>
                                  <a:lnTo>
                                    <a:pt x="16" y="3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600060"/>
                            </a:solidFill>
                            <a:ln w="3240">
                              <a:solidFill>
                                <a:srgbClr val="40004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14760" bIns="-1476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6489" name=""/>
                        <p:cNvGrpSpPr/>
                        <p:nvPr/>
                      </p:nvGrpSpPr>
                      <p:grpSpPr>
                        <a:xfrm>
                          <a:off x="4268880" y="2673720"/>
                          <a:ext cx="138600" cy="281880"/>
                          <a:chOff x="4268880" y="2673720"/>
                          <a:chExt cx="138600" cy="281880"/>
                        </a:xfrm>
                      </p:grpSpPr>
                      <p:grpSp>
                        <p:nvGrpSpPr>
                          <p:cNvPr id="6490" name=""/>
                          <p:cNvGrpSpPr/>
                          <p:nvPr/>
                        </p:nvGrpSpPr>
                        <p:grpSpPr>
                          <a:xfrm>
                            <a:off x="4268880" y="2673720"/>
                            <a:ext cx="138600" cy="275760"/>
                            <a:chOff x="4268880" y="2673720"/>
                            <a:chExt cx="138600" cy="275760"/>
                          </a:xfrm>
                        </p:grpSpPr>
                        <p:sp>
                          <p:nvSpPr>
                            <p:cNvPr id="6491" name=""/>
                            <p:cNvSpPr/>
                            <p:nvPr/>
                          </p:nvSpPr>
                          <p:spPr>
                            <a:xfrm>
                              <a:off x="4268880" y="2673720"/>
                              <a:ext cx="138600" cy="27576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562" h="898">
                                  <a:moveTo>
                                    <a:pt x="0" y="500"/>
                                  </a:moveTo>
                                  <a:lnTo>
                                    <a:pt x="3" y="451"/>
                                  </a:lnTo>
                                  <a:lnTo>
                                    <a:pt x="13" y="398"/>
                                  </a:lnTo>
                                  <a:lnTo>
                                    <a:pt x="25" y="352"/>
                                  </a:lnTo>
                                  <a:lnTo>
                                    <a:pt x="38" y="305"/>
                                  </a:lnTo>
                                  <a:lnTo>
                                    <a:pt x="53" y="267"/>
                                  </a:lnTo>
                                  <a:lnTo>
                                    <a:pt x="74" y="230"/>
                                  </a:lnTo>
                                  <a:lnTo>
                                    <a:pt x="98" y="199"/>
                                  </a:lnTo>
                                  <a:lnTo>
                                    <a:pt x="127" y="167"/>
                                  </a:lnTo>
                                  <a:lnTo>
                                    <a:pt x="162" y="134"/>
                                  </a:lnTo>
                                  <a:lnTo>
                                    <a:pt x="202" y="103"/>
                                  </a:lnTo>
                                  <a:lnTo>
                                    <a:pt x="245" y="74"/>
                                  </a:lnTo>
                                  <a:lnTo>
                                    <a:pt x="287" y="49"/>
                                  </a:lnTo>
                                  <a:lnTo>
                                    <a:pt x="334" y="29"/>
                                  </a:lnTo>
                                  <a:lnTo>
                                    <a:pt x="376" y="15"/>
                                  </a:lnTo>
                                  <a:lnTo>
                                    <a:pt x="416" y="5"/>
                                  </a:lnTo>
                                  <a:lnTo>
                                    <a:pt x="448" y="0"/>
                                  </a:lnTo>
                                  <a:lnTo>
                                    <a:pt x="463" y="3"/>
                                  </a:lnTo>
                                  <a:lnTo>
                                    <a:pt x="481" y="11"/>
                                  </a:lnTo>
                                  <a:lnTo>
                                    <a:pt x="503" y="24"/>
                                  </a:lnTo>
                                  <a:lnTo>
                                    <a:pt x="527" y="43"/>
                                  </a:lnTo>
                                  <a:lnTo>
                                    <a:pt x="540" y="61"/>
                                  </a:lnTo>
                                  <a:lnTo>
                                    <a:pt x="551" y="82"/>
                                  </a:lnTo>
                                  <a:lnTo>
                                    <a:pt x="559" y="104"/>
                                  </a:lnTo>
                                  <a:lnTo>
                                    <a:pt x="562" y="137"/>
                                  </a:lnTo>
                                  <a:lnTo>
                                    <a:pt x="559" y="167"/>
                                  </a:lnTo>
                                  <a:lnTo>
                                    <a:pt x="551" y="186"/>
                                  </a:lnTo>
                                  <a:lnTo>
                                    <a:pt x="540" y="199"/>
                                  </a:lnTo>
                                  <a:lnTo>
                                    <a:pt x="524" y="208"/>
                                  </a:lnTo>
                                  <a:lnTo>
                                    <a:pt x="496" y="219"/>
                                  </a:lnTo>
                                  <a:lnTo>
                                    <a:pt x="467" y="230"/>
                                  </a:lnTo>
                                  <a:lnTo>
                                    <a:pt x="437" y="244"/>
                                  </a:lnTo>
                                  <a:lnTo>
                                    <a:pt x="401" y="265"/>
                                  </a:lnTo>
                                  <a:lnTo>
                                    <a:pt x="364" y="295"/>
                                  </a:lnTo>
                                  <a:lnTo>
                                    <a:pt x="342" y="320"/>
                                  </a:lnTo>
                                  <a:lnTo>
                                    <a:pt x="323" y="347"/>
                                  </a:lnTo>
                                  <a:lnTo>
                                    <a:pt x="309" y="378"/>
                                  </a:lnTo>
                                  <a:lnTo>
                                    <a:pt x="299" y="413"/>
                                  </a:lnTo>
                                  <a:lnTo>
                                    <a:pt x="297" y="448"/>
                                  </a:lnTo>
                                  <a:lnTo>
                                    <a:pt x="305" y="488"/>
                                  </a:lnTo>
                                  <a:lnTo>
                                    <a:pt x="314" y="525"/>
                                  </a:lnTo>
                                  <a:lnTo>
                                    <a:pt x="326" y="556"/>
                                  </a:lnTo>
                                  <a:lnTo>
                                    <a:pt x="348" y="592"/>
                                  </a:lnTo>
                                  <a:lnTo>
                                    <a:pt x="376" y="633"/>
                                  </a:lnTo>
                                  <a:lnTo>
                                    <a:pt x="406" y="668"/>
                                  </a:lnTo>
                                  <a:lnTo>
                                    <a:pt x="427" y="698"/>
                                  </a:lnTo>
                                  <a:lnTo>
                                    <a:pt x="439" y="729"/>
                                  </a:lnTo>
                                  <a:lnTo>
                                    <a:pt x="207" y="898"/>
                                  </a:lnTo>
                                  <a:lnTo>
                                    <a:pt x="168" y="866"/>
                                  </a:lnTo>
                                  <a:lnTo>
                                    <a:pt x="138" y="827"/>
                                  </a:lnTo>
                                  <a:lnTo>
                                    <a:pt x="109" y="787"/>
                                  </a:lnTo>
                                  <a:lnTo>
                                    <a:pt x="78" y="738"/>
                                  </a:lnTo>
                                  <a:lnTo>
                                    <a:pt x="50" y="687"/>
                                  </a:lnTo>
                                  <a:lnTo>
                                    <a:pt x="31" y="648"/>
                                  </a:lnTo>
                                  <a:lnTo>
                                    <a:pt x="16" y="602"/>
                                  </a:lnTo>
                                  <a:lnTo>
                                    <a:pt x="4" y="549"/>
                                  </a:lnTo>
                                  <a:lnTo>
                                    <a:pt x="0" y="50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80008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grpSp>
                          <p:nvGrpSpPr>
                            <p:cNvPr id="6492" name=""/>
                            <p:cNvGrpSpPr/>
                            <p:nvPr/>
                          </p:nvGrpSpPr>
                          <p:grpSpPr>
                            <a:xfrm>
                              <a:off x="4268880" y="2673720"/>
                              <a:ext cx="138600" cy="275760"/>
                              <a:chOff x="4268880" y="2673720"/>
                              <a:chExt cx="138600" cy="275760"/>
                            </a:xfrm>
                          </p:grpSpPr>
                          <p:sp>
                            <p:nvSpPr>
                              <p:cNvPr id="6493" name=""/>
                              <p:cNvSpPr/>
                              <p:nvPr/>
                            </p:nvSpPr>
                            <p:spPr>
                              <a:xfrm>
                                <a:off x="4293360" y="2693520"/>
                                <a:ext cx="102600" cy="215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417" h="703">
                                    <a:moveTo>
                                      <a:pt x="124" y="703"/>
                                    </a:moveTo>
                                    <a:lnTo>
                                      <a:pt x="97" y="668"/>
                                    </a:lnTo>
                                    <a:lnTo>
                                      <a:pt x="75" y="637"/>
                                    </a:lnTo>
                                    <a:lnTo>
                                      <a:pt x="58" y="606"/>
                                    </a:lnTo>
                                    <a:lnTo>
                                      <a:pt x="43" y="573"/>
                                    </a:lnTo>
                                    <a:lnTo>
                                      <a:pt x="32" y="540"/>
                                    </a:lnTo>
                                    <a:lnTo>
                                      <a:pt x="23" y="508"/>
                                    </a:lnTo>
                                    <a:lnTo>
                                      <a:pt x="15" y="480"/>
                                    </a:lnTo>
                                    <a:lnTo>
                                      <a:pt x="9" y="452"/>
                                    </a:lnTo>
                                    <a:lnTo>
                                      <a:pt x="5" y="421"/>
                                    </a:lnTo>
                                    <a:lnTo>
                                      <a:pt x="2" y="398"/>
                                    </a:lnTo>
                                    <a:lnTo>
                                      <a:pt x="0" y="378"/>
                                    </a:lnTo>
                                    <a:lnTo>
                                      <a:pt x="2" y="358"/>
                                    </a:lnTo>
                                    <a:lnTo>
                                      <a:pt x="10" y="329"/>
                                    </a:lnTo>
                                    <a:lnTo>
                                      <a:pt x="18" y="299"/>
                                    </a:lnTo>
                                    <a:lnTo>
                                      <a:pt x="29" y="269"/>
                                    </a:lnTo>
                                    <a:lnTo>
                                      <a:pt x="42" y="242"/>
                                    </a:lnTo>
                                    <a:lnTo>
                                      <a:pt x="55" y="217"/>
                                    </a:lnTo>
                                    <a:lnTo>
                                      <a:pt x="71" y="191"/>
                                    </a:lnTo>
                                    <a:lnTo>
                                      <a:pt x="88" y="168"/>
                                    </a:lnTo>
                                    <a:lnTo>
                                      <a:pt x="106" y="148"/>
                                    </a:lnTo>
                                    <a:lnTo>
                                      <a:pt x="124" y="132"/>
                                    </a:lnTo>
                                    <a:lnTo>
                                      <a:pt x="156" y="108"/>
                                    </a:lnTo>
                                    <a:lnTo>
                                      <a:pt x="184" y="91"/>
                                    </a:lnTo>
                                    <a:lnTo>
                                      <a:pt x="219" y="69"/>
                                    </a:lnTo>
                                    <a:lnTo>
                                      <a:pt x="255" y="51"/>
                                    </a:lnTo>
                                    <a:lnTo>
                                      <a:pt x="301" y="31"/>
                                    </a:lnTo>
                                    <a:lnTo>
                                      <a:pt x="342" y="19"/>
                                    </a:lnTo>
                                    <a:lnTo>
                                      <a:pt x="382" y="9"/>
                                    </a:lnTo>
                                    <a:lnTo>
                                      <a:pt x="417" y="0"/>
                                    </a:lnTo>
                                  </a:path>
                                </a:pathLst>
                              </a:custGeom>
                              <a:noFill/>
                              <a:ln w="4680">
                                <a:solidFill>
                                  <a:srgbClr val="ff40ff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6494" name=""/>
                              <p:cNvSpPr/>
                              <p:nvPr/>
                            </p:nvSpPr>
                            <p:spPr>
                              <a:xfrm>
                                <a:off x="4319640" y="2716560"/>
                                <a:ext cx="87840" cy="1800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356" h="585">
                                    <a:moveTo>
                                      <a:pt x="6" y="348"/>
                                    </a:moveTo>
                                    <a:lnTo>
                                      <a:pt x="2" y="319"/>
                                    </a:lnTo>
                                    <a:lnTo>
                                      <a:pt x="0" y="288"/>
                                    </a:lnTo>
                                    <a:lnTo>
                                      <a:pt x="2" y="254"/>
                                    </a:lnTo>
                                    <a:lnTo>
                                      <a:pt x="6" y="229"/>
                                    </a:lnTo>
                                    <a:lnTo>
                                      <a:pt x="13" y="204"/>
                                    </a:lnTo>
                                    <a:lnTo>
                                      <a:pt x="24" y="174"/>
                                    </a:lnTo>
                                    <a:lnTo>
                                      <a:pt x="43" y="146"/>
                                    </a:lnTo>
                                    <a:lnTo>
                                      <a:pt x="60" y="123"/>
                                    </a:lnTo>
                                    <a:lnTo>
                                      <a:pt x="78" y="108"/>
                                    </a:lnTo>
                                    <a:lnTo>
                                      <a:pt x="98" y="89"/>
                                    </a:lnTo>
                                    <a:lnTo>
                                      <a:pt x="119" y="73"/>
                                    </a:lnTo>
                                    <a:lnTo>
                                      <a:pt x="145" y="58"/>
                                    </a:lnTo>
                                    <a:lnTo>
                                      <a:pt x="172" y="42"/>
                                    </a:lnTo>
                                    <a:lnTo>
                                      <a:pt x="196" y="31"/>
                                    </a:lnTo>
                                    <a:lnTo>
                                      <a:pt x="221" y="21"/>
                                    </a:lnTo>
                                    <a:lnTo>
                                      <a:pt x="244" y="14"/>
                                    </a:lnTo>
                                    <a:lnTo>
                                      <a:pt x="268" y="7"/>
                                    </a:lnTo>
                                    <a:lnTo>
                                      <a:pt x="297" y="2"/>
                                    </a:lnTo>
                                    <a:lnTo>
                                      <a:pt x="324" y="1"/>
                                    </a:lnTo>
                                    <a:lnTo>
                                      <a:pt x="342" y="0"/>
                                    </a:lnTo>
                                    <a:lnTo>
                                      <a:pt x="356" y="1"/>
                                    </a:lnTo>
                                    <a:lnTo>
                                      <a:pt x="355" y="17"/>
                                    </a:lnTo>
                                    <a:lnTo>
                                      <a:pt x="353" y="30"/>
                                    </a:lnTo>
                                    <a:lnTo>
                                      <a:pt x="339" y="32"/>
                                    </a:lnTo>
                                    <a:lnTo>
                                      <a:pt x="319" y="37"/>
                                    </a:lnTo>
                                    <a:lnTo>
                                      <a:pt x="296" y="44"/>
                                    </a:lnTo>
                                    <a:lnTo>
                                      <a:pt x="270" y="55"/>
                                    </a:lnTo>
                                    <a:lnTo>
                                      <a:pt x="244" y="66"/>
                                    </a:lnTo>
                                    <a:lnTo>
                                      <a:pt x="216" y="78"/>
                                    </a:lnTo>
                                    <a:lnTo>
                                      <a:pt x="187" y="91"/>
                                    </a:lnTo>
                                    <a:lnTo>
                                      <a:pt x="150" y="113"/>
                                    </a:lnTo>
                                    <a:lnTo>
                                      <a:pt x="113" y="143"/>
                                    </a:lnTo>
                                    <a:lnTo>
                                      <a:pt x="91" y="166"/>
                                    </a:lnTo>
                                    <a:lnTo>
                                      <a:pt x="73" y="194"/>
                                    </a:lnTo>
                                    <a:lnTo>
                                      <a:pt x="59" y="225"/>
                                    </a:lnTo>
                                    <a:lnTo>
                                      <a:pt x="49" y="260"/>
                                    </a:lnTo>
                                    <a:lnTo>
                                      <a:pt x="47" y="295"/>
                                    </a:lnTo>
                                    <a:lnTo>
                                      <a:pt x="55" y="335"/>
                                    </a:lnTo>
                                    <a:lnTo>
                                      <a:pt x="64" y="371"/>
                                    </a:lnTo>
                                    <a:lnTo>
                                      <a:pt x="76" y="402"/>
                                    </a:lnTo>
                                    <a:lnTo>
                                      <a:pt x="97" y="438"/>
                                    </a:lnTo>
                                    <a:lnTo>
                                      <a:pt x="125" y="478"/>
                                    </a:lnTo>
                                    <a:lnTo>
                                      <a:pt x="155" y="514"/>
                                    </a:lnTo>
                                    <a:lnTo>
                                      <a:pt x="177" y="545"/>
                                    </a:lnTo>
                                    <a:lnTo>
                                      <a:pt x="198" y="579"/>
                                    </a:lnTo>
                                    <a:lnTo>
                                      <a:pt x="165" y="585"/>
                                    </a:lnTo>
                                    <a:lnTo>
                                      <a:pt x="148" y="570"/>
                                    </a:lnTo>
                                    <a:lnTo>
                                      <a:pt x="130" y="553"/>
                                    </a:lnTo>
                                    <a:lnTo>
                                      <a:pt x="108" y="535"/>
                                    </a:lnTo>
                                    <a:lnTo>
                                      <a:pt x="89" y="513"/>
                                    </a:lnTo>
                                    <a:lnTo>
                                      <a:pt x="67" y="483"/>
                                    </a:lnTo>
                                    <a:lnTo>
                                      <a:pt x="49" y="454"/>
                                    </a:lnTo>
                                    <a:lnTo>
                                      <a:pt x="31" y="424"/>
                                    </a:lnTo>
                                    <a:lnTo>
                                      <a:pt x="19" y="395"/>
                                    </a:lnTo>
                                    <a:lnTo>
                                      <a:pt x="13" y="376"/>
                                    </a:lnTo>
                                    <a:lnTo>
                                      <a:pt x="6" y="348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a000a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6495" name=""/>
                              <p:cNvSpPr/>
                              <p:nvPr/>
                            </p:nvSpPr>
                            <p:spPr>
                              <a:xfrm>
                                <a:off x="4330440" y="2724120"/>
                                <a:ext cx="76680" cy="17388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308" h="566">
                                    <a:moveTo>
                                      <a:pt x="6" y="337"/>
                                    </a:moveTo>
                                    <a:lnTo>
                                      <a:pt x="2" y="308"/>
                                    </a:lnTo>
                                    <a:lnTo>
                                      <a:pt x="0" y="278"/>
                                    </a:lnTo>
                                    <a:lnTo>
                                      <a:pt x="2" y="243"/>
                                    </a:lnTo>
                                    <a:lnTo>
                                      <a:pt x="6" y="218"/>
                                    </a:lnTo>
                                    <a:lnTo>
                                      <a:pt x="13" y="194"/>
                                    </a:lnTo>
                                    <a:lnTo>
                                      <a:pt x="24" y="163"/>
                                    </a:lnTo>
                                    <a:lnTo>
                                      <a:pt x="43" y="135"/>
                                    </a:lnTo>
                                    <a:lnTo>
                                      <a:pt x="60" y="113"/>
                                    </a:lnTo>
                                    <a:lnTo>
                                      <a:pt x="77" y="97"/>
                                    </a:lnTo>
                                    <a:lnTo>
                                      <a:pt x="98" y="79"/>
                                    </a:lnTo>
                                    <a:lnTo>
                                      <a:pt x="119" y="62"/>
                                    </a:lnTo>
                                    <a:lnTo>
                                      <a:pt x="145" y="47"/>
                                    </a:lnTo>
                                    <a:lnTo>
                                      <a:pt x="172" y="32"/>
                                    </a:lnTo>
                                    <a:lnTo>
                                      <a:pt x="196" y="20"/>
                                    </a:lnTo>
                                    <a:lnTo>
                                      <a:pt x="220" y="10"/>
                                    </a:lnTo>
                                    <a:lnTo>
                                      <a:pt x="242" y="4"/>
                                    </a:lnTo>
                                    <a:lnTo>
                                      <a:pt x="267" y="0"/>
                                    </a:lnTo>
                                    <a:lnTo>
                                      <a:pt x="291" y="0"/>
                                    </a:lnTo>
                                    <a:lnTo>
                                      <a:pt x="308" y="3"/>
                                    </a:lnTo>
                                    <a:lnTo>
                                      <a:pt x="300" y="22"/>
                                    </a:lnTo>
                                    <a:lnTo>
                                      <a:pt x="289" y="35"/>
                                    </a:lnTo>
                                    <a:lnTo>
                                      <a:pt x="273" y="44"/>
                                    </a:lnTo>
                                    <a:lnTo>
                                      <a:pt x="245" y="55"/>
                                    </a:lnTo>
                                    <a:lnTo>
                                      <a:pt x="217" y="68"/>
                                    </a:lnTo>
                                    <a:lnTo>
                                      <a:pt x="187" y="81"/>
                                    </a:lnTo>
                                    <a:lnTo>
                                      <a:pt x="150" y="102"/>
                                    </a:lnTo>
                                    <a:lnTo>
                                      <a:pt x="113" y="132"/>
                                    </a:lnTo>
                                    <a:lnTo>
                                      <a:pt x="91" y="156"/>
                                    </a:lnTo>
                                    <a:lnTo>
                                      <a:pt x="73" y="183"/>
                                    </a:lnTo>
                                    <a:lnTo>
                                      <a:pt x="59" y="214"/>
                                    </a:lnTo>
                                    <a:lnTo>
                                      <a:pt x="49" y="249"/>
                                    </a:lnTo>
                                    <a:lnTo>
                                      <a:pt x="47" y="284"/>
                                    </a:lnTo>
                                    <a:lnTo>
                                      <a:pt x="55" y="324"/>
                                    </a:lnTo>
                                    <a:lnTo>
                                      <a:pt x="64" y="361"/>
                                    </a:lnTo>
                                    <a:lnTo>
                                      <a:pt x="77" y="392"/>
                                    </a:lnTo>
                                    <a:lnTo>
                                      <a:pt x="97" y="426"/>
                                    </a:lnTo>
                                    <a:lnTo>
                                      <a:pt x="125" y="468"/>
                                    </a:lnTo>
                                    <a:lnTo>
                                      <a:pt x="155" y="503"/>
                                    </a:lnTo>
                                    <a:lnTo>
                                      <a:pt x="177" y="534"/>
                                    </a:lnTo>
                                    <a:lnTo>
                                      <a:pt x="189" y="565"/>
                                    </a:lnTo>
                                    <a:lnTo>
                                      <a:pt x="159" y="566"/>
                                    </a:lnTo>
                                    <a:lnTo>
                                      <a:pt x="131" y="542"/>
                                    </a:lnTo>
                                    <a:lnTo>
                                      <a:pt x="108" y="524"/>
                                    </a:lnTo>
                                    <a:lnTo>
                                      <a:pt x="88" y="502"/>
                                    </a:lnTo>
                                    <a:lnTo>
                                      <a:pt x="67" y="473"/>
                                    </a:lnTo>
                                    <a:lnTo>
                                      <a:pt x="49" y="443"/>
                                    </a:lnTo>
                                    <a:lnTo>
                                      <a:pt x="32" y="413"/>
                                    </a:lnTo>
                                    <a:lnTo>
                                      <a:pt x="19" y="384"/>
                                    </a:lnTo>
                                    <a:lnTo>
                                      <a:pt x="13" y="365"/>
                                    </a:lnTo>
                                    <a:lnTo>
                                      <a:pt x="6" y="337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40004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6496" name=""/>
                              <p:cNvSpPr/>
                              <p:nvPr/>
                            </p:nvSpPr>
                            <p:spPr>
                              <a:xfrm>
                                <a:off x="4268880" y="2673720"/>
                                <a:ext cx="124920" cy="2757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503" h="898">
                                    <a:moveTo>
                                      <a:pt x="0" y="500"/>
                                    </a:moveTo>
                                    <a:lnTo>
                                      <a:pt x="3" y="451"/>
                                    </a:lnTo>
                                    <a:lnTo>
                                      <a:pt x="13" y="398"/>
                                    </a:lnTo>
                                    <a:lnTo>
                                      <a:pt x="25" y="352"/>
                                    </a:lnTo>
                                    <a:lnTo>
                                      <a:pt x="38" y="305"/>
                                    </a:lnTo>
                                    <a:lnTo>
                                      <a:pt x="53" y="267"/>
                                    </a:lnTo>
                                    <a:lnTo>
                                      <a:pt x="74" y="230"/>
                                    </a:lnTo>
                                    <a:lnTo>
                                      <a:pt x="98" y="199"/>
                                    </a:lnTo>
                                    <a:lnTo>
                                      <a:pt x="126" y="167"/>
                                    </a:lnTo>
                                    <a:lnTo>
                                      <a:pt x="162" y="134"/>
                                    </a:lnTo>
                                    <a:lnTo>
                                      <a:pt x="202" y="103"/>
                                    </a:lnTo>
                                    <a:lnTo>
                                      <a:pt x="245" y="74"/>
                                    </a:lnTo>
                                    <a:lnTo>
                                      <a:pt x="287" y="49"/>
                                    </a:lnTo>
                                    <a:lnTo>
                                      <a:pt x="334" y="29"/>
                                    </a:lnTo>
                                    <a:lnTo>
                                      <a:pt x="376" y="15"/>
                                    </a:lnTo>
                                    <a:lnTo>
                                      <a:pt x="415" y="5"/>
                                    </a:lnTo>
                                    <a:lnTo>
                                      <a:pt x="448" y="0"/>
                                    </a:lnTo>
                                    <a:lnTo>
                                      <a:pt x="463" y="3"/>
                                    </a:lnTo>
                                    <a:lnTo>
                                      <a:pt x="481" y="11"/>
                                    </a:lnTo>
                                    <a:lnTo>
                                      <a:pt x="503" y="24"/>
                                    </a:lnTo>
                                    <a:lnTo>
                                      <a:pt x="480" y="28"/>
                                    </a:lnTo>
                                    <a:lnTo>
                                      <a:pt x="452" y="34"/>
                                    </a:lnTo>
                                    <a:lnTo>
                                      <a:pt x="425" y="40"/>
                                    </a:lnTo>
                                    <a:lnTo>
                                      <a:pt x="394" y="48"/>
                                    </a:lnTo>
                                    <a:lnTo>
                                      <a:pt x="370" y="57"/>
                                    </a:lnTo>
                                    <a:lnTo>
                                      <a:pt x="345" y="68"/>
                                    </a:lnTo>
                                    <a:lnTo>
                                      <a:pt x="319" y="82"/>
                                    </a:lnTo>
                                    <a:lnTo>
                                      <a:pt x="295" y="95"/>
                                    </a:lnTo>
                                    <a:lnTo>
                                      <a:pt x="272" y="108"/>
                                    </a:lnTo>
                                    <a:lnTo>
                                      <a:pt x="248" y="124"/>
                                    </a:lnTo>
                                    <a:lnTo>
                                      <a:pt x="222" y="141"/>
                                    </a:lnTo>
                                    <a:lnTo>
                                      <a:pt x="199" y="158"/>
                                    </a:lnTo>
                                    <a:lnTo>
                                      <a:pt x="177" y="174"/>
                                    </a:lnTo>
                                    <a:lnTo>
                                      <a:pt x="159" y="190"/>
                                    </a:lnTo>
                                    <a:lnTo>
                                      <a:pt x="141" y="210"/>
                                    </a:lnTo>
                                    <a:lnTo>
                                      <a:pt x="127" y="230"/>
                                    </a:lnTo>
                                    <a:lnTo>
                                      <a:pt x="115" y="254"/>
                                    </a:lnTo>
                                    <a:lnTo>
                                      <a:pt x="98" y="282"/>
                                    </a:lnTo>
                                    <a:lnTo>
                                      <a:pt x="84" y="308"/>
                                    </a:lnTo>
                                    <a:lnTo>
                                      <a:pt x="75" y="332"/>
                                    </a:lnTo>
                                    <a:lnTo>
                                      <a:pt x="67" y="354"/>
                                    </a:lnTo>
                                    <a:lnTo>
                                      <a:pt x="61" y="377"/>
                                    </a:lnTo>
                                    <a:lnTo>
                                      <a:pt x="56" y="402"/>
                                    </a:lnTo>
                                    <a:lnTo>
                                      <a:pt x="51" y="426"/>
                                    </a:lnTo>
                                    <a:lnTo>
                                      <a:pt x="48" y="457"/>
                                    </a:lnTo>
                                    <a:lnTo>
                                      <a:pt x="47" y="491"/>
                                    </a:lnTo>
                                    <a:lnTo>
                                      <a:pt x="48" y="519"/>
                                    </a:lnTo>
                                    <a:lnTo>
                                      <a:pt x="51" y="546"/>
                                    </a:lnTo>
                                    <a:lnTo>
                                      <a:pt x="59" y="575"/>
                                    </a:lnTo>
                                    <a:lnTo>
                                      <a:pt x="66" y="602"/>
                                    </a:lnTo>
                                    <a:lnTo>
                                      <a:pt x="76" y="628"/>
                                    </a:lnTo>
                                    <a:lnTo>
                                      <a:pt x="89" y="652"/>
                                    </a:lnTo>
                                    <a:lnTo>
                                      <a:pt x="103" y="676"/>
                                    </a:lnTo>
                                    <a:lnTo>
                                      <a:pt x="118" y="703"/>
                                    </a:lnTo>
                                    <a:lnTo>
                                      <a:pt x="133" y="731"/>
                                    </a:lnTo>
                                    <a:lnTo>
                                      <a:pt x="149" y="759"/>
                                    </a:lnTo>
                                    <a:lnTo>
                                      <a:pt x="166" y="785"/>
                                    </a:lnTo>
                                    <a:lnTo>
                                      <a:pt x="182" y="810"/>
                                    </a:lnTo>
                                    <a:lnTo>
                                      <a:pt x="203" y="839"/>
                                    </a:lnTo>
                                    <a:lnTo>
                                      <a:pt x="224" y="865"/>
                                    </a:lnTo>
                                    <a:lnTo>
                                      <a:pt x="214" y="883"/>
                                    </a:lnTo>
                                    <a:lnTo>
                                      <a:pt x="207" y="898"/>
                                    </a:lnTo>
                                    <a:lnTo>
                                      <a:pt x="188" y="884"/>
                                    </a:lnTo>
                                    <a:lnTo>
                                      <a:pt x="161" y="858"/>
                                    </a:lnTo>
                                    <a:lnTo>
                                      <a:pt x="136" y="827"/>
                                    </a:lnTo>
                                    <a:lnTo>
                                      <a:pt x="109" y="787"/>
                                    </a:lnTo>
                                    <a:lnTo>
                                      <a:pt x="78" y="738"/>
                                    </a:lnTo>
                                    <a:lnTo>
                                      <a:pt x="50" y="687"/>
                                    </a:lnTo>
                                    <a:lnTo>
                                      <a:pt x="31" y="648"/>
                                    </a:lnTo>
                                    <a:lnTo>
                                      <a:pt x="16" y="602"/>
                                    </a:lnTo>
                                    <a:lnTo>
                                      <a:pt x="4" y="549"/>
                                    </a:lnTo>
                                    <a:lnTo>
                                      <a:pt x="0" y="50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e000e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6497" name=""/>
                          <p:cNvGrpSpPr/>
                          <p:nvPr/>
                        </p:nvGrpSpPr>
                        <p:grpSpPr>
                          <a:xfrm>
                            <a:off x="4318200" y="2890800"/>
                            <a:ext cx="60480" cy="64800"/>
                            <a:chOff x="4318200" y="2890800"/>
                            <a:chExt cx="60480" cy="64800"/>
                          </a:xfrm>
                        </p:grpSpPr>
                        <p:sp>
                          <p:nvSpPr>
                            <p:cNvPr id="6498" name=""/>
                            <p:cNvSpPr/>
                            <p:nvPr/>
                          </p:nvSpPr>
                          <p:spPr>
                            <a:xfrm>
                              <a:off x="4318200" y="2890800"/>
                              <a:ext cx="60480" cy="6480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244" h="210">
                                  <a:moveTo>
                                    <a:pt x="238" y="16"/>
                                  </a:moveTo>
                                  <a:lnTo>
                                    <a:pt x="223" y="7"/>
                                  </a:lnTo>
                                  <a:lnTo>
                                    <a:pt x="202" y="1"/>
                                  </a:lnTo>
                                  <a:lnTo>
                                    <a:pt x="183" y="0"/>
                                  </a:lnTo>
                                  <a:lnTo>
                                    <a:pt x="165" y="1"/>
                                  </a:lnTo>
                                  <a:lnTo>
                                    <a:pt x="144" y="7"/>
                                  </a:lnTo>
                                  <a:lnTo>
                                    <a:pt x="122" y="14"/>
                                  </a:lnTo>
                                  <a:lnTo>
                                    <a:pt x="101" y="25"/>
                                  </a:lnTo>
                                  <a:lnTo>
                                    <a:pt x="79" y="37"/>
                                  </a:lnTo>
                                  <a:lnTo>
                                    <a:pt x="57" y="54"/>
                                  </a:lnTo>
                                  <a:lnTo>
                                    <a:pt x="33" y="78"/>
                                  </a:lnTo>
                                  <a:lnTo>
                                    <a:pt x="20" y="101"/>
                                  </a:lnTo>
                                  <a:lnTo>
                                    <a:pt x="11" y="120"/>
                                  </a:lnTo>
                                  <a:lnTo>
                                    <a:pt x="5" y="141"/>
                                  </a:lnTo>
                                  <a:lnTo>
                                    <a:pt x="0" y="162"/>
                                  </a:lnTo>
                                  <a:lnTo>
                                    <a:pt x="3" y="182"/>
                                  </a:lnTo>
                                  <a:lnTo>
                                    <a:pt x="11" y="197"/>
                                  </a:lnTo>
                                  <a:lnTo>
                                    <a:pt x="27" y="203"/>
                                  </a:lnTo>
                                  <a:lnTo>
                                    <a:pt x="45" y="209"/>
                                  </a:lnTo>
                                  <a:lnTo>
                                    <a:pt x="66" y="210"/>
                                  </a:lnTo>
                                  <a:lnTo>
                                    <a:pt x="94" y="206"/>
                                  </a:lnTo>
                                  <a:lnTo>
                                    <a:pt x="122" y="194"/>
                                  </a:lnTo>
                                  <a:lnTo>
                                    <a:pt x="150" y="179"/>
                                  </a:lnTo>
                                  <a:lnTo>
                                    <a:pt x="178" y="156"/>
                                  </a:lnTo>
                                  <a:lnTo>
                                    <a:pt x="201" y="133"/>
                                  </a:lnTo>
                                  <a:lnTo>
                                    <a:pt x="221" y="108"/>
                                  </a:lnTo>
                                  <a:lnTo>
                                    <a:pt x="236" y="83"/>
                                  </a:lnTo>
                                  <a:lnTo>
                                    <a:pt x="242" y="59"/>
                                  </a:lnTo>
                                  <a:lnTo>
                                    <a:pt x="244" y="34"/>
                                  </a:lnTo>
                                  <a:lnTo>
                                    <a:pt x="238" y="16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a000a0"/>
                            </a:solidFill>
                            <a:ln w="3240">
                              <a:solidFill>
                                <a:srgbClr val="20002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18000" bIns="180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6499" name=""/>
                            <p:cNvSpPr/>
                            <p:nvPr/>
                          </p:nvSpPr>
                          <p:spPr>
                            <a:xfrm>
                              <a:off x="4325760" y="2900160"/>
                              <a:ext cx="45360" cy="4752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182" h="155">
                                  <a:moveTo>
                                    <a:pt x="178" y="11"/>
                                  </a:moveTo>
                                  <a:lnTo>
                                    <a:pt x="167" y="4"/>
                                  </a:lnTo>
                                  <a:lnTo>
                                    <a:pt x="152" y="0"/>
                                  </a:lnTo>
                                  <a:lnTo>
                                    <a:pt x="137" y="0"/>
                                  </a:lnTo>
                                  <a:lnTo>
                                    <a:pt x="124" y="0"/>
                                  </a:lnTo>
                                  <a:lnTo>
                                    <a:pt x="108" y="4"/>
                                  </a:lnTo>
                                  <a:lnTo>
                                    <a:pt x="91" y="9"/>
                                  </a:lnTo>
                                  <a:lnTo>
                                    <a:pt x="76" y="18"/>
                                  </a:lnTo>
                                  <a:lnTo>
                                    <a:pt x="60" y="27"/>
                                  </a:lnTo>
                                  <a:lnTo>
                                    <a:pt x="42" y="39"/>
                                  </a:lnTo>
                                  <a:lnTo>
                                    <a:pt x="25" y="57"/>
                                  </a:lnTo>
                                  <a:lnTo>
                                    <a:pt x="15" y="74"/>
                                  </a:lnTo>
                                  <a:lnTo>
                                    <a:pt x="9" y="89"/>
                                  </a:lnTo>
                                  <a:lnTo>
                                    <a:pt x="3" y="104"/>
                                  </a:lnTo>
                                  <a:lnTo>
                                    <a:pt x="0" y="120"/>
                                  </a:lnTo>
                                  <a:lnTo>
                                    <a:pt x="2" y="134"/>
                                  </a:lnTo>
                                  <a:lnTo>
                                    <a:pt x="9" y="147"/>
                                  </a:lnTo>
                                  <a:lnTo>
                                    <a:pt x="21" y="151"/>
                                  </a:lnTo>
                                  <a:lnTo>
                                    <a:pt x="33" y="155"/>
                                  </a:lnTo>
                                  <a:lnTo>
                                    <a:pt x="49" y="155"/>
                                  </a:lnTo>
                                  <a:lnTo>
                                    <a:pt x="70" y="153"/>
                                  </a:lnTo>
                                  <a:lnTo>
                                    <a:pt x="91" y="144"/>
                                  </a:lnTo>
                                  <a:lnTo>
                                    <a:pt x="113" y="132"/>
                                  </a:lnTo>
                                  <a:lnTo>
                                    <a:pt x="133" y="116"/>
                                  </a:lnTo>
                                  <a:lnTo>
                                    <a:pt x="151" y="99"/>
                                  </a:lnTo>
                                  <a:lnTo>
                                    <a:pt x="165" y="80"/>
                                  </a:lnTo>
                                  <a:lnTo>
                                    <a:pt x="177" y="62"/>
                                  </a:lnTo>
                                  <a:lnTo>
                                    <a:pt x="181" y="43"/>
                                  </a:lnTo>
                                  <a:lnTo>
                                    <a:pt x="182" y="25"/>
                                  </a:lnTo>
                                  <a:lnTo>
                                    <a:pt x="178" y="11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600060"/>
                            </a:solidFill>
                            <a:ln w="3240">
                              <a:solidFill>
                                <a:srgbClr val="20002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720" bIns="7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</p:grpSp>
                  <p:grpSp>
                    <p:nvGrpSpPr>
                      <p:cNvPr id="6500" name=""/>
                      <p:cNvGrpSpPr/>
                      <p:nvPr/>
                    </p:nvGrpSpPr>
                    <p:grpSpPr>
                      <a:xfrm>
                        <a:off x="4268880" y="2759760"/>
                        <a:ext cx="266400" cy="232560"/>
                        <a:chOff x="4268880" y="2759760"/>
                        <a:chExt cx="266400" cy="232560"/>
                      </a:xfrm>
                    </p:grpSpPr>
                    <p:grpSp>
                      <p:nvGrpSpPr>
                        <p:cNvPr id="6501" name=""/>
                        <p:cNvGrpSpPr/>
                        <p:nvPr/>
                      </p:nvGrpSpPr>
                      <p:grpSpPr>
                        <a:xfrm>
                          <a:off x="4268880" y="2759760"/>
                          <a:ext cx="266400" cy="215640"/>
                          <a:chOff x="4268880" y="2759760"/>
                          <a:chExt cx="266400" cy="215640"/>
                        </a:xfrm>
                      </p:grpSpPr>
                      <p:sp>
                        <p:nvSpPr>
                          <p:cNvPr id="6502" name=""/>
                          <p:cNvSpPr/>
                          <p:nvPr/>
                        </p:nvSpPr>
                        <p:spPr>
                          <a:xfrm>
                            <a:off x="4268880" y="2759760"/>
                            <a:ext cx="266400" cy="2156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073" h="702">
                                <a:moveTo>
                                  <a:pt x="680" y="5"/>
                                </a:moveTo>
                                <a:lnTo>
                                  <a:pt x="713" y="1"/>
                                </a:lnTo>
                                <a:lnTo>
                                  <a:pt x="751" y="0"/>
                                </a:lnTo>
                                <a:lnTo>
                                  <a:pt x="789" y="1"/>
                                </a:lnTo>
                                <a:lnTo>
                                  <a:pt x="835" y="4"/>
                                </a:lnTo>
                                <a:lnTo>
                                  <a:pt x="876" y="6"/>
                                </a:lnTo>
                                <a:lnTo>
                                  <a:pt x="911" y="8"/>
                                </a:lnTo>
                                <a:lnTo>
                                  <a:pt x="947" y="11"/>
                                </a:lnTo>
                                <a:lnTo>
                                  <a:pt x="975" y="14"/>
                                </a:lnTo>
                                <a:lnTo>
                                  <a:pt x="999" y="20"/>
                                </a:lnTo>
                                <a:lnTo>
                                  <a:pt x="1019" y="27"/>
                                </a:lnTo>
                                <a:lnTo>
                                  <a:pt x="1035" y="37"/>
                                </a:lnTo>
                                <a:lnTo>
                                  <a:pt x="1046" y="46"/>
                                </a:lnTo>
                                <a:lnTo>
                                  <a:pt x="1058" y="58"/>
                                </a:lnTo>
                                <a:lnTo>
                                  <a:pt x="1065" y="69"/>
                                </a:lnTo>
                                <a:lnTo>
                                  <a:pt x="1070" y="87"/>
                                </a:lnTo>
                                <a:lnTo>
                                  <a:pt x="1073" y="102"/>
                                </a:lnTo>
                                <a:lnTo>
                                  <a:pt x="1072" y="122"/>
                                </a:lnTo>
                                <a:lnTo>
                                  <a:pt x="1067" y="142"/>
                                </a:lnTo>
                                <a:lnTo>
                                  <a:pt x="1062" y="155"/>
                                </a:lnTo>
                                <a:lnTo>
                                  <a:pt x="1054" y="167"/>
                                </a:lnTo>
                                <a:lnTo>
                                  <a:pt x="1043" y="175"/>
                                </a:lnTo>
                                <a:lnTo>
                                  <a:pt x="1034" y="181"/>
                                </a:lnTo>
                                <a:lnTo>
                                  <a:pt x="1024" y="186"/>
                                </a:lnTo>
                                <a:lnTo>
                                  <a:pt x="1008" y="188"/>
                                </a:lnTo>
                                <a:lnTo>
                                  <a:pt x="985" y="187"/>
                                </a:lnTo>
                                <a:lnTo>
                                  <a:pt x="961" y="186"/>
                                </a:lnTo>
                                <a:lnTo>
                                  <a:pt x="935" y="188"/>
                                </a:lnTo>
                                <a:lnTo>
                                  <a:pt x="913" y="189"/>
                                </a:lnTo>
                                <a:lnTo>
                                  <a:pt x="886" y="190"/>
                                </a:lnTo>
                                <a:lnTo>
                                  <a:pt x="860" y="190"/>
                                </a:lnTo>
                                <a:lnTo>
                                  <a:pt x="832" y="188"/>
                                </a:lnTo>
                                <a:lnTo>
                                  <a:pt x="801" y="188"/>
                                </a:lnTo>
                                <a:lnTo>
                                  <a:pt x="771" y="186"/>
                                </a:lnTo>
                                <a:lnTo>
                                  <a:pt x="745" y="188"/>
                                </a:lnTo>
                                <a:lnTo>
                                  <a:pt x="714" y="190"/>
                                </a:lnTo>
                                <a:lnTo>
                                  <a:pt x="682" y="192"/>
                                </a:lnTo>
                                <a:lnTo>
                                  <a:pt x="655" y="198"/>
                                </a:lnTo>
                                <a:lnTo>
                                  <a:pt x="627" y="207"/>
                                </a:lnTo>
                                <a:lnTo>
                                  <a:pt x="600" y="216"/>
                                </a:lnTo>
                                <a:lnTo>
                                  <a:pt x="570" y="227"/>
                                </a:lnTo>
                                <a:lnTo>
                                  <a:pt x="541" y="238"/>
                                </a:lnTo>
                                <a:lnTo>
                                  <a:pt x="517" y="248"/>
                                </a:lnTo>
                                <a:lnTo>
                                  <a:pt x="489" y="259"/>
                                </a:lnTo>
                                <a:lnTo>
                                  <a:pt x="467" y="272"/>
                                </a:lnTo>
                                <a:lnTo>
                                  <a:pt x="447" y="283"/>
                                </a:lnTo>
                                <a:lnTo>
                                  <a:pt x="426" y="295"/>
                                </a:lnTo>
                                <a:lnTo>
                                  <a:pt x="404" y="308"/>
                                </a:lnTo>
                                <a:lnTo>
                                  <a:pt x="387" y="324"/>
                                </a:lnTo>
                                <a:lnTo>
                                  <a:pt x="366" y="346"/>
                                </a:lnTo>
                                <a:lnTo>
                                  <a:pt x="350" y="365"/>
                                </a:lnTo>
                                <a:lnTo>
                                  <a:pt x="335" y="381"/>
                                </a:lnTo>
                                <a:lnTo>
                                  <a:pt x="319" y="403"/>
                                </a:lnTo>
                                <a:lnTo>
                                  <a:pt x="307" y="424"/>
                                </a:lnTo>
                                <a:lnTo>
                                  <a:pt x="295" y="448"/>
                                </a:lnTo>
                                <a:lnTo>
                                  <a:pt x="283" y="470"/>
                                </a:lnTo>
                                <a:lnTo>
                                  <a:pt x="273" y="494"/>
                                </a:lnTo>
                                <a:lnTo>
                                  <a:pt x="268" y="517"/>
                                </a:lnTo>
                                <a:lnTo>
                                  <a:pt x="262" y="539"/>
                                </a:lnTo>
                                <a:lnTo>
                                  <a:pt x="258" y="564"/>
                                </a:lnTo>
                                <a:lnTo>
                                  <a:pt x="255" y="587"/>
                                </a:lnTo>
                                <a:lnTo>
                                  <a:pt x="252" y="617"/>
                                </a:lnTo>
                                <a:lnTo>
                                  <a:pt x="251" y="645"/>
                                </a:lnTo>
                                <a:lnTo>
                                  <a:pt x="250" y="672"/>
                                </a:lnTo>
                                <a:lnTo>
                                  <a:pt x="248" y="702"/>
                                </a:lnTo>
                                <a:lnTo>
                                  <a:pt x="5" y="700"/>
                                </a:lnTo>
                                <a:lnTo>
                                  <a:pt x="1" y="675"/>
                                </a:lnTo>
                                <a:lnTo>
                                  <a:pt x="0" y="651"/>
                                </a:lnTo>
                                <a:lnTo>
                                  <a:pt x="2" y="623"/>
                                </a:lnTo>
                                <a:lnTo>
                                  <a:pt x="5" y="589"/>
                                </a:lnTo>
                                <a:lnTo>
                                  <a:pt x="8" y="558"/>
                                </a:lnTo>
                                <a:lnTo>
                                  <a:pt x="11" y="533"/>
                                </a:lnTo>
                                <a:lnTo>
                                  <a:pt x="17" y="509"/>
                                </a:lnTo>
                                <a:lnTo>
                                  <a:pt x="23" y="485"/>
                                </a:lnTo>
                                <a:lnTo>
                                  <a:pt x="33" y="457"/>
                                </a:lnTo>
                                <a:lnTo>
                                  <a:pt x="42" y="430"/>
                                </a:lnTo>
                                <a:lnTo>
                                  <a:pt x="51" y="407"/>
                                </a:lnTo>
                                <a:lnTo>
                                  <a:pt x="62" y="384"/>
                                </a:lnTo>
                                <a:lnTo>
                                  <a:pt x="73" y="360"/>
                                </a:lnTo>
                                <a:lnTo>
                                  <a:pt x="86" y="339"/>
                                </a:lnTo>
                                <a:lnTo>
                                  <a:pt x="100" y="315"/>
                                </a:lnTo>
                                <a:lnTo>
                                  <a:pt x="117" y="290"/>
                                </a:lnTo>
                                <a:lnTo>
                                  <a:pt x="134" y="265"/>
                                </a:lnTo>
                                <a:lnTo>
                                  <a:pt x="151" y="244"/>
                                </a:lnTo>
                                <a:lnTo>
                                  <a:pt x="170" y="219"/>
                                </a:lnTo>
                                <a:lnTo>
                                  <a:pt x="190" y="200"/>
                                </a:lnTo>
                                <a:lnTo>
                                  <a:pt x="215" y="179"/>
                                </a:lnTo>
                                <a:lnTo>
                                  <a:pt x="240" y="159"/>
                                </a:lnTo>
                                <a:lnTo>
                                  <a:pt x="266" y="137"/>
                                </a:lnTo>
                                <a:lnTo>
                                  <a:pt x="291" y="120"/>
                                </a:lnTo>
                                <a:lnTo>
                                  <a:pt x="315" y="103"/>
                                </a:lnTo>
                                <a:lnTo>
                                  <a:pt x="338" y="90"/>
                                </a:lnTo>
                                <a:lnTo>
                                  <a:pt x="362" y="77"/>
                                </a:lnTo>
                                <a:lnTo>
                                  <a:pt x="384" y="64"/>
                                </a:lnTo>
                                <a:lnTo>
                                  <a:pt x="410" y="52"/>
                                </a:lnTo>
                                <a:lnTo>
                                  <a:pt x="438" y="43"/>
                                </a:lnTo>
                                <a:lnTo>
                                  <a:pt x="469" y="36"/>
                                </a:lnTo>
                                <a:lnTo>
                                  <a:pt x="501" y="29"/>
                                </a:lnTo>
                                <a:lnTo>
                                  <a:pt x="533" y="24"/>
                                </a:lnTo>
                                <a:lnTo>
                                  <a:pt x="572" y="19"/>
                                </a:lnTo>
                                <a:lnTo>
                                  <a:pt x="611" y="14"/>
                                </a:lnTo>
                                <a:lnTo>
                                  <a:pt x="645" y="9"/>
                                </a:lnTo>
                                <a:lnTo>
                                  <a:pt x="680" y="5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80008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grpSp>
                        <p:nvGrpSpPr>
                          <p:cNvPr id="6503" name=""/>
                          <p:cNvGrpSpPr/>
                          <p:nvPr/>
                        </p:nvGrpSpPr>
                        <p:grpSpPr>
                          <a:xfrm>
                            <a:off x="4289760" y="2773080"/>
                            <a:ext cx="244800" cy="201240"/>
                            <a:chOff x="4289760" y="2773080"/>
                            <a:chExt cx="244800" cy="201240"/>
                          </a:xfrm>
                        </p:grpSpPr>
                        <p:grpSp>
                          <p:nvGrpSpPr>
                            <p:cNvPr id="6504" name=""/>
                            <p:cNvGrpSpPr/>
                            <p:nvPr/>
                          </p:nvGrpSpPr>
                          <p:grpSpPr>
                            <a:xfrm>
                              <a:off x="4315680" y="2791440"/>
                              <a:ext cx="218880" cy="182880"/>
                              <a:chOff x="4315680" y="2791440"/>
                              <a:chExt cx="218880" cy="182880"/>
                            </a:xfrm>
                          </p:grpSpPr>
                          <p:sp>
                            <p:nvSpPr>
                              <p:cNvPr id="6505" name=""/>
                              <p:cNvSpPr/>
                              <p:nvPr/>
                            </p:nvSpPr>
                            <p:spPr>
                              <a:xfrm>
                                <a:off x="4315680" y="2791440"/>
                                <a:ext cx="218880" cy="1710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883" h="559">
                                    <a:moveTo>
                                      <a:pt x="450" y="11"/>
                                    </a:moveTo>
                                    <a:lnTo>
                                      <a:pt x="463" y="8"/>
                                    </a:lnTo>
                                    <a:lnTo>
                                      <a:pt x="490" y="5"/>
                                    </a:lnTo>
                                    <a:lnTo>
                                      <a:pt x="522" y="3"/>
                                    </a:lnTo>
                                    <a:lnTo>
                                      <a:pt x="552" y="1"/>
                                    </a:lnTo>
                                    <a:lnTo>
                                      <a:pt x="580" y="2"/>
                                    </a:lnTo>
                                    <a:lnTo>
                                      <a:pt x="610" y="3"/>
                                    </a:lnTo>
                                    <a:lnTo>
                                      <a:pt x="641" y="4"/>
                                    </a:lnTo>
                                    <a:lnTo>
                                      <a:pt x="669" y="6"/>
                                    </a:lnTo>
                                    <a:lnTo>
                                      <a:pt x="699" y="4"/>
                                    </a:lnTo>
                                    <a:lnTo>
                                      <a:pt x="727" y="3"/>
                                    </a:lnTo>
                                    <a:lnTo>
                                      <a:pt x="760" y="1"/>
                                    </a:lnTo>
                                    <a:lnTo>
                                      <a:pt x="791" y="0"/>
                                    </a:lnTo>
                                    <a:lnTo>
                                      <a:pt x="816" y="1"/>
                                    </a:lnTo>
                                    <a:lnTo>
                                      <a:pt x="840" y="2"/>
                                    </a:lnTo>
                                    <a:lnTo>
                                      <a:pt x="866" y="3"/>
                                    </a:lnTo>
                                    <a:lnTo>
                                      <a:pt x="883" y="6"/>
                                    </a:lnTo>
                                    <a:lnTo>
                                      <a:pt x="881" y="20"/>
                                    </a:lnTo>
                                    <a:lnTo>
                                      <a:pt x="878" y="32"/>
                                    </a:lnTo>
                                    <a:lnTo>
                                      <a:pt x="875" y="43"/>
                                    </a:lnTo>
                                    <a:lnTo>
                                      <a:pt x="811" y="44"/>
                                    </a:lnTo>
                                    <a:lnTo>
                                      <a:pt x="795" y="46"/>
                                    </a:lnTo>
                                    <a:lnTo>
                                      <a:pt x="773" y="45"/>
                                    </a:lnTo>
                                    <a:lnTo>
                                      <a:pt x="748" y="44"/>
                                    </a:lnTo>
                                    <a:lnTo>
                                      <a:pt x="723" y="46"/>
                                    </a:lnTo>
                                    <a:lnTo>
                                      <a:pt x="700" y="48"/>
                                    </a:lnTo>
                                    <a:lnTo>
                                      <a:pt x="673" y="49"/>
                                    </a:lnTo>
                                    <a:lnTo>
                                      <a:pt x="649" y="49"/>
                                    </a:lnTo>
                                    <a:lnTo>
                                      <a:pt x="620" y="46"/>
                                    </a:lnTo>
                                    <a:lnTo>
                                      <a:pt x="589" y="46"/>
                                    </a:lnTo>
                                    <a:lnTo>
                                      <a:pt x="560" y="44"/>
                                    </a:lnTo>
                                    <a:lnTo>
                                      <a:pt x="532" y="46"/>
                                    </a:lnTo>
                                    <a:lnTo>
                                      <a:pt x="502" y="49"/>
                                    </a:lnTo>
                                    <a:lnTo>
                                      <a:pt x="470" y="51"/>
                                    </a:lnTo>
                                    <a:lnTo>
                                      <a:pt x="442" y="57"/>
                                    </a:lnTo>
                                    <a:lnTo>
                                      <a:pt x="415" y="66"/>
                                    </a:lnTo>
                                    <a:lnTo>
                                      <a:pt x="387" y="75"/>
                                    </a:lnTo>
                                    <a:lnTo>
                                      <a:pt x="357" y="86"/>
                                    </a:lnTo>
                                    <a:lnTo>
                                      <a:pt x="329" y="96"/>
                                    </a:lnTo>
                                    <a:lnTo>
                                      <a:pt x="304" y="106"/>
                                    </a:lnTo>
                                    <a:lnTo>
                                      <a:pt x="277" y="117"/>
                                    </a:lnTo>
                                    <a:lnTo>
                                      <a:pt x="255" y="130"/>
                                    </a:lnTo>
                                    <a:lnTo>
                                      <a:pt x="235" y="140"/>
                                    </a:lnTo>
                                    <a:lnTo>
                                      <a:pt x="214" y="152"/>
                                    </a:lnTo>
                                    <a:lnTo>
                                      <a:pt x="193" y="165"/>
                                    </a:lnTo>
                                    <a:lnTo>
                                      <a:pt x="175" y="181"/>
                                    </a:lnTo>
                                    <a:lnTo>
                                      <a:pt x="155" y="203"/>
                                    </a:lnTo>
                                    <a:lnTo>
                                      <a:pt x="139" y="222"/>
                                    </a:lnTo>
                                    <a:lnTo>
                                      <a:pt x="123" y="238"/>
                                    </a:lnTo>
                                    <a:lnTo>
                                      <a:pt x="108" y="260"/>
                                    </a:lnTo>
                                    <a:lnTo>
                                      <a:pt x="96" y="281"/>
                                    </a:lnTo>
                                    <a:lnTo>
                                      <a:pt x="83" y="305"/>
                                    </a:lnTo>
                                    <a:lnTo>
                                      <a:pt x="71" y="328"/>
                                    </a:lnTo>
                                    <a:lnTo>
                                      <a:pt x="62" y="351"/>
                                    </a:lnTo>
                                    <a:lnTo>
                                      <a:pt x="56" y="375"/>
                                    </a:lnTo>
                                    <a:lnTo>
                                      <a:pt x="50" y="398"/>
                                    </a:lnTo>
                                    <a:lnTo>
                                      <a:pt x="45" y="421"/>
                                    </a:lnTo>
                                    <a:lnTo>
                                      <a:pt x="42" y="444"/>
                                    </a:lnTo>
                                    <a:lnTo>
                                      <a:pt x="39" y="474"/>
                                    </a:lnTo>
                                    <a:lnTo>
                                      <a:pt x="38" y="502"/>
                                    </a:lnTo>
                                    <a:lnTo>
                                      <a:pt x="37" y="529"/>
                                    </a:lnTo>
                                    <a:lnTo>
                                      <a:pt x="35" y="559"/>
                                    </a:lnTo>
                                    <a:lnTo>
                                      <a:pt x="8" y="553"/>
                                    </a:lnTo>
                                    <a:lnTo>
                                      <a:pt x="5" y="525"/>
                                    </a:lnTo>
                                    <a:lnTo>
                                      <a:pt x="3" y="501"/>
                                    </a:lnTo>
                                    <a:lnTo>
                                      <a:pt x="0" y="475"/>
                                    </a:lnTo>
                                    <a:lnTo>
                                      <a:pt x="1" y="444"/>
                                    </a:lnTo>
                                    <a:lnTo>
                                      <a:pt x="4" y="415"/>
                                    </a:lnTo>
                                    <a:lnTo>
                                      <a:pt x="10" y="380"/>
                                    </a:lnTo>
                                    <a:lnTo>
                                      <a:pt x="15" y="355"/>
                                    </a:lnTo>
                                    <a:lnTo>
                                      <a:pt x="23" y="329"/>
                                    </a:lnTo>
                                    <a:lnTo>
                                      <a:pt x="31" y="305"/>
                                    </a:lnTo>
                                    <a:lnTo>
                                      <a:pt x="41" y="283"/>
                                    </a:lnTo>
                                    <a:lnTo>
                                      <a:pt x="54" y="262"/>
                                    </a:lnTo>
                                    <a:lnTo>
                                      <a:pt x="68" y="238"/>
                                    </a:lnTo>
                                    <a:lnTo>
                                      <a:pt x="85" y="215"/>
                                    </a:lnTo>
                                    <a:lnTo>
                                      <a:pt x="103" y="193"/>
                                    </a:lnTo>
                                    <a:lnTo>
                                      <a:pt x="122" y="173"/>
                                    </a:lnTo>
                                    <a:lnTo>
                                      <a:pt x="142" y="151"/>
                                    </a:lnTo>
                                    <a:lnTo>
                                      <a:pt x="163" y="132"/>
                                    </a:lnTo>
                                    <a:lnTo>
                                      <a:pt x="186" y="114"/>
                                    </a:lnTo>
                                    <a:lnTo>
                                      <a:pt x="211" y="99"/>
                                    </a:lnTo>
                                    <a:lnTo>
                                      <a:pt x="239" y="85"/>
                                    </a:lnTo>
                                    <a:lnTo>
                                      <a:pt x="270" y="69"/>
                                    </a:lnTo>
                                    <a:lnTo>
                                      <a:pt x="300" y="59"/>
                                    </a:lnTo>
                                    <a:lnTo>
                                      <a:pt x="332" y="46"/>
                                    </a:lnTo>
                                    <a:lnTo>
                                      <a:pt x="367" y="34"/>
                                    </a:lnTo>
                                    <a:lnTo>
                                      <a:pt x="396" y="24"/>
                                    </a:lnTo>
                                    <a:lnTo>
                                      <a:pt x="426" y="16"/>
                                    </a:lnTo>
                                    <a:lnTo>
                                      <a:pt x="450" y="11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c000c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6506" name=""/>
                              <p:cNvSpPr/>
                              <p:nvPr/>
                            </p:nvSpPr>
                            <p:spPr>
                              <a:xfrm>
                                <a:off x="4321800" y="2802240"/>
                                <a:ext cx="210240" cy="17208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854" h="560">
                                    <a:moveTo>
                                      <a:pt x="450" y="12"/>
                                    </a:moveTo>
                                    <a:lnTo>
                                      <a:pt x="462" y="8"/>
                                    </a:lnTo>
                                    <a:lnTo>
                                      <a:pt x="490" y="6"/>
                                    </a:lnTo>
                                    <a:lnTo>
                                      <a:pt x="522" y="4"/>
                                    </a:lnTo>
                                    <a:lnTo>
                                      <a:pt x="550" y="2"/>
                                    </a:lnTo>
                                    <a:lnTo>
                                      <a:pt x="580" y="3"/>
                                    </a:lnTo>
                                    <a:lnTo>
                                      <a:pt x="610" y="4"/>
                                    </a:lnTo>
                                    <a:lnTo>
                                      <a:pt x="640" y="5"/>
                                    </a:lnTo>
                                    <a:lnTo>
                                      <a:pt x="669" y="7"/>
                                    </a:lnTo>
                                    <a:lnTo>
                                      <a:pt x="698" y="5"/>
                                    </a:lnTo>
                                    <a:lnTo>
                                      <a:pt x="726" y="4"/>
                                    </a:lnTo>
                                    <a:lnTo>
                                      <a:pt x="760" y="2"/>
                                    </a:lnTo>
                                    <a:lnTo>
                                      <a:pt x="791" y="1"/>
                                    </a:lnTo>
                                    <a:lnTo>
                                      <a:pt x="815" y="2"/>
                                    </a:lnTo>
                                    <a:lnTo>
                                      <a:pt x="840" y="3"/>
                                    </a:lnTo>
                                    <a:lnTo>
                                      <a:pt x="854" y="0"/>
                                    </a:lnTo>
                                    <a:lnTo>
                                      <a:pt x="849" y="13"/>
                                    </a:lnTo>
                                    <a:lnTo>
                                      <a:pt x="841" y="25"/>
                                    </a:lnTo>
                                    <a:lnTo>
                                      <a:pt x="830" y="34"/>
                                    </a:lnTo>
                                    <a:lnTo>
                                      <a:pt x="821" y="40"/>
                                    </a:lnTo>
                                    <a:lnTo>
                                      <a:pt x="811" y="45"/>
                                    </a:lnTo>
                                    <a:lnTo>
                                      <a:pt x="795" y="47"/>
                                    </a:lnTo>
                                    <a:lnTo>
                                      <a:pt x="772" y="46"/>
                                    </a:lnTo>
                                    <a:lnTo>
                                      <a:pt x="748" y="45"/>
                                    </a:lnTo>
                                    <a:lnTo>
                                      <a:pt x="722" y="47"/>
                                    </a:lnTo>
                                    <a:lnTo>
                                      <a:pt x="700" y="48"/>
                                    </a:lnTo>
                                    <a:lnTo>
                                      <a:pt x="673" y="50"/>
                                    </a:lnTo>
                                    <a:lnTo>
                                      <a:pt x="647" y="50"/>
                                    </a:lnTo>
                                    <a:lnTo>
                                      <a:pt x="620" y="47"/>
                                    </a:lnTo>
                                    <a:lnTo>
                                      <a:pt x="588" y="47"/>
                                    </a:lnTo>
                                    <a:lnTo>
                                      <a:pt x="558" y="45"/>
                                    </a:lnTo>
                                    <a:lnTo>
                                      <a:pt x="532" y="47"/>
                                    </a:lnTo>
                                    <a:lnTo>
                                      <a:pt x="501" y="50"/>
                                    </a:lnTo>
                                    <a:lnTo>
                                      <a:pt x="469" y="51"/>
                                    </a:lnTo>
                                    <a:lnTo>
                                      <a:pt x="442" y="57"/>
                                    </a:lnTo>
                                    <a:lnTo>
                                      <a:pt x="414" y="66"/>
                                    </a:lnTo>
                                    <a:lnTo>
                                      <a:pt x="387" y="75"/>
                                    </a:lnTo>
                                    <a:lnTo>
                                      <a:pt x="357" y="86"/>
                                    </a:lnTo>
                                    <a:lnTo>
                                      <a:pt x="328" y="97"/>
                                    </a:lnTo>
                                    <a:lnTo>
                                      <a:pt x="304" y="107"/>
                                    </a:lnTo>
                                    <a:lnTo>
                                      <a:pt x="276" y="118"/>
                                    </a:lnTo>
                                    <a:lnTo>
                                      <a:pt x="254" y="131"/>
                                    </a:lnTo>
                                    <a:lnTo>
                                      <a:pt x="234" y="141"/>
                                    </a:lnTo>
                                    <a:lnTo>
                                      <a:pt x="214" y="153"/>
                                    </a:lnTo>
                                    <a:lnTo>
                                      <a:pt x="192" y="166"/>
                                    </a:lnTo>
                                    <a:lnTo>
                                      <a:pt x="175" y="182"/>
                                    </a:lnTo>
                                    <a:lnTo>
                                      <a:pt x="154" y="204"/>
                                    </a:lnTo>
                                    <a:lnTo>
                                      <a:pt x="138" y="223"/>
                                    </a:lnTo>
                                    <a:lnTo>
                                      <a:pt x="123" y="239"/>
                                    </a:lnTo>
                                    <a:lnTo>
                                      <a:pt x="107" y="261"/>
                                    </a:lnTo>
                                    <a:lnTo>
                                      <a:pt x="95" y="282"/>
                                    </a:lnTo>
                                    <a:lnTo>
                                      <a:pt x="83" y="306"/>
                                    </a:lnTo>
                                    <a:lnTo>
                                      <a:pt x="71" y="328"/>
                                    </a:lnTo>
                                    <a:lnTo>
                                      <a:pt x="61" y="352"/>
                                    </a:lnTo>
                                    <a:lnTo>
                                      <a:pt x="55" y="375"/>
                                    </a:lnTo>
                                    <a:lnTo>
                                      <a:pt x="49" y="398"/>
                                    </a:lnTo>
                                    <a:lnTo>
                                      <a:pt x="45" y="422"/>
                                    </a:lnTo>
                                    <a:lnTo>
                                      <a:pt x="42" y="445"/>
                                    </a:lnTo>
                                    <a:lnTo>
                                      <a:pt x="39" y="475"/>
                                    </a:lnTo>
                                    <a:lnTo>
                                      <a:pt x="38" y="503"/>
                                    </a:lnTo>
                                    <a:lnTo>
                                      <a:pt x="37" y="530"/>
                                    </a:lnTo>
                                    <a:lnTo>
                                      <a:pt x="35" y="560"/>
                                    </a:lnTo>
                                    <a:lnTo>
                                      <a:pt x="7" y="554"/>
                                    </a:lnTo>
                                    <a:lnTo>
                                      <a:pt x="4" y="526"/>
                                    </a:lnTo>
                                    <a:lnTo>
                                      <a:pt x="2" y="502"/>
                                    </a:lnTo>
                                    <a:lnTo>
                                      <a:pt x="0" y="476"/>
                                    </a:lnTo>
                                    <a:lnTo>
                                      <a:pt x="1" y="445"/>
                                    </a:lnTo>
                                    <a:lnTo>
                                      <a:pt x="3" y="416"/>
                                    </a:lnTo>
                                    <a:lnTo>
                                      <a:pt x="9" y="380"/>
                                    </a:lnTo>
                                    <a:lnTo>
                                      <a:pt x="14" y="356"/>
                                    </a:lnTo>
                                    <a:lnTo>
                                      <a:pt x="22" y="330"/>
                                    </a:lnTo>
                                    <a:lnTo>
                                      <a:pt x="31" y="306"/>
                                    </a:lnTo>
                                    <a:lnTo>
                                      <a:pt x="41" y="284"/>
                                    </a:lnTo>
                                    <a:lnTo>
                                      <a:pt x="53" y="263"/>
                                    </a:lnTo>
                                    <a:lnTo>
                                      <a:pt x="67" y="239"/>
                                    </a:lnTo>
                                    <a:lnTo>
                                      <a:pt x="85" y="216"/>
                                    </a:lnTo>
                                    <a:lnTo>
                                      <a:pt x="102" y="194"/>
                                    </a:lnTo>
                                    <a:lnTo>
                                      <a:pt x="122" y="174"/>
                                    </a:lnTo>
                                    <a:lnTo>
                                      <a:pt x="141" y="152"/>
                                    </a:lnTo>
                                    <a:lnTo>
                                      <a:pt x="163" y="133"/>
                                    </a:lnTo>
                                    <a:lnTo>
                                      <a:pt x="185" y="115"/>
                                    </a:lnTo>
                                    <a:lnTo>
                                      <a:pt x="211" y="100"/>
                                    </a:lnTo>
                                    <a:lnTo>
                                      <a:pt x="237" y="85"/>
                                    </a:lnTo>
                                    <a:lnTo>
                                      <a:pt x="270" y="69"/>
                                    </a:lnTo>
                                    <a:lnTo>
                                      <a:pt x="300" y="59"/>
                                    </a:lnTo>
                                    <a:lnTo>
                                      <a:pt x="331" y="47"/>
                                    </a:lnTo>
                                    <a:lnTo>
                                      <a:pt x="366" y="35"/>
                                    </a:lnTo>
                                    <a:lnTo>
                                      <a:pt x="396" y="25"/>
                                    </a:lnTo>
                                    <a:lnTo>
                                      <a:pt x="425" y="17"/>
                                    </a:lnTo>
                                    <a:lnTo>
                                      <a:pt x="450" y="12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60006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6507" name=""/>
                            <p:cNvSpPr/>
                            <p:nvPr/>
                          </p:nvSpPr>
                          <p:spPr>
                            <a:xfrm>
                              <a:off x="4289760" y="2773080"/>
                              <a:ext cx="222840" cy="16776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901" h="544">
                                  <a:moveTo>
                                    <a:pt x="901" y="6"/>
                                  </a:moveTo>
                                  <a:lnTo>
                                    <a:pt x="865" y="3"/>
                                  </a:lnTo>
                                  <a:lnTo>
                                    <a:pt x="836" y="2"/>
                                  </a:lnTo>
                                  <a:lnTo>
                                    <a:pt x="796" y="1"/>
                                  </a:lnTo>
                                  <a:lnTo>
                                    <a:pt x="756" y="0"/>
                                  </a:lnTo>
                                  <a:lnTo>
                                    <a:pt x="709" y="1"/>
                                  </a:lnTo>
                                  <a:lnTo>
                                    <a:pt x="660" y="2"/>
                                  </a:lnTo>
                                  <a:lnTo>
                                    <a:pt x="615" y="4"/>
                                  </a:lnTo>
                                  <a:lnTo>
                                    <a:pt x="578" y="7"/>
                                  </a:lnTo>
                                  <a:lnTo>
                                    <a:pt x="536" y="12"/>
                                  </a:lnTo>
                                  <a:lnTo>
                                    <a:pt x="490" y="18"/>
                                  </a:lnTo>
                                  <a:lnTo>
                                    <a:pt x="461" y="24"/>
                                  </a:lnTo>
                                  <a:lnTo>
                                    <a:pt x="437" y="31"/>
                                  </a:lnTo>
                                  <a:lnTo>
                                    <a:pt x="411" y="37"/>
                                  </a:lnTo>
                                  <a:lnTo>
                                    <a:pt x="385" y="45"/>
                                  </a:lnTo>
                                  <a:lnTo>
                                    <a:pt x="357" y="55"/>
                                  </a:lnTo>
                                  <a:lnTo>
                                    <a:pt x="326" y="70"/>
                                  </a:lnTo>
                                  <a:lnTo>
                                    <a:pt x="299" y="82"/>
                                  </a:lnTo>
                                  <a:lnTo>
                                    <a:pt x="274" y="94"/>
                                  </a:lnTo>
                                  <a:lnTo>
                                    <a:pt x="254" y="107"/>
                                  </a:lnTo>
                                  <a:lnTo>
                                    <a:pt x="233" y="123"/>
                                  </a:lnTo>
                                  <a:lnTo>
                                    <a:pt x="212" y="139"/>
                                  </a:lnTo>
                                  <a:lnTo>
                                    <a:pt x="186" y="160"/>
                                  </a:lnTo>
                                  <a:lnTo>
                                    <a:pt x="163" y="180"/>
                                  </a:lnTo>
                                  <a:lnTo>
                                    <a:pt x="146" y="196"/>
                                  </a:lnTo>
                                  <a:lnTo>
                                    <a:pt x="130" y="212"/>
                                  </a:lnTo>
                                  <a:lnTo>
                                    <a:pt x="112" y="231"/>
                                  </a:lnTo>
                                  <a:lnTo>
                                    <a:pt x="96" y="246"/>
                                  </a:lnTo>
                                  <a:lnTo>
                                    <a:pt x="81" y="266"/>
                                  </a:lnTo>
                                  <a:lnTo>
                                    <a:pt x="69" y="287"/>
                                  </a:lnTo>
                                  <a:lnTo>
                                    <a:pt x="56" y="315"/>
                                  </a:lnTo>
                                  <a:lnTo>
                                    <a:pt x="43" y="343"/>
                                  </a:lnTo>
                                  <a:lnTo>
                                    <a:pt x="33" y="369"/>
                                  </a:lnTo>
                                  <a:lnTo>
                                    <a:pt x="24" y="394"/>
                                  </a:lnTo>
                                  <a:lnTo>
                                    <a:pt x="17" y="419"/>
                                  </a:lnTo>
                                  <a:lnTo>
                                    <a:pt x="9" y="451"/>
                                  </a:lnTo>
                                  <a:lnTo>
                                    <a:pt x="5" y="480"/>
                                  </a:lnTo>
                                  <a:lnTo>
                                    <a:pt x="1" y="509"/>
                                  </a:lnTo>
                                  <a:lnTo>
                                    <a:pt x="0" y="544"/>
                                  </a:lnTo>
                                </a:path>
                              </a:pathLst>
                            </a:custGeom>
                            <a:noFill/>
                            <a:ln w="4680">
                              <a:solidFill>
                                <a:srgbClr val="ffc0ff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6508" name=""/>
                        <p:cNvGrpSpPr/>
                        <p:nvPr/>
                      </p:nvGrpSpPr>
                      <p:grpSpPr>
                        <a:xfrm>
                          <a:off x="4269960" y="2955600"/>
                          <a:ext cx="59400" cy="36720"/>
                          <a:chOff x="4269960" y="2955600"/>
                          <a:chExt cx="59400" cy="36720"/>
                        </a:xfrm>
                      </p:grpSpPr>
                      <p:sp>
                        <p:nvSpPr>
                          <p:cNvPr id="6509" name=""/>
                          <p:cNvSpPr/>
                          <p:nvPr/>
                        </p:nvSpPr>
                        <p:spPr>
                          <a:xfrm>
                            <a:off x="4269960" y="2955600"/>
                            <a:ext cx="59400" cy="36720"/>
                          </a:xfrm>
                          <a:prstGeom prst="ellipse">
                            <a:avLst/>
                          </a:prstGeom>
                          <a:solidFill>
                            <a:srgbClr val="ff00ff"/>
                          </a:solidFill>
                          <a:ln w="3240">
                            <a:solidFill>
                              <a:srgbClr val="40004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0880" bIns="-2088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6510" name=""/>
                          <p:cNvSpPr/>
                          <p:nvPr/>
                        </p:nvSpPr>
                        <p:spPr>
                          <a:xfrm>
                            <a:off x="4275000" y="2959920"/>
                            <a:ext cx="48240" cy="27360"/>
                          </a:xfrm>
                          <a:prstGeom prst="ellipse">
                            <a:avLst/>
                          </a:prstGeom>
                          <a:solidFill>
                            <a:srgbClr val="600060"/>
                          </a:solidFill>
                          <a:ln w="3240">
                            <a:solidFill>
                              <a:srgbClr val="40004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7360" bIns="-273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</p:grpSp>
              </p:grpSp>
              <p:grpSp>
                <p:nvGrpSpPr>
                  <p:cNvPr id="6511" name=""/>
                  <p:cNvGrpSpPr/>
                  <p:nvPr/>
                </p:nvGrpSpPr>
                <p:grpSpPr>
                  <a:xfrm>
                    <a:off x="4191120" y="2929680"/>
                    <a:ext cx="101520" cy="385200"/>
                    <a:chOff x="4191120" y="2929680"/>
                    <a:chExt cx="101520" cy="385200"/>
                  </a:xfrm>
                </p:grpSpPr>
                <p:grpSp>
                  <p:nvGrpSpPr>
                    <p:cNvPr id="6512" name=""/>
                    <p:cNvGrpSpPr/>
                    <p:nvPr/>
                  </p:nvGrpSpPr>
                  <p:grpSpPr>
                    <a:xfrm>
                      <a:off x="4191120" y="2944800"/>
                      <a:ext cx="101520" cy="370080"/>
                      <a:chOff x="4191120" y="2944800"/>
                      <a:chExt cx="101520" cy="370080"/>
                    </a:xfrm>
                  </p:grpSpPr>
                  <p:sp>
                    <p:nvSpPr>
                      <p:cNvPr id="6513" name=""/>
                      <p:cNvSpPr/>
                      <p:nvPr/>
                    </p:nvSpPr>
                    <p:spPr>
                      <a:xfrm>
                        <a:off x="4191120" y="2944800"/>
                        <a:ext cx="101520" cy="370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" h="1199">
                            <a:moveTo>
                              <a:pt x="270" y="0"/>
                            </a:moveTo>
                            <a:lnTo>
                              <a:pt x="0" y="18"/>
                            </a:lnTo>
                            <a:lnTo>
                              <a:pt x="3" y="47"/>
                            </a:lnTo>
                            <a:lnTo>
                              <a:pt x="9" y="79"/>
                            </a:lnTo>
                            <a:lnTo>
                              <a:pt x="16" y="113"/>
                            </a:lnTo>
                            <a:lnTo>
                              <a:pt x="22" y="152"/>
                            </a:lnTo>
                            <a:lnTo>
                              <a:pt x="31" y="198"/>
                            </a:lnTo>
                            <a:lnTo>
                              <a:pt x="41" y="242"/>
                            </a:lnTo>
                            <a:lnTo>
                              <a:pt x="49" y="279"/>
                            </a:lnTo>
                            <a:lnTo>
                              <a:pt x="58" y="315"/>
                            </a:lnTo>
                            <a:lnTo>
                              <a:pt x="66" y="354"/>
                            </a:lnTo>
                            <a:lnTo>
                              <a:pt x="75" y="397"/>
                            </a:lnTo>
                            <a:lnTo>
                              <a:pt x="83" y="442"/>
                            </a:lnTo>
                            <a:lnTo>
                              <a:pt x="92" y="490"/>
                            </a:lnTo>
                            <a:lnTo>
                              <a:pt x="97" y="517"/>
                            </a:lnTo>
                            <a:lnTo>
                              <a:pt x="101" y="552"/>
                            </a:lnTo>
                            <a:lnTo>
                              <a:pt x="106" y="593"/>
                            </a:lnTo>
                            <a:lnTo>
                              <a:pt x="110" y="631"/>
                            </a:lnTo>
                            <a:lnTo>
                              <a:pt x="117" y="679"/>
                            </a:lnTo>
                            <a:lnTo>
                              <a:pt x="123" y="729"/>
                            </a:lnTo>
                            <a:lnTo>
                              <a:pt x="127" y="769"/>
                            </a:lnTo>
                            <a:lnTo>
                              <a:pt x="128" y="809"/>
                            </a:lnTo>
                            <a:lnTo>
                              <a:pt x="130" y="843"/>
                            </a:lnTo>
                            <a:lnTo>
                              <a:pt x="133" y="887"/>
                            </a:lnTo>
                            <a:lnTo>
                              <a:pt x="135" y="932"/>
                            </a:lnTo>
                            <a:lnTo>
                              <a:pt x="133" y="974"/>
                            </a:lnTo>
                            <a:lnTo>
                              <a:pt x="134" y="1024"/>
                            </a:lnTo>
                            <a:lnTo>
                              <a:pt x="136" y="1054"/>
                            </a:lnTo>
                            <a:lnTo>
                              <a:pt x="134" y="1079"/>
                            </a:lnTo>
                            <a:lnTo>
                              <a:pt x="132" y="1110"/>
                            </a:lnTo>
                            <a:lnTo>
                              <a:pt x="133" y="1131"/>
                            </a:lnTo>
                            <a:lnTo>
                              <a:pt x="138" y="1145"/>
                            </a:lnTo>
                            <a:lnTo>
                              <a:pt x="146" y="1159"/>
                            </a:lnTo>
                            <a:lnTo>
                              <a:pt x="158" y="1170"/>
                            </a:lnTo>
                            <a:lnTo>
                              <a:pt x="175" y="1178"/>
                            </a:lnTo>
                            <a:lnTo>
                              <a:pt x="191" y="1183"/>
                            </a:lnTo>
                            <a:lnTo>
                              <a:pt x="212" y="1190"/>
                            </a:lnTo>
                            <a:lnTo>
                              <a:pt x="240" y="1195"/>
                            </a:lnTo>
                            <a:lnTo>
                              <a:pt x="266" y="1196"/>
                            </a:lnTo>
                            <a:lnTo>
                              <a:pt x="292" y="1198"/>
                            </a:lnTo>
                            <a:lnTo>
                              <a:pt x="315" y="1199"/>
                            </a:lnTo>
                            <a:lnTo>
                              <a:pt x="336" y="1197"/>
                            </a:lnTo>
                            <a:lnTo>
                              <a:pt x="354" y="1194"/>
                            </a:lnTo>
                            <a:lnTo>
                              <a:pt x="373" y="1187"/>
                            </a:lnTo>
                            <a:lnTo>
                              <a:pt x="385" y="1180"/>
                            </a:lnTo>
                            <a:lnTo>
                              <a:pt x="396" y="1173"/>
                            </a:lnTo>
                            <a:lnTo>
                              <a:pt x="404" y="1164"/>
                            </a:lnTo>
                            <a:lnTo>
                              <a:pt x="406" y="1154"/>
                            </a:lnTo>
                            <a:lnTo>
                              <a:pt x="404" y="1123"/>
                            </a:lnTo>
                            <a:lnTo>
                              <a:pt x="402" y="1093"/>
                            </a:lnTo>
                            <a:lnTo>
                              <a:pt x="404" y="1053"/>
                            </a:lnTo>
                            <a:lnTo>
                              <a:pt x="407" y="1022"/>
                            </a:lnTo>
                            <a:lnTo>
                              <a:pt x="410" y="995"/>
                            </a:lnTo>
                            <a:lnTo>
                              <a:pt x="408" y="968"/>
                            </a:lnTo>
                            <a:lnTo>
                              <a:pt x="406" y="932"/>
                            </a:lnTo>
                            <a:lnTo>
                              <a:pt x="405" y="906"/>
                            </a:lnTo>
                            <a:lnTo>
                              <a:pt x="403" y="878"/>
                            </a:lnTo>
                            <a:lnTo>
                              <a:pt x="398" y="851"/>
                            </a:lnTo>
                            <a:lnTo>
                              <a:pt x="393" y="821"/>
                            </a:lnTo>
                            <a:lnTo>
                              <a:pt x="392" y="785"/>
                            </a:lnTo>
                            <a:lnTo>
                              <a:pt x="390" y="756"/>
                            </a:lnTo>
                            <a:lnTo>
                              <a:pt x="389" y="719"/>
                            </a:lnTo>
                            <a:lnTo>
                              <a:pt x="387" y="681"/>
                            </a:lnTo>
                            <a:lnTo>
                              <a:pt x="384" y="642"/>
                            </a:lnTo>
                            <a:lnTo>
                              <a:pt x="379" y="598"/>
                            </a:lnTo>
                            <a:lnTo>
                              <a:pt x="375" y="556"/>
                            </a:lnTo>
                            <a:lnTo>
                              <a:pt x="371" y="517"/>
                            </a:lnTo>
                            <a:lnTo>
                              <a:pt x="367" y="487"/>
                            </a:lnTo>
                            <a:lnTo>
                              <a:pt x="362" y="454"/>
                            </a:lnTo>
                            <a:lnTo>
                              <a:pt x="358" y="422"/>
                            </a:lnTo>
                            <a:lnTo>
                              <a:pt x="353" y="387"/>
                            </a:lnTo>
                            <a:lnTo>
                              <a:pt x="347" y="351"/>
                            </a:lnTo>
                            <a:lnTo>
                              <a:pt x="341" y="311"/>
                            </a:lnTo>
                            <a:lnTo>
                              <a:pt x="335" y="276"/>
                            </a:lnTo>
                            <a:lnTo>
                              <a:pt x="325" y="232"/>
                            </a:lnTo>
                            <a:lnTo>
                              <a:pt x="316" y="190"/>
                            </a:lnTo>
                            <a:lnTo>
                              <a:pt x="307" y="137"/>
                            </a:lnTo>
                            <a:lnTo>
                              <a:pt x="294" y="81"/>
                            </a:lnTo>
                            <a:lnTo>
                              <a:pt x="283" y="37"/>
                            </a:lnTo>
                            <a:lnTo>
                              <a:pt x="270" y="0"/>
                            </a:lnTo>
                            <a:close/>
                          </a:path>
                        </a:pathLst>
                      </a:custGeom>
                      <a:solidFill>
                        <a:srgbClr val="0000a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6514" name=""/>
                      <p:cNvGrpSpPr/>
                      <p:nvPr/>
                    </p:nvGrpSpPr>
                    <p:grpSpPr>
                      <a:xfrm>
                        <a:off x="4191120" y="2944800"/>
                        <a:ext cx="101520" cy="368640"/>
                        <a:chOff x="4191120" y="2944800"/>
                        <a:chExt cx="101520" cy="368640"/>
                      </a:xfrm>
                    </p:grpSpPr>
                    <p:grpSp>
                      <p:nvGrpSpPr>
                        <p:cNvPr id="6515" name=""/>
                        <p:cNvGrpSpPr/>
                        <p:nvPr/>
                      </p:nvGrpSpPr>
                      <p:grpSpPr>
                        <a:xfrm>
                          <a:off x="4191120" y="2944800"/>
                          <a:ext cx="101520" cy="368640"/>
                          <a:chOff x="4191120" y="2944800"/>
                          <a:chExt cx="101520" cy="368640"/>
                        </a:xfrm>
                      </p:grpSpPr>
                      <p:grpSp>
                        <p:nvGrpSpPr>
                          <p:cNvPr id="6516" name=""/>
                          <p:cNvGrpSpPr/>
                          <p:nvPr/>
                        </p:nvGrpSpPr>
                        <p:grpSpPr>
                          <a:xfrm>
                            <a:off x="4191120" y="2944800"/>
                            <a:ext cx="101520" cy="368640"/>
                            <a:chOff x="4191120" y="2944800"/>
                            <a:chExt cx="101520" cy="368640"/>
                          </a:xfrm>
                        </p:grpSpPr>
                        <p:sp>
                          <p:nvSpPr>
                            <p:cNvPr id="6517" name=""/>
                            <p:cNvSpPr/>
                            <p:nvPr/>
                          </p:nvSpPr>
                          <p:spPr>
                            <a:xfrm>
                              <a:off x="4191120" y="2950560"/>
                              <a:ext cx="44280" cy="35496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181" h="1152">
                                  <a:moveTo>
                                    <a:pt x="55" y="70"/>
                                  </a:moveTo>
                                  <a:lnTo>
                                    <a:pt x="41" y="28"/>
                                  </a:lnTo>
                                  <a:lnTo>
                                    <a:pt x="0" y="0"/>
                                  </a:lnTo>
                                  <a:lnTo>
                                    <a:pt x="3" y="29"/>
                                  </a:lnTo>
                                  <a:lnTo>
                                    <a:pt x="9" y="61"/>
                                  </a:lnTo>
                                  <a:lnTo>
                                    <a:pt x="16" y="95"/>
                                  </a:lnTo>
                                  <a:lnTo>
                                    <a:pt x="22" y="134"/>
                                  </a:lnTo>
                                  <a:lnTo>
                                    <a:pt x="31" y="180"/>
                                  </a:lnTo>
                                  <a:lnTo>
                                    <a:pt x="41" y="224"/>
                                  </a:lnTo>
                                  <a:lnTo>
                                    <a:pt x="48" y="261"/>
                                  </a:lnTo>
                                  <a:lnTo>
                                    <a:pt x="56" y="297"/>
                                  </a:lnTo>
                                  <a:lnTo>
                                    <a:pt x="65" y="336"/>
                                  </a:lnTo>
                                  <a:lnTo>
                                    <a:pt x="74" y="379"/>
                                  </a:lnTo>
                                  <a:lnTo>
                                    <a:pt x="82" y="424"/>
                                  </a:lnTo>
                                  <a:lnTo>
                                    <a:pt x="91" y="472"/>
                                  </a:lnTo>
                                  <a:lnTo>
                                    <a:pt x="96" y="499"/>
                                  </a:lnTo>
                                  <a:lnTo>
                                    <a:pt x="100" y="534"/>
                                  </a:lnTo>
                                  <a:lnTo>
                                    <a:pt x="106" y="575"/>
                                  </a:lnTo>
                                  <a:lnTo>
                                    <a:pt x="110" y="613"/>
                                  </a:lnTo>
                                  <a:lnTo>
                                    <a:pt x="117" y="661"/>
                                  </a:lnTo>
                                  <a:lnTo>
                                    <a:pt x="123" y="711"/>
                                  </a:lnTo>
                                  <a:lnTo>
                                    <a:pt x="127" y="751"/>
                                  </a:lnTo>
                                  <a:lnTo>
                                    <a:pt x="128" y="791"/>
                                  </a:lnTo>
                                  <a:lnTo>
                                    <a:pt x="130" y="825"/>
                                  </a:lnTo>
                                  <a:lnTo>
                                    <a:pt x="133" y="868"/>
                                  </a:lnTo>
                                  <a:lnTo>
                                    <a:pt x="135" y="914"/>
                                  </a:lnTo>
                                  <a:lnTo>
                                    <a:pt x="133" y="956"/>
                                  </a:lnTo>
                                  <a:lnTo>
                                    <a:pt x="134" y="1006"/>
                                  </a:lnTo>
                                  <a:lnTo>
                                    <a:pt x="136" y="1036"/>
                                  </a:lnTo>
                                  <a:lnTo>
                                    <a:pt x="134" y="1061"/>
                                  </a:lnTo>
                                  <a:lnTo>
                                    <a:pt x="132" y="1091"/>
                                  </a:lnTo>
                                  <a:lnTo>
                                    <a:pt x="133" y="1113"/>
                                  </a:lnTo>
                                  <a:lnTo>
                                    <a:pt x="137" y="1127"/>
                                  </a:lnTo>
                                  <a:lnTo>
                                    <a:pt x="145" y="1141"/>
                                  </a:lnTo>
                                  <a:lnTo>
                                    <a:pt x="157" y="1152"/>
                                  </a:lnTo>
                                  <a:lnTo>
                                    <a:pt x="163" y="1122"/>
                                  </a:lnTo>
                                  <a:lnTo>
                                    <a:pt x="166" y="1088"/>
                                  </a:lnTo>
                                  <a:lnTo>
                                    <a:pt x="169" y="1051"/>
                                  </a:lnTo>
                                  <a:lnTo>
                                    <a:pt x="173" y="1008"/>
                                  </a:lnTo>
                                  <a:lnTo>
                                    <a:pt x="178" y="956"/>
                                  </a:lnTo>
                                  <a:lnTo>
                                    <a:pt x="181" y="896"/>
                                  </a:lnTo>
                                  <a:lnTo>
                                    <a:pt x="176" y="843"/>
                                  </a:lnTo>
                                  <a:lnTo>
                                    <a:pt x="175" y="789"/>
                                  </a:lnTo>
                                  <a:lnTo>
                                    <a:pt x="169" y="731"/>
                                  </a:lnTo>
                                  <a:lnTo>
                                    <a:pt x="163" y="681"/>
                                  </a:lnTo>
                                  <a:lnTo>
                                    <a:pt x="158" y="633"/>
                                  </a:lnTo>
                                  <a:lnTo>
                                    <a:pt x="154" y="590"/>
                                  </a:lnTo>
                                  <a:lnTo>
                                    <a:pt x="151" y="548"/>
                                  </a:lnTo>
                                  <a:lnTo>
                                    <a:pt x="148" y="511"/>
                                  </a:lnTo>
                                  <a:lnTo>
                                    <a:pt x="145" y="472"/>
                                  </a:lnTo>
                                  <a:lnTo>
                                    <a:pt x="139" y="429"/>
                                  </a:lnTo>
                                  <a:lnTo>
                                    <a:pt x="134" y="382"/>
                                  </a:lnTo>
                                  <a:lnTo>
                                    <a:pt x="122" y="342"/>
                                  </a:lnTo>
                                  <a:lnTo>
                                    <a:pt x="111" y="300"/>
                                  </a:lnTo>
                                  <a:lnTo>
                                    <a:pt x="100" y="266"/>
                                  </a:lnTo>
                                  <a:lnTo>
                                    <a:pt x="94" y="232"/>
                                  </a:lnTo>
                                  <a:lnTo>
                                    <a:pt x="88" y="194"/>
                                  </a:lnTo>
                                  <a:lnTo>
                                    <a:pt x="83" y="156"/>
                                  </a:lnTo>
                                  <a:lnTo>
                                    <a:pt x="70" y="113"/>
                                  </a:lnTo>
                                  <a:lnTo>
                                    <a:pt x="55" y="7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00004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6518" name=""/>
                            <p:cNvSpPr/>
                            <p:nvPr/>
                          </p:nvSpPr>
                          <p:spPr>
                            <a:xfrm>
                              <a:off x="4246920" y="2944800"/>
                              <a:ext cx="45720" cy="36864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188" h="1194">
                                  <a:moveTo>
                                    <a:pt x="48" y="0"/>
                                  </a:moveTo>
                                  <a:lnTo>
                                    <a:pt x="0" y="38"/>
                                  </a:lnTo>
                                  <a:lnTo>
                                    <a:pt x="17" y="57"/>
                                  </a:lnTo>
                                  <a:lnTo>
                                    <a:pt x="29" y="78"/>
                                  </a:lnTo>
                                  <a:lnTo>
                                    <a:pt x="35" y="106"/>
                                  </a:lnTo>
                                  <a:lnTo>
                                    <a:pt x="41" y="148"/>
                                  </a:lnTo>
                                  <a:lnTo>
                                    <a:pt x="49" y="188"/>
                                  </a:lnTo>
                                  <a:lnTo>
                                    <a:pt x="61" y="240"/>
                                  </a:lnTo>
                                  <a:lnTo>
                                    <a:pt x="70" y="290"/>
                                  </a:lnTo>
                                  <a:lnTo>
                                    <a:pt x="79" y="334"/>
                                  </a:lnTo>
                                  <a:lnTo>
                                    <a:pt x="85" y="383"/>
                                  </a:lnTo>
                                  <a:lnTo>
                                    <a:pt x="92" y="427"/>
                                  </a:lnTo>
                                  <a:lnTo>
                                    <a:pt x="101" y="476"/>
                                  </a:lnTo>
                                  <a:lnTo>
                                    <a:pt x="111" y="516"/>
                                  </a:lnTo>
                                  <a:lnTo>
                                    <a:pt x="117" y="564"/>
                                  </a:lnTo>
                                  <a:lnTo>
                                    <a:pt x="113" y="610"/>
                                  </a:lnTo>
                                  <a:lnTo>
                                    <a:pt x="117" y="651"/>
                                  </a:lnTo>
                                  <a:lnTo>
                                    <a:pt x="120" y="703"/>
                                  </a:lnTo>
                                  <a:lnTo>
                                    <a:pt x="122" y="762"/>
                                  </a:lnTo>
                                  <a:lnTo>
                                    <a:pt x="126" y="825"/>
                                  </a:lnTo>
                                  <a:lnTo>
                                    <a:pt x="134" y="886"/>
                                  </a:lnTo>
                                  <a:lnTo>
                                    <a:pt x="140" y="928"/>
                                  </a:lnTo>
                                  <a:lnTo>
                                    <a:pt x="140" y="968"/>
                                  </a:lnTo>
                                  <a:lnTo>
                                    <a:pt x="142" y="1017"/>
                                  </a:lnTo>
                                  <a:lnTo>
                                    <a:pt x="138" y="1073"/>
                                  </a:lnTo>
                                  <a:lnTo>
                                    <a:pt x="137" y="1119"/>
                                  </a:lnTo>
                                  <a:lnTo>
                                    <a:pt x="132" y="1160"/>
                                  </a:lnTo>
                                  <a:lnTo>
                                    <a:pt x="133" y="1194"/>
                                  </a:lnTo>
                                  <a:lnTo>
                                    <a:pt x="151" y="1187"/>
                                  </a:lnTo>
                                  <a:lnTo>
                                    <a:pt x="163" y="1180"/>
                                  </a:lnTo>
                                  <a:lnTo>
                                    <a:pt x="174" y="1173"/>
                                  </a:lnTo>
                                  <a:lnTo>
                                    <a:pt x="182" y="1164"/>
                                  </a:lnTo>
                                  <a:lnTo>
                                    <a:pt x="184" y="1154"/>
                                  </a:lnTo>
                                  <a:lnTo>
                                    <a:pt x="182" y="1123"/>
                                  </a:lnTo>
                                  <a:lnTo>
                                    <a:pt x="180" y="1093"/>
                                  </a:lnTo>
                                  <a:lnTo>
                                    <a:pt x="182" y="1053"/>
                                  </a:lnTo>
                                  <a:lnTo>
                                    <a:pt x="185" y="1022"/>
                                  </a:lnTo>
                                  <a:lnTo>
                                    <a:pt x="188" y="995"/>
                                  </a:lnTo>
                                  <a:lnTo>
                                    <a:pt x="186" y="968"/>
                                  </a:lnTo>
                                  <a:lnTo>
                                    <a:pt x="184" y="932"/>
                                  </a:lnTo>
                                  <a:lnTo>
                                    <a:pt x="183" y="906"/>
                                  </a:lnTo>
                                  <a:lnTo>
                                    <a:pt x="181" y="878"/>
                                  </a:lnTo>
                                  <a:lnTo>
                                    <a:pt x="176" y="851"/>
                                  </a:lnTo>
                                  <a:lnTo>
                                    <a:pt x="171" y="821"/>
                                  </a:lnTo>
                                  <a:lnTo>
                                    <a:pt x="170" y="785"/>
                                  </a:lnTo>
                                  <a:lnTo>
                                    <a:pt x="168" y="756"/>
                                  </a:lnTo>
                                  <a:lnTo>
                                    <a:pt x="167" y="719"/>
                                  </a:lnTo>
                                  <a:lnTo>
                                    <a:pt x="165" y="681"/>
                                  </a:lnTo>
                                  <a:lnTo>
                                    <a:pt x="162" y="642"/>
                                  </a:lnTo>
                                  <a:lnTo>
                                    <a:pt x="157" y="598"/>
                                  </a:lnTo>
                                  <a:lnTo>
                                    <a:pt x="153" y="556"/>
                                  </a:lnTo>
                                  <a:lnTo>
                                    <a:pt x="150" y="517"/>
                                  </a:lnTo>
                                  <a:lnTo>
                                    <a:pt x="145" y="487"/>
                                  </a:lnTo>
                                  <a:lnTo>
                                    <a:pt x="141" y="454"/>
                                  </a:lnTo>
                                  <a:lnTo>
                                    <a:pt x="137" y="422"/>
                                  </a:lnTo>
                                  <a:lnTo>
                                    <a:pt x="132" y="387"/>
                                  </a:lnTo>
                                  <a:lnTo>
                                    <a:pt x="126" y="351"/>
                                  </a:lnTo>
                                  <a:lnTo>
                                    <a:pt x="120" y="311"/>
                                  </a:lnTo>
                                  <a:lnTo>
                                    <a:pt x="114" y="276"/>
                                  </a:lnTo>
                                  <a:lnTo>
                                    <a:pt x="105" y="232"/>
                                  </a:lnTo>
                                  <a:lnTo>
                                    <a:pt x="95" y="190"/>
                                  </a:lnTo>
                                  <a:lnTo>
                                    <a:pt x="85" y="137"/>
                                  </a:lnTo>
                                  <a:lnTo>
                                    <a:pt x="72" y="81"/>
                                  </a:lnTo>
                                  <a:lnTo>
                                    <a:pt x="61" y="37"/>
                                  </a:lnTo>
                                  <a:lnTo>
                                    <a:pt x="48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00004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6519" name=""/>
                          <p:cNvSpPr/>
                          <p:nvPr/>
                        </p:nvSpPr>
                        <p:spPr>
                          <a:xfrm>
                            <a:off x="4200840" y="2958120"/>
                            <a:ext cx="50760" cy="35496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06" h="1149">
                                <a:moveTo>
                                  <a:pt x="15" y="42"/>
                                </a:moveTo>
                                <a:lnTo>
                                  <a:pt x="0" y="0"/>
                                </a:lnTo>
                                <a:lnTo>
                                  <a:pt x="73" y="28"/>
                                </a:lnTo>
                                <a:lnTo>
                                  <a:pt x="77" y="57"/>
                                </a:lnTo>
                                <a:lnTo>
                                  <a:pt x="82" y="82"/>
                                </a:lnTo>
                                <a:lnTo>
                                  <a:pt x="90" y="111"/>
                                </a:lnTo>
                                <a:lnTo>
                                  <a:pt x="98" y="133"/>
                                </a:lnTo>
                                <a:lnTo>
                                  <a:pt x="108" y="159"/>
                                </a:lnTo>
                                <a:lnTo>
                                  <a:pt x="118" y="189"/>
                                </a:lnTo>
                                <a:lnTo>
                                  <a:pt x="124" y="217"/>
                                </a:lnTo>
                                <a:lnTo>
                                  <a:pt x="129" y="249"/>
                                </a:lnTo>
                                <a:lnTo>
                                  <a:pt x="135" y="281"/>
                                </a:lnTo>
                                <a:lnTo>
                                  <a:pt x="140" y="316"/>
                                </a:lnTo>
                                <a:lnTo>
                                  <a:pt x="149" y="351"/>
                                </a:lnTo>
                                <a:lnTo>
                                  <a:pt x="155" y="376"/>
                                </a:lnTo>
                                <a:lnTo>
                                  <a:pt x="163" y="407"/>
                                </a:lnTo>
                                <a:lnTo>
                                  <a:pt x="169" y="429"/>
                                </a:lnTo>
                                <a:lnTo>
                                  <a:pt x="174" y="452"/>
                                </a:lnTo>
                                <a:lnTo>
                                  <a:pt x="176" y="479"/>
                                </a:lnTo>
                                <a:lnTo>
                                  <a:pt x="178" y="505"/>
                                </a:lnTo>
                                <a:lnTo>
                                  <a:pt x="180" y="535"/>
                                </a:lnTo>
                                <a:lnTo>
                                  <a:pt x="185" y="574"/>
                                </a:lnTo>
                                <a:lnTo>
                                  <a:pt x="189" y="608"/>
                                </a:lnTo>
                                <a:lnTo>
                                  <a:pt x="193" y="644"/>
                                </a:lnTo>
                                <a:lnTo>
                                  <a:pt x="199" y="678"/>
                                </a:lnTo>
                                <a:lnTo>
                                  <a:pt x="201" y="708"/>
                                </a:lnTo>
                                <a:lnTo>
                                  <a:pt x="204" y="759"/>
                                </a:lnTo>
                                <a:lnTo>
                                  <a:pt x="205" y="795"/>
                                </a:lnTo>
                                <a:lnTo>
                                  <a:pt x="205" y="837"/>
                                </a:lnTo>
                                <a:lnTo>
                                  <a:pt x="206" y="864"/>
                                </a:lnTo>
                                <a:lnTo>
                                  <a:pt x="205" y="900"/>
                                </a:lnTo>
                                <a:lnTo>
                                  <a:pt x="203" y="942"/>
                                </a:lnTo>
                                <a:lnTo>
                                  <a:pt x="200" y="976"/>
                                </a:lnTo>
                                <a:lnTo>
                                  <a:pt x="202" y="1017"/>
                                </a:lnTo>
                                <a:lnTo>
                                  <a:pt x="203" y="1055"/>
                                </a:lnTo>
                                <a:lnTo>
                                  <a:pt x="199" y="1079"/>
                                </a:lnTo>
                                <a:lnTo>
                                  <a:pt x="195" y="1102"/>
                                </a:lnTo>
                                <a:lnTo>
                                  <a:pt x="191" y="1117"/>
                                </a:lnTo>
                                <a:lnTo>
                                  <a:pt x="192" y="1134"/>
                                </a:lnTo>
                                <a:lnTo>
                                  <a:pt x="197" y="1149"/>
                                </a:lnTo>
                                <a:lnTo>
                                  <a:pt x="169" y="1145"/>
                                </a:lnTo>
                                <a:lnTo>
                                  <a:pt x="153" y="1138"/>
                                </a:lnTo>
                                <a:lnTo>
                                  <a:pt x="134" y="1132"/>
                                </a:lnTo>
                                <a:lnTo>
                                  <a:pt x="117" y="1124"/>
                                </a:lnTo>
                                <a:lnTo>
                                  <a:pt x="123" y="1094"/>
                                </a:lnTo>
                                <a:lnTo>
                                  <a:pt x="126" y="1060"/>
                                </a:lnTo>
                                <a:lnTo>
                                  <a:pt x="129" y="1024"/>
                                </a:lnTo>
                                <a:lnTo>
                                  <a:pt x="133" y="980"/>
                                </a:lnTo>
                                <a:lnTo>
                                  <a:pt x="138" y="928"/>
                                </a:lnTo>
                                <a:lnTo>
                                  <a:pt x="141" y="868"/>
                                </a:lnTo>
                                <a:lnTo>
                                  <a:pt x="136" y="815"/>
                                </a:lnTo>
                                <a:lnTo>
                                  <a:pt x="135" y="761"/>
                                </a:lnTo>
                                <a:lnTo>
                                  <a:pt x="129" y="704"/>
                                </a:lnTo>
                                <a:lnTo>
                                  <a:pt x="123" y="653"/>
                                </a:lnTo>
                                <a:lnTo>
                                  <a:pt x="118" y="605"/>
                                </a:lnTo>
                                <a:lnTo>
                                  <a:pt x="114" y="562"/>
                                </a:lnTo>
                                <a:lnTo>
                                  <a:pt x="111" y="520"/>
                                </a:lnTo>
                                <a:lnTo>
                                  <a:pt x="108" y="483"/>
                                </a:lnTo>
                                <a:lnTo>
                                  <a:pt x="105" y="444"/>
                                </a:lnTo>
                                <a:lnTo>
                                  <a:pt x="99" y="401"/>
                                </a:lnTo>
                                <a:lnTo>
                                  <a:pt x="93" y="354"/>
                                </a:lnTo>
                                <a:lnTo>
                                  <a:pt x="81" y="314"/>
                                </a:lnTo>
                                <a:lnTo>
                                  <a:pt x="70" y="273"/>
                                </a:lnTo>
                                <a:lnTo>
                                  <a:pt x="59" y="238"/>
                                </a:lnTo>
                                <a:lnTo>
                                  <a:pt x="53" y="204"/>
                                </a:lnTo>
                                <a:lnTo>
                                  <a:pt x="48" y="166"/>
                                </a:lnTo>
                                <a:lnTo>
                                  <a:pt x="43" y="128"/>
                                </a:lnTo>
                                <a:lnTo>
                                  <a:pt x="30" y="85"/>
                                </a:lnTo>
                                <a:lnTo>
                                  <a:pt x="15" y="42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4040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6520" name=""/>
                        <p:cNvSpPr/>
                        <p:nvPr/>
                      </p:nvSpPr>
                      <p:spPr>
                        <a:xfrm>
                          <a:off x="4236840" y="2970720"/>
                          <a:ext cx="33120" cy="3189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38" h="1036">
                              <a:moveTo>
                                <a:pt x="0" y="0"/>
                              </a:moveTo>
                              <a:lnTo>
                                <a:pt x="13" y="33"/>
                              </a:lnTo>
                              <a:lnTo>
                                <a:pt x="26" y="64"/>
                              </a:lnTo>
                              <a:lnTo>
                                <a:pt x="37" y="97"/>
                              </a:lnTo>
                              <a:lnTo>
                                <a:pt x="47" y="134"/>
                              </a:lnTo>
                              <a:lnTo>
                                <a:pt x="55" y="168"/>
                              </a:lnTo>
                              <a:lnTo>
                                <a:pt x="63" y="203"/>
                              </a:lnTo>
                              <a:lnTo>
                                <a:pt x="71" y="246"/>
                              </a:lnTo>
                              <a:lnTo>
                                <a:pt x="79" y="298"/>
                              </a:lnTo>
                              <a:lnTo>
                                <a:pt x="88" y="352"/>
                              </a:lnTo>
                              <a:lnTo>
                                <a:pt x="94" y="388"/>
                              </a:lnTo>
                              <a:lnTo>
                                <a:pt x="102" y="434"/>
                              </a:lnTo>
                              <a:lnTo>
                                <a:pt x="108" y="479"/>
                              </a:lnTo>
                              <a:lnTo>
                                <a:pt x="111" y="522"/>
                              </a:lnTo>
                              <a:lnTo>
                                <a:pt x="114" y="569"/>
                              </a:lnTo>
                              <a:lnTo>
                                <a:pt x="117" y="616"/>
                              </a:lnTo>
                              <a:lnTo>
                                <a:pt x="120" y="671"/>
                              </a:lnTo>
                              <a:lnTo>
                                <a:pt x="124" y="722"/>
                              </a:lnTo>
                              <a:lnTo>
                                <a:pt x="128" y="777"/>
                              </a:lnTo>
                              <a:lnTo>
                                <a:pt x="131" y="818"/>
                              </a:lnTo>
                              <a:lnTo>
                                <a:pt x="136" y="854"/>
                              </a:lnTo>
                              <a:lnTo>
                                <a:pt x="138" y="898"/>
                              </a:lnTo>
                              <a:lnTo>
                                <a:pt x="137" y="942"/>
                              </a:lnTo>
                              <a:lnTo>
                                <a:pt x="135" y="986"/>
                              </a:lnTo>
                              <a:lnTo>
                                <a:pt x="133" y="1036"/>
                              </a:lnTo>
                            </a:path>
                          </a:pathLst>
                        </a:custGeom>
                        <a:noFill/>
                        <a:ln w="4680">
                          <a:solidFill>
                            <a:srgbClr val="c0c0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6521" name=""/>
                    <p:cNvGrpSpPr/>
                    <p:nvPr/>
                  </p:nvGrpSpPr>
                  <p:grpSpPr>
                    <a:xfrm>
                      <a:off x="4192200" y="2929680"/>
                      <a:ext cx="65160" cy="39600"/>
                      <a:chOff x="4192200" y="2929680"/>
                      <a:chExt cx="65160" cy="39600"/>
                    </a:xfrm>
                  </p:grpSpPr>
                  <p:sp>
                    <p:nvSpPr>
                      <p:cNvPr id="6522" name=""/>
                      <p:cNvSpPr/>
                      <p:nvPr/>
                    </p:nvSpPr>
                    <p:spPr>
                      <a:xfrm>
                        <a:off x="4192200" y="2929680"/>
                        <a:ext cx="65160" cy="39600"/>
                      </a:xfrm>
                      <a:prstGeom prst="ellipse">
                        <a:avLst/>
                      </a:prstGeom>
                      <a:solidFill>
                        <a:srgbClr val="4040ff"/>
                      </a:solidFill>
                      <a:ln w="3240">
                        <a:solidFill>
                          <a:srgbClr val="00002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8720" bIns="-187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523" name=""/>
                      <p:cNvSpPr/>
                      <p:nvPr/>
                    </p:nvSpPr>
                    <p:spPr>
                      <a:xfrm>
                        <a:off x="4199400" y="2934000"/>
                        <a:ext cx="50400" cy="30240"/>
                      </a:xfrm>
                      <a:prstGeom prst="ellipse">
                        <a:avLst/>
                      </a:prstGeom>
                      <a:solidFill>
                        <a:srgbClr val="000080"/>
                      </a:solidFill>
                      <a:ln w="3240">
                        <a:solidFill>
                          <a:srgbClr val="00002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200" bIns="-252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524" name=""/>
                      <p:cNvSpPr/>
                      <p:nvPr/>
                    </p:nvSpPr>
                    <p:spPr>
                      <a:xfrm>
                        <a:off x="4201920" y="2937240"/>
                        <a:ext cx="42840" cy="22680"/>
                      </a:xfrm>
                      <a:prstGeom prst="ellipse">
                        <a:avLst/>
                      </a:prstGeom>
                      <a:solidFill>
                        <a:srgbClr val="400040"/>
                      </a:solidFill>
                      <a:ln w="3240">
                        <a:solidFill>
                          <a:srgbClr val="00002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0600" bIns="-306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6525" name=""/>
                <p:cNvGrpSpPr/>
                <p:nvPr/>
              </p:nvGrpSpPr>
              <p:grpSpPr>
                <a:xfrm>
                  <a:off x="4315680" y="2286000"/>
                  <a:ext cx="41400" cy="432360"/>
                  <a:chOff x="4315680" y="2286000"/>
                  <a:chExt cx="41400" cy="432360"/>
                </a:xfrm>
              </p:grpSpPr>
              <p:grpSp>
                <p:nvGrpSpPr>
                  <p:cNvPr id="6526" name=""/>
                  <p:cNvGrpSpPr/>
                  <p:nvPr/>
                </p:nvGrpSpPr>
                <p:grpSpPr>
                  <a:xfrm>
                    <a:off x="4315680" y="2303280"/>
                    <a:ext cx="41400" cy="415080"/>
                    <a:chOff x="4315680" y="2303280"/>
                    <a:chExt cx="41400" cy="415080"/>
                  </a:xfrm>
                </p:grpSpPr>
                <p:sp>
                  <p:nvSpPr>
                    <p:cNvPr id="6527" name=""/>
                    <p:cNvSpPr/>
                    <p:nvPr/>
                  </p:nvSpPr>
                  <p:spPr>
                    <a:xfrm>
                      <a:off x="4315680" y="2303280"/>
                      <a:ext cx="41400" cy="415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10" h="1199">
                          <a:moveTo>
                            <a:pt x="270" y="0"/>
                          </a:moveTo>
                          <a:lnTo>
                            <a:pt x="0" y="18"/>
                          </a:lnTo>
                          <a:lnTo>
                            <a:pt x="3" y="47"/>
                          </a:lnTo>
                          <a:lnTo>
                            <a:pt x="9" y="79"/>
                          </a:lnTo>
                          <a:lnTo>
                            <a:pt x="16" y="113"/>
                          </a:lnTo>
                          <a:lnTo>
                            <a:pt x="22" y="152"/>
                          </a:lnTo>
                          <a:lnTo>
                            <a:pt x="31" y="198"/>
                          </a:lnTo>
                          <a:lnTo>
                            <a:pt x="41" y="242"/>
                          </a:lnTo>
                          <a:lnTo>
                            <a:pt x="49" y="279"/>
                          </a:lnTo>
                          <a:lnTo>
                            <a:pt x="58" y="315"/>
                          </a:lnTo>
                          <a:lnTo>
                            <a:pt x="66" y="354"/>
                          </a:lnTo>
                          <a:lnTo>
                            <a:pt x="75" y="397"/>
                          </a:lnTo>
                          <a:lnTo>
                            <a:pt x="83" y="442"/>
                          </a:lnTo>
                          <a:lnTo>
                            <a:pt x="92" y="490"/>
                          </a:lnTo>
                          <a:lnTo>
                            <a:pt x="97" y="517"/>
                          </a:lnTo>
                          <a:lnTo>
                            <a:pt x="101" y="552"/>
                          </a:lnTo>
                          <a:lnTo>
                            <a:pt x="106" y="593"/>
                          </a:lnTo>
                          <a:lnTo>
                            <a:pt x="110" y="631"/>
                          </a:lnTo>
                          <a:lnTo>
                            <a:pt x="117" y="679"/>
                          </a:lnTo>
                          <a:lnTo>
                            <a:pt x="123" y="729"/>
                          </a:lnTo>
                          <a:lnTo>
                            <a:pt x="127" y="769"/>
                          </a:lnTo>
                          <a:lnTo>
                            <a:pt x="128" y="809"/>
                          </a:lnTo>
                          <a:lnTo>
                            <a:pt x="130" y="843"/>
                          </a:lnTo>
                          <a:lnTo>
                            <a:pt x="133" y="887"/>
                          </a:lnTo>
                          <a:lnTo>
                            <a:pt x="135" y="932"/>
                          </a:lnTo>
                          <a:lnTo>
                            <a:pt x="133" y="974"/>
                          </a:lnTo>
                          <a:lnTo>
                            <a:pt x="134" y="1024"/>
                          </a:lnTo>
                          <a:lnTo>
                            <a:pt x="136" y="1054"/>
                          </a:lnTo>
                          <a:lnTo>
                            <a:pt x="134" y="1079"/>
                          </a:lnTo>
                          <a:lnTo>
                            <a:pt x="132" y="1110"/>
                          </a:lnTo>
                          <a:lnTo>
                            <a:pt x="133" y="1131"/>
                          </a:lnTo>
                          <a:lnTo>
                            <a:pt x="138" y="1145"/>
                          </a:lnTo>
                          <a:lnTo>
                            <a:pt x="146" y="1159"/>
                          </a:lnTo>
                          <a:lnTo>
                            <a:pt x="158" y="1170"/>
                          </a:lnTo>
                          <a:lnTo>
                            <a:pt x="175" y="1178"/>
                          </a:lnTo>
                          <a:lnTo>
                            <a:pt x="191" y="1183"/>
                          </a:lnTo>
                          <a:lnTo>
                            <a:pt x="212" y="1190"/>
                          </a:lnTo>
                          <a:lnTo>
                            <a:pt x="240" y="1195"/>
                          </a:lnTo>
                          <a:lnTo>
                            <a:pt x="266" y="1196"/>
                          </a:lnTo>
                          <a:lnTo>
                            <a:pt x="292" y="1198"/>
                          </a:lnTo>
                          <a:lnTo>
                            <a:pt x="315" y="1199"/>
                          </a:lnTo>
                          <a:lnTo>
                            <a:pt x="336" y="1197"/>
                          </a:lnTo>
                          <a:lnTo>
                            <a:pt x="354" y="1194"/>
                          </a:lnTo>
                          <a:lnTo>
                            <a:pt x="373" y="1187"/>
                          </a:lnTo>
                          <a:lnTo>
                            <a:pt x="385" y="1180"/>
                          </a:lnTo>
                          <a:lnTo>
                            <a:pt x="396" y="1173"/>
                          </a:lnTo>
                          <a:lnTo>
                            <a:pt x="404" y="1164"/>
                          </a:lnTo>
                          <a:lnTo>
                            <a:pt x="406" y="1154"/>
                          </a:lnTo>
                          <a:lnTo>
                            <a:pt x="404" y="1123"/>
                          </a:lnTo>
                          <a:lnTo>
                            <a:pt x="402" y="1093"/>
                          </a:lnTo>
                          <a:lnTo>
                            <a:pt x="404" y="1053"/>
                          </a:lnTo>
                          <a:lnTo>
                            <a:pt x="407" y="1022"/>
                          </a:lnTo>
                          <a:lnTo>
                            <a:pt x="410" y="995"/>
                          </a:lnTo>
                          <a:lnTo>
                            <a:pt x="408" y="968"/>
                          </a:lnTo>
                          <a:lnTo>
                            <a:pt x="406" y="932"/>
                          </a:lnTo>
                          <a:lnTo>
                            <a:pt x="405" y="906"/>
                          </a:lnTo>
                          <a:lnTo>
                            <a:pt x="403" y="878"/>
                          </a:lnTo>
                          <a:lnTo>
                            <a:pt x="398" y="851"/>
                          </a:lnTo>
                          <a:lnTo>
                            <a:pt x="393" y="821"/>
                          </a:lnTo>
                          <a:lnTo>
                            <a:pt x="392" y="785"/>
                          </a:lnTo>
                          <a:lnTo>
                            <a:pt x="390" y="756"/>
                          </a:lnTo>
                          <a:lnTo>
                            <a:pt x="389" y="719"/>
                          </a:lnTo>
                          <a:lnTo>
                            <a:pt x="387" y="681"/>
                          </a:lnTo>
                          <a:lnTo>
                            <a:pt x="384" y="642"/>
                          </a:lnTo>
                          <a:lnTo>
                            <a:pt x="379" y="598"/>
                          </a:lnTo>
                          <a:lnTo>
                            <a:pt x="375" y="556"/>
                          </a:lnTo>
                          <a:lnTo>
                            <a:pt x="371" y="517"/>
                          </a:lnTo>
                          <a:lnTo>
                            <a:pt x="367" y="487"/>
                          </a:lnTo>
                          <a:lnTo>
                            <a:pt x="362" y="454"/>
                          </a:lnTo>
                          <a:lnTo>
                            <a:pt x="358" y="422"/>
                          </a:lnTo>
                          <a:lnTo>
                            <a:pt x="353" y="387"/>
                          </a:lnTo>
                          <a:lnTo>
                            <a:pt x="347" y="351"/>
                          </a:lnTo>
                          <a:lnTo>
                            <a:pt x="341" y="311"/>
                          </a:lnTo>
                          <a:lnTo>
                            <a:pt x="335" y="276"/>
                          </a:lnTo>
                          <a:lnTo>
                            <a:pt x="325" y="232"/>
                          </a:lnTo>
                          <a:lnTo>
                            <a:pt x="316" y="190"/>
                          </a:lnTo>
                          <a:lnTo>
                            <a:pt x="307" y="137"/>
                          </a:lnTo>
                          <a:lnTo>
                            <a:pt x="294" y="81"/>
                          </a:lnTo>
                          <a:lnTo>
                            <a:pt x="283" y="37"/>
                          </a:lnTo>
                          <a:lnTo>
                            <a:pt x="270" y="0"/>
                          </a:lnTo>
                          <a:close/>
                        </a:path>
                      </a:pathLst>
                    </a:custGeom>
                    <a:solidFill>
                      <a:srgbClr val="ff33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6528" name=""/>
                    <p:cNvGrpSpPr/>
                    <p:nvPr/>
                  </p:nvGrpSpPr>
                  <p:grpSpPr>
                    <a:xfrm>
                      <a:off x="4315680" y="2303280"/>
                      <a:ext cx="41400" cy="412920"/>
                      <a:chOff x="4315680" y="2303280"/>
                      <a:chExt cx="41400" cy="412920"/>
                    </a:xfrm>
                  </p:grpSpPr>
                  <p:grpSp>
                    <p:nvGrpSpPr>
                      <p:cNvPr id="6529" name=""/>
                      <p:cNvGrpSpPr/>
                      <p:nvPr/>
                    </p:nvGrpSpPr>
                    <p:grpSpPr>
                      <a:xfrm>
                        <a:off x="4315680" y="2303280"/>
                        <a:ext cx="41400" cy="412920"/>
                        <a:chOff x="4315680" y="2303280"/>
                        <a:chExt cx="41400" cy="412920"/>
                      </a:xfrm>
                    </p:grpSpPr>
                    <p:grpSp>
                      <p:nvGrpSpPr>
                        <p:cNvPr id="6530" name=""/>
                        <p:cNvGrpSpPr/>
                        <p:nvPr/>
                      </p:nvGrpSpPr>
                      <p:grpSpPr>
                        <a:xfrm>
                          <a:off x="4315680" y="2303280"/>
                          <a:ext cx="41400" cy="412560"/>
                          <a:chOff x="4315680" y="2303280"/>
                          <a:chExt cx="41400" cy="412560"/>
                        </a:xfrm>
                      </p:grpSpPr>
                      <p:sp>
                        <p:nvSpPr>
                          <p:cNvPr id="6531" name=""/>
                          <p:cNvSpPr/>
                          <p:nvPr/>
                        </p:nvSpPr>
                        <p:spPr>
                          <a:xfrm>
                            <a:off x="4315680" y="2309760"/>
                            <a:ext cx="18000" cy="3974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81" h="1152">
                                <a:moveTo>
                                  <a:pt x="55" y="70"/>
                                </a:moveTo>
                                <a:lnTo>
                                  <a:pt x="41" y="28"/>
                                </a:lnTo>
                                <a:lnTo>
                                  <a:pt x="0" y="0"/>
                                </a:lnTo>
                                <a:lnTo>
                                  <a:pt x="3" y="29"/>
                                </a:lnTo>
                                <a:lnTo>
                                  <a:pt x="9" y="61"/>
                                </a:lnTo>
                                <a:lnTo>
                                  <a:pt x="16" y="95"/>
                                </a:lnTo>
                                <a:lnTo>
                                  <a:pt x="22" y="134"/>
                                </a:lnTo>
                                <a:lnTo>
                                  <a:pt x="31" y="180"/>
                                </a:lnTo>
                                <a:lnTo>
                                  <a:pt x="41" y="224"/>
                                </a:lnTo>
                                <a:lnTo>
                                  <a:pt x="48" y="261"/>
                                </a:lnTo>
                                <a:lnTo>
                                  <a:pt x="56" y="297"/>
                                </a:lnTo>
                                <a:lnTo>
                                  <a:pt x="65" y="336"/>
                                </a:lnTo>
                                <a:lnTo>
                                  <a:pt x="74" y="379"/>
                                </a:lnTo>
                                <a:lnTo>
                                  <a:pt x="82" y="424"/>
                                </a:lnTo>
                                <a:lnTo>
                                  <a:pt x="91" y="472"/>
                                </a:lnTo>
                                <a:lnTo>
                                  <a:pt x="96" y="499"/>
                                </a:lnTo>
                                <a:lnTo>
                                  <a:pt x="100" y="534"/>
                                </a:lnTo>
                                <a:lnTo>
                                  <a:pt x="106" y="575"/>
                                </a:lnTo>
                                <a:lnTo>
                                  <a:pt x="110" y="613"/>
                                </a:lnTo>
                                <a:lnTo>
                                  <a:pt x="117" y="661"/>
                                </a:lnTo>
                                <a:lnTo>
                                  <a:pt x="123" y="711"/>
                                </a:lnTo>
                                <a:lnTo>
                                  <a:pt x="127" y="751"/>
                                </a:lnTo>
                                <a:lnTo>
                                  <a:pt x="128" y="791"/>
                                </a:lnTo>
                                <a:lnTo>
                                  <a:pt x="130" y="825"/>
                                </a:lnTo>
                                <a:lnTo>
                                  <a:pt x="133" y="868"/>
                                </a:lnTo>
                                <a:lnTo>
                                  <a:pt x="135" y="914"/>
                                </a:lnTo>
                                <a:lnTo>
                                  <a:pt x="133" y="956"/>
                                </a:lnTo>
                                <a:lnTo>
                                  <a:pt x="134" y="1006"/>
                                </a:lnTo>
                                <a:lnTo>
                                  <a:pt x="136" y="1036"/>
                                </a:lnTo>
                                <a:lnTo>
                                  <a:pt x="134" y="1061"/>
                                </a:lnTo>
                                <a:lnTo>
                                  <a:pt x="132" y="1091"/>
                                </a:lnTo>
                                <a:lnTo>
                                  <a:pt x="133" y="1113"/>
                                </a:lnTo>
                                <a:lnTo>
                                  <a:pt x="137" y="1127"/>
                                </a:lnTo>
                                <a:lnTo>
                                  <a:pt x="145" y="1141"/>
                                </a:lnTo>
                                <a:lnTo>
                                  <a:pt x="157" y="1152"/>
                                </a:lnTo>
                                <a:lnTo>
                                  <a:pt x="163" y="1122"/>
                                </a:lnTo>
                                <a:lnTo>
                                  <a:pt x="166" y="1088"/>
                                </a:lnTo>
                                <a:lnTo>
                                  <a:pt x="169" y="1051"/>
                                </a:lnTo>
                                <a:lnTo>
                                  <a:pt x="173" y="1008"/>
                                </a:lnTo>
                                <a:lnTo>
                                  <a:pt x="178" y="956"/>
                                </a:lnTo>
                                <a:lnTo>
                                  <a:pt x="181" y="896"/>
                                </a:lnTo>
                                <a:lnTo>
                                  <a:pt x="176" y="843"/>
                                </a:lnTo>
                                <a:lnTo>
                                  <a:pt x="175" y="789"/>
                                </a:lnTo>
                                <a:lnTo>
                                  <a:pt x="169" y="731"/>
                                </a:lnTo>
                                <a:lnTo>
                                  <a:pt x="163" y="681"/>
                                </a:lnTo>
                                <a:lnTo>
                                  <a:pt x="158" y="633"/>
                                </a:lnTo>
                                <a:lnTo>
                                  <a:pt x="154" y="590"/>
                                </a:lnTo>
                                <a:lnTo>
                                  <a:pt x="151" y="548"/>
                                </a:lnTo>
                                <a:lnTo>
                                  <a:pt x="148" y="511"/>
                                </a:lnTo>
                                <a:lnTo>
                                  <a:pt x="145" y="472"/>
                                </a:lnTo>
                                <a:lnTo>
                                  <a:pt x="139" y="429"/>
                                </a:lnTo>
                                <a:lnTo>
                                  <a:pt x="134" y="382"/>
                                </a:lnTo>
                                <a:lnTo>
                                  <a:pt x="122" y="342"/>
                                </a:lnTo>
                                <a:lnTo>
                                  <a:pt x="111" y="300"/>
                                </a:lnTo>
                                <a:lnTo>
                                  <a:pt x="100" y="266"/>
                                </a:lnTo>
                                <a:lnTo>
                                  <a:pt x="94" y="232"/>
                                </a:lnTo>
                                <a:lnTo>
                                  <a:pt x="88" y="194"/>
                                </a:lnTo>
                                <a:lnTo>
                                  <a:pt x="83" y="156"/>
                                </a:lnTo>
                                <a:lnTo>
                                  <a:pt x="70" y="113"/>
                                </a:lnTo>
                                <a:lnTo>
                                  <a:pt x="55" y="7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ff330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6532" name=""/>
                          <p:cNvSpPr/>
                          <p:nvPr/>
                        </p:nvSpPr>
                        <p:spPr>
                          <a:xfrm>
                            <a:off x="4338360" y="2303280"/>
                            <a:ext cx="18720" cy="41256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88" h="1194">
                                <a:moveTo>
                                  <a:pt x="48" y="0"/>
                                </a:moveTo>
                                <a:lnTo>
                                  <a:pt x="0" y="38"/>
                                </a:lnTo>
                                <a:lnTo>
                                  <a:pt x="17" y="57"/>
                                </a:lnTo>
                                <a:lnTo>
                                  <a:pt x="29" y="78"/>
                                </a:lnTo>
                                <a:lnTo>
                                  <a:pt x="35" y="106"/>
                                </a:lnTo>
                                <a:lnTo>
                                  <a:pt x="41" y="148"/>
                                </a:lnTo>
                                <a:lnTo>
                                  <a:pt x="49" y="188"/>
                                </a:lnTo>
                                <a:lnTo>
                                  <a:pt x="61" y="240"/>
                                </a:lnTo>
                                <a:lnTo>
                                  <a:pt x="70" y="290"/>
                                </a:lnTo>
                                <a:lnTo>
                                  <a:pt x="79" y="334"/>
                                </a:lnTo>
                                <a:lnTo>
                                  <a:pt x="85" y="383"/>
                                </a:lnTo>
                                <a:lnTo>
                                  <a:pt x="92" y="427"/>
                                </a:lnTo>
                                <a:lnTo>
                                  <a:pt x="101" y="476"/>
                                </a:lnTo>
                                <a:lnTo>
                                  <a:pt x="111" y="516"/>
                                </a:lnTo>
                                <a:lnTo>
                                  <a:pt x="117" y="564"/>
                                </a:lnTo>
                                <a:lnTo>
                                  <a:pt x="113" y="610"/>
                                </a:lnTo>
                                <a:lnTo>
                                  <a:pt x="117" y="651"/>
                                </a:lnTo>
                                <a:lnTo>
                                  <a:pt x="120" y="703"/>
                                </a:lnTo>
                                <a:lnTo>
                                  <a:pt x="122" y="762"/>
                                </a:lnTo>
                                <a:lnTo>
                                  <a:pt x="126" y="825"/>
                                </a:lnTo>
                                <a:lnTo>
                                  <a:pt x="134" y="886"/>
                                </a:lnTo>
                                <a:lnTo>
                                  <a:pt x="140" y="928"/>
                                </a:lnTo>
                                <a:lnTo>
                                  <a:pt x="140" y="968"/>
                                </a:lnTo>
                                <a:lnTo>
                                  <a:pt x="142" y="1017"/>
                                </a:lnTo>
                                <a:lnTo>
                                  <a:pt x="138" y="1073"/>
                                </a:lnTo>
                                <a:lnTo>
                                  <a:pt x="137" y="1119"/>
                                </a:lnTo>
                                <a:lnTo>
                                  <a:pt x="132" y="1160"/>
                                </a:lnTo>
                                <a:lnTo>
                                  <a:pt x="133" y="1194"/>
                                </a:lnTo>
                                <a:lnTo>
                                  <a:pt x="151" y="1187"/>
                                </a:lnTo>
                                <a:lnTo>
                                  <a:pt x="163" y="1180"/>
                                </a:lnTo>
                                <a:lnTo>
                                  <a:pt x="174" y="1173"/>
                                </a:lnTo>
                                <a:lnTo>
                                  <a:pt x="182" y="1164"/>
                                </a:lnTo>
                                <a:lnTo>
                                  <a:pt x="184" y="1154"/>
                                </a:lnTo>
                                <a:lnTo>
                                  <a:pt x="182" y="1123"/>
                                </a:lnTo>
                                <a:lnTo>
                                  <a:pt x="180" y="1093"/>
                                </a:lnTo>
                                <a:lnTo>
                                  <a:pt x="182" y="1053"/>
                                </a:lnTo>
                                <a:lnTo>
                                  <a:pt x="185" y="1022"/>
                                </a:lnTo>
                                <a:lnTo>
                                  <a:pt x="188" y="995"/>
                                </a:lnTo>
                                <a:lnTo>
                                  <a:pt x="186" y="968"/>
                                </a:lnTo>
                                <a:lnTo>
                                  <a:pt x="184" y="932"/>
                                </a:lnTo>
                                <a:lnTo>
                                  <a:pt x="183" y="906"/>
                                </a:lnTo>
                                <a:lnTo>
                                  <a:pt x="181" y="878"/>
                                </a:lnTo>
                                <a:lnTo>
                                  <a:pt x="176" y="851"/>
                                </a:lnTo>
                                <a:lnTo>
                                  <a:pt x="171" y="821"/>
                                </a:lnTo>
                                <a:lnTo>
                                  <a:pt x="170" y="785"/>
                                </a:lnTo>
                                <a:lnTo>
                                  <a:pt x="168" y="756"/>
                                </a:lnTo>
                                <a:lnTo>
                                  <a:pt x="167" y="719"/>
                                </a:lnTo>
                                <a:lnTo>
                                  <a:pt x="165" y="681"/>
                                </a:lnTo>
                                <a:lnTo>
                                  <a:pt x="162" y="642"/>
                                </a:lnTo>
                                <a:lnTo>
                                  <a:pt x="157" y="598"/>
                                </a:lnTo>
                                <a:lnTo>
                                  <a:pt x="153" y="556"/>
                                </a:lnTo>
                                <a:lnTo>
                                  <a:pt x="150" y="517"/>
                                </a:lnTo>
                                <a:lnTo>
                                  <a:pt x="145" y="487"/>
                                </a:lnTo>
                                <a:lnTo>
                                  <a:pt x="141" y="454"/>
                                </a:lnTo>
                                <a:lnTo>
                                  <a:pt x="137" y="422"/>
                                </a:lnTo>
                                <a:lnTo>
                                  <a:pt x="132" y="387"/>
                                </a:lnTo>
                                <a:lnTo>
                                  <a:pt x="126" y="351"/>
                                </a:lnTo>
                                <a:lnTo>
                                  <a:pt x="120" y="311"/>
                                </a:lnTo>
                                <a:lnTo>
                                  <a:pt x="114" y="276"/>
                                </a:lnTo>
                                <a:lnTo>
                                  <a:pt x="105" y="232"/>
                                </a:lnTo>
                                <a:lnTo>
                                  <a:pt x="95" y="190"/>
                                </a:lnTo>
                                <a:lnTo>
                                  <a:pt x="85" y="137"/>
                                </a:lnTo>
                                <a:lnTo>
                                  <a:pt x="72" y="81"/>
                                </a:lnTo>
                                <a:lnTo>
                                  <a:pt x="61" y="37"/>
                                </a:lnTo>
                                <a:lnTo>
                                  <a:pt x="48" y="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ff330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6533" name=""/>
                        <p:cNvSpPr/>
                        <p:nvPr/>
                      </p:nvSpPr>
                      <p:spPr>
                        <a:xfrm>
                          <a:off x="4319640" y="2318400"/>
                          <a:ext cx="20520" cy="3978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6" h="1149">
                              <a:moveTo>
                                <a:pt x="15" y="42"/>
                              </a:moveTo>
                              <a:lnTo>
                                <a:pt x="0" y="0"/>
                              </a:lnTo>
                              <a:lnTo>
                                <a:pt x="73" y="28"/>
                              </a:lnTo>
                              <a:lnTo>
                                <a:pt x="77" y="57"/>
                              </a:lnTo>
                              <a:lnTo>
                                <a:pt x="82" y="82"/>
                              </a:lnTo>
                              <a:lnTo>
                                <a:pt x="90" y="111"/>
                              </a:lnTo>
                              <a:lnTo>
                                <a:pt x="98" y="133"/>
                              </a:lnTo>
                              <a:lnTo>
                                <a:pt x="108" y="159"/>
                              </a:lnTo>
                              <a:lnTo>
                                <a:pt x="118" y="189"/>
                              </a:lnTo>
                              <a:lnTo>
                                <a:pt x="124" y="217"/>
                              </a:lnTo>
                              <a:lnTo>
                                <a:pt x="129" y="249"/>
                              </a:lnTo>
                              <a:lnTo>
                                <a:pt x="135" y="281"/>
                              </a:lnTo>
                              <a:lnTo>
                                <a:pt x="140" y="316"/>
                              </a:lnTo>
                              <a:lnTo>
                                <a:pt x="149" y="351"/>
                              </a:lnTo>
                              <a:lnTo>
                                <a:pt x="155" y="376"/>
                              </a:lnTo>
                              <a:lnTo>
                                <a:pt x="163" y="407"/>
                              </a:lnTo>
                              <a:lnTo>
                                <a:pt x="169" y="429"/>
                              </a:lnTo>
                              <a:lnTo>
                                <a:pt x="174" y="452"/>
                              </a:lnTo>
                              <a:lnTo>
                                <a:pt x="176" y="479"/>
                              </a:lnTo>
                              <a:lnTo>
                                <a:pt x="178" y="505"/>
                              </a:lnTo>
                              <a:lnTo>
                                <a:pt x="180" y="535"/>
                              </a:lnTo>
                              <a:lnTo>
                                <a:pt x="185" y="574"/>
                              </a:lnTo>
                              <a:lnTo>
                                <a:pt x="189" y="608"/>
                              </a:lnTo>
                              <a:lnTo>
                                <a:pt x="193" y="644"/>
                              </a:lnTo>
                              <a:lnTo>
                                <a:pt x="199" y="678"/>
                              </a:lnTo>
                              <a:lnTo>
                                <a:pt x="201" y="708"/>
                              </a:lnTo>
                              <a:lnTo>
                                <a:pt x="204" y="759"/>
                              </a:lnTo>
                              <a:lnTo>
                                <a:pt x="205" y="795"/>
                              </a:lnTo>
                              <a:lnTo>
                                <a:pt x="205" y="837"/>
                              </a:lnTo>
                              <a:lnTo>
                                <a:pt x="206" y="864"/>
                              </a:lnTo>
                              <a:lnTo>
                                <a:pt x="205" y="900"/>
                              </a:lnTo>
                              <a:lnTo>
                                <a:pt x="203" y="942"/>
                              </a:lnTo>
                              <a:lnTo>
                                <a:pt x="200" y="976"/>
                              </a:lnTo>
                              <a:lnTo>
                                <a:pt x="202" y="1017"/>
                              </a:lnTo>
                              <a:lnTo>
                                <a:pt x="203" y="1055"/>
                              </a:lnTo>
                              <a:lnTo>
                                <a:pt x="199" y="1079"/>
                              </a:lnTo>
                              <a:lnTo>
                                <a:pt x="195" y="1102"/>
                              </a:lnTo>
                              <a:lnTo>
                                <a:pt x="191" y="1117"/>
                              </a:lnTo>
                              <a:lnTo>
                                <a:pt x="192" y="1134"/>
                              </a:lnTo>
                              <a:lnTo>
                                <a:pt x="197" y="1149"/>
                              </a:lnTo>
                              <a:lnTo>
                                <a:pt x="169" y="1145"/>
                              </a:lnTo>
                              <a:lnTo>
                                <a:pt x="153" y="1138"/>
                              </a:lnTo>
                              <a:lnTo>
                                <a:pt x="134" y="1132"/>
                              </a:lnTo>
                              <a:lnTo>
                                <a:pt x="117" y="1124"/>
                              </a:lnTo>
                              <a:lnTo>
                                <a:pt x="123" y="1094"/>
                              </a:lnTo>
                              <a:lnTo>
                                <a:pt x="126" y="1060"/>
                              </a:lnTo>
                              <a:lnTo>
                                <a:pt x="129" y="1024"/>
                              </a:lnTo>
                              <a:lnTo>
                                <a:pt x="133" y="980"/>
                              </a:lnTo>
                              <a:lnTo>
                                <a:pt x="138" y="928"/>
                              </a:lnTo>
                              <a:lnTo>
                                <a:pt x="141" y="868"/>
                              </a:lnTo>
                              <a:lnTo>
                                <a:pt x="136" y="815"/>
                              </a:lnTo>
                              <a:lnTo>
                                <a:pt x="135" y="761"/>
                              </a:lnTo>
                              <a:lnTo>
                                <a:pt x="129" y="704"/>
                              </a:lnTo>
                              <a:lnTo>
                                <a:pt x="123" y="653"/>
                              </a:lnTo>
                              <a:lnTo>
                                <a:pt x="118" y="605"/>
                              </a:lnTo>
                              <a:lnTo>
                                <a:pt x="114" y="562"/>
                              </a:lnTo>
                              <a:lnTo>
                                <a:pt x="111" y="520"/>
                              </a:lnTo>
                              <a:lnTo>
                                <a:pt x="108" y="483"/>
                              </a:lnTo>
                              <a:lnTo>
                                <a:pt x="105" y="444"/>
                              </a:lnTo>
                              <a:lnTo>
                                <a:pt x="99" y="401"/>
                              </a:lnTo>
                              <a:lnTo>
                                <a:pt x="93" y="354"/>
                              </a:lnTo>
                              <a:lnTo>
                                <a:pt x="81" y="314"/>
                              </a:lnTo>
                              <a:lnTo>
                                <a:pt x="70" y="273"/>
                              </a:lnTo>
                              <a:lnTo>
                                <a:pt x="59" y="238"/>
                              </a:lnTo>
                              <a:lnTo>
                                <a:pt x="53" y="204"/>
                              </a:lnTo>
                              <a:lnTo>
                                <a:pt x="48" y="166"/>
                              </a:lnTo>
                              <a:lnTo>
                                <a:pt x="43" y="128"/>
                              </a:lnTo>
                              <a:lnTo>
                                <a:pt x="30" y="85"/>
                              </a:lnTo>
                              <a:lnTo>
                                <a:pt x="15" y="42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33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6534" name=""/>
                      <p:cNvSpPr/>
                      <p:nvPr/>
                    </p:nvSpPr>
                    <p:spPr>
                      <a:xfrm>
                        <a:off x="4334400" y="2332440"/>
                        <a:ext cx="13680" cy="35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8" h="1036">
                            <a:moveTo>
                              <a:pt x="0" y="0"/>
                            </a:moveTo>
                            <a:lnTo>
                              <a:pt x="13" y="33"/>
                            </a:lnTo>
                            <a:lnTo>
                              <a:pt x="26" y="64"/>
                            </a:lnTo>
                            <a:lnTo>
                              <a:pt x="37" y="97"/>
                            </a:lnTo>
                            <a:lnTo>
                              <a:pt x="47" y="134"/>
                            </a:lnTo>
                            <a:lnTo>
                              <a:pt x="55" y="168"/>
                            </a:lnTo>
                            <a:lnTo>
                              <a:pt x="63" y="203"/>
                            </a:lnTo>
                            <a:lnTo>
                              <a:pt x="71" y="246"/>
                            </a:lnTo>
                            <a:lnTo>
                              <a:pt x="79" y="298"/>
                            </a:lnTo>
                            <a:lnTo>
                              <a:pt x="88" y="352"/>
                            </a:lnTo>
                            <a:lnTo>
                              <a:pt x="94" y="388"/>
                            </a:lnTo>
                            <a:lnTo>
                              <a:pt x="102" y="434"/>
                            </a:lnTo>
                            <a:lnTo>
                              <a:pt x="108" y="479"/>
                            </a:lnTo>
                            <a:lnTo>
                              <a:pt x="111" y="522"/>
                            </a:lnTo>
                            <a:lnTo>
                              <a:pt x="114" y="569"/>
                            </a:lnTo>
                            <a:lnTo>
                              <a:pt x="117" y="616"/>
                            </a:lnTo>
                            <a:lnTo>
                              <a:pt x="120" y="671"/>
                            </a:lnTo>
                            <a:lnTo>
                              <a:pt x="124" y="722"/>
                            </a:lnTo>
                            <a:lnTo>
                              <a:pt x="128" y="777"/>
                            </a:lnTo>
                            <a:lnTo>
                              <a:pt x="131" y="818"/>
                            </a:lnTo>
                            <a:lnTo>
                              <a:pt x="136" y="854"/>
                            </a:lnTo>
                            <a:lnTo>
                              <a:pt x="138" y="898"/>
                            </a:lnTo>
                            <a:lnTo>
                              <a:pt x="137" y="942"/>
                            </a:lnTo>
                            <a:lnTo>
                              <a:pt x="135" y="986"/>
                            </a:lnTo>
                            <a:lnTo>
                              <a:pt x="133" y="1036"/>
                            </a:lnTo>
                          </a:path>
                        </a:pathLst>
                      </a:custGeom>
                      <a:solidFill>
                        <a:srgbClr val="ff3300"/>
                      </a:solidFill>
                      <a:ln w="4680">
                        <a:solidFill>
                          <a:srgbClr val="c0c0f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6535" name=""/>
                  <p:cNvGrpSpPr/>
                  <p:nvPr/>
                </p:nvGrpSpPr>
                <p:grpSpPr>
                  <a:xfrm>
                    <a:off x="4316040" y="2286000"/>
                    <a:ext cx="26640" cy="44280"/>
                    <a:chOff x="4316040" y="2286000"/>
                    <a:chExt cx="26640" cy="44280"/>
                  </a:xfrm>
                </p:grpSpPr>
                <p:sp>
                  <p:nvSpPr>
                    <p:cNvPr id="6536" name=""/>
                    <p:cNvSpPr/>
                    <p:nvPr/>
                  </p:nvSpPr>
                  <p:spPr>
                    <a:xfrm>
                      <a:off x="4316040" y="2286000"/>
                      <a:ext cx="26640" cy="44280"/>
                    </a:xfrm>
                    <a:prstGeom prst="ellipse">
                      <a:avLst/>
                    </a:prstGeom>
                    <a:solidFill>
                      <a:srgbClr val="ff3300"/>
                    </a:solidFill>
                    <a:ln w="3240">
                      <a:solidFill>
                        <a:srgbClr val="00002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480" bIns="-15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537" name=""/>
                    <p:cNvSpPr/>
                    <p:nvPr/>
                  </p:nvSpPr>
                  <p:spPr>
                    <a:xfrm>
                      <a:off x="4318920" y="2291040"/>
                      <a:ext cx="20880" cy="34200"/>
                    </a:xfrm>
                    <a:prstGeom prst="ellipse">
                      <a:avLst/>
                    </a:prstGeom>
                    <a:solidFill>
                      <a:srgbClr val="ff3300"/>
                    </a:solidFill>
                    <a:ln w="3240">
                      <a:solidFill>
                        <a:srgbClr val="00002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2680" bIns="-22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538" name=""/>
                    <p:cNvSpPr/>
                    <p:nvPr/>
                  </p:nvSpPr>
                  <p:spPr>
                    <a:xfrm>
                      <a:off x="4320000" y="2294280"/>
                      <a:ext cx="17640" cy="25560"/>
                    </a:xfrm>
                    <a:prstGeom prst="ellipse">
                      <a:avLst/>
                    </a:prstGeom>
                    <a:solidFill>
                      <a:srgbClr val="ff3300"/>
                    </a:solidFill>
                    <a:ln w="3240">
                      <a:solidFill>
                        <a:srgbClr val="00002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440" bIns="-28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aphicFrame>
            <p:nvGraphicFramePr>
              <p:cNvPr id="6539" name=""/>
              <p:cNvGraphicFramePr/>
              <p:nvPr/>
            </p:nvGraphicFramePr>
            <p:xfrm>
              <a:off x="4430880" y="3591000"/>
              <a:ext cx="338040" cy="40140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6540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4430880" y="3591000"/>
                        <a:ext cx="338040" cy="4014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pSp>
            <p:nvGrpSpPr>
              <p:cNvPr id="6541" name=""/>
              <p:cNvGrpSpPr/>
              <p:nvPr/>
            </p:nvGrpSpPr>
            <p:grpSpPr>
              <a:xfrm>
                <a:off x="1676520" y="2209680"/>
                <a:ext cx="609480" cy="824040"/>
                <a:chOff x="1676520" y="2209680"/>
                <a:chExt cx="609480" cy="824040"/>
              </a:xfrm>
            </p:grpSpPr>
            <p:grpSp>
              <p:nvGrpSpPr>
                <p:cNvPr id="6542" name=""/>
                <p:cNvGrpSpPr/>
                <p:nvPr/>
              </p:nvGrpSpPr>
              <p:grpSpPr>
                <a:xfrm>
                  <a:off x="1676520" y="2209680"/>
                  <a:ext cx="609480" cy="824040"/>
                  <a:chOff x="1676520" y="2209680"/>
                  <a:chExt cx="609480" cy="824040"/>
                </a:xfrm>
              </p:grpSpPr>
              <p:grpSp>
                <p:nvGrpSpPr>
                  <p:cNvPr id="6543" name=""/>
                  <p:cNvGrpSpPr/>
                  <p:nvPr/>
                </p:nvGrpSpPr>
                <p:grpSpPr>
                  <a:xfrm>
                    <a:off x="1676520" y="2358720"/>
                    <a:ext cx="221400" cy="675000"/>
                    <a:chOff x="1676520" y="2358720"/>
                    <a:chExt cx="221400" cy="675000"/>
                  </a:xfrm>
                </p:grpSpPr>
                <p:sp>
                  <p:nvSpPr>
                    <p:cNvPr id="6544" name=""/>
                    <p:cNvSpPr/>
                    <p:nvPr/>
                  </p:nvSpPr>
                  <p:spPr>
                    <a:xfrm>
                      <a:off x="1717920" y="2358720"/>
                      <a:ext cx="122040" cy="149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90" h="538">
                          <a:moveTo>
                            <a:pt x="121" y="0"/>
                          </a:moveTo>
                          <a:lnTo>
                            <a:pt x="202" y="0"/>
                          </a:lnTo>
                          <a:lnTo>
                            <a:pt x="282" y="32"/>
                          </a:lnTo>
                          <a:lnTo>
                            <a:pt x="329" y="59"/>
                          </a:lnTo>
                          <a:lnTo>
                            <a:pt x="362" y="156"/>
                          </a:lnTo>
                          <a:lnTo>
                            <a:pt x="383" y="215"/>
                          </a:lnTo>
                          <a:lnTo>
                            <a:pt x="463" y="150"/>
                          </a:lnTo>
                          <a:lnTo>
                            <a:pt x="490" y="156"/>
                          </a:lnTo>
                          <a:lnTo>
                            <a:pt x="484" y="187"/>
                          </a:lnTo>
                          <a:lnTo>
                            <a:pt x="383" y="292"/>
                          </a:lnTo>
                          <a:lnTo>
                            <a:pt x="383" y="369"/>
                          </a:lnTo>
                          <a:lnTo>
                            <a:pt x="362" y="447"/>
                          </a:lnTo>
                          <a:lnTo>
                            <a:pt x="329" y="506"/>
                          </a:lnTo>
                          <a:lnTo>
                            <a:pt x="282" y="538"/>
                          </a:lnTo>
                          <a:lnTo>
                            <a:pt x="222" y="538"/>
                          </a:lnTo>
                          <a:lnTo>
                            <a:pt x="140" y="506"/>
                          </a:lnTo>
                          <a:lnTo>
                            <a:pt x="87" y="441"/>
                          </a:lnTo>
                          <a:lnTo>
                            <a:pt x="41" y="343"/>
                          </a:lnTo>
                          <a:lnTo>
                            <a:pt x="6" y="252"/>
                          </a:lnTo>
                          <a:lnTo>
                            <a:pt x="0" y="130"/>
                          </a:lnTo>
                          <a:lnTo>
                            <a:pt x="20" y="71"/>
                          </a:lnTo>
                          <a:lnTo>
                            <a:pt x="47" y="32"/>
                          </a:lnTo>
                          <a:lnTo>
                            <a:pt x="121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545" name=""/>
                    <p:cNvSpPr/>
                    <p:nvPr/>
                  </p:nvSpPr>
                  <p:spPr>
                    <a:xfrm>
                      <a:off x="1743120" y="2527560"/>
                      <a:ext cx="86040" cy="258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7" h="929">
                          <a:moveTo>
                            <a:pt x="47" y="32"/>
                          </a:moveTo>
                          <a:lnTo>
                            <a:pt x="100" y="0"/>
                          </a:lnTo>
                          <a:lnTo>
                            <a:pt x="180" y="0"/>
                          </a:lnTo>
                          <a:lnTo>
                            <a:pt x="240" y="20"/>
                          </a:lnTo>
                          <a:lnTo>
                            <a:pt x="281" y="89"/>
                          </a:lnTo>
                          <a:lnTo>
                            <a:pt x="320" y="206"/>
                          </a:lnTo>
                          <a:lnTo>
                            <a:pt x="341" y="334"/>
                          </a:lnTo>
                          <a:lnTo>
                            <a:pt x="347" y="486"/>
                          </a:lnTo>
                          <a:lnTo>
                            <a:pt x="347" y="660"/>
                          </a:lnTo>
                          <a:lnTo>
                            <a:pt x="320" y="800"/>
                          </a:lnTo>
                          <a:lnTo>
                            <a:pt x="281" y="877"/>
                          </a:lnTo>
                          <a:lnTo>
                            <a:pt x="187" y="929"/>
                          </a:lnTo>
                          <a:lnTo>
                            <a:pt x="140" y="917"/>
                          </a:lnTo>
                          <a:lnTo>
                            <a:pt x="80" y="858"/>
                          </a:lnTo>
                          <a:lnTo>
                            <a:pt x="60" y="775"/>
                          </a:lnTo>
                          <a:lnTo>
                            <a:pt x="41" y="621"/>
                          </a:lnTo>
                          <a:lnTo>
                            <a:pt x="60" y="512"/>
                          </a:lnTo>
                          <a:lnTo>
                            <a:pt x="60" y="397"/>
                          </a:lnTo>
                          <a:lnTo>
                            <a:pt x="27" y="320"/>
                          </a:lnTo>
                          <a:lnTo>
                            <a:pt x="0" y="218"/>
                          </a:lnTo>
                          <a:lnTo>
                            <a:pt x="0" y="109"/>
                          </a:lnTo>
                          <a:lnTo>
                            <a:pt x="47" y="32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546" name=""/>
                    <p:cNvSpPr/>
                    <p:nvPr/>
                  </p:nvSpPr>
                  <p:spPr>
                    <a:xfrm>
                      <a:off x="1783440" y="2536920"/>
                      <a:ext cx="114480" cy="255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60" h="918">
                          <a:moveTo>
                            <a:pt x="53" y="0"/>
                          </a:moveTo>
                          <a:lnTo>
                            <a:pt x="201" y="32"/>
                          </a:lnTo>
                          <a:lnTo>
                            <a:pt x="314" y="109"/>
                          </a:lnTo>
                          <a:lnTo>
                            <a:pt x="400" y="237"/>
                          </a:lnTo>
                          <a:lnTo>
                            <a:pt x="454" y="359"/>
                          </a:lnTo>
                          <a:lnTo>
                            <a:pt x="460" y="494"/>
                          </a:lnTo>
                          <a:lnTo>
                            <a:pt x="419" y="584"/>
                          </a:lnTo>
                          <a:lnTo>
                            <a:pt x="320" y="642"/>
                          </a:lnTo>
                          <a:lnTo>
                            <a:pt x="240" y="681"/>
                          </a:lnTo>
                          <a:lnTo>
                            <a:pt x="240" y="719"/>
                          </a:lnTo>
                          <a:lnTo>
                            <a:pt x="293" y="764"/>
                          </a:lnTo>
                          <a:lnTo>
                            <a:pt x="320" y="860"/>
                          </a:lnTo>
                          <a:lnTo>
                            <a:pt x="293" y="918"/>
                          </a:lnTo>
                          <a:lnTo>
                            <a:pt x="259" y="892"/>
                          </a:lnTo>
                          <a:lnTo>
                            <a:pt x="259" y="841"/>
                          </a:lnTo>
                          <a:lnTo>
                            <a:pt x="234" y="764"/>
                          </a:lnTo>
                          <a:lnTo>
                            <a:pt x="193" y="719"/>
                          </a:lnTo>
                          <a:lnTo>
                            <a:pt x="179" y="661"/>
                          </a:lnTo>
                          <a:lnTo>
                            <a:pt x="240" y="622"/>
                          </a:lnTo>
                          <a:lnTo>
                            <a:pt x="353" y="545"/>
                          </a:lnTo>
                          <a:lnTo>
                            <a:pt x="400" y="476"/>
                          </a:lnTo>
                          <a:lnTo>
                            <a:pt x="400" y="399"/>
                          </a:lnTo>
                          <a:lnTo>
                            <a:pt x="339" y="282"/>
                          </a:lnTo>
                          <a:lnTo>
                            <a:pt x="240" y="180"/>
                          </a:lnTo>
                          <a:lnTo>
                            <a:pt x="179" y="128"/>
                          </a:lnTo>
                          <a:lnTo>
                            <a:pt x="93" y="109"/>
                          </a:lnTo>
                          <a:lnTo>
                            <a:pt x="0" y="83"/>
                          </a:lnTo>
                          <a:lnTo>
                            <a:pt x="53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547" name=""/>
                    <p:cNvSpPr/>
                    <p:nvPr/>
                  </p:nvSpPr>
                  <p:spPr>
                    <a:xfrm>
                      <a:off x="1676520" y="2535840"/>
                      <a:ext cx="84600" cy="240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1" h="861">
                          <a:moveTo>
                            <a:pt x="214" y="39"/>
                          </a:moveTo>
                          <a:lnTo>
                            <a:pt x="281" y="0"/>
                          </a:lnTo>
                          <a:lnTo>
                            <a:pt x="341" y="6"/>
                          </a:lnTo>
                          <a:lnTo>
                            <a:pt x="335" y="77"/>
                          </a:lnTo>
                          <a:lnTo>
                            <a:pt x="294" y="116"/>
                          </a:lnTo>
                          <a:lnTo>
                            <a:pt x="234" y="148"/>
                          </a:lnTo>
                          <a:lnTo>
                            <a:pt x="160" y="231"/>
                          </a:lnTo>
                          <a:lnTo>
                            <a:pt x="80" y="347"/>
                          </a:lnTo>
                          <a:lnTo>
                            <a:pt x="60" y="443"/>
                          </a:lnTo>
                          <a:lnTo>
                            <a:pt x="74" y="501"/>
                          </a:lnTo>
                          <a:lnTo>
                            <a:pt x="94" y="534"/>
                          </a:lnTo>
                          <a:lnTo>
                            <a:pt x="181" y="572"/>
                          </a:lnTo>
                          <a:lnTo>
                            <a:pt x="261" y="597"/>
                          </a:lnTo>
                          <a:lnTo>
                            <a:pt x="294" y="630"/>
                          </a:lnTo>
                          <a:lnTo>
                            <a:pt x="300" y="656"/>
                          </a:lnTo>
                          <a:lnTo>
                            <a:pt x="253" y="707"/>
                          </a:lnTo>
                          <a:lnTo>
                            <a:pt x="234" y="771"/>
                          </a:lnTo>
                          <a:lnTo>
                            <a:pt x="214" y="861"/>
                          </a:lnTo>
                          <a:lnTo>
                            <a:pt x="173" y="848"/>
                          </a:lnTo>
                          <a:lnTo>
                            <a:pt x="173" y="784"/>
                          </a:lnTo>
                          <a:lnTo>
                            <a:pt x="195" y="688"/>
                          </a:lnTo>
                          <a:lnTo>
                            <a:pt x="234" y="649"/>
                          </a:lnTo>
                          <a:lnTo>
                            <a:pt x="160" y="611"/>
                          </a:lnTo>
                          <a:lnTo>
                            <a:pt x="74" y="572"/>
                          </a:lnTo>
                          <a:lnTo>
                            <a:pt x="0" y="514"/>
                          </a:lnTo>
                          <a:lnTo>
                            <a:pt x="0" y="443"/>
                          </a:lnTo>
                          <a:lnTo>
                            <a:pt x="20" y="321"/>
                          </a:lnTo>
                          <a:lnTo>
                            <a:pt x="80" y="205"/>
                          </a:lnTo>
                          <a:lnTo>
                            <a:pt x="154" y="108"/>
                          </a:lnTo>
                          <a:lnTo>
                            <a:pt x="214" y="39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548" name=""/>
                    <p:cNvSpPr/>
                    <p:nvPr/>
                  </p:nvSpPr>
                  <p:spPr>
                    <a:xfrm>
                      <a:off x="1790640" y="2747160"/>
                      <a:ext cx="100800" cy="28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2" h="1028">
                          <a:moveTo>
                            <a:pt x="27" y="0"/>
                          </a:moveTo>
                          <a:lnTo>
                            <a:pt x="120" y="38"/>
                          </a:lnTo>
                          <a:lnTo>
                            <a:pt x="167" y="135"/>
                          </a:lnTo>
                          <a:lnTo>
                            <a:pt x="181" y="307"/>
                          </a:lnTo>
                          <a:lnTo>
                            <a:pt x="167" y="593"/>
                          </a:lnTo>
                          <a:lnTo>
                            <a:pt x="128" y="817"/>
                          </a:lnTo>
                          <a:lnTo>
                            <a:pt x="107" y="913"/>
                          </a:lnTo>
                          <a:lnTo>
                            <a:pt x="147" y="933"/>
                          </a:lnTo>
                          <a:lnTo>
                            <a:pt x="227" y="856"/>
                          </a:lnTo>
                          <a:lnTo>
                            <a:pt x="322" y="799"/>
                          </a:lnTo>
                          <a:lnTo>
                            <a:pt x="348" y="805"/>
                          </a:lnTo>
                          <a:lnTo>
                            <a:pt x="402" y="842"/>
                          </a:lnTo>
                          <a:lnTo>
                            <a:pt x="402" y="862"/>
                          </a:lnTo>
                          <a:lnTo>
                            <a:pt x="288" y="913"/>
                          </a:lnTo>
                          <a:lnTo>
                            <a:pt x="167" y="977"/>
                          </a:lnTo>
                          <a:lnTo>
                            <a:pt x="68" y="1028"/>
                          </a:lnTo>
                          <a:lnTo>
                            <a:pt x="19" y="1016"/>
                          </a:lnTo>
                          <a:lnTo>
                            <a:pt x="19" y="957"/>
                          </a:lnTo>
                          <a:lnTo>
                            <a:pt x="60" y="874"/>
                          </a:lnTo>
                          <a:lnTo>
                            <a:pt x="87" y="702"/>
                          </a:lnTo>
                          <a:lnTo>
                            <a:pt x="107" y="498"/>
                          </a:lnTo>
                          <a:lnTo>
                            <a:pt x="120" y="269"/>
                          </a:lnTo>
                          <a:lnTo>
                            <a:pt x="68" y="129"/>
                          </a:lnTo>
                          <a:lnTo>
                            <a:pt x="0" y="71"/>
                          </a:lnTo>
                          <a:lnTo>
                            <a:pt x="27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549" name=""/>
                    <p:cNvSpPr/>
                    <p:nvPr/>
                  </p:nvSpPr>
                  <p:spPr>
                    <a:xfrm>
                      <a:off x="1719360" y="2718360"/>
                      <a:ext cx="77040" cy="313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9" h="1127">
                          <a:moveTo>
                            <a:pt x="124" y="223"/>
                          </a:moveTo>
                          <a:lnTo>
                            <a:pt x="207" y="51"/>
                          </a:lnTo>
                          <a:lnTo>
                            <a:pt x="282" y="0"/>
                          </a:lnTo>
                          <a:lnTo>
                            <a:pt x="309" y="32"/>
                          </a:lnTo>
                          <a:lnTo>
                            <a:pt x="288" y="89"/>
                          </a:lnTo>
                          <a:lnTo>
                            <a:pt x="207" y="230"/>
                          </a:lnTo>
                          <a:lnTo>
                            <a:pt x="145" y="376"/>
                          </a:lnTo>
                          <a:lnTo>
                            <a:pt x="103" y="586"/>
                          </a:lnTo>
                          <a:lnTo>
                            <a:pt x="75" y="821"/>
                          </a:lnTo>
                          <a:lnTo>
                            <a:pt x="75" y="1025"/>
                          </a:lnTo>
                          <a:lnTo>
                            <a:pt x="97" y="1007"/>
                          </a:lnTo>
                          <a:lnTo>
                            <a:pt x="145" y="930"/>
                          </a:lnTo>
                          <a:lnTo>
                            <a:pt x="164" y="815"/>
                          </a:lnTo>
                          <a:lnTo>
                            <a:pt x="207" y="815"/>
                          </a:lnTo>
                          <a:lnTo>
                            <a:pt x="261" y="841"/>
                          </a:lnTo>
                          <a:lnTo>
                            <a:pt x="226" y="936"/>
                          </a:lnTo>
                          <a:lnTo>
                            <a:pt x="145" y="1032"/>
                          </a:lnTo>
                          <a:lnTo>
                            <a:pt x="62" y="1127"/>
                          </a:lnTo>
                          <a:lnTo>
                            <a:pt x="21" y="1127"/>
                          </a:lnTo>
                          <a:lnTo>
                            <a:pt x="0" y="1090"/>
                          </a:lnTo>
                          <a:lnTo>
                            <a:pt x="0" y="1007"/>
                          </a:lnTo>
                          <a:lnTo>
                            <a:pt x="14" y="764"/>
                          </a:lnTo>
                          <a:lnTo>
                            <a:pt x="35" y="516"/>
                          </a:lnTo>
                          <a:lnTo>
                            <a:pt x="62" y="338"/>
                          </a:lnTo>
                          <a:lnTo>
                            <a:pt x="124" y="223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6550" name=""/>
                  <p:cNvSpPr/>
                  <p:nvPr/>
                </p:nvSpPr>
                <p:spPr>
                  <a:xfrm>
                    <a:off x="1863000" y="2209680"/>
                    <a:ext cx="423000" cy="4467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551" name=""/>
                <p:cNvGrpSpPr/>
                <p:nvPr/>
              </p:nvGrpSpPr>
              <p:grpSpPr>
                <a:xfrm>
                  <a:off x="1879920" y="2234880"/>
                  <a:ext cx="376920" cy="402120"/>
                  <a:chOff x="1879920" y="2234880"/>
                  <a:chExt cx="376920" cy="402120"/>
                </a:xfrm>
              </p:grpSpPr>
              <p:sp>
                <p:nvSpPr>
                  <p:cNvPr id="6552" name=""/>
                  <p:cNvSpPr/>
                  <p:nvPr/>
                </p:nvSpPr>
                <p:spPr>
                  <a:xfrm>
                    <a:off x="1879920" y="2234880"/>
                    <a:ext cx="376920" cy="4021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53" name=""/>
                  <p:cNvSpPr/>
                  <p:nvPr/>
                </p:nvSpPr>
                <p:spPr>
                  <a:xfrm rot="18621000">
                    <a:off x="1945080" y="2393280"/>
                    <a:ext cx="1130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406" h="695">
                        <a:moveTo>
                          <a:pt x="406" y="610"/>
                        </a:moveTo>
                        <a:lnTo>
                          <a:pt x="154" y="230"/>
                        </a:lnTo>
                        <a:lnTo>
                          <a:pt x="269" y="176"/>
                        </a:lnTo>
                        <a:lnTo>
                          <a:pt x="0" y="0"/>
                        </a:lnTo>
                        <a:lnTo>
                          <a:pt x="8" y="320"/>
                        </a:lnTo>
                        <a:lnTo>
                          <a:pt x="89" y="206"/>
                        </a:lnTo>
                        <a:lnTo>
                          <a:pt x="358" y="695"/>
                        </a:lnTo>
                        <a:lnTo>
                          <a:pt x="406" y="6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6554" name=""/>
              <p:cNvGrpSpPr/>
              <p:nvPr/>
            </p:nvGrpSpPr>
            <p:grpSpPr>
              <a:xfrm>
                <a:off x="6171840" y="1981080"/>
                <a:ext cx="609480" cy="747360"/>
                <a:chOff x="6171840" y="1981080"/>
                <a:chExt cx="609480" cy="747360"/>
              </a:xfrm>
            </p:grpSpPr>
            <p:sp>
              <p:nvSpPr>
                <p:cNvPr id="6555" name=""/>
                <p:cNvSpPr/>
                <p:nvPr/>
              </p:nvSpPr>
              <p:spPr>
                <a:xfrm flipH="1">
                  <a:off x="6171480" y="1981080"/>
                  <a:ext cx="423000" cy="4053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556" name=""/>
                <p:cNvGrpSpPr/>
                <p:nvPr/>
              </p:nvGrpSpPr>
              <p:grpSpPr>
                <a:xfrm>
                  <a:off x="6201000" y="2004120"/>
                  <a:ext cx="580320" cy="724320"/>
                  <a:chOff x="6201000" y="2004120"/>
                  <a:chExt cx="580320" cy="724320"/>
                </a:xfrm>
              </p:grpSpPr>
              <p:grpSp>
                <p:nvGrpSpPr>
                  <p:cNvPr id="6557" name=""/>
                  <p:cNvGrpSpPr/>
                  <p:nvPr/>
                </p:nvGrpSpPr>
                <p:grpSpPr>
                  <a:xfrm>
                    <a:off x="6559920" y="2116080"/>
                    <a:ext cx="221400" cy="612360"/>
                    <a:chOff x="6559920" y="2116080"/>
                    <a:chExt cx="221400" cy="612360"/>
                  </a:xfrm>
                </p:grpSpPr>
                <p:sp>
                  <p:nvSpPr>
                    <p:cNvPr id="6558" name=""/>
                    <p:cNvSpPr/>
                    <p:nvPr/>
                  </p:nvSpPr>
                  <p:spPr>
                    <a:xfrm flipH="1">
                      <a:off x="6617880" y="2116080"/>
                      <a:ext cx="122040" cy="13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90" h="538">
                          <a:moveTo>
                            <a:pt x="121" y="0"/>
                          </a:moveTo>
                          <a:lnTo>
                            <a:pt x="202" y="0"/>
                          </a:lnTo>
                          <a:lnTo>
                            <a:pt x="282" y="32"/>
                          </a:lnTo>
                          <a:lnTo>
                            <a:pt x="329" y="59"/>
                          </a:lnTo>
                          <a:lnTo>
                            <a:pt x="362" y="156"/>
                          </a:lnTo>
                          <a:lnTo>
                            <a:pt x="383" y="215"/>
                          </a:lnTo>
                          <a:lnTo>
                            <a:pt x="463" y="150"/>
                          </a:lnTo>
                          <a:lnTo>
                            <a:pt x="490" y="156"/>
                          </a:lnTo>
                          <a:lnTo>
                            <a:pt x="484" y="187"/>
                          </a:lnTo>
                          <a:lnTo>
                            <a:pt x="383" y="292"/>
                          </a:lnTo>
                          <a:lnTo>
                            <a:pt x="383" y="369"/>
                          </a:lnTo>
                          <a:lnTo>
                            <a:pt x="362" y="447"/>
                          </a:lnTo>
                          <a:lnTo>
                            <a:pt x="329" y="506"/>
                          </a:lnTo>
                          <a:lnTo>
                            <a:pt x="282" y="538"/>
                          </a:lnTo>
                          <a:lnTo>
                            <a:pt x="222" y="538"/>
                          </a:lnTo>
                          <a:lnTo>
                            <a:pt x="140" y="506"/>
                          </a:lnTo>
                          <a:lnTo>
                            <a:pt x="87" y="441"/>
                          </a:lnTo>
                          <a:lnTo>
                            <a:pt x="41" y="343"/>
                          </a:lnTo>
                          <a:lnTo>
                            <a:pt x="6" y="252"/>
                          </a:lnTo>
                          <a:lnTo>
                            <a:pt x="0" y="130"/>
                          </a:lnTo>
                          <a:lnTo>
                            <a:pt x="20" y="71"/>
                          </a:lnTo>
                          <a:lnTo>
                            <a:pt x="47" y="32"/>
                          </a:lnTo>
                          <a:lnTo>
                            <a:pt x="121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559" name=""/>
                    <p:cNvSpPr/>
                    <p:nvPr/>
                  </p:nvSpPr>
                  <p:spPr>
                    <a:xfrm flipH="1">
                      <a:off x="6628320" y="2269080"/>
                      <a:ext cx="86040" cy="23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7" h="929">
                          <a:moveTo>
                            <a:pt x="47" y="32"/>
                          </a:moveTo>
                          <a:lnTo>
                            <a:pt x="100" y="0"/>
                          </a:lnTo>
                          <a:lnTo>
                            <a:pt x="180" y="0"/>
                          </a:lnTo>
                          <a:lnTo>
                            <a:pt x="240" y="20"/>
                          </a:lnTo>
                          <a:lnTo>
                            <a:pt x="281" y="89"/>
                          </a:lnTo>
                          <a:lnTo>
                            <a:pt x="320" y="206"/>
                          </a:lnTo>
                          <a:lnTo>
                            <a:pt x="341" y="334"/>
                          </a:lnTo>
                          <a:lnTo>
                            <a:pt x="347" y="486"/>
                          </a:lnTo>
                          <a:lnTo>
                            <a:pt x="347" y="660"/>
                          </a:lnTo>
                          <a:lnTo>
                            <a:pt x="320" y="800"/>
                          </a:lnTo>
                          <a:lnTo>
                            <a:pt x="281" y="877"/>
                          </a:lnTo>
                          <a:lnTo>
                            <a:pt x="187" y="929"/>
                          </a:lnTo>
                          <a:lnTo>
                            <a:pt x="140" y="917"/>
                          </a:lnTo>
                          <a:lnTo>
                            <a:pt x="80" y="858"/>
                          </a:lnTo>
                          <a:lnTo>
                            <a:pt x="60" y="775"/>
                          </a:lnTo>
                          <a:lnTo>
                            <a:pt x="41" y="621"/>
                          </a:lnTo>
                          <a:lnTo>
                            <a:pt x="60" y="512"/>
                          </a:lnTo>
                          <a:lnTo>
                            <a:pt x="60" y="397"/>
                          </a:lnTo>
                          <a:lnTo>
                            <a:pt x="27" y="320"/>
                          </a:lnTo>
                          <a:lnTo>
                            <a:pt x="0" y="218"/>
                          </a:lnTo>
                          <a:lnTo>
                            <a:pt x="0" y="109"/>
                          </a:lnTo>
                          <a:lnTo>
                            <a:pt x="47" y="32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560" name=""/>
                    <p:cNvSpPr/>
                    <p:nvPr/>
                  </p:nvSpPr>
                  <p:spPr>
                    <a:xfrm flipH="1">
                      <a:off x="6559920" y="2277720"/>
                      <a:ext cx="11448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60" h="918">
                          <a:moveTo>
                            <a:pt x="53" y="0"/>
                          </a:moveTo>
                          <a:lnTo>
                            <a:pt x="201" y="32"/>
                          </a:lnTo>
                          <a:lnTo>
                            <a:pt x="314" y="109"/>
                          </a:lnTo>
                          <a:lnTo>
                            <a:pt x="400" y="237"/>
                          </a:lnTo>
                          <a:lnTo>
                            <a:pt x="454" y="359"/>
                          </a:lnTo>
                          <a:lnTo>
                            <a:pt x="460" y="494"/>
                          </a:lnTo>
                          <a:lnTo>
                            <a:pt x="419" y="584"/>
                          </a:lnTo>
                          <a:lnTo>
                            <a:pt x="320" y="642"/>
                          </a:lnTo>
                          <a:lnTo>
                            <a:pt x="240" y="681"/>
                          </a:lnTo>
                          <a:lnTo>
                            <a:pt x="240" y="719"/>
                          </a:lnTo>
                          <a:lnTo>
                            <a:pt x="293" y="764"/>
                          </a:lnTo>
                          <a:lnTo>
                            <a:pt x="320" y="860"/>
                          </a:lnTo>
                          <a:lnTo>
                            <a:pt x="293" y="918"/>
                          </a:lnTo>
                          <a:lnTo>
                            <a:pt x="259" y="892"/>
                          </a:lnTo>
                          <a:lnTo>
                            <a:pt x="259" y="841"/>
                          </a:lnTo>
                          <a:lnTo>
                            <a:pt x="234" y="764"/>
                          </a:lnTo>
                          <a:lnTo>
                            <a:pt x="193" y="719"/>
                          </a:lnTo>
                          <a:lnTo>
                            <a:pt x="179" y="661"/>
                          </a:lnTo>
                          <a:lnTo>
                            <a:pt x="240" y="622"/>
                          </a:lnTo>
                          <a:lnTo>
                            <a:pt x="353" y="545"/>
                          </a:lnTo>
                          <a:lnTo>
                            <a:pt x="400" y="476"/>
                          </a:lnTo>
                          <a:lnTo>
                            <a:pt x="400" y="399"/>
                          </a:lnTo>
                          <a:lnTo>
                            <a:pt x="339" y="282"/>
                          </a:lnTo>
                          <a:lnTo>
                            <a:pt x="240" y="180"/>
                          </a:lnTo>
                          <a:lnTo>
                            <a:pt x="179" y="128"/>
                          </a:lnTo>
                          <a:lnTo>
                            <a:pt x="93" y="109"/>
                          </a:lnTo>
                          <a:lnTo>
                            <a:pt x="0" y="83"/>
                          </a:lnTo>
                          <a:lnTo>
                            <a:pt x="53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561" name=""/>
                    <p:cNvSpPr/>
                    <p:nvPr/>
                  </p:nvSpPr>
                  <p:spPr>
                    <a:xfrm flipH="1">
                      <a:off x="6696360" y="2277000"/>
                      <a:ext cx="84600" cy="21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1" h="861">
                          <a:moveTo>
                            <a:pt x="214" y="39"/>
                          </a:moveTo>
                          <a:lnTo>
                            <a:pt x="281" y="0"/>
                          </a:lnTo>
                          <a:lnTo>
                            <a:pt x="341" y="6"/>
                          </a:lnTo>
                          <a:lnTo>
                            <a:pt x="335" y="77"/>
                          </a:lnTo>
                          <a:lnTo>
                            <a:pt x="294" y="116"/>
                          </a:lnTo>
                          <a:lnTo>
                            <a:pt x="234" y="148"/>
                          </a:lnTo>
                          <a:lnTo>
                            <a:pt x="160" y="231"/>
                          </a:lnTo>
                          <a:lnTo>
                            <a:pt x="80" y="347"/>
                          </a:lnTo>
                          <a:lnTo>
                            <a:pt x="60" y="443"/>
                          </a:lnTo>
                          <a:lnTo>
                            <a:pt x="74" y="501"/>
                          </a:lnTo>
                          <a:lnTo>
                            <a:pt x="94" y="534"/>
                          </a:lnTo>
                          <a:lnTo>
                            <a:pt x="181" y="572"/>
                          </a:lnTo>
                          <a:lnTo>
                            <a:pt x="261" y="597"/>
                          </a:lnTo>
                          <a:lnTo>
                            <a:pt x="294" y="630"/>
                          </a:lnTo>
                          <a:lnTo>
                            <a:pt x="300" y="656"/>
                          </a:lnTo>
                          <a:lnTo>
                            <a:pt x="253" y="707"/>
                          </a:lnTo>
                          <a:lnTo>
                            <a:pt x="234" y="771"/>
                          </a:lnTo>
                          <a:lnTo>
                            <a:pt x="214" y="861"/>
                          </a:lnTo>
                          <a:lnTo>
                            <a:pt x="173" y="848"/>
                          </a:lnTo>
                          <a:lnTo>
                            <a:pt x="173" y="784"/>
                          </a:lnTo>
                          <a:lnTo>
                            <a:pt x="195" y="688"/>
                          </a:lnTo>
                          <a:lnTo>
                            <a:pt x="234" y="649"/>
                          </a:lnTo>
                          <a:lnTo>
                            <a:pt x="160" y="611"/>
                          </a:lnTo>
                          <a:lnTo>
                            <a:pt x="74" y="572"/>
                          </a:lnTo>
                          <a:lnTo>
                            <a:pt x="0" y="514"/>
                          </a:lnTo>
                          <a:lnTo>
                            <a:pt x="0" y="443"/>
                          </a:lnTo>
                          <a:lnTo>
                            <a:pt x="20" y="321"/>
                          </a:lnTo>
                          <a:lnTo>
                            <a:pt x="80" y="205"/>
                          </a:lnTo>
                          <a:lnTo>
                            <a:pt x="154" y="108"/>
                          </a:lnTo>
                          <a:lnTo>
                            <a:pt x="214" y="39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562" name=""/>
                    <p:cNvSpPr/>
                    <p:nvPr/>
                  </p:nvSpPr>
                  <p:spPr>
                    <a:xfrm flipH="1">
                      <a:off x="6566400" y="2468520"/>
                      <a:ext cx="100440" cy="259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2" h="1028">
                          <a:moveTo>
                            <a:pt x="27" y="0"/>
                          </a:moveTo>
                          <a:lnTo>
                            <a:pt x="120" y="38"/>
                          </a:lnTo>
                          <a:lnTo>
                            <a:pt x="167" y="135"/>
                          </a:lnTo>
                          <a:lnTo>
                            <a:pt x="181" y="307"/>
                          </a:lnTo>
                          <a:lnTo>
                            <a:pt x="167" y="593"/>
                          </a:lnTo>
                          <a:lnTo>
                            <a:pt x="128" y="817"/>
                          </a:lnTo>
                          <a:lnTo>
                            <a:pt x="107" y="913"/>
                          </a:lnTo>
                          <a:lnTo>
                            <a:pt x="147" y="933"/>
                          </a:lnTo>
                          <a:lnTo>
                            <a:pt x="227" y="856"/>
                          </a:lnTo>
                          <a:lnTo>
                            <a:pt x="322" y="799"/>
                          </a:lnTo>
                          <a:lnTo>
                            <a:pt x="348" y="805"/>
                          </a:lnTo>
                          <a:lnTo>
                            <a:pt x="402" y="842"/>
                          </a:lnTo>
                          <a:lnTo>
                            <a:pt x="402" y="862"/>
                          </a:lnTo>
                          <a:lnTo>
                            <a:pt x="288" y="913"/>
                          </a:lnTo>
                          <a:lnTo>
                            <a:pt x="167" y="977"/>
                          </a:lnTo>
                          <a:lnTo>
                            <a:pt x="68" y="1028"/>
                          </a:lnTo>
                          <a:lnTo>
                            <a:pt x="19" y="1016"/>
                          </a:lnTo>
                          <a:lnTo>
                            <a:pt x="19" y="957"/>
                          </a:lnTo>
                          <a:lnTo>
                            <a:pt x="60" y="874"/>
                          </a:lnTo>
                          <a:lnTo>
                            <a:pt x="87" y="702"/>
                          </a:lnTo>
                          <a:lnTo>
                            <a:pt x="107" y="498"/>
                          </a:lnTo>
                          <a:lnTo>
                            <a:pt x="120" y="269"/>
                          </a:lnTo>
                          <a:lnTo>
                            <a:pt x="68" y="129"/>
                          </a:lnTo>
                          <a:lnTo>
                            <a:pt x="0" y="71"/>
                          </a:lnTo>
                          <a:lnTo>
                            <a:pt x="27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563" name=""/>
                    <p:cNvSpPr/>
                    <p:nvPr/>
                  </p:nvSpPr>
                  <p:spPr>
                    <a:xfrm flipH="1">
                      <a:off x="6661440" y="2442240"/>
                      <a:ext cx="77040" cy="28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9" h="1127">
                          <a:moveTo>
                            <a:pt x="124" y="223"/>
                          </a:moveTo>
                          <a:lnTo>
                            <a:pt x="207" y="51"/>
                          </a:lnTo>
                          <a:lnTo>
                            <a:pt x="282" y="0"/>
                          </a:lnTo>
                          <a:lnTo>
                            <a:pt x="309" y="32"/>
                          </a:lnTo>
                          <a:lnTo>
                            <a:pt x="288" y="89"/>
                          </a:lnTo>
                          <a:lnTo>
                            <a:pt x="207" y="230"/>
                          </a:lnTo>
                          <a:lnTo>
                            <a:pt x="145" y="376"/>
                          </a:lnTo>
                          <a:lnTo>
                            <a:pt x="103" y="586"/>
                          </a:lnTo>
                          <a:lnTo>
                            <a:pt x="75" y="821"/>
                          </a:lnTo>
                          <a:lnTo>
                            <a:pt x="75" y="1025"/>
                          </a:lnTo>
                          <a:lnTo>
                            <a:pt x="97" y="1007"/>
                          </a:lnTo>
                          <a:lnTo>
                            <a:pt x="145" y="930"/>
                          </a:lnTo>
                          <a:lnTo>
                            <a:pt x="164" y="815"/>
                          </a:lnTo>
                          <a:lnTo>
                            <a:pt x="207" y="815"/>
                          </a:lnTo>
                          <a:lnTo>
                            <a:pt x="261" y="841"/>
                          </a:lnTo>
                          <a:lnTo>
                            <a:pt x="226" y="936"/>
                          </a:lnTo>
                          <a:lnTo>
                            <a:pt x="145" y="1032"/>
                          </a:lnTo>
                          <a:lnTo>
                            <a:pt x="62" y="1127"/>
                          </a:lnTo>
                          <a:lnTo>
                            <a:pt x="21" y="1127"/>
                          </a:lnTo>
                          <a:lnTo>
                            <a:pt x="0" y="1090"/>
                          </a:lnTo>
                          <a:lnTo>
                            <a:pt x="0" y="1007"/>
                          </a:lnTo>
                          <a:lnTo>
                            <a:pt x="14" y="764"/>
                          </a:lnTo>
                          <a:lnTo>
                            <a:pt x="35" y="516"/>
                          </a:lnTo>
                          <a:lnTo>
                            <a:pt x="62" y="338"/>
                          </a:lnTo>
                          <a:lnTo>
                            <a:pt x="124" y="223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6564" name=""/>
                  <p:cNvSpPr/>
                  <p:nvPr/>
                </p:nvSpPr>
                <p:spPr>
                  <a:xfrm flipH="1">
                    <a:off x="6201000" y="2004120"/>
                    <a:ext cx="377280" cy="3650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65" name=""/>
                  <p:cNvSpPr/>
                  <p:nvPr/>
                </p:nvSpPr>
                <p:spPr>
                  <a:xfrm rot="17359800">
                    <a:off x="6410520" y="2127240"/>
                    <a:ext cx="145440" cy="143640"/>
                  </a:xfrm>
                  <a:custGeom>
                    <a:avLst/>
                    <a:gdLst/>
                    <a:ahLst/>
                    <a:rect l="l" t="t" r="r" b="b"/>
                    <a:pathLst>
                      <a:path w="400" h="404">
                        <a:moveTo>
                          <a:pt x="0" y="51"/>
                        </a:moveTo>
                        <a:lnTo>
                          <a:pt x="310" y="327"/>
                        </a:lnTo>
                        <a:lnTo>
                          <a:pt x="181" y="360"/>
                        </a:lnTo>
                        <a:lnTo>
                          <a:pt x="400" y="404"/>
                        </a:lnTo>
                        <a:lnTo>
                          <a:pt x="364" y="155"/>
                        </a:lnTo>
                        <a:lnTo>
                          <a:pt x="328" y="292"/>
                        </a:lnTo>
                        <a:lnTo>
                          <a:pt x="64" y="0"/>
                        </a:lnTo>
                        <a:lnTo>
                          <a:pt x="0" y="5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6566" name=""/>
              <p:cNvSpPr/>
              <p:nvPr/>
            </p:nvSpPr>
            <p:spPr>
              <a:xfrm rot="940200">
                <a:off x="2446560" y="2332080"/>
                <a:ext cx="54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600" spc="-1" strike="noStrike">
                    <a:solidFill>
                      <a:srgbClr val="000000"/>
                    </a:solidFill>
                    <a:latin typeface="Times New Roman"/>
                  </a:rPr>
                  <a:t>atri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7" name=""/>
              <p:cNvSpPr/>
              <p:nvPr/>
            </p:nvSpPr>
            <p:spPr>
              <a:xfrm>
                <a:off x="630000" y="2817720"/>
                <a:ext cx="14212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1600" spc="-1" strike="noStrike">
                    <a:solidFill>
                      <a:srgbClr val="000000"/>
                    </a:solidFill>
                    <a:latin typeface="Times New Roman"/>
                  </a:rPr>
                  <a:t>Nízkotlaké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1600" spc="-1" strike="noStrike">
                    <a:solidFill>
                      <a:srgbClr val="000000"/>
                    </a:solidFill>
                    <a:latin typeface="Times New Roman"/>
                  </a:rPr>
                  <a:t>baroreceptory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8" name=""/>
              <p:cNvSpPr/>
              <p:nvPr/>
            </p:nvSpPr>
            <p:spPr>
              <a:xfrm>
                <a:off x="2286000" y="2514600"/>
                <a:ext cx="1905120" cy="533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sysDot"/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9" name=""/>
              <p:cNvSpPr/>
              <p:nvPr/>
            </p:nvSpPr>
            <p:spPr>
              <a:xfrm rot="20969400">
                <a:off x="5226480" y="2494080"/>
                <a:ext cx="74772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600" spc="-1" strike="noStrike">
                    <a:solidFill>
                      <a:srgbClr val="000000"/>
                    </a:solidFill>
                    <a:latin typeface="Times New Roman"/>
                  </a:rPr>
                  <a:t>oblou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600" spc="-1" strike="noStrike">
                    <a:solidFill>
                      <a:srgbClr val="000000"/>
                    </a:solidFill>
                    <a:latin typeface="Times New Roman"/>
                  </a:rPr>
                  <a:t>aorty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0" name=""/>
              <p:cNvSpPr/>
              <p:nvPr/>
            </p:nvSpPr>
            <p:spPr>
              <a:xfrm rot="1265400">
                <a:off x="5255640" y="3621240"/>
                <a:ext cx="13708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600" spc="-1" strike="noStrike">
                    <a:solidFill>
                      <a:srgbClr val="000000"/>
                    </a:solidFill>
                    <a:latin typeface="Times New Roman"/>
                  </a:rPr>
                  <a:t>juxtaglomerul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600" spc="-1" strike="noStrike">
                    <a:solidFill>
                      <a:srgbClr val="000000"/>
                    </a:solidFill>
                    <a:latin typeface="Times New Roman"/>
                  </a:rPr>
                  <a:t>apará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1" name=""/>
              <p:cNvSpPr/>
              <p:nvPr/>
            </p:nvSpPr>
            <p:spPr>
              <a:xfrm flipH="1">
                <a:off x="4343400" y="2286000"/>
                <a:ext cx="17524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sysDot"/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2" name=""/>
              <p:cNvSpPr/>
              <p:nvPr/>
            </p:nvSpPr>
            <p:spPr>
              <a:xfrm flipH="1">
                <a:off x="4343400" y="2438280"/>
                <a:ext cx="1828800" cy="381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sysDot"/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3" name=""/>
              <p:cNvSpPr/>
              <p:nvPr/>
            </p:nvSpPr>
            <p:spPr>
              <a:xfrm>
                <a:off x="6327360" y="2743200"/>
                <a:ext cx="14212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1600" spc="-1" strike="noStrike">
                    <a:solidFill>
                      <a:srgbClr val="000000"/>
                    </a:solidFill>
                    <a:latin typeface="Times New Roman"/>
                  </a:rPr>
                  <a:t>Vysokotlaké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1600" spc="-1" strike="noStrike">
                    <a:solidFill>
                      <a:srgbClr val="000000"/>
                    </a:solidFill>
                    <a:latin typeface="Times New Roman"/>
                  </a:rPr>
                  <a:t>baroreceptory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4" name=""/>
              <p:cNvSpPr/>
              <p:nvPr/>
            </p:nvSpPr>
            <p:spPr>
              <a:xfrm rot="37200">
                <a:off x="4804920" y="1752120"/>
                <a:ext cx="9914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600" spc="-1" strike="noStrike">
                    <a:solidFill>
                      <a:srgbClr val="000000"/>
                    </a:solidFill>
                    <a:latin typeface="Times New Roman"/>
                  </a:rPr>
                  <a:t>glomu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600" spc="-1" strike="noStrike">
                    <a:solidFill>
                      <a:srgbClr val="000000"/>
                    </a:solidFill>
                    <a:latin typeface="Times New Roman"/>
                  </a:rPr>
                  <a:t>caroticum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5" name=""/>
              <p:cNvSpPr/>
              <p:nvPr/>
            </p:nvSpPr>
            <p:spPr>
              <a:xfrm flipH="1">
                <a:off x="2352600" y="1074600"/>
                <a:ext cx="2014560" cy="123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sysDot"/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6" name=""/>
              <p:cNvSpPr/>
              <p:nvPr/>
            </p:nvSpPr>
            <p:spPr>
              <a:xfrm>
                <a:off x="4470480" y="1008000"/>
                <a:ext cx="1812960" cy="1013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sysDot"/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7" name=""/>
              <p:cNvSpPr/>
              <p:nvPr/>
            </p:nvSpPr>
            <p:spPr>
              <a:xfrm>
                <a:off x="377280" y="482760"/>
                <a:ext cx="1521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1600" spc="-1" strike="noStrike">
                    <a:solidFill>
                      <a:srgbClr val="000000"/>
                    </a:solidFill>
                    <a:latin typeface="Times New Roman"/>
                  </a:rPr>
                  <a:t>Osmoreceptory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578" name=""/>
              <p:cNvGrpSpPr/>
              <p:nvPr/>
            </p:nvGrpSpPr>
            <p:grpSpPr>
              <a:xfrm>
                <a:off x="304920" y="76320"/>
                <a:ext cx="685800" cy="804240"/>
                <a:chOff x="304920" y="76320"/>
                <a:chExt cx="685800" cy="804240"/>
              </a:xfrm>
            </p:grpSpPr>
            <p:sp>
              <p:nvSpPr>
                <p:cNvPr id="6579" name=""/>
                <p:cNvSpPr/>
                <p:nvPr/>
              </p:nvSpPr>
              <p:spPr>
                <a:xfrm>
                  <a:off x="568440" y="76320"/>
                  <a:ext cx="422280" cy="44568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80" name=""/>
                <p:cNvSpPr/>
                <p:nvPr/>
              </p:nvSpPr>
              <p:spPr>
                <a:xfrm>
                  <a:off x="584280" y="101520"/>
                  <a:ext cx="378000" cy="402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81" name=""/>
                <p:cNvSpPr/>
                <p:nvPr/>
              </p:nvSpPr>
              <p:spPr>
                <a:xfrm rot="462000">
                  <a:off x="671760" y="154800"/>
                  <a:ext cx="160200" cy="230040"/>
                </a:xfrm>
                <a:custGeom>
                  <a:avLst/>
                  <a:gdLst/>
                  <a:ahLst/>
                  <a:rect l="l" t="t" r="r" b="b"/>
                  <a:pathLst>
                    <a:path w="406" h="695">
                      <a:moveTo>
                        <a:pt x="406" y="610"/>
                      </a:moveTo>
                      <a:lnTo>
                        <a:pt x="154" y="230"/>
                      </a:lnTo>
                      <a:lnTo>
                        <a:pt x="269" y="176"/>
                      </a:lnTo>
                      <a:lnTo>
                        <a:pt x="0" y="0"/>
                      </a:lnTo>
                      <a:lnTo>
                        <a:pt x="8" y="320"/>
                      </a:lnTo>
                      <a:lnTo>
                        <a:pt x="89" y="206"/>
                      </a:lnTo>
                      <a:lnTo>
                        <a:pt x="358" y="695"/>
                      </a:lnTo>
                      <a:lnTo>
                        <a:pt x="406" y="6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582" name=""/>
                <p:cNvGrpSpPr/>
                <p:nvPr/>
              </p:nvGrpSpPr>
              <p:grpSpPr>
                <a:xfrm>
                  <a:off x="304920" y="152280"/>
                  <a:ext cx="228240" cy="728280"/>
                  <a:chOff x="304920" y="152280"/>
                  <a:chExt cx="228240" cy="728280"/>
                </a:xfrm>
              </p:grpSpPr>
              <p:sp>
                <p:nvSpPr>
                  <p:cNvPr id="6583" name=""/>
                  <p:cNvSpPr/>
                  <p:nvPr/>
                </p:nvSpPr>
                <p:spPr>
                  <a:xfrm flipH="1">
                    <a:off x="340560" y="181440"/>
                    <a:ext cx="134280" cy="166680"/>
                  </a:xfrm>
                  <a:custGeom>
                    <a:avLst/>
                    <a:gdLst/>
                    <a:ahLst/>
                    <a:rect l="l" t="t" r="r" b="b"/>
                    <a:pathLst>
                      <a:path w="608" h="594">
                        <a:moveTo>
                          <a:pt x="185" y="250"/>
                        </a:moveTo>
                        <a:lnTo>
                          <a:pt x="238" y="171"/>
                        </a:lnTo>
                        <a:lnTo>
                          <a:pt x="297" y="112"/>
                        </a:lnTo>
                        <a:lnTo>
                          <a:pt x="357" y="39"/>
                        </a:lnTo>
                        <a:lnTo>
                          <a:pt x="430" y="6"/>
                        </a:lnTo>
                        <a:lnTo>
                          <a:pt x="489" y="0"/>
                        </a:lnTo>
                        <a:lnTo>
                          <a:pt x="549" y="19"/>
                        </a:lnTo>
                        <a:lnTo>
                          <a:pt x="581" y="65"/>
                        </a:lnTo>
                        <a:lnTo>
                          <a:pt x="608" y="152"/>
                        </a:lnTo>
                        <a:lnTo>
                          <a:pt x="601" y="244"/>
                        </a:lnTo>
                        <a:lnTo>
                          <a:pt x="575" y="323"/>
                        </a:lnTo>
                        <a:lnTo>
                          <a:pt x="509" y="416"/>
                        </a:lnTo>
                        <a:lnTo>
                          <a:pt x="436" y="482"/>
                        </a:lnTo>
                        <a:lnTo>
                          <a:pt x="357" y="541"/>
                        </a:lnTo>
                        <a:lnTo>
                          <a:pt x="271" y="581"/>
                        </a:lnTo>
                        <a:lnTo>
                          <a:pt x="198" y="594"/>
                        </a:lnTo>
                        <a:lnTo>
                          <a:pt x="166" y="575"/>
                        </a:lnTo>
                        <a:lnTo>
                          <a:pt x="138" y="496"/>
                        </a:lnTo>
                        <a:lnTo>
                          <a:pt x="145" y="390"/>
                        </a:lnTo>
                        <a:lnTo>
                          <a:pt x="19" y="396"/>
                        </a:lnTo>
                        <a:lnTo>
                          <a:pt x="0" y="376"/>
                        </a:lnTo>
                        <a:lnTo>
                          <a:pt x="19" y="337"/>
                        </a:lnTo>
                        <a:lnTo>
                          <a:pt x="152" y="330"/>
                        </a:lnTo>
                        <a:lnTo>
                          <a:pt x="185" y="25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84" name=""/>
                  <p:cNvSpPr/>
                  <p:nvPr/>
                </p:nvSpPr>
                <p:spPr>
                  <a:xfrm flipH="1">
                    <a:off x="389160" y="356760"/>
                    <a:ext cx="92520" cy="243720"/>
                  </a:xfrm>
                  <a:custGeom>
                    <a:avLst/>
                    <a:gdLst/>
                    <a:ahLst/>
                    <a:rect l="l" t="t" r="r" b="b"/>
                    <a:pathLst>
                      <a:path w="422" h="874">
                        <a:moveTo>
                          <a:pt x="119" y="74"/>
                        </a:moveTo>
                        <a:lnTo>
                          <a:pt x="178" y="21"/>
                        </a:lnTo>
                        <a:lnTo>
                          <a:pt x="270" y="0"/>
                        </a:lnTo>
                        <a:lnTo>
                          <a:pt x="349" y="14"/>
                        </a:lnTo>
                        <a:lnTo>
                          <a:pt x="408" y="67"/>
                        </a:lnTo>
                        <a:lnTo>
                          <a:pt x="422" y="107"/>
                        </a:lnTo>
                        <a:lnTo>
                          <a:pt x="422" y="159"/>
                        </a:lnTo>
                        <a:lnTo>
                          <a:pt x="396" y="206"/>
                        </a:lnTo>
                        <a:lnTo>
                          <a:pt x="349" y="285"/>
                        </a:lnTo>
                        <a:lnTo>
                          <a:pt x="330" y="378"/>
                        </a:lnTo>
                        <a:lnTo>
                          <a:pt x="323" y="456"/>
                        </a:lnTo>
                        <a:lnTo>
                          <a:pt x="342" y="543"/>
                        </a:lnTo>
                        <a:lnTo>
                          <a:pt x="396" y="622"/>
                        </a:lnTo>
                        <a:lnTo>
                          <a:pt x="415" y="702"/>
                        </a:lnTo>
                        <a:lnTo>
                          <a:pt x="408" y="774"/>
                        </a:lnTo>
                        <a:lnTo>
                          <a:pt x="370" y="834"/>
                        </a:lnTo>
                        <a:lnTo>
                          <a:pt x="316" y="867"/>
                        </a:lnTo>
                        <a:lnTo>
                          <a:pt x="251" y="874"/>
                        </a:lnTo>
                        <a:lnTo>
                          <a:pt x="171" y="874"/>
                        </a:lnTo>
                        <a:lnTo>
                          <a:pt x="112" y="840"/>
                        </a:lnTo>
                        <a:lnTo>
                          <a:pt x="52" y="741"/>
                        </a:lnTo>
                        <a:lnTo>
                          <a:pt x="14" y="655"/>
                        </a:lnTo>
                        <a:lnTo>
                          <a:pt x="0" y="523"/>
                        </a:lnTo>
                        <a:lnTo>
                          <a:pt x="14" y="404"/>
                        </a:lnTo>
                        <a:lnTo>
                          <a:pt x="40" y="278"/>
                        </a:lnTo>
                        <a:lnTo>
                          <a:pt x="80" y="152"/>
                        </a:lnTo>
                        <a:lnTo>
                          <a:pt x="119" y="7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85" name=""/>
                  <p:cNvSpPr/>
                  <p:nvPr/>
                </p:nvSpPr>
                <p:spPr>
                  <a:xfrm flipH="1">
                    <a:off x="304920" y="364680"/>
                    <a:ext cx="102960" cy="218880"/>
                  </a:xfrm>
                  <a:custGeom>
                    <a:avLst/>
                    <a:gdLst/>
                    <a:ahLst/>
                    <a:rect l="l" t="t" r="r" b="b"/>
                    <a:pathLst>
                      <a:path w="468" h="787">
                        <a:moveTo>
                          <a:pt x="0" y="39"/>
                        </a:moveTo>
                        <a:lnTo>
                          <a:pt x="5" y="6"/>
                        </a:lnTo>
                        <a:lnTo>
                          <a:pt x="78" y="0"/>
                        </a:lnTo>
                        <a:lnTo>
                          <a:pt x="118" y="33"/>
                        </a:lnTo>
                        <a:lnTo>
                          <a:pt x="178" y="119"/>
                        </a:lnTo>
                        <a:lnTo>
                          <a:pt x="256" y="231"/>
                        </a:lnTo>
                        <a:lnTo>
                          <a:pt x="328" y="310"/>
                        </a:lnTo>
                        <a:lnTo>
                          <a:pt x="461" y="456"/>
                        </a:lnTo>
                        <a:lnTo>
                          <a:pt x="468" y="489"/>
                        </a:lnTo>
                        <a:lnTo>
                          <a:pt x="441" y="509"/>
                        </a:lnTo>
                        <a:lnTo>
                          <a:pt x="375" y="535"/>
                        </a:lnTo>
                        <a:lnTo>
                          <a:pt x="283" y="556"/>
                        </a:lnTo>
                        <a:lnTo>
                          <a:pt x="171" y="562"/>
                        </a:lnTo>
                        <a:lnTo>
                          <a:pt x="131" y="568"/>
                        </a:lnTo>
                        <a:lnTo>
                          <a:pt x="118" y="595"/>
                        </a:lnTo>
                        <a:lnTo>
                          <a:pt x="144" y="641"/>
                        </a:lnTo>
                        <a:lnTo>
                          <a:pt x="237" y="720"/>
                        </a:lnTo>
                        <a:lnTo>
                          <a:pt x="302" y="741"/>
                        </a:lnTo>
                        <a:lnTo>
                          <a:pt x="316" y="767"/>
                        </a:lnTo>
                        <a:lnTo>
                          <a:pt x="289" y="787"/>
                        </a:lnTo>
                        <a:lnTo>
                          <a:pt x="230" y="787"/>
                        </a:lnTo>
                        <a:lnTo>
                          <a:pt x="151" y="741"/>
                        </a:lnTo>
                        <a:lnTo>
                          <a:pt x="85" y="675"/>
                        </a:lnTo>
                        <a:lnTo>
                          <a:pt x="45" y="615"/>
                        </a:lnTo>
                        <a:lnTo>
                          <a:pt x="45" y="568"/>
                        </a:lnTo>
                        <a:lnTo>
                          <a:pt x="71" y="535"/>
                        </a:lnTo>
                        <a:lnTo>
                          <a:pt x="111" y="523"/>
                        </a:lnTo>
                        <a:lnTo>
                          <a:pt x="171" y="516"/>
                        </a:lnTo>
                        <a:lnTo>
                          <a:pt x="237" y="516"/>
                        </a:lnTo>
                        <a:lnTo>
                          <a:pt x="316" y="502"/>
                        </a:lnTo>
                        <a:lnTo>
                          <a:pt x="356" y="489"/>
                        </a:lnTo>
                        <a:lnTo>
                          <a:pt x="375" y="469"/>
                        </a:lnTo>
                        <a:lnTo>
                          <a:pt x="368" y="450"/>
                        </a:lnTo>
                        <a:lnTo>
                          <a:pt x="309" y="397"/>
                        </a:lnTo>
                        <a:lnTo>
                          <a:pt x="216" y="304"/>
                        </a:lnTo>
                        <a:lnTo>
                          <a:pt x="131" y="225"/>
                        </a:lnTo>
                        <a:lnTo>
                          <a:pt x="38" y="139"/>
                        </a:lnTo>
                        <a:lnTo>
                          <a:pt x="5" y="79"/>
                        </a:lnTo>
                        <a:lnTo>
                          <a:pt x="0" y="3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86" name=""/>
                  <p:cNvSpPr/>
                  <p:nvPr/>
                </p:nvSpPr>
                <p:spPr>
                  <a:xfrm flipH="1">
                    <a:off x="362880" y="548280"/>
                    <a:ext cx="111960" cy="332280"/>
                  </a:xfrm>
                  <a:custGeom>
                    <a:avLst/>
                    <a:gdLst/>
                    <a:ahLst/>
                    <a:rect l="l" t="t" r="r" b="b"/>
                    <a:pathLst>
                      <a:path w="508" h="1185">
                        <a:moveTo>
                          <a:pt x="251" y="0"/>
                        </a:moveTo>
                        <a:lnTo>
                          <a:pt x="323" y="14"/>
                        </a:lnTo>
                        <a:lnTo>
                          <a:pt x="356" y="67"/>
                        </a:lnTo>
                        <a:lnTo>
                          <a:pt x="349" y="192"/>
                        </a:lnTo>
                        <a:lnTo>
                          <a:pt x="337" y="325"/>
                        </a:lnTo>
                        <a:lnTo>
                          <a:pt x="337" y="463"/>
                        </a:lnTo>
                        <a:lnTo>
                          <a:pt x="402" y="629"/>
                        </a:lnTo>
                        <a:lnTo>
                          <a:pt x="455" y="748"/>
                        </a:lnTo>
                        <a:lnTo>
                          <a:pt x="482" y="867"/>
                        </a:lnTo>
                        <a:lnTo>
                          <a:pt x="475" y="973"/>
                        </a:lnTo>
                        <a:lnTo>
                          <a:pt x="475" y="1012"/>
                        </a:lnTo>
                        <a:lnTo>
                          <a:pt x="501" y="1052"/>
                        </a:lnTo>
                        <a:lnTo>
                          <a:pt x="508" y="1092"/>
                        </a:lnTo>
                        <a:lnTo>
                          <a:pt x="489" y="1111"/>
                        </a:lnTo>
                        <a:lnTo>
                          <a:pt x="435" y="1099"/>
                        </a:lnTo>
                        <a:lnTo>
                          <a:pt x="337" y="1085"/>
                        </a:lnTo>
                        <a:lnTo>
                          <a:pt x="218" y="1111"/>
                        </a:lnTo>
                        <a:lnTo>
                          <a:pt x="138" y="1158"/>
                        </a:lnTo>
                        <a:lnTo>
                          <a:pt x="99" y="1185"/>
                        </a:lnTo>
                        <a:lnTo>
                          <a:pt x="59" y="1185"/>
                        </a:lnTo>
                        <a:lnTo>
                          <a:pt x="0" y="1099"/>
                        </a:lnTo>
                        <a:lnTo>
                          <a:pt x="7" y="1085"/>
                        </a:lnTo>
                        <a:lnTo>
                          <a:pt x="126" y="1045"/>
                        </a:lnTo>
                        <a:lnTo>
                          <a:pt x="264" y="1026"/>
                        </a:lnTo>
                        <a:lnTo>
                          <a:pt x="363" y="1019"/>
                        </a:lnTo>
                        <a:lnTo>
                          <a:pt x="422" y="1019"/>
                        </a:lnTo>
                        <a:lnTo>
                          <a:pt x="435" y="979"/>
                        </a:lnTo>
                        <a:lnTo>
                          <a:pt x="416" y="867"/>
                        </a:lnTo>
                        <a:lnTo>
                          <a:pt x="370" y="748"/>
                        </a:lnTo>
                        <a:lnTo>
                          <a:pt x="297" y="596"/>
                        </a:lnTo>
                        <a:lnTo>
                          <a:pt x="237" y="463"/>
                        </a:lnTo>
                        <a:lnTo>
                          <a:pt x="211" y="344"/>
                        </a:lnTo>
                        <a:lnTo>
                          <a:pt x="204" y="212"/>
                        </a:lnTo>
                        <a:lnTo>
                          <a:pt x="204" y="86"/>
                        </a:lnTo>
                        <a:lnTo>
                          <a:pt x="231" y="34"/>
                        </a:lnTo>
                        <a:lnTo>
                          <a:pt x="251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87" name=""/>
                  <p:cNvSpPr/>
                  <p:nvPr/>
                </p:nvSpPr>
                <p:spPr>
                  <a:xfrm flipH="1">
                    <a:off x="437040" y="558360"/>
                    <a:ext cx="93240" cy="275040"/>
                  </a:xfrm>
                  <a:custGeom>
                    <a:avLst/>
                    <a:gdLst/>
                    <a:ahLst/>
                    <a:rect l="l" t="t" r="r" b="b"/>
                    <a:pathLst>
                      <a:path w="421" h="985">
                        <a:moveTo>
                          <a:pt x="316" y="0"/>
                        </a:moveTo>
                        <a:lnTo>
                          <a:pt x="375" y="0"/>
                        </a:lnTo>
                        <a:lnTo>
                          <a:pt x="395" y="40"/>
                        </a:lnTo>
                        <a:lnTo>
                          <a:pt x="408" y="126"/>
                        </a:lnTo>
                        <a:lnTo>
                          <a:pt x="395" y="218"/>
                        </a:lnTo>
                        <a:lnTo>
                          <a:pt x="362" y="403"/>
                        </a:lnTo>
                        <a:lnTo>
                          <a:pt x="368" y="482"/>
                        </a:lnTo>
                        <a:lnTo>
                          <a:pt x="408" y="641"/>
                        </a:lnTo>
                        <a:lnTo>
                          <a:pt x="421" y="754"/>
                        </a:lnTo>
                        <a:lnTo>
                          <a:pt x="421" y="840"/>
                        </a:lnTo>
                        <a:lnTo>
                          <a:pt x="402" y="859"/>
                        </a:lnTo>
                        <a:lnTo>
                          <a:pt x="342" y="873"/>
                        </a:lnTo>
                        <a:lnTo>
                          <a:pt x="263" y="892"/>
                        </a:lnTo>
                        <a:lnTo>
                          <a:pt x="184" y="932"/>
                        </a:lnTo>
                        <a:lnTo>
                          <a:pt x="105" y="985"/>
                        </a:lnTo>
                        <a:lnTo>
                          <a:pt x="72" y="985"/>
                        </a:lnTo>
                        <a:lnTo>
                          <a:pt x="0" y="926"/>
                        </a:lnTo>
                        <a:lnTo>
                          <a:pt x="6" y="899"/>
                        </a:lnTo>
                        <a:lnTo>
                          <a:pt x="98" y="859"/>
                        </a:lnTo>
                        <a:lnTo>
                          <a:pt x="257" y="819"/>
                        </a:lnTo>
                        <a:lnTo>
                          <a:pt x="329" y="793"/>
                        </a:lnTo>
                        <a:lnTo>
                          <a:pt x="342" y="767"/>
                        </a:lnTo>
                        <a:lnTo>
                          <a:pt x="342" y="655"/>
                        </a:lnTo>
                        <a:lnTo>
                          <a:pt x="316" y="510"/>
                        </a:lnTo>
                        <a:lnTo>
                          <a:pt x="302" y="417"/>
                        </a:lnTo>
                        <a:lnTo>
                          <a:pt x="290" y="271"/>
                        </a:lnTo>
                        <a:lnTo>
                          <a:pt x="283" y="112"/>
                        </a:lnTo>
                        <a:lnTo>
                          <a:pt x="290" y="40"/>
                        </a:lnTo>
                        <a:lnTo>
                          <a:pt x="316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88" name=""/>
                  <p:cNvSpPr/>
                  <p:nvPr/>
                </p:nvSpPr>
                <p:spPr>
                  <a:xfrm flipH="1">
                    <a:off x="380520" y="152280"/>
                    <a:ext cx="152640" cy="245880"/>
                  </a:xfrm>
                  <a:custGeom>
                    <a:avLst/>
                    <a:gdLst/>
                    <a:ahLst/>
                    <a:rect l="l" t="t" r="r" b="b"/>
                    <a:pathLst>
                      <a:path w="692" h="879">
                        <a:moveTo>
                          <a:pt x="368" y="879"/>
                        </a:moveTo>
                        <a:lnTo>
                          <a:pt x="401" y="839"/>
                        </a:lnTo>
                        <a:lnTo>
                          <a:pt x="389" y="780"/>
                        </a:lnTo>
                        <a:lnTo>
                          <a:pt x="363" y="701"/>
                        </a:lnTo>
                        <a:lnTo>
                          <a:pt x="263" y="608"/>
                        </a:lnTo>
                        <a:lnTo>
                          <a:pt x="164" y="523"/>
                        </a:lnTo>
                        <a:lnTo>
                          <a:pt x="118" y="429"/>
                        </a:lnTo>
                        <a:lnTo>
                          <a:pt x="99" y="284"/>
                        </a:lnTo>
                        <a:lnTo>
                          <a:pt x="211" y="244"/>
                        </a:lnTo>
                        <a:lnTo>
                          <a:pt x="389" y="225"/>
                        </a:lnTo>
                        <a:lnTo>
                          <a:pt x="461" y="232"/>
                        </a:lnTo>
                        <a:lnTo>
                          <a:pt x="481" y="251"/>
                        </a:lnTo>
                        <a:lnTo>
                          <a:pt x="513" y="218"/>
                        </a:lnTo>
                        <a:lnTo>
                          <a:pt x="501" y="185"/>
                        </a:lnTo>
                        <a:lnTo>
                          <a:pt x="520" y="126"/>
                        </a:lnTo>
                        <a:lnTo>
                          <a:pt x="573" y="73"/>
                        </a:lnTo>
                        <a:lnTo>
                          <a:pt x="613" y="59"/>
                        </a:lnTo>
                        <a:lnTo>
                          <a:pt x="665" y="92"/>
                        </a:lnTo>
                        <a:lnTo>
                          <a:pt x="692" y="59"/>
                        </a:lnTo>
                        <a:lnTo>
                          <a:pt x="646" y="0"/>
                        </a:lnTo>
                        <a:lnTo>
                          <a:pt x="586" y="0"/>
                        </a:lnTo>
                        <a:lnTo>
                          <a:pt x="513" y="33"/>
                        </a:lnTo>
                        <a:lnTo>
                          <a:pt x="468" y="120"/>
                        </a:lnTo>
                        <a:lnTo>
                          <a:pt x="408" y="159"/>
                        </a:lnTo>
                        <a:lnTo>
                          <a:pt x="316" y="172"/>
                        </a:lnTo>
                        <a:lnTo>
                          <a:pt x="151" y="192"/>
                        </a:lnTo>
                        <a:lnTo>
                          <a:pt x="19" y="232"/>
                        </a:lnTo>
                        <a:lnTo>
                          <a:pt x="0" y="265"/>
                        </a:lnTo>
                        <a:lnTo>
                          <a:pt x="12" y="370"/>
                        </a:lnTo>
                        <a:lnTo>
                          <a:pt x="59" y="516"/>
                        </a:lnTo>
                        <a:lnTo>
                          <a:pt x="125" y="635"/>
                        </a:lnTo>
                        <a:lnTo>
                          <a:pt x="190" y="740"/>
                        </a:lnTo>
                        <a:lnTo>
                          <a:pt x="250" y="813"/>
                        </a:lnTo>
                        <a:lnTo>
                          <a:pt x="309" y="865"/>
                        </a:lnTo>
                        <a:lnTo>
                          <a:pt x="368" y="87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6589" name=""/>
              <p:cNvSpPr/>
              <p:nvPr/>
            </p:nvSpPr>
            <p:spPr>
              <a:xfrm flipH="1" flipV="1">
                <a:off x="1084320" y="294840"/>
                <a:ext cx="6642000" cy="44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sysDot"/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0" name=""/>
              <p:cNvSpPr/>
              <p:nvPr/>
            </p:nvSpPr>
            <p:spPr>
              <a:xfrm>
                <a:off x="1523880" y="1397160"/>
                <a:ext cx="6096240" cy="406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591" name=""/>
              <p:cNvGrpSpPr/>
              <p:nvPr/>
            </p:nvGrpSpPr>
            <p:grpSpPr>
              <a:xfrm>
                <a:off x="4114440" y="1523880"/>
                <a:ext cx="609480" cy="685440"/>
                <a:chOff x="4114440" y="1523880"/>
                <a:chExt cx="609480" cy="685440"/>
              </a:xfrm>
            </p:grpSpPr>
            <p:grpSp>
              <p:nvGrpSpPr>
                <p:cNvPr id="6592" name=""/>
                <p:cNvGrpSpPr/>
                <p:nvPr/>
              </p:nvGrpSpPr>
              <p:grpSpPr>
                <a:xfrm>
                  <a:off x="4114440" y="1523880"/>
                  <a:ext cx="609480" cy="404640"/>
                  <a:chOff x="4114440" y="1523880"/>
                  <a:chExt cx="609480" cy="404640"/>
                </a:xfrm>
              </p:grpSpPr>
              <p:grpSp>
                <p:nvGrpSpPr>
                  <p:cNvPr id="6593" name=""/>
                  <p:cNvGrpSpPr/>
                  <p:nvPr/>
                </p:nvGrpSpPr>
                <p:grpSpPr>
                  <a:xfrm>
                    <a:off x="4114440" y="1523880"/>
                    <a:ext cx="609480" cy="354600"/>
                    <a:chOff x="4114440" y="1523880"/>
                    <a:chExt cx="609480" cy="354600"/>
                  </a:xfrm>
                </p:grpSpPr>
                <p:sp>
                  <p:nvSpPr>
                    <p:cNvPr id="6594" name=""/>
                    <p:cNvSpPr/>
                    <p:nvPr/>
                  </p:nvSpPr>
                  <p:spPr>
                    <a:xfrm flipH="1">
                      <a:off x="4114080" y="1523880"/>
                      <a:ext cx="609480" cy="354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966" h="1139">
                          <a:moveTo>
                            <a:pt x="624" y="55"/>
                          </a:moveTo>
                          <a:lnTo>
                            <a:pt x="685" y="35"/>
                          </a:lnTo>
                          <a:lnTo>
                            <a:pt x="744" y="25"/>
                          </a:lnTo>
                          <a:lnTo>
                            <a:pt x="818" y="13"/>
                          </a:lnTo>
                          <a:lnTo>
                            <a:pt x="900" y="4"/>
                          </a:lnTo>
                          <a:lnTo>
                            <a:pt x="969" y="0"/>
                          </a:lnTo>
                          <a:lnTo>
                            <a:pt x="1048" y="5"/>
                          </a:lnTo>
                          <a:lnTo>
                            <a:pt x="1152" y="22"/>
                          </a:lnTo>
                          <a:lnTo>
                            <a:pt x="1282" y="48"/>
                          </a:lnTo>
                          <a:lnTo>
                            <a:pt x="1386" y="79"/>
                          </a:lnTo>
                          <a:lnTo>
                            <a:pt x="1475" y="114"/>
                          </a:lnTo>
                          <a:lnTo>
                            <a:pt x="1520" y="140"/>
                          </a:lnTo>
                          <a:lnTo>
                            <a:pt x="1559" y="163"/>
                          </a:lnTo>
                          <a:lnTo>
                            <a:pt x="1612" y="208"/>
                          </a:lnTo>
                          <a:lnTo>
                            <a:pt x="1634" y="233"/>
                          </a:lnTo>
                          <a:lnTo>
                            <a:pt x="1662" y="252"/>
                          </a:lnTo>
                          <a:lnTo>
                            <a:pt x="1705" y="269"/>
                          </a:lnTo>
                          <a:lnTo>
                            <a:pt x="1750" y="285"/>
                          </a:lnTo>
                          <a:lnTo>
                            <a:pt x="1794" y="306"/>
                          </a:lnTo>
                          <a:lnTo>
                            <a:pt x="1830" y="337"/>
                          </a:lnTo>
                          <a:lnTo>
                            <a:pt x="1851" y="363"/>
                          </a:lnTo>
                          <a:lnTo>
                            <a:pt x="1877" y="410"/>
                          </a:lnTo>
                          <a:lnTo>
                            <a:pt x="1907" y="489"/>
                          </a:lnTo>
                          <a:lnTo>
                            <a:pt x="1932" y="575"/>
                          </a:lnTo>
                          <a:lnTo>
                            <a:pt x="1953" y="648"/>
                          </a:lnTo>
                          <a:lnTo>
                            <a:pt x="1965" y="691"/>
                          </a:lnTo>
                          <a:lnTo>
                            <a:pt x="1966" y="739"/>
                          </a:lnTo>
                          <a:lnTo>
                            <a:pt x="1957" y="790"/>
                          </a:lnTo>
                          <a:lnTo>
                            <a:pt x="1946" y="851"/>
                          </a:lnTo>
                          <a:lnTo>
                            <a:pt x="1934" y="909"/>
                          </a:lnTo>
                          <a:lnTo>
                            <a:pt x="1920" y="956"/>
                          </a:lnTo>
                          <a:lnTo>
                            <a:pt x="1900" y="992"/>
                          </a:lnTo>
                          <a:lnTo>
                            <a:pt x="1880" y="1016"/>
                          </a:lnTo>
                          <a:lnTo>
                            <a:pt x="1852" y="1036"/>
                          </a:lnTo>
                          <a:lnTo>
                            <a:pt x="1829" y="1045"/>
                          </a:lnTo>
                          <a:lnTo>
                            <a:pt x="1793" y="1051"/>
                          </a:lnTo>
                          <a:lnTo>
                            <a:pt x="1711" y="1057"/>
                          </a:lnTo>
                          <a:lnTo>
                            <a:pt x="1625" y="1067"/>
                          </a:lnTo>
                          <a:lnTo>
                            <a:pt x="1539" y="1085"/>
                          </a:lnTo>
                          <a:lnTo>
                            <a:pt x="1349" y="1115"/>
                          </a:lnTo>
                          <a:lnTo>
                            <a:pt x="1239" y="1127"/>
                          </a:lnTo>
                          <a:lnTo>
                            <a:pt x="1067" y="1139"/>
                          </a:lnTo>
                          <a:lnTo>
                            <a:pt x="938" y="1127"/>
                          </a:lnTo>
                          <a:lnTo>
                            <a:pt x="790" y="1109"/>
                          </a:lnTo>
                          <a:lnTo>
                            <a:pt x="686" y="1073"/>
                          </a:lnTo>
                          <a:lnTo>
                            <a:pt x="645" y="1044"/>
                          </a:lnTo>
                          <a:lnTo>
                            <a:pt x="615" y="1023"/>
                          </a:lnTo>
                          <a:lnTo>
                            <a:pt x="575" y="1005"/>
                          </a:lnTo>
                          <a:lnTo>
                            <a:pt x="541" y="996"/>
                          </a:lnTo>
                          <a:lnTo>
                            <a:pt x="510" y="996"/>
                          </a:lnTo>
                          <a:lnTo>
                            <a:pt x="478" y="993"/>
                          </a:lnTo>
                          <a:lnTo>
                            <a:pt x="429" y="971"/>
                          </a:lnTo>
                          <a:lnTo>
                            <a:pt x="395" y="948"/>
                          </a:lnTo>
                          <a:lnTo>
                            <a:pt x="374" y="925"/>
                          </a:lnTo>
                          <a:lnTo>
                            <a:pt x="364" y="897"/>
                          </a:lnTo>
                          <a:lnTo>
                            <a:pt x="356" y="866"/>
                          </a:lnTo>
                          <a:lnTo>
                            <a:pt x="343" y="846"/>
                          </a:lnTo>
                          <a:lnTo>
                            <a:pt x="312" y="821"/>
                          </a:lnTo>
                          <a:lnTo>
                            <a:pt x="263" y="796"/>
                          </a:lnTo>
                          <a:lnTo>
                            <a:pt x="212" y="786"/>
                          </a:lnTo>
                          <a:lnTo>
                            <a:pt x="168" y="777"/>
                          </a:lnTo>
                          <a:lnTo>
                            <a:pt x="117" y="759"/>
                          </a:lnTo>
                          <a:lnTo>
                            <a:pt x="77" y="741"/>
                          </a:lnTo>
                          <a:lnTo>
                            <a:pt x="45" y="718"/>
                          </a:lnTo>
                          <a:lnTo>
                            <a:pt x="28" y="697"/>
                          </a:lnTo>
                          <a:lnTo>
                            <a:pt x="14" y="653"/>
                          </a:lnTo>
                          <a:lnTo>
                            <a:pt x="5" y="606"/>
                          </a:lnTo>
                          <a:lnTo>
                            <a:pt x="0" y="563"/>
                          </a:lnTo>
                          <a:lnTo>
                            <a:pt x="5" y="514"/>
                          </a:lnTo>
                          <a:lnTo>
                            <a:pt x="22" y="453"/>
                          </a:lnTo>
                          <a:lnTo>
                            <a:pt x="48" y="398"/>
                          </a:lnTo>
                          <a:lnTo>
                            <a:pt x="89" y="339"/>
                          </a:lnTo>
                          <a:lnTo>
                            <a:pt x="143" y="290"/>
                          </a:lnTo>
                          <a:lnTo>
                            <a:pt x="196" y="256"/>
                          </a:lnTo>
                          <a:lnTo>
                            <a:pt x="238" y="232"/>
                          </a:lnTo>
                          <a:lnTo>
                            <a:pt x="300" y="216"/>
                          </a:lnTo>
                          <a:lnTo>
                            <a:pt x="343" y="210"/>
                          </a:lnTo>
                          <a:lnTo>
                            <a:pt x="384" y="194"/>
                          </a:lnTo>
                          <a:lnTo>
                            <a:pt x="450" y="156"/>
                          </a:lnTo>
                          <a:lnTo>
                            <a:pt x="502" y="118"/>
                          </a:lnTo>
                          <a:lnTo>
                            <a:pt x="566" y="81"/>
                          </a:lnTo>
                          <a:lnTo>
                            <a:pt x="624" y="55"/>
                          </a:lnTo>
                          <a:close/>
                        </a:path>
                      </a:pathLst>
                    </a:custGeom>
                    <a:solidFill>
                      <a:srgbClr val="ff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6595" name=""/>
                    <p:cNvGrpSpPr/>
                    <p:nvPr/>
                  </p:nvGrpSpPr>
                  <p:grpSpPr>
                    <a:xfrm>
                      <a:off x="4135680" y="1534320"/>
                      <a:ext cx="573480" cy="286200"/>
                      <a:chOff x="4135680" y="1534320"/>
                      <a:chExt cx="573480" cy="286200"/>
                    </a:xfrm>
                  </p:grpSpPr>
                  <p:grpSp>
                    <p:nvGrpSpPr>
                      <p:cNvPr id="6596" name=""/>
                      <p:cNvGrpSpPr/>
                      <p:nvPr/>
                    </p:nvGrpSpPr>
                    <p:grpSpPr>
                      <a:xfrm>
                        <a:off x="4605840" y="1657800"/>
                        <a:ext cx="103320" cy="137880"/>
                        <a:chOff x="4605840" y="1657800"/>
                        <a:chExt cx="103320" cy="137880"/>
                      </a:xfrm>
                    </p:grpSpPr>
                    <p:sp>
                      <p:nvSpPr>
                        <p:cNvPr id="6597" name=""/>
                        <p:cNvSpPr/>
                        <p:nvPr/>
                      </p:nvSpPr>
                      <p:spPr>
                        <a:xfrm flipH="1">
                          <a:off x="4605480" y="1657800"/>
                          <a:ext cx="103320" cy="1378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34" h="445">
                              <a:moveTo>
                                <a:pt x="5" y="0"/>
                              </a:moveTo>
                              <a:lnTo>
                                <a:pt x="2" y="18"/>
                              </a:lnTo>
                              <a:lnTo>
                                <a:pt x="0" y="41"/>
                              </a:lnTo>
                              <a:lnTo>
                                <a:pt x="2" y="60"/>
                              </a:lnTo>
                              <a:lnTo>
                                <a:pt x="8" y="83"/>
                              </a:lnTo>
                              <a:lnTo>
                                <a:pt x="16" y="101"/>
                              </a:lnTo>
                              <a:lnTo>
                                <a:pt x="30" y="123"/>
                              </a:lnTo>
                              <a:lnTo>
                                <a:pt x="47" y="143"/>
                              </a:lnTo>
                              <a:lnTo>
                                <a:pt x="71" y="159"/>
                              </a:lnTo>
                              <a:lnTo>
                                <a:pt x="97" y="169"/>
                              </a:lnTo>
                              <a:lnTo>
                                <a:pt x="123" y="180"/>
                              </a:lnTo>
                              <a:lnTo>
                                <a:pt x="128" y="200"/>
                              </a:lnTo>
                              <a:lnTo>
                                <a:pt x="137" y="224"/>
                              </a:lnTo>
                              <a:lnTo>
                                <a:pt x="152" y="248"/>
                              </a:lnTo>
                              <a:lnTo>
                                <a:pt x="172" y="273"/>
                              </a:lnTo>
                              <a:lnTo>
                                <a:pt x="203" y="302"/>
                              </a:lnTo>
                              <a:lnTo>
                                <a:pt x="227" y="322"/>
                              </a:lnTo>
                              <a:lnTo>
                                <a:pt x="246" y="332"/>
                              </a:lnTo>
                              <a:lnTo>
                                <a:pt x="277" y="345"/>
                              </a:lnTo>
                              <a:lnTo>
                                <a:pt x="310" y="354"/>
                              </a:lnTo>
                              <a:lnTo>
                                <a:pt x="323" y="359"/>
                              </a:lnTo>
                              <a:lnTo>
                                <a:pt x="331" y="368"/>
                              </a:lnTo>
                              <a:lnTo>
                                <a:pt x="334" y="380"/>
                              </a:lnTo>
                              <a:lnTo>
                                <a:pt x="329" y="418"/>
                              </a:lnTo>
                              <a:lnTo>
                                <a:pt x="322" y="445"/>
                              </a:lnTo>
                            </a:path>
                          </a:pathLst>
                        </a:custGeom>
                        <a:noFill/>
                        <a:ln w="12600">
                          <a:solidFill>
                            <a:srgbClr val="ff808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598" name=""/>
                        <p:cNvSpPr/>
                        <p:nvPr/>
                      </p:nvSpPr>
                      <p:spPr>
                        <a:xfrm flipH="1">
                          <a:off x="4665960" y="1674360"/>
                          <a:ext cx="5400" cy="388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7" h="126">
                              <a:moveTo>
                                <a:pt x="11" y="0"/>
                              </a:moveTo>
                              <a:lnTo>
                                <a:pt x="14" y="36"/>
                              </a:lnTo>
                              <a:lnTo>
                                <a:pt x="17" y="67"/>
                              </a:lnTo>
                              <a:lnTo>
                                <a:pt x="12" y="98"/>
                              </a:lnTo>
                              <a:lnTo>
                                <a:pt x="0" y="126"/>
                              </a:lnTo>
                            </a:path>
                          </a:pathLst>
                        </a:custGeom>
                        <a:noFill/>
                        <a:ln w="12600">
                          <a:solidFill>
                            <a:srgbClr val="ff808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7920" bIns="-79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6599" name=""/>
                      <p:cNvSpPr/>
                      <p:nvPr/>
                    </p:nvSpPr>
                    <p:spPr>
                      <a:xfrm flipH="1">
                        <a:off x="4521600" y="1694160"/>
                        <a:ext cx="97200" cy="72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16" h="233">
                            <a:moveTo>
                              <a:pt x="0" y="0"/>
                            </a:moveTo>
                            <a:lnTo>
                              <a:pt x="6" y="32"/>
                            </a:lnTo>
                            <a:lnTo>
                              <a:pt x="18" y="74"/>
                            </a:lnTo>
                            <a:lnTo>
                              <a:pt x="28" y="101"/>
                            </a:lnTo>
                            <a:lnTo>
                              <a:pt x="40" y="119"/>
                            </a:lnTo>
                            <a:lnTo>
                              <a:pt x="70" y="138"/>
                            </a:lnTo>
                            <a:lnTo>
                              <a:pt x="95" y="148"/>
                            </a:lnTo>
                            <a:lnTo>
                              <a:pt x="122" y="159"/>
                            </a:lnTo>
                            <a:lnTo>
                              <a:pt x="163" y="177"/>
                            </a:lnTo>
                            <a:lnTo>
                              <a:pt x="200" y="202"/>
                            </a:lnTo>
                            <a:lnTo>
                              <a:pt x="226" y="222"/>
                            </a:lnTo>
                            <a:lnTo>
                              <a:pt x="249" y="228"/>
                            </a:lnTo>
                            <a:lnTo>
                              <a:pt x="277" y="233"/>
                            </a:lnTo>
                            <a:lnTo>
                              <a:pt x="314" y="230"/>
                            </a:lnTo>
                            <a:lnTo>
                              <a:pt x="316" y="230"/>
                            </a:lnTo>
                          </a:path>
                        </a:pathLst>
                      </a:custGeom>
                      <a:noFill/>
                      <a:ln w="12600">
                        <a:solidFill>
                          <a:srgbClr val="ff808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5200" bIns="252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600" name=""/>
                      <p:cNvSpPr/>
                      <p:nvPr/>
                    </p:nvSpPr>
                    <p:spPr>
                      <a:xfrm flipH="1">
                        <a:off x="4545000" y="1633680"/>
                        <a:ext cx="66960" cy="18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" h="60">
                            <a:moveTo>
                              <a:pt x="0" y="60"/>
                            </a:moveTo>
                            <a:lnTo>
                              <a:pt x="28" y="42"/>
                            </a:lnTo>
                            <a:lnTo>
                              <a:pt x="53" y="26"/>
                            </a:lnTo>
                            <a:lnTo>
                              <a:pt x="88" y="11"/>
                            </a:lnTo>
                            <a:lnTo>
                              <a:pt x="119" y="5"/>
                            </a:lnTo>
                            <a:lnTo>
                              <a:pt x="153" y="0"/>
                            </a:lnTo>
                            <a:lnTo>
                              <a:pt x="185" y="3"/>
                            </a:lnTo>
                            <a:lnTo>
                              <a:pt x="216" y="11"/>
                            </a:lnTo>
                          </a:path>
                        </a:pathLst>
                      </a:custGeom>
                      <a:noFill/>
                      <a:ln w="12600">
                        <a:solidFill>
                          <a:srgbClr val="ff808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8440" bIns="-28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601" name=""/>
                      <p:cNvSpPr/>
                      <p:nvPr/>
                    </p:nvSpPr>
                    <p:spPr>
                      <a:xfrm flipH="1">
                        <a:off x="4619160" y="1597680"/>
                        <a:ext cx="19800" cy="88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5" h="287">
                            <a:moveTo>
                              <a:pt x="25" y="0"/>
                            </a:moveTo>
                            <a:lnTo>
                              <a:pt x="41" y="26"/>
                            </a:lnTo>
                            <a:lnTo>
                              <a:pt x="53" y="47"/>
                            </a:lnTo>
                            <a:lnTo>
                              <a:pt x="62" y="75"/>
                            </a:lnTo>
                            <a:lnTo>
                              <a:pt x="65" y="109"/>
                            </a:lnTo>
                            <a:lnTo>
                              <a:pt x="62" y="149"/>
                            </a:lnTo>
                            <a:lnTo>
                              <a:pt x="56" y="188"/>
                            </a:lnTo>
                            <a:lnTo>
                              <a:pt x="47" y="219"/>
                            </a:lnTo>
                            <a:lnTo>
                              <a:pt x="34" y="241"/>
                            </a:lnTo>
                            <a:lnTo>
                              <a:pt x="16" y="268"/>
                            </a:lnTo>
                            <a:lnTo>
                              <a:pt x="0" y="287"/>
                            </a:lnTo>
                          </a:path>
                        </a:pathLst>
                      </a:custGeom>
                      <a:noFill/>
                      <a:ln w="12600">
                        <a:solidFill>
                          <a:srgbClr val="ff808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2120" bIns="421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602" name=""/>
                      <p:cNvSpPr/>
                      <p:nvPr/>
                    </p:nvSpPr>
                    <p:spPr>
                      <a:xfrm flipH="1">
                        <a:off x="4559400" y="1567800"/>
                        <a:ext cx="52560" cy="42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69" h="138">
                            <a:moveTo>
                              <a:pt x="0" y="138"/>
                            </a:moveTo>
                            <a:lnTo>
                              <a:pt x="40" y="105"/>
                            </a:lnTo>
                            <a:lnTo>
                              <a:pt x="77" y="73"/>
                            </a:lnTo>
                            <a:lnTo>
                              <a:pt x="117" y="39"/>
                            </a:lnTo>
                            <a:lnTo>
                              <a:pt x="169" y="0"/>
                            </a:lnTo>
                          </a:path>
                        </a:pathLst>
                      </a:custGeom>
                      <a:noFill/>
                      <a:ln w="12600">
                        <a:solidFill>
                          <a:srgbClr val="ff808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60" bIns="-39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603" name=""/>
                      <p:cNvSpPr/>
                      <p:nvPr/>
                    </p:nvSpPr>
                    <p:spPr>
                      <a:xfrm flipH="1">
                        <a:off x="4431960" y="1534320"/>
                        <a:ext cx="27720" cy="20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9" h="65">
                            <a:moveTo>
                              <a:pt x="0" y="65"/>
                            </a:moveTo>
                            <a:lnTo>
                              <a:pt x="34" y="37"/>
                            </a:lnTo>
                            <a:lnTo>
                              <a:pt x="89" y="0"/>
                            </a:lnTo>
                          </a:path>
                        </a:pathLst>
                      </a:custGeom>
                      <a:noFill/>
                      <a:ln w="12600">
                        <a:solidFill>
                          <a:srgbClr val="ff808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6640" bIns="-266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604" name=""/>
                      <p:cNvSpPr/>
                      <p:nvPr/>
                    </p:nvSpPr>
                    <p:spPr>
                      <a:xfrm flipH="1">
                        <a:off x="4332600" y="1549080"/>
                        <a:ext cx="203040" cy="53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56" h="172">
                            <a:moveTo>
                              <a:pt x="0" y="172"/>
                            </a:moveTo>
                            <a:lnTo>
                              <a:pt x="25" y="165"/>
                            </a:lnTo>
                            <a:lnTo>
                              <a:pt x="44" y="156"/>
                            </a:lnTo>
                            <a:lnTo>
                              <a:pt x="59" y="147"/>
                            </a:lnTo>
                            <a:lnTo>
                              <a:pt x="72" y="131"/>
                            </a:lnTo>
                            <a:lnTo>
                              <a:pt x="78" y="110"/>
                            </a:lnTo>
                            <a:lnTo>
                              <a:pt x="82" y="89"/>
                            </a:lnTo>
                            <a:lnTo>
                              <a:pt x="90" y="113"/>
                            </a:lnTo>
                            <a:lnTo>
                              <a:pt x="101" y="128"/>
                            </a:lnTo>
                            <a:lnTo>
                              <a:pt x="118" y="137"/>
                            </a:lnTo>
                            <a:lnTo>
                              <a:pt x="141" y="144"/>
                            </a:lnTo>
                            <a:lnTo>
                              <a:pt x="167" y="146"/>
                            </a:lnTo>
                            <a:lnTo>
                              <a:pt x="209" y="143"/>
                            </a:lnTo>
                            <a:lnTo>
                              <a:pt x="252" y="137"/>
                            </a:lnTo>
                            <a:lnTo>
                              <a:pt x="290" y="132"/>
                            </a:lnTo>
                            <a:lnTo>
                              <a:pt x="321" y="124"/>
                            </a:lnTo>
                            <a:lnTo>
                              <a:pt x="355" y="109"/>
                            </a:lnTo>
                            <a:lnTo>
                              <a:pt x="381" y="94"/>
                            </a:lnTo>
                            <a:lnTo>
                              <a:pt x="405" y="76"/>
                            </a:lnTo>
                            <a:lnTo>
                              <a:pt x="422" y="52"/>
                            </a:lnTo>
                            <a:lnTo>
                              <a:pt x="433" y="70"/>
                            </a:lnTo>
                            <a:lnTo>
                              <a:pt x="445" y="84"/>
                            </a:lnTo>
                            <a:lnTo>
                              <a:pt x="462" y="98"/>
                            </a:lnTo>
                            <a:lnTo>
                              <a:pt x="489" y="106"/>
                            </a:lnTo>
                            <a:lnTo>
                              <a:pt x="520" y="109"/>
                            </a:lnTo>
                            <a:lnTo>
                              <a:pt x="547" y="106"/>
                            </a:lnTo>
                            <a:lnTo>
                              <a:pt x="566" y="101"/>
                            </a:lnTo>
                            <a:lnTo>
                              <a:pt x="593" y="94"/>
                            </a:lnTo>
                            <a:lnTo>
                              <a:pt x="613" y="84"/>
                            </a:lnTo>
                            <a:lnTo>
                              <a:pt x="628" y="73"/>
                            </a:lnTo>
                            <a:lnTo>
                              <a:pt x="640" y="55"/>
                            </a:lnTo>
                            <a:lnTo>
                              <a:pt x="647" y="33"/>
                            </a:lnTo>
                            <a:lnTo>
                              <a:pt x="656" y="0"/>
                            </a:lnTo>
                          </a:path>
                        </a:pathLst>
                      </a:custGeom>
                      <a:noFill/>
                      <a:ln w="12600">
                        <a:solidFill>
                          <a:srgbClr val="ff808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6480" bIns="6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605" name=""/>
                      <p:cNvSpPr/>
                      <p:nvPr/>
                    </p:nvSpPr>
                    <p:spPr>
                      <a:xfrm flipH="1">
                        <a:off x="4329000" y="1632240"/>
                        <a:ext cx="227880" cy="44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36" h="144">
                            <a:moveTo>
                              <a:pt x="0" y="93"/>
                            </a:moveTo>
                            <a:lnTo>
                              <a:pt x="27" y="73"/>
                            </a:lnTo>
                            <a:lnTo>
                              <a:pt x="56" y="53"/>
                            </a:lnTo>
                            <a:lnTo>
                              <a:pt x="84" y="36"/>
                            </a:lnTo>
                            <a:lnTo>
                              <a:pt x="111" y="24"/>
                            </a:lnTo>
                            <a:lnTo>
                              <a:pt x="141" y="12"/>
                            </a:lnTo>
                            <a:lnTo>
                              <a:pt x="160" y="6"/>
                            </a:lnTo>
                            <a:lnTo>
                              <a:pt x="191" y="3"/>
                            </a:lnTo>
                            <a:lnTo>
                              <a:pt x="251" y="0"/>
                            </a:lnTo>
                            <a:lnTo>
                              <a:pt x="316" y="2"/>
                            </a:lnTo>
                            <a:lnTo>
                              <a:pt x="376" y="6"/>
                            </a:lnTo>
                            <a:lnTo>
                              <a:pt x="437" y="12"/>
                            </a:lnTo>
                            <a:lnTo>
                              <a:pt x="485" y="19"/>
                            </a:lnTo>
                            <a:lnTo>
                              <a:pt x="528" y="28"/>
                            </a:lnTo>
                            <a:lnTo>
                              <a:pt x="568" y="42"/>
                            </a:lnTo>
                            <a:lnTo>
                              <a:pt x="609" y="61"/>
                            </a:lnTo>
                            <a:lnTo>
                              <a:pt x="651" y="80"/>
                            </a:lnTo>
                            <a:lnTo>
                              <a:pt x="682" y="99"/>
                            </a:lnTo>
                            <a:lnTo>
                              <a:pt x="713" y="123"/>
                            </a:lnTo>
                            <a:lnTo>
                              <a:pt x="736" y="144"/>
                            </a:lnTo>
                          </a:path>
                        </a:pathLst>
                      </a:custGeom>
                      <a:noFill/>
                      <a:ln w="12600">
                        <a:solidFill>
                          <a:srgbClr val="ff808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160" bIns="-21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606" name=""/>
                      <p:cNvSpPr/>
                      <p:nvPr/>
                    </p:nvSpPr>
                    <p:spPr>
                      <a:xfrm flipH="1">
                        <a:off x="4343040" y="1612440"/>
                        <a:ext cx="46440" cy="25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51" h="83">
                            <a:moveTo>
                              <a:pt x="0" y="74"/>
                            </a:moveTo>
                            <a:lnTo>
                              <a:pt x="28" y="80"/>
                            </a:lnTo>
                            <a:lnTo>
                              <a:pt x="55" y="83"/>
                            </a:lnTo>
                            <a:lnTo>
                              <a:pt x="81" y="77"/>
                            </a:lnTo>
                            <a:lnTo>
                              <a:pt x="105" y="65"/>
                            </a:lnTo>
                            <a:lnTo>
                              <a:pt x="126" y="47"/>
                            </a:lnTo>
                            <a:lnTo>
                              <a:pt x="140" y="24"/>
                            </a:lnTo>
                            <a:lnTo>
                              <a:pt x="151" y="0"/>
                            </a:lnTo>
                          </a:path>
                        </a:pathLst>
                      </a:custGeom>
                      <a:noFill/>
                      <a:ln w="12600">
                        <a:solidFill>
                          <a:srgbClr val="ff808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0880" bIns="-20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607" name=""/>
                      <p:cNvSpPr/>
                      <p:nvPr/>
                    </p:nvSpPr>
                    <p:spPr>
                      <a:xfrm flipH="1">
                        <a:off x="4277520" y="1563480"/>
                        <a:ext cx="39960" cy="98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0" h="316">
                            <a:moveTo>
                              <a:pt x="114" y="0"/>
                            </a:moveTo>
                            <a:lnTo>
                              <a:pt x="102" y="28"/>
                            </a:lnTo>
                            <a:lnTo>
                              <a:pt x="86" y="55"/>
                            </a:lnTo>
                            <a:lnTo>
                              <a:pt x="68" y="70"/>
                            </a:lnTo>
                            <a:lnTo>
                              <a:pt x="55" y="76"/>
                            </a:lnTo>
                            <a:lnTo>
                              <a:pt x="37" y="78"/>
                            </a:lnTo>
                            <a:lnTo>
                              <a:pt x="16" y="75"/>
                            </a:lnTo>
                            <a:lnTo>
                              <a:pt x="0" y="67"/>
                            </a:lnTo>
                            <a:lnTo>
                              <a:pt x="25" y="89"/>
                            </a:lnTo>
                            <a:lnTo>
                              <a:pt x="40" y="101"/>
                            </a:lnTo>
                            <a:lnTo>
                              <a:pt x="50" y="113"/>
                            </a:lnTo>
                            <a:lnTo>
                              <a:pt x="53" y="125"/>
                            </a:lnTo>
                            <a:lnTo>
                              <a:pt x="52" y="140"/>
                            </a:lnTo>
                            <a:lnTo>
                              <a:pt x="49" y="160"/>
                            </a:lnTo>
                            <a:lnTo>
                              <a:pt x="46" y="189"/>
                            </a:lnTo>
                            <a:lnTo>
                              <a:pt x="50" y="215"/>
                            </a:lnTo>
                            <a:lnTo>
                              <a:pt x="58" y="243"/>
                            </a:lnTo>
                            <a:lnTo>
                              <a:pt x="67" y="261"/>
                            </a:lnTo>
                            <a:lnTo>
                              <a:pt x="80" y="279"/>
                            </a:lnTo>
                            <a:lnTo>
                              <a:pt x="102" y="295"/>
                            </a:lnTo>
                            <a:lnTo>
                              <a:pt x="130" y="316"/>
                            </a:lnTo>
                          </a:path>
                        </a:pathLst>
                      </a:custGeom>
                      <a:noFill/>
                      <a:ln w="12600">
                        <a:solidFill>
                          <a:srgbClr val="ff808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608" name=""/>
                      <p:cNvSpPr/>
                      <p:nvPr/>
                    </p:nvSpPr>
                    <p:spPr>
                      <a:xfrm flipH="1">
                        <a:off x="4142160" y="1588320"/>
                        <a:ext cx="128160" cy="87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6" h="281">
                            <a:moveTo>
                              <a:pt x="93" y="0"/>
                            </a:moveTo>
                            <a:lnTo>
                              <a:pt x="84" y="20"/>
                            </a:lnTo>
                            <a:lnTo>
                              <a:pt x="71" y="40"/>
                            </a:lnTo>
                            <a:lnTo>
                              <a:pt x="56" y="57"/>
                            </a:lnTo>
                            <a:lnTo>
                              <a:pt x="31" y="76"/>
                            </a:lnTo>
                            <a:lnTo>
                              <a:pt x="0" y="97"/>
                            </a:lnTo>
                            <a:lnTo>
                              <a:pt x="25" y="100"/>
                            </a:lnTo>
                            <a:lnTo>
                              <a:pt x="53" y="104"/>
                            </a:lnTo>
                            <a:lnTo>
                              <a:pt x="74" y="110"/>
                            </a:lnTo>
                            <a:lnTo>
                              <a:pt x="90" y="117"/>
                            </a:lnTo>
                            <a:lnTo>
                              <a:pt x="102" y="126"/>
                            </a:lnTo>
                            <a:lnTo>
                              <a:pt x="114" y="143"/>
                            </a:lnTo>
                            <a:lnTo>
                              <a:pt x="124" y="159"/>
                            </a:lnTo>
                            <a:lnTo>
                              <a:pt x="130" y="178"/>
                            </a:lnTo>
                            <a:lnTo>
                              <a:pt x="133" y="209"/>
                            </a:lnTo>
                            <a:lnTo>
                              <a:pt x="130" y="264"/>
                            </a:lnTo>
                            <a:lnTo>
                              <a:pt x="144" y="248"/>
                            </a:lnTo>
                            <a:lnTo>
                              <a:pt x="163" y="233"/>
                            </a:lnTo>
                            <a:lnTo>
                              <a:pt x="182" y="220"/>
                            </a:lnTo>
                            <a:lnTo>
                              <a:pt x="206" y="208"/>
                            </a:lnTo>
                            <a:lnTo>
                              <a:pt x="228" y="205"/>
                            </a:lnTo>
                            <a:lnTo>
                              <a:pt x="255" y="202"/>
                            </a:lnTo>
                            <a:lnTo>
                              <a:pt x="284" y="206"/>
                            </a:lnTo>
                            <a:lnTo>
                              <a:pt x="314" y="214"/>
                            </a:lnTo>
                            <a:lnTo>
                              <a:pt x="333" y="221"/>
                            </a:lnTo>
                            <a:lnTo>
                              <a:pt x="357" y="233"/>
                            </a:lnTo>
                            <a:lnTo>
                              <a:pt x="376" y="246"/>
                            </a:lnTo>
                            <a:lnTo>
                              <a:pt x="416" y="281"/>
                            </a:lnTo>
                          </a:path>
                        </a:pathLst>
                      </a:custGeom>
                      <a:noFill/>
                      <a:ln w="12600">
                        <a:solidFill>
                          <a:srgbClr val="ff808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0680" bIns="406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609" name=""/>
                      <p:cNvSpPr/>
                      <p:nvPr/>
                    </p:nvSpPr>
                    <p:spPr>
                      <a:xfrm flipH="1">
                        <a:off x="4225680" y="1654200"/>
                        <a:ext cx="48240" cy="61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56" h="200">
                            <a:moveTo>
                              <a:pt x="22" y="0"/>
                            </a:moveTo>
                            <a:lnTo>
                              <a:pt x="11" y="27"/>
                            </a:lnTo>
                            <a:lnTo>
                              <a:pt x="3" y="50"/>
                            </a:lnTo>
                            <a:lnTo>
                              <a:pt x="0" y="72"/>
                            </a:lnTo>
                            <a:lnTo>
                              <a:pt x="5" y="97"/>
                            </a:lnTo>
                            <a:lnTo>
                              <a:pt x="16" y="129"/>
                            </a:lnTo>
                            <a:lnTo>
                              <a:pt x="31" y="169"/>
                            </a:lnTo>
                            <a:lnTo>
                              <a:pt x="40" y="183"/>
                            </a:lnTo>
                            <a:lnTo>
                              <a:pt x="51" y="192"/>
                            </a:lnTo>
                            <a:lnTo>
                              <a:pt x="64" y="195"/>
                            </a:lnTo>
                            <a:lnTo>
                              <a:pt x="103" y="200"/>
                            </a:lnTo>
                            <a:lnTo>
                              <a:pt x="156" y="195"/>
                            </a:lnTo>
                          </a:path>
                        </a:pathLst>
                      </a:custGeom>
                      <a:noFill/>
                      <a:ln w="12600">
                        <a:solidFill>
                          <a:srgbClr val="ff808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5120" bIns="151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610" name=""/>
                      <p:cNvSpPr/>
                      <p:nvPr/>
                    </p:nvSpPr>
                    <p:spPr>
                      <a:xfrm flipH="1">
                        <a:off x="4148280" y="1702080"/>
                        <a:ext cx="72360" cy="27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33" h="89">
                            <a:moveTo>
                              <a:pt x="0" y="64"/>
                            </a:moveTo>
                            <a:lnTo>
                              <a:pt x="27" y="76"/>
                            </a:lnTo>
                            <a:lnTo>
                              <a:pt x="52" y="84"/>
                            </a:lnTo>
                            <a:lnTo>
                              <a:pt x="81" y="89"/>
                            </a:lnTo>
                            <a:lnTo>
                              <a:pt x="114" y="89"/>
                            </a:lnTo>
                            <a:lnTo>
                              <a:pt x="143" y="80"/>
                            </a:lnTo>
                            <a:lnTo>
                              <a:pt x="170" y="68"/>
                            </a:lnTo>
                            <a:lnTo>
                              <a:pt x="195" y="50"/>
                            </a:lnTo>
                            <a:lnTo>
                              <a:pt x="218" y="22"/>
                            </a:lnTo>
                            <a:lnTo>
                              <a:pt x="233" y="0"/>
                            </a:lnTo>
                          </a:path>
                        </a:pathLst>
                      </a:custGeom>
                      <a:noFill/>
                      <a:ln w="12600">
                        <a:solidFill>
                          <a:srgbClr val="ff808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440" bIns="-19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611" name=""/>
                      <p:cNvSpPr/>
                      <p:nvPr/>
                    </p:nvSpPr>
                    <p:spPr>
                      <a:xfrm flipH="1">
                        <a:off x="4135680" y="1744920"/>
                        <a:ext cx="102240" cy="75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29" h="245">
                            <a:moveTo>
                              <a:pt x="329" y="0"/>
                            </a:moveTo>
                            <a:lnTo>
                              <a:pt x="319" y="22"/>
                            </a:lnTo>
                            <a:lnTo>
                              <a:pt x="301" y="45"/>
                            </a:lnTo>
                            <a:lnTo>
                              <a:pt x="277" y="65"/>
                            </a:lnTo>
                            <a:lnTo>
                              <a:pt x="261" y="71"/>
                            </a:lnTo>
                            <a:lnTo>
                              <a:pt x="237" y="76"/>
                            </a:lnTo>
                            <a:lnTo>
                              <a:pt x="204" y="71"/>
                            </a:lnTo>
                            <a:lnTo>
                              <a:pt x="167" y="65"/>
                            </a:lnTo>
                            <a:lnTo>
                              <a:pt x="123" y="58"/>
                            </a:lnTo>
                            <a:lnTo>
                              <a:pt x="86" y="48"/>
                            </a:lnTo>
                            <a:lnTo>
                              <a:pt x="55" y="42"/>
                            </a:lnTo>
                            <a:lnTo>
                              <a:pt x="19" y="45"/>
                            </a:lnTo>
                            <a:lnTo>
                              <a:pt x="0" y="48"/>
                            </a:lnTo>
                            <a:lnTo>
                              <a:pt x="24" y="55"/>
                            </a:lnTo>
                            <a:lnTo>
                              <a:pt x="40" y="67"/>
                            </a:lnTo>
                            <a:lnTo>
                              <a:pt x="58" y="79"/>
                            </a:lnTo>
                            <a:lnTo>
                              <a:pt x="80" y="100"/>
                            </a:lnTo>
                            <a:lnTo>
                              <a:pt x="98" y="121"/>
                            </a:lnTo>
                            <a:lnTo>
                              <a:pt x="120" y="150"/>
                            </a:lnTo>
                            <a:lnTo>
                              <a:pt x="138" y="175"/>
                            </a:lnTo>
                            <a:lnTo>
                              <a:pt x="157" y="208"/>
                            </a:lnTo>
                            <a:lnTo>
                              <a:pt x="173" y="245"/>
                            </a:lnTo>
                          </a:path>
                        </a:pathLst>
                      </a:custGeom>
                      <a:noFill/>
                      <a:ln w="12600">
                        <a:solidFill>
                          <a:srgbClr val="ff808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8800" bIns="28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612" name=""/>
                      <p:cNvSpPr/>
                      <p:nvPr/>
                    </p:nvSpPr>
                    <p:spPr>
                      <a:xfrm flipH="1">
                        <a:off x="4232520" y="1684080"/>
                        <a:ext cx="70560" cy="126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28" h="407">
                            <a:moveTo>
                              <a:pt x="58" y="0"/>
                            </a:moveTo>
                            <a:lnTo>
                              <a:pt x="40" y="7"/>
                            </a:lnTo>
                            <a:lnTo>
                              <a:pt x="18" y="22"/>
                            </a:lnTo>
                            <a:lnTo>
                              <a:pt x="6" y="38"/>
                            </a:lnTo>
                            <a:lnTo>
                              <a:pt x="1" y="50"/>
                            </a:lnTo>
                            <a:lnTo>
                              <a:pt x="0" y="61"/>
                            </a:lnTo>
                            <a:lnTo>
                              <a:pt x="4" y="84"/>
                            </a:lnTo>
                            <a:lnTo>
                              <a:pt x="12" y="108"/>
                            </a:lnTo>
                            <a:lnTo>
                              <a:pt x="24" y="140"/>
                            </a:lnTo>
                            <a:lnTo>
                              <a:pt x="38" y="167"/>
                            </a:lnTo>
                            <a:lnTo>
                              <a:pt x="55" y="191"/>
                            </a:lnTo>
                            <a:lnTo>
                              <a:pt x="75" y="214"/>
                            </a:lnTo>
                            <a:lnTo>
                              <a:pt x="99" y="235"/>
                            </a:lnTo>
                            <a:lnTo>
                              <a:pt x="121" y="250"/>
                            </a:lnTo>
                            <a:lnTo>
                              <a:pt x="149" y="268"/>
                            </a:lnTo>
                            <a:lnTo>
                              <a:pt x="164" y="305"/>
                            </a:lnTo>
                            <a:lnTo>
                              <a:pt x="179" y="335"/>
                            </a:lnTo>
                            <a:lnTo>
                              <a:pt x="205" y="375"/>
                            </a:lnTo>
                            <a:lnTo>
                              <a:pt x="228" y="407"/>
                            </a:lnTo>
                          </a:path>
                        </a:pathLst>
                      </a:custGeom>
                      <a:noFill/>
                      <a:ln w="12600">
                        <a:solidFill>
                          <a:srgbClr val="ff808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6613" name=""/>
                  <p:cNvGrpSpPr/>
                  <p:nvPr/>
                </p:nvGrpSpPr>
                <p:grpSpPr>
                  <a:xfrm>
                    <a:off x="4238280" y="1747080"/>
                    <a:ext cx="171720" cy="181440"/>
                    <a:chOff x="4238280" y="1747080"/>
                    <a:chExt cx="171720" cy="181440"/>
                  </a:xfrm>
                </p:grpSpPr>
                <p:sp>
                  <p:nvSpPr>
                    <p:cNvPr id="6614" name=""/>
                    <p:cNvSpPr/>
                    <p:nvPr/>
                  </p:nvSpPr>
                  <p:spPr>
                    <a:xfrm flipH="1">
                      <a:off x="4237920" y="1747080"/>
                      <a:ext cx="171720" cy="18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54" h="586">
                          <a:moveTo>
                            <a:pt x="114" y="319"/>
                          </a:moveTo>
                          <a:lnTo>
                            <a:pt x="89" y="310"/>
                          </a:lnTo>
                          <a:lnTo>
                            <a:pt x="64" y="298"/>
                          </a:lnTo>
                          <a:lnTo>
                            <a:pt x="50" y="285"/>
                          </a:lnTo>
                          <a:lnTo>
                            <a:pt x="37" y="266"/>
                          </a:lnTo>
                          <a:lnTo>
                            <a:pt x="24" y="246"/>
                          </a:lnTo>
                          <a:lnTo>
                            <a:pt x="12" y="221"/>
                          </a:lnTo>
                          <a:lnTo>
                            <a:pt x="5" y="196"/>
                          </a:lnTo>
                          <a:lnTo>
                            <a:pt x="0" y="166"/>
                          </a:lnTo>
                          <a:lnTo>
                            <a:pt x="2" y="138"/>
                          </a:lnTo>
                          <a:lnTo>
                            <a:pt x="9" y="113"/>
                          </a:lnTo>
                          <a:lnTo>
                            <a:pt x="25" y="85"/>
                          </a:lnTo>
                          <a:lnTo>
                            <a:pt x="40" y="66"/>
                          </a:lnTo>
                          <a:lnTo>
                            <a:pt x="62" y="43"/>
                          </a:lnTo>
                          <a:lnTo>
                            <a:pt x="82" y="25"/>
                          </a:lnTo>
                          <a:lnTo>
                            <a:pt x="104" y="14"/>
                          </a:lnTo>
                          <a:lnTo>
                            <a:pt x="130" y="6"/>
                          </a:lnTo>
                          <a:lnTo>
                            <a:pt x="158" y="0"/>
                          </a:lnTo>
                          <a:lnTo>
                            <a:pt x="199" y="0"/>
                          </a:lnTo>
                          <a:lnTo>
                            <a:pt x="249" y="4"/>
                          </a:lnTo>
                          <a:lnTo>
                            <a:pt x="291" y="12"/>
                          </a:lnTo>
                          <a:lnTo>
                            <a:pt x="331" y="23"/>
                          </a:lnTo>
                          <a:lnTo>
                            <a:pt x="379" y="43"/>
                          </a:lnTo>
                          <a:lnTo>
                            <a:pt x="414" y="62"/>
                          </a:lnTo>
                          <a:lnTo>
                            <a:pt x="444" y="83"/>
                          </a:lnTo>
                          <a:lnTo>
                            <a:pt x="468" y="108"/>
                          </a:lnTo>
                          <a:lnTo>
                            <a:pt x="492" y="145"/>
                          </a:lnTo>
                          <a:lnTo>
                            <a:pt x="514" y="175"/>
                          </a:lnTo>
                          <a:lnTo>
                            <a:pt x="531" y="209"/>
                          </a:lnTo>
                          <a:lnTo>
                            <a:pt x="542" y="243"/>
                          </a:lnTo>
                          <a:lnTo>
                            <a:pt x="553" y="286"/>
                          </a:lnTo>
                          <a:lnTo>
                            <a:pt x="554" y="329"/>
                          </a:lnTo>
                          <a:lnTo>
                            <a:pt x="548" y="371"/>
                          </a:lnTo>
                          <a:lnTo>
                            <a:pt x="539" y="405"/>
                          </a:lnTo>
                          <a:lnTo>
                            <a:pt x="524" y="430"/>
                          </a:lnTo>
                          <a:lnTo>
                            <a:pt x="506" y="448"/>
                          </a:lnTo>
                          <a:lnTo>
                            <a:pt x="481" y="468"/>
                          </a:lnTo>
                          <a:lnTo>
                            <a:pt x="443" y="496"/>
                          </a:lnTo>
                          <a:lnTo>
                            <a:pt x="411" y="518"/>
                          </a:lnTo>
                          <a:lnTo>
                            <a:pt x="370" y="546"/>
                          </a:lnTo>
                          <a:lnTo>
                            <a:pt x="331" y="564"/>
                          </a:lnTo>
                          <a:lnTo>
                            <a:pt x="297" y="573"/>
                          </a:lnTo>
                          <a:lnTo>
                            <a:pt x="254" y="583"/>
                          </a:lnTo>
                          <a:lnTo>
                            <a:pt x="217" y="586"/>
                          </a:lnTo>
                          <a:lnTo>
                            <a:pt x="178" y="583"/>
                          </a:lnTo>
                          <a:lnTo>
                            <a:pt x="146" y="575"/>
                          </a:lnTo>
                          <a:lnTo>
                            <a:pt x="119" y="561"/>
                          </a:lnTo>
                          <a:lnTo>
                            <a:pt x="92" y="543"/>
                          </a:lnTo>
                          <a:lnTo>
                            <a:pt x="67" y="515"/>
                          </a:lnTo>
                          <a:lnTo>
                            <a:pt x="52" y="492"/>
                          </a:lnTo>
                          <a:lnTo>
                            <a:pt x="39" y="469"/>
                          </a:lnTo>
                          <a:lnTo>
                            <a:pt x="34" y="440"/>
                          </a:lnTo>
                          <a:lnTo>
                            <a:pt x="37" y="408"/>
                          </a:lnTo>
                          <a:lnTo>
                            <a:pt x="43" y="374"/>
                          </a:lnTo>
                          <a:lnTo>
                            <a:pt x="53" y="347"/>
                          </a:lnTo>
                          <a:lnTo>
                            <a:pt x="68" y="332"/>
                          </a:lnTo>
                          <a:lnTo>
                            <a:pt x="89" y="323"/>
                          </a:lnTo>
                          <a:lnTo>
                            <a:pt x="114" y="319"/>
                          </a:lnTo>
                          <a:close/>
                        </a:path>
                      </a:pathLst>
                    </a:custGeom>
                    <a:solidFill>
                      <a:srgbClr val="a05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6615" name=""/>
                    <p:cNvGrpSpPr/>
                    <p:nvPr/>
                  </p:nvGrpSpPr>
                  <p:grpSpPr>
                    <a:xfrm>
                      <a:off x="4278240" y="1793520"/>
                      <a:ext cx="89640" cy="97560"/>
                      <a:chOff x="4278240" y="1793520"/>
                      <a:chExt cx="89640" cy="97560"/>
                    </a:xfrm>
                  </p:grpSpPr>
                  <p:sp>
                    <p:nvSpPr>
                      <p:cNvPr id="6616" name=""/>
                      <p:cNvSpPr/>
                      <p:nvPr/>
                    </p:nvSpPr>
                    <p:spPr>
                      <a:xfrm flipH="1">
                        <a:off x="4277880" y="1816920"/>
                        <a:ext cx="89640" cy="32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90" h="105">
                            <a:moveTo>
                              <a:pt x="290" y="0"/>
                            </a:moveTo>
                            <a:lnTo>
                              <a:pt x="279" y="16"/>
                            </a:lnTo>
                            <a:lnTo>
                              <a:pt x="259" y="40"/>
                            </a:lnTo>
                            <a:lnTo>
                              <a:pt x="236" y="61"/>
                            </a:lnTo>
                            <a:lnTo>
                              <a:pt x="210" y="77"/>
                            </a:lnTo>
                            <a:lnTo>
                              <a:pt x="184" y="87"/>
                            </a:lnTo>
                            <a:lnTo>
                              <a:pt x="156" y="95"/>
                            </a:lnTo>
                            <a:lnTo>
                              <a:pt x="128" y="102"/>
                            </a:lnTo>
                            <a:lnTo>
                              <a:pt x="109" y="105"/>
                            </a:lnTo>
                            <a:lnTo>
                              <a:pt x="74" y="102"/>
                            </a:lnTo>
                            <a:lnTo>
                              <a:pt x="41" y="99"/>
                            </a:lnTo>
                            <a:lnTo>
                              <a:pt x="0" y="93"/>
                            </a:lnTo>
                          </a:path>
                        </a:pathLst>
                      </a:custGeom>
                      <a:noFill/>
                      <a:ln w="12600">
                        <a:solidFill>
                          <a:srgbClr val="ffe0c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4760" bIns="-147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617" name=""/>
                      <p:cNvSpPr/>
                      <p:nvPr/>
                    </p:nvSpPr>
                    <p:spPr>
                      <a:xfrm flipH="1">
                        <a:off x="4309920" y="1793520"/>
                        <a:ext cx="9000" cy="975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0" h="314">
                            <a:moveTo>
                              <a:pt x="0" y="0"/>
                            </a:moveTo>
                            <a:lnTo>
                              <a:pt x="9" y="23"/>
                            </a:lnTo>
                            <a:lnTo>
                              <a:pt x="21" y="57"/>
                            </a:lnTo>
                            <a:lnTo>
                              <a:pt x="25" y="84"/>
                            </a:lnTo>
                            <a:lnTo>
                              <a:pt x="28" y="102"/>
                            </a:lnTo>
                            <a:lnTo>
                              <a:pt x="22" y="121"/>
                            </a:lnTo>
                            <a:lnTo>
                              <a:pt x="11" y="145"/>
                            </a:lnTo>
                            <a:lnTo>
                              <a:pt x="5" y="160"/>
                            </a:lnTo>
                            <a:lnTo>
                              <a:pt x="2" y="177"/>
                            </a:lnTo>
                            <a:lnTo>
                              <a:pt x="6" y="192"/>
                            </a:lnTo>
                            <a:lnTo>
                              <a:pt x="16" y="210"/>
                            </a:lnTo>
                            <a:lnTo>
                              <a:pt x="24" y="226"/>
                            </a:lnTo>
                            <a:lnTo>
                              <a:pt x="30" y="237"/>
                            </a:lnTo>
                            <a:lnTo>
                              <a:pt x="25" y="246"/>
                            </a:lnTo>
                            <a:lnTo>
                              <a:pt x="18" y="265"/>
                            </a:lnTo>
                            <a:lnTo>
                              <a:pt x="9" y="289"/>
                            </a:lnTo>
                            <a:lnTo>
                              <a:pt x="2" y="314"/>
                            </a:lnTo>
                          </a:path>
                        </a:pathLst>
                      </a:custGeom>
                      <a:noFill/>
                      <a:ln w="12600">
                        <a:solidFill>
                          <a:srgbClr val="ffe0c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618" name=""/>
                      <p:cNvSpPr/>
                      <p:nvPr/>
                    </p:nvSpPr>
                    <p:spPr>
                      <a:xfrm flipH="1">
                        <a:off x="4334400" y="1815840"/>
                        <a:ext cx="14760" cy="68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9" h="220">
                            <a:moveTo>
                              <a:pt x="0" y="0"/>
                            </a:moveTo>
                            <a:lnTo>
                              <a:pt x="16" y="16"/>
                            </a:lnTo>
                            <a:lnTo>
                              <a:pt x="27" y="30"/>
                            </a:lnTo>
                            <a:lnTo>
                              <a:pt x="37" y="53"/>
                            </a:lnTo>
                            <a:lnTo>
                              <a:pt x="44" y="80"/>
                            </a:lnTo>
                            <a:lnTo>
                              <a:pt x="49" y="116"/>
                            </a:lnTo>
                            <a:lnTo>
                              <a:pt x="46" y="145"/>
                            </a:lnTo>
                            <a:lnTo>
                              <a:pt x="40" y="174"/>
                            </a:lnTo>
                            <a:lnTo>
                              <a:pt x="28" y="198"/>
                            </a:lnTo>
                            <a:lnTo>
                              <a:pt x="10" y="220"/>
                            </a:lnTo>
                          </a:path>
                        </a:pathLst>
                      </a:custGeom>
                      <a:noFill/>
                      <a:ln w="12600">
                        <a:solidFill>
                          <a:srgbClr val="ffe0c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1600" bIns="216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619" name=""/>
                      <p:cNvSpPr/>
                      <p:nvPr/>
                    </p:nvSpPr>
                    <p:spPr>
                      <a:xfrm flipH="1">
                        <a:off x="4279680" y="1844280"/>
                        <a:ext cx="28440" cy="19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4" h="61">
                            <a:moveTo>
                              <a:pt x="0" y="0"/>
                            </a:moveTo>
                            <a:lnTo>
                              <a:pt x="28" y="6"/>
                            </a:lnTo>
                            <a:lnTo>
                              <a:pt x="49" y="14"/>
                            </a:lnTo>
                            <a:lnTo>
                              <a:pt x="65" y="24"/>
                            </a:lnTo>
                            <a:lnTo>
                              <a:pt x="81" y="45"/>
                            </a:lnTo>
                            <a:lnTo>
                              <a:pt x="94" y="61"/>
                            </a:lnTo>
                          </a:path>
                        </a:pathLst>
                      </a:custGeom>
                      <a:noFill/>
                      <a:ln w="12600">
                        <a:solidFill>
                          <a:srgbClr val="ffe0c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720" bIns="-277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6620" name=""/>
                <p:cNvGrpSpPr/>
                <p:nvPr/>
              </p:nvGrpSpPr>
              <p:grpSpPr>
                <a:xfrm>
                  <a:off x="4318560" y="1657440"/>
                  <a:ext cx="267120" cy="551880"/>
                  <a:chOff x="4318560" y="1657440"/>
                  <a:chExt cx="267120" cy="551880"/>
                </a:xfrm>
              </p:grpSpPr>
              <p:grpSp>
                <p:nvGrpSpPr>
                  <p:cNvPr id="6621" name=""/>
                  <p:cNvGrpSpPr/>
                  <p:nvPr/>
                </p:nvGrpSpPr>
                <p:grpSpPr>
                  <a:xfrm>
                    <a:off x="4318560" y="1657440"/>
                    <a:ext cx="267120" cy="156600"/>
                    <a:chOff x="4318560" y="1657440"/>
                    <a:chExt cx="267120" cy="156600"/>
                  </a:xfrm>
                </p:grpSpPr>
                <p:grpSp>
                  <p:nvGrpSpPr>
                    <p:cNvPr id="6622" name=""/>
                    <p:cNvGrpSpPr/>
                    <p:nvPr/>
                  </p:nvGrpSpPr>
                  <p:grpSpPr>
                    <a:xfrm>
                      <a:off x="4318560" y="1657440"/>
                      <a:ext cx="267120" cy="156600"/>
                      <a:chOff x="4318560" y="1657440"/>
                      <a:chExt cx="267120" cy="156600"/>
                    </a:xfrm>
                  </p:grpSpPr>
                  <p:grpSp>
                    <p:nvGrpSpPr>
                      <p:cNvPr id="6623" name=""/>
                      <p:cNvGrpSpPr/>
                      <p:nvPr/>
                    </p:nvGrpSpPr>
                    <p:grpSpPr>
                      <a:xfrm>
                        <a:off x="4318560" y="1657440"/>
                        <a:ext cx="267120" cy="156600"/>
                        <a:chOff x="4318560" y="1657440"/>
                        <a:chExt cx="267120" cy="156600"/>
                      </a:xfrm>
                    </p:grpSpPr>
                    <p:sp>
                      <p:nvSpPr>
                        <p:cNvPr id="6624" name=""/>
                        <p:cNvSpPr/>
                        <p:nvPr/>
                      </p:nvSpPr>
                      <p:spPr>
                        <a:xfrm flipH="1">
                          <a:off x="4318560" y="1657440"/>
                          <a:ext cx="267120" cy="1566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62" h="505">
                              <a:moveTo>
                                <a:pt x="284" y="485"/>
                              </a:moveTo>
                              <a:lnTo>
                                <a:pt x="263" y="494"/>
                              </a:lnTo>
                              <a:lnTo>
                                <a:pt x="246" y="500"/>
                              </a:lnTo>
                              <a:lnTo>
                                <a:pt x="221" y="505"/>
                              </a:lnTo>
                              <a:lnTo>
                                <a:pt x="202" y="504"/>
                              </a:lnTo>
                              <a:lnTo>
                                <a:pt x="187" y="499"/>
                              </a:lnTo>
                              <a:lnTo>
                                <a:pt x="176" y="490"/>
                              </a:lnTo>
                              <a:lnTo>
                                <a:pt x="170" y="477"/>
                              </a:lnTo>
                              <a:lnTo>
                                <a:pt x="169" y="462"/>
                              </a:lnTo>
                              <a:lnTo>
                                <a:pt x="173" y="448"/>
                              </a:lnTo>
                              <a:lnTo>
                                <a:pt x="183" y="434"/>
                              </a:lnTo>
                              <a:lnTo>
                                <a:pt x="199" y="420"/>
                              </a:lnTo>
                              <a:lnTo>
                                <a:pt x="222" y="407"/>
                              </a:lnTo>
                              <a:lnTo>
                                <a:pt x="248" y="400"/>
                              </a:lnTo>
                              <a:lnTo>
                                <a:pt x="271" y="393"/>
                              </a:lnTo>
                              <a:lnTo>
                                <a:pt x="294" y="384"/>
                              </a:lnTo>
                              <a:lnTo>
                                <a:pt x="242" y="372"/>
                              </a:lnTo>
                              <a:lnTo>
                                <a:pt x="257" y="355"/>
                              </a:lnTo>
                              <a:lnTo>
                                <a:pt x="277" y="330"/>
                              </a:lnTo>
                              <a:lnTo>
                                <a:pt x="293" y="306"/>
                              </a:lnTo>
                              <a:lnTo>
                                <a:pt x="299" y="284"/>
                              </a:lnTo>
                              <a:lnTo>
                                <a:pt x="300" y="262"/>
                              </a:lnTo>
                              <a:lnTo>
                                <a:pt x="285" y="256"/>
                              </a:lnTo>
                              <a:lnTo>
                                <a:pt x="263" y="251"/>
                              </a:lnTo>
                              <a:lnTo>
                                <a:pt x="230" y="244"/>
                              </a:lnTo>
                              <a:lnTo>
                                <a:pt x="182" y="245"/>
                              </a:lnTo>
                              <a:lnTo>
                                <a:pt x="27" y="247"/>
                              </a:lnTo>
                              <a:lnTo>
                                <a:pt x="12" y="224"/>
                              </a:lnTo>
                              <a:lnTo>
                                <a:pt x="3" y="205"/>
                              </a:lnTo>
                              <a:lnTo>
                                <a:pt x="0" y="186"/>
                              </a:lnTo>
                              <a:lnTo>
                                <a:pt x="3" y="168"/>
                              </a:lnTo>
                              <a:lnTo>
                                <a:pt x="9" y="152"/>
                              </a:lnTo>
                              <a:lnTo>
                                <a:pt x="19" y="136"/>
                              </a:lnTo>
                              <a:lnTo>
                                <a:pt x="31" y="123"/>
                              </a:lnTo>
                              <a:lnTo>
                                <a:pt x="49" y="107"/>
                              </a:lnTo>
                              <a:lnTo>
                                <a:pt x="73" y="91"/>
                              </a:lnTo>
                              <a:lnTo>
                                <a:pt x="96" y="79"/>
                              </a:lnTo>
                              <a:lnTo>
                                <a:pt x="129" y="66"/>
                              </a:lnTo>
                              <a:lnTo>
                                <a:pt x="172" y="53"/>
                              </a:lnTo>
                              <a:lnTo>
                                <a:pt x="216" y="41"/>
                              </a:lnTo>
                              <a:lnTo>
                                <a:pt x="258" y="27"/>
                              </a:lnTo>
                              <a:lnTo>
                                <a:pt x="299" y="16"/>
                              </a:lnTo>
                              <a:lnTo>
                                <a:pt x="335" y="9"/>
                              </a:lnTo>
                              <a:lnTo>
                                <a:pt x="371" y="6"/>
                              </a:lnTo>
                              <a:lnTo>
                                <a:pt x="417" y="0"/>
                              </a:lnTo>
                              <a:lnTo>
                                <a:pt x="467" y="4"/>
                              </a:lnTo>
                              <a:lnTo>
                                <a:pt x="495" y="12"/>
                              </a:lnTo>
                              <a:lnTo>
                                <a:pt x="523" y="26"/>
                              </a:lnTo>
                              <a:lnTo>
                                <a:pt x="542" y="43"/>
                              </a:lnTo>
                              <a:lnTo>
                                <a:pt x="560" y="60"/>
                              </a:lnTo>
                              <a:lnTo>
                                <a:pt x="598" y="58"/>
                              </a:lnTo>
                              <a:lnTo>
                                <a:pt x="642" y="61"/>
                              </a:lnTo>
                              <a:lnTo>
                                <a:pt x="690" y="70"/>
                              </a:lnTo>
                              <a:lnTo>
                                <a:pt x="728" y="92"/>
                              </a:lnTo>
                              <a:lnTo>
                                <a:pt x="757" y="113"/>
                              </a:lnTo>
                              <a:lnTo>
                                <a:pt x="785" y="136"/>
                              </a:lnTo>
                              <a:lnTo>
                                <a:pt x="815" y="165"/>
                              </a:lnTo>
                              <a:lnTo>
                                <a:pt x="838" y="196"/>
                              </a:lnTo>
                              <a:lnTo>
                                <a:pt x="853" y="222"/>
                              </a:lnTo>
                              <a:lnTo>
                                <a:pt x="862" y="247"/>
                              </a:lnTo>
                              <a:lnTo>
                                <a:pt x="838" y="290"/>
                              </a:lnTo>
                              <a:lnTo>
                                <a:pt x="796" y="269"/>
                              </a:lnTo>
                              <a:lnTo>
                                <a:pt x="723" y="235"/>
                              </a:lnTo>
                              <a:lnTo>
                                <a:pt x="698" y="238"/>
                              </a:lnTo>
                              <a:lnTo>
                                <a:pt x="664" y="248"/>
                              </a:lnTo>
                              <a:lnTo>
                                <a:pt x="628" y="275"/>
                              </a:lnTo>
                              <a:lnTo>
                                <a:pt x="591" y="309"/>
                              </a:lnTo>
                              <a:lnTo>
                                <a:pt x="566" y="347"/>
                              </a:lnTo>
                              <a:lnTo>
                                <a:pt x="525" y="405"/>
                              </a:lnTo>
                              <a:lnTo>
                                <a:pt x="284" y="485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e0e0e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625" name=""/>
                        <p:cNvSpPr/>
                        <p:nvPr/>
                      </p:nvSpPr>
                      <p:spPr>
                        <a:xfrm flipH="1">
                          <a:off x="4370400" y="1684800"/>
                          <a:ext cx="172800" cy="756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558" h="244">
                              <a:moveTo>
                                <a:pt x="0" y="124"/>
                              </a:moveTo>
                              <a:lnTo>
                                <a:pt x="13" y="94"/>
                              </a:lnTo>
                              <a:lnTo>
                                <a:pt x="28" y="73"/>
                              </a:lnTo>
                              <a:lnTo>
                                <a:pt x="49" y="54"/>
                              </a:lnTo>
                              <a:lnTo>
                                <a:pt x="72" y="40"/>
                              </a:lnTo>
                              <a:lnTo>
                                <a:pt x="99" y="28"/>
                              </a:lnTo>
                              <a:lnTo>
                                <a:pt x="131" y="14"/>
                              </a:lnTo>
                              <a:lnTo>
                                <a:pt x="168" y="5"/>
                              </a:lnTo>
                              <a:lnTo>
                                <a:pt x="215" y="2"/>
                              </a:lnTo>
                              <a:lnTo>
                                <a:pt x="278" y="0"/>
                              </a:lnTo>
                              <a:lnTo>
                                <a:pt x="359" y="2"/>
                              </a:lnTo>
                              <a:lnTo>
                                <a:pt x="405" y="8"/>
                              </a:lnTo>
                              <a:lnTo>
                                <a:pt x="434" y="19"/>
                              </a:lnTo>
                              <a:lnTo>
                                <a:pt x="466" y="33"/>
                              </a:lnTo>
                              <a:lnTo>
                                <a:pt x="501" y="48"/>
                              </a:lnTo>
                              <a:lnTo>
                                <a:pt x="531" y="61"/>
                              </a:lnTo>
                              <a:lnTo>
                                <a:pt x="558" y="75"/>
                              </a:lnTo>
                              <a:lnTo>
                                <a:pt x="554" y="85"/>
                              </a:lnTo>
                              <a:lnTo>
                                <a:pt x="544" y="97"/>
                              </a:lnTo>
                              <a:lnTo>
                                <a:pt x="532" y="107"/>
                              </a:lnTo>
                              <a:lnTo>
                                <a:pt x="334" y="244"/>
                              </a:lnTo>
                              <a:lnTo>
                                <a:pt x="168" y="238"/>
                              </a:lnTo>
                              <a:lnTo>
                                <a:pt x="165" y="180"/>
                              </a:lnTo>
                              <a:lnTo>
                                <a:pt x="153" y="168"/>
                              </a:lnTo>
                              <a:lnTo>
                                <a:pt x="134" y="156"/>
                              </a:lnTo>
                              <a:lnTo>
                                <a:pt x="110" y="147"/>
                              </a:lnTo>
                              <a:lnTo>
                                <a:pt x="75" y="140"/>
                              </a:lnTo>
                              <a:lnTo>
                                <a:pt x="28" y="131"/>
                              </a:lnTo>
                              <a:lnTo>
                                <a:pt x="0" y="12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8080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8800" bIns="28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6626" name=""/>
                      <p:cNvSpPr/>
                      <p:nvPr/>
                    </p:nvSpPr>
                    <p:spPr>
                      <a:xfrm flipH="1">
                        <a:off x="4461480" y="1714320"/>
                        <a:ext cx="25920" cy="15480"/>
                      </a:xfrm>
                      <a:prstGeom prst="ellipse">
                        <a:avLst/>
                      </a:prstGeom>
                      <a:solidFill>
                        <a:srgbClr val="e0e0e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5640" bIns="-356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6627" name=""/>
                    <p:cNvGrpSpPr/>
                    <p:nvPr/>
                  </p:nvGrpSpPr>
                  <p:grpSpPr>
                    <a:xfrm>
                      <a:off x="4330080" y="1659600"/>
                      <a:ext cx="244800" cy="62640"/>
                      <a:chOff x="4330080" y="1659600"/>
                      <a:chExt cx="244800" cy="62640"/>
                    </a:xfrm>
                  </p:grpSpPr>
                  <p:sp>
                    <p:nvSpPr>
                      <p:cNvPr id="6628" name=""/>
                      <p:cNvSpPr/>
                      <p:nvPr/>
                    </p:nvSpPr>
                    <p:spPr>
                      <a:xfrm flipH="1">
                        <a:off x="4542840" y="1713600"/>
                        <a:ext cx="32040" cy="8640"/>
                      </a:xfrm>
                      <a:prstGeom prst="line">
                        <a:avLst/>
                      </a:prstGeom>
                      <a:ln w="6480">
                        <a:solidFill>
                          <a:srgbClr val="c06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160" bIns="-381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629" name=""/>
                      <p:cNvSpPr/>
                      <p:nvPr/>
                    </p:nvSpPr>
                    <p:spPr>
                      <a:xfrm flipH="1">
                        <a:off x="4535640" y="1692000"/>
                        <a:ext cx="27000" cy="15480"/>
                      </a:xfrm>
                      <a:prstGeom prst="line">
                        <a:avLst/>
                      </a:prstGeom>
                      <a:ln w="6480">
                        <a:solidFill>
                          <a:srgbClr val="c06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1320" bIns="-313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630" name=""/>
                      <p:cNvSpPr/>
                      <p:nvPr/>
                    </p:nvSpPr>
                    <p:spPr>
                      <a:xfrm flipH="1">
                        <a:off x="4523760" y="1676160"/>
                        <a:ext cx="13320" cy="22320"/>
                      </a:xfrm>
                      <a:prstGeom prst="line">
                        <a:avLst/>
                      </a:prstGeom>
                      <a:ln w="6480">
                        <a:solidFill>
                          <a:srgbClr val="c06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4480" bIns="-24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631" name=""/>
                      <p:cNvSpPr/>
                      <p:nvPr/>
                    </p:nvSpPr>
                    <p:spPr>
                      <a:xfrm flipH="1">
                        <a:off x="4496760" y="1668240"/>
                        <a:ext cx="11520" cy="20520"/>
                      </a:xfrm>
                      <a:prstGeom prst="line">
                        <a:avLst/>
                      </a:prstGeom>
                      <a:ln w="6480">
                        <a:solidFill>
                          <a:srgbClr val="c06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6280" bIns="-262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632" name=""/>
                      <p:cNvSpPr/>
                      <p:nvPr/>
                    </p:nvSpPr>
                    <p:spPr>
                      <a:xfrm flipH="1">
                        <a:off x="4476240" y="1659960"/>
                        <a:ext cx="360" cy="24480"/>
                      </a:xfrm>
                      <a:prstGeom prst="line">
                        <a:avLst/>
                      </a:prstGeom>
                      <a:ln w="6480">
                        <a:solidFill>
                          <a:srgbClr val="c06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2320" bIns="-223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633" name=""/>
                      <p:cNvSpPr/>
                      <p:nvPr/>
                    </p:nvSpPr>
                    <p:spPr>
                      <a:xfrm>
                        <a:off x="4448160" y="1659600"/>
                        <a:ext cx="7200" cy="27000"/>
                      </a:xfrm>
                      <a:prstGeom prst="line">
                        <a:avLst/>
                      </a:prstGeom>
                      <a:ln w="6480">
                        <a:solidFill>
                          <a:srgbClr val="c06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800" bIns="-19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634" name=""/>
                      <p:cNvSpPr/>
                      <p:nvPr/>
                    </p:nvSpPr>
                    <p:spPr>
                      <a:xfrm>
                        <a:off x="4423680" y="1667520"/>
                        <a:ext cx="8640" cy="14760"/>
                      </a:xfrm>
                      <a:prstGeom prst="line">
                        <a:avLst/>
                      </a:prstGeom>
                      <a:ln w="6480">
                        <a:solidFill>
                          <a:srgbClr val="c06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040" bIns="-320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635" name=""/>
                      <p:cNvSpPr/>
                      <p:nvPr/>
                    </p:nvSpPr>
                    <p:spPr>
                      <a:xfrm>
                        <a:off x="4402800" y="1676160"/>
                        <a:ext cx="8280" cy="9720"/>
                      </a:xfrm>
                      <a:prstGeom prst="line">
                        <a:avLst/>
                      </a:prstGeom>
                      <a:ln w="6480">
                        <a:solidFill>
                          <a:srgbClr val="c06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080" bIns="-370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636" name=""/>
                      <p:cNvSpPr/>
                      <p:nvPr/>
                    </p:nvSpPr>
                    <p:spPr>
                      <a:xfrm>
                        <a:off x="4374360" y="1680480"/>
                        <a:ext cx="16560" cy="15480"/>
                      </a:xfrm>
                      <a:prstGeom prst="line">
                        <a:avLst/>
                      </a:prstGeom>
                      <a:ln w="6480">
                        <a:solidFill>
                          <a:srgbClr val="c06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1320" bIns="-313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637" name=""/>
                      <p:cNvSpPr/>
                      <p:nvPr/>
                    </p:nvSpPr>
                    <p:spPr>
                      <a:xfrm>
                        <a:off x="4351320" y="1693800"/>
                        <a:ext cx="16560" cy="12240"/>
                      </a:xfrm>
                      <a:prstGeom prst="line">
                        <a:avLst/>
                      </a:prstGeom>
                      <a:ln w="6480">
                        <a:solidFill>
                          <a:srgbClr val="c06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4560" bIns="-34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638" name=""/>
                      <p:cNvSpPr/>
                      <p:nvPr/>
                    </p:nvSpPr>
                    <p:spPr>
                      <a:xfrm>
                        <a:off x="4330080" y="1711080"/>
                        <a:ext cx="35280" cy="5400"/>
                      </a:xfrm>
                      <a:prstGeom prst="line">
                        <a:avLst/>
                      </a:prstGeom>
                      <a:ln w="6480">
                        <a:solidFill>
                          <a:srgbClr val="c06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400" bIns="-41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6639" name=""/>
                  <p:cNvGrpSpPr/>
                  <p:nvPr/>
                </p:nvGrpSpPr>
                <p:grpSpPr>
                  <a:xfrm>
                    <a:off x="4352040" y="1713960"/>
                    <a:ext cx="177840" cy="495360"/>
                    <a:chOff x="4352040" y="1713960"/>
                    <a:chExt cx="177840" cy="495360"/>
                  </a:xfrm>
                </p:grpSpPr>
                <p:grpSp>
                  <p:nvGrpSpPr>
                    <p:cNvPr id="6640" name=""/>
                    <p:cNvGrpSpPr/>
                    <p:nvPr/>
                  </p:nvGrpSpPr>
                  <p:grpSpPr>
                    <a:xfrm>
                      <a:off x="4352040" y="1713960"/>
                      <a:ext cx="177840" cy="495360"/>
                      <a:chOff x="4352040" y="1713960"/>
                      <a:chExt cx="177840" cy="495360"/>
                    </a:xfrm>
                  </p:grpSpPr>
                  <p:grpSp>
                    <p:nvGrpSpPr>
                      <p:cNvPr id="6641" name=""/>
                      <p:cNvGrpSpPr/>
                      <p:nvPr/>
                    </p:nvGrpSpPr>
                    <p:grpSpPr>
                      <a:xfrm>
                        <a:off x="4352040" y="1713960"/>
                        <a:ext cx="177840" cy="495360"/>
                        <a:chOff x="4352040" y="1713960"/>
                        <a:chExt cx="177840" cy="495360"/>
                      </a:xfrm>
                    </p:grpSpPr>
                    <p:grpSp>
                      <p:nvGrpSpPr>
                        <p:cNvPr id="6642" name=""/>
                        <p:cNvGrpSpPr/>
                        <p:nvPr/>
                      </p:nvGrpSpPr>
                      <p:grpSpPr>
                        <a:xfrm>
                          <a:off x="4352040" y="1754280"/>
                          <a:ext cx="177840" cy="455040"/>
                          <a:chOff x="4352040" y="1754280"/>
                          <a:chExt cx="177840" cy="455040"/>
                        </a:xfrm>
                      </p:grpSpPr>
                      <p:sp>
                        <p:nvSpPr>
                          <p:cNvPr id="6643" name=""/>
                          <p:cNvSpPr/>
                          <p:nvPr/>
                        </p:nvSpPr>
                        <p:spPr>
                          <a:xfrm flipH="1">
                            <a:off x="4351680" y="1754280"/>
                            <a:ext cx="176760" cy="4550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569" h="1462">
                                <a:moveTo>
                                  <a:pt x="257" y="0"/>
                                </a:moveTo>
                                <a:lnTo>
                                  <a:pt x="226" y="3"/>
                                </a:lnTo>
                                <a:lnTo>
                                  <a:pt x="193" y="9"/>
                                </a:lnTo>
                                <a:lnTo>
                                  <a:pt x="161" y="17"/>
                                </a:lnTo>
                                <a:lnTo>
                                  <a:pt x="135" y="28"/>
                                </a:lnTo>
                                <a:lnTo>
                                  <a:pt x="119" y="40"/>
                                </a:lnTo>
                                <a:lnTo>
                                  <a:pt x="108" y="51"/>
                                </a:lnTo>
                                <a:lnTo>
                                  <a:pt x="96" y="76"/>
                                </a:lnTo>
                                <a:lnTo>
                                  <a:pt x="86" y="97"/>
                                </a:lnTo>
                                <a:lnTo>
                                  <a:pt x="73" y="133"/>
                                </a:lnTo>
                                <a:lnTo>
                                  <a:pt x="55" y="167"/>
                                </a:lnTo>
                                <a:lnTo>
                                  <a:pt x="37" y="195"/>
                                </a:lnTo>
                                <a:lnTo>
                                  <a:pt x="23" y="215"/>
                                </a:lnTo>
                                <a:lnTo>
                                  <a:pt x="10" y="241"/>
                                </a:lnTo>
                                <a:lnTo>
                                  <a:pt x="1" y="272"/>
                                </a:lnTo>
                                <a:lnTo>
                                  <a:pt x="0" y="298"/>
                                </a:lnTo>
                                <a:lnTo>
                                  <a:pt x="4" y="337"/>
                                </a:lnTo>
                                <a:lnTo>
                                  <a:pt x="10" y="366"/>
                                </a:lnTo>
                                <a:lnTo>
                                  <a:pt x="20" y="396"/>
                                </a:lnTo>
                                <a:lnTo>
                                  <a:pt x="31" y="416"/>
                                </a:lnTo>
                                <a:lnTo>
                                  <a:pt x="47" y="440"/>
                                </a:lnTo>
                                <a:lnTo>
                                  <a:pt x="71" y="464"/>
                                </a:lnTo>
                                <a:lnTo>
                                  <a:pt x="89" y="480"/>
                                </a:lnTo>
                                <a:lnTo>
                                  <a:pt x="113" y="484"/>
                                </a:lnTo>
                                <a:lnTo>
                                  <a:pt x="155" y="489"/>
                                </a:lnTo>
                                <a:lnTo>
                                  <a:pt x="180" y="486"/>
                                </a:lnTo>
                                <a:lnTo>
                                  <a:pt x="171" y="523"/>
                                </a:lnTo>
                                <a:lnTo>
                                  <a:pt x="164" y="551"/>
                                </a:lnTo>
                                <a:lnTo>
                                  <a:pt x="157" y="583"/>
                                </a:lnTo>
                                <a:lnTo>
                                  <a:pt x="152" y="617"/>
                                </a:lnTo>
                                <a:lnTo>
                                  <a:pt x="154" y="643"/>
                                </a:lnTo>
                                <a:lnTo>
                                  <a:pt x="161" y="662"/>
                                </a:lnTo>
                                <a:lnTo>
                                  <a:pt x="180" y="690"/>
                                </a:lnTo>
                                <a:lnTo>
                                  <a:pt x="203" y="727"/>
                                </a:lnTo>
                                <a:lnTo>
                                  <a:pt x="220" y="755"/>
                                </a:lnTo>
                                <a:lnTo>
                                  <a:pt x="237" y="778"/>
                                </a:lnTo>
                                <a:lnTo>
                                  <a:pt x="250" y="812"/>
                                </a:lnTo>
                                <a:lnTo>
                                  <a:pt x="262" y="861"/>
                                </a:lnTo>
                                <a:lnTo>
                                  <a:pt x="274" y="913"/>
                                </a:lnTo>
                                <a:lnTo>
                                  <a:pt x="281" y="949"/>
                                </a:lnTo>
                                <a:lnTo>
                                  <a:pt x="287" y="995"/>
                                </a:lnTo>
                                <a:lnTo>
                                  <a:pt x="291" y="1042"/>
                                </a:lnTo>
                                <a:lnTo>
                                  <a:pt x="299" y="1121"/>
                                </a:lnTo>
                                <a:lnTo>
                                  <a:pt x="308" y="1228"/>
                                </a:lnTo>
                                <a:lnTo>
                                  <a:pt x="314" y="1322"/>
                                </a:lnTo>
                                <a:lnTo>
                                  <a:pt x="321" y="1399"/>
                                </a:lnTo>
                                <a:lnTo>
                                  <a:pt x="324" y="1462"/>
                                </a:lnTo>
                                <a:lnTo>
                                  <a:pt x="569" y="1462"/>
                                </a:lnTo>
                                <a:lnTo>
                                  <a:pt x="559" y="1428"/>
                                </a:lnTo>
                                <a:lnTo>
                                  <a:pt x="551" y="1393"/>
                                </a:lnTo>
                                <a:lnTo>
                                  <a:pt x="545" y="1360"/>
                                </a:lnTo>
                                <a:lnTo>
                                  <a:pt x="537" y="1262"/>
                                </a:lnTo>
                                <a:lnTo>
                                  <a:pt x="529" y="1145"/>
                                </a:lnTo>
                                <a:lnTo>
                                  <a:pt x="523" y="1053"/>
                                </a:lnTo>
                                <a:lnTo>
                                  <a:pt x="508" y="971"/>
                                </a:lnTo>
                                <a:lnTo>
                                  <a:pt x="489" y="863"/>
                                </a:lnTo>
                                <a:lnTo>
                                  <a:pt x="474" y="753"/>
                                </a:lnTo>
                                <a:lnTo>
                                  <a:pt x="460" y="634"/>
                                </a:lnTo>
                                <a:lnTo>
                                  <a:pt x="447" y="548"/>
                                </a:lnTo>
                                <a:lnTo>
                                  <a:pt x="437" y="514"/>
                                </a:lnTo>
                                <a:lnTo>
                                  <a:pt x="426" y="478"/>
                                </a:lnTo>
                                <a:lnTo>
                                  <a:pt x="417" y="449"/>
                                </a:lnTo>
                                <a:lnTo>
                                  <a:pt x="414" y="415"/>
                                </a:lnTo>
                                <a:lnTo>
                                  <a:pt x="414" y="367"/>
                                </a:lnTo>
                                <a:lnTo>
                                  <a:pt x="408" y="318"/>
                                </a:lnTo>
                                <a:lnTo>
                                  <a:pt x="396" y="260"/>
                                </a:lnTo>
                                <a:lnTo>
                                  <a:pt x="379" y="184"/>
                                </a:lnTo>
                                <a:lnTo>
                                  <a:pt x="364" y="124"/>
                                </a:lnTo>
                                <a:lnTo>
                                  <a:pt x="355" y="104"/>
                                </a:lnTo>
                                <a:lnTo>
                                  <a:pt x="338" y="78"/>
                                </a:lnTo>
                                <a:lnTo>
                                  <a:pt x="309" y="43"/>
                                </a:lnTo>
                                <a:lnTo>
                                  <a:pt x="280" y="17"/>
                                </a:lnTo>
                                <a:lnTo>
                                  <a:pt x="257" y="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ffff4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6644" name=""/>
                          <p:cNvSpPr/>
                          <p:nvPr/>
                        </p:nvSpPr>
                        <p:spPr>
                          <a:xfrm flipH="1">
                            <a:off x="4483800" y="1769760"/>
                            <a:ext cx="45720" cy="4536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49" h="146">
                                <a:moveTo>
                                  <a:pt x="149" y="0"/>
                                </a:moveTo>
                                <a:lnTo>
                                  <a:pt x="128" y="15"/>
                                </a:lnTo>
                                <a:lnTo>
                                  <a:pt x="115" y="22"/>
                                </a:lnTo>
                                <a:lnTo>
                                  <a:pt x="93" y="31"/>
                                </a:lnTo>
                                <a:lnTo>
                                  <a:pt x="73" y="37"/>
                                </a:lnTo>
                                <a:lnTo>
                                  <a:pt x="54" y="39"/>
                                </a:lnTo>
                                <a:lnTo>
                                  <a:pt x="36" y="42"/>
                                </a:lnTo>
                                <a:lnTo>
                                  <a:pt x="25" y="48"/>
                                </a:lnTo>
                                <a:lnTo>
                                  <a:pt x="16" y="61"/>
                                </a:lnTo>
                                <a:lnTo>
                                  <a:pt x="8" y="72"/>
                                </a:lnTo>
                                <a:lnTo>
                                  <a:pt x="3" y="82"/>
                                </a:lnTo>
                                <a:lnTo>
                                  <a:pt x="0" y="96"/>
                                </a:lnTo>
                                <a:lnTo>
                                  <a:pt x="0" y="107"/>
                                </a:lnTo>
                                <a:lnTo>
                                  <a:pt x="3" y="121"/>
                                </a:lnTo>
                                <a:lnTo>
                                  <a:pt x="8" y="136"/>
                                </a:lnTo>
                                <a:lnTo>
                                  <a:pt x="14" y="143"/>
                                </a:lnTo>
                                <a:lnTo>
                                  <a:pt x="23" y="146"/>
                                </a:lnTo>
                                <a:lnTo>
                                  <a:pt x="40" y="143"/>
                                </a:lnTo>
                                <a:lnTo>
                                  <a:pt x="54" y="141"/>
                                </a:lnTo>
                                <a:lnTo>
                                  <a:pt x="68" y="144"/>
                                </a:lnTo>
                                <a:lnTo>
                                  <a:pt x="76" y="131"/>
                                </a:lnTo>
                                <a:lnTo>
                                  <a:pt x="85" y="116"/>
                                </a:lnTo>
                                <a:lnTo>
                                  <a:pt x="93" y="106"/>
                                </a:lnTo>
                                <a:lnTo>
                                  <a:pt x="101" y="95"/>
                                </a:lnTo>
                                <a:lnTo>
                                  <a:pt x="110" y="85"/>
                                </a:lnTo>
                                <a:lnTo>
                                  <a:pt x="109" y="76"/>
                                </a:lnTo>
                                <a:lnTo>
                                  <a:pt x="111" y="62"/>
                                </a:lnTo>
                                <a:lnTo>
                                  <a:pt x="114" y="47"/>
                                </a:lnTo>
                                <a:lnTo>
                                  <a:pt x="122" y="36"/>
                                </a:lnTo>
                                <a:lnTo>
                                  <a:pt x="133" y="22"/>
                                </a:lnTo>
                                <a:lnTo>
                                  <a:pt x="149" y="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ffe0c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1440" bIns="-144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6645" name=""/>
                        <p:cNvSpPr/>
                        <p:nvPr/>
                      </p:nvSpPr>
                      <p:spPr>
                        <a:xfrm flipH="1">
                          <a:off x="4362480" y="1713960"/>
                          <a:ext cx="122760" cy="4953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95" h="1593">
                              <a:moveTo>
                                <a:pt x="346" y="6"/>
                              </a:moveTo>
                              <a:lnTo>
                                <a:pt x="332" y="3"/>
                              </a:lnTo>
                              <a:lnTo>
                                <a:pt x="318" y="1"/>
                              </a:lnTo>
                              <a:lnTo>
                                <a:pt x="302" y="0"/>
                              </a:lnTo>
                              <a:lnTo>
                                <a:pt x="288" y="2"/>
                              </a:lnTo>
                              <a:lnTo>
                                <a:pt x="275" y="6"/>
                              </a:lnTo>
                              <a:lnTo>
                                <a:pt x="261" y="16"/>
                              </a:lnTo>
                              <a:lnTo>
                                <a:pt x="241" y="30"/>
                              </a:lnTo>
                              <a:lnTo>
                                <a:pt x="223" y="46"/>
                              </a:lnTo>
                              <a:lnTo>
                                <a:pt x="205" y="67"/>
                              </a:lnTo>
                              <a:lnTo>
                                <a:pt x="193" y="84"/>
                              </a:lnTo>
                              <a:lnTo>
                                <a:pt x="184" y="102"/>
                              </a:lnTo>
                              <a:lnTo>
                                <a:pt x="174" y="122"/>
                              </a:lnTo>
                              <a:lnTo>
                                <a:pt x="165" y="136"/>
                              </a:lnTo>
                              <a:lnTo>
                                <a:pt x="150" y="148"/>
                              </a:lnTo>
                              <a:lnTo>
                                <a:pt x="134" y="159"/>
                              </a:lnTo>
                              <a:lnTo>
                                <a:pt x="125" y="156"/>
                              </a:lnTo>
                              <a:lnTo>
                                <a:pt x="111" y="154"/>
                              </a:lnTo>
                              <a:lnTo>
                                <a:pt x="98" y="153"/>
                              </a:lnTo>
                              <a:lnTo>
                                <a:pt x="86" y="154"/>
                              </a:lnTo>
                              <a:lnTo>
                                <a:pt x="69" y="159"/>
                              </a:lnTo>
                              <a:lnTo>
                                <a:pt x="52" y="167"/>
                              </a:lnTo>
                              <a:lnTo>
                                <a:pt x="37" y="177"/>
                              </a:lnTo>
                              <a:lnTo>
                                <a:pt x="26" y="186"/>
                              </a:lnTo>
                              <a:lnTo>
                                <a:pt x="17" y="199"/>
                              </a:lnTo>
                              <a:lnTo>
                                <a:pt x="11" y="214"/>
                              </a:lnTo>
                              <a:lnTo>
                                <a:pt x="8" y="229"/>
                              </a:lnTo>
                              <a:lnTo>
                                <a:pt x="1" y="322"/>
                              </a:lnTo>
                              <a:lnTo>
                                <a:pt x="0" y="422"/>
                              </a:lnTo>
                              <a:lnTo>
                                <a:pt x="80" y="554"/>
                              </a:lnTo>
                              <a:lnTo>
                                <a:pt x="84" y="586"/>
                              </a:lnTo>
                              <a:lnTo>
                                <a:pt x="55" y="593"/>
                              </a:lnTo>
                              <a:lnTo>
                                <a:pt x="78" y="645"/>
                              </a:lnTo>
                              <a:lnTo>
                                <a:pt x="98" y="706"/>
                              </a:lnTo>
                              <a:lnTo>
                                <a:pt x="114" y="753"/>
                              </a:lnTo>
                              <a:lnTo>
                                <a:pt x="137" y="818"/>
                              </a:lnTo>
                              <a:lnTo>
                                <a:pt x="153" y="897"/>
                              </a:lnTo>
                              <a:lnTo>
                                <a:pt x="168" y="976"/>
                              </a:lnTo>
                              <a:lnTo>
                                <a:pt x="179" y="1032"/>
                              </a:lnTo>
                              <a:lnTo>
                                <a:pt x="196" y="1076"/>
                              </a:lnTo>
                              <a:lnTo>
                                <a:pt x="212" y="1123"/>
                              </a:lnTo>
                              <a:lnTo>
                                <a:pt x="226" y="1162"/>
                              </a:lnTo>
                              <a:lnTo>
                                <a:pt x="232" y="1197"/>
                              </a:lnTo>
                              <a:lnTo>
                                <a:pt x="241" y="1241"/>
                              </a:lnTo>
                              <a:lnTo>
                                <a:pt x="251" y="1291"/>
                              </a:lnTo>
                              <a:lnTo>
                                <a:pt x="258" y="1341"/>
                              </a:lnTo>
                              <a:lnTo>
                                <a:pt x="265" y="1385"/>
                              </a:lnTo>
                              <a:lnTo>
                                <a:pt x="271" y="1430"/>
                              </a:lnTo>
                              <a:lnTo>
                                <a:pt x="270" y="1465"/>
                              </a:lnTo>
                              <a:lnTo>
                                <a:pt x="269" y="1510"/>
                              </a:lnTo>
                              <a:lnTo>
                                <a:pt x="271" y="1552"/>
                              </a:lnTo>
                              <a:lnTo>
                                <a:pt x="272" y="1593"/>
                              </a:lnTo>
                              <a:lnTo>
                                <a:pt x="392" y="1593"/>
                              </a:lnTo>
                              <a:lnTo>
                                <a:pt x="388" y="1499"/>
                              </a:lnTo>
                              <a:lnTo>
                                <a:pt x="385" y="1440"/>
                              </a:lnTo>
                              <a:lnTo>
                                <a:pt x="384" y="1382"/>
                              </a:lnTo>
                              <a:lnTo>
                                <a:pt x="381" y="1324"/>
                              </a:lnTo>
                              <a:lnTo>
                                <a:pt x="374" y="1275"/>
                              </a:lnTo>
                              <a:lnTo>
                                <a:pt x="367" y="1227"/>
                              </a:lnTo>
                              <a:lnTo>
                                <a:pt x="358" y="1175"/>
                              </a:lnTo>
                              <a:lnTo>
                                <a:pt x="350" y="1118"/>
                              </a:lnTo>
                              <a:lnTo>
                                <a:pt x="339" y="1049"/>
                              </a:lnTo>
                              <a:lnTo>
                                <a:pt x="330" y="994"/>
                              </a:lnTo>
                              <a:lnTo>
                                <a:pt x="317" y="937"/>
                              </a:lnTo>
                              <a:lnTo>
                                <a:pt x="299" y="848"/>
                              </a:lnTo>
                              <a:lnTo>
                                <a:pt x="297" y="790"/>
                              </a:lnTo>
                              <a:lnTo>
                                <a:pt x="294" y="734"/>
                              </a:lnTo>
                              <a:lnTo>
                                <a:pt x="291" y="707"/>
                              </a:lnTo>
                              <a:lnTo>
                                <a:pt x="281" y="675"/>
                              </a:lnTo>
                              <a:lnTo>
                                <a:pt x="272" y="639"/>
                              </a:lnTo>
                              <a:lnTo>
                                <a:pt x="265" y="608"/>
                              </a:lnTo>
                              <a:lnTo>
                                <a:pt x="262" y="576"/>
                              </a:lnTo>
                              <a:lnTo>
                                <a:pt x="260" y="543"/>
                              </a:lnTo>
                              <a:lnTo>
                                <a:pt x="263" y="502"/>
                              </a:lnTo>
                              <a:lnTo>
                                <a:pt x="265" y="471"/>
                              </a:lnTo>
                              <a:lnTo>
                                <a:pt x="267" y="445"/>
                              </a:lnTo>
                              <a:lnTo>
                                <a:pt x="265" y="431"/>
                              </a:lnTo>
                              <a:lnTo>
                                <a:pt x="258" y="410"/>
                              </a:lnTo>
                              <a:lnTo>
                                <a:pt x="248" y="383"/>
                              </a:lnTo>
                              <a:lnTo>
                                <a:pt x="237" y="351"/>
                              </a:lnTo>
                              <a:lnTo>
                                <a:pt x="226" y="316"/>
                              </a:lnTo>
                              <a:lnTo>
                                <a:pt x="218" y="287"/>
                              </a:lnTo>
                              <a:lnTo>
                                <a:pt x="212" y="263"/>
                              </a:lnTo>
                              <a:lnTo>
                                <a:pt x="208" y="247"/>
                              </a:lnTo>
                              <a:lnTo>
                                <a:pt x="205" y="231"/>
                              </a:lnTo>
                              <a:lnTo>
                                <a:pt x="215" y="221"/>
                              </a:lnTo>
                              <a:lnTo>
                                <a:pt x="227" y="206"/>
                              </a:lnTo>
                              <a:lnTo>
                                <a:pt x="240" y="186"/>
                              </a:lnTo>
                              <a:lnTo>
                                <a:pt x="253" y="169"/>
                              </a:lnTo>
                              <a:lnTo>
                                <a:pt x="267" y="146"/>
                              </a:lnTo>
                              <a:lnTo>
                                <a:pt x="281" y="127"/>
                              </a:lnTo>
                              <a:lnTo>
                                <a:pt x="294" y="111"/>
                              </a:lnTo>
                              <a:lnTo>
                                <a:pt x="310" y="98"/>
                              </a:lnTo>
                              <a:lnTo>
                                <a:pt x="329" y="86"/>
                              </a:lnTo>
                              <a:lnTo>
                                <a:pt x="347" y="77"/>
                              </a:lnTo>
                              <a:lnTo>
                                <a:pt x="367" y="71"/>
                              </a:lnTo>
                              <a:lnTo>
                                <a:pt x="384" y="68"/>
                              </a:lnTo>
                              <a:lnTo>
                                <a:pt x="395" y="68"/>
                              </a:lnTo>
                              <a:lnTo>
                                <a:pt x="346" y="6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a04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6646" name=""/>
                      <p:cNvSpPr/>
                      <p:nvPr/>
                    </p:nvSpPr>
                    <p:spPr>
                      <a:xfrm flipH="1">
                        <a:off x="4446720" y="1783440"/>
                        <a:ext cx="73080" cy="110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35" h="357">
                            <a:moveTo>
                              <a:pt x="6" y="141"/>
                            </a:moveTo>
                            <a:lnTo>
                              <a:pt x="15" y="117"/>
                            </a:lnTo>
                            <a:lnTo>
                              <a:pt x="26" y="98"/>
                            </a:lnTo>
                            <a:lnTo>
                              <a:pt x="39" y="79"/>
                            </a:lnTo>
                            <a:lnTo>
                              <a:pt x="53" y="58"/>
                            </a:lnTo>
                            <a:lnTo>
                              <a:pt x="69" y="39"/>
                            </a:lnTo>
                            <a:lnTo>
                              <a:pt x="86" y="23"/>
                            </a:lnTo>
                            <a:lnTo>
                              <a:pt x="100" y="10"/>
                            </a:lnTo>
                            <a:lnTo>
                              <a:pt x="112" y="4"/>
                            </a:lnTo>
                            <a:lnTo>
                              <a:pt x="124" y="1"/>
                            </a:lnTo>
                            <a:lnTo>
                              <a:pt x="134" y="0"/>
                            </a:lnTo>
                            <a:lnTo>
                              <a:pt x="137" y="0"/>
                            </a:lnTo>
                            <a:lnTo>
                              <a:pt x="149" y="3"/>
                            </a:lnTo>
                            <a:lnTo>
                              <a:pt x="161" y="10"/>
                            </a:lnTo>
                            <a:lnTo>
                              <a:pt x="170" y="18"/>
                            </a:lnTo>
                            <a:lnTo>
                              <a:pt x="187" y="34"/>
                            </a:lnTo>
                            <a:lnTo>
                              <a:pt x="199" y="50"/>
                            </a:lnTo>
                            <a:lnTo>
                              <a:pt x="211" y="67"/>
                            </a:lnTo>
                            <a:lnTo>
                              <a:pt x="221" y="87"/>
                            </a:lnTo>
                            <a:lnTo>
                              <a:pt x="228" y="108"/>
                            </a:lnTo>
                            <a:lnTo>
                              <a:pt x="232" y="131"/>
                            </a:lnTo>
                            <a:lnTo>
                              <a:pt x="234" y="156"/>
                            </a:lnTo>
                            <a:lnTo>
                              <a:pt x="235" y="184"/>
                            </a:lnTo>
                            <a:lnTo>
                              <a:pt x="232" y="205"/>
                            </a:lnTo>
                            <a:lnTo>
                              <a:pt x="224" y="233"/>
                            </a:lnTo>
                            <a:lnTo>
                              <a:pt x="220" y="251"/>
                            </a:lnTo>
                            <a:lnTo>
                              <a:pt x="213" y="276"/>
                            </a:lnTo>
                            <a:lnTo>
                              <a:pt x="205" y="298"/>
                            </a:lnTo>
                            <a:lnTo>
                              <a:pt x="193" y="318"/>
                            </a:lnTo>
                            <a:lnTo>
                              <a:pt x="181" y="332"/>
                            </a:lnTo>
                            <a:lnTo>
                              <a:pt x="167" y="343"/>
                            </a:lnTo>
                            <a:lnTo>
                              <a:pt x="153" y="351"/>
                            </a:lnTo>
                            <a:lnTo>
                              <a:pt x="136" y="355"/>
                            </a:lnTo>
                            <a:lnTo>
                              <a:pt x="118" y="356"/>
                            </a:lnTo>
                            <a:lnTo>
                              <a:pt x="98" y="357"/>
                            </a:lnTo>
                            <a:lnTo>
                              <a:pt x="80" y="355"/>
                            </a:lnTo>
                            <a:lnTo>
                              <a:pt x="62" y="352"/>
                            </a:lnTo>
                            <a:lnTo>
                              <a:pt x="50" y="346"/>
                            </a:lnTo>
                            <a:lnTo>
                              <a:pt x="40" y="337"/>
                            </a:lnTo>
                            <a:lnTo>
                              <a:pt x="32" y="328"/>
                            </a:lnTo>
                            <a:lnTo>
                              <a:pt x="22" y="313"/>
                            </a:lnTo>
                            <a:lnTo>
                              <a:pt x="15" y="293"/>
                            </a:lnTo>
                            <a:lnTo>
                              <a:pt x="9" y="271"/>
                            </a:lnTo>
                            <a:lnTo>
                              <a:pt x="5" y="255"/>
                            </a:lnTo>
                            <a:lnTo>
                              <a:pt x="2" y="237"/>
                            </a:lnTo>
                            <a:lnTo>
                              <a:pt x="1" y="213"/>
                            </a:lnTo>
                            <a:lnTo>
                              <a:pt x="0" y="189"/>
                            </a:lnTo>
                            <a:lnTo>
                              <a:pt x="2" y="163"/>
                            </a:lnTo>
                            <a:lnTo>
                              <a:pt x="6" y="141"/>
                            </a:lnTo>
                            <a:close/>
                          </a:path>
                        </a:pathLst>
                      </a:custGeom>
                      <a:solidFill>
                        <a:srgbClr val="e07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6647" name=""/>
                    <p:cNvGrpSpPr/>
                    <p:nvPr/>
                  </p:nvGrpSpPr>
                  <p:grpSpPr>
                    <a:xfrm>
                      <a:off x="4399200" y="1845720"/>
                      <a:ext cx="55080" cy="241560"/>
                      <a:chOff x="4399200" y="1845720"/>
                      <a:chExt cx="55080" cy="241560"/>
                    </a:xfrm>
                  </p:grpSpPr>
                  <p:sp>
                    <p:nvSpPr>
                      <p:cNvPr id="6648" name=""/>
                      <p:cNvSpPr/>
                      <p:nvPr/>
                    </p:nvSpPr>
                    <p:spPr>
                      <a:xfrm flipH="1">
                        <a:off x="4402800" y="1845720"/>
                        <a:ext cx="19080" cy="51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3" h="164">
                            <a:moveTo>
                              <a:pt x="59" y="0"/>
                            </a:moveTo>
                            <a:lnTo>
                              <a:pt x="43" y="1"/>
                            </a:lnTo>
                            <a:lnTo>
                              <a:pt x="32" y="5"/>
                            </a:lnTo>
                            <a:lnTo>
                              <a:pt x="22" y="11"/>
                            </a:lnTo>
                            <a:lnTo>
                              <a:pt x="14" y="23"/>
                            </a:lnTo>
                            <a:lnTo>
                              <a:pt x="8" y="38"/>
                            </a:lnTo>
                            <a:lnTo>
                              <a:pt x="4" y="52"/>
                            </a:lnTo>
                            <a:lnTo>
                              <a:pt x="1" y="68"/>
                            </a:lnTo>
                            <a:lnTo>
                              <a:pt x="0" y="85"/>
                            </a:lnTo>
                            <a:lnTo>
                              <a:pt x="2" y="107"/>
                            </a:lnTo>
                            <a:lnTo>
                              <a:pt x="7" y="124"/>
                            </a:lnTo>
                            <a:lnTo>
                              <a:pt x="15" y="140"/>
                            </a:lnTo>
                            <a:lnTo>
                              <a:pt x="23" y="149"/>
                            </a:lnTo>
                            <a:lnTo>
                              <a:pt x="34" y="155"/>
                            </a:lnTo>
                            <a:lnTo>
                              <a:pt x="48" y="161"/>
                            </a:lnTo>
                            <a:lnTo>
                              <a:pt x="59" y="164"/>
                            </a:lnTo>
                            <a:lnTo>
                              <a:pt x="57" y="140"/>
                            </a:lnTo>
                            <a:lnTo>
                              <a:pt x="56" y="112"/>
                            </a:lnTo>
                            <a:lnTo>
                              <a:pt x="60" y="74"/>
                            </a:lnTo>
                            <a:lnTo>
                              <a:pt x="61" y="42"/>
                            </a:lnTo>
                            <a:lnTo>
                              <a:pt x="63" y="17"/>
                            </a:lnTo>
                            <a:lnTo>
                              <a:pt x="59" y="0"/>
                            </a:lnTo>
                            <a:close/>
                          </a:path>
                        </a:pathLst>
                      </a:custGeom>
                      <a:solidFill>
                        <a:srgbClr val="c0c0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" bIns="46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649" name=""/>
                      <p:cNvSpPr/>
                      <p:nvPr/>
                    </p:nvSpPr>
                    <p:spPr>
                      <a:xfrm flipH="1">
                        <a:off x="4426920" y="1907280"/>
                        <a:ext cx="27000" cy="51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9" h="166">
                            <a:moveTo>
                              <a:pt x="16" y="0"/>
                            </a:moveTo>
                            <a:lnTo>
                              <a:pt x="28" y="3"/>
                            </a:lnTo>
                            <a:lnTo>
                              <a:pt x="44" y="9"/>
                            </a:lnTo>
                            <a:lnTo>
                              <a:pt x="57" y="20"/>
                            </a:lnTo>
                            <a:lnTo>
                              <a:pt x="67" y="31"/>
                            </a:lnTo>
                            <a:lnTo>
                              <a:pt x="75" y="45"/>
                            </a:lnTo>
                            <a:lnTo>
                              <a:pt x="84" y="65"/>
                            </a:lnTo>
                            <a:lnTo>
                              <a:pt x="87" y="83"/>
                            </a:lnTo>
                            <a:lnTo>
                              <a:pt x="89" y="107"/>
                            </a:lnTo>
                            <a:lnTo>
                              <a:pt x="87" y="124"/>
                            </a:lnTo>
                            <a:lnTo>
                              <a:pt x="83" y="140"/>
                            </a:lnTo>
                            <a:lnTo>
                              <a:pt x="74" y="155"/>
                            </a:lnTo>
                            <a:lnTo>
                              <a:pt x="67" y="166"/>
                            </a:lnTo>
                            <a:lnTo>
                              <a:pt x="57" y="161"/>
                            </a:lnTo>
                            <a:lnTo>
                              <a:pt x="44" y="154"/>
                            </a:lnTo>
                            <a:lnTo>
                              <a:pt x="35" y="148"/>
                            </a:lnTo>
                            <a:lnTo>
                              <a:pt x="25" y="137"/>
                            </a:lnTo>
                            <a:lnTo>
                              <a:pt x="20" y="127"/>
                            </a:lnTo>
                            <a:lnTo>
                              <a:pt x="13" y="113"/>
                            </a:lnTo>
                            <a:lnTo>
                              <a:pt x="8" y="95"/>
                            </a:lnTo>
                            <a:lnTo>
                              <a:pt x="3" y="76"/>
                            </a:lnTo>
                            <a:lnTo>
                              <a:pt x="1" y="60"/>
                            </a:lnTo>
                            <a:lnTo>
                              <a:pt x="0" y="40"/>
                            </a:lnTo>
                            <a:lnTo>
                              <a:pt x="5" y="24"/>
                            </a:lnTo>
                            <a:lnTo>
                              <a:pt x="10" y="9"/>
                            </a:lnTo>
                            <a:lnTo>
                              <a:pt x="16" y="0"/>
                            </a:lnTo>
                            <a:close/>
                          </a:path>
                        </a:pathLst>
                      </a:custGeom>
                      <a:solidFill>
                        <a:srgbClr val="c0c0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" bIns="46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650" name=""/>
                      <p:cNvSpPr/>
                      <p:nvPr/>
                    </p:nvSpPr>
                    <p:spPr>
                      <a:xfrm flipH="1">
                        <a:off x="4398840" y="2025000"/>
                        <a:ext cx="27000" cy="62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8" h="199">
                            <a:moveTo>
                              <a:pt x="0" y="0"/>
                            </a:moveTo>
                            <a:lnTo>
                              <a:pt x="15" y="0"/>
                            </a:lnTo>
                            <a:lnTo>
                              <a:pt x="26" y="3"/>
                            </a:lnTo>
                            <a:lnTo>
                              <a:pt x="35" y="8"/>
                            </a:lnTo>
                            <a:lnTo>
                              <a:pt x="44" y="17"/>
                            </a:lnTo>
                            <a:lnTo>
                              <a:pt x="53" y="28"/>
                            </a:lnTo>
                            <a:lnTo>
                              <a:pt x="61" y="41"/>
                            </a:lnTo>
                            <a:lnTo>
                              <a:pt x="67" y="55"/>
                            </a:lnTo>
                            <a:lnTo>
                              <a:pt x="73" y="74"/>
                            </a:lnTo>
                            <a:lnTo>
                              <a:pt x="74" y="93"/>
                            </a:lnTo>
                            <a:lnTo>
                              <a:pt x="77" y="107"/>
                            </a:lnTo>
                            <a:lnTo>
                              <a:pt x="82" y="118"/>
                            </a:lnTo>
                            <a:lnTo>
                              <a:pt x="86" y="128"/>
                            </a:lnTo>
                            <a:lnTo>
                              <a:pt x="88" y="141"/>
                            </a:lnTo>
                            <a:lnTo>
                              <a:pt x="86" y="154"/>
                            </a:lnTo>
                            <a:lnTo>
                              <a:pt x="80" y="169"/>
                            </a:lnTo>
                            <a:lnTo>
                              <a:pt x="73" y="182"/>
                            </a:lnTo>
                            <a:lnTo>
                              <a:pt x="67" y="191"/>
                            </a:lnTo>
                            <a:lnTo>
                              <a:pt x="61" y="197"/>
                            </a:lnTo>
                            <a:lnTo>
                              <a:pt x="53" y="199"/>
                            </a:lnTo>
                            <a:lnTo>
                              <a:pt x="45" y="197"/>
                            </a:lnTo>
                            <a:lnTo>
                              <a:pt x="41" y="194"/>
                            </a:lnTo>
                            <a:lnTo>
                              <a:pt x="32" y="159"/>
                            </a:lnTo>
                            <a:lnTo>
                              <a:pt x="29" y="143"/>
                            </a:lnTo>
                            <a:lnTo>
                              <a:pt x="25" y="119"/>
                            </a:lnTo>
                            <a:lnTo>
                              <a:pt x="20" y="92"/>
                            </a:lnTo>
                            <a:lnTo>
                              <a:pt x="14" y="69"/>
                            </a:lnTo>
                            <a:lnTo>
                              <a:pt x="9" y="44"/>
                            </a:lnTo>
                            <a:lnTo>
                              <a:pt x="4" y="23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c0c0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5480" bIns="15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</p:grpSp>
          <p:sp>
            <p:nvSpPr>
              <p:cNvPr id="6651" name=""/>
              <p:cNvSpPr/>
              <p:nvPr/>
            </p:nvSpPr>
            <p:spPr>
              <a:xfrm>
                <a:off x="685800" y="838080"/>
                <a:ext cx="3809880" cy="914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sysDot"/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2" name=""/>
              <p:cNvSpPr/>
              <p:nvPr/>
            </p:nvSpPr>
            <p:spPr>
              <a:xfrm rot="813000">
                <a:off x="1051920" y="915480"/>
                <a:ext cx="2544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600" spc="-1" strike="noStrike">
                    <a:solidFill>
                      <a:srgbClr val="000000"/>
                    </a:solidFill>
                    <a:latin typeface="Times New Roman"/>
                  </a:rPr>
                  <a:t>anterolaterální hypothalamu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3" name=""/>
              <p:cNvSpPr/>
              <p:nvPr/>
            </p:nvSpPr>
            <p:spPr>
              <a:xfrm>
                <a:off x="7712640" y="617400"/>
                <a:ext cx="747720" cy="3988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000" spc="-1" strike="noStrike">
                    <a:solidFill>
                      <a:srgbClr val="000000"/>
                    </a:solidFill>
                    <a:latin typeface="Times New Roman"/>
                  </a:rPr>
                  <a:t>ADH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6654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3365640" y="601560"/>
                <a:ext cx="473040" cy="676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655" name=""/>
              <p:cNvSpPr/>
              <p:nvPr/>
            </p:nvSpPr>
            <p:spPr>
              <a:xfrm>
                <a:off x="3808080" y="677880"/>
                <a:ext cx="25232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1600" spc="-1" strike="noStrike">
                    <a:solidFill>
                      <a:srgbClr val="000000"/>
                    </a:solidFill>
                    <a:latin typeface="Times New Roman"/>
                  </a:rPr>
                  <a:t>Efektivní cirkulující objem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6" name=""/>
              <p:cNvSpPr/>
              <p:nvPr/>
            </p:nvSpPr>
            <p:spPr>
              <a:xfrm flipH="1" flipV="1">
                <a:off x="6319800" y="882360"/>
                <a:ext cx="1408320" cy="36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sysDot"/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7" name=""/>
              <p:cNvSpPr/>
              <p:nvPr/>
            </p:nvSpPr>
            <p:spPr>
              <a:xfrm>
                <a:off x="6923160" y="1347840"/>
                <a:ext cx="2122560" cy="10087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000" spc="-1" strike="noStrike">
                    <a:solidFill>
                      <a:srgbClr val="000000"/>
                    </a:solidFill>
                    <a:latin typeface="Times New Roman"/>
                  </a:rPr>
                  <a:t>Sympatiku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000" spc="-1" strike="noStrike">
                    <a:solidFill>
                      <a:srgbClr val="000000"/>
                    </a:solidFill>
                    <a:latin typeface="Times New Roman"/>
                  </a:rPr>
                  <a:t>a parasympatiku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8" name=""/>
              <p:cNvSpPr/>
              <p:nvPr/>
            </p:nvSpPr>
            <p:spPr>
              <a:xfrm flipH="1" flipV="1">
                <a:off x="6303600" y="856800"/>
                <a:ext cx="614520" cy="793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sysDot"/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9" name=""/>
              <p:cNvSpPr/>
              <p:nvPr/>
            </p:nvSpPr>
            <p:spPr>
              <a:xfrm>
                <a:off x="905040" y="4394160"/>
                <a:ext cx="1761840" cy="10087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000" spc="-1" strike="noStrike">
                    <a:solidFill>
                      <a:srgbClr val="000000"/>
                    </a:solidFill>
                    <a:latin typeface="Times New Roman"/>
                  </a:rPr>
                  <a:t>Atriální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000" spc="-1" strike="noStrike">
                    <a:solidFill>
                      <a:srgbClr val="000000"/>
                    </a:solidFill>
                    <a:latin typeface="Times New Roman"/>
                  </a:rPr>
                  <a:t>natriuretický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000" spc="-1" strike="noStrike">
                    <a:solidFill>
                      <a:srgbClr val="000000"/>
                    </a:solidFill>
                    <a:latin typeface="Times New Roman"/>
                  </a:rPr>
                  <a:t>fakto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0" name=""/>
              <p:cNvSpPr/>
              <p:nvPr/>
            </p:nvSpPr>
            <p:spPr>
              <a:xfrm flipV="1">
                <a:off x="2490840" y="3089160"/>
                <a:ext cx="1882800" cy="604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sysDot"/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1" name=""/>
              <p:cNvSpPr/>
              <p:nvPr/>
            </p:nvSpPr>
            <p:spPr>
              <a:xfrm>
                <a:off x="6658920" y="4670280"/>
                <a:ext cx="831600" cy="3988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000" spc="-1" strike="noStrike">
                    <a:solidFill>
                      <a:srgbClr val="000000"/>
                    </a:solidFill>
                    <a:latin typeface="Times New Roman"/>
                  </a:rPr>
                  <a:t>Renin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2" name=""/>
              <p:cNvSpPr/>
              <p:nvPr/>
            </p:nvSpPr>
            <p:spPr>
              <a:xfrm rot="20571600">
                <a:off x="2659320" y="3273480"/>
                <a:ext cx="54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600" spc="-1" strike="noStrike">
                    <a:solidFill>
                      <a:srgbClr val="000000"/>
                    </a:solidFill>
                    <a:latin typeface="Times New Roman"/>
                  </a:rPr>
                  <a:t>atri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3" name=""/>
              <p:cNvSpPr/>
              <p:nvPr/>
            </p:nvSpPr>
            <p:spPr>
              <a:xfrm flipH="1" flipV="1">
                <a:off x="4741560" y="3763440"/>
                <a:ext cx="1871640" cy="776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sysDot"/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4" name=""/>
              <p:cNvSpPr/>
              <p:nvPr/>
            </p:nvSpPr>
            <p:spPr>
              <a:xfrm>
                <a:off x="4905720" y="5478480"/>
                <a:ext cx="1994400" cy="3988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000" spc="-1" strike="noStrike">
                    <a:solidFill>
                      <a:srgbClr val="000000"/>
                    </a:solidFill>
                    <a:latin typeface="Times New Roman"/>
                  </a:rPr>
                  <a:t>Angiotensinogen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5" name=""/>
              <p:cNvSpPr/>
              <p:nvPr/>
            </p:nvSpPr>
            <p:spPr>
              <a:xfrm>
                <a:off x="7372080" y="5460840"/>
                <a:ext cx="1646640" cy="3988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000" spc="-1" strike="noStrike">
                    <a:solidFill>
                      <a:srgbClr val="000000"/>
                    </a:solidFill>
                    <a:latin typeface="Times New Roman"/>
                  </a:rPr>
                  <a:t>Angiotensin I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6" name=""/>
              <p:cNvSpPr/>
              <p:nvPr/>
            </p:nvSpPr>
            <p:spPr>
              <a:xfrm>
                <a:off x="7274880" y="6396120"/>
                <a:ext cx="1746000" cy="3988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000" spc="-1" strike="noStrike">
                    <a:solidFill>
                      <a:srgbClr val="000000"/>
                    </a:solidFill>
                    <a:latin typeface="Times New Roman"/>
                  </a:rPr>
                  <a:t>Angiotensin II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7" name=""/>
              <p:cNvSpPr/>
              <p:nvPr/>
            </p:nvSpPr>
            <p:spPr>
              <a:xfrm>
                <a:off x="4591080" y="6396120"/>
                <a:ext cx="1863720" cy="3988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000" spc="-1" strike="noStrike">
                    <a:solidFill>
                      <a:srgbClr val="000000"/>
                    </a:solidFill>
                    <a:latin typeface="Times New Roman"/>
                  </a:rPr>
                  <a:t>Angiotenzin III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8" name=""/>
              <p:cNvSpPr/>
              <p:nvPr/>
            </p:nvSpPr>
            <p:spPr>
              <a:xfrm>
                <a:off x="4505400" y="3470400"/>
                <a:ext cx="166680" cy="155520"/>
              </a:xfrm>
              <a:custGeom>
                <a:avLst/>
                <a:gdLst/>
                <a:ahLst/>
                <a:rect l="l" t="t" r="r" b="b"/>
                <a:pathLst>
                  <a:path w="1492" h="2422">
                    <a:moveTo>
                      <a:pt x="248" y="124"/>
                    </a:moveTo>
                    <a:lnTo>
                      <a:pt x="278" y="83"/>
                    </a:lnTo>
                    <a:lnTo>
                      <a:pt x="326" y="47"/>
                    </a:lnTo>
                    <a:lnTo>
                      <a:pt x="379" y="24"/>
                    </a:lnTo>
                    <a:lnTo>
                      <a:pt x="430" y="9"/>
                    </a:lnTo>
                    <a:lnTo>
                      <a:pt x="502" y="0"/>
                    </a:lnTo>
                    <a:lnTo>
                      <a:pt x="557" y="7"/>
                    </a:lnTo>
                    <a:lnTo>
                      <a:pt x="619" y="21"/>
                    </a:lnTo>
                    <a:lnTo>
                      <a:pt x="681" y="44"/>
                    </a:lnTo>
                    <a:lnTo>
                      <a:pt x="727" y="73"/>
                    </a:lnTo>
                    <a:lnTo>
                      <a:pt x="778" y="118"/>
                    </a:lnTo>
                    <a:lnTo>
                      <a:pt x="867" y="214"/>
                    </a:lnTo>
                    <a:lnTo>
                      <a:pt x="944" y="304"/>
                    </a:lnTo>
                    <a:lnTo>
                      <a:pt x="1018" y="408"/>
                    </a:lnTo>
                    <a:lnTo>
                      <a:pt x="1089" y="526"/>
                    </a:lnTo>
                    <a:lnTo>
                      <a:pt x="1145" y="634"/>
                    </a:lnTo>
                    <a:lnTo>
                      <a:pt x="1192" y="737"/>
                    </a:lnTo>
                    <a:lnTo>
                      <a:pt x="1226" y="829"/>
                    </a:lnTo>
                    <a:lnTo>
                      <a:pt x="1251" y="920"/>
                    </a:lnTo>
                    <a:lnTo>
                      <a:pt x="1281" y="1015"/>
                    </a:lnTo>
                    <a:lnTo>
                      <a:pt x="1313" y="1101"/>
                    </a:lnTo>
                    <a:lnTo>
                      <a:pt x="1365" y="1250"/>
                    </a:lnTo>
                    <a:lnTo>
                      <a:pt x="1420" y="1375"/>
                    </a:lnTo>
                    <a:lnTo>
                      <a:pt x="1448" y="1445"/>
                    </a:lnTo>
                    <a:lnTo>
                      <a:pt x="1468" y="1529"/>
                    </a:lnTo>
                    <a:lnTo>
                      <a:pt x="1483" y="1631"/>
                    </a:lnTo>
                    <a:lnTo>
                      <a:pt x="1492" y="1743"/>
                    </a:lnTo>
                    <a:lnTo>
                      <a:pt x="1490" y="1850"/>
                    </a:lnTo>
                    <a:lnTo>
                      <a:pt x="1469" y="2107"/>
                    </a:lnTo>
                    <a:lnTo>
                      <a:pt x="1448" y="2258"/>
                    </a:lnTo>
                    <a:lnTo>
                      <a:pt x="1437" y="2299"/>
                    </a:lnTo>
                    <a:lnTo>
                      <a:pt x="1420" y="2334"/>
                    </a:lnTo>
                    <a:lnTo>
                      <a:pt x="1398" y="2363"/>
                    </a:lnTo>
                    <a:lnTo>
                      <a:pt x="1375" y="2384"/>
                    </a:lnTo>
                    <a:lnTo>
                      <a:pt x="1350" y="2401"/>
                    </a:lnTo>
                    <a:lnTo>
                      <a:pt x="1313" y="2413"/>
                    </a:lnTo>
                    <a:lnTo>
                      <a:pt x="1270" y="2420"/>
                    </a:lnTo>
                    <a:lnTo>
                      <a:pt x="1225" y="2422"/>
                    </a:lnTo>
                    <a:lnTo>
                      <a:pt x="1168" y="2415"/>
                    </a:lnTo>
                    <a:lnTo>
                      <a:pt x="1109" y="2401"/>
                    </a:lnTo>
                    <a:lnTo>
                      <a:pt x="985" y="2362"/>
                    </a:lnTo>
                    <a:lnTo>
                      <a:pt x="840" y="2314"/>
                    </a:lnTo>
                    <a:lnTo>
                      <a:pt x="770" y="2328"/>
                    </a:lnTo>
                    <a:lnTo>
                      <a:pt x="726" y="2333"/>
                    </a:lnTo>
                    <a:lnTo>
                      <a:pt x="674" y="2328"/>
                    </a:lnTo>
                    <a:lnTo>
                      <a:pt x="570" y="2307"/>
                    </a:lnTo>
                    <a:lnTo>
                      <a:pt x="439" y="2273"/>
                    </a:lnTo>
                    <a:lnTo>
                      <a:pt x="322" y="2237"/>
                    </a:lnTo>
                    <a:lnTo>
                      <a:pt x="245" y="2211"/>
                    </a:lnTo>
                    <a:lnTo>
                      <a:pt x="201" y="2191"/>
                    </a:lnTo>
                    <a:lnTo>
                      <a:pt x="160" y="2165"/>
                    </a:lnTo>
                    <a:lnTo>
                      <a:pt x="126" y="2125"/>
                    </a:lnTo>
                    <a:lnTo>
                      <a:pt x="101" y="2079"/>
                    </a:lnTo>
                    <a:lnTo>
                      <a:pt x="79" y="2025"/>
                    </a:lnTo>
                    <a:lnTo>
                      <a:pt x="59" y="1968"/>
                    </a:lnTo>
                    <a:lnTo>
                      <a:pt x="38" y="1878"/>
                    </a:lnTo>
                    <a:lnTo>
                      <a:pt x="27" y="1807"/>
                    </a:lnTo>
                    <a:lnTo>
                      <a:pt x="17" y="1735"/>
                    </a:lnTo>
                    <a:lnTo>
                      <a:pt x="4" y="1624"/>
                    </a:lnTo>
                    <a:lnTo>
                      <a:pt x="0" y="1550"/>
                    </a:lnTo>
                    <a:lnTo>
                      <a:pt x="10" y="1450"/>
                    </a:lnTo>
                    <a:lnTo>
                      <a:pt x="38" y="1306"/>
                    </a:lnTo>
                    <a:lnTo>
                      <a:pt x="66" y="1119"/>
                    </a:lnTo>
                    <a:lnTo>
                      <a:pt x="96" y="982"/>
                    </a:lnTo>
                    <a:lnTo>
                      <a:pt x="118" y="926"/>
                    </a:lnTo>
                    <a:lnTo>
                      <a:pt x="143" y="875"/>
                    </a:lnTo>
                    <a:lnTo>
                      <a:pt x="164" y="822"/>
                    </a:lnTo>
                    <a:lnTo>
                      <a:pt x="178" y="780"/>
                    </a:lnTo>
                    <a:lnTo>
                      <a:pt x="190" y="704"/>
                    </a:lnTo>
                    <a:lnTo>
                      <a:pt x="169" y="595"/>
                    </a:lnTo>
                    <a:lnTo>
                      <a:pt x="165" y="528"/>
                    </a:lnTo>
                    <a:lnTo>
                      <a:pt x="171" y="461"/>
                    </a:lnTo>
                    <a:lnTo>
                      <a:pt x="182" y="376"/>
                    </a:lnTo>
                    <a:lnTo>
                      <a:pt x="201" y="262"/>
                    </a:lnTo>
                    <a:lnTo>
                      <a:pt x="222" y="180"/>
                    </a:lnTo>
                    <a:lnTo>
                      <a:pt x="248" y="124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9" name=""/>
              <p:cNvSpPr/>
              <p:nvPr/>
            </p:nvSpPr>
            <p:spPr>
              <a:xfrm flipV="1">
                <a:off x="2058840" y="3576240"/>
                <a:ext cx="2460600" cy="2863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sysDot"/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0" name=""/>
              <p:cNvSpPr/>
              <p:nvPr/>
            </p:nvSpPr>
            <p:spPr>
              <a:xfrm rot="18694200">
                <a:off x="2376000" y="4930920"/>
                <a:ext cx="1439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600" spc="-1" strike="noStrike">
                    <a:solidFill>
                      <a:srgbClr val="000000"/>
                    </a:solidFill>
                    <a:latin typeface="Times New Roman"/>
                  </a:rPr>
                  <a:t>Kůra nadledvi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1" name=""/>
              <p:cNvSpPr/>
              <p:nvPr/>
            </p:nvSpPr>
            <p:spPr>
              <a:xfrm flipV="1">
                <a:off x="6904080" y="5692680"/>
                <a:ext cx="463680" cy="7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2" name=""/>
              <p:cNvSpPr/>
              <p:nvPr/>
            </p:nvSpPr>
            <p:spPr>
              <a:xfrm>
                <a:off x="8229600" y="5908680"/>
                <a:ext cx="1440" cy="447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3" name=""/>
              <p:cNvSpPr/>
              <p:nvPr/>
            </p:nvSpPr>
            <p:spPr>
              <a:xfrm>
                <a:off x="2768760" y="6326280"/>
                <a:ext cx="4492440" cy="341280"/>
              </a:xfrm>
              <a:custGeom>
                <a:avLst/>
                <a:gdLst/>
                <a:ahLst/>
                <a:rect l="l" t="t" r="r" b="b"/>
                <a:pathLst>
                  <a:path w="2830" h="215">
                    <a:moveTo>
                      <a:pt x="2830" y="210"/>
                    </a:moveTo>
                    <a:lnTo>
                      <a:pt x="2779" y="190"/>
                    </a:lnTo>
                    <a:lnTo>
                      <a:pt x="2379" y="0"/>
                    </a:lnTo>
                    <a:lnTo>
                      <a:pt x="1041" y="10"/>
                    </a:lnTo>
                    <a:lnTo>
                      <a:pt x="0" y="215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4" name=""/>
              <p:cNvSpPr/>
              <p:nvPr/>
            </p:nvSpPr>
            <p:spPr>
              <a:xfrm rot="37200">
                <a:off x="5331600" y="5871960"/>
                <a:ext cx="2899440" cy="48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600" spc="-1" strike="noStrike">
                    <a:solidFill>
                      <a:srgbClr val="000000"/>
                    </a:solidFill>
                    <a:latin typeface="Times New Roman"/>
                  </a:rPr>
                  <a:t>Konvertující enzym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600" spc="-1" strike="noStrike">
                    <a:solidFill>
                      <a:srgbClr val="000000"/>
                    </a:solidFill>
                    <a:latin typeface="Times New Roman"/>
                  </a:rPr>
                  <a:t>(endotelové buňky, zejména plic)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5" name=""/>
              <p:cNvSpPr/>
              <p:nvPr/>
            </p:nvSpPr>
            <p:spPr>
              <a:xfrm>
                <a:off x="1235520" y="6405480"/>
                <a:ext cx="1384560" cy="3988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000" spc="-1" strike="noStrike">
                    <a:solidFill>
                      <a:srgbClr val="000000"/>
                    </a:solidFill>
                    <a:latin typeface="Times New Roman"/>
                  </a:rPr>
                  <a:t>Aldosteron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6" name=""/>
              <p:cNvSpPr/>
              <p:nvPr/>
            </p:nvSpPr>
            <p:spPr>
              <a:xfrm>
                <a:off x="6473880" y="6659640"/>
                <a:ext cx="797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7" name=""/>
              <p:cNvSpPr/>
              <p:nvPr/>
            </p:nvSpPr>
            <p:spPr>
              <a:xfrm>
                <a:off x="2612880" y="6661080"/>
                <a:ext cx="1971720" cy="6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sysDot"/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678" name=""/>
              <p:cNvGrpSpPr/>
              <p:nvPr/>
            </p:nvGrpSpPr>
            <p:grpSpPr>
              <a:xfrm>
                <a:off x="5630760" y="4289400"/>
                <a:ext cx="609480" cy="747360"/>
                <a:chOff x="5630760" y="4289400"/>
                <a:chExt cx="609480" cy="747360"/>
              </a:xfrm>
            </p:grpSpPr>
            <p:sp>
              <p:nvSpPr>
                <p:cNvPr id="6679" name=""/>
                <p:cNvSpPr/>
                <p:nvPr/>
              </p:nvSpPr>
              <p:spPr>
                <a:xfrm flipH="1">
                  <a:off x="5630760" y="4289400"/>
                  <a:ext cx="423360" cy="4053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680" name=""/>
                <p:cNvGrpSpPr/>
                <p:nvPr/>
              </p:nvGrpSpPr>
              <p:grpSpPr>
                <a:xfrm>
                  <a:off x="5659560" y="4312440"/>
                  <a:ext cx="580680" cy="724320"/>
                  <a:chOff x="5659560" y="4312440"/>
                  <a:chExt cx="580680" cy="724320"/>
                </a:xfrm>
              </p:grpSpPr>
              <p:grpSp>
                <p:nvGrpSpPr>
                  <p:cNvPr id="6681" name=""/>
                  <p:cNvGrpSpPr/>
                  <p:nvPr/>
                </p:nvGrpSpPr>
                <p:grpSpPr>
                  <a:xfrm>
                    <a:off x="6018120" y="4424400"/>
                    <a:ext cx="222120" cy="612360"/>
                    <a:chOff x="6018120" y="4424400"/>
                    <a:chExt cx="222120" cy="612360"/>
                  </a:xfrm>
                </p:grpSpPr>
                <p:sp>
                  <p:nvSpPr>
                    <p:cNvPr id="6682" name=""/>
                    <p:cNvSpPr/>
                    <p:nvPr/>
                  </p:nvSpPr>
                  <p:spPr>
                    <a:xfrm flipH="1">
                      <a:off x="6076440" y="4424400"/>
                      <a:ext cx="122400" cy="13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90" h="538">
                          <a:moveTo>
                            <a:pt x="121" y="0"/>
                          </a:moveTo>
                          <a:lnTo>
                            <a:pt x="202" y="0"/>
                          </a:lnTo>
                          <a:lnTo>
                            <a:pt x="282" y="32"/>
                          </a:lnTo>
                          <a:lnTo>
                            <a:pt x="329" y="59"/>
                          </a:lnTo>
                          <a:lnTo>
                            <a:pt x="362" y="156"/>
                          </a:lnTo>
                          <a:lnTo>
                            <a:pt x="383" y="215"/>
                          </a:lnTo>
                          <a:lnTo>
                            <a:pt x="463" y="150"/>
                          </a:lnTo>
                          <a:lnTo>
                            <a:pt x="490" y="156"/>
                          </a:lnTo>
                          <a:lnTo>
                            <a:pt x="484" y="187"/>
                          </a:lnTo>
                          <a:lnTo>
                            <a:pt x="383" y="292"/>
                          </a:lnTo>
                          <a:lnTo>
                            <a:pt x="383" y="369"/>
                          </a:lnTo>
                          <a:lnTo>
                            <a:pt x="362" y="447"/>
                          </a:lnTo>
                          <a:lnTo>
                            <a:pt x="329" y="506"/>
                          </a:lnTo>
                          <a:lnTo>
                            <a:pt x="282" y="538"/>
                          </a:lnTo>
                          <a:lnTo>
                            <a:pt x="222" y="538"/>
                          </a:lnTo>
                          <a:lnTo>
                            <a:pt x="140" y="506"/>
                          </a:lnTo>
                          <a:lnTo>
                            <a:pt x="87" y="441"/>
                          </a:lnTo>
                          <a:lnTo>
                            <a:pt x="41" y="343"/>
                          </a:lnTo>
                          <a:lnTo>
                            <a:pt x="6" y="252"/>
                          </a:lnTo>
                          <a:lnTo>
                            <a:pt x="0" y="130"/>
                          </a:lnTo>
                          <a:lnTo>
                            <a:pt x="20" y="71"/>
                          </a:lnTo>
                          <a:lnTo>
                            <a:pt x="47" y="32"/>
                          </a:lnTo>
                          <a:lnTo>
                            <a:pt x="121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683" name=""/>
                    <p:cNvSpPr/>
                    <p:nvPr/>
                  </p:nvSpPr>
                  <p:spPr>
                    <a:xfrm flipH="1">
                      <a:off x="6087240" y="4577400"/>
                      <a:ext cx="86400" cy="23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7" h="929">
                          <a:moveTo>
                            <a:pt x="47" y="32"/>
                          </a:moveTo>
                          <a:lnTo>
                            <a:pt x="100" y="0"/>
                          </a:lnTo>
                          <a:lnTo>
                            <a:pt x="180" y="0"/>
                          </a:lnTo>
                          <a:lnTo>
                            <a:pt x="240" y="20"/>
                          </a:lnTo>
                          <a:lnTo>
                            <a:pt x="281" y="89"/>
                          </a:lnTo>
                          <a:lnTo>
                            <a:pt x="320" y="206"/>
                          </a:lnTo>
                          <a:lnTo>
                            <a:pt x="341" y="334"/>
                          </a:lnTo>
                          <a:lnTo>
                            <a:pt x="347" y="486"/>
                          </a:lnTo>
                          <a:lnTo>
                            <a:pt x="347" y="660"/>
                          </a:lnTo>
                          <a:lnTo>
                            <a:pt x="320" y="800"/>
                          </a:lnTo>
                          <a:lnTo>
                            <a:pt x="281" y="877"/>
                          </a:lnTo>
                          <a:lnTo>
                            <a:pt x="187" y="929"/>
                          </a:lnTo>
                          <a:lnTo>
                            <a:pt x="140" y="917"/>
                          </a:lnTo>
                          <a:lnTo>
                            <a:pt x="80" y="858"/>
                          </a:lnTo>
                          <a:lnTo>
                            <a:pt x="60" y="775"/>
                          </a:lnTo>
                          <a:lnTo>
                            <a:pt x="41" y="621"/>
                          </a:lnTo>
                          <a:lnTo>
                            <a:pt x="60" y="512"/>
                          </a:lnTo>
                          <a:lnTo>
                            <a:pt x="60" y="397"/>
                          </a:lnTo>
                          <a:lnTo>
                            <a:pt x="27" y="320"/>
                          </a:lnTo>
                          <a:lnTo>
                            <a:pt x="0" y="218"/>
                          </a:lnTo>
                          <a:lnTo>
                            <a:pt x="0" y="109"/>
                          </a:lnTo>
                          <a:lnTo>
                            <a:pt x="47" y="32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684" name=""/>
                    <p:cNvSpPr/>
                    <p:nvPr/>
                  </p:nvSpPr>
                  <p:spPr>
                    <a:xfrm flipH="1">
                      <a:off x="6017760" y="4586040"/>
                      <a:ext cx="11484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60" h="918">
                          <a:moveTo>
                            <a:pt x="53" y="0"/>
                          </a:moveTo>
                          <a:lnTo>
                            <a:pt x="201" y="32"/>
                          </a:lnTo>
                          <a:lnTo>
                            <a:pt x="314" y="109"/>
                          </a:lnTo>
                          <a:lnTo>
                            <a:pt x="400" y="237"/>
                          </a:lnTo>
                          <a:lnTo>
                            <a:pt x="454" y="359"/>
                          </a:lnTo>
                          <a:lnTo>
                            <a:pt x="460" y="494"/>
                          </a:lnTo>
                          <a:lnTo>
                            <a:pt x="419" y="584"/>
                          </a:lnTo>
                          <a:lnTo>
                            <a:pt x="320" y="642"/>
                          </a:lnTo>
                          <a:lnTo>
                            <a:pt x="240" y="681"/>
                          </a:lnTo>
                          <a:lnTo>
                            <a:pt x="240" y="719"/>
                          </a:lnTo>
                          <a:lnTo>
                            <a:pt x="293" y="764"/>
                          </a:lnTo>
                          <a:lnTo>
                            <a:pt x="320" y="860"/>
                          </a:lnTo>
                          <a:lnTo>
                            <a:pt x="293" y="918"/>
                          </a:lnTo>
                          <a:lnTo>
                            <a:pt x="259" y="892"/>
                          </a:lnTo>
                          <a:lnTo>
                            <a:pt x="259" y="841"/>
                          </a:lnTo>
                          <a:lnTo>
                            <a:pt x="234" y="764"/>
                          </a:lnTo>
                          <a:lnTo>
                            <a:pt x="193" y="719"/>
                          </a:lnTo>
                          <a:lnTo>
                            <a:pt x="179" y="661"/>
                          </a:lnTo>
                          <a:lnTo>
                            <a:pt x="240" y="622"/>
                          </a:lnTo>
                          <a:lnTo>
                            <a:pt x="353" y="545"/>
                          </a:lnTo>
                          <a:lnTo>
                            <a:pt x="400" y="476"/>
                          </a:lnTo>
                          <a:lnTo>
                            <a:pt x="400" y="399"/>
                          </a:lnTo>
                          <a:lnTo>
                            <a:pt x="339" y="282"/>
                          </a:lnTo>
                          <a:lnTo>
                            <a:pt x="240" y="180"/>
                          </a:lnTo>
                          <a:lnTo>
                            <a:pt x="179" y="128"/>
                          </a:lnTo>
                          <a:lnTo>
                            <a:pt x="93" y="109"/>
                          </a:lnTo>
                          <a:lnTo>
                            <a:pt x="0" y="83"/>
                          </a:lnTo>
                          <a:lnTo>
                            <a:pt x="53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685" name=""/>
                    <p:cNvSpPr/>
                    <p:nvPr/>
                  </p:nvSpPr>
                  <p:spPr>
                    <a:xfrm flipH="1">
                      <a:off x="6155280" y="4585320"/>
                      <a:ext cx="84600" cy="21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1" h="861">
                          <a:moveTo>
                            <a:pt x="214" y="39"/>
                          </a:moveTo>
                          <a:lnTo>
                            <a:pt x="281" y="0"/>
                          </a:lnTo>
                          <a:lnTo>
                            <a:pt x="341" y="6"/>
                          </a:lnTo>
                          <a:lnTo>
                            <a:pt x="335" y="77"/>
                          </a:lnTo>
                          <a:lnTo>
                            <a:pt x="294" y="116"/>
                          </a:lnTo>
                          <a:lnTo>
                            <a:pt x="234" y="148"/>
                          </a:lnTo>
                          <a:lnTo>
                            <a:pt x="160" y="231"/>
                          </a:lnTo>
                          <a:lnTo>
                            <a:pt x="80" y="347"/>
                          </a:lnTo>
                          <a:lnTo>
                            <a:pt x="60" y="443"/>
                          </a:lnTo>
                          <a:lnTo>
                            <a:pt x="74" y="501"/>
                          </a:lnTo>
                          <a:lnTo>
                            <a:pt x="94" y="534"/>
                          </a:lnTo>
                          <a:lnTo>
                            <a:pt x="181" y="572"/>
                          </a:lnTo>
                          <a:lnTo>
                            <a:pt x="261" y="597"/>
                          </a:lnTo>
                          <a:lnTo>
                            <a:pt x="294" y="630"/>
                          </a:lnTo>
                          <a:lnTo>
                            <a:pt x="300" y="656"/>
                          </a:lnTo>
                          <a:lnTo>
                            <a:pt x="253" y="707"/>
                          </a:lnTo>
                          <a:lnTo>
                            <a:pt x="234" y="771"/>
                          </a:lnTo>
                          <a:lnTo>
                            <a:pt x="214" y="861"/>
                          </a:lnTo>
                          <a:lnTo>
                            <a:pt x="173" y="848"/>
                          </a:lnTo>
                          <a:lnTo>
                            <a:pt x="173" y="784"/>
                          </a:lnTo>
                          <a:lnTo>
                            <a:pt x="195" y="688"/>
                          </a:lnTo>
                          <a:lnTo>
                            <a:pt x="234" y="649"/>
                          </a:lnTo>
                          <a:lnTo>
                            <a:pt x="160" y="611"/>
                          </a:lnTo>
                          <a:lnTo>
                            <a:pt x="74" y="572"/>
                          </a:lnTo>
                          <a:lnTo>
                            <a:pt x="0" y="514"/>
                          </a:lnTo>
                          <a:lnTo>
                            <a:pt x="0" y="443"/>
                          </a:lnTo>
                          <a:lnTo>
                            <a:pt x="20" y="321"/>
                          </a:lnTo>
                          <a:lnTo>
                            <a:pt x="80" y="205"/>
                          </a:lnTo>
                          <a:lnTo>
                            <a:pt x="154" y="108"/>
                          </a:lnTo>
                          <a:lnTo>
                            <a:pt x="214" y="39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686" name=""/>
                    <p:cNvSpPr/>
                    <p:nvPr/>
                  </p:nvSpPr>
                  <p:spPr>
                    <a:xfrm flipH="1">
                      <a:off x="6025320" y="4776840"/>
                      <a:ext cx="100800" cy="259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2" h="1028">
                          <a:moveTo>
                            <a:pt x="27" y="0"/>
                          </a:moveTo>
                          <a:lnTo>
                            <a:pt x="120" y="38"/>
                          </a:lnTo>
                          <a:lnTo>
                            <a:pt x="167" y="135"/>
                          </a:lnTo>
                          <a:lnTo>
                            <a:pt x="181" y="307"/>
                          </a:lnTo>
                          <a:lnTo>
                            <a:pt x="167" y="593"/>
                          </a:lnTo>
                          <a:lnTo>
                            <a:pt x="128" y="817"/>
                          </a:lnTo>
                          <a:lnTo>
                            <a:pt x="107" y="913"/>
                          </a:lnTo>
                          <a:lnTo>
                            <a:pt x="147" y="933"/>
                          </a:lnTo>
                          <a:lnTo>
                            <a:pt x="227" y="856"/>
                          </a:lnTo>
                          <a:lnTo>
                            <a:pt x="322" y="799"/>
                          </a:lnTo>
                          <a:lnTo>
                            <a:pt x="348" y="805"/>
                          </a:lnTo>
                          <a:lnTo>
                            <a:pt x="402" y="842"/>
                          </a:lnTo>
                          <a:lnTo>
                            <a:pt x="402" y="862"/>
                          </a:lnTo>
                          <a:lnTo>
                            <a:pt x="288" y="913"/>
                          </a:lnTo>
                          <a:lnTo>
                            <a:pt x="167" y="977"/>
                          </a:lnTo>
                          <a:lnTo>
                            <a:pt x="68" y="1028"/>
                          </a:lnTo>
                          <a:lnTo>
                            <a:pt x="19" y="1016"/>
                          </a:lnTo>
                          <a:lnTo>
                            <a:pt x="19" y="957"/>
                          </a:lnTo>
                          <a:lnTo>
                            <a:pt x="60" y="874"/>
                          </a:lnTo>
                          <a:lnTo>
                            <a:pt x="87" y="702"/>
                          </a:lnTo>
                          <a:lnTo>
                            <a:pt x="107" y="498"/>
                          </a:lnTo>
                          <a:lnTo>
                            <a:pt x="120" y="269"/>
                          </a:lnTo>
                          <a:lnTo>
                            <a:pt x="68" y="129"/>
                          </a:lnTo>
                          <a:lnTo>
                            <a:pt x="0" y="71"/>
                          </a:lnTo>
                          <a:lnTo>
                            <a:pt x="27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687" name=""/>
                    <p:cNvSpPr/>
                    <p:nvPr/>
                  </p:nvSpPr>
                  <p:spPr>
                    <a:xfrm flipH="1">
                      <a:off x="6120360" y="4750560"/>
                      <a:ext cx="77040" cy="28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9" h="1127">
                          <a:moveTo>
                            <a:pt x="124" y="223"/>
                          </a:moveTo>
                          <a:lnTo>
                            <a:pt x="207" y="51"/>
                          </a:lnTo>
                          <a:lnTo>
                            <a:pt x="282" y="0"/>
                          </a:lnTo>
                          <a:lnTo>
                            <a:pt x="309" y="32"/>
                          </a:lnTo>
                          <a:lnTo>
                            <a:pt x="288" y="89"/>
                          </a:lnTo>
                          <a:lnTo>
                            <a:pt x="207" y="230"/>
                          </a:lnTo>
                          <a:lnTo>
                            <a:pt x="145" y="376"/>
                          </a:lnTo>
                          <a:lnTo>
                            <a:pt x="103" y="586"/>
                          </a:lnTo>
                          <a:lnTo>
                            <a:pt x="75" y="821"/>
                          </a:lnTo>
                          <a:lnTo>
                            <a:pt x="75" y="1025"/>
                          </a:lnTo>
                          <a:lnTo>
                            <a:pt x="97" y="1007"/>
                          </a:lnTo>
                          <a:lnTo>
                            <a:pt x="145" y="930"/>
                          </a:lnTo>
                          <a:lnTo>
                            <a:pt x="164" y="815"/>
                          </a:lnTo>
                          <a:lnTo>
                            <a:pt x="207" y="815"/>
                          </a:lnTo>
                          <a:lnTo>
                            <a:pt x="261" y="841"/>
                          </a:lnTo>
                          <a:lnTo>
                            <a:pt x="226" y="936"/>
                          </a:lnTo>
                          <a:lnTo>
                            <a:pt x="145" y="1032"/>
                          </a:lnTo>
                          <a:lnTo>
                            <a:pt x="62" y="1127"/>
                          </a:lnTo>
                          <a:lnTo>
                            <a:pt x="21" y="1127"/>
                          </a:lnTo>
                          <a:lnTo>
                            <a:pt x="0" y="1090"/>
                          </a:lnTo>
                          <a:lnTo>
                            <a:pt x="0" y="1007"/>
                          </a:lnTo>
                          <a:lnTo>
                            <a:pt x="14" y="764"/>
                          </a:lnTo>
                          <a:lnTo>
                            <a:pt x="35" y="516"/>
                          </a:lnTo>
                          <a:lnTo>
                            <a:pt x="62" y="338"/>
                          </a:lnTo>
                          <a:lnTo>
                            <a:pt x="124" y="223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6688" name=""/>
                  <p:cNvSpPr/>
                  <p:nvPr/>
                </p:nvSpPr>
                <p:spPr>
                  <a:xfrm flipH="1">
                    <a:off x="5659560" y="4312440"/>
                    <a:ext cx="377280" cy="3650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89" name=""/>
                  <p:cNvSpPr/>
                  <p:nvPr/>
                </p:nvSpPr>
                <p:spPr>
                  <a:xfrm rot="17359800">
                    <a:off x="5869080" y="4435560"/>
                    <a:ext cx="145440" cy="143640"/>
                  </a:xfrm>
                  <a:custGeom>
                    <a:avLst/>
                    <a:gdLst/>
                    <a:ahLst/>
                    <a:rect l="l" t="t" r="r" b="b"/>
                    <a:pathLst>
                      <a:path w="400" h="404">
                        <a:moveTo>
                          <a:pt x="0" y="51"/>
                        </a:moveTo>
                        <a:lnTo>
                          <a:pt x="310" y="327"/>
                        </a:lnTo>
                        <a:lnTo>
                          <a:pt x="181" y="360"/>
                        </a:lnTo>
                        <a:lnTo>
                          <a:pt x="400" y="404"/>
                        </a:lnTo>
                        <a:lnTo>
                          <a:pt x="364" y="155"/>
                        </a:lnTo>
                        <a:lnTo>
                          <a:pt x="328" y="292"/>
                        </a:lnTo>
                        <a:lnTo>
                          <a:pt x="64" y="0"/>
                        </a:lnTo>
                        <a:lnTo>
                          <a:pt x="0" y="5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6690" name=""/>
              <p:cNvSpPr/>
              <p:nvPr/>
            </p:nvSpPr>
            <p:spPr>
              <a:xfrm>
                <a:off x="4850280" y="4687920"/>
                <a:ext cx="145476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1600" spc="-1" strike="noStrike">
                    <a:solidFill>
                      <a:srgbClr val="000000"/>
                    </a:solidFill>
                    <a:latin typeface="Times New Roman"/>
                  </a:rPr>
                  <a:t>Vysokotlaké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1600" spc="-1" strike="noStrike">
                    <a:solidFill>
                      <a:srgbClr val="000000"/>
                    </a:solidFill>
                    <a:latin typeface="Times New Roman"/>
                  </a:rPr>
                  <a:t>baroreceptory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1600" spc="-1" strike="noStrike">
                    <a:solidFill>
                      <a:srgbClr val="000000"/>
                    </a:solidFill>
                    <a:latin typeface="Times New Roman"/>
                  </a:rPr>
                  <a:t>ve vas afferen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1" name=""/>
              <p:cNvSpPr/>
              <p:nvPr/>
            </p:nvSpPr>
            <p:spPr>
              <a:xfrm>
                <a:off x="6452280" y="3646440"/>
                <a:ext cx="162540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1600" spc="-1" strike="noStrike">
                    <a:solidFill>
                      <a:srgbClr val="000000"/>
                    </a:solidFill>
                    <a:latin typeface="Times New Roman"/>
                  </a:rPr>
                  <a:t>Dodávka NaCl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1600" spc="-1" strike="noStrike">
                    <a:solidFill>
                      <a:srgbClr val="000000"/>
                    </a:solidFill>
                    <a:latin typeface="Times New Roman"/>
                  </a:rPr>
                  <a:t>do macula dens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2" name=""/>
              <p:cNvSpPr/>
              <p:nvPr/>
            </p:nvSpPr>
            <p:spPr>
              <a:xfrm flipH="1" flipV="1">
                <a:off x="6276960" y="4807080"/>
                <a:ext cx="380880" cy="46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sysDot"/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3" name=""/>
              <p:cNvSpPr/>
              <p:nvPr/>
            </p:nvSpPr>
            <p:spPr>
              <a:xfrm>
                <a:off x="7523280" y="2378160"/>
                <a:ext cx="1122120" cy="2506680"/>
              </a:xfrm>
              <a:custGeom>
                <a:avLst/>
                <a:gdLst/>
                <a:ahLst/>
                <a:rect l="l" t="t" r="r" b="b"/>
                <a:pathLst>
                  <a:path w="707" h="1697">
                    <a:moveTo>
                      <a:pt x="0" y="1697"/>
                    </a:moveTo>
                    <a:lnTo>
                      <a:pt x="646" y="1656"/>
                    </a:lnTo>
                    <a:lnTo>
                      <a:pt x="707" y="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prstDash val="sysDot"/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4" name=""/>
              <p:cNvSpPr/>
              <p:nvPr/>
            </p:nvSpPr>
            <p:spPr>
              <a:xfrm rot="21320400">
                <a:off x="7709400" y="4538160"/>
                <a:ext cx="102816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600" spc="-1" strike="noStrike">
                    <a:solidFill>
                      <a:srgbClr val="000000"/>
                    </a:solidFill>
                    <a:latin typeface="Times New Roman"/>
                  </a:rPr>
                  <a:t>aktivit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600" spc="-1" strike="noStrike">
                    <a:solidFill>
                      <a:srgbClr val="000000"/>
                    </a:solidFill>
                    <a:latin typeface="Times New Roman"/>
                  </a:rPr>
                  <a:t>sympatiku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5" name=""/>
              <p:cNvSpPr/>
              <p:nvPr/>
            </p:nvSpPr>
            <p:spPr>
              <a:xfrm>
                <a:off x="7137360" y="5102280"/>
                <a:ext cx="1800" cy="569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sysDot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6" name=""/>
              <p:cNvSpPr/>
              <p:nvPr/>
            </p:nvSpPr>
            <p:spPr>
              <a:xfrm flipH="1">
                <a:off x="1820520" y="4027320"/>
                <a:ext cx="114120" cy="351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sysDot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7" name=""/>
              <p:cNvSpPr/>
              <p:nvPr/>
            </p:nvSpPr>
            <p:spPr>
              <a:xfrm>
                <a:off x="1485720" y="3470400"/>
                <a:ext cx="131292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1600" spc="-1" strike="noStrike">
                    <a:solidFill>
                      <a:srgbClr val="000000"/>
                    </a:solidFill>
                    <a:latin typeface="Times New Roman"/>
                  </a:rPr>
                  <a:t>Tenze v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1600" spc="-1" strike="noStrike">
                    <a:solidFill>
                      <a:srgbClr val="000000"/>
                    </a:solidFill>
                    <a:latin typeface="Times New Roman"/>
                  </a:rPr>
                  <a:t>atriální stěně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8" name=""/>
              <p:cNvSpPr/>
              <p:nvPr/>
            </p:nvSpPr>
            <p:spPr>
              <a:xfrm>
                <a:off x="368280" y="3486240"/>
                <a:ext cx="11318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cs-CZ" sz="1600" spc="-1" strike="noStrike">
                    <a:solidFill>
                      <a:srgbClr val="000000"/>
                    </a:solidFill>
                    <a:latin typeface="Times New Roman"/>
                  </a:rPr>
                  <a:t>Frekvenc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1600" spc="-1" strike="noStrike">
                    <a:solidFill>
                      <a:srgbClr val="000000"/>
                    </a:solidFill>
                    <a:latin typeface="Times New Roman"/>
                  </a:rPr>
                  <a:t>síní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9" name=""/>
              <p:cNvSpPr/>
              <p:nvPr/>
            </p:nvSpPr>
            <p:spPr>
              <a:xfrm>
                <a:off x="973080" y="3811680"/>
                <a:ext cx="262080" cy="581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sysDot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0" name=""/>
              <p:cNvSpPr/>
              <p:nvPr/>
            </p:nvSpPr>
            <p:spPr>
              <a:xfrm>
                <a:off x="7105680" y="4197240"/>
                <a:ext cx="1440" cy="480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sysDot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1" name=""/>
              <p:cNvSpPr/>
              <p:nvPr/>
            </p:nvSpPr>
            <p:spPr>
              <a:xfrm>
                <a:off x="7613280" y="120600"/>
                <a:ext cx="1346760" cy="3988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000" spc="-1" strike="noStrike">
                    <a:solidFill>
                      <a:srgbClr val="000000"/>
                    </a:solidFill>
                    <a:latin typeface="Times New Roman"/>
                  </a:rPr>
                  <a:t>Pocit žízně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2" name=""/>
              <p:cNvSpPr/>
              <p:nvPr/>
            </p:nvSpPr>
            <p:spPr>
              <a:xfrm flipH="1">
                <a:off x="1083960" y="276120"/>
                <a:ext cx="6543720" cy="3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sysDot"/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3" name=""/>
              <p:cNvSpPr/>
              <p:nvPr/>
            </p:nvSpPr>
            <p:spPr>
              <a:xfrm flipH="1">
                <a:off x="6343560" y="446040"/>
                <a:ext cx="1284480" cy="395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sysDot"/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04" name=""/>
            <p:cNvSpPr/>
            <p:nvPr/>
          </p:nvSpPr>
          <p:spPr>
            <a:xfrm>
              <a:off x="41400" y="565200"/>
              <a:ext cx="4432320" cy="5772240"/>
            </a:xfrm>
            <a:custGeom>
              <a:avLst/>
              <a:gdLst/>
              <a:ahLst/>
              <a:rect l="l" t="t" r="r" b="b"/>
              <a:pathLst>
                <a:path w="2739" h="3725">
                  <a:moveTo>
                    <a:pt x="141" y="0"/>
                  </a:moveTo>
                  <a:lnTo>
                    <a:pt x="5" y="10"/>
                  </a:lnTo>
                  <a:lnTo>
                    <a:pt x="0" y="3522"/>
                  </a:lnTo>
                  <a:lnTo>
                    <a:pt x="2739" y="3725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prstDash val="sysDot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5" name=""/>
            <p:cNvSpPr/>
            <p:nvPr/>
          </p:nvSpPr>
          <p:spPr>
            <a:xfrm rot="16237200">
              <a:off x="-1806120" y="3100320"/>
              <a:ext cx="40060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600" spc="-1" strike="noStrike">
                  <a:solidFill>
                    <a:srgbClr val="000000"/>
                  </a:solidFill>
                  <a:latin typeface="Times New Roman"/>
                </a:rPr>
                <a:t>Angiotenzin II zvyšuje citlivost osmoreceptorů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06" name=""/>
            <p:cNvGrpSpPr/>
            <p:nvPr/>
          </p:nvGrpSpPr>
          <p:grpSpPr>
            <a:xfrm>
              <a:off x="3871800" y="3379680"/>
              <a:ext cx="628920" cy="438120"/>
              <a:chOff x="3871800" y="3379680"/>
              <a:chExt cx="628920" cy="438120"/>
            </a:xfrm>
          </p:grpSpPr>
          <p:sp>
            <p:nvSpPr>
              <p:cNvPr id="6707" name=""/>
              <p:cNvSpPr/>
              <p:nvPr/>
            </p:nvSpPr>
            <p:spPr>
              <a:xfrm>
                <a:off x="4116600" y="3447720"/>
                <a:ext cx="228600" cy="282600"/>
              </a:xfrm>
              <a:custGeom>
                <a:avLst/>
                <a:gdLst/>
                <a:ahLst/>
                <a:rect l="l" t="t" r="r" b="b"/>
                <a:pathLst>
                  <a:path w="2017" h="2671">
                    <a:moveTo>
                      <a:pt x="162" y="314"/>
                    </a:moveTo>
                    <a:lnTo>
                      <a:pt x="164" y="316"/>
                    </a:lnTo>
                    <a:lnTo>
                      <a:pt x="166" y="323"/>
                    </a:lnTo>
                    <a:lnTo>
                      <a:pt x="166" y="332"/>
                    </a:lnTo>
                    <a:lnTo>
                      <a:pt x="163" y="345"/>
                    </a:lnTo>
                    <a:lnTo>
                      <a:pt x="160" y="361"/>
                    </a:lnTo>
                    <a:lnTo>
                      <a:pt x="157" y="380"/>
                    </a:lnTo>
                    <a:lnTo>
                      <a:pt x="152" y="401"/>
                    </a:lnTo>
                    <a:lnTo>
                      <a:pt x="147" y="424"/>
                    </a:lnTo>
                    <a:lnTo>
                      <a:pt x="141" y="450"/>
                    </a:lnTo>
                    <a:lnTo>
                      <a:pt x="133" y="477"/>
                    </a:lnTo>
                    <a:lnTo>
                      <a:pt x="126" y="506"/>
                    </a:lnTo>
                    <a:lnTo>
                      <a:pt x="118" y="536"/>
                    </a:lnTo>
                    <a:lnTo>
                      <a:pt x="101" y="598"/>
                    </a:lnTo>
                    <a:lnTo>
                      <a:pt x="83" y="662"/>
                    </a:lnTo>
                    <a:lnTo>
                      <a:pt x="65" y="726"/>
                    </a:lnTo>
                    <a:lnTo>
                      <a:pt x="48" y="790"/>
                    </a:lnTo>
                    <a:lnTo>
                      <a:pt x="40" y="820"/>
                    </a:lnTo>
                    <a:lnTo>
                      <a:pt x="33" y="847"/>
                    </a:lnTo>
                    <a:lnTo>
                      <a:pt x="26" y="875"/>
                    </a:lnTo>
                    <a:lnTo>
                      <a:pt x="19" y="901"/>
                    </a:lnTo>
                    <a:lnTo>
                      <a:pt x="13" y="924"/>
                    </a:lnTo>
                    <a:lnTo>
                      <a:pt x="9" y="946"/>
                    </a:lnTo>
                    <a:lnTo>
                      <a:pt x="5" y="964"/>
                    </a:lnTo>
                    <a:lnTo>
                      <a:pt x="2" y="980"/>
                    </a:lnTo>
                    <a:lnTo>
                      <a:pt x="1" y="994"/>
                    </a:lnTo>
                    <a:lnTo>
                      <a:pt x="0" y="1004"/>
                    </a:lnTo>
                    <a:lnTo>
                      <a:pt x="1" y="1010"/>
                    </a:lnTo>
                    <a:lnTo>
                      <a:pt x="3" y="1013"/>
                    </a:lnTo>
                    <a:lnTo>
                      <a:pt x="7" y="1014"/>
                    </a:lnTo>
                    <a:lnTo>
                      <a:pt x="12" y="1020"/>
                    </a:lnTo>
                    <a:lnTo>
                      <a:pt x="18" y="1026"/>
                    </a:lnTo>
                    <a:lnTo>
                      <a:pt x="25" y="1037"/>
                    </a:lnTo>
                    <a:lnTo>
                      <a:pt x="33" y="1049"/>
                    </a:lnTo>
                    <a:lnTo>
                      <a:pt x="42" y="1064"/>
                    </a:lnTo>
                    <a:lnTo>
                      <a:pt x="52" y="1081"/>
                    </a:lnTo>
                    <a:lnTo>
                      <a:pt x="61" y="1099"/>
                    </a:lnTo>
                    <a:lnTo>
                      <a:pt x="72" y="1119"/>
                    </a:lnTo>
                    <a:lnTo>
                      <a:pt x="84" y="1142"/>
                    </a:lnTo>
                    <a:lnTo>
                      <a:pt x="95" y="1164"/>
                    </a:lnTo>
                    <a:lnTo>
                      <a:pt x="106" y="1188"/>
                    </a:lnTo>
                    <a:lnTo>
                      <a:pt x="131" y="1238"/>
                    </a:lnTo>
                    <a:lnTo>
                      <a:pt x="157" y="1291"/>
                    </a:lnTo>
                    <a:lnTo>
                      <a:pt x="182" y="1342"/>
                    </a:lnTo>
                    <a:lnTo>
                      <a:pt x="207" y="1392"/>
                    </a:lnTo>
                    <a:lnTo>
                      <a:pt x="219" y="1416"/>
                    </a:lnTo>
                    <a:lnTo>
                      <a:pt x="231" y="1439"/>
                    </a:lnTo>
                    <a:lnTo>
                      <a:pt x="242" y="1461"/>
                    </a:lnTo>
                    <a:lnTo>
                      <a:pt x="253" y="1480"/>
                    </a:lnTo>
                    <a:lnTo>
                      <a:pt x="263" y="1500"/>
                    </a:lnTo>
                    <a:lnTo>
                      <a:pt x="272" y="1516"/>
                    </a:lnTo>
                    <a:lnTo>
                      <a:pt x="281" y="1531"/>
                    </a:lnTo>
                    <a:lnTo>
                      <a:pt x="289" y="1542"/>
                    </a:lnTo>
                    <a:lnTo>
                      <a:pt x="296" y="1552"/>
                    </a:lnTo>
                    <a:lnTo>
                      <a:pt x="301" y="1560"/>
                    </a:lnTo>
                    <a:lnTo>
                      <a:pt x="306" y="1564"/>
                    </a:lnTo>
                    <a:lnTo>
                      <a:pt x="311" y="1565"/>
                    </a:lnTo>
                    <a:lnTo>
                      <a:pt x="315" y="1588"/>
                    </a:lnTo>
                    <a:lnTo>
                      <a:pt x="318" y="1613"/>
                    </a:lnTo>
                    <a:lnTo>
                      <a:pt x="318" y="1638"/>
                    </a:lnTo>
                    <a:lnTo>
                      <a:pt x="317" y="1663"/>
                    </a:lnTo>
                    <a:lnTo>
                      <a:pt x="314" y="1689"/>
                    </a:lnTo>
                    <a:lnTo>
                      <a:pt x="310" y="1715"/>
                    </a:lnTo>
                    <a:lnTo>
                      <a:pt x="304" y="1741"/>
                    </a:lnTo>
                    <a:lnTo>
                      <a:pt x="297" y="1767"/>
                    </a:lnTo>
                    <a:lnTo>
                      <a:pt x="289" y="1793"/>
                    </a:lnTo>
                    <a:lnTo>
                      <a:pt x="281" y="1820"/>
                    </a:lnTo>
                    <a:lnTo>
                      <a:pt x="260" y="1872"/>
                    </a:lnTo>
                    <a:lnTo>
                      <a:pt x="237" y="1925"/>
                    </a:lnTo>
                    <a:lnTo>
                      <a:pt x="212" y="1977"/>
                    </a:lnTo>
                    <a:lnTo>
                      <a:pt x="186" y="2028"/>
                    </a:lnTo>
                    <a:lnTo>
                      <a:pt x="161" y="2077"/>
                    </a:lnTo>
                    <a:lnTo>
                      <a:pt x="139" y="2125"/>
                    </a:lnTo>
                    <a:lnTo>
                      <a:pt x="117" y="2170"/>
                    </a:lnTo>
                    <a:lnTo>
                      <a:pt x="107" y="2192"/>
                    </a:lnTo>
                    <a:lnTo>
                      <a:pt x="99" y="2213"/>
                    </a:lnTo>
                    <a:lnTo>
                      <a:pt x="91" y="2233"/>
                    </a:lnTo>
                    <a:lnTo>
                      <a:pt x="85" y="2252"/>
                    </a:lnTo>
                    <a:lnTo>
                      <a:pt x="81" y="2272"/>
                    </a:lnTo>
                    <a:lnTo>
                      <a:pt x="76" y="2289"/>
                    </a:lnTo>
                    <a:lnTo>
                      <a:pt x="74" y="2306"/>
                    </a:lnTo>
                    <a:lnTo>
                      <a:pt x="74" y="2322"/>
                    </a:lnTo>
                    <a:lnTo>
                      <a:pt x="69" y="2356"/>
                    </a:lnTo>
                    <a:lnTo>
                      <a:pt x="63" y="2392"/>
                    </a:lnTo>
                    <a:lnTo>
                      <a:pt x="46" y="2460"/>
                    </a:lnTo>
                    <a:lnTo>
                      <a:pt x="39" y="2493"/>
                    </a:lnTo>
                    <a:lnTo>
                      <a:pt x="33" y="2524"/>
                    </a:lnTo>
                    <a:lnTo>
                      <a:pt x="28" y="2554"/>
                    </a:lnTo>
                    <a:lnTo>
                      <a:pt x="26" y="2581"/>
                    </a:lnTo>
                    <a:lnTo>
                      <a:pt x="27" y="2606"/>
                    </a:lnTo>
                    <a:lnTo>
                      <a:pt x="29" y="2617"/>
                    </a:lnTo>
                    <a:lnTo>
                      <a:pt x="32" y="2627"/>
                    </a:lnTo>
                    <a:lnTo>
                      <a:pt x="35" y="2637"/>
                    </a:lnTo>
                    <a:lnTo>
                      <a:pt x="40" y="2644"/>
                    </a:lnTo>
                    <a:lnTo>
                      <a:pt x="47" y="2652"/>
                    </a:lnTo>
                    <a:lnTo>
                      <a:pt x="55" y="2658"/>
                    </a:lnTo>
                    <a:lnTo>
                      <a:pt x="65" y="2664"/>
                    </a:lnTo>
                    <a:lnTo>
                      <a:pt x="75" y="2667"/>
                    </a:lnTo>
                    <a:lnTo>
                      <a:pt x="88" y="2670"/>
                    </a:lnTo>
                    <a:lnTo>
                      <a:pt x="102" y="2671"/>
                    </a:lnTo>
                    <a:lnTo>
                      <a:pt x="119" y="2671"/>
                    </a:lnTo>
                    <a:lnTo>
                      <a:pt x="137" y="2670"/>
                    </a:lnTo>
                    <a:lnTo>
                      <a:pt x="157" y="2667"/>
                    </a:lnTo>
                    <a:lnTo>
                      <a:pt x="179" y="2663"/>
                    </a:lnTo>
                    <a:lnTo>
                      <a:pt x="180" y="2662"/>
                    </a:lnTo>
                    <a:lnTo>
                      <a:pt x="183" y="2659"/>
                    </a:lnTo>
                    <a:lnTo>
                      <a:pt x="188" y="2656"/>
                    </a:lnTo>
                    <a:lnTo>
                      <a:pt x="195" y="2652"/>
                    </a:lnTo>
                    <a:lnTo>
                      <a:pt x="202" y="2648"/>
                    </a:lnTo>
                    <a:lnTo>
                      <a:pt x="211" y="2643"/>
                    </a:lnTo>
                    <a:lnTo>
                      <a:pt x="222" y="2637"/>
                    </a:lnTo>
                    <a:lnTo>
                      <a:pt x="234" y="2632"/>
                    </a:lnTo>
                    <a:lnTo>
                      <a:pt x="247" y="2624"/>
                    </a:lnTo>
                    <a:lnTo>
                      <a:pt x="262" y="2617"/>
                    </a:lnTo>
                    <a:lnTo>
                      <a:pt x="277" y="2609"/>
                    </a:lnTo>
                    <a:lnTo>
                      <a:pt x="294" y="2601"/>
                    </a:lnTo>
                    <a:lnTo>
                      <a:pt x="313" y="2591"/>
                    </a:lnTo>
                    <a:lnTo>
                      <a:pt x="331" y="2582"/>
                    </a:lnTo>
                    <a:lnTo>
                      <a:pt x="373" y="2562"/>
                    </a:lnTo>
                    <a:lnTo>
                      <a:pt x="417" y="2539"/>
                    </a:lnTo>
                    <a:lnTo>
                      <a:pt x="466" y="2516"/>
                    </a:lnTo>
                    <a:lnTo>
                      <a:pt x="517" y="2491"/>
                    </a:lnTo>
                    <a:lnTo>
                      <a:pt x="571" y="2466"/>
                    </a:lnTo>
                    <a:lnTo>
                      <a:pt x="627" y="2439"/>
                    </a:lnTo>
                    <a:lnTo>
                      <a:pt x="684" y="2411"/>
                    </a:lnTo>
                    <a:lnTo>
                      <a:pt x="743" y="2383"/>
                    </a:lnTo>
                    <a:lnTo>
                      <a:pt x="803" y="2355"/>
                    </a:lnTo>
                    <a:lnTo>
                      <a:pt x="923" y="2297"/>
                    </a:lnTo>
                    <a:lnTo>
                      <a:pt x="983" y="2269"/>
                    </a:lnTo>
                    <a:lnTo>
                      <a:pt x="1042" y="2241"/>
                    </a:lnTo>
                    <a:lnTo>
                      <a:pt x="1101" y="2213"/>
                    </a:lnTo>
                    <a:lnTo>
                      <a:pt x="1158" y="2186"/>
                    </a:lnTo>
                    <a:lnTo>
                      <a:pt x="1213" y="2159"/>
                    </a:lnTo>
                    <a:lnTo>
                      <a:pt x="1266" y="2135"/>
                    </a:lnTo>
                    <a:lnTo>
                      <a:pt x="1316" y="2110"/>
                    </a:lnTo>
                    <a:lnTo>
                      <a:pt x="1364" y="2088"/>
                    </a:lnTo>
                    <a:lnTo>
                      <a:pt x="1407" y="2067"/>
                    </a:lnTo>
                    <a:lnTo>
                      <a:pt x="1428" y="2058"/>
                    </a:lnTo>
                    <a:lnTo>
                      <a:pt x="1447" y="2048"/>
                    </a:lnTo>
                    <a:lnTo>
                      <a:pt x="1465" y="2039"/>
                    </a:lnTo>
                    <a:lnTo>
                      <a:pt x="1483" y="2031"/>
                    </a:lnTo>
                    <a:lnTo>
                      <a:pt x="1498" y="2022"/>
                    </a:lnTo>
                    <a:lnTo>
                      <a:pt x="1514" y="2016"/>
                    </a:lnTo>
                    <a:lnTo>
                      <a:pt x="1527" y="2008"/>
                    </a:lnTo>
                    <a:lnTo>
                      <a:pt x="1540" y="2003"/>
                    </a:lnTo>
                    <a:lnTo>
                      <a:pt x="1551" y="1998"/>
                    </a:lnTo>
                    <a:lnTo>
                      <a:pt x="1561" y="1992"/>
                    </a:lnTo>
                    <a:lnTo>
                      <a:pt x="2017" y="1446"/>
                    </a:lnTo>
                    <a:lnTo>
                      <a:pt x="1903" y="187"/>
                    </a:lnTo>
                    <a:lnTo>
                      <a:pt x="1567" y="0"/>
                    </a:lnTo>
                    <a:lnTo>
                      <a:pt x="590" y="308"/>
                    </a:lnTo>
                    <a:lnTo>
                      <a:pt x="620" y="967"/>
                    </a:lnTo>
                    <a:lnTo>
                      <a:pt x="544" y="1165"/>
                    </a:lnTo>
                    <a:lnTo>
                      <a:pt x="162" y="314"/>
                    </a:lnTo>
                    <a:close/>
                  </a:path>
                </a:pathLst>
              </a:cu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708" name=""/>
              <p:cNvGrpSpPr/>
              <p:nvPr/>
            </p:nvGrpSpPr>
            <p:grpSpPr>
              <a:xfrm>
                <a:off x="3871800" y="3379680"/>
                <a:ext cx="628920" cy="438120"/>
                <a:chOff x="3871800" y="3379680"/>
                <a:chExt cx="628920" cy="438120"/>
              </a:xfrm>
            </p:grpSpPr>
            <p:grpSp>
              <p:nvGrpSpPr>
                <p:cNvPr id="6709" name=""/>
                <p:cNvGrpSpPr/>
                <p:nvPr/>
              </p:nvGrpSpPr>
              <p:grpSpPr>
                <a:xfrm>
                  <a:off x="3871800" y="3379680"/>
                  <a:ext cx="409680" cy="438120"/>
                  <a:chOff x="3871800" y="3379680"/>
                  <a:chExt cx="409680" cy="438120"/>
                </a:xfrm>
              </p:grpSpPr>
              <p:sp>
                <p:nvSpPr>
                  <p:cNvPr id="6710" name=""/>
                  <p:cNvSpPr/>
                  <p:nvPr/>
                </p:nvSpPr>
                <p:spPr>
                  <a:xfrm>
                    <a:off x="3871800" y="3379680"/>
                    <a:ext cx="409680" cy="438120"/>
                  </a:xfrm>
                  <a:custGeom>
                    <a:avLst/>
                    <a:gdLst/>
                    <a:ahLst/>
                    <a:rect l="l" t="t" r="r" b="b"/>
                    <a:pathLst>
                      <a:path w="3608" h="4127">
                        <a:moveTo>
                          <a:pt x="2476" y="3341"/>
                        </a:moveTo>
                        <a:lnTo>
                          <a:pt x="2473" y="3349"/>
                        </a:lnTo>
                        <a:lnTo>
                          <a:pt x="2471" y="3358"/>
                        </a:lnTo>
                        <a:lnTo>
                          <a:pt x="2465" y="3379"/>
                        </a:lnTo>
                        <a:lnTo>
                          <a:pt x="2458" y="3405"/>
                        </a:lnTo>
                        <a:lnTo>
                          <a:pt x="2452" y="3433"/>
                        </a:lnTo>
                        <a:lnTo>
                          <a:pt x="2445" y="3464"/>
                        </a:lnTo>
                        <a:lnTo>
                          <a:pt x="2438" y="3496"/>
                        </a:lnTo>
                        <a:lnTo>
                          <a:pt x="2428" y="3530"/>
                        </a:lnTo>
                        <a:lnTo>
                          <a:pt x="2419" y="3565"/>
                        </a:lnTo>
                        <a:lnTo>
                          <a:pt x="2409" y="3602"/>
                        </a:lnTo>
                        <a:lnTo>
                          <a:pt x="2397" y="3637"/>
                        </a:lnTo>
                        <a:lnTo>
                          <a:pt x="2385" y="3673"/>
                        </a:lnTo>
                        <a:lnTo>
                          <a:pt x="2370" y="3708"/>
                        </a:lnTo>
                        <a:lnTo>
                          <a:pt x="2355" y="3741"/>
                        </a:lnTo>
                        <a:lnTo>
                          <a:pt x="2337" y="3772"/>
                        </a:lnTo>
                        <a:lnTo>
                          <a:pt x="2318" y="3801"/>
                        </a:lnTo>
                        <a:lnTo>
                          <a:pt x="2297" y="3827"/>
                        </a:lnTo>
                        <a:lnTo>
                          <a:pt x="2274" y="3852"/>
                        </a:lnTo>
                        <a:lnTo>
                          <a:pt x="2250" y="3879"/>
                        </a:lnTo>
                        <a:lnTo>
                          <a:pt x="2224" y="3907"/>
                        </a:lnTo>
                        <a:lnTo>
                          <a:pt x="2198" y="3936"/>
                        </a:lnTo>
                        <a:lnTo>
                          <a:pt x="2170" y="3965"/>
                        </a:lnTo>
                        <a:lnTo>
                          <a:pt x="2140" y="3993"/>
                        </a:lnTo>
                        <a:lnTo>
                          <a:pt x="2110" y="4020"/>
                        </a:lnTo>
                        <a:lnTo>
                          <a:pt x="2078" y="4044"/>
                        </a:lnTo>
                        <a:lnTo>
                          <a:pt x="2044" y="4067"/>
                        </a:lnTo>
                        <a:lnTo>
                          <a:pt x="2009" y="4087"/>
                        </a:lnTo>
                        <a:lnTo>
                          <a:pt x="1971" y="4103"/>
                        </a:lnTo>
                        <a:lnTo>
                          <a:pt x="1953" y="4111"/>
                        </a:lnTo>
                        <a:lnTo>
                          <a:pt x="1933" y="4116"/>
                        </a:lnTo>
                        <a:lnTo>
                          <a:pt x="1913" y="4120"/>
                        </a:lnTo>
                        <a:lnTo>
                          <a:pt x="1893" y="4124"/>
                        </a:lnTo>
                        <a:lnTo>
                          <a:pt x="1872" y="4127"/>
                        </a:lnTo>
                        <a:lnTo>
                          <a:pt x="1851" y="4127"/>
                        </a:lnTo>
                        <a:lnTo>
                          <a:pt x="1829" y="4127"/>
                        </a:lnTo>
                        <a:lnTo>
                          <a:pt x="1808" y="4124"/>
                        </a:lnTo>
                        <a:lnTo>
                          <a:pt x="1785" y="4120"/>
                        </a:lnTo>
                        <a:lnTo>
                          <a:pt x="1762" y="4115"/>
                        </a:lnTo>
                        <a:lnTo>
                          <a:pt x="1738" y="4107"/>
                        </a:lnTo>
                        <a:lnTo>
                          <a:pt x="1714" y="4100"/>
                        </a:lnTo>
                        <a:lnTo>
                          <a:pt x="1688" y="4089"/>
                        </a:lnTo>
                        <a:lnTo>
                          <a:pt x="1662" y="4078"/>
                        </a:lnTo>
                        <a:lnTo>
                          <a:pt x="1636" y="4067"/>
                        </a:lnTo>
                        <a:lnTo>
                          <a:pt x="1608" y="4053"/>
                        </a:lnTo>
                        <a:lnTo>
                          <a:pt x="1580" y="4038"/>
                        </a:lnTo>
                        <a:lnTo>
                          <a:pt x="1551" y="4022"/>
                        </a:lnTo>
                        <a:lnTo>
                          <a:pt x="1520" y="4005"/>
                        </a:lnTo>
                        <a:lnTo>
                          <a:pt x="1490" y="3987"/>
                        </a:lnTo>
                        <a:lnTo>
                          <a:pt x="1429" y="3948"/>
                        </a:lnTo>
                        <a:lnTo>
                          <a:pt x="1367" y="3906"/>
                        </a:lnTo>
                        <a:lnTo>
                          <a:pt x="1304" y="3860"/>
                        </a:lnTo>
                        <a:lnTo>
                          <a:pt x="1241" y="3812"/>
                        </a:lnTo>
                        <a:lnTo>
                          <a:pt x="1176" y="3761"/>
                        </a:lnTo>
                        <a:lnTo>
                          <a:pt x="1113" y="3709"/>
                        </a:lnTo>
                        <a:lnTo>
                          <a:pt x="1051" y="3654"/>
                        </a:lnTo>
                        <a:lnTo>
                          <a:pt x="991" y="3599"/>
                        </a:lnTo>
                        <a:lnTo>
                          <a:pt x="932" y="3543"/>
                        </a:lnTo>
                        <a:lnTo>
                          <a:pt x="875" y="3485"/>
                        </a:lnTo>
                        <a:lnTo>
                          <a:pt x="821" y="3428"/>
                        </a:lnTo>
                        <a:lnTo>
                          <a:pt x="768" y="3369"/>
                        </a:lnTo>
                        <a:lnTo>
                          <a:pt x="714" y="3308"/>
                        </a:lnTo>
                        <a:lnTo>
                          <a:pt x="659" y="3244"/>
                        </a:lnTo>
                        <a:lnTo>
                          <a:pt x="605" y="3179"/>
                        </a:lnTo>
                        <a:lnTo>
                          <a:pt x="550" y="3110"/>
                        </a:lnTo>
                        <a:lnTo>
                          <a:pt x="496" y="3041"/>
                        </a:lnTo>
                        <a:lnTo>
                          <a:pt x="445" y="2969"/>
                        </a:lnTo>
                        <a:lnTo>
                          <a:pt x="393" y="2896"/>
                        </a:lnTo>
                        <a:lnTo>
                          <a:pt x="344" y="2821"/>
                        </a:lnTo>
                        <a:lnTo>
                          <a:pt x="296" y="2746"/>
                        </a:lnTo>
                        <a:lnTo>
                          <a:pt x="253" y="2670"/>
                        </a:lnTo>
                        <a:lnTo>
                          <a:pt x="211" y="2594"/>
                        </a:lnTo>
                        <a:lnTo>
                          <a:pt x="173" y="2517"/>
                        </a:lnTo>
                        <a:lnTo>
                          <a:pt x="155" y="2478"/>
                        </a:lnTo>
                        <a:lnTo>
                          <a:pt x="139" y="2440"/>
                        </a:lnTo>
                        <a:lnTo>
                          <a:pt x="123" y="2401"/>
                        </a:lnTo>
                        <a:lnTo>
                          <a:pt x="109" y="2363"/>
                        </a:lnTo>
                        <a:lnTo>
                          <a:pt x="95" y="2325"/>
                        </a:lnTo>
                        <a:lnTo>
                          <a:pt x="83" y="2287"/>
                        </a:lnTo>
                        <a:lnTo>
                          <a:pt x="61" y="2210"/>
                        </a:lnTo>
                        <a:lnTo>
                          <a:pt x="43" y="2129"/>
                        </a:lnTo>
                        <a:lnTo>
                          <a:pt x="29" y="2047"/>
                        </a:lnTo>
                        <a:lnTo>
                          <a:pt x="18" y="1963"/>
                        </a:lnTo>
                        <a:lnTo>
                          <a:pt x="8" y="1879"/>
                        </a:lnTo>
                        <a:lnTo>
                          <a:pt x="3" y="1793"/>
                        </a:lnTo>
                        <a:lnTo>
                          <a:pt x="0" y="1706"/>
                        </a:lnTo>
                        <a:lnTo>
                          <a:pt x="0" y="1621"/>
                        </a:lnTo>
                        <a:lnTo>
                          <a:pt x="2" y="1535"/>
                        </a:lnTo>
                        <a:lnTo>
                          <a:pt x="6" y="1450"/>
                        </a:lnTo>
                        <a:lnTo>
                          <a:pt x="13" y="1367"/>
                        </a:lnTo>
                        <a:lnTo>
                          <a:pt x="23" y="1284"/>
                        </a:lnTo>
                        <a:lnTo>
                          <a:pt x="33" y="1204"/>
                        </a:lnTo>
                        <a:lnTo>
                          <a:pt x="47" y="1127"/>
                        </a:lnTo>
                        <a:lnTo>
                          <a:pt x="61" y="1053"/>
                        </a:lnTo>
                        <a:lnTo>
                          <a:pt x="78" y="981"/>
                        </a:lnTo>
                        <a:lnTo>
                          <a:pt x="112" y="841"/>
                        </a:lnTo>
                        <a:lnTo>
                          <a:pt x="129" y="771"/>
                        </a:lnTo>
                        <a:lnTo>
                          <a:pt x="147" y="702"/>
                        </a:lnTo>
                        <a:lnTo>
                          <a:pt x="167" y="632"/>
                        </a:lnTo>
                        <a:lnTo>
                          <a:pt x="189" y="566"/>
                        </a:lnTo>
                        <a:lnTo>
                          <a:pt x="213" y="499"/>
                        </a:lnTo>
                        <a:lnTo>
                          <a:pt x="240" y="436"/>
                        </a:lnTo>
                        <a:lnTo>
                          <a:pt x="256" y="406"/>
                        </a:lnTo>
                        <a:lnTo>
                          <a:pt x="271" y="376"/>
                        </a:lnTo>
                        <a:lnTo>
                          <a:pt x="289" y="346"/>
                        </a:lnTo>
                        <a:lnTo>
                          <a:pt x="307" y="318"/>
                        </a:lnTo>
                        <a:lnTo>
                          <a:pt x="326" y="291"/>
                        </a:lnTo>
                        <a:lnTo>
                          <a:pt x="347" y="264"/>
                        </a:lnTo>
                        <a:lnTo>
                          <a:pt x="369" y="238"/>
                        </a:lnTo>
                        <a:lnTo>
                          <a:pt x="393" y="213"/>
                        </a:lnTo>
                        <a:lnTo>
                          <a:pt x="418" y="190"/>
                        </a:lnTo>
                        <a:lnTo>
                          <a:pt x="444" y="168"/>
                        </a:lnTo>
                        <a:lnTo>
                          <a:pt x="472" y="147"/>
                        </a:lnTo>
                        <a:lnTo>
                          <a:pt x="501" y="127"/>
                        </a:lnTo>
                        <a:lnTo>
                          <a:pt x="532" y="108"/>
                        </a:lnTo>
                        <a:lnTo>
                          <a:pt x="565" y="90"/>
                        </a:lnTo>
                        <a:lnTo>
                          <a:pt x="600" y="75"/>
                        </a:lnTo>
                        <a:lnTo>
                          <a:pt x="636" y="60"/>
                        </a:lnTo>
                        <a:lnTo>
                          <a:pt x="676" y="47"/>
                        </a:lnTo>
                        <a:lnTo>
                          <a:pt x="718" y="37"/>
                        </a:lnTo>
                        <a:lnTo>
                          <a:pt x="764" y="27"/>
                        </a:lnTo>
                        <a:lnTo>
                          <a:pt x="812" y="20"/>
                        </a:lnTo>
                        <a:lnTo>
                          <a:pt x="862" y="13"/>
                        </a:lnTo>
                        <a:lnTo>
                          <a:pt x="915" y="8"/>
                        </a:lnTo>
                        <a:lnTo>
                          <a:pt x="970" y="5"/>
                        </a:lnTo>
                        <a:lnTo>
                          <a:pt x="1026" y="2"/>
                        </a:lnTo>
                        <a:lnTo>
                          <a:pt x="1085" y="0"/>
                        </a:lnTo>
                        <a:lnTo>
                          <a:pt x="1145" y="0"/>
                        </a:lnTo>
                        <a:lnTo>
                          <a:pt x="1206" y="1"/>
                        </a:lnTo>
                        <a:lnTo>
                          <a:pt x="1270" y="4"/>
                        </a:lnTo>
                        <a:lnTo>
                          <a:pt x="1398" y="9"/>
                        </a:lnTo>
                        <a:lnTo>
                          <a:pt x="1529" y="17"/>
                        </a:lnTo>
                        <a:lnTo>
                          <a:pt x="1660" y="28"/>
                        </a:lnTo>
                        <a:lnTo>
                          <a:pt x="1792" y="40"/>
                        </a:lnTo>
                        <a:lnTo>
                          <a:pt x="1922" y="53"/>
                        </a:lnTo>
                        <a:lnTo>
                          <a:pt x="1986" y="59"/>
                        </a:lnTo>
                        <a:lnTo>
                          <a:pt x="2048" y="66"/>
                        </a:lnTo>
                        <a:lnTo>
                          <a:pt x="2109" y="72"/>
                        </a:lnTo>
                        <a:lnTo>
                          <a:pt x="2169" y="77"/>
                        </a:lnTo>
                        <a:lnTo>
                          <a:pt x="2228" y="84"/>
                        </a:lnTo>
                        <a:lnTo>
                          <a:pt x="2284" y="89"/>
                        </a:lnTo>
                        <a:lnTo>
                          <a:pt x="2339" y="93"/>
                        </a:lnTo>
                        <a:lnTo>
                          <a:pt x="2392" y="98"/>
                        </a:lnTo>
                        <a:lnTo>
                          <a:pt x="2442" y="101"/>
                        </a:lnTo>
                        <a:lnTo>
                          <a:pt x="2490" y="104"/>
                        </a:lnTo>
                        <a:lnTo>
                          <a:pt x="2581" y="110"/>
                        </a:lnTo>
                        <a:lnTo>
                          <a:pt x="2670" y="117"/>
                        </a:lnTo>
                        <a:lnTo>
                          <a:pt x="2757" y="125"/>
                        </a:lnTo>
                        <a:lnTo>
                          <a:pt x="2841" y="132"/>
                        </a:lnTo>
                        <a:lnTo>
                          <a:pt x="2922" y="141"/>
                        </a:lnTo>
                        <a:lnTo>
                          <a:pt x="3000" y="149"/>
                        </a:lnTo>
                        <a:lnTo>
                          <a:pt x="3075" y="159"/>
                        </a:lnTo>
                        <a:lnTo>
                          <a:pt x="3147" y="168"/>
                        </a:lnTo>
                        <a:lnTo>
                          <a:pt x="3216" y="177"/>
                        </a:lnTo>
                        <a:lnTo>
                          <a:pt x="3283" y="187"/>
                        </a:lnTo>
                        <a:lnTo>
                          <a:pt x="3345" y="195"/>
                        </a:lnTo>
                        <a:lnTo>
                          <a:pt x="3405" y="204"/>
                        </a:lnTo>
                        <a:lnTo>
                          <a:pt x="3461" y="211"/>
                        </a:lnTo>
                        <a:lnTo>
                          <a:pt x="3514" y="218"/>
                        </a:lnTo>
                        <a:lnTo>
                          <a:pt x="3562" y="224"/>
                        </a:lnTo>
                        <a:lnTo>
                          <a:pt x="3608" y="229"/>
                        </a:lnTo>
                        <a:lnTo>
                          <a:pt x="2476" y="3341"/>
                        </a:lnTo>
                        <a:close/>
                      </a:path>
                    </a:pathLst>
                  </a:custGeom>
                  <a:solidFill>
                    <a:srgbClr val="cc6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11" name=""/>
                  <p:cNvSpPr/>
                  <p:nvPr/>
                </p:nvSpPr>
                <p:spPr>
                  <a:xfrm>
                    <a:off x="3871800" y="3379680"/>
                    <a:ext cx="409680" cy="438120"/>
                  </a:xfrm>
                  <a:custGeom>
                    <a:avLst/>
                    <a:gdLst/>
                    <a:ahLst/>
                    <a:rect l="l" t="t" r="r" b="b"/>
                    <a:pathLst>
                      <a:path w="3608" h="4127">
                        <a:moveTo>
                          <a:pt x="2476" y="3341"/>
                        </a:moveTo>
                        <a:lnTo>
                          <a:pt x="2473" y="3349"/>
                        </a:lnTo>
                        <a:lnTo>
                          <a:pt x="2471" y="3358"/>
                        </a:lnTo>
                        <a:lnTo>
                          <a:pt x="2465" y="3379"/>
                        </a:lnTo>
                        <a:lnTo>
                          <a:pt x="2458" y="3405"/>
                        </a:lnTo>
                        <a:lnTo>
                          <a:pt x="2452" y="3433"/>
                        </a:lnTo>
                        <a:lnTo>
                          <a:pt x="2445" y="3464"/>
                        </a:lnTo>
                        <a:lnTo>
                          <a:pt x="2438" y="3496"/>
                        </a:lnTo>
                        <a:lnTo>
                          <a:pt x="2428" y="3530"/>
                        </a:lnTo>
                        <a:lnTo>
                          <a:pt x="2419" y="3565"/>
                        </a:lnTo>
                        <a:lnTo>
                          <a:pt x="2409" y="3602"/>
                        </a:lnTo>
                        <a:lnTo>
                          <a:pt x="2397" y="3637"/>
                        </a:lnTo>
                        <a:lnTo>
                          <a:pt x="2385" y="3673"/>
                        </a:lnTo>
                        <a:lnTo>
                          <a:pt x="2370" y="3708"/>
                        </a:lnTo>
                        <a:lnTo>
                          <a:pt x="2355" y="3741"/>
                        </a:lnTo>
                        <a:lnTo>
                          <a:pt x="2337" y="3772"/>
                        </a:lnTo>
                        <a:lnTo>
                          <a:pt x="2318" y="3801"/>
                        </a:lnTo>
                        <a:lnTo>
                          <a:pt x="2297" y="3827"/>
                        </a:lnTo>
                        <a:lnTo>
                          <a:pt x="2274" y="3852"/>
                        </a:lnTo>
                        <a:lnTo>
                          <a:pt x="2250" y="3879"/>
                        </a:lnTo>
                        <a:lnTo>
                          <a:pt x="2224" y="3907"/>
                        </a:lnTo>
                        <a:lnTo>
                          <a:pt x="2198" y="3936"/>
                        </a:lnTo>
                        <a:lnTo>
                          <a:pt x="2170" y="3965"/>
                        </a:lnTo>
                        <a:lnTo>
                          <a:pt x="2140" y="3993"/>
                        </a:lnTo>
                        <a:lnTo>
                          <a:pt x="2110" y="4020"/>
                        </a:lnTo>
                        <a:lnTo>
                          <a:pt x="2078" y="4044"/>
                        </a:lnTo>
                        <a:lnTo>
                          <a:pt x="2044" y="4067"/>
                        </a:lnTo>
                        <a:lnTo>
                          <a:pt x="2009" y="4087"/>
                        </a:lnTo>
                        <a:lnTo>
                          <a:pt x="1971" y="4103"/>
                        </a:lnTo>
                        <a:lnTo>
                          <a:pt x="1953" y="4111"/>
                        </a:lnTo>
                        <a:lnTo>
                          <a:pt x="1933" y="4116"/>
                        </a:lnTo>
                        <a:lnTo>
                          <a:pt x="1913" y="4120"/>
                        </a:lnTo>
                        <a:lnTo>
                          <a:pt x="1893" y="4124"/>
                        </a:lnTo>
                        <a:lnTo>
                          <a:pt x="1872" y="4127"/>
                        </a:lnTo>
                        <a:lnTo>
                          <a:pt x="1851" y="4127"/>
                        </a:lnTo>
                        <a:lnTo>
                          <a:pt x="1829" y="4127"/>
                        </a:lnTo>
                        <a:lnTo>
                          <a:pt x="1808" y="4124"/>
                        </a:lnTo>
                        <a:lnTo>
                          <a:pt x="1785" y="4120"/>
                        </a:lnTo>
                        <a:lnTo>
                          <a:pt x="1762" y="4115"/>
                        </a:lnTo>
                        <a:lnTo>
                          <a:pt x="1738" y="4107"/>
                        </a:lnTo>
                        <a:lnTo>
                          <a:pt x="1714" y="4100"/>
                        </a:lnTo>
                        <a:lnTo>
                          <a:pt x="1688" y="4089"/>
                        </a:lnTo>
                        <a:lnTo>
                          <a:pt x="1662" y="4078"/>
                        </a:lnTo>
                        <a:lnTo>
                          <a:pt x="1636" y="4067"/>
                        </a:lnTo>
                        <a:lnTo>
                          <a:pt x="1608" y="4053"/>
                        </a:lnTo>
                        <a:lnTo>
                          <a:pt x="1580" y="4038"/>
                        </a:lnTo>
                        <a:lnTo>
                          <a:pt x="1551" y="4022"/>
                        </a:lnTo>
                        <a:lnTo>
                          <a:pt x="1520" y="4005"/>
                        </a:lnTo>
                        <a:lnTo>
                          <a:pt x="1490" y="3987"/>
                        </a:lnTo>
                        <a:lnTo>
                          <a:pt x="1429" y="3948"/>
                        </a:lnTo>
                        <a:lnTo>
                          <a:pt x="1367" y="3906"/>
                        </a:lnTo>
                        <a:lnTo>
                          <a:pt x="1304" y="3860"/>
                        </a:lnTo>
                        <a:lnTo>
                          <a:pt x="1241" y="3812"/>
                        </a:lnTo>
                        <a:lnTo>
                          <a:pt x="1176" y="3761"/>
                        </a:lnTo>
                        <a:lnTo>
                          <a:pt x="1113" y="3709"/>
                        </a:lnTo>
                        <a:lnTo>
                          <a:pt x="1051" y="3654"/>
                        </a:lnTo>
                        <a:lnTo>
                          <a:pt x="991" y="3599"/>
                        </a:lnTo>
                        <a:lnTo>
                          <a:pt x="932" y="3543"/>
                        </a:lnTo>
                        <a:lnTo>
                          <a:pt x="875" y="3485"/>
                        </a:lnTo>
                        <a:lnTo>
                          <a:pt x="821" y="3428"/>
                        </a:lnTo>
                        <a:lnTo>
                          <a:pt x="768" y="3369"/>
                        </a:lnTo>
                        <a:lnTo>
                          <a:pt x="714" y="3308"/>
                        </a:lnTo>
                        <a:lnTo>
                          <a:pt x="659" y="3244"/>
                        </a:lnTo>
                        <a:lnTo>
                          <a:pt x="605" y="3179"/>
                        </a:lnTo>
                        <a:lnTo>
                          <a:pt x="550" y="3110"/>
                        </a:lnTo>
                        <a:lnTo>
                          <a:pt x="496" y="3041"/>
                        </a:lnTo>
                        <a:lnTo>
                          <a:pt x="445" y="2969"/>
                        </a:lnTo>
                        <a:lnTo>
                          <a:pt x="393" y="2896"/>
                        </a:lnTo>
                        <a:lnTo>
                          <a:pt x="344" y="2821"/>
                        </a:lnTo>
                        <a:lnTo>
                          <a:pt x="296" y="2746"/>
                        </a:lnTo>
                        <a:lnTo>
                          <a:pt x="253" y="2670"/>
                        </a:lnTo>
                        <a:lnTo>
                          <a:pt x="211" y="2594"/>
                        </a:lnTo>
                        <a:lnTo>
                          <a:pt x="173" y="2517"/>
                        </a:lnTo>
                        <a:lnTo>
                          <a:pt x="155" y="2478"/>
                        </a:lnTo>
                        <a:lnTo>
                          <a:pt x="139" y="2440"/>
                        </a:lnTo>
                        <a:lnTo>
                          <a:pt x="123" y="2401"/>
                        </a:lnTo>
                        <a:lnTo>
                          <a:pt x="109" y="2363"/>
                        </a:lnTo>
                        <a:lnTo>
                          <a:pt x="95" y="2325"/>
                        </a:lnTo>
                        <a:lnTo>
                          <a:pt x="83" y="2287"/>
                        </a:lnTo>
                        <a:lnTo>
                          <a:pt x="61" y="2210"/>
                        </a:lnTo>
                        <a:lnTo>
                          <a:pt x="43" y="2129"/>
                        </a:lnTo>
                        <a:lnTo>
                          <a:pt x="29" y="2047"/>
                        </a:lnTo>
                        <a:lnTo>
                          <a:pt x="18" y="1963"/>
                        </a:lnTo>
                        <a:lnTo>
                          <a:pt x="8" y="1879"/>
                        </a:lnTo>
                        <a:lnTo>
                          <a:pt x="3" y="1793"/>
                        </a:lnTo>
                        <a:lnTo>
                          <a:pt x="0" y="1706"/>
                        </a:lnTo>
                        <a:lnTo>
                          <a:pt x="0" y="1621"/>
                        </a:lnTo>
                        <a:lnTo>
                          <a:pt x="2" y="1535"/>
                        </a:lnTo>
                        <a:lnTo>
                          <a:pt x="6" y="1450"/>
                        </a:lnTo>
                        <a:lnTo>
                          <a:pt x="13" y="1367"/>
                        </a:lnTo>
                        <a:lnTo>
                          <a:pt x="23" y="1284"/>
                        </a:lnTo>
                        <a:lnTo>
                          <a:pt x="33" y="1204"/>
                        </a:lnTo>
                        <a:lnTo>
                          <a:pt x="47" y="1127"/>
                        </a:lnTo>
                        <a:lnTo>
                          <a:pt x="61" y="1053"/>
                        </a:lnTo>
                        <a:lnTo>
                          <a:pt x="78" y="981"/>
                        </a:lnTo>
                        <a:lnTo>
                          <a:pt x="112" y="841"/>
                        </a:lnTo>
                        <a:lnTo>
                          <a:pt x="129" y="771"/>
                        </a:lnTo>
                        <a:lnTo>
                          <a:pt x="147" y="702"/>
                        </a:lnTo>
                        <a:lnTo>
                          <a:pt x="167" y="632"/>
                        </a:lnTo>
                        <a:lnTo>
                          <a:pt x="189" y="566"/>
                        </a:lnTo>
                        <a:lnTo>
                          <a:pt x="213" y="499"/>
                        </a:lnTo>
                        <a:lnTo>
                          <a:pt x="240" y="436"/>
                        </a:lnTo>
                        <a:lnTo>
                          <a:pt x="256" y="406"/>
                        </a:lnTo>
                        <a:lnTo>
                          <a:pt x="271" y="376"/>
                        </a:lnTo>
                        <a:lnTo>
                          <a:pt x="289" y="346"/>
                        </a:lnTo>
                        <a:lnTo>
                          <a:pt x="307" y="318"/>
                        </a:lnTo>
                        <a:lnTo>
                          <a:pt x="326" y="291"/>
                        </a:lnTo>
                        <a:lnTo>
                          <a:pt x="347" y="264"/>
                        </a:lnTo>
                        <a:lnTo>
                          <a:pt x="369" y="238"/>
                        </a:lnTo>
                        <a:lnTo>
                          <a:pt x="393" y="213"/>
                        </a:lnTo>
                        <a:lnTo>
                          <a:pt x="418" y="190"/>
                        </a:lnTo>
                        <a:lnTo>
                          <a:pt x="444" y="168"/>
                        </a:lnTo>
                        <a:lnTo>
                          <a:pt x="472" y="147"/>
                        </a:lnTo>
                        <a:lnTo>
                          <a:pt x="501" y="127"/>
                        </a:lnTo>
                        <a:lnTo>
                          <a:pt x="532" y="108"/>
                        </a:lnTo>
                        <a:lnTo>
                          <a:pt x="565" y="90"/>
                        </a:lnTo>
                        <a:lnTo>
                          <a:pt x="600" y="75"/>
                        </a:lnTo>
                        <a:lnTo>
                          <a:pt x="636" y="60"/>
                        </a:lnTo>
                        <a:lnTo>
                          <a:pt x="676" y="47"/>
                        </a:lnTo>
                        <a:lnTo>
                          <a:pt x="718" y="37"/>
                        </a:lnTo>
                        <a:lnTo>
                          <a:pt x="764" y="27"/>
                        </a:lnTo>
                        <a:lnTo>
                          <a:pt x="812" y="20"/>
                        </a:lnTo>
                        <a:lnTo>
                          <a:pt x="862" y="13"/>
                        </a:lnTo>
                        <a:lnTo>
                          <a:pt x="915" y="8"/>
                        </a:lnTo>
                        <a:lnTo>
                          <a:pt x="970" y="5"/>
                        </a:lnTo>
                        <a:lnTo>
                          <a:pt x="1026" y="2"/>
                        </a:lnTo>
                        <a:lnTo>
                          <a:pt x="1085" y="0"/>
                        </a:lnTo>
                        <a:lnTo>
                          <a:pt x="1145" y="0"/>
                        </a:lnTo>
                        <a:lnTo>
                          <a:pt x="1206" y="1"/>
                        </a:lnTo>
                        <a:lnTo>
                          <a:pt x="1270" y="4"/>
                        </a:lnTo>
                        <a:lnTo>
                          <a:pt x="1398" y="9"/>
                        </a:lnTo>
                        <a:lnTo>
                          <a:pt x="1529" y="17"/>
                        </a:lnTo>
                        <a:lnTo>
                          <a:pt x="1660" y="28"/>
                        </a:lnTo>
                        <a:lnTo>
                          <a:pt x="1792" y="40"/>
                        </a:lnTo>
                        <a:lnTo>
                          <a:pt x="1922" y="53"/>
                        </a:lnTo>
                        <a:lnTo>
                          <a:pt x="1986" y="59"/>
                        </a:lnTo>
                        <a:lnTo>
                          <a:pt x="2048" y="66"/>
                        </a:lnTo>
                        <a:lnTo>
                          <a:pt x="2109" y="72"/>
                        </a:lnTo>
                        <a:lnTo>
                          <a:pt x="2169" y="77"/>
                        </a:lnTo>
                        <a:lnTo>
                          <a:pt x="2228" y="84"/>
                        </a:lnTo>
                        <a:lnTo>
                          <a:pt x="2284" y="89"/>
                        </a:lnTo>
                        <a:lnTo>
                          <a:pt x="2339" y="93"/>
                        </a:lnTo>
                        <a:lnTo>
                          <a:pt x="2392" y="98"/>
                        </a:lnTo>
                        <a:lnTo>
                          <a:pt x="2442" y="101"/>
                        </a:lnTo>
                        <a:lnTo>
                          <a:pt x="2490" y="104"/>
                        </a:lnTo>
                        <a:lnTo>
                          <a:pt x="2581" y="110"/>
                        </a:lnTo>
                        <a:lnTo>
                          <a:pt x="2670" y="117"/>
                        </a:lnTo>
                        <a:lnTo>
                          <a:pt x="2757" y="125"/>
                        </a:lnTo>
                        <a:lnTo>
                          <a:pt x="2841" y="132"/>
                        </a:lnTo>
                        <a:lnTo>
                          <a:pt x="2922" y="141"/>
                        </a:lnTo>
                        <a:lnTo>
                          <a:pt x="3000" y="149"/>
                        </a:lnTo>
                        <a:lnTo>
                          <a:pt x="3075" y="159"/>
                        </a:lnTo>
                        <a:lnTo>
                          <a:pt x="3147" y="168"/>
                        </a:lnTo>
                        <a:lnTo>
                          <a:pt x="3216" y="177"/>
                        </a:lnTo>
                        <a:lnTo>
                          <a:pt x="3283" y="187"/>
                        </a:lnTo>
                        <a:lnTo>
                          <a:pt x="3345" y="195"/>
                        </a:lnTo>
                        <a:lnTo>
                          <a:pt x="3405" y="204"/>
                        </a:lnTo>
                        <a:lnTo>
                          <a:pt x="3461" y="211"/>
                        </a:lnTo>
                        <a:lnTo>
                          <a:pt x="3514" y="218"/>
                        </a:lnTo>
                        <a:lnTo>
                          <a:pt x="3562" y="224"/>
                        </a:lnTo>
                        <a:lnTo>
                          <a:pt x="3608" y="229"/>
                        </a:lnTo>
                      </a:path>
                    </a:pathLst>
                  </a:custGeom>
                  <a:noFill/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712" name=""/>
                <p:cNvGrpSpPr/>
                <p:nvPr/>
              </p:nvGrpSpPr>
              <p:grpSpPr>
                <a:xfrm>
                  <a:off x="4122720" y="3605040"/>
                  <a:ext cx="222480" cy="133200"/>
                  <a:chOff x="4122720" y="3605040"/>
                  <a:chExt cx="222480" cy="133200"/>
                </a:xfrm>
              </p:grpSpPr>
              <p:sp>
                <p:nvSpPr>
                  <p:cNvPr id="6713" name=""/>
                  <p:cNvSpPr/>
                  <p:nvPr/>
                </p:nvSpPr>
                <p:spPr>
                  <a:xfrm>
                    <a:off x="4122720" y="3605040"/>
                    <a:ext cx="222480" cy="133200"/>
                  </a:xfrm>
                  <a:custGeom>
                    <a:avLst/>
                    <a:gdLst/>
                    <a:ahLst/>
                    <a:rect l="l" t="t" r="r" b="b"/>
                    <a:pathLst>
                      <a:path w="1955" h="1269">
                        <a:moveTo>
                          <a:pt x="0" y="1269"/>
                        </a:moveTo>
                        <a:lnTo>
                          <a:pt x="13" y="1265"/>
                        </a:lnTo>
                        <a:lnTo>
                          <a:pt x="28" y="1262"/>
                        </a:lnTo>
                        <a:lnTo>
                          <a:pt x="43" y="1258"/>
                        </a:lnTo>
                        <a:lnTo>
                          <a:pt x="61" y="1255"/>
                        </a:lnTo>
                        <a:lnTo>
                          <a:pt x="80" y="1250"/>
                        </a:lnTo>
                        <a:lnTo>
                          <a:pt x="100" y="1246"/>
                        </a:lnTo>
                        <a:lnTo>
                          <a:pt x="121" y="1242"/>
                        </a:lnTo>
                        <a:lnTo>
                          <a:pt x="143" y="1238"/>
                        </a:lnTo>
                        <a:lnTo>
                          <a:pt x="190" y="1228"/>
                        </a:lnTo>
                        <a:lnTo>
                          <a:pt x="241" y="1217"/>
                        </a:lnTo>
                        <a:lnTo>
                          <a:pt x="294" y="1205"/>
                        </a:lnTo>
                        <a:lnTo>
                          <a:pt x="349" y="1194"/>
                        </a:lnTo>
                        <a:lnTo>
                          <a:pt x="406" y="1181"/>
                        </a:lnTo>
                        <a:lnTo>
                          <a:pt x="463" y="1167"/>
                        </a:lnTo>
                        <a:lnTo>
                          <a:pt x="521" y="1153"/>
                        </a:lnTo>
                        <a:lnTo>
                          <a:pt x="577" y="1138"/>
                        </a:lnTo>
                        <a:lnTo>
                          <a:pt x="633" y="1122"/>
                        </a:lnTo>
                        <a:lnTo>
                          <a:pt x="687" y="1106"/>
                        </a:lnTo>
                        <a:lnTo>
                          <a:pt x="739" y="1089"/>
                        </a:lnTo>
                        <a:lnTo>
                          <a:pt x="788" y="1070"/>
                        </a:lnTo>
                        <a:lnTo>
                          <a:pt x="882" y="1033"/>
                        </a:lnTo>
                        <a:lnTo>
                          <a:pt x="977" y="993"/>
                        </a:lnTo>
                        <a:lnTo>
                          <a:pt x="1070" y="953"/>
                        </a:lnTo>
                        <a:lnTo>
                          <a:pt x="1163" y="908"/>
                        </a:lnTo>
                        <a:lnTo>
                          <a:pt x="1208" y="884"/>
                        </a:lnTo>
                        <a:lnTo>
                          <a:pt x="1253" y="859"/>
                        </a:lnTo>
                        <a:lnTo>
                          <a:pt x="1296" y="834"/>
                        </a:lnTo>
                        <a:lnTo>
                          <a:pt x="1339" y="806"/>
                        </a:lnTo>
                        <a:lnTo>
                          <a:pt x="1380" y="778"/>
                        </a:lnTo>
                        <a:lnTo>
                          <a:pt x="1421" y="748"/>
                        </a:lnTo>
                        <a:lnTo>
                          <a:pt x="1459" y="717"/>
                        </a:lnTo>
                        <a:lnTo>
                          <a:pt x="1496" y="684"/>
                        </a:lnTo>
                        <a:lnTo>
                          <a:pt x="1514" y="667"/>
                        </a:lnTo>
                        <a:lnTo>
                          <a:pt x="1533" y="649"/>
                        </a:lnTo>
                        <a:lnTo>
                          <a:pt x="1568" y="609"/>
                        </a:lnTo>
                        <a:lnTo>
                          <a:pt x="1602" y="566"/>
                        </a:lnTo>
                        <a:lnTo>
                          <a:pt x="1636" y="521"/>
                        </a:lnTo>
                        <a:lnTo>
                          <a:pt x="1670" y="475"/>
                        </a:lnTo>
                        <a:lnTo>
                          <a:pt x="1702" y="427"/>
                        </a:lnTo>
                        <a:lnTo>
                          <a:pt x="1733" y="378"/>
                        </a:lnTo>
                        <a:lnTo>
                          <a:pt x="1763" y="328"/>
                        </a:lnTo>
                        <a:lnTo>
                          <a:pt x="1791" y="279"/>
                        </a:lnTo>
                        <a:lnTo>
                          <a:pt x="1819" y="232"/>
                        </a:lnTo>
                        <a:lnTo>
                          <a:pt x="1845" y="186"/>
                        </a:lnTo>
                        <a:lnTo>
                          <a:pt x="1870" y="142"/>
                        </a:lnTo>
                        <a:lnTo>
                          <a:pt x="1893" y="100"/>
                        </a:lnTo>
                        <a:lnTo>
                          <a:pt x="1915" y="63"/>
                        </a:lnTo>
                        <a:lnTo>
                          <a:pt x="1926" y="46"/>
                        </a:lnTo>
                        <a:lnTo>
                          <a:pt x="1936" y="28"/>
                        </a:lnTo>
                        <a:lnTo>
                          <a:pt x="1945" y="13"/>
                        </a:lnTo>
                        <a:lnTo>
                          <a:pt x="1955" y="0"/>
                        </a:lnTo>
                        <a:lnTo>
                          <a:pt x="0" y="1269"/>
                        </a:lnTo>
                        <a:close/>
                      </a:path>
                    </a:pathLst>
                  </a:custGeom>
                  <a:solidFill>
                    <a:srgbClr val="cc6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14" name=""/>
                  <p:cNvSpPr/>
                  <p:nvPr/>
                </p:nvSpPr>
                <p:spPr>
                  <a:xfrm>
                    <a:off x="4122720" y="3605040"/>
                    <a:ext cx="222480" cy="133200"/>
                  </a:xfrm>
                  <a:custGeom>
                    <a:avLst/>
                    <a:gdLst/>
                    <a:ahLst/>
                    <a:rect l="l" t="t" r="r" b="b"/>
                    <a:pathLst>
                      <a:path w="1955" h="1269">
                        <a:moveTo>
                          <a:pt x="0" y="1269"/>
                        </a:moveTo>
                        <a:lnTo>
                          <a:pt x="13" y="1265"/>
                        </a:lnTo>
                        <a:lnTo>
                          <a:pt x="28" y="1262"/>
                        </a:lnTo>
                        <a:lnTo>
                          <a:pt x="43" y="1258"/>
                        </a:lnTo>
                        <a:lnTo>
                          <a:pt x="61" y="1255"/>
                        </a:lnTo>
                        <a:lnTo>
                          <a:pt x="80" y="1250"/>
                        </a:lnTo>
                        <a:lnTo>
                          <a:pt x="100" y="1246"/>
                        </a:lnTo>
                        <a:lnTo>
                          <a:pt x="121" y="1242"/>
                        </a:lnTo>
                        <a:lnTo>
                          <a:pt x="143" y="1238"/>
                        </a:lnTo>
                        <a:lnTo>
                          <a:pt x="190" y="1228"/>
                        </a:lnTo>
                        <a:lnTo>
                          <a:pt x="241" y="1217"/>
                        </a:lnTo>
                        <a:lnTo>
                          <a:pt x="294" y="1205"/>
                        </a:lnTo>
                        <a:lnTo>
                          <a:pt x="349" y="1194"/>
                        </a:lnTo>
                        <a:lnTo>
                          <a:pt x="406" y="1181"/>
                        </a:lnTo>
                        <a:lnTo>
                          <a:pt x="463" y="1167"/>
                        </a:lnTo>
                        <a:lnTo>
                          <a:pt x="521" y="1153"/>
                        </a:lnTo>
                        <a:lnTo>
                          <a:pt x="577" y="1138"/>
                        </a:lnTo>
                        <a:lnTo>
                          <a:pt x="633" y="1122"/>
                        </a:lnTo>
                        <a:lnTo>
                          <a:pt x="687" y="1106"/>
                        </a:lnTo>
                        <a:lnTo>
                          <a:pt x="739" y="1089"/>
                        </a:lnTo>
                        <a:lnTo>
                          <a:pt x="788" y="1070"/>
                        </a:lnTo>
                        <a:lnTo>
                          <a:pt x="882" y="1033"/>
                        </a:lnTo>
                        <a:lnTo>
                          <a:pt x="977" y="993"/>
                        </a:lnTo>
                        <a:lnTo>
                          <a:pt x="1070" y="953"/>
                        </a:lnTo>
                        <a:lnTo>
                          <a:pt x="1163" y="908"/>
                        </a:lnTo>
                        <a:lnTo>
                          <a:pt x="1208" y="884"/>
                        </a:lnTo>
                        <a:lnTo>
                          <a:pt x="1253" y="859"/>
                        </a:lnTo>
                        <a:lnTo>
                          <a:pt x="1296" y="834"/>
                        </a:lnTo>
                        <a:lnTo>
                          <a:pt x="1339" y="806"/>
                        </a:lnTo>
                        <a:lnTo>
                          <a:pt x="1380" y="778"/>
                        </a:lnTo>
                        <a:lnTo>
                          <a:pt x="1421" y="748"/>
                        </a:lnTo>
                        <a:lnTo>
                          <a:pt x="1459" y="717"/>
                        </a:lnTo>
                        <a:lnTo>
                          <a:pt x="1496" y="684"/>
                        </a:lnTo>
                        <a:lnTo>
                          <a:pt x="1514" y="667"/>
                        </a:lnTo>
                        <a:lnTo>
                          <a:pt x="1533" y="649"/>
                        </a:lnTo>
                        <a:lnTo>
                          <a:pt x="1568" y="609"/>
                        </a:lnTo>
                        <a:lnTo>
                          <a:pt x="1602" y="566"/>
                        </a:lnTo>
                        <a:lnTo>
                          <a:pt x="1636" y="521"/>
                        </a:lnTo>
                        <a:lnTo>
                          <a:pt x="1670" y="475"/>
                        </a:lnTo>
                        <a:lnTo>
                          <a:pt x="1702" y="427"/>
                        </a:lnTo>
                        <a:lnTo>
                          <a:pt x="1733" y="378"/>
                        </a:lnTo>
                        <a:lnTo>
                          <a:pt x="1763" y="328"/>
                        </a:lnTo>
                        <a:lnTo>
                          <a:pt x="1791" y="279"/>
                        </a:lnTo>
                        <a:lnTo>
                          <a:pt x="1819" y="232"/>
                        </a:lnTo>
                        <a:lnTo>
                          <a:pt x="1845" y="186"/>
                        </a:lnTo>
                        <a:lnTo>
                          <a:pt x="1870" y="142"/>
                        </a:lnTo>
                        <a:lnTo>
                          <a:pt x="1893" y="100"/>
                        </a:lnTo>
                        <a:lnTo>
                          <a:pt x="1915" y="63"/>
                        </a:lnTo>
                        <a:lnTo>
                          <a:pt x="1926" y="46"/>
                        </a:lnTo>
                        <a:lnTo>
                          <a:pt x="1936" y="28"/>
                        </a:lnTo>
                        <a:lnTo>
                          <a:pt x="1945" y="13"/>
                        </a:lnTo>
                        <a:lnTo>
                          <a:pt x="1955" y="0"/>
                        </a:lnTo>
                      </a:path>
                    </a:pathLst>
                  </a:custGeom>
                  <a:noFill/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715" name=""/>
                <p:cNvGrpSpPr/>
                <p:nvPr/>
              </p:nvGrpSpPr>
              <p:grpSpPr>
                <a:xfrm>
                  <a:off x="4232160" y="3393720"/>
                  <a:ext cx="268560" cy="219240"/>
                  <a:chOff x="4232160" y="3393720"/>
                  <a:chExt cx="268560" cy="219240"/>
                </a:xfrm>
              </p:grpSpPr>
              <p:sp>
                <p:nvSpPr>
                  <p:cNvPr id="6716" name=""/>
                  <p:cNvSpPr/>
                  <p:nvPr/>
                </p:nvSpPr>
                <p:spPr>
                  <a:xfrm>
                    <a:off x="4232160" y="3393720"/>
                    <a:ext cx="268560" cy="219240"/>
                  </a:xfrm>
                  <a:custGeom>
                    <a:avLst/>
                    <a:gdLst/>
                    <a:ahLst/>
                    <a:rect l="l" t="t" r="r" b="b"/>
                    <a:pathLst>
                      <a:path w="2373" h="2063">
                        <a:moveTo>
                          <a:pt x="682" y="2063"/>
                        </a:moveTo>
                        <a:lnTo>
                          <a:pt x="688" y="2062"/>
                        </a:lnTo>
                        <a:lnTo>
                          <a:pt x="694" y="2062"/>
                        </a:lnTo>
                        <a:lnTo>
                          <a:pt x="702" y="2061"/>
                        </a:lnTo>
                        <a:lnTo>
                          <a:pt x="712" y="2060"/>
                        </a:lnTo>
                        <a:lnTo>
                          <a:pt x="732" y="2059"/>
                        </a:lnTo>
                        <a:lnTo>
                          <a:pt x="755" y="2058"/>
                        </a:lnTo>
                        <a:lnTo>
                          <a:pt x="778" y="2056"/>
                        </a:lnTo>
                        <a:lnTo>
                          <a:pt x="801" y="2055"/>
                        </a:lnTo>
                        <a:lnTo>
                          <a:pt x="822" y="2053"/>
                        </a:lnTo>
                        <a:lnTo>
                          <a:pt x="832" y="2053"/>
                        </a:lnTo>
                        <a:lnTo>
                          <a:pt x="840" y="2052"/>
                        </a:lnTo>
                        <a:lnTo>
                          <a:pt x="847" y="2052"/>
                        </a:lnTo>
                        <a:lnTo>
                          <a:pt x="853" y="2052"/>
                        </a:lnTo>
                        <a:lnTo>
                          <a:pt x="857" y="2052"/>
                        </a:lnTo>
                        <a:lnTo>
                          <a:pt x="860" y="2053"/>
                        </a:lnTo>
                        <a:lnTo>
                          <a:pt x="865" y="2056"/>
                        </a:lnTo>
                        <a:lnTo>
                          <a:pt x="869" y="2058"/>
                        </a:lnTo>
                        <a:lnTo>
                          <a:pt x="872" y="2059"/>
                        </a:lnTo>
                        <a:lnTo>
                          <a:pt x="877" y="2059"/>
                        </a:lnTo>
                        <a:lnTo>
                          <a:pt x="882" y="2058"/>
                        </a:lnTo>
                        <a:lnTo>
                          <a:pt x="889" y="2057"/>
                        </a:lnTo>
                        <a:lnTo>
                          <a:pt x="898" y="2055"/>
                        </a:lnTo>
                        <a:lnTo>
                          <a:pt x="910" y="2052"/>
                        </a:lnTo>
                        <a:lnTo>
                          <a:pt x="923" y="2047"/>
                        </a:lnTo>
                        <a:lnTo>
                          <a:pt x="941" y="2041"/>
                        </a:lnTo>
                        <a:lnTo>
                          <a:pt x="962" y="2034"/>
                        </a:lnTo>
                        <a:lnTo>
                          <a:pt x="985" y="2026"/>
                        </a:lnTo>
                        <a:lnTo>
                          <a:pt x="1011" y="2016"/>
                        </a:lnTo>
                        <a:lnTo>
                          <a:pt x="1040" y="2007"/>
                        </a:lnTo>
                        <a:lnTo>
                          <a:pt x="1071" y="1996"/>
                        </a:lnTo>
                        <a:lnTo>
                          <a:pt x="1105" y="1984"/>
                        </a:lnTo>
                        <a:lnTo>
                          <a:pt x="1138" y="1971"/>
                        </a:lnTo>
                        <a:lnTo>
                          <a:pt x="1173" y="1959"/>
                        </a:lnTo>
                        <a:lnTo>
                          <a:pt x="1243" y="1932"/>
                        </a:lnTo>
                        <a:lnTo>
                          <a:pt x="1314" y="1903"/>
                        </a:lnTo>
                        <a:lnTo>
                          <a:pt x="1348" y="1887"/>
                        </a:lnTo>
                        <a:lnTo>
                          <a:pt x="1380" y="1872"/>
                        </a:lnTo>
                        <a:lnTo>
                          <a:pt x="1410" y="1857"/>
                        </a:lnTo>
                        <a:lnTo>
                          <a:pt x="1439" y="1841"/>
                        </a:lnTo>
                        <a:lnTo>
                          <a:pt x="1493" y="1809"/>
                        </a:lnTo>
                        <a:lnTo>
                          <a:pt x="1545" y="1773"/>
                        </a:lnTo>
                        <a:lnTo>
                          <a:pt x="1595" y="1737"/>
                        </a:lnTo>
                        <a:lnTo>
                          <a:pt x="1642" y="1699"/>
                        </a:lnTo>
                        <a:lnTo>
                          <a:pt x="1689" y="1661"/>
                        </a:lnTo>
                        <a:lnTo>
                          <a:pt x="1734" y="1621"/>
                        </a:lnTo>
                        <a:lnTo>
                          <a:pt x="1776" y="1582"/>
                        </a:lnTo>
                        <a:lnTo>
                          <a:pt x="1817" y="1542"/>
                        </a:lnTo>
                        <a:lnTo>
                          <a:pt x="1855" y="1504"/>
                        </a:lnTo>
                        <a:lnTo>
                          <a:pt x="1890" y="1468"/>
                        </a:lnTo>
                        <a:lnTo>
                          <a:pt x="1923" y="1432"/>
                        </a:lnTo>
                        <a:lnTo>
                          <a:pt x="1954" y="1395"/>
                        </a:lnTo>
                        <a:lnTo>
                          <a:pt x="1985" y="1357"/>
                        </a:lnTo>
                        <a:lnTo>
                          <a:pt x="2015" y="1316"/>
                        </a:lnTo>
                        <a:lnTo>
                          <a:pt x="2029" y="1293"/>
                        </a:lnTo>
                        <a:lnTo>
                          <a:pt x="2045" y="1271"/>
                        </a:lnTo>
                        <a:lnTo>
                          <a:pt x="2059" y="1246"/>
                        </a:lnTo>
                        <a:lnTo>
                          <a:pt x="2075" y="1221"/>
                        </a:lnTo>
                        <a:lnTo>
                          <a:pt x="2093" y="1196"/>
                        </a:lnTo>
                        <a:lnTo>
                          <a:pt x="2113" y="1170"/>
                        </a:lnTo>
                        <a:lnTo>
                          <a:pt x="2132" y="1141"/>
                        </a:lnTo>
                        <a:lnTo>
                          <a:pt x="2149" y="1113"/>
                        </a:lnTo>
                        <a:lnTo>
                          <a:pt x="2167" y="1081"/>
                        </a:lnTo>
                        <a:lnTo>
                          <a:pt x="2185" y="1049"/>
                        </a:lnTo>
                        <a:lnTo>
                          <a:pt x="2217" y="982"/>
                        </a:lnTo>
                        <a:lnTo>
                          <a:pt x="2247" y="912"/>
                        </a:lnTo>
                        <a:lnTo>
                          <a:pt x="2274" y="842"/>
                        </a:lnTo>
                        <a:lnTo>
                          <a:pt x="2286" y="806"/>
                        </a:lnTo>
                        <a:lnTo>
                          <a:pt x="2297" y="771"/>
                        </a:lnTo>
                        <a:lnTo>
                          <a:pt x="2307" y="736"/>
                        </a:lnTo>
                        <a:lnTo>
                          <a:pt x="2315" y="701"/>
                        </a:lnTo>
                        <a:lnTo>
                          <a:pt x="2323" y="666"/>
                        </a:lnTo>
                        <a:lnTo>
                          <a:pt x="2332" y="630"/>
                        </a:lnTo>
                        <a:lnTo>
                          <a:pt x="2339" y="591"/>
                        </a:lnTo>
                        <a:lnTo>
                          <a:pt x="2346" y="551"/>
                        </a:lnTo>
                        <a:lnTo>
                          <a:pt x="2360" y="471"/>
                        </a:lnTo>
                        <a:lnTo>
                          <a:pt x="2365" y="430"/>
                        </a:lnTo>
                        <a:lnTo>
                          <a:pt x="2369" y="390"/>
                        </a:lnTo>
                        <a:lnTo>
                          <a:pt x="2372" y="350"/>
                        </a:lnTo>
                        <a:lnTo>
                          <a:pt x="2373" y="311"/>
                        </a:lnTo>
                        <a:lnTo>
                          <a:pt x="2373" y="275"/>
                        </a:lnTo>
                        <a:lnTo>
                          <a:pt x="2371" y="240"/>
                        </a:lnTo>
                        <a:lnTo>
                          <a:pt x="2367" y="208"/>
                        </a:lnTo>
                        <a:lnTo>
                          <a:pt x="2361" y="177"/>
                        </a:lnTo>
                        <a:lnTo>
                          <a:pt x="2352" y="150"/>
                        </a:lnTo>
                        <a:lnTo>
                          <a:pt x="2341" y="126"/>
                        </a:lnTo>
                        <a:lnTo>
                          <a:pt x="2328" y="106"/>
                        </a:lnTo>
                        <a:lnTo>
                          <a:pt x="2311" y="88"/>
                        </a:lnTo>
                        <a:lnTo>
                          <a:pt x="2292" y="73"/>
                        </a:lnTo>
                        <a:lnTo>
                          <a:pt x="2273" y="59"/>
                        </a:lnTo>
                        <a:lnTo>
                          <a:pt x="2250" y="48"/>
                        </a:lnTo>
                        <a:lnTo>
                          <a:pt x="2226" y="39"/>
                        </a:lnTo>
                        <a:lnTo>
                          <a:pt x="2200" y="32"/>
                        </a:lnTo>
                        <a:lnTo>
                          <a:pt x="2173" y="26"/>
                        </a:lnTo>
                        <a:lnTo>
                          <a:pt x="2144" y="21"/>
                        </a:lnTo>
                        <a:lnTo>
                          <a:pt x="2114" y="17"/>
                        </a:lnTo>
                        <a:lnTo>
                          <a:pt x="2082" y="14"/>
                        </a:lnTo>
                        <a:lnTo>
                          <a:pt x="2049" y="12"/>
                        </a:lnTo>
                        <a:lnTo>
                          <a:pt x="2015" y="9"/>
                        </a:lnTo>
                        <a:lnTo>
                          <a:pt x="1979" y="7"/>
                        </a:lnTo>
                        <a:lnTo>
                          <a:pt x="1907" y="3"/>
                        </a:lnTo>
                        <a:lnTo>
                          <a:pt x="1867" y="1"/>
                        </a:lnTo>
                        <a:lnTo>
                          <a:pt x="1825" y="0"/>
                        </a:lnTo>
                        <a:lnTo>
                          <a:pt x="1780" y="0"/>
                        </a:lnTo>
                        <a:lnTo>
                          <a:pt x="1734" y="1"/>
                        </a:lnTo>
                        <a:lnTo>
                          <a:pt x="1684" y="2"/>
                        </a:lnTo>
                        <a:lnTo>
                          <a:pt x="1634" y="4"/>
                        </a:lnTo>
                        <a:lnTo>
                          <a:pt x="1531" y="11"/>
                        </a:lnTo>
                        <a:lnTo>
                          <a:pt x="1426" y="17"/>
                        </a:lnTo>
                        <a:lnTo>
                          <a:pt x="1374" y="21"/>
                        </a:lnTo>
                        <a:lnTo>
                          <a:pt x="1324" y="24"/>
                        </a:lnTo>
                        <a:lnTo>
                          <a:pt x="1275" y="28"/>
                        </a:lnTo>
                        <a:lnTo>
                          <a:pt x="1228" y="31"/>
                        </a:lnTo>
                        <a:lnTo>
                          <a:pt x="1183" y="34"/>
                        </a:lnTo>
                        <a:lnTo>
                          <a:pt x="1141" y="36"/>
                        </a:lnTo>
                        <a:lnTo>
                          <a:pt x="1101" y="38"/>
                        </a:lnTo>
                        <a:lnTo>
                          <a:pt x="1063" y="39"/>
                        </a:lnTo>
                        <a:lnTo>
                          <a:pt x="1027" y="41"/>
                        </a:lnTo>
                        <a:lnTo>
                          <a:pt x="993" y="43"/>
                        </a:lnTo>
                        <a:lnTo>
                          <a:pt x="959" y="44"/>
                        </a:lnTo>
                        <a:lnTo>
                          <a:pt x="927" y="45"/>
                        </a:lnTo>
                        <a:lnTo>
                          <a:pt x="864" y="47"/>
                        </a:lnTo>
                        <a:lnTo>
                          <a:pt x="803" y="50"/>
                        </a:lnTo>
                        <a:lnTo>
                          <a:pt x="741" y="54"/>
                        </a:lnTo>
                        <a:lnTo>
                          <a:pt x="709" y="58"/>
                        </a:lnTo>
                        <a:lnTo>
                          <a:pt x="676" y="61"/>
                        </a:lnTo>
                        <a:lnTo>
                          <a:pt x="642" y="65"/>
                        </a:lnTo>
                        <a:lnTo>
                          <a:pt x="607" y="69"/>
                        </a:lnTo>
                        <a:lnTo>
                          <a:pt x="570" y="75"/>
                        </a:lnTo>
                        <a:lnTo>
                          <a:pt x="531" y="82"/>
                        </a:lnTo>
                        <a:lnTo>
                          <a:pt x="491" y="90"/>
                        </a:lnTo>
                        <a:lnTo>
                          <a:pt x="449" y="97"/>
                        </a:lnTo>
                        <a:lnTo>
                          <a:pt x="364" y="117"/>
                        </a:lnTo>
                        <a:lnTo>
                          <a:pt x="279" y="136"/>
                        </a:lnTo>
                        <a:lnTo>
                          <a:pt x="238" y="145"/>
                        </a:lnTo>
                        <a:lnTo>
                          <a:pt x="198" y="156"/>
                        </a:lnTo>
                        <a:lnTo>
                          <a:pt x="158" y="166"/>
                        </a:lnTo>
                        <a:lnTo>
                          <a:pt x="121" y="174"/>
                        </a:lnTo>
                        <a:lnTo>
                          <a:pt x="87" y="183"/>
                        </a:lnTo>
                        <a:lnTo>
                          <a:pt x="55" y="190"/>
                        </a:lnTo>
                        <a:lnTo>
                          <a:pt x="26" y="198"/>
                        </a:lnTo>
                        <a:lnTo>
                          <a:pt x="0" y="203"/>
                        </a:lnTo>
                        <a:lnTo>
                          <a:pt x="682" y="2063"/>
                        </a:lnTo>
                        <a:close/>
                      </a:path>
                    </a:pathLst>
                  </a:custGeom>
                  <a:solidFill>
                    <a:srgbClr val="cc6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17" name=""/>
                  <p:cNvSpPr/>
                  <p:nvPr/>
                </p:nvSpPr>
                <p:spPr>
                  <a:xfrm>
                    <a:off x="4232160" y="3393720"/>
                    <a:ext cx="268560" cy="219240"/>
                  </a:xfrm>
                  <a:custGeom>
                    <a:avLst/>
                    <a:gdLst/>
                    <a:ahLst/>
                    <a:rect l="l" t="t" r="r" b="b"/>
                    <a:pathLst>
                      <a:path w="2373" h="2063">
                        <a:moveTo>
                          <a:pt x="682" y="2063"/>
                        </a:moveTo>
                        <a:lnTo>
                          <a:pt x="688" y="2062"/>
                        </a:lnTo>
                        <a:lnTo>
                          <a:pt x="694" y="2062"/>
                        </a:lnTo>
                        <a:lnTo>
                          <a:pt x="702" y="2061"/>
                        </a:lnTo>
                        <a:lnTo>
                          <a:pt x="712" y="2060"/>
                        </a:lnTo>
                        <a:lnTo>
                          <a:pt x="732" y="2059"/>
                        </a:lnTo>
                        <a:lnTo>
                          <a:pt x="755" y="2058"/>
                        </a:lnTo>
                        <a:lnTo>
                          <a:pt x="778" y="2056"/>
                        </a:lnTo>
                        <a:lnTo>
                          <a:pt x="801" y="2055"/>
                        </a:lnTo>
                        <a:lnTo>
                          <a:pt x="822" y="2053"/>
                        </a:lnTo>
                        <a:lnTo>
                          <a:pt x="832" y="2053"/>
                        </a:lnTo>
                        <a:lnTo>
                          <a:pt x="840" y="2052"/>
                        </a:lnTo>
                        <a:lnTo>
                          <a:pt x="847" y="2052"/>
                        </a:lnTo>
                        <a:lnTo>
                          <a:pt x="853" y="2052"/>
                        </a:lnTo>
                        <a:lnTo>
                          <a:pt x="857" y="2052"/>
                        </a:lnTo>
                        <a:lnTo>
                          <a:pt x="860" y="2053"/>
                        </a:lnTo>
                        <a:lnTo>
                          <a:pt x="865" y="2056"/>
                        </a:lnTo>
                        <a:lnTo>
                          <a:pt x="869" y="2058"/>
                        </a:lnTo>
                        <a:lnTo>
                          <a:pt x="872" y="2059"/>
                        </a:lnTo>
                        <a:lnTo>
                          <a:pt x="877" y="2059"/>
                        </a:lnTo>
                        <a:lnTo>
                          <a:pt x="882" y="2058"/>
                        </a:lnTo>
                        <a:lnTo>
                          <a:pt x="889" y="2057"/>
                        </a:lnTo>
                        <a:lnTo>
                          <a:pt x="898" y="2055"/>
                        </a:lnTo>
                        <a:lnTo>
                          <a:pt x="910" y="2052"/>
                        </a:lnTo>
                        <a:lnTo>
                          <a:pt x="923" y="2047"/>
                        </a:lnTo>
                        <a:lnTo>
                          <a:pt x="941" y="2041"/>
                        </a:lnTo>
                        <a:lnTo>
                          <a:pt x="962" y="2034"/>
                        </a:lnTo>
                        <a:lnTo>
                          <a:pt x="985" y="2026"/>
                        </a:lnTo>
                        <a:lnTo>
                          <a:pt x="1011" y="2016"/>
                        </a:lnTo>
                        <a:lnTo>
                          <a:pt x="1040" y="2007"/>
                        </a:lnTo>
                        <a:lnTo>
                          <a:pt x="1071" y="1996"/>
                        </a:lnTo>
                        <a:lnTo>
                          <a:pt x="1105" y="1984"/>
                        </a:lnTo>
                        <a:lnTo>
                          <a:pt x="1138" y="1971"/>
                        </a:lnTo>
                        <a:lnTo>
                          <a:pt x="1173" y="1959"/>
                        </a:lnTo>
                        <a:lnTo>
                          <a:pt x="1243" y="1932"/>
                        </a:lnTo>
                        <a:lnTo>
                          <a:pt x="1314" y="1903"/>
                        </a:lnTo>
                        <a:lnTo>
                          <a:pt x="1348" y="1887"/>
                        </a:lnTo>
                        <a:lnTo>
                          <a:pt x="1380" y="1872"/>
                        </a:lnTo>
                        <a:lnTo>
                          <a:pt x="1410" y="1857"/>
                        </a:lnTo>
                        <a:lnTo>
                          <a:pt x="1439" y="1841"/>
                        </a:lnTo>
                        <a:lnTo>
                          <a:pt x="1493" y="1809"/>
                        </a:lnTo>
                        <a:lnTo>
                          <a:pt x="1545" y="1773"/>
                        </a:lnTo>
                        <a:lnTo>
                          <a:pt x="1595" y="1737"/>
                        </a:lnTo>
                        <a:lnTo>
                          <a:pt x="1642" y="1699"/>
                        </a:lnTo>
                        <a:lnTo>
                          <a:pt x="1689" y="1661"/>
                        </a:lnTo>
                        <a:lnTo>
                          <a:pt x="1734" y="1621"/>
                        </a:lnTo>
                        <a:lnTo>
                          <a:pt x="1776" y="1582"/>
                        </a:lnTo>
                        <a:lnTo>
                          <a:pt x="1817" y="1542"/>
                        </a:lnTo>
                        <a:lnTo>
                          <a:pt x="1855" y="1504"/>
                        </a:lnTo>
                        <a:lnTo>
                          <a:pt x="1890" y="1468"/>
                        </a:lnTo>
                        <a:lnTo>
                          <a:pt x="1923" y="1432"/>
                        </a:lnTo>
                        <a:lnTo>
                          <a:pt x="1954" y="1395"/>
                        </a:lnTo>
                        <a:lnTo>
                          <a:pt x="1985" y="1357"/>
                        </a:lnTo>
                        <a:lnTo>
                          <a:pt x="2015" y="1316"/>
                        </a:lnTo>
                        <a:lnTo>
                          <a:pt x="2029" y="1293"/>
                        </a:lnTo>
                        <a:lnTo>
                          <a:pt x="2045" y="1271"/>
                        </a:lnTo>
                        <a:lnTo>
                          <a:pt x="2059" y="1246"/>
                        </a:lnTo>
                        <a:lnTo>
                          <a:pt x="2075" y="1221"/>
                        </a:lnTo>
                        <a:lnTo>
                          <a:pt x="2093" y="1196"/>
                        </a:lnTo>
                        <a:lnTo>
                          <a:pt x="2113" y="1170"/>
                        </a:lnTo>
                        <a:lnTo>
                          <a:pt x="2132" y="1141"/>
                        </a:lnTo>
                        <a:lnTo>
                          <a:pt x="2149" y="1113"/>
                        </a:lnTo>
                        <a:lnTo>
                          <a:pt x="2167" y="1081"/>
                        </a:lnTo>
                        <a:lnTo>
                          <a:pt x="2185" y="1049"/>
                        </a:lnTo>
                        <a:lnTo>
                          <a:pt x="2217" y="982"/>
                        </a:lnTo>
                        <a:lnTo>
                          <a:pt x="2247" y="912"/>
                        </a:lnTo>
                        <a:lnTo>
                          <a:pt x="2274" y="842"/>
                        </a:lnTo>
                        <a:lnTo>
                          <a:pt x="2286" y="806"/>
                        </a:lnTo>
                        <a:lnTo>
                          <a:pt x="2297" y="771"/>
                        </a:lnTo>
                        <a:lnTo>
                          <a:pt x="2307" y="736"/>
                        </a:lnTo>
                        <a:lnTo>
                          <a:pt x="2315" y="701"/>
                        </a:lnTo>
                        <a:lnTo>
                          <a:pt x="2323" y="666"/>
                        </a:lnTo>
                        <a:lnTo>
                          <a:pt x="2332" y="630"/>
                        </a:lnTo>
                        <a:lnTo>
                          <a:pt x="2339" y="591"/>
                        </a:lnTo>
                        <a:lnTo>
                          <a:pt x="2346" y="551"/>
                        </a:lnTo>
                        <a:lnTo>
                          <a:pt x="2360" y="471"/>
                        </a:lnTo>
                        <a:lnTo>
                          <a:pt x="2365" y="430"/>
                        </a:lnTo>
                        <a:lnTo>
                          <a:pt x="2369" y="390"/>
                        </a:lnTo>
                        <a:lnTo>
                          <a:pt x="2372" y="350"/>
                        </a:lnTo>
                        <a:lnTo>
                          <a:pt x="2373" y="311"/>
                        </a:lnTo>
                        <a:lnTo>
                          <a:pt x="2373" y="275"/>
                        </a:lnTo>
                        <a:lnTo>
                          <a:pt x="2371" y="240"/>
                        </a:lnTo>
                        <a:lnTo>
                          <a:pt x="2367" y="208"/>
                        </a:lnTo>
                        <a:lnTo>
                          <a:pt x="2361" y="177"/>
                        </a:lnTo>
                        <a:lnTo>
                          <a:pt x="2352" y="150"/>
                        </a:lnTo>
                        <a:lnTo>
                          <a:pt x="2341" y="126"/>
                        </a:lnTo>
                        <a:lnTo>
                          <a:pt x="2328" y="106"/>
                        </a:lnTo>
                        <a:lnTo>
                          <a:pt x="2311" y="88"/>
                        </a:lnTo>
                        <a:lnTo>
                          <a:pt x="2292" y="73"/>
                        </a:lnTo>
                        <a:lnTo>
                          <a:pt x="2273" y="59"/>
                        </a:lnTo>
                        <a:lnTo>
                          <a:pt x="2250" y="48"/>
                        </a:lnTo>
                        <a:lnTo>
                          <a:pt x="2226" y="39"/>
                        </a:lnTo>
                        <a:lnTo>
                          <a:pt x="2200" y="32"/>
                        </a:lnTo>
                        <a:lnTo>
                          <a:pt x="2173" y="26"/>
                        </a:lnTo>
                        <a:lnTo>
                          <a:pt x="2144" y="21"/>
                        </a:lnTo>
                        <a:lnTo>
                          <a:pt x="2114" y="17"/>
                        </a:lnTo>
                        <a:lnTo>
                          <a:pt x="2082" y="14"/>
                        </a:lnTo>
                        <a:lnTo>
                          <a:pt x="2049" y="12"/>
                        </a:lnTo>
                        <a:lnTo>
                          <a:pt x="2015" y="9"/>
                        </a:lnTo>
                        <a:lnTo>
                          <a:pt x="1979" y="7"/>
                        </a:lnTo>
                        <a:lnTo>
                          <a:pt x="1907" y="3"/>
                        </a:lnTo>
                        <a:lnTo>
                          <a:pt x="1867" y="1"/>
                        </a:lnTo>
                        <a:lnTo>
                          <a:pt x="1825" y="0"/>
                        </a:lnTo>
                        <a:lnTo>
                          <a:pt x="1780" y="0"/>
                        </a:lnTo>
                        <a:lnTo>
                          <a:pt x="1734" y="1"/>
                        </a:lnTo>
                        <a:lnTo>
                          <a:pt x="1684" y="2"/>
                        </a:lnTo>
                        <a:lnTo>
                          <a:pt x="1634" y="4"/>
                        </a:lnTo>
                        <a:lnTo>
                          <a:pt x="1531" y="11"/>
                        </a:lnTo>
                        <a:lnTo>
                          <a:pt x="1426" y="17"/>
                        </a:lnTo>
                        <a:lnTo>
                          <a:pt x="1374" y="21"/>
                        </a:lnTo>
                        <a:lnTo>
                          <a:pt x="1324" y="24"/>
                        </a:lnTo>
                        <a:lnTo>
                          <a:pt x="1275" y="28"/>
                        </a:lnTo>
                        <a:lnTo>
                          <a:pt x="1228" y="31"/>
                        </a:lnTo>
                        <a:lnTo>
                          <a:pt x="1183" y="34"/>
                        </a:lnTo>
                        <a:lnTo>
                          <a:pt x="1141" y="36"/>
                        </a:lnTo>
                        <a:lnTo>
                          <a:pt x="1101" y="38"/>
                        </a:lnTo>
                        <a:lnTo>
                          <a:pt x="1063" y="39"/>
                        </a:lnTo>
                        <a:lnTo>
                          <a:pt x="1027" y="41"/>
                        </a:lnTo>
                        <a:lnTo>
                          <a:pt x="993" y="43"/>
                        </a:lnTo>
                        <a:lnTo>
                          <a:pt x="959" y="44"/>
                        </a:lnTo>
                        <a:lnTo>
                          <a:pt x="927" y="45"/>
                        </a:lnTo>
                        <a:lnTo>
                          <a:pt x="864" y="47"/>
                        </a:lnTo>
                        <a:lnTo>
                          <a:pt x="803" y="50"/>
                        </a:lnTo>
                        <a:lnTo>
                          <a:pt x="741" y="54"/>
                        </a:lnTo>
                        <a:lnTo>
                          <a:pt x="709" y="58"/>
                        </a:lnTo>
                        <a:lnTo>
                          <a:pt x="676" y="61"/>
                        </a:lnTo>
                        <a:lnTo>
                          <a:pt x="642" y="65"/>
                        </a:lnTo>
                        <a:lnTo>
                          <a:pt x="607" y="69"/>
                        </a:lnTo>
                        <a:lnTo>
                          <a:pt x="570" y="75"/>
                        </a:lnTo>
                        <a:lnTo>
                          <a:pt x="531" y="82"/>
                        </a:lnTo>
                        <a:lnTo>
                          <a:pt x="491" y="90"/>
                        </a:lnTo>
                        <a:lnTo>
                          <a:pt x="449" y="97"/>
                        </a:lnTo>
                        <a:lnTo>
                          <a:pt x="364" y="117"/>
                        </a:lnTo>
                        <a:lnTo>
                          <a:pt x="279" y="136"/>
                        </a:lnTo>
                        <a:lnTo>
                          <a:pt x="238" y="145"/>
                        </a:lnTo>
                        <a:lnTo>
                          <a:pt x="198" y="156"/>
                        </a:lnTo>
                        <a:lnTo>
                          <a:pt x="158" y="166"/>
                        </a:lnTo>
                        <a:lnTo>
                          <a:pt x="121" y="174"/>
                        </a:lnTo>
                        <a:lnTo>
                          <a:pt x="87" y="183"/>
                        </a:lnTo>
                        <a:lnTo>
                          <a:pt x="55" y="190"/>
                        </a:lnTo>
                        <a:lnTo>
                          <a:pt x="26" y="198"/>
                        </a:lnTo>
                        <a:lnTo>
                          <a:pt x="0" y="203"/>
                        </a:lnTo>
                      </a:path>
                    </a:pathLst>
                  </a:custGeom>
                  <a:noFill/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6718" name=""/>
            <p:cNvSpPr/>
            <p:nvPr/>
          </p:nvSpPr>
          <p:spPr>
            <a:xfrm>
              <a:off x="655560" y="885960"/>
              <a:ext cx="3419640" cy="2666880"/>
            </a:xfrm>
            <a:custGeom>
              <a:avLst/>
              <a:gdLst/>
              <a:ahLst/>
              <a:rect l="l" t="t" r="r" b="b"/>
              <a:pathLst>
                <a:path w="2154" h="1680">
                  <a:moveTo>
                    <a:pt x="0" y="0"/>
                  </a:moveTo>
                  <a:lnTo>
                    <a:pt x="1580" y="830"/>
                  </a:lnTo>
                  <a:lnTo>
                    <a:pt x="2154" y="168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prstDash val="sysDot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9" name=""/>
            <p:cNvSpPr/>
            <p:nvPr/>
          </p:nvSpPr>
          <p:spPr>
            <a:xfrm rot="1668000">
              <a:off x="950400" y="1282680"/>
              <a:ext cx="2046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600" spc="-1" strike="noStrike">
                  <a:solidFill>
                    <a:srgbClr val="000000"/>
                  </a:solidFill>
                  <a:latin typeface="Times New Roman"/>
                </a:rPr>
                <a:t>jaterní osmoreceptory?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0" name=""/>
          <p:cNvSpPr/>
          <p:nvPr/>
        </p:nvSpPr>
        <p:spPr>
          <a:xfrm>
            <a:off x="7130880" y="1335240"/>
            <a:ext cx="1862280" cy="6760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1" name=""/>
          <p:cNvSpPr/>
          <p:nvPr/>
        </p:nvSpPr>
        <p:spPr>
          <a:xfrm>
            <a:off x="388800" y="3638520"/>
            <a:ext cx="2538720" cy="22716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2" name=""/>
          <p:cNvSpPr/>
          <p:nvPr/>
        </p:nvSpPr>
        <p:spPr>
          <a:xfrm>
            <a:off x="169920" y="463680"/>
            <a:ext cx="4336920" cy="22716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3" name=""/>
          <p:cNvSpPr/>
          <p:nvPr/>
        </p:nvSpPr>
        <p:spPr>
          <a:xfrm>
            <a:off x="5707080" y="2646360"/>
            <a:ext cx="162000" cy="569880"/>
          </a:xfrm>
          <a:prstGeom prst="downArrow">
            <a:avLst>
              <a:gd name="adj1" fmla="val 50000"/>
              <a:gd name="adj2" fmla="val 8794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4" name=""/>
          <p:cNvSpPr/>
          <p:nvPr/>
        </p:nvSpPr>
        <p:spPr>
          <a:xfrm>
            <a:off x="5724360" y="1042920"/>
            <a:ext cx="162000" cy="569880"/>
          </a:xfrm>
          <a:prstGeom prst="downArrow">
            <a:avLst>
              <a:gd name="adj1" fmla="val 50000"/>
              <a:gd name="adj2" fmla="val 8794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25" name=""/>
          <p:cNvGrpSpPr/>
          <p:nvPr/>
        </p:nvGrpSpPr>
        <p:grpSpPr>
          <a:xfrm>
            <a:off x="628560" y="1119240"/>
            <a:ext cx="609840" cy="824040"/>
            <a:chOff x="628560" y="1119240"/>
            <a:chExt cx="609840" cy="824040"/>
          </a:xfrm>
        </p:grpSpPr>
        <p:grpSp>
          <p:nvGrpSpPr>
            <p:cNvPr id="6726" name=""/>
            <p:cNvGrpSpPr/>
            <p:nvPr/>
          </p:nvGrpSpPr>
          <p:grpSpPr>
            <a:xfrm>
              <a:off x="628560" y="1119240"/>
              <a:ext cx="609840" cy="824040"/>
              <a:chOff x="628560" y="1119240"/>
              <a:chExt cx="609840" cy="824040"/>
            </a:xfrm>
          </p:grpSpPr>
          <p:grpSp>
            <p:nvGrpSpPr>
              <p:cNvPr id="6727" name=""/>
              <p:cNvGrpSpPr/>
              <p:nvPr/>
            </p:nvGrpSpPr>
            <p:grpSpPr>
              <a:xfrm>
                <a:off x="628560" y="1268280"/>
                <a:ext cx="221400" cy="675000"/>
                <a:chOff x="628560" y="1268280"/>
                <a:chExt cx="221400" cy="675000"/>
              </a:xfrm>
            </p:grpSpPr>
            <p:sp>
              <p:nvSpPr>
                <p:cNvPr id="6728" name=""/>
                <p:cNvSpPr/>
                <p:nvPr/>
              </p:nvSpPr>
              <p:spPr>
                <a:xfrm>
                  <a:off x="669960" y="1268280"/>
                  <a:ext cx="122040" cy="149760"/>
                </a:xfrm>
                <a:custGeom>
                  <a:avLst/>
                  <a:gdLst/>
                  <a:ahLst/>
                  <a:rect l="l" t="t" r="r" b="b"/>
                  <a:pathLst>
                    <a:path w="490" h="538">
                      <a:moveTo>
                        <a:pt x="121" y="0"/>
                      </a:moveTo>
                      <a:lnTo>
                        <a:pt x="202" y="0"/>
                      </a:lnTo>
                      <a:lnTo>
                        <a:pt x="282" y="32"/>
                      </a:lnTo>
                      <a:lnTo>
                        <a:pt x="329" y="59"/>
                      </a:lnTo>
                      <a:lnTo>
                        <a:pt x="362" y="156"/>
                      </a:lnTo>
                      <a:lnTo>
                        <a:pt x="383" y="215"/>
                      </a:lnTo>
                      <a:lnTo>
                        <a:pt x="463" y="150"/>
                      </a:lnTo>
                      <a:lnTo>
                        <a:pt x="490" y="156"/>
                      </a:lnTo>
                      <a:lnTo>
                        <a:pt x="484" y="187"/>
                      </a:lnTo>
                      <a:lnTo>
                        <a:pt x="383" y="292"/>
                      </a:lnTo>
                      <a:lnTo>
                        <a:pt x="383" y="369"/>
                      </a:lnTo>
                      <a:lnTo>
                        <a:pt x="362" y="447"/>
                      </a:lnTo>
                      <a:lnTo>
                        <a:pt x="329" y="506"/>
                      </a:lnTo>
                      <a:lnTo>
                        <a:pt x="282" y="538"/>
                      </a:lnTo>
                      <a:lnTo>
                        <a:pt x="222" y="538"/>
                      </a:lnTo>
                      <a:lnTo>
                        <a:pt x="140" y="506"/>
                      </a:lnTo>
                      <a:lnTo>
                        <a:pt x="87" y="441"/>
                      </a:lnTo>
                      <a:lnTo>
                        <a:pt x="41" y="343"/>
                      </a:lnTo>
                      <a:lnTo>
                        <a:pt x="6" y="252"/>
                      </a:lnTo>
                      <a:lnTo>
                        <a:pt x="0" y="130"/>
                      </a:lnTo>
                      <a:lnTo>
                        <a:pt x="20" y="71"/>
                      </a:lnTo>
                      <a:lnTo>
                        <a:pt x="47" y="32"/>
                      </a:lnTo>
                      <a:lnTo>
                        <a:pt x="12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29" name=""/>
                <p:cNvSpPr/>
                <p:nvPr/>
              </p:nvSpPr>
              <p:spPr>
                <a:xfrm>
                  <a:off x="695160" y="1437120"/>
                  <a:ext cx="86040" cy="258480"/>
                </a:xfrm>
                <a:custGeom>
                  <a:avLst/>
                  <a:gdLst/>
                  <a:ahLst/>
                  <a:rect l="l" t="t" r="r" b="b"/>
                  <a:pathLst>
                    <a:path w="347" h="929">
                      <a:moveTo>
                        <a:pt x="47" y="32"/>
                      </a:moveTo>
                      <a:lnTo>
                        <a:pt x="100" y="0"/>
                      </a:lnTo>
                      <a:lnTo>
                        <a:pt x="180" y="0"/>
                      </a:lnTo>
                      <a:lnTo>
                        <a:pt x="240" y="20"/>
                      </a:lnTo>
                      <a:lnTo>
                        <a:pt x="281" y="89"/>
                      </a:lnTo>
                      <a:lnTo>
                        <a:pt x="320" y="206"/>
                      </a:lnTo>
                      <a:lnTo>
                        <a:pt x="341" y="334"/>
                      </a:lnTo>
                      <a:lnTo>
                        <a:pt x="347" y="486"/>
                      </a:lnTo>
                      <a:lnTo>
                        <a:pt x="347" y="660"/>
                      </a:lnTo>
                      <a:lnTo>
                        <a:pt x="320" y="800"/>
                      </a:lnTo>
                      <a:lnTo>
                        <a:pt x="281" y="877"/>
                      </a:lnTo>
                      <a:lnTo>
                        <a:pt x="187" y="929"/>
                      </a:lnTo>
                      <a:lnTo>
                        <a:pt x="140" y="917"/>
                      </a:lnTo>
                      <a:lnTo>
                        <a:pt x="80" y="858"/>
                      </a:lnTo>
                      <a:lnTo>
                        <a:pt x="60" y="775"/>
                      </a:lnTo>
                      <a:lnTo>
                        <a:pt x="41" y="621"/>
                      </a:lnTo>
                      <a:lnTo>
                        <a:pt x="60" y="512"/>
                      </a:lnTo>
                      <a:lnTo>
                        <a:pt x="60" y="397"/>
                      </a:lnTo>
                      <a:lnTo>
                        <a:pt x="27" y="320"/>
                      </a:lnTo>
                      <a:lnTo>
                        <a:pt x="0" y="218"/>
                      </a:lnTo>
                      <a:lnTo>
                        <a:pt x="0" y="109"/>
                      </a:lnTo>
                      <a:lnTo>
                        <a:pt x="47" y="3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30" name=""/>
                <p:cNvSpPr/>
                <p:nvPr/>
              </p:nvSpPr>
              <p:spPr>
                <a:xfrm>
                  <a:off x="735480" y="1446480"/>
                  <a:ext cx="114480" cy="255600"/>
                </a:xfrm>
                <a:custGeom>
                  <a:avLst/>
                  <a:gdLst/>
                  <a:ahLst/>
                  <a:rect l="l" t="t" r="r" b="b"/>
                  <a:pathLst>
                    <a:path w="460" h="918">
                      <a:moveTo>
                        <a:pt x="53" y="0"/>
                      </a:moveTo>
                      <a:lnTo>
                        <a:pt x="201" y="32"/>
                      </a:lnTo>
                      <a:lnTo>
                        <a:pt x="314" y="109"/>
                      </a:lnTo>
                      <a:lnTo>
                        <a:pt x="400" y="237"/>
                      </a:lnTo>
                      <a:lnTo>
                        <a:pt x="454" y="359"/>
                      </a:lnTo>
                      <a:lnTo>
                        <a:pt x="460" y="494"/>
                      </a:lnTo>
                      <a:lnTo>
                        <a:pt x="419" y="584"/>
                      </a:lnTo>
                      <a:lnTo>
                        <a:pt x="320" y="642"/>
                      </a:lnTo>
                      <a:lnTo>
                        <a:pt x="240" y="681"/>
                      </a:lnTo>
                      <a:lnTo>
                        <a:pt x="240" y="719"/>
                      </a:lnTo>
                      <a:lnTo>
                        <a:pt x="293" y="764"/>
                      </a:lnTo>
                      <a:lnTo>
                        <a:pt x="320" y="860"/>
                      </a:lnTo>
                      <a:lnTo>
                        <a:pt x="293" y="918"/>
                      </a:lnTo>
                      <a:lnTo>
                        <a:pt x="259" y="892"/>
                      </a:lnTo>
                      <a:lnTo>
                        <a:pt x="259" y="841"/>
                      </a:lnTo>
                      <a:lnTo>
                        <a:pt x="234" y="764"/>
                      </a:lnTo>
                      <a:lnTo>
                        <a:pt x="193" y="719"/>
                      </a:lnTo>
                      <a:lnTo>
                        <a:pt x="179" y="661"/>
                      </a:lnTo>
                      <a:lnTo>
                        <a:pt x="240" y="622"/>
                      </a:lnTo>
                      <a:lnTo>
                        <a:pt x="353" y="545"/>
                      </a:lnTo>
                      <a:lnTo>
                        <a:pt x="400" y="476"/>
                      </a:lnTo>
                      <a:lnTo>
                        <a:pt x="400" y="399"/>
                      </a:lnTo>
                      <a:lnTo>
                        <a:pt x="339" y="282"/>
                      </a:lnTo>
                      <a:lnTo>
                        <a:pt x="240" y="180"/>
                      </a:lnTo>
                      <a:lnTo>
                        <a:pt x="179" y="128"/>
                      </a:lnTo>
                      <a:lnTo>
                        <a:pt x="93" y="109"/>
                      </a:lnTo>
                      <a:lnTo>
                        <a:pt x="0" y="83"/>
                      </a:lnTo>
                      <a:lnTo>
                        <a:pt x="5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31" name=""/>
                <p:cNvSpPr/>
                <p:nvPr/>
              </p:nvSpPr>
              <p:spPr>
                <a:xfrm>
                  <a:off x="628560" y="1445400"/>
                  <a:ext cx="84600" cy="240120"/>
                </a:xfrm>
                <a:custGeom>
                  <a:avLst/>
                  <a:gdLst/>
                  <a:ahLst/>
                  <a:rect l="l" t="t" r="r" b="b"/>
                  <a:pathLst>
                    <a:path w="341" h="861">
                      <a:moveTo>
                        <a:pt x="214" y="39"/>
                      </a:moveTo>
                      <a:lnTo>
                        <a:pt x="281" y="0"/>
                      </a:lnTo>
                      <a:lnTo>
                        <a:pt x="341" y="6"/>
                      </a:lnTo>
                      <a:lnTo>
                        <a:pt x="335" y="77"/>
                      </a:lnTo>
                      <a:lnTo>
                        <a:pt x="294" y="116"/>
                      </a:lnTo>
                      <a:lnTo>
                        <a:pt x="234" y="148"/>
                      </a:lnTo>
                      <a:lnTo>
                        <a:pt x="160" y="231"/>
                      </a:lnTo>
                      <a:lnTo>
                        <a:pt x="80" y="347"/>
                      </a:lnTo>
                      <a:lnTo>
                        <a:pt x="60" y="443"/>
                      </a:lnTo>
                      <a:lnTo>
                        <a:pt x="74" y="501"/>
                      </a:lnTo>
                      <a:lnTo>
                        <a:pt x="94" y="534"/>
                      </a:lnTo>
                      <a:lnTo>
                        <a:pt x="181" y="572"/>
                      </a:lnTo>
                      <a:lnTo>
                        <a:pt x="261" y="597"/>
                      </a:lnTo>
                      <a:lnTo>
                        <a:pt x="294" y="630"/>
                      </a:lnTo>
                      <a:lnTo>
                        <a:pt x="300" y="656"/>
                      </a:lnTo>
                      <a:lnTo>
                        <a:pt x="253" y="707"/>
                      </a:lnTo>
                      <a:lnTo>
                        <a:pt x="234" y="771"/>
                      </a:lnTo>
                      <a:lnTo>
                        <a:pt x="214" y="861"/>
                      </a:lnTo>
                      <a:lnTo>
                        <a:pt x="173" y="848"/>
                      </a:lnTo>
                      <a:lnTo>
                        <a:pt x="173" y="784"/>
                      </a:lnTo>
                      <a:lnTo>
                        <a:pt x="195" y="688"/>
                      </a:lnTo>
                      <a:lnTo>
                        <a:pt x="234" y="649"/>
                      </a:lnTo>
                      <a:lnTo>
                        <a:pt x="160" y="611"/>
                      </a:lnTo>
                      <a:lnTo>
                        <a:pt x="74" y="572"/>
                      </a:lnTo>
                      <a:lnTo>
                        <a:pt x="0" y="514"/>
                      </a:lnTo>
                      <a:lnTo>
                        <a:pt x="0" y="443"/>
                      </a:lnTo>
                      <a:lnTo>
                        <a:pt x="20" y="321"/>
                      </a:lnTo>
                      <a:lnTo>
                        <a:pt x="80" y="205"/>
                      </a:lnTo>
                      <a:lnTo>
                        <a:pt x="154" y="108"/>
                      </a:lnTo>
                      <a:lnTo>
                        <a:pt x="214" y="3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32" name=""/>
                <p:cNvSpPr/>
                <p:nvPr/>
              </p:nvSpPr>
              <p:spPr>
                <a:xfrm>
                  <a:off x="742680" y="1656720"/>
                  <a:ext cx="100800" cy="286560"/>
                </a:xfrm>
                <a:custGeom>
                  <a:avLst/>
                  <a:gdLst/>
                  <a:ahLst/>
                  <a:rect l="l" t="t" r="r" b="b"/>
                  <a:pathLst>
                    <a:path w="402" h="1028">
                      <a:moveTo>
                        <a:pt x="27" y="0"/>
                      </a:moveTo>
                      <a:lnTo>
                        <a:pt x="120" y="38"/>
                      </a:lnTo>
                      <a:lnTo>
                        <a:pt x="167" y="135"/>
                      </a:lnTo>
                      <a:lnTo>
                        <a:pt x="181" y="307"/>
                      </a:lnTo>
                      <a:lnTo>
                        <a:pt x="167" y="593"/>
                      </a:lnTo>
                      <a:lnTo>
                        <a:pt x="128" y="817"/>
                      </a:lnTo>
                      <a:lnTo>
                        <a:pt x="107" y="913"/>
                      </a:lnTo>
                      <a:lnTo>
                        <a:pt x="147" y="933"/>
                      </a:lnTo>
                      <a:lnTo>
                        <a:pt x="227" y="856"/>
                      </a:lnTo>
                      <a:lnTo>
                        <a:pt x="322" y="799"/>
                      </a:lnTo>
                      <a:lnTo>
                        <a:pt x="348" y="805"/>
                      </a:lnTo>
                      <a:lnTo>
                        <a:pt x="402" y="842"/>
                      </a:lnTo>
                      <a:lnTo>
                        <a:pt x="402" y="862"/>
                      </a:lnTo>
                      <a:lnTo>
                        <a:pt x="288" y="913"/>
                      </a:lnTo>
                      <a:lnTo>
                        <a:pt x="167" y="977"/>
                      </a:lnTo>
                      <a:lnTo>
                        <a:pt x="68" y="1028"/>
                      </a:lnTo>
                      <a:lnTo>
                        <a:pt x="19" y="1016"/>
                      </a:lnTo>
                      <a:lnTo>
                        <a:pt x="19" y="957"/>
                      </a:lnTo>
                      <a:lnTo>
                        <a:pt x="60" y="874"/>
                      </a:lnTo>
                      <a:lnTo>
                        <a:pt x="87" y="702"/>
                      </a:lnTo>
                      <a:lnTo>
                        <a:pt x="107" y="498"/>
                      </a:lnTo>
                      <a:lnTo>
                        <a:pt x="120" y="269"/>
                      </a:lnTo>
                      <a:lnTo>
                        <a:pt x="68" y="129"/>
                      </a:lnTo>
                      <a:lnTo>
                        <a:pt x="0" y="71"/>
                      </a:lnTo>
                      <a:lnTo>
                        <a:pt x="2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33" name=""/>
                <p:cNvSpPr/>
                <p:nvPr/>
              </p:nvSpPr>
              <p:spPr>
                <a:xfrm>
                  <a:off x="671400" y="1627920"/>
                  <a:ext cx="77040" cy="313560"/>
                </a:xfrm>
                <a:custGeom>
                  <a:avLst/>
                  <a:gdLst/>
                  <a:ahLst/>
                  <a:rect l="l" t="t" r="r" b="b"/>
                  <a:pathLst>
                    <a:path w="309" h="1127">
                      <a:moveTo>
                        <a:pt x="124" y="223"/>
                      </a:moveTo>
                      <a:lnTo>
                        <a:pt x="207" y="51"/>
                      </a:lnTo>
                      <a:lnTo>
                        <a:pt x="282" y="0"/>
                      </a:lnTo>
                      <a:lnTo>
                        <a:pt x="309" y="32"/>
                      </a:lnTo>
                      <a:lnTo>
                        <a:pt x="288" y="89"/>
                      </a:lnTo>
                      <a:lnTo>
                        <a:pt x="207" y="230"/>
                      </a:lnTo>
                      <a:lnTo>
                        <a:pt x="145" y="376"/>
                      </a:lnTo>
                      <a:lnTo>
                        <a:pt x="103" y="586"/>
                      </a:lnTo>
                      <a:lnTo>
                        <a:pt x="75" y="821"/>
                      </a:lnTo>
                      <a:lnTo>
                        <a:pt x="75" y="1025"/>
                      </a:lnTo>
                      <a:lnTo>
                        <a:pt x="97" y="1007"/>
                      </a:lnTo>
                      <a:lnTo>
                        <a:pt x="145" y="930"/>
                      </a:lnTo>
                      <a:lnTo>
                        <a:pt x="164" y="815"/>
                      </a:lnTo>
                      <a:lnTo>
                        <a:pt x="207" y="815"/>
                      </a:lnTo>
                      <a:lnTo>
                        <a:pt x="261" y="841"/>
                      </a:lnTo>
                      <a:lnTo>
                        <a:pt x="226" y="936"/>
                      </a:lnTo>
                      <a:lnTo>
                        <a:pt x="145" y="1032"/>
                      </a:lnTo>
                      <a:lnTo>
                        <a:pt x="62" y="1127"/>
                      </a:lnTo>
                      <a:lnTo>
                        <a:pt x="21" y="1127"/>
                      </a:lnTo>
                      <a:lnTo>
                        <a:pt x="0" y="1090"/>
                      </a:lnTo>
                      <a:lnTo>
                        <a:pt x="0" y="1007"/>
                      </a:lnTo>
                      <a:lnTo>
                        <a:pt x="14" y="764"/>
                      </a:lnTo>
                      <a:lnTo>
                        <a:pt x="35" y="516"/>
                      </a:lnTo>
                      <a:lnTo>
                        <a:pt x="62" y="338"/>
                      </a:lnTo>
                      <a:lnTo>
                        <a:pt x="124" y="22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734" name=""/>
              <p:cNvSpPr/>
              <p:nvPr/>
            </p:nvSpPr>
            <p:spPr>
              <a:xfrm>
                <a:off x="815040" y="1119240"/>
                <a:ext cx="423360" cy="4467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35" name=""/>
            <p:cNvGrpSpPr/>
            <p:nvPr/>
          </p:nvGrpSpPr>
          <p:grpSpPr>
            <a:xfrm>
              <a:off x="831960" y="1144440"/>
              <a:ext cx="377280" cy="402120"/>
              <a:chOff x="831960" y="1144440"/>
              <a:chExt cx="377280" cy="402120"/>
            </a:xfrm>
          </p:grpSpPr>
          <p:sp>
            <p:nvSpPr>
              <p:cNvPr id="6736" name=""/>
              <p:cNvSpPr/>
              <p:nvPr/>
            </p:nvSpPr>
            <p:spPr>
              <a:xfrm>
                <a:off x="831960" y="1144440"/>
                <a:ext cx="377280" cy="4021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7" name=""/>
              <p:cNvSpPr/>
              <p:nvPr/>
            </p:nvSpPr>
            <p:spPr>
              <a:xfrm rot="18621000">
                <a:off x="897480" y="1302840"/>
                <a:ext cx="113040" cy="173160"/>
              </a:xfrm>
              <a:custGeom>
                <a:avLst/>
                <a:gdLst/>
                <a:ahLst/>
                <a:rect l="l" t="t" r="r" b="b"/>
                <a:pathLst>
                  <a:path w="406" h="695">
                    <a:moveTo>
                      <a:pt x="406" y="610"/>
                    </a:moveTo>
                    <a:lnTo>
                      <a:pt x="154" y="230"/>
                    </a:lnTo>
                    <a:lnTo>
                      <a:pt x="269" y="176"/>
                    </a:lnTo>
                    <a:lnTo>
                      <a:pt x="0" y="0"/>
                    </a:lnTo>
                    <a:lnTo>
                      <a:pt x="8" y="320"/>
                    </a:lnTo>
                    <a:lnTo>
                      <a:pt x="89" y="206"/>
                    </a:lnTo>
                    <a:lnTo>
                      <a:pt x="358" y="695"/>
                    </a:lnTo>
                    <a:lnTo>
                      <a:pt x="406" y="6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738" name=""/>
          <p:cNvGrpSpPr/>
          <p:nvPr/>
        </p:nvGrpSpPr>
        <p:grpSpPr>
          <a:xfrm>
            <a:off x="2989080" y="1233360"/>
            <a:ext cx="609480" cy="747360"/>
            <a:chOff x="2989080" y="1233360"/>
            <a:chExt cx="609480" cy="747360"/>
          </a:xfrm>
        </p:grpSpPr>
        <p:sp>
          <p:nvSpPr>
            <p:cNvPr id="6739" name=""/>
            <p:cNvSpPr/>
            <p:nvPr/>
          </p:nvSpPr>
          <p:spPr>
            <a:xfrm flipH="1">
              <a:off x="2988720" y="1233360"/>
              <a:ext cx="423000" cy="4053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40" name=""/>
            <p:cNvGrpSpPr/>
            <p:nvPr/>
          </p:nvGrpSpPr>
          <p:grpSpPr>
            <a:xfrm>
              <a:off x="3018240" y="1256400"/>
              <a:ext cx="580320" cy="724320"/>
              <a:chOff x="3018240" y="1256400"/>
              <a:chExt cx="580320" cy="724320"/>
            </a:xfrm>
          </p:grpSpPr>
          <p:grpSp>
            <p:nvGrpSpPr>
              <p:cNvPr id="6741" name=""/>
              <p:cNvGrpSpPr/>
              <p:nvPr/>
            </p:nvGrpSpPr>
            <p:grpSpPr>
              <a:xfrm>
                <a:off x="3377160" y="1368360"/>
                <a:ext cx="221400" cy="612360"/>
                <a:chOff x="3377160" y="1368360"/>
                <a:chExt cx="221400" cy="612360"/>
              </a:xfrm>
            </p:grpSpPr>
            <p:sp>
              <p:nvSpPr>
                <p:cNvPr id="6742" name=""/>
                <p:cNvSpPr/>
                <p:nvPr/>
              </p:nvSpPr>
              <p:spPr>
                <a:xfrm flipH="1">
                  <a:off x="3435120" y="1368360"/>
                  <a:ext cx="122040" cy="136080"/>
                </a:xfrm>
                <a:custGeom>
                  <a:avLst/>
                  <a:gdLst/>
                  <a:ahLst/>
                  <a:rect l="l" t="t" r="r" b="b"/>
                  <a:pathLst>
                    <a:path w="490" h="538">
                      <a:moveTo>
                        <a:pt x="121" y="0"/>
                      </a:moveTo>
                      <a:lnTo>
                        <a:pt x="202" y="0"/>
                      </a:lnTo>
                      <a:lnTo>
                        <a:pt x="282" y="32"/>
                      </a:lnTo>
                      <a:lnTo>
                        <a:pt x="329" y="59"/>
                      </a:lnTo>
                      <a:lnTo>
                        <a:pt x="362" y="156"/>
                      </a:lnTo>
                      <a:lnTo>
                        <a:pt x="383" y="215"/>
                      </a:lnTo>
                      <a:lnTo>
                        <a:pt x="463" y="150"/>
                      </a:lnTo>
                      <a:lnTo>
                        <a:pt x="490" y="156"/>
                      </a:lnTo>
                      <a:lnTo>
                        <a:pt x="484" y="187"/>
                      </a:lnTo>
                      <a:lnTo>
                        <a:pt x="383" y="292"/>
                      </a:lnTo>
                      <a:lnTo>
                        <a:pt x="383" y="369"/>
                      </a:lnTo>
                      <a:lnTo>
                        <a:pt x="362" y="447"/>
                      </a:lnTo>
                      <a:lnTo>
                        <a:pt x="329" y="506"/>
                      </a:lnTo>
                      <a:lnTo>
                        <a:pt x="282" y="538"/>
                      </a:lnTo>
                      <a:lnTo>
                        <a:pt x="222" y="538"/>
                      </a:lnTo>
                      <a:lnTo>
                        <a:pt x="140" y="506"/>
                      </a:lnTo>
                      <a:lnTo>
                        <a:pt x="87" y="441"/>
                      </a:lnTo>
                      <a:lnTo>
                        <a:pt x="41" y="343"/>
                      </a:lnTo>
                      <a:lnTo>
                        <a:pt x="6" y="252"/>
                      </a:lnTo>
                      <a:lnTo>
                        <a:pt x="0" y="130"/>
                      </a:lnTo>
                      <a:lnTo>
                        <a:pt x="20" y="71"/>
                      </a:lnTo>
                      <a:lnTo>
                        <a:pt x="47" y="32"/>
                      </a:lnTo>
                      <a:lnTo>
                        <a:pt x="12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43" name=""/>
                <p:cNvSpPr/>
                <p:nvPr/>
              </p:nvSpPr>
              <p:spPr>
                <a:xfrm flipH="1">
                  <a:off x="3445560" y="1521360"/>
                  <a:ext cx="86040" cy="234360"/>
                </a:xfrm>
                <a:custGeom>
                  <a:avLst/>
                  <a:gdLst/>
                  <a:ahLst/>
                  <a:rect l="l" t="t" r="r" b="b"/>
                  <a:pathLst>
                    <a:path w="347" h="929">
                      <a:moveTo>
                        <a:pt x="47" y="32"/>
                      </a:moveTo>
                      <a:lnTo>
                        <a:pt x="100" y="0"/>
                      </a:lnTo>
                      <a:lnTo>
                        <a:pt x="180" y="0"/>
                      </a:lnTo>
                      <a:lnTo>
                        <a:pt x="240" y="20"/>
                      </a:lnTo>
                      <a:lnTo>
                        <a:pt x="281" y="89"/>
                      </a:lnTo>
                      <a:lnTo>
                        <a:pt x="320" y="206"/>
                      </a:lnTo>
                      <a:lnTo>
                        <a:pt x="341" y="334"/>
                      </a:lnTo>
                      <a:lnTo>
                        <a:pt x="347" y="486"/>
                      </a:lnTo>
                      <a:lnTo>
                        <a:pt x="347" y="660"/>
                      </a:lnTo>
                      <a:lnTo>
                        <a:pt x="320" y="800"/>
                      </a:lnTo>
                      <a:lnTo>
                        <a:pt x="281" y="877"/>
                      </a:lnTo>
                      <a:lnTo>
                        <a:pt x="187" y="929"/>
                      </a:lnTo>
                      <a:lnTo>
                        <a:pt x="140" y="917"/>
                      </a:lnTo>
                      <a:lnTo>
                        <a:pt x="80" y="858"/>
                      </a:lnTo>
                      <a:lnTo>
                        <a:pt x="60" y="775"/>
                      </a:lnTo>
                      <a:lnTo>
                        <a:pt x="41" y="621"/>
                      </a:lnTo>
                      <a:lnTo>
                        <a:pt x="60" y="512"/>
                      </a:lnTo>
                      <a:lnTo>
                        <a:pt x="60" y="397"/>
                      </a:lnTo>
                      <a:lnTo>
                        <a:pt x="27" y="320"/>
                      </a:lnTo>
                      <a:lnTo>
                        <a:pt x="0" y="218"/>
                      </a:lnTo>
                      <a:lnTo>
                        <a:pt x="0" y="109"/>
                      </a:lnTo>
                      <a:lnTo>
                        <a:pt x="47" y="3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44" name=""/>
                <p:cNvSpPr/>
                <p:nvPr/>
              </p:nvSpPr>
              <p:spPr>
                <a:xfrm flipH="1">
                  <a:off x="3377160" y="1530000"/>
                  <a:ext cx="114480" cy="231840"/>
                </a:xfrm>
                <a:custGeom>
                  <a:avLst/>
                  <a:gdLst/>
                  <a:ahLst/>
                  <a:rect l="l" t="t" r="r" b="b"/>
                  <a:pathLst>
                    <a:path w="460" h="918">
                      <a:moveTo>
                        <a:pt x="53" y="0"/>
                      </a:moveTo>
                      <a:lnTo>
                        <a:pt x="201" y="32"/>
                      </a:lnTo>
                      <a:lnTo>
                        <a:pt x="314" y="109"/>
                      </a:lnTo>
                      <a:lnTo>
                        <a:pt x="400" y="237"/>
                      </a:lnTo>
                      <a:lnTo>
                        <a:pt x="454" y="359"/>
                      </a:lnTo>
                      <a:lnTo>
                        <a:pt x="460" y="494"/>
                      </a:lnTo>
                      <a:lnTo>
                        <a:pt x="419" y="584"/>
                      </a:lnTo>
                      <a:lnTo>
                        <a:pt x="320" y="642"/>
                      </a:lnTo>
                      <a:lnTo>
                        <a:pt x="240" y="681"/>
                      </a:lnTo>
                      <a:lnTo>
                        <a:pt x="240" y="719"/>
                      </a:lnTo>
                      <a:lnTo>
                        <a:pt x="293" y="764"/>
                      </a:lnTo>
                      <a:lnTo>
                        <a:pt x="320" y="860"/>
                      </a:lnTo>
                      <a:lnTo>
                        <a:pt x="293" y="918"/>
                      </a:lnTo>
                      <a:lnTo>
                        <a:pt x="259" y="892"/>
                      </a:lnTo>
                      <a:lnTo>
                        <a:pt x="259" y="841"/>
                      </a:lnTo>
                      <a:lnTo>
                        <a:pt x="234" y="764"/>
                      </a:lnTo>
                      <a:lnTo>
                        <a:pt x="193" y="719"/>
                      </a:lnTo>
                      <a:lnTo>
                        <a:pt x="179" y="661"/>
                      </a:lnTo>
                      <a:lnTo>
                        <a:pt x="240" y="622"/>
                      </a:lnTo>
                      <a:lnTo>
                        <a:pt x="353" y="545"/>
                      </a:lnTo>
                      <a:lnTo>
                        <a:pt x="400" y="476"/>
                      </a:lnTo>
                      <a:lnTo>
                        <a:pt x="400" y="399"/>
                      </a:lnTo>
                      <a:lnTo>
                        <a:pt x="339" y="282"/>
                      </a:lnTo>
                      <a:lnTo>
                        <a:pt x="240" y="180"/>
                      </a:lnTo>
                      <a:lnTo>
                        <a:pt x="179" y="128"/>
                      </a:lnTo>
                      <a:lnTo>
                        <a:pt x="93" y="109"/>
                      </a:lnTo>
                      <a:lnTo>
                        <a:pt x="0" y="83"/>
                      </a:lnTo>
                      <a:lnTo>
                        <a:pt x="5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45" name=""/>
                <p:cNvSpPr/>
                <p:nvPr/>
              </p:nvSpPr>
              <p:spPr>
                <a:xfrm flipH="1">
                  <a:off x="3513600" y="1529280"/>
                  <a:ext cx="84600" cy="217800"/>
                </a:xfrm>
                <a:custGeom>
                  <a:avLst/>
                  <a:gdLst/>
                  <a:ahLst/>
                  <a:rect l="l" t="t" r="r" b="b"/>
                  <a:pathLst>
                    <a:path w="341" h="861">
                      <a:moveTo>
                        <a:pt x="214" y="39"/>
                      </a:moveTo>
                      <a:lnTo>
                        <a:pt x="281" y="0"/>
                      </a:lnTo>
                      <a:lnTo>
                        <a:pt x="341" y="6"/>
                      </a:lnTo>
                      <a:lnTo>
                        <a:pt x="335" y="77"/>
                      </a:lnTo>
                      <a:lnTo>
                        <a:pt x="294" y="116"/>
                      </a:lnTo>
                      <a:lnTo>
                        <a:pt x="234" y="148"/>
                      </a:lnTo>
                      <a:lnTo>
                        <a:pt x="160" y="231"/>
                      </a:lnTo>
                      <a:lnTo>
                        <a:pt x="80" y="347"/>
                      </a:lnTo>
                      <a:lnTo>
                        <a:pt x="60" y="443"/>
                      </a:lnTo>
                      <a:lnTo>
                        <a:pt x="74" y="501"/>
                      </a:lnTo>
                      <a:lnTo>
                        <a:pt x="94" y="534"/>
                      </a:lnTo>
                      <a:lnTo>
                        <a:pt x="181" y="572"/>
                      </a:lnTo>
                      <a:lnTo>
                        <a:pt x="261" y="597"/>
                      </a:lnTo>
                      <a:lnTo>
                        <a:pt x="294" y="630"/>
                      </a:lnTo>
                      <a:lnTo>
                        <a:pt x="300" y="656"/>
                      </a:lnTo>
                      <a:lnTo>
                        <a:pt x="253" y="707"/>
                      </a:lnTo>
                      <a:lnTo>
                        <a:pt x="234" y="771"/>
                      </a:lnTo>
                      <a:lnTo>
                        <a:pt x="214" y="861"/>
                      </a:lnTo>
                      <a:lnTo>
                        <a:pt x="173" y="848"/>
                      </a:lnTo>
                      <a:lnTo>
                        <a:pt x="173" y="784"/>
                      </a:lnTo>
                      <a:lnTo>
                        <a:pt x="195" y="688"/>
                      </a:lnTo>
                      <a:lnTo>
                        <a:pt x="234" y="649"/>
                      </a:lnTo>
                      <a:lnTo>
                        <a:pt x="160" y="611"/>
                      </a:lnTo>
                      <a:lnTo>
                        <a:pt x="74" y="572"/>
                      </a:lnTo>
                      <a:lnTo>
                        <a:pt x="0" y="514"/>
                      </a:lnTo>
                      <a:lnTo>
                        <a:pt x="0" y="443"/>
                      </a:lnTo>
                      <a:lnTo>
                        <a:pt x="20" y="321"/>
                      </a:lnTo>
                      <a:lnTo>
                        <a:pt x="80" y="205"/>
                      </a:lnTo>
                      <a:lnTo>
                        <a:pt x="154" y="108"/>
                      </a:lnTo>
                      <a:lnTo>
                        <a:pt x="214" y="3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46" name=""/>
                <p:cNvSpPr/>
                <p:nvPr/>
              </p:nvSpPr>
              <p:spPr>
                <a:xfrm flipH="1">
                  <a:off x="3383640" y="1720800"/>
                  <a:ext cx="100440" cy="259920"/>
                </a:xfrm>
                <a:custGeom>
                  <a:avLst/>
                  <a:gdLst/>
                  <a:ahLst/>
                  <a:rect l="l" t="t" r="r" b="b"/>
                  <a:pathLst>
                    <a:path w="402" h="1028">
                      <a:moveTo>
                        <a:pt x="27" y="0"/>
                      </a:moveTo>
                      <a:lnTo>
                        <a:pt x="120" y="38"/>
                      </a:lnTo>
                      <a:lnTo>
                        <a:pt x="167" y="135"/>
                      </a:lnTo>
                      <a:lnTo>
                        <a:pt x="181" y="307"/>
                      </a:lnTo>
                      <a:lnTo>
                        <a:pt x="167" y="593"/>
                      </a:lnTo>
                      <a:lnTo>
                        <a:pt x="128" y="817"/>
                      </a:lnTo>
                      <a:lnTo>
                        <a:pt x="107" y="913"/>
                      </a:lnTo>
                      <a:lnTo>
                        <a:pt x="147" y="933"/>
                      </a:lnTo>
                      <a:lnTo>
                        <a:pt x="227" y="856"/>
                      </a:lnTo>
                      <a:lnTo>
                        <a:pt x="322" y="799"/>
                      </a:lnTo>
                      <a:lnTo>
                        <a:pt x="348" y="805"/>
                      </a:lnTo>
                      <a:lnTo>
                        <a:pt x="402" y="842"/>
                      </a:lnTo>
                      <a:lnTo>
                        <a:pt x="402" y="862"/>
                      </a:lnTo>
                      <a:lnTo>
                        <a:pt x="288" y="913"/>
                      </a:lnTo>
                      <a:lnTo>
                        <a:pt x="167" y="977"/>
                      </a:lnTo>
                      <a:lnTo>
                        <a:pt x="68" y="1028"/>
                      </a:lnTo>
                      <a:lnTo>
                        <a:pt x="19" y="1016"/>
                      </a:lnTo>
                      <a:lnTo>
                        <a:pt x="19" y="957"/>
                      </a:lnTo>
                      <a:lnTo>
                        <a:pt x="60" y="874"/>
                      </a:lnTo>
                      <a:lnTo>
                        <a:pt x="87" y="702"/>
                      </a:lnTo>
                      <a:lnTo>
                        <a:pt x="107" y="498"/>
                      </a:lnTo>
                      <a:lnTo>
                        <a:pt x="120" y="269"/>
                      </a:lnTo>
                      <a:lnTo>
                        <a:pt x="68" y="129"/>
                      </a:lnTo>
                      <a:lnTo>
                        <a:pt x="0" y="71"/>
                      </a:lnTo>
                      <a:lnTo>
                        <a:pt x="2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47" name=""/>
                <p:cNvSpPr/>
                <p:nvPr/>
              </p:nvSpPr>
              <p:spPr>
                <a:xfrm flipH="1">
                  <a:off x="3478680" y="1694520"/>
                  <a:ext cx="77040" cy="284400"/>
                </a:xfrm>
                <a:custGeom>
                  <a:avLst/>
                  <a:gdLst/>
                  <a:ahLst/>
                  <a:rect l="l" t="t" r="r" b="b"/>
                  <a:pathLst>
                    <a:path w="309" h="1127">
                      <a:moveTo>
                        <a:pt x="124" y="223"/>
                      </a:moveTo>
                      <a:lnTo>
                        <a:pt x="207" y="51"/>
                      </a:lnTo>
                      <a:lnTo>
                        <a:pt x="282" y="0"/>
                      </a:lnTo>
                      <a:lnTo>
                        <a:pt x="309" y="32"/>
                      </a:lnTo>
                      <a:lnTo>
                        <a:pt x="288" y="89"/>
                      </a:lnTo>
                      <a:lnTo>
                        <a:pt x="207" y="230"/>
                      </a:lnTo>
                      <a:lnTo>
                        <a:pt x="145" y="376"/>
                      </a:lnTo>
                      <a:lnTo>
                        <a:pt x="103" y="586"/>
                      </a:lnTo>
                      <a:lnTo>
                        <a:pt x="75" y="821"/>
                      </a:lnTo>
                      <a:lnTo>
                        <a:pt x="75" y="1025"/>
                      </a:lnTo>
                      <a:lnTo>
                        <a:pt x="97" y="1007"/>
                      </a:lnTo>
                      <a:lnTo>
                        <a:pt x="145" y="930"/>
                      </a:lnTo>
                      <a:lnTo>
                        <a:pt x="164" y="815"/>
                      </a:lnTo>
                      <a:lnTo>
                        <a:pt x="207" y="815"/>
                      </a:lnTo>
                      <a:lnTo>
                        <a:pt x="261" y="841"/>
                      </a:lnTo>
                      <a:lnTo>
                        <a:pt x="226" y="936"/>
                      </a:lnTo>
                      <a:lnTo>
                        <a:pt x="145" y="1032"/>
                      </a:lnTo>
                      <a:lnTo>
                        <a:pt x="62" y="1127"/>
                      </a:lnTo>
                      <a:lnTo>
                        <a:pt x="21" y="1127"/>
                      </a:lnTo>
                      <a:lnTo>
                        <a:pt x="0" y="1090"/>
                      </a:lnTo>
                      <a:lnTo>
                        <a:pt x="0" y="1007"/>
                      </a:lnTo>
                      <a:lnTo>
                        <a:pt x="14" y="764"/>
                      </a:lnTo>
                      <a:lnTo>
                        <a:pt x="35" y="516"/>
                      </a:lnTo>
                      <a:lnTo>
                        <a:pt x="62" y="338"/>
                      </a:lnTo>
                      <a:lnTo>
                        <a:pt x="124" y="22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748" name=""/>
              <p:cNvSpPr/>
              <p:nvPr/>
            </p:nvSpPr>
            <p:spPr>
              <a:xfrm flipH="1">
                <a:off x="3018240" y="1256400"/>
                <a:ext cx="377280" cy="3650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9" name=""/>
              <p:cNvSpPr/>
              <p:nvPr/>
            </p:nvSpPr>
            <p:spPr>
              <a:xfrm rot="17359800">
                <a:off x="3227760" y="1379520"/>
                <a:ext cx="145440" cy="143640"/>
              </a:xfrm>
              <a:custGeom>
                <a:avLst/>
                <a:gdLst/>
                <a:ahLst/>
                <a:rect l="l" t="t" r="r" b="b"/>
                <a:pathLst>
                  <a:path w="400" h="404">
                    <a:moveTo>
                      <a:pt x="0" y="51"/>
                    </a:moveTo>
                    <a:lnTo>
                      <a:pt x="310" y="327"/>
                    </a:lnTo>
                    <a:lnTo>
                      <a:pt x="181" y="360"/>
                    </a:lnTo>
                    <a:lnTo>
                      <a:pt x="400" y="404"/>
                    </a:lnTo>
                    <a:lnTo>
                      <a:pt x="364" y="155"/>
                    </a:lnTo>
                    <a:lnTo>
                      <a:pt x="328" y="292"/>
                    </a:lnTo>
                    <a:lnTo>
                      <a:pt x="64" y="0"/>
                    </a:lnTo>
                    <a:lnTo>
                      <a:pt x="0" y="5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750" name=""/>
          <p:cNvSpPr/>
          <p:nvPr/>
        </p:nvSpPr>
        <p:spPr>
          <a:xfrm>
            <a:off x="168120" y="1979640"/>
            <a:ext cx="142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Nízkotlak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barorecept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1" name=""/>
          <p:cNvSpPr/>
          <p:nvPr/>
        </p:nvSpPr>
        <p:spPr>
          <a:xfrm>
            <a:off x="3144600" y="1995480"/>
            <a:ext cx="142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Vysokotlak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barorecept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2" name=""/>
          <p:cNvSpPr/>
          <p:nvPr/>
        </p:nvSpPr>
        <p:spPr>
          <a:xfrm>
            <a:off x="704520" y="4699080"/>
            <a:ext cx="146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Jaterní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osmorecept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53" name=""/>
          <p:cNvGrpSpPr/>
          <p:nvPr/>
        </p:nvGrpSpPr>
        <p:grpSpPr>
          <a:xfrm>
            <a:off x="550800" y="4336920"/>
            <a:ext cx="228240" cy="728280"/>
            <a:chOff x="550800" y="4336920"/>
            <a:chExt cx="228240" cy="728280"/>
          </a:xfrm>
        </p:grpSpPr>
        <p:sp>
          <p:nvSpPr>
            <p:cNvPr id="6754" name=""/>
            <p:cNvSpPr/>
            <p:nvPr/>
          </p:nvSpPr>
          <p:spPr>
            <a:xfrm flipH="1">
              <a:off x="586440" y="4366080"/>
              <a:ext cx="134280" cy="166680"/>
            </a:xfrm>
            <a:custGeom>
              <a:avLst/>
              <a:gdLst/>
              <a:ahLst/>
              <a:rect l="l" t="t" r="r" b="b"/>
              <a:pathLst>
                <a:path w="608" h="594">
                  <a:moveTo>
                    <a:pt x="185" y="250"/>
                  </a:moveTo>
                  <a:lnTo>
                    <a:pt x="238" y="171"/>
                  </a:lnTo>
                  <a:lnTo>
                    <a:pt x="297" y="112"/>
                  </a:lnTo>
                  <a:lnTo>
                    <a:pt x="357" y="39"/>
                  </a:lnTo>
                  <a:lnTo>
                    <a:pt x="430" y="6"/>
                  </a:lnTo>
                  <a:lnTo>
                    <a:pt x="489" y="0"/>
                  </a:lnTo>
                  <a:lnTo>
                    <a:pt x="549" y="19"/>
                  </a:lnTo>
                  <a:lnTo>
                    <a:pt x="581" y="65"/>
                  </a:lnTo>
                  <a:lnTo>
                    <a:pt x="608" y="152"/>
                  </a:lnTo>
                  <a:lnTo>
                    <a:pt x="601" y="244"/>
                  </a:lnTo>
                  <a:lnTo>
                    <a:pt x="575" y="323"/>
                  </a:lnTo>
                  <a:lnTo>
                    <a:pt x="509" y="416"/>
                  </a:lnTo>
                  <a:lnTo>
                    <a:pt x="436" y="482"/>
                  </a:lnTo>
                  <a:lnTo>
                    <a:pt x="357" y="541"/>
                  </a:lnTo>
                  <a:lnTo>
                    <a:pt x="271" y="581"/>
                  </a:lnTo>
                  <a:lnTo>
                    <a:pt x="198" y="594"/>
                  </a:lnTo>
                  <a:lnTo>
                    <a:pt x="166" y="575"/>
                  </a:lnTo>
                  <a:lnTo>
                    <a:pt x="138" y="496"/>
                  </a:lnTo>
                  <a:lnTo>
                    <a:pt x="145" y="390"/>
                  </a:lnTo>
                  <a:lnTo>
                    <a:pt x="19" y="396"/>
                  </a:lnTo>
                  <a:lnTo>
                    <a:pt x="0" y="376"/>
                  </a:lnTo>
                  <a:lnTo>
                    <a:pt x="19" y="337"/>
                  </a:lnTo>
                  <a:lnTo>
                    <a:pt x="152" y="330"/>
                  </a:lnTo>
                  <a:lnTo>
                    <a:pt x="185" y="2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5" name=""/>
            <p:cNvSpPr/>
            <p:nvPr/>
          </p:nvSpPr>
          <p:spPr>
            <a:xfrm flipH="1">
              <a:off x="635040" y="4541760"/>
              <a:ext cx="92520" cy="244080"/>
            </a:xfrm>
            <a:custGeom>
              <a:avLst/>
              <a:gdLst/>
              <a:ahLst/>
              <a:rect l="l" t="t" r="r" b="b"/>
              <a:pathLst>
                <a:path w="422" h="874">
                  <a:moveTo>
                    <a:pt x="119" y="74"/>
                  </a:moveTo>
                  <a:lnTo>
                    <a:pt x="178" y="21"/>
                  </a:lnTo>
                  <a:lnTo>
                    <a:pt x="270" y="0"/>
                  </a:lnTo>
                  <a:lnTo>
                    <a:pt x="349" y="14"/>
                  </a:lnTo>
                  <a:lnTo>
                    <a:pt x="408" y="67"/>
                  </a:lnTo>
                  <a:lnTo>
                    <a:pt x="422" y="107"/>
                  </a:lnTo>
                  <a:lnTo>
                    <a:pt x="422" y="159"/>
                  </a:lnTo>
                  <a:lnTo>
                    <a:pt x="396" y="206"/>
                  </a:lnTo>
                  <a:lnTo>
                    <a:pt x="349" y="285"/>
                  </a:lnTo>
                  <a:lnTo>
                    <a:pt x="330" y="378"/>
                  </a:lnTo>
                  <a:lnTo>
                    <a:pt x="323" y="456"/>
                  </a:lnTo>
                  <a:lnTo>
                    <a:pt x="342" y="543"/>
                  </a:lnTo>
                  <a:lnTo>
                    <a:pt x="396" y="622"/>
                  </a:lnTo>
                  <a:lnTo>
                    <a:pt x="415" y="702"/>
                  </a:lnTo>
                  <a:lnTo>
                    <a:pt x="408" y="774"/>
                  </a:lnTo>
                  <a:lnTo>
                    <a:pt x="370" y="834"/>
                  </a:lnTo>
                  <a:lnTo>
                    <a:pt x="316" y="867"/>
                  </a:lnTo>
                  <a:lnTo>
                    <a:pt x="251" y="874"/>
                  </a:lnTo>
                  <a:lnTo>
                    <a:pt x="171" y="874"/>
                  </a:lnTo>
                  <a:lnTo>
                    <a:pt x="112" y="840"/>
                  </a:lnTo>
                  <a:lnTo>
                    <a:pt x="52" y="741"/>
                  </a:lnTo>
                  <a:lnTo>
                    <a:pt x="14" y="655"/>
                  </a:lnTo>
                  <a:lnTo>
                    <a:pt x="0" y="523"/>
                  </a:lnTo>
                  <a:lnTo>
                    <a:pt x="14" y="404"/>
                  </a:lnTo>
                  <a:lnTo>
                    <a:pt x="40" y="278"/>
                  </a:lnTo>
                  <a:lnTo>
                    <a:pt x="80" y="152"/>
                  </a:lnTo>
                  <a:lnTo>
                    <a:pt x="119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6" name=""/>
            <p:cNvSpPr/>
            <p:nvPr/>
          </p:nvSpPr>
          <p:spPr>
            <a:xfrm flipH="1">
              <a:off x="550800" y="4549320"/>
              <a:ext cx="102960" cy="219240"/>
            </a:xfrm>
            <a:custGeom>
              <a:avLst/>
              <a:gdLst/>
              <a:ahLst/>
              <a:rect l="l" t="t" r="r" b="b"/>
              <a:pathLst>
                <a:path w="468" h="787">
                  <a:moveTo>
                    <a:pt x="0" y="39"/>
                  </a:moveTo>
                  <a:lnTo>
                    <a:pt x="5" y="6"/>
                  </a:lnTo>
                  <a:lnTo>
                    <a:pt x="78" y="0"/>
                  </a:lnTo>
                  <a:lnTo>
                    <a:pt x="118" y="33"/>
                  </a:lnTo>
                  <a:lnTo>
                    <a:pt x="178" y="119"/>
                  </a:lnTo>
                  <a:lnTo>
                    <a:pt x="256" y="231"/>
                  </a:lnTo>
                  <a:lnTo>
                    <a:pt x="328" y="310"/>
                  </a:lnTo>
                  <a:lnTo>
                    <a:pt x="461" y="456"/>
                  </a:lnTo>
                  <a:lnTo>
                    <a:pt x="468" y="489"/>
                  </a:lnTo>
                  <a:lnTo>
                    <a:pt x="441" y="509"/>
                  </a:lnTo>
                  <a:lnTo>
                    <a:pt x="375" y="535"/>
                  </a:lnTo>
                  <a:lnTo>
                    <a:pt x="283" y="556"/>
                  </a:lnTo>
                  <a:lnTo>
                    <a:pt x="171" y="562"/>
                  </a:lnTo>
                  <a:lnTo>
                    <a:pt x="131" y="568"/>
                  </a:lnTo>
                  <a:lnTo>
                    <a:pt x="118" y="595"/>
                  </a:lnTo>
                  <a:lnTo>
                    <a:pt x="144" y="641"/>
                  </a:lnTo>
                  <a:lnTo>
                    <a:pt x="237" y="720"/>
                  </a:lnTo>
                  <a:lnTo>
                    <a:pt x="302" y="741"/>
                  </a:lnTo>
                  <a:lnTo>
                    <a:pt x="316" y="767"/>
                  </a:lnTo>
                  <a:lnTo>
                    <a:pt x="289" y="787"/>
                  </a:lnTo>
                  <a:lnTo>
                    <a:pt x="230" y="787"/>
                  </a:lnTo>
                  <a:lnTo>
                    <a:pt x="151" y="741"/>
                  </a:lnTo>
                  <a:lnTo>
                    <a:pt x="85" y="675"/>
                  </a:lnTo>
                  <a:lnTo>
                    <a:pt x="45" y="615"/>
                  </a:lnTo>
                  <a:lnTo>
                    <a:pt x="45" y="568"/>
                  </a:lnTo>
                  <a:lnTo>
                    <a:pt x="71" y="535"/>
                  </a:lnTo>
                  <a:lnTo>
                    <a:pt x="111" y="523"/>
                  </a:lnTo>
                  <a:lnTo>
                    <a:pt x="171" y="516"/>
                  </a:lnTo>
                  <a:lnTo>
                    <a:pt x="237" y="516"/>
                  </a:lnTo>
                  <a:lnTo>
                    <a:pt x="316" y="502"/>
                  </a:lnTo>
                  <a:lnTo>
                    <a:pt x="356" y="489"/>
                  </a:lnTo>
                  <a:lnTo>
                    <a:pt x="375" y="469"/>
                  </a:lnTo>
                  <a:lnTo>
                    <a:pt x="368" y="450"/>
                  </a:lnTo>
                  <a:lnTo>
                    <a:pt x="309" y="397"/>
                  </a:lnTo>
                  <a:lnTo>
                    <a:pt x="216" y="304"/>
                  </a:lnTo>
                  <a:lnTo>
                    <a:pt x="131" y="225"/>
                  </a:lnTo>
                  <a:lnTo>
                    <a:pt x="38" y="139"/>
                  </a:lnTo>
                  <a:lnTo>
                    <a:pt x="5" y="79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7" name=""/>
            <p:cNvSpPr/>
            <p:nvPr/>
          </p:nvSpPr>
          <p:spPr>
            <a:xfrm flipH="1">
              <a:off x="608760" y="4732920"/>
              <a:ext cx="111960" cy="332280"/>
            </a:xfrm>
            <a:custGeom>
              <a:avLst/>
              <a:gdLst/>
              <a:ahLst/>
              <a:rect l="l" t="t" r="r" b="b"/>
              <a:pathLst>
                <a:path w="508" h="1185">
                  <a:moveTo>
                    <a:pt x="251" y="0"/>
                  </a:moveTo>
                  <a:lnTo>
                    <a:pt x="323" y="14"/>
                  </a:lnTo>
                  <a:lnTo>
                    <a:pt x="356" y="67"/>
                  </a:lnTo>
                  <a:lnTo>
                    <a:pt x="349" y="192"/>
                  </a:lnTo>
                  <a:lnTo>
                    <a:pt x="337" y="325"/>
                  </a:lnTo>
                  <a:lnTo>
                    <a:pt x="337" y="463"/>
                  </a:lnTo>
                  <a:lnTo>
                    <a:pt x="402" y="629"/>
                  </a:lnTo>
                  <a:lnTo>
                    <a:pt x="455" y="748"/>
                  </a:lnTo>
                  <a:lnTo>
                    <a:pt x="482" y="867"/>
                  </a:lnTo>
                  <a:lnTo>
                    <a:pt x="475" y="973"/>
                  </a:lnTo>
                  <a:lnTo>
                    <a:pt x="475" y="1012"/>
                  </a:lnTo>
                  <a:lnTo>
                    <a:pt x="501" y="1052"/>
                  </a:lnTo>
                  <a:lnTo>
                    <a:pt x="508" y="1092"/>
                  </a:lnTo>
                  <a:lnTo>
                    <a:pt x="489" y="1111"/>
                  </a:lnTo>
                  <a:lnTo>
                    <a:pt x="435" y="1099"/>
                  </a:lnTo>
                  <a:lnTo>
                    <a:pt x="337" y="1085"/>
                  </a:lnTo>
                  <a:lnTo>
                    <a:pt x="218" y="1111"/>
                  </a:lnTo>
                  <a:lnTo>
                    <a:pt x="138" y="1158"/>
                  </a:lnTo>
                  <a:lnTo>
                    <a:pt x="99" y="1185"/>
                  </a:lnTo>
                  <a:lnTo>
                    <a:pt x="59" y="1185"/>
                  </a:lnTo>
                  <a:lnTo>
                    <a:pt x="0" y="1099"/>
                  </a:lnTo>
                  <a:lnTo>
                    <a:pt x="7" y="1085"/>
                  </a:lnTo>
                  <a:lnTo>
                    <a:pt x="126" y="1045"/>
                  </a:lnTo>
                  <a:lnTo>
                    <a:pt x="264" y="1026"/>
                  </a:lnTo>
                  <a:lnTo>
                    <a:pt x="363" y="1019"/>
                  </a:lnTo>
                  <a:lnTo>
                    <a:pt x="422" y="1019"/>
                  </a:lnTo>
                  <a:lnTo>
                    <a:pt x="435" y="979"/>
                  </a:lnTo>
                  <a:lnTo>
                    <a:pt x="416" y="867"/>
                  </a:lnTo>
                  <a:lnTo>
                    <a:pt x="370" y="748"/>
                  </a:lnTo>
                  <a:lnTo>
                    <a:pt x="297" y="596"/>
                  </a:lnTo>
                  <a:lnTo>
                    <a:pt x="237" y="463"/>
                  </a:lnTo>
                  <a:lnTo>
                    <a:pt x="211" y="344"/>
                  </a:lnTo>
                  <a:lnTo>
                    <a:pt x="204" y="212"/>
                  </a:lnTo>
                  <a:lnTo>
                    <a:pt x="204" y="86"/>
                  </a:lnTo>
                  <a:lnTo>
                    <a:pt x="231" y="34"/>
                  </a:lnTo>
                  <a:lnTo>
                    <a:pt x="25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8" name=""/>
            <p:cNvSpPr/>
            <p:nvPr/>
          </p:nvSpPr>
          <p:spPr>
            <a:xfrm flipH="1">
              <a:off x="682920" y="4743000"/>
              <a:ext cx="93240" cy="275400"/>
            </a:xfrm>
            <a:custGeom>
              <a:avLst/>
              <a:gdLst/>
              <a:ahLst/>
              <a:rect l="l" t="t" r="r" b="b"/>
              <a:pathLst>
                <a:path w="421" h="985">
                  <a:moveTo>
                    <a:pt x="316" y="0"/>
                  </a:moveTo>
                  <a:lnTo>
                    <a:pt x="375" y="0"/>
                  </a:lnTo>
                  <a:lnTo>
                    <a:pt x="395" y="40"/>
                  </a:lnTo>
                  <a:lnTo>
                    <a:pt x="408" y="126"/>
                  </a:lnTo>
                  <a:lnTo>
                    <a:pt x="395" y="218"/>
                  </a:lnTo>
                  <a:lnTo>
                    <a:pt x="362" y="403"/>
                  </a:lnTo>
                  <a:lnTo>
                    <a:pt x="368" y="482"/>
                  </a:lnTo>
                  <a:lnTo>
                    <a:pt x="408" y="641"/>
                  </a:lnTo>
                  <a:lnTo>
                    <a:pt x="421" y="754"/>
                  </a:lnTo>
                  <a:lnTo>
                    <a:pt x="421" y="840"/>
                  </a:lnTo>
                  <a:lnTo>
                    <a:pt x="402" y="859"/>
                  </a:lnTo>
                  <a:lnTo>
                    <a:pt x="342" y="873"/>
                  </a:lnTo>
                  <a:lnTo>
                    <a:pt x="263" y="892"/>
                  </a:lnTo>
                  <a:lnTo>
                    <a:pt x="184" y="932"/>
                  </a:lnTo>
                  <a:lnTo>
                    <a:pt x="105" y="985"/>
                  </a:lnTo>
                  <a:lnTo>
                    <a:pt x="72" y="985"/>
                  </a:lnTo>
                  <a:lnTo>
                    <a:pt x="0" y="926"/>
                  </a:lnTo>
                  <a:lnTo>
                    <a:pt x="6" y="899"/>
                  </a:lnTo>
                  <a:lnTo>
                    <a:pt x="98" y="859"/>
                  </a:lnTo>
                  <a:lnTo>
                    <a:pt x="257" y="819"/>
                  </a:lnTo>
                  <a:lnTo>
                    <a:pt x="329" y="793"/>
                  </a:lnTo>
                  <a:lnTo>
                    <a:pt x="342" y="767"/>
                  </a:lnTo>
                  <a:lnTo>
                    <a:pt x="342" y="655"/>
                  </a:lnTo>
                  <a:lnTo>
                    <a:pt x="316" y="510"/>
                  </a:lnTo>
                  <a:lnTo>
                    <a:pt x="302" y="417"/>
                  </a:lnTo>
                  <a:lnTo>
                    <a:pt x="290" y="271"/>
                  </a:lnTo>
                  <a:lnTo>
                    <a:pt x="283" y="112"/>
                  </a:lnTo>
                  <a:lnTo>
                    <a:pt x="290" y="40"/>
                  </a:lnTo>
                  <a:lnTo>
                    <a:pt x="3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9" name=""/>
            <p:cNvSpPr/>
            <p:nvPr/>
          </p:nvSpPr>
          <p:spPr>
            <a:xfrm flipH="1">
              <a:off x="626400" y="4336920"/>
              <a:ext cx="152640" cy="245880"/>
            </a:xfrm>
            <a:custGeom>
              <a:avLst/>
              <a:gdLst/>
              <a:ahLst/>
              <a:rect l="l" t="t" r="r" b="b"/>
              <a:pathLst>
                <a:path w="692" h="879">
                  <a:moveTo>
                    <a:pt x="368" y="879"/>
                  </a:moveTo>
                  <a:lnTo>
                    <a:pt x="401" y="839"/>
                  </a:lnTo>
                  <a:lnTo>
                    <a:pt x="389" y="780"/>
                  </a:lnTo>
                  <a:lnTo>
                    <a:pt x="363" y="701"/>
                  </a:lnTo>
                  <a:lnTo>
                    <a:pt x="263" y="608"/>
                  </a:lnTo>
                  <a:lnTo>
                    <a:pt x="164" y="523"/>
                  </a:lnTo>
                  <a:lnTo>
                    <a:pt x="118" y="429"/>
                  </a:lnTo>
                  <a:lnTo>
                    <a:pt x="99" y="284"/>
                  </a:lnTo>
                  <a:lnTo>
                    <a:pt x="211" y="244"/>
                  </a:lnTo>
                  <a:lnTo>
                    <a:pt x="389" y="225"/>
                  </a:lnTo>
                  <a:lnTo>
                    <a:pt x="461" y="232"/>
                  </a:lnTo>
                  <a:lnTo>
                    <a:pt x="481" y="251"/>
                  </a:lnTo>
                  <a:lnTo>
                    <a:pt x="513" y="218"/>
                  </a:lnTo>
                  <a:lnTo>
                    <a:pt x="501" y="185"/>
                  </a:lnTo>
                  <a:lnTo>
                    <a:pt x="520" y="126"/>
                  </a:lnTo>
                  <a:lnTo>
                    <a:pt x="573" y="73"/>
                  </a:lnTo>
                  <a:lnTo>
                    <a:pt x="613" y="59"/>
                  </a:lnTo>
                  <a:lnTo>
                    <a:pt x="665" y="92"/>
                  </a:lnTo>
                  <a:lnTo>
                    <a:pt x="692" y="59"/>
                  </a:lnTo>
                  <a:lnTo>
                    <a:pt x="646" y="0"/>
                  </a:lnTo>
                  <a:lnTo>
                    <a:pt x="586" y="0"/>
                  </a:lnTo>
                  <a:lnTo>
                    <a:pt x="513" y="33"/>
                  </a:lnTo>
                  <a:lnTo>
                    <a:pt x="468" y="120"/>
                  </a:lnTo>
                  <a:lnTo>
                    <a:pt x="408" y="159"/>
                  </a:lnTo>
                  <a:lnTo>
                    <a:pt x="316" y="172"/>
                  </a:lnTo>
                  <a:lnTo>
                    <a:pt x="151" y="192"/>
                  </a:lnTo>
                  <a:lnTo>
                    <a:pt x="19" y="232"/>
                  </a:lnTo>
                  <a:lnTo>
                    <a:pt x="0" y="265"/>
                  </a:lnTo>
                  <a:lnTo>
                    <a:pt x="12" y="370"/>
                  </a:lnTo>
                  <a:lnTo>
                    <a:pt x="59" y="516"/>
                  </a:lnTo>
                  <a:lnTo>
                    <a:pt x="125" y="635"/>
                  </a:lnTo>
                  <a:lnTo>
                    <a:pt x="190" y="740"/>
                  </a:lnTo>
                  <a:lnTo>
                    <a:pt x="250" y="813"/>
                  </a:lnTo>
                  <a:lnTo>
                    <a:pt x="309" y="865"/>
                  </a:lnTo>
                  <a:lnTo>
                    <a:pt x="368" y="8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60" name=""/>
          <p:cNvGrpSpPr/>
          <p:nvPr/>
        </p:nvGrpSpPr>
        <p:grpSpPr>
          <a:xfrm>
            <a:off x="1905120" y="1440000"/>
            <a:ext cx="456480" cy="1065960"/>
            <a:chOff x="1905120" y="1440000"/>
            <a:chExt cx="456480" cy="1065960"/>
          </a:xfrm>
        </p:grpSpPr>
        <p:grpSp>
          <p:nvGrpSpPr>
            <p:cNvPr id="6761" name=""/>
            <p:cNvGrpSpPr/>
            <p:nvPr/>
          </p:nvGrpSpPr>
          <p:grpSpPr>
            <a:xfrm>
              <a:off x="1905120" y="1827720"/>
              <a:ext cx="456480" cy="678240"/>
              <a:chOff x="1905120" y="1827720"/>
              <a:chExt cx="456480" cy="678240"/>
            </a:xfrm>
          </p:grpSpPr>
          <p:grpSp>
            <p:nvGrpSpPr>
              <p:cNvPr id="6762" name=""/>
              <p:cNvGrpSpPr/>
              <p:nvPr/>
            </p:nvGrpSpPr>
            <p:grpSpPr>
              <a:xfrm>
                <a:off x="1908720" y="1827720"/>
                <a:ext cx="452880" cy="678240"/>
                <a:chOff x="1908720" y="1827720"/>
                <a:chExt cx="452880" cy="678240"/>
              </a:xfrm>
            </p:grpSpPr>
            <p:grpSp>
              <p:nvGrpSpPr>
                <p:cNvPr id="6763" name=""/>
                <p:cNvGrpSpPr/>
                <p:nvPr/>
              </p:nvGrpSpPr>
              <p:grpSpPr>
                <a:xfrm>
                  <a:off x="1924920" y="1984680"/>
                  <a:ext cx="436680" cy="521280"/>
                  <a:chOff x="1924920" y="1984680"/>
                  <a:chExt cx="436680" cy="521280"/>
                </a:xfrm>
              </p:grpSpPr>
              <p:grpSp>
                <p:nvGrpSpPr>
                  <p:cNvPr id="6764" name=""/>
                  <p:cNvGrpSpPr/>
                  <p:nvPr/>
                </p:nvGrpSpPr>
                <p:grpSpPr>
                  <a:xfrm>
                    <a:off x="1924920" y="1984680"/>
                    <a:ext cx="352080" cy="110160"/>
                    <a:chOff x="1924920" y="1984680"/>
                    <a:chExt cx="352080" cy="110160"/>
                  </a:xfrm>
                </p:grpSpPr>
                <p:grpSp>
                  <p:nvGrpSpPr>
                    <p:cNvPr id="6765" name=""/>
                    <p:cNvGrpSpPr/>
                    <p:nvPr/>
                  </p:nvGrpSpPr>
                  <p:grpSpPr>
                    <a:xfrm>
                      <a:off x="2201040" y="1999800"/>
                      <a:ext cx="75960" cy="95040"/>
                      <a:chOff x="2201040" y="1999800"/>
                      <a:chExt cx="75960" cy="95040"/>
                    </a:xfrm>
                  </p:grpSpPr>
                  <p:grpSp>
                    <p:nvGrpSpPr>
                      <p:cNvPr id="6766" name=""/>
                      <p:cNvGrpSpPr/>
                      <p:nvPr/>
                    </p:nvGrpSpPr>
                    <p:grpSpPr>
                      <a:xfrm>
                        <a:off x="2201040" y="1999800"/>
                        <a:ext cx="54360" cy="59400"/>
                        <a:chOff x="2201040" y="1999800"/>
                        <a:chExt cx="54360" cy="59400"/>
                      </a:xfrm>
                    </p:grpSpPr>
                    <p:sp>
                      <p:nvSpPr>
                        <p:cNvPr id="6767" name=""/>
                        <p:cNvSpPr/>
                        <p:nvPr/>
                      </p:nvSpPr>
                      <p:spPr>
                        <a:xfrm>
                          <a:off x="2201040" y="2004480"/>
                          <a:ext cx="49320" cy="489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98" h="161">
                              <a:moveTo>
                                <a:pt x="0" y="161"/>
                              </a:moveTo>
                              <a:lnTo>
                                <a:pt x="18" y="132"/>
                              </a:lnTo>
                              <a:lnTo>
                                <a:pt x="37" y="108"/>
                              </a:lnTo>
                              <a:lnTo>
                                <a:pt x="58" y="81"/>
                              </a:lnTo>
                              <a:lnTo>
                                <a:pt x="82" y="57"/>
                              </a:lnTo>
                              <a:lnTo>
                                <a:pt x="107" y="37"/>
                              </a:lnTo>
                              <a:lnTo>
                                <a:pt x="131" y="23"/>
                              </a:lnTo>
                              <a:lnTo>
                                <a:pt x="150" y="12"/>
                              </a:lnTo>
                              <a:lnTo>
                                <a:pt x="170" y="6"/>
                              </a:lnTo>
                              <a:lnTo>
                                <a:pt x="198" y="0"/>
                              </a:lnTo>
                            </a:path>
                          </a:pathLst>
                        </a:custGeom>
                        <a:noFill/>
                        <a:ln w="25560">
                          <a:solidFill>
                            <a:srgbClr val="60006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160" bIns="21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768" name=""/>
                        <p:cNvSpPr/>
                        <p:nvPr/>
                      </p:nvSpPr>
                      <p:spPr>
                        <a:xfrm>
                          <a:off x="2207160" y="2010240"/>
                          <a:ext cx="48240" cy="489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95" h="160">
                              <a:moveTo>
                                <a:pt x="0" y="160"/>
                              </a:moveTo>
                              <a:lnTo>
                                <a:pt x="19" y="131"/>
                              </a:lnTo>
                              <a:lnTo>
                                <a:pt x="37" y="106"/>
                              </a:lnTo>
                              <a:lnTo>
                                <a:pt x="59" y="80"/>
                              </a:lnTo>
                              <a:lnTo>
                                <a:pt x="82" y="55"/>
                              </a:lnTo>
                              <a:lnTo>
                                <a:pt x="108" y="35"/>
                              </a:lnTo>
                              <a:lnTo>
                                <a:pt x="131" y="21"/>
                              </a:lnTo>
                              <a:lnTo>
                                <a:pt x="156" y="11"/>
                              </a:lnTo>
                              <a:lnTo>
                                <a:pt x="177" y="3"/>
                              </a:lnTo>
                              <a:lnTo>
                                <a:pt x="195" y="0"/>
                              </a:lnTo>
                            </a:path>
                          </a:pathLst>
                        </a:custGeom>
                        <a:noFill/>
                        <a:ln w="11160">
                          <a:solidFill>
                            <a:srgbClr val="40004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160" bIns="21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769" name=""/>
                        <p:cNvSpPr/>
                        <p:nvPr/>
                      </p:nvSpPr>
                      <p:spPr>
                        <a:xfrm>
                          <a:off x="2201040" y="1999800"/>
                          <a:ext cx="48240" cy="493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94" h="160">
                              <a:moveTo>
                                <a:pt x="0" y="160"/>
                              </a:moveTo>
                              <a:lnTo>
                                <a:pt x="18" y="131"/>
                              </a:lnTo>
                              <a:lnTo>
                                <a:pt x="37" y="106"/>
                              </a:lnTo>
                              <a:lnTo>
                                <a:pt x="58" y="80"/>
                              </a:lnTo>
                              <a:lnTo>
                                <a:pt x="82" y="55"/>
                              </a:lnTo>
                              <a:lnTo>
                                <a:pt x="107" y="36"/>
                              </a:lnTo>
                              <a:lnTo>
                                <a:pt x="131" y="21"/>
                              </a:lnTo>
                              <a:lnTo>
                                <a:pt x="155" y="11"/>
                              </a:lnTo>
                              <a:lnTo>
                                <a:pt x="178" y="3"/>
                              </a:lnTo>
                              <a:lnTo>
                                <a:pt x="194" y="0"/>
                              </a:lnTo>
                            </a:path>
                          </a:pathLst>
                        </a:custGeom>
                        <a:noFill/>
                        <a:ln w="4680">
                          <a:solidFill>
                            <a:srgbClr val="a000a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520" bIns="25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6770" name=""/>
                      <p:cNvGrpSpPr/>
                      <p:nvPr/>
                    </p:nvGrpSpPr>
                    <p:grpSpPr>
                      <a:xfrm>
                        <a:off x="2221920" y="2036520"/>
                        <a:ext cx="55080" cy="58320"/>
                        <a:chOff x="2221920" y="2036520"/>
                        <a:chExt cx="55080" cy="58320"/>
                      </a:xfrm>
                    </p:grpSpPr>
                    <p:sp>
                      <p:nvSpPr>
                        <p:cNvPr id="6771" name=""/>
                        <p:cNvSpPr/>
                        <p:nvPr/>
                      </p:nvSpPr>
                      <p:spPr>
                        <a:xfrm>
                          <a:off x="2221920" y="2039400"/>
                          <a:ext cx="49320" cy="489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98" h="160">
                              <a:moveTo>
                                <a:pt x="0" y="160"/>
                              </a:moveTo>
                              <a:lnTo>
                                <a:pt x="18" y="131"/>
                              </a:lnTo>
                              <a:lnTo>
                                <a:pt x="37" y="107"/>
                              </a:lnTo>
                              <a:lnTo>
                                <a:pt x="58" y="81"/>
                              </a:lnTo>
                              <a:lnTo>
                                <a:pt x="82" y="56"/>
                              </a:lnTo>
                              <a:lnTo>
                                <a:pt x="106" y="37"/>
                              </a:lnTo>
                              <a:lnTo>
                                <a:pt x="130" y="23"/>
                              </a:lnTo>
                              <a:lnTo>
                                <a:pt x="149" y="12"/>
                              </a:lnTo>
                              <a:lnTo>
                                <a:pt x="168" y="6"/>
                              </a:lnTo>
                              <a:lnTo>
                                <a:pt x="198" y="0"/>
                              </a:lnTo>
                            </a:path>
                          </a:pathLst>
                        </a:custGeom>
                        <a:noFill/>
                        <a:ln w="25560">
                          <a:solidFill>
                            <a:srgbClr val="60006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160" bIns="21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772" name=""/>
                        <p:cNvSpPr/>
                        <p:nvPr/>
                      </p:nvSpPr>
                      <p:spPr>
                        <a:xfrm>
                          <a:off x="2229120" y="2045880"/>
                          <a:ext cx="47880" cy="489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95" h="159">
                              <a:moveTo>
                                <a:pt x="0" y="159"/>
                              </a:moveTo>
                              <a:lnTo>
                                <a:pt x="19" y="131"/>
                              </a:lnTo>
                              <a:lnTo>
                                <a:pt x="37" y="106"/>
                              </a:lnTo>
                              <a:lnTo>
                                <a:pt x="59" y="79"/>
                              </a:lnTo>
                              <a:lnTo>
                                <a:pt x="81" y="56"/>
                              </a:lnTo>
                              <a:lnTo>
                                <a:pt x="107" y="36"/>
                              </a:lnTo>
                              <a:lnTo>
                                <a:pt x="130" y="22"/>
                              </a:lnTo>
                              <a:lnTo>
                                <a:pt x="155" y="12"/>
                              </a:lnTo>
                              <a:lnTo>
                                <a:pt x="177" y="4"/>
                              </a:lnTo>
                              <a:lnTo>
                                <a:pt x="195" y="0"/>
                              </a:lnTo>
                            </a:path>
                          </a:pathLst>
                        </a:custGeom>
                        <a:noFill/>
                        <a:ln w="11160">
                          <a:solidFill>
                            <a:srgbClr val="40004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160" bIns="21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773" name=""/>
                        <p:cNvSpPr/>
                        <p:nvPr/>
                      </p:nvSpPr>
                      <p:spPr>
                        <a:xfrm>
                          <a:off x="2221920" y="2036520"/>
                          <a:ext cx="47880" cy="475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94" h="159">
                              <a:moveTo>
                                <a:pt x="0" y="159"/>
                              </a:moveTo>
                              <a:lnTo>
                                <a:pt x="18" y="130"/>
                              </a:lnTo>
                              <a:lnTo>
                                <a:pt x="37" y="106"/>
                              </a:lnTo>
                              <a:lnTo>
                                <a:pt x="58" y="80"/>
                              </a:lnTo>
                              <a:lnTo>
                                <a:pt x="82" y="55"/>
                              </a:lnTo>
                              <a:lnTo>
                                <a:pt x="106" y="36"/>
                              </a:lnTo>
                              <a:lnTo>
                                <a:pt x="130" y="21"/>
                              </a:lnTo>
                              <a:lnTo>
                                <a:pt x="154" y="11"/>
                              </a:lnTo>
                              <a:lnTo>
                                <a:pt x="177" y="3"/>
                              </a:lnTo>
                              <a:lnTo>
                                <a:pt x="194" y="0"/>
                              </a:lnTo>
                            </a:path>
                          </a:pathLst>
                        </a:custGeom>
                        <a:noFill/>
                        <a:ln w="4680">
                          <a:solidFill>
                            <a:srgbClr val="a000a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720" bIns="7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6774" name=""/>
                    <p:cNvGrpSpPr/>
                    <p:nvPr/>
                  </p:nvGrpSpPr>
                  <p:grpSpPr>
                    <a:xfrm>
                      <a:off x="1924920" y="1984680"/>
                      <a:ext cx="263160" cy="84240"/>
                      <a:chOff x="1924920" y="1984680"/>
                      <a:chExt cx="263160" cy="84240"/>
                    </a:xfrm>
                  </p:grpSpPr>
                  <p:grpSp>
                    <p:nvGrpSpPr>
                      <p:cNvPr id="6775" name=""/>
                      <p:cNvGrpSpPr/>
                      <p:nvPr/>
                    </p:nvGrpSpPr>
                    <p:grpSpPr>
                      <a:xfrm>
                        <a:off x="1956600" y="2024640"/>
                        <a:ext cx="183240" cy="44280"/>
                        <a:chOff x="1956600" y="2024640"/>
                        <a:chExt cx="183240" cy="44280"/>
                      </a:xfrm>
                    </p:grpSpPr>
                    <p:grpSp>
                      <p:nvGrpSpPr>
                        <p:cNvPr id="6776" name=""/>
                        <p:cNvGrpSpPr/>
                        <p:nvPr/>
                      </p:nvGrpSpPr>
                      <p:grpSpPr>
                        <a:xfrm>
                          <a:off x="1964160" y="2024640"/>
                          <a:ext cx="175680" cy="44280"/>
                          <a:chOff x="1964160" y="2024640"/>
                          <a:chExt cx="175680" cy="44280"/>
                        </a:xfrm>
                      </p:grpSpPr>
                      <p:sp>
                        <p:nvSpPr>
                          <p:cNvPr id="6777" name=""/>
                          <p:cNvSpPr/>
                          <p:nvPr/>
                        </p:nvSpPr>
                        <p:spPr>
                          <a:xfrm>
                            <a:off x="1965240" y="2028960"/>
                            <a:ext cx="172080" cy="306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694" h="101">
                                <a:moveTo>
                                  <a:pt x="0" y="80"/>
                                </a:moveTo>
                                <a:lnTo>
                                  <a:pt x="42" y="67"/>
                                </a:lnTo>
                                <a:lnTo>
                                  <a:pt x="85" y="54"/>
                                </a:lnTo>
                                <a:lnTo>
                                  <a:pt x="143" y="40"/>
                                </a:lnTo>
                                <a:lnTo>
                                  <a:pt x="205" y="27"/>
                                </a:lnTo>
                                <a:lnTo>
                                  <a:pt x="268" y="14"/>
                                </a:lnTo>
                                <a:lnTo>
                                  <a:pt x="315" y="8"/>
                                </a:lnTo>
                                <a:lnTo>
                                  <a:pt x="372" y="2"/>
                                </a:lnTo>
                                <a:lnTo>
                                  <a:pt x="433" y="0"/>
                                </a:lnTo>
                                <a:lnTo>
                                  <a:pt x="490" y="3"/>
                                </a:lnTo>
                                <a:lnTo>
                                  <a:pt x="540" y="6"/>
                                </a:lnTo>
                                <a:lnTo>
                                  <a:pt x="590" y="14"/>
                                </a:lnTo>
                                <a:lnTo>
                                  <a:pt x="617" y="25"/>
                                </a:lnTo>
                                <a:lnTo>
                                  <a:pt x="642" y="39"/>
                                </a:lnTo>
                                <a:lnTo>
                                  <a:pt x="663" y="56"/>
                                </a:lnTo>
                                <a:lnTo>
                                  <a:pt x="685" y="83"/>
                                </a:lnTo>
                                <a:lnTo>
                                  <a:pt x="694" y="101"/>
                                </a:lnTo>
                              </a:path>
                            </a:pathLst>
                          </a:custGeom>
                          <a:noFill/>
                          <a:ln w="25560">
                            <a:solidFill>
                              <a:srgbClr val="60006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16200" bIns="-162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6778" name=""/>
                          <p:cNvSpPr/>
                          <p:nvPr/>
                        </p:nvSpPr>
                        <p:spPr>
                          <a:xfrm>
                            <a:off x="1964160" y="2038320"/>
                            <a:ext cx="170640" cy="306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694" h="100">
                                <a:moveTo>
                                  <a:pt x="0" y="80"/>
                                </a:moveTo>
                                <a:lnTo>
                                  <a:pt x="41" y="66"/>
                                </a:lnTo>
                                <a:lnTo>
                                  <a:pt x="84" y="54"/>
                                </a:lnTo>
                                <a:lnTo>
                                  <a:pt x="143" y="40"/>
                                </a:lnTo>
                                <a:lnTo>
                                  <a:pt x="205" y="26"/>
                                </a:lnTo>
                                <a:lnTo>
                                  <a:pt x="267" y="14"/>
                                </a:lnTo>
                                <a:lnTo>
                                  <a:pt x="315" y="8"/>
                                </a:lnTo>
                                <a:lnTo>
                                  <a:pt x="372" y="2"/>
                                </a:lnTo>
                                <a:lnTo>
                                  <a:pt x="433" y="0"/>
                                </a:lnTo>
                                <a:lnTo>
                                  <a:pt x="489" y="3"/>
                                </a:lnTo>
                                <a:lnTo>
                                  <a:pt x="540" y="6"/>
                                </a:lnTo>
                                <a:lnTo>
                                  <a:pt x="590" y="14"/>
                                </a:lnTo>
                                <a:lnTo>
                                  <a:pt x="617" y="24"/>
                                </a:lnTo>
                                <a:lnTo>
                                  <a:pt x="642" y="39"/>
                                </a:lnTo>
                                <a:lnTo>
                                  <a:pt x="663" y="55"/>
                                </a:lnTo>
                                <a:lnTo>
                                  <a:pt x="685" y="83"/>
                                </a:lnTo>
                                <a:lnTo>
                                  <a:pt x="694" y="100"/>
                                </a:lnTo>
                              </a:path>
                            </a:pathLst>
                          </a:custGeom>
                          <a:noFill/>
                          <a:ln w="11160">
                            <a:solidFill>
                              <a:srgbClr val="40004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16200" bIns="-162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6779" name=""/>
                          <p:cNvSpPr/>
                          <p:nvPr/>
                        </p:nvSpPr>
                        <p:spPr>
                          <a:xfrm>
                            <a:off x="1967760" y="2024640"/>
                            <a:ext cx="172080" cy="306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694" h="100">
                                <a:moveTo>
                                  <a:pt x="0" y="80"/>
                                </a:moveTo>
                                <a:lnTo>
                                  <a:pt x="42" y="66"/>
                                </a:lnTo>
                                <a:lnTo>
                                  <a:pt x="85" y="54"/>
                                </a:lnTo>
                                <a:lnTo>
                                  <a:pt x="143" y="40"/>
                                </a:lnTo>
                                <a:lnTo>
                                  <a:pt x="204" y="26"/>
                                </a:lnTo>
                                <a:lnTo>
                                  <a:pt x="268" y="14"/>
                                </a:lnTo>
                                <a:lnTo>
                                  <a:pt x="315" y="8"/>
                                </a:lnTo>
                                <a:lnTo>
                                  <a:pt x="372" y="2"/>
                                </a:lnTo>
                                <a:lnTo>
                                  <a:pt x="434" y="0"/>
                                </a:lnTo>
                                <a:lnTo>
                                  <a:pt x="490" y="3"/>
                                </a:lnTo>
                                <a:lnTo>
                                  <a:pt x="540" y="6"/>
                                </a:lnTo>
                                <a:lnTo>
                                  <a:pt x="590" y="14"/>
                                </a:lnTo>
                                <a:lnTo>
                                  <a:pt x="618" y="24"/>
                                </a:lnTo>
                                <a:lnTo>
                                  <a:pt x="642" y="39"/>
                                </a:lnTo>
                                <a:lnTo>
                                  <a:pt x="664" y="55"/>
                                </a:lnTo>
                                <a:lnTo>
                                  <a:pt x="685" y="83"/>
                                </a:lnTo>
                                <a:lnTo>
                                  <a:pt x="694" y="100"/>
                                </a:lnTo>
                              </a:path>
                            </a:pathLst>
                          </a:custGeom>
                          <a:noFill/>
                          <a:ln w="4680">
                            <a:solidFill>
                              <a:srgbClr val="a000a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16200" bIns="-162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6780" name=""/>
                        <p:cNvSpPr/>
                        <p:nvPr/>
                      </p:nvSpPr>
                      <p:spPr>
                        <a:xfrm>
                          <a:off x="1956600" y="2044440"/>
                          <a:ext cx="10080" cy="21600"/>
                        </a:xfrm>
                        <a:prstGeom prst="ellipse">
                          <a:avLst/>
                        </a:prstGeom>
                        <a:solidFill>
                          <a:srgbClr val="200020"/>
                        </a:solidFill>
                        <a:ln w="3240">
                          <a:solidFill>
                            <a:srgbClr val="80008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0960" bIns="-309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6781" name=""/>
                      <p:cNvGrpSpPr/>
                      <p:nvPr/>
                    </p:nvGrpSpPr>
                    <p:grpSpPr>
                      <a:xfrm>
                        <a:off x="1924920" y="1984680"/>
                        <a:ext cx="263160" cy="64440"/>
                        <a:chOff x="1924920" y="1984680"/>
                        <a:chExt cx="263160" cy="64440"/>
                      </a:xfrm>
                    </p:grpSpPr>
                    <p:grpSp>
                      <p:nvGrpSpPr>
                        <p:cNvPr id="6782" name=""/>
                        <p:cNvGrpSpPr/>
                        <p:nvPr/>
                      </p:nvGrpSpPr>
                      <p:grpSpPr>
                        <a:xfrm>
                          <a:off x="1931040" y="1984680"/>
                          <a:ext cx="257040" cy="64440"/>
                          <a:chOff x="1931040" y="1984680"/>
                          <a:chExt cx="257040" cy="64440"/>
                        </a:xfrm>
                      </p:grpSpPr>
                      <p:sp>
                        <p:nvSpPr>
                          <p:cNvPr id="6783" name=""/>
                          <p:cNvSpPr/>
                          <p:nvPr/>
                        </p:nvSpPr>
                        <p:spPr>
                          <a:xfrm>
                            <a:off x="1933560" y="1992240"/>
                            <a:ext cx="249840" cy="442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012" h="148">
                                <a:moveTo>
                                  <a:pt x="0" y="117"/>
                                </a:moveTo>
                                <a:lnTo>
                                  <a:pt x="60" y="98"/>
                                </a:lnTo>
                                <a:lnTo>
                                  <a:pt x="123" y="80"/>
                                </a:lnTo>
                                <a:lnTo>
                                  <a:pt x="207" y="59"/>
                                </a:lnTo>
                                <a:lnTo>
                                  <a:pt x="298" y="39"/>
                                </a:lnTo>
                                <a:lnTo>
                                  <a:pt x="390" y="22"/>
                                </a:lnTo>
                                <a:lnTo>
                                  <a:pt x="459" y="12"/>
                                </a:lnTo>
                                <a:lnTo>
                                  <a:pt x="543" y="3"/>
                                </a:lnTo>
                                <a:lnTo>
                                  <a:pt x="632" y="0"/>
                                </a:lnTo>
                                <a:lnTo>
                                  <a:pt x="714" y="4"/>
                                </a:lnTo>
                                <a:lnTo>
                                  <a:pt x="788" y="9"/>
                                </a:lnTo>
                                <a:lnTo>
                                  <a:pt x="861" y="22"/>
                                </a:lnTo>
                                <a:lnTo>
                                  <a:pt x="901" y="36"/>
                                </a:lnTo>
                                <a:lnTo>
                                  <a:pt x="937" y="58"/>
                                </a:lnTo>
                                <a:lnTo>
                                  <a:pt x="967" y="81"/>
                                </a:lnTo>
                                <a:lnTo>
                                  <a:pt x="999" y="122"/>
                                </a:lnTo>
                                <a:lnTo>
                                  <a:pt x="1012" y="148"/>
                                </a:lnTo>
                              </a:path>
                            </a:pathLst>
                          </a:custGeom>
                          <a:noFill/>
                          <a:ln w="25560">
                            <a:solidFill>
                              <a:srgbClr val="60006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520" bIns="-25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6784" name=""/>
                          <p:cNvSpPr/>
                          <p:nvPr/>
                        </p:nvSpPr>
                        <p:spPr>
                          <a:xfrm>
                            <a:off x="1931040" y="2004840"/>
                            <a:ext cx="251280" cy="442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012" h="147">
                                <a:moveTo>
                                  <a:pt x="0" y="117"/>
                                </a:moveTo>
                                <a:lnTo>
                                  <a:pt x="60" y="98"/>
                                </a:lnTo>
                                <a:lnTo>
                                  <a:pt x="122" y="79"/>
                                </a:lnTo>
                                <a:lnTo>
                                  <a:pt x="208" y="59"/>
                                </a:lnTo>
                                <a:lnTo>
                                  <a:pt x="299" y="39"/>
                                </a:lnTo>
                                <a:lnTo>
                                  <a:pt x="390" y="21"/>
                                </a:lnTo>
                                <a:lnTo>
                                  <a:pt x="459" y="11"/>
                                </a:lnTo>
                                <a:lnTo>
                                  <a:pt x="543" y="3"/>
                                </a:lnTo>
                                <a:lnTo>
                                  <a:pt x="633" y="0"/>
                                </a:lnTo>
                                <a:lnTo>
                                  <a:pt x="713" y="4"/>
                                </a:lnTo>
                                <a:lnTo>
                                  <a:pt x="788" y="8"/>
                                </a:lnTo>
                                <a:lnTo>
                                  <a:pt x="861" y="21"/>
                                </a:lnTo>
                                <a:lnTo>
                                  <a:pt x="902" y="36"/>
                                </a:lnTo>
                                <a:lnTo>
                                  <a:pt x="937" y="57"/>
                                </a:lnTo>
                                <a:lnTo>
                                  <a:pt x="968" y="81"/>
                                </a:lnTo>
                                <a:lnTo>
                                  <a:pt x="999" y="121"/>
                                </a:lnTo>
                                <a:lnTo>
                                  <a:pt x="1012" y="147"/>
                                </a:lnTo>
                              </a:path>
                            </a:pathLst>
                          </a:custGeom>
                          <a:noFill/>
                          <a:ln w="11160">
                            <a:solidFill>
                              <a:srgbClr val="40004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520" bIns="-25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6785" name=""/>
                          <p:cNvSpPr/>
                          <p:nvPr/>
                        </p:nvSpPr>
                        <p:spPr>
                          <a:xfrm>
                            <a:off x="1938240" y="1984680"/>
                            <a:ext cx="249840" cy="442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012" h="147">
                                <a:moveTo>
                                  <a:pt x="0" y="117"/>
                                </a:moveTo>
                                <a:lnTo>
                                  <a:pt x="60" y="98"/>
                                </a:lnTo>
                                <a:lnTo>
                                  <a:pt x="123" y="79"/>
                                </a:lnTo>
                                <a:lnTo>
                                  <a:pt x="208" y="59"/>
                                </a:lnTo>
                                <a:lnTo>
                                  <a:pt x="299" y="39"/>
                                </a:lnTo>
                                <a:lnTo>
                                  <a:pt x="390" y="21"/>
                                </a:lnTo>
                                <a:lnTo>
                                  <a:pt x="458" y="12"/>
                                </a:lnTo>
                                <a:lnTo>
                                  <a:pt x="542" y="3"/>
                                </a:lnTo>
                                <a:lnTo>
                                  <a:pt x="632" y="0"/>
                                </a:lnTo>
                                <a:lnTo>
                                  <a:pt x="713" y="5"/>
                                </a:lnTo>
                                <a:lnTo>
                                  <a:pt x="788" y="9"/>
                                </a:lnTo>
                                <a:lnTo>
                                  <a:pt x="861" y="21"/>
                                </a:lnTo>
                                <a:lnTo>
                                  <a:pt x="901" y="36"/>
                                </a:lnTo>
                                <a:lnTo>
                                  <a:pt x="937" y="57"/>
                                </a:lnTo>
                                <a:lnTo>
                                  <a:pt x="968" y="82"/>
                                </a:lnTo>
                                <a:lnTo>
                                  <a:pt x="998" y="122"/>
                                </a:lnTo>
                                <a:lnTo>
                                  <a:pt x="1012" y="147"/>
                                </a:lnTo>
                              </a:path>
                            </a:pathLst>
                          </a:custGeom>
                          <a:noFill/>
                          <a:ln w="4680">
                            <a:solidFill>
                              <a:srgbClr val="a000a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520" bIns="-25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6786" name=""/>
                        <p:cNvSpPr/>
                        <p:nvPr/>
                      </p:nvSpPr>
                      <p:spPr>
                        <a:xfrm>
                          <a:off x="1924920" y="2017080"/>
                          <a:ext cx="12240" cy="25920"/>
                        </a:xfrm>
                        <a:prstGeom prst="ellipse">
                          <a:avLst/>
                        </a:prstGeom>
                        <a:solidFill>
                          <a:srgbClr val="200020"/>
                        </a:solidFill>
                        <a:ln w="3240">
                          <a:solidFill>
                            <a:srgbClr val="80008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8080" bIns="-280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</p:grpSp>
              <p:grpSp>
                <p:nvGrpSpPr>
                  <p:cNvPr id="6787" name=""/>
                  <p:cNvGrpSpPr/>
                  <p:nvPr/>
                </p:nvGrpSpPr>
                <p:grpSpPr>
                  <a:xfrm>
                    <a:off x="1935720" y="2035440"/>
                    <a:ext cx="425880" cy="470520"/>
                    <a:chOff x="1935720" y="2035440"/>
                    <a:chExt cx="425880" cy="470520"/>
                  </a:xfrm>
                </p:grpSpPr>
                <p:grpSp>
                  <p:nvGrpSpPr>
                    <p:cNvPr id="6788" name=""/>
                    <p:cNvGrpSpPr/>
                    <p:nvPr/>
                  </p:nvGrpSpPr>
                  <p:grpSpPr>
                    <a:xfrm>
                      <a:off x="1935720" y="2035440"/>
                      <a:ext cx="425880" cy="470520"/>
                      <a:chOff x="1935720" y="2035440"/>
                      <a:chExt cx="425880" cy="470520"/>
                    </a:xfrm>
                  </p:grpSpPr>
                  <p:grpSp>
                    <p:nvGrpSpPr>
                      <p:cNvPr id="6789" name=""/>
                      <p:cNvGrpSpPr/>
                      <p:nvPr/>
                    </p:nvGrpSpPr>
                    <p:grpSpPr>
                      <a:xfrm>
                        <a:off x="1935720" y="2035440"/>
                        <a:ext cx="425880" cy="470520"/>
                        <a:chOff x="1935720" y="2035440"/>
                        <a:chExt cx="425880" cy="470520"/>
                      </a:xfrm>
                    </p:grpSpPr>
                    <p:grpSp>
                      <p:nvGrpSpPr>
                        <p:cNvPr id="6790" name=""/>
                        <p:cNvGrpSpPr/>
                        <p:nvPr/>
                      </p:nvGrpSpPr>
                      <p:grpSpPr>
                        <a:xfrm>
                          <a:off x="1935720" y="2035440"/>
                          <a:ext cx="425880" cy="470520"/>
                          <a:chOff x="1935720" y="2035440"/>
                          <a:chExt cx="425880" cy="470520"/>
                        </a:xfrm>
                      </p:grpSpPr>
                      <p:grpSp>
                        <p:nvGrpSpPr>
                          <p:cNvPr id="6791" name=""/>
                          <p:cNvGrpSpPr/>
                          <p:nvPr/>
                        </p:nvGrpSpPr>
                        <p:grpSpPr>
                          <a:xfrm>
                            <a:off x="1935720" y="2035440"/>
                            <a:ext cx="425880" cy="470520"/>
                            <a:chOff x="1935720" y="2035440"/>
                            <a:chExt cx="425880" cy="470520"/>
                          </a:xfrm>
                        </p:grpSpPr>
                        <p:sp>
                          <p:nvSpPr>
                            <p:cNvPr id="6792" name=""/>
                            <p:cNvSpPr/>
                            <p:nvPr/>
                          </p:nvSpPr>
                          <p:spPr>
                            <a:xfrm>
                              <a:off x="1935720" y="2035440"/>
                              <a:ext cx="425880" cy="47052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1716" h="1521">
                                  <a:moveTo>
                                    <a:pt x="499" y="282"/>
                                  </a:moveTo>
                                  <a:lnTo>
                                    <a:pt x="548" y="246"/>
                                  </a:lnTo>
                                  <a:lnTo>
                                    <a:pt x="591" y="194"/>
                                  </a:lnTo>
                                  <a:lnTo>
                                    <a:pt x="634" y="140"/>
                                  </a:lnTo>
                                  <a:lnTo>
                                    <a:pt x="673" y="105"/>
                                  </a:lnTo>
                                  <a:lnTo>
                                    <a:pt x="716" y="70"/>
                                  </a:lnTo>
                                  <a:lnTo>
                                    <a:pt x="768" y="40"/>
                                  </a:lnTo>
                                  <a:lnTo>
                                    <a:pt x="806" y="19"/>
                                  </a:lnTo>
                                  <a:lnTo>
                                    <a:pt x="854" y="9"/>
                                  </a:lnTo>
                                  <a:lnTo>
                                    <a:pt x="906" y="0"/>
                                  </a:lnTo>
                                  <a:lnTo>
                                    <a:pt x="960" y="6"/>
                                  </a:lnTo>
                                  <a:lnTo>
                                    <a:pt x="1004" y="13"/>
                                  </a:lnTo>
                                  <a:lnTo>
                                    <a:pt x="1040" y="22"/>
                                  </a:lnTo>
                                  <a:lnTo>
                                    <a:pt x="1084" y="43"/>
                                  </a:lnTo>
                                  <a:lnTo>
                                    <a:pt x="1130" y="64"/>
                                  </a:lnTo>
                                  <a:lnTo>
                                    <a:pt x="1168" y="84"/>
                                  </a:lnTo>
                                  <a:lnTo>
                                    <a:pt x="1211" y="116"/>
                                  </a:lnTo>
                                  <a:lnTo>
                                    <a:pt x="1244" y="152"/>
                                  </a:lnTo>
                                  <a:lnTo>
                                    <a:pt x="1270" y="199"/>
                                  </a:lnTo>
                                  <a:lnTo>
                                    <a:pt x="1281" y="227"/>
                                  </a:lnTo>
                                  <a:lnTo>
                                    <a:pt x="1283" y="263"/>
                                  </a:lnTo>
                                  <a:lnTo>
                                    <a:pt x="1298" y="294"/>
                                  </a:lnTo>
                                  <a:lnTo>
                                    <a:pt x="1319" y="323"/>
                                  </a:lnTo>
                                  <a:lnTo>
                                    <a:pt x="1347" y="343"/>
                                  </a:lnTo>
                                  <a:lnTo>
                                    <a:pt x="1381" y="360"/>
                                  </a:lnTo>
                                  <a:lnTo>
                                    <a:pt x="1401" y="378"/>
                                  </a:lnTo>
                                  <a:lnTo>
                                    <a:pt x="1418" y="404"/>
                                  </a:lnTo>
                                  <a:lnTo>
                                    <a:pt x="1444" y="438"/>
                                  </a:lnTo>
                                  <a:lnTo>
                                    <a:pt x="1472" y="471"/>
                                  </a:lnTo>
                                  <a:lnTo>
                                    <a:pt x="1503" y="505"/>
                                  </a:lnTo>
                                  <a:lnTo>
                                    <a:pt x="1534" y="539"/>
                                  </a:lnTo>
                                  <a:lnTo>
                                    <a:pt x="1567" y="601"/>
                                  </a:lnTo>
                                  <a:lnTo>
                                    <a:pt x="1591" y="661"/>
                                  </a:lnTo>
                                  <a:lnTo>
                                    <a:pt x="1609" y="707"/>
                                  </a:lnTo>
                                  <a:lnTo>
                                    <a:pt x="1622" y="769"/>
                                  </a:lnTo>
                                  <a:lnTo>
                                    <a:pt x="1641" y="832"/>
                                  </a:lnTo>
                                  <a:lnTo>
                                    <a:pt x="1656" y="891"/>
                                  </a:lnTo>
                                  <a:lnTo>
                                    <a:pt x="1668" y="947"/>
                                  </a:lnTo>
                                  <a:lnTo>
                                    <a:pt x="1680" y="1005"/>
                                  </a:lnTo>
                                  <a:lnTo>
                                    <a:pt x="1695" y="1057"/>
                                  </a:lnTo>
                                  <a:lnTo>
                                    <a:pt x="1702" y="1122"/>
                                  </a:lnTo>
                                  <a:lnTo>
                                    <a:pt x="1710" y="1190"/>
                                  </a:lnTo>
                                  <a:lnTo>
                                    <a:pt x="1716" y="1253"/>
                                  </a:lnTo>
                                  <a:lnTo>
                                    <a:pt x="1708" y="1301"/>
                                  </a:lnTo>
                                  <a:lnTo>
                                    <a:pt x="1702" y="1340"/>
                                  </a:lnTo>
                                  <a:lnTo>
                                    <a:pt x="1698" y="1374"/>
                                  </a:lnTo>
                                  <a:lnTo>
                                    <a:pt x="1683" y="1404"/>
                                  </a:lnTo>
                                  <a:lnTo>
                                    <a:pt x="1658" y="1435"/>
                                  </a:lnTo>
                                  <a:lnTo>
                                    <a:pt x="1621" y="1463"/>
                                  </a:lnTo>
                                  <a:lnTo>
                                    <a:pt x="1576" y="1480"/>
                                  </a:lnTo>
                                  <a:lnTo>
                                    <a:pt x="1525" y="1491"/>
                                  </a:lnTo>
                                  <a:lnTo>
                                    <a:pt x="1464" y="1499"/>
                                  </a:lnTo>
                                  <a:lnTo>
                                    <a:pt x="1408" y="1506"/>
                                  </a:lnTo>
                                  <a:lnTo>
                                    <a:pt x="1346" y="1509"/>
                                  </a:lnTo>
                                  <a:lnTo>
                                    <a:pt x="1273" y="1516"/>
                                  </a:lnTo>
                                  <a:lnTo>
                                    <a:pt x="1210" y="1521"/>
                                  </a:lnTo>
                                  <a:lnTo>
                                    <a:pt x="1152" y="1521"/>
                                  </a:lnTo>
                                  <a:lnTo>
                                    <a:pt x="1094" y="1516"/>
                                  </a:lnTo>
                                  <a:lnTo>
                                    <a:pt x="1042" y="1509"/>
                                  </a:lnTo>
                                  <a:lnTo>
                                    <a:pt x="1001" y="1505"/>
                                  </a:lnTo>
                                  <a:lnTo>
                                    <a:pt x="957" y="1493"/>
                                  </a:lnTo>
                                  <a:lnTo>
                                    <a:pt x="903" y="1478"/>
                                  </a:lnTo>
                                  <a:lnTo>
                                    <a:pt x="843" y="1459"/>
                                  </a:lnTo>
                                  <a:lnTo>
                                    <a:pt x="796" y="1441"/>
                                  </a:lnTo>
                                  <a:lnTo>
                                    <a:pt x="741" y="1419"/>
                                  </a:lnTo>
                                  <a:lnTo>
                                    <a:pt x="694" y="1399"/>
                                  </a:lnTo>
                                  <a:lnTo>
                                    <a:pt x="647" y="1375"/>
                                  </a:lnTo>
                                  <a:lnTo>
                                    <a:pt x="597" y="1349"/>
                                  </a:lnTo>
                                  <a:lnTo>
                                    <a:pt x="550" y="1321"/>
                                  </a:lnTo>
                                  <a:lnTo>
                                    <a:pt x="503" y="1286"/>
                                  </a:lnTo>
                                  <a:lnTo>
                                    <a:pt x="460" y="1252"/>
                                  </a:lnTo>
                                  <a:lnTo>
                                    <a:pt x="429" y="1224"/>
                                  </a:lnTo>
                                  <a:lnTo>
                                    <a:pt x="388" y="1170"/>
                                  </a:lnTo>
                                  <a:lnTo>
                                    <a:pt x="355" y="1127"/>
                                  </a:lnTo>
                                  <a:lnTo>
                                    <a:pt x="321" y="1079"/>
                                  </a:lnTo>
                                  <a:lnTo>
                                    <a:pt x="301" y="1051"/>
                                  </a:lnTo>
                                  <a:lnTo>
                                    <a:pt x="285" y="1014"/>
                                  </a:lnTo>
                                  <a:lnTo>
                                    <a:pt x="255" y="1006"/>
                                  </a:lnTo>
                                  <a:lnTo>
                                    <a:pt x="221" y="996"/>
                                  </a:lnTo>
                                  <a:lnTo>
                                    <a:pt x="190" y="981"/>
                                  </a:lnTo>
                                  <a:lnTo>
                                    <a:pt x="150" y="957"/>
                                  </a:lnTo>
                                  <a:lnTo>
                                    <a:pt x="111" y="928"/>
                                  </a:lnTo>
                                  <a:lnTo>
                                    <a:pt x="85" y="894"/>
                                  </a:lnTo>
                                  <a:lnTo>
                                    <a:pt x="55" y="854"/>
                                  </a:lnTo>
                                  <a:lnTo>
                                    <a:pt x="33" y="817"/>
                                  </a:lnTo>
                                  <a:lnTo>
                                    <a:pt x="12" y="777"/>
                                  </a:lnTo>
                                  <a:lnTo>
                                    <a:pt x="4" y="738"/>
                                  </a:lnTo>
                                  <a:lnTo>
                                    <a:pt x="0" y="684"/>
                                  </a:lnTo>
                                  <a:lnTo>
                                    <a:pt x="3" y="641"/>
                                  </a:lnTo>
                                  <a:lnTo>
                                    <a:pt x="12" y="597"/>
                                  </a:lnTo>
                                  <a:lnTo>
                                    <a:pt x="27" y="547"/>
                                  </a:lnTo>
                                  <a:lnTo>
                                    <a:pt x="49" y="499"/>
                                  </a:lnTo>
                                  <a:lnTo>
                                    <a:pt x="76" y="451"/>
                                  </a:lnTo>
                                  <a:lnTo>
                                    <a:pt x="107" y="409"/>
                                  </a:lnTo>
                                  <a:lnTo>
                                    <a:pt x="134" y="378"/>
                                  </a:lnTo>
                                  <a:lnTo>
                                    <a:pt x="168" y="347"/>
                                  </a:lnTo>
                                  <a:lnTo>
                                    <a:pt x="208" y="320"/>
                                  </a:lnTo>
                                  <a:lnTo>
                                    <a:pt x="248" y="301"/>
                                  </a:lnTo>
                                  <a:lnTo>
                                    <a:pt x="298" y="289"/>
                                  </a:lnTo>
                                  <a:lnTo>
                                    <a:pt x="360" y="281"/>
                                  </a:lnTo>
                                  <a:lnTo>
                                    <a:pt x="415" y="282"/>
                                  </a:lnTo>
                                  <a:lnTo>
                                    <a:pt x="466" y="288"/>
                                  </a:lnTo>
                                  <a:lnTo>
                                    <a:pt x="499" y="282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ffc08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6793" name=""/>
                            <p:cNvSpPr/>
                            <p:nvPr/>
                          </p:nvSpPr>
                          <p:spPr>
                            <a:xfrm>
                              <a:off x="2023560" y="2152440"/>
                              <a:ext cx="338040" cy="35316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1361" h="1143">
                                  <a:moveTo>
                                    <a:pt x="1051" y="53"/>
                                  </a:moveTo>
                                  <a:lnTo>
                                    <a:pt x="1042" y="25"/>
                                  </a:lnTo>
                                  <a:lnTo>
                                    <a:pt x="1046" y="0"/>
                                  </a:lnTo>
                                  <a:lnTo>
                                    <a:pt x="1063" y="27"/>
                                  </a:lnTo>
                                  <a:lnTo>
                                    <a:pt x="1089" y="61"/>
                                  </a:lnTo>
                                  <a:lnTo>
                                    <a:pt x="1117" y="94"/>
                                  </a:lnTo>
                                  <a:lnTo>
                                    <a:pt x="1148" y="128"/>
                                  </a:lnTo>
                                  <a:lnTo>
                                    <a:pt x="1179" y="162"/>
                                  </a:lnTo>
                                  <a:lnTo>
                                    <a:pt x="1212" y="224"/>
                                  </a:lnTo>
                                  <a:lnTo>
                                    <a:pt x="1236" y="284"/>
                                  </a:lnTo>
                                  <a:lnTo>
                                    <a:pt x="1254" y="329"/>
                                  </a:lnTo>
                                  <a:lnTo>
                                    <a:pt x="1267" y="391"/>
                                  </a:lnTo>
                                  <a:lnTo>
                                    <a:pt x="1286" y="454"/>
                                  </a:lnTo>
                                  <a:lnTo>
                                    <a:pt x="1301" y="513"/>
                                  </a:lnTo>
                                  <a:lnTo>
                                    <a:pt x="1313" y="569"/>
                                  </a:lnTo>
                                  <a:lnTo>
                                    <a:pt x="1325" y="627"/>
                                  </a:lnTo>
                                  <a:lnTo>
                                    <a:pt x="1340" y="679"/>
                                  </a:lnTo>
                                  <a:lnTo>
                                    <a:pt x="1347" y="744"/>
                                  </a:lnTo>
                                  <a:lnTo>
                                    <a:pt x="1355" y="813"/>
                                  </a:lnTo>
                                  <a:lnTo>
                                    <a:pt x="1361" y="875"/>
                                  </a:lnTo>
                                  <a:lnTo>
                                    <a:pt x="1353" y="923"/>
                                  </a:lnTo>
                                  <a:lnTo>
                                    <a:pt x="1347" y="962"/>
                                  </a:lnTo>
                                  <a:lnTo>
                                    <a:pt x="1343" y="996"/>
                                  </a:lnTo>
                                  <a:lnTo>
                                    <a:pt x="1328" y="1026"/>
                                  </a:lnTo>
                                  <a:lnTo>
                                    <a:pt x="1303" y="1057"/>
                                  </a:lnTo>
                                  <a:lnTo>
                                    <a:pt x="1266" y="1085"/>
                                  </a:lnTo>
                                  <a:lnTo>
                                    <a:pt x="1221" y="1102"/>
                                  </a:lnTo>
                                  <a:lnTo>
                                    <a:pt x="1170" y="1113"/>
                                  </a:lnTo>
                                  <a:lnTo>
                                    <a:pt x="1109" y="1121"/>
                                  </a:lnTo>
                                  <a:lnTo>
                                    <a:pt x="1053" y="1128"/>
                                  </a:lnTo>
                                  <a:lnTo>
                                    <a:pt x="992" y="1131"/>
                                  </a:lnTo>
                                  <a:lnTo>
                                    <a:pt x="918" y="1138"/>
                                  </a:lnTo>
                                  <a:lnTo>
                                    <a:pt x="855" y="1143"/>
                                  </a:lnTo>
                                  <a:lnTo>
                                    <a:pt x="797" y="1143"/>
                                  </a:lnTo>
                                  <a:lnTo>
                                    <a:pt x="739" y="1138"/>
                                  </a:lnTo>
                                  <a:lnTo>
                                    <a:pt x="687" y="1131"/>
                                  </a:lnTo>
                                  <a:lnTo>
                                    <a:pt x="646" y="1127"/>
                                  </a:lnTo>
                                  <a:lnTo>
                                    <a:pt x="602" y="1115"/>
                                  </a:lnTo>
                                  <a:lnTo>
                                    <a:pt x="548" y="1100"/>
                                  </a:lnTo>
                                  <a:lnTo>
                                    <a:pt x="488" y="1081"/>
                                  </a:lnTo>
                                  <a:lnTo>
                                    <a:pt x="441" y="1063"/>
                                  </a:lnTo>
                                  <a:lnTo>
                                    <a:pt x="386" y="1041"/>
                                  </a:lnTo>
                                  <a:lnTo>
                                    <a:pt x="341" y="1021"/>
                                  </a:lnTo>
                                  <a:lnTo>
                                    <a:pt x="293" y="997"/>
                                  </a:lnTo>
                                  <a:lnTo>
                                    <a:pt x="243" y="971"/>
                                  </a:lnTo>
                                  <a:lnTo>
                                    <a:pt x="196" y="943"/>
                                  </a:lnTo>
                                  <a:lnTo>
                                    <a:pt x="149" y="908"/>
                                  </a:lnTo>
                                  <a:lnTo>
                                    <a:pt x="106" y="874"/>
                                  </a:lnTo>
                                  <a:lnTo>
                                    <a:pt x="74" y="847"/>
                                  </a:lnTo>
                                  <a:lnTo>
                                    <a:pt x="33" y="793"/>
                                  </a:lnTo>
                                  <a:lnTo>
                                    <a:pt x="0" y="749"/>
                                  </a:lnTo>
                                  <a:lnTo>
                                    <a:pt x="29" y="760"/>
                                  </a:lnTo>
                                  <a:lnTo>
                                    <a:pt x="54" y="782"/>
                                  </a:lnTo>
                                  <a:lnTo>
                                    <a:pt x="84" y="819"/>
                                  </a:lnTo>
                                  <a:lnTo>
                                    <a:pt x="122" y="853"/>
                                  </a:lnTo>
                                  <a:lnTo>
                                    <a:pt x="157" y="879"/>
                                  </a:lnTo>
                                  <a:lnTo>
                                    <a:pt x="198" y="908"/>
                                  </a:lnTo>
                                  <a:lnTo>
                                    <a:pt x="236" y="932"/>
                                  </a:lnTo>
                                  <a:lnTo>
                                    <a:pt x="278" y="960"/>
                                  </a:lnTo>
                                  <a:lnTo>
                                    <a:pt x="318" y="976"/>
                                  </a:lnTo>
                                  <a:lnTo>
                                    <a:pt x="366" y="1001"/>
                                  </a:lnTo>
                                  <a:lnTo>
                                    <a:pt x="406" y="1013"/>
                                  </a:lnTo>
                                  <a:lnTo>
                                    <a:pt x="443" y="1033"/>
                                  </a:lnTo>
                                  <a:lnTo>
                                    <a:pt x="483" y="1047"/>
                                  </a:lnTo>
                                  <a:lnTo>
                                    <a:pt x="519" y="1058"/>
                                  </a:lnTo>
                                  <a:lnTo>
                                    <a:pt x="568" y="1078"/>
                                  </a:lnTo>
                                  <a:lnTo>
                                    <a:pt x="613" y="1085"/>
                                  </a:lnTo>
                                  <a:lnTo>
                                    <a:pt x="660" y="1093"/>
                                  </a:lnTo>
                                  <a:lnTo>
                                    <a:pt x="708" y="1100"/>
                                  </a:lnTo>
                                  <a:lnTo>
                                    <a:pt x="757" y="1106"/>
                                  </a:lnTo>
                                  <a:lnTo>
                                    <a:pt x="805" y="1109"/>
                                  </a:lnTo>
                                  <a:lnTo>
                                    <a:pt x="845" y="1107"/>
                                  </a:lnTo>
                                  <a:lnTo>
                                    <a:pt x="889" y="1106"/>
                                  </a:lnTo>
                                  <a:lnTo>
                                    <a:pt x="928" y="1104"/>
                                  </a:lnTo>
                                  <a:lnTo>
                                    <a:pt x="971" y="1100"/>
                                  </a:lnTo>
                                  <a:lnTo>
                                    <a:pt x="1012" y="1097"/>
                                  </a:lnTo>
                                  <a:lnTo>
                                    <a:pt x="1052" y="1090"/>
                                  </a:lnTo>
                                  <a:lnTo>
                                    <a:pt x="1098" y="1084"/>
                                  </a:lnTo>
                                  <a:lnTo>
                                    <a:pt x="1140" y="1081"/>
                                  </a:lnTo>
                                  <a:lnTo>
                                    <a:pt x="1163" y="1067"/>
                                  </a:lnTo>
                                  <a:lnTo>
                                    <a:pt x="1190" y="1047"/>
                                  </a:lnTo>
                                  <a:lnTo>
                                    <a:pt x="1216" y="1033"/>
                                  </a:lnTo>
                                  <a:lnTo>
                                    <a:pt x="1234" y="1008"/>
                                  </a:lnTo>
                                  <a:lnTo>
                                    <a:pt x="1251" y="980"/>
                                  </a:lnTo>
                                  <a:lnTo>
                                    <a:pt x="1265" y="952"/>
                                  </a:lnTo>
                                  <a:lnTo>
                                    <a:pt x="1280" y="921"/>
                                  </a:lnTo>
                                  <a:lnTo>
                                    <a:pt x="1290" y="888"/>
                                  </a:lnTo>
                                  <a:lnTo>
                                    <a:pt x="1302" y="867"/>
                                  </a:lnTo>
                                  <a:lnTo>
                                    <a:pt x="1297" y="809"/>
                                  </a:lnTo>
                                  <a:lnTo>
                                    <a:pt x="1293" y="750"/>
                                  </a:lnTo>
                                  <a:lnTo>
                                    <a:pt x="1290" y="692"/>
                                  </a:lnTo>
                                  <a:lnTo>
                                    <a:pt x="1287" y="644"/>
                                  </a:lnTo>
                                  <a:lnTo>
                                    <a:pt x="1277" y="604"/>
                                  </a:lnTo>
                                  <a:lnTo>
                                    <a:pt x="1266" y="558"/>
                                  </a:lnTo>
                                  <a:lnTo>
                                    <a:pt x="1253" y="516"/>
                                  </a:lnTo>
                                  <a:lnTo>
                                    <a:pt x="1245" y="479"/>
                                  </a:lnTo>
                                  <a:lnTo>
                                    <a:pt x="1234" y="436"/>
                                  </a:lnTo>
                                  <a:lnTo>
                                    <a:pt x="1220" y="387"/>
                                  </a:lnTo>
                                  <a:lnTo>
                                    <a:pt x="1208" y="337"/>
                                  </a:lnTo>
                                  <a:lnTo>
                                    <a:pt x="1203" y="299"/>
                                  </a:lnTo>
                                  <a:lnTo>
                                    <a:pt x="1180" y="263"/>
                                  </a:lnTo>
                                  <a:lnTo>
                                    <a:pt x="1159" y="232"/>
                                  </a:lnTo>
                                  <a:lnTo>
                                    <a:pt x="1137" y="192"/>
                                  </a:lnTo>
                                  <a:lnTo>
                                    <a:pt x="1113" y="149"/>
                                  </a:lnTo>
                                  <a:lnTo>
                                    <a:pt x="1092" y="113"/>
                                  </a:lnTo>
                                  <a:lnTo>
                                    <a:pt x="1070" y="84"/>
                                  </a:lnTo>
                                  <a:lnTo>
                                    <a:pt x="1051" y="53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ffa04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6794" name=""/>
                          <p:cNvSpPr/>
                          <p:nvPr/>
                        </p:nvSpPr>
                        <p:spPr>
                          <a:xfrm>
                            <a:off x="2160000" y="2294640"/>
                            <a:ext cx="119880" cy="1508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488" h="488">
                                <a:moveTo>
                                  <a:pt x="22" y="0"/>
                                </a:moveTo>
                                <a:lnTo>
                                  <a:pt x="57" y="24"/>
                                </a:lnTo>
                                <a:lnTo>
                                  <a:pt x="89" y="55"/>
                                </a:lnTo>
                                <a:lnTo>
                                  <a:pt x="122" y="89"/>
                                </a:lnTo>
                                <a:lnTo>
                                  <a:pt x="158" y="130"/>
                                </a:lnTo>
                                <a:lnTo>
                                  <a:pt x="197" y="173"/>
                                </a:lnTo>
                                <a:lnTo>
                                  <a:pt x="243" y="221"/>
                                </a:lnTo>
                                <a:lnTo>
                                  <a:pt x="290" y="273"/>
                                </a:lnTo>
                                <a:lnTo>
                                  <a:pt x="323" y="313"/>
                                </a:lnTo>
                                <a:lnTo>
                                  <a:pt x="352" y="339"/>
                                </a:lnTo>
                                <a:lnTo>
                                  <a:pt x="381" y="364"/>
                                </a:lnTo>
                                <a:lnTo>
                                  <a:pt x="413" y="386"/>
                                </a:lnTo>
                                <a:lnTo>
                                  <a:pt x="444" y="412"/>
                                </a:lnTo>
                                <a:lnTo>
                                  <a:pt x="470" y="433"/>
                                </a:lnTo>
                                <a:lnTo>
                                  <a:pt x="484" y="449"/>
                                </a:lnTo>
                                <a:lnTo>
                                  <a:pt x="488" y="466"/>
                                </a:lnTo>
                                <a:lnTo>
                                  <a:pt x="485" y="479"/>
                                </a:lnTo>
                                <a:lnTo>
                                  <a:pt x="476" y="486"/>
                                </a:lnTo>
                                <a:lnTo>
                                  <a:pt x="462" y="488"/>
                                </a:lnTo>
                                <a:lnTo>
                                  <a:pt x="444" y="482"/>
                                </a:lnTo>
                                <a:lnTo>
                                  <a:pt x="417" y="463"/>
                                </a:lnTo>
                                <a:lnTo>
                                  <a:pt x="390" y="448"/>
                                </a:lnTo>
                                <a:lnTo>
                                  <a:pt x="365" y="436"/>
                                </a:lnTo>
                                <a:lnTo>
                                  <a:pt x="336" y="411"/>
                                </a:lnTo>
                                <a:lnTo>
                                  <a:pt x="308" y="389"/>
                                </a:lnTo>
                                <a:lnTo>
                                  <a:pt x="274" y="361"/>
                                </a:lnTo>
                                <a:lnTo>
                                  <a:pt x="243" y="336"/>
                                </a:lnTo>
                                <a:lnTo>
                                  <a:pt x="208" y="307"/>
                                </a:lnTo>
                                <a:lnTo>
                                  <a:pt x="179" y="281"/>
                                </a:lnTo>
                                <a:lnTo>
                                  <a:pt x="155" y="252"/>
                                </a:lnTo>
                                <a:lnTo>
                                  <a:pt x="130" y="228"/>
                                </a:lnTo>
                                <a:lnTo>
                                  <a:pt x="116" y="208"/>
                                </a:lnTo>
                                <a:lnTo>
                                  <a:pt x="92" y="176"/>
                                </a:lnTo>
                                <a:lnTo>
                                  <a:pt x="71" y="142"/>
                                </a:lnTo>
                                <a:lnTo>
                                  <a:pt x="49" y="109"/>
                                </a:lnTo>
                                <a:lnTo>
                                  <a:pt x="31" y="79"/>
                                </a:lnTo>
                                <a:lnTo>
                                  <a:pt x="15" y="52"/>
                                </a:lnTo>
                                <a:lnTo>
                                  <a:pt x="4" y="30"/>
                                </a:lnTo>
                                <a:lnTo>
                                  <a:pt x="0" y="15"/>
                                </a:lnTo>
                                <a:lnTo>
                                  <a:pt x="4" y="5"/>
                                </a:lnTo>
                                <a:lnTo>
                                  <a:pt x="22" y="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ffe0c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6795" name=""/>
                        <p:cNvSpPr/>
                        <p:nvPr/>
                      </p:nvSpPr>
                      <p:spPr>
                        <a:xfrm>
                          <a:off x="2224080" y="2383920"/>
                          <a:ext cx="105120" cy="997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22" h="325">
                              <a:moveTo>
                                <a:pt x="422" y="0"/>
                              </a:moveTo>
                              <a:lnTo>
                                <a:pt x="422" y="44"/>
                              </a:lnTo>
                              <a:lnTo>
                                <a:pt x="421" y="99"/>
                              </a:lnTo>
                              <a:lnTo>
                                <a:pt x="415" y="148"/>
                              </a:lnTo>
                              <a:lnTo>
                                <a:pt x="403" y="188"/>
                              </a:lnTo>
                              <a:lnTo>
                                <a:pt x="383" y="215"/>
                              </a:lnTo>
                              <a:lnTo>
                                <a:pt x="359" y="238"/>
                              </a:lnTo>
                              <a:lnTo>
                                <a:pt x="325" y="260"/>
                              </a:lnTo>
                              <a:lnTo>
                                <a:pt x="290" y="279"/>
                              </a:lnTo>
                              <a:lnTo>
                                <a:pt x="239" y="300"/>
                              </a:lnTo>
                              <a:lnTo>
                                <a:pt x="193" y="313"/>
                              </a:lnTo>
                              <a:lnTo>
                                <a:pt x="141" y="320"/>
                              </a:lnTo>
                              <a:lnTo>
                                <a:pt x="95" y="325"/>
                              </a:lnTo>
                              <a:lnTo>
                                <a:pt x="47" y="323"/>
                              </a:lnTo>
                              <a:lnTo>
                                <a:pt x="0" y="320"/>
                              </a:lnTo>
                            </a:path>
                          </a:pathLst>
                        </a:custGeom>
                        <a:noFill/>
                        <a:ln w="3240">
                          <a:solidFill>
                            <a:srgbClr val="ff8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6796" name=""/>
                      <p:cNvGrpSpPr/>
                      <p:nvPr/>
                    </p:nvGrpSpPr>
                    <p:grpSpPr>
                      <a:xfrm>
                        <a:off x="1949400" y="2050560"/>
                        <a:ext cx="362160" cy="417600"/>
                        <a:chOff x="1949400" y="2050560"/>
                        <a:chExt cx="362160" cy="417600"/>
                      </a:xfrm>
                    </p:grpSpPr>
                    <p:grpSp>
                      <p:nvGrpSpPr>
                        <p:cNvPr id="6797" name=""/>
                        <p:cNvGrpSpPr/>
                        <p:nvPr/>
                      </p:nvGrpSpPr>
                      <p:grpSpPr>
                        <a:xfrm>
                          <a:off x="2079000" y="2050560"/>
                          <a:ext cx="232560" cy="374760"/>
                          <a:chOff x="2079000" y="2050560"/>
                          <a:chExt cx="232560" cy="374760"/>
                        </a:xfrm>
                      </p:grpSpPr>
                      <p:grpSp>
                        <p:nvGrpSpPr>
                          <p:cNvPr id="6798" name=""/>
                          <p:cNvGrpSpPr/>
                          <p:nvPr/>
                        </p:nvGrpSpPr>
                        <p:grpSpPr>
                          <a:xfrm>
                            <a:off x="2079000" y="2050560"/>
                            <a:ext cx="232560" cy="374760"/>
                            <a:chOff x="2079000" y="2050560"/>
                            <a:chExt cx="232560" cy="374760"/>
                          </a:xfrm>
                        </p:grpSpPr>
                        <p:grpSp>
                          <p:nvGrpSpPr>
                            <p:cNvPr id="6799" name=""/>
                            <p:cNvGrpSpPr/>
                            <p:nvPr/>
                          </p:nvGrpSpPr>
                          <p:grpSpPr>
                            <a:xfrm>
                              <a:off x="2079000" y="2050560"/>
                              <a:ext cx="232560" cy="374760"/>
                              <a:chOff x="2079000" y="2050560"/>
                              <a:chExt cx="232560" cy="374760"/>
                            </a:xfrm>
                          </p:grpSpPr>
                          <p:grpSp>
                            <p:nvGrpSpPr>
                              <p:cNvPr id="6800" name=""/>
                              <p:cNvGrpSpPr/>
                              <p:nvPr/>
                            </p:nvGrpSpPr>
                            <p:grpSpPr>
                              <a:xfrm>
                                <a:off x="2079000" y="2050560"/>
                                <a:ext cx="232560" cy="374760"/>
                                <a:chOff x="2079000" y="2050560"/>
                                <a:chExt cx="232560" cy="374760"/>
                              </a:xfrm>
                            </p:grpSpPr>
                            <p:grpSp>
                              <p:nvGrpSpPr>
                                <p:cNvPr id="6801" name=""/>
                                <p:cNvGrpSpPr/>
                                <p:nvPr/>
                              </p:nvGrpSpPr>
                              <p:grpSpPr>
                                <a:xfrm>
                                  <a:off x="2079000" y="2050560"/>
                                  <a:ext cx="232560" cy="374760"/>
                                  <a:chOff x="2079000" y="2050560"/>
                                  <a:chExt cx="232560" cy="374760"/>
                                </a:xfrm>
                              </p:grpSpPr>
                              <p:sp>
                                <p:nvSpPr>
                                  <p:cNvPr id="6802" name=""/>
                                  <p:cNvSpPr/>
                                  <p:nvPr/>
                                </p:nvSpPr>
                                <p:spPr>
                                  <a:xfrm>
                                    <a:off x="2079000" y="2050560"/>
                                    <a:ext cx="232560" cy="374760"/>
                                  </a:xfrm>
                                  <a:custGeom>
                                    <a:avLst/>
                                    <a:gdLst/>
                                    <a:ahLst/>
                                    <a:rect l="l" t="t" r="r" b="b"/>
                                    <a:pathLst>
                                      <a:path w="939" h="1215">
                                        <a:moveTo>
                                          <a:pt x="2" y="270"/>
                                        </a:moveTo>
                                        <a:lnTo>
                                          <a:pt x="10" y="248"/>
                                        </a:lnTo>
                                        <a:lnTo>
                                          <a:pt x="20" y="228"/>
                                        </a:lnTo>
                                        <a:lnTo>
                                          <a:pt x="32" y="206"/>
                                        </a:lnTo>
                                        <a:lnTo>
                                          <a:pt x="45" y="191"/>
                                        </a:lnTo>
                                        <a:lnTo>
                                          <a:pt x="58" y="178"/>
                                        </a:lnTo>
                                        <a:lnTo>
                                          <a:pt x="75" y="160"/>
                                        </a:lnTo>
                                        <a:lnTo>
                                          <a:pt x="95" y="137"/>
                                        </a:lnTo>
                                        <a:lnTo>
                                          <a:pt x="110" y="116"/>
                                        </a:lnTo>
                                        <a:lnTo>
                                          <a:pt x="126" y="96"/>
                                        </a:lnTo>
                                        <a:lnTo>
                                          <a:pt x="143" y="80"/>
                                        </a:lnTo>
                                        <a:lnTo>
                                          <a:pt x="164" y="62"/>
                                        </a:lnTo>
                                        <a:lnTo>
                                          <a:pt x="184" y="47"/>
                                        </a:lnTo>
                                        <a:lnTo>
                                          <a:pt x="205" y="34"/>
                                        </a:lnTo>
                                        <a:lnTo>
                                          <a:pt x="231" y="21"/>
                                        </a:lnTo>
                                        <a:lnTo>
                                          <a:pt x="259" y="11"/>
                                        </a:lnTo>
                                        <a:lnTo>
                                          <a:pt x="288" y="4"/>
                                        </a:lnTo>
                                        <a:lnTo>
                                          <a:pt x="324" y="1"/>
                                        </a:lnTo>
                                        <a:lnTo>
                                          <a:pt x="358" y="0"/>
                                        </a:lnTo>
                                        <a:lnTo>
                                          <a:pt x="385" y="2"/>
                                        </a:lnTo>
                                        <a:lnTo>
                                          <a:pt x="413" y="6"/>
                                        </a:lnTo>
                                        <a:lnTo>
                                          <a:pt x="439" y="11"/>
                                        </a:lnTo>
                                        <a:lnTo>
                                          <a:pt x="471" y="19"/>
                                        </a:lnTo>
                                        <a:lnTo>
                                          <a:pt x="499" y="32"/>
                                        </a:lnTo>
                                        <a:lnTo>
                                          <a:pt x="521" y="43"/>
                                        </a:lnTo>
                                        <a:lnTo>
                                          <a:pt x="546" y="56"/>
                                        </a:lnTo>
                                        <a:lnTo>
                                          <a:pt x="565" y="74"/>
                                        </a:lnTo>
                                        <a:lnTo>
                                          <a:pt x="584" y="93"/>
                                        </a:lnTo>
                                        <a:lnTo>
                                          <a:pt x="599" y="112"/>
                                        </a:lnTo>
                                        <a:lnTo>
                                          <a:pt x="616" y="135"/>
                                        </a:lnTo>
                                        <a:lnTo>
                                          <a:pt x="631" y="158"/>
                                        </a:lnTo>
                                        <a:lnTo>
                                          <a:pt x="640" y="179"/>
                                        </a:lnTo>
                                        <a:lnTo>
                                          <a:pt x="646" y="206"/>
                                        </a:lnTo>
                                        <a:lnTo>
                                          <a:pt x="651" y="231"/>
                                        </a:lnTo>
                                        <a:lnTo>
                                          <a:pt x="654" y="250"/>
                                        </a:lnTo>
                                        <a:lnTo>
                                          <a:pt x="653" y="271"/>
                                        </a:lnTo>
                                        <a:lnTo>
                                          <a:pt x="648" y="286"/>
                                        </a:lnTo>
                                        <a:lnTo>
                                          <a:pt x="638" y="310"/>
                                        </a:lnTo>
                                        <a:lnTo>
                                          <a:pt x="624" y="339"/>
                                        </a:lnTo>
                                        <a:lnTo>
                                          <a:pt x="611" y="365"/>
                                        </a:lnTo>
                                        <a:lnTo>
                                          <a:pt x="601" y="386"/>
                                        </a:lnTo>
                                        <a:lnTo>
                                          <a:pt x="594" y="409"/>
                                        </a:lnTo>
                                        <a:lnTo>
                                          <a:pt x="586" y="433"/>
                                        </a:lnTo>
                                        <a:lnTo>
                                          <a:pt x="580" y="454"/>
                                        </a:lnTo>
                                        <a:lnTo>
                                          <a:pt x="577" y="465"/>
                                        </a:lnTo>
                                        <a:lnTo>
                                          <a:pt x="578" y="473"/>
                                        </a:lnTo>
                                        <a:lnTo>
                                          <a:pt x="583" y="476"/>
                                        </a:lnTo>
                                        <a:lnTo>
                                          <a:pt x="590" y="476"/>
                                        </a:lnTo>
                                        <a:lnTo>
                                          <a:pt x="596" y="470"/>
                                        </a:lnTo>
                                        <a:lnTo>
                                          <a:pt x="603" y="459"/>
                                        </a:lnTo>
                                        <a:lnTo>
                                          <a:pt x="612" y="439"/>
                                        </a:lnTo>
                                        <a:lnTo>
                                          <a:pt x="625" y="411"/>
                                        </a:lnTo>
                                        <a:lnTo>
                                          <a:pt x="640" y="385"/>
                                        </a:lnTo>
                                        <a:lnTo>
                                          <a:pt x="654" y="363"/>
                                        </a:lnTo>
                                        <a:lnTo>
                                          <a:pt x="668" y="343"/>
                                        </a:lnTo>
                                        <a:lnTo>
                                          <a:pt x="676" y="334"/>
                                        </a:lnTo>
                                        <a:lnTo>
                                          <a:pt x="684" y="329"/>
                                        </a:lnTo>
                                        <a:lnTo>
                                          <a:pt x="694" y="327"/>
                                        </a:lnTo>
                                        <a:lnTo>
                                          <a:pt x="701" y="333"/>
                                        </a:lnTo>
                                        <a:lnTo>
                                          <a:pt x="711" y="351"/>
                                        </a:lnTo>
                                        <a:lnTo>
                                          <a:pt x="720" y="367"/>
                                        </a:lnTo>
                                        <a:lnTo>
                                          <a:pt x="731" y="389"/>
                                        </a:lnTo>
                                        <a:lnTo>
                                          <a:pt x="743" y="410"/>
                                        </a:lnTo>
                                        <a:lnTo>
                                          <a:pt x="753" y="429"/>
                                        </a:lnTo>
                                        <a:lnTo>
                                          <a:pt x="761" y="450"/>
                                        </a:lnTo>
                                        <a:lnTo>
                                          <a:pt x="770" y="469"/>
                                        </a:lnTo>
                                        <a:lnTo>
                                          <a:pt x="778" y="491"/>
                                        </a:lnTo>
                                        <a:lnTo>
                                          <a:pt x="792" y="505"/>
                                        </a:lnTo>
                                        <a:lnTo>
                                          <a:pt x="808" y="524"/>
                                        </a:lnTo>
                                        <a:lnTo>
                                          <a:pt x="820" y="541"/>
                                        </a:lnTo>
                                        <a:lnTo>
                                          <a:pt x="823" y="561"/>
                                        </a:lnTo>
                                        <a:lnTo>
                                          <a:pt x="821" y="581"/>
                                        </a:lnTo>
                                        <a:lnTo>
                                          <a:pt x="817" y="608"/>
                                        </a:lnTo>
                                        <a:lnTo>
                                          <a:pt x="812" y="633"/>
                                        </a:lnTo>
                                        <a:lnTo>
                                          <a:pt x="807" y="659"/>
                                        </a:lnTo>
                                        <a:lnTo>
                                          <a:pt x="817" y="675"/>
                                        </a:lnTo>
                                        <a:lnTo>
                                          <a:pt x="827" y="691"/>
                                        </a:lnTo>
                                        <a:lnTo>
                                          <a:pt x="836" y="709"/>
                                        </a:lnTo>
                                        <a:lnTo>
                                          <a:pt x="847" y="729"/>
                                        </a:lnTo>
                                        <a:lnTo>
                                          <a:pt x="863" y="762"/>
                                        </a:lnTo>
                                        <a:lnTo>
                                          <a:pt x="877" y="790"/>
                                        </a:lnTo>
                                        <a:lnTo>
                                          <a:pt x="893" y="817"/>
                                        </a:lnTo>
                                        <a:lnTo>
                                          <a:pt x="905" y="843"/>
                                        </a:lnTo>
                                        <a:lnTo>
                                          <a:pt x="911" y="861"/>
                                        </a:lnTo>
                                        <a:lnTo>
                                          <a:pt x="917" y="888"/>
                                        </a:lnTo>
                                        <a:lnTo>
                                          <a:pt x="922" y="918"/>
                                        </a:lnTo>
                                        <a:lnTo>
                                          <a:pt x="927" y="940"/>
                                        </a:lnTo>
                                        <a:lnTo>
                                          <a:pt x="933" y="971"/>
                                        </a:lnTo>
                                        <a:lnTo>
                                          <a:pt x="935" y="1002"/>
                                        </a:lnTo>
                                        <a:lnTo>
                                          <a:pt x="934" y="1023"/>
                                        </a:lnTo>
                                        <a:lnTo>
                                          <a:pt x="934" y="1047"/>
                                        </a:lnTo>
                                        <a:lnTo>
                                          <a:pt x="935" y="1096"/>
                                        </a:lnTo>
                                        <a:lnTo>
                                          <a:pt x="939" y="1153"/>
                                        </a:lnTo>
                                        <a:lnTo>
                                          <a:pt x="938" y="1179"/>
                                        </a:lnTo>
                                        <a:lnTo>
                                          <a:pt x="935" y="1196"/>
                                        </a:lnTo>
                                        <a:lnTo>
                                          <a:pt x="924" y="1206"/>
                                        </a:lnTo>
                                        <a:lnTo>
                                          <a:pt x="906" y="1214"/>
                                        </a:lnTo>
                                        <a:lnTo>
                                          <a:pt x="888" y="1215"/>
                                        </a:lnTo>
                                        <a:lnTo>
                                          <a:pt x="873" y="1208"/>
                                        </a:lnTo>
                                        <a:lnTo>
                                          <a:pt x="862" y="1199"/>
                                        </a:lnTo>
                                        <a:lnTo>
                                          <a:pt x="833" y="1181"/>
                                        </a:lnTo>
                                        <a:lnTo>
                                          <a:pt x="806" y="1167"/>
                                        </a:lnTo>
                                        <a:lnTo>
                                          <a:pt x="779" y="1155"/>
                                        </a:lnTo>
                                        <a:lnTo>
                                          <a:pt x="758" y="1136"/>
                                        </a:lnTo>
                                        <a:lnTo>
                                          <a:pt x="721" y="1103"/>
                                        </a:lnTo>
                                        <a:lnTo>
                                          <a:pt x="687" y="1069"/>
                                        </a:lnTo>
                                        <a:lnTo>
                                          <a:pt x="653" y="1038"/>
                                        </a:lnTo>
                                        <a:lnTo>
                                          <a:pt x="621" y="1002"/>
                                        </a:lnTo>
                                        <a:lnTo>
                                          <a:pt x="582" y="954"/>
                                        </a:lnTo>
                                        <a:lnTo>
                                          <a:pt x="553" y="918"/>
                                        </a:lnTo>
                                        <a:lnTo>
                                          <a:pt x="520" y="888"/>
                                        </a:lnTo>
                                        <a:lnTo>
                                          <a:pt x="481" y="847"/>
                                        </a:lnTo>
                                        <a:lnTo>
                                          <a:pt x="441" y="806"/>
                                        </a:lnTo>
                                        <a:lnTo>
                                          <a:pt x="385" y="754"/>
                                        </a:lnTo>
                                        <a:lnTo>
                                          <a:pt x="334" y="711"/>
                                        </a:lnTo>
                                        <a:lnTo>
                                          <a:pt x="310" y="684"/>
                                        </a:lnTo>
                                        <a:lnTo>
                                          <a:pt x="291" y="662"/>
                                        </a:lnTo>
                                        <a:lnTo>
                                          <a:pt x="280" y="643"/>
                                        </a:lnTo>
                                        <a:lnTo>
                                          <a:pt x="271" y="619"/>
                                        </a:lnTo>
                                        <a:lnTo>
                                          <a:pt x="270" y="607"/>
                                        </a:lnTo>
                                        <a:lnTo>
                                          <a:pt x="275" y="599"/>
                                        </a:lnTo>
                                        <a:lnTo>
                                          <a:pt x="287" y="590"/>
                                        </a:lnTo>
                                        <a:lnTo>
                                          <a:pt x="306" y="576"/>
                                        </a:lnTo>
                                        <a:lnTo>
                                          <a:pt x="327" y="562"/>
                                        </a:lnTo>
                                        <a:lnTo>
                                          <a:pt x="347" y="548"/>
                                        </a:lnTo>
                                        <a:lnTo>
                                          <a:pt x="363" y="538"/>
                                        </a:lnTo>
                                        <a:lnTo>
                                          <a:pt x="381" y="531"/>
                                        </a:lnTo>
                                        <a:lnTo>
                                          <a:pt x="402" y="524"/>
                                        </a:lnTo>
                                        <a:lnTo>
                                          <a:pt x="422" y="517"/>
                                        </a:lnTo>
                                        <a:lnTo>
                                          <a:pt x="443" y="510"/>
                                        </a:lnTo>
                                        <a:lnTo>
                                          <a:pt x="457" y="504"/>
                                        </a:lnTo>
                                        <a:lnTo>
                                          <a:pt x="459" y="498"/>
                                        </a:lnTo>
                                        <a:lnTo>
                                          <a:pt x="454" y="491"/>
                                        </a:lnTo>
                                        <a:lnTo>
                                          <a:pt x="445" y="489"/>
                                        </a:lnTo>
                                        <a:lnTo>
                                          <a:pt x="422" y="492"/>
                                        </a:lnTo>
                                        <a:lnTo>
                                          <a:pt x="398" y="496"/>
                                        </a:lnTo>
                                        <a:lnTo>
                                          <a:pt x="369" y="502"/>
                                        </a:lnTo>
                                        <a:lnTo>
                                          <a:pt x="340" y="510"/>
                                        </a:lnTo>
                                        <a:lnTo>
                                          <a:pt x="327" y="515"/>
                                        </a:lnTo>
                                        <a:lnTo>
                                          <a:pt x="311" y="527"/>
                                        </a:lnTo>
                                        <a:lnTo>
                                          <a:pt x="292" y="541"/>
                                        </a:lnTo>
                                        <a:lnTo>
                                          <a:pt x="268" y="562"/>
                                        </a:lnTo>
                                        <a:lnTo>
                                          <a:pt x="254" y="565"/>
                                        </a:lnTo>
                                        <a:lnTo>
                                          <a:pt x="232" y="567"/>
                                        </a:lnTo>
                                        <a:lnTo>
                                          <a:pt x="211" y="568"/>
                                        </a:lnTo>
                                        <a:lnTo>
                                          <a:pt x="197" y="564"/>
                                        </a:lnTo>
                                        <a:lnTo>
                                          <a:pt x="182" y="557"/>
                                        </a:lnTo>
                                        <a:lnTo>
                                          <a:pt x="162" y="549"/>
                                        </a:lnTo>
                                        <a:lnTo>
                                          <a:pt x="152" y="539"/>
                                        </a:lnTo>
                                        <a:lnTo>
                                          <a:pt x="141" y="523"/>
                                        </a:lnTo>
                                        <a:lnTo>
                                          <a:pt x="129" y="504"/>
                                        </a:lnTo>
                                        <a:lnTo>
                                          <a:pt x="119" y="489"/>
                                        </a:lnTo>
                                        <a:lnTo>
                                          <a:pt x="98" y="468"/>
                                        </a:lnTo>
                                        <a:lnTo>
                                          <a:pt x="83" y="449"/>
                                        </a:lnTo>
                                        <a:lnTo>
                                          <a:pt x="61" y="428"/>
                                        </a:lnTo>
                                        <a:lnTo>
                                          <a:pt x="44" y="410"/>
                                        </a:lnTo>
                                        <a:lnTo>
                                          <a:pt x="33" y="398"/>
                                        </a:lnTo>
                                        <a:lnTo>
                                          <a:pt x="26" y="383"/>
                                        </a:lnTo>
                                        <a:lnTo>
                                          <a:pt x="18" y="362"/>
                                        </a:lnTo>
                                        <a:lnTo>
                                          <a:pt x="9" y="338"/>
                                        </a:lnTo>
                                        <a:lnTo>
                                          <a:pt x="4" y="314"/>
                                        </a:lnTo>
                                        <a:lnTo>
                                          <a:pt x="0" y="288"/>
                                        </a:lnTo>
                                        <a:lnTo>
                                          <a:pt x="2" y="270"/>
                                        </a:lnTo>
                                        <a:close/>
                                      </a:path>
                                    </a:pathLst>
                                  </a:custGeom>
                                  <a:solidFill>
                                    <a:srgbClr val="ff8080"/>
                                  </a:solidFill>
                                  <a:ln w="0">
                                    <a:noFill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  <p:grpSp>
                                <p:nvGrpSpPr>
                                  <p:cNvPr id="6803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2079000" y="2050560"/>
                                    <a:ext cx="232200" cy="372600"/>
                                    <a:chOff x="2079000" y="2050560"/>
                                    <a:chExt cx="232200" cy="372600"/>
                                  </a:xfrm>
                                </p:grpSpPr>
                                <p:sp>
                                  <p:nvSpPr>
                                    <p:cNvPr id="680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145600" y="2150640"/>
                                      <a:ext cx="165600" cy="272520"/>
                                    </a:xfrm>
                                    <a:custGeom>
                                      <a:avLst/>
                                      <a:gdLst/>
                                      <a:ahLst/>
                                      <a:rect l="l" t="t" r="r" b="b"/>
                                      <a:pathLst>
                                        <a:path w="668" h="887">
                                          <a:moveTo>
                                            <a:pt x="408" y="53"/>
                                          </a:moveTo>
                                          <a:lnTo>
                                            <a:pt x="395" y="57"/>
                                          </a:lnTo>
                                          <a:lnTo>
                                            <a:pt x="379" y="68"/>
                                          </a:lnTo>
                                          <a:lnTo>
                                            <a:pt x="365" y="77"/>
                                          </a:lnTo>
                                          <a:lnTo>
                                            <a:pt x="354" y="84"/>
                                          </a:lnTo>
                                          <a:lnTo>
                                            <a:pt x="369" y="58"/>
                                          </a:lnTo>
                                          <a:lnTo>
                                            <a:pt x="383" y="36"/>
                                          </a:lnTo>
                                          <a:lnTo>
                                            <a:pt x="397" y="16"/>
                                          </a:lnTo>
                                          <a:lnTo>
                                            <a:pt x="405" y="7"/>
                                          </a:lnTo>
                                          <a:lnTo>
                                            <a:pt x="413" y="2"/>
                                          </a:lnTo>
                                          <a:lnTo>
                                            <a:pt x="423" y="0"/>
                                          </a:lnTo>
                                          <a:lnTo>
                                            <a:pt x="430" y="6"/>
                                          </a:lnTo>
                                          <a:lnTo>
                                            <a:pt x="441" y="24"/>
                                          </a:lnTo>
                                          <a:lnTo>
                                            <a:pt x="450" y="40"/>
                                          </a:lnTo>
                                          <a:lnTo>
                                            <a:pt x="461" y="62"/>
                                          </a:lnTo>
                                          <a:lnTo>
                                            <a:pt x="473" y="83"/>
                                          </a:lnTo>
                                          <a:lnTo>
                                            <a:pt x="483" y="102"/>
                                          </a:lnTo>
                                          <a:lnTo>
                                            <a:pt x="491" y="123"/>
                                          </a:lnTo>
                                          <a:lnTo>
                                            <a:pt x="500" y="142"/>
                                          </a:lnTo>
                                          <a:lnTo>
                                            <a:pt x="507" y="164"/>
                                          </a:lnTo>
                                          <a:lnTo>
                                            <a:pt x="521" y="178"/>
                                          </a:lnTo>
                                          <a:lnTo>
                                            <a:pt x="537" y="197"/>
                                          </a:lnTo>
                                          <a:lnTo>
                                            <a:pt x="549" y="214"/>
                                          </a:lnTo>
                                          <a:lnTo>
                                            <a:pt x="552" y="233"/>
                                          </a:lnTo>
                                          <a:lnTo>
                                            <a:pt x="550" y="253"/>
                                          </a:lnTo>
                                          <a:lnTo>
                                            <a:pt x="546" y="280"/>
                                          </a:lnTo>
                                          <a:lnTo>
                                            <a:pt x="541" y="305"/>
                                          </a:lnTo>
                                          <a:lnTo>
                                            <a:pt x="536" y="331"/>
                                          </a:lnTo>
                                          <a:lnTo>
                                            <a:pt x="546" y="347"/>
                                          </a:lnTo>
                                          <a:lnTo>
                                            <a:pt x="556" y="363"/>
                                          </a:lnTo>
                                          <a:lnTo>
                                            <a:pt x="565" y="381"/>
                                          </a:lnTo>
                                          <a:lnTo>
                                            <a:pt x="576" y="401"/>
                                          </a:lnTo>
                                          <a:lnTo>
                                            <a:pt x="592" y="434"/>
                                          </a:lnTo>
                                          <a:lnTo>
                                            <a:pt x="606" y="462"/>
                                          </a:lnTo>
                                          <a:lnTo>
                                            <a:pt x="622" y="489"/>
                                          </a:lnTo>
                                          <a:lnTo>
                                            <a:pt x="634" y="515"/>
                                          </a:lnTo>
                                          <a:lnTo>
                                            <a:pt x="640" y="533"/>
                                          </a:lnTo>
                                          <a:lnTo>
                                            <a:pt x="646" y="560"/>
                                          </a:lnTo>
                                          <a:lnTo>
                                            <a:pt x="651" y="591"/>
                                          </a:lnTo>
                                          <a:lnTo>
                                            <a:pt x="656" y="613"/>
                                          </a:lnTo>
                                          <a:lnTo>
                                            <a:pt x="662" y="644"/>
                                          </a:lnTo>
                                          <a:lnTo>
                                            <a:pt x="664" y="674"/>
                                          </a:lnTo>
                                          <a:lnTo>
                                            <a:pt x="663" y="695"/>
                                          </a:lnTo>
                                          <a:lnTo>
                                            <a:pt x="663" y="719"/>
                                          </a:lnTo>
                                          <a:lnTo>
                                            <a:pt x="664" y="768"/>
                                          </a:lnTo>
                                          <a:lnTo>
                                            <a:pt x="668" y="825"/>
                                          </a:lnTo>
                                          <a:lnTo>
                                            <a:pt x="667" y="851"/>
                                          </a:lnTo>
                                          <a:lnTo>
                                            <a:pt x="664" y="868"/>
                                          </a:lnTo>
                                          <a:lnTo>
                                            <a:pt x="653" y="878"/>
                                          </a:lnTo>
                                          <a:lnTo>
                                            <a:pt x="635" y="886"/>
                                          </a:lnTo>
                                          <a:lnTo>
                                            <a:pt x="617" y="887"/>
                                          </a:lnTo>
                                          <a:lnTo>
                                            <a:pt x="602" y="880"/>
                                          </a:lnTo>
                                          <a:lnTo>
                                            <a:pt x="591" y="871"/>
                                          </a:lnTo>
                                          <a:lnTo>
                                            <a:pt x="562" y="853"/>
                                          </a:lnTo>
                                          <a:lnTo>
                                            <a:pt x="535" y="839"/>
                                          </a:lnTo>
                                          <a:lnTo>
                                            <a:pt x="508" y="827"/>
                                          </a:lnTo>
                                          <a:lnTo>
                                            <a:pt x="488" y="808"/>
                                          </a:lnTo>
                                          <a:lnTo>
                                            <a:pt x="451" y="775"/>
                                          </a:lnTo>
                                          <a:lnTo>
                                            <a:pt x="416" y="741"/>
                                          </a:lnTo>
                                          <a:lnTo>
                                            <a:pt x="382" y="710"/>
                                          </a:lnTo>
                                          <a:lnTo>
                                            <a:pt x="350" y="674"/>
                                          </a:lnTo>
                                          <a:lnTo>
                                            <a:pt x="311" y="627"/>
                                          </a:lnTo>
                                          <a:lnTo>
                                            <a:pt x="282" y="591"/>
                                          </a:lnTo>
                                          <a:lnTo>
                                            <a:pt x="249" y="560"/>
                                          </a:lnTo>
                                          <a:lnTo>
                                            <a:pt x="210" y="519"/>
                                          </a:lnTo>
                                          <a:lnTo>
                                            <a:pt x="170" y="478"/>
                                          </a:lnTo>
                                          <a:lnTo>
                                            <a:pt x="115" y="426"/>
                                          </a:lnTo>
                                          <a:lnTo>
                                            <a:pt x="64" y="383"/>
                                          </a:lnTo>
                                          <a:lnTo>
                                            <a:pt x="40" y="356"/>
                                          </a:lnTo>
                                          <a:lnTo>
                                            <a:pt x="21" y="334"/>
                                          </a:lnTo>
                                          <a:lnTo>
                                            <a:pt x="10" y="315"/>
                                          </a:lnTo>
                                          <a:lnTo>
                                            <a:pt x="1" y="291"/>
                                          </a:lnTo>
                                          <a:lnTo>
                                            <a:pt x="0" y="279"/>
                                          </a:lnTo>
                                          <a:lnTo>
                                            <a:pt x="5" y="271"/>
                                          </a:lnTo>
                                          <a:lnTo>
                                            <a:pt x="17" y="262"/>
                                          </a:lnTo>
                                          <a:lnTo>
                                            <a:pt x="36" y="248"/>
                                          </a:lnTo>
                                          <a:lnTo>
                                            <a:pt x="57" y="234"/>
                                          </a:lnTo>
                                          <a:lnTo>
                                            <a:pt x="77" y="221"/>
                                          </a:lnTo>
                                          <a:lnTo>
                                            <a:pt x="93" y="211"/>
                                          </a:lnTo>
                                          <a:lnTo>
                                            <a:pt x="82" y="237"/>
                                          </a:lnTo>
                                          <a:lnTo>
                                            <a:pt x="71" y="258"/>
                                          </a:lnTo>
                                          <a:lnTo>
                                            <a:pt x="60" y="280"/>
                                          </a:lnTo>
                                          <a:lnTo>
                                            <a:pt x="54" y="295"/>
                                          </a:lnTo>
                                          <a:lnTo>
                                            <a:pt x="55" y="308"/>
                                          </a:lnTo>
                                          <a:lnTo>
                                            <a:pt x="62" y="325"/>
                                          </a:lnTo>
                                          <a:lnTo>
                                            <a:pt x="74" y="347"/>
                                          </a:lnTo>
                                          <a:lnTo>
                                            <a:pt x="91" y="366"/>
                                          </a:lnTo>
                                          <a:lnTo>
                                            <a:pt x="109" y="390"/>
                                          </a:lnTo>
                                          <a:lnTo>
                                            <a:pt x="138" y="411"/>
                                          </a:lnTo>
                                          <a:lnTo>
                                            <a:pt x="167" y="436"/>
                                          </a:lnTo>
                                          <a:lnTo>
                                            <a:pt x="190" y="455"/>
                                          </a:lnTo>
                                          <a:lnTo>
                                            <a:pt x="215" y="475"/>
                                          </a:lnTo>
                                          <a:lnTo>
                                            <a:pt x="239" y="495"/>
                                          </a:lnTo>
                                          <a:lnTo>
                                            <a:pt x="264" y="516"/>
                                          </a:lnTo>
                                          <a:lnTo>
                                            <a:pt x="284" y="541"/>
                                          </a:lnTo>
                                          <a:lnTo>
                                            <a:pt x="307" y="559"/>
                                          </a:lnTo>
                                          <a:lnTo>
                                            <a:pt x="322" y="577"/>
                                          </a:lnTo>
                                          <a:lnTo>
                                            <a:pt x="341" y="603"/>
                                          </a:lnTo>
                                          <a:lnTo>
                                            <a:pt x="358" y="628"/>
                                          </a:lnTo>
                                          <a:lnTo>
                                            <a:pt x="377" y="655"/>
                                          </a:lnTo>
                                          <a:lnTo>
                                            <a:pt x="397" y="678"/>
                                          </a:lnTo>
                                          <a:lnTo>
                                            <a:pt x="420" y="697"/>
                                          </a:lnTo>
                                          <a:lnTo>
                                            <a:pt x="453" y="724"/>
                                          </a:lnTo>
                                          <a:lnTo>
                                            <a:pt x="475" y="743"/>
                                          </a:lnTo>
                                          <a:lnTo>
                                            <a:pt x="496" y="760"/>
                                          </a:lnTo>
                                          <a:lnTo>
                                            <a:pt x="509" y="776"/>
                                          </a:lnTo>
                                          <a:lnTo>
                                            <a:pt x="528" y="783"/>
                                          </a:lnTo>
                                          <a:lnTo>
                                            <a:pt x="546" y="792"/>
                                          </a:lnTo>
                                          <a:lnTo>
                                            <a:pt x="564" y="798"/>
                                          </a:lnTo>
                                          <a:lnTo>
                                            <a:pt x="582" y="803"/>
                                          </a:lnTo>
                                          <a:lnTo>
                                            <a:pt x="594" y="802"/>
                                          </a:lnTo>
                                          <a:lnTo>
                                            <a:pt x="604" y="798"/>
                                          </a:lnTo>
                                          <a:lnTo>
                                            <a:pt x="614" y="792"/>
                                          </a:lnTo>
                                          <a:lnTo>
                                            <a:pt x="620" y="779"/>
                                          </a:lnTo>
                                          <a:lnTo>
                                            <a:pt x="623" y="766"/>
                                          </a:lnTo>
                                          <a:lnTo>
                                            <a:pt x="620" y="738"/>
                                          </a:lnTo>
                                          <a:lnTo>
                                            <a:pt x="618" y="704"/>
                                          </a:lnTo>
                                          <a:lnTo>
                                            <a:pt x="614" y="673"/>
                                          </a:lnTo>
                                          <a:lnTo>
                                            <a:pt x="610" y="640"/>
                                          </a:lnTo>
                                          <a:lnTo>
                                            <a:pt x="607" y="617"/>
                                          </a:lnTo>
                                          <a:lnTo>
                                            <a:pt x="601" y="595"/>
                                          </a:lnTo>
                                          <a:lnTo>
                                            <a:pt x="595" y="566"/>
                                          </a:lnTo>
                                          <a:lnTo>
                                            <a:pt x="586" y="539"/>
                                          </a:lnTo>
                                          <a:lnTo>
                                            <a:pt x="583" y="521"/>
                                          </a:lnTo>
                                          <a:lnTo>
                                            <a:pt x="577" y="502"/>
                                          </a:lnTo>
                                          <a:lnTo>
                                            <a:pt x="564" y="481"/>
                                          </a:lnTo>
                                          <a:lnTo>
                                            <a:pt x="555" y="459"/>
                                          </a:lnTo>
                                          <a:lnTo>
                                            <a:pt x="543" y="440"/>
                                          </a:lnTo>
                                          <a:lnTo>
                                            <a:pt x="531" y="417"/>
                                          </a:lnTo>
                                          <a:lnTo>
                                            <a:pt x="519" y="395"/>
                                          </a:lnTo>
                                          <a:lnTo>
                                            <a:pt x="506" y="370"/>
                                          </a:lnTo>
                                          <a:lnTo>
                                            <a:pt x="492" y="347"/>
                                          </a:lnTo>
                                          <a:lnTo>
                                            <a:pt x="485" y="334"/>
                                          </a:lnTo>
                                          <a:lnTo>
                                            <a:pt x="483" y="325"/>
                                          </a:lnTo>
                                          <a:lnTo>
                                            <a:pt x="487" y="313"/>
                                          </a:lnTo>
                                          <a:lnTo>
                                            <a:pt x="492" y="291"/>
                                          </a:lnTo>
                                          <a:lnTo>
                                            <a:pt x="498" y="267"/>
                                          </a:lnTo>
                                          <a:lnTo>
                                            <a:pt x="501" y="253"/>
                                          </a:lnTo>
                                          <a:lnTo>
                                            <a:pt x="506" y="242"/>
                                          </a:lnTo>
                                          <a:lnTo>
                                            <a:pt x="497" y="222"/>
                                          </a:lnTo>
                                          <a:lnTo>
                                            <a:pt x="487" y="196"/>
                                          </a:lnTo>
                                          <a:lnTo>
                                            <a:pt x="475" y="165"/>
                                          </a:lnTo>
                                          <a:lnTo>
                                            <a:pt x="463" y="135"/>
                                          </a:lnTo>
                                          <a:lnTo>
                                            <a:pt x="449" y="103"/>
                                          </a:lnTo>
                                          <a:lnTo>
                                            <a:pt x="438" y="78"/>
                                          </a:lnTo>
                                          <a:lnTo>
                                            <a:pt x="427" y="57"/>
                                          </a:lnTo>
                                          <a:lnTo>
                                            <a:pt x="418" y="52"/>
                                          </a:lnTo>
                                          <a:lnTo>
                                            <a:pt x="408" y="53"/>
                                          </a:lnTo>
                                          <a:close/>
                                        </a:path>
                                      </a:pathLst>
                                    </a:custGeom>
                                    <a:solidFill>
                                      <a:srgbClr val="ff404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46800" bIns="4680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000000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680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079000" y="2050560"/>
                                      <a:ext cx="160560" cy="173880"/>
                                    </a:xfrm>
                                    <a:custGeom>
                                      <a:avLst/>
                                      <a:gdLst/>
                                      <a:ahLst/>
                                      <a:rect l="l" t="t" r="r" b="b"/>
                                      <a:pathLst>
                                        <a:path w="653" h="567">
                                          <a:moveTo>
                                            <a:pt x="2" y="269"/>
                                          </a:moveTo>
                                          <a:lnTo>
                                            <a:pt x="10" y="247"/>
                                          </a:lnTo>
                                          <a:lnTo>
                                            <a:pt x="20" y="226"/>
                                          </a:lnTo>
                                          <a:lnTo>
                                            <a:pt x="32" y="205"/>
                                          </a:lnTo>
                                          <a:lnTo>
                                            <a:pt x="45" y="190"/>
                                          </a:lnTo>
                                          <a:lnTo>
                                            <a:pt x="58" y="177"/>
                                          </a:lnTo>
                                          <a:lnTo>
                                            <a:pt x="75" y="159"/>
                                          </a:lnTo>
                                          <a:lnTo>
                                            <a:pt x="95" y="137"/>
                                          </a:lnTo>
                                          <a:lnTo>
                                            <a:pt x="110" y="116"/>
                                          </a:lnTo>
                                          <a:lnTo>
                                            <a:pt x="126" y="96"/>
                                          </a:lnTo>
                                          <a:lnTo>
                                            <a:pt x="143" y="80"/>
                                          </a:lnTo>
                                          <a:lnTo>
                                            <a:pt x="163" y="62"/>
                                          </a:lnTo>
                                          <a:lnTo>
                                            <a:pt x="183" y="47"/>
                                          </a:lnTo>
                                          <a:lnTo>
                                            <a:pt x="204" y="34"/>
                                          </a:lnTo>
                                          <a:lnTo>
                                            <a:pt x="230" y="21"/>
                                          </a:lnTo>
                                          <a:lnTo>
                                            <a:pt x="259" y="11"/>
                                          </a:lnTo>
                                          <a:lnTo>
                                            <a:pt x="288" y="4"/>
                                          </a:lnTo>
                                          <a:lnTo>
                                            <a:pt x="324" y="1"/>
                                          </a:lnTo>
                                          <a:lnTo>
                                            <a:pt x="358" y="0"/>
                                          </a:lnTo>
                                          <a:lnTo>
                                            <a:pt x="385" y="2"/>
                                          </a:lnTo>
                                          <a:lnTo>
                                            <a:pt x="413" y="6"/>
                                          </a:lnTo>
                                          <a:lnTo>
                                            <a:pt x="439" y="11"/>
                                          </a:lnTo>
                                          <a:lnTo>
                                            <a:pt x="471" y="19"/>
                                          </a:lnTo>
                                          <a:lnTo>
                                            <a:pt x="498" y="32"/>
                                          </a:lnTo>
                                          <a:lnTo>
                                            <a:pt x="520" y="43"/>
                                          </a:lnTo>
                                          <a:lnTo>
                                            <a:pt x="545" y="56"/>
                                          </a:lnTo>
                                          <a:lnTo>
                                            <a:pt x="564" y="74"/>
                                          </a:lnTo>
                                          <a:lnTo>
                                            <a:pt x="583" y="93"/>
                                          </a:lnTo>
                                          <a:lnTo>
                                            <a:pt x="598" y="112"/>
                                          </a:lnTo>
                                          <a:lnTo>
                                            <a:pt x="615" y="135"/>
                                          </a:lnTo>
                                          <a:lnTo>
                                            <a:pt x="630" y="157"/>
                                          </a:lnTo>
                                          <a:lnTo>
                                            <a:pt x="639" y="178"/>
                                          </a:lnTo>
                                          <a:lnTo>
                                            <a:pt x="645" y="205"/>
                                          </a:lnTo>
                                          <a:lnTo>
                                            <a:pt x="650" y="230"/>
                                          </a:lnTo>
                                          <a:lnTo>
                                            <a:pt x="653" y="249"/>
                                          </a:lnTo>
                                          <a:lnTo>
                                            <a:pt x="634" y="208"/>
                                          </a:lnTo>
                                          <a:lnTo>
                                            <a:pt x="623" y="188"/>
                                          </a:lnTo>
                                          <a:lnTo>
                                            <a:pt x="610" y="162"/>
                                          </a:lnTo>
                                          <a:lnTo>
                                            <a:pt x="599" y="142"/>
                                          </a:lnTo>
                                          <a:lnTo>
                                            <a:pt x="586" y="125"/>
                                          </a:lnTo>
                                          <a:lnTo>
                                            <a:pt x="571" y="105"/>
                                          </a:lnTo>
                                          <a:lnTo>
                                            <a:pt x="552" y="89"/>
                                          </a:lnTo>
                                          <a:lnTo>
                                            <a:pt x="537" y="75"/>
                                          </a:lnTo>
                                          <a:lnTo>
                                            <a:pt x="521" y="65"/>
                                          </a:lnTo>
                                          <a:lnTo>
                                            <a:pt x="503" y="59"/>
                                          </a:lnTo>
                                          <a:lnTo>
                                            <a:pt x="486" y="51"/>
                                          </a:lnTo>
                                          <a:lnTo>
                                            <a:pt x="464" y="43"/>
                                          </a:lnTo>
                                          <a:lnTo>
                                            <a:pt x="445" y="38"/>
                                          </a:lnTo>
                                          <a:lnTo>
                                            <a:pt x="422" y="32"/>
                                          </a:lnTo>
                                          <a:lnTo>
                                            <a:pt x="397" y="26"/>
                                          </a:lnTo>
                                          <a:lnTo>
                                            <a:pt x="371" y="24"/>
                                          </a:lnTo>
                                          <a:lnTo>
                                            <a:pt x="349" y="22"/>
                                          </a:lnTo>
                                          <a:lnTo>
                                            <a:pt x="331" y="24"/>
                                          </a:lnTo>
                                          <a:lnTo>
                                            <a:pt x="305" y="29"/>
                                          </a:lnTo>
                                          <a:lnTo>
                                            <a:pt x="280" y="35"/>
                                          </a:lnTo>
                                          <a:lnTo>
                                            <a:pt x="260" y="40"/>
                                          </a:lnTo>
                                          <a:lnTo>
                                            <a:pt x="240" y="49"/>
                                          </a:lnTo>
                                          <a:lnTo>
                                            <a:pt x="215" y="61"/>
                                          </a:lnTo>
                                          <a:lnTo>
                                            <a:pt x="199" y="69"/>
                                          </a:lnTo>
                                          <a:lnTo>
                                            <a:pt x="183" y="82"/>
                                          </a:lnTo>
                                          <a:lnTo>
                                            <a:pt x="161" y="99"/>
                                          </a:lnTo>
                                          <a:lnTo>
                                            <a:pt x="140" y="120"/>
                                          </a:lnTo>
                                          <a:lnTo>
                                            <a:pt x="118" y="141"/>
                                          </a:lnTo>
                                          <a:lnTo>
                                            <a:pt x="100" y="164"/>
                                          </a:lnTo>
                                          <a:lnTo>
                                            <a:pt x="82" y="189"/>
                                          </a:lnTo>
                                          <a:lnTo>
                                            <a:pt x="64" y="211"/>
                                          </a:lnTo>
                                          <a:lnTo>
                                            <a:pt x="56" y="225"/>
                                          </a:lnTo>
                                          <a:lnTo>
                                            <a:pt x="51" y="244"/>
                                          </a:lnTo>
                                          <a:lnTo>
                                            <a:pt x="43" y="261"/>
                                          </a:lnTo>
                                          <a:lnTo>
                                            <a:pt x="37" y="274"/>
                                          </a:lnTo>
                                          <a:lnTo>
                                            <a:pt x="40" y="298"/>
                                          </a:lnTo>
                                          <a:lnTo>
                                            <a:pt x="41" y="321"/>
                                          </a:lnTo>
                                          <a:lnTo>
                                            <a:pt x="47" y="336"/>
                                          </a:lnTo>
                                          <a:lnTo>
                                            <a:pt x="55" y="356"/>
                                          </a:lnTo>
                                          <a:lnTo>
                                            <a:pt x="63" y="375"/>
                                          </a:lnTo>
                                          <a:lnTo>
                                            <a:pt x="72" y="393"/>
                                          </a:lnTo>
                                          <a:lnTo>
                                            <a:pt x="91" y="415"/>
                                          </a:lnTo>
                                          <a:lnTo>
                                            <a:pt x="112" y="439"/>
                                          </a:lnTo>
                                          <a:lnTo>
                                            <a:pt x="133" y="463"/>
                                          </a:lnTo>
                                          <a:lnTo>
                                            <a:pt x="149" y="484"/>
                                          </a:lnTo>
                                          <a:lnTo>
                                            <a:pt x="163" y="502"/>
                                          </a:lnTo>
                                          <a:lnTo>
                                            <a:pt x="176" y="517"/>
                                          </a:lnTo>
                                          <a:lnTo>
                                            <a:pt x="184" y="529"/>
                                          </a:lnTo>
                                          <a:lnTo>
                                            <a:pt x="194" y="533"/>
                                          </a:lnTo>
                                          <a:lnTo>
                                            <a:pt x="208" y="536"/>
                                          </a:lnTo>
                                          <a:lnTo>
                                            <a:pt x="225" y="540"/>
                                          </a:lnTo>
                                          <a:lnTo>
                                            <a:pt x="242" y="545"/>
                                          </a:lnTo>
                                          <a:lnTo>
                                            <a:pt x="256" y="553"/>
                                          </a:lnTo>
                                          <a:lnTo>
                                            <a:pt x="268" y="561"/>
                                          </a:lnTo>
                                          <a:lnTo>
                                            <a:pt x="253" y="564"/>
                                          </a:lnTo>
                                          <a:lnTo>
                                            <a:pt x="231" y="566"/>
                                          </a:lnTo>
                                          <a:lnTo>
                                            <a:pt x="210" y="567"/>
                                          </a:lnTo>
                                          <a:lnTo>
                                            <a:pt x="196" y="563"/>
                                          </a:lnTo>
                                          <a:lnTo>
                                            <a:pt x="181" y="556"/>
                                          </a:lnTo>
                                          <a:lnTo>
                                            <a:pt x="162" y="548"/>
                                          </a:lnTo>
                                          <a:lnTo>
                                            <a:pt x="152" y="538"/>
                                          </a:lnTo>
                                          <a:lnTo>
                                            <a:pt x="141" y="522"/>
                                          </a:lnTo>
                                          <a:lnTo>
                                            <a:pt x="129" y="503"/>
                                          </a:lnTo>
                                          <a:lnTo>
                                            <a:pt x="118" y="488"/>
                                          </a:lnTo>
                                          <a:lnTo>
                                            <a:pt x="98" y="466"/>
                                          </a:lnTo>
                                          <a:lnTo>
                                            <a:pt x="83" y="448"/>
                                          </a:lnTo>
                                          <a:lnTo>
                                            <a:pt x="61" y="426"/>
                                          </a:lnTo>
                                          <a:lnTo>
                                            <a:pt x="44" y="410"/>
                                          </a:lnTo>
                                          <a:lnTo>
                                            <a:pt x="33" y="398"/>
                                          </a:lnTo>
                                          <a:lnTo>
                                            <a:pt x="26" y="383"/>
                                          </a:lnTo>
                                          <a:lnTo>
                                            <a:pt x="18" y="362"/>
                                          </a:lnTo>
                                          <a:lnTo>
                                            <a:pt x="9" y="338"/>
                                          </a:lnTo>
                                          <a:lnTo>
                                            <a:pt x="4" y="314"/>
                                          </a:lnTo>
                                          <a:lnTo>
                                            <a:pt x="0" y="287"/>
                                          </a:lnTo>
                                          <a:lnTo>
                                            <a:pt x="2" y="269"/>
                                          </a:lnTo>
                                          <a:close/>
                                        </a:path>
                                      </a:pathLst>
                                    </a:custGeom>
                                    <a:solidFill>
                                      <a:srgbClr val="ff404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46800" bIns="4680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000000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sp>
                              <p:nvSpPr>
                                <p:cNvPr id="6806" name=""/>
                                <p:cNvSpPr/>
                                <p:nvPr/>
                              </p:nvSpPr>
                              <p:spPr>
                                <a:xfrm>
                                  <a:off x="2190240" y="2206080"/>
                                  <a:ext cx="96480" cy="15588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391" h="501">
                                      <a:moveTo>
                                        <a:pt x="103" y="64"/>
                                      </a:moveTo>
                                      <a:lnTo>
                                        <a:pt x="132" y="49"/>
                                      </a:lnTo>
                                      <a:lnTo>
                                        <a:pt x="152" y="31"/>
                                      </a:lnTo>
                                      <a:lnTo>
                                        <a:pt x="178" y="12"/>
                                      </a:lnTo>
                                      <a:lnTo>
                                        <a:pt x="198" y="3"/>
                                      </a:lnTo>
                                      <a:lnTo>
                                        <a:pt x="217" y="0"/>
                                      </a:lnTo>
                                      <a:lnTo>
                                        <a:pt x="229" y="3"/>
                                      </a:lnTo>
                                      <a:lnTo>
                                        <a:pt x="241" y="13"/>
                                      </a:lnTo>
                                      <a:lnTo>
                                        <a:pt x="249" y="31"/>
                                      </a:lnTo>
                                      <a:lnTo>
                                        <a:pt x="259" y="62"/>
                                      </a:lnTo>
                                      <a:lnTo>
                                        <a:pt x="262" y="95"/>
                                      </a:lnTo>
                                      <a:lnTo>
                                        <a:pt x="263" y="131"/>
                                      </a:lnTo>
                                      <a:lnTo>
                                        <a:pt x="269" y="165"/>
                                      </a:lnTo>
                                      <a:lnTo>
                                        <a:pt x="283" y="197"/>
                                      </a:lnTo>
                                      <a:lnTo>
                                        <a:pt x="301" y="237"/>
                                      </a:lnTo>
                                      <a:lnTo>
                                        <a:pt x="319" y="277"/>
                                      </a:lnTo>
                                      <a:lnTo>
                                        <a:pt x="340" y="319"/>
                                      </a:lnTo>
                                      <a:lnTo>
                                        <a:pt x="365" y="368"/>
                                      </a:lnTo>
                                      <a:lnTo>
                                        <a:pt x="383" y="409"/>
                                      </a:lnTo>
                                      <a:lnTo>
                                        <a:pt x="391" y="434"/>
                                      </a:lnTo>
                                      <a:lnTo>
                                        <a:pt x="391" y="458"/>
                                      </a:lnTo>
                                      <a:lnTo>
                                        <a:pt x="384" y="480"/>
                                      </a:lnTo>
                                      <a:lnTo>
                                        <a:pt x="371" y="494"/>
                                      </a:lnTo>
                                      <a:lnTo>
                                        <a:pt x="350" y="501"/>
                                      </a:lnTo>
                                      <a:lnTo>
                                        <a:pt x="326" y="498"/>
                                      </a:lnTo>
                                      <a:lnTo>
                                        <a:pt x="298" y="490"/>
                                      </a:lnTo>
                                      <a:lnTo>
                                        <a:pt x="274" y="468"/>
                                      </a:lnTo>
                                      <a:lnTo>
                                        <a:pt x="249" y="446"/>
                                      </a:lnTo>
                                      <a:lnTo>
                                        <a:pt x="227" y="416"/>
                                      </a:lnTo>
                                      <a:lnTo>
                                        <a:pt x="198" y="378"/>
                                      </a:lnTo>
                                      <a:lnTo>
                                        <a:pt x="177" y="346"/>
                                      </a:lnTo>
                                      <a:lnTo>
                                        <a:pt x="143" y="317"/>
                                      </a:lnTo>
                                      <a:lnTo>
                                        <a:pt x="112" y="288"/>
                                      </a:lnTo>
                                      <a:lnTo>
                                        <a:pt x="89" y="259"/>
                                      </a:lnTo>
                                      <a:lnTo>
                                        <a:pt x="64" y="222"/>
                                      </a:lnTo>
                                      <a:lnTo>
                                        <a:pt x="35" y="186"/>
                                      </a:lnTo>
                                      <a:lnTo>
                                        <a:pt x="15" y="163"/>
                                      </a:lnTo>
                                      <a:lnTo>
                                        <a:pt x="3" y="143"/>
                                      </a:lnTo>
                                      <a:lnTo>
                                        <a:pt x="0" y="125"/>
                                      </a:lnTo>
                                      <a:lnTo>
                                        <a:pt x="4" y="102"/>
                                      </a:lnTo>
                                      <a:lnTo>
                                        <a:pt x="16" y="87"/>
                                      </a:lnTo>
                                      <a:lnTo>
                                        <a:pt x="34" y="80"/>
                                      </a:lnTo>
                                      <a:lnTo>
                                        <a:pt x="55" y="74"/>
                                      </a:lnTo>
                                      <a:lnTo>
                                        <a:pt x="80" y="68"/>
                                      </a:lnTo>
                                      <a:lnTo>
                                        <a:pt x="103" y="64"/>
                                      </a:lnTo>
                                      <a:close/>
                                    </a:path>
                                  </a:pathLst>
                                </a:custGeom>
                                <a:solidFill>
                                  <a:srgbClr val="ff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grpSp>
                            <p:nvGrpSpPr>
                              <p:cNvPr id="6807" name=""/>
                              <p:cNvGrpSpPr/>
                              <p:nvPr/>
                            </p:nvGrpSpPr>
                            <p:grpSpPr>
                              <a:xfrm>
                                <a:off x="2093760" y="2067480"/>
                                <a:ext cx="133560" cy="144720"/>
                                <a:chOff x="2093760" y="2067480"/>
                                <a:chExt cx="133560" cy="144720"/>
                              </a:xfrm>
                            </p:grpSpPr>
                            <p:sp>
                              <p:nvSpPr>
                                <p:cNvPr id="6808" name=""/>
                                <p:cNvSpPr/>
                                <p:nvPr/>
                              </p:nvSpPr>
                              <p:spPr>
                                <a:xfrm>
                                  <a:off x="2093760" y="2067480"/>
                                  <a:ext cx="133560" cy="14472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541" h="470">
                                      <a:moveTo>
                                        <a:pt x="1" y="223"/>
                                      </a:moveTo>
                                      <a:lnTo>
                                        <a:pt x="7" y="204"/>
                                      </a:lnTo>
                                      <a:lnTo>
                                        <a:pt x="16" y="188"/>
                                      </a:lnTo>
                                      <a:lnTo>
                                        <a:pt x="25" y="169"/>
                                      </a:lnTo>
                                      <a:lnTo>
                                        <a:pt x="36" y="157"/>
                                      </a:lnTo>
                                      <a:lnTo>
                                        <a:pt x="47" y="147"/>
                                      </a:lnTo>
                                      <a:lnTo>
                                        <a:pt x="62" y="131"/>
                                      </a:lnTo>
                                      <a:lnTo>
                                        <a:pt x="79" y="114"/>
                                      </a:lnTo>
                                      <a:lnTo>
                                        <a:pt x="91" y="96"/>
                                      </a:lnTo>
                                      <a:lnTo>
                                        <a:pt x="104" y="79"/>
                                      </a:lnTo>
                                      <a:lnTo>
                                        <a:pt x="119" y="66"/>
                                      </a:lnTo>
                                      <a:lnTo>
                                        <a:pt x="135" y="51"/>
                                      </a:lnTo>
                                      <a:lnTo>
                                        <a:pt x="152" y="38"/>
                                      </a:lnTo>
                                      <a:lnTo>
                                        <a:pt x="169" y="27"/>
                                      </a:lnTo>
                                      <a:lnTo>
                                        <a:pt x="190" y="17"/>
                                      </a:lnTo>
                                      <a:lnTo>
                                        <a:pt x="214" y="8"/>
                                      </a:lnTo>
                                      <a:lnTo>
                                        <a:pt x="239" y="3"/>
                                      </a:lnTo>
                                      <a:lnTo>
                                        <a:pt x="268" y="0"/>
                                      </a:lnTo>
                                      <a:lnTo>
                                        <a:pt x="297" y="0"/>
                                      </a:lnTo>
                                      <a:lnTo>
                                        <a:pt x="319" y="1"/>
                                      </a:lnTo>
                                      <a:lnTo>
                                        <a:pt x="342" y="4"/>
                                      </a:lnTo>
                                      <a:lnTo>
                                        <a:pt x="363" y="8"/>
                                      </a:lnTo>
                                      <a:lnTo>
                                        <a:pt x="391" y="15"/>
                                      </a:lnTo>
                                      <a:lnTo>
                                        <a:pt x="412" y="25"/>
                                      </a:lnTo>
                                      <a:lnTo>
                                        <a:pt x="431" y="34"/>
                                      </a:lnTo>
                                      <a:lnTo>
                                        <a:pt x="451" y="45"/>
                                      </a:lnTo>
                                      <a:lnTo>
                                        <a:pt x="468" y="61"/>
                                      </a:lnTo>
                                      <a:lnTo>
                                        <a:pt x="483" y="77"/>
                                      </a:lnTo>
                                      <a:lnTo>
                                        <a:pt x="496" y="93"/>
                                      </a:lnTo>
                                      <a:lnTo>
                                        <a:pt x="510" y="112"/>
                                      </a:lnTo>
                                      <a:lnTo>
                                        <a:pt x="522" y="129"/>
                                      </a:lnTo>
                                      <a:lnTo>
                                        <a:pt x="530" y="148"/>
                                      </a:lnTo>
                                      <a:lnTo>
                                        <a:pt x="535" y="169"/>
                                      </a:lnTo>
                                      <a:lnTo>
                                        <a:pt x="539" y="190"/>
                                      </a:lnTo>
                                      <a:lnTo>
                                        <a:pt x="541" y="206"/>
                                      </a:lnTo>
                                      <a:lnTo>
                                        <a:pt x="541" y="224"/>
                                      </a:lnTo>
                                      <a:lnTo>
                                        <a:pt x="536" y="236"/>
                                      </a:lnTo>
                                      <a:lnTo>
                                        <a:pt x="528" y="257"/>
                                      </a:lnTo>
                                      <a:lnTo>
                                        <a:pt x="516" y="281"/>
                                      </a:lnTo>
                                      <a:lnTo>
                                        <a:pt x="506" y="303"/>
                                      </a:lnTo>
                                      <a:lnTo>
                                        <a:pt x="497" y="320"/>
                                      </a:lnTo>
                                      <a:lnTo>
                                        <a:pt x="491" y="340"/>
                                      </a:lnTo>
                                      <a:lnTo>
                                        <a:pt x="485" y="358"/>
                                      </a:lnTo>
                                      <a:lnTo>
                                        <a:pt x="480" y="376"/>
                                      </a:lnTo>
                                      <a:lnTo>
                                        <a:pt x="477" y="385"/>
                                      </a:lnTo>
                                      <a:lnTo>
                                        <a:pt x="476" y="399"/>
                                      </a:lnTo>
                                      <a:lnTo>
                                        <a:pt x="475" y="421"/>
                                      </a:lnTo>
                                      <a:lnTo>
                                        <a:pt x="389" y="441"/>
                                      </a:lnTo>
                                      <a:lnTo>
                                        <a:pt x="387" y="427"/>
                                      </a:lnTo>
                                      <a:lnTo>
                                        <a:pt x="384" y="417"/>
                                      </a:lnTo>
                                      <a:lnTo>
                                        <a:pt x="379" y="409"/>
                                      </a:lnTo>
                                      <a:lnTo>
                                        <a:pt x="368" y="404"/>
                                      </a:lnTo>
                                      <a:lnTo>
                                        <a:pt x="350" y="407"/>
                                      </a:lnTo>
                                      <a:lnTo>
                                        <a:pt x="330" y="410"/>
                                      </a:lnTo>
                                      <a:lnTo>
                                        <a:pt x="306" y="416"/>
                                      </a:lnTo>
                                      <a:lnTo>
                                        <a:pt x="283" y="422"/>
                                      </a:lnTo>
                                      <a:lnTo>
                                        <a:pt x="271" y="426"/>
                                      </a:lnTo>
                                      <a:lnTo>
                                        <a:pt x="258" y="436"/>
                                      </a:lnTo>
                                      <a:lnTo>
                                        <a:pt x="243" y="448"/>
                                      </a:lnTo>
                                      <a:lnTo>
                                        <a:pt x="222" y="465"/>
                                      </a:lnTo>
                                      <a:lnTo>
                                        <a:pt x="210" y="468"/>
                                      </a:lnTo>
                                      <a:lnTo>
                                        <a:pt x="191" y="470"/>
                                      </a:lnTo>
                                      <a:lnTo>
                                        <a:pt x="173" y="470"/>
                                      </a:lnTo>
                                      <a:lnTo>
                                        <a:pt x="163" y="467"/>
                                      </a:lnTo>
                                      <a:lnTo>
                                        <a:pt x="150" y="461"/>
                                      </a:lnTo>
                                      <a:lnTo>
                                        <a:pt x="134" y="455"/>
                                      </a:lnTo>
                                      <a:lnTo>
                                        <a:pt x="126" y="446"/>
                                      </a:lnTo>
                                      <a:lnTo>
                                        <a:pt x="117" y="433"/>
                                      </a:lnTo>
                                      <a:lnTo>
                                        <a:pt x="107" y="418"/>
                                      </a:lnTo>
                                      <a:lnTo>
                                        <a:pt x="98" y="404"/>
                                      </a:lnTo>
                                      <a:lnTo>
                                        <a:pt x="81" y="387"/>
                                      </a:lnTo>
                                      <a:lnTo>
                                        <a:pt x="69" y="371"/>
                                      </a:lnTo>
                                      <a:lnTo>
                                        <a:pt x="49" y="354"/>
                                      </a:lnTo>
                                      <a:lnTo>
                                        <a:pt x="35" y="340"/>
                                      </a:lnTo>
                                      <a:lnTo>
                                        <a:pt x="26" y="329"/>
                                      </a:lnTo>
                                      <a:lnTo>
                                        <a:pt x="21" y="319"/>
                                      </a:lnTo>
                                      <a:lnTo>
                                        <a:pt x="14" y="301"/>
                                      </a:lnTo>
                                      <a:lnTo>
                                        <a:pt x="6" y="280"/>
                                      </a:lnTo>
                                      <a:lnTo>
                                        <a:pt x="2" y="260"/>
                                      </a:lnTo>
                                      <a:lnTo>
                                        <a:pt x="0" y="238"/>
                                      </a:lnTo>
                                      <a:lnTo>
                                        <a:pt x="1" y="223"/>
                                      </a:lnTo>
                                      <a:close/>
                                    </a:path>
                                  </a:pathLst>
                                </a:custGeom>
                                <a:solidFill>
                                  <a:srgbClr val="ff404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6809" name=""/>
                                <p:cNvSpPr/>
                                <p:nvPr/>
                              </p:nvSpPr>
                              <p:spPr>
                                <a:xfrm>
                                  <a:off x="2102400" y="2077920"/>
                                  <a:ext cx="122400" cy="13104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492" h="428">
                                      <a:moveTo>
                                        <a:pt x="0" y="203"/>
                                      </a:moveTo>
                                      <a:lnTo>
                                        <a:pt x="7" y="187"/>
                                      </a:lnTo>
                                      <a:lnTo>
                                        <a:pt x="14" y="171"/>
                                      </a:lnTo>
                                      <a:lnTo>
                                        <a:pt x="23" y="155"/>
                                      </a:lnTo>
                                      <a:lnTo>
                                        <a:pt x="33" y="144"/>
                                      </a:lnTo>
                                      <a:lnTo>
                                        <a:pt x="43" y="134"/>
                                      </a:lnTo>
                                      <a:lnTo>
                                        <a:pt x="56" y="120"/>
                                      </a:lnTo>
                                      <a:lnTo>
                                        <a:pt x="72" y="105"/>
                                      </a:lnTo>
                                      <a:lnTo>
                                        <a:pt x="83" y="87"/>
                                      </a:lnTo>
                                      <a:lnTo>
                                        <a:pt x="94" y="73"/>
                                      </a:lnTo>
                                      <a:lnTo>
                                        <a:pt x="108" y="61"/>
                                      </a:lnTo>
                                      <a:lnTo>
                                        <a:pt x="123" y="47"/>
                                      </a:lnTo>
                                      <a:lnTo>
                                        <a:pt x="138" y="35"/>
                                      </a:lnTo>
                                      <a:lnTo>
                                        <a:pt x="153" y="25"/>
                                      </a:lnTo>
                                      <a:lnTo>
                                        <a:pt x="174" y="15"/>
                                      </a:lnTo>
                                      <a:lnTo>
                                        <a:pt x="194" y="8"/>
                                      </a:lnTo>
                                      <a:lnTo>
                                        <a:pt x="217" y="2"/>
                                      </a:lnTo>
                                      <a:lnTo>
                                        <a:pt x="244" y="0"/>
                                      </a:lnTo>
                                      <a:lnTo>
                                        <a:pt x="270" y="0"/>
                                      </a:lnTo>
                                      <a:lnTo>
                                        <a:pt x="290" y="0"/>
                                      </a:lnTo>
                                      <a:lnTo>
                                        <a:pt x="311" y="3"/>
                                      </a:lnTo>
                                      <a:lnTo>
                                        <a:pt x="330" y="8"/>
                                      </a:lnTo>
                                      <a:lnTo>
                                        <a:pt x="356" y="13"/>
                                      </a:lnTo>
                                      <a:lnTo>
                                        <a:pt x="375" y="23"/>
                                      </a:lnTo>
                                      <a:lnTo>
                                        <a:pt x="392" y="31"/>
                                      </a:lnTo>
                                      <a:lnTo>
                                        <a:pt x="410" y="42"/>
                                      </a:lnTo>
                                      <a:lnTo>
                                        <a:pt x="425" y="55"/>
                                      </a:lnTo>
                                      <a:lnTo>
                                        <a:pt x="440" y="71"/>
                                      </a:lnTo>
                                      <a:lnTo>
                                        <a:pt x="451" y="84"/>
                                      </a:lnTo>
                                      <a:lnTo>
                                        <a:pt x="463" y="103"/>
                                      </a:lnTo>
                                      <a:lnTo>
                                        <a:pt x="475" y="118"/>
                                      </a:lnTo>
                                      <a:lnTo>
                                        <a:pt x="482" y="135"/>
                                      </a:lnTo>
                                      <a:lnTo>
                                        <a:pt x="487" y="155"/>
                                      </a:lnTo>
                                      <a:lnTo>
                                        <a:pt x="491" y="173"/>
                                      </a:lnTo>
                                      <a:lnTo>
                                        <a:pt x="492" y="188"/>
                                      </a:lnTo>
                                      <a:lnTo>
                                        <a:pt x="492" y="204"/>
                                      </a:lnTo>
                                      <a:lnTo>
                                        <a:pt x="488" y="215"/>
                                      </a:lnTo>
                                      <a:lnTo>
                                        <a:pt x="481" y="234"/>
                                      </a:lnTo>
                                      <a:lnTo>
                                        <a:pt x="469" y="257"/>
                                      </a:lnTo>
                                      <a:lnTo>
                                        <a:pt x="461" y="276"/>
                                      </a:lnTo>
                                      <a:lnTo>
                                        <a:pt x="452" y="292"/>
                                      </a:lnTo>
                                      <a:lnTo>
                                        <a:pt x="447" y="310"/>
                                      </a:lnTo>
                                      <a:lnTo>
                                        <a:pt x="441" y="326"/>
                                      </a:lnTo>
                                      <a:lnTo>
                                        <a:pt x="437" y="343"/>
                                      </a:lnTo>
                                      <a:lnTo>
                                        <a:pt x="434" y="351"/>
                                      </a:lnTo>
                                      <a:lnTo>
                                        <a:pt x="433" y="364"/>
                                      </a:lnTo>
                                      <a:lnTo>
                                        <a:pt x="432" y="384"/>
                                      </a:lnTo>
                                      <a:lnTo>
                                        <a:pt x="354" y="402"/>
                                      </a:lnTo>
                                      <a:lnTo>
                                        <a:pt x="352" y="389"/>
                                      </a:lnTo>
                                      <a:lnTo>
                                        <a:pt x="349" y="380"/>
                                      </a:lnTo>
                                      <a:lnTo>
                                        <a:pt x="345" y="373"/>
                                      </a:lnTo>
                                      <a:lnTo>
                                        <a:pt x="335" y="368"/>
                                      </a:lnTo>
                                      <a:lnTo>
                                        <a:pt x="318" y="371"/>
                                      </a:lnTo>
                                      <a:lnTo>
                                        <a:pt x="300" y="374"/>
                                      </a:lnTo>
                                      <a:lnTo>
                                        <a:pt x="277" y="379"/>
                                      </a:lnTo>
                                      <a:lnTo>
                                        <a:pt x="257" y="385"/>
                                      </a:lnTo>
                                      <a:lnTo>
                                        <a:pt x="247" y="388"/>
                                      </a:lnTo>
                                      <a:lnTo>
                                        <a:pt x="235" y="397"/>
                                      </a:lnTo>
                                      <a:lnTo>
                                        <a:pt x="221" y="408"/>
                                      </a:lnTo>
                                      <a:lnTo>
                                        <a:pt x="203" y="424"/>
                                      </a:lnTo>
                                      <a:lnTo>
                                        <a:pt x="191" y="427"/>
                                      </a:lnTo>
                                      <a:lnTo>
                                        <a:pt x="174" y="428"/>
                                      </a:lnTo>
                                      <a:lnTo>
                                        <a:pt x="158" y="428"/>
                                      </a:lnTo>
                                      <a:lnTo>
                                        <a:pt x="148" y="426"/>
                                      </a:lnTo>
                                      <a:lnTo>
                                        <a:pt x="136" y="420"/>
                                      </a:lnTo>
                                      <a:lnTo>
                                        <a:pt x="123" y="414"/>
                                      </a:lnTo>
                                      <a:lnTo>
                                        <a:pt x="115" y="407"/>
                                      </a:lnTo>
                                      <a:lnTo>
                                        <a:pt x="106" y="395"/>
                                      </a:lnTo>
                                      <a:lnTo>
                                        <a:pt x="97" y="381"/>
                                      </a:lnTo>
                                      <a:lnTo>
                                        <a:pt x="90" y="368"/>
                                      </a:lnTo>
                                      <a:lnTo>
                                        <a:pt x="74" y="353"/>
                                      </a:lnTo>
                                      <a:lnTo>
                                        <a:pt x="62" y="339"/>
                                      </a:lnTo>
                                      <a:lnTo>
                                        <a:pt x="45" y="323"/>
                                      </a:lnTo>
                                      <a:lnTo>
                                        <a:pt x="32" y="310"/>
                                      </a:lnTo>
                                      <a:lnTo>
                                        <a:pt x="24" y="301"/>
                                      </a:lnTo>
                                      <a:lnTo>
                                        <a:pt x="19" y="290"/>
                                      </a:lnTo>
                                      <a:lnTo>
                                        <a:pt x="12" y="274"/>
                                      </a:lnTo>
                                      <a:lnTo>
                                        <a:pt x="6" y="255"/>
                                      </a:lnTo>
                                      <a:lnTo>
                                        <a:pt x="2" y="237"/>
                                      </a:lnTo>
                                      <a:lnTo>
                                        <a:pt x="0" y="218"/>
                                      </a:lnTo>
                                      <a:lnTo>
                                        <a:pt x="0" y="203"/>
                                      </a:lnTo>
                                      <a:close/>
                                    </a:path>
                                  </a:pathLst>
                                </a:custGeom>
                                <a:solidFill>
                                  <a:srgbClr val="ff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6810" name=""/>
                                <p:cNvSpPr/>
                                <p:nvPr/>
                              </p:nvSpPr>
                              <p:spPr>
                                <a:xfrm>
                                  <a:off x="2111040" y="2087280"/>
                                  <a:ext cx="109800" cy="11844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441" h="383">
                                      <a:moveTo>
                                        <a:pt x="0" y="182"/>
                                      </a:moveTo>
                                      <a:lnTo>
                                        <a:pt x="6" y="167"/>
                                      </a:lnTo>
                                      <a:lnTo>
                                        <a:pt x="12" y="154"/>
                                      </a:lnTo>
                                      <a:lnTo>
                                        <a:pt x="19" y="138"/>
                                      </a:lnTo>
                                      <a:lnTo>
                                        <a:pt x="28" y="128"/>
                                      </a:lnTo>
                                      <a:lnTo>
                                        <a:pt x="38" y="120"/>
                                      </a:lnTo>
                                      <a:lnTo>
                                        <a:pt x="50" y="108"/>
                                      </a:lnTo>
                                      <a:lnTo>
                                        <a:pt x="63" y="93"/>
                                      </a:lnTo>
                                      <a:lnTo>
                                        <a:pt x="73" y="78"/>
                                      </a:lnTo>
                                      <a:lnTo>
                                        <a:pt x="84" y="64"/>
                                      </a:lnTo>
                                      <a:lnTo>
                                        <a:pt x="97" y="54"/>
                                      </a:lnTo>
                                      <a:lnTo>
                                        <a:pt x="110" y="42"/>
                                      </a:lnTo>
                                      <a:lnTo>
                                        <a:pt x="124" y="31"/>
                                      </a:lnTo>
                                      <a:lnTo>
                                        <a:pt x="137" y="21"/>
                                      </a:lnTo>
                                      <a:lnTo>
                                        <a:pt x="155" y="13"/>
                                      </a:lnTo>
                                      <a:lnTo>
                                        <a:pt x="174" y="7"/>
                                      </a:lnTo>
                                      <a:lnTo>
                                        <a:pt x="194" y="1"/>
                                      </a:lnTo>
                                      <a:lnTo>
                                        <a:pt x="219" y="0"/>
                                      </a:lnTo>
                                      <a:lnTo>
                                        <a:pt x="241" y="0"/>
                                      </a:lnTo>
                                      <a:lnTo>
                                        <a:pt x="261" y="0"/>
                                      </a:lnTo>
                                      <a:lnTo>
                                        <a:pt x="279" y="2"/>
                                      </a:lnTo>
                                      <a:lnTo>
                                        <a:pt x="296" y="7"/>
                                      </a:lnTo>
                                      <a:lnTo>
                                        <a:pt x="319" y="11"/>
                                      </a:lnTo>
                                      <a:lnTo>
                                        <a:pt x="336" y="19"/>
                                      </a:lnTo>
                                      <a:lnTo>
                                        <a:pt x="351" y="27"/>
                                      </a:lnTo>
                                      <a:lnTo>
                                        <a:pt x="368" y="37"/>
                                      </a:lnTo>
                                      <a:lnTo>
                                        <a:pt x="381" y="49"/>
                                      </a:lnTo>
                                      <a:lnTo>
                                        <a:pt x="395" y="63"/>
                                      </a:lnTo>
                                      <a:lnTo>
                                        <a:pt x="405" y="75"/>
                                      </a:lnTo>
                                      <a:lnTo>
                                        <a:pt x="415" y="91"/>
                                      </a:lnTo>
                                      <a:lnTo>
                                        <a:pt x="425" y="106"/>
                                      </a:lnTo>
                                      <a:lnTo>
                                        <a:pt x="432" y="121"/>
                                      </a:lnTo>
                                      <a:lnTo>
                                        <a:pt x="437" y="138"/>
                                      </a:lnTo>
                                      <a:lnTo>
                                        <a:pt x="441" y="155"/>
                                      </a:lnTo>
                                      <a:lnTo>
                                        <a:pt x="441" y="168"/>
                                      </a:lnTo>
                                      <a:lnTo>
                                        <a:pt x="441" y="182"/>
                                      </a:lnTo>
                                      <a:lnTo>
                                        <a:pt x="438" y="193"/>
                                      </a:lnTo>
                                      <a:lnTo>
                                        <a:pt x="431" y="210"/>
                                      </a:lnTo>
                                      <a:lnTo>
                                        <a:pt x="421" y="230"/>
                                      </a:lnTo>
                                      <a:lnTo>
                                        <a:pt x="414" y="247"/>
                                      </a:lnTo>
                                      <a:lnTo>
                                        <a:pt x="405" y="262"/>
                                      </a:lnTo>
                                      <a:lnTo>
                                        <a:pt x="401" y="278"/>
                                      </a:lnTo>
                                      <a:lnTo>
                                        <a:pt x="396" y="292"/>
                                      </a:lnTo>
                                      <a:lnTo>
                                        <a:pt x="392" y="308"/>
                                      </a:lnTo>
                                      <a:lnTo>
                                        <a:pt x="388" y="315"/>
                                      </a:lnTo>
                                      <a:lnTo>
                                        <a:pt x="387" y="327"/>
                                      </a:lnTo>
                                      <a:lnTo>
                                        <a:pt x="386" y="344"/>
                                      </a:lnTo>
                                      <a:lnTo>
                                        <a:pt x="317" y="361"/>
                                      </a:lnTo>
                                      <a:lnTo>
                                        <a:pt x="315" y="349"/>
                                      </a:lnTo>
                                      <a:lnTo>
                                        <a:pt x="313" y="340"/>
                                      </a:lnTo>
                                      <a:lnTo>
                                        <a:pt x="309" y="335"/>
                                      </a:lnTo>
                                      <a:lnTo>
                                        <a:pt x="301" y="330"/>
                                      </a:lnTo>
                                      <a:lnTo>
                                        <a:pt x="285" y="333"/>
                                      </a:lnTo>
                                      <a:lnTo>
                                        <a:pt x="269" y="336"/>
                                      </a:lnTo>
                                      <a:lnTo>
                                        <a:pt x="248" y="339"/>
                                      </a:lnTo>
                                      <a:lnTo>
                                        <a:pt x="230" y="346"/>
                                      </a:lnTo>
                                      <a:lnTo>
                                        <a:pt x="221" y="348"/>
                                      </a:lnTo>
                                      <a:lnTo>
                                        <a:pt x="211" y="356"/>
                                      </a:lnTo>
                                      <a:lnTo>
                                        <a:pt x="198" y="366"/>
                                      </a:lnTo>
                                      <a:lnTo>
                                        <a:pt x="181" y="380"/>
                                      </a:lnTo>
                                      <a:lnTo>
                                        <a:pt x="171" y="383"/>
                                      </a:lnTo>
                                      <a:lnTo>
                                        <a:pt x="155" y="383"/>
                                      </a:lnTo>
                                      <a:lnTo>
                                        <a:pt x="141" y="383"/>
                                      </a:lnTo>
                                      <a:lnTo>
                                        <a:pt x="133" y="382"/>
                                      </a:lnTo>
                                      <a:lnTo>
                                        <a:pt x="122" y="376"/>
                                      </a:lnTo>
                                      <a:lnTo>
                                        <a:pt x="109" y="372"/>
                                      </a:lnTo>
                                      <a:lnTo>
                                        <a:pt x="102" y="365"/>
                                      </a:lnTo>
                                      <a:lnTo>
                                        <a:pt x="95" y="355"/>
                                      </a:lnTo>
                                      <a:lnTo>
                                        <a:pt x="87" y="341"/>
                                      </a:lnTo>
                                      <a:lnTo>
                                        <a:pt x="81" y="330"/>
                                      </a:lnTo>
                                      <a:lnTo>
                                        <a:pt x="65" y="317"/>
                                      </a:lnTo>
                                      <a:lnTo>
                                        <a:pt x="55" y="303"/>
                                      </a:lnTo>
                                      <a:lnTo>
                                        <a:pt x="40" y="290"/>
                                      </a:lnTo>
                                      <a:lnTo>
                                        <a:pt x="27" y="278"/>
                                      </a:lnTo>
                                      <a:lnTo>
                                        <a:pt x="20" y="270"/>
                                      </a:lnTo>
                                      <a:lnTo>
                                        <a:pt x="17" y="260"/>
                                      </a:lnTo>
                                      <a:lnTo>
                                        <a:pt x="10" y="246"/>
                                      </a:lnTo>
                                      <a:lnTo>
                                        <a:pt x="5" y="229"/>
                                      </a:lnTo>
                                      <a:lnTo>
                                        <a:pt x="1" y="212"/>
                                      </a:lnTo>
                                      <a:lnTo>
                                        <a:pt x="0" y="195"/>
                                      </a:lnTo>
                                      <a:lnTo>
                                        <a:pt x="0" y="182"/>
                                      </a:lnTo>
                                      <a:close/>
                                    </a:path>
                                  </a:pathLst>
                                </a:custGeom>
                                <a:solidFill>
                                  <a:srgbClr val="e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6811" name=""/>
                                <p:cNvSpPr/>
                                <p:nvPr/>
                              </p:nvSpPr>
                              <p:spPr>
                                <a:xfrm>
                                  <a:off x="2119320" y="2096280"/>
                                  <a:ext cx="97920" cy="10656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396" h="345">
                                      <a:moveTo>
                                        <a:pt x="0" y="164"/>
                                      </a:moveTo>
                                      <a:lnTo>
                                        <a:pt x="5" y="150"/>
                                      </a:lnTo>
                                      <a:lnTo>
                                        <a:pt x="10" y="138"/>
                                      </a:lnTo>
                                      <a:lnTo>
                                        <a:pt x="17" y="125"/>
                                      </a:lnTo>
                                      <a:lnTo>
                                        <a:pt x="25" y="114"/>
                                      </a:lnTo>
                                      <a:lnTo>
                                        <a:pt x="33" y="107"/>
                                      </a:lnTo>
                                      <a:lnTo>
                                        <a:pt x="45" y="96"/>
                                      </a:lnTo>
                                      <a:lnTo>
                                        <a:pt x="56" y="84"/>
                                      </a:lnTo>
                                      <a:lnTo>
                                        <a:pt x="66" y="69"/>
                                      </a:lnTo>
                                      <a:lnTo>
                                        <a:pt x="75" y="57"/>
                                      </a:lnTo>
                                      <a:lnTo>
                                        <a:pt x="86" y="48"/>
                                      </a:lnTo>
                                      <a:lnTo>
                                        <a:pt x="99" y="38"/>
                                      </a:lnTo>
                                      <a:lnTo>
                                        <a:pt x="111" y="27"/>
                                      </a:lnTo>
                                      <a:lnTo>
                                        <a:pt x="122" y="18"/>
                                      </a:lnTo>
                                      <a:lnTo>
                                        <a:pt x="140" y="11"/>
                                      </a:lnTo>
                                      <a:lnTo>
                                        <a:pt x="156" y="6"/>
                                      </a:lnTo>
                                      <a:lnTo>
                                        <a:pt x="174" y="0"/>
                                      </a:lnTo>
                                      <a:lnTo>
                                        <a:pt x="197" y="0"/>
                                      </a:lnTo>
                                      <a:lnTo>
                                        <a:pt x="216" y="0"/>
                                      </a:lnTo>
                                      <a:lnTo>
                                        <a:pt x="235" y="0"/>
                                      </a:lnTo>
                                      <a:lnTo>
                                        <a:pt x="251" y="1"/>
                                      </a:lnTo>
                                      <a:lnTo>
                                        <a:pt x="266" y="6"/>
                                      </a:lnTo>
                                      <a:lnTo>
                                        <a:pt x="287" y="9"/>
                                      </a:lnTo>
                                      <a:lnTo>
                                        <a:pt x="302" y="17"/>
                                      </a:lnTo>
                                      <a:lnTo>
                                        <a:pt x="316" y="23"/>
                                      </a:lnTo>
                                      <a:lnTo>
                                        <a:pt x="331" y="32"/>
                                      </a:lnTo>
                                      <a:lnTo>
                                        <a:pt x="343" y="44"/>
                                      </a:lnTo>
                                      <a:lnTo>
                                        <a:pt x="355" y="57"/>
                                      </a:lnTo>
                                      <a:lnTo>
                                        <a:pt x="365" y="67"/>
                                      </a:lnTo>
                                      <a:lnTo>
                                        <a:pt x="374" y="82"/>
                                      </a:lnTo>
                                      <a:lnTo>
                                        <a:pt x="383" y="95"/>
                                      </a:lnTo>
                                      <a:lnTo>
                                        <a:pt x="389" y="108"/>
                                      </a:lnTo>
                                      <a:lnTo>
                                        <a:pt x="393" y="125"/>
                                      </a:lnTo>
                                      <a:lnTo>
                                        <a:pt x="396" y="139"/>
                                      </a:lnTo>
                                      <a:lnTo>
                                        <a:pt x="396" y="151"/>
                                      </a:lnTo>
                                      <a:lnTo>
                                        <a:pt x="396" y="164"/>
                                      </a:lnTo>
                                      <a:lnTo>
                                        <a:pt x="394" y="173"/>
                                      </a:lnTo>
                                      <a:lnTo>
                                        <a:pt x="388" y="189"/>
                                      </a:lnTo>
                                      <a:lnTo>
                                        <a:pt x="379" y="207"/>
                                      </a:lnTo>
                                      <a:lnTo>
                                        <a:pt x="373" y="222"/>
                                      </a:lnTo>
                                      <a:lnTo>
                                        <a:pt x="365" y="237"/>
                                      </a:lnTo>
                                      <a:lnTo>
                                        <a:pt x="361" y="250"/>
                                      </a:lnTo>
                                      <a:lnTo>
                                        <a:pt x="356" y="263"/>
                                      </a:lnTo>
                                      <a:lnTo>
                                        <a:pt x="352" y="278"/>
                                      </a:lnTo>
                                      <a:lnTo>
                                        <a:pt x="349" y="284"/>
                                      </a:lnTo>
                                      <a:lnTo>
                                        <a:pt x="349" y="295"/>
                                      </a:lnTo>
                                      <a:lnTo>
                                        <a:pt x="348" y="310"/>
                                      </a:lnTo>
                                      <a:lnTo>
                                        <a:pt x="285" y="326"/>
                                      </a:lnTo>
                                      <a:lnTo>
                                        <a:pt x="283" y="314"/>
                                      </a:lnTo>
                                      <a:lnTo>
                                        <a:pt x="282" y="307"/>
                                      </a:lnTo>
                                      <a:lnTo>
                                        <a:pt x="278" y="302"/>
                                      </a:lnTo>
                                      <a:lnTo>
                                        <a:pt x="271" y="297"/>
                                      </a:lnTo>
                                      <a:lnTo>
                                        <a:pt x="256" y="300"/>
                                      </a:lnTo>
                                      <a:lnTo>
                                        <a:pt x="242" y="303"/>
                                      </a:lnTo>
                                      <a:lnTo>
                                        <a:pt x="223" y="306"/>
                                      </a:lnTo>
                                      <a:lnTo>
                                        <a:pt x="206" y="311"/>
                                      </a:lnTo>
                                      <a:lnTo>
                                        <a:pt x="198" y="313"/>
                                      </a:lnTo>
                                      <a:lnTo>
                                        <a:pt x="189" y="321"/>
                                      </a:lnTo>
                                      <a:lnTo>
                                        <a:pt x="178" y="330"/>
                                      </a:lnTo>
                                      <a:lnTo>
                                        <a:pt x="162" y="343"/>
                                      </a:lnTo>
                                      <a:lnTo>
                                        <a:pt x="153" y="345"/>
                                      </a:lnTo>
                                      <a:lnTo>
                                        <a:pt x="140" y="345"/>
                                      </a:lnTo>
                                      <a:lnTo>
                                        <a:pt x="126" y="345"/>
                                      </a:lnTo>
                                      <a:lnTo>
                                        <a:pt x="119" y="345"/>
                                      </a:lnTo>
                                      <a:lnTo>
                                        <a:pt x="109" y="339"/>
                                      </a:lnTo>
                                      <a:lnTo>
                                        <a:pt x="98" y="336"/>
                                      </a:lnTo>
                                      <a:lnTo>
                                        <a:pt x="92" y="329"/>
                                      </a:lnTo>
                                      <a:lnTo>
                                        <a:pt x="84" y="320"/>
                                      </a:lnTo>
                                      <a:lnTo>
                                        <a:pt x="77" y="307"/>
                                      </a:lnTo>
                                      <a:lnTo>
                                        <a:pt x="72" y="297"/>
                                      </a:lnTo>
                                      <a:lnTo>
                                        <a:pt x="58" y="286"/>
                                      </a:lnTo>
                                      <a:lnTo>
                                        <a:pt x="49" y="273"/>
                                      </a:lnTo>
                                      <a:lnTo>
                                        <a:pt x="35" y="261"/>
                                      </a:lnTo>
                                      <a:lnTo>
                                        <a:pt x="24" y="250"/>
                                      </a:lnTo>
                                      <a:lnTo>
                                        <a:pt x="18" y="243"/>
                                      </a:lnTo>
                                      <a:lnTo>
                                        <a:pt x="15" y="234"/>
                                      </a:lnTo>
                                      <a:lnTo>
                                        <a:pt x="9" y="221"/>
                                      </a:lnTo>
                                      <a:lnTo>
                                        <a:pt x="4" y="206"/>
                                      </a:lnTo>
                                      <a:lnTo>
                                        <a:pt x="0" y="191"/>
                                      </a:lnTo>
                                      <a:lnTo>
                                        <a:pt x="0" y="175"/>
                                      </a:lnTo>
                                      <a:lnTo>
                                        <a:pt x="0" y="164"/>
                                      </a:lnTo>
                                      <a:close/>
                                    </a:path>
                                  </a:pathLst>
                                </a:custGeom>
                                <a:solidFill>
                                  <a:srgbClr val="c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</p:grpSp>
                        <p:grpSp>
                          <p:nvGrpSpPr>
                            <p:cNvPr id="6812" name=""/>
                            <p:cNvGrpSpPr/>
                            <p:nvPr/>
                          </p:nvGrpSpPr>
                          <p:grpSpPr>
                            <a:xfrm>
                              <a:off x="2139480" y="2064240"/>
                              <a:ext cx="90000" cy="51840"/>
                              <a:chOff x="2139480" y="2064240"/>
                              <a:chExt cx="90000" cy="51840"/>
                            </a:xfrm>
                          </p:grpSpPr>
                          <p:sp>
                            <p:nvSpPr>
                              <p:cNvPr id="6813" name=""/>
                              <p:cNvSpPr/>
                              <p:nvPr/>
                            </p:nvSpPr>
                            <p:spPr>
                              <a:xfrm>
                                <a:off x="2139480" y="2065320"/>
                                <a:ext cx="20880" cy="1512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88" h="49">
                                    <a:moveTo>
                                      <a:pt x="37" y="2"/>
                                    </a:moveTo>
                                    <a:lnTo>
                                      <a:pt x="48" y="0"/>
                                    </a:lnTo>
                                    <a:lnTo>
                                      <a:pt x="60" y="0"/>
                                    </a:lnTo>
                                    <a:lnTo>
                                      <a:pt x="68" y="1"/>
                                    </a:lnTo>
                                    <a:lnTo>
                                      <a:pt x="79" y="6"/>
                                    </a:lnTo>
                                    <a:lnTo>
                                      <a:pt x="85" y="10"/>
                                    </a:lnTo>
                                    <a:lnTo>
                                      <a:pt x="88" y="19"/>
                                    </a:lnTo>
                                    <a:lnTo>
                                      <a:pt x="85" y="29"/>
                                    </a:lnTo>
                                    <a:lnTo>
                                      <a:pt x="79" y="37"/>
                                    </a:lnTo>
                                    <a:lnTo>
                                      <a:pt x="70" y="41"/>
                                    </a:lnTo>
                                    <a:lnTo>
                                      <a:pt x="61" y="45"/>
                                    </a:lnTo>
                                    <a:lnTo>
                                      <a:pt x="48" y="47"/>
                                    </a:lnTo>
                                    <a:lnTo>
                                      <a:pt x="36" y="49"/>
                                    </a:lnTo>
                                    <a:lnTo>
                                      <a:pt x="23" y="49"/>
                                    </a:lnTo>
                                    <a:lnTo>
                                      <a:pt x="12" y="47"/>
                                    </a:lnTo>
                                    <a:lnTo>
                                      <a:pt x="3" y="42"/>
                                    </a:lnTo>
                                    <a:lnTo>
                                      <a:pt x="0" y="35"/>
                                    </a:lnTo>
                                    <a:lnTo>
                                      <a:pt x="1" y="25"/>
                                    </a:lnTo>
                                    <a:lnTo>
                                      <a:pt x="6" y="16"/>
                                    </a:lnTo>
                                    <a:lnTo>
                                      <a:pt x="16" y="9"/>
                                    </a:lnTo>
                                    <a:lnTo>
                                      <a:pt x="25" y="5"/>
                                    </a:lnTo>
                                    <a:lnTo>
                                      <a:pt x="37" y="2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a000a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1680" bIns="-3168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6814" name=""/>
                              <p:cNvSpPr/>
                              <p:nvPr/>
                            </p:nvSpPr>
                            <p:spPr>
                              <a:xfrm>
                                <a:off x="2167560" y="2064240"/>
                                <a:ext cx="22320" cy="1332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87" h="49">
                                    <a:moveTo>
                                      <a:pt x="36" y="47"/>
                                    </a:moveTo>
                                    <a:lnTo>
                                      <a:pt x="47" y="49"/>
                                    </a:lnTo>
                                    <a:lnTo>
                                      <a:pt x="58" y="49"/>
                                    </a:lnTo>
                                    <a:lnTo>
                                      <a:pt x="66" y="48"/>
                                    </a:lnTo>
                                    <a:lnTo>
                                      <a:pt x="78" y="43"/>
                                    </a:lnTo>
                                    <a:lnTo>
                                      <a:pt x="84" y="38"/>
                                    </a:lnTo>
                                    <a:lnTo>
                                      <a:pt x="87" y="30"/>
                                    </a:lnTo>
                                    <a:lnTo>
                                      <a:pt x="84" y="19"/>
                                    </a:lnTo>
                                    <a:lnTo>
                                      <a:pt x="78" y="12"/>
                                    </a:lnTo>
                                    <a:lnTo>
                                      <a:pt x="68" y="8"/>
                                    </a:lnTo>
                                    <a:lnTo>
                                      <a:pt x="59" y="4"/>
                                    </a:lnTo>
                                    <a:lnTo>
                                      <a:pt x="47" y="2"/>
                                    </a:lnTo>
                                    <a:lnTo>
                                      <a:pt x="35" y="0"/>
                                    </a:lnTo>
                                    <a:lnTo>
                                      <a:pt x="21" y="0"/>
                                    </a:lnTo>
                                    <a:lnTo>
                                      <a:pt x="10" y="2"/>
                                    </a:lnTo>
                                    <a:lnTo>
                                      <a:pt x="3" y="7"/>
                                    </a:lnTo>
                                    <a:lnTo>
                                      <a:pt x="0" y="14"/>
                                    </a:lnTo>
                                    <a:lnTo>
                                      <a:pt x="1" y="24"/>
                                    </a:lnTo>
                                    <a:lnTo>
                                      <a:pt x="6" y="33"/>
                                    </a:lnTo>
                                    <a:lnTo>
                                      <a:pt x="14" y="39"/>
                                    </a:lnTo>
                                    <a:lnTo>
                                      <a:pt x="23" y="44"/>
                                    </a:lnTo>
                                    <a:lnTo>
                                      <a:pt x="36" y="47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a000a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3480" bIns="-3348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6815" name=""/>
                              <p:cNvSpPr/>
                              <p:nvPr/>
                            </p:nvSpPr>
                            <p:spPr>
                              <a:xfrm>
                                <a:off x="2196360" y="2074680"/>
                                <a:ext cx="15840" cy="165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68" h="56">
                                    <a:moveTo>
                                      <a:pt x="34" y="53"/>
                                    </a:moveTo>
                                    <a:lnTo>
                                      <a:pt x="45" y="56"/>
                                    </a:lnTo>
                                    <a:lnTo>
                                      <a:pt x="53" y="56"/>
                                    </a:lnTo>
                                    <a:lnTo>
                                      <a:pt x="61" y="54"/>
                                    </a:lnTo>
                                    <a:lnTo>
                                      <a:pt x="65" y="48"/>
                                    </a:lnTo>
                                    <a:lnTo>
                                      <a:pt x="68" y="40"/>
                                    </a:lnTo>
                                    <a:lnTo>
                                      <a:pt x="66" y="31"/>
                                    </a:lnTo>
                                    <a:lnTo>
                                      <a:pt x="60" y="19"/>
                                    </a:lnTo>
                                    <a:lnTo>
                                      <a:pt x="52" y="11"/>
                                    </a:lnTo>
                                    <a:lnTo>
                                      <a:pt x="41" y="5"/>
                                    </a:lnTo>
                                    <a:lnTo>
                                      <a:pt x="29" y="1"/>
                                    </a:lnTo>
                                    <a:lnTo>
                                      <a:pt x="20" y="0"/>
                                    </a:lnTo>
                                    <a:lnTo>
                                      <a:pt x="12" y="2"/>
                                    </a:lnTo>
                                    <a:lnTo>
                                      <a:pt x="4" y="7"/>
                                    </a:lnTo>
                                    <a:lnTo>
                                      <a:pt x="0" y="14"/>
                                    </a:lnTo>
                                    <a:lnTo>
                                      <a:pt x="1" y="24"/>
                                    </a:lnTo>
                                    <a:lnTo>
                                      <a:pt x="7" y="34"/>
                                    </a:lnTo>
                                    <a:lnTo>
                                      <a:pt x="16" y="41"/>
                                    </a:lnTo>
                                    <a:lnTo>
                                      <a:pt x="25" y="47"/>
                                    </a:lnTo>
                                    <a:lnTo>
                                      <a:pt x="34" y="53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a000a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0240" bIns="-3024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6816" name=""/>
                              <p:cNvSpPr/>
                              <p:nvPr/>
                            </p:nvSpPr>
                            <p:spPr>
                              <a:xfrm>
                                <a:off x="2214720" y="2095920"/>
                                <a:ext cx="14760" cy="201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57" h="65">
                                    <a:moveTo>
                                      <a:pt x="24" y="61"/>
                                    </a:moveTo>
                                    <a:lnTo>
                                      <a:pt x="35" y="65"/>
                                    </a:lnTo>
                                    <a:lnTo>
                                      <a:pt x="45" y="64"/>
                                    </a:lnTo>
                                    <a:lnTo>
                                      <a:pt x="52" y="59"/>
                                    </a:lnTo>
                                    <a:lnTo>
                                      <a:pt x="57" y="48"/>
                                    </a:lnTo>
                                    <a:lnTo>
                                      <a:pt x="55" y="34"/>
                                    </a:lnTo>
                                    <a:lnTo>
                                      <a:pt x="52" y="23"/>
                                    </a:lnTo>
                                    <a:lnTo>
                                      <a:pt x="46" y="14"/>
                                    </a:lnTo>
                                    <a:lnTo>
                                      <a:pt x="40" y="6"/>
                                    </a:lnTo>
                                    <a:lnTo>
                                      <a:pt x="29" y="1"/>
                                    </a:lnTo>
                                    <a:lnTo>
                                      <a:pt x="21" y="0"/>
                                    </a:lnTo>
                                    <a:lnTo>
                                      <a:pt x="11" y="2"/>
                                    </a:lnTo>
                                    <a:lnTo>
                                      <a:pt x="3" y="7"/>
                                    </a:lnTo>
                                    <a:lnTo>
                                      <a:pt x="0" y="15"/>
                                    </a:lnTo>
                                    <a:lnTo>
                                      <a:pt x="1" y="24"/>
                                    </a:lnTo>
                                    <a:lnTo>
                                      <a:pt x="3" y="34"/>
                                    </a:lnTo>
                                    <a:lnTo>
                                      <a:pt x="9" y="44"/>
                                    </a:lnTo>
                                    <a:lnTo>
                                      <a:pt x="17" y="53"/>
                                    </a:lnTo>
                                    <a:lnTo>
                                      <a:pt x="24" y="61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a000a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6640" bIns="-2664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6817" name=""/>
                          <p:cNvGrpSpPr/>
                          <p:nvPr/>
                        </p:nvGrpSpPr>
                        <p:grpSpPr>
                          <a:xfrm>
                            <a:off x="2169360" y="2144520"/>
                            <a:ext cx="100800" cy="201960"/>
                            <a:chOff x="2169360" y="2144520"/>
                            <a:chExt cx="100800" cy="201960"/>
                          </a:xfrm>
                        </p:grpSpPr>
                        <p:sp>
                          <p:nvSpPr>
                            <p:cNvPr id="6818" name=""/>
                            <p:cNvSpPr/>
                            <p:nvPr/>
                          </p:nvSpPr>
                          <p:spPr>
                            <a:xfrm>
                              <a:off x="2213640" y="2145600"/>
                              <a:ext cx="56520" cy="12636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229" h="410">
                                  <a:moveTo>
                                    <a:pt x="27" y="0"/>
                                  </a:moveTo>
                                  <a:lnTo>
                                    <a:pt x="17" y="28"/>
                                  </a:lnTo>
                                  <a:lnTo>
                                    <a:pt x="8" y="64"/>
                                  </a:lnTo>
                                  <a:lnTo>
                                    <a:pt x="3" y="103"/>
                                  </a:lnTo>
                                  <a:lnTo>
                                    <a:pt x="0" y="137"/>
                                  </a:lnTo>
                                  <a:lnTo>
                                    <a:pt x="5" y="166"/>
                                  </a:lnTo>
                                  <a:lnTo>
                                    <a:pt x="14" y="190"/>
                                  </a:lnTo>
                                  <a:lnTo>
                                    <a:pt x="30" y="215"/>
                                  </a:lnTo>
                                  <a:lnTo>
                                    <a:pt x="52" y="245"/>
                                  </a:lnTo>
                                  <a:lnTo>
                                    <a:pt x="82" y="272"/>
                                  </a:lnTo>
                                  <a:lnTo>
                                    <a:pt x="122" y="304"/>
                                  </a:lnTo>
                                  <a:lnTo>
                                    <a:pt x="152" y="329"/>
                                  </a:lnTo>
                                  <a:lnTo>
                                    <a:pt x="176" y="347"/>
                                  </a:lnTo>
                                  <a:lnTo>
                                    <a:pt x="192" y="366"/>
                                  </a:lnTo>
                                  <a:lnTo>
                                    <a:pt x="213" y="389"/>
                                  </a:lnTo>
                                  <a:lnTo>
                                    <a:pt x="229" y="410"/>
                                  </a:lnTo>
                                </a:path>
                              </a:pathLst>
                            </a:custGeom>
                            <a:noFill/>
                            <a:ln w="4680">
                              <a:solidFill>
                                <a:srgbClr val="ffc0c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6819" name=""/>
                            <p:cNvSpPr/>
                            <p:nvPr/>
                          </p:nvSpPr>
                          <p:spPr>
                            <a:xfrm>
                              <a:off x="2169360" y="2187360"/>
                              <a:ext cx="54360" cy="11988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216" h="391">
                                  <a:moveTo>
                                    <a:pt x="0" y="0"/>
                                  </a:moveTo>
                                  <a:lnTo>
                                    <a:pt x="24" y="4"/>
                                  </a:lnTo>
                                  <a:lnTo>
                                    <a:pt x="47" y="9"/>
                                  </a:lnTo>
                                  <a:lnTo>
                                    <a:pt x="73" y="18"/>
                                  </a:lnTo>
                                  <a:lnTo>
                                    <a:pt x="93" y="29"/>
                                  </a:lnTo>
                                  <a:lnTo>
                                    <a:pt x="112" y="41"/>
                                  </a:lnTo>
                                  <a:lnTo>
                                    <a:pt x="128" y="65"/>
                                  </a:lnTo>
                                  <a:lnTo>
                                    <a:pt x="142" y="87"/>
                                  </a:lnTo>
                                  <a:lnTo>
                                    <a:pt x="152" y="114"/>
                                  </a:lnTo>
                                  <a:lnTo>
                                    <a:pt x="162" y="146"/>
                                  </a:lnTo>
                                  <a:lnTo>
                                    <a:pt x="171" y="182"/>
                                  </a:lnTo>
                                  <a:lnTo>
                                    <a:pt x="174" y="222"/>
                                  </a:lnTo>
                                  <a:lnTo>
                                    <a:pt x="177" y="276"/>
                                  </a:lnTo>
                                  <a:lnTo>
                                    <a:pt x="180" y="314"/>
                                  </a:lnTo>
                                  <a:lnTo>
                                    <a:pt x="188" y="347"/>
                                  </a:lnTo>
                                  <a:lnTo>
                                    <a:pt x="201" y="372"/>
                                  </a:lnTo>
                                  <a:lnTo>
                                    <a:pt x="216" y="391"/>
                                  </a:lnTo>
                                  <a:lnTo>
                                    <a:pt x="214" y="390"/>
                                  </a:lnTo>
                                </a:path>
                              </a:pathLst>
                            </a:custGeom>
                            <a:noFill/>
                            <a:ln w="4680">
                              <a:solidFill>
                                <a:srgbClr val="ffc0c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6820" name=""/>
                            <p:cNvSpPr/>
                            <p:nvPr/>
                          </p:nvSpPr>
                          <p:spPr>
                            <a:xfrm>
                              <a:off x="2171880" y="2144520"/>
                              <a:ext cx="91080" cy="20196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371" h="657">
                                  <a:moveTo>
                                    <a:pt x="0" y="0"/>
                                  </a:moveTo>
                                  <a:lnTo>
                                    <a:pt x="26" y="25"/>
                                  </a:lnTo>
                                  <a:lnTo>
                                    <a:pt x="60" y="56"/>
                                  </a:lnTo>
                                  <a:lnTo>
                                    <a:pt x="84" y="86"/>
                                  </a:lnTo>
                                  <a:lnTo>
                                    <a:pt x="108" y="120"/>
                                  </a:lnTo>
                                  <a:lnTo>
                                    <a:pt x="132" y="159"/>
                                  </a:lnTo>
                                  <a:lnTo>
                                    <a:pt x="154" y="196"/>
                                  </a:lnTo>
                                  <a:lnTo>
                                    <a:pt x="176" y="236"/>
                                  </a:lnTo>
                                  <a:lnTo>
                                    <a:pt x="195" y="272"/>
                                  </a:lnTo>
                                  <a:lnTo>
                                    <a:pt x="213" y="313"/>
                                  </a:lnTo>
                                  <a:lnTo>
                                    <a:pt x="230" y="357"/>
                                  </a:lnTo>
                                  <a:lnTo>
                                    <a:pt x="247" y="409"/>
                                  </a:lnTo>
                                  <a:lnTo>
                                    <a:pt x="261" y="452"/>
                                  </a:lnTo>
                                  <a:lnTo>
                                    <a:pt x="277" y="496"/>
                                  </a:lnTo>
                                  <a:lnTo>
                                    <a:pt x="292" y="533"/>
                                  </a:lnTo>
                                  <a:lnTo>
                                    <a:pt x="312" y="577"/>
                                  </a:lnTo>
                                  <a:lnTo>
                                    <a:pt x="338" y="616"/>
                                  </a:lnTo>
                                  <a:lnTo>
                                    <a:pt x="371" y="657"/>
                                  </a:lnTo>
                                </a:path>
                              </a:pathLst>
                            </a:custGeom>
                            <a:noFill/>
                            <a:ln w="4680">
                              <a:solidFill>
                                <a:srgbClr val="ffc0c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6821" name=""/>
                        <p:cNvGrpSpPr/>
                        <p:nvPr/>
                      </p:nvGrpSpPr>
                      <p:grpSpPr>
                        <a:xfrm>
                          <a:off x="1949400" y="2136600"/>
                          <a:ext cx="301680" cy="331560"/>
                          <a:chOff x="1949400" y="2136600"/>
                          <a:chExt cx="301680" cy="331560"/>
                        </a:xfrm>
                      </p:grpSpPr>
                      <p:grpSp>
                        <p:nvGrpSpPr>
                          <p:cNvPr id="6822" name=""/>
                          <p:cNvGrpSpPr/>
                          <p:nvPr/>
                        </p:nvGrpSpPr>
                        <p:grpSpPr>
                          <a:xfrm>
                            <a:off x="1949400" y="2136600"/>
                            <a:ext cx="301680" cy="331560"/>
                            <a:chOff x="1949400" y="2136600"/>
                            <a:chExt cx="301680" cy="331560"/>
                          </a:xfrm>
                        </p:grpSpPr>
                        <p:grpSp>
                          <p:nvGrpSpPr>
                            <p:cNvPr id="6823" name=""/>
                            <p:cNvGrpSpPr/>
                            <p:nvPr/>
                          </p:nvGrpSpPr>
                          <p:grpSpPr>
                            <a:xfrm>
                              <a:off x="1949400" y="2136600"/>
                              <a:ext cx="301680" cy="331560"/>
                              <a:chOff x="1949400" y="2136600"/>
                              <a:chExt cx="301680" cy="331560"/>
                            </a:xfrm>
                          </p:grpSpPr>
                          <p:grpSp>
                            <p:nvGrpSpPr>
                              <p:cNvPr id="6824" name=""/>
                              <p:cNvGrpSpPr/>
                              <p:nvPr/>
                            </p:nvGrpSpPr>
                            <p:grpSpPr>
                              <a:xfrm>
                                <a:off x="1949400" y="2136600"/>
                                <a:ext cx="301680" cy="331560"/>
                                <a:chOff x="1949400" y="2136600"/>
                                <a:chExt cx="301680" cy="331560"/>
                              </a:xfrm>
                            </p:grpSpPr>
                            <p:grpSp>
                              <p:nvGrpSpPr>
                                <p:cNvPr id="6825" name=""/>
                                <p:cNvGrpSpPr/>
                                <p:nvPr/>
                              </p:nvGrpSpPr>
                              <p:grpSpPr>
                                <a:xfrm>
                                  <a:off x="1949400" y="2136600"/>
                                  <a:ext cx="301680" cy="331560"/>
                                  <a:chOff x="1949400" y="2136600"/>
                                  <a:chExt cx="301680" cy="331560"/>
                                </a:xfrm>
                              </p:grpSpPr>
                              <p:sp>
                                <p:nvSpPr>
                                  <p:cNvPr id="6826" name=""/>
                                  <p:cNvSpPr/>
                                  <p:nvPr/>
                                </p:nvSpPr>
                                <p:spPr>
                                  <a:xfrm>
                                    <a:off x="1949400" y="2136600"/>
                                    <a:ext cx="301680" cy="331560"/>
                                  </a:xfrm>
                                  <a:custGeom>
                                    <a:avLst/>
                                    <a:gdLst/>
                                    <a:ahLst/>
                                    <a:rect l="l" t="t" r="r" b="b"/>
                                    <a:pathLst>
                                      <a:path w="1224" h="1076">
                                        <a:moveTo>
                                          <a:pt x="95" y="86"/>
                                        </a:moveTo>
                                        <a:lnTo>
                                          <a:pt x="127" y="60"/>
                                        </a:lnTo>
                                        <a:lnTo>
                                          <a:pt x="158" y="37"/>
                                        </a:lnTo>
                                        <a:lnTo>
                                          <a:pt x="193" y="18"/>
                                        </a:lnTo>
                                        <a:lnTo>
                                          <a:pt x="234" y="6"/>
                                        </a:lnTo>
                                        <a:lnTo>
                                          <a:pt x="269" y="2"/>
                                        </a:lnTo>
                                        <a:lnTo>
                                          <a:pt x="309" y="0"/>
                                        </a:lnTo>
                                        <a:lnTo>
                                          <a:pt x="367" y="5"/>
                                        </a:lnTo>
                                        <a:lnTo>
                                          <a:pt x="424" y="17"/>
                                        </a:lnTo>
                                        <a:lnTo>
                                          <a:pt x="460" y="42"/>
                                        </a:lnTo>
                                        <a:lnTo>
                                          <a:pt x="488" y="77"/>
                                        </a:lnTo>
                                        <a:lnTo>
                                          <a:pt x="512" y="119"/>
                                        </a:lnTo>
                                        <a:lnTo>
                                          <a:pt x="537" y="159"/>
                                        </a:lnTo>
                                        <a:lnTo>
                                          <a:pt x="567" y="193"/>
                                        </a:lnTo>
                                        <a:lnTo>
                                          <a:pt x="593" y="220"/>
                                        </a:lnTo>
                                        <a:lnTo>
                                          <a:pt x="628" y="260"/>
                                        </a:lnTo>
                                        <a:lnTo>
                                          <a:pt x="642" y="297"/>
                                        </a:lnTo>
                                        <a:lnTo>
                                          <a:pt x="646" y="326"/>
                                        </a:lnTo>
                                        <a:lnTo>
                                          <a:pt x="642" y="342"/>
                                        </a:lnTo>
                                        <a:lnTo>
                                          <a:pt x="633" y="370"/>
                                        </a:lnTo>
                                        <a:lnTo>
                                          <a:pt x="618" y="396"/>
                                        </a:lnTo>
                                        <a:lnTo>
                                          <a:pt x="596" y="424"/>
                                        </a:lnTo>
                                        <a:lnTo>
                                          <a:pt x="570" y="461"/>
                                        </a:lnTo>
                                        <a:lnTo>
                                          <a:pt x="546" y="489"/>
                                        </a:lnTo>
                                        <a:lnTo>
                                          <a:pt x="527" y="520"/>
                                        </a:lnTo>
                                        <a:lnTo>
                                          <a:pt x="519" y="538"/>
                                        </a:lnTo>
                                        <a:lnTo>
                                          <a:pt x="518" y="550"/>
                                        </a:lnTo>
                                        <a:lnTo>
                                          <a:pt x="523" y="559"/>
                                        </a:lnTo>
                                        <a:lnTo>
                                          <a:pt x="533" y="563"/>
                                        </a:lnTo>
                                        <a:lnTo>
                                          <a:pt x="542" y="561"/>
                                        </a:lnTo>
                                        <a:lnTo>
                                          <a:pt x="552" y="552"/>
                                        </a:lnTo>
                                        <a:lnTo>
                                          <a:pt x="565" y="532"/>
                                        </a:lnTo>
                                        <a:lnTo>
                                          <a:pt x="585" y="502"/>
                                        </a:lnTo>
                                        <a:lnTo>
                                          <a:pt x="609" y="470"/>
                                        </a:lnTo>
                                        <a:lnTo>
                                          <a:pt x="631" y="442"/>
                                        </a:lnTo>
                                        <a:lnTo>
                                          <a:pt x="653" y="417"/>
                                        </a:lnTo>
                                        <a:lnTo>
                                          <a:pt x="676" y="395"/>
                                        </a:lnTo>
                                        <a:lnTo>
                                          <a:pt x="687" y="388"/>
                                        </a:lnTo>
                                        <a:lnTo>
                                          <a:pt x="701" y="386"/>
                                        </a:lnTo>
                                        <a:lnTo>
                                          <a:pt x="714" y="390"/>
                                        </a:lnTo>
                                        <a:lnTo>
                                          <a:pt x="722" y="395"/>
                                        </a:lnTo>
                                        <a:lnTo>
                                          <a:pt x="737" y="421"/>
                                        </a:lnTo>
                                        <a:lnTo>
                                          <a:pt x="758" y="467"/>
                                        </a:lnTo>
                                        <a:lnTo>
                                          <a:pt x="781" y="520"/>
                                        </a:lnTo>
                                        <a:lnTo>
                                          <a:pt x="803" y="571"/>
                                        </a:lnTo>
                                        <a:lnTo>
                                          <a:pt x="825" y="614"/>
                                        </a:lnTo>
                                        <a:lnTo>
                                          <a:pt x="863" y="674"/>
                                        </a:lnTo>
                                        <a:lnTo>
                                          <a:pt x="902" y="734"/>
                                        </a:lnTo>
                                        <a:lnTo>
                                          <a:pt x="944" y="793"/>
                                        </a:lnTo>
                                        <a:lnTo>
                                          <a:pt x="983" y="839"/>
                                        </a:lnTo>
                                        <a:lnTo>
                                          <a:pt x="1027" y="874"/>
                                        </a:lnTo>
                                        <a:lnTo>
                                          <a:pt x="1069" y="910"/>
                                        </a:lnTo>
                                        <a:lnTo>
                                          <a:pt x="1108" y="941"/>
                                        </a:lnTo>
                                        <a:lnTo>
                                          <a:pt x="1150" y="972"/>
                                        </a:lnTo>
                                        <a:lnTo>
                                          <a:pt x="1202" y="1009"/>
                                        </a:lnTo>
                                        <a:lnTo>
                                          <a:pt x="1213" y="1021"/>
                                        </a:lnTo>
                                        <a:lnTo>
                                          <a:pt x="1223" y="1035"/>
                                        </a:lnTo>
                                        <a:lnTo>
                                          <a:pt x="1224" y="1045"/>
                                        </a:lnTo>
                                        <a:lnTo>
                                          <a:pt x="1219" y="1059"/>
                                        </a:lnTo>
                                        <a:lnTo>
                                          <a:pt x="1209" y="1067"/>
                                        </a:lnTo>
                                        <a:lnTo>
                                          <a:pt x="1194" y="1072"/>
                                        </a:lnTo>
                                        <a:lnTo>
                                          <a:pt x="1162" y="1075"/>
                                        </a:lnTo>
                                        <a:lnTo>
                                          <a:pt x="1125" y="1076"/>
                                        </a:lnTo>
                                        <a:lnTo>
                                          <a:pt x="1062" y="1071"/>
                                        </a:lnTo>
                                        <a:lnTo>
                                          <a:pt x="1003" y="1063"/>
                                        </a:lnTo>
                                        <a:lnTo>
                                          <a:pt x="951" y="1056"/>
                                        </a:lnTo>
                                        <a:lnTo>
                                          <a:pt x="888" y="1044"/>
                                        </a:lnTo>
                                        <a:lnTo>
                                          <a:pt x="826" y="1026"/>
                                        </a:lnTo>
                                        <a:lnTo>
                                          <a:pt x="778" y="1006"/>
                                        </a:lnTo>
                                        <a:lnTo>
                                          <a:pt x="735" y="981"/>
                                        </a:lnTo>
                                        <a:lnTo>
                                          <a:pt x="670" y="954"/>
                                        </a:lnTo>
                                        <a:lnTo>
                                          <a:pt x="603" y="921"/>
                                        </a:lnTo>
                                        <a:lnTo>
                                          <a:pt x="542" y="890"/>
                                        </a:lnTo>
                                        <a:lnTo>
                                          <a:pt x="496" y="856"/>
                                        </a:lnTo>
                                        <a:lnTo>
                                          <a:pt x="453" y="826"/>
                                        </a:lnTo>
                                        <a:lnTo>
                                          <a:pt x="413" y="796"/>
                                        </a:lnTo>
                                        <a:lnTo>
                                          <a:pt x="373" y="753"/>
                                        </a:lnTo>
                                        <a:lnTo>
                                          <a:pt x="340" y="720"/>
                                        </a:lnTo>
                                        <a:lnTo>
                                          <a:pt x="311" y="689"/>
                                        </a:lnTo>
                                        <a:lnTo>
                                          <a:pt x="306" y="675"/>
                                        </a:lnTo>
                                        <a:lnTo>
                                          <a:pt x="306" y="658"/>
                                        </a:lnTo>
                                        <a:lnTo>
                                          <a:pt x="317" y="641"/>
                                        </a:lnTo>
                                        <a:lnTo>
                                          <a:pt x="335" y="629"/>
                                        </a:lnTo>
                                        <a:lnTo>
                                          <a:pt x="358" y="620"/>
                                        </a:lnTo>
                                        <a:lnTo>
                                          <a:pt x="387" y="616"/>
                                        </a:lnTo>
                                        <a:lnTo>
                                          <a:pt x="421" y="621"/>
                                        </a:lnTo>
                                        <a:lnTo>
                                          <a:pt x="453" y="631"/>
                                        </a:lnTo>
                                        <a:lnTo>
                                          <a:pt x="467" y="635"/>
                                        </a:lnTo>
                                        <a:lnTo>
                                          <a:pt x="478" y="637"/>
                                        </a:lnTo>
                                        <a:lnTo>
                                          <a:pt x="485" y="634"/>
                                        </a:lnTo>
                                        <a:lnTo>
                                          <a:pt x="490" y="626"/>
                                        </a:lnTo>
                                        <a:lnTo>
                                          <a:pt x="488" y="616"/>
                                        </a:lnTo>
                                        <a:lnTo>
                                          <a:pt x="481" y="606"/>
                                        </a:lnTo>
                                        <a:lnTo>
                                          <a:pt x="454" y="593"/>
                                        </a:lnTo>
                                        <a:lnTo>
                                          <a:pt x="425" y="586"/>
                                        </a:lnTo>
                                        <a:lnTo>
                                          <a:pt x="395" y="583"/>
                                        </a:lnTo>
                                        <a:lnTo>
                                          <a:pt x="365" y="589"/>
                                        </a:lnTo>
                                        <a:lnTo>
                                          <a:pt x="327" y="599"/>
                                        </a:lnTo>
                                        <a:lnTo>
                                          <a:pt x="283" y="613"/>
                                        </a:lnTo>
                                        <a:lnTo>
                                          <a:pt x="249" y="623"/>
                                        </a:lnTo>
                                        <a:lnTo>
                                          <a:pt x="222" y="628"/>
                                        </a:lnTo>
                                        <a:lnTo>
                                          <a:pt x="196" y="624"/>
                                        </a:lnTo>
                                        <a:lnTo>
                                          <a:pt x="170" y="616"/>
                                        </a:lnTo>
                                        <a:lnTo>
                                          <a:pt x="142" y="602"/>
                                        </a:lnTo>
                                        <a:lnTo>
                                          <a:pt x="122" y="584"/>
                                        </a:lnTo>
                                        <a:lnTo>
                                          <a:pt x="100" y="561"/>
                                        </a:lnTo>
                                        <a:lnTo>
                                          <a:pt x="72" y="525"/>
                                        </a:lnTo>
                                        <a:lnTo>
                                          <a:pt x="41" y="477"/>
                                        </a:lnTo>
                                        <a:lnTo>
                                          <a:pt x="18" y="431"/>
                                        </a:lnTo>
                                        <a:lnTo>
                                          <a:pt x="3" y="387"/>
                                        </a:lnTo>
                                        <a:lnTo>
                                          <a:pt x="0" y="356"/>
                                        </a:lnTo>
                                        <a:lnTo>
                                          <a:pt x="4" y="327"/>
                                        </a:lnTo>
                                        <a:lnTo>
                                          <a:pt x="13" y="269"/>
                                        </a:lnTo>
                                        <a:lnTo>
                                          <a:pt x="23" y="205"/>
                                        </a:lnTo>
                                        <a:lnTo>
                                          <a:pt x="44" y="153"/>
                                        </a:lnTo>
                                        <a:lnTo>
                                          <a:pt x="69" y="116"/>
                                        </a:lnTo>
                                        <a:lnTo>
                                          <a:pt x="95" y="86"/>
                                        </a:lnTo>
                                        <a:close/>
                                      </a:path>
                                    </a:pathLst>
                                  </a:custGeom>
                                  <a:solidFill>
                                    <a:srgbClr val="ff8080"/>
                                  </a:solidFill>
                                  <a:ln w="0">
                                    <a:noFill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  <p:grpSp>
                                <p:nvGrpSpPr>
                                  <p:cNvPr id="6827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949400" y="2136600"/>
                                    <a:ext cx="301320" cy="331200"/>
                                    <a:chOff x="1949400" y="2136600"/>
                                    <a:chExt cx="301320" cy="331200"/>
                                  </a:xfrm>
                                </p:grpSpPr>
                                <p:sp>
                                  <p:nvSpPr>
                                    <p:cNvPr id="682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023200" y="2255400"/>
                                      <a:ext cx="227520" cy="212400"/>
                                    </a:xfrm>
                                    <a:custGeom>
                                      <a:avLst/>
                                      <a:gdLst/>
                                      <a:ahLst/>
                                      <a:rect l="l" t="t" r="r" b="b"/>
                                      <a:pathLst>
                                        <a:path w="919" h="689">
                                          <a:moveTo>
                                            <a:pt x="304" y="84"/>
                                          </a:moveTo>
                                          <a:lnTo>
                                            <a:pt x="326" y="56"/>
                                          </a:lnTo>
                                          <a:lnTo>
                                            <a:pt x="348" y="31"/>
                                          </a:lnTo>
                                          <a:lnTo>
                                            <a:pt x="371" y="9"/>
                                          </a:lnTo>
                                          <a:lnTo>
                                            <a:pt x="382" y="2"/>
                                          </a:lnTo>
                                          <a:lnTo>
                                            <a:pt x="396" y="0"/>
                                          </a:lnTo>
                                          <a:lnTo>
                                            <a:pt x="409" y="4"/>
                                          </a:lnTo>
                                          <a:lnTo>
                                            <a:pt x="417" y="9"/>
                                          </a:lnTo>
                                          <a:lnTo>
                                            <a:pt x="432" y="35"/>
                                          </a:lnTo>
                                          <a:lnTo>
                                            <a:pt x="453" y="81"/>
                                          </a:lnTo>
                                          <a:lnTo>
                                            <a:pt x="476" y="134"/>
                                          </a:lnTo>
                                          <a:lnTo>
                                            <a:pt x="498" y="184"/>
                                          </a:lnTo>
                                          <a:lnTo>
                                            <a:pt x="519" y="227"/>
                                          </a:lnTo>
                                          <a:lnTo>
                                            <a:pt x="558" y="287"/>
                                          </a:lnTo>
                                          <a:lnTo>
                                            <a:pt x="597" y="347"/>
                                          </a:lnTo>
                                          <a:lnTo>
                                            <a:pt x="640" y="406"/>
                                          </a:lnTo>
                                          <a:lnTo>
                                            <a:pt x="679" y="453"/>
                                          </a:lnTo>
                                          <a:lnTo>
                                            <a:pt x="722" y="488"/>
                                          </a:lnTo>
                                          <a:lnTo>
                                            <a:pt x="764" y="523"/>
                                          </a:lnTo>
                                          <a:lnTo>
                                            <a:pt x="803" y="554"/>
                                          </a:lnTo>
                                          <a:lnTo>
                                            <a:pt x="845" y="585"/>
                                          </a:lnTo>
                                          <a:lnTo>
                                            <a:pt x="897" y="622"/>
                                          </a:lnTo>
                                          <a:lnTo>
                                            <a:pt x="908" y="634"/>
                                          </a:lnTo>
                                          <a:lnTo>
                                            <a:pt x="918" y="648"/>
                                          </a:lnTo>
                                          <a:lnTo>
                                            <a:pt x="919" y="658"/>
                                          </a:lnTo>
                                          <a:lnTo>
                                            <a:pt x="914" y="672"/>
                                          </a:lnTo>
                                          <a:lnTo>
                                            <a:pt x="904" y="680"/>
                                          </a:lnTo>
                                          <a:lnTo>
                                            <a:pt x="889" y="685"/>
                                          </a:lnTo>
                                          <a:lnTo>
                                            <a:pt x="857" y="688"/>
                                          </a:lnTo>
                                          <a:lnTo>
                                            <a:pt x="820" y="689"/>
                                          </a:lnTo>
                                          <a:lnTo>
                                            <a:pt x="757" y="684"/>
                                          </a:lnTo>
                                          <a:lnTo>
                                            <a:pt x="698" y="676"/>
                                          </a:lnTo>
                                          <a:lnTo>
                                            <a:pt x="647" y="669"/>
                                          </a:lnTo>
                                          <a:lnTo>
                                            <a:pt x="583" y="657"/>
                                          </a:lnTo>
                                          <a:lnTo>
                                            <a:pt x="521" y="639"/>
                                          </a:lnTo>
                                          <a:lnTo>
                                            <a:pt x="473" y="619"/>
                                          </a:lnTo>
                                          <a:lnTo>
                                            <a:pt x="429" y="594"/>
                                          </a:lnTo>
                                          <a:lnTo>
                                            <a:pt x="365" y="567"/>
                                          </a:lnTo>
                                          <a:lnTo>
                                            <a:pt x="298" y="534"/>
                                          </a:lnTo>
                                          <a:lnTo>
                                            <a:pt x="237" y="504"/>
                                          </a:lnTo>
                                          <a:lnTo>
                                            <a:pt x="192" y="470"/>
                                          </a:lnTo>
                                          <a:lnTo>
                                            <a:pt x="149" y="440"/>
                                          </a:lnTo>
                                          <a:lnTo>
                                            <a:pt x="109" y="409"/>
                                          </a:lnTo>
                                          <a:lnTo>
                                            <a:pt x="69" y="366"/>
                                          </a:lnTo>
                                          <a:lnTo>
                                            <a:pt x="36" y="333"/>
                                          </a:lnTo>
                                          <a:lnTo>
                                            <a:pt x="7" y="302"/>
                                          </a:lnTo>
                                          <a:lnTo>
                                            <a:pt x="0" y="288"/>
                                          </a:lnTo>
                                          <a:lnTo>
                                            <a:pt x="3" y="271"/>
                                          </a:lnTo>
                                          <a:lnTo>
                                            <a:pt x="13" y="254"/>
                                          </a:lnTo>
                                          <a:lnTo>
                                            <a:pt x="31" y="242"/>
                                          </a:lnTo>
                                          <a:lnTo>
                                            <a:pt x="54" y="233"/>
                                          </a:lnTo>
                                          <a:lnTo>
                                            <a:pt x="83" y="229"/>
                                          </a:lnTo>
                                          <a:lnTo>
                                            <a:pt x="110" y="231"/>
                                          </a:lnTo>
                                          <a:lnTo>
                                            <a:pt x="131" y="236"/>
                                          </a:lnTo>
                                          <a:lnTo>
                                            <a:pt x="156" y="245"/>
                                          </a:lnTo>
                                          <a:lnTo>
                                            <a:pt x="170" y="249"/>
                                          </a:lnTo>
                                          <a:lnTo>
                                            <a:pt x="148" y="249"/>
                                          </a:lnTo>
                                          <a:lnTo>
                                            <a:pt x="126" y="247"/>
                                          </a:lnTo>
                                          <a:lnTo>
                                            <a:pt x="107" y="248"/>
                                          </a:lnTo>
                                          <a:lnTo>
                                            <a:pt x="89" y="251"/>
                                          </a:lnTo>
                                          <a:lnTo>
                                            <a:pt x="73" y="257"/>
                                          </a:lnTo>
                                          <a:lnTo>
                                            <a:pt x="57" y="265"/>
                                          </a:lnTo>
                                          <a:lnTo>
                                            <a:pt x="46" y="277"/>
                                          </a:lnTo>
                                          <a:lnTo>
                                            <a:pt x="40" y="288"/>
                                          </a:lnTo>
                                          <a:lnTo>
                                            <a:pt x="41" y="294"/>
                                          </a:lnTo>
                                          <a:lnTo>
                                            <a:pt x="46" y="302"/>
                                          </a:lnTo>
                                          <a:lnTo>
                                            <a:pt x="56" y="315"/>
                                          </a:lnTo>
                                          <a:lnTo>
                                            <a:pt x="75" y="339"/>
                                          </a:lnTo>
                                          <a:lnTo>
                                            <a:pt x="99" y="368"/>
                                          </a:lnTo>
                                          <a:lnTo>
                                            <a:pt x="128" y="391"/>
                                          </a:lnTo>
                                          <a:lnTo>
                                            <a:pt x="159" y="420"/>
                                          </a:lnTo>
                                          <a:lnTo>
                                            <a:pt x="193" y="445"/>
                                          </a:lnTo>
                                          <a:lnTo>
                                            <a:pt x="219" y="462"/>
                                          </a:lnTo>
                                          <a:lnTo>
                                            <a:pt x="241" y="477"/>
                                          </a:lnTo>
                                          <a:lnTo>
                                            <a:pt x="270" y="493"/>
                                          </a:lnTo>
                                          <a:lnTo>
                                            <a:pt x="292" y="507"/>
                                          </a:lnTo>
                                          <a:lnTo>
                                            <a:pt x="315" y="516"/>
                                          </a:lnTo>
                                          <a:lnTo>
                                            <a:pt x="334" y="520"/>
                                          </a:lnTo>
                                          <a:lnTo>
                                            <a:pt x="355" y="526"/>
                                          </a:lnTo>
                                          <a:lnTo>
                                            <a:pt x="376" y="537"/>
                                          </a:lnTo>
                                          <a:lnTo>
                                            <a:pt x="411" y="554"/>
                                          </a:lnTo>
                                          <a:lnTo>
                                            <a:pt x="448" y="572"/>
                                          </a:lnTo>
                                          <a:lnTo>
                                            <a:pt x="481" y="587"/>
                                          </a:lnTo>
                                          <a:lnTo>
                                            <a:pt x="512" y="604"/>
                                          </a:lnTo>
                                          <a:lnTo>
                                            <a:pt x="543" y="620"/>
                                          </a:lnTo>
                                          <a:lnTo>
                                            <a:pt x="570" y="625"/>
                                          </a:lnTo>
                                          <a:lnTo>
                                            <a:pt x="598" y="633"/>
                                          </a:lnTo>
                                          <a:lnTo>
                                            <a:pt x="628" y="642"/>
                                          </a:lnTo>
                                          <a:lnTo>
                                            <a:pt x="657" y="645"/>
                                          </a:lnTo>
                                          <a:lnTo>
                                            <a:pt x="693" y="649"/>
                                          </a:lnTo>
                                          <a:lnTo>
                                            <a:pt x="730" y="652"/>
                                          </a:lnTo>
                                          <a:lnTo>
                                            <a:pt x="764" y="655"/>
                                          </a:lnTo>
                                          <a:lnTo>
                                            <a:pt x="777" y="653"/>
                                          </a:lnTo>
                                          <a:lnTo>
                                            <a:pt x="791" y="647"/>
                                          </a:lnTo>
                                          <a:lnTo>
                                            <a:pt x="799" y="635"/>
                                          </a:lnTo>
                                          <a:lnTo>
                                            <a:pt x="803" y="621"/>
                                          </a:lnTo>
                                          <a:lnTo>
                                            <a:pt x="801" y="609"/>
                                          </a:lnTo>
                                          <a:lnTo>
                                            <a:pt x="787" y="589"/>
                                          </a:lnTo>
                                          <a:lnTo>
                                            <a:pt x="764" y="562"/>
                                          </a:lnTo>
                                          <a:lnTo>
                                            <a:pt x="739" y="540"/>
                                          </a:lnTo>
                                          <a:lnTo>
                                            <a:pt x="716" y="520"/>
                                          </a:lnTo>
                                          <a:lnTo>
                                            <a:pt x="688" y="502"/>
                                          </a:lnTo>
                                          <a:lnTo>
                                            <a:pt x="661" y="483"/>
                                          </a:lnTo>
                                          <a:lnTo>
                                            <a:pt x="635" y="461"/>
                                          </a:lnTo>
                                          <a:lnTo>
                                            <a:pt x="616" y="437"/>
                                          </a:lnTo>
                                          <a:lnTo>
                                            <a:pt x="597" y="412"/>
                                          </a:lnTo>
                                          <a:lnTo>
                                            <a:pt x="577" y="380"/>
                                          </a:lnTo>
                                          <a:lnTo>
                                            <a:pt x="561" y="355"/>
                                          </a:lnTo>
                                          <a:lnTo>
                                            <a:pt x="545" y="330"/>
                                          </a:lnTo>
                                          <a:lnTo>
                                            <a:pt x="526" y="299"/>
                                          </a:lnTo>
                                          <a:lnTo>
                                            <a:pt x="508" y="268"/>
                                          </a:lnTo>
                                          <a:lnTo>
                                            <a:pt x="493" y="240"/>
                                          </a:lnTo>
                                          <a:lnTo>
                                            <a:pt x="478" y="211"/>
                                          </a:lnTo>
                                          <a:lnTo>
                                            <a:pt x="463" y="181"/>
                                          </a:lnTo>
                                          <a:lnTo>
                                            <a:pt x="449" y="154"/>
                                          </a:lnTo>
                                          <a:lnTo>
                                            <a:pt x="436" y="128"/>
                                          </a:lnTo>
                                          <a:lnTo>
                                            <a:pt x="426" y="99"/>
                                          </a:lnTo>
                                          <a:lnTo>
                                            <a:pt x="419" y="80"/>
                                          </a:lnTo>
                                          <a:lnTo>
                                            <a:pt x="412" y="68"/>
                                          </a:lnTo>
                                          <a:lnTo>
                                            <a:pt x="401" y="59"/>
                                          </a:lnTo>
                                          <a:lnTo>
                                            <a:pt x="389" y="55"/>
                                          </a:lnTo>
                                          <a:lnTo>
                                            <a:pt x="375" y="56"/>
                                          </a:lnTo>
                                          <a:lnTo>
                                            <a:pt x="360" y="61"/>
                                          </a:lnTo>
                                          <a:lnTo>
                                            <a:pt x="344" y="70"/>
                                          </a:lnTo>
                                          <a:lnTo>
                                            <a:pt x="325" y="77"/>
                                          </a:lnTo>
                                          <a:lnTo>
                                            <a:pt x="304" y="84"/>
                                          </a:lnTo>
                                          <a:close/>
                                        </a:path>
                                      </a:pathLst>
                                    </a:custGeom>
                                    <a:solidFill>
                                      <a:srgbClr val="ff404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46800" bIns="4680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000000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682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949400" y="2136600"/>
                                      <a:ext cx="159480" cy="192600"/>
                                    </a:xfrm>
                                    <a:custGeom>
                                      <a:avLst/>
                                      <a:gdLst/>
                                      <a:ahLst/>
                                      <a:rect l="l" t="t" r="r" b="b"/>
                                      <a:pathLst>
                                        <a:path w="645" h="627">
                                          <a:moveTo>
                                            <a:pt x="95" y="86"/>
                                          </a:moveTo>
                                          <a:lnTo>
                                            <a:pt x="127" y="60"/>
                                          </a:lnTo>
                                          <a:lnTo>
                                            <a:pt x="158" y="37"/>
                                          </a:lnTo>
                                          <a:lnTo>
                                            <a:pt x="192" y="18"/>
                                          </a:lnTo>
                                          <a:lnTo>
                                            <a:pt x="233" y="6"/>
                                          </a:lnTo>
                                          <a:lnTo>
                                            <a:pt x="268" y="2"/>
                                          </a:lnTo>
                                          <a:lnTo>
                                            <a:pt x="309" y="0"/>
                                          </a:lnTo>
                                          <a:lnTo>
                                            <a:pt x="367" y="5"/>
                                          </a:lnTo>
                                          <a:lnTo>
                                            <a:pt x="424" y="17"/>
                                          </a:lnTo>
                                          <a:lnTo>
                                            <a:pt x="460" y="42"/>
                                          </a:lnTo>
                                          <a:lnTo>
                                            <a:pt x="487" y="77"/>
                                          </a:lnTo>
                                          <a:lnTo>
                                            <a:pt x="511" y="119"/>
                                          </a:lnTo>
                                          <a:lnTo>
                                            <a:pt x="536" y="158"/>
                                          </a:lnTo>
                                          <a:lnTo>
                                            <a:pt x="566" y="192"/>
                                          </a:lnTo>
                                          <a:lnTo>
                                            <a:pt x="592" y="219"/>
                                          </a:lnTo>
                                          <a:lnTo>
                                            <a:pt x="627" y="259"/>
                                          </a:lnTo>
                                          <a:lnTo>
                                            <a:pt x="641" y="297"/>
                                          </a:lnTo>
                                          <a:lnTo>
                                            <a:pt x="645" y="326"/>
                                          </a:lnTo>
                                          <a:lnTo>
                                            <a:pt x="641" y="342"/>
                                          </a:lnTo>
                                          <a:lnTo>
                                            <a:pt x="632" y="370"/>
                                          </a:lnTo>
                                          <a:lnTo>
                                            <a:pt x="617" y="396"/>
                                          </a:lnTo>
                                          <a:lnTo>
                                            <a:pt x="595" y="424"/>
                                          </a:lnTo>
                                          <a:lnTo>
                                            <a:pt x="569" y="461"/>
                                          </a:lnTo>
                                          <a:lnTo>
                                            <a:pt x="545" y="488"/>
                                          </a:lnTo>
                                          <a:lnTo>
                                            <a:pt x="559" y="462"/>
                                          </a:lnTo>
                                          <a:lnTo>
                                            <a:pt x="569" y="445"/>
                                          </a:lnTo>
                                          <a:lnTo>
                                            <a:pt x="582" y="424"/>
                                          </a:lnTo>
                                          <a:lnTo>
                                            <a:pt x="591" y="407"/>
                                          </a:lnTo>
                                          <a:lnTo>
                                            <a:pt x="604" y="381"/>
                                          </a:lnTo>
                                          <a:lnTo>
                                            <a:pt x="611" y="355"/>
                                          </a:lnTo>
                                          <a:lnTo>
                                            <a:pt x="618" y="327"/>
                                          </a:lnTo>
                                          <a:lnTo>
                                            <a:pt x="620" y="312"/>
                                          </a:lnTo>
                                          <a:lnTo>
                                            <a:pt x="616" y="297"/>
                                          </a:lnTo>
                                          <a:lnTo>
                                            <a:pt x="608" y="279"/>
                                          </a:lnTo>
                                          <a:lnTo>
                                            <a:pt x="602" y="263"/>
                                          </a:lnTo>
                                          <a:lnTo>
                                            <a:pt x="589" y="251"/>
                                          </a:lnTo>
                                          <a:lnTo>
                                            <a:pt x="574" y="238"/>
                                          </a:lnTo>
                                          <a:lnTo>
                                            <a:pt x="562" y="221"/>
                                          </a:lnTo>
                                          <a:lnTo>
                                            <a:pt x="546" y="203"/>
                                          </a:lnTo>
                                          <a:lnTo>
                                            <a:pt x="531" y="181"/>
                                          </a:lnTo>
                                          <a:lnTo>
                                            <a:pt x="515" y="159"/>
                                          </a:lnTo>
                                          <a:lnTo>
                                            <a:pt x="500" y="141"/>
                                          </a:lnTo>
                                          <a:lnTo>
                                            <a:pt x="488" y="120"/>
                                          </a:lnTo>
                                          <a:lnTo>
                                            <a:pt x="477" y="97"/>
                                          </a:lnTo>
                                          <a:lnTo>
                                            <a:pt x="468" y="81"/>
                                          </a:lnTo>
                                          <a:lnTo>
                                            <a:pt x="453" y="68"/>
                                          </a:lnTo>
                                          <a:lnTo>
                                            <a:pt x="437" y="55"/>
                                          </a:lnTo>
                                          <a:lnTo>
                                            <a:pt x="421" y="43"/>
                                          </a:lnTo>
                                          <a:lnTo>
                                            <a:pt x="403" y="35"/>
                                          </a:lnTo>
                                          <a:lnTo>
                                            <a:pt x="385" y="31"/>
                                          </a:lnTo>
                                          <a:lnTo>
                                            <a:pt x="355" y="29"/>
                                          </a:lnTo>
                                          <a:lnTo>
                                            <a:pt x="325" y="29"/>
                                          </a:lnTo>
                                          <a:lnTo>
                                            <a:pt x="302" y="30"/>
                                          </a:lnTo>
                                          <a:lnTo>
                                            <a:pt x="280" y="29"/>
                                          </a:lnTo>
                                          <a:lnTo>
                                            <a:pt x="259" y="31"/>
                                          </a:lnTo>
                                          <a:lnTo>
                                            <a:pt x="236" y="36"/>
                                          </a:lnTo>
                                          <a:lnTo>
                                            <a:pt x="215" y="41"/>
                                          </a:lnTo>
                                          <a:lnTo>
                                            <a:pt x="195" y="49"/>
                                          </a:lnTo>
                                          <a:lnTo>
                                            <a:pt x="176" y="60"/>
                                          </a:lnTo>
                                          <a:lnTo>
                                            <a:pt x="158" y="74"/>
                                          </a:lnTo>
                                          <a:lnTo>
                                            <a:pt x="138" y="87"/>
                                          </a:lnTo>
                                          <a:lnTo>
                                            <a:pt x="119" y="103"/>
                                          </a:lnTo>
                                          <a:lnTo>
                                            <a:pt x="99" y="124"/>
                                          </a:lnTo>
                                          <a:lnTo>
                                            <a:pt x="83" y="143"/>
                                          </a:lnTo>
                                          <a:lnTo>
                                            <a:pt x="72" y="160"/>
                                          </a:lnTo>
                                          <a:lnTo>
                                            <a:pt x="65" y="181"/>
                                          </a:lnTo>
                                          <a:lnTo>
                                            <a:pt x="56" y="202"/>
                                          </a:lnTo>
                                          <a:lnTo>
                                            <a:pt x="47" y="223"/>
                                          </a:lnTo>
                                          <a:lnTo>
                                            <a:pt x="37" y="247"/>
                                          </a:lnTo>
                                          <a:lnTo>
                                            <a:pt x="35" y="275"/>
                                          </a:lnTo>
                                          <a:lnTo>
                                            <a:pt x="32" y="300"/>
                                          </a:lnTo>
                                          <a:lnTo>
                                            <a:pt x="29" y="324"/>
                                          </a:lnTo>
                                          <a:lnTo>
                                            <a:pt x="29" y="340"/>
                                          </a:lnTo>
                                          <a:lnTo>
                                            <a:pt x="31" y="361"/>
                                          </a:lnTo>
                                          <a:lnTo>
                                            <a:pt x="36" y="384"/>
                                          </a:lnTo>
                                          <a:lnTo>
                                            <a:pt x="40" y="408"/>
                                          </a:lnTo>
                                          <a:lnTo>
                                            <a:pt x="51" y="436"/>
                                          </a:lnTo>
                                          <a:lnTo>
                                            <a:pt x="61" y="462"/>
                                          </a:lnTo>
                                          <a:lnTo>
                                            <a:pt x="68" y="477"/>
                                          </a:lnTo>
                                          <a:lnTo>
                                            <a:pt x="80" y="496"/>
                                          </a:lnTo>
                                          <a:lnTo>
                                            <a:pt x="95" y="519"/>
                                          </a:lnTo>
                                          <a:lnTo>
                                            <a:pt x="108" y="535"/>
                                          </a:lnTo>
                                          <a:lnTo>
                                            <a:pt x="120" y="551"/>
                                          </a:lnTo>
                                          <a:lnTo>
                                            <a:pt x="136" y="566"/>
                                          </a:lnTo>
                                          <a:lnTo>
                                            <a:pt x="155" y="581"/>
                                          </a:lnTo>
                                          <a:lnTo>
                                            <a:pt x="170" y="593"/>
                                          </a:lnTo>
                                          <a:lnTo>
                                            <a:pt x="183" y="600"/>
                                          </a:lnTo>
                                          <a:lnTo>
                                            <a:pt x="202" y="607"/>
                                          </a:lnTo>
                                          <a:lnTo>
                                            <a:pt x="218" y="611"/>
                                          </a:lnTo>
                                          <a:lnTo>
                                            <a:pt x="235" y="614"/>
                                          </a:lnTo>
                                          <a:lnTo>
                                            <a:pt x="253" y="615"/>
                                          </a:lnTo>
                                          <a:lnTo>
                                            <a:pt x="282" y="612"/>
                                          </a:lnTo>
                                          <a:lnTo>
                                            <a:pt x="248" y="622"/>
                                          </a:lnTo>
                                          <a:lnTo>
                                            <a:pt x="221" y="627"/>
                                          </a:lnTo>
                                          <a:lnTo>
                                            <a:pt x="195" y="623"/>
                                          </a:lnTo>
                                          <a:lnTo>
                                            <a:pt x="169" y="615"/>
                                          </a:lnTo>
                                          <a:lnTo>
                                            <a:pt x="142" y="601"/>
                                          </a:lnTo>
                                          <a:lnTo>
                                            <a:pt x="122" y="583"/>
                                          </a:lnTo>
                                          <a:lnTo>
                                            <a:pt x="100" y="560"/>
                                          </a:lnTo>
                                          <a:lnTo>
                                            <a:pt x="72" y="524"/>
                                          </a:lnTo>
                                          <a:lnTo>
                                            <a:pt x="41" y="476"/>
                                          </a:lnTo>
                                          <a:lnTo>
                                            <a:pt x="18" y="431"/>
                                          </a:lnTo>
                                          <a:lnTo>
                                            <a:pt x="3" y="387"/>
                                          </a:lnTo>
                                          <a:lnTo>
                                            <a:pt x="0" y="356"/>
                                          </a:lnTo>
                                          <a:lnTo>
                                            <a:pt x="4" y="327"/>
                                          </a:lnTo>
                                          <a:lnTo>
                                            <a:pt x="13" y="269"/>
                                          </a:lnTo>
                                          <a:lnTo>
                                            <a:pt x="23" y="204"/>
                                          </a:lnTo>
                                          <a:lnTo>
                                            <a:pt x="44" y="153"/>
                                          </a:lnTo>
                                          <a:lnTo>
                                            <a:pt x="69" y="116"/>
                                          </a:lnTo>
                                          <a:lnTo>
                                            <a:pt x="95" y="86"/>
                                          </a:lnTo>
                                          <a:close/>
                                        </a:path>
                                      </a:pathLst>
                                    </a:custGeom>
                                    <a:solidFill>
                                      <a:srgbClr val="ff404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46800" bIns="4680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000000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sp>
                              <p:nvSpPr>
                                <p:cNvPr id="6830" name=""/>
                                <p:cNvSpPr/>
                                <p:nvPr/>
                              </p:nvSpPr>
                              <p:spPr>
                                <a:xfrm>
                                  <a:off x="2075400" y="2313720"/>
                                  <a:ext cx="111240" cy="12456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447" h="407">
                                      <a:moveTo>
                                        <a:pt x="48" y="55"/>
                                      </a:moveTo>
                                      <a:lnTo>
                                        <a:pt x="71" y="35"/>
                                      </a:lnTo>
                                      <a:lnTo>
                                        <a:pt x="95" y="18"/>
                                      </a:lnTo>
                                      <a:lnTo>
                                        <a:pt x="111" y="7"/>
                                      </a:lnTo>
                                      <a:lnTo>
                                        <a:pt x="124" y="2"/>
                                      </a:lnTo>
                                      <a:lnTo>
                                        <a:pt x="139" y="0"/>
                                      </a:lnTo>
                                      <a:lnTo>
                                        <a:pt x="154" y="1"/>
                                      </a:lnTo>
                                      <a:lnTo>
                                        <a:pt x="171" y="8"/>
                                      </a:lnTo>
                                      <a:lnTo>
                                        <a:pt x="195" y="24"/>
                                      </a:lnTo>
                                      <a:lnTo>
                                        <a:pt x="218" y="43"/>
                                      </a:lnTo>
                                      <a:lnTo>
                                        <a:pt x="239" y="69"/>
                                      </a:lnTo>
                                      <a:lnTo>
                                        <a:pt x="256" y="96"/>
                                      </a:lnTo>
                                      <a:lnTo>
                                        <a:pt x="278" y="134"/>
                                      </a:lnTo>
                                      <a:lnTo>
                                        <a:pt x="301" y="174"/>
                                      </a:lnTo>
                                      <a:lnTo>
                                        <a:pt x="321" y="207"/>
                                      </a:lnTo>
                                      <a:lnTo>
                                        <a:pt x="341" y="240"/>
                                      </a:lnTo>
                                      <a:lnTo>
                                        <a:pt x="361" y="265"/>
                                      </a:lnTo>
                                      <a:lnTo>
                                        <a:pt x="381" y="290"/>
                                      </a:lnTo>
                                      <a:lnTo>
                                        <a:pt x="410" y="313"/>
                                      </a:lnTo>
                                      <a:lnTo>
                                        <a:pt x="432" y="338"/>
                                      </a:lnTo>
                                      <a:lnTo>
                                        <a:pt x="444" y="357"/>
                                      </a:lnTo>
                                      <a:lnTo>
                                        <a:pt x="447" y="375"/>
                                      </a:lnTo>
                                      <a:lnTo>
                                        <a:pt x="442" y="389"/>
                                      </a:lnTo>
                                      <a:lnTo>
                                        <a:pt x="433" y="399"/>
                                      </a:lnTo>
                                      <a:lnTo>
                                        <a:pt x="416" y="405"/>
                                      </a:lnTo>
                                      <a:lnTo>
                                        <a:pt x="394" y="407"/>
                                      </a:lnTo>
                                      <a:lnTo>
                                        <a:pt x="374" y="405"/>
                                      </a:lnTo>
                                      <a:lnTo>
                                        <a:pt x="338" y="397"/>
                                      </a:lnTo>
                                      <a:lnTo>
                                        <a:pt x="315" y="390"/>
                                      </a:lnTo>
                                      <a:lnTo>
                                        <a:pt x="287" y="379"/>
                                      </a:lnTo>
                                      <a:lnTo>
                                        <a:pt x="261" y="365"/>
                                      </a:lnTo>
                                      <a:lnTo>
                                        <a:pt x="235" y="350"/>
                                      </a:lnTo>
                                      <a:lnTo>
                                        <a:pt x="203" y="332"/>
                                      </a:lnTo>
                                      <a:lnTo>
                                        <a:pt x="162" y="309"/>
                                      </a:lnTo>
                                      <a:lnTo>
                                        <a:pt x="124" y="288"/>
                                      </a:lnTo>
                                      <a:lnTo>
                                        <a:pt x="94" y="269"/>
                                      </a:lnTo>
                                      <a:lnTo>
                                        <a:pt x="64" y="248"/>
                                      </a:lnTo>
                                      <a:lnTo>
                                        <a:pt x="38" y="227"/>
                                      </a:lnTo>
                                      <a:lnTo>
                                        <a:pt x="21" y="204"/>
                                      </a:lnTo>
                                      <a:lnTo>
                                        <a:pt x="9" y="183"/>
                                      </a:lnTo>
                                      <a:lnTo>
                                        <a:pt x="3" y="161"/>
                                      </a:lnTo>
                                      <a:lnTo>
                                        <a:pt x="0" y="141"/>
                                      </a:lnTo>
                                      <a:lnTo>
                                        <a:pt x="3" y="125"/>
                                      </a:lnTo>
                                      <a:lnTo>
                                        <a:pt x="8" y="108"/>
                                      </a:lnTo>
                                      <a:lnTo>
                                        <a:pt x="18" y="90"/>
                                      </a:lnTo>
                                      <a:lnTo>
                                        <a:pt x="31" y="73"/>
                                      </a:lnTo>
                                      <a:lnTo>
                                        <a:pt x="48" y="55"/>
                                      </a:lnTo>
                                      <a:close/>
                                    </a:path>
                                  </a:pathLst>
                                </a:custGeom>
                                <a:solidFill>
                                  <a:srgbClr val="ff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grpSp>
                            <p:nvGrpSpPr>
                              <p:cNvPr id="6831" name=""/>
                              <p:cNvGrpSpPr/>
                              <p:nvPr/>
                            </p:nvGrpSpPr>
                            <p:grpSpPr>
                              <a:xfrm>
                                <a:off x="1962720" y="2154960"/>
                                <a:ext cx="132120" cy="161640"/>
                                <a:chOff x="1962720" y="2154960"/>
                                <a:chExt cx="132120" cy="161640"/>
                              </a:xfrm>
                            </p:grpSpPr>
                            <p:sp>
                              <p:nvSpPr>
                                <p:cNvPr id="6832" name=""/>
                                <p:cNvSpPr/>
                                <p:nvPr/>
                              </p:nvSpPr>
                              <p:spPr>
                                <a:xfrm>
                                  <a:off x="1962720" y="2154960"/>
                                  <a:ext cx="132120" cy="16164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535" h="522">
                                      <a:moveTo>
                                        <a:pt x="79" y="71"/>
                                      </a:moveTo>
                                      <a:lnTo>
                                        <a:pt x="106" y="50"/>
                                      </a:lnTo>
                                      <a:lnTo>
                                        <a:pt x="131" y="31"/>
                                      </a:lnTo>
                                      <a:lnTo>
                                        <a:pt x="160" y="16"/>
                                      </a:lnTo>
                                      <a:lnTo>
                                        <a:pt x="194" y="6"/>
                                      </a:lnTo>
                                      <a:lnTo>
                                        <a:pt x="222" y="1"/>
                                      </a:lnTo>
                                      <a:lnTo>
                                        <a:pt x="257" y="0"/>
                                      </a:lnTo>
                                      <a:lnTo>
                                        <a:pt x="305" y="5"/>
                                      </a:lnTo>
                                      <a:lnTo>
                                        <a:pt x="352" y="15"/>
                                      </a:lnTo>
                                      <a:lnTo>
                                        <a:pt x="383" y="34"/>
                                      </a:lnTo>
                                      <a:lnTo>
                                        <a:pt x="404" y="63"/>
                                      </a:lnTo>
                                      <a:lnTo>
                                        <a:pt x="424" y="99"/>
                                      </a:lnTo>
                                      <a:lnTo>
                                        <a:pt x="445" y="132"/>
                                      </a:lnTo>
                                      <a:lnTo>
                                        <a:pt x="470" y="159"/>
                                      </a:lnTo>
                                      <a:lnTo>
                                        <a:pt x="493" y="183"/>
                                      </a:lnTo>
                                      <a:lnTo>
                                        <a:pt x="522" y="217"/>
                                      </a:lnTo>
                                      <a:lnTo>
                                        <a:pt x="533" y="249"/>
                                      </a:lnTo>
                                      <a:lnTo>
                                        <a:pt x="535" y="272"/>
                                      </a:lnTo>
                                      <a:lnTo>
                                        <a:pt x="533" y="286"/>
                                      </a:lnTo>
                                      <a:lnTo>
                                        <a:pt x="526" y="309"/>
                                      </a:lnTo>
                                      <a:lnTo>
                                        <a:pt x="514" y="331"/>
                                      </a:lnTo>
                                      <a:lnTo>
                                        <a:pt x="495" y="354"/>
                                      </a:lnTo>
                                      <a:lnTo>
                                        <a:pt x="473" y="385"/>
                                      </a:lnTo>
                                      <a:lnTo>
                                        <a:pt x="453" y="408"/>
                                      </a:lnTo>
                                      <a:lnTo>
                                        <a:pt x="437" y="433"/>
                                      </a:lnTo>
                                      <a:lnTo>
                                        <a:pt x="430" y="449"/>
                                      </a:lnTo>
                                      <a:lnTo>
                                        <a:pt x="429" y="458"/>
                                      </a:lnTo>
                                      <a:lnTo>
                                        <a:pt x="434" y="465"/>
                                      </a:lnTo>
                                      <a:lnTo>
                                        <a:pt x="442" y="469"/>
                                      </a:lnTo>
                                      <a:lnTo>
                                        <a:pt x="404" y="513"/>
                                      </a:lnTo>
                                      <a:lnTo>
                                        <a:pt x="400" y="505"/>
                                      </a:lnTo>
                                      <a:lnTo>
                                        <a:pt x="378" y="494"/>
                                      </a:lnTo>
                                      <a:lnTo>
                                        <a:pt x="353" y="488"/>
                                      </a:lnTo>
                                      <a:lnTo>
                                        <a:pt x="329" y="486"/>
                                      </a:lnTo>
                                      <a:lnTo>
                                        <a:pt x="303" y="491"/>
                                      </a:lnTo>
                                      <a:lnTo>
                                        <a:pt x="272" y="499"/>
                                      </a:lnTo>
                                      <a:lnTo>
                                        <a:pt x="235" y="511"/>
                                      </a:lnTo>
                                      <a:lnTo>
                                        <a:pt x="206" y="519"/>
                                      </a:lnTo>
                                      <a:lnTo>
                                        <a:pt x="183" y="522"/>
                                      </a:lnTo>
                                      <a:lnTo>
                                        <a:pt x="162" y="520"/>
                                      </a:lnTo>
                                      <a:lnTo>
                                        <a:pt x="141" y="513"/>
                                      </a:lnTo>
                                      <a:lnTo>
                                        <a:pt x="118" y="502"/>
                                      </a:lnTo>
                                      <a:lnTo>
                                        <a:pt x="102" y="487"/>
                                      </a:lnTo>
                                      <a:lnTo>
                                        <a:pt x="83" y="467"/>
                                      </a:lnTo>
                                      <a:lnTo>
                                        <a:pt x="60" y="437"/>
                                      </a:lnTo>
                                      <a:lnTo>
                                        <a:pt x="34" y="397"/>
                                      </a:lnTo>
                                      <a:lnTo>
                                        <a:pt x="15" y="359"/>
                                      </a:lnTo>
                                      <a:lnTo>
                                        <a:pt x="2" y="322"/>
                                      </a:lnTo>
                                      <a:lnTo>
                                        <a:pt x="0" y="297"/>
                                      </a:lnTo>
                                      <a:lnTo>
                                        <a:pt x="3" y="273"/>
                                      </a:lnTo>
                                      <a:lnTo>
                                        <a:pt x="11" y="224"/>
                                      </a:lnTo>
                                      <a:lnTo>
                                        <a:pt x="19" y="170"/>
                                      </a:lnTo>
                                      <a:lnTo>
                                        <a:pt x="36" y="128"/>
                                      </a:lnTo>
                                      <a:lnTo>
                                        <a:pt x="57" y="97"/>
                                      </a:lnTo>
                                      <a:lnTo>
                                        <a:pt x="79" y="71"/>
                                      </a:lnTo>
                                      <a:close/>
                                    </a:path>
                                  </a:pathLst>
                                </a:custGeom>
                                <a:solidFill>
                                  <a:srgbClr val="ff404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6833" name=""/>
                                <p:cNvSpPr/>
                                <p:nvPr/>
                              </p:nvSpPr>
                              <p:spPr>
                                <a:xfrm>
                                  <a:off x="1970280" y="2165760"/>
                                  <a:ext cx="114480" cy="14112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466" h="457">
                                      <a:moveTo>
                                        <a:pt x="69" y="63"/>
                                      </a:moveTo>
                                      <a:lnTo>
                                        <a:pt x="91" y="43"/>
                                      </a:lnTo>
                                      <a:lnTo>
                                        <a:pt x="114" y="27"/>
                                      </a:lnTo>
                                      <a:lnTo>
                                        <a:pt x="139" y="14"/>
                                      </a:lnTo>
                                      <a:lnTo>
                                        <a:pt x="168" y="4"/>
                                      </a:lnTo>
                                      <a:lnTo>
                                        <a:pt x="192" y="0"/>
                                      </a:lnTo>
                                      <a:lnTo>
                                        <a:pt x="223" y="0"/>
                                      </a:lnTo>
                                      <a:lnTo>
                                        <a:pt x="265" y="3"/>
                                      </a:lnTo>
                                      <a:lnTo>
                                        <a:pt x="306" y="13"/>
                                      </a:lnTo>
                                      <a:lnTo>
                                        <a:pt x="334" y="30"/>
                                      </a:lnTo>
                                      <a:lnTo>
                                        <a:pt x="352" y="56"/>
                                      </a:lnTo>
                                      <a:lnTo>
                                        <a:pt x="368" y="86"/>
                                      </a:lnTo>
                                      <a:lnTo>
                                        <a:pt x="388" y="115"/>
                                      </a:lnTo>
                                      <a:lnTo>
                                        <a:pt x="409" y="140"/>
                                      </a:lnTo>
                                      <a:lnTo>
                                        <a:pt x="430" y="160"/>
                                      </a:lnTo>
                                      <a:lnTo>
                                        <a:pt x="454" y="190"/>
                                      </a:lnTo>
                                      <a:lnTo>
                                        <a:pt x="465" y="218"/>
                                      </a:lnTo>
                                      <a:lnTo>
                                        <a:pt x="466" y="238"/>
                                      </a:lnTo>
                                      <a:lnTo>
                                        <a:pt x="465" y="251"/>
                                      </a:lnTo>
                                      <a:lnTo>
                                        <a:pt x="458" y="271"/>
                                      </a:lnTo>
                                      <a:lnTo>
                                        <a:pt x="447" y="290"/>
                                      </a:lnTo>
                                      <a:lnTo>
                                        <a:pt x="432" y="311"/>
                                      </a:lnTo>
                                      <a:lnTo>
                                        <a:pt x="411" y="337"/>
                                      </a:lnTo>
                                      <a:lnTo>
                                        <a:pt x="395" y="356"/>
                                      </a:lnTo>
                                      <a:lnTo>
                                        <a:pt x="381" y="379"/>
                                      </a:lnTo>
                                      <a:lnTo>
                                        <a:pt x="374" y="392"/>
                                      </a:lnTo>
                                      <a:lnTo>
                                        <a:pt x="373" y="400"/>
                                      </a:lnTo>
                                      <a:lnTo>
                                        <a:pt x="377" y="406"/>
                                      </a:lnTo>
                                      <a:lnTo>
                                        <a:pt x="385" y="411"/>
                                      </a:lnTo>
                                      <a:lnTo>
                                        <a:pt x="352" y="450"/>
                                      </a:lnTo>
                                      <a:lnTo>
                                        <a:pt x="348" y="442"/>
                                      </a:lnTo>
                                      <a:lnTo>
                                        <a:pt x="328" y="432"/>
                                      </a:lnTo>
                                      <a:lnTo>
                                        <a:pt x="307" y="427"/>
                                      </a:lnTo>
                                      <a:lnTo>
                                        <a:pt x="285" y="425"/>
                                      </a:lnTo>
                                      <a:lnTo>
                                        <a:pt x="264" y="429"/>
                                      </a:lnTo>
                                      <a:lnTo>
                                        <a:pt x="236" y="436"/>
                                      </a:lnTo>
                                      <a:lnTo>
                                        <a:pt x="204" y="447"/>
                                      </a:lnTo>
                                      <a:lnTo>
                                        <a:pt x="179" y="455"/>
                                      </a:lnTo>
                                      <a:lnTo>
                                        <a:pt x="160" y="457"/>
                                      </a:lnTo>
                                      <a:lnTo>
                                        <a:pt x="140" y="456"/>
                                      </a:lnTo>
                                      <a:lnTo>
                                        <a:pt x="122" y="450"/>
                                      </a:lnTo>
                                      <a:lnTo>
                                        <a:pt x="102" y="439"/>
                                      </a:lnTo>
                                      <a:lnTo>
                                        <a:pt x="88" y="426"/>
                                      </a:lnTo>
                                      <a:lnTo>
                                        <a:pt x="72" y="409"/>
                                      </a:lnTo>
                                      <a:lnTo>
                                        <a:pt x="51" y="383"/>
                                      </a:lnTo>
                                      <a:lnTo>
                                        <a:pt x="29" y="348"/>
                                      </a:lnTo>
                                      <a:lnTo>
                                        <a:pt x="12" y="314"/>
                                      </a:lnTo>
                                      <a:lnTo>
                                        <a:pt x="1" y="282"/>
                                      </a:lnTo>
                                      <a:lnTo>
                                        <a:pt x="0" y="260"/>
                                      </a:lnTo>
                                      <a:lnTo>
                                        <a:pt x="2" y="239"/>
                                      </a:lnTo>
                                      <a:lnTo>
                                        <a:pt x="8" y="196"/>
                                      </a:lnTo>
                                      <a:lnTo>
                                        <a:pt x="15" y="149"/>
                                      </a:lnTo>
                                      <a:lnTo>
                                        <a:pt x="31" y="112"/>
                                      </a:lnTo>
                                      <a:lnTo>
                                        <a:pt x="49" y="85"/>
                                      </a:lnTo>
                                      <a:lnTo>
                                        <a:pt x="69" y="63"/>
                                      </a:lnTo>
                                      <a:close/>
                                    </a:path>
                                  </a:pathLst>
                                </a:custGeom>
                                <a:solidFill>
                                  <a:srgbClr val="ff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6834" name=""/>
                                <p:cNvSpPr/>
                                <p:nvPr/>
                              </p:nvSpPr>
                              <p:spPr>
                                <a:xfrm>
                                  <a:off x="1978920" y="2179080"/>
                                  <a:ext cx="96120" cy="11844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390" h="383">
                                      <a:moveTo>
                                        <a:pt x="57" y="53"/>
                                      </a:moveTo>
                                      <a:lnTo>
                                        <a:pt x="76" y="36"/>
                                      </a:lnTo>
                                      <a:lnTo>
                                        <a:pt x="95" y="22"/>
                                      </a:lnTo>
                                      <a:lnTo>
                                        <a:pt x="115" y="11"/>
                                      </a:lnTo>
                                      <a:lnTo>
                                        <a:pt x="140" y="3"/>
                                      </a:lnTo>
                                      <a:lnTo>
                                        <a:pt x="160" y="0"/>
                                      </a:lnTo>
                                      <a:lnTo>
                                        <a:pt x="186" y="0"/>
                                      </a:lnTo>
                                      <a:lnTo>
                                        <a:pt x="221" y="2"/>
                                      </a:lnTo>
                                      <a:lnTo>
                                        <a:pt x="256" y="11"/>
                                      </a:lnTo>
                                      <a:lnTo>
                                        <a:pt x="279" y="25"/>
                                      </a:lnTo>
                                      <a:lnTo>
                                        <a:pt x="293" y="47"/>
                                      </a:lnTo>
                                      <a:lnTo>
                                        <a:pt x="308" y="72"/>
                                      </a:lnTo>
                                      <a:lnTo>
                                        <a:pt x="324" y="97"/>
                                      </a:lnTo>
                                      <a:lnTo>
                                        <a:pt x="342" y="117"/>
                                      </a:lnTo>
                                      <a:lnTo>
                                        <a:pt x="359" y="135"/>
                                      </a:lnTo>
                                      <a:lnTo>
                                        <a:pt x="379" y="159"/>
                                      </a:lnTo>
                                      <a:lnTo>
                                        <a:pt x="390" y="183"/>
                                      </a:lnTo>
                                      <a:lnTo>
                                        <a:pt x="390" y="200"/>
                                      </a:lnTo>
                                      <a:lnTo>
                                        <a:pt x="390" y="211"/>
                                      </a:lnTo>
                                      <a:lnTo>
                                        <a:pt x="383" y="227"/>
                                      </a:lnTo>
                                      <a:lnTo>
                                        <a:pt x="373" y="243"/>
                                      </a:lnTo>
                                      <a:lnTo>
                                        <a:pt x="361" y="261"/>
                                      </a:lnTo>
                                      <a:lnTo>
                                        <a:pt x="344" y="282"/>
                                      </a:lnTo>
                                      <a:lnTo>
                                        <a:pt x="330" y="299"/>
                                      </a:lnTo>
                                      <a:lnTo>
                                        <a:pt x="318" y="317"/>
                                      </a:lnTo>
                                      <a:lnTo>
                                        <a:pt x="313" y="329"/>
                                      </a:lnTo>
                                      <a:lnTo>
                                        <a:pt x="312" y="336"/>
                                      </a:lnTo>
                                      <a:lnTo>
                                        <a:pt x="315" y="341"/>
                                      </a:lnTo>
                                      <a:lnTo>
                                        <a:pt x="321" y="345"/>
                                      </a:lnTo>
                                      <a:lnTo>
                                        <a:pt x="293" y="378"/>
                                      </a:lnTo>
                                      <a:lnTo>
                                        <a:pt x="290" y="372"/>
                                      </a:lnTo>
                                      <a:lnTo>
                                        <a:pt x="274" y="362"/>
                                      </a:lnTo>
                                      <a:lnTo>
                                        <a:pt x="257" y="358"/>
                                      </a:lnTo>
                                      <a:lnTo>
                                        <a:pt x="238" y="356"/>
                                      </a:lnTo>
                                      <a:lnTo>
                                        <a:pt x="221" y="360"/>
                                      </a:lnTo>
                                      <a:lnTo>
                                        <a:pt x="197" y="367"/>
                                      </a:lnTo>
                                      <a:lnTo>
                                        <a:pt x="170" y="376"/>
                                      </a:lnTo>
                                      <a:lnTo>
                                        <a:pt x="149" y="382"/>
                                      </a:lnTo>
                                      <a:lnTo>
                                        <a:pt x="133" y="383"/>
                                      </a:lnTo>
                                      <a:lnTo>
                                        <a:pt x="117" y="383"/>
                                      </a:lnTo>
                                      <a:lnTo>
                                        <a:pt x="101" y="378"/>
                                      </a:lnTo>
                                      <a:lnTo>
                                        <a:pt x="85" y="369"/>
                                      </a:lnTo>
                                      <a:lnTo>
                                        <a:pt x="74" y="357"/>
                                      </a:lnTo>
                                      <a:lnTo>
                                        <a:pt x="59" y="343"/>
                                      </a:lnTo>
                                      <a:lnTo>
                                        <a:pt x="42" y="321"/>
                                      </a:lnTo>
                                      <a:lnTo>
                                        <a:pt x="23" y="292"/>
                                      </a:lnTo>
                                      <a:lnTo>
                                        <a:pt x="10" y="265"/>
                                      </a:lnTo>
                                      <a:lnTo>
                                        <a:pt x="0" y="237"/>
                                      </a:lnTo>
                                      <a:lnTo>
                                        <a:pt x="0" y="218"/>
                                      </a:lnTo>
                                      <a:lnTo>
                                        <a:pt x="1" y="200"/>
                                      </a:lnTo>
                                      <a:lnTo>
                                        <a:pt x="6" y="164"/>
                                      </a:lnTo>
                                      <a:lnTo>
                                        <a:pt x="12" y="124"/>
                                      </a:lnTo>
                                      <a:lnTo>
                                        <a:pt x="25" y="94"/>
                                      </a:lnTo>
                                      <a:lnTo>
                                        <a:pt x="41" y="71"/>
                                      </a:lnTo>
                                      <a:lnTo>
                                        <a:pt x="57" y="53"/>
                                      </a:lnTo>
                                      <a:close/>
                                    </a:path>
                                  </a:pathLst>
                                </a:custGeom>
                                <a:solidFill>
                                  <a:srgbClr val="e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6835" name=""/>
                                <p:cNvSpPr/>
                                <p:nvPr/>
                              </p:nvSpPr>
                              <p:spPr>
                                <a:xfrm>
                                  <a:off x="1985040" y="2189880"/>
                                  <a:ext cx="87480" cy="10908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357" h="351">
                                      <a:moveTo>
                                        <a:pt x="53" y="47"/>
                                      </a:moveTo>
                                      <a:lnTo>
                                        <a:pt x="70" y="33"/>
                                      </a:lnTo>
                                      <a:lnTo>
                                        <a:pt x="87" y="20"/>
                                      </a:lnTo>
                                      <a:lnTo>
                                        <a:pt x="106" y="10"/>
                                      </a:lnTo>
                                      <a:lnTo>
                                        <a:pt x="128" y="2"/>
                                      </a:lnTo>
                                      <a:lnTo>
                                        <a:pt x="148" y="0"/>
                                      </a:lnTo>
                                      <a:lnTo>
                                        <a:pt x="171" y="0"/>
                                      </a:lnTo>
                                      <a:lnTo>
                                        <a:pt x="203" y="1"/>
                                      </a:lnTo>
                                      <a:lnTo>
                                        <a:pt x="235" y="10"/>
                                      </a:lnTo>
                                      <a:lnTo>
                                        <a:pt x="256" y="23"/>
                                      </a:lnTo>
                                      <a:lnTo>
                                        <a:pt x="269" y="42"/>
                                      </a:lnTo>
                                      <a:lnTo>
                                        <a:pt x="283" y="66"/>
                                      </a:lnTo>
                                      <a:lnTo>
                                        <a:pt x="298" y="89"/>
                                      </a:lnTo>
                                      <a:lnTo>
                                        <a:pt x="313" y="107"/>
                                      </a:lnTo>
                                      <a:lnTo>
                                        <a:pt x="330" y="123"/>
                                      </a:lnTo>
                                      <a:lnTo>
                                        <a:pt x="348" y="146"/>
                                      </a:lnTo>
                                      <a:lnTo>
                                        <a:pt x="357" y="167"/>
                                      </a:lnTo>
                                      <a:lnTo>
                                        <a:pt x="357" y="184"/>
                                      </a:lnTo>
                                      <a:lnTo>
                                        <a:pt x="357" y="193"/>
                                      </a:lnTo>
                                      <a:lnTo>
                                        <a:pt x="352" y="209"/>
                                      </a:lnTo>
                                      <a:lnTo>
                                        <a:pt x="343" y="224"/>
                                      </a:lnTo>
                                      <a:lnTo>
                                        <a:pt x="332" y="238"/>
                                      </a:lnTo>
                                      <a:lnTo>
                                        <a:pt x="315" y="259"/>
                                      </a:lnTo>
                                      <a:lnTo>
                                        <a:pt x="303" y="274"/>
                                      </a:lnTo>
                                      <a:lnTo>
                                        <a:pt x="292" y="292"/>
                                      </a:lnTo>
                                      <a:lnTo>
                                        <a:pt x="288" y="302"/>
                                      </a:lnTo>
                                      <a:lnTo>
                                        <a:pt x="287" y="308"/>
                                      </a:lnTo>
                                      <a:lnTo>
                                        <a:pt x="289" y="313"/>
                                      </a:lnTo>
                                      <a:lnTo>
                                        <a:pt x="295" y="316"/>
                                      </a:lnTo>
                                      <a:lnTo>
                                        <a:pt x="269" y="347"/>
                                      </a:lnTo>
                                      <a:lnTo>
                                        <a:pt x="266" y="341"/>
                                      </a:lnTo>
                                      <a:lnTo>
                                        <a:pt x="252" y="333"/>
                                      </a:lnTo>
                                      <a:lnTo>
                                        <a:pt x="236" y="329"/>
                                      </a:lnTo>
                                      <a:lnTo>
                                        <a:pt x="219" y="327"/>
                                      </a:lnTo>
                                      <a:lnTo>
                                        <a:pt x="203" y="331"/>
                                      </a:lnTo>
                                      <a:lnTo>
                                        <a:pt x="181" y="337"/>
                                      </a:lnTo>
                                      <a:lnTo>
                                        <a:pt x="156" y="345"/>
                                      </a:lnTo>
                                      <a:lnTo>
                                        <a:pt x="136" y="351"/>
                                      </a:lnTo>
                                      <a:lnTo>
                                        <a:pt x="122" y="351"/>
                                      </a:lnTo>
                                      <a:lnTo>
                                        <a:pt x="107" y="351"/>
                                      </a:lnTo>
                                      <a:lnTo>
                                        <a:pt x="93" y="347"/>
                                      </a:lnTo>
                                      <a:lnTo>
                                        <a:pt x="78" y="339"/>
                                      </a:lnTo>
                                      <a:lnTo>
                                        <a:pt x="68" y="327"/>
                                      </a:lnTo>
                                      <a:lnTo>
                                        <a:pt x="55" y="315"/>
                                      </a:lnTo>
                                      <a:lnTo>
                                        <a:pt x="38" y="295"/>
                                      </a:lnTo>
                                      <a:lnTo>
                                        <a:pt x="22" y="268"/>
                                      </a:lnTo>
                                      <a:lnTo>
                                        <a:pt x="10" y="242"/>
                                      </a:lnTo>
                                      <a:lnTo>
                                        <a:pt x="0" y="218"/>
                                      </a:lnTo>
                                      <a:lnTo>
                                        <a:pt x="0" y="200"/>
                                      </a:lnTo>
                                      <a:lnTo>
                                        <a:pt x="0" y="184"/>
                                      </a:lnTo>
                                      <a:lnTo>
                                        <a:pt x="6" y="151"/>
                                      </a:lnTo>
                                      <a:lnTo>
                                        <a:pt x="12" y="114"/>
                                      </a:lnTo>
                                      <a:lnTo>
                                        <a:pt x="23" y="85"/>
                                      </a:lnTo>
                                      <a:lnTo>
                                        <a:pt x="37" y="65"/>
                                      </a:lnTo>
                                      <a:lnTo>
                                        <a:pt x="53" y="47"/>
                                      </a:lnTo>
                                      <a:close/>
                                    </a:path>
                                  </a:pathLst>
                                </a:custGeom>
                                <a:solidFill>
                                  <a:srgbClr val="c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</p:grpSp>
                        <p:grpSp>
                          <p:nvGrpSpPr>
                            <p:cNvPr id="6836" name=""/>
                            <p:cNvGrpSpPr/>
                            <p:nvPr/>
                          </p:nvGrpSpPr>
                          <p:grpSpPr>
                            <a:xfrm>
                              <a:off x="1958040" y="2165760"/>
                              <a:ext cx="44280" cy="146160"/>
                              <a:chOff x="1958040" y="2165760"/>
                              <a:chExt cx="44280" cy="146160"/>
                            </a:xfrm>
                          </p:grpSpPr>
                          <p:grpSp>
                            <p:nvGrpSpPr>
                              <p:cNvPr id="6837" name=""/>
                              <p:cNvGrpSpPr/>
                              <p:nvPr/>
                            </p:nvGrpSpPr>
                            <p:grpSpPr>
                              <a:xfrm>
                                <a:off x="1967760" y="2165760"/>
                                <a:ext cx="24480" cy="35280"/>
                                <a:chOff x="1967760" y="2165760"/>
                                <a:chExt cx="24480" cy="35280"/>
                              </a:xfrm>
                            </p:grpSpPr>
                            <p:sp>
                              <p:nvSpPr>
                                <p:cNvPr id="6838" name=""/>
                                <p:cNvSpPr/>
                                <p:nvPr/>
                              </p:nvSpPr>
                              <p:spPr>
                                <a:xfrm>
                                  <a:off x="1967760" y="2165760"/>
                                  <a:ext cx="24480" cy="3528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101" h="112">
                                      <a:moveTo>
                                        <a:pt x="16" y="35"/>
                                      </a:moveTo>
                                      <a:lnTo>
                                        <a:pt x="26" y="24"/>
                                      </a:lnTo>
                                      <a:lnTo>
                                        <a:pt x="37" y="16"/>
                                      </a:lnTo>
                                      <a:lnTo>
                                        <a:pt x="49" y="9"/>
                                      </a:lnTo>
                                      <a:lnTo>
                                        <a:pt x="64" y="2"/>
                                      </a:lnTo>
                                      <a:lnTo>
                                        <a:pt x="76" y="0"/>
                                      </a:lnTo>
                                      <a:lnTo>
                                        <a:pt x="86" y="3"/>
                                      </a:lnTo>
                                      <a:lnTo>
                                        <a:pt x="95" y="11"/>
                                      </a:lnTo>
                                      <a:lnTo>
                                        <a:pt x="99" y="22"/>
                                      </a:lnTo>
                                      <a:lnTo>
                                        <a:pt x="101" y="33"/>
                                      </a:lnTo>
                                      <a:lnTo>
                                        <a:pt x="98" y="49"/>
                                      </a:lnTo>
                                      <a:lnTo>
                                        <a:pt x="92" y="63"/>
                                      </a:lnTo>
                                      <a:lnTo>
                                        <a:pt x="84" y="75"/>
                                      </a:lnTo>
                                      <a:lnTo>
                                        <a:pt x="75" y="86"/>
                                      </a:lnTo>
                                      <a:lnTo>
                                        <a:pt x="63" y="97"/>
                                      </a:lnTo>
                                      <a:lnTo>
                                        <a:pt x="50" y="106"/>
                                      </a:lnTo>
                                      <a:lnTo>
                                        <a:pt x="37" y="111"/>
                                      </a:lnTo>
                                      <a:lnTo>
                                        <a:pt x="24" y="112"/>
                                      </a:lnTo>
                                      <a:lnTo>
                                        <a:pt x="13" y="108"/>
                                      </a:lnTo>
                                      <a:lnTo>
                                        <a:pt x="6" y="99"/>
                                      </a:lnTo>
                                      <a:lnTo>
                                        <a:pt x="1" y="89"/>
                                      </a:lnTo>
                                      <a:lnTo>
                                        <a:pt x="0" y="75"/>
                                      </a:lnTo>
                                      <a:lnTo>
                                        <a:pt x="3" y="61"/>
                                      </a:lnTo>
                                      <a:lnTo>
                                        <a:pt x="7" y="50"/>
                                      </a:lnTo>
                                      <a:lnTo>
                                        <a:pt x="16" y="35"/>
                                      </a:lnTo>
                                      <a:close/>
                                    </a:path>
                                  </a:pathLst>
                                </a:custGeom>
                                <a:solidFill>
                                  <a:srgbClr val="8080ff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11520" bIns="-1152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6839" name=""/>
                                <p:cNvSpPr/>
                                <p:nvPr/>
                              </p:nvSpPr>
                              <p:spPr>
                                <a:xfrm>
                                  <a:off x="1973880" y="2173320"/>
                                  <a:ext cx="12240" cy="1836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54" h="61">
                                      <a:moveTo>
                                        <a:pt x="9" y="18"/>
                                      </a:moveTo>
                                      <a:lnTo>
                                        <a:pt x="14" y="13"/>
                                      </a:lnTo>
                                      <a:lnTo>
                                        <a:pt x="20" y="7"/>
                                      </a:lnTo>
                                      <a:lnTo>
                                        <a:pt x="26" y="4"/>
                                      </a:lnTo>
                                      <a:lnTo>
                                        <a:pt x="34" y="1"/>
                                      </a:lnTo>
                                      <a:lnTo>
                                        <a:pt x="40" y="0"/>
                                      </a:lnTo>
                                      <a:lnTo>
                                        <a:pt x="45" y="1"/>
                                      </a:lnTo>
                                      <a:lnTo>
                                        <a:pt x="51" y="5"/>
                                      </a:lnTo>
                                      <a:lnTo>
                                        <a:pt x="53" y="11"/>
                                      </a:lnTo>
                                      <a:lnTo>
                                        <a:pt x="54" y="17"/>
                                      </a:lnTo>
                                      <a:lnTo>
                                        <a:pt x="53" y="27"/>
                                      </a:lnTo>
                                      <a:lnTo>
                                        <a:pt x="50" y="35"/>
                                      </a:lnTo>
                                      <a:lnTo>
                                        <a:pt x="45" y="41"/>
                                      </a:lnTo>
                                      <a:lnTo>
                                        <a:pt x="40" y="47"/>
                                      </a:lnTo>
                                      <a:lnTo>
                                        <a:pt x="34" y="54"/>
                                      </a:lnTo>
                                      <a:lnTo>
                                        <a:pt x="27" y="58"/>
                                      </a:lnTo>
                                      <a:lnTo>
                                        <a:pt x="20" y="61"/>
                                      </a:lnTo>
                                      <a:lnTo>
                                        <a:pt x="14" y="61"/>
                                      </a:lnTo>
                                      <a:lnTo>
                                        <a:pt x="8" y="59"/>
                                      </a:lnTo>
                                      <a:lnTo>
                                        <a:pt x="3" y="54"/>
                                      </a:lnTo>
                                      <a:lnTo>
                                        <a:pt x="0" y="48"/>
                                      </a:lnTo>
                                      <a:lnTo>
                                        <a:pt x="0" y="41"/>
                                      </a:lnTo>
                                      <a:lnTo>
                                        <a:pt x="1" y="34"/>
                                      </a:lnTo>
                                      <a:lnTo>
                                        <a:pt x="3" y="27"/>
                                      </a:lnTo>
                                      <a:lnTo>
                                        <a:pt x="9" y="18"/>
                                      </a:lnTo>
                                      <a:close/>
                                    </a:path>
                                  </a:pathLst>
                                </a:custGeom>
                                <a:solidFill>
                                  <a:srgbClr val="60006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28440" bIns="-2844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sp>
                            <p:nvSpPr>
                              <p:cNvPr id="6840" name=""/>
                              <p:cNvSpPr/>
                              <p:nvPr/>
                            </p:nvSpPr>
                            <p:spPr>
                              <a:xfrm>
                                <a:off x="1958040" y="2236680"/>
                                <a:ext cx="25560" cy="338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01" h="111">
                                    <a:moveTo>
                                      <a:pt x="85" y="35"/>
                                    </a:moveTo>
                                    <a:lnTo>
                                      <a:pt x="75" y="24"/>
                                    </a:lnTo>
                                    <a:lnTo>
                                      <a:pt x="64" y="15"/>
                                    </a:lnTo>
                                    <a:lnTo>
                                      <a:pt x="52" y="8"/>
                                    </a:lnTo>
                                    <a:lnTo>
                                      <a:pt x="37" y="2"/>
                                    </a:lnTo>
                                    <a:lnTo>
                                      <a:pt x="26" y="0"/>
                                    </a:lnTo>
                                    <a:lnTo>
                                      <a:pt x="15" y="3"/>
                                    </a:lnTo>
                                    <a:lnTo>
                                      <a:pt x="6" y="10"/>
                                    </a:lnTo>
                                    <a:lnTo>
                                      <a:pt x="2" y="22"/>
                                    </a:lnTo>
                                    <a:lnTo>
                                      <a:pt x="0" y="33"/>
                                    </a:lnTo>
                                    <a:lnTo>
                                      <a:pt x="3" y="48"/>
                                    </a:lnTo>
                                    <a:lnTo>
                                      <a:pt x="9" y="63"/>
                                    </a:lnTo>
                                    <a:lnTo>
                                      <a:pt x="17" y="75"/>
                                    </a:lnTo>
                                    <a:lnTo>
                                      <a:pt x="27" y="85"/>
                                    </a:lnTo>
                                    <a:lnTo>
                                      <a:pt x="38" y="95"/>
                                    </a:lnTo>
                                    <a:lnTo>
                                      <a:pt x="51" y="105"/>
                                    </a:lnTo>
                                    <a:lnTo>
                                      <a:pt x="64" y="110"/>
                                    </a:lnTo>
                                    <a:lnTo>
                                      <a:pt x="77" y="111"/>
                                    </a:lnTo>
                                    <a:lnTo>
                                      <a:pt x="88" y="107"/>
                                    </a:lnTo>
                                    <a:lnTo>
                                      <a:pt x="95" y="97"/>
                                    </a:lnTo>
                                    <a:lnTo>
                                      <a:pt x="100" y="87"/>
                                    </a:lnTo>
                                    <a:lnTo>
                                      <a:pt x="101" y="75"/>
                                    </a:lnTo>
                                    <a:lnTo>
                                      <a:pt x="98" y="61"/>
                                    </a:lnTo>
                                    <a:lnTo>
                                      <a:pt x="94" y="49"/>
                                    </a:lnTo>
                                    <a:lnTo>
                                      <a:pt x="85" y="35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a000a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2960" bIns="-129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6841" name=""/>
                              <p:cNvSpPr/>
                              <p:nvPr/>
                            </p:nvSpPr>
                            <p:spPr>
                              <a:xfrm>
                                <a:off x="1980000" y="2276280"/>
                                <a:ext cx="22320" cy="35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91" h="114">
                                    <a:moveTo>
                                      <a:pt x="79" y="37"/>
                                    </a:moveTo>
                                    <a:lnTo>
                                      <a:pt x="71" y="23"/>
                                    </a:lnTo>
                                    <a:lnTo>
                                      <a:pt x="62" y="12"/>
                                    </a:lnTo>
                                    <a:lnTo>
                                      <a:pt x="51" y="4"/>
                                    </a:lnTo>
                                    <a:lnTo>
                                      <a:pt x="37" y="0"/>
                                    </a:lnTo>
                                    <a:lnTo>
                                      <a:pt x="27" y="3"/>
                                    </a:lnTo>
                                    <a:lnTo>
                                      <a:pt x="17" y="11"/>
                                    </a:lnTo>
                                    <a:lnTo>
                                      <a:pt x="7" y="19"/>
                                    </a:lnTo>
                                    <a:lnTo>
                                      <a:pt x="2" y="29"/>
                                    </a:lnTo>
                                    <a:lnTo>
                                      <a:pt x="0" y="38"/>
                                    </a:lnTo>
                                    <a:lnTo>
                                      <a:pt x="1" y="48"/>
                                    </a:lnTo>
                                    <a:lnTo>
                                      <a:pt x="3" y="62"/>
                                    </a:lnTo>
                                    <a:lnTo>
                                      <a:pt x="10" y="77"/>
                                    </a:lnTo>
                                    <a:lnTo>
                                      <a:pt x="18" y="88"/>
                                    </a:lnTo>
                                    <a:lnTo>
                                      <a:pt x="28" y="99"/>
                                    </a:lnTo>
                                    <a:lnTo>
                                      <a:pt x="41" y="108"/>
                                    </a:lnTo>
                                    <a:lnTo>
                                      <a:pt x="54" y="113"/>
                                    </a:lnTo>
                                    <a:lnTo>
                                      <a:pt x="67" y="114"/>
                                    </a:lnTo>
                                    <a:lnTo>
                                      <a:pt x="78" y="110"/>
                                    </a:lnTo>
                                    <a:lnTo>
                                      <a:pt x="85" y="101"/>
                                    </a:lnTo>
                                    <a:lnTo>
                                      <a:pt x="90" y="91"/>
                                    </a:lnTo>
                                    <a:lnTo>
                                      <a:pt x="91" y="77"/>
                                    </a:lnTo>
                                    <a:lnTo>
                                      <a:pt x="88" y="63"/>
                                    </a:lnTo>
                                    <a:lnTo>
                                      <a:pt x="85" y="49"/>
                                    </a:lnTo>
                                    <a:lnTo>
                                      <a:pt x="79" y="37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a000a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1160" bIns="-11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6842" name=""/>
                          <p:cNvGrpSpPr/>
                          <p:nvPr/>
                        </p:nvGrpSpPr>
                        <p:grpSpPr>
                          <a:xfrm>
                            <a:off x="2036880" y="2239560"/>
                            <a:ext cx="160200" cy="185040"/>
                            <a:chOff x="2036880" y="2239560"/>
                            <a:chExt cx="160200" cy="185040"/>
                          </a:xfrm>
                        </p:grpSpPr>
                        <p:sp>
                          <p:nvSpPr>
                            <p:cNvPr id="6843" name=""/>
                            <p:cNvSpPr/>
                            <p:nvPr/>
                          </p:nvSpPr>
                          <p:spPr>
                            <a:xfrm>
                              <a:off x="2073600" y="2284200"/>
                              <a:ext cx="93600" cy="9864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380" h="322">
                                  <a:moveTo>
                                    <a:pt x="10" y="0"/>
                                  </a:moveTo>
                                  <a:lnTo>
                                    <a:pt x="3" y="34"/>
                                  </a:lnTo>
                                  <a:lnTo>
                                    <a:pt x="0" y="61"/>
                                  </a:lnTo>
                                  <a:lnTo>
                                    <a:pt x="6" y="92"/>
                                  </a:lnTo>
                                  <a:lnTo>
                                    <a:pt x="18" y="114"/>
                                  </a:lnTo>
                                  <a:lnTo>
                                    <a:pt x="33" y="127"/>
                                  </a:lnTo>
                                  <a:lnTo>
                                    <a:pt x="59" y="148"/>
                                  </a:lnTo>
                                  <a:lnTo>
                                    <a:pt x="84" y="163"/>
                                  </a:lnTo>
                                  <a:lnTo>
                                    <a:pt x="121" y="179"/>
                                  </a:lnTo>
                                  <a:lnTo>
                                    <a:pt x="161" y="194"/>
                                  </a:lnTo>
                                  <a:lnTo>
                                    <a:pt x="199" y="206"/>
                                  </a:lnTo>
                                  <a:lnTo>
                                    <a:pt x="239" y="219"/>
                                  </a:lnTo>
                                  <a:lnTo>
                                    <a:pt x="268" y="234"/>
                                  </a:lnTo>
                                  <a:lnTo>
                                    <a:pt x="300" y="252"/>
                                  </a:lnTo>
                                  <a:lnTo>
                                    <a:pt x="330" y="273"/>
                                  </a:lnTo>
                                  <a:lnTo>
                                    <a:pt x="355" y="295"/>
                                  </a:lnTo>
                                  <a:lnTo>
                                    <a:pt x="380" y="322"/>
                                  </a:lnTo>
                                </a:path>
                              </a:pathLst>
                            </a:custGeom>
                            <a:noFill/>
                            <a:ln w="4680">
                              <a:solidFill>
                                <a:srgbClr val="ffc0c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6844" name=""/>
                            <p:cNvSpPr/>
                            <p:nvPr/>
                          </p:nvSpPr>
                          <p:spPr>
                            <a:xfrm>
                              <a:off x="2036880" y="2302560"/>
                              <a:ext cx="108720" cy="12168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443" h="393">
                                  <a:moveTo>
                                    <a:pt x="0" y="0"/>
                                  </a:moveTo>
                                  <a:lnTo>
                                    <a:pt x="34" y="9"/>
                                  </a:lnTo>
                                  <a:lnTo>
                                    <a:pt x="65" y="18"/>
                                  </a:lnTo>
                                  <a:lnTo>
                                    <a:pt x="95" y="30"/>
                                  </a:lnTo>
                                  <a:lnTo>
                                    <a:pt x="117" y="43"/>
                                  </a:lnTo>
                                  <a:lnTo>
                                    <a:pt x="135" y="65"/>
                                  </a:lnTo>
                                  <a:lnTo>
                                    <a:pt x="150" y="93"/>
                                  </a:lnTo>
                                  <a:lnTo>
                                    <a:pt x="160" y="117"/>
                                  </a:lnTo>
                                  <a:lnTo>
                                    <a:pt x="169" y="148"/>
                                  </a:lnTo>
                                  <a:lnTo>
                                    <a:pt x="180" y="183"/>
                                  </a:lnTo>
                                  <a:lnTo>
                                    <a:pt x="193" y="214"/>
                                  </a:lnTo>
                                  <a:lnTo>
                                    <a:pt x="212" y="242"/>
                                  </a:lnTo>
                                  <a:lnTo>
                                    <a:pt x="233" y="273"/>
                                  </a:lnTo>
                                  <a:lnTo>
                                    <a:pt x="253" y="295"/>
                                  </a:lnTo>
                                  <a:lnTo>
                                    <a:pt x="280" y="316"/>
                                  </a:lnTo>
                                  <a:lnTo>
                                    <a:pt x="309" y="335"/>
                                  </a:lnTo>
                                  <a:lnTo>
                                    <a:pt x="343" y="350"/>
                                  </a:lnTo>
                                  <a:lnTo>
                                    <a:pt x="382" y="368"/>
                                  </a:lnTo>
                                  <a:lnTo>
                                    <a:pt x="415" y="381"/>
                                  </a:lnTo>
                                  <a:lnTo>
                                    <a:pt x="443" y="393"/>
                                  </a:lnTo>
                                </a:path>
                              </a:pathLst>
                            </a:custGeom>
                            <a:noFill/>
                            <a:ln w="4680">
                              <a:solidFill>
                                <a:srgbClr val="ffc0c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6845" name=""/>
                            <p:cNvSpPr/>
                            <p:nvPr/>
                          </p:nvSpPr>
                          <p:spPr>
                            <a:xfrm>
                              <a:off x="2044080" y="2239560"/>
                              <a:ext cx="153000" cy="18504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618" h="602">
                                  <a:moveTo>
                                    <a:pt x="0" y="0"/>
                                  </a:moveTo>
                                  <a:lnTo>
                                    <a:pt x="7" y="41"/>
                                  </a:lnTo>
                                  <a:lnTo>
                                    <a:pt x="18" y="82"/>
                                  </a:lnTo>
                                  <a:lnTo>
                                    <a:pt x="35" y="128"/>
                                  </a:lnTo>
                                  <a:lnTo>
                                    <a:pt x="55" y="163"/>
                                  </a:lnTo>
                                  <a:lnTo>
                                    <a:pt x="83" y="202"/>
                                  </a:lnTo>
                                  <a:lnTo>
                                    <a:pt x="104" y="237"/>
                                  </a:lnTo>
                                  <a:lnTo>
                                    <a:pt x="129" y="280"/>
                                  </a:lnTo>
                                  <a:lnTo>
                                    <a:pt x="157" y="328"/>
                                  </a:lnTo>
                                  <a:lnTo>
                                    <a:pt x="176" y="356"/>
                                  </a:lnTo>
                                  <a:lnTo>
                                    <a:pt x="199" y="385"/>
                                  </a:lnTo>
                                  <a:lnTo>
                                    <a:pt x="226" y="415"/>
                                  </a:lnTo>
                                  <a:lnTo>
                                    <a:pt x="260" y="445"/>
                                  </a:lnTo>
                                  <a:lnTo>
                                    <a:pt x="304" y="482"/>
                                  </a:lnTo>
                                  <a:lnTo>
                                    <a:pt x="342" y="512"/>
                                  </a:lnTo>
                                  <a:lnTo>
                                    <a:pt x="385" y="537"/>
                                  </a:lnTo>
                                  <a:lnTo>
                                    <a:pt x="432" y="558"/>
                                  </a:lnTo>
                                  <a:lnTo>
                                    <a:pt x="485" y="578"/>
                                  </a:lnTo>
                                  <a:lnTo>
                                    <a:pt x="525" y="589"/>
                                  </a:lnTo>
                                  <a:lnTo>
                                    <a:pt x="573" y="598"/>
                                  </a:lnTo>
                                  <a:lnTo>
                                    <a:pt x="618" y="602"/>
                                  </a:lnTo>
                                </a:path>
                              </a:pathLst>
                            </a:custGeom>
                            <a:noFill/>
                            <a:ln w="4680">
                              <a:solidFill>
                                <a:srgbClr val="ffc0c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</p:grpSp>
                </p:grpSp>
                <p:grpSp>
                  <p:nvGrpSpPr>
                    <p:cNvPr id="6846" name=""/>
                    <p:cNvGrpSpPr/>
                    <p:nvPr/>
                  </p:nvGrpSpPr>
                  <p:grpSpPr>
                    <a:xfrm>
                      <a:off x="2080440" y="2235600"/>
                      <a:ext cx="231480" cy="233640"/>
                      <a:chOff x="2080440" y="2235600"/>
                      <a:chExt cx="231480" cy="233640"/>
                    </a:xfrm>
                  </p:grpSpPr>
                  <p:grpSp>
                    <p:nvGrpSpPr>
                      <p:cNvPr id="6847" name=""/>
                      <p:cNvGrpSpPr/>
                      <p:nvPr/>
                    </p:nvGrpSpPr>
                    <p:grpSpPr>
                      <a:xfrm>
                        <a:off x="2168280" y="2352600"/>
                        <a:ext cx="140760" cy="116280"/>
                        <a:chOff x="2168280" y="2352600"/>
                        <a:chExt cx="140760" cy="116280"/>
                      </a:xfrm>
                    </p:grpSpPr>
                    <p:grpSp>
                      <p:nvGrpSpPr>
                        <p:cNvPr id="6848" name=""/>
                        <p:cNvGrpSpPr/>
                        <p:nvPr/>
                      </p:nvGrpSpPr>
                      <p:grpSpPr>
                        <a:xfrm>
                          <a:off x="2253600" y="2352600"/>
                          <a:ext cx="55440" cy="58320"/>
                          <a:chOff x="2253600" y="2352600"/>
                          <a:chExt cx="55440" cy="58320"/>
                        </a:xfrm>
                      </p:grpSpPr>
                      <p:sp>
                        <p:nvSpPr>
                          <p:cNvPr id="6849" name=""/>
                          <p:cNvSpPr/>
                          <p:nvPr/>
                        </p:nvSpPr>
                        <p:spPr>
                          <a:xfrm>
                            <a:off x="2276640" y="2355480"/>
                            <a:ext cx="6120" cy="324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7" h="101">
                                <a:moveTo>
                                  <a:pt x="14" y="0"/>
                                </a:moveTo>
                                <a:lnTo>
                                  <a:pt x="21" y="21"/>
                                </a:lnTo>
                                <a:lnTo>
                                  <a:pt x="27" y="51"/>
                                </a:lnTo>
                                <a:lnTo>
                                  <a:pt x="24" y="69"/>
                                </a:lnTo>
                                <a:lnTo>
                                  <a:pt x="11" y="89"/>
                                </a:lnTo>
                                <a:lnTo>
                                  <a:pt x="0" y="101"/>
                                </a:lnTo>
                              </a:path>
                            </a:pathLst>
                          </a:custGeom>
                          <a:noFill/>
                          <a:ln w="3240">
                            <a:solidFill>
                              <a:srgbClr val="8080f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14400" bIns="-144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6850" name=""/>
                          <p:cNvSpPr/>
                          <p:nvPr/>
                        </p:nvSpPr>
                        <p:spPr>
                          <a:xfrm>
                            <a:off x="2253600" y="2369520"/>
                            <a:ext cx="30600" cy="414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24" h="137">
                                <a:moveTo>
                                  <a:pt x="0" y="0"/>
                                </a:moveTo>
                                <a:lnTo>
                                  <a:pt x="30" y="5"/>
                                </a:lnTo>
                                <a:lnTo>
                                  <a:pt x="61" y="11"/>
                                </a:lnTo>
                                <a:lnTo>
                                  <a:pt x="75" y="20"/>
                                </a:lnTo>
                                <a:lnTo>
                                  <a:pt x="89" y="40"/>
                                </a:lnTo>
                                <a:lnTo>
                                  <a:pt x="92" y="61"/>
                                </a:lnTo>
                                <a:lnTo>
                                  <a:pt x="104" y="85"/>
                                </a:lnTo>
                                <a:lnTo>
                                  <a:pt x="115" y="109"/>
                                </a:lnTo>
                                <a:lnTo>
                                  <a:pt x="124" y="137"/>
                                </a:lnTo>
                              </a:path>
                            </a:pathLst>
                          </a:custGeom>
                          <a:noFill/>
                          <a:ln w="3240">
                            <a:solidFill>
                              <a:srgbClr val="8080f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5400" bIns="-54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6851" name=""/>
                          <p:cNvSpPr/>
                          <p:nvPr/>
                        </p:nvSpPr>
                        <p:spPr>
                          <a:xfrm>
                            <a:off x="2297880" y="2352600"/>
                            <a:ext cx="11160" cy="5076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45" h="162">
                                <a:moveTo>
                                  <a:pt x="0" y="80"/>
                                </a:moveTo>
                                <a:lnTo>
                                  <a:pt x="2" y="110"/>
                                </a:lnTo>
                                <a:lnTo>
                                  <a:pt x="6" y="138"/>
                                </a:lnTo>
                                <a:lnTo>
                                  <a:pt x="17" y="151"/>
                                </a:lnTo>
                                <a:lnTo>
                                  <a:pt x="45" y="162"/>
                                </a:lnTo>
                                <a:lnTo>
                                  <a:pt x="45" y="0"/>
                                </a:lnTo>
                              </a:path>
                            </a:pathLst>
                          </a:custGeom>
                          <a:noFill/>
                          <a:ln w="3240">
                            <a:solidFill>
                              <a:srgbClr val="8080f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3960" bIns="39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6852" name=""/>
                        <p:cNvGrpSpPr/>
                        <p:nvPr/>
                      </p:nvGrpSpPr>
                      <p:grpSpPr>
                        <a:xfrm>
                          <a:off x="2168280" y="2434320"/>
                          <a:ext cx="75240" cy="34560"/>
                          <a:chOff x="2168280" y="2434320"/>
                          <a:chExt cx="75240" cy="34560"/>
                        </a:xfrm>
                      </p:grpSpPr>
                      <p:sp>
                        <p:nvSpPr>
                          <p:cNvPr id="6853" name=""/>
                          <p:cNvSpPr/>
                          <p:nvPr/>
                        </p:nvSpPr>
                        <p:spPr>
                          <a:xfrm>
                            <a:off x="2195280" y="2438640"/>
                            <a:ext cx="44280" cy="756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79" h="24">
                                <a:moveTo>
                                  <a:pt x="0" y="0"/>
                                </a:moveTo>
                                <a:lnTo>
                                  <a:pt x="43" y="13"/>
                                </a:lnTo>
                                <a:lnTo>
                                  <a:pt x="80" y="21"/>
                                </a:lnTo>
                                <a:lnTo>
                                  <a:pt x="124" y="24"/>
                                </a:lnTo>
                                <a:lnTo>
                                  <a:pt x="179" y="16"/>
                                </a:lnTo>
                              </a:path>
                            </a:pathLst>
                          </a:custGeom>
                          <a:noFill/>
                          <a:ln w="3240">
                            <a:solidFill>
                              <a:srgbClr val="8080f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9240" bIns="-3924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6854" name=""/>
                          <p:cNvSpPr/>
                          <p:nvPr/>
                        </p:nvSpPr>
                        <p:spPr>
                          <a:xfrm>
                            <a:off x="2215080" y="2434320"/>
                            <a:ext cx="8640" cy="118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35" h="42">
                                <a:moveTo>
                                  <a:pt x="0" y="0"/>
                                </a:moveTo>
                                <a:lnTo>
                                  <a:pt x="22" y="20"/>
                                </a:lnTo>
                                <a:lnTo>
                                  <a:pt x="35" y="42"/>
                                </a:lnTo>
                              </a:path>
                            </a:pathLst>
                          </a:custGeom>
                          <a:noFill/>
                          <a:ln w="3240">
                            <a:solidFill>
                              <a:srgbClr val="8080f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4920" bIns="-349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6855" name=""/>
                          <p:cNvSpPr/>
                          <p:nvPr/>
                        </p:nvSpPr>
                        <p:spPr>
                          <a:xfrm>
                            <a:off x="2168280" y="2458800"/>
                            <a:ext cx="54000" cy="100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20" h="35">
                                <a:moveTo>
                                  <a:pt x="0" y="0"/>
                                </a:moveTo>
                                <a:lnTo>
                                  <a:pt x="57" y="9"/>
                                </a:lnTo>
                                <a:lnTo>
                                  <a:pt x="115" y="16"/>
                                </a:lnTo>
                                <a:lnTo>
                                  <a:pt x="168" y="25"/>
                                </a:lnTo>
                                <a:lnTo>
                                  <a:pt x="220" y="35"/>
                                </a:lnTo>
                              </a:path>
                            </a:pathLst>
                          </a:custGeom>
                          <a:noFill/>
                          <a:ln w="3240">
                            <a:solidFill>
                              <a:srgbClr val="8080f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6720" bIns="-367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6856" name=""/>
                          <p:cNvSpPr/>
                          <p:nvPr/>
                        </p:nvSpPr>
                        <p:spPr>
                          <a:xfrm>
                            <a:off x="2215080" y="2457000"/>
                            <a:ext cx="17280" cy="756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66" h="25">
                                <a:moveTo>
                                  <a:pt x="0" y="0"/>
                                </a:moveTo>
                                <a:lnTo>
                                  <a:pt x="31" y="2"/>
                                </a:lnTo>
                                <a:lnTo>
                                  <a:pt x="50" y="8"/>
                                </a:lnTo>
                                <a:lnTo>
                                  <a:pt x="66" y="25"/>
                                </a:lnTo>
                              </a:path>
                            </a:pathLst>
                          </a:custGeom>
                          <a:noFill/>
                          <a:ln w="3240">
                            <a:solidFill>
                              <a:srgbClr val="8080f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9240" bIns="-3924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6857" name=""/>
                          <p:cNvSpPr/>
                          <p:nvPr/>
                        </p:nvSpPr>
                        <p:spPr>
                          <a:xfrm>
                            <a:off x="2237400" y="2453760"/>
                            <a:ext cx="6120" cy="15120"/>
                          </a:xfrm>
                          <a:prstGeom prst="line">
                            <a:avLst/>
                          </a:prstGeom>
                          <a:ln w="3240">
                            <a:solidFill>
                              <a:srgbClr val="8080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1680" bIns="-3168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6858" name=""/>
                      <p:cNvGrpSpPr/>
                      <p:nvPr/>
                    </p:nvGrpSpPr>
                    <p:grpSpPr>
                      <a:xfrm>
                        <a:off x="2080440" y="2235600"/>
                        <a:ext cx="231480" cy="233640"/>
                        <a:chOff x="2080440" y="2235600"/>
                        <a:chExt cx="231480" cy="233640"/>
                      </a:xfrm>
                    </p:grpSpPr>
                    <p:grpSp>
                      <p:nvGrpSpPr>
                        <p:cNvPr id="6859" name=""/>
                        <p:cNvGrpSpPr/>
                        <p:nvPr/>
                      </p:nvGrpSpPr>
                      <p:grpSpPr>
                        <a:xfrm>
                          <a:off x="2094120" y="2249280"/>
                          <a:ext cx="217800" cy="219960"/>
                          <a:chOff x="2094120" y="2249280"/>
                          <a:chExt cx="217800" cy="219960"/>
                        </a:xfrm>
                      </p:grpSpPr>
                      <p:sp>
                        <p:nvSpPr>
                          <p:cNvPr id="6860" name=""/>
                          <p:cNvSpPr/>
                          <p:nvPr/>
                        </p:nvSpPr>
                        <p:spPr>
                          <a:xfrm>
                            <a:off x="2094120" y="2249280"/>
                            <a:ext cx="217800" cy="1756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877" h="567">
                                <a:moveTo>
                                  <a:pt x="0" y="0"/>
                                </a:moveTo>
                                <a:lnTo>
                                  <a:pt x="35" y="15"/>
                                </a:lnTo>
                                <a:lnTo>
                                  <a:pt x="69" y="25"/>
                                </a:lnTo>
                                <a:lnTo>
                                  <a:pt x="109" y="31"/>
                                </a:lnTo>
                                <a:lnTo>
                                  <a:pt x="142" y="31"/>
                                </a:lnTo>
                                <a:lnTo>
                                  <a:pt x="185" y="34"/>
                                </a:lnTo>
                                <a:lnTo>
                                  <a:pt x="215" y="43"/>
                                </a:lnTo>
                                <a:lnTo>
                                  <a:pt x="244" y="54"/>
                                </a:lnTo>
                                <a:lnTo>
                                  <a:pt x="276" y="76"/>
                                </a:lnTo>
                                <a:lnTo>
                                  <a:pt x="308" y="103"/>
                                </a:lnTo>
                                <a:lnTo>
                                  <a:pt x="350" y="140"/>
                                </a:lnTo>
                                <a:lnTo>
                                  <a:pt x="381" y="167"/>
                                </a:lnTo>
                                <a:lnTo>
                                  <a:pt x="429" y="217"/>
                                </a:lnTo>
                                <a:lnTo>
                                  <a:pt x="481" y="267"/>
                                </a:lnTo>
                                <a:lnTo>
                                  <a:pt x="524" y="312"/>
                                </a:lnTo>
                                <a:lnTo>
                                  <a:pt x="571" y="364"/>
                                </a:lnTo>
                                <a:lnTo>
                                  <a:pt x="621" y="418"/>
                                </a:lnTo>
                                <a:lnTo>
                                  <a:pt x="664" y="458"/>
                                </a:lnTo>
                                <a:lnTo>
                                  <a:pt x="707" y="496"/>
                                </a:lnTo>
                                <a:lnTo>
                                  <a:pt x="744" y="520"/>
                                </a:lnTo>
                                <a:lnTo>
                                  <a:pt x="782" y="540"/>
                                </a:lnTo>
                                <a:lnTo>
                                  <a:pt x="812" y="560"/>
                                </a:lnTo>
                                <a:lnTo>
                                  <a:pt x="833" y="567"/>
                                </a:lnTo>
                                <a:lnTo>
                                  <a:pt x="851" y="563"/>
                                </a:lnTo>
                                <a:lnTo>
                                  <a:pt x="867" y="552"/>
                                </a:lnTo>
                                <a:lnTo>
                                  <a:pt x="876" y="532"/>
                                </a:lnTo>
                                <a:lnTo>
                                  <a:pt x="877" y="492"/>
                                </a:lnTo>
                                <a:lnTo>
                                  <a:pt x="873" y="452"/>
                                </a:lnTo>
                              </a:path>
                            </a:pathLst>
                          </a:custGeom>
                          <a:noFill/>
                          <a:ln w="11160">
                            <a:solidFill>
                              <a:srgbClr val="8080f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6861" name=""/>
                          <p:cNvSpPr/>
                          <p:nvPr/>
                        </p:nvSpPr>
                        <p:spPr>
                          <a:xfrm>
                            <a:off x="2128320" y="2258280"/>
                            <a:ext cx="122400" cy="21096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494" h="685">
                                <a:moveTo>
                                  <a:pt x="0" y="0"/>
                                </a:moveTo>
                                <a:lnTo>
                                  <a:pt x="18" y="59"/>
                                </a:lnTo>
                                <a:lnTo>
                                  <a:pt x="37" y="116"/>
                                </a:lnTo>
                                <a:lnTo>
                                  <a:pt x="55" y="155"/>
                                </a:lnTo>
                                <a:lnTo>
                                  <a:pt x="82" y="202"/>
                                </a:lnTo>
                                <a:lnTo>
                                  <a:pt x="119" y="256"/>
                                </a:lnTo>
                                <a:lnTo>
                                  <a:pt x="150" y="299"/>
                                </a:lnTo>
                                <a:lnTo>
                                  <a:pt x="182" y="344"/>
                                </a:lnTo>
                                <a:lnTo>
                                  <a:pt x="219" y="397"/>
                                </a:lnTo>
                                <a:lnTo>
                                  <a:pt x="244" y="431"/>
                                </a:lnTo>
                                <a:lnTo>
                                  <a:pt x="268" y="450"/>
                                </a:lnTo>
                                <a:lnTo>
                                  <a:pt x="299" y="471"/>
                                </a:lnTo>
                                <a:lnTo>
                                  <a:pt x="322" y="489"/>
                                </a:lnTo>
                                <a:lnTo>
                                  <a:pt x="345" y="516"/>
                                </a:lnTo>
                                <a:lnTo>
                                  <a:pt x="376" y="541"/>
                                </a:lnTo>
                                <a:lnTo>
                                  <a:pt x="406" y="565"/>
                                </a:lnTo>
                                <a:lnTo>
                                  <a:pt x="435" y="584"/>
                                </a:lnTo>
                                <a:lnTo>
                                  <a:pt x="465" y="608"/>
                                </a:lnTo>
                                <a:lnTo>
                                  <a:pt x="485" y="627"/>
                                </a:lnTo>
                                <a:lnTo>
                                  <a:pt x="494" y="645"/>
                                </a:lnTo>
                                <a:lnTo>
                                  <a:pt x="491" y="669"/>
                                </a:lnTo>
                                <a:lnTo>
                                  <a:pt x="479" y="675"/>
                                </a:lnTo>
                                <a:lnTo>
                                  <a:pt x="449" y="682"/>
                                </a:lnTo>
                                <a:lnTo>
                                  <a:pt x="420" y="685"/>
                                </a:lnTo>
                                <a:lnTo>
                                  <a:pt x="385" y="684"/>
                                </a:lnTo>
                              </a:path>
                            </a:pathLst>
                          </a:custGeom>
                          <a:noFill/>
                          <a:ln w="11160">
                            <a:solidFill>
                              <a:srgbClr val="8080f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6862" name=""/>
                        <p:cNvGrpSpPr/>
                        <p:nvPr/>
                      </p:nvGrpSpPr>
                      <p:grpSpPr>
                        <a:xfrm>
                          <a:off x="2080440" y="2235600"/>
                          <a:ext cx="18360" cy="24480"/>
                          <a:chOff x="2080440" y="2235600"/>
                          <a:chExt cx="18360" cy="24480"/>
                        </a:xfrm>
                      </p:grpSpPr>
                      <p:sp>
                        <p:nvSpPr>
                          <p:cNvPr id="6863" name=""/>
                          <p:cNvSpPr/>
                          <p:nvPr/>
                        </p:nvSpPr>
                        <p:spPr>
                          <a:xfrm>
                            <a:off x="2080440" y="2235600"/>
                            <a:ext cx="18360" cy="24480"/>
                          </a:xfrm>
                          <a:prstGeom prst="ellipse">
                            <a:avLst/>
                          </a:prstGeom>
                          <a:solidFill>
                            <a:srgbClr val="8080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9520" bIns="-295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6864" name=""/>
                          <p:cNvSpPr/>
                          <p:nvPr/>
                        </p:nvSpPr>
                        <p:spPr>
                          <a:xfrm>
                            <a:off x="2082600" y="2239920"/>
                            <a:ext cx="11160" cy="13680"/>
                          </a:xfrm>
                          <a:prstGeom prst="ellipse">
                            <a:avLst/>
                          </a:prstGeom>
                          <a:solidFill>
                            <a:srgbClr val="40004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6720" bIns="-367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</p:grpSp>
              </p:grpSp>
            </p:grpSp>
            <p:grpSp>
              <p:nvGrpSpPr>
                <p:cNvPr id="6865" name=""/>
                <p:cNvGrpSpPr/>
                <p:nvPr/>
              </p:nvGrpSpPr>
              <p:grpSpPr>
                <a:xfrm>
                  <a:off x="1908720" y="1827720"/>
                  <a:ext cx="340560" cy="318600"/>
                  <a:chOff x="1908720" y="1827720"/>
                  <a:chExt cx="340560" cy="318600"/>
                </a:xfrm>
              </p:grpSpPr>
              <p:grpSp>
                <p:nvGrpSpPr>
                  <p:cNvPr id="6866" name=""/>
                  <p:cNvGrpSpPr/>
                  <p:nvPr/>
                </p:nvGrpSpPr>
                <p:grpSpPr>
                  <a:xfrm>
                    <a:off x="1908720" y="1827720"/>
                    <a:ext cx="257040" cy="281880"/>
                    <a:chOff x="1908720" y="1827720"/>
                    <a:chExt cx="257040" cy="281880"/>
                  </a:xfrm>
                </p:grpSpPr>
                <p:grpSp>
                  <p:nvGrpSpPr>
                    <p:cNvPr id="6867" name=""/>
                    <p:cNvGrpSpPr/>
                    <p:nvPr/>
                  </p:nvGrpSpPr>
                  <p:grpSpPr>
                    <a:xfrm>
                      <a:off x="1908720" y="1882800"/>
                      <a:ext cx="257040" cy="81720"/>
                      <a:chOff x="1908720" y="1882800"/>
                      <a:chExt cx="257040" cy="81720"/>
                    </a:xfrm>
                  </p:grpSpPr>
                  <p:grpSp>
                    <p:nvGrpSpPr>
                      <p:cNvPr id="6868" name=""/>
                      <p:cNvGrpSpPr/>
                      <p:nvPr/>
                    </p:nvGrpSpPr>
                    <p:grpSpPr>
                      <a:xfrm>
                        <a:off x="1912320" y="1882800"/>
                        <a:ext cx="253440" cy="81720"/>
                        <a:chOff x="1912320" y="1882800"/>
                        <a:chExt cx="253440" cy="81720"/>
                      </a:xfrm>
                    </p:grpSpPr>
                    <p:sp>
                      <p:nvSpPr>
                        <p:cNvPr id="6869" name=""/>
                        <p:cNvSpPr/>
                        <p:nvPr/>
                      </p:nvSpPr>
                      <p:spPr>
                        <a:xfrm>
                          <a:off x="1912320" y="1882800"/>
                          <a:ext cx="252360" cy="817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020" h="265">
                              <a:moveTo>
                                <a:pt x="1020" y="106"/>
                              </a:moveTo>
                              <a:lnTo>
                                <a:pt x="970" y="100"/>
                              </a:lnTo>
                              <a:lnTo>
                                <a:pt x="913" y="94"/>
                              </a:lnTo>
                              <a:lnTo>
                                <a:pt x="851" y="82"/>
                              </a:lnTo>
                              <a:lnTo>
                                <a:pt x="781" y="69"/>
                              </a:lnTo>
                              <a:lnTo>
                                <a:pt x="712" y="55"/>
                              </a:lnTo>
                              <a:lnTo>
                                <a:pt x="650" y="42"/>
                              </a:lnTo>
                              <a:lnTo>
                                <a:pt x="596" y="33"/>
                              </a:lnTo>
                              <a:lnTo>
                                <a:pt x="538" y="24"/>
                              </a:lnTo>
                              <a:lnTo>
                                <a:pt x="470" y="15"/>
                              </a:lnTo>
                              <a:lnTo>
                                <a:pt x="419" y="5"/>
                              </a:lnTo>
                              <a:lnTo>
                                <a:pt x="367" y="0"/>
                              </a:lnTo>
                              <a:lnTo>
                                <a:pt x="320" y="2"/>
                              </a:lnTo>
                              <a:lnTo>
                                <a:pt x="275" y="8"/>
                              </a:lnTo>
                              <a:lnTo>
                                <a:pt x="214" y="19"/>
                              </a:lnTo>
                              <a:lnTo>
                                <a:pt x="165" y="31"/>
                              </a:lnTo>
                              <a:lnTo>
                                <a:pt x="134" y="41"/>
                              </a:lnTo>
                              <a:lnTo>
                                <a:pt x="99" y="58"/>
                              </a:lnTo>
                              <a:lnTo>
                                <a:pt x="62" y="75"/>
                              </a:lnTo>
                              <a:lnTo>
                                <a:pt x="29" y="94"/>
                              </a:lnTo>
                              <a:lnTo>
                                <a:pt x="0" y="113"/>
                              </a:lnTo>
                              <a:lnTo>
                                <a:pt x="68" y="265"/>
                              </a:lnTo>
                              <a:lnTo>
                                <a:pt x="107" y="250"/>
                              </a:lnTo>
                              <a:lnTo>
                                <a:pt x="141" y="237"/>
                              </a:lnTo>
                              <a:lnTo>
                                <a:pt x="174" y="226"/>
                              </a:lnTo>
                              <a:lnTo>
                                <a:pt x="208" y="217"/>
                              </a:lnTo>
                              <a:lnTo>
                                <a:pt x="248" y="204"/>
                              </a:lnTo>
                              <a:lnTo>
                                <a:pt x="283" y="198"/>
                              </a:lnTo>
                              <a:lnTo>
                                <a:pt x="335" y="193"/>
                              </a:lnTo>
                              <a:lnTo>
                                <a:pt x="404" y="192"/>
                              </a:lnTo>
                              <a:lnTo>
                                <a:pt x="464" y="195"/>
                              </a:lnTo>
                              <a:lnTo>
                                <a:pt x="529" y="195"/>
                              </a:lnTo>
                              <a:lnTo>
                                <a:pt x="578" y="198"/>
                              </a:lnTo>
                              <a:lnTo>
                                <a:pt x="629" y="206"/>
                              </a:lnTo>
                              <a:lnTo>
                                <a:pt x="1020" y="106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0006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34920" bIns="349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grpSp>
                      <p:nvGrpSpPr>
                        <p:cNvPr id="6870" name=""/>
                        <p:cNvGrpSpPr/>
                        <p:nvPr/>
                      </p:nvGrpSpPr>
                      <p:grpSpPr>
                        <a:xfrm>
                          <a:off x="1929240" y="1893600"/>
                          <a:ext cx="236520" cy="70200"/>
                          <a:chOff x="1929240" y="1893600"/>
                          <a:chExt cx="236520" cy="70200"/>
                        </a:xfrm>
                      </p:grpSpPr>
                      <p:grpSp>
                        <p:nvGrpSpPr>
                          <p:cNvPr id="6871" name=""/>
                          <p:cNvGrpSpPr/>
                          <p:nvPr/>
                        </p:nvGrpSpPr>
                        <p:grpSpPr>
                          <a:xfrm>
                            <a:off x="1929240" y="1914840"/>
                            <a:ext cx="236520" cy="48960"/>
                            <a:chOff x="1929240" y="1914840"/>
                            <a:chExt cx="236520" cy="48960"/>
                          </a:xfrm>
                        </p:grpSpPr>
                        <p:sp>
                          <p:nvSpPr>
                            <p:cNvPr id="6872" name=""/>
                            <p:cNvSpPr/>
                            <p:nvPr/>
                          </p:nvSpPr>
                          <p:spPr>
                            <a:xfrm>
                              <a:off x="1929240" y="1915920"/>
                              <a:ext cx="236520" cy="4104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956" h="134">
                                  <a:moveTo>
                                    <a:pt x="956" y="0"/>
                                  </a:moveTo>
                                  <a:lnTo>
                                    <a:pt x="597" y="47"/>
                                  </a:lnTo>
                                  <a:lnTo>
                                    <a:pt x="535" y="39"/>
                                  </a:lnTo>
                                  <a:lnTo>
                                    <a:pt x="480" y="35"/>
                                  </a:lnTo>
                                  <a:lnTo>
                                    <a:pt x="428" y="34"/>
                                  </a:lnTo>
                                  <a:lnTo>
                                    <a:pt x="374" y="31"/>
                                  </a:lnTo>
                                  <a:lnTo>
                                    <a:pt x="325" y="33"/>
                                  </a:lnTo>
                                  <a:lnTo>
                                    <a:pt x="281" y="35"/>
                                  </a:lnTo>
                                  <a:lnTo>
                                    <a:pt x="242" y="36"/>
                                  </a:lnTo>
                                  <a:lnTo>
                                    <a:pt x="193" y="42"/>
                                  </a:lnTo>
                                  <a:lnTo>
                                    <a:pt x="153" y="51"/>
                                  </a:lnTo>
                                  <a:lnTo>
                                    <a:pt x="114" y="63"/>
                                  </a:lnTo>
                                  <a:lnTo>
                                    <a:pt x="79" y="75"/>
                                  </a:lnTo>
                                  <a:lnTo>
                                    <a:pt x="52" y="85"/>
                                  </a:lnTo>
                                  <a:lnTo>
                                    <a:pt x="23" y="100"/>
                                  </a:lnTo>
                                  <a:lnTo>
                                    <a:pt x="0" y="118"/>
                                  </a:lnTo>
                                  <a:lnTo>
                                    <a:pt x="5" y="134"/>
                                  </a:lnTo>
                                  <a:lnTo>
                                    <a:pt x="43" y="120"/>
                                  </a:lnTo>
                                  <a:lnTo>
                                    <a:pt x="77" y="107"/>
                                  </a:lnTo>
                                  <a:lnTo>
                                    <a:pt x="110" y="96"/>
                                  </a:lnTo>
                                  <a:lnTo>
                                    <a:pt x="144" y="87"/>
                                  </a:lnTo>
                                  <a:lnTo>
                                    <a:pt x="185" y="75"/>
                                  </a:lnTo>
                                  <a:lnTo>
                                    <a:pt x="220" y="68"/>
                                  </a:lnTo>
                                  <a:lnTo>
                                    <a:pt x="271" y="63"/>
                                  </a:lnTo>
                                  <a:lnTo>
                                    <a:pt x="340" y="62"/>
                                  </a:lnTo>
                                  <a:lnTo>
                                    <a:pt x="400" y="65"/>
                                  </a:lnTo>
                                  <a:lnTo>
                                    <a:pt x="465" y="65"/>
                                  </a:lnTo>
                                  <a:lnTo>
                                    <a:pt x="514" y="68"/>
                                  </a:lnTo>
                                  <a:lnTo>
                                    <a:pt x="565" y="77"/>
                                  </a:lnTo>
                                  <a:lnTo>
                                    <a:pt x="956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80008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5760" bIns="-576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6873" name=""/>
                            <p:cNvSpPr/>
                            <p:nvPr/>
                          </p:nvSpPr>
                          <p:spPr>
                            <a:xfrm>
                              <a:off x="1929240" y="1914840"/>
                              <a:ext cx="236520" cy="4896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956" h="158">
                                  <a:moveTo>
                                    <a:pt x="956" y="0"/>
                                  </a:moveTo>
                                  <a:lnTo>
                                    <a:pt x="597" y="71"/>
                                  </a:lnTo>
                                  <a:lnTo>
                                    <a:pt x="535" y="62"/>
                                  </a:lnTo>
                                  <a:lnTo>
                                    <a:pt x="480" y="58"/>
                                  </a:lnTo>
                                  <a:lnTo>
                                    <a:pt x="428" y="56"/>
                                  </a:lnTo>
                                  <a:lnTo>
                                    <a:pt x="374" y="53"/>
                                  </a:lnTo>
                                  <a:lnTo>
                                    <a:pt x="325" y="55"/>
                                  </a:lnTo>
                                  <a:lnTo>
                                    <a:pt x="281" y="58"/>
                                  </a:lnTo>
                                  <a:lnTo>
                                    <a:pt x="242" y="59"/>
                                  </a:lnTo>
                                  <a:lnTo>
                                    <a:pt x="193" y="66"/>
                                  </a:lnTo>
                                  <a:lnTo>
                                    <a:pt x="153" y="75"/>
                                  </a:lnTo>
                                  <a:lnTo>
                                    <a:pt x="114" y="86"/>
                                  </a:lnTo>
                                  <a:lnTo>
                                    <a:pt x="79" y="98"/>
                                  </a:lnTo>
                                  <a:lnTo>
                                    <a:pt x="52" y="109"/>
                                  </a:lnTo>
                                  <a:lnTo>
                                    <a:pt x="23" y="123"/>
                                  </a:lnTo>
                                  <a:lnTo>
                                    <a:pt x="0" y="141"/>
                                  </a:lnTo>
                                  <a:lnTo>
                                    <a:pt x="5" y="158"/>
                                  </a:lnTo>
                                  <a:lnTo>
                                    <a:pt x="43" y="144"/>
                                  </a:lnTo>
                                  <a:lnTo>
                                    <a:pt x="77" y="130"/>
                                  </a:lnTo>
                                  <a:lnTo>
                                    <a:pt x="110" y="119"/>
                                  </a:lnTo>
                                  <a:lnTo>
                                    <a:pt x="144" y="111"/>
                                  </a:lnTo>
                                  <a:lnTo>
                                    <a:pt x="185" y="98"/>
                                  </a:lnTo>
                                  <a:lnTo>
                                    <a:pt x="220" y="91"/>
                                  </a:lnTo>
                                  <a:lnTo>
                                    <a:pt x="271" y="86"/>
                                  </a:lnTo>
                                  <a:lnTo>
                                    <a:pt x="340" y="85"/>
                                  </a:lnTo>
                                  <a:lnTo>
                                    <a:pt x="400" y="88"/>
                                  </a:lnTo>
                                  <a:lnTo>
                                    <a:pt x="465" y="88"/>
                                  </a:lnTo>
                                  <a:lnTo>
                                    <a:pt x="514" y="91"/>
                                  </a:lnTo>
                                  <a:lnTo>
                                    <a:pt x="565" y="100"/>
                                  </a:lnTo>
                                  <a:lnTo>
                                    <a:pt x="956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40004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2160" bIns="216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6874" name=""/>
                          <p:cNvSpPr/>
                          <p:nvPr/>
                        </p:nvSpPr>
                        <p:spPr>
                          <a:xfrm>
                            <a:off x="1932840" y="1893600"/>
                            <a:ext cx="169200" cy="244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687" h="78">
                                <a:moveTo>
                                  <a:pt x="0" y="78"/>
                                </a:moveTo>
                                <a:lnTo>
                                  <a:pt x="32" y="62"/>
                                </a:lnTo>
                                <a:lnTo>
                                  <a:pt x="65" y="47"/>
                                </a:lnTo>
                                <a:lnTo>
                                  <a:pt x="111" y="34"/>
                                </a:lnTo>
                                <a:lnTo>
                                  <a:pt x="161" y="20"/>
                                </a:lnTo>
                                <a:lnTo>
                                  <a:pt x="212" y="10"/>
                                </a:lnTo>
                                <a:lnTo>
                                  <a:pt x="256" y="4"/>
                                </a:lnTo>
                                <a:lnTo>
                                  <a:pt x="318" y="0"/>
                                </a:lnTo>
                                <a:lnTo>
                                  <a:pt x="357" y="0"/>
                                </a:lnTo>
                                <a:lnTo>
                                  <a:pt x="414" y="3"/>
                                </a:lnTo>
                                <a:lnTo>
                                  <a:pt x="469" y="10"/>
                                </a:lnTo>
                                <a:lnTo>
                                  <a:pt x="509" y="17"/>
                                </a:lnTo>
                                <a:lnTo>
                                  <a:pt x="556" y="26"/>
                                </a:lnTo>
                                <a:lnTo>
                                  <a:pt x="601" y="38"/>
                                </a:lnTo>
                                <a:lnTo>
                                  <a:pt x="642" y="50"/>
                                </a:lnTo>
                                <a:lnTo>
                                  <a:pt x="687" y="68"/>
                                </a:lnTo>
                              </a:path>
                            </a:pathLst>
                          </a:custGeom>
                          <a:noFill/>
                          <a:ln w="4680">
                            <a:solidFill>
                              <a:srgbClr val="e000e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2320" bIns="-223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6875" name=""/>
                      <p:cNvGrpSpPr/>
                      <p:nvPr/>
                    </p:nvGrpSpPr>
                    <p:grpSpPr>
                      <a:xfrm>
                        <a:off x="1908720" y="1915200"/>
                        <a:ext cx="25920" cy="48960"/>
                        <a:chOff x="1908720" y="1915200"/>
                        <a:chExt cx="25920" cy="48960"/>
                      </a:xfrm>
                    </p:grpSpPr>
                    <p:sp>
                      <p:nvSpPr>
                        <p:cNvPr id="6876" name=""/>
                        <p:cNvSpPr/>
                        <p:nvPr/>
                      </p:nvSpPr>
                      <p:spPr>
                        <a:xfrm>
                          <a:off x="1908720" y="1915200"/>
                          <a:ext cx="25920" cy="489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06" h="160">
                              <a:moveTo>
                                <a:pt x="24" y="3"/>
                              </a:moveTo>
                              <a:lnTo>
                                <a:pt x="15" y="10"/>
                              </a:lnTo>
                              <a:lnTo>
                                <a:pt x="8" y="18"/>
                              </a:lnTo>
                              <a:lnTo>
                                <a:pt x="3" y="30"/>
                              </a:lnTo>
                              <a:lnTo>
                                <a:pt x="0" y="43"/>
                              </a:lnTo>
                              <a:lnTo>
                                <a:pt x="0" y="59"/>
                              </a:lnTo>
                              <a:lnTo>
                                <a:pt x="1" y="77"/>
                              </a:lnTo>
                              <a:lnTo>
                                <a:pt x="5" y="91"/>
                              </a:lnTo>
                              <a:lnTo>
                                <a:pt x="10" y="104"/>
                              </a:lnTo>
                              <a:lnTo>
                                <a:pt x="15" y="114"/>
                              </a:lnTo>
                              <a:lnTo>
                                <a:pt x="22" y="127"/>
                              </a:lnTo>
                              <a:lnTo>
                                <a:pt x="32" y="138"/>
                              </a:lnTo>
                              <a:lnTo>
                                <a:pt x="42" y="149"/>
                              </a:lnTo>
                              <a:lnTo>
                                <a:pt x="51" y="155"/>
                              </a:lnTo>
                              <a:lnTo>
                                <a:pt x="60" y="159"/>
                              </a:lnTo>
                              <a:lnTo>
                                <a:pt x="70" y="160"/>
                              </a:lnTo>
                              <a:lnTo>
                                <a:pt x="78" y="160"/>
                              </a:lnTo>
                              <a:lnTo>
                                <a:pt x="89" y="156"/>
                              </a:lnTo>
                              <a:lnTo>
                                <a:pt x="96" y="145"/>
                              </a:lnTo>
                              <a:lnTo>
                                <a:pt x="101" y="133"/>
                              </a:lnTo>
                              <a:lnTo>
                                <a:pt x="105" y="116"/>
                              </a:lnTo>
                              <a:lnTo>
                                <a:pt x="106" y="101"/>
                              </a:lnTo>
                              <a:lnTo>
                                <a:pt x="106" y="83"/>
                              </a:lnTo>
                              <a:lnTo>
                                <a:pt x="103" y="68"/>
                              </a:lnTo>
                              <a:lnTo>
                                <a:pt x="99" y="53"/>
                              </a:lnTo>
                              <a:lnTo>
                                <a:pt x="94" y="42"/>
                              </a:lnTo>
                              <a:lnTo>
                                <a:pt x="88" y="32"/>
                              </a:lnTo>
                              <a:lnTo>
                                <a:pt x="78" y="22"/>
                              </a:lnTo>
                              <a:lnTo>
                                <a:pt x="68" y="13"/>
                              </a:lnTo>
                              <a:lnTo>
                                <a:pt x="56" y="5"/>
                              </a:lnTo>
                              <a:lnTo>
                                <a:pt x="46" y="1"/>
                              </a:lnTo>
                              <a:lnTo>
                                <a:pt x="35" y="0"/>
                              </a:lnTo>
                              <a:lnTo>
                                <a:pt x="24" y="3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800080"/>
                        </a:solidFill>
                        <a:ln w="3240">
                          <a:solidFill>
                            <a:srgbClr val="40004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160" bIns="21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877" name=""/>
                        <p:cNvSpPr/>
                        <p:nvPr/>
                      </p:nvSpPr>
                      <p:spPr>
                        <a:xfrm>
                          <a:off x="1913400" y="1922760"/>
                          <a:ext cx="17280" cy="320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71" h="108">
                              <a:moveTo>
                                <a:pt x="16" y="3"/>
                              </a:moveTo>
                              <a:lnTo>
                                <a:pt x="10" y="7"/>
                              </a:lnTo>
                              <a:lnTo>
                                <a:pt x="5" y="13"/>
                              </a:lnTo>
                              <a:lnTo>
                                <a:pt x="2" y="20"/>
                              </a:lnTo>
                              <a:lnTo>
                                <a:pt x="0" y="29"/>
                              </a:lnTo>
                              <a:lnTo>
                                <a:pt x="0" y="40"/>
                              </a:lnTo>
                              <a:lnTo>
                                <a:pt x="0" y="52"/>
                              </a:lnTo>
                              <a:lnTo>
                                <a:pt x="3" y="62"/>
                              </a:lnTo>
                              <a:lnTo>
                                <a:pt x="6" y="71"/>
                              </a:lnTo>
                              <a:lnTo>
                                <a:pt x="10" y="77"/>
                              </a:lnTo>
                              <a:lnTo>
                                <a:pt x="14" y="87"/>
                              </a:lnTo>
                              <a:lnTo>
                                <a:pt x="21" y="94"/>
                              </a:lnTo>
                              <a:lnTo>
                                <a:pt x="28" y="101"/>
                              </a:lnTo>
                              <a:lnTo>
                                <a:pt x="34" y="105"/>
                              </a:lnTo>
                              <a:lnTo>
                                <a:pt x="40" y="108"/>
                              </a:lnTo>
                              <a:lnTo>
                                <a:pt x="47" y="108"/>
                              </a:lnTo>
                              <a:lnTo>
                                <a:pt x="52" y="108"/>
                              </a:lnTo>
                              <a:lnTo>
                                <a:pt x="59" y="106"/>
                              </a:lnTo>
                              <a:lnTo>
                                <a:pt x="64" y="99"/>
                              </a:lnTo>
                              <a:lnTo>
                                <a:pt x="67" y="91"/>
                              </a:lnTo>
                              <a:lnTo>
                                <a:pt x="71" y="78"/>
                              </a:lnTo>
                              <a:lnTo>
                                <a:pt x="71" y="69"/>
                              </a:lnTo>
                              <a:lnTo>
                                <a:pt x="71" y="57"/>
                              </a:lnTo>
                              <a:lnTo>
                                <a:pt x="68" y="46"/>
                              </a:lnTo>
                              <a:lnTo>
                                <a:pt x="66" y="36"/>
                              </a:lnTo>
                              <a:lnTo>
                                <a:pt x="62" y="28"/>
                              </a:lnTo>
                              <a:lnTo>
                                <a:pt x="58" y="22"/>
                              </a:lnTo>
                              <a:lnTo>
                                <a:pt x="52" y="15"/>
                              </a:lnTo>
                              <a:lnTo>
                                <a:pt x="46" y="9"/>
                              </a:lnTo>
                              <a:lnTo>
                                <a:pt x="38" y="4"/>
                              </a:lnTo>
                              <a:lnTo>
                                <a:pt x="31" y="0"/>
                              </a:lnTo>
                              <a:lnTo>
                                <a:pt x="23" y="0"/>
                              </a:lnTo>
                              <a:lnTo>
                                <a:pt x="16" y="3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00060"/>
                        </a:solidFill>
                        <a:ln w="3240">
                          <a:solidFill>
                            <a:srgbClr val="40004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4760" bIns="-147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6878" name=""/>
                    <p:cNvGrpSpPr/>
                    <p:nvPr/>
                  </p:nvGrpSpPr>
                  <p:grpSpPr>
                    <a:xfrm>
                      <a:off x="1982880" y="1827720"/>
                      <a:ext cx="138600" cy="281880"/>
                      <a:chOff x="1982880" y="1827720"/>
                      <a:chExt cx="138600" cy="281880"/>
                    </a:xfrm>
                  </p:grpSpPr>
                  <p:grpSp>
                    <p:nvGrpSpPr>
                      <p:cNvPr id="6879" name=""/>
                      <p:cNvGrpSpPr/>
                      <p:nvPr/>
                    </p:nvGrpSpPr>
                    <p:grpSpPr>
                      <a:xfrm>
                        <a:off x="1982880" y="1827720"/>
                        <a:ext cx="138600" cy="275760"/>
                        <a:chOff x="1982880" y="1827720"/>
                        <a:chExt cx="138600" cy="275760"/>
                      </a:xfrm>
                    </p:grpSpPr>
                    <p:sp>
                      <p:nvSpPr>
                        <p:cNvPr id="6880" name=""/>
                        <p:cNvSpPr/>
                        <p:nvPr/>
                      </p:nvSpPr>
                      <p:spPr>
                        <a:xfrm>
                          <a:off x="1982880" y="1827720"/>
                          <a:ext cx="138600" cy="2757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562" h="898">
                              <a:moveTo>
                                <a:pt x="0" y="500"/>
                              </a:moveTo>
                              <a:lnTo>
                                <a:pt x="3" y="451"/>
                              </a:lnTo>
                              <a:lnTo>
                                <a:pt x="13" y="398"/>
                              </a:lnTo>
                              <a:lnTo>
                                <a:pt x="25" y="352"/>
                              </a:lnTo>
                              <a:lnTo>
                                <a:pt x="38" y="305"/>
                              </a:lnTo>
                              <a:lnTo>
                                <a:pt x="53" y="267"/>
                              </a:lnTo>
                              <a:lnTo>
                                <a:pt x="74" y="230"/>
                              </a:lnTo>
                              <a:lnTo>
                                <a:pt x="98" y="199"/>
                              </a:lnTo>
                              <a:lnTo>
                                <a:pt x="127" y="167"/>
                              </a:lnTo>
                              <a:lnTo>
                                <a:pt x="162" y="134"/>
                              </a:lnTo>
                              <a:lnTo>
                                <a:pt x="202" y="103"/>
                              </a:lnTo>
                              <a:lnTo>
                                <a:pt x="245" y="74"/>
                              </a:lnTo>
                              <a:lnTo>
                                <a:pt x="287" y="49"/>
                              </a:lnTo>
                              <a:lnTo>
                                <a:pt x="334" y="29"/>
                              </a:lnTo>
                              <a:lnTo>
                                <a:pt x="376" y="15"/>
                              </a:lnTo>
                              <a:lnTo>
                                <a:pt x="416" y="5"/>
                              </a:lnTo>
                              <a:lnTo>
                                <a:pt x="448" y="0"/>
                              </a:lnTo>
                              <a:lnTo>
                                <a:pt x="463" y="3"/>
                              </a:lnTo>
                              <a:lnTo>
                                <a:pt x="481" y="11"/>
                              </a:lnTo>
                              <a:lnTo>
                                <a:pt x="503" y="24"/>
                              </a:lnTo>
                              <a:lnTo>
                                <a:pt x="527" y="43"/>
                              </a:lnTo>
                              <a:lnTo>
                                <a:pt x="540" y="61"/>
                              </a:lnTo>
                              <a:lnTo>
                                <a:pt x="551" y="82"/>
                              </a:lnTo>
                              <a:lnTo>
                                <a:pt x="559" y="104"/>
                              </a:lnTo>
                              <a:lnTo>
                                <a:pt x="562" y="137"/>
                              </a:lnTo>
                              <a:lnTo>
                                <a:pt x="559" y="167"/>
                              </a:lnTo>
                              <a:lnTo>
                                <a:pt x="551" y="186"/>
                              </a:lnTo>
                              <a:lnTo>
                                <a:pt x="540" y="199"/>
                              </a:lnTo>
                              <a:lnTo>
                                <a:pt x="524" y="208"/>
                              </a:lnTo>
                              <a:lnTo>
                                <a:pt x="496" y="219"/>
                              </a:lnTo>
                              <a:lnTo>
                                <a:pt x="467" y="230"/>
                              </a:lnTo>
                              <a:lnTo>
                                <a:pt x="437" y="244"/>
                              </a:lnTo>
                              <a:lnTo>
                                <a:pt x="401" y="265"/>
                              </a:lnTo>
                              <a:lnTo>
                                <a:pt x="364" y="295"/>
                              </a:lnTo>
                              <a:lnTo>
                                <a:pt x="342" y="320"/>
                              </a:lnTo>
                              <a:lnTo>
                                <a:pt x="323" y="347"/>
                              </a:lnTo>
                              <a:lnTo>
                                <a:pt x="309" y="378"/>
                              </a:lnTo>
                              <a:lnTo>
                                <a:pt x="299" y="413"/>
                              </a:lnTo>
                              <a:lnTo>
                                <a:pt x="297" y="448"/>
                              </a:lnTo>
                              <a:lnTo>
                                <a:pt x="305" y="488"/>
                              </a:lnTo>
                              <a:lnTo>
                                <a:pt x="314" y="525"/>
                              </a:lnTo>
                              <a:lnTo>
                                <a:pt x="326" y="556"/>
                              </a:lnTo>
                              <a:lnTo>
                                <a:pt x="348" y="592"/>
                              </a:lnTo>
                              <a:lnTo>
                                <a:pt x="376" y="633"/>
                              </a:lnTo>
                              <a:lnTo>
                                <a:pt x="406" y="668"/>
                              </a:lnTo>
                              <a:lnTo>
                                <a:pt x="427" y="698"/>
                              </a:lnTo>
                              <a:lnTo>
                                <a:pt x="439" y="729"/>
                              </a:lnTo>
                              <a:lnTo>
                                <a:pt x="207" y="898"/>
                              </a:lnTo>
                              <a:lnTo>
                                <a:pt x="168" y="866"/>
                              </a:lnTo>
                              <a:lnTo>
                                <a:pt x="138" y="827"/>
                              </a:lnTo>
                              <a:lnTo>
                                <a:pt x="109" y="787"/>
                              </a:lnTo>
                              <a:lnTo>
                                <a:pt x="78" y="738"/>
                              </a:lnTo>
                              <a:lnTo>
                                <a:pt x="50" y="687"/>
                              </a:lnTo>
                              <a:lnTo>
                                <a:pt x="31" y="648"/>
                              </a:lnTo>
                              <a:lnTo>
                                <a:pt x="16" y="602"/>
                              </a:lnTo>
                              <a:lnTo>
                                <a:pt x="4" y="549"/>
                              </a:lnTo>
                              <a:lnTo>
                                <a:pt x="0" y="50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80008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grpSp>
                      <p:nvGrpSpPr>
                        <p:cNvPr id="6881" name=""/>
                        <p:cNvGrpSpPr/>
                        <p:nvPr/>
                      </p:nvGrpSpPr>
                      <p:grpSpPr>
                        <a:xfrm>
                          <a:off x="1982880" y="1827720"/>
                          <a:ext cx="138600" cy="275760"/>
                          <a:chOff x="1982880" y="1827720"/>
                          <a:chExt cx="138600" cy="275760"/>
                        </a:xfrm>
                      </p:grpSpPr>
                      <p:sp>
                        <p:nvSpPr>
                          <p:cNvPr id="6882" name=""/>
                          <p:cNvSpPr/>
                          <p:nvPr/>
                        </p:nvSpPr>
                        <p:spPr>
                          <a:xfrm>
                            <a:off x="2007360" y="1847520"/>
                            <a:ext cx="102600" cy="2156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417" h="703">
                                <a:moveTo>
                                  <a:pt x="124" y="703"/>
                                </a:moveTo>
                                <a:lnTo>
                                  <a:pt x="97" y="668"/>
                                </a:lnTo>
                                <a:lnTo>
                                  <a:pt x="75" y="637"/>
                                </a:lnTo>
                                <a:lnTo>
                                  <a:pt x="58" y="606"/>
                                </a:lnTo>
                                <a:lnTo>
                                  <a:pt x="43" y="573"/>
                                </a:lnTo>
                                <a:lnTo>
                                  <a:pt x="32" y="540"/>
                                </a:lnTo>
                                <a:lnTo>
                                  <a:pt x="23" y="508"/>
                                </a:lnTo>
                                <a:lnTo>
                                  <a:pt x="15" y="480"/>
                                </a:lnTo>
                                <a:lnTo>
                                  <a:pt x="9" y="452"/>
                                </a:lnTo>
                                <a:lnTo>
                                  <a:pt x="5" y="421"/>
                                </a:lnTo>
                                <a:lnTo>
                                  <a:pt x="2" y="398"/>
                                </a:lnTo>
                                <a:lnTo>
                                  <a:pt x="0" y="378"/>
                                </a:lnTo>
                                <a:lnTo>
                                  <a:pt x="2" y="358"/>
                                </a:lnTo>
                                <a:lnTo>
                                  <a:pt x="10" y="329"/>
                                </a:lnTo>
                                <a:lnTo>
                                  <a:pt x="18" y="299"/>
                                </a:lnTo>
                                <a:lnTo>
                                  <a:pt x="29" y="269"/>
                                </a:lnTo>
                                <a:lnTo>
                                  <a:pt x="42" y="242"/>
                                </a:lnTo>
                                <a:lnTo>
                                  <a:pt x="55" y="217"/>
                                </a:lnTo>
                                <a:lnTo>
                                  <a:pt x="71" y="191"/>
                                </a:lnTo>
                                <a:lnTo>
                                  <a:pt x="88" y="168"/>
                                </a:lnTo>
                                <a:lnTo>
                                  <a:pt x="106" y="148"/>
                                </a:lnTo>
                                <a:lnTo>
                                  <a:pt x="124" y="132"/>
                                </a:lnTo>
                                <a:lnTo>
                                  <a:pt x="156" y="108"/>
                                </a:lnTo>
                                <a:lnTo>
                                  <a:pt x="184" y="91"/>
                                </a:lnTo>
                                <a:lnTo>
                                  <a:pt x="219" y="69"/>
                                </a:lnTo>
                                <a:lnTo>
                                  <a:pt x="255" y="51"/>
                                </a:lnTo>
                                <a:lnTo>
                                  <a:pt x="301" y="31"/>
                                </a:lnTo>
                                <a:lnTo>
                                  <a:pt x="342" y="19"/>
                                </a:lnTo>
                                <a:lnTo>
                                  <a:pt x="382" y="9"/>
                                </a:lnTo>
                                <a:lnTo>
                                  <a:pt x="417" y="0"/>
                                </a:lnTo>
                              </a:path>
                            </a:pathLst>
                          </a:custGeom>
                          <a:noFill/>
                          <a:ln w="4680">
                            <a:solidFill>
                              <a:srgbClr val="ff40f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6883" name=""/>
                          <p:cNvSpPr/>
                          <p:nvPr/>
                        </p:nvSpPr>
                        <p:spPr>
                          <a:xfrm>
                            <a:off x="2033640" y="1870560"/>
                            <a:ext cx="87840" cy="1800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356" h="585">
                                <a:moveTo>
                                  <a:pt x="6" y="348"/>
                                </a:moveTo>
                                <a:lnTo>
                                  <a:pt x="2" y="319"/>
                                </a:lnTo>
                                <a:lnTo>
                                  <a:pt x="0" y="288"/>
                                </a:lnTo>
                                <a:lnTo>
                                  <a:pt x="2" y="254"/>
                                </a:lnTo>
                                <a:lnTo>
                                  <a:pt x="6" y="229"/>
                                </a:lnTo>
                                <a:lnTo>
                                  <a:pt x="13" y="204"/>
                                </a:lnTo>
                                <a:lnTo>
                                  <a:pt x="24" y="174"/>
                                </a:lnTo>
                                <a:lnTo>
                                  <a:pt x="43" y="146"/>
                                </a:lnTo>
                                <a:lnTo>
                                  <a:pt x="60" y="123"/>
                                </a:lnTo>
                                <a:lnTo>
                                  <a:pt x="78" y="108"/>
                                </a:lnTo>
                                <a:lnTo>
                                  <a:pt x="98" y="89"/>
                                </a:lnTo>
                                <a:lnTo>
                                  <a:pt x="119" y="73"/>
                                </a:lnTo>
                                <a:lnTo>
                                  <a:pt x="145" y="58"/>
                                </a:lnTo>
                                <a:lnTo>
                                  <a:pt x="172" y="42"/>
                                </a:lnTo>
                                <a:lnTo>
                                  <a:pt x="196" y="31"/>
                                </a:lnTo>
                                <a:lnTo>
                                  <a:pt x="221" y="21"/>
                                </a:lnTo>
                                <a:lnTo>
                                  <a:pt x="244" y="14"/>
                                </a:lnTo>
                                <a:lnTo>
                                  <a:pt x="268" y="7"/>
                                </a:lnTo>
                                <a:lnTo>
                                  <a:pt x="297" y="2"/>
                                </a:lnTo>
                                <a:lnTo>
                                  <a:pt x="324" y="1"/>
                                </a:lnTo>
                                <a:lnTo>
                                  <a:pt x="342" y="0"/>
                                </a:lnTo>
                                <a:lnTo>
                                  <a:pt x="356" y="1"/>
                                </a:lnTo>
                                <a:lnTo>
                                  <a:pt x="355" y="17"/>
                                </a:lnTo>
                                <a:lnTo>
                                  <a:pt x="353" y="30"/>
                                </a:lnTo>
                                <a:lnTo>
                                  <a:pt x="339" y="32"/>
                                </a:lnTo>
                                <a:lnTo>
                                  <a:pt x="319" y="37"/>
                                </a:lnTo>
                                <a:lnTo>
                                  <a:pt x="296" y="44"/>
                                </a:lnTo>
                                <a:lnTo>
                                  <a:pt x="270" y="55"/>
                                </a:lnTo>
                                <a:lnTo>
                                  <a:pt x="244" y="66"/>
                                </a:lnTo>
                                <a:lnTo>
                                  <a:pt x="216" y="78"/>
                                </a:lnTo>
                                <a:lnTo>
                                  <a:pt x="187" y="91"/>
                                </a:lnTo>
                                <a:lnTo>
                                  <a:pt x="150" y="113"/>
                                </a:lnTo>
                                <a:lnTo>
                                  <a:pt x="113" y="143"/>
                                </a:lnTo>
                                <a:lnTo>
                                  <a:pt x="91" y="166"/>
                                </a:lnTo>
                                <a:lnTo>
                                  <a:pt x="73" y="194"/>
                                </a:lnTo>
                                <a:lnTo>
                                  <a:pt x="59" y="225"/>
                                </a:lnTo>
                                <a:lnTo>
                                  <a:pt x="49" y="260"/>
                                </a:lnTo>
                                <a:lnTo>
                                  <a:pt x="47" y="295"/>
                                </a:lnTo>
                                <a:lnTo>
                                  <a:pt x="55" y="335"/>
                                </a:lnTo>
                                <a:lnTo>
                                  <a:pt x="64" y="371"/>
                                </a:lnTo>
                                <a:lnTo>
                                  <a:pt x="76" y="402"/>
                                </a:lnTo>
                                <a:lnTo>
                                  <a:pt x="97" y="438"/>
                                </a:lnTo>
                                <a:lnTo>
                                  <a:pt x="125" y="478"/>
                                </a:lnTo>
                                <a:lnTo>
                                  <a:pt x="155" y="514"/>
                                </a:lnTo>
                                <a:lnTo>
                                  <a:pt x="177" y="545"/>
                                </a:lnTo>
                                <a:lnTo>
                                  <a:pt x="198" y="579"/>
                                </a:lnTo>
                                <a:lnTo>
                                  <a:pt x="165" y="585"/>
                                </a:lnTo>
                                <a:lnTo>
                                  <a:pt x="148" y="570"/>
                                </a:lnTo>
                                <a:lnTo>
                                  <a:pt x="130" y="553"/>
                                </a:lnTo>
                                <a:lnTo>
                                  <a:pt x="108" y="535"/>
                                </a:lnTo>
                                <a:lnTo>
                                  <a:pt x="89" y="513"/>
                                </a:lnTo>
                                <a:lnTo>
                                  <a:pt x="67" y="483"/>
                                </a:lnTo>
                                <a:lnTo>
                                  <a:pt x="49" y="454"/>
                                </a:lnTo>
                                <a:lnTo>
                                  <a:pt x="31" y="424"/>
                                </a:lnTo>
                                <a:lnTo>
                                  <a:pt x="19" y="395"/>
                                </a:lnTo>
                                <a:lnTo>
                                  <a:pt x="13" y="376"/>
                                </a:lnTo>
                                <a:lnTo>
                                  <a:pt x="6" y="348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a000a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6884" name=""/>
                          <p:cNvSpPr/>
                          <p:nvPr/>
                        </p:nvSpPr>
                        <p:spPr>
                          <a:xfrm>
                            <a:off x="2044440" y="1878120"/>
                            <a:ext cx="76680" cy="1738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308" h="566">
                                <a:moveTo>
                                  <a:pt x="6" y="337"/>
                                </a:moveTo>
                                <a:lnTo>
                                  <a:pt x="2" y="308"/>
                                </a:lnTo>
                                <a:lnTo>
                                  <a:pt x="0" y="278"/>
                                </a:lnTo>
                                <a:lnTo>
                                  <a:pt x="2" y="243"/>
                                </a:lnTo>
                                <a:lnTo>
                                  <a:pt x="6" y="218"/>
                                </a:lnTo>
                                <a:lnTo>
                                  <a:pt x="13" y="194"/>
                                </a:lnTo>
                                <a:lnTo>
                                  <a:pt x="24" y="163"/>
                                </a:lnTo>
                                <a:lnTo>
                                  <a:pt x="43" y="135"/>
                                </a:lnTo>
                                <a:lnTo>
                                  <a:pt x="60" y="113"/>
                                </a:lnTo>
                                <a:lnTo>
                                  <a:pt x="77" y="97"/>
                                </a:lnTo>
                                <a:lnTo>
                                  <a:pt x="98" y="79"/>
                                </a:lnTo>
                                <a:lnTo>
                                  <a:pt x="119" y="62"/>
                                </a:lnTo>
                                <a:lnTo>
                                  <a:pt x="145" y="47"/>
                                </a:lnTo>
                                <a:lnTo>
                                  <a:pt x="172" y="32"/>
                                </a:lnTo>
                                <a:lnTo>
                                  <a:pt x="196" y="20"/>
                                </a:lnTo>
                                <a:lnTo>
                                  <a:pt x="220" y="10"/>
                                </a:lnTo>
                                <a:lnTo>
                                  <a:pt x="242" y="4"/>
                                </a:lnTo>
                                <a:lnTo>
                                  <a:pt x="267" y="0"/>
                                </a:lnTo>
                                <a:lnTo>
                                  <a:pt x="291" y="0"/>
                                </a:lnTo>
                                <a:lnTo>
                                  <a:pt x="308" y="3"/>
                                </a:lnTo>
                                <a:lnTo>
                                  <a:pt x="300" y="22"/>
                                </a:lnTo>
                                <a:lnTo>
                                  <a:pt x="289" y="35"/>
                                </a:lnTo>
                                <a:lnTo>
                                  <a:pt x="273" y="44"/>
                                </a:lnTo>
                                <a:lnTo>
                                  <a:pt x="245" y="55"/>
                                </a:lnTo>
                                <a:lnTo>
                                  <a:pt x="217" y="68"/>
                                </a:lnTo>
                                <a:lnTo>
                                  <a:pt x="187" y="81"/>
                                </a:lnTo>
                                <a:lnTo>
                                  <a:pt x="150" y="102"/>
                                </a:lnTo>
                                <a:lnTo>
                                  <a:pt x="113" y="132"/>
                                </a:lnTo>
                                <a:lnTo>
                                  <a:pt x="91" y="156"/>
                                </a:lnTo>
                                <a:lnTo>
                                  <a:pt x="73" y="183"/>
                                </a:lnTo>
                                <a:lnTo>
                                  <a:pt x="59" y="214"/>
                                </a:lnTo>
                                <a:lnTo>
                                  <a:pt x="49" y="249"/>
                                </a:lnTo>
                                <a:lnTo>
                                  <a:pt x="47" y="284"/>
                                </a:lnTo>
                                <a:lnTo>
                                  <a:pt x="55" y="324"/>
                                </a:lnTo>
                                <a:lnTo>
                                  <a:pt x="64" y="361"/>
                                </a:lnTo>
                                <a:lnTo>
                                  <a:pt x="77" y="392"/>
                                </a:lnTo>
                                <a:lnTo>
                                  <a:pt x="97" y="426"/>
                                </a:lnTo>
                                <a:lnTo>
                                  <a:pt x="125" y="468"/>
                                </a:lnTo>
                                <a:lnTo>
                                  <a:pt x="155" y="503"/>
                                </a:lnTo>
                                <a:lnTo>
                                  <a:pt x="177" y="534"/>
                                </a:lnTo>
                                <a:lnTo>
                                  <a:pt x="189" y="565"/>
                                </a:lnTo>
                                <a:lnTo>
                                  <a:pt x="159" y="566"/>
                                </a:lnTo>
                                <a:lnTo>
                                  <a:pt x="131" y="542"/>
                                </a:lnTo>
                                <a:lnTo>
                                  <a:pt x="108" y="524"/>
                                </a:lnTo>
                                <a:lnTo>
                                  <a:pt x="88" y="502"/>
                                </a:lnTo>
                                <a:lnTo>
                                  <a:pt x="67" y="473"/>
                                </a:lnTo>
                                <a:lnTo>
                                  <a:pt x="49" y="443"/>
                                </a:lnTo>
                                <a:lnTo>
                                  <a:pt x="32" y="413"/>
                                </a:lnTo>
                                <a:lnTo>
                                  <a:pt x="19" y="384"/>
                                </a:lnTo>
                                <a:lnTo>
                                  <a:pt x="13" y="365"/>
                                </a:lnTo>
                                <a:lnTo>
                                  <a:pt x="6" y="337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40004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6885" name=""/>
                          <p:cNvSpPr/>
                          <p:nvPr/>
                        </p:nvSpPr>
                        <p:spPr>
                          <a:xfrm>
                            <a:off x="1982880" y="1827720"/>
                            <a:ext cx="124920" cy="27576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503" h="898">
                                <a:moveTo>
                                  <a:pt x="0" y="500"/>
                                </a:moveTo>
                                <a:lnTo>
                                  <a:pt x="3" y="451"/>
                                </a:lnTo>
                                <a:lnTo>
                                  <a:pt x="13" y="398"/>
                                </a:lnTo>
                                <a:lnTo>
                                  <a:pt x="25" y="352"/>
                                </a:lnTo>
                                <a:lnTo>
                                  <a:pt x="38" y="305"/>
                                </a:lnTo>
                                <a:lnTo>
                                  <a:pt x="53" y="267"/>
                                </a:lnTo>
                                <a:lnTo>
                                  <a:pt x="74" y="230"/>
                                </a:lnTo>
                                <a:lnTo>
                                  <a:pt x="98" y="199"/>
                                </a:lnTo>
                                <a:lnTo>
                                  <a:pt x="126" y="167"/>
                                </a:lnTo>
                                <a:lnTo>
                                  <a:pt x="162" y="134"/>
                                </a:lnTo>
                                <a:lnTo>
                                  <a:pt x="202" y="103"/>
                                </a:lnTo>
                                <a:lnTo>
                                  <a:pt x="245" y="74"/>
                                </a:lnTo>
                                <a:lnTo>
                                  <a:pt x="287" y="49"/>
                                </a:lnTo>
                                <a:lnTo>
                                  <a:pt x="334" y="29"/>
                                </a:lnTo>
                                <a:lnTo>
                                  <a:pt x="376" y="15"/>
                                </a:lnTo>
                                <a:lnTo>
                                  <a:pt x="415" y="5"/>
                                </a:lnTo>
                                <a:lnTo>
                                  <a:pt x="448" y="0"/>
                                </a:lnTo>
                                <a:lnTo>
                                  <a:pt x="463" y="3"/>
                                </a:lnTo>
                                <a:lnTo>
                                  <a:pt x="481" y="11"/>
                                </a:lnTo>
                                <a:lnTo>
                                  <a:pt x="503" y="24"/>
                                </a:lnTo>
                                <a:lnTo>
                                  <a:pt x="480" y="28"/>
                                </a:lnTo>
                                <a:lnTo>
                                  <a:pt x="452" y="34"/>
                                </a:lnTo>
                                <a:lnTo>
                                  <a:pt x="425" y="40"/>
                                </a:lnTo>
                                <a:lnTo>
                                  <a:pt x="394" y="48"/>
                                </a:lnTo>
                                <a:lnTo>
                                  <a:pt x="370" y="57"/>
                                </a:lnTo>
                                <a:lnTo>
                                  <a:pt x="345" y="68"/>
                                </a:lnTo>
                                <a:lnTo>
                                  <a:pt x="319" y="82"/>
                                </a:lnTo>
                                <a:lnTo>
                                  <a:pt x="295" y="95"/>
                                </a:lnTo>
                                <a:lnTo>
                                  <a:pt x="272" y="108"/>
                                </a:lnTo>
                                <a:lnTo>
                                  <a:pt x="248" y="124"/>
                                </a:lnTo>
                                <a:lnTo>
                                  <a:pt x="222" y="141"/>
                                </a:lnTo>
                                <a:lnTo>
                                  <a:pt x="199" y="158"/>
                                </a:lnTo>
                                <a:lnTo>
                                  <a:pt x="177" y="174"/>
                                </a:lnTo>
                                <a:lnTo>
                                  <a:pt x="159" y="190"/>
                                </a:lnTo>
                                <a:lnTo>
                                  <a:pt x="141" y="210"/>
                                </a:lnTo>
                                <a:lnTo>
                                  <a:pt x="127" y="230"/>
                                </a:lnTo>
                                <a:lnTo>
                                  <a:pt x="115" y="254"/>
                                </a:lnTo>
                                <a:lnTo>
                                  <a:pt x="98" y="282"/>
                                </a:lnTo>
                                <a:lnTo>
                                  <a:pt x="84" y="308"/>
                                </a:lnTo>
                                <a:lnTo>
                                  <a:pt x="75" y="332"/>
                                </a:lnTo>
                                <a:lnTo>
                                  <a:pt x="67" y="354"/>
                                </a:lnTo>
                                <a:lnTo>
                                  <a:pt x="61" y="377"/>
                                </a:lnTo>
                                <a:lnTo>
                                  <a:pt x="56" y="402"/>
                                </a:lnTo>
                                <a:lnTo>
                                  <a:pt x="51" y="426"/>
                                </a:lnTo>
                                <a:lnTo>
                                  <a:pt x="48" y="457"/>
                                </a:lnTo>
                                <a:lnTo>
                                  <a:pt x="47" y="491"/>
                                </a:lnTo>
                                <a:lnTo>
                                  <a:pt x="48" y="519"/>
                                </a:lnTo>
                                <a:lnTo>
                                  <a:pt x="51" y="546"/>
                                </a:lnTo>
                                <a:lnTo>
                                  <a:pt x="59" y="575"/>
                                </a:lnTo>
                                <a:lnTo>
                                  <a:pt x="66" y="602"/>
                                </a:lnTo>
                                <a:lnTo>
                                  <a:pt x="76" y="628"/>
                                </a:lnTo>
                                <a:lnTo>
                                  <a:pt x="89" y="652"/>
                                </a:lnTo>
                                <a:lnTo>
                                  <a:pt x="103" y="676"/>
                                </a:lnTo>
                                <a:lnTo>
                                  <a:pt x="118" y="703"/>
                                </a:lnTo>
                                <a:lnTo>
                                  <a:pt x="133" y="731"/>
                                </a:lnTo>
                                <a:lnTo>
                                  <a:pt x="149" y="759"/>
                                </a:lnTo>
                                <a:lnTo>
                                  <a:pt x="166" y="785"/>
                                </a:lnTo>
                                <a:lnTo>
                                  <a:pt x="182" y="810"/>
                                </a:lnTo>
                                <a:lnTo>
                                  <a:pt x="203" y="839"/>
                                </a:lnTo>
                                <a:lnTo>
                                  <a:pt x="224" y="865"/>
                                </a:lnTo>
                                <a:lnTo>
                                  <a:pt x="214" y="883"/>
                                </a:lnTo>
                                <a:lnTo>
                                  <a:pt x="207" y="898"/>
                                </a:lnTo>
                                <a:lnTo>
                                  <a:pt x="188" y="884"/>
                                </a:lnTo>
                                <a:lnTo>
                                  <a:pt x="161" y="858"/>
                                </a:lnTo>
                                <a:lnTo>
                                  <a:pt x="136" y="827"/>
                                </a:lnTo>
                                <a:lnTo>
                                  <a:pt x="109" y="787"/>
                                </a:lnTo>
                                <a:lnTo>
                                  <a:pt x="78" y="738"/>
                                </a:lnTo>
                                <a:lnTo>
                                  <a:pt x="50" y="687"/>
                                </a:lnTo>
                                <a:lnTo>
                                  <a:pt x="31" y="648"/>
                                </a:lnTo>
                                <a:lnTo>
                                  <a:pt x="16" y="602"/>
                                </a:lnTo>
                                <a:lnTo>
                                  <a:pt x="4" y="549"/>
                                </a:lnTo>
                                <a:lnTo>
                                  <a:pt x="0" y="50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e000e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6886" name=""/>
                      <p:cNvGrpSpPr/>
                      <p:nvPr/>
                    </p:nvGrpSpPr>
                    <p:grpSpPr>
                      <a:xfrm>
                        <a:off x="2032200" y="2044800"/>
                        <a:ext cx="60480" cy="64800"/>
                        <a:chOff x="2032200" y="2044800"/>
                        <a:chExt cx="60480" cy="64800"/>
                      </a:xfrm>
                    </p:grpSpPr>
                    <p:sp>
                      <p:nvSpPr>
                        <p:cNvPr id="6887" name=""/>
                        <p:cNvSpPr/>
                        <p:nvPr/>
                      </p:nvSpPr>
                      <p:spPr>
                        <a:xfrm>
                          <a:off x="2032200" y="2044800"/>
                          <a:ext cx="60480" cy="648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44" h="210">
                              <a:moveTo>
                                <a:pt x="238" y="16"/>
                              </a:moveTo>
                              <a:lnTo>
                                <a:pt x="223" y="7"/>
                              </a:lnTo>
                              <a:lnTo>
                                <a:pt x="202" y="1"/>
                              </a:lnTo>
                              <a:lnTo>
                                <a:pt x="183" y="0"/>
                              </a:lnTo>
                              <a:lnTo>
                                <a:pt x="165" y="1"/>
                              </a:lnTo>
                              <a:lnTo>
                                <a:pt x="144" y="7"/>
                              </a:lnTo>
                              <a:lnTo>
                                <a:pt x="122" y="14"/>
                              </a:lnTo>
                              <a:lnTo>
                                <a:pt x="101" y="25"/>
                              </a:lnTo>
                              <a:lnTo>
                                <a:pt x="79" y="37"/>
                              </a:lnTo>
                              <a:lnTo>
                                <a:pt x="57" y="54"/>
                              </a:lnTo>
                              <a:lnTo>
                                <a:pt x="33" y="78"/>
                              </a:lnTo>
                              <a:lnTo>
                                <a:pt x="20" y="101"/>
                              </a:lnTo>
                              <a:lnTo>
                                <a:pt x="11" y="120"/>
                              </a:lnTo>
                              <a:lnTo>
                                <a:pt x="5" y="141"/>
                              </a:lnTo>
                              <a:lnTo>
                                <a:pt x="0" y="162"/>
                              </a:lnTo>
                              <a:lnTo>
                                <a:pt x="3" y="182"/>
                              </a:lnTo>
                              <a:lnTo>
                                <a:pt x="11" y="197"/>
                              </a:lnTo>
                              <a:lnTo>
                                <a:pt x="27" y="203"/>
                              </a:lnTo>
                              <a:lnTo>
                                <a:pt x="45" y="209"/>
                              </a:lnTo>
                              <a:lnTo>
                                <a:pt x="66" y="210"/>
                              </a:lnTo>
                              <a:lnTo>
                                <a:pt x="94" y="206"/>
                              </a:lnTo>
                              <a:lnTo>
                                <a:pt x="122" y="194"/>
                              </a:lnTo>
                              <a:lnTo>
                                <a:pt x="150" y="179"/>
                              </a:lnTo>
                              <a:lnTo>
                                <a:pt x="178" y="156"/>
                              </a:lnTo>
                              <a:lnTo>
                                <a:pt x="201" y="133"/>
                              </a:lnTo>
                              <a:lnTo>
                                <a:pt x="221" y="108"/>
                              </a:lnTo>
                              <a:lnTo>
                                <a:pt x="236" y="83"/>
                              </a:lnTo>
                              <a:lnTo>
                                <a:pt x="242" y="59"/>
                              </a:lnTo>
                              <a:lnTo>
                                <a:pt x="244" y="34"/>
                              </a:lnTo>
                              <a:lnTo>
                                <a:pt x="238" y="16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a000a0"/>
                        </a:solidFill>
                        <a:ln w="3240">
                          <a:solidFill>
                            <a:srgbClr val="20002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8000" bIns="18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888" name=""/>
                        <p:cNvSpPr/>
                        <p:nvPr/>
                      </p:nvSpPr>
                      <p:spPr>
                        <a:xfrm>
                          <a:off x="2039760" y="2054160"/>
                          <a:ext cx="45360" cy="475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82" h="155">
                              <a:moveTo>
                                <a:pt x="178" y="11"/>
                              </a:moveTo>
                              <a:lnTo>
                                <a:pt x="167" y="4"/>
                              </a:lnTo>
                              <a:lnTo>
                                <a:pt x="152" y="0"/>
                              </a:lnTo>
                              <a:lnTo>
                                <a:pt x="137" y="0"/>
                              </a:lnTo>
                              <a:lnTo>
                                <a:pt x="124" y="0"/>
                              </a:lnTo>
                              <a:lnTo>
                                <a:pt x="108" y="4"/>
                              </a:lnTo>
                              <a:lnTo>
                                <a:pt x="91" y="9"/>
                              </a:lnTo>
                              <a:lnTo>
                                <a:pt x="76" y="18"/>
                              </a:lnTo>
                              <a:lnTo>
                                <a:pt x="60" y="27"/>
                              </a:lnTo>
                              <a:lnTo>
                                <a:pt x="42" y="39"/>
                              </a:lnTo>
                              <a:lnTo>
                                <a:pt x="25" y="57"/>
                              </a:lnTo>
                              <a:lnTo>
                                <a:pt x="15" y="74"/>
                              </a:lnTo>
                              <a:lnTo>
                                <a:pt x="9" y="89"/>
                              </a:lnTo>
                              <a:lnTo>
                                <a:pt x="3" y="104"/>
                              </a:lnTo>
                              <a:lnTo>
                                <a:pt x="0" y="120"/>
                              </a:lnTo>
                              <a:lnTo>
                                <a:pt x="2" y="134"/>
                              </a:lnTo>
                              <a:lnTo>
                                <a:pt x="9" y="147"/>
                              </a:lnTo>
                              <a:lnTo>
                                <a:pt x="21" y="151"/>
                              </a:lnTo>
                              <a:lnTo>
                                <a:pt x="33" y="155"/>
                              </a:lnTo>
                              <a:lnTo>
                                <a:pt x="49" y="155"/>
                              </a:lnTo>
                              <a:lnTo>
                                <a:pt x="70" y="153"/>
                              </a:lnTo>
                              <a:lnTo>
                                <a:pt x="91" y="144"/>
                              </a:lnTo>
                              <a:lnTo>
                                <a:pt x="113" y="132"/>
                              </a:lnTo>
                              <a:lnTo>
                                <a:pt x="133" y="116"/>
                              </a:lnTo>
                              <a:lnTo>
                                <a:pt x="151" y="99"/>
                              </a:lnTo>
                              <a:lnTo>
                                <a:pt x="165" y="80"/>
                              </a:lnTo>
                              <a:lnTo>
                                <a:pt x="177" y="62"/>
                              </a:lnTo>
                              <a:lnTo>
                                <a:pt x="181" y="43"/>
                              </a:lnTo>
                              <a:lnTo>
                                <a:pt x="182" y="25"/>
                              </a:lnTo>
                              <a:lnTo>
                                <a:pt x="178" y="11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00060"/>
                        </a:solidFill>
                        <a:ln w="3240">
                          <a:solidFill>
                            <a:srgbClr val="20002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720" bIns="7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</p:grpSp>
              <p:grpSp>
                <p:nvGrpSpPr>
                  <p:cNvPr id="6889" name=""/>
                  <p:cNvGrpSpPr/>
                  <p:nvPr/>
                </p:nvGrpSpPr>
                <p:grpSpPr>
                  <a:xfrm>
                    <a:off x="1982880" y="1913760"/>
                    <a:ext cx="266400" cy="232560"/>
                    <a:chOff x="1982880" y="1913760"/>
                    <a:chExt cx="266400" cy="232560"/>
                  </a:xfrm>
                </p:grpSpPr>
                <p:grpSp>
                  <p:nvGrpSpPr>
                    <p:cNvPr id="6890" name=""/>
                    <p:cNvGrpSpPr/>
                    <p:nvPr/>
                  </p:nvGrpSpPr>
                  <p:grpSpPr>
                    <a:xfrm>
                      <a:off x="1982880" y="1913760"/>
                      <a:ext cx="266400" cy="215640"/>
                      <a:chOff x="1982880" y="1913760"/>
                      <a:chExt cx="266400" cy="215640"/>
                    </a:xfrm>
                  </p:grpSpPr>
                  <p:sp>
                    <p:nvSpPr>
                      <p:cNvPr id="6891" name=""/>
                      <p:cNvSpPr/>
                      <p:nvPr/>
                    </p:nvSpPr>
                    <p:spPr>
                      <a:xfrm>
                        <a:off x="1982880" y="1913760"/>
                        <a:ext cx="266400" cy="215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73" h="702">
                            <a:moveTo>
                              <a:pt x="680" y="5"/>
                            </a:moveTo>
                            <a:lnTo>
                              <a:pt x="713" y="1"/>
                            </a:lnTo>
                            <a:lnTo>
                              <a:pt x="751" y="0"/>
                            </a:lnTo>
                            <a:lnTo>
                              <a:pt x="789" y="1"/>
                            </a:lnTo>
                            <a:lnTo>
                              <a:pt x="835" y="4"/>
                            </a:lnTo>
                            <a:lnTo>
                              <a:pt x="876" y="6"/>
                            </a:lnTo>
                            <a:lnTo>
                              <a:pt x="911" y="8"/>
                            </a:lnTo>
                            <a:lnTo>
                              <a:pt x="947" y="11"/>
                            </a:lnTo>
                            <a:lnTo>
                              <a:pt x="975" y="14"/>
                            </a:lnTo>
                            <a:lnTo>
                              <a:pt x="999" y="20"/>
                            </a:lnTo>
                            <a:lnTo>
                              <a:pt x="1019" y="27"/>
                            </a:lnTo>
                            <a:lnTo>
                              <a:pt x="1035" y="37"/>
                            </a:lnTo>
                            <a:lnTo>
                              <a:pt x="1046" y="46"/>
                            </a:lnTo>
                            <a:lnTo>
                              <a:pt x="1058" y="58"/>
                            </a:lnTo>
                            <a:lnTo>
                              <a:pt x="1065" y="69"/>
                            </a:lnTo>
                            <a:lnTo>
                              <a:pt x="1070" y="87"/>
                            </a:lnTo>
                            <a:lnTo>
                              <a:pt x="1073" y="102"/>
                            </a:lnTo>
                            <a:lnTo>
                              <a:pt x="1072" y="122"/>
                            </a:lnTo>
                            <a:lnTo>
                              <a:pt x="1067" y="142"/>
                            </a:lnTo>
                            <a:lnTo>
                              <a:pt x="1062" y="155"/>
                            </a:lnTo>
                            <a:lnTo>
                              <a:pt x="1054" y="167"/>
                            </a:lnTo>
                            <a:lnTo>
                              <a:pt x="1043" y="175"/>
                            </a:lnTo>
                            <a:lnTo>
                              <a:pt x="1034" y="181"/>
                            </a:lnTo>
                            <a:lnTo>
                              <a:pt x="1024" y="186"/>
                            </a:lnTo>
                            <a:lnTo>
                              <a:pt x="1008" y="188"/>
                            </a:lnTo>
                            <a:lnTo>
                              <a:pt x="985" y="187"/>
                            </a:lnTo>
                            <a:lnTo>
                              <a:pt x="961" y="186"/>
                            </a:lnTo>
                            <a:lnTo>
                              <a:pt x="935" y="188"/>
                            </a:lnTo>
                            <a:lnTo>
                              <a:pt x="913" y="189"/>
                            </a:lnTo>
                            <a:lnTo>
                              <a:pt x="886" y="190"/>
                            </a:lnTo>
                            <a:lnTo>
                              <a:pt x="860" y="190"/>
                            </a:lnTo>
                            <a:lnTo>
                              <a:pt x="832" y="188"/>
                            </a:lnTo>
                            <a:lnTo>
                              <a:pt x="801" y="188"/>
                            </a:lnTo>
                            <a:lnTo>
                              <a:pt x="771" y="186"/>
                            </a:lnTo>
                            <a:lnTo>
                              <a:pt x="745" y="188"/>
                            </a:lnTo>
                            <a:lnTo>
                              <a:pt x="714" y="190"/>
                            </a:lnTo>
                            <a:lnTo>
                              <a:pt x="682" y="192"/>
                            </a:lnTo>
                            <a:lnTo>
                              <a:pt x="655" y="198"/>
                            </a:lnTo>
                            <a:lnTo>
                              <a:pt x="627" y="207"/>
                            </a:lnTo>
                            <a:lnTo>
                              <a:pt x="600" y="216"/>
                            </a:lnTo>
                            <a:lnTo>
                              <a:pt x="570" y="227"/>
                            </a:lnTo>
                            <a:lnTo>
                              <a:pt x="541" y="238"/>
                            </a:lnTo>
                            <a:lnTo>
                              <a:pt x="517" y="248"/>
                            </a:lnTo>
                            <a:lnTo>
                              <a:pt x="489" y="259"/>
                            </a:lnTo>
                            <a:lnTo>
                              <a:pt x="467" y="272"/>
                            </a:lnTo>
                            <a:lnTo>
                              <a:pt x="447" y="283"/>
                            </a:lnTo>
                            <a:lnTo>
                              <a:pt x="426" y="295"/>
                            </a:lnTo>
                            <a:lnTo>
                              <a:pt x="404" y="308"/>
                            </a:lnTo>
                            <a:lnTo>
                              <a:pt x="387" y="324"/>
                            </a:lnTo>
                            <a:lnTo>
                              <a:pt x="366" y="346"/>
                            </a:lnTo>
                            <a:lnTo>
                              <a:pt x="350" y="365"/>
                            </a:lnTo>
                            <a:lnTo>
                              <a:pt x="335" y="381"/>
                            </a:lnTo>
                            <a:lnTo>
                              <a:pt x="319" y="403"/>
                            </a:lnTo>
                            <a:lnTo>
                              <a:pt x="307" y="424"/>
                            </a:lnTo>
                            <a:lnTo>
                              <a:pt x="295" y="448"/>
                            </a:lnTo>
                            <a:lnTo>
                              <a:pt x="283" y="470"/>
                            </a:lnTo>
                            <a:lnTo>
                              <a:pt x="273" y="494"/>
                            </a:lnTo>
                            <a:lnTo>
                              <a:pt x="268" y="517"/>
                            </a:lnTo>
                            <a:lnTo>
                              <a:pt x="262" y="539"/>
                            </a:lnTo>
                            <a:lnTo>
                              <a:pt x="258" y="564"/>
                            </a:lnTo>
                            <a:lnTo>
                              <a:pt x="255" y="587"/>
                            </a:lnTo>
                            <a:lnTo>
                              <a:pt x="252" y="617"/>
                            </a:lnTo>
                            <a:lnTo>
                              <a:pt x="251" y="645"/>
                            </a:lnTo>
                            <a:lnTo>
                              <a:pt x="250" y="672"/>
                            </a:lnTo>
                            <a:lnTo>
                              <a:pt x="248" y="702"/>
                            </a:lnTo>
                            <a:lnTo>
                              <a:pt x="5" y="700"/>
                            </a:lnTo>
                            <a:lnTo>
                              <a:pt x="1" y="675"/>
                            </a:lnTo>
                            <a:lnTo>
                              <a:pt x="0" y="651"/>
                            </a:lnTo>
                            <a:lnTo>
                              <a:pt x="2" y="623"/>
                            </a:lnTo>
                            <a:lnTo>
                              <a:pt x="5" y="589"/>
                            </a:lnTo>
                            <a:lnTo>
                              <a:pt x="8" y="558"/>
                            </a:lnTo>
                            <a:lnTo>
                              <a:pt x="11" y="533"/>
                            </a:lnTo>
                            <a:lnTo>
                              <a:pt x="17" y="509"/>
                            </a:lnTo>
                            <a:lnTo>
                              <a:pt x="23" y="485"/>
                            </a:lnTo>
                            <a:lnTo>
                              <a:pt x="33" y="457"/>
                            </a:lnTo>
                            <a:lnTo>
                              <a:pt x="42" y="430"/>
                            </a:lnTo>
                            <a:lnTo>
                              <a:pt x="51" y="407"/>
                            </a:lnTo>
                            <a:lnTo>
                              <a:pt x="62" y="384"/>
                            </a:lnTo>
                            <a:lnTo>
                              <a:pt x="73" y="360"/>
                            </a:lnTo>
                            <a:lnTo>
                              <a:pt x="86" y="339"/>
                            </a:lnTo>
                            <a:lnTo>
                              <a:pt x="100" y="315"/>
                            </a:lnTo>
                            <a:lnTo>
                              <a:pt x="117" y="290"/>
                            </a:lnTo>
                            <a:lnTo>
                              <a:pt x="134" y="265"/>
                            </a:lnTo>
                            <a:lnTo>
                              <a:pt x="151" y="244"/>
                            </a:lnTo>
                            <a:lnTo>
                              <a:pt x="170" y="219"/>
                            </a:lnTo>
                            <a:lnTo>
                              <a:pt x="190" y="200"/>
                            </a:lnTo>
                            <a:lnTo>
                              <a:pt x="215" y="179"/>
                            </a:lnTo>
                            <a:lnTo>
                              <a:pt x="240" y="159"/>
                            </a:lnTo>
                            <a:lnTo>
                              <a:pt x="266" y="137"/>
                            </a:lnTo>
                            <a:lnTo>
                              <a:pt x="291" y="120"/>
                            </a:lnTo>
                            <a:lnTo>
                              <a:pt x="315" y="103"/>
                            </a:lnTo>
                            <a:lnTo>
                              <a:pt x="338" y="90"/>
                            </a:lnTo>
                            <a:lnTo>
                              <a:pt x="362" y="77"/>
                            </a:lnTo>
                            <a:lnTo>
                              <a:pt x="384" y="64"/>
                            </a:lnTo>
                            <a:lnTo>
                              <a:pt x="410" y="52"/>
                            </a:lnTo>
                            <a:lnTo>
                              <a:pt x="438" y="43"/>
                            </a:lnTo>
                            <a:lnTo>
                              <a:pt x="469" y="36"/>
                            </a:lnTo>
                            <a:lnTo>
                              <a:pt x="501" y="29"/>
                            </a:lnTo>
                            <a:lnTo>
                              <a:pt x="533" y="24"/>
                            </a:lnTo>
                            <a:lnTo>
                              <a:pt x="572" y="19"/>
                            </a:lnTo>
                            <a:lnTo>
                              <a:pt x="611" y="14"/>
                            </a:lnTo>
                            <a:lnTo>
                              <a:pt x="645" y="9"/>
                            </a:lnTo>
                            <a:lnTo>
                              <a:pt x="680" y="5"/>
                            </a:lnTo>
                            <a:close/>
                          </a:path>
                        </a:pathLst>
                      </a:custGeom>
                      <a:solidFill>
                        <a:srgbClr val="80008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6892" name=""/>
                      <p:cNvGrpSpPr/>
                      <p:nvPr/>
                    </p:nvGrpSpPr>
                    <p:grpSpPr>
                      <a:xfrm>
                        <a:off x="2003760" y="1927080"/>
                        <a:ext cx="244800" cy="201240"/>
                        <a:chOff x="2003760" y="1927080"/>
                        <a:chExt cx="244800" cy="201240"/>
                      </a:xfrm>
                    </p:grpSpPr>
                    <p:grpSp>
                      <p:nvGrpSpPr>
                        <p:cNvPr id="6893" name=""/>
                        <p:cNvGrpSpPr/>
                        <p:nvPr/>
                      </p:nvGrpSpPr>
                      <p:grpSpPr>
                        <a:xfrm>
                          <a:off x="2029680" y="1945440"/>
                          <a:ext cx="218880" cy="182880"/>
                          <a:chOff x="2029680" y="1945440"/>
                          <a:chExt cx="218880" cy="182880"/>
                        </a:xfrm>
                      </p:grpSpPr>
                      <p:sp>
                        <p:nvSpPr>
                          <p:cNvPr id="6894" name=""/>
                          <p:cNvSpPr/>
                          <p:nvPr/>
                        </p:nvSpPr>
                        <p:spPr>
                          <a:xfrm>
                            <a:off x="2029680" y="1945440"/>
                            <a:ext cx="218880" cy="1710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883" h="559">
                                <a:moveTo>
                                  <a:pt x="450" y="11"/>
                                </a:moveTo>
                                <a:lnTo>
                                  <a:pt x="463" y="8"/>
                                </a:lnTo>
                                <a:lnTo>
                                  <a:pt x="490" y="5"/>
                                </a:lnTo>
                                <a:lnTo>
                                  <a:pt x="522" y="3"/>
                                </a:lnTo>
                                <a:lnTo>
                                  <a:pt x="552" y="1"/>
                                </a:lnTo>
                                <a:lnTo>
                                  <a:pt x="580" y="2"/>
                                </a:lnTo>
                                <a:lnTo>
                                  <a:pt x="610" y="3"/>
                                </a:lnTo>
                                <a:lnTo>
                                  <a:pt x="641" y="4"/>
                                </a:lnTo>
                                <a:lnTo>
                                  <a:pt x="669" y="6"/>
                                </a:lnTo>
                                <a:lnTo>
                                  <a:pt x="699" y="4"/>
                                </a:lnTo>
                                <a:lnTo>
                                  <a:pt x="727" y="3"/>
                                </a:lnTo>
                                <a:lnTo>
                                  <a:pt x="760" y="1"/>
                                </a:lnTo>
                                <a:lnTo>
                                  <a:pt x="791" y="0"/>
                                </a:lnTo>
                                <a:lnTo>
                                  <a:pt x="816" y="1"/>
                                </a:lnTo>
                                <a:lnTo>
                                  <a:pt x="840" y="2"/>
                                </a:lnTo>
                                <a:lnTo>
                                  <a:pt x="866" y="3"/>
                                </a:lnTo>
                                <a:lnTo>
                                  <a:pt x="883" y="6"/>
                                </a:lnTo>
                                <a:lnTo>
                                  <a:pt x="881" y="20"/>
                                </a:lnTo>
                                <a:lnTo>
                                  <a:pt x="878" y="32"/>
                                </a:lnTo>
                                <a:lnTo>
                                  <a:pt x="875" y="43"/>
                                </a:lnTo>
                                <a:lnTo>
                                  <a:pt x="811" y="44"/>
                                </a:lnTo>
                                <a:lnTo>
                                  <a:pt x="795" y="46"/>
                                </a:lnTo>
                                <a:lnTo>
                                  <a:pt x="773" y="45"/>
                                </a:lnTo>
                                <a:lnTo>
                                  <a:pt x="748" y="44"/>
                                </a:lnTo>
                                <a:lnTo>
                                  <a:pt x="723" y="46"/>
                                </a:lnTo>
                                <a:lnTo>
                                  <a:pt x="700" y="48"/>
                                </a:lnTo>
                                <a:lnTo>
                                  <a:pt x="673" y="49"/>
                                </a:lnTo>
                                <a:lnTo>
                                  <a:pt x="649" y="49"/>
                                </a:lnTo>
                                <a:lnTo>
                                  <a:pt x="620" y="46"/>
                                </a:lnTo>
                                <a:lnTo>
                                  <a:pt x="589" y="46"/>
                                </a:lnTo>
                                <a:lnTo>
                                  <a:pt x="560" y="44"/>
                                </a:lnTo>
                                <a:lnTo>
                                  <a:pt x="532" y="46"/>
                                </a:lnTo>
                                <a:lnTo>
                                  <a:pt x="502" y="49"/>
                                </a:lnTo>
                                <a:lnTo>
                                  <a:pt x="470" y="51"/>
                                </a:lnTo>
                                <a:lnTo>
                                  <a:pt x="442" y="57"/>
                                </a:lnTo>
                                <a:lnTo>
                                  <a:pt x="415" y="66"/>
                                </a:lnTo>
                                <a:lnTo>
                                  <a:pt x="387" y="75"/>
                                </a:lnTo>
                                <a:lnTo>
                                  <a:pt x="357" y="86"/>
                                </a:lnTo>
                                <a:lnTo>
                                  <a:pt x="329" y="96"/>
                                </a:lnTo>
                                <a:lnTo>
                                  <a:pt x="304" y="106"/>
                                </a:lnTo>
                                <a:lnTo>
                                  <a:pt x="277" y="117"/>
                                </a:lnTo>
                                <a:lnTo>
                                  <a:pt x="255" y="130"/>
                                </a:lnTo>
                                <a:lnTo>
                                  <a:pt x="235" y="140"/>
                                </a:lnTo>
                                <a:lnTo>
                                  <a:pt x="214" y="152"/>
                                </a:lnTo>
                                <a:lnTo>
                                  <a:pt x="193" y="165"/>
                                </a:lnTo>
                                <a:lnTo>
                                  <a:pt x="175" y="181"/>
                                </a:lnTo>
                                <a:lnTo>
                                  <a:pt x="155" y="203"/>
                                </a:lnTo>
                                <a:lnTo>
                                  <a:pt x="139" y="222"/>
                                </a:lnTo>
                                <a:lnTo>
                                  <a:pt x="123" y="238"/>
                                </a:lnTo>
                                <a:lnTo>
                                  <a:pt x="108" y="260"/>
                                </a:lnTo>
                                <a:lnTo>
                                  <a:pt x="96" y="281"/>
                                </a:lnTo>
                                <a:lnTo>
                                  <a:pt x="83" y="305"/>
                                </a:lnTo>
                                <a:lnTo>
                                  <a:pt x="71" y="328"/>
                                </a:lnTo>
                                <a:lnTo>
                                  <a:pt x="62" y="351"/>
                                </a:lnTo>
                                <a:lnTo>
                                  <a:pt x="56" y="375"/>
                                </a:lnTo>
                                <a:lnTo>
                                  <a:pt x="50" y="398"/>
                                </a:lnTo>
                                <a:lnTo>
                                  <a:pt x="45" y="421"/>
                                </a:lnTo>
                                <a:lnTo>
                                  <a:pt x="42" y="444"/>
                                </a:lnTo>
                                <a:lnTo>
                                  <a:pt x="39" y="474"/>
                                </a:lnTo>
                                <a:lnTo>
                                  <a:pt x="38" y="502"/>
                                </a:lnTo>
                                <a:lnTo>
                                  <a:pt x="37" y="529"/>
                                </a:lnTo>
                                <a:lnTo>
                                  <a:pt x="35" y="559"/>
                                </a:lnTo>
                                <a:lnTo>
                                  <a:pt x="8" y="553"/>
                                </a:lnTo>
                                <a:lnTo>
                                  <a:pt x="5" y="525"/>
                                </a:lnTo>
                                <a:lnTo>
                                  <a:pt x="3" y="501"/>
                                </a:lnTo>
                                <a:lnTo>
                                  <a:pt x="0" y="475"/>
                                </a:lnTo>
                                <a:lnTo>
                                  <a:pt x="1" y="444"/>
                                </a:lnTo>
                                <a:lnTo>
                                  <a:pt x="4" y="415"/>
                                </a:lnTo>
                                <a:lnTo>
                                  <a:pt x="10" y="380"/>
                                </a:lnTo>
                                <a:lnTo>
                                  <a:pt x="15" y="355"/>
                                </a:lnTo>
                                <a:lnTo>
                                  <a:pt x="23" y="329"/>
                                </a:lnTo>
                                <a:lnTo>
                                  <a:pt x="31" y="305"/>
                                </a:lnTo>
                                <a:lnTo>
                                  <a:pt x="41" y="283"/>
                                </a:lnTo>
                                <a:lnTo>
                                  <a:pt x="54" y="262"/>
                                </a:lnTo>
                                <a:lnTo>
                                  <a:pt x="68" y="238"/>
                                </a:lnTo>
                                <a:lnTo>
                                  <a:pt x="85" y="215"/>
                                </a:lnTo>
                                <a:lnTo>
                                  <a:pt x="103" y="193"/>
                                </a:lnTo>
                                <a:lnTo>
                                  <a:pt x="122" y="173"/>
                                </a:lnTo>
                                <a:lnTo>
                                  <a:pt x="142" y="151"/>
                                </a:lnTo>
                                <a:lnTo>
                                  <a:pt x="163" y="132"/>
                                </a:lnTo>
                                <a:lnTo>
                                  <a:pt x="186" y="114"/>
                                </a:lnTo>
                                <a:lnTo>
                                  <a:pt x="211" y="99"/>
                                </a:lnTo>
                                <a:lnTo>
                                  <a:pt x="239" y="85"/>
                                </a:lnTo>
                                <a:lnTo>
                                  <a:pt x="270" y="69"/>
                                </a:lnTo>
                                <a:lnTo>
                                  <a:pt x="300" y="59"/>
                                </a:lnTo>
                                <a:lnTo>
                                  <a:pt x="332" y="46"/>
                                </a:lnTo>
                                <a:lnTo>
                                  <a:pt x="367" y="34"/>
                                </a:lnTo>
                                <a:lnTo>
                                  <a:pt x="396" y="24"/>
                                </a:lnTo>
                                <a:lnTo>
                                  <a:pt x="426" y="16"/>
                                </a:lnTo>
                                <a:lnTo>
                                  <a:pt x="450" y="11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c000c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6895" name=""/>
                          <p:cNvSpPr/>
                          <p:nvPr/>
                        </p:nvSpPr>
                        <p:spPr>
                          <a:xfrm>
                            <a:off x="2035800" y="1956240"/>
                            <a:ext cx="210240" cy="1720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854" h="560">
                                <a:moveTo>
                                  <a:pt x="450" y="12"/>
                                </a:moveTo>
                                <a:lnTo>
                                  <a:pt x="462" y="8"/>
                                </a:lnTo>
                                <a:lnTo>
                                  <a:pt x="490" y="6"/>
                                </a:lnTo>
                                <a:lnTo>
                                  <a:pt x="522" y="4"/>
                                </a:lnTo>
                                <a:lnTo>
                                  <a:pt x="550" y="2"/>
                                </a:lnTo>
                                <a:lnTo>
                                  <a:pt x="580" y="3"/>
                                </a:lnTo>
                                <a:lnTo>
                                  <a:pt x="610" y="4"/>
                                </a:lnTo>
                                <a:lnTo>
                                  <a:pt x="640" y="5"/>
                                </a:lnTo>
                                <a:lnTo>
                                  <a:pt x="669" y="7"/>
                                </a:lnTo>
                                <a:lnTo>
                                  <a:pt x="698" y="5"/>
                                </a:lnTo>
                                <a:lnTo>
                                  <a:pt x="726" y="4"/>
                                </a:lnTo>
                                <a:lnTo>
                                  <a:pt x="760" y="2"/>
                                </a:lnTo>
                                <a:lnTo>
                                  <a:pt x="791" y="1"/>
                                </a:lnTo>
                                <a:lnTo>
                                  <a:pt x="815" y="2"/>
                                </a:lnTo>
                                <a:lnTo>
                                  <a:pt x="840" y="3"/>
                                </a:lnTo>
                                <a:lnTo>
                                  <a:pt x="854" y="0"/>
                                </a:lnTo>
                                <a:lnTo>
                                  <a:pt x="849" y="13"/>
                                </a:lnTo>
                                <a:lnTo>
                                  <a:pt x="841" y="25"/>
                                </a:lnTo>
                                <a:lnTo>
                                  <a:pt x="830" y="34"/>
                                </a:lnTo>
                                <a:lnTo>
                                  <a:pt x="821" y="40"/>
                                </a:lnTo>
                                <a:lnTo>
                                  <a:pt x="811" y="45"/>
                                </a:lnTo>
                                <a:lnTo>
                                  <a:pt x="795" y="47"/>
                                </a:lnTo>
                                <a:lnTo>
                                  <a:pt x="772" y="46"/>
                                </a:lnTo>
                                <a:lnTo>
                                  <a:pt x="748" y="45"/>
                                </a:lnTo>
                                <a:lnTo>
                                  <a:pt x="722" y="47"/>
                                </a:lnTo>
                                <a:lnTo>
                                  <a:pt x="700" y="48"/>
                                </a:lnTo>
                                <a:lnTo>
                                  <a:pt x="673" y="50"/>
                                </a:lnTo>
                                <a:lnTo>
                                  <a:pt x="647" y="50"/>
                                </a:lnTo>
                                <a:lnTo>
                                  <a:pt x="620" y="47"/>
                                </a:lnTo>
                                <a:lnTo>
                                  <a:pt x="588" y="47"/>
                                </a:lnTo>
                                <a:lnTo>
                                  <a:pt x="558" y="45"/>
                                </a:lnTo>
                                <a:lnTo>
                                  <a:pt x="532" y="47"/>
                                </a:lnTo>
                                <a:lnTo>
                                  <a:pt x="501" y="50"/>
                                </a:lnTo>
                                <a:lnTo>
                                  <a:pt x="469" y="51"/>
                                </a:lnTo>
                                <a:lnTo>
                                  <a:pt x="442" y="57"/>
                                </a:lnTo>
                                <a:lnTo>
                                  <a:pt x="414" y="66"/>
                                </a:lnTo>
                                <a:lnTo>
                                  <a:pt x="387" y="75"/>
                                </a:lnTo>
                                <a:lnTo>
                                  <a:pt x="357" y="86"/>
                                </a:lnTo>
                                <a:lnTo>
                                  <a:pt x="328" y="97"/>
                                </a:lnTo>
                                <a:lnTo>
                                  <a:pt x="304" y="107"/>
                                </a:lnTo>
                                <a:lnTo>
                                  <a:pt x="276" y="118"/>
                                </a:lnTo>
                                <a:lnTo>
                                  <a:pt x="254" y="131"/>
                                </a:lnTo>
                                <a:lnTo>
                                  <a:pt x="234" y="141"/>
                                </a:lnTo>
                                <a:lnTo>
                                  <a:pt x="214" y="153"/>
                                </a:lnTo>
                                <a:lnTo>
                                  <a:pt x="192" y="166"/>
                                </a:lnTo>
                                <a:lnTo>
                                  <a:pt x="175" y="182"/>
                                </a:lnTo>
                                <a:lnTo>
                                  <a:pt x="154" y="204"/>
                                </a:lnTo>
                                <a:lnTo>
                                  <a:pt x="138" y="223"/>
                                </a:lnTo>
                                <a:lnTo>
                                  <a:pt x="123" y="239"/>
                                </a:lnTo>
                                <a:lnTo>
                                  <a:pt x="107" y="261"/>
                                </a:lnTo>
                                <a:lnTo>
                                  <a:pt x="95" y="282"/>
                                </a:lnTo>
                                <a:lnTo>
                                  <a:pt x="83" y="306"/>
                                </a:lnTo>
                                <a:lnTo>
                                  <a:pt x="71" y="328"/>
                                </a:lnTo>
                                <a:lnTo>
                                  <a:pt x="61" y="352"/>
                                </a:lnTo>
                                <a:lnTo>
                                  <a:pt x="55" y="375"/>
                                </a:lnTo>
                                <a:lnTo>
                                  <a:pt x="49" y="398"/>
                                </a:lnTo>
                                <a:lnTo>
                                  <a:pt x="45" y="422"/>
                                </a:lnTo>
                                <a:lnTo>
                                  <a:pt x="42" y="445"/>
                                </a:lnTo>
                                <a:lnTo>
                                  <a:pt x="39" y="475"/>
                                </a:lnTo>
                                <a:lnTo>
                                  <a:pt x="38" y="503"/>
                                </a:lnTo>
                                <a:lnTo>
                                  <a:pt x="37" y="530"/>
                                </a:lnTo>
                                <a:lnTo>
                                  <a:pt x="35" y="560"/>
                                </a:lnTo>
                                <a:lnTo>
                                  <a:pt x="7" y="554"/>
                                </a:lnTo>
                                <a:lnTo>
                                  <a:pt x="4" y="526"/>
                                </a:lnTo>
                                <a:lnTo>
                                  <a:pt x="2" y="502"/>
                                </a:lnTo>
                                <a:lnTo>
                                  <a:pt x="0" y="476"/>
                                </a:lnTo>
                                <a:lnTo>
                                  <a:pt x="1" y="445"/>
                                </a:lnTo>
                                <a:lnTo>
                                  <a:pt x="3" y="416"/>
                                </a:lnTo>
                                <a:lnTo>
                                  <a:pt x="9" y="380"/>
                                </a:lnTo>
                                <a:lnTo>
                                  <a:pt x="14" y="356"/>
                                </a:lnTo>
                                <a:lnTo>
                                  <a:pt x="22" y="330"/>
                                </a:lnTo>
                                <a:lnTo>
                                  <a:pt x="31" y="306"/>
                                </a:lnTo>
                                <a:lnTo>
                                  <a:pt x="41" y="284"/>
                                </a:lnTo>
                                <a:lnTo>
                                  <a:pt x="53" y="263"/>
                                </a:lnTo>
                                <a:lnTo>
                                  <a:pt x="67" y="239"/>
                                </a:lnTo>
                                <a:lnTo>
                                  <a:pt x="85" y="216"/>
                                </a:lnTo>
                                <a:lnTo>
                                  <a:pt x="102" y="194"/>
                                </a:lnTo>
                                <a:lnTo>
                                  <a:pt x="122" y="174"/>
                                </a:lnTo>
                                <a:lnTo>
                                  <a:pt x="141" y="152"/>
                                </a:lnTo>
                                <a:lnTo>
                                  <a:pt x="163" y="133"/>
                                </a:lnTo>
                                <a:lnTo>
                                  <a:pt x="185" y="115"/>
                                </a:lnTo>
                                <a:lnTo>
                                  <a:pt x="211" y="100"/>
                                </a:lnTo>
                                <a:lnTo>
                                  <a:pt x="237" y="85"/>
                                </a:lnTo>
                                <a:lnTo>
                                  <a:pt x="270" y="69"/>
                                </a:lnTo>
                                <a:lnTo>
                                  <a:pt x="300" y="59"/>
                                </a:lnTo>
                                <a:lnTo>
                                  <a:pt x="331" y="47"/>
                                </a:lnTo>
                                <a:lnTo>
                                  <a:pt x="366" y="35"/>
                                </a:lnTo>
                                <a:lnTo>
                                  <a:pt x="396" y="25"/>
                                </a:lnTo>
                                <a:lnTo>
                                  <a:pt x="425" y="17"/>
                                </a:lnTo>
                                <a:lnTo>
                                  <a:pt x="450" y="12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60006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6896" name=""/>
                        <p:cNvSpPr/>
                        <p:nvPr/>
                      </p:nvSpPr>
                      <p:spPr>
                        <a:xfrm>
                          <a:off x="2003760" y="1927080"/>
                          <a:ext cx="222840" cy="1677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901" h="544">
                              <a:moveTo>
                                <a:pt x="901" y="6"/>
                              </a:moveTo>
                              <a:lnTo>
                                <a:pt x="865" y="3"/>
                              </a:lnTo>
                              <a:lnTo>
                                <a:pt x="836" y="2"/>
                              </a:lnTo>
                              <a:lnTo>
                                <a:pt x="796" y="1"/>
                              </a:lnTo>
                              <a:lnTo>
                                <a:pt x="756" y="0"/>
                              </a:lnTo>
                              <a:lnTo>
                                <a:pt x="709" y="1"/>
                              </a:lnTo>
                              <a:lnTo>
                                <a:pt x="660" y="2"/>
                              </a:lnTo>
                              <a:lnTo>
                                <a:pt x="615" y="4"/>
                              </a:lnTo>
                              <a:lnTo>
                                <a:pt x="578" y="7"/>
                              </a:lnTo>
                              <a:lnTo>
                                <a:pt x="536" y="12"/>
                              </a:lnTo>
                              <a:lnTo>
                                <a:pt x="490" y="18"/>
                              </a:lnTo>
                              <a:lnTo>
                                <a:pt x="461" y="24"/>
                              </a:lnTo>
                              <a:lnTo>
                                <a:pt x="437" y="31"/>
                              </a:lnTo>
                              <a:lnTo>
                                <a:pt x="411" y="37"/>
                              </a:lnTo>
                              <a:lnTo>
                                <a:pt x="385" y="45"/>
                              </a:lnTo>
                              <a:lnTo>
                                <a:pt x="357" y="55"/>
                              </a:lnTo>
                              <a:lnTo>
                                <a:pt x="326" y="70"/>
                              </a:lnTo>
                              <a:lnTo>
                                <a:pt x="299" y="82"/>
                              </a:lnTo>
                              <a:lnTo>
                                <a:pt x="274" y="94"/>
                              </a:lnTo>
                              <a:lnTo>
                                <a:pt x="254" y="107"/>
                              </a:lnTo>
                              <a:lnTo>
                                <a:pt x="233" y="123"/>
                              </a:lnTo>
                              <a:lnTo>
                                <a:pt x="212" y="139"/>
                              </a:lnTo>
                              <a:lnTo>
                                <a:pt x="186" y="160"/>
                              </a:lnTo>
                              <a:lnTo>
                                <a:pt x="163" y="180"/>
                              </a:lnTo>
                              <a:lnTo>
                                <a:pt x="146" y="196"/>
                              </a:lnTo>
                              <a:lnTo>
                                <a:pt x="130" y="212"/>
                              </a:lnTo>
                              <a:lnTo>
                                <a:pt x="112" y="231"/>
                              </a:lnTo>
                              <a:lnTo>
                                <a:pt x="96" y="246"/>
                              </a:lnTo>
                              <a:lnTo>
                                <a:pt x="81" y="266"/>
                              </a:lnTo>
                              <a:lnTo>
                                <a:pt x="69" y="287"/>
                              </a:lnTo>
                              <a:lnTo>
                                <a:pt x="56" y="315"/>
                              </a:lnTo>
                              <a:lnTo>
                                <a:pt x="43" y="343"/>
                              </a:lnTo>
                              <a:lnTo>
                                <a:pt x="33" y="369"/>
                              </a:lnTo>
                              <a:lnTo>
                                <a:pt x="24" y="394"/>
                              </a:lnTo>
                              <a:lnTo>
                                <a:pt x="17" y="419"/>
                              </a:lnTo>
                              <a:lnTo>
                                <a:pt x="9" y="451"/>
                              </a:lnTo>
                              <a:lnTo>
                                <a:pt x="5" y="480"/>
                              </a:lnTo>
                              <a:lnTo>
                                <a:pt x="1" y="509"/>
                              </a:lnTo>
                              <a:lnTo>
                                <a:pt x="0" y="544"/>
                              </a:lnTo>
                            </a:path>
                          </a:pathLst>
                        </a:custGeom>
                        <a:noFill/>
                        <a:ln w="4680">
                          <a:solidFill>
                            <a:srgbClr val="ffc0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6897" name=""/>
                    <p:cNvGrpSpPr/>
                    <p:nvPr/>
                  </p:nvGrpSpPr>
                  <p:grpSpPr>
                    <a:xfrm>
                      <a:off x="1983960" y="2109600"/>
                      <a:ext cx="59400" cy="36720"/>
                      <a:chOff x="1983960" y="2109600"/>
                      <a:chExt cx="59400" cy="36720"/>
                    </a:xfrm>
                  </p:grpSpPr>
                  <p:sp>
                    <p:nvSpPr>
                      <p:cNvPr id="6898" name=""/>
                      <p:cNvSpPr/>
                      <p:nvPr/>
                    </p:nvSpPr>
                    <p:spPr>
                      <a:xfrm>
                        <a:off x="1983960" y="2109600"/>
                        <a:ext cx="59400" cy="36720"/>
                      </a:xfrm>
                      <a:prstGeom prst="ellipse">
                        <a:avLst/>
                      </a:prstGeom>
                      <a:solidFill>
                        <a:srgbClr val="ff00ff"/>
                      </a:solidFill>
                      <a:ln w="3240">
                        <a:solidFill>
                          <a:srgbClr val="40004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0880" bIns="-20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899" name=""/>
                      <p:cNvSpPr/>
                      <p:nvPr/>
                    </p:nvSpPr>
                    <p:spPr>
                      <a:xfrm>
                        <a:off x="1989000" y="2113920"/>
                        <a:ext cx="48240" cy="27360"/>
                      </a:xfrm>
                      <a:prstGeom prst="ellipse">
                        <a:avLst/>
                      </a:prstGeom>
                      <a:solidFill>
                        <a:srgbClr val="600060"/>
                      </a:solidFill>
                      <a:ln w="3240">
                        <a:solidFill>
                          <a:srgbClr val="40004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360" bIns="-273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</p:grpSp>
          <p:grpSp>
            <p:nvGrpSpPr>
              <p:cNvPr id="6900" name=""/>
              <p:cNvGrpSpPr/>
              <p:nvPr/>
            </p:nvGrpSpPr>
            <p:grpSpPr>
              <a:xfrm>
                <a:off x="1905120" y="2083680"/>
                <a:ext cx="101520" cy="385200"/>
                <a:chOff x="1905120" y="2083680"/>
                <a:chExt cx="101520" cy="385200"/>
              </a:xfrm>
            </p:grpSpPr>
            <p:grpSp>
              <p:nvGrpSpPr>
                <p:cNvPr id="6901" name=""/>
                <p:cNvGrpSpPr/>
                <p:nvPr/>
              </p:nvGrpSpPr>
              <p:grpSpPr>
                <a:xfrm>
                  <a:off x="1905120" y="2098800"/>
                  <a:ext cx="101520" cy="370080"/>
                  <a:chOff x="1905120" y="2098800"/>
                  <a:chExt cx="101520" cy="370080"/>
                </a:xfrm>
              </p:grpSpPr>
              <p:sp>
                <p:nvSpPr>
                  <p:cNvPr id="6902" name=""/>
                  <p:cNvSpPr/>
                  <p:nvPr/>
                </p:nvSpPr>
                <p:spPr>
                  <a:xfrm>
                    <a:off x="1905120" y="2098800"/>
                    <a:ext cx="101520" cy="370080"/>
                  </a:xfrm>
                  <a:custGeom>
                    <a:avLst/>
                    <a:gdLst/>
                    <a:ahLst/>
                    <a:rect l="l" t="t" r="r" b="b"/>
                    <a:pathLst>
                      <a:path w="410" h="1199">
                        <a:moveTo>
                          <a:pt x="270" y="0"/>
                        </a:moveTo>
                        <a:lnTo>
                          <a:pt x="0" y="18"/>
                        </a:lnTo>
                        <a:lnTo>
                          <a:pt x="3" y="47"/>
                        </a:lnTo>
                        <a:lnTo>
                          <a:pt x="9" y="79"/>
                        </a:lnTo>
                        <a:lnTo>
                          <a:pt x="16" y="113"/>
                        </a:lnTo>
                        <a:lnTo>
                          <a:pt x="22" y="152"/>
                        </a:lnTo>
                        <a:lnTo>
                          <a:pt x="31" y="198"/>
                        </a:lnTo>
                        <a:lnTo>
                          <a:pt x="41" y="242"/>
                        </a:lnTo>
                        <a:lnTo>
                          <a:pt x="49" y="279"/>
                        </a:lnTo>
                        <a:lnTo>
                          <a:pt x="58" y="315"/>
                        </a:lnTo>
                        <a:lnTo>
                          <a:pt x="66" y="354"/>
                        </a:lnTo>
                        <a:lnTo>
                          <a:pt x="75" y="397"/>
                        </a:lnTo>
                        <a:lnTo>
                          <a:pt x="83" y="442"/>
                        </a:lnTo>
                        <a:lnTo>
                          <a:pt x="92" y="490"/>
                        </a:lnTo>
                        <a:lnTo>
                          <a:pt x="97" y="517"/>
                        </a:lnTo>
                        <a:lnTo>
                          <a:pt x="101" y="552"/>
                        </a:lnTo>
                        <a:lnTo>
                          <a:pt x="106" y="593"/>
                        </a:lnTo>
                        <a:lnTo>
                          <a:pt x="110" y="631"/>
                        </a:lnTo>
                        <a:lnTo>
                          <a:pt x="117" y="679"/>
                        </a:lnTo>
                        <a:lnTo>
                          <a:pt x="123" y="729"/>
                        </a:lnTo>
                        <a:lnTo>
                          <a:pt x="127" y="769"/>
                        </a:lnTo>
                        <a:lnTo>
                          <a:pt x="128" y="809"/>
                        </a:lnTo>
                        <a:lnTo>
                          <a:pt x="130" y="843"/>
                        </a:lnTo>
                        <a:lnTo>
                          <a:pt x="133" y="887"/>
                        </a:lnTo>
                        <a:lnTo>
                          <a:pt x="135" y="932"/>
                        </a:lnTo>
                        <a:lnTo>
                          <a:pt x="133" y="974"/>
                        </a:lnTo>
                        <a:lnTo>
                          <a:pt x="134" y="1024"/>
                        </a:lnTo>
                        <a:lnTo>
                          <a:pt x="136" y="1054"/>
                        </a:lnTo>
                        <a:lnTo>
                          <a:pt x="134" y="1079"/>
                        </a:lnTo>
                        <a:lnTo>
                          <a:pt x="132" y="1110"/>
                        </a:lnTo>
                        <a:lnTo>
                          <a:pt x="133" y="1131"/>
                        </a:lnTo>
                        <a:lnTo>
                          <a:pt x="138" y="1145"/>
                        </a:lnTo>
                        <a:lnTo>
                          <a:pt x="146" y="1159"/>
                        </a:lnTo>
                        <a:lnTo>
                          <a:pt x="158" y="1170"/>
                        </a:lnTo>
                        <a:lnTo>
                          <a:pt x="175" y="1178"/>
                        </a:lnTo>
                        <a:lnTo>
                          <a:pt x="191" y="1183"/>
                        </a:lnTo>
                        <a:lnTo>
                          <a:pt x="212" y="1190"/>
                        </a:lnTo>
                        <a:lnTo>
                          <a:pt x="240" y="1195"/>
                        </a:lnTo>
                        <a:lnTo>
                          <a:pt x="266" y="1196"/>
                        </a:lnTo>
                        <a:lnTo>
                          <a:pt x="292" y="1198"/>
                        </a:lnTo>
                        <a:lnTo>
                          <a:pt x="315" y="1199"/>
                        </a:lnTo>
                        <a:lnTo>
                          <a:pt x="336" y="1197"/>
                        </a:lnTo>
                        <a:lnTo>
                          <a:pt x="354" y="1194"/>
                        </a:lnTo>
                        <a:lnTo>
                          <a:pt x="373" y="1187"/>
                        </a:lnTo>
                        <a:lnTo>
                          <a:pt x="385" y="1180"/>
                        </a:lnTo>
                        <a:lnTo>
                          <a:pt x="396" y="1173"/>
                        </a:lnTo>
                        <a:lnTo>
                          <a:pt x="404" y="1164"/>
                        </a:lnTo>
                        <a:lnTo>
                          <a:pt x="406" y="1154"/>
                        </a:lnTo>
                        <a:lnTo>
                          <a:pt x="404" y="1123"/>
                        </a:lnTo>
                        <a:lnTo>
                          <a:pt x="402" y="1093"/>
                        </a:lnTo>
                        <a:lnTo>
                          <a:pt x="404" y="1053"/>
                        </a:lnTo>
                        <a:lnTo>
                          <a:pt x="407" y="1022"/>
                        </a:lnTo>
                        <a:lnTo>
                          <a:pt x="410" y="995"/>
                        </a:lnTo>
                        <a:lnTo>
                          <a:pt x="408" y="968"/>
                        </a:lnTo>
                        <a:lnTo>
                          <a:pt x="406" y="932"/>
                        </a:lnTo>
                        <a:lnTo>
                          <a:pt x="405" y="906"/>
                        </a:lnTo>
                        <a:lnTo>
                          <a:pt x="403" y="878"/>
                        </a:lnTo>
                        <a:lnTo>
                          <a:pt x="398" y="851"/>
                        </a:lnTo>
                        <a:lnTo>
                          <a:pt x="393" y="821"/>
                        </a:lnTo>
                        <a:lnTo>
                          <a:pt x="392" y="785"/>
                        </a:lnTo>
                        <a:lnTo>
                          <a:pt x="390" y="756"/>
                        </a:lnTo>
                        <a:lnTo>
                          <a:pt x="389" y="719"/>
                        </a:lnTo>
                        <a:lnTo>
                          <a:pt x="387" y="681"/>
                        </a:lnTo>
                        <a:lnTo>
                          <a:pt x="384" y="642"/>
                        </a:lnTo>
                        <a:lnTo>
                          <a:pt x="379" y="598"/>
                        </a:lnTo>
                        <a:lnTo>
                          <a:pt x="375" y="556"/>
                        </a:lnTo>
                        <a:lnTo>
                          <a:pt x="371" y="517"/>
                        </a:lnTo>
                        <a:lnTo>
                          <a:pt x="367" y="487"/>
                        </a:lnTo>
                        <a:lnTo>
                          <a:pt x="362" y="454"/>
                        </a:lnTo>
                        <a:lnTo>
                          <a:pt x="358" y="422"/>
                        </a:lnTo>
                        <a:lnTo>
                          <a:pt x="353" y="387"/>
                        </a:lnTo>
                        <a:lnTo>
                          <a:pt x="347" y="351"/>
                        </a:lnTo>
                        <a:lnTo>
                          <a:pt x="341" y="311"/>
                        </a:lnTo>
                        <a:lnTo>
                          <a:pt x="335" y="276"/>
                        </a:lnTo>
                        <a:lnTo>
                          <a:pt x="325" y="232"/>
                        </a:lnTo>
                        <a:lnTo>
                          <a:pt x="316" y="190"/>
                        </a:lnTo>
                        <a:lnTo>
                          <a:pt x="307" y="137"/>
                        </a:lnTo>
                        <a:lnTo>
                          <a:pt x="294" y="81"/>
                        </a:lnTo>
                        <a:lnTo>
                          <a:pt x="283" y="37"/>
                        </a:lnTo>
                        <a:lnTo>
                          <a:pt x="270" y="0"/>
                        </a:lnTo>
                        <a:close/>
                      </a:path>
                    </a:pathLst>
                  </a:custGeom>
                  <a:solidFill>
                    <a:srgbClr val="0000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903" name=""/>
                  <p:cNvGrpSpPr/>
                  <p:nvPr/>
                </p:nvGrpSpPr>
                <p:grpSpPr>
                  <a:xfrm>
                    <a:off x="1905120" y="2098800"/>
                    <a:ext cx="101520" cy="368640"/>
                    <a:chOff x="1905120" y="2098800"/>
                    <a:chExt cx="101520" cy="368640"/>
                  </a:xfrm>
                </p:grpSpPr>
                <p:grpSp>
                  <p:nvGrpSpPr>
                    <p:cNvPr id="6904" name=""/>
                    <p:cNvGrpSpPr/>
                    <p:nvPr/>
                  </p:nvGrpSpPr>
                  <p:grpSpPr>
                    <a:xfrm>
                      <a:off x="1905120" y="2098800"/>
                      <a:ext cx="101520" cy="368640"/>
                      <a:chOff x="1905120" y="2098800"/>
                      <a:chExt cx="101520" cy="368640"/>
                    </a:xfrm>
                  </p:grpSpPr>
                  <p:grpSp>
                    <p:nvGrpSpPr>
                      <p:cNvPr id="6905" name=""/>
                      <p:cNvGrpSpPr/>
                      <p:nvPr/>
                    </p:nvGrpSpPr>
                    <p:grpSpPr>
                      <a:xfrm>
                        <a:off x="1905120" y="2098800"/>
                        <a:ext cx="101520" cy="368640"/>
                        <a:chOff x="1905120" y="2098800"/>
                        <a:chExt cx="101520" cy="368640"/>
                      </a:xfrm>
                    </p:grpSpPr>
                    <p:sp>
                      <p:nvSpPr>
                        <p:cNvPr id="6906" name=""/>
                        <p:cNvSpPr/>
                        <p:nvPr/>
                      </p:nvSpPr>
                      <p:spPr>
                        <a:xfrm>
                          <a:off x="1905120" y="2104560"/>
                          <a:ext cx="44280" cy="3549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81" h="1152">
                              <a:moveTo>
                                <a:pt x="55" y="70"/>
                              </a:moveTo>
                              <a:lnTo>
                                <a:pt x="41" y="28"/>
                              </a:lnTo>
                              <a:lnTo>
                                <a:pt x="0" y="0"/>
                              </a:lnTo>
                              <a:lnTo>
                                <a:pt x="3" y="29"/>
                              </a:lnTo>
                              <a:lnTo>
                                <a:pt x="9" y="61"/>
                              </a:lnTo>
                              <a:lnTo>
                                <a:pt x="16" y="95"/>
                              </a:lnTo>
                              <a:lnTo>
                                <a:pt x="22" y="134"/>
                              </a:lnTo>
                              <a:lnTo>
                                <a:pt x="31" y="180"/>
                              </a:lnTo>
                              <a:lnTo>
                                <a:pt x="41" y="224"/>
                              </a:lnTo>
                              <a:lnTo>
                                <a:pt x="48" y="261"/>
                              </a:lnTo>
                              <a:lnTo>
                                <a:pt x="56" y="297"/>
                              </a:lnTo>
                              <a:lnTo>
                                <a:pt x="65" y="336"/>
                              </a:lnTo>
                              <a:lnTo>
                                <a:pt x="74" y="379"/>
                              </a:lnTo>
                              <a:lnTo>
                                <a:pt x="82" y="424"/>
                              </a:lnTo>
                              <a:lnTo>
                                <a:pt x="91" y="472"/>
                              </a:lnTo>
                              <a:lnTo>
                                <a:pt x="96" y="499"/>
                              </a:lnTo>
                              <a:lnTo>
                                <a:pt x="100" y="534"/>
                              </a:lnTo>
                              <a:lnTo>
                                <a:pt x="106" y="575"/>
                              </a:lnTo>
                              <a:lnTo>
                                <a:pt x="110" y="613"/>
                              </a:lnTo>
                              <a:lnTo>
                                <a:pt x="117" y="661"/>
                              </a:lnTo>
                              <a:lnTo>
                                <a:pt x="123" y="711"/>
                              </a:lnTo>
                              <a:lnTo>
                                <a:pt x="127" y="751"/>
                              </a:lnTo>
                              <a:lnTo>
                                <a:pt x="128" y="791"/>
                              </a:lnTo>
                              <a:lnTo>
                                <a:pt x="130" y="825"/>
                              </a:lnTo>
                              <a:lnTo>
                                <a:pt x="133" y="868"/>
                              </a:lnTo>
                              <a:lnTo>
                                <a:pt x="135" y="914"/>
                              </a:lnTo>
                              <a:lnTo>
                                <a:pt x="133" y="956"/>
                              </a:lnTo>
                              <a:lnTo>
                                <a:pt x="134" y="1006"/>
                              </a:lnTo>
                              <a:lnTo>
                                <a:pt x="136" y="1036"/>
                              </a:lnTo>
                              <a:lnTo>
                                <a:pt x="134" y="1061"/>
                              </a:lnTo>
                              <a:lnTo>
                                <a:pt x="132" y="1091"/>
                              </a:lnTo>
                              <a:lnTo>
                                <a:pt x="133" y="1113"/>
                              </a:lnTo>
                              <a:lnTo>
                                <a:pt x="137" y="1127"/>
                              </a:lnTo>
                              <a:lnTo>
                                <a:pt x="145" y="1141"/>
                              </a:lnTo>
                              <a:lnTo>
                                <a:pt x="157" y="1152"/>
                              </a:lnTo>
                              <a:lnTo>
                                <a:pt x="163" y="1122"/>
                              </a:lnTo>
                              <a:lnTo>
                                <a:pt x="166" y="1088"/>
                              </a:lnTo>
                              <a:lnTo>
                                <a:pt x="169" y="1051"/>
                              </a:lnTo>
                              <a:lnTo>
                                <a:pt x="173" y="1008"/>
                              </a:lnTo>
                              <a:lnTo>
                                <a:pt x="178" y="956"/>
                              </a:lnTo>
                              <a:lnTo>
                                <a:pt x="181" y="896"/>
                              </a:lnTo>
                              <a:lnTo>
                                <a:pt x="176" y="843"/>
                              </a:lnTo>
                              <a:lnTo>
                                <a:pt x="175" y="789"/>
                              </a:lnTo>
                              <a:lnTo>
                                <a:pt x="169" y="731"/>
                              </a:lnTo>
                              <a:lnTo>
                                <a:pt x="163" y="681"/>
                              </a:lnTo>
                              <a:lnTo>
                                <a:pt x="158" y="633"/>
                              </a:lnTo>
                              <a:lnTo>
                                <a:pt x="154" y="590"/>
                              </a:lnTo>
                              <a:lnTo>
                                <a:pt x="151" y="548"/>
                              </a:lnTo>
                              <a:lnTo>
                                <a:pt x="148" y="511"/>
                              </a:lnTo>
                              <a:lnTo>
                                <a:pt x="145" y="472"/>
                              </a:lnTo>
                              <a:lnTo>
                                <a:pt x="139" y="429"/>
                              </a:lnTo>
                              <a:lnTo>
                                <a:pt x="134" y="382"/>
                              </a:lnTo>
                              <a:lnTo>
                                <a:pt x="122" y="342"/>
                              </a:lnTo>
                              <a:lnTo>
                                <a:pt x="111" y="300"/>
                              </a:lnTo>
                              <a:lnTo>
                                <a:pt x="100" y="266"/>
                              </a:lnTo>
                              <a:lnTo>
                                <a:pt x="94" y="232"/>
                              </a:lnTo>
                              <a:lnTo>
                                <a:pt x="88" y="194"/>
                              </a:lnTo>
                              <a:lnTo>
                                <a:pt x="83" y="156"/>
                              </a:lnTo>
                              <a:lnTo>
                                <a:pt x="70" y="113"/>
                              </a:lnTo>
                              <a:lnTo>
                                <a:pt x="55" y="7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4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907" name=""/>
                        <p:cNvSpPr/>
                        <p:nvPr/>
                      </p:nvSpPr>
                      <p:spPr>
                        <a:xfrm>
                          <a:off x="1960920" y="2098800"/>
                          <a:ext cx="45720" cy="3686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88" h="1194">
                              <a:moveTo>
                                <a:pt x="48" y="0"/>
                              </a:moveTo>
                              <a:lnTo>
                                <a:pt x="0" y="38"/>
                              </a:lnTo>
                              <a:lnTo>
                                <a:pt x="17" y="57"/>
                              </a:lnTo>
                              <a:lnTo>
                                <a:pt x="29" y="78"/>
                              </a:lnTo>
                              <a:lnTo>
                                <a:pt x="35" y="106"/>
                              </a:lnTo>
                              <a:lnTo>
                                <a:pt x="41" y="148"/>
                              </a:lnTo>
                              <a:lnTo>
                                <a:pt x="49" y="188"/>
                              </a:lnTo>
                              <a:lnTo>
                                <a:pt x="61" y="240"/>
                              </a:lnTo>
                              <a:lnTo>
                                <a:pt x="70" y="290"/>
                              </a:lnTo>
                              <a:lnTo>
                                <a:pt x="79" y="334"/>
                              </a:lnTo>
                              <a:lnTo>
                                <a:pt x="85" y="383"/>
                              </a:lnTo>
                              <a:lnTo>
                                <a:pt x="92" y="427"/>
                              </a:lnTo>
                              <a:lnTo>
                                <a:pt x="101" y="476"/>
                              </a:lnTo>
                              <a:lnTo>
                                <a:pt x="111" y="516"/>
                              </a:lnTo>
                              <a:lnTo>
                                <a:pt x="117" y="564"/>
                              </a:lnTo>
                              <a:lnTo>
                                <a:pt x="113" y="610"/>
                              </a:lnTo>
                              <a:lnTo>
                                <a:pt x="117" y="651"/>
                              </a:lnTo>
                              <a:lnTo>
                                <a:pt x="120" y="703"/>
                              </a:lnTo>
                              <a:lnTo>
                                <a:pt x="122" y="762"/>
                              </a:lnTo>
                              <a:lnTo>
                                <a:pt x="126" y="825"/>
                              </a:lnTo>
                              <a:lnTo>
                                <a:pt x="134" y="886"/>
                              </a:lnTo>
                              <a:lnTo>
                                <a:pt x="140" y="928"/>
                              </a:lnTo>
                              <a:lnTo>
                                <a:pt x="140" y="968"/>
                              </a:lnTo>
                              <a:lnTo>
                                <a:pt x="142" y="1017"/>
                              </a:lnTo>
                              <a:lnTo>
                                <a:pt x="138" y="1073"/>
                              </a:lnTo>
                              <a:lnTo>
                                <a:pt x="137" y="1119"/>
                              </a:lnTo>
                              <a:lnTo>
                                <a:pt x="132" y="1160"/>
                              </a:lnTo>
                              <a:lnTo>
                                <a:pt x="133" y="1194"/>
                              </a:lnTo>
                              <a:lnTo>
                                <a:pt x="151" y="1187"/>
                              </a:lnTo>
                              <a:lnTo>
                                <a:pt x="163" y="1180"/>
                              </a:lnTo>
                              <a:lnTo>
                                <a:pt x="174" y="1173"/>
                              </a:lnTo>
                              <a:lnTo>
                                <a:pt x="182" y="1164"/>
                              </a:lnTo>
                              <a:lnTo>
                                <a:pt x="184" y="1154"/>
                              </a:lnTo>
                              <a:lnTo>
                                <a:pt x="182" y="1123"/>
                              </a:lnTo>
                              <a:lnTo>
                                <a:pt x="180" y="1093"/>
                              </a:lnTo>
                              <a:lnTo>
                                <a:pt x="182" y="1053"/>
                              </a:lnTo>
                              <a:lnTo>
                                <a:pt x="185" y="1022"/>
                              </a:lnTo>
                              <a:lnTo>
                                <a:pt x="188" y="995"/>
                              </a:lnTo>
                              <a:lnTo>
                                <a:pt x="186" y="968"/>
                              </a:lnTo>
                              <a:lnTo>
                                <a:pt x="184" y="932"/>
                              </a:lnTo>
                              <a:lnTo>
                                <a:pt x="183" y="906"/>
                              </a:lnTo>
                              <a:lnTo>
                                <a:pt x="181" y="878"/>
                              </a:lnTo>
                              <a:lnTo>
                                <a:pt x="176" y="851"/>
                              </a:lnTo>
                              <a:lnTo>
                                <a:pt x="171" y="821"/>
                              </a:lnTo>
                              <a:lnTo>
                                <a:pt x="170" y="785"/>
                              </a:lnTo>
                              <a:lnTo>
                                <a:pt x="168" y="756"/>
                              </a:lnTo>
                              <a:lnTo>
                                <a:pt x="167" y="719"/>
                              </a:lnTo>
                              <a:lnTo>
                                <a:pt x="165" y="681"/>
                              </a:lnTo>
                              <a:lnTo>
                                <a:pt x="162" y="642"/>
                              </a:lnTo>
                              <a:lnTo>
                                <a:pt x="157" y="598"/>
                              </a:lnTo>
                              <a:lnTo>
                                <a:pt x="153" y="556"/>
                              </a:lnTo>
                              <a:lnTo>
                                <a:pt x="150" y="517"/>
                              </a:lnTo>
                              <a:lnTo>
                                <a:pt x="145" y="487"/>
                              </a:lnTo>
                              <a:lnTo>
                                <a:pt x="141" y="454"/>
                              </a:lnTo>
                              <a:lnTo>
                                <a:pt x="137" y="422"/>
                              </a:lnTo>
                              <a:lnTo>
                                <a:pt x="132" y="387"/>
                              </a:lnTo>
                              <a:lnTo>
                                <a:pt x="126" y="351"/>
                              </a:lnTo>
                              <a:lnTo>
                                <a:pt x="120" y="311"/>
                              </a:lnTo>
                              <a:lnTo>
                                <a:pt x="114" y="276"/>
                              </a:lnTo>
                              <a:lnTo>
                                <a:pt x="105" y="232"/>
                              </a:lnTo>
                              <a:lnTo>
                                <a:pt x="95" y="190"/>
                              </a:lnTo>
                              <a:lnTo>
                                <a:pt x="85" y="137"/>
                              </a:lnTo>
                              <a:lnTo>
                                <a:pt x="72" y="81"/>
                              </a:lnTo>
                              <a:lnTo>
                                <a:pt x="61" y="37"/>
                              </a:lnTo>
                              <a:lnTo>
                                <a:pt x="48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4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6908" name=""/>
                      <p:cNvSpPr/>
                      <p:nvPr/>
                    </p:nvSpPr>
                    <p:spPr>
                      <a:xfrm>
                        <a:off x="1914840" y="2112120"/>
                        <a:ext cx="50760" cy="3549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6" h="1149">
                            <a:moveTo>
                              <a:pt x="15" y="42"/>
                            </a:moveTo>
                            <a:lnTo>
                              <a:pt x="0" y="0"/>
                            </a:lnTo>
                            <a:lnTo>
                              <a:pt x="73" y="28"/>
                            </a:lnTo>
                            <a:lnTo>
                              <a:pt x="77" y="57"/>
                            </a:lnTo>
                            <a:lnTo>
                              <a:pt x="82" y="82"/>
                            </a:lnTo>
                            <a:lnTo>
                              <a:pt x="90" y="111"/>
                            </a:lnTo>
                            <a:lnTo>
                              <a:pt x="98" y="133"/>
                            </a:lnTo>
                            <a:lnTo>
                              <a:pt x="108" y="159"/>
                            </a:lnTo>
                            <a:lnTo>
                              <a:pt x="118" y="189"/>
                            </a:lnTo>
                            <a:lnTo>
                              <a:pt x="124" y="217"/>
                            </a:lnTo>
                            <a:lnTo>
                              <a:pt x="129" y="249"/>
                            </a:lnTo>
                            <a:lnTo>
                              <a:pt x="135" y="281"/>
                            </a:lnTo>
                            <a:lnTo>
                              <a:pt x="140" y="316"/>
                            </a:lnTo>
                            <a:lnTo>
                              <a:pt x="149" y="351"/>
                            </a:lnTo>
                            <a:lnTo>
                              <a:pt x="155" y="376"/>
                            </a:lnTo>
                            <a:lnTo>
                              <a:pt x="163" y="407"/>
                            </a:lnTo>
                            <a:lnTo>
                              <a:pt x="169" y="429"/>
                            </a:lnTo>
                            <a:lnTo>
                              <a:pt x="174" y="452"/>
                            </a:lnTo>
                            <a:lnTo>
                              <a:pt x="176" y="479"/>
                            </a:lnTo>
                            <a:lnTo>
                              <a:pt x="178" y="505"/>
                            </a:lnTo>
                            <a:lnTo>
                              <a:pt x="180" y="535"/>
                            </a:lnTo>
                            <a:lnTo>
                              <a:pt x="185" y="574"/>
                            </a:lnTo>
                            <a:lnTo>
                              <a:pt x="189" y="608"/>
                            </a:lnTo>
                            <a:lnTo>
                              <a:pt x="193" y="644"/>
                            </a:lnTo>
                            <a:lnTo>
                              <a:pt x="199" y="678"/>
                            </a:lnTo>
                            <a:lnTo>
                              <a:pt x="201" y="708"/>
                            </a:lnTo>
                            <a:lnTo>
                              <a:pt x="204" y="759"/>
                            </a:lnTo>
                            <a:lnTo>
                              <a:pt x="205" y="795"/>
                            </a:lnTo>
                            <a:lnTo>
                              <a:pt x="205" y="837"/>
                            </a:lnTo>
                            <a:lnTo>
                              <a:pt x="206" y="864"/>
                            </a:lnTo>
                            <a:lnTo>
                              <a:pt x="205" y="900"/>
                            </a:lnTo>
                            <a:lnTo>
                              <a:pt x="203" y="942"/>
                            </a:lnTo>
                            <a:lnTo>
                              <a:pt x="200" y="976"/>
                            </a:lnTo>
                            <a:lnTo>
                              <a:pt x="202" y="1017"/>
                            </a:lnTo>
                            <a:lnTo>
                              <a:pt x="203" y="1055"/>
                            </a:lnTo>
                            <a:lnTo>
                              <a:pt x="199" y="1079"/>
                            </a:lnTo>
                            <a:lnTo>
                              <a:pt x="195" y="1102"/>
                            </a:lnTo>
                            <a:lnTo>
                              <a:pt x="191" y="1117"/>
                            </a:lnTo>
                            <a:lnTo>
                              <a:pt x="192" y="1134"/>
                            </a:lnTo>
                            <a:lnTo>
                              <a:pt x="197" y="1149"/>
                            </a:lnTo>
                            <a:lnTo>
                              <a:pt x="169" y="1145"/>
                            </a:lnTo>
                            <a:lnTo>
                              <a:pt x="153" y="1138"/>
                            </a:lnTo>
                            <a:lnTo>
                              <a:pt x="134" y="1132"/>
                            </a:lnTo>
                            <a:lnTo>
                              <a:pt x="117" y="1124"/>
                            </a:lnTo>
                            <a:lnTo>
                              <a:pt x="123" y="1094"/>
                            </a:lnTo>
                            <a:lnTo>
                              <a:pt x="126" y="1060"/>
                            </a:lnTo>
                            <a:lnTo>
                              <a:pt x="129" y="1024"/>
                            </a:lnTo>
                            <a:lnTo>
                              <a:pt x="133" y="980"/>
                            </a:lnTo>
                            <a:lnTo>
                              <a:pt x="138" y="928"/>
                            </a:lnTo>
                            <a:lnTo>
                              <a:pt x="141" y="868"/>
                            </a:lnTo>
                            <a:lnTo>
                              <a:pt x="136" y="815"/>
                            </a:lnTo>
                            <a:lnTo>
                              <a:pt x="135" y="761"/>
                            </a:lnTo>
                            <a:lnTo>
                              <a:pt x="129" y="704"/>
                            </a:lnTo>
                            <a:lnTo>
                              <a:pt x="123" y="653"/>
                            </a:lnTo>
                            <a:lnTo>
                              <a:pt x="118" y="605"/>
                            </a:lnTo>
                            <a:lnTo>
                              <a:pt x="114" y="562"/>
                            </a:lnTo>
                            <a:lnTo>
                              <a:pt x="111" y="520"/>
                            </a:lnTo>
                            <a:lnTo>
                              <a:pt x="108" y="483"/>
                            </a:lnTo>
                            <a:lnTo>
                              <a:pt x="105" y="444"/>
                            </a:lnTo>
                            <a:lnTo>
                              <a:pt x="99" y="401"/>
                            </a:lnTo>
                            <a:lnTo>
                              <a:pt x="93" y="354"/>
                            </a:lnTo>
                            <a:lnTo>
                              <a:pt x="81" y="314"/>
                            </a:lnTo>
                            <a:lnTo>
                              <a:pt x="70" y="273"/>
                            </a:lnTo>
                            <a:lnTo>
                              <a:pt x="59" y="238"/>
                            </a:lnTo>
                            <a:lnTo>
                              <a:pt x="53" y="204"/>
                            </a:lnTo>
                            <a:lnTo>
                              <a:pt x="48" y="166"/>
                            </a:lnTo>
                            <a:lnTo>
                              <a:pt x="43" y="128"/>
                            </a:lnTo>
                            <a:lnTo>
                              <a:pt x="30" y="85"/>
                            </a:lnTo>
                            <a:lnTo>
                              <a:pt x="15" y="42"/>
                            </a:lnTo>
                            <a:close/>
                          </a:path>
                        </a:pathLst>
                      </a:custGeom>
                      <a:solidFill>
                        <a:srgbClr val="4040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6909" name=""/>
                    <p:cNvSpPr/>
                    <p:nvPr/>
                  </p:nvSpPr>
                  <p:spPr>
                    <a:xfrm>
                      <a:off x="1950840" y="2124720"/>
                      <a:ext cx="33120" cy="318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8" h="1036">
                          <a:moveTo>
                            <a:pt x="0" y="0"/>
                          </a:moveTo>
                          <a:lnTo>
                            <a:pt x="13" y="33"/>
                          </a:lnTo>
                          <a:lnTo>
                            <a:pt x="26" y="64"/>
                          </a:lnTo>
                          <a:lnTo>
                            <a:pt x="37" y="97"/>
                          </a:lnTo>
                          <a:lnTo>
                            <a:pt x="47" y="134"/>
                          </a:lnTo>
                          <a:lnTo>
                            <a:pt x="55" y="168"/>
                          </a:lnTo>
                          <a:lnTo>
                            <a:pt x="63" y="203"/>
                          </a:lnTo>
                          <a:lnTo>
                            <a:pt x="71" y="246"/>
                          </a:lnTo>
                          <a:lnTo>
                            <a:pt x="79" y="298"/>
                          </a:lnTo>
                          <a:lnTo>
                            <a:pt x="88" y="352"/>
                          </a:lnTo>
                          <a:lnTo>
                            <a:pt x="94" y="388"/>
                          </a:lnTo>
                          <a:lnTo>
                            <a:pt x="102" y="434"/>
                          </a:lnTo>
                          <a:lnTo>
                            <a:pt x="108" y="479"/>
                          </a:lnTo>
                          <a:lnTo>
                            <a:pt x="111" y="522"/>
                          </a:lnTo>
                          <a:lnTo>
                            <a:pt x="114" y="569"/>
                          </a:lnTo>
                          <a:lnTo>
                            <a:pt x="117" y="616"/>
                          </a:lnTo>
                          <a:lnTo>
                            <a:pt x="120" y="671"/>
                          </a:lnTo>
                          <a:lnTo>
                            <a:pt x="124" y="722"/>
                          </a:lnTo>
                          <a:lnTo>
                            <a:pt x="128" y="777"/>
                          </a:lnTo>
                          <a:lnTo>
                            <a:pt x="131" y="818"/>
                          </a:lnTo>
                          <a:lnTo>
                            <a:pt x="136" y="854"/>
                          </a:lnTo>
                          <a:lnTo>
                            <a:pt x="138" y="898"/>
                          </a:lnTo>
                          <a:lnTo>
                            <a:pt x="137" y="942"/>
                          </a:lnTo>
                          <a:lnTo>
                            <a:pt x="135" y="986"/>
                          </a:lnTo>
                          <a:lnTo>
                            <a:pt x="133" y="1036"/>
                          </a:lnTo>
                        </a:path>
                      </a:pathLst>
                    </a:custGeom>
                    <a:noFill/>
                    <a:ln w="4680">
                      <a:solidFill>
                        <a:srgbClr val="c0c0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6910" name=""/>
                <p:cNvGrpSpPr/>
                <p:nvPr/>
              </p:nvGrpSpPr>
              <p:grpSpPr>
                <a:xfrm>
                  <a:off x="1906200" y="2083680"/>
                  <a:ext cx="65160" cy="39600"/>
                  <a:chOff x="1906200" y="2083680"/>
                  <a:chExt cx="65160" cy="39600"/>
                </a:xfrm>
              </p:grpSpPr>
              <p:sp>
                <p:nvSpPr>
                  <p:cNvPr id="6911" name=""/>
                  <p:cNvSpPr/>
                  <p:nvPr/>
                </p:nvSpPr>
                <p:spPr>
                  <a:xfrm>
                    <a:off x="1906200" y="2083680"/>
                    <a:ext cx="65160" cy="39600"/>
                  </a:xfrm>
                  <a:prstGeom prst="ellipse">
                    <a:avLst/>
                  </a:prstGeom>
                  <a:solidFill>
                    <a:srgbClr val="4040ff"/>
                  </a:solidFill>
                  <a:ln w="3240">
                    <a:solidFill>
                      <a:srgbClr val="00002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720" bIns="-18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12" name=""/>
                  <p:cNvSpPr/>
                  <p:nvPr/>
                </p:nvSpPr>
                <p:spPr>
                  <a:xfrm>
                    <a:off x="1913400" y="2088000"/>
                    <a:ext cx="50400" cy="30240"/>
                  </a:xfrm>
                  <a:prstGeom prst="ellipse">
                    <a:avLst/>
                  </a:prstGeom>
                  <a:solidFill>
                    <a:srgbClr val="000080"/>
                  </a:solidFill>
                  <a:ln w="3240">
                    <a:solidFill>
                      <a:srgbClr val="00002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13" name=""/>
                  <p:cNvSpPr/>
                  <p:nvPr/>
                </p:nvSpPr>
                <p:spPr>
                  <a:xfrm>
                    <a:off x="1915920" y="2091240"/>
                    <a:ext cx="42840" cy="22680"/>
                  </a:xfrm>
                  <a:prstGeom prst="ellipse">
                    <a:avLst/>
                  </a:prstGeom>
                  <a:solidFill>
                    <a:srgbClr val="400040"/>
                  </a:solidFill>
                  <a:ln w="3240">
                    <a:solidFill>
                      <a:srgbClr val="00002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6914" name=""/>
            <p:cNvGrpSpPr/>
            <p:nvPr/>
          </p:nvGrpSpPr>
          <p:grpSpPr>
            <a:xfrm>
              <a:off x="2029680" y="1440000"/>
              <a:ext cx="41400" cy="432360"/>
              <a:chOff x="2029680" y="1440000"/>
              <a:chExt cx="41400" cy="432360"/>
            </a:xfrm>
          </p:grpSpPr>
          <p:grpSp>
            <p:nvGrpSpPr>
              <p:cNvPr id="6915" name=""/>
              <p:cNvGrpSpPr/>
              <p:nvPr/>
            </p:nvGrpSpPr>
            <p:grpSpPr>
              <a:xfrm>
                <a:off x="2029680" y="1457280"/>
                <a:ext cx="41400" cy="415080"/>
                <a:chOff x="2029680" y="1457280"/>
                <a:chExt cx="41400" cy="415080"/>
              </a:xfrm>
            </p:grpSpPr>
            <p:sp>
              <p:nvSpPr>
                <p:cNvPr id="6916" name=""/>
                <p:cNvSpPr/>
                <p:nvPr/>
              </p:nvSpPr>
              <p:spPr>
                <a:xfrm>
                  <a:off x="2029680" y="1457280"/>
                  <a:ext cx="41400" cy="415080"/>
                </a:xfrm>
                <a:custGeom>
                  <a:avLst/>
                  <a:gdLst/>
                  <a:ahLst/>
                  <a:rect l="l" t="t" r="r" b="b"/>
                  <a:pathLst>
                    <a:path w="410" h="1199">
                      <a:moveTo>
                        <a:pt x="270" y="0"/>
                      </a:moveTo>
                      <a:lnTo>
                        <a:pt x="0" y="18"/>
                      </a:lnTo>
                      <a:lnTo>
                        <a:pt x="3" y="47"/>
                      </a:lnTo>
                      <a:lnTo>
                        <a:pt x="9" y="79"/>
                      </a:lnTo>
                      <a:lnTo>
                        <a:pt x="16" y="113"/>
                      </a:lnTo>
                      <a:lnTo>
                        <a:pt x="22" y="152"/>
                      </a:lnTo>
                      <a:lnTo>
                        <a:pt x="31" y="198"/>
                      </a:lnTo>
                      <a:lnTo>
                        <a:pt x="41" y="242"/>
                      </a:lnTo>
                      <a:lnTo>
                        <a:pt x="49" y="279"/>
                      </a:lnTo>
                      <a:lnTo>
                        <a:pt x="58" y="315"/>
                      </a:lnTo>
                      <a:lnTo>
                        <a:pt x="66" y="354"/>
                      </a:lnTo>
                      <a:lnTo>
                        <a:pt x="75" y="397"/>
                      </a:lnTo>
                      <a:lnTo>
                        <a:pt x="83" y="442"/>
                      </a:lnTo>
                      <a:lnTo>
                        <a:pt x="92" y="490"/>
                      </a:lnTo>
                      <a:lnTo>
                        <a:pt x="97" y="517"/>
                      </a:lnTo>
                      <a:lnTo>
                        <a:pt x="101" y="552"/>
                      </a:lnTo>
                      <a:lnTo>
                        <a:pt x="106" y="593"/>
                      </a:lnTo>
                      <a:lnTo>
                        <a:pt x="110" y="631"/>
                      </a:lnTo>
                      <a:lnTo>
                        <a:pt x="117" y="679"/>
                      </a:lnTo>
                      <a:lnTo>
                        <a:pt x="123" y="729"/>
                      </a:lnTo>
                      <a:lnTo>
                        <a:pt x="127" y="769"/>
                      </a:lnTo>
                      <a:lnTo>
                        <a:pt x="128" y="809"/>
                      </a:lnTo>
                      <a:lnTo>
                        <a:pt x="130" y="843"/>
                      </a:lnTo>
                      <a:lnTo>
                        <a:pt x="133" y="887"/>
                      </a:lnTo>
                      <a:lnTo>
                        <a:pt x="135" y="932"/>
                      </a:lnTo>
                      <a:lnTo>
                        <a:pt x="133" y="974"/>
                      </a:lnTo>
                      <a:lnTo>
                        <a:pt x="134" y="1024"/>
                      </a:lnTo>
                      <a:lnTo>
                        <a:pt x="136" y="1054"/>
                      </a:lnTo>
                      <a:lnTo>
                        <a:pt x="134" y="1079"/>
                      </a:lnTo>
                      <a:lnTo>
                        <a:pt x="132" y="1110"/>
                      </a:lnTo>
                      <a:lnTo>
                        <a:pt x="133" y="1131"/>
                      </a:lnTo>
                      <a:lnTo>
                        <a:pt x="138" y="1145"/>
                      </a:lnTo>
                      <a:lnTo>
                        <a:pt x="146" y="1159"/>
                      </a:lnTo>
                      <a:lnTo>
                        <a:pt x="158" y="1170"/>
                      </a:lnTo>
                      <a:lnTo>
                        <a:pt x="175" y="1178"/>
                      </a:lnTo>
                      <a:lnTo>
                        <a:pt x="191" y="1183"/>
                      </a:lnTo>
                      <a:lnTo>
                        <a:pt x="212" y="1190"/>
                      </a:lnTo>
                      <a:lnTo>
                        <a:pt x="240" y="1195"/>
                      </a:lnTo>
                      <a:lnTo>
                        <a:pt x="266" y="1196"/>
                      </a:lnTo>
                      <a:lnTo>
                        <a:pt x="292" y="1198"/>
                      </a:lnTo>
                      <a:lnTo>
                        <a:pt x="315" y="1199"/>
                      </a:lnTo>
                      <a:lnTo>
                        <a:pt x="336" y="1197"/>
                      </a:lnTo>
                      <a:lnTo>
                        <a:pt x="354" y="1194"/>
                      </a:lnTo>
                      <a:lnTo>
                        <a:pt x="373" y="1187"/>
                      </a:lnTo>
                      <a:lnTo>
                        <a:pt x="385" y="1180"/>
                      </a:lnTo>
                      <a:lnTo>
                        <a:pt x="396" y="1173"/>
                      </a:lnTo>
                      <a:lnTo>
                        <a:pt x="404" y="1164"/>
                      </a:lnTo>
                      <a:lnTo>
                        <a:pt x="406" y="1154"/>
                      </a:lnTo>
                      <a:lnTo>
                        <a:pt x="404" y="1123"/>
                      </a:lnTo>
                      <a:lnTo>
                        <a:pt x="402" y="1093"/>
                      </a:lnTo>
                      <a:lnTo>
                        <a:pt x="404" y="1053"/>
                      </a:lnTo>
                      <a:lnTo>
                        <a:pt x="407" y="1022"/>
                      </a:lnTo>
                      <a:lnTo>
                        <a:pt x="410" y="995"/>
                      </a:lnTo>
                      <a:lnTo>
                        <a:pt x="408" y="968"/>
                      </a:lnTo>
                      <a:lnTo>
                        <a:pt x="406" y="932"/>
                      </a:lnTo>
                      <a:lnTo>
                        <a:pt x="405" y="906"/>
                      </a:lnTo>
                      <a:lnTo>
                        <a:pt x="403" y="878"/>
                      </a:lnTo>
                      <a:lnTo>
                        <a:pt x="398" y="851"/>
                      </a:lnTo>
                      <a:lnTo>
                        <a:pt x="393" y="821"/>
                      </a:lnTo>
                      <a:lnTo>
                        <a:pt x="392" y="785"/>
                      </a:lnTo>
                      <a:lnTo>
                        <a:pt x="390" y="756"/>
                      </a:lnTo>
                      <a:lnTo>
                        <a:pt x="389" y="719"/>
                      </a:lnTo>
                      <a:lnTo>
                        <a:pt x="387" y="681"/>
                      </a:lnTo>
                      <a:lnTo>
                        <a:pt x="384" y="642"/>
                      </a:lnTo>
                      <a:lnTo>
                        <a:pt x="379" y="598"/>
                      </a:lnTo>
                      <a:lnTo>
                        <a:pt x="375" y="556"/>
                      </a:lnTo>
                      <a:lnTo>
                        <a:pt x="371" y="517"/>
                      </a:lnTo>
                      <a:lnTo>
                        <a:pt x="367" y="487"/>
                      </a:lnTo>
                      <a:lnTo>
                        <a:pt x="362" y="454"/>
                      </a:lnTo>
                      <a:lnTo>
                        <a:pt x="358" y="422"/>
                      </a:lnTo>
                      <a:lnTo>
                        <a:pt x="353" y="387"/>
                      </a:lnTo>
                      <a:lnTo>
                        <a:pt x="347" y="351"/>
                      </a:lnTo>
                      <a:lnTo>
                        <a:pt x="341" y="311"/>
                      </a:lnTo>
                      <a:lnTo>
                        <a:pt x="335" y="276"/>
                      </a:lnTo>
                      <a:lnTo>
                        <a:pt x="325" y="232"/>
                      </a:lnTo>
                      <a:lnTo>
                        <a:pt x="316" y="190"/>
                      </a:lnTo>
                      <a:lnTo>
                        <a:pt x="307" y="137"/>
                      </a:lnTo>
                      <a:lnTo>
                        <a:pt x="294" y="81"/>
                      </a:lnTo>
                      <a:lnTo>
                        <a:pt x="283" y="37"/>
                      </a:lnTo>
                      <a:lnTo>
                        <a:pt x="270" y="0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917" name=""/>
                <p:cNvGrpSpPr/>
                <p:nvPr/>
              </p:nvGrpSpPr>
              <p:grpSpPr>
                <a:xfrm>
                  <a:off x="2029680" y="1457280"/>
                  <a:ext cx="41400" cy="412920"/>
                  <a:chOff x="2029680" y="1457280"/>
                  <a:chExt cx="41400" cy="412920"/>
                </a:xfrm>
              </p:grpSpPr>
              <p:grpSp>
                <p:nvGrpSpPr>
                  <p:cNvPr id="6918" name=""/>
                  <p:cNvGrpSpPr/>
                  <p:nvPr/>
                </p:nvGrpSpPr>
                <p:grpSpPr>
                  <a:xfrm>
                    <a:off x="2029680" y="1457280"/>
                    <a:ext cx="41400" cy="412920"/>
                    <a:chOff x="2029680" y="1457280"/>
                    <a:chExt cx="41400" cy="412920"/>
                  </a:xfrm>
                </p:grpSpPr>
                <p:grpSp>
                  <p:nvGrpSpPr>
                    <p:cNvPr id="6919" name=""/>
                    <p:cNvGrpSpPr/>
                    <p:nvPr/>
                  </p:nvGrpSpPr>
                  <p:grpSpPr>
                    <a:xfrm>
                      <a:off x="2029680" y="1457280"/>
                      <a:ext cx="41400" cy="412560"/>
                      <a:chOff x="2029680" y="1457280"/>
                      <a:chExt cx="41400" cy="412560"/>
                    </a:xfrm>
                  </p:grpSpPr>
                  <p:sp>
                    <p:nvSpPr>
                      <p:cNvPr id="6920" name=""/>
                      <p:cNvSpPr/>
                      <p:nvPr/>
                    </p:nvSpPr>
                    <p:spPr>
                      <a:xfrm>
                        <a:off x="2029680" y="1463760"/>
                        <a:ext cx="18000" cy="397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81" h="1152">
                            <a:moveTo>
                              <a:pt x="55" y="70"/>
                            </a:moveTo>
                            <a:lnTo>
                              <a:pt x="41" y="28"/>
                            </a:lnTo>
                            <a:lnTo>
                              <a:pt x="0" y="0"/>
                            </a:lnTo>
                            <a:lnTo>
                              <a:pt x="3" y="29"/>
                            </a:lnTo>
                            <a:lnTo>
                              <a:pt x="9" y="61"/>
                            </a:lnTo>
                            <a:lnTo>
                              <a:pt x="16" y="95"/>
                            </a:lnTo>
                            <a:lnTo>
                              <a:pt x="22" y="134"/>
                            </a:lnTo>
                            <a:lnTo>
                              <a:pt x="31" y="180"/>
                            </a:lnTo>
                            <a:lnTo>
                              <a:pt x="41" y="224"/>
                            </a:lnTo>
                            <a:lnTo>
                              <a:pt x="48" y="261"/>
                            </a:lnTo>
                            <a:lnTo>
                              <a:pt x="56" y="297"/>
                            </a:lnTo>
                            <a:lnTo>
                              <a:pt x="65" y="336"/>
                            </a:lnTo>
                            <a:lnTo>
                              <a:pt x="74" y="379"/>
                            </a:lnTo>
                            <a:lnTo>
                              <a:pt x="82" y="424"/>
                            </a:lnTo>
                            <a:lnTo>
                              <a:pt x="91" y="472"/>
                            </a:lnTo>
                            <a:lnTo>
                              <a:pt x="96" y="499"/>
                            </a:lnTo>
                            <a:lnTo>
                              <a:pt x="100" y="534"/>
                            </a:lnTo>
                            <a:lnTo>
                              <a:pt x="106" y="575"/>
                            </a:lnTo>
                            <a:lnTo>
                              <a:pt x="110" y="613"/>
                            </a:lnTo>
                            <a:lnTo>
                              <a:pt x="117" y="661"/>
                            </a:lnTo>
                            <a:lnTo>
                              <a:pt x="123" y="711"/>
                            </a:lnTo>
                            <a:lnTo>
                              <a:pt x="127" y="751"/>
                            </a:lnTo>
                            <a:lnTo>
                              <a:pt x="128" y="791"/>
                            </a:lnTo>
                            <a:lnTo>
                              <a:pt x="130" y="825"/>
                            </a:lnTo>
                            <a:lnTo>
                              <a:pt x="133" y="868"/>
                            </a:lnTo>
                            <a:lnTo>
                              <a:pt x="135" y="914"/>
                            </a:lnTo>
                            <a:lnTo>
                              <a:pt x="133" y="956"/>
                            </a:lnTo>
                            <a:lnTo>
                              <a:pt x="134" y="1006"/>
                            </a:lnTo>
                            <a:lnTo>
                              <a:pt x="136" y="1036"/>
                            </a:lnTo>
                            <a:lnTo>
                              <a:pt x="134" y="1061"/>
                            </a:lnTo>
                            <a:lnTo>
                              <a:pt x="132" y="1091"/>
                            </a:lnTo>
                            <a:lnTo>
                              <a:pt x="133" y="1113"/>
                            </a:lnTo>
                            <a:lnTo>
                              <a:pt x="137" y="1127"/>
                            </a:lnTo>
                            <a:lnTo>
                              <a:pt x="145" y="1141"/>
                            </a:lnTo>
                            <a:lnTo>
                              <a:pt x="157" y="1152"/>
                            </a:lnTo>
                            <a:lnTo>
                              <a:pt x="163" y="1122"/>
                            </a:lnTo>
                            <a:lnTo>
                              <a:pt x="166" y="1088"/>
                            </a:lnTo>
                            <a:lnTo>
                              <a:pt x="169" y="1051"/>
                            </a:lnTo>
                            <a:lnTo>
                              <a:pt x="173" y="1008"/>
                            </a:lnTo>
                            <a:lnTo>
                              <a:pt x="178" y="956"/>
                            </a:lnTo>
                            <a:lnTo>
                              <a:pt x="181" y="896"/>
                            </a:lnTo>
                            <a:lnTo>
                              <a:pt x="176" y="843"/>
                            </a:lnTo>
                            <a:lnTo>
                              <a:pt x="175" y="789"/>
                            </a:lnTo>
                            <a:lnTo>
                              <a:pt x="169" y="731"/>
                            </a:lnTo>
                            <a:lnTo>
                              <a:pt x="163" y="681"/>
                            </a:lnTo>
                            <a:lnTo>
                              <a:pt x="158" y="633"/>
                            </a:lnTo>
                            <a:lnTo>
                              <a:pt x="154" y="590"/>
                            </a:lnTo>
                            <a:lnTo>
                              <a:pt x="151" y="548"/>
                            </a:lnTo>
                            <a:lnTo>
                              <a:pt x="148" y="511"/>
                            </a:lnTo>
                            <a:lnTo>
                              <a:pt x="145" y="472"/>
                            </a:lnTo>
                            <a:lnTo>
                              <a:pt x="139" y="429"/>
                            </a:lnTo>
                            <a:lnTo>
                              <a:pt x="134" y="382"/>
                            </a:lnTo>
                            <a:lnTo>
                              <a:pt x="122" y="342"/>
                            </a:lnTo>
                            <a:lnTo>
                              <a:pt x="111" y="300"/>
                            </a:lnTo>
                            <a:lnTo>
                              <a:pt x="100" y="266"/>
                            </a:lnTo>
                            <a:lnTo>
                              <a:pt x="94" y="232"/>
                            </a:lnTo>
                            <a:lnTo>
                              <a:pt x="88" y="194"/>
                            </a:lnTo>
                            <a:lnTo>
                              <a:pt x="83" y="156"/>
                            </a:lnTo>
                            <a:lnTo>
                              <a:pt x="70" y="113"/>
                            </a:lnTo>
                            <a:lnTo>
                              <a:pt x="55" y="70"/>
                            </a:lnTo>
                            <a:close/>
                          </a:path>
                        </a:pathLst>
                      </a:custGeom>
                      <a:solidFill>
                        <a:srgbClr val="ff33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921" name=""/>
                      <p:cNvSpPr/>
                      <p:nvPr/>
                    </p:nvSpPr>
                    <p:spPr>
                      <a:xfrm>
                        <a:off x="2052360" y="1457280"/>
                        <a:ext cx="18720" cy="4125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88" h="1194">
                            <a:moveTo>
                              <a:pt x="48" y="0"/>
                            </a:moveTo>
                            <a:lnTo>
                              <a:pt x="0" y="38"/>
                            </a:lnTo>
                            <a:lnTo>
                              <a:pt x="17" y="57"/>
                            </a:lnTo>
                            <a:lnTo>
                              <a:pt x="29" y="78"/>
                            </a:lnTo>
                            <a:lnTo>
                              <a:pt x="35" y="106"/>
                            </a:lnTo>
                            <a:lnTo>
                              <a:pt x="41" y="148"/>
                            </a:lnTo>
                            <a:lnTo>
                              <a:pt x="49" y="188"/>
                            </a:lnTo>
                            <a:lnTo>
                              <a:pt x="61" y="240"/>
                            </a:lnTo>
                            <a:lnTo>
                              <a:pt x="70" y="290"/>
                            </a:lnTo>
                            <a:lnTo>
                              <a:pt x="79" y="334"/>
                            </a:lnTo>
                            <a:lnTo>
                              <a:pt x="85" y="383"/>
                            </a:lnTo>
                            <a:lnTo>
                              <a:pt x="92" y="427"/>
                            </a:lnTo>
                            <a:lnTo>
                              <a:pt x="101" y="476"/>
                            </a:lnTo>
                            <a:lnTo>
                              <a:pt x="111" y="516"/>
                            </a:lnTo>
                            <a:lnTo>
                              <a:pt x="117" y="564"/>
                            </a:lnTo>
                            <a:lnTo>
                              <a:pt x="113" y="610"/>
                            </a:lnTo>
                            <a:lnTo>
                              <a:pt x="117" y="651"/>
                            </a:lnTo>
                            <a:lnTo>
                              <a:pt x="120" y="703"/>
                            </a:lnTo>
                            <a:lnTo>
                              <a:pt x="122" y="762"/>
                            </a:lnTo>
                            <a:lnTo>
                              <a:pt x="126" y="825"/>
                            </a:lnTo>
                            <a:lnTo>
                              <a:pt x="134" y="886"/>
                            </a:lnTo>
                            <a:lnTo>
                              <a:pt x="140" y="928"/>
                            </a:lnTo>
                            <a:lnTo>
                              <a:pt x="140" y="968"/>
                            </a:lnTo>
                            <a:lnTo>
                              <a:pt x="142" y="1017"/>
                            </a:lnTo>
                            <a:lnTo>
                              <a:pt x="138" y="1073"/>
                            </a:lnTo>
                            <a:lnTo>
                              <a:pt x="137" y="1119"/>
                            </a:lnTo>
                            <a:lnTo>
                              <a:pt x="132" y="1160"/>
                            </a:lnTo>
                            <a:lnTo>
                              <a:pt x="133" y="1194"/>
                            </a:lnTo>
                            <a:lnTo>
                              <a:pt x="151" y="1187"/>
                            </a:lnTo>
                            <a:lnTo>
                              <a:pt x="163" y="1180"/>
                            </a:lnTo>
                            <a:lnTo>
                              <a:pt x="174" y="1173"/>
                            </a:lnTo>
                            <a:lnTo>
                              <a:pt x="182" y="1164"/>
                            </a:lnTo>
                            <a:lnTo>
                              <a:pt x="184" y="1154"/>
                            </a:lnTo>
                            <a:lnTo>
                              <a:pt x="182" y="1123"/>
                            </a:lnTo>
                            <a:lnTo>
                              <a:pt x="180" y="1093"/>
                            </a:lnTo>
                            <a:lnTo>
                              <a:pt x="182" y="1053"/>
                            </a:lnTo>
                            <a:lnTo>
                              <a:pt x="185" y="1022"/>
                            </a:lnTo>
                            <a:lnTo>
                              <a:pt x="188" y="995"/>
                            </a:lnTo>
                            <a:lnTo>
                              <a:pt x="186" y="968"/>
                            </a:lnTo>
                            <a:lnTo>
                              <a:pt x="184" y="932"/>
                            </a:lnTo>
                            <a:lnTo>
                              <a:pt x="183" y="906"/>
                            </a:lnTo>
                            <a:lnTo>
                              <a:pt x="181" y="878"/>
                            </a:lnTo>
                            <a:lnTo>
                              <a:pt x="176" y="851"/>
                            </a:lnTo>
                            <a:lnTo>
                              <a:pt x="171" y="821"/>
                            </a:lnTo>
                            <a:lnTo>
                              <a:pt x="170" y="785"/>
                            </a:lnTo>
                            <a:lnTo>
                              <a:pt x="168" y="756"/>
                            </a:lnTo>
                            <a:lnTo>
                              <a:pt x="167" y="719"/>
                            </a:lnTo>
                            <a:lnTo>
                              <a:pt x="165" y="681"/>
                            </a:lnTo>
                            <a:lnTo>
                              <a:pt x="162" y="642"/>
                            </a:lnTo>
                            <a:lnTo>
                              <a:pt x="157" y="598"/>
                            </a:lnTo>
                            <a:lnTo>
                              <a:pt x="153" y="556"/>
                            </a:lnTo>
                            <a:lnTo>
                              <a:pt x="150" y="517"/>
                            </a:lnTo>
                            <a:lnTo>
                              <a:pt x="145" y="487"/>
                            </a:lnTo>
                            <a:lnTo>
                              <a:pt x="141" y="454"/>
                            </a:lnTo>
                            <a:lnTo>
                              <a:pt x="137" y="422"/>
                            </a:lnTo>
                            <a:lnTo>
                              <a:pt x="132" y="387"/>
                            </a:lnTo>
                            <a:lnTo>
                              <a:pt x="126" y="351"/>
                            </a:lnTo>
                            <a:lnTo>
                              <a:pt x="120" y="311"/>
                            </a:lnTo>
                            <a:lnTo>
                              <a:pt x="114" y="276"/>
                            </a:lnTo>
                            <a:lnTo>
                              <a:pt x="105" y="232"/>
                            </a:lnTo>
                            <a:lnTo>
                              <a:pt x="95" y="190"/>
                            </a:lnTo>
                            <a:lnTo>
                              <a:pt x="85" y="137"/>
                            </a:lnTo>
                            <a:lnTo>
                              <a:pt x="72" y="81"/>
                            </a:lnTo>
                            <a:lnTo>
                              <a:pt x="61" y="37"/>
                            </a:lnTo>
                            <a:lnTo>
                              <a:pt x="48" y="0"/>
                            </a:lnTo>
                            <a:close/>
                          </a:path>
                        </a:pathLst>
                      </a:custGeom>
                      <a:solidFill>
                        <a:srgbClr val="ff33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6922" name=""/>
                    <p:cNvSpPr/>
                    <p:nvPr/>
                  </p:nvSpPr>
                  <p:spPr>
                    <a:xfrm>
                      <a:off x="2033640" y="1472400"/>
                      <a:ext cx="20520" cy="39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6" h="1149">
                          <a:moveTo>
                            <a:pt x="15" y="42"/>
                          </a:moveTo>
                          <a:lnTo>
                            <a:pt x="0" y="0"/>
                          </a:lnTo>
                          <a:lnTo>
                            <a:pt x="73" y="28"/>
                          </a:lnTo>
                          <a:lnTo>
                            <a:pt x="77" y="57"/>
                          </a:lnTo>
                          <a:lnTo>
                            <a:pt x="82" y="82"/>
                          </a:lnTo>
                          <a:lnTo>
                            <a:pt x="90" y="111"/>
                          </a:lnTo>
                          <a:lnTo>
                            <a:pt x="98" y="133"/>
                          </a:lnTo>
                          <a:lnTo>
                            <a:pt x="108" y="159"/>
                          </a:lnTo>
                          <a:lnTo>
                            <a:pt x="118" y="189"/>
                          </a:lnTo>
                          <a:lnTo>
                            <a:pt x="124" y="217"/>
                          </a:lnTo>
                          <a:lnTo>
                            <a:pt x="129" y="249"/>
                          </a:lnTo>
                          <a:lnTo>
                            <a:pt x="135" y="281"/>
                          </a:lnTo>
                          <a:lnTo>
                            <a:pt x="140" y="316"/>
                          </a:lnTo>
                          <a:lnTo>
                            <a:pt x="149" y="351"/>
                          </a:lnTo>
                          <a:lnTo>
                            <a:pt x="155" y="376"/>
                          </a:lnTo>
                          <a:lnTo>
                            <a:pt x="163" y="407"/>
                          </a:lnTo>
                          <a:lnTo>
                            <a:pt x="169" y="429"/>
                          </a:lnTo>
                          <a:lnTo>
                            <a:pt x="174" y="452"/>
                          </a:lnTo>
                          <a:lnTo>
                            <a:pt x="176" y="479"/>
                          </a:lnTo>
                          <a:lnTo>
                            <a:pt x="178" y="505"/>
                          </a:lnTo>
                          <a:lnTo>
                            <a:pt x="180" y="535"/>
                          </a:lnTo>
                          <a:lnTo>
                            <a:pt x="185" y="574"/>
                          </a:lnTo>
                          <a:lnTo>
                            <a:pt x="189" y="608"/>
                          </a:lnTo>
                          <a:lnTo>
                            <a:pt x="193" y="644"/>
                          </a:lnTo>
                          <a:lnTo>
                            <a:pt x="199" y="678"/>
                          </a:lnTo>
                          <a:lnTo>
                            <a:pt x="201" y="708"/>
                          </a:lnTo>
                          <a:lnTo>
                            <a:pt x="204" y="759"/>
                          </a:lnTo>
                          <a:lnTo>
                            <a:pt x="205" y="795"/>
                          </a:lnTo>
                          <a:lnTo>
                            <a:pt x="205" y="837"/>
                          </a:lnTo>
                          <a:lnTo>
                            <a:pt x="206" y="864"/>
                          </a:lnTo>
                          <a:lnTo>
                            <a:pt x="205" y="900"/>
                          </a:lnTo>
                          <a:lnTo>
                            <a:pt x="203" y="942"/>
                          </a:lnTo>
                          <a:lnTo>
                            <a:pt x="200" y="976"/>
                          </a:lnTo>
                          <a:lnTo>
                            <a:pt x="202" y="1017"/>
                          </a:lnTo>
                          <a:lnTo>
                            <a:pt x="203" y="1055"/>
                          </a:lnTo>
                          <a:lnTo>
                            <a:pt x="199" y="1079"/>
                          </a:lnTo>
                          <a:lnTo>
                            <a:pt x="195" y="1102"/>
                          </a:lnTo>
                          <a:lnTo>
                            <a:pt x="191" y="1117"/>
                          </a:lnTo>
                          <a:lnTo>
                            <a:pt x="192" y="1134"/>
                          </a:lnTo>
                          <a:lnTo>
                            <a:pt x="197" y="1149"/>
                          </a:lnTo>
                          <a:lnTo>
                            <a:pt x="169" y="1145"/>
                          </a:lnTo>
                          <a:lnTo>
                            <a:pt x="153" y="1138"/>
                          </a:lnTo>
                          <a:lnTo>
                            <a:pt x="134" y="1132"/>
                          </a:lnTo>
                          <a:lnTo>
                            <a:pt x="117" y="1124"/>
                          </a:lnTo>
                          <a:lnTo>
                            <a:pt x="123" y="1094"/>
                          </a:lnTo>
                          <a:lnTo>
                            <a:pt x="126" y="1060"/>
                          </a:lnTo>
                          <a:lnTo>
                            <a:pt x="129" y="1024"/>
                          </a:lnTo>
                          <a:lnTo>
                            <a:pt x="133" y="980"/>
                          </a:lnTo>
                          <a:lnTo>
                            <a:pt x="138" y="928"/>
                          </a:lnTo>
                          <a:lnTo>
                            <a:pt x="141" y="868"/>
                          </a:lnTo>
                          <a:lnTo>
                            <a:pt x="136" y="815"/>
                          </a:lnTo>
                          <a:lnTo>
                            <a:pt x="135" y="761"/>
                          </a:lnTo>
                          <a:lnTo>
                            <a:pt x="129" y="704"/>
                          </a:lnTo>
                          <a:lnTo>
                            <a:pt x="123" y="653"/>
                          </a:lnTo>
                          <a:lnTo>
                            <a:pt x="118" y="605"/>
                          </a:lnTo>
                          <a:lnTo>
                            <a:pt x="114" y="562"/>
                          </a:lnTo>
                          <a:lnTo>
                            <a:pt x="111" y="520"/>
                          </a:lnTo>
                          <a:lnTo>
                            <a:pt x="108" y="483"/>
                          </a:lnTo>
                          <a:lnTo>
                            <a:pt x="105" y="444"/>
                          </a:lnTo>
                          <a:lnTo>
                            <a:pt x="99" y="401"/>
                          </a:lnTo>
                          <a:lnTo>
                            <a:pt x="93" y="354"/>
                          </a:lnTo>
                          <a:lnTo>
                            <a:pt x="81" y="314"/>
                          </a:lnTo>
                          <a:lnTo>
                            <a:pt x="70" y="273"/>
                          </a:lnTo>
                          <a:lnTo>
                            <a:pt x="59" y="238"/>
                          </a:lnTo>
                          <a:lnTo>
                            <a:pt x="53" y="204"/>
                          </a:lnTo>
                          <a:lnTo>
                            <a:pt x="48" y="166"/>
                          </a:lnTo>
                          <a:lnTo>
                            <a:pt x="43" y="128"/>
                          </a:lnTo>
                          <a:lnTo>
                            <a:pt x="30" y="85"/>
                          </a:lnTo>
                          <a:lnTo>
                            <a:pt x="15" y="42"/>
                          </a:lnTo>
                          <a:close/>
                        </a:path>
                      </a:pathLst>
                    </a:custGeom>
                    <a:solidFill>
                      <a:srgbClr val="ff33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6923" name=""/>
                  <p:cNvSpPr/>
                  <p:nvPr/>
                </p:nvSpPr>
                <p:spPr>
                  <a:xfrm>
                    <a:off x="2048400" y="1486440"/>
                    <a:ext cx="13680" cy="35784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036">
                        <a:moveTo>
                          <a:pt x="0" y="0"/>
                        </a:moveTo>
                        <a:lnTo>
                          <a:pt x="13" y="33"/>
                        </a:lnTo>
                        <a:lnTo>
                          <a:pt x="26" y="64"/>
                        </a:lnTo>
                        <a:lnTo>
                          <a:pt x="37" y="97"/>
                        </a:lnTo>
                        <a:lnTo>
                          <a:pt x="47" y="134"/>
                        </a:lnTo>
                        <a:lnTo>
                          <a:pt x="55" y="168"/>
                        </a:lnTo>
                        <a:lnTo>
                          <a:pt x="63" y="203"/>
                        </a:lnTo>
                        <a:lnTo>
                          <a:pt x="71" y="246"/>
                        </a:lnTo>
                        <a:lnTo>
                          <a:pt x="79" y="298"/>
                        </a:lnTo>
                        <a:lnTo>
                          <a:pt x="88" y="352"/>
                        </a:lnTo>
                        <a:lnTo>
                          <a:pt x="94" y="388"/>
                        </a:lnTo>
                        <a:lnTo>
                          <a:pt x="102" y="434"/>
                        </a:lnTo>
                        <a:lnTo>
                          <a:pt x="108" y="479"/>
                        </a:lnTo>
                        <a:lnTo>
                          <a:pt x="111" y="522"/>
                        </a:lnTo>
                        <a:lnTo>
                          <a:pt x="114" y="569"/>
                        </a:lnTo>
                        <a:lnTo>
                          <a:pt x="117" y="616"/>
                        </a:lnTo>
                        <a:lnTo>
                          <a:pt x="120" y="671"/>
                        </a:lnTo>
                        <a:lnTo>
                          <a:pt x="124" y="722"/>
                        </a:lnTo>
                        <a:lnTo>
                          <a:pt x="128" y="777"/>
                        </a:lnTo>
                        <a:lnTo>
                          <a:pt x="131" y="818"/>
                        </a:lnTo>
                        <a:lnTo>
                          <a:pt x="136" y="854"/>
                        </a:lnTo>
                        <a:lnTo>
                          <a:pt x="138" y="898"/>
                        </a:lnTo>
                        <a:lnTo>
                          <a:pt x="137" y="942"/>
                        </a:lnTo>
                        <a:lnTo>
                          <a:pt x="135" y="986"/>
                        </a:lnTo>
                        <a:lnTo>
                          <a:pt x="133" y="1036"/>
                        </a:lnTo>
                      </a:path>
                    </a:pathLst>
                  </a:custGeom>
                  <a:solidFill>
                    <a:srgbClr val="ff3300"/>
                  </a:solidFill>
                  <a:ln w="4680">
                    <a:solidFill>
                      <a:srgbClr val="c0c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6924" name=""/>
              <p:cNvGrpSpPr/>
              <p:nvPr/>
            </p:nvGrpSpPr>
            <p:grpSpPr>
              <a:xfrm>
                <a:off x="2030040" y="1440000"/>
                <a:ext cx="26640" cy="44280"/>
                <a:chOff x="2030040" y="1440000"/>
                <a:chExt cx="26640" cy="44280"/>
              </a:xfrm>
            </p:grpSpPr>
            <p:sp>
              <p:nvSpPr>
                <p:cNvPr id="6925" name=""/>
                <p:cNvSpPr/>
                <p:nvPr/>
              </p:nvSpPr>
              <p:spPr>
                <a:xfrm>
                  <a:off x="2030040" y="1440000"/>
                  <a:ext cx="26640" cy="44280"/>
                </a:xfrm>
                <a:prstGeom prst="ellipse">
                  <a:avLst/>
                </a:prstGeom>
                <a:solidFill>
                  <a:srgbClr val="ff3300"/>
                </a:solidFill>
                <a:ln w="3240">
                  <a:solidFill>
                    <a:srgbClr val="00002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26" name=""/>
                <p:cNvSpPr/>
                <p:nvPr/>
              </p:nvSpPr>
              <p:spPr>
                <a:xfrm>
                  <a:off x="2032920" y="1445040"/>
                  <a:ext cx="20880" cy="34200"/>
                </a:xfrm>
                <a:prstGeom prst="ellipse">
                  <a:avLst/>
                </a:prstGeom>
                <a:solidFill>
                  <a:srgbClr val="ff3300"/>
                </a:solidFill>
                <a:ln w="3240">
                  <a:solidFill>
                    <a:srgbClr val="00002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27" name=""/>
                <p:cNvSpPr/>
                <p:nvPr/>
              </p:nvSpPr>
              <p:spPr>
                <a:xfrm>
                  <a:off x="2034000" y="1448280"/>
                  <a:ext cx="17640" cy="25560"/>
                </a:xfrm>
                <a:prstGeom prst="ellipse">
                  <a:avLst/>
                </a:prstGeom>
                <a:solidFill>
                  <a:srgbClr val="ff3300"/>
                </a:solidFill>
                <a:ln w="3240">
                  <a:solidFill>
                    <a:srgbClr val="00002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928" name=""/>
          <p:cNvSpPr/>
          <p:nvPr/>
        </p:nvSpPr>
        <p:spPr>
          <a:xfrm>
            <a:off x="2068560" y="1482840"/>
            <a:ext cx="903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9" name=""/>
          <p:cNvSpPr/>
          <p:nvPr/>
        </p:nvSpPr>
        <p:spPr>
          <a:xfrm flipV="1">
            <a:off x="2109960" y="1555920"/>
            <a:ext cx="877680" cy="334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0" name=""/>
          <p:cNvSpPr/>
          <p:nvPr/>
        </p:nvSpPr>
        <p:spPr>
          <a:xfrm flipH="1" flipV="1">
            <a:off x="1076040" y="1581120"/>
            <a:ext cx="974520" cy="642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1" name=""/>
          <p:cNvSpPr/>
          <p:nvPr/>
        </p:nvSpPr>
        <p:spPr>
          <a:xfrm>
            <a:off x="1454040" y="4532400"/>
            <a:ext cx="676440" cy="48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32" name=""/>
          <p:cNvGrpSpPr/>
          <p:nvPr/>
        </p:nvGrpSpPr>
        <p:grpSpPr>
          <a:xfrm>
            <a:off x="1469880" y="4562640"/>
            <a:ext cx="628920" cy="438120"/>
            <a:chOff x="1469880" y="4562640"/>
            <a:chExt cx="628920" cy="438120"/>
          </a:xfrm>
        </p:grpSpPr>
        <p:sp>
          <p:nvSpPr>
            <p:cNvPr id="6933" name=""/>
            <p:cNvSpPr/>
            <p:nvPr/>
          </p:nvSpPr>
          <p:spPr>
            <a:xfrm>
              <a:off x="1714680" y="4630680"/>
              <a:ext cx="228600" cy="282600"/>
            </a:xfrm>
            <a:custGeom>
              <a:avLst/>
              <a:gdLst/>
              <a:ahLst/>
              <a:rect l="l" t="t" r="r" b="b"/>
              <a:pathLst>
                <a:path w="2017" h="2671">
                  <a:moveTo>
                    <a:pt x="162" y="314"/>
                  </a:moveTo>
                  <a:lnTo>
                    <a:pt x="164" y="316"/>
                  </a:lnTo>
                  <a:lnTo>
                    <a:pt x="166" y="323"/>
                  </a:lnTo>
                  <a:lnTo>
                    <a:pt x="166" y="332"/>
                  </a:lnTo>
                  <a:lnTo>
                    <a:pt x="163" y="345"/>
                  </a:lnTo>
                  <a:lnTo>
                    <a:pt x="160" y="361"/>
                  </a:lnTo>
                  <a:lnTo>
                    <a:pt x="157" y="380"/>
                  </a:lnTo>
                  <a:lnTo>
                    <a:pt x="152" y="401"/>
                  </a:lnTo>
                  <a:lnTo>
                    <a:pt x="147" y="424"/>
                  </a:lnTo>
                  <a:lnTo>
                    <a:pt x="141" y="450"/>
                  </a:lnTo>
                  <a:lnTo>
                    <a:pt x="133" y="477"/>
                  </a:lnTo>
                  <a:lnTo>
                    <a:pt x="126" y="506"/>
                  </a:lnTo>
                  <a:lnTo>
                    <a:pt x="118" y="536"/>
                  </a:lnTo>
                  <a:lnTo>
                    <a:pt x="101" y="598"/>
                  </a:lnTo>
                  <a:lnTo>
                    <a:pt x="83" y="662"/>
                  </a:lnTo>
                  <a:lnTo>
                    <a:pt x="65" y="726"/>
                  </a:lnTo>
                  <a:lnTo>
                    <a:pt x="48" y="790"/>
                  </a:lnTo>
                  <a:lnTo>
                    <a:pt x="40" y="820"/>
                  </a:lnTo>
                  <a:lnTo>
                    <a:pt x="33" y="847"/>
                  </a:lnTo>
                  <a:lnTo>
                    <a:pt x="26" y="875"/>
                  </a:lnTo>
                  <a:lnTo>
                    <a:pt x="19" y="901"/>
                  </a:lnTo>
                  <a:lnTo>
                    <a:pt x="13" y="924"/>
                  </a:lnTo>
                  <a:lnTo>
                    <a:pt x="9" y="946"/>
                  </a:lnTo>
                  <a:lnTo>
                    <a:pt x="5" y="964"/>
                  </a:lnTo>
                  <a:lnTo>
                    <a:pt x="2" y="980"/>
                  </a:lnTo>
                  <a:lnTo>
                    <a:pt x="1" y="994"/>
                  </a:lnTo>
                  <a:lnTo>
                    <a:pt x="0" y="1004"/>
                  </a:lnTo>
                  <a:lnTo>
                    <a:pt x="1" y="1010"/>
                  </a:lnTo>
                  <a:lnTo>
                    <a:pt x="3" y="1013"/>
                  </a:lnTo>
                  <a:lnTo>
                    <a:pt x="7" y="1014"/>
                  </a:lnTo>
                  <a:lnTo>
                    <a:pt x="12" y="1020"/>
                  </a:lnTo>
                  <a:lnTo>
                    <a:pt x="18" y="1026"/>
                  </a:lnTo>
                  <a:lnTo>
                    <a:pt x="25" y="1037"/>
                  </a:lnTo>
                  <a:lnTo>
                    <a:pt x="33" y="1049"/>
                  </a:lnTo>
                  <a:lnTo>
                    <a:pt x="42" y="1064"/>
                  </a:lnTo>
                  <a:lnTo>
                    <a:pt x="52" y="1081"/>
                  </a:lnTo>
                  <a:lnTo>
                    <a:pt x="61" y="1099"/>
                  </a:lnTo>
                  <a:lnTo>
                    <a:pt x="72" y="1119"/>
                  </a:lnTo>
                  <a:lnTo>
                    <a:pt x="84" y="1142"/>
                  </a:lnTo>
                  <a:lnTo>
                    <a:pt x="95" y="1164"/>
                  </a:lnTo>
                  <a:lnTo>
                    <a:pt x="106" y="1188"/>
                  </a:lnTo>
                  <a:lnTo>
                    <a:pt x="131" y="1238"/>
                  </a:lnTo>
                  <a:lnTo>
                    <a:pt x="157" y="1291"/>
                  </a:lnTo>
                  <a:lnTo>
                    <a:pt x="182" y="1342"/>
                  </a:lnTo>
                  <a:lnTo>
                    <a:pt x="207" y="1392"/>
                  </a:lnTo>
                  <a:lnTo>
                    <a:pt x="219" y="1416"/>
                  </a:lnTo>
                  <a:lnTo>
                    <a:pt x="231" y="1439"/>
                  </a:lnTo>
                  <a:lnTo>
                    <a:pt x="242" y="1461"/>
                  </a:lnTo>
                  <a:lnTo>
                    <a:pt x="253" y="1480"/>
                  </a:lnTo>
                  <a:lnTo>
                    <a:pt x="263" y="1500"/>
                  </a:lnTo>
                  <a:lnTo>
                    <a:pt x="272" y="1516"/>
                  </a:lnTo>
                  <a:lnTo>
                    <a:pt x="281" y="1531"/>
                  </a:lnTo>
                  <a:lnTo>
                    <a:pt x="289" y="1542"/>
                  </a:lnTo>
                  <a:lnTo>
                    <a:pt x="296" y="1552"/>
                  </a:lnTo>
                  <a:lnTo>
                    <a:pt x="301" y="1560"/>
                  </a:lnTo>
                  <a:lnTo>
                    <a:pt x="306" y="1564"/>
                  </a:lnTo>
                  <a:lnTo>
                    <a:pt x="311" y="1565"/>
                  </a:lnTo>
                  <a:lnTo>
                    <a:pt x="315" y="1588"/>
                  </a:lnTo>
                  <a:lnTo>
                    <a:pt x="318" y="1613"/>
                  </a:lnTo>
                  <a:lnTo>
                    <a:pt x="318" y="1638"/>
                  </a:lnTo>
                  <a:lnTo>
                    <a:pt x="317" y="1663"/>
                  </a:lnTo>
                  <a:lnTo>
                    <a:pt x="314" y="1689"/>
                  </a:lnTo>
                  <a:lnTo>
                    <a:pt x="310" y="1715"/>
                  </a:lnTo>
                  <a:lnTo>
                    <a:pt x="304" y="1741"/>
                  </a:lnTo>
                  <a:lnTo>
                    <a:pt x="297" y="1767"/>
                  </a:lnTo>
                  <a:lnTo>
                    <a:pt x="289" y="1793"/>
                  </a:lnTo>
                  <a:lnTo>
                    <a:pt x="281" y="1820"/>
                  </a:lnTo>
                  <a:lnTo>
                    <a:pt x="260" y="1872"/>
                  </a:lnTo>
                  <a:lnTo>
                    <a:pt x="237" y="1925"/>
                  </a:lnTo>
                  <a:lnTo>
                    <a:pt x="212" y="1977"/>
                  </a:lnTo>
                  <a:lnTo>
                    <a:pt x="186" y="2028"/>
                  </a:lnTo>
                  <a:lnTo>
                    <a:pt x="161" y="2077"/>
                  </a:lnTo>
                  <a:lnTo>
                    <a:pt x="139" y="2125"/>
                  </a:lnTo>
                  <a:lnTo>
                    <a:pt x="117" y="2170"/>
                  </a:lnTo>
                  <a:lnTo>
                    <a:pt x="107" y="2192"/>
                  </a:lnTo>
                  <a:lnTo>
                    <a:pt x="99" y="2213"/>
                  </a:lnTo>
                  <a:lnTo>
                    <a:pt x="91" y="2233"/>
                  </a:lnTo>
                  <a:lnTo>
                    <a:pt x="85" y="2252"/>
                  </a:lnTo>
                  <a:lnTo>
                    <a:pt x="81" y="2272"/>
                  </a:lnTo>
                  <a:lnTo>
                    <a:pt x="76" y="2289"/>
                  </a:lnTo>
                  <a:lnTo>
                    <a:pt x="74" y="2306"/>
                  </a:lnTo>
                  <a:lnTo>
                    <a:pt x="74" y="2322"/>
                  </a:lnTo>
                  <a:lnTo>
                    <a:pt x="69" y="2356"/>
                  </a:lnTo>
                  <a:lnTo>
                    <a:pt x="63" y="2392"/>
                  </a:lnTo>
                  <a:lnTo>
                    <a:pt x="46" y="2460"/>
                  </a:lnTo>
                  <a:lnTo>
                    <a:pt x="39" y="2493"/>
                  </a:lnTo>
                  <a:lnTo>
                    <a:pt x="33" y="2524"/>
                  </a:lnTo>
                  <a:lnTo>
                    <a:pt x="28" y="2554"/>
                  </a:lnTo>
                  <a:lnTo>
                    <a:pt x="26" y="2581"/>
                  </a:lnTo>
                  <a:lnTo>
                    <a:pt x="27" y="2606"/>
                  </a:lnTo>
                  <a:lnTo>
                    <a:pt x="29" y="2617"/>
                  </a:lnTo>
                  <a:lnTo>
                    <a:pt x="32" y="2627"/>
                  </a:lnTo>
                  <a:lnTo>
                    <a:pt x="35" y="2637"/>
                  </a:lnTo>
                  <a:lnTo>
                    <a:pt x="40" y="2644"/>
                  </a:lnTo>
                  <a:lnTo>
                    <a:pt x="47" y="2652"/>
                  </a:lnTo>
                  <a:lnTo>
                    <a:pt x="55" y="2658"/>
                  </a:lnTo>
                  <a:lnTo>
                    <a:pt x="65" y="2664"/>
                  </a:lnTo>
                  <a:lnTo>
                    <a:pt x="75" y="2667"/>
                  </a:lnTo>
                  <a:lnTo>
                    <a:pt x="88" y="2670"/>
                  </a:lnTo>
                  <a:lnTo>
                    <a:pt x="102" y="2671"/>
                  </a:lnTo>
                  <a:lnTo>
                    <a:pt x="119" y="2671"/>
                  </a:lnTo>
                  <a:lnTo>
                    <a:pt x="137" y="2670"/>
                  </a:lnTo>
                  <a:lnTo>
                    <a:pt x="157" y="2667"/>
                  </a:lnTo>
                  <a:lnTo>
                    <a:pt x="179" y="2663"/>
                  </a:lnTo>
                  <a:lnTo>
                    <a:pt x="180" y="2662"/>
                  </a:lnTo>
                  <a:lnTo>
                    <a:pt x="183" y="2659"/>
                  </a:lnTo>
                  <a:lnTo>
                    <a:pt x="188" y="2656"/>
                  </a:lnTo>
                  <a:lnTo>
                    <a:pt x="195" y="2652"/>
                  </a:lnTo>
                  <a:lnTo>
                    <a:pt x="202" y="2648"/>
                  </a:lnTo>
                  <a:lnTo>
                    <a:pt x="211" y="2643"/>
                  </a:lnTo>
                  <a:lnTo>
                    <a:pt x="222" y="2637"/>
                  </a:lnTo>
                  <a:lnTo>
                    <a:pt x="234" y="2632"/>
                  </a:lnTo>
                  <a:lnTo>
                    <a:pt x="247" y="2624"/>
                  </a:lnTo>
                  <a:lnTo>
                    <a:pt x="262" y="2617"/>
                  </a:lnTo>
                  <a:lnTo>
                    <a:pt x="277" y="2609"/>
                  </a:lnTo>
                  <a:lnTo>
                    <a:pt x="294" y="2601"/>
                  </a:lnTo>
                  <a:lnTo>
                    <a:pt x="313" y="2591"/>
                  </a:lnTo>
                  <a:lnTo>
                    <a:pt x="331" y="2582"/>
                  </a:lnTo>
                  <a:lnTo>
                    <a:pt x="373" y="2562"/>
                  </a:lnTo>
                  <a:lnTo>
                    <a:pt x="417" y="2539"/>
                  </a:lnTo>
                  <a:lnTo>
                    <a:pt x="466" y="2516"/>
                  </a:lnTo>
                  <a:lnTo>
                    <a:pt x="517" y="2491"/>
                  </a:lnTo>
                  <a:lnTo>
                    <a:pt x="571" y="2466"/>
                  </a:lnTo>
                  <a:lnTo>
                    <a:pt x="627" y="2439"/>
                  </a:lnTo>
                  <a:lnTo>
                    <a:pt x="684" y="2411"/>
                  </a:lnTo>
                  <a:lnTo>
                    <a:pt x="743" y="2383"/>
                  </a:lnTo>
                  <a:lnTo>
                    <a:pt x="803" y="2355"/>
                  </a:lnTo>
                  <a:lnTo>
                    <a:pt x="923" y="2297"/>
                  </a:lnTo>
                  <a:lnTo>
                    <a:pt x="983" y="2269"/>
                  </a:lnTo>
                  <a:lnTo>
                    <a:pt x="1042" y="2241"/>
                  </a:lnTo>
                  <a:lnTo>
                    <a:pt x="1101" y="2213"/>
                  </a:lnTo>
                  <a:lnTo>
                    <a:pt x="1158" y="2186"/>
                  </a:lnTo>
                  <a:lnTo>
                    <a:pt x="1213" y="2159"/>
                  </a:lnTo>
                  <a:lnTo>
                    <a:pt x="1266" y="2135"/>
                  </a:lnTo>
                  <a:lnTo>
                    <a:pt x="1316" y="2110"/>
                  </a:lnTo>
                  <a:lnTo>
                    <a:pt x="1364" y="2088"/>
                  </a:lnTo>
                  <a:lnTo>
                    <a:pt x="1407" y="2067"/>
                  </a:lnTo>
                  <a:lnTo>
                    <a:pt x="1428" y="2058"/>
                  </a:lnTo>
                  <a:lnTo>
                    <a:pt x="1447" y="2048"/>
                  </a:lnTo>
                  <a:lnTo>
                    <a:pt x="1465" y="2039"/>
                  </a:lnTo>
                  <a:lnTo>
                    <a:pt x="1483" y="2031"/>
                  </a:lnTo>
                  <a:lnTo>
                    <a:pt x="1498" y="2022"/>
                  </a:lnTo>
                  <a:lnTo>
                    <a:pt x="1514" y="2016"/>
                  </a:lnTo>
                  <a:lnTo>
                    <a:pt x="1527" y="2008"/>
                  </a:lnTo>
                  <a:lnTo>
                    <a:pt x="1540" y="2003"/>
                  </a:lnTo>
                  <a:lnTo>
                    <a:pt x="1551" y="1998"/>
                  </a:lnTo>
                  <a:lnTo>
                    <a:pt x="1561" y="1992"/>
                  </a:lnTo>
                  <a:lnTo>
                    <a:pt x="2017" y="1446"/>
                  </a:lnTo>
                  <a:lnTo>
                    <a:pt x="1903" y="187"/>
                  </a:lnTo>
                  <a:lnTo>
                    <a:pt x="1567" y="0"/>
                  </a:lnTo>
                  <a:lnTo>
                    <a:pt x="590" y="308"/>
                  </a:lnTo>
                  <a:lnTo>
                    <a:pt x="620" y="967"/>
                  </a:lnTo>
                  <a:lnTo>
                    <a:pt x="544" y="1165"/>
                  </a:lnTo>
                  <a:lnTo>
                    <a:pt x="162" y="314"/>
                  </a:lnTo>
                  <a:close/>
                </a:path>
              </a:pathLst>
            </a:cu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34" name=""/>
            <p:cNvGrpSpPr/>
            <p:nvPr/>
          </p:nvGrpSpPr>
          <p:grpSpPr>
            <a:xfrm>
              <a:off x="1469880" y="4562640"/>
              <a:ext cx="628920" cy="438120"/>
              <a:chOff x="1469880" y="4562640"/>
              <a:chExt cx="628920" cy="438120"/>
            </a:xfrm>
          </p:grpSpPr>
          <p:grpSp>
            <p:nvGrpSpPr>
              <p:cNvPr id="6935" name=""/>
              <p:cNvGrpSpPr/>
              <p:nvPr/>
            </p:nvGrpSpPr>
            <p:grpSpPr>
              <a:xfrm>
                <a:off x="1469880" y="4562640"/>
                <a:ext cx="409680" cy="438120"/>
                <a:chOff x="1469880" y="4562640"/>
                <a:chExt cx="409680" cy="438120"/>
              </a:xfrm>
            </p:grpSpPr>
            <p:sp>
              <p:nvSpPr>
                <p:cNvPr id="6936" name=""/>
                <p:cNvSpPr/>
                <p:nvPr/>
              </p:nvSpPr>
              <p:spPr>
                <a:xfrm>
                  <a:off x="1469880" y="4562640"/>
                  <a:ext cx="409680" cy="438120"/>
                </a:xfrm>
                <a:custGeom>
                  <a:avLst/>
                  <a:gdLst/>
                  <a:ahLst/>
                  <a:rect l="l" t="t" r="r" b="b"/>
                  <a:pathLst>
                    <a:path w="3608" h="4127">
                      <a:moveTo>
                        <a:pt x="2476" y="3341"/>
                      </a:moveTo>
                      <a:lnTo>
                        <a:pt x="2473" y="3349"/>
                      </a:lnTo>
                      <a:lnTo>
                        <a:pt x="2471" y="3358"/>
                      </a:lnTo>
                      <a:lnTo>
                        <a:pt x="2465" y="3379"/>
                      </a:lnTo>
                      <a:lnTo>
                        <a:pt x="2458" y="3405"/>
                      </a:lnTo>
                      <a:lnTo>
                        <a:pt x="2452" y="3433"/>
                      </a:lnTo>
                      <a:lnTo>
                        <a:pt x="2445" y="3464"/>
                      </a:lnTo>
                      <a:lnTo>
                        <a:pt x="2438" y="3496"/>
                      </a:lnTo>
                      <a:lnTo>
                        <a:pt x="2428" y="3530"/>
                      </a:lnTo>
                      <a:lnTo>
                        <a:pt x="2419" y="3565"/>
                      </a:lnTo>
                      <a:lnTo>
                        <a:pt x="2409" y="3602"/>
                      </a:lnTo>
                      <a:lnTo>
                        <a:pt x="2397" y="3637"/>
                      </a:lnTo>
                      <a:lnTo>
                        <a:pt x="2385" y="3673"/>
                      </a:lnTo>
                      <a:lnTo>
                        <a:pt x="2370" y="3708"/>
                      </a:lnTo>
                      <a:lnTo>
                        <a:pt x="2355" y="3741"/>
                      </a:lnTo>
                      <a:lnTo>
                        <a:pt x="2337" y="3772"/>
                      </a:lnTo>
                      <a:lnTo>
                        <a:pt x="2318" y="3801"/>
                      </a:lnTo>
                      <a:lnTo>
                        <a:pt x="2297" y="3827"/>
                      </a:lnTo>
                      <a:lnTo>
                        <a:pt x="2274" y="3852"/>
                      </a:lnTo>
                      <a:lnTo>
                        <a:pt x="2250" y="3879"/>
                      </a:lnTo>
                      <a:lnTo>
                        <a:pt x="2224" y="3907"/>
                      </a:lnTo>
                      <a:lnTo>
                        <a:pt x="2198" y="3936"/>
                      </a:lnTo>
                      <a:lnTo>
                        <a:pt x="2170" y="3965"/>
                      </a:lnTo>
                      <a:lnTo>
                        <a:pt x="2140" y="3993"/>
                      </a:lnTo>
                      <a:lnTo>
                        <a:pt x="2110" y="4020"/>
                      </a:lnTo>
                      <a:lnTo>
                        <a:pt x="2078" y="4044"/>
                      </a:lnTo>
                      <a:lnTo>
                        <a:pt x="2044" y="4067"/>
                      </a:lnTo>
                      <a:lnTo>
                        <a:pt x="2009" y="4087"/>
                      </a:lnTo>
                      <a:lnTo>
                        <a:pt x="1971" y="4103"/>
                      </a:lnTo>
                      <a:lnTo>
                        <a:pt x="1953" y="4111"/>
                      </a:lnTo>
                      <a:lnTo>
                        <a:pt x="1933" y="4116"/>
                      </a:lnTo>
                      <a:lnTo>
                        <a:pt x="1913" y="4120"/>
                      </a:lnTo>
                      <a:lnTo>
                        <a:pt x="1893" y="4124"/>
                      </a:lnTo>
                      <a:lnTo>
                        <a:pt x="1872" y="4127"/>
                      </a:lnTo>
                      <a:lnTo>
                        <a:pt x="1851" y="4127"/>
                      </a:lnTo>
                      <a:lnTo>
                        <a:pt x="1829" y="4127"/>
                      </a:lnTo>
                      <a:lnTo>
                        <a:pt x="1808" y="4124"/>
                      </a:lnTo>
                      <a:lnTo>
                        <a:pt x="1785" y="4120"/>
                      </a:lnTo>
                      <a:lnTo>
                        <a:pt x="1762" y="4115"/>
                      </a:lnTo>
                      <a:lnTo>
                        <a:pt x="1738" y="4107"/>
                      </a:lnTo>
                      <a:lnTo>
                        <a:pt x="1714" y="4100"/>
                      </a:lnTo>
                      <a:lnTo>
                        <a:pt x="1688" y="4089"/>
                      </a:lnTo>
                      <a:lnTo>
                        <a:pt x="1662" y="4078"/>
                      </a:lnTo>
                      <a:lnTo>
                        <a:pt x="1636" y="4067"/>
                      </a:lnTo>
                      <a:lnTo>
                        <a:pt x="1608" y="4053"/>
                      </a:lnTo>
                      <a:lnTo>
                        <a:pt x="1580" y="4038"/>
                      </a:lnTo>
                      <a:lnTo>
                        <a:pt x="1551" y="4022"/>
                      </a:lnTo>
                      <a:lnTo>
                        <a:pt x="1520" y="4005"/>
                      </a:lnTo>
                      <a:lnTo>
                        <a:pt x="1490" y="3987"/>
                      </a:lnTo>
                      <a:lnTo>
                        <a:pt x="1429" y="3948"/>
                      </a:lnTo>
                      <a:lnTo>
                        <a:pt x="1367" y="3906"/>
                      </a:lnTo>
                      <a:lnTo>
                        <a:pt x="1304" y="3860"/>
                      </a:lnTo>
                      <a:lnTo>
                        <a:pt x="1241" y="3812"/>
                      </a:lnTo>
                      <a:lnTo>
                        <a:pt x="1176" y="3761"/>
                      </a:lnTo>
                      <a:lnTo>
                        <a:pt x="1113" y="3709"/>
                      </a:lnTo>
                      <a:lnTo>
                        <a:pt x="1051" y="3654"/>
                      </a:lnTo>
                      <a:lnTo>
                        <a:pt x="991" y="3599"/>
                      </a:lnTo>
                      <a:lnTo>
                        <a:pt x="932" y="3543"/>
                      </a:lnTo>
                      <a:lnTo>
                        <a:pt x="875" y="3485"/>
                      </a:lnTo>
                      <a:lnTo>
                        <a:pt x="821" y="3428"/>
                      </a:lnTo>
                      <a:lnTo>
                        <a:pt x="768" y="3369"/>
                      </a:lnTo>
                      <a:lnTo>
                        <a:pt x="714" y="3308"/>
                      </a:lnTo>
                      <a:lnTo>
                        <a:pt x="659" y="3244"/>
                      </a:lnTo>
                      <a:lnTo>
                        <a:pt x="605" y="3179"/>
                      </a:lnTo>
                      <a:lnTo>
                        <a:pt x="550" y="3110"/>
                      </a:lnTo>
                      <a:lnTo>
                        <a:pt x="496" y="3041"/>
                      </a:lnTo>
                      <a:lnTo>
                        <a:pt x="445" y="2969"/>
                      </a:lnTo>
                      <a:lnTo>
                        <a:pt x="393" y="2896"/>
                      </a:lnTo>
                      <a:lnTo>
                        <a:pt x="344" y="2821"/>
                      </a:lnTo>
                      <a:lnTo>
                        <a:pt x="296" y="2746"/>
                      </a:lnTo>
                      <a:lnTo>
                        <a:pt x="253" y="2670"/>
                      </a:lnTo>
                      <a:lnTo>
                        <a:pt x="211" y="2594"/>
                      </a:lnTo>
                      <a:lnTo>
                        <a:pt x="173" y="2517"/>
                      </a:lnTo>
                      <a:lnTo>
                        <a:pt x="155" y="2478"/>
                      </a:lnTo>
                      <a:lnTo>
                        <a:pt x="139" y="2440"/>
                      </a:lnTo>
                      <a:lnTo>
                        <a:pt x="123" y="2401"/>
                      </a:lnTo>
                      <a:lnTo>
                        <a:pt x="109" y="2363"/>
                      </a:lnTo>
                      <a:lnTo>
                        <a:pt x="95" y="2325"/>
                      </a:lnTo>
                      <a:lnTo>
                        <a:pt x="83" y="2287"/>
                      </a:lnTo>
                      <a:lnTo>
                        <a:pt x="61" y="2210"/>
                      </a:lnTo>
                      <a:lnTo>
                        <a:pt x="43" y="2129"/>
                      </a:lnTo>
                      <a:lnTo>
                        <a:pt x="29" y="2047"/>
                      </a:lnTo>
                      <a:lnTo>
                        <a:pt x="18" y="1963"/>
                      </a:lnTo>
                      <a:lnTo>
                        <a:pt x="8" y="1879"/>
                      </a:lnTo>
                      <a:lnTo>
                        <a:pt x="3" y="1793"/>
                      </a:lnTo>
                      <a:lnTo>
                        <a:pt x="0" y="1706"/>
                      </a:lnTo>
                      <a:lnTo>
                        <a:pt x="0" y="1621"/>
                      </a:lnTo>
                      <a:lnTo>
                        <a:pt x="2" y="1535"/>
                      </a:lnTo>
                      <a:lnTo>
                        <a:pt x="6" y="1450"/>
                      </a:lnTo>
                      <a:lnTo>
                        <a:pt x="13" y="1367"/>
                      </a:lnTo>
                      <a:lnTo>
                        <a:pt x="23" y="1284"/>
                      </a:lnTo>
                      <a:lnTo>
                        <a:pt x="33" y="1204"/>
                      </a:lnTo>
                      <a:lnTo>
                        <a:pt x="47" y="1127"/>
                      </a:lnTo>
                      <a:lnTo>
                        <a:pt x="61" y="1053"/>
                      </a:lnTo>
                      <a:lnTo>
                        <a:pt x="78" y="981"/>
                      </a:lnTo>
                      <a:lnTo>
                        <a:pt x="112" y="841"/>
                      </a:lnTo>
                      <a:lnTo>
                        <a:pt x="129" y="771"/>
                      </a:lnTo>
                      <a:lnTo>
                        <a:pt x="147" y="702"/>
                      </a:lnTo>
                      <a:lnTo>
                        <a:pt x="167" y="632"/>
                      </a:lnTo>
                      <a:lnTo>
                        <a:pt x="189" y="566"/>
                      </a:lnTo>
                      <a:lnTo>
                        <a:pt x="213" y="499"/>
                      </a:lnTo>
                      <a:lnTo>
                        <a:pt x="240" y="436"/>
                      </a:lnTo>
                      <a:lnTo>
                        <a:pt x="256" y="406"/>
                      </a:lnTo>
                      <a:lnTo>
                        <a:pt x="271" y="376"/>
                      </a:lnTo>
                      <a:lnTo>
                        <a:pt x="289" y="346"/>
                      </a:lnTo>
                      <a:lnTo>
                        <a:pt x="307" y="318"/>
                      </a:lnTo>
                      <a:lnTo>
                        <a:pt x="326" y="291"/>
                      </a:lnTo>
                      <a:lnTo>
                        <a:pt x="347" y="264"/>
                      </a:lnTo>
                      <a:lnTo>
                        <a:pt x="369" y="238"/>
                      </a:lnTo>
                      <a:lnTo>
                        <a:pt x="393" y="213"/>
                      </a:lnTo>
                      <a:lnTo>
                        <a:pt x="418" y="190"/>
                      </a:lnTo>
                      <a:lnTo>
                        <a:pt x="444" y="168"/>
                      </a:lnTo>
                      <a:lnTo>
                        <a:pt x="472" y="147"/>
                      </a:lnTo>
                      <a:lnTo>
                        <a:pt x="501" y="127"/>
                      </a:lnTo>
                      <a:lnTo>
                        <a:pt x="532" y="108"/>
                      </a:lnTo>
                      <a:lnTo>
                        <a:pt x="565" y="90"/>
                      </a:lnTo>
                      <a:lnTo>
                        <a:pt x="600" y="75"/>
                      </a:lnTo>
                      <a:lnTo>
                        <a:pt x="636" y="60"/>
                      </a:lnTo>
                      <a:lnTo>
                        <a:pt x="676" y="47"/>
                      </a:lnTo>
                      <a:lnTo>
                        <a:pt x="718" y="37"/>
                      </a:lnTo>
                      <a:lnTo>
                        <a:pt x="764" y="27"/>
                      </a:lnTo>
                      <a:lnTo>
                        <a:pt x="812" y="20"/>
                      </a:lnTo>
                      <a:lnTo>
                        <a:pt x="862" y="13"/>
                      </a:lnTo>
                      <a:lnTo>
                        <a:pt x="915" y="8"/>
                      </a:lnTo>
                      <a:lnTo>
                        <a:pt x="970" y="5"/>
                      </a:lnTo>
                      <a:lnTo>
                        <a:pt x="1026" y="2"/>
                      </a:lnTo>
                      <a:lnTo>
                        <a:pt x="1085" y="0"/>
                      </a:lnTo>
                      <a:lnTo>
                        <a:pt x="1145" y="0"/>
                      </a:lnTo>
                      <a:lnTo>
                        <a:pt x="1206" y="1"/>
                      </a:lnTo>
                      <a:lnTo>
                        <a:pt x="1270" y="4"/>
                      </a:lnTo>
                      <a:lnTo>
                        <a:pt x="1398" y="9"/>
                      </a:lnTo>
                      <a:lnTo>
                        <a:pt x="1529" y="17"/>
                      </a:lnTo>
                      <a:lnTo>
                        <a:pt x="1660" y="28"/>
                      </a:lnTo>
                      <a:lnTo>
                        <a:pt x="1792" y="40"/>
                      </a:lnTo>
                      <a:lnTo>
                        <a:pt x="1922" y="53"/>
                      </a:lnTo>
                      <a:lnTo>
                        <a:pt x="1986" y="59"/>
                      </a:lnTo>
                      <a:lnTo>
                        <a:pt x="2048" y="66"/>
                      </a:lnTo>
                      <a:lnTo>
                        <a:pt x="2109" y="72"/>
                      </a:lnTo>
                      <a:lnTo>
                        <a:pt x="2169" y="77"/>
                      </a:lnTo>
                      <a:lnTo>
                        <a:pt x="2228" y="84"/>
                      </a:lnTo>
                      <a:lnTo>
                        <a:pt x="2284" y="89"/>
                      </a:lnTo>
                      <a:lnTo>
                        <a:pt x="2339" y="93"/>
                      </a:lnTo>
                      <a:lnTo>
                        <a:pt x="2392" y="98"/>
                      </a:lnTo>
                      <a:lnTo>
                        <a:pt x="2442" y="101"/>
                      </a:lnTo>
                      <a:lnTo>
                        <a:pt x="2490" y="104"/>
                      </a:lnTo>
                      <a:lnTo>
                        <a:pt x="2581" y="110"/>
                      </a:lnTo>
                      <a:lnTo>
                        <a:pt x="2670" y="117"/>
                      </a:lnTo>
                      <a:lnTo>
                        <a:pt x="2757" y="125"/>
                      </a:lnTo>
                      <a:lnTo>
                        <a:pt x="2841" y="132"/>
                      </a:lnTo>
                      <a:lnTo>
                        <a:pt x="2922" y="141"/>
                      </a:lnTo>
                      <a:lnTo>
                        <a:pt x="3000" y="149"/>
                      </a:lnTo>
                      <a:lnTo>
                        <a:pt x="3075" y="159"/>
                      </a:lnTo>
                      <a:lnTo>
                        <a:pt x="3147" y="168"/>
                      </a:lnTo>
                      <a:lnTo>
                        <a:pt x="3216" y="177"/>
                      </a:lnTo>
                      <a:lnTo>
                        <a:pt x="3283" y="187"/>
                      </a:lnTo>
                      <a:lnTo>
                        <a:pt x="3345" y="195"/>
                      </a:lnTo>
                      <a:lnTo>
                        <a:pt x="3405" y="204"/>
                      </a:lnTo>
                      <a:lnTo>
                        <a:pt x="3461" y="211"/>
                      </a:lnTo>
                      <a:lnTo>
                        <a:pt x="3514" y="218"/>
                      </a:lnTo>
                      <a:lnTo>
                        <a:pt x="3562" y="224"/>
                      </a:lnTo>
                      <a:lnTo>
                        <a:pt x="3608" y="229"/>
                      </a:lnTo>
                      <a:lnTo>
                        <a:pt x="2476" y="3341"/>
                      </a:lnTo>
                      <a:close/>
                    </a:path>
                  </a:pathLst>
                </a:custGeom>
                <a:solidFill>
                  <a:srgbClr val="cc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37" name=""/>
                <p:cNvSpPr/>
                <p:nvPr/>
              </p:nvSpPr>
              <p:spPr>
                <a:xfrm>
                  <a:off x="1469880" y="4562640"/>
                  <a:ext cx="409680" cy="438120"/>
                </a:xfrm>
                <a:custGeom>
                  <a:avLst/>
                  <a:gdLst/>
                  <a:ahLst/>
                  <a:rect l="l" t="t" r="r" b="b"/>
                  <a:pathLst>
                    <a:path w="3608" h="4127">
                      <a:moveTo>
                        <a:pt x="2476" y="3341"/>
                      </a:moveTo>
                      <a:lnTo>
                        <a:pt x="2473" y="3349"/>
                      </a:lnTo>
                      <a:lnTo>
                        <a:pt x="2471" y="3358"/>
                      </a:lnTo>
                      <a:lnTo>
                        <a:pt x="2465" y="3379"/>
                      </a:lnTo>
                      <a:lnTo>
                        <a:pt x="2458" y="3405"/>
                      </a:lnTo>
                      <a:lnTo>
                        <a:pt x="2452" y="3433"/>
                      </a:lnTo>
                      <a:lnTo>
                        <a:pt x="2445" y="3464"/>
                      </a:lnTo>
                      <a:lnTo>
                        <a:pt x="2438" y="3496"/>
                      </a:lnTo>
                      <a:lnTo>
                        <a:pt x="2428" y="3530"/>
                      </a:lnTo>
                      <a:lnTo>
                        <a:pt x="2419" y="3565"/>
                      </a:lnTo>
                      <a:lnTo>
                        <a:pt x="2409" y="3602"/>
                      </a:lnTo>
                      <a:lnTo>
                        <a:pt x="2397" y="3637"/>
                      </a:lnTo>
                      <a:lnTo>
                        <a:pt x="2385" y="3673"/>
                      </a:lnTo>
                      <a:lnTo>
                        <a:pt x="2370" y="3708"/>
                      </a:lnTo>
                      <a:lnTo>
                        <a:pt x="2355" y="3741"/>
                      </a:lnTo>
                      <a:lnTo>
                        <a:pt x="2337" y="3772"/>
                      </a:lnTo>
                      <a:lnTo>
                        <a:pt x="2318" y="3801"/>
                      </a:lnTo>
                      <a:lnTo>
                        <a:pt x="2297" y="3827"/>
                      </a:lnTo>
                      <a:lnTo>
                        <a:pt x="2274" y="3852"/>
                      </a:lnTo>
                      <a:lnTo>
                        <a:pt x="2250" y="3879"/>
                      </a:lnTo>
                      <a:lnTo>
                        <a:pt x="2224" y="3907"/>
                      </a:lnTo>
                      <a:lnTo>
                        <a:pt x="2198" y="3936"/>
                      </a:lnTo>
                      <a:lnTo>
                        <a:pt x="2170" y="3965"/>
                      </a:lnTo>
                      <a:lnTo>
                        <a:pt x="2140" y="3993"/>
                      </a:lnTo>
                      <a:lnTo>
                        <a:pt x="2110" y="4020"/>
                      </a:lnTo>
                      <a:lnTo>
                        <a:pt x="2078" y="4044"/>
                      </a:lnTo>
                      <a:lnTo>
                        <a:pt x="2044" y="4067"/>
                      </a:lnTo>
                      <a:lnTo>
                        <a:pt x="2009" y="4087"/>
                      </a:lnTo>
                      <a:lnTo>
                        <a:pt x="1971" y="4103"/>
                      </a:lnTo>
                      <a:lnTo>
                        <a:pt x="1953" y="4111"/>
                      </a:lnTo>
                      <a:lnTo>
                        <a:pt x="1933" y="4116"/>
                      </a:lnTo>
                      <a:lnTo>
                        <a:pt x="1913" y="4120"/>
                      </a:lnTo>
                      <a:lnTo>
                        <a:pt x="1893" y="4124"/>
                      </a:lnTo>
                      <a:lnTo>
                        <a:pt x="1872" y="4127"/>
                      </a:lnTo>
                      <a:lnTo>
                        <a:pt x="1851" y="4127"/>
                      </a:lnTo>
                      <a:lnTo>
                        <a:pt x="1829" y="4127"/>
                      </a:lnTo>
                      <a:lnTo>
                        <a:pt x="1808" y="4124"/>
                      </a:lnTo>
                      <a:lnTo>
                        <a:pt x="1785" y="4120"/>
                      </a:lnTo>
                      <a:lnTo>
                        <a:pt x="1762" y="4115"/>
                      </a:lnTo>
                      <a:lnTo>
                        <a:pt x="1738" y="4107"/>
                      </a:lnTo>
                      <a:lnTo>
                        <a:pt x="1714" y="4100"/>
                      </a:lnTo>
                      <a:lnTo>
                        <a:pt x="1688" y="4089"/>
                      </a:lnTo>
                      <a:lnTo>
                        <a:pt x="1662" y="4078"/>
                      </a:lnTo>
                      <a:lnTo>
                        <a:pt x="1636" y="4067"/>
                      </a:lnTo>
                      <a:lnTo>
                        <a:pt x="1608" y="4053"/>
                      </a:lnTo>
                      <a:lnTo>
                        <a:pt x="1580" y="4038"/>
                      </a:lnTo>
                      <a:lnTo>
                        <a:pt x="1551" y="4022"/>
                      </a:lnTo>
                      <a:lnTo>
                        <a:pt x="1520" y="4005"/>
                      </a:lnTo>
                      <a:lnTo>
                        <a:pt x="1490" y="3987"/>
                      </a:lnTo>
                      <a:lnTo>
                        <a:pt x="1429" y="3948"/>
                      </a:lnTo>
                      <a:lnTo>
                        <a:pt x="1367" y="3906"/>
                      </a:lnTo>
                      <a:lnTo>
                        <a:pt x="1304" y="3860"/>
                      </a:lnTo>
                      <a:lnTo>
                        <a:pt x="1241" y="3812"/>
                      </a:lnTo>
                      <a:lnTo>
                        <a:pt x="1176" y="3761"/>
                      </a:lnTo>
                      <a:lnTo>
                        <a:pt x="1113" y="3709"/>
                      </a:lnTo>
                      <a:lnTo>
                        <a:pt x="1051" y="3654"/>
                      </a:lnTo>
                      <a:lnTo>
                        <a:pt x="991" y="3599"/>
                      </a:lnTo>
                      <a:lnTo>
                        <a:pt x="932" y="3543"/>
                      </a:lnTo>
                      <a:lnTo>
                        <a:pt x="875" y="3485"/>
                      </a:lnTo>
                      <a:lnTo>
                        <a:pt x="821" y="3428"/>
                      </a:lnTo>
                      <a:lnTo>
                        <a:pt x="768" y="3369"/>
                      </a:lnTo>
                      <a:lnTo>
                        <a:pt x="714" y="3308"/>
                      </a:lnTo>
                      <a:lnTo>
                        <a:pt x="659" y="3244"/>
                      </a:lnTo>
                      <a:lnTo>
                        <a:pt x="605" y="3179"/>
                      </a:lnTo>
                      <a:lnTo>
                        <a:pt x="550" y="3110"/>
                      </a:lnTo>
                      <a:lnTo>
                        <a:pt x="496" y="3041"/>
                      </a:lnTo>
                      <a:lnTo>
                        <a:pt x="445" y="2969"/>
                      </a:lnTo>
                      <a:lnTo>
                        <a:pt x="393" y="2896"/>
                      </a:lnTo>
                      <a:lnTo>
                        <a:pt x="344" y="2821"/>
                      </a:lnTo>
                      <a:lnTo>
                        <a:pt x="296" y="2746"/>
                      </a:lnTo>
                      <a:lnTo>
                        <a:pt x="253" y="2670"/>
                      </a:lnTo>
                      <a:lnTo>
                        <a:pt x="211" y="2594"/>
                      </a:lnTo>
                      <a:lnTo>
                        <a:pt x="173" y="2517"/>
                      </a:lnTo>
                      <a:lnTo>
                        <a:pt x="155" y="2478"/>
                      </a:lnTo>
                      <a:lnTo>
                        <a:pt x="139" y="2440"/>
                      </a:lnTo>
                      <a:lnTo>
                        <a:pt x="123" y="2401"/>
                      </a:lnTo>
                      <a:lnTo>
                        <a:pt x="109" y="2363"/>
                      </a:lnTo>
                      <a:lnTo>
                        <a:pt x="95" y="2325"/>
                      </a:lnTo>
                      <a:lnTo>
                        <a:pt x="83" y="2287"/>
                      </a:lnTo>
                      <a:lnTo>
                        <a:pt x="61" y="2210"/>
                      </a:lnTo>
                      <a:lnTo>
                        <a:pt x="43" y="2129"/>
                      </a:lnTo>
                      <a:lnTo>
                        <a:pt x="29" y="2047"/>
                      </a:lnTo>
                      <a:lnTo>
                        <a:pt x="18" y="1963"/>
                      </a:lnTo>
                      <a:lnTo>
                        <a:pt x="8" y="1879"/>
                      </a:lnTo>
                      <a:lnTo>
                        <a:pt x="3" y="1793"/>
                      </a:lnTo>
                      <a:lnTo>
                        <a:pt x="0" y="1706"/>
                      </a:lnTo>
                      <a:lnTo>
                        <a:pt x="0" y="1621"/>
                      </a:lnTo>
                      <a:lnTo>
                        <a:pt x="2" y="1535"/>
                      </a:lnTo>
                      <a:lnTo>
                        <a:pt x="6" y="1450"/>
                      </a:lnTo>
                      <a:lnTo>
                        <a:pt x="13" y="1367"/>
                      </a:lnTo>
                      <a:lnTo>
                        <a:pt x="23" y="1284"/>
                      </a:lnTo>
                      <a:lnTo>
                        <a:pt x="33" y="1204"/>
                      </a:lnTo>
                      <a:lnTo>
                        <a:pt x="47" y="1127"/>
                      </a:lnTo>
                      <a:lnTo>
                        <a:pt x="61" y="1053"/>
                      </a:lnTo>
                      <a:lnTo>
                        <a:pt x="78" y="981"/>
                      </a:lnTo>
                      <a:lnTo>
                        <a:pt x="112" y="841"/>
                      </a:lnTo>
                      <a:lnTo>
                        <a:pt x="129" y="771"/>
                      </a:lnTo>
                      <a:lnTo>
                        <a:pt x="147" y="702"/>
                      </a:lnTo>
                      <a:lnTo>
                        <a:pt x="167" y="632"/>
                      </a:lnTo>
                      <a:lnTo>
                        <a:pt x="189" y="566"/>
                      </a:lnTo>
                      <a:lnTo>
                        <a:pt x="213" y="499"/>
                      </a:lnTo>
                      <a:lnTo>
                        <a:pt x="240" y="436"/>
                      </a:lnTo>
                      <a:lnTo>
                        <a:pt x="256" y="406"/>
                      </a:lnTo>
                      <a:lnTo>
                        <a:pt x="271" y="376"/>
                      </a:lnTo>
                      <a:lnTo>
                        <a:pt x="289" y="346"/>
                      </a:lnTo>
                      <a:lnTo>
                        <a:pt x="307" y="318"/>
                      </a:lnTo>
                      <a:lnTo>
                        <a:pt x="326" y="291"/>
                      </a:lnTo>
                      <a:lnTo>
                        <a:pt x="347" y="264"/>
                      </a:lnTo>
                      <a:lnTo>
                        <a:pt x="369" y="238"/>
                      </a:lnTo>
                      <a:lnTo>
                        <a:pt x="393" y="213"/>
                      </a:lnTo>
                      <a:lnTo>
                        <a:pt x="418" y="190"/>
                      </a:lnTo>
                      <a:lnTo>
                        <a:pt x="444" y="168"/>
                      </a:lnTo>
                      <a:lnTo>
                        <a:pt x="472" y="147"/>
                      </a:lnTo>
                      <a:lnTo>
                        <a:pt x="501" y="127"/>
                      </a:lnTo>
                      <a:lnTo>
                        <a:pt x="532" y="108"/>
                      </a:lnTo>
                      <a:lnTo>
                        <a:pt x="565" y="90"/>
                      </a:lnTo>
                      <a:lnTo>
                        <a:pt x="600" y="75"/>
                      </a:lnTo>
                      <a:lnTo>
                        <a:pt x="636" y="60"/>
                      </a:lnTo>
                      <a:lnTo>
                        <a:pt x="676" y="47"/>
                      </a:lnTo>
                      <a:lnTo>
                        <a:pt x="718" y="37"/>
                      </a:lnTo>
                      <a:lnTo>
                        <a:pt x="764" y="27"/>
                      </a:lnTo>
                      <a:lnTo>
                        <a:pt x="812" y="20"/>
                      </a:lnTo>
                      <a:lnTo>
                        <a:pt x="862" y="13"/>
                      </a:lnTo>
                      <a:lnTo>
                        <a:pt x="915" y="8"/>
                      </a:lnTo>
                      <a:lnTo>
                        <a:pt x="970" y="5"/>
                      </a:lnTo>
                      <a:lnTo>
                        <a:pt x="1026" y="2"/>
                      </a:lnTo>
                      <a:lnTo>
                        <a:pt x="1085" y="0"/>
                      </a:lnTo>
                      <a:lnTo>
                        <a:pt x="1145" y="0"/>
                      </a:lnTo>
                      <a:lnTo>
                        <a:pt x="1206" y="1"/>
                      </a:lnTo>
                      <a:lnTo>
                        <a:pt x="1270" y="4"/>
                      </a:lnTo>
                      <a:lnTo>
                        <a:pt x="1398" y="9"/>
                      </a:lnTo>
                      <a:lnTo>
                        <a:pt x="1529" y="17"/>
                      </a:lnTo>
                      <a:lnTo>
                        <a:pt x="1660" y="28"/>
                      </a:lnTo>
                      <a:lnTo>
                        <a:pt x="1792" y="40"/>
                      </a:lnTo>
                      <a:lnTo>
                        <a:pt x="1922" y="53"/>
                      </a:lnTo>
                      <a:lnTo>
                        <a:pt x="1986" y="59"/>
                      </a:lnTo>
                      <a:lnTo>
                        <a:pt x="2048" y="66"/>
                      </a:lnTo>
                      <a:lnTo>
                        <a:pt x="2109" y="72"/>
                      </a:lnTo>
                      <a:lnTo>
                        <a:pt x="2169" y="77"/>
                      </a:lnTo>
                      <a:lnTo>
                        <a:pt x="2228" y="84"/>
                      </a:lnTo>
                      <a:lnTo>
                        <a:pt x="2284" y="89"/>
                      </a:lnTo>
                      <a:lnTo>
                        <a:pt x="2339" y="93"/>
                      </a:lnTo>
                      <a:lnTo>
                        <a:pt x="2392" y="98"/>
                      </a:lnTo>
                      <a:lnTo>
                        <a:pt x="2442" y="101"/>
                      </a:lnTo>
                      <a:lnTo>
                        <a:pt x="2490" y="104"/>
                      </a:lnTo>
                      <a:lnTo>
                        <a:pt x="2581" y="110"/>
                      </a:lnTo>
                      <a:lnTo>
                        <a:pt x="2670" y="117"/>
                      </a:lnTo>
                      <a:lnTo>
                        <a:pt x="2757" y="125"/>
                      </a:lnTo>
                      <a:lnTo>
                        <a:pt x="2841" y="132"/>
                      </a:lnTo>
                      <a:lnTo>
                        <a:pt x="2922" y="141"/>
                      </a:lnTo>
                      <a:lnTo>
                        <a:pt x="3000" y="149"/>
                      </a:lnTo>
                      <a:lnTo>
                        <a:pt x="3075" y="159"/>
                      </a:lnTo>
                      <a:lnTo>
                        <a:pt x="3147" y="168"/>
                      </a:lnTo>
                      <a:lnTo>
                        <a:pt x="3216" y="177"/>
                      </a:lnTo>
                      <a:lnTo>
                        <a:pt x="3283" y="187"/>
                      </a:lnTo>
                      <a:lnTo>
                        <a:pt x="3345" y="195"/>
                      </a:lnTo>
                      <a:lnTo>
                        <a:pt x="3405" y="204"/>
                      </a:lnTo>
                      <a:lnTo>
                        <a:pt x="3461" y="211"/>
                      </a:lnTo>
                      <a:lnTo>
                        <a:pt x="3514" y="218"/>
                      </a:lnTo>
                      <a:lnTo>
                        <a:pt x="3562" y="224"/>
                      </a:lnTo>
                      <a:lnTo>
                        <a:pt x="3608" y="229"/>
                      </a:lnTo>
                    </a:path>
                  </a:pathLst>
                </a:custGeom>
                <a:noFill/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38" name=""/>
              <p:cNvGrpSpPr/>
              <p:nvPr/>
            </p:nvGrpSpPr>
            <p:grpSpPr>
              <a:xfrm>
                <a:off x="1720800" y="4788000"/>
                <a:ext cx="222480" cy="133200"/>
                <a:chOff x="1720800" y="4788000"/>
                <a:chExt cx="222480" cy="133200"/>
              </a:xfrm>
            </p:grpSpPr>
            <p:sp>
              <p:nvSpPr>
                <p:cNvPr id="6939" name=""/>
                <p:cNvSpPr/>
                <p:nvPr/>
              </p:nvSpPr>
              <p:spPr>
                <a:xfrm>
                  <a:off x="1720800" y="4788000"/>
                  <a:ext cx="222480" cy="133200"/>
                </a:xfrm>
                <a:custGeom>
                  <a:avLst/>
                  <a:gdLst/>
                  <a:ahLst/>
                  <a:rect l="l" t="t" r="r" b="b"/>
                  <a:pathLst>
                    <a:path w="1955" h="1269">
                      <a:moveTo>
                        <a:pt x="0" y="1269"/>
                      </a:moveTo>
                      <a:lnTo>
                        <a:pt x="13" y="1265"/>
                      </a:lnTo>
                      <a:lnTo>
                        <a:pt x="28" y="1262"/>
                      </a:lnTo>
                      <a:lnTo>
                        <a:pt x="43" y="1258"/>
                      </a:lnTo>
                      <a:lnTo>
                        <a:pt x="61" y="1255"/>
                      </a:lnTo>
                      <a:lnTo>
                        <a:pt x="80" y="1250"/>
                      </a:lnTo>
                      <a:lnTo>
                        <a:pt x="100" y="1246"/>
                      </a:lnTo>
                      <a:lnTo>
                        <a:pt x="121" y="1242"/>
                      </a:lnTo>
                      <a:lnTo>
                        <a:pt x="143" y="1238"/>
                      </a:lnTo>
                      <a:lnTo>
                        <a:pt x="190" y="1228"/>
                      </a:lnTo>
                      <a:lnTo>
                        <a:pt x="241" y="1217"/>
                      </a:lnTo>
                      <a:lnTo>
                        <a:pt x="294" y="1205"/>
                      </a:lnTo>
                      <a:lnTo>
                        <a:pt x="349" y="1194"/>
                      </a:lnTo>
                      <a:lnTo>
                        <a:pt x="406" y="1181"/>
                      </a:lnTo>
                      <a:lnTo>
                        <a:pt x="463" y="1167"/>
                      </a:lnTo>
                      <a:lnTo>
                        <a:pt x="521" y="1153"/>
                      </a:lnTo>
                      <a:lnTo>
                        <a:pt x="577" y="1138"/>
                      </a:lnTo>
                      <a:lnTo>
                        <a:pt x="633" y="1122"/>
                      </a:lnTo>
                      <a:lnTo>
                        <a:pt x="687" y="1106"/>
                      </a:lnTo>
                      <a:lnTo>
                        <a:pt x="739" y="1089"/>
                      </a:lnTo>
                      <a:lnTo>
                        <a:pt x="788" y="1070"/>
                      </a:lnTo>
                      <a:lnTo>
                        <a:pt x="882" y="1033"/>
                      </a:lnTo>
                      <a:lnTo>
                        <a:pt x="977" y="993"/>
                      </a:lnTo>
                      <a:lnTo>
                        <a:pt x="1070" y="953"/>
                      </a:lnTo>
                      <a:lnTo>
                        <a:pt x="1163" y="908"/>
                      </a:lnTo>
                      <a:lnTo>
                        <a:pt x="1208" y="884"/>
                      </a:lnTo>
                      <a:lnTo>
                        <a:pt x="1253" y="859"/>
                      </a:lnTo>
                      <a:lnTo>
                        <a:pt x="1296" y="834"/>
                      </a:lnTo>
                      <a:lnTo>
                        <a:pt x="1339" y="806"/>
                      </a:lnTo>
                      <a:lnTo>
                        <a:pt x="1380" y="778"/>
                      </a:lnTo>
                      <a:lnTo>
                        <a:pt x="1421" y="748"/>
                      </a:lnTo>
                      <a:lnTo>
                        <a:pt x="1459" y="717"/>
                      </a:lnTo>
                      <a:lnTo>
                        <a:pt x="1496" y="684"/>
                      </a:lnTo>
                      <a:lnTo>
                        <a:pt x="1514" y="667"/>
                      </a:lnTo>
                      <a:lnTo>
                        <a:pt x="1533" y="649"/>
                      </a:lnTo>
                      <a:lnTo>
                        <a:pt x="1568" y="609"/>
                      </a:lnTo>
                      <a:lnTo>
                        <a:pt x="1602" y="566"/>
                      </a:lnTo>
                      <a:lnTo>
                        <a:pt x="1636" y="521"/>
                      </a:lnTo>
                      <a:lnTo>
                        <a:pt x="1670" y="475"/>
                      </a:lnTo>
                      <a:lnTo>
                        <a:pt x="1702" y="427"/>
                      </a:lnTo>
                      <a:lnTo>
                        <a:pt x="1733" y="378"/>
                      </a:lnTo>
                      <a:lnTo>
                        <a:pt x="1763" y="328"/>
                      </a:lnTo>
                      <a:lnTo>
                        <a:pt x="1791" y="279"/>
                      </a:lnTo>
                      <a:lnTo>
                        <a:pt x="1819" y="232"/>
                      </a:lnTo>
                      <a:lnTo>
                        <a:pt x="1845" y="186"/>
                      </a:lnTo>
                      <a:lnTo>
                        <a:pt x="1870" y="142"/>
                      </a:lnTo>
                      <a:lnTo>
                        <a:pt x="1893" y="100"/>
                      </a:lnTo>
                      <a:lnTo>
                        <a:pt x="1915" y="63"/>
                      </a:lnTo>
                      <a:lnTo>
                        <a:pt x="1926" y="46"/>
                      </a:lnTo>
                      <a:lnTo>
                        <a:pt x="1936" y="28"/>
                      </a:lnTo>
                      <a:lnTo>
                        <a:pt x="1945" y="13"/>
                      </a:lnTo>
                      <a:lnTo>
                        <a:pt x="1955" y="0"/>
                      </a:lnTo>
                      <a:lnTo>
                        <a:pt x="0" y="1269"/>
                      </a:lnTo>
                      <a:close/>
                    </a:path>
                  </a:pathLst>
                </a:custGeom>
                <a:solidFill>
                  <a:srgbClr val="cc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40" name=""/>
                <p:cNvSpPr/>
                <p:nvPr/>
              </p:nvSpPr>
              <p:spPr>
                <a:xfrm>
                  <a:off x="1720800" y="4788000"/>
                  <a:ext cx="222480" cy="133200"/>
                </a:xfrm>
                <a:custGeom>
                  <a:avLst/>
                  <a:gdLst/>
                  <a:ahLst/>
                  <a:rect l="l" t="t" r="r" b="b"/>
                  <a:pathLst>
                    <a:path w="1955" h="1269">
                      <a:moveTo>
                        <a:pt x="0" y="1269"/>
                      </a:moveTo>
                      <a:lnTo>
                        <a:pt x="13" y="1265"/>
                      </a:lnTo>
                      <a:lnTo>
                        <a:pt x="28" y="1262"/>
                      </a:lnTo>
                      <a:lnTo>
                        <a:pt x="43" y="1258"/>
                      </a:lnTo>
                      <a:lnTo>
                        <a:pt x="61" y="1255"/>
                      </a:lnTo>
                      <a:lnTo>
                        <a:pt x="80" y="1250"/>
                      </a:lnTo>
                      <a:lnTo>
                        <a:pt x="100" y="1246"/>
                      </a:lnTo>
                      <a:lnTo>
                        <a:pt x="121" y="1242"/>
                      </a:lnTo>
                      <a:lnTo>
                        <a:pt x="143" y="1238"/>
                      </a:lnTo>
                      <a:lnTo>
                        <a:pt x="190" y="1228"/>
                      </a:lnTo>
                      <a:lnTo>
                        <a:pt x="241" y="1217"/>
                      </a:lnTo>
                      <a:lnTo>
                        <a:pt x="294" y="1205"/>
                      </a:lnTo>
                      <a:lnTo>
                        <a:pt x="349" y="1194"/>
                      </a:lnTo>
                      <a:lnTo>
                        <a:pt x="406" y="1181"/>
                      </a:lnTo>
                      <a:lnTo>
                        <a:pt x="463" y="1167"/>
                      </a:lnTo>
                      <a:lnTo>
                        <a:pt x="521" y="1153"/>
                      </a:lnTo>
                      <a:lnTo>
                        <a:pt x="577" y="1138"/>
                      </a:lnTo>
                      <a:lnTo>
                        <a:pt x="633" y="1122"/>
                      </a:lnTo>
                      <a:lnTo>
                        <a:pt x="687" y="1106"/>
                      </a:lnTo>
                      <a:lnTo>
                        <a:pt x="739" y="1089"/>
                      </a:lnTo>
                      <a:lnTo>
                        <a:pt x="788" y="1070"/>
                      </a:lnTo>
                      <a:lnTo>
                        <a:pt x="882" y="1033"/>
                      </a:lnTo>
                      <a:lnTo>
                        <a:pt x="977" y="993"/>
                      </a:lnTo>
                      <a:lnTo>
                        <a:pt x="1070" y="953"/>
                      </a:lnTo>
                      <a:lnTo>
                        <a:pt x="1163" y="908"/>
                      </a:lnTo>
                      <a:lnTo>
                        <a:pt x="1208" y="884"/>
                      </a:lnTo>
                      <a:lnTo>
                        <a:pt x="1253" y="859"/>
                      </a:lnTo>
                      <a:lnTo>
                        <a:pt x="1296" y="834"/>
                      </a:lnTo>
                      <a:lnTo>
                        <a:pt x="1339" y="806"/>
                      </a:lnTo>
                      <a:lnTo>
                        <a:pt x="1380" y="778"/>
                      </a:lnTo>
                      <a:lnTo>
                        <a:pt x="1421" y="748"/>
                      </a:lnTo>
                      <a:lnTo>
                        <a:pt x="1459" y="717"/>
                      </a:lnTo>
                      <a:lnTo>
                        <a:pt x="1496" y="684"/>
                      </a:lnTo>
                      <a:lnTo>
                        <a:pt x="1514" y="667"/>
                      </a:lnTo>
                      <a:lnTo>
                        <a:pt x="1533" y="649"/>
                      </a:lnTo>
                      <a:lnTo>
                        <a:pt x="1568" y="609"/>
                      </a:lnTo>
                      <a:lnTo>
                        <a:pt x="1602" y="566"/>
                      </a:lnTo>
                      <a:lnTo>
                        <a:pt x="1636" y="521"/>
                      </a:lnTo>
                      <a:lnTo>
                        <a:pt x="1670" y="475"/>
                      </a:lnTo>
                      <a:lnTo>
                        <a:pt x="1702" y="427"/>
                      </a:lnTo>
                      <a:lnTo>
                        <a:pt x="1733" y="378"/>
                      </a:lnTo>
                      <a:lnTo>
                        <a:pt x="1763" y="328"/>
                      </a:lnTo>
                      <a:lnTo>
                        <a:pt x="1791" y="279"/>
                      </a:lnTo>
                      <a:lnTo>
                        <a:pt x="1819" y="232"/>
                      </a:lnTo>
                      <a:lnTo>
                        <a:pt x="1845" y="186"/>
                      </a:lnTo>
                      <a:lnTo>
                        <a:pt x="1870" y="142"/>
                      </a:lnTo>
                      <a:lnTo>
                        <a:pt x="1893" y="100"/>
                      </a:lnTo>
                      <a:lnTo>
                        <a:pt x="1915" y="63"/>
                      </a:lnTo>
                      <a:lnTo>
                        <a:pt x="1926" y="46"/>
                      </a:lnTo>
                      <a:lnTo>
                        <a:pt x="1936" y="28"/>
                      </a:lnTo>
                      <a:lnTo>
                        <a:pt x="1945" y="13"/>
                      </a:lnTo>
                      <a:lnTo>
                        <a:pt x="1955" y="0"/>
                      </a:lnTo>
                    </a:path>
                  </a:pathLst>
                </a:custGeom>
                <a:noFill/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41" name=""/>
              <p:cNvGrpSpPr/>
              <p:nvPr/>
            </p:nvGrpSpPr>
            <p:grpSpPr>
              <a:xfrm>
                <a:off x="1830240" y="4576680"/>
                <a:ext cx="268560" cy="219240"/>
                <a:chOff x="1830240" y="4576680"/>
                <a:chExt cx="268560" cy="219240"/>
              </a:xfrm>
            </p:grpSpPr>
            <p:sp>
              <p:nvSpPr>
                <p:cNvPr id="6942" name=""/>
                <p:cNvSpPr/>
                <p:nvPr/>
              </p:nvSpPr>
              <p:spPr>
                <a:xfrm>
                  <a:off x="1830240" y="4576680"/>
                  <a:ext cx="268560" cy="219240"/>
                </a:xfrm>
                <a:custGeom>
                  <a:avLst/>
                  <a:gdLst/>
                  <a:ahLst/>
                  <a:rect l="l" t="t" r="r" b="b"/>
                  <a:pathLst>
                    <a:path w="2373" h="2063">
                      <a:moveTo>
                        <a:pt x="682" y="2063"/>
                      </a:moveTo>
                      <a:lnTo>
                        <a:pt x="688" y="2062"/>
                      </a:lnTo>
                      <a:lnTo>
                        <a:pt x="694" y="2062"/>
                      </a:lnTo>
                      <a:lnTo>
                        <a:pt x="702" y="2061"/>
                      </a:lnTo>
                      <a:lnTo>
                        <a:pt x="712" y="2060"/>
                      </a:lnTo>
                      <a:lnTo>
                        <a:pt x="732" y="2059"/>
                      </a:lnTo>
                      <a:lnTo>
                        <a:pt x="755" y="2058"/>
                      </a:lnTo>
                      <a:lnTo>
                        <a:pt x="778" y="2056"/>
                      </a:lnTo>
                      <a:lnTo>
                        <a:pt x="801" y="2055"/>
                      </a:lnTo>
                      <a:lnTo>
                        <a:pt x="822" y="2053"/>
                      </a:lnTo>
                      <a:lnTo>
                        <a:pt x="832" y="2053"/>
                      </a:lnTo>
                      <a:lnTo>
                        <a:pt x="840" y="2052"/>
                      </a:lnTo>
                      <a:lnTo>
                        <a:pt x="847" y="2052"/>
                      </a:lnTo>
                      <a:lnTo>
                        <a:pt x="853" y="2052"/>
                      </a:lnTo>
                      <a:lnTo>
                        <a:pt x="857" y="2052"/>
                      </a:lnTo>
                      <a:lnTo>
                        <a:pt x="860" y="2053"/>
                      </a:lnTo>
                      <a:lnTo>
                        <a:pt x="865" y="2056"/>
                      </a:lnTo>
                      <a:lnTo>
                        <a:pt x="869" y="2058"/>
                      </a:lnTo>
                      <a:lnTo>
                        <a:pt x="872" y="2059"/>
                      </a:lnTo>
                      <a:lnTo>
                        <a:pt x="877" y="2059"/>
                      </a:lnTo>
                      <a:lnTo>
                        <a:pt x="882" y="2058"/>
                      </a:lnTo>
                      <a:lnTo>
                        <a:pt x="889" y="2057"/>
                      </a:lnTo>
                      <a:lnTo>
                        <a:pt x="898" y="2055"/>
                      </a:lnTo>
                      <a:lnTo>
                        <a:pt x="910" y="2052"/>
                      </a:lnTo>
                      <a:lnTo>
                        <a:pt x="923" y="2047"/>
                      </a:lnTo>
                      <a:lnTo>
                        <a:pt x="941" y="2041"/>
                      </a:lnTo>
                      <a:lnTo>
                        <a:pt x="962" y="2034"/>
                      </a:lnTo>
                      <a:lnTo>
                        <a:pt x="985" y="2026"/>
                      </a:lnTo>
                      <a:lnTo>
                        <a:pt x="1011" y="2016"/>
                      </a:lnTo>
                      <a:lnTo>
                        <a:pt x="1040" y="2007"/>
                      </a:lnTo>
                      <a:lnTo>
                        <a:pt x="1071" y="1996"/>
                      </a:lnTo>
                      <a:lnTo>
                        <a:pt x="1105" y="1984"/>
                      </a:lnTo>
                      <a:lnTo>
                        <a:pt x="1138" y="1971"/>
                      </a:lnTo>
                      <a:lnTo>
                        <a:pt x="1173" y="1959"/>
                      </a:lnTo>
                      <a:lnTo>
                        <a:pt x="1243" y="1932"/>
                      </a:lnTo>
                      <a:lnTo>
                        <a:pt x="1314" y="1903"/>
                      </a:lnTo>
                      <a:lnTo>
                        <a:pt x="1348" y="1887"/>
                      </a:lnTo>
                      <a:lnTo>
                        <a:pt x="1380" y="1872"/>
                      </a:lnTo>
                      <a:lnTo>
                        <a:pt x="1410" y="1857"/>
                      </a:lnTo>
                      <a:lnTo>
                        <a:pt x="1439" y="1841"/>
                      </a:lnTo>
                      <a:lnTo>
                        <a:pt x="1493" y="1809"/>
                      </a:lnTo>
                      <a:lnTo>
                        <a:pt x="1545" y="1773"/>
                      </a:lnTo>
                      <a:lnTo>
                        <a:pt x="1595" y="1737"/>
                      </a:lnTo>
                      <a:lnTo>
                        <a:pt x="1642" y="1699"/>
                      </a:lnTo>
                      <a:lnTo>
                        <a:pt x="1689" y="1661"/>
                      </a:lnTo>
                      <a:lnTo>
                        <a:pt x="1734" y="1621"/>
                      </a:lnTo>
                      <a:lnTo>
                        <a:pt x="1776" y="1582"/>
                      </a:lnTo>
                      <a:lnTo>
                        <a:pt x="1817" y="1542"/>
                      </a:lnTo>
                      <a:lnTo>
                        <a:pt x="1855" y="1504"/>
                      </a:lnTo>
                      <a:lnTo>
                        <a:pt x="1890" y="1468"/>
                      </a:lnTo>
                      <a:lnTo>
                        <a:pt x="1923" y="1432"/>
                      </a:lnTo>
                      <a:lnTo>
                        <a:pt x="1954" y="1395"/>
                      </a:lnTo>
                      <a:lnTo>
                        <a:pt x="1985" y="1357"/>
                      </a:lnTo>
                      <a:lnTo>
                        <a:pt x="2015" y="1316"/>
                      </a:lnTo>
                      <a:lnTo>
                        <a:pt x="2029" y="1293"/>
                      </a:lnTo>
                      <a:lnTo>
                        <a:pt x="2045" y="1271"/>
                      </a:lnTo>
                      <a:lnTo>
                        <a:pt x="2059" y="1246"/>
                      </a:lnTo>
                      <a:lnTo>
                        <a:pt x="2075" y="1221"/>
                      </a:lnTo>
                      <a:lnTo>
                        <a:pt x="2093" y="1196"/>
                      </a:lnTo>
                      <a:lnTo>
                        <a:pt x="2113" y="1170"/>
                      </a:lnTo>
                      <a:lnTo>
                        <a:pt x="2132" y="1141"/>
                      </a:lnTo>
                      <a:lnTo>
                        <a:pt x="2149" y="1113"/>
                      </a:lnTo>
                      <a:lnTo>
                        <a:pt x="2167" y="1081"/>
                      </a:lnTo>
                      <a:lnTo>
                        <a:pt x="2185" y="1049"/>
                      </a:lnTo>
                      <a:lnTo>
                        <a:pt x="2217" y="982"/>
                      </a:lnTo>
                      <a:lnTo>
                        <a:pt x="2247" y="912"/>
                      </a:lnTo>
                      <a:lnTo>
                        <a:pt x="2274" y="842"/>
                      </a:lnTo>
                      <a:lnTo>
                        <a:pt x="2286" y="806"/>
                      </a:lnTo>
                      <a:lnTo>
                        <a:pt x="2297" y="771"/>
                      </a:lnTo>
                      <a:lnTo>
                        <a:pt x="2307" y="736"/>
                      </a:lnTo>
                      <a:lnTo>
                        <a:pt x="2315" y="701"/>
                      </a:lnTo>
                      <a:lnTo>
                        <a:pt x="2323" y="666"/>
                      </a:lnTo>
                      <a:lnTo>
                        <a:pt x="2332" y="630"/>
                      </a:lnTo>
                      <a:lnTo>
                        <a:pt x="2339" y="591"/>
                      </a:lnTo>
                      <a:lnTo>
                        <a:pt x="2346" y="551"/>
                      </a:lnTo>
                      <a:lnTo>
                        <a:pt x="2360" y="471"/>
                      </a:lnTo>
                      <a:lnTo>
                        <a:pt x="2365" y="430"/>
                      </a:lnTo>
                      <a:lnTo>
                        <a:pt x="2369" y="390"/>
                      </a:lnTo>
                      <a:lnTo>
                        <a:pt x="2372" y="350"/>
                      </a:lnTo>
                      <a:lnTo>
                        <a:pt x="2373" y="311"/>
                      </a:lnTo>
                      <a:lnTo>
                        <a:pt x="2373" y="275"/>
                      </a:lnTo>
                      <a:lnTo>
                        <a:pt x="2371" y="240"/>
                      </a:lnTo>
                      <a:lnTo>
                        <a:pt x="2367" y="208"/>
                      </a:lnTo>
                      <a:lnTo>
                        <a:pt x="2361" y="177"/>
                      </a:lnTo>
                      <a:lnTo>
                        <a:pt x="2352" y="150"/>
                      </a:lnTo>
                      <a:lnTo>
                        <a:pt x="2341" y="126"/>
                      </a:lnTo>
                      <a:lnTo>
                        <a:pt x="2328" y="106"/>
                      </a:lnTo>
                      <a:lnTo>
                        <a:pt x="2311" y="88"/>
                      </a:lnTo>
                      <a:lnTo>
                        <a:pt x="2292" y="73"/>
                      </a:lnTo>
                      <a:lnTo>
                        <a:pt x="2273" y="59"/>
                      </a:lnTo>
                      <a:lnTo>
                        <a:pt x="2250" y="48"/>
                      </a:lnTo>
                      <a:lnTo>
                        <a:pt x="2226" y="39"/>
                      </a:lnTo>
                      <a:lnTo>
                        <a:pt x="2200" y="32"/>
                      </a:lnTo>
                      <a:lnTo>
                        <a:pt x="2173" y="26"/>
                      </a:lnTo>
                      <a:lnTo>
                        <a:pt x="2144" y="21"/>
                      </a:lnTo>
                      <a:lnTo>
                        <a:pt x="2114" y="17"/>
                      </a:lnTo>
                      <a:lnTo>
                        <a:pt x="2082" y="14"/>
                      </a:lnTo>
                      <a:lnTo>
                        <a:pt x="2049" y="12"/>
                      </a:lnTo>
                      <a:lnTo>
                        <a:pt x="2015" y="9"/>
                      </a:lnTo>
                      <a:lnTo>
                        <a:pt x="1979" y="7"/>
                      </a:lnTo>
                      <a:lnTo>
                        <a:pt x="1907" y="3"/>
                      </a:lnTo>
                      <a:lnTo>
                        <a:pt x="1867" y="1"/>
                      </a:lnTo>
                      <a:lnTo>
                        <a:pt x="1825" y="0"/>
                      </a:lnTo>
                      <a:lnTo>
                        <a:pt x="1780" y="0"/>
                      </a:lnTo>
                      <a:lnTo>
                        <a:pt x="1734" y="1"/>
                      </a:lnTo>
                      <a:lnTo>
                        <a:pt x="1684" y="2"/>
                      </a:lnTo>
                      <a:lnTo>
                        <a:pt x="1634" y="4"/>
                      </a:lnTo>
                      <a:lnTo>
                        <a:pt x="1531" y="11"/>
                      </a:lnTo>
                      <a:lnTo>
                        <a:pt x="1426" y="17"/>
                      </a:lnTo>
                      <a:lnTo>
                        <a:pt x="1374" y="21"/>
                      </a:lnTo>
                      <a:lnTo>
                        <a:pt x="1324" y="24"/>
                      </a:lnTo>
                      <a:lnTo>
                        <a:pt x="1275" y="28"/>
                      </a:lnTo>
                      <a:lnTo>
                        <a:pt x="1228" y="31"/>
                      </a:lnTo>
                      <a:lnTo>
                        <a:pt x="1183" y="34"/>
                      </a:lnTo>
                      <a:lnTo>
                        <a:pt x="1141" y="36"/>
                      </a:lnTo>
                      <a:lnTo>
                        <a:pt x="1101" y="38"/>
                      </a:lnTo>
                      <a:lnTo>
                        <a:pt x="1063" y="39"/>
                      </a:lnTo>
                      <a:lnTo>
                        <a:pt x="1027" y="41"/>
                      </a:lnTo>
                      <a:lnTo>
                        <a:pt x="993" y="43"/>
                      </a:lnTo>
                      <a:lnTo>
                        <a:pt x="959" y="44"/>
                      </a:lnTo>
                      <a:lnTo>
                        <a:pt x="927" y="45"/>
                      </a:lnTo>
                      <a:lnTo>
                        <a:pt x="864" y="47"/>
                      </a:lnTo>
                      <a:lnTo>
                        <a:pt x="803" y="50"/>
                      </a:lnTo>
                      <a:lnTo>
                        <a:pt x="741" y="54"/>
                      </a:lnTo>
                      <a:lnTo>
                        <a:pt x="709" y="58"/>
                      </a:lnTo>
                      <a:lnTo>
                        <a:pt x="676" y="61"/>
                      </a:lnTo>
                      <a:lnTo>
                        <a:pt x="642" y="65"/>
                      </a:lnTo>
                      <a:lnTo>
                        <a:pt x="607" y="69"/>
                      </a:lnTo>
                      <a:lnTo>
                        <a:pt x="570" y="75"/>
                      </a:lnTo>
                      <a:lnTo>
                        <a:pt x="531" y="82"/>
                      </a:lnTo>
                      <a:lnTo>
                        <a:pt x="491" y="90"/>
                      </a:lnTo>
                      <a:lnTo>
                        <a:pt x="449" y="97"/>
                      </a:lnTo>
                      <a:lnTo>
                        <a:pt x="364" y="117"/>
                      </a:lnTo>
                      <a:lnTo>
                        <a:pt x="279" y="136"/>
                      </a:lnTo>
                      <a:lnTo>
                        <a:pt x="238" y="145"/>
                      </a:lnTo>
                      <a:lnTo>
                        <a:pt x="198" y="156"/>
                      </a:lnTo>
                      <a:lnTo>
                        <a:pt x="158" y="166"/>
                      </a:lnTo>
                      <a:lnTo>
                        <a:pt x="121" y="174"/>
                      </a:lnTo>
                      <a:lnTo>
                        <a:pt x="87" y="183"/>
                      </a:lnTo>
                      <a:lnTo>
                        <a:pt x="55" y="190"/>
                      </a:lnTo>
                      <a:lnTo>
                        <a:pt x="26" y="198"/>
                      </a:lnTo>
                      <a:lnTo>
                        <a:pt x="0" y="203"/>
                      </a:lnTo>
                      <a:lnTo>
                        <a:pt x="682" y="2063"/>
                      </a:lnTo>
                      <a:close/>
                    </a:path>
                  </a:pathLst>
                </a:custGeom>
                <a:solidFill>
                  <a:srgbClr val="cc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43" name=""/>
                <p:cNvSpPr/>
                <p:nvPr/>
              </p:nvSpPr>
              <p:spPr>
                <a:xfrm>
                  <a:off x="1830240" y="4576680"/>
                  <a:ext cx="268560" cy="219240"/>
                </a:xfrm>
                <a:custGeom>
                  <a:avLst/>
                  <a:gdLst/>
                  <a:ahLst/>
                  <a:rect l="l" t="t" r="r" b="b"/>
                  <a:pathLst>
                    <a:path w="2373" h="2063">
                      <a:moveTo>
                        <a:pt x="682" y="2063"/>
                      </a:moveTo>
                      <a:lnTo>
                        <a:pt x="688" y="2062"/>
                      </a:lnTo>
                      <a:lnTo>
                        <a:pt x="694" y="2062"/>
                      </a:lnTo>
                      <a:lnTo>
                        <a:pt x="702" y="2061"/>
                      </a:lnTo>
                      <a:lnTo>
                        <a:pt x="712" y="2060"/>
                      </a:lnTo>
                      <a:lnTo>
                        <a:pt x="732" y="2059"/>
                      </a:lnTo>
                      <a:lnTo>
                        <a:pt x="755" y="2058"/>
                      </a:lnTo>
                      <a:lnTo>
                        <a:pt x="778" y="2056"/>
                      </a:lnTo>
                      <a:lnTo>
                        <a:pt x="801" y="2055"/>
                      </a:lnTo>
                      <a:lnTo>
                        <a:pt x="822" y="2053"/>
                      </a:lnTo>
                      <a:lnTo>
                        <a:pt x="832" y="2053"/>
                      </a:lnTo>
                      <a:lnTo>
                        <a:pt x="840" y="2052"/>
                      </a:lnTo>
                      <a:lnTo>
                        <a:pt x="847" y="2052"/>
                      </a:lnTo>
                      <a:lnTo>
                        <a:pt x="853" y="2052"/>
                      </a:lnTo>
                      <a:lnTo>
                        <a:pt x="857" y="2052"/>
                      </a:lnTo>
                      <a:lnTo>
                        <a:pt x="860" y="2053"/>
                      </a:lnTo>
                      <a:lnTo>
                        <a:pt x="865" y="2056"/>
                      </a:lnTo>
                      <a:lnTo>
                        <a:pt x="869" y="2058"/>
                      </a:lnTo>
                      <a:lnTo>
                        <a:pt x="872" y="2059"/>
                      </a:lnTo>
                      <a:lnTo>
                        <a:pt x="877" y="2059"/>
                      </a:lnTo>
                      <a:lnTo>
                        <a:pt x="882" y="2058"/>
                      </a:lnTo>
                      <a:lnTo>
                        <a:pt x="889" y="2057"/>
                      </a:lnTo>
                      <a:lnTo>
                        <a:pt x="898" y="2055"/>
                      </a:lnTo>
                      <a:lnTo>
                        <a:pt x="910" y="2052"/>
                      </a:lnTo>
                      <a:lnTo>
                        <a:pt x="923" y="2047"/>
                      </a:lnTo>
                      <a:lnTo>
                        <a:pt x="941" y="2041"/>
                      </a:lnTo>
                      <a:lnTo>
                        <a:pt x="962" y="2034"/>
                      </a:lnTo>
                      <a:lnTo>
                        <a:pt x="985" y="2026"/>
                      </a:lnTo>
                      <a:lnTo>
                        <a:pt x="1011" y="2016"/>
                      </a:lnTo>
                      <a:lnTo>
                        <a:pt x="1040" y="2007"/>
                      </a:lnTo>
                      <a:lnTo>
                        <a:pt x="1071" y="1996"/>
                      </a:lnTo>
                      <a:lnTo>
                        <a:pt x="1105" y="1984"/>
                      </a:lnTo>
                      <a:lnTo>
                        <a:pt x="1138" y="1971"/>
                      </a:lnTo>
                      <a:lnTo>
                        <a:pt x="1173" y="1959"/>
                      </a:lnTo>
                      <a:lnTo>
                        <a:pt x="1243" y="1932"/>
                      </a:lnTo>
                      <a:lnTo>
                        <a:pt x="1314" y="1903"/>
                      </a:lnTo>
                      <a:lnTo>
                        <a:pt x="1348" y="1887"/>
                      </a:lnTo>
                      <a:lnTo>
                        <a:pt x="1380" y="1872"/>
                      </a:lnTo>
                      <a:lnTo>
                        <a:pt x="1410" y="1857"/>
                      </a:lnTo>
                      <a:lnTo>
                        <a:pt x="1439" y="1841"/>
                      </a:lnTo>
                      <a:lnTo>
                        <a:pt x="1493" y="1809"/>
                      </a:lnTo>
                      <a:lnTo>
                        <a:pt x="1545" y="1773"/>
                      </a:lnTo>
                      <a:lnTo>
                        <a:pt x="1595" y="1737"/>
                      </a:lnTo>
                      <a:lnTo>
                        <a:pt x="1642" y="1699"/>
                      </a:lnTo>
                      <a:lnTo>
                        <a:pt x="1689" y="1661"/>
                      </a:lnTo>
                      <a:lnTo>
                        <a:pt x="1734" y="1621"/>
                      </a:lnTo>
                      <a:lnTo>
                        <a:pt x="1776" y="1582"/>
                      </a:lnTo>
                      <a:lnTo>
                        <a:pt x="1817" y="1542"/>
                      </a:lnTo>
                      <a:lnTo>
                        <a:pt x="1855" y="1504"/>
                      </a:lnTo>
                      <a:lnTo>
                        <a:pt x="1890" y="1468"/>
                      </a:lnTo>
                      <a:lnTo>
                        <a:pt x="1923" y="1432"/>
                      </a:lnTo>
                      <a:lnTo>
                        <a:pt x="1954" y="1395"/>
                      </a:lnTo>
                      <a:lnTo>
                        <a:pt x="1985" y="1357"/>
                      </a:lnTo>
                      <a:lnTo>
                        <a:pt x="2015" y="1316"/>
                      </a:lnTo>
                      <a:lnTo>
                        <a:pt x="2029" y="1293"/>
                      </a:lnTo>
                      <a:lnTo>
                        <a:pt x="2045" y="1271"/>
                      </a:lnTo>
                      <a:lnTo>
                        <a:pt x="2059" y="1246"/>
                      </a:lnTo>
                      <a:lnTo>
                        <a:pt x="2075" y="1221"/>
                      </a:lnTo>
                      <a:lnTo>
                        <a:pt x="2093" y="1196"/>
                      </a:lnTo>
                      <a:lnTo>
                        <a:pt x="2113" y="1170"/>
                      </a:lnTo>
                      <a:lnTo>
                        <a:pt x="2132" y="1141"/>
                      </a:lnTo>
                      <a:lnTo>
                        <a:pt x="2149" y="1113"/>
                      </a:lnTo>
                      <a:lnTo>
                        <a:pt x="2167" y="1081"/>
                      </a:lnTo>
                      <a:lnTo>
                        <a:pt x="2185" y="1049"/>
                      </a:lnTo>
                      <a:lnTo>
                        <a:pt x="2217" y="982"/>
                      </a:lnTo>
                      <a:lnTo>
                        <a:pt x="2247" y="912"/>
                      </a:lnTo>
                      <a:lnTo>
                        <a:pt x="2274" y="842"/>
                      </a:lnTo>
                      <a:lnTo>
                        <a:pt x="2286" y="806"/>
                      </a:lnTo>
                      <a:lnTo>
                        <a:pt x="2297" y="771"/>
                      </a:lnTo>
                      <a:lnTo>
                        <a:pt x="2307" y="736"/>
                      </a:lnTo>
                      <a:lnTo>
                        <a:pt x="2315" y="701"/>
                      </a:lnTo>
                      <a:lnTo>
                        <a:pt x="2323" y="666"/>
                      </a:lnTo>
                      <a:lnTo>
                        <a:pt x="2332" y="630"/>
                      </a:lnTo>
                      <a:lnTo>
                        <a:pt x="2339" y="591"/>
                      </a:lnTo>
                      <a:lnTo>
                        <a:pt x="2346" y="551"/>
                      </a:lnTo>
                      <a:lnTo>
                        <a:pt x="2360" y="471"/>
                      </a:lnTo>
                      <a:lnTo>
                        <a:pt x="2365" y="430"/>
                      </a:lnTo>
                      <a:lnTo>
                        <a:pt x="2369" y="390"/>
                      </a:lnTo>
                      <a:lnTo>
                        <a:pt x="2372" y="350"/>
                      </a:lnTo>
                      <a:lnTo>
                        <a:pt x="2373" y="311"/>
                      </a:lnTo>
                      <a:lnTo>
                        <a:pt x="2373" y="275"/>
                      </a:lnTo>
                      <a:lnTo>
                        <a:pt x="2371" y="240"/>
                      </a:lnTo>
                      <a:lnTo>
                        <a:pt x="2367" y="208"/>
                      </a:lnTo>
                      <a:lnTo>
                        <a:pt x="2361" y="177"/>
                      </a:lnTo>
                      <a:lnTo>
                        <a:pt x="2352" y="150"/>
                      </a:lnTo>
                      <a:lnTo>
                        <a:pt x="2341" y="126"/>
                      </a:lnTo>
                      <a:lnTo>
                        <a:pt x="2328" y="106"/>
                      </a:lnTo>
                      <a:lnTo>
                        <a:pt x="2311" y="88"/>
                      </a:lnTo>
                      <a:lnTo>
                        <a:pt x="2292" y="73"/>
                      </a:lnTo>
                      <a:lnTo>
                        <a:pt x="2273" y="59"/>
                      </a:lnTo>
                      <a:lnTo>
                        <a:pt x="2250" y="48"/>
                      </a:lnTo>
                      <a:lnTo>
                        <a:pt x="2226" y="39"/>
                      </a:lnTo>
                      <a:lnTo>
                        <a:pt x="2200" y="32"/>
                      </a:lnTo>
                      <a:lnTo>
                        <a:pt x="2173" y="26"/>
                      </a:lnTo>
                      <a:lnTo>
                        <a:pt x="2144" y="21"/>
                      </a:lnTo>
                      <a:lnTo>
                        <a:pt x="2114" y="17"/>
                      </a:lnTo>
                      <a:lnTo>
                        <a:pt x="2082" y="14"/>
                      </a:lnTo>
                      <a:lnTo>
                        <a:pt x="2049" y="12"/>
                      </a:lnTo>
                      <a:lnTo>
                        <a:pt x="2015" y="9"/>
                      </a:lnTo>
                      <a:lnTo>
                        <a:pt x="1979" y="7"/>
                      </a:lnTo>
                      <a:lnTo>
                        <a:pt x="1907" y="3"/>
                      </a:lnTo>
                      <a:lnTo>
                        <a:pt x="1867" y="1"/>
                      </a:lnTo>
                      <a:lnTo>
                        <a:pt x="1825" y="0"/>
                      </a:lnTo>
                      <a:lnTo>
                        <a:pt x="1780" y="0"/>
                      </a:lnTo>
                      <a:lnTo>
                        <a:pt x="1734" y="1"/>
                      </a:lnTo>
                      <a:lnTo>
                        <a:pt x="1684" y="2"/>
                      </a:lnTo>
                      <a:lnTo>
                        <a:pt x="1634" y="4"/>
                      </a:lnTo>
                      <a:lnTo>
                        <a:pt x="1531" y="11"/>
                      </a:lnTo>
                      <a:lnTo>
                        <a:pt x="1426" y="17"/>
                      </a:lnTo>
                      <a:lnTo>
                        <a:pt x="1374" y="21"/>
                      </a:lnTo>
                      <a:lnTo>
                        <a:pt x="1324" y="24"/>
                      </a:lnTo>
                      <a:lnTo>
                        <a:pt x="1275" y="28"/>
                      </a:lnTo>
                      <a:lnTo>
                        <a:pt x="1228" y="31"/>
                      </a:lnTo>
                      <a:lnTo>
                        <a:pt x="1183" y="34"/>
                      </a:lnTo>
                      <a:lnTo>
                        <a:pt x="1141" y="36"/>
                      </a:lnTo>
                      <a:lnTo>
                        <a:pt x="1101" y="38"/>
                      </a:lnTo>
                      <a:lnTo>
                        <a:pt x="1063" y="39"/>
                      </a:lnTo>
                      <a:lnTo>
                        <a:pt x="1027" y="41"/>
                      </a:lnTo>
                      <a:lnTo>
                        <a:pt x="993" y="43"/>
                      </a:lnTo>
                      <a:lnTo>
                        <a:pt x="959" y="44"/>
                      </a:lnTo>
                      <a:lnTo>
                        <a:pt x="927" y="45"/>
                      </a:lnTo>
                      <a:lnTo>
                        <a:pt x="864" y="47"/>
                      </a:lnTo>
                      <a:lnTo>
                        <a:pt x="803" y="50"/>
                      </a:lnTo>
                      <a:lnTo>
                        <a:pt x="741" y="54"/>
                      </a:lnTo>
                      <a:lnTo>
                        <a:pt x="709" y="58"/>
                      </a:lnTo>
                      <a:lnTo>
                        <a:pt x="676" y="61"/>
                      </a:lnTo>
                      <a:lnTo>
                        <a:pt x="642" y="65"/>
                      </a:lnTo>
                      <a:lnTo>
                        <a:pt x="607" y="69"/>
                      </a:lnTo>
                      <a:lnTo>
                        <a:pt x="570" y="75"/>
                      </a:lnTo>
                      <a:lnTo>
                        <a:pt x="531" y="82"/>
                      </a:lnTo>
                      <a:lnTo>
                        <a:pt x="491" y="90"/>
                      </a:lnTo>
                      <a:lnTo>
                        <a:pt x="449" y="97"/>
                      </a:lnTo>
                      <a:lnTo>
                        <a:pt x="364" y="117"/>
                      </a:lnTo>
                      <a:lnTo>
                        <a:pt x="279" y="136"/>
                      </a:lnTo>
                      <a:lnTo>
                        <a:pt x="238" y="145"/>
                      </a:lnTo>
                      <a:lnTo>
                        <a:pt x="198" y="156"/>
                      </a:lnTo>
                      <a:lnTo>
                        <a:pt x="158" y="166"/>
                      </a:lnTo>
                      <a:lnTo>
                        <a:pt x="121" y="174"/>
                      </a:lnTo>
                      <a:lnTo>
                        <a:pt x="87" y="183"/>
                      </a:lnTo>
                      <a:lnTo>
                        <a:pt x="55" y="190"/>
                      </a:lnTo>
                      <a:lnTo>
                        <a:pt x="26" y="198"/>
                      </a:lnTo>
                      <a:lnTo>
                        <a:pt x="0" y="203"/>
                      </a:lnTo>
                    </a:path>
                  </a:pathLst>
                </a:custGeom>
                <a:noFill/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944" name=""/>
          <p:cNvSpPr/>
          <p:nvPr/>
        </p:nvSpPr>
        <p:spPr>
          <a:xfrm>
            <a:off x="1809720" y="4900680"/>
            <a:ext cx="1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5" name=""/>
          <p:cNvSpPr/>
          <p:nvPr/>
        </p:nvSpPr>
        <p:spPr>
          <a:xfrm flipH="1">
            <a:off x="1898640" y="4579920"/>
            <a:ext cx="60480" cy="4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6" name=""/>
          <p:cNvSpPr/>
          <p:nvPr/>
        </p:nvSpPr>
        <p:spPr>
          <a:xfrm>
            <a:off x="1898640" y="4584600"/>
            <a:ext cx="1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7" name=""/>
          <p:cNvSpPr/>
          <p:nvPr/>
        </p:nvSpPr>
        <p:spPr>
          <a:xfrm flipV="1">
            <a:off x="1906560" y="2525400"/>
            <a:ext cx="3220920" cy="2205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8" name=""/>
          <p:cNvSpPr/>
          <p:nvPr/>
        </p:nvSpPr>
        <p:spPr>
          <a:xfrm>
            <a:off x="1515960" y="45576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9" name=""/>
          <p:cNvSpPr/>
          <p:nvPr/>
        </p:nvSpPr>
        <p:spPr>
          <a:xfrm flipH="1">
            <a:off x="6600960" y="1766880"/>
            <a:ext cx="1263600" cy="27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0" name=""/>
          <p:cNvSpPr/>
          <p:nvPr/>
        </p:nvSpPr>
        <p:spPr>
          <a:xfrm>
            <a:off x="7435440" y="239400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Angiotensin I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1" name=""/>
          <p:cNvSpPr/>
          <p:nvPr/>
        </p:nvSpPr>
        <p:spPr>
          <a:xfrm>
            <a:off x="4998960" y="41400"/>
            <a:ext cx="1709640" cy="10094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nucle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paraventricular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2" name=""/>
          <p:cNvSpPr/>
          <p:nvPr/>
        </p:nvSpPr>
        <p:spPr>
          <a:xfrm>
            <a:off x="5130720" y="1574640"/>
            <a:ext cx="1335240" cy="1187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osmorecep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53" name=""/>
          <p:cNvGrpSpPr/>
          <p:nvPr/>
        </p:nvGrpSpPr>
        <p:grpSpPr>
          <a:xfrm>
            <a:off x="5608800" y="1622520"/>
            <a:ext cx="422280" cy="446040"/>
            <a:chOff x="5608800" y="1622520"/>
            <a:chExt cx="422280" cy="446040"/>
          </a:xfrm>
        </p:grpSpPr>
        <p:sp>
          <p:nvSpPr>
            <p:cNvPr id="6954" name=""/>
            <p:cNvSpPr/>
            <p:nvPr/>
          </p:nvSpPr>
          <p:spPr>
            <a:xfrm>
              <a:off x="5608800" y="1622520"/>
              <a:ext cx="422280" cy="4460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5" name=""/>
            <p:cNvSpPr/>
            <p:nvPr/>
          </p:nvSpPr>
          <p:spPr>
            <a:xfrm>
              <a:off x="5624640" y="1647720"/>
              <a:ext cx="378000" cy="402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6" name=""/>
            <p:cNvSpPr/>
            <p:nvPr/>
          </p:nvSpPr>
          <p:spPr>
            <a:xfrm rot="462000">
              <a:off x="5712120" y="1701360"/>
              <a:ext cx="160200" cy="229680"/>
            </a:xfrm>
            <a:custGeom>
              <a:avLst/>
              <a:gdLst/>
              <a:ahLst/>
              <a:rect l="l" t="t" r="r" b="b"/>
              <a:pathLst>
                <a:path w="406" h="695">
                  <a:moveTo>
                    <a:pt x="406" y="610"/>
                  </a:moveTo>
                  <a:lnTo>
                    <a:pt x="154" y="230"/>
                  </a:lnTo>
                  <a:lnTo>
                    <a:pt x="269" y="176"/>
                  </a:lnTo>
                  <a:lnTo>
                    <a:pt x="0" y="0"/>
                  </a:lnTo>
                  <a:lnTo>
                    <a:pt x="8" y="320"/>
                  </a:lnTo>
                  <a:lnTo>
                    <a:pt x="89" y="206"/>
                  </a:lnTo>
                  <a:lnTo>
                    <a:pt x="358" y="695"/>
                  </a:lnTo>
                  <a:lnTo>
                    <a:pt x="406" y="6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57" name=""/>
          <p:cNvGrpSpPr/>
          <p:nvPr/>
        </p:nvGrpSpPr>
        <p:grpSpPr>
          <a:xfrm>
            <a:off x="936720" y="4219560"/>
            <a:ext cx="422280" cy="446040"/>
            <a:chOff x="936720" y="4219560"/>
            <a:chExt cx="422280" cy="446040"/>
          </a:xfrm>
        </p:grpSpPr>
        <p:sp>
          <p:nvSpPr>
            <p:cNvPr id="6958" name=""/>
            <p:cNvSpPr/>
            <p:nvPr/>
          </p:nvSpPr>
          <p:spPr>
            <a:xfrm>
              <a:off x="936720" y="4219560"/>
              <a:ext cx="422280" cy="4460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9" name=""/>
            <p:cNvSpPr/>
            <p:nvPr/>
          </p:nvSpPr>
          <p:spPr>
            <a:xfrm>
              <a:off x="952560" y="4244760"/>
              <a:ext cx="378000" cy="402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0" name=""/>
            <p:cNvSpPr/>
            <p:nvPr/>
          </p:nvSpPr>
          <p:spPr>
            <a:xfrm rot="462000">
              <a:off x="1040040" y="4298400"/>
              <a:ext cx="160200" cy="229680"/>
            </a:xfrm>
            <a:custGeom>
              <a:avLst/>
              <a:gdLst/>
              <a:ahLst/>
              <a:rect l="l" t="t" r="r" b="b"/>
              <a:pathLst>
                <a:path w="406" h="695">
                  <a:moveTo>
                    <a:pt x="406" y="610"/>
                  </a:moveTo>
                  <a:lnTo>
                    <a:pt x="154" y="230"/>
                  </a:lnTo>
                  <a:lnTo>
                    <a:pt x="269" y="176"/>
                  </a:lnTo>
                  <a:lnTo>
                    <a:pt x="0" y="0"/>
                  </a:lnTo>
                  <a:lnTo>
                    <a:pt x="8" y="320"/>
                  </a:lnTo>
                  <a:lnTo>
                    <a:pt x="89" y="206"/>
                  </a:lnTo>
                  <a:lnTo>
                    <a:pt x="358" y="695"/>
                  </a:lnTo>
                  <a:lnTo>
                    <a:pt x="406" y="6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61" name=""/>
          <p:cNvSpPr/>
          <p:nvPr/>
        </p:nvSpPr>
        <p:spPr>
          <a:xfrm>
            <a:off x="6748560" y="3770280"/>
            <a:ext cx="1649160" cy="2170080"/>
          </a:xfrm>
          <a:custGeom>
            <a:avLst/>
            <a:gdLst/>
            <a:ahLst/>
            <a:rect l="l" t="t" r="r" b="b"/>
            <a:pathLst>
              <a:path w="1039" h="1367">
                <a:moveTo>
                  <a:pt x="0" y="1205"/>
                </a:moveTo>
                <a:cubicBezTo>
                  <a:pt x="155" y="1204"/>
                  <a:pt x="817" y="1367"/>
                  <a:pt x="928" y="1200"/>
                </a:cubicBezTo>
                <a:cubicBezTo>
                  <a:pt x="1039" y="1033"/>
                  <a:pt x="817" y="405"/>
                  <a:pt x="667" y="205"/>
                </a:cubicBezTo>
                <a:cubicBezTo>
                  <a:pt x="517" y="5"/>
                  <a:pt x="160" y="43"/>
                  <a:pt x="26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2" name=""/>
          <p:cNvSpPr/>
          <p:nvPr/>
        </p:nvSpPr>
        <p:spPr>
          <a:xfrm flipV="1">
            <a:off x="2981160" y="355680"/>
            <a:ext cx="1872000" cy="365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3" name=""/>
          <p:cNvSpPr/>
          <p:nvPr/>
        </p:nvSpPr>
        <p:spPr>
          <a:xfrm>
            <a:off x="4896000" y="652320"/>
            <a:ext cx="236520" cy="244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baseline="2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4" name=""/>
          <p:cNvSpPr/>
          <p:nvPr/>
        </p:nvSpPr>
        <p:spPr>
          <a:xfrm>
            <a:off x="7151400" y="1401840"/>
            <a:ext cx="1845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Osmolarita plazm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5" name=""/>
          <p:cNvSpPr/>
          <p:nvPr/>
        </p:nvSpPr>
        <p:spPr>
          <a:xfrm>
            <a:off x="4878360" y="230040"/>
            <a:ext cx="236520" cy="2448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baseline="8000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6" name=""/>
          <p:cNvSpPr/>
          <p:nvPr/>
        </p:nvSpPr>
        <p:spPr>
          <a:xfrm>
            <a:off x="1638720" y="527040"/>
            <a:ext cx="133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vzestup tlak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7" name=""/>
          <p:cNvSpPr/>
          <p:nvPr/>
        </p:nvSpPr>
        <p:spPr>
          <a:xfrm>
            <a:off x="1647720" y="812880"/>
            <a:ext cx="123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pokles tlak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8" name=""/>
          <p:cNvSpPr/>
          <p:nvPr/>
        </p:nvSpPr>
        <p:spPr>
          <a:xfrm flipV="1">
            <a:off x="2859120" y="793800"/>
            <a:ext cx="2009880" cy="20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9" name=""/>
          <p:cNvSpPr/>
          <p:nvPr/>
        </p:nvSpPr>
        <p:spPr>
          <a:xfrm>
            <a:off x="6378480" y="1946160"/>
            <a:ext cx="236520" cy="244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baseline="2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0" name=""/>
          <p:cNvSpPr/>
          <p:nvPr/>
        </p:nvSpPr>
        <p:spPr>
          <a:xfrm flipH="1" flipV="1">
            <a:off x="6602040" y="2408040"/>
            <a:ext cx="903240" cy="206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1" name=""/>
          <p:cNvSpPr/>
          <p:nvPr/>
        </p:nvSpPr>
        <p:spPr>
          <a:xfrm>
            <a:off x="6361200" y="2287440"/>
            <a:ext cx="236520" cy="2448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baseline="2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2" name=""/>
          <p:cNvSpPr/>
          <p:nvPr/>
        </p:nvSpPr>
        <p:spPr>
          <a:xfrm>
            <a:off x="5075280" y="2328840"/>
            <a:ext cx="236520" cy="244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baseline="2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3" name=""/>
          <p:cNvSpPr/>
          <p:nvPr/>
        </p:nvSpPr>
        <p:spPr>
          <a:xfrm>
            <a:off x="4886280" y="3159000"/>
            <a:ext cx="1716120" cy="2401920"/>
          </a:xfrm>
          <a:custGeom>
            <a:avLst/>
            <a:gdLst/>
            <a:ahLst/>
            <a:rect l="l" t="t" r="r" b="b"/>
            <a:pathLst>
              <a:path w="1081" h="1513">
                <a:moveTo>
                  <a:pt x="384" y="10"/>
                </a:moveTo>
                <a:cubicBezTo>
                  <a:pt x="311" y="28"/>
                  <a:pt x="215" y="67"/>
                  <a:pt x="154" y="107"/>
                </a:cubicBezTo>
                <a:cubicBezTo>
                  <a:pt x="93" y="147"/>
                  <a:pt x="40" y="203"/>
                  <a:pt x="20" y="251"/>
                </a:cubicBezTo>
                <a:cubicBezTo>
                  <a:pt x="0" y="299"/>
                  <a:pt x="11" y="350"/>
                  <a:pt x="31" y="395"/>
                </a:cubicBezTo>
                <a:cubicBezTo>
                  <a:pt x="51" y="440"/>
                  <a:pt x="97" y="491"/>
                  <a:pt x="138" y="523"/>
                </a:cubicBezTo>
                <a:cubicBezTo>
                  <a:pt x="179" y="555"/>
                  <a:pt x="235" y="574"/>
                  <a:pt x="277" y="589"/>
                </a:cubicBezTo>
                <a:cubicBezTo>
                  <a:pt x="319" y="604"/>
                  <a:pt x="345" y="604"/>
                  <a:pt x="389" y="615"/>
                </a:cubicBezTo>
                <a:cubicBezTo>
                  <a:pt x="433" y="626"/>
                  <a:pt x="513" y="596"/>
                  <a:pt x="543" y="656"/>
                </a:cubicBezTo>
                <a:cubicBezTo>
                  <a:pt x="579" y="720"/>
                  <a:pt x="545" y="863"/>
                  <a:pt x="568" y="974"/>
                </a:cubicBezTo>
                <a:cubicBezTo>
                  <a:pt x="591" y="1085"/>
                  <a:pt x="648" y="1233"/>
                  <a:pt x="681" y="1323"/>
                </a:cubicBezTo>
                <a:cubicBezTo>
                  <a:pt x="714" y="1413"/>
                  <a:pt x="743" y="1483"/>
                  <a:pt x="768" y="1513"/>
                </a:cubicBezTo>
                <a:cubicBezTo>
                  <a:pt x="866" y="1507"/>
                  <a:pt x="804" y="1483"/>
                  <a:pt x="830" y="1504"/>
                </a:cubicBezTo>
                <a:cubicBezTo>
                  <a:pt x="824" y="1457"/>
                  <a:pt x="769" y="1395"/>
                  <a:pt x="731" y="1303"/>
                </a:cubicBezTo>
                <a:cubicBezTo>
                  <a:pt x="695" y="1210"/>
                  <a:pt x="631" y="1056"/>
                  <a:pt x="612" y="947"/>
                </a:cubicBezTo>
                <a:cubicBezTo>
                  <a:pt x="593" y="838"/>
                  <a:pt x="597" y="705"/>
                  <a:pt x="615" y="651"/>
                </a:cubicBezTo>
                <a:cubicBezTo>
                  <a:pt x="682" y="646"/>
                  <a:pt x="688" y="635"/>
                  <a:pt x="723" y="625"/>
                </a:cubicBezTo>
                <a:cubicBezTo>
                  <a:pt x="758" y="615"/>
                  <a:pt x="786" y="608"/>
                  <a:pt x="825" y="589"/>
                </a:cubicBezTo>
                <a:cubicBezTo>
                  <a:pt x="864" y="570"/>
                  <a:pt x="916" y="543"/>
                  <a:pt x="954" y="512"/>
                </a:cubicBezTo>
                <a:cubicBezTo>
                  <a:pt x="992" y="481"/>
                  <a:pt x="1036" y="441"/>
                  <a:pt x="1056" y="400"/>
                </a:cubicBezTo>
                <a:cubicBezTo>
                  <a:pt x="1076" y="359"/>
                  <a:pt x="1081" y="310"/>
                  <a:pt x="1072" y="266"/>
                </a:cubicBezTo>
                <a:cubicBezTo>
                  <a:pt x="1063" y="222"/>
                  <a:pt x="1048" y="172"/>
                  <a:pt x="1000" y="133"/>
                </a:cubicBezTo>
                <a:cubicBezTo>
                  <a:pt x="952" y="94"/>
                  <a:pt x="852" y="52"/>
                  <a:pt x="784" y="30"/>
                </a:cubicBezTo>
                <a:lnTo>
                  <a:pt x="595" y="0"/>
                </a:lnTo>
                <a:lnTo>
                  <a:pt x="384" y="1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4" name=""/>
          <p:cNvSpPr/>
          <p:nvPr/>
        </p:nvSpPr>
        <p:spPr>
          <a:xfrm>
            <a:off x="5027760" y="3271680"/>
            <a:ext cx="1465200" cy="790560"/>
          </a:xfrm>
          <a:prstGeom prst="ellipse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nucle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supraoptic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5" name=""/>
          <p:cNvSpPr/>
          <p:nvPr/>
        </p:nvSpPr>
        <p:spPr>
          <a:xfrm>
            <a:off x="4565520" y="4346640"/>
            <a:ext cx="2371680" cy="2063520"/>
          </a:xfrm>
          <a:custGeom>
            <a:avLst/>
            <a:gdLst/>
            <a:ahLst/>
            <a:rect l="l" t="t" r="r" b="b"/>
            <a:pathLst>
              <a:path w="1494" h="1300">
                <a:moveTo>
                  <a:pt x="688" y="0"/>
                </a:moveTo>
                <a:cubicBezTo>
                  <a:pt x="674" y="38"/>
                  <a:pt x="653" y="168"/>
                  <a:pt x="606" y="231"/>
                </a:cubicBezTo>
                <a:cubicBezTo>
                  <a:pt x="559" y="294"/>
                  <a:pt x="485" y="331"/>
                  <a:pt x="406" y="380"/>
                </a:cubicBezTo>
                <a:cubicBezTo>
                  <a:pt x="327" y="429"/>
                  <a:pt x="201" y="453"/>
                  <a:pt x="134" y="524"/>
                </a:cubicBezTo>
                <a:cubicBezTo>
                  <a:pt x="67" y="595"/>
                  <a:pt x="12" y="710"/>
                  <a:pt x="6" y="806"/>
                </a:cubicBezTo>
                <a:cubicBezTo>
                  <a:pt x="0" y="902"/>
                  <a:pt x="5" y="1019"/>
                  <a:pt x="98" y="1098"/>
                </a:cubicBezTo>
                <a:cubicBezTo>
                  <a:pt x="191" y="1177"/>
                  <a:pt x="365" y="1266"/>
                  <a:pt x="565" y="1283"/>
                </a:cubicBezTo>
                <a:cubicBezTo>
                  <a:pt x="765" y="1300"/>
                  <a:pt x="1144" y="1284"/>
                  <a:pt x="1298" y="1201"/>
                </a:cubicBezTo>
                <a:cubicBezTo>
                  <a:pt x="1452" y="1118"/>
                  <a:pt x="1494" y="910"/>
                  <a:pt x="1488" y="785"/>
                </a:cubicBezTo>
                <a:cubicBezTo>
                  <a:pt x="1482" y="660"/>
                  <a:pt x="1346" y="537"/>
                  <a:pt x="1262" y="452"/>
                </a:cubicBezTo>
                <a:cubicBezTo>
                  <a:pt x="1178" y="367"/>
                  <a:pt x="1051" y="346"/>
                  <a:pt x="985" y="272"/>
                </a:cubicBezTo>
                <a:cubicBezTo>
                  <a:pt x="919" y="198"/>
                  <a:pt x="892" y="61"/>
                  <a:pt x="867" y="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6" name=""/>
          <p:cNvSpPr/>
          <p:nvPr/>
        </p:nvSpPr>
        <p:spPr>
          <a:xfrm>
            <a:off x="6107040" y="5519880"/>
            <a:ext cx="98640" cy="74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7" name=""/>
          <p:cNvSpPr/>
          <p:nvPr/>
        </p:nvSpPr>
        <p:spPr>
          <a:xfrm>
            <a:off x="6134040" y="5608800"/>
            <a:ext cx="76320" cy="155520"/>
          </a:xfrm>
          <a:custGeom>
            <a:avLst/>
            <a:gdLst/>
            <a:ahLst/>
            <a:rect l="l" t="t" r="r" b="b"/>
            <a:pathLst>
              <a:path w="196" h="370">
                <a:moveTo>
                  <a:pt x="95" y="0"/>
                </a:moveTo>
                <a:lnTo>
                  <a:pt x="105" y="58"/>
                </a:lnTo>
                <a:lnTo>
                  <a:pt x="111" y="87"/>
                </a:lnTo>
                <a:lnTo>
                  <a:pt x="121" y="121"/>
                </a:lnTo>
                <a:lnTo>
                  <a:pt x="132" y="141"/>
                </a:lnTo>
                <a:lnTo>
                  <a:pt x="147" y="166"/>
                </a:lnTo>
                <a:lnTo>
                  <a:pt x="167" y="193"/>
                </a:lnTo>
                <a:lnTo>
                  <a:pt x="184" y="220"/>
                </a:lnTo>
                <a:lnTo>
                  <a:pt x="192" y="245"/>
                </a:lnTo>
                <a:lnTo>
                  <a:pt x="196" y="278"/>
                </a:lnTo>
                <a:lnTo>
                  <a:pt x="189" y="307"/>
                </a:lnTo>
                <a:lnTo>
                  <a:pt x="178" y="328"/>
                </a:lnTo>
                <a:lnTo>
                  <a:pt x="162" y="345"/>
                </a:lnTo>
                <a:lnTo>
                  <a:pt x="141" y="361"/>
                </a:lnTo>
                <a:lnTo>
                  <a:pt x="121" y="367"/>
                </a:lnTo>
                <a:lnTo>
                  <a:pt x="99" y="370"/>
                </a:lnTo>
                <a:lnTo>
                  <a:pt x="76" y="367"/>
                </a:lnTo>
                <a:lnTo>
                  <a:pt x="54" y="362"/>
                </a:lnTo>
                <a:lnTo>
                  <a:pt x="34" y="350"/>
                </a:lnTo>
                <a:lnTo>
                  <a:pt x="19" y="334"/>
                </a:lnTo>
                <a:lnTo>
                  <a:pt x="8" y="315"/>
                </a:lnTo>
                <a:lnTo>
                  <a:pt x="3" y="296"/>
                </a:lnTo>
                <a:lnTo>
                  <a:pt x="0" y="272"/>
                </a:lnTo>
                <a:lnTo>
                  <a:pt x="5" y="240"/>
                </a:lnTo>
                <a:lnTo>
                  <a:pt x="13" y="218"/>
                </a:lnTo>
                <a:lnTo>
                  <a:pt x="30" y="190"/>
                </a:lnTo>
                <a:lnTo>
                  <a:pt x="49" y="166"/>
                </a:lnTo>
                <a:lnTo>
                  <a:pt x="62" y="140"/>
                </a:lnTo>
                <a:lnTo>
                  <a:pt x="72" y="119"/>
                </a:lnTo>
                <a:lnTo>
                  <a:pt x="81" y="90"/>
                </a:lnTo>
                <a:lnTo>
                  <a:pt x="86" y="58"/>
                </a:lnTo>
                <a:lnTo>
                  <a:pt x="9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8" name=""/>
          <p:cNvSpPr/>
          <p:nvPr/>
        </p:nvSpPr>
        <p:spPr>
          <a:xfrm rot="3226800">
            <a:off x="5567400" y="5501880"/>
            <a:ext cx="239760" cy="1509840"/>
          </a:xfrm>
          <a:prstGeom prst="can">
            <a:avLst>
              <a:gd name="adj" fmla="val 25000"/>
            </a:avLst>
          </a:prstGeom>
          <a:solidFill>
            <a:srgbClr val="ff33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9" name=""/>
          <p:cNvSpPr/>
          <p:nvPr/>
        </p:nvSpPr>
        <p:spPr>
          <a:xfrm>
            <a:off x="6134040" y="5773680"/>
            <a:ext cx="76320" cy="155520"/>
          </a:xfrm>
          <a:custGeom>
            <a:avLst/>
            <a:gdLst/>
            <a:ahLst/>
            <a:rect l="l" t="t" r="r" b="b"/>
            <a:pathLst>
              <a:path w="196" h="372">
                <a:moveTo>
                  <a:pt x="95" y="0"/>
                </a:moveTo>
                <a:lnTo>
                  <a:pt x="105" y="60"/>
                </a:lnTo>
                <a:lnTo>
                  <a:pt x="111" y="88"/>
                </a:lnTo>
                <a:lnTo>
                  <a:pt x="121" y="122"/>
                </a:lnTo>
                <a:lnTo>
                  <a:pt x="132" y="143"/>
                </a:lnTo>
                <a:lnTo>
                  <a:pt x="147" y="168"/>
                </a:lnTo>
                <a:lnTo>
                  <a:pt x="167" y="195"/>
                </a:lnTo>
                <a:lnTo>
                  <a:pt x="184" y="221"/>
                </a:lnTo>
                <a:lnTo>
                  <a:pt x="192" y="247"/>
                </a:lnTo>
                <a:lnTo>
                  <a:pt x="196" y="279"/>
                </a:lnTo>
                <a:lnTo>
                  <a:pt x="189" y="308"/>
                </a:lnTo>
                <a:lnTo>
                  <a:pt x="178" y="328"/>
                </a:lnTo>
                <a:lnTo>
                  <a:pt x="162" y="345"/>
                </a:lnTo>
                <a:lnTo>
                  <a:pt x="141" y="361"/>
                </a:lnTo>
                <a:lnTo>
                  <a:pt x="121" y="369"/>
                </a:lnTo>
                <a:lnTo>
                  <a:pt x="99" y="372"/>
                </a:lnTo>
                <a:lnTo>
                  <a:pt x="76" y="369"/>
                </a:lnTo>
                <a:lnTo>
                  <a:pt x="54" y="363"/>
                </a:lnTo>
                <a:lnTo>
                  <a:pt x="34" y="351"/>
                </a:lnTo>
                <a:lnTo>
                  <a:pt x="19" y="336"/>
                </a:lnTo>
                <a:lnTo>
                  <a:pt x="8" y="317"/>
                </a:lnTo>
                <a:lnTo>
                  <a:pt x="3" y="298"/>
                </a:lnTo>
                <a:lnTo>
                  <a:pt x="0" y="272"/>
                </a:lnTo>
                <a:lnTo>
                  <a:pt x="5" y="242"/>
                </a:lnTo>
                <a:lnTo>
                  <a:pt x="13" y="219"/>
                </a:lnTo>
                <a:lnTo>
                  <a:pt x="30" y="191"/>
                </a:lnTo>
                <a:lnTo>
                  <a:pt x="49" y="168"/>
                </a:lnTo>
                <a:lnTo>
                  <a:pt x="62" y="141"/>
                </a:lnTo>
                <a:lnTo>
                  <a:pt x="72" y="120"/>
                </a:lnTo>
                <a:lnTo>
                  <a:pt x="81" y="90"/>
                </a:lnTo>
                <a:lnTo>
                  <a:pt x="86" y="60"/>
                </a:lnTo>
                <a:lnTo>
                  <a:pt x="9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0" name=""/>
          <p:cNvSpPr/>
          <p:nvPr/>
        </p:nvSpPr>
        <p:spPr>
          <a:xfrm rot="19405200">
            <a:off x="5131080" y="5862240"/>
            <a:ext cx="91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kapilá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1" name=""/>
          <p:cNvSpPr/>
          <p:nvPr/>
        </p:nvSpPr>
        <p:spPr>
          <a:xfrm rot="2497800">
            <a:off x="6067080" y="4853160"/>
            <a:ext cx="151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neurohypofýz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2" name=""/>
          <p:cNvSpPr/>
          <p:nvPr/>
        </p:nvSpPr>
        <p:spPr>
          <a:xfrm>
            <a:off x="6198120" y="5505480"/>
            <a:ext cx="63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AD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3" name=""/>
          <p:cNvSpPr/>
          <p:nvPr/>
        </p:nvSpPr>
        <p:spPr>
          <a:xfrm rot="688800">
            <a:off x="7123680" y="417600"/>
            <a:ext cx="67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vag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4" name=""/>
          <p:cNvSpPr/>
          <p:nvPr/>
        </p:nvSpPr>
        <p:spPr>
          <a:xfrm>
            <a:off x="7862760" y="636480"/>
            <a:ext cx="941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Nausea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vomitu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5" name=""/>
          <p:cNvSpPr/>
          <p:nvPr/>
        </p:nvSpPr>
        <p:spPr>
          <a:xfrm>
            <a:off x="6647040" y="473040"/>
            <a:ext cx="236520" cy="244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baseline="2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6" name=""/>
          <p:cNvSpPr/>
          <p:nvPr/>
        </p:nvSpPr>
        <p:spPr>
          <a:xfrm flipH="1" flipV="1">
            <a:off x="6854400" y="609480"/>
            <a:ext cx="1057320" cy="214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7" name=""/>
          <p:cNvSpPr/>
          <p:nvPr/>
        </p:nvSpPr>
        <p:spPr>
          <a:xfrm>
            <a:off x="6524640" y="3681360"/>
            <a:ext cx="236520" cy="244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baseline="8000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8" name=""/>
          <p:cNvSpPr/>
          <p:nvPr/>
        </p:nvSpPr>
        <p:spPr>
          <a:xfrm>
            <a:off x="3689640" y="4633920"/>
            <a:ext cx="86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Alkoh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9" name=""/>
          <p:cNvSpPr/>
          <p:nvPr/>
        </p:nvSpPr>
        <p:spPr>
          <a:xfrm>
            <a:off x="3305520" y="3689280"/>
            <a:ext cx="118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Enkephal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0" name=""/>
          <p:cNvSpPr/>
          <p:nvPr/>
        </p:nvSpPr>
        <p:spPr>
          <a:xfrm>
            <a:off x="3075120" y="4105440"/>
            <a:ext cx="163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Glukokortikoid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1" name=""/>
          <p:cNvSpPr/>
          <p:nvPr/>
        </p:nvSpPr>
        <p:spPr>
          <a:xfrm>
            <a:off x="7537320" y="3290760"/>
            <a:ext cx="98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Dopam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2" name=""/>
          <p:cNvSpPr/>
          <p:nvPr/>
        </p:nvSpPr>
        <p:spPr>
          <a:xfrm>
            <a:off x="6361200" y="3313080"/>
            <a:ext cx="236520" cy="244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baseline="2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3" name=""/>
          <p:cNvSpPr/>
          <p:nvPr/>
        </p:nvSpPr>
        <p:spPr>
          <a:xfrm flipH="1" flipV="1">
            <a:off x="6592680" y="3458880"/>
            <a:ext cx="1003320" cy="1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4" name=""/>
          <p:cNvSpPr/>
          <p:nvPr/>
        </p:nvSpPr>
        <p:spPr>
          <a:xfrm>
            <a:off x="6950880" y="27432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Hypoxi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5" name=""/>
          <p:cNvSpPr/>
          <p:nvPr/>
        </p:nvSpPr>
        <p:spPr>
          <a:xfrm>
            <a:off x="7415280" y="2987640"/>
            <a:ext cx="14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Hypoglykémi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6" name=""/>
          <p:cNvSpPr/>
          <p:nvPr/>
        </p:nvSpPr>
        <p:spPr>
          <a:xfrm>
            <a:off x="6091200" y="3117960"/>
            <a:ext cx="236520" cy="244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baseline="2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7" name=""/>
          <p:cNvSpPr/>
          <p:nvPr/>
        </p:nvSpPr>
        <p:spPr>
          <a:xfrm flipH="1">
            <a:off x="6314760" y="3166920"/>
            <a:ext cx="1157400" cy="30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8" name=""/>
          <p:cNvSpPr/>
          <p:nvPr/>
        </p:nvSpPr>
        <p:spPr>
          <a:xfrm flipH="1">
            <a:off x="6289560" y="2906640"/>
            <a:ext cx="711360" cy="20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9" name=""/>
          <p:cNvSpPr/>
          <p:nvPr/>
        </p:nvSpPr>
        <p:spPr>
          <a:xfrm>
            <a:off x="5302080" y="4000680"/>
            <a:ext cx="236880" cy="244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baseline="8000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0" name=""/>
          <p:cNvSpPr/>
          <p:nvPr/>
        </p:nvSpPr>
        <p:spPr>
          <a:xfrm>
            <a:off x="5024520" y="3870360"/>
            <a:ext cx="236520" cy="244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baseline="8000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1" name=""/>
          <p:cNvSpPr/>
          <p:nvPr/>
        </p:nvSpPr>
        <p:spPr>
          <a:xfrm>
            <a:off x="4813200" y="3608280"/>
            <a:ext cx="236520" cy="244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baseline="8000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2" name=""/>
          <p:cNvSpPr/>
          <p:nvPr/>
        </p:nvSpPr>
        <p:spPr>
          <a:xfrm flipV="1">
            <a:off x="4438800" y="3755880"/>
            <a:ext cx="374400" cy="106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3" name=""/>
          <p:cNvSpPr/>
          <p:nvPr/>
        </p:nvSpPr>
        <p:spPr>
          <a:xfrm flipV="1">
            <a:off x="4659480" y="4032000"/>
            <a:ext cx="372960" cy="212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4" name=""/>
          <p:cNvSpPr/>
          <p:nvPr/>
        </p:nvSpPr>
        <p:spPr>
          <a:xfrm flipV="1">
            <a:off x="4527720" y="4194000"/>
            <a:ext cx="788760" cy="587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05" name=""/>
          <p:cNvGrpSpPr/>
          <p:nvPr/>
        </p:nvGrpSpPr>
        <p:grpSpPr>
          <a:xfrm>
            <a:off x="209880" y="-182520"/>
            <a:ext cx="8944920" cy="6985080"/>
            <a:chOff x="209880" y="-182520"/>
            <a:chExt cx="8944920" cy="6985080"/>
          </a:xfrm>
        </p:grpSpPr>
        <p:sp>
          <p:nvSpPr>
            <p:cNvPr id="7006" name=""/>
            <p:cNvSpPr/>
            <p:nvPr/>
          </p:nvSpPr>
          <p:spPr>
            <a:xfrm rot="16200000">
              <a:off x="-523800" y="1873440"/>
              <a:ext cx="1927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ADH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[pg/ml]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7" name=""/>
            <p:cNvSpPr/>
            <p:nvPr/>
          </p:nvSpPr>
          <p:spPr>
            <a:xfrm>
              <a:off x="976320" y="5103720"/>
              <a:ext cx="627552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8" name=""/>
            <p:cNvSpPr/>
            <p:nvPr/>
          </p:nvSpPr>
          <p:spPr>
            <a:xfrm flipV="1">
              <a:off x="1684440" y="4917960"/>
              <a:ext cx="0" cy="185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9" name=""/>
            <p:cNvSpPr/>
            <p:nvPr/>
          </p:nvSpPr>
          <p:spPr>
            <a:xfrm flipV="1">
              <a:off x="2352600" y="4919760"/>
              <a:ext cx="0" cy="185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0" name=""/>
            <p:cNvSpPr/>
            <p:nvPr/>
          </p:nvSpPr>
          <p:spPr>
            <a:xfrm flipV="1">
              <a:off x="3021120" y="4919760"/>
              <a:ext cx="0" cy="185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1" name=""/>
            <p:cNvSpPr/>
            <p:nvPr/>
          </p:nvSpPr>
          <p:spPr>
            <a:xfrm flipV="1">
              <a:off x="3689280" y="4917960"/>
              <a:ext cx="0" cy="185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2" name=""/>
            <p:cNvSpPr/>
            <p:nvPr/>
          </p:nvSpPr>
          <p:spPr>
            <a:xfrm flipV="1">
              <a:off x="4359240" y="4917960"/>
              <a:ext cx="0" cy="185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3" name=""/>
            <p:cNvSpPr/>
            <p:nvPr/>
          </p:nvSpPr>
          <p:spPr>
            <a:xfrm flipV="1">
              <a:off x="5027760" y="4917960"/>
              <a:ext cx="0" cy="185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4" name=""/>
            <p:cNvSpPr/>
            <p:nvPr/>
          </p:nvSpPr>
          <p:spPr>
            <a:xfrm flipV="1">
              <a:off x="5695920" y="4919760"/>
              <a:ext cx="0" cy="185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5" name=""/>
            <p:cNvSpPr/>
            <p:nvPr/>
          </p:nvSpPr>
          <p:spPr>
            <a:xfrm flipV="1">
              <a:off x="6364440" y="4919760"/>
              <a:ext cx="0" cy="185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6" name=""/>
            <p:cNvSpPr/>
            <p:nvPr/>
          </p:nvSpPr>
          <p:spPr>
            <a:xfrm>
              <a:off x="1997280" y="5023440"/>
              <a:ext cx="63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27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7" name=""/>
            <p:cNvSpPr/>
            <p:nvPr/>
          </p:nvSpPr>
          <p:spPr>
            <a:xfrm>
              <a:off x="2751120" y="5031360"/>
              <a:ext cx="63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27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8" name=""/>
            <p:cNvSpPr/>
            <p:nvPr/>
          </p:nvSpPr>
          <p:spPr>
            <a:xfrm>
              <a:off x="3495600" y="5031360"/>
              <a:ext cx="63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28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9" name=""/>
            <p:cNvSpPr/>
            <p:nvPr/>
          </p:nvSpPr>
          <p:spPr>
            <a:xfrm>
              <a:off x="4129200" y="5031360"/>
              <a:ext cx="63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28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0" name=""/>
            <p:cNvSpPr/>
            <p:nvPr/>
          </p:nvSpPr>
          <p:spPr>
            <a:xfrm>
              <a:off x="4838760" y="5058360"/>
              <a:ext cx="63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29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1" name=""/>
            <p:cNvSpPr/>
            <p:nvPr/>
          </p:nvSpPr>
          <p:spPr>
            <a:xfrm>
              <a:off x="5479920" y="5031360"/>
              <a:ext cx="63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29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2" name=""/>
            <p:cNvSpPr/>
            <p:nvPr/>
          </p:nvSpPr>
          <p:spPr>
            <a:xfrm>
              <a:off x="6099120" y="5031360"/>
              <a:ext cx="63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3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3" name=""/>
            <p:cNvSpPr/>
            <p:nvPr/>
          </p:nvSpPr>
          <p:spPr>
            <a:xfrm>
              <a:off x="977760" y="198360"/>
              <a:ext cx="0" cy="4907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4" name=""/>
            <p:cNvSpPr/>
            <p:nvPr/>
          </p:nvSpPr>
          <p:spPr>
            <a:xfrm>
              <a:off x="733320" y="405756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5" name=""/>
            <p:cNvSpPr/>
            <p:nvPr/>
          </p:nvSpPr>
          <p:spPr>
            <a:xfrm>
              <a:off x="663480" y="245916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6" name=""/>
            <p:cNvSpPr/>
            <p:nvPr/>
          </p:nvSpPr>
          <p:spPr>
            <a:xfrm>
              <a:off x="663480" y="165888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7" name=""/>
            <p:cNvSpPr/>
            <p:nvPr/>
          </p:nvSpPr>
          <p:spPr>
            <a:xfrm>
              <a:off x="663480" y="86688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8" name=""/>
            <p:cNvSpPr/>
            <p:nvPr/>
          </p:nvSpPr>
          <p:spPr>
            <a:xfrm>
              <a:off x="6488280" y="4678560"/>
              <a:ext cx="26665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Osmolarita plazmy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[mOsm/l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9" name=""/>
            <p:cNvSpPr/>
            <p:nvPr/>
          </p:nvSpPr>
          <p:spPr>
            <a:xfrm>
              <a:off x="1332000" y="5028120"/>
              <a:ext cx="63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26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0" name=""/>
            <p:cNvSpPr/>
            <p:nvPr/>
          </p:nvSpPr>
          <p:spPr>
            <a:xfrm>
              <a:off x="774720" y="0"/>
              <a:ext cx="77724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4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1" name=""/>
            <p:cNvSpPr/>
            <p:nvPr/>
          </p:nvSpPr>
          <p:spPr>
            <a:xfrm>
              <a:off x="977760" y="320040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2" name=""/>
            <p:cNvSpPr/>
            <p:nvPr/>
          </p:nvSpPr>
          <p:spPr>
            <a:xfrm>
              <a:off x="977760" y="132408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3" name=""/>
            <p:cNvSpPr/>
            <p:nvPr/>
          </p:nvSpPr>
          <p:spPr>
            <a:xfrm>
              <a:off x="665280" y="29152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4" name=""/>
            <p:cNvSpPr/>
            <p:nvPr/>
          </p:nvSpPr>
          <p:spPr>
            <a:xfrm>
              <a:off x="565200" y="98964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5" name=""/>
            <p:cNvSpPr/>
            <p:nvPr/>
          </p:nvSpPr>
          <p:spPr>
            <a:xfrm>
              <a:off x="1139760" y="141120"/>
              <a:ext cx="6367680" cy="4604040"/>
            </a:xfrm>
            <a:custGeom>
              <a:avLst/>
              <a:gdLst/>
              <a:ahLst/>
              <a:rect l="l" t="t" r="r" b="b"/>
              <a:pathLst>
                <a:path w="4011" h="2900">
                  <a:moveTo>
                    <a:pt x="0" y="2890"/>
                  </a:moveTo>
                  <a:cubicBezTo>
                    <a:pt x="253" y="2891"/>
                    <a:pt x="1243" y="2900"/>
                    <a:pt x="1521" y="2894"/>
                  </a:cubicBezTo>
                  <a:cubicBezTo>
                    <a:pt x="1680" y="2862"/>
                    <a:pt x="1510" y="2889"/>
                    <a:pt x="1670" y="2857"/>
                  </a:cubicBezTo>
                  <a:cubicBezTo>
                    <a:pt x="1818" y="2772"/>
                    <a:pt x="1870" y="2679"/>
                    <a:pt x="1999" y="2540"/>
                  </a:cubicBezTo>
                  <a:lnTo>
                    <a:pt x="2445" y="2020"/>
                  </a:lnTo>
                  <a:cubicBezTo>
                    <a:pt x="2780" y="1597"/>
                    <a:pt x="3685" y="421"/>
                    <a:pt x="4011" y="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6" name=""/>
            <p:cNvSpPr/>
            <p:nvPr/>
          </p:nvSpPr>
          <p:spPr>
            <a:xfrm>
              <a:off x="990720" y="144360"/>
              <a:ext cx="5313240" cy="4600800"/>
            </a:xfrm>
            <a:custGeom>
              <a:avLst/>
              <a:gdLst/>
              <a:ahLst/>
              <a:rect l="l" t="t" r="r" b="b"/>
              <a:pathLst>
                <a:path w="3347" h="2898">
                  <a:moveTo>
                    <a:pt x="0" y="2881"/>
                  </a:moveTo>
                  <a:cubicBezTo>
                    <a:pt x="142" y="2883"/>
                    <a:pt x="689" y="2898"/>
                    <a:pt x="857" y="2894"/>
                  </a:cubicBezTo>
                  <a:cubicBezTo>
                    <a:pt x="1016" y="2862"/>
                    <a:pt x="846" y="2889"/>
                    <a:pt x="1006" y="2857"/>
                  </a:cubicBezTo>
                  <a:cubicBezTo>
                    <a:pt x="1154" y="2772"/>
                    <a:pt x="1206" y="2679"/>
                    <a:pt x="1335" y="2540"/>
                  </a:cubicBezTo>
                  <a:lnTo>
                    <a:pt x="1781" y="2020"/>
                  </a:lnTo>
                  <a:cubicBezTo>
                    <a:pt x="2116" y="1597"/>
                    <a:pt x="3021" y="421"/>
                    <a:pt x="3347" y="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7" name=""/>
            <p:cNvSpPr/>
            <p:nvPr/>
          </p:nvSpPr>
          <p:spPr>
            <a:xfrm>
              <a:off x="2465280" y="136440"/>
              <a:ext cx="6367680" cy="4603680"/>
            </a:xfrm>
            <a:custGeom>
              <a:avLst/>
              <a:gdLst/>
              <a:ahLst/>
              <a:rect l="l" t="t" r="r" b="b"/>
              <a:pathLst>
                <a:path w="4011" h="2900">
                  <a:moveTo>
                    <a:pt x="0" y="2890"/>
                  </a:moveTo>
                  <a:cubicBezTo>
                    <a:pt x="253" y="2891"/>
                    <a:pt x="1243" y="2900"/>
                    <a:pt x="1521" y="2894"/>
                  </a:cubicBezTo>
                  <a:cubicBezTo>
                    <a:pt x="1680" y="2862"/>
                    <a:pt x="1510" y="2889"/>
                    <a:pt x="1670" y="2857"/>
                  </a:cubicBezTo>
                  <a:cubicBezTo>
                    <a:pt x="1818" y="2772"/>
                    <a:pt x="1870" y="2679"/>
                    <a:pt x="1999" y="2540"/>
                  </a:cubicBezTo>
                  <a:lnTo>
                    <a:pt x="2445" y="2020"/>
                  </a:lnTo>
                  <a:cubicBezTo>
                    <a:pt x="2780" y="1597"/>
                    <a:pt x="3685" y="421"/>
                    <a:pt x="4011" y="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8" name=""/>
            <p:cNvSpPr/>
            <p:nvPr/>
          </p:nvSpPr>
          <p:spPr>
            <a:xfrm>
              <a:off x="4545000" y="2309760"/>
              <a:ext cx="1155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400" spc="-1" strike="noStrike">
                  <a:solidFill>
                    <a:srgbClr val="000000"/>
                  </a:solidFill>
                  <a:latin typeface="Times New Roman"/>
                </a:rPr>
                <a:t>Hypovolémi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9" name=""/>
            <p:cNvSpPr/>
            <p:nvPr/>
          </p:nvSpPr>
          <p:spPr>
            <a:xfrm flipH="1">
              <a:off x="4677840" y="2301840"/>
              <a:ext cx="114300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0" name=""/>
            <p:cNvSpPr/>
            <p:nvPr/>
          </p:nvSpPr>
          <p:spPr>
            <a:xfrm flipH="1">
              <a:off x="5857920" y="2311560"/>
              <a:ext cx="129528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1" name=""/>
            <p:cNvSpPr/>
            <p:nvPr/>
          </p:nvSpPr>
          <p:spPr>
            <a:xfrm rot="18453000">
              <a:off x="5087880" y="894960"/>
              <a:ext cx="2869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400" spc="-1" strike="noStrike">
                  <a:solidFill>
                    <a:srgbClr val="000000"/>
                  </a:solidFill>
                  <a:latin typeface="Times New Roman"/>
                </a:rPr>
                <a:t>Normální efektivní cirkulující objem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2" name=""/>
            <p:cNvSpPr/>
            <p:nvPr/>
          </p:nvSpPr>
          <p:spPr>
            <a:xfrm>
              <a:off x="5838840" y="2319480"/>
              <a:ext cx="12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400" spc="-1" strike="noStrike">
                  <a:solidFill>
                    <a:srgbClr val="000000"/>
                  </a:solidFill>
                  <a:latin typeface="Times New Roman"/>
                </a:rPr>
                <a:t>Hypervolémi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3" name=""/>
            <p:cNvSpPr/>
            <p:nvPr/>
          </p:nvSpPr>
          <p:spPr>
            <a:xfrm>
              <a:off x="4405320" y="6097680"/>
              <a:ext cx="4192560" cy="704880"/>
            </a:xfrm>
            <a:prstGeom prst="rightArrow">
              <a:avLst>
                <a:gd name="adj1" fmla="val 35361"/>
                <a:gd name="adj2" fmla="val 109678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400" spc="-1" strike="noStrike">
                  <a:solidFill>
                    <a:srgbClr val="000000"/>
                  </a:solidFill>
                  <a:latin typeface="Times New Roman"/>
                </a:rPr>
                <a:t>Pocit žízně při hypovolémi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4" name=""/>
            <p:cNvSpPr/>
            <p:nvPr/>
          </p:nvSpPr>
          <p:spPr>
            <a:xfrm>
              <a:off x="5684760" y="5699160"/>
              <a:ext cx="2863800" cy="574560"/>
            </a:xfrm>
            <a:prstGeom prst="rightArrow">
              <a:avLst>
                <a:gd name="adj1" fmla="val 50000"/>
                <a:gd name="adj2" fmla="val 124608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400" spc="-1" strike="noStrike">
                  <a:solidFill>
                    <a:srgbClr val="000000"/>
                  </a:solidFill>
                  <a:latin typeface="Times New Roman"/>
                </a:rPr>
                <a:t>Pocit žízně při normálním objem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5" name=""/>
            <p:cNvSpPr/>
            <p:nvPr/>
          </p:nvSpPr>
          <p:spPr>
            <a:xfrm flipV="1">
              <a:off x="5683320" y="5479920"/>
              <a:ext cx="0" cy="635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6" name=""/>
            <p:cNvSpPr/>
            <p:nvPr/>
          </p:nvSpPr>
          <p:spPr>
            <a:xfrm flipH="1" flipV="1">
              <a:off x="4411800" y="5487840"/>
              <a:ext cx="2880" cy="1074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47" name=""/>
          <p:cNvSpPr/>
          <p:nvPr/>
        </p:nvSpPr>
        <p:spPr>
          <a:xfrm>
            <a:off x="374760" y="6054840"/>
            <a:ext cx="38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48" name=""/>
          <p:cNvGrpSpPr/>
          <p:nvPr/>
        </p:nvGrpSpPr>
        <p:grpSpPr>
          <a:xfrm>
            <a:off x="178200" y="146520"/>
            <a:ext cx="8340480" cy="6586560"/>
            <a:chOff x="178200" y="146520"/>
            <a:chExt cx="8340480" cy="6586560"/>
          </a:xfrm>
        </p:grpSpPr>
        <p:sp>
          <p:nvSpPr>
            <p:cNvPr id="7049" name=""/>
            <p:cNvSpPr/>
            <p:nvPr/>
          </p:nvSpPr>
          <p:spPr>
            <a:xfrm rot="16200000">
              <a:off x="-555480" y="2873520"/>
              <a:ext cx="1927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ADH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[pg/ml]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0" name=""/>
            <p:cNvSpPr/>
            <p:nvPr/>
          </p:nvSpPr>
          <p:spPr>
            <a:xfrm>
              <a:off x="879480" y="6105600"/>
              <a:ext cx="471492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1" name=""/>
            <p:cNvSpPr/>
            <p:nvPr/>
          </p:nvSpPr>
          <p:spPr>
            <a:xfrm flipV="1">
              <a:off x="1587600" y="5919840"/>
              <a:ext cx="0" cy="185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2" name=""/>
            <p:cNvSpPr/>
            <p:nvPr/>
          </p:nvSpPr>
          <p:spPr>
            <a:xfrm flipV="1">
              <a:off x="2255760" y="5921280"/>
              <a:ext cx="0" cy="185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3" name=""/>
            <p:cNvSpPr/>
            <p:nvPr/>
          </p:nvSpPr>
          <p:spPr>
            <a:xfrm flipV="1">
              <a:off x="2924280" y="5921280"/>
              <a:ext cx="0" cy="185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4" name=""/>
            <p:cNvSpPr/>
            <p:nvPr/>
          </p:nvSpPr>
          <p:spPr>
            <a:xfrm flipV="1">
              <a:off x="3592440" y="5919840"/>
              <a:ext cx="0" cy="185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5" name=""/>
            <p:cNvSpPr/>
            <p:nvPr/>
          </p:nvSpPr>
          <p:spPr>
            <a:xfrm flipV="1">
              <a:off x="4262400" y="5919840"/>
              <a:ext cx="0" cy="185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6" name=""/>
            <p:cNvSpPr/>
            <p:nvPr/>
          </p:nvSpPr>
          <p:spPr>
            <a:xfrm flipV="1">
              <a:off x="4930920" y="5919840"/>
              <a:ext cx="0" cy="185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7" name=""/>
            <p:cNvSpPr/>
            <p:nvPr/>
          </p:nvSpPr>
          <p:spPr>
            <a:xfrm>
              <a:off x="1798200" y="6024960"/>
              <a:ext cx="842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-10%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8" name=""/>
            <p:cNvSpPr/>
            <p:nvPr/>
          </p:nvSpPr>
          <p:spPr>
            <a:xfrm>
              <a:off x="3296880" y="6032880"/>
              <a:ext cx="842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-20%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9" name=""/>
            <p:cNvSpPr/>
            <p:nvPr/>
          </p:nvSpPr>
          <p:spPr>
            <a:xfrm>
              <a:off x="4639680" y="6059880"/>
              <a:ext cx="842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-30%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0" name=""/>
            <p:cNvSpPr/>
            <p:nvPr/>
          </p:nvSpPr>
          <p:spPr>
            <a:xfrm>
              <a:off x="5451480" y="5541840"/>
              <a:ext cx="3067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Snížení efektivníh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cirkulujícího objem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při normální osmolaritě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1" name=""/>
            <p:cNvSpPr/>
            <p:nvPr/>
          </p:nvSpPr>
          <p:spPr>
            <a:xfrm>
              <a:off x="880920" y="396720"/>
              <a:ext cx="0" cy="5710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2" name=""/>
            <p:cNvSpPr/>
            <p:nvPr/>
          </p:nvSpPr>
          <p:spPr>
            <a:xfrm>
              <a:off x="636480" y="505944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3" name=""/>
            <p:cNvSpPr/>
            <p:nvPr/>
          </p:nvSpPr>
          <p:spPr>
            <a:xfrm>
              <a:off x="566640" y="346068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4" name=""/>
            <p:cNvSpPr/>
            <p:nvPr/>
          </p:nvSpPr>
          <p:spPr>
            <a:xfrm>
              <a:off x="566640" y="266076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5" name=""/>
            <p:cNvSpPr/>
            <p:nvPr/>
          </p:nvSpPr>
          <p:spPr>
            <a:xfrm>
              <a:off x="566640" y="186840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6" name=""/>
            <p:cNvSpPr/>
            <p:nvPr/>
          </p:nvSpPr>
          <p:spPr>
            <a:xfrm>
              <a:off x="677880" y="1001880"/>
              <a:ext cx="77724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4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7" name=""/>
            <p:cNvSpPr/>
            <p:nvPr/>
          </p:nvSpPr>
          <p:spPr>
            <a:xfrm>
              <a:off x="880920" y="4202280"/>
              <a:ext cx="147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8" name=""/>
            <p:cNvSpPr/>
            <p:nvPr/>
          </p:nvSpPr>
          <p:spPr>
            <a:xfrm>
              <a:off x="880920" y="2308320"/>
              <a:ext cx="147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9" name=""/>
            <p:cNvSpPr/>
            <p:nvPr/>
          </p:nvSpPr>
          <p:spPr>
            <a:xfrm>
              <a:off x="568440" y="39168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0" name=""/>
            <p:cNvSpPr/>
            <p:nvPr/>
          </p:nvSpPr>
          <p:spPr>
            <a:xfrm>
              <a:off x="468360" y="199116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1" name=""/>
            <p:cNvSpPr/>
            <p:nvPr/>
          </p:nvSpPr>
          <p:spPr>
            <a:xfrm>
              <a:off x="936720" y="277920"/>
              <a:ext cx="3403440" cy="5665680"/>
            </a:xfrm>
            <a:custGeom>
              <a:avLst/>
              <a:gdLst/>
              <a:ahLst/>
              <a:rect l="l" t="t" r="r" b="b"/>
              <a:pathLst>
                <a:path w="2144" h="3569">
                  <a:moveTo>
                    <a:pt x="0" y="3564"/>
                  </a:moveTo>
                  <a:cubicBezTo>
                    <a:pt x="115" y="3563"/>
                    <a:pt x="552" y="3569"/>
                    <a:pt x="692" y="3559"/>
                  </a:cubicBezTo>
                  <a:cubicBezTo>
                    <a:pt x="831" y="3528"/>
                    <a:pt x="789" y="3538"/>
                    <a:pt x="841" y="3502"/>
                  </a:cubicBezTo>
                  <a:cubicBezTo>
                    <a:pt x="893" y="3466"/>
                    <a:pt x="918" y="3452"/>
                    <a:pt x="1005" y="3343"/>
                  </a:cubicBezTo>
                  <a:cubicBezTo>
                    <a:pt x="1092" y="3234"/>
                    <a:pt x="1244" y="3062"/>
                    <a:pt x="1364" y="2846"/>
                  </a:cubicBezTo>
                  <a:cubicBezTo>
                    <a:pt x="1518" y="2610"/>
                    <a:pt x="1538" y="2529"/>
                    <a:pt x="1723" y="2046"/>
                  </a:cubicBezTo>
                  <a:cubicBezTo>
                    <a:pt x="1908" y="1563"/>
                    <a:pt x="1947" y="1329"/>
                    <a:pt x="2017" y="988"/>
                  </a:cubicBezTo>
                  <a:cubicBezTo>
                    <a:pt x="2087" y="647"/>
                    <a:pt x="2118" y="206"/>
                    <a:pt x="2144" y="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2" name=""/>
            <p:cNvSpPr/>
            <p:nvPr/>
          </p:nvSpPr>
          <p:spPr>
            <a:xfrm>
              <a:off x="884160" y="42084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3" name=""/>
            <p:cNvSpPr/>
            <p:nvPr/>
          </p:nvSpPr>
          <p:spPr>
            <a:xfrm>
              <a:off x="384120" y="14652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74" name=""/>
          <p:cNvSpPr/>
          <p:nvPr/>
        </p:nvSpPr>
        <p:spPr>
          <a:xfrm>
            <a:off x="374400" y="605484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75" name=""/>
          <p:cNvGrpSpPr/>
          <p:nvPr/>
        </p:nvGrpSpPr>
        <p:grpSpPr>
          <a:xfrm>
            <a:off x="0" y="1074600"/>
            <a:ext cx="9183240" cy="5095440"/>
            <a:chOff x="0" y="1074600"/>
            <a:chExt cx="9183240" cy="5095440"/>
          </a:xfrm>
        </p:grpSpPr>
        <p:sp>
          <p:nvSpPr>
            <p:cNvPr id="7076" name=""/>
            <p:cNvSpPr/>
            <p:nvPr/>
          </p:nvSpPr>
          <p:spPr>
            <a:xfrm>
              <a:off x="0" y="1871640"/>
              <a:ext cx="2889360" cy="3110040"/>
            </a:xfrm>
            <a:custGeom>
              <a:avLst/>
              <a:gdLst/>
              <a:ahLst/>
              <a:rect l="l" t="t" r="r" b="b"/>
              <a:pathLst>
                <a:path w="1782" h="1259">
                  <a:moveTo>
                    <a:pt x="1515" y="1259"/>
                  </a:moveTo>
                  <a:cubicBezTo>
                    <a:pt x="1520" y="1105"/>
                    <a:pt x="1570" y="495"/>
                    <a:pt x="1549" y="330"/>
                  </a:cubicBezTo>
                  <a:cubicBezTo>
                    <a:pt x="1528" y="165"/>
                    <a:pt x="1458" y="286"/>
                    <a:pt x="1391" y="269"/>
                  </a:cubicBezTo>
                  <a:cubicBezTo>
                    <a:pt x="1324" y="252"/>
                    <a:pt x="1193" y="181"/>
                    <a:pt x="1149" y="226"/>
                  </a:cubicBezTo>
                  <a:cubicBezTo>
                    <a:pt x="1105" y="271"/>
                    <a:pt x="1127" y="453"/>
                    <a:pt x="1125" y="537"/>
                  </a:cubicBezTo>
                  <a:cubicBezTo>
                    <a:pt x="1123" y="621"/>
                    <a:pt x="1142" y="681"/>
                    <a:pt x="1136" y="729"/>
                  </a:cubicBezTo>
                  <a:cubicBezTo>
                    <a:pt x="1130" y="777"/>
                    <a:pt x="1099" y="763"/>
                    <a:pt x="1091" y="828"/>
                  </a:cubicBezTo>
                  <a:cubicBezTo>
                    <a:pt x="1083" y="893"/>
                    <a:pt x="1103" y="1055"/>
                    <a:pt x="1088" y="1122"/>
                  </a:cubicBezTo>
                  <a:cubicBezTo>
                    <a:pt x="1073" y="1189"/>
                    <a:pt x="1040" y="1210"/>
                    <a:pt x="1000" y="1230"/>
                  </a:cubicBezTo>
                  <a:cubicBezTo>
                    <a:pt x="960" y="1250"/>
                    <a:pt x="886" y="1250"/>
                    <a:pt x="850" y="1240"/>
                  </a:cubicBezTo>
                  <a:cubicBezTo>
                    <a:pt x="814" y="1230"/>
                    <a:pt x="798" y="1205"/>
                    <a:pt x="781" y="1168"/>
                  </a:cubicBezTo>
                  <a:cubicBezTo>
                    <a:pt x="764" y="1131"/>
                    <a:pt x="753" y="1060"/>
                    <a:pt x="746" y="1017"/>
                  </a:cubicBezTo>
                  <a:cubicBezTo>
                    <a:pt x="739" y="974"/>
                    <a:pt x="738" y="959"/>
                    <a:pt x="737" y="909"/>
                  </a:cubicBezTo>
                  <a:cubicBezTo>
                    <a:pt x="736" y="859"/>
                    <a:pt x="736" y="764"/>
                    <a:pt x="737" y="718"/>
                  </a:cubicBezTo>
                  <a:cubicBezTo>
                    <a:pt x="738" y="672"/>
                    <a:pt x="748" y="661"/>
                    <a:pt x="742" y="630"/>
                  </a:cubicBezTo>
                  <a:cubicBezTo>
                    <a:pt x="736" y="599"/>
                    <a:pt x="706" y="582"/>
                    <a:pt x="699" y="533"/>
                  </a:cubicBezTo>
                  <a:cubicBezTo>
                    <a:pt x="692" y="484"/>
                    <a:pt x="702" y="384"/>
                    <a:pt x="700" y="335"/>
                  </a:cubicBezTo>
                  <a:cubicBezTo>
                    <a:pt x="698" y="286"/>
                    <a:pt x="699" y="257"/>
                    <a:pt x="686" y="241"/>
                  </a:cubicBezTo>
                  <a:cubicBezTo>
                    <a:pt x="673" y="225"/>
                    <a:pt x="645" y="233"/>
                    <a:pt x="623" y="237"/>
                  </a:cubicBezTo>
                  <a:cubicBezTo>
                    <a:pt x="601" y="241"/>
                    <a:pt x="582" y="266"/>
                    <a:pt x="556" y="265"/>
                  </a:cubicBezTo>
                  <a:cubicBezTo>
                    <a:pt x="530" y="264"/>
                    <a:pt x="502" y="227"/>
                    <a:pt x="469" y="229"/>
                  </a:cubicBezTo>
                  <a:cubicBezTo>
                    <a:pt x="436" y="231"/>
                    <a:pt x="386" y="265"/>
                    <a:pt x="356" y="277"/>
                  </a:cubicBezTo>
                  <a:cubicBezTo>
                    <a:pt x="326" y="289"/>
                    <a:pt x="316" y="281"/>
                    <a:pt x="292" y="299"/>
                  </a:cubicBezTo>
                  <a:cubicBezTo>
                    <a:pt x="268" y="317"/>
                    <a:pt x="248" y="382"/>
                    <a:pt x="209" y="387"/>
                  </a:cubicBezTo>
                  <a:cubicBezTo>
                    <a:pt x="170" y="392"/>
                    <a:pt x="93" y="368"/>
                    <a:pt x="59" y="330"/>
                  </a:cubicBezTo>
                  <a:cubicBezTo>
                    <a:pt x="25" y="292"/>
                    <a:pt x="0" y="204"/>
                    <a:pt x="7" y="159"/>
                  </a:cubicBezTo>
                  <a:cubicBezTo>
                    <a:pt x="14" y="114"/>
                    <a:pt x="66" y="77"/>
                    <a:pt x="100" y="61"/>
                  </a:cubicBezTo>
                  <a:cubicBezTo>
                    <a:pt x="134" y="45"/>
                    <a:pt x="179" y="49"/>
                    <a:pt x="214" y="61"/>
                  </a:cubicBezTo>
                  <a:cubicBezTo>
                    <a:pt x="249" y="73"/>
                    <a:pt x="273" y="126"/>
                    <a:pt x="307" y="134"/>
                  </a:cubicBezTo>
                  <a:cubicBezTo>
                    <a:pt x="341" y="142"/>
                    <a:pt x="392" y="116"/>
                    <a:pt x="419" y="108"/>
                  </a:cubicBezTo>
                  <a:cubicBezTo>
                    <a:pt x="446" y="100"/>
                    <a:pt x="453" y="89"/>
                    <a:pt x="468" y="86"/>
                  </a:cubicBezTo>
                  <a:cubicBezTo>
                    <a:pt x="483" y="83"/>
                    <a:pt x="496" y="86"/>
                    <a:pt x="512" y="92"/>
                  </a:cubicBezTo>
                  <a:cubicBezTo>
                    <a:pt x="528" y="98"/>
                    <a:pt x="545" y="119"/>
                    <a:pt x="562" y="123"/>
                  </a:cubicBezTo>
                  <a:cubicBezTo>
                    <a:pt x="579" y="127"/>
                    <a:pt x="588" y="122"/>
                    <a:pt x="614" y="115"/>
                  </a:cubicBezTo>
                  <a:cubicBezTo>
                    <a:pt x="640" y="108"/>
                    <a:pt x="686" y="85"/>
                    <a:pt x="716" y="82"/>
                  </a:cubicBezTo>
                  <a:cubicBezTo>
                    <a:pt x="746" y="79"/>
                    <a:pt x="773" y="84"/>
                    <a:pt x="792" y="95"/>
                  </a:cubicBezTo>
                  <a:cubicBezTo>
                    <a:pt x="811" y="106"/>
                    <a:pt x="822" y="124"/>
                    <a:pt x="830" y="150"/>
                  </a:cubicBezTo>
                  <a:cubicBezTo>
                    <a:pt x="838" y="176"/>
                    <a:pt x="838" y="201"/>
                    <a:pt x="840" y="253"/>
                  </a:cubicBezTo>
                  <a:cubicBezTo>
                    <a:pt x="842" y="305"/>
                    <a:pt x="845" y="416"/>
                    <a:pt x="845" y="463"/>
                  </a:cubicBezTo>
                  <a:cubicBezTo>
                    <a:pt x="845" y="510"/>
                    <a:pt x="848" y="508"/>
                    <a:pt x="842" y="537"/>
                  </a:cubicBezTo>
                  <a:cubicBezTo>
                    <a:pt x="836" y="566"/>
                    <a:pt x="812" y="605"/>
                    <a:pt x="806" y="639"/>
                  </a:cubicBezTo>
                  <a:cubicBezTo>
                    <a:pt x="800" y="673"/>
                    <a:pt x="804" y="693"/>
                    <a:pt x="804" y="744"/>
                  </a:cubicBezTo>
                  <a:cubicBezTo>
                    <a:pt x="804" y="795"/>
                    <a:pt x="805" y="900"/>
                    <a:pt x="806" y="948"/>
                  </a:cubicBezTo>
                  <a:cubicBezTo>
                    <a:pt x="807" y="996"/>
                    <a:pt x="801" y="994"/>
                    <a:pt x="809" y="1034"/>
                  </a:cubicBezTo>
                  <a:cubicBezTo>
                    <a:pt x="817" y="1074"/>
                    <a:pt x="825" y="1163"/>
                    <a:pt x="857" y="1186"/>
                  </a:cubicBezTo>
                  <a:cubicBezTo>
                    <a:pt x="889" y="1209"/>
                    <a:pt x="970" y="1193"/>
                    <a:pt x="1001" y="1174"/>
                  </a:cubicBezTo>
                  <a:cubicBezTo>
                    <a:pt x="1032" y="1155"/>
                    <a:pt x="1036" y="1126"/>
                    <a:pt x="1042" y="1070"/>
                  </a:cubicBezTo>
                  <a:cubicBezTo>
                    <a:pt x="1048" y="1014"/>
                    <a:pt x="1048" y="890"/>
                    <a:pt x="1036" y="837"/>
                  </a:cubicBezTo>
                  <a:cubicBezTo>
                    <a:pt x="1024" y="784"/>
                    <a:pt x="981" y="808"/>
                    <a:pt x="967" y="750"/>
                  </a:cubicBezTo>
                  <a:cubicBezTo>
                    <a:pt x="953" y="692"/>
                    <a:pt x="954" y="582"/>
                    <a:pt x="954" y="490"/>
                  </a:cubicBezTo>
                  <a:cubicBezTo>
                    <a:pt x="954" y="398"/>
                    <a:pt x="955" y="267"/>
                    <a:pt x="965" y="195"/>
                  </a:cubicBezTo>
                  <a:cubicBezTo>
                    <a:pt x="975" y="123"/>
                    <a:pt x="977" y="82"/>
                    <a:pt x="1017" y="56"/>
                  </a:cubicBezTo>
                  <a:cubicBezTo>
                    <a:pt x="1057" y="30"/>
                    <a:pt x="1149" y="35"/>
                    <a:pt x="1208" y="41"/>
                  </a:cubicBezTo>
                  <a:cubicBezTo>
                    <a:pt x="1267" y="47"/>
                    <a:pt x="1327" y="81"/>
                    <a:pt x="1370" y="90"/>
                  </a:cubicBezTo>
                  <a:cubicBezTo>
                    <a:pt x="1413" y="99"/>
                    <a:pt x="1427" y="105"/>
                    <a:pt x="1467" y="96"/>
                  </a:cubicBezTo>
                  <a:cubicBezTo>
                    <a:pt x="1507" y="87"/>
                    <a:pt x="1551" y="19"/>
                    <a:pt x="1611" y="33"/>
                  </a:cubicBezTo>
                  <a:cubicBezTo>
                    <a:pt x="1671" y="47"/>
                    <a:pt x="1675" y="0"/>
                    <a:pt x="1704" y="204"/>
                  </a:cubicBezTo>
                  <a:cubicBezTo>
                    <a:pt x="1733" y="408"/>
                    <a:pt x="1766" y="1039"/>
                    <a:pt x="1782" y="1259"/>
                  </a:cubicBezTo>
                </a:path>
              </a:pathLst>
            </a:custGeom>
            <a:solidFill>
              <a:srgbClr val="ffff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7" name=""/>
            <p:cNvSpPr/>
            <p:nvPr/>
          </p:nvSpPr>
          <p:spPr>
            <a:xfrm rot="1502400">
              <a:off x="955440" y="1563840"/>
              <a:ext cx="261720" cy="714240"/>
            </a:xfrm>
            <a:prstGeom prst="upArrow">
              <a:avLst>
                <a:gd name="adj1" fmla="val 50000"/>
                <a:gd name="adj2" fmla="val 68226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8" name=""/>
            <p:cNvSpPr/>
            <p:nvPr/>
          </p:nvSpPr>
          <p:spPr>
            <a:xfrm rot="12305400">
              <a:off x="1022040" y="3638160"/>
              <a:ext cx="226800" cy="774720"/>
            </a:xfrm>
            <a:prstGeom prst="upArrow">
              <a:avLst>
                <a:gd name="adj1" fmla="val 50000"/>
                <a:gd name="adj2" fmla="val 8539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9" name=""/>
            <p:cNvSpPr/>
            <p:nvPr/>
          </p:nvSpPr>
          <p:spPr>
            <a:xfrm rot="1502400">
              <a:off x="2568240" y="1460160"/>
              <a:ext cx="76320" cy="654120"/>
            </a:xfrm>
            <a:prstGeom prst="upArrow">
              <a:avLst>
                <a:gd name="adj1" fmla="val 50000"/>
                <a:gd name="adj2" fmla="val 214269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0" name=""/>
            <p:cNvSpPr/>
            <p:nvPr/>
          </p:nvSpPr>
          <p:spPr>
            <a:xfrm rot="10754400">
              <a:off x="2592360" y="4226040"/>
              <a:ext cx="122400" cy="1085760"/>
            </a:xfrm>
            <a:prstGeom prst="upArrow">
              <a:avLst>
                <a:gd name="adj1" fmla="val 50000"/>
                <a:gd name="adj2" fmla="val 221765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1" name=""/>
            <p:cNvSpPr/>
            <p:nvPr/>
          </p:nvSpPr>
          <p:spPr>
            <a:xfrm>
              <a:off x="1006920" y="1189080"/>
              <a:ext cx="538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400" spc="-1" strike="noStrike">
                  <a:solidFill>
                    <a:srgbClr val="000000"/>
                  </a:solidFill>
                  <a:latin typeface="Times New Roman"/>
                </a:rPr>
                <a:t>45%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2" name=""/>
            <p:cNvSpPr/>
            <p:nvPr/>
          </p:nvSpPr>
          <p:spPr>
            <a:xfrm>
              <a:off x="714600" y="4282920"/>
              <a:ext cx="538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400" spc="-1" strike="noStrike">
                  <a:solidFill>
                    <a:srgbClr val="000000"/>
                  </a:solidFill>
                  <a:latin typeface="Times New Roman"/>
                </a:rPr>
                <a:t>40%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3" name=""/>
            <p:cNvSpPr/>
            <p:nvPr/>
          </p:nvSpPr>
          <p:spPr>
            <a:xfrm>
              <a:off x="2601000" y="1074600"/>
              <a:ext cx="448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400" spc="-1" strike="noStrike">
                  <a:solidFill>
                    <a:srgbClr val="000000"/>
                  </a:solidFill>
                  <a:latin typeface="Times New Roman"/>
                </a:rPr>
                <a:t>5%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4" name=""/>
            <p:cNvSpPr/>
            <p:nvPr/>
          </p:nvSpPr>
          <p:spPr>
            <a:xfrm>
              <a:off x="1131120" y="5619600"/>
              <a:ext cx="1658880" cy="5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00000"/>
                  </a:solidFill>
                  <a:latin typeface="Times New Roman"/>
                </a:rPr>
                <a:t>diuréz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400" spc="-1" strike="noStrike">
                  <a:solidFill>
                    <a:srgbClr val="000000"/>
                  </a:solidFill>
                  <a:latin typeface="Times New Roman"/>
                </a:rPr>
                <a:t>nízká hladina AD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5" name=""/>
            <p:cNvSpPr/>
            <p:nvPr/>
          </p:nvSpPr>
          <p:spPr>
            <a:xfrm>
              <a:off x="2441880" y="5189400"/>
              <a:ext cx="538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400" spc="-1" strike="noStrike">
                  <a:solidFill>
                    <a:srgbClr val="000000"/>
                  </a:solidFill>
                  <a:latin typeface="Times New Roman"/>
                </a:rPr>
                <a:t>10%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6" name=""/>
            <p:cNvSpPr/>
            <p:nvPr/>
          </p:nvSpPr>
          <p:spPr>
            <a:xfrm>
              <a:off x="2429280" y="3470400"/>
              <a:ext cx="4626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2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1" lang="cs-CZ" sz="1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cs-CZ" sz="12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7" name=""/>
            <p:cNvSpPr/>
            <p:nvPr/>
          </p:nvSpPr>
          <p:spPr>
            <a:xfrm>
              <a:off x="2203920" y="2065320"/>
              <a:ext cx="4626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2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1" lang="cs-CZ" sz="1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cs-CZ" sz="12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8" name=""/>
            <p:cNvSpPr/>
            <p:nvPr/>
          </p:nvSpPr>
          <p:spPr>
            <a:xfrm>
              <a:off x="173520" y="2166840"/>
              <a:ext cx="4626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2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1" lang="cs-CZ" sz="1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cs-CZ" sz="12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9" name=""/>
            <p:cNvSpPr/>
            <p:nvPr/>
          </p:nvSpPr>
          <p:spPr>
            <a:xfrm>
              <a:off x="665280" y="2316240"/>
              <a:ext cx="266760" cy="12600"/>
            </a:xfrm>
            <a:custGeom>
              <a:avLst/>
              <a:gdLst/>
              <a:ahLst/>
              <a:rect l="l" t="t" r="r" b="b"/>
              <a:pathLst>
                <a:path w="165" h="5">
                  <a:moveTo>
                    <a:pt x="0" y="5"/>
                  </a:moveTo>
                  <a:lnTo>
                    <a:pt x="165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0" name=""/>
            <p:cNvSpPr/>
            <p:nvPr/>
          </p:nvSpPr>
          <p:spPr>
            <a:xfrm>
              <a:off x="2587680" y="2444760"/>
              <a:ext cx="74520" cy="1033560"/>
            </a:xfrm>
            <a:custGeom>
              <a:avLst/>
              <a:gdLst/>
              <a:ahLst/>
              <a:rect l="l" t="t" r="r" b="b"/>
              <a:pathLst>
                <a:path w="46" h="418">
                  <a:moveTo>
                    <a:pt x="0" y="0"/>
                  </a:moveTo>
                  <a:cubicBezTo>
                    <a:pt x="6" y="14"/>
                    <a:pt x="32" y="12"/>
                    <a:pt x="39" y="82"/>
                  </a:cubicBezTo>
                  <a:cubicBezTo>
                    <a:pt x="46" y="152"/>
                    <a:pt x="39" y="348"/>
                    <a:pt x="39" y="418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1" name=""/>
            <p:cNvSpPr/>
            <p:nvPr/>
          </p:nvSpPr>
          <p:spPr>
            <a:xfrm flipH="1" flipV="1" rot="18901800">
              <a:off x="2610720" y="3919680"/>
              <a:ext cx="168120" cy="353880"/>
            </a:xfrm>
            <a:prstGeom prst="uturnArrow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2" name=""/>
            <p:cNvSpPr/>
            <p:nvPr/>
          </p:nvSpPr>
          <p:spPr>
            <a:xfrm>
              <a:off x="5213520" y="1987560"/>
              <a:ext cx="2904840" cy="3103560"/>
            </a:xfrm>
            <a:custGeom>
              <a:avLst/>
              <a:gdLst/>
              <a:ahLst/>
              <a:rect l="l" t="t" r="r" b="b"/>
              <a:pathLst>
                <a:path w="1782" h="1259">
                  <a:moveTo>
                    <a:pt x="1515" y="1259"/>
                  </a:moveTo>
                  <a:cubicBezTo>
                    <a:pt x="1520" y="1105"/>
                    <a:pt x="1570" y="495"/>
                    <a:pt x="1549" y="330"/>
                  </a:cubicBezTo>
                  <a:cubicBezTo>
                    <a:pt x="1528" y="165"/>
                    <a:pt x="1458" y="286"/>
                    <a:pt x="1391" y="269"/>
                  </a:cubicBezTo>
                  <a:cubicBezTo>
                    <a:pt x="1324" y="252"/>
                    <a:pt x="1193" y="181"/>
                    <a:pt x="1149" y="226"/>
                  </a:cubicBezTo>
                  <a:cubicBezTo>
                    <a:pt x="1105" y="271"/>
                    <a:pt x="1127" y="453"/>
                    <a:pt x="1125" y="537"/>
                  </a:cubicBezTo>
                  <a:cubicBezTo>
                    <a:pt x="1123" y="621"/>
                    <a:pt x="1142" y="681"/>
                    <a:pt x="1136" y="729"/>
                  </a:cubicBezTo>
                  <a:cubicBezTo>
                    <a:pt x="1130" y="777"/>
                    <a:pt x="1099" y="763"/>
                    <a:pt x="1091" y="828"/>
                  </a:cubicBezTo>
                  <a:cubicBezTo>
                    <a:pt x="1083" y="893"/>
                    <a:pt x="1103" y="1055"/>
                    <a:pt x="1088" y="1122"/>
                  </a:cubicBezTo>
                  <a:cubicBezTo>
                    <a:pt x="1073" y="1189"/>
                    <a:pt x="1040" y="1210"/>
                    <a:pt x="1000" y="1230"/>
                  </a:cubicBezTo>
                  <a:cubicBezTo>
                    <a:pt x="960" y="1250"/>
                    <a:pt x="886" y="1250"/>
                    <a:pt x="850" y="1240"/>
                  </a:cubicBezTo>
                  <a:cubicBezTo>
                    <a:pt x="814" y="1230"/>
                    <a:pt x="798" y="1205"/>
                    <a:pt x="781" y="1168"/>
                  </a:cubicBezTo>
                  <a:cubicBezTo>
                    <a:pt x="764" y="1131"/>
                    <a:pt x="753" y="1060"/>
                    <a:pt x="746" y="1017"/>
                  </a:cubicBezTo>
                  <a:cubicBezTo>
                    <a:pt x="739" y="974"/>
                    <a:pt x="738" y="959"/>
                    <a:pt x="737" y="909"/>
                  </a:cubicBezTo>
                  <a:cubicBezTo>
                    <a:pt x="736" y="859"/>
                    <a:pt x="736" y="764"/>
                    <a:pt x="737" y="718"/>
                  </a:cubicBezTo>
                  <a:cubicBezTo>
                    <a:pt x="738" y="672"/>
                    <a:pt x="748" y="661"/>
                    <a:pt x="742" y="630"/>
                  </a:cubicBezTo>
                  <a:cubicBezTo>
                    <a:pt x="736" y="599"/>
                    <a:pt x="706" y="582"/>
                    <a:pt x="699" y="533"/>
                  </a:cubicBezTo>
                  <a:cubicBezTo>
                    <a:pt x="692" y="484"/>
                    <a:pt x="702" y="384"/>
                    <a:pt x="700" y="335"/>
                  </a:cubicBezTo>
                  <a:cubicBezTo>
                    <a:pt x="698" y="286"/>
                    <a:pt x="699" y="257"/>
                    <a:pt x="686" y="241"/>
                  </a:cubicBezTo>
                  <a:cubicBezTo>
                    <a:pt x="673" y="225"/>
                    <a:pt x="645" y="233"/>
                    <a:pt x="623" y="237"/>
                  </a:cubicBezTo>
                  <a:cubicBezTo>
                    <a:pt x="601" y="241"/>
                    <a:pt x="582" y="266"/>
                    <a:pt x="556" y="265"/>
                  </a:cubicBezTo>
                  <a:cubicBezTo>
                    <a:pt x="530" y="264"/>
                    <a:pt x="502" y="227"/>
                    <a:pt x="469" y="229"/>
                  </a:cubicBezTo>
                  <a:cubicBezTo>
                    <a:pt x="436" y="231"/>
                    <a:pt x="386" y="265"/>
                    <a:pt x="356" y="277"/>
                  </a:cubicBezTo>
                  <a:cubicBezTo>
                    <a:pt x="326" y="289"/>
                    <a:pt x="316" y="281"/>
                    <a:pt x="292" y="299"/>
                  </a:cubicBezTo>
                  <a:cubicBezTo>
                    <a:pt x="268" y="317"/>
                    <a:pt x="248" y="382"/>
                    <a:pt x="209" y="387"/>
                  </a:cubicBezTo>
                  <a:cubicBezTo>
                    <a:pt x="170" y="392"/>
                    <a:pt x="93" y="368"/>
                    <a:pt x="59" y="330"/>
                  </a:cubicBezTo>
                  <a:cubicBezTo>
                    <a:pt x="25" y="292"/>
                    <a:pt x="0" y="204"/>
                    <a:pt x="7" y="159"/>
                  </a:cubicBezTo>
                  <a:cubicBezTo>
                    <a:pt x="14" y="114"/>
                    <a:pt x="66" y="77"/>
                    <a:pt x="100" y="61"/>
                  </a:cubicBezTo>
                  <a:cubicBezTo>
                    <a:pt x="134" y="45"/>
                    <a:pt x="179" y="49"/>
                    <a:pt x="214" y="61"/>
                  </a:cubicBezTo>
                  <a:cubicBezTo>
                    <a:pt x="249" y="73"/>
                    <a:pt x="273" y="126"/>
                    <a:pt x="307" y="134"/>
                  </a:cubicBezTo>
                  <a:cubicBezTo>
                    <a:pt x="341" y="142"/>
                    <a:pt x="392" y="116"/>
                    <a:pt x="419" y="108"/>
                  </a:cubicBezTo>
                  <a:cubicBezTo>
                    <a:pt x="446" y="100"/>
                    <a:pt x="453" y="89"/>
                    <a:pt x="468" y="86"/>
                  </a:cubicBezTo>
                  <a:cubicBezTo>
                    <a:pt x="483" y="83"/>
                    <a:pt x="496" y="86"/>
                    <a:pt x="512" y="92"/>
                  </a:cubicBezTo>
                  <a:cubicBezTo>
                    <a:pt x="528" y="98"/>
                    <a:pt x="545" y="119"/>
                    <a:pt x="562" y="123"/>
                  </a:cubicBezTo>
                  <a:cubicBezTo>
                    <a:pt x="579" y="127"/>
                    <a:pt x="588" y="122"/>
                    <a:pt x="614" y="115"/>
                  </a:cubicBezTo>
                  <a:cubicBezTo>
                    <a:pt x="640" y="108"/>
                    <a:pt x="686" y="85"/>
                    <a:pt x="716" y="82"/>
                  </a:cubicBezTo>
                  <a:cubicBezTo>
                    <a:pt x="746" y="79"/>
                    <a:pt x="773" y="84"/>
                    <a:pt x="792" y="95"/>
                  </a:cubicBezTo>
                  <a:cubicBezTo>
                    <a:pt x="811" y="106"/>
                    <a:pt x="822" y="124"/>
                    <a:pt x="830" y="150"/>
                  </a:cubicBezTo>
                  <a:cubicBezTo>
                    <a:pt x="838" y="176"/>
                    <a:pt x="838" y="201"/>
                    <a:pt x="840" y="253"/>
                  </a:cubicBezTo>
                  <a:cubicBezTo>
                    <a:pt x="842" y="305"/>
                    <a:pt x="845" y="416"/>
                    <a:pt x="845" y="463"/>
                  </a:cubicBezTo>
                  <a:cubicBezTo>
                    <a:pt x="845" y="510"/>
                    <a:pt x="848" y="508"/>
                    <a:pt x="842" y="537"/>
                  </a:cubicBezTo>
                  <a:cubicBezTo>
                    <a:pt x="836" y="566"/>
                    <a:pt x="812" y="605"/>
                    <a:pt x="806" y="639"/>
                  </a:cubicBezTo>
                  <a:cubicBezTo>
                    <a:pt x="800" y="673"/>
                    <a:pt x="804" y="693"/>
                    <a:pt x="804" y="744"/>
                  </a:cubicBezTo>
                  <a:cubicBezTo>
                    <a:pt x="804" y="795"/>
                    <a:pt x="805" y="900"/>
                    <a:pt x="806" y="948"/>
                  </a:cubicBezTo>
                  <a:cubicBezTo>
                    <a:pt x="807" y="996"/>
                    <a:pt x="801" y="994"/>
                    <a:pt x="809" y="1034"/>
                  </a:cubicBezTo>
                  <a:cubicBezTo>
                    <a:pt x="817" y="1074"/>
                    <a:pt x="825" y="1163"/>
                    <a:pt x="857" y="1186"/>
                  </a:cubicBezTo>
                  <a:cubicBezTo>
                    <a:pt x="889" y="1209"/>
                    <a:pt x="970" y="1193"/>
                    <a:pt x="1001" y="1174"/>
                  </a:cubicBezTo>
                  <a:cubicBezTo>
                    <a:pt x="1032" y="1155"/>
                    <a:pt x="1036" y="1126"/>
                    <a:pt x="1042" y="1070"/>
                  </a:cubicBezTo>
                  <a:cubicBezTo>
                    <a:pt x="1048" y="1014"/>
                    <a:pt x="1048" y="890"/>
                    <a:pt x="1036" y="837"/>
                  </a:cubicBezTo>
                  <a:cubicBezTo>
                    <a:pt x="1024" y="784"/>
                    <a:pt x="981" y="808"/>
                    <a:pt x="967" y="750"/>
                  </a:cubicBezTo>
                  <a:cubicBezTo>
                    <a:pt x="953" y="692"/>
                    <a:pt x="954" y="582"/>
                    <a:pt x="954" y="490"/>
                  </a:cubicBezTo>
                  <a:cubicBezTo>
                    <a:pt x="954" y="398"/>
                    <a:pt x="955" y="267"/>
                    <a:pt x="965" y="195"/>
                  </a:cubicBezTo>
                  <a:cubicBezTo>
                    <a:pt x="975" y="123"/>
                    <a:pt x="977" y="82"/>
                    <a:pt x="1017" y="56"/>
                  </a:cubicBezTo>
                  <a:cubicBezTo>
                    <a:pt x="1057" y="30"/>
                    <a:pt x="1149" y="35"/>
                    <a:pt x="1208" y="41"/>
                  </a:cubicBezTo>
                  <a:cubicBezTo>
                    <a:pt x="1267" y="47"/>
                    <a:pt x="1327" y="81"/>
                    <a:pt x="1370" y="90"/>
                  </a:cubicBezTo>
                  <a:cubicBezTo>
                    <a:pt x="1413" y="99"/>
                    <a:pt x="1427" y="105"/>
                    <a:pt x="1467" y="96"/>
                  </a:cubicBezTo>
                  <a:cubicBezTo>
                    <a:pt x="1507" y="87"/>
                    <a:pt x="1551" y="19"/>
                    <a:pt x="1611" y="33"/>
                  </a:cubicBezTo>
                  <a:cubicBezTo>
                    <a:pt x="1671" y="47"/>
                    <a:pt x="1675" y="0"/>
                    <a:pt x="1704" y="204"/>
                  </a:cubicBezTo>
                  <a:cubicBezTo>
                    <a:pt x="1733" y="408"/>
                    <a:pt x="1766" y="1039"/>
                    <a:pt x="1782" y="1259"/>
                  </a:cubicBezTo>
                </a:path>
              </a:pathLst>
            </a:custGeom>
            <a:solidFill>
              <a:srgbClr val="ffff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3" name=""/>
            <p:cNvSpPr/>
            <p:nvPr/>
          </p:nvSpPr>
          <p:spPr>
            <a:xfrm rot="1502400">
              <a:off x="6173640" y="1679400"/>
              <a:ext cx="263520" cy="711360"/>
            </a:xfrm>
            <a:prstGeom prst="upArrow">
              <a:avLst>
                <a:gd name="adj1" fmla="val 50000"/>
                <a:gd name="adj2" fmla="val 67486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4" name=""/>
            <p:cNvSpPr/>
            <p:nvPr/>
          </p:nvSpPr>
          <p:spPr>
            <a:xfrm rot="12305400">
              <a:off x="6240240" y="3749400"/>
              <a:ext cx="228600" cy="774720"/>
            </a:xfrm>
            <a:prstGeom prst="upArrow">
              <a:avLst>
                <a:gd name="adj1" fmla="val 50000"/>
                <a:gd name="adj2" fmla="val 84724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5" name=""/>
            <p:cNvSpPr/>
            <p:nvPr/>
          </p:nvSpPr>
          <p:spPr>
            <a:xfrm rot="1502400">
              <a:off x="7794360" y="1574640"/>
              <a:ext cx="77760" cy="654120"/>
            </a:xfrm>
            <a:prstGeom prst="upArrow">
              <a:avLst>
                <a:gd name="adj1" fmla="val 50000"/>
                <a:gd name="adj2" fmla="val 210301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6" name=""/>
            <p:cNvSpPr/>
            <p:nvPr/>
          </p:nvSpPr>
          <p:spPr>
            <a:xfrm rot="6544200">
              <a:off x="8059320" y="4041360"/>
              <a:ext cx="160560" cy="493920"/>
            </a:xfrm>
            <a:prstGeom prst="upArrow">
              <a:avLst>
                <a:gd name="adj1" fmla="val 50000"/>
                <a:gd name="adj2" fmla="val 76906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7" name=""/>
            <p:cNvSpPr/>
            <p:nvPr/>
          </p:nvSpPr>
          <p:spPr>
            <a:xfrm flipH="1">
              <a:off x="7902720" y="4211640"/>
              <a:ext cx="2880" cy="107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8" name=""/>
            <p:cNvSpPr/>
            <p:nvPr/>
          </p:nvSpPr>
          <p:spPr>
            <a:xfrm>
              <a:off x="6226560" y="1303200"/>
              <a:ext cx="538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400" spc="-1" strike="noStrike">
                  <a:solidFill>
                    <a:srgbClr val="000000"/>
                  </a:solidFill>
                  <a:latin typeface="Times New Roman"/>
                </a:rPr>
                <a:t>45%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9" name=""/>
            <p:cNvSpPr/>
            <p:nvPr/>
          </p:nvSpPr>
          <p:spPr>
            <a:xfrm>
              <a:off x="5931360" y="4387680"/>
              <a:ext cx="538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400" spc="-1" strike="noStrike">
                  <a:solidFill>
                    <a:srgbClr val="000000"/>
                  </a:solidFill>
                  <a:latin typeface="Times New Roman"/>
                </a:rPr>
                <a:t>40%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0" name=""/>
            <p:cNvSpPr/>
            <p:nvPr/>
          </p:nvSpPr>
          <p:spPr>
            <a:xfrm>
              <a:off x="7830360" y="1190520"/>
              <a:ext cx="448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400" spc="-1" strike="noStrike">
                  <a:solidFill>
                    <a:srgbClr val="000000"/>
                  </a:solidFill>
                  <a:latin typeface="Times New Roman"/>
                </a:rPr>
                <a:t>5%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1" name=""/>
            <p:cNvSpPr/>
            <p:nvPr/>
          </p:nvSpPr>
          <p:spPr>
            <a:xfrm>
              <a:off x="8333280" y="4124160"/>
              <a:ext cx="58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400" spc="-1" strike="noStrike">
                  <a:solidFill>
                    <a:srgbClr val="000000"/>
                  </a:solidFill>
                  <a:latin typeface="Times New Roman"/>
                </a:rPr>
                <a:t>9,5%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2" name=""/>
            <p:cNvSpPr/>
            <p:nvPr/>
          </p:nvSpPr>
          <p:spPr>
            <a:xfrm>
              <a:off x="7668000" y="5297400"/>
              <a:ext cx="58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400" spc="-1" strike="noStrike">
                  <a:solidFill>
                    <a:srgbClr val="000000"/>
                  </a:solidFill>
                  <a:latin typeface="Times New Roman"/>
                </a:rPr>
                <a:t>0,5%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3" name=""/>
            <p:cNvSpPr/>
            <p:nvPr/>
          </p:nvSpPr>
          <p:spPr>
            <a:xfrm>
              <a:off x="7655400" y="3581280"/>
              <a:ext cx="4626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2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1" lang="cs-CZ" sz="1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cs-CZ" sz="12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4" name=""/>
            <p:cNvSpPr/>
            <p:nvPr/>
          </p:nvSpPr>
          <p:spPr>
            <a:xfrm>
              <a:off x="7428240" y="2179800"/>
              <a:ext cx="4626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2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1" lang="cs-CZ" sz="1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cs-CZ" sz="12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5" name=""/>
            <p:cNvSpPr/>
            <p:nvPr/>
          </p:nvSpPr>
          <p:spPr>
            <a:xfrm>
              <a:off x="5388120" y="2279520"/>
              <a:ext cx="4626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2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1" lang="cs-CZ" sz="1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cs-CZ" sz="12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6" name=""/>
            <p:cNvSpPr/>
            <p:nvPr/>
          </p:nvSpPr>
          <p:spPr>
            <a:xfrm>
              <a:off x="5881680" y="2430360"/>
              <a:ext cx="268200" cy="12960"/>
            </a:xfrm>
            <a:custGeom>
              <a:avLst/>
              <a:gdLst/>
              <a:ahLst/>
              <a:rect l="l" t="t" r="r" b="b"/>
              <a:pathLst>
                <a:path w="165" h="5">
                  <a:moveTo>
                    <a:pt x="0" y="5"/>
                  </a:moveTo>
                  <a:lnTo>
                    <a:pt x="165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7" name=""/>
            <p:cNvSpPr/>
            <p:nvPr/>
          </p:nvSpPr>
          <p:spPr>
            <a:xfrm>
              <a:off x="7815240" y="2558880"/>
              <a:ext cx="74520" cy="1030320"/>
            </a:xfrm>
            <a:custGeom>
              <a:avLst/>
              <a:gdLst/>
              <a:ahLst/>
              <a:rect l="l" t="t" r="r" b="b"/>
              <a:pathLst>
                <a:path w="46" h="418">
                  <a:moveTo>
                    <a:pt x="0" y="0"/>
                  </a:moveTo>
                  <a:cubicBezTo>
                    <a:pt x="6" y="14"/>
                    <a:pt x="32" y="12"/>
                    <a:pt x="39" y="82"/>
                  </a:cubicBezTo>
                  <a:cubicBezTo>
                    <a:pt x="46" y="152"/>
                    <a:pt x="39" y="348"/>
                    <a:pt x="39" y="418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8" name=""/>
            <p:cNvSpPr/>
            <p:nvPr/>
          </p:nvSpPr>
          <p:spPr>
            <a:xfrm>
              <a:off x="6059520" y="5575320"/>
              <a:ext cx="1770120" cy="5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00000"/>
                  </a:solidFill>
                  <a:latin typeface="Times New Roman"/>
                </a:rPr>
                <a:t>antidiuréz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400" spc="-1" strike="noStrike">
                  <a:solidFill>
                    <a:srgbClr val="000000"/>
                  </a:solidFill>
                  <a:latin typeface="Times New Roman"/>
                </a:rPr>
                <a:t>vysoká hladina AD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9" name=""/>
            <p:cNvSpPr/>
            <p:nvPr/>
          </p:nvSpPr>
          <p:spPr>
            <a:xfrm rot="1203000">
              <a:off x="3049200" y="3682800"/>
              <a:ext cx="462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000" spc="-1" strike="noStrike">
                  <a:solidFill>
                    <a:srgbClr val="000000"/>
                  </a:solidFill>
                  <a:latin typeface="Times New Roman"/>
                </a:rPr>
                <a:t>ADH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0" name=""/>
            <p:cNvSpPr/>
            <p:nvPr/>
          </p:nvSpPr>
          <p:spPr>
            <a:xfrm rot="1554600">
              <a:off x="8510760" y="3286080"/>
              <a:ext cx="63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00000"/>
                  </a:solidFill>
                  <a:latin typeface="Times New Roman"/>
                </a:rPr>
                <a:t>AD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1" name=""/>
            <p:cNvSpPr/>
            <p:nvPr/>
          </p:nvSpPr>
          <p:spPr>
            <a:xfrm flipH="1" rot="267600">
              <a:off x="8064360" y="3487680"/>
              <a:ext cx="862200" cy="703440"/>
            </a:xfrm>
            <a:prstGeom prst="lightningBol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2" name=""/>
            <p:cNvSpPr/>
            <p:nvPr/>
          </p:nvSpPr>
          <p:spPr>
            <a:xfrm flipH="1" rot="21595200">
              <a:off x="2919240" y="3850920"/>
              <a:ext cx="406440" cy="266760"/>
            </a:xfrm>
            <a:prstGeom prst="lightningBol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" name=""/>
          <p:cNvGrpSpPr/>
          <p:nvPr/>
        </p:nvGrpSpPr>
        <p:grpSpPr>
          <a:xfrm>
            <a:off x="69840" y="114480"/>
            <a:ext cx="9433080" cy="6742080"/>
            <a:chOff x="69840" y="114480"/>
            <a:chExt cx="9433080" cy="6742080"/>
          </a:xfrm>
        </p:grpSpPr>
        <p:grpSp>
          <p:nvGrpSpPr>
            <p:cNvPr id="73" name=""/>
            <p:cNvGrpSpPr/>
            <p:nvPr/>
          </p:nvGrpSpPr>
          <p:grpSpPr>
            <a:xfrm>
              <a:off x="3946680" y="1843200"/>
              <a:ext cx="3287520" cy="880920"/>
              <a:chOff x="3946680" y="1843200"/>
              <a:chExt cx="3287520" cy="880920"/>
            </a:xfrm>
          </p:grpSpPr>
          <p:sp>
            <p:nvSpPr>
              <p:cNvPr id="74" name=""/>
              <p:cNvSpPr/>
              <p:nvPr/>
            </p:nvSpPr>
            <p:spPr>
              <a:xfrm>
                <a:off x="3946680" y="1843200"/>
                <a:ext cx="152280" cy="880920"/>
              </a:xfrm>
              <a:custGeom>
                <a:avLst/>
                <a:gdLst/>
                <a:ahLst/>
                <a:rect l="l" t="t" r="r" b="b"/>
                <a:pathLst>
                  <a:path w="96" h="555">
                    <a:moveTo>
                      <a:pt x="96" y="12"/>
                    </a:moveTo>
                    <a:lnTo>
                      <a:pt x="96" y="0"/>
                    </a:lnTo>
                    <a:lnTo>
                      <a:pt x="87" y="1"/>
                    </a:lnTo>
                    <a:lnTo>
                      <a:pt x="85" y="1"/>
                    </a:lnTo>
                    <a:lnTo>
                      <a:pt x="76" y="4"/>
                    </a:lnTo>
                    <a:lnTo>
                      <a:pt x="69" y="8"/>
                    </a:lnTo>
                    <a:lnTo>
                      <a:pt x="67" y="9"/>
                    </a:lnTo>
                    <a:lnTo>
                      <a:pt x="60" y="15"/>
                    </a:lnTo>
                    <a:lnTo>
                      <a:pt x="54" y="21"/>
                    </a:lnTo>
                    <a:lnTo>
                      <a:pt x="50" y="29"/>
                    </a:lnTo>
                    <a:lnTo>
                      <a:pt x="49" y="33"/>
                    </a:lnTo>
                    <a:lnTo>
                      <a:pt x="46" y="42"/>
                    </a:lnTo>
                    <a:lnTo>
                      <a:pt x="45" y="51"/>
                    </a:lnTo>
                    <a:lnTo>
                      <a:pt x="45" y="232"/>
                    </a:lnTo>
                    <a:lnTo>
                      <a:pt x="44" y="241"/>
                    </a:lnTo>
                    <a:lnTo>
                      <a:pt x="42" y="250"/>
                    </a:lnTo>
                    <a:lnTo>
                      <a:pt x="48" y="250"/>
                    </a:lnTo>
                    <a:lnTo>
                      <a:pt x="43" y="245"/>
                    </a:lnTo>
                    <a:lnTo>
                      <a:pt x="39" y="253"/>
                    </a:lnTo>
                    <a:lnTo>
                      <a:pt x="33" y="259"/>
                    </a:lnTo>
                    <a:lnTo>
                      <a:pt x="27" y="265"/>
                    </a:lnTo>
                    <a:lnTo>
                      <a:pt x="31" y="269"/>
                    </a:lnTo>
                    <a:lnTo>
                      <a:pt x="29" y="264"/>
                    </a:lnTo>
                    <a:lnTo>
                      <a:pt x="21" y="268"/>
                    </a:lnTo>
                    <a:lnTo>
                      <a:pt x="13" y="271"/>
                    </a:lnTo>
                    <a:lnTo>
                      <a:pt x="15" y="276"/>
                    </a:lnTo>
                    <a:lnTo>
                      <a:pt x="15" y="270"/>
                    </a:lnTo>
                    <a:lnTo>
                      <a:pt x="6" y="271"/>
                    </a:lnTo>
                    <a:lnTo>
                      <a:pt x="6" y="271"/>
                    </a:lnTo>
                    <a:lnTo>
                      <a:pt x="4" y="272"/>
                    </a:lnTo>
                    <a:lnTo>
                      <a:pt x="2" y="273"/>
                    </a:lnTo>
                    <a:lnTo>
                      <a:pt x="0" y="277"/>
                    </a:lnTo>
                    <a:lnTo>
                      <a:pt x="2" y="281"/>
                    </a:lnTo>
                    <a:lnTo>
                      <a:pt x="4" y="282"/>
                    </a:lnTo>
                    <a:lnTo>
                      <a:pt x="6" y="283"/>
                    </a:lnTo>
                    <a:lnTo>
                      <a:pt x="15" y="284"/>
                    </a:lnTo>
                    <a:lnTo>
                      <a:pt x="15" y="278"/>
                    </a:lnTo>
                    <a:lnTo>
                      <a:pt x="13" y="283"/>
                    </a:lnTo>
                    <a:lnTo>
                      <a:pt x="21" y="286"/>
                    </a:lnTo>
                    <a:lnTo>
                      <a:pt x="29" y="290"/>
                    </a:lnTo>
                    <a:lnTo>
                      <a:pt x="31" y="285"/>
                    </a:lnTo>
                    <a:lnTo>
                      <a:pt x="27" y="289"/>
                    </a:lnTo>
                    <a:lnTo>
                      <a:pt x="33" y="295"/>
                    </a:lnTo>
                    <a:lnTo>
                      <a:pt x="39" y="302"/>
                    </a:lnTo>
                    <a:lnTo>
                      <a:pt x="43" y="310"/>
                    </a:lnTo>
                    <a:lnTo>
                      <a:pt x="48" y="305"/>
                    </a:lnTo>
                    <a:lnTo>
                      <a:pt x="42" y="305"/>
                    </a:lnTo>
                    <a:lnTo>
                      <a:pt x="44" y="314"/>
                    </a:lnTo>
                    <a:lnTo>
                      <a:pt x="45" y="323"/>
                    </a:lnTo>
                    <a:lnTo>
                      <a:pt x="45" y="504"/>
                    </a:lnTo>
                    <a:lnTo>
                      <a:pt x="46" y="513"/>
                    </a:lnTo>
                    <a:lnTo>
                      <a:pt x="49" y="522"/>
                    </a:lnTo>
                    <a:lnTo>
                      <a:pt x="50" y="526"/>
                    </a:lnTo>
                    <a:lnTo>
                      <a:pt x="54" y="534"/>
                    </a:lnTo>
                    <a:lnTo>
                      <a:pt x="60" y="540"/>
                    </a:lnTo>
                    <a:lnTo>
                      <a:pt x="67" y="546"/>
                    </a:lnTo>
                    <a:lnTo>
                      <a:pt x="69" y="547"/>
                    </a:lnTo>
                    <a:lnTo>
                      <a:pt x="76" y="551"/>
                    </a:lnTo>
                    <a:lnTo>
                      <a:pt x="85" y="554"/>
                    </a:lnTo>
                    <a:lnTo>
                      <a:pt x="87" y="554"/>
                    </a:lnTo>
                    <a:lnTo>
                      <a:pt x="96" y="555"/>
                    </a:lnTo>
                    <a:lnTo>
                      <a:pt x="96" y="543"/>
                    </a:lnTo>
                    <a:lnTo>
                      <a:pt x="87" y="542"/>
                    </a:lnTo>
                    <a:lnTo>
                      <a:pt x="87" y="548"/>
                    </a:lnTo>
                    <a:lnTo>
                      <a:pt x="90" y="543"/>
                    </a:lnTo>
                    <a:lnTo>
                      <a:pt x="81" y="540"/>
                    </a:lnTo>
                    <a:lnTo>
                      <a:pt x="74" y="536"/>
                    </a:lnTo>
                    <a:lnTo>
                      <a:pt x="71" y="541"/>
                    </a:lnTo>
                    <a:lnTo>
                      <a:pt x="76" y="537"/>
                    </a:lnTo>
                    <a:lnTo>
                      <a:pt x="69" y="531"/>
                    </a:lnTo>
                    <a:lnTo>
                      <a:pt x="63" y="525"/>
                    </a:lnTo>
                    <a:lnTo>
                      <a:pt x="59" y="517"/>
                    </a:lnTo>
                    <a:lnTo>
                      <a:pt x="55" y="522"/>
                    </a:lnTo>
                    <a:lnTo>
                      <a:pt x="61" y="522"/>
                    </a:lnTo>
                    <a:lnTo>
                      <a:pt x="58" y="513"/>
                    </a:lnTo>
                    <a:lnTo>
                      <a:pt x="57" y="504"/>
                    </a:lnTo>
                    <a:lnTo>
                      <a:pt x="57" y="323"/>
                    </a:lnTo>
                    <a:lnTo>
                      <a:pt x="56" y="314"/>
                    </a:lnTo>
                    <a:lnTo>
                      <a:pt x="54" y="305"/>
                    </a:lnTo>
                    <a:lnTo>
                      <a:pt x="52" y="301"/>
                    </a:lnTo>
                    <a:lnTo>
                      <a:pt x="48" y="293"/>
                    </a:lnTo>
                    <a:lnTo>
                      <a:pt x="42" y="286"/>
                    </a:lnTo>
                    <a:lnTo>
                      <a:pt x="36" y="280"/>
                    </a:lnTo>
                    <a:lnTo>
                      <a:pt x="34" y="279"/>
                    </a:lnTo>
                    <a:lnTo>
                      <a:pt x="26" y="275"/>
                    </a:lnTo>
                    <a:lnTo>
                      <a:pt x="18" y="272"/>
                    </a:lnTo>
                    <a:lnTo>
                      <a:pt x="15" y="272"/>
                    </a:lnTo>
                    <a:lnTo>
                      <a:pt x="6" y="271"/>
                    </a:lnTo>
                    <a:lnTo>
                      <a:pt x="6" y="283"/>
                    </a:lnTo>
                    <a:lnTo>
                      <a:pt x="8" y="282"/>
                    </a:lnTo>
                    <a:lnTo>
                      <a:pt x="10" y="281"/>
                    </a:lnTo>
                    <a:lnTo>
                      <a:pt x="12" y="277"/>
                    </a:lnTo>
                    <a:lnTo>
                      <a:pt x="10" y="273"/>
                    </a:lnTo>
                    <a:lnTo>
                      <a:pt x="8" y="272"/>
                    </a:lnTo>
                    <a:lnTo>
                      <a:pt x="6" y="277"/>
                    </a:lnTo>
                    <a:lnTo>
                      <a:pt x="6" y="283"/>
                    </a:lnTo>
                    <a:lnTo>
                      <a:pt x="15" y="282"/>
                    </a:lnTo>
                    <a:lnTo>
                      <a:pt x="18" y="282"/>
                    </a:lnTo>
                    <a:lnTo>
                      <a:pt x="26" y="279"/>
                    </a:lnTo>
                    <a:lnTo>
                      <a:pt x="34" y="275"/>
                    </a:lnTo>
                    <a:lnTo>
                      <a:pt x="36" y="274"/>
                    </a:lnTo>
                    <a:lnTo>
                      <a:pt x="42" y="268"/>
                    </a:lnTo>
                    <a:lnTo>
                      <a:pt x="48" y="262"/>
                    </a:lnTo>
                    <a:lnTo>
                      <a:pt x="52" y="254"/>
                    </a:lnTo>
                    <a:lnTo>
                      <a:pt x="54" y="250"/>
                    </a:lnTo>
                    <a:lnTo>
                      <a:pt x="54" y="250"/>
                    </a:lnTo>
                    <a:lnTo>
                      <a:pt x="56" y="241"/>
                    </a:lnTo>
                    <a:lnTo>
                      <a:pt x="57" y="232"/>
                    </a:lnTo>
                    <a:lnTo>
                      <a:pt x="57" y="51"/>
                    </a:lnTo>
                    <a:lnTo>
                      <a:pt x="58" y="42"/>
                    </a:lnTo>
                    <a:lnTo>
                      <a:pt x="61" y="33"/>
                    </a:lnTo>
                    <a:lnTo>
                      <a:pt x="55" y="33"/>
                    </a:lnTo>
                    <a:lnTo>
                      <a:pt x="59" y="38"/>
                    </a:lnTo>
                    <a:lnTo>
                      <a:pt x="63" y="30"/>
                    </a:lnTo>
                    <a:lnTo>
                      <a:pt x="69" y="24"/>
                    </a:lnTo>
                    <a:lnTo>
                      <a:pt x="76" y="18"/>
                    </a:lnTo>
                    <a:lnTo>
                      <a:pt x="71" y="14"/>
                    </a:lnTo>
                    <a:lnTo>
                      <a:pt x="74" y="19"/>
                    </a:lnTo>
                    <a:lnTo>
                      <a:pt x="81" y="15"/>
                    </a:lnTo>
                    <a:lnTo>
                      <a:pt x="90" y="12"/>
                    </a:lnTo>
                    <a:lnTo>
                      <a:pt x="87" y="7"/>
                    </a:lnTo>
                    <a:lnTo>
                      <a:pt x="87" y="13"/>
                    </a:lnTo>
                    <a:lnTo>
                      <a:pt x="96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081920" y="1843200"/>
                <a:ext cx="152280" cy="880920"/>
              </a:xfrm>
              <a:custGeom>
                <a:avLst/>
                <a:gdLst/>
                <a:ahLst/>
                <a:rect l="l" t="t" r="r" b="b"/>
                <a:pathLst>
                  <a:path w="96" h="555">
                    <a:moveTo>
                      <a:pt x="0" y="0"/>
                    </a:moveTo>
                    <a:lnTo>
                      <a:pt x="0" y="12"/>
                    </a:lnTo>
                    <a:lnTo>
                      <a:pt x="9" y="13"/>
                    </a:lnTo>
                    <a:lnTo>
                      <a:pt x="9" y="7"/>
                    </a:lnTo>
                    <a:lnTo>
                      <a:pt x="6" y="12"/>
                    </a:lnTo>
                    <a:lnTo>
                      <a:pt x="15" y="15"/>
                    </a:lnTo>
                    <a:lnTo>
                      <a:pt x="22" y="19"/>
                    </a:lnTo>
                    <a:lnTo>
                      <a:pt x="25" y="14"/>
                    </a:lnTo>
                    <a:lnTo>
                      <a:pt x="20" y="18"/>
                    </a:lnTo>
                    <a:lnTo>
                      <a:pt x="27" y="24"/>
                    </a:lnTo>
                    <a:lnTo>
                      <a:pt x="33" y="30"/>
                    </a:lnTo>
                    <a:lnTo>
                      <a:pt x="37" y="38"/>
                    </a:lnTo>
                    <a:lnTo>
                      <a:pt x="41" y="33"/>
                    </a:lnTo>
                    <a:lnTo>
                      <a:pt x="35" y="33"/>
                    </a:lnTo>
                    <a:lnTo>
                      <a:pt x="38" y="42"/>
                    </a:lnTo>
                    <a:lnTo>
                      <a:pt x="39" y="51"/>
                    </a:lnTo>
                    <a:lnTo>
                      <a:pt x="39" y="232"/>
                    </a:lnTo>
                    <a:lnTo>
                      <a:pt x="40" y="241"/>
                    </a:lnTo>
                    <a:lnTo>
                      <a:pt x="43" y="250"/>
                    </a:lnTo>
                    <a:lnTo>
                      <a:pt x="44" y="254"/>
                    </a:lnTo>
                    <a:lnTo>
                      <a:pt x="48" y="262"/>
                    </a:lnTo>
                    <a:lnTo>
                      <a:pt x="54" y="268"/>
                    </a:lnTo>
                    <a:lnTo>
                      <a:pt x="60" y="274"/>
                    </a:lnTo>
                    <a:lnTo>
                      <a:pt x="62" y="275"/>
                    </a:lnTo>
                    <a:lnTo>
                      <a:pt x="70" y="279"/>
                    </a:lnTo>
                    <a:lnTo>
                      <a:pt x="78" y="282"/>
                    </a:lnTo>
                    <a:lnTo>
                      <a:pt x="81" y="282"/>
                    </a:lnTo>
                    <a:lnTo>
                      <a:pt x="90" y="283"/>
                    </a:lnTo>
                    <a:lnTo>
                      <a:pt x="90" y="277"/>
                    </a:lnTo>
                    <a:lnTo>
                      <a:pt x="90" y="271"/>
                    </a:lnTo>
                    <a:lnTo>
                      <a:pt x="88" y="272"/>
                    </a:lnTo>
                    <a:lnTo>
                      <a:pt x="86" y="273"/>
                    </a:lnTo>
                    <a:lnTo>
                      <a:pt x="84" y="277"/>
                    </a:lnTo>
                    <a:lnTo>
                      <a:pt x="86" y="281"/>
                    </a:lnTo>
                    <a:lnTo>
                      <a:pt x="88" y="282"/>
                    </a:lnTo>
                    <a:lnTo>
                      <a:pt x="90" y="271"/>
                    </a:lnTo>
                    <a:lnTo>
                      <a:pt x="81" y="272"/>
                    </a:lnTo>
                    <a:lnTo>
                      <a:pt x="78" y="272"/>
                    </a:lnTo>
                    <a:lnTo>
                      <a:pt x="70" y="275"/>
                    </a:lnTo>
                    <a:lnTo>
                      <a:pt x="62" y="279"/>
                    </a:lnTo>
                    <a:lnTo>
                      <a:pt x="60" y="280"/>
                    </a:lnTo>
                    <a:lnTo>
                      <a:pt x="54" y="286"/>
                    </a:lnTo>
                    <a:lnTo>
                      <a:pt x="48" y="293"/>
                    </a:lnTo>
                    <a:lnTo>
                      <a:pt x="44" y="301"/>
                    </a:lnTo>
                    <a:lnTo>
                      <a:pt x="43" y="305"/>
                    </a:lnTo>
                    <a:lnTo>
                      <a:pt x="40" y="314"/>
                    </a:lnTo>
                    <a:lnTo>
                      <a:pt x="39" y="323"/>
                    </a:lnTo>
                    <a:lnTo>
                      <a:pt x="39" y="504"/>
                    </a:lnTo>
                    <a:lnTo>
                      <a:pt x="38" y="513"/>
                    </a:lnTo>
                    <a:lnTo>
                      <a:pt x="35" y="522"/>
                    </a:lnTo>
                    <a:lnTo>
                      <a:pt x="41" y="522"/>
                    </a:lnTo>
                    <a:lnTo>
                      <a:pt x="37" y="517"/>
                    </a:lnTo>
                    <a:lnTo>
                      <a:pt x="33" y="525"/>
                    </a:lnTo>
                    <a:lnTo>
                      <a:pt x="27" y="531"/>
                    </a:lnTo>
                    <a:lnTo>
                      <a:pt x="20" y="537"/>
                    </a:lnTo>
                    <a:lnTo>
                      <a:pt x="25" y="541"/>
                    </a:lnTo>
                    <a:lnTo>
                      <a:pt x="22" y="536"/>
                    </a:lnTo>
                    <a:lnTo>
                      <a:pt x="15" y="540"/>
                    </a:lnTo>
                    <a:lnTo>
                      <a:pt x="6" y="543"/>
                    </a:lnTo>
                    <a:lnTo>
                      <a:pt x="9" y="548"/>
                    </a:lnTo>
                    <a:lnTo>
                      <a:pt x="9" y="542"/>
                    </a:lnTo>
                    <a:lnTo>
                      <a:pt x="0" y="543"/>
                    </a:lnTo>
                    <a:lnTo>
                      <a:pt x="0" y="555"/>
                    </a:lnTo>
                    <a:lnTo>
                      <a:pt x="9" y="554"/>
                    </a:lnTo>
                    <a:lnTo>
                      <a:pt x="11" y="554"/>
                    </a:lnTo>
                    <a:lnTo>
                      <a:pt x="20" y="551"/>
                    </a:lnTo>
                    <a:lnTo>
                      <a:pt x="27" y="547"/>
                    </a:lnTo>
                    <a:lnTo>
                      <a:pt x="29" y="546"/>
                    </a:lnTo>
                    <a:lnTo>
                      <a:pt x="36" y="540"/>
                    </a:lnTo>
                    <a:lnTo>
                      <a:pt x="42" y="534"/>
                    </a:lnTo>
                    <a:lnTo>
                      <a:pt x="46" y="526"/>
                    </a:lnTo>
                    <a:lnTo>
                      <a:pt x="47" y="522"/>
                    </a:lnTo>
                    <a:lnTo>
                      <a:pt x="47" y="522"/>
                    </a:lnTo>
                    <a:lnTo>
                      <a:pt x="50" y="513"/>
                    </a:lnTo>
                    <a:lnTo>
                      <a:pt x="51" y="504"/>
                    </a:lnTo>
                    <a:lnTo>
                      <a:pt x="51" y="323"/>
                    </a:lnTo>
                    <a:lnTo>
                      <a:pt x="52" y="314"/>
                    </a:lnTo>
                    <a:lnTo>
                      <a:pt x="55" y="305"/>
                    </a:lnTo>
                    <a:lnTo>
                      <a:pt x="49" y="305"/>
                    </a:lnTo>
                    <a:lnTo>
                      <a:pt x="53" y="310"/>
                    </a:lnTo>
                    <a:lnTo>
                      <a:pt x="57" y="302"/>
                    </a:lnTo>
                    <a:lnTo>
                      <a:pt x="63" y="295"/>
                    </a:lnTo>
                    <a:lnTo>
                      <a:pt x="69" y="289"/>
                    </a:lnTo>
                    <a:lnTo>
                      <a:pt x="65" y="285"/>
                    </a:lnTo>
                    <a:lnTo>
                      <a:pt x="67" y="290"/>
                    </a:lnTo>
                    <a:lnTo>
                      <a:pt x="75" y="286"/>
                    </a:lnTo>
                    <a:lnTo>
                      <a:pt x="83" y="283"/>
                    </a:lnTo>
                    <a:lnTo>
                      <a:pt x="81" y="278"/>
                    </a:lnTo>
                    <a:lnTo>
                      <a:pt x="81" y="284"/>
                    </a:lnTo>
                    <a:lnTo>
                      <a:pt x="90" y="283"/>
                    </a:lnTo>
                    <a:lnTo>
                      <a:pt x="90" y="283"/>
                    </a:lnTo>
                    <a:lnTo>
                      <a:pt x="92" y="282"/>
                    </a:lnTo>
                    <a:lnTo>
                      <a:pt x="94" y="281"/>
                    </a:lnTo>
                    <a:lnTo>
                      <a:pt x="96" y="277"/>
                    </a:lnTo>
                    <a:lnTo>
                      <a:pt x="94" y="273"/>
                    </a:lnTo>
                    <a:lnTo>
                      <a:pt x="92" y="272"/>
                    </a:lnTo>
                    <a:lnTo>
                      <a:pt x="90" y="271"/>
                    </a:lnTo>
                    <a:lnTo>
                      <a:pt x="81" y="270"/>
                    </a:lnTo>
                    <a:lnTo>
                      <a:pt x="81" y="276"/>
                    </a:lnTo>
                    <a:lnTo>
                      <a:pt x="83" y="271"/>
                    </a:lnTo>
                    <a:lnTo>
                      <a:pt x="75" y="268"/>
                    </a:lnTo>
                    <a:lnTo>
                      <a:pt x="67" y="264"/>
                    </a:lnTo>
                    <a:lnTo>
                      <a:pt x="65" y="269"/>
                    </a:lnTo>
                    <a:lnTo>
                      <a:pt x="69" y="265"/>
                    </a:lnTo>
                    <a:lnTo>
                      <a:pt x="63" y="259"/>
                    </a:lnTo>
                    <a:lnTo>
                      <a:pt x="57" y="253"/>
                    </a:lnTo>
                    <a:lnTo>
                      <a:pt x="53" y="245"/>
                    </a:lnTo>
                    <a:lnTo>
                      <a:pt x="49" y="250"/>
                    </a:lnTo>
                    <a:lnTo>
                      <a:pt x="55" y="250"/>
                    </a:lnTo>
                    <a:lnTo>
                      <a:pt x="52" y="241"/>
                    </a:lnTo>
                    <a:lnTo>
                      <a:pt x="51" y="232"/>
                    </a:lnTo>
                    <a:lnTo>
                      <a:pt x="51" y="51"/>
                    </a:lnTo>
                    <a:lnTo>
                      <a:pt x="50" y="42"/>
                    </a:lnTo>
                    <a:lnTo>
                      <a:pt x="47" y="33"/>
                    </a:lnTo>
                    <a:lnTo>
                      <a:pt x="46" y="29"/>
                    </a:lnTo>
                    <a:lnTo>
                      <a:pt x="42" y="21"/>
                    </a:lnTo>
                    <a:lnTo>
                      <a:pt x="36" y="15"/>
                    </a:lnTo>
                    <a:lnTo>
                      <a:pt x="29" y="9"/>
                    </a:lnTo>
                    <a:lnTo>
                      <a:pt x="27" y="8"/>
                    </a:lnTo>
                    <a:lnTo>
                      <a:pt x="20" y="4"/>
                    </a:lnTo>
                    <a:lnTo>
                      <a:pt x="11" y="1"/>
                    </a:lnTo>
                    <a:lnTo>
                      <a:pt x="9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" name=""/>
            <p:cNvGrpSpPr/>
            <p:nvPr/>
          </p:nvGrpSpPr>
          <p:grpSpPr>
            <a:xfrm>
              <a:off x="3987720" y="476280"/>
              <a:ext cx="1333440" cy="993600"/>
              <a:chOff x="3987720" y="476280"/>
              <a:chExt cx="1333440" cy="993600"/>
            </a:xfrm>
          </p:grpSpPr>
          <p:grpSp>
            <p:nvGrpSpPr>
              <p:cNvPr id="77" name=""/>
              <p:cNvGrpSpPr/>
              <p:nvPr/>
            </p:nvGrpSpPr>
            <p:grpSpPr>
              <a:xfrm>
                <a:off x="3987720" y="476280"/>
                <a:ext cx="1333440" cy="993600"/>
                <a:chOff x="3987720" y="476280"/>
                <a:chExt cx="1333440" cy="993600"/>
              </a:xfrm>
            </p:grpSpPr>
            <p:grpSp>
              <p:nvGrpSpPr>
                <p:cNvPr id="78" name=""/>
                <p:cNvGrpSpPr/>
                <p:nvPr/>
              </p:nvGrpSpPr>
              <p:grpSpPr>
                <a:xfrm>
                  <a:off x="3987720" y="476280"/>
                  <a:ext cx="1333440" cy="993600"/>
                  <a:chOff x="3987720" y="476280"/>
                  <a:chExt cx="1333440" cy="993600"/>
                </a:xfrm>
              </p:grpSpPr>
              <p:grpSp>
                <p:nvGrpSpPr>
                  <p:cNvPr id="79" name=""/>
                  <p:cNvGrpSpPr/>
                  <p:nvPr/>
                </p:nvGrpSpPr>
                <p:grpSpPr>
                  <a:xfrm>
                    <a:off x="3987720" y="479520"/>
                    <a:ext cx="608040" cy="990360"/>
                    <a:chOff x="3987720" y="479520"/>
                    <a:chExt cx="608040" cy="990360"/>
                  </a:xfrm>
                </p:grpSpPr>
                <p:grpSp>
                  <p:nvGrpSpPr>
                    <p:cNvPr id="80" name=""/>
                    <p:cNvGrpSpPr/>
                    <p:nvPr/>
                  </p:nvGrpSpPr>
                  <p:grpSpPr>
                    <a:xfrm>
                      <a:off x="3987720" y="479520"/>
                      <a:ext cx="608040" cy="990360"/>
                      <a:chOff x="3987720" y="479520"/>
                      <a:chExt cx="608040" cy="990360"/>
                    </a:xfrm>
                  </p:grpSpPr>
                  <p:sp>
                    <p:nvSpPr>
                      <p:cNvPr id="81" name=""/>
                      <p:cNvSpPr/>
                      <p:nvPr/>
                    </p:nvSpPr>
                    <p:spPr>
                      <a:xfrm>
                        <a:off x="3987720" y="479520"/>
                        <a:ext cx="608040" cy="988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532" h="2491">
                            <a:moveTo>
                              <a:pt x="1278" y="127"/>
                            </a:moveTo>
                            <a:lnTo>
                              <a:pt x="1247" y="85"/>
                            </a:lnTo>
                            <a:lnTo>
                              <a:pt x="1197" y="48"/>
                            </a:lnTo>
                            <a:lnTo>
                              <a:pt x="1143" y="25"/>
                            </a:lnTo>
                            <a:lnTo>
                              <a:pt x="1090" y="9"/>
                            </a:lnTo>
                            <a:lnTo>
                              <a:pt x="1017" y="0"/>
                            </a:lnTo>
                            <a:lnTo>
                              <a:pt x="960" y="7"/>
                            </a:lnTo>
                            <a:lnTo>
                              <a:pt x="897" y="21"/>
                            </a:lnTo>
                            <a:lnTo>
                              <a:pt x="833" y="45"/>
                            </a:lnTo>
                            <a:lnTo>
                              <a:pt x="785" y="75"/>
                            </a:lnTo>
                            <a:lnTo>
                              <a:pt x="733" y="121"/>
                            </a:lnTo>
                            <a:lnTo>
                              <a:pt x="641" y="220"/>
                            </a:lnTo>
                            <a:lnTo>
                              <a:pt x="563" y="312"/>
                            </a:lnTo>
                            <a:lnTo>
                              <a:pt x="487" y="419"/>
                            </a:lnTo>
                            <a:lnTo>
                              <a:pt x="413" y="540"/>
                            </a:lnTo>
                            <a:lnTo>
                              <a:pt x="356" y="652"/>
                            </a:lnTo>
                            <a:lnTo>
                              <a:pt x="308" y="758"/>
                            </a:lnTo>
                            <a:lnTo>
                              <a:pt x="273" y="852"/>
                            </a:lnTo>
                            <a:lnTo>
                              <a:pt x="247" y="946"/>
                            </a:lnTo>
                            <a:lnTo>
                              <a:pt x="216" y="1043"/>
                            </a:lnTo>
                            <a:lnTo>
                              <a:pt x="184" y="1132"/>
                            </a:lnTo>
                            <a:lnTo>
                              <a:pt x="131" y="1286"/>
                            </a:lnTo>
                            <a:lnTo>
                              <a:pt x="74" y="1414"/>
                            </a:lnTo>
                            <a:lnTo>
                              <a:pt x="45" y="1485"/>
                            </a:lnTo>
                            <a:lnTo>
                              <a:pt x="25" y="1572"/>
                            </a:lnTo>
                            <a:lnTo>
                              <a:pt x="10" y="1677"/>
                            </a:lnTo>
                            <a:lnTo>
                              <a:pt x="0" y="1792"/>
                            </a:lnTo>
                            <a:lnTo>
                              <a:pt x="2" y="1902"/>
                            </a:lnTo>
                            <a:lnTo>
                              <a:pt x="24" y="2166"/>
                            </a:lnTo>
                            <a:lnTo>
                              <a:pt x="45" y="2322"/>
                            </a:lnTo>
                            <a:lnTo>
                              <a:pt x="56" y="2363"/>
                            </a:lnTo>
                            <a:lnTo>
                              <a:pt x="74" y="2400"/>
                            </a:lnTo>
                            <a:lnTo>
                              <a:pt x="96" y="2430"/>
                            </a:lnTo>
                            <a:lnTo>
                              <a:pt x="120" y="2451"/>
                            </a:lnTo>
                            <a:lnTo>
                              <a:pt x="146" y="2469"/>
                            </a:lnTo>
                            <a:lnTo>
                              <a:pt x="184" y="2481"/>
                            </a:lnTo>
                            <a:lnTo>
                              <a:pt x="228" y="2488"/>
                            </a:lnTo>
                            <a:lnTo>
                              <a:pt x="274" y="2491"/>
                            </a:lnTo>
                            <a:lnTo>
                              <a:pt x="333" y="2484"/>
                            </a:lnTo>
                            <a:lnTo>
                              <a:pt x="393" y="2469"/>
                            </a:lnTo>
                            <a:lnTo>
                              <a:pt x="520" y="2429"/>
                            </a:lnTo>
                            <a:lnTo>
                              <a:pt x="670" y="2379"/>
                            </a:lnTo>
                            <a:lnTo>
                              <a:pt x="741" y="2393"/>
                            </a:lnTo>
                            <a:lnTo>
                              <a:pt x="786" y="2399"/>
                            </a:lnTo>
                            <a:lnTo>
                              <a:pt x="840" y="2393"/>
                            </a:lnTo>
                            <a:lnTo>
                              <a:pt x="947" y="2372"/>
                            </a:lnTo>
                            <a:lnTo>
                              <a:pt x="1081" y="2337"/>
                            </a:lnTo>
                            <a:lnTo>
                              <a:pt x="1202" y="2301"/>
                            </a:lnTo>
                            <a:lnTo>
                              <a:pt x="1281" y="2273"/>
                            </a:lnTo>
                            <a:lnTo>
                              <a:pt x="1326" y="2253"/>
                            </a:lnTo>
                            <a:lnTo>
                              <a:pt x="1368" y="2226"/>
                            </a:lnTo>
                            <a:lnTo>
                              <a:pt x="1403" y="2185"/>
                            </a:lnTo>
                            <a:lnTo>
                              <a:pt x="1429" y="2138"/>
                            </a:lnTo>
                            <a:lnTo>
                              <a:pt x="1452" y="2082"/>
                            </a:lnTo>
                            <a:lnTo>
                              <a:pt x="1472" y="2024"/>
                            </a:lnTo>
                            <a:lnTo>
                              <a:pt x="1493" y="1931"/>
                            </a:lnTo>
                            <a:lnTo>
                              <a:pt x="1505" y="1858"/>
                            </a:lnTo>
                            <a:lnTo>
                              <a:pt x="1515" y="1784"/>
                            </a:lnTo>
                            <a:lnTo>
                              <a:pt x="1529" y="1669"/>
                            </a:lnTo>
                            <a:lnTo>
                              <a:pt x="1532" y="1593"/>
                            </a:lnTo>
                            <a:lnTo>
                              <a:pt x="1522" y="1491"/>
                            </a:lnTo>
                            <a:lnTo>
                              <a:pt x="1493" y="1343"/>
                            </a:lnTo>
                            <a:lnTo>
                              <a:pt x="1465" y="1150"/>
                            </a:lnTo>
                            <a:lnTo>
                              <a:pt x="1434" y="1010"/>
                            </a:lnTo>
                            <a:lnTo>
                              <a:pt x="1411" y="952"/>
                            </a:lnTo>
                            <a:lnTo>
                              <a:pt x="1385" y="899"/>
                            </a:lnTo>
                            <a:lnTo>
                              <a:pt x="1364" y="845"/>
                            </a:lnTo>
                            <a:lnTo>
                              <a:pt x="1349" y="802"/>
                            </a:lnTo>
                            <a:lnTo>
                              <a:pt x="1338" y="723"/>
                            </a:lnTo>
                            <a:lnTo>
                              <a:pt x="1359" y="612"/>
                            </a:lnTo>
                            <a:lnTo>
                              <a:pt x="1363" y="543"/>
                            </a:lnTo>
                            <a:lnTo>
                              <a:pt x="1357" y="474"/>
                            </a:lnTo>
                            <a:lnTo>
                              <a:pt x="1346" y="386"/>
                            </a:lnTo>
                            <a:lnTo>
                              <a:pt x="1326" y="269"/>
                            </a:lnTo>
                            <a:lnTo>
                              <a:pt x="1304" y="185"/>
                            </a:lnTo>
                            <a:lnTo>
                              <a:pt x="1278" y="127"/>
                            </a:lnTo>
                            <a:close/>
                          </a:path>
                        </a:pathLst>
                      </a:custGeom>
                      <a:solidFill>
                        <a:srgbClr val="8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82" name=""/>
                      <p:cNvGrpSpPr/>
                      <p:nvPr/>
                    </p:nvGrpSpPr>
                    <p:grpSpPr>
                      <a:xfrm>
                        <a:off x="3987720" y="971640"/>
                        <a:ext cx="608040" cy="498240"/>
                        <a:chOff x="3987720" y="971640"/>
                        <a:chExt cx="608040" cy="498240"/>
                      </a:xfrm>
                    </p:grpSpPr>
                    <p:sp>
                      <p:nvSpPr>
                        <p:cNvPr id="83" name=""/>
                        <p:cNvSpPr/>
                        <p:nvPr/>
                      </p:nvSpPr>
                      <p:spPr>
                        <a:xfrm>
                          <a:off x="3987720" y="971640"/>
                          <a:ext cx="608040" cy="4982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2" h="1254">
                              <a:moveTo>
                                <a:pt x="147" y="0"/>
                              </a:moveTo>
                              <a:lnTo>
                                <a:pt x="131" y="50"/>
                              </a:lnTo>
                              <a:lnTo>
                                <a:pt x="74" y="179"/>
                              </a:lnTo>
                              <a:lnTo>
                                <a:pt x="45" y="250"/>
                              </a:lnTo>
                              <a:lnTo>
                                <a:pt x="25" y="336"/>
                              </a:lnTo>
                              <a:lnTo>
                                <a:pt x="9" y="440"/>
                              </a:lnTo>
                              <a:lnTo>
                                <a:pt x="0" y="555"/>
                              </a:lnTo>
                              <a:lnTo>
                                <a:pt x="2" y="667"/>
                              </a:lnTo>
                              <a:lnTo>
                                <a:pt x="24" y="931"/>
                              </a:lnTo>
                              <a:lnTo>
                                <a:pt x="45" y="1085"/>
                              </a:lnTo>
                              <a:lnTo>
                                <a:pt x="56" y="1127"/>
                              </a:lnTo>
                              <a:lnTo>
                                <a:pt x="74" y="1164"/>
                              </a:lnTo>
                              <a:lnTo>
                                <a:pt x="96" y="1194"/>
                              </a:lnTo>
                              <a:lnTo>
                                <a:pt x="120" y="1215"/>
                              </a:lnTo>
                              <a:lnTo>
                                <a:pt x="146" y="1233"/>
                              </a:lnTo>
                              <a:lnTo>
                                <a:pt x="184" y="1245"/>
                              </a:lnTo>
                              <a:lnTo>
                                <a:pt x="228" y="1252"/>
                              </a:lnTo>
                              <a:lnTo>
                                <a:pt x="274" y="1254"/>
                              </a:lnTo>
                              <a:lnTo>
                                <a:pt x="332" y="1247"/>
                              </a:lnTo>
                              <a:lnTo>
                                <a:pt x="393" y="1233"/>
                              </a:lnTo>
                              <a:lnTo>
                                <a:pt x="520" y="1192"/>
                              </a:lnTo>
                              <a:lnTo>
                                <a:pt x="670" y="1143"/>
                              </a:lnTo>
                              <a:lnTo>
                                <a:pt x="741" y="1157"/>
                              </a:lnTo>
                              <a:lnTo>
                                <a:pt x="786" y="1163"/>
                              </a:lnTo>
                              <a:lnTo>
                                <a:pt x="840" y="1157"/>
                              </a:lnTo>
                              <a:lnTo>
                                <a:pt x="947" y="1135"/>
                              </a:lnTo>
                              <a:lnTo>
                                <a:pt x="1081" y="1101"/>
                              </a:lnTo>
                              <a:lnTo>
                                <a:pt x="1202" y="1064"/>
                              </a:lnTo>
                              <a:lnTo>
                                <a:pt x="1280" y="1037"/>
                              </a:lnTo>
                              <a:lnTo>
                                <a:pt x="1326" y="1017"/>
                              </a:lnTo>
                              <a:lnTo>
                                <a:pt x="1368" y="989"/>
                              </a:lnTo>
                              <a:lnTo>
                                <a:pt x="1403" y="949"/>
                              </a:lnTo>
                              <a:lnTo>
                                <a:pt x="1429" y="902"/>
                              </a:lnTo>
                              <a:lnTo>
                                <a:pt x="1451" y="847"/>
                              </a:lnTo>
                              <a:lnTo>
                                <a:pt x="1472" y="788"/>
                              </a:lnTo>
                              <a:lnTo>
                                <a:pt x="1493" y="696"/>
                              </a:lnTo>
                              <a:lnTo>
                                <a:pt x="1505" y="622"/>
                              </a:lnTo>
                              <a:lnTo>
                                <a:pt x="1514" y="547"/>
                              </a:lnTo>
                              <a:lnTo>
                                <a:pt x="1529" y="433"/>
                              </a:lnTo>
                              <a:lnTo>
                                <a:pt x="1532" y="357"/>
                              </a:lnTo>
                              <a:lnTo>
                                <a:pt x="1522" y="256"/>
                              </a:lnTo>
                              <a:lnTo>
                                <a:pt x="1512" y="189"/>
                              </a:lnTo>
                              <a:lnTo>
                                <a:pt x="1481" y="193"/>
                              </a:lnTo>
                              <a:lnTo>
                                <a:pt x="1434" y="207"/>
                              </a:lnTo>
                              <a:lnTo>
                                <a:pt x="1386" y="212"/>
                              </a:lnTo>
                              <a:lnTo>
                                <a:pt x="1293" y="211"/>
                              </a:lnTo>
                              <a:lnTo>
                                <a:pt x="1215" y="207"/>
                              </a:lnTo>
                              <a:lnTo>
                                <a:pt x="1106" y="212"/>
                              </a:lnTo>
                              <a:lnTo>
                                <a:pt x="1008" y="214"/>
                              </a:lnTo>
                              <a:lnTo>
                                <a:pt x="916" y="212"/>
                              </a:lnTo>
                              <a:lnTo>
                                <a:pt x="838" y="208"/>
                              </a:lnTo>
                              <a:lnTo>
                                <a:pt x="771" y="205"/>
                              </a:lnTo>
                              <a:lnTo>
                                <a:pt x="696" y="194"/>
                              </a:lnTo>
                              <a:lnTo>
                                <a:pt x="640" y="182"/>
                              </a:lnTo>
                              <a:lnTo>
                                <a:pt x="568" y="155"/>
                              </a:lnTo>
                              <a:lnTo>
                                <a:pt x="504" y="136"/>
                              </a:lnTo>
                              <a:lnTo>
                                <a:pt x="423" y="111"/>
                              </a:lnTo>
                              <a:lnTo>
                                <a:pt x="344" y="79"/>
                              </a:lnTo>
                              <a:lnTo>
                                <a:pt x="271" y="48"/>
                              </a:lnTo>
                              <a:lnTo>
                                <a:pt x="208" y="15"/>
                              </a:lnTo>
                              <a:lnTo>
                                <a:pt x="174" y="2"/>
                              </a:lnTo>
                              <a:lnTo>
                                <a:pt x="147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a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4" name=""/>
                        <p:cNvSpPr/>
                        <p:nvPr/>
                      </p:nvSpPr>
                      <p:spPr>
                        <a:xfrm>
                          <a:off x="3987720" y="971640"/>
                          <a:ext cx="279360" cy="4982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707" h="1254">
                              <a:moveTo>
                                <a:pt x="147" y="0"/>
                              </a:moveTo>
                              <a:lnTo>
                                <a:pt x="131" y="50"/>
                              </a:lnTo>
                              <a:lnTo>
                                <a:pt x="74" y="179"/>
                              </a:lnTo>
                              <a:lnTo>
                                <a:pt x="45" y="250"/>
                              </a:lnTo>
                              <a:lnTo>
                                <a:pt x="25" y="336"/>
                              </a:lnTo>
                              <a:lnTo>
                                <a:pt x="9" y="440"/>
                              </a:lnTo>
                              <a:lnTo>
                                <a:pt x="0" y="555"/>
                              </a:lnTo>
                              <a:lnTo>
                                <a:pt x="2" y="667"/>
                              </a:lnTo>
                              <a:lnTo>
                                <a:pt x="24" y="931"/>
                              </a:lnTo>
                              <a:lnTo>
                                <a:pt x="45" y="1085"/>
                              </a:lnTo>
                              <a:lnTo>
                                <a:pt x="56" y="1127"/>
                              </a:lnTo>
                              <a:lnTo>
                                <a:pt x="74" y="1164"/>
                              </a:lnTo>
                              <a:lnTo>
                                <a:pt x="96" y="1194"/>
                              </a:lnTo>
                              <a:lnTo>
                                <a:pt x="120" y="1215"/>
                              </a:lnTo>
                              <a:lnTo>
                                <a:pt x="146" y="1233"/>
                              </a:lnTo>
                              <a:lnTo>
                                <a:pt x="183" y="1245"/>
                              </a:lnTo>
                              <a:lnTo>
                                <a:pt x="227" y="1252"/>
                              </a:lnTo>
                              <a:lnTo>
                                <a:pt x="273" y="1254"/>
                              </a:lnTo>
                              <a:lnTo>
                                <a:pt x="331" y="1247"/>
                              </a:lnTo>
                              <a:lnTo>
                                <a:pt x="393" y="1233"/>
                              </a:lnTo>
                              <a:lnTo>
                                <a:pt x="520" y="1192"/>
                              </a:lnTo>
                              <a:lnTo>
                                <a:pt x="669" y="1143"/>
                              </a:lnTo>
                              <a:lnTo>
                                <a:pt x="683" y="1131"/>
                              </a:lnTo>
                              <a:lnTo>
                                <a:pt x="700" y="1109"/>
                              </a:lnTo>
                              <a:lnTo>
                                <a:pt x="704" y="1090"/>
                              </a:lnTo>
                              <a:lnTo>
                                <a:pt x="707" y="1062"/>
                              </a:lnTo>
                              <a:lnTo>
                                <a:pt x="694" y="1027"/>
                              </a:lnTo>
                              <a:lnTo>
                                <a:pt x="647" y="943"/>
                              </a:lnTo>
                              <a:lnTo>
                                <a:pt x="581" y="819"/>
                              </a:lnTo>
                              <a:lnTo>
                                <a:pt x="546" y="755"/>
                              </a:lnTo>
                              <a:lnTo>
                                <a:pt x="501" y="668"/>
                              </a:lnTo>
                              <a:lnTo>
                                <a:pt x="461" y="596"/>
                              </a:lnTo>
                              <a:lnTo>
                                <a:pt x="418" y="517"/>
                              </a:lnTo>
                              <a:lnTo>
                                <a:pt x="379" y="443"/>
                              </a:lnTo>
                              <a:lnTo>
                                <a:pt x="340" y="371"/>
                              </a:lnTo>
                              <a:lnTo>
                                <a:pt x="286" y="274"/>
                              </a:lnTo>
                              <a:lnTo>
                                <a:pt x="241" y="188"/>
                              </a:lnTo>
                              <a:lnTo>
                                <a:pt x="198" y="106"/>
                              </a:lnTo>
                              <a:lnTo>
                                <a:pt x="174" y="53"/>
                              </a:lnTo>
                              <a:lnTo>
                                <a:pt x="159" y="21"/>
                              </a:lnTo>
                              <a:lnTo>
                                <a:pt x="147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85" name=""/>
                    <p:cNvSpPr/>
                    <p:nvPr/>
                  </p:nvSpPr>
                  <p:spPr>
                    <a:xfrm>
                      <a:off x="4408560" y="704880"/>
                      <a:ext cx="114120" cy="96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5" h="244">
                          <a:moveTo>
                            <a:pt x="285" y="244"/>
                          </a:moveTo>
                          <a:lnTo>
                            <a:pt x="253" y="230"/>
                          </a:lnTo>
                          <a:lnTo>
                            <a:pt x="217" y="209"/>
                          </a:lnTo>
                          <a:lnTo>
                            <a:pt x="175" y="178"/>
                          </a:lnTo>
                          <a:lnTo>
                            <a:pt x="152" y="153"/>
                          </a:lnTo>
                          <a:lnTo>
                            <a:pt x="137" y="128"/>
                          </a:lnTo>
                          <a:lnTo>
                            <a:pt x="121" y="99"/>
                          </a:lnTo>
                          <a:lnTo>
                            <a:pt x="103" y="70"/>
                          </a:lnTo>
                          <a:lnTo>
                            <a:pt x="86" y="47"/>
                          </a:lnTo>
                          <a:lnTo>
                            <a:pt x="65" y="32"/>
                          </a:lnTo>
                          <a:lnTo>
                            <a:pt x="39" y="15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w="792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86" name=""/>
                  <p:cNvGrpSpPr/>
                  <p:nvPr/>
                </p:nvGrpSpPr>
                <p:grpSpPr>
                  <a:xfrm>
                    <a:off x="4713120" y="476280"/>
                    <a:ext cx="608040" cy="990720"/>
                    <a:chOff x="4713120" y="476280"/>
                    <a:chExt cx="608040" cy="990720"/>
                  </a:xfrm>
                </p:grpSpPr>
                <p:grpSp>
                  <p:nvGrpSpPr>
                    <p:cNvPr id="87" name=""/>
                    <p:cNvGrpSpPr/>
                    <p:nvPr/>
                  </p:nvGrpSpPr>
                  <p:grpSpPr>
                    <a:xfrm>
                      <a:off x="4713120" y="476280"/>
                      <a:ext cx="608040" cy="990720"/>
                      <a:chOff x="4713120" y="476280"/>
                      <a:chExt cx="608040" cy="990720"/>
                    </a:xfrm>
                  </p:grpSpPr>
                  <p:sp>
                    <p:nvSpPr>
                      <p:cNvPr id="88" name=""/>
                      <p:cNvSpPr/>
                      <p:nvPr/>
                    </p:nvSpPr>
                    <p:spPr>
                      <a:xfrm>
                        <a:off x="4713120" y="476280"/>
                        <a:ext cx="608040" cy="988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532" h="2491">
                            <a:moveTo>
                              <a:pt x="254" y="127"/>
                            </a:moveTo>
                            <a:lnTo>
                              <a:pt x="285" y="85"/>
                            </a:lnTo>
                            <a:lnTo>
                              <a:pt x="335" y="48"/>
                            </a:lnTo>
                            <a:lnTo>
                              <a:pt x="390" y="25"/>
                            </a:lnTo>
                            <a:lnTo>
                              <a:pt x="442" y="9"/>
                            </a:lnTo>
                            <a:lnTo>
                              <a:pt x="515" y="0"/>
                            </a:lnTo>
                            <a:lnTo>
                              <a:pt x="573" y="7"/>
                            </a:lnTo>
                            <a:lnTo>
                              <a:pt x="635" y="21"/>
                            </a:lnTo>
                            <a:lnTo>
                              <a:pt x="700" y="45"/>
                            </a:lnTo>
                            <a:lnTo>
                              <a:pt x="747" y="74"/>
                            </a:lnTo>
                            <a:lnTo>
                              <a:pt x="799" y="121"/>
                            </a:lnTo>
                            <a:lnTo>
                              <a:pt x="891" y="219"/>
                            </a:lnTo>
                            <a:lnTo>
                              <a:pt x="969" y="312"/>
                            </a:lnTo>
                            <a:lnTo>
                              <a:pt x="1045" y="419"/>
                            </a:lnTo>
                            <a:lnTo>
                              <a:pt x="1119" y="540"/>
                            </a:lnTo>
                            <a:lnTo>
                              <a:pt x="1176" y="652"/>
                            </a:lnTo>
                            <a:lnTo>
                              <a:pt x="1225" y="758"/>
                            </a:lnTo>
                            <a:lnTo>
                              <a:pt x="1259" y="852"/>
                            </a:lnTo>
                            <a:lnTo>
                              <a:pt x="1285" y="946"/>
                            </a:lnTo>
                            <a:lnTo>
                              <a:pt x="1316" y="1043"/>
                            </a:lnTo>
                            <a:lnTo>
                              <a:pt x="1348" y="1132"/>
                            </a:lnTo>
                            <a:lnTo>
                              <a:pt x="1402" y="1285"/>
                            </a:lnTo>
                            <a:lnTo>
                              <a:pt x="1459" y="1414"/>
                            </a:lnTo>
                            <a:lnTo>
                              <a:pt x="1487" y="1485"/>
                            </a:lnTo>
                            <a:lnTo>
                              <a:pt x="1507" y="1572"/>
                            </a:lnTo>
                            <a:lnTo>
                              <a:pt x="1523" y="1676"/>
                            </a:lnTo>
                            <a:lnTo>
                              <a:pt x="1532" y="1792"/>
                            </a:lnTo>
                            <a:lnTo>
                              <a:pt x="1530" y="1902"/>
                            </a:lnTo>
                            <a:lnTo>
                              <a:pt x="1509" y="2166"/>
                            </a:lnTo>
                            <a:lnTo>
                              <a:pt x="1487" y="2322"/>
                            </a:lnTo>
                            <a:lnTo>
                              <a:pt x="1476" y="2363"/>
                            </a:lnTo>
                            <a:lnTo>
                              <a:pt x="1459" y="2400"/>
                            </a:lnTo>
                            <a:lnTo>
                              <a:pt x="1436" y="2430"/>
                            </a:lnTo>
                            <a:lnTo>
                              <a:pt x="1412" y="2451"/>
                            </a:lnTo>
                            <a:lnTo>
                              <a:pt x="1386" y="2469"/>
                            </a:lnTo>
                            <a:lnTo>
                              <a:pt x="1348" y="2481"/>
                            </a:lnTo>
                            <a:lnTo>
                              <a:pt x="1304" y="2488"/>
                            </a:lnTo>
                            <a:lnTo>
                              <a:pt x="1258" y="2491"/>
                            </a:lnTo>
                            <a:lnTo>
                              <a:pt x="1200" y="2483"/>
                            </a:lnTo>
                            <a:lnTo>
                              <a:pt x="1139" y="2469"/>
                            </a:lnTo>
                            <a:lnTo>
                              <a:pt x="1012" y="2429"/>
                            </a:lnTo>
                            <a:lnTo>
                              <a:pt x="862" y="2379"/>
                            </a:lnTo>
                            <a:lnTo>
                              <a:pt x="791" y="2393"/>
                            </a:lnTo>
                            <a:lnTo>
                              <a:pt x="746" y="2399"/>
                            </a:lnTo>
                            <a:lnTo>
                              <a:pt x="692" y="2393"/>
                            </a:lnTo>
                            <a:lnTo>
                              <a:pt x="586" y="2372"/>
                            </a:lnTo>
                            <a:lnTo>
                              <a:pt x="451" y="2337"/>
                            </a:lnTo>
                            <a:lnTo>
                              <a:pt x="330" y="2300"/>
                            </a:lnTo>
                            <a:lnTo>
                              <a:pt x="252" y="2273"/>
                            </a:lnTo>
                            <a:lnTo>
                              <a:pt x="207" y="2253"/>
                            </a:lnTo>
                            <a:lnTo>
                              <a:pt x="164" y="2226"/>
                            </a:lnTo>
                            <a:lnTo>
                              <a:pt x="129" y="2185"/>
                            </a:lnTo>
                            <a:lnTo>
                              <a:pt x="103" y="2138"/>
                            </a:lnTo>
                            <a:lnTo>
                              <a:pt x="81" y="2082"/>
                            </a:lnTo>
                            <a:lnTo>
                              <a:pt x="61" y="2023"/>
                            </a:lnTo>
                            <a:lnTo>
                              <a:pt x="39" y="1931"/>
                            </a:lnTo>
                            <a:lnTo>
                              <a:pt x="27" y="1858"/>
                            </a:lnTo>
                            <a:lnTo>
                              <a:pt x="18" y="1783"/>
                            </a:lnTo>
                            <a:lnTo>
                              <a:pt x="4" y="1669"/>
                            </a:lnTo>
                            <a:lnTo>
                              <a:pt x="0" y="1593"/>
                            </a:lnTo>
                            <a:lnTo>
                              <a:pt x="11" y="1491"/>
                            </a:lnTo>
                            <a:lnTo>
                              <a:pt x="39" y="1343"/>
                            </a:lnTo>
                            <a:lnTo>
                              <a:pt x="68" y="1150"/>
                            </a:lnTo>
                            <a:lnTo>
                              <a:pt x="99" y="1010"/>
                            </a:lnTo>
                            <a:lnTo>
                              <a:pt x="121" y="952"/>
                            </a:lnTo>
                            <a:lnTo>
                              <a:pt x="147" y="899"/>
                            </a:lnTo>
                            <a:lnTo>
                              <a:pt x="169" y="845"/>
                            </a:lnTo>
                            <a:lnTo>
                              <a:pt x="183" y="802"/>
                            </a:lnTo>
                            <a:lnTo>
                              <a:pt x="195" y="723"/>
                            </a:lnTo>
                            <a:lnTo>
                              <a:pt x="173" y="612"/>
                            </a:lnTo>
                            <a:lnTo>
                              <a:pt x="170" y="543"/>
                            </a:lnTo>
                            <a:lnTo>
                              <a:pt x="176" y="474"/>
                            </a:lnTo>
                            <a:lnTo>
                              <a:pt x="186" y="386"/>
                            </a:lnTo>
                            <a:lnTo>
                              <a:pt x="207" y="269"/>
                            </a:lnTo>
                            <a:lnTo>
                              <a:pt x="228" y="185"/>
                            </a:lnTo>
                            <a:lnTo>
                              <a:pt x="254" y="127"/>
                            </a:lnTo>
                            <a:close/>
                          </a:path>
                        </a:pathLst>
                      </a:custGeom>
                      <a:solidFill>
                        <a:srgbClr val="8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89" name=""/>
                      <p:cNvGrpSpPr/>
                      <p:nvPr/>
                    </p:nvGrpSpPr>
                    <p:grpSpPr>
                      <a:xfrm>
                        <a:off x="4713120" y="968400"/>
                        <a:ext cx="608040" cy="498600"/>
                        <a:chOff x="4713120" y="968400"/>
                        <a:chExt cx="608040" cy="498600"/>
                      </a:xfrm>
                    </p:grpSpPr>
                    <p:sp>
                      <p:nvSpPr>
                        <p:cNvPr id="90" name=""/>
                        <p:cNvSpPr/>
                        <p:nvPr/>
                      </p:nvSpPr>
                      <p:spPr>
                        <a:xfrm>
                          <a:off x="4713120" y="968400"/>
                          <a:ext cx="608040" cy="4986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2" h="1254">
                              <a:moveTo>
                                <a:pt x="1385" y="0"/>
                              </a:moveTo>
                              <a:lnTo>
                                <a:pt x="1402" y="50"/>
                              </a:lnTo>
                              <a:lnTo>
                                <a:pt x="1459" y="179"/>
                              </a:lnTo>
                              <a:lnTo>
                                <a:pt x="1487" y="250"/>
                              </a:lnTo>
                              <a:lnTo>
                                <a:pt x="1508" y="335"/>
                              </a:lnTo>
                              <a:lnTo>
                                <a:pt x="1523" y="440"/>
                              </a:lnTo>
                              <a:lnTo>
                                <a:pt x="1532" y="555"/>
                              </a:lnTo>
                              <a:lnTo>
                                <a:pt x="1530" y="667"/>
                              </a:lnTo>
                              <a:lnTo>
                                <a:pt x="1509" y="931"/>
                              </a:lnTo>
                              <a:lnTo>
                                <a:pt x="1487" y="1085"/>
                              </a:lnTo>
                              <a:lnTo>
                                <a:pt x="1477" y="1127"/>
                              </a:lnTo>
                              <a:lnTo>
                                <a:pt x="1459" y="1164"/>
                              </a:lnTo>
                              <a:lnTo>
                                <a:pt x="1436" y="1193"/>
                              </a:lnTo>
                              <a:lnTo>
                                <a:pt x="1413" y="1215"/>
                              </a:lnTo>
                              <a:lnTo>
                                <a:pt x="1386" y="1233"/>
                              </a:lnTo>
                              <a:lnTo>
                                <a:pt x="1348" y="1245"/>
                              </a:lnTo>
                              <a:lnTo>
                                <a:pt x="1304" y="1252"/>
                              </a:lnTo>
                              <a:lnTo>
                                <a:pt x="1258" y="1254"/>
                              </a:lnTo>
                              <a:lnTo>
                                <a:pt x="1200" y="1247"/>
                              </a:lnTo>
                              <a:lnTo>
                                <a:pt x="1139" y="1233"/>
                              </a:lnTo>
                              <a:lnTo>
                                <a:pt x="1012" y="1192"/>
                              </a:lnTo>
                              <a:lnTo>
                                <a:pt x="863" y="1142"/>
                              </a:lnTo>
                              <a:lnTo>
                                <a:pt x="791" y="1157"/>
                              </a:lnTo>
                              <a:lnTo>
                                <a:pt x="746" y="1163"/>
                              </a:lnTo>
                              <a:lnTo>
                                <a:pt x="693" y="1157"/>
                              </a:lnTo>
                              <a:lnTo>
                                <a:pt x="586" y="1135"/>
                              </a:lnTo>
                              <a:lnTo>
                                <a:pt x="452" y="1101"/>
                              </a:lnTo>
                              <a:lnTo>
                                <a:pt x="330" y="1064"/>
                              </a:lnTo>
                              <a:lnTo>
                                <a:pt x="252" y="1037"/>
                              </a:lnTo>
                              <a:lnTo>
                                <a:pt x="207" y="1016"/>
                              </a:lnTo>
                              <a:lnTo>
                                <a:pt x="164" y="989"/>
                              </a:lnTo>
                              <a:lnTo>
                                <a:pt x="130" y="949"/>
                              </a:lnTo>
                              <a:lnTo>
                                <a:pt x="103" y="902"/>
                              </a:lnTo>
                              <a:lnTo>
                                <a:pt x="81" y="846"/>
                              </a:lnTo>
                              <a:lnTo>
                                <a:pt x="61" y="788"/>
                              </a:lnTo>
                              <a:lnTo>
                                <a:pt x="39" y="696"/>
                              </a:lnTo>
                              <a:lnTo>
                                <a:pt x="27" y="622"/>
                              </a:lnTo>
                              <a:lnTo>
                                <a:pt x="18" y="547"/>
                              </a:lnTo>
                              <a:lnTo>
                                <a:pt x="4" y="433"/>
                              </a:lnTo>
                              <a:lnTo>
                                <a:pt x="0" y="357"/>
                              </a:lnTo>
                              <a:lnTo>
                                <a:pt x="11" y="256"/>
                              </a:lnTo>
                              <a:lnTo>
                                <a:pt x="20" y="189"/>
                              </a:lnTo>
                              <a:lnTo>
                                <a:pt x="51" y="193"/>
                              </a:lnTo>
                              <a:lnTo>
                                <a:pt x="99" y="207"/>
                              </a:lnTo>
                              <a:lnTo>
                                <a:pt x="146" y="212"/>
                              </a:lnTo>
                              <a:lnTo>
                                <a:pt x="239" y="211"/>
                              </a:lnTo>
                              <a:lnTo>
                                <a:pt x="317" y="207"/>
                              </a:lnTo>
                              <a:lnTo>
                                <a:pt x="427" y="212"/>
                              </a:lnTo>
                              <a:lnTo>
                                <a:pt x="524" y="215"/>
                              </a:lnTo>
                              <a:lnTo>
                                <a:pt x="617" y="212"/>
                              </a:lnTo>
                              <a:lnTo>
                                <a:pt x="694" y="208"/>
                              </a:lnTo>
                              <a:lnTo>
                                <a:pt x="762" y="205"/>
                              </a:lnTo>
                              <a:lnTo>
                                <a:pt x="836" y="194"/>
                              </a:lnTo>
                              <a:lnTo>
                                <a:pt x="892" y="182"/>
                              </a:lnTo>
                              <a:lnTo>
                                <a:pt x="965" y="155"/>
                              </a:lnTo>
                              <a:lnTo>
                                <a:pt x="1029" y="136"/>
                              </a:lnTo>
                              <a:lnTo>
                                <a:pt x="1110" y="111"/>
                              </a:lnTo>
                              <a:lnTo>
                                <a:pt x="1188" y="79"/>
                              </a:lnTo>
                              <a:lnTo>
                                <a:pt x="1262" y="48"/>
                              </a:lnTo>
                              <a:lnTo>
                                <a:pt x="1325" y="15"/>
                              </a:lnTo>
                              <a:lnTo>
                                <a:pt x="1358" y="1"/>
                              </a:lnTo>
                              <a:lnTo>
                                <a:pt x="1385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a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91" name=""/>
                        <p:cNvSpPr/>
                        <p:nvPr/>
                      </p:nvSpPr>
                      <p:spPr>
                        <a:xfrm>
                          <a:off x="5040360" y="968400"/>
                          <a:ext cx="280800" cy="4986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706" h="1254">
                              <a:moveTo>
                                <a:pt x="559" y="0"/>
                              </a:moveTo>
                              <a:lnTo>
                                <a:pt x="576" y="50"/>
                              </a:lnTo>
                              <a:lnTo>
                                <a:pt x="633" y="179"/>
                              </a:lnTo>
                              <a:lnTo>
                                <a:pt x="661" y="250"/>
                              </a:lnTo>
                              <a:lnTo>
                                <a:pt x="682" y="335"/>
                              </a:lnTo>
                              <a:lnTo>
                                <a:pt x="697" y="440"/>
                              </a:lnTo>
                              <a:lnTo>
                                <a:pt x="706" y="555"/>
                              </a:lnTo>
                              <a:lnTo>
                                <a:pt x="704" y="667"/>
                              </a:lnTo>
                              <a:lnTo>
                                <a:pt x="683" y="931"/>
                              </a:lnTo>
                              <a:lnTo>
                                <a:pt x="661" y="1085"/>
                              </a:lnTo>
                              <a:lnTo>
                                <a:pt x="651" y="1127"/>
                              </a:lnTo>
                              <a:lnTo>
                                <a:pt x="633" y="1164"/>
                              </a:lnTo>
                              <a:lnTo>
                                <a:pt x="610" y="1193"/>
                              </a:lnTo>
                              <a:lnTo>
                                <a:pt x="587" y="1215"/>
                              </a:lnTo>
                              <a:lnTo>
                                <a:pt x="560" y="1233"/>
                              </a:lnTo>
                              <a:lnTo>
                                <a:pt x="524" y="1245"/>
                              </a:lnTo>
                              <a:lnTo>
                                <a:pt x="480" y="1252"/>
                              </a:lnTo>
                              <a:lnTo>
                                <a:pt x="433" y="1254"/>
                              </a:lnTo>
                              <a:lnTo>
                                <a:pt x="375" y="1247"/>
                              </a:lnTo>
                              <a:lnTo>
                                <a:pt x="313" y="1233"/>
                              </a:lnTo>
                              <a:lnTo>
                                <a:pt x="186" y="1192"/>
                              </a:lnTo>
                              <a:lnTo>
                                <a:pt x="38" y="1142"/>
                              </a:lnTo>
                              <a:lnTo>
                                <a:pt x="23" y="1130"/>
                              </a:lnTo>
                              <a:lnTo>
                                <a:pt x="7" y="1109"/>
                              </a:lnTo>
                              <a:lnTo>
                                <a:pt x="2" y="1090"/>
                              </a:lnTo>
                              <a:lnTo>
                                <a:pt x="0" y="1062"/>
                              </a:lnTo>
                              <a:lnTo>
                                <a:pt x="13" y="1027"/>
                              </a:lnTo>
                              <a:lnTo>
                                <a:pt x="59" y="943"/>
                              </a:lnTo>
                              <a:lnTo>
                                <a:pt x="126" y="819"/>
                              </a:lnTo>
                              <a:lnTo>
                                <a:pt x="160" y="755"/>
                              </a:lnTo>
                              <a:lnTo>
                                <a:pt x="205" y="668"/>
                              </a:lnTo>
                              <a:lnTo>
                                <a:pt x="246" y="596"/>
                              </a:lnTo>
                              <a:lnTo>
                                <a:pt x="288" y="517"/>
                              </a:lnTo>
                              <a:lnTo>
                                <a:pt x="328" y="442"/>
                              </a:lnTo>
                              <a:lnTo>
                                <a:pt x="367" y="371"/>
                              </a:lnTo>
                              <a:lnTo>
                                <a:pt x="420" y="274"/>
                              </a:lnTo>
                              <a:lnTo>
                                <a:pt x="465" y="188"/>
                              </a:lnTo>
                              <a:lnTo>
                                <a:pt x="508" y="106"/>
                              </a:lnTo>
                              <a:lnTo>
                                <a:pt x="532" y="53"/>
                              </a:lnTo>
                              <a:lnTo>
                                <a:pt x="547" y="21"/>
                              </a:lnTo>
                              <a:lnTo>
                                <a:pt x="559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92" name=""/>
                    <p:cNvSpPr/>
                    <p:nvPr/>
                  </p:nvSpPr>
                  <p:spPr>
                    <a:xfrm>
                      <a:off x="4788000" y="704880"/>
                      <a:ext cx="112680" cy="96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5" h="244">
                          <a:moveTo>
                            <a:pt x="0" y="244"/>
                          </a:moveTo>
                          <a:lnTo>
                            <a:pt x="32" y="230"/>
                          </a:lnTo>
                          <a:lnTo>
                            <a:pt x="67" y="209"/>
                          </a:lnTo>
                          <a:lnTo>
                            <a:pt x="110" y="178"/>
                          </a:lnTo>
                          <a:lnTo>
                            <a:pt x="133" y="153"/>
                          </a:lnTo>
                          <a:lnTo>
                            <a:pt x="148" y="128"/>
                          </a:lnTo>
                          <a:lnTo>
                            <a:pt x="164" y="99"/>
                          </a:lnTo>
                          <a:lnTo>
                            <a:pt x="181" y="70"/>
                          </a:lnTo>
                          <a:lnTo>
                            <a:pt x="199" y="47"/>
                          </a:lnTo>
                          <a:lnTo>
                            <a:pt x="219" y="32"/>
                          </a:lnTo>
                          <a:lnTo>
                            <a:pt x="246" y="15"/>
                          </a:lnTo>
                          <a:lnTo>
                            <a:pt x="285" y="0"/>
                          </a:lnTo>
                        </a:path>
                      </a:pathLst>
                    </a:custGeom>
                    <a:noFill/>
                    <a:ln w="792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93" name=""/>
                <p:cNvGrpSpPr/>
                <p:nvPr/>
              </p:nvGrpSpPr>
              <p:grpSpPr>
                <a:xfrm>
                  <a:off x="4038480" y="657360"/>
                  <a:ext cx="919440" cy="723600"/>
                  <a:chOff x="4038480" y="657360"/>
                  <a:chExt cx="919440" cy="723600"/>
                </a:xfrm>
              </p:grpSpPr>
              <p:grpSp>
                <p:nvGrpSpPr>
                  <p:cNvPr id="94" name=""/>
                  <p:cNvGrpSpPr/>
                  <p:nvPr/>
                </p:nvGrpSpPr>
                <p:grpSpPr>
                  <a:xfrm>
                    <a:off x="4038480" y="657360"/>
                    <a:ext cx="919440" cy="723600"/>
                    <a:chOff x="4038480" y="657360"/>
                    <a:chExt cx="919440" cy="723600"/>
                  </a:xfrm>
                </p:grpSpPr>
                <p:grpSp>
                  <p:nvGrpSpPr>
                    <p:cNvPr id="95" name=""/>
                    <p:cNvGrpSpPr/>
                    <p:nvPr/>
                  </p:nvGrpSpPr>
                  <p:grpSpPr>
                    <a:xfrm>
                      <a:off x="4170240" y="657360"/>
                      <a:ext cx="752760" cy="661680"/>
                      <a:chOff x="4170240" y="657360"/>
                      <a:chExt cx="752760" cy="661680"/>
                    </a:xfrm>
                  </p:grpSpPr>
                  <p:sp>
                    <p:nvSpPr>
                      <p:cNvPr id="96" name=""/>
                      <p:cNvSpPr/>
                      <p:nvPr/>
                    </p:nvSpPr>
                    <p:spPr>
                      <a:xfrm>
                        <a:off x="4170240" y="657360"/>
                        <a:ext cx="455760" cy="661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49" h="1668">
                            <a:moveTo>
                              <a:pt x="1149" y="0"/>
                            </a:moveTo>
                            <a:lnTo>
                              <a:pt x="1149" y="327"/>
                            </a:lnTo>
                            <a:lnTo>
                              <a:pt x="1139" y="361"/>
                            </a:lnTo>
                            <a:lnTo>
                              <a:pt x="1127" y="391"/>
                            </a:lnTo>
                            <a:lnTo>
                              <a:pt x="1112" y="420"/>
                            </a:lnTo>
                            <a:lnTo>
                              <a:pt x="1092" y="448"/>
                            </a:lnTo>
                            <a:lnTo>
                              <a:pt x="1064" y="464"/>
                            </a:lnTo>
                            <a:lnTo>
                              <a:pt x="1030" y="478"/>
                            </a:lnTo>
                            <a:lnTo>
                              <a:pt x="995" y="489"/>
                            </a:lnTo>
                            <a:lnTo>
                              <a:pt x="956" y="505"/>
                            </a:lnTo>
                            <a:lnTo>
                              <a:pt x="929" y="519"/>
                            </a:lnTo>
                            <a:lnTo>
                              <a:pt x="903" y="538"/>
                            </a:lnTo>
                            <a:lnTo>
                              <a:pt x="884" y="558"/>
                            </a:lnTo>
                            <a:lnTo>
                              <a:pt x="865" y="583"/>
                            </a:lnTo>
                            <a:lnTo>
                              <a:pt x="848" y="612"/>
                            </a:lnTo>
                            <a:lnTo>
                              <a:pt x="827" y="650"/>
                            </a:lnTo>
                            <a:lnTo>
                              <a:pt x="799" y="709"/>
                            </a:lnTo>
                            <a:lnTo>
                              <a:pt x="776" y="765"/>
                            </a:lnTo>
                            <a:lnTo>
                              <a:pt x="758" y="810"/>
                            </a:lnTo>
                            <a:lnTo>
                              <a:pt x="745" y="849"/>
                            </a:lnTo>
                            <a:lnTo>
                              <a:pt x="736" y="884"/>
                            </a:lnTo>
                            <a:lnTo>
                              <a:pt x="734" y="912"/>
                            </a:lnTo>
                            <a:lnTo>
                              <a:pt x="736" y="945"/>
                            </a:lnTo>
                            <a:lnTo>
                              <a:pt x="744" y="979"/>
                            </a:lnTo>
                            <a:lnTo>
                              <a:pt x="755" y="1022"/>
                            </a:lnTo>
                            <a:lnTo>
                              <a:pt x="758" y="1048"/>
                            </a:lnTo>
                            <a:lnTo>
                              <a:pt x="755" y="1084"/>
                            </a:lnTo>
                            <a:lnTo>
                              <a:pt x="752" y="1120"/>
                            </a:lnTo>
                            <a:lnTo>
                              <a:pt x="744" y="1157"/>
                            </a:lnTo>
                            <a:lnTo>
                              <a:pt x="733" y="1207"/>
                            </a:lnTo>
                            <a:lnTo>
                              <a:pt x="721" y="1249"/>
                            </a:lnTo>
                            <a:lnTo>
                              <a:pt x="707" y="1283"/>
                            </a:lnTo>
                            <a:lnTo>
                              <a:pt x="687" y="1321"/>
                            </a:lnTo>
                            <a:lnTo>
                              <a:pt x="675" y="1340"/>
                            </a:lnTo>
                            <a:lnTo>
                              <a:pt x="660" y="1358"/>
                            </a:lnTo>
                            <a:lnTo>
                              <a:pt x="640" y="1374"/>
                            </a:lnTo>
                            <a:lnTo>
                              <a:pt x="607" y="1394"/>
                            </a:lnTo>
                            <a:lnTo>
                              <a:pt x="570" y="1412"/>
                            </a:lnTo>
                            <a:lnTo>
                              <a:pt x="523" y="1431"/>
                            </a:lnTo>
                            <a:lnTo>
                              <a:pt x="467" y="1454"/>
                            </a:lnTo>
                            <a:lnTo>
                              <a:pt x="414" y="1478"/>
                            </a:lnTo>
                            <a:lnTo>
                              <a:pt x="343" y="1510"/>
                            </a:lnTo>
                            <a:lnTo>
                              <a:pt x="270" y="1545"/>
                            </a:lnTo>
                            <a:lnTo>
                              <a:pt x="183" y="1584"/>
                            </a:lnTo>
                            <a:lnTo>
                              <a:pt x="88" y="1628"/>
                            </a:lnTo>
                            <a:lnTo>
                              <a:pt x="0" y="1668"/>
                            </a:lnTo>
                          </a:path>
                        </a:pathLst>
                      </a:custGeom>
                      <a:noFill/>
                      <a:ln w="38160">
                        <a:solidFill>
                          <a:srgbClr val="e0e0e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7" name=""/>
                      <p:cNvSpPr/>
                      <p:nvPr/>
                    </p:nvSpPr>
                    <p:spPr>
                      <a:xfrm>
                        <a:off x="4629240" y="774720"/>
                        <a:ext cx="293760" cy="270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40" h="681">
                            <a:moveTo>
                              <a:pt x="0" y="0"/>
                            </a:moveTo>
                            <a:lnTo>
                              <a:pt x="21" y="46"/>
                            </a:lnTo>
                            <a:lnTo>
                              <a:pt x="50" y="93"/>
                            </a:lnTo>
                            <a:lnTo>
                              <a:pt x="66" y="118"/>
                            </a:lnTo>
                            <a:lnTo>
                              <a:pt x="88" y="144"/>
                            </a:lnTo>
                            <a:lnTo>
                              <a:pt x="114" y="167"/>
                            </a:lnTo>
                            <a:lnTo>
                              <a:pt x="148" y="189"/>
                            </a:lnTo>
                            <a:lnTo>
                              <a:pt x="185" y="207"/>
                            </a:lnTo>
                            <a:lnTo>
                              <a:pt x="216" y="219"/>
                            </a:lnTo>
                            <a:lnTo>
                              <a:pt x="243" y="226"/>
                            </a:lnTo>
                            <a:lnTo>
                              <a:pt x="274" y="232"/>
                            </a:lnTo>
                            <a:lnTo>
                              <a:pt x="313" y="236"/>
                            </a:lnTo>
                            <a:lnTo>
                              <a:pt x="345" y="239"/>
                            </a:lnTo>
                            <a:lnTo>
                              <a:pt x="374" y="242"/>
                            </a:lnTo>
                            <a:lnTo>
                              <a:pt x="405" y="249"/>
                            </a:lnTo>
                            <a:lnTo>
                              <a:pt x="425" y="257"/>
                            </a:lnTo>
                            <a:lnTo>
                              <a:pt x="448" y="270"/>
                            </a:lnTo>
                            <a:lnTo>
                              <a:pt x="469" y="285"/>
                            </a:lnTo>
                            <a:lnTo>
                              <a:pt x="490" y="306"/>
                            </a:lnTo>
                            <a:lnTo>
                              <a:pt x="505" y="329"/>
                            </a:lnTo>
                            <a:lnTo>
                              <a:pt x="519" y="356"/>
                            </a:lnTo>
                            <a:lnTo>
                              <a:pt x="532" y="384"/>
                            </a:lnTo>
                            <a:lnTo>
                              <a:pt x="547" y="419"/>
                            </a:lnTo>
                            <a:lnTo>
                              <a:pt x="571" y="476"/>
                            </a:lnTo>
                            <a:lnTo>
                              <a:pt x="595" y="526"/>
                            </a:lnTo>
                            <a:lnTo>
                              <a:pt x="622" y="582"/>
                            </a:lnTo>
                            <a:lnTo>
                              <a:pt x="635" y="607"/>
                            </a:lnTo>
                            <a:lnTo>
                              <a:pt x="653" y="634"/>
                            </a:lnTo>
                            <a:lnTo>
                              <a:pt x="670" y="656"/>
                            </a:lnTo>
                            <a:lnTo>
                              <a:pt x="684" y="669"/>
                            </a:lnTo>
                            <a:lnTo>
                              <a:pt x="699" y="677"/>
                            </a:lnTo>
                            <a:lnTo>
                              <a:pt x="717" y="681"/>
                            </a:lnTo>
                            <a:lnTo>
                              <a:pt x="740" y="680"/>
                            </a:lnTo>
                          </a:path>
                        </a:pathLst>
                      </a:custGeom>
                      <a:noFill/>
                      <a:ln w="38160">
                        <a:solidFill>
                          <a:srgbClr val="e0e0e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98" name=""/>
                    <p:cNvGrpSpPr/>
                    <p:nvPr/>
                  </p:nvGrpSpPr>
                  <p:grpSpPr>
                    <a:xfrm>
                      <a:off x="4038480" y="706320"/>
                      <a:ext cx="919440" cy="674640"/>
                      <a:chOff x="4038480" y="706320"/>
                      <a:chExt cx="919440" cy="674640"/>
                    </a:xfrm>
                  </p:grpSpPr>
                  <p:grpSp>
                    <p:nvGrpSpPr>
                      <p:cNvPr id="99" name=""/>
                      <p:cNvGrpSpPr/>
                      <p:nvPr/>
                    </p:nvGrpSpPr>
                    <p:grpSpPr>
                      <a:xfrm>
                        <a:off x="4834080" y="816120"/>
                        <a:ext cx="123840" cy="133200"/>
                        <a:chOff x="4834080" y="816120"/>
                        <a:chExt cx="123840" cy="133200"/>
                      </a:xfrm>
                    </p:grpSpPr>
                    <p:sp>
                      <p:nvSpPr>
                        <p:cNvPr id="100" name=""/>
                        <p:cNvSpPr/>
                        <p:nvPr/>
                      </p:nvSpPr>
                      <p:spPr>
                        <a:xfrm>
                          <a:off x="4834080" y="816120"/>
                          <a:ext cx="107640" cy="903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74" h="226">
                              <a:moveTo>
                                <a:pt x="0" y="226"/>
                              </a:moveTo>
                              <a:lnTo>
                                <a:pt x="39" y="212"/>
                              </a:lnTo>
                              <a:lnTo>
                                <a:pt x="75" y="195"/>
                              </a:lnTo>
                              <a:lnTo>
                                <a:pt x="124" y="168"/>
                              </a:lnTo>
                              <a:lnTo>
                                <a:pt x="157" y="143"/>
                              </a:lnTo>
                              <a:lnTo>
                                <a:pt x="185" y="115"/>
                              </a:lnTo>
                              <a:lnTo>
                                <a:pt x="217" y="75"/>
                              </a:lnTo>
                              <a:lnTo>
                                <a:pt x="248" y="36"/>
                              </a:lnTo>
                              <a:lnTo>
                                <a:pt x="274" y="0"/>
                              </a:lnTo>
                            </a:path>
                          </a:pathLst>
                        </a:custGeom>
                        <a:noFill/>
                        <a:ln w="38160">
                          <a:solidFill>
                            <a:srgbClr val="e0e0e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3560" bIns="435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01" name=""/>
                        <p:cNvSpPr/>
                        <p:nvPr/>
                      </p:nvSpPr>
                      <p:spPr>
                        <a:xfrm>
                          <a:off x="4854600" y="909720"/>
                          <a:ext cx="103320" cy="396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58" h="98">
                              <a:moveTo>
                                <a:pt x="0" y="98"/>
                              </a:moveTo>
                              <a:lnTo>
                                <a:pt x="16" y="85"/>
                              </a:lnTo>
                              <a:lnTo>
                                <a:pt x="34" y="73"/>
                              </a:lnTo>
                              <a:lnTo>
                                <a:pt x="53" y="64"/>
                              </a:lnTo>
                              <a:lnTo>
                                <a:pt x="80" y="59"/>
                              </a:lnTo>
                              <a:lnTo>
                                <a:pt x="105" y="55"/>
                              </a:lnTo>
                              <a:lnTo>
                                <a:pt x="135" y="52"/>
                              </a:lnTo>
                              <a:lnTo>
                                <a:pt x="169" y="45"/>
                              </a:lnTo>
                              <a:lnTo>
                                <a:pt x="198" y="38"/>
                              </a:lnTo>
                              <a:lnTo>
                                <a:pt x="223" y="28"/>
                              </a:lnTo>
                              <a:lnTo>
                                <a:pt x="242" y="16"/>
                              </a:lnTo>
                              <a:lnTo>
                                <a:pt x="258" y="0"/>
                              </a:lnTo>
                            </a:path>
                          </a:pathLst>
                        </a:custGeom>
                        <a:noFill/>
                        <a:ln w="15840">
                          <a:solidFill>
                            <a:srgbClr val="e0e0e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7200" bIns="-72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02" name=""/>
                      <p:cNvGrpSpPr/>
                      <p:nvPr/>
                    </p:nvGrpSpPr>
                    <p:grpSpPr>
                      <a:xfrm>
                        <a:off x="4038480" y="706320"/>
                        <a:ext cx="451080" cy="674640"/>
                        <a:chOff x="4038480" y="706320"/>
                        <a:chExt cx="451080" cy="674640"/>
                      </a:xfrm>
                    </p:grpSpPr>
                    <p:grpSp>
                      <p:nvGrpSpPr>
                        <p:cNvPr id="103" name=""/>
                        <p:cNvGrpSpPr/>
                        <p:nvPr/>
                      </p:nvGrpSpPr>
                      <p:grpSpPr>
                        <a:xfrm>
                          <a:off x="4286160" y="706320"/>
                          <a:ext cx="203400" cy="208080"/>
                          <a:chOff x="4286160" y="706320"/>
                          <a:chExt cx="203400" cy="208080"/>
                        </a:xfrm>
                      </p:grpSpPr>
                      <p:sp>
                        <p:nvSpPr>
                          <p:cNvPr id="104" name=""/>
                          <p:cNvSpPr/>
                          <p:nvPr/>
                        </p:nvSpPr>
                        <p:spPr>
                          <a:xfrm>
                            <a:off x="4378320" y="706320"/>
                            <a:ext cx="111240" cy="2080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82" h="527">
                                <a:moveTo>
                                  <a:pt x="24" y="0"/>
                                </a:moveTo>
                                <a:lnTo>
                                  <a:pt x="15" y="18"/>
                                </a:lnTo>
                                <a:lnTo>
                                  <a:pt x="8" y="40"/>
                                </a:lnTo>
                                <a:lnTo>
                                  <a:pt x="3" y="61"/>
                                </a:lnTo>
                                <a:lnTo>
                                  <a:pt x="0" y="85"/>
                                </a:lnTo>
                                <a:lnTo>
                                  <a:pt x="4" y="118"/>
                                </a:lnTo>
                                <a:lnTo>
                                  <a:pt x="8" y="152"/>
                                </a:lnTo>
                                <a:lnTo>
                                  <a:pt x="15" y="199"/>
                                </a:lnTo>
                                <a:lnTo>
                                  <a:pt x="22" y="234"/>
                                </a:lnTo>
                                <a:lnTo>
                                  <a:pt x="35" y="275"/>
                                </a:lnTo>
                                <a:lnTo>
                                  <a:pt x="49" y="316"/>
                                </a:lnTo>
                                <a:lnTo>
                                  <a:pt x="67" y="352"/>
                                </a:lnTo>
                                <a:lnTo>
                                  <a:pt x="93" y="391"/>
                                </a:lnTo>
                                <a:lnTo>
                                  <a:pt x="120" y="420"/>
                                </a:lnTo>
                                <a:lnTo>
                                  <a:pt x="161" y="453"/>
                                </a:lnTo>
                                <a:lnTo>
                                  <a:pt x="202" y="480"/>
                                </a:lnTo>
                                <a:lnTo>
                                  <a:pt x="243" y="505"/>
                                </a:lnTo>
                                <a:lnTo>
                                  <a:pt x="282" y="527"/>
                                </a:lnTo>
                              </a:path>
                            </a:pathLst>
                          </a:custGeom>
                          <a:noFill/>
                          <a:ln w="38160">
                            <a:solidFill>
                              <a:srgbClr val="e0e0e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05" name=""/>
                          <p:cNvSpPr/>
                          <p:nvPr/>
                        </p:nvSpPr>
                        <p:spPr>
                          <a:xfrm>
                            <a:off x="4286160" y="771480"/>
                            <a:ext cx="112680" cy="8892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84" h="224">
                                <a:moveTo>
                                  <a:pt x="0" y="0"/>
                                </a:moveTo>
                                <a:lnTo>
                                  <a:pt x="39" y="6"/>
                                </a:lnTo>
                                <a:lnTo>
                                  <a:pt x="69" y="15"/>
                                </a:lnTo>
                                <a:lnTo>
                                  <a:pt x="95" y="28"/>
                                </a:lnTo>
                                <a:lnTo>
                                  <a:pt x="123" y="47"/>
                                </a:lnTo>
                                <a:lnTo>
                                  <a:pt x="157" y="70"/>
                                </a:lnTo>
                                <a:lnTo>
                                  <a:pt x="187" y="95"/>
                                </a:lnTo>
                                <a:lnTo>
                                  <a:pt x="224" y="138"/>
                                </a:lnTo>
                                <a:lnTo>
                                  <a:pt x="284" y="211"/>
                                </a:lnTo>
                                <a:lnTo>
                                  <a:pt x="260" y="218"/>
                                </a:lnTo>
                                <a:lnTo>
                                  <a:pt x="221" y="221"/>
                                </a:lnTo>
                                <a:lnTo>
                                  <a:pt x="184" y="224"/>
                                </a:lnTo>
                                <a:lnTo>
                                  <a:pt x="145" y="218"/>
                                </a:lnTo>
                                <a:lnTo>
                                  <a:pt x="103" y="211"/>
                                </a:lnTo>
                                <a:lnTo>
                                  <a:pt x="71" y="204"/>
                                </a:lnTo>
                              </a:path>
                            </a:pathLst>
                          </a:custGeom>
                          <a:noFill/>
                          <a:ln w="22320">
                            <a:solidFill>
                              <a:srgbClr val="e0e0e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2120" bIns="421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106" name=""/>
                        <p:cNvGrpSpPr/>
                        <p:nvPr/>
                      </p:nvGrpSpPr>
                      <p:grpSpPr>
                        <a:xfrm>
                          <a:off x="4038480" y="1224000"/>
                          <a:ext cx="279360" cy="156960"/>
                          <a:chOff x="4038480" y="1224000"/>
                          <a:chExt cx="279360" cy="156960"/>
                        </a:xfrm>
                      </p:grpSpPr>
                      <p:sp>
                        <p:nvSpPr>
                          <p:cNvPr id="107" name=""/>
                          <p:cNvSpPr/>
                          <p:nvPr/>
                        </p:nvSpPr>
                        <p:spPr>
                          <a:xfrm>
                            <a:off x="4156200" y="1233360"/>
                            <a:ext cx="79200" cy="428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00" h="107">
                                <a:moveTo>
                                  <a:pt x="0" y="0"/>
                                </a:moveTo>
                                <a:lnTo>
                                  <a:pt x="46" y="13"/>
                                </a:lnTo>
                                <a:lnTo>
                                  <a:pt x="86" y="28"/>
                                </a:lnTo>
                                <a:lnTo>
                                  <a:pt x="121" y="45"/>
                                </a:lnTo>
                                <a:lnTo>
                                  <a:pt x="160" y="71"/>
                                </a:lnTo>
                                <a:lnTo>
                                  <a:pt x="200" y="107"/>
                                </a:lnTo>
                              </a:path>
                            </a:pathLst>
                          </a:custGeom>
                          <a:noFill/>
                          <a:ln w="38160">
                            <a:solidFill>
                              <a:srgbClr val="e0e0e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960" bIns="-39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grpSp>
                        <p:nvGrpSpPr>
                          <p:cNvPr id="108" name=""/>
                          <p:cNvGrpSpPr/>
                          <p:nvPr/>
                        </p:nvGrpSpPr>
                        <p:grpSpPr>
                          <a:xfrm>
                            <a:off x="4038480" y="1224000"/>
                            <a:ext cx="279360" cy="156960"/>
                            <a:chOff x="4038480" y="1224000"/>
                            <a:chExt cx="279360" cy="156960"/>
                          </a:xfrm>
                        </p:grpSpPr>
                        <p:sp>
                          <p:nvSpPr>
                            <p:cNvPr id="109" name=""/>
                            <p:cNvSpPr/>
                            <p:nvPr/>
                          </p:nvSpPr>
                          <p:spPr>
                            <a:xfrm>
                              <a:off x="4229280" y="1224000"/>
                              <a:ext cx="88560" cy="2052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225" h="55">
                                  <a:moveTo>
                                    <a:pt x="0" y="0"/>
                                  </a:moveTo>
                                  <a:lnTo>
                                    <a:pt x="36" y="21"/>
                                  </a:lnTo>
                                  <a:lnTo>
                                    <a:pt x="71" y="36"/>
                                  </a:lnTo>
                                  <a:lnTo>
                                    <a:pt x="104" y="46"/>
                                  </a:lnTo>
                                  <a:lnTo>
                                    <a:pt x="145" y="54"/>
                                  </a:lnTo>
                                  <a:lnTo>
                                    <a:pt x="185" y="55"/>
                                  </a:lnTo>
                                  <a:lnTo>
                                    <a:pt x="225" y="51"/>
                                  </a:lnTo>
                                </a:path>
                              </a:pathLst>
                            </a:custGeom>
                            <a:noFill/>
                            <a:ln w="15840">
                              <a:solidFill>
                                <a:srgbClr val="e0e0e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26280" bIns="-2628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10" name=""/>
                            <p:cNvSpPr/>
                            <p:nvPr/>
                          </p:nvSpPr>
                          <p:spPr>
                            <a:xfrm>
                              <a:off x="4237200" y="1284120"/>
                              <a:ext cx="29880" cy="5724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79" h="144">
                                  <a:moveTo>
                                    <a:pt x="79" y="0"/>
                                  </a:moveTo>
                                  <a:lnTo>
                                    <a:pt x="75" y="36"/>
                                  </a:lnTo>
                                  <a:lnTo>
                                    <a:pt x="63" y="69"/>
                                  </a:lnTo>
                                  <a:lnTo>
                                    <a:pt x="43" y="100"/>
                                  </a:lnTo>
                                  <a:lnTo>
                                    <a:pt x="20" y="129"/>
                                  </a:lnTo>
                                  <a:lnTo>
                                    <a:pt x="0" y="144"/>
                                  </a:lnTo>
                                </a:path>
                              </a:pathLst>
                            </a:custGeom>
                            <a:noFill/>
                            <a:ln w="15840">
                              <a:solidFill>
                                <a:srgbClr val="e0e0e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10440" bIns="1044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11" name=""/>
                            <p:cNvSpPr/>
                            <p:nvPr/>
                          </p:nvSpPr>
                          <p:spPr>
                            <a:xfrm>
                              <a:off x="4038480" y="1314360"/>
                              <a:ext cx="123840" cy="1296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314" h="31">
                                  <a:moveTo>
                                    <a:pt x="314" y="4"/>
                                  </a:moveTo>
                                  <a:lnTo>
                                    <a:pt x="271" y="15"/>
                                  </a:lnTo>
                                  <a:lnTo>
                                    <a:pt x="221" y="25"/>
                                  </a:lnTo>
                                  <a:lnTo>
                                    <a:pt x="170" y="31"/>
                                  </a:lnTo>
                                  <a:lnTo>
                                    <a:pt x="126" y="29"/>
                                  </a:lnTo>
                                  <a:lnTo>
                                    <a:pt x="75" y="22"/>
                                  </a:lnTo>
                                  <a:lnTo>
                                    <a:pt x="40" y="13"/>
                                  </a:lnTo>
                                  <a:lnTo>
                                    <a:pt x="0" y="0"/>
                                  </a:lnTo>
                                </a:path>
                              </a:pathLst>
                            </a:custGeom>
                            <a:noFill/>
                            <a:ln w="15840">
                              <a:solidFill>
                                <a:srgbClr val="e0e0e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33840" bIns="-3384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12" name=""/>
                            <p:cNvSpPr/>
                            <p:nvPr/>
                          </p:nvSpPr>
                          <p:spPr>
                            <a:xfrm>
                              <a:off x="4068720" y="1325520"/>
                              <a:ext cx="104760" cy="5544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266" h="139">
                                  <a:moveTo>
                                    <a:pt x="266" y="0"/>
                                  </a:moveTo>
                                  <a:lnTo>
                                    <a:pt x="239" y="21"/>
                                  </a:lnTo>
                                  <a:lnTo>
                                    <a:pt x="206" y="46"/>
                                  </a:lnTo>
                                  <a:lnTo>
                                    <a:pt x="166" y="72"/>
                                  </a:lnTo>
                                  <a:lnTo>
                                    <a:pt x="131" y="96"/>
                                  </a:lnTo>
                                  <a:lnTo>
                                    <a:pt x="96" y="114"/>
                                  </a:lnTo>
                                  <a:lnTo>
                                    <a:pt x="62" y="126"/>
                                  </a:lnTo>
                                  <a:lnTo>
                                    <a:pt x="36" y="133"/>
                                  </a:lnTo>
                                  <a:lnTo>
                                    <a:pt x="0" y="139"/>
                                  </a:lnTo>
                                </a:path>
                              </a:pathLst>
                            </a:custGeom>
                            <a:noFill/>
                            <a:ln w="15840">
                              <a:solidFill>
                                <a:srgbClr val="e0e0e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8640" bIns="864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</p:grpSp>
                </p:grpSp>
              </p:grpSp>
              <p:grpSp>
                <p:nvGrpSpPr>
                  <p:cNvPr id="113" name=""/>
                  <p:cNvGrpSpPr/>
                  <p:nvPr/>
                </p:nvGrpSpPr>
                <p:grpSpPr>
                  <a:xfrm>
                    <a:off x="4527720" y="657360"/>
                    <a:ext cx="255240" cy="254520"/>
                    <a:chOff x="4527720" y="657360"/>
                    <a:chExt cx="255240" cy="254520"/>
                  </a:xfrm>
                </p:grpSpPr>
                <p:grpSp>
                  <p:nvGrpSpPr>
                    <p:cNvPr id="114" name=""/>
                    <p:cNvGrpSpPr/>
                    <p:nvPr/>
                  </p:nvGrpSpPr>
                  <p:grpSpPr>
                    <a:xfrm>
                      <a:off x="4603680" y="657360"/>
                      <a:ext cx="55440" cy="147240"/>
                      <a:chOff x="4603680" y="657360"/>
                      <a:chExt cx="55440" cy="147240"/>
                    </a:xfrm>
                  </p:grpSpPr>
                  <p:sp>
                    <p:nvSpPr>
                      <p:cNvPr id="115" name=""/>
                      <p:cNvSpPr/>
                      <p:nvPr/>
                    </p:nvSpPr>
                    <p:spPr>
                      <a:xfrm>
                        <a:off x="4606920" y="657360"/>
                        <a:ext cx="37800" cy="24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stroke="0" w="21600" h="21600">
                            <a:moveTo>
                              <a:pt x="21600" y="10800"/>
                            </a:moveTo>
                            <a:arcTo wR="10800" hR="10800" stAng="0" swAng="10405084"/>
                            <a:lnTo>
                              <a:pt x="10800" y="10800"/>
                            </a:lnTo>
                            <a:close/>
                          </a:path>
                          <a:path fill="none" w="21600" h="21600">
                            <a:moveTo>
                              <a:pt x="21600" y="10800"/>
                            </a:moveTo>
                            <a:arcTo wR="10800" hR="10800" stAng="0" swAng="10405084"/>
                          </a:path>
                        </a:pathLst>
                      </a:custGeom>
                      <a:noFill/>
                      <a:ln w="32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1960" bIns="-219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6" name=""/>
                      <p:cNvSpPr/>
                      <p:nvPr/>
                    </p:nvSpPr>
                    <p:spPr>
                      <a:xfrm>
                        <a:off x="4606920" y="687600"/>
                        <a:ext cx="39240" cy="24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stroke="0" w="21600" h="21600">
                            <a:moveTo>
                              <a:pt x="21497" y="9314"/>
                            </a:moveTo>
                            <a:arcTo wR="10800" hR="10800" stAng="-474430" swAng="11274430"/>
                            <a:lnTo>
                              <a:pt x="10800" y="10800"/>
                            </a:lnTo>
                            <a:close/>
                          </a:path>
                          <a:path fill="none" w="21600" h="21600">
                            <a:moveTo>
                              <a:pt x="21497" y="9314"/>
                            </a:moveTo>
                            <a:arcTo wR="10800" hR="10800" stAng="-474430" swAng="11274430"/>
                          </a:path>
                        </a:pathLst>
                      </a:custGeom>
                      <a:noFill/>
                      <a:ln w="32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1960" bIns="-219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7" name=""/>
                      <p:cNvSpPr/>
                      <p:nvPr/>
                    </p:nvSpPr>
                    <p:spPr>
                      <a:xfrm>
                        <a:off x="4606920" y="717120"/>
                        <a:ext cx="37800" cy="255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stroke="0" w="21600" h="21600">
                            <a:moveTo>
                              <a:pt x="21600" y="10800"/>
                            </a:moveTo>
                            <a:arcTo wR="10800" hR="10800" stAng="0" swAng="10800000"/>
                            <a:lnTo>
                              <a:pt x="10800" y="10800"/>
                            </a:lnTo>
                            <a:close/>
                          </a:path>
                          <a:path fill="none" w="21600" h="21600">
                            <a:moveTo>
                              <a:pt x="21600" y="10800"/>
                            </a:moveTo>
                            <a:arcTo wR="10800" hR="10800" stAng="0" swAng="10800000"/>
                          </a:path>
                        </a:pathLst>
                      </a:custGeom>
                      <a:noFill/>
                      <a:ln w="32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1240" bIns="-212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8" name=""/>
                      <p:cNvSpPr/>
                      <p:nvPr/>
                    </p:nvSpPr>
                    <p:spPr>
                      <a:xfrm>
                        <a:off x="4606920" y="752400"/>
                        <a:ext cx="37800" cy="219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stroke="0" w="21600" h="21600">
                            <a:moveTo>
                              <a:pt x="21519" y="9481"/>
                            </a:moveTo>
                            <a:arcTo wR="10800" hR="10800" stAng="-420990" swAng="11220990"/>
                            <a:lnTo>
                              <a:pt x="10800" y="10800"/>
                            </a:lnTo>
                            <a:close/>
                          </a:path>
                          <a:path fill="none" w="21600" h="21600">
                            <a:moveTo>
                              <a:pt x="21519" y="9481"/>
                            </a:moveTo>
                            <a:arcTo wR="10800" hR="10800" stAng="-420990" swAng="11220990"/>
                          </a:path>
                        </a:pathLst>
                      </a:custGeom>
                      <a:noFill/>
                      <a:ln w="32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4840" bIns="-248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9" name=""/>
                      <p:cNvSpPr/>
                      <p:nvPr/>
                    </p:nvSpPr>
                    <p:spPr>
                      <a:xfrm>
                        <a:off x="4603680" y="782280"/>
                        <a:ext cx="55440" cy="22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stroke="0" w="21600" h="21600">
                            <a:moveTo>
                              <a:pt x="21510" y="9412"/>
                            </a:moveTo>
                            <a:arcTo wR="10800" hR="10800" stAng="-443163" swAng="11243163"/>
                            <a:lnTo>
                              <a:pt x="10800" y="10800"/>
                            </a:lnTo>
                            <a:close/>
                          </a:path>
                          <a:path fill="none" w="21600" h="21600">
                            <a:moveTo>
                              <a:pt x="21510" y="9412"/>
                            </a:moveTo>
                            <a:arcTo wR="10800" hR="10800" stAng="-443163" swAng="11243163"/>
                          </a:path>
                        </a:pathLst>
                      </a:custGeom>
                      <a:noFill/>
                      <a:ln w="32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4480" bIns="-24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20" name=""/>
                    <p:cNvGrpSpPr/>
                    <p:nvPr/>
                  </p:nvGrpSpPr>
                  <p:grpSpPr>
                    <a:xfrm>
                      <a:off x="4527720" y="817560"/>
                      <a:ext cx="86760" cy="71280"/>
                      <a:chOff x="4527720" y="817560"/>
                      <a:chExt cx="86760" cy="71280"/>
                    </a:xfrm>
                  </p:grpSpPr>
                  <p:sp>
                    <p:nvSpPr>
                      <p:cNvPr id="121" name=""/>
                      <p:cNvSpPr/>
                      <p:nvPr/>
                    </p:nvSpPr>
                    <p:spPr>
                      <a:xfrm>
                        <a:off x="4570560" y="817560"/>
                        <a:ext cx="43920" cy="54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stroke="0" w="21600" h="21600">
                            <a:moveTo>
                              <a:pt x="10800" y="0"/>
                            </a:moveTo>
                            <a:arcTo wR="10800" hR="10800" stAng="-5400000" swAng="5961179"/>
                            <a:lnTo>
                              <a:pt x="10800" y="10800"/>
                            </a:lnTo>
                            <a:close/>
                          </a:path>
                          <a:path fill="none" w="21600" h="21600">
                            <a:moveTo>
                              <a:pt x="10800" y="0"/>
                            </a:moveTo>
                            <a:arcTo wR="10800" hR="10800" stAng="-5400000" swAng="5961179"/>
                          </a:path>
                        </a:pathLst>
                      </a:custGeom>
                      <a:noFill/>
                      <a:ln w="32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7200" bIns="72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2" name=""/>
                      <p:cNvSpPr/>
                      <p:nvPr/>
                    </p:nvSpPr>
                    <p:spPr>
                      <a:xfrm>
                        <a:off x="4557960" y="825480"/>
                        <a:ext cx="43920" cy="54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stroke="0" w="21600" h="21600">
                            <a:moveTo>
                              <a:pt x="10800" y="0"/>
                            </a:moveTo>
                            <a:arcTo wR="10800" hR="10800" stAng="-5400000" swAng="5961179"/>
                            <a:lnTo>
                              <a:pt x="10800" y="10800"/>
                            </a:lnTo>
                            <a:close/>
                          </a:path>
                          <a:path fill="none" w="21600" h="21600">
                            <a:moveTo>
                              <a:pt x="10800" y="0"/>
                            </a:moveTo>
                            <a:arcTo wR="10800" hR="10800" stAng="-5400000" swAng="5961179"/>
                          </a:path>
                        </a:pathLst>
                      </a:custGeom>
                      <a:noFill/>
                      <a:ln w="32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7200" bIns="72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3" name=""/>
                      <p:cNvSpPr/>
                      <p:nvPr/>
                    </p:nvSpPr>
                    <p:spPr>
                      <a:xfrm>
                        <a:off x="4543560" y="830160"/>
                        <a:ext cx="43920" cy="53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stroke="0" w="21600" h="21600">
                            <a:moveTo>
                              <a:pt x="10091" y="23"/>
                            </a:moveTo>
                            <a:arcTo wR="10800" hR="10800" stAng="-5625842" swAng="6017031"/>
                            <a:lnTo>
                              <a:pt x="10800" y="10800"/>
                            </a:lnTo>
                            <a:close/>
                          </a:path>
                          <a:path fill="none" w="21600" h="21600">
                            <a:moveTo>
                              <a:pt x="10091" y="23"/>
                            </a:moveTo>
                            <a:arcTo wR="10800" hR="10800" stAng="-5625842" swAng="6017031"/>
                          </a:path>
                        </a:pathLst>
                      </a:custGeom>
                      <a:noFill/>
                      <a:ln w="32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6840" bIns="68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4" name=""/>
                      <p:cNvSpPr/>
                      <p:nvPr/>
                    </p:nvSpPr>
                    <p:spPr>
                      <a:xfrm>
                        <a:off x="4527720" y="838080"/>
                        <a:ext cx="43920" cy="50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stroke="0" w="21600" h="21600">
                            <a:moveTo>
                              <a:pt x="10800" y="0"/>
                            </a:moveTo>
                            <a:arcTo wR="10800" hR="10800" stAng="-5400000" swAng="6018290"/>
                            <a:lnTo>
                              <a:pt x="10800" y="10800"/>
                            </a:lnTo>
                            <a:close/>
                          </a:path>
                          <a:path fill="none" w="21600" h="21600">
                            <a:moveTo>
                              <a:pt x="10800" y="0"/>
                            </a:moveTo>
                            <a:arcTo wR="10800" hR="10800" stAng="-5400000" swAng="6018290"/>
                          </a:path>
                        </a:pathLst>
                      </a:custGeom>
                      <a:noFill/>
                      <a:ln w="32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960" bIns="39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25" name=""/>
                    <p:cNvGrpSpPr/>
                    <p:nvPr/>
                  </p:nvGrpSpPr>
                  <p:grpSpPr>
                    <a:xfrm>
                      <a:off x="4645080" y="819000"/>
                      <a:ext cx="137880" cy="92880"/>
                      <a:chOff x="4645080" y="819000"/>
                      <a:chExt cx="137880" cy="92880"/>
                    </a:xfrm>
                  </p:grpSpPr>
                  <p:sp>
                    <p:nvSpPr>
                      <p:cNvPr id="126" name=""/>
                      <p:cNvSpPr/>
                      <p:nvPr/>
                    </p:nvSpPr>
                    <p:spPr>
                      <a:xfrm>
                        <a:off x="4645080" y="819000"/>
                        <a:ext cx="46080" cy="37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stroke="0" w="21600" h="21600">
                            <a:moveTo>
                              <a:pt x="33" y="9952"/>
                            </a:moveTo>
                            <a:arcTo wR="10800" hR="10800" stAng="-10529649" swAng="7776148"/>
                            <a:lnTo>
                              <a:pt x="10800" y="10800"/>
                            </a:lnTo>
                            <a:close/>
                          </a:path>
                          <a:path fill="none" w="21600" h="21600">
                            <a:moveTo>
                              <a:pt x="33" y="9952"/>
                            </a:moveTo>
                            <a:arcTo wR="10800" hR="10800" stAng="-10529649" swAng="7776148"/>
                          </a:path>
                        </a:pathLst>
                      </a:custGeom>
                      <a:noFill/>
                      <a:ln w="32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9000" bIns="-9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7" name=""/>
                      <p:cNvSpPr/>
                      <p:nvPr/>
                    </p:nvSpPr>
                    <p:spPr>
                      <a:xfrm>
                        <a:off x="4657680" y="831960"/>
                        <a:ext cx="52200" cy="37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stroke="0" w="21600" h="21600">
                            <a:moveTo>
                              <a:pt x="0" y="10800"/>
                            </a:moveTo>
                            <a:arcTo wR="10800" hR="10800" stAng="10800000" swAng="7492520"/>
                            <a:lnTo>
                              <a:pt x="10800" y="10800"/>
                            </a:lnTo>
                            <a:close/>
                          </a:path>
                          <a:path fill="none" w="21600" h="21600">
                            <a:moveTo>
                              <a:pt x="0" y="10800"/>
                            </a:moveTo>
                            <a:arcTo wR="10800" hR="10800" stAng="10800000" swAng="7492520"/>
                          </a:path>
                        </a:pathLst>
                      </a:custGeom>
                      <a:noFill/>
                      <a:ln w="32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9360" bIns="-93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8" name=""/>
                      <p:cNvSpPr/>
                      <p:nvPr/>
                    </p:nvSpPr>
                    <p:spPr>
                      <a:xfrm>
                        <a:off x="4676760" y="843120"/>
                        <a:ext cx="66960" cy="50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stroke="0" w="21600" h="21600">
                            <a:moveTo>
                              <a:pt x="76" y="9520"/>
                            </a:moveTo>
                            <a:arcTo wR="10800" hR="10800" stAng="-10391744" swAng="6465775"/>
                            <a:lnTo>
                              <a:pt x="10800" y="10800"/>
                            </a:lnTo>
                            <a:close/>
                          </a:path>
                          <a:path fill="none" w="21600" h="21600">
                            <a:moveTo>
                              <a:pt x="76" y="9520"/>
                            </a:moveTo>
                            <a:arcTo wR="10800" hR="10800" stAng="-10391744" swAng="6465775"/>
                          </a:path>
                        </a:pathLst>
                      </a:custGeom>
                      <a:noFill/>
                      <a:ln w="32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240" bIns="32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9" name=""/>
                      <p:cNvSpPr/>
                      <p:nvPr/>
                    </p:nvSpPr>
                    <p:spPr>
                      <a:xfrm>
                        <a:off x="4704840" y="849240"/>
                        <a:ext cx="78120" cy="62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stroke="0" w="21600" h="21600">
                            <a:moveTo>
                              <a:pt x="112" y="9251"/>
                            </a:moveTo>
                            <a:arcTo wR="10800" hR="10800" stAng="-10305076" swAng="6268817"/>
                            <a:lnTo>
                              <a:pt x="10800" y="10800"/>
                            </a:lnTo>
                            <a:close/>
                          </a:path>
                          <a:path fill="none" w="21600" h="21600">
                            <a:moveTo>
                              <a:pt x="112" y="9251"/>
                            </a:moveTo>
                            <a:arcTo wR="10800" hR="10800" stAng="-10305076" swAng="6268817"/>
                          </a:path>
                        </a:pathLst>
                      </a:custGeom>
                      <a:noFill/>
                      <a:ln w="32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5840" bIns="158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</p:grpSp>
          <p:grpSp>
            <p:nvGrpSpPr>
              <p:cNvPr id="130" name=""/>
              <p:cNvGrpSpPr/>
              <p:nvPr/>
            </p:nvGrpSpPr>
            <p:grpSpPr>
              <a:xfrm>
                <a:off x="4000680" y="614520"/>
                <a:ext cx="1182600" cy="826920"/>
                <a:chOff x="4000680" y="614520"/>
                <a:chExt cx="1182600" cy="826920"/>
              </a:xfrm>
            </p:grpSpPr>
            <p:grpSp>
              <p:nvGrpSpPr>
                <p:cNvPr id="131" name=""/>
                <p:cNvGrpSpPr/>
                <p:nvPr/>
              </p:nvGrpSpPr>
              <p:grpSpPr>
                <a:xfrm>
                  <a:off x="4732200" y="614520"/>
                  <a:ext cx="451080" cy="574560"/>
                  <a:chOff x="4732200" y="614520"/>
                  <a:chExt cx="451080" cy="574560"/>
                </a:xfrm>
              </p:grpSpPr>
              <p:grpSp>
                <p:nvGrpSpPr>
                  <p:cNvPr id="132" name=""/>
                  <p:cNvGrpSpPr/>
                  <p:nvPr/>
                </p:nvGrpSpPr>
                <p:grpSpPr>
                  <a:xfrm>
                    <a:off x="5035680" y="614520"/>
                    <a:ext cx="147600" cy="183960"/>
                    <a:chOff x="5035680" y="614520"/>
                    <a:chExt cx="147600" cy="183960"/>
                  </a:xfrm>
                </p:grpSpPr>
                <p:sp>
                  <p:nvSpPr>
                    <p:cNvPr id="133" name=""/>
                    <p:cNvSpPr/>
                    <p:nvPr/>
                  </p:nvSpPr>
                  <p:spPr>
                    <a:xfrm>
                      <a:off x="5081760" y="614520"/>
                      <a:ext cx="18720" cy="18720"/>
                    </a:xfrm>
                    <a:prstGeom prst="ellipse">
                      <a:avLst/>
                    </a:prstGeom>
                    <a:solidFill>
                      <a:srgbClr val="4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120" bIns="-33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4" name=""/>
                    <p:cNvSpPr/>
                    <p:nvPr/>
                  </p:nvSpPr>
                  <p:spPr>
                    <a:xfrm>
                      <a:off x="5089680" y="649440"/>
                      <a:ext cx="18720" cy="18720"/>
                    </a:xfrm>
                    <a:prstGeom prst="ellipse">
                      <a:avLst/>
                    </a:prstGeom>
                    <a:solidFill>
                      <a:srgbClr val="4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120" bIns="-33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5" name=""/>
                    <p:cNvSpPr/>
                    <p:nvPr/>
                  </p:nvSpPr>
                  <p:spPr>
                    <a:xfrm>
                      <a:off x="5040360" y="633240"/>
                      <a:ext cx="19080" cy="20880"/>
                    </a:xfrm>
                    <a:prstGeom prst="ellipse">
                      <a:avLst/>
                    </a:prstGeom>
                    <a:solidFill>
                      <a:srgbClr val="4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1680" bIns="-31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6" name=""/>
                    <p:cNvSpPr/>
                    <p:nvPr/>
                  </p:nvSpPr>
                  <p:spPr>
                    <a:xfrm>
                      <a:off x="5035680" y="676440"/>
                      <a:ext cx="19080" cy="18720"/>
                    </a:xfrm>
                    <a:prstGeom prst="ellipse">
                      <a:avLst/>
                    </a:prstGeom>
                    <a:solidFill>
                      <a:srgbClr val="4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120" bIns="-33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7" name=""/>
                    <p:cNvSpPr/>
                    <p:nvPr/>
                  </p:nvSpPr>
                  <p:spPr>
                    <a:xfrm>
                      <a:off x="5122800" y="692280"/>
                      <a:ext cx="19080" cy="19080"/>
                    </a:xfrm>
                    <a:prstGeom prst="ellipse">
                      <a:avLst/>
                    </a:prstGeom>
                    <a:solidFill>
                      <a:srgbClr val="4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760" bIns="-32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8" name=""/>
                    <p:cNvSpPr/>
                    <p:nvPr/>
                  </p:nvSpPr>
                  <p:spPr>
                    <a:xfrm>
                      <a:off x="5081760" y="692280"/>
                      <a:ext cx="18720" cy="19080"/>
                    </a:xfrm>
                    <a:prstGeom prst="ellipse">
                      <a:avLst/>
                    </a:prstGeom>
                    <a:solidFill>
                      <a:srgbClr val="4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760" bIns="-32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9" name=""/>
                    <p:cNvSpPr/>
                    <p:nvPr/>
                  </p:nvSpPr>
                  <p:spPr>
                    <a:xfrm>
                      <a:off x="5056200" y="692280"/>
                      <a:ext cx="19080" cy="19080"/>
                    </a:xfrm>
                    <a:prstGeom prst="ellipse">
                      <a:avLst/>
                    </a:prstGeom>
                    <a:solidFill>
                      <a:srgbClr val="4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760" bIns="-32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0" name=""/>
                    <p:cNvSpPr/>
                    <p:nvPr/>
                  </p:nvSpPr>
                  <p:spPr>
                    <a:xfrm>
                      <a:off x="5037120" y="706320"/>
                      <a:ext cx="20520" cy="19080"/>
                    </a:xfrm>
                    <a:prstGeom prst="ellipse">
                      <a:avLst/>
                    </a:prstGeom>
                    <a:solidFill>
                      <a:srgbClr val="4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760" bIns="-32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1" name=""/>
                    <p:cNvSpPr/>
                    <p:nvPr/>
                  </p:nvSpPr>
                  <p:spPr>
                    <a:xfrm>
                      <a:off x="5149800" y="727200"/>
                      <a:ext cx="19080" cy="19080"/>
                    </a:xfrm>
                    <a:prstGeom prst="ellipse">
                      <a:avLst/>
                    </a:prstGeom>
                    <a:solidFill>
                      <a:srgbClr val="4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760" bIns="-32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2" name=""/>
                    <p:cNvSpPr/>
                    <p:nvPr/>
                  </p:nvSpPr>
                  <p:spPr>
                    <a:xfrm>
                      <a:off x="5099040" y="744480"/>
                      <a:ext cx="19080" cy="20520"/>
                    </a:xfrm>
                    <a:prstGeom prst="ellipse">
                      <a:avLst/>
                    </a:prstGeom>
                    <a:solidFill>
                      <a:srgbClr val="4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040" bIns="-32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3" name=""/>
                    <p:cNvSpPr/>
                    <p:nvPr/>
                  </p:nvSpPr>
                  <p:spPr>
                    <a:xfrm>
                      <a:off x="5122800" y="754200"/>
                      <a:ext cx="19080" cy="19080"/>
                    </a:xfrm>
                    <a:prstGeom prst="ellipse">
                      <a:avLst/>
                    </a:prstGeom>
                    <a:solidFill>
                      <a:srgbClr val="4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760" bIns="-32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4" name=""/>
                    <p:cNvSpPr/>
                    <p:nvPr/>
                  </p:nvSpPr>
                  <p:spPr>
                    <a:xfrm>
                      <a:off x="5049720" y="752400"/>
                      <a:ext cx="20880" cy="19080"/>
                    </a:xfrm>
                    <a:prstGeom prst="ellipse">
                      <a:avLst/>
                    </a:prstGeom>
                    <a:solidFill>
                      <a:srgbClr val="4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760" bIns="-32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5" name=""/>
                    <p:cNvSpPr/>
                    <p:nvPr/>
                  </p:nvSpPr>
                  <p:spPr>
                    <a:xfrm>
                      <a:off x="5164200" y="776160"/>
                      <a:ext cx="19080" cy="19080"/>
                    </a:xfrm>
                    <a:prstGeom prst="ellipse">
                      <a:avLst/>
                    </a:prstGeom>
                    <a:solidFill>
                      <a:srgbClr val="4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760" bIns="-32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6" name=""/>
                    <p:cNvSpPr/>
                    <p:nvPr/>
                  </p:nvSpPr>
                  <p:spPr>
                    <a:xfrm>
                      <a:off x="5094360" y="779400"/>
                      <a:ext cx="19080" cy="19080"/>
                    </a:xfrm>
                    <a:prstGeom prst="ellipse">
                      <a:avLst/>
                    </a:prstGeom>
                    <a:solidFill>
                      <a:srgbClr val="4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760" bIns="-32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47" name=""/>
                  <p:cNvGrpSpPr/>
                  <p:nvPr/>
                </p:nvGrpSpPr>
                <p:grpSpPr>
                  <a:xfrm>
                    <a:off x="4764240" y="765000"/>
                    <a:ext cx="295200" cy="230400"/>
                    <a:chOff x="4764240" y="765000"/>
                    <a:chExt cx="295200" cy="230400"/>
                  </a:xfrm>
                </p:grpSpPr>
                <p:sp>
                  <p:nvSpPr>
                    <p:cNvPr id="148" name=""/>
                    <p:cNvSpPr/>
                    <p:nvPr/>
                  </p:nvSpPr>
                  <p:spPr>
                    <a:xfrm>
                      <a:off x="4848120" y="912960"/>
                      <a:ext cx="19080" cy="19080"/>
                    </a:xfrm>
                    <a:prstGeom prst="ellipse">
                      <a:avLst/>
                    </a:prstGeom>
                    <a:solidFill>
                      <a:srgbClr val="4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760" bIns="-32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149" name=""/>
                    <p:cNvGrpSpPr/>
                    <p:nvPr/>
                  </p:nvGrpSpPr>
                  <p:grpSpPr>
                    <a:xfrm>
                      <a:off x="4764240" y="765000"/>
                      <a:ext cx="295200" cy="230400"/>
                      <a:chOff x="4764240" y="765000"/>
                      <a:chExt cx="295200" cy="230400"/>
                    </a:xfrm>
                  </p:grpSpPr>
                  <p:sp>
                    <p:nvSpPr>
                      <p:cNvPr id="150" name=""/>
                      <p:cNvSpPr/>
                      <p:nvPr/>
                    </p:nvSpPr>
                    <p:spPr>
                      <a:xfrm>
                        <a:off x="4898880" y="765000"/>
                        <a:ext cx="19080" cy="19080"/>
                      </a:xfrm>
                      <a:prstGeom prst="ellipse">
                        <a:avLst/>
                      </a:prstGeom>
                      <a:solidFill>
                        <a:srgbClr val="4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760" bIns="-327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51" name=""/>
                      <p:cNvSpPr/>
                      <p:nvPr/>
                    </p:nvSpPr>
                    <p:spPr>
                      <a:xfrm>
                        <a:off x="4957920" y="784080"/>
                        <a:ext cx="18720" cy="19080"/>
                      </a:xfrm>
                      <a:prstGeom prst="ellipse">
                        <a:avLst/>
                      </a:prstGeom>
                      <a:solidFill>
                        <a:srgbClr val="4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760" bIns="-327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52" name=""/>
                      <p:cNvSpPr/>
                      <p:nvPr/>
                    </p:nvSpPr>
                    <p:spPr>
                      <a:xfrm>
                        <a:off x="4929120" y="776160"/>
                        <a:ext cx="19080" cy="19080"/>
                      </a:xfrm>
                      <a:prstGeom prst="ellipse">
                        <a:avLst/>
                      </a:prstGeom>
                      <a:solidFill>
                        <a:srgbClr val="4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760" bIns="-327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53" name=""/>
                      <p:cNvSpPr/>
                      <p:nvPr/>
                    </p:nvSpPr>
                    <p:spPr>
                      <a:xfrm>
                        <a:off x="5006880" y="824040"/>
                        <a:ext cx="20880" cy="20520"/>
                      </a:xfrm>
                      <a:prstGeom prst="ellipse">
                        <a:avLst/>
                      </a:prstGeom>
                      <a:solidFill>
                        <a:srgbClr val="4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040" bIns="-320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54" name=""/>
                      <p:cNvSpPr/>
                      <p:nvPr/>
                    </p:nvSpPr>
                    <p:spPr>
                      <a:xfrm>
                        <a:off x="4976640" y="839880"/>
                        <a:ext cx="19080" cy="19080"/>
                      </a:xfrm>
                      <a:prstGeom prst="ellipse">
                        <a:avLst/>
                      </a:prstGeom>
                      <a:solidFill>
                        <a:srgbClr val="4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760" bIns="-327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55" name=""/>
                      <p:cNvSpPr/>
                      <p:nvPr/>
                    </p:nvSpPr>
                    <p:spPr>
                      <a:xfrm>
                        <a:off x="4889520" y="814320"/>
                        <a:ext cx="19080" cy="19080"/>
                      </a:xfrm>
                      <a:prstGeom prst="ellipse">
                        <a:avLst/>
                      </a:prstGeom>
                      <a:solidFill>
                        <a:srgbClr val="4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760" bIns="-327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56" name=""/>
                      <p:cNvSpPr/>
                      <p:nvPr/>
                    </p:nvSpPr>
                    <p:spPr>
                      <a:xfrm>
                        <a:off x="4871880" y="781200"/>
                        <a:ext cx="19080" cy="20520"/>
                      </a:xfrm>
                      <a:prstGeom prst="ellipse">
                        <a:avLst/>
                      </a:prstGeom>
                      <a:solidFill>
                        <a:srgbClr val="4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040" bIns="-320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57" name=""/>
                      <p:cNvSpPr/>
                      <p:nvPr/>
                    </p:nvSpPr>
                    <p:spPr>
                      <a:xfrm>
                        <a:off x="4838760" y="781200"/>
                        <a:ext cx="19080" cy="19080"/>
                      </a:xfrm>
                      <a:prstGeom prst="ellipse">
                        <a:avLst/>
                      </a:prstGeom>
                      <a:solidFill>
                        <a:srgbClr val="4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760" bIns="-327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58" name=""/>
                      <p:cNvSpPr/>
                      <p:nvPr/>
                    </p:nvSpPr>
                    <p:spPr>
                      <a:xfrm>
                        <a:off x="4843440" y="806400"/>
                        <a:ext cx="19080" cy="20520"/>
                      </a:xfrm>
                      <a:prstGeom prst="ellipse">
                        <a:avLst/>
                      </a:prstGeom>
                      <a:solidFill>
                        <a:srgbClr val="4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040" bIns="-320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59" name=""/>
                      <p:cNvSpPr/>
                      <p:nvPr/>
                    </p:nvSpPr>
                    <p:spPr>
                      <a:xfrm>
                        <a:off x="4832280" y="839880"/>
                        <a:ext cx="19080" cy="19080"/>
                      </a:xfrm>
                      <a:prstGeom prst="ellipse">
                        <a:avLst/>
                      </a:prstGeom>
                      <a:solidFill>
                        <a:srgbClr val="4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760" bIns="-327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0" name=""/>
                      <p:cNvSpPr/>
                      <p:nvPr/>
                    </p:nvSpPr>
                    <p:spPr>
                      <a:xfrm>
                        <a:off x="4795920" y="801720"/>
                        <a:ext cx="19080" cy="19080"/>
                      </a:xfrm>
                      <a:prstGeom prst="ellipse">
                        <a:avLst/>
                      </a:prstGeom>
                      <a:solidFill>
                        <a:srgbClr val="4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760" bIns="-327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1" name=""/>
                      <p:cNvSpPr/>
                      <p:nvPr/>
                    </p:nvSpPr>
                    <p:spPr>
                      <a:xfrm>
                        <a:off x="4876920" y="858960"/>
                        <a:ext cx="19080" cy="19080"/>
                      </a:xfrm>
                      <a:prstGeom prst="ellipse">
                        <a:avLst/>
                      </a:prstGeom>
                      <a:solidFill>
                        <a:srgbClr val="4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760" bIns="-327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2" name=""/>
                      <p:cNvSpPr/>
                      <p:nvPr/>
                    </p:nvSpPr>
                    <p:spPr>
                      <a:xfrm>
                        <a:off x="4930920" y="808200"/>
                        <a:ext cx="19080" cy="18720"/>
                      </a:xfrm>
                      <a:prstGeom prst="ellipse">
                        <a:avLst/>
                      </a:prstGeom>
                      <a:solidFill>
                        <a:srgbClr val="4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3120" bIns="-331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3" name=""/>
                      <p:cNvSpPr/>
                      <p:nvPr/>
                    </p:nvSpPr>
                    <p:spPr>
                      <a:xfrm>
                        <a:off x="4784760" y="841320"/>
                        <a:ext cx="19080" cy="19080"/>
                      </a:xfrm>
                      <a:prstGeom prst="ellipse">
                        <a:avLst/>
                      </a:prstGeom>
                      <a:solidFill>
                        <a:srgbClr val="4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760" bIns="-327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4" name=""/>
                      <p:cNvSpPr/>
                      <p:nvPr/>
                    </p:nvSpPr>
                    <p:spPr>
                      <a:xfrm>
                        <a:off x="4808520" y="858960"/>
                        <a:ext cx="19080" cy="19080"/>
                      </a:xfrm>
                      <a:prstGeom prst="ellipse">
                        <a:avLst/>
                      </a:prstGeom>
                      <a:solidFill>
                        <a:srgbClr val="4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760" bIns="-327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5" name=""/>
                      <p:cNvSpPr/>
                      <p:nvPr/>
                    </p:nvSpPr>
                    <p:spPr>
                      <a:xfrm>
                        <a:off x="4816440" y="880920"/>
                        <a:ext cx="19080" cy="19080"/>
                      </a:xfrm>
                      <a:prstGeom prst="ellipse">
                        <a:avLst/>
                      </a:prstGeom>
                      <a:solidFill>
                        <a:srgbClr val="4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760" bIns="-327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6" name=""/>
                      <p:cNvSpPr/>
                      <p:nvPr/>
                    </p:nvSpPr>
                    <p:spPr>
                      <a:xfrm>
                        <a:off x="4856040" y="874800"/>
                        <a:ext cx="19080" cy="19080"/>
                      </a:xfrm>
                      <a:prstGeom prst="ellipse">
                        <a:avLst/>
                      </a:prstGeom>
                      <a:solidFill>
                        <a:srgbClr val="4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760" bIns="-327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7" name=""/>
                      <p:cNvSpPr/>
                      <p:nvPr/>
                    </p:nvSpPr>
                    <p:spPr>
                      <a:xfrm>
                        <a:off x="4794120" y="901800"/>
                        <a:ext cx="19080" cy="19080"/>
                      </a:xfrm>
                      <a:prstGeom prst="ellipse">
                        <a:avLst/>
                      </a:prstGeom>
                      <a:solidFill>
                        <a:srgbClr val="4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760" bIns="-327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8" name=""/>
                      <p:cNvSpPr/>
                      <p:nvPr/>
                    </p:nvSpPr>
                    <p:spPr>
                      <a:xfrm>
                        <a:off x="4764240" y="925560"/>
                        <a:ext cx="18720" cy="19080"/>
                      </a:xfrm>
                      <a:prstGeom prst="ellipse">
                        <a:avLst/>
                      </a:prstGeom>
                      <a:solidFill>
                        <a:srgbClr val="4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760" bIns="-327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9" name=""/>
                      <p:cNvSpPr/>
                      <p:nvPr/>
                    </p:nvSpPr>
                    <p:spPr>
                      <a:xfrm>
                        <a:off x="4767120" y="957240"/>
                        <a:ext cx="20880" cy="19080"/>
                      </a:xfrm>
                      <a:prstGeom prst="ellipse">
                        <a:avLst/>
                      </a:prstGeom>
                      <a:solidFill>
                        <a:srgbClr val="4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760" bIns="-327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0" name=""/>
                      <p:cNvSpPr/>
                      <p:nvPr/>
                    </p:nvSpPr>
                    <p:spPr>
                      <a:xfrm>
                        <a:off x="4807080" y="936720"/>
                        <a:ext cx="20520" cy="20520"/>
                      </a:xfrm>
                      <a:prstGeom prst="ellipse">
                        <a:avLst/>
                      </a:prstGeom>
                      <a:solidFill>
                        <a:srgbClr val="4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040" bIns="-320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1" name=""/>
                      <p:cNvSpPr/>
                      <p:nvPr/>
                    </p:nvSpPr>
                    <p:spPr>
                      <a:xfrm>
                        <a:off x="4854600" y="914400"/>
                        <a:ext cx="20520" cy="19080"/>
                      </a:xfrm>
                      <a:prstGeom prst="ellipse">
                        <a:avLst/>
                      </a:prstGeom>
                      <a:solidFill>
                        <a:srgbClr val="4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760" bIns="-327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2" name=""/>
                      <p:cNvSpPr/>
                      <p:nvPr/>
                    </p:nvSpPr>
                    <p:spPr>
                      <a:xfrm>
                        <a:off x="4835520" y="958680"/>
                        <a:ext cx="19080" cy="19080"/>
                      </a:xfrm>
                      <a:prstGeom prst="ellipse">
                        <a:avLst/>
                      </a:prstGeom>
                      <a:solidFill>
                        <a:srgbClr val="4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760" bIns="-327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3" name=""/>
                      <p:cNvSpPr/>
                      <p:nvPr/>
                    </p:nvSpPr>
                    <p:spPr>
                      <a:xfrm>
                        <a:off x="4862520" y="933480"/>
                        <a:ext cx="19080" cy="19080"/>
                      </a:xfrm>
                      <a:prstGeom prst="ellipse">
                        <a:avLst/>
                      </a:prstGeom>
                      <a:solidFill>
                        <a:srgbClr val="4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760" bIns="-327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4" name=""/>
                      <p:cNvSpPr/>
                      <p:nvPr/>
                    </p:nvSpPr>
                    <p:spPr>
                      <a:xfrm>
                        <a:off x="4875120" y="949320"/>
                        <a:ext cx="19080" cy="20520"/>
                      </a:xfrm>
                      <a:prstGeom prst="ellipse">
                        <a:avLst/>
                      </a:prstGeom>
                      <a:solidFill>
                        <a:srgbClr val="4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040" bIns="-320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5" name=""/>
                      <p:cNvSpPr/>
                      <p:nvPr/>
                    </p:nvSpPr>
                    <p:spPr>
                      <a:xfrm>
                        <a:off x="4892760" y="906480"/>
                        <a:ext cx="19080" cy="20520"/>
                      </a:xfrm>
                      <a:prstGeom prst="ellipse">
                        <a:avLst/>
                      </a:prstGeom>
                      <a:solidFill>
                        <a:srgbClr val="4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040" bIns="-320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4897440" y="930240"/>
                        <a:ext cx="19080" cy="19080"/>
                      </a:xfrm>
                      <a:prstGeom prst="ellipse">
                        <a:avLst/>
                      </a:prstGeom>
                      <a:solidFill>
                        <a:srgbClr val="4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760" bIns="-327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7" name=""/>
                      <p:cNvSpPr/>
                      <p:nvPr/>
                    </p:nvSpPr>
                    <p:spPr>
                      <a:xfrm>
                        <a:off x="4925880" y="884160"/>
                        <a:ext cx="19080" cy="17640"/>
                      </a:xfrm>
                      <a:prstGeom prst="ellipse">
                        <a:avLst/>
                      </a:prstGeom>
                      <a:solidFill>
                        <a:srgbClr val="4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4200" bIns="-342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8" name=""/>
                      <p:cNvSpPr/>
                      <p:nvPr/>
                    </p:nvSpPr>
                    <p:spPr>
                      <a:xfrm>
                        <a:off x="4924440" y="907920"/>
                        <a:ext cx="20520" cy="19080"/>
                      </a:xfrm>
                      <a:prstGeom prst="ellipse">
                        <a:avLst/>
                      </a:prstGeom>
                      <a:solidFill>
                        <a:srgbClr val="4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760" bIns="-327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9" name=""/>
                      <p:cNvSpPr/>
                      <p:nvPr/>
                    </p:nvSpPr>
                    <p:spPr>
                      <a:xfrm>
                        <a:off x="4925880" y="950760"/>
                        <a:ext cx="19080" cy="20880"/>
                      </a:xfrm>
                      <a:prstGeom prst="ellipse">
                        <a:avLst/>
                      </a:prstGeom>
                      <a:solidFill>
                        <a:srgbClr val="4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1680" bIns="-316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80" name=""/>
                      <p:cNvSpPr/>
                      <p:nvPr/>
                    </p:nvSpPr>
                    <p:spPr>
                      <a:xfrm>
                        <a:off x="4950000" y="884160"/>
                        <a:ext cx="18720" cy="17640"/>
                      </a:xfrm>
                      <a:prstGeom prst="ellipse">
                        <a:avLst/>
                      </a:prstGeom>
                      <a:solidFill>
                        <a:srgbClr val="4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4200" bIns="-342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81" name=""/>
                      <p:cNvSpPr/>
                      <p:nvPr/>
                    </p:nvSpPr>
                    <p:spPr>
                      <a:xfrm>
                        <a:off x="4979880" y="866880"/>
                        <a:ext cx="19080" cy="19080"/>
                      </a:xfrm>
                      <a:prstGeom prst="ellipse">
                        <a:avLst/>
                      </a:prstGeom>
                      <a:solidFill>
                        <a:srgbClr val="4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760" bIns="-327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82" name=""/>
                      <p:cNvSpPr/>
                      <p:nvPr/>
                    </p:nvSpPr>
                    <p:spPr>
                      <a:xfrm>
                        <a:off x="5003640" y="865080"/>
                        <a:ext cx="19080" cy="19080"/>
                      </a:xfrm>
                      <a:prstGeom prst="ellipse">
                        <a:avLst/>
                      </a:prstGeom>
                      <a:solidFill>
                        <a:srgbClr val="4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760" bIns="-327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83" name=""/>
                      <p:cNvSpPr/>
                      <p:nvPr/>
                    </p:nvSpPr>
                    <p:spPr>
                      <a:xfrm>
                        <a:off x="5040360" y="874800"/>
                        <a:ext cx="19080" cy="17280"/>
                      </a:xfrm>
                      <a:prstGeom prst="ellipse">
                        <a:avLst/>
                      </a:prstGeom>
                      <a:solidFill>
                        <a:srgbClr val="4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4560" bIns="-34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84" name=""/>
                      <p:cNvSpPr/>
                      <p:nvPr/>
                    </p:nvSpPr>
                    <p:spPr>
                      <a:xfrm>
                        <a:off x="5025960" y="892080"/>
                        <a:ext cx="19080" cy="20880"/>
                      </a:xfrm>
                      <a:prstGeom prst="ellipse">
                        <a:avLst/>
                      </a:prstGeom>
                      <a:solidFill>
                        <a:srgbClr val="4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1680" bIns="-316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85" name=""/>
                      <p:cNvSpPr/>
                      <p:nvPr/>
                    </p:nvSpPr>
                    <p:spPr>
                      <a:xfrm>
                        <a:off x="4967280" y="895320"/>
                        <a:ext cx="19080" cy="19080"/>
                      </a:xfrm>
                      <a:prstGeom prst="ellipse">
                        <a:avLst/>
                      </a:prstGeom>
                      <a:solidFill>
                        <a:srgbClr val="4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760" bIns="-327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86" name=""/>
                      <p:cNvSpPr/>
                      <p:nvPr/>
                    </p:nvSpPr>
                    <p:spPr>
                      <a:xfrm>
                        <a:off x="4984920" y="915840"/>
                        <a:ext cx="18720" cy="19080"/>
                      </a:xfrm>
                      <a:prstGeom prst="ellipse">
                        <a:avLst/>
                      </a:prstGeom>
                      <a:solidFill>
                        <a:srgbClr val="4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760" bIns="-327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87" name=""/>
                      <p:cNvSpPr/>
                      <p:nvPr/>
                    </p:nvSpPr>
                    <p:spPr>
                      <a:xfrm>
                        <a:off x="4944960" y="928800"/>
                        <a:ext cx="19080" cy="19080"/>
                      </a:xfrm>
                      <a:prstGeom prst="ellipse">
                        <a:avLst/>
                      </a:prstGeom>
                      <a:solidFill>
                        <a:srgbClr val="4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760" bIns="-327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88" name=""/>
                      <p:cNvSpPr/>
                      <p:nvPr/>
                    </p:nvSpPr>
                    <p:spPr>
                      <a:xfrm>
                        <a:off x="4971960" y="976320"/>
                        <a:ext cx="19080" cy="19080"/>
                      </a:xfrm>
                      <a:prstGeom prst="ellipse">
                        <a:avLst/>
                      </a:prstGeom>
                      <a:solidFill>
                        <a:srgbClr val="4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760" bIns="-327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4732200" y="1004760"/>
                    <a:ext cx="266760" cy="184320"/>
                    <a:chOff x="4732200" y="1004760"/>
                    <a:chExt cx="266760" cy="1843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>
                      <a:off x="4873680" y="1019160"/>
                      <a:ext cx="19080" cy="19080"/>
                    </a:xfrm>
                    <a:prstGeom prst="ellipse">
                      <a:avLst/>
                    </a:prstGeom>
                    <a:solidFill>
                      <a:srgbClr val="4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760" bIns="-32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>
                      <a:off x="4759200" y="1004760"/>
                      <a:ext cx="19080" cy="19080"/>
                    </a:xfrm>
                    <a:prstGeom prst="ellipse">
                      <a:avLst/>
                    </a:prstGeom>
                    <a:solidFill>
                      <a:srgbClr val="4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760" bIns="-32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2" name=""/>
                    <p:cNvSpPr/>
                    <p:nvPr/>
                  </p:nvSpPr>
                  <p:spPr>
                    <a:xfrm>
                      <a:off x="4919760" y="1049400"/>
                      <a:ext cx="20520" cy="19080"/>
                    </a:xfrm>
                    <a:prstGeom prst="ellipse">
                      <a:avLst/>
                    </a:prstGeom>
                    <a:solidFill>
                      <a:srgbClr val="4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760" bIns="-32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3" name=""/>
                    <p:cNvSpPr/>
                    <p:nvPr/>
                  </p:nvSpPr>
                  <p:spPr>
                    <a:xfrm>
                      <a:off x="4951440" y="1036800"/>
                      <a:ext cx="19080" cy="18720"/>
                    </a:xfrm>
                    <a:prstGeom prst="ellipse">
                      <a:avLst/>
                    </a:prstGeom>
                    <a:solidFill>
                      <a:srgbClr val="4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120" bIns="-33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>
                      <a:off x="4979880" y="1084320"/>
                      <a:ext cx="19080" cy="19080"/>
                    </a:xfrm>
                    <a:prstGeom prst="ellipse">
                      <a:avLst/>
                    </a:prstGeom>
                    <a:solidFill>
                      <a:srgbClr val="4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760" bIns="-32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5" name=""/>
                    <p:cNvSpPr/>
                    <p:nvPr/>
                  </p:nvSpPr>
                  <p:spPr>
                    <a:xfrm>
                      <a:off x="4921200" y="1076400"/>
                      <a:ext cx="19080" cy="19080"/>
                    </a:xfrm>
                    <a:prstGeom prst="ellipse">
                      <a:avLst/>
                    </a:prstGeom>
                    <a:solidFill>
                      <a:srgbClr val="4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760" bIns="-32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6" name=""/>
                    <p:cNvSpPr/>
                    <p:nvPr/>
                  </p:nvSpPr>
                  <p:spPr>
                    <a:xfrm>
                      <a:off x="4892760" y="1093680"/>
                      <a:ext cx="19080" cy="19080"/>
                    </a:xfrm>
                    <a:prstGeom prst="ellipse">
                      <a:avLst/>
                    </a:prstGeom>
                    <a:solidFill>
                      <a:srgbClr val="4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760" bIns="-32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>
                      <a:off x="4967280" y="1104840"/>
                      <a:ext cx="20520" cy="19080"/>
                    </a:xfrm>
                    <a:prstGeom prst="ellipse">
                      <a:avLst/>
                    </a:prstGeom>
                    <a:solidFill>
                      <a:srgbClr val="4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760" bIns="-32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8" name=""/>
                    <p:cNvSpPr/>
                    <p:nvPr/>
                  </p:nvSpPr>
                  <p:spPr>
                    <a:xfrm>
                      <a:off x="4797360" y="1084320"/>
                      <a:ext cx="19080" cy="20520"/>
                    </a:xfrm>
                    <a:prstGeom prst="ellipse">
                      <a:avLst/>
                    </a:prstGeom>
                    <a:solidFill>
                      <a:srgbClr val="4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040" bIns="-32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9" name=""/>
                    <p:cNvSpPr/>
                    <p:nvPr/>
                  </p:nvSpPr>
                  <p:spPr>
                    <a:xfrm>
                      <a:off x="4759200" y="1090440"/>
                      <a:ext cx="17640" cy="19080"/>
                    </a:xfrm>
                    <a:prstGeom prst="ellipse">
                      <a:avLst/>
                    </a:prstGeom>
                    <a:solidFill>
                      <a:srgbClr val="4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760" bIns="-32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>
                      <a:off x="4753080" y="1069920"/>
                      <a:ext cx="19080" cy="19080"/>
                    </a:xfrm>
                    <a:prstGeom prst="ellipse">
                      <a:avLst/>
                    </a:prstGeom>
                    <a:solidFill>
                      <a:srgbClr val="4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760" bIns="-32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1" name=""/>
                    <p:cNvSpPr/>
                    <p:nvPr/>
                  </p:nvSpPr>
                  <p:spPr>
                    <a:xfrm>
                      <a:off x="4834080" y="1116000"/>
                      <a:ext cx="20520" cy="19080"/>
                    </a:xfrm>
                    <a:prstGeom prst="ellipse">
                      <a:avLst/>
                    </a:prstGeom>
                    <a:solidFill>
                      <a:srgbClr val="4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760" bIns="-32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2" name=""/>
                    <p:cNvSpPr/>
                    <p:nvPr/>
                  </p:nvSpPr>
                  <p:spPr>
                    <a:xfrm>
                      <a:off x="4929120" y="1127160"/>
                      <a:ext cx="19080" cy="19080"/>
                    </a:xfrm>
                    <a:prstGeom prst="ellipse">
                      <a:avLst/>
                    </a:prstGeom>
                    <a:solidFill>
                      <a:srgbClr val="4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760" bIns="-32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>
                      <a:off x="4867200" y="1120680"/>
                      <a:ext cx="20880" cy="19080"/>
                    </a:xfrm>
                    <a:prstGeom prst="ellipse">
                      <a:avLst/>
                    </a:prstGeom>
                    <a:solidFill>
                      <a:srgbClr val="4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760" bIns="-32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4" name=""/>
                    <p:cNvSpPr/>
                    <p:nvPr/>
                  </p:nvSpPr>
                  <p:spPr>
                    <a:xfrm>
                      <a:off x="4888080" y="1139760"/>
                      <a:ext cx="18720" cy="19080"/>
                    </a:xfrm>
                    <a:prstGeom prst="ellipse">
                      <a:avLst/>
                    </a:prstGeom>
                    <a:solidFill>
                      <a:srgbClr val="4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760" bIns="-32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5" name=""/>
                    <p:cNvSpPr/>
                    <p:nvPr/>
                  </p:nvSpPr>
                  <p:spPr>
                    <a:xfrm>
                      <a:off x="4797360" y="1123920"/>
                      <a:ext cx="19080" cy="20520"/>
                    </a:xfrm>
                    <a:prstGeom prst="ellipse">
                      <a:avLst/>
                    </a:prstGeom>
                    <a:solidFill>
                      <a:srgbClr val="4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040" bIns="-32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>
                      <a:off x="4789440" y="1123920"/>
                      <a:ext cx="19080" cy="19080"/>
                    </a:xfrm>
                    <a:prstGeom prst="ellipse">
                      <a:avLst/>
                    </a:prstGeom>
                    <a:solidFill>
                      <a:srgbClr val="4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760" bIns="-32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7" name=""/>
                    <p:cNvSpPr/>
                    <p:nvPr/>
                  </p:nvSpPr>
                  <p:spPr>
                    <a:xfrm>
                      <a:off x="4849920" y="1166760"/>
                      <a:ext cx="19080" cy="19080"/>
                    </a:xfrm>
                    <a:prstGeom prst="ellipse">
                      <a:avLst/>
                    </a:prstGeom>
                    <a:solidFill>
                      <a:srgbClr val="4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760" bIns="-32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8" name=""/>
                    <p:cNvSpPr/>
                    <p:nvPr/>
                  </p:nvSpPr>
                  <p:spPr>
                    <a:xfrm>
                      <a:off x="4818240" y="1160640"/>
                      <a:ext cx="18720" cy="18720"/>
                    </a:xfrm>
                    <a:prstGeom prst="ellipse">
                      <a:avLst/>
                    </a:prstGeom>
                    <a:solidFill>
                      <a:srgbClr val="4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120" bIns="-33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>
                      <a:off x="4778280" y="1170000"/>
                      <a:ext cx="19080" cy="19080"/>
                    </a:xfrm>
                    <a:prstGeom prst="ellipse">
                      <a:avLst/>
                    </a:prstGeom>
                    <a:solidFill>
                      <a:srgbClr val="4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760" bIns="-32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0" name=""/>
                    <p:cNvSpPr/>
                    <p:nvPr/>
                  </p:nvSpPr>
                  <p:spPr>
                    <a:xfrm>
                      <a:off x="4734000" y="1036800"/>
                      <a:ext cx="19080" cy="18720"/>
                    </a:xfrm>
                    <a:prstGeom prst="ellipse">
                      <a:avLst/>
                    </a:prstGeom>
                    <a:solidFill>
                      <a:srgbClr val="4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120" bIns="-33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1" name=""/>
                    <p:cNvSpPr/>
                    <p:nvPr/>
                  </p:nvSpPr>
                  <p:spPr>
                    <a:xfrm>
                      <a:off x="4732200" y="1074600"/>
                      <a:ext cx="19080" cy="19080"/>
                    </a:xfrm>
                    <a:prstGeom prst="ellipse">
                      <a:avLst/>
                    </a:prstGeom>
                    <a:solidFill>
                      <a:srgbClr val="4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760" bIns="-32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>
                      <a:off x="4735440" y="1114560"/>
                      <a:ext cx="19080" cy="19080"/>
                    </a:xfrm>
                    <a:prstGeom prst="ellipse">
                      <a:avLst/>
                    </a:prstGeom>
                    <a:solidFill>
                      <a:srgbClr val="4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760" bIns="-32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3" name=""/>
                    <p:cNvSpPr/>
                    <p:nvPr/>
                  </p:nvSpPr>
                  <p:spPr>
                    <a:xfrm>
                      <a:off x="4749840" y="1149480"/>
                      <a:ext cx="19080" cy="19080"/>
                    </a:xfrm>
                    <a:prstGeom prst="ellipse">
                      <a:avLst/>
                    </a:prstGeom>
                    <a:solidFill>
                      <a:srgbClr val="4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760" bIns="-32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214" name=""/>
                <p:cNvGrpSpPr/>
                <p:nvPr/>
              </p:nvGrpSpPr>
              <p:grpSpPr>
                <a:xfrm>
                  <a:off x="4000680" y="646200"/>
                  <a:ext cx="507960" cy="795240"/>
                  <a:chOff x="4000680" y="646200"/>
                  <a:chExt cx="507960" cy="795240"/>
                </a:xfrm>
              </p:grpSpPr>
              <p:grpSp>
                <p:nvGrpSpPr>
                  <p:cNvPr id="215" name=""/>
                  <p:cNvGrpSpPr/>
                  <p:nvPr/>
                </p:nvGrpSpPr>
                <p:grpSpPr>
                  <a:xfrm>
                    <a:off x="4375080" y="825480"/>
                    <a:ext cx="133560" cy="200160"/>
                    <a:chOff x="4375080" y="825480"/>
                    <a:chExt cx="133560" cy="200160"/>
                  </a:xfrm>
                </p:grpSpPr>
                <p:sp>
                  <p:nvSpPr>
                    <p:cNvPr id="216" name=""/>
                    <p:cNvSpPr/>
                    <p:nvPr/>
                  </p:nvSpPr>
                  <p:spPr>
                    <a:xfrm>
                      <a:off x="4489560" y="851040"/>
                      <a:ext cx="19080" cy="19080"/>
                    </a:xfrm>
                    <a:prstGeom prst="ellipse">
                      <a:avLst/>
                    </a:prstGeom>
                    <a:solidFill>
                      <a:srgbClr val="4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760" bIns="-32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7" name=""/>
                    <p:cNvSpPr/>
                    <p:nvPr/>
                  </p:nvSpPr>
                  <p:spPr>
                    <a:xfrm>
                      <a:off x="4479840" y="825480"/>
                      <a:ext cx="20880" cy="19080"/>
                    </a:xfrm>
                    <a:prstGeom prst="ellipse">
                      <a:avLst/>
                    </a:prstGeom>
                    <a:solidFill>
                      <a:srgbClr val="4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760" bIns="-32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>
                      <a:off x="4416480" y="831960"/>
                      <a:ext cx="19080" cy="19080"/>
                    </a:xfrm>
                    <a:prstGeom prst="ellipse">
                      <a:avLst/>
                    </a:prstGeom>
                    <a:solidFill>
                      <a:srgbClr val="4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760" bIns="-32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9" name=""/>
                    <p:cNvSpPr/>
                    <p:nvPr/>
                  </p:nvSpPr>
                  <p:spPr>
                    <a:xfrm>
                      <a:off x="4375080" y="849240"/>
                      <a:ext cx="20880" cy="19080"/>
                    </a:xfrm>
                    <a:prstGeom prst="ellipse">
                      <a:avLst/>
                    </a:prstGeom>
                    <a:solidFill>
                      <a:srgbClr val="4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760" bIns="-32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0" name=""/>
                    <p:cNvSpPr/>
                    <p:nvPr/>
                  </p:nvSpPr>
                  <p:spPr>
                    <a:xfrm>
                      <a:off x="4425840" y="863640"/>
                      <a:ext cx="19080" cy="19080"/>
                    </a:xfrm>
                    <a:prstGeom prst="ellipse">
                      <a:avLst/>
                    </a:prstGeom>
                    <a:solidFill>
                      <a:srgbClr val="4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760" bIns="-32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>
                      <a:off x="4456080" y="907920"/>
                      <a:ext cx="19080" cy="19080"/>
                    </a:xfrm>
                    <a:prstGeom prst="ellipse">
                      <a:avLst/>
                    </a:prstGeom>
                    <a:solidFill>
                      <a:srgbClr val="4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760" bIns="-32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2" name=""/>
                    <p:cNvSpPr/>
                    <p:nvPr/>
                  </p:nvSpPr>
                  <p:spPr>
                    <a:xfrm>
                      <a:off x="4416480" y="906480"/>
                      <a:ext cx="19080" cy="19080"/>
                    </a:xfrm>
                    <a:prstGeom prst="ellipse">
                      <a:avLst/>
                    </a:prstGeom>
                    <a:solidFill>
                      <a:srgbClr val="4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760" bIns="-32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3" name=""/>
                    <p:cNvSpPr/>
                    <p:nvPr/>
                  </p:nvSpPr>
                  <p:spPr>
                    <a:xfrm>
                      <a:off x="4421160" y="927000"/>
                      <a:ext cx="19080" cy="19080"/>
                    </a:xfrm>
                    <a:prstGeom prst="ellipse">
                      <a:avLst/>
                    </a:prstGeom>
                    <a:solidFill>
                      <a:srgbClr val="4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760" bIns="-32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>
                      <a:off x="4375080" y="922320"/>
                      <a:ext cx="19080" cy="19080"/>
                    </a:xfrm>
                    <a:prstGeom prst="ellipse">
                      <a:avLst/>
                    </a:prstGeom>
                    <a:solidFill>
                      <a:srgbClr val="4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760" bIns="-32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5" name=""/>
                    <p:cNvSpPr/>
                    <p:nvPr/>
                  </p:nvSpPr>
                  <p:spPr>
                    <a:xfrm>
                      <a:off x="4432320" y="960480"/>
                      <a:ext cx="19080" cy="19080"/>
                    </a:xfrm>
                    <a:prstGeom prst="ellipse">
                      <a:avLst/>
                    </a:prstGeom>
                    <a:solidFill>
                      <a:srgbClr val="4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760" bIns="-32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6" name=""/>
                    <p:cNvSpPr/>
                    <p:nvPr/>
                  </p:nvSpPr>
                  <p:spPr>
                    <a:xfrm>
                      <a:off x="4375080" y="949320"/>
                      <a:ext cx="19080" cy="19080"/>
                    </a:xfrm>
                    <a:prstGeom prst="ellipse">
                      <a:avLst/>
                    </a:prstGeom>
                    <a:solidFill>
                      <a:srgbClr val="4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760" bIns="-32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>
                      <a:off x="4387680" y="984240"/>
                      <a:ext cx="20880" cy="19080"/>
                    </a:xfrm>
                    <a:prstGeom prst="ellipse">
                      <a:avLst/>
                    </a:prstGeom>
                    <a:solidFill>
                      <a:srgbClr val="4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760" bIns="-32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8" name=""/>
                    <p:cNvSpPr/>
                    <p:nvPr/>
                  </p:nvSpPr>
                  <p:spPr>
                    <a:xfrm>
                      <a:off x="4413240" y="1006560"/>
                      <a:ext cx="20520" cy="19080"/>
                    </a:xfrm>
                    <a:prstGeom prst="ellipse">
                      <a:avLst/>
                    </a:prstGeom>
                    <a:solidFill>
                      <a:srgbClr val="4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760" bIns="-32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29" name=""/>
                  <p:cNvGrpSpPr/>
                  <p:nvPr/>
                </p:nvGrpSpPr>
                <p:grpSpPr>
                  <a:xfrm>
                    <a:off x="4172040" y="646200"/>
                    <a:ext cx="98280" cy="95040"/>
                    <a:chOff x="4172040" y="646200"/>
                    <a:chExt cx="98280" cy="95040"/>
                  </a:xfrm>
                </p:grpSpPr>
                <p:sp>
                  <p:nvSpPr>
                    <p:cNvPr id="230" name=""/>
                    <p:cNvSpPr/>
                    <p:nvPr/>
                  </p:nvSpPr>
                  <p:spPr>
                    <a:xfrm>
                      <a:off x="4249800" y="704880"/>
                      <a:ext cx="20520" cy="19080"/>
                    </a:xfrm>
                    <a:prstGeom prst="ellipse">
                      <a:avLst/>
                    </a:prstGeom>
                    <a:solidFill>
                      <a:srgbClr val="4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760" bIns="-32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1" name=""/>
                    <p:cNvSpPr/>
                    <p:nvPr/>
                  </p:nvSpPr>
                  <p:spPr>
                    <a:xfrm>
                      <a:off x="4245120" y="677880"/>
                      <a:ext cx="19080" cy="19080"/>
                    </a:xfrm>
                    <a:prstGeom prst="ellipse">
                      <a:avLst/>
                    </a:prstGeom>
                    <a:solidFill>
                      <a:srgbClr val="4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760" bIns="-32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2" name=""/>
                    <p:cNvSpPr/>
                    <p:nvPr/>
                  </p:nvSpPr>
                  <p:spPr>
                    <a:xfrm>
                      <a:off x="4221000" y="646200"/>
                      <a:ext cx="19080" cy="19080"/>
                    </a:xfrm>
                    <a:prstGeom prst="ellipse">
                      <a:avLst/>
                    </a:prstGeom>
                    <a:solidFill>
                      <a:srgbClr val="4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760" bIns="-32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>
                      <a:off x="4176720" y="663480"/>
                      <a:ext cx="19080" cy="19080"/>
                    </a:xfrm>
                    <a:prstGeom prst="ellipse">
                      <a:avLst/>
                    </a:prstGeom>
                    <a:solidFill>
                      <a:srgbClr val="4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760" bIns="-32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4" name=""/>
                    <p:cNvSpPr/>
                    <p:nvPr/>
                  </p:nvSpPr>
                  <p:spPr>
                    <a:xfrm>
                      <a:off x="4197240" y="681120"/>
                      <a:ext cx="19080" cy="20520"/>
                    </a:xfrm>
                    <a:prstGeom prst="ellipse">
                      <a:avLst/>
                    </a:prstGeom>
                    <a:solidFill>
                      <a:srgbClr val="4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040" bIns="-32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4210200" y="701640"/>
                      <a:ext cx="20520" cy="19080"/>
                    </a:xfrm>
                    <a:prstGeom prst="ellipse">
                      <a:avLst/>
                    </a:prstGeom>
                    <a:solidFill>
                      <a:srgbClr val="4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760" bIns="-32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>
                      <a:off x="4232160" y="717480"/>
                      <a:ext cx="19080" cy="19080"/>
                    </a:xfrm>
                    <a:prstGeom prst="ellipse">
                      <a:avLst/>
                    </a:prstGeom>
                    <a:solidFill>
                      <a:srgbClr val="4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760" bIns="-32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4191120" y="722160"/>
                      <a:ext cx="19080" cy="19080"/>
                    </a:xfrm>
                    <a:prstGeom prst="ellipse">
                      <a:avLst/>
                    </a:prstGeom>
                    <a:solidFill>
                      <a:srgbClr val="4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760" bIns="-32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>
                      <a:off x="4172040" y="704880"/>
                      <a:ext cx="19080" cy="19080"/>
                    </a:xfrm>
                    <a:prstGeom prst="ellipse">
                      <a:avLst/>
                    </a:prstGeom>
                    <a:solidFill>
                      <a:srgbClr val="4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760" bIns="-32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39" name=""/>
                  <p:cNvGrpSpPr/>
                  <p:nvPr/>
                </p:nvGrpSpPr>
                <p:grpSpPr>
                  <a:xfrm>
                    <a:off x="4000680" y="1203480"/>
                    <a:ext cx="266400" cy="237960"/>
                    <a:chOff x="4000680" y="1203480"/>
                    <a:chExt cx="266400" cy="237960"/>
                  </a:xfrm>
                </p:grpSpPr>
                <p:sp>
                  <p:nvSpPr>
                    <p:cNvPr id="240" name=""/>
                    <p:cNvSpPr/>
                    <p:nvPr/>
                  </p:nvSpPr>
                  <p:spPr>
                    <a:xfrm>
                      <a:off x="4194000" y="1203480"/>
                      <a:ext cx="19080" cy="18720"/>
                    </a:xfrm>
                    <a:prstGeom prst="ellipse">
                      <a:avLst/>
                    </a:prstGeom>
                    <a:solidFill>
                      <a:srgbClr val="4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120" bIns="-33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1" name=""/>
                    <p:cNvSpPr/>
                    <p:nvPr/>
                  </p:nvSpPr>
                  <p:spPr>
                    <a:xfrm>
                      <a:off x="4238640" y="1228680"/>
                      <a:ext cx="19080" cy="19080"/>
                    </a:xfrm>
                    <a:prstGeom prst="ellipse">
                      <a:avLst/>
                    </a:prstGeom>
                    <a:solidFill>
                      <a:srgbClr val="4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760" bIns="-32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4168800" y="1251000"/>
                      <a:ext cx="19080" cy="19080"/>
                    </a:xfrm>
                    <a:prstGeom prst="ellipse">
                      <a:avLst/>
                    </a:prstGeom>
                    <a:solidFill>
                      <a:srgbClr val="4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760" bIns="-32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>
                      <a:off x="4219560" y="1289160"/>
                      <a:ext cx="19080" cy="20520"/>
                    </a:xfrm>
                    <a:prstGeom prst="ellipse">
                      <a:avLst/>
                    </a:prstGeom>
                    <a:solidFill>
                      <a:srgbClr val="4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040" bIns="-32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4141800" y="1273320"/>
                      <a:ext cx="19080" cy="19080"/>
                    </a:xfrm>
                    <a:prstGeom prst="ellipse">
                      <a:avLst/>
                    </a:prstGeom>
                    <a:solidFill>
                      <a:srgbClr val="4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760" bIns="-32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>
                      <a:off x="4186080" y="1301760"/>
                      <a:ext cx="20880" cy="20520"/>
                    </a:xfrm>
                    <a:prstGeom prst="ellipse">
                      <a:avLst/>
                    </a:prstGeom>
                    <a:solidFill>
                      <a:srgbClr val="4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040" bIns="-32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6" name=""/>
                    <p:cNvSpPr/>
                    <p:nvPr/>
                  </p:nvSpPr>
                  <p:spPr>
                    <a:xfrm>
                      <a:off x="4214880" y="1330200"/>
                      <a:ext cx="19080" cy="19080"/>
                    </a:xfrm>
                    <a:prstGeom prst="ellipse">
                      <a:avLst/>
                    </a:prstGeom>
                    <a:solidFill>
                      <a:srgbClr val="4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760" bIns="-32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7" name=""/>
                    <p:cNvSpPr/>
                    <p:nvPr/>
                  </p:nvSpPr>
                  <p:spPr>
                    <a:xfrm>
                      <a:off x="4248000" y="1336680"/>
                      <a:ext cx="19080" cy="19080"/>
                    </a:xfrm>
                    <a:prstGeom prst="ellipse">
                      <a:avLst/>
                    </a:prstGeom>
                    <a:solidFill>
                      <a:srgbClr val="4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760" bIns="-32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>
                      <a:off x="4219560" y="1362240"/>
                      <a:ext cx="19080" cy="18720"/>
                    </a:xfrm>
                    <a:prstGeom prst="ellipse">
                      <a:avLst/>
                    </a:prstGeom>
                    <a:solidFill>
                      <a:srgbClr val="4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120" bIns="-33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4081320" y="1246320"/>
                      <a:ext cx="19080" cy="19080"/>
                    </a:xfrm>
                    <a:prstGeom prst="ellipse">
                      <a:avLst/>
                    </a:prstGeom>
                    <a:solidFill>
                      <a:srgbClr val="4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760" bIns="-32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>
                      <a:off x="4098960" y="1278000"/>
                      <a:ext cx="19080" cy="19080"/>
                    </a:xfrm>
                    <a:prstGeom prst="ellipse">
                      <a:avLst/>
                    </a:prstGeom>
                    <a:solidFill>
                      <a:srgbClr val="4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760" bIns="-32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4054320" y="1279440"/>
                      <a:ext cx="19080" cy="19080"/>
                    </a:xfrm>
                    <a:prstGeom prst="ellipse">
                      <a:avLst/>
                    </a:prstGeom>
                    <a:solidFill>
                      <a:srgbClr val="4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760" bIns="-32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>
                      <a:off x="4025880" y="1258920"/>
                      <a:ext cx="19080" cy="19080"/>
                    </a:xfrm>
                    <a:prstGeom prst="ellipse">
                      <a:avLst/>
                    </a:prstGeom>
                    <a:solidFill>
                      <a:srgbClr val="4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760" bIns="-32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>
                      <a:off x="4000680" y="1289160"/>
                      <a:ext cx="18720" cy="19080"/>
                    </a:xfrm>
                    <a:prstGeom prst="ellipse">
                      <a:avLst/>
                    </a:prstGeom>
                    <a:solidFill>
                      <a:srgbClr val="4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760" bIns="-32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4" name=""/>
                    <p:cNvSpPr/>
                    <p:nvPr/>
                  </p:nvSpPr>
                  <p:spPr>
                    <a:xfrm>
                      <a:off x="4086360" y="1324080"/>
                      <a:ext cx="19080" cy="19080"/>
                    </a:xfrm>
                    <a:prstGeom prst="ellipse">
                      <a:avLst/>
                    </a:prstGeom>
                    <a:solidFill>
                      <a:srgbClr val="4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760" bIns="-32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5" name=""/>
                    <p:cNvSpPr/>
                    <p:nvPr/>
                  </p:nvSpPr>
                  <p:spPr>
                    <a:xfrm>
                      <a:off x="4065480" y="1339920"/>
                      <a:ext cx="19080" cy="19080"/>
                    </a:xfrm>
                    <a:prstGeom prst="ellipse">
                      <a:avLst/>
                    </a:prstGeom>
                    <a:solidFill>
                      <a:srgbClr val="4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760" bIns="-32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>
                      <a:off x="4000680" y="1324080"/>
                      <a:ext cx="18720" cy="19080"/>
                    </a:xfrm>
                    <a:prstGeom prst="ellipse">
                      <a:avLst/>
                    </a:prstGeom>
                    <a:solidFill>
                      <a:srgbClr val="4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760" bIns="-32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7" name=""/>
                    <p:cNvSpPr/>
                    <p:nvPr/>
                  </p:nvSpPr>
                  <p:spPr>
                    <a:xfrm>
                      <a:off x="4025880" y="1344600"/>
                      <a:ext cx="19080" cy="19080"/>
                    </a:xfrm>
                    <a:prstGeom prst="ellipse">
                      <a:avLst/>
                    </a:prstGeom>
                    <a:solidFill>
                      <a:srgbClr val="4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760" bIns="-32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8" name=""/>
                    <p:cNvSpPr/>
                    <p:nvPr/>
                  </p:nvSpPr>
                  <p:spPr>
                    <a:xfrm>
                      <a:off x="4002120" y="1365120"/>
                      <a:ext cx="19080" cy="20880"/>
                    </a:xfrm>
                    <a:prstGeom prst="ellipse">
                      <a:avLst/>
                    </a:prstGeom>
                    <a:solidFill>
                      <a:srgbClr val="4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1680" bIns="-31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>
                      <a:off x="4016520" y="1382760"/>
                      <a:ext cx="19080" cy="19080"/>
                    </a:xfrm>
                    <a:prstGeom prst="ellipse">
                      <a:avLst/>
                    </a:prstGeom>
                    <a:solidFill>
                      <a:srgbClr val="4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760" bIns="-32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0" name=""/>
                    <p:cNvSpPr/>
                    <p:nvPr/>
                  </p:nvSpPr>
                  <p:spPr>
                    <a:xfrm>
                      <a:off x="4159080" y="1347840"/>
                      <a:ext cx="19080" cy="19080"/>
                    </a:xfrm>
                    <a:prstGeom prst="ellipse">
                      <a:avLst/>
                    </a:prstGeom>
                    <a:solidFill>
                      <a:srgbClr val="4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760" bIns="-32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1" name=""/>
                    <p:cNvSpPr/>
                    <p:nvPr/>
                  </p:nvSpPr>
                  <p:spPr>
                    <a:xfrm>
                      <a:off x="4133880" y="1349280"/>
                      <a:ext cx="20520" cy="19080"/>
                    </a:xfrm>
                    <a:prstGeom prst="ellipse">
                      <a:avLst/>
                    </a:prstGeom>
                    <a:solidFill>
                      <a:srgbClr val="4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760" bIns="-32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>
                      <a:off x="4102200" y="1370160"/>
                      <a:ext cx="19080" cy="19080"/>
                    </a:xfrm>
                    <a:prstGeom prst="ellipse">
                      <a:avLst/>
                    </a:prstGeom>
                    <a:solidFill>
                      <a:srgbClr val="4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760" bIns="-32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3" name=""/>
                    <p:cNvSpPr/>
                    <p:nvPr/>
                  </p:nvSpPr>
                  <p:spPr>
                    <a:xfrm>
                      <a:off x="4062240" y="1376280"/>
                      <a:ext cx="19080" cy="19080"/>
                    </a:xfrm>
                    <a:prstGeom prst="ellipse">
                      <a:avLst/>
                    </a:prstGeom>
                    <a:solidFill>
                      <a:srgbClr val="4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760" bIns="-32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4" name=""/>
                    <p:cNvSpPr/>
                    <p:nvPr/>
                  </p:nvSpPr>
                  <p:spPr>
                    <a:xfrm>
                      <a:off x="4179960" y="1390680"/>
                      <a:ext cx="19080" cy="19080"/>
                    </a:xfrm>
                    <a:prstGeom prst="ellipse">
                      <a:avLst/>
                    </a:prstGeom>
                    <a:solidFill>
                      <a:srgbClr val="4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760" bIns="-32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>
                      <a:off x="4156200" y="1392120"/>
                      <a:ext cx="19080" cy="19080"/>
                    </a:xfrm>
                    <a:prstGeom prst="ellipse">
                      <a:avLst/>
                    </a:prstGeom>
                    <a:solidFill>
                      <a:srgbClr val="4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760" bIns="-32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6" name=""/>
                    <p:cNvSpPr/>
                    <p:nvPr/>
                  </p:nvSpPr>
                  <p:spPr>
                    <a:xfrm>
                      <a:off x="4135320" y="1389240"/>
                      <a:ext cx="19080" cy="18720"/>
                    </a:xfrm>
                    <a:prstGeom prst="ellipse">
                      <a:avLst/>
                    </a:prstGeom>
                    <a:solidFill>
                      <a:srgbClr val="4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120" bIns="-33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7" name=""/>
                    <p:cNvSpPr/>
                    <p:nvPr/>
                  </p:nvSpPr>
                  <p:spPr>
                    <a:xfrm>
                      <a:off x="4071960" y="1398600"/>
                      <a:ext cx="20520" cy="19080"/>
                    </a:xfrm>
                    <a:prstGeom prst="ellipse">
                      <a:avLst/>
                    </a:prstGeom>
                    <a:solidFill>
                      <a:srgbClr val="4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760" bIns="-32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>
                      <a:off x="4114800" y="1419120"/>
                      <a:ext cx="20520" cy="19080"/>
                    </a:xfrm>
                    <a:prstGeom prst="ellipse">
                      <a:avLst/>
                    </a:prstGeom>
                    <a:solidFill>
                      <a:srgbClr val="4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760" bIns="-32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9" name=""/>
                    <p:cNvSpPr/>
                    <p:nvPr/>
                  </p:nvSpPr>
                  <p:spPr>
                    <a:xfrm>
                      <a:off x="4046400" y="1422360"/>
                      <a:ext cx="19080" cy="19080"/>
                    </a:xfrm>
                    <a:prstGeom prst="ellipse">
                      <a:avLst/>
                    </a:prstGeom>
                    <a:solidFill>
                      <a:srgbClr val="4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760" bIns="-32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pic>
          <p:nvPicPr>
            <p:cNvPr id="270" name="" descr=""/>
            <p:cNvPicPr/>
            <p:nvPr/>
          </p:nvPicPr>
          <p:blipFill>
            <a:blip r:embed="rId1"/>
            <a:stretch/>
          </p:blipFill>
          <p:spPr>
            <a:xfrm>
              <a:off x="6200640" y="374760"/>
              <a:ext cx="1222560" cy="14475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71" name=""/>
            <p:cNvGrpSpPr/>
            <p:nvPr/>
          </p:nvGrpSpPr>
          <p:grpSpPr>
            <a:xfrm>
              <a:off x="2509920" y="276120"/>
              <a:ext cx="750960" cy="1495440"/>
              <a:chOff x="2509920" y="276120"/>
              <a:chExt cx="750960" cy="1495440"/>
            </a:xfrm>
          </p:grpSpPr>
          <p:grpSp>
            <p:nvGrpSpPr>
              <p:cNvPr id="272" name=""/>
              <p:cNvGrpSpPr/>
              <p:nvPr/>
            </p:nvGrpSpPr>
            <p:grpSpPr>
              <a:xfrm>
                <a:off x="2587680" y="276120"/>
                <a:ext cx="644400" cy="741600"/>
                <a:chOff x="2587680" y="276120"/>
                <a:chExt cx="644400" cy="741600"/>
              </a:xfrm>
            </p:grpSpPr>
            <p:sp>
              <p:nvSpPr>
                <p:cNvPr id="273" name=""/>
                <p:cNvSpPr/>
                <p:nvPr/>
              </p:nvSpPr>
              <p:spPr>
                <a:xfrm>
                  <a:off x="2587680" y="295200"/>
                  <a:ext cx="644400" cy="722520"/>
                </a:xfrm>
                <a:custGeom>
                  <a:avLst/>
                  <a:gdLst/>
                  <a:ahLst/>
                  <a:rect l="l" t="t" r="r" b="b"/>
                  <a:pathLst>
                    <a:path w="1624" h="1819">
                      <a:moveTo>
                        <a:pt x="12" y="1673"/>
                      </a:moveTo>
                      <a:lnTo>
                        <a:pt x="0" y="1606"/>
                      </a:lnTo>
                      <a:lnTo>
                        <a:pt x="0" y="1515"/>
                      </a:lnTo>
                      <a:lnTo>
                        <a:pt x="8" y="1470"/>
                      </a:lnTo>
                      <a:lnTo>
                        <a:pt x="18" y="1430"/>
                      </a:lnTo>
                      <a:lnTo>
                        <a:pt x="51" y="1392"/>
                      </a:lnTo>
                      <a:lnTo>
                        <a:pt x="79" y="1365"/>
                      </a:lnTo>
                      <a:lnTo>
                        <a:pt x="127" y="1339"/>
                      </a:lnTo>
                      <a:lnTo>
                        <a:pt x="170" y="1334"/>
                      </a:lnTo>
                      <a:lnTo>
                        <a:pt x="212" y="1334"/>
                      </a:lnTo>
                      <a:lnTo>
                        <a:pt x="260" y="1352"/>
                      </a:lnTo>
                      <a:lnTo>
                        <a:pt x="344" y="1382"/>
                      </a:lnTo>
                      <a:lnTo>
                        <a:pt x="393" y="1352"/>
                      </a:lnTo>
                      <a:lnTo>
                        <a:pt x="447" y="1322"/>
                      </a:lnTo>
                      <a:lnTo>
                        <a:pt x="519" y="1304"/>
                      </a:lnTo>
                      <a:lnTo>
                        <a:pt x="604" y="1297"/>
                      </a:lnTo>
                      <a:lnTo>
                        <a:pt x="665" y="1291"/>
                      </a:lnTo>
                      <a:lnTo>
                        <a:pt x="719" y="1254"/>
                      </a:lnTo>
                      <a:lnTo>
                        <a:pt x="772" y="1182"/>
                      </a:lnTo>
                      <a:lnTo>
                        <a:pt x="798" y="1109"/>
                      </a:lnTo>
                      <a:lnTo>
                        <a:pt x="803" y="1033"/>
                      </a:lnTo>
                      <a:lnTo>
                        <a:pt x="795" y="996"/>
                      </a:lnTo>
                      <a:lnTo>
                        <a:pt x="785" y="959"/>
                      </a:lnTo>
                      <a:lnTo>
                        <a:pt x="744" y="844"/>
                      </a:lnTo>
                      <a:lnTo>
                        <a:pt x="706" y="701"/>
                      </a:lnTo>
                      <a:lnTo>
                        <a:pt x="676" y="533"/>
                      </a:lnTo>
                      <a:lnTo>
                        <a:pt x="658" y="327"/>
                      </a:lnTo>
                      <a:lnTo>
                        <a:pt x="655" y="129"/>
                      </a:lnTo>
                      <a:lnTo>
                        <a:pt x="652" y="0"/>
                      </a:lnTo>
                      <a:lnTo>
                        <a:pt x="660" y="15"/>
                      </a:lnTo>
                      <a:lnTo>
                        <a:pt x="680" y="28"/>
                      </a:lnTo>
                      <a:lnTo>
                        <a:pt x="706" y="35"/>
                      </a:lnTo>
                      <a:lnTo>
                        <a:pt x="737" y="39"/>
                      </a:lnTo>
                      <a:lnTo>
                        <a:pt x="775" y="42"/>
                      </a:lnTo>
                      <a:lnTo>
                        <a:pt x="815" y="38"/>
                      </a:lnTo>
                      <a:lnTo>
                        <a:pt x="846" y="32"/>
                      </a:lnTo>
                      <a:lnTo>
                        <a:pt x="871" y="18"/>
                      </a:lnTo>
                      <a:lnTo>
                        <a:pt x="887" y="1"/>
                      </a:lnTo>
                      <a:lnTo>
                        <a:pt x="881" y="123"/>
                      </a:lnTo>
                      <a:lnTo>
                        <a:pt x="884" y="309"/>
                      </a:lnTo>
                      <a:lnTo>
                        <a:pt x="900" y="521"/>
                      </a:lnTo>
                      <a:lnTo>
                        <a:pt x="925" y="692"/>
                      </a:lnTo>
                      <a:lnTo>
                        <a:pt x="972" y="928"/>
                      </a:lnTo>
                      <a:lnTo>
                        <a:pt x="1043" y="838"/>
                      </a:lnTo>
                      <a:lnTo>
                        <a:pt x="1092" y="787"/>
                      </a:lnTo>
                      <a:lnTo>
                        <a:pt x="1151" y="742"/>
                      </a:lnTo>
                      <a:lnTo>
                        <a:pt x="1225" y="699"/>
                      </a:lnTo>
                      <a:lnTo>
                        <a:pt x="1266" y="685"/>
                      </a:lnTo>
                      <a:lnTo>
                        <a:pt x="1300" y="678"/>
                      </a:lnTo>
                      <a:lnTo>
                        <a:pt x="1342" y="672"/>
                      </a:lnTo>
                      <a:lnTo>
                        <a:pt x="1386" y="675"/>
                      </a:lnTo>
                      <a:lnTo>
                        <a:pt x="1433" y="687"/>
                      </a:lnTo>
                      <a:lnTo>
                        <a:pt x="1477" y="715"/>
                      </a:lnTo>
                      <a:lnTo>
                        <a:pt x="1514" y="747"/>
                      </a:lnTo>
                      <a:lnTo>
                        <a:pt x="1539" y="782"/>
                      </a:lnTo>
                      <a:lnTo>
                        <a:pt x="1566" y="834"/>
                      </a:lnTo>
                      <a:lnTo>
                        <a:pt x="1587" y="903"/>
                      </a:lnTo>
                      <a:lnTo>
                        <a:pt x="1608" y="989"/>
                      </a:lnTo>
                      <a:lnTo>
                        <a:pt x="1624" y="1115"/>
                      </a:lnTo>
                      <a:lnTo>
                        <a:pt x="1618" y="1199"/>
                      </a:lnTo>
                      <a:lnTo>
                        <a:pt x="1587" y="1287"/>
                      </a:lnTo>
                      <a:lnTo>
                        <a:pt x="1549" y="1349"/>
                      </a:lnTo>
                      <a:lnTo>
                        <a:pt x="1511" y="1416"/>
                      </a:lnTo>
                      <a:lnTo>
                        <a:pt x="1461" y="1477"/>
                      </a:lnTo>
                      <a:lnTo>
                        <a:pt x="1425" y="1525"/>
                      </a:lnTo>
                      <a:lnTo>
                        <a:pt x="1375" y="1575"/>
                      </a:lnTo>
                      <a:lnTo>
                        <a:pt x="1323" y="1615"/>
                      </a:lnTo>
                      <a:lnTo>
                        <a:pt x="1249" y="1661"/>
                      </a:lnTo>
                      <a:lnTo>
                        <a:pt x="1170" y="1700"/>
                      </a:lnTo>
                      <a:lnTo>
                        <a:pt x="1123" y="1715"/>
                      </a:lnTo>
                      <a:lnTo>
                        <a:pt x="1037" y="1748"/>
                      </a:lnTo>
                      <a:lnTo>
                        <a:pt x="948" y="1772"/>
                      </a:lnTo>
                      <a:lnTo>
                        <a:pt x="808" y="1803"/>
                      </a:lnTo>
                      <a:lnTo>
                        <a:pt x="652" y="1819"/>
                      </a:lnTo>
                      <a:lnTo>
                        <a:pt x="513" y="1806"/>
                      </a:lnTo>
                      <a:lnTo>
                        <a:pt x="450" y="1799"/>
                      </a:lnTo>
                      <a:lnTo>
                        <a:pt x="399" y="1782"/>
                      </a:lnTo>
                      <a:lnTo>
                        <a:pt x="320" y="1722"/>
                      </a:lnTo>
                      <a:lnTo>
                        <a:pt x="253" y="1630"/>
                      </a:lnTo>
                      <a:lnTo>
                        <a:pt x="229" y="1600"/>
                      </a:lnTo>
                      <a:lnTo>
                        <a:pt x="201" y="1599"/>
                      </a:lnTo>
                      <a:lnTo>
                        <a:pt x="175" y="1613"/>
                      </a:lnTo>
                      <a:lnTo>
                        <a:pt x="157" y="1680"/>
                      </a:lnTo>
                      <a:lnTo>
                        <a:pt x="103" y="1691"/>
                      </a:lnTo>
                      <a:lnTo>
                        <a:pt x="47" y="1687"/>
                      </a:lnTo>
                      <a:lnTo>
                        <a:pt x="12" y="1673"/>
                      </a:lnTo>
                      <a:close/>
                    </a:path>
                  </a:pathLst>
                </a:custGeom>
                <a:solidFill>
                  <a:srgbClr val="40ffff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2844720" y="276120"/>
                  <a:ext cx="95400" cy="36720"/>
                </a:xfrm>
                <a:prstGeom prst="ellipse">
                  <a:avLst/>
                </a:prstGeom>
                <a:solidFill>
                  <a:srgbClr val="00a0a0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5" name=""/>
              <p:cNvGrpSpPr/>
              <p:nvPr/>
            </p:nvGrpSpPr>
            <p:grpSpPr>
              <a:xfrm>
                <a:off x="2509920" y="833400"/>
                <a:ext cx="750960" cy="938160"/>
                <a:chOff x="2509920" y="833400"/>
                <a:chExt cx="750960" cy="93816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643120" y="1047600"/>
                  <a:ext cx="507960" cy="436680"/>
                  <a:chOff x="2643120" y="1047600"/>
                  <a:chExt cx="507960" cy="43668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62280" y="1165320"/>
                    <a:ext cx="339840" cy="318960"/>
                  </a:xfrm>
                  <a:custGeom>
                    <a:avLst/>
                    <a:gdLst/>
                    <a:ahLst/>
                    <a:rect l="l" t="t" r="r" b="b"/>
                    <a:pathLst>
                      <a:path w="859" h="803">
                        <a:moveTo>
                          <a:pt x="390" y="705"/>
                        </a:moveTo>
                        <a:lnTo>
                          <a:pt x="354" y="712"/>
                        </a:lnTo>
                        <a:lnTo>
                          <a:pt x="316" y="734"/>
                        </a:lnTo>
                        <a:lnTo>
                          <a:pt x="290" y="766"/>
                        </a:lnTo>
                        <a:lnTo>
                          <a:pt x="280" y="786"/>
                        </a:lnTo>
                        <a:lnTo>
                          <a:pt x="221" y="794"/>
                        </a:lnTo>
                        <a:lnTo>
                          <a:pt x="185" y="800"/>
                        </a:lnTo>
                        <a:lnTo>
                          <a:pt x="155" y="803"/>
                        </a:lnTo>
                        <a:lnTo>
                          <a:pt x="121" y="800"/>
                        </a:lnTo>
                        <a:lnTo>
                          <a:pt x="84" y="789"/>
                        </a:lnTo>
                        <a:lnTo>
                          <a:pt x="56" y="769"/>
                        </a:lnTo>
                        <a:lnTo>
                          <a:pt x="35" y="739"/>
                        </a:lnTo>
                        <a:lnTo>
                          <a:pt x="22" y="698"/>
                        </a:lnTo>
                        <a:lnTo>
                          <a:pt x="16" y="674"/>
                        </a:lnTo>
                        <a:lnTo>
                          <a:pt x="19" y="645"/>
                        </a:lnTo>
                        <a:lnTo>
                          <a:pt x="32" y="624"/>
                        </a:lnTo>
                        <a:lnTo>
                          <a:pt x="62" y="620"/>
                        </a:lnTo>
                        <a:lnTo>
                          <a:pt x="93" y="623"/>
                        </a:lnTo>
                        <a:lnTo>
                          <a:pt x="118" y="631"/>
                        </a:lnTo>
                        <a:lnTo>
                          <a:pt x="142" y="651"/>
                        </a:lnTo>
                        <a:lnTo>
                          <a:pt x="176" y="665"/>
                        </a:lnTo>
                        <a:lnTo>
                          <a:pt x="240" y="677"/>
                        </a:lnTo>
                        <a:lnTo>
                          <a:pt x="280" y="679"/>
                        </a:lnTo>
                        <a:lnTo>
                          <a:pt x="318" y="674"/>
                        </a:lnTo>
                        <a:lnTo>
                          <a:pt x="348" y="657"/>
                        </a:lnTo>
                        <a:lnTo>
                          <a:pt x="366" y="641"/>
                        </a:lnTo>
                        <a:lnTo>
                          <a:pt x="393" y="613"/>
                        </a:lnTo>
                        <a:lnTo>
                          <a:pt x="421" y="604"/>
                        </a:lnTo>
                        <a:lnTo>
                          <a:pt x="469" y="604"/>
                        </a:lnTo>
                        <a:lnTo>
                          <a:pt x="509" y="599"/>
                        </a:lnTo>
                        <a:lnTo>
                          <a:pt x="543" y="589"/>
                        </a:lnTo>
                        <a:lnTo>
                          <a:pt x="567" y="570"/>
                        </a:lnTo>
                        <a:lnTo>
                          <a:pt x="608" y="536"/>
                        </a:lnTo>
                        <a:lnTo>
                          <a:pt x="535" y="583"/>
                        </a:lnTo>
                        <a:lnTo>
                          <a:pt x="505" y="590"/>
                        </a:lnTo>
                        <a:lnTo>
                          <a:pt x="462" y="599"/>
                        </a:lnTo>
                        <a:lnTo>
                          <a:pt x="418" y="599"/>
                        </a:lnTo>
                        <a:lnTo>
                          <a:pt x="394" y="599"/>
                        </a:lnTo>
                        <a:lnTo>
                          <a:pt x="373" y="576"/>
                        </a:lnTo>
                        <a:lnTo>
                          <a:pt x="348" y="539"/>
                        </a:lnTo>
                        <a:lnTo>
                          <a:pt x="294" y="491"/>
                        </a:lnTo>
                        <a:lnTo>
                          <a:pt x="197" y="418"/>
                        </a:lnTo>
                        <a:lnTo>
                          <a:pt x="147" y="398"/>
                        </a:lnTo>
                        <a:lnTo>
                          <a:pt x="104" y="380"/>
                        </a:lnTo>
                        <a:lnTo>
                          <a:pt x="56" y="356"/>
                        </a:lnTo>
                        <a:lnTo>
                          <a:pt x="32" y="339"/>
                        </a:lnTo>
                        <a:lnTo>
                          <a:pt x="11" y="322"/>
                        </a:lnTo>
                        <a:lnTo>
                          <a:pt x="2" y="289"/>
                        </a:lnTo>
                        <a:lnTo>
                          <a:pt x="0" y="257"/>
                        </a:lnTo>
                        <a:lnTo>
                          <a:pt x="4" y="224"/>
                        </a:lnTo>
                        <a:lnTo>
                          <a:pt x="16" y="194"/>
                        </a:lnTo>
                        <a:lnTo>
                          <a:pt x="38" y="162"/>
                        </a:lnTo>
                        <a:lnTo>
                          <a:pt x="73" y="139"/>
                        </a:lnTo>
                        <a:lnTo>
                          <a:pt x="113" y="123"/>
                        </a:lnTo>
                        <a:lnTo>
                          <a:pt x="152" y="117"/>
                        </a:lnTo>
                        <a:lnTo>
                          <a:pt x="216" y="115"/>
                        </a:lnTo>
                        <a:lnTo>
                          <a:pt x="304" y="122"/>
                        </a:lnTo>
                        <a:lnTo>
                          <a:pt x="378" y="122"/>
                        </a:lnTo>
                        <a:lnTo>
                          <a:pt x="418" y="137"/>
                        </a:lnTo>
                        <a:lnTo>
                          <a:pt x="431" y="167"/>
                        </a:lnTo>
                        <a:lnTo>
                          <a:pt x="431" y="212"/>
                        </a:lnTo>
                        <a:lnTo>
                          <a:pt x="432" y="267"/>
                        </a:lnTo>
                        <a:lnTo>
                          <a:pt x="442" y="212"/>
                        </a:lnTo>
                        <a:lnTo>
                          <a:pt x="435" y="156"/>
                        </a:lnTo>
                        <a:lnTo>
                          <a:pt x="437" y="129"/>
                        </a:lnTo>
                        <a:lnTo>
                          <a:pt x="461" y="112"/>
                        </a:lnTo>
                        <a:lnTo>
                          <a:pt x="479" y="91"/>
                        </a:lnTo>
                        <a:lnTo>
                          <a:pt x="497" y="58"/>
                        </a:lnTo>
                        <a:lnTo>
                          <a:pt x="517" y="18"/>
                        </a:lnTo>
                        <a:lnTo>
                          <a:pt x="541" y="0"/>
                        </a:lnTo>
                        <a:lnTo>
                          <a:pt x="575" y="0"/>
                        </a:lnTo>
                        <a:lnTo>
                          <a:pt x="612" y="10"/>
                        </a:lnTo>
                        <a:lnTo>
                          <a:pt x="636" y="31"/>
                        </a:lnTo>
                        <a:lnTo>
                          <a:pt x="697" y="37"/>
                        </a:lnTo>
                        <a:lnTo>
                          <a:pt x="741" y="42"/>
                        </a:lnTo>
                        <a:lnTo>
                          <a:pt x="783" y="62"/>
                        </a:lnTo>
                        <a:lnTo>
                          <a:pt x="821" y="103"/>
                        </a:lnTo>
                        <a:lnTo>
                          <a:pt x="850" y="172"/>
                        </a:lnTo>
                        <a:lnTo>
                          <a:pt x="857" y="214"/>
                        </a:lnTo>
                        <a:lnTo>
                          <a:pt x="853" y="257"/>
                        </a:lnTo>
                        <a:lnTo>
                          <a:pt x="859" y="301"/>
                        </a:lnTo>
                        <a:lnTo>
                          <a:pt x="850" y="336"/>
                        </a:lnTo>
                        <a:lnTo>
                          <a:pt x="827" y="350"/>
                        </a:lnTo>
                        <a:lnTo>
                          <a:pt x="795" y="370"/>
                        </a:lnTo>
                        <a:lnTo>
                          <a:pt x="772" y="393"/>
                        </a:lnTo>
                        <a:lnTo>
                          <a:pt x="745" y="403"/>
                        </a:lnTo>
                        <a:lnTo>
                          <a:pt x="710" y="398"/>
                        </a:lnTo>
                        <a:lnTo>
                          <a:pt x="697" y="393"/>
                        </a:lnTo>
                        <a:lnTo>
                          <a:pt x="693" y="328"/>
                        </a:lnTo>
                        <a:lnTo>
                          <a:pt x="693" y="271"/>
                        </a:lnTo>
                        <a:lnTo>
                          <a:pt x="678" y="234"/>
                        </a:lnTo>
                        <a:lnTo>
                          <a:pt x="642" y="200"/>
                        </a:lnTo>
                        <a:lnTo>
                          <a:pt x="599" y="162"/>
                        </a:lnTo>
                        <a:lnTo>
                          <a:pt x="588" y="152"/>
                        </a:lnTo>
                        <a:lnTo>
                          <a:pt x="612" y="180"/>
                        </a:lnTo>
                        <a:lnTo>
                          <a:pt x="664" y="228"/>
                        </a:lnTo>
                        <a:lnTo>
                          <a:pt x="683" y="267"/>
                        </a:lnTo>
                        <a:lnTo>
                          <a:pt x="686" y="303"/>
                        </a:lnTo>
                        <a:lnTo>
                          <a:pt x="690" y="390"/>
                        </a:lnTo>
                        <a:lnTo>
                          <a:pt x="626" y="398"/>
                        </a:lnTo>
                        <a:lnTo>
                          <a:pt x="575" y="418"/>
                        </a:lnTo>
                        <a:lnTo>
                          <a:pt x="529" y="433"/>
                        </a:lnTo>
                        <a:lnTo>
                          <a:pt x="497" y="433"/>
                        </a:lnTo>
                        <a:lnTo>
                          <a:pt x="465" y="418"/>
                        </a:lnTo>
                        <a:lnTo>
                          <a:pt x="442" y="394"/>
                        </a:lnTo>
                        <a:lnTo>
                          <a:pt x="403" y="356"/>
                        </a:lnTo>
                        <a:lnTo>
                          <a:pt x="360" y="326"/>
                        </a:lnTo>
                        <a:lnTo>
                          <a:pt x="305" y="303"/>
                        </a:lnTo>
                        <a:lnTo>
                          <a:pt x="250" y="285"/>
                        </a:lnTo>
                        <a:lnTo>
                          <a:pt x="155" y="261"/>
                        </a:lnTo>
                        <a:lnTo>
                          <a:pt x="240" y="295"/>
                        </a:lnTo>
                        <a:lnTo>
                          <a:pt x="305" y="313"/>
                        </a:lnTo>
                        <a:lnTo>
                          <a:pt x="398" y="362"/>
                        </a:lnTo>
                        <a:lnTo>
                          <a:pt x="441" y="407"/>
                        </a:lnTo>
                        <a:lnTo>
                          <a:pt x="483" y="438"/>
                        </a:lnTo>
                        <a:lnTo>
                          <a:pt x="523" y="443"/>
                        </a:lnTo>
                        <a:lnTo>
                          <a:pt x="560" y="434"/>
                        </a:lnTo>
                        <a:lnTo>
                          <a:pt x="598" y="420"/>
                        </a:lnTo>
                        <a:lnTo>
                          <a:pt x="640" y="404"/>
                        </a:lnTo>
                        <a:lnTo>
                          <a:pt x="684" y="398"/>
                        </a:lnTo>
                        <a:lnTo>
                          <a:pt x="736" y="407"/>
                        </a:lnTo>
                        <a:lnTo>
                          <a:pt x="746" y="420"/>
                        </a:lnTo>
                        <a:lnTo>
                          <a:pt x="731" y="465"/>
                        </a:lnTo>
                        <a:lnTo>
                          <a:pt x="728" y="526"/>
                        </a:lnTo>
                        <a:lnTo>
                          <a:pt x="727" y="579"/>
                        </a:lnTo>
                        <a:lnTo>
                          <a:pt x="714" y="623"/>
                        </a:lnTo>
                        <a:lnTo>
                          <a:pt x="698" y="669"/>
                        </a:lnTo>
                        <a:lnTo>
                          <a:pt x="686" y="698"/>
                        </a:lnTo>
                        <a:lnTo>
                          <a:pt x="667" y="719"/>
                        </a:lnTo>
                        <a:lnTo>
                          <a:pt x="640" y="734"/>
                        </a:lnTo>
                        <a:lnTo>
                          <a:pt x="608" y="745"/>
                        </a:lnTo>
                        <a:lnTo>
                          <a:pt x="555" y="756"/>
                        </a:lnTo>
                        <a:lnTo>
                          <a:pt x="521" y="756"/>
                        </a:lnTo>
                        <a:lnTo>
                          <a:pt x="476" y="736"/>
                        </a:lnTo>
                        <a:lnTo>
                          <a:pt x="438" y="715"/>
                        </a:lnTo>
                        <a:lnTo>
                          <a:pt x="390" y="705"/>
                        </a:lnTo>
                        <a:close/>
                      </a:path>
                    </a:pathLst>
                  </a:custGeom>
                  <a:solidFill>
                    <a:srgbClr val="ff8080"/>
                  </a:solidFill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643120" y="1085760"/>
                    <a:ext cx="319320" cy="347760"/>
                  </a:xfrm>
                  <a:custGeom>
                    <a:avLst/>
                    <a:gdLst/>
                    <a:ahLst/>
                    <a:rect l="l" t="t" r="r" b="b"/>
                    <a:pathLst>
                      <a:path w="803" h="876">
                        <a:moveTo>
                          <a:pt x="481" y="707"/>
                        </a:moveTo>
                        <a:lnTo>
                          <a:pt x="481" y="727"/>
                        </a:lnTo>
                        <a:lnTo>
                          <a:pt x="477" y="741"/>
                        </a:lnTo>
                        <a:lnTo>
                          <a:pt x="463" y="738"/>
                        </a:lnTo>
                        <a:lnTo>
                          <a:pt x="455" y="732"/>
                        </a:lnTo>
                        <a:lnTo>
                          <a:pt x="416" y="830"/>
                        </a:lnTo>
                        <a:lnTo>
                          <a:pt x="446" y="850"/>
                        </a:lnTo>
                        <a:lnTo>
                          <a:pt x="474" y="863"/>
                        </a:lnTo>
                        <a:lnTo>
                          <a:pt x="519" y="873"/>
                        </a:lnTo>
                        <a:lnTo>
                          <a:pt x="558" y="876"/>
                        </a:lnTo>
                        <a:lnTo>
                          <a:pt x="603" y="873"/>
                        </a:lnTo>
                        <a:lnTo>
                          <a:pt x="627" y="864"/>
                        </a:lnTo>
                        <a:lnTo>
                          <a:pt x="650" y="852"/>
                        </a:lnTo>
                        <a:lnTo>
                          <a:pt x="667" y="836"/>
                        </a:lnTo>
                        <a:lnTo>
                          <a:pt x="676" y="818"/>
                        </a:lnTo>
                        <a:lnTo>
                          <a:pt x="676" y="788"/>
                        </a:lnTo>
                        <a:lnTo>
                          <a:pt x="650" y="742"/>
                        </a:lnTo>
                        <a:lnTo>
                          <a:pt x="620" y="714"/>
                        </a:lnTo>
                        <a:lnTo>
                          <a:pt x="578" y="678"/>
                        </a:lnTo>
                        <a:lnTo>
                          <a:pt x="514" y="630"/>
                        </a:lnTo>
                        <a:lnTo>
                          <a:pt x="471" y="607"/>
                        </a:lnTo>
                        <a:lnTo>
                          <a:pt x="378" y="566"/>
                        </a:lnTo>
                        <a:lnTo>
                          <a:pt x="324" y="555"/>
                        </a:lnTo>
                        <a:lnTo>
                          <a:pt x="293" y="555"/>
                        </a:lnTo>
                        <a:lnTo>
                          <a:pt x="249" y="563"/>
                        </a:lnTo>
                        <a:lnTo>
                          <a:pt x="187" y="589"/>
                        </a:lnTo>
                        <a:lnTo>
                          <a:pt x="245" y="549"/>
                        </a:lnTo>
                        <a:lnTo>
                          <a:pt x="269" y="517"/>
                        </a:lnTo>
                        <a:lnTo>
                          <a:pt x="286" y="471"/>
                        </a:lnTo>
                        <a:lnTo>
                          <a:pt x="300" y="421"/>
                        </a:lnTo>
                        <a:lnTo>
                          <a:pt x="302" y="363"/>
                        </a:lnTo>
                        <a:lnTo>
                          <a:pt x="290" y="300"/>
                        </a:lnTo>
                        <a:lnTo>
                          <a:pt x="272" y="275"/>
                        </a:lnTo>
                        <a:lnTo>
                          <a:pt x="245" y="251"/>
                        </a:lnTo>
                        <a:lnTo>
                          <a:pt x="210" y="217"/>
                        </a:lnTo>
                        <a:lnTo>
                          <a:pt x="264" y="254"/>
                        </a:lnTo>
                        <a:lnTo>
                          <a:pt x="300" y="275"/>
                        </a:lnTo>
                        <a:lnTo>
                          <a:pt x="312" y="281"/>
                        </a:lnTo>
                        <a:lnTo>
                          <a:pt x="348" y="298"/>
                        </a:lnTo>
                        <a:lnTo>
                          <a:pt x="402" y="312"/>
                        </a:lnTo>
                        <a:lnTo>
                          <a:pt x="465" y="312"/>
                        </a:lnTo>
                        <a:lnTo>
                          <a:pt x="549" y="314"/>
                        </a:lnTo>
                        <a:lnTo>
                          <a:pt x="616" y="318"/>
                        </a:lnTo>
                        <a:lnTo>
                          <a:pt x="676" y="316"/>
                        </a:lnTo>
                        <a:lnTo>
                          <a:pt x="706" y="326"/>
                        </a:lnTo>
                        <a:lnTo>
                          <a:pt x="735" y="326"/>
                        </a:lnTo>
                        <a:lnTo>
                          <a:pt x="764" y="304"/>
                        </a:lnTo>
                        <a:lnTo>
                          <a:pt x="787" y="271"/>
                        </a:lnTo>
                        <a:lnTo>
                          <a:pt x="801" y="240"/>
                        </a:lnTo>
                        <a:lnTo>
                          <a:pt x="803" y="209"/>
                        </a:lnTo>
                        <a:lnTo>
                          <a:pt x="791" y="190"/>
                        </a:lnTo>
                        <a:lnTo>
                          <a:pt x="764" y="180"/>
                        </a:lnTo>
                        <a:lnTo>
                          <a:pt x="745" y="162"/>
                        </a:lnTo>
                        <a:lnTo>
                          <a:pt x="745" y="138"/>
                        </a:lnTo>
                        <a:lnTo>
                          <a:pt x="735" y="121"/>
                        </a:lnTo>
                        <a:lnTo>
                          <a:pt x="722" y="106"/>
                        </a:lnTo>
                        <a:lnTo>
                          <a:pt x="706" y="94"/>
                        </a:lnTo>
                        <a:lnTo>
                          <a:pt x="674" y="84"/>
                        </a:lnTo>
                        <a:lnTo>
                          <a:pt x="624" y="106"/>
                        </a:lnTo>
                        <a:lnTo>
                          <a:pt x="579" y="112"/>
                        </a:lnTo>
                        <a:lnTo>
                          <a:pt x="529" y="114"/>
                        </a:lnTo>
                        <a:lnTo>
                          <a:pt x="490" y="108"/>
                        </a:lnTo>
                        <a:lnTo>
                          <a:pt x="440" y="94"/>
                        </a:lnTo>
                        <a:lnTo>
                          <a:pt x="395" y="71"/>
                        </a:lnTo>
                        <a:lnTo>
                          <a:pt x="367" y="55"/>
                        </a:lnTo>
                        <a:lnTo>
                          <a:pt x="343" y="60"/>
                        </a:lnTo>
                        <a:lnTo>
                          <a:pt x="324" y="70"/>
                        </a:lnTo>
                        <a:lnTo>
                          <a:pt x="330" y="108"/>
                        </a:lnTo>
                        <a:lnTo>
                          <a:pt x="378" y="136"/>
                        </a:lnTo>
                        <a:lnTo>
                          <a:pt x="429" y="166"/>
                        </a:lnTo>
                        <a:lnTo>
                          <a:pt x="491" y="197"/>
                        </a:lnTo>
                        <a:lnTo>
                          <a:pt x="562" y="221"/>
                        </a:lnTo>
                        <a:lnTo>
                          <a:pt x="614" y="230"/>
                        </a:lnTo>
                        <a:lnTo>
                          <a:pt x="553" y="226"/>
                        </a:lnTo>
                        <a:lnTo>
                          <a:pt x="477" y="199"/>
                        </a:lnTo>
                        <a:lnTo>
                          <a:pt x="433" y="176"/>
                        </a:lnTo>
                        <a:lnTo>
                          <a:pt x="343" y="118"/>
                        </a:lnTo>
                        <a:lnTo>
                          <a:pt x="300" y="81"/>
                        </a:lnTo>
                        <a:lnTo>
                          <a:pt x="273" y="81"/>
                        </a:lnTo>
                        <a:lnTo>
                          <a:pt x="244" y="78"/>
                        </a:lnTo>
                        <a:lnTo>
                          <a:pt x="217" y="68"/>
                        </a:lnTo>
                        <a:lnTo>
                          <a:pt x="179" y="41"/>
                        </a:lnTo>
                        <a:lnTo>
                          <a:pt x="131" y="0"/>
                        </a:lnTo>
                        <a:lnTo>
                          <a:pt x="87" y="4"/>
                        </a:lnTo>
                        <a:lnTo>
                          <a:pt x="78" y="54"/>
                        </a:lnTo>
                        <a:lnTo>
                          <a:pt x="64" y="98"/>
                        </a:lnTo>
                        <a:lnTo>
                          <a:pt x="43" y="135"/>
                        </a:lnTo>
                        <a:lnTo>
                          <a:pt x="16" y="166"/>
                        </a:lnTo>
                        <a:lnTo>
                          <a:pt x="9" y="190"/>
                        </a:lnTo>
                        <a:lnTo>
                          <a:pt x="10" y="219"/>
                        </a:lnTo>
                        <a:lnTo>
                          <a:pt x="20" y="254"/>
                        </a:lnTo>
                        <a:lnTo>
                          <a:pt x="44" y="284"/>
                        </a:lnTo>
                        <a:lnTo>
                          <a:pt x="36" y="308"/>
                        </a:lnTo>
                        <a:lnTo>
                          <a:pt x="40" y="338"/>
                        </a:lnTo>
                        <a:lnTo>
                          <a:pt x="53" y="369"/>
                        </a:lnTo>
                        <a:lnTo>
                          <a:pt x="72" y="392"/>
                        </a:lnTo>
                        <a:lnTo>
                          <a:pt x="43" y="407"/>
                        </a:lnTo>
                        <a:lnTo>
                          <a:pt x="24" y="423"/>
                        </a:lnTo>
                        <a:lnTo>
                          <a:pt x="6" y="451"/>
                        </a:lnTo>
                        <a:lnTo>
                          <a:pt x="0" y="494"/>
                        </a:lnTo>
                        <a:lnTo>
                          <a:pt x="36" y="542"/>
                        </a:lnTo>
                        <a:lnTo>
                          <a:pt x="58" y="585"/>
                        </a:lnTo>
                        <a:lnTo>
                          <a:pt x="72" y="627"/>
                        </a:lnTo>
                        <a:lnTo>
                          <a:pt x="71" y="680"/>
                        </a:lnTo>
                        <a:lnTo>
                          <a:pt x="60" y="717"/>
                        </a:lnTo>
                        <a:lnTo>
                          <a:pt x="60" y="742"/>
                        </a:lnTo>
                        <a:lnTo>
                          <a:pt x="77" y="759"/>
                        </a:lnTo>
                        <a:lnTo>
                          <a:pt x="101" y="763"/>
                        </a:lnTo>
                        <a:lnTo>
                          <a:pt x="131" y="755"/>
                        </a:lnTo>
                        <a:lnTo>
                          <a:pt x="190" y="728"/>
                        </a:lnTo>
                        <a:lnTo>
                          <a:pt x="248" y="708"/>
                        </a:lnTo>
                        <a:lnTo>
                          <a:pt x="288" y="700"/>
                        </a:lnTo>
                        <a:lnTo>
                          <a:pt x="328" y="697"/>
                        </a:lnTo>
                        <a:lnTo>
                          <a:pt x="364" y="700"/>
                        </a:lnTo>
                        <a:lnTo>
                          <a:pt x="392" y="708"/>
                        </a:lnTo>
                        <a:lnTo>
                          <a:pt x="430" y="718"/>
                        </a:lnTo>
                        <a:lnTo>
                          <a:pt x="471" y="731"/>
                        </a:lnTo>
                        <a:lnTo>
                          <a:pt x="481" y="707"/>
                        </a:lnTo>
                        <a:close/>
                      </a:path>
                    </a:pathLst>
                  </a:custGeom>
                  <a:solidFill>
                    <a:srgbClr val="ff8080"/>
                  </a:solidFill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941560" y="1047600"/>
                    <a:ext cx="209520" cy="201600"/>
                  </a:xfrm>
                  <a:custGeom>
                    <a:avLst/>
                    <a:gdLst/>
                    <a:ahLst/>
                    <a:rect l="l" t="t" r="r" b="b"/>
                    <a:pathLst>
                      <a:path w="529" h="509">
                        <a:moveTo>
                          <a:pt x="448" y="0"/>
                        </a:moveTo>
                        <a:lnTo>
                          <a:pt x="419" y="2"/>
                        </a:lnTo>
                        <a:lnTo>
                          <a:pt x="388" y="12"/>
                        </a:lnTo>
                        <a:lnTo>
                          <a:pt x="358" y="34"/>
                        </a:lnTo>
                        <a:lnTo>
                          <a:pt x="344" y="48"/>
                        </a:lnTo>
                        <a:lnTo>
                          <a:pt x="321" y="77"/>
                        </a:lnTo>
                        <a:lnTo>
                          <a:pt x="290" y="109"/>
                        </a:lnTo>
                        <a:lnTo>
                          <a:pt x="249" y="138"/>
                        </a:lnTo>
                        <a:lnTo>
                          <a:pt x="205" y="159"/>
                        </a:lnTo>
                        <a:lnTo>
                          <a:pt x="140" y="169"/>
                        </a:lnTo>
                        <a:lnTo>
                          <a:pt x="80" y="176"/>
                        </a:lnTo>
                        <a:lnTo>
                          <a:pt x="44" y="182"/>
                        </a:lnTo>
                        <a:lnTo>
                          <a:pt x="11" y="206"/>
                        </a:lnTo>
                        <a:lnTo>
                          <a:pt x="0" y="240"/>
                        </a:lnTo>
                        <a:lnTo>
                          <a:pt x="0" y="260"/>
                        </a:lnTo>
                        <a:lnTo>
                          <a:pt x="24" y="278"/>
                        </a:lnTo>
                        <a:lnTo>
                          <a:pt x="52" y="293"/>
                        </a:lnTo>
                        <a:lnTo>
                          <a:pt x="88" y="298"/>
                        </a:lnTo>
                        <a:lnTo>
                          <a:pt x="112" y="295"/>
                        </a:lnTo>
                        <a:lnTo>
                          <a:pt x="134" y="297"/>
                        </a:lnTo>
                        <a:lnTo>
                          <a:pt x="157" y="305"/>
                        </a:lnTo>
                        <a:lnTo>
                          <a:pt x="173" y="325"/>
                        </a:lnTo>
                        <a:lnTo>
                          <a:pt x="198" y="331"/>
                        </a:lnTo>
                        <a:lnTo>
                          <a:pt x="231" y="335"/>
                        </a:lnTo>
                        <a:lnTo>
                          <a:pt x="267" y="338"/>
                        </a:lnTo>
                        <a:lnTo>
                          <a:pt x="304" y="345"/>
                        </a:lnTo>
                        <a:lnTo>
                          <a:pt x="331" y="364"/>
                        </a:lnTo>
                        <a:lnTo>
                          <a:pt x="354" y="383"/>
                        </a:lnTo>
                        <a:lnTo>
                          <a:pt x="376" y="416"/>
                        </a:lnTo>
                        <a:lnTo>
                          <a:pt x="390" y="461"/>
                        </a:lnTo>
                        <a:lnTo>
                          <a:pt x="406" y="509"/>
                        </a:lnTo>
                        <a:lnTo>
                          <a:pt x="433" y="467"/>
                        </a:lnTo>
                        <a:lnTo>
                          <a:pt x="454" y="434"/>
                        </a:lnTo>
                        <a:lnTo>
                          <a:pt x="485" y="398"/>
                        </a:lnTo>
                        <a:lnTo>
                          <a:pt x="491" y="376"/>
                        </a:lnTo>
                        <a:lnTo>
                          <a:pt x="509" y="342"/>
                        </a:lnTo>
                        <a:lnTo>
                          <a:pt x="529" y="297"/>
                        </a:lnTo>
                        <a:lnTo>
                          <a:pt x="509" y="287"/>
                        </a:lnTo>
                        <a:lnTo>
                          <a:pt x="485" y="268"/>
                        </a:lnTo>
                        <a:lnTo>
                          <a:pt x="450" y="240"/>
                        </a:lnTo>
                        <a:lnTo>
                          <a:pt x="434" y="210"/>
                        </a:lnTo>
                        <a:lnTo>
                          <a:pt x="424" y="182"/>
                        </a:lnTo>
                        <a:lnTo>
                          <a:pt x="355" y="182"/>
                        </a:lnTo>
                        <a:lnTo>
                          <a:pt x="310" y="186"/>
                        </a:lnTo>
                        <a:lnTo>
                          <a:pt x="247" y="200"/>
                        </a:lnTo>
                        <a:lnTo>
                          <a:pt x="306" y="178"/>
                        </a:lnTo>
                        <a:lnTo>
                          <a:pt x="354" y="169"/>
                        </a:lnTo>
                        <a:lnTo>
                          <a:pt x="424" y="178"/>
                        </a:lnTo>
                        <a:lnTo>
                          <a:pt x="422" y="125"/>
                        </a:lnTo>
                        <a:lnTo>
                          <a:pt x="426" y="68"/>
                        </a:lnTo>
                        <a:lnTo>
                          <a:pt x="448" y="0"/>
                        </a:lnTo>
                        <a:close/>
                      </a:path>
                    </a:pathLst>
                  </a:custGeom>
                  <a:solidFill>
                    <a:srgbClr val="ff8080"/>
                  </a:solidFill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80" name=""/>
                <p:cNvGrpSpPr/>
                <p:nvPr/>
              </p:nvGrpSpPr>
              <p:grpSpPr>
                <a:xfrm>
                  <a:off x="2509920" y="833400"/>
                  <a:ext cx="750960" cy="938160"/>
                  <a:chOff x="2509920" y="833400"/>
                  <a:chExt cx="750960" cy="938160"/>
                </a:xfrm>
              </p:grpSpPr>
              <p:sp>
                <p:nvSpPr>
                  <p:cNvPr id="281" name=""/>
                  <p:cNvSpPr/>
                  <p:nvPr/>
                </p:nvSpPr>
                <p:spPr>
                  <a:xfrm>
                    <a:off x="2509920" y="833400"/>
                    <a:ext cx="750960" cy="938160"/>
                  </a:xfrm>
                  <a:custGeom>
                    <a:avLst/>
                    <a:gdLst/>
                    <a:ahLst/>
                    <a:rect l="l" t="t" r="r" b="b"/>
                    <a:pathLst>
                      <a:path w="1891" h="2363">
                        <a:moveTo>
                          <a:pt x="1010" y="2363"/>
                        </a:moveTo>
                        <a:lnTo>
                          <a:pt x="1031" y="2349"/>
                        </a:lnTo>
                        <a:lnTo>
                          <a:pt x="1042" y="2252"/>
                        </a:lnTo>
                        <a:lnTo>
                          <a:pt x="1055" y="2149"/>
                        </a:lnTo>
                        <a:lnTo>
                          <a:pt x="1066" y="2082"/>
                        </a:lnTo>
                        <a:lnTo>
                          <a:pt x="1100" y="2028"/>
                        </a:lnTo>
                        <a:lnTo>
                          <a:pt x="1133" y="1956"/>
                        </a:lnTo>
                        <a:lnTo>
                          <a:pt x="1150" y="1888"/>
                        </a:lnTo>
                        <a:lnTo>
                          <a:pt x="1151" y="1828"/>
                        </a:lnTo>
                        <a:lnTo>
                          <a:pt x="1150" y="1797"/>
                        </a:lnTo>
                        <a:lnTo>
                          <a:pt x="1204" y="1810"/>
                        </a:lnTo>
                        <a:lnTo>
                          <a:pt x="1263" y="1811"/>
                        </a:lnTo>
                        <a:lnTo>
                          <a:pt x="1332" y="1804"/>
                        </a:lnTo>
                        <a:lnTo>
                          <a:pt x="1386" y="1785"/>
                        </a:lnTo>
                        <a:lnTo>
                          <a:pt x="1410" y="1773"/>
                        </a:lnTo>
                        <a:lnTo>
                          <a:pt x="1457" y="1725"/>
                        </a:lnTo>
                        <a:lnTo>
                          <a:pt x="1468" y="1695"/>
                        </a:lnTo>
                        <a:lnTo>
                          <a:pt x="1519" y="1669"/>
                        </a:lnTo>
                        <a:lnTo>
                          <a:pt x="1556" y="1634"/>
                        </a:lnTo>
                        <a:lnTo>
                          <a:pt x="1586" y="1580"/>
                        </a:lnTo>
                        <a:lnTo>
                          <a:pt x="1604" y="1512"/>
                        </a:lnTo>
                        <a:lnTo>
                          <a:pt x="1596" y="1409"/>
                        </a:lnTo>
                        <a:lnTo>
                          <a:pt x="1641" y="1385"/>
                        </a:lnTo>
                        <a:lnTo>
                          <a:pt x="1689" y="1320"/>
                        </a:lnTo>
                        <a:lnTo>
                          <a:pt x="1723" y="1258"/>
                        </a:lnTo>
                        <a:lnTo>
                          <a:pt x="1741" y="1143"/>
                        </a:lnTo>
                        <a:lnTo>
                          <a:pt x="1779" y="1126"/>
                        </a:lnTo>
                        <a:lnTo>
                          <a:pt x="1815" y="1100"/>
                        </a:lnTo>
                        <a:lnTo>
                          <a:pt x="1853" y="1047"/>
                        </a:lnTo>
                        <a:lnTo>
                          <a:pt x="1867" y="1017"/>
                        </a:lnTo>
                        <a:lnTo>
                          <a:pt x="1887" y="924"/>
                        </a:lnTo>
                        <a:lnTo>
                          <a:pt x="1891" y="863"/>
                        </a:lnTo>
                        <a:lnTo>
                          <a:pt x="1887" y="833"/>
                        </a:lnTo>
                        <a:lnTo>
                          <a:pt x="1870" y="786"/>
                        </a:lnTo>
                        <a:lnTo>
                          <a:pt x="1839" y="772"/>
                        </a:lnTo>
                        <a:lnTo>
                          <a:pt x="1863" y="690"/>
                        </a:lnTo>
                        <a:lnTo>
                          <a:pt x="1861" y="639"/>
                        </a:lnTo>
                        <a:lnTo>
                          <a:pt x="1846" y="611"/>
                        </a:lnTo>
                        <a:lnTo>
                          <a:pt x="1849" y="542"/>
                        </a:lnTo>
                        <a:lnTo>
                          <a:pt x="1832" y="490"/>
                        </a:lnTo>
                        <a:lnTo>
                          <a:pt x="1827" y="433"/>
                        </a:lnTo>
                        <a:lnTo>
                          <a:pt x="1876" y="300"/>
                        </a:lnTo>
                        <a:lnTo>
                          <a:pt x="1887" y="243"/>
                        </a:lnTo>
                        <a:lnTo>
                          <a:pt x="1886" y="182"/>
                        </a:lnTo>
                        <a:lnTo>
                          <a:pt x="1876" y="117"/>
                        </a:lnTo>
                        <a:lnTo>
                          <a:pt x="1851" y="67"/>
                        </a:lnTo>
                        <a:lnTo>
                          <a:pt x="1809" y="16"/>
                        </a:lnTo>
                        <a:lnTo>
                          <a:pt x="1748" y="0"/>
                        </a:lnTo>
                        <a:lnTo>
                          <a:pt x="1670" y="104"/>
                        </a:lnTo>
                        <a:lnTo>
                          <a:pt x="1625" y="162"/>
                        </a:lnTo>
                        <a:lnTo>
                          <a:pt x="1567" y="223"/>
                        </a:lnTo>
                        <a:lnTo>
                          <a:pt x="1505" y="273"/>
                        </a:lnTo>
                        <a:lnTo>
                          <a:pt x="1468" y="301"/>
                        </a:lnTo>
                        <a:lnTo>
                          <a:pt x="1441" y="335"/>
                        </a:lnTo>
                        <a:lnTo>
                          <a:pt x="1372" y="344"/>
                        </a:lnTo>
                        <a:lnTo>
                          <a:pt x="1318" y="379"/>
                        </a:lnTo>
                        <a:lnTo>
                          <a:pt x="1276" y="440"/>
                        </a:lnTo>
                        <a:lnTo>
                          <a:pt x="1175" y="426"/>
                        </a:lnTo>
                        <a:lnTo>
                          <a:pt x="1127" y="433"/>
                        </a:lnTo>
                        <a:lnTo>
                          <a:pt x="1058" y="453"/>
                        </a:lnTo>
                        <a:lnTo>
                          <a:pt x="970" y="493"/>
                        </a:lnTo>
                        <a:lnTo>
                          <a:pt x="909" y="469"/>
                        </a:lnTo>
                        <a:lnTo>
                          <a:pt x="752" y="457"/>
                        </a:lnTo>
                        <a:lnTo>
                          <a:pt x="696" y="459"/>
                        </a:lnTo>
                        <a:lnTo>
                          <a:pt x="648" y="460"/>
                        </a:lnTo>
                        <a:lnTo>
                          <a:pt x="598" y="423"/>
                        </a:lnTo>
                        <a:lnTo>
                          <a:pt x="513" y="392"/>
                        </a:lnTo>
                        <a:lnTo>
                          <a:pt x="455" y="386"/>
                        </a:lnTo>
                        <a:lnTo>
                          <a:pt x="423" y="395"/>
                        </a:lnTo>
                        <a:lnTo>
                          <a:pt x="393" y="364"/>
                        </a:lnTo>
                        <a:lnTo>
                          <a:pt x="370" y="321"/>
                        </a:lnTo>
                        <a:lnTo>
                          <a:pt x="328" y="334"/>
                        </a:lnTo>
                        <a:lnTo>
                          <a:pt x="278" y="338"/>
                        </a:lnTo>
                        <a:lnTo>
                          <a:pt x="237" y="331"/>
                        </a:lnTo>
                        <a:lnTo>
                          <a:pt x="212" y="320"/>
                        </a:lnTo>
                        <a:lnTo>
                          <a:pt x="151" y="368"/>
                        </a:lnTo>
                        <a:lnTo>
                          <a:pt x="134" y="395"/>
                        </a:lnTo>
                        <a:lnTo>
                          <a:pt x="99" y="406"/>
                        </a:lnTo>
                        <a:lnTo>
                          <a:pt x="59" y="440"/>
                        </a:lnTo>
                        <a:lnTo>
                          <a:pt x="32" y="497"/>
                        </a:lnTo>
                        <a:lnTo>
                          <a:pt x="21" y="540"/>
                        </a:lnTo>
                        <a:lnTo>
                          <a:pt x="21" y="581"/>
                        </a:lnTo>
                        <a:lnTo>
                          <a:pt x="26" y="630"/>
                        </a:lnTo>
                        <a:lnTo>
                          <a:pt x="46" y="679"/>
                        </a:lnTo>
                        <a:lnTo>
                          <a:pt x="75" y="714"/>
                        </a:lnTo>
                        <a:lnTo>
                          <a:pt x="76" y="736"/>
                        </a:lnTo>
                        <a:lnTo>
                          <a:pt x="50" y="795"/>
                        </a:lnTo>
                        <a:lnTo>
                          <a:pt x="21" y="849"/>
                        </a:lnTo>
                        <a:lnTo>
                          <a:pt x="4" y="900"/>
                        </a:lnTo>
                        <a:lnTo>
                          <a:pt x="0" y="938"/>
                        </a:lnTo>
                        <a:lnTo>
                          <a:pt x="4" y="982"/>
                        </a:lnTo>
                        <a:lnTo>
                          <a:pt x="14" y="1019"/>
                        </a:lnTo>
                        <a:lnTo>
                          <a:pt x="35" y="1049"/>
                        </a:lnTo>
                        <a:lnTo>
                          <a:pt x="76" y="1076"/>
                        </a:lnTo>
                        <a:lnTo>
                          <a:pt x="59" y="1112"/>
                        </a:lnTo>
                        <a:lnTo>
                          <a:pt x="48" y="1138"/>
                        </a:lnTo>
                        <a:lnTo>
                          <a:pt x="45" y="1178"/>
                        </a:lnTo>
                        <a:lnTo>
                          <a:pt x="46" y="1280"/>
                        </a:lnTo>
                        <a:lnTo>
                          <a:pt x="50" y="1354"/>
                        </a:lnTo>
                        <a:lnTo>
                          <a:pt x="70" y="1428"/>
                        </a:lnTo>
                        <a:lnTo>
                          <a:pt x="113" y="1512"/>
                        </a:lnTo>
                        <a:lnTo>
                          <a:pt x="100" y="1533"/>
                        </a:lnTo>
                        <a:lnTo>
                          <a:pt x="94" y="1564"/>
                        </a:lnTo>
                        <a:lnTo>
                          <a:pt x="104" y="1611"/>
                        </a:lnTo>
                        <a:lnTo>
                          <a:pt x="128" y="1649"/>
                        </a:lnTo>
                        <a:lnTo>
                          <a:pt x="165" y="1685"/>
                        </a:lnTo>
                        <a:lnTo>
                          <a:pt x="207" y="1710"/>
                        </a:lnTo>
                        <a:lnTo>
                          <a:pt x="257" y="1719"/>
                        </a:lnTo>
                        <a:lnTo>
                          <a:pt x="329" y="1712"/>
                        </a:lnTo>
                        <a:lnTo>
                          <a:pt x="394" y="1692"/>
                        </a:lnTo>
                        <a:lnTo>
                          <a:pt x="445" y="1654"/>
                        </a:lnTo>
                        <a:lnTo>
                          <a:pt x="491" y="1638"/>
                        </a:lnTo>
                        <a:lnTo>
                          <a:pt x="536" y="1634"/>
                        </a:lnTo>
                        <a:lnTo>
                          <a:pt x="571" y="1629"/>
                        </a:lnTo>
                        <a:lnTo>
                          <a:pt x="618" y="1618"/>
                        </a:lnTo>
                        <a:lnTo>
                          <a:pt x="645" y="1590"/>
                        </a:lnTo>
                        <a:lnTo>
                          <a:pt x="652" y="1557"/>
                        </a:lnTo>
                        <a:lnTo>
                          <a:pt x="648" y="1514"/>
                        </a:lnTo>
                        <a:lnTo>
                          <a:pt x="646" y="1486"/>
                        </a:lnTo>
                        <a:lnTo>
                          <a:pt x="660" y="1464"/>
                        </a:lnTo>
                        <a:lnTo>
                          <a:pt x="680" y="1454"/>
                        </a:lnTo>
                        <a:lnTo>
                          <a:pt x="708" y="1454"/>
                        </a:lnTo>
                        <a:lnTo>
                          <a:pt x="752" y="1468"/>
                        </a:lnTo>
                        <a:lnTo>
                          <a:pt x="793" y="1368"/>
                        </a:lnTo>
                        <a:lnTo>
                          <a:pt x="690" y="1334"/>
                        </a:lnTo>
                        <a:lnTo>
                          <a:pt x="618" y="1338"/>
                        </a:lnTo>
                        <a:lnTo>
                          <a:pt x="551" y="1357"/>
                        </a:lnTo>
                        <a:lnTo>
                          <a:pt x="481" y="1387"/>
                        </a:lnTo>
                        <a:lnTo>
                          <a:pt x="408" y="1418"/>
                        </a:lnTo>
                        <a:lnTo>
                          <a:pt x="376" y="1429"/>
                        </a:lnTo>
                        <a:lnTo>
                          <a:pt x="379" y="1388"/>
                        </a:lnTo>
                        <a:lnTo>
                          <a:pt x="403" y="1328"/>
                        </a:lnTo>
                        <a:lnTo>
                          <a:pt x="407" y="1263"/>
                        </a:lnTo>
                        <a:lnTo>
                          <a:pt x="376" y="1183"/>
                        </a:lnTo>
                        <a:lnTo>
                          <a:pt x="348" y="1144"/>
                        </a:lnTo>
                        <a:lnTo>
                          <a:pt x="342" y="1124"/>
                        </a:lnTo>
                        <a:lnTo>
                          <a:pt x="340" y="1104"/>
                        </a:lnTo>
                        <a:lnTo>
                          <a:pt x="366" y="1039"/>
                        </a:lnTo>
                        <a:lnTo>
                          <a:pt x="372" y="991"/>
                        </a:lnTo>
                        <a:lnTo>
                          <a:pt x="372" y="931"/>
                        </a:lnTo>
                        <a:lnTo>
                          <a:pt x="352" y="882"/>
                        </a:lnTo>
                        <a:lnTo>
                          <a:pt x="318" y="821"/>
                        </a:lnTo>
                        <a:lnTo>
                          <a:pt x="359" y="796"/>
                        </a:lnTo>
                        <a:lnTo>
                          <a:pt x="396" y="742"/>
                        </a:lnTo>
                        <a:lnTo>
                          <a:pt x="418" y="677"/>
                        </a:lnTo>
                        <a:lnTo>
                          <a:pt x="427" y="639"/>
                        </a:lnTo>
                        <a:lnTo>
                          <a:pt x="477" y="635"/>
                        </a:lnTo>
                        <a:lnTo>
                          <a:pt x="519" y="677"/>
                        </a:lnTo>
                        <a:lnTo>
                          <a:pt x="580" y="714"/>
                        </a:lnTo>
                        <a:lnTo>
                          <a:pt x="626" y="717"/>
                        </a:lnTo>
                        <a:lnTo>
                          <a:pt x="664" y="704"/>
                        </a:lnTo>
                        <a:lnTo>
                          <a:pt x="698" y="683"/>
                        </a:lnTo>
                        <a:lnTo>
                          <a:pt x="732" y="711"/>
                        </a:lnTo>
                        <a:lnTo>
                          <a:pt x="789" y="738"/>
                        </a:lnTo>
                        <a:lnTo>
                          <a:pt x="865" y="750"/>
                        </a:lnTo>
                        <a:lnTo>
                          <a:pt x="926" y="748"/>
                        </a:lnTo>
                        <a:lnTo>
                          <a:pt x="967" y="742"/>
                        </a:lnTo>
                        <a:lnTo>
                          <a:pt x="1017" y="720"/>
                        </a:lnTo>
                        <a:lnTo>
                          <a:pt x="1065" y="690"/>
                        </a:lnTo>
                        <a:lnTo>
                          <a:pt x="1125" y="717"/>
                        </a:lnTo>
                        <a:lnTo>
                          <a:pt x="1191" y="711"/>
                        </a:lnTo>
                        <a:lnTo>
                          <a:pt x="1284" y="700"/>
                        </a:lnTo>
                        <a:lnTo>
                          <a:pt x="1338" y="671"/>
                        </a:lnTo>
                        <a:lnTo>
                          <a:pt x="1380" y="639"/>
                        </a:lnTo>
                        <a:lnTo>
                          <a:pt x="1417" y="596"/>
                        </a:lnTo>
                        <a:lnTo>
                          <a:pt x="1429" y="578"/>
                        </a:lnTo>
                        <a:lnTo>
                          <a:pt x="1465" y="530"/>
                        </a:lnTo>
                        <a:lnTo>
                          <a:pt x="1495" y="524"/>
                        </a:lnTo>
                        <a:lnTo>
                          <a:pt x="1543" y="511"/>
                        </a:lnTo>
                        <a:lnTo>
                          <a:pt x="1518" y="606"/>
                        </a:lnTo>
                        <a:lnTo>
                          <a:pt x="1513" y="700"/>
                        </a:lnTo>
                        <a:lnTo>
                          <a:pt x="1525" y="752"/>
                        </a:lnTo>
                        <a:lnTo>
                          <a:pt x="1553" y="792"/>
                        </a:lnTo>
                        <a:lnTo>
                          <a:pt x="1622" y="835"/>
                        </a:lnTo>
                        <a:lnTo>
                          <a:pt x="1598" y="882"/>
                        </a:lnTo>
                        <a:lnTo>
                          <a:pt x="1574" y="938"/>
                        </a:lnTo>
                        <a:lnTo>
                          <a:pt x="1543" y="972"/>
                        </a:lnTo>
                        <a:lnTo>
                          <a:pt x="1511" y="1021"/>
                        </a:lnTo>
                        <a:lnTo>
                          <a:pt x="1489" y="1082"/>
                        </a:lnTo>
                        <a:lnTo>
                          <a:pt x="1493" y="1150"/>
                        </a:lnTo>
                        <a:lnTo>
                          <a:pt x="1479" y="1173"/>
                        </a:lnTo>
                        <a:lnTo>
                          <a:pt x="1439" y="1197"/>
                        </a:lnTo>
                        <a:lnTo>
                          <a:pt x="1403" y="1229"/>
                        </a:lnTo>
                        <a:lnTo>
                          <a:pt x="1382" y="1258"/>
                        </a:lnTo>
                        <a:lnTo>
                          <a:pt x="1368" y="1293"/>
                        </a:lnTo>
                        <a:lnTo>
                          <a:pt x="1366" y="1344"/>
                        </a:lnTo>
                        <a:lnTo>
                          <a:pt x="1362" y="1415"/>
                        </a:lnTo>
                        <a:lnTo>
                          <a:pt x="1344" y="1476"/>
                        </a:lnTo>
                        <a:lnTo>
                          <a:pt x="1324" y="1554"/>
                        </a:lnTo>
                        <a:lnTo>
                          <a:pt x="1300" y="1587"/>
                        </a:lnTo>
                        <a:lnTo>
                          <a:pt x="1276" y="1605"/>
                        </a:lnTo>
                        <a:lnTo>
                          <a:pt x="1239" y="1615"/>
                        </a:lnTo>
                        <a:lnTo>
                          <a:pt x="1213" y="1618"/>
                        </a:lnTo>
                        <a:lnTo>
                          <a:pt x="1189" y="1611"/>
                        </a:lnTo>
                        <a:lnTo>
                          <a:pt x="1163" y="1604"/>
                        </a:lnTo>
                        <a:lnTo>
                          <a:pt x="1133" y="1585"/>
                        </a:lnTo>
                        <a:lnTo>
                          <a:pt x="1106" y="1569"/>
                        </a:lnTo>
                        <a:lnTo>
                          <a:pt x="1076" y="1554"/>
                        </a:lnTo>
                        <a:lnTo>
                          <a:pt x="1044" y="1547"/>
                        </a:lnTo>
                        <a:lnTo>
                          <a:pt x="1020" y="1543"/>
                        </a:lnTo>
                        <a:lnTo>
                          <a:pt x="994" y="1547"/>
                        </a:lnTo>
                        <a:lnTo>
                          <a:pt x="960" y="1569"/>
                        </a:lnTo>
                        <a:lnTo>
                          <a:pt x="933" y="1600"/>
                        </a:lnTo>
                        <a:lnTo>
                          <a:pt x="915" y="1638"/>
                        </a:lnTo>
                        <a:lnTo>
                          <a:pt x="905" y="1702"/>
                        </a:lnTo>
                        <a:lnTo>
                          <a:pt x="909" y="1780"/>
                        </a:lnTo>
                        <a:lnTo>
                          <a:pt x="932" y="1800"/>
                        </a:lnTo>
                        <a:lnTo>
                          <a:pt x="914" y="1845"/>
                        </a:lnTo>
                        <a:lnTo>
                          <a:pt x="919" y="1943"/>
                        </a:lnTo>
                        <a:lnTo>
                          <a:pt x="982" y="2119"/>
                        </a:lnTo>
                        <a:lnTo>
                          <a:pt x="982" y="2176"/>
                        </a:lnTo>
                        <a:lnTo>
                          <a:pt x="993" y="2343"/>
                        </a:lnTo>
                        <a:lnTo>
                          <a:pt x="1010" y="2363"/>
                        </a:lnTo>
                        <a:close/>
                      </a:path>
                    </a:pathLst>
                  </a:custGeom>
                  <a:solidFill>
                    <a:srgbClr val="ffc080"/>
                  </a:solidFill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82" name=""/>
                  <p:cNvGrpSpPr/>
                  <p:nvPr/>
                </p:nvGrpSpPr>
                <p:grpSpPr>
                  <a:xfrm>
                    <a:off x="2556000" y="946080"/>
                    <a:ext cx="658800" cy="549360"/>
                    <a:chOff x="2556000" y="946080"/>
                    <a:chExt cx="658800" cy="549360"/>
                  </a:xfrm>
                </p:grpSpPr>
                <p:sp>
                  <p:nvSpPr>
                    <p:cNvPr id="283" name=""/>
                    <p:cNvSpPr/>
                    <p:nvPr/>
                  </p:nvSpPr>
                  <p:spPr>
                    <a:xfrm>
                      <a:off x="3159000" y="1001880"/>
                      <a:ext cx="9720" cy="5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4" h="127">
                          <a:moveTo>
                            <a:pt x="24" y="127"/>
                          </a:moveTo>
                          <a:lnTo>
                            <a:pt x="0" y="72"/>
                          </a:lnTo>
                          <a:lnTo>
                            <a:pt x="0" y="12"/>
                          </a:lnTo>
                          <a:lnTo>
                            <a:pt x="12" y="0"/>
                          </a:lnTo>
                        </a:path>
                      </a:pathLst>
                    </a:custGeom>
                    <a:noFill/>
                    <a:ln w="792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60" bIns="3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4" name=""/>
                    <p:cNvSpPr/>
                    <p:nvPr/>
                  </p:nvSpPr>
                  <p:spPr>
                    <a:xfrm>
                      <a:off x="3116160" y="946080"/>
                      <a:ext cx="73080" cy="9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7" h="237">
                          <a:moveTo>
                            <a:pt x="187" y="0"/>
                          </a:moveTo>
                          <a:lnTo>
                            <a:pt x="163" y="55"/>
                          </a:lnTo>
                          <a:lnTo>
                            <a:pt x="139" y="109"/>
                          </a:lnTo>
                          <a:lnTo>
                            <a:pt x="128" y="152"/>
                          </a:lnTo>
                          <a:lnTo>
                            <a:pt x="84" y="176"/>
                          </a:lnTo>
                          <a:lnTo>
                            <a:pt x="43" y="218"/>
                          </a:lnTo>
                          <a:lnTo>
                            <a:pt x="0" y="224"/>
                          </a:lnTo>
                          <a:lnTo>
                            <a:pt x="19" y="237"/>
                          </a:lnTo>
                        </a:path>
                      </a:pathLst>
                    </a:custGeom>
                    <a:noFill/>
                    <a:ln w="792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5" name=""/>
                    <p:cNvSpPr/>
                    <p:nvPr/>
                  </p:nvSpPr>
                  <p:spPr>
                    <a:xfrm>
                      <a:off x="2894040" y="1035000"/>
                      <a:ext cx="14400" cy="22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7" h="55">
                          <a:moveTo>
                            <a:pt x="0" y="0"/>
                          </a:moveTo>
                          <a:lnTo>
                            <a:pt x="37" y="48"/>
                          </a:lnTo>
                          <a:lnTo>
                            <a:pt x="37" y="55"/>
                          </a:lnTo>
                        </a:path>
                      </a:pathLst>
                    </a:custGeom>
                    <a:noFill/>
                    <a:ln w="792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480" bIns="-24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6" name=""/>
                    <p:cNvSpPr/>
                    <p:nvPr/>
                  </p:nvSpPr>
                  <p:spPr>
                    <a:xfrm>
                      <a:off x="2759040" y="1008000"/>
                      <a:ext cx="22320" cy="28800"/>
                    </a:xfrm>
                    <a:prstGeom prst="line">
                      <a:avLst/>
                    </a:prstGeom>
                    <a:ln w="792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000" bIns="-18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7" name=""/>
                    <p:cNvSpPr/>
                    <p:nvPr/>
                  </p:nvSpPr>
                  <p:spPr>
                    <a:xfrm>
                      <a:off x="2556000" y="987480"/>
                      <a:ext cx="122040" cy="19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9" h="49">
                          <a:moveTo>
                            <a:pt x="309" y="0"/>
                          </a:moveTo>
                          <a:lnTo>
                            <a:pt x="266" y="43"/>
                          </a:lnTo>
                          <a:lnTo>
                            <a:pt x="224" y="49"/>
                          </a:lnTo>
                          <a:lnTo>
                            <a:pt x="194" y="19"/>
                          </a:lnTo>
                          <a:lnTo>
                            <a:pt x="146" y="6"/>
                          </a:lnTo>
                          <a:lnTo>
                            <a:pt x="91" y="6"/>
                          </a:lnTo>
                          <a:lnTo>
                            <a:pt x="19" y="6"/>
                          </a:lnTo>
                          <a:lnTo>
                            <a:pt x="0" y="6"/>
                          </a:lnTo>
                          <a:lnTo>
                            <a:pt x="7" y="12"/>
                          </a:lnTo>
                        </a:path>
                      </a:pathLst>
                    </a:custGeom>
                    <a:noFill/>
                    <a:ln w="792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720" bIns="-27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8" name=""/>
                    <p:cNvSpPr/>
                    <p:nvPr/>
                  </p:nvSpPr>
                  <p:spPr>
                    <a:xfrm>
                      <a:off x="2571840" y="1062000"/>
                      <a:ext cx="102960" cy="69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60" h="176">
                          <a:moveTo>
                            <a:pt x="260" y="73"/>
                          </a:moveTo>
                          <a:lnTo>
                            <a:pt x="193" y="73"/>
                          </a:lnTo>
                          <a:lnTo>
                            <a:pt x="138" y="73"/>
                          </a:lnTo>
                          <a:lnTo>
                            <a:pt x="90" y="73"/>
                          </a:lnTo>
                          <a:lnTo>
                            <a:pt x="42" y="42"/>
                          </a:lnTo>
                          <a:lnTo>
                            <a:pt x="7" y="0"/>
                          </a:lnTo>
                          <a:lnTo>
                            <a:pt x="36" y="49"/>
                          </a:lnTo>
                          <a:lnTo>
                            <a:pt x="42" y="97"/>
                          </a:lnTo>
                          <a:lnTo>
                            <a:pt x="36" y="140"/>
                          </a:lnTo>
                          <a:lnTo>
                            <a:pt x="18" y="157"/>
                          </a:lnTo>
                          <a:lnTo>
                            <a:pt x="0" y="176"/>
                          </a:lnTo>
                        </a:path>
                      </a:pathLst>
                    </a:custGeom>
                    <a:noFill/>
                    <a:ln w="792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9" name=""/>
                    <p:cNvSpPr/>
                    <p:nvPr/>
                  </p:nvSpPr>
                  <p:spPr>
                    <a:xfrm>
                      <a:off x="2579760" y="1181160"/>
                      <a:ext cx="5868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1" h="704">
                          <a:moveTo>
                            <a:pt x="0" y="0"/>
                          </a:moveTo>
                          <a:lnTo>
                            <a:pt x="6" y="49"/>
                          </a:lnTo>
                          <a:lnTo>
                            <a:pt x="18" y="97"/>
                          </a:lnTo>
                          <a:lnTo>
                            <a:pt x="67" y="128"/>
                          </a:lnTo>
                          <a:lnTo>
                            <a:pt x="30" y="165"/>
                          </a:lnTo>
                          <a:lnTo>
                            <a:pt x="24" y="206"/>
                          </a:lnTo>
                          <a:lnTo>
                            <a:pt x="42" y="256"/>
                          </a:lnTo>
                          <a:lnTo>
                            <a:pt x="72" y="304"/>
                          </a:lnTo>
                          <a:lnTo>
                            <a:pt x="78" y="334"/>
                          </a:lnTo>
                          <a:lnTo>
                            <a:pt x="85" y="389"/>
                          </a:lnTo>
                          <a:lnTo>
                            <a:pt x="61" y="432"/>
                          </a:lnTo>
                          <a:lnTo>
                            <a:pt x="37" y="473"/>
                          </a:lnTo>
                          <a:lnTo>
                            <a:pt x="78" y="486"/>
                          </a:lnTo>
                          <a:lnTo>
                            <a:pt x="91" y="516"/>
                          </a:lnTo>
                          <a:lnTo>
                            <a:pt x="109" y="577"/>
                          </a:lnTo>
                          <a:lnTo>
                            <a:pt x="109" y="595"/>
                          </a:lnTo>
                          <a:lnTo>
                            <a:pt x="96" y="613"/>
                          </a:lnTo>
                          <a:lnTo>
                            <a:pt x="91" y="649"/>
                          </a:lnTo>
                          <a:lnTo>
                            <a:pt x="96" y="673"/>
                          </a:lnTo>
                          <a:lnTo>
                            <a:pt x="133" y="692"/>
                          </a:lnTo>
                          <a:lnTo>
                            <a:pt x="139" y="704"/>
                          </a:lnTo>
                          <a:lnTo>
                            <a:pt x="151" y="697"/>
                          </a:lnTo>
                        </a:path>
                      </a:pathLst>
                    </a:custGeom>
                    <a:noFill/>
                    <a:ln w="792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0" name=""/>
                    <p:cNvSpPr/>
                    <p:nvPr/>
                  </p:nvSpPr>
                  <p:spPr>
                    <a:xfrm>
                      <a:off x="3173400" y="1112760"/>
                      <a:ext cx="41400" cy="5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3" h="146">
                          <a:moveTo>
                            <a:pt x="13" y="0"/>
                          </a:moveTo>
                          <a:lnTo>
                            <a:pt x="0" y="25"/>
                          </a:lnTo>
                          <a:lnTo>
                            <a:pt x="0" y="67"/>
                          </a:lnTo>
                          <a:lnTo>
                            <a:pt x="13" y="91"/>
                          </a:lnTo>
                          <a:lnTo>
                            <a:pt x="24" y="128"/>
                          </a:lnTo>
                          <a:lnTo>
                            <a:pt x="37" y="146"/>
                          </a:lnTo>
                          <a:lnTo>
                            <a:pt x="66" y="110"/>
                          </a:lnTo>
                          <a:lnTo>
                            <a:pt x="103" y="110"/>
                          </a:lnTo>
                        </a:path>
                      </a:pathLst>
                    </a:custGeom>
                    <a:noFill/>
                    <a:ln w="792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0440" bIns="10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1" name=""/>
                    <p:cNvSpPr/>
                    <p:nvPr/>
                  </p:nvSpPr>
                  <p:spPr>
                    <a:xfrm>
                      <a:off x="3157560" y="1211400"/>
                      <a:ext cx="31680" cy="79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" h="200">
                          <a:moveTo>
                            <a:pt x="84" y="0"/>
                          </a:moveTo>
                          <a:lnTo>
                            <a:pt x="36" y="37"/>
                          </a:lnTo>
                          <a:lnTo>
                            <a:pt x="18" y="67"/>
                          </a:lnTo>
                          <a:lnTo>
                            <a:pt x="6" y="122"/>
                          </a:lnTo>
                          <a:lnTo>
                            <a:pt x="18" y="170"/>
                          </a:lnTo>
                          <a:lnTo>
                            <a:pt x="0" y="200"/>
                          </a:lnTo>
                        </a:path>
                      </a:pathLst>
                    </a:custGeom>
                    <a:noFill/>
                    <a:ln w="792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2400" bIns="32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2" name=""/>
                    <p:cNvSpPr/>
                    <p:nvPr/>
                  </p:nvSpPr>
                  <p:spPr>
                    <a:xfrm>
                      <a:off x="3092400" y="1330200"/>
                      <a:ext cx="33480" cy="85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5" h="213">
                          <a:moveTo>
                            <a:pt x="85" y="0"/>
                          </a:moveTo>
                          <a:lnTo>
                            <a:pt x="36" y="43"/>
                          </a:lnTo>
                          <a:lnTo>
                            <a:pt x="18" y="104"/>
                          </a:lnTo>
                          <a:lnTo>
                            <a:pt x="0" y="165"/>
                          </a:lnTo>
                          <a:lnTo>
                            <a:pt x="0" y="206"/>
                          </a:lnTo>
                          <a:lnTo>
                            <a:pt x="0" y="213"/>
                          </a:lnTo>
                        </a:path>
                      </a:pathLst>
                    </a:custGeom>
                    <a:noFill/>
                    <a:ln w="792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8880" bIns="38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3" name=""/>
                    <p:cNvSpPr/>
                    <p:nvPr/>
                  </p:nvSpPr>
                  <p:spPr>
                    <a:xfrm>
                      <a:off x="3017880" y="1432080"/>
                      <a:ext cx="57240" cy="6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4" h="157">
                          <a:moveTo>
                            <a:pt x="144" y="0"/>
                          </a:moveTo>
                          <a:lnTo>
                            <a:pt x="115" y="41"/>
                          </a:lnTo>
                          <a:lnTo>
                            <a:pt x="102" y="84"/>
                          </a:lnTo>
                          <a:lnTo>
                            <a:pt x="61" y="102"/>
                          </a:lnTo>
                          <a:lnTo>
                            <a:pt x="42" y="139"/>
                          </a:lnTo>
                          <a:lnTo>
                            <a:pt x="0" y="157"/>
                          </a:lnTo>
                        </a:path>
                      </a:pathLst>
                    </a:custGeom>
                    <a:noFill/>
                    <a:ln w="792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6560" bIns="16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grpSp>
          <p:nvGrpSpPr>
            <p:cNvPr id="294" name=""/>
            <p:cNvGrpSpPr/>
            <p:nvPr/>
          </p:nvGrpSpPr>
          <p:grpSpPr>
            <a:xfrm>
              <a:off x="1136520" y="1531800"/>
              <a:ext cx="1173240" cy="642960"/>
              <a:chOff x="1136520" y="1531800"/>
              <a:chExt cx="1173240" cy="642960"/>
            </a:xfrm>
          </p:grpSpPr>
          <p:grpSp>
            <p:nvGrpSpPr>
              <p:cNvPr id="295" name=""/>
              <p:cNvGrpSpPr/>
              <p:nvPr/>
            </p:nvGrpSpPr>
            <p:grpSpPr>
              <a:xfrm>
                <a:off x="1136520" y="1531800"/>
                <a:ext cx="1173240" cy="642960"/>
                <a:chOff x="1136520" y="1531800"/>
                <a:chExt cx="1173240" cy="642960"/>
              </a:xfrm>
            </p:grpSpPr>
            <p:sp>
              <p:nvSpPr>
                <p:cNvPr id="296" name=""/>
                <p:cNvSpPr/>
                <p:nvPr/>
              </p:nvSpPr>
              <p:spPr>
                <a:xfrm>
                  <a:off x="1136520" y="1531800"/>
                  <a:ext cx="1173240" cy="641520"/>
                </a:xfrm>
                <a:custGeom>
                  <a:avLst/>
                  <a:gdLst/>
                  <a:ahLst/>
                  <a:rect l="l" t="t" r="r" b="b"/>
                  <a:pathLst>
                    <a:path w="2956" h="1617">
                      <a:moveTo>
                        <a:pt x="852" y="0"/>
                      </a:moveTo>
                      <a:lnTo>
                        <a:pt x="871" y="81"/>
                      </a:lnTo>
                      <a:lnTo>
                        <a:pt x="891" y="158"/>
                      </a:lnTo>
                      <a:lnTo>
                        <a:pt x="916" y="236"/>
                      </a:lnTo>
                      <a:lnTo>
                        <a:pt x="947" y="309"/>
                      </a:lnTo>
                      <a:lnTo>
                        <a:pt x="984" y="373"/>
                      </a:lnTo>
                      <a:lnTo>
                        <a:pt x="1033" y="437"/>
                      </a:lnTo>
                      <a:lnTo>
                        <a:pt x="1086" y="493"/>
                      </a:lnTo>
                      <a:lnTo>
                        <a:pt x="1150" y="549"/>
                      </a:lnTo>
                      <a:lnTo>
                        <a:pt x="1225" y="600"/>
                      </a:lnTo>
                      <a:lnTo>
                        <a:pt x="1310" y="641"/>
                      </a:lnTo>
                      <a:lnTo>
                        <a:pt x="1419" y="678"/>
                      </a:lnTo>
                      <a:lnTo>
                        <a:pt x="1534" y="715"/>
                      </a:lnTo>
                      <a:lnTo>
                        <a:pt x="1620" y="752"/>
                      </a:lnTo>
                      <a:lnTo>
                        <a:pt x="1704" y="791"/>
                      </a:lnTo>
                      <a:lnTo>
                        <a:pt x="1781" y="832"/>
                      </a:lnTo>
                      <a:lnTo>
                        <a:pt x="1836" y="867"/>
                      </a:lnTo>
                      <a:lnTo>
                        <a:pt x="1886" y="906"/>
                      </a:lnTo>
                      <a:lnTo>
                        <a:pt x="1967" y="894"/>
                      </a:lnTo>
                      <a:lnTo>
                        <a:pt x="2060" y="881"/>
                      </a:lnTo>
                      <a:lnTo>
                        <a:pt x="2130" y="885"/>
                      </a:lnTo>
                      <a:lnTo>
                        <a:pt x="2199" y="903"/>
                      </a:lnTo>
                      <a:lnTo>
                        <a:pt x="2256" y="928"/>
                      </a:lnTo>
                      <a:lnTo>
                        <a:pt x="2311" y="952"/>
                      </a:lnTo>
                      <a:lnTo>
                        <a:pt x="2382" y="974"/>
                      </a:lnTo>
                      <a:lnTo>
                        <a:pt x="2456" y="987"/>
                      </a:lnTo>
                      <a:lnTo>
                        <a:pt x="2535" y="993"/>
                      </a:lnTo>
                      <a:lnTo>
                        <a:pt x="2647" y="987"/>
                      </a:lnTo>
                      <a:lnTo>
                        <a:pt x="2763" y="968"/>
                      </a:lnTo>
                      <a:lnTo>
                        <a:pt x="2856" y="956"/>
                      </a:lnTo>
                      <a:lnTo>
                        <a:pt x="2906" y="950"/>
                      </a:lnTo>
                      <a:lnTo>
                        <a:pt x="2922" y="956"/>
                      </a:lnTo>
                      <a:lnTo>
                        <a:pt x="2930" y="967"/>
                      </a:lnTo>
                      <a:lnTo>
                        <a:pt x="2939" y="983"/>
                      </a:lnTo>
                      <a:lnTo>
                        <a:pt x="2948" y="1020"/>
                      </a:lnTo>
                      <a:lnTo>
                        <a:pt x="2956" y="1070"/>
                      </a:lnTo>
                      <a:lnTo>
                        <a:pt x="2955" y="1124"/>
                      </a:lnTo>
                      <a:lnTo>
                        <a:pt x="2943" y="1166"/>
                      </a:lnTo>
                      <a:lnTo>
                        <a:pt x="2931" y="1194"/>
                      </a:lnTo>
                      <a:lnTo>
                        <a:pt x="2918" y="1214"/>
                      </a:lnTo>
                      <a:lnTo>
                        <a:pt x="2925" y="1251"/>
                      </a:lnTo>
                      <a:lnTo>
                        <a:pt x="2918" y="1288"/>
                      </a:lnTo>
                      <a:lnTo>
                        <a:pt x="2900" y="1312"/>
                      </a:lnTo>
                      <a:lnTo>
                        <a:pt x="2878" y="1330"/>
                      </a:lnTo>
                      <a:lnTo>
                        <a:pt x="2852" y="1337"/>
                      </a:lnTo>
                      <a:lnTo>
                        <a:pt x="2813" y="1343"/>
                      </a:lnTo>
                      <a:lnTo>
                        <a:pt x="2800" y="1365"/>
                      </a:lnTo>
                      <a:lnTo>
                        <a:pt x="2773" y="1390"/>
                      </a:lnTo>
                      <a:lnTo>
                        <a:pt x="2741" y="1404"/>
                      </a:lnTo>
                      <a:lnTo>
                        <a:pt x="2706" y="1411"/>
                      </a:lnTo>
                      <a:lnTo>
                        <a:pt x="2671" y="1408"/>
                      </a:lnTo>
                      <a:lnTo>
                        <a:pt x="2597" y="1393"/>
                      </a:lnTo>
                      <a:lnTo>
                        <a:pt x="2603" y="1430"/>
                      </a:lnTo>
                      <a:lnTo>
                        <a:pt x="2597" y="1455"/>
                      </a:lnTo>
                      <a:lnTo>
                        <a:pt x="2585" y="1471"/>
                      </a:lnTo>
                      <a:lnTo>
                        <a:pt x="2566" y="1483"/>
                      </a:lnTo>
                      <a:lnTo>
                        <a:pt x="2538" y="1490"/>
                      </a:lnTo>
                      <a:lnTo>
                        <a:pt x="2504" y="1493"/>
                      </a:lnTo>
                      <a:lnTo>
                        <a:pt x="2467" y="1492"/>
                      </a:lnTo>
                      <a:lnTo>
                        <a:pt x="2414" y="1484"/>
                      </a:lnTo>
                      <a:lnTo>
                        <a:pt x="2368" y="1473"/>
                      </a:lnTo>
                      <a:lnTo>
                        <a:pt x="2318" y="1455"/>
                      </a:lnTo>
                      <a:lnTo>
                        <a:pt x="2315" y="1480"/>
                      </a:lnTo>
                      <a:lnTo>
                        <a:pt x="2302" y="1499"/>
                      </a:lnTo>
                      <a:lnTo>
                        <a:pt x="2282" y="1513"/>
                      </a:lnTo>
                      <a:lnTo>
                        <a:pt x="2254" y="1520"/>
                      </a:lnTo>
                      <a:lnTo>
                        <a:pt x="2220" y="1523"/>
                      </a:lnTo>
                      <a:lnTo>
                        <a:pt x="2171" y="1516"/>
                      </a:lnTo>
                      <a:lnTo>
                        <a:pt x="2128" y="1498"/>
                      </a:lnTo>
                      <a:lnTo>
                        <a:pt x="2104" y="1513"/>
                      </a:lnTo>
                      <a:lnTo>
                        <a:pt x="2075" y="1525"/>
                      </a:lnTo>
                      <a:lnTo>
                        <a:pt x="2038" y="1532"/>
                      </a:lnTo>
                      <a:lnTo>
                        <a:pt x="1998" y="1539"/>
                      </a:lnTo>
                      <a:lnTo>
                        <a:pt x="1948" y="1545"/>
                      </a:lnTo>
                      <a:lnTo>
                        <a:pt x="1874" y="1559"/>
                      </a:lnTo>
                      <a:lnTo>
                        <a:pt x="1793" y="1578"/>
                      </a:lnTo>
                      <a:lnTo>
                        <a:pt x="1729" y="1584"/>
                      </a:lnTo>
                      <a:lnTo>
                        <a:pt x="1670" y="1580"/>
                      </a:lnTo>
                      <a:lnTo>
                        <a:pt x="1582" y="1564"/>
                      </a:lnTo>
                      <a:lnTo>
                        <a:pt x="1502" y="1544"/>
                      </a:lnTo>
                      <a:lnTo>
                        <a:pt x="1412" y="1525"/>
                      </a:lnTo>
                      <a:lnTo>
                        <a:pt x="1335" y="1513"/>
                      </a:lnTo>
                      <a:lnTo>
                        <a:pt x="1272" y="1508"/>
                      </a:lnTo>
                      <a:lnTo>
                        <a:pt x="1217" y="1515"/>
                      </a:lnTo>
                      <a:lnTo>
                        <a:pt x="1156" y="1528"/>
                      </a:lnTo>
                      <a:lnTo>
                        <a:pt x="1076" y="1547"/>
                      </a:lnTo>
                      <a:lnTo>
                        <a:pt x="989" y="1564"/>
                      </a:lnTo>
                      <a:lnTo>
                        <a:pt x="924" y="1569"/>
                      </a:lnTo>
                      <a:lnTo>
                        <a:pt x="859" y="1565"/>
                      </a:lnTo>
                      <a:lnTo>
                        <a:pt x="736" y="1578"/>
                      </a:lnTo>
                      <a:lnTo>
                        <a:pt x="638" y="1590"/>
                      </a:lnTo>
                      <a:lnTo>
                        <a:pt x="526" y="1609"/>
                      </a:lnTo>
                      <a:lnTo>
                        <a:pt x="450" y="1617"/>
                      </a:lnTo>
                      <a:lnTo>
                        <a:pt x="370" y="1612"/>
                      </a:lnTo>
                      <a:lnTo>
                        <a:pt x="302" y="1606"/>
                      </a:lnTo>
                      <a:lnTo>
                        <a:pt x="241" y="1596"/>
                      </a:lnTo>
                      <a:lnTo>
                        <a:pt x="188" y="1583"/>
                      </a:lnTo>
                      <a:lnTo>
                        <a:pt x="137" y="1561"/>
                      </a:lnTo>
                      <a:lnTo>
                        <a:pt x="97" y="1531"/>
                      </a:lnTo>
                      <a:lnTo>
                        <a:pt x="64" y="1494"/>
                      </a:lnTo>
                      <a:lnTo>
                        <a:pt x="42" y="1451"/>
                      </a:lnTo>
                      <a:lnTo>
                        <a:pt x="26" y="1401"/>
                      </a:lnTo>
                      <a:lnTo>
                        <a:pt x="12" y="1343"/>
                      </a:lnTo>
                      <a:lnTo>
                        <a:pt x="8" y="1283"/>
                      </a:lnTo>
                      <a:lnTo>
                        <a:pt x="17" y="1221"/>
                      </a:lnTo>
                      <a:lnTo>
                        <a:pt x="42" y="1140"/>
                      </a:lnTo>
                      <a:lnTo>
                        <a:pt x="85" y="1043"/>
                      </a:lnTo>
                      <a:lnTo>
                        <a:pt x="125" y="950"/>
                      </a:lnTo>
                      <a:lnTo>
                        <a:pt x="153" y="854"/>
                      </a:lnTo>
                      <a:lnTo>
                        <a:pt x="163" y="777"/>
                      </a:lnTo>
                      <a:lnTo>
                        <a:pt x="159" y="700"/>
                      </a:lnTo>
                      <a:lnTo>
                        <a:pt x="148" y="628"/>
                      </a:lnTo>
                      <a:lnTo>
                        <a:pt x="131" y="558"/>
                      </a:lnTo>
                      <a:lnTo>
                        <a:pt x="112" y="496"/>
                      </a:lnTo>
                      <a:lnTo>
                        <a:pt x="87" y="425"/>
                      </a:lnTo>
                      <a:lnTo>
                        <a:pt x="54" y="340"/>
                      </a:lnTo>
                      <a:lnTo>
                        <a:pt x="0" y="222"/>
                      </a:lnTo>
                      <a:lnTo>
                        <a:pt x="852" y="0"/>
                      </a:lnTo>
                      <a:close/>
                    </a:path>
                  </a:pathLst>
                </a:custGeom>
                <a:solidFill>
                  <a:srgbClr val="ffc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1136520" y="1531800"/>
                  <a:ext cx="1173240" cy="642960"/>
                </a:xfrm>
                <a:custGeom>
                  <a:avLst/>
                  <a:gdLst/>
                  <a:ahLst/>
                  <a:rect l="l" t="t" r="r" b="b"/>
                  <a:pathLst>
                    <a:path w="2958" h="1619">
                      <a:moveTo>
                        <a:pt x="854" y="0"/>
                      </a:moveTo>
                      <a:lnTo>
                        <a:pt x="872" y="81"/>
                      </a:lnTo>
                      <a:lnTo>
                        <a:pt x="892" y="158"/>
                      </a:lnTo>
                      <a:lnTo>
                        <a:pt x="917" y="236"/>
                      </a:lnTo>
                      <a:lnTo>
                        <a:pt x="948" y="309"/>
                      </a:lnTo>
                      <a:lnTo>
                        <a:pt x="985" y="373"/>
                      </a:lnTo>
                      <a:lnTo>
                        <a:pt x="1034" y="438"/>
                      </a:lnTo>
                      <a:lnTo>
                        <a:pt x="1087" y="494"/>
                      </a:lnTo>
                      <a:lnTo>
                        <a:pt x="1151" y="550"/>
                      </a:lnTo>
                      <a:lnTo>
                        <a:pt x="1226" y="602"/>
                      </a:lnTo>
                      <a:lnTo>
                        <a:pt x="1311" y="642"/>
                      </a:lnTo>
                      <a:lnTo>
                        <a:pt x="1420" y="679"/>
                      </a:lnTo>
                      <a:lnTo>
                        <a:pt x="1535" y="716"/>
                      </a:lnTo>
                      <a:lnTo>
                        <a:pt x="1621" y="753"/>
                      </a:lnTo>
                      <a:lnTo>
                        <a:pt x="1705" y="792"/>
                      </a:lnTo>
                      <a:lnTo>
                        <a:pt x="1782" y="833"/>
                      </a:lnTo>
                      <a:lnTo>
                        <a:pt x="1837" y="868"/>
                      </a:lnTo>
                      <a:lnTo>
                        <a:pt x="1887" y="907"/>
                      </a:lnTo>
                      <a:lnTo>
                        <a:pt x="1968" y="895"/>
                      </a:lnTo>
                      <a:lnTo>
                        <a:pt x="2061" y="883"/>
                      </a:lnTo>
                      <a:lnTo>
                        <a:pt x="2131" y="886"/>
                      </a:lnTo>
                      <a:lnTo>
                        <a:pt x="2200" y="904"/>
                      </a:lnTo>
                      <a:lnTo>
                        <a:pt x="2258" y="929"/>
                      </a:lnTo>
                      <a:lnTo>
                        <a:pt x="2313" y="953"/>
                      </a:lnTo>
                      <a:lnTo>
                        <a:pt x="2384" y="976"/>
                      </a:lnTo>
                      <a:lnTo>
                        <a:pt x="2459" y="988"/>
                      </a:lnTo>
                      <a:lnTo>
                        <a:pt x="2537" y="994"/>
                      </a:lnTo>
                      <a:lnTo>
                        <a:pt x="2649" y="988"/>
                      </a:lnTo>
                      <a:lnTo>
                        <a:pt x="2766" y="969"/>
                      </a:lnTo>
                      <a:lnTo>
                        <a:pt x="2859" y="957"/>
                      </a:lnTo>
                      <a:lnTo>
                        <a:pt x="2908" y="951"/>
                      </a:lnTo>
                      <a:lnTo>
                        <a:pt x="2924" y="957"/>
                      </a:lnTo>
                      <a:lnTo>
                        <a:pt x="2932" y="968"/>
                      </a:lnTo>
                      <a:lnTo>
                        <a:pt x="2941" y="984"/>
                      </a:lnTo>
                      <a:lnTo>
                        <a:pt x="2951" y="1021"/>
                      </a:lnTo>
                      <a:lnTo>
                        <a:pt x="2958" y="1071"/>
                      </a:lnTo>
                      <a:lnTo>
                        <a:pt x="2957" y="1125"/>
                      </a:lnTo>
                      <a:lnTo>
                        <a:pt x="2945" y="1167"/>
                      </a:lnTo>
                      <a:lnTo>
                        <a:pt x="2933" y="1195"/>
                      </a:lnTo>
                      <a:lnTo>
                        <a:pt x="2921" y="1216"/>
                      </a:lnTo>
                      <a:lnTo>
                        <a:pt x="2927" y="1253"/>
                      </a:lnTo>
                      <a:lnTo>
                        <a:pt x="2921" y="1290"/>
                      </a:lnTo>
                      <a:lnTo>
                        <a:pt x="2902" y="1314"/>
                      </a:lnTo>
                      <a:lnTo>
                        <a:pt x="2880" y="1332"/>
                      </a:lnTo>
                      <a:lnTo>
                        <a:pt x="2854" y="1339"/>
                      </a:lnTo>
                      <a:lnTo>
                        <a:pt x="2815" y="1345"/>
                      </a:lnTo>
                      <a:lnTo>
                        <a:pt x="2802" y="1367"/>
                      </a:lnTo>
                      <a:lnTo>
                        <a:pt x="2775" y="1392"/>
                      </a:lnTo>
                      <a:lnTo>
                        <a:pt x="2743" y="1406"/>
                      </a:lnTo>
                      <a:lnTo>
                        <a:pt x="2708" y="1414"/>
                      </a:lnTo>
                      <a:lnTo>
                        <a:pt x="2674" y="1410"/>
                      </a:lnTo>
                      <a:lnTo>
                        <a:pt x="2599" y="1395"/>
                      </a:lnTo>
                      <a:lnTo>
                        <a:pt x="2605" y="1432"/>
                      </a:lnTo>
                      <a:lnTo>
                        <a:pt x="2599" y="1457"/>
                      </a:lnTo>
                      <a:lnTo>
                        <a:pt x="2587" y="1473"/>
                      </a:lnTo>
                      <a:lnTo>
                        <a:pt x="2568" y="1485"/>
                      </a:lnTo>
                      <a:lnTo>
                        <a:pt x="2540" y="1492"/>
                      </a:lnTo>
                      <a:lnTo>
                        <a:pt x="2506" y="1495"/>
                      </a:lnTo>
                      <a:lnTo>
                        <a:pt x="2469" y="1494"/>
                      </a:lnTo>
                      <a:lnTo>
                        <a:pt x="2416" y="1486"/>
                      </a:lnTo>
                      <a:lnTo>
                        <a:pt x="2370" y="1476"/>
                      </a:lnTo>
                      <a:lnTo>
                        <a:pt x="2320" y="1457"/>
                      </a:lnTo>
                      <a:lnTo>
                        <a:pt x="2317" y="1482"/>
                      </a:lnTo>
                      <a:lnTo>
                        <a:pt x="2305" y="1501"/>
                      </a:lnTo>
                      <a:lnTo>
                        <a:pt x="2284" y="1515"/>
                      </a:lnTo>
                      <a:lnTo>
                        <a:pt x="2256" y="1522"/>
                      </a:lnTo>
                      <a:lnTo>
                        <a:pt x="2222" y="1525"/>
                      </a:lnTo>
                      <a:lnTo>
                        <a:pt x="2172" y="1518"/>
                      </a:lnTo>
                      <a:lnTo>
                        <a:pt x="2129" y="1500"/>
                      </a:lnTo>
                      <a:lnTo>
                        <a:pt x="2105" y="1515"/>
                      </a:lnTo>
                      <a:lnTo>
                        <a:pt x="2076" y="1527"/>
                      </a:lnTo>
                      <a:lnTo>
                        <a:pt x="2039" y="1534"/>
                      </a:lnTo>
                      <a:lnTo>
                        <a:pt x="1999" y="1541"/>
                      </a:lnTo>
                      <a:lnTo>
                        <a:pt x="1949" y="1547"/>
                      </a:lnTo>
                      <a:lnTo>
                        <a:pt x="1875" y="1561"/>
                      </a:lnTo>
                      <a:lnTo>
                        <a:pt x="1794" y="1580"/>
                      </a:lnTo>
                      <a:lnTo>
                        <a:pt x="1730" y="1586"/>
                      </a:lnTo>
                      <a:lnTo>
                        <a:pt x="1671" y="1582"/>
                      </a:lnTo>
                      <a:lnTo>
                        <a:pt x="1583" y="1566"/>
                      </a:lnTo>
                      <a:lnTo>
                        <a:pt x="1503" y="1546"/>
                      </a:lnTo>
                      <a:lnTo>
                        <a:pt x="1413" y="1527"/>
                      </a:lnTo>
                      <a:lnTo>
                        <a:pt x="1336" y="1515"/>
                      </a:lnTo>
                      <a:lnTo>
                        <a:pt x="1273" y="1510"/>
                      </a:lnTo>
                      <a:lnTo>
                        <a:pt x="1218" y="1517"/>
                      </a:lnTo>
                      <a:lnTo>
                        <a:pt x="1157" y="1530"/>
                      </a:lnTo>
                      <a:lnTo>
                        <a:pt x="1077" y="1549"/>
                      </a:lnTo>
                      <a:lnTo>
                        <a:pt x="990" y="1566"/>
                      </a:lnTo>
                      <a:lnTo>
                        <a:pt x="925" y="1571"/>
                      </a:lnTo>
                      <a:lnTo>
                        <a:pt x="860" y="1568"/>
                      </a:lnTo>
                      <a:lnTo>
                        <a:pt x="736" y="1580"/>
                      </a:lnTo>
                      <a:lnTo>
                        <a:pt x="638" y="1592"/>
                      </a:lnTo>
                      <a:lnTo>
                        <a:pt x="526" y="1611"/>
                      </a:lnTo>
                      <a:lnTo>
                        <a:pt x="450" y="1619"/>
                      </a:lnTo>
                      <a:lnTo>
                        <a:pt x="370" y="1614"/>
                      </a:lnTo>
                      <a:lnTo>
                        <a:pt x="302" y="1608"/>
                      </a:lnTo>
                      <a:lnTo>
                        <a:pt x="241" y="1598"/>
                      </a:lnTo>
                      <a:lnTo>
                        <a:pt x="188" y="1585"/>
                      </a:lnTo>
                      <a:lnTo>
                        <a:pt x="137" y="1563"/>
                      </a:lnTo>
                      <a:lnTo>
                        <a:pt x="97" y="1533"/>
                      </a:lnTo>
                      <a:lnTo>
                        <a:pt x="64" y="1496"/>
                      </a:lnTo>
                      <a:lnTo>
                        <a:pt x="42" y="1453"/>
                      </a:lnTo>
                      <a:lnTo>
                        <a:pt x="26" y="1403"/>
                      </a:lnTo>
                      <a:lnTo>
                        <a:pt x="12" y="1345"/>
                      </a:lnTo>
                      <a:lnTo>
                        <a:pt x="8" y="1285"/>
                      </a:lnTo>
                      <a:lnTo>
                        <a:pt x="17" y="1223"/>
                      </a:lnTo>
                      <a:lnTo>
                        <a:pt x="42" y="1141"/>
                      </a:lnTo>
                      <a:lnTo>
                        <a:pt x="85" y="1044"/>
                      </a:lnTo>
                      <a:lnTo>
                        <a:pt x="125" y="951"/>
                      </a:lnTo>
                      <a:lnTo>
                        <a:pt x="153" y="855"/>
                      </a:lnTo>
                      <a:lnTo>
                        <a:pt x="163" y="778"/>
                      </a:lnTo>
                      <a:lnTo>
                        <a:pt x="159" y="701"/>
                      </a:lnTo>
                      <a:lnTo>
                        <a:pt x="148" y="629"/>
                      </a:lnTo>
                      <a:lnTo>
                        <a:pt x="131" y="559"/>
                      </a:lnTo>
                      <a:lnTo>
                        <a:pt x="112" y="497"/>
                      </a:lnTo>
                      <a:lnTo>
                        <a:pt x="87" y="426"/>
                      </a:lnTo>
                      <a:lnTo>
                        <a:pt x="54" y="340"/>
                      </a:lnTo>
                      <a:lnTo>
                        <a:pt x="0" y="222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8" name=""/>
              <p:cNvGrpSpPr/>
              <p:nvPr/>
            </p:nvGrpSpPr>
            <p:grpSpPr>
              <a:xfrm>
                <a:off x="1311120" y="1619280"/>
                <a:ext cx="984240" cy="523800"/>
                <a:chOff x="1311120" y="1619280"/>
                <a:chExt cx="984240" cy="523800"/>
              </a:xfrm>
            </p:grpSpPr>
            <p:grpSp>
              <p:nvGrpSpPr>
                <p:cNvPr id="299" name=""/>
                <p:cNvGrpSpPr/>
                <p:nvPr/>
              </p:nvGrpSpPr>
              <p:grpSpPr>
                <a:xfrm>
                  <a:off x="1311120" y="1619280"/>
                  <a:ext cx="675000" cy="434880"/>
                  <a:chOff x="1311120" y="1619280"/>
                  <a:chExt cx="675000" cy="434880"/>
                </a:xfrm>
              </p:grpSpPr>
              <p:grpSp>
                <p:nvGrpSpPr>
                  <p:cNvPr id="300" name=""/>
                  <p:cNvGrpSpPr/>
                  <p:nvPr/>
                </p:nvGrpSpPr>
                <p:grpSpPr>
                  <a:xfrm>
                    <a:off x="1833480" y="1920960"/>
                    <a:ext cx="152640" cy="93600"/>
                    <a:chOff x="1833480" y="1920960"/>
                    <a:chExt cx="152640" cy="93600"/>
                  </a:xfrm>
                </p:grpSpPr>
                <p:sp>
                  <p:nvSpPr>
                    <p:cNvPr id="301" name=""/>
                    <p:cNvSpPr/>
                    <p:nvPr/>
                  </p:nvSpPr>
                  <p:spPr>
                    <a:xfrm>
                      <a:off x="1833480" y="1965240"/>
                      <a:ext cx="74520" cy="49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9" h="125">
                          <a:moveTo>
                            <a:pt x="0" y="0"/>
                          </a:moveTo>
                          <a:lnTo>
                            <a:pt x="41" y="11"/>
                          </a:lnTo>
                          <a:lnTo>
                            <a:pt x="81" y="28"/>
                          </a:lnTo>
                          <a:lnTo>
                            <a:pt x="121" y="53"/>
                          </a:lnTo>
                          <a:lnTo>
                            <a:pt x="155" y="84"/>
                          </a:lnTo>
                          <a:lnTo>
                            <a:pt x="189" y="125"/>
                          </a:lnTo>
                        </a:path>
                      </a:pathLst>
                    </a:custGeom>
                    <a:noFill/>
                    <a:ln w="32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520" bIns="2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2" name=""/>
                    <p:cNvSpPr/>
                    <p:nvPr/>
                  </p:nvSpPr>
                  <p:spPr>
                    <a:xfrm>
                      <a:off x="1881360" y="1952640"/>
                      <a:ext cx="6336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1" h="68">
                          <a:moveTo>
                            <a:pt x="0" y="0"/>
                          </a:moveTo>
                          <a:lnTo>
                            <a:pt x="44" y="10"/>
                          </a:lnTo>
                          <a:lnTo>
                            <a:pt x="86" y="25"/>
                          </a:lnTo>
                          <a:lnTo>
                            <a:pt x="122" y="42"/>
                          </a:lnTo>
                          <a:lnTo>
                            <a:pt x="161" y="68"/>
                          </a:lnTo>
                        </a:path>
                      </a:pathLst>
                    </a:custGeom>
                    <a:noFill/>
                    <a:ln w="32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3" name=""/>
                    <p:cNvSpPr/>
                    <p:nvPr/>
                  </p:nvSpPr>
                  <p:spPr>
                    <a:xfrm>
                      <a:off x="1886040" y="1920960"/>
                      <a:ext cx="100080" cy="34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54" h="84">
                          <a:moveTo>
                            <a:pt x="0" y="5"/>
                          </a:moveTo>
                          <a:lnTo>
                            <a:pt x="37" y="0"/>
                          </a:lnTo>
                          <a:lnTo>
                            <a:pt x="81" y="2"/>
                          </a:lnTo>
                          <a:lnTo>
                            <a:pt x="118" y="8"/>
                          </a:lnTo>
                          <a:lnTo>
                            <a:pt x="161" y="24"/>
                          </a:lnTo>
                          <a:lnTo>
                            <a:pt x="205" y="48"/>
                          </a:lnTo>
                          <a:lnTo>
                            <a:pt x="254" y="84"/>
                          </a:lnTo>
                        </a:path>
                      </a:pathLst>
                    </a:custGeom>
                    <a:noFill/>
                    <a:ln w="32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880" bIns="-11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04" name=""/>
                  <p:cNvGrpSpPr/>
                  <p:nvPr/>
                </p:nvGrpSpPr>
                <p:grpSpPr>
                  <a:xfrm>
                    <a:off x="1311120" y="1619280"/>
                    <a:ext cx="217800" cy="434880"/>
                    <a:chOff x="1311120" y="1619280"/>
                    <a:chExt cx="217800" cy="434880"/>
                  </a:xfrm>
                </p:grpSpPr>
                <p:sp>
                  <p:nvSpPr>
                    <p:cNvPr id="305" name=""/>
                    <p:cNvSpPr/>
                    <p:nvPr/>
                  </p:nvSpPr>
                  <p:spPr>
                    <a:xfrm>
                      <a:off x="1442880" y="1619280"/>
                      <a:ext cx="73080" cy="108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2" h="272">
                          <a:moveTo>
                            <a:pt x="0" y="0"/>
                          </a:moveTo>
                          <a:lnTo>
                            <a:pt x="24" y="53"/>
                          </a:lnTo>
                          <a:lnTo>
                            <a:pt x="51" y="106"/>
                          </a:lnTo>
                          <a:lnTo>
                            <a:pt x="85" y="160"/>
                          </a:lnTo>
                          <a:lnTo>
                            <a:pt x="130" y="222"/>
                          </a:lnTo>
                          <a:lnTo>
                            <a:pt x="182" y="272"/>
                          </a:lnTo>
                        </a:path>
                      </a:pathLst>
                    </a:custGeom>
                    <a:noFill/>
                    <a:ln w="32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6" name=""/>
                    <p:cNvSpPr/>
                    <p:nvPr/>
                  </p:nvSpPr>
                  <p:spPr>
                    <a:xfrm>
                      <a:off x="1311120" y="1790640"/>
                      <a:ext cx="51120" cy="155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0" h="390">
                          <a:moveTo>
                            <a:pt x="0" y="0"/>
                          </a:moveTo>
                          <a:lnTo>
                            <a:pt x="18" y="34"/>
                          </a:lnTo>
                          <a:lnTo>
                            <a:pt x="25" y="75"/>
                          </a:lnTo>
                          <a:lnTo>
                            <a:pt x="24" y="106"/>
                          </a:lnTo>
                          <a:lnTo>
                            <a:pt x="19" y="149"/>
                          </a:lnTo>
                          <a:lnTo>
                            <a:pt x="8" y="179"/>
                          </a:lnTo>
                          <a:lnTo>
                            <a:pt x="0" y="216"/>
                          </a:lnTo>
                          <a:lnTo>
                            <a:pt x="4" y="245"/>
                          </a:lnTo>
                          <a:lnTo>
                            <a:pt x="12" y="272"/>
                          </a:lnTo>
                          <a:lnTo>
                            <a:pt x="33" y="300"/>
                          </a:lnTo>
                          <a:lnTo>
                            <a:pt x="62" y="328"/>
                          </a:lnTo>
                          <a:lnTo>
                            <a:pt x="97" y="350"/>
                          </a:lnTo>
                          <a:lnTo>
                            <a:pt x="130" y="390"/>
                          </a:lnTo>
                        </a:path>
                      </a:pathLst>
                    </a:custGeom>
                    <a:noFill/>
                    <a:ln w="32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7" name=""/>
                    <p:cNvSpPr/>
                    <p:nvPr/>
                  </p:nvSpPr>
                  <p:spPr>
                    <a:xfrm>
                      <a:off x="1343160" y="1984320"/>
                      <a:ext cx="185760" cy="69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70" h="178">
                          <a:moveTo>
                            <a:pt x="0" y="7"/>
                          </a:moveTo>
                          <a:lnTo>
                            <a:pt x="37" y="0"/>
                          </a:lnTo>
                          <a:lnTo>
                            <a:pt x="74" y="6"/>
                          </a:lnTo>
                          <a:lnTo>
                            <a:pt x="111" y="24"/>
                          </a:lnTo>
                          <a:lnTo>
                            <a:pt x="152" y="51"/>
                          </a:lnTo>
                          <a:lnTo>
                            <a:pt x="195" y="82"/>
                          </a:lnTo>
                          <a:lnTo>
                            <a:pt x="235" y="113"/>
                          </a:lnTo>
                          <a:lnTo>
                            <a:pt x="296" y="149"/>
                          </a:lnTo>
                          <a:lnTo>
                            <a:pt x="328" y="163"/>
                          </a:lnTo>
                          <a:lnTo>
                            <a:pt x="369" y="174"/>
                          </a:lnTo>
                          <a:lnTo>
                            <a:pt x="406" y="178"/>
                          </a:lnTo>
                          <a:lnTo>
                            <a:pt x="436" y="171"/>
                          </a:lnTo>
                          <a:lnTo>
                            <a:pt x="470" y="156"/>
                          </a:lnTo>
                        </a:path>
                      </a:pathLst>
                    </a:custGeom>
                    <a:noFill/>
                    <a:ln w="32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308" name=""/>
                <p:cNvGrpSpPr/>
                <p:nvPr/>
              </p:nvGrpSpPr>
              <p:grpSpPr>
                <a:xfrm>
                  <a:off x="1917720" y="1911240"/>
                  <a:ext cx="377640" cy="231840"/>
                  <a:chOff x="1917720" y="1911240"/>
                  <a:chExt cx="377640" cy="231840"/>
                </a:xfrm>
              </p:grpSpPr>
              <p:grpSp>
                <p:nvGrpSpPr>
                  <p:cNvPr id="309" name=""/>
                  <p:cNvGrpSpPr/>
                  <p:nvPr/>
                </p:nvGrpSpPr>
                <p:grpSpPr>
                  <a:xfrm>
                    <a:off x="1917720" y="1941480"/>
                    <a:ext cx="377640" cy="201600"/>
                    <a:chOff x="1917720" y="1941480"/>
                    <a:chExt cx="377640" cy="201600"/>
                  </a:xfrm>
                </p:grpSpPr>
                <p:sp>
                  <p:nvSpPr>
                    <p:cNvPr id="310" name=""/>
                    <p:cNvSpPr/>
                    <p:nvPr/>
                  </p:nvSpPr>
                  <p:spPr>
                    <a:xfrm>
                      <a:off x="2062080" y="1941480"/>
                      <a:ext cx="233280" cy="73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87" h="184">
                          <a:moveTo>
                            <a:pt x="0" y="0"/>
                          </a:moveTo>
                          <a:lnTo>
                            <a:pt x="43" y="14"/>
                          </a:lnTo>
                          <a:lnTo>
                            <a:pt x="81" y="23"/>
                          </a:lnTo>
                          <a:lnTo>
                            <a:pt x="137" y="30"/>
                          </a:lnTo>
                          <a:lnTo>
                            <a:pt x="177" y="23"/>
                          </a:lnTo>
                          <a:lnTo>
                            <a:pt x="224" y="18"/>
                          </a:lnTo>
                          <a:lnTo>
                            <a:pt x="255" y="24"/>
                          </a:lnTo>
                          <a:lnTo>
                            <a:pt x="295" y="40"/>
                          </a:lnTo>
                          <a:lnTo>
                            <a:pt x="342" y="61"/>
                          </a:lnTo>
                          <a:lnTo>
                            <a:pt x="415" y="92"/>
                          </a:lnTo>
                          <a:lnTo>
                            <a:pt x="454" y="107"/>
                          </a:lnTo>
                          <a:lnTo>
                            <a:pt x="488" y="125"/>
                          </a:lnTo>
                          <a:lnTo>
                            <a:pt x="530" y="145"/>
                          </a:lnTo>
                          <a:lnTo>
                            <a:pt x="569" y="169"/>
                          </a:lnTo>
                          <a:lnTo>
                            <a:pt x="587" y="184"/>
                          </a:lnTo>
                        </a:path>
                      </a:pathLst>
                    </a:custGeom>
                    <a:noFill/>
                    <a:ln w="32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6280" bIns="26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1" name=""/>
                    <p:cNvSpPr/>
                    <p:nvPr/>
                  </p:nvSpPr>
                  <p:spPr>
                    <a:xfrm>
                      <a:off x="2025720" y="1960560"/>
                      <a:ext cx="155520" cy="41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91" h="105">
                          <a:moveTo>
                            <a:pt x="0" y="0"/>
                          </a:moveTo>
                          <a:lnTo>
                            <a:pt x="75" y="12"/>
                          </a:lnTo>
                          <a:lnTo>
                            <a:pt x="121" y="27"/>
                          </a:lnTo>
                          <a:lnTo>
                            <a:pt x="145" y="33"/>
                          </a:lnTo>
                          <a:lnTo>
                            <a:pt x="174" y="30"/>
                          </a:lnTo>
                          <a:lnTo>
                            <a:pt x="217" y="18"/>
                          </a:lnTo>
                          <a:lnTo>
                            <a:pt x="248" y="15"/>
                          </a:lnTo>
                          <a:lnTo>
                            <a:pt x="279" y="18"/>
                          </a:lnTo>
                          <a:lnTo>
                            <a:pt x="311" y="37"/>
                          </a:lnTo>
                          <a:lnTo>
                            <a:pt x="338" y="62"/>
                          </a:lnTo>
                          <a:lnTo>
                            <a:pt x="360" y="83"/>
                          </a:lnTo>
                          <a:lnTo>
                            <a:pt x="391" y="105"/>
                          </a:lnTo>
                        </a:path>
                      </a:pathLst>
                    </a:custGeom>
                    <a:noFill/>
                    <a:ln w="32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400" bIns="-5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2" name=""/>
                    <p:cNvSpPr/>
                    <p:nvPr/>
                  </p:nvSpPr>
                  <p:spPr>
                    <a:xfrm>
                      <a:off x="1981080" y="1987560"/>
                      <a:ext cx="187560" cy="96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70" h="244">
                          <a:moveTo>
                            <a:pt x="0" y="6"/>
                          </a:moveTo>
                          <a:lnTo>
                            <a:pt x="43" y="0"/>
                          </a:lnTo>
                          <a:lnTo>
                            <a:pt x="69" y="4"/>
                          </a:lnTo>
                          <a:lnTo>
                            <a:pt x="95" y="20"/>
                          </a:lnTo>
                          <a:lnTo>
                            <a:pt x="129" y="50"/>
                          </a:lnTo>
                          <a:lnTo>
                            <a:pt x="185" y="56"/>
                          </a:lnTo>
                          <a:lnTo>
                            <a:pt x="228" y="68"/>
                          </a:lnTo>
                          <a:lnTo>
                            <a:pt x="272" y="105"/>
                          </a:lnTo>
                          <a:lnTo>
                            <a:pt x="303" y="142"/>
                          </a:lnTo>
                          <a:lnTo>
                            <a:pt x="340" y="166"/>
                          </a:lnTo>
                          <a:lnTo>
                            <a:pt x="396" y="185"/>
                          </a:lnTo>
                          <a:lnTo>
                            <a:pt x="433" y="200"/>
                          </a:lnTo>
                          <a:lnTo>
                            <a:pt x="458" y="220"/>
                          </a:lnTo>
                          <a:lnTo>
                            <a:pt x="470" y="244"/>
                          </a:lnTo>
                        </a:path>
                      </a:pathLst>
                    </a:custGeom>
                    <a:noFill/>
                    <a:ln w="32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3" name=""/>
                    <p:cNvSpPr/>
                    <p:nvPr/>
                  </p:nvSpPr>
                  <p:spPr>
                    <a:xfrm>
                      <a:off x="1919160" y="2019240"/>
                      <a:ext cx="139680" cy="9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52" h="234">
                          <a:moveTo>
                            <a:pt x="0" y="24"/>
                          </a:moveTo>
                          <a:lnTo>
                            <a:pt x="38" y="9"/>
                          </a:lnTo>
                          <a:lnTo>
                            <a:pt x="83" y="0"/>
                          </a:lnTo>
                          <a:lnTo>
                            <a:pt x="115" y="4"/>
                          </a:lnTo>
                          <a:lnTo>
                            <a:pt x="145" y="16"/>
                          </a:lnTo>
                          <a:lnTo>
                            <a:pt x="174" y="37"/>
                          </a:lnTo>
                          <a:lnTo>
                            <a:pt x="198" y="54"/>
                          </a:lnTo>
                          <a:lnTo>
                            <a:pt x="226" y="79"/>
                          </a:lnTo>
                          <a:lnTo>
                            <a:pt x="256" y="73"/>
                          </a:lnTo>
                          <a:lnTo>
                            <a:pt x="281" y="76"/>
                          </a:lnTo>
                          <a:lnTo>
                            <a:pt x="299" y="85"/>
                          </a:lnTo>
                          <a:lnTo>
                            <a:pt x="313" y="101"/>
                          </a:lnTo>
                          <a:lnTo>
                            <a:pt x="330" y="129"/>
                          </a:lnTo>
                          <a:lnTo>
                            <a:pt x="346" y="166"/>
                          </a:lnTo>
                          <a:lnTo>
                            <a:pt x="352" y="201"/>
                          </a:lnTo>
                          <a:lnTo>
                            <a:pt x="349" y="234"/>
                          </a:lnTo>
                        </a:path>
                      </a:pathLst>
                    </a:custGeom>
                    <a:noFill/>
                    <a:ln w="32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4" name=""/>
                    <p:cNvSpPr/>
                    <p:nvPr/>
                  </p:nvSpPr>
                  <p:spPr>
                    <a:xfrm>
                      <a:off x="1986120" y="2087640"/>
                      <a:ext cx="28440" cy="3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2" h="93">
                          <a:moveTo>
                            <a:pt x="72" y="0"/>
                          </a:moveTo>
                          <a:lnTo>
                            <a:pt x="65" y="34"/>
                          </a:lnTo>
                          <a:lnTo>
                            <a:pt x="56" y="56"/>
                          </a:lnTo>
                          <a:lnTo>
                            <a:pt x="32" y="75"/>
                          </a:lnTo>
                          <a:lnTo>
                            <a:pt x="0" y="93"/>
                          </a:lnTo>
                        </a:path>
                      </a:pathLst>
                    </a:custGeom>
                    <a:noFill/>
                    <a:ln w="32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440" bIns="-10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5" name=""/>
                    <p:cNvSpPr/>
                    <p:nvPr/>
                  </p:nvSpPr>
                  <p:spPr>
                    <a:xfrm>
                      <a:off x="1917720" y="2114640"/>
                      <a:ext cx="7920" cy="28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" h="74">
                          <a:moveTo>
                            <a:pt x="15" y="0"/>
                          </a:moveTo>
                          <a:lnTo>
                            <a:pt x="18" y="28"/>
                          </a:lnTo>
                          <a:lnTo>
                            <a:pt x="12" y="50"/>
                          </a:lnTo>
                          <a:lnTo>
                            <a:pt x="0" y="74"/>
                          </a:lnTo>
                        </a:path>
                      </a:pathLst>
                    </a:custGeom>
                    <a:noFill/>
                    <a:ln w="32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360" bIns="-18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6" name=""/>
                    <p:cNvSpPr/>
                    <p:nvPr/>
                  </p:nvSpPr>
                  <p:spPr>
                    <a:xfrm>
                      <a:off x="2070000" y="2028960"/>
                      <a:ext cx="17640" cy="21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3" h="55">
                          <a:moveTo>
                            <a:pt x="43" y="0"/>
                          </a:moveTo>
                          <a:lnTo>
                            <a:pt x="22" y="30"/>
                          </a:lnTo>
                          <a:lnTo>
                            <a:pt x="0" y="55"/>
                          </a:lnTo>
                        </a:path>
                      </a:pathLst>
                    </a:custGeom>
                    <a:noFill/>
                    <a:ln w="32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840" bIns="-24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17" name=""/>
                  <p:cNvGrpSpPr/>
                  <p:nvPr/>
                </p:nvGrpSpPr>
                <p:grpSpPr>
                  <a:xfrm>
                    <a:off x="2038320" y="1911240"/>
                    <a:ext cx="257040" cy="212760"/>
                    <a:chOff x="2038320" y="1911240"/>
                    <a:chExt cx="257040" cy="212760"/>
                  </a:xfrm>
                </p:grpSpPr>
                <p:sp>
                  <p:nvSpPr>
                    <p:cNvPr id="318" name=""/>
                    <p:cNvSpPr/>
                    <p:nvPr/>
                  </p:nvSpPr>
                  <p:spPr>
                    <a:xfrm>
                      <a:off x="2195640" y="1911240"/>
                      <a:ext cx="82440" cy="34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9" h="88">
                          <a:moveTo>
                            <a:pt x="38" y="26"/>
                          </a:moveTo>
                          <a:lnTo>
                            <a:pt x="0" y="75"/>
                          </a:lnTo>
                          <a:lnTo>
                            <a:pt x="28" y="84"/>
                          </a:lnTo>
                          <a:lnTo>
                            <a:pt x="61" y="88"/>
                          </a:lnTo>
                          <a:lnTo>
                            <a:pt x="111" y="85"/>
                          </a:lnTo>
                          <a:lnTo>
                            <a:pt x="154" y="75"/>
                          </a:lnTo>
                          <a:lnTo>
                            <a:pt x="187" y="63"/>
                          </a:lnTo>
                          <a:lnTo>
                            <a:pt x="206" y="47"/>
                          </a:lnTo>
                          <a:lnTo>
                            <a:pt x="209" y="25"/>
                          </a:lnTo>
                          <a:lnTo>
                            <a:pt x="204" y="0"/>
                          </a:lnTo>
                        </a:path>
                      </a:pathLst>
                    </a:custGeom>
                    <a:noFill/>
                    <a:ln w="32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880" bIns="-11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9" name=""/>
                    <p:cNvSpPr/>
                    <p:nvPr/>
                  </p:nvSpPr>
                  <p:spPr>
                    <a:xfrm>
                      <a:off x="2209680" y="2019240"/>
                      <a:ext cx="44640" cy="49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0" h="123">
                          <a:moveTo>
                            <a:pt x="0" y="0"/>
                          </a:moveTo>
                          <a:lnTo>
                            <a:pt x="42" y="12"/>
                          </a:lnTo>
                          <a:lnTo>
                            <a:pt x="85" y="24"/>
                          </a:lnTo>
                          <a:lnTo>
                            <a:pt x="101" y="46"/>
                          </a:lnTo>
                          <a:lnTo>
                            <a:pt x="109" y="72"/>
                          </a:lnTo>
                          <a:lnTo>
                            <a:pt x="110" y="98"/>
                          </a:lnTo>
                          <a:lnTo>
                            <a:pt x="107" y="123"/>
                          </a:lnTo>
                        </a:path>
                      </a:pathLst>
                    </a:custGeom>
                    <a:noFill/>
                    <a:ln w="32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520" bIns="2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0" name=""/>
                    <p:cNvSpPr/>
                    <p:nvPr/>
                  </p:nvSpPr>
                  <p:spPr>
                    <a:xfrm>
                      <a:off x="2178000" y="2019240"/>
                      <a:ext cx="63720" cy="2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0" h="62">
                          <a:moveTo>
                            <a:pt x="160" y="26"/>
                          </a:moveTo>
                          <a:lnTo>
                            <a:pt x="145" y="41"/>
                          </a:lnTo>
                          <a:lnTo>
                            <a:pt x="120" y="51"/>
                          </a:lnTo>
                          <a:lnTo>
                            <a:pt x="87" y="59"/>
                          </a:lnTo>
                          <a:lnTo>
                            <a:pt x="50" y="62"/>
                          </a:lnTo>
                          <a:lnTo>
                            <a:pt x="21" y="55"/>
                          </a:lnTo>
                          <a:lnTo>
                            <a:pt x="0" y="46"/>
                          </a:lnTo>
                          <a:lnTo>
                            <a:pt x="14" y="28"/>
                          </a:lnTo>
                          <a:lnTo>
                            <a:pt x="31" y="13"/>
                          </a:lnTo>
                          <a:lnTo>
                            <a:pt x="58" y="0"/>
                          </a:lnTo>
                        </a:path>
                      </a:pathLst>
                    </a:custGeom>
                    <a:noFill/>
                    <a:ln w="32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240" bIns="-21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1" name=""/>
                    <p:cNvSpPr/>
                    <p:nvPr/>
                  </p:nvSpPr>
                  <p:spPr>
                    <a:xfrm>
                      <a:off x="2109960" y="2057400"/>
                      <a:ext cx="53640" cy="31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7" h="77">
                          <a:moveTo>
                            <a:pt x="50" y="0"/>
                          </a:moveTo>
                          <a:lnTo>
                            <a:pt x="0" y="43"/>
                          </a:lnTo>
                          <a:lnTo>
                            <a:pt x="31" y="63"/>
                          </a:lnTo>
                          <a:lnTo>
                            <a:pt x="59" y="72"/>
                          </a:lnTo>
                          <a:lnTo>
                            <a:pt x="88" y="77"/>
                          </a:lnTo>
                          <a:lnTo>
                            <a:pt x="112" y="71"/>
                          </a:lnTo>
                          <a:lnTo>
                            <a:pt x="137" y="49"/>
                          </a:lnTo>
                        </a:path>
                      </a:pathLst>
                    </a:custGeom>
                    <a:noFill/>
                    <a:ln w="32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120" bIns="-15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2" name=""/>
                    <p:cNvSpPr/>
                    <p:nvPr/>
                  </p:nvSpPr>
                  <p:spPr>
                    <a:xfrm>
                      <a:off x="2038320" y="2082960"/>
                      <a:ext cx="14400" cy="41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" h="105">
                          <a:moveTo>
                            <a:pt x="38" y="0"/>
                          </a:moveTo>
                          <a:lnTo>
                            <a:pt x="19" y="15"/>
                          </a:lnTo>
                          <a:lnTo>
                            <a:pt x="5" y="38"/>
                          </a:lnTo>
                          <a:lnTo>
                            <a:pt x="0" y="68"/>
                          </a:lnTo>
                          <a:lnTo>
                            <a:pt x="7" y="105"/>
                          </a:lnTo>
                        </a:path>
                      </a:pathLst>
                    </a:custGeom>
                    <a:noFill/>
                    <a:ln w="32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760" bIns="-5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3" name=""/>
                    <p:cNvSpPr/>
                    <p:nvPr/>
                  </p:nvSpPr>
                  <p:spPr>
                    <a:xfrm>
                      <a:off x="2254320" y="1992240"/>
                      <a:ext cx="41040" cy="3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6" h="83">
                          <a:moveTo>
                            <a:pt x="6" y="0"/>
                          </a:moveTo>
                          <a:lnTo>
                            <a:pt x="0" y="25"/>
                          </a:lnTo>
                          <a:lnTo>
                            <a:pt x="2" y="43"/>
                          </a:lnTo>
                          <a:lnTo>
                            <a:pt x="13" y="56"/>
                          </a:lnTo>
                          <a:lnTo>
                            <a:pt x="33" y="69"/>
                          </a:lnTo>
                          <a:lnTo>
                            <a:pt x="58" y="78"/>
                          </a:lnTo>
                          <a:lnTo>
                            <a:pt x="81" y="83"/>
                          </a:lnTo>
                          <a:lnTo>
                            <a:pt x="106" y="78"/>
                          </a:lnTo>
                        </a:path>
                      </a:pathLst>
                    </a:custGeom>
                    <a:noFill/>
                    <a:ln w="32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320" bIns="-13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grpSp>
          <p:nvGrpSpPr>
            <p:cNvPr id="324" name=""/>
            <p:cNvGrpSpPr/>
            <p:nvPr/>
          </p:nvGrpSpPr>
          <p:grpSpPr>
            <a:xfrm>
              <a:off x="2760840" y="2127240"/>
              <a:ext cx="1430280" cy="1328760"/>
              <a:chOff x="2760840" y="2127240"/>
              <a:chExt cx="1430280" cy="1328760"/>
            </a:xfrm>
          </p:grpSpPr>
          <p:grpSp>
            <p:nvGrpSpPr>
              <p:cNvPr id="325" name=""/>
              <p:cNvGrpSpPr/>
              <p:nvPr/>
            </p:nvGrpSpPr>
            <p:grpSpPr>
              <a:xfrm>
                <a:off x="2760840" y="2127240"/>
                <a:ext cx="1430280" cy="1328760"/>
                <a:chOff x="2760840" y="2127240"/>
                <a:chExt cx="1430280" cy="1328760"/>
              </a:xfrm>
            </p:grpSpPr>
            <p:sp>
              <p:nvSpPr>
                <p:cNvPr id="326" name=""/>
                <p:cNvSpPr/>
                <p:nvPr/>
              </p:nvSpPr>
              <p:spPr>
                <a:xfrm>
                  <a:off x="3490920" y="2128680"/>
                  <a:ext cx="700200" cy="790560"/>
                </a:xfrm>
                <a:custGeom>
                  <a:avLst/>
                  <a:gdLst/>
                  <a:ahLst/>
                  <a:rect l="l" t="t" r="r" b="b"/>
                  <a:pathLst>
                    <a:path w="1323" h="1496">
                      <a:moveTo>
                        <a:pt x="326" y="1496"/>
                      </a:moveTo>
                      <a:lnTo>
                        <a:pt x="483" y="1493"/>
                      </a:lnTo>
                      <a:lnTo>
                        <a:pt x="537" y="1487"/>
                      </a:lnTo>
                      <a:lnTo>
                        <a:pt x="603" y="1476"/>
                      </a:lnTo>
                      <a:lnTo>
                        <a:pt x="653" y="1467"/>
                      </a:lnTo>
                      <a:lnTo>
                        <a:pt x="702" y="1455"/>
                      </a:lnTo>
                      <a:lnTo>
                        <a:pt x="752" y="1439"/>
                      </a:lnTo>
                      <a:lnTo>
                        <a:pt x="796" y="1423"/>
                      </a:lnTo>
                      <a:lnTo>
                        <a:pt x="850" y="1401"/>
                      </a:lnTo>
                      <a:lnTo>
                        <a:pt x="915" y="1371"/>
                      </a:lnTo>
                      <a:lnTo>
                        <a:pt x="965" y="1343"/>
                      </a:lnTo>
                      <a:lnTo>
                        <a:pt x="1014" y="1312"/>
                      </a:lnTo>
                      <a:lnTo>
                        <a:pt x="1047" y="1286"/>
                      </a:lnTo>
                      <a:lnTo>
                        <a:pt x="1086" y="1256"/>
                      </a:lnTo>
                      <a:lnTo>
                        <a:pt x="1113" y="1232"/>
                      </a:lnTo>
                      <a:lnTo>
                        <a:pt x="1143" y="1199"/>
                      </a:lnTo>
                      <a:lnTo>
                        <a:pt x="1170" y="1169"/>
                      </a:lnTo>
                      <a:lnTo>
                        <a:pt x="1196" y="1135"/>
                      </a:lnTo>
                      <a:lnTo>
                        <a:pt x="1217" y="1108"/>
                      </a:lnTo>
                      <a:lnTo>
                        <a:pt x="1242" y="1070"/>
                      </a:lnTo>
                      <a:lnTo>
                        <a:pt x="1267" y="1029"/>
                      </a:lnTo>
                      <a:lnTo>
                        <a:pt x="1283" y="987"/>
                      </a:lnTo>
                      <a:lnTo>
                        <a:pt x="1297" y="952"/>
                      </a:lnTo>
                      <a:lnTo>
                        <a:pt x="1309" y="910"/>
                      </a:lnTo>
                      <a:lnTo>
                        <a:pt x="1319" y="867"/>
                      </a:lnTo>
                      <a:lnTo>
                        <a:pt x="1323" y="809"/>
                      </a:lnTo>
                      <a:lnTo>
                        <a:pt x="1320" y="761"/>
                      </a:lnTo>
                      <a:lnTo>
                        <a:pt x="1313" y="721"/>
                      </a:lnTo>
                      <a:lnTo>
                        <a:pt x="1306" y="680"/>
                      </a:lnTo>
                      <a:lnTo>
                        <a:pt x="1291" y="635"/>
                      </a:lnTo>
                      <a:lnTo>
                        <a:pt x="1278" y="598"/>
                      </a:lnTo>
                      <a:lnTo>
                        <a:pt x="1260" y="563"/>
                      </a:lnTo>
                      <a:lnTo>
                        <a:pt x="1233" y="519"/>
                      </a:lnTo>
                      <a:lnTo>
                        <a:pt x="1200" y="469"/>
                      </a:lnTo>
                      <a:lnTo>
                        <a:pt x="1165" y="429"/>
                      </a:lnTo>
                      <a:lnTo>
                        <a:pt x="1136" y="395"/>
                      </a:lnTo>
                      <a:lnTo>
                        <a:pt x="1100" y="362"/>
                      </a:lnTo>
                      <a:lnTo>
                        <a:pt x="1064" y="335"/>
                      </a:lnTo>
                      <a:lnTo>
                        <a:pt x="1023" y="305"/>
                      </a:lnTo>
                      <a:lnTo>
                        <a:pt x="970" y="268"/>
                      </a:lnTo>
                      <a:lnTo>
                        <a:pt x="920" y="241"/>
                      </a:lnTo>
                      <a:lnTo>
                        <a:pt x="863" y="211"/>
                      </a:lnTo>
                      <a:lnTo>
                        <a:pt x="746" y="168"/>
                      </a:lnTo>
                      <a:lnTo>
                        <a:pt x="651" y="141"/>
                      </a:lnTo>
                      <a:lnTo>
                        <a:pt x="547" y="121"/>
                      </a:lnTo>
                      <a:lnTo>
                        <a:pt x="463" y="111"/>
                      </a:lnTo>
                      <a:lnTo>
                        <a:pt x="356" y="105"/>
                      </a:lnTo>
                      <a:lnTo>
                        <a:pt x="356" y="0"/>
                      </a:lnTo>
                      <a:lnTo>
                        <a:pt x="0" y="238"/>
                      </a:lnTo>
                      <a:lnTo>
                        <a:pt x="361" y="479"/>
                      </a:lnTo>
                      <a:lnTo>
                        <a:pt x="360" y="372"/>
                      </a:lnTo>
                      <a:lnTo>
                        <a:pt x="467" y="379"/>
                      </a:lnTo>
                      <a:lnTo>
                        <a:pt x="547" y="392"/>
                      </a:lnTo>
                      <a:lnTo>
                        <a:pt x="630" y="412"/>
                      </a:lnTo>
                      <a:lnTo>
                        <a:pt x="746" y="456"/>
                      </a:lnTo>
                      <a:lnTo>
                        <a:pt x="801" y="485"/>
                      </a:lnTo>
                      <a:lnTo>
                        <a:pt x="853" y="516"/>
                      </a:lnTo>
                      <a:lnTo>
                        <a:pt x="897" y="552"/>
                      </a:lnTo>
                      <a:lnTo>
                        <a:pt x="940" y="587"/>
                      </a:lnTo>
                      <a:lnTo>
                        <a:pt x="975" y="620"/>
                      </a:lnTo>
                      <a:lnTo>
                        <a:pt x="1004" y="656"/>
                      </a:lnTo>
                      <a:lnTo>
                        <a:pt x="1036" y="700"/>
                      </a:lnTo>
                      <a:lnTo>
                        <a:pt x="1064" y="750"/>
                      </a:lnTo>
                      <a:lnTo>
                        <a:pt x="1084" y="797"/>
                      </a:lnTo>
                      <a:lnTo>
                        <a:pt x="1094" y="841"/>
                      </a:lnTo>
                      <a:lnTo>
                        <a:pt x="1104" y="894"/>
                      </a:lnTo>
                      <a:lnTo>
                        <a:pt x="1105" y="946"/>
                      </a:lnTo>
                      <a:lnTo>
                        <a:pt x="1103" y="982"/>
                      </a:lnTo>
                      <a:lnTo>
                        <a:pt x="1097" y="1020"/>
                      </a:lnTo>
                      <a:lnTo>
                        <a:pt x="1084" y="1065"/>
                      </a:lnTo>
                      <a:lnTo>
                        <a:pt x="1067" y="1108"/>
                      </a:lnTo>
                      <a:lnTo>
                        <a:pt x="1047" y="1150"/>
                      </a:lnTo>
                      <a:lnTo>
                        <a:pt x="1020" y="1190"/>
                      </a:lnTo>
                      <a:lnTo>
                        <a:pt x="973" y="1249"/>
                      </a:lnTo>
                      <a:lnTo>
                        <a:pt x="932" y="1288"/>
                      </a:lnTo>
                      <a:lnTo>
                        <a:pt x="880" y="1330"/>
                      </a:lnTo>
                      <a:lnTo>
                        <a:pt x="827" y="1366"/>
                      </a:lnTo>
                      <a:lnTo>
                        <a:pt x="786" y="1389"/>
                      </a:lnTo>
                      <a:lnTo>
                        <a:pt x="739" y="1413"/>
                      </a:lnTo>
                      <a:lnTo>
                        <a:pt x="693" y="1430"/>
                      </a:lnTo>
                      <a:lnTo>
                        <a:pt x="656" y="1444"/>
                      </a:lnTo>
                      <a:lnTo>
                        <a:pt x="620" y="1456"/>
                      </a:lnTo>
                      <a:lnTo>
                        <a:pt x="574" y="1465"/>
                      </a:lnTo>
                      <a:lnTo>
                        <a:pt x="531" y="1472"/>
                      </a:lnTo>
                      <a:lnTo>
                        <a:pt x="473" y="1482"/>
                      </a:lnTo>
                      <a:lnTo>
                        <a:pt x="326" y="1496"/>
                      </a:lnTo>
                      <a:close/>
                    </a:path>
                  </a:pathLst>
                </a:custGeom>
                <a:solidFill>
                  <a:srgbClr val="00008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3490920" y="2654280"/>
                  <a:ext cx="700200" cy="792360"/>
                </a:xfrm>
                <a:custGeom>
                  <a:avLst/>
                  <a:gdLst/>
                  <a:ahLst/>
                  <a:rect l="l" t="t" r="r" b="b"/>
                  <a:pathLst>
                    <a:path w="1323" h="1496">
                      <a:moveTo>
                        <a:pt x="326" y="0"/>
                      </a:moveTo>
                      <a:lnTo>
                        <a:pt x="483" y="4"/>
                      </a:lnTo>
                      <a:lnTo>
                        <a:pt x="537" y="9"/>
                      </a:lnTo>
                      <a:lnTo>
                        <a:pt x="603" y="20"/>
                      </a:lnTo>
                      <a:lnTo>
                        <a:pt x="653" y="29"/>
                      </a:lnTo>
                      <a:lnTo>
                        <a:pt x="702" y="43"/>
                      </a:lnTo>
                      <a:lnTo>
                        <a:pt x="752" y="57"/>
                      </a:lnTo>
                      <a:lnTo>
                        <a:pt x="796" y="74"/>
                      </a:lnTo>
                      <a:lnTo>
                        <a:pt x="850" y="95"/>
                      </a:lnTo>
                      <a:lnTo>
                        <a:pt x="915" y="126"/>
                      </a:lnTo>
                      <a:lnTo>
                        <a:pt x="965" y="153"/>
                      </a:lnTo>
                      <a:lnTo>
                        <a:pt x="1014" y="185"/>
                      </a:lnTo>
                      <a:lnTo>
                        <a:pt x="1047" y="211"/>
                      </a:lnTo>
                      <a:lnTo>
                        <a:pt x="1086" y="241"/>
                      </a:lnTo>
                      <a:lnTo>
                        <a:pt x="1113" y="264"/>
                      </a:lnTo>
                      <a:lnTo>
                        <a:pt x="1143" y="298"/>
                      </a:lnTo>
                      <a:lnTo>
                        <a:pt x="1170" y="328"/>
                      </a:lnTo>
                      <a:lnTo>
                        <a:pt x="1196" y="362"/>
                      </a:lnTo>
                      <a:lnTo>
                        <a:pt x="1217" y="388"/>
                      </a:lnTo>
                      <a:lnTo>
                        <a:pt x="1242" y="426"/>
                      </a:lnTo>
                      <a:lnTo>
                        <a:pt x="1267" y="469"/>
                      </a:lnTo>
                      <a:lnTo>
                        <a:pt x="1283" y="509"/>
                      </a:lnTo>
                      <a:lnTo>
                        <a:pt x="1297" y="545"/>
                      </a:lnTo>
                      <a:lnTo>
                        <a:pt x="1309" y="586"/>
                      </a:lnTo>
                      <a:lnTo>
                        <a:pt x="1319" y="630"/>
                      </a:lnTo>
                      <a:lnTo>
                        <a:pt x="1323" y="687"/>
                      </a:lnTo>
                      <a:lnTo>
                        <a:pt x="1320" y="735"/>
                      </a:lnTo>
                      <a:lnTo>
                        <a:pt x="1313" y="776"/>
                      </a:lnTo>
                      <a:lnTo>
                        <a:pt x="1306" y="817"/>
                      </a:lnTo>
                      <a:lnTo>
                        <a:pt x="1291" y="862"/>
                      </a:lnTo>
                      <a:lnTo>
                        <a:pt x="1278" y="899"/>
                      </a:lnTo>
                      <a:lnTo>
                        <a:pt x="1260" y="933"/>
                      </a:lnTo>
                      <a:lnTo>
                        <a:pt x="1233" y="978"/>
                      </a:lnTo>
                      <a:lnTo>
                        <a:pt x="1200" y="1027"/>
                      </a:lnTo>
                      <a:lnTo>
                        <a:pt x="1165" y="1068"/>
                      </a:lnTo>
                      <a:lnTo>
                        <a:pt x="1136" y="1101"/>
                      </a:lnTo>
                      <a:lnTo>
                        <a:pt x="1100" y="1135"/>
                      </a:lnTo>
                      <a:lnTo>
                        <a:pt x="1064" y="1162"/>
                      </a:lnTo>
                      <a:lnTo>
                        <a:pt x="1023" y="1192"/>
                      </a:lnTo>
                      <a:lnTo>
                        <a:pt x="970" y="1229"/>
                      </a:lnTo>
                      <a:lnTo>
                        <a:pt x="920" y="1256"/>
                      </a:lnTo>
                      <a:lnTo>
                        <a:pt x="863" y="1286"/>
                      </a:lnTo>
                      <a:lnTo>
                        <a:pt x="746" y="1328"/>
                      </a:lnTo>
                      <a:lnTo>
                        <a:pt x="651" y="1355"/>
                      </a:lnTo>
                      <a:lnTo>
                        <a:pt x="547" y="1375"/>
                      </a:lnTo>
                      <a:lnTo>
                        <a:pt x="463" y="1385"/>
                      </a:lnTo>
                      <a:lnTo>
                        <a:pt x="356" y="1392"/>
                      </a:lnTo>
                      <a:lnTo>
                        <a:pt x="356" y="1496"/>
                      </a:lnTo>
                      <a:lnTo>
                        <a:pt x="0" y="1259"/>
                      </a:lnTo>
                      <a:lnTo>
                        <a:pt x="361" y="1017"/>
                      </a:lnTo>
                      <a:lnTo>
                        <a:pt x="360" y="1125"/>
                      </a:lnTo>
                      <a:lnTo>
                        <a:pt x="467" y="1118"/>
                      </a:lnTo>
                      <a:lnTo>
                        <a:pt x="547" y="1105"/>
                      </a:lnTo>
                      <a:lnTo>
                        <a:pt x="630" y="1084"/>
                      </a:lnTo>
                      <a:lnTo>
                        <a:pt x="746" y="1041"/>
                      </a:lnTo>
                      <a:lnTo>
                        <a:pt x="801" y="1012"/>
                      </a:lnTo>
                      <a:lnTo>
                        <a:pt x="853" y="980"/>
                      </a:lnTo>
                      <a:lnTo>
                        <a:pt x="897" y="945"/>
                      </a:lnTo>
                      <a:lnTo>
                        <a:pt x="940" y="910"/>
                      </a:lnTo>
                      <a:lnTo>
                        <a:pt x="975" y="877"/>
                      </a:lnTo>
                      <a:lnTo>
                        <a:pt x="1004" y="840"/>
                      </a:lnTo>
                      <a:lnTo>
                        <a:pt x="1036" y="797"/>
                      </a:lnTo>
                      <a:lnTo>
                        <a:pt x="1064" y="746"/>
                      </a:lnTo>
                      <a:lnTo>
                        <a:pt x="1084" y="699"/>
                      </a:lnTo>
                      <a:lnTo>
                        <a:pt x="1094" y="656"/>
                      </a:lnTo>
                      <a:lnTo>
                        <a:pt x="1104" y="602"/>
                      </a:lnTo>
                      <a:lnTo>
                        <a:pt x="1105" y="551"/>
                      </a:lnTo>
                      <a:lnTo>
                        <a:pt x="1103" y="515"/>
                      </a:lnTo>
                      <a:lnTo>
                        <a:pt x="1097" y="477"/>
                      </a:lnTo>
                      <a:lnTo>
                        <a:pt x="1084" y="432"/>
                      </a:lnTo>
                      <a:lnTo>
                        <a:pt x="1067" y="388"/>
                      </a:lnTo>
                      <a:lnTo>
                        <a:pt x="1047" y="347"/>
                      </a:lnTo>
                      <a:lnTo>
                        <a:pt x="1020" y="307"/>
                      </a:lnTo>
                      <a:lnTo>
                        <a:pt x="973" y="247"/>
                      </a:lnTo>
                      <a:lnTo>
                        <a:pt x="932" y="208"/>
                      </a:lnTo>
                      <a:lnTo>
                        <a:pt x="880" y="167"/>
                      </a:lnTo>
                      <a:lnTo>
                        <a:pt x="827" y="131"/>
                      </a:lnTo>
                      <a:lnTo>
                        <a:pt x="786" y="108"/>
                      </a:lnTo>
                      <a:lnTo>
                        <a:pt x="739" y="84"/>
                      </a:lnTo>
                      <a:lnTo>
                        <a:pt x="693" y="66"/>
                      </a:lnTo>
                      <a:lnTo>
                        <a:pt x="656" y="53"/>
                      </a:lnTo>
                      <a:lnTo>
                        <a:pt x="620" y="42"/>
                      </a:lnTo>
                      <a:lnTo>
                        <a:pt x="574" y="32"/>
                      </a:lnTo>
                      <a:lnTo>
                        <a:pt x="531" y="25"/>
                      </a:lnTo>
                      <a:lnTo>
                        <a:pt x="473" y="15"/>
                      </a:lnTo>
                      <a:lnTo>
                        <a:pt x="326" y="0"/>
                      </a:lnTo>
                      <a:close/>
                    </a:path>
                  </a:pathLst>
                </a:custGeom>
                <a:solidFill>
                  <a:srgbClr val="00008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>
                  <a:off x="2763720" y="2664000"/>
                  <a:ext cx="700200" cy="792000"/>
                </a:xfrm>
                <a:custGeom>
                  <a:avLst/>
                  <a:gdLst/>
                  <a:ahLst/>
                  <a:rect l="l" t="t" r="r" b="b"/>
                  <a:pathLst>
                    <a:path w="1324" h="1496">
                      <a:moveTo>
                        <a:pt x="997" y="0"/>
                      </a:moveTo>
                      <a:lnTo>
                        <a:pt x="840" y="3"/>
                      </a:lnTo>
                      <a:lnTo>
                        <a:pt x="787" y="9"/>
                      </a:lnTo>
                      <a:lnTo>
                        <a:pt x="721" y="20"/>
                      </a:lnTo>
                      <a:lnTo>
                        <a:pt x="671" y="29"/>
                      </a:lnTo>
                      <a:lnTo>
                        <a:pt x="622" y="41"/>
                      </a:lnTo>
                      <a:lnTo>
                        <a:pt x="572" y="57"/>
                      </a:lnTo>
                      <a:lnTo>
                        <a:pt x="527" y="74"/>
                      </a:lnTo>
                      <a:lnTo>
                        <a:pt x="474" y="95"/>
                      </a:lnTo>
                      <a:lnTo>
                        <a:pt x="409" y="125"/>
                      </a:lnTo>
                      <a:lnTo>
                        <a:pt x="359" y="153"/>
                      </a:lnTo>
                      <a:lnTo>
                        <a:pt x="310" y="185"/>
                      </a:lnTo>
                      <a:lnTo>
                        <a:pt x="276" y="210"/>
                      </a:lnTo>
                      <a:lnTo>
                        <a:pt x="237" y="241"/>
                      </a:lnTo>
                      <a:lnTo>
                        <a:pt x="209" y="264"/>
                      </a:lnTo>
                      <a:lnTo>
                        <a:pt x="180" y="298"/>
                      </a:lnTo>
                      <a:lnTo>
                        <a:pt x="154" y="328"/>
                      </a:lnTo>
                      <a:lnTo>
                        <a:pt x="127" y="361"/>
                      </a:lnTo>
                      <a:lnTo>
                        <a:pt x="107" y="388"/>
                      </a:lnTo>
                      <a:lnTo>
                        <a:pt x="81" y="426"/>
                      </a:lnTo>
                      <a:lnTo>
                        <a:pt x="57" y="468"/>
                      </a:lnTo>
                      <a:lnTo>
                        <a:pt x="40" y="509"/>
                      </a:lnTo>
                      <a:lnTo>
                        <a:pt x="27" y="545"/>
                      </a:lnTo>
                      <a:lnTo>
                        <a:pt x="14" y="586"/>
                      </a:lnTo>
                      <a:lnTo>
                        <a:pt x="4" y="630"/>
                      </a:lnTo>
                      <a:lnTo>
                        <a:pt x="0" y="687"/>
                      </a:lnTo>
                      <a:lnTo>
                        <a:pt x="3" y="735"/>
                      </a:lnTo>
                      <a:lnTo>
                        <a:pt x="10" y="775"/>
                      </a:lnTo>
                      <a:lnTo>
                        <a:pt x="18" y="817"/>
                      </a:lnTo>
                      <a:lnTo>
                        <a:pt x="32" y="862"/>
                      </a:lnTo>
                      <a:lnTo>
                        <a:pt x="46" y="899"/>
                      </a:lnTo>
                      <a:lnTo>
                        <a:pt x="64" y="933"/>
                      </a:lnTo>
                      <a:lnTo>
                        <a:pt x="90" y="978"/>
                      </a:lnTo>
                      <a:lnTo>
                        <a:pt x="124" y="1027"/>
                      </a:lnTo>
                      <a:lnTo>
                        <a:pt x="158" y="1068"/>
                      </a:lnTo>
                      <a:lnTo>
                        <a:pt x="187" y="1101"/>
                      </a:lnTo>
                      <a:lnTo>
                        <a:pt x="224" y="1135"/>
                      </a:lnTo>
                      <a:lnTo>
                        <a:pt x="260" y="1161"/>
                      </a:lnTo>
                      <a:lnTo>
                        <a:pt x="301" y="1192"/>
                      </a:lnTo>
                      <a:lnTo>
                        <a:pt x="353" y="1229"/>
                      </a:lnTo>
                      <a:lnTo>
                        <a:pt x="403" y="1255"/>
                      </a:lnTo>
                      <a:lnTo>
                        <a:pt x="460" y="1286"/>
                      </a:lnTo>
                      <a:lnTo>
                        <a:pt x="577" y="1328"/>
                      </a:lnTo>
                      <a:lnTo>
                        <a:pt x="673" y="1355"/>
                      </a:lnTo>
                      <a:lnTo>
                        <a:pt x="777" y="1375"/>
                      </a:lnTo>
                      <a:lnTo>
                        <a:pt x="860" y="1385"/>
                      </a:lnTo>
                      <a:lnTo>
                        <a:pt x="967" y="1392"/>
                      </a:lnTo>
                      <a:lnTo>
                        <a:pt x="967" y="1496"/>
                      </a:lnTo>
                      <a:lnTo>
                        <a:pt x="1324" y="1259"/>
                      </a:lnTo>
                      <a:lnTo>
                        <a:pt x="963" y="1017"/>
                      </a:lnTo>
                      <a:lnTo>
                        <a:pt x="964" y="1125"/>
                      </a:lnTo>
                      <a:lnTo>
                        <a:pt x="857" y="1118"/>
                      </a:lnTo>
                      <a:lnTo>
                        <a:pt x="777" y="1104"/>
                      </a:lnTo>
                      <a:lnTo>
                        <a:pt x="693" y="1084"/>
                      </a:lnTo>
                      <a:lnTo>
                        <a:pt x="577" y="1041"/>
                      </a:lnTo>
                      <a:lnTo>
                        <a:pt x="523" y="1012"/>
                      </a:lnTo>
                      <a:lnTo>
                        <a:pt x="470" y="980"/>
                      </a:lnTo>
                      <a:lnTo>
                        <a:pt x="427" y="944"/>
                      </a:lnTo>
                      <a:lnTo>
                        <a:pt x="383" y="910"/>
                      </a:lnTo>
                      <a:lnTo>
                        <a:pt x="349" y="876"/>
                      </a:lnTo>
                      <a:lnTo>
                        <a:pt x="320" y="840"/>
                      </a:lnTo>
                      <a:lnTo>
                        <a:pt x="287" y="797"/>
                      </a:lnTo>
                      <a:lnTo>
                        <a:pt x="260" y="746"/>
                      </a:lnTo>
                      <a:lnTo>
                        <a:pt x="240" y="699"/>
                      </a:lnTo>
                      <a:lnTo>
                        <a:pt x="230" y="656"/>
                      </a:lnTo>
                      <a:lnTo>
                        <a:pt x="219" y="602"/>
                      </a:lnTo>
                      <a:lnTo>
                        <a:pt x="218" y="551"/>
                      </a:lnTo>
                      <a:lnTo>
                        <a:pt x="221" y="515"/>
                      </a:lnTo>
                      <a:lnTo>
                        <a:pt x="226" y="477"/>
                      </a:lnTo>
                      <a:lnTo>
                        <a:pt x="240" y="432"/>
                      </a:lnTo>
                      <a:lnTo>
                        <a:pt x="256" y="388"/>
                      </a:lnTo>
                      <a:lnTo>
                        <a:pt x="276" y="347"/>
                      </a:lnTo>
                      <a:lnTo>
                        <a:pt x="303" y="307"/>
                      </a:lnTo>
                      <a:lnTo>
                        <a:pt x="351" y="247"/>
                      </a:lnTo>
                      <a:lnTo>
                        <a:pt x="391" y="208"/>
                      </a:lnTo>
                      <a:lnTo>
                        <a:pt x="443" y="167"/>
                      </a:lnTo>
                      <a:lnTo>
                        <a:pt x="497" y="131"/>
                      </a:lnTo>
                      <a:lnTo>
                        <a:pt x="537" y="108"/>
                      </a:lnTo>
                      <a:lnTo>
                        <a:pt x="585" y="84"/>
                      </a:lnTo>
                      <a:lnTo>
                        <a:pt x="631" y="66"/>
                      </a:lnTo>
                      <a:lnTo>
                        <a:pt x="666" y="53"/>
                      </a:lnTo>
                      <a:lnTo>
                        <a:pt x="703" y="40"/>
                      </a:lnTo>
                      <a:lnTo>
                        <a:pt x="750" y="30"/>
                      </a:lnTo>
                      <a:lnTo>
                        <a:pt x="792" y="25"/>
                      </a:lnTo>
                      <a:lnTo>
                        <a:pt x="850" y="15"/>
                      </a:lnTo>
                      <a:lnTo>
                        <a:pt x="997" y="0"/>
                      </a:lnTo>
                      <a:close/>
                    </a:path>
                  </a:pathLst>
                </a:custGeom>
                <a:solidFill>
                  <a:srgbClr val="00008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>
                  <a:off x="2760840" y="2127240"/>
                  <a:ext cx="699840" cy="792000"/>
                </a:xfrm>
                <a:custGeom>
                  <a:avLst/>
                  <a:gdLst/>
                  <a:ahLst/>
                  <a:rect l="l" t="t" r="r" b="b"/>
                  <a:pathLst>
                    <a:path w="1324" h="1496">
                      <a:moveTo>
                        <a:pt x="998" y="1496"/>
                      </a:moveTo>
                      <a:lnTo>
                        <a:pt x="840" y="1493"/>
                      </a:lnTo>
                      <a:lnTo>
                        <a:pt x="787" y="1487"/>
                      </a:lnTo>
                      <a:lnTo>
                        <a:pt x="721" y="1476"/>
                      </a:lnTo>
                      <a:lnTo>
                        <a:pt x="671" y="1467"/>
                      </a:lnTo>
                      <a:lnTo>
                        <a:pt x="622" y="1455"/>
                      </a:lnTo>
                      <a:lnTo>
                        <a:pt x="572" y="1439"/>
                      </a:lnTo>
                      <a:lnTo>
                        <a:pt x="527" y="1422"/>
                      </a:lnTo>
                      <a:lnTo>
                        <a:pt x="474" y="1401"/>
                      </a:lnTo>
                      <a:lnTo>
                        <a:pt x="409" y="1371"/>
                      </a:lnTo>
                      <a:lnTo>
                        <a:pt x="359" y="1343"/>
                      </a:lnTo>
                      <a:lnTo>
                        <a:pt x="310" y="1312"/>
                      </a:lnTo>
                      <a:lnTo>
                        <a:pt x="277" y="1286"/>
                      </a:lnTo>
                      <a:lnTo>
                        <a:pt x="238" y="1256"/>
                      </a:lnTo>
                      <a:lnTo>
                        <a:pt x="211" y="1232"/>
                      </a:lnTo>
                      <a:lnTo>
                        <a:pt x="181" y="1199"/>
                      </a:lnTo>
                      <a:lnTo>
                        <a:pt x="154" y="1168"/>
                      </a:lnTo>
                      <a:lnTo>
                        <a:pt x="127" y="1135"/>
                      </a:lnTo>
                      <a:lnTo>
                        <a:pt x="107" y="1108"/>
                      </a:lnTo>
                      <a:lnTo>
                        <a:pt x="82" y="1070"/>
                      </a:lnTo>
                      <a:lnTo>
                        <a:pt x="57" y="1029"/>
                      </a:lnTo>
                      <a:lnTo>
                        <a:pt x="41" y="987"/>
                      </a:lnTo>
                      <a:lnTo>
                        <a:pt x="27" y="951"/>
                      </a:lnTo>
                      <a:lnTo>
                        <a:pt x="15" y="910"/>
                      </a:lnTo>
                      <a:lnTo>
                        <a:pt x="5" y="866"/>
                      </a:lnTo>
                      <a:lnTo>
                        <a:pt x="0" y="809"/>
                      </a:lnTo>
                      <a:lnTo>
                        <a:pt x="4" y="761"/>
                      </a:lnTo>
                      <a:lnTo>
                        <a:pt x="10" y="721"/>
                      </a:lnTo>
                      <a:lnTo>
                        <a:pt x="18" y="679"/>
                      </a:lnTo>
                      <a:lnTo>
                        <a:pt x="33" y="635"/>
                      </a:lnTo>
                      <a:lnTo>
                        <a:pt x="46" y="598"/>
                      </a:lnTo>
                      <a:lnTo>
                        <a:pt x="64" y="563"/>
                      </a:lnTo>
                      <a:lnTo>
                        <a:pt x="91" y="518"/>
                      </a:lnTo>
                      <a:lnTo>
                        <a:pt x="124" y="469"/>
                      </a:lnTo>
                      <a:lnTo>
                        <a:pt x="159" y="429"/>
                      </a:lnTo>
                      <a:lnTo>
                        <a:pt x="188" y="395"/>
                      </a:lnTo>
                      <a:lnTo>
                        <a:pt x="224" y="362"/>
                      </a:lnTo>
                      <a:lnTo>
                        <a:pt x="260" y="335"/>
                      </a:lnTo>
                      <a:lnTo>
                        <a:pt x="301" y="305"/>
                      </a:lnTo>
                      <a:lnTo>
                        <a:pt x="354" y="268"/>
                      </a:lnTo>
                      <a:lnTo>
                        <a:pt x="404" y="241"/>
                      </a:lnTo>
                      <a:lnTo>
                        <a:pt x="461" y="211"/>
                      </a:lnTo>
                      <a:lnTo>
                        <a:pt x="578" y="168"/>
                      </a:lnTo>
                      <a:lnTo>
                        <a:pt x="673" y="141"/>
                      </a:lnTo>
                      <a:lnTo>
                        <a:pt x="777" y="121"/>
                      </a:lnTo>
                      <a:lnTo>
                        <a:pt x="861" y="111"/>
                      </a:lnTo>
                      <a:lnTo>
                        <a:pt x="968" y="104"/>
                      </a:lnTo>
                      <a:lnTo>
                        <a:pt x="968" y="0"/>
                      </a:lnTo>
                      <a:lnTo>
                        <a:pt x="1324" y="237"/>
                      </a:lnTo>
                      <a:lnTo>
                        <a:pt x="963" y="479"/>
                      </a:lnTo>
                      <a:lnTo>
                        <a:pt x="964" y="372"/>
                      </a:lnTo>
                      <a:lnTo>
                        <a:pt x="857" y="378"/>
                      </a:lnTo>
                      <a:lnTo>
                        <a:pt x="777" y="392"/>
                      </a:lnTo>
                      <a:lnTo>
                        <a:pt x="693" y="412"/>
                      </a:lnTo>
                      <a:lnTo>
                        <a:pt x="578" y="456"/>
                      </a:lnTo>
                      <a:lnTo>
                        <a:pt x="523" y="485"/>
                      </a:lnTo>
                      <a:lnTo>
                        <a:pt x="471" y="516"/>
                      </a:lnTo>
                      <a:lnTo>
                        <a:pt x="427" y="552"/>
                      </a:lnTo>
                      <a:lnTo>
                        <a:pt x="384" y="587"/>
                      </a:lnTo>
                      <a:lnTo>
                        <a:pt x="349" y="620"/>
                      </a:lnTo>
                      <a:lnTo>
                        <a:pt x="320" y="656"/>
                      </a:lnTo>
                      <a:lnTo>
                        <a:pt x="288" y="700"/>
                      </a:lnTo>
                      <a:lnTo>
                        <a:pt x="260" y="750"/>
                      </a:lnTo>
                      <a:lnTo>
                        <a:pt x="240" y="797"/>
                      </a:lnTo>
                      <a:lnTo>
                        <a:pt x="230" y="841"/>
                      </a:lnTo>
                      <a:lnTo>
                        <a:pt x="220" y="894"/>
                      </a:lnTo>
                      <a:lnTo>
                        <a:pt x="219" y="946"/>
                      </a:lnTo>
                      <a:lnTo>
                        <a:pt x="221" y="982"/>
                      </a:lnTo>
                      <a:lnTo>
                        <a:pt x="227" y="1020"/>
                      </a:lnTo>
                      <a:lnTo>
                        <a:pt x="240" y="1064"/>
                      </a:lnTo>
                      <a:lnTo>
                        <a:pt x="257" y="1108"/>
                      </a:lnTo>
                      <a:lnTo>
                        <a:pt x="277" y="1149"/>
                      </a:lnTo>
                      <a:lnTo>
                        <a:pt x="303" y="1190"/>
                      </a:lnTo>
                      <a:lnTo>
                        <a:pt x="351" y="1249"/>
                      </a:lnTo>
                      <a:lnTo>
                        <a:pt x="391" y="1288"/>
                      </a:lnTo>
                      <a:lnTo>
                        <a:pt x="444" y="1329"/>
                      </a:lnTo>
                      <a:lnTo>
                        <a:pt x="497" y="1365"/>
                      </a:lnTo>
                      <a:lnTo>
                        <a:pt x="537" y="1389"/>
                      </a:lnTo>
                      <a:lnTo>
                        <a:pt x="585" y="1412"/>
                      </a:lnTo>
                      <a:lnTo>
                        <a:pt x="631" y="1430"/>
                      </a:lnTo>
                      <a:lnTo>
                        <a:pt x="668" y="1444"/>
                      </a:lnTo>
                      <a:lnTo>
                        <a:pt x="703" y="1456"/>
                      </a:lnTo>
                      <a:lnTo>
                        <a:pt x="750" y="1466"/>
                      </a:lnTo>
                      <a:lnTo>
                        <a:pt x="793" y="1472"/>
                      </a:lnTo>
                      <a:lnTo>
                        <a:pt x="851" y="1482"/>
                      </a:lnTo>
                      <a:lnTo>
                        <a:pt x="998" y="1496"/>
                      </a:lnTo>
                      <a:close/>
                    </a:path>
                  </a:pathLst>
                </a:custGeom>
                <a:solidFill>
                  <a:srgbClr val="00008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0" name=""/>
              <p:cNvGrpSpPr/>
              <p:nvPr/>
            </p:nvGrpSpPr>
            <p:grpSpPr>
              <a:xfrm>
                <a:off x="3189240" y="2416320"/>
                <a:ext cx="585720" cy="698400"/>
                <a:chOff x="3189240" y="2416320"/>
                <a:chExt cx="585720" cy="698400"/>
              </a:xfrm>
            </p:grpSpPr>
            <p:grpSp>
              <p:nvGrpSpPr>
                <p:cNvPr id="331" name=""/>
                <p:cNvGrpSpPr/>
                <p:nvPr/>
              </p:nvGrpSpPr>
              <p:grpSpPr>
                <a:xfrm>
                  <a:off x="3193920" y="2416320"/>
                  <a:ext cx="581040" cy="698400"/>
                  <a:chOff x="3193920" y="2416320"/>
                  <a:chExt cx="581040" cy="698400"/>
                </a:xfrm>
              </p:grpSpPr>
              <p:grpSp>
                <p:nvGrpSpPr>
                  <p:cNvPr id="332" name=""/>
                  <p:cNvGrpSpPr/>
                  <p:nvPr/>
                </p:nvGrpSpPr>
                <p:grpSpPr>
                  <a:xfrm>
                    <a:off x="3214800" y="2577960"/>
                    <a:ext cx="560160" cy="536760"/>
                    <a:chOff x="3214800" y="2577960"/>
                    <a:chExt cx="560160" cy="536760"/>
                  </a:xfrm>
                </p:grpSpPr>
                <p:grpSp>
                  <p:nvGrpSpPr>
                    <p:cNvPr id="333" name=""/>
                    <p:cNvGrpSpPr/>
                    <p:nvPr/>
                  </p:nvGrpSpPr>
                  <p:grpSpPr>
                    <a:xfrm>
                      <a:off x="3214800" y="2577960"/>
                      <a:ext cx="452160" cy="114480"/>
                      <a:chOff x="3214800" y="2577960"/>
                      <a:chExt cx="452160" cy="114480"/>
                    </a:xfrm>
                  </p:grpSpPr>
                  <p:grpSp>
                    <p:nvGrpSpPr>
                      <p:cNvPr id="334" name=""/>
                      <p:cNvGrpSpPr/>
                      <p:nvPr/>
                    </p:nvGrpSpPr>
                    <p:grpSpPr>
                      <a:xfrm>
                        <a:off x="3568680" y="2593800"/>
                        <a:ext cx="98280" cy="98640"/>
                        <a:chOff x="3568680" y="2593800"/>
                        <a:chExt cx="98280" cy="98640"/>
                      </a:xfrm>
                    </p:grpSpPr>
                    <p:grpSp>
                      <p:nvGrpSpPr>
                        <p:cNvPr id="335" name=""/>
                        <p:cNvGrpSpPr/>
                        <p:nvPr/>
                      </p:nvGrpSpPr>
                      <p:grpSpPr>
                        <a:xfrm>
                          <a:off x="3568680" y="2593800"/>
                          <a:ext cx="69840" cy="61920"/>
                          <a:chOff x="3568680" y="2593800"/>
                          <a:chExt cx="69840" cy="61920"/>
                        </a:xfrm>
                      </p:grpSpPr>
                      <p:sp>
                        <p:nvSpPr>
                          <p:cNvPr id="336" name=""/>
                          <p:cNvSpPr/>
                          <p:nvPr/>
                        </p:nvSpPr>
                        <p:spPr>
                          <a:xfrm>
                            <a:off x="3568680" y="2598840"/>
                            <a:ext cx="63360" cy="5076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98" h="161">
                                <a:moveTo>
                                  <a:pt x="0" y="161"/>
                                </a:moveTo>
                                <a:lnTo>
                                  <a:pt x="18" y="132"/>
                                </a:lnTo>
                                <a:lnTo>
                                  <a:pt x="37" y="108"/>
                                </a:lnTo>
                                <a:lnTo>
                                  <a:pt x="58" y="81"/>
                                </a:lnTo>
                                <a:lnTo>
                                  <a:pt x="82" y="57"/>
                                </a:lnTo>
                                <a:lnTo>
                                  <a:pt x="107" y="37"/>
                                </a:lnTo>
                                <a:lnTo>
                                  <a:pt x="131" y="23"/>
                                </a:lnTo>
                                <a:lnTo>
                                  <a:pt x="150" y="12"/>
                                </a:lnTo>
                                <a:lnTo>
                                  <a:pt x="170" y="6"/>
                                </a:lnTo>
                                <a:lnTo>
                                  <a:pt x="198" y="0"/>
                                </a:lnTo>
                              </a:path>
                            </a:pathLst>
                          </a:custGeom>
                          <a:noFill/>
                          <a:ln w="25560">
                            <a:solidFill>
                              <a:srgbClr val="60006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3960" bIns="39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37" name=""/>
                          <p:cNvSpPr/>
                          <p:nvPr/>
                        </p:nvSpPr>
                        <p:spPr>
                          <a:xfrm>
                            <a:off x="3576600" y="2604960"/>
                            <a:ext cx="61920" cy="5076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95" h="160">
                                <a:moveTo>
                                  <a:pt x="0" y="160"/>
                                </a:moveTo>
                                <a:lnTo>
                                  <a:pt x="19" y="131"/>
                                </a:lnTo>
                                <a:lnTo>
                                  <a:pt x="37" y="106"/>
                                </a:lnTo>
                                <a:lnTo>
                                  <a:pt x="59" y="80"/>
                                </a:lnTo>
                                <a:lnTo>
                                  <a:pt x="82" y="55"/>
                                </a:lnTo>
                                <a:lnTo>
                                  <a:pt x="108" y="35"/>
                                </a:lnTo>
                                <a:lnTo>
                                  <a:pt x="131" y="21"/>
                                </a:lnTo>
                                <a:lnTo>
                                  <a:pt x="156" y="11"/>
                                </a:lnTo>
                                <a:lnTo>
                                  <a:pt x="177" y="3"/>
                                </a:lnTo>
                                <a:lnTo>
                                  <a:pt x="195" y="0"/>
                                </a:lnTo>
                              </a:path>
                            </a:pathLst>
                          </a:custGeom>
                          <a:noFill/>
                          <a:ln w="11160">
                            <a:solidFill>
                              <a:srgbClr val="40004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3960" bIns="39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38" name=""/>
                          <p:cNvSpPr/>
                          <p:nvPr/>
                        </p:nvSpPr>
                        <p:spPr>
                          <a:xfrm>
                            <a:off x="3568680" y="2593800"/>
                            <a:ext cx="61920" cy="5112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94" h="160">
                                <a:moveTo>
                                  <a:pt x="0" y="160"/>
                                </a:moveTo>
                                <a:lnTo>
                                  <a:pt x="18" y="131"/>
                                </a:lnTo>
                                <a:lnTo>
                                  <a:pt x="37" y="106"/>
                                </a:lnTo>
                                <a:lnTo>
                                  <a:pt x="58" y="80"/>
                                </a:lnTo>
                                <a:lnTo>
                                  <a:pt x="82" y="55"/>
                                </a:lnTo>
                                <a:lnTo>
                                  <a:pt x="107" y="36"/>
                                </a:lnTo>
                                <a:lnTo>
                                  <a:pt x="131" y="21"/>
                                </a:lnTo>
                                <a:lnTo>
                                  <a:pt x="155" y="11"/>
                                </a:lnTo>
                                <a:lnTo>
                                  <a:pt x="178" y="3"/>
                                </a:lnTo>
                                <a:lnTo>
                                  <a:pt x="194" y="0"/>
                                </a:lnTo>
                              </a:path>
                            </a:pathLst>
                          </a:custGeom>
                          <a:noFill/>
                          <a:ln w="4680">
                            <a:solidFill>
                              <a:srgbClr val="a000a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320" bIns="43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339" name=""/>
                        <p:cNvGrpSpPr/>
                        <p:nvPr/>
                      </p:nvGrpSpPr>
                      <p:grpSpPr>
                        <a:xfrm>
                          <a:off x="3595680" y="2631960"/>
                          <a:ext cx="71280" cy="60480"/>
                          <a:chOff x="3595680" y="2631960"/>
                          <a:chExt cx="71280" cy="60480"/>
                        </a:xfrm>
                      </p:grpSpPr>
                      <p:sp>
                        <p:nvSpPr>
                          <p:cNvPr id="340" name=""/>
                          <p:cNvSpPr/>
                          <p:nvPr/>
                        </p:nvSpPr>
                        <p:spPr>
                          <a:xfrm>
                            <a:off x="3595680" y="2635200"/>
                            <a:ext cx="63360" cy="5076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98" h="160">
                                <a:moveTo>
                                  <a:pt x="0" y="160"/>
                                </a:moveTo>
                                <a:lnTo>
                                  <a:pt x="18" y="131"/>
                                </a:lnTo>
                                <a:lnTo>
                                  <a:pt x="37" y="107"/>
                                </a:lnTo>
                                <a:lnTo>
                                  <a:pt x="58" y="81"/>
                                </a:lnTo>
                                <a:lnTo>
                                  <a:pt x="82" y="56"/>
                                </a:lnTo>
                                <a:lnTo>
                                  <a:pt x="106" y="37"/>
                                </a:lnTo>
                                <a:lnTo>
                                  <a:pt x="130" y="23"/>
                                </a:lnTo>
                                <a:lnTo>
                                  <a:pt x="149" y="12"/>
                                </a:lnTo>
                                <a:lnTo>
                                  <a:pt x="168" y="6"/>
                                </a:lnTo>
                                <a:lnTo>
                                  <a:pt x="198" y="0"/>
                                </a:lnTo>
                              </a:path>
                            </a:pathLst>
                          </a:custGeom>
                          <a:noFill/>
                          <a:ln w="25560">
                            <a:solidFill>
                              <a:srgbClr val="60006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3960" bIns="39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41" name=""/>
                          <p:cNvSpPr/>
                          <p:nvPr/>
                        </p:nvSpPr>
                        <p:spPr>
                          <a:xfrm>
                            <a:off x="3605040" y="2641680"/>
                            <a:ext cx="61920" cy="5076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95" h="159">
                                <a:moveTo>
                                  <a:pt x="0" y="159"/>
                                </a:moveTo>
                                <a:lnTo>
                                  <a:pt x="19" y="131"/>
                                </a:lnTo>
                                <a:lnTo>
                                  <a:pt x="37" y="106"/>
                                </a:lnTo>
                                <a:lnTo>
                                  <a:pt x="59" y="79"/>
                                </a:lnTo>
                                <a:lnTo>
                                  <a:pt x="81" y="56"/>
                                </a:lnTo>
                                <a:lnTo>
                                  <a:pt x="107" y="36"/>
                                </a:lnTo>
                                <a:lnTo>
                                  <a:pt x="130" y="22"/>
                                </a:lnTo>
                                <a:lnTo>
                                  <a:pt x="155" y="12"/>
                                </a:lnTo>
                                <a:lnTo>
                                  <a:pt x="177" y="4"/>
                                </a:lnTo>
                                <a:lnTo>
                                  <a:pt x="195" y="0"/>
                                </a:lnTo>
                              </a:path>
                            </a:pathLst>
                          </a:custGeom>
                          <a:noFill/>
                          <a:ln w="11160">
                            <a:solidFill>
                              <a:srgbClr val="40004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3960" bIns="39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42" name=""/>
                          <p:cNvSpPr/>
                          <p:nvPr/>
                        </p:nvSpPr>
                        <p:spPr>
                          <a:xfrm>
                            <a:off x="3595680" y="2631960"/>
                            <a:ext cx="61920" cy="4932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94" h="159">
                                <a:moveTo>
                                  <a:pt x="0" y="159"/>
                                </a:moveTo>
                                <a:lnTo>
                                  <a:pt x="18" y="130"/>
                                </a:lnTo>
                                <a:lnTo>
                                  <a:pt x="37" y="106"/>
                                </a:lnTo>
                                <a:lnTo>
                                  <a:pt x="58" y="80"/>
                                </a:lnTo>
                                <a:lnTo>
                                  <a:pt x="82" y="55"/>
                                </a:lnTo>
                                <a:lnTo>
                                  <a:pt x="106" y="36"/>
                                </a:lnTo>
                                <a:lnTo>
                                  <a:pt x="130" y="21"/>
                                </a:lnTo>
                                <a:lnTo>
                                  <a:pt x="154" y="11"/>
                                </a:lnTo>
                                <a:lnTo>
                                  <a:pt x="177" y="3"/>
                                </a:lnTo>
                                <a:lnTo>
                                  <a:pt x="194" y="0"/>
                                </a:lnTo>
                              </a:path>
                            </a:pathLst>
                          </a:custGeom>
                          <a:noFill/>
                          <a:ln w="4680">
                            <a:solidFill>
                              <a:srgbClr val="a000a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2520" bIns="25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343" name=""/>
                      <p:cNvGrpSpPr/>
                      <p:nvPr/>
                    </p:nvGrpSpPr>
                    <p:grpSpPr>
                      <a:xfrm>
                        <a:off x="3214800" y="2577960"/>
                        <a:ext cx="338040" cy="87480"/>
                        <a:chOff x="3214800" y="2577960"/>
                        <a:chExt cx="338040" cy="87480"/>
                      </a:xfrm>
                    </p:grpSpPr>
                    <p:grpSp>
                      <p:nvGrpSpPr>
                        <p:cNvPr id="344" name=""/>
                        <p:cNvGrpSpPr/>
                        <p:nvPr/>
                      </p:nvGrpSpPr>
                      <p:grpSpPr>
                        <a:xfrm>
                          <a:off x="3255840" y="2619360"/>
                          <a:ext cx="235080" cy="46080"/>
                          <a:chOff x="3255840" y="2619360"/>
                          <a:chExt cx="235080" cy="46080"/>
                        </a:xfrm>
                      </p:grpSpPr>
                      <p:grpSp>
                        <p:nvGrpSpPr>
                          <p:cNvPr id="345" name=""/>
                          <p:cNvGrpSpPr/>
                          <p:nvPr/>
                        </p:nvGrpSpPr>
                        <p:grpSpPr>
                          <a:xfrm>
                            <a:off x="3265560" y="2619360"/>
                            <a:ext cx="225360" cy="46080"/>
                            <a:chOff x="3265560" y="2619360"/>
                            <a:chExt cx="225360" cy="46080"/>
                          </a:xfrm>
                        </p:grpSpPr>
                        <p:sp>
                          <p:nvSpPr>
                            <p:cNvPr id="346" name=""/>
                            <p:cNvSpPr/>
                            <p:nvPr/>
                          </p:nvSpPr>
                          <p:spPr>
                            <a:xfrm>
                              <a:off x="3267000" y="2624040"/>
                              <a:ext cx="220680" cy="3168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694" h="101">
                                  <a:moveTo>
                                    <a:pt x="0" y="80"/>
                                  </a:moveTo>
                                  <a:lnTo>
                                    <a:pt x="42" y="67"/>
                                  </a:lnTo>
                                  <a:lnTo>
                                    <a:pt x="85" y="54"/>
                                  </a:lnTo>
                                  <a:lnTo>
                                    <a:pt x="143" y="40"/>
                                  </a:lnTo>
                                  <a:lnTo>
                                    <a:pt x="205" y="27"/>
                                  </a:lnTo>
                                  <a:lnTo>
                                    <a:pt x="268" y="14"/>
                                  </a:lnTo>
                                  <a:lnTo>
                                    <a:pt x="315" y="8"/>
                                  </a:lnTo>
                                  <a:lnTo>
                                    <a:pt x="372" y="2"/>
                                  </a:lnTo>
                                  <a:lnTo>
                                    <a:pt x="433" y="0"/>
                                  </a:lnTo>
                                  <a:lnTo>
                                    <a:pt x="490" y="3"/>
                                  </a:lnTo>
                                  <a:lnTo>
                                    <a:pt x="540" y="6"/>
                                  </a:lnTo>
                                  <a:lnTo>
                                    <a:pt x="590" y="14"/>
                                  </a:lnTo>
                                  <a:lnTo>
                                    <a:pt x="617" y="25"/>
                                  </a:lnTo>
                                  <a:lnTo>
                                    <a:pt x="642" y="39"/>
                                  </a:lnTo>
                                  <a:lnTo>
                                    <a:pt x="663" y="56"/>
                                  </a:lnTo>
                                  <a:lnTo>
                                    <a:pt x="685" y="83"/>
                                  </a:lnTo>
                                  <a:lnTo>
                                    <a:pt x="694" y="101"/>
                                  </a:lnTo>
                                </a:path>
                              </a:pathLst>
                            </a:custGeom>
                            <a:noFill/>
                            <a:ln w="25560">
                              <a:solidFill>
                                <a:srgbClr val="60006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15120" bIns="-15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347" name=""/>
                            <p:cNvSpPr/>
                            <p:nvPr/>
                          </p:nvSpPr>
                          <p:spPr>
                            <a:xfrm>
                              <a:off x="3265560" y="2633760"/>
                              <a:ext cx="218880" cy="3168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694" h="100">
                                  <a:moveTo>
                                    <a:pt x="0" y="80"/>
                                  </a:moveTo>
                                  <a:lnTo>
                                    <a:pt x="41" y="66"/>
                                  </a:lnTo>
                                  <a:lnTo>
                                    <a:pt x="84" y="54"/>
                                  </a:lnTo>
                                  <a:lnTo>
                                    <a:pt x="143" y="40"/>
                                  </a:lnTo>
                                  <a:lnTo>
                                    <a:pt x="205" y="26"/>
                                  </a:lnTo>
                                  <a:lnTo>
                                    <a:pt x="267" y="14"/>
                                  </a:lnTo>
                                  <a:lnTo>
                                    <a:pt x="315" y="8"/>
                                  </a:lnTo>
                                  <a:lnTo>
                                    <a:pt x="372" y="2"/>
                                  </a:lnTo>
                                  <a:lnTo>
                                    <a:pt x="433" y="0"/>
                                  </a:lnTo>
                                  <a:lnTo>
                                    <a:pt x="489" y="3"/>
                                  </a:lnTo>
                                  <a:lnTo>
                                    <a:pt x="540" y="6"/>
                                  </a:lnTo>
                                  <a:lnTo>
                                    <a:pt x="590" y="14"/>
                                  </a:lnTo>
                                  <a:lnTo>
                                    <a:pt x="617" y="24"/>
                                  </a:lnTo>
                                  <a:lnTo>
                                    <a:pt x="642" y="39"/>
                                  </a:lnTo>
                                  <a:lnTo>
                                    <a:pt x="663" y="55"/>
                                  </a:lnTo>
                                  <a:lnTo>
                                    <a:pt x="685" y="83"/>
                                  </a:lnTo>
                                  <a:lnTo>
                                    <a:pt x="694" y="100"/>
                                  </a:lnTo>
                                </a:path>
                              </a:pathLst>
                            </a:custGeom>
                            <a:noFill/>
                            <a:ln w="11160">
                              <a:solidFill>
                                <a:srgbClr val="40004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15120" bIns="-15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348" name=""/>
                            <p:cNvSpPr/>
                            <p:nvPr/>
                          </p:nvSpPr>
                          <p:spPr>
                            <a:xfrm>
                              <a:off x="3270240" y="2619360"/>
                              <a:ext cx="220680" cy="3168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694" h="100">
                                  <a:moveTo>
                                    <a:pt x="0" y="80"/>
                                  </a:moveTo>
                                  <a:lnTo>
                                    <a:pt x="42" y="66"/>
                                  </a:lnTo>
                                  <a:lnTo>
                                    <a:pt x="85" y="54"/>
                                  </a:lnTo>
                                  <a:lnTo>
                                    <a:pt x="143" y="40"/>
                                  </a:lnTo>
                                  <a:lnTo>
                                    <a:pt x="204" y="26"/>
                                  </a:lnTo>
                                  <a:lnTo>
                                    <a:pt x="268" y="14"/>
                                  </a:lnTo>
                                  <a:lnTo>
                                    <a:pt x="315" y="8"/>
                                  </a:lnTo>
                                  <a:lnTo>
                                    <a:pt x="372" y="2"/>
                                  </a:lnTo>
                                  <a:lnTo>
                                    <a:pt x="434" y="0"/>
                                  </a:lnTo>
                                  <a:lnTo>
                                    <a:pt x="490" y="3"/>
                                  </a:lnTo>
                                  <a:lnTo>
                                    <a:pt x="540" y="6"/>
                                  </a:lnTo>
                                  <a:lnTo>
                                    <a:pt x="590" y="14"/>
                                  </a:lnTo>
                                  <a:lnTo>
                                    <a:pt x="618" y="24"/>
                                  </a:lnTo>
                                  <a:lnTo>
                                    <a:pt x="642" y="39"/>
                                  </a:lnTo>
                                  <a:lnTo>
                                    <a:pt x="664" y="55"/>
                                  </a:lnTo>
                                  <a:lnTo>
                                    <a:pt x="685" y="83"/>
                                  </a:lnTo>
                                  <a:lnTo>
                                    <a:pt x="694" y="100"/>
                                  </a:lnTo>
                                </a:path>
                              </a:pathLst>
                            </a:custGeom>
                            <a:noFill/>
                            <a:ln w="4680">
                              <a:solidFill>
                                <a:srgbClr val="a000a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15120" bIns="-15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349" name=""/>
                          <p:cNvSpPr/>
                          <p:nvPr/>
                        </p:nvSpPr>
                        <p:spPr>
                          <a:xfrm>
                            <a:off x="3255840" y="2639880"/>
                            <a:ext cx="12960" cy="22320"/>
                          </a:xfrm>
                          <a:prstGeom prst="ellipse">
                            <a:avLst/>
                          </a:prstGeom>
                          <a:solidFill>
                            <a:srgbClr val="200020"/>
                          </a:solidFill>
                          <a:ln w="3240">
                            <a:solidFill>
                              <a:srgbClr val="80008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0960" bIns="-309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350" name=""/>
                        <p:cNvGrpSpPr/>
                        <p:nvPr/>
                      </p:nvGrpSpPr>
                      <p:grpSpPr>
                        <a:xfrm>
                          <a:off x="3214800" y="2577960"/>
                          <a:ext cx="338040" cy="66960"/>
                          <a:chOff x="3214800" y="2577960"/>
                          <a:chExt cx="338040" cy="66960"/>
                        </a:xfrm>
                      </p:grpSpPr>
                      <p:grpSp>
                        <p:nvGrpSpPr>
                          <p:cNvPr id="351" name=""/>
                          <p:cNvGrpSpPr/>
                          <p:nvPr/>
                        </p:nvGrpSpPr>
                        <p:grpSpPr>
                          <a:xfrm>
                            <a:off x="3222720" y="2577960"/>
                            <a:ext cx="330120" cy="66960"/>
                            <a:chOff x="3222720" y="2577960"/>
                            <a:chExt cx="330120" cy="66960"/>
                          </a:xfrm>
                        </p:grpSpPr>
                        <p:sp>
                          <p:nvSpPr>
                            <p:cNvPr id="352" name=""/>
                            <p:cNvSpPr/>
                            <p:nvPr/>
                          </p:nvSpPr>
                          <p:spPr>
                            <a:xfrm>
                              <a:off x="3225960" y="2585880"/>
                              <a:ext cx="320400" cy="4608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1012" h="148">
                                  <a:moveTo>
                                    <a:pt x="0" y="117"/>
                                  </a:moveTo>
                                  <a:lnTo>
                                    <a:pt x="60" y="98"/>
                                  </a:lnTo>
                                  <a:lnTo>
                                    <a:pt x="123" y="80"/>
                                  </a:lnTo>
                                  <a:lnTo>
                                    <a:pt x="207" y="59"/>
                                  </a:lnTo>
                                  <a:lnTo>
                                    <a:pt x="298" y="39"/>
                                  </a:lnTo>
                                  <a:lnTo>
                                    <a:pt x="390" y="22"/>
                                  </a:lnTo>
                                  <a:lnTo>
                                    <a:pt x="459" y="12"/>
                                  </a:lnTo>
                                  <a:lnTo>
                                    <a:pt x="543" y="3"/>
                                  </a:lnTo>
                                  <a:lnTo>
                                    <a:pt x="632" y="0"/>
                                  </a:lnTo>
                                  <a:lnTo>
                                    <a:pt x="714" y="4"/>
                                  </a:lnTo>
                                  <a:lnTo>
                                    <a:pt x="788" y="9"/>
                                  </a:lnTo>
                                  <a:lnTo>
                                    <a:pt x="861" y="22"/>
                                  </a:lnTo>
                                  <a:lnTo>
                                    <a:pt x="901" y="36"/>
                                  </a:lnTo>
                                  <a:lnTo>
                                    <a:pt x="937" y="58"/>
                                  </a:lnTo>
                                  <a:lnTo>
                                    <a:pt x="967" y="81"/>
                                  </a:lnTo>
                                  <a:lnTo>
                                    <a:pt x="999" y="122"/>
                                  </a:lnTo>
                                  <a:lnTo>
                                    <a:pt x="1012" y="148"/>
                                  </a:lnTo>
                                </a:path>
                              </a:pathLst>
                            </a:custGeom>
                            <a:noFill/>
                            <a:ln w="25560">
                              <a:solidFill>
                                <a:srgbClr val="60006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720" bIns="-7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353" name=""/>
                            <p:cNvSpPr/>
                            <p:nvPr/>
                          </p:nvSpPr>
                          <p:spPr>
                            <a:xfrm>
                              <a:off x="3222720" y="2598840"/>
                              <a:ext cx="322200" cy="4608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1012" h="147">
                                  <a:moveTo>
                                    <a:pt x="0" y="117"/>
                                  </a:moveTo>
                                  <a:lnTo>
                                    <a:pt x="60" y="98"/>
                                  </a:lnTo>
                                  <a:lnTo>
                                    <a:pt x="122" y="79"/>
                                  </a:lnTo>
                                  <a:lnTo>
                                    <a:pt x="208" y="59"/>
                                  </a:lnTo>
                                  <a:lnTo>
                                    <a:pt x="299" y="39"/>
                                  </a:lnTo>
                                  <a:lnTo>
                                    <a:pt x="390" y="21"/>
                                  </a:lnTo>
                                  <a:lnTo>
                                    <a:pt x="459" y="11"/>
                                  </a:lnTo>
                                  <a:lnTo>
                                    <a:pt x="543" y="3"/>
                                  </a:lnTo>
                                  <a:lnTo>
                                    <a:pt x="633" y="0"/>
                                  </a:lnTo>
                                  <a:lnTo>
                                    <a:pt x="713" y="4"/>
                                  </a:lnTo>
                                  <a:lnTo>
                                    <a:pt x="788" y="8"/>
                                  </a:lnTo>
                                  <a:lnTo>
                                    <a:pt x="861" y="21"/>
                                  </a:lnTo>
                                  <a:lnTo>
                                    <a:pt x="902" y="36"/>
                                  </a:lnTo>
                                  <a:lnTo>
                                    <a:pt x="937" y="57"/>
                                  </a:lnTo>
                                  <a:lnTo>
                                    <a:pt x="968" y="81"/>
                                  </a:lnTo>
                                  <a:lnTo>
                                    <a:pt x="999" y="121"/>
                                  </a:lnTo>
                                  <a:lnTo>
                                    <a:pt x="1012" y="147"/>
                                  </a:lnTo>
                                </a:path>
                              </a:pathLst>
                            </a:custGeom>
                            <a:noFill/>
                            <a:ln w="11160">
                              <a:solidFill>
                                <a:srgbClr val="40004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720" bIns="-7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354" name=""/>
                            <p:cNvSpPr/>
                            <p:nvPr/>
                          </p:nvSpPr>
                          <p:spPr>
                            <a:xfrm>
                              <a:off x="3232080" y="2577960"/>
                              <a:ext cx="320760" cy="4608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1012" h="147">
                                  <a:moveTo>
                                    <a:pt x="0" y="117"/>
                                  </a:moveTo>
                                  <a:lnTo>
                                    <a:pt x="60" y="98"/>
                                  </a:lnTo>
                                  <a:lnTo>
                                    <a:pt x="123" y="79"/>
                                  </a:lnTo>
                                  <a:lnTo>
                                    <a:pt x="208" y="59"/>
                                  </a:lnTo>
                                  <a:lnTo>
                                    <a:pt x="299" y="39"/>
                                  </a:lnTo>
                                  <a:lnTo>
                                    <a:pt x="390" y="21"/>
                                  </a:lnTo>
                                  <a:lnTo>
                                    <a:pt x="458" y="12"/>
                                  </a:lnTo>
                                  <a:lnTo>
                                    <a:pt x="542" y="3"/>
                                  </a:lnTo>
                                  <a:lnTo>
                                    <a:pt x="632" y="0"/>
                                  </a:lnTo>
                                  <a:lnTo>
                                    <a:pt x="713" y="5"/>
                                  </a:lnTo>
                                  <a:lnTo>
                                    <a:pt x="788" y="9"/>
                                  </a:lnTo>
                                  <a:lnTo>
                                    <a:pt x="861" y="21"/>
                                  </a:lnTo>
                                  <a:lnTo>
                                    <a:pt x="901" y="36"/>
                                  </a:lnTo>
                                  <a:lnTo>
                                    <a:pt x="937" y="57"/>
                                  </a:lnTo>
                                  <a:lnTo>
                                    <a:pt x="968" y="82"/>
                                  </a:lnTo>
                                  <a:lnTo>
                                    <a:pt x="998" y="122"/>
                                  </a:lnTo>
                                  <a:lnTo>
                                    <a:pt x="1012" y="147"/>
                                  </a:lnTo>
                                </a:path>
                              </a:pathLst>
                            </a:custGeom>
                            <a:noFill/>
                            <a:ln w="4680">
                              <a:solidFill>
                                <a:srgbClr val="a000a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720" bIns="-7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355" name=""/>
                          <p:cNvSpPr/>
                          <p:nvPr/>
                        </p:nvSpPr>
                        <p:spPr>
                          <a:xfrm>
                            <a:off x="3214800" y="2611440"/>
                            <a:ext cx="15840" cy="27000"/>
                          </a:xfrm>
                          <a:prstGeom prst="ellipse">
                            <a:avLst/>
                          </a:prstGeom>
                          <a:solidFill>
                            <a:srgbClr val="200020"/>
                          </a:solidFill>
                          <a:ln w="3240">
                            <a:solidFill>
                              <a:srgbClr val="80008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7720" bIns="-277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</p:grpSp>
                <p:grpSp>
                  <p:nvGrpSpPr>
                    <p:cNvPr id="356" name=""/>
                    <p:cNvGrpSpPr/>
                    <p:nvPr/>
                  </p:nvGrpSpPr>
                  <p:grpSpPr>
                    <a:xfrm>
                      <a:off x="3228840" y="2630520"/>
                      <a:ext cx="546120" cy="484200"/>
                      <a:chOff x="3228840" y="2630520"/>
                      <a:chExt cx="546120" cy="484200"/>
                    </a:xfrm>
                  </p:grpSpPr>
                  <p:grpSp>
                    <p:nvGrpSpPr>
                      <p:cNvPr id="357" name=""/>
                      <p:cNvGrpSpPr/>
                      <p:nvPr/>
                    </p:nvGrpSpPr>
                    <p:grpSpPr>
                      <a:xfrm>
                        <a:off x="3228840" y="2630520"/>
                        <a:ext cx="546120" cy="484200"/>
                        <a:chOff x="3228840" y="2630520"/>
                        <a:chExt cx="546120" cy="484200"/>
                      </a:xfrm>
                    </p:grpSpPr>
                    <p:grpSp>
                      <p:nvGrpSpPr>
                        <p:cNvPr id="358" name=""/>
                        <p:cNvGrpSpPr/>
                        <p:nvPr/>
                      </p:nvGrpSpPr>
                      <p:grpSpPr>
                        <a:xfrm>
                          <a:off x="3228840" y="2630520"/>
                          <a:ext cx="546120" cy="484200"/>
                          <a:chOff x="3228840" y="2630520"/>
                          <a:chExt cx="546120" cy="484200"/>
                        </a:xfrm>
                      </p:grpSpPr>
                      <p:grpSp>
                        <p:nvGrpSpPr>
                          <p:cNvPr id="359" name=""/>
                          <p:cNvGrpSpPr/>
                          <p:nvPr/>
                        </p:nvGrpSpPr>
                        <p:grpSpPr>
                          <a:xfrm>
                            <a:off x="3228840" y="2630520"/>
                            <a:ext cx="546120" cy="484200"/>
                            <a:chOff x="3228840" y="2630520"/>
                            <a:chExt cx="546120" cy="484200"/>
                          </a:xfrm>
                        </p:grpSpPr>
                        <p:grpSp>
                          <p:nvGrpSpPr>
                            <p:cNvPr id="360" name=""/>
                            <p:cNvGrpSpPr/>
                            <p:nvPr/>
                          </p:nvGrpSpPr>
                          <p:grpSpPr>
                            <a:xfrm>
                              <a:off x="3228840" y="2630520"/>
                              <a:ext cx="546120" cy="484200"/>
                              <a:chOff x="3228840" y="2630520"/>
                              <a:chExt cx="546120" cy="484200"/>
                            </a:xfrm>
                          </p:grpSpPr>
                          <p:sp>
                            <p:nvSpPr>
                              <p:cNvPr id="361" name=""/>
                              <p:cNvSpPr/>
                              <p:nvPr/>
                            </p:nvSpPr>
                            <p:spPr>
                              <a:xfrm>
                                <a:off x="3228840" y="2630520"/>
                                <a:ext cx="546120" cy="4842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16" h="1521">
                                    <a:moveTo>
                                      <a:pt x="499" y="282"/>
                                    </a:moveTo>
                                    <a:lnTo>
                                      <a:pt x="548" y="246"/>
                                    </a:lnTo>
                                    <a:lnTo>
                                      <a:pt x="591" y="194"/>
                                    </a:lnTo>
                                    <a:lnTo>
                                      <a:pt x="634" y="140"/>
                                    </a:lnTo>
                                    <a:lnTo>
                                      <a:pt x="673" y="105"/>
                                    </a:lnTo>
                                    <a:lnTo>
                                      <a:pt x="716" y="70"/>
                                    </a:lnTo>
                                    <a:lnTo>
                                      <a:pt x="768" y="40"/>
                                    </a:lnTo>
                                    <a:lnTo>
                                      <a:pt x="806" y="19"/>
                                    </a:lnTo>
                                    <a:lnTo>
                                      <a:pt x="854" y="9"/>
                                    </a:lnTo>
                                    <a:lnTo>
                                      <a:pt x="906" y="0"/>
                                    </a:lnTo>
                                    <a:lnTo>
                                      <a:pt x="960" y="6"/>
                                    </a:lnTo>
                                    <a:lnTo>
                                      <a:pt x="1004" y="13"/>
                                    </a:lnTo>
                                    <a:lnTo>
                                      <a:pt x="1040" y="22"/>
                                    </a:lnTo>
                                    <a:lnTo>
                                      <a:pt x="1084" y="43"/>
                                    </a:lnTo>
                                    <a:lnTo>
                                      <a:pt x="1130" y="64"/>
                                    </a:lnTo>
                                    <a:lnTo>
                                      <a:pt x="1168" y="84"/>
                                    </a:lnTo>
                                    <a:lnTo>
                                      <a:pt x="1211" y="116"/>
                                    </a:lnTo>
                                    <a:lnTo>
                                      <a:pt x="1244" y="152"/>
                                    </a:lnTo>
                                    <a:lnTo>
                                      <a:pt x="1270" y="199"/>
                                    </a:lnTo>
                                    <a:lnTo>
                                      <a:pt x="1281" y="227"/>
                                    </a:lnTo>
                                    <a:lnTo>
                                      <a:pt x="1283" y="263"/>
                                    </a:lnTo>
                                    <a:lnTo>
                                      <a:pt x="1298" y="294"/>
                                    </a:lnTo>
                                    <a:lnTo>
                                      <a:pt x="1319" y="323"/>
                                    </a:lnTo>
                                    <a:lnTo>
                                      <a:pt x="1347" y="343"/>
                                    </a:lnTo>
                                    <a:lnTo>
                                      <a:pt x="1381" y="360"/>
                                    </a:lnTo>
                                    <a:lnTo>
                                      <a:pt x="1401" y="378"/>
                                    </a:lnTo>
                                    <a:lnTo>
                                      <a:pt x="1418" y="404"/>
                                    </a:lnTo>
                                    <a:lnTo>
                                      <a:pt x="1444" y="438"/>
                                    </a:lnTo>
                                    <a:lnTo>
                                      <a:pt x="1472" y="471"/>
                                    </a:lnTo>
                                    <a:lnTo>
                                      <a:pt x="1503" y="505"/>
                                    </a:lnTo>
                                    <a:lnTo>
                                      <a:pt x="1534" y="539"/>
                                    </a:lnTo>
                                    <a:lnTo>
                                      <a:pt x="1567" y="601"/>
                                    </a:lnTo>
                                    <a:lnTo>
                                      <a:pt x="1591" y="661"/>
                                    </a:lnTo>
                                    <a:lnTo>
                                      <a:pt x="1609" y="707"/>
                                    </a:lnTo>
                                    <a:lnTo>
                                      <a:pt x="1622" y="769"/>
                                    </a:lnTo>
                                    <a:lnTo>
                                      <a:pt x="1641" y="832"/>
                                    </a:lnTo>
                                    <a:lnTo>
                                      <a:pt x="1656" y="891"/>
                                    </a:lnTo>
                                    <a:lnTo>
                                      <a:pt x="1668" y="947"/>
                                    </a:lnTo>
                                    <a:lnTo>
                                      <a:pt x="1680" y="1005"/>
                                    </a:lnTo>
                                    <a:lnTo>
                                      <a:pt x="1695" y="1057"/>
                                    </a:lnTo>
                                    <a:lnTo>
                                      <a:pt x="1702" y="1122"/>
                                    </a:lnTo>
                                    <a:lnTo>
                                      <a:pt x="1710" y="1190"/>
                                    </a:lnTo>
                                    <a:lnTo>
                                      <a:pt x="1716" y="1253"/>
                                    </a:lnTo>
                                    <a:lnTo>
                                      <a:pt x="1708" y="1301"/>
                                    </a:lnTo>
                                    <a:lnTo>
                                      <a:pt x="1702" y="1340"/>
                                    </a:lnTo>
                                    <a:lnTo>
                                      <a:pt x="1698" y="1374"/>
                                    </a:lnTo>
                                    <a:lnTo>
                                      <a:pt x="1683" y="1404"/>
                                    </a:lnTo>
                                    <a:lnTo>
                                      <a:pt x="1658" y="1435"/>
                                    </a:lnTo>
                                    <a:lnTo>
                                      <a:pt x="1621" y="1463"/>
                                    </a:lnTo>
                                    <a:lnTo>
                                      <a:pt x="1576" y="1480"/>
                                    </a:lnTo>
                                    <a:lnTo>
                                      <a:pt x="1525" y="1491"/>
                                    </a:lnTo>
                                    <a:lnTo>
                                      <a:pt x="1464" y="1499"/>
                                    </a:lnTo>
                                    <a:lnTo>
                                      <a:pt x="1408" y="1506"/>
                                    </a:lnTo>
                                    <a:lnTo>
                                      <a:pt x="1346" y="1509"/>
                                    </a:lnTo>
                                    <a:lnTo>
                                      <a:pt x="1273" y="1516"/>
                                    </a:lnTo>
                                    <a:lnTo>
                                      <a:pt x="1210" y="1521"/>
                                    </a:lnTo>
                                    <a:lnTo>
                                      <a:pt x="1152" y="1521"/>
                                    </a:lnTo>
                                    <a:lnTo>
                                      <a:pt x="1094" y="1516"/>
                                    </a:lnTo>
                                    <a:lnTo>
                                      <a:pt x="1042" y="1509"/>
                                    </a:lnTo>
                                    <a:lnTo>
                                      <a:pt x="1001" y="1505"/>
                                    </a:lnTo>
                                    <a:lnTo>
                                      <a:pt x="957" y="1493"/>
                                    </a:lnTo>
                                    <a:lnTo>
                                      <a:pt x="903" y="1478"/>
                                    </a:lnTo>
                                    <a:lnTo>
                                      <a:pt x="843" y="1459"/>
                                    </a:lnTo>
                                    <a:lnTo>
                                      <a:pt x="796" y="1441"/>
                                    </a:lnTo>
                                    <a:lnTo>
                                      <a:pt x="741" y="1419"/>
                                    </a:lnTo>
                                    <a:lnTo>
                                      <a:pt x="694" y="1399"/>
                                    </a:lnTo>
                                    <a:lnTo>
                                      <a:pt x="647" y="1375"/>
                                    </a:lnTo>
                                    <a:lnTo>
                                      <a:pt x="597" y="1349"/>
                                    </a:lnTo>
                                    <a:lnTo>
                                      <a:pt x="550" y="1321"/>
                                    </a:lnTo>
                                    <a:lnTo>
                                      <a:pt x="503" y="1286"/>
                                    </a:lnTo>
                                    <a:lnTo>
                                      <a:pt x="460" y="1252"/>
                                    </a:lnTo>
                                    <a:lnTo>
                                      <a:pt x="429" y="1224"/>
                                    </a:lnTo>
                                    <a:lnTo>
                                      <a:pt x="388" y="1170"/>
                                    </a:lnTo>
                                    <a:lnTo>
                                      <a:pt x="355" y="1127"/>
                                    </a:lnTo>
                                    <a:lnTo>
                                      <a:pt x="321" y="1079"/>
                                    </a:lnTo>
                                    <a:lnTo>
                                      <a:pt x="301" y="1051"/>
                                    </a:lnTo>
                                    <a:lnTo>
                                      <a:pt x="285" y="1014"/>
                                    </a:lnTo>
                                    <a:lnTo>
                                      <a:pt x="255" y="1006"/>
                                    </a:lnTo>
                                    <a:lnTo>
                                      <a:pt x="221" y="996"/>
                                    </a:lnTo>
                                    <a:lnTo>
                                      <a:pt x="190" y="981"/>
                                    </a:lnTo>
                                    <a:lnTo>
                                      <a:pt x="150" y="957"/>
                                    </a:lnTo>
                                    <a:lnTo>
                                      <a:pt x="111" y="928"/>
                                    </a:lnTo>
                                    <a:lnTo>
                                      <a:pt x="85" y="894"/>
                                    </a:lnTo>
                                    <a:lnTo>
                                      <a:pt x="55" y="854"/>
                                    </a:lnTo>
                                    <a:lnTo>
                                      <a:pt x="33" y="817"/>
                                    </a:lnTo>
                                    <a:lnTo>
                                      <a:pt x="12" y="777"/>
                                    </a:lnTo>
                                    <a:lnTo>
                                      <a:pt x="4" y="738"/>
                                    </a:lnTo>
                                    <a:lnTo>
                                      <a:pt x="0" y="684"/>
                                    </a:lnTo>
                                    <a:lnTo>
                                      <a:pt x="3" y="641"/>
                                    </a:lnTo>
                                    <a:lnTo>
                                      <a:pt x="12" y="597"/>
                                    </a:lnTo>
                                    <a:lnTo>
                                      <a:pt x="27" y="547"/>
                                    </a:lnTo>
                                    <a:lnTo>
                                      <a:pt x="49" y="499"/>
                                    </a:lnTo>
                                    <a:lnTo>
                                      <a:pt x="76" y="451"/>
                                    </a:lnTo>
                                    <a:lnTo>
                                      <a:pt x="107" y="409"/>
                                    </a:lnTo>
                                    <a:lnTo>
                                      <a:pt x="134" y="378"/>
                                    </a:lnTo>
                                    <a:lnTo>
                                      <a:pt x="168" y="347"/>
                                    </a:lnTo>
                                    <a:lnTo>
                                      <a:pt x="208" y="320"/>
                                    </a:lnTo>
                                    <a:lnTo>
                                      <a:pt x="248" y="301"/>
                                    </a:lnTo>
                                    <a:lnTo>
                                      <a:pt x="298" y="289"/>
                                    </a:lnTo>
                                    <a:lnTo>
                                      <a:pt x="360" y="281"/>
                                    </a:lnTo>
                                    <a:lnTo>
                                      <a:pt x="415" y="282"/>
                                    </a:lnTo>
                                    <a:lnTo>
                                      <a:pt x="466" y="288"/>
                                    </a:lnTo>
                                    <a:lnTo>
                                      <a:pt x="499" y="282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ffc08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362" name=""/>
                              <p:cNvSpPr/>
                              <p:nvPr/>
                            </p:nvSpPr>
                            <p:spPr>
                              <a:xfrm>
                                <a:off x="3341520" y="2751120"/>
                                <a:ext cx="433440" cy="3636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361" h="1143">
                                    <a:moveTo>
                                      <a:pt x="1051" y="53"/>
                                    </a:moveTo>
                                    <a:lnTo>
                                      <a:pt x="1042" y="25"/>
                                    </a:lnTo>
                                    <a:lnTo>
                                      <a:pt x="1046" y="0"/>
                                    </a:lnTo>
                                    <a:lnTo>
                                      <a:pt x="1063" y="27"/>
                                    </a:lnTo>
                                    <a:lnTo>
                                      <a:pt x="1089" y="61"/>
                                    </a:lnTo>
                                    <a:lnTo>
                                      <a:pt x="1117" y="94"/>
                                    </a:lnTo>
                                    <a:lnTo>
                                      <a:pt x="1148" y="128"/>
                                    </a:lnTo>
                                    <a:lnTo>
                                      <a:pt x="1179" y="162"/>
                                    </a:lnTo>
                                    <a:lnTo>
                                      <a:pt x="1212" y="224"/>
                                    </a:lnTo>
                                    <a:lnTo>
                                      <a:pt x="1236" y="284"/>
                                    </a:lnTo>
                                    <a:lnTo>
                                      <a:pt x="1254" y="329"/>
                                    </a:lnTo>
                                    <a:lnTo>
                                      <a:pt x="1267" y="391"/>
                                    </a:lnTo>
                                    <a:lnTo>
                                      <a:pt x="1286" y="454"/>
                                    </a:lnTo>
                                    <a:lnTo>
                                      <a:pt x="1301" y="513"/>
                                    </a:lnTo>
                                    <a:lnTo>
                                      <a:pt x="1313" y="569"/>
                                    </a:lnTo>
                                    <a:lnTo>
                                      <a:pt x="1325" y="627"/>
                                    </a:lnTo>
                                    <a:lnTo>
                                      <a:pt x="1340" y="679"/>
                                    </a:lnTo>
                                    <a:lnTo>
                                      <a:pt x="1347" y="744"/>
                                    </a:lnTo>
                                    <a:lnTo>
                                      <a:pt x="1355" y="813"/>
                                    </a:lnTo>
                                    <a:lnTo>
                                      <a:pt x="1361" y="875"/>
                                    </a:lnTo>
                                    <a:lnTo>
                                      <a:pt x="1353" y="923"/>
                                    </a:lnTo>
                                    <a:lnTo>
                                      <a:pt x="1347" y="962"/>
                                    </a:lnTo>
                                    <a:lnTo>
                                      <a:pt x="1343" y="996"/>
                                    </a:lnTo>
                                    <a:lnTo>
                                      <a:pt x="1328" y="1026"/>
                                    </a:lnTo>
                                    <a:lnTo>
                                      <a:pt x="1303" y="1057"/>
                                    </a:lnTo>
                                    <a:lnTo>
                                      <a:pt x="1266" y="1085"/>
                                    </a:lnTo>
                                    <a:lnTo>
                                      <a:pt x="1221" y="1102"/>
                                    </a:lnTo>
                                    <a:lnTo>
                                      <a:pt x="1170" y="1113"/>
                                    </a:lnTo>
                                    <a:lnTo>
                                      <a:pt x="1109" y="1121"/>
                                    </a:lnTo>
                                    <a:lnTo>
                                      <a:pt x="1053" y="1128"/>
                                    </a:lnTo>
                                    <a:lnTo>
                                      <a:pt x="992" y="1131"/>
                                    </a:lnTo>
                                    <a:lnTo>
                                      <a:pt x="918" y="1138"/>
                                    </a:lnTo>
                                    <a:lnTo>
                                      <a:pt x="855" y="1143"/>
                                    </a:lnTo>
                                    <a:lnTo>
                                      <a:pt x="797" y="1143"/>
                                    </a:lnTo>
                                    <a:lnTo>
                                      <a:pt x="739" y="1138"/>
                                    </a:lnTo>
                                    <a:lnTo>
                                      <a:pt x="687" y="1131"/>
                                    </a:lnTo>
                                    <a:lnTo>
                                      <a:pt x="646" y="1127"/>
                                    </a:lnTo>
                                    <a:lnTo>
                                      <a:pt x="602" y="1115"/>
                                    </a:lnTo>
                                    <a:lnTo>
                                      <a:pt x="548" y="1100"/>
                                    </a:lnTo>
                                    <a:lnTo>
                                      <a:pt x="488" y="1081"/>
                                    </a:lnTo>
                                    <a:lnTo>
                                      <a:pt x="441" y="1063"/>
                                    </a:lnTo>
                                    <a:lnTo>
                                      <a:pt x="386" y="1041"/>
                                    </a:lnTo>
                                    <a:lnTo>
                                      <a:pt x="341" y="1021"/>
                                    </a:lnTo>
                                    <a:lnTo>
                                      <a:pt x="293" y="997"/>
                                    </a:lnTo>
                                    <a:lnTo>
                                      <a:pt x="243" y="971"/>
                                    </a:lnTo>
                                    <a:lnTo>
                                      <a:pt x="196" y="943"/>
                                    </a:lnTo>
                                    <a:lnTo>
                                      <a:pt x="149" y="908"/>
                                    </a:lnTo>
                                    <a:lnTo>
                                      <a:pt x="106" y="874"/>
                                    </a:lnTo>
                                    <a:lnTo>
                                      <a:pt x="74" y="847"/>
                                    </a:lnTo>
                                    <a:lnTo>
                                      <a:pt x="33" y="793"/>
                                    </a:lnTo>
                                    <a:lnTo>
                                      <a:pt x="0" y="749"/>
                                    </a:lnTo>
                                    <a:lnTo>
                                      <a:pt x="29" y="760"/>
                                    </a:lnTo>
                                    <a:lnTo>
                                      <a:pt x="54" y="782"/>
                                    </a:lnTo>
                                    <a:lnTo>
                                      <a:pt x="84" y="819"/>
                                    </a:lnTo>
                                    <a:lnTo>
                                      <a:pt x="122" y="853"/>
                                    </a:lnTo>
                                    <a:lnTo>
                                      <a:pt x="157" y="879"/>
                                    </a:lnTo>
                                    <a:lnTo>
                                      <a:pt x="198" y="908"/>
                                    </a:lnTo>
                                    <a:lnTo>
                                      <a:pt x="236" y="932"/>
                                    </a:lnTo>
                                    <a:lnTo>
                                      <a:pt x="278" y="960"/>
                                    </a:lnTo>
                                    <a:lnTo>
                                      <a:pt x="318" y="976"/>
                                    </a:lnTo>
                                    <a:lnTo>
                                      <a:pt x="366" y="1001"/>
                                    </a:lnTo>
                                    <a:lnTo>
                                      <a:pt x="406" y="1013"/>
                                    </a:lnTo>
                                    <a:lnTo>
                                      <a:pt x="443" y="1033"/>
                                    </a:lnTo>
                                    <a:lnTo>
                                      <a:pt x="483" y="1047"/>
                                    </a:lnTo>
                                    <a:lnTo>
                                      <a:pt x="519" y="1058"/>
                                    </a:lnTo>
                                    <a:lnTo>
                                      <a:pt x="568" y="1078"/>
                                    </a:lnTo>
                                    <a:lnTo>
                                      <a:pt x="613" y="1085"/>
                                    </a:lnTo>
                                    <a:lnTo>
                                      <a:pt x="660" y="1093"/>
                                    </a:lnTo>
                                    <a:lnTo>
                                      <a:pt x="708" y="1100"/>
                                    </a:lnTo>
                                    <a:lnTo>
                                      <a:pt x="757" y="1106"/>
                                    </a:lnTo>
                                    <a:lnTo>
                                      <a:pt x="805" y="1109"/>
                                    </a:lnTo>
                                    <a:lnTo>
                                      <a:pt x="845" y="1107"/>
                                    </a:lnTo>
                                    <a:lnTo>
                                      <a:pt x="889" y="1106"/>
                                    </a:lnTo>
                                    <a:lnTo>
                                      <a:pt x="928" y="1104"/>
                                    </a:lnTo>
                                    <a:lnTo>
                                      <a:pt x="971" y="1100"/>
                                    </a:lnTo>
                                    <a:lnTo>
                                      <a:pt x="1012" y="1097"/>
                                    </a:lnTo>
                                    <a:lnTo>
                                      <a:pt x="1052" y="1090"/>
                                    </a:lnTo>
                                    <a:lnTo>
                                      <a:pt x="1098" y="1084"/>
                                    </a:lnTo>
                                    <a:lnTo>
                                      <a:pt x="1140" y="1081"/>
                                    </a:lnTo>
                                    <a:lnTo>
                                      <a:pt x="1163" y="1067"/>
                                    </a:lnTo>
                                    <a:lnTo>
                                      <a:pt x="1190" y="1047"/>
                                    </a:lnTo>
                                    <a:lnTo>
                                      <a:pt x="1216" y="1033"/>
                                    </a:lnTo>
                                    <a:lnTo>
                                      <a:pt x="1234" y="1008"/>
                                    </a:lnTo>
                                    <a:lnTo>
                                      <a:pt x="1251" y="980"/>
                                    </a:lnTo>
                                    <a:lnTo>
                                      <a:pt x="1265" y="952"/>
                                    </a:lnTo>
                                    <a:lnTo>
                                      <a:pt x="1280" y="921"/>
                                    </a:lnTo>
                                    <a:lnTo>
                                      <a:pt x="1290" y="888"/>
                                    </a:lnTo>
                                    <a:lnTo>
                                      <a:pt x="1302" y="867"/>
                                    </a:lnTo>
                                    <a:lnTo>
                                      <a:pt x="1297" y="809"/>
                                    </a:lnTo>
                                    <a:lnTo>
                                      <a:pt x="1293" y="750"/>
                                    </a:lnTo>
                                    <a:lnTo>
                                      <a:pt x="1290" y="692"/>
                                    </a:lnTo>
                                    <a:lnTo>
                                      <a:pt x="1287" y="644"/>
                                    </a:lnTo>
                                    <a:lnTo>
                                      <a:pt x="1277" y="604"/>
                                    </a:lnTo>
                                    <a:lnTo>
                                      <a:pt x="1266" y="558"/>
                                    </a:lnTo>
                                    <a:lnTo>
                                      <a:pt x="1253" y="516"/>
                                    </a:lnTo>
                                    <a:lnTo>
                                      <a:pt x="1245" y="479"/>
                                    </a:lnTo>
                                    <a:lnTo>
                                      <a:pt x="1234" y="436"/>
                                    </a:lnTo>
                                    <a:lnTo>
                                      <a:pt x="1220" y="387"/>
                                    </a:lnTo>
                                    <a:lnTo>
                                      <a:pt x="1208" y="337"/>
                                    </a:lnTo>
                                    <a:lnTo>
                                      <a:pt x="1203" y="299"/>
                                    </a:lnTo>
                                    <a:lnTo>
                                      <a:pt x="1180" y="263"/>
                                    </a:lnTo>
                                    <a:lnTo>
                                      <a:pt x="1159" y="232"/>
                                    </a:lnTo>
                                    <a:lnTo>
                                      <a:pt x="1137" y="192"/>
                                    </a:lnTo>
                                    <a:lnTo>
                                      <a:pt x="1113" y="149"/>
                                    </a:lnTo>
                                    <a:lnTo>
                                      <a:pt x="1092" y="113"/>
                                    </a:lnTo>
                                    <a:lnTo>
                                      <a:pt x="1070" y="84"/>
                                    </a:lnTo>
                                    <a:lnTo>
                                      <a:pt x="1051" y="53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ffa04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363" name=""/>
                            <p:cNvSpPr/>
                            <p:nvPr/>
                          </p:nvSpPr>
                          <p:spPr>
                            <a:xfrm>
                              <a:off x="3516480" y="2897280"/>
                              <a:ext cx="153720" cy="15552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488" h="488">
                                  <a:moveTo>
                                    <a:pt x="22" y="0"/>
                                  </a:moveTo>
                                  <a:lnTo>
                                    <a:pt x="57" y="24"/>
                                  </a:lnTo>
                                  <a:lnTo>
                                    <a:pt x="89" y="55"/>
                                  </a:lnTo>
                                  <a:lnTo>
                                    <a:pt x="122" y="89"/>
                                  </a:lnTo>
                                  <a:lnTo>
                                    <a:pt x="158" y="130"/>
                                  </a:lnTo>
                                  <a:lnTo>
                                    <a:pt x="197" y="173"/>
                                  </a:lnTo>
                                  <a:lnTo>
                                    <a:pt x="243" y="221"/>
                                  </a:lnTo>
                                  <a:lnTo>
                                    <a:pt x="290" y="273"/>
                                  </a:lnTo>
                                  <a:lnTo>
                                    <a:pt x="323" y="313"/>
                                  </a:lnTo>
                                  <a:lnTo>
                                    <a:pt x="352" y="339"/>
                                  </a:lnTo>
                                  <a:lnTo>
                                    <a:pt x="381" y="364"/>
                                  </a:lnTo>
                                  <a:lnTo>
                                    <a:pt x="413" y="386"/>
                                  </a:lnTo>
                                  <a:lnTo>
                                    <a:pt x="444" y="412"/>
                                  </a:lnTo>
                                  <a:lnTo>
                                    <a:pt x="470" y="433"/>
                                  </a:lnTo>
                                  <a:lnTo>
                                    <a:pt x="484" y="449"/>
                                  </a:lnTo>
                                  <a:lnTo>
                                    <a:pt x="488" y="466"/>
                                  </a:lnTo>
                                  <a:lnTo>
                                    <a:pt x="485" y="479"/>
                                  </a:lnTo>
                                  <a:lnTo>
                                    <a:pt x="476" y="486"/>
                                  </a:lnTo>
                                  <a:lnTo>
                                    <a:pt x="462" y="488"/>
                                  </a:lnTo>
                                  <a:lnTo>
                                    <a:pt x="444" y="482"/>
                                  </a:lnTo>
                                  <a:lnTo>
                                    <a:pt x="417" y="463"/>
                                  </a:lnTo>
                                  <a:lnTo>
                                    <a:pt x="390" y="448"/>
                                  </a:lnTo>
                                  <a:lnTo>
                                    <a:pt x="365" y="436"/>
                                  </a:lnTo>
                                  <a:lnTo>
                                    <a:pt x="336" y="411"/>
                                  </a:lnTo>
                                  <a:lnTo>
                                    <a:pt x="308" y="389"/>
                                  </a:lnTo>
                                  <a:lnTo>
                                    <a:pt x="274" y="361"/>
                                  </a:lnTo>
                                  <a:lnTo>
                                    <a:pt x="243" y="336"/>
                                  </a:lnTo>
                                  <a:lnTo>
                                    <a:pt x="208" y="307"/>
                                  </a:lnTo>
                                  <a:lnTo>
                                    <a:pt x="179" y="281"/>
                                  </a:lnTo>
                                  <a:lnTo>
                                    <a:pt x="155" y="252"/>
                                  </a:lnTo>
                                  <a:lnTo>
                                    <a:pt x="130" y="228"/>
                                  </a:lnTo>
                                  <a:lnTo>
                                    <a:pt x="116" y="208"/>
                                  </a:lnTo>
                                  <a:lnTo>
                                    <a:pt x="92" y="176"/>
                                  </a:lnTo>
                                  <a:lnTo>
                                    <a:pt x="71" y="142"/>
                                  </a:lnTo>
                                  <a:lnTo>
                                    <a:pt x="49" y="109"/>
                                  </a:lnTo>
                                  <a:lnTo>
                                    <a:pt x="31" y="79"/>
                                  </a:lnTo>
                                  <a:lnTo>
                                    <a:pt x="15" y="52"/>
                                  </a:lnTo>
                                  <a:lnTo>
                                    <a:pt x="4" y="30"/>
                                  </a:lnTo>
                                  <a:lnTo>
                                    <a:pt x="0" y="15"/>
                                  </a:lnTo>
                                  <a:lnTo>
                                    <a:pt x="4" y="5"/>
                                  </a:lnTo>
                                  <a:lnTo>
                                    <a:pt x="22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ffe0c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364" name=""/>
                          <p:cNvSpPr/>
                          <p:nvPr/>
                        </p:nvSpPr>
                        <p:spPr>
                          <a:xfrm>
                            <a:off x="3598920" y="2989440"/>
                            <a:ext cx="135000" cy="10296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422" h="325">
                                <a:moveTo>
                                  <a:pt x="422" y="0"/>
                                </a:moveTo>
                                <a:lnTo>
                                  <a:pt x="422" y="44"/>
                                </a:lnTo>
                                <a:lnTo>
                                  <a:pt x="421" y="99"/>
                                </a:lnTo>
                                <a:lnTo>
                                  <a:pt x="415" y="148"/>
                                </a:lnTo>
                                <a:lnTo>
                                  <a:pt x="403" y="188"/>
                                </a:lnTo>
                                <a:lnTo>
                                  <a:pt x="383" y="215"/>
                                </a:lnTo>
                                <a:lnTo>
                                  <a:pt x="359" y="238"/>
                                </a:lnTo>
                                <a:lnTo>
                                  <a:pt x="325" y="260"/>
                                </a:lnTo>
                                <a:lnTo>
                                  <a:pt x="290" y="279"/>
                                </a:lnTo>
                                <a:lnTo>
                                  <a:pt x="239" y="300"/>
                                </a:lnTo>
                                <a:lnTo>
                                  <a:pt x="193" y="313"/>
                                </a:lnTo>
                                <a:lnTo>
                                  <a:pt x="141" y="320"/>
                                </a:lnTo>
                                <a:lnTo>
                                  <a:pt x="95" y="325"/>
                                </a:lnTo>
                                <a:lnTo>
                                  <a:pt x="47" y="323"/>
                                </a:lnTo>
                                <a:lnTo>
                                  <a:pt x="0" y="320"/>
                                </a:lnTo>
                              </a:path>
                            </a:pathLst>
                          </a:custGeom>
                          <a:noFill/>
                          <a:ln w="3240">
                            <a:solidFill>
                              <a:srgbClr val="ff8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365" name=""/>
                        <p:cNvGrpSpPr/>
                        <p:nvPr/>
                      </p:nvGrpSpPr>
                      <p:grpSpPr>
                        <a:xfrm>
                          <a:off x="3246480" y="2646360"/>
                          <a:ext cx="465120" cy="430200"/>
                          <a:chOff x="3246480" y="2646360"/>
                          <a:chExt cx="465120" cy="430200"/>
                        </a:xfrm>
                      </p:grpSpPr>
                      <p:grpSp>
                        <p:nvGrpSpPr>
                          <p:cNvPr id="366" name=""/>
                          <p:cNvGrpSpPr/>
                          <p:nvPr/>
                        </p:nvGrpSpPr>
                        <p:grpSpPr>
                          <a:xfrm>
                            <a:off x="3413160" y="2646360"/>
                            <a:ext cx="298440" cy="385920"/>
                            <a:chOff x="3413160" y="2646360"/>
                            <a:chExt cx="298440" cy="385920"/>
                          </a:xfrm>
                        </p:grpSpPr>
                        <p:grpSp>
                          <p:nvGrpSpPr>
                            <p:cNvPr id="367" name=""/>
                            <p:cNvGrpSpPr/>
                            <p:nvPr/>
                          </p:nvGrpSpPr>
                          <p:grpSpPr>
                            <a:xfrm>
                              <a:off x="3413160" y="2646360"/>
                              <a:ext cx="298440" cy="385920"/>
                              <a:chOff x="3413160" y="2646360"/>
                              <a:chExt cx="298440" cy="385920"/>
                            </a:xfrm>
                          </p:grpSpPr>
                          <p:grpSp>
                            <p:nvGrpSpPr>
                              <p:cNvPr id="368" name=""/>
                              <p:cNvGrpSpPr/>
                              <p:nvPr/>
                            </p:nvGrpSpPr>
                            <p:grpSpPr>
                              <a:xfrm>
                                <a:off x="3413160" y="2646360"/>
                                <a:ext cx="298440" cy="385920"/>
                                <a:chOff x="3413160" y="2646360"/>
                                <a:chExt cx="298440" cy="385920"/>
                              </a:xfrm>
                            </p:grpSpPr>
                            <p:grpSp>
                              <p:nvGrpSpPr>
                                <p:cNvPr id="369" name=""/>
                                <p:cNvGrpSpPr/>
                                <p:nvPr/>
                              </p:nvGrpSpPr>
                              <p:grpSpPr>
                                <a:xfrm>
                                  <a:off x="3413160" y="2646360"/>
                                  <a:ext cx="298440" cy="385920"/>
                                  <a:chOff x="3413160" y="2646360"/>
                                  <a:chExt cx="298440" cy="385920"/>
                                </a:xfrm>
                              </p:grpSpPr>
                              <p:grpSp>
                                <p:nvGrpSpPr>
                                  <p:cNvPr id="370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3413160" y="2646360"/>
                                    <a:ext cx="298440" cy="385920"/>
                                    <a:chOff x="3413160" y="2646360"/>
                                    <a:chExt cx="298440" cy="385920"/>
                                  </a:xfrm>
                                </p:grpSpPr>
                                <p:sp>
                                  <p:nvSpPr>
                                    <p:cNvPr id="37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413160" y="2646360"/>
                                      <a:ext cx="298440" cy="385920"/>
                                    </a:xfrm>
                                    <a:custGeom>
                                      <a:avLst/>
                                      <a:gdLst/>
                                      <a:ahLst/>
                                      <a:rect l="l" t="t" r="r" b="b"/>
                                      <a:pathLst>
                                        <a:path w="939" h="1215">
                                          <a:moveTo>
                                            <a:pt x="2" y="270"/>
                                          </a:moveTo>
                                          <a:lnTo>
                                            <a:pt x="10" y="248"/>
                                          </a:lnTo>
                                          <a:lnTo>
                                            <a:pt x="20" y="228"/>
                                          </a:lnTo>
                                          <a:lnTo>
                                            <a:pt x="32" y="206"/>
                                          </a:lnTo>
                                          <a:lnTo>
                                            <a:pt x="45" y="191"/>
                                          </a:lnTo>
                                          <a:lnTo>
                                            <a:pt x="58" y="178"/>
                                          </a:lnTo>
                                          <a:lnTo>
                                            <a:pt x="75" y="160"/>
                                          </a:lnTo>
                                          <a:lnTo>
                                            <a:pt x="95" y="137"/>
                                          </a:lnTo>
                                          <a:lnTo>
                                            <a:pt x="110" y="116"/>
                                          </a:lnTo>
                                          <a:lnTo>
                                            <a:pt x="126" y="96"/>
                                          </a:lnTo>
                                          <a:lnTo>
                                            <a:pt x="143" y="80"/>
                                          </a:lnTo>
                                          <a:lnTo>
                                            <a:pt x="164" y="62"/>
                                          </a:lnTo>
                                          <a:lnTo>
                                            <a:pt x="184" y="47"/>
                                          </a:lnTo>
                                          <a:lnTo>
                                            <a:pt x="205" y="34"/>
                                          </a:lnTo>
                                          <a:lnTo>
                                            <a:pt x="231" y="21"/>
                                          </a:lnTo>
                                          <a:lnTo>
                                            <a:pt x="259" y="11"/>
                                          </a:lnTo>
                                          <a:lnTo>
                                            <a:pt x="288" y="4"/>
                                          </a:lnTo>
                                          <a:lnTo>
                                            <a:pt x="324" y="1"/>
                                          </a:lnTo>
                                          <a:lnTo>
                                            <a:pt x="358" y="0"/>
                                          </a:lnTo>
                                          <a:lnTo>
                                            <a:pt x="385" y="2"/>
                                          </a:lnTo>
                                          <a:lnTo>
                                            <a:pt x="413" y="6"/>
                                          </a:lnTo>
                                          <a:lnTo>
                                            <a:pt x="439" y="11"/>
                                          </a:lnTo>
                                          <a:lnTo>
                                            <a:pt x="471" y="19"/>
                                          </a:lnTo>
                                          <a:lnTo>
                                            <a:pt x="499" y="32"/>
                                          </a:lnTo>
                                          <a:lnTo>
                                            <a:pt x="521" y="43"/>
                                          </a:lnTo>
                                          <a:lnTo>
                                            <a:pt x="546" y="56"/>
                                          </a:lnTo>
                                          <a:lnTo>
                                            <a:pt x="565" y="74"/>
                                          </a:lnTo>
                                          <a:lnTo>
                                            <a:pt x="584" y="93"/>
                                          </a:lnTo>
                                          <a:lnTo>
                                            <a:pt x="599" y="112"/>
                                          </a:lnTo>
                                          <a:lnTo>
                                            <a:pt x="616" y="135"/>
                                          </a:lnTo>
                                          <a:lnTo>
                                            <a:pt x="631" y="158"/>
                                          </a:lnTo>
                                          <a:lnTo>
                                            <a:pt x="640" y="179"/>
                                          </a:lnTo>
                                          <a:lnTo>
                                            <a:pt x="646" y="206"/>
                                          </a:lnTo>
                                          <a:lnTo>
                                            <a:pt x="651" y="231"/>
                                          </a:lnTo>
                                          <a:lnTo>
                                            <a:pt x="654" y="250"/>
                                          </a:lnTo>
                                          <a:lnTo>
                                            <a:pt x="653" y="271"/>
                                          </a:lnTo>
                                          <a:lnTo>
                                            <a:pt x="648" y="286"/>
                                          </a:lnTo>
                                          <a:lnTo>
                                            <a:pt x="638" y="310"/>
                                          </a:lnTo>
                                          <a:lnTo>
                                            <a:pt x="624" y="339"/>
                                          </a:lnTo>
                                          <a:lnTo>
                                            <a:pt x="611" y="365"/>
                                          </a:lnTo>
                                          <a:lnTo>
                                            <a:pt x="601" y="386"/>
                                          </a:lnTo>
                                          <a:lnTo>
                                            <a:pt x="594" y="409"/>
                                          </a:lnTo>
                                          <a:lnTo>
                                            <a:pt x="586" y="433"/>
                                          </a:lnTo>
                                          <a:lnTo>
                                            <a:pt x="580" y="454"/>
                                          </a:lnTo>
                                          <a:lnTo>
                                            <a:pt x="577" y="465"/>
                                          </a:lnTo>
                                          <a:lnTo>
                                            <a:pt x="578" y="473"/>
                                          </a:lnTo>
                                          <a:lnTo>
                                            <a:pt x="583" y="476"/>
                                          </a:lnTo>
                                          <a:lnTo>
                                            <a:pt x="590" y="476"/>
                                          </a:lnTo>
                                          <a:lnTo>
                                            <a:pt x="596" y="470"/>
                                          </a:lnTo>
                                          <a:lnTo>
                                            <a:pt x="603" y="459"/>
                                          </a:lnTo>
                                          <a:lnTo>
                                            <a:pt x="612" y="439"/>
                                          </a:lnTo>
                                          <a:lnTo>
                                            <a:pt x="625" y="411"/>
                                          </a:lnTo>
                                          <a:lnTo>
                                            <a:pt x="640" y="385"/>
                                          </a:lnTo>
                                          <a:lnTo>
                                            <a:pt x="654" y="363"/>
                                          </a:lnTo>
                                          <a:lnTo>
                                            <a:pt x="668" y="343"/>
                                          </a:lnTo>
                                          <a:lnTo>
                                            <a:pt x="676" y="334"/>
                                          </a:lnTo>
                                          <a:lnTo>
                                            <a:pt x="684" y="329"/>
                                          </a:lnTo>
                                          <a:lnTo>
                                            <a:pt x="694" y="327"/>
                                          </a:lnTo>
                                          <a:lnTo>
                                            <a:pt x="701" y="333"/>
                                          </a:lnTo>
                                          <a:lnTo>
                                            <a:pt x="711" y="351"/>
                                          </a:lnTo>
                                          <a:lnTo>
                                            <a:pt x="720" y="367"/>
                                          </a:lnTo>
                                          <a:lnTo>
                                            <a:pt x="731" y="389"/>
                                          </a:lnTo>
                                          <a:lnTo>
                                            <a:pt x="743" y="410"/>
                                          </a:lnTo>
                                          <a:lnTo>
                                            <a:pt x="753" y="429"/>
                                          </a:lnTo>
                                          <a:lnTo>
                                            <a:pt x="761" y="450"/>
                                          </a:lnTo>
                                          <a:lnTo>
                                            <a:pt x="770" y="469"/>
                                          </a:lnTo>
                                          <a:lnTo>
                                            <a:pt x="778" y="491"/>
                                          </a:lnTo>
                                          <a:lnTo>
                                            <a:pt x="792" y="505"/>
                                          </a:lnTo>
                                          <a:lnTo>
                                            <a:pt x="808" y="524"/>
                                          </a:lnTo>
                                          <a:lnTo>
                                            <a:pt x="820" y="541"/>
                                          </a:lnTo>
                                          <a:lnTo>
                                            <a:pt x="823" y="561"/>
                                          </a:lnTo>
                                          <a:lnTo>
                                            <a:pt x="821" y="581"/>
                                          </a:lnTo>
                                          <a:lnTo>
                                            <a:pt x="817" y="608"/>
                                          </a:lnTo>
                                          <a:lnTo>
                                            <a:pt x="812" y="633"/>
                                          </a:lnTo>
                                          <a:lnTo>
                                            <a:pt x="807" y="659"/>
                                          </a:lnTo>
                                          <a:lnTo>
                                            <a:pt x="817" y="675"/>
                                          </a:lnTo>
                                          <a:lnTo>
                                            <a:pt x="827" y="691"/>
                                          </a:lnTo>
                                          <a:lnTo>
                                            <a:pt x="836" y="709"/>
                                          </a:lnTo>
                                          <a:lnTo>
                                            <a:pt x="847" y="729"/>
                                          </a:lnTo>
                                          <a:lnTo>
                                            <a:pt x="863" y="762"/>
                                          </a:lnTo>
                                          <a:lnTo>
                                            <a:pt x="877" y="790"/>
                                          </a:lnTo>
                                          <a:lnTo>
                                            <a:pt x="893" y="817"/>
                                          </a:lnTo>
                                          <a:lnTo>
                                            <a:pt x="905" y="843"/>
                                          </a:lnTo>
                                          <a:lnTo>
                                            <a:pt x="911" y="861"/>
                                          </a:lnTo>
                                          <a:lnTo>
                                            <a:pt x="917" y="888"/>
                                          </a:lnTo>
                                          <a:lnTo>
                                            <a:pt x="922" y="918"/>
                                          </a:lnTo>
                                          <a:lnTo>
                                            <a:pt x="927" y="940"/>
                                          </a:lnTo>
                                          <a:lnTo>
                                            <a:pt x="933" y="971"/>
                                          </a:lnTo>
                                          <a:lnTo>
                                            <a:pt x="935" y="1002"/>
                                          </a:lnTo>
                                          <a:lnTo>
                                            <a:pt x="934" y="1023"/>
                                          </a:lnTo>
                                          <a:lnTo>
                                            <a:pt x="934" y="1047"/>
                                          </a:lnTo>
                                          <a:lnTo>
                                            <a:pt x="935" y="1096"/>
                                          </a:lnTo>
                                          <a:lnTo>
                                            <a:pt x="939" y="1153"/>
                                          </a:lnTo>
                                          <a:lnTo>
                                            <a:pt x="938" y="1179"/>
                                          </a:lnTo>
                                          <a:lnTo>
                                            <a:pt x="935" y="1196"/>
                                          </a:lnTo>
                                          <a:lnTo>
                                            <a:pt x="924" y="1206"/>
                                          </a:lnTo>
                                          <a:lnTo>
                                            <a:pt x="906" y="1214"/>
                                          </a:lnTo>
                                          <a:lnTo>
                                            <a:pt x="888" y="1215"/>
                                          </a:lnTo>
                                          <a:lnTo>
                                            <a:pt x="873" y="1208"/>
                                          </a:lnTo>
                                          <a:lnTo>
                                            <a:pt x="862" y="1199"/>
                                          </a:lnTo>
                                          <a:lnTo>
                                            <a:pt x="833" y="1181"/>
                                          </a:lnTo>
                                          <a:lnTo>
                                            <a:pt x="806" y="1167"/>
                                          </a:lnTo>
                                          <a:lnTo>
                                            <a:pt x="779" y="1155"/>
                                          </a:lnTo>
                                          <a:lnTo>
                                            <a:pt x="758" y="1136"/>
                                          </a:lnTo>
                                          <a:lnTo>
                                            <a:pt x="721" y="1103"/>
                                          </a:lnTo>
                                          <a:lnTo>
                                            <a:pt x="687" y="1069"/>
                                          </a:lnTo>
                                          <a:lnTo>
                                            <a:pt x="653" y="1038"/>
                                          </a:lnTo>
                                          <a:lnTo>
                                            <a:pt x="621" y="1002"/>
                                          </a:lnTo>
                                          <a:lnTo>
                                            <a:pt x="582" y="954"/>
                                          </a:lnTo>
                                          <a:lnTo>
                                            <a:pt x="553" y="918"/>
                                          </a:lnTo>
                                          <a:lnTo>
                                            <a:pt x="520" y="888"/>
                                          </a:lnTo>
                                          <a:lnTo>
                                            <a:pt x="481" y="847"/>
                                          </a:lnTo>
                                          <a:lnTo>
                                            <a:pt x="441" y="806"/>
                                          </a:lnTo>
                                          <a:lnTo>
                                            <a:pt x="385" y="754"/>
                                          </a:lnTo>
                                          <a:lnTo>
                                            <a:pt x="334" y="711"/>
                                          </a:lnTo>
                                          <a:lnTo>
                                            <a:pt x="310" y="684"/>
                                          </a:lnTo>
                                          <a:lnTo>
                                            <a:pt x="291" y="662"/>
                                          </a:lnTo>
                                          <a:lnTo>
                                            <a:pt x="280" y="643"/>
                                          </a:lnTo>
                                          <a:lnTo>
                                            <a:pt x="271" y="619"/>
                                          </a:lnTo>
                                          <a:lnTo>
                                            <a:pt x="270" y="607"/>
                                          </a:lnTo>
                                          <a:lnTo>
                                            <a:pt x="275" y="599"/>
                                          </a:lnTo>
                                          <a:lnTo>
                                            <a:pt x="287" y="590"/>
                                          </a:lnTo>
                                          <a:lnTo>
                                            <a:pt x="306" y="576"/>
                                          </a:lnTo>
                                          <a:lnTo>
                                            <a:pt x="327" y="562"/>
                                          </a:lnTo>
                                          <a:lnTo>
                                            <a:pt x="347" y="548"/>
                                          </a:lnTo>
                                          <a:lnTo>
                                            <a:pt x="363" y="538"/>
                                          </a:lnTo>
                                          <a:lnTo>
                                            <a:pt x="381" y="531"/>
                                          </a:lnTo>
                                          <a:lnTo>
                                            <a:pt x="402" y="524"/>
                                          </a:lnTo>
                                          <a:lnTo>
                                            <a:pt x="422" y="517"/>
                                          </a:lnTo>
                                          <a:lnTo>
                                            <a:pt x="443" y="510"/>
                                          </a:lnTo>
                                          <a:lnTo>
                                            <a:pt x="457" y="504"/>
                                          </a:lnTo>
                                          <a:lnTo>
                                            <a:pt x="459" y="498"/>
                                          </a:lnTo>
                                          <a:lnTo>
                                            <a:pt x="454" y="491"/>
                                          </a:lnTo>
                                          <a:lnTo>
                                            <a:pt x="445" y="489"/>
                                          </a:lnTo>
                                          <a:lnTo>
                                            <a:pt x="422" y="492"/>
                                          </a:lnTo>
                                          <a:lnTo>
                                            <a:pt x="398" y="496"/>
                                          </a:lnTo>
                                          <a:lnTo>
                                            <a:pt x="369" y="502"/>
                                          </a:lnTo>
                                          <a:lnTo>
                                            <a:pt x="340" y="510"/>
                                          </a:lnTo>
                                          <a:lnTo>
                                            <a:pt x="327" y="515"/>
                                          </a:lnTo>
                                          <a:lnTo>
                                            <a:pt x="311" y="527"/>
                                          </a:lnTo>
                                          <a:lnTo>
                                            <a:pt x="292" y="541"/>
                                          </a:lnTo>
                                          <a:lnTo>
                                            <a:pt x="268" y="562"/>
                                          </a:lnTo>
                                          <a:lnTo>
                                            <a:pt x="254" y="565"/>
                                          </a:lnTo>
                                          <a:lnTo>
                                            <a:pt x="232" y="567"/>
                                          </a:lnTo>
                                          <a:lnTo>
                                            <a:pt x="211" y="568"/>
                                          </a:lnTo>
                                          <a:lnTo>
                                            <a:pt x="197" y="564"/>
                                          </a:lnTo>
                                          <a:lnTo>
                                            <a:pt x="182" y="557"/>
                                          </a:lnTo>
                                          <a:lnTo>
                                            <a:pt x="162" y="549"/>
                                          </a:lnTo>
                                          <a:lnTo>
                                            <a:pt x="152" y="539"/>
                                          </a:lnTo>
                                          <a:lnTo>
                                            <a:pt x="141" y="523"/>
                                          </a:lnTo>
                                          <a:lnTo>
                                            <a:pt x="129" y="504"/>
                                          </a:lnTo>
                                          <a:lnTo>
                                            <a:pt x="119" y="489"/>
                                          </a:lnTo>
                                          <a:lnTo>
                                            <a:pt x="98" y="468"/>
                                          </a:lnTo>
                                          <a:lnTo>
                                            <a:pt x="83" y="449"/>
                                          </a:lnTo>
                                          <a:lnTo>
                                            <a:pt x="61" y="428"/>
                                          </a:lnTo>
                                          <a:lnTo>
                                            <a:pt x="44" y="410"/>
                                          </a:lnTo>
                                          <a:lnTo>
                                            <a:pt x="33" y="398"/>
                                          </a:lnTo>
                                          <a:lnTo>
                                            <a:pt x="26" y="383"/>
                                          </a:lnTo>
                                          <a:lnTo>
                                            <a:pt x="18" y="362"/>
                                          </a:lnTo>
                                          <a:lnTo>
                                            <a:pt x="9" y="338"/>
                                          </a:lnTo>
                                          <a:lnTo>
                                            <a:pt x="4" y="314"/>
                                          </a:lnTo>
                                          <a:lnTo>
                                            <a:pt x="0" y="288"/>
                                          </a:lnTo>
                                          <a:lnTo>
                                            <a:pt x="2" y="270"/>
                                          </a:lnTo>
                                          <a:close/>
                                        </a:path>
                                      </a:pathLst>
                                    </a:custGeom>
                                    <a:solidFill>
                                      <a:srgbClr val="ff808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46800" bIns="4680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000000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grpSp>
                                  <p:nvGrpSpPr>
                                    <p:cNvPr id="372" name=""/>
                                    <p:cNvGrpSpPr/>
                                    <p:nvPr/>
                                  </p:nvGrpSpPr>
                                  <p:grpSpPr>
                                    <a:xfrm>
                                      <a:off x="3413160" y="2646360"/>
                                      <a:ext cx="298440" cy="384120"/>
                                      <a:chOff x="3413160" y="2646360"/>
                                      <a:chExt cx="298440" cy="384120"/>
                                    </a:xfrm>
                                  </p:grpSpPr>
                                  <p:sp>
                                    <p:nvSpPr>
                                      <p:cNvPr id="373" name=""/>
                                      <p:cNvSpPr/>
                                      <p:nvPr/>
                                    </p:nvSpPr>
                                    <p:spPr>
                                      <a:xfrm>
                                        <a:off x="3498840" y="2749680"/>
                                        <a:ext cx="212760" cy="280800"/>
                                      </a:xfrm>
                                      <a:custGeom>
                                        <a:avLst/>
                                        <a:gdLst/>
                                        <a:ahLst/>
                                        <a:rect l="l" t="t" r="r" b="b"/>
                                        <a:pathLst>
                                          <a:path w="668" h="887">
                                            <a:moveTo>
                                              <a:pt x="408" y="53"/>
                                            </a:moveTo>
                                            <a:lnTo>
                                              <a:pt x="395" y="57"/>
                                            </a:lnTo>
                                            <a:lnTo>
                                              <a:pt x="379" y="68"/>
                                            </a:lnTo>
                                            <a:lnTo>
                                              <a:pt x="365" y="77"/>
                                            </a:lnTo>
                                            <a:lnTo>
                                              <a:pt x="354" y="84"/>
                                            </a:lnTo>
                                            <a:lnTo>
                                              <a:pt x="369" y="58"/>
                                            </a:lnTo>
                                            <a:lnTo>
                                              <a:pt x="383" y="36"/>
                                            </a:lnTo>
                                            <a:lnTo>
                                              <a:pt x="397" y="16"/>
                                            </a:lnTo>
                                            <a:lnTo>
                                              <a:pt x="405" y="7"/>
                                            </a:lnTo>
                                            <a:lnTo>
                                              <a:pt x="413" y="2"/>
                                            </a:lnTo>
                                            <a:lnTo>
                                              <a:pt x="423" y="0"/>
                                            </a:lnTo>
                                            <a:lnTo>
                                              <a:pt x="430" y="6"/>
                                            </a:lnTo>
                                            <a:lnTo>
                                              <a:pt x="441" y="24"/>
                                            </a:lnTo>
                                            <a:lnTo>
                                              <a:pt x="450" y="40"/>
                                            </a:lnTo>
                                            <a:lnTo>
                                              <a:pt x="461" y="62"/>
                                            </a:lnTo>
                                            <a:lnTo>
                                              <a:pt x="473" y="83"/>
                                            </a:lnTo>
                                            <a:lnTo>
                                              <a:pt x="483" y="102"/>
                                            </a:lnTo>
                                            <a:lnTo>
                                              <a:pt x="491" y="123"/>
                                            </a:lnTo>
                                            <a:lnTo>
                                              <a:pt x="500" y="142"/>
                                            </a:lnTo>
                                            <a:lnTo>
                                              <a:pt x="507" y="164"/>
                                            </a:lnTo>
                                            <a:lnTo>
                                              <a:pt x="521" y="178"/>
                                            </a:lnTo>
                                            <a:lnTo>
                                              <a:pt x="537" y="197"/>
                                            </a:lnTo>
                                            <a:lnTo>
                                              <a:pt x="549" y="214"/>
                                            </a:lnTo>
                                            <a:lnTo>
                                              <a:pt x="552" y="233"/>
                                            </a:lnTo>
                                            <a:lnTo>
                                              <a:pt x="550" y="253"/>
                                            </a:lnTo>
                                            <a:lnTo>
                                              <a:pt x="546" y="280"/>
                                            </a:lnTo>
                                            <a:lnTo>
                                              <a:pt x="541" y="305"/>
                                            </a:lnTo>
                                            <a:lnTo>
                                              <a:pt x="536" y="331"/>
                                            </a:lnTo>
                                            <a:lnTo>
                                              <a:pt x="546" y="347"/>
                                            </a:lnTo>
                                            <a:lnTo>
                                              <a:pt x="556" y="363"/>
                                            </a:lnTo>
                                            <a:lnTo>
                                              <a:pt x="565" y="381"/>
                                            </a:lnTo>
                                            <a:lnTo>
                                              <a:pt x="576" y="401"/>
                                            </a:lnTo>
                                            <a:lnTo>
                                              <a:pt x="592" y="434"/>
                                            </a:lnTo>
                                            <a:lnTo>
                                              <a:pt x="606" y="462"/>
                                            </a:lnTo>
                                            <a:lnTo>
                                              <a:pt x="622" y="489"/>
                                            </a:lnTo>
                                            <a:lnTo>
                                              <a:pt x="634" y="515"/>
                                            </a:lnTo>
                                            <a:lnTo>
                                              <a:pt x="640" y="533"/>
                                            </a:lnTo>
                                            <a:lnTo>
                                              <a:pt x="646" y="560"/>
                                            </a:lnTo>
                                            <a:lnTo>
                                              <a:pt x="651" y="591"/>
                                            </a:lnTo>
                                            <a:lnTo>
                                              <a:pt x="656" y="613"/>
                                            </a:lnTo>
                                            <a:lnTo>
                                              <a:pt x="662" y="644"/>
                                            </a:lnTo>
                                            <a:lnTo>
                                              <a:pt x="664" y="674"/>
                                            </a:lnTo>
                                            <a:lnTo>
                                              <a:pt x="663" y="695"/>
                                            </a:lnTo>
                                            <a:lnTo>
                                              <a:pt x="663" y="719"/>
                                            </a:lnTo>
                                            <a:lnTo>
                                              <a:pt x="664" y="768"/>
                                            </a:lnTo>
                                            <a:lnTo>
                                              <a:pt x="668" y="825"/>
                                            </a:lnTo>
                                            <a:lnTo>
                                              <a:pt x="667" y="851"/>
                                            </a:lnTo>
                                            <a:lnTo>
                                              <a:pt x="664" y="868"/>
                                            </a:lnTo>
                                            <a:lnTo>
                                              <a:pt x="653" y="878"/>
                                            </a:lnTo>
                                            <a:lnTo>
                                              <a:pt x="635" y="886"/>
                                            </a:lnTo>
                                            <a:lnTo>
                                              <a:pt x="617" y="887"/>
                                            </a:lnTo>
                                            <a:lnTo>
                                              <a:pt x="602" y="880"/>
                                            </a:lnTo>
                                            <a:lnTo>
                                              <a:pt x="591" y="871"/>
                                            </a:lnTo>
                                            <a:lnTo>
                                              <a:pt x="562" y="853"/>
                                            </a:lnTo>
                                            <a:lnTo>
                                              <a:pt x="535" y="839"/>
                                            </a:lnTo>
                                            <a:lnTo>
                                              <a:pt x="508" y="827"/>
                                            </a:lnTo>
                                            <a:lnTo>
                                              <a:pt x="488" y="808"/>
                                            </a:lnTo>
                                            <a:lnTo>
                                              <a:pt x="451" y="775"/>
                                            </a:lnTo>
                                            <a:lnTo>
                                              <a:pt x="416" y="741"/>
                                            </a:lnTo>
                                            <a:lnTo>
                                              <a:pt x="382" y="710"/>
                                            </a:lnTo>
                                            <a:lnTo>
                                              <a:pt x="350" y="674"/>
                                            </a:lnTo>
                                            <a:lnTo>
                                              <a:pt x="311" y="627"/>
                                            </a:lnTo>
                                            <a:lnTo>
                                              <a:pt x="282" y="591"/>
                                            </a:lnTo>
                                            <a:lnTo>
                                              <a:pt x="249" y="560"/>
                                            </a:lnTo>
                                            <a:lnTo>
                                              <a:pt x="210" y="519"/>
                                            </a:lnTo>
                                            <a:lnTo>
                                              <a:pt x="170" y="478"/>
                                            </a:lnTo>
                                            <a:lnTo>
                                              <a:pt x="115" y="426"/>
                                            </a:lnTo>
                                            <a:lnTo>
                                              <a:pt x="64" y="383"/>
                                            </a:lnTo>
                                            <a:lnTo>
                                              <a:pt x="40" y="356"/>
                                            </a:lnTo>
                                            <a:lnTo>
                                              <a:pt x="21" y="334"/>
                                            </a:lnTo>
                                            <a:lnTo>
                                              <a:pt x="10" y="315"/>
                                            </a:lnTo>
                                            <a:lnTo>
                                              <a:pt x="1" y="291"/>
                                            </a:lnTo>
                                            <a:lnTo>
                                              <a:pt x="0" y="279"/>
                                            </a:lnTo>
                                            <a:lnTo>
                                              <a:pt x="5" y="271"/>
                                            </a:lnTo>
                                            <a:lnTo>
                                              <a:pt x="17" y="262"/>
                                            </a:lnTo>
                                            <a:lnTo>
                                              <a:pt x="36" y="248"/>
                                            </a:lnTo>
                                            <a:lnTo>
                                              <a:pt x="57" y="234"/>
                                            </a:lnTo>
                                            <a:lnTo>
                                              <a:pt x="77" y="221"/>
                                            </a:lnTo>
                                            <a:lnTo>
                                              <a:pt x="93" y="211"/>
                                            </a:lnTo>
                                            <a:lnTo>
                                              <a:pt x="82" y="237"/>
                                            </a:lnTo>
                                            <a:lnTo>
                                              <a:pt x="71" y="258"/>
                                            </a:lnTo>
                                            <a:lnTo>
                                              <a:pt x="60" y="280"/>
                                            </a:lnTo>
                                            <a:lnTo>
                                              <a:pt x="54" y="295"/>
                                            </a:lnTo>
                                            <a:lnTo>
                                              <a:pt x="55" y="308"/>
                                            </a:lnTo>
                                            <a:lnTo>
                                              <a:pt x="62" y="325"/>
                                            </a:lnTo>
                                            <a:lnTo>
                                              <a:pt x="74" y="347"/>
                                            </a:lnTo>
                                            <a:lnTo>
                                              <a:pt x="91" y="366"/>
                                            </a:lnTo>
                                            <a:lnTo>
                                              <a:pt x="109" y="390"/>
                                            </a:lnTo>
                                            <a:lnTo>
                                              <a:pt x="138" y="411"/>
                                            </a:lnTo>
                                            <a:lnTo>
                                              <a:pt x="167" y="436"/>
                                            </a:lnTo>
                                            <a:lnTo>
                                              <a:pt x="190" y="455"/>
                                            </a:lnTo>
                                            <a:lnTo>
                                              <a:pt x="215" y="475"/>
                                            </a:lnTo>
                                            <a:lnTo>
                                              <a:pt x="239" y="495"/>
                                            </a:lnTo>
                                            <a:lnTo>
                                              <a:pt x="264" y="516"/>
                                            </a:lnTo>
                                            <a:lnTo>
                                              <a:pt x="284" y="541"/>
                                            </a:lnTo>
                                            <a:lnTo>
                                              <a:pt x="307" y="559"/>
                                            </a:lnTo>
                                            <a:lnTo>
                                              <a:pt x="322" y="577"/>
                                            </a:lnTo>
                                            <a:lnTo>
                                              <a:pt x="341" y="603"/>
                                            </a:lnTo>
                                            <a:lnTo>
                                              <a:pt x="358" y="628"/>
                                            </a:lnTo>
                                            <a:lnTo>
                                              <a:pt x="377" y="655"/>
                                            </a:lnTo>
                                            <a:lnTo>
                                              <a:pt x="397" y="678"/>
                                            </a:lnTo>
                                            <a:lnTo>
                                              <a:pt x="420" y="697"/>
                                            </a:lnTo>
                                            <a:lnTo>
                                              <a:pt x="453" y="724"/>
                                            </a:lnTo>
                                            <a:lnTo>
                                              <a:pt x="475" y="743"/>
                                            </a:lnTo>
                                            <a:lnTo>
                                              <a:pt x="496" y="760"/>
                                            </a:lnTo>
                                            <a:lnTo>
                                              <a:pt x="509" y="776"/>
                                            </a:lnTo>
                                            <a:lnTo>
                                              <a:pt x="528" y="783"/>
                                            </a:lnTo>
                                            <a:lnTo>
                                              <a:pt x="546" y="792"/>
                                            </a:lnTo>
                                            <a:lnTo>
                                              <a:pt x="564" y="798"/>
                                            </a:lnTo>
                                            <a:lnTo>
                                              <a:pt x="582" y="803"/>
                                            </a:lnTo>
                                            <a:lnTo>
                                              <a:pt x="594" y="802"/>
                                            </a:lnTo>
                                            <a:lnTo>
                                              <a:pt x="604" y="798"/>
                                            </a:lnTo>
                                            <a:lnTo>
                                              <a:pt x="614" y="792"/>
                                            </a:lnTo>
                                            <a:lnTo>
                                              <a:pt x="620" y="779"/>
                                            </a:lnTo>
                                            <a:lnTo>
                                              <a:pt x="623" y="766"/>
                                            </a:lnTo>
                                            <a:lnTo>
                                              <a:pt x="620" y="738"/>
                                            </a:lnTo>
                                            <a:lnTo>
                                              <a:pt x="618" y="704"/>
                                            </a:lnTo>
                                            <a:lnTo>
                                              <a:pt x="614" y="673"/>
                                            </a:lnTo>
                                            <a:lnTo>
                                              <a:pt x="610" y="640"/>
                                            </a:lnTo>
                                            <a:lnTo>
                                              <a:pt x="607" y="617"/>
                                            </a:lnTo>
                                            <a:lnTo>
                                              <a:pt x="601" y="595"/>
                                            </a:lnTo>
                                            <a:lnTo>
                                              <a:pt x="595" y="566"/>
                                            </a:lnTo>
                                            <a:lnTo>
                                              <a:pt x="586" y="539"/>
                                            </a:lnTo>
                                            <a:lnTo>
                                              <a:pt x="583" y="521"/>
                                            </a:lnTo>
                                            <a:lnTo>
                                              <a:pt x="577" y="502"/>
                                            </a:lnTo>
                                            <a:lnTo>
                                              <a:pt x="564" y="481"/>
                                            </a:lnTo>
                                            <a:lnTo>
                                              <a:pt x="555" y="459"/>
                                            </a:lnTo>
                                            <a:lnTo>
                                              <a:pt x="543" y="440"/>
                                            </a:lnTo>
                                            <a:lnTo>
                                              <a:pt x="531" y="417"/>
                                            </a:lnTo>
                                            <a:lnTo>
                                              <a:pt x="519" y="395"/>
                                            </a:lnTo>
                                            <a:lnTo>
                                              <a:pt x="506" y="370"/>
                                            </a:lnTo>
                                            <a:lnTo>
                                              <a:pt x="492" y="347"/>
                                            </a:lnTo>
                                            <a:lnTo>
                                              <a:pt x="485" y="334"/>
                                            </a:lnTo>
                                            <a:lnTo>
                                              <a:pt x="483" y="325"/>
                                            </a:lnTo>
                                            <a:lnTo>
                                              <a:pt x="487" y="313"/>
                                            </a:lnTo>
                                            <a:lnTo>
                                              <a:pt x="492" y="291"/>
                                            </a:lnTo>
                                            <a:lnTo>
                                              <a:pt x="498" y="267"/>
                                            </a:lnTo>
                                            <a:lnTo>
                                              <a:pt x="501" y="253"/>
                                            </a:lnTo>
                                            <a:lnTo>
                                              <a:pt x="506" y="242"/>
                                            </a:lnTo>
                                            <a:lnTo>
                                              <a:pt x="497" y="222"/>
                                            </a:lnTo>
                                            <a:lnTo>
                                              <a:pt x="487" y="196"/>
                                            </a:lnTo>
                                            <a:lnTo>
                                              <a:pt x="475" y="165"/>
                                            </a:lnTo>
                                            <a:lnTo>
                                              <a:pt x="463" y="135"/>
                                            </a:lnTo>
                                            <a:lnTo>
                                              <a:pt x="449" y="103"/>
                                            </a:lnTo>
                                            <a:lnTo>
                                              <a:pt x="438" y="78"/>
                                            </a:lnTo>
                                            <a:lnTo>
                                              <a:pt x="427" y="57"/>
                                            </a:lnTo>
                                            <a:lnTo>
                                              <a:pt x="418" y="52"/>
                                            </a:lnTo>
                                            <a:lnTo>
                                              <a:pt x="408" y="53"/>
                                            </a:lnTo>
                                            <a:close/>
                                          </a:path>
                                        </a:pathLst>
                                      </a:custGeom>
                                      <a:solidFill>
                                        <a:srgbClr val="ff4040"/>
                                      </a:solidFill>
                                      <a:ln w="0">
                                        <a:noFill/>
                                      </a:ln>
                                    </p:spPr>
                                    <p:style>
                                      <a:lnRef idx="0"/>
                                      <a:fillRef idx="0"/>
                                      <a:effectRef idx="0"/>
                                      <a:fontRef idx="minor"/>
                                    </p:style>
                                    <p:txBody>
                                      <a:bodyPr lIns="90000" rIns="90000" tIns="46800" bIns="46800" anchor="t">
                                        <a:noAutofit/>
                                      </a:bodyPr>
                                      <a:p>
                                        <a:endParaRPr b="0" lang="en-US" sz="2400" spc="-1" strike="noStrike">
                                          <a:solidFill>
                                            <a:srgbClr val="000000"/>
                                          </a:solidFill>
                                          <a:latin typeface="Times New Roman"/>
                                        </a:endParaRPr>
                                      </a:p>
                                    </p:txBody>
                                  </p:sp>
                                  <p:sp>
                                    <p:nvSpPr>
                                      <p:cNvPr id="374" name=""/>
                                      <p:cNvSpPr/>
                                      <p:nvPr/>
                                    </p:nvSpPr>
                                    <p:spPr>
                                      <a:xfrm>
                                        <a:off x="3413160" y="2646360"/>
                                        <a:ext cx="206280" cy="179280"/>
                                      </a:xfrm>
                                      <a:custGeom>
                                        <a:avLst/>
                                        <a:gdLst/>
                                        <a:ahLst/>
                                        <a:rect l="l" t="t" r="r" b="b"/>
                                        <a:pathLst>
                                          <a:path w="653" h="567">
                                            <a:moveTo>
                                              <a:pt x="2" y="269"/>
                                            </a:moveTo>
                                            <a:lnTo>
                                              <a:pt x="10" y="247"/>
                                            </a:lnTo>
                                            <a:lnTo>
                                              <a:pt x="20" y="226"/>
                                            </a:lnTo>
                                            <a:lnTo>
                                              <a:pt x="32" y="205"/>
                                            </a:lnTo>
                                            <a:lnTo>
                                              <a:pt x="45" y="190"/>
                                            </a:lnTo>
                                            <a:lnTo>
                                              <a:pt x="58" y="177"/>
                                            </a:lnTo>
                                            <a:lnTo>
                                              <a:pt x="75" y="159"/>
                                            </a:lnTo>
                                            <a:lnTo>
                                              <a:pt x="95" y="137"/>
                                            </a:lnTo>
                                            <a:lnTo>
                                              <a:pt x="110" y="116"/>
                                            </a:lnTo>
                                            <a:lnTo>
                                              <a:pt x="126" y="96"/>
                                            </a:lnTo>
                                            <a:lnTo>
                                              <a:pt x="143" y="80"/>
                                            </a:lnTo>
                                            <a:lnTo>
                                              <a:pt x="163" y="62"/>
                                            </a:lnTo>
                                            <a:lnTo>
                                              <a:pt x="183" y="47"/>
                                            </a:lnTo>
                                            <a:lnTo>
                                              <a:pt x="204" y="34"/>
                                            </a:lnTo>
                                            <a:lnTo>
                                              <a:pt x="230" y="21"/>
                                            </a:lnTo>
                                            <a:lnTo>
                                              <a:pt x="259" y="11"/>
                                            </a:lnTo>
                                            <a:lnTo>
                                              <a:pt x="288" y="4"/>
                                            </a:lnTo>
                                            <a:lnTo>
                                              <a:pt x="324" y="1"/>
                                            </a:lnTo>
                                            <a:lnTo>
                                              <a:pt x="358" y="0"/>
                                            </a:lnTo>
                                            <a:lnTo>
                                              <a:pt x="385" y="2"/>
                                            </a:lnTo>
                                            <a:lnTo>
                                              <a:pt x="413" y="6"/>
                                            </a:lnTo>
                                            <a:lnTo>
                                              <a:pt x="439" y="11"/>
                                            </a:lnTo>
                                            <a:lnTo>
                                              <a:pt x="471" y="19"/>
                                            </a:lnTo>
                                            <a:lnTo>
                                              <a:pt x="498" y="32"/>
                                            </a:lnTo>
                                            <a:lnTo>
                                              <a:pt x="520" y="43"/>
                                            </a:lnTo>
                                            <a:lnTo>
                                              <a:pt x="545" y="56"/>
                                            </a:lnTo>
                                            <a:lnTo>
                                              <a:pt x="564" y="74"/>
                                            </a:lnTo>
                                            <a:lnTo>
                                              <a:pt x="583" y="93"/>
                                            </a:lnTo>
                                            <a:lnTo>
                                              <a:pt x="598" y="112"/>
                                            </a:lnTo>
                                            <a:lnTo>
                                              <a:pt x="615" y="135"/>
                                            </a:lnTo>
                                            <a:lnTo>
                                              <a:pt x="630" y="157"/>
                                            </a:lnTo>
                                            <a:lnTo>
                                              <a:pt x="639" y="178"/>
                                            </a:lnTo>
                                            <a:lnTo>
                                              <a:pt x="645" y="205"/>
                                            </a:lnTo>
                                            <a:lnTo>
                                              <a:pt x="650" y="230"/>
                                            </a:lnTo>
                                            <a:lnTo>
                                              <a:pt x="653" y="249"/>
                                            </a:lnTo>
                                            <a:lnTo>
                                              <a:pt x="634" y="208"/>
                                            </a:lnTo>
                                            <a:lnTo>
                                              <a:pt x="623" y="188"/>
                                            </a:lnTo>
                                            <a:lnTo>
                                              <a:pt x="610" y="162"/>
                                            </a:lnTo>
                                            <a:lnTo>
                                              <a:pt x="599" y="142"/>
                                            </a:lnTo>
                                            <a:lnTo>
                                              <a:pt x="586" y="125"/>
                                            </a:lnTo>
                                            <a:lnTo>
                                              <a:pt x="571" y="105"/>
                                            </a:lnTo>
                                            <a:lnTo>
                                              <a:pt x="552" y="89"/>
                                            </a:lnTo>
                                            <a:lnTo>
                                              <a:pt x="537" y="75"/>
                                            </a:lnTo>
                                            <a:lnTo>
                                              <a:pt x="521" y="65"/>
                                            </a:lnTo>
                                            <a:lnTo>
                                              <a:pt x="503" y="59"/>
                                            </a:lnTo>
                                            <a:lnTo>
                                              <a:pt x="486" y="51"/>
                                            </a:lnTo>
                                            <a:lnTo>
                                              <a:pt x="464" y="43"/>
                                            </a:lnTo>
                                            <a:lnTo>
                                              <a:pt x="445" y="38"/>
                                            </a:lnTo>
                                            <a:lnTo>
                                              <a:pt x="422" y="32"/>
                                            </a:lnTo>
                                            <a:lnTo>
                                              <a:pt x="397" y="26"/>
                                            </a:lnTo>
                                            <a:lnTo>
                                              <a:pt x="371" y="24"/>
                                            </a:lnTo>
                                            <a:lnTo>
                                              <a:pt x="349" y="22"/>
                                            </a:lnTo>
                                            <a:lnTo>
                                              <a:pt x="331" y="24"/>
                                            </a:lnTo>
                                            <a:lnTo>
                                              <a:pt x="305" y="29"/>
                                            </a:lnTo>
                                            <a:lnTo>
                                              <a:pt x="280" y="35"/>
                                            </a:lnTo>
                                            <a:lnTo>
                                              <a:pt x="260" y="40"/>
                                            </a:lnTo>
                                            <a:lnTo>
                                              <a:pt x="240" y="49"/>
                                            </a:lnTo>
                                            <a:lnTo>
                                              <a:pt x="215" y="61"/>
                                            </a:lnTo>
                                            <a:lnTo>
                                              <a:pt x="199" y="69"/>
                                            </a:lnTo>
                                            <a:lnTo>
                                              <a:pt x="183" y="82"/>
                                            </a:lnTo>
                                            <a:lnTo>
                                              <a:pt x="161" y="99"/>
                                            </a:lnTo>
                                            <a:lnTo>
                                              <a:pt x="140" y="120"/>
                                            </a:lnTo>
                                            <a:lnTo>
                                              <a:pt x="118" y="141"/>
                                            </a:lnTo>
                                            <a:lnTo>
                                              <a:pt x="100" y="164"/>
                                            </a:lnTo>
                                            <a:lnTo>
                                              <a:pt x="82" y="189"/>
                                            </a:lnTo>
                                            <a:lnTo>
                                              <a:pt x="64" y="211"/>
                                            </a:lnTo>
                                            <a:lnTo>
                                              <a:pt x="56" y="225"/>
                                            </a:lnTo>
                                            <a:lnTo>
                                              <a:pt x="51" y="244"/>
                                            </a:lnTo>
                                            <a:lnTo>
                                              <a:pt x="43" y="261"/>
                                            </a:lnTo>
                                            <a:lnTo>
                                              <a:pt x="37" y="274"/>
                                            </a:lnTo>
                                            <a:lnTo>
                                              <a:pt x="40" y="298"/>
                                            </a:lnTo>
                                            <a:lnTo>
                                              <a:pt x="41" y="321"/>
                                            </a:lnTo>
                                            <a:lnTo>
                                              <a:pt x="47" y="336"/>
                                            </a:lnTo>
                                            <a:lnTo>
                                              <a:pt x="55" y="356"/>
                                            </a:lnTo>
                                            <a:lnTo>
                                              <a:pt x="63" y="375"/>
                                            </a:lnTo>
                                            <a:lnTo>
                                              <a:pt x="72" y="393"/>
                                            </a:lnTo>
                                            <a:lnTo>
                                              <a:pt x="91" y="415"/>
                                            </a:lnTo>
                                            <a:lnTo>
                                              <a:pt x="112" y="439"/>
                                            </a:lnTo>
                                            <a:lnTo>
                                              <a:pt x="133" y="463"/>
                                            </a:lnTo>
                                            <a:lnTo>
                                              <a:pt x="149" y="484"/>
                                            </a:lnTo>
                                            <a:lnTo>
                                              <a:pt x="163" y="502"/>
                                            </a:lnTo>
                                            <a:lnTo>
                                              <a:pt x="176" y="517"/>
                                            </a:lnTo>
                                            <a:lnTo>
                                              <a:pt x="184" y="529"/>
                                            </a:lnTo>
                                            <a:lnTo>
                                              <a:pt x="194" y="533"/>
                                            </a:lnTo>
                                            <a:lnTo>
                                              <a:pt x="208" y="536"/>
                                            </a:lnTo>
                                            <a:lnTo>
                                              <a:pt x="225" y="540"/>
                                            </a:lnTo>
                                            <a:lnTo>
                                              <a:pt x="242" y="545"/>
                                            </a:lnTo>
                                            <a:lnTo>
                                              <a:pt x="256" y="553"/>
                                            </a:lnTo>
                                            <a:lnTo>
                                              <a:pt x="268" y="561"/>
                                            </a:lnTo>
                                            <a:lnTo>
                                              <a:pt x="253" y="564"/>
                                            </a:lnTo>
                                            <a:lnTo>
                                              <a:pt x="231" y="566"/>
                                            </a:lnTo>
                                            <a:lnTo>
                                              <a:pt x="210" y="567"/>
                                            </a:lnTo>
                                            <a:lnTo>
                                              <a:pt x="196" y="563"/>
                                            </a:lnTo>
                                            <a:lnTo>
                                              <a:pt x="181" y="556"/>
                                            </a:lnTo>
                                            <a:lnTo>
                                              <a:pt x="162" y="548"/>
                                            </a:lnTo>
                                            <a:lnTo>
                                              <a:pt x="152" y="538"/>
                                            </a:lnTo>
                                            <a:lnTo>
                                              <a:pt x="141" y="522"/>
                                            </a:lnTo>
                                            <a:lnTo>
                                              <a:pt x="129" y="503"/>
                                            </a:lnTo>
                                            <a:lnTo>
                                              <a:pt x="118" y="488"/>
                                            </a:lnTo>
                                            <a:lnTo>
                                              <a:pt x="98" y="466"/>
                                            </a:lnTo>
                                            <a:lnTo>
                                              <a:pt x="83" y="448"/>
                                            </a:lnTo>
                                            <a:lnTo>
                                              <a:pt x="61" y="426"/>
                                            </a:lnTo>
                                            <a:lnTo>
                                              <a:pt x="44" y="410"/>
                                            </a:lnTo>
                                            <a:lnTo>
                                              <a:pt x="33" y="398"/>
                                            </a:lnTo>
                                            <a:lnTo>
                                              <a:pt x="26" y="383"/>
                                            </a:lnTo>
                                            <a:lnTo>
                                              <a:pt x="18" y="362"/>
                                            </a:lnTo>
                                            <a:lnTo>
                                              <a:pt x="9" y="338"/>
                                            </a:lnTo>
                                            <a:lnTo>
                                              <a:pt x="4" y="314"/>
                                            </a:lnTo>
                                            <a:lnTo>
                                              <a:pt x="0" y="287"/>
                                            </a:lnTo>
                                            <a:lnTo>
                                              <a:pt x="2" y="269"/>
                                            </a:lnTo>
                                            <a:close/>
                                          </a:path>
                                        </a:pathLst>
                                      </a:custGeom>
                                      <a:solidFill>
                                        <a:srgbClr val="ff4040"/>
                                      </a:solidFill>
                                      <a:ln w="0">
                                        <a:noFill/>
                                      </a:ln>
                                    </p:spPr>
                                    <p:style>
                                      <a:lnRef idx="0"/>
                                      <a:fillRef idx="0"/>
                                      <a:effectRef idx="0"/>
                                      <a:fontRef idx="minor"/>
                                    </p:style>
                                    <p:txBody>
                                      <a:bodyPr lIns="90000" rIns="90000" tIns="46800" bIns="46800" anchor="t">
                                        <a:noAutofit/>
                                      </a:bodyPr>
                                      <a:p>
                                        <a:endParaRPr b="0" lang="en-US" sz="2400" spc="-1" strike="noStrike">
                                          <a:solidFill>
                                            <a:srgbClr val="000000"/>
                                          </a:solidFill>
                                          <a:latin typeface="Times New Roman"/>
                                        </a:endParaRPr>
                                      </a:p>
                                    </p:txBody>
                                  </p:sp>
                                </p:grpSp>
                              </p:grpSp>
                              <p:sp>
                                <p:nvSpPr>
                                  <p:cNvPr id="375" name=""/>
                                  <p:cNvSpPr/>
                                  <p:nvPr/>
                                </p:nvSpPr>
                                <p:spPr>
                                  <a:xfrm>
                                    <a:off x="3556080" y="2806560"/>
                                    <a:ext cx="123840" cy="160560"/>
                                  </a:xfrm>
                                  <a:custGeom>
                                    <a:avLst/>
                                    <a:gdLst/>
                                    <a:ahLst/>
                                    <a:rect l="l" t="t" r="r" b="b"/>
                                    <a:pathLst>
                                      <a:path w="391" h="501">
                                        <a:moveTo>
                                          <a:pt x="103" y="64"/>
                                        </a:moveTo>
                                        <a:lnTo>
                                          <a:pt x="132" y="49"/>
                                        </a:lnTo>
                                        <a:lnTo>
                                          <a:pt x="152" y="31"/>
                                        </a:lnTo>
                                        <a:lnTo>
                                          <a:pt x="178" y="12"/>
                                        </a:lnTo>
                                        <a:lnTo>
                                          <a:pt x="198" y="3"/>
                                        </a:lnTo>
                                        <a:lnTo>
                                          <a:pt x="217" y="0"/>
                                        </a:lnTo>
                                        <a:lnTo>
                                          <a:pt x="229" y="3"/>
                                        </a:lnTo>
                                        <a:lnTo>
                                          <a:pt x="241" y="13"/>
                                        </a:lnTo>
                                        <a:lnTo>
                                          <a:pt x="249" y="31"/>
                                        </a:lnTo>
                                        <a:lnTo>
                                          <a:pt x="259" y="62"/>
                                        </a:lnTo>
                                        <a:lnTo>
                                          <a:pt x="262" y="95"/>
                                        </a:lnTo>
                                        <a:lnTo>
                                          <a:pt x="263" y="131"/>
                                        </a:lnTo>
                                        <a:lnTo>
                                          <a:pt x="269" y="165"/>
                                        </a:lnTo>
                                        <a:lnTo>
                                          <a:pt x="283" y="197"/>
                                        </a:lnTo>
                                        <a:lnTo>
                                          <a:pt x="301" y="237"/>
                                        </a:lnTo>
                                        <a:lnTo>
                                          <a:pt x="319" y="277"/>
                                        </a:lnTo>
                                        <a:lnTo>
                                          <a:pt x="340" y="319"/>
                                        </a:lnTo>
                                        <a:lnTo>
                                          <a:pt x="365" y="368"/>
                                        </a:lnTo>
                                        <a:lnTo>
                                          <a:pt x="383" y="409"/>
                                        </a:lnTo>
                                        <a:lnTo>
                                          <a:pt x="391" y="434"/>
                                        </a:lnTo>
                                        <a:lnTo>
                                          <a:pt x="391" y="458"/>
                                        </a:lnTo>
                                        <a:lnTo>
                                          <a:pt x="384" y="480"/>
                                        </a:lnTo>
                                        <a:lnTo>
                                          <a:pt x="371" y="494"/>
                                        </a:lnTo>
                                        <a:lnTo>
                                          <a:pt x="350" y="501"/>
                                        </a:lnTo>
                                        <a:lnTo>
                                          <a:pt x="326" y="498"/>
                                        </a:lnTo>
                                        <a:lnTo>
                                          <a:pt x="298" y="490"/>
                                        </a:lnTo>
                                        <a:lnTo>
                                          <a:pt x="274" y="468"/>
                                        </a:lnTo>
                                        <a:lnTo>
                                          <a:pt x="249" y="446"/>
                                        </a:lnTo>
                                        <a:lnTo>
                                          <a:pt x="227" y="416"/>
                                        </a:lnTo>
                                        <a:lnTo>
                                          <a:pt x="198" y="378"/>
                                        </a:lnTo>
                                        <a:lnTo>
                                          <a:pt x="177" y="346"/>
                                        </a:lnTo>
                                        <a:lnTo>
                                          <a:pt x="143" y="317"/>
                                        </a:lnTo>
                                        <a:lnTo>
                                          <a:pt x="112" y="288"/>
                                        </a:lnTo>
                                        <a:lnTo>
                                          <a:pt x="89" y="259"/>
                                        </a:lnTo>
                                        <a:lnTo>
                                          <a:pt x="64" y="222"/>
                                        </a:lnTo>
                                        <a:lnTo>
                                          <a:pt x="35" y="186"/>
                                        </a:lnTo>
                                        <a:lnTo>
                                          <a:pt x="15" y="163"/>
                                        </a:lnTo>
                                        <a:lnTo>
                                          <a:pt x="3" y="143"/>
                                        </a:lnTo>
                                        <a:lnTo>
                                          <a:pt x="0" y="125"/>
                                        </a:lnTo>
                                        <a:lnTo>
                                          <a:pt x="4" y="102"/>
                                        </a:lnTo>
                                        <a:lnTo>
                                          <a:pt x="16" y="87"/>
                                        </a:lnTo>
                                        <a:lnTo>
                                          <a:pt x="34" y="80"/>
                                        </a:lnTo>
                                        <a:lnTo>
                                          <a:pt x="55" y="74"/>
                                        </a:lnTo>
                                        <a:lnTo>
                                          <a:pt x="80" y="68"/>
                                        </a:lnTo>
                                        <a:lnTo>
                                          <a:pt x="103" y="64"/>
                                        </a:lnTo>
                                        <a:close/>
                                      </a:path>
                                    </a:pathLst>
                                  </a:custGeom>
                                  <a:solidFill>
                                    <a:srgbClr val="ff0000"/>
                                  </a:solidFill>
                                  <a:ln w="0">
                                    <a:noFill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</p:grpSp>
                            <p:grpSp>
                              <p:nvGrpSpPr>
                                <p:cNvPr id="376" name=""/>
                                <p:cNvGrpSpPr/>
                                <p:nvPr/>
                              </p:nvGrpSpPr>
                              <p:grpSpPr>
                                <a:xfrm>
                                  <a:off x="3432240" y="2664000"/>
                                  <a:ext cx="171360" cy="149040"/>
                                  <a:chOff x="3432240" y="2664000"/>
                                  <a:chExt cx="171360" cy="149040"/>
                                </a:xfrm>
                              </p:grpSpPr>
                              <p:sp>
                                <p:nvSpPr>
                                  <p:cNvPr id="377" name=""/>
                                  <p:cNvSpPr/>
                                  <p:nvPr/>
                                </p:nvSpPr>
                                <p:spPr>
                                  <a:xfrm>
                                    <a:off x="3432240" y="2664000"/>
                                    <a:ext cx="171360" cy="149040"/>
                                  </a:xfrm>
                                  <a:custGeom>
                                    <a:avLst/>
                                    <a:gdLst/>
                                    <a:ahLst/>
                                    <a:rect l="l" t="t" r="r" b="b"/>
                                    <a:pathLst>
                                      <a:path w="541" h="470">
                                        <a:moveTo>
                                          <a:pt x="1" y="223"/>
                                        </a:moveTo>
                                        <a:lnTo>
                                          <a:pt x="7" y="204"/>
                                        </a:lnTo>
                                        <a:lnTo>
                                          <a:pt x="16" y="188"/>
                                        </a:lnTo>
                                        <a:lnTo>
                                          <a:pt x="25" y="169"/>
                                        </a:lnTo>
                                        <a:lnTo>
                                          <a:pt x="36" y="157"/>
                                        </a:lnTo>
                                        <a:lnTo>
                                          <a:pt x="47" y="147"/>
                                        </a:lnTo>
                                        <a:lnTo>
                                          <a:pt x="62" y="131"/>
                                        </a:lnTo>
                                        <a:lnTo>
                                          <a:pt x="79" y="114"/>
                                        </a:lnTo>
                                        <a:lnTo>
                                          <a:pt x="91" y="96"/>
                                        </a:lnTo>
                                        <a:lnTo>
                                          <a:pt x="104" y="79"/>
                                        </a:lnTo>
                                        <a:lnTo>
                                          <a:pt x="119" y="66"/>
                                        </a:lnTo>
                                        <a:lnTo>
                                          <a:pt x="135" y="51"/>
                                        </a:lnTo>
                                        <a:lnTo>
                                          <a:pt x="152" y="38"/>
                                        </a:lnTo>
                                        <a:lnTo>
                                          <a:pt x="169" y="27"/>
                                        </a:lnTo>
                                        <a:lnTo>
                                          <a:pt x="190" y="17"/>
                                        </a:lnTo>
                                        <a:lnTo>
                                          <a:pt x="214" y="8"/>
                                        </a:lnTo>
                                        <a:lnTo>
                                          <a:pt x="239" y="3"/>
                                        </a:lnTo>
                                        <a:lnTo>
                                          <a:pt x="268" y="0"/>
                                        </a:lnTo>
                                        <a:lnTo>
                                          <a:pt x="297" y="0"/>
                                        </a:lnTo>
                                        <a:lnTo>
                                          <a:pt x="319" y="1"/>
                                        </a:lnTo>
                                        <a:lnTo>
                                          <a:pt x="342" y="4"/>
                                        </a:lnTo>
                                        <a:lnTo>
                                          <a:pt x="363" y="8"/>
                                        </a:lnTo>
                                        <a:lnTo>
                                          <a:pt x="391" y="15"/>
                                        </a:lnTo>
                                        <a:lnTo>
                                          <a:pt x="412" y="25"/>
                                        </a:lnTo>
                                        <a:lnTo>
                                          <a:pt x="431" y="34"/>
                                        </a:lnTo>
                                        <a:lnTo>
                                          <a:pt x="451" y="45"/>
                                        </a:lnTo>
                                        <a:lnTo>
                                          <a:pt x="468" y="61"/>
                                        </a:lnTo>
                                        <a:lnTo>
                                          <a:pt x="483" y="77"/>
                                        </a:lnTo>
                                        <a:lnTo>
                                          <a:pt x="496" y="93"/>
                                        </a:lnTo>
                                        <a:lnTo>
                                          <a:pt x="510" y="112"/>
                                        </a:lnTo>
                                        <a:lnTo>
                                          <a:pt x="522" y="129"/>
                                        </a:lnTo>
                                        <a:lnTo>
                                          <a:pt x="530" y="148"/>
                                        </a:lnTo>
                                        <a:lnTo>
                                          <a:pt x="535" y="169"/>
                                        </a:lnTo>
                                        <a:lnTo>
                                          <a:pt x="539" y="190"/>
                                        </a:lnTo>
                                        <a:lnTo>
                                          <a:pt x="541" y="206"/>
                                        </a:lnTo>
                                        <a:lnTo>
                                          <a:pt x="541" y="224"/>
                                        </a:lnTo>
                                        <a:lnTo>
                                          <a:pt x="536" y="236"/>
                                        </a:lnTo>
                                        <a:lnTo>
                                          <a:pt x="528" y="257"/>
                                        </a:lnTo>
                                        <a:lnTo>
                                          <a:pt x="516" y="281"/>
                                        </a:lnTo>
                                        <a:lnTo>
                                          <a:pt x="506" y="303"/>
                                        </a:lnTo>
                                        <a:lnTo>
                                          <a:pt x="497" y="320"/>
                                        </a:lnTo>
                                        <a:lnTo>
                                          <a:pt x="491" y="340"/>
                                        </a:lnTo>
                                        <a:lnTo>
                                          <a:pt x="485" y="358"/>
                                        </a:lnTo>
                                        <a:lnTo>
                                          <a:pt x="480" y="376"/>
                                        </a:lnTo>
                                        <a:lnTo>
                                          <a:pt x="477" y="385"/>
                                        </a:lnTo>
                                        <a:lnTo>
                                          <a:pt x="476" y="399"/>
                                        </a:lnTo>
                                        <a:lnTo>
                                          <a:pt x="475" y="421"/>
                                        </a:lnTo>
                                        <a:lnTo>
                                          <a:pt x="389" y="441"/>
                                        </a:lnTo>
                                        <a:lnTo>
                                          <a:pt x="387" y="427"/>
                                        </a:lnTo>
                                        <a:lnTo>
                                          <a:pt x="384" y="417"/>
                                        </a:lnTo>
                                        <a:lnTo>
                                          <a:pt x="379" y="409"/>
                                        </a:lnTo>
                                        <a:lnTo>
                                          <a:pt x="368" y="404"/>
                                        </a:lnTo>
                                        <a:lnTo>
                                          <a:pt x="350" y="407"/>
                                        </a:lnTo>
                                        <a:lnTo>
                                          <a:pt x="330" y="410"/>
                                        </a:lnTo>
                                        <a:lnTo>
                                          <a:pt x="306" y="416"/>
                                        </a:lnTo>
                                        <a:lnTo>
                                          <a:pt x="283" y="422"/>
                                        </a:lnTo>
                                        <a:lnTo>
                                          <a:pt x="271" y="426"/>
                                        </a:lnTo>
                                        <a:lnTo>
                                          <a:pt x="258" y="436"/>
                                        </a:lnTo>
                                        <a:lnTo>
                                          <a:pt x="243" y="448"/>
                                        </a:lnTo>
                                        <a:lnTo>
                                          <a:pt x="222" y="465"/>
                                        </a:lnTo>
                                        <a:lnTo>
                                          <a:pt x="210" y="468"/>
                                        </a:lnTo>
                                        <a:lnTo>
                                          <a:pt x="191" y="470"/>
                                        </a:lnTo>
                                        <a:lnTo>
                                          <a:pt x="173" y="470"/>
                                        </a:lnTo>
                                        <a:lnTo>
                                          <a:pt x="163" y="467"/>
                                        </a:lnTo>
                                        <a:lnTo>
                                          <a:pt x="150" y="461"/>
                                        </a:lnTo>
                                        <a:lnTo>
                                          <a:pt x="134" y="455"/>
                                        </a:lnTo>
                                        <a:lnTo>
                                          <a:pt x="126" y="446"/>
                                        </a:lnTo>
                                        <a:lnTo>
                                          <a:pt x="117" y="433"/>
                                        </a:lnTo>
                                        <a:lnTo>
                                          <a:pt x="107" y="418"/>
                                        </a:lnTo>
                                        <a:lnTo>
                                          <a:pt x="98" y="404"/>
                                        </a:lnTo>
                                        <a:lnTo>
                                          <a:pt x="81" y="387"/>
                                        </a:lnTo>
                                        <a:lnTo>
                                          <a:pt x="69" y="371"/>
                                        </a:lnTo>
                                        <a:lnTo>
                                          <a:pt x="49" y="354"/>
                                        </a:lnTo>
                                        <a:lnTo>
                                          <a:pt x="35" y="340"/>
                                        </a:lnTo>
                                        <a:lnTo>
                                          <a:pt x="26" y="329"/>
                                        </a:lnTo>
                                        <a:lnTo>
                                          <a:pt x="21" y="319"/>
                                        </a:lnTo>
                                        <a:lnTo>
                                          <a:pt x="14" y="301"/>
                                        </a:lnTo>
                                        <a:lnTo>
                                          <a:pt x="6" y="280"/>
                                        </a:lnTo>
                                        <a:lnTo>
                                          <a:pt x="2" y="260"/>
                                        </a:lnTo>
                                        <a:lnTo>
                                          <a:pt x="0" y="238"/>
                                        </a:lnTo>
                                        <a:lnTo>
                                          <a:pt x="1" y="223"/>
                                        </a:lnTo>
                                        <a:close/>
                                      </a:path>
                                    </a:pathLst>
                                  </a:custGeom>
                                  <a:solidFill>
                                    <a:srgbClr val="ff4040"/>
                                  </a:solidFill>
                                  <a:ln w="0">
                                    <a:noFill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378" name=""/>
                                  <p:cNvSpPr/>
                                  <p:nvPr/>
                                </p:nvSpPr>
                                <p:spPr>
                                  <a:xfrm>
                                    <a:off x="3443400" y="2674800"/>
                                    <a:ext cx="156960" cy="135000"/>
                                  </a:xfrm>
                                  <a:custGeom>
                                    <a:avLst/>
                                    <a:gdLst/>
                                    <a:ahLst/>
                                    <a:rect l="l" t="t" r="r" b="b"/>
                                    <a:pathLst>
                                      <a:path w="492" h="428">
                                        <a:moveTo>
                                          <a:pt x="0" y="203"/>
                                        </a:moveTo>
                                        <a:lnTo>
                                          <a:pt x="7" y="187"/>
                                        </a:lnTo>
                                        <a:lnTo>
                                          <a:pt x="14" y="171"/>
                                        </a:lnTo>
                                        <a:lnTo>
                                          <a:pt x="23" y="155"/>
                                        </a:lnTo>
                                        <a:lnTo>
                                          <a:pt x="33" y="144"/>
                                        </a:lnTo>
                                        <a:lnTo>
                                          <a:pt x="43" y="134"/>
                                        </a:lnTo>
                                        <a:lnTo>
                                          <a:pt x="56" y="120"/>
                                        </a:lnTo>
                                        <a:lnTo>
                                          <a:pt x="72" y="105"/>
                                        </a:lnTo>
                                        <a:lnTo>
                                          <a:pt x="83" y="87"/>
                                        </a:lnTo>
                                        <a:lnTo>
                                          <a:pt x="94" y="73"/>
                                        </a:lnTo>
                                        <a:lnTo>
                                          <a:pt x="108" y="61"/>
                                        </a:lnTo>
                                        <a:lnTo>
                                          <a:pt x="123" y="47"/>
                                        </a:lnTo>
                                        <a:lnTo>
                                          <a:pt x="138" y="35"/>
                                        </a:lnTo>
                                        <a:lnTo>
                                          <a:pt x="153" y="25"/>
                                        </a:lnTo>
                                        <a:lnTo>
                                          <a:pt x="174" y="15"/>
                                        </a:lnTo>
                                        <a:lnTo>
                                          <a:pt x="194" y="8"/>
                                        </a:lnTo>
                                        <a:lnTo>
                                          <a:pt x="217" y="2"/>
                                        </a:lnTo>
                                        <a:lnTo>
                                          <a:pt x="244" y="0"/>
                                        </a:lnTo>
                                        <a:lnTo>
                                          <a:pt x="270" y="0"/>
                                        </a:lnTo>
                                        <a:lnTo>
                                          <a:pt x="290" y="0"/>
                                        </a:lnTo>
                                        <a:lnTo>
                                          <a:pt x="311" y="3"/>
                                        </a:lnTo>
                                        <a:lnTo>
                                          <a:pt x="330" y="8"/>
                                        </a:lnTo>
                                        <a:lnTo>
                                          <a:pt x="356" y="13"/>
                                        </a:lnTo>
                                        <a:lnTo>
                                          <a:pt x="375" y="23"/>
                                        </a:lnTo>
                                        <a:lnTo>
                                          <a:pt x="392" y="31"/>
                                        </a:lnTo>
                                        <a:lnTo>
                                          <a:pt x="410" y="42"/>
                                        </a:lnTo>
                                        <a:lnTo>
                                          <a:pt x="425" y="55"/>
                                        </a:lnTo>
                                        <a:lnTo>
                                          <a:pt x="440" y="71"/>
                                        </a:lnTo>
                                        <a:lnTo>
                                          <a:pt x="451" y="84"/>
                                        </a:lnTo>
                                        <a:lnTo>
                                          <a:pt x="463" y="103"/>
                                        </a:lnTo>
                                        <a:lnTo>
                                          <a:pt x="475" y="118"/>
                                        </a:lnTo>
                                        <a:lnTo>
                                          <a:pt x="482" y="135"/>
                                        </a:lnTo>
                                        <a:lnTo>
                                          <a:pt x="487" y="155"/>
                                        </a:lnTo>
                                        <a:lnTo>
                                          <a:pt x="491" y="173"/>
                                        </a:lnTo>
                                        <a:lnTo>
                                          <a:pt x="492" y="188"/>
                                        </a:lnTo>
                                        <a:lnTo>
                                          <a:pt x="492" y="204"/>
                                        </a:lnTo>
                                        <a:lnTo>
                                          <a:pt x="488" y="215"/>
                                        </a:lnTo>
                                        <a:lnTo>
                                          <a:pt x="481" y="234"/>
                                        </a:lnTo>
                                        <a:lnTo>
                                          <a:pt x="469" y="257"/>
                                        </a:lnTo>
                                        <a:lnTo>
                                          <a:pt x="461" y="276"/>
                                        </a:lnTo>
                                        <a:lnTo>
                                          <a:pt x="452" y="292"/>
                                        </a:lnTo>
                                        <a:lnTo>
                                          <a:pt x="447" y="310"/>
                                        </a:lnTo>
                                        <a:lnTo>
                                          <a:pt x="441" y="326"/>
                                        </a:lnTo>
                                        <a:lnTo>
                                          <a:pt x="437" y="343"/>
                                        </a:lnTo>
                                        <a:lnTo>
                                          <a:pt x="434" y="351"/>
                                        </a:lnTo>
                                        <a:lnTo>
                                          <a:pt x="433" y="364"/>
                                        </a:lnTo>
                                        <a:lnTo>
                                          <a:pt x="432" y="384"/>
                                        </a:lnTo>
                                        <a:lnTo>
                                          <a:pt x="354" y="402"/>
                                        </a:lnTo>
                                        <a:lnTo>
                                          <a:pt x="352" y="389"/>
                                        </a:lnTo>
                                        <a:lnTo>
                                          <a:pt x="349" y="380"/>
                                        </a:lnTo>
                                        <a:lnTo>
                                          <a:pt x="345" y="373"/>
                                        </a:lnTo>
                                        <a:lnTo>
                                          <a:pt x="335" y="368"/>
                                        </a:lnTo>
                                        <a:lnTo>
                                          <a:pt x="318" y="371"/>
                                        </a:lnTo>
                                        <a:lnTo>
                                          <a:pt x="300" y="374"/>
                                        </a:lnTo>
                                        <a:lnTo>
                                          <a:pt x="277" y="379"/>
                                        </a:lnTo>
                                        <a:lnTo>
                                          <a:pt x="257" y="385"/>
                                        </a:lnTo>
                                        <a:lnTo>
                                          <a:pt x="247" y="388"/>
                                        </a:lnTo>
                                        <a:lnTo>
                                          <a:pt x="235" y="397"/>
                                        </a:lnTo>
                                        <a:lnTo>
                                          <a:pt x="221" y="408"/>
                                        </a:lnTo>
                                        <a:lnTo>
                                          <a:pt x="203" y="424"/>
                                        </a:lnTo>
                                        <a:lnTo>
                                          <a:pt x="191" y="427"/>
                                        </a:lnTo>
                                        <a:lnTo>
                                          <a:pt x="174" y="428"/>
                                        </a:lnTo>
                                        <a:lnTo>
                                          <a:pt x="158" y="428"/>
                                        </a:lnTo>
                                        <a:lnTo>
                                          <a:pt x="148" y="426"/>
                                        </a:lnTo>
                                        <a:lnTo>
                                          <a:pt x="136" y="420"/>
                                        </a:lnTo>
                                        <a:lnTo>
                                          <a:pt x="123" y="414"/>
                                        </a:lnTo>
                                        <a:lnTo>
                                          <a:pt x="115" y="407"/>
                                        </a:lnTo>
                                        <a:lnTo>
                                          <a:pt x="106" y="395"/>
                                        </a:lnTo>
                                        <a:lnTo>
                                          <a:pt x="97" y="381"/>
                                        </a:lnTo>
                                        <a:lnTo>
                                          <a:pt x="90" y="368"/>
                                        </a:lnTo>
                                        <a:lnTo>
                                          <a:pt x="74" y="353"/>
                                        </a:lnTo>
                                        <a:lnTo>
                                          <a:pt x="62" y="339"/>
                                        </a:lnTo>
                                        <a:lnTo>
                                          <a:pt x="45" y="323"/>
                                        </a:lnTo>
                                        <a:lnTo>
                                          <a:pt x="32" y="310"/>
                                        </a:lnTo>
                                        <a:lnTo>
                                          <a:pt x="24" y="301"/>
                                        </a:lnTo>
                                        <a:lnTo>
                                          <a:pt x="19" y="290"/>
                                        </a:lnTo>
                                        <a:lnTo>
                                          <a:pt x="12" y="274"/>
                                        </a:lnTo>
                                        <a:lnTo>
                                          <a:pt x="6" y="255"/>
                                        </a:lnTo>
                                        <a:lnTo>
                                          <a:pt x="2" y="237"/>
                                        </a:lnTo>
                                        <a:lnTo>
                                          <a:pt x="0" y="218"/>
                                        </a:lnTo>
                                        <a:lnTo>
                                          <a:pt x="0" y="203"/>
                                        </a:lnTo>
                                        <a:close/>
                                      </a:path>
                                    </a:pathLst>
                                  </a:custGeom>
                                  <a:solidFill>
                                    <a:srgbClr val="ff0000"/>
                                  </a:solidFill>
                                  <a:ln w="0">
                                    <a:noFill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379" name=""/>
                                  <p:cNvSpPr/>
                                  <p:nvPr/>
                                </p:nvSpPr>
                                <p:spPr>
                                  <a:xfrm>
                                    <a:off x="3454560" y="2684520"/>
                                    <a:ext cx="141120" cy="122040"/>
                                  </a:xfrm>
                                  <a:custGeom>
                                    <a:avLst/>
                                    <a:gdLst/>
                                    <a:ahLst/>
                                    <a:rect l="l" t="t" r="r" b="b"/>
                                    <a:pathLst>
                                      <a:path w="441" h="383">
                                        <a:moveTo>
                                          <a:pt x="0" y="182"/>
                                        </a:moveTo>
                                        <a:lnTo>
                                          <a:pt x="6" y="167"/>
                                        </a:lnTo>
                                        <a:lnTo>
                                          <a:pt x="12" y="154"/>
                                        </a:lnTo>
                                        <a:lnTo>
                                          <a:pt x="19" y="138"/>
                                        </a:lnTo>
                                        <a:lnTo>
                                          <a:pt x="28" y="128"/>
                                        </a:lnTo>
                                        <a:lnTo>
                                          <a:pt x="38" y="120"/>
                                        </a:lnTo>
                                        <a:lnTo>
                                          <a:pt x="50" y="108"/>
                                        </a:lnTo>
                                        <a:lnTo>
                                          <a:pt x="63" y="93"/>
                                        </a:lnTo>
                                        <a:lnTo>
                                          <a:pt x="73" y="78"/>
                                        </a:lnTo>
                                        <a:lnTo>
                                          <a:pt x="84" y="64"/>
                                        </a:lnTo>
                                        <a:lnTo>
                                          <a:pt x="97" y="54"/>
                                        </a:lnTo>
                                        <a:lnTo>
                                          <a:pt x="110" y="42"/>
                                        </a:lnTo>
                                        <a:lnTo>
                                          <a:pt x="124" y="31"/>
                                        </a:lnTo>
                                        <a:lnTo>
                                          <a:pt x="137" y="21"/>
                                        </a:lnTo>
                                        <a:lnTo>
                                          <a:pt x="155" y="13"/>
                                        </a:lnTo>
                                        <a:lnTo>
                                          <a:pt x="174" y="7"/>
                                        </a:lnTo>
                                        <a:lnTo>
                                          <a:pt x="194" y="1"/>
                                        </a:lnTo>
                                        <a:lnTo>
                                          <a:pt x="219" y="0"/>
                                        </a:lnTo>
                                        <a:lnTo>
                                          <a:pt x="241" y="0"/>
                                        </a:lnTo>
                                        <a:lnTo>
                                          <a:pt x="261" y="0"/>
                                        </a:lnTo>
                                        <a:lnTo>
                                          <a:pt x="279" y="2"/>
                                        </a:lnTo>
                                        <a:lnTo>
                                          <a:pt x="296" y="7"/>
                                        </a:lnTo>
                                        <a:lnTo>
                                          <a:pt x="319" y="11"/>
                                        </a:lnTo>
                                        <a:lnTo>
                                          <a:pt x="336" y="19"/>
                                        </a:lnTo>
                                        <a:lnTo>
                                          <a:pt x="351" y="27"/>
                                        </a:lnTo>
                                        <a:lnTo>
                                          <a:pt x="368" y="37"/>
                                        </a:lnTo>
                                        <a:lnTo>
                                          <a:pt x="381" y="49"/>
                                        </a:lnTo>
                                        <a:lnTo>
                                          <a:pt x="395" y="63"/>
                                        </a:lnTo>
                                        <a:lnTo>
                                          <a:pt x="405" y="75"/>
                                        </a:lnTo>
                                        <a:lnTo>
                                          <a:pt x="415" y="91"/>
                                        </a:lnTo>
                                        <a:lnTo>
                                          <a:pt x="425" y="106"/>
                                        </a:lnTo>
                                        <a:lnTo>
                                          <a:pt x="432" y="121"/>
                                        </a:lnTo>
                                        <a:lnTo>
                                          <a:pt x="437" y="138"/>
                                        </a:lnTo>
                                        <a:lnTo>
                                          <a:pt x="441" y="155"/>
                                        </a:lnTo>
                                        <a:lnTo>
                                          <a:pt x="441" y="168"/>
                                        </a:lnTo>
                                        <a:lnTo>
                                          <a:pt x="441" y="182"/>
                                        </a:lnTo>
                                        <a:lnTo>
                                          <a:pt x="438" y="193"/>
                                        </a:lnTo>
                                        <a:lnTo>
                                          <a:pt x="431" y="210"/>
                                        </a:lnTo>
                                        <a:lnTo>
                                          <a:pt x="421" y="230"/>
                                        </a:lnTo>
                                        <a:lnTo>
                                          <a:pt x="414" y="247"/>
                                        </a:lnTo>
                                        <a:lnTo>
                                          <a:pt x="405" y="262"/>
                                        </a:lnTo>
                                        <a:lnTo>
                                          <a:pt x="401" y="278"/>
                                        </a:lnTo>
                                        <a:lnTo>
                                          <a:pt x="396" y="292"/>
                                        </a:lnTo>
                                        <a:lnTo>
                                          <a:pt x="392" y="308"/>
                                        </a:lnTo>
                                        <a:lnTo>
                                          <a:pt x="388" y="315"/>
                                        </a:lnTo>
                                        <a:lnTo>
                                          <a:pt x="387" y="327"/>
                                        </a:lnTo>
                                        <a:lnTo>
                                          <a:pt x="386" y="344"/>
                                        </a:lnTo>
                                        <a:lnTo>
                                          <a:pt x="317" y="361"/>
                                        </a:lnTo>
                                        <a:lnTo>
                                          <a:pt x="315" y="349"/>
                                        </a:lnTo>
                                        <a:lnTo>
                                          <a:pt x="313" y="340"/>
                                        </a:lnTo>
                                        <a:lnTo>
                                          <a:pt x="309" y="335"/>
                                        </a:lnTo>
                                        <a:lnTo>
                                          <a:pt x="301" y="330"/>
                                        </a:lnTo>
                                        <a:lnTo>
                                          <a:pt x="285" y="333"/>
                                        </a:lnTo>
                                        <a:lnTo>
                                          <a:pt x="269" y="336"/>
                                        </a:lnTo>
                                        <a:lnTo>
                                          <a:pt x="248" y="339"/>
                                        </a:lnTo>
                                        <a:lnTo>
                                          <a:pt x="230" y="346"/>
                                        </a:lnTo>
                                        <a:lnTo>
                                          <a:pt x="221" y="348"/>
                                        </a:lnTo>
                                        <a:lnTo>
                                          <a:pt x="211" y="356"/>
                                        </a:lnTo>
                                        <a:lnTo>
                                          <a:pt x="198" y="366"/>
                                        </a:lnTo>
                                        <a:lnTo>
                                          <a:pt x="181" y="380"/>
                                        </a:lnTo>
                                        <a:lnTo>
                                          <a:pt x="171" y="383"/>
                                        </a:lnTo>
                                        <a:lnTo>
                                          <a:pt x="155" y="383"/>
                                        </a:lnTo>
                                        <a:lnTo>
                                          <a:pt x="141" y="383"/>
                                        </a:lnTo>
                                        <a:lnTo>
                                          <a:pt x="133" y="382"/>
                                        </a:lnTo>
                                        <a:lnTo>
                                          <a:pt x="122" y="376"/>
                                        </a:lnTo>
                                        <a:lnTo>
                                          <a:pt x="109" y="372"/>
                                        </a:lnTo>
                                        <a:lnTo>
                                          <a:pt x="102" y="365"/>
                                        </a:lnTo>
                                        <a:lnTo>
                                          <a:pt x="95" y="355"/>
                                        </a:lnTo>
                                        <a:lnTo>
                                          <a:pt x="87" y="341"/>
                                        </a:lnTo>
                                        <a:lnTo>
                                          <a:pt x="81" y="330"/>
                                        </a:lnTo>
                                        <a:lnTo>
                                          <a:pt x="65" y="317"/>
                                        </a:lnTo>
                                        <a:lnTo>
                                          <a:pt x="55" y="303"/>
                                        </a:lnTo>
                                        <a:lnTo>
                                          <a:pt x="40" y="290"/>
                                        </a:lnTo>
                                        <a:lnTo>
                                          <a:pt x="27" y="278"/>
                                        </a:lnTo>
                                        <a:lnTo>
                                          <a:pt x="20" y="270"/>
                                        </a:lnTo>
                                        <a:lnTo>
                                          <a:pt x="17" y="260"/>
                                        </a:lnTo>
                                        <a:lnTo>
                                          <a:pt x="10" y="246"/>
                                        </a:lnTo>
                                        <a:lnTo>
                                          <a:pt x="5" y="229"/>
                                        </a:lnTo>
                                        <a:lnTo>
                                          <a:pt x="1" y="212"/>
                                        </a:lnTo>
                                        <a:lnTo>
                                          <a:pt x="0" y="195"/>
                                        </a:lnTo>
                                        <a:lnTo>
                                          <a:pt x="0" y="182"/>
                                        </a:lnTo>
                                        <a:close/>
                                      </a:path>
                                    </a:pathLst>
                                  </a:custGeom>
                                  <a:solidFill>
                                    <a:srgbClr val="e00000"/>
                                  </a:solidFill>
                                  <a:ln w="0">
                                    <a:noFill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380" name=""/>
                                  <p:cNvSpPr/>
                                  <p:nvPr/>
                                </p:nvSpPr>
                                <p:spPr>
                                  <a:xfrm>
                                    <a:off x="3465360" y="2693880"/>
                                    <a:ext cx="125640" cy="109800"/>
                                  </a:xfrm>
                                  <a:custGeom>
                                    <a:avLst/>
                                    <a:gdLst/>
                                    <a:ahLst/>
                                    <a:rect l="l" t="t" r="r" b="b"/>
                                    <a:pathLst>
                                      <a:path w="396" h="345">
                                        <a:moveTo>
                                          <a:pt x="0" y="164"/>
                                        </a:moveTo>
                                        <a:lnTo>
                                          <a:pt x="5" y="150"/>
                                        </a:lnTo>
                                        <a:lnTo>
                                          <a:pt x="10" y="138"/>
                                        </a:lnTo>
                                        <a:lnTo>
                                          <a:pt x="17" y="125"/>
                                        </a:lnTo>
                                        <a:lnTo>
                                          <a:pt x="25" y="114"/>
                                        </a:lnTo>
                                        <a:lnTo>
                                          <a:pt x="33" y="107"/>
                                        </a:lnTo>
                                        <a:lnTo>
                                          <a:pt x="45" y="96"/>
                                        </a:lnTo>
                                        <a:lnTo>
                                          <a:pt x="56" y="84"/>
                                        </a:lnTo>
                                        <a:lnTo>
                                          <a:pt x="66" y="69"/>
                                        </a:lnTo>
                                        <a:lnTo>
                                          <a:pt x="75" y="57"/>
                                        </a:lnTo>
                                        <a:lnTo>
                                          <a:pt x="86" y="48"/>
                                        </a:lnTo>
                                        <a:lnTo>
                                          <a:pt x="99" y="38"/>
                                        </a:lnTo>
                                        <a:lnTo>
                                          <a:pt x="111" y="27"/>
                                        </a:lnTo>
                                        <a:lnTo>
                                          <a:pt x="122" y="18"/>
                                        </a:lnTo>
                                        <a:lnTo>
                                          <a:pt x="140" y="11"/>
                                        </a:lnTo>
                                        <a:lnTo>
                                          <a:pt x="156" y="6"/>
                                        </a:lnTo>
                                        <a:lnTo>
                                          <a:pt x="174" y="0"/>
                                        </a:lnTo>
                                        <a:lnTo>
                                          <a:pt x="197" y="0"/>
                                        </a:lnTo>
                                        <a:lnTo>
                                          <a:pt x="216" y="0"/>
                                        </a:lnTo>
                                        <a:lnTo>
                                          <a:pt x="235" y="0"/>
                                        </a:lnTo>
                                        <a:lnTo>
                                          <a:pt x="251" y="1"/>
                                        </a:lnTo>
                                        <a:lnTo>
                                          <a:pt x="266" y="6"/>
                                        </a:lnTo>
                                        <a:lnTo>
                                          <a:pt x="287" y="9"/>
                                        </a:lnTo>
                                        <a:lnTo>
                                          <a:pt x="302" y="17"/>
                                        </a:lnTo>
                                        <a:lnTo>
                                          <a:pt x="316" y="23"/>
                                        </a:lnTo>
                                        <a:lnTo>
                                          <a:pt x="331" y="32"/>
                                        </a:lnTo>
                                        <a:lnTo>
                                          <a:pt x="343" y="44"/>
                                        </a:lnTo>
                                        <a:lnTo>
                                          <a:pt x="355" y="57"/>
                                        </a:lnTo>
                                        <a:lnTo>
                                          <a:pt x="365" y="67"/>
                                        </a:lnTo>
                                        <a:lnTo>
                                          <a:pt x="374" y="82"/>
                                        </a:lnTo>
                                        <a:lnTo>
                                          <a:pt x="383" y="95"/>
                                        </a:lnTo>
                                        <a:lnTo>
                                          <a:pt x="389" y="108"/>
                                        </a:lnTo>
                                        <a:lnTo>
                                          <a:pt x="393" y="125"/>
                                        </a:lnTo>
                                        <a:lnTo>
                                          <a:pt x="396" y="139"/>
                                        </a:lnTo>
                                        <a:lnTo>
                                          <a:pt x="396" y="151"/>
                                        </a:lnTo>
                                        <a:lnTo>
                                          <a:pt x="396" y="164"/>
                                        </a:lnTo>
                                        <a:lnTo>
                                          <a:pt x="394" y="173"/>
                                        </a:lnTo>
                                        <a:lnTo>
                                          <a:pt x="388" y="189"/>
                                        </a:lnTo>
                                        <a:lnTo>
                                          <a:pt x="379" y="207"/>
                                        </a:lnTo>
                                        <a:lnTo>
                                          <a:pt x="373" y="222"/>
                                        </a:lnTo>
                                        <a:lnTo>
                                          <a:pt x="365" y="237"/>
                                        </a:lnTo>
                                        <a:lnTo>
                                          <a:pt x="361" y="250"/>
                                        </a:lnTo>
                                        <a:lnTo>
                                          <a:pt x="356" y="263"/>
                                        </a:lnTo>
                                        <a:lnTo>
                                          <a:pt x="352" y="278"/>
                                        </a:lnTo>
                                        <a:lnTo>
                                          <a:pt x="349" y="284"/>
                                        </a:lnTo>
                                        <a:lnTo>
                                          <a:pt x="349" y="295"/>
                                        </a:lnTo>
                                        <a:lnTo>
                                          <a:pt x="348" y="310"/>
                                        </a:lnTo>
                                        <a:lnTo>
                                          <a:pt x="285" y="326"/>
                                        </a:lnTo>
                                        <a:lnTo>
                                          <a:pt x="283" y="314"/>
                                        </a:lnTo>
                                        <a:lnTo>
                                          <a:pt x="282" y="307"/>
                                        </a:lnTo>
                                        <a:lnTo>
                                          <a:pt x="278" y="302"/>
                                        </a:lnTo>
                                        <a:lnTo>
                                          <a:pt x="271" y="297"/>
                                        </a:lnTo>
                                        <a:lnTo>
                                          <a:pt x="256" y="300"/>
                                        </a:lnTo>
                                        <a:lnTo>
                                          <a:pt x="242" y="303"/>
                                        </a:lnTo>
                                        <a:lnTo>
                                          <a:pt x="223" y="306"/>
                                        </a:lnTo>
                                        <a:lnTo>
                                          <a:pt x="206" y="311"/>
                                        </a:lnTo>
                                        <a:lnTo>
                                          <a:pt x="198" y="313"/>
                                        </a:lnTo>
                                        <a:lnTo>
                                          <a:pt x="189" y="321"/>
                                        </a:lnTo>
                                        <a:lnTo>
                                          <a:pt x="178" y="330"/>
                                        </a:lnTo>
                                        <a:lnTo>
                                          <a:pt x="162" y="343"/>
                                        </a:lnTo>
                                        <a:lnTo>
                                          <a:pt x="153" y="345"/>
                                        </a:lnTo>
                                        <a:lnTo>
                                          <a:pt x="140" y="345"/>
                                        </a:lnTo>
                                        <a:lnTo>
                                          <a:pt x="126" y="345"/>
                                        </a:lnTo>
                                        <a:lnTo>
                                          <a:pt x="119" y="345"/>
                                        </a:lnTo>
                                        <a:lnTo>
                                          <a:pt x="109" y="339"/>
                                        </a:lnTo>
                                        <a:lnTo>
                                          <a:pt x="98" y="336"/>
                                        </a:lnTo>
                                        <a:lnTo>
                                          <a:pt x="92" y="329"/>
                                        </a:lnTo>
                                        <a:lnTo>
                                          <a:pt x="84" y="320"/>
                                        </a:lnTo>
                                        <a:lnTo>
                                          <a:pt x="77" y="307"/>
                                        </a:lnTo>
                                        <a:lnTo>
                                          <a:pt x="72" y="297"/>
                                        </a:lnTo>
                                        <a:lnTo>
                                          <a:pt x="58" y="286"/>
                                        </a:lnTo>
                                        <a:lnTo>
                                          <a:pt x="49" y="273"/>
                                        </a:lnTo>
                                        <a:lnTo>
                                          <a:pt x="35" y="261"/>
                                        </a:lnTo>
                                        <a:lnTo>
                                          <a:pt x="24" y="250"/>
                                        </a:lnTo>
                                        <a:lnTo>
                                          <a:pt x="18" y="243"/>
                                        </a:lnTo>
                                        <a:lnTo>
                                          <a:pt x="15" y="234"/>
                                        </a:lnTo>
                                        <a:lnTo>
                                          <a:pt x="9" y="221"/>
                                        </a:lnTo>
                                        <a:lnTo>
                                          <a:pt x="4" y="206"/>
                                        </a:lnTo>
                                        <a:lnTo>
                                          <a:pt x="0" y="191"/>
                                        </a:lnTo>
                                        <a:lnTo>
                                          <a:pt x="0" y="175"/>
                                        </a:lnTo>
                                        <a:lnTo>
                                          <a:pt x="0" y="164"/>
                                        </a:lnTo>
                                        <a:close/>
                                      </a:path>
                                    </a:pathLst>
                                  </a:custGeom>
                                  <a:solidFill>
                                    <a:srgbClr val="c00000"/>
                                  </a:solidFill>
                                  <a:ln w="0">
                                    <a:noFill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</p:grpSp>
                          </p:grpSp>
                          <p:grpSp>
                            <p:nvGrpSpPr>
                              <p:cNvPr id="381" name=""/>
                              <p:cNvGrpSpPr/>
                              <p:nvPr/>
                            </p:nvGrpSpPr>
                            <p:grpSpPr>
                              <a:xfrm>
                                <a:off x="3490920" y="2660760"/>
                                <a:ext cx="115920" cy="54000"/>
                                <a:chOff x="3490920" y="2660760"/>
                                <a:chExt cx="115920" cy="54000"/>
                              </a:xfrm>
                            </p:grpSpPr>
                            <p:sp>
                              <p:nvSpPr>
                                <p:cNvPr id="382" name=""/>
                                <p:cNvSpPr/>
                                <p:nvPr/>
                              </p:nvSpPr>
                              <p:spPr>
                                <a:xfrm>
                                  <a:off x="3490920" y="2662200"/>
                                  <a:ext cx="27000" cy="1584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88" h="49">
                                      <a:moveTo>
                                        <a:pt x="37" y="2"/>
                                      </a:moveTo>
                                      <a:lnTo>
                                        <a:pt x="48" y="0"/>
                                      </a:lnTo>
                                      <a:lnTo>
                                        <a:pt x="60" y="0"/>
                                      </a:lnTo>
                                      <a:lnTo>
                                        <a:pt x="68" y="1"/>
                                      </a:lnTo>
                                      <a:lnTo>
                                        <a:pt x="79" y="6"/>
                                      </a:lnTo>
                                      <a:lnTo>
                                        <a:pt x="85" y="10"/>
                                      </a:lnTo>
                                      <a:lnTo>
                                        <a:pt x="88" y="19"/>
                                      </a:lnTo>
                                      <a:lnTo>
                                        <a:pt x="85" y="29"/>
                                      </a:lnTo>
                                      <a:lnTo>
                                        <a:pt x="79" y="37"/>
                                      </a:lnTo>
                                      <a:lnTo>
                                        <a:pt x="70" y="41"/>
                                      </a:lnTo>
                                      <a:lnTo>
                                        <a:pt x="61" y="45"/>
                                      </a:lnTo>
                                      <a:lnTo>
                                        <a:pt x="48" y="47"/>
                                      </a:lnTo>
                                      <a:lnTo>
                                        <a:pt x="36" y="49"/>
                                      </a:lnTo>
                                      <a:lnTo>
                                        <a:pt x="23" y="49"/>
                                      </a:lnTo>
                                      <a:lnTo>
                                        <a:pt x="12" y="47"/>
                                      </a:lnTo>
                                      <a:lnTo>
                                        <a:pt x="3" y="42"/>
                                      </a:lnTo>
                                      <a:lnTo>
                                        <a:pt x="0" y="35"/>
                                      </a:lnTo>
                                      <a:lnTo>
                                        <a:pt x="1" y="25"/>
                                      </a:lnTo>
                                      <a:lnTo>
                                        <a:pt x="6" y="16"/>
                                      </a:lnTo>
                                      <a:lnTo>
                                        <a:pt x="16" y="9"/>
                                      </a:lnTo>
                                      <a:lnTo>
                                        <a:pt x="25" y="5"/>
                                      </a:lnTo>
                                      <a:lnTo>
                                        <a:pt x="37" y="2"/>
                                      </a:lnTo>
                                      <a:close/>
                                    </a:path>
                                  </a:pathLst>
                                </a:custGeom>
                                <a:solidFill>
                                  <a:srgbClr val="a000a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30960" bIns="-3096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383" name=""/>
                                <p:cNvSpPr/>
                                <p:nvPr/>
                              </p:nvSpPr>
                              <p:spPr>
                                <a:xfrm>
                                  <a:off x="3527280" y="2660760"/>
                                  <a:ext cx="28800" cy="1404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87" h="49">
                                      <a:moveTo>
                                        <a:pt x="36" y="47"/>
                                      </a:moveTo>
                                      <a:lnTo>
                                        <a:pt x="47" y="49"/>
                                      </a:lnTo>
                                      <a:lnTo>
                                        <a:pt x="58" y="49"/>
                                      </a:lnTo>
                                      <a:lnTo>
                                        <a:pt x="66" y="48"/>
                                      </a:lnTo>
                                      <a:lnTo>
                                        <a:pt x="78" y="43"/>
                                      </a:lnTo>
                                      <a:lnTo>
                                        <a:pt x="84" y="38"/>
                                      </a:lnTo>
                                      <a:lnTo>
                                        <a:pt x="87" y="30"/>
                                      </a:lnTo>
                                      <a:lnTo>
                                        <a:pt x="84" y="19"/>
                                      </a:lnTo>
                                      <a:lnTo>
                                        <a:pt x="78" y="12"/>
                                      </a:lnTo>
                                      <a:lnTo>
                                        <a:pt x="68" y="8"/>
                                      </a:lnTo>
                                      <a:lnTo>
                                        <a:pt x="59" y="4"/>
                                      </a:lnTo>
                                      <a:lnTo>
                                        <a:pt x="47" y="2"/>
                                      </a:lnTo>
                                      <a:lnTo>
                                        <a:pt x="35" y="0"/>
                                      </a:lnTo>
                                      <a:lnTo>
                                        <a:pt x="21" y="0"/>
                                      </a:lnTo>
                                      <a:lnTo>
                                        <a:pt x="10" y="2"/>
                                      </a:lnTo>
                                      <a:lnTo>
                                        <a:pt x="3" y="7"/>
                                      </a:lnTo>
                                      <a:lnTo>
                                        <a:pt x="0" y="14"/>
                                      </a:lnTo>
                                      <a:lnTo>
                                        <a:pt x="1" y="24"/>
                                      </a:lnTo>
                                      <a:lnTo>
                                        <a:pt x="6" y="33"/>
                                      </a:lnTo>
                                      <a:lnTo>
                                        <a:pt x="14" y="39"/>
                                      </a:lnTo>
                                      <a:lnTo>
                                        <a:pt x="23" y="44"/>
                                      </a:lnTo>
                                      <a:lnTo>
                                        <a:pt x="36" y="47"/>
                                      </a:lnTo>
                                      <a:close/>
                                    </a:path>
                                  </a:pathLst>
                                </a:custGeom>
                                <a:solidFill>
                                  <a:srgbClr val="a000a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32760" bIns="-3276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384" name=""/>
                                <p:cNvSpPr/>
                                <p:nvPr/>
                              </p:nvSpPr>
                              <p:spPr>
                                <a:xfrm>
                                  <a:off x="3564000" y="2671920"/>
                                  <a:ext cx="20520" cy="1728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68" h="56">
                                      <a:moveTo>
                                        <a:pt x="34" y="53"/>
                                      </a:moveTo>
                                      <a:lnTo>
                                        <a:pt x="45" y="56"/>
                                      </a:lnTo>
                                      <a:lnTo>
                                        <a:pt x="53" y="56"/>
                                      </a:lnTo>
                                      <a:lnTo>
                                        <a:pt x="61" y="54"/>
                                      </a:lnTo>
                                      <a:lnTo>
                                        <a:pt x="65" y="48"/>
                                      </a:lnTo>
                                      <a:lnTo>
                                        <a:pt x="68" y="40"/>
                                      </a:lnTo>
                                      <a:lnTo>
                                        <a:pt x="66" y="31"/>
                                      </a:lnTo>
                                      <a:lnTo>
                                        <a:pt x="60" y="19"/>
                                      </a:lnTo>
                                      <a:lnTo>
                                        <a:pt x="52" y="11"/>
                                      </a:lnTo>
                                      <a:lnTo>
                                        <a:pt x="41" y="5"/>
                                      </a:lnTo>
                                      <a:lnTo>
                                        <a:pt x="29" y="1"/>
                                      </a:lnTo>
                                      <a:lnTo>
                                        <a:pt x="20" y="0"/>
                                      </a:lnTo>
                                      <a:lnTo>
                                        <a:pt x="12" y="2"/>
                                      </a:lnTo>
                                      <a:lnTo>
                                        <a:pt x="4" y="7"/>
                                      </a:lnTo>
                                      <a:lnTo>
                                        <a:pt x="0" y="14"/>
                                      </a:lnTo>
                                      <a:lnTo>
                                        <a:pt x="1" y="24"/>
                                      </a:lnTo>
                                      <a:lnTo>
                                        <a:pt x="7" y="34"/>
                                      </a:lnTo>
                                      <a:lnTo>
                                        <a:pt x="16" y="41"/>
                                      </a:lnTo>
                                      <a:lnTo>
                                        <a:pt x="25" y="47"/>
                                      </a:lnTo>
                                      <a:lnTo>
                                        <a:pt x="34" y="53"/>
                                      </a:lnTo>
                                      <a:close/>
                                    </a:path>
                                  </a:pathLst>
                                </a:custGeom>
                                <a:solidFill>
                                  <a:srgbClr val="a000a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29520" bIns="-2952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385" name=""/>
                                <p:cNvSpPr/>
                                <p:nvPr/>
                              </p:nvSpPr>
                              <p:spPr>
                                <a:xfrm>
                                  <a:off x="3587760" y="2693880"/>
                                  <a:ext cx="19080" cy="2088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57" h="65">
                                      <a:moveTo>
                                        <a:pt x="24" y="61"/>
                                      </a:moveTo>
                                      <a:lnTo>
                                        <a:pt x="35" y="65"/>
                                      </a:lnTo>
                                      <a:lnTo>
                                        <a:pt x="45" y="64"/>
                                      </a:lnTo>
                                      <a:lnTo>
                                        <a:pt x="52" y="59"/>
                                      </a:lnTo>
                                      <a:lnTo>
                                        <a:pt x="57" y="48"/>
                                      </a:lnTo>
                                      <a:lnTo>
                                        <a:pt x="55" y="34"/>
                                      </a:lnTo>
                                      <a:lnTo>
                                        <a:pt x="52" y="23"/>
                                      </a:lnTo>
                                      <a:lnTo>
                                        <a:pt x="46" y="14"/>
                                      </a:lnTo>
                                      <a:lnTo>
                                        <a:pt x="40" y="6"/>
                                      </a:lnTo>
                                      <a:lnTo>
                                        <a:pt x="29" y="1"/>
                                      </a:lnTo>
                                      <a:lnTo>
                                        <a:pt x="21" y="0"/>
                                      </a:lnTo>
                                      <a:lnTo>
                                        <a:pt x="11" y="2"/>
                                      </a:lnTo>
                                      <a:lnTo>
                                        <a:pt x="3" y="7"/>
                                      </a:lnTo>
                                      <a:lnTo>
                                        <a:pt x="0" y="15"/>
                                      </a:lnTo>
                                      <a:lnTo>
                                        <a:pt x="1" y="24"/>
                                      </a:lnTo>
                                      <a:lnTo>
                                        <a:pt x="3" y="34"/>
                                      </a:lnTo>
                                      <a:lnTo>
                                        <a:pt x="9" y="44"/>
                                      </a:lnTo>
                                      <a:lnTo>
                                        <a:pt x="17" y="53"/>
                                      </a:lnTo>
                                      <a:lnTo>
                                        <a:pt x="24" y="61"/>
                                      </a:lnTo>
                                      <a:close/>
                                    </a:path>
                                  </a:pathLst>
                                </a:custGeom>
                                <a:solidFill>
                                  <a:srgbClr val="a000a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25920" bIns="-2592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</p:grpSp>
                        <p:grpSp>
                          <p:nvGrpSpPr>
                            <p:cNvPr id="386" name=""/>
                            <p:cNvGrpSpPr/>
                            <p:nvPr/>
                          </p:nvGrpSpPr>
                          <p:grpSpPr>
                            <a:xfrm>
                              <a:off x="3529080" y="2743200"/>
                              <a:ext cx="129960" cy="208080"/>
                              <a:chOff x="3529080" y="2743200"/>
                              <a:chExt cx="129960" cy="208080"/>
                            </a:xfrm>
                          </p:grpSpPr>
                          <p:sp>
                            <p:nvSpPr>
                              <p:cNvPr id="387" name=""/>
                              <p:cNvSpPr/>
                              <p:nvPr/>
                            </p:nvSpPr>
                            <p:spPr>
                              <a:xfrm>
                                <a:off x="3586320" y="2744640"/>
                                <a:ext cx="72720" cy="13032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229" h="410">
                                    <a:moveTo>
                                      <a:pt x="27" y="0"/>
                                    </a:moveTo>
                                    <a:lnTo>
                                      <a:pt x="17" y="28"/>
                                    </a:lnTo>
                                    <a:lnTo>
                                      <a:pt x="8" y="64"/>
                                    </a:lnTo>
                                    <a:lnTo>
                                      <a:pt x="3" y="103"/>
                                    </a:lnTo>
                                    <a:lnTo>
                                      <a:pt x="0" y="137"/>
                                    </a:lnTo>
                                    <a:lnTo>
                                      <a:pt x="5" y="166"/>
                                    </a:lnTo>
                                    <a:lnTo>
                                      <a:pt x="14" y="190"/>
                                    </a:lnTo>
                                    <a:lnTo>
                                      <a:pt x="30" y="215"/>
                                    </a:lnTo>
                                    <a:lnTo>
                                      <a:pt x="52" y="245"/>
                                    </a:lnTo>
                                    <a:lnTo>
                                      <a:pt x="82" y="272"/>
                                    </a:lnTo>
                                    <a:lnTo>
                                      <a:pt x="122" y="304"/>
                                    </a:lnTo>
                                    <a:lnTo>
                                      <a:pt x="152" y="329"/>
                                    </a:lnTo>
                                    <a:lnTo>
                                      <a:pt x="176" y="347"/>
                                    </a:lnTo>
                                    <a:lnTo>
                                      <a:pt x="192" y="366"/>
                                    </a:lnTo>
                                    <a:lnTo>
                                      <a:pt x="213" y="389"/>
                                    </a:lnTo>
                                    <a:lnTo>
                                      <a:pt x="229" y="410"/>
                                    </a:lnTo>
                                  </a:path>
                                </a:pathLst>
                              </a:custGeom>
                              <a:noFill/>
                              <a:ln w="4680">
                                <a:solidFill>
                                  <a:srgbClr val="ffc0c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388" name=""/>
                              <p:cNvSpPr/>
                              <p:nvPr/>
                            </p:nvSpPr>
                            <p:spPr>
                              <a:xfrm>
                                <a:off x="3529080" y="2787480"/>
                                <a:ext cx="69840" cy="1238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216" h="391">
                                    <a:moveTo>
                                      <a:pt x="0" y="0"/>
                                    </a:moveTo>
                                    <a:lnTo>
                                      <a:pt x="24" y="4"/>
                                    </a:lnTo>
                                    <a:lnTo>
                                      <a:pt x="47" y="9"/>
                                    </a:lnTo>
                                    <a:lnTo>
                                      <a:pt x="73" y="18"/>
                                    </a:lnTo>
                                    <a:lnTo>
                                      <a:pt x="93" y="29"/>
                                    </a:lnTo>
                                    <a:lnTo>
                                      <a:pt x="112" y="41"/>
                                    </a:lnTo>
                                    <a:lnTo>
                                      <a:pt x="128" y="65"/>
                                    </a:lnTo>
                                    <a:lnTo>
                                      <a:pt x="142" y="87"/>
                                    </a:lnTo>
                                    <a:lnTo>
                                      <a:pt x="152" y="114"/>
                                    </a:lnTo>
                                    <a:lnTo>
                                      <a:pt x="162" y="146"/>
                                    </a:lnTo>
                                    <a:lnTo>
                                      <a:pt x="171" y="182"/>
                                    </a:lnTo>
                                    <a:lnTo>
                                      <a:pt x="174" y="222"/>
                                    </a:lnTo>
                                    <a:lnTo>
                                      <a:pt x="177" y="276"/>
                                    </a:lnTo>
                                    <a:lnTo>
                                      <a:pt x="180" y="314"/>
                                    </a:lnTo>
                                    <a:lnTo>
                                      <a:pt x="188" y="347"/>
                                    </a:lnTo>
                                    <a:lnTo>
                                      <a:pt x="201" y="372"/>
                                    </a:lnTo>
                                    <a:lnTo>
                                      <a:pt x="216" y="391"/>
                                    </a:lnTo>
                                    <a:lnTo>
                                      <a:pt x="214" y="390"/>
                                    </a:lnTo>
                                  </a:path>
                                </a:pathLst>
                              </a:custGeom>
                              <a:noFill/>
                              <a:ln w="4680">
                                <a:solidFill>
                                  <a:srgbClr val="ffc0c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389" name=""/>
                              <p:cNvSpPr/>
                              <p:nvPr/>
                            </p:nvSpPr>
                            <p:spPr>
                              <a:xfrm>
                                <a:off x="3532320" y="2743200"/>
                                <a:ext cx="117360" cy="20808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371" h="657">
                                    <a:moveTo>
                                      <a:pt x="0" y="0"/>
                                    </a:moveTo>
                                    <a:lnTo>
                                      <a:pt x="26" y="25"/>
                                    </a:lnTo>
                                    <a:lnTo>
                                      <a:pt x="60" y="56"/>
                                    </a:lnTo>
                                    <a:lnTo>
                                      <a:pt x="84" y="86"/>
                                    </a:lnTo>
                                    <a:lnTo>
                                      <a:pt x="108" y="120"/>
                                    </a:lnTo>
                                    <a:lnTo>
                                      <a:pt x="132" y="159"/>
                                    </a:lnTo>
                                    <a:lnTo>
                                      <a:pt x="154" y="196"/>
                                    </a:lnTo>
                                    <a:lnTo>
                                      <a:pt x="176" y="236"/>
                                    </a:lnTo>
                                    <a:lnTo>
                                      <a:pt x="195" y="272"/>
                                    </a:lnTo>
                                    <a:lnTo>
                                      <a:pt x="213" y="313"/>
                                    </a:lnTo>
                                    <a:lnTo>
                                      <a:pt x="230" y="357"/>
                                    </a:lnTo>
                                    <a:lnTo>
                                      <a:pt x="247" y="409"/>
                                    </a:lnTo>
                                    <a:lnTo>
                                      <a:pt x="261" y="452"/>
                                    </a:lnTo>
                                    <a:lnTo>
                                      <a:pt x="277" y="496"/>
                                    </a:lnTo>
                                    <a:lnTo>
                                      <a:pt x="292" y="533"/>
                                    </a:lnTo>
                                    <a:lnTo>
                                      <a:pt x="312" y="577"/>
                                    </a:lnTo>
                                    <a:lnTo>
                                      <a:pt x="338" y="616"/>
                                    </a:lnTo>
                                    <a:lnTo>
                                      <a:pt x="371" y="657"/>
                                    </a:lnTo>
                                  </a:path>
                                </a:pathLst>
                              </a:custGeom>
                              <a:noFill/>
                              <a:ln w="4680">
                                <a:solidFill>
                                  <a:srgbClr val="ffc0c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390" name=""/>
                          <p:cNvGrpSpPr/>
                          <p:nvPr/>
                        </p:nvGrpSpPr>
                        <p:grpSpPr>
                          <a:xfrm>
                            <a:off x="3246480" y="2735280"/>
                            <a:ext cx="387360" cy="341280"/>
                            <a:chOff x="3246480" y="2735280"/>
                            <a:chExt cx="387360" cy="341280"/>
                          </a:xfrm>
                        </p:grpSpPr>
                        <p:grpSp>
                          <p:nvGrpSpPr>
                            <p:cNvPr id="391" name=""/>
                            <p:cNvGrpSpPr/>
                            <p:nvPr/>
                          </p:nvGrpSpPr>
                          <p:grpSpPr>
                            <a:xfrm>
                              <a:off x="3246480" y="2735280"/>
                              <a:ext cx="387360" cy="341280"/>
                              <a:chOff x="3246480" y="2735280"/>
                              <a:chExt cx="387360" cy="341280"/>
                            </a:xfrm>
                          </p:grpSpPr>
                          <p:grpSp>
                            <p:nvGrpSpPr>
                              <p:cNvPr id="392" name=""/>
                              <p:cNvGrpSpPr/>
                              <p:nvPr/>
                            </p:nvGrpSpPr>
                            <p:grpSpPr>
                              <a:xfrm>
                                <a:off x="3246480" y="2735280"/>
                                <a:ext cx="387360" cy="341280"/>
                                <a:chOff x="3246480" y="2735280"/>
                                <a:chExt cx="387360" cy="341280"/>
                              </a:xfrm>
                            </p:grpSpPr>
                            <p:grpSp>
                              <p:nvGrpSpPr>
                                <p:cNvPr id="393" name=""/>
                                <p:cNvGrpSpPr/>
                                <p:nvPr/>
                              </p:nvGrpSpPr>
                              <p:grpSpPr>
                                <a:xfrm>
                                  <a:off x="3246480" y="2735280"/>
                                  <a:ext cx="387360" cy="341280"/>
                                  <a:chOff x="3246480" y="2735280"/>
                                  <a:chExt cx="387360" cy="341280"/>
                                </a:xfrm>
                              </p:grpSpPr>
                              <p:grpSp>
                                <p:nvGrpSpPr>
                                  <p:cNvPr id="394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3246480" y="2735280"/>
                                    <a:ext cx="387360" cy="341280"/>
                                    <a:chOff x="3246480" y="2735280"/>
                                    <a:chExt cx="387360" cy="341280"/>
                                  </a:xfrm>
                                </p:grpSpPr>
                                <p:sp>
                                  <p:nvSpPr>
                                    <p:cNvPr id="39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246480" y="2735280"/>
                                      <a:ext cx="387360" cy="341280"/>
                                    </a:xfrm>
                                    <a:custGeom>
                                      <a:avLst/>
                                      <a:gdLst/>
                                      <a:ahLst/>
                                      <a:rect l="l" t="t" r="r" b="b"/>
                                      <a:pathLst>
                                        <a:path w="1224" h="1076">
                                          <a:moveTo>
                                            <a:pt x="95" y="86"/>
                                          </a:moveTo>
                                          <a:lnTo>
                                            <a:pt x="127" y="60"/>
                                          </a:lnTo>
                                          <a:lnTo>
                                            <a:pt x="158" y="37"/>
                                          </a:lnTo>
                                          <a:lnTo>
                                            <a:pt x="193" y="18"/>
                                          </a:lnTo>
                                          <a:lnTo>
                                            <a:pt x="234" y="6"/>
                                          </a:lnTo>
                                          <a:lnTo>
                                            <a:pt x="269" y="2"/>
                                          </a:lnTo>
                                          <a:lnTo>
                                            <a:pt x="309" y="0"/>
                                          </a:lnTo>
                                          <a:lnTo>
                                            <a:pt x="367" y="5"/>
                                          </a:lnTo>
                                          <a:lnTo>
                                            <a:pt x="424" y="17"/>
                                          </a:lnTo>
                                          <a:lnTo>
                                            <a:pt x="460" y="42"/>
                                          </a:lnTo>
                                          <a:lnTo>
                                            <a:pt x="488" y="77"/>
                                          </a:lnTo>
                                          <a:lnTo>
                                            <a:pt x="512" y="119"/>
                                          </a:lnTo>
                                          <a:lnTo>
                                            <a:pt x="537" y="159"/>
                                          </a:lnTo>
                                          <a:lnTo>
                                            <a:pt x="567" y="193"/>
                                          </a:lnTo>
                                          <a:lnTo>
                                            <a:pt x="593" y="220"/>
                                          </a:lnTo>
                                          <a:lnTo>
                                            <a:pt x="628" y="260"/>
                                          </a:lnTo>
                                          <a:lnTo>
                                            <a:pt x="642" y="297"/>
                                          </a:lnTo>
                                          <a:lnTo>
                                            <a:pt x="646" y="326"/>
                                          </a:lnTo>
                                          <a:lnTo>
                                            <a:pt x="642" y="342"/>
                                          </a:lnTo>
                                          <a:lnTo>
                                            <a:pt x="633" y="370"/>
                                          </a:lnTo>
                                          <a:lnTo>
                                            <a:pt x="618" y="396"/>
                                          </a:lnTo>
                                          <a:lnTo>
                                            <a:pt x="596" y="424"/>
                                          </a:lnTo>
                                          <a:lnTo>
                                            <a:pt x="570" y="461"/>
                                          </a:lnTo>
                                          <a:lnTo>
                                            <a:pt x="546" y="489"/>
                                          </a:lnTo>
                                          <a:lnTo>
                                            <a:pt x="527" y="520"/>
                                          </a:lnTo>
                                          <a:lnTo>
                                            <a:pt x="519" y="538"/>
                                          </a:lnTo>
                                          <a:lnTo>
                                            <a:pt x="518" y="550"/>
                                          </a:lnTo>
                                          <a:lnTo>
                                            <a:pt x="523" y="559"/>
                                          </a:lnTo>
                                          <a:lnTo>
                                            <a:pt x="533" y="563"/>
                                          </a:lnTo>
                                          <a:lnTo>
                                            <a:pt x="542" y="561"/>
                                          </a:lnTo>
                                          <a:lnTo>
                                            <a:pt x="552" y="552"/>
                                          </a:lnTo>
                                          <a:lnTo>
                                            <a:pt x="565" y="532"/>
                                          </a:lnTo>
                                          <a:lnTo>
                                            <a:pt x="585" y="502"/>
                                          </a:lnTo>
                                          <a:lnTo>
                                            <a:pt x="609" y="470"/>
                                          </a:lnTo>
                                          <a:lnTo>
                                            <a:pt x="631" y="442"/>
                                          </a:lnTo>
                                          <a:lnTo>
                                            <a:pt x="653" y="417"/>
                                          </a:lnTo>
                                          <a:lnTo>
                                            <a:pt x="676" y="395"/>
                                          </a:lnTo>
                                          <a:lnTo>
                                            <a:pt x="687" y="388"/>
                                          </a:lnTo>
                                          <a:lnTo>
                                            <a:pt x="701" y="386"/>
                                          </a:lnTo>
                                          <a:lnTo>
                                            <a:pt x="714" y="390"/>
                                          </a:lnTo>
                                          <a:lnTo>
                                            <a:pt x="722" y="395"/>
                                          </a:lnTo>
                                          <a:lnTo>
                                            <a:pt x="737" y="421"/>
                                          </a:lnTo>
                                          <a:lnTo>
                                            <a:pt x="758" y="467"/>
                                          </a:lnTo>
                                          <a:lnTo>
                                            <a:pt x="781" y="520"/>
                                          </a:lnTo>
                                          <a:lnTo>
                                            <a:pt x="803" y="571"/>
                                          </a:lnTo>
                                          <a:lnTo>
                                            <a:pt x="825" y="614"/>
                                          </a:lnTo>
                                          <a:lnTo>
                                            <a:pt x="863" y="674"/>
                                          </a:lnTo>
                                          <a:lnTo>
                                            <a:pt x="902" y="734"/>
                                          </a:lnTo>
                                          <a:lnTo>
                                            <a:pt x="944" y="793"/>
                                          </a:lnTo>
                                          <a:lnTo>
                                            <a:pt x="983" y="839"/>
                                          </a:lnTo>
                                          <a:lnTo>
                                            <a:pt x="1027" y="874"/>
                                          </a:lnTo>
                                          <a:lnTo>
                                            <a:pt x="1069" y="910"/>
                                          </a:lnTo>
                                          <a:lnTo>
                                            <a:pt x="1108" y="941"/>
                                          </a:lnTo>
                                          <a:lnTo>
                                            <a:pt x="1150" y="972"/>
                                          </a:lnTo>
                                          <a:lnTo>
                                            <a:pt x="1202" y="1009"/>
                                          </a:lnTo>
                                          <a:lnTo>
                                            <a:pt x="1213" y="1021"/>
                                          </a:lnTo>
                                          <a:lnTo>
                                            <a:pt x="1223" y="1035"/>
                                          </a:lnTo>
                                          <a:lnTo>
                                            <a:pt x="1224" y="1045"/>
                                          </a:lnTo>
                                          <a:lnTo>
                                            <a:pt x="1219" y="1059"/>
                                          </a:lnTo>
                                          <a:lnTo>
                                            <a:pt x="1209" y="1067"/>
                                          </a:lnTo>
                                          <a:lnTo>
                                            <a:pt x="1194" y="1072"/>
                                          </a:lnTo>
                                          <a:lnTo>
                                            <a:pt x="1162" y="1075"/>
                                          </a:lnTo>
                                          <a:lnTo>
                                            <a:pt x="1125" y="1076"/>
                                          </a:lnTo>
                                          <a:lnTo>
                                            <a:pt x="1062" y="1071"/>
                                          </a:lnTo>
                                          <a:lnTo>
                                            <a:pt x="1003" y="1063"/>
                                          </a:lnTo>
                                          <a:lnTo>
                                            <a:pt x="951" y="1056"/>
                                          </a:lnTo>
                                          <a:lnTo>
                                            <a:pt x="888" y="1044"/>
                                          </a:lnTo>
                                          <a:lnTo>
                                            <a:pt x="826" y="1026"/>
                                          </a:lnTo>
                                          <a:lnTo>
                                            <a:pt x="778" y="1006"/>
                                          </a:lnTo>
                                          <a:lnTo>
                                            <a:pt x="735" y="981"/>
                                          </a:lnTo>
                                          <a:lnTo>
                                            <a:pt x="670" y="954"/>
                                          </a:lnTo>
                                          <a:lnTo>
                                            <a:pt x="603" y="921"/>
                                          </a:lnTo>
                                          <a:lnTo>
                                            <a:pt x="542" y="890"/>
                                          </a:lnTo>
                                          <a:lnTo>
                                            <a:pt x="496" y="856"/>
                                          </a:lnTo>
                                          <a:lnTo>
                                            <a:pt x="453" y="826"/>
                                          </a:lnTo>
                                          <a:lnTo>
                                            <a:pt x="413" y="796"/>
                                          </a:lnTo>
                                          <a:lnTo>
                                            <a:pt x="373" y="753"/>
                                          </a:lnTo>
                                          <a:lnTo>
                                            <a:pt x="340" y="720"/>
                                          </a:lnTo>
                                          <a:lnTo>
                                            <a:pt x="311" y="689"/>
                                          </a:lnTo>
                                          <a:lnTo>
                                            <a:pt x="306" y="675"/>
                                          </a:lnTo>
                                          <a:lnTo>
                                            <a:pt x="306" y="658"/>
                                          </a:lnTo>
                                          <a:lnTo>
                                            <a:pt x="317" y="641"/>
                                          </a:lnTo>
                                          <a:lnTo>
                                            <a:pt x="335" y="629"/>
                                          </a:lnTo>
                                          <a:lnTo>
                                            <a:pt x="358" y="620"/>
                                          </a:lnTo>
                                          <a:lnTo>
                                            <a:pt x="387" y="616"/>
                                          </a:lnTo>
                                          <a:lnTo>
                                            <a:pt x="421" y="621"/>
                                          </a:lnTo>
                                          <a:lnTo>
                                            <a:pt x="453" y="631"/>
                                          </a:lnTo>
                                          <a:lnTo>
                                            <a:pt x="467" y="635"/>
                                          </a:lnTo>
                                          <a:lnTo>
                                            <a:pt x="478" y="637"/>
                                          </a:lnTo>
                                          <a:lnTo>
                                            <a:pt x="485" y="634"/>
                                          </a:lnTo>
                                          <a:lnTo>
                                            <a:pt x="490" y="626"/>
                                          </a:lnTo>
                                          <a:lnTo>
                                            <a:pt x="488" y="616"/>
                                          </a:lnTo>
                                          <a:lnTo>
                                            <a:pt x="481" y="606"/>
                                          </a:lnTo>
                                          <a:lnTo>
                                            <a:pt x="454" y="593"/>
                                          </a:lnTo>
                                          <a:lnTo>
                                            <a:pt x="425" y="586"/>
                                          </a:lnTo>
                                          <a:lnTo>
                                            <a:pt x="395" y="583"/>
                                          </a:lnTo>
                                          <a:lnTo>
                                            <a:pt x="365" y="589"/>
                                          </a:lnTo>
                                          <a:lnTo>
                                            <a:pt x="327" y="599"/>
                                          </a:lnTo>
                                          <a:lnTo>
                                            <a:pt x="283" y="613"/>
                                          </a:lnTo>
                                          <a:lnTo>
                                            <a:pt x="249" y="623"/>
                                          </a:lnTo>
                                          <a:lnTo>
                                            <a:pt x="222" y="628"/>
                                          </a:lnTo>
                                          <a:lnTo>
                                            <a:pt x="196" y="624"/>
                                          </a:lnTo>
                                          <a:lnTo>
                                            <a:pt x="170" y="616"/>
                                          </a:lnTo>
                                          <a:lnTo>
                                            <a:pt x="142" y="602"/>
                                          </a:lnTo>
                                          <a:lnTo>
                                            <a:pt x="122" y="584"/>
                                          </a:lnTo>
                                          <a:lnTo>
                                            <a:pt x="100" y="561"/>
                                          </a:lnTo>
                                          <a:lnTo>
                                            <a:pt x="72" y="525"/>
                                          </a:lnTo>
                                          <a:lnTo>
                                            <a:pt x="41" y="477"/>
                                          </a:lnTo>
                                          <a:lnTo>
                                            <a:pt x="18" y="431"/>
                                          </a:lnTo>
                                          <a:lnTo>
                                            <a:pt x="3" y="387"/>
                                          </a:lnTo>
                                          <a:lnTo>
                                            <a:pt x="0" y="356"/>
                                          </a:lnTo>
                                          <a:lnTo>
                                            <a:pt x="4" y="327"/>
                                          </a:lnTo>
                                          <a:lnTo>
                                            <a:pt x="13" y="269"/>
                                          </a:lnTo>
                                          <a:lnTo>
                                            <a:pt x="23" y="205"/>
                                          </a:lnTo>
                                          <a:lnTo>
                                            <a:pt x="44" y="153"/>
                                          </a:lnTo>
                                          <a:lnTo>
                                            <a:pt x="69" y="116"/>
                                          </a:lnTo>
                                          <a:lnTo>
                                            <a:pt x="95" y="86"/>
                                          </a:lnTo>
                                          <a:close/>
                                        </a:path>
                                      </a:pathLst>
                                    </a:custGeom>
                                    <a:solidFill>
                                      <a:srgbClr val="ff808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46800" bIns="4680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000000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grpSp>
                                  <p:nvGrpSpPr>
                                    <p:cNvPr id="396" name=""/>
                                    <p:cNvGrpSpPr/>
                                    <p:nvPr/>
                                  </p:nvGrpSpPr>
                                  <p:grpSpPr>
                                    <a:xfrm>
                                      <a:off x="3246480" y="2735280"/>
                                      <a:ext cx="387360" cy="341280"/>
                                      <a:chOff x="3246480" y="2735280"/>
                                      <a:chExt cx="387360" cy="341280"/>
                                    </a:xfrm>
                                  </p:grpSpPr>
                                  <p:sp>
                                    <p:nvSpPr>
                                      <p:cNvPr id="397" name=""/>
                                      <p:cNvSpPr/>
                                      <p:nvPr/>
                                    </p:nvSpPr>
                                    <p:spPr>
                                      <a:xfrm>
                                        <a:off x="3341520" y="2857680"/>
                                        <a:ext cx="292320" cy="218880"/>
                                      </a:xfrm>
                                      <a:custGeom>
                                        <a:avLst/>
                                        <a:gdLst/>
                                        <a:ahLst/>
                                        <a:rect l="l" t="t" r="r" b="b"/>
                                        <a:pathLst>
                                          <a:path w="919" h="689">
                                            <a:moveTo>
                                              <a:pt x="304" y="84"/>
                                            </a:moveTo>
                                            <a:lnTo>
                                              <a:pt x="326" y="56"/>
                                            </a:lnTo>
                                            <a:lnTo>
                                              <a:pt x="348" y="31"/>
                                            </a:lnTo>
                                            <a:lnTo>
                                              <a:pt x="371" y="9"/>
                                            </a:lnTo>
                                            <a:lnTo>
                                              <a:pt x="382" y="2"/>
                                            </a:lnTo>
                                            <a:lnTo>
                                              <a:pt x="396" y="0"/>
                                            </a:lnTo>
                                            <a:lnTo>
                                              <a:pt x="409" y="4"/>
                                            </a:lnTo>
                                            <a:lnTo>
                                              <a:pt x="417" y="9"/>
                                            </a:lnTo>
                                            <a:lnTo>
                                              <a:pt x="432" y="35"/>
                                            </a:lnTo>
                                            <a:lnTo>
                                              <a:pt x="453" y="81"/>
                                            </a:lnTo>
                                            <a:lnTo>
                                              <a:pt x="476" y="134"/>
                                            </a:lnTo>
                                            <a:lnTo>
                                              <a:pt x="498" y="184"/>
                                            </a:lnTo>
                                            <a:lnTo>
                                              <a:pt x="519" y="227"/>
                                            </a:lnTo>
                                            <a:lnTo>
                                              <a:pt x="558" y="287"/>
                                            </a:lnTo>
                                            <a:lnTo>
                                              <a:pt x="597" y="347"/>
                                            </a:lnTo>
                                            <a:lnTo>
                                              <a:pt x="640" y="406"/>
                                            </a:lnTo>
                                            <a:lnTo>
                                              <a:pt x="679" y="453"/>
                                            </a:lnTo>
                                            <a:lnTo>
                                              <a:pt x="722" y="488"/>
                                            </a:lnTo>
                                            <a:lnTo>
                                              <a:pt x="764" y="523"/>
                                            </a:lnTo>
                                            <a:lnTo>
                                              <a:pt x="803" y="554"/>
                                            </a:lnTo>
                                            <a:lnTo>
                                              <a:pt x="845" y="585"/>
                                            </a:lnTo>
                                            <a:lnTo>
                                              <a:pt x="897" y="622"/>
                                            </a:lnTo>
                                            <a:lnTo>
                                              <a:pt x="908" y="634"/>
                                            </a:lnTo>
                                            <a:lnTo>
                                              <a:pt x="918" y="648"/>
                                            </a:lnTo>
                                            <a:lnTo>
                                              <a:pt x="919" y="658"/>
                                            </a:lnTo>
                                            <a:lnTo>
                                              <a:pt x="914" y="672"/>
                                            </a:lnTo>
                                            <a:lnTo>
                                              <a:pt x="904" y="680"/>
                                            </a:lnTo>
                                            <a:lnTo>
                                              <a:pt x="889" y="685"/>
                                            </a:lnTo>
                                            <a:lnTo>
                                              <a:pt x="857" y="688"/>
                                            </a:lnTo>
                                            <a:lnTo>
                                              <a:pt x="820" y="689"/>
                                            </a:lnTo>
                                            <a:lnTo>
                                              <a:pt x="757" y="684"/>
                                            </a:lnTo>
                                            <a:lnTo>
                                              <a:pt x="698" y="676"/>
                                            </a:lnTo>
                                            <a:lnTo>
                                              <a:pt x="647" y="669"/>
                                            </a:lnTo>
                                            <a:lnTo>
                                              <a:pt x="583" y="657"/>
                                            </a:lnTo>
                                            <a:lnTo>
                                              <a:pt x="521" y="639"/>
                                            </a:lnTo>
                                            <a:lnTo>
                                              <a:pt x="473" y="619"/>
                                            </a:lnTo>
                                            <a:lnTo>
                                              <a:pt x="429" y="594"/>
                                            </a:lnTo>
                                            <a:lnTo>
                                              <a:pt x="365" y="567"/>
                                            </a:lnTo>
                                            <a:lnTo>
                                              <a:pt x="298" y="534"/>
                                            </a:lnTo>
                                            <a:lnTo>
                                              <a:pt x="237" y="504"/>
                                            </a:lnTo>
                                            <a:lnTo>
                                              <a:pt x="192" y="470"/>
                                            </a:lnTo>
                                            <a:lnTo>
                                              <a:pt x="149" y="440"/>
                                            </a:lnTo>
                                            <a:lnTo>
                                              <a:pt x="109" y="409"/>
                                            </a:lnTo>
                                            <a:lnTo>
                                              <a:pt x="69" y="366"/>
                                            </a:lnTo>
                                            <a:lnTo>
                                              <a:pt x="36" y="333"/>
                                            </a:lnTo>
                                            <a:lnTo>
                                              <a:pt x="7" y="302"/>
                                            </a:lnTo>
                                            <a:lnTo>
                                              <a:pt x="0" y="288"/>
                                            </a:lnTo>
                                            <a:lnTo>
                                              <a:pt x="3" y="271"/>
                                            </a:lnTo>
                                            <a:lnTo>
                                              <a:pt x="13" y="254"/>
                                            </a:lnTo>
                                            <a:lnTo>
                                              <a:pt x="31" y="242"/>
                                            </a:lnTo>
                                            <a:lnTo>
                                              <a:pt x="54" y="233"/>
                                            </a:lnTo>
                                            <a:lnTo>
                                              <a:pt x="83" y="229"/>
                                            </a:lnTo>
                                            <a:lnTo>
                                              <a:pt x="110" y="231"/>
                                            </a:lnTo>
                                            <a:lnTo>
                                              <a:pt x="131" y="236"/>
                                            </a:lnTo>
                                            <a:lnTo>
                                              <a:pt x="156" y="245"/>
                                            </a:lnTo>
                                            <a:lnTo>
                                              <a:pt x="170" y="249"/>
                                            </a:lnTo>
                                            <a:lnTo>
                                              <a:pt x="148" y="249"/>
                                            </a:lnTo>
                                            <a:lnTo>
                                              <a:pt x="126" y="247"/>
                                            </a:lnTo>
                                            <a:lnTo>
                                              <a:pt x="107" y="248"/>
                                            </a:lnTo>
                                            <a:lnTo>
                                              <a:pt x="89" y="251"/>
                                            </a:lnTo>
                                            <a:lnTo>
                                              <a:pt x="73" y="257"/>
                                            </a:lnTo>
                                            <a:lnTo>
                                              <a:pt x="57" y="265"/>
                                            </a:lnTo>
                                            <a:lnTo>
                                              <a:pt x="46" y="277"/>
                                            </a:lnTo>
                                            <a:lnTo>
                                              <a:pt x="40" y="288"/>
                                            </a:lnTo>
                                            <a:lnTo>
                                              <a:pt x="41" y="294"/>
                                            </a:lnTo>
                                            <a:lnTo>
                                              <a:pt x="46" y="302"/>
                                            </a:lnTo>
                                            <a:lnTo>
                                              <a:pt x="56" y="315"/>
                                            </a:lnTo>
                                            <a:lnTo>
                                              <a:pt x="75" y="339"/>
                                            </a:lnTo>
                                            <a:lnTo>
                                              <a:pt x="99" y="368"/>
                                            </a:lnTo>
                                            <a:lnTo>
                                              <a:pt x="128" y="391"/>
                                            </a:lnTo>
                                            <a:lnTo>
                                              <a:pt x="159" y="420"/>
                                            </a:lnTo>
                                            <a:lnTo>
                                              <a:pt x="193" y="445"/>
                                            </a:lnTo>
                                            <a:lnTo>
                                              <a:pt x="219" y="462"/>
                                            </a:lnTo>
                                            <a:lnTo>
                                              <a:pt x="241" y="477"/>
                                            </a:lnTo>
                                            <a:lnTo>
                                              <a:pt x="270" y="493"/>
                                            </a:lnTo>
                                            <a:lnTo>
                                              <a:pt x="292" y="507"/>
                                            </a:lnTo>
                                            <a:lnTo>
                                              <a:pt x="315" y="516"/>
                                            </a:lnTo>
                                            <a:lnTo>
                                              <a:pt x="334" y="520"/>
                                            </a:lnTo>
                                            <a:lnTo>
                                              <a:pt x="355" y="526"/>
                                            </a:lnTo>
                                            <a:lnTo>
                                              <a:pt x="376" y="537"/>
                                            </a:lnTo>
                                            <a:lnTo>
                                              <a:pt x="411" y="554"/>
                                            </a:lnTo>
                                            <a:lnTo>
                                              <a:pt x="448" y="572"/>
                                            </a:lnTo>
                                            <a:lnTo>
                                              <a:pt x="481" y="587"/>
                                            </a:lnTo>
                                            <a:lnTo>
                                              <a:pt x="512" y="604"/>
                                            </a:lnTo>
                                            <a:lnTo>
                                              <a:pt x="543" y="620"/>
                                            </a:lnTo>
                                            <a:lnTo>
                                              <a:pt x="570" y="625"/>
                                            </a:lnTo>
                                            <a:lnTo>
                                              <a:pt x="598" y="633"/>
                                            </a:lnTo>
                                            <a:lnTo>
                                              <a:pt x="628" y="642"/>
                                            </a:lnTo>
                                            <a:lnTo>
                                              <a:pt x="657" y="645"/>
                                            </a:lnTo>
                                            <a:lnTo>
                                              <a:pt x="693" y="649"/>
                                            </a:lnTo>
                                            <a:lnTo>
                                              <a:pt x="730" y="652"/>
                                            </a:lnTo>
                                            <a:lnTo>
                                              <a:pt x="764" y="655"/>
                                            </a:lnTo>
                                            <a:lnTo>
                                              <a:pt x="777" y="653"/>
                                            </a:lnTo>
                                            <a:lnTo>
                                              <a:pt x="791" y="647"/>
                                            </a:lnTo>
                                            <a:lnTo>
                                              <a:pt x="799" y="635"/>
                                            </a:lnTo>
                                            <a:lnTo>
                                              <a:pt x="803" y="621"/>
                                            </a:lnTo>
                                            <a:lnTo>
                                              <a:pt x="801" y="609"/>
                                            </a:lnTo>
                                            <a:lnTo>
                                              <a:pt x="787" y="589"/>
                                            </a:lnTo>
                                            <a:lnTo>
                                              <a:pt x="764" y="562"/>
                                            </a:lnTo>
                                            <a:lnTo>
                                              <a:pt x="739" y="540"/>
                                            </a:lnTo>
                                            <a:lnTo>
                                              <a:pt x="716" y="520"/>
                                            </a:lnTo>
                                            <a:lnTo>
                                              <a:pt x="688" y="502"/>
                                            </a:lnTo>
                                            <a:lnTo>
                                              <a:pt x="661" y="483"/>
                                            </a:lnTo>
                                            <a:lnTo>
                                              <a:pt x="635" y="461"/>
                                            </a:lnTo>
                                            <a:lnTo>
                                              <a:pt x="616" y="437"/>
                                            </a:lnTo>
                                            <a:lnTo>
                                              <a:pt x="597" y="412"/>
                                            </a:lnTo>
                                            <a:lnTo>
                                              <a:pt x="577" y="380"/>
                                            </a:lnTo>
                                            <a:lnTo>
                                              <a:pt x="561" y="355"/>
                                            </a:lnTo>
                                            <a:lnTo>
                                              <a:pt x="545" y="330"/>
                                            </a:lnTo>
                                            <a:lnTo>
                                              <a:pt x="526" y="299"/>
                                            </a:lnTo>
                                            <a:lnTo>
                                              <a:pt x="508" y="268"/>
                                            </a:lnTo>
                                            <a:lnTo>
                                              <a:pt x="493" y="240"/>
                                            </a:lnTo>
                                            <a:lnTo>
                                              <a:pt x="478" y="211"/>
                                            </a:lnTo>
                                            <a:lnTo>
                                              <a:pt x="463" y="181"/>
                                            </a:lnTo>
                                            <a:lnTo>
                                              <a:pt x="449" y="154"/>
                                            </a:lnTo>
                                            <a:lnTo>
                                              <a:pt x="436" y="128"/>
                                            </a:lnTo>
                                            <a:lnTo>
                                              <a:pt x="426" y="99"/>
                                            </a:lnTo>
                                            <a:lnTo>
                                              <a:pt x="419" y="80"/>
                                            </a:lnTo>
                                            <a:lnTo>
                                              <a:pt x="412" y="68"/>
                                            </a:lnTo>
                                            <a:lnTo>
                                              <a:pt x="401" y="59"/>
                                            </a:lnTo>
                                            <a:lnTo>
                                              <a:pt x="389" y="55"/>
                                            </a:lnTo>
                                            <a:lnTo>
                                              <a:pt x="375" y="56"/>
                                            </a:lnTo>
                                            <a:lnTo>
                                              <a:pt x="360" y="61"/>
                                            </a:lnTo>
                                            <a:lnTo>
                                              <a:pt x="344" y="70"/>
                                            </a:lnTo>
                                            <a:lnTo>
                                              <a:pt x="325" y="77"/>
                                            </a:lnTo>
                                            <a:lnTo>
                                              <a:pt x="304" y="84"/>
                                            </a:lnTo>
                                            <a:close/>
                                          </a:path>
                                        </a:pathLst>
                                      </a:custGeom>
                                      <a:solidFill>
                                        <a:srgbClr val="ff4040"/>
                                      </a:solidFill>
                                      <a:ln w="0">
                                        <a:noFill/>
                                      </a:ln>
                                    </p:spPr>
                                    <p:style>
                                      <a:lnRef idx="0"/>
                                      <a:fillRef idx="0"/>
                                      <a:effectRef idx="0"/>
                                      <a:fontRef idx="minor"/>
                                    </p:style>
                                    <p:txBody>
                                      <a:bodyPr lIns="90000" rIns="90000" tIns="46800" bIns="46800" anchor="t">
                                        <a:noAutofit/>
                                      </a:bodyPr>
                                      <a:p>
                                        <a:endParaRPr b="0" lang="en-US" sz="2400" spc="-1" strike="noStrike">
                                          <a:solidFill>
                                            <a:srgbClr val="000000"/>
                                          </a:solidFill>
                                          <a:latin typeface="Times New Roman"/>
                                        </a:endParaRPr>
                                      </a:p>
                                    </p:txBody>
                                  </p:sp>
                                  <p:sp>
                                    <p:nvSpPr>
                                      <p:cNvPr id="398" name=""/>
                                      <p:cNvSpPr/>
                                      <p:nvPr/>
                                    </p:nvSpPr>
                                    <p:spPr>
                                      <a:xfrm>
                                        <a:off x="3246480" y="2735280"/>
                                        <a:ext cx="204840" cy="198360"/>
                                      </a:xfrm>
                                      <a:custGeom>
                                        <a:avLst/>
                                        <a:gdLst/>
                                        <a:ahLst/>
                                        <a:rect l="l" t="t" r="r" b="b"/>
                                        <a:pathLst>
                                          <a:path w="645" h="627">
                                            <a:moveTo>
                                              <a:pt x="95" y="86"/>
                                            </a:moveTo>
                                            <a:lnTo>
                                              <a:pt x="127" y="60"/>
                                            </a:lnTo>
                                            <a:lnTo>
                                              <a:pt x="158" y="37"/>
                                            </a:lnTo>
                                            <a:lnTo>
                                              <a:pt x="192" y="18"/>
                                            </a:lnTo>
                                            <a:lnTo>
                                              <a:pt x="233" y="6"/>
                                            </a:lnTo>
                                            <a:lnTo>
                                              <a:pt x="268" y="2"/>
                                            </a:lnTo>
                                            <a:lnTo>
                                              <a:pt x="309" y="0"/>
                                            </a:lnTo>
                                            <a:lnTo>
                                              <a:pt x="367" y="5"/>
                                            </a:lnTo>
                                            <a:lnTo>
                                              <a:pt x="424" y="17"/>
                                            </a:lnTo>
                                            <a:lnTo>
                                              <a:pt x="460" y="42"/>
                                            </a:lnTo>
                                            <a:lnTo>
                                              <a:pt x="487" y="77"/>
                                            </a:lnTo>
                                            <a:lnTo>
                                              <a:pt x="511" y="119"/>
                                            </a:lnTo>
                                            <a:lnTo>
                                              <a:pt x="536" y="158"/>
                                            </a:lnTo>
                                            <a:lnTo>
                                              <a:pt x="566" y="192"/>
                                            </a:lnTo>
                                            <a:lnTo>
                                              <a:pt x="592" y="219"/>
                                            </a:lnTo>
                                            <a:lnTo>
                                              <a:pt x="627" y="259"/>
                                            </a:lnTo>
                                            <a:lnTo>
                                              <a:pt x="641" y="297"/>
                                            </a:lnTo>
                                            <a:lnTo>
                                              <a:pt x="645" y="326"/>
                                            </a:lnTo>
                                            <a:lnTo>
                                              <a:pt x="641" y="342"/>
                                            </a:lnTo>
                                            <a:lnTo>
                                              <a:pt x="632" y="370"/>
                                            </a:lnTo>
                                            <a:lnTo>
                                              <a:pt x="617" y="396"/>
                                            </a:lnTo>
                                            <a:lnTo>
                                              <a:pt x="595" y="424"/>
                                            </a:lnTo>
                                            <a:lnTo>
                                              <a:pt x="569" y="461"/>
                                            </a:lnTo>
                                            <a:lnTo>
                                              <a:pt x="545" y="488"/>
                                            </a:lnTo>
                                            <a:lnTo>
                                              <a:pt x="559" y="462"/>
                                            </a:lnTo>
                                            <a:lnTo>
                                              <a:pt x="569" y="445"/>
                                            </a:lnTo>
                                            <a:lnTo>
                                              <a:pt x="582" y="424"/>
                                            </a:lnTo>
                                            <a:lnTo>
                                              <a:pt x="591" y="407"/>
                                            </a:lnTo>
                                            <a:lnTo>
                                              <a:pt x="604" y="381"/>
                                            </a:lnTo>
                                            <a:lnTo>
                                              <a:pt x="611" y="355"/>
                                            </a:lnTo>
                                            <a:lnTo>
                                              <a:pt x="618" y="327"/>
                                            </a:lnTo>
                                            <a:lnTo>
                                              <a:pt x="620" y="312"/>
                                            </a:lnTo>
                                            <a:lnTo>
                                              <a:pt x="616" y="297"/>
                                            </a:lnTo>
                                            <a:lnTo>
                                              <a:pt x="608" y="279"/>
                                            </a:lnTo>
                                            <a:lnTo>
                                              <a:pt x="602" y="263"/>
                                            </a:lnTo>
                                            <a:lnTo>
                                              <a:pt x="589" y="251"/>
                                            </a:lnTo>
                                            <a:lnTo>
                                              <a:pt x="574" y="238"/>
                                            </a:lnTo>
                                            <a:lnTo>
                                              <a:pt x="562" y="221"/>
                                            </a:lnTo>
                                            <a:lnTo>
                                              <a:pt x="546" y="203"/>
                                            </a:lnTo>
                                            <a:lnTo>
                                              <a:pt x="531" y="181"/>
                                            </a:lnTo>
                                            <a:lnTo>
                                              <a:pt x="515" y="159"/>
                                            </a:lnTo>
                                            <a:lnTo>
                                              <a:pt x="500" y="141"/>
                                            </a:lnTo>
                                            <a:lnTo>
                                              <a:pt x="488" y="120"/>
                                            </a:lnTo>
                                            <a:lnTo>
                                              <a:pt x="477" y="97"/>
                                            </a:lnTo>
                                            <a:lnTo>
                                              <a:pt x="468" y="81"/>
                                            </a:lnTo>
                                            <a:lnTo>
                                              <a:pt x="453" y="68"/>
                                            </a:lnTo>
                                            <a:lnTo>
                                              <a:pt x="437" y="55"/>
                                            </a:lnTo>
                                            <a:lnTo>
                                              <a:pt x="421" y="43"/>
                                            </a:lnTo>
                                            <a:lnTo>
                                              <a:pt x="403" y="35"/>
                                            </a:lnTo>
                                            <a:lnTo>
                                              <a:pt x="385" y="31"/>
                                            </a:lnTo>
                                            <a:lnTo>
                                              <a:pt x="355" y="29"/>
                                            </a:lnTo>
                                            <a:lnTo>
                                              <a:pt x="325" y="29"/>
                                            </a:lnTo>
                                            <a:lnTo>
                                              <a:pt x="302" y="30"/>
                                            </a:lnTo>
                                            <a:lnTo>
                                              <a:pt x="280" y="29"/>
                                            </a:lnTo>
                                            <a:lnTo>
                                              <a:pt x="259" y="31"/>
                                            </a:lnTo>
                                            <a:lnTo>
                                              <a:pt x="236" y="36"/>
                                            </a:lnTo>
                                            <a:lnTo>
                                              <a:pt x="215" y="41"/>
                                            </a:lnTo>
                                            <a:lnTo>
                                              <a:pt x="195" y="49"/>
                                            </a:lnTo>
                                            <a:lnTo>
                                              <a:pt x="176" y="60"/>
                                            </a:lnTo>
                                            <a:lnTo>
                                              <a:pt x="158" y="74"/>
                                            </a:lnTo>
                                            <a:lnTo>
                                              <a:pt x="138" y="87"/>
                                            </a:lnTo>
                                            <a:lnTo>
                                              <a:pt x="119" y="103"/>
                                            </a:lnTo>
                                            <a:lnTo>
                                              <a:pt x="99" y="124"/>
                                            </a:lnTo>
                                            <a:lnTo>
                                              <a:pt x="83" y="143"/>
                                            </a:lnTo>
                                            <a:lnTo>
                                              <a:pt x="72" y="160"/>
                                            </a:lnTo>
                                            <a:lnTo>
                                              <a:pt x="65" y="181"/>
                                            </a:lnTo>
                                            <a:lnTo>
                                              <a:pt x="56" y="202"/>
                                            </a:lnTo>
                                            <a:lnTo>
                                              <a:pt x="47" y="223"/>
                                            </a:lnTo>
                                            <a:lnTo>
                                              <a:pt x="37" y="247"/>
                                            </a:lnTo>
                                            <a:lnTo>
                                              <a:pt x="35" y="275"/>
                                            </a:lnTo>
                                            <a:lnTo>
                                              <a:pt x="32" y="300"/>
                                            </a:lnTo>
                                            <a:lnTo>
                                              <a:pt x="29" y="324"/>
                                            </a:lnTo>
                                            <a:lnTo>
                                              <a:pt x="29" y="340"/>
                                            </a:lnTo>
                                            <a:lnTo>
                                              <a:pt x="31" y="361"/>
                                            </a:lnTo>
                                            <a:lnTo>
                                              <a:pt x="36" y="384"/>
                                            </a:lnTo>
                                            <a:lnTo>
                                              <a:pt x="40" y="408"/>
                                            </a:lnTo>
                                            <a:lnTo>
                                              <a:pt x="51" y="436"/>
                                            </a:lnTo>
                                            <a:lnTo>
                                              <a:pt x="61" y="462"/>
                                            </a:lnTo>
                                            <a:lnTo>
                                              <a:pt x="68" y="477"/>
                                            </a:lnTo>
                                            <a:lnTo>
                                              <a:pt x="80" y="496"/>
                                            </a:lnTo>
                                            <a:lnTo>
                                              <a:pt x="95" y="519"/>
                                            </a:lnTo>
                                            <a:lnTo>
                                              <a:pt x="108" y="535"/>
                                            </a:lnTo>
                                            <a:lnTo>
                                              <a:pt x="120" y="551"/>
                                            </a:lnTo>
                                            <a:lnTo>
                                              <a:pt x="136" y="566"/>
                                            </a:lnTo>
                                            <a:lnTo>
                                              <a:pt x="155" y="581"/>
                                            </a:lnTo>
                                            <a:lnTo>
                                              <a:pt x="170" y="593"/>
                                            </a:lnTo>
                                            <a:lnTo>
                                              <a:pt x="183" y="600"/>
                                            </a:lnTo>
                                            <a:lnTo>
                                              <a:pt x="202" y="607"/>
                                            </a:lnTo>
                                            <a:lnTo>
                                              <a:pt x="218" y="611"/>
                                            </a:lnTo>
                                            <a:lnTo>
                                              <a:pt x="235" y="614"/>
                                            </a:lnTo>
                                            <a:lnTo>
                                              <a:pt x="253" y="615"/>
                                            </a:lnTo>
                                            <a:lnTo>
                                              <a:pt x="282" y="612"/>
                                            </a:lnTo>
                                            <a:lnTo>
                                              <a:pt x="248" y="622"/>
                                            </a:lnTo>
                                            <a:lnTo>
                                              <a:pt x="221" y="627"/>
                                            </a:lnTo>
                                            <a:lnTo>
                                              <a:pt x="195" y="623"/>
                                            </a:lnTo>
                                            <a:lnTo>
                                              <a:pt x="169" y="615"/>
                                            </a:lnTo>
                                            <a:lnTo>
                                              <a:pt x="142" y="601"/>
                                            </a:lnTo>
                                            <a:lnTo>
                                              <a:pt x="122" y="583"/>
                                            </a:lnTo>
                                            <a:lnTo>
                                              <a:pt x="100" y="560"/>
                                            </a:lnTo>
                                            <a:lnTo>
                                              <a:pt x="72" y="524"/>
                                            </a:lnTo>
                                            <a:lnTo>
                                              <a:pt x="41" y="476"/>
                                            </a:lnTo>
                                            <a:lnTo>
                                              <a:pt x="18" y="431"/>
                                            </a:lnTo>
                                            <a:lnTo>
                                              <a:pt x="3" y="387"/>
                                            </a:lnTo>
                                            <a:lnTo>
                                              <a:pt x="0" y="356"/>
                                            </a:lnTo>
                                            <a:lnTo>
                                              <a:pt x="4" y="327"/>
                                            </a:lnTo>
                                            <a:lnTo>
                                              <a:pt x="13" y="269"/>
                                            </a:lnTo>
                                            <a:lnTo>
                                              <a:pt x="23" y="204"/>
                                            </a:lnTo>
                                            <a:lnTo>
                                              <a:pt x="44" y="153"/>
                                            </a:lnTo>
                                            <a:lnTo>
                                              <a:pt x="69" y="116"/>
                                            </a:lnTo>
                                            <a:lnTo>
                                              <a:pt x="95" y="86"/>
                                            </a:lnTo>
                                            <a:close/>
                                          </a:path>
                                        </a:pathLst>
                                      </a:custGeom>
                                      <a:solidFill>
                                        <a:srgbClr val="ff4040"/>
                                      </a:solidFill>
                                      <a:ln w="0">
                                        <a:noFill/>
                                      </a:ln>
                                    </p:spPr>
                                    <p:style>
                                      <a:lnRef idx="0"/>
                                      <a:fillRef idx="0"/>
                                      <a:effectRef idx="0"/>
                                      <a:fontRef idx="minor"/>
                                    </p:style>
                                    <p:txBody>
                                      <a:bodyPr lIns="90000" rIns="90000" tIns="46800" bIns="46800" anchor="t">
                                        <a:noAutofit/>
                                      </a:bodyPr>
                                      <a:p>
                                        <a:endParaRPr b="0" lang="en-US" sz="2400" spc="-1" strike="noStrike">
                                          <a:solidFill>
                                            <a:srgbClr val="000000"/>
                                          </a:solidFill>
                                          <a:latin typeface="Times New Roman"/>
                                        </a:endParaRPr>
                                      </a:p>
                                    </p:txBody>
                                  </p:sp>
                                </p:grpSp>
                              </p:grpSp>
                              <p:sp>
                                <p:nvSpPr>
                                  <p:cNvPr id="399" name=""/>
                                  <p:cNvSpPr/>
                                  <p:nvPr/>
                                </p:nvSpPr>
                                <p:spPr>
                                  <a:xfrm>
                                    <a:off x="3408480" y="2917800"/>
                                    <a:ext cx="142920" cy="128520"/>
                                  </a:xfrm>
                                  <a:custGeom>
                                    <a:avLst/>
                                    <a:gdLst/>
                                    <a:ahLst/>
                                    <a:rect l="l" t="t" r="r" b="b"/>
                                    <a:pathLst>
                                      <a:path w="447" h="407">
                                        <a:moveTo>
                                          <a:pt x="48" y="55"/>
                                        </a:moveTo>
                                        <a:lnTo>
                                          <a:pt x="71" y="35"/>
                                        </a:lnTo>
                                        <a:lnTo>
                                          <a:pt x="95" y="18"/>
                                        </a:lnTo>
                                        <a:lnTo>
                                          <a:pt x="111" y="7"/>
                                        </a:lnTo>
                                        <a:lnTo>
                                          <a:pt x="124" y="2"/>
                                        </a:lnTo>
                                        <a:lnTo>
                                          <a:pt x="139" y="0"/>
                                        </a:lnTo>
                                        <a:lnTo>
                                          <a:pt x="154" y="1"/>
                                        </a:lnTo>
                                        <a:lnTo>
                                          <a:pt x="171" y="8"/>
                                        </a:lnTo>
                                        <a:lnTo>
                                          <a:pt x="195" y="24"/>
                                        </a:lnTo>
                                        <a:lnTo>
                                          <a:pt x="218" y="43"/>
                                        </a:lnTo>
                                        <a:lnTo>
                                          <a:pt x="239" y="69"/>
                                        </a:lnTo>
                                        <a:lnTo>
                                          <a:pt x="256" y="96"/>
                                        </a:lnTo>
                                        <a:lnTo>
                                          <a:pt x="278" y="134"/>
                                        </a:lnTo>
                                        <a:lnTo>
                                          <a:pt x="301" y="174"/>
                                        </a:lnTo>
                                        <a:lnTo>
                                          <a:pt x="321" y="207"/>
                                        </a:lnTo>
                                        <a:lnTo>
                                          <a:pt x="341" y="240"/>
                                        </a:lnTo>
                                        <a:lnTo>
                                          <a:pt x="361" y="265"/>
                                        </a:lnTo>
                                        <a:lnTo>
                                          <a:pt x="381" y="290"/>
                                        </a:lnTo>
                                        <a:lnTo>
                                          <a:pt x="410" y="313"/>
                                        </a:lnTo>
                                        <a:lnTo>
                                          <a:pt x="432" y="338"/>
                                        </a:lnTo>
                                        <a:lnTo>
                                          <a:pt x="444" y="357"/>
                                        </a:lnTo>
                                        <a:lnTo>
                                          <a:pt x="447" y="375"/>
                                        </a:lnTo>
                                        <a:lnTo>
                                          <a:pt x="442" y="389"/>
                                        </a:lnTo>
                                        <a:lnTo>
                                          <a:pt x="433" y="399"/>
                                        </a:lnTo>
                                        <a:lnTo>
                                          <a:pt x="416" y="405"/>
                                        </a:lnTo>
                                        <a:lnTo>
                                          <a:pt x="394" y="407"/>
                                        </a:lnTo>
                                        <a:lnTo>
                                          <a:pt x="374" y="405"/>
                                        </a:lnTo>
                                        <a:lnTo>
                                          <a:pt x="338" y="397"/>
                                        </a:lnTo>
                                        <a:lnTo>
                                          <a:pt x="315" y="390"/>
                                        </a:lnTo>
                                        <a:lnTo>
                                          <a:pt x="287" y="379"/>
                                        </a:lnTo>
                                        <a:lnTo>
                                          <a:pt x="261" y="365"/>
                                        </a:lnTo>
                                        <a:lnTo>
                                          <a:pt x="235" y="350"/>
                                        </a:lnTo>
                                        <a:lnTo>
                                          <a:pt x="203" y="332"/>
                                        </a:lnTo>
                                        <a:lnTo>
                                          <a:pt x="162" y="309"/>
                                        </a:lnTo>
                                        <a:lnTo>
                                          <a:pt x="124" y="288"/>
                                        </a:lnTo>
                                        <a:lnTo>
                                          <a:pt x="94" y="269"/>
                                        </a:lnTo>
                                        <a:lnTo>
                                          <a:pt x="64" y="248"/>
                                        </a:lnTo>
                                        <a:lnTo>
                                          <a:pt x="38" y="227"/>
                                        </a:lnTo>
                                        <a:lnTo>
                                          <a:pt x="21" y="204"/>
                                        </a:lnTo>
                                        <a:lnTo>
                                          <a:pt x="9" y="183"/>
                                        </a:lnTo>
                                        <a:lnTo>
                                          <a:pt x="3" y="161"/>
                                        </a:lnTo>
                                        <a:lnTo>
                                          <a:pt x="0" y="141"/>
                                        </a:lnTo>
                                        <a:lnTo>
                                          <a:pt x="3" y="125"/>
                                        </a:lnTo>
                                        <a:lnTo>
                                          <a:pt x="8" y="108"/>
                                        </a:lnTo>
                                        <a:lnTo>
                                          <a:pt x="18" y="90"/>
                                        </a:lnTo>
                                        <a:lnTo>
                                          <a:pt x="31" y="73"/>
                                        </a:lnTo>
                                        <a:lnTo>
                                          <a:pt x="48" y="55"/>
                                        </a:lnTo>
                                        <a:close/>
                                      </a:path>
                                    </a:pathLst>
                                  </a:custGeom>
                                  <a:solidFill>
                                    <a:srgbClr val="ff0000"/>
                                  </a:solidFill>
                                  <a:ln w="0">
                                    <a:noFill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</p:grpSp>
                            <p:grpSp>
                              <p:nvGrpSpPr>
                                <p:cNvPr id="400" name=""/>
                                <p:cNvGrpSpPr/>
                                <p:nvPr/>
                              </p:nvGrpSpPr>
                              <p:grpSpPr>
                                <a:xfrm>
                                  <a:off x="3263760" y="2754360"/>
                                  <a:ext cx="169920" cy="166680"/>
                                  <a:chOff x="3263760" y="2754360"/>
                                  <a:chExt cx="169920" cy="166680"/>
                                </a:xfrm>
                              </p:grpSpPr>
                              <p:sp>
                                <p:nvSpPr>
                                  <p:cNvPr id="401" name=""/>
                                  <p:cNvSpPr/>
                                  <p:nvPr/>
                                </p:nvSpPr>
                                <p:spPr>
                                  <a:xfrm>
                                    <a:off x="3263760" y="2754360"/>
                                    <a:ext cx="169920" cy="166680"/>
                                  </a:xfrm>
                                  <a:custGeom>
                                    <a:avLst/>
                                    <a:gdLst/>
                                    <a:ahLst/>
                                    <a:rect l="l" t="t" r="r" b="b"/>
                                    <a:pathLst>
                                      <a:path w="535" h="522">
                                        <a:moveTo>
                                          <a:pt x="79" y="71"/>
                                        </a:moveTo>
                                        <a:lnTo>
                                          <a:pt x="106" y="50"/>
                                        </a:lnTo>
                                        <a:lnTo>
                                          <a:pt x="131" y="31"/>
                                        </a:lnTo>
                                        <a:lnTo>
                                          <a:pt x="160" y="16"/>
                                        </a:lnTo>
                                        <a:lnTo>
                                          <a:pt x="194" y="6"/>
                                        </a:lnTo>
                                        <a:lnTo>
                                          <a:pt x="222" y="1"/>
                                        </a:lnTo>
                                        <a:lnTo>
                                          <a:pt x="257" y="0"/>
                                        </a:lnTo>
                                        <a:lnTo>
                                          <a:pt x="305" y="5"/>
                                        </a:lnTo>
                                        <a:lnTo>
                                          <a:pt x="352" y="15"/>
                                        </a:lnTo>
                                        <a:lnTo>
                                          <a:pt x="383" y="34"/>
                                        </a:lnTo>
                                        <a:lnTo>
                                          <a:pt x="404" y="63"/>
                                        </a:lnTo>
                                        <a:lnTo>
                                          <a:pt x="424" y="99"/>
                                        </a:lnTo>
                                        <a:lnTo>
                                          <a:pt x="445" y="132"/>
                                        </a:lnTo>
                                        <a:lnTo>
                                          <a:pt x="470" y="159"/>
                                        </a:lnTo>
                                        <a:lnTo>
                                          <a:pt x="493" y="183"/>
                                        </a:lnTo>
                                        <a:lnTo>
                                          <a:pt x="522" y="217"/>
                                        </a:lnTo>
                                        <a:lnTo>
                                          <a:pt x="533" y="249"/>
                                        </a:lnTo>
                                        <a:lnTo>
                                          <a:pt x="535" y="272"/>
                                        </a:lnTo>
                                        <a:lnTo>
                                          <a:pt x="533" y="286"/>
                                        </a:lnTo>
                                        <a:lnTo>
                                          <a:pt x="526" y="309"/>
                                        </a:lnTo>
                                        <a:lnTo>
                                          <a:pt x="514" y="331"/>
                                        </a:lnTo>
                                        <a:lnTo>
                                          <a:pt x="495" y="354"/>
                                        </a:lnTo>
                                        <a:lnTo>
                                          <a:pt x="473" y="385"/>
                                        </a:lnTo>
                                        <a:lnTo>
                                          <a:pt x="453" y="408"/>
                                        </a:lnTo>
                                        <a:lnTo>
                                          <a:pt x="437" y="433"/>
                                        </a:lnTo>
                                        <a:lnTo>
                                          <a:pt x="430" y="449"/>
                                        </a:lnTo>
                                        <a:lnTo>
                                          <a:pt x="429" y="458"/>
                                        </a:lnTo>
                                        <a:lnTo>
                                          <a:pt x="434" y="465"/>
                                        </a:lnTo>
                                        <a:lnTo>
                                          <a:pt x="442" y="469"/>
                                        </a:lnTo>
                                        <a:lnTo>
                                          <a:pt x="404" y="513"/>
                                        </a:lnTo>
                                        <a:lnTo>
                                          <a:pt x="400" y="505"/>
                                        </a:lnTo>
                                        <a:lnTo>
                                          <a:pt x="378" y="494"/>
                                        </a:lnTo>
                                        <a:lnTo>
                                          <a:pt x="353" y="488"/>
                                        </a:lnTo>
                                        <a:lnTo>
                                          <a:pt x="329" y="486"/>
                                        </a:lnTo>
                                        <a:lnTo>
                                          <a:pt x="303" y="491"/>
                                        </a:lnTo>
                                        <a:lnTo>
                                          <a:pt x="272" y="499"/>
                                        </a:lnTo>
                                        <a:lnTo>
                                          <a:pt x="235" y="511"/>
                                        </a:lnTo>
                                        <a:lnTo>
                                          <a:pt x="206" y="519"/>
                                        </a:lnTo>
                                        <a:lnTo>
                                          <a:pt x="183" y="522"/>
                                        </a:lnTo>
                                        <a:lnTo>
                                          <a:pt x="162" y="520"/>
                                        </a:lnTo>
                                        <a:lnTo>
                                          <a:pt x="141" y="513"/>
                                        </a:lnTo>
                                        <a:lnTo>
                                          <a:pt x="118" y="502"/>
                                        </a:lnTo>
                                        <a:lnTo>
                                          <a:pt x="102" y="487"/>
                                        </a:lnTo>
                                        <a:lnTo>
                                          <a:pt x="83" y="467"/>
                                        </a:lnTo>
                                        <a:lnTo>
                                          <a:pt x="60" y="437"/>
                                        </a:lnTo>
                                        <a:lnTo>
                                          <a:pt x="34" y="397"/>
                                        </a:lnTo>
                                        <a:lnTo>
                                          <a:pt x="15" y="359"/>
                                        </a:lnTo>
                                        <a:lnTo>
                                          <a:pt x="2" y="322"/>
                                        </a:lnTo>
                                        <a:lnTo>
                                          <a:pt x="0" y="297"/>
                                        </a:lnTo>
                                        <a:lnTo>
                                          <a:pt x="3" y="273"/>
                                        </a:lnTo>
                                        <a:lnTo>
                                          <a:pt x="11" y="224"/>
                                        </a:lnTo>
                                        <a:lnTo>
                                          <a:pt x="19" y="170"/>
                                        </a:lnTo>
                                        <a:lnTo>
                                          <a:pt x="36" y="128"/>
                                        </a:lnTo>
                                        <a:lnTo>
                                          <a:pt x="57" y="97"/>
                                        </a:lnTo>
                                        <a:lnTo>
                                          <a:pt x="79" y="71"/>
                                        </a:lnTo>
                                        <a:close/>
                                      </a:path>
                                    </a:pathLst>
                                  </a:custGeom>
                                  <a:solidFill>
                                    <a:srgbClr val="ff4040"/>
                                  </a:solidFill>
                                  <a:ln w="0">
                                    <a:noFill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402" name=""/>
                                  <p:cNvSpPr/>
                                  <p:nvPr/>
                                </p:nvSpPr>
                                <p:spPr>
                                  <a:xfrm>
                                    <a:off x="3273480" y="2765520"/>
                                    <a:ext cx="147600" cy="145800"/>
                                  </a:xfrm>
                                  <a:custGeom>
                                    <a:avLst/>
                                    <a:gdLst/>
                                    <a:ahLst/>
                                    <a:rect l="l" t="t" r="r" b="b"/>
                                    <a:pathLst>
                                      <a:path w="466" h="457">
                                        <a:moveTo>
                                          <a:pt x="69" y="63"/>
                                        </a:moveTo>
                                        <a:lnTo>
                                          <a:pt x="91" y="43"/>
                                        </a:lnTo>
                                        <a:lnTo>
                                          <a:pt x="114" y="27"/>
                                        </a:lnTo>
                                        <a:lnTo>
                                          <a:pt x="139" y="14"/>
                                        </a:lnTo>
                                        <a:lnTo>
                                          <a:pt x="168" y="4"/>
                                        </a:lnTo>
                                        <a:lnTo>
                                          <a:pt x="192" y="0"/>
                                        </a:lnTo>
                                        <a:lnTo>
                                          <a:pt x="223" y="0"/>
                                        </a:lnTo>
                                        <a:lnTo>
                                          <a:pt x="265" y="3"/>
                                        </a:lnTo>
                                        <a:lnTo>
                                          <a:pt x="306" y="13"/>
                                        </a:lnTo>
                                        <a:lnTo>
                                          <a:pt x="334" y="30"/>
                                        </a:lnTo>
                                        <a:lnTo>
                                          <a:pt x="352" y="56"/>
                                        </a:lnTo>
                                        <a:lnTo>
                                          <a:pt x="368" y="86"/>
                                        </a:lnTo>
                                        <a:lnTo>
                                          <a:pt x="388" y="115"/>
                                        </a:lnTo>
                                        <a:lnTo>
                                          <a:pt x="409" y="140"/>
                                        </a:lnTo>
                                        <a:lnTo>
                                          <a:pt x="430" y="160"/>
                                        </a:lnTo>
                                        <a:lnTo>
                                          <a:pt x="454" y="190"/>
                                        </a:lnTo>
                                        <a:lnTo>
                                          <a:pt x="465" y="218"/>
                                        </a:lnTo>
                                        <a:lnTo>
                                          <a:pt x="466" y="238"/>
                                        </a:lnTo>
                                        <a:lnTo>
                                          <a:pt x="465" y="251"/>
                                        </a:lnTo>
                                        <a:lnTo>
                                          <a:pt x="458" y="271"/>
                                        </a:lnTo>
                                        <a:lnTo>
                                          <a:pt x="447" y="290"/>
                                        </a:lnTo>
                                        <a:lnTo>
                                          <a:pt x="432" y="311"/>
                                        </a:lnTo>
                                        <a:lnTo>
                                          <a:pt x="411" y="337"/>
                                        </a:lnTo>
                                        <a:lnTo>
                                          <a:pt x="395" y="356"/>
                                        </a:lnTo>
                                        <a:lnTo>
                                          <a:pt x="381" y="379"/>
                                        </a:lnTo>
                                        <a:lnTo>
                                          <a:pt x="374" y="392"/>
                                        </a:lnTo>
                                        <a:lnTo>
                                          <a:pt x="373" y="400"/>
                                        </a:lnTo>
                                        <a:lnTo>
                                          <a:pt x="377" y="406"/>
                                        </a:lnTo>
                                        <a:lnTo>
                                          <a:pt x="385" y="411"/>
                                        </a:lnTo>
                                        <a:lnTo>
                                          <a:pt x="352" y="450"/>
                                        </a:lnTo>
                                        <a:lnTo>
                                          <a:pt x="348" y="442"/>
                                        </a:lnTo>
                                        <a:lnTo>
                                          <a:pt x="328" y="432"/>
                                        </a:lnTo>
                                        <a:lnTo>
                                          <a:pt x="307" y="427"/>
                                        </a:lnTo>
                                        <a:lnTo>
                                          <a:pt x="285" y="425"/>
                                        </a:lnTo>
                                        <a:lnTo>
                                          <a:pt x="264" y="429"/>
                                        </a:lnTo>
                                        <a:lnTo>
                                          <a:pt x="236" y="436"/>
                                        </a:lnTo>
                                        <a:lnTo>
                                          <a:pt x="204" y="447"/>
                                        </a:lnTo>
                                        <a:lnTo>
                                          <a:pt x="179" y="455"/>
                                        </a:lnTo>
                                        <a:lnTo>
                                          <a:pt x="160" y="457"/>
                                        </a:lnTo>
                                        <a:lnTo>
                                          <a:pt x="140" y="456"/>
                                        </a:lnTo>
                                        <a:lnTo>
                                          <a:pt x="122" y="450"/>
                                        </a:lnTo>
                                        <a:lnTo>
                                          <a:pt x="102" y="439"/>
                                        </a:lnTo>
                                        <a:lnTo>
                                          <a:pt x="88" y="426"/>
                                        </a:lnTo>
                                        <a:lnTo>
                                          <a:pt x="72" y="409"/>
                                        </a:lnTo>
                                        <a:lnTo>
                                          <a:pt x="51" y="383"/>
                                        </a:lnTo>
                                        <a:lnTo>
                                          <a:pt x="29" y="348"/>
                                        </a:lnTo>
                                        <a:lnTo>
                                          <a:pt x="12" y="314"/>
                                        </a:lnTo>
                                        <a:lnTo>
                                          <a:pt x="1" y="282"/>
                                        </a:lnTo>
                                        <a:lnTo>
                                          <a:pt x="0" y="260"/>
                                        </a:lnTo>
                                        <a:lnTo>
                                          <a:pt x="2" y="239"/>
                                        </a:lnTo>
                                        <a:lnTo>
                                          <a:pt x="8" y="196"/>
                                        </a:lnTo>
                                        <a:lnTo>
                                          <a:pt x="15" y="149"/>
                                        </a:lnTo>
                                        <a:lnTo>
                                          <a:pt x="31" y="112"/>
                                        </a:lnTo>
                                        <a:lnTo>
                                          <a:pt x="49" y="85"/>
                                        </a:lnTo>
                                        <a:lnTo>
                                          <a:pt x="69" y="63"/>
                                        </a:lnTo>
                                        <a:close/>
                                      </a:path>
                                    </a:pathLst>
                                  </a:custGeom>
                                  <a:solidFill>
                                    <a:srgbClr val="ff0000"/>
                                  </a:solidFill>
                                  <a:ln w="0">
                                    <a:noFill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403" name=""/>
                                  <p:cNvSpPr/>
                                  <p:nvPr/>
                                </p:nvSpPr>
                                <p:spPr>
                                  <a:xfrm>
                                    <a:off x="3284640" y="2779560"/>
                                    <a:ext cx="123840" cy="122400"/>
                                  </a:xfrm>
                                  <a:custGeom>
                                    <a:avLst/>
                                    <a:gdLst/>
                                    <a:ahLst/>
                                    <a:rect l="l" t="t" r="r" b="b"/>
                                    <a:pathLst>
                                      <a:path w="390" h="383">
                                        <a:moveTo>
                                          <a:pt x="57" y="53"/>
                                        </a:moveTo>
                                        <a:lnTo>
                                          <a:pt x="76" y="36"/>
                                        </a:lnTo>
                                        <a:lnTo>
                                          <a:pt x="95" y="22"/>
                                        </a:lnTo>
                                        <a:lnTo>
                                          <a:pt x="115" y="11"/>
                                        </a:lnTo>
                                        <a:lnTo>
                                          <a:pt x="140" y="3"/>
                                        </a:lnTo>
                                        <a:lnTo>
                                          <a:pt x="160" y="0"/>
                                        </a:lnTo>
                                        <a:lnTo>
                                          <a:pt x="186" y="0"/>
                                        </a:lnTo>
                                        <a:lnTo>
                                          <a:pt x="221" y="2"/>
                                        </a:lnTo>
                                        <a:lnTo>
                                          <a:pt x="256" y="11"/>
                                        </a:lnTo>
                                        <a:lnTo>
                                          <a:pt x="279" y="25"/>
                                        </a:lnTo>
                                        <a:lnTo>
                                          <a:pt x="293" y="47"/>
                                        </a:lnTo>
                                        <a:lnTo>
                                          <a:pt x="308" y="72"/>
                                        </a:lnTo>
                                        <a:lnTo>
                                          <a:pt x="324" y="97"/>
                                        </a:lnTo>
                                        <a:lnTo>
                                          <a:pt x="342" y="117"/>
                                        </a:lnTo>
                                        <a:lnTo>
                                          <a:pt x="359" y="135"/>
                                        </a:lnTo>
                                        <a:lnTo>
                                          <a:pt x="379" y="159"/>
                                        </a:lnTo>
                                        <a:lnTo>
                                          <a:pt x="390" y="183"/>
                                        </a:lnTo>
                                        <a:lnTo>
                                          <a:pt x="390" y="200"/>
                                        </a:lnTo>
                                        <a:lnTo>
                                          <a:pt x="390" y="211"/>
                                        </a:lnTo>
                                        <a:lnTo>
                                          <a:pt x="383" y="227"/>
                                        </a:lnTo>
                                        <a:lnTo>
                                          <a:pt x="373" y="243"/>
                                        </a:lnTo>
                                        <a:lnTo>
                                          <a:pt x="361" y="261"/>
                                        </a:lnTo>
                                        <a:lnTo>
                                          <a:pt x="344" y="282"/>
                                        </a:lnTo>
                                        <a:lnTo>
                                          <a:pt x="330" y="299"/>
                                        </a:lnTo>
                                        <a:lnTo>
                                          <a:pt x="318" y="317"/>
                                        </a:lnTo>
                                        <a:lnTo>
                                          <a:pt x="313" y="329"/>
                                        </a:lnTo>
                                        <a:lnTo>
                                          <a:pt x="312" y="336"/>
                                        </a:lnTo>
                                        <a:lnTo>
                                          <a:pt x="315" y="341"/>
                                        </a:lnTo>
                                        <a:lnTo>
                                          <a:pt x="321" y="345"/>
                                        </a:lnTo>
                                        <a:lnTo>
                                          <a:pt x="293" y="378"/>
                                        </a:lnTo>
                                        <a:lnTo>
                                          <a:pt x="290" y="372"/>
                                        </a:lnTo>
                                        <a:lnTo>
                                          <a:pt x="274" y="362"/>
                                        </a:lnTo>
                                        <a:lnTo>
                                          <a:pt x="257" y="358"/>
                                        </a:lnTo>
                                        <a:lnTo>
                                          <a:pt x="238" y="356"/>
                                        </a:lnTo>
                                        <a:lnTo>
                                          <a:pt x="221" y="360"/>
                                        </a:lnTo>
                                        <a:lnTo>
                                          <a:pt x="197" y="367"/>
                                        </a:lnTo>
                                        <a:lnTo>
                                          <a:pt x="170" y="376"/>
                                        </a:lnTo>
                                        <a:lnTo>
                                          <a:pt x="149" y="382"/>
                                        </a:lnTo>
                                        <a:lnTo>
                                          <a:pt x="133" y="383"/>
                                        </a:lnTo>
                                        <a:lnTo>
                                          <a:pt x="117" y="383"/>
                                        </a:lnTo>
                                        <a:lnTo>
                                          <a:pt x="101" y="378"/>
                                        </a:lnTo>
                                        <a:lnTo>
                                          <a:pt x="85" y="369"/>
                                        </a:lnTo>
                                        <a:lnTo>
                                          <a:pt x="74" y="357"/>
                                        </a:lnTo>
                                        <a:lnTo>
                                          <a:pt x="59" y="343"/>
                                        </a:lnTo>
                                        <a:lnTo>
                                          <a:pt x="42" y="321"/>
                                        </a:lnTo>
                                        <a:lnTo>
                                          <a:pt x="23" y="292"/>
                                        </a:lnTo>
                                        <a:lnTo>
                                          <a:pt x="10" y="265"/>
                                        </a:lnTo>
                                        <a:lnTo>
                                          <a:pt x="0" y="237"/>
                                        </a:lnTo>
                                        <a:lnTo>
                                          <a:pt x="0" y="218"/>
                                        </a:lnTo>
                                        <a:lnTo>
                                          <a:pt x="1" y="200"/>
                                        </a:lnTo>
                                        <a:lnTo>
                                          <a:pt x="6" y="164"/>
                                        </a:lnTo>
                                        <a:lnTo>
                                          <a:pt x="12" y="124"/>
                                        </a:lnTo>
                                        <a:lnTo>
                                          <a:pt x="25" y="94"/>
                                        </a:lnTo>
                                        <a:lnTo>
                                          <a:pt x="41" y="71"/>
                                        </a:lnTo>
                                        <a:lnTo>
                                          <a:pt x="57" y="53"/>
                                        </a:lnTo>
                                        <a:close/>
                                      </a:path>
                                    </a:pathLst>
                                  </a:custGeom>
                                  <a:solidFill>
                                    <a:srgbClr val="e00000"/>
                                  </a:solidFill>
                                  <a:ln w="0">
                                    <a:noFill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404" name=""/>
                                  <p:cNvSpPr/>
                                  <p:nvPr/>
                                </p:nvSpPr>
                                <p:spPr>
                                  <a:xfrm>
                                    <a:off x="3292560" y="2790720"/>
                                    <a:ext cx="112680" cy="112680"/>
                                  </a:xfrm>
                                  <a:custGeom>
                                    <a:avLst/>
                                    <a:gdLst/>
                                    <a:ahLst/>
                                    <a:rect l="l" t="t" r="r" b="b"/>
                                    <a:pathLst>
                                      <a:path w="357" h="351">
                                        <a:moveTo>
                                          <a:pt x="53" y="47"/>
                                        </a:moveTo>
                                        <a:lnTo>
                                          <a:pt x="70" y="33"/>
                                        </a:lnTo>
                                        <a:lnTo>
                                          <a:pt x="87" y="20"/>
                                        </a:lnTo>
                                        <a:lnTo>
                                          <a:pt x="106" y="10"/>
                                        </a:lnTo>
                                        <a:lnTo>
                                          <a:pt x="128" y="2"/>
                                        </a:lnTo>
                                        <a:lnTo>
                                          <a:pt x="148" y="0"/>
                                        </a:lnTo>
                                        <a:lnTo>
                                          <a:pt x="171" y="0"/>
                                        </a:lnTo>
                                        <a:lnTo>
                                          <a:pt x="203" y="1"/>
                                        </a:lnTo>
                                        <a:lnTo>
                                          <a:pt x="235" y="10"/>
                                        </a:lnTo>
                                        <a:lnTo>
                                          <a:pt x="256" y="23"/>
                                        </a:lnTo>
                                        <a:lnTo>
                                          <a:pt x="269" y="42"/>
                                        </a:lnTo>
                                        <a:lnTo>
                                          <a:pt x="283" y="66"/>
                                        </a:lnTo>
                                        <a:lnTo>
                                          <a:pt x="298" y="89"/>
                                        </a:lnTo>
                                        <a:lnTo>
                                          <a:pt x="313" y="107"/>
                                        </a:lnTo>
                                        <a:lnTo>
                                          <a:pt x="330" y="123"/>
                                        </a:lnTo>
                                        <a:lnTo>
                                          <a:pt x="348" y="146"/>
                                        </a:lnTo>
                                        <a:lnTo>
                                          <a:pt x="357" y="167"/>
                                        </a:lnTo>
                                        <a:lnTo>
                                          <a:pt x="357" y="184"/>
                                        </a:lnTo>
                                        <a:lnTo>
                                          <a:pt x="357" y="193"/>
                                        </a:lnTo>
                                        <a:lnTo>
                                          <a:pt x="352" y="209"/>
                                        </a:lnTo>
                                        <a:lnTo>
                                          <a:pt x="343" y="224"/>
                                        </a:lnTo>
                                        <a:lnTo>
                                          <a:pt x="332" y="238"/>
                                        </a:lnTo>
                                        <a:lnTo>
                                          <a:pt x="315" y="259"/>
                                        </a:lnTo>
                                        <a:lnTo>
                                          <a:pt x="303" y="274"/>
                                        </a:lnTo>
                                        <a:lnTo>
                                          <a:pt x="292" y="292"/>
                                        </a:lnTo>
                                        <a:lnTo>
                                          <a:pt x="288" y="302"/>
                                        </a:lnTo>
                                        <a:lnTo>
                                          <a:pt x="287" y="308"/>
                                        </a:lnTo>
                                        <a:lnTo>
                                          <a:pt x="289" y="313"/>
                                        </a:lnTo>
                                        <a:lnTo>
                                          <a:pt x="295" y="316"/>
                                        </a:lnTo>
                                        <a:lnTo>
                                          <a:pt x="269" y="347"/>
                                        </a:lnTo>
                                        <a:lnTo>
                                          <a:pt x="266" y="341"/>
                                        </a:lnTo>
                                        <a:lnTo>
                                          <a:pt x="252" y="333"/>
                                        </a:lnTo>
                                        <a:lnTo>
                                          <a:pt x="236" y="329"/>
                                        </a:lnTo>
                                        <a:lnTo>
                                          <a:pt x="219" y="327"/>
                                        </a:lnTo>
                                        <a:lnTo>
                                          <a:pt x="203" y="331"/>
                                        </a:lnTo>
                                        <a:lnTo>
                                          <a:pt x="181" y="337"/>
                                        </a:lnTo>
                                        <a:lnTo>
                                          <a:pt x="156" y="345"/>
                                        </a:lnTo>
                                        <a:lnTo>
                                          <a:pt x="136" y="351"/>
                                        </a:lnTo>
                                        <a:lnTo>
                                          <a:pt x="122" y="351"/>
                                        </a:lnTo>
                                        <a:lnTo>
                                          <a:pt x="107" y="351"/>
                                        </a:lnTo>
                                        <a:lnTo>
                                          <a:pt x="93" y="347"/>
                                        </a:lnTo>
                                        <a:lnTo>
                                          <a:pt x="78" y="339"/>
                                        </a:lnTo>
                                        <a:lnTo>
                                          <a:pt x="68" y="327"/>
                                        </a:lnTo>
                                        <a:lnTo>
                                          <a:pt x="55" y="315"/>
                                        </a:lnTo>
                                        <a:lnTo>
                                          <a:pt x="38" y="295"/>
                                        </a:lnTo>
                                        <a:lnTo>
                                          <a:pt x="22" y="268"/>
                                        </a:lnTo>
                                        <a:lnTo>
                                          <a:pt x="10" y="242"/>
                                        </a:lnTo>
                                        <a:lnTo>
                                          <a:pt x="0" y="218"/>
                                        </a:lnTo>
                                        <a:lnTo>
                                          <a:pt x="0" y="200"/>
                                        </a:lnTo>
                                        <a:lnTo>
                                          <a:pt x="0" y="184"/>
                                        </a:lnTo>
                                        <a:lnTo>
                                          <a:pt x="6" y="151"/>
                                        </a:lnTo>
                                        <a:lnTo>
                                          <a:pt x="12" y="114"/>
                                        </a:lnTo>
                                        <a:lnTo>
                                          <a:pt x="23" y="85"/>
                                        </a:lnTo>
                                        <a:lnTo>
                                          <a:pt x="37" y="65"/>
                                        </a:lnTo>
                                        <a:lnTo>
                                          <a:pt x="53" y="47"/>
                                        </a:lnTo>
                                        <a:close/>
                                      </a:path>
                                    </a:pathLst>
                                  </a:custGeom>
                                  <a:solidFill>
                                    <a:srgbClr val="c00000"/>
                                  </a:solidFill>
                                  <a:ln w="0">
                                    <a:noFill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</p:grpSp>
                          </p:grpSp>
                          <p:grpSp>
                            <p:nvGrpSpPr>
                              <p:cNvPr id="405" name=""/>
                              <p:cNvGrpSpPr/>
                              <p:nvPr/>
                            </p:nvGrpSpPr>
                            <p:grpSpPr>
                              <a:xfrm>
                                <a:off x="3257640" y="2765520"/>
                                <a:ext cx="57240" cy="150840"/>
                                <a:chOff x="3257640" y="2765520"/>
                                <a:chExt cx="57240" cy="150840"/>
                              </a:xfrm>
                            </p:grpSpPr>
                            <p:grpSp>
                              <p:nvGrpSpPr>
                                <p:cNvPr id="406" name=""/>
                                <p:cNvGrpSpPr/>
                                <p:nvPr/>
                              </p:nvGrpSpPr>
                              <p:grpSpPr>
                                <a:xfrm>
                                  <a:off x="3270240" y="2765520"/>
                                  <a:ext cx="31680" cy="36360"/>
                                  <a:chOff x="3270240" y="2765520"/>
                                  <a:chExt cx="31680" cy="36360"/>
                                </a:xfrm>
                              </p:grpSpPr>
                              <p:sp>
                                <p:nvSpPr>
                                  <p:cNvPr id="407" name=""/>
                                  <p:cNvSpPr/>
                                  <p:nvPr/>
                                </p:nvSpPr>
                                <p:spPr>
                                  <a:xfrm>
                                    <a:off x="3270240" y="2765520"/>
                                    <a:ext cx="31680" cy="36360"/>
                                  </a:xfrm>
                                  <a:custGeom>
                                    <a:avLst/>
                                    <a:gdLst/>
                                    <a:ahLst/>
                                    <a:rect l="l" t="t" r="r" b="b"/>
                                    <a:pathLst>
                                      <a:path w="101" h="112">
                                        <a:moveTo>
                                          <a:pt x="16" y="35"/>
                                        </a:moveTo>
                                        <a:lnTo>
                                          <a:pt x="26" y="24"/>
                                        </a:lnTo>
                                        <a:lnTo>
                                          <a:pt x="37" y="16"/>
                                        </a:lnTo>
                                        <a:lnTo>
                                          <a:pt x="49" y="9"/>
                                        </a:lnTo>
                                        <a:lnTo>
                                          <a:pt x="64" y="2"/>
                                        </a:lnTo>
                                        <a:lnTo>
                                          <a:pt x="76" y="0"/>
                                        </a:lnTo>
                                        <a:lnTo>
                                          <a:pt x="86" y="3"/>
                                        </a:lnTo>
                                        <a:lnTo>
                                          <a:pt x="95" y="11"/>
                                        </a:lnTo>
                                        <a:lnTo>
                                          <a:pt x="99" y="22"/>
                                        </a:lnTo>
                                        <a:lnTo>
                                          <a:pt x="101" y="33"/>
                                        </a:lnTo>
                                        <a:lnTo>
                                          <a:pt x="98" y="49"/>
                                        </a:lnTo>
                                        <a:lnTo>
                                          <a:pt x="92" y="63"/>
                                        </a:lnTo>
                                        <a:lnTo>
                                          <a:pt x="84" y="75"/>
                                        </a:lnTo>
                                        <a:lnTo>
                                          <a:pt x="75" y="86"/>
                                        </a:lnTo>
                                        <a:lnTo>
                                          <a:pt x="63" y="97"/>
                                        </a:lnTo>
                                        <a:lnTo>
                                          <a:pt x="50" y="106"/>
                                        </a:lnTo>
                                        <a:lnTo>
                                          <a:pt x="37" y="111"/>
                                        </a:lnTo>
                                        <a:lnTo>
                                          <a:pt x="24" y="112"/>
                                        </a:lnTo>
                                        <a:lnTo>
                                          <a:pt x="13" y="108"/>
                                        </a:lnTo>
                                        <a:lnTo>
                                          <a:pt x="6" y="99"/>
                                        </a:lnTo>
                                        <a:lnTo>
                                          <a:pt x="1" y="89"/>
                                        </a:lnTo>
                                        <a:lnTo>
                                          <a:pt x="0" y="75"/>
                                        </a:lnTo>
                                        <a:lnTo>
                                          <a:pt x="3" y="61"/>
                                        </a:lnTo>
                                        <a:lnTo>
                                          <a:pt x="7" y="50"/>
                                        </a:lnTo>
                                        <a:lnTo>
                                          <a:pt x="16" y="35"/>
                                        </a:lnTo>
                                        <a:close/>
                                      </a:path>
                                    </a:pathLst>
                                  </a:custGeom>
                                  <a:solidFill>
                                    <a:srgbClr val="8080ff"/>
                                  </a:solidFill>
                                  <a:ln w="0">
                                    <a:noFill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-10440" bIns="-10440" anchor="t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408" name=""/>
                                  <p:cNvSpPr/>
                                  <p:nvPr/>
                                </p:nvSpPr>
                                <p:spPr>
                                  <a:xfrm>
                                    <a:off x="3278160" y="2773440"/>
                                    <a:ext cx="15840" cy="19080"/>
                                  </a:xfrm>
                                  <a:custGeom>
                                    <a:avLst/>
                                    <a:gdLst/>
                                    <a:ahLst/>
                                    <a:rect l="l" t="t" r="r" b="b"/>
                                    <a:pathLst>
                                      <a:path w="54" h="61">
                                        <a:moveTo>
                                          <a:pt x="9" y="18"/>
                                        </a:moveTo>
                                        <a:lnTo>
                                          <a:pt x="14" y="13"/>
                                        </a:lnTo>
                                        <a:lnTo>
                                          <a:pt x="20" y="7"/>
                                        </a:lnTo>
                                        <a:lnTo>
                                          <a:pt x="26" y="4"/>
                                        </a:lnTo>
                                        <a:lnTo>
                                          <a:pt x="34" y="1"/>
                                        </a:lnTo>
                                        <a:lnTo>
                                          <a:pt x="40" y="0"/>
                                        </a:lnTo>
                                        <a:lnTo>
                                          <a:pt x="45" y="1"/>
                                        </a:lnTo>
                                        <a:lnTo>
                                          <a:pt x="51" y="5"/>
                                        </a:lnTo>
                                        <a:lnTo>
                                          <a:pt x="53" y="11"/>
                                        </a:lnTo>
                                        <a:lnTo>
                                          <a:pt x="54" y="17"/>
                                        </a:lnTo>
                                        <a:lnTo>
                                          <a:pt x="53" y="27"/>
                                        </a:lnTo>
                                        <a:lnTo>
                                          <a:pt x="50" y="35"/>
                                        </a:lnTo>
                                        <a:lnTo>
                                          <a:pt x="45" y="41"/>
                                        </a:lnTo>
                                        <a:lnTo>
                                          <a:pt x="40" y="47"/>
                                        </a:lnTo>
                                        <a:lnTo>
                                          <a:pt x="34" y="54"/>
                                        </a:lnTo>
                                        <a:lnTo>
                                          <a:pt x="27" y="58"/>
                                        </a:lnTo>
                                        <a:lnTo>
                                          <a:pt x="20" y="61"/>
                                        </a:lnTo>
                                        <a:lnTo>
                                          <a:pt x="14" y="61"/>
                                        </a:lnTo>
                                        <a:lnTo>
                                          <a:pt x="8" y="59"/>
                                        </a:lnTo>
                                        <a:lnTo>
                                          <a:pt x="3" y="54"/>
                                        </a:lnTo>
                                        <a:lnTo>
                                          <a:pt x="0" y="48"/>
                                        </a:lnTo>
                                        <a:lnTo>
                                          <a:pt x="0" y="41"/>
                                        </a:lnTo>
                                        <a:lnTo>
                                          <a:pt x="1" y="34"/>
                                        </a:lnTo>
                                        <a:lnTo>
                                          <a:pt x="3" y="27"/>
                                        </a:lnTo>
                                        <a:lnTo>
                                          <a:pt x="9" y="18"/>
                                        </a:lnTo>
                                        <a:close/>
                                      </a:path>
                                    </a:pathLst>
                                  </a:custGeom>
                                  <a:solidFill>
                                    <a:srgbClr val="600060"/>
                                  </a:solidFill>
                                  <a:ln w="0">
                                    <a:noFill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-27720" bIns="-27720" anchor="t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</p:grpSp>
                            <p:sp>
                              <p:nvSpPr>
                                <p:cNvPr id="409" name=""/>
                                <p:cNvSpPr/>
                                <p:nvPr/>
                              </p:nvSpPr>
                              <p:spPr>
                                <a:xfrm>
                                  <a:off x="3257640" y="2838600"/>
                                  <a:ext cx="33120" cy="3492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101" h="111">
                                      <a:moveTo>
                                        <a:pt x="85" y="35"/>
                                      </a:moveTo>
                                      <a:lnTo>
                                        <a:pt x="75" y="24"/>
                                      </a:lnTo>
                                      <a:lnTo>
                                        <a:pt x="64" y="15"/>
                                      </a:lnTo>
                                      <a:lnTo>
                                        <a:pt x="52" y="8"/>
                                      </a:lnTo>
                                      <a:lnTo>
                                        <a:pt x="37" y="2"/>
                                      </a:lnTo>
                                      <a:lnTo>
                                        <a:pt x="26" y="0"/>
                                      </a:lnTo>
                                      <a:lnTo>
                                        <a:pt x="15" y="3"/>
                                      </a:lnTo>
                                      <a:lnTo>
                                        <a:pt x="6" y="10"/>
                                      </a:lnTo>
                                      <a:lnTo>
                                        <a:pt x="2" y="22"/>
                                      </a:lnTo>
                                      <a:lnTo>
                                        <a:pt x="0" y="33"/>
                                      </a:lnTo>
                                      <a:lnTo>
                                        <a:pt x="3" y="48"/>
                                      </a:lnTo>
                                      <a:lnTo>
                                        <a:pt x="9" y="63"/>
                                      </a:lnTo>
                                      <a:lnTo>
                                        <a:pt x="17" y="75"/>
                                      </a:lnTo>
                                      <a:lnTo>
                                        <a:pt x="27" y="85"/>
                                      </a:lnTo>
                                      <a:lnTo>
                                        <a:pt x="38" y="95"/>
                                      </a:lnTo>
                                      <a:lnTo>
                                        <a:pt x="51" y="105"/>
                                      </a:lnTo>
                                      <a:lnTo>
                                        <a:pt x="64" y="110"/>
                                      </a:lnTo>
                                      <a:lnTo>
                                        <a:pt x="77" y="111"/>
                                      </a:lnTo>
                                      <a:lnTo>
                                        <a:pt x="88" y="107"/>
                                      </a:lnTo>
                                      <a:lnTo>
                                        <a:pt x="95" y="97"/>
                                      </a:lnTo>
                                      <a:lnTo>
                                        <a:pt x="100" y="87"/>
                                      </a:lnTo>
                                      <a:lnTo>
                                        <a:pt x="101" y="75"/>
                                      </a:lnTo>
                                      <a:lnTo>
                                        <a:pt x="98" y="61"/>
                                      </a:lnTo>
                                      <a:lnTo>
                                        <a:pt x="94" y="49"/>
                                      </a:lnTo>
                                      <a:lnTo>
                                        <a:pt x="85" y="35"/>
                                      </a:lnTo>
                                      <a:close/>
                                    </a:path>
                                  </a:pathLst>
                                </a:custGeom>
                                <a:solidFill>
                                  <a:srgbClr val="a000a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11880" bIns="-1188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410" name=""/>
                                <p:cNvSpPr/>
                                <p:nvPr/>
                              </p:nvSpPr>
                              <p:spPr>
                                <a:xfrm>
                                  <a:off x="3286080" y="2879640"/>
                                  <a:ext cx="28800" cy="3672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91" h="114">
                                      <a:moveTo>
                                        <a:pt x="79" y="37"/>
                                      </a:moveTo>
                                      <a:lnTo>
                                        <a:pt x="71" y="23"/>
                                      </a:lnTo>
                                      <a:lnTo>
                                        <a:pt x="62" y="12"/>
                                      </a:lnTo>
                                      <a:lnTo>
                                        <a:pt x="51" y="4"/>
                                      </a:lnTo>
                                      <a:lnTo>
                                        <a:pt x="37" y="0"/>
                                      </a:lnTo>
                                      <a:lnTo>
                                        <a:pt x="27" y="3"/>
                                      </a:lnTo>
                                      <a:lnTo>
                                        <a:pt x="17" y="11"/>
                                      </a:lnTo>
                                      <a:lnTo>
                                        <a:pt x="7" y="19"/>
                                      </a:lnTo>
                                      <a:lnTo>
                                        <a:pt x="2" y="29"/>
                                      </a:lnTo>
                                      <a:lnTo>
                                        <a:pt x="0" y="38"/>
                                      </a:lnTo>
                                      <a:lnTo>
                                        <a:pt x="1" y="48"/>
                                      </a:lnTo>
                                      <a:lnTo>
                                        <a:pt x="3" y="62"/>
                                      </a:lnTo>
                                      <a:lnTo>
                                        <a:pt x="10" y="77"/>
                                      </a:lnTo>
                                      <a:lnTo>
                                        <a:pt x="18" y="88"/>
                                      </a:lnTo>
                                      <a:lnTo>
                                        <a:pt x="28" y="99"/>
                                      </a:lnTo>
                                      <a:lnTo>
                                        <a:pt x="41" y="108"/>
                                      </a:lnTo>
                                      <a:lnTo>
                                        <a:pt x="54" y="113"/>
                                      </a:lnTo>
                                      <a:lnTo>
                                        <a:pt x="67" y="114"/>
                                      </a:lnTo>
                                      <a:lnTo>
                                        <a:pt x="78" y="110"/>
                                      </a:lnTo>
                                      <a:lnTo>
                                        <a:pt x="85" y="101"/>
                                      </a:lnTo>
                                      <a:lnTo>
                                        <a:pt x="90" y="91"/>
                                      </a:lnTo>
                                      <a:lnTo>
                                        <a:pt x="91" y="77"/>
                                      </a:lnTo>
                                      <a:lnTo>
                                        <a:pt x="88" y="63"/>
                                      </a:lnTo>
                                      <a:lnTo>
                                        <a:pt x="85" y="49"/>
                                      </a:lnTo>
                                      <a:lnTo>
                                        <a:pt x="79" y="37"/>
                                      </a:lnTo>
                                      <a:close/>
                                    </a:path>
                                  </a:pathLst>
                                </a:custGeom>
                                <a:solidFill>
                                  <a:srgbClr val="a000a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10080" bIns="-1008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</p:grpSp>
                        <p:grpSp>
                          <p:nvGrpSpPr>
                            <p:cNvPr id="411" name=""/>
                            <p:cNvGrpSpPr/>
                            <p:nvPr/>
                          </p:nvGrpSpPr>
                          <p:grpSpPr>
                            <a:xfrm>
                              <a:off x="3359160" y="2841480"/>
                              <a:ext cx="206280" cy="190800"/>
                              <a:chOff x="3359160" y="2841480"/>
                              <a:chExt cx="206280" cy="190800"/>
                            </a:xfrm>
                          </p:grpSpPr>
                          <p:sp>
                            <p:nvSpPr>
                              <p:cNvPr id="412" name=""/>
                              <p:cNvSpPr/>
                              <p:nvPr/>
                            </p:nvSpPr>
                            <p:spPr>
                              <a:xfrm>
                                <a:off x="3406680" y="2887560"/>
                                <a:ext cx="120600" cy="10188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380" h="322">
                                    <a:moveTo>
                                      <a:pt x="10" y="0"/>
                                    </a:moveTo>
                                    <a:lnTo>
                                      <a:pt x="3" y="34"/>
                                    </a:lnTo>
                                    <a:lnTo>
                                      <a:pt x="0" y="61"/>
                                    </a:lnTo>
                                    <a:lnTo>
                                      <a:pt x="6" y="92"/>
                                    </a:lnTo>
                                    <a:lnTo>
                                      <a:pt x="18" y="114"/>
                                    </a:lnTo>
                                    <a:lnTo>
                                      <a:pt x="33" y="127"/>
                                    </a:lnTo>
                                    <a:lnTo>
                                      <a:pt x="59" y="148"/>
                                    </a:lnTo>
                                    <a:lnTo>
                                      <a:pt x="84" y="163"/>
                                    </a:lnTo>
                                    <a:lnTo>
                                      <a:pt x="121" y="179"/>
                                    </a:lnTo>
                                    <a:lnTo>
                                      <a:pt x="161" y="194"/>
                                    </a:lnTo>
                                    <a:lnTo>
                                      <a:pt x="199" y="206"/>
                                    </a:lnTo>
                                    <a:lnTo>
                                      <a:pt x="239" y="219"/>
                                    </a:lnTo>
                                    <a:lnTo>
                                      <a:pt x="268" y="234"/>
                                    </a:lnTo>
                                    <a:lnTo>
                                      <a:pt x="300" y="252"/>
                                    </a:lnTo>
                                    <a:lnTo>
                                      <a:pt x="330" y="273"/>
                                    </a:lnTo>
                                    <a:lnTo>
                                      <a:pt x="355" y="295"/>
                                    </a:lnTo>
                                    <a:lnTo>
                                      <a:pt x="380" y="322"/>
                                    </a:lnTo>
                                  </a:path>
                                </a:pathLst>
                              </a:custGeom>
                              <a:noFill/>
                              <a:ln w="4680">
                                <a:solidFill>
                                  <a:srgbClr val="ffc0c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413" name=""/>
                              <p:cNvSpPr/>
                              <p:nvPr/>
                            </p:nvSpPr>
                            <p:spPr>
                              <a:xfrm>
                                <a:off x="3359160" y="2906640"/>
                                <a:ext cx="139680" cy="125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443" h="393">
                                    <a:moveTo>
                                      <a:pt x="0" y="0"/>
                                    </a:moveTo>
                                    <a:lnTo>
                                      <a:pt x="34" y="9"/>
                                    </a:lnTo>
                                    <a:lnTo>
                                      <a:pt x="65" y="18"/>
                                    </a:lnTo>
                                    <a:lnTo>
                                      <a:pt x="95" y="30"/>
                                    </a:lnTo>
                                    <a:lnTo>
                                      <a:pt x="117" y="43"/>
                                    </a:lnTo>
                                    <a:lnTo>
                                      <a:pt x="135" y="65"/>
                                    </a:lnTo>
                                    <a:lnTo>
                                      <a:pt x="150" y="93"/>
                                    </a:lnTo>
                                    <a:lnTo>
                                      <a:pt x="160" y="117"/>
                                    </a:lnTo>
                                    <a:lnTo>
                                      <a:pt x="169" y="148"/>
                                    </a:lnTo>
                                    <a:lnTo>
                                      <a:pt x="180" y="183"/>
                                    </a:lnTo>
                                    <a:lnTo>
                                      <a:pt x="193" y="214"/>
                                    </a:lnTo>
                                    <a:lnTo>
                                      <a:pt x="212" y="242"/>
                                    </a:lnTo>
                                    <a:lnTo>
                                      <a:pt x="233" y="273"/>
                                    </a:lnTo>
                                    <a:lnTo>
                                      <a:pt x="253" y="295"/>
                                    </a:lnTo>
                                    <a:lnTo>
                                      <a:pt x="280" y="316"/>
                                    </a:lnTo>
                                    <a:lnTo>
                                      <a:pt x="309" y="335"/>
                                    </a:lnTo>
                                    <a:lnTo>
                                      <a:pt x="343" y="350"/>
                                    </a:lnTo>
                                    <a:lnTo>
                                      <a:pt x="382" y="368"/>
                                    </a:lnTo>
                                    <a:lnTo>
                                      <a:pt x="415" y="381"/>
                                    </a:lnTo>
                                    <a:lnTo>
                                      <a:pt x="443" y="393"/>
                                    </a:lnTo>
                                  </a:path>
                                </a:pathLst>
                              </a:custGeom>
                              <a:noFill/>
                              <a:ln w="4680">
                                <a:solidFill>
                                  <a:srgbClr val="ffc0c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414" name=""/>
                              <p:cNvSpPr/>
                              <p:nvPr/>
                            </p:nvSpPr>
                            <p:spPr>
                              <a:xfrm>
                                <a:off x="3368520" y="2841480"/>
                                <a:ext cx="196920" cy="1908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618" h="602">
                                    <a:moveTo>
                                      <a:pt x="0" y="0"/>
                                    </a:moveTo>
                                    <a:lnTo>
                                      <a:pt x="7" y="41"/>
                                    </a:lnTo>
                                    <a:lnTo>
                                      <a:pt x="18" y="82"/>
                                    </a:lnTo>
                                    <a:lnTo>
                                      <a:pt x="35" y="128"/>
                                    </a:lnTo>
                                    <a:lnTo>
                                      <a:pt x="55" y="163"/>
                                    </a:lnTo>
                                    <a:lnTo>
                                      <a:pt x="83" y="202"/>
                                    </a:lnTo>
                                    <a:lnTo>
                                      <a:pt x="104" y="237"/>
                                    </a:lnTo>
                                    <a:lnTo>
                                      <a:pt x="129" y="280"/>
                                    </a:lnTo>
                                    <a:lnTo>
                                      <a:pt x="157" y="328"/>
                                    </a:lnTo>
                                    <a:lnTo>
                                      <a:pt x="176" y="356"/>
                                    </a:lnTo>
                                    <a:lnTo>
                                      <a:pt x="199" y="385"/>
                                    </a:lnTo>
                                    <a:lnTo>
                                      <a:pt x="226" y="415"/>
                                    </a:lnTo>
                                    <a:lnTo>
                                      <a:pt x="260" y="445"/>
                                    </a:lnTo>
                                    <a:lnTo>
                                      <a:pt x="304" y="482"/>
                                    </a:lnTo>
                                    <a:lnTo>
                                      <a:pt x="342" y="512"/>
                                    </a:lnTo>
                                    <a:lnTo>
                                      <a:pt x="385" y="537"/>
                                    </a:lnTo>
                                    <a:lnTo>
                                      <a:pt x="432" y="558"/>
                                    </a:lnTo>
                                    <a:lnTo>
                                      <a:pt x="485" y="578"/>
                                    </a:lnTo>
                                    <a:lnTo>
                                      <a:pt x="525" y="589"/>
                                    </a:lnTo>
                                    <a:lnTo>
                                      <a:pt x="573" y="598"/>
                                    </a:lnTo>
                                    <a:lnTo>
                                      <a:pt x="618" y="602"/>
                                    </a:lnTo>
                                  </a:path>
                                </a:pathLst>
                              </a:custGeom>
                              <a:noFill/>
                              <a:ln w="4680">
                                <a:solidFill>
                                  <a:srgbClr val="ffc0c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</p:grpSp>
                  <p:grpSp>
                    <p:nvGrpSpPr>
                      <p:cNvPr id="415" name=""/>
                      <p:cNvGrpSpPr/>
                      <p:nvPr/>
                    </p:nvGrpSpPr>
                    <p:grpSpPr>
                      <a:xfrm>
                        <a:off x="3414600" y="2836800"/>
                        <a:ext cx="297000" cy="241200"/>
                        <a:chOff x="3414600" y="2836800"/>
                        <a:chExt cx="297000" cy="241200"/>
                      </a:xfrm>
                    </p:grpSpPr>
                    <p:grpSp>
                      <p:nvGrpSpPr>
                        <p:cNvPr id="416" name=""/>
                        <p:cNvGrpSpPr/>
                        <p:nvPr/>
                      </p:nvGrpSpPr>
                      <p:grpSpPr>
                        <a:xfrm>
                          <a:off x="3527280" y="2957400"/>
                          <a:ext cx="181080" cy="120600"/>
                          <a:chOff x="3527280" y="2957400"/>
                          <a:chExt cx="181080" cy="120600"/>
                        </a:xfrm>
                      </p:grpSpPr>
                      <p:grpSp>
                        <p:nvGrpSpPr>
                          <p:cNvPr id="417" name=""/>
                          <p:cNvGrpSpPr/>
                          <p:nvPr/>
                        </p:nvGrpSpPr>
                        <p:grpSpPr>
                          <a:xfrm>
                            <a:off x="3637080" y="2957400"/>
                            <a:ext cx="71280" cy="60480"/>
                            <a:chOff x="3637080" y="2957400"/>
                            <a:chExt cx="71280" cy="60480"/>
                          </a:xfrm>
                        </p:grpSpPr>
                        <p:sp>
                          <p:nvSpPr>
                            <p:cNvPr id="418" name=""/>
                            <p:cNvSpPr/>
                            <p:nvPr/>
                          </p:nvSpPr>
                          <p:spPr>
                            <a:xfrm>
                              <a:off x="3666960" y="2960640"/>
                              <a:ext cx="8280" cy="3348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27" h="101">
                                  <a:moveTo>
                                    <a:pt x="14" y="0"/>
                                  </a:moveTo>
                                  <a:lnTo>
                                    <a:pt x="21" y="21"/>
                                  </a:lnTo>
                                  <a:lnTo>
                                    <a:pt x="27" y="51"/>
                                  </a:lnTo>
                                  <a:lnTo>
                                    <a:pt x="24" y="69"/>
                                  </a:lnTo>
                                  <a:lnTo>
                                    <a:pt x="11" y="89"/>
                                  </a:lnTo>
                                  <a:lnTo>
                                    <a:pt x="0" y="101"/>
                                  </a:lnTo>
                                </a:path>
                              </a:pathLst>
                            </a:custGeom>
                            <a:noFill/>
                            <a:ln w="3240">
                              <a:solidFill>
                                <a:srgbClr val="8080ff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13320" bIns="-133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419" name=""/>
                            <p:cNvSpPr/>
                            <p:nvPr/>
                          </p:nvSpPr>
                          <p:spPr>
                            <a:xfrm>
                              <a:off x="3637080" y="2975040"/>
                              <a:ext cx="39600" cy="4284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124" h="137">
                                  <a:moveTo>
                                    <a:pt x="0" y="0"/>
                                  </a:moveTo>
                                  <a:lnTo>
                                    <a:pt x="30" y="5"/>
                                  </a:lnTo>
                                  <a:lnTo>
                                    <a:pt x="61" y="11"/>
                                  </a:lnTo>
                                  <a:lnTo>
                                    <a:pt x="75" y="20"/>
                                  </a:lnTo>
                                  <a:lnTo>
                                    <a:pt x="89" y="40"/>
                                  </a:lnTo>
                                  <a:lnTo>
                                    <a:pt x="92" y="61"/>
                                  </a:lnTo>
                                  <a:lnTo>
                                    <a:pt x="104" y="85"/>
                                  </a:lnTo>
                                  <a:lnTo>
                                    <a:pt x="115" y="109"/>
                                  </a:lnTo>
                                  <a:lnTo>
                                    <a:pt x="124" y="137"/>
                                  </a:lnTo>
                                </a:path>
                              </a:pathLst>
                            </a:custGeom>
                            <a:noFill/>
                            <a:ln w="3240">
                              <a:solidFill>
                                <a:srgbClr val="8080ff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3960" bIns="-396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420" name=""/>
                            <p:cNvSpPr/>
                            <p:nvPr/>
                          </p:nvSpPr>
                          <p:spPr>
                            <a:xfrm>
                              <a:off x="3693960" y="2957400"/>
                              <a:ext cx="14400" cy="5256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45" h="162">
                                  <a:moveTo>
                                    <a:pt x="0" y="80"/>
                                  </a:moveTo>
                                  <a:lnTo>
                                    <a:pt x="2" y="110"/>
                                  </a:lnTo>
                                  <a:lnTo>
                                    <a:pt x="6" y="138"/>
                                  </a:lnTo>
                                  <a:lnTo>
                                    <a:pt x="17" y="151"/>
                                  </a:lnTo>
                                  <a:lnTo>
                                    <a:pt x="45" y="162"/>
                                  </a:lnTo>
                                  <a:lnTo>
                                    <a:pt x="45" y="0"/>
                                  </a:lnTo>
                                </a:path>
                              </a:pathLst>
                            </a:custGeom>
                            <a:noFill/>
                            <a:ln w="3240">
                              <a:solidFill>
                                <a:srgbClr val="8080ff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5760" bIns="576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421" name=""/>
                          <p:cNvGrpSpPr/>
                          <p:nvPr/>
                        </p:nvGrpSpPr>
                        <p:grpSpPr>
                          <a:xfrm>
                            <a:off x="3527280" y="3041640"/>
                            <a:ext cx="96840" cy="36360"/>
                            <a:chOff x="3527280" y="3041640"/>
                            <a:chExt cx="96840" cy="36360"/>
                          </a:xfrm>
                        </p:grpSpPr>
                        <p:sp>
                          <p:nvSpPr>
                            <p:cNvPr id="422" name=""/>
                            <p:cNvSpPr/>
                            <p:nvPr/>
                          </p:nvSpPr>
                          <p:spPr>
                            <a:xfrm>
                              <a:off x="3562200" y="3046320"/>
                              <a:ext cx="57240" cy="792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179" h="24">
                                  <a:moveTo>
                                    <a:pt x="0" y="0"/>
                                  </a:moveTo>
                                  <a:lnTo>
                                    <a:pt x="43" y="13"/>
                                  </a:lnTo>
                                  <a:lnTo>
                                    <a:pt x="80" y="21"/>
                                  </a:lnTo>
                                  <a:lnTo>
                                    <a:pt x="124" y="24"/>
                                  </a:lnTo>
                                  <a:lnTo>
                                    <a:pt x="179" y="16"/>
                                  </a:lnTo>
                                </a:path>
                              </a:pathLst>
                            </a:custGeom>
                            <a:noFill/>
                            <a:ln w="3240">
                              <a:solidFill>
                                <a:srgbClr val="8080ff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38880" bIns="-3888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423" name=""/>
                            <p:cNvSpPr/>
                            <p:nvPr/>
                          </p:nvSpPr>
                          <p:spPr>
                            <a:xfrm>
                              <a:off x="3587760" y="3041640"/>
                              <a:ext cx="11160" cy="1260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35" h="42">
                                  <a:moveTo>
                                    <a:pt x="0" y="0"/>
                                  </a:moveTo>
                                  <a:lnTo>
                                    <a:pt x="22" y="20"/>
                                  </a:lnTo>
                                  <a:lnTo>
                                    <a:pt x="35" y="42"/>
                                  </a:lnTo>
                                </a:path>
                              </a:pathLst>
                            </a:custGeom>
                            <a:noFill/>
                            <a:ln w="3240">
                              <a:solidFill>
                                <a:srgbClr val="8080ff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34200" bIns="-342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424" name=""/>
                            <p:cNvSpPr/>
                            <p:nvPr/>
                          </p:nvSpPr>
                          <p:spPr>
                            <a:xfrm>
                              <a:off x="3527280" y="3067200"/>
                              <a:ext cx="69840" cy="1080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220" h="35">
                                  <a:moveTo>
                                    <a:pt x="0" y="0"/>
                                  </a:moveTo>
                                  <a:lnTo>
                                    <a:pt x="57" y="9"/>
                                  </a:lnTo>
                                  <a:lnTo>
                                    <a:pt x="115" y="16"/>
                                  </a:lnTo>
                                  <a:lnTo>
                                    <a:pt x="168" y="25"/>
                                  </a:lnTo>
                                  <a:lnTo>
                                    <a:pt x="220" y="35"/>
                                  </a:lnTo>
                                </a:path>
                              </a:pathLst>
                            </a:custGeom>
                            <a:noFill/>
                            <a:ln w="3240">
                              <a:solidFill>
                                <a:srgbClr val="8080ff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36000" bIns="-360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425" name=""/>
                            <p:cNvSpPr/>
                            <p:nvPr/>
                          </p:nvSpPr>
                          <p:spPr>
                            <a:xfrm>
                              <a:off x="3587760" y="3065400"/>
                              <a:ext cx="22320" cy="792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66" h="25">
                                  <a:moveTo>
                                    <a:pt x="0" y="0"/>
                                  </a:moveTo>
                                  <a:lnTo>
                                    <a:pt x="31" y="2"/>
                                  </a:lnTo>
                                  <a:lnTo>
                                    <a:pt x="50" y="8"/>
                                  </a:lnTo>
                                  <a:lnTo>
                                    <a:pt x="66" y="25"/>
                                  </a:lnTo>
                                </a:path>
                              </a:pathLst>
                            </a:custGeom>
                            <a:noFill/>
                            <a:ln w="3240">
                              <a:solidFill>
                                <a:srgbClr val="8080ff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38880" bIns="-3888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426" name=""/>
                            <p:cNvSpPr/>
                            <p:nvPr/>
                          </p:nvSpPr>
                          <p:spPr>
                            <a:xfrm>
                              <a:off x="3616200" y="3062160"/>
                              <a:ext cx="7920" cy="15840"/>
                            </a:xfrm>
                            <a:prstGeom prst="line">
                              <a:avLst/>
                            </a:prstGeom>
                            <a:ln w="3240">
                              <a:solidFill>
                                <a:srgbClr val="8080ff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30960" bIns="-3096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427" name=""/>
                        <p:cNvGrpSpPr/>
                        <p:nvPr/>
                      </p:nvGrpSpPr>
                      <p:grpSpPr>
                        <a:xfrm>
                          <a:off x="3414600" y="2836800"/>
                          <a:ext cx="297000" cy="241200"/>
                          <a:chOff x="3414600" y="2836800"/>
                          <a:chExt cx="297000" cy="241200"/>
                        </a:xfrm>
                      </p:grpSpPr>
                      <p:grpSp>
                        <p:nvGrpSpPr>
                          <p:cNvPr id="428" name=""/>
                          <p:cNvGrpSpPr/>
                          <p:nvPr/>
                        </p:nvGrpSpPr>
                        <p:grpSpPr>
                          <a:xfrm>
                            <a:off x="3432240" y="2851200"/>
                            <a:ext cx="279360" cy="226800"/>
                            <a:chOff x="3432240" y="2851200"/>
                            <a:chExt cx="279360" cy="226800"/>
                          </a:xfrm>
                        </p:grpSpPr>
                        <p:sp>
                          <p:nvSpPr>
                            <p:cNvPr id="429" name=""/>
                            <p:cNvSpPr/>
                            <p:nvPr/>
                          </p:nvSpPr>
                          <p:spPr>
                            <a:xfrm>
                              <a:off x="3432240" y="2851200"/>
                              <a:ext cx="279360" cy="18108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877" h="567">
                                  <a:moveTo>
                                    <a:pt x="0" y="0"/>
                                  </a:moveTo>
                                  <a:lnTo>
                                    <a:pt x="35" y="15"/>
                                  </a:lnTo>
                                  <a:lnTo>
                                    <a:pt x="69" y="25"/>
                                  </a:lnTo>
                                  <a:lnTo>
                                    <a:pt x="109" y="31"/>
                                  </a:lnTo>
                                  <a:lnTo>
                                    <a:pt x="142" y="31"/>
                                  </a:lnTo>
                                  <a:lnTo>
                                    <a:pt x="185" y="34"/>
                                  </a:lnTo>
                                  <a:lnTo>
                                    <a:pt x="215" y="43"/>
                                  </a:lnTo>
                                  <a:lnTo>
                                    <a:pt x="244" y="54"/>
                                  </a:lnTo>
                                  <a:lnTo>
                                    <a:pt x="276" y="76"/>
                                  </a:lnTo>
                                  <a:lnTo>
                                    <a:pt x="308" y="103"/>
                                  </a:lnTo>
                                  <a:lnTo>
                                    <a:pt x="350" y="140"/>
                                  </a:lnTo>
                                  <a:lnTo>
                                    <a:pt x="381" y="167"/>
                                  </a:lnTo>
                                  <a:lnTo>
                                    <a:pt x="429" y="217"/>
                                  </a:lnTo>
                                  <a:lnTo>
                                    <a:pt x="481" y="267"/>
                                  </a:lnTo>
                                  <a:lnTo>
                                    <a:pt x="524" y="312"/>
                                  </a:lnTo>
                                  <a:lnTo>
                                    <a:pt x="571" y="364"/>
                                  </a:lnTo>
                                  <a:lnTo>
                                    <a:pt x="621" y="418"/>
                                  </a:lnTo>
                                  <a:lnTo>
                                    <a:pt x="664" y="458"/>
                                  </a:lnTo>
                                  <a:lnTo>
                                    <a:pt x="707" y="496"/>
                                  </a:lnTo>
                                  <a:lnTo>
                                    <a:pt x="744" y="520"/>
                                  </a:lnTo>
                                  <a:lnTo>
                                    <a:pt x="782" y="540"/>
                                  </a:lnTo>
                                  <a:lnTo>
                                    <a:pt x="812" y="560"/>
                                  </a:lnTo>
                                  <a:lnTo>
                                    <a:pt x="833" y="567"/>
                                  </a:lnTo>
                                  <a:lnTo>
                                    <a:pt x="851" y="563"/>
                                  </a:lnTo>
                                  <a:lnTo>
                                    <a:pt x="867" y="552"/>
                                  </a:lnTo>
                                  <a:lnTo>
                                    <a:pt x="876" y="532"/>
                                  </a:lnTo>
                                  <a:lnTo>
                                    <a:pt x="877" y="492"/>
                                  </a:lnTo>
                                  <a:lnTo>
                                    <a:pt x="873" y="452"/>
                                  </a:lnTo>
                                </a:path>
                              </a:pathLst>
                            </a:custGeom>
                            <a:noFill/>
                            <a:ln w="11160">
                              <a:solidFill>
                                <a:srgbClr val="8080ff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430" name=""/>
                            <p:cNvSpPr/>
                            <p:nvPr/>
                          </p:nvSpPr>
                          <p:spPr>
                            <a:xfrm>
                              <a:off x="3476520" y="2860560"/>
                              <a:ext cx="157320" cy="21744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494" h="685">
                                  <a:moveTo>
                                    <a:pt x="0" y="0"/>
                                  </a:moveTo>
                                  <a:lnTo>
                                    <a:pt x="18" y="59"/>
                                  </a:lnTo>
                                  <a:lnTo>
                                    <a:pt x="37" y="116"/>
                                  </a:lnTo>
                                  <a:lnTo>
                                    <a:pt x="55" y="155"/>
                                  </a:lnTo>
                                  <a:lnTo>
                                    <a:pt x="82" y="202"/>
                                  </a:lnTo>
                                  <a:lnTo>
                                    <a:pt x="119" y="256"/>
                                  </a:lnTo>
                                  <a:lnTo>
                                    <a:pt x="150" y="299"/>
                                  </a:lnTo>
                                  <a:lnTo>
                                    <a:pt x="182" y="344"/>
                                  </a:lnTo>
                                  <a:lnTo>
                                    <a:pt x="219" y="397"/>
                                  </a:lnTo>
                                  <a:lnTo>
                                    <a:pt x="244" y="431"/>
                                  </a:lnTo>
                                  <a:lnTo>
                                    <a:pt x="268" y="450"/>
                                  </a:lnTo>
                                  <a:lnTo>
                                    <a:pt x="299" y="471"/>
                                  </a:lnTo>
                                  <a:lnTo>
                                    <a:pt x="322" y="489"/>
                                  </a:lnTo>
                                  <a:lnTo>
                                    <a:pt x="345" y="516"/>
                                  </a:lnTo>
                                  <a:lnTo>
                                    <a:pt x="376" y="541"/>
                                  </a:lnTo>
                                  <a:lnTo>
                                    <a:pt x="406" y="565"/>
                                  </a:lnTo>
                                  <a:lnTo>
                                    <a:pt x="435" y="584"/>
                                  </a:lnTo>
                                  <a:lnTo>
                                    <a:pt x="465" y="608"/>
                                  </a:lnTo>
                                  <a:lnTo>
                                    <a:pt x="485" y="627"/>
                                  </a:lnTo>
                                  <a:lnTo>
                                    <a:pt x="494" y="645"/>
                                  </a:lnTo>
                                  <a:lnTo>
                                    <a:pt x="491" y="669"/>
                                  </a:lnTo>
                                  <a:lnTo>
                                    <a:pt x="479" y="675"/>
                                  </a:lnTo>
                                  <a:lnTo>
                                    <a:pt x="449" y="682"/>
                                  </a:lnTo>
                                  <a:lnTo>
                                    <a:pt x="420" y="685"/>
                                  </a:lnTo>
                                  <a:lnTo>
                                    <a:pt x="385" y="684"/>
                                  </a:lnTo>
                                </a:path>
                              </a:pathLst>
                            </a:custGeom>
                            <a:noFill/>
                            <a:ln w="11160">
                              <a:solidFill>
                                <a:srgbClr val="8080ff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431" name=""/>
                          <p:cNvGrpSpPr/>
                          <p:nvPr/>
                        </p:nvGrpSpPr>
                        <p:grpSpPr>
                          <a:xfrm>
                            <a:off x="3414600" y="2836800"/>
                            <a:ext cx="23760" cy="25560"/>
                            <a:chOff x="3414600" y="2836800"/>
                            <a:chExt cx="23760" cy="25560"/>
                          </a:xfrm>
                        </p:grpSpPr>
                        <p:sp>
                          <p:nvSpPr>
                            <p:cNvPr id="432" name=""/>
                            <p:cNvSpPr/>
                            <p:nvPr/>
                          </p:nvSpPr>
                          <p:spPr>
                            <a:xfrm>
                              <a:off x="3414600" y="2836800"/>
                              <a:ext cx="23760" cy="25560"/>
                            </a:xfrm>
                            <a:prstGeom prst="ellipse">
                              <a:avLst/>
                            </a:prstGeom>
                            <a:solidFill>
                              <a:srgbClr val="8080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28440" bIns="-2844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433" name=""/>
                            <p:cNvSpPr/>
                            <p:nvPr/>
                          </p:nvSpPr>
                          <p:spPr>
                            <a:xfrm>
                              <a:off x="3417840" y="2841480"/>
                              <a:ext cx="14400" cy="14400"/>
                            </a:xfrm>
                            <a:prstGeom prst="ellipse">
                              <a:avLst/>
                            </a:prstGeom>
                            <a:solidFill>
                              <a:srgbClr val="40004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36720" bIns="-367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</p:grpSp>
                </p:grpSp>
              </p:grpSp>
              <p:grpSp>
                <p:nvGrpSpPr>
                  <p:cNvPr id="434" name=""/>
                  <p:cNvGrpSpPr/>
                  <p:nvPr/>
                </p:nvGrpSpPr>
                <p:grpSpPr>
                  <a:xfrm>
                    <a:off x="3193920" y="2416320"/>
                    <a:ext cx="436680" cy="328320"/>
                    <a:chOff x="3193920" y="2416320"/>
                    <a:chExt cx="436680" cy="328320"/>
                  </a:xfrm>
                </p:grpSpPr>
                <p:grpSp>
                  <p:nvGrpSpPr>
                    <p:cNvPr id="435" name=""/>
                    <p:cNvGrpSpPr/>
                    <p:nvPr/>
                  </p:nvGrpSpPr>
                  <p:grpSpPr>
                    <a:xfrm>
                      <a:off x="3193920" y="2416320"/>
                      <a:ext cx="330480" cy="290520"/>
                      <a:chOff x="3193920" y="2416320"/>
                      <a:chExt cx="330480" cy="290520"/>
                    </a:xfrm>
                  </p:grpSpPr>
                  <p:grpSp>
                    <p:nvGrpSpPr>
                      <p:cNvPr id="436" name=""/>
                      <p:cNvGrpSpPr/>
                      <p:nvPr/>
                    </p:nvGrpSpPr>
                    <p:grpSpPr>
                      <a:xfrm>
                        <a:off x="3193920" y="2473200"/>
                        <a:ext cx="330480" cy="84240"/>
                        <a:chOff x="3193920" y="2473200"/>
                        <a:chExt cx="330480" cy="84240"/>
                      </a:xfrm>
                    </p:grpSpPr>
                    <p:grpSp>
                      <p:nvGrpSpPr>
                        <p:cNvPr id="437" name=""/>
                        <p:cNvGrpSpPr/>
                        <p:nvPr/>
                      </p:nvGrpSpPr>
                      <p:grpSpPr>
                        <a:xfrm>
                          <a:off x="3198960" y="2473200"/>
                          <a:ext cx="325440" cy="84240"/>
                          <a:chOff x="3198960" y="2473200"/>
                          <a:chExt cx="325440" cy="84240"/>
                        </a:xfrm>
                      </p:grpSpPr>
                      <p:sp>
                        <p:nvSpPr>
                          <p:cNvPr id="438" name=""/>
                          <p:cNvSpPr/>
                          <p:nvPr/>
                        </p:nvSpPr>
                        <p:spPr>
                          <a:xfrm>
                            <a:off x="3198960" y="2473200"/>
                            <a:ext cx="323640" cy="842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020" h="265">
                                <a:moveTo>
                                  <a:pt x="1020" y="106"/>
                                </a:moveTo>
                                <a:lnTo>
                                  <a:pt x="970" y="100"/>
                                </a:lnTo>
                                <a:lnTo>
                                  <a:pt x="913" y="94"/>
                                </a:lnTo>
                                <a:lnTo>
                                  <a:pt x="851" y="82"/>
                                </a:lnTo>
                                <a:lnTo>
                                  <a:pt x="781" y="69"/>
                                </a:lnTo>
                                <a:lnTo>
                                  <a:pt x="712" y="55"/>
                                </a:lnTo>
                                <a:lnTo>
                                  <a:pt x="650" y="42"/>
                                </a:lnTo>
                                <a:lnTo>
                                  <a:pt x="596" y="33"/>
                                </a:lnTo>
                                <a:lnTo>
                                  <a:pt x="538" y="24"/>
                                </a:lnTo>
                                <a:lnTo>
                                  <a:pt x="470" y="15"/>
                                </a:lnTo>
                                <a:lnTo>
                                  <a:pt x="419" y="5"/>
                                </a:lnTo>
                                <a:lnTo>
                                  <a:pt x="367" y="0"/>
                                </a:lnTo>
                                <a:lnTo>
                                  <a:pt x="320" y="2"/>
                                </a:lnTo>
                                <a:lnTo>
                                  <a:pt x="275" y="8"/>
                                </a:lnTo>
                                <a:lnTo>
                                  <a:pt x="214" y="19"/>
                                </a:lnTo>
                                <a:lnTo>
                                  <a:pt x="165" y="31"/>
                                </a:lnTo>
                                <a:lnTo>
                                  <a:pt x="134" y="41"/>
                                </a:lnTo>
                                <a:lnTo>
                                  <a:pt x="99" y="58"/>
                                </a:lnTo>
                                <a:lnTo>
                                  <a:pt x="62" y="75"/>
                                </a:lnTo>
                                <a:lnTo>
                                  <a:pt x="29" y="94"/>
                                </a:lnTo>
                                <a:lnTo>
                                  <a:pt x="0" y="113"/>
                                </a:lnTo>
                                <a:lnTo>
                                  <a:pt x="68" y="265"/>
                                </a:lnTo>
                                <a:lnTo>
                                  <a:pt x="107" y="250"/>
                                </a:lnTo>
                                <a:lnTo>
                                  <a:pt x="141" y="237"/>
                                </a:lnTo>
                                <a:lnTo>
                                  <a:pt x="174" y="226"/>
                                </a:lnTo>
                                <a:lnTo>
                                  <a:pt x="208" y="217"/>
                                </a:lnTo>
                                <a:lnTo>
                                  <a:pt x="248" y="204"/>
                                </a:lnTo>
                                <a:lnTo>
                                  <a:pt x="283" y="198"/>
                                </a:lnTo>
                                <a:lnTo>
                                  <a:pt x="335" y="193"/>
                                </a:lnTo>
                                <a:lnTo>
                                  <a:pt x="404" y="192"/>
                                </a:lnTo>
                                <a:lnTo>
                                  <a:pt x="464" y="195"/>
                                </a:lnTo>
                                <a:lnTo>
                                  <a:pt x="529" y="195"/>
                                </a:lnTo>
                                <a:lnTo>
                                  <a:pt x="578" y="198"/>
                                </a:lnTo>
                                <a:lnTo>
                                  <a:pt x="629" y="206"/>
                                </a:lnTo>
                                <a:lnTo>
                                  <a:pt x="1020" y="106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60006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37440" bIns="3744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grpSp>
                        <p:nvGrpSpPr>
                          <p:cNvPr id="439" name=""/>
                          <p:cNvGrpSpPr/>
                          <p:nvPr/>
                        </p:nvGrpSpPr>
                        <p:grpSpPr>
                          <a:xfrm>
                            <a:off x="3220920" y="2484360"/>
                            <a:ext cx="303480" cy="73080"/>
                            <a:chOff x="3220920" y="2484360"/>
                            <a:chExt cx="303480" cy="73080"/>
                          </a:xfrm>
                        </p:grpSpPr>
                        <p:grpSp>
                          <p:nvGrpSpPr>
                            <p:cNvPr id="440" name=""/>
                            <p:cNvGrpSpPr/>
                            <p:nvPr/>
                          </p:nvGrpSpPr>
                          <p:grpSpPr>
                            <a:xfrm>
                              <a:off x="3220920" y="2506680"/>
                              <a:ext cx="303480" cy="50760"/>
                              <a:chOff x="3220920" y="2506680"/>
                              <a:chExt cx="303480" cy="50760"/>
                            </a:xfrm>
                          </p:grpSpPr>
                          <p:sp>
                            <p:nvSpPr>
                              <p:cNvPr id="441" name=""/>
                              <p:cNvSpPr/>
                              <p:nvPr/>
                            </p:nvSpPr>
                            <p:spPr>
                              <a:xfrm>
                                <a:off x="3220920" y="2508120"/>
                                <a:ext cx="303480" cy="428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956" h="134">
                                    <a:moveTo>
                                      <a:pt x="956" y="0"/>
                                    </a:moveTo>
                                    <a:lnTo>
                                      <a:pt x="597" y="47"/>
                                    </a:lnTo>
                                    <a:lnTo>
                                      <a:pt x="535" y="39"/>
                                    </a:lnTo>
                                    <a:lnTo>
                                      <a:pt x="480" y="35"/>
                                    </a:lnTo>
                                    <a:lnTo>
                                      <a:pt x="428" y="34"/>
                                    </a:lnTo>
                                    <a:lnTo>
                                      <a:pt x="374" y="31"/>
                                    </a:lnTo>
                                    <a:lnTo>
                                      <a:pt x="325" y="33"/>
                                    </a:lnTo>
                                    <a:lnTo>
                                      <a:pt x="281" y="35"/>
                                    </a:lnTo>
                                    <a:lnTo>
                                      <a:pt x="242" y="36"/>
                                    </a:lnTo>
                                    <a:lnTo>
                                      <a:pt x="193" y="42"/>
                                    </a:lnTo>
                                    <a:lnTo>
                                      <a:pt x="153" y="51"/>
                                    </a:lnTo>
                                    <a:lnTo>
                                      <a:pt x="114" y="63"/>
                                    </a:lnTo>
                                    <a:lnTo>
                                      <a:pt x="79" y="75"/>
                                    </a:lnTo>
                                    <a:lnTo>
                                      <a:pt x="52" y="85"/>
                                    </a:lnTo>
                                    <a:lnTo>
                                      <a:pt x="23" y="100"/>
                                    </a:lnTo>
                                    <a:lnTo>
                                      <a:pt x="0" y="118"/>
                                    </a:lnTo>
                                    <a:lnTo>
                                      <a:pt x="5" y="134"/>
                                    </a:lnTo>
                                    <a:lnTo>
                                      <a:pt x="43" y="120"/>
                                    </a:lnTo>
                                    <a:lnTo>
                                      <a:pt x="77" y="107"/>
                                    </a:lnTo>
                                    <a:lnTo>
                                      <a:pt x="110" y="96"/>
                                    </a:lnTo>
                                    <a:lnTo>
                                      <a:pt x="144" y="87"/>
                                    </a:lnTo>
                                    <a:lnTo>
                                      <a:pt x="185" y="75"/>
                                    </a:lnTo>
                                    <a:lnTo>
                                      <a:pt x="220" y="68"/>
                                    </a:lnTo>
                                    <a:lnTo>
                                      <a:pt x="271" y="63"/>
                                    </a:lnTo>
                                    <a:lnTo>
                                      <a:pt x="340" y="62"/>
                                    </a:lnTo>
                                    <a:lnTo>
                                      <a:pt x="400" y="65"/>
                                    </a:lnTo>
                                    <a:lnTo>
                                      <a:pt x="465" y="65"/>
                                    </a:lnTo>
                                    <a:lnTo>
                                      <a:pt x="514" y="68"/>
                                    </a:lnTo>
                                    <a:lnTo>
                                      <a:pt x="565" y="77"/>
                                    </a:lnTo>
                                    <a:lnTo>
                                      <a:pt x="956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80008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960" bIns="-39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442" name=""/>
                              <p:cNvSpPr/>
                              <p:nvPr/>
                            </p:nvSpPr>
                            <p:spPr>
                              <a:xfrm>
                                <a:off x="3220920" y="2506680"/>
                                <a:ext cx="303480" cy="507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956" h="158">
                                    <a:moveTo>
                                      <a:pt x="956" y="0"/>
                                    </a:moveTo>
                                    <a:lnTo>
                                      <a:pt x="597" y="71"/>
                                    </a:lnTo>
                                    <a:lnTo>
                                      <a:pt x="535" y="62"/>
                                    </a:lnTo>
                                    <a:lnTo>
                                      <a:pt x="480" y="58"/>
                                    </a:lnTo>
                                    <a:lnTo>
                                      <a:pt x="428" y="56"/>
                                    </a:lnTo>
                                    <a:lnTo>
                                      <a:pt x="374" y="53"/>
                                    </a:lnTo>
                                    <a:lnTo>
                                      <a:pt x="325" y="55"/>
                                    </a:lnTo>
                                    <a:lnTo>
                                      <a:pt x="281" y="58"/>
                                    </a:lnTo>
                                    <a:lnTo>
                                      <a:pt x="242" y="59"/>
                                    </a:lnTo>
                                    <a:lnTo>
                                      <a:pt x="193" y="66"/>
                                    </a:lnTo>
                                    <a:lnTo>
                                      <a:pt x="153" y="75"/>
                                    </a:lnTo>
                                    <a:lnTo>
                                      <a:pt x="114" y="86"/>
                                    </a:lnTo>
                                    <a:lnTo>
                                      <a:pt x="79" y="98"/>
                                    </a:lnTo>
                                    <a:lnTo>
                                      <a:pt x="52" y="109"/>
                                    </a:lnTo>
                                    <a:lnTo>
                                      <a:pt x="23" y="123"/>
                                    </a:lnTo>
                                    <a:lnTo>
                                      <a:pt x="0" y="141"/>
                                    </a:lnTo>
                                    <a:lnTo>
                                      <a:pt x="5" y="158"/>
                                    </a:lnTo>
                                    <a:lnTo>
                                      <a:pt x="43" y="144"/>
                                    </a:lnTo>
                                    <a:lnTo>
                                      <a:pt x="77" y="130"/>
                                    </a:lnTo>
                                    <a:lnTo>
                                      <a:pt x="110" y="119"/>
                                    </a:lnTo>
                                    <a:lnTo>
                                      <a:pt x="144" y="111"/>
                                    </a:lnTo>
                                    <a:lnTo>
                                      <a:pt x="185" y="98"/>
                                    </a:lnTo>
                                    <a:lnTo>
                                      <a:pt x="220" y="91"/>
                                    </a:lnTo>
                                    <a:lnTo>
                                      <a:pt x="271" y="86"/>
                                    </a:lnTo>
                                    <a:lnTo>
                                      <a:pt x="340" y="85"/>
                                    </a:lnTo>
                                    <a:lnTo>
                                      <a:pt x="400" y="88"/>
                                    </a:lnTo>
                                    <a:lnTo>
                                      <a:pt x="465" y="88"/>
                                    </a:lnTo>
                                    <a:lnTo>
                                      <a:pt x="514" y="91"/>
                                    </a:lnTo>
                                    <a:lnTo>
                                      <a:pt x="565" y="100"/>
                                    </a:lnTo>
                                    <a:lnTo>
                                      <a:pt x="956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40004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3960" bIns="39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443" name=""/>
                            <p:cNvSpPr/>
                            <p:nvPr/>
                          </p:nvSpPr>
                          <p:spPr>
                            <a:xfrm>
                              <a:off x="3225960" y="2484360"/>
                              <a:ext cx="217440" cy="2556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687" h="78">
                                  <a:moveTo>
                                    <a:pt x="0" y="78"/>
                                  </a:moveTo>
                                  <a:lnTo>
                                    <a:pt x="32" y="62"/>
                                  </a:lnTo>
                                  <a:lnTo>
                                    <a:pt x="65" y="47"/>
                                  </a:lnTo>
                                  <a:lnTo>
                                    <a:pt x="111" y="34"/>
                                  </a:lnTo>
                                  <a:lnTo>
                                    <a:pt x="161" y="20"/>
                                  </a:lnTo>
                                  <a:lnTo>
                                    <a:pt x="212" y="10"/>
                                  </a:lnTo>
                                  <a:lnTo>
                                    <a:pt x="256" y="4"/>
                                  </a:lnTo>
                                  <a:lnTo>
                                    <a:pt x="318" y="0"/>
                                  </a:lnTo>
                                  <a:lnTo>
                                    <a:pt x="357" y="0"/>
                                  </a:lnTo>
                                  <a:lnTo>
                                    <a:pt x="414" y="3"/>
                                  </a:lnTo>
                                  <a:lnTo>
                                    <a:pt x="469" y="10"/>
                                  </a:lnTo>
                                  <a:lnTo>
                                    <a:pt x="509" y="17"/>
                                  </a:lnTo>
                                  <a:lnTo>
                                    <a:pt x="556" y="26"/>
                                  </a:lnTo>
                                  <a:lnTo>
                                    <a:pt x="601" y="38"/>
                                  </a:lnTo>
                                  <a:lnTo>
                                    <a:pt x="642" y="50"/>
                                  </a:lnTo>
                                  <a:lnTo>
                                    <a:pt x="687" y="68"/>
                                  </a:lnTo>
                                </a:path>
                              </a:pathLst>
                            </a:custGeom>
                            <a:noFill/>
                            <a:ln w="4680">
                              <a:solidFill>
                                <a:srgbClr val="e000e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21240" bIns="-2124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444" name=""/>
                        <p:cNvGrpSpPr/>
                        <p:nvPr/>
                      </p:nvGrpSpPr>
                      <p:grpSpPr>
                        <a:xfrm>
                          <a:off x="3193920" y="2506680"/>
                          <a:ext cx="33480" cy="50760"/>
                          <a:chOff x="3193920" y="2506680"/>
                          <a:chExt cx="33480" cy="50760"/>
                        </a:xfrm>
                      </p:grpSpPr>
                      <p:sp>
                        <p:nvSpPr>
                          <p:cNvPr id="445" name=""/>
                          <p:cNvSpPr/>
                          <p:nvPr/>
                        </p:nvSpPr>
                        <p:spPr>
                          <a:xfrm>
                            <a:off x="3193920" y="2506680"/>
                            <a:ext cx="33480" cy="5076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06" h="160">
                                <a:moveTo>
                                  <a:pt x="24" y="3"/>
                                </a:moveTo>
                                <a:lnTo>
                                  <a:pt x="15" y="10"/>
                                </a:lnTo>
                                <a:lnTo>
                                  <a:pt x="8" y="18"/>
                                </a:lnTo>
                                <a:lnTo>
                                  <a:pt x="3" y="30"/>
                                </a:lnTo>
                                <a:lnTo>
                                  <a:pt x="0" y="43"/>
                                </a:lnTo>
                                <a:lnTo>
                                  <a:pt x="0" y="59"/>
                                </a:lnTo>
                                <a:lnTo>
                                  <a:pt x="1" y="77"/>
                                </a:lnTo>
                                <a:lnTo>
                                  <a:pt x="5" y="91"/>
                                </a:lnTo>
                                <a:lnTo>
                                  <a:pt x="10" y="104"/>
                                </a:lnTo>
                                <a:lnTo>
                                  <a:pt x="15" y="114"/>
                                </a:lnTo>
                                <a:lnTo>
                                  <a:pt x="22" y="127"/>
                                </a:lnTo>
                                <a:lnTo>
                                  <a:pt x="32" y="138"/>
                                </a:lnTo>
                                <a:lnTo>
                                  <a:pt x="42" y="149"/>
                                </a:lnTo>
                                <a:lnTo>
                                  <a:pt x="51" y="155"/>
                                </a:lnTo>
                                <a:lnTo>
                                  <a:pt x="60" y="159"/>
                                </a:lnTo>
                                <a:lnTo>
                                  <a:pt x="70" y="160"/>
                                </a:lnTo>
                                <a:lnTo>
                                  <a:pt x="78" y="160"/>
                                </a:lnTo>
                                <a:lnTo>
                                  <a:pt x="89" y="156"/>
                                </a:lnTo>
                                <a:lnTo>
                                  <a:pt x="96" y="145"/>
                                </a:lnTo>
                                <a:lnTo>
                                  <a:pt x="101" y="133"/>
                                </a:lnTo>
                                <a:lnTo>
                                  <a:pt x="105" y="116"/>
                                </a:lnTo>
                                <a:lnTo>
                                  <a:pt x="106" y="101"/>
                                </a:lnTo>
                                <a:lnTo>
                                  <a:pt x="106" y="83"/>
                                </a:lnTo>
                                <a:lnTo>
                                  <a:pt x="103" y="68"/>
                                </a:lnTo>
                                <a:lnTo>
                                  <a:pt x="99" y="53"/>
                                </a:lnTo>
                                <a:lnTo>
                                  <a:pt x="94" y="42"/>
                                </a:lnTo>
                                <a:lnTo>
                                  <a:pt x="88" y="32"/>
                                </a:lnTo>
                                <a:lnTo>
                                  <a:pt x="78" y="22"/>
                                </a:lnTo>
                                <a:lnTo>
                                  <a:pt x="68" y="13"/>
                                </a:lnTo>
                                <a:lnTo>
                                  <a:pt x="56" y="5"/>
                                </a:lnTo>
                                <a:lnTo>
                                  <a:pt x="46" y="1"/>
                                </a:lnTo>
                                <a:lnTo>
                                  <a:pt x="35" y="0"/>
                                </a:lnTo>
                                <a:lnTo>
                                  <a:pt x="24" y="3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800080"/>
                          </a:solidFill>
                          <a:ln w="3240">
                            <a:solidFill>
                              <a:srgbClr val="40004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3960" bIns="39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446" name=""/>
                          <p:cNvSpPr/>
                          <p:nvPr/>
                        </p:nvSpPr>
                        <p:spPr>
                          <a:xfrm>
                            <a:off x="3200400" y="2514600"/>
                            <a:ext cx="22320" cy="334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71" h="108">
                                <a:moveTo>
                                  <a:pt x="16" y="3"/>
                                </a:moveTo>
                                <a:lnTo>
                                  <a:pt x="10" y="7"/>
                                </a:lnTo>
                                <a:lnTo>
                                  <a:pt x="5" y="13"/>
                                </a:lnTo>
                                <a:lnTo>
                                  <a:pt x="2" y="20"/>
                                </a:lnTo>
                                <a:lnTo>
                                  <a:pt x="0" y="29"/>
                                </a:lnTo>
                                <a:lnTo>
                                  <a:pt x="0" y="40"/>
                                </a:lnTo>
                                <a:lnTo>
                                  <a:pt x="0" y="52"/>
                                </a:lnTo>
                                <a:lnTo>
                                  <a:pt x="3" y="62"/>
                                </a:lnTo>
                                <a:lnTo>
                                  <a:pt x="6" y="71"/>
                                </a:lnTo>
                                <a:lnTo>
                                  <a:pt x="10" y="77"/>
                                </a:lnTo>
                                <a:lnTo>
                                  <a:pt x="14" y="87"/>
                                </a:lnTo>
                                <a:lnTo>
                                  <a:pt x="21" y="94"/>
                                </a:lnTo>
                                <a:lnTo>
                                  <a:pt x="28" y="101"/>
                                </a:lnTo>
                                <a:lnTo>
                                  <a:pt x="34" y="105"/>
                                </a:lnTo>
                                <a:lnTo>
                                  <a:pt x="40" y="108"/>
                                </a:lnTo>
                                <a:lnTo>
                                  <a:pt x="47" y="108"/>
                                </a:lnTo>
                                <a:lnTo>
                                  <a:pt x="52" y="108"/>
                                </a:lnTo>
                                <a:lnTo>
                                  <a:pt x="59" y="106"/>
                                </a:lnTo>
                                <a:lnTo>
                                  <a:pt x="64" y="99"/>
                                </a:lnTo>
                                <a:lnTo>
                                  <a:pt x="67" y="91"/>
                                </a:lnTo>
                                <a:lnTo>
                                  <a:pt x="71" y="78"/>
                                </a:lnTo>
                                <a:lnTo>
                                  <a:pt x="71" y="69"/>
                                </a:lnTo>
                                <a:lnTo>
                                  <a:pt x="71" y="57"/>
                                </a:lnTo>
                                <a:lnTo>
                                  <a:pt x="68" y="46"/>
                                </a:lnTo>
                                <a:lnTo>
                                  <a:pt x="66" y="36"/>
                                </a:lnTo>
                                <a:lnTo>
                                  <a:pt x="62" y="28"/>
                                </a:lnTo>
                                <a:lnTo>
                                  <a:pt x="58" y="22"/>
                                </a:lnTo>
                                <a:lnTo>
                                  <a:pt x="52" y="15"/>
                                </a:lnTo>
                                <a:lnTo>
                                  <a:pt x="46" y="9"/>
                                </a:lnTo>
                                <a:lnTo>
                                  <a:pt x="38" y="4"/>
                                </a:lnTo>
                                <a:lnTo>
                                  <a:pt x="31" y="0"/>
                                </a:lnTo>
                                <a:lnTo>
                                  <a:pt x="23" y="0"/>
                                </a:lnTo>
                                <a:lnTo>
                                  <a:pt x="16" y="3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600060"/>
                          </a:solidFill>
                          <a:ln w="3240">
                            <a:solidFill>
                              <a:srgbClr val="40004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13320" bIns="-133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447" name=""/>
                      <p:cNvGrpSpPr/>
                      <p:nvPr/>
                    </p:nvGrpSpPr>
                    <p:grpSpPr>
                      <a:xfrm>
                        <a:off x="3289320" y="2416320"/>
                        <a:ext cx="177840" cy="290520"/>
                        <a:chOff x="3289320" y="2416320"/>
                        <a:chExt cx="177840" cy="290520"/>
                      </a:xfrm>
                    </p:grpSpPr>
                    <p:grpSp>
                      <p:nvGrpSpPr>
                        <p:cNvPr id="448" name=""/>
                        <p:cNvGrpSpPr/>
                        <p:nvPr/>
                      </p:nvGrpSpPr>
                      <p:grpSpPr>
                        <a:xfrm>
                          <a:off x="3289320" y="2416320"/>
                          <a:ext cx="177840" cy="284040"/>
                          <a:chOff x="3289320" y="2416320"/>
                          <a:chExt cx="177840" cy="284040"/>
                        </a:xfrm>
                      </p:grpSpPr>
                      <p:sp>
                        <p:nvSpPr>
                          <p:cNvPr id="449" name=""/>
                          <p:cNvSpPr/>
                          <p:nvPr/>
                        </p:nvSpPr>
                        <p:spPr>
                          <a:xfrm>
                            <a:off x="3289320" y="2416320"/>
                            <a:ext cx="177840" cy="2840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562" h="898">
                                <a:moveTo>
                                  <a:pt x="0" y="500"/>
                                </a:moveTo>
                                <a:lnTo>
                                  <a:pt x="3" y="451"/>
                                </a:lnTo>
                                <a:lnTo>
                                  <a:pt x="13" y="398"/>
                                </a:lnTo>
                                <a:lnTo>
                                  <a:pt x="25" y="352"/>
                                </a:lnTo>
                                <a:lnTo>
                                  <a:pt x="38" y="305"/>
                                </a:lnTo>
                                <a:lnTo>
                                  <a:pt x="53" y="267"/>
                                </a:lnTo>
                                <a:lnTo>
                                  <a:pt x="74" y="230"/>
                                </a:lnTo>
                                <a:lnTo>
                                  <a:pt x="98" y="199"/>
                                </a:lnTo>
                                <a:lnTo>
                                  <a:pt x="127" y="167"/>
                                </a:lnTo>
                                <a:lnTo>
                                  <a:pt x="162" y="134"/>
                                </a:lnTo>
                                <a:lnTo>
                                  <a:pt x="202" y="103"/>
                                </a:lnTo>
                                <a:lnTo>
                                  <a:pt x="245" y="74"/>
                                </a:lnTo>
                                <a:lnTo>
                                  <a:pt x="287" y="49"/>
                                </a:lnTo>
                                <a:lnTo>
                                  <a:pt x="334" y="29"/>
                                </a:lnTo>
                                <a:lnTo>
                                  <a:pt x="376" y="15"/>
                                </a:lnTo>
                                <a:lnTo>
                                  <a:pt x="416" y="5"/>
                                </a:lnTo>
                                <a:lnTo>
                                  <a:pt x="448" y="0"/>
                                </a:lnTo>
                                <a:lnTo>
                                  <a:pt x="463" y="3"/>
                                </a:lnTo>
                                <a:lnTo>
                                  <a:pt x="481" y="11"/>
                                </a:lnTo>
                                <a:lnTo>
                                  <a:pt x="503" y="24"/>
                                </a:lnTo>
                                <a:lnTo>
                                  <a:pt x="527" y="43"/>
                                </a:lnTo>
                                <a:lnTo>
                                  <a:pt x="540" y="61"/>
                                </a:lnTo>
                                <a:lnTo>
                                  <a:pt x="551" y="82"/>
                                </a:lnTo>
                                <a:lnTo>
                                  <a:pt x="559" y="104"/>
                                </a:lnTo>
                                <a:lnTo>
                                  <a:pt x="562" y="137"/>
                                </a:lnTo>
                                <a:lnTo>
                                  <a:pt x="559" y="167"/>
                                </a:lnTo>
                                <a:lnTo>
                                  <a:pt x="551" y="186"/>
                                </a:lnTo>
                                <a:lnTo>
                                  <a:pt x="540" y="199"/>
                                </a:lnTo>
                                <a:lnTo>
                                  <a:pt x="524" y="208"/>
                                </a:lnTo>
                                <a:lnTo>
                                  <a:pt x="496" y="219"/>
                                </a:lnTo>
                                <a:lnTo>
                                  <a:pt x="467" y="230"/>
                                </a:lnTo>
                                <a:lnTo>
                                  <a:pt x="437" y="244"/>
                                </a:lnTo>
                                <a:lnTo>
                                  <a:pt x="401" y="265"/>
                                </a:lnTo>
                                <a:lnTo>
                                  <a:pt x="364" y="295"/>
                                </a:lnTo>
                                <a:lnTo>
                                  <a:pt x="342" y="320"/>
                                </a:lnTo>
                                <a:lnTo>
                                  <a:pt x="323" y="347"/>
                                </a:lnTo>
                                <a:lnTo>
                                  <a:pt x="309" y="378"/>
                                </a:lnTo>
                                <a:lnTo>
                                  <a:pt x="299" y="413"/>
                                </a:lnTo>
                                <a:lnTo>
                                  <a:pt x="297" y="448"/>
                                </a:lnTo>
                                <a:lnTo>
                                  <a:pt x="305" y="488"/>
                                </a:lnTo>
                                <a:lnTo>
                                  <a:pt x="314" y="525"/>
                                </a:lnTo>
                                <a:lnTo>
                                  <a:pt x="326" y="556"/>
                                </a:lnTo>
                                <a:lnTo>
                                  <a:pt x="348" y="592"/>
                                </a:lnTo>
                                <a:lnTo>
                                  <a:pt x="376" y="633"/>
                                </a:lnTo>
                                <a:lnTo>
                                  <a:pt x="406" y="668"/>
                                </a:lnTo>
                                <a:lnTo>
                                  <a:pt x="427" y="698"/>
                                </a:lnTo>
                                <a:lnTo>
                                  <a:pt x="439" y="729"/>
                                </a:lnTo>
                                <a:lnTo>
                                  <a:pt x="207" y="898"/>
                                </a:lnTo>
                                <a:lnTo>
                                  <a:pt x="168" y="866"/>
                                </a:lnTo>
                                <a:lnTo>
                                  <a:pt x="138" y="827"/>
                                </a:lnTo>
                                <a:lnTo>
                                  <a:pt x="109" y="787"/>
                                </a:lnTo>
                                <a:lnTo>
                                  <a:pt x="78" y="738"/>
                                </a:lnTo>
                                <a:lnTo>
                                  <a:pt x="50" y="687"/>
                                </a:lnTo>
                                <a:lnTo>
                                  <a:pt x="31" y="648"/>
                                </a:lnTo>
                                <a:lnTo>
                                  <a:pt x="16" y="602"/>
                                </a:lnTo>
                                <a:lnTo>
                                  <a:pt x="4" y="549"/>
                                </a:lnTo>
                                <a:lnTo>
                                  <a:pt x="0" y="50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80008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grpSp>
                        <p:nvGrpSpPr>
                          <p:cNvPr id="450" name=""/>
                          <p:cNvGrpSpPr/>
                          <p:nvPr/>
                        </p:nvGrpSpPr>
                        <p:grpSpPr>
                          <a:xfrm>
                            <a:off x="3289320" y="2416320"/>
                            <a:ext cx="177840" cy="284040"/>
                            <a:chOff x="3289320" y="2416320"/>
                            <a:chExt cx="177840" cy="284040"/>
                          </a:xfrm>
                        </p:grpSpPr>
                        <p:sp>
                          <p:nvSpPr>
                            <p:cNvPr id="451" name=""/>
                            <p:cNvSpPr/>
                            <p:nvPr/>
                          </p:nvSpPr>
                          <p:spPr>
                            <a:xfrm>
                              <a:off x="3321000" y="2436840"/>
                              <a:ext cx="131760" cy="22212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417" h="703">
                                  <a:moveTo>
                                    <a:pt x="124" y="703"/>
                                  </a:moveTo>
                                  <a:lnTo>
                                    <a:pt x="97" y="668"/>
                                  </a:lnTo>
                                  <a:lnTo>
                                    <a:pt x="75" y="637"/>
                                  </a:lnTo>
                                  <a:lnTo>
                                    <a:pt x="58" y="606"/>
                                  </a:lnTo>
                                  <a:lnTo>
                                    <a:pt x="43" y="573"/>
                                  </a:lnTo>
                                  <a:lnTo>
                                    <a:pt x="32" y="540"/>
                                  </a:lnTo>
                                  <a:lnTo>
                                    <a:pt x="23" y="508"/>
                                  </a:lnTo>
                                  <a:lnTo>
                                    <a:pt x="15" y="480"/>
                                  </a:lnTo>
                                  <a:lnTo>
                                    <a:pt x="9" y="452"/>
                                  </a:lnTo>
                                  <a:lnTo>
                                    <a:pt x="5" y="421"/>
                                  </a:lnTo>
                                  <a:lnTo>
                                    <a:pt x="2" y="398"/>
                                  </a:lnTo>
                                  <a:lnTo>
                                    <a:pt x="0" y="378"/>
                                  </a:lnTo>
                                  <a:lnTo>
                                    <a:pt x="2" y="358"/>
                                  </a:lnTo>
                                  <a:lnTo>
                                    <a:pt x="10" y="329"/>
                                  </a:lnTo>
                                  <a:lnTo>
                                    <a:pt x="18" y="299"/>
                                  </a:lnTo>
                                  <a:lnTo>
                                    <a:pt x="29" y="269"/>
                                  </a:lnTo>
                                  <a:lnTo>
                                    <a:pt x="42" y="242"/>
                                  </a:lnTo>
                                  <a:lnTo>
                                    <a:pt x="55" y="217"/>
                                  </a:lnTo>
                                  <a:lnTo>
                                    <a:pt x="71" y="191"/>
                                  </a:lnTo>
                                  <a:lnTo>
                                    <a:pt x="88" y="168"/>
                                  </a:lnTo>
                                  <a:lnTo>
                                    <a:pt x="106" y="148"/>
                                  </a:lnTo>
                                  <a:lnTo>
                                    <a:pt x="124" y="132"/>
                                  </a:lnTo>
                                  <a:lnTo>
                                    <a:pt x="156" y="108"/>
                                  </a:lnTo>
                                  <a:lnTo>
                                    <a:pt x="184" y="91"/>
                                  </a:lnTo>
                                  <a:lnTo>
                                    <a:pt x="219" y="69"/>
                                  </a:lnTo>
                                  <a:lnTo>
                                    <a:pt x="255" y="51"/>
                                  </a:lnTo>
                                  <a:lnTo>
                                    <a:pt x="301" y="31"/>
                                  </a:lnTo>
                                  <a:lnTo>
                                    <a:pt x="342" y="19"/>
                                  </a:lnTo>
                                  <a:lnTo>
                                    <a:pt x="382" y="9"/>
                                  </a:lnTo>
                                  <a:lnTo>
                                    <a:pt x="417" y="0"/>
                                  </a:lnTo>
                                </a:path>
                              </a:pathLst>
                            </a:custGeom>
                            <a:noFill/>
                            <a:ln w="4680">
                              <a:solidFill>
                                <a:srgbClr val="ff40ff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452" name=""/>
                            <p:cNvSpPr/>
                            <p:nvPr/>
                          </p:nvSpPr>
                          <p:spPr>
                            <a:xfrm>
                              <a:off x="3354480" y="2460600"/>
                              <a:ext cx="112680" cy="18576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356" h="585">
                                  <a:moveTo>
                                    <a:pt x="6" y="348"/>
                                  </a:moveTo>
                                  <a:lnTo>
                                    <a:pt x="2" y="319"/>
                                  </a:lnTo>
                                  <a:lnTo>
                                    <a:pt x="0" y="288"/>
                                  </a:lnTo>
                                  <a:lnTo>
                                    <a:pt x="2" y="254"/>
                                  </a:lnTo>
                                  <a:lnTo>
                                    <a:pt x="6" y="229"/>
                                  </a:lnTo>
                                  <a:lnTo>
                                    <a:pt x="13" y="204"/>
                                  </a:lnTo>
                                  <a:lnTo>
                                    <a:pt x="24" y="174"/>
                                  </a:lnTo>
                                  <a:lnTo>
                                    <a:pt x="43" y="146"/>
                                  </a:lnTo>
                                  <a:lnTo>
                                    <a:pt x="60" y="123"/>
                                  </a:lnTo>
                                  <a:lnTo>
                                    <a:pt x="78" y="108"/>
                                  </a:lnTo>
                                  <a:lnTo>
                                    <a:pt x="98" y="89"/>
                                  </a:lnTo>
                                  <a:lnTo>
                                    <a:pt x="119" y="73"/>
                                  </a:lnTo>
                                  <a:lnTo>
                                    <a:pt x="145" y="58"/>
                                  </a:lnTo>
                                  <a:lnTo>
                                    <a:pt x="172" y="42"/>
                                  </a:lnTo>
                                  <a:lnTo>
                                    <a:pt x="196" y="31"/>
                                  </a:lnTo>
                                  <a:lnTo>
                                    <a:pt x="221" y="21"/>
                                  </a:lnTo>
                                  <a:lnTo>
                                    <a:pt x="244" y="14"/>
                                  </a:lnTo>
                                  <a:lnTo>
                                    <a:pt x="268" y="7"/>
                                  </a:lnTo>
                                  <a:lnTo>
                                    <a:pt x="297" y="2"/>
                                  </a:lnTo>
                                  <a:lnTo>
                                    <a:pt x="324" y="1"/>
                                  </a:lnTo>
                                  <a:lnTo>
                                    <a:pt x="342" y="0"/>
                                  </a:lnTo>
                                  <a:lnTo>
                                    <a:pt x="356" y="1"/>
                                  </a:lnTo>
                                  <a:lnTo>
                                    <a:pt x="355" y="17"/>
                                  </a:lnTo>
                                  <a:lnTo>
                                    <a:pt x="353" y="30"/>
                                  </a:lnTo>
                                  <a:lnTo>
                                    <a:pt x="339" y="32"/>
                                  </a:lnTo>
                                  <a:lnTo>
                                    <a:pt x="319" y="37"/>
                                  </a:lnTo>
                                  <a:lnTo>
                                    <a:pt x="296" y="44"/>
                                  </a:lnTo>
                                  <a:lnTo>
                                    <a:pt x="270" y="55"/>
                                  </a:lnTo>
                                  <a:lnTo>
                                    <a:pt x="244" y="66"/>
                                  </a:lnTo>
                                  <a:lnTo>
                                    <a:pt x="216" y="78"/>
                                  </a:lnTo>
                                  <a:lnTo>
                                    <a:pt x="187" y="91"/>
                                  </a:lnTo>
                                  <a:lnTo>
                                    <a:pt x="150" y="113"/>
                                  </a:lnTo>
                                  <a:lnTo>
                                    <a:pt x="113" y="143"/>
                                  </a:lnTo>
                                  <a:lnTo>
                                    <a:pt x="91" y="166"/>
                                  </a:lnTo>
                                  <a:lnTo>
                                    <a:pt x="73" y="194"/>
                                  </a:lnTo>
                                  <a:lnTo>
                                    <a:pt x="59" y="225"/>
                                  </a:lnTo>
                                  <a:lnTo>
                                    <a:pt x="49" y="260"/>
                                  </a:lnTo>
                                  <a:lnTo>
                                    <a:pt x="47" y="295"/>
                                  </a:lnTo>
                                  <a:lnTo>
                                    <a:pt x="55" y="335"/>
                                  </a:lnTo>
                                  <a:lnTo>
                                    <a:pt x="64" y="371"/>
                                  </a:lnTo>
                                  <a:lnTo>
                                    <a:pt x="76" y="402"/>
                                  </a:lnTo>
                                  <a:lnTo>
                                    <a:pt x="97" y="438"/>
                                  </a:lnTo>
                                  <a:lnTo>
                                    <a:pt x="125" y="478"/>
                                  </a:lnTo>
                                  <a:lnTo>
                                    <a:pt x="155" y="514"/>
                                  </a:lnTo>
                                  <a:lnTo>
                                    <a:pt x="177" y="545"/>
                                  </a:lnTo>
                                  <a:lnTo>
                                    <a:pt x="198" y="579"/>
                                  </a:lnTo>
                                  <a:lnTo>
                                    <a:pt x="165" y="585"/>
                                  </a:lnTo>
                                  <a:lnTo>
                                    <a:pt x="148" y="570"/>
                                  </a:lnTo>
                                  <a:lnTo>
                                    <a:pt x="130" y="553"/>
                                  </a:lnTo>
                                  <a:lnTo>
                                    <a:pt x="108" y="535"/>
                                  </a:lnTo>
                                  <a:lnTo>
                                    <a:pt x="89" y="513"/>
                                  </a:lnTo>
                                  <a:lnTo>
                                    <a:pt x="67" y="483"/>
                                  </a:lnTo>
                                  <a:lnTo>
                                    <a:pt x="49" y="454"/>
                                  </a:lnTo>
                                  <a:lnTo>
                                    <a:pt x="31" y="424"/>
                                  </a:lnTo>
                                  <a:lnTo>
                                    <a:pt x="19" y="395"/>
                                  </a:lnTo>
                                  <a:lnTo>
                                    <a:pt x="13" y="376"/>
                                  </a:lnTo>
                                  <a:lnTo>
                                    <a:pt x="6" y="348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a000a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453" name=""/>
                            <p:cNvSpPr/>
                            <p:nvPr/>
                          </p:nvSpPr>
                          <p:spPr>
                            <a:xfrm>
                              <a:off x="3368520" y="2468520"/>
                              <a:ext cx="98640" cy="17928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308" h="566">
                                  <a:moveTo>
                                    <a:pt x="6" y="337"/>
                                  </a:moveTo>
                                  <a:lnTo>
                                    <a:pt x="2" y="308"/>
                                  </a:lnTo>
                                  <a:lnTo>
                                    <a:pt x="0" y="278"/>
                                  </a:lnTo>
                                  <a:lnTo>
                                    <a:pt x="2" y="243"/>
                                  </a:lnTo>
                                  <a:lnTo>
                                    <a:pt x="6" y="218"/>
                                  </a:lnTo>
                                  <a:lnTo>
                                    <a:pt x="13" y="194"/>
                                  </a:lnTo>
                                  <a:lnTo>
                                    <a:pt x="24" y="163"/>
                                  </a:lnTo>
                                  <a:lnTo>
                                    <a:pt x="43" y="135"/>
                                  </a:lnTo>
                                  <a:lnTo>
                                    <a:pt x="60" y="113"/>
                                  </a:lnTo>
                                  <a:lnTo>
                                    <a:pt x="77" y="97"/>
                                  </a:lnTo>
                                  <a:lnTo>
                                    <a:pt x="98" y="79"/>
                                  </a:lnTo>
                                  <a:lnTo>
                                    <a:pt x="119" y="62"/>
                                  </a:lnTo>
                                  <a:lnTo>
                                    <a:pt x="145" y="47"/>
                                  </a:lnTo>
                                  <a:lnTo>
                                    <a:pt x="172" y="32"/>
                                  </a:lnTo>
                                  <a:lnTo>
                                    <a:pt x="196" y="20"/>
                                  </a:lnTo>
                                  <a:lnTo>
                                    <a:pt x="220" y="10"/>
                                  </a:lnTo>
                                  <a:lnTo>
                                    <a:pt x="242" y="4"/>
                                  </a:lnTo>
                                  <a:lnTo>
                                    <a:pt x="267" y="0"/>
                                  </a:lnTo>
                                  <a:lnTo>
                                    <a:pt x="291" y="0"/>
                                  </a:lnTo>
                                  <a:lnTo>
                                    <a:pt x="308" y="3"/>
                                  </a:lnTo>
                                  <a:lnTo>
                                    <a:pt x="300" y="22"/>
                                  </a:lnTo>
                                  <a:lnTo>
                                    <a:pt x="289" y="35"/>
                                  </a:lnTo>
                                  <a:lnTo>
                                    <a:pt x="273" y="44"/>
                                  </a:lnTo>
                                  <a:lnTo>
                                    <a:pt x="245" y="55"/>
                                  </a:lnTo>
                                  <a:lnTo>
                                    <a:pt x="217" y="68"/>
                                  </a:lnTo>
                                  <a:lnTo>
                                    <a:pt x="187" y="81"/>
                                  </a:lnTo>
                                  <a:lnTo>
                                    <a:pt x="150" y="102"/>
                                  </a:lnTo>
                                  <a:lnTo>
                                    <a:pt x="113" y="132"/>
                                  </a:lnTo>
                                  <a:lnTo>
                                    <a:pt x="91" y="156"/>
                                  </a:lnTo>
                                  <a:lnTo>
                                    <a:pt x="73" y="183"/>
                                  </a:lnTo>
                                  <a:lnTo>
                                    <a:pt x="59" y="214"/>
                                  </a:lnTo>
                                  <a:lnTo>
                                    <a:pt x="49" y="249"/>
                                  </a:lnTo>
                                  <a:lnTo>
                                    <a:pt x="47" y="284"/>
                                  </a:lnTo>
                                  <a:lnTo>
                                    <a:pt x="55" y="324"/>
                                  </a:lnTo>
                                  <a:lnTo>
                                    <a:pt x="64" y="361"/>
                                  </a:lnTo>
                                  <a:lnTo>
                                    <a:pt x="77" y="392"/>
                                  </a:lnTo>
                                  <a:lnTo>
                                    <a:pt x="97" y="426"/>
                                  </a:lnTo>
                                  <a:lnTo>
                                    <a:pt x="125" y="468"/>
                                  </a:lnTo>
                                  <a:lnTo>
                                    <a:pt x="155" y="503"/>
                                  </a:lnTo>
                                  <a:lnTo>
                                    <a:pt x="177" y="534"/>
                                  </a:lnTo>
                                  <a:lnTo>
                                    <a:pt x="189" y="565"/>
                                  </a:lnTo>
                                  <a:lnTo>
                                    <a:pt x="159" y="566"/>
                                  </a:lnTo>
                                  <a:lnTo>
                                    <a:pt x="131" y="542"/>
                                  </a:lnTo>
                                  <a:lnTo>
                                    <a:pt x="108" y="524"/>
                                  </a:lnTo>
                                  <a:lnTo>
                                    <a:pt x="88" y="502"/>
                                  </a:lnTo>
                                  <a:lnTo>
                                    <a:pt x="67" y="473"/>
                                  </a:lnTo>
                                  <a:lnTo>
                                    <a:pt x="49" y="443"/>
                                  </a:lnTo>
                                  <a:lnTo>
                                    <a:pt x="32" y="413"/>
                                  </a:lnTo>
                                  <a:lnTo>
                                    <a:pt x="19" y="384"/>
                                  </a:lnTo>
                                  <a:lnTo>
                                    <a:pt x="13" y="365"/>
                                  </a:lnTo>
                                  <a:lnTo>
                                    <a:pt x="6" y="337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40004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454" name=""/>
                            <p:cNvSpPr/>
                            <p:nvPr/>
                          </p:nvSpPr>
                          <p:spPr>
                            <a:xfrm>
                              <a:off x="3289320" y="2416320"/>
                              <a:ext cx="160200" cy="28404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503" h="898">
                                  <a:moveTo>
                                    <a:pt x="0" y="500"/>
                                  </a:moveTo>
                                  <a:lnTo>
                                    <a:pt x="3" y="451"/>
                                  </a:lnTo>
                                  <a:lnTo>
                                    <a:pt x="13" y="398"/>
                                  </a:lnTo>
                                  <a:lnTo>
                                    <a:pt x="25" y="352"/>
                                  </a:lnTo>
                                  <a:lnTo>
                                    <a:pt x="38" y="305"/>
                                  </a:lnTo>
                                  <a:lnTo>
                                    <a:pt x="53" y="267"/>
                                  </a:lnTo>
                                  <a:lnTo>
                                    <a:pt x="74" y="230"/>
                                  </a:lnTo>
                                  <a:lnTo>
                                    <a:pt x="98" y="199"/>
                                  </a:lnTo>
                                  <a:lnTo>
                                    <a:pt x="126" y="167"/>
                                  </a:lnTo>
                                  <a:lnTo>
                                    <a:pt x="162" y="134"/>
                                  </a:lnTo>
                                  <a:lnTo>
                                    <a:pt x="202" y="103"/>
                                  </a:lnTo>
                                  <a:lnTo>
                                    <a:pt x="245" y="74"/>
                                  </a:lnTo>
                                  <a:lnTo>
                                    <a:pt x="287" y="49"/>
                                  </a:lnTo>
                                  <a:lnTo>
                                    <a:pt x="334" y="29"/>
                                  </a:lnTo>
                                  <a:lnTo>
                                    <a:pt x="376" y="15"/>
                                  </a:lnTo>
                                  <a:lnTo>
                                    <a:pt x="415" y="5"/>
                                  </a:lnTo>
                                  <a:lnTo>
                                    <a:pt x="448" y="0"/>
                                  </a:lnTo>
                                  <a:lnTo>
                                    <a:pt x="463" y="3"/>
                                  </a:lnTo>
                                  <a:lnTo>
                                    <a:pt x="481" y="11"/>
                                  </a:lnTo>
                                  <a:lnTo>
                                    <a:pt x="503" y="24"/>
                                  </a:lnTo>
                                  <a:lnTo>
                                    <a:pt x="480" y="28"/>
                                  </a:lnTo>
                                  <a:lnTo>
                                    <a:pt x="452" y="34"/>
                                  </a:lnTo>
                                  <a:lnTo>
                                    <a:pt x="425" y="40"/>
                                  </a:lnTo>
                                  <a:lnTo>
                                    <a:pt x="394" y="48"/>
                                  </a:lnTo>
                                  <a:lnTo>
                                    <a:pt x="370" y="57"/>
                                  </a:lnTo>
                                  <a:lnTo>
                                    <a:pt x="345" y="68"/>
                                  </a:lnTo>
                                  <a:lnTo>
                                    <a:pt x="319" y="82"/>
                                  </a:lnTo>
                                  <a:lnTo>
                                    <a:pt x="295" y="95"/>
                                  </a:lnTo>
                                  <a:lnTo>
                                    <a:pt x="272" y="108"/>
                                  </a:lnTo>
                                  <a:lnTo>
                                    <a:pt x="248" y="124"/>
                                  </a:lnTo>
                                  <a:lnTo>
                                    <a:pt x="222" y="141"/>
                                  </a:lnTo>
                                  <a:lnTo>
                                    <a:pt x="199" y="158"/>
                                  </a:lnTo>
                                  <a:lnTo>
                                    <a:pt x="177" y="174"/>
                                  </a:lnTo>
                                  <a:lnTo>
                                    <a:pt x="159" y="190"/>
                                  </a:lnTo>
                                  <a:lnTo>
                                    <a:pt x="141" y="210"/>
                                  </a:lnTo>
                                  <a:lnTo>
                                    <a:pt x="127" y="230"/>
                                  </a:lnTo>
                                  <a:lnTo>
                                    <a:pt x="115" y="254"/>
                                  </a:lnTo>
                                  <a:lnTo>
                                    <a:pt x="98" y="282"/>
                                  </a:lnTo>
                                  <a:lnTo>
                                    <a:pt x="84" y="308"/>
                                  </a:lnTo>
                                  <a:lnTo>
                                    <a:pt x="75" y="332"/>
                                  </a:lnTo>
                                  <a:lnTo>
                                    <a:pt x="67" y="354"/>
                                  </a:lnTo>
                                  <a:lnTo>
                                    <a:pt x="61" y="377"/>
                                  </a:lnTo>
                                  <a:lnTo>
                                    <a:pt x="56" y="402"/>
                                  </a:lnTo>
                                  <a:lnTo>
                                    <a:pt x="51" y="426"/>
                                  </a:lnTo>
                                  <a:lnTo>
                                    <a:pt x="48" y="457"/>
                                  </a:lnTo>
                                  <a:lnTo>
                                    <a:pt x="47" y="491"/>
                                  </a:lnTo>
                                  <a:lnTo>
                                    <a:pt x="48" y="519"/>
                                  </a:lnTo>
                                  <a:lnTo>
                                    <a:pt x="51" y="546"/>
                                  </a:lnTo>
                                  <a:lnTo>
                                    <a:pt x="59" y="575"/>
                                  </a:lnTo>
                                  <a:lnTo>
                                    <a:pt x="66" y="602"/>
                                  </a:lnTo>
                                  <a:lnTo>
                                    <a:pt x="76" y="628"/>
                                  </a:lnTo>
                                  <a:lnTo>
                                    <a:pt x="89" y="652"/>
                                  </a:lnTo>
                                  <a:lnTo>
                                    <a:pt x="103" y="676"/>
                                  </a:lnTo>
                                  <a:lnTo>
                                    <a:pt x="118" y="703"/>
                                  </a:lnTo>
                                  <a:lnTo>
                                    <a:pt x="133" y="731"/>
                                  </a:lnTo>
                                  <a:lnTo>
                                    <a:pt x="149" y="759"/>
                                  </a:lnTo>
                                  <a:lnTo>
                                    <a:pt x="166" y="785"/>
                                  </a:lnTo>
                                  <a:lnTo>
                                    <a:pt x="182" y="810"/>
                                  </a:lnTo>
                                  <a:lnTo>
                                    <a:pt x="203" y="839"/>
                                  </a:lnTo>
                                  <a:lnTo>
                                    <a:pt x="224" y="865"/>
                                  </a:lnTo>
                                  <a:lnTo>
                                    <a:pt x="214" y="883"/>
                                  </a:lnTo>
                                  <a:lnTo>
                                    <a:pt x="207" y="898"/>
                                  </a:lnTo>
                                  <a:lnTo>
                                    <a:pt x="188" y="884"/>
                                  </a:lnTo>
                                  <a:lnTo>
                                    <a:pt x="161" y="858"/>
                                  </a:lnTo>
                                  <a:lnTo>
                                    <a:pt x="136" y="827"/>
                                  </a:lnTo>
                                  <a:lnTo>
                                    <a:pt x="109" y="787"/>
                                  </a:lnTo>
                                  <a:lnTo>
                                    <a:pt x="78" y="738"/>
                                  </a:lnTo>
                                  <a:lnTo>
                                    <a:pt x="50" y="687"/>
                                  </a:lnTo>
                                  <a:lnTo>
                                    <a:pt x="31" y="648"/>
                                  </a:lnTo>
                                  <a:lnTo>
                                    <a:pt x="16" y="602"/>
                                  </a:lnTo>
                                  <a:lnTo>
                                    <a:pt x="4" y="549"/>
                                  </a:lnTo>
                                  <a:lnTo>
                                    <a:pt x="0" y="50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e000e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455" name=""/>
                        <p:cNvGrpSpPr/>
                        <p:nvPr/>
                      </p:nvGrpSpPr>
                      <p:grpSpPr>
                        <a:xfrm>
                          <a:off x="3352680" y="2639880"/>
                          <a:ext cx="77760" cy="66960"/>
                          <a:chOff x="3352680" y="2639880"/>
                          <a:chExt cx="77760" cy="66960"/>
                        </a:xfrm>
                      </p:grpSpPr>
                      <p:sp>
                        <p:nvSpPr>
                          <p:cNvPr id="456" name=""/>
                          <p:cNvSpPr/>
                          <p:nvPr/>
                        </p:nvSpPr>
                        <p:spPr>
                          <a:xfrm>
                            <a:off x="3352680" y="2639880"/>
                            <a:ext cx="77760" cy="6696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44" h="210">
                                <a:moveTo>
                                  <a:pt x="238" y="16"/>
                                </a:moveTo>
                                <a:lnTo>
                                  <a:pt x="223" y="7"/>
                                </a:lnTo>
                                <a:lnTo>
                                  <a:pt x="202" y="1"/>
                                </a:lnTo>
                                <a:lnTo>
                                  <a:pt x="183" y="0"/>
                                </a:lnTo>
                                <a:lnTo>
                                  <a:pt x="165" y="1"/>
                                </a:lnTo>
                                <a:lnTo>
                                  <a:pt x="144" y="7"/>
                                </a:lnTo>
                                <a:lnTo>
                                  <a:pt x="122" y="14"/>
                                </a:lnTo>
                                <a:lnTo>
                                  <a:pt x="101" y="25"/>
                                </a:lnTo>
                                <a:lnTo>
                                  <a:pt x="79" y="37"/>
                                </a:lnTo>
                                <a:lnTo>
                                  <a:pt x="57" y="54"/>
                                </a:lnTo>
                                <a:lnTo>
                                  <a:pt x="33" y="78"/>
                                </a:lnTo>
                                <a:lnTo>
                                  <a:pt x="20" y="101"/>
                                </a:lnTo>
                                <a:lnTo>
                                  <a:pt x="11" y="120"/>
                                </a:lnTo>
                                <a:lnTo>
                                  <a:pt x="5" y="141"/>
                                </a:lnTo>
                                <a:lnTo>
                                  <a:pt x="0" y="162"/>
                                </a:lnTo>
                                <a:lnTo>
                                  <a:pt x="3" y="182"/>
                                </a:lnTo>
                                <a:lnTo>
                                  <a:pt x="11" y="197"/>
                                </a:lnTo>
                                <a:lnTo>
                                  <a:pt x="27" y="203"/>
                                </a:lnTo>
                                <a:lnTo>
                                  <a:pt x="45" y="209"/>
                                </a:lnTo>
                                <a:lnTo>
                                  <a:pt x="66" y="210"/>
                                </a:lnTo>
                                <a:lnTo>
                                  <a:pt x="94" y="206"/>
                                </a:lnTo>
                                <a:lnTo>
                                  <a:pt x="122" y="194"/>
                                </a:lnTo>
                                <a:lnTo>
                                  <a:pt x="150" y="179"/>
                                </a:lnTo>
                                <a:lnTo>
                                  <a:pt x="178" y="156"/>
                                </a:lnTo>
                                <a:lnTo>
                                  <a:pt x="201" y="133"/>
                                </a:lnTo>
                                <a:lnTo>
                                  <a:pt x="221" y="108"/>
                                </a:lnTo>
                                <a:lnTo>
                                  <a:pt x="236" y="83"/>
                                </a:lnTo>
                                <a:lnTo>
                                  <a:pt x="242" y="59"/>
                                </a:lnTo>
                                <a:lnTo>
                                  <a:pt x="244" y="34"/>
                                </a:lnTo>
                                <a:lnTo>
                                  <a:pt x="238" y="16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a000a0"/>
                          </a:solidFill>
                          <a:ln w="3240">
                            <a:solidFill>
                              <a:srgbClr val="20002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20160" bIns="201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457" name=""/>
                          <p:cNvSpPr/>
                          <p:nvPr/>
                        </p:nvSpPr>
                        <p:spPr>
                          <a:xfrm>
                            <a:off x="3362400" y="2649600"/>
                            <a:ext cx="58680" cy="4932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82" h="155">
                                <a:moveTo>
                                  <a:pt x="178" y="11"/>
                                </a:moveTo>
                                <a:lnTo>
                                  <a:pt x="167" y="4"/>
                                </a:lnTo>
                                <a:lnTo>
                                  <a:pt x="152" y="0"/>
                                </a:lnTo>
                                <a:lnTo>
                                  <a:pt x="137" y="0"/>
                                </a:lnTo>
                                <a:lnTo>
                                  <a:pt x="124" y="0"/>
                                </a:lnTo>
                                <a:lnTo>
                                  <a:pt x="108" y="4"/>
                                </a:lnTo>
                                <a:lnTo>
                                  <a:pt x="91" y="9"/>
                                </a:lnTo>
                                <a:lnTo>
                                  <a:pt x="76" y="18"/>
                                </a:lnTo>
                                <a:lnTo>
                                  <a:pt x="60" y="27"/>
                                </a:lnTo>
                                <a:lnTo>
                                  <a:pt x="42" y="39"/>
                                </a:lnTo>
                                <a:lnTo>
                                  <a:pt x="25" y="57"/>
                                </a:lnTo>
                                <a:lnTo>
                                  <a:pt x="15" y="74"/>
                                </a:lnTo>
                                <a:lnTo>
                                  <a:pt x="9" y="89"/>
                                </a:lnTo>
                                <a:lnTo>
                                  <a:pt x="3" y="104"/>
                                </a:lnTo>
                                <a:lnTo>
                                  <a:pt x="0" y="120"/>
                                </a:lnTo>
                                <a:lnTo>
                                  <a:pt x="2" y="134"/>
                                </a:lnTo>
                                <a:lnTo>
                                  <a:pt x="9" y="147"/>
                                </a:lnTo>
                                <a:lnTo>
                                  <a:pt x="21" y="151"/>
                                </a:lnTo>
                                <a:lnTo>
                                  <a:pt x="33" y="155"/>
                                </a:lnTo>
                                <a:lnTo>
                                  <a:pt x="49" y="155"/>
                                </a:lnTo>
                                <a:lnTo>
                                  <a:pt x="70" y="153"/>
                                </a:lnTo>
                                <a:lnTo>
                                  <a:pt x="91" y="144"/>
                                </a:lnTo>
                                <a:lnTo>
                                  <a:pt x="113" y="132"/>
                                </a:lnTo>
                                <a:lnTo>
                                  <a:pt x="133" y="116"/>
                                </a:lnTo>
                                <a:lnTo>
                                  <a:pt x="151" y="99"/>
                                </a:lnTo>
                                <a:lnTo>
                                  <a:pt x="165" y="80"/>
                                </a:lnTo>
                                <a:lnTo>
                                  <a:pt x="177" y="62"/>
                                </a:lnTo>
                                <a:lnTo>
                                  <a:pt x="181" y="43"/>
                                </a:lnTo>
                                <a:lnTo>
                                  <a:pt x="182" y="25"/>
                                </a:lnTo>
                                <a:lnTo>
                                  <a:pt x="178" y="11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600060"/>
                          </a:solidFill>
                          <a:ln w="3240">
                            <a:solidFill>
                              <a:srgbClr val="20002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2520" bIns="25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</p:grpSp>
                <p:grpSp>
                  <p:nvGrpSpPr>
                    <p:cNvPr id="458" name=""/>
                    <p:cNvGrpSpPr/>
                    <p:nvPr/>
                  </p:nvGrpSpPr>
                  <p:grpSpPr>
                    <a:xfrm>
                      <a:off x="3289320" y="2505240"/>
                      <a:ext cx="341280" cy="239400"/>
                      <a:chOff x="3289320" y="2505240"/>
                      <a:chExt cx="341280" cy="239400"/>
                    </a:xfrm>
                  </p:grpSpPr>
                  <p:grpSp>
                    <p:nvGrpSpPr>
                      <p:cNvPr id="459" name=""/>
                      <p:cNvGrpSpPr/>
                      <p:nvPr/>
                    </p:nvGrpSpPr>
                    <p:grpSpPr>
                      <a:xfrm>
                        <a:off x="3289320" y="2505240"/>
                        <a:ext cx="341280" cy="222120"/>
                        <a:chOff x="3289320" y="2505240"/>
                        <a:chExt cx="341280" cy="222120"/>
                      </a:xfrm>
                    </p:grpSpPr>
                    <p:sp>
                      <p:nvSpPr>
                        <p:cNvPr id="460" name=""/>
                        <p:cNvSpPr/>
                        <p:nvPr/>
                      </p:nvSpPr>
                      <p:spPr>
                        <a:xfrm>
                          <a:off x="3289320" y="2505240"/>
                          <a:ext cx="341280" cy="2221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073" h="702">
                              <a:moveTo>
                                <a:pt x="680" y="5"/>
                              </a:moveTo>
                              <a:lnTo>
                                <a:pt x="713" y="1"/>
                              </a:lnTo>
                              <a:lnTo>
                                <a:pt x="751" y="0"/>
                              </a:lnTo>
                              <a:lnTo>
                                <a:pt x="789" y="1"/>
                              </a:lnTo>
                              <a:lnTo>
                                <a:pt x="835" y="4"/>
                              </a:lnTo>
                              <a:lnTo>
                                <a:pt x="876" y="6"/>
                              </a:lnTo>
                              <a:lnTo>
                                <a:pt x="911" y="8"/>
                              </a:lnTo>
                              <a:lnTo>
                                <a:pt x="947" y="11"/>
                              </a:lnTo>
                              <a:lnTo>
                                <a:pt x="975" y="14"/>
                              </a:lnTo>
                              <a:lnTo>
                                <a:pt x="999" y="20"/>
                              </a:lnTo>
                              <a:lnTo>
                                <a:pt x="1019" y="27"/>
                              </a:lnTo>
                              <a:lnTo>
                                <a:pt x="1035" y="37"/>
                              </a:lnTo>
                              <a:lnTo>
                                <a:pt x="1046" y="46"/>
                              </a:lnTo>
                              <a:lnTo>
                                <a:pt x="1058" y="58"/>
                              </a:lnTo>
                              <a:lnTo>
                                <a:pt x="1065" y="69"/>
                              </a:lnTo>
                              <a:lnTo>
                                <a:pt x="1070" y="87"/>
                              </a:lnTo>
                              <a:lnTo>
                                <a:pt x="1073" y="102"/>
                              </a:lnTo>
                              <a:lnTo>
                                <a:pt x="1072" y="122"/>
                              </a:lnTo>
                              <a:lnTo>
                                <a:pt x="1067" y="142"/>
                              </a:lnTo>
                              <a:lnTo>
                                <a:pt x="1062" y="155"/>
                              </a:lnTo>
                              <a:lnTo>
                                <a:pt x="1054" y="167"/>
                              </a:lnTo>
                              <a:lnTo>
                                <a:pt x="1043" y="175"/>
                              </a:lnTo>
                              <a:lnTo>
                                <a:pt x="1034" y="181"/>
                              </a:lnTo>
                              <a:lnTo>
                                <a:pt x="1024" y="186"/>
                              </a:lnTo>
                              <a:lnTo>
                                <a:pt x="1008" y="188"/>
                              </a:lnTo>
                              <a:lnTo>
                                <a:pt x="985" y="187"/>
                              </a:lnTo>
                              <a:lnTo>
                                <a:pt x="961" y="186"/>
                              </a:lnTo>
                              <a:lnTo>
                                <a:pt x="935" y="188"/>
                              </a:lnTo>
                              <a:lnTo>
                                <a:pt x="913" y="189"/>
                              </a:lnTo>
                              <a:lnTo>
                                <a:pt x="886" y="190"/>
                              </a:lnTo>
                              <a:lnTo>
                                <a:pt x="860" y="190"/>
                              </a:lnTo>
                              <a:lnTo>
                                <a:pt x="832" y="188"/>
                              </a:lnTo>
                              <a:lnTo>
                                <a:pt x="801" y="188"/>
                              </a:lnTo>
                              <a:lnTo>
                                <a:pt x="771" y="186"/>
                              </a:lnTo>
                              <a:lnTo>
                                <a:pt x="745" y="188"/>
                              </a:lnTo>
                              <a:lnTo>
                                <a:pt x="714" y="190"/>
                              </a:lnTo>
                              <a:lnTo>
                                <a:pt x="682" y="192"/>
                              </a:lnTo>
                              <a:lnTo>
                                <a:pt x="655" y="198"/>
                              </a:lnTo>
                              <a:lnTo>
                                <a:pt x="627" y="207"/>
                              </a:lnTo>
                              <a:lnTo>
                                <a:pt x="600" y="216"/>
                              </a:lnTo>
                              <a:lnTo>
                                <a:pt x="570" y="227"/>
                              </a:lnTo>
                              <a:lnTo>
                                <a:pt x="541" y="238"/>
                              </a:lnTo>
                              <a:lnTo>
                                <a:pt x="517" y="248"/>
                              </a:lnTo>
                              <a:lnTo>
                                <a:pt x="489" y="259"/>
                              </a:lnTo>
                              <a:lnTo>
                                <a:pt x="467" y="272"/>
                              </a:lnTo>
                              <a:lnTo>
                                <a:pt x="447" y="283"/>
                              </a:lnTo>
                              <a:lnTo>
                                <a:pt x="426" y="295"/>
                              </a:lnTo>
                              <a:lnTo>
                                <a:pt x="404" y="308"/>
                              </a:lnTo>
                              <a:lnTo>
                                <a:pt x="387" y="324"/>
                              </a:lnTo>
                              <a:lnTo>
                                <a:pt x="366" y="346"/>
                              </a:lnTo>
                              <a:lnTo>
                                <a:pt x="350" y="365"/>
                              </a:lnTo>
                              <a:lnTo>
                                <a:pt x="335" y="381"/>
                              </a:lnTo>
                              <a:lnTo>
                                <a:pt x="319" y="403"/>
                              </a:lnTo>
                              <a:lnTo>
                                <a:pt x="307" y="424"/>
                              </a:lnTo>
                              <a:lnTo>
                                <a:pt x="295" y="448"/>
                              </a:lnTo>
                              <a:lnTo>
                                <a:pt x="283" y="470"/>
                              </a:lnTo>
                              <a:lnTo>
                                <a:pt x="273" y="494"/>
                              </a:lnTo>
                              <a:lnTo>
                                <a:pt x="268" y="517"/>
                              </a:lnTo>
                              <a:lnTo>
                                <a:pt x="262" y="539"/>
                              </a:lnTo>
                              <a:lnTo>
                                <a:pt x="258" y="564"/>
                              </a:lnTo>
                              <a:lnTo>
                                <a:pt x="255" y="587"/>
                              </a:lnTo>
                              <a:lnTo>
                                <a:pt x="252" y="617"/>
                              </a:lnTo>
                              <a:lnTo>
                                <a:pt x="251" y="645"/>
                              </a:lnTo>
                              <a:lnTo>
                                <a:pt x="250" y="672"/>
                              </a:lnTo>
                              <a:lnTo>
                                <a:pt x="248" y="702"/>
                              </a:lnTo>
                              <a:lnTo>
                                <a:pt x="5" y="700"/>
                              </a:lnTo>
                              <a:lnTo>
                                <a:pt x="1" y="675"/>
                              </a:lnTo>
                              <a:lnTo>
                                <a:pt x="0" y="651"/>
                              </a:lnTo>
                              <a:lnTo>
                                <a:pt x="2" y="623"/>
                              </a:lnTo>
                              <a:lnTo>
                                <a:pt x="5" y="589"/>
                              </a:lnTo>
                              <a:lnTo>
                                <a:pt x="8" y="558"/>
                              </a:lnTo>
                              <a:lnTo>
                                <a:pt x="11" y="533"/>
                              </a:lnTo>
                              <a:lnTo>
                                <a:pt x="17" y="509"/>
                              </a:lnTo>
                              <a:lnTo>
                                <a:pt x="23" y="485"/>
                              </a:lnTo>
                              <a:lnTo>
                                <a:pt x="33" y="457"/>
                              </a:lnTo>
                              <a:lnTo>
                                <a:pt x="42" y="430"/>
                              </a:lnTo>
                              <a:lnTo>
                                <a:pt x="51" y="407"/>
                              </a:lnTo>
                              <a:lnTo>
                                <a:pt x="62" y="384"/>
                              </a:lnTo>
                              <a:lnTo>
                                <a:pt x="73" y="360"/>
                              </a:lnTo>
                              <a:lnTo>
                                <a:pt x="86" y="339"/>
                              </a:lnTo>
                              <a:lnTo>
                                <a:pt x="100" y="315"/>
                              </a:lnTo>
                              <a:lnTo>
                                <a:pt x="117" y="290"/>
                              </a:lnTo>
                              <a:lnTo>
                                <a:pt x="134" y="265"/>
                              </a:lnTo>
                              <a:lnTo>
                                <a:pt x="151" y="244"/>
                              </a:lnTo>
                              <a:lnTo>
                                <a:pt x="170" y="219"/>
                              </a:lnTo>
                              <a:lnTo>
                                <a:pt x="190" y="200"/>
                              </a:lnTo>
                              <a:lnTo>
                                <a:pt x="215" y="179"/>
                              </a:lnTo>
                              <a:lnTo>
                                <a:pt x="240" y="159"/>
                              </a:lnTo>
                              <a:lnTo>
                                <a:pt x="266" y="137"/>
                              </a:lnTo>
                              <a:lnTo>
                                <a:pt x="291" y="120"/>
                              </a:lnTo>
                              <a:lnTo>
                                <a:pt x="315" y="103"/>
                              </a:lnTo>
                              <a:lnTo>
                                <a:pt x="338" y="90"/>
                              </a:lnTo>
                              <a:lnTo>
                                <a:pt x="362" y="77"/>
                              </a:lnTo>
                              <a:lnTo>
                                <a:pt x="384" y="64"/>
                              </a:lnTo>
                              <a:lnTo>
                                <a:pt x="410" y="52"/>
                              </a:lnTo>
                              <a:lnTo>
                                <a:pt x="438" y="43"/>
                              </a:lnTo>
                              <a:lnTo>
                                <a:pt x="469" y="36"/>
                              </a:lnTo>
                              <a:lnTo>
                                <a:pt x="501" y="29"/>
                              </a:lnTo>
                              <a:lnTo>
                                <a:pt x="533" y="24"/>
                              </a:lnTo>
                              <a:lnTo>
                                <a:pt x="572" y="19"/>
                              </a:lnTo>
                              <a:lnTo>
                                <a:pt x="611" y="14"/>
                              </a:lnTo>
                              <a:lnTo>
                                <a:pt x="645" y="9"/>
                              </a:lnTo>
                              <a:lnTo>
                                <a:pt x="680" y="5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80008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grpSp>
                      <p:nvGrpSpPr>
                        <p:cNvPr id="461" name=""/>
                        <p:cNvGrpSpPr/>
                        <p:nvPr/>
                      </p:nvGrpSpPr>
                      <p:grpSpPr>
                        <a:xfrm>
                          <a:off x="3316320" y="2519280"/>
                          <a:ext cx="314280" cy="208080"/>
                          <a:chOff x="3316320" y="2519280"/>
                          <a:chExt cx="314280" cy="208080"/>
                        </a:xfrm>
                      </p:grpSpPr>
                      <p:grpSp>
                        <p:nvGrpSpPr>
                          <p:cNvPr id="462" name=""/>
                          <p:cNvGrpSpPr/>
                          <p:nvPr/>
                        </p:nvGrpSpPr>
                        <p:grpSpPr>
                          <a:xfrm>
                            <a:off x="3349800" y="2538360"/>
                            <a:ext cx="280800" cy="189000"/>
                            <a:chOff x="3349800" y="2538360"/>
                            <a:chExt cx="280800" cy="189000"/>
                          </a:xfrm>
                        </p:grpSpPr>
                        <p:sp>
                          <p:nvSpPr>
                            <p:cNvPr id="463" name=""/>
                            <p:cNvSpPr/>
                            <p:nvPr/>
                          </p:nvSpPr>
                          <p:spPr>
                            <a:xfrm>
                              <a:off x="3349800" y="2538360"/>
                              <a:ext cx="280800" cy="17640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883" h="559">
                                  <a:moveTo>
                                    <a:pt x="450" y="11"/>
                                  </a:moveTo>
                                  <a:lnTo>
                                    <a:pt x="463" y="8"/>
                                  </a:lnTo>
                                  <a:lnTo>
                                    <a:pt x="490" y="5"/>
                                  </a:lnTo>
                                  <a:lnTo>
                                    <a:pt x="522" y="3"/>
                                  </a:lnTo>
                                  <a:lnTo>
                                    <a:pt x="552" y="1"/>
                                  </a:lnTo>
                                  <a:lnTo>
                                    <a:pt x="580" y="2"/>
                                  </a:lnTo>
                                  <a:lnTo>
                                    <a:pt x="610" y="3"/>
                                  </a:lnTo>
                                  <a:lnTo>
                                    <a:pt x="641" y="4"/>
                                  </a:lnTo>
                                  <a:lnTo>
                                    <a:pt x="669" y="6"/>
                                  </a:lnTo>
                                  <a:lnTo>
                                    <a:pt x="699" y="4"/>
                                  </a:lnTo>
                                  <a:lnTo>
                                    <a:pt x="727" y="3"/>
                                  </a:lnTo>
                                  <a:lnTo>
                                    <a:pt x="760" y="1"/>
                                  </a:lnTo>
                                  <a:lnTo>
                                    <a:pt x="791" y="0"/>
                                  </a:lnTo>
                                  <a:lnTo>
                                    <a:pt x="816" y="1"/>
                                  </a:lnTo>
                                  <a:lnTo>
                                    <a:pt x="840" y="2"/>
                                  </a:lnTo>
                                  <a:lnTo>
                                    <a:pt x="866" y="3"/>
                                  </a:lnTo>
                                  <a:lnTo>
                                    <a:pt x="883" y="6"/>
                                  </a:lnTo>
                                  <a:lnTo>
                                    <a:pt x="881" y="20"/>
                                  </a:lnTo>
                                  <a:lnTo>
                                    <a:pt x="878" y="32"/>
                                  </a:lnTo>
                                  <a:lnTo>
                                    <a:pt x="875" y="43"/>
                                  </a:lnTo>
                                  <a:lnTo>
                                    <a:pt x="811" y="44"/>
                                  </a:lnTo>
                                  <a:lnTo>
                                    <a:pt x="795" y="46"/>
                                  </a:lnTo>
                                  <a:lnTo>
                                    <a:pt x="773" y="45"/>
                                  </a:lnTo>
                                  <a:lnTo>
                                    <a:pt x="748" y="44"/>
                                  </a:lnTo>
                                  <a:lnTo>
                                    <a:pt x="723" y="46"/>
                                  </a:lnTo>
                                  <a:lnTo>
                                    <a:pt x="700" y="48"/>
                                  </a:lnTo>
                                  <a:lnTo>
                                    <a:pt x="673" y="49"/>
                                  </a:lnTo>
                                  <a:lnTo>
                                    <a:pt x="649" y="49"/>
                                  </a:lnTo>
                                  <a:lnTo>
                                    <a:pt x="620" y="46"/>
                                  </a:lnTo>
                                  <a:lnTo>
                                    <a:pt x="589" y="46"/>
                                  </a:lnTo>
                                  <a:lnTo>
                                    <a:pt x="560" y="44"/>
                                  </a:lnTo>
                                  <a:lnTo>
                                    <a:pt x="532" y="46"/>
                                  </a:lnTo>
                                  <a:lnTo>
                                    <a:pt x="502" y="49"/>
                                  </a:lnTo>
                                  <a:lnTo>
                                    <a:pt x="470" y="51"/>
                                  </a:lnTo>
                                  <a:lnTo>
                                    <a:pt x="442" y="57"/>
                                  </a:lnTo>
                                  <a:lnTo>
                                    <a:pt x="415" y="66"/>
                                  </a:lnTo>
                                  <a:lnTo>
                                    <a:pt x="387" y="75"/>
                                  </a:lnTo>
                                  <a:lnTo>
                                    <a:pt x="357" y="86"/>
                                  </a:lnTo>
                                  <a:lnTo>
                                    <a:pt x="329" y="96"/>
                                  </a:lnTo>
                                  <a:lnTo>
                                    <a:pt x="304" y="106"/>
                                  </a:lnTo>
                                  <a:lnTo>
                                    <a:pt x="277" y="117"/>
                                  </a:lnTo>
                                  <a:lnTo>
                                    <a:pt x="255" y="130"/>
                                  </a:lnTo>
                                  <a:lnTo>
                                    <a:pt x="235" y="140"/>
                                  </a:lnTo>
                                  <a:lnTo>
                                    <a:pt x="214" y="152"/>
                                  </a:lnTo>
                                  <a:lnTo>
                                    <a:pt x="193" y="165"/>
                                  </a:lnTo>
                                  <a:lnTo>
                                    <a:pt x="175" y="181"/>
                                  </a:lnTo>
                                  <a:lnTo>
                                    <a:pt x="155" y="203"/>
                                  </a:lnTo>
                                  <a:lnTo>
                                    <a:pt x="139" y="222"/>
                                  </a:lnTo>
                                  <a:lnTo>
                                    <a:pt x="123" y="238"/>
                                  </a:lnTo>
                                  <a:lnTo>
                                    <a:pt x="108" y="260"/>
                                  </a:lnTo>
                                  <a:lnTo>
                                    <a:pt x="96" y="281"/>
                                  </a:lnTo>
                                  <a:lnTo>
                                    <a:pt x="83" y="305"/>
                                  </a:lnTo>
                                  <a:lnTo>
                                    <a:pt x="71" y="328"/>
                                  </a:lnTo>
                                  <a:lnTo>
                                    <a:pt x="62" y="351"/>
                                  </a:lnTo>
                                  <a:lnTo>
                                    <a:pt x="56" y="375"/>
                                  </a:lnTo>
                                  <a:lnTo>
                                    <a:pt x="50" y="398"/>
                                  </a:lnTo>
                                  <a:lnTo>
                                    <a:pt x="45" y="421"/>
                                  </a:lnTo>
                                  <a:lnTo>
                                    <a:pt x="42" y="444"/>
                                  </a:lnTo>
                                  <a:lnTo>
                                    <a:pt x="39" y="474"/>
                                  </a:lnTo>
                                  <a:lnTo>
                                    <a:pt x="38" y="502"/>
                                  </a:lnTo>
                                  <a:lnTo>
                                    <a:pt x="37" y="529"/>
                                  </a:lnTo>
                                  <a:lnTo>
                                    <a:pt x="35" y="559"/>
                                  </a:lnTo>
                                  <a:lnTo>
                                    <a:pt x="8" y="553"/>
                                  </a:lnTo>
                                  <a:lnTo>
                                    <a:pt x="5" y="525"/>
                                  </a:lnTo>
                                  <a:lnTo>
                                    <a:pt x="3" y="501"/>
                                  </a:lnTo>
                                  <a:lnTo>
                                    <a:pt x="0" y="475"/>
                                  </a:lnTo>
                                  <a:lnTo>
                                    <a:pt x="1" y="444"/>
                                  </a:lnTo>
                                  <a:lnTo>
                                    <a:pt x="4" y="415"/>
                                  </a:lnTo>
                                  <a:lnTo>
                                    <a:pt x="10" y="380"/>
                                  </a:lnTo>
                                  <a:lnTo>
                                    <a:pt x="15" y="355"/>
                                  </a:lnTo>
                                  <a:lnTo>
                                    <a:pt x="23" y="329"/>
                                  </a:lnTo>
                                  <a:lnTo>
                                    <a:pt x="31" y="305"/>
                                  </a:lnTo>
                                  <a:lnTo>
                                    <a:pt x="41" y="283"/>
                                  </a:lnTo>
                                  <a:lnTo>
                                    <a:pt x="54" y="262"/>
                                  </a:lnTo>
                                  <a:lnTo>
                                    <a:pt x="68" y="238"/>
                                  </a:lnTo>
                                  <a:lnTo>
                                    <a:pt x="85" y="215"/>
                                  </a:lnTo>
                                  <a:lnTo>
                                    <a:pt x="103" y="193"/>
                                  </a:lnTo>
                                  <a:lnTo>
                                    <a:pt x="122" y="173"/>
                                  </a:lnTo>
                                  <a:lnTo>
                                    <a:pt x="142" y="151"/>
                                  </a:lnTo>
                                  <a:lnTo>
                                    <a:pt x="163" y="132"/>
                                  </a:lnTo>
                                  <a:lnTo>
                                    <a:pt x="186" y="114"/>
                                  </a:lnTo>
                                  <a:lnTo>
                                    <a:pt x="211" y="99"/>
                                  </a:lnTo>
                                  <a:lnTo>
                                    <a:pt x="239" y="85"/>
                                  </a:lnTo>
                                  <a:lnTo>
                                    <a:pt x="270" y="69"/>
                                  </a:lnTo>
                                  <a:lnTo>
                                    <a:pt x="300" y="59"/>
                                  </a:lnTo>
                                  <a:lnTo>
                                    <a:pt x="332" y="46"/>
                                  </a:lnTo>
                                  <a:lnTo>
                                    <a:pt x="367" y="34"/>
                                  </a:lnTo>
                                  <a:lnTo>
                                    <a:pt x="396" y="24"/>
                                  </a:lnTo>
                                  <a:lnTo>
                                    <a:pt x="426" y="16"/>
                                  </a:lnTo>
                                  <a:lnTo>
                                    <a:pt x="450" y="11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c000c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464" name=""/>
                            <p:cNvSpPr/>
                            <p:nvPr/>
                          </p:nvSpPr>
                          <p:spPr>
                            <a:xfrm>
                              <a:off x="3357720" y="2549520"/>
                              <a:ext cx="269640" cy="17784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854" h="560">
                                  <a:moveTo>
                                    <a:pt x="450" y="12"/>
                                  </a:moveTo>
                                  <a:lnTo>
                                    <a:pt x="462" y="8"/>
                                  </a:lnTo>
                                  <a:lnTo>
                                    <a:pt x="490" y="6"/>
                                  </a:lnTo>
                                  <a:lnTo>
                                    <a:pt x="522" y="4"/>
                                  </a:lnTo>
                                  <a:lnTo>
                                    <a:pt x="550" y="2"/>
                                  </a:lnTo>
                                  <a:lnTo>
                                    <a:pt x="580" y="3"/>
                                  </a:lnTo>
                                  <a:lnTo>
                                    <a:pt x="610" y="4"/>
                                  </a:lnTo>
                                  <a:lnTo>
                                    <a:pt x="640" y="5"/>
                                  </a:lnTo>
                                  <a:lnTo>
                                    <a:pt x="669" y="7"/>
                                  </a:lnTo>
                                  <a:lnTo>
                                    <a:pt x="698" y="5"/>
                                  </a:lnTo>
                                  <a:lnTo>
                                    <a:pt x="726" y="4"/>
                                  </a:lnTo>
                                  <a:lnTo>
                                    <a:pt x="760" y="2"/>
                                  </a:lnTo>
                                  <a:lnTo>
                                    <a:pt x="791" y="1"/>
                                  </a:lnTo>
                                  <a:lnTo>
                                    <a:pt x="815" y="2"/>
                                  </a:lnTo>
                                  <a:lnTo>
                                    <a:pt x="840" y="3"/>
                                  </a:lnTo>
                                  <a:lnTo>
                                    <a:pt x="854" y="0"/>
                                  </a:lnTo>
                                  <a:lnTo>
                                    <a:pt x="849" y="13"/>
                                  </a:lnTo>
                                  <a:lnTo>
                                    <a:pt x="841" y="25"/>
                                  </a:lnTo>
                                  <a:lnTo>
                                    <a:pt x="830" y="34"/>
                                  </a:lnTo>
                                  <a:lnTo>
                                    <a:pt x="821" y="40"/>
                                  </a:lnTo>
                                  <a:lnTo>
                                    <a:pt x="811" y="45"/>
                                  </a:lnTo>
                                  <a:lnTo>
                                    <a:pt x="795" y="47"/>
                                  </a:lnTo>
                                  <a:lnTo>
                                    <a:pt x="772" y="46"/>
                                  </a:lnTo>
                                  <a:lnTo>
                                    <a:pt x="748" y="45"/>
                                  </a:lnTo>
                                  <a:lnTo>
                                    <a:pt x="722" y="47"/>
                                  </a:lnTo>
                                  <a:lnTo>
                                    <a:pt x="700" y="48"/>
                                  </a:lnTo>
                                  <a:lnTo>
                                    <a:pt x="673" y="50"/>
                                  </a:lnTo>
                                  <a:lnTo>
                                    <a:pt x="647" y="50"/>
                                  </a:lnTo>
                                  <a:lnTo>
                                    <a:pt x="620" y="47"/>
                                  </a:lnTo>
                                  <a:lnTo>
                                    <a:pt x="588" y="47"/>
                                  </a:lnTo>
                                  <a:lnTo>
                                    <a:pt x="558" y="45"/>
                                  </a:lnTo>
                                  <a:lnTo>
                                    <a:pt x="532" y="47"/>
                                  </a:lnTo>
                                  <a:lnTo>
                                    <a:pt x="501" y="50"/>
                                  </a:lnTo>
                                  <a:lnTo>
                                    <a:pt x="469" y="51"/>
                                  </a:lnTo>
                                  <a:lnTo>
                                    <a:pt x="442" y="57"/>
                                  </a:lnTo>
                                  <a:lnTo>
                                    <a:pt x="414" y="66"/>
                                  </a:lnTo>
                                  <a:lnTo>
                                    <a:pt x="387" y="75"/>
                                  </a:lnTo>
                                  <a:lnTo>
                                    <a:pt x="357" y="86"/>
                                  </a:lnTo>
                                  <a:lnTo>
                                    <a:pt x="328" y="97"/>
                                  </a:lnTo>
                                  <a:lnTo>
                                    <a:pt x="304" y="107"/>
                                  </a:lnTo>
                                  <a:lnTo>
                                    <a:pt x="276" y="118"/>
                                  </a:lnTo>
                                  <a:lnTo>
                                    <a:pt x="254" y="131"/>
                                  </a:lnTo>
                                  <a:lnTo>
                                    <a:pt x="234" y="141"/>
                                  </a:lnTo>
                                  <a:lnTo>
                                    <a:pt x="214" y="153"/>
                                  </a:lnTo>
                                  <a:lnTo>
                                    <a:pt x="192" y="166"/>
                                  </a:lnTo>
                                  <a:lnTo>
                                    <a:pt x="175" y="182"/>
                                  </a:lnTo>
                                  <a:lnTo>
                                    <a:pt x="154" y="204"/>
                                  </a:lnTo>
                                  <a:lnTo>
                                    <a:pt x="138" y="223"/>
                                  </a:lnTo>
                                  <a:lnTo>
                                    <a:pt x="123" y="239"/>
                                  </a:lnTo>
                                  <a:lnTo>
                                    <a:pt x="107" y="261"/>
                                  </a:lnTo>
                                  <a:lnTo>
                                    <a:pt x="95" y="282"/>
                                  </a:lnTo>
                                  <a:lnTo>
                                    <a:pt x="83" y="306"/>
                                  </a:lnTo>
                                  <a:lnTo>
                                    <a:pt x="71" y="328"/>
                                  </a:lnTo>
                                  <a:lnTo>
                                    <a:pt x="61" y="352"/>
                                  </a:lnTo>
                                  <a:lnTo>
                                    <a:pt x="55" y="375"/>
                                  </a:lnTo>
                                  <a:lnTo>
                                    <a:pt x="49" y="398"/>
                                  </a:lnTo>
                                  <a:lnTo>
                                    <a:pt x="45" y="422"/>
                                  </a:lnTo>
                                  <a:lnTo>
                                    <a:pt x="42" y="445"/>
                                  </a:lnTo>
                                  <a:lnTo>
                                    <a:pt x="39" y="475"/>
                                  </a:lnTo>
                                  <a:lnTo>
                                    <a:pt x="38" y="503"/>
                                  </a:lnTo>
                                  <a:lnTo>
                                    <a:pt x="37" y="530"/>
                                  </a:lnTo>
                                  <a:lnTo>
                                    <a:pt x="35" y="560"/>
                                  </a:lnTo>
                                  <a:lnTo>
                                    <a:pt x="7" y="554"/>
                                  </a:lnTo>
                                  <a:lnTo>
                                    <a:pt x="4" y="526"/>
                                  </a:lnTo>
                                  <a:lnTo>
                                    <a:pt x="2" y="502"/>
                                  </a:lnTo>
                                  <a:lnTo>
                                    <a:pt x="0" y="476"/>
                                  </a:lnTo>
                                  <a:lnTo>
                                    <a:pt x="1" y="445"/>
                                  </a:lnTo>
                                  <a:lnTo>
                                    <a:pt x="3" y="416"/>
                                  </a:lnTo>
                                  <a:lnTo>
                                    <a:pt x="9" y="380"/>
                                  </a:lnTo>
                                  <a:lnTo>
                                    <a:pt x="14" y="356"/>
                                  </a:lnTo>
                                  <a:lnTo>
                                    <a:pt x="22" y="330"/>
                                  </a:lnTo>
                                  <a:lnTo>
                                    <a:pt x="31" y="306"/>
                                  </a:lnTo>
                                  <a:lnTo>
                                    <a:pt x="41" y="284"/>
                                  </a:lnTo>
                                  <a:lnTo>
                                    <a:pt x="53" y="263"/>
                                  </a:lnTo>
                                  <a:lnTo>
                                    <a:pt x="67" y="239"/>
                                  </a:lnTo>
                                  <a:lnTo>
                                    <a:pt x="85" y="216"/>
                                  </a:lnTo>
                                  <a:lnTo>
                                    <a:pt x="102" y="194"/>
                                  </a:lnTo>
                                  <a:lnTo>
                                    <a:pt x="122" y="174"/>
                                  </a:lnTo>
                                  <a:lnTo>
                                    <a:pt x="141" y="152"/>
                                  </a:lnTo>
                                  <a:lnTo>
                                    <a:pt x="163" y="133"/>
                                  </a:lnTo>
                                  <a:lnTo>
                                    <a:pt x="185" y="115"/>
                                  </a:lnTo>
                                  <a:lnTo>
                                    <a:pt x="211" y="100"/>
                                  </a:lnTo>
                                  <a:lnTo>
                                    <a:pt x="237" y="85"/>
                                  </a:lnTo>
                                  <a:lnTo>
                                    <a:pt x="270" y="69"/>
                                  </a:lnTo>
                                  <a:lnTo>
                                    <a:pt x="300" y="59"/>
                                  </a:lnTo>
                                  <a:lnTo>
                                    <a:pt x="331" y="47"/>
                                  </a:lnTo>
                                  <a:lnTo>
                                    <a:pt x="366" y="35"/>
                                  </a:lnTo>
                                  <a:lnTo>
                                    <a:pt x="396" y="25"/>
                                  </a:lnTo>
                                  <a:lnTo>
                                    <a:pt x="425" y="17"/>
                                  </a:lnTo>
                                  <a:lnTo>
                                    <a:pt x="450" y="12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60006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465" name=""/>
                          <p:cNvSpPr/>
                          <p:nvPr/>
                        </p:nvSpPr>
                        <p:spPr>
                          <a:xfrm>
                            <a:off x="3316320" y="2519280"/>
                            <a:ext cx="285840" cy="17316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901" h="544">
                                <a:moveTo>
                                  <a:pt x="901" y="6"/>
                                </a:moveTo>
                                <a:lnTo>
                                  <a:pt x="865" y="3"/>
                                </a:lnTo>
                                <a:lnTo>
                                  <a:pt x="836" y="2"/>
                                </a:lnTo>
                                <a:lnTo>
                                  <a:pt x="796" y="1"/>
                                </a:lnTo>
                                <a:lnTo>
                                  <a:pt x="756" y="0"/>
                                </a:lnTo>
                                <a:lnTo>
                                  <a:pt x="709" y="1"/>
                                </a:lnTo>
                                <a:lnTo>
                                  <a:pt x="660" y="2"/>
                                </a:lnTo>
                                <a:lnTo>
                                  <a:pt x="615" y="4"/>
                                </a:lnTo>
                                <a:lnTo>
                                  <a:pt x="578" y="7"/>
                                </a:lnTo>
                                <a:lnTo>
                                  <a:pt x="536" y="12"/>
                                </a:lnTo>
                                <a:lnTo>
                                  <a:pt x="490" y="18"/>
                                </a:lnTo>
                                <a:lnTo>
                                  <a:pt x="461" y="24"/>
                                </a:lnTo>
                                <a:lnTo>
                                  <a:pt x="437" y="31"/>
                                </a:lnTo>
                                <a:lnTo>
                                  <a:pt x="411" y="37"/>
                                </a:lnTo>
                                <a:lnTo>
                                  <a:pt x="385" y="45"/>
                                </a:lnTo>
                                <a:lnTo>
                                  <a:pt x="357" y="55"/>
                                </a:lnTo>
                                <a:lnTo>
                                  <a:pt x="326" y="70"/>
                                </a:lnTo>
                                <a:lnTo>
                                  <a:pt x="299" y="82"/>
                                </a:lnTo>
                                <a:lnTo>
                                  <a:pt x="274" y="94"/>
                                </a:lnTo>
                                <a:lnTo>
                                  <a:pt x="254" y="107"/>
                                </a:lnTo>
                                <a:lnTo>
                                  <a:pt x="233" y="123"/>
                                </a:lnTo>
                                <a:lnTo>
                                  <a:pt x="212" y="139"/>
                                </a:lnTo>
                                <a:lnTo>
                                  <a:pt x="186" y="160"/>
                                </a:lnTo>
                                <a:lnTo>
                                  <a:pt x="163" y="180"/>
                                </a:lnTo>
                                <a:lnTo>
                                  <a:pt x="146" y="196"/>
                                </a:lnTo>
                                <a:lnTo>
                                  <a:pt x="130" y="212"/>
                                </a:lnTo>
                                <a:lnTo>
                                  <a:pt x="112" y="231"/>
                                </a:lnTo>
                                <a:lnTo>
                                  <a:pt x="96" y="246"/>
                                </a:lnTo>
                                <a:lnTo>
                                  <a:pt x="81" y="266"/>
                                </a:lnTo>
                                <a:lnTo>
                                  <a:pt x="69" y="287"/>
                                </a:lnTo>
                                <a:lnTo>
                                  <a:pt x="56" y="315"/>
                                </a:lnTo>
                                <a:lnTo>
                                  <a:pt x="43" y="343"/>
                                </a:lnTo>
                                <a:lnTo>
                                  <a:pt x="33" y="369"/>
                                </a:lnTo>
                                <a:lnTo>
                                  <a:pt x="24" y="394"/>
                                </a:lnTo>
                                <a:lnTo>
                                  <a:pt x="17" y="419"/>
                                </a:lnTo>
                                <a:lnTo>
                                  <a:pt x="9" y="451"/>
                                </a:lnTo>
                                <a:lnTo>
                                  <a:pt x="5" y="480"/>
                                </a:lnTo>
                                <a:lnTo>
                                  <a:pt x="1" y="509"/>
                                </a:lnTo>
                                <a:lnTo>
                                  <a:pt x="0" y="544"/>
                                </a:lnTo>
                              </a:path>
                            </a:pathLst>
                          </a:custGeom>
                          <a:noFill/>
                          <a:ln w="4680">
                            <a:solidFill>
                              <a:srgbClr val="ffc0f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466" name=""/>
                      <p:cNvGrpSpPr/>
                      <p:nvPr/>
                    </p:nvGrpSpPr>
                    <p:grpSpPr>
                      <a:xfrm>
                        <a:off x="3290760" y="2706840"/>
                        <a:ext cx="76320" cy="37800"/>
                        <a:chOff x="3290760" y="2706840"/>
                        <a:chExt cx="76320" cy="37800"/>
                      </a:xfrm>
                    </p:grpSpPr>
                    <p:sp>
                      <p:nvSpPr>
                        <p:cNvPr id="467" name=""/>
                        <p:cNvSpPr/>
                        <p:nvPr/>
                      </p:nvSpPr>
                      <p:spPr>
                        <a:xfrm>
                          <a:off x="3290760" y="2706840"/>
                          <a:ext cx="76320" cy="37800"/>
                        </a:xfrm>
                        <a:prstGeom prst="ellipse">
                          <a:avLst/>
                        </a:prstGeom>
                        <a:solidFill>
                          <a:srgbClr val="ff00ff"/>
                        </a:solidFill>
                        <a:ln w="3240">
                          <a:solidFill>
                            <a:srgbClr val="40004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9800" bIns="-19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68" name=""/>
                        <p:cNvSpPr/>
                        <p:nvPr/>
                      </p:nvSpPr>
                      <p:spPr>
                        <a:xfrm>
                          <a:off x="3297240" y="2711520"/>
                          <a:ext cx="61920" cy="28440"/>
                        </a:xfrm>
                        <a:prstGeom prst="ellipse">
                          <a:avLst/>
                        </a:prstGeom>
                        <a:solidFill>
                          <a:srgbClr val="600060"/>
                        </a:solidFill>
                        <a:ln w="3240">
                          <a:solidFill>
                            <a:srgbClr val="40004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6280" bIns="-262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</p:grpSp>
            </p:grpSp>
            <p:grpSp>
              <p:nvGrpSpPr>
                <p:cNvPr id="469" name=""/>
                <p:cNvGrpSpPr/>
                <p:nvPr/>
              </p:nvGrpSpPr>
              <p:grpSpPr>
                <a:xfrm>
                  <a:off x="3189240" y="2679840"/>
                  <a:ext cx="130320" cy="396720"/>
                  <a:chOff x="3189240" y="2679840"/>
                  <a:chExt cx="130320" cy="396720"/>
                </a:xfrm>
              </p:grpSpPr>
              <p:grpSp>
                <p:nvGrpSpPr>
                  <p:cNvPr id="470" name=""/>
                  <p:cNvGrpSpPr/>
                  <p:nvPr/>
                </p:nvGrpSpPr>
                <p:grpSpPr>
                  <a:xfrm>
                    <a:off x="3189240" y="2695680"/>
                    <a:ext cx="130320" cy="380880"/>
                    <a:chOff x="3189240" y="2695680"/>
                    <a:chExt cx="130320" cy="380880"/>
                  </a:xfrm>
                </p:grpSpPr>
                <p:sp>
                  <p:nvSpPr>
                    <p:cNvPr id="471" name=""/>
                    <p:cNvSpPr/>
                    <p:nvPr/>
                  </p:nvSpPr>
                  <p:spPr>
                    <a:xfrm>
                      <a:off x="3189240" y="2695680"/>
                      <a:ext cx="130320" cy="380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10" h="1199">
                          <a:moveTo>
                            <a:pt x="270" y="0"/>
                          </a:moveTo>
                          <a:lnTo>
                            <a:pt x="0" y="18"/>
                          </a:lnTo>
                          <a:lnTo>
                            <a:pt x="3" y="47"/>
                          </a:lnTo>
                          <a:lnTo>
                            <a:pt x="9" y="79"/>
                          </a:lnTo>
                          <a:lnTo>
                            <a:pt x="16" y="113"/>
                          </a:lnTo>
                          <a:lnTo>
                            <a:pt x="22" y="152"/>
                          </a:lnTo>
                          <a:lnTo>
                            <a:pt x="31" y="198"/>
                          </a:lnTo>
                          <a:lnTo>
                            <a:pt x="41" y="242"/>
                          </a:lnTo>
                          <a:lnTo>
                            <a:pt x="49" y="279"/>
                          </a:lnTo>
                          <a:lnTo>
                            <a:pt x="58" y="315"/>
                          </a:lnTo>
                          <a:lnTo>
                            <a:pt x="66" y="354"/>
                          </a:lnTo>
                          <a:lnTo>
                            <a:pt x="75" y="397"/>
                          </a:lnTo>
                          <a:lnTo>
                            <a:pt x="83" y="442"/>
                          </a:lnTo>
                          <a:lnTo>
                            <a:pt x="92" y="490"/>
                          </a:lnTo>
                          <a:lnTo>
                            <a:pt x="97" y="517"/>
                          </a:lnTo>
                          <a:lnTo>
                            <a:pt x="101" y="552"/>
                          </a:lnTo>
                          <a:lnTo>
                            <a:pt x="106" y="593"/>
                          </a:lnTo>
                          <a:lnTo>
                            <a:pt x="110" y="631"/>
                          </a:lnTo>
                          <a:lnTo>
                            <a:pt x="117" y="679"/>
                          </a:lnTo>
                          <a:lnTo>
                            <a:pt x="123" y="729"/>
                          </a:lnTo>
                          <a:lnTo>
                            <a:pt x="127" y="769"/>
                          </a:lnTo>
                          <a:lnTo>
                            <a:pt x="128" y="809"/>
                          </a:lnTo>
                          <a:lnTo>
                            <a:pt x="130" y="843"/>
                          </a:lnTo>
                          <a:lnTo>
                            <a:pt x="133" y="887"/>
                          </a:lnTo>
                          <a:lnTo>
                            <a:pt x="135" y="932"/>
                          </a:lnTo>
                          <a:lnTo>
                            <a:pt x="133" y="974"/>
                          </a:lnTo>
                          <a:lnTo>
                            <a:pt x="134" y="1024"/>
                          </a:lnTo>
                          <a:lnTo>
                            <a:pt x="136" y="1054"/>
                          </a:lnTo>
                          <a:lnTo>
                            <a:pt x="134" y="1079"/>
                          </a:lnTo>
                          <a:lnTo>
                            <a:pt x="132" y="1110"/>
                          </a:lnTo>
                          <a:lnTo>
                            <a:pt x="133" y="1131"/>
                          </a:lnTo>
                          <a:lnTo>
                            <a:pt x="138" y="1145"/>
                          </a:lnTo>
                          <a:lnTo>
                            <a:pt x="146" y="1159"/>
                          </a:lnTo>
                          <a:lnTo>
                            <a:pt x="158" y="1170"/>
                          </a:lnTo>
                          <a:lnTo>
                            <a:pt x="175" y="1178"/>
                          </a:lnTo>
                          <a:lnTo>
                            <a:pt x="191" y="1183"/>
                          </a:lnTo>
                          <a:lnTo>
                            <a:pt x="212" y="1190"/>
                          </a:lnTo>
                          <a:lnTo>
                            <a:pt x="240" y="1195"/>
                          </a:lnTo>
                          <a:lnTo>
                            <a:pt x="266" y="1196"/>
                          </a:lnTo>
                          <a:lnTo>
                            <a:pt x="292" y="1198"/>
                          </a:lnTo>
                          <a:lnTo>
                            <a:pt x="315" y="1199"/>
                          </a:lnTo>
                          <a:lnTo>
                            <a:pt x="336" y="1197"/>
                          </a:lnTo>
                          <a:lnTo>
                            <a:pt x="354" y="1194"/>
                          </a:lnTo>
                          <a:lnTo>
                            <a:pt x="373" y="1187"/>
                          </a:lnTo>
                          <a:lnTo>
                            <a:pt x="385" y="1180"/>
                          </a:lnTo>
                          <a:lnTo>
                            <a:pt x="396" y="1173"/>
                          </a:lnTo>
                          <a:lnTo>
                            <a:pt x="404" y="1164"/>
                          </a:lnTo>
                          <a:lnTo>
                            <a:pt x="406" y="1154"/>
                          </a:lnTo>
                          <a:lnTo>
                            <a:pt x="404" y="1123"/>
                          </a:lnTo>
                          <a:lnTo>
                            <a:pt x="402" y="1093"/>
                          </a:lnTo>
                          <a:lnTo>
                            <a:pt x="404" y="1053"/>
                          </a:lnTo>
                          <a:lnTo>
                            <a:pt x="407" y="1022"/>
                          </a:lnTo>
                          <a:lnTo>
                            <a:pt x="410" y="995"/>
                          </a:lnTo>
                          <a:lnTo>
                            <a:pt x="408" y="968"/>
                          </a:lnTo>
                          <a:lnTo>
                            <a:pt x="406" y="932"/>
                          </a:lnTo>
                          <a:lnTo>
                            <a:pt x="405" y="906"/>
                          </a:lnTo>
                          <a:lnTo>
                            <a:pt x="403" y="878"/>
                          </a:lnTo>
                          <a:lnTo>
                            <a:pt x="398" y="851"/>
                          </a:lnTo>
                          <a:lnTo>
                            <a:pt x="393" y="821"/>
                          </a:lnTo>
                          <a:lnTo>
                            <a:pt x="392" y="785"/>
                          </a:lnTo>
                          <a:lnTo>
                            <a:pt x="390" y="756"/>
                          </a:lnTo>
                          <a:lnTo>
                            <a:pt x="389" y="719"/>
                          </a:lnTo>
                          <a:lnTo>
                            <a:pt x="387" y="681"/>
                          </a:lnTo>
                          <a:lnTo>
                            <a:pt x="384" y="642"/>
                          </a:lnTo>
                          <a:lnTo>
                            <a:pt x="379" y="598"/>
                          </a:lnTo>
                          <a:lnTo>
                            <a:pt x="375" y="556"/>
                          </a:lnTo>
                          <a:lnTo>
                            <a:pt x="371" y="517"/>
                          </a:lnTo>
                          <a:lnTo>
                            <a:pt x="367" y="487"/>
                          </a:lnTo>
                          <a:lnTo>
                            <a:pt x="362" y="454"/>
                          </a:lnTo>
                          <a:lnTo>
                            <a:pt x="358" y="422"/>
                          </a:lnTo>
                          <a:lnTo>
                            <a:pt x="353" y="387"/>
                          </a:lnTo>
                          <a:lnTo>
                            <a:pt x="347" y="351"/>
                          </a:lnTo>
                          <a:lnTo>
                            <a:pt x="341" y="311"/>
                          </a:lnTo>
                          <a:lnTo>
                            <a:pt x="335" y="276"/>
                          </a:lnTo>
                          <a:lnTo>
                            <a:pt x="325" y="232"/>
                          </a:lnTo>
                          <a:lnTo>
                            <a:pt x="316" y="190"/>
                          </a:lnTo>
                          <a:lnTo>
                            <a:pt x="307" y="137"/>
                          </a:lnTo>
                          <a:lnTo>
                            <a:pt x="294" y="81"/>
                          </a:lnTo>
                          <a:lnTo>
                            <a:pt x="283" y="37"/>
                          </a:lnTo>
                          <a:lnTo>
                            <a:pt x="270" y="0"/>
                          </a:lnTo>
                          <a:close/>
                        </a:path>
                      </a:pathLst>
                    </a:custGeom>
                    <a:solidFill>
                      <a:srgbClr val="0000a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472" name=""/>
                    <p:cNvGrpSpPr/>
                    <p:nvPr/>
                  </p:nvGrpSpPr>
                  <p:grpSpPr>
                    <a:xfrm>
                      <a:off x="3189240" y="2695680"/>
                      <a:ext cx="130320" cy="379440"/>
                      <a:chOff x="3189240" y="2695680"/>
                      <a:chExt cx="130320" cy="379440"/>
                    </a:xfrm>
                  </p:grpSpPr>
                  <p:grpSp>
                    <p:nvGrpSpPr>
                      <p:cNvPr id="473" name=""/>
                      <p:cNvGrpSpPr/>
                      <p:nvPr/>
                    </p:nvGrpSpPr>
                    <p:grpSpPr>
                      <a:xfrm>
                        <a:off x="3189240" y="2695680"/>
                        <a:ext cx="130320" cy="379440"/>
                        <a:chOff x="3189240" y="2695680"/>
                        <a:chExt cx="130320" cy="379440"/>
                      </a:xfrm>
                    </p:grpSpPr>
                    <p:grpSp>
                      <p:nvGrpSpPr>
                        <p:cNvPr id="474" name=""/>
                        <p:cNvGrpSpPr/>
                        <p:nvPr/>
                      </p:nvGrpSpPr>
                      <p:grpSpPr>
                        <a:xfrm>
                          <a:off x="3189240" y="2695680"/>
                          <a:ext cx="130320" cy="379440"/>
                          <a:chOff x="3189240" y="2695680"/>
                          <a:chExt cx="130320" cy="379440"/>
                        </a:xfrm>
                      </p:grpSpPr>
                      <p:sp>
                        <p:nvSpPr>
                          <p:cNvPr id="475" name=""/>
                          <p:cNvSpPr/>
                          <p:nvPr/>
                        </p:nvSpPr>
                        <p:spPr>
                          <a:xfrm>
                            <a:off x="3189240" y="2701800"/>
                            <a:ext cx="57240" cy="3654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81" h="1152">
                                <a:moveTo>
                                  <a:pt x="55" y="70"/>
                                </a:moveTo>
                                <a:lnTo>
                                  <a:pt x="41" y="28"/>
                                </a:lnTo>
                                <a:lnTo>
                                  <a:pt x="0" y="0"/>
                                </a:lnTo>
                                <a:lnTo>
                                  <a:pt x="3" y="29"/>
                                </a:lnTo>
                                <a:lnTo>
                                  <a:pt x="9" y="61"/>
                                </a:lnTo>
                                <a:lnTo>
                                  <a:pt x="16" y="95"/>
                                </a:lnTo>
                                <a:lnTo>
                                  <a:pt x="22" y="134"/>
                                </a:lnTo>
                                <a:lnTo>
                                  <a:pt x="31" y="180"/>
                                </a:lnTo>
                                <a:lnTo>
                                  <a:pt x="41" y="224"/>
                                </a:lnTo>
                                <a:lnTo>
                                  <a:pt x="48" y="261"/>
                                </a:lnTo>
                                <a:lnTo>
                                  <a:pt x="56" y="297"/>
                                </a:lnTo>
                                <a:lnTo>
                                  <a:pt x="65" y="336"/>
                                </a:lnTo>
                                <a:lnTo>
                                  <a:pt x="74" y="379"/>
                                </a:lnTo>
                                <a:lnTo>
                                  <a:pt x="82" y="424"/>
                                </a:lnTo>
                                <a:lnTo>
                                  <a:pt x="91" y="472"/>
                                </a:lnTo>
                                <a:lnTo>
                                  <a:pt x="96" y="499"/>
                                </a:lnTo>
                                <a:lnTo>
                                  <a:pt x="100" y="534"/>
                                </a:lnTo>
                                <a:lnTo>
                                  <a:pt x="106" y="575"/>
                                </a:lnTo>
                                <a:lnTo>
                                  <a:pt x="110" y="613"/>
                                </a:lnTo>
                                <a:lnTo>
                                  <a:pt x="117" y="661"/>
                                </a:lnTo>
                                <a:lnTo>
                                  <a:pt x="123" y="711"/>
                                </a:lnTo>
                                <a:lnTo>
                                  <a:pt x="127" y="751"/>
                                </a:lnTo>
                                <a:lnTo>
                                  <a:pt x="128" y="791"/>
                                </a:lnTo>
                                <a:lnTo>
                                  <a:pt x="130" y="825"/>
                                </a:lnTo>
                                <a:lnTo>
                                  <a:pt x="133" y="868"/>
                                </a:lnTo>
                                <a:lnTo>
                                  <a:pt x="135" y="914"/>
                                </a:lnTo>
                                <a:lnTo>
                                  <a:pt x="133" y="956"/>
                                </a:lnTo>
                                <a:lnTo>
                                  <a:pt x="134" y="1006"/>
                                </a:lnTo>
                                <a:lnTo>
                                  <a:pt x="136" y="1036"/>
                                </a:lnTo>
                                <a:lnTo>
                                  <a:pt x="134" y="1061"/>
                                </a:lnTo>
                                <a:lnTo>
                                  <a:pt x="132" y="1091"/>
                                </a:lnTo>
                                <a:lnTo>
                                  <a:pt x="133" y="1113"/>
                                </a:lnTo>
                                <a:lnTo>
                                  <a:pt x="137" y="1127"/>
                                </a:lnTo>
                                <a:lnTo>
                                  <a:pt x="145" y="1141"/>
                                </a:lnTo>
                                <a:lnTo>
                                  <a:pt x="157" y="1152"/>
                                </a:lnTo>
                                <a:lnTo>
                                  <a:pt x="163" y="1122"/>
                                </a:lnTo>
                                <a:lnTo>
                                  <a:pt x="166" y="1088"/>
                                </a:lnTo>
                                <a:lnTo>
                                  <a:pt x="169" y="1051"/>
                                </a:lnTo>
                                <a:lnTo>
                                  <a:pt x="173" y="1008"/>
                                </a:lnTo>
                                <a:lnTo>
                                  <a:pt x="178" y="956"/>
                                </a:lnTo>
                                <a:lnTo>
                                  <a:pt x="181" y="896"/>
                                </a:lnTo>
                                <a:lnTo>
                                  <a:pt x="176" y="843"/>
                                </a:lnTo>
                                <a:lnTo>
                                  <a:pt x="175" y="789"/>
                                </a:lnTo>
                                <a:lnTo>
                                  <a:pt x="169" y="731"/>
                                </a:lnTo>
                                <a:lnTo>
                                  <a:pt x="163" y="681"/>
                                </a:lnTo>
                                <a:lnTo>
                                  <a:pt x="158" y="633"/>
                                </a:lnTo>
                                <a:lnTo>
                                  <a:pt x="154" y="590"/>
                                </a:lnTo>
                                <a:lnTo>
                                  <a:pt x="151" y="548"/>
                                </a:lnTo>
                                <a:lnTo>
                                  <a:pt x="148" y="511"/>
                                </a:lnTo>
                                <a:lnTo>
                                  <a:pt x="145" y="472"/>
                                </a:lnTo>
                                <a:lnTo>
                                  <a:pt x="139" y="429"/>
                                </a:lnTo>
                                <a:lnTo>
                                  <a:pt x="134" y="382"/>
                                </a:lnTo>
                                <a:lnTo>
                                  <a:pt x="122" y="342"/>
                                </a:lnTo>
                                <a:lnTo>
                                  <a:pt x="111" y="300"/>
                                </a:lnTo>
                                <a:lnTo>
                                  <a:pt x="100" y="266"/>
                                </a:lnTo>
                                <a:lnTo>
                                  <a:pt x="94" y="232"/>
                                </a:lnTo>
                                <a:lnTo>
                                  <a:pt x="88" y="194"/>
                                </a:lnTo>
                                <a:lnTo>
                                  <a:pt x="83" y="156"/>
                                </a:lnTo>
                                <a:lnTo>
                                  <a:pt x="70" y="113"/>
                                </a:lnTo>
                                <a:lnTo>
                                  <a:pt x="55" y="7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00004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476" name=""/>
                          <p:cNvSpPr/>
                          <p:nvPr/>
                        </p:nvSpPr>
                        <p:spPr>
                          <a:xfrm>
                            <a:off x="3260880" y="2695680"/>
                            <a:ext cx="58680" cy="3794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88" h="1194">
                                <a:moveTo>
                                  <a:pt x="48" y="0"/>
                                </a:moveTo>
                                <a:lnTo>
                                  <a:pt x="0" y="38"/>
                                </a:lnTo>
                                <a:lnTo>
                                  <a:pt x="17" y="57"/>
                                </a:lnTo>
                                <a:lnTo>
                                  <a:pt x="29" y="78"/>
                                </a:lnTo>
                                <a:lnTo>
                                  <a:pt x="35" y="106"/>
                                </a:lnTo>
                                <a:lnTo>
                                  <a:pt x="41" y="148"/>
                                </a:lnTo>
                                <a:lnTo>
                                  <a:pt x="49" y="188"/>
                                </a:lnTo>
                                <a:lnTo>
                                  <a:pt x="61" y="240"/>
                                </a:lnTo>
                                <a:lnTo>
                                  <a:pt x="70" y="290"/>
                                </a:lnTo>
                                <a:lnTo>
                                  <a:pt x="79" y="334"/>
                                </a:lnTo>
                                <a:lnTo>
                                  <a:pt x="85" y="383"/>
                                </a:lnTo>
                                <a:lnTo>
                                  <a:pt x="92" y="427"/>
                                </a:lnTo>
                                <a:lnTo>
                                  <a:pt x="101" y="476"/>
                                </a:lnTo>
                                <a:lnTo>
                                  <a:pt x="111" y="516"/>
                                </a:lnTo>
                                <a:lnTo>
                                  <a:pt x="117" y="564"/>
                                </a:lnTo>
                                <a:lnTo>
                                  <a:pt x="113" y="610"/>
                                </a:lnTo>
                                <a:lnTo>
                                  <a:pt x="117" y="651"/>
                                </a:lnTo>
                                <a:lnTo>
                                  <a:pt x="120" y="703"/>
                                </a:lnTo>
                                <a:lnTo>
                                  <a:pt x="122" y="762"/>
                                </a:lnTo>
                                <a:lnTo>
                                  <a:pt x="126" y="825"/>
                                </a:lnTo>
                                <a:lnTo>
                                  <a:pt x="134" y="886"/>
                                </a:lnTo>
                                <a:lnTo>
                                  <a:pt x="140" y="928"/>
                                </a:lnTo>
                                <a:lnTo>
                                  <a:pt x="140" y="968"/>
                                </a:lnTo>
                                <a:lnTo>
                                  <a:pt x="142" y="1017"/>
                                </a:lnTo>
                                <a:lnTo>
                                  <a:pt x="138" y="1073"/>
                                </a:lnTo>
                                <a:lnTo>
                                  <a:pt x="137" y="1119"/>
                                </a:lnTo>
                                <a:lnTo>
                                  <a:pt x="132" y="1160"/>
                                </a:lnTo>
                                <a:lnTo>
                                  <a:pt x="133" y="1194"/>
                                </a:lnTo>
                                <a:lnTo>
                                  <a:pt x="151" y="1187"/>
                                </a:lnTo>
                                <a:lnTo>
                                  <a:pt x="163" y="1180"/>
                                </a:lnTo>
                                <a:lnTo>
                                  <a:pt x="174" y="1173"/>
                                </a:lnTo>
                                <a:lnTo>
                                  <a:pt x="182" y="1164"/>
                                </a:lnTo>
                                <a:lnTo>
                                  <a:pt x="184" y="1154"/>
                                </a:lnTo>
                                <a:lnTo>
                                  <a:pt x="182" y="1123"/>
                                </a:lnTo>
                                <a:lnTo>
                                  <a:pt x="180" y="1093"/>
                                </a:lnTo>
                                <a:lnTo>
                                  <a:pt x="182" y="1053"/>
                                </a:lnTo>
                                <a:lnTo>
                                  <a:pt x="185" y="1022"/>
                                </a:lnTo>
                                <a:lnTo>
                                  <a:pt x="188" y="995"/>
                                </a:lnTo>
                                <a:lnTo>
                                  <a:pt x="186" y="968"/>
                                </a:lnTo>
                                <a:lnTo>
                                  <a:pt x="184" y="932"/>
                                </a:lnTo>
                                <a:lnTo>
                                  <a:pt x="183" y="906"/>
                                </a:lnTo>
                                <a:lnTo>
                                  <a:pt x="181" y="878"/>
                                </a:lnTo>
                                <a:lnTo>
                                  <a:pt x="176" y="851"/>
                                </a:lnTo>
                                <a:lnTo>
                                  <a:pt x="171" y="821"/>
                                </a:lnTo>
                                <a:lnTo>
                                  <a:pt x="170" y="785"/>
                                </a:lnTo>
                                <a:lnTo>
                                  <a:pt x="168" y="756"/>
                                </a:lnTo>
                                <a:lnTo>
                                  <a:pt x="167" y="719"/>
                                </a:lnTo>
                                <a:lnTo>
                                  <a:pt x="165" y="681"/>
                                </a:lnTo>
                                <a:lnTo>
                                  <a:pt x="162" y="642"/>
                                </a:lnTo>
                                <a:lnTo>
                                  <a:pt x="157" y="598"/>
                                </a:lnTo>
                                <a:lnTo>
                                  <a:pt x="153" y="556"/>
                                </a:lnTo>
                                <a:lnTo>
                                  <a:pt x="150" y="517"/>
                                </a:lnTo>
                                <a:lnTo>
                                  <a:pt x="145" y="487"/>
                                </a:lnTo>
                                <a:lnTo>
                                  <a:pt x="141" y="454"/>
                                </a:lnTo>
                                <a:lnTo>
                                  <a:pt x="137" y="422"/>
                                </a:lnTo>
                                <a:lnTo>
                                  <a:pt x="132" y="387"/>
                                </a:lnTo>
                                <a:lnTo>
                                  <a:pt x="126" y="351"/>
                                </a:lnTo>
                                <a:lnTo>
                                  <a:pt x="120" y="311"/>
                                </a:lnTo>
                                <a:lnTo>
                                  <a:pt x="114" y="276"/>
                                </a:lnTo>
                                <a:lnTo>
                                  <a:pt x="105" y="232"/>
                                </a:lnTo>
                                <a:lnTo>
                                  <a:pt x="95" y="190"/>
                                </a:lnTo>
                                <a:lnTo>
                                  <a:pt x="85" y="137"/>
                                </a:lnTo>
                                <a:lnTo>
                                  <a:pt x="72" y="81"/>
                                </a:lnTo>
                                <a:lnTo>
                                  <a:pt x="61" y="37"/>
                                </a:lnTo>
                                <a:lnTo>
                                  <a:pt x="48" y="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00004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477" name=""/>
                        <p:cNvSpPr/>
                        <p:nvPr/>
                      </p:nvSpPr>
                      <p:spPr>
                        <a:xfrm>
                          <a:off x="3201840" y="2709720"/>
                          <a:ext cx="65160" cy="3654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6" h="1149">
                              <a:moveTo>
                                <a:pt x="15" y="42"/>
                              </a:moveTo>
                              <a:lnTo>
                                <a:pt x="0" y="0"/>
                              </a:lnTo>
                              <a:lnTo>
                                <a:pt x="73" y="28"/>
                              </a:lnTo>
                              <a:lnTo>
                                <a:pt x="77" y="57"/>
                              </a:lnTo>
                              <a:lnTo>
                                <a:pt x="82" y="82"/>
                              </a:lnTo>
                              <a:lnTo>
                                <a:pt x="90" y="111"/>
                              </a:lnTo>
                              <a:lnTo>
                                <a:pt x="98" y="133"/>
                              </a:lnTo>
                              <a:lnTo>
                                <a:pt x="108" y="159"/>
                              </a:lnTo>
                              <a:lnTo>
                                <a:pt x="118" y="189"/>
                              </a:lnTo>
                              <a:lnTo>
                                <a:pt x="124" y="217"/>
                              </a:lnTo>
                              <a:lnTo>
                                <a:pt x="129" y="249"/>
                              </a:lnTo>
                              <a:lnTo>
                                <a:pt x="135" y="281"/>
                              </a:lnTo>
                              <a:lnTo>
                                <a:pt x="140" y="316"/>
                              </a:lnTo>
                              <a:lnTo>
                                <a:pt x="149" y="351"/>
                              </a:lnTo>
                              <a:lnTo>
                                <a:pt x="155" y="376"/>
                              </a:lnTo>
                              <a:lnTo>
                                <a:pt x="163" y="407"/>
                              </a:lnTo>
                              <a:lnTo>
                                <a:pt x="169" y="429"/>
                              </a:lnTo>
                              <a:lnTo>
                                <a:pt x="174" y="452"/>
                              </a:lnTo>
                              <a:lnTo>
                                <a:pt x="176" y="479"/>
                              </a:lnTo>
                              <a:lnTo>
                                <a:pt x="178" y="505"/>
                              </a:lnTo>
                              <a:lnTo>
                                <a:pt x="180" y="535"/>
                              </a:lnTo>
                              <a:lnTo>
                                <a:pt x="185" y="574"/>
                              </a:lnTo>
                              <a:lnTo>
                                <a:pt x="189" y="608"/>
                              </a:lnTo>
                              <a:lnTo>
                                <a:pt x="193" y="644"/>
                              </a:lnTo>
                              <a:lnTo>
                                <a:pt x="199" y="678"/>
                              </a:lnTo>
                              <a:lnTo>
                                <a:pt x="201" y="708"/>
                              </a:lnTo>
                              <a:lnTo>
                                <a:pt x="204" y="759"/>
                              </a:lnTo>
                              <a:lnTo>
                                <a:pt x="205" y="795"/>
                              </a:lnTo>
                              <a:lnTo>
                                <a:pt x="205" y="837"/>
                              </a:lnTo>
                              <a:lnTo>
                                <a:pt x="206" y="864"/>
                              </a:lnTo>
                              <a:lnTo>
                                <a:pt x="205" y="900"/>
                              </a:lnTo>
                              <a:lnTo>
                                <a:pt x="203" y="942"/>
                              </a:lnTo>
                              <a:lnTo>
                                <a:pt x="200" y="976"/>
                              </a:lnTo>
                              <a:lnTo>
                                <a:pt x="202" y="1017"/>
                              </a:lnTo>
                              <a:lnTo>
                                <a:pt x="203" y="1055"/>
                              </a:lnTo>
                              <a:lnTo>
                                <a:pt x="199" y="1079"/>
                              </a:lnTo>
                              <a:lnTo>
                                <a:pt x="195" y="1102"/>
                              </a:lnTo>
                              <a:lnTo>
                                <a:pt x="191" y="1117"/>
                              </a:lnTo>
                              <a:lnTo>
                                <a:pt x="192" y="1134"/>
                              </a:lnTo>
                              <a:lnTo>
                                <a:pt x="197" y="1149"/>
                              </a:lnTo>
                              <a:lnTo>
                                <a:pt x="169" y="1145"/>
                              </a:lnTo>
                              <a:lnTo>
                                <a:pt x="153" y="1138"/>
                              </a:lnTo>
                              <a:lnTo>
                                <a:pt x="134" y="1132"/>
                              </a:lnTo>
                              <a:lnTo>
                                <a:pt x="117" y="1124"/>
                              </a:lnTo>
                              <a:lnTo>
                                <a:pt x="123" y="1094"/>
                              </a:lnTo>
                              <a:lnTo>
                                <a:pt x="126" y="1060"/>
                              </a:lnTo>
                              <a:lnTo>
                                <a:pt x="129" y="1024"/>
                              </a:lnTo>
                              <a:lnTo>
                                <a:pt x="133" y="980"/>
                              </a:lnTo>
                              <a:lnTo>
                                <a:pt x="138" y="928"/>
                              </a:lnTo>
                              <a:lnTo>
                                <a:pt x="141" y="868"/>
                              </a:lnTo>
                              <a:lnTo>
                                <a:pt x="136" y="815"/>
                              </a:lnTo>
                              <a:lnTo>
                                <a:pt x="135" y="761"/>
                              </a:lnTo>
                              <a:lnTo>
                                <a:pt x="129" y="704"/>
                              </a:lnTo>
                              <a:lnTo>
                                <a:pt x="123" y="653"/>
                              </a:lnTo>
                              <a:lnTo>
                                <a:pt x="118" y="605"/>
                              </a:lnTo>
                              <a:lnTo>
                                <a:pt x="114" y="562"/>
                              </a:lnTo>
                              <a:lnTo>
                                <a:pt x="111" y="520"/>
                              </a:lnTo>
                              <a:lnTo>
                                <a:pt x="108" y="483"/>
                              </a:lnTo>
                              <a:lnTo>
                                <a:pt x="105" y="444"/>
                              </a:lnTo>
                              <a:lnTo>
                                <a:pt x="99" y="401"/>
                              </a:lnTo>
                              <a:lnTo>
                                <a:pt x="93" y="354"/>
                              </a:lnTo>
                              <a:lnTo>
                                <a:pt x="81" y="314"/>
                              </a:lnTo>
                              <a:lnTo>
                                <a:pt x="70" y="273"/>
                              </a:lnTo>
                              <a:lnTo>
                                <a:pt x="59" y="238"/>
                              </a:lnTo>
                              <a:lnTo>
                                <a:pt x="53" y="204"/>
                              </a:lnTo>
                              <a:lnTo>
                                <a:pt x="48" y="166"/>
                              </a:lnTo>
                              <a:lnTo>
                                <a:pt x="43" y="128"/>
                              </a:lnTo>
                              <a:lnTo>
                                <a:pt x="30" y="85"/>
                              </a:lnTo>
                              <a:lnTo>
                                <a:pt x="15" y="42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040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478" name=""/>
                      <p:cNvSpPr/>
                      <p:nvPr/>
                    </p:nvSpPr>
                    <p:spPr>
                      <a:xfrm>
                        <a:off x="3247920" y="2722680"/>
                        <a:ext cx="42840" cy="328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8" h="1036">
                            <a:moveTo>
                              <a:pt x="0" y="0"/>
                            </a:moveTo>
                            <a:lnTo>
                              <a:pt x="13" y="33"/>
                            </a:lnTo>
                            <a:lnTo>
                              <a:pt x="26" y="64"/>
                            </a:lnTo>
                            <a:lnTo>
                              <a:pt x="37" y="97"/>
                            </a:lnTo>
                            <a:lnTo>
                              <a:pt x="47" y="134"/>
                            </a:lnTo>
                            <a:lnTo>
                              <a:pt x="55" y="168"/>
                            </a:lnTo>
                            <a:lnTo>
                              <a:pt x="63" y="203"/>
                            </a:lnTo>
                            <a:lnTo>
                              <a:pt x="71" y="246"/>
                            </a:lnTo>
                            <a:lnTo>
                              <a:pt x="79" y="298"/>
                            </a:lnTo>
                            <a:lnTo>
                              <a:pt x="88" y="352"/>
                            </a:lnTo>
                            <a:lnTo>
                              <a:pt x="94" y="388"/>
                            </a:lnTo>
                            <a:lnTo>
                              <a:pt x="102" y="434"/>
                            </a:lnTo>
                            <a:lnTo>
                              <a:pt x="108" y="479"/>
                            </a:lnTo>
                            <a:lnTo>
                              <a:pt x="111" y="522"/>
                            </a:lnTo>
                            <a:lnTo>
                              <a:pt x="114" y="569"/>
                            </a:lnTo>
                            <a:lnTo>
                              <a:pt x="117" y="616"/>
                            </a:lnTo>
                            <a:lnTo>
                              <a:pt x="120" y="671"/>
                            </a:lnTo>
                            <a:lnTo>
                              <a:pt x="124" y="722"/>
                            </a:lnTo>
                            <a:lnTo>
                              <a:pt x="128" y="777"/>
                            </a:lnTo>
                            <a:lnTo>
                              <a:pt x="131" y="818"/>
                            </a:lnTo>
                            <a:lnTo>
                              <a:pt x="136" y="854"/>
                            </a:lnTo>
                            <a:lnTo>
                              <a:pt x="138" y="898"/>
                            </a:lnTo>
                            <a:lnTo>
                              <a:pt x="137" y="942"/>
                            </a:lnTo>
                            <a:lnTo>
                              <a:pt x="135" y="986"/>
                            </a:lnTo>
                            <a:lnTo>
                              <a:pt x="133" y="1036"/>
                            </a:lnTo>
                          </a:path>
                        </a:pathLst>
                      </a:custGeom>
                      <a:noFill/>
                      <a:ln w="4680">
                        <a:solidFill>
                          <a:srgbClr val="c0c0f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479" name=""/>
                  <p:cNvGrpSpPr/>
                  <p:nvPr/>
                </p:nvGrpSpPr>
                <p:grpSpPr>
                  <a:xfrm>
                    <a:off x="3191040" y="2679840"/>
                    <a:ext cx="83880" cy="41040"/>
                    <a:chOff x="3191040" y="2679840"/>
                    <a:chExt cx="83880" cy="41040"/>
                  </a:xfrm>
                </p:grpSpPr>
                <p:sp>
                  <p:nvSpPr>
                    <p:cNvPr id="480" name=""/>
                    <p:cNvSpPr/>
                    <p:nvPr/>
                  </p:nvSpPr>
                  <p:spPr>
                    <a:xfrm>
                      <a:off x="3191040" y="2679840"/>
                      <a:ext cx="83880" cy="41040"/>
                    </a:xfrm>
                    <a:prstGeom prst="ellipse">
                      <a:avLst/>
                    </a:prstGeom>
                    <a:solidFill>
                      <a:srgbClr val="4040ff"/>
                    </a:solidFill>
                    <a:ln w="3240">
                      <a:solidFill>
                        <a:srgbClr val="00002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7280" bIns="-17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81" name=""/>
                    <p:cNvSpPr/>
                    <p:nvPr/>
                  </p:nvSpPr>
                  <p:spPr>
                    <a:xfrm>
                      <a:off x="3200400" y="2684520"/>
                      <a:ext cx="65160" cy="31680"/>
                    </a:xfrm>
                    <a:prstGeom prst="ellipse">
                      <a:avLst/>
                    </a:prstGeom>
                    <a:solidFill>
                      <a:srgbClr val="000080"/>
                    </a:solidFill>
                    <a:ln w="3240">
                      <a:solidFill>
                        <a:srgbClr val="00002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480" bIns="-24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82" name=""/>
                    <p:cNvSpPr/>
                    <p:nvPr/>
                  </p:nvSpPr>
                  <p:spPr>
                    <a:xfrm>
                      <a:off x="3203640" y="2687760"/>
                      <a:ext cx="55440" cy="23760"/>
                    </a:xfrm>
                    <a:prstGeom prst="ellipse">
                      <a:avLst/>
                    </a:prstGeom>
                    <a:solidFill>
                      <a:srgbClr val="400040"/>
                    </a:solidFill>
                    <a:ln w="3240">
                      <a:solidFill>
                        <a:srgbClr val="00002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483" name=""/>
            <p:cNvSpPr/>
            <p:nvPr/>
          </p:nvSpPr>
          <p:spPr>
            <a:xfrm>
              <a:off x="5143680" y="573120"/>
              <a:ext cx="809280" cy="45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5233320" y="639720"/>
              <a:ext cx="6285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000000"/>
                  </a:solidFill>
                  <a:latin typeface="Times New Roman"/>
                </a:rPr>
                <a:t>Plí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008080" y="528480"/>
              <a:ext cx="6778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100600" y="595440"/>
              <a:ext cx="491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000000"/>
                  </a:solidFill>
                  <a:latin typeface="Times New Roman"/>
                </a:rPr>
                <a:t>GI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1544760" y="1411200"/>
              <a:ext cx="795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1636560" y="1477800"/>
              <a:ext cx="6102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000000"/>
                  </a:solidFill>
                  <a:latin typeface="Times New Roman"/>
                </a:rPr>
                <a:t>Kůž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7323120" y="981000"/>
              <a:ext cx="11494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7413840" y="1047600"/>
              <a:ext cx="9669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000000"/>
                  </a:solidFill>
                  <a:latin typeface="Times New Roman"/>
                </a:rPr>
                <a:t>Ledvin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1" name=""/>
            <p:cNvGrpSpPr/>
            <p:nvPr/>
          </p:nvGrpSpPr>
          <p:grpSpPr>
            <a:xfrm>
              <a:off x="5641920" y="1851120"/>
              <a:ext cx="1408320" cy="844560"/>
              <a:chOff x="5641920" y="1851120"/>
              <a:chExt cx="1408320" cy="844560"/>
            </a:xfrm>
          </p:grpSpPr>
          <p:sp>
            <p:nvSpPr>
              <p:cNvPr id="492" name=""/>
              <p:cNvSpPr/>
              <p:nvPr/>
            </p:nvSpPr>
            <p:spPr>
              <a:xfrm>
                <a:off x="5641920" y="1851120"/>
                <a:ext cx="1406520" cy="842760"/>
              </a:xfrm>
              <a:prstGeom prst="rect">
                <a:avLst/>
              </a:pr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5641920" y="1851120"/>
                <a:ext cx="1406520" cy="842760"/>
              </a:xfrm>
              <a:prstGeom prst="rect">
                <a:avLst/>
              </a:prstGeom>
              <a:solidFill>
                <a:srgbClr val="ff33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5641920" y="1851120"/>
                <a:ext cx="1408320" cy="84456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5641920" y="1851120"/>
                <a:ext cx="1406520" cy="842760"/>
              </a:xfrm>
              <a:prstGeom prst="rect">
                <a:avLst/>
              </a:pr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6" name=""/>
            <p:cNvSpPr/>
            <p:nvPr/>
          </p:nvSpPr>
          <p:spPr>
            <a:xfrm>
              <a:off x="3813120" y="1862280"/>
              <a:ext cx="1781280" cy="82548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4118760" y="2063880"/>
              <a:ext cx="8830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plazm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5734800" y="1944720"/>
              <a:ext cx="1256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erytrocyt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5736240" y="2305080"/>
              <a:ext cx="1253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000000"/>
                  </a:solidFill>
                  <a:latin typeface="Times New Roman"/>
                </a:rPr>
                <a:t>(součást IC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807000" y="1866960"/>
              <a:ext cx="3233520" cy="8319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2370240" y="3193920"/>
              <a:ext cx="3444840" cy="978120"/>
            </a:xfrm>
            <a:prstGeom prst="rect">
              <a:avLst/>
            </a:prstGeom>
            <a:solidFill>
              <a:srgbClr val="cc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333360" y="4610160"/>
              <a:ext cx="8512200" cy="1460520"/>
            </a:xfrm>
            <a:custGeom>
              <a:avLst/>
              <a:gdLst/>
              <a:ahLst/>
              <a:rect l="l" t="t" r="r" b="b"/>
              <a:pathLst>
                <a:path w="5362" h="920">
                  <a:moveTo>
                    <a:pt x="153" y="0"/>
                  </a:moveTo>
                  <a:lnTo>
                    <a:pt x="137" y="1"/>
                  </a:lnTo>
                  <a:lnTo>
                    <a:pt x="122" y="3"/>
                  </a:lnTo>
                  <a:lnTo>
                    <a:pt x="108" y="7"/>
                  </a:lnTo>
                  <a:lnTo>
                    <a:pt x="94" y="12"/>
                  </a:lnTo>
                  <a:lnTo>
                    <a:pt x="80" y="19"/>
                  </a:lnTo>
                  <a:lnTo>
                    <a:pt x="68" y="26"/>
                  </a:lnTo>
                  <a:lnTo>
                    <a:pt x="56" y="35"/>
                  </a:lnTo>
                  <a:lnTo>
                    <a:pt x="45" y="45"/>
                  </a:lnTo>
                  <a:lnTo>
                    <a:pt x="35" y="56"/>
                  </a:lnTo>
                  <a:lnTo>
                    <a:pt x="26" y="68"/>
                  </a:lnTo>
                  <a:lnTo>
                    <a:pt x="19" y="80"/>
                  </a:lnTo>
                  <a:lnTo>
                    <a:pt x="12" y="94"/>
                  </a:lnTo>
                  <a:lnTo>
                    <a:pt x="7" y="108"/>
                  </a:lnTo>
                  <a:lnTo>
                    <a:pt x="3" y="122"/>
                  </a:lnTo>
                  <a:lnTo>
                    <a:pt x="1" y="137"/>
                  </a:lnTo>
                  <a:lnTo>
                    <a:pt x="0" y="153"/>
                  </a:lnTo>
                  <a:lnTo>
                    <a:pt x="0" y="767"/>
                  </a:lnTo>
                  <a:lnTo>
                    <a:pt x="1" y="783"/>
                  </a:lnTo>
                  <a:lnTo>
                    <a:pt x="3" y="798"/>
                  </a:lnTo>
                  <a:lnTo>
                    <a:pt x="7" y="812"/>
                  </a:lnTo>
                  <a:lnTo>
                    <a:pt x="12" y="826"/>
                  </a:lnTo>
                  <a:lnTo>
                    <a:pt x="19" y="840"/>
                  </a:lnTo>
                  <a:lnTo>
                    <a:pt x="26" y="852"/>
                  </a:lnTo>
                  <a:lnTo>
                    <a:pt x="35" y="864"/>
                  </a:lnTo>
                  <a:lnTo>
                    <a:pt x="45" y="875"/>
                  </a:lnTo>
                  <a:lnTo>
                    <a:pt x="56" y="885"/>
                  </a:lnTo>
                  <a:lnTo>
                    <a:pt x="68" y="894"/>
                  </a:lnTo>
                  <a:lnTo>
                    <a:pt x="80" y="901"/>
                  </a:lnTo>
                  <a:lnTo>
                    <a:pt x="94" y="908"/>
                  </a:lnTo>
                  <a:lnTo>
                    <a:pt x="108" y="913"/>
                  </a:lnTo>
                  <a:lnTo>
                    <a:pt x="122" y="917"/>
                  </a:lnTo>
                  <a:lnTo>
                    <a:pt x="137" y="919"/>
                  </a:lnTo>
                  <a:lnTo>
                    <a:pt x="153" y="920"/>
                  </a:lnTo>
                  <a:lnTo>
                    <a:pt x="5209" y="920"/>
                  </a:lnTo>
                  <a:lnTo>
                    <a:pt x="5225" y="919"/>
                  </a:lnTo>
                  <a:lnTo>
                    <a:pt x="5240" y="917"/>
                  </a:lnTo>
                  <a:lnTo>
                    <a:pt x="5254" y="913"/>
                  </a:lnTo>
                  <a:lnTo>
                    <a:pt x="5268" y="908"/>
                  </a:lnTo>
                  <a:lnTo>
                    <a:pt x="5282" y="901"/>
                  </a:lnTo>
                  <a:lnTo>
                    <a:pt x="5294" y="894"/>
                  </a:lnTo>
                  <a:lnTo>
                    <a:pt x="5306" y="885"/>
                  </a:lnTo>
                  <a:lnTo>
                    <a:pt x="5317" y="875"/>
                  </a:lnTo>
                  <a:lnTo>
                    <a:pt x="5327" y="864"/>
                  </a:lnTo>
                  <a:lnTo>
                    <a:pt x="5336" y="852"/>
                  </a:lnTo>
                  <a:lnTo>
                    <a:pt x="5343" y="840"/>
                  </a:lnTo>
                  <a:lnTo>
                    <a:pt x="5350" y="826"/>
                  </a:lnTo>
                  <a:lnTo>
                    <a:pt x="5355" y="812"/>
                  </a:lnTo>
                  <a:lnTo>
                    <a:pt x="5359" y="798"/>
                  </a:lnTo>
                  <a:lnTo>
                    <a:pt x="5361" y="783"/>
                  </a:lnTo>
                  <a:lnTo>
                    <a:pt x="5362" y="767"/>
                  </a:lnTo>
                  <a:lnTo>
                    <a:pt x="5362" y="153"/>
                  </a:lnTo>
                  <a:lnTo>
                    <a:pt x="5361" y="137"/>
                  </a:lnTo>
                  <a:lnTo>
                    <a:pt x="5359" y="122"/>
                  </a:lnTo>
                  <a:lnTo>
                    <a:pt x="5355" y="108"/>
                  </a:lnTo>
                  <a:lnTo>
                    <a:pt x="5350" y="94"/>
                  </a:lnTo>
                  <a:lnTo>
                    <a:pt x="5343" y="80"/>
                  </a:lnTo>
                  <a:lnTo>
                    <a:pt x="5336" y="68"/>
                  </a:lnTo>
                  <a:lnTo>
                    <a:pt x="5327" y="56"/>
                  </a:lnTo>
                  <a:lnTo>
                    <a:pt x="5317" y="45"/>
                  </a:lnTo>
                  <a:lnTo>
                    <a:pt x="5306" y="35"/>
                  </a:lnTo>
                  <a:lnTo>
                    <a:pt x="5294" y="26"/>
                  </a:lnTo>
                  <a:lnTo>
                    <a:pt x="5282" y="19"/>
                  </a:lnTo>
                  <a:lnTo>
                    <a:pt x="5268" y="12"/>
                  </a:lnTo>
                  <a:lnTo>
                    <a:pt x="5254" y="7"/>
                  </a:lnTo>
                  <a:lnTo>
                    <a:pt x="5240" y="3"/>
                  </a:lnTo>
                  <a:lnTo>
                    <a:pt x="5225" y="1"/>
                  </a:lnTo>
                  <a:lnTo>
                    <a:pt x="5209" y="0"/>
                  </a:lnTo>
                  <a:lnTo>
                    <a:pt x="153" y="0"/>
                  </a:lnTo>
                  <a:close/>
                </a:path>
              </a:pathLst>
            </a:custGeom>
            <a:solidFill>
              <a:srgbClr val="00cc99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3" name=""/>
            <p:cNvGrpSpPr/>
            <p:nvPr/>
          </p:nvGrpSpPr>
          <p:grpSpPr>
            <a:xfrm>
              <a:off x="905040" y="1467000"/>
              <a:ext cx="525240" cy="399960"/>
              <a:chOff x="905040" y="1467000"/>
              <a:chExt cx="525240" cy="399960"/>
            </a:xfrm>
          </p:grpSpPr>
          <p:sp>
            <p:nvSpPr>
              <p:cNvPr id="504" name=""/>
              <p:cNvSpPr/>
              <p:nvPr/>
            </p:nvSpPr>
            <p:spPr>
              <a:xfrm>
                <a:off x="1027080" y="1550880"/>
                <a:ext cx="403200" cy="316080"/>
              </a:xfrm>
              <a:custGeom>
                <a:avLst/>
                <a:gdLst/>
                <a:ahLst/>
                <a:rect l="l" t="t" r="r" b="b"/>
                <a:pathLst>
                  <a:path w="254" h="199">
                    <a:moveTo>
                      <a:pt x="240" y="199"/>
                    </a:moveTo>
                    <a:lnTo>
                      <a:pt x="254" y="180"/>
                    </a:lnTo>
                    <a:lnTo>
                      <a:pt x="14" y="0"/>
                    </a:lnTo>
                    <a:lnTo>
                      <a:pt x="0" y="19"/>
                    </a:lnTo>
                    <a:lnTo>
                      <a:pt x="240" y="1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905040" y="1467000"/>
                <a:ext cx="187200" cy="168120"/>
              </a:xfrm>
              <a:custGeom>
                <a:avLst/>
                <a:gdLst/>
                <a:ahLst/>
                <a:rect l="l" t="t" r="r" b="b"/>
                <a:pathLst>
                  <a:path w="118" h="106">
                    <a:moveTo>
                      <a:pt x="118" y="21"/>
                    </a:moveTo>
                    <a:lnTo>
                      <a:pt x="0" y="0"/>
                    </a:lnTo>
                    <a:lnTo>
                      <a:pt x="54" y="106"/>
                    </a:lnTo>
                    <a:lnTo>
                      <a:pt x="118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6" name=""/>
            <p:cNvGrpSpPr/>
            <p:nvPr/>
          </p:nvGrpSpPr>
          <p:grpSpPr>
            <a:xfrm>
              <a:off x="1212840" y="857160"/>
              <a:ext cx="1703520" cy="885960"/>
              <a:chOff x="1212840" y="857160"/>
              <a:chExt cx="1703520" cy="885960"/>
            </a:xfrm>
          </p:grpSpPr>
          <p:sp>
            <p:nvSpPr>
              <p:cNvPr id="507" name=""/>
              <p:cNvSpPr/>
              <p:nvPr/>
            </p:nvSpPr>
            <p:spPr>
              <a:xfrm>
                <a:off x="1352520" y="915840"/>
                <a:ext cx="1563840" cy="827280"/>
              </a:xfrm>
              <a:custGeom>
                <a:avLst/>
                <a:gdLst/>
                <a:ahLst/>
                <a:rect l="l" t="t" r="r" b="b"/>
                <a:pathLst>
                  <a:path w="985" h="521">
                    <a:moveTo>
                      <a:pt x="974" y="521"/>
                    </a:moveTo>
                    <a:lnTo>
                      <a:pt x="985" y="500"/>
                    </a:lnTo>
                    <a:lnTo>
                      <a:pt x="11" y="0"/>
                    </a:lnTo>
                    <a:lnTo>
                      <a:pt x="0" y="21"/>
                    </a:lnTo>
                    <a:lnTo>
                      <a:pt x="974" y="5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1212840" y="857160"/>
                <a:ext cx="190440" cy="152640"/>
              </a:xfrm>
              <a:custGeom>
                <a:avLst/>
                <a:gdLst/>
                <a:ahLst/>
                <a:rect l="l" t="t" r="r" b="b"/>
                <a:pathLst>
                  <a:path w="120" h="96">
                    <a:moveTo>
                      <a:pt x="120" y="1"/>
                    </a:moveTo>
                    <a:lnTo>
                      <a:pt x="0" y="0"/>
                    </a:lnTo>
                    <a:lnTo>
                      <a:pt x="71" y="96"/>
                    </a:lnTo>
                    <a:lnTo>
                      <a:pt x="12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9" name=""/>
            <p:cNvGrpSpPr/>
            <p:nvPr/>
          </p:nvGrpSpPr>
          <p:grpSpPr>
            <a:xfrm>
              <a:off x="1940040" y="181080"/>
              <a:ext cx="1110960" cy="577800"/>
              <a:chOff x="1940040" y="181080"/>
              <a:chExt cx="1110960" cy="577800"/>
            </a:xfrm>
          </p:grpSpPr>
          <p:sp>
            <p:nvSpPr>
              <p:cNvPr id="510" name=""/>
              <p:cNvSpPr/>
              <p:nvPr/>
            </p:nvSpPr>
            <p:spPr>
              <a:xfrm>
                <a:off x="1940040" y="181080"/>
                <a:ext cx="973080" cy="520560"/>
              </a:xfrm>
              <a:custGeom>
                <a:avLst/>
                <a:gdLst/>
                <a:ahLst/>
                <a:rect l="l" t="t" r="r" b="b"/>
                <a:pathLst>
                  <a:path w="613" h="328">
                    <a:moveTo>
                      <a:pt x="11" y="0"/>
                    </a:moveTo>
                    <a:lnTo>
                      <a:pt x="0" y="21"/>
                    </a:lnTo>
                    <a:lnTo>
                      <a:pt x="602" y="328"/>
                    </a:lnTo>
                    <a:lnTo>
                      <a:pt x="613" y="307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2860560" y="606600"/>
                <a:ext cx="190440" cy="152280"/>
              </a:xfrm>
              <a:custGeom>
                <a:avLst/>
                <a:gdLst/>
                <a:ahLst/>
                <a:rect l="l" t="t" r="r" b="b"/>
                <a:pathLst>
                  <a:path w="120" h="96">
                    <a:moveTo>
                      <a:pt x="0" y="95"/>
                    </a:moveTo>
                    <a:lnTo>
                      <a:pt x="120" y="96"/>
                    </a:lnTo>
                    <a:lnTo>
                      <a:pt x="49" y="0"/>
                    </a:lnTo>
                    <a:lnTo>
                      <a:pt x="0" y="9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2" name=""/>
            <p:cNvGrpSpPr/>
            <p:nvPr/>
          </p:nvGrpSpPr>
          <p:grpSpPr>
            <a:xfrm>
              <a:off x="6885000" y="160200"/>
              <a:ext cx="1235160" cy="793800"/>
              <a:chOff x="6885000" y="160200"/>
              <a:chExt cx="1235160" cy="793800"/>
            </a:xfrm>
          </p:grpSpPr>
          <p:sp>
            <p:nvSpPr>
              <p:cNvPr id="513" name=""/>
              <p:cNvSpPr/>
              <p:nvPr/>
            </p:nvSpPr>
            <p:spPr>
              <a:xfrm>
                <a:off x="6885000" y="231840"/>
                <a:ext cx="1106640" cy="722160"/>
              </a:xfrm>
              <a:custGeom>
                <a:avLst/>
                <a:gdLst/>
                <a:ahLst/>
                <a:rect l="l" t="t" r="r" b="b"/>
                <a:pathLst>
                  <a:path w="697" h="455">
                    <a:moveTo>
                      <a:pt x="0" y="435"/>
                    </a:moveTo>
                    <a:lnTo>
                      <a:pt x="13" y="455"/>
                    </a:lnTo>
                    <a:lnTo>
                      <a:pt x="697" y="20"/>
                    </a:lnTo>
                    <a:lnTo>
                      <a:pt x="684" y="0"/>
                    </a:lnTo>
                    <a:lnTo>
                      <a:pt x="0" y="4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7931160" y="160200"/>
                <a:ext cx="189000" cy="163800"/>
              </a:xfrm>
              <a:custGeom>
                <a:avLst/>
                <a:gdLst/>
                <a:ahLst/>
                <a:rect l="l" t="t" r="r" b="b"/>
                <a:pathLst>
                  <a:path w="119" h="103">
                    <a:moveTo>
                      <a:pt x="57" y="103"/>
                    </a:moveTo>
                    <a:lnTo>
                      <a:pt x="119" y="0"/>
                    </a:lnTo>
                    <a:lnTo>
                      <a:pt x="0" y="12"/>
                    </a:lnTo>
                    <a:lnTo>
                      <a:pt x="57" y="10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5" name=""/>
            <p:cNvGrpSpPr/>
            <p:nvPr/>
          </p:nvGrpSpPr>
          <p:grpSpPr>
            <a:xfrm>
              <a:off x="5102280" y="257040"/>
              <a:ext cx="611280" cy="368280"/>
              <a:chOff x="5102280" y="257040"/>
              <a:chExt cx="611280" cy="368280"/>
            </a:xfrm>
          </p:grpSpPr>
          <p:sp>
            <p:nvSpPr>
              <p:cNvPr id="516" name=""/>
              <p:cNvSpPr/>
              <p:nvPr/>
            </p:nvSpPr>
            <p:spPr>
              <a:xfrm>
                <a:off x="5235480" y="257040"/>
                <a:ext cx="478080" cy="301680"/>
              </a:xfrm>
              <a:custGeom>
                <a:avLst/>
                <a:gdLst/>
                <a:ahLst/>
                <a:rect l="l" t="t" r="r" b="b"/>
                <a:pathLst>
                  <a:path w="301" h="190">
                    <a:moveTo>
                      <a:pt x="301" y="20"/>
                    </a:moveTo>
                    <a:lnTo>
                      <a:pt x="289" y="0"/>
                    </a:lnTo>
                    <a:lnTo>
                      <a:pt x="0" y="170"/>
                    </a:lnTo>
                    <a:lnTo>
                      <a:pt x="12" y="190"/>
                    </a:lnTo>
                    <a:lnTo>
                      <a:pt x="301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5102280" y="465120"/>
                <a:ext cx="189000" cy="160200"/>
              </a:xfrm>
              <a:custGeom>
                <a:avLst/>
                <a:gdLst/>
                <a:ahLst/>
                <a:rect l="l" t="t" r="r" b="b"/>
                <a:pathLst>
                  <a:path w="119" h="101">
                    <a:moveTo>
                      <a:pt x="65" y="0"/>
                    </a:moveTo>
                    <a:lnTo>
                      <a:pt x="0" y="101"/>
                    </a:lnTo>
                    <a:lnTo>
                      <a:pt x="119" y="93"/>
                    </a:lnTo>
                    <a:lnTo>
                      <a:pt x="6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8" name=""/>
            <p:cNvGrpSpPr/>
            <p:nvPr/>
          </p:nvGrpSpPr>
          <p:grpSpPr>
            <a:xfrm>
              <a:off x="3511440" y="176040"/>
              <a:ext cx="720720" cy="454320"/>
              <a:chOff x="3511440" y="176040"/>
              <a:chExt cx="720720" cy="454320"/>
            </a:xfrm>
          </p:grpSpPr>
          <p:sp>
            <p:nvSpPr>
              <p:cNvPr id="519" name=""/>
              <p:cNvSpPr/>
              <p:nvPr/>
            </p:nvSpPr>
            <p:spPr>
              <a:xfrm>
                <a:off x="3511440" y="176040"/>
                <a:ext cx="588960" cy="384480"/>
              </a:xfrm>
              <a:custGeom>
                <a:avLst/>
                <a:gdLst/>
                <a:ahLst/>
                <a:rect l="l" t="t" r="r" b="b"/>
                <a:pathLst>
                  <a:path w="371" h="242">
                    <a:moveTo>
                      <a:pt x="12" y="0"/>
                    </a:moveTo>
                    <a:lnTo>
                      <a:pt x="0" y="20"/>
                    </a:lnTo>
                    <a:lnTo>
                      <a:pt x="359" y="242"/>
                    </a:lnTo>
                    <a:lnTo>
                      <a:pt x="371" y="222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4043520" y="469800"/>
                <a:ext cx="188640" cy="160560"/>
              </a:xfrm>
              <a:custGeom>
                <a:avLst/>
                <a:gdLst/>
                <a:ahLst/>
                <a:rect l="l" t="t" r="r" b="b"/>
                <a:pathLst>
                  <a:path w="119" h="101">
                    <a:moveTo>
                      <a:pt x="0" y="91"/>
                    </a:moveTo>
                    <a:lnTo>
                      <a:pt x="119" y="101"/>
                    </a:lnTo>
                    <a:lnTo>
                      <a:pt x="56" y="0"/>
                    </a:lnTo>
                    <a:lnTo>
                      <a:pt x="0" y="9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21" name=""/>
            <p:cNvSpPr/>
            <p:nvPr/>
          </p:nvSpPr>
          <p:spPr>
            <a:xfrm>
              <a:off x="5892840" y="3200400"/>
              <a:ext cx="2798640" cy="960480"/>
            </a:xfrm>
            <a:prstGeom prst="rect">
              <a:avLst/>
            </a:prstGeom>
            <a:solidFill>
              <a:srgbClr val="cc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2" name=""/>
            <p:cNvGrpSpPr/>
            <p:nvPr/>
          </p:nvGrpSpPr>
          <p:grpSpPr>
            <a:xfrm>
              <a:off x="4927680" y="2690640"/>
              <a:ext cx="169920" cy="498600"/>
              <a:chOff x="4927680" y="2690640"/>
              <a:chExt cx="169920" cy="498600"/>
            </a:xfrm>
          </p:grpSpPr>
          <p:sp>
            <p:nvSpPr>
              <p:cNvPr id="523" name=""/>
              <p:cNvSpPr/>
              <p:nvPr/>
            </p:nvSpPr>
            <p:spPr>
              <a:xfrm>
                <a:off x="4992840" y="2857680"/>
                <a:ext cx="37800" cy="331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4927680" y="2690640"/>
                <a:ext cx="169920" cy="169920"/>
              </a:xfrm>
              <a:custGeom>
                <a:avLst/>
                <a:gdLst/>
                <a:ahLst/>
                <a:rect l="l" t="t" r="r" b="b"/>
                <a:pathLst>
                  <a:path w="107" h="107">
                    <a:moveTo>
                      <a:pt x="107" y="107"/>
                    </a:moveTo>
                    <a:lnTo>
                      <a:pt x="53" y="0"/>
                    </a:lnTo>
                    <a:lnTo>
                      <a:pt x="0" y="107"/>
                    </a:lnTo>
                    <a:lnTo>
                      <a:pt x="107" y="10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5" name=""/>
            <p:cNvGrpSpPr/>
            <p:nvPr/>
          </p:nvGrpSpPr>
          <p:grpSpPr>
            <a:xfrm>
              <a:off x="4611600" y="2695680"/>
              <a:ext cx="169920" cy="473040"/>
              <a:chOff x="4611600" y="2695680"/>
              <a:chExt cx="169920" cy="473040"/>
            </a:xfrm>
          </p:grpSpPr>
          <p:sp>
            <p:nvSpPr>
              <p:cNvPr id="526" name=""/>
              <p:cNvSpPr/>
              <p:nvPr/>
            </p:nvSpPr>
            <p:spPr>
              <a:xfrm>
                <a:off x="4678200" y="2695680"/>
                <a:ext cx="38160" cy="306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4611600" y="2998800"/>
                <a:ext cx="169920" cy="169920"/>
              </a:xfrm>
              <a:custGeom>
                <a:avLst/>
                <a:gdLst/>
                <a:ahLst/>
                <a:rect l="l" t="t" r="r" b="b"/>
                <a:pathLst>
                  <a:path w="107" h="107">
                    <a:moveTo>
                      <a:pt x="0" y="0"/>
                    </a:moveTo>
                    <a:lnTo>
                      <a:pt x="54" y="107"/>
                    </a:lnTo>
                    <a:lnTo>
                      <a:pt x="10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8" name=""/>
            <p:cNvGrpSpPr/>
            <p:nvPr/>
          </p:nvGrpSpPr>
          <p:grpSpPr>
            <a:xfrm>
              <a:off x="4487760" y="4152960"/>
              <a:ext cx="169920" cy="412560"/>
              <a:chOff x="4487760" y="4152960"/>
              <a:chExt cx="169920" cy="412560"/>
            </a:xfrm>
          </p:grpSpPr>
          <p:sp>
            <p:nvSpPr>
              <p:cNvPr id="529" name=""/>
              <p:cNvSpPr/>
              <p:nvPr/>
            </p:nvSpPr>
            <p:spPr>
              <a:xfrm>
                <a:off x="4552920" y="4319640"/>
                <a:ext cx="38160" cy="245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4487760" y="4152960"/>
                <a:ext cx="169920" cy="169920"/>
              </a:xfrm>
              <a:custGeom>
                <a:avLst/>
                <a:gdLst/>
                <a:ahLst/>
                <a:rect l="l" t="t" r="r" b="b"/>
                <a:pathLst>
                  <a:path w="107" h="107">
                    <a:moveTo>
                      <a:pt x="107" y="107"/>
                    </a:moveTo>
                    <a:lnTo>
                      <a:pt x="53" y="0"/>
                    </a:lnTo>
                    <a:lnTo>
                      <a:pt x="0" y="107"/>
                    </a:lnTo>
                    <a:lnTo>
                      <a:pt x="107" y="10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1" name=""/>
            <p:cNvGrpSpPr/>
            <p:nvPr/>
          </p:nvGrpSpPr>
          <p:grpSpPr>
            <a:xfrm>
              <a:off x="4025880" y="4175280"/>
              <a:ext cx="169920" cy="411120"/>
              <a:chOff x="4025880" y="4175280"/>
              <a:chExt cx="169920" cy="411120"/>
            </a:xfrm>
          </p:grpSpPr>
          <p:sp>
            <p:nvSpPr>
              <p:cNvPr id="532" name=""/>
              <p:cNvSpPr/>
              <p:nvPr/>
            </p:nvSpPr>
            <p:spPr>
              <a:xfrm>
                <a:off x="4092480" y="4175280"/>
                <a:ext cx="38160" cy="244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4025880" y="4416480"/>
                <a:ext cx="169920" cy="169920"/>
              </a:xfrm>
              <a:custGeom>
                <a:avLst/>
                <a:gdLst/>
                <a:ahLst/>
                <a:rect l="l" t="t" r="r" b="b"/>
                <a:pathLst>
                  <a:path w="107" h="107">
                    <a:moveTo>
                      <a:pt x="0" y="0"/>
                    </a:moveTo>
                    <a:lnTo>
                      <a:pt x="54" y="107"/>
                    </a:lnTo>
                    <a:lnTo>
                      <a:pt x="10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4" name=""/>
            <p:cNvGrpSpPr/>
            <p:nvPr/>
          </p:nvGrpSpPr>
          <p:grpSpPr>
            <a:xfrm>
              <a:off x="7362720" y="4138560"/>
              <a:ext cx="169920" cy="447840"/>
              <a:chOff x="7362720" y="4138560"/>
              <a:chExt cx="169920" cy="447840"/>
            </a:xfrm>
          </p:grpSpPr>
          <p:sp>
            <p:nvSpPr>
              <p:cNvPr id="535" name=""/>
              <p:cNvSpPr/>
              <p:nvPr/>
            </p:nvSpPr>
            <p:spPr>
              <a:xfrm>
                <a:off x="7427880" y="4305240"/>
                <a:ext cx="38160" cy="28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7362720" y="4138560"/>
                <a:ext cx="169920" cy="169920"/>
              </a:xfrm>
              <a:custGeom>
                <a:avLst/>
                <a:gdLst/>
                <a:ahLst/>
                <a:rect l="l" t="t" r="r" b="b"/>
                <a:pathLst>
                  <a:path w="107" h="107">
                    <a:moveTo>
                      <a:pt x="107" y="107"/>
                    </a:moveTo>
                    <a:lnTo>
                      <a:pt x="53" y="0"/>
                    </a:lnTo>
                    <a:lnTo>
                      <a:pt x="0" y="107"/>
                    </a:lnTo>
                    <a:lnTo>
                      <a:pt x="107" y="10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7" name=""/>
            <p:cNvGrpSpPr/>
            <p:nvPr/>
          </p:nvGrpSpPr>
          <p:grpSpPr>
            <a:xfrm>
              <a:off x="6908760" y="4159080"/>
              <a:ext cx="169920" cy="420840"/>
              <a:chOff x="6908760" y="4159080"/>
              <a:chExt cx="169920" cy="420840"/>
            </a:xfrm>
          </p:grpSpPr>
          <p:sp>
            <p:nvSpPr>
              <p:cNvPr id="538" name=""/>
              <p:cNvSpPr/>
              <p:nvPr/>
            </p:nvSpPr>
            <p:spPr>
              <a:xfrm>
                <a:off x="6975360" y="4159080"/>
                <a:ext cx="38160" cy="254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6908760" y="4410000"/>
                <a:ext cx="169920" cy="169920"/>
              </a:xfrm>
              <a:custGeom>
                <a:avLst/>
                <a:gdLst/>
                <a:ahLst/>
                <a:rect l="l" t="t" r="r" b="b"/>
                <a:pathLst>
                  <a:path w="107" h="107">
                    <a:moveTo>
                      <a:pt x="0" y="0"/>
                    </a:moveTo>
                    <a:lnTo>
                      <a:pt x="54" y="107"/>
                    </a:lnTo>
                    <a:lnTo>
                      <a:pt x="10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0" name=""/>
            <p:cNvGrpSpPr/>
            <p:nvPr/>
          </p:nvGrpSpPr>
          <p:grpSpPr>
            <a:xfrm>
              <a:off x="4527720" y="6054840"/>
              <a:ext cx="169560" cy="447480"/>
              <a:chOff x="4527720" y="6054840"/>
              <a:chExt cx="169560" cy="447480"/>
            </a:xfrm>
          </p:grpSpPr>
          <p:sp>
            <p:nvSpPr>
              <p:cNvPr id="541" name=""/>
              <p:cNvSpPr/>
              <p:nvPr/>
            </p:nvSpPr>
            <p:spPr>
              <a:xfrm>
                <a:off x="4592520" y="6221520"/>
                <a:ext cx="38160" cy="28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4527720" y="6054840"/>
                <a:ext cx="169560" cy="169920"/>
              </a:xfrm>
              <a:custGeom>
                <a:avLst/>
                <a:gdLst/>
                <a:ahLst/>
                <a:rect l="l" t="t" r="r" b="b"/>
                <a:pathLst>
                  <a:path w="107" h="107">
                    <a:moveTo>
                      <a:pt x="107" y="107"/>
                    </a:moveTo>
                    <a:lnTo>
                      <a:pt x="53" y="0"/>
                    </a:lnTo>
                    <a:lnTo>
                      <a:pt x="0" y="107"/>
                    </a:lnTo>
                    <a:lnTo>
                      <a:pt x="107" y="10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3" name=""/>
            <p:cNvGrpSpPr/>
            <p:nvPr/>
          </p:nvGrpSpPr>
          <p:grpSpPr>
            <a:xfrm>
              <a:off x="4043520" y="6070680"/>
              <a:ext cx="169560" cy="385560"/>
              <a:chOff x="4043520" y="6070680"/>
              <a:chExt cx="169560" cy="385560"/>
            </a:xfrm>
          </p:grpSpPr>
          <p:sp>
            <p:nvSpPr>
              <p:cNvPr id="544" name=""/>
              <p:cNvSpPr/>
              <p:nvPr/>
            </p:nvSpPr>
            <p:spPr>
              <a:xfrm>
                <a:off x="4110120" y="6070680"/>
                <a:ext cx="38160" cy="218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4043520" y="6286680"/>
                <a:ext cx="169560" cy="169560"/>
              </a:xfrm>
              <a:custGeom>
                <a:avLst/>
                <a:gdLst/>
                <a:ahLst/>
                <a:rect l="l" t="t" r="r" b="b"/>
                <a:pathLst>
                  <a:path w="107" h="107">
                    <a:moveTo>
                      <a:pt x="0" y="0"/>
                    </a:moveTo>
                    <a:lnTo>
                      <a:pt x="54" y="107"/>
                    </a:lnTo>
                    <a:lnTo>
                      <a:pt x="10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6" name=""/>
            <p:cNvGrpSpPr/>
            <p:nvPr/>
          </p:nvGrpSpPr>
          <p:grpSpPr>
            <a:xfrm>
              <a:off x="4711680" y="1332000"/>
              <a:ext cx="169920" cy="542880"/>
              <a:chOff x="4711680" y="1332000"/>
              <a:chExt cx="169920" cy="542880"/>
            </a:xfrm>
          </p:grpSpPr>
          <p:sp>
            <p:nvSpPr>
              <p:cNvPr id="547" name=""/>
              <p:cNvSpPr/>
              <p:nvPr/>
            </p:nvSpPr>
            <p:spPr>
              <a:xfrm>
                <a:off x="4775040" y="1498680"/>
                <a:ext cx="39960" cy="376200"/>
              </a:xfrm>
              <a:custGeom>
                <a:avLst/>
                <a:gdLst/>
                <a:ahLst/>
                <a:rect l="l" t="t" r="r" b="b"/>
                <a:pathLst>
                  <a:path w="25" h="237">
                    <a:moveTo>
                      <a:pt x="0" y="237"/>
                    </a:moveTo>
                    <a:lnTo>
                      <a:pt x="24" y="237"/>
                    </a:lnTo>
                    <a:lnTo>
                      <a:pt x="25" y="0"/>
                    </a:lnTo>
                    <a:lnTo>
                      <a:pt x="1" y="0"/>
                    </a:lnTo>
                    <a:lnTo>
                      <a:pt x="0" y="2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4711680" y="1332000"/>
                <a:ext cx="169920" cy="169920"/>
              </a:xfrm>
              <a:custGeom>
                <a:avLst/>
                <a:gdLst/>
                <a:ahLst/>
                <a:rect l="l" t="t" r="r" b="b"/>
                <a:pathLst>
                  <a:path w="107" h="107">
                    <a:moveTo>
                      <a:pt x="107" y="107"/>
                    </a:moveTo>
                    <a:lnTo>
                      <a:pt x="53" y="0"/>
                    </a:lnTo>
                    <a:lnTo>
                      <a:pt x="0" y="107"/>
                    </a:lnTo>
                    <a:lnTo>
                      <a:pt x="107" y="10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9" name=""/>
            <p:cNvGrpSpPr/>
            <p:nvPr/>
          </p:nvGrpSpPr>
          <p:grpSpPr>
            <a:xfrm>
              <a:off x="4361040" y="1343160"/>
              <a:ext cx="169560" cy="507960"/>
              <a:chOff x="4361040" y="1343160"/>
              <a:chExt cx="169560" cy="507960"/>
            </a:xfrm>
          </p:grpSpPr>
          <p:sp>
            <p:nvSpPr>
              <p:cNvPr id="550" name=""/>
              <p:cNvSpPr/>
              <p:nvPr/>
            </p:nvSpPr>
            <p:spPr>
              <a:xfrm>
                <a:off x="4427640" y="1343160"/>
                <a:ext cx="38160" cy="341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4361040" y="1681200"/>
                <a:ext cx="169560" cy="169920"/>
              </a:xfrm>
              <a:custGeom>
                <a:avLst/>
                <a:gdLst/>
                <a:ahLst/>
                <a:rect l="l" t="t" r="r" b="b"/>
                <a:pathLst>
                  <a:path w="107" h="107">
                    <a:moveTo>
                      <a:pt x="0" y="0"/>
                    </a:moveTo>
                    <a:lnTo>
                      <a:pt x="54" y="107"/>
                    </a:lnTo>
                    <a:lnTo>
                      <a:pt x="10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2" name=""/>
            <p:cNvGrpSpPr/>
            <p:nvPr/>
          </p:nvGrpSpPr>
          <p:grpSpPr>
            <a:xfrm>
              <a:off x="3241800" y="1193760"/>
              <a:ext cx="873000" cy="669960"/>
              <a:chOff x="3241800" y="1193760"/>
              <a:chExt cx="873000" cy="669960"/>
            </a:xfrm>
          </p:grpSpPr>
          <p:sp>
            <p:nvSpPr>
              <p:cNvPr id="553" name=""/>
              <p:cNvSpPr/>
              <p:nvPr/>
            </p:nvSpPr>
            <p:spPr>
              <a:xfrm>
                <a:off x="3241800" y="1193760"/>
                <a:ext cx="752400" cy="585720"/>
              </a:xfrm>
              <a:custGeom>
                <a:avLst/>
                <a:gdLst/>
                <a:ahLst/>
                <a:rect l="l" t="t" r="r" b="b"/>
                <a:pathLst>
                  <a:path w="474" h="369">
                    <a:moveTo>
                      <a:pt x="460" y="369"/>
                    </a:moveTo>
                    <a:lnTo>
                      <a:pt x="474" y="350"/>
                    </a:lnTo>
                    <a:lnTo>
                      <a:pt x="14" y="0"/>
                    </a:lnTo>
                    <a:lnTo>
                      <a:pt x="0" y="19"/>
                    </a:lnTo>
                    <a:lnTo>
                      <a:pt x="460" y="36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3927600" y="1693800"/>
                <a:ext cx="187200" cy="169920"/>
              </a:xfrm>
              <a:custGeom>
                <a:avLst/>
                <a:gdLst/>
                <a:ahLst/>
                <a:rect l="l" t="t" r="r" b="b"/>
                <a:pathLst>
                  <a:path w="118" h="107">
                    <a:moveTo>
                      <a:pt x="0" y="85"/>
                    </a:moveTo>
                    <a:lnTo>
                      <a:pt x="118" y="107"/>
                    </a:lnTo>
                    <a:lnTo>
                      <a:pt x="65" y="0"/>
                    </a:lnTo>
                    <a:lnTo>
                      <a:pt x="0" y="8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5" name=""/>
            <p:cNvGrpSpPr/>
            <p:nvPr/>
          </p:nvGrpSpPr>
          <p:grpSpPr>
            <a:xfrm>
              <a:off x="3164040" y="1363680"/>
              <a:ext cx="707760" cy="496800"/>
              <a:chOff x="3164040" y="1363680"/>
              <a:chExt cx="707760" cy="496800"/>
            </a:xfrm>
          </p:grpSpPr>
          <p:sp>
            <p:nvSpPr>
              <p:cNvPr id="556" name=""/>
              <p:cNvSpPr/>
              <p:nvPr/>
            </p:nvSpPr>
            <p:spPr>
              <a:xfrm>
                <a:off x="3290760" y="1442880"/>
                <a:ext cx="581040" cy="417600"/>
              </a:xfrm>
              <a:custGeom>
                <a:avLst/>
                <a:gdLst/>
                <a:ahLst/>
                <a:rect l="l" t="t" r="r" b="b"/>
                <a:pathLst>
                  <a:path w="366" h="263">
                    <a:moveTo>
                      <a:pt x="353" y="263"/>
                    </a:moveTo>
                    <a:lnTo>
                      <a:pt x="366" y="244"/>
                    </a:lnTo>
                    <a:lnTo>
                      <a:pt x="13" y="0"/>
                    </a:lnTo>
                    <a:lnTo>
                      <a:pt x="0" y="19"/>
                    </a:lnTo>
                    <a:lnTo>
                      <a:pt x="353" y="26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3164040" y="1363680"/>
                <a:ext cx="188640" cy="166680"/>
              </a:xfrm>
              <a:custGeom>
                <a:avLst/>
                <a:gdLst/>
                <a:ahLst/>
                <a:rect l="l" t="t" r="r" b="b"/>
                <a:pathLst>
                  <a:path w="119" h="105">
                    <a:moveTo>
                      <a:pt x="119" y="17"/>
                    </a:moveTo>
                    <a:lnTo>
                      <a:pt x="0" y="0"/>
                    </a:lnTo>
                    <a:lnTo>
                      <a:pt x="58" y="105"/>
                    </a:lnTo>
                    <a:lnTo>
                      <a:pt x="119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8" name=""/>
            <p:cNvGrpSpPr/>
            <p:nvPr/>
          </p:nvGrpSpPr>
          <p:grpSpPr>
            <a:xfrm>
              <a:off x="5226120" y="979560"/>
              <a:ext cx="1185840" cy="890640"/>
              <a:chOff x="5226120" y="979560"/>
              <a:chExt cx="1185840" cy="890640"/>
            </a:xfrm>
          </p:grpSpPr>
          <p:sp>
            <p:nvSpPr>
              <p:cNvPr id="559" name=""/>
              <p:cNvSpPr/>
              <p:nvPr/>
            </p:nvSpPr>
            <p:spPr>
              <a:xfrm>
                <a:off x="5226120" y="1063800"/>
                <a:ext cx="1063440" cy="806400"/>
              </a:xfrm>
              <a:custGeom>
                <a:avLst/>
                <a:gdLst/>
                <a:ahLst/>
                <a:rect l="l" t="t" r="r" b="b"/>
                <a:pathLst>
                  <a:path w="670" h="508">
                    <a:moveTo>
                      <a:pt x="0" y="489"/>
                    </a:moveTo>
                    <a:lnTo>
                      <a:pt x="14" y="508"/>
                    </a:lnTo>
                    <a:lnTo>
                      <a:pt x="670" y="19"/>
                    </a:lnTo>
                    <a:lnTo>
                      <a:pt x="656" y="0"/>
                    </a:lnTo>
                    <a:lnTo>
                      <a:pt x="0" y="48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6226200" y="979560"/>
                <a:ext cx="185760" cy="169920"/>
              </a:xfrm>
              <a:custGeom>
                <a:avLst/>
                <a:gdLst/>
                <a:ahLst/>
                <a:rect l="l" t="t" r="r" b="b"/>
                <a:pathLst>
                  <a:path w="117" h="107">
                    <a:moveTo>
                      <a:pt x="63" y="107"/>
                    </a:moveTo>
                    <a:lnTo>
                      <a:pt x="117" y="0"/>
                    </a:lnTo>
                    <a:lnTo>
                      <a:pt x="0" y="21"/>
                    </a:lnTo>
                    <a:lnTo>
                      <a:pt x="63" y="10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1" name=""/>
            <p:cNvGrpSpPr/>
            <p:nvPr/>
          </p:nvGrpSpPr>
          <p:grpSpPr>
            <a:xfrm>
              <a:off x="5519880" y="1197000"/>
              <a:ext cx="880920" cy="660240"/>
              <a:chOff x="5519880" y="1197000"/>
              <a:chExt cx="880920" cy="660240"/>
            </a:xfrm>
          </p:grpSpPr>
          <p:sp>
            <p:nvSpPr>
              <p:cNvPr id="562" name=""/>
              <p:cNvSpPr/>
              <p:nvPr/>
            </p:nvSpPr>
            <p:spPr>
              <a:xfrm>
                <a:off x="5641920" y="1197000"/>
                <a:ext cx="758880" cy="577800"/>
              </a:xfrm>
              <a:custGeom>
                <a:avLst/>
                <a:gdLst/>
                <a:ahLst/>
                <a:rect l="l" t="t" r="r" b="b"/>
                <a:pathLst>
                  <a:path w="478" h="364">
                    <a:moveTo>
                      <a:pt x="0" y="345"/>
                    </a:moveTo>
                    <a:lnTo>
                      <a:pt x="14" y="364"/>
                    </a:lnTo>
                    <a:lnTo>
                      <a:pt x="478" y="19"/>
                    </a:lnTo>
                    <a:lnTo>
                      <a:pt x="464" y="0"/>
                    </a:lnTo>
                    <a:lnTo>
                      <a:pt x="0" y="3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5519880" y="1687680"/>
                <a:ext cx="185760" cy="169560"/>
              </a:xfrm>
              <a:custGeom>
                <a:avLst/>
                <a:gdLst/>
                <a:ahLst/>
                <a:rect l="l" t="t" r="r" b="b"/>
                <a:pathLst>
                  <a:path w="117" h="107">
                    <a:moveTo>
                      <a:pt x="54" y="0"/>
                    </a:moveTo>
                    <a:lnTo>
                      <a:pt x="0" y="107"/>
                    </a:lnTo>
                    <a:lnTo>
                      <a:pt x="117" y="86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4" name=""/>
            <p:cNvGrpSpPr/>
            <p:nvPr/>
          </p:nvGrpSpPr>
          <p:grpSpPr>
            <a:xfrm>
              <a:off x="1814400" y="1890720"/>
              <a:ext cx="1990800" cy="169920"/>
              <a:chOff x="1814400" y="1890720"/>
              <a:chExt cx="1990800" cy="169920"/>
            </a:xfrm>
          </p:grpSpPr>
          <p:sp>
            <p:nvSpPr>
              <p:cNvPr id="565" name=""/>
              <p:cNvSpPr/>
              <p:nvPr/>
            </p:nvSpPr>
            <p:spPr>
              <a:xfrm>
                <a:off x="1981080" y="1949400"/>
                <a:ext cx="1824120" cy="46080"/>
              </a:xfrm>
              <a:custGeom>
                <a:avLst/>
                <a:gdLst/>
                <a:ahLst/>
                <a:rect l="l" t="t" r="r" b="b"/>
                <a:pathLst>
                  <a:path w="1149" h="29">
                    <a:moveTo>
                      <a:pt x="1149" y="24"/>
                    </a:moveTo>
                    <a:lnTo>
                      <a:pt x="1149" y="0"/>
                    </a:lnTo>
                    <a:lnTo>
                      <a:pt x="0" y="5"/>
                    </a:lnTo>
                    <a:lnTo>
                      <a:pt x="0" y="29"/>
                    </a:lnTo>
                    <a:lnTo>
                      <a:pt x="1149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1814400" y="1890720"/>
                <a:ext cx="169920" cy="169920"/>
              </a:xfrm>
              <a:custGeom>
                <a:avLst/>
                <a:gdLst/>
                <a:ahLst/>
                <a:rect l="l" t="t" r="r" b="b"/>
                <a:pathLst>
                  <a:path w="107" h="107">
                    <a:moveTo>
                      <a:pt x="107" y="0"/>
                    </a:moveTo>
                    <a:lnTo>
                      <a:pt x="0" y="54"/>
                    </a:lnTo>
                    <a:lnTo>
                      <a:pt x="107" y="107"/>
                    </a:lnTo>
                    <a:lnTo>
                      <a:pt x="10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7" name=""/>
            <p:cNvSpPr/>
            <p:nvPr/>
          </p:nvSpPr>
          <p:spPr>
            <a:xfrm>
              <a:off x="2981160" y="3525840"/>
              <a:ext cx="25916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intersticiální tekutin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5929560" y="3529080"/>
              <a:ext cx="1665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transcelulární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7587000" y="3529080"/>
              <a:ext cx="10616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tekutin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31960" y="4991040"/>
              <a:ext cx="34372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intracelulární tekutina - IC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614040" y="5351400"/>
              <a:ext cx="1471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000000"/>
                  </a:solidFill>
                  <a:latin typeface="Times New Roman"/>
                </a:rPr>
                <a:t>(bez erytrocytů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355920" y="6397560"/>
              <a:ext cx="18954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446280" y="6464160"/>
              <a:ext cx="17136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000000"/>
                  </a:solidFill>
                  <a:latin typeface="Times New Roman"/>
                </a:rPr>
                <a:t>Metabolismu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7223760" y="1933560"/>
              <a:ext cx="18342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intravaskulární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7224840" y="2298600"/>
              <a:ext cx="985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tekutin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76" name=""/>
            <p:cNvGrpSpPr/>
            <p:nvPr/>
          </p:nvGrpSpPr>
          <p:grpSpPr>
            <a:xfrm>
              <a:off x="515880" y="114480"/>
              <a:ext cx="8153280" cy="1755720"/>
              <a:chOff x="515880" y="114480"/>
              <a:chExt cx="8153280" cy="1755720"/>
            </a:xfrm>
          </p:grpSpPr>
          <p:sp>
            <p:nvSpPr>
              <p:cNvPr id="577" name=""/>
              <p:cNvSpPr/>
              <p:nvPr/>
            </p:nvSpPr>
            <p:spPr>
              <a:xfrm>
                <a:off x="515880" y="114480"/>
                <a:ext cx="298440" cy="1755720"/>
              </a:xfrm>
              <a:custGeom>
                <a:avLst/>
                <a:gdLst/>
                <a:ahLst/>
                <a:rect l="l" t="t" r="r" b="b"/>
                <a:pathLst>
                  <a:path w="188" h="1106">
                    <a:moveTo>
                      <a:pt x="188" y="12"/>
                    </a:moveTo>
                    <a:lnTo>
                      <a:pt x="188" y="0"/>
                    </a:lnTo>
                    <a:lnTo>
                      <a:pt x="170" y="2"/>
                    </a:lnTo>
                    <a:lnTo>
                      <a:pt x="167" y="2"/>
                    </a:lnTo>
                    <a:lnTo>
                      <a:pt x="150" y="8"/>
                    </a:lnTo>
                    <a:lnTo>
                      <a:pt x="135" y="16"/>
                    </a:lnTo>
                    <a:lnTo>
                      <a:pt x="133" y="17"/>
                    </a:lnTo>
                    <a:lnTo>
                      <a:pt x="119" y="28"/>
                    </a:lnTo>
                    <a:lnTo>
                      <a:pt x="108" y="42"/>
                    </a:lnTo>
                    <a:lnTo>
                      <a:pt x="100" y="57"/>
                    </a:lnTo>
                    <a:lnTo>
                      <a:pt x="98" y="62"/>
                    </a:lnTo>
                    <a:lnTo>
                      <a:pt x="93" y="79"/>
                    </a:lnTo>
                    <a:lnTo>
                      <a:pt x="91" y="97"/>
                    </a:lnTo>
                    <a:lnTo>
                      <a:pt x="91" y="462"/>
                    </a:lnTo>
                    <a:lnTo>
                      <a:pt x="89" y="480"/>
                    </a:lnTo>
                    <a:lnTo>
                      <a:pt x="84" y="497"/>
                    </a:lnTo>
                    <a:lnTo>
                      <a:pt x="90" y="497"/>
                    </a:lnTo>
                    <a:lnTo>
                      <a:pt x="85" y="493"/>
                    </a:lnTo>
                    <a:lnTo>
                      <a:pt x="77" y="508"/>
                    </a:lnTo>
                    <a:lnTo>
                      <a:pt x="66" y="522"/>
                    </a:lnTo>
                    <a:lnTo>
                      <a:pt x="52" y="533"/>
                    </a:lnTo>
                    <a:lnTo>
                      <a:pt x="57" y="537"/>
                    </a:lnTo>
                    <a:lnTo>
                      <a:pt x="54" y="532"/>
                    </a:lnTo>
                    <a:lnTo>
                      <a:pt x="39" y="540"/>
                    </a:lnTo>
                    <a:lnTo>
                      <a:pt x="22" y="546"/>
                    </a:lnTo>
                    <a:lnTo>
                      <a:pt x="24" y="551"/>
                    </a:lnTo>
                    <a:lnTo>
                      <a:pt x="24" y="545"/>
                    </a:lnTo>
                    <a:lnTo>
                      <a:pt x="6" y="547"/>
                    </a:lnTo>
                    <a:lnTo>
                      <a:pt x="6" y="547"/>
                    </a:lnTo>
                    <a:lnTo>
                      <a:pt x="4" y="548"/>
                    </a:lnTo>
                    <a:lnTo>
                      <a:pt x="2" y="549"/>
                    </a:lnTo>
                    <a:lnTo>
                      <a:pt x="0" y="553"/>
                    </a:lnTo>
                    <a:lnTo>
                      <a:pt x="2" y="557"/>
                    </a:lnTo>
                    <a:lnTo>
                      <a:pt x="4" y="558"/>
                    </a:lnTo>
                    <a:lnTo>
                      <a:pt x="6" y="559"/>
                    </a:lnTo>
                    <a:lnTo>
                      <a:pt x="24" y="561"/>
                    </a:lnTo>
                    <a:lnTo>
                      <a:pt x="24" y="555"/>
                    </a:lnTo>
                    <a:lnTo>
                      <a:pt x="22" y="560"/>
                    </a:lnTo>
                    <a:lnTo>
                      <a:pt x="39" y="566"/>
                    </a:lnTo>
                    <a:lnTo>
                      <a:pt x="54" y="574"/>
                    </a:lnTo>
                    <a:lnTo>
                      <a:pt x="57" y="569"/>
                    </a:lnTo>
                    <a:lnTo>
                      <a:pt x="52" y="573"/>
                    </a:lnTo>
                    <a:lnTo>
                      <a:pt x="66" y="584"/>
                    </a:lnTo>
                    <a:lnTo>
                      <a:pt x="77" y="598"/>
                    </a:lnTo>
                    <a:lnTo>
                      <a:pt x="85" y="613"/>
                    </a:lnTo>
                    <a:lnTo>
                      <a:pt x="90" y="609"/>
                    </a:lnTo>
                    <a:lnTo>
                      <a:pt x="84" y="609"/>
                    </a:lnTo>
                    <a:lnTo>
                      <a:pt x="89" y="626"/>
                    </a:lnTo>
                    <a:lnTo>
                      <a:pt x="91" y="644"/>
                    </a:lnTo>
                    <a:lnTo>
                      <a:pt x="91" y="1009"/>
                    </a:lnTo>
                    <a:lnTo>
                      <a:pt x="93" y="1027"/>
                    </a:lnTo>
                    <a:lnTo>
                      <a:pt x="98" y="1044"/>
                    </a:lnTo>
                    <a:lnTo>
                      <a:pt x="100" y="1049"/>
                    </a:lnTo>
                    <a:lnTo>
                      <a:pt x="108" y="1064"/>
                    </a:lnTo>
                    <a:lnTo>
                      <a:pt x="119" y="1078"/>
                    </a:lnTo>
                    <a:lnTo>
                      <a:pt x="133" y="1089"/>
                    </a:lnTo>
                    <a:lnTo>
                      <a:pt x="135" y="1090"/>
                    </a:lnTo>
                    <a:lnTo>
                      <a:pt x="150" y="1098"/>
                    </a:lnTo>
                    <a:lnTo>
                      <a:pt x="167" y="1104"/>
                    </a:lnTo>
                    <a:lnTo>
                      <a:pt x="170" y="1104"/>
                    </a:lnTo>
                    <a:lnTo>
                      <a:pt x="188" y="1106"/>
                    </a:lnTo>
                    <a:lnTo>
                      <a:pt x="188" y="1094"/>
                    </a:lnTo>
                    <a:lnTo>
                      <a:pt x="170" y="1092"/>
                    </a:lnTo>
                    <a:lnTo>
                      <a:pt x="170" y="1098"/>
                    </a:lnTo>
                    <a:lnTo>
                      <a:pt x="172" y="1093"/>
                    </a:lnTo>
                    <a:lnTo>
                      <a:pt x="155" y="1087"/>
                    </a:lnTo>
                    <a:lnTo>
                      <a:pt x="140" y="1079"/>
                    </a:lnTo>
                    <a:lnTo>
                      <a:pt x="137" y="1084"/>
                    </a:lnTo>
                    <a:lnTo>
                      <a:pt x="142" y="1080"/>
                    </a:lnTo>
                    <a:lnTo>
                      <a:pt x="128" y="1069"/>
                    </a:lnTo>
                    <a:lnTo>
                      <a:pt x="117" y="1055"/>
                    </a:lnTo>
                    <a:lnTo>
                      <a:pt x="109" y="1040"/>
                    </a:lnTo>
                    <a:lnTo>
                      <a:pt x="104" y="1044"/>
                    </a:lnTo>
                    <a:lnTo>
                      <a:pt x="110" y="1044"/>
                    </a:lnTo>
                    <a:lnTo>
                      <a:pt x="105" y="1027"/>
                    </a:lnTo>
                    <a:lnTo>
                      <a:pt x="103" y="1009"/>
                    </a:lnTo>
                    <a:lnTo>
                      <a:pt x="103" y="644"/>
                    </a:lnTo>
                    <a:lnTo>
                      <a:pt x="101" y="626"/>
                    </a:lnTo>
                    <a:lnTo>
                      <a:pt x="96" y="609"/>
                    </a:lnTo>
                    <a:lnTo>
                      <a:pt x="94" y="604"/>
                    </a:lnTo>
                    <a:lnTo>
                      <a:pt x="86" y="589"/>
                    </a:lnTo>
                    <a:lnTo>
                      <a:pt x="75" y="575"/>
                    </a:lnTo>
                    <a:lnTo>
                      <a:pt x="61" y="564"/>
                    </a:lnTo>
                    <a:lnTo>
                      <a:pt x="59" y="563"/>
                    </a:lnTo>
                    <a:lnTo>
                      <a:pt x="44" y="555"/>
                    </a:lnTo>
                    <a:lnTo>
                      <a:pt x="27" y="549"/>
                    </a:lnTo>
                    <a:lnTo>
                      <a:pt x="24" y="549"/>
                    </a:lnTo>
                    <a:lnTo>
                      <a:pt x="6" y="547"/>
                    </a:lnTo>
                    <a:lnTo>
                      <a:pt x="6" y="559"/>
                    </a:lnTo>
                    <a:lnTo>
                      <a:pt x="8" y="558"/>
                    </a:lnTo>
                    <a:lnTo>
                      <a:pt x="10" y="557"/>
                    </a:lnTo>
                    <a:lnTo>
                      <a:pt x="12" y="553"/>
                    </a:lnTo>
                    <a:lnTo>
                      <a:pt x="10" y="549"/>
                    </a:lnTo>
                    <a:lnTo>
                      <a:pt x="8" y="548"/>
                    </a:lnTo>
                    <a:lnTo>
                      <a:pt x="6" y="553"/>
                    </a:lnTo>
                    <a:lnTo>
                      <a:pt x="6" y="559"/>
                    </a:lnTo>
                    <a:lnTo>
                      <a:pt x="24" y="557"/>
                    </a:lnTo>
                    <a:lnTo>
                      <a:pt x="27" y="557"/>
                    </a:lnTo>
                    <a:lnTo>
                      <a:pt x="44" y="551"/>
                    </a:lnTo>
                    <a:lnTo>
                      <a:pt x="59" y="543"/>
                    </a:lnTo>
                    <a:lnTo>
                      <a:pt x="61" y="542"/>
                    </a:lnTo>
                    <a:lnTo>
                      <a:pt x="75" y="531"/>
                    </a:lnTo>
                    <a:lnTo>
                      <a:pt x="86" y="517"/>
                    </a:lnTo>
                    <a:lnTo>
                      <a:pt x="94" y="502"/>
                    </a:lnTo>
                    <a:lnTo>
                      <a:pt x="96" y="497"/>
                    </a:lnTo>
                    <a:lnTo>
                      <a:pt x="96" y="497"/>
                    </a:lnTo>
                    <a:lnTo>
                      <a:pt x="101" y="480"/>
                    </a:lnTo>
                    <a:lnTo>
                      <a:pt x="103" y="462"/>
                    </a:lnTo>
                    <a:lnTo>
                      <a:pt x="103" y="97"/>
                    </a:lnTo>
                    <a:lnTo>
                      <a:pt x="105" y="79"/>
                    </a:lnTo>
                    <a:lnTo>
                      <a:pt x="110" y="62"/>
                    </a:lnTo>
                    <a:lnTo>
                      <a:pt x="104" y="62"/>
                    </a:lnTo>
                    <a:lnTo>
                      <a:pt x="109" y="66"/>
                    </a:lnTo>
                    <a:lnTo>
                      <a:pt x="117" y="51"/>
                    </a:lnTo>
                    <a:lnTo>
                      <a:pt x="128" y="37"/>
                    </a:lnTo>
                    <a:lnTo>
                      <a:pt x="142" y="26"/>
                    </a:lnTo>
                    <a:lnTo>
                      <a:pt x="137" y="22"/>
                    </a:lnTo>
                    <a:lnTo>
                      <a:pt x="140" y="27"/>
                    </a:lnTo>
                    <a:lnTo>
                      <a:pt x="155" y="19"/>
                    </a:lnTo>
                    <a:lnTo>
                      <a:pt x="172" y="13"/>
                    </a:lnTo>
                    <a:lnTo>
                      <a:pt x="170" y="8"/>
                    </a:lnTo>
                    <a:lnTo>
                      <a:pt x="170" y="14"/>
                    </a:lnTo>
                    <a:lnTo>
                      <a:pt x="188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8370720" y="114480"/>
                <a:ext cx="298440" cy="1755720"/>
              </a:xfrm>
              <a:custGeom>
                <a:avLst/>
                <a:gdLst/>
                <a:ahLst/>
                <a:rect l="l" t="t" r="r" b="b"/>
                <a:pathLst>
                  <a:path w="188" h="1106">
                    <a:moveTo>
                      <a:pt x="0" y="0"/>
                    </a:moveTo>
                    <a:lnTo>
                      <a:pt x="0" y="12"/>
                    </a:lnTo>
                    <a:lnTo>
                      <a:pt x="18" y="14"/>
                    </a:lnTo>
                    <a:lnTo>
                      <a:pt x="18" y="8"/>
                    </a:lnTo>
                    <a:lnTo>
                      <a:pt x="16" y="13"/>
                    </a:lnTo>
                    <a:lnTo>
                      <a:pt x="33" y="19"/>
                    </a:lnTo>
                    <a:lnTo>
                      <a:pt x="48" y="27"/>
                    </a:lnTo>
                    <a:lnTo>
                      <a:pt x="51" y="22"/>
                    </a:lnTo>
                    <a:lnTo>
                      <a:pt x="46" y="26"/>
                    </a:lnTo>
                    <a:lnTo>
                      <a:pt x="60" y="37"/>
                    </a:lnTo>
                    <a:lnTo>
                      <a:pt x="71" y="51"/>
                    </a:lnTo>
                    <a:lnTo>
                      <a:pt x="79" y="66"/>
                    </a:lnTo>
                    <a:lnTo>
                      <a:pt x="84" y="62"/>
                    </a:lnTo>
                    <a:lnTo>
                      <a:pt x="78" y="62"/>
                    </a:lnTo>
                    <a:lnTo>
                      <a:pt x="83" y="79"/>
                    </a:lnTo>
                    <a:lnTo>
                      <a:pt x="85" y="97"/>
                    </a:lnTo>
                    <a:lnTo>
                      <a:pt x="85" y="462"/>
                    </a:lnTo>
                    <a:lnTo>
                      <a:pt x="87" y="480"/>
                    </a:lnTo>
                    <a:lnTo>
                      <a:pt x="92" y="497"/>
                    </a:lnTo>
                    <a:lnTo>
                      <a:pt x="94" y="502"/>
                    </a:lnTo>
                    <a:lnTo>
                      <a:pt x="102" y="517"/>
                    </a:lnTo>
                    <a:lnTo>
                      <a:pt x="113" y="531"/>
                    </a:lnTo>
                    <a:lnTo>
                      <a:pt x="127" y="542"/>
                    </a:lnTo>
                    <a:lnTo>
                      <a:pt x="129" y="543"/>
                    </a:lnTo>
                    <a:lnTo>
                      <a:pt x="144" y="551"/>
                    </a:lnTo>
                    <a:lnTo>
                      <a:pt x="161" y="557"/>
                    </a:lnTo>
                    <a:lnTo>
                      <a:pt x="164" y="557"/>
                    </a:lnTo>
                    <a:lnTo>
                      <a:pt x="182" y="559"/>
                    </a:lnTo>
                    <a:lnTo>
                      <a:pt x="182" y="553"/>
                    </a:lnTo>
                    <a:lnTo>
                      <a:pt x="182" y="547"/>
                    </a:lnTo>
                    <a:lnTo>
                      <a:pt x="180" y="548"/>
                    </a:lnTo>
                    <a:lnTo>
                      <a:pt x="178" y="549"/>
                    </a:lnTo>
                    <a:lnTo>
                      <a:pt x="176" y="553"/>
                    </a:lnTo>
                    <a:lnTo>
                      <a:pt x="178" y="557"/>
                    </a:lnTo>
                    <a:lnTo>
                      <a:pt x="180" y="558"/>
                    </a:lnTo>
                    <a:lnTo>
                      <a:pt x="182" y="547"/>
                    </a:lnTo>
                    <a:lnTo>
                      <a:pt x="164" y="549"/>
                    </a:lnTo>
                    <a:lnTo>
                      <a:pt x="161" y="549"/>
                    </a:lnTo>
                    <a:lnTo>
                      <a:pt x="144" y="555"/>
                    </a:lnTo>
                    <a:lnTo>
                      <a:pt x="129" y="563"/>
                    </a:lnTo>
                    <a:lnTo>
                      <a:pt x="127" y="564"/>
                    </a:lnTo>
                    <a:lnTo>
                      <a:pt x="113" y="575"/>
                    </a:lnTo>
                    <a:lnTo>
                      <a:pt x="102" y="589"/>
                    </a:lnTo>
                    <a:lnTo>
                      <a:pt x="94" y="604"/>
                    </a:lnTo>
                    <a:lnTo>
                      <a:pt x="92" y="609"/>
                    </a:lnTo>
                    <a:lnTo>
                      <a:pt x="87" y="626"/>
                    </a:lnTo>
                    <a:lnTo>
                      <a:pt x="85" y="644"/>
                    </a:lnTo>
                    <a:lnTo>
                      <a:pt x="85" y="1009"/>
                    </a:lnTo>
                    <a:lnTo>
                      <a:pt x="83" y="1027"/>
                    </a:lnTo>
                    <a:lnTo>
                      <a:pt x="78" y="1044"/>
                    </a:lnTo>
                    <a:lnTo>
                      <a:pt x="84" y="1044"/>
                    </a:lnTo>
                    <a:lnTo>
                      <a:pt x="79" y="1040"/>
                    </a:lnTo>
                    <a:lnTo>
                      <a:pt x="71" y="1055"/>
                    </a:lnTo>
                    <a:lnTo>
                      <a:pt x="60" y="1069"/>
                    </a:lnTo>
                    <a:lnTo>
                      <a:pt x="46" y="1080"/>
                    </a:lnTo>
                    <a:lnTo>
                      <a:pt x="51" y="1084"/>
                    </a:lnTo>
                    <a:lnTo>
                      <a:pt x="48" y="1079"/>
                    </a:lnTo>
                    <a:lnTo>
                      <a:pt x="33" y="1087"/>
                    </a:lnTo>
                    <a:lnTo>
                      <a:pt x="16" y="1093"/>
                    </a:lnTo>
                    <a:lnTo>
                      <a:pt x="18" y="1098"/>
                    </a:lnTo>
                    <a:lnTo>
                      <a:pt x="18" y="1092"/>
                    </a:lnTo>
                    <a:lnTo>
                      <a:pt x="0" y="1094"/>
                    </a:lnTo>
                    <a:lnTo>
                      <a:pt x="0" y="1106"/>
                    </a:lnTo>
                    <a:lnTo>
                      <a:pt x="18" y="1104"/>
                    </a:lnTo>
                    <a:lnTo>
                      <a:pt x="21" y="1104"/>
                    </a:lnTo>
                    <a:lnTo>
                      <a:pt x="38" y="1098"/>
                    </a:lnTo>
                    <a:lnTo>
                      <a:pt x="53" y="1090"/>
                    </a:lnTo>
                    <a:lnTo>
                      <a:pt x="55" y="1089"/>
                    </a:lnTo>
                    <a:lnTo>
                      <a:pt x="69" y="1078"/>
                    </a:lnTo>
                    <a:lnTo>
                      <a:pt x="80" y="1064"/>
                    </a:lnTo>
                    <a:lnTo>
                      <a:pt x="88" y="1049"/>
                    </a:lnTo>
                    <a:lnTo>
                      <a:pt x="90" y="1044"/>
                    </a:lnTo>
                    <a:lnTo>
                      <a:pt x="90" y="1044"/>
                    </a:lnTo>
                    <a:lnTo>
                      <a:pt x="95" y="1027"/>
                    </a:lnTo>
                    <a:lnTo>
                      <a:pt x="97" y="1009"/>
                    </a:lnTo>
                    <a:lnTo>
                      <a:pt x="97" y="644"/>
                    </a:lnTo>
                    <a:lnTo>
                      <a:pt x="99" y="626"/>
                    </a:lnTo>
                    <a:lnTo>
                      <a:pt x="104" y="609"/>
                    </a:lnTo>
                    <a:lnTo>
                      <a:pt x="98" y="609"/>
                    </a:lnTo>
                    <a:lnTo>
                      <a:pt x="103" y="613"/>
                    </a:lnTo>
                    <a:lnTo>
                      <a:pt x="111" y="598"/>
                    </a:lnTo>
                    <a:lnTo>
                      <a:pt x="122" y="584"/>
                    </a:lnTo>
                    <a:lnTo>
                      <a:pt x="136" y="573"/>
                    </a:lnTo>
                    <a:lnTo>
                      <a:pt x="131" y="569"/>
                    </a:lnTo>
                    <a:lnTo>
                      <a:pt x="134" y="574"/>
                    </a:lnTo>
                    <a:lnTo>
                      <a:pt x="149" y="566"/>
                    </a:lnTo>
                    <a:lnTo>
                      <a:pt x="166" y="560"/>
                    </a:lnTo>
                    <a:lnTo>
                      <a:pt x="164" y="555"/>
                    </a:lnTo>
                    <a:lnTo>
                      <a:pt x="164" y="561"/>
                    </a:lnTo>
                    <a:lnTo>
                      <a:pt x="182" y="559"/>
                    </a:lnTo>
                    <a:lnTo>
                      <a:pt x="182" y="559"/>
                    </a:lnTo>
                    <a:lnTo>
                      <a:pt x="184" y="558"/>
                    </a:lnTo>
                    <a:lnTo>
                      <a:pt x="186" y="557"/>
                    </a:lnTo>
                    <a:lnTo>
                      <a:pt x="188" y="553"/>
                    </a:lnTo>
                    <a:lnTo>
                      <a:pt x="186" y="549"/>
                    </a:lnTo>
                    <a:lnTo>
                      <a:pt x="184" y="548"/>
                    </a:lnTo>
                    <a:lnTo>
                      <a:pt x="182" y="547"/>
                    </a:lnTo>
                    <a:lnTo>
                      <a:pt x="164" y="545"/>
                    </a:lnTo>
                    <a:lnTo>
                      <a:pt x="164" y="551"/>
                    </a:lnTo>
                    <a:lnTo>
                      <a:pt x="166" y="546"/>
                    </a:lnTo>
                    <a:lnTo>
                      <a:pt x="149" y="540"/>
                    </a:lnTo>
                    <a:lnTo>
                      <a:pt x="134" y="532"/>
                    </a:lnTo>
                    <a:lnTo>
                      <a:pt x="131" y="537"/>
                    </a:lnTo>
                    <a:lnTo>
                      <a:pt x="136" y="533"/>
                    </a:lnTo>
                    <a:lnTo>
                      <a:pt x="122" y="522"/>
                    </a:lnTo>
                    <a:lnTo>
                      <a:pt x="111" y="508"/>
                    </a:lnTo>
                    <a:lnTo>
                      <a:pt x="103" y="493"/>
                    </a:lnTo>
                    <a:lnTo>
                      <a:pt x="98" y="497"/>
                    </a:lnTo>
                    <a:lnTo>
                      <a:pt x="104" y="497"/>
                    </a:lnTo>
                    <a:lnTo>
                      <a:pt x="99" y="480"/>
                    </a:lnTo>
                    <a:lnTo>
                      <a:pt x="97" y="462"/>
                    </a:lnTo>
                    <a:lnTo>
                      <a:pt x="97" y="97"/>
                    </a:lnTo>
                    <a:lnTo>
                      <a:pt x="95" y="79"/>
                    </a:lnTo>
                    <a:lnTo>
                      <a:pt x="90" y="62"/>
                    </a:lnTo>
                    <a:lnTo>
                      <a:pt x="88" y="57"/>
                    </a:lnTo>
                    <a:lnTo>
                      <a:pt x="80" y="42"/>
                    </a:lnTo>
                    <a:lnTo>
                      <a:pt x="69" y="28"/>
                    </a:lnTo>
                    <a:lnTo>
                      <a:pt x="55" y="17"/>
                    </a:lnTo>
                    <a:lnTo>
                      <a:pt x="53" y="16"/>
                    </a:lnTo>
                    <a:lnTo>
                      <a:pt x="38" y="8"/>
                    </a:lnTo>
                    <a:lnTo>
                      <a:pt x="21" y="2"/>
                    </a:lnTo>
                    <a:lnTo>
                      <a:pt x="18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9" name=""/>
            <p:cNvSpPr/>
            <p:nvPr/>
          </p:nvSpPr>
          <p:spPr>
            <a:xfrm rot="16200000">
              <a:off x="-493200" y="828720"/>
              <a:ext cx="1492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„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výměníky“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 rot="16200000">
              <a:off x="8075880" y="760680"/>
              <a:ext cx="1492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„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výměníky“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1452600" y="2533680"/>
              <a:ext cx="1386000" cy="45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1542600" y="2600280"/>
              <a:ext cx="12045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000000"/>
                  </a:solidFill>
                  <a:latin typeface="Times New Roman"/>
                </a:rPr>
                <a:t>Cirkula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3" name=""/>
            <p:cNvGrpSpPr/>
            <p:nvPr/>
          </p:nvGrpSpPr>
          <p:grpSpPr>
            <a:xfrm>
              <a:off x="1341360" y="2386080"/>
              <a:ext cx="8107200" cy="933480"/>
              <a:chOff x="1341360" y="2386080"/>
              <a:chExt cx="8107200" cy="933480"/>
            </a:xfrm>
          </p:grpSpPr>
          <p:sp>
            <p:nvSpPr>
              <p:cNvPr id="584" name=""/>
              <p:cNvSpPr/>
              <p:nvPr/>
            </p:nvSpPr>
            <p:spPr>
              <a:xfrm>
                <a:off x="1341360" y="2386080"/>
                <a:ext cx="173160" cy="933480"/>
              </a:xfrm>
              <a:custGeom>
                <a:avLst/>
                <a:gdLst/>
                <a:ahLst/>
                <a:rect l="l" t="t" r="r" b="b"/>
                <a:pathLst>
                  <a:path w="102" h="588">
                    <a:moveTo>
                      <a:pt x="102" y="12"/>
                    </a:moveTo>
                    <a:lnTo>
                      <a:pt x="102" y="0"/>
                    </a:lnTo>
                    <a:lnTo>
                      <a:pt x="92" y="1"/>
                    </a:lnTo>
                    <a:lnTo>
                      <a:pt x="90" y="1"/>
                    </a:lnTo>
                    <a:lnTo>
                      <a:pt x="81" y="4"/>
                    </a:lnTo>
                    <a:lnTo>
                      <a:pt x="72" y="9"/>
                    </a:lnTo>
                    <a:lnTo>
                      <a:pt x="70" y="10"/>
                    </a:lnTo>
                    <a:lnTo>
                      <a:pt x="63" y="15"/>
                    </a:lnTo>
                    <a:lnTo>
                      <a:pt x="58" y="22"/>
                    </a:lnTo>
                    <a:lnTo>
                      <a:pt x="53" y="31"/>
                    </a:lnTo>
                    <a:lnTo>
                      <a:pt x="52" y="35"/>
                    </a:lnTo>
                    <a:lnTo>
                      <a:pt x="49" y="44"/>
                    </a:lnTo>
                    <a:lnTo>
                      <a:pt x="48" y="54"/>
                    </a:lnTo>
                    <a:lnTo>
                      <a:pt x="48" y="246"/>
                    </a:lnTo>
                    <a:lnTo>
                      <a:pt x="47" y="256"/>
                    </a:lnTo>
                    <a:lnTo>
                      <a:pt x="44" y="265"/>
                    </a:lnTo>
                    <a:lnTo>
                      <a:pt x="50" y="265"/>
                    </a:lnTo>
                    <a:lnTo>
                      <a:pt x="46" y="260"/>
                    </a:lnTo>
                    <a:lnTo>
                      <a:pt x="41" y="269"/>
                    </a:lnTo>
                    <a:lnTo>
                      <a:pt x="36" y="276"/>
                    </a:lnTo>
                    <a:lnTo>
                      <a:pt x="29" y="281"/>
                    </a:lnTo>
                    <a:lnTo>
                      <a:pt x="33" y="286"/>
                    </a:lnTo>
                    <a:lnTo>
                      <a:pt x="31" y="280"/>
                    </a:lnTo>
                    <a:lnTo>
                      <a:pt x="22" y="285"/>
                    </a:lnTo>
                    <a:lnTo>
                      <a:pt x="13" y="288"/>
                    </a:lnTo>
                    <a:lnTo>
                      <a:pt x="16" y="293"/>
                    </a:lnTo>
                    <a:lnTo>
                      <a:pt x="16" y="287"/>
                    </a:lnTo>
                    <a:lnTo>
                      <a:pt x="6" y="288"/>
                    </a:lnTo>
                    <a:lnTo>
                      <a:pt x="6" y="288"/>
                    </a:lnTo>
                    <a:lnTo>
                      <a:pt x="4" y="289"/>
                    </a:lnTo>
                    <a:lnTo>
                      <a:pt x="2" y="290"/>
                    </a:lnTo>
                    <a:lnTo>
                      <a:pt x="0" y="294"/>
                    </a:lnTo>
                    <a:lnTo>
                      <a:pt x="2" y="298"/>
                    </a:lnTo>
                    <a:lnTo>
                      <a:pt x="4" y="299"/>
                    </a:lnTo>
                    <a:lnTo>
                      <a:pt x="6" y="300"/>
                    </a:lnTo>
                    <a:lnTo>
                      <a:pt x="16" y="301"/>
                    </a:lnTo>
                    <a:lnTo>
                      <a:pt x="16" y="295"/>
                    </a:lnTo>
                    <a:lnTo>
                      <a:pt x="13" y="300"/>
                    </a:lnTo>
                    <a:lnTo>
                      <a:pt x="22" y="303"/>
                    </a:lnTo>
                    <a:lnTo>
                      <a:pt x="31" y="308"/>
                    </a:lnTo>
                    <a:lnTo>
                      <a:pt x="33" y="302"/>
                    </a:lnTo>
                    <a:lnTo>
                      <a:pt x="29" y="307"/>
                    </a:lnTo>
                    <a:lnTo>
                      <a:pt x="36" y="312"/>
                    </a:lnTo>
                    <a:lnTo>
                      <a:pt x="41" y="319"/>
                    </a:lnTo>
                    <a:lnTo>
                      <a:pt x="46" y="328"/>
                    </a:lnTo>
                    <a:lnTo>
                      <a:pt x="50" y="323"/>
                    </a:lnTo>
                    <a:lnTo>
                      <a:pt x="44" y="323"/>
                    </a:lnTo>
                    <a:lnTo>
                      <a:pt x="47" y="332"/>
                    </a:lnTo>
                    <a:lnTo>
                      <a:pt x="48" y="342"/>
                    </a:lnTo>
                    <a:lnTo>
                      <a:pt x="48" y="534"/>
                    </a:lnTo>
                    <a:lnTo>
                      <a:pt x="49" y="544"/>
                    </a:lnTo>
                    <a:lnTo>
                      <a:pt x="52" y="553"/>
                    </a:lnTo>
                    <a:lnTo>
                      <a:pt x="53" y="557"/>
                    </a:lnTo>
                    <a:lnTo>
                      <a:pt x="58" y="566"/>
                    </a:lnTo>
                    <a:lnTo>
                      <a:pt x="63" y="573"/>
                    </a:lnTo>
                    <a:lnTo>
                      <a:pt x="70" y="578"/>
                    </a:lnTo>
                    <a:lnTo>
                      <a:pt x="72" y="579"/>
                    </a:lnTo>
                    <a:lnTo>
                      <a:pt x="81" y="584"/>
                    </a:lnTo>
                    <a:lnTo>
                      <a:pt x="90" y="587"/>
                    </a:lnTo>
                    <a:lnTo>
                      <a:pt x="92" y="587"/>
                    </a:lnTo>
                    <a:lnTo>
                      <a:pt x="102" y="588"/>
                    </a:lnTo>
                    <a:lnTo>
                      <a:pt x="102" y="576"/>
                    </a:lnTo>
                    <a:lnTo>
                      <a:pt x="92" y="575"/>
                    </a:lnTo>
                    <a:lnTo>
                      <a:pt x="92" y="581"/>
                    </a:lnTo>
                    <a:lnTo>
                      <a:pt x="95" y="576"/>
                    </a:lnTo>
                    <a:lnTo>
                      <a:pt x="86" y="573"/>
                    </a:lnTo>
                    <a:lnTo>
                      <a:pt x="77" y="568"/>
                    </a:lnTo>
                    <a:lnTo>
                      <a:pt x="75" y="574"/>
                    </a:lnTo>
                    <a:lnTo>
                      <a:pt x="79" y="569"/>
                    </a:lnTo>
                    <a:lnTo>
                      <a:pt x="72" y="564"/>
                    </a:lnTo>
                    <a:lnTo>
                      <a:pt x="67" y="557"/>
                    </a:lnTo>
                    <a:lnTo>
                      <a:pt x="62" y="548"/>
                    </a:lnTo>
                    <a:lnTo>
                      <a:pt x="58" y="553"/>
                    </a:lnTo>
                    <a:lnTo>
                      <a:pt x="64" y="553"/>
                    </a:lnTo>
                    <a:lnTo>
                      <a:pt x="61" y="544"/>
                    </a:lnTo>
                    <a:lnTo>
                      <a:pt x="60" y="534"/>
                    </a:lnTo>
                    <a:lnTo>
                      <a:pt x="60" y="342"/>
                    </a:lnTo>
                    <a:lnTo>
                      <a:pt x="59" y="332"/>
                    </a:lnTo>
                    <a:lnTo>
                      <a:pt x="56" y="323"/>
                    </a:lnTo>
                    <a:lnTo>
                      <a:pt x="55" y="319"/>
                    </a:lnTo>
                    <a:lnTo>
                      <a:pt x="50" y="310"/>
                    </a:lnTo>
                    <a:lnTo>
                      <a:pt x="45" y="303"/>
                    </a:lnTo>
                    <a:lnTo>
                      <a:pt x="38" y="298"/>
                    </a:lnTo>
                    <a:lnTo>
                      <a:pt x="36" y="297"/>
                    </a:lnTo>
                    <a:lnTo>
                      <a:pt x="27" y="292"/>
                    </a:lnTo>
                    <a:lnTo>
                      <a:pt x="18" y="289"/>
                    </a:lnTo>
                    <a:lnTo>
                      <a:pt x="16" y="289"/>
                    </a:lnTo>
                    <a:lnTo>
                      <a:pt x="6" y="288"/>
                    </a:lnTo>
                    <a:lnTo>
                      <a:pt x="6" y="300"/>
                    </a:lnTo>
                    <a:lnTo>
                      <a:pt x="8" y="299"/>
                    </a:lnTo>
                    <a:lnTo>
                      <a:pt x="10" y="298"/>
                    </a:lnTo>
                    <a:lnTo>
                      <a:pt x="12" y="294"/>
                    </a:lnTo>
                    <a:lnTo>
                      <a:pt x="10" y="290"/>
                    </a:lnTo>
                    <a:lnTo>
                      <a:pt x="8" y="289"/>
                    </a:lnTo>
                    <a:lnTo>
                      <a:pt x="6" y="294"/>
                    </a:lnTo>
                    <a:lnTo>
                      <a:pt x="6" y="300"/>
                    </a:lnTo>
                    <a:lnTo>
                      <a:pt x="16" y="299"/>
                    </a:lnTo>
                    <a:lnTo>
                      <a:pt x="18" y="299"/>
                    </a:lnTo>
                    <a:lnTo>
                      <a:pt x="27" y="296"/>
                    </a:lnTo>
                    <a:lnTo>
                      <a:pt x="36" y="291"/>
                    </a:lnTo>
                    <a:lnTo>
                      <a:pt x="38" y="290"/>
                    </a:lnTo>
                    <a:lnTo>
                      <a:pt x="45" y="285"/>
                    </a:lnTo>
                    <a:lnTo>
                      <a:pt x="50" y="278"/>
                    </a:lnTo>
                    <a:lnTo>
                      <a:pt x="55" y="269"/>
                    </a:lnTo>
                    <a:lnTo>
                      <a:pt x="56" y="265"/>
                    </a:lnTo>
                    <a:lnTo>
                      <a:pt x="56" y="265"/>
                    </a:lnTo>
                    <a:lnTo>
                      <a:pt x="59" y="256"/>
                    </a:lnTo>
                    <a:lnTo>
                      <a:pt x="60" y="246"/>
                    </a:lnTo>
                    <a:lnTo>
                      <a:pt x="60" y="54"/>
                    </a:lnTo>
                    <a:lnTo>
                      <a:pt x="61" y="44"/>
                    </a:lnTo>
                    <a:lnTo>
                      <a:pt x="64" y="35"/>
                    </a:lnTo>
                    <a:lnTo>
                      <a:pt x="58" y="35"/>
                    </a:lnTo>
                    <a:lnTo>
                      <a:pt x="62" y="40"/>
                    </a:lnTo>
                    <a:lnTo>
                      <a:pt x="67" y="31"/>
                    </a:lnTo>
                    <a:lnTo>
                      <a:pt x="72" y="24"/>
                    </a:lnTo>
                    <a:lnTo>
                      <a:pt x="79" y="19"/>
                    </a:lnTo>
                    <a:lnTo>
                      <a:pt x="75" y="14"/>
                    </a:lnTo>
                    <a:lnTo>
                      <a:pt x="77" y="20"/>
                    </a:lnTo>
                    <a:lnTo>
                      <a:pt x="86" y="15"/>
                    </a:lnTo>
                    <a:lnTo>
                      <a:pt x="95" y="12"/>
                    </a:lnTo>
                    <a:lnTo>
                      <a:pt x="92" y="7"/>
                    </a:lnTo>
                    <a:lnTo>
                      <a:pt x="92" y="13"/>
                    </a:lnTo>
                    <a:lnTo>
                      <a:pt x="102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9275400" y="2386080"/>
                <a:ext cx="173160" cy="933480"/>
              </a:xfrm>
              <a:custGeom>
                <a:avLst/>
                <a:gdLst/>
                <a:ahLst/>
                <a:rect l="l" t="t" r="r" b="b"/>
                <a:pathLst>
                  <a:path w="102" h="588">
                    <a:moveTo>
                      <a:pt x="0" y="0"/>
                    </a:moveTo>
                    <a:lnTo>
                      <a:pt x="0" y="12"/>
                    </a:lnTo>
                    <a:lnTo>
                      <a:pt x="10" y="13"/>
                    </a:lnTo>
                    <a:lnTo>
                      <a:pt x="10" y="7"/>
                    </a:lnTo>
                    <a:lnTo>
                      <a:pt x="7" y="12"/>
                    </a:lnTo>
                    <a:lnTo>
                      <a:pt x="16" y="15"/>
                    </a:lnTo>
                    <a:lnTo>
                      <a:pt x="25" y="20"/>
                    </a:lnTo>
                    <a:lnTo>
                      <a:pt x="27" y="14"/>
                    </a:lnTo>
                    <a:lnTo>
                      <a:pt x="23" y="19"/>
                    </a:lnTo>
                    <a:lnTo>
                      <a:pt x="30" y="24"/>
                    </a:lnTo>
                    <a:lnTo>
                      <a:pt x="35" y="31"/>
                    </a:lnTo>
                    <a:lnTo>
                      <a:pt x="40" y="40"/>
                    </a:lnTo>
                    <a:lnTo>
                      <a:pt x="44" y="35"/>
                    </a:lnTo>
                    <a:lnTo>
                      <a:pt x="38" y="35"/>
                    </a:lnTo>
                    <a:lnTo>
                      <a:pt x="41" y="44"/>
                    </a:lnTo>
                    <a:lnTo>
                      <a:pt x="42" y="54"/>
                    </a:lnTo>
                    <a:lnTo>
                      <a:pt x="42" y="246"/>
                    </a:lnTo>
                    <a:lnTo>
                      <a:pt x="43" y="256"/>
                    </a:lnTo>
                    <a:lnTo>
                      <a:pt x="46" y="265"/>
                    </a:lnTo>
                    <a:lnTo>
                      <a:pt x="47" y="269"/>
                    </a:lnTo>
                    <a:lnTo>
                      <a:pt x="52" y="278"/>
                    </a:lnTo>
                    <a:lnTo>
                      <a:pt x="57" y="285"/>
                    </a:lnTo>
                    <a:lnTo>
                      <a:pt x="64" y="290"/>
                    </a:lnTo>
                    <a:lnTo>
                      <a:pt x="66" y="291"/>
                    </a:lnTo>
                    <a:lnTo>
                      <a:pt x="75" y="296"/>
                    </a:lnTo>
                    <a:lnTo>
                      <a:pt x="84" y="299"/>
                    </a:lnTo>
                    <a:lnTo>
                      <a:pt x="86" y="299"/>
                    </a:lnTo>
                    <a:lnTo>
                      <a:pt x="96" y="300"/>
                    </a:lnTo>
                    <a:lnTo>
                      <a:pt x="96" y="294"/>
                    </a:lnTo>
                    <a:lnTo>
                      <a:pt x="96" y="288"/>
                    </a:lnTo>
                    <a:lnTo>
                      <a:pt x="94" y="289"/>
                    </a:lnTo>
                    <a:lnTo>
                      <a:pt x="92" y="290"/>
                    </a:lnTo>
                    <a:lnTo>
                      <a:pt x="90" y="294"/>
                    </a:lnTo>
                    <a:lnTo>
                      <a:pt x="92" y="298"/>
                    </a:lnTo>
                    <a:lnTo>
                      <a:pt x="94" y="299"/>
                    </a:lnTo>
                    <a:lnTo>
                      <a:pt x="96" y="288"/>
                    </a:lnTo>
                    <a:lnTo>
                      <a:pt x="86" y="289"/>
                    </a:lnTo>
                    <a:lnTo>
                      <a:pt x="84" y="289"/>
                    </a:lnTo>
                    <a:lnTo>
                      <a:pt x="75" y="292"/>
                    </a:lnTo>
                    <a:lnTo>
                      <a:pt x="66" y="297"/>
                    </a:lnTo>
                    <a:lnTo>
                      <a:pt x="64" y="298"/>
                    </a:lnTo>
                    <a:lnTo>
                      <a:pt x="57" y="303"/>
                    </a:lnTo>
                    <a:lnTo>
                      <a:pt x="52" y="310"/>
                    </a:lnTo>
                    <a:lnTo>
                      <a:pt x="47" y="319"/>
                    </a:lnTo>
                    <a:lnTo>
                      <a:pt x="46" y="323"/>
                    </a:lnTo>
                    <a:lnTo>
                      <a:pt x="43" y="332"/>
                    </a:lnTo>
                    <a:lnTo>
                      <a:pt x="42" y="342"/>
                    </a:lnTo>
                    <a:lnTo>
                      <a:pt x="42" y="534"/>
                    </a:lnTo>
                    <a:lnTo>
                      <a:pt x="41" y="544"/>
                    </a:lnTo>
                    <a:lnTo>
                      <a:pt x="38" y="553"/>
                    </a:lnTo>
                    <a:lnTo>
                      <a:pt x="44" y="553"/>
                    </a:lnTo>
                    <a:lnTo>
                      <a:pt x="40" y="548"/>
                    </a:lnTo>
                    <a:lnTo>
                      <a:pt x="35" y="557"/>
                    </a:lnTo>
                    <a:lnTo>
                      <a:pt x="30" y="564"/>
                    </a:lnTo>
                    <a:lnTo>
                      <a:pt x="23" y="569"/>
                    </a:lnTo>
                    <a:lnTo>
                      <a:pt x="27" y="574"/>
                    </a:lnTo>
                    <a:lnTo>
                      <a:pt x="25" y="568"/>
                    </a:lnTo>
                    <a:lnTo>
                      <a:pt x="16" y="573"/>
                    </a:lnTo>
                    <a:lnTo>
                      <a:pt x="7" y="576"/>
                    </a:lnTo>
                    <a:lnTo>
                      <a:pt x="10" y="581"/>
                    </a:lnTo>
                    <a:lnTo>
                      <a:pt x="10" y="575"/>
                    </a:lnTo>
                    <a:lnTo>
                      <a:pt x="0" y="576"/>
                    </a:lnTo>
                    <a:lnTo>
                      <a:pt x="0" y="588"/>
                    </a:lnTo>
                    <a:lnTo>
                      <a:pt x="10" y="587"/>
                    </a:lnTo>
                    <a:lnTo>
                      <a:pt x="12" y="587"/>
                    </a:lnTo>
                    <a:lnTo>
                      <a:pt x="21" y="584"/>
                    </a:lnTo>
                    <a:lnTo>
                      <a:pt x="30" y="579"/>
                    </a:lnTo>
                    <a:lnTo>
                      <a:pt x="32" y="578"/>
                    </a:lnTo>
                    <a:lnTo>
                      <a:pt x="39" y="573"/>
                    </a:lnTo>
                    <a:lnTo>
                      <a:pt x="44" y="566"/>
                    </a:lnTo>
                    <a:lnTo>
                      <a:pt x="49" y="557"/>
                    </a:lnTo>
                    <a:lnTo>
                      <a:pt x="50" y="553"/>
                    </a:lnTo>
                    <a:lnTo>
                      <a:pt x="50" y="553"/>
                    </a:lnTo>
                    <a:lnTo>
                      <a:pt x="53" y="544"/>
                    </a:lnTo>
                    <a:lnTo>
                      <a:pt x="54" y="534"/>
                    </a:lnTo>
                    <a:lnTo>
                      <a:pt x="54" y="342"/>
                    </a:lnTo>
                    <a:lnTo>
                      <a:pt x="55" y="332"/>
                    </a:lnTo>
                    <a:lnTo>
                      <a:pt x="58" y="323"/>
                    </a:lnTo>
                    <a:lnTo>
                      <a:pt x="52" y="323"/>
                    </a:lnTo>
                    <a:lnTo>
                      <a:pt x="56" y="328"/>
                    </a:lnTo>
                    <a:lnTo>
                      <a:pt x="61" y="319"/>
                    </a:lnTo>
                    <a:lnTo>
                      <a:pt x="66" y="312"/>
                    </a:lnTo>
                    <a:lnTo>
                      <a:pt x="73" y="307"/>
                    </a:lnTo>
                    <a:lnTo>
                      <a:pt x="69" y="302"/>
                    </a:lnTo>
                    <a:lnTo>
                      <a:pt x="71" y="308"/>
                    </a:lnTo>
                    <a:lnTo>
                      <a:pt x="80" y="303"/>
                    </a:lnTo>
                    <a:lnTo>
                      <a:pt x="89" y="300"/>
                    </a:lnTo>
                    <a:lnTo>
                      <a:pt x="86" y="295"/>
                    </a:lnTo>
                    <a:lnTo>
                      <a:pt x="86" y="301"/>
                    </a:lnTo>
                    <a:lnTo>
                      <a:pt x="96" y="300"/>
                    </a:lnTo>
                    <a:lnTo>
                      <a:pt x="96" y="300"/>
                    </a:lnTo>
                    <a:lnTo>
                      <a:pt x="98" y="299"/>
                    </a:lnTo>
                    <a:lnTo>
                      <a:pt x="100" y="298"/>
                    </a:lnTo>
                    <a:lnTo>
                      <a:pt x="102" y="294"/>
                    </a:lnTo>
                    <a:lnTo>
                      <a:pt x="100" y="290"/>
                    </a:lnTo>
                    <a:lnTo>
                      <a:pt x="98" y="289"/>
                    </a:lnTo>
                    <a:lnTo>
                      <a:pt x="96" y="288"/>
                    </a:lnTo>
                    <a:lnTo>
                      <a:pt x="86" y="287"/>
                    </a:lnTo>
                    <a:lnTo>
                      <a:pt x="86" y="293"/>
                    </a:lnTo>
                    <a:lnTo>
                      <a:pt x="89" y="288"/>
                    </a:lnTo>
                    <a:lnTo>
                      <a:pt x="80" y="285"/>
                    </a:lnTo>
                    <a:lnTo>
                      <a:pt x="71" y="280"/>
                    </a:lnTo>
                    <a:lnTo>
                      <a:pt x="69" y="286"/>
                    </a:lnTo>
                    <a:lnTo>
                      <a:pt x="73" y="281"/>
                    </a:lnTo>
                    <a:lnTo>
                      <a:pt x="66" y="276"/>
                    </a:lnTo>
                    <a:lnTo>
                      <a:pt x="61" y="269"/>
                    </a:lnTo>
                    <a:lnTo>
                      <a:pt x="56" y="260"/>
                    </a:lnTo>
                    <a:lnTo>
                      <a:pt x="52" y="265"/>
                    </a:lnTo>
                    <a:lnTo>
                      <a:pt x="58" y="265"/>
                    </a:lnTo>
                    <a:lnTo>
                      <a:pt x="55" y="256"/>
                    </a:lnTo>
                    <a:lnTo>
                      <a:pt x="54" y="246"/>
                    </a:lnTo>
                    <a:lnTo>
                      <a:pt x="54" y="54"/>
                    </a:lnTo>
                    <a:lnTo>
                      <a:pt x="53" y="44"/>
                    </a:lnTo>
                    <a:lnTo>
                      <a:pt x="50" y="35"/>
                    </a:lnTo>
                    <a:lnTo>
                      <a:pt x="49" y="31"/>
                    </a:lnTo>
                    <a:lnTo>
                      <a:pt x="44" y="22"/>
                    </a:lnTo>
                    <a:lnTo>
                      <a:pt x="39" y="15"/>
                    </a:lnTo>
                    <a:lnTo>
                      <a:pt x="32" y="10"/>
                    </a:lnTo>
                    <a:lnTo>
                      <a:pt x="30" y="9"/>
                    </a:lnTo>
                    <a:lnTo>
                      <a:pt x="21" y="4"/>
                    </a:lnTo>
                    <a:lnTo>
                      <a:pt x="12" y="1"/>
                    </a:lnTo>
                    <a:lnTo>
                      <a:pt x="1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6" name=""/>
            <p:cNvSpPr/>
            <p:nvPr/>
          </p:nvSpPr>
          <p:spPr>
            <a:xfrm>
              <a:off x="91800" y="2635200"/>
              <a:ext cx="12567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„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míchání“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9256680" y="2092320"/>
              <a:ext cx="246240" cy="1228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3" name=""/>
          <p:cNvSpPr/>
          <p:nvPr/>
        </p:nvSpPr>
        <p:spPr>
          <a:xfrm>
            <a:off x="233280" y="4278240"/>
            <a:ext cx="8726400" cy="20408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Účine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4" name=""/>
          <p:cNvSpPr/>
          <p:nvPr/>
        </p:nvSpPr>
        <p:spPr>
          <a:xfrm>
            <a:off x="190440" y="0"/>
            <a:ext cx="8566200" cy="1067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Podně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5" name=""/>
          <p:cNvSpPr/>
          <p:nvPr/>
        </p:nvSpPr>
        <p:spPr>
          <a:xfrm>
            <a:off x="203040" y="1254240"/>
            <a:ext cx="8618760" cy="1310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Senzor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6" name=""/>
          <p:cNvSpPr/>
          <p:nvPr/>
        </p:nvSpPr>
        <p:spPr>
          <a:xfrm>
            <a:off x="220680" y="2784600"/>
            <a:ext cx="8670960" cy="1310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Mediátor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7" name=""/>
          <p:cNvGrpSpPr/>
          <p:nvPr/>
        </p:nvGrpSpPr>
        <p:grpSpPr>
          <a:xfrm>
            <a:off x="5600520" y="355680"/>
            <a:ext cx="222120" cy="611280"/>
            <a:chOff x="5600520" y="355680"/>
            <a:chExt cx="222120" cy="611280"/>
          </a:xfrm>
        </p:grpSpPr>
        <p:sp>
          <p:nvSpPr>
            <p:cNvPr id="7118" name=""/>
            <p:cNvSpPr/>
            <p:nvPr/>
          </p:nvSpPr>
          <p:spPr>
            <a:xfrm flipH="1">
              <a:off x="5658840" y="355680"/>
              <a:ext cx="122400" cy="135720"/>
            </a:xfrm>
            <a:custGeom>
              <a:avLst/>
              <a:gdLst/>
              <a:ahLst/>
              <a:rect l="l" t="t" r="r" b="b"/>
              <a:pathLst>
                <a:path w="490" h="538">
                  <a:moveTo>
                    <a:pt x="121" y="0"/>
                  </a:moveTo>
                  <a:lnTo>
                    <a:pt x="202" y="0"/>
                  </a:lnTo>
                  <a:lnTo>
                    <a:pt x="282" y="32"/>
                  </a:lnTo>
                  <a:lnTo>
                    <a:pt x="329" y="59"/>
                  </a:lnTo>
                  <a:lnTo>
                    <a:pt x="362" y="156"/>
                  </a:lnTo>
                  <a:lnTo>
                    <a:pt x="383" y="215"/>
                  </a:lnTo>
                  <a:lnTo>
                    <a:pt x="463" y="150"/>
                  </a:lnTo>
                  <a:lnTo>
                    <a:pt x="490" y="156"/>
                  </a:lnTo>
                  <a:lnTo>
                    <a:pt x="484" y="187"/>
                  </a:lnTo>
                  <a:lnTo>
                    <a:pt x="383" y="292"/>
                  </a:lnTo>
                  <a:lnTo>
                    <a:pt x="383" y="369"/>
                  </a:lnTo>
                  <a:lnTo>
                    <a:pt x="362" y="447"/>
                  </a:lnTo>
                  <a:lnTo>
                    <a:pt x="329" y="506"/>
                  </a:lnTo>
                  <a:lnTo>
                    <a:pt x="282" y="538"/>
                  </a:lnTo>
                  <a:lnTo>
                    <a:pt x="222" y="538"/>
                  </a:lnTo>
                  <a:lnTo>
                    <a:pt x="140" y="506"/>
                  </a:lnTo>
                  <a:lnTo>
                    <a:pt x="87" y="441"/>
                  </a:lnTo>
                  <a:lnTo>
                    <a:pt x="41" y="343"/>
                  </a:lnTo>
                  <a:lnTo>
                    <a:pt x="6" y="252"/>
                  </a:lnTo>
                  <a:lnTo>
                    <a:pt x="0" y="130"/>
                  </a:lnTo>
                  <a:lnTo>
                    <a:pt x="20" y="71"/>
                  </a:lnTo>
                  <a:lnTo>
                    <a:pt x="47" y="32"/>
                  </a:lnTo>
                  <a:lnTo>
                    <a:pt x="12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9" name=""/>
            <p:cNvSpPr/>
            <p:nvPr/>
          </p:nvSpPr>
          <p:spPr>
            <a:xfrm flipH="1">
              <a:off x="5669640" y="508680"/>
              <a:ext cx="86400" cy="234000"/>
            </a:xfrm>
            <a:custGeom>
              <a:avLst/>
              <a:gdLst/>
              <a:ahLst/>
              <a:rect l="l" t="t" r="r" b="b"/>
              <a:pathLst>
                <a:path w="347" h="929">
                  <a:moveTo>
                    <a:pt x="47" y="32"/>
                  </a:moveTo>
                  <a:lnTo>
                    <a:pt x="100" y="0"/>
                  </a:lnTo>
                  <a:lnTo>
                    <a:pt x="180" y="0"/>
                  </a:lnTo>
                  <a:lnTo>
                    <a:pt x="240" y="20"/>
                  </a:lnTo>
                  <a:lnTo>
                    <a:pt x="281" y="89"/>
                  </a:lnTo>
                  <a:lnTo>
                    <a:pt x="320" y="206"/>
                  </a:lnTo>
                  <a:lnTo>
                    <a:pt x="341" y="334"/>
                  </a:lnTo>
                  <a:lnTo>
                    <a:pt x="347" y="486"/>
                  </a:lnTo>
                  <a:lnTo>
                    <a:pt x="347" y="660"/>
                  </a:lnTo>
                  <a:lnTo>
                    <a:pt x="320" y="800"/>
                  </a:lnTo>
                  <a:lnTo>
                    <a:pt x="281" y="877"/>
                  </a:lnTo>
                  <a:lnTo>
                    <a:pt x="187" y="929"/>
                  </a:lnTo>
                  <a:lnTo>
                    <a:pt x="140" y="917"/>
                  </a:lnTo>
                  <a:lnTo>
                    <a:pt x="80" y="858"/>
                  </a:lnTo>
                  <a:lnTo>
                    <a:pt x="60" y="775"/>
                  </a:lnTo>
                  <a:lnTo>
                    <a:pt x="41" y="621"/>
                  </a:lnTo>
                  <a:lnTo>
                    <a:pt x="60" y="512"/>
                  </a:lnTo>
                  <a:lnTo>
                    <a:pt x="60" y="397"/>
                  </a:lnTo>
                  <a:lnTo>
                    <a:pt x="27" y="320"/>
                  </a:lnTo>
                  <a:lnTo>
                    <a:pt x="0" y="218"/>
                  </a:lnTo>
                  <a:lnTo>
                    <a:pt x="0" y="109"/>
                  </a:lnTo>
                  <a:lnTo>
                    <a:pt x="47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0" name=""/>
            <p:cNvSpPr/>
            <p:nvPr/>
          </p:nvSpPr>
          <p:spPr>
            <a:xfrm flipH="1">
              <a:off x="5600160" y="517320"/>
              <a:ext cx="114840" cy="231480"/>
            </a:xfrm>
            <a:custGeom>
              <a:avLst/>
              <a:gdLst/>
              <a:ahLst/>
              <a:rect l="l" t="t" r="r" b="b"/>
              <a:pathLst>
                <a:path w="460" h="918">
                  <a:moveTo>
                    <a:pt x="53" y="0"/>
                  </a:moveTo>
                  <a:lnTo>
                    <a:pt x="201" y="32"/>
                  </a:lnTo>
                  <a:lnTo>
                    <a:pt x="314" y="109"/>
                  </a:lnTo>
                  <a:lnTo>
                    <a:pt x="400" y="237"/>
                  </a:lnTo>
                  <a:lnTo>
                    <a:pt x="454" y="359"/>
                  </a:lnTo>
                  <a:lnTo>
                    <a:pt x="460" y="494"/>
                  </a:lnTo>
                  <a:lnTo>
                    <a:pt x="419" y="584"/>
                  </a:lnTo>
                  <a:lnTo>
                    <a:pt x="320" y="642"/>
                  </a:lnTo>
                  <a:lnTo>
                    <a:pt x="240" y="681"/>
                  </a:lnTo>
                  <a:lnTo>
                    <a:pt x="240" y="719"/>
                  </a:lnTo>
                  <a:lnTo>
                    <a:pt x="293" y="764"/>
                  </a:lnTo>
                  <a:lnTo>
                    <a:pt x="320" y="860"/>
                  </a:lnTo>
                  <a:lnTo>
                    <a:pt x="293" y="918"/>
                  </a:lnTo>
                  <a:lnTo>
                    <a:pt x="259" y="892"/>
                  </a:lnTo>
                  <a:lnTo>
                    <a:pt x="259" y="841"/>
                  </a:lnTo>
                  <a:lnTo>
                    <a:pt x="234" y="764"/>
                  </a:lnTo>
                  <a:lnTo>
                    <a:pt x="193" y="719"/>
                  </a:lnTo>
                  <a:lnTo>
                    <a:pt x="179" y="661"/>
                  </a:lnTo>
                  <a:lnTo>
                    <a:pt x="240" y="622"/>
                  </a:lnTo>
                  <a:lnTo>
                    <a:pt x="353" y="545"/>
                  </a:lnTo>
                  <a:lnTo>
                    <a:pt x="400" y="476"/>
                  </a:lnTo>
                  <a:lnTo>
                    <a:pt x="400" y="399"/>
                  </a:lnTo>
                  <a:lnTo>
                    <a:pt x="339" y="282"/>
                  </a:lnTo>
                  <a:lnTo>
                    <a:pt x="240" y="180"/>
                  </a:lnTo>
                  <a:lnTo>
                    <a:pt x="179" y="128"/>
                  </a:lnTo>
                  <a:lnTo>
                    <a:pt x="93" y="109"/>
                  </a:lnTo>
                  <a:lnTo>
                    <a:pt x="0" y="83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1" name=""/>
            <p:cNvSpPr/>
            <p:nvPr/>
          </p:nvSpPr>
          <p:spPr>
            <a:xfrm flipH="1">
              <a:off x="5737680" y="516240"/>
              <a:ext cx="84600" cy="217440"/>
            </a:xfrm>
            <a:custGeom>
              <a:avLst/>
              <a:gdLst/>
              <a:ahLst/>
              <a:rect l="l" t="t" r="r" b="b"/>
              <a:pathLst>
                <a:path w="341" h="861">
                  <a:moveTo>
                    <a:pt x="214" y="39"/>
                  </a:moveTo>
                  <a:lnTo>
                    <a:pt x="281" y="0"/>
                  </a:lnTo>
                  <a:lnTo>
                    <a:pt x="341" y="6"/>
                  </a:lnTo>
                  <a:lnTo>
                    <a:pt x="335" y="77"/>
                  </a:lnTo>
                  <a:lnTo>
                    <a:pt x="294" y="116"/>
                  </a:lnTo>
                  <a:lnTo>
                    <a:pt x="234" y="148"/>
                  </a:lnTo>
                  <a:lnTo>
                    <a:pt x="160" y="231"/>
                  </a:lnTo>
                  <a:lnTo>
                    <a:pt x="80" y="347"/>
                  </a:lnTo>
                  <a:lnTo>
                    <a:pt x="60" y="443"/>
                  </a:lnTo>
                  <a:lnTo>
                    <a:pt x="74" y="501"/>
                  </a:lnTo>
                  <a:lnTo>
                    <a:pt x="94" y="534"/>
                  </a:lnTo>
                  <a:lnTo>
                    <a:pt x="181" y="572"/>
                  </a:lnTo>
                  <a:lnTo>
                    <a:pt x="261" y="597"/>
                  </a:lnTo>
                  <a:lnTo>
                    <a:pt x="294" y="630"/>
                  </a:lnTo>
                  <a:lnTo>
                    <a:pt x="300" y="656"/>
                  </a:lnTo>
                  <a:lnTo>
                    <a:pt x="253" y="707"/>
                  </a:lnTo>
                  <a:lnTo>
                    <a:pt x="234" y="771"/>
                  </a:lnTo>
                  <a:lnTo>
                    <a:pt x="214" y="861"/>
                  </a:lnTo>
                  <a:lnTo>
                    <a:pt x="173" y="848"/>
                  </a:lnTo>
                  <a:lnTo>
                    <a:pt x="173" y="784"/>
                  </a:lnTo>
                  <a:lnTo>
                    <a:pt x="195" y="688"/>
                  </a:lnTo>
                  <a:lnTo>
                    <a:pt x="234" y="649"/>
                  </a:lnTo>
                  <a:lnTo>
                    <a:pt x="160" y="611"/>
                  </a:lnTo>
                  <a:lnTo>
                    <a:pt x="74" y="572"/>
                  </a:lnTo>
                  <a:lnTo>
                    <a:pt x="0" y="514"/>
                  </a:lnTo>
                  <a:lnTo>
                    <a:pt x="0" y="443"/>
                  </a:lnTo>
                  <a:lnTo>
                    <a:pt x="20" y="321"/>
                  </a:lnTo>
                  <a:lnTo>
                    <a:pt x="80" y="205"/>
                  </a:lnTo>
                  <a:lnTo>
                    <a:pt x="154" y="108"/>
                  </a:lnTo>
                  <a:lnTo>
                    <a:pt x="214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2" name=""/>
            <p:cNvSpPr/>
            <p:nvPr/>
          </p:nvSpPr>
          <p:spPr>
            <a:xfrm flipH="1">
              <a:off x="5607720" y="707400"/>
              <a:ext cx="100800" cy="259560"/>
            </a:xfrm>
            <a:custGeom>
              <a:avLst/>
              <a:gdLst/>
              <a:ahLst/>
              <a:rect l="l" t="t" r="r" b="b"/>
              <a:pathLst>
                <a:path w="402" h="1028">
                  <a:moveTo>
                    <a:pt x="27" y="0"/>
                  </a:moveTo>
                  <a:lnTo>
                    <a:pt x="120" y="38"/>
                  </a:lnTo>
                  <a:lnTo>
                    <a:pt x="167" y="135"/>
                  </a:lnTo>
                  <a:lnTo>
                    <a:pt x="181" y="307"/>
                  </a:lnTo>
                  <a:lnTo>
                    <a:pt x="167" y="593"/>
                  </a:lnTo>
                  <a:lnTo>
                    <a:pt x="128" y="817"/>
                  </a:lnTo>
                  <a:lnTo>
                    <a:pt x="107" y="913"/>
                  </a:lnTo>
                  <a:lnTo>
                    <a:pt x="147" y="933"/>
                  </a:lnTo>
                  <a:lnTo>
                    <a:pt x="227" y="856"/>
                  </a:lnTo>
                  <a:lnTo>
                    <a:pt x="322" y="799"/>
                  </a:lnTo>
                  <a:lnTo>
                    <a:pt x="348" y="805"/>
                  </a:lnTo>
                  <a:lnTo>
                    <a:pt x="402" y="842"/>
                  </a:lnTo>
                  <a:lnTo>
                    <a:pt x="402" y="862"/>
                  </a:lnTo>
                  <a:lnTo>
                    <a:pt x="288" y="913"/>
                  </a:lnTo>
                  <a:lnTo>
                    <a:pt x="167" y="977"/>
                  </a:lnTo>
                  <a:lnTo>
                    <a:pt x="68" y="1028"/>
                  </a:lnTo>
                  <a:lnTo>
                    <a:pt x="19" y="1016"/>
                  </a:lnTo>
                  <a:lnTo>
                    <a:pt x="19" y="957"/>
                  </a:lnTo>
                  <a:lnTo>
                    <a:pt x="60" y="874"/>
                  </a:lnTo>
                  <a:lnTo>
                    <a:pt x="87" y="702"/>
                  </a:lnTo>
                  <a:lnTo>
                    <a:pt x="107" y="498"/>
                  </a:lnTo>
                  <a:lnTo>
                    <a:pt x="120" y="269"/>
                  </a:lnTo>
                  <a:lnTo>
                    <a:pt x="68" y="129"/>
                  </a:lnTo>
                  <a:lnTo>
                    <a:pt x="0" y="71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3" name=""/>
            <p:cNvSpPr/>
            <p:nvPr/>
          </p:nvSpPr>
          <p:spPr>
            <a:xfrm flipH="1">
              <a:off x="5702760" y="681120"/>
              <a:ext cx="77040" cy="284040"/>
            </a:xfrm>
            <a:custGeom>
              <a:avLst/>
              <a:gdLst/>
              <a:ahLst/>
              <a:rect l="l" t="t" r="r" b="b"/>
              <a:pathLst>
                <a:path w="309" h="1127">
                  <a:moveTo>
                    <a:pt x="124" y="223"/>
                  </a:moveTo>
                  <a:lnTo>
                    <a:pt x="207" y="51"/>
                  </a:lnTo>
                  <a:lnTo>
                    <a:pt x="282" y="0"/>
                  </a:lnTo>
                  <a:lnTo>
                    <a:pt x="309" y="32"/>
                  </a:lnTo>
                  <a:lnTo>
                    <a:pt x="288" y="89"/>
                  </a:lnTo>
                  <a:lnTo>
                    <a:pt x="207" y="230"/>
                  </a:lnTo>
                  <a:lnTo>
                    <a:pt x="145" y="376"/>
                  </a:lnTo>
                  <a:lnTo>
                    <a:pt x="103" y="586"/>
                  </a:lnTo>
                  <a:lnTo>
                    <a:pt x="75" y="821"/>
                  </a:lnTo>
                  <a:lnTo>
                    <a:pt x="75" y="1025"/>
                  </a:lnTo>
                  <a:lnTo>
                    <a:pt x="97" y="1007"/>
                  </a:lnTo>
                  <a:lnTo>
                    <a:pt x="145" y="930"/>
                  </a:lnTo>
                  <a:lnTo>
                    <a:pt x="164" y="815"/>
                  </a:lnTo>
                  <a:lnTo>
                    <a:pt x="207" y="815"/>
                  </a:lnTo>
                  <a:lnTo>
                    <a:pt x="261" y="841"/>
                  </a:lnTo>
                  <a:lnTo>
                    <a:pt x="226" y="936"/>
                  </a:lnTo>
                  <a:lnTo>
                    <a:pt x="145" y="1032"/>
                  </a:lnTo>
                  <a:lnTo>
                    <a:pt x="62" y="1127"/>
                  </a:lnTo>
                  <a:lnTo>
                    <a:pt x="21" y="1127"/>
                  </a:lnTo>
                  <a:lnTo>
                    <a:pt x="0" y="1090"/>
                  </a:lnTo>
                  <a:lnTo>
                    <a:pt x="0" y="1007"/>
                  </a:lnTo>
                  <a:lnTo>
                    <a:pt x="14" y="764"/>
                  </a:lnTo>
                  <a:lnTo>
                    <a:pt x="35" y="516"/>
                  </a:lnTo>
                  <a:lnTo>
                    <a:pt x="62" y="338"/>
                  </a:lnTo>
                  <a:lnTo>
                    <a:pt x="124" y="2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24" name=""/>
          <p:cNvSpPr/>
          <p:nvPr/>
        </p:nvSpPr>
        <p:spPr>
          <a:xfrm>
            <a:off x="3086640" y="487440"/>
            <a:ext cx="23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Efektivní cirkulující obj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5" name=""/>
          <p:cNvSpPr/>
          <p:nvPr/>
        </p:nvSpPr>
        <p:spPr>
          <a:xfrm>
            <a:off x="1296360" y="1851120"/>
            <a:ext cx="182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Tenze ve stěně cév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6" name=""/>
          <p:cNvSpPr/>
          <p:nvPr/>
        </p:nvSpPr>
        <p:spPr>
          <a:xfrm>
            <a:off x="3598560" y="2909880"/>
            <a:ext cx="66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Ren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7" name=""/>
          <p:cNvSpPr/>
          <p:nvPr/>
        </p:nvSpPr>
        <p:spPr>
          <a:xfrm>
            <a:off x="1492200" y="1332000"/>
            <a:ext cx="1256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Vas affere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8" name=""/>
          <p:cNvSpPr/>
          <p:nvPr/>
        </p:nvSpPr>
        <p:spPr>
          <a:xfrm>
            <a:off x="1365120" y="4467240"/>
            <a:ext cx="65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Obě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9" name=""/>
          <p:cNvSpPr/>
          <p:nvPr/>
        </p:nvSpPr>
        <p:spPr>
          <a:xfrm>
            <a:off x="2573280" y="4329000"/>
            <a:ext cx="182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Endokrinní systé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0" name=""/>
          <p:cNvSpPr/>
          <p:nvPr/>
        </p:nvSpPr>
        <p:spPr>
          <a:xfrm>
            <a:off x="6168960" y="4330800"/>
            <a:ext cx="8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Ledvi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1" name=""/>
          <p:cNvSpPr/>
          <p:nvPr/>
        </p:nvSpPr>
        <p:spPr>
          <a:xfrm>
            <a:off x="1074240" y="4998960"/>
            <a:ext cx="1445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Vasokonstrik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2" name=""/>
          <p:cNvSpPr/>
          <p:nvPr/>
        </p:nvSpPr>
        <p:spPr>
          <a:xfrm>
            <a:off x="2741400" y="4818240"/>
            <a:ext cx="61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AD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3" name=""/>
          <p:cNvSpPr/>
          <p:nvPr/>
        </p:nvSpPr>
        <p:spPr>
          <a:xfrm>
            <a:off x="4557600" y="5494320"/>
            <a:ext cx="1896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Glomerulární filtr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4" name=""/>
          <p:cNvSpPr/>
          <p:nvPr/>
        </p:nvSpPr>
        <p:spPr>
          <a:xfrm>
            <a:off x="4860360" y="4705200"/>
            <a:ext cx="1445760" cy="72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Vasokonstrik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vas efferen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(a vas afferen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5" name=""/>
          <p:cNvSpPr/>
          <p:nvPr/>
        </p:nvSpPr>
        <p:spPr>
          <a:xfrm>
            <a:off x="6469200" y="5595840"/>
            <a:ext cx="2012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Resorpce sodíku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v proximálním tubulu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6" name=""/>
          <p:cNvSpPr/>
          <p:nvPr/>
        </p:nvSpPr>
        <p:spPr>
          <a:xfrm>
            <a:off x="2971440" y="5770440"/>
            <a:ext cx="2264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Resorpce sodíku (a vod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Exkrece draslík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7" name=""/>
          <p:cNvSpPr/>
          <p:nvPr/>
        </p:nvSpPr>
        <p:spPr>
          <a:xfrm flipV="1">
            <a:off x="3044880" y="493560"/>
            <a:ext cx="0" cy="2685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8" name=""/>
          <p:cNvSpPr/>
          <p:nvPr/>
        </p:nvSpPr>
        <p:spPr>
          <a:xfrm flipV="1">
            <a:off x="1290600" y="1927080"/>
            <a:ext cx="0" cy="2685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9" name=""/>
          <p:cNvSpPr/>
          <p:nvPr/>
        </p:nvSpPr>
        <p:spPr>
          <a:xfrm flipV="1">
            <a:off x="3595680" y="2954160"/>
            <a:ext cx="0" cy="268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0" name=""/>
          <p:cNvSpPr/>
          <p:nvPr/>
        </p:nvSpPr>
        <p:spPr>
          <a:xfrm flipV="1">
            <a:off x="2768760" y="4854240"/>
            <a:ext cx="0" cy="268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1" name=""/>
          <p:cNvSpPr/>
          <p:nvPr/>
        </p:nvSpPr>
        <p:spPr>
          <a:xfrm>
            <a:off x="3510720" y="4854600"/>
            <a:ext cx="108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Aldoster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2" name=""/>
          <p:cNvSpPr/>
          <p:nvPr/>
        </p:nvSpPr>
        <p:spPr>
          <a:xfrm flipV="1">
            <a:off x="3487680" y="4900320"/>
            <a:ext cx="0" cy="268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3" name=""/>
          <p:cNvSpPr/>
          <p:nvPr/>
        </p:nvSpPr>
        <p:spPr>
          <a:xfrm flipV="1">
            <a:off x="4538520" y="5535360"/>
            <a:ext cx="0" cy="268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4" name=""/>
          <p:cNvSpPr/>
          <p:nvPr/>
        </p:nvSpPr>
        <p:spPr>
          <a:xfrm flipV="1">
            <a:off x="2946240" y="5763960"/>
            <a:ext cx="0" cy="268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5" name=""/>
          <p:cNvSpPr/>
          <p:nvPr/>
        </p:nvSpPr>
        <p:spPr>
          <a:xfrm>
            <a:off x="6477120" y="5726160"/>
            <a:ext cx="11160" cy="268200"/>
          </a:xfrm>
          <a:custGeom>
            <a:avLst/>
            <a:gdLst/>
            <a:ahLst/>
            <a:rect l="l" t="t" r="r" b="b"/>
            <a:pathLst>
              <a:path w="7" h="169">
                <a:moveTo>
                  <a:pt x="0" y="169"/>
                </a:moveTo>
                <a:lnTo>
                  <a:pt x="7" y="16"/>
                </a:lnTo>
                <a:lnTo>
                  <a:pt x="1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6" name=""/>
          <p:cNvSpPr/>
          <p:nvPr/>
        </p:nvSpPr>
        <p:spPr>
          <a:xfrm flipH="1">
            <a:off x="6060600" y="4665600"/>
            <a:ext cx="311400" cy="150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7" name=""/>
          <p:cNvSpPr/>
          <p:nvPr/>
        </p:nvSpPr>
        <p:spPr>
          <a:xfrm>
            <a:off x="6642000" y="4657680"/>
            <a:ext cx="219240" cy="96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8" name=""/>
          <p:cNvSpPr/>
          <p:nvPr/>
        </p:nvSpPr>
        <p:spPr>
          <a:xfrm flipH="1">
            <a:off x="5603760" y="5440320"/>
            <a:ext cx="7920" cy="168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49" name="" descr=""/>
          <p:cNvPicPr/>
          <p:nvPr/>
        </p:nvPicPr>
        <p:blipFill>
          <a:blip r:embed="rId1"/>
          <a:stretch/>
        </p:blipFill>
        <p:spPr>
          <a:xfrm>
            <a:off x="6885000" y="4794120"/>
            <a:ext cx="338040" cy="401760"/>
          </a:xfrm>
          <a:prstGeom prst="rect">
            <a:avLst/>
          </a:prstGeom>
          <a:ln w="0">
            <a:noFill/>
          </a:ln>
        </p:spPr>
      </p:pic>
      <p:grpSp>
        <p:nvGrpSpPr>
          <p:cNvPr id="7150" name=""/>
          <p:cNvGrpSpPr/>
          <p:nvPr/>
        </p:nvGrpSpPr>
        <p:grpSpPr>
          <a:xfrm>
            <a:off x="576360" y="4608360"/>
            <a:ext cx="755280" cy="979200"/>
            <a:chOff x="576360" y="4608360"/>
            <a:chExt cx="755280" cy="979200"/>
          </a:xfrm>
        </p:grpSpPr>
        <p:sp>
          <p:nvSpPr>
            <p:cNvPr id="7151" name=""/>
            <p:cNvSpPr/>
            <p:nvPr/>
          </p:nvSpPr>
          <p:spPr>
            <a:xfrm>
              <a:off x="979920" y="5017680"/>
              <a:ext cx="130680" cy="95400"/>
            </a:xfrm>
            <a:custGeom>
              <a:avLst/>
              <a:gdLst/>
              <a:ahLst/>
              <a:rect l="l" t="t" r="r" b="b"/>
              <a:pathLst>
                <a:path w="326" h="434">
                  <a:moveTo>
                    <a:pt x="240" y="3"/>
                  </a:moveTo>
                  <a:lnTo>
                    <a:pt x="273" y="0"/>
                  </a:lnTo>
                  <a:lnTo>
                    <a:pt x="297" y="13"/>
                  </a:lnTo>
                  <a:lnTo>
                    <a:pt x="313" y="34"/>
                  </a:lnTo>
                  <a:lnTo>
                    <a:pt x="323" y="65"/>
                  </a:lnTo>
                  <a:lnTo>
                    <a:pt x="326" y="89"/>
                  </a:lnTo>
                  <a:lnTo>
                    <a:pt x="326" y="126"/>
                  </a:lnTo>
                  <a:lnTo>
                    <a:pt x="321" y="164"/>
                  </a:lnTo>
                  <a:lnTo>
                    <a:pt x="316" y="195"/>
                  </a:lnTo>
                  <a:lnTo>
                    <a:pt x="307" y="232"/>
                  </a:lnTo>
                  <a:lnTo>
                    <a:pt x="294" y="261"/>
                  </a:lnTo>
                  <a:lnTo>
                    <a:pt x="277" y="299"/>
                  </a:lnTo>
                  <a:lnTo>
                    <a:pt x="263" y="331"/>
                  </a:lnTo>
                  <a:lnTo>
                    <a:pt x="245" y="359"/>
                  </a:lnTo>
                  <a:lnTo>
                    <a:pt x="219" y="385"/>
                  </a:lnTo>
                  <a:lnTo>
                    <a:pt x="187" y="413"/>
                  </a:lnTo>
                  <a:lnTo>
                    <a:pt x="156" y="419"/>
                  </a:lnTo>
                  <a:lnTo>
                    <a:pt x="126" y="429"/>
                  </a:lnTo>
                  <a:lnTo>
                    <a:pt x="99" y="434"/>
                  </a:lnTo>
                  <a:lnTo>
                    <a:pt x="65" y="424"/>
                  </a:lnTo>
                  <a:lnTo>
                    <a:pt x="31" y="395"/>
                  </a:lnTo>
                  <a:lnTo>
                    <a:pt x="11" y="374"/>
                  </a:lnTo>
                  <a:lnTo>
                    <a:pt x="5" y="349"/>
                  </a:lnTo>
                  <a:lnTo>
                    <a:pt x="0" y="310"/>
                  </a:lnTo>
                  <a:lnTo>
                    <a:pt x="9" y="266"/>
                  </a:lnTo>
                  <a:lnTo>
                    <a:pt x="21" y="234"/>
                  </a:lnTo>
                  <a:lnTo>
                    <a:pt x="34" y="208"/>
                  </a:lnTo>
                  <a:lnTo>
                    <a:pt x="66" y="166"/>
                  </a:lnTo>
                  <a:lnTo>
                    <a:pt x="94" y="154"/>
                  </a:lnTo>
                  <a:lnTo>
                    <a:pt x="122" y="146"/>
                  </a:lnTo>
                  <a:lnTo>
                    <a:pt x="177" y="78"/>
                  </a:lnTo>
                  <a:lnTo>
                    <a:pt x="196" y="44"/>
                  </a:lnTo>
                  <a:lnTo>
                    <a:pt x="216" y="22"/>
                  </a:lnTo>
                  <a:lnTo>
                    <a:pt x="240" y="3"/>
                  </a:lnTo>
                  <a:close/>
                </a:path>
              </a:pathLst>
            </a:custGeom>
            <a:solidFill>
              <a:srgbClr val="dfd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2" name=""/>
            <p:cNvSpPr/>
            <p:nvPr/>
          </p:nvSpPr>
          <p:spPr>
            <a:xfrm>
              <a:off x="1001880" y="5070960"/>
              <a:ext cx="127080" cy="68760"/>
            </a:xfrm>
            <a:custGeom>
              <a:avLst/>
              <a:gdLst/>
              <a:ahLst/>
              <a:rect l="l" t="t" r="r" b="b"/>
              <a:pathLst>
                <a:path w="317" h="314">
                  <a:moveTo>
                    <a:pt x="276" y="8"/>
                  </a:moveTo>
                  <a:lnTo>
                    <a:pt x="297" y="0"/>
                  </a:lnTo>
                  <a:lnTo>
                    <a:pt x="309" y="11"/>
                  </a:lnTo>
                  <a:lnTo>
                    <a:pt x="315" y="34"/>
                  </a:lnTo>
                  <a:lnTo>
                    <a:pt x="315" y="55"/>
                  </a:lnTo>
                  <a:lnTo>
                    <a:pt x="317" y="83"/>
                  </a:lnTo>
                  <a:lnTo>
                    <a:pt x="317" y="104"/>
                  </a:lnTo>
                  <a:lnTo>
                    <a:pt x="317" y="132"/>
                  </a:lnTo>
                  <a:lnTo>
                    <a:pt x="317" y="166"/>
                  </a:lnTo>
                  <a:lnTo>
                    <a:pt x="315" y="195"/>
                  </a:lnTo>
                  <a:lnTo>
                    <a:pt x="307" y="224"/>
                  </a:lnTo>
                  <a:lnTo>
                    <a:pt x="292" y="250"/>
                  </a:lnTo>
                  <a:lnTo>
                    <a:pt x="268" y="272"/>
                  </a:lnTo>
                  <a:lnTo>
                    <a:pt x="240" y="289"/>
                  </a:lnTo>
                  <a:lnTo>
                    <a:pt x="195" y="304"/>
                  </a:lnTo>
                  <a:lnTo>
                    <a:pt x="154" y="311"/>
                  </a:lnTo>
                  <a:lnTo>
                    <a:pt x="115" y="314"/>
                  </a:lnTo>
                  <a:lnTo>
                    <a:pt x="71" y="311"/>
                  </a:lnTo>
                  <a:lnTo>
                    <a:pt x="41" y="304"/>
                  </a:lnTo>
                  <a:lnTo>
                    <a:pt x="15" y="299"/>
                  </a:lnTo>
                  <a:lnTo>
                    <a:pt x="0" y="286"/>
                  </a:lnTo>
                  <a:lnTo>
                    <a:pt x="2" y="268"/>
                  </a:lnTo>
                  <a:lnTo>
                    <a:pt x="19" y="254"/>
                  </a:lnTo>
                  <a:lnTo>
                    <a:pt x="52" y="244"/>
                  </a:lnTo>
                  <a:lnTo>
                    <a:pt x="88" y="226"/>
                  </a:lnTo>
                  <a:lnTo>
                    <a:pt x="125" y="211"/>
                  </a:lnTo>
                  <a:lnTo>
                    <a:pt x="166" y="179"/>
                  </a:lnTo>
                  <a:lnTo>
                    <a:pt x="193" y="153"/>
                  </a:lnTo>
                  <a:lnTo>
                    <a:pt x="209" y="133"/>
                  </a:lnTo>
                  <a:lnTo>
                    <a:pt x="226" y="104"/>
                  </a:lnTo>
                  <a:lnTo>
                    <a:pt x="239" y="73"/>
                  </a:lnTo>
                  <a:lnTo>
                    <a:pt x="248" y="41"/>
                  </a:lnTo>
                  <a:lnTo>
                    <a:pt x="261" y="21"/>
                  </a:lnTo>
                  <a:lnTo>
                    <a:pt x="276" y="8"/>
                  </a:lnTo>
                  <a:close/>
                </a:path>
              </a:pathLst>
            </a:custGeom>
            <a:solidFill>
              <a:srgbClr val="dfd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3" name=""/>
            <p:cNvSpPr/>
            <p:nvPr/>
          </p:nvSpPr>
          <p:spPr>
            <a:xfrm>
              <a:off x="799920" y="5019840"/>
              <a:ext cx="130680" cy="95400"/>
            </a:xfrm>
            <a:custGeom>
              <a:avLst/>
              <a:gdLst/>
              <a:ahLst/>
              <a:rect l="l" t="t" r="r" b="b"/>
              <a:pathLst>
                <a:path w="326" h="435">
                  <a:moveTo>
                    <a:pt x="86" y="4"/>
                  </a:moveTo>
                  <a:lnTo>
                    <a:pt x="53" y="0"/>
                  </a:lnTo>
                  <a:lnTo>
                    <a:pt x="29" y="13"/>
                  </a:lnTo>
                  <a:lnTo>
                    <a:pt x="13" y="35"/>
                  </a:lnTo>
                  <a:lnTo>
                    <a:pt x="3" y="65"/>
                  </a:lnTo>
                  <a:lnTo>
                    <a:pt x="0" y="90"/>
                  </a:lnTo>
                  <a:lnTo>
                    <a:pt x="0" y="127"/>
                  </a:lnTo>
                  <a:lnTo>
                    <a:pt x="5" y="165"/>
                  </a:lnTo>
                  <a:lnTo>
                    <a:pt x="9" y="196"/>
                  </a:lnTo>
                  <a:lnTo>
                    <a:pt x="19" y="233"/>
                  </a:lnTo>
                  <a:lnTo>
                    <a:pt x="32" y="262"/>
                  </a:lnTo>
                  <a:lnTo>
                    <a:pt x="48" y="300"/>
                  </a:lnTo>
                  <a:lnTo>
                    <a:pt x="63" y="332"/>
                  </a:lnTo>
                  <a:lnTo>
                    <a:pt x="81" y="360"/>
                  </a:lnTo>
                  <a:lnTo>
                    <a:pt x="107" y="386"/>
                  </a:lnTo>
                  <a:lnTo>
                    <a:pt x="139" y="413"/>
                  </a:lnTo>
                  <a:lnTo>
                    <a:pt x="170" y="420"/>
                  </a:lnTo>
                  <a:lnTo>
                    <a:pt x="199" y="430"/>
                  </a:lnTo>
                  <a:lnTo>
                    <a:pt x="227" y="435"/>
                  </a:lnTo>
                  <a:lnTo>
                    <a:pt x="261" y="425"/>
                  </a:lnTo>
                  <a:lnTo>
                    <a:pt x="295" y="396"/>
                  </a:lnTo>
                  <a:lnTo>
                    <a:pt x="315" y="374"/>
                  </a:lnTo>
                  <a:lnTo>
                    <a:pt x="321" y="350"/>
                  </a:lnTo>
                  <a:lnTo>
                    <a:pt x="326" y="311"/>
                  </a:lnTo>
                  <a:lnTo>
                    <a:pt x="316" y="267"/>
                  </a:lnTo>
                  <a:lnTo>
                    <a:pt x="305" y="235"/>
                  </a:lnTo>
                  <a:lnTo>
                    <a:pt x="292" y="209"/>
                  </a:lnTo>
                  <a:lnTo>
                    <a:pt x="260" y="166"/>
                  </a:lnTo>
                  <a:lnTo>
                    <a:pt x="232" y="155"/>
                  </a:lnTo>
                  <a:lnTo>
                    <a:pt x="204" y="147"/>
                  </a:lnTo>
                  <a:lnTo>
                    <a:pt x="149" y="78"/>
                  </a:lnTo>
                  <a:lnTo>
                    <a:pt x="130" y="44"/>
                  </a:lnTo>
                  <a:lnTo>
                    <a:pt x="110" y="23"/>
                  </a:lnTo>
                  <a:lnTo>
                    <a:pt x="86" y="4"/>
                  </a:lnTo>
                  <a:close/>
                </a:path>
              </a:pathLst>
            </a:custGeom>
            <a:solidFill>
              <a:srgbClr val="dfd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4" name=""/>
            <p:cNvSpPr/>
            <p:nvPr/>
          </p:nvSpPr>
          <p:spPr>
            <a:xfrm>
              <a:off x="781560" y="5073120"/>
              <a:ext cx="126360" cy="68760"/>
            </a:xfrm>
            <a:custGeom>
              <a:avLst/>
              <a:gdLst/>
              <a:ahLst/>
              <a:rect l="l" t="t" r="r" b="b"/>
              <a:pathLst>
                <a:path w="317" h="314">
                  <a:moveTo>
                    <a:pt x="41" y="8"/>
                  </a:moveTo>
                  <a:lnTo>
                    <a:pt x="20" y="0"/>
                  </a:lnTo>
                  <a:lnTo>
                    <a:pt x="8" y="11"/>
                  </a:lnTo>
                  <a:lnTo>
                    <a:pt x="2" y="34"/>
                  </a:lnTo>
                  <a:lnTo>
                    <a:pt x="2" y="55"/>
                  </a:lnTo>
                  <a:lnTo>
                    <a:pt x="0" y="83"/>
                  </a:lnTo>
                  <a:lnTo>
                    <a:pt x="0" y="104"/>
                  </a:lnTo>
                  <a:lnTo>
                    <a:pt x="0" y="131"/>
                  </a:lnTo>
                  <a:lnTo>
                    <a:pt x="0" y="166"/>
                  </a:lnTo>
                  <a:lnTo>
                    <a:pt x="2" y="195"/>
                  </a:lnTo>
                  <a:lnTo>
                    <a:pt x="10" y="224"/>
                  </a:lnTo>
                  <a:lnTo>
                    <a:pt x="25" y="250"/>
                  </a:lnTo>
                  <a:lnTo>
                    <a:pt x="49" y="271"/>
                  </a:lnTo>
                  <a:lnTo>
                    <a:pt x="77" y="289"/>
                  </a:lnTo>
                  <a:lnTo>
                    <a:pt x="122" y="304"/>
                  </a:lnTo>
                  <a:lnTo>
                    <a:pt x="163" y="310"/>
                  </a:lnTo>
                  <a:lnTo>
                    <a:pt x="202" y="314"/>
                  </a:lnTo>
                  <a:lnTo>
                    <a:pt x="245" y="310"/>
                  </a:lnTo>
                  <a:lnTo>
                    <a:pt x="276" y="304"/>
                  </a:lnTo>
                  <a:lnTo>
                    <a:pt x="302" y="299"/>
                  </a:lnTo>
                  <a:lnTo>
                    <a:pt x="317" y="286"/>
                  </a:lnTo>
                  <a:lnTo>
                    <a:pt x="315" y="268"/>
                  </a:lnTo>
                  <a:lnTo>
                    <a:pt x="297" y="253"/>
                  </a:lnTo>
                  <a:lnTo>
                    <a:pt x="265" y="244"/>
                  </a:lnTo>
                  <a:lnTo>
                    <a:pt x="229" y="226"/>
                  </a:lnTo>
                  <a:lnTo>
                    <a:pt x="192" y="211"/>
                  </a:lnTo>
                  <a:lnTo>
                    <a:pt x="151" y="179"/>
                  </a:lnTo>
                  <a:lnTo>
                    <a:pt x="124" y="153"/>
                  </a:lnTo>
                  <a:lnTo>
                    <a:pt x="107" y="133"/>
                  </a:lnTo>
                  <a:lnTo>
                    <a:pt x="91" y="104"/>
                  </a:lnTo>
                  <a:lnTo>
                    <a:pt x="78" y="73"/>
                  </a:lnTo>
                  <a:lnTo>
                    <a:pt x="68" y="40"/>
                  </a:lnTo>
                  <a:lnTo>
                    <a:pt x="55" y="21"/>
                  </a:lnTo>
                  <a:lnTo>
                    <a:pt x="41" y="8"/>
                  </a:lnTo>
                  <a:close/>
                </a:path>
              </a:pathLst>
            </a:custGeom>
            <a:solidFill>
              <a:srgbClr val="dfd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5" name=""/>
            <p:cNvSpPr/>
            <p:nvPr/>
          </p:nvSpPr>
          <p:spPr>
            <a:xfrm>
              <a:off x="993600" y="5047560"/>
              <a:ext cx="38520" cy="21960"/>
            </a:xfrm>
            <a:custGeom>
              <a:avLst/>
              <a:gdLst/>
              <a:ahLst/>
              <a:rect l="l" t="t" r="r" b="b"/>
              <a:pathLst>
                <a:path w="96" h="99">
                  <a:moveTo>
                    <a:pt x="0" y="0"/>
                  </a:moveTo>
                  <a:lnTo>
                    <a:pt x="19" y="7"/>
                  </a:lnTo>
                  <a:lnTo>
                    <a:pt x="27" y="13"/>
                  </a:lnTo>
                  <a:lnTo>
                    <a:pt x="39" y="26"/>
                  </a:lnTo>
                  <a:lnTo>
                    <a:pt x="49" y="34"/>
                  </a:lnTo>
                  <a:lnTo>
                    <a:pt x="53" y="43"/>
                  </a:lnTo>
                  <a:lnTo>
                    <a:pt x="65" y="59"/>
                  </a:lnTo>
                  <a:lnTo>
                    <a:pt x="75" y="70"/>
                  </a:lnTo>
                  <a:lnTo>
                    <a:pt x="83" y="78"/>
                  </a:lnTo>
                  <a:lnTo>
                    <a:pt x="89" y="86"/>
                  </a:lnTo>
                  <a:lnTo>
                    <a:pt x="94" y="95"/>
                  </a:lnTo>
                  <a:lnTo>
                    <a:pt x="96" y="99"/>
                  </a:lnTo>
                </a:path>
              </a:pathLst>
            </a:custGeom>
            <a:noFill/>
            <a:ln w="9360">
              <a:solidFill>
                <a:srgbClr val="7f3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6" name=""/>
            <p:cNvSpPr/>
            <p:nvPr/>
          </p:nvSpPr>
          <p:spPr>
            <a:xfrm>
              <a:off x="928800" y="5032800"/>
              <a:ext cx="30960" cy="3960"/>
            </a:xfrm>
            <a:custGeom>
              <a:avLst/>
              <a:gdLst/>
              <a:ahLst/>
              <a:rect l="l" t="t" r="r" b="b"/>
              <a:pathLst>
                <a:path w="76" h="18">
                  <a:moveTo>
                    <a:pt x="76" y="6"/>
                  </a:moveTo>
                  <a:lnTo>
                    <a:pt x="54" y="0"/>
                  </a:lnTo>
                  <a:lnTo>
                    <a:pt x="34" y="0"/>
                  </a:lnTo>
                  <a:lnTo>
                    <a:pt x="24" y="0"/>
                  </a:lnTo>
                  <a:lnTo>
                    <a:pt x="10" y="5"/>
                  </a:lnTo>
                  <a:lnTo>
                    <a:pt x="5" y="11"/>
                  </a:lnTo>
                  <a:lnTo>
                    <a:pt x="0" y="18"/>
                  </a:lnTo>
                </a:path>
              </a:pathLst>
            </a:custGeom>
            <a:noFill/>
            <a:ln w="9360">
              <a:solidFill>
                <a:srgbClr val="7f3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7" name=""/>
            <p:cNvSpPr/>
            <p:nvPr/>
          </p:nvSpPr>
          <p:spPr>
            <a:xfrm>
              <a:off x="922320" y="5056200"/>
              <a:ext cx="19800" cy="3240"/>
            </a:xfrm>
            <a:custGeom>
              <a:avLst/>
              <a:gdLst/>
              <a:ahLst/>
              <a:rect l="l" t="t" r="r" b="b"/>
              <a:pathLst>
                <a:path w="50" h="16">
                  <a:moveTo>
                    <a:pt x="0" y="16"/>
                  </a:moveTo>
                  <a:lnTo>
                    <a:pt x="5" y="6"/>
                  </a:lnTo>
                  <a:lnTo>
                    <a:pt x="15" y="1"/>
                  </a:lnTo>
                  <a:lnTo>
                    <a:pt x="28" y="0"/>
                  </a:lnTo>
                  <a:lnTo>
                    <a:pt x="42" y="3"/>
                  </a:lnTo>
                  <a:lnTo>
                    <a:pt x="50" y="11"/>
                  </a:lnTo>
                </a:path>
              </a:pathLst>
            </a:custGeom>
            <a:noFill/>
            <a:ln w="9360">
              <a:solidFill>
                <a:srgbClr val="7f3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8" name=""/>
            <p:cNvSpPr/>
            <p:nvPr/>
          </p:nvSpPr>
          <p:spPr>
            <a:xfrm>
              <a:off x="919800" y="5059080"/>
              <a:ext cx="5400" cy="2160"/>
            </a:xfrm>
            <a:custGeom>
              <a:avLst/>
              <a:gdLst/>
              <a:ahLst/>
              <a:rect l="l" t="t" r="r" b="b"/>
              <a:pathLst>
                <a:path w="15" h="10">
                  <a:moveTo>
                    <a:pt x="0" y="0"/>
                  </a:moveTo>
                  <a:lnTo>
                    <a:pt x="5" y="4"/>
                  </a:lnTo>
                  <a:lnTo>
                    <a:pt x="15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7f3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9" name=""/>
            <p:cNvSpPr/>
            <p:nvPr/>
          </p:nvSpPr>
          <p:spPr>
            <a:xfrm>
              <a:off x="819720" y="5029920"/>
              <a:ext cx="140760" cy="557640"/>
            </a:xfrm>
            <a:custGeom>
              <a:avLst/>
              <a:gdLst/>
              <a:ahLst/>
              <a:rect l="l" t="t" r="r" b="b"/>
              <a:pathLst>
                <a:path w="353" h="2533">
                  <a:moveTo>
                    <a:pt x="353" y="0"/>
                  </a:moveTo>
                  <a:lnTo>
                    <a:pt x="309" y="27"/>
                  </a:lnTo>
                  <a:lnTo>
                    <a:pt x="279" y="48"/>
                  </a:lnTo>
                  <a:lnTo>
                    <a:pt x="252" y="68"/>
                  </a:lnTo>
                  <a:lnTo>
                    <a:pt x="223" y="89"/>
                  </a:lnTo>
                  <a:lnTo>
                    <a:pt x="185" y="122"/>
                  </a:lnTo>
                  <a:lnTo>
                    <a:pt x="154" y="157"/>
                  </a:lnTo>
                  <a:lnTo>
                    <a:pt x="130" y="193"/>
                  </a:lnTo>
                  <a:lnTo>
                    <a:pt x="117" y="211"/>
                  </a:lnTo>
                  <a:lnTo>
                    <a:pt x="104" y="237"/>
                  </a:lnTo>
                  <a:lnTo>
                    <a:pt x="94" y="265"/>
                  </a:lnTo>
                  <a:lnTo>
                    <a:pt x="84" y="297"/>
                  </a:lnTo>
                  <a:lnTo>
                    <a:pt x="80" y="326"/>
                  </a:lnTo>
                  <a:lnTo>
                    <a:pt x="75" y="362"/>
                  </a:lnTo>
                  <a:lnTo>
                    <a:pt x="73" y="400"/>
                  </a:lnTo>
                  <a:lnTo>
                    <a:pt x="70" y="450"/>
                  </a:lnTo>
                  <a:lnTo>
                    <a:pt x="68" y="499"/>
                  </a:lnTo>
                  <a:lnTo>
                    <a:pt x="68" y="549"/>
                  </a:lnTo>
                  <a:lnTo>
                    <a:pt x="68" y="579"/>
                  </a:lnTo>
                  <a:lnTo>
                    <a:pt x="71" y="647"/>
                  </a:lnTo>
                  <a:lnTo>
                    <a:pt x="75" y="714"/>
                  </a:lnTo>
                  <a:lnTo>
                    <a:pt x="80" y="785"/>
                  </a:lnTo>
                  <a:lnTo>
                    <a:pt x="86" y="904"/>
                  </a:lnTo>
                  <a:lnTo>
                    <a:pt x="91" y="975"/>
                  </a:lnTo>
                  <a:lnTo>
                    <a:pt x="94" y="1036"/>
                  </a:lnTo>
                  <a:lnTo>
                    <a:pt x="96" y="1166"/>
                  </a:lnTo>
                  <a:lnTo>
                    <a:pt x="60" y="1198"/>
                  </a:lnTo>
                  <a:lnTo>
                    <a:pt x="96" y="1171"/>
                  </a:lnTo>
                  <a:lnTo>
                    <a:pt x="63" y="1211"/>
                  </a:lnTo>
                  <a:lnTo>
                    <a:pt x="94" y="1177"/>
                  </a:lnTo>
                  <a:lnTo>
                    <a:pt x="78" y="1218"/>
                  </a:lnTo>
                  <a:lnTo>
                    <a:pt x="96" y="1184"/>
                  </a:lnTo>
                  <a:lnTo>
                    <a:pt x="96" y="1244"/>
                  </a:lnTo>
                  <a:lnTo>
                    <a:pt x="115" y="956"/>
                  </a:lnTo>
                  <a:lnTo>
                    <a:pt x="109" y="787"/>
                  </a:lnTo>
                  <a:lnTo>
                    <a:pt x="104" y="709"/>
                  </a:lnTo>
                  <a:lnTo>
                    <a:pt x="101" y="653"/>
                  </a:lnTo>
                  <a:lnTo>
                    <a:pt x="101" y="600"/>
                  </a:lnTo>
                  <a:lnTo>
                    <a:pt x="101" y="551"/>
                  </a:lnTo>
                  <a:lnTo>
                    <a:pt x="101" y="509"/>
                  </a:lnTo>
                  <a:lnTo>
                    <a:pt x="104" y="473"/>
                  </a:lnTo>
                  <a:lnTo>
                    <a:pt x="106" y="435"/>
                  </a:lnTo>
                  <a:lnTo>
                    <a:pt x="110" y="392"/>
                  </a:lnTo>
                  <a:lnTo>
                    <a:pt x="127" y="413"/>
                  </a:lnTo>
                  <a:lnTo>
                    <a:pt x="148" y="455"/>
                  </a:lnTo>
                  <a:lnTo>
                    <a:pt x="162" y="489"/>
                  </a:lnTo>
                  <a:lnTo>
                    <a:pt x="175" y="522"/>
                  </a:lnTo>
                  <a:lnTo>
                    <a:pt x="185" y="554"/>
                  </a:lnTo>
                  <a:lnTo>
                    <a:pt x="192" y="579"/>
                  </a:lnTo>
                  <a:lnTo>
                    <a:pt x="195" y="609"/>
                  </a:lnTo>
                  <a:lnTo>
                    <a:pt x="198" y="639"/>
                  </a:lnTo>
                  <a:lnTo>
                    <a:pt x="198" y="725"/>
                  </a:lnTo>
                  <a:lnTo>
                    <a:pt x="197" y="792"/>
                  </a:lnTo>
                  <a:lnTo>
                    <a:pt x="195" y="941"/>
                  </a:lnTo>
                  <a:lnTo>
                    <a:pt x="190" y="1182"/>
                  </a:lnTo>
                  <a:lnTo>
                    <a:pt x="184" y="1253"/>
                  </a:lnTo>
                  <a:lnTo>
                    <a:pt x="175" y="1296"/>
                  </a:lnTo>
                  <a:lnTo>
                    <a:pt x="164" y="1349"/>
                  </a:lnTo>
                  <a:lnTo>
                    <a:pt x="161" y="1362"/>
                  </a:lnTo>
                  <a:lnTo>
                    <a:pt x="135" y="1442"/>
                  </a:lnTo>
                  <a:lnTo>
                    <a:pt x="123" y="1507"/>
                  </a:lnTo>
                  <a:lnTo>
                    <a:pt x="107" y="1528"/>
                  </a:lnTo>
                  <a:lnTo>
                    <a:pt x="88" y="1545"/>
                  </a:lnTo>
                  <a:lnTo>
                    <a:pt x="62" y="1566"/>
                  </a:lnTo>
                  <a:lnTo>
                    <a:pt x="45" y="1585"/>
                  </a:lnTo>
                  <a:lnTo>
                    <a:pt x="29" y="1605"/>
                  </a:lnTo>
                  <a:lnTo>
                    <a:pt x="18" y="1624"/>
                  </a:lnTo>
                  <a:lnTo>
                    <a:pt x="10" y="1649"/>
                  </a:lnTo>
                  <a:lnTo>
                    <a:pt x="5" y="1668"/>
                  </a:lnTo>
                  <a:lnTo>
                    <a:pt x="2" y="1691"/>
                  </a:lnTo>
                  <a:lnTo>
                    <a:pt x="0" y="1722"/>
                  </a:lnTo>
                  <a:lnTo>
                    <a:pt x="2" y="1746"/>
                  </a:lnTo>
                  <a:lnTo>
                    <a:pt x="8" y="1782"/>
                  </a:lnTo>
                  <a:lnTo>
                    <a:pt x="16" y="1813"/>
                  </a:lnTo>
                  <a:lnTo>
                    <a:pt x="31" y="1849"/>
                  </a:lnTo>
                  <a:lnTo>
                    <a:pt x="50" y="1891"/>
                  </a:lnTo>
                  <a:lnTo>
                    <a:pt x="62" y="1915"/>
                  </a:lnTo>
                  <a:lnTo>
                    <a:pt x="73" y="1941"/>
                  </a:lnTo>
                  <a:lnTo>
                    <a:pt x="84" y="1961"/>
                  </a:lnTo>
                  <a:lnTo>
                    <a:pt x="89" y="1984"/>
                  </a:lnTo>
                  <a:lnTo>
                    <a:pt x="91" y="2010"/>
                  </a:lnTo>
                  <a:lnTo>
                    <a:pt x="89" y="2037"/>
                  </a:lnTo>
                  <a:lnTo>
                    <a:pt x="84" y="2156"/>
                  </a:lnTo>
                  <a:lnTo>
                    <a:pt x="83" y="2171"/>
                  </a:lnTo>
                  <a:lnTo>
                    <a:pt x="88" y="2189"/>
                  </a:lnTo>
                  <a:lnTo>
                    <a:pt x="93" y="2203"/>
                  </a:lnTo>
                  <a:lnTo>
                    <a:pt x="125" y="2299"/>
                  </a:lnTo>
                  <a:lnTo>
                    <a:pt x="127" y="2307"/>
                  </a:lnTo>
                  <a:lnTo>
                    <a:pt x="122" y="2330"/>
                  </a:lnTo>
                  <a:lnTo>
                    <a:pt x="115" y="2350"/>
                  </a:lnTo>
                  <a:lnTo>
                    <a:pt x="107" y="2364"/>
                  </a:lnTo>
                  <a:lnTo>
                    <a:pt x="76" y="2411"/>
                  </a:lnTo>
                  <a:lnTo>
                    <a:pt x="97" y="2389"/>
                  </a:lnTo>
                  <a:lnTo>
                    <a:pt x="112" y="2369"/>
                  </a:lnTo>
                  <a:lnTo>
                    <a:pt x="122" y="2355"/>
                  </a:lnTo>
                  <a:lnTo>
                    <a:pt x="128" y="2338"/>
                  </a:lnTo>
                  <a:lnTo>
                    <a:pt x="132" y="2322"/>
                  </a:lnTo>
                  <a:lnTo>
                    <a:pt x="143" y="2359"/>
                  </a:lnTo>
                  <a:lnTo>
                    <a:pt x="140" y="2376"/>
                  </a:lnTo>
                  <a:lnTo>
                    <a:pt x="128" y="2397"/>
                  </a:lnTo>
                  <a:lnTo>
                    <a:pt x="120" y="2408"/>
                  </a:lnTo>
                  <a:lnTo>
                    <a:pt x="110" y="2420"/>
                  </a:lnTo>
                  <a:lnTo>
                    <a:pt x="96" y="2433"/>
                  </a:lnTo>
                  <a:lnTo>
                    <a:pt x="55" y="2462"/>
                  </a:lnTo>
                  <a:lnTo>
                    <a:pt x="89" y="2441"/>
                  </a:lnTo>
                  <a:lnTo>
                    <a:pt x="94" y="2449"/>
                  </a:lnTo>
                  <a:lnTo>
                    <a:pt x="93" y="2486"/>
                  </a:lnTo>
                  <a:lnTo>
                    <a:pt x="99" y="2459"/>
                  </a:lnTo>
                  <a:lnTo>
                    <a:pt x="96" y="2439"/>
                  </a:lnTo>
                  <a:lnTo>
                    <a:pt x="114" y="2428"/>
                  </a:lnTo>
                  <a:lnTo>
                    <a:pt x="132" y="2410"/>
                  </a:lnTo>
                  <a:lnTo>
                    <a:pt x="141" y="2397"/>
                  </a:lnTo>
                  <a:lnTo>
                    <a:pt x="151" y="2376"/>
                  </a:lnTo>
                  <a:lnTo>
                    <a:pt x="159" y="2390"/>
                  </a:lnTo>
                  <a:lnTo>
                    <a:pt x="171" y="2416"/>
                  </a:lnTo>
                  <a:lnTo>
                    <a:pt x="164" y="2429"/>
                  </a:lnTo>
                  <a:lnTo>
                    <a:pt x="145" y="2447"/>
                  </a:lnTo>
                  <a:lnTo>
                    <a:pt x="161" y="2439"/>
                  </a:lnTo>
                  <a:lnTo>
                    <a:pt x="174" y="2428"/>
                  </a:lnTo>
                  <a:lnTo>
                    <a:pt x="221" y="2533"/>
                  </a:lnTo>
                  <a:lnTo>
                    <a:pt x="167" y="2384"/>
                  </a:lnTo>
                  <a:lnTo>
                    <a:pt x="149" y="2342"/>
                  </a:lnTo>
                  <a:lnTo>
                    <a:pt x="143" y="2325"/>
                  </a:lnTo>
                  <a:lnTo>
                    <a:pt x="140" y="2307"/>
                  </a:lnTo>
                  <a:lnTo>
                    <a:pt x="130" y="2276"/>
                  </a:lnTo>
                  <a:lnTo>
                    <a:pt x="107" y="2205"/>
                  </a:lnTo>
                  <a:lnTo>
                    <a:pt x="101" y="2181"/>
                  </a:lnTo>
                  <a:lnTo>
                    <a:pt x="97" y="2163"/>
                  </a:lnTo>
                  <a:lnTo>
                    <a:pt x="97" y="2146"/>
                  </a:lnTo>
                  <a:lnTo>
                    <a:pt x="107" y="2033"/>
                  </a:lnTo>
                  <a:lnTo>
                    <a:pt x="110" y="2008"/>
                  </a:lnTo>
                  <a:lnTo>
                    <a:pt x="107" y="1984"/>
                  </a:lnTo>
                  <a:lnTo>
                    <a:pt x="104" y="1961"/>
                  </a:lnTo>
                  <a:lnTo>
                    <a:pt x="96" y="1943"/>
                  </a:lnTo>
                  <a:lnTo>
                    <a:pt x="83" y="1915"/>
                  </a:lnTo>
                  <a:lnTo>
                    <a:pt x="71" y="1893"/>
                  </a:lnTo>
                  <a:lnTo>
                    <a:pt x="58" y="1867"/>
                  </a:lnTo>
                  <a:lnTo>
                    <a:pt x="45" y="1834"/>
                  </a:lnTo>
                  <a:lnTo>
                    <a:pt x="34" y="1808"/>
                  </a:lnTo>
                  <a:lnTo>
                    <a:pt x="28" y="1782"/>
                  </a:lnTo>
                  <a:lnTo>
                    <a:pt x="21" y="1745"/>
                  </a:lnTo>
                  <a:lnTo>
                    <a:pt x="21" y="1717"/>
                  </a:lnTo>
                  <a:lnTo>
                    <a:pt x="23" y="1691"/>
                  </a:lnTo>
                  <a:lnTo>
                    <a:pt x="28" y="1667"/>
                  </a:lnTo>
                  <a:lnTo>
                    <a:pt x="32" y="1645"/>
                  </a:lnTo>
                  <a:lnTo>
                    <a:pt x="41" y="1628"/>
                  </a:lnTo>
                  <a:lnTo>
                    <a:pt x="52" y="1610"/>
                  </a:lnTo>
                  <a:lnTo>
                    <a:pt x="63" y="1595"/>
                  </a:lnTo>
                  <a:lnTo>
                    <a:pt x="83" y="1579"/>
                  </a:lnTo>
                  <a:lnTo>
                    <a:pt x="104" y="1561"/>
                  </a:lnTo>
                  <a:lnTo>
                    <a:pt x="128" y="1538"/>
                  </a:lnTo>
                  <a:lnTo>
                    <a:pt x="136" y="1761"/>
                  </a:lnTo>
                  <a:lnTo>
                    <a:pt x="120" y="1771"/>
                  </a:lnTo>
                  <a:lnTo>
                    <a:pt x="107" y="1780"/>
                  </a:lnTo>
                  <a:lnTo>
                    <a:pt x="96" y="1793"/>
                  </a:lnTo>
                  <a:lnTo>
                    <a:pt x="86" y="1808"/>
                  </a:lnTo>
                  <a:lnTo>
                    <a:pt x="78" y="1828"/>
                  </a:lnTo>
                  <a:lnTo>
                    <a:pt x="70" y="1858"/>
                  </a:lnTo>
                  <a:lnTo>
                    <a:pt x="88" y="1824"/>
                  </a:lnTo>
                  <a:lnTo>
                    <a:pt x="102" y="1803"/>
                  </a:lnTo>
                  <a:lnTo>
                    <a:pt x="117" y="1789"/>
                  </a:lnTo>
                  <a:lnTo>
                    <a:pt x="130" y="1780"/>
                  </a:lnTo>
                  <a:lnTo>
                    <a:pt x="140" y="1777"/>
                  </a:lnTo>
                  <a:lnTo>
                    <a:pt x="136" y="1795"/>
                  </a:lnTo>
                  <a:lnTo>
                    <a:pt x="154" y="2145"/>
                  </a:lnTo>
                  <a:lnTo>
                    <a:pt x="154" y="2174"/>
                  </a:lnTo>
                  <a:lnTo>
                    <a:pt x="156" y="2213"/>
                  </a:lnTo>
                  <a:lnTo>
                    <a:pt x="161" y="2281"/>
                  </a:lnTo>
                  <a:lnTo>
                    <a:pt x="171" y="2350"/>
                  </a:lnTo>
                  <a:lnTo>
                    <a:pt x="166" y="2215"/>
                  </a:lnTo>
                  <a:lnTo>
                    <a:pt x="171" y="2185"/>
                  </a:lnTo>
                  <a:lnTo>
                    <a:pt x="185" y="2187"/>
                  </a:lnTo>
                  <a:lnTo>
                    <a:pt x="167" y="2179"/>
                  </a:lnTo>
                  <a:lnTo>
                    <a:pt x="167" y="2141"/>
                  </a:lnTo>
                  <a:lnTo>
                    <a:pt x="161" y="1954"/>
                  </a:lnTo>
                  <a:lnTo>
                    <a:pt x="164" y="1937"/>
                  </a:lnTo>
                  <a:lnTo>
                    <a:pt x="192" y="1937"/>
                  </a:lnTo>
                  <a:lnTo>
                    <a:pt x="161" y="1930"/>
                  </a:lnTo>
                  <a:lnTo>
                    <a:pt x="154" y="1639"/>
                  </a:lnTo>
                  <a:lnTo>
                    <a:pt x="156" y="1538"/>
                  </a:lnTo>
                  <a:lnTo>
                    <a:pt x="153" y="1497"/>
                  </a:lnTo>
                  <a:lnTo>
                    <a:pt x="159" y="1436"/>
                  </a:lnTo>
                  <a:lnTo>
                    <a:pt x="182" y="1366"/>
                  </a:lnTo>
                  <a:lnTo>
                    <a:pt x="187" y="1351"/>
                  </a:lnTo>
                  <a:lnTo>
                    <a:pt x="200" y="1289"/>
                  </a:lnTo>
                  <a:lnTo>
                    <a:pt x="206" y="1249"/>
                  </a:lnTo>
                  <a:lnTo>
                    <a:pt x="213" y="1193"/>
                  </a:lnTo>
                  <a:lnTo>
                    <a:pt x="218" y="985"/>
                  </a:lnTo>
                  <a:lnTo>
                    <a:pt x="223" y="795"/>
                  </a:lnTo>
                  <a:lnTo>
                    <a:pt x="223" y="738"/>
                  </a:lnTo>
                  <a:lnTo>
                    <a:pt x="224" y="642"/>
                  </a:lnTo>
                  <a:lnTo>
                    <a:pt x="223" y="608"/>
                  </a:lnTo>
                  <a:lnTo>
                    <a:pt x="219" y="575"/>
                  </a:lnTo>
                  <a:lnTo>
                    <a:pt x="213" y="543"/>
                  </a:lnTo>
                  <a:lnTo>
                    <a:pt x="206" y="518"/>
                  </a:lnTo>
                  <a:lnTo>
                    <a:pt x="198" y="492"/>
                  </a:lnTo>
                  <a:lnTo>
                    <a:pt x="184" y="457"/>
                  </a:lnTo>
                  <a:lnTo>
                    <a:pt x="164" y="416"/>
                  </a:lnTo>
                  <a:lnTo>
                    <a:pt x="146" y="383"/>
                  </a:lnTo>
                  <a:lnTo>
                    <a:pt x="130" y="356"/>
                  </a:lnTo>
                  <a:lnTo>
                    <a:pt x="125" y="326"/>
                  </a:lnTo>
                  <a:lnTo>
                    <a:pt x="127" y="304"/>
                  </a:lnTo>
                  <a:lnTo>
                    <a:pt x="135" y="281"/>
                  </a:lnTo>
                  <a:lnTo>
                    <a:pt x="148" y="248"/>
                  </a:lnTo>
                  <a:lnTo>
                    <a:pt x="161" y="226"/>
                  </a:lnTo>
                  <a:lnTo>
                    <a:pt x="174" y="206"/>
                  </a:lnTo>
                  <a:lnTo>
                    <a:pt x="200" y="172"/>
                  </a:lnTo>
                  <a:lnTo>
                    <a:pt x="231" y="141"/>
                  </a:lnTo>
                  <a:lnTo>
                    <a:pt x="270" y="112"/>
                  </a:lnTo>
                  <a:lnTo>
                    <a:pt x="304" y="87"/>
                  </a:lnTo>
                  <a:lnTo>
                    <a:pt x="348" y="56"/>
                  </a:lnTo>
                  <a:lnTo>
                    <a:pt x="353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0" name=""/>
            <p:cNvSpPr/>
            <p:nvPr/>
          </p:nvSpPr>
          <p:spPr>
            <a:xfrm>
              <a:off x="794160" y="5135760"/>
              <a:ext cx="59040" cy="155880"/>
            </a:xfrm>
            <a:custGeom>
              <a:avLst/>
              <a:gdLst/>
              <a:ahLst/>
              <a:rect l="l" t="t" r="r" b="b"/>
              <a:pathLst>
                <a:path w="149" h="708">
                  <a:moveTo>
                    <a:pt x="146" y="0"/>
                  </a:moveTo>
                  <a:lnTo>
                    <a:pt x="115" y="21"/>
                  </a:lnTo>
                  <a:lnTo>
                    <a:pt x="99" y="36"/>
                  </a:lnTo>
                  <a:lnTo>
                    <a:pt x="84" y="49"/>
                  </a:lnTo>
                  <a:lnTo>
                    <a:pt x="71" y="67"/>
                  </a:lnTo>
                  <a:lnTo>
                    <a:pt x="59" y="88"/>
                  </a:lnTo>
                  <a:lnTo>
                    <a:pt x="49" y="111"/>
                  </a:lnTo>
                  <a:lnTo>
                    <a:pt x="39" y="132"/>
                  </a:lnTo>
                  <a:lnTo>
                    <a:pt x="28" y="152"/>
                  </a:lnTo>
                  <a:lnTo>
                    <a:pt x="18" y="166"/>
                  </a:lnTo>
                  <a:lnTo>
                    <a:pt x="10" y="184"/>
                  </a:lnTo>
                  <a:lnTo>
                    <a:pt x="5" y="204"/>
                  </a:lnTo>
                  <a:lnTo>
                    <a:pt x="2" y="226"/>
                  </a:lnTo>
                  <a:lnTo>
                    <a:pt x="0" y="249"/>
                  </a:lnTo>
                  <a:lnTo>
                    <a:pt x="2" y="272"/>
                  </a:lnTo>
                  <a:lnTo>
                    <a:pt x="10" y="329"/>
                  </a:lnTo>
                  <a:lnTo>
                    <a:pt x="8" y="270"/>
                  </a:lnTo>
                  <a:lnTo>
                    <a:pt x="8" y="249"/>
                  </a:lnTo>
                  <a:lnTo>
                    <a:pt x="11" y="223"/>
                  </a:lnTo>
                  <a:lnTo>
                    <a:pt x="15" y="204"/>
                  </a:lnTo>
                  <a:lnTo>
                    <a:pt x="23" y="181"/>
                  </a:lnTo>
                  <a:lnTo>
                    <a:pt x="34" y="165"/>
                  </a:lnTo>
                  <a:lnTo>
                    <a:pt x="42" y="155"/>
                  </a:lnTo>
                  <a:lnTo>
                    <a:pt x="34" y="199"/>
                  </a:lnTo>
                  <a:lnTo>
                    <a:pt x="33" y="220"/>
                  </a:lnTo>
                  <a:lnTo>
                    <a:pt x="28" y="256"/>
                  </a:lnTo>
                  <a:lnTo>
                    <a:pt x="29" y="313"/>
                  </a:lnTo>
                  <a:lnTo>
                    <a:pt x="31" y="365"/>
                  </a:lnTo>
                  <a:lnTo>
                    <a:pt x="33" y="407"/>
                  </a:lnTo>
                  <a:lnTo>
                    <a:pt x="33" y="438"/>
                  </a:lnTo>
                  <a:lnTo>
                    <a:pt x="34" y="461"/>
                  </a:lnTo>
                  <a:lnTo>
                    <a:pt x="36" y="483"/>
                  </a:lnTo>
                  <a:lnTo>
                    <a:pt x="42" y="508"/>
                  </a:lnTo>
                  <a:lnTo>
                    <a:pt x="47" y="605"/>
                  </a:lnTo>
                  <a:lnTo>
                    <a:pt x="54" y="545"/>
                  </a:lnTo>
                  <a:lnTo>
                    <a:pt x="54" y="511"/>
                  </a:lnTo>
                  <a:lnTo>
                    <a:pt x="50" y="490"/>
                  </a:lnTo>
                  <a:lnTo>
                    <a:pt x="47" y="467"/>
                  </a:lnTo>
                  <a:lnTo>
                    <a:pt x="47" y="443"/>
                  </a:lnTo>
                  <a:lnTo>
                    <a:pt x="67" y="492"/>
                  </a:lnTo>
                  <a:lnTo>
                    <a:pt x="86" y="537"/>
                  </a:lnTo>
                  <a:lnTo>
                    <a:pt x="93" y="561"/>
                  </a:lnTo>
                  <a:lnTo>
                    <a:pt x="97" y="592"/>
                  </a:lnTo>
                  <a:lnTo>
                    <a:pt x="99" y="623"/>
                  </a:lnTo>
                  <a:lnTo>
                    <a:pt x="101" y="649"/>
                  </a:lnTo>
                  <a:lnTo>
                    <a:pt x="110" y="708"/>
                  </a:lnTo>
                  <a:lnTo>
                    <a:pt x="106" y="633"/>
                  </a:lnTo>
                  <a:lnTo>
                    <a:pt x="106" y="604"/>
                  </a:lnTo>
                  <a:lnTo>
                    <a:pt x="106" y="581"/>
                  </a:lnTo>
                  <a:lnTo>
                    <a:pt x="104" y="560"/>
                  </a:lnTo>
                  <a:lnTo>
                    <a:pt x="99" y="544"/>
                  </a:lnTo>
                  <a:lnTo>
                    <a:pt x="96" y="529"/>
                  </a:lnTo>
                  <a:lnTo>
                    <a:pt x="89" y="513"/>
                  </a:lnTo>
                  <a:lnTo>
                    <a:pt x="80" y="487"/>
                  </a:lnTo>
                  <a:lnTo>
                    <a:pt x="62" y="446"/>
                  </a:lnTo>
                  <a:lnTo>
                    <a:pt x="55" y="425"/>
                  </a:lnTo>
                  <a:lnTo>
                    <a:pt x="52" y="409"/>
                  </a:lnTo>
                  <a:lnTo>
                    <a:pt x="49" y="361"/>
                  </a:lnTo>
                  <a:lnTo>
                    <a:pt x="47" y="301"/>
                  </a:lnTo>
                  <a:lnTo>
                    <a:pt x="47" y="264"/>
                  </a:lnTo>
                  <a:lnTo>
                    <a:pt x="50" y="220"/>
                  </a:lnTo>
                  <a:lnTo>
                    <a:pt x="55" y="182"/>
                  </a:lnTo>
                  <a:lnTo>
                    <a:pt x="65" y="143"/>
                  </a:lnTo>
                  <a:lnTo>
                    <a:pt x="75" y="116"/>
                  </a:lnTo>
                  <a:lnTo>
                    <a:pt x="89" y="87"/>
                  </a:lnTo>
                  <a:lnTo>
                    <a:pt x="104" y="69"/>
                  </a:lnTo>
                  <a:lnTo>
                    <a:pt x="123" y="51"/>
                  </a:lnTo>
                  <a:lnTo>
                    <a:pt x="149" y="33"/>
                  </a:lnTo>
                  <a:lnTo>
                    <a:pt x="14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1" name=""/>
            <p:cNvSpPr/>
            <p:nvPr/>
          </p:nvSpPr>
          <p:spPr>
            <a:xfrm>
              <a:off x="949680" y="5027760"/>
              <a:ext cx="140760" cy="557640"/>
            </a:xfrm>
            <a:custGeom>
              <a:avLst/>
              <a:gdLst/>
              <a:ahLst/>
              <a:rect l="l" t="t" r="r" b="b"/>
              <a:pathLst>
                <a:path w="353" h="2534">
                  <a:moveTo>
                    <a:pt x="0" y="0"/>
                  </a:moveTo>
                  <a:lnTo>
                    <a:pt x="44" y="27"/>
                  </a:lnTo>
                  <a:lnTo>
                    <a:pt x="73" y="49"/>
                  </a:lnTo>
                  <a:lnTo>
                    <a:pt x="101" y="68"/>
                  </a:lnTo>
                  <a:lnTo>
                    <a:pt x="130" y="89"/>
                  </a:lnTo>
                  <a:lnTo>
                    <a:pt x="168" y="122"/>
                  </a:lnTo>
                  <a:lnTo>
                    <a:pt x="199" y="158"/>
                  </a:lnTo>
                  <a:lnTo>
                    <a:pt x="223" y="193"/>
                  </a:lnTo>
                  <a:lnTo>
                    <a:pt x="236" y="211"/>
                  </a:lnTo>
                  <a:lnTo>
                    <a:pt x="249" y="237"/>
                  </a:lnTo>
                  <a:lnTo>
                    <a:pt x="259" y="265"/>
                  </a:lnTo>
                  <a:lnTo>
                    <a:pt x="268" y="297"/>
                  </a:lnTo>
                  <a:lnTo>
                    <a:pt x="273" y="327"/>
                  </a:lnTo>
                  <a:lnTo>
                    <a:pt x="278" y="362"/>
                  </a:lnTo>
                  <a:lnTo>
                    <a:pt x="280" y="400"/>
                  </a:lnTo>
                  <a:lnTo>
                    <a:pt x="283" y="450"/>
                  </a:lnTo>
                  <a:lnTo>
                    <a:pt x="285" y="499"/>
                  </a:lnTo>
                  <a:lnTo>
                    <a:pt x="285" y="550"/>
                  </a:lnTo>
                  <a:lnTo>
                    <a:pt x="285" y="579"/>
                  </a:lnTo>
                  <a:lnTo>
                    <a:pt x="281" y="647"/>
                  </a:lnTo>
                  <a:lnTo>
                    <a:pt x="278" y="714"/>
                  </a:lnTo>
                  <a:lnTo>
                    <a:pt x="273" y="785"/>
                  </a:lnTo>
                  <a:lnTo>
                    <a:pt x="267" y="904"/>
                  </a:lnTo>
                  <a:lnTo>
                    <a:pt x="262" y="976"/>
                  </a:lnTo>
                  <a:lnTo>
                    <a:pt x="259" y="1036"/>
                  </a:lnTo>
                  <a:lnTo>
                    <a:pt x="257" y="1166"/>
                  </a:lnTo>
                  <a:lnTo>
                    <a:pt x="293" y="1198"/>
                  </a:lnTo>
                  <a:lnTo>
                    <a:pt x="257" y="1171"/>
                  </a:lnTo>
                  <a:lnTo>
                    <a:pt x="290" y="1211"/>
                  </a:lnTo>
                  <a:lnTo>
                    <a:pt x="259" y="1177"/>
                  </a:lnTo>
                  <a:lnTo>
                    <a:pt x="275" y="1218"/>
                  </a:lnTo>
                  <a:lnTo>
                    <a:pt x="257" y="1184"/>
                  </a:lnTo>
                  <a:lnTo>
                    <a:pt x="257" y="1244"/>
                  </a:lnTo>
                  <a:lnTo>
                    <a:pt x="238" y="956"/>
                  </a:lnTo>
                  <a:lnTo>
                    <a:pt x="244" y="787"/>
                  </a:lnTo>
                  <a:lnTo>
                    <a:pt x="249" y="709"/>
                  </a:lnTo>
                  <a:lnTo>
                    <a:pt x="252" y="654"/>
                  </a:lnTo>
                  <a:lnTo>
                    <a:pt x="252" y="600"/>
                  </a:lnTo>
                  <a:lnTo>
                    <a:pt x="252" y="551"/>
                  </a:lnTo>
                  <a:lnTo>
                    <a:pt x="252" y="509"/>
                  </a:lnTo>
                  <a:lnTo>
                    <a:pt x="249" y="473"/>
                  </a:lnTo>
                  <a:lnTo>
                    <a:pt x="247" y="436"/>
                  </a:lnTo>
                  <a:lnTo>
                    <a:pt x="242" y="392"/>
                  </a:lnTo>
                  <a:lnTo>
                    <a:pt x="226" y="413"/>
                  </a:lnTo>
                  <a:lnTo>
                    <a:pt x="205" y="455"/>
                  </a:lnTo>
                  <a:lnTo>
                    <a:pt x="190" y="489"/>
                  </a:lnTo>
                  <a:lnTo>
                    <a:pt x="177" y="522"/>
                  </a:lnTo>
                  <a:lnTo>
                    <a:pt x="168" y="554"/>
                  </a:lnTo>
                  <a:lnTo>
                    <a:pt x="161" y="579"/>
                  </a:lnTo>
                  <a:lnTo>
                    <a:pt x="158" y="610"/>
                  </a:lnTo>
                  <a:lnTo>
                    <a:pt x="155" y="639"/>
                  </a:lnTo>
                  <a:lnTo>
                    <a:pt x="155" y="725"/>
                  </a:lnTo>
                  <a:lnTo>
                    <a:pt x="156" y="792"/>
                  </a:lnTo>
                  <a:lnTo>
                    <a:pt x="158" y="941"/>
                  </a:lnTo>
                  <a:lnTo>
                    <a:pt x="163" y="1182"/>
                  </a:lnTo>
                  <a:lnTo>
                    <a:pt x="169" y="1254"/>
                  </a:lnTo>
                  <a:lnTo>
                    <a:pt x="177" y="1296"/>
                  </a:lnTo>
                  <a:lnTo>
                    <a:pt x="189" y="1350"/>
                  </a:lnTo>
                  <a:lnTo>
                    <a:pt x="192" y="1363"/>
                  </a:lnTo>
                  <a:lnTo>
                    <a:pt x="218" y="1442"/>
                  </a:lnTo>
                  <a:lnTo>
                    <a:pt x="229" y="1507"/>
                  </a:lnTo>
                  <a:lnTo>
                    <a:pt x="246" y="1529"/>
                  </a:lnTo>
                  <a:lnTo>
                    <a:pt x="265" y="1545"/>
                  </a:lnTo>
                  <a:lnTo>
                    <a:pt x="291" y="1566"/>
                  </a:lnTo>
                  <a:lnTo>
                    <a:pt x="307" y="1586"/>
                  </a:lnTo>
                  <a:lnTo>
                    <a:pt x="324" y="1605"/>
                  </a:lnTo>
                  <a:lnTo>
                    <a:pt x="335" y="1625"/>
                  </a:lnTo>
                  <a:lnTo>
                    <a:pt x="343" y="1649"/>
                  </a:lnTo>
                  <a:lnTo>
                    <a:pt x="348" y="1668"/>
                  </a:lnTo>
                  <a:lnTo>
                    <a:pt x="351" y="1691"/>
                  </a:lnTo>
                  <a:lnTo>
                    <a:pt x="353" y="1722"/>
                  </a:lnTo>
                  <a:lnTo>
                    <a:pt x="351" y="1747"/>
                  </a:lnTo>
                  <a:lnTo>
                    <a:pt x="345" y="1782"/>
                  </a:lnTo>
                  <a:lnTo>
                    <a:pt x="337" y="1813"/>
                  </a:lnTo>
                  <a:lnTo>
                    <a:pt x="322" y="1849"/>
                  </a:lnTo>
                  <a:lnTo>
                    <a:pt x="303" y="1891"/>
                  </a:lnTo>
                  <a:lnTo>
                    <a:pt x="291" y="1916"/>
                  </a:lnTo>
                  <a:lnTo>
                    <a:pt x="280" y="1942"/>
                  </a:lnTo>
                  <a:lnTo>
                    <a:pt x="268" y="1961"/>
                  </a:lnTo>
                  <a:lnTo>
                    <a:pt x="264" y="1984"/>
                  </a:lnTo>
                  <a:lnTo>
                    <a:pt x="262" y="2010"/>
                  </a:lnTo>
                  <a:lnTo>
                    <a:pt x="264" y="2038"/>
                  </a:lnTo>
                  <a:lnTo>
                    <a:pt x="268" y="2156"/>
                  </a:lnTo>
                  <a:lnTo>
                    <a:pt x="270" y="2171"/>
                  </a:lnTo>
                  <a:lnTo>
                    <a:pt x="265" y="2189"/>
                  </a:lnTo>
                  <a:lnTo>
                    <a:pt x="260" y="2204"/>
                  </a:lnTo>
                  <a:lnTo>
                    <a:pt x="228" y="2299"/>
                  </a:lnTo>
                  <a:lnTo>
                    <a:pt x="226" y="2308"/>
                  </a:lnTo>
                  <a:lnTo>
                    <a:pt x="231" y="2330"/>
                  </a:lnTo>
                  <a:lnTo>
                    <a:pt x="238" y="2350"/>
                  </a:lnTo>
                  <a:lnTo>
                    <a:pt x="246" y="2365"/>
                  </a:lnTo>
                  <a:lnTo>
                    <a:pt x="277" y="2412"/>
                  </a:lnTo>
                  <a:lnTo>
                    <a:pt x="255" y="2389"/>
                  </a:lnTo>
                  <a:lnTo>
                    <a:pt x="241" y="2369"/>
                  </a:lnTo>
                  <a:lnTo>
                    <a:pt x="231" y="2355"/>
                  </a:lnTo>
                  <a:lnTo>
                    <a:pt x="225" y="2339"/>
                  </a:lnTo>
                  <a:lnTo>
                    <a:pt x="221" y="2322"/>
                  </a:lnTo>
                  <a:lnTo>
                    <a:pt x="210" y="2360"/>
                  </a:lnTo>
                  <a:lnTo>
                    <a:pt x="213" y="2376"/>
                  </a:lnTo>
                  <a:lnTo>
                    <a:pt x="225" y="2397"/>
                  </a:lnTo>
                  <a:lnTo>
                    <a:pt x="233" y="2408"/>
                  </a:lnTo>
                  <a:lnTo>
                    <a:pt x="242" y="2420"/>
                  </a:lnTo>
                  <a:lnTo>
                    <a:pt x="257" y="2433"/>
                  </a:lnTo>
                  <a:lnTo>
                    <a:pt x="298" y="2462"/>
                  </a:lnTo>
                  <a:lnTo>
                    <a:pt x="264" y="2441"/>
                  </a:lnTo>
                  <a:lnTo>
                    <a:pt x="259" y="2449"/>
                  </a:lnTo>
                  <a:lnTo>
                    <a:pt x="260" y="2487"/>
                  </a:lnTo>
                  <a:lnTo>
                    <a:pt x="254" y="2459"/>
                  </a:lnTo>
                  <a:lnTo>
                    <a:pt x="257" y="2439"/>
                  </a:lnTo>
                  <a:lnTo>
                    <a:pt x="239" y="2428"/>
                  </a:lnTo>
                  <a:lnTo>
                    <a:pt x="221" y="2410"/>
                  </a:lnTo>
                  <a:lnTo>
                    <a:pt x="212" y="2397"/>
                  </a:lnTo>
                  <a:lnTo>
                    <a:pt x="202" y="2376"/>
                  </a:lnTo>
                  <a:lnTo>
                    <a:pt x="194" y="2391"/>
                  </a:lnTo>
                  <a:lnTo>
                    <a:pt x="182" y="2417"/>
                  </a:lnTo>
                  <a:lnTo>
                    <a:pt x="189" y="2430"/>
                  </a:lnTo>
                  <a:lnTo>
                    <a:pt x="208" y="2447"/>
                  </a:lnTo>
                  <a:lnTo>
                    <a:pt x="192" y="2439"/>
                  </a:lnTo>
                  <a:lnTo>
                    <a:pt x="179" y="2428"/>
                  </a:lnTo>
                  <a:lnTo>
                    <a:pt x="132" y="2534"/>
                  </a:lnTo>
                  <a:lnTo>
                    <a:pt x="186" y="2384"/>
                  </a:lnTo>
                  <a:lnTo>
                    <a:pt x="203" y="2342"/>
                  </a:lnTo>
                  <a:lnTo>
                    <a:pt x="210" y="2326"/>
                  </a:lnTo>
                  <a:lnTo>
                    <a:pt x="213" y="2308"/>
                  </a:lnTo>
                  <a:lnTo>
                    <a:pt x="223" y="2277"/>
                  </a:lnTo>
                  <a:lnTo>
                    <a:pt x="246" y="2205"/>
                  </a:lnTo>
                  <a:lnTo>
                    <a:pt x="252" y="2181"/>
                  </a:lnTo>
                  <a:lnTo>
                    <a:pt x="255" y="2163"/>
                  </a:lnTo>
                  <a:lnTo>
                    <a:pt x="255" y="2147"/>
                  </a:lnTo>
                  <a:lnTo>
                    <a:pt x="246" y="2033"/>
                  </a:lnTo>
                  <a:lnTo>
                    <a:pt x="242" y="2008"/>
                  </a:lnTo>
                  <a:lnTo>
                    <a:pt x="246" y="1984"/>
                  </a:lnTo>
                  <a:lnTo>
                    <a:pt x="249" y="1961"/>
                  </a:lnTo>
                  <a:lnTo>
                    <a:pt x="257" y="1943"/>
                  </a:lnTo>
                  <a:lnTo>
                    <a:pt x="270" y="1916"/>
                  </a:lnTo>
                  <a:lnTo>
                    <a:pt x="281" y="1893"/>
                  </a:lnTo>
                  <a:lnTo>
                    <a:pt x="294" y="1867"/>
                  </a:lnTo>
                  <a:lnTo>
                    <a:pt x="307" y="1834"/>
                  </a:lnTo>
                  <a:lnTo>
                    <a:pt x="319" y="1808"/>
                  </a:lnTo>
                  <a:lnTo>
                    <a:pt x="325" y="1782"/>
                  </a:lnTo>
                  <a:lnTo>
                    <a:pt x="332" y="1745"/>
                  </a:lnTo>
                  <a:lnTo>
                    <a:pt x="332" y="1717"/>
                  </a:lnTo>
                  <a:lnTo>
                    <a:pt x="330" y="1691"/>
                  </a:lnTo>
                  <a:lnTo>
                    <a:pt x="325" y="1667"/>
                  </a:lnTo>
                  <a:lnTo>
                    <a:pt x="320" y="1646"/>
                  </a:lnTo>
                  <a:lnTo>
                    <a:pt x="312" y="1628"/>
                  </a:lnTo>
                  <a:lnTo>
                    <a:pt x="301" y="1610"/>
                  </a:lnTo>
                  <a:lnTo>
                    <a:pt x="290" y="1595"/>
                  </a:lnTo>
                  <a:lnTo>
                    <a:pt x="270" y="1579"/>
                  </a:lnTo>
                  <a:lnTo>
                    <a:pt x="249" y="1561"/>
                  </a:lnTo>
                  <a:lnTo>
                    <a:pt x="225" y="1538"/>
                  </a:lnTo>
                  <a:lnTo>
                    <a:pt x="216" y="1761"/>
                  </a:lnTo>
                  <a:lnTo>
                    <a:pt x="233" y="1771"/>
                  </a:lnTo>
                  <a:lnTo>
                    <a:pt x="246" y="1781"/>
                  </a:lnTo>
                  <a:lnTo>
                    <a:pt x="257" y="1794"/>
                  </a:lnTo>
                  <a:lnTo>
                    <a:pt x="267" y="1808"/>
                  </a:lnTo>
                  <a:lnTo>
                    <a:pt x="275" y="1828"/>
                  </a:lnTo>
                  <a:lnTo>
                    <a:pt x="283" y="1859"/>
                  </a:lnTo>
                  <a:lnTo>
                    <a:pt x="265" y="1825"/>
                  </a:lnTo>
                  <a:lnTo>
                    <a:pt x="251" y="1803"/>
                  </a:lnTo>
                  <a:lnTo>
                    <a:pt x="236" y="1789"/>
                  </a:lnTo>
                  <a:lnTo>
                    <a:pt x="223" y="1781"/>
                  </a:lnTo>
                  <a:lnTo>
                    <a:pt x="213" y="1777"/>
                  </a:lnTo>
                  <a:lnTo>
                    <a:pt x="216" y="1795"/>
                  </a:lnTo>
                  <a:lnTo>
                    <a:pt x="199" y="2145"/>
                  </a:lnTo>
                  <a:lnTo>
                    <a:pt x="199" y="2174"/>
                  </a:lnTo>
                  <a:lnTo>
                    <a:pt x="197" y="2213"/>
                  </a:lnTo>
                  <a:lnTo>
                    <a:pt x="192" y="2282"/>
                  </a:lnTo>
                  <a:lnTo>
                    <a:pt x="182" y="2350"/>
                  </a:lnTo>
                  <a:lnTo>
                    <a:pt x="187" y="2215"/>
                  </a:lnTo>
                  <a:lnTo>
                    <a:pt x="182" y="2186"/>
                  </a:lnTo>
                  <a:lnTo>
                    <a:pt x="168" y="2187"/>
                  </a:lnTo>
                  <a:lnTo>
                    <a:pt x="186" y="2179"/>
                  </a:lnTo>
                  <a:lnTo>
                    <a:pt x="186" y="2142"/>
                  </a:lnTo>
                  <a:lnTo>
                    <a:pt x="192" y="1955"/>
                  </a:lnTo>
                  <a:lnTo>
                    <a:pt x="189" y="1937"/>
                  </a:lnTo>
                  <a:lnTo>
                    <a:pt x="161" y="1937"/>
                  </a:lnTo>
                  <a:lnTo>
                    <a:pt x="192" y="1930"/>
                  </a:lnTo>
                  <a:lnTo>
                    <a:pt x="199" y="1639"/>
                  </a:lnTo>
                  <a:lnTo>
                    <a:pt x="197" y="1538"/>
                  </a:lnTo>
                  <a:lnTo>
                    <a:pt x="200" y="1498"/>
                  </a:lnTo>
                  <a:lnTo>
                    <a:pt x="194" y="1436"/>
                  </a:lnTo>
                  <a:lnTo>
                    <a:pt x="171" y="1366"/>
                  </a:lnTo>
                  <a:lnTo>
                    <a:pt x="166" y="1351"/>
                  </a:lnTo>
                  <a:lnTo>
                    <a:pt x="153" y="1290"/>
                  </a:lnTo>
                  <a:lnTo>
                    <a:pt x="147" y="1249"/>
                  </a:lnTo>
                  <a:lnTo>
                    <a:pt x="140" y="1194"/>
                  </a:lnTo>
                  <a:lnTo>
                    <a:pt x="135" y="985"/>
                  </a:lnTo>
                  <a:lnTo>
                    <a:pt x="130" y="795"/>
                  </a:lnTo>
                  <a:lnTo>
                    <a:pt x="130" y="738"/>
                  </a:lnTo>
                  <a:lnTo>
                    <a:pt x="129" y="642"/>
                  </a:lnTo>
                  <a:lnTo>
                    <a:pt x="130" y="608"/>
                  </a:lnTo>
                  <a:lnTo>
                    <a:pt x="134" y="576"/>
                  </a:lnTo>
                  <a:lnTo>
                    <a:pt x="140" y="543"/>
                  </a:lnTo>
                  <a:lnTo>
                    <a:pt x="147" y="519"/>
                  </a:lnTo>
                  <a:lnTo>
                    <a:pt x="155" y="493"/>
                  </a:lnTo>
                  <a:lnTo>
                    <a:pt x="169" y="457"/>
                  </a:lnTo>
                  <a:lnTo>
                    <a:pt x="189" y="416"/>
                  </a:lnTo>
                  <a:lnTo>
                    <a:pt x="207" y="384"/>
                  </a:lnTo>
                  <a:lnTo>
                    <a:pt x="223" y="356"/>
                  </a:lnTo>
                  <a:lnTo>
                    <a:pt x="228" y="327"/>
                  </a:lnTo>
                  <a:lnTo>
                    <a:pt x="226" y="304"/>
                  </a:lnTo>
                  <a:lnTo>
                    <a:pt x="218" y="281"/>
                  </a:lnTo>
                  <a:lnTo>
                    <a:pt x="205" y="249"/>
                  </a:lnTo>
                  <a:lnTo>
                    <a:pt x="192" y="226"/>
                  </a:lnTo>
                  <a:lnTo>
                    <a:pt x="179" y="206"/>
                  </a:lnTo>
                  <a:lnTo>
                    <a:pt x="153" y="172"/>
                  </a:lnTo>
                  <a:lnTo>
                    <a:pt x="122" y="141"/>
                  </a:lnTo>
                  <a:lnTo>
                    <a:pt x="83" y="112"/>
                  </a:lnTo>
                  <a:lnTo>
                    <a:pt x="49" y="88"/>
                  </a:lnTo>
                  <a:lnTo>
                    <a:pt x="5" y="5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2" name=""/>
            <p:cNvSpPr/>
            <p:nvPr/>
          </p:nvSpPr>
          <p:spPr>
            <a:xfrm>
              <a:off x="1056960" y="5133600"/>
              <a:ext cx="59400" cy="155880"/>
            </a:xfrm>
            <a:custGeom>
              <a:avLst/>
              <a:gdLst/>
              <a:ahLst/>
              <a:rect l="l" t="t" r="r" b="b"/>
              <a:pathLst>
                <a:path w="150" h="707">
                  <a:moveTo>
                    <a:pt x="4" y="0"/>
                  </a:moveTo>
                  <a:lnTo>
                    <a:pt x="35" y="21"/>
                  </a:lnTo>
                  <a:lnTo>
                    <a:pt x="51" y="35"/>
                  </a:lnTo>
                  <a:lnTo>
                    <a:pt x="65" y="48"/>
                  </a:lnTo>
                  <a:lnTo>
                    <a:pt x="78" y="66"/>
                  </a:lnTo>
                  <a:lnTo>
                    <a:pt x="91" y="87"/>
                  </a:lnTo>
                  <a:lnTo>
                    <a:pt x="101" y="110"/>
                  </a:lnTo>
                  <a:lnTo>
                    <a:pt x="111" y="131"/>
                  </a:lnTo>
                  <a:lnTo>
                    <a:pt x="122" y="151"/>
                  </a:lnTo>
                  <a:lnTo>
                    <a:pt x="132" y="165"/>
                  </a:lnTo>
                  <a:lnTo>
                    <a:pt x="140" y="183"/>
                  </a:lnTo>
                  <a:lnTo>
                    <a:pt x="145" y="203"/>
                  </a:lnTo>
                  <a:lnTo>
                    <a:pt x="148" y="226"/>
                  </a:lnTo>
                  <a:lnTo>
                    <a:pt x="150" y="248"/>
                  </a:lnTo>
                  <a:lnTo>
                    <a:pt x="148" y="271"/>
                  </a:lnTo>
                  <a:lnTo>
                    <a:pt x="140" y="328"/>
                  </a:lnTo>
                  <a:lnTo>
                    <a:pt x="142" y="270"/>
                  </a:lnTo>
                  <a:lnTo>
                    <a:pt x="142" y="248"/>
                  </a:lnTo>
                  <a:lnTo>
                    <a:pt x="138" y="222"/>
                  </a:lnTo>
                  <a:lnTo>
                    <a:pt x="135" y="203"/>
                  </a:lnTo>
                  <a:lnTo>
                    <a:pt x="127" y="180"/>
                  </a:lnTo>
                  <a:lnTo>
                    <a:pt x="116" y="164"/>
                  </a:lnTo>
                  <a:lnTo>
                    <a:pt x="108" y="154"/>
                  </a:lnTo>
                  <a:lnTo>
                    <a:pt x="116" y="198"/>
                  </a:lnTo>
                  <a:lnTo>
                    <a:pt x="117" y="219"/>
                  </a:lnTo>
                  <a:lnTo>
                    <a:pt x="122" y="255"/>
                  </a:lnTo>
                  <a:lnTo>
                    <a:pt x="121" y="312"/>
                  </a:lnTo>
                  <a:lnTo>
                    <a:pt x="119" y="364"/>
                  </a:lnTo>
                  <a:lnTo>
                    <a:pt x="117" y="406"/>
                  </a:lnTo>
                  <a:lnTo>
                    <a:pt x="117" y="437"/>
                  </a:lnTo>
                  <a:lnTo>
                    <a:pt x="116" y="460"/>
                  </a:lnTo>
                  <a:lnTo>
                    <a:pt x="114" y="483"/>
                  </a:lnTo>
                  <a:lnTo>
                    <a:pt x="108" y="507"/>
                  </a:lnTo>
                  <a:lnTo>
                    <a:pt x="103" y="605"/>
                  </a:lnTo>
                  <a:lnTo>
                    <a:pt x="96" y="544"/>
                  </a:lnTo>
                  <a:lnTo>
                    <a:pt x="96" y="510"/>
                  </a:lnTo>
                  <a:lnTo>
                    <a:pt x="99" y="489"/>
                  </a:lnTo>
                  <a:lnTo>
                    <a:pt x="103" y="466"/>
                  </a:lnTo>
                  <a:lnTo>
                    <a:pt x="103" y="442"/>
                  </a:lnTo>
                  <a:lnTo>
                    <a:pt x="83" y="491"/>
                  </a:lnTo>
                  <a:lnTo>
                    <a:pt x="64" y="536"/>
                  </a:lnTo>
                  <a:lnTo>
                    <a:pt x="57" y="561"/>
                  </a:lnTo>
                  <a:lnTo>
                    <a:pt x="52" y="592"/>
                  </a:lnTo>
                  <a:lnTo>
                    <a:pt x="51" y="622"/>
                  </a:lnTo>
                  <a:lnTo>
                    <a:pt x="49" y="649"/>
                  </a:lnTo>
                  <a:lnTo>
                    <a:pt x="39" y="707"/>
                  </a:lnTo>
                  <a:lnTo>
                    <a:pt x="44" y="632"/>
                  </a:lnTo>
                  <a:lnTo>
                    <a:pt x="44" y="603"/>
                  </a:lnTo>
                  <a:lnTo>
                    <a:pt x="44" y="580"/>
                  </a:lnTo>
                  <a:lnTo>
                    <a:pt x="46" y="559"/>
                  </a:lnTo>
                  <a:lnTo>
                    <a:pt x="51" y="543"/>
                  </a:lnTo>
                  <a:lnTo>
                    <a:pt x="54" y="528"/>
                  </a:lnTo>
                  <a:lnTo>
                    <a:pt x="61" y="512"/>
                  </a:lnTo>
                  <a:lnTo>
                    <a:pt x="70" y="486"/>
                  </a:lnTo>
                  <a:lnTo>
                    <a:pt x="88" y="445"/>
                  </a:lnTo>
                  <a:lnTo>
                    <a:pt x="95" y="424"/>
                  </a:lnTo>
                  <a:lnTo>
                    <a:pt x="98" y="408"/>
                  </a:lnTo>
                  <a:lnTo>
                    <a:pt x="101" y="361"/>
                  </a:lnTo>
                  <a:lnTo>
                    <a:pt x="103" y="300"/>
                  </a:lnTo>
                  <a:lnTo>
                    <a:pt x="103" y="263"/>
                  </a:lnTo>
                  <a:lnTo>
                    <a:pt x="99" y="219"/>
                  </a:lnTo>
                  <a:lnTo>
                    <a:pt x="95" y="182"/>
                  </a:lnTo>
                  <a:lnTo>
                    <a:pt x="85" y="143"/>
                  </a:lnTo>
                  <a:lnTo>
                    <a:pt x="75" y="115"/>
                  </a:lnTo>
                  <a:lnTo>
                    <a:pt x="61" y="86"/>
                  </a:lnTo>
                  <a:lnTo>
                    <a:pt x="46" y="68"/>
                  </a:lnTo>
                  <a:lnTo>
                    <a:pt x="26" y="50"/>
                  </a:lnTo>
                  <a:lnTo>
                    <a:pt x="0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3" name=""/>
            <p:cNvSpPr/>
            <p:nvPr/>
          </p:nvSpPr>
          <p:spPr>
            <a:xfrm>
              <a:off x="906120" y="4775400"/>
              <a:ext cx="83160" cy="271080"/>
            </a:xfrm>
            <a:custGeom>
              <a:avLst/>
              <a:gdLst/>
              <a:ahLst/>
              <a:rect l="l" t="t" r="r" b="b"/>
              <a:pathLst>
                <a:path w="208" h="1231">
                  <a:moveTo>
                    <a:pt x="101" y="49"/>
                  </a:moveTo>
                  <a:lnTo>
                    <a:pt x="101" y="363"/>
                  </a:lnTo>
                  <a:lnTo>
                    <a:pt x="93" y="568"/>
                  </a:lnTo>
                  <a:lnTo>
                    <a:pt x="76" y="582"/>
                  </a:lnTo>
                  <a:lnTo>
                    <a:pt x="60" y="586"/>
                  </a:lnTo>
                  <a:lnTo>
                    <a:pt x="50" y="581"/>
                  </a:lnTo>
                  <a:lnTo>
                    <a:pt x="44" y="574"/>
                  </a:lnTo>
                  <a:lnTo>
                    <a:pt x="23" y="550"/>
                  </a:lnTo>
                  <a:lnTo>
                    <a:pt x="0" y="565"/>
                  </a:lnTo>
                  <a:lnTo>
                    <a:pt x="21" y="594"/>
                  </a:lnTo>
                  <a:lnTo>
                    <a:pt x="33" y="604"/>
                  </a:lnTo>
                  <a:lnTo>
                    <a:pt x="46" y="610"/>
                  </a:lnTo>
                  <a:lnTo>
                    <a:pt x="57" y="613"/>
                  </a:lnTo>
                  <a:lnTo>
                    <a:pt x="70" y="615"/>
                  </a:lnTo>
                  <a:lnTo>
                    <a:pt x="81" y="612"/>
                  </a:lnTo>
                  <a:lnTo>
                    <a:pt x="93" y="605"/>
                  </a:lnTo>
                  <a:lnTo>
                    <a:pt x="93" y="625"/>
                  </a:lnTo>
                  <a:lnTo>
                    <a:pt x="23" y="625"/>
                  </a:lnTo>
                  <a:lnTo>
                    <a:pt x="21" y="651"/>
                  </a:lnTo>
                  <a:lnTo>
                    <a:pt x="91" y="651"/>
                  </a:lnTo>
                  <a:lnTo>
                    <a:pt x="91" y="825"/>
                  </a:lnTo>
                  <a:lnTo>
                    <a:pt x="91" y="1222"/>
                  </a:lnTo>
                  <a:lnTo>
                    <a:pt x="145" y="1231"/>
                  </a:lnTo>
                  <a:lnTo>
                    <a:pt x="145" y="1109"/>
                  </a:lnTo>
                  <a:lnTo>
                    <a:pt x="150" y="836"/>
                  </a:lnTo>
                  <a:lnTo>
                    <a:pt x="193" y="900"/>
                  </a:lnTo>
                  <a:lnTo>
                    <a:pt x="208" y="870"/>
                  </a:lnTo>
                  <a:lnTo>
                    <a:pt x="151" y="804"/>
                  </a:lnTo>
                  <a:lnTo>
                    <a:pt x="151" y="652"/>
                  </a:lnTo>
                  <a:lnTo>
                    <a:pt x="182" y="649"/>
                  </a:lnTo>
                  <a:lnTo>
                    <a:pt x="177" y="625"/>
                  </a:lnTo>
                  <a:lnTo>
                    <a:pt x="148" y="623"/>
                  </a:lnTo>
                  <a:lnTo>
                    <a:pt x="150" y="319"/>
                  </a:lnTo>
                  <a:lnTo>
                    <a:pt x="150" y="0"/>
                  </a:lnTo>
                  <a:lnTo>
                    <a:pt x="101" y="49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4" name=""/>
            <p:cNvSpPr/>
            <p:nvPr/>
          </p:nvSpPr>
          <p:spPr>
            <a:xfrm>
              <a:off x="967320" y="4608360"/>
              <a:ext cx="47160" cy="156960"/>
            </a:xfrm>
            <a:custGeom>
              <a:avLst/>
              <a:gdLst/>
              <a:ahLst/>
              <a:rect l="l" t="t" r="r" b="b"/>
              <a:pathLst>
                <a:path w="117" h="714">
                  <a:moveTo>
                    <a:pt x="0" y="699"/>
                  </a:moveTo>
                  <a:lnTo>
                    <a:pt x="5" y="636"/>
                  </a:lnTo>
                  <a:lnTo>
                    <a:pt x="8" y="577"/>
                  </a:lnTo>
                  <a:lnTo>
                    <a:pt x="18" y="484"/>
                  </a:lnTo>
                  <a:lnTo>
                    <a:pt x="23" y="440"/>
                  </a:lnTo>
                  <a:lnTo>
                    <a:pt x="29" y="401"/>
                  </a:lnTo>
                  <a:lnTo>
                    <a:pt x="42" y="336"/>
                  </a:lnTo>
                  <a:lnTo>
                    <a:pt x="47" y="299"/>
                  </a:lnTo>
                  <a:lnTo>
                    <a:pt x="47" y="268"/>
                  </a:lnTo>
                  <a:lnTo>
                    <a:pt x="49" y="206"/>
                  </a:lnTo>
                  <a:lnTo>
                    <a:pt x="45" y="172"/>
                  </a:lnTo>
                  <a:lnTo>
                    <a:pt x="44" y="140"/>
                  </a:lnTo>
                  <a:lnTo>
                    <a:pt x="39" y="118"/>
                  </a:lnTo>
                  <a:lnTo>
                    <a:pt x="29" y="99"/>
                  </a:lnTo>
                  <a:lnTo>
                    <a:pt x="10" y="58"/>
                  </a:lnTo>
                  <a:lnTo>
                    <a:pt x="0" y="39"/>
                  </a:lnTo>
                  <a:lnTo>
                    <a:pt x="19" y="68"/>
                  </a:lnTo>
                  <a:lnTo>
                    <a:pt x="29" y="88"/>
                  </a:lnTo>
                  <a:lnTo>
                    <a:pt x="39" y="94"/>
                  </a:lnTo>
                  <a:lnTo>
                    <a:pt x="47" y="86"/>
                  </a:lnTo>
                  <a:lnTo>
                    <a:pt x="63" y="52"/>
                  </a:lnTo>
                  <a:lnTo>
                    <a:pt x="73" y="35"/>
                  </a:lnTo>
                  <a:lnTo>
                    <a:pt x="84" y="21"/>
                  </a:lnTo>
                  <a:lnTo>
                    <a:pt x="117" y="0"/>
                  </a:lnTo>
                  <a:lnTo>
                    <a:pt x="86" y="26"/>
                  </a:lnTo>
                  <a:lnTo>
                    <a:pt x="75" y="42"/>
                  </a:lnTo>
                  <a:lnTo>
                    <a:pt x="63" y="68"/>
                  </a:lnTo>
                  <a:lnTo>
                    <a:pt x="58" y="89"/>
                  </a:lnTo>
                  <a:lnTo>
                    <a:pt x="55" y="117"/>
                  </a:lnTo>
                  <a:lnTo>
                    <a:pt x="58" y="143"/>
                  </a:lnTo>
                  <a:lnTo>
                    <a:pt x="60" y="177"/>
                  </a:lnTo>
                  <a:lnTo>
                    <a:pt x="63" y="236"/>
                  </a:lnTo>
                  <a:lnTo>
                    <a:pt x="63" y="273"/>
                  </a:lnTo>
                  <a:lnTo>
                    <a:pt x="63" y="309"/>
                  </a:lnTo>
                  <a:lnTo>
                    <a:pt x="62" y="343"/>
                  </a:lnTo>
                  <a:lnTo>
                    <a:pt x="57" y="397"/>
                  </a:lnTo>
                  <a:lnTo>
                    <a:pt x="49" y="450"/>
                  </a:lnTo>
                  <a:lnTo>
                    <a:pt x="42" y="509"/>
                  </a:lnTo>
                  <a:lnTo>
                    <a:pt x="34" y="577"/>
                  </a:lnTo>
                  <a:lnTo>
                    <a:pt x="32" y="629"/>
                  </a:lnTo>
                  <a:lnTo>
                    <a:pt x="29" y="688"/>
                  </a:lnTo>
                  <a:lnTo>
                    <a:pt x="27" y="714"/>
                  </a:lnTo>
                  <a:lnTo>
                    <a:pt x="0" y="699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5" name=""/>
            <p:cNvSpPr/>
            <p:nvPr/>
          </p:nvSpPr>
          <p:spPr>
            <a:xfrm>
              <a:off x="998640" y="5308560"/>
              <a:ext cx="81360" cy="46080"/>
            </a:xfrm>
            <a:custGeom>
              <a:avLst/>
              <a:gdLst/>
              <a:ahLst/>
              <a:rect l="l" t="t" r="r" b="b"/>
              <a:pathLst>
                <a:path w="205" h="210">
                  <a:moveTo>
                    <a:pt x="26" y="0"/>
                  </a:moveTo>
                  <a:lnTo>
                    <a:pt x="59" y="44"/>
                  </a:lnTo>
                  <a:lnTo>
                    <a:pt x="80" y="51"/>
                  </a:lnTo>
                  <a:lnTo>
                    <a:pt x="98" y="54"/>
                  </a:lnTo>
                  <a:lnTo>
                    <a:pt x="119" y="49"/>
                  </a:lnTo>
                  <a:lnTo>
                    <a:pt x="133" y="41"/>
                  </a:lnTo>
                  <a:lnTo>
                    <a:pt x="158" y="34"/>
                  </a:lnTo>
                  <a:lnTo>
                    <a:pt x="171" y="36"/>
                  </a:lnTo>
                  <a:lnTo>
                    <a:pt x="182" y="43"/>
                  </a:lnTo>
                  <a:lnTo>
                    <a:pt x="194" y="51"/>
                  </a:lnTo>
                  <a:lnTo>
                    <a:pt x="202" y="64"/>
                  </a:lnTo>
                  <a:lnTo>
                    <a:pt x="203" y="78"/>
                  </a:lnTo>
                  <a:lnTo>
                    <a:pt x="205" y="93"/>
                  </a:lnTo>
                  <a:lnTo>
                    <a:pt x="202" y="109"/>
                  </a:lnTo>
                  <a:lnTo>
                    <a:pt x="195" y="122"/>
                  </a:lnTo>
                  <a:lnTo>
                    <a:pt x="181" y="132"/>
                  </a:lnTo>
                  <a:lnTo>
                    <a:pt x="163" y="137"/>
                  </a:lnTo>
                  <a:lnTo>
                    <a:pt x="143" y="137"/>
                  </a:lnTo>
                  <a:lnTo>
                    <a:pt x="125" y="127"/>
                  </a:lnTo>
                  <a:lnTo>
                    <a:pt x="122" y="116"/>
                  </a:lnTo>
                  <a:lnTo>
                    <a:pt x="117" y="88"/>
                  </a:lnTo>
                  <a:lnTo>
                    <a:pt x="117" y="124"/>
                  </a:lnTo>
                  <a:lnTo>
                    <a:pt x="114" y="138"/>
                  </a:lnTo>
                  <a:lnTo>
                    <a:pt x="133" y="135"/>
                  </a:lnTo>
                  <a:lnTo>
                    <a:pt x="156" y="143"/>
                  </a:lnTo>
                  <a:lnTo>
                    <a:pt x="172" y="160"/>
                  </a:lnTo>
                  <a:lnTo>
                    <a:pt x="182" y="182"/>
                  </a:lnTo>
                  <a:lnTo>
                    <a:pt x="181" y="197"/>
                  </a:lnTo>
                  <a:lnTo>
                    <a:pt x="169" y="210"/>
                  </a:lnTo>
                  <a:lnTo>
                    <a:pt x="155" y="210"/>
                  </a:lnTo>
                  <a:lnTo>
                    <a:pt x="132" y="202"/>
                  </a:lnTo>
                  <a:lnTo>
                    <a:pt x="107" y="194"/>
                  </a:lnTo>
                  <a:lnTo>
                    <a:pt x="85" y="189"/>
                  </a:lnTo>
                  <a:lnTo>
                    <a:pt x="60" y="191"/>
                  </a:lnTo>
                  <a:lnTo>
                    <a:pt x="38" y="187"/>
                  </a:lnTo>
                  <a:lnTo>
                    <a:pt x="23" y="182"/>
                  </a:lnTo>
                  <a:lnTo>
                    <a:pt x="10" y="173"/>
                  </a:lnTo>
                  <a:lnTo>
                    <a:pt x="3" y="156"/>
                  </a:lnTo>
                  <a:lnTo>
                    <a:pt x="2" y="137"/>
                  </a:lnTo>
                  <a:lnTo>
                    <a:pt x="7" y="114"/>
                  </a:lnTo>
                  <a:lnTo>
                    <a:pt x="7" y="82"/>
                  </a:lnTo>
                  <a:lnTo>
                    <a:pt x="0" y="54"/>
                  </a:lnTo>
                  <a:lnTo>
                    <a:pt x="7" y="21"/>
                  </a:lnTo>
                  <a:lnTo>
                    <a:pt x="0" y="54"/>
                  </a:lnTo>
                  <a:lnTo>
                    <a:pt x="8" y="80"/>
                  </a:lnTo>
                  <a:lnTo>
                    <a:pt x="10" y="98"/>
                  </a:lnTo>
                  <a:lnTo>
                    <a:pt x="13" y="108"/>
                  </a:lnTo>
                  <a:lnTo>
                    <a:pt x="23" y="117"/>
                  </a:lnTo>
                  <a:lnTo>
                    <a:pt x="39" y="119"/>
                  </a:lnTo>
                  <a:lnTo>
                    <a:pt x="57" y="117"/>
                  </a:lnTo>
                  <a:lnTo>
                    <a:pt x="77" y="111"/>
                  </a:lnTo>
                </a:path>
              </a:pathLst>
            </a:custGeom>
            <a:noFill/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6" name=""/>
            <p:cNvSpPr/>
            <p:nvPr/>
          </p:nvSpPr>
          <p:spPr>
            <a:xfrm>
              <a:off x="826920" y="5309640"/>
              <a:ext cx="81720" cy="45720"/>
            </a:xfrm>
            <a:custGeom>
              <a:avLst/>
              <a:gdLst/>
              <a:ahLst/>
              <a:rect l="l" t="t" r="r" b="b"/>
              <a:pathLst>
                <a:path w="205" h="210">
                  <a:moveTo>
                    <a:pt x="179" y="0"/>
                  </a:moveTo>
                  <a:lnTo>
                    <a:pt x="146" y="44"/>
                  </a:lnTo>
                  <a:lnTo>
                    <a:pt x="125" y="51"/>
                  </a:lnTo>
                  <a:lnTo>
                    <a:pt x="107" y="54"/>
                  </a:lnTo>
                  <a:lnTo>
                    <a:pt x="86" y="49"/>
                  </a:lnTo>
                  <a:lnTo>
                    <a:pt x="71" y="41"/>
                  </a:lnTo>
                  <a:lnTo>
                    <a:pt x="47" y="34"/>
                  </a:lnTo>
                  <a:lnTo>
                    <a:pt x="34" y="36"/>
                  </a:lnTo>
                  <a:lnTo>
                    <a:pt x="23" y="42"/>
                  </a:lnTo>
                  <a:lnTo>
                    <a:pt x="11" y="51"/>
                  </a:lnTo>
                  <a:lnTo>
                    <a:pt x="3" y="64"/>
                  </a:lnTo>
                  <a:lnTo>
                    <a:pt x="1" y="78"/>
                  </a:lnTo>
                  <a:lnTo>
                    <a:pt x="0" y="93"/>
                  </a:lnTo>
                  <a:lnTo>
                    <a:pt x="3" y="111"/>
                  </a:lnTo>
                  <a:lnTo>
                    <a:pt x="10" y="122"/>
                  </a:lnTo>
                  <a:lnTo>
                    <a:pt x="24" y="132"/>
                  </a:lnTo>
                  <a:lnTo>
                    <a:pt x="42" y="137"/>
                  </a:lnTo>
                  <a:lnTo>
                    <a:pt x="62" y="137"/>
                  </a:lnTo>
                  <a:lnTo>
                    <a:pt x="79" y="127"/>
                  </a:lnTo>
                  <a:lnTo>
                    <a:pt x="83" y="116"/>
                  </a:lnTo>
                  <a:lnTo>
                    <a:pt x="88" y="88"/>
                  </a:lnTo>
                  <a:lnTo>
                    <a:pt x="88" y="124"/>
                  </a:lnTo>
                  <a:lnTo>
                    <a:pt x="91" y="138"/>
                  </a:lnTo>
                  <a:lnTo>
                    <a:pt x="71" y="135"/>
                  </a:lnTo>
                  <a:lnTo>
                    <a:pt x="49" y="143"/>
                  </a:lnTo>
                  <a:lnTo>
                    <a:pt x="32" y="160"/>
                  </a:lnTo>
                  <a:lnTo>
                    <a:pt x="23" y="182"/>
                  </a:lnTo>
                  <a:lnTo>
                    <a:pt x="24" y="197"/>
                  </a:lnTo>
                  <a:lnTo>
                    <a:pt x="36" y="210"/>
                  </a:lnTo>
                  <a:lnTo>
                    <a:pt x="50" y="210"/>
                  </a:lnTo>
                  <a:lnTo>
                    <a:pt x="73" y="202"/>
                  </a:lnTo>
                  <a:lnTo>
                    <a:pt x="97" y="194"/>
                  </a:lnTo>
                  <a:lnTo>
                    <a:pt x="120" y="189"/>
                  </a:lnTo>
                  <a:lnTo>
                    <a:pt x="144" y="190"/>
                  </a:lnTo>
                  <a:lnTo>
                    <a:pt x="167" y="187"/>
                  </a:lnTo>
                  <a:lnTo>
                    <a:pt x="182" y="182"/>
                  </a:lnTo>
                  <a:lnTo>
                    <a:pt x="195" y="173"/>
                  </a:lnTo>
                  <a:lnTo>
                    <a:pt x="201" y="156"/>
                  </a:lnTo>
                  <a:lnTo>
                    <a:pt x="203" y="137"/>
                  </a:lnTo>
                  <a:lnTo>
                    <a:pt x="198" y="114"/>
                  </a:lnTo>
                  <a:lnTo>
                    <a:pt x="198" y="81"/>
                  </a:lnTo>
                  <a:lnTo>
                    <a:pt x="205" y="54"/>
                  </a:lnTo>
                  <a:lnTo>
                    <a:pt x="198" y="21"/>
                  </a:lnTo>
                  <a:lnTo>
                    <a:pt x="205" y="54"/>
                  </a:lnTo>
                  <a:lnTo>
                    <a:pt x="196" y="80"/>
                  </a:lnTo>
                  <a:lnTo>
                    <a:pt x="195" y="98"/>
                  </a:lnTo>
                  <a:lnTo>
                    <a:pt x="192" y="109"/>
                  </a:lnTo>
                  <a:lnTo>
                    <a:pt x="182" y="117"/>
                  </a:lnTo>
                  <a:lnTo>
                    <a:pt x="166" y="119"/>
                  </a:lnTo>
                  <a:lnTo>
                    <a:pt x="148" y="117"/>
                  </a:lnTo>
                  <a:lnTo>
                    <a:pt x="128" y="112"/>
                  </a:lnTo>
                </a:path>
              </a:pathLst>
            </a:custGeom>
            <a:noFill/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7" name=""/>
            <p:cNvSpPr/>
            <p:nvPr/>
          </p:nvSpPr>
          <p:spPr>
            <a:xfrm>
              <a:off x="975960" y="4707720"/>
              <a:ext cx="355680" cy="381960"/>
            </a:xfrm>
            <a:custGeom>
              <a:avLst/>
              <a:gdLst/>
              <a:ahLst/>
              <a:rect l="l" t="t" r="r" b="b"/>
              <a:pathLst>
                <a:path w="887" h="1735">
                  <a:moveTo>
                    <a:pt x="83" y="3"/>
                  </a:moveTo>
                  <a:lnTo>
                    <a:pt x="109" y="0"/>
                  </a:lnTo>
                  <a:lnTo>
                    <a:pt x="151" y="8"/>
                  </a:lnTo>
                  <a:lnTo>
                    <a:pt x="184" y="18"/>
                  </a:lnTo>
                  <a:lnTo>
                    <a:pt x="213" y="31"/>
                  </a:lnTo>
                  <a:lnTo>
                    <a:pt x="232" y="39"/>
                  </a:lnTo>
                  <a:lnTo>
                    <a:pt x="258" y="54"/>
                  </a:lnTo>
                  <a:lnTo>
                    <a:pt x="292" y="73"/>
                  </a:lnTo>
                  <a:lnTo>
                    <a:pt x="326" y="93"/>
                  </a:lnTo>
                  <a:lnTo>
                    <a:pt x="344" y="104"/>
                  </a:lnTo>
                  <a:lnTo>
                    <a:pt x="357" y="106"/>
                  </a:lnTo>
                  <a:lnTo>
                    <a:pt x="398" y="101"/>
                  </a:lnTo>
                  <a:lnTo>
                    <a:pt x="432" y="97"/>
                  </a:lnTo>
                  <a:lnTo>
                    <a:pt x="453" y="97"/>
                  </a:lnTo>
                  <a:lnTo>
                    <a:pt x="473" y="97"/>
                  </a:lnTo>
                  <a:lnTo>
                    <a:pt x="487" y="97"/>
                  </a:lnTo>
                  <a:lnTo>
                    <a:pt x="512" y="102"/>
                  </a:lnTo>
                  <a:lnTo>
                    <a:pt x="528" y="110"/>
                  </a:lnTo>
                  <a:lnTo>
                    <a:pt x="547" y="127"/>
                  </a:lnTo>
                  <a:lnTo>
                    <a:pt x="531" y="117"/>
                  </a:lnTo>
                  <a:lnTo>
                    <a:pt x="518" y="112"/>
                  </a:lnTo>
                  <a:lnTo>
                    <a:pt x="504" y="110"/>
                  </a:lnTo>
                  <a:lnTo>
                    <a:pt x="499" y="119"/>
                  </a:lnTo>
                  <a:lnTo>
                    <a:pt x="497" y="133"/>
                  </a:lnTo>
                  <a:lnTo>
                    <a:pt x="502" y="148"/>
                  </a:lnTo>
                  <a:lnTo>
                    <a:pt x="512" y="166"/>
                  </a:lnTo>
                  <a:lnTo>
                    <a:pt x="500" y="153"/>
                  </a:lnTo>
                  <a:lnTo>
                    <a:pt x="494" y="141"/>
                  </a:lnTo>
                  <a:lnTo>
                    <a:pt x="489" y="125"/>
                  </a:lnTo>
                  <a:lnTo>
                    <a:pt x="491" y="112"/>
                  </a:lnTo>
                  <a:lnTo>
                    <a:pt x="482" y="107"/>
                  </a:lnTo>
                  <a:lnTo>
                    <a:pt x="465" y="106"/>
                  </a:lnTo>
                  <a:lnTo>
                    <a:pt x="445" y="106"/>
                  </a:lnTo>
                  <a:lnTo>
                    <a:pt x="422" y="106"/>
                  </a:lnTo>
                  <a:lnTo>
                    <a:pt x="388" y="110"/>
                  </a:lnTo>
                  <a:lnTo>
                    <a:pt x="364" y="117"/>
                  </a:lnTo>
                  <a:lnTo>
                    <a:pt x="387" y="133"/>
                  </a:lnTo>
                  <a:lnTo>
                    <a:pt x="422" y="158"/>
                  </a:lnTo>
                  <a:lnTo>
                    <a:pt x="447" y="177"/>
                  </a:lnTo>
                  <a:lnTo>
                    <a:pt x="463" y="192"/>
                  </a:lnTo>
                  <a:lnTo>
                    <a:pt x="478" y="210"/>
                  </a:lnTo>
                  <a:lnTo>
                    <a:pt x="489" y="224"/>
                  </a:lnTo>
                  <a:lnTo>
                    <a:pt x="502" y="244"/>
                  </a:lnTo>
                  <a:lnTo>
                    <a:pt x="512" y="263"/>
                  </a:lnTo>
                  <a:lnTo>
                    <a:pt x="551" y="249"/>
                  </a:lnTo>
                  <a:lnTo>
                    <a:pt x="560" y="226"/>
                  </a:lnTo>
                  <a:lnTo>
                    <a:pt x="569" y="211"/>
                  </a:lnTo>
                  <a:lnTo>
                    <a:pt x="565" y="228"/>
                  </a:lnTo>
                  <a:lnTo>
                    <a:pt x="562" y="247"/>
                  </a:lnTo>
                  <a:lnTo>
                    <a:pt x="573" y="257"/>
                  </a:lnTo>
                  <a:lnTo>
                    <a:pt x="591" y="262"/>
                  </a:lnTo>
                  <a:lnTo>
                    <a:pt x="611" y="262"/>
                  </a:lnTo>
                  <a:lnTo>
                    <a:pt x="591" y="267"/>
                  </a:lnTo>
                  <a:lnTo>
                    <a:pt x="578" y="267"/>
                  </a:lnTo>
                  <a:lnTo>
                    <a:pt x="565" y="260"/>
                  </a:lnTo>
                  <a:lnTo>
                    <a:pt x="557" y="254"/>
                  </a:lnTo>
                  <a:lnTo>
                    <a:pt x="538" y="262"/>
                  </a:lnTo>
                  <a:lnTo>
                    <a:pt x="517" y="271"/>
                  </a:lnTo>
                  <a:lnTo>
                    <a:pt x="523" y="289"/>
                  </a:lnTo>
                  <a:lnTo>
                    <a:pt x="533" y="314"/>
                  </a:lnTo>
                  <a:lnTo>
                    <a:pt x="543" y="343"/>
                  </a:lnTo>
                  <a:lnTo>
                    <a:pt x="556" y="390"/>
                  </a:lnTo>
                  <a:lnTo>
                    <a:pt x="572" y="389"/>
                  </a:lnTo>
                  <a:lnTo>
                    <a:pt x="590" y="390"/>
                  </a:lnTo>
                  <a:lnTo>
                    <a:pt x="606" y="397"/>
                  </a:lnTo>
                  <a:lnTo>
                    <a:pt x="619" y="403"/>
                  </a:lnTo>
                  <a:lnTo>
                    <a:pt x="630" y="421"/>
                  </a:lnTo>
                  <a:lnTo>
                    <a:pt x="616" y="406"/>
                  </a:lnTo>
                  <a:lnTo>
                    <a:pt x="601" y="400"/>
                  </a:lnTo>
                  <a:lnTo>
                    <a:pt x="593" y="397"/>
                  </a:lnTo>
                  <a:lnTo>
                    <a:pt x="577" y="395"/>
                  </a:lnTo>
                  <a:lnTo>
                    <a:pt x="559" y="402"/>
                  </a:lnTo>
                  <a:lnTo>
                    <a:pt x="565" y="429"/>
                  </a:lnTo>
                  <a:lnTo>
                    <a:pt x="588" y="444"/>
                  </a:lnTo>
                  <a:lnTo>
                    <a:pt x="601" y="457"/>
                  </a:lnTo>
                  <a:lnTo>
                    <a:pt x="614" y="476"/>
                  </a:lnTo>
                  <a:lnTo>
                    <a:pt x="625" y="497"/>
                  </a:lnTo>
                  <a:lnTo>
                    <a:pt x="637" y="527"/>
                  </a:lnTo>
                  <a:lnTo>
                    <a:pt x="647" y="561"/>
                  </a:lnTo>
                  <a:lnTo>
                    <a:pt x="656" y="600"/>
                  </a:lnTo>
                  <a:lnTo>
                    <a:pt x="666" y="642"/>
                  </a:lnTo>
                  <a:lnTo>
                    <a:pt x="684" y="642"/>
                  </a:lnTo>
                  <a:lnTo>
                    <a:pt x="700" y="650"/>
                  </a:lnTo>
                  <a:lnTo>
                    <a:pt x="713" y="662"/>
                  </a:lnTo>
                  <a:lnTo>
                    <a:pt x="723" y="676"/>
                  </a:lnTo>
                  <a:lnTo>
                    <a:pt x="734" y="701"/>
                  </a:lnTo>
                  <a:lnTo>
                    <a:pt x="744" y="733"/>
                  </a:lnTo>
                  <a:lnTo>
                    <a:pt x="736" y="712"/>
                  </a:lnTo>
                  <a:lnTo>
                    <a:pt x="726" y="696"/>
                  </a:lnTo>
                  <a:lnTo>
                    <a:pt x="715" y="678"/>
                  </a:lnTo>
                  <a:lnTo>
                    <a:pt x="707" y="667"/>
                  </a:lnTo>
                  <a:lnTo>
                    <a:pt x="695" y="659"/>
                  </a:lnTo>
                  <a:lnTo>
                    <a:pt x="681" y="652"/>
                  </a:lnTo>
                  <a:lnTo>
                    <a:pt x="669" y="654"/>
                  </a:lnTo>
                  <a:lnTo>
                    <a:pt x="673" y="683"/>
                  </a:lnTo>
                  <a:lnTo>
                    <a:pt x="676" y="709"/>
                  </a:lnTo>
                  <a:lnTo>
                    <a:pt x="679" y="733"/>
                  </a:lnTo>
                  <a:lnTo>
                    <a:pt x="682" y="767"/>
                  </a:lnTo>
                  <a:lnTo>
                    <a:pt x="684" y="802"/>
                  </a:lnTo>
                  <a:lnTo>
                    <a:pt x="692" y="818"/>
                  </a:lnTo>
                  <a:lnTo>
                    <a:pt x="720" y="839"/>
                  </a:lnTo>
                  <a:lnTo>
                    <a:pt x="689" y="821"/>
                  </a:lnTo>
                  <a:lnTo>
                    <a:pt x="681" y="810"/>
                  </a:lnTo>
                  <a:lnTo>
                    <a:pt x="673" y="823"/>
                  </a:lnTo>
                  <a:lnTo>
                    <a:pt x="664" y="855"/>
                  </a:lnTo>
                  <a:lnTo>
                    <a:pt x="669" y="828"/>
                  </a:lnTo>
                  <a:lnTo>
                    <a:pt x="677" y="800"/>
                  </a:lnTo>
                  <a:lnTo>
                    <a:pt x="674" y="767"/>
                  </a:lnTo>
                  <a:lnTo>
                    <a:pt x="669" y="732"/>
                  </a:lnTo>
                  <a:lnTo>
                    <a:pt x="664" y="698"/>
                  </a:lnTo>
                  <a:lnTo>
                    <a:pt x="658" y="663"/>
                  </a:lnTo>
                  <a:lnTo>
                    <a:pt x="653" y="639"/>
                  </a:lnTo>
                  <a:lnTo>
                    <a:pt x="647" y="610"/>
                  </a:lnTo>
                  <a:lnTo>
                    <a:pt x="638" y="577"/>
                  </a:lnTo>
                  <a:lnTo>
                    <a:pt x="629" y="543"/>
                  </a:lnTo>
                  <a:lnTo>
                    <a:pt x="622" y="524"/>
                  </a:lnTo>
                  <a:lnTo>
                    <a:pt x="609" y="497"/>
                  </a:lnTo>
                  <a:lnTo>
                    <a:pt x="598" y="480"/>
                  </a:lnTo>
                  <a:lnTo>
                    <a:pt x="583" y="465"/>
                  </a:lnTo>
                  <a:lnTo>
                    <a:pt x="570" y="457"/>
                  </a:lnTo>
                  <a:lnTo>
                    <a:pt x="573" y="480"/>
                  </a:lnTo>
                  <a:lnTo>
                    <a:pt x="578" y="512"/>
                  </a:lnTo>
                  <a:lnTo>
                    <a:pt x="586" y="559"/>
                  </a:lnTo>
                  <a:lnTo>
                    <a:pt x="593" y="613"/>
                  </a:lnTo>
                  <a:lnTo>
                    <a:pt x="599" y="660"/>
                  </a:lnTo>
                  <a:lnTo>
                    <a:pt x="617" y="777"/>
                  </a:lnTo>
                  <a:lnTo>
                    <a:pt x="629" y="852"/>
                  </a:lnTo>
                  <a:lnTo>
                    <a:pt x="637" y="886"/>
                  </a:lnTo>
                  <a:lnTo>
                    <a:pt x="647" y="912"/>
                  </a:lnTo>
                  <a:lnTo>
                    <a:pt x="663" y="950"/>
                  </a:lnTo>
                  <a:lnTo>
                    <a:pt x="677" y="984"/>
                  </a:lnTo>
                  <a:lnTo>
                    <a:pt x="690" y="1016"/>
                  </a:lnTo>
                  <a:lnTo>
                    <a:pt x="708" y="1062"/>
                  </a:lnTo>
                  <a:lnTo>
                    <a:pt x="721" y="1065"/>
                  </a:lnTo>
                  <a:lnTo>
                    <a:pt x="733" y="1062"/>
                  </a:lnTo>
                  <a:lnTo>
                    <a:pt x="742" y="1052"/>
                  </a:lnTo>
                  <a:lnTo>
                    <a:pt x="749" y="1037"/>
                  </a:lnTo>
                  <a:lnTo>
                    <a:pt x="747" y="1024"/>
                  </a:lnTo>
                  <a:lnTo>
                    <a:pt x="741" y="1002"/>
                  </a:lnTo>
                  <a:lnTo>
                    <a:pt x="738" y="979"/>
                  </a:lnTo>
                  <a:lnTo>
                    <a:pt x="751" y="961"/>
                  </a:lnTo>
                  <a:lnTo>
                    <a:pt x="742" y="948"/>
                  </a:lnTo>
                  <a:lnTo>
                    <a:pt x="746" y="930"/>
                  </a:lnTo>
                  <a:lnTo>
                    <a:pt x="747" y="948"/>
                  </a:lnTo>
                  <a:lnTo>
                    <a:pt x="759" y="961"/>
                  </a:lnTo>
                  <a:lnTo>
                    <a:pt x="747" y="979"/>
                  </a:lnTo>
                  <a:lnTo>
                    <a:pt x="749" y="997"/>
                  </a:lnTo>
                  <a:lnTo>
                    <a:pt x="757" y="1033"/>
                  </a:lnTo>
                  <a:lnTo>
                    <a:pt x="773" y="1041"/>
                  </a:lnTo>
                  <a:lnTo>
                    <a:pt x="788" y="1049"/>
                  </a:lnTo>
                  <a:lnTo>
                    <a:pt x="796" y="1059"/>
                  </a:lnTo>
                  <a:lnTo>
                    <a:pt x="801" y="1072"/>
                  </a:lnTo>
                  <a:lnTo>
                    <a:pt x="804" y="1089"/>
                  </a:lnTo>
                  <a:lnTo>
                    <a:pt x="794" y="1067"/>
                  </a:lnTo>
                  <a:lnTo>
                    <a:pt x="783" y="1054"/>
                  </a:lnTo>
                  <a:lnTo>
                    <a:pt x="768" y="1047"/>
                  </a:lnTo>
                  <a:lnTo>
                    <a:pt x="759" y="1046"/>
                  </a:lnTo>
                  <a:lnTo>
                    <a:pt x="754" y="1055"/>
                  </a:lnTo>
                  <a:lnTo>
                    <a:pt x="747" y="1065"/>
                  </a:lnTo>
                  <a:lnTo>
                    <a:pt x="739" y="1073"/>
                  </a:lnTo>
                  <a:lnTo>
                    <a:pt x="728" y="1080"/>
                  </a:lnTo>
                  <a:lnTo>
                    <a:pt x="715" y="1080"/>
                  </a:lnTo>
                  <a:lnTo>
                    <a:pt x="723" y="1099"/>
                  </a:lnTo>
                  <a:lnTo>
                    <a:pt x="734" y="1116"/>
                  </a:lnTo>
                  <a:lnTo>
                    <a:pt x="747" y="1132"/>
                  </a:lnTo>
                  <a:lnTo>
                    <a:pt x="765" y="1155"/>
                  </a:lnTo>
                  <a:lnTo>
                    <a:pt x="778" y="1169"/>
                  </a:lnTo>
                  <a:lnTo>
                    <a:pt x="791" y="1182"/>
                  </a:lnTo>
                  <a:lnTo>
                    <a:pt x="799" y="1190"/>
                  </a:lnTo>
                  <a:lnTo>
                    <a:pt x="804" y="1200"/>
                  </a:lnTo>
                  <a:lnTo>
                    <a:pt x="806" y="1213"/>
                  </a:lnTo>
                  <a:lnTo>
                    <a:pt x="809" y="1288"/>
                  </a:lnTo>
                  <a:lnTo>
                    <a:pt x="811" y="1330"/>
                  </a:lnTo>
                  <a:lnTo>
                    <a:pt x="812" y="1345"/>
                  </a:lnTo>
                  <a:lnTo>
                    <a:pt x="812" y="1355"/>
                  </a:lnTo>
                  <a:lnTo>
                    <a:pt x="819" y="1374"/>
                  </a:lnTo>
                  <a:lnTo>
                    <a:pt x="827" y="1394"/>
                  </a:lnTo>
                  <a:lnTo>
                    <a:pt x="835" y="1407"/>
                  </a:lnTo>
                  <a:lnTo>
                    <a:pt x="848" y="1425"/>
                  </a:lnTo>
                  <a:lnTo>
                    <a:pt x="858" y="1436"/>
                  </a:lnTo>
                  <a:lnTo>
                    <a:pt x="859" y="1530"/>
                  </a:lnTo>
                  <a:lnTo>
                    <a:pt x="887" y="1550"/>
                  </a:lnTo>
                  <a:lnTo>
                    <a:pt x="859" y="1533"/>
                  </a:lnTo>
                  <a:lnTo>
                    <a:pt x="858" y="1564"/>
                  </a:lnTo>
                  <a:lnTo>
                    <a:pt x="853" y="1457"/>
                  </a:lnTo>
                  <a:lnTo>
                    <a:pt x="851" y="1438"/>
                  </a:lnTo>
                  <a:lnTo>
                    <a:pt x="837" y="1421"/>
                  </a:lnTo>
                  <a:lnTo>
                    <a:pt x="829" y="1410"/>
                  </a:lnTo>
                  <a:lnTo>
                    <a:pt x="819" y="1395"/>
                  </a:lnTo>
                  <a:lnTo>
                    <a:pt x="811" y="1381"/>
                  </a:lnTo>
                  <a:lnTo>
                    <a:pt x="806" y="1366"/>
                  </a:lnTo>
                  <a:lnTo>
                    <a:pt x="803" y="1351"/>
                  </a:lnTo>
                  <a:lnTo>
                    <a:pt x="801" y="1330"/>
                  </a:lnTo>
                  <a:lnTo>
                    <a:pt x="799" y="1309"/>
                  </a:lnTo>
                  <a:lnTo>
                    <a:pt x="796" y="1257"/>
                  </a:lnTo>
                  <a:lnTo>
                    <a:pt x="794" y="1211"/>
                  </a:lnTo>
                  <a:lnTo>
                    <a:pt x="791" y="1200"/>
                  </a:lnTo>
                  <a:lnTo>
                    <a:pt x="785" y="1192"/>
                  </a:lnTo>
                  <a:lnTo>
                    <a:pt x="770" y="1177"/>
                  </a:lnTo>
                  <a:lnTo>
                    <a:pt x="755" y="1163"/>
                  </a:lnTo>
                  <a:lnTo>
                    <a:pt x="742" y="1145"/>
                  </a:lnTo>
                  <a:lnTo>
                    <a:pt x="713" y="1109"/>
                  </a:lnTo>
                  <a:lnTo>
                    <a:pt x="703" y="1150"/>
                  </a:lnTo>
                  <a:lnTo>
                    <a:pt x="697" y="1192"/>
                  </a:lnTo>
                  <a:lnTo>
                    <a:pt x="694" y="1213"/>
                  </a:lnTo>
                  <a:lnTo>
                    <a:pt x="710" y="1228"/>
                  </a:lnTo>
                  <a:lnTo>
                    <a:pt x="725" y="1244"/>
                  </a:lnTo>
                  <a:lnTo>
                    <a:pt x="736" y="1244"/>
                  </a:lnTo>
                  <a:lnTo>
                    <a:pt x="764" y="1239"/>
                  </a:lnTo>
                  <a:lnTo>
                    <a:pt x="729" y="1251"/>
                  </a:lnTo>
                  <a:lnTo>
                    <a:pt x="738" y="1262"/>
                  </a:lnTo>
                  <a:lnTo>
                    <a:pt x="757" y="1291"/>
                  </a:lnTo>
                  <a:lnTo>
                    <a:pt x="772" y="1316"/>
                  </a:lnTo>
                  <a:lnTo>
                    <a:pt x="781" y="1340"/>
                  </a:lnTo>
                  <a:lnTo>
                    <a:pt x="788" y="1361"/>
                  </a:lnTo>
                  <a:lnTo>
                    <a:pt x="793" y="1382"/>
                  </a:lnTo>
                  <a:lnTo>
                    <a:pt x="796" y="1410"/>
                  </a:lnTo>
                  <a:lnTo>
                    <a:pt x="798" y="1428"/>
                  </a:lnTo>
                  <a:lnTo>
                    <a:pt x="796" y="1454"/>
                  </a:lnTo>
                  <a:lnTo>
                    <a:pt x="798" y="1477"/>
                  </a:lnTo>
                  <a:lnTo>
                    <a:pt x="798" y="1493"/>
                  </a:lnTo>
                  <a:lnTo>
                    <a:pt x="803" y="1527"/>
                  </a:lnTo>
                  <a:lnTo>
                    <a:pt x="812" y="1543"/>
                  </a:lnTo>
                  <a:lnTo>
                    <a:pt x="819" y="1555"/>
                  </a:lnTo>
                  <a:lnTo>
                    <a:pt x="827" y="1655"/>
                  </a:lnTo>
                  <a:lnTo>
                    <a:pt x="842" y="1662"/>
                  </a:lnTo>
                  <a:lnTo>
                    <a:pt x="855" y="1670"/>
                  </a:lnTo>
                  <a:lnTo>
                    <a:pt x="866" y="1673"/>
                  </a:lnTo>
                  <a:lnTo>
                    <a:pt x="882" y="1667"/>
                  </a:lnTo>
                  <a:lnTo>
                    <a:pt x="866" y="1678"/>
                  </a:lnTo>
                  <a:lnTo>
                    <a:pt x="853" y="1675"/>
                  </a:lnTo>
                  <a:lnTo>
                    <a:pt x="840" y="1668"/>
                  </a:lnTo>
                  <a:lnTo>
                    <a:pt x="827" y="1664"/>
                  </a:lnTo>
                  <a:lnTo>
                    <a:pt x="830" y="1678"/>
                  </a:lnTo>
                  <a:lnTo>
                    <a:pt x="837" y="1695"/>
                  </a:lnTo>
                  <a:lnTo>
                    <a:pt x="851" y="1716"/>
                  </a:lnTo>
                  <a:lnTo>
                    <a:pt x="871" y="1735"/>
                  </a:lnTo>
                  <a:lnTo>
                    <a:pt x="851" y="1719"/>
                  </a:lnTo>
                  <a:lnTo>
                    <a:pt x="840" y="1709"/>
                  </a:lnTo>
                  <a:lnTo>
                    <a:pt x="833" y="1698"/>
                  </a:lnTo>
                  <a:lnTo>
                    <a:pt x="825" y="1685"/>
                  </a:lnTo>
                  <a:lnTo>
                    <a:pt x="819" y="1655"/>
                  </a:lnTo>
                  <a:lnTo>
                    <a:pt x="814" y="1587"/>
                  </a:lnTo>
                  <a:lnTo>
                    <a:pt x="812" y="1558"/>
                  </a:lnTo>
                  <a:lnTo>
                    <a:pt x="804" y="1545"/>
                  </a:lnTo>
                  <a:lnTo>
                    <a:pt x="796" y="1533"/>
                  </a:lnTo>
                  <a:lnTo>
                    <a:pt x="791" y="1501"/>
                  </a:lnTo>
                  <a:lnTo>
                    <a:pt x="788" y="1467"/>
                  </a:lnTo>
                  <a:lnTo>
                    <a:pt x="788" y="1436"/>
                  </a:lnTo>
                  <a:lnTo>
                    <a:pt x="785" y="1403"/>
                  </a:lnTo>
                  <a:lnTo>
                    <a:pt x="783" y="1382"/>
                  </a:lnTo>
                  <a:lnTo>
                    <a:pt x="775" y="1351"/>
                  </a:lnTo>
                  <a:lnTo>
                    <a:pt x="767" y="1327"/>
                  </a:lnTo>
                  <a:lnTo>
                    <a:pt x="757" y="1307"/>
                  </a:lnTo>
                  <a:lnTo>
                    <a:pt x="741" y="1285"/>
                  </a:lnTo>
                  <a:lnTo>
                    <a:pt x="723" y="1259"/>
                  </a:lnTo>
                  <a:lnTo>
                    <a:pt x="708" y="1241"/>
                  </a:lnTo>
                  <a:lnTo>
                    <a:pt x="695" y="1231"/>
                  </a:lnTo>
                  <a:lnTo>
                    <a:pt x="687" y="1234"/>
                  </a:lnTo>
                  <a:lnTo>
                    <a:pt x="686" y="1267"/>
                  </a:lnTo>
                  <a:lnTo>
                    <a:pt x="686" y="1298"/>
                  </a:lnTo>
                  <a:lnTo>
                    <a:pt x="687" y="1324"/>
                  </a:lnTo>
                  <a:lnTo>
                    <a:pt x="690" y="1343"/>
                  </a:lnTo>
                  <a:lnTo>
                    <a:pt x="695" y="1363"/>
                  </a:lnTo>
                  <a:lnTo>
                    <a:pt x="707" y="1392"/>
                  </a:lnTo>
                  <a:lnTo>
                    <a:pt x="723" y="1421"/>
                  </a:lnTo>
                  <a:lnTo>
                    <a:pt x="739" y="1451"/>
                  </a:lnTo>
                  <a:lnTo>
                    <a:pt x="754" y="1481"/>
                  </a:lnTo>
                  <a:lnTo>
                    <a:pt x="768" y="1516"/>
                  </a:lnTo>
                  <a:lnTo>
                    <a:pt x="775" y="1537"/>
                  </a:lnTo>
                  <a:lnTo>
                    <a:pt x="778" y="1550"/>
                  </a:lnTo>
                  <a:lnTo>
                    <a:pt x="783" y="1586"/>
                  </a:lnTo>
                  <a:lnTo>
                    <a:pt x="786" y="1616"/>
                  </a:lnTo>
                  <a:lnTo>
                    <a:pt x="811" y="1629"/>
                  </a:lnTo>
                  <a:lnTo>
                    <a:pt x="788" y="1621"/>
                  </a:lnTo>
                  <a:lnTo>
                    <a:pt x="790" y="1638"/>
                  </a:lnTo>
                  <a:lnTo>
                    <a:pt x="793" y="1657"/>
                  </a:lnTo>
                  <a:lnTo>
                    <a:pt x="799" y="1677"/>
                  </a:lnTo>
                  <a:lnTo>
                    <a:pt x="809" y="1701"/>
                  </a:lnTo>
                  <a:lnTo>
                    <a:pt x="793" y="1670"/>
                  </a:lnTo>
                  <a:lnTo>
                    <a:pt x="785" y="1646"/>
                  </a:lnTo>
                  <a:lnTo>
                    <a:pt x="781" y="1633"/>
                  </a:lnTo>
                  <a:lnTo>
                    <a:pt x="778" y="1613"/>
                  </a:lnTo>
                  <a:lnTo>
                    <a:pt x="777" y="1594"/>
                  </a:lnTo>
                  <a:lnTo>
                    <a:pt x="770" y="1560"/>
                  </a:lnTo>
                  <a:lnTo>
                    <a:pt x="764" y="1535"/>
                  </a:lnTo>
                  <a:lnTo>
                    <a:pt x="749" y="1501"/>
                  </a:lnTo>
                  <a:lnTo>
                    <a:pt x="731" y="1467"/>
                  </a:lnTo>
                  <a:lnTo>
                    <a:pt x="712" y="1429"/>
                  </a:lnTo>
                  <a:lnTo>
                    <a:pt x="700" y="1408"/>
                  </a:lnTo>
                  <a:lnTo>
                    <a:pt x="689" y="1384"/>
                  </a:lnTo>
                  <a:lnTo>
                    <a:pt x="681" y="1366"/>
                  </a:lnTo>
                  <a:lnTo>
                    <a:pt x="676" y="1343"/>
                  </a:lnTo>
                  <a:lnTo>
                    <a:pt x="674" y="1316"/>
                  </a:lnTo>
                  <a:lnTo>
                    <a:pt x="673" y="1285"/>
                  </a:lnTo>
                  <a:lnTo>
                    <a:pt x="674" y="1242"/>
                  </a:lnTo>
                  <a:lnTo>
                    <a:pt x="677" y="1216"/>
                  </a:lnTo>
                  <a:lnTo>
                    <a:pt x="664" y="1205"/>
                  </a:lnTo>
                  <a:lnTo>
                    <a:pt x="648" y="1203"/>
                  </a:lnTo>
                  <a:lnTo>
                    <a:pt x="625" y="1203"/>
                  </a:lnTo>
                  <a:lnTo>
                    <a:pt x="664" y="1198"/>
                  </a:lnTo>
                  <a:lnTo>
                    <a:pt x="681" y="1205"/>
                  </a:lnTo>
                  <a:lnTo>
                    <a:pt x="686" y="1171"/>
                  </a:lnTo>
                  <a:lnTo>
                    <a:pt x="690" y="1140"/>
                  </a:lnTo>
                  <a:lnTo>
                    <a:pt x="702" y="1096"/>
                  </a:lnTo>
                  <a:lnTo>
                    <a:pt x="694" y="1072"/>
                  </a:lnTo>
                  <a:lnTo>
                    <a:pt x="679" y="1028"/>
                  </a:lnTo>
                  <a:lnTo>
                    <a:pt x="668" y="1000"/>
                  </a:lnTo>
                  <a:lnTo>
                    <a:pt x="656" y="974"/>
                  </a:lnTo>
                  <a:lnTo>
                    <a:pt x="645" y="946"/>
                  </a:lnTo>
                  <a:lnTo>
                    <a:pt x="632" y="919"/>
                  </a:lnTo>
                  <a:lnTo>
                    <a:pt x="621" y="888"/>
                  </a:lnTo>
                  <a:lnTo>
                    <a:pt x="614" y="862"/>
                  </a:lnTo>
                  <a:lnTo>
                    <a:pt x="609" y="831"/>
                  </a:lnTo>
                  <a:lnTo>
                    <a:pt x="598" y="759"/>
                  </a:lnTo>
                  <a:lnTo>
                    <a:pt x="586" y="688"/>
                  </a:lnTo>
                  <a:lnTo>
                    <a:pt x="577" y="689"/>
                  </a:lnTo>
                  <a:lnTo>
                    <a:pt x="570" y="694"/>
                  </a:lnTo>
                  <a:lnTo>
                    <a:pt x="562" y="706"/>
                  </a:lnTo>
                  <a:lnTo>
                    <a:pt x="559" y="720"/>
                  </a:lnTo>
                  <a:lnTo>
                    <a:pt x="557" y="761"/>
                  </a:lnTo>
                  <a:lnTo>
                    <a:pt x="562" y="803"/>
                  </a:lnTo>
                  <a:lnTo>
                    <a:pt x="562" y="839"/>
                  </a:lnTo>
                  <a:lnTo>
                    <a:pt x="562" y="865"/>
                  </a:lnTo>
                  <a:lnTo>
                    <a:pt x="565" y="880"/>
                  </a:lnTo>
                  <a:lnTo>
                    <a:pt x="572" y="896"/>
                  </a:lnTo>
                  <a:lnTo>
                    <a:pt x="586" y="920"/>
                  </a:lnTo>
                  <a:lnTo>
                    <a:pt x="603" y="953"/>
                  </a:lnTo>
                  <a:lnTo>
                    <a:pt x="625" y="995"/>
                  </a:lnTo>
                  <a:lnTo>
                    <a:pt x="638" y="1033"/>
                  </a:lnTo>
                  <a:lnTo>
                    <a:pt x="643" y="1062"/>
                  </a:lnTo>
                  <a:lnTo>
                    <a:pt x="651" y="1088"/>
                  </a:lnTo>
                  <a:lnTo>
                    <a:pt x="656" y="1120"/>
                  </a:lnTo>
                  <a:lnTo>
                    <a:pt x="676" y="1174"/>
                  </a:lnTo>
                  <a:lnTo>
                    <a:pt x="658" y="1133"/>
                  </a:lnTo>
                  <a:lnTo>
                    <a:pt x="647" y="1091"/>
                  </a:lnTo>
                  <a:lnTo>
                    <a:pt x="637" y="1063"/>
                  </a:lnTo>
                  <a:lnTo>
                    <a:pt x="632" y="1034"/>
                  </a:lnTo>
                  <a:lnTo>
                    <a:pt x="624" y="1010"/>
                  </a:lnTo>
                  <a:lnTo>
                    <a:pt x="612" y="985"/>
                  </a:lnTo>
                  <a:lnTo>
                    <a:pt x="598" y="956"/>
                  </a:lnTo>
                  <a:lnTo>
                    <a:pt x="580" y="924"/>
                  </a:lnTo>
                  <a:lnTo>
                    <a:pt x="567" y="904"/>
                  </a:lnTo>
                  <a:lnTo>
                    <a:pt x="559" y="886"/>
                  </a:lnTo>
                  <a:lnTo>
                    <a:pt x="556" y="872"/>
                  </a:lnTo>
                  <a:lnTo>
                    <a:pt x="556" y="839"/>
                  </a:lnTo>
                  <a:lnTo>
                    <a:pt x="556" y="815"/>
                  </a:lnTo>
                  <a:lnTo>
                    <a:pt x="549" y="766"/>
                  </a:lnTo>
                  <a:lnTo>
                    <a:pt x="549" y="740"/>
                  </a:lnTo>
                  <a:lnTo>
                    <a:pt x="551" y="712"/>
                  </a:lnTo>
                  <a:lnTo>
                    <a:pt x="554" y="694"/>
                  </a:lnTo>
                  <a:lnTo>
                    <a:pt x="560" y="683"/>
                  </a:lnTo>
                  <a:lnTo>
                    <a:pt x="572" y="672"/>
                  </a:lnTo>
                  <a:lnTo>
                    <a:pt x="583" y="667"/>
                  </a:lnTo>
                  <a:lnTo>
                    <a:pt x="575" y="610"/>
                  </a:lnTo>
                  <a:lnTo>
                    <a:pt x="564" y="535"/>
                  </a:lnTo>
                  <a:lnTo>
                    <a:pt x="554" y="483"/>
                  </a:lnTo>
                  <a:lnTo>
                    <a:pt x="546" y="444"/>
                  </a:lnTo>
                  <a:lnTo>
                    <a:pt x="541" y="419"/>
                  </a:lnTo>
                  <a:lnTo>
                    <a:pt x="533" y="382"/>
                  </a:lnTo>
                  <a:lnTo>
                    <a:pt x="525" y="356"/>
                  </a:lnTo>
                  <a:lnTo>
                    <a:pt x="515" y="323"/>
                  </a:lnTo>
                  <a:lnTo>
                    <a:pt x="505" y="297"/>
                  </a:lnTo>
                  <a:lnTo>
                    <a:pt x="497" y="275"/>
                  </a:lnTo>
                  <a:lnTo>
                    <a:pt x="487" y="254"/>
                  </a:lnTo>
                  <a:lnTo>
                    <a:pt x="478" y="236"/>
                  </a:lnTo>
                  <a:lnTo>
                    <a:pt x="460" y="213"/>
                  </a:lnTo>
                  <a:lnTo>
                    <a:pt x="455" y="237"/>
                  </a:lnTo>
                  <a:lnTo>
                    <a:pt x="447" y="262"/>
                  </a:lnTo>
                  <a:lnTo>
                    <a:pt x="440" y="281"/>
                  </a:lnTo>
                  <a:lnTo>
                    <a:pt x="432" y="302"/>
                  </a:lnTo>
                  <a:lnTo>
                    <a:pt x="419" y="328"/>
                  </a:lnTo>
                  <a:lnTo>
                    <a:pt x="413" y="359"/>
                  </a:lnTo>
                  <a:lnTo>
                    <a:pt x="411" y="397"/>
                  </a:lnTo>
                  <a:lnTo>
                    <a:pt x="413" y="424"/>
                  </a:lnTo>
                  <a:lnTo>
                    <a:pt x="419" y="462"/>
                  </a:lnTo>
                  <a:lnTo>
                    <a:pt x="424" y="493"/>
                  </a:lnTo>
                  <a:lnTo>
                    <a:pt x="430" y="519"/>
                  </a:lnTo>
                  <a:lnTo>
                    <a:pt x="435" y="545"/>
                  </a:lnTo>
                  <a:lnTo>
                    <a:pt x="439" y="571"/>
                  </a:lnTo>
                  <a:lnTo>
                    <a:pt x="440" y="592"/>
                  </a:lnTo>
                  <a:lnTo>
                    <a:pt x="440" y="628"/>
                  </a:lnTo>
                  <a:lnTo>
                    <a:pt x="437" y="662"/>
                  </a:lnTo>
                  <a:lnTo>
                    <a:pt x="417" y="758"/>
                  </a:lnTo>
                  <a:lnTo>
                    <a:pt x="426" y="685"/>
                  </a:lnTo>
                  <a:lnTo>
                    <a:pt x="430" y="655"/>
                  </a:lnTo>
                  <a:lnTo>
                    <a:pt x="432" y="636"/>
                  </a:lnTo>
                  <a:lnTo>
                    <a:pt x="430" y="616"/>
                  </a:lnTo>
                  <a:lnTo>
                    <a:pt x="426" y="587"/>
                  </a:lnTo>
                  <a:lnTo>
                    <a:pt x="422" y="553"/>
                  </a:lnTo>
                  <a:lnTo>
                    <a:pt x="416" y="522"/>
                  </a:lnTo>
                  <a:lnTo>
                    <a:pt x="409" y="491"/>
                  </a:lnTo>
                  <a:lnTo>
                    <a:pt x="403" y="465"/>
                  </a:lnTo>
                  <a:lnTo>
                    <a:pt x="398" y="441"/>
                  </a:lnTo>
                  <a:lnTo>
                    <a:pt x="395" y="408"/>
                  </a:lnTo>
                  <a:lnTo>
                    <a:pt x="393" y="382"/>
                  </a:lnTo>
                  <a:lnTo>
                    <a:pt x="396" y="350"/>
                  </a:lnTo>
                  <a:lnTo>
                    <a:pt x="401" y="325"/>
                  </a:lnTo>
                  <a:lnTo>
                    <a:pt x="409" y="302"/>
                  </a:lnTo>
                  <a:lnTo>
                    <a:pt x="419" y="281"/>
                  </a:lnTo>
                  <a:lnTo>
                    <a:pt x="434" y="244"/>
                  </a:lnTo>
                  <a:lnTo>
                    <a:pt x="439" y="223"/>
                  </a:lnTo>
                  <a:lnTo>
                    <a:pt x="442" y="198"/>
                  </a:lnTo>
                  <a:lnTo>
                    <a:pt x="430" y="185"/>
                  </a:lnTo>
                  <a:lnTo>
                    <a:pt x="411" y="171"/>
                  </a:lnTo>
                  <a:lnTo>
                    <a:pt x="396" y="159"/>
                  </a:lnTo>
                  <a:lnTo>
                    <a:pt x="380" y="148"/>
                  </a:lnTo>
                  <a:lnTo>
                    <a:pt x="354" y="128"/>
                  </a:lnTo>
                  <a:lnTo>
                    <a:pt x="326" y="110"/>
                  </a:lnTo>
                  <a:lnTo>
                    <a:pt x="305" y="97"/>
                  </a:lnTo>
                  <a:lnTo>
                    <a:pt x="284" y="84"/>
                  </a:lnTo>
                  <a:lnTo>
                    <a:pt x="255" y="67"/>
                  </a:lnTo>
                  <a:lnTo>
                    <a:pt x="227" y="54"/>
                  </a:lnTo>
                  <a:lnTo>
                    <a:pt x="210" y="45"/>
                  </a:lnTo>
                  <a:lnTo>
                    <a:pt x="185" y="36"/>
                  </a:lnTo>
                  <a:lnTo>
                    <a:pt x="161" y="27"/>
                  </a:lnTo>
                  <a:lnTo>
                    <a:pt x="138" y="23"/>
                  </a:lnTo>
                  <a:lnTo>
                    <a:pt x="115" y="19"/>
                  </a:lnTo>
                  <a:lnTo>
                    <a:pt x="96" y="21"/>
                  </a:lnTo>
                  <a:lnTo>
                    <a:pt x="80" y="36"/>
                  </a:lnTo>
                  <a:lnTo>
                    <a:pt x="70" y="58"/>
                  </a:lnTo>
                  <a:lnTo>
                    <a:pt x="65" y="86"/>
                  </a:lnTo>
                  <a:lnTo>
                    <a:pt x="60" y="120"/>
                  </a:lnTo>
                  <a:lnTo>
                    <a:pt x="60" y="167"/>
                  </a:lnTo>
                  <a:lnTo>
                    <a:pt x="57" y="211"/>
                  </a:lnTo>
                  <a:lnTo>
                    <a:pt x="47" y="242"/>
                  </a:lnTo>
                  <a:lnTo>
                    <a:pt x="26" y="284"/>
                  </a:lnTo>
                  <a:lnTo>
                    <a:pt x="0" y="265"/>
                  </a:lnTo>
                  <a:lnTo>
                    <a:pt x="19" y="228"/>
                  </a:lnTo>
                  <a:lnTo>
                    <a:pt x="29" y="202"/>
                  </a:lnTo>
                  <a:lnTo>
                    <a:pt x="31" y="166"/>
                  </a:lnTo>
                  <a:lnTo>
                    <a:pt x="32" y="133"/>
                  </a:lnTo>
                  <a:lnTo>
                    <a:pt x="36" y="93"/>
                  </a:lnTo>
                  <a:lnTo>
                    <a:pt x="42" y="63"/>
                  </a:lnTo>
                  <a:lnTo>
                    <a:pt x="50" y="36"/>
                  </a:lnTo>
                  <a:lnTo>
                    <a:pt x="65" y="16"/>
                  </a:lnTo>
                  <a:lnTo>
                    <a:pt x="83" y="3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8" name=""/>
            <p:cNvSpPr/>
            <p:nvPr/>
          </p:nvSpPr>
          <p:spPr>
            <a:xfrm>
              <a:off x="576360" y="4705920"/>
              <a:ext cx="391680" cy="381600"/>
            </a:xfrm>
            <a:custGeom>
              <a:avLst/>
              <a:gdLst/>
              <a:ahLst/>
              <a:rect l="l" t="t" r="r" b="b"/>
              <a:pathLst>
                <a:path w="978" h="1735">
                  <a:moveTo>
                    <a:pt x="978" y="265"/>
                  </a:moveTo>
                  <a:lnTo>
                    <a:pt x="972" y="200"/>
                  </a:lnTo>
                  <a:lnTo>
                    <a:pt x="964" y="151"/>
                  </a:lnTo>
                  <a:lnTo>
                    <a:pt x="961" y="130"/>
                  </a:lnTo>
                  <a:lnTo>
                    <a:pt x="954" y="111"/>
                  </a:lnTo>
                  <a:lnTo>
                    <a:pt x="946" y="93"/>
                  </a:lnTo>
                  <a:lnTo>
                    <a:pt x="935" y="73"/>
                  </a:lnTo>
                  <a:lnTo>
                    <a:pt x="918" y="55"/>
                  </a:lnTo>
                  <a:lnTo>
                    <a:pt x="904" y="41"/>
                  </a:lnTo>
                  <a:lnTo>
                    <a:pt x="887" y="28"/>
                  </a:lnTo>
                  <a:lnTo>
                    <a:pt x="866" y="16"/>
                  </a:lnTo>
                  <a:lnTo>
                    <a:pt x="845" y="8"/>
                  </a:lnTo>
                  <a:lnTo>
                    <a:pt x="826" y="3"/>
                  </a:lnTo>
                  <a:lnTo>
                    <a:pt x="779" y="0"/>
                  </a:lnTo>
                  <a:lnTo>
                    <a:pt x="736" y="8"/>
                  </a:lnTo>
                  <a:lnTo>
                    <a:pt x="704" y="18"/>
                  </a:lnTo>
                  <a:lnTo>
                    <a:pt x="675" y="31"/>
                  </a:lnTo>
                  <a:lnTo>
                    <a:pt x="655" y="39"/>
                  </a:lnTo>
                  <a:lnTo>
                    <a:pt x="629" y="54"/>
                  </a:lnTo>
                  <a:lnTo>
                    <a:pt x="595" y="73"/>
                  </a:lnTo>
                  <a:lnTo>
                    <a:pt x="561" y="93"/>
                  </a:lnTo>
                  <a:lnTo>
                    <a:pt x="543" y="104"/>
                  </a:lnTo>
                  <a:lnTo>
                    <a:pt x="530" y="106"/>
                  </a:lnTo>
                  <a:lnTo>
                    <a:pt x="489" y="101"/>
                  </a:lnTo>
                  <a:lnTo>
                    <a:pt x="457" y="98"/>
                  </a:lnTo>
                  <a:lnTo>
                    <a:pt x="434" y="98"/>
                  </a:lnTo>
                  <a:lnTo>
                    <a:pt x="415" y="98"/>
                  </a:lnTo>
                  <a:lnTo>
                    <a:pt x="400" y="98"/>
                  </a:lnTo>
                  <a:lnTo>
                    <a:pt x="376" y="103"/>
                  </a:lnTo>
                  <a:lnTo>
                    <a:pt x="359" y="111"/>
                  </a:lnTo>
                  <a:lnTo>
                    <a:pt x="340" y="127"/>
                  </a:lnTo>
                  <a:lnTo>
                    <a:pt x="356" y="117"/>
                  </a:lnTo>
                  <a:lnTo>
                    <a:pt x="369" y="112"/>
                  </a:lnTo>
                  <a:lnTo>
                    <a:pt x="384" y="111"/>
                  </a:lnTo>
                  <a:lnTo>
                    <a:pt x="389" y="119"/>
                  </a:lnTo>
                  <a:lnTo>
                    <a:pt x="390" y="133"/>
                  </a:lnTo>
                  <a:lnTo>
                    <a:pt x="385" y="148"/>
                  </a:lnTo>
                  <a:lnTo>
                    <a:pt x="376" y="166"/>
                  </a:lnTo>
                  <a:lnTo>
                    <a:pt x="387" y="153"/>
                  </a:lnTo>
                  <a:lnTo>
                    <a:pt x="394" y="142"/>
                  </a:lnTo>
                  <a:lnTo>
                    <a:pt x="398" y="125"/>
                  </a:lnTo>
                  <a:lnTo>
                    <a:pt x="397" y="112"/>
                  </a:lnTo>
                  <a:lnTo>
                    <a:pt x="405" y="107"/>
                  </a:lnTo>
                  <a:lnTo>
                    <a:pt x="423" y="106"/>
                  </a:lnTo>
                  <a:lnTo>
                    <a:pt x="444" y="106"/>
                  </a:lnTo>
                  <a:lnTo>
                    <a:pt x="465" y="106"/>
                  </a:lnTo>
                  <a:lnTo>
                    <a:pt x="499" y="111"/>
                  </a:lnTo>
                  <a:lnTo>
                    <a:pt x="524" y="117"/>
                  </a:lnTo>
                  <a:lnTo>
                    <a:pt x="501" y="133"/>
                  </a:lnTo>
                  <a:lnTo>
                    <a:pt x="465" y="158"/>
                  </a:lnTo>
                  <a:lnTo>
                    <a:pt x="442" y="177"/>
                  </a:lnTo>
                  <a:lnTo>
                    <a:pt x="424" y="192"/>
                  </a:lnTo>
                  <a:lnTo>
                    <a:pt x="410" y="210"/>
                  </a:lnTo>
                  <a:lnTo>
                    <a:pt x="398" y="225"/>
                  </a:lnTo>
                  <a:lnTo>
                    <a:pt x="385" y="244"/>
                  </a:lnTo>
                  <a:lnTo>
                    <a:pt x="376" y="264"/>
                  </a:lnTo>
                  <a:lnTo>
                    <a:pt x="337" y="249"/>
                  </a:lnTo>
                  <a:lnTo>
                    <a:pt x="327" y="226"/>
                  </a:lnTo>
                  <a:lnTo>
                    <a:pt x="319" y="212"/>
                  </a:lnTo>
                  <a:lnTo>
                    <a:pt x="322" y="228"/>
                  </a:lnTo>
                  <a:lnTo>
                    <a:pt x="325" y="247"/>
                  </a:lnTo>
                  <a:lnTo>
                    <a:pt x="314" y="257"/>
                  </a:lnTo>
                  <a:lnTo>
                    <a:pt x="296" y="262"/>
                  </a:lnTo>
                  <a:lnTo>
                    <a:pt x="277" y="262"/>
                  </a:lnTo>
                  <a:lnTo>
                    <a:pt x="296" y="267"/>
                  </a:lnTo>
                  <a:lnTo>
                    <a:pt x="309" y="267"/>
                  </a:lnTo>
                  <a:lnTo>
                    <a:pt x="322" y="260"/>
                  </a:lnTo>
                  <a:lnTo>
                    <a:pt x="330" y="254"/>
                  </a:lnTo>
                  <a:lnTo>
                    <a:pt x="350" y="262"/>
                  </a:lnTo>
                  <a:lnTo>
                    <a:pt x="371" y="272"/>
                  </a:lnTo>
                  <a:lnTo>
                    <a:pt x="364" y="290"/>
                  </a:lnTo>
                  <a:lnTo>
                    <a:pt x="355" y="314"/>
                  </a:lnTo>
                  <a:lnTo>
                    <a:pt x="345" y="343"/>
                  </a:lnTo>
                  <a:lnTo>
                    <a:pt x="332" y="389"/>
                  </a:lnTo>
                  <a:lnTo>
                    <a:pt x="316" y="387"/>
                  </a:lnTo>
                  <a:lnTo>
                    <a:pt x="298" y="389"/>
                  </a:lnTo>
                  <a:lnTo>
                    <a:pt x="281" y="397"/>
                  </a:lnTo>
                  <a:lnTo>
                    <a:pt x="268" y="403"/>
                  </a:lnTo>
                  <a:lnTo>
                    <a:pt x="257" y="421"/>
                  </a:lnTo>
                  <a:lnTo>
                    <a:pt x="272" y="407"/>
                  </a:lnTo>
                  <a:lnTo>
                    <a:pt x="286" y="400"/>
                  </a:lnTo>
                  <a:lnTo>
                    <a:pt x="294" y="397"/>
                  </a:lnTo>
                  <a:lnTo>
                    <a:pt x="311" y="395"/>
                  </a:lnTo>
                  <a:lnTo>
                    <a:pt x="329" y="402"/>
                  </a:lnTo>
                  <a:lnTo>
                    <a:pt x="322" y="429"/>
                  </a:lnTo>
                  <a:lnTo>
                    <a:pt x="299" y="444"/>
                  </a:lnTo>
                  <a:lnTo>
                    <a:pt x="286" y="457"/>
                  </a:lnTo>
                  <a:lnTo>
                    <a:pt x="273" y="477"/>
                  </a:lnTo>
                  <a:lnTo>
                    <a:pt x="262" y="498"/>
                  </a:lnTo>
                  <a:lnTo>
                    <a:pt x="251" y="527"/>
                  </a:lnTo>
                  <a:lnTo>
                    <a:pt x="241" y="561"/>
                  </a:lnTo>
                  <a:lnTo>
                    <a:pt x="231" y="600"/>
                  </a:lnTo>
                  <a:lnTo>
                    <a:pt x="221" y="642"/>
                  </a:lnTo>
                  <a:lnTo>
                    <a:pt x="203" y="642"/>
                  </a:lnTo>
                  <a:lnTo>
                    <a:pt x="187" y="651"/>
                  </a:lnTo>
                  <a:lnTo>
                    <a:pt x="174" y="662"/>
                  </a:lnTo>
                  <a:lnTo>
                    <a:pt x="164" y="677"/>
                  </a:lnTo>
                  <a:lnTo>
                    <a:pt x="153" y="701"/>
                  </a:lnTo>
                  <a:lnTo>
                    <a:pt x="143" y="734"/>
                  </a:lnTo>
                  <a:lnTo>
                    <a:pt x="151" y="712"/>
                  </a:lnTo>
                  <a:lnTo>
                    <a:pt x="161" y="696"/>
                  </a:lnTo>
                  <a:lnTo>
                    <a:pt x="173" y="678"/>
                  </a:lnTo>
                  <a:lnTo>
                    <a:pt x="181" y="667"/>
                  </a:lnTo>
                  <a:lnTo>
                    <a:pt x="192" y="659"/>
                  </a:lnTo>
                  <a:lnTo>
                    <a:pt x="207" y="652"/>
                  </a:lnTo>
                  <a:lnTo>
                    <a:pt x="218" y="654"/>
                  </a:lnTo>
                  <a:lnTo>
                    <a:pt x="215" y="683"/>
                  </a:lnTo>
                  <a:lnTo>
                    <a:pt x="212" y="709"/>
                  </a:lnTo>
                  <a:lnTo>
                    <a:pt x="208" y="734"/>
                  </a:lnTo>
                  <a:lnTo>
                    <a:pt x="205" y="768"/>
                  </a:lnTo>
                  <a:lnTo>
                    <a:pt x="203" y="802"/>
                  </a:lnTo>
                  <a:lnTo>
                    <a:pt x="195" y="818"/>
                  </a:lnTo>
                  <a:lnTo>
                    <a:pt x="168" y="839"/>
                  </a:lnTo>
                  <a:lnTo>
                    <a:pt x="199" y="821"/>
                  </a:lnTo>
                  <a:lnTo>
                    <a:pt x="207" y="810"/>
                  </a:lnTo>
                  <a:lnTo>
                    <a:pt x="215" y="823"/>
                  </a:lnTo>
                  <a:lnTo>
                    <a:pt x="223" y="856"/>
                  </a:lnTo>
                  <a:lnTo>
                    <a:pt x="218" y="828"/>
                  </a:lnTo>
                  <a:lnTo>
                    <a:pt x="210" y="800"/>
                  </a:lnTo>
                  <a:lnTo>
                    <a:pt x="213" y="768"/>
                  </a:lnTo>
                  <a:lnTo>
                    <a:pt x="218" y="732"/>
                  </a:lnTo>
                  <a:lnTo>
                    <a:pt x="223" y="698"/>
                  </a:lnTo>
                  <a:lnTo>
                    <a:pt x="229" y="664"/>
                  </a:lnTo>
                  <a:lnTo>
                    <a:pt x="234" y="639"/>
                  </a:lnTo>
                  <a:lnTo>
                    <a:pt x="241" y="610"/>
                  </a:lnTo>
                  <a:lnTo>
                    <a:pt x="249" y="577"/>
                  </a:lnTo>
                  <a:lnTo>
                    <a:pt x="259" y="543"/>
                  </a:lnTo>
                  <a:lnTo>
                    <a:pt x="265" y="524"/>
                  </a:lnTo>
                  <a:lnTo>
                    <a:pt x="278" y="498"/>
                  </a:lnTo>
                  <a:lnTo>
                    <a:pt x="290" y="480"/>
                  </a:lnTo>
                  <a:lnTo>
                    <a:pt x="304" y="465"/>
                  </a:lnTo>
                  <a:lnTo>
                    <a:pt x="317" y="457"/>
                  </a:lnTo>
                  <a:lnTo>
                    <a:pt x="314" y="480"/>
                  </a:lnTo>
                  <a:lnTo>
                    <a:pt x="309" y="512"/>
                  </a:lnTo>
                  <a:lnTo>
                    <a:pt x="301" y="560"/>
                  </a:lnTo>
                  <a:lnTo>
                    <a:pt x="294" y="613"/>
                  </a:lnTo>
                  <a:lnTo>
                    <a:pt x="288" y="660"/>
                  </a:lnTo>
                  <a:lnTo>
                    <a:pt x="270" y="777"/>
                  </a:lnTo>
                  <a:lnTo>
                    <a:pt x="259" y="852"/>
                  </a:lnTo>
                  <a:lnTo>
                    <a:pt x="251" y="886"/>
                  </a:lnTo>
                  <a:lnTo>
                    <a:pt x="241" y="912"/>
                  </a:lnTo>
                  <a:lnTo>
                    <a:pt x="225" y="950"/>
                  </a:lnTo>
                  <a:lnTo>
                    <a:pt x="210" y="984"/>
                  </a:lnTo>
                  <a:lnTo>
                    <a:pt x="197" y="1017"/>
                  </a:lnTo>
                  <a:lnTo>
                    <a:pt x="179" y="1062"/>
                  </a:lnTo>
                  <a:lnTo>
                    <a:pt x="166" y="1065"/>
                  </a:lnTo>
                  <a:lnTo>
                    <a:pt x="155" y="1062"/>
                  </a:lnTo>
                  <a:lnTo>
                    <a:pt x="145" y="1052"/>
                  </a:lnTo>
                  <a:lnTo>
                    <a:pt x="138" y="1038"/>
                  </a:lnTo>
                  <a:lnTo>
                    <a:pt x="140" y="1025"/>
                  </a:lnTo>
                  <a:lnTo>
                    <a:pt x="147" y="1002"/>
                  </a:lnTo>
                  <a:lnTo>
                    <a:pt x="150" y="979"/>
                  </a:lnTo>
                  <a:lnTo>
                    <a:pt x="137" y="961"/>
                  </a:lnTo>
                  <a:lnTo>
                    <a:pt x="145" y="948"/>
                  </a:lnTo>
                  <a:lnTo>
                    <a:pt x="142" y="930"/>
                  </a:lnTo>
                  <a:lnTo>
                    <a:pt x="140" y="948"/>
                  </a:lnTo>
                  <a:lnTo>
                    <a:pt x="129" y="961"/>
                  </a:lnTo>
                  <a:lnTo>
                    <a:pt x="140" y="979"/>
                  </a:lnTo>
                  <a:lnTo>
                    <a:pt x="138" y="997"/>
                  </a:lnTo>
                  <a:lnTo>
                    <a:pt x="130" y="1033"/>
                  </a:lnTo>
                  <a:lnTo>
                    <a:pt x="114" y="1041"/>
                  </a:lnTo>
                  <a:lnTo>
                    <a:pt x="99" y="1049"/>
                  </a:lnTo>
                  <a:lnTo>
                    <a:pt x="91" y="1059"/>
                  </a:lnTo>
                  <a:lnTo>
                    <a:pt x="86" y="1072"/>
                  </a:lnTo>
                  <a:lnTo>
                    <a:pt x="83" y="1090"/>
                  </a:lnTo>
                  <a:lnTo>
                    <a:pt x="93" y="1067"/>
                  </a:lnTo>
                  <a:lnTo>
                    <a:pt x="104" y="1054"/>
                  </a:lnTo>
                  <a:lnTo>
                    <a:pt x="119" y="1047"/>
                  </a:lnTo>
                  <a:lnTo>
                    <a:pt x="129" y="1046"/>
                  </a:lnTo>
                  <a:lnTo>
                    <a:pt x="134" y="1056"/>
                  </a:lnTo>
                  <a:lnTo>
                    <a:pt x="140" y="1065"/>
                  </a:lnTo>
                  <a:lnTo>
                    <a:pt x="148" y="1073"/>
                  </a:lnTo>
                  <a:lnTo>
                    <a:pt x="160" y="1080"/>
                  </a:lnTo>
                  <a:lnTo>
                    <a:pt x="173" y="1080"/>
                  </a:lnTo>
                  <a:lnTo>
                    <a:pt x="164" y="1099"/>
                  </a:lnTo>
                  <a:lnTo>
                    <a:pt x="153" y="1116"/>
                  </a:lnTo>
                  <a:lnTo>
                    <a:pt x="140" y="1132"/>
                  </a:lnTo>
                  <a:lnTo>
                    <a:pt x="122" y="1155"/>
                  </a:lnTo>
                  <a:lnTo>
                    <a:pt x="109" y="1169"/>
                  </a:lnTo>
                  <a:lnTo>
                    <a:pt x="96" y="1182"/>
                  </a:lnTo>
                  <a:lnTo>
                    <a:pt x="88" y="1191"/>
                  </a:lnTo>
                  <a:lnTo>
                    <a:pt x="83" y="1200"/>
                  </a:lnTo>
                  <a:lnTo>
                    <a:pt x="82" y="1213"/>
                  </a:lnTo>
                  <a:lnTo>
                    <a:pt x="78" y="1288"/>
                  </a:lnTo>
                  <a:lnTo>
                    <a:pt x="77" y="1330"/>
                  </a:lnTo>
                  <a:lnTo>
                    <a:pt x="75" y="1345"/>
                  </a:lnTo>
                  <a:lnTo>
                    <a:pt x="75" y="1355"/>
                  </a:lnTo>
                  <a:lnTo>
                    <a:pt x="69" y="1374"/>
                  </a:lnTo>
                  <a:lnTo>
                    <a:pt x="60" y="1394"/>
                  </a:lnTo>
                  <a:lnTo>
                    <a:pt x="52" y="1407"/>
                  </a:lnTo>
                  <a:lnTo>
                    <a:pt x="39" y="1425"/>
                  </a:lnTo>
                  <a:lnTo>
                    <a:pt x="30" y="1436"/>
                  </a:lnTo>
                  <a:lnTo>
                    <a:pt x="28" y="1530"/>
                  </a:lnTo>
                  <a:lnTo>
                    <a:pt x="0" y="1550"/>
                  </a:lnTo>
                  <a:lnTo>
                    <a:pt x="28" y="1534"/>
                  </a:lnTo>
                  <a:lnTo>
                    <a:pt x="30" y="1565"/>
                  </a:lnTo>
                  <a:lnTo>
                    <a:pt x="34" y="1457"/>
                  </a:lnTo>
                  <a:lnTo>
                    <a:pt x="36" y="1438"/>
                  </a:lnTo>
                  <a:lnTo>
                    <a:pt x="51" y="1422"/>
                  </a:lnTo>
                  <a:lnTo>
                    <a:pt x="59" y="1410"/>
                  </a:lnTo>
                  <a:lnTo>
                    <a:pt x="69" y="1395"/>
                  </a:lnTo>
                  <a:lnTo>
                    <a:pt x="77" y="1381"/>
                  </a:lnTo>
                  <a:lnTo>
                    <a:pt x="82" y="1366"/>
                  </a:lnTo>
                  <a:lnTo>
                    <a:pt x="85" y="1352"/>
                  </a:lnTo>
                  <a:lnTo>
                    <a:pt x="86" y="1330"/>
                  </a:lnTo>
                  <a:lnTo>
                    <a:pt x="88" y="1309"/>
                  </a:lnTo>
                  <a:lnTo>
                    <a:pt x="91" y="1257"/>
                  </a:lnTo>
                  <a:lnTo>
                    <a:pt x="93" y="1212"/>
                  </a:lnTo>
                  <a:lnTo>
                    <a:pt x="96" y="1200"/>
                  </a:lnTo>
                  <a:lnTo>
                    <a:pt x="103" y="1192"/>
                  </a:lnTo>
                  <a:lnTo>
                    <a:pt x="117" y="1178"/>
                  </a:lnTo>
                  <a:lnTo>
                    <a:pt x="132" y="1163"/>
                  </a:lnTo>
                  <a:lnTo>
                    <a:pt x="145" y="1145"/>
                  </a:lnTo>
                  <a:lnTo>
                    <a:pt x="174" y="1109"/>
                  </a:lnTo>
                  <a:lnTo>
                    <a:pt x="184" y="1150"/>
                  </a:lnTo>
                  <a:lnTo>
                    <a:pt x="190" y="1192"/>
                  </a:lnTo>
                  <a:lnTo>
                    <a:pt x="194" y="1213"/>
                  </a:lnTo>
                  <a:lnTo>
                    <a:pt x="177" y="1228"/>
                  </a:lnTo>
                  <a:lnTo>
                    <a:pt x="163" y="1244"/>
                  </a:lnTo>
                  <a:lnTo>
                    <a:pt x="151" y="1244"/>
                  </a:lnTo>
                  <a:lnTo>
                    <a:pt x="124" y="1239"/>
                  </a:lnTo>
                  <a:lnTo>
                    <a:pt x="158" y="1251"/>
                  </a:lnTo>
                  <a:lnTo>
                    <a:pt x="150" y="1262"/>
                  </a:lnTo>
                  <a:lnTo>
                    <a:pt x="130" y="1291"/>
                  </a:lnTo>
                  <a:lnTo>
                    <a:pt x="116" y="1316"/>
                  </a:lnTo>
                  <a:lnTo>
                    <a:pt x="106" y="1340"/>
                  </a:lnTo>
                  <a:lnTo>
                    <a:pt x="99" y="1361"/>
                  </a:lnTo>
                  <a:lnTo>
                    <a:pt x="95" y="1382"/>
                  </a:lnTo>
                  <a:lnTo>
                    <a:pt x="91" y="1410"/>
                  </a:lnTo>
                  <a:lnTo>
                    <a:pt x="90" y="1428"/>
                  </a:lnTo>
                  <a:lnTo>
                    <a:pt x="91" y="1454"/>
                  </a:lnTo>
                  <a:lnTo>
                    <a:pt x="90" y="1477"/>
                  </a:lnTo>
                  <a:lnTo>
                    <a:pt x="90" y="1493"/>
                  </a:lnTo>
                  <a:lnTo>
                    <a:pt x="85" y="1527"/>
                  </a:lnTo>
                  <a:lnTo>
                    <a:pt x="75" y="1543"/>
                  </a:lnTo>
                  <a:lnTo>
                    <a:pt x="69" y="1555"/>
                  </a:lnTo>
                  <a:lnTo>
                    <a:pt x="60" y="1656"/>
                  </a:lnTo>
                  <a:lnTo>
                    <a:pt x="46" y="1662"/>
                  </a:lnTo>
                  <a:lnTo>
                    <a:pt x="33" y="1670"/>
                  </a:lnTo>
                  <a:lnTo>
                    <a:pt x="21" y="1674"/>
                  </a:lnTo>
                  <a:lnTo>
                    <a:pt x="5" y="1667"/>
                  </a:lnTo>
                  <a:lnTo>
                    <a:pt x="21" y="1678"/>
                  </a:lnTo>
                  <a:lnTo>
                    <a:pt x="34" y="1675"/>
                  </a:lnTo>
                  <a:lnTo>
                    <a:pt x="47" y="1669"/>
                  </a:lnTo>
                  <a:lnTo>
                    <a:pt x="60" y="1664"/>
                  </a:lnTo>
                  <a:lnTo>
                    <a:pt x="57" y="1678"/>
                  </a:lnTo>
                  <a:lnTo>
                    <a:pt x="51" y="1695"/>
                  </a:lnTo>
                  <a:lnTo>
                    <a:pt x="36" y="1716"/>
                  </a:lnTo>
                  <a:lnTo>
                    <a:pt x="17" y="1735"/>
                  </a:lnTo>
                  <a:lnTo>
                    <a:pt x="36" y="1719"/>
                  </a:lnTo>
                  <a:lnTo>
                    <a:pt x="47" y="1709"/>
                  </a:lnTo>
                  <a:lnTo>
                    <a:pt x="54" y="1698"/>
                  </a:lnTo>
                  <a:lnTo>
                    <a:pt x="62" y="1685"/>
                  </a:lnTo>
                  <a:lnTo>
                    <a:pt x="69" y="1656"/>
                  </a:lnTo>
                  <a:lnTo>
                    <a:pt x="73" y="1587"/>
                  </a:lnTo>
                  <a:lnTo>
                    <a:pt x="75" y="1558"/>
                  </a:lnTo>
                  <a:lnTo>
                    <a:pt x="83" y="1545"/>
                  </a:lnTo>
                  <a:lnTo>
                    <a:pt x="91" y="1534"/>
                  </a:lnTo>
                  <a:lnTo>
                    <a:pt x="96" y="1501"/>
                  </a:lnTo>
                  <a:lnTo>
                    <a:pt x="99" y="1467"/>
                  </a:lnTo>
                  <a:lnTo>
                    <a:pt x="99" y="1436"/>
                  </a:lnTo>
                  <a:lnTo>
                    <a:pt x="103" y="1404"/>
                  </a:lnTo>
                  <a:lnTo>
                    <a:pt x="104" y="1382"/>
                  </a:lnTo>
                  <a:lnTo>
                    <a:pt x="112" y="1352"/>
                  </a:lnTo>
                  <a:lnTo>
                    <a:pt x="121" y="1327"/>
                  </a:lnTo>
                  <a:lnTo>
                    <a:pt x="130" y="1308"/>
                  </a:lnTo>
                  <a:lnTo>
                    <a:pt x="147" y="1285"/>
                  </a:lnTo>
                  <a:lnTo>
                    <a:pt x="164" y="1259"/>
                  </a:lnTo>
                  <a:lnTo>
                    <a:pt x="179" y="1241"/>
                  </a:lnTo>
                  <a:lnTo>
                    <a:pt x="192" y="1231"/>
                  </a:lnTo>
                  <a:lnTo>
                    <a:pt x="200" y="1234"/>
                  </a:lnTo>
                  <a:lnTo>
                    <a:pt x="202" y="1267"/>
                  </a:lnTo>
                  <a:lnTo>
                    <a:pt x="202" y="1298"/>
                  </a:lnTo>
                  <a:lnTo>
                    <a:pt x="200" y="1324"/>
                  </a:lnTo>
                  <a:lnTo>
                    <a:pt x="197" y="1343"/>
                  </a:lnTo>
                  <a:lnTo>
                    <a:pt x="192" y="1363"/>
                  </a:lnTo>
                  <a:lnTo>
                    <a:pt x="181" y="1392"/>
                  </a:lnTo>
                  <a:lnTo>
                    <a:pt x="164" y="1422"/>
                  </a:lnTo>
                  <a:lnTo>
                    <a:pt x="148" y="1451"/>
                  </a:lnTo>
                  <a:lnTo>
                    <a:pt x="134" y="1482"/>
                  </a:lnTo>
                  <a:lnTo>
                    <a:pt x="119" y="1516"/>
                  </a:lnTo>
                  <a:lnTo>
                    <a:pt x="112" y="1537"/>
                  </a:lnTo>
                  <a:lnTo>
                    <a:pt x="109" y="1550"/>
                  </a:lnTo>
                  <a:lnTo>
                    <a:pt x="104" y="1586"/>
                  </a:lnTo>
                  <a:lnTo>
                    <a:pt x="101" y="1617"/>
                  </a:lnTo>
                  <a:lnTo>
                    <a:pt x="77" y="1630"/>
                  </a:lnTo>
                  <a:lnTo>
                    <a:pt x="99" y="1622"/>
                  </a:lnTo>
                  <a:lnTo>
                    <a:pt x="98" y="1638"/>
                  </a:lnTo>
                  <a:lnTo>
                    <a:pt x="95" y="1657"/>
                  </a:lnTo>
                  <a:lnTo>
                    <a:pt x="88" y="1677"/>
                  </a:lnTo>
                  <a:lnTo>
                    <a:pt x="78" y="1701"/>
                  </a:lnTo>
                  <a:lnTo>
                    <a:pt x="95" y="1670"/>
                  </a:lnTo>
                  <a:lnTo>
                    <a:pt x="103" y="1646"/>
                  </a:lnTo>
                  <a:lnTo>
                    <a:pt x="106" y="1633"/>
                  </a:lnTo>
                  <a:lnTo>
                    <a:pt x="109" y="1613"/>
                  </a:lnTo>
                  <a:lnTo>
                    <a:pt x="111" y="1594"/>
                  </a:lnTo>
                  <a:lnTo>
                    <a:pt x="117" y="1560"/>
                  </a:lnTo>
                  <a:lnTo>
                    <a:pt x="124" y="1535"/>
                  </a:lnTo>
                  <a:lnTo>
                    <a:pt x="138" y="1501"/>
                  </a:lnTo>
                  <a:lnTo>
                    <a:pt x="156" y="1467"/>
                  </a:lnTo>
                  <a:lnTo>
                    <a:pt x="176" y="1430"/>
                  </a:lnTo>
                  <a:lnTo>
                    <a:pt x="187" y="1409"/>
                  </a:lnTo>
                  <a:lnTo>
                    <a:pt x="199" y="1384"/>
                  </a:lnTo>
                  <a:lnTo>
                    <a:pt x="207" y="1366"/>
                  </a:lnTo>
                  <a:lnTo>
                    <a:pt x="212" y="1343"/>
                  </a:lnTo>
                  <a:lnTo>
                    <a:pt x="213" y="1316"/>
                  </a:lnTo>
                  <a:lnTo>
                    <a:pt x="215" y="1285"/>
                  </a:lnTo>
                  <a:lnTo>
                    <a:pt x="213" y="1243"/>
                  </a:lnTo>
                  <a:lnTo>
                    <a:pt x="210" y="1217"/>
                  </a:lnTo>
                  <a:lnTo>
                    <a:pt x="223" y="1205"/>
                  </a:lnTo>
                  <a:lnTo>
                    <a:pt x="239" y="1204"/>
                  </a:lnTo>
                  <a:lnTo>
                    <a:pt x="262" y="1204"/>
                  </a:lnTo>
                  <a:lnTo>
                    <a:pt x="223" y="1199"/>
                  </a:lnTo>
                  <a:lnTo>
                    <a:pt x="207" y="1205"/>
                  </a:lnTo>
                  <a:lnTo>
                    <a:pt x="202" y="1171"/>
                  </a:lnTo>
                  <a:lnTo>
                    <a:pt x="197" y="1140"/>
                  </a:lnTo>
                  <a:lnTo>
                    <a:pt x="186" y="1096"/>
                  </a:lnTo>
                  <a:lnTo>
                    <a:pt x="194" y="1072"/>
                  </a:lnTo>
                  <a:lnTo>
                    <a:pt x="208" y="1028"/>
                  </a:lnTo>
                  <a:lnTo>
                    <a:pt x="220" y="1000"/>
                  </a:lnTo>
                  <a:lnTo>
                    <a:pt x="231" y="974"/>
                  </a:lnTo>
                  <a:lnTo>
                    <a:pt x="242" y="947"/>
                  </a:lnTo>
                  <a:lnTo>
                    <a:pt x="255" y="919"/>
                  </a:lnTo>
                  <a:lnTo>
                    <a:pt x="267" y="888"/>
                  </a:lnTo>
                  <a:lnTo>
                    <a:pt x="273" y="862"/>
                  </a:lnTo>
                  <a:lnTo>
                    <a:pt x="278" y="831"/>
                  </a:lnTo>
                  <a:lnTo>
                    <a:pt x="290" y="760"/>
                  </a:lnTo>
                  <a:lnTo>
                    <a:pt x="301" y="688"/>
                  </a:lnTo>
                  <a:lnTo>
                    <a:pt x="311" y="690"/>
                  </a:lnTo>
                  <a:lnTo>
                    <a:pt x="317" y="695"/>
                  </a:lnTo>
                  <a:lnTo>
                    <a:pt x="325" y="706"/>
                  </a:lnTo>
                  <a:lnTo>
                    <a:pt x="329" y="721"/>
                  </a:lnTo>
                  <a:lnTo>
                    <a:pt x="330" y="761"/>
                  </a:lnTo>
                  <a:lnTo>
                    <a:pt x="325" y="803"/>
                  </a:lnTo>
                  <a:lnTo>
                    <a:pt x="325" y="839"/>
                  </a:lnTo>
                  <a:lnTo>
                    <a:pt x="325" y="865"/>
                  </a:lnTo>
                  <a:lnTo>
                    <a:pt x="322" y="880"/>
                  </a:lnTo>
                  <a:lnTo>
                    <a:pt x="316" y="896"/>
                  </a:lnTo>
                  <a:lnTo>
                    <a:pt x="301" y="921"/>
                  </a:lnTo>
                  <a:lnTo>
                    <a:pt x="285" y="953"/>
                  </a:lnTo>
                  <a:lnTo>
                    <a:pt x="262" y="995"/>
                  </a:lnTo>
                  <a:lnTo>
                    <a:pt x="249" y="1033"/>
                  </a:lnTo>
                  <a:lnTo>
                    <a:pt x="244" y="1062"/>
                  </a:lnTo>
                  <a:lnTo>
                    <a:pt x="236" y="1088"/>
                  </a:lnTo>
                  <a:lnTo>
                    <a:pt x="231" y="1121"/>
                  </a:lnTo>
                  <a:lnTo>
                    <a:pt x="212" y="1174"/>
                  </a:lnTo>
                  <a:lnTo>
                    <a:pt x="229" y="1134"/>
                  </a:lnTo>
                  <a:lnTo>
                    <a:pt x="241" y="1091"/>
                  </a:lnTo>
                  <a:lnTo>
                    <a:pt x="251" y="1064"/>
                  </a:lnTo>
                  <a:lnTo>
                    <a:pt x="255" y="1034"/>
                  </a:lnTo>
                  <a:lnTo>
                    <a:pt x="264" y="1010"/>
                  </a:lnTo>
                  <a:lnTo>
                    <a:pt x="275" y="986"/>
                  </a:lnTo>
                  <a:lnTo>
                    <a:pt x="290" y="956"/>
                  </a:lnTo>
                  <a:lnTo>
                    <a:pt x="307" y="924"/>
                  </a:lnTo>
                  <a:lnTo>
                    <a:pt x="320" y="904"/>
                  </a:lnTo>
                  <a:lnTo>
                    <a:pt x="329" y="886"/>
                  </a:lnTo>
                  <a:lnTo>
                    <a:pt x="332" y="872"/>
                  </a:lnTo>
                  <a:lnTo>
                    <a:pt x="332" y="839"/>
                  </a:lnTo>
                  <a:lnTo>
                    <a:pt x="332" y="815"/>
                  </a:lnTo>
                  <a:lnTo>
                    <a:pt x="338" y="766"/>
                  </a:lnTo>
                  <a:lnTo>
                    <a:pt x="338" y="740"/>
                  </a:lnTo>
                  <a:lnTo>
                    <a:pt x="337" y="712"/>
                  </a:lnTo>
                  <a:lnTo>
                    <a:pt x="333" y="695"/>
                  </a:lnTo>
                  <a:lnTo>
                    <a:pt x="327" y="683"/>
                  </a:lnTo>
                  <a:lnTo>
                    <a:pt x="316" y="672"/>
                  </a:lnTo>
                  <a:lnTo>
                    <a:pt x="304" y="667"/>
                  </a:lnTo>
                  <a:lnTo>
                    <a:pt x="312" y="610"/>
                  </a:lnTo>
                  <a:lnTo>
                    <a:pt x="324" y="535"/>
                  </a:lnTo>
                  <a:lnTo>
                    <a:pt x="333" y="483"/>
                  </a:lnTo>
                  <a:lnTo>
                    <a:pt x="342" y="444"/>
                  </a:lnTo>
                  <a:lnTo>
                    <a:pt x="346" y="420"/>
                  </a:lnTo>
                  <a:lnTo>
                    <a:pt x="355" y="382"/>
                  </a:lnTo>
                  <a:lnTo>
                    <a:pt x="363" y="356"/>
                  </a:lnTo>
                  <a:lnTo>
                    <a:pt x="372" y="324"/>
                  </a:lnTo>
                  <a:lnTo>
                    <a:pt x="382" y="298"/>
                  </a:lnTo>
                  <a:lnTo>
                    <a:pt x="390" y="275"/>
                  </a:lnTo>
                  <a:lnTo>
                    <a:pt x="400" y="254"/>
                  </a:lnTo>
                  <a:lnTo>
                    <a:pt x="410" y="236"/>
                  </a:lnTo>
                  <a:lnTo>
                    <a:pt x="428" y="213"/>
                  </a:lnTo>
                  <a:lnTo>
                    <a:pt x="433" y="238"/>
                  </a:lnTo>
                  <a:lnTo>
                    <a:pt x="442" y="262"/>
                  </a:lnTo>
                  <a:lnTo>
                    <a:pt x="449" y="281"/>
                  </a:lnTo>
                  <a:lnTo>
                    <a:pt x="457" y="303"/>
                  </a:lnTo>
                  <a:lnTo>
                    <a:pt x="468" y="329"/>
                  </a:lnTo>
                  <a:lnTo>
                    <a:pt x="475" y="360"/>
                  </a:lnTo>
                  <a:lnTo>
                    <a:pt x="476" y="397"/>
                  </a:lnTo>
                  <a:lnTo>
                    <a:pt x="475" y="425"/>
                  </a:lnTo>
                  <a:lnTo>
                    <a:pt x="468" y="462"/>
                  </a:lnTo>
                  <a:lnTo>
                    <a:pt x="463" y="493"/>
                  </a:lnTo>
                  <a:lnTo>
                    <a:pt x="459" y="519"/>
                  </a:lnTo>
                  <a:lnTo>
                    <a:pt x="454" y="545"/>
                  </a:lnTo>
                  <a:lnTo>
                    <a:pt x="450" y="571"/>
                  </a:lnTo>
                  <a:lnTo>
                    <a:pt x="449" y="592"/>
                  </a:lnTo>
                  <a:lnTo>
                    <a:pt x="449" y="628"/>
                  </a:lnTo>
                  <a:lnTo>
                    <a:pt x="452" y="662"/>
                  </a:lnTo>
                  <a:lnTo>
                    <a:pt x="470" y="758"/>
                  </a:lnTo>
                  <a:lnTo>
                    <a:pt x="462" y="685"/>
                  </a:lnTo>
                  <a:lnTo>
                    <a:pt x="459" y="655"/>
                  </a:lnTo>
                  <a:lnTo>
                    <a:pt x="457" y="636"/>
                  </a:lnTo>
                  <a:lnTo>
                    <a:pt x="459" y="616"/>
                  </a:lnTo>
                  <a:lnTo>
                    <a:pt x="462" y="587"/>
                  </a:lnTo>
                  <a:lnTo>
                    <a:pt x="465" y="553"/>
                  </a:lnTo>
                  <a:lnTo>
                    <a:pt x="472" y="522"/>
                  </a:lnTo>
                  <a:lnTo>
                    <a:pt x="478" y="491"/>
                  </a:lnTo>
                  <a:lnTo>
                    <a:pt x="485" y="465"/>
                  </a:lnTo>
                  <a:lnTo>
                    <a:pt x="489" y="441"/>
                  </a:lnTo>
                  <a:lnTo>
                    <a:pt x="493" y="408"/>
                  </a:lnTo>
                  <a:lnTo>
                    <a:pt x="494" y="382"/>
                  </a:lnTo>
                  <a:lnTo>
                    <a:pt x="491" y="350"/>
                  </a:lnTo>
                  <a:lnTo>
                    <a:pt x="486" y="325"/>
                  </a:lnTo>
                  <a:lnTo>
                    <a:pt x="478" y="303"/>
                  </a:lnTo>
                  <a:lnTo>
                    <a:pt x="468" y="281"/>
                  </a:lnTo>
                  <a:lnTo>
                    <a:pt x="455" y="244"/>
                  </a:lnTo>
                  <a:lnTo>
                    <a:pt x="450" y="223"/>
                  </a:lnTo>
                  <a:lnTo>
                    <a:pt x="447" y="198"/>
                  </a:lnTo>
                  <a:lnTo>
                    <a:pt x="459" y="185"/>
                  </a:lnTo>
                  <a:lnTo>
                    <a:pt x="476" y="171"/>
                  </a:lnTo>
                  <a:lnTo>
                    <a:pt x="491" y="159"/>
                  </a:lnTo>
                  <a:lnTo>
                    <a:pt x="507" y="148"/>
                  </a:lnTo>
                  <a:lnTo>
                    <a:pt x="533" y="129"/>
                  </a:lnTo>
                  <a:lnTo>
                    <a:pt x="561" y="111"/>
                  </a:lnTo>
                  <a:lnTo>
                    <a:pt x="582" y="98"/>
                  </a:lnTo>
                  <a:lnTo>
                    <a:pt x="603" y="85"/>
                  </a:lnTo>
                  <a:lnTo>
                    <a:pt x="632" y="67"/>
                  </a:lnTo>
                  <a:lnTo>
                    <a:pt x="660" y="54"/>
                  </a:lnTo>
                  <a:lnTo>
                    <a:pt x="678" y="46"/>
                  </a:lnTo>
                  <a:lnTo>
                    <a:pt x="702" y="36"/>
                  </a:lnTo>
                  <a:lnTo>
                    <a:pt x="727" y="28"/>
                  </a:lnTo>
                  <a:lnTo>
                    <a:pt x="749" y="23"/>
                  </a:lnTo>
                  <a:lnTo>
                    <a:pt x="772" y="20"/>
                  </a:lnTo>
                  <a:lnTo>
                    <a:pt x="792" y="21"/>
                  </a:lnTo>
                  <a:lnTo>
                    <a:pt x="811" y="24"/>
                  </a:lnTo>
                  <a:lnTo>
                    <a:pt x="829" y="29"/>
                  </a:lnTo>
                  <a:lnTo>
                    <a:pt x="850" y="36"/>
                  </a:lnTo>
                  <a:lnTo>
                    <a:pt x="871" y="49"/>
                  </a:lnTo>
                  <a:lnTo>
                    <a:pt x="886" y="62"/>
                  </a:lnTo>
                  <a:lnTo>
                    <a:pt x="900" y="77"/>
                  </a:lnTo>
                  <a:lnTo>
                    <a:pt x="912" y="91"/>
                  </a:lnTo>
                  <a:lnTo>
                    <a:pt x="922" y="106"/>
                  </a:lnTo>
                  <a:lnTo>
                    <a:pt x="928" y="122"/>
                  </a:lnTo>
                  <a:lnTo>
                    <a:pt x="933" y="140"/>
                  </a:lnTo>
                  <a:lnTo>
                    <a:pt x="936" y="156"/>
                  </a:lnTo>
                  <a:lnTo>
                    <a:pt x="939" y="184"/>
                  </a:lnTo>
                  <a:lnTo>
                    <a:pt x="941" y="205"/>
                  </a:lnTo>
                  <a:lnTo>
                    <a:pt x="944" y="268"/>
                  </a:lnTo>
                  <a:lnTo>
                    <a:pt x="978" y="265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9" name=""/>
            <p:cNvSpPr/>
            <p:nvPr/>
          </p:nvSpPr>
          <p:spPr>
            <a:xfrm>
              <a:off x="1005120" y="4722120"/>
              <a:ext cx="132120" cy="142200"/>
            </a:xfrm>
            <a:custGeom>
              <a:avLst/>
              <a:gdLst/>
              <a:ahLst/>
              <a:rect l="l" t="t" r="r" b="b"/>
              <a:pathLst>
                <a:path w="332" h="646">
                  <a:moveTo>
                    <a:pt x="44" y="0"/>
                  </a:moveTo>
                  <a:lnTo>
                    <a:pt x="61" y="3"/>
                  </a:lnTo>
                  <a:lnTo>
                    <a:pt x="82" y="11"/>
                  </a:lnTo>
                  <a:lnTo>
                    <a:pt x="101" y="21"/>
                  </a:lnTo>
                  <a:lnTo>
                    <a:pt x="117" y="31"/>
                  </a:lnTo>
                  <a:lnTo>
                    <a:pt x="135" y="44"/>
                  </a:lnTo>
                  <a:lnTo>
                    <a:pt x="156" y="60"/>
                  </a:lnTo>
                  <a:lnTo>
                    <a:pt x="174" y="76"/>
                  </a:lnTo>
                  <a:lnTo>
                    <a:pt x="191" y="94"/>
                  </a:lnTo>
                  <a:lnTo>
                    <a:pt x="208" y="117"/>
                  </a:lnTo>
                  <a:lnTo>
                    <a:pt x="225" y="141"/>
                  </a:lnTo>
                  <a:lnTo>
                    <a:pt x="238" y="163"/>
                  </a:lnTo>
                  <a:lnTo>
                    <a:pt x="254" y="192"/>
                  </a:lnTo>
                  <a:lnTo>
                    <a:pt x="272" y="231"/>
                  </a:lnTo>
                  <a:lnTo>
                    <a:pt x="286" y="270"/>
                  </a:lnTo>
                  <a:lnTo>
                    <a:pt x="299" y="312"/>
                  </a:lnTo>
                  <a:lnTo>
                    <a:pt x="309" y="350"/>
                  </a:lnTo>
                  <a:lnTo>
                    <a:pt x="317" y="385"/>
                  </a:lnTo>
                  <a:lnTo>
                    <a:pt x="322" y="415"/>
                  </a:lnTo>
                  <a:lnTo>
                    <a:pt x="325" y="442"/>
                  </a:lnTo>
                  <a:lnTo>
                    <a:pt x="330" y="486"/>
                  </a:lnTo>
                  <a:lnTo>
                    <a:pt x="332" y="530"/>
                  </a:lnTo>
                  <a:lnTo>
                    <a:pt x="332" y="572"/>
                  </a:lnTo>
                  <a:lnTo>
                    <a:pt x="330" y="589"/>
                  </a:lnTo>
                  <a:lnTo>
                    <a:pt x="329" y="608"/>
                  </a:lnTo>
                  <a:lnTo>
                    <a:pt x="327" y="616"/>
                  </a:lnTo>
                  <a:lnTo>
                    <a:pt x="325" y="624"/>
                  </a:lnTo>
                  <a:lnTo>
                    <a:pt x="322" y="634"/>
                  </a:lnTo>
                  <a:lnTo>
                    <a:pt x="316" y="641"/>
                  </a:lnTo>
                  <a:lnTo>
                    <a:pt x="306" y="646"/>
                  </a:lnTo>
                  <a:lnTo>
                    <a:pt x="296" y="646"/>
                  </a:lnTo>
                  <a:lnTo>
                    <a:pt x="285" y="642"/>
                  </a:lnTo>
                  <a:lnTo>
                    <a:pt x="272" y="633"/>
                  </a:lnTo>
                  <a:lnTo>
                    <a:pt x="260" y="621"/>
                  </a:lnTo>
                  <a:lnTo>
                    <a:pt x="246" y="611"/>
                  </a:lnTo>
                  <a:lnTo>
                    <a:pt x="226" y="598"/>
                  </a:lnTo>
                  <a:lnTo>
                    <a:pt x="207" y="590"/>
                  </a:lnTo>
                  <a:lnTo>
                    <a:pt x="186" y="585"/>
                  </a:lnTo>
                  <a:lnTo>
                    <a:pt x="153" y="577"/>
                  </a:lnTo>
                  <a:lnTo>
                    <a:pt x="122" y="571"/>
                  </a:lnTo>
                  <a:lnTo>
                    <a:pt x="103" y="563"/>
                  </a:lnTo>
                  <a:lnTo>
                    <a:pt x="83" y="553"/>
                  </a:lnTo>
                  <a:lnTo>
                    <a:pt x="69" y="541"/>
                  </a:lnTo>
                  <a:lnTo>
                    <a:pt x="61" y="528"/>
                  </a:lnTo>
                  <a:lnTo>
                    <a:pt x="56" y="517"/>
                  </a:lnTo>
                  <a:lnTo>
                    <a:pt x="54" y="502"/>
                  </a:lnTo>
                  <a:lnTo>
                    <a:pt x="54" y="489"/>
                  </a:lnTo>
                  <a:lnTo>
                    <a:pt x="56" y="431"/>
                  </a:lnTo>
                  <a:lnTo>
                    <a:pt x="54" y="384"/>
                  </a:lnTo>
                  <a:lnTo>
                    <a:pt x="49" y="328"/>
                  </a:lnTo>
                  <a:lnTo>
                    <a:pt x="44" y="275"/>
                  </a:lnTo>
                  <a:lnTo>
                    <a:pt x="38" y="231"/>
                  </a:lnTo>
                  <a:lnTo>
                    <a:pt x="31" y="190"/>
                  </a:lnTo>
                  <a:lnTo>
                    <a:pt x="25" y="156"/>
                  </a:lnTo>
                  <a:lnTo>
                    <a:pt x="15" y="109"/>
                  </a:lnTo>
                  <a:lnTo>
                    <a:pt x="10" y="84"/>
                  </a:lnTo>
                  <a:lnTo>
                    <a:pt x="4" y="57"/>
                  </a:lnTo>
                  <a:lnTo>
                    <a:pt x="0" y="34"/>
                  </a:lnTo>
                  <a:lnTo>
                    <a:pt x="2" y="19"/>
                  </a:lnTo>
                  <a:lnTo>
                    <a:pt x="7" y="10"/>
                  </a:lnTo>
                  <a:lnTo>
                    <a:pt x="17" y="3"/>
                  </a:lnTo>
                  <a:lnTo>
                    <a:pt x="31" y="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f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0" name=""/>
            <p:cNvSpPr/>
            <p:nvPr/>
          </p:nvSpPr>
          <p:spPr>
            <a:xfrm>
              <a:off x="772560" y="4722120"/>
              <a:ext cx="132120" cy="142200"/>
            </a:xfrm>
            <a:custGeom>
              <a:avLst/>
              <a:gdLst/>
              <a:ahLst/>
              <a:rect l="l" t="t" r="r" b="b"/>
              <a:pathLst>
                <a:path w="332" h="646">
                  <a:moveTo>
                    <a:pt x="288" y="0"/>
                  </a:moveTo>
                  <a:lnTo>
                    <a:pt x="272" y="3"/>
                  </a:lnTo>
                  <a:lnTo>
                    <a:pt x="251" y="11"/>
                  </a:lnTo>
                  <a:lnTo>
                    <a:pt x="231" y="21"/>
                  </a:lnTo>
                  <a:lnTo>
                    <a:pt x="215" y="31"/>
                  </a:lnTo>
                  <a:lnTo>
                    <a:pt x="197" y="44"/>
                  </a:lnTo>
                  <a:lnTo>
                    <a:pt x="176" y="60"/>
                  </a:lnTo>
                  <a:lnTo>
                    <a:pt x="158" y="76"/>
                  </a:lnTo>
                  <a:lnTo>
                    <a:pt x="142" y="94"/>
                  </a:lnTo>
                  <a:lnTo>
                    <a:pt x="124" y="117"/>
                  </a:lnTo>
                  <a:lnTo>
                    <a:pt x="108" y="141"/>
                  </a:lnTo>
                  <a:lnTo>
                    <a:pt x="95" y="163"/>
                  </a:lnTo>
                  <a:lnTo>
                    <a:pt x="78" y="192"/>
                  </a:lnTo>
                  <a:lnTo>
                    <a:pt x="61" y="231"/>
                  </a:lnTo>
                  <a:lnTo>
                    <a:pt x="46" y="270"/>
                  </a:lnTo>
                  <a:lnTo>
                    <a:pt x="33" y="312"/>
                  </a:lnTo>
                  <a:lnTo>
                    <a:pt x="23" y="350"/>
                  </a:lnTo>
                  <a:lnTo>
                    <a:pt x="15" y="385"/>
                  </a:lnTo>
                  <a:lnTo>
                    <a:pt x="10" y="415"/>
                  </a:lnTo>
                  <a:lnTo>
                    <a:pt x="7" y="442"/>
                  </a:lnTo>
                  <a:lnTo>
                    <a:pt x="2" y="486"/>
                  </a:lnTo>
                  <a:lnTo>
                    <a:pt x="0" y="530"/>
                  </a:lnTo>
                  <a:lnTo>
                    <a:pt x="0" y="572"/>
                  </a:lnTo>
                  <a:lnTo>
                    <a:pt x="2" y="589"/>
                  </a:lnTo>
                  <a:lnTo>
                    <a:pt x="4" y="608"/>
                  </a:lnTo>
                  <a:lnTo>
                    <a:pt x="5" y="616"/>
                  </a:lnTo>
                  <a:lnTo>
                    <a:pt x="7" y="624"/>
                  </a:lnTo>
                  <a:lnTo>
                    <a:pt x="10" y="634"/>
                  </a:lnTo>
                  <a:lnTo>
                    <a:pt x="17" y="641"/>
                  </a:lnTo>
                  <a:lnTo>
                    <a:pt x="26" y="646"/>
                  </a:lnTo>
                  <a:lnTo>
                    <a:pt x="36" y="646"/>
                  </a:lnTo>
                  <a:lnTo>
                    <a:pt x="48" y="642"/>
                  </a:lnTo>
                  <a:lnTo>
                    <a:pt x="61" y="633"/>
                  </a:lnTo>
                  <a:lnTo>
                    <a:pt x="72" y="621"/>
                  </a:lnTo>
                  <a:lnTo>
                    <a:pt x="87" y="611"/>
                  </a:lnTo>
                  <a:lnTo>
                    <a:pt x="106" y="598"/>
                  </a:lnTo>
                  <a:lnTo>
                    <a:pt x="125" y="590"/>
                  </a:lnTo>
                  <a:lnTo>
                    <a:pt x="147" y="585"/>
                  </a:lnTo>
                  <a:lnTo>
                    <a:pt x="179" y="577"/>
                  </a:lnTo>
                  <a:lnTo>
                    <a:pt x="210" y="571"/>
                  </a:lnTo>
                  <a:lnTo>
                    <a:pt x="229" y="563"/>
                  </a:lnTo>
                  <a:lnTo>
                    <a:pt x="249" y="553"/>
                  </a:lnTo>
                  <a:lnTo>
                    <a:pt x="264" y="541"/>
                  </a:lnTo>
                  <a:lnTo>
                    <a:pt x="272" y="528"/>
                  </a:lnTo>
                  <a:lnTo>
                    <a:pt x="277" y="517"/>
                  </a:lnTo>
                  <a:lnTo>
                    <a:pt x="278" y="502"/>
                  </a:lnTo>
                  <a:lnTo>
                    <a:pt x="278" y="489"/>
                  </a:lnTo>
                  <a:lnTo>
                    <a:pt x="277" y="431"/>
                  </a:lnTo>
                  <a:lnTo>
                    <a:pt x="278" y="384"/>
                  </a:lnTo>
                  <a:lnTo>
                    <a:pt x="283" y="328"/>
                  </a:lnTo>
                  <a:lnTo>
                    <a:pt x="288" y="275"/>
                  </a:lnTo>
                  <a:lnTo>
                    <a:pt x="294" y="231"/>
                  </a:lnTo>
                  <a:lnTo>
                    <a:pt x="301" y="190"/>
                  </a:lnTo>
                  <a:lnTo>
                    <a:pt x="307" y="156"/>
                  </a:lnTo>
                  <a:lnTo>
                    <a:pt x="317" y="109"/>
                  </a:lnTo>
                  <a:lnTo>
                    <a:pt x="322" y="84"/>
                  </a:lnTo>
                  <a:lnTo>
                    <a:pt x="329" y="57"/>
                  </a:lnTo>
                  <a:lnTo>
                    <a:pt x="332" y="34"/>
                  </a:lnTo>
                  <a:lnTo>
                    <a:pt x="330" y="19"/>
                  </a:lnTo>
                  <a:lnTo>
                    <a:pt x="325" y="10"/>
                  </a:lnTo>
                  <a:lnTo>
                    <a:pt x="316" y="3"/>
                  </a:lnTo>
                  <a:lnTo>
                    <a:pt x="301" y="0"/>
                  </a:lnTo>
                  <a:lnTo>
                    <a:pt x="288" y="0"/>
                  </a:lnTo>
                  <a:close/>
                </a:path>
              </a:pathLst>
            </a:custGeom>
            <a:solidFill>
              <a:srgbClr val="f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1" name=""/>
            <p:cNvSpPr/>
            <p:nvPr/>
          </p:nvSpPr>
          <p:spPr>
            <a:xfrm>
              <a:off x="928080" y="4761000"/>
              <a:ext cx="72000" cy="40320"/>
            </a:xfrm>
            <a:custGeom>
              <a:avLst/>
              <a:gdLst/>
              <a:ahLst/>
              <a:rect l="l" t="t" r="r" b="b"/>
              <a:pathLst>
                <a:path w="180" h="183">
                  <a:moveTo>
                    <a:pt x="0" y="133"/>
                  </a:moveTo>
                  <a:lnTo>
                    <a:pt x="0" y="117"/>
                  </a:lnTo>
                  <a:lnTo>
                    <a:pt x="1" y="97"/>
                  </a:lnTo>
                  <a:lnTo>
                    <a:pt x="6" y="79"/>
                  </a:lnTo>
                  <a:lnTo>
                    <a:pt x="13" y="61"/>
                  </a:lnTo>
                  <a:lnTo>
                    <a:pt x="19" y="48"/>
                  </a:lnTo>
                  <a:lnTo>
                    <a:pt x="26" y="37"/>
                  </a:lnTo>
                  <a:lnTo>
                    <a:pt x="35" y="26"/>
                  </a:lnTo>
                  <a:lnTo>
                    <a:pt x="45" y="17"/>
                  </a:lnTo>
                  <a:lnTo>
                    <a:pt x="55" y="11"/>
                  </a:lnTo>
                  <a:lnTo>
                    <a:pt x="73" y="4"/>
                  </a:lnTo>
                  <a:lnTo>
                    <a:pt x="94" y="0"/>
                  </a:lnTo>
                  <a:lnTo>
                    <a:pt x="117" y="1"/>
                  </a:lnTo>
                  <a:lnTo>
                    <a:pt x="136" y="8"/>
                  </a:lnTo>
                  <a:lnTo>
                    <a:pt x="149" y="16"/>
                  </a:lnTo>
                  <a:lnTo>
                    <a:pt x="162" y="27"/>
                  </a:lnTo>
                  <a:lnTo>
                    <a:pt x="174" y="43"/>
                  </a:lnTo>
                  <a:lnTo>
                    <a:pt x="178" y="61"/>
                  </a:lnTo>
                  <a:lnTo>
                    <a:pt x="180" y="81"/>
                  </a:lnTo>
                  <a:lnTo>
                    <a:pt x="178" y="104"/>
                  </a:lnTo>
                  <a:lnTo>
                    <a:pt x="170" y="126"/>
                  </a:lnTo>
                  <a:lnTo>
                    <a:pt x="149" y="183"/>
                  </a:lnTo>
                  <a:lnTo>
                    <a:pt x="1" y="183"/>
                  </a:lnTo>
                  <a:lnTo>
                    <a:pt x="0" y="133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2" name=""/>
            <p:cNvSpPr/>
            <p:nvPr/>
          </p:nvSpPr>
          <p:spPr>
            <a:xfrm>
              <a:off x="939960" y="4768920"/>
              <a:ext cx="50040" cy="28800"/>
            </a:xfrm>
            <a:custGeom>
              <a:avLst/>
              <a:gdLst/>
              <a:ahLst/>
              <a:rect l="l" t="t" r="r" b="b"/>
              <a:pathLst>
                <a:path w="125" h="130">
                  <a:moveTo>
                    <a:pt x="0" y="96"/>
                  </a:moveTo>
                  <a:lnTo>
                    <a:pt x="0" y="81"/>
                  </a:lnTo>
                  <a:lnTo>
                    <a:pt x="3" y="62"/>
                  </a:lnTo>
                  <a:lnTo>
                    <a:pt x="8" y="44"/>
                  </a:lnTo>
                  <a:lnTo>
                    <a:pt x="16" y="29"/>
                  </a:lnTo>
                  <a:lnTo>
                    <a:pt x="24" y="19"/>
                  </a:lnTo>
                  <a:lnTo>
                    <a:pt x="34" y="10"/>
                  </a:lnTo>
                  <a:lnTo>
                    <a:pt x="45" y="3"/>
                  </a:lnTo>
                  <a:lnTo>
                    <a:pt x="61" y="0"/>
                  </a:lnTo>
                  <a:lnTo>
                    <a:pt x="81" y="2"/>
                  </a:lnTo>
                  <a:lnTo>
                    <a:pt x="63" y="6"/>
                  </a:lnTo>
                  <a:lnTo>
                    <a:pt x="52" y="13"/>
                  </a:lnTo>
                  <a:lnTo>
                    <a:pt x="42" y="23"/>
                  </a:lnTo>
                  <a:lnTo>
                    <a:pt x="37" y="31"/>
                  </a:lnTo>
                  <a:lnTo>
                    <a:pt x="30" y="47"/>
                  </a:lnTo>
                  <a:lnTo>
                    <a:pt x="27" y="65"/>
                  </a:lnTo>
                  <a:lnTo>
                    <a:pt x="34" y="52"/>
                  </a:lnTo>
                  <a:lnTo>
                    <a:pt x="40" y="42"/>
                  </a:lnTo>
                  <a:lnTo>
                    <a:pt x="48" y="32"/>
                  </a:lnTo>
                  <a:lnTo>
                    <a:pt x="60" y="23"/>
                  </a:lnTo>
                  <a:lnTo>
                    <a:pt x="73" y="16"/>
                  </a:lnTo>
                  <a:lnTo>
                    <a:pt x="92" y="10"/>
                  </a:lnTo>
                  <a:lnTo>
                    <a:pt x="104" y="10"/>
                  </a:lnTo>
                  <a:lnTo>
                    <a:pt x="117" y="13"/>
                  </a:lnTo>
                  <a:lnTo>
                    <a:pt x="123" y="21"/>
                  </a:lnTo>
                  <a:lnTo>
                    <a:pt x="125" y="29"/>
                  </a:lnTo>
                  <a:lnTo>
                    <a:pt x="125" y="39"/>
                  </a:lnTo>
                  <a:lnTo>
                    <a:pt x="123" y="50"/>
                  </a:lnTo>
                  <a:lnTo>
                    <a:pt x="120" y="58"/>
                  </a:lnTo>
                  <a:lnTo>
                    <a:pt x="112" y="67"/>
                  </a:lnTo>
                  <a:lnTo>
                    <a:pt x="99" y="72"/>
                  </a:lnTo>
                  <a:lnTo>
                    <a:pt x="81" y="81"/>
                  </a:lnTo>
                  <a:lnTo>
                    <a:pt x="68" y="91"/>
                  </a:lnTo>
                  <a:lnTo>
                    <a:pt x="58" y="107"/>
                  </a:lnTo>
                  <a:lnTo>
                    <a:pt x="52" y="130"/>
                  </a:lnTo>
                  <a:lnTo>
                    <a:pt x="4" y="130"/>
                  </a:lnTo>
                  <a:lnTo>
                    <a:pt x="1" y="114"/>
                  </a:lnTo>
                  <a:lnTo>
                    <a:pt x="0" y="96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3" name=""/>
            <p:cNvSpPr/>
            <p:nvPr/>
          </p:nvSpPr>
          <p:spPr>
            <a:xfrm>
              <a:off x="892080" y="4782600"/>
              <a:ext cx="128160" cy="68760"/>
            </a:xfrm>
            <a:custGeom>
              <a:avLst/>
              <a:gdLst/>
              <a:ahLst/>
              <a:rect l="l" t="t" r="r" b="b"/>
              <a:pathLst>
                <a:path w="320" h="314">
                  <a:moveTo>
                    <a:pt x="119" y="55"/>
                  </a:moveTo>
                  <a:lnTo>
                    <a:pt x="112" y="47"/>
                  </a:lnTo>
                  <a:lnTo>
                    <a:pt x="103" y="38"/>
                  </a:lnTo>
                  <a:lnTo>
                    <a:pt x="85" y="29"/>
                  </a:lnTo>
                  <a:lnTo>
                    <a:pt x="78" y="28"/>
                  </a:lnTo>
                  <a:lnTo>
                    <a:pt x="67" y="28"/>
                  </a:lnTo>
                  <a:lnTo>
                    <a:pt x="56" y="28"/>
                  </a:lnTo>
                  <a:lnTo>
                    <a:pt x="39" y="31"/>
                  </a:lnTo>
                  <a:lnTo>
                    <a:pt x="30" y="36"/>
                  </a:lnTo>
                  <a:lnTo>
                    <a:pt x="20" y="44"/>
                  </a:lnTo>
                  <a:lnTo>
                    <a:pt x="13" y="54"/>
                  </a:lnTo>
                  <a:lnTo>
                    <a:pt x="7" y="65"/>
                  </a:lnTo>
                  <a:lnTo>
                    <a:pt x="2" y="80"/>
                  </a:lnTo>
                  <a:lnTo>
                    <a:pt x="0" y="90"/>
                  </a:lnTo>
                  <a:lnTo>
                    <a:pt x="0" y="104"/>
                  </a:lnTo>
                  <a:lnTo>
                    <a:pt x="4" y="119"/>
                  </a:lnTo>
                  <a:lnTo>
                    <a:pt x="8" y="133"/>
                  </a:lnTo>
                  <a:lnTo>
                    <a:pt x="18" y="145"/>
                  </a:lnTo>
                  <a:lnTo>
                    <a:pt x="30" y="153"/>
                  </a:lnTo>
                  <a:lnTo>
                    <a:pt x="23" y="169"/>
                  </a:lnTo>
                  <a:lnTo>
                    <a:pt x="20" y="184"/>
                  </a:lnTo>
                  <a:lnTo>
                    <a:pt x="20" y="199"/>
                  </a:lnTo>
                  <a:lnTo>
                    <a:pt x="21" y="207"/>
                  </a:lnTo>
                  <a:lnTo>
                    <a:pt x="28" y="221"/>
                  </a:lnTo>
                  <a:lnTo>
                    <a:pt x="36" y="233"/>
                  </a:lnTo>
                  <a:lnTo>
                    <a:pt x="52" y="249"/>
                  </a:lnTo>
                  <a:lnTo>
                    <a:pt x="77" y="264"/>
                  </a:lnTo>
                  <a:lnTo>
                    <a:pt x="111" y="280"/>
                  </a:lnTo>
                  <a:lnTo>
                    <a:pt x="143" y="293"/>
                  </a:lnTo>
                  <a:lnTo>
                    <a:pt x="173" y="301"/>
                  </a:lnTo>
                  <a:lnTo>
                    <a:pt x="212" y="309"/>
                  </a:lnTo>
                  <a:lnTo>
                    <a:pt x="239" y="312"/>
                  </a:lnTo>
                  <a:lnTo>
                    <a:pt x="259" y="314"/>
                  </a:lnTo>
                  <a:lnTo>
                    <a:pt x="280" y="311"/>
                  </a:lnTo>
                  <a:lnTo>
                    <a:pt x="294" y="306"/>
                  </a:lnTo>
                  <a:lnTo>
                    <a:pt x="303" y="299"/>
                  </a:lnTo>
                  <a:lnTo>
                    <a:pt x="312" y="286"/>
                  </a:lnTo>
                  <a:lnTo>
                    <a:pt x="319" y="270"/>
                  </a:lnTo>
                  <a:lnTo>
                    <a:pt x="320" y="254"/>
                  </a:lnTo>
                  <a:lnTo>
                    <a:pt x="317" y="225"/>
                  </a:lnTo>
                  <a:lnTo>
                    <a:pt x="312" y="195"/>
                  </a:lnTo>
                  <a:lnTo>
                    <a:pt x="304" y="148"/>
                  </a:lnTo>
                  <a:lnTo>
                    <a:pt x="299" y="119"/>
                  </a:lnTo>
                  <a:lnTo>
                    <a:pt x="298" y="83"/>
                  </a:lnTo>
                  <a:lnTo>
                    <a:pt x="294" y="54"/>
                  </a:lnTo>
                  <a:lnTo>
                    <a:pt x="288" y="34"/>
                  </a:lnTo>
                  <a:lnTo>
                    <a:pt x="275" y="15"/>
                  </a:lnTo>
                  <a:lnTo>
                    <a:pt x="260" y="5"/>
                  </a:lnTo>
                  <a:lnTo>
                    <a:pt x="244" y="0"/>
                  </a:lnTo>
                  <a:lnTo>
                    <a:pt x="223" y="2"/>
                  </a:lnTo>
                  <a:lnTo>
                    <a:pt x="200" y="10"/>
                  </a:lnTo>
                  <a:lnTo>
                    <a:pt x="177" y="25"/>
                  </a:lnTo>
                  <a:lnTo>
                    <a:pt x="163" y="39"/>
                  </a:lnTo>
                  <a:lnTo>
                    <a:pt x="148" y="60"/>
                  </a:lnTo>
                  <a:lnTo>
                    <a:pt x="142" y="70"/>
                  </a:lnTo>
                  <a:lnTo>
                    <a:pt x="119" y="55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4" name=""/>
            <p:cNvSpPr/>
            <p:nvPr/>
          </p:nvSpPr>
          <p:spPr>
            <a:xfrm>
              <a:off x="990360" y="4741560"/>
              <a:ext cx="119160" cy="55800"/>
            </a:xfrm>
            <a:custGeom>
              <a:avLst/>
              <a:gdLst/>
              <a:ahLst/>
              <a:rect l="l" t="t" r="r" b="b"/>
              <a:pathLst>
                <a:path w="299" h="253">
                  <a:moveTo>
                    <a:pt x="0" y="118"/>
                  </a:moveTo>
                  <a:lnTo>
                    <a:pt x="58" y="118"/>
                  </a:lnTo>
                  <a:lnTo>
                    <a:pt x="78" y="117"/>
                  </a:lnTo>
                  <a:lnTo>
                    <a:pt x="89" y="110"/>
                  </a:lnTo>
                  <a:lnTo>
                    <a:pt x="96" y="102"/>
                  </a:lnTo>
                  <a:lnTo>
                    <a:pt x="99" y="94"/>
                  </a:lnTo>
                  <a:lnTo>
                    <a:pt x="99" y="79"/>
                  </a:lnTo>
                  <a:lnTo>
                    <a:pt x="99" y="53"/>
                  </a:lnTo>
                  <a:lnTo>
                    <a:pt x="100" y="35"/>
                  </a:lnTo>
                  <a:lnTo>
                    <a:pt x="105" y="21"/>
                  </a:lnTo>
                  <a:lnTo>
                    <a:pt x="115" y="9"/>
                  </a:lnTo>
                  <a:lnTo>
                    <a:pt x="126" y="3"/>
                  </a:lnTo>
                  <a:lnTo>
                    <a:pt x="141" y="0"/>
                  </a:lnTo>
                  <a:lnTo>
                    <a:pt x="161" y="0"/>
                  </a:lnTo>
                  <a:lnTo>
                    <a:pt x="180" y="6"/>
                  </a:lnTo>
                  <a:lnTo>
                    <a:pt x="198" y="18"/>
                  </a:lnTo>
                  <a:lnTo>
                    <a:pt x="214" y="34"/>
                  </a:lnTo>
                  <a:lnTo>
                    <a:pt x="232" y="57"/>
                  </a:lnTo>
                  <a:lnTo>
                    <a:pt x="247" y="79"/>
                  </a:lnTo>
                  <a:lnTo>
                    <a:pt x="258" y="101"/>
                  </a:lnTo>
                  <a:lnTo>
                    <a:pt x="273" y="133"/>
                  </a:lnTo>
                  <a:lnTo>
                    <a:pt x="282" y="159"/>
                  </a:lnTo>
                  <a:lnTo>
                    <a:pt x="290" y="182"/>
                  </a:lnTo>
                  <a:lnTo>
                    <a:pt x="297" y="206"/>
                  </a:lnTo>
                  <a:lnTo>
                    <a:pt x="299" y="239"/>
                  </a:lnTo>
                  <a:lnTo>
                    <a:pt x="290" y="208"/>
                  </a:lnTo>
                  <a:lnTo>
                    <a:pt x="284" y="188"/>
                  </a:lnTo>
                  <a:lnTo>
                    <a:pt x="274" y="169"/>
                  </a:lnTo>
                  <a:lnTo>
                    <a:pt x="264" y="148"/>
                  </a:lnTo>
                  <a:lnTo>
                    <a:pt x="256" y="130"/>
                  </a:lnTo>
                  <a:lnTo>
                    <a:pt x="243" y="104"/>
                  </a:lnTo>
                  <a:lnTo>
                    <a:pt x="232" y="84"/>
                  </a:lnTo>
                  <a:lnTo>
                    <a:pt x="219" y="63"/>
                  </a:lnTo>
                  <a:lnTo>
                    <a:pt x="209" y="50"/>
                  </a:lnTo>
                  <a:lnTo>
                    <a:pt x="196" y="37"/>
                  </a:lnTo>
                  <a:lnTo>
                    <a:pt x="178" y="22"/>
                  </a:lnTo>
                  <a:lnTo>
                    <a:pt x="162" y="18"/>
                  </a:lnTo>
                  <a:lnTo>
                    <a:pt x="146" y="18"/>
                  </a:lnTo>
                  <a:lnTo>
                    <a:pt x="135" y="21"/>
                  </a:lnTo>
                  <a:lnTo>
                    <a:pt x="128" y="27"/>
                  </a:lnTo>
                  <a:lnTo>
                    <a:pt x="123" y="39"/>
                  </a:lnTo>
                  <a:lnTo>
                    <a:pt x="135" y="31"/>
                  </a:lnTo>
                  <a:lnTo>
                    <a:pt x="143" y="27"/>
                  </a:lnTo>
                  <a:lnTo>
                    <a:pt x="154" y="27"/>
                  </a:lnTo>
                  <a:lnTo>
                    <a:pt x="172" y="31"/>
                  </a:lnTo>
                  <a:lnTo>
                    <a:pt x="187" y="42"/>
                  </a:lnTo>
                  <a:lnTo>
                    <a:pt x="195" y="52"/>
                  </a:lnTo>
                  <a:lnTo>
                    <a:pt x="206" y="68"/>
                  </a:lnTo>
                  <a:lnTo>
                    <a:pt x="219" y="89"/>
                  </a:lnTo>
                  <a:lnTo>
                    <a:pt x="234" y="115"/>
                  </a:lnTo>
                  <a:lnTo>
                    <a:pt x="243" y="135"/>
                  </a:lnTo>
                  <a:lnTo>
                    <a:pt x="250" y="151"/>
                  </a:lnTo>
                  <a:lnTo>
                    <a:pt x="258" y="174"/>
                  </a:lnTo>
                  <a:lnTo>
                    <a:pt x="264" y="195"/>
                  </a:lnTo>
                  <a:lnTo>
                    <a:pt x="271" y="226"/>
                  </a:lnTo>
                  <a:lnTo>
                    <a:pt x="255" y="185"/>
                  </a:lnTo>
                  <a:lnTo>
                    <a:pt x="243" y="159"/>
                  </a:lnTo>
                  <a:lnTo>
                    <a:pt x="232" y="140"/>
                  </a:lnTo>
                  <a:lnTo>
                    <a:pt x="222" y="122"/>
                  </a:lnTo>
                  <a:lnTo>
                    <a:pt x="211" y="104"/>
                  </a:lnTo>
                  <a:lnTo>
                    <a:pt x="200" y="83"/>
                  </a:lnTo>
                  <a:lnTo>
                    <a:pt x="180" y="60"/>
                  </a:lnTo>
                  <a:lnTo>
                    <a:pt x="169" y="50"/>
                  </a:lnTo>
                  <a:lnTo>
                    <a:pt x="156" y="47"/>
                  </a:lnTo>
                  <a:lnTo>
                    <a:pt x="143" y="47"/>
                  </a:lnTo>
                  <a:lnTo>
                    <a:pt x="131" y="55"/>
                  </a:lnTo>
                  <a:lnTo>
                    <a:pt x="126" y="65"/>
                  </a:lnTo>
                  <a:lnTo>
                    <a:pt x="136" y="58"/>
                  </a:lnTo>
                  <a:lnTo>
                    <a:pt x="148" y="57"/>
                  </a:lnTo>
                  <a:lnTo>
                    <a:pt x="159" y="58"/>
                  </a:lnTo>
                  <a:lnTo>
                    <a:pt x="170" y="65"/>
                  </a:lnTo>
                  <a:lnTo>
                    <a:pt x="180" y="75"/>
                  </a:lnTo>
                  <a:lnTo>
                    <a:pt x="191" y="88"/>
                  </a:lnTo>
                  <a:lnTo>
                    <a:pt x="204" y="109"/>
                  </a:lnTo>
                  <a:lnTo>
                    <a:pt x="222" y="138"/>
                  </a:lnTo>
                  <a:lnTo>
                    <a:pt x="234" y="157"/>
                  </a:lnTo>
                  <a:lnTo>
                    <a:pt x="247" y="182"/>
                  </a:lnTo>
                  <a:lnTo>
                    <a:pt x="255" y="206"/>
                  </a:lnTo>
                  <a:lnTo>
                    <a:pt x="263" y="239"/>
                  </a:lnTo>
                  <a:lnTo>
                    <a:pt x="237" y="185"/>
                  </a:lnTo>
                  <a:lnTo>
                    <a:pt x="229" y="170"/>
                  </a:lnTo>
                  <a:lnTo>
                    <a:pt x="221" y="162"/>
                  </a:lnTo>
                  <a:lnTo>
                    <a:pt x="221" y="193"/>
                  </a:lnTo>
                  <a:lnTo>
                    <a:pt x="214" y="167"/>
                  </a:lnTo>
                  <a:lnTo>
                    <a:pt x="208" y="148"/>
                  </a:lnTo>
                  <a:lnTo>
                    <a:pt x="198" y="130"/>
                  </a:lnTo>
                  <a:lnTo>
                    <a:pt x="185" y="110"/>
                  </a:lnTo>
                  <a:lnTo>
                    <a:pt x="177" y="97"/>
                  </a:lnTo>
                  <a:lnTo>
                    <a:pt x="165" y="88"/>
                  </a:lnTo>
                  <a:lnTo>
                    <a:pt x="152" y="83"/>
                  </a:lnTo>
                  <a:lnTo>
                    <a:pt x="141" y="83"/>
                  </a:lnTo>
                  <a:lnTo>
                    <a:pt x="130" y="86"/>
                  </a:lnTo>
                  <a:lnTo>
                    <a:pt x="125" y="92"/>
                  </a:lnTo>
                  <a:lnTo>
                    <a:pt x="141" y="92"/>
                  </a:lnTo>
                  <a:lnTo>
                    <a:pt x="156" y="99"/>
                  </a:lnTo>
                  <a:lnTo>
                    <a:pt x="167" y="107"/>
                  </a:lnTo>
                  <a:lnTo>
                    <a:pt x="180" y="122"/>
                  </a:lnTo>
                  <a:lnTo>
                    <a:pt x="195" y="143"/>
                  </a:lnTo>
                  <a:lnTo>
                    <a:pt x="206" y="167"/>
                  </a:lnTo>
                  <a:lnTo>
                    <a:pt x="213" y="187"/>
                  </a:lnTo>
                  <a:lnTo>
                    <a:pt x="216" y="210"/>
                  </a:lnTo>
                  <a:lnTo>
                    <a:pt x="204" y="183"/>
                  </a:lnTo>
                  <a:lnTo>
                    <a:pt x="196" y="169"/>
                  </a:lnTo>
                  <a:lnTo>
                    <a:pt x="187" y="156"/>
                  </a:lnTo>
                  <a:lnTo>
                    <a:pt x="170" y="131"/>
                  </a:lnTo>
                  <a:lnTo>
                    <a:pt x="159" y="122"/>
                  </a:lnTo>
                  <a:lnTo>
                    <a:pt x="148" y="117"/>
                  </a:lnTo>
                  <a:lnTo>
                    <a:pt x="135" y="112"/>
                  </a:lnTo>
                  <a:lnTo>
                    <a:pt x="120" y="112"/>
                  </a:lnTo>
                  <a:lnTo>
                    <a:pt x="141" y="118"/>
                  </a:lnTo>
                  <a:lnTo>
                    <a:pt x="154" y="128"/>
                  </a:lnTo>
                  <a:lnTo>
                    <a:pt x="165" y="140"/>
                  </a:lnTo>
                  <a:lnTo>
                    <a:pt x="175" y="149"/>
                  </a:lnTo>
                  <a:lnTo>
                    <a:pt x="187" y="169"/>
                  </a:lnTo>
                  <a:lnTo>
                    <a:pt x="200" y="198"/>
                  </a:lnTo>
                  <a:lnTo>
                    <a:pt x="170" y="154"/>
                  </a:lnTo>
                  <a:lnTo>
                    <a:pt x="178" y="179"/>
                  </a:lnTo>
                  <a:lnTo>
                    <a:pt x="157" y="146"/>
                  </a:lnTo>
                  <a:lnTo>
                    <a:pt x="148" y="140"/>
                  </a:lnTo>
                  <a:lnTo>
                    <a:pt x="141" y="135"/>
                  </a:lnTo>
                  <a:lnTo>
                    <a:pt x="130" y="131"/>
                  </a:lnTo>
                  <a:lnTo>
                    <a:pt x="138" y="138"/>
                  </a:lnTo>
                  <a:lnTo>
                    <a:pt x="148" y="148"/>
                  </a:lnTo>
                  <a:lnTo>
                    <a:pt x="156" y="157"/>
                  </a:lnTo>
                  <a:lnTo>
                    <a:pt x="165" y="170"/>
                  </a:lnTo>
                  <a:lnTo>
                    <a:pt x="177" y="187"/>
                  </a:lnTo>
                  <a:lnTo>
                    <a:pt x="185" y="203"/>
                  </a:lnTo>
                  <a:lnTo>
                    <a:pt x="191" y="224"/>
                  </a:lnTo>
                  <a:lnTo>
                    <a:pt x="195" y="242"/>
                  </a:lnTo>
                  <a:lnTo>
                    <a:pt x="182" y="211"/>
                  </a:lnTo>
                  <a:lnTo>
                    <a:pt x="170" y="193"/>
                  </a:lnTo>
                  <a:lnTo>
                    <a:pt x="172" y="223"/>
                  </a:lnTo>
                  <a:lnTo>
                    <a:pt x="165" y="201"/>
                  </a:lnTo>
                  <a:lnTo>
                    <a:pt x="156" y="188"/>
                  </a:lnTo>
                  <a:lnTo>
                    <a:pt x="161" y="213"/>
                  </a:lnTo>
                  <a:lnTo>
                    <a:pt x="162" y="227"/>
                  </a:lnTo>
                  <a:lnTo>
                    <a:pt x="161" y="253"/>
                  </a:lnTo>
                  <a:lnTo>
                    <a:pt x="157" y="219"/>
                  </a:lnTo>
                  <a:lnTo>
                    <a:pt x="152" y="201"/>
                  </a:lnTo>
                  <a:lnTo>
                    <a:pt x="148" y="187"/>
                  </a:lnTo>
                  <a:lnTo>
                    <a:pt x="141" y="175"/>
                  </a:lnTo>
                  <a:lnTo>
                    <a:pt x="131" y="162"/>
                  </a:lnTo>
                  <a:lnTo>
                    <a:pt x="122" y="151"/>
                  </a:lnTo>
                  <a:lnTo>
                    <a:pt x="109" y="143"/>
                  </a:lnTo>
                  <a:lnTo>
                    <a:pt x="92" y="138"/>
                  </a:lnTo>
                  <a:lnTo>
                    <a:pt x="107" y="149"/>
                  </a:lnTo>
                  <a:lnTo>
                    <a:pt x="115" y="161"/>
                  </a:lnTo>
                  <a:lnTo>
                    <a:pt x="123" y="174"/>
                  </a:lnTo>
                  <a:lnTo>
                    <a:pt x="131" y="187"/>
                  </a:lnTo>
                  <a:lnTo>
                    <a:pt x="136" y="201"/>
                  </a:lnTo>
                  <a:lnTo>
                    <a:pt x="139" y="219"/>
                  </a:lnTo>
                  <a:lnTo>
                    <a:pt x="139" y="244"/>
                  </a:lnTo>
                  <a:lnTo>
                    <a:pt x="131" y="213"/>
                  </a:lnTo>
                  <a:lnTo>
                    <a:pt x="126" y="198"/>
                  </a:lnTo>
                  <a:lnTo>
                    <a:pt x="118" y="183"/>
                  </a:lnTo>
                  <a:lnTo>
                    <a:pt x="110" y="170"/>
                  </a:lnTo>
                  <a:lnTo>
                    <a:pt x="102" y="159"/>
                  </a:lnTo>
                  <a:lnTo>
                    <a:pt x="87" y="146"/>
                  </a:lnTo>
                  <a:lnTo>
                    <a:pt x="74" y="141"/>
                  </a:lnTo>
                  <a:lnTo>
                    <a:pt x="60" y="138"/>
                  </a:lnTo>
                  <a:lnTo>
                    <a:pt x="3" y="138"/>
                  </a:lnTo>
                  <a:lnTo>
                    <a:pt x="0" y="11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5" name=""/>
            <p:cNvSpPr/>
            <p:nvPr/>
          </p:nvSpPr>
          <p:spPr>
            <a:xfrm>
              <a:off x="897480" y="4790880"/>
              <a:ext cx="84600" cy="51840"/>
            </a:xfrm>
            <a:custGeom>
              <a:avLst/>
              <a:gdLst/>
              <a:ahLst/>
              <a:rect l="l" t="t" r="r" b="b"/>
              <a:pathLst>
                <a:path w="211" h="236">
                  <a:moveTo>
                    <a:pt x="102" y="33"/>
                  </a:moveTo>
                  <a:lnTo>
                    <a:pt x="84" y="18"/>
                  </a:lnTo>
                  <a:lnTo>
                    <a:pt x="71" y="10"/>
                  </a:lnTo>
                  <a:lnTo>
                    <a:pt x="47" y="3"/>
                  </a:lnTo>
                  <a:lnTo>
                    <a:pt x="36" y="5"/>
                  </a:lnTo>
                  <a:lnTo>
                    <a:pt x="23" y="12"/>
                  </a:lnTo>
                  <a:lnTo>
                    <a:pt x="10" y="23"/>
                  </a:lnTo>
                  <a:lnTo>
                    <a:pt x="3" y="34"/>
                  </a:lnTo>
                  <a:lnTo>
                    <a:pt x="0" y="49"/>
                  </a:lnTo>
                  <a:lnTo>
                    <a:pt x="0" y="62"/>
                  </a:lnTo>
                  <a:lnTo>
                    <a:pt x="3" y="75"/>
                  </a:lnTo>
                  <a:lnTo>
                    <a:pt x="8" y="85"/>
                  </a:lnTo>
                  <a:lnTo>
                    <a:pt x="19" y="94"/>
                  </a:lnTo>
                  <a:lnTo>
                    <a:pt x="36" y="103"/>
                  </a:lnTo>
                  <a:lnTo>
                    <a:pt x="67" y="112"/>
                  </a:lnTo>
                  <a:lnTo>
                    <a:pt x="49" y="114"/>
                  </a:lnTo>
                  <a:lnTo>
                    <a:pt x="39" y="120"/>
                  </a:lnTo>
                  <a:lnTo>
                    <a:pt x="32" y="129"/>
                  </a:lnTo>
                  <a:lnTo>
                    <a:pt x="31" y="140"/>
                  </a:lnTo>
                  <a:lnTo>
                    <a:pt x="31" y="150"/>
                  </a:lnTo>
                  <a:lnTo>
                    <a:pt x="32" y="161"/>
                  </a:lnTo>
                  <a:lnTo>
                    <a:pt x="36" y="169"/>
                  </a:lnTo>
                  <a:lnTo>
                    <a:pt x="42" y="179"/>
                  </a:lnTo>
                  <a:lnTo>
                    <a:pt x="52" y="189"/>
                  </a:lnTo>
                  <a:lnTo>
                    <a:pt x="70" y="200"/>
                  </a:lnTo>
                  <a:lnTo>
                    <a:pt x="94" y="212"/>
                  </a:lnTo>
                  <a:lnTo>
                    <a:pt x="119" y="221"/>
                  </a:lnTo>
                  <a:lnTo>
                    <a:pt x="143" y="228"/>
                  </a:lnTo>
                  <a:lnTo>
                    <a:pt x="171" y="233"/>
                  </a:lnTo>
                  <a:lnTo>
                    <a:pt x="198" y="236"/>
                  </a:lnTo>
                  <a:lnTo>
                    <a:pt x="211" y="236"/>
                  </a:lnTo>
                  <a:lnTo>
                    <a:pt x="188" y="215"/>
                  </a:lnTo>
                  <a:lnTo>
                    <a:pt x="179" y="202"/>
                  </a:lnTo>
                  <a:lnTo>
                    <a:pt x="169" y="189"/>
                  </a:lnTo>
                  <a:lnTo>
                    <a:pt x="159" y="176"/>
                  </a:lnTo>
                  <a:lnTo>
                    <a:pt x="151" y="163"/>
                  </a:lnTo>
                  <a:lnTo>
                    <a:pt x="145" y="150"/>
                  </a:lnTo>
                  <a:lnTo>
                    <a:pt x="140" y="137"/>
                  </a:lnTo>
                  <a:lnTo>
                    <a:pt x="136" y="122"/>
                  </a:lnTo>
                  <a:lnTo>
                    <a:pt x="135" y="101"/>
                  </a:lnTo>
                  <a:lnTo>
                    <a:pt x="136" y="83"/>
                  </a:lnTo>
                  <a:lnTo>
                    <a:pt x="141" y="68"/>
                  </a:lnTo>
                  <a:lnTo>
                    <a:pt x="151" y="54"/>
                  </a:lnTo>
                  <a:lnTo>
                    <a:pt x="161" y="46"/>
                  </a:lnTo>
                  <a:lnTo>
                    <a:pt x="171" y="39"/>
                  </a:lnTo>
                  <a:lnTo>
                    <a:pt x="180" y="33"/>
                  </a:lnTo>
                  <a:lnTo>
                    <a:pt x="182" y="21"/>
                  </a:lnTo>
                  <a:lnTo>
                    <a:pt x="180" y="12"/>
                  </a:lnTo>
                  <a:lnTo>
                    <a:pt x="175" y="3"/>
                  </a:lnTo>
                  <a:lnTo>
                    <a:pt x="166" y="0"/>
                  </a:lnTo>
                  <a:lnTo>
                    <a:pt x="154" y="3"/>
                  </a:lnTo>
                  <a:lnTo>
                    <a:pt x="148" y="10"/>
                  </a:lnTo>
                  <a:lnTo>
                    <a:pt x="141" y="18"/>
                  </a:lnTo>
                  <a:lnTo>
                    <a:pt x="138" y="26"/>
                  </a:lnTo>
                  <a:lnTo>
                    <a:pt x="138" y="38"/>
                  </a:lnTo>
                  <a:lnTo>
                    <a:pt x="130" y="46"/>
                  </a:lnTo>
                  <a:lnTo>
                    <a:pt x="123" y="54"/>
                  </a:lnTo>
                  <a:lnTo>
                    <a:pt x="112" y="72"/>
                  </a:lnTo>
                  <a:lnTo>
                    <a:pt x="112" y="47"/>
                  </a:lnTo>
                  <a:lnTo>
                    <a:pt x="102" y="33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6" name=""/>
            <p:cNvSpPr/>
            <p:nvPr/>
          </p:nvSpPr>
          <p:spPr>
            <a:xfrm>
              <a:off x="958320" y="4786920"/>
              <a:ext cx="44640" cy="50040"/>
            </a:xfrm>
            <a:custGeom>
              <a:avLst/>
              <a:gdLst/>
              <a:ahLst/>
              <a:rect l="l" t="t" r="r" b="b"/>
              <a:pathLst>
                <a:path w="112" h="228">
                  <a:moveTo>
                    <a:pt x="65" y="0"/>
                  </a:moveTo>
                  <a:lnTo>
                    <a:pt x="80" y="2"/>
                  </a:lnTo>
                  <a:lnTo>
                    <a:pt x="93" y="10"/>
                  </a:lnTo>
                  <a:lnTo>
                    <a:pt x="99" y="18"/>
                  </a:lnTo>
                  <a:lnTo>
                    <a:pt x="104" y="33"/>
                  </a:lnTo>
                  <a:lnTo>
                    <a:pt x="106" y="47"/>
                  </a:lnTo>
                  <a:lnTo>
                    <a:pt x="106" y="62"/>
                  </a:lnTo>
                  <a:lnTo>
                    <a:pt x="101" y="75"/>
                  </a:lnTo>
                  <a:lnTo>
                    <a:pt x="93" y="83"/>
                  </a:lnTo>
                  <a:lnTo>
                    <a:pt x="81" y="88"/>
                  </a:lnTo>
                  <a:lnTo>
                    <a:pt x="93" y="98"/>
                  </a:lnTo>
                  <a:lnTo>
                    <a:pt x="101" y="112"/>
                  </a:lnTo>
                  <a:lnTo>
                    <a:pt x="106" y="127"/>
                  </a:lnTo>
                  <a:lnTo>
                    <a:pt x="109" y="138"/>
                  </a:lnTo>
                  <a:lnTo>
                    <a:pt x="111" y="161"/>
                  </a:lnTo>
                  <a:lnTo>
                    <a:pt x="112" y="182"/>
                  </a:lnTo>
                  <a:lnTo>
                    <a:pt x="111" y="200"/>
                  </a:lnTo>
                  <a:lnTo>
                    <a:pt x="106" y="220"/>
                  </a:lnTo>
                  <a:lnTo>
                    <a:pt x="101" y="226"/>
                  </a:lnTo>
                  <a:lnTo>
                    <a:pt x="91" y="228"/>
                  </a:lnTo>
                  <a:lnTo>
                    <a:pt x="70" y="217"/>
                  </a:lnTo>
                  <a:lnTo>
                    <a:pt x="52" y="205"/>
                  </a:lnTo>
                  <a:lnTo>
                    <a:pt x="34" y="191"/>
                  </a:lnTo>
                  <a:lnTo>
                    <a:pt x="21" y="176"/>
                  </a:lnTo>
                  <a:lnTo>
                    <a:pt x="11" y="161"/>
                  </a:lnTo>
                  <a:lnTo>
                    <a:pt x="7" y="148"/>
                  </a:lnTo>
                  <a:lnTo>
                    <a:pt x="2" y="132"/>
                  </a:lnTo>
                  <a:lnTo>
                    <a:pt x="0" y="117"/>
                  </a:lnTo>
                  <a:lnTo>
                    <a:pt x="0" y="104"/>
                  </a:lnTo>
                  <a:lnTo>
                    <a:pt x="5" y="88"/>
                  </a:lnTo>
                  <a:lnTo>
                    <a:pt x="11" y="77"/>
                  </a:lnTo>
                  <a:lnTo>
                    <a:pt x="21" y="69"/>
                  </a:lnTo>
                  <a:lnTo>
                    <a:pt x="33" y="65"/>
                  </a:lnTo>
                  <a:lnTo>
                    <a:pt x="42" y="67"/>
                  </a:lnTo>
                  <a:lnTo>
                    <a:pt x="54" y="77"/>
                  </a:lnTo>
                  <a:lnTo>
                    <a:pt x="62" y="98"/>
                  </a:lnTo>
                  <a:lnTo>
                    <a:pt x="59" y="70"/>
                  </a:lnTo>
                  <a:lnTo>
                    <a:pt x="52" y="56"/>
                  </a:lnTo>
                  <a:lnTo>
                    <a:pt x="44" y="46"/>
                  </a:lnTo>
                  <a:lnTo>
                    <a:pt x="39" y="36"/>
                  </a:lnTo>
                  <a:lnTo>
                    <a:pt x="39" y="23"/>
                  </a:lnTo>
                  <a:lnTo>
                    <a:pt x="42" y="12"/>
                  </a:lnTo>
                  <a:lnTo>
                    <a:pt x="54" y="2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7" name=""/>
            <p:cNvSpPr/>
            <p:nvPr/>
          </p:nvSpPr>
          <p:spPr>
            <a:xfrm>
              <a:off x="803880" y="4740840"/>
              <a:ext cx="138600" cy="55800"/>
            </a:xfrm>
            <a:custGeom>
              <a:avLst/>
              <a:gdLst/>
              <a:ahLst/>
              <a:rect l="l" t="t" r="r" b="b"/>
              <a:pathLst>
                <a:path w="346" h="254">
                  <a:moveTo>
                    <a:pt x="346" y="126"/>
                  </a:moveTo>
                  <a:lnTo>
                    <a:pt x="320" y="119"/>
                  </a:lnTo>
                  <a:lnTo>
                    <a:pt x="286" y="114"/>
                  </a:lnTo>
                  <a:lnTo>
                    <a:pt x="262" y="113"/>
                  </a:lnTo>
                  <a:lnTo>
                    <a:pt x="241" y="114"/>
                  </a:lnTo>
                  <a:lnTo>
                    <a:pt x="221" y="116"/>
                  </a:lnTo>
                  <a:lnTo>
                    <a:pt x="210" y="111"/>
                  </a:lnTo>
                  <a:lnTo>
                    <a:pt x="203" y="103"/>
                  </a:lnTo>
                  <a:lnTo>
                    <a:pt x="200" y="95"/>
                  </a:lnTo>
                  <a:lnTo>
                    <a:pt x="200" y="80"/>
                  </a:lnTo>
                  <a:lnTo>
                    <a:pt x="200" y="54"/>
                  </a:lnTo>
                  <a:lnTo>
                    <a:pt x="199" y="36"/>
                  </a:lnTo>
                  <a:lnTo>
                    <a:pt x="194" y="22"/>
                  </a:lnTo>
                  <a:lnTo>
                    <a:pt x="184" y="10"/>
                  </a:lnTo>
                  <a:lnTo>
                    <a:pt x="173" y="4"/>
                  </a:lnTo>
                  <a:lnTo>
                    <a:pt x="158" y="0"/>
                  </a:lnTo>
                  <a:lnTo>
                    <a:pt x="138" y="0"/>
                  </a:lnTo>
                  <a:lnTo>
                    <a:pt x="119" y="7"/>
                  </a:lnTo>
                  <a:lnTo>
                    <a:pt x="101" y="18"/>
                  </a:lnTo>
                  <a:lnTo>
                    <a:pt x="85" y="35"/>
                  </a:lnTo>
                  <a:lnTo>
                    <a:pt x="67" y="57"/>
                  </a:lnTo>
                  <a:lnTo>
                    <a:pt x="52" y="80"/>
                  </a:lnTo>
                  <a:lnTo>
                    <a:pt x="41" y="101"/>
                  </a:lnTo>
                  <a:lnTo>
                    <a:pt x="26" y="134"/>
                  </a:lnTo>
                  <a:lnTo>
                    <a:pt x="17" y="160"/>
                  </a:lnTo>
                  <a:lnTo>
                    <a:pt x="9" y="183"/>
                  </a:lnTo>
                  <a:lnTo>
                    <a:pt x="2" y="207"/>
                  </a:lnTo>
                  <a:lnTo>
                    <a:pt x="0" y="240"/>
                  </a:lnTo>
                  <a:lnTo>
                    <a:pt x="9" y="209"/>
                  </a:lnTo>
                  <a:lnTo>
                    <a:pt x="15" y="189"/>
                  </a:lnTo>
                  <a:lnTo>
                    <a:pt x="25" y="170"/>
                  </a:lnTo>
                  <a:lnTo>
                    <a:pt x="35" y="148"/>
                  </a:lnTo>
                  <a:lnTo>
                    <a:pt x="43" y="131"/>
                  </a:lnTo>
                  <a:lnTo>
                    <a:pt x="56" y="105"/>
                  </a:lnTo>
                  <a:lnTo>
                    <a:pt x="67" y="85"/>
                  </a:lnTo>
                  <a:lnTo>
                    <a:pt x="80" y="64"/>
                  </a:lnTo>
                  <a:lnTo>
                    <a:pt x="90" y="51"/>
                  </a:lnTo>
                  <a:lnTo>
                    <a:pt x="103" y="38"/>
                  </a:lnTo>
                  <a:lnTo>
                    <a:pt x="121" y="23"/>
                  </a:lnTo>
                  <a:lnTo>
                    <a:pt x="137" y="18"/>
                  </a:lnTo>
                  <a:lnTo>
                    <a:pt x="153" y="18"/>
                  </a:lnTo>
                  <a:lnTo>
                    <a:pt x="164" y="22"/>
                  </a:lnTo>
                  <a:lnTo>
                    <a:pt x="171" y="28"/>
                  </a:lnTo>
                  <a:lnTo>
                    <a:pt x="176" y="39"/>
                  </a:lnTo>
                  <a:lnTo>
                    <a:pt x="164" y="31"/>
                  </a:lnTo>
                  <a:lnTo>
                    <a:pt x="156" y="28"/>
                  </a:lnTo>
                  <a:lnTo>
                    <a:pt x="145" y="28"/>
                  </a:lnTo>
                  <a:lnTo>
                    <a:pt x="127" y="31"/>
                  </a:lnTo>
                  <a:lnTo>
                    <a:pt x="112" y="43"/>
                  </a:lnTo>
                  <a:lnTo>
                    <a:pt x="104" y="53"/>
                  </a:lnTo>
                  <a:lnTo>
                    <a:pt x="93" y="69"/>
                  </a:lnTo>
                  <a:lnTo>
                    <a:pt x="80" y="90"/>
                  </a:lnTo>
                  <a:lnTo>
                    <a:pt x="65" y="116"/>
                  </a:lnTo>
                  <a:lnTo>
                    <a:pt x="56" y="135"/>
                  </a:lnTo>
                  <a:lnTo>
                    <a:pt x="49" y="152"/>
                  </a:lnTo>
                  <a:lnTo>
                    <a:pt x="41" y="174"/>
                  </a:lnTo>
                  <a:lnTo>
                    <a:pt x="35" y="196"/>
                  </a:lnTo>
                  <a:lnTo>
                    <a:pt x="28" y="227"/>
                  </a:lnTo>
                  <a:lnTo>
                    <a:pt x="44" y="186"/>
                  </a:lnTo>
                  <a:lnTo>
                    <a:pt x="56" y="160"/>
                  </a:lnTo>
                  <a:lnTo>
                    <a:pt x="67" y="140"/>
                  </a:lnTo>
                  <a:lnTo>
                    <a:pt x="77" y="122"/>
                  </a:lnTo>
                  <a:lnTo>
                    <a:pt x="88" y="105"/>
                  </a:lnTo>
                  <a:lnTo>
                    <a:pt x="99" y="83"/>
                  </a:lnTo>
                  <a:lnTo>
                    <a:pt x="119" y="61"/>
                  </a:lnTo>
                  <a:lnTo>
                    <a:pt x="130" y="51"/>
                  </a:lnTo>
                  <a:lnTo>
                    <a:pt x="143" y="48"/>
                  </a:lnTo>
                  <a:lnTo>
                    <a:pt x="156" y="48"/>
                  </a:lnTo>
                  <a:lnTo>
                    <a:pt x="168" y="56"/>
                  </a:lnTo>
                  <a:lnTo>
                    <a:pt x="173" y="66"/>
                  </a:lnTo>
                  <a:lnTo>
                    <a:pt x="163" y="59"/>
                  </a:lnTo>
                  <a:lnTo>
                    <a:pt x="151" y="57"/>
                  </a:lnTo>
                  <a:lnTo>
                    <a:pt x="140" y="59"/>
                  </a:lnTo>
                  <a:lnTo>
                    <a:pt x="129" y="66"/>
                  </a:lnTo>
                  <a:lnTo>
                    <a:pt x="119" y="75"/>
                  </a:lnTo>
                  <a:lnTo>
                    <a:pt x="108" y="88"/>
                  </a:lnTo>
                  <a:lnTo>
                    <a:pt x="95" y="109"/>
                  </a:lnTo>
                  <a:lnTo>
                    <a:pt x="77" y="139"/>
                  </a:lnTo>
                  <a:lnTo>
                    <a:pt x="65" y="158"/>
                  </a:lnTo>
                  <a:lnTo>
                    <a:pt x="52" y="183"/>
                  </a:lnTo>
                  <a:lnTo>
                    <a:pt x="44" y="207"/>
                  </a:lnTo>
                  <a:lnTo>
                    <a:pt x="36" y="240"/>
                  </a:lnTo>
                  <a:lnTo>
                    <a:pt x="62" y="186"/>
                  </a:lnTo>
                  <a:lnTo>
                    <a:pt x="70" y="171"/>
                  </a:lnTo>
                  <a:lnTo>
                    <a:pt x="78" y="163"/>
                  </a:lnTo>
                  <a:lnTo>
                    <a:pt x="78" y="194"/>
                  </a:lnTo>
                  <a:lnTo>
                    <a:pt x="85" y="168"/>
                  </a:lnTo>
                  <a:lnTo>
                    <a:pt x="91" y="148"/>
                  </a:lnTo>
                  <a:lnTo>
                    <a:pt x="101" y="131"/>
                  </a:lnTo>
                  <a:lnTo>
                    <a:pt x="114" y="111"/>
                  </a:lnTo>
                  <a:lnTo>
                    <a:pt x="122" y="98"/>
                  </a:lnTo>
                  <a:lnTo>
                    <a:pt x="134" y="88"/>
                  </a:lnTo>
                  <a:lnTo>
                    <a:pt x="147" y="83"/>
                  </a:lnTo>
                  <a:lnTo>
                    <a:pt x="158" y="83"/>
                  </a:lnTo>
                  <a:lnTo>
                    <a:pt x="169" y="87"/>
                  </a:lnTo>
                  <a:lnTo>
                    <a:pt x="174" y="93"/>
                  </a:lnTo>
                  <a:lnTo>
                    <a:pt x="158" y="93"/>
                  </a:lnTo>
                  <a:lnTo>
                    <a:pt x="143" y="100"/>
                  </a:lnTo>
                  <a:lnTo>
                    <a:pt x="132" y="108"/>
                  </a:lnTo>
                  <a:lnTo>
                    <a:pt x="119" y="122"/>
                  </a:lnTo>
                  <a:lnTo>
                    <a:pt x="104" y="144"/>
                  </a:lnTo>
                  <a:lnTo>
                    <a:pt x="93" y="168"/>
                  </a:lnTo>
                  <a:lnTo>
                    <a:pt x="86" y="187"/>
                  </a:lnTo>
                  <a:lnTo>
                    <a:pt x="83" y="210"/>
                  </a:lnTo>
                  <a:lnTo>
                    <a:pt x="95" y="184"/>
                  </a:lnTo>
                  <a:lnTo>
                    <a:pt x="103" y="170"/>
                  </a:lnTo>
                  <a:lnTo>
                    <a:pt x="112" y="157"/>
                  </a:lnTo>
                  <a:lnTo>
                    <a:pt x="129" y="132"/>
                  </a:lnTo>
                  <a:lnTo>
                    <a:pt x="140" y="122"/>
                  </a:lnTo>
                  <a:lnTo>
                    <a:pt x="151" y="118"/>
                  </a:lnTo>
                  <a:lnTo>
                    <a:pt x="164" y="113"/>
                  </a:lnTo>
                  <a:lnTo>
                    <a:pt x="179" y="113"/>
                  </a:lnTo>
                  <a:lnTo>
                    <a:pt x="158" y="119"/>
                  </a:lnTo>
                  <a:lnTo>
                    <a:pt x="145" y="129"/>
                  </a:lnTo>
                  <a:lnTo>
                    <a:pt x="134" y="140"/>
                  </a:lnTo>
                  <a:lnTo>
                    <a:pt x="124" y="150"/>
                  </a:lnTo>
                  <a:lnTo>
                    <a:pt x="112" y="170"/>
                  </a:lnTo>
                  <a:lnTo>
                    <a:pt x="99" y="199"/>
                  </a:lnTo>
                  <a:lnTo>
                    <a:pt x="129" y="155"/>
                  </a:lnTo>
                  <a:lnTo>
                    <a:pt x="121" y="179"/>
                  </a:lnTo>
                  <a:lnTo>
                    <a:pt x="142" y="147"/>
                  </a:lnTo>
                  <a:lnTo>
                    <a:pt x="151" y="140"/>
                  </a:lnTo>
                  <a:lnTo>
                    <a:pt x="158" y="135"/>
                  </a:lnTo>
                  <a:lnTo>
                    <a:pt x="169" y="132"/>
                  </a:lnTo>
                  <a:lnTo>
                    <a:pt x="161" y="139"/>
                  </a:lnTo>
                  <a:lnTo>
                    <a:pt x="151" y="148"/>
                  </a:lnTo>
                  <a:lnTo>
                    <a:pt x="143" y="158"/>
                  </a:lnTo>
                  <a:lnTo>
                    <a:pt x="134" y="171"/>
                  </a:lnTo>
                  <a:lnTo>
                    <a:pt x="122" y="187"/>
                  </a:lnTo>
                  <a:lnTo>
                    <a:pt x="114" y="204"/>
                  </a:lnTo>
                  <a:lnTo>
                    <a:pt x="108" y="225"/>
                  </a:lnTo>
                  <a:lnTo>
                    <a:pt x="104" y="243"/>
                  </a:lnTo>
                  <a:lnTo>
                    <a:pt x="117" y="212"/>
                  </a:lnTo>
                  <a:lnTo>
                    <a:pt x="129" y="194"/>
                  </a:lnTo>
                  <a:lnTo>
                    <a:pt x="127" y="223"/>
                  </a:lnTo>
                  <a:lnTo>
                    <a:pt x="134" y="202"/>
                  </a:lnTo>
                  <a:lnTo>
                    <a:pt x="143" y="189"/>
                  </a:lnTo>
                  <a:lnTo>
                    <a:pt x="138" y="214"/>
                  </a:lnTo>
                  <a:lnTo>
                    <a:pt x="137" y="228"/>
                  </a:lnTo>
                  <a:lnTo>
                    <a:pt x="138" y="254"/>
                  </a:lnTo>
                  <a:lnTo>
                    <a:pt x="142" y="220"/>
                  </a:lnTo>
                  <a:lnTo>
                    <a:pt x="147" y="202"/>
                  </a:lnTo>
                  <a:lnTo>
                    <a:pt x="151" y="187"/>
                  </a:lnTo>
                  <a:lnTo>
                    <a:pt x="158" y="176"/>
                  </a:lnTo>
                  <a:lnTo>
                    <a:pt x="168" y="163"/>
                  </a:lnTo>
                  <a:lnTo>
                    <a:pt x="177" y="152"/>
                  </a:lnTo>
                  <a:lnTo>
                    <a:pt x="190" y="144"/>
                  </a:lnTo>
                  <a:lnTo>
                    <a:pt x="207" y="139"/>
                  </a:lnTo>
                  <a:lnTo>
                    <a:pt x="192" y="150"/>
                  </a:lnTo>
                  <a:lnTo>
                    <a:pt x="184" y="161"/>
                  </a:lnTo>
                  <a:lnTo>
                    <a:pt x="176" y="174"/>
                  </a:lnTo>
                  <a:lnTo>
                    <a:pt x="168" y="187"/>
                  </a:lnTo>
                  <a:lnTo>
                    <a:pt x="163" y="202"/>
                  </a:lnTo>
                  <a:lnTo>
                    <a:pt x="160" y="220"/>
                  </a:lnTo>
                  <a:lnTo>
                    <a:pt x="160" y="244"/>
                  </a:lnTo>
                  <a:lnTo>
                    <a:pt x="168" y="214"/>
                  </a:lnTo>
                  <a:lnTo>
                    <a:pt x="173" y="199"/>
                  </a:lnTo>
                  <a:lnTo>
                    <a:pt x="181" y="184"/>
                  </a:lnTo>
                  <a:lnTo>
                    <a:pt x="189" y="171"/>
                  </a:lnTo>
                  <a:lnTo>
                    <a:pt x="197" y="160"/>
                  </a:lnTo>
                  <a:lnTo>
                    <a:pt x="212" y="147"/>
                  </a:lnTo>
                  <a:lnTo>
                    <a:pt x="225" y="142"/>
                  </a:lnTo>
                  <a:lnTo>
                    <a:pt x="242" y="135"/>
                  </a:lnTo>
                  <a:lnTo>
                    <a:pt x="265" y="132"/>
                  </a:lnTo>
                  <a:lnTo>
                    <a:pt x="290" y="132"/>
                  </a:lnTo>
                  <a:lnTo>
                    <a:pt x="317" y="137"/>
                  </a:lnTo>
                  <a:lnTo>
                    <a:pt x="343" y="144"/>
                  </a:lnTo>
                  <a:lnTo>
                    <a:pt x="346" y="126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8" name=""/>
            <p:cNvSpPr/>
            <p:nvPr/>
          </p:nvSpPr>
          <p:spPr>
            <a:xfrm>
              <a:off x="852480" y="4897440"/>
              <a:ext cx="96840" cy="33480"/>
            </a:xfrm>
            <a:custGeom>
              <a:avLst/>
              <a:gdLst/>
              <a:ahLst/>
              <a:rect l="l" t="t" r="r" b="b"/>
              <a:pathLst>
                <a:path w="240" h="151">
                  <a:moveTo>
                    <a:pt x="237" y="96"/>
                  </a:moveTo>
                  <a:lnTo>
                    <a:pt x="131" y="96"/>
                  </a:lnTo>
                  <a:lnTo>
                    <a:pt x="125" y="97"/>
                  </a:lnTo>
                  <a:lnTo>
                    <a:pt x="118" y="107"/>
                  </a:lnTo>
                  <a:lnTo>
                    <a:pt x="110" y="119"/>
                  </a:lnTo>
                  <a:lnTo>
                    <a:pt x="105" y="133"/>
                  </a:lnTo>
                  <a:lnTo>
                    <a:pt x="105" y="151"/>
                  </a:lnTo>
                  <a:lnTo>
                    <a:pt x="99" y="143"/>
                  </a:lnTo>
                  <a:lnTo>
                    <a:pt x="97" y="133"/>
                  </a:lnTo>
                  <a:lnTo>
                    <a:pt x="99" y="127"/>
                  </a:lnTo>
                  <a:lnTo>
                    <a:pt x="101" y="120"/>
                  </a:lnTo>
                  <a:lnTo>
                    <a:pt x="105" y="114"/>
                  </a:lnTo>
                  <a:lnTo>
                    <a:pt x="107" y="97"/>
                  </a:lnTo>
                  <a:lnTo>
                    <a:pt x="94" y="94"/>
                  </a:lnTo>
                  <a:lnTo>
                    <a:pt x="86" y="97"/>
                  </a:lnTo>
                  <a:lnTo>
                    <a:pt x="83" y="104"/>
                  </a:lnTo>
                  <a:lnTo>
                    <a:pt x="84" y="114"/>
                  </a:lnTo>
                  <a:lnTo>
                    <a:pt x="92" y="140"/>
                  </a:lnTo>
                  <a:lnTo>
                    <a:pt x="81" y="128"/>
                  </a:lnTo>
                  <a:lnTo>
                    <a:pt x="76" y="117"/>
                  </a:lnTo>
                  <a:lnTo>
                    <a:pt x="73" y="106"/>
                  </a:lnTo>
                  <a:lnTo>
                    <a:pt x="73" y="96"/>
                  </a:lnTo>
                  <a:lnTo>
                    <a:pt x="78" y="86"/>
                  </a:lnTo>
                  <a:lnTo>
                    <a:pt x="91" y="81"/>
                  </a:lnTo>
                  <a:lnTo>
                    <a:pt x="105" y="83"/>
                  </a:lnTo>
                  <a:lnTo>
                    <a:pt x="117" y="91"/>
                  </a:lnTo>
                  <a:lnTo>
                    <a:pt x="115" y="81"/>
                  </a:lnTo>
                  <a:lnTo>
                    <a:pt x="109" y="73"/>
                  </a:lnTo>
                  <a:lnTo>
                    <a:pt x="97" y="70"/>
                  </a:lnTo>
                  <a:lnTo>
                    <a:pt x="83" y="71"/>
                  </a:lnTo>
                  <a:lnTo>
                    <a:pt x="75" y="78"/>
                  </a:lnTo>
                  <a:lnTo>
                    <a:pt x="70" y="88"/>
                  </a:lnTo>
                  <a:lnTo>
                    <a:pt x="65" y="109"/>
                  </a:lnTo>
                  <a:lnTo>
                    <a:pt x="62" y="86"/>
                  </a:lnTo>
                  <a:lnTo>
                    <a:pt x="63" y="71"/>
                  </a:lnTo>
                  <a:lnTo>
                    <a:pt x="66" y="63"/>
                  </a:lnTo>
                  <a:lnTo>
                    <a:pt x="76" y="57"/>
                  </a:lnTo>
                  <a:lnTo>
                    <a:pt x="91" y="53"/>
                  </a:lnTo>
                  <a:lnTo>
                    <a:pt x="105" y="57"/>
                  </a:lnTo>
                  <a:lnTo>
                    <a:pt x="92" y="47"/>
                  </a:lnTo>
                  <a:lnTo>
                    <a:pt x="83" y="42"/>
                  </a:lnTo>
                  <a:lnTo>
                    <a:pt x="73" y="40"/>
                  </a:lnTo>
                  <a:lnTo>
                    <a:pt x="57" y="45"/>
                  </a:lnTo>
                  <a:lnTo>
                    <a:pt x="66" y="36"/>
                  </a:lnTo>
                  <a:lnTo>
                    <a:pt x="84" y="32"/>
                  </a:lnTo>
                  <a:lnTo>
                    <a:pt x="102" y="40"/>
                  </a:lnTo>
                  <a:lnTo>
                    <a:pt x="91" y="27"/>
                  </a:lnTo>
                  <a:lnTo>
                    <a:pt x="83" y="19"/>
                  </a:lnTo>
                  <a:lnTo>
                    <a:pt x="73" y="14"/>
                  </a:lnTo>
                  <a:lnTo>
                    <a:pt x="62" y="16"/>
                  </a:lnTo>
                  <a:lnTo>
                    <a:pt x="53" y="24"/>
                  </a:lnTo>
                  <a:lnTo>
                    <a:pt x="50" y="36"/>
                  </a:lnTo>
                  <a:lnTo>
                    <a:pt x="50" y="47"/>
                  </a:lnTo>
                  <a:lnTo>
                    <a:pt x="50" y="62"/>
                  </a:lnTo>
                  <a:lnTo>
                    <a:pt x="52" y="84"/>
                  </a:lnTo>
                  <a:lnTo>
                    <a:pt x="53" y="101"/>
                  </a:lnTo>
                  <a:lnTo>
                    <a:pt x="55" y="117"/>
                  </a:lnTo>
                  <a:lnTo>
                    <a:pt x="60" y="133"/>
                  </a:lnTo>
                  <a:lnTo>
                    <a:pt x="66" y="149"/>
                  </a:lnTo>
                  <a:lnTo>
                    <a:pt x="58" y="138"/>
                  </a:lnTo>
                  <a:lnTo>
                    <a:pt x="52" y="127"/>
                  </a:lnTo>
                  <a:lnTo>
                    <a:pt x="47" y="115"/>
                  </a:lnTo>
                  <a:lnTo>
                    <a:pt x="42" y="97"/>
                  </a:lnTo>
                  <a:lnTo>
                    <a:pt x="39" y="79"/>
                  </a:lnTo>
                  <a:lnTo>
                    <a:pt x="39" y="63"/>
                  </a:lnTo>
                  <a:lnTo>
                    <a:pt x="37" y="47"/>
                  </a:lnTo>
                  <a:lnTo>
                    <a:pt x="24" y="47"/>
                  </a:lnTo>
                  <a:lnTo>
                    <a:pt x="16" y="55"/>
                  </a:lnTo>
                  <a:lnTo>
                    <a:pt x="14" y="65"/>
                  </a:lnTo>
                  <a:lnTo>
                    <a:pt x="14" y="75"/>
                  </a:lnTo>
                  <a:lnTo>
                    <a:pt x="16" y="89"/>
                  </a:lnTo>
                  <a:lnTo>
                    <a:pt x="19" y="102"/>
                  </a:lnTo>
                  <a:lnTo>
                    <a:pt x="23" y="114"/>
                  </a:lnTo>
                  <a:lnTo>
                    <a:pt x="29" y="128"/>
                  </a:lnTo>
                  <a:lnTo>
                    <a:pt x="44" y="151"/>
                  </a:lnTo>
                  <a:lnTo>
                    <a:pt x="24" y="135"/>
                  </a:lnTo>
                  <a:lnTo>
                    <a:pt x="13" y="119"/>
                  </a:lnTo>
                  <a:lnTo>
                    <a:pt x="5" y="99"/>
                  </a:lnTo>
                  <a:lnTo>
                    <a:pt x="1" y="86"/>
                  </a:lnTo>
                  <a:lnTo>
                    <a:pt x="0" y="68"/>
                  </a:lnTo>
                  <a:lnTo>
                    <a:pt x="0" y="53"/>
                  </a:lnTo>
                  <a:lnTo>
                    <a:pt x="5" y="40"/>
                  </a:lnTo>
                  <a:lnTo>
                    <a:pt x="13" y="34"/>
                  </a:lnTo>
                  <a:lnTo>
                    <a:pt x="24" y="29"/>
                  </a:lnTo>
                  <a:lnTo>
                    <a:pt x="39" y="26"/>
                  </a:lnTo>
                  <a:lnTo>
                    <a:pt x="40" y="14"/>
                  </a:lnTo>
                  <a:lnTo>
                    <a:pt x="45" y="6"/>
                  </a:lnTo>
                  <a:lnTo>
                    <a:pt x="58" y="0"/>
                  </a:lnTo>
                  <a:lnTo>
                    <a:pt x="75" y="0"/>
                  </a:lnTo>
                  <a:lnTo>
                    <a:pt x="91" y="8"/>
                  </a:lnTo>
                  <a:lnTo>
                    <a:pt x="104" y="19"/>
                  </a:lnTo>
                  <a:lnTo>
                    <a:pt x="112" y="29"/>
                  </a:lnTo>
                  <a:lnTo>
                    <a:pt x="120" y="42"/>
                  </a:lnTo>
                  <a:lnTo>
                    <a:pt x="125" y="55"/>
                  </a:lnTo>
                  <a:lnTo>
                    <a:pt x="128" y="70"/>
                  </a:lnTo>
                  <a:lnTo>
                    <a:pt x="240" y="70"/>
                  </a:lnTo>
                  <a:lnTo>
                    <a:pt x="237" y="96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9" name=""/>
            <p:cNvSpPr/>
            <p:nvPr/>
          </p:nvSpPr>
          <p:spPr>
            <a:xfrm>
              <a:off x="975240" y="4897440"/>
              <a:ext cx="96120" cy="33480"/>
            </a:xfrm>
            <a:custGeom>
              <a:avLst/>
              <a:gdLst/>
              <a:ahLst/>
              <a:rect l="l" t="t" r="r" b="b"/>
              <a:pathLst>
                <a:path w="241" h="151">
                  <a:moveTo>
                    <a:pt x="4" y="96"/>
                  </a:moveTo>
                  <a:lnTo>
                    <a:pt x="109" y="96"/>
                  </a:lnTo>
                  <a:lnTo>
                    <a:pt x="116" y="97"/>
                  </a:lnTo>
                  <a:lnTo>
                    <a:pt x="122" y="107"/>
                  </a:lnTo>
                  <a:lnTo>
                    <a:pt x="130" y="119"/>
                  </a:lnTo>
                  <a:lnTo>
                    <a:pt x="135" y="133"/>
                  </a:lnTo>
                  <a:lnTo>
                    <a:pt x="135" y="151"/>
                  </a:lnTo>
                  <a:lnTo>
                    <a:pt x="142" y="143"/>
                  </a:lnTo>
                  <a:lnTo>
                    <a:pt x="143" y="133"/>
                  </a:lnTo>
                  <a:lnTo>
                    <a:pt x="142" y="127"/>
                  </a:lnTo>
                  <a:lnTo>
                    <a:pt x="140" y="120"/>
                  </a:lnTo>
                  <a:lnTo>
                    <a:pt x="135" y="114"/>
                  </a:lnTo>
                  <a:lnTo>
                    <a:pt x="134" y="97"/>
                  </a:lnTo>
                  <a:lnTo>
                    <a:pt x="147" y="94"/>
                  </a:lnTo>
                  <a:lnTo>
                    <a:pt x="155" y="97"/>
                  </a:lnTo>
                  <a:lnTo>
                    <a:pt x="158" y="104"/>
                  </a:lnTo>
                  <a:lnTo>
                    <a:pt x="156" y="114"/>
                  </a:lnTo>
                  <a:lnTo>
                    <a:pt x="148" y="140"/>
                  </a:lnTo>
                  <a:lnTo>
                    <a:pt x="160" y="128"/>
                  </a:lnTo>
                  <a:lnTo>
                    <a:pt x="164" y="117"/>
                  </a:lnTo>
                  <a:lnTo>
                    <a:pt x="168" y="106"/>
                  </a:lnTo>
                  <a:lnTo>
                    <a:pt x="168" y="96"/>
                  </a:lnTo>
                  <a:lnTo>
                    <a:pt x="163" y="86"/>
                  </a:lnTo>
                  <a:lnTo>
                    <a:pt x="150" y="81"/>
                  </a:lnTo>
                  <a:lnTo>
                    <a:pt x="135" y="83"/>
                  </a:lnTo>
                  <a:lnTo>
                    <a:pt x="124" y="91"/>
                  </a:lnTo>
                  <a:lnTo>
                    <a:pt x="125" y="81"/>
                  </a:lnTo>
                  <a:lnTo>
                    <a:pt x="132" y="73"/>
                  </a:lnTo>
                  <a:lnTo>
                    <a:pt x="143" y="70"/>
                  </a:lnTo>
                  <a:lnTo>
                    <a:pt x="158" y="71"/>
                  </a:lnTo>
                  <a:lnTo>
                    <a:pt x="166" y="78"/>
                  </a:lnTo>
                  <a:lnTo>
                    <a:pt x="171" y="88"/>
                  </a:lnTo>
                  <a:lnTo>
                    <a:pt x="176" y="109"/>
                  </a:lnTo>
                  <a:lnTo>
                    <a:pt x="179" y="86"/>
                  </a:lnTo>
                  <a:lnTo>
                    <a:pt x="177" y="71"/>
                  </a:lnTo>
                  <a:lnTo>
                    <a:pt x="174" y="63"/>
                  </a:lnTo>
                  <a:lnTo>
                    <a:pt x="164" y="57"/>
                  </a:lnTo>
                  <a:lnTo>
                    <a:pt x="150" y="53"/>
                  </a:lnTo>
                  <a:lnTo>
                    <a:pt x="135" y="57"/>
                  </a:lnTo>
                  <a:lnTo>
                    <a:pt x="148" y="47"/>
                  </a:lnTo>
                  <a:lnTo>
                    <a:pt x="158" y="42"/>
                  </a:lnTo>
                  <a:lnTo>
                    <a:pt x="168" y="40"/>
                  </a:lnTo>
                  <a:lnTo>
                    <a:pt x="184" y="45"/>
                  </a:lnTo>
                  <a:lnTo>
                    <a:pt x="174" y="36"/>
                  </a:lnTo>
                  <a:lnTo>
                    <a:pt x="156" y="32"/>
                  </a:lnTo>
                  <a:lnTo>
                    <a:pt x="138" y="40"/>
                  </a:lnTo>
                  <a:lnTo>
                    <a:pt x="150" y="27"/>
                  </a:lnTo>
                  <a:lnTo>
                    <a:pt x="158" y="19"/>
                  </a:lnTo>
                  <a:lnTo>
                    <a:pt x="168" y="14"/>
                  </a:lnTo>
                  <a:lnTo>
                    <a:pt x="179" y="16"/>
                  </a:lnTo>
                  <a:lnTo>
                    <a:pt x="187" y="24"/>
                  </a:lnTo>
                  <a:lnTo>
                    <a:pt x="190" y="36"/>
                  </a:lnTo>
                  <a:lnTo>
                    <a:pt x="190" y="47"/>
                  </a:lnTo>
                  <a:lnTo>
                    <a:pt x="190" y="62"/>
                  </a:lnTo>
                  <a:lnTo>
                    <a:pt x="189" y="84"/>
                  </a:lnTo>
                  <a:lnTo>
                    <a:pt x="187" y="101"/>
                  </a:lnTo>
                  <a:lnTo>
                    <a:pt x="186" y="117"/>
                  </a:lnTo>
                  <a:lnTo>
                    <a:pt x="181" y="133"/>
                  </a:lnTo>
                  <a:lnTo>
                    <a:pt x="174" y="149"/>
                  </a:lnTo>
                  <a:lnTo>
                    <a:pt x="182" y="138"/>
                  </a:lnTo>
                  <a:lnTo>
                    <a:pt x="189" y="127"/>
                  </a:lnTo>
                  <a:lnTo>
                    <a:pt x="194" y="115"/>
                  </a:lnTo>
                  <a:lnTo>
                    <a:pt x="199" y="97"/>
                  </a:lnTo>
                  <a:lnTo>
                    <a:pt x="202" y="79"/>
                  </a:lnTo>
                  <a:lnTo>
                    <a:pt x="202" y="63"/>
                  </a:lnTo>
                  <a:lnTo>
                    <a:pt x="203" y="47"/>
                  </a:lnTo>
                  <a:lnTo>
                    <a:pt x="216" y="47"/>
                  </a:lnTo>
                  <a:lnTo>
                    <a:pt x="225" y="55"/>
                  </a:lnTo>
                  <a:lnTo>
                    <a:pt x="226" y="65"/>
                  </a:lnTo>
                  <a:lnTo>
                    <a:pt x="226" y="75"/>
                  </a:lnTo>
                  <a:lnTo>
                    <a:pt x="225" y="89"/>
                  </a:lnTo>
                  <a:lnTo>
                    <a:pt x="221" y="102"/>
                  </a:lnTo>
                  <a:lnTo>
                    <a:pt x="218" y="114"/>
                  </a:lnTo>
                  <a:lnTo>
                    <a:pt x="212" y="128"/>
                  </a:lnTo>
                  <a:lnTo>
                    <a:pt x="197" y="151"/>
                  </a:lnTo>
                  <a:lnTo>
                    <a:pt x="216" y="135"/>
                  </a:lnTo>
                  <a:lnTo>
                    <a:pt x="228" y="119"/>
                  </a:lnTo>
                  <a:lnTo>
                    <a:pt x="236" y="99"/>
                  </a:lnTo>
                  <a:lnTo>
                    <a:pt x="239" y="86"/>
                  </a:lnTo>
                  <a:lnTo>
                    <a:pt x="241" y="68"/>
                  </a:lnTo>
                  <a:lnTo>
                    <a:pt x="241" y="53"/>
                  </a:lnTo>
                  <a:lnTo>
                    <a:pt x="236" y="40"/>
                  </a:lnTo>
                  <a:lnTo>
                    <a:pt x="228" y="34"/>
                  </a:lnTo>
                  <a:lnTo>
                    <a:pt x="216" y="29"/>
                  </a:lnTo>
                  <a:lnTo>
                    <a:pt x="202" y="26"/>
                  </a:lnTo>
                  <a:lnTo>
                    <a:pt x="200" y="14"/>
                  </a:lnTo>
                  <a:lnTo>
                    <a:pt x="195" y="6"/>
                  </a:lnTo>
                  <a:lnTo>
                    <a:pt x="182" y="0"/>
                  </a:lnTo>
                  <a:lnTo>
                    <a:pt x="166" y="0"/>
                  </a:lnTo>
                  <a:lnTo>
                    <a:pt x="150" y="8"/>
                  </a:lnTo>
                  <a:lnTo>
                    <a:pt x="137" y="19"/>
                  </a:lnTo>
                  <a:lnTo>
                    <a:pt x="129" y="29"/>
                  </a:lnTo>
                  <a:lnTo>
                    <a:pt x="121" y="42"/>
                  </a:lnTo>
                  <a:lnTo>
                    <a:pt x="116" y="55"/>
                  </a:lnTo>
                  <a:lnTo>
                    <a:pt x="112" y="70"/>
                  </a:lnTo>
                  <a:lnTo>
                    <a:pt x="0" y="70"/>
                  </a:lnTo>
                  <a:lnTo>
                    <a:pt x="4" y="96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0" name=""/>
          <p:cNvSpPr/>
          <p:nvPr/>
        </p:nvSpPr>
        <p:spPr>
          <a:xfrm>
            <a:off x="3996360" y="1276200"/>
            <a:ext cx="1383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Macula dens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1" name=""/>
          <p:cNvSpPr/>
          <p:nvPr/>
        </p:nvSpPr>
        <p:spPr>
          <a:xfrm>
            <a:off x="3354480" y="1592280"/>
            <a:ext cx="1825560" cy="9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Tubuloglomerulární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zpětná vazba (dodávka NaCl na vstupu do distálního tubulu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2" name=""/>
          <p:cNvSpPr/>
          <p:nvPr/>
        </p:nvSpPr>
        <p:spPr>
          <a:xfrm>
            <a:off x="5866920" y="1289160"/>
            <a:ext cx="120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Sympatik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3" name=""/>
          <p:cNvSpPr/>
          <p:nvPr/>
        </p:nvSpPr>
        <p:spPr>
          <a:xfrm>
            <a:off x="5447880" y="1708200"/>
            <a:ext cx="1755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Nervová zakončení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4" name=""/>
          <p:cNvSpPr/>
          <p:nvPr/>
        </p:nvSpPr>
        <p:spPr>
          <a:xfrm>
            <a:off x="698040" y="3736800"/>
            <a:ext cx="157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Angiotensinog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5" name=""/>
          <p:cNvSpPr/>
          <p:nvPr/>
        </p:nvSpPr>
        <p:spPr>
          <a:xfrm>
            <a:off x="3082320" y="3719520"/>
            <a:ext cx="1293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Angiotensin 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6" name=""/>
          <p:cNvSpPr/>
          <p:nvPr/>
        </p:nvSpPr>
        <p:spPr>
          <a:xfrm>
            <a:off x="5543640" y="3711600"/>
            <a:ext cx="136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Angiotensin I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7" name=""/>
          <p:cNvSpPr/>
          <p:nvPr/>
        </p:nvSpPr>
        <p:spPr>
          <a:xfrm>
            <a:off x="7271280" y="36957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Angiotensin II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8" name=""/>
          <p:cNvSpPr/>
          <p:nvPr/>
        </p:nvSpPr>
        <p:spPr>
          <a:xfrm>
            <a:off x="4270320" y="3592440"/>
            <a:ext cx="1213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konvertující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enzy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9" name=""/>
          <p:cNvSpPr/>
          <p:nvPr/>
        </p:nvSpPr>
        <p:spPr>
          <a:xfrm flipH="1">
            <a:off x="1750680" y="3978360"/>
            <a:ext cx="3957480" cy="571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0" name=""/>
          <p:cNvSpPr/>
          <p:nvPr/>
        </p:nvSpPr>
        <p:spPr>
          <a:xfrm flipH="1">
            <a:off x="4203720" y="4014720"/>
            <a:ext cx="1830240" cy="947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1" name=""/>
          <p:cNvSpPr/>
          <p:nvPr/>
        </p:nvSpPr>
        <p:spPr>
          <a:xfrm>
            <a:off x="6040440" y="4008600"/>
            <a:ext cx="625320" cy="3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2" name=""/>
          <p:cNvSpPr/>
          <p:nvPr/>
        </p:nvSpPr>
        <p:spPr>
          <a:xfrm>
            <a:off x="4011480" y="5180040"/>
            <a:ext cx="0" cy="66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3" name=""/>
          <p:cNvSpPr/>
          <p:nvPr/>
        </p:nvSpPr>
        <p:spPr>
          <a:xfrm>
            <a:off x="2279880" y="533556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Antidiuréz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4" name=""/>
          <p:cNvSpPr/>
          <p:nvPr/>
        </p:nvSpPr>
        <p:spPr>
          <a:xfrm flipV="1">
            <a:off x="2273400" y="5333760"/>
            <a:ext cx="0" cy="268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5" name=""/>
          <p:cNvSpPr/>
          <p:nvPr/>
        </p:nvSpPr>
        <p:spPr>
          <a:xfrm>
            <a:off x="2957400" y="5094360"/>
            <a:ext cx="0" cy="312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6" name=""/>
          <p:cNvSpPr/>
          <p:nvPr/>
        </p:nvSpPr>
        <p:spPr>
          <a:xfrm flipH="1">
            <a:off x="4307040" y="4059360"/>
            <a:ext cx="3130560" cy="9014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7" name=""/>
          <p:cNvSpPr/>
          <p:nvPr/>
        </p:nvSpPr>
        <p:spPr>
          <a:xfrm>
            <a:off x="2343240" y="3906720"/>
            <a:ext cx="7160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8" name=""/>
          <p:cNvSpPr/>
          <p:nvPr/>
        </p:nvSpPr>
        <p:spPr>
          <a:xfrm>
            <a:off x="4390920" y="3898800"/>
            <a:ext cx="11541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9" name=""/>
          <p:cNvSpPr/>
          <p:nvPr/>
        </p:nvSpPr>
        <p:spPr>
          <a:xfrm flipV="1">
            <a:off x="6843600" y="3882960"/>
            <a:ext cx="438120" cy="15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0" name=""/>
          <p:cNvSpPr/>
          <p:nvPr/>
        </p:nvSpPr>
        <p:spPr>
          <a:xfrm flipH="1">
            <a:off x="2722320" y="3241800"/>
            <a:ext cx="1137960" cy="571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1" name=""/>
          <p:cNvSpPr/>
          <p:nvPr/>
        </p:nvSpPr>
        <p:spPr>
          <a:xfrm>
            <a:off x="2620800" y="2187720"/>
            <a:ext cx="1230480" cy="749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2" name=""/>
          <p:cNvSpPr/>
          <p:nvPr/>
        </p:nvSpPr>
        <p:spPr>
          <a:xfrm>
            <a:off x="4022640" y="2514600"/>
            <a:ext cx="6480" cy="41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3" name=""/>
          <p:cNvSpPr/>
          <p:nvPr/>
        </p:nvSpPr>
        <p:spPr>
          <a:xfrm flipH="1">
            <a:off x="4266720" y="2077920"/>
            <a:ext cx="1970280" cy="86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4" name=""/>
          <p:cNvSpPr/>
          <p:nvPr/>
        </p:nvSpPr>
        <p:spPr>
          <a:xfrm flipH="1">
            <a:off x="2343240" y="855720"/>
            <a:ext cx="1138320" cy="10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5" name=""/>
          <p:cNvSpPr/>
          <p:nvPr/>
        </p:nvSpPr>
        <p:spPr>
          <a:xfrm>
            <a:off x="4011480" y="830160"/>
            <a:ext cx="0" cy="77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6" name=""/>
          <p:cNvSpPr/>
          <p:nvPr/>
        </p:nvSpPr>
        <p:spPr>
          <a:xfrm>
            <a:off x="4762440" y="812880"/>
            <a:ext cx="151776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7" name=""/>
          <p:cNvSpPr/>
          <p:nvPr/>
        </p:nvSpPr>
        <p:spPr>
          <a:xfrm>
            <a:off x="1701720" y="4765680"/>
            <a:ext cx="0" cy="244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8" name=""/>
          <p:cNvSpPr/>
          <p:nvPr/>
        </p:nvSpPr>
        <p:spPr>
          <a:xfrm flipV="1">
            <a:off x="2957400" y="6035400"/>
            <a:ext cx="0" cy="268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9" name=""/>
          <p:cNvSpPr/>
          <p:nvPr/>
        </p:nvSpPr>
        <p:spPr>
          <a:xfrm>
            <a:off x="7545240" y="4346640"/>
            <a:ext cx="5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C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0" name=""/>
          <p:cNvSpPr/>
          <p:nvPr/>
        </p:nvSpPr>
        <p:spPr>
          <a:xfrm>
            <a:off x="7319880" y="4824360"/>
            <a:ext cx="1468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Pocit žízně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chuť na slané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11" name="" descr=""/>
          <p:cNvPicPr/>
          <p:nvPr/>
        </p:nvPicPr>
        <p:blipFill>
          <a:blip r:embed="rId2"/>
          <a:stretch/>
        </p:blipFill>
        <p:spPr>
          <a:xfrm>
            <a:off x="8354880" y="5580000"/>
            <a:ext cx="389160" cy="649440"/>
          </a:xfrm>
          <a:prstGeom prst="rect">
            <a:avLst/>
          </a:prstGeom>
          <a:ln w="0">
            <a:noFill/>
          </a:ln>
        </p:spPr>
      </p:pic>
      <p:grpSp>
        <p:nvGrpSpPr>
          <p:cNvPr id="7212" name=""/>
          <p:cNvGrpSpPr/>
          <p:nvPr/>
        </p:nvGrpSpPr>
        <p:grpSpPr>
          <a:xfrm>
            <a:off x="8262720" y="4449600"/>
            <a:ext cx="485640" cy="588960"/>
            <a:chOff x="8262720" y="4449600"/>
            <a:chExt cx="485640" cy="588960"/>
          </a:xfrm>
        </p:grpSpPr>
        <p:grpSp>
          <p:nvGrpSpPr>
            <p:cNvPr id="7213" name=""/>
            <p:cNvGrpSpPr/>
            <p:nvPr/>
          </p:nvGrpSpPr>
          <p:grpSpPr>
            <a:xfrm>
              <a:off x="8262720" y="4449600"/>
              <a:ext cx="485640" cy="347760"/>
              <a:chOff x="8262720" y="4449600"/>
              <a:chExt cx="485640" cy="347760"/>
            </a:xfrm>
          </p:grpSpPr>
          <p:grpSp>
            <p:nvGrpSpPr>
              <p:cNvPr id="7214" name=""/>
              <p:cNvGrpSpPr/>
              <p:nvPr/>
            </p:nvGrpSpPr>
            <p:grpSpPr>
              <a:xfrm>
                <a:off x="8262720" y="4449600"/>
                <a:ext cx="485640" cy="304560"/>
                <a:chOff x="8262720" y="4449600"/>
                <a:chExt cx="485640" cy="304560"/>
              </a:xfrm>
            </p:grpSpPr>
            <p:sp>
              <p:nvSpPr>
                <p:cNvPr id="7215" name=""/>
                <p:cNvSpPr/>
                <p:nvPr/>
              </p:nvSpPr>
              <p:spPr>
                <a:xfrm flipH="1">
                  <a:off x="8262360" y="4449600"/>
                  <a:ext cx="485640" cy="304560"/>
                </a:xfrm>
                <a:custGeom>
                  <a:avLst/>
                  <a:gdLst/>
                  <a:ahLst/>
                  <a:rect l="l" t="t" r="r" b="b"/>
                  <a:pathLst>
                    <a:path w="1966" h="1139">
                      <a:moveTo>
                        <a:pt x="624" y="55"/>
                      </a:moveTo>
                      <a:lnTo>
                        <a:pt x="685" y="35"/>
                      </a:lnTo>
                      <a:lnTo>
                        <a:pt x="744" y="25"/>
                      </a:lnTo>
                      <a:lnTo>
                        <a:pt x="818" y="13"/>
                      </a:lnTo>
                      <a:lnTo>
                        <a:pt x="900" y="4"/>
                      </a:lnTo>
                      <a:lnTo>
                        <a:pt x="969" y="0"/>
                      </a:lnTo>
                      <a:lnTo>
                        <a:pt x="1048" y="5"/>
                      </a:lnTo>
                      <a:lnTo>
                        <a:pt x="1152" y="22"/>
                      </a:lnTo>
                      <a:lnTo>
                        <a:pt x="1282" y="48"/>
                      </a:lnTo>
                      <a:lnTo>
                        <a:pt x="1386" y="79"/>
                      </a:lnTo>
                      <a:lnTo>
                        <a:pt x="1475" y="114"/>
                      </a:lnTo>
                      <a:lnTo>
                        <a:pt x="1520" y="140"/>
                      </a:lnTo>
                      <a:lnTo>
                        <a:pt x="1559" y="163"/>
                      </a:lnTo>
                      <a:lnTo>
                        <a:pt x="1612" y="208"/>
                      </a:lnTo>
                      <a:lnTo>
                        <a:pt x="1634" y="233"/>
                      </a:lnTo>
                      <a:lnTo>
                        <a:pt x="1662" y="252"/>
                      </a:lnTo>
                      <a:lnTo>
                        <a:pt x="1705" y="269"/>
                      </a:lnTo>
                      <a:lnTo>
                        <a:pt x="1750" y="285"/>
                      </a:lnTo>
                      <a:lnTo>
                        <a:pt x="1794" y="306"/>
                      </a:lnTo>
                      <a:lnTo>
                        <a:pt x="1830" y="337"/>
                      </a:lnTo>
                      <a:lnTo>
                        <a:pt x="1851" y="363"/>
                      </a:lnTo>
                      <a:lnTo>
                        <a:pt x="1877" y="410"/>
                      </a:lnTo>
                      <a:lnTo>
                        <a:pt x="1907" y="489"/>
                      </a:lnTo>
                      <a:lnTo>
                        <a:pt x="1932" y="575"/>
                      </a:lnTo>
                      <a:lnTo>
                        <a:pt x="1953" y="648"/>
                      </a:lnTo>
                      <a:lnTo>
                        <a:pt x="1965" y="691"/>
                      </a:lnTo>
                      <a:lnTo>
                        <a:pt x="1966" y="739"/>
                      </a:lnTo>
                      <a:lnTo>
                        <a:pt x="1957" y="790"/>
                      </a:lnTo>
                      <a:lnTo>
                        <a:pt x="1946" y="851"/>
                      </a:lnTo>
                      <a:lnTo>
                        <a:pt x="1934" y="909"/>
                      </a:lnTo>
                      <a:lnTo>
                        <a:pt x="1920" y="956"/>
                      </a:lnTo>
                      <a:lnTo>
                        <a:pt x="1900" y="992"/>
                      </a:lnTo>
                      <a:lnTo>
                        <a:pt x="1880" y="1016"/>
                      </a:lnTo>
                      <a:lnTo>
                        <a:pt x="1852" y="1036"/>
                      </a:lnTo>
                      <a:lnTo>
                        <a:pt x="1829" y="1045"/>
                      </a:lnTo>
                      <a:lnTo>
                        <a:pt x="1793" y="1051"/>
                      </a:lnTo>
                      <a:lnTo>
                        <a:pt x="1711" y="1057"/>
                      </a:lnTo>
                      <a:lnTo>
                        <a:pt x="1625" y="1067"/>
                      </a:lnTo>
                      <a:lnTo>
                        <a:pt x="1539" y="1085"/>
                      </a:lnTo>
                      <a:lnTo>
                        <a:pt x="1349" y="1115"/>
                      </a:lnTo>
                      <a:lnTo>
                        <a:pt x="1239" y="1127"/>
                      </a:lnTo>
                      <a:lnTo>
                        <a:pt x="1067" y="1139"/>
                      </a:lnTo>
                      <a:lnTo>
                        <a:pt x="938" y="1127"/>
                      </a:lnTo>
                      <a:lnTo>
                        <a:pt x="790" y="1109"/>
                      </a:lnTo>
                      <a:lnTo>
                        <a:pt x="686" y="1073"/>
                      </a:lnTo>
                      <a:lnTo>
                        <a:pt x="645" y="1044"/>
                      </a:lnTo>
                      <a:lnTo>
                        <a:pt x="615" y="1023"/>
                      </a:lnTo>
                      <a:lnTo>
                        <a:pt x="575" y="1005"/>
                      </a:lnTo>
                      <a:lnTo>
                        <a:pt x="541" y="996"/>
                      </a:lnTo>
                      <a:lnTo>
                        <a:pt x="510" y="996"/>
                      </a:lnTo>
                      <a:lnTo>
                        <a:pt x="478" y="993"/>
                      </a:lnTo>
                      <a:lnTo>
                        <a:pt x="429" y="971"/>
                      </a:lnTo>
                      <a:lnTo>
                        <a:pt x="395" y="948"/>
                      </a:lnTo>
                      <a:lnTo>
                        <a:pt x="374" y="925"/>
                      </a:lnTo>
                      <a:lnTo>
                        <a:pt x="364" y="897"/>
                      </a:lnTo>
                      <a:lnTo>
                        <a:pt x="356" y="866"/>
                      </a:lnTo>
                      <a:lnTo>
                        <a:pt x="343" y="846"/>
                      </a:lnTo>
                      <a:lnTo>
                        <a:pt x="312" y="821"/>
                      </a:lnTo>
                      <a:lnTo>
                        <a:pt x="263" y="796"/>
                      </a:lnTo>
                      <a:lnTo>
                        <a:pt x="212" y="786"/>
                      </a:lnTo>
                      <a:lnTo>
                        <a:pt x="168" y="777"/>
                      </a:lnTo>
                      <a:lnTo>
                        <a:pt x="117" y="759"/>
                      </a:lnTo>
                      <a:lnTo>
                        <a:pt x="77" y="741"/>
                      </a:lnTo>
                      <a:lnTo>
                        <a:pt x="45" y="718"/>
                      </a:lnTo>
                      <a:lnTo>
                        <a:pt x="28" y="697"/>
                      </a:lnTo>
                      <a:lnTo>
                        <a:pt x="14" y="653"/>
                      </a:lnTo>
                      <a:lnTo>
                        <a:pt x="5" y="606"/>
                      </a:lnTo>
                      <a:lnTo>
                        <a:pt x="0" y="563"/>
                      </a:lnTo>
                      <a:lnTo>
                        <a:pt x="5" y="514"/>
                      </a:lnTo>
                      <a:lnTo>
                        <a:pt x="22" y="453"/>
                      </a:lnTo>
                      <a:lnTo>
                        <a:pt x="48" y="398"/>
                      </a:lnTo>
                      <a:lnTo>
                        <a:pt x="89" y="339"/>
                      </a:lnTo>
                      <a:lnTo>
                        <a:pt x="143" y="290"/>
                      </a:lnTo>
                      <a:lnTo>
                        <a:pt x="196" y="256"/>
                      </a:lnTo>
                      <a:lnTo>
                        <a:pt x="238" y="232"/>
                      </a:lnTo>
                      <a:lnTo>
                        <a:pt x="300" y="216"/>
                      </a:lnTo>
                      <a:lnTo>
                        <a:pt x="343" y="210"/>
                      </a:lnTo>
                      <a:lnTo>
                        <a:pt x="384" y="194"/>
                      </a:lnTo>
                      <a:lnTo>
                        <a:pt x="450" y="156"/>
                      </a:lnTo>
                      <a:lnTo>
                        <a:pt x="502" y="118"/>
                      </a:lnTo>
                      <a:lnTo>
                        <a:pt x="566" y="81"/>
                      </a:lnTo>
                      <a:lnTo>
                        <a:pt x="624" y="55"/>
                      </a:lnTo>
                      <a:close/>
                    </a:path>
                  </a:pathLst>
                </a:custGeom>
                <a:solidFill>
                  <a:srgbClr val="ff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216" name=""/>
                <p:cNvGrpSpPr/>
                <p:nvPr/>
              </p:nvGrpSpPr>
              <p:grpSpPr>
                <a:xfrm>
                  <a:off x="8279640" y="4458600"/>
                  <a:ext cx="456840" cy="246240"/>
                  <a:chOff x="8279640" y="4458600"/>
                  <a:chExt cx="456840" cy="246240"/>
                </a:xfrm>
              </p:grpSpPr>
              <p:grpSp>
                <p:nvGrpSpPr>
                  <p:cNvPr id="7217" name=""/>
                  <p:cNvGrpSpPr/>
                  <p:nvPr/>
                </p:nvGrpSpPr>
                <p:grpSpPr>
                  <a:xfrm>
                    <a:off x="8654040" y="4564800"/>
                    <a:ext cx="82440" cy="118440"/>
                    <a:chOff x="8654040" y="4564800"/>
                    <a:chExt cx="82440" cy="118440"/>
                  </a:xfrm>
                </p:grpSpPr>
                <p:sp>
                  <p:nvSpPr>
                    <p:cNvPr id="7218" name=""/>
                    <p:cNvSpPr/>
                    <p:nvPr/>
                  </p:nvSpPr>
                  <p:spPr>
                    <a:xfrm flipH="1">
                      <a:off x="8653680" y="4564800"/>
                      <a:ext cx="82440" cy="118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34" h="445">
                          <a:moveTo>
                            <a:pt x="5" y="0"/>
                          </a:moveTo>
                          <a:lnTo>
                            <a:pt x="2" y="18"/>
                          </a:lnTo>
                          <a:lnTo>
                            <a:pt x="0" y="41"/>
                          </a:lnTo>
                          <a:lnTo>
                            <a:pt x="2" y="60"/>
                          </a:lnTo>
                          <a:lnTo>
                            <a:pt x="8" y="83"/>
                          </a:lnTo>
                          <a:lnTo>
                            <a:pt x="16" y="101"/>
                          </a:lnTo>
                          <a:lnTo>
                            <a:pt x="30" y="123"/>
                          </a:lnTo>
                          <a:lnTo>
                            <a:pt x="47" y="143"/>
                          </a:lnTo>
                          <a:lnTo>
                            <a:pt x="71" y="159"/>
                          </a:lnTo>
                          <a:lnTo>
                            <a:pt x="97" y="169"/>
                          </a:lnTo>
                          <a:lnTo>
                            <a:pt x="123" y="180"/>
                          </a:lnTo>
                          <a:lnTo>
                            <a:pt x="128" y="200"/>
                          </a:lnTo>
                          <a:lnTo>
                            <a:pt x="137" y="224"/>
                          </a:lnTo>
                          <a:lnTo>
                            <a:pt x="152" y="248"/>
                          </a:lnTo>
                          <a:lnTo>
                            <a:pt x="172" y="273"/>
                          </a:lnTo>
                          <a:lnTo>
                            <a:pt x="203" y="302"/>
                          </a:lnTo>
                          <a:lnTo>
                            <a:pt x="227" y="322"/>
                          </a:lnTo>
                          <a:lnTo>
                            <a:pt x="246" y="332"/>
                          </a:lnTo>
                          <a:lnTo>
                            <a:pt x="277" y="345"/>
                          </a:lnTo>
                          <a:lnTo>
                            <a:pt x="310" y="354"/>
                          </a:lnTo>
                          <a:lnTo>
                            <a:pt x="323" y="359"/>
                          </a:lnTo>
                          <a:lnTo>
                            <a:pt x="331" y="368"/>
                          </a:lnTo>
                          <a:lnTo>
                            <a:pt x="334" y="380"/>
                          </a:lnTo>
                          <a:lnTo>
                            <a:pt x="329" y="418"/>
                          </a:lnTo>
                          <a:lnTo>
                            <a:pt x="322" y="445"/>
                          </a:lnTo>
                        </a:path>
                      </a:pathLst>
                    </a:custGeom>
                    <a:noFill/>
                    <a:ln w="12600">
                      <a:solidFill>
                        <a:srgbClr val="ff808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219" name=""/>
                    <p:cNvSpPr/>
                    <p:nvPr/>
                  </p:nvSpPr>
                  <p:spPr>
                    <a:xfrm flipH="1">
                      <a:off x="8702280" y="4579200"/>
                      <a:ext cx="4320" cy="3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26">
                          <a:moveTo>
                            <a:pt x="11" y="0"/>
                          </a:moveTo>
                          <a:lnTo>
                            <a:pt x="14" y="36"/>
                          </a:lnTo>
                          <a:lnTo>
                            <a:pt x="17" y="67"/>
                          </a:lnTo>
                          <a:lnTo>
                            <a:pt x="12" y="98"/>
                          </a:lnTo>
                          <a:lnTo>
                            <a:pt x="0" y="126"/>
                          </a:lnTo>
                        </a:path>
                      </a:pathLst>
                    </a:custGeom>
                    <a:noFill/>
                    <a:ln w="12600">
                      <a:solidFill>
                        <a:srgbClr val="ff808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320" bIns="-13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7220" name=""/>
                  <p:cNvSpPr/>
                  <p:nvPr/>
                </p:nvSpPr>
                <p:spPr>
                  <a:xfrm flipH="1">
                    <a:off x="8586720" y="4595760"/>
                    <a:ext cx="77400" cy="61920"/>
                  </a:xfrm>
                  <a:custGeom>
                    <a:avLst/>
                    <a:gdLst/>
                    <a:ahLst/>
                    <a:rect l="l" t="t" r="r" b="b"/>
                    <a:pathLst>
                      <a:path w="316" h="233">
                        <a:moveTo>
                          <a:pt x="0" y="0"/>
                        </a:moveTo>
                        <a:lnTo>
                          <a:pt x="6" y="32"/>
                        </a:lnTo>
                        <a:lnTo>
                          <a:pt x="18" y="74"/>
                        </a:lnTo>
                        <a:lnTo>
                          <a:pt x="28" y="101"/>
                        </a:lnTo>
                        <a:lnTo>
                          <a:pt x="40" y="119"/>
                        </a:lnTo>
                        <a:lnTo>
                          <a:pt x="70" y="138"/>
                        </a:lnTo>
                        <a:lnTo>
                          <a:pt x="95" y="148"/>
                        </a:lnTo>
                        <a:lnTo>
                          <a:pt x="122" y="159"/>
                        </a:lnTo>
                        <a:lnTo>
                          <a:pt x="163" y="177"/>
                        </a:lnTo>
                        <a:lnTo>
                          <a:pt x="200" y="202"/>
                        </a:lnTo>
                        <a:lnTo>
                          <a:pt x="226" y="222"/>
                        </a:lnTo>
                        <a:lnTo>
                          <a:pt x="249" y="228"/>
                        </a:lnTo>
                        <a:lnTo>
                          <a:pt x="277" y="233"/>
                        </a:lnTo>
                        <a:lnTo>
                          <a:pt x="314" y="230"/>
                        </a:lnTo>
                        <a:lnTo>
                          <a:pt x="316" y="230"/>
                        </a:lnTo>
                      </a:path>
                    </a:pathLst>
                  </a:custGeom>
                  <a:noFill/>
                  <a:ln w="12600">
                    <a:solidFill>
                      <a:srgbClr val="ff80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120" bIns="15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21" name=""/>
                  <p:cNvSpPr/>
                  <p:nvPr/>
                </p:nvSpPr>
                <p:spPr>
                  <a:xfrm flipH="1">
                    <a:off x="8605800" y="4543920"/>
                    <a:ext cx="5328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" h="60">
                        <a:moveTo>
                          <a:pt x="0" y="60"/>
                        </a:moveTo>
                        <a:lnTo>
                          <a:pt x="28" y="42"/>
                        </a:lnTo>
                        <a:lnTo>
                          <a:pt x="53" y="26"/>
                        </a:lnTo>
                        <a:lnTo>
                          <a:pt x="88" y="11"/>
                        </a:lnTo>
                        <a:lnTo>
                          <a:pt x="119" y="5"/>
                        </a:lnTo>
                        <a:lnTo>
                          <a:pt x="153" y="0"/>
                        </a:lnTo>
                        <a:lnTo>
                          <a:pt x="185" y="3"/>
                        </a:lnTo>
                        <a:lnTo>
                          <a:pt x="216" y="11"/>
                        </a:lnTo>
                      </a:path>
                    </a:pathLst>
                  </a:custGeom>
                  <a:noFill/>
                  <a:ln w="12600">
                    <a:solidFill>
                      <a:srgbClr val="ff80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22" name=""/>
                  <p:cNvSpPr/>
                  <p:nvPr/>
                </p:nvSpPr>
                <p:spPr>
                  <a:xfrm flipH="1">
                    <a:off x="8664840" y="4512960"/>
                    <a:ext cx="15840" cy="7632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287">
                        <a:moveTo>
                          <a:pt x="25" y="0"/>
                        </a:moveTo>
                        <a:lnTo>
                          <a:pt x="41" y="26"/>
                        </a:lnTo>
                        <a:lnTo>
                          <a:pt x="53" y="47"/>
                        </a:lnTo>
                        <a:lnTo>
                          <a:pt x="62" y="75"/>
                        </a:lnTo>
                        <a:lnTo>
                          <a:pt x="65" y="109"/>
                        </a:lnTo>
                        <a:lnTo>
                          <a:pt x="62" y="149"/>
                        </a:lnTo>
                        <a:lnTo>
                          <a:pt x="56" y="188"/>
                        </a:lnTo>
                        <a:lnTo>
                          <a:pt x="47" y="219"/>
                        </a:lnTo>
                        <a:lnTo>
                          <a:pt x="34" y="241"/>
                        </a:lnTo>
                        <a:lnTo>
                          <a:pt x="16" y="268"/>
                        </a:lnTo>
                        <a:lnTo>
                          <a:pt x="0" y="287"/>
                        </a:lnTo>
                      </a:path>
                    </a:pathLst>
                  </a:custGeom>
                  <a:noFill/>
                  <a:ln w="12600">
                    <a:solidFill>
                      <a:srgbClr val="ff80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520" bIns="29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23" name=""/>
                  <p:cNvSpPr/>
                  <p:nvPr/>
                </p:nvSpPr>
                <p:spPr>
                  <a:xfrm flipH="1">
                    <a:off x="8617320" y="4487400"/>
                    <a:ext cx="41760" cy="36720"/>
                  </a:xfrm>
                  <a:custGeom>
                    <a:avLst/>
                    <a:gdLst/>
                    <a:ahLst/>
                    <a:rect l="l" t="t" r="r" b="b"/>
                    <a:pathLst>
                      <a:path w="169" h="138">
                        <a:moveTo>
                          <a:pt x="0" y="138"/>
                        </a:moveTo>
                        <a:lnTo>
                          <a:pt x="40" y="105"/>
                        </a:lnTo>
                        <a:lnTo>
                          <a:pt x="77" y="73"/>
                        </a:lnTo>
                        <a:lnTo>
                          <a:pt x="117" y="39"/>
                        </a:lnTo>
                        <a:lnTo>
                          <a:pt x="169" y="0"/>
                        </a:lnTo>
                      </a:path>
                    </a:pathLst>
                  </a:custGeom>
                  <a:noFill/>
                  <a:ln w="12600">
                    <a:solidFill>
                      <a:srgbClr val="ff80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080" bIns="-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24" name=""/>
                  <p:cNvSpPr/>
                  <p:nvPr/>
                </p:nvSpPr>
                <p:spPr>
                  <a:xfrm flipH="1">
                    <a:off x="8515800" y="4458600"/>
                    <a:ext cx="2196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89" h="65">
                        <a:moveTo>
                          <a:pt x="0" y="65"/>
                        </a:moveTo>
                        <a:lnTo>
                          <a:pt x="34" y="37"/>
                        </a:lnTo>
                        <a:lnTo>
                          <a:pt x="89" y="0"/>
                        </a:lnTo>
                      </a:path>
                    </a:pathLst>
                  </a:custGeom>
                  <a:noFill/>
                  <a:ln w="12600">
                    <a:solidFill>
                      <a:srgbClr val="ff80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25" name=""/>
                  <p:cNvSpPr/>
                  <p:nvPr/>
                </p:nvSpPr>
                <p:spPr>
                  <a:xfrm flipH="1">
                    <a:off x="8436240" y="4471200"/>
                    <a:ext cx="162000" cy="46080"/>
                  </a:xfrm>
                  <a:custGeom>
                    <a:avLst/>
                    <a:gdLst/>
                    <a:ahLst/>
                    <a:rect l="l" t="t" r="r" b="b"/>
                    <a:pathLst>
                      <a:path w="656" h="172">
                        <a:moveTo>
                          <a:pt x="0" y="172"/>
                        </a:moveTo>
                        <a:lnTo>
                          <a:pt x="25" y="165"/>
                        </a:lnTo>
                        <a:lnTo>
                          <a:pt x="44" y="156"/>
                        </a:lnTo>
                        <a:lnTo>
                          <a:pt x="59" y="147"/>
                        </a:lnTo>
                        <a:lnTo>
                          <a:pt x="72" y="131"/>
                        </a:lnTo>
                        <a:lnTo>
                          <a:pt x="78" y="110"/>
                        </a:lnTo>
                        <a:lnTo>
                          <a:pt x="82" y="89"/>
                        </a:lnTo>
                        <a:lnTo>
                          <a:pt x="90" y="113"/>
                        </a:lnTo>
                        <a:lnTo>
                          <a:pt x="101" y="128"/>
                        </a:lnTo>
                        <a:lnTo>
                          <a:pt x="118" y="137"/>
                        </a:lnTo>
                        <a:lnTo>
                          <a:pt x="141" y="144"/>
                        </a:lnTo>
                        <a:lnTo>
                          <a:pt x="167" y="146"/>
                        </a:lnTo>
                        <a:lnTo>
                          <a:pt x="209" y="143"/>
                        </a:lnTo>
                        <a:lnTo>
                          <a:pt x="252" y="137"/>
                        </a:lnTo>
                        <a:lnTo>
                          <a:pt x="290" y="132"/>
                        </a:lnTo>
                        <a:lnTo>
                          <a:pt x="321" y="124"/>
                        </a:lnTo>
                        <a:lnTo>
                          <a:pt x="355" y="109"/>
                        </a:lnTo>
                        <a:lnTo>
                          <a:pt x="381" y="94"/>
                        </a:lnTo>
                        <a:lnTo>
                          <a:pt x="405" y="76"/>
                        </a:lnTo>
                        <a:lnTo>
                          <a:pt x="422" y="52"/>
                        </a:lnTo>
                        <a:lnTo>
                          <a:pt x="433" y="70"/>
                        </a:lnTo>
                        <a:lnTo>
                          <a:pt x="445" y="84"/>
                        </a:lnTo>
                        <a:lnTo>
                          <a:pt x="462" y="98"/>
                        </a:lnTo>
                        <a:lnTo>
                          <a:pt x="489" y="106"/>
                        </a:lnTo>
                        <a:lnTo>
                          <a:pt x="520" y="109"/>
                        </a:lnTo>
                        <a:lnTo>
                          <a:pt x="547" y="106"/>
                        </a:lnTo>
                        <a:lnTo>
                          <a:pt x="566" y="101"/>
                        </a:lnTo>
                        <a:lnTo>
                          <a:pt x="593" y="94"/>
                        </a:lnTo>
                        <a:lnTo>
                          <a:pt x="613" y="84"/>
                        </a:lnTo>
                        <a:lnTo>
                          <a:pt x="628" y="73"/>
                        </a:lnTo>
                        <a:lnTo>
                          <a:pt x="640" y="55"/>
                        </a:lnTo>
                        <a:lnTo>
                          <a:pt x="647" y="33"/>
                        </a:lnTo>
                        <a:lnTo>
                          <a:pt x="656" y="0"/>
                        </a:lnTo>
                      </a:path>
                    </a:pathLst>
                  </a:custGeom>
                  <a:noFill/>
                  <a:ln w="12600">
                    <a:solidFill>
                      <a:srgbClr val="ff80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" bIns="-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26" name=""/>
                  <p:cNvSpPr/>
                  <p:nvPr/>
                </p:nvSpPr>
                <p:spPr>
                  <a:xfrm flipH="1">
                    <a:off x="8434080" y="4542840"/>
                    <a:ext cx="181440" cy="38520"/>
                  </a:xfrm>
                  <a:custGeom>
                    <a:avLst/>
                    <a:gdLst/>
                    <a:ahLst/>
                    <a:rect l="l" t="t" r="r" b="b"/>
                    <a:pathLst>
                      <a:path w="736" h="144">
                        <a:moveTo>
                          <a:pt x="0" y="93"/>
                        </a:moveTo>
                        <a:lnTo>
                          <a:pt x="27" y="73"/>
                        </a:lnTo>
                        <a:lnTo>
                          <a:pt x="56" y="53"/>
                        </a:lnTo>
                        <a:lnTo>
                          <a:pt x="84" y="36"/>
                        </a:lnTo>
                        <a:lnTo>
                          <a:pt x="111" y="24"/>
                        </a:lnTo>
                        <a:lnTo>
                          <a:pt x="141" y="12"/>
                        </a:lnTo>
                        <a:lnTo>
                          <a:pt x="160" y="6"/>
                        </a:lnTo>
                        <a:lnTo>
                          <a:pt x="191" y="3"/>
                        </a:lnTo>
                        <a:lnTo>
                          <a:pt x="251" y="0"/>
                        </a:lnTo>
                        <a:lnTo>
                          <a:pt x="316" y="2"/>
                        </a:lnTo>
                        <a:lnTo>
                          <a:pt x="376" y="6"/>
                        </a:lnTo>
                        <a:lnTo>
                          <a:pt x="437" y="12"/>
                        </a:lnTo>
                        <a:lnTo>
                          <a:pt x="485" y="19"/>
                        </a:lnTo>
                        <a:lnTo>
                          <a:pt x="528" y="28"/>
                        </a:lnTo>
                        <a:lnTo>
                          <a:pt x="568" y="42"/>
                        </a:lnTo>
                        <a:lnTo>
                          <a:pt x="609" y="61"/>
                        </a:lnTo>
                        <a:lnTo>
                          <a:pt x="651" y="80"/>
                        </a:lnTo>
                        <a:lnTo>
                          <a:pt x="682" y="99"/>
                        </a:lnTo>
                        <a:lnTo>
                          <a:pt x="713" y="123"/>
                        </a:lnTo>
                        <a:lnTo>
                          <a:pt x="736" y="144"/>
                        </a:lnTo>
                      </a:path>
                    </a:pathLst>
                  </a:custGeom>
                  <a:noFill/>
                  <a:ln w="12600">
                    <a:solidFill>
                      <a:srgbClr val="ff80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280" bIns="-8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27" name=""/>
                  <p:cNvSpPr/>
                  <p:nvPr/>
                </p:nvSpPr>
                <p:spPr>
                  <a:xfrm flipH="1">
                    <a:off x="8444880" y="4525920"/>
                    <a:ext cx="37080" cy="2232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83">
                        <a:moveTo>
                          <a:pt x="0" y="74"/>
                        </a:moveTo>
                        <a:lnTo>
                          <a:pt x="28" y="80"/>
                        </a:lnTo>
                        <a:lnTo>
                          <a:pt x="55" y="83"/>
                        </a:lnTo>
                        <a:lnTo>
                          <a:pt x="81" y="77"/>
                        </a:lnTo>
                        <a:lnTo>
                          <a:pt x="105" y="65"/>
                        </a:lnTo>
                        <a:lnTo>
                          <a:pt x="126" y="47"/>
                        </a:lnTo>
                        <a:lnTo>
                          <a:pt x="140" y="24"/>
                        </a:lnTo>
                        <a:lnTo>
                          <a:pt x="151" y="0"/>
                        </a:lnTo>
                      </a:path>
                    </a:pathLst>
                  </a:custGeom>
                  <a:noFill/>
                  <a:ln w="12600">
                    <a:solidFill>
                      <a:srgbClr val="ff80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28" name=""/>
                  <p:cNvSpPr/>
                  <p:nvPr/>
                </p:nvSpPr>
                <p:spPr>
                  <a:xfrm flipH="1">
                    <a:off x="8392320" y="4483440"/>
                    <a:ext cx="32040" cy="8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30" h="316">
                        <a:moveTo>
                          <a:pt x="114" y="0"/>
                        </a:moveTo>
                        <a:lnTo>
                          <a:pt x="102" y="28"/>
                        </a:lnTo>
                        <a:lnTo>
                          <a:pt x="86" y="55"/>
                        </a:lnTo>
                        <a:lnTo>
                          <a:pt x="68" y="70"/>
                        </a:lnTo>
                        <a:lnTo>
                          <a:pt x="55" y="76"/>
                        </a:lnTo>
                        <a:lnTo>
                          <a:pt x="37" y="78"/>
                        </a:lnTo>
                        <a:lnTo>
                          <a:pt x="16" y="75"/>
                        </a:lnTo>
                        <a:lnTo>
                          <a:pt x="0" y="67"/>
                        </a:lnTo>
                        <a:lnTo>
                          <a:pt x="25" y="89"/>
                        </a:lnTo>
                        <a:lnTo>
                          <a:pt x="40" y="101"/>
                        </a:lnTo>
                        <a:lnTo>
                          <a:pt x="50" y="113"/>
                        </a:lnTo>
                        <a:lnTo>
                          <a:pt x="53" y="125"/>
                        </a:lnTo>
                        <a:lnTo>
                          <a:pt x="52" y="140"/>
                        </a:lnTo>
                        <a:lnTo>
                          <a:pt x="49" y="160"/>
                        </a:lnTo>
                        <a:lnTo>
                          <a:pt x="46" y="189"/>
                        </a:lnTo>
                        <a:lnTo>
                          <a:pt x="50" y="215"/>
                        </a:lnTo>
                        <a:lnTo>
                          <a:pt x="58" y="243"/>
                        </a:lnTo>
                        <a:lnTo>
                          <a:pt x="67" y="261"/>
                        </a:lnTo>
                        <a:lnTo>
                          <a:pt x="80" y="279"/>
                        </a:lnTo>
                        <a:lnTo>
                          <a:pt x="102" y="295"/>
                        </a:lnTo>
                        <a:lnTo>
                          <a:pt x="130" y="316"/>
                        </a:lnTo>
                      </a:path>
                    </a:pathLst>
                  </a:custGeom>
                  <a:noFill/>
                  <a:ln w="12600">
                    <a:solidFill>
                      <a:srgbClr val="ff80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440" bIns="37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29" name=""/>
                  <p:cNvSpPr/>
                  <p:nvPr/>
                </p:nvSpPr>
                <p:spPr>
                  <a:xfrm flipH="1">
                    <a:off x="8284680" y="4505040"/>
                    <a:ext cx="102240" cy="75240"/>
                  </a:xfrm>
                  <a:custGeom>
                    <a:avLst/>
                    <a:gdLst/>
                    <a:ahLst/>
                    <a:rect l="l" t="t" r="r" b="b"/>
                    <a:pathLst>
                      <a:path w="416" h="281">
                        <a:moveTo>
                          <a:pt x="93" y="0"/>
                        </a:moveTo>
                        <a:lnTo>
                          <a:pt x="84" y="20"/>
                        </a:lnTo>
                        <a:lnTo>
                          <a:pt x="71" y="40"/>
                        </a:lnTo>
                        <a:lnTo>
                          <a:pt x="56" y="57"/>
                        </a:lnTo>
                        <a:lnTo>
                          <a:pt x="31" y="76"/>
                        </a:lnTo>
                        <a:lnTo>
                          <a:pt x="0" y="97"/>
                        </a:lnTo>
                        <a:lnTo>
                          <a:pt x="25" y="100"/>
                        </a:lnTo>
                        <a:lnTo>
                          <a:pt x="53" y="104"/>
                        </a:lnTo>
                        <a:lnTo>
                          <a:pt x="74" y="110"/>
                        </a:lnTo>
                        <a:lnTo>
                          <a:pt x="90" y="117"/>
                        </a:lnTo>
                        <a:lnTo>
                          <a:pt x="102" y="126"/>
                        </a:lnTo>
                        <a:lnTo>
                          <a:pt x="114" y="143"/>
                        </a:lnTo>
                        <a:lnTo>
                          <a:pt x="124" y="159"/>
                        </a:lnTo>
                        <a:lnTo>
                          <a:pt x="130" y="178"/>
                        </a:lnTo>
                        <a:lnTo>
                          <a:pt x="133" y="209"/>
                        </a:lnTo>
                        <a:lnTo>
                          <a:pt x="130" y="264"/>
                        </a:lnTo>
                        <a:lnTo>
                          <a:pt x="144" y="248"/>
                        </a:lnTo>
                        <a:lnTo>
                          <a:pt x="163" y="233"/>
                        </a:lnTo>
                        <a:lnTo>
                          <a:pt x="182" y="220"/>
                        </a:lnTo>
                        <a:lnTo>
                          <a:pt x="206" y="208"/>
                        </a:lnTo>
                        <a:lnTo>
                          <a:pt x="228" y="205"/>
                        </a:lnTo>
                        <a:lnTo>
                          <a:pt x="255" y="202"/>
                        </a:lnTo>
                        <a:lnTo>
                          <a:pt x="284" y="206"/>
                        </a:lnTo>
                        <a:lnTo>
                          <a:pt x="314" y="214"/>
                        </a:lnTo>
                        <a:lnTo>
                          <a:pt x="333" y="221"/>
                        </a:lnTo>
                        <a:lnTo>
                          <a:pt x="357" y="233"/>
                        </a:lnTo>
                        <a:lnTo>
                          <a:pt x="376" y="246"/>
                        </a:lnTo>
                        <a:lnTo>
                          <a:pt x="416" y="281"/>
                        </a:lnTo>
                      </a:path>
                    </a:pathLst>
                  </a:custGeom>
                  <a:noFill/>
                  <a:ln w="12600">
                    <a:solidFill>
                      <a:srgbClr val="ff80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440" bIns="28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30" name=""/>
                  <p:cNvSpPr/>
                  <p:nvPr/>
                </p:nvSpPr>
                <p:spPr>
                  <a:xfrm flipH="1">
                    <a:off x="8350920" y="4561560"/>
                    <a:ext cx="38520" cy="5328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00">
                        <a:moveTo>
                          <a:pt x="22" y="0"/>
                        </a:moveTo>
                        <a:lnTo>
                          <a:pt x="11" y="27"/>
                        </a:lnTo>
                        <a:lnTo>
                          <a:pt x="3" y="50"/>
                        </a:lnTo>
                        <a:lnTo>
                          <a:pt x="0" y="72"/>
                        </a:lnTo>
                        <a:lnTo>
                          <a:pt x="5" y="97"/>
                        </a:lnTo>
                        <a:lnTo>
                          <a:pt x="16" y="129"/>
                        </a:lnTo>
                        <a:lnTo>
                          <a:pt x="31" y="169"/>
                        </a:lnTo>
                        <a:lnTo>
                          <a:pt x="40" y="183"/>
                        </a:lnTo>
                        <a:lnTo>
                          <a:pt x="51" y="192"/>
                        </a:lnTo>
                        <a:lnTo>
                          <a:pt x="64" y="195"/>
                        </a:lnTo>
                        <a:lnTo>
                          <a:pt x="103" y="200"/>
                        </a:lnTo>
                        <a:lnTo>
                          <a:pt x="156" y="195"/>
                        </a:lnTo>
                      </a:path>
                    </a:pathLst>
                  </a:custGeom>
                  <a:noFill/>
                  <a:ln w="12600">
                    <a:solidFill>
                      <a:srgbClr val="ff80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480" bIns="6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31" name=""/>
                  <p:cNvSpPr/>
                  <p:nvPr/>
                </p:nvSpPr>
                <p:spPr>
                  <a:xfrm flipH="1">
                    <a:off x="8290080" y="4602600"/>
                    <a:ext cx="5760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233" h="89">
                        <a:moveTo>
                          <a:pt x="0" y="64"/>
                        </a:moveTo>
                        <a:lnTo>
                          <a:pt x="27" y="76"/>
                        </a:lnTo>
                        <a:lnTo>
                          <a:pt x="52" y="84"/>
                        </a:lnTo>
                        <a:lnTo>
                          <a:pt x="81" y="89"/>
                        </a:lnTo>
                        <a:lnTo>
                          <a:pt x="114" y="89"/>
                        </a:lnTo>
                        <a:lnTo>
                          <a:pt x="143" y="80"/>
                        </a:lnTo>
                        <a:lnTo>
                          <a:pt x="170" y="68"/>
                        </a:lnTo>
                        <a:lnTo>
                          <a:pt x="195" y="50"/>
                        </a:lnTo>
                        <a:lnTo>
                          <a:pt x="218" y="22"/>
                        </a:lnTo>
                        <a:lnTo>
                          <a:pt x="233" y="0"/>
                        </a:lnTo>
                      </a:path>
                    </a:pathLst>
                  </a:custGeom>
                  <a:noFill/>
                  <a:ln w="12600">
                    <a:solidFill>
                      <a:srgbClr val="ff80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32" name=""/>
                  <p:cNvSpPr/>
                  <p:nvPr/>
                </p:nvSpPr>
                <p:spPr>
                  <a:xfrm flipH="1">
                    <a:off x="8279640" y="4639680"/>
                    <a:ext cx="81360" cy="65160"/>
                  </a:xfrm>
                  <a:custGeom>
                    <a:avLst/>
                    <a:gdLst/>
                    <a:ahLst/>
                    <a:rect l="l" t="t" r="r" b="b"/>
                    <a:pathLst>
                      <a:path w="329" h="245">
                        <a:moveTo>
                          <a:pt x="329" y="0"/>
                        </a:moveTo>
                        <a:lnTo>
                          <a:pt x="319" y="22"/>
                        </a:lnTo>
                        <a:lnTo>
                          <a:pt x="301" y="45"/>
                        </a:lnTo>
                        <a:lnTo>
                          <a:pt x="277" y="65"/>
                        </a:lnTo>
                        <a:lnTo>
                          <a:pt x="261" y="71"/>
                        </a:lnTo>
                        <a:lnTo>
                          <a:pt x="237" y="76"/>
                        </a:lnTo>
                        <a:lnTo>
                          <a:pt x="204" y="71"/>
                        </a:lnTo>
                        <a:lnTo>
                          <a:pt x="167" y="65"/>
                        </a:lnTo>
                        <a:lnTo>
                          <a:pt x="123" y="58"/>
                        </a:lnTo>
                        <a:lnTo>
                          <a:pt x="86" y="48"/>
                        </a:lnTo>
                        <a:lnTo>
                          <a:pt x="55" y="42"/>
                        </a:lnTo>
                        <a:lnTo>
                          <a:pt x="19" y="45"/>
                        </a:lnTo>
                        <a:lnTo>
                          <a:pt x="0" y="48"/>
                        </a:lnTo>
                        <a:lnTo>
                          <a:pt x="24" y="55"/>
                        </a:lnTo>
                        <a:lnTo>
                          <a:pt x="40" y="67"/>
                        </a:lnTo>
                        <a:lnTo>
                          <a:pt x="58" y="79"/>
                        </a:lnTo>
                        <a:lnTo>
                          <a:pt x="80" y="100"/>
                        </a:lnTo>
                        <a:lnTo>
                          <a:pt x="98" y="121"/>
                        </a:lnTo>
                        <a:lnTo>
                          <a:pt x="120" y="150"/>
                        </a:lnTo>
                        <a:lnTo>
                          <a:pt x="138" y="175"/>
                        </a:lnTo>
                        <a:lnTo>
                          <a:pt x="157" y="208"/>
                        </a:lnTo>
                        <a:lnTo>
                          <a:pt x="173" y="245"/>
                        </a:lnTo>
                      </a:path>
                    </a:pathLst>
                  </a:custGeom>
                  <a:noFill/>
                  <a:ln w="12600">
                    <a:solidFill>
                      <a:srgbClr val="ff80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360" bIns="18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33" name=""/>
                  <p:cNvSpPr/>
                  <p:nvPr/>
                </p:nvSpPr>
                <p:spPr>
                  <a:xfrm flipH="1">
                    <a:off x="8356680" y="4587120"/>
                    <a:ext cx="56160" cy="109080"/>
                  </a:xfrm>
                  <a:custGeom>
                    <a:avLst/>
                    <a:gdLst/>
                    <a:ahLst/>
                    <a:rect l="l" t="t" r="r" b="b"/>
                    <a:pathLst>
                      <a:path w="228" h="407">
                        <a:moveTo>
                          <a:pt x="58" y="0"/>
                        </a:moveTo>
                        <a:lnTo>
                          <a:pt x="40" y="7"/>
                        </a:lnTo>
                        <a:lnTo>
                          <a:pt x="18" y="22"/>
                        </a:lnTo>
                        <a:lnTo>
                          <a:pt x="6" y="38"/>
                        </a:lnTo>
                        <a:lnTo>
                          <a:pt x="1" y="50"/>
                        </a:lnTo>
                        <a:lnTo>
                          <a:pt x="0" y="61"/>
                        </a:lnTo>
                        <a:lnTo>
                          <a:pt x="4" y="84"/>
                        </a:lnTo>
                        <a:lnTo>
                          <a:pt x="12" y="108"/>
                        </a:lnTo>
                        <a:lnTo>
                          <a:pt x="24" y="140"/>
                        </a:lnTo>
                        <a:lnTo>
                          <a:pt x="38" y="167"/>
                        </a:lnTo>
                        <a:lnTo>
                          <a:pt x="55" y="191"/>
                        </a:lnTo>
                        <a:lnTo>
                          <a:pt x="75" y="214"/>
                        </a:lnTo>
                        <a:lnTo>
                          <a:pt x="99" y="235"/>
                        </a:lnTo>
                        <a:lnTo>
                          <a:pt x="121" y="250"/>
                        </a:lnTo>
                        <a:lnTo>
                          <a:pt x="149" y="268"/>
                        </a:lnTo>
                        <a:lnTo>
                          <a:pt x="164" y="305"/>
                        </a:lnTo>
                        <a:lnTo>
                          <a:pt x="179" y="335"/>
                        </a:lnTo>
                        <a:lnTo>
                          <a:pt x="205" y="375"/>
                        </a:lnTo>
                        <a:lnTo>
                          <a:pt x="228" y="407"/>
                        </a:lnTo>
                      </a:path>
                    </a:pathLst>
                  </a:custGeom>
                  <a:noFill/>
                  <a:ln w="12600">
                    <a:solidFill>
                      <a:srgbClr val="ff80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7234" name=""/>
              <p:cNvGrpSpPr/>
              <p:nvPr/>
            </p:nvGrpSpPr>
            <p:grpSpPr>
              <a:xfrm>
                <a:off x="8361720" y="4641480"/>
                <a:ext cx="136800" cy="155880"/>
                <a:chOff x="8361720" y="4641480"/>
                <a:chExt cx="136800" cy="155880"/>
              </a:xfrm>
            </p:grpSpPr>
            <p:sp>
              <p:nvSpPr>
                <p:cNvPr id="7235" name=""/>
                <p:cNvSpPr/>
                <p:nvPr/>
              </p:nvSpPr>
              <p:spPr>
                <a:xfrm flipH="1">
                  <a:off x="8361720" y="4641480"/>
                  <a:ext cx="136800" cy="155880"/>
                </a:xfrm>
                <a:custGeom>
                  <a:avLst/>
                  <a:gdLst/>
                  <a:ahLst/>
                  <a:rect l="l" t="t" r="r" b="b"/>
                  <a:pathLst>
                    <a:path w="554" h="586">
                      <a:moveTo>
                        <a:pt x="114" y="319"/>
                      </a:moveTo>
                      <a:lnTo>
                        <a:pt x="89" y="310"/>
                      </a:lnTo>
                      <a:lnTo>
                        <a:pt x="64" y="298"/>
                      </a:lnTo>
                      <a:lnTo>
                        <a:pt x="50" y="285"/>
                      </a:lnTo>
                      <a:lnTo>
                        <a:pt x="37" y="266"/>
                      </a:lnTo>
                      <a:lnTo>
                        <a:pt x="24" y="246"/>
                      </a:lnTo>
                      <a:lnTo>
                        <a:pt x="12" y="221"/>
                      </a:lnTo>
                      <a:lnTo>
                        <a:pt x="5" y="196"/>
                      </a:lnTo>
                      <a:lnTo>
                        <a:pt x="0" y="166"/>
                      </a:lnTo>
                      <a:lnTo>
                        <a:pt x="2" y="138"/>
                      </a:lnTo>
                      <a:lnTo>
                        <a:pt x="9" y="113"/>
                      </a:lnTo>
                      <a:lnTo>
                        <a:pt x="25" y="85"/>
                      </a:lnTo>
                      <a:lnTo>
                        <a:pt x="40" y="66"/>
                      </a:lnTo>
                      <a:lnTo>
                        <a:pt x="62" y="43"/>
                      </a:lnTo>
                      <a:lnTo>
                        <a:pt x="82" y="25"/>
                      </a:lnTo>
                      <a:lnTo>
                        <a:pt x="104" y="14"/>
                      </a:lnTo>
                      <a:lnTo>
                        <a:pt x="130" y="6"/>
                      </a:lnTo>
                      <a:lnTo>
                        <a:pt x="158" y="0"/>
                      </a:lnTo>
                      <a:lnTo>
                        <a:pt x="199" y="0"/>
                      </a:lnTo>
                      <a:lnTo>
                        <a:pt x="249" y="4"/>
                      </a:lnTo>
                      <a:lnTo>
                        <a:pt x="291" y="12"/>
                      </a:lnTo>
                      <a:lnTo>
                        <a:pt x="331" y="23"/>
                      </a:lnTo>
                      <a:lnTo>
                        <a:pt x="379" y="43"/>
                      </a:lnTo>
                      <a:lnTo>
                        <a:pt x="414" y="62"/>
                      </a:lnTo>
                      <a:lnTo>
                        <a:pt x="444" y="83"/>
                      </a:lnTo>
                      <a:lnTo>
                        <a:pt x="468" y="108"/>
                      </a:lnTo>
                      <a:lnTo>
                        <a:pt x="492" y="145"/>
                      </a:lnTo>
                      <a:lnTo>
                        <a:pt x="514" y="175"/>
                      </a:lnTo>
                      <a:lnTo>
                        <a:pt x="531" y="209"/>
                      </a:lnTo>
                      <a:lnTo>
                        <a:pt x="542" y="243"/>
                      </a:lnTo>
                      <a:lnTo>
                        <a:pt x="553" y="286"/>
                      </a:lnTo>
                      <a:lnTo>
                        <a:pt x="554" y="329"/>
                      </a:lnTo>
                      <a:lnTo>
                        <a:pt x="548" y="371"/>
                      </a:lnTo>
                      <a:lnTo>
                        <a:pt x="539" y="405"/>
                      </a:lnTo>
                      <a:lnTo>
                        <a:pt x="524" y="430"/>
                      </a:lnTo>
                      <a:lnTo>
                        <a:pt x="506" y="448"/>
                      </a:lnTo>
                      <a:lnTo>
                        <a:pt x="481" y="468"/>
                      </a:lnTo>
                      <a:lnTo>
                        <a:pt x="443" y="496"/>
                      </a:lnTo>
                      <a:lnTo>
                        <a:pt x="411" y="518"/>
                      </a:lnTo>
                      <a:lnTo>
                        <a:pt x="370" y="546"/>
                      </a:lnTo>
                      <a:lnTo>
                        <a:pt x="331" y="564"/>
                      </a:lnTo>
                      <a:lnTo>
                        <a:pt x="297" y="573"/>
                      </a:lnTo>
                      <a:lnTo>
                        <a:pt x="254" y="583"/>
                      </a:lnTo>
                      <a:lnTo>
                        <a:pt x="217" y="586"/>
                      </a:lnTo>
                      <a:lnTo>
                        <a:pt x="178" y="583"/>
                      </a:lnTo>
                      <a:lnTo>
                        <a:pt x="146" y="575"/>
                      </a:lnTo>
                      <a:lnTo>
                        <a:pt x="119" y="561"/>
                      </a:lnTo>
                      <a:lnTo>
                        <a:pt x="92" y="543"/>
                      </a:lnTo>
                      <a:lnTo>
                        <a:pt x="67" y="515"/>
                      </a:lnTo>
                      <a:lnTo>
                        <a:pt x="52" y="492"/>
                      </a:lnTo>
                      <a:lnTo>
                        <a:pt x="39" y="469"/>
                      </a:lnTo>
                      <a:lnTo>
                        <a:pt x="34" y="440"/>
                      </a:lnTo>
                      <a:lnTo>
                        <a:pt x="37" y="408"/>
                      </a:lnTo>
                      <a:lnTo>
                        <a:pt x="43" y="374"/>
                      </a:lnTo>
                      <a:lnTo>
                        <a:pt x="53" y="347"/>
                      </a:lnTo>
                      <a:lnTo>
                        <a:pt x="68" y="332"/>
                      </a:lnTo>
                      <a:lnTo>
                        <a:pt x="89" y="323"/>
                      </a:lnTo>
                      <a:lnTo>
                        <a:pt x="114" y="319"/>
                      </a:lnTo>
                      <a:close/>
                    </a:path>
                  </a:pathLst>
                </a:custGeom>
                <a:solidFill>
                  <a:srgbClr val="a05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236" name=""/>
                <p:cNvGrpSpPr/>
                <p:nvPr/>
              </p:nvGrpSpPr>
              <p:grpSpPr>
                <a:xfrm>
                  <a:off x="8393400" y="4681440"/>
                  <a:ext cx="71640" cy="83880"/>
                  <a:chOff x="8393400" y="4681440"/>
                  <a:chExt cx="71640" cy="83880"/>
                </a:xfrm>
              </p:grpSpPr>
              <p:sp>
                <p:nvSpPr>
                  <p:cNvPr id="7237" name=""/>
                  <p:cNvSpPr/>
                  <p:nvPr/>
                </p:nvSpPr>
                <p:spPr>
                  <a:xfrm flipH="1">
                    <a:off x="8393040" y="4701600"/>
                    <a:ext cx="71640" cy="27720"/>
                  </a:xfrm>
                  <a:custGeom>
                    <a:avLst/>
                    <a:gdLst/>
                    <a:ahLst/>
                    <a:rect l="l" t="t" r="r" b="b"/>
                    <a:pathLst>
                      <a:path w="290" h="105">
                        <a:moveTo>
                          <a:pt x="290" y="0"/>
                        </a:moveTo>
                        <a:lnTo>
                          <a:pt x="279" y="16"/>
                        </a:lnTo>
                        <a:lnTo>
                          <a:pt x="259" y="40"/>
                        </a:lnTo>
                        <a:lnTo>
                          <a:pt x="236" y="61"/>
                        </a:lnTo>
                        <a:lnTo>
                          <a:pt x="210" y="77"/>
                        </a:lnTo>
                        <a:lnTo>
                          <a:pt x="184" y="87"/>
                        </a:lnTo>
                        <a:lnTo>
                          <a:pt x="156" y="95"/>
                        </a:lnTo>
                        <a:lnTo>
                          <a:pt x="128" y="102"/>
                        </a:lnTo>
                        <a:lnTo>
                          <a:pt x="109" y="105"/>
                        </a:lnTo>
                        <a:lnTo>
                          <a:pt x="74" y="102"/>
                        </a:lnTo>
                        <a:lnTo>
                          <a:pt x="41" y="99"/>
                        </a:lnTo>
                        <a:lnTo>
                          <a:pt x="0" y="93"/>
                        </a:lnTo>
                      </a:path>
                    </a:pathLst>
                  </a:custGeom>
                  <a:noFill/>
                  <a:ln w="12600">
                    <a:solidFill>
                      <a:srgbClr val="ffe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080" bIns="-19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38" name=""/>
                  <p:cNvSpPr/>
                  <p:nvPr/>
                </p:nvSpPr>
                <p:spPr>
                  <a:xfrm flipH="1">
                    <a:off x="8418960" y="4681440"/>
                    <a:ext cx="7200" cy="8388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314">
                        <a:moveTo>
                          <a:pt x="0" y="0"/>
                        </a:moveTo>
                        <a:lnTo>
                          <a:pt x="9" y="23"/>
                        </a:lnTo>
                        <a:lnTo>
                          <a:pt x="21" y="57"/>
                        </a:lnTo>
                        <a:lnTo>
                          <a:pt x="25" y="84"/>
                        </a:lnTo>
                        <a:lnTo>
                          <a:pt x="28" y="102"/>
                        </a:lnTo>
                        <a:lnTo>
                          <a:pt x="22" y="121"/>
                        </a:lnTo>
                        <a:lnTo>
                          <a:pt x="11" y="145"/>
                        </a:lnTo>
                        <a:lnTo>
                          <a:pt x="5" y="160"/>
                        </a:lnTo>
                        <a:lnTo>
                          <a:pt x="2" y="177"/>
                        </a:lnTo>
                        <a:lnTo>
                          <a:pt x="6" y="192"/>
                        </a:lnTo>
                        <a:lnTo>
                          <a:pt x="16" y="210"/>
                        </a:lnTo>
                        <a:lnTo>
                          <a:pt x="24" y="226"/>
                        </a:lnTo>
                        <a:lnTo>
                          <a:pt x="30" y="237"/>
                        </a:lnTo>
                        <a:lnTo>
                          <a:pt x="25" y="246"/>
                        </a:lnTo>
                        <a:lnTo>
                          <a:pt x="18" y="265"/>
                        </a:lnTo>
                        <a:lnTo>
                          <a:pt x="9" y="289"/>
                        </a:lnTo>
                        <a:lnTo>
                          <a:pt x="2" y="314"/>
                        </a:lnTo>
                      </a:path>
                    </a:pathLst>
                  </a:custGeom>
                  <a:noFill/>
                  <a:ln w="12600">
                    <a:solidFill>
                      <a:srgbClr val="ffe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080" bIns="37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39" name=""/>
                  <p:cNvSpPr/>
                  <p:nvPr/>
                </p:nvSpPr>
                <p:spPr>
                  <a:xfrm flipH="1">
                    <a:off x="8438040" y="4700520"/>
                    <a:ext cx="11880" cy="586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20">
                        <a:moveTo>
                          <a:pt x="0" y="0"/>
                        </a:moveTo>
                        <a:lnTo>
                          <a:pt x="16" y="16"/>
                        </a:lnTo>
                        <a:lnTo>
                          <a:pt x="27" y="30"/>
                        </a:lnTo>
                        <a:lnTo>
                          <a:pt x="37" y="53"/>
                        </a:lnTo>
                        <a:lnTo>
                          <a:pt x="44" y="80"/>
                        </a:lnTo>
                        <a:lnTo>
                          <a:pt x="49" y="116"/>
                        </a:lnTo>
                        <a:lnTo>
                          <a:pt x="46" y="145"/>
                        </a:lnTo>
                        <a:lnTo>
                          <a:pt x="40" y="174"/>
                        </a:lnTo>
                        <a:lnTo>
                          <a:pt x="28" y="198"/>
                        </a:lnTo>
                        <a:lnTo>
                          <a:pt x="10" y="220"/>
                        </a:lnTo>
                      </a:path>
                    </a:pathLst>
                  </a:custGeom>
                  <a:noFill/>
                  <a:ln w="12600">
                    <a:solidFill>
                      <a:srgbClr val="ffe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1880" bIns="11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40" name=""/>
                  <p:cNvSpPr/>
                  <p:nvPr/>
                </p:nvSpPr>
                <p:spPr>
                  <a:xfrm flipH="1">
                    <a:off x="8394480" y="4725360"/>
                    <a:ext cx="2268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61">
                        <a:moveTo>
                          <a:pt x="0" y="0"/>
                        </a:moveTo>
                        <a:lnTo>
                          <a:pt x="28" y="6"/>
                        </a:lnTo>
                        <a:lnTo>
                          <a:pt x="49" y="14"/>
                        </a:lnTo>
                        <a:lnTo>
                          <a:pt x="65" y="24"/>
                        </a:lnTo>
                        <a:lnTo>
                          <a:pt x="81" y="45"/>
                        </a:lnTo>
                        <a:lnTo>
                          <a:pt x="94" y="61"/>
                        </a:lnTo>
                      </a:path>
                    </a:pathLst>
                  </a:custGeom>
                  <a:noFill/>
                  <a:ln w="12600">
                    <a:solidFill>
                      <a:srgbClr val="ffe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7241" name=""/>
            <p:cNvGrpSpPr/>
            <p:nvPr/>
          </p:nvGrpSpPr>
          <p:grpSpPr>
            <a:xfrm>
              <a:off x="8425440" y="4564440"/>
              <a:ext cx="212760" cy="474120"/>
              <a:chOff x="8425440" y="4564440"/>
              <a:chExt cx="212760" cy="474120"/>
            </a:xfrm>
          </p:grpSpPr>
          <p:grpSp>
            <p:nvGrpSpPr>
              <p:cNvPr id="7242" name=""/>
              <p:cNvGrpSpPr/>
              <p:nvPr/>
            </p:nvGrpSpPr>
            <p:grpSpPr>
              <a:xfrm>
                <a:off x="8425440" y="4564440"/>
                <a:ext cx="212760" cy="134640"/>
                <a:chOff x="8425440" y="4564440"/>
                <a:chExt cx="212760" cy="134640"/>
              </a:xfrm>
            </p:grpSpPr>
            <p:grpSp>
              <p:nvGrpSpPr>
                <p:cNvPr id="7243" name=""/>
                <p:cNvGrpSpPr/>
                <p:nvPr/>
              </p:nvGrpSpPr>
              <p:grpSpPr>
                <a:xfrm>
                  <a:off x="8425440" y="4564440"/>
                  <a:ext cx="212760" cy="134640"/>
                  <a:chOff x="8425440" y="4564440"/>
                  <a:chExt cx="212760" cy="134640"/>
                </a:xfrm>
              </p:grpSpPr>
              <p:grpSp>
                <p:nvGrpSpPr>
                  <p:cNvPr id="7244" name=""/>
                  <p:cNvGrpSpPr/>
                  <p:nvPr/>
                </p:nvGrpSpPr>
                <p:grpSpPr>
                  <a:xfrm>
                    <a:off x="8425440" y="4564440"/>
                    <a:ext cx="212760" cy="134640"/>
                    <a:chOff x="8425440" y="4564440"/>
                    <a:chExt cx="212760" cy="134640"/>
                  </a:xfrm>
                </p:grpSpPr>
                <p:sp>
                  <p:nvSpPr>
                    <p:cNvPr id="7245" name=""/>
                    <p:cNvSpPr/>
                    <p:nvPr/>
                  </p:nvSpPr>
                  <p:spPr>
                    <a:xfrm flipH="1">
                      <a:off x="8425080" y="4564440"/>
                      <a:ext cx="212760" cy="134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2" h="505">
                          <a:moveTo>
                            <a:pt x="284" y="485"/>
                          </a:moveTo>
                          <a:lnTo>
                            <a:pt x="263" y="494"/>
                          </a:lnTo>
                          <a:lnTo>
                            <a:pt x="246" y="500"/>
                          </a:lnTo>
                          <a:lnTo>
                            <a:pt x="221" y="505"/>
                          </a:lnTo>
                          <a:lnTo>
                            <a:pt x="202" y="504"/>
                          </a:lnTo>
                          <a:lnTo>
                            <a:pt x="187" y="499"/>
                          </a:lnTo>
                          <a:lnTo>
                            <a:pt x="176" y="490"/>
                          </a:lnTo>
                          <a:lnTo>
                            <a:pt x="170" y="477"/>
                          </a:lnTo>
                          <a:lnTo>
                            <a:pt x="169" y="462"/>
                          </a:lnTo>
                          <a:lnTo>
                            <a:pt x="173" y="448"/>
                          </a:lnTo>
                          <a:lnTo>
                            <a:pt x="183" y="434"/>
                          </a:lnTo>
                          <a:lnTo>
                            <a:pt x="199" y="420"/>
                          </a:lnTo>
                          <a:lnTo>
                            <a:pt x="222" y="407"/>
                          </a:lnTo>
                          <a:lnTo>
                            <a:pt x="248" y="400"/>
                          </a:lnTo>
                          <a:lnTo>
                            <a:pt x="271" y="393"/>
                          </a:lnTo>
                          <a:lnTo>
                            <a:pt x="294" y="384"/>
                          </a:lnTo>
                          <a:lnTo>
                            <a:pt x="242" y="372"/>
                          </a:lnTo>
                          <a:lnTo>
                            <a:pt x="257" y="355"/>
                          </a:lnTo>
                          <a:lnTo>
                            <a:pt x="277" y="330"/>
                          </a:lnTo>
                          <a:lnTo>
                            <a:pt x="293" y="306"/>
                          </a:lnTo>
                          <a:lnTo>
                            <a:pt x="299" y="284"/>
                          </a:lnTo>
                          <a:lnTo>
                            <a:pt x="300" y="262"/>
                          </a:lnTo>
                          <a:lnTo>
                            <a:pt x="285" y="256"/>
                          </a:lnTo>
                          <a:lnTo>
                            <a:pt x="263" y="251"/>
                          </a:lnTo>
                          <a:lnTo>
                            <a:pt x="230" y="244"/>
                          </a:lnTo>
                          <a:lnTo>
                            <a:pt x="182" y="245"/>
                          </a:lnTo>
                          <a:lnTo>
                            <a:pt x="27" y="247"/>
                          </a:lnTo>
                          <a:lnTo>
                            <a:pt x="12" y="224"/>
                          </a:lnTo>
                          <a:lnTo>
                            <a:pt x="3" y="205"/>
                          </a:lnTo>
                          <a:lnTo>
                            <a:pt x="0" y="186"/>
                          </a:lnTo>
                          <a:lnTo>
                            <a:pt x="3" y="168"/>
                          </a:lnTo>
                          <a:lnTo>
                            <a:pt x="9" y="152"/>
                          </a:lnTo>
                          <a:lnTo>
                            <a:pt x="19" y="136"/>
                          </a:lnTo>
                          <a:lnTo>
                            <a:pt x="31" y="123"/>
                          </a:lnTo>
                          <a:lnTo>
                            <a:pt x="49" y="107"/>
                          </a:lnTo>
                          <a:lnTo>
                            <a:pt x="73" y="91"/>
                          </a:lnTo>
                          <a:lnTo>
                            <a:pt x="96" y="79"/>
                          </a:lnTo>
                          <a:lnTo>
                            <a:pt x="129" y="66"/>
                          </a:lnTo>
                          <a:lnTo>
                            <a:pt x="172" y="53"/>
                          </a:lnTo>
                          <a:lnTo>
                            <a:pt x="216" y="41"/>
                          </a:lnTo>
                          <a:lnTo>
                            <a:pt x="258" y="27"/>
                          </a:lnTo>
                          <a:lnTo>
                            <a:pt x="299" y="16"/>
                          </a:lnTo>
                          <a:lnTo>
                            <a:pt x="335" y="9"/>
                          </a:lnTo>
                          <a:lnTo>
                            <a:pt x="371" y="6"/>
                          </a:lnTo>
                          <a:lnTo>
                            <a:pt x="417" y="0"/>
                          </a:lnTo>
                          <a:lnTo>
                            <a:pt x="467" y="4"/>
                          </a:lnTo>
                          <a:lnTo>
                            <a:pt x="495" y="12"/>
                          </a:lnTo>
                          <a:lnTo>
                            <a:pt x="523" y="26"/>
                          </a:lnTo>
                          <a:lnTo>
                            <a:pt x="542" y="43"/>
                          </a:lnTo>
                          <a:lnTo>
                            <a:pt x="560" y="60"/>
                          </a:lnTo>
                          <a:lnTo>
                            <a:pt x="598" y="58"/>
                          </a:lnTo>
                          <a:lnTo>
                            <a:pt x="642" y="61"/>
                          </a:lnTo>
                          <a:lnTo>
                            <a:pt x="690" y="70"/>
                          </a:lnTo>
                          <a:lnTo>
                            <a:pt x="728" y="92"/>
                          </a:lnTo>
                          <a:lnTo>
                            <a:pt x="757" y="113"/>
                          </a:lnTo>
                          <a:lnTo>
                            <a:pt x="785" y="136"/>
                          </a:lnTo>
                          <a:lnTo>
                            <a:pt x="815" y="165"/>
                          </a:lnTo>
                          <a:lnTo>
                            <a:pt x="838" y="196"/>
                          </a:lnTo>
                          <a:lnTo>
                            <a:pt x="853" y="222"/>
                          </a:lnTo>
                          <a:lnTo>
                            <a:pt x="862" y="247"/>
                          </a:lnTo>
                          <a:lnTo>
                            <a:pt x="838" y="290"/>
                          </a:lnTo>
                          <a:lnTo>
                            <a:pt x="796" y="269"/>
                          </a:lnTo>
                          <a:lnTo>
                            <a:pt x="723" y="235"/>
                          </a:lnTo>
                          <a:lnTo>
                            <a:pt x="698" y="238"/>
                          </a:lnTo>
                          <a:lnTo>
                            <a:pt x="664" y="248"/>
                          </a:lnTo>
                          <a:lnTo>
                            <a:pt x="628" y="275"/>
                          </a:lnTo>
                          <a:lnTo>
                            <a:pt x="591" y="309"/>
                          </a:lnTo>
                          <a:lnTo>
                            <a:pt x="566" y="347"/>
                          </a:lnTo>
                          <a:lnTo>
                            <a:pt x="525" y="405"/>
                          </a:lnTo>
                          <a:lnTo>
                            <a:pt x="284" y="485"/>
                          </a:lnTo>
                          <a:close/>
                        </a:path>
                      </a:pathLst>
                    </a:custGeom>
                    <a:solidFill>
                      <a:srgbClr val="e0e0e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246" name=""/>
                    <p:cNvSpPr/>
                    <p:nvPr/>
                  </p:nvSpPr>
                  <p:spPr>
                    <a:xfrm flipH="1">
                      <a:off x="8466120" y="4587840"/>
                      <a:ext cx="137880" cy="6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58" h="244">
                          <a:moveTo>
                            <a:pt x="0" y="124"/>
                          </a:moveTo>
                          <a:lnTo>
                            <a:pt x="13" y="94"/>
                          </a:lnTo>
                          <a:lnTo>
                            <a:pt x="28" y="73"/>
                          </a:lnTo>
                          <a:lnTo>
                            <a:pt x="49" y="54"/>
                          </a:lnTo>
                          <a:lnTo>
                            <a:pt x="72" y="40"/>
                          </a:lnTo>
                          <a:lnTo>
                            <a:pt x="99" y="28"/>
                          </a:lnTo>
                          <a:lnTo>
                            <a:pt x="131" y="14"/>
                          </a:lnTo>
                          <a:lnTo>
                            <a:pt x="168" y="5"/>
                          </a:lnTo>
                          <a:lnTo>
                            <a:pt x="215" y="2"/>
                          </a:lnTo>
                          <a:lnTo>
                            <a:pt x="278" y="0"/>
                          </a:lnTo>
                          <a:lnTo>
                            <a:pt x="359" y="2"/>
                          </a:lnTo>
                          <a:lnTo>
                            <a:pt x="405" y="8"/>
                          </a:lnTo>
                          <a:lnTo>
                            <a:pt x="434" y="19"/>
                          </a:lnTo>
                          <a:lnTo>
                            <a:pt x="466" y="33"/>
                          </a:lnTo>
                          <a:lnTo>
                            <a:pt x="501" y="48"/>
                          </a:lnTo>
                          <a:lnTo>
                            <a:pt x="531" y="61"/>
                          </a:lnTo>
                          <a:lnTo>
                            <a:pt x="558" y="75"/>
                          </a:lnTo>
                          <a:lnTo>
                            <a:pt x="554" y="85"/>
                          </a:lnTo>
                          <a:lnTo>
                            <a:pt x="544" y="97"/>
                          </a:lnTo>
                          <a:lnTo>
                            <a:pt x="532" y="107"/>
                          </a:lnTo>
                          <a:lnTo>
                            <a:pt x="334" y="244"/>
                          </a:lnTo>
                          <a:lnTo>
                            <a:pt x="168" y="238"/>
                          </a:lnTo>
                          <a:lnTo>
                            <a:pt x="165" y="180"/>
                          </a:lnTo>
                          <a:lnTo>
                            <a:pt x="153" y="168"/>
                          </a:lnTo>
                          <a:lnTo>
                            <a:pt x="134" y="156"/>
                          </a:lnTo>
                          <a:lnTo>
                            <a:pt x="110" y="147"/>
                          </a:lnTo>
                          <a:lnTo>
                            <a:pt x="75" y="140"/>
                          </a:lnTo>
                          <a:lnTo>
                            <a:pt x="28" y="131"/>
                          </a:lnTo>
                          <a:lnTo>
                            <a:pt x="0" y="124"/>
                          </a:lnTo>
                          <a:close/>
                        </a:path>
                      </a:pathLst>
                    </a:custGeom>
                    <a:solidFill>
                      <a:srgbClr val="8080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8360" bIns="18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7247" name=""/>
                  <p:cNvSpPr/>
                  <p:nvPr/>
                </p:nvSpPr>
                <p:spPr>
                  <a:xfrm flipH="1">
                    <a:off x="8538840" y="4613400"/>
                    <a:ext cx="20520" cy="13320"/>
                  </a:xfrm>
                  <a:prstGeom prst="ellipse">
                    <a:avLst/>
                  </a:pr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248" name=""/>
                <p:cNvGrpSpPr/>
                <p:nvPr/>
              </p:nvGrpSpPr>
              <p:grpSpPr>
                <a:xfrm>
                  <a:off x="8434440" y="4566240"/>
                  <a:ext cx="195120" cy="53640"/>
                  <a:chOff x="8434440" y="4566240"/>
                  <a:chExt cx="195120" cy="53640"/>
                </a:xfrm>
              </p:grpSpPr>
              <p:sp>
                <p:nvSpPr>
                  <p:cNvPr id="7249" name=""/>
                  <p:cNvSpPr/>
                  <p:nvPr/>
                </p:nvSpPr>
                <p:spPr>
                  <a:xfrm flipH="1">
                    <a:off x="8604000" y="4612680"/>
                    <a:ext cx="25560" cy="7200"/>
                  </a:xfrm>
                  <a:prstGeom prst="line">
                    <a:avLst/>
                  </a:prstGeom>
                  <a:ln w="6480">
                    <a:solidFill>
                      <a:srgbClr val="c06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0" bIns="-39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50" name=""/>
                  <p:cNvSpPr/>
                  <p:nvPr/>
                </p:nvSpPr>
                <p:spPr>
                  <a:xfrm flipH="1">
                    <a:off x="8598240" y="4593960"/>
                    <a:ext cx="21600" cy="13320"/>
                  </a:xfrm>
                  <a:prstGeom prst="line">
                    <a:avLst/>
                  </a:prstGeom>
                  <a:ln w="6480">
                    <a:solidFill>
                      <a:srgbClr val="c06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51" name=""/>
                  <p:cNvSpPr/>
                  <p:nvPr/>
                </p:nvSpPr>
                <p:spPr>
                  <a:xfrm flipH="1">
                    <a:off x="8588880" y="4580640"/>
                    <a:ext cx="10800" cy="19080"/>
                  </a:xfrm>
                  <a:prstGeom prst="line">
                    <a:avLst/>
                  </a:prstGeom>
                  <a:ln w="6480">
                    <a:solidFill>
                      <a:srgbClr val="c06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52" name=""/>
                  <p:cNvSpPr/>
                  <p:nvPr/>
                </p:nvSpPr>
                <p:spPr>
                  <a:xfrm flipH="1">
                    <a:off x="8566920" y="4573440"/>
                    <a:ext cx="9360" cy="17640"/>
                  </a:xfrm>
                  <a:prstGeom prst="line">
                    <a:avLst/>
                  </a:prstGeom>
                  <a:ln w="6480">
                    <a:solidFill>
                      <a:srgbClr val="c06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53" name=""/>
                  <p:cNvSpPr/>
                  <p:nvPr/>
                </p:nvSpPr>
                <p:spPr>
                  <a:xfrm flipH="1">
                    <a:off x="8550720" y="4566600"/>
                    <a:ext cx="360" cy="21240"/>
                  </a:xfrm>
                  <a:prstGeom prst="line">
                    <a:avLst/>
                  </a:prstGeom>
                  <a:ln w="6480">
                    <a:solidFill>
                      <a:srgbClr val="c06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54" name=""/>
                  <p:cNvSpPr/>
                  <p:nvPr/>
                </p:nvSpPr>
                <p:spPr>
                  <a:xfrm>
                    <a:off x="8528400" y="4566240"/>
                    <a:ext cx="5760" cy="23400"/>
                  </a:xfrm>
                  <a:prstGeom prst="line">
                    <a:avLst/>
                  </a:prstGeom>
                  <a:ln w="6480">
                    <a:solidFill>
                      <a:srgbClr val="c06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55" name=""/>
                  <p:cNvSpPr/>
                  <p:nvPr/>
                </p:nvSpPr>
                <p:spPr>
                  <a:xfrm>
                    <a:off x="8509680" y="4573080"/>
                    <a:ext cx="6840" cy="12600"/>
                  </a:xfrm>
                  <a:prstGeom prst="line">
                    <a:avLst/>
                  </a:prstGeom>
                  <a:ln w="6480">
                    <a:solidFill>
                      <a:srgbClr val="c06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56" name=""/>
                  <p:cNvSpPr/>
                  <p:nvPr/>
                </p:nvSpPr>
                <p:spPr>
                  <a:xfrm>
                    <a:off x="8492040" y="4580640"/>
                    <a:ext cx="6840" cy="8280"/>
                  </a:xfrm>
                  <a:prstGeom prst="line">
                    <a:avLst/>
                  </a:prstGeom>
                  <a:ln w="6480">
                    <a:solidFill>
                      <a:srgbClr val="c06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57" name=""/>
                  <p:cNvSpPr/>
                  <p:nvPr/>
                </p:nvSpPr>
                <p:spPr>
                  <a:xfrm>
                    <a:off x="8469720" y="4584240"/>
                    <a:ext cx="13320" cy="13320"/>
                  </a:xfrm>
                  <a:prstGeom prst="line">
                    <a:avLst/>
                  </a:prstGeom>
                  <a:ln w="6480">
                    <a:solidFill>
                      <a:srgbClr val="c06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58" name=""/>
                  <p:cNvSpPr/>
                  <p:nvPr/>
                </p:nvSpPr>
                <p:spPr>
                  <a:xfrm>
                    <a:off x="8451720" y="4595760"/>
                    <a:ext cx="13320" cy="10440"/>
                  </a:xfrm>
                  <a:prstGeom prst="line">
                    <a:avLst/>
                  </a:prstGeom>
                  <a:ln w="6480">
                    <a:solidFill>
                      <a:srgbClr val="c06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360" bIns="-36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59" name=""/>
                  <p:cNvSpPr/>
                  <p:nvPr/>
                </p:nvSpPr>
                <p:spPr>
                  <a:xfrm>
                    <a:off x="8434440" y="4610520"/>
                    <a:ext cx="28080" cy="4680"/>
                  </a:xfrm>
                  <a:prstGeom prst="line">
                    <a:avLst/>
                  </a:prstGeom>
                  <a:ln w="6480">
                    <a:solidFill>
                      <a:srgbClr val="c06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7260" name=""/>
              <p:cNvGrpSpPr/>
              <p:nvPr/>
            </p:nvGrpSpPr>
            <p:grpSpPr>
              <a:xfrm>
                <a:off x="8452440" y="4613040"/>
                <a:ext cx="141480" cy="425520"/>
                <a:chOff x="8452440" y="4613040"/>
                <a:chExt cx="141480" cy="425520"/>
              </a:xfrm>
            </p:grpSpPr>
            <p:grpSp>
              <p:nvGrpSpPr>
                <p:cNvPr id="7261" name=""/>
                <p:cNvGrpSpPr/>
                <p:nvPr/>
              </p:nvGrpSpPr>
              <p:grpSpPr>
                <a:xfrm>
                  <a:off x="8452440" y="4613040"/>
                  <a:ext cx="141480" cy="425520"/>
                  <a:chOff x="8452440" y="4613040"/>
                  <a:chExt cx="141480" cy="425520"/>
                </a:xfrm>
              </p:grpSpPr>
              <p:grpSp>
                <p:nvGrpSpPr>
                  <p:cNvPr id="7262" name=""/>
                  <p:cNvGrpSpPr/>
                  <p:nvPr/>
                </p:nvGrpSpPr>
                <p:grpSpPr>
                  <a:xfrm>
                    <a:off x="8452440" y="4613040"/>
                    <a:ext cx="141480" cy="425520"/>
                    <a:chOff x="8452440" y="4613040"/>
                    <a:chExt cx="141480" cy="425520"/>
                  </a:xfrm>
                </p:grpSpPr>
                <p:grpSp>
                  <p:nvGrpSpPr>
                    <p:cNvPr id="7263" name=""/>
                    <p:cNvGrpSpPr/>
                    <p:nvPr/>
                  </p:nvGrpSpPr>
                  <p:grpSpPr>
                    <a:xfrm>
                      <a:off x="8452440" y="4647600"/>
                      <a:ext cx="141480" cy="390600"/>
                      <a:chOff x="8452440" y="4647600"/>
                      <a:chExt cx="141480" cy="390600"/>
                    </a:xfrm>
                  </p:grpSpPr>
                  <p:sp>
                    <p:nvSpPr>
                      <p:cNvPr id="7264" name=""/>
                      <p:cNvSpPr/>
                      <p:nvPr/>
                    </p:nvSpPr>
                    <p:spPr>
                      <a:xfrm flipH="1">
                        <a:off x="8452080" y="4647600"/>
                        <a:ext cx="140760" cy="390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69" h="1462">
                            <a:moveTo>
                              <a:pt x="257" y="0"/>
                            </a:moveTo>
                            <a:lnTo>
                              <a:pt x="226" y="3"/>
                            </a:lnTo>
                            <a:lnTo>
                              <a:pt x="193" y="9"/>
                            </a:lnTo>
                            <a:lnTo>
                              <a:pt x="161" y="17"/>
                            </a:lnTo>
                            <a:lnTo>
                              <a:pt x="135" y="28"/>
                            </a:lnTo>
                            <a:lnTo>
                              <a:pt x="119" y="40"/>
                            </a:lnTo>
                            <a:lnTo>
                              <a:pt x="108" y="51"/>
                            </a:lnTo>
                            <a:lnTo>
                              <a:pt x="96" y="76"/>
                            </a:lnTo>
                            <a:lnTo>
                              <a:pt x="86" y="97"/>
                            </a:lnTo>
                            <a:lnTo>
                              <a:pt x="73" y="133"/>
                            </a:lnTo>
                            <a:lnTo>
                              <a:pt x="55" y="167"/>
                            </a:lnTo>
                            <a:lnTo>
                              <a:pt x="37" y="195"/>
                            </a:lnTo>
                            <a:lnTo>
                              <a:pt x="23" y="215"/>
                            </a:lnTo>
                            <a:lnTo>
                              <a:pt x="10" y="241"/>
                            </a:lnTo>
                            <a:lnTo>
                              <a:pt x="1" y="272"/>
                            </a:lnTo>
                            <a:lnTo>
                              <a:pt x="0" y="298"/>
                            </a:lnTo>
                            <a:lnTo>
                              <a:pt x="4" y="337"/>
                            </a:lnTo>
                            <a:lnTo>
                              <a:pt x="10" y="366"/>
                            </a:lnTo>
                            <a:lnTo>
                              <a:pt x="20" y="396"/>
                            </a:lnTo>
                            <a:lnTo>
                              <a:pt x="31" y="416"/>
                            </a:lnTo>
                            <a:lnTo>
                              <a:pt x="47" y="440"/>
                            </a:lnTo>
                            <a:lnTo>
                              <a:pt x="71" y="464"/>
                            </a:lnTo>
                            <a:lnTo>
                              <a:pt x="89" y="480"/>
                            </a:lnTo>
                            <a:lnTo>
                              <a:pt x="113" y="484"/>
                            </a:lnTo>
                            <a:lnTo>
                              <a:pt x="155" y="489"/>
                            </a:lnTo>
                            <a:lnTo>
                              <a:pt x="180" y="486"/>
                            </a:lnTo>
                            <a:lnTo>
                              <a:pt x="171" y="523"/>
                            </a:lnTo>
                            <a:lnTo>
                              <a:pt x="164" y="551"/>
                            </a:lnTo>
                            <a:lnTo>
                              <a:pt x="157" y="583"/>
                            </a:lnTo>
                            <a:lnTo>
                              <a:pt x="152" y="617"/>
                            </a:lnTo>
                            <a:lnTo>
                              <a:pt x="154" y="643"/>
                            </a:lnTo>
                            <a:lnTo>
                              <a:pt x="161" y="662"/>
                            </a:lnTo>
                            <a:lnTo>
                              <a:pt x="180" y="690"/>
                            </a:lnTo>
                            <a:lnTo>
                              <a:pt x="203" y="727"/>
                            </a:lnTo>
                            <a:lnTo>
                              <a:pt x="220" y="755"/>
                            </a:lnTo>
                            <a:lnTo>
                              <a:pt x="237" y="778"/>
                            </a:lnTo>
                            <a:lnTo>
                              <a:pt x="250" y="812"/>
                            </a:lnTo>
                            <a:lnTo>
                              <a:pt x="262" y="861"/>
                            </a:lnTo>
                            <a:lnTo>
                              <a:pt x="274" y="913"/>
                            </a:lnTo>
                            <a:lnTo>
                              <a:pt x="281" y="949"/>
                            </a:lnTo>
                            <a:lnTo>
                              <a:pt x="287" y="995"/>
                            </a:lnTo>
                            <a:lnTo>
                              <a:pt x="291" y="1042"/>
                            </a:lnTo>
                            <a:lnTo>
                              <a:pt x="299" y="1121"/>
                            </a:lnTo>
                            <a:lnTo>
                              <a:pt x="308" y="1228"/>
                            </a:lnTo>
                            <a:lnTo>
                              <a:pt x="314" y="1322"/>
                            </a:lnTo>
                            <a:lnTo>
                              <a:pt x="321" y="1399"/>
                            </a:lnTo>
                            <a:lnTo>
                              <a:pt x="324" y="1462"/>
                            </a:lnTo>
                            <a:lnTo>
                              <a:pt x="569" y="1462"/>
                            </a:lnTo>
                            <a:lnTo>
                              <a:pt x="559" y="1428"/>
                            </a:lnTo>
                            <a:lnTo>
                              <a:pt x="551" y="1393"/>
                            </a:lnTo>
                            <a:lnTo>
                              <a:pt x="545" y="1360"/>
                            </a:lnTo>
                            <a:lnTo>
                              <a:pt x="537" y="1262"/>
                            </a:lnTo>
                            <a:lnTo>
                              <a:pt x="529" y="1145"/>
                            </a:lnTo>
                            <a:lnTo>
                              <a:pt x="523" y="1053"/>
                            </a:lnTo>
                            <a:lnTo>
                              <a:pt x="508" y="971"/>
                            </a:lnTo>
                            <a:lnTo>
                              <a:pt x="489" y="863"/>
                            </a:lnTo>
                            <a:lnTo>
                              <a:pt x="474" y="753"/>
                            </a:lnTo>
                            <a:lnTo>
                              <a:pt x="460" y="634"/>
                            </a:lnTo>
                            <a:lnTo>
                              <a:pt x="447" y="548"/>
                            </a:lnTo>
                            <a:lnTo>
                              <a:pt x="437" y="514"/>
                            </a:lnTo>
                            <a:lnTo>
                              <a:pt x="426" y="478"/>
                            </a:lnTo>
                            <a:lnTo>
                              <a:pt x="417" y="449"/>
                            </a:lnTo>
                            <a:lnTo>
                              <a:pt x="414" y="415"/>
                            </a:lnTo>
                            <a:lnTo>
                              <a:pt x="414" y="367"/>
                            </a:lnTo>
                            <a:lnTo>
                              <a:pt x="408" y="318"/>
                            </a:lnTo>
                            <a:lnTo>
                              <a:pt x="396" y="260"/>
                            </a:lnTo>
                            <a:lnTo>
                              <a:pt x="379" y="184"/>
                            </a:lnTo>
                            <a:lnTo>
                              <a:pt x="364" y="124"/>
                            </a:lnTo>
                            <a:lnTo>
                              <a:pt x="355" y="104"/>
                            </a:lnTo>
                            <a:lnTo>
                              <a:pt x="338" y="78"/>
                            </a:lnTo>
                            <a:lnTo>
                              <a:pt x="309" y="43"/>
                            </a:lnTo>
                            <a:lnTo>
                              <a:pt x="280" y="17"/>
                            </a:lnTo>
                            <a:lnTo>
                              <a:pt x="257" y="0"/>
                            </a:lnTo>
                            <a:close/>
                          </a:path>
                        </a:pathLst>
                      </a:custGeom>
                      <a:solidFill>
                        <a:srgbClr val="ffff4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265" name=""/>
                      <p:cNvSpPr/>
                      <p:nvPr/>
                    </p:nvSpPr>
                    <p:spPr>
                      <a:xfrm flipH="1">
                        <a:off x="8557200" y="4660920"/>
                        <a:ext cx="36360" cy="38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49" h="146">
                            <a:moveTo>
                              <a:pt x="149" y="0"/>
                            </a:moveTo>
                            <a:lnTo>
                              <a:pt x="128" y="15"/>
                            </a:lnTo>
                            <a:lnTo>
                              <a:pt x="115" y="22"/>
                            </a:lnTo>
                            <a:lnTo>
                              <a:pt x="93" y="31"/>
                            </a:lnTo>
                            <a:lnTo>
                              <a:pt x="73" y="37"/>
                            </a:lnTo>
                            <a:lnTo>
                              <a:pt x="54" y="39"/>
                            </a:lnTo>
                            <a:lnTo>
                              <a:pt x="36" y="42"/>
                            </a:lnTo>
                            <a:lnTo>
                              <a:pt x="25" y="48"/>
                            </a:lnTo>
                            <a:lnTo>
                              <a:pt x="16" y="61"/>
                            </a:lnTo>
                            <a:lnTo>
                              <a:pt x="8" y="72"/>
                            </a:lnTo>
                            <a:lnTo>
                              <a:pt x="3" y="82"/>
                            </a:lnTo>
                            <a:lnTo>
                              <a:pt x="0" y="96"/>
                            </a:lnTo>
                            <a:lnTo>
                              <a:pt x="0" y="107"/>
                            </a:lnTo>
                            <a:lnTo>
                              <a:pt x="3" y="121"/>
                            </a:lnTo>
                            <a:lnTo>
                              <a:pt x="8" y="136"/>
                            </a:lnTo>
                            <a:lnTo>
                              <a:pt x="14" y="143"/>
                            </a:lnTo>
                            <a:lnTo>
                              <a:pt x="23" y="146"/>
                            </a:lnTo>
                            <a:lnTo>
                              <a:pt x="40" y="143"/>
                            </a:lnTo>
                            <a:lnTo>
                              <a:pt x="54" y="141"/>
                            </a:lnTo>
                            <a:lnTo>
                              <a:pt x="68" y="144"/>
                            </a:lnTo>
                            <a:lnTo>
                              <a:pt x="76" y="131"/>
                            </a:lnTo>
                            <a:lnTo>
                              <a:pt x="85" y="116"/>
                            </a:lnTo>
                            <a:lnTo>
                              <a:pt x="93" y="106"/>
                            </a:lnTo>
                            <a:lnTo>
                              <a:pt x="101" y="95"/>
                            </a:lnTo>
                            <a:lnTo>
                              <a:pt x="110" y="85"/>
                            </a:lnTo>
                            <a:lnTo>
                              <a:pt x="109" y="76"/>
                            </a:lnTo>
                            <a:lnTo>
                              <a:pt x="111" y="62"/>
                            </a:lnTo>
                            <a:lnTo>
                              <a:pt x="114" y="47"/>
                            </a:lnTo>
                            <a:lnTo>
                              <a:pt x="122" y="36"/>
                            </a:lnTo>
                            <a:lnTo>
                              <a:pt x="133" y="22"/>
                            </a:lnTo>
                            <a:lnTo>
                              <a:pt x="149" y="0"/>
                            </a:lnTo>
                            <a:close/>
                          </a:path>
                        </a:pathLst>
                      </a:custGeom>
                      <a:solidFill>
                        <a:srgbClr val="ffe0c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7920" bIns="-79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7266" name=""/>
                    <p:cNvSpPr/>
                    <p:nvPr/>
                  </p:nvSpPr>
                  <p:spPr>
                    <a:xfrm flipH="1">
                      <a:off x="8460720" y="4613040"/>
                      <a:ext cx="97560" cy="425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95" h="1593">
                          <a:moveTo>
                            <a:pt x="346" y="6"/>
                          </a:moveTo>
                          <a:lnTo>
                            <a:pt x="332" y="3"/>
                          </a:lnTo>
                          <a:lnTo>
                            <a:pt x="318" y="1"/>
                          </a:lnTo>
                          <a:lnTo>
                            <a:pt x="302" y="0"/>
                          </a:lnTo>
                          <a:lnTo>
                            <a:pt x="288" y="2"/>
                          </a:lnTo>
                          <a:lnTo>
                            <a:pt x="275" y="6"/>
                          </a:lnTo>
                          <a:lnTo>
                            <a:pt x="261" y="16"/>
                          </a:lnTo>
                          <a:lnTo>
                            <a:pt x="241" y="30"/>
                          </a:lnTo>
                          <a:lnTo>
                            <a:pt x="223" y="46"/>
                          </a:lnTo>
                          <a:lnTo>
                            <a:pt x="205" y="67"/>
                          </a:lnTo>
                          <a:lnTo>
                            <a:pt x="193" y="84"/>
                          </a:lnTo>
                          <a:lnTo>
                            <a:pt x="184" y="102"/>
                          </a:lnTo>
                          <a:lnTo>
                            <a:pt x="174" y="122"/>
                          </a:lnTo>
                          <a:lnTo>
                            <a:pt x="165" y="136"/>
                          </a:lnTo>
                          <a:lnTo>
                            <a:pt x="150" y="148"/>
                          </a:lnTo>
                          <a:lnTo>
                            <a:pt x="134" y="159"/>
                          </a:lnTo>
                          <a:lnTo>
                            <a:pt x="125" y="156"/>
                          </a:lnTo>
                          <a:lnTo>
                            <a:pt x="111" y="154"/>
                          </a:lnTo>
                          <a:lnTo>
                            <a:pt x="98" y="153"/>
                          </a:lnTo>
                          <a:lnTo>
                            <a:pt x="86" y="154"/>
                          </a:lnTo>
                          <a:lnTo>
                            <a:pt x="69" y="159"/>
                          </a:lnTo>
                          <a:lnTo>
                            <a:pt x="52" y="167"/>
                          </a:lnTo>
                          <a:lnTo>
                            <a:pt x="37" y="177"/>
                          </a:lnTo>
                          <a:lnTo>
                            <a:pt x="26" y="186"/>
                          </a:lnTo>
                          <a:lnTo>
                            <a:pt x="17" y="199"/>
                          </a:lnTo>
                          <a:lnTo>
                            <a:pt x="11" y="214"/>
                          </a:lnTo>
                          <a:lnTo>
                            <a:pt x="8" y="229"/>
                          </a:lnTo>
                          <a:lnTo>
                            <a:pt x="1" y="322"/>
                          </a:lnTo>
                          <a:lnTo>
                            <a:pt x="0" y="422"/>
                          </a:lnTo>
                          <a:lnTo>
                            <a:pt x="80" y="554"/>
                          </a:lnTo>
                          <a:lnTo>
                            <a:pt x="84" y="586"/>
                          </a:lnTo>
                          <a:lnTo>
                            <a:pt x="55" y="593"/>
                          </a:lnTo>
                          <a:lnTo>
                            <a:pt x="78" y="645"/>
                          </a:lnTo>
                          <a:lnTo>
                            <a:pt x="98" y="706"/>
                          </a:lnTo>
                          <a:lnTo>
                            <a:pt x="114" y="753"/>
                          </a:lnTo>
                          <a:lnTo>
                            <a:pt x="137" y="818"/>
                          </a:lnTo>
                          <a:lnTo>
                            <a:pt x="153" y="897"/>
                          </a:lnTo>
                          <a:lnTo>
                            <a:pt x="168" y="976"/>
                          </a:lnTo>
                          <a:lnTo>
                            <a:pt x="179" y="1032"/>
                          </a:lnTo>
                          <a:lnTo>
                            <a:pt x="196" y="1076"/>
                          </a:lnTo>
                          <a:lnTo>
                            <a:pt x="212" y="1123"/>
                          </a:lnTo>
                          <a:lnTo>
                            <a:pt x="226" y="1162"/>
                          </a:lnTo>
                          <a:lnTo>
                            <a:pt x="232" y="1197"/>
                          </a:lnTo>
                          <a:lnTo>
                            <a:pt x="241" y="1241"/>
                          </a:lnTo>
                          <a:lnTo>
                            <a:pt x="251" y="1291"/>
                          </a:lnTo>
                          <a:lnTo>
                            <a:pt x="258" y="1341"/>
                          </a:lnTo>
                          <a:lnTo>
                            <a:pt x="265" y="1385"/>
                          </a:lnTo>
                          <a:lnTo>
                            <a:pt x="271" y="1430"/>
                          </a:lnTo>
                          <a:lnTo>
                            <a:pt x="270" y="1465"/>
                          </a:lnTo>
                          <a:lnTo>
                            <a:pt x="269" y="1510"/>
                          </a:lnTo>
                          <a:lnTo>
                            <a:pt x="271" y="1552"/>
                          </a:lnTo>
                          <a:lnTo>
                            <a:pt x="272" y="1593"/>
                          </a:lnTo>
                          <a:lnTo>
                            <a:pt x="392" y="1593"/>
                          </a:lnTo>
                          <a:lnTo>
                            <a:pt x="388" y="1499"/>
                          </a:lnTo>
                          <a:lnTo>
                            <a:pt x="385" y="1440"/>
                          </a:lnTo>
                          <a:lnTo>
                            <a:pt x="384" y="1382"/>
                          </a:lnTo>
                          <a:lnTo>
                            <a:pt x="381" y="1324"/>
                          </a:lnTo>
                          <a:lnTo>
                            <a:pt x="374" y="1275"/>
                          </a:lnTo>
                          <a:lnTo>
                            <a:pt x="367" y="1227"/>
                          </a:lnTo>
                          <a:lnTo>
                            <a:pt x="358" y="1175"/>
                          </a:lnTo>
                          <a:lnTo>
                            <a:pt x="350" y="1118"/>
                          </a:lnTo>
                          <a:lnTo>
                            <a:pt x="339" y="1049"/>
                          </a:lnTo>
                          <a:lnTo>
                            <a:pt x="330" y="994"/>
                          </a:lnTo>
                          <a:lnTo>
                            <a:pt x="317" y="937"/>
                          </a:lnTo>
                          <a:lnTo>
                            <a:pt x="299" y="848"/>
                          </a:lnTo>
                          <a:lnTo>
                            <a:pt x="297" y="790"/>
                          </a:lnTo>
                          <a:lnTo>
                            <a:pt x="294" y="734"/>
                          </a:lnTo>
                          <a:lnTo>
                            <a:pt x="291" y="707"/>
                          </a:lnTo>
                          <a:lnTo>
                            <a:pt x="281" y="675"/>
                          </a:lnTo>
                          <a:lnTo>
                            <a:pt x="272" y="639"/>
                          </a:lnTo>
                          <a:lnTo>
                            <a:pt x="265" y="608"/>
                          </a:lnTo>
                          <a:lnTo>
                            <a:pt x="262" y="576"/>
                          </a:lnTo>
                          <a:lnTo>
                            <a:pt x="260" y="543"/>
                          </a:lnTo>
                          <a:lnTo>
                            <a:pt x="263" y="502"/>
                          </a:lnTo>
                          <a:lnTo>
                            <a:pt x="265" y="471"/>
                          </a:lnTo>
                          <a:lnTo>
                            <a:pt x="267" y="445"/>
                          </a:lnTo>
                          <a:lnTo>
                            <a:pt x="265" y="431"/>
                          </a:lnTo>
                          <a:lnTo>
                            <a:pt x="258" y="410"/>
                          </a:lnTo>
                          <a:lnTo>
                            <a:pt x="248" y="383"/>
                          </a:lnTo>
                          <a:lnTo>
                            <a:pt x="237" y="351"/>
                          </a:lnTo>
                          <a:lnTo>
                            <a:pt x="226" y="316"/>
                          </a:lnTo>
                          <a:lnTo>
                            <a:pt x="218" y="287"/>
                          </a:lnTo>
                          <a:lnTo>
                            <a:pt x="212" y="263"/>
                          </a:lnTo>
                          <a:lnTo>
                            <a:pt x="208" y="247"/>
                          </a:lnTo>
                          <a:lnTo>
                            <a:pt x="205" y="231"/>
                          </a:lnTo>
                          <a:lnTo>
                            <a:pt x="215" y="221"/>
                          </a:lnTo>
                          <a:lnTo>
                            <a:pt x="227" y="206"/>
                          </a:lnTo>
                          <a:lnTo>
                            <a:pt x="240" y="186"/>
                          </a:lnTo>
                          <a:lnTo>
                            <a:pt x="253" y="169"/>
                          </a:lnTo>
                          <a:lnTo>
                            <a:pt x="267" y="146"/>
                          </a:lnTo>
                          <a:lnTo>
                            <a:pt x="281" y="127"/>
                          </a:lnTo>
                          <a:lnTo>
                            <a:pt x="294" y="111"/>
                          </a:lnTo>
                          <a:lnTo>
                            <a:pt x="310" y="98"/>
                          </a:lnTo>
                          <a:lnTo>
                            <a:pt x="329" y="86"/>
                          </a:lnTo>
                          <a:lnTo>
                            <a:pt x="347" y="77"/>
                          </a:lnTo>
                          <a:lnTo>
                            <a:pt x="367" y="71"/>
                          </a:lnTo>
                          <a:lnTo>
                            <a:pt x="384" y="68"/>
                          </a:lnTo>
                          <a:lnTo>
                            <a:pt x="395" y="68"/>
                          </a:lnTo>
                          <a:lnTo>
                            <a:pt x="346" y="6"/>
                          </a:lnTo>
                          <a:close/>
                        </a:path>
                      </a:pathLst>
                    </a:custGeom>
                    <a:solidFill>
                      <a:srgbClr val="ffa04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7267" name=""/>
                  <p:cNvSpPr/>
                  <p:nvPr/>
                </p:nvSpPr>
                <p:spPr>
                  <a:xfrm flipH="1">
                    <a:off x="8528040" y="4672800"/>
                    <a:ext cx="57960" cy="95040"/>
                  </a:xfrm>
                  <a:custGeom>
                    <a:avLst/>
                    <a:gdLst/>
                    <a:ahLst/>
                    <a:rect l="l" t="t" r="r" b="b"/>
                    <a:pathLst>
                      <a:path w="235" h="357">
                        <a:moveTo>
                          <a:pt x="6" y="141"/>
                        </a:moveTo>
                        <a:lnTo>
                          <a:pt x="15" y="117"/>
                        </a:lnTo>
                        <a:lnTo>
                          <a:pt x="26" y="98"/>
                        </a:lnTo>
                        <a:lnTo>
                          <a:pt x="39" y="79"/>
                        </a:lnTo>
                        <a:lnTo>
                          <a:pt x="53" y="58"/>
                        </a:lnTo>
                        <a:lnTo>
                          <a:pt x="69" y="39"/>
                        </a:lnTo>
                        <a:lnTo>
                          <a:pt x="86" y="23"/>
                        </a:lnTo>
                        <a:lnTo>
                          <a:pt x="100" y="10"/>
                        </a:lnTo>
                        <a:lnTo>
                          <a:pt x="112" y="4"/>
                        </a:lnTo>
                        <a:lnTo>
                          <a:pt x="124" y="1"/>
                        </a:lnTo>
                        <a:lnTo>
                          <a:pt x="134" y="0"/>
                        </a:lnTo>
                        <a:lnTo>
                          <a:pt x="137" y="0"/>
                        </a:lnTo>
                        <a:lnTo>
                          <a:pt x="149" y="3"/>
                        </a:lnTo>
                        <a:lnTo>
                          <a:pt x="161" y="10"/>
                        </a:lnTo>
                        <a:lnTo>
                          <a:pt x="170" y="18"/>
                        </a:lnTo>
                        <a:lnTo>
                          <a:pt x="187" y="34"/>
                        </a:lnTo>
                        <a:lnTo>
                          <a:pt x="199" y="50"/>
                        </a:lnTo>
                        <a:lnTo>
                          <a:pt x="211" y="67"/>
                        </a:lnTo>
                        <a:lnTo>
                          <a:pt x="221" y="87"/>
                        </a:lnTo>
                        <a:lnTo>
                          <a:pt x="228" y="108"/>
                        </a:lnTo>
                        <a:lnTo>
                          <a:pt x="232" y="131"/>
                        </a:lnTo>
                        <a:lnTo>
                          <a:pt x="234" y="156"/>
                        </a:lnTo>
                        <a:lnTo>
                          <a:pt x="235" y="184"/>
                        </a:lnTo>
                        <a:lnTo>
                          <a:pt x="232" y="205"/>
                        </a:lnTo>
                        <a:lnTo>
                          <a:pt x="224" y="233"/>
                        </a:lnTo>
                        <a:lnTo>
                          <a:pt x="220" y="251"/>
                        </a:lnTo>
                        <a:lnTo>
                          <a:pt x="213" y="276"/>
                        </a:lnTo>
                        <a:lnTo>
                          <a:pt x="205" y="298"/>
                        </a:lnTo>
                        <a:lnTo>
                          <a:pt x="193" y="318"/>
                        </a:lnTo>
                        <a:lnTo>
                          <a:pt x="181" y="332"/>
                        </a:lnTo>
                        <a:lnTo>
                          <a:pt x="167" y="343"/>
                        </a:lnTo>
                        <a:lnTo>
                          <a:pt x="153" y="351"/>
                        </a:lnTo>
                        <a:lnTo>
                          <a:pt x="136" y="355"/>
                        </a:lnTo>
                        <a:lnTo>
                          <a:pt x="118" y="356"/>
                        </a:lnTo>
                        <a:lnTo>
                          <a:pt x="98" y="357"/>
                        </a:lnTo>
                        <a:lnTo>
                          <a:pt x="80" y="355"/>
                        </a:lnTo>
                        <a:lnTo>
                          <a:pt x="62" y="352"/>
                        </a:lnTo>
                        <a:lnTo>
                          <a:pt x="50" y="346"/>
                        </a:lnTo>
                        <a:lnTo>
                          <a:pt x="40" y="337"/>
                        </a:lnTo>
                        <a:lnTo>
                          <a:pt x="32" y="328"/>
                        </a:lnTo>
                        <a:lnTo>
                          <a:pt x="22" y="313"/>
                        </a:lnTo>
                        <a:lnTo>
                          <a:pt x="15" y="293"/>
                        </a:lnTo>
                        <a:lnTo>
                          <a:pt x="9" y="271"/>
                        </a:lnTo>
                        <a:lnTo>
                          <a:pt x="5" y="255"/>
                        </a:lnTo>
                        <a:lnTo>
                          <a:pt x="2" y="237"/>
                        </a:lnTo>
                        <a:lnTo>
                          <a:pt x="1" y="213"/>
                        </a:lnTo>
                        <a:lnTo>
                          <a:pt x="0" y="189"/>
                        </a:lnTo>
                        <a:lnTo>
                          <a:pt x="2" y="163"/>
                        </a:lnTo>
                        <a:lnTo>
                          <a:pt x="6" y="141"/>
                        </a:lnTo>
                        <a:close/>
                      </a:path>
                    </a:pathLst>
                  </a:custGeom>
                  <a:solidFill>
                    <a:srgbClr val="e07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268" name=""/>
                <p:cNvGrpSpPr/>
                <p:nvPr/>
              </p:nvGrpSpPr>
              <p:grpSpPr>
                <a:xfrm>
                  <a:off x="8489520" y="4726440"/>
                  <a:ext cx="44280" cy="207360"/>
                  <a:chOff x="8489520" y="4726440"/>
                  <a:chExt cx="44280" cy="207360"/>
                </a:xfrm>
              </p:grpSpPr>
              <p:sp>
                <p:nvSpPr>
                  <p:cNvPr id="7269" name=""/>
                  <p:cNvSpPr/>
                  <p:nvPr/>
                </p:nvSpPr>
                <p:spPr>
                  <a:xfrm flipH="1">
                    <a:off x="8493120" y="4726440"/>
                    <a:ext cx="15120" cy="44280"/>
                  </a:xfrm>
                  <a:custGeom>
                    <a:avLst/>
                    <a:gdLst/>
                    <a:ahLst/>
                    <a:rect l="l" t="t" r="r" b="b"/>
                    <a:pathLst>
                      <a:path w="63" h="164">
                        <a:moveTo>
                          <a:pt x="59" y="0"/>
                        </a:moveTo>
                        <a:lnTo>
                          <a:pt x="43" y="1"/>
                        </a:lnTo>
                        <a:lnTo>
                          <a:pt x="32" y="5"/>
                        </a:lnTo>
                        <a:lnTo>
                          <a:pt x="22" y="11"/>
                        </a:lnTo>
                        <a:lnTo>
                          <a:pt x="14" y="23"/>
                        </a:lnTo>
                        <a:lnTo>
                          <a:pt x="8" y="38"/>
                        </a:lnTo>
                        <a:lnTo>
                          <a:pt x="4" y="52"/>
                        </a:lnTo>
                        <a:lnTo>
                          <a:pt x="1" y="68"/>
                        </a:lnTo>
                        <a:lnTo>
                          <a:pt x="0" y="85"/>
                        </a:lnTo>
                        <a:lnTo>
                          <a:pt x="2" y="107"/>
                        </a:lnTo>
                        <a:lnTo>
                          <a:pt x="7" y="124"/>
                        </a:lnTo>
                        <a:lnTo>
                          <a:pt x="15" y="140"/>
                        </a:lnTo>
                        <a:lnTo>
                          <a:pt x="23" y="149"/>
                        </a:lnTo>
                        <a:lnTo>
                          <a:pt x="34" y="155"/>
                        </a:lnTo>
                        <a:lnTo>
                          <a:pt x="48" y="161"/>
                        </a:lnTo>
                        <a:lnTo>
                          <a:pt x="59" y="164"/>
                        </a:lnTo>
                        <a:lnTo>
                          <a:pt x="57" y="140"/>
                        </a:lnTo>
                        <a:lnTo>
                          <a:pt x="56" y="112"/>
                        </a:lnTo>
                        <a:lnTo>
                          <a:pt x="60" y="74"/>
                        </a:lnTo>
                        <a:lnTo>
                          <a:pt x="61" y="42"/>
                        </a:lnTo>
                        <a:lnTo>
                          <a:pt x="63" y="17"/>
                        </a:lnTo>
                        <a:lnTo>
                          <a:pt x="59" y="0"/>
                        </a:lnTo>
                        <a:close/>
                      </a:path>
                    </a:pathLst>
                  </a:custGeom>
                  <a:solidFill>
                    <a:srgbClr val="c0c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" bIns="-2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70" name=""/>
                  <p:cNvSpPr/>
                  <p:nvPr/>
                </p:nvSpPr>
                <p:spPr>
                  <a:xfrm flipH="1">
                    <a:off x="8512200" y="4779000"/>
                    <a:ext cx="21600" cy="44280"/>
                  </a:xfrm>
                  <a:custGeom>
                    <a:avLst/>
                    <a:gdLst/>
                    <a:ahLst/>
                    <a:rect l="l" t="t" r="r" b="b"/>
                    <a:pathLst>
                      <a:path w="89" h="166">
                        <a:moveTo>
                          <a:pt x="16" y="0"/>
                        </a:moveTo>
                        <a:lnTo>
                          <a:pt x="28" y="3"/>
                        </a:lnTo>
                        <a:lnTo>
                          <a:pt x="44" y="9"/>
                        </a:lnTo>
                        <a:lnTo>
                          <a:pt x="57" y="20"/>
                        </a:lnTo>
                        <a:lnTo>
                          <a:pt x="67" y="31"/>
                        </a:lnTo>
                        <a:lnTo>
                          <a:pt x="75" y="45"/>
                        </a:lnTo>
                        <a:lnTo>
                          <a:pt x="84" y="65"/>
                        </a:lnTo>
                        <a:lnTo>
                          <a:pt x="87" y="83"/>
                        </a:lnTo>
                        <a:lnTo>
                          <a:pt x="89" y="107"/>
                        </a:lnTo>
                        <a:lnTo>
                          <a:pt x="87" y="124"/>
                        </a:lnTo>
                        <a:lnTo>
                          <a:pt x="83" y="140"/>
                        </a:lnTo>
                        <a:lnTo>
                          <a:pt x="74" y="155"/>
                        </a:lnTo>
                        <a:lnTo>
                          <a:pt x="67" y="166"/>
                        </a:lnTo>
                        <a:lnTo>
                          <a:pt x="57" y="161"/>
                        </a:lnTo>
                        <a:lnTo>
                          <a:pt x="44" y="154"/>
                        </a:lnTo>
                        <a:lnTo>
                          <a:pt x="35" y="148"/>
                        </a:lnTo>
                        <a:lnTo>
                          <a:pt x="25" y="137"/>
                        </a:lnTo>
                        <a:lnTo>
                          <a:pt x="20" y="127"/>
                        </a:lnTo>
                        <a:lnTo>
                          <a:pt x="13" y="113"/>
                        </a:lnTo>
                        <a:lnTo>
                          <a:pt x="8" y="95"/>
                        </a:lnTo>
                        <a:lnTo>
                          <a:pt x="3" y="76"/>
                        </a:lnTo>
                        <a:lnTo>
                          <a:pt x="1" y="60"/>
                        </a:lnTo>
                        <a:lnTo>
                          <a:pt x="0" y="40"/>
                        </a:lnTo>
                        <a:lnTo>
                          <a:pt x="5" y="24"/>
                        </a:lnTo>
                        <a:lnTo>
                          <a:pt x="10" y="9"/>
                        </a:lnTo>
                        <a:lnTo>
                          <a:pt x="16" y="0"/>
                        </a:lnTo>
                        <a:close/>
                      </a:path>
                    </a:pathLst>
                  </a:custGeom>
                  <a:solidFill>
                    <a:srgbClr val="c0c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" bIns="-2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71" name=""/>
                  <p:cNvSpPr/>
                  <p:nvPr/>
                </p:nvSpPr>
                <p:spPr>
                  <a:xfrm flipH="1">
                    <a:off x="8489520" y="4880520"/>
                    <a:ext cx="21600" cy="5328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199">
                        <a:moveTo>
                          <a:pt x="0" y="0"/>
                        </a:moveTo>
                        <a:lnTo>
                          <a:pt x="15" y="0"/>
                        </a:lnTo>
                        <a:lnTo>
                          <a:pt x="26" y="3"/>
                        </a:lnTo>
                        <a:lnTo>
                          <a:pt x="35" y="8"/>
                        </a:lnTo>
                        <a:lnTo>
                          <a:pt x="44" y="17"/>
                        </a:lnTo>
                        <a:lnTo>
                          <a:pt x="53" y="28"/>
                        </a:lnTo>
                        <a:lnTo>
                          <a:pt x="61" y="41"/>
                        </a:lnTo>
                        <a:lnTo>
                          <a:pt x="67" y="55"/>
                        </a:lnTo>
                        <a:lnTo>
                          <a:pt x="73" y="74"/>
                        </a:lnTo>
                        <a:lnTo>
                          <a:pt x="74" y="93"/>
                        </a:lnTo>
                        <a:lnTo>
                          <a:pt x="77" y="107"/>
                        </a:lnTo>
                        <a:lnTo>
                          <a:pt x="82" y="118"/>
                        </a:lnTo>
                        <a:lnTo>
                          <a:pt x="86" y="128"/>
                        </a:lnTo>
                        <a:lnTo>
                          <a:pt x="88" y="141"/>
                        </a:lnTo>
                        <a:lnTo>
                          <a:pt x="86" y="154"/>
                        </a:lnTo>
                        <a:lnTo>
                          <a:pt x="80" y="169"/>
                        </a:lnTo>
                        <a:lnTo>
                          <a:pt x="73" y="182"/>
                        </a:lnTo>
                        <a:lnTo>
                          <a:pt x="67" y="191"/>
                        </a:lnTo>
                        <a:lnTo>
                          <a:pt x="61" y="197"/>
                        </a:lnTo>
                        <a:lnTo>
                          <a:pt x="53" y="199"/>
                        </a:lnTo>
                        <a:lnTo>
                          <a:pt x="45" y="197"/>
                        </a:lnTo>
                        <a:lnTo>
                          <a:pt x="41" y="194"/>
                        </a:lnTo>
                        <a:lnTo>
                          <a:pt x="32" y="159"/>
                        </a:lnTo>
                        <a:lnTo>
                          <a:pt x="29" y="143"/>
                        </a:lnTo>
                        <a:lnTo>
                          <a:pt x="25" y="119"/>
                        </a:lnTo>
                        <a:lnTo>
                          <a:pt x="20" y="92"/>
                        </a:lnTo>
                        <a:lnTo>
                          <a:pt x="14" y="69"/>
                        </a:lnTo>
                        <a:lnTo>
                          <a:pt x="9" y="44"/>
                        </a:lnTo>
                        <a:lnTo>
                          <a:pt x="4" y="23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c0c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480" bIns="6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sp>
        <p:nvSpPr>
          <p:cNvPr id="7272" name=""/>
          <p:cNvSpPr/>
          <p:nvPr/>
        </p:nvSpPr>
        <p:spPr>
          <a:xfrm>
            <a:off x="219240" y="6521400"/>
            <a:ext cx="867060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Regulační zásah:  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všeobecná vasokonstrikce</a:t>
            </a: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vylučování solí a vody                příjem tekutin a solí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3" name=""/>
          <p:cNvSpPr/>
          <p:nvPr/>
        </p:nvSpPr>
        <p:spPr>
          <a:xfrm>
            <a:off x="1862280" y="5394240"/>
            <a:ext cx="564840" cy="1222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4" name=""/>
          <p:cNvSpPr/>
          <p:nvPr/>
        </p:nvSpPr>
        <p:spPr>
          <a:xfrm>
            <a:off x="2612880" y="5689440"/>
            <a:ext cx="1543320" cy="927360"/>
          </a:xfrm>
          <a:custGeom>
            <a:avLst/>
            <a:gdLst/>
            <a:ahLst/>
            <a:rect l="l" t="t" r="r" b="b"/>
            <a:pathLst>
              <a:path w="972" h="584">
                <a:moveTo>
                  <a:pt x="0" y="0"/>
                </a:moveTo>
                <a:lnTo>
                  <a:pt x="85" y="467"/>
                </a:lnTo>
                <a:lnTo>
                  <a:pt x="972" y="584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5" name=""/>
          <p:cNvSpPr/>
          <p:nvPr/>
        </p:nvSpPr>
        <p:spPr>
          <a:xfrm>
            <a:off x="4602240" y="6135840"/>
            <a:ext cx="127080" cy="43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6" name=""/>
          <p:cNvSpPr/>
          <p:nvPr/>
        </p:nvSpPr>
        <p:spPr>
          <a:xfrm flipH="1">
            <a:off x="5167080" y="5773680"/>
            <a:ext cx="453960" cy="800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7" name=""/>
          <p:cNvSpPr/>
          <p:nvPr/>
        </p:nvSpPr>
        <p:spPr>
          <a:xfrm>
            <a:off x="7839000" y="46688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8" name=""/>
          <p:cNvSpPr/>
          <p:nvPr/>
        </p:nvSpPr>
        <p:spPr>
          <a:xfrm flipH="1">
            <a:off x="6119640" y="6119640"/>
            <a:ext cx="1121040" cy="51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9" name=""/>
          <p:cNvSpPr/>
          <p:nvPr/>
        </p:nvSpPr>
        <p:spPr>
          <a:xfrm>
            <a:off x="8244000" y="5411880"/>
            <a:ext cx="125280" cy="328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0" name=""/>
          <p:cNvSpPr/>
          <p:nvPr/>
        </p:nvSpPr>
        <p:spPr>
          <a:xfrm flipH="1">
            <a:off x="8226360" y="6194520"/>
            <a:ext cx="193680" cy="43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1" name=""/>
          <p:cNvSpPr/>
          <p:nvPr/>
        </p:nvSpPr>
        <p:spPr>
          <a:xfrm>
            <a:off x="6296040" y="657360"/>
            <a:ext cx="2747880" cy="6051240"/>
          </a:xfrm>
          <a:custGeom>
            <a:avLst/>
            <a:gdLst/>
            <a:ahLst/>
            <a:rect l="l" t="t" r="r" b="b"/>
            <a:pathLst>
              <a:path w="1731" h="3812">
                <a:moveTo>
                  <a:pt x="1625" y="3808"/>
                </a:moveTo>
                <a:lnTo>
                  <a:pt x="1726" y="3812"/>
                </a:lnTo>
                <a:lnTo>
                  <a:pt x="1731" y="0"/>
                </a:lnTo>
                <a:lnTo>
                  <a:pt x="0" y="5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2" name=""/>
          <p:cNvSpPr/>
          <p:nvPr/>
        </p:nvSpPr>
        <p:spPr>
          <a:xfrm flipV="1">
            <a:off x="4259160" y="6534000"/>
            <a:ext cx="0" cy="2685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3" name=""/>
          <p:cNvSpPr/>
          <p:nvPr/>
        </p:nvSpPr>
        <p:spPr>
          <a:xfrm flipV="1">
            <a:off x="6904080" y="6534000"/>
            <a:ext cx="0" cy="268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4" name=""/>
          <p:cNvSpPr/>
          <p:nvPr/>
        </p:nvSpPr>
        <p:spPr>
          <a:xfrm flipV="1">
            <a:off x="6181560" y="498240"/>
            <a:ext cx="0" cy="268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85" name=""/>
          <p:cNvGrpSpPr/>
          <p:nvPr/>
        </p:nvGrpSpPr>
        <p:grpSpPr>
          <a:xfrm>
            <a:off x="5202360" y="98280"/>
            <a:ext cx="422280" cy="446040"/>
            <a:chOff x="5202360" y="98280"/>
            <a:chExt cx="422280" cy="446040"/>
          </a:xfrm>
        </p:grpSpPr>
        <p:sp>
          <p:nvSpPr>
            <p:cNvPr id="7286" name=""/>
            <p:cNvSpPr/>
            <p:nvPr/>
          </p:nvSpPr>
          <p:spPr>
            <a:xfrm>
              <a:off x="5202360" y="98280"/>
              <a:ext cx="422280" cy="4460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287" name=""/>
            <p:cNvGrpSpPr/>
            <p:nvPr/>
          </p:nvGrpSpPr>
          <p:grpSpPr>
            <a:xfrm>
              <a:off x="5218200" y="123840"/>
              <a:ext cx="378000" cy="403200"/>
              <a:chOff x="5218200" y="123840"/>
              <a:chExt cx="378000" cy="403200"/>
            </a:xfrm>
          </p:grpSpPr>
          <p:sp>
            <p:nvSpPr>
              <p:cNvPr id="7288" name=""/>
              <p:cNvSpPr/>
              <p:nvPr/>
            </p:nvSpPr>
            <p:spPr>
              <a:xfrm>
                <a:off x="5218200" y="123840"/>
                <a:ext cx="378000" cy="4032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9" name=""/>
              <p:cNvSpPr/>
              <p:nvPr/>
            </p:nvSpPr>
            <p:spPr>
              <a:xfrm rot="18621000">
                <a:off x="5284440" y="282960"/>
                <a:ext cx="113400" cy="173520"/>
              </a:xfrm>
              <a:custGeom>
                <a:avLst/>
                <a:gdLst/>
                <a:ahLst/>
                <a:rect l="l" t="t" r="r" b="b"/>
                <a:pathLst>
                  <a:path w="406" h="695">
                    <a:moveTo>
                      <a:pt x="406" y="610"/>
                    </a:moveTo>
                    <a:lnTo>
                      <a:pt x="154" y="230"/>
                    </a:lnTo>
                    <a:lnTo>
                      <a:pt x="269" y="176"/>
                    </a:lnTo>
                    <a:lnTo>
                      <a:pt x="0" y="0"/>
                    </a:lnTo>
                    <a:lnTo>
                      <a:pt x="8" y="320"/>
                    </a:lnTo>
                    <a:lnTo>
                      <a:pt x="89" y="206"/>
                    </a:lnTo>
                    <a:lnTo>
                      <a:pt x="358" y="695"/>
                    </a:lnTo>
                    <a:lnTo>
                      <a:pt x="406" y="6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290" name=""/>
          <p:cNvSpPr/>
          <p:nvPr/>
        </p:nvSpPr>
        <p:spPr>
          <a:xfrm>
            <a:off x="2295000" y="4478400"/>
            <a:ext cx="15980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Zvýšení citlivost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osmorecep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1" name=""/>
          <p:cNvSpPr/>
          <p:nvPr/>
        </p:nvSpPr>
        <p:spPr>
          <a:xfrm flipH="1">
            <a:off x="3811320" y="4029120"/>
            <a:ext cx="2212920" cy="7128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2" name=""/>
          <p:cNvSpPr/>
          <p:nvPr/>
        </p:nvSpPr>
        <p:spPr>
          <a:xfrm>
            <a:off x="6075360" y="4016520"/>
            <a:ext cx="1539720" cy="461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3" name=""/>
          <p:cNvSpPr/>
          <p:nvPr/>
        </p:nvSpPr>
        <p:spPr>
          <a:xfrm>
            <a:off x="2290680" y="0"/>
            <a:ext cx="4451400" cy="10674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Podně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94" name=""/>
          <p:cNvGrpSpPr/>
          <p:nvPr/>
        </p:nvGrpSpPr>
        <p:grpSpPr>
          <a:xfrm>
            <a:off x="5600520" y="355680"/>
            <a:ext cx="222120" cy="611280"/>
            <a:chOff x="5600520" y="355680"/>
            <a:chExt cx="222120" cy="611280"/>
          </a:xfrm>
        </p:grpSpPr>
        <p:sp>
          <p:nvSpPr>
            <p:cNvPr id="7295" name=""/>
            <p:cNvSpPr/>
            <p:nvPr/>
          </p:nvSpPr>
          <p:spPr>
            <a:xfrm flipH="1">
              <a:off x="5658840" y="355680"/>
              <a:ext cx="122400" cy="135720"/>
            </a:xfrm>
            <a:custGeom>
              <a:avLst/>
              <a:gdLst/>
              <a:ahLst/>
              <a:rect l="l" t="t" r="r" b="b"/>
              <a:pathLst>
                <a:path w="490" h="538">
                  <a:moveTo>
                    <a:pt x="121" y="0"/>
                  </a:moveTo>
                  <a:lnTo>
                    <a:pt x="202" y="0"/>
                  </a:lnTo>
                  <a:lnTo>
                    <a:pt x="282" y="32"/>
                  </a:lnTo>
                  <a:lnTo>
                    <a:pt x="329" y="59"/>
                  </a:lnTo>
                  <a:lnTo>
                    <a:pt x="362" y="156"/>
                  </a:lnTo>
                  <a:lnTo>
                    <a:pt x="383" y="215"/>
                  </a:lnTo>
                  <a:lnTo>
                    <a:pt x="463" y="150"/>
                  </a:lnTo>
                  <a:lnTo>
                    <a:pt x="490" y="156"/>
                  </a:lnTo>
                  <a:lnTo>
                    <a:pt x="484" y="187"/>
                  </a:lnTo>
                  <a:lnTo>
                    <a:pt x="383" y="292"/>
                  </a:lnTo>
                  <a:lnTo>
                    <a:pt x="383" y="369"/>
                  </a:lnTo>
                  <a:lnTo>
                    <a:pt x="362" y="447"/>
                  </a:lnTo>
                  <a:lnTo>
                    <a:pt x="329" y="506"/>
                  </a:lnTo>
                  <a:lnTo>
                    <a:pt x="282" y="538"/>
                  </a:lnTo>
                  <a:lnTo>
                    <a:pt x="222" y="538"/>
                  </a:lnTo>
                  <a:lnTo>
                    <a:pt x="140" y="506"/>
                  </a:lnTo>
                  <a:lnTo>
                    <a:pt x="87" y="441"/>
                  </a:lnTo>
                  <a:lnTo>
                    <a:pt x="41" y="343"/>
                  </a:lnTo>
                  <a:lnTo>
                    <a:pt x="6" y="252"/>
                  </a:lnTo>
                  <a:lnTo>
                    <a:pt x="0" y="130"/>
                  </a:lnTo>
                  <a:lnTo>
                    <a:pt x="20" y="71"/>
                  </a:lnTo>
                  <a:lnTo>
                    <a:pt x="47" y="32"/>
                  </a:lnTo>
                  <a:lnTo>
                    <a:pt x="12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6" name=""/>
            <p:cNvSpPr/>
            <p:nvPr/>
          </p:nvSpPr>
          <p:spPr>
            <a:xfrm flipH="1">
              <a:off x="5669640" y="508680"/>
              <a:ext cx="86400" cy="234000"/>
            </a:xfrm>
            <a:custGeom>
              <a:avLst/>
              <a:gdLst/>
              <a:ahLst/>
              <a:rect l="l" t="t" r="r" b="b"/>
              <a:pathLst>
                <a:path w="347" h="929">
                  <a:moveTo>
                    <a:pt x="47" y="32"/>
                  </a:moveTo>
                  <a:lnTo>
                    <a:pt x="100" y="0"/>
                  </a:lnTo>
                  <a:lnTo>
                    <a:pt x="180" y="0"/>
                  </a:lnTo>
                  <a:lnTo>
                    <a:pt x="240" y="20"/>
                  </a:lnTo>
                  <a:lnTo>
                    <a:pt x="281" y="89"/>
                  </a:lnTo>
                  <a:lnTo>
                    <a:pt x="320" y="206"/>
                  </a:lnTo>
                  <a:lnTo>
                    <a:pt x="341" y="334"/>
                  </a:lnTo>
                  <a:lnTo>
                    <a:pt x="347" y="486"/>
                  </a:lnTo>
                  <a:lnTo>
                    <a:pt x="347" y="660"/>
                  </a:lnTo>
                  <a:lnTo>
                    <a:pt x="320" y="800"/>
                  </a:lnTo>
                  <a:lnTo>
                    <a:pt x="281" y="877"/>
                  </a:lnTo>
                  <a:lnTo>
                    <a:pt x="187" y="929"/>
                  </a:lnTo>
                  <a:lnTo>
                    <a:pt x="140" y="917"/>
                  </a:lnTo>
                  <a:lnTo>
                    <a:pt x="80" y="858"/>
                  </a:lnTo>
                  <a:lnTo>
                    <a:pt x="60" y="775"/>
                  </a:lnTo>
                  <a:lnTo>
                    <a:pt x="41" y="621"/>
                  </a:lnTo>
                  <a:lnTo>
                    <a:pt x="60" y="512"/>
                  </a:lnTo>
                  <a:lnTo>
                    <a:pt x="60" y="397"/>
                  </a:lnTo>
                  <a:lnTo>
                    <a:pt x="27" y="320"/>
                  </a:lnTo>
                  <a:lnTo>
                    <a:pt x="0" y="218"/>
                  </a:lnTo>
                  <a:lnTo>
                    <a:pt x="0" y="109"/>
                  </a:lnTo>
                  <a:lnTo>
                    <a:pt x="47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7" name=""/>
            <p:cNvSpPr/>
            <p:nvPr/>
          </p:nvSpPr>
          <p:spPr>
            <a:xfrm flipH="1">
              <a:off x="5600160" y="517320"/>
              <a:ext cx="114840" cy="231480"/>
            </a:xfrm>
            <a:custGeom>
              <a:avLst/>
              <a:gdLst/>
              <a:ahLst/>
              <a:rect l="l" t="t" r="r" b="b"/>
              <a:pathLst>
                <a:path w="460" h="918">
                  <a:moveTo>
                    <a:pt x="53" y="0"/>
                  </a:moveTo>
                  <a:lnTo>
                    <a:pt x="201" y="32"/>
                  </a:lnTo>
                  <a:lnTo>
                    <a:pt x="314" y="109"/>
                  </a:lnTo>
                  <a:lnTo>
                    <a:pt x="400" y="237"/>
                  </a:lnTo>
                  <a:lnTo>
                    <a:pt x="454" y="359"/>
                  </a:lnTo>
                  <a:lnTo>
                    <a:pt x="460" y="494"/>
                  </a:lnTo>
                  <a:lnTo>
                    <a:pt x="419" y="584"/>
                  </a:lnTo>
                  <a:lnTo>
                    <a:pt x="320" y="642"/>
                  </a:lnTo>
                  <a:lnTo>
                    <a:pt x="240" y="681"/>
                  </a:lnTo>
                  <a:lnTo>
                    <a:pt x="240" y="719"/>
                  </a:lnTo>
                  <a:lnTo>
                    <a:pt x="293" y="764"/>
                  </a:lnTo>
                  <a:lnTo>
                    <a:pt x="320" y="860"/>
                  </a:lnTo>
                  <a:lnTo>
                    <a:pt x="293" y="918"/>
                  </a:lnTo>
                  <a:lnTo>
                    <a:pt x="259" y="892"/>
                  </a:lnTo>
                  <a:lnTo>
                    <a:pt x="259" y="841"/>
                  </a:lnTo>
                  <a:lnTo>
                    <a:pt x="234" y="764"/>
                  </a:lnTo>
                  <a:lnTo>
                    <a:pt x="193" y="719"/>
                  </a:lnTo>
                  <a:lnTo>
                    <a:pt x="179" y="661"/>
                  </a:lnTo>
                  <a:lnTo>
                    <a:pt x="240" y="622"/>
                  </a:lnTo>
                  <a:lnTo>
                    <a:pt x="353" y="545"/>
                  </a:lnTo>
                  <a:lnTo>
                    <a:pt x="400" y="476"/>
                  </a:lnTo>
                  <a:lnTo>
                    <a:pt x="400" y="399"/>
                  </a:lnTo>
                  <a:lnTo>
                    <a:pt x="339" y="282"/>
                  </a:lnTo>
                  <a:lnTo>
                    <a:pt x="240" y="180"/>
                  </a:lnTo>
                  <a:lnTo>
                    <a:pt x="179" y="128"/>
                  </a:lnTo>
                  <a:lnTo>
                    <a:pt x="93" y="109"/>
                  </a:lnTo>
                  <a:lnTo>
                    <a:pt x="0" y="83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8" name=""/>
            <p:cNvSpPr/>
            <p:nvPr/>
          </p:nvSpPr>
          <p:spPr>
            <a:xfrm flipH="1">
              <a:off x="5737680" y="516240"/>
              <a:ext cx="84600" cy="217440"/>
            </a:xfrm>
            <a:custGeom>
              <a:avLst/>
              <a:gdLst/>
              <a:ahLst/>
              <a:rect l="l" t="t" r="r" b="b"/>
              <a:pathLst>
                <a:path w="341" h="861">
                  <a:moveTo>
                    <a:pt x="214" y="39"/>
                  </a:moveTo>
                  <a:lnTo>
                    <a:pt x="281" y="0"/>
                  </a:lnTo>
                  <a:lnTo>
                    <a:pt x="341" y="6"/>
                  </a:lnTo>
                  <a:lnTo>
                    <a:pt x="335" y="77"/>
                  </a:lnTo>
                  <a:lnTo>
                    <a:pt x="294" y="116"/>
                  </a:lnTo>
                  <a:lnTo>
                    <a:pt x="234" y="148"/>
                  </a:lnTo>
                  <a:lnTo>
                    <a:pt x="160" y="231"/>
                  </a:lnTo>
                  <a:lnTo>
                    <a:pt x="80" y="347"/>
                  </a:lnTo>
                  <a:lnTo>
                    <a:pt x="60" y="443"/>
                  </a:lnTo>
                  <a:lnTo>
                    <a:pt x="74" y="501"/>
                  </a:lnTo>
                  <a:lnTo>
                    <a:pt x="94" y="534"/>
                  </a:lnTo>
                  <a:lnTo>
                    <a:pt x="181" y="572"/>
                  </a:lnTo>
                  <a:lnTo>
                    <a:pt x="261" y="597"/>
                  </a:lnTo>
                  <a:lnTo>
                    <a:pt x="294" y="630"/>
                  </a:lnTo>
                  <a:lnTo>
                    <a:pt x="300" y="656"/>
                  </a:lnTo>
                  <a:lnTo>
                    <a:pt x="253" y="707"/>
                  </a:lnTo>
                  <a:lnTo>
                    <a:pt x="234" y="771"/>
                  </a:lnTo>
                  <a:lnTo>
                    <a:pt x="214" y="861"/>
                  </a:lnTo>
                  <a:lnTo>
                    <a:pt x="173" y="848"/>
                  </a:lnTo>
                  <a:lnTo>
                    <a:pt x="173" y="784"/>
                  </a:lnTo>
                  <a:lnTo>
                    <a:pt x="195" y="688"/>
                  </a:lnTo>
                  <a:lnTo>
                    <a:pt x="234" y="649"/>
                  </a:lnTo>
                  <a:lnTo>
                    <a:pt x="160" y="611"/>
                  </a:lnTo>
                  <a:lnTo>
                    <a:pt x="74" y="572"/>
                  </a:lnTo>
                  <a:lnTo>
                    <a:pt x="0" y="514"/>
                  </a:lnTo>
                  <a:lnTo>
                    <a:pt x="0" y="443"/>
                  </a:lnTo>
                  <a:lnTo>
                    <a:pt x="20" y="321"/>
                  </a:lnTo>
                  <a:lnTo>
                    <a:pt x="80" y="205"/>
                  </a:lnTo>
                  <a:lnTo>
                    <a:pt x="154" y="108"/>
                  </a:lnTo>
                  <a:lnTo>
                    <a:pt x="214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9" name=""/>
            <p:cNvSpPr/>
            <p:nvPr/>
          </p:nvSpPr>
          <p:spPr>
            <a:xfrm flipH="1">
              <a:off x="5607720" y="707400"/>
              <a:ext cx="100800" cy="259560"/>
            </a:xfrm>
            <a:custGeom>
              <a:avLst/>
              <a:gdLst/>
              <a:ahLst/>
              <a:rect l="l" t="t" r="r" b="b"/>
              <a:pathLst>
                <a:path w="402" h="1028">
                  <a:moveTo>
                    <a:pt x="27" y="0"/>
                  </a:moveTo>
                  <a:lnTo>
                    <a:pt x="120" y="38"/>
                  </a:lnTo>
                  <a:lnTo>
                    <a:pt x="167" y="135"/>
                  </a:lnTo>
                  <a:lnTo>
                    <a:pt x="181" y="307"/>
                  </a:lnTo>
                  <a:lnTo>
                    <a:pt x="167" y="593"/>
                  </a:lnTo>
                  <a:lnTo>
                    <a:pt x="128" y="817"/>
                  </a:lnTo>
                  <a:lnTo>
                    <a:pt x="107" y="913"/>
                  </a:lnTo>
                  <a:lnTo>
                    <a:pt x="147" y="933"/>
                  </a:lnTo>
                  <a:lnTo>
                    <a:pt x="227" y="856"/>
                  </a:lnTo>
                  <a:lnTo>
                    <a:pt x="322" y="799"/>
                  </a:lnTo>
                  <a:lnTo>
                    <a:pt x="348" y="805"/>
                  </a:lnTo>
                  <a:lnTo>
                    <a:pt x="402" y="842"/>
                  </a:lnTo>
                  <a:lnTo>
                    <a:pt x="402" y="862"/>
                  </a:lnTo>
                  <a:lnTo>
                    <a:pt x="288" y="913"/>
                  </a:lnTo>
                  <a:lnTo>
                    <a:pt x="167" y="977"/>
                  </a:lnTo>
                  <a:lnTo>
                    <a:pt x="68" y="1028"/>
                  </a:lnTo>
                  <a:lnTo>
                    <a:pt x="19" y="1016"/>
                  </a:lnTo>
                  <a:lnTo>
                    <a:pt x="19" y="957"/>
                  </a:lnTo>
                  <a:lnTo>
                    <a:pt x="60" y="874"/>
                  </a:lnTo>
                  <a:lnTo>
                    <a:pt x="87" y="702"/>
                  </a:lnTo>
                  <a:lnTo>
                    <a:pt x="107" y="498"/>
                  </a:lnTo>
                  <a:lnTo>
                    <a:pt x="120" y="269"/>
                  </a:lnTo>
                  <a:lnTo>
                    <a:pt x="68" y="129"/>
                  </a:lnTo>
                  <a:lnTo>
                    <a:pt x="0" y="71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0" name=""/>
            <p:cNvSpPr/>
            <p:nvPr/>
          </p:nvSpPr>
          <p:spPr>
            <a:xfrm flipH="1">
              <a:off x="5702760" y="681120"/>
              <a:ext cx="77040" cy="284040"/>
            </a:xfrm>
            <a:custGeom>
              <a:avLst/>
              <a:gdLst/>
              <a:ahLst/>
              <a:rect l="l" t="t" r="r" b="b"/>
              <a:pathLst>
                <a:path w="309" h="1127">
                  <a:moveTo>
                    <a:pt x="124" y="223"/>
                  </a:moveTo>
                  <a:lnTo>
                    <a:pt x="207" y="51"/>
                  </a:lnTo>
                  <a:lnTo>
                    <a:pt x="282" y="0"/>
                  </a:lnTo>
                  <a:lnTo>
                    <a:pt x="309" y="32"/>
                  </a:lnTo>
                  <a:lnTo>
                    <a:pt x="288" y="89"/>
                  </a:lnTo>
                  <a:lnTo>
                    <a:pt x="207" y="230"/>
                  </a:lnTo>
                  <a:lnTo>
                    <a:pt x="145" y="376"/>
                  </a:lnTo>
                  <a:lnTo>
                    <a:pt x="103" y="586"/>
                  </a:lnTo>
                  <a:lnTo>
                    <a:pt x="75" y="821"/>
                  </a:lnTo>
                  <a:lnTo>
                    <a:pt x="75" y="1025"/>
                  </a:lnTo>
                  <a:lnTo>
                    <a:pt x="97" y="1007"/>
                  </a:lnTo>
                  <a:lnTo>
                    <a:pt x="145" y="930"/>
                  </a:lnTo>
                  <a:lnTo>
                    <a:pt x="164" y="815"/>
                  </a:lnTo>
                  <a:lnTo>
                    <a:pt x="207" y="815"/>
                  </a:lnTo>
                  <a:lnTo>
                    <a:pt x="261" y="841"/>
                  </a:lnTo>
                  <a:lnTo>
                    <a:pt x="226" y="936"/>
                  </a:lnTo>
                  <a:lnTo>
                    <a:pt x="145" y="1032"/>
                  </a:lnTo>
                  <a:lnTo>
                    <a:pt x="62" y="1127"/>
                  </a:lnTo>
                  <a:lnTo>
                    <a:pt x="21" y="1127"/>
                  </a:lnTo>
                  <a:lnTo>
                    <a:pt x="0" y="1090"/>
                  </a:lnTo>
                  <a:lnTo>
                    <a:pt x="0" y="1007"/>
                  </a:lnTo>
                  <a:lnTo>
                    <a:pt x="14" y="764"/>
                  </a:lnTo>
                  <a:lnTo>
                    <a:pt x="35" y="516"/>
                  </a:lnTo>
                  <a:lnTo>
                    <a:pt x="62" y="338"/>
                  </a:lnTo>
                  <a:lnTo>
                    <a:pt x="124" y="2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01" name=""/>
          <p:cNvSpPr/>
          <p:nvPr/>
        </p:nvSpPr>
        <p:spPr>
          <a:xfrm>
            <a:off x="3086640" y="487440"/>
            <a:ext cx="23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Efektivní cirkulující obj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2" name=""/>
          <p:cNvSpPr/>
          <p:nvPr/>
        </p:nvSpPr>
        <p:spPr>
          <a:xfrm flipV="1">
            <a:off x="3044880" y="493560"/>
            <a:ext cx="0" cy="2685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03" name=""/>
          <p:cNvGrpSpPr/>
          <p:nvPr/>
        </p:nvGrpSpPr>
        <p:grpSpPr>
          <a:xfrm>
            <a:off x="5202360" y="98280"/>
            <a:ext cx="422280" cy="446040"/>
            <a:chOff x="5202360" y="98280"/>
            <a:chExt cx="422280" cy="446040"/>
          </a:xfrm>
        </p:grpSpPr>
        <p:sp>
          <p:nvSpPr>
            <p:cNvPr id="7304" name=""/>
            <p:cNvSpPr/>
            <p:nvPr/>
          </p:nvSpPr>
          <p:spPr>
            <a:xfrm>
              <a:off x="5202360" y="98280"/>
              <a:ext cx="422280" cy="4460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305" name=""/>
            <p:cNvGrpSpPr/>
            <p:nvPr/>
          </p:nvGrpSpPr>
          <p:grpSpPr>
            <a:xfrm>
              <a:off x="5218200" y="123840"/>
              <a:ext cx="378000" cy="403200"/>
              <a:chOff x="5218200" y="123840"/>
              <a:chExt cx="378000" cy="403200"/>
            </a:xfrm>
          </p:grpSpPr>
          <p:sp>
            <p:nvSpPr>
              <p:cNvPr id="7306" name=""/>
              <p:cNvSpPr/>
              <p:nvPr/>
            </p:nvSpPr>
            <p:spPr>
              <a:xfrm>
                <a:off x="5218200" y="123840"/>
                <a:ext cx="378000" cy="4032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7" name=""/>
              <p:cNvSpPr/>
              <p:nvPr/>
            </p:nvSpPr>
            <p:spPr>
              <a:xfrm rot="18621000">
                <a:off x="5284440" y="282960"/>
                <a:ext cx="113400" cy="173520"/>
              </a:xfrm>
              <a:custGeom>
                <a:avLst/>
                <a:gdLst/>
                <a:ahLst/>
                <a:rect l="l" t="t" r="r" b="b"/>
                <a:pathLst>
                  <a:path w="406" h="695">
                    <a:moveTo>
                      <a:pt x="406" y="610"/>
                    </a:moveTo>
                    <a:lnTo>
                      <a:pt x="154" y="230"/>
                    </a:lnTo>
                    <a:lnTo>
                      <a:pt x="269" y="176"/>
                    </a:lnTo>
                    <a:lnTo>
                      <a:pt x="0" y="0"/>
                    </a:lnTo>
                    <a:lnTo>
                      <a:pt x="8" y="320"/>
                    </a:lnTo>
                    <a:lnTo>
                      <a:pt x="89" y="206"/>
                    </a:lnTo>
                    <a:lnTo>
                      <a:pt x="358" y="695"/>
                    </a:lnTo>
                    <a:lnTo>
                      <a:pt x="406" y="6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308" name=""/>
          <p:cNvSpPr/>
          <p:nvPr/>
        </p:nvSpPr>
        <p:spPr>
          <a:xfrm>
            <a:off x="919080" y="2109960"/>
            <a:ext cx="2670120" cy="1067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9" name=""/>
          <p:cNvSpPr/>
          <p:nvPr/>
        </p:nvSpPr>
        <p:spPr>
          <a:xfrm>
            <a:off x="1360440" y="2400480"/>
            <a:ext cx="1857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Reabsorpce Na</a:t>
            </a:r>
            <a:r>
              <a:rPr b="0" lang="cs-CZ" sz="16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(proximální tubulu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0" name=""/>
          <p:cNvSpPr/>
          <p:nvPr/>
        </p:nvSpPr>
        <p:spPr>
          <a:xfrm flipV="1">
            <a:off x="1320840" y="2481120"/>
            <a:ext cx="0" cy="268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1" name=""/>
          <p:cNvSpPr/>
          <p:nvPr/>
        </p:nvSpPr>
        <p:spPr>
          <a:xfrm>
            <a:off x="919080" y="4992840"/>
            <a:ext cx="2670120" cy="1067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2" name=""/>
          <p:cNvSpPr/>
          <p:nvPr/>
        </p:nvSpPr>
        <p:spPr>
          <a:xfrm>
            <a:off x="1357560" y="5283360"/>
            <a:ext cx="136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Rychlost toku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moči v tubul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3" name=""/>
          <p:cNvSpPr/>
          <p:nvPr/>
        </p:nvSpPr>
        <p:spPr>
          <a:xfrm flipV="1">
            <a:off x="1320840" y="5364000"/>
            <a:ext cx="0" cy="2685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4" name=""/>
          <p:cNvSpPr/>
          <p:nvPr/>
        </p:nvSpPr>
        <p:spPr>
          <a:xfrm>
            <a:off x="5894280" y="4992840"/>
            <a:ext cx="2670120" cy="1067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5" name=""/>
          <p:cNvSpPr/>
          <p:nvPr/>
        </p:nvSpPr>
        <p:spPr>
          <a:xfrm>
            <a:off x="6418800" y="5283360"/>
            <a:ext cx="154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Reabsorpce Na</a:t>
            </a:r>
            <a:r>
              <a:rPr b="0" lang="cs-CZ" sz="16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(sběrné kanálk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6" name=""/>
          <p:cNvSpPr/>
          <p:nvPr/>
        </p:nvSpPr>
        <p:spPr>
          <a:xfrm flipV="1">
            <a:off x="6327720" y="5364000"/>
            <a:ext cx="0" cy="268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7" name=""/>
          <p:cNvSpPr/>
          <p:nvPr/>
        </p:nvSpPr>
        <p:spPr>
          <a:xfrm>
            <a:off x="4792680" y="2127240"/>
            <a:ext cx="2670120" cy="1067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8" name=""/>
          <p:cNvSpPr/>
          <p:nvPr/>
        </p:nvSpPr>
        <p:spPr>
          <a:xfrm>
            <a:off x="5560200" y="2482920"/>
            <a:ext cx="108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Aldoster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9" name=""/>
          <p:cNvSpPr/>
          <p:nvPr/>
        </p:nvSpPr>
        <p:spPr>
          <a:xfrm flipV="1">
            <a:off x="5505480" y="2531880"/>
            <a:ext cx="0" cy="268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20" name=""/>
          <p:cNvGrpSpPr/>
          <p:nvPr/>
        </p:nvGrpSpPr>
        <p:grpSpPr>
          <a:xfrm>
            <a:off x="3470400" y="3540240"/>
            <a:ext cx="1914480" cy="1073160"/>
            <a:chOff x="3470400" y="3540240"/>
            <a:chExt cx="1914480" cy="1073160"/>
          </a:xfrm>
        </p:grpSpPr>
        <p:sp>
          <p:nvSpPr>
            <p:cNvPr id="7321" name=""/>
            <p:cNvSpPr/>
            <p:nvPr/>
          </p:nvSpPr>
          <p:spPr>
            <a:xfrm>
              <a:off x="3470400" y="3540240"/>
              <a:ext cx="1914480" cy="10674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2" name=""/>
            <p:cNvSpPr/>
            <p:nvPr/>
          </p:nvSpPr>
          <p:spPr>
            <a:xfrm>
              <a:off x="3656880" y="3789360"/>
              <a:ext cx="15400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600" spc="-1" strike="noStrike">
                  <a:solidFill>
                    <a:srgbClr val="000000"/>
                  </a:solidFill>
                  <a:latin typeface="Times New Roman"/>
                </a:rPr>
                <a:t>Sekrece K</a:t>
              </a:r>
              <a:r>
                <a:rPr b="0" lang="cs-CZ" sz="1600" spc="-1" strike="noStrike" baseline="30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600" spc="-1" strike="noStrike">
                  <a:solidFill>
                    <a:srgbClr val="000000"/>
                  </a:solidFill>
                  <a:latin typeface="Times New Roman"/>
                </a:rPr>
                <a:t>(sběrné kanálky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600" spc="-1" strike="noStrike">
                  <a:solidFill>
                    <a:srgbClr val="000000"/>
                  </a:solidFill>
                  <a:latin typeface="Times New Roman"/>
                </a:rPr>
                <a:t>se nemění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23" name=""/>
          <p:cNvSpPr/>
          <p:nvPr/>
        </p:nvSpPr>
        <p:spPr>
          <a:xfrm flipH="1">
            <a:off x="2306520" y="1092240"/>
            <a:ext cx="1198800" cy="1017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4" name=""/>
          <p:cNvSpPr/>
          <p:nvPr/>
        </p:nvSpPr>
        <p:spPr>
          <a:xfrm>
            <a:off x="4835520" y="1084320"/>
            <a:ext cx="1198440" cy="1042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5" name=""/>
          <p:cNvSpPr/>
          <p:nvPr/>
        </p:nvSpPr>
        <p:spPr>
          <a:xfrm>
            <a:off x="1962000" y="3201840"/>
            <a:ext cx="0" cy="1791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6" name=""/>
          <p:cNvSpPr/>
          <p:nvPr/>
        </p:nvSpPr>
        <p:spPr>
          <a:xfrm>
            <a:off x="6880320" y="3209760"/>
            <a:ext cx="0" cy="1791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7" name=""/>
          <p:cNvSpPr/>
          <p:nvPr/>
        </p:nvSpPr>
        <p:spPr>
          <a:xfrm flipH="1">
            <a:off x="3595320" y="5559480"/>
            <a:ext cx="2290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8" name=""/>
          <p:cNvSpPr/>
          <p:nvPr/>
        </p:nvSpPr>
        <p:spPr>
          <a:xfrm>
            <a:off x="303120" y="426960"/>
            <a:ext cx="1997280" cy="2233800"/>
          </a:xfrm>
          <a:custGeom>
            <a:avLst/>
            <a:gdLst/>
            <a:ahLst/>
            <a:rect l="l" t="t" r="r" b="b"/>
            <a:pathLst>
              <a:path w="1258" h="1407">
                <a:moveTo>
                  <a:pt x="378" y="1402"/>
                </a:moveTo>
                <a:lnTo>
                  <a:pt x="0" y="1407"/>
                </a:lnTo>
                <a:lnTo>
                  <a:pt x="0" y="0"/>
                </a:lnTo>
                <a:lnTo>
                  <a:pt x="1258" y="2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9" name=""/>
          <p:cNvSpPr/>
          <p:nvPr/>
        </p:nvSpPr>
        <p:spPr>
          <a:xfrm>
            <a:off x="1755720" y="306360"/>
            <a:ext cx="252360" cy="241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baseline="2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0" name=""/>
          <p:cNvSpPr/>
          <p:nvPr/>
        </p:nvSpPr>
        <p:spPr>
          <a:xfrm>
            <a:off x="6740640" y="422280"/>
            <a:ext cx="1454040" cy="4578480"/>
          </a:xfrm>
          <a:custGeom>
            <a:avLst/>
            <a:gdLst/>
            <a:ahLst/>
            <a:rect l="l" t="t" r="r" b="b"/>
            <a:pathLst>
              <a:path w="916" h="2884">
                <a:moveTo>
                  <a:pt x="916" y="2884"/>
                </a:moveTo>
                <a:lnTo>
                  <a:pt x="911" y="3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1" name=""/>
          <p:cNvSpPr/>
          <p:nvPr/>
        </p:nvSpPr>
        <p:spPr>
          <a:xfrm>
            <a:off x="7002360" y="290520"/>
            <a:ext cx="252360" cy="241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baseline="2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2" name=""/>
          <p:cNvSpPr/>
          <p:nvPr/>
        </p:nvSpPr>
        <p:spPr>
          <a:xfrm flipV="1">
            <a:off x="2414520" y="4516200"/>
            <a:ext cx="1067040" cy="492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3" name=""/>
          <p:cNvSpPr/>
          <p:nvPr/>
        </p:nvSpPr>
        <p:spPr>
          <a:xfrm flipH="1">
            <a:off x="5393880" y="3186000"/>
            <a:ext cx="1050840" cy="468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4" name=""/>
          <p:cNvSpPr/>
          <p:nvPr/>
        </p:nvSpPr>
        <p:spPr>
          <a:xfrm>
            <a:off x="3052800" y="4551480"/>
            <a:ext cx="252360" cy="241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 baseline="8000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5" name=""/>
          <p:cNvSpPr/>
          <p:nvPr/>
        </p:nvSpPr>
        <p:spPr>
          <a:xfrm>
            <a:off x="5616720" y="3386160"/>
            <a:ext cx="252360" cy="241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baseline="2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36" name=""/>
          <p:cNvGrpSpPr/>
          <p:nvPr/>
        </p:nvGrpSpPr>
        <p:grpSpPr>
          <a:xfrm>
            <a:off x="0" y="0"/>
            <a:ext cx="8564400" cy="6060240"/>
            <a:chOff x="0" y="0"/>
            <a:chExt cx="8564400" cy="6060240"/>
          </a:xfrm>
        </p:grpSpPr>
        <p:sp>
          <p:nvSpPr>
            <p:cNvPr id="7337" name=""/>
            <p:cNvSpPr/>
            <p:nvPr/>
          </p:nvSpPr>
          <p:spPr>
            <a:xfrm>
              <a:off x="2290680" y="0"/>
              <a:ext cx="4451400" cy="10674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338" name=""/>
            <p:cNvGrpSpPr/>
            <p:nvPr/>
          </p:nvGrpSpPr>
          <p:grpSpPr>
            <a:xfrm>
              <a:off x="5600520" y="355680"/>
              <a:ext cx="222120" cy="611280"/>
              <a:chOff x="5600520" y="355680"/>
              <a:chExt cx="222120" cy="611280"/>
            </a:xfrm>
          </p:grpSpPr>
          <p:sp>
            <p:nvSpPr>
              <p:cNvPr id="7339" name=""/>
              <p:cNvSpPr/>
              <p:nvPr/>
            </p:nvSpPr>
            <p:spPr>
              <a:xfrm flipH="1">
                <a:off x="5658840" y="355680"/>
                <a:ext cx="122400" cy="135720"/>
              </a:xfrm>
              <a:custGeom>
                <a:avLst/>
                <a:gdLst/>
                <a:ahLst/>
                <a:rect l="l" t="t" r="r" b="b"/>
                <a:pathLst>
                  <a:path w="490" h="538">
                    <a:moveTo>
                      <a:pt x="121" y="0"/>
                    </a:moveTo>
                    <a:lnTo>
                      <a:pt x="202" y="0"/>
                    </a:lnTo>
                    <a:lnTo>
                      <a:pt x="282" y="32"/>
                    </a:lnTo>
                    <a:lnTo>
                      <a:pt x="329" y="59"/>
                    </a:lnTo>
                    <a:lnTo>
                      <a:pt x="362" y="156"/>
                    </a:lnTo>
                    <a:lnTo>
                      <a:pt x="383" y="215"/>
                    </a:lnTo>
                    <a:lnTo>
                      <a:pt x="463" y="150"/>
                    </a:lnTo>
                    <a:lnTo>
                      <a:pt x="490" y="156"/>
                    </a:lnTo>
                    <a:lnTo>
                      <a:pt x="484" y="187"/>
                    </a:lnTo>
                    <a:lnTo>
                      <a:pt x="383" y="292"/>
                    </a:lnTo>
                    <a:lnTo>
                      <a:pt x="383" y="369"/>
                    </a:lnTo>
                    <a:lnTo>
                      <a:pt x="362" y="447"/>
                    </a:lnTo>
                    <a:lnTo>
                      <a:pt x="329" y="506"/>
                    </a:lnTo>
                    <a:lnTo>
                      <a:pt x="282" y="538"/>
                    </a:lnTo>
                    <a:lnTo>
                      <a:pt x="222" y="538"/>
                    </a:lnTo>
                    <a:lnTo>
                      <a:pt x="140" y="506"/>
                    </a:lnTo>
                    <a:lnTo>
                      <a:pt x="87" y="441"/>
                    </a:lnTo>
                    <a:lnTo>
                      <a:pt x="41" y="343"/>
                    </a:lnTo>
                    <a:lnTo>
                      <a:pt x="6" y="252"/>
                    </a:lnTo>
                    <a:lnTo>
                      <a:pt x="0" y="130"/>
                    </a:lnTo>
                    <a:lnTo>
                      <a:pt x="20" y="71"/>
                    </a:lnTo>
                    <a:lnTo>
                      <a:pt x="47" y="32"/>
                    </a:lnTo>
                    <a:lnTo>
                      <a:pt x="1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0" name=""/>
              <p:cNvSpPr/>
              <p:nvPr/>
            </p:nvSpPr>
            <p:spPr>
              <a:xfrm flipH="1">
                <a:off x="5669640" y="508680"/>
                <a:ext cx="86400" cy="234000"/>
              </a:xfrm>
              <a:custGeom>
                <a:avLst/>
                <a:gdLst/>
                <a:ahLst/>
                <a:rect l="l" t="t" r="r" b="b"/>
                <a:pathLst>
                  <a:path w="347" h="929">
                    <a:moveTo>
                      <a:pt x="47" y="32"/>
                    </a:moveTo>
                    <a:lnTo>
                      <a:pt x="100" y="0"/>
                    </a:lnTo>
                    <a:lnTo>
                      <a:pt x="180" y="0"/>
                    </a:lnTo>
                    <a:lnTo>
                      <a:pt x="240" y="20"/>
                    </a:lnTo>
                    <a:lnTo>
                      <a:pt x="281" y="89"/>
                    </a:lnTo>
                    <a:lnTo>
                      <a:pt x="320" y="206"/>
                    </a:lnTo>
                    <a:lnTo>
                      <a:pt x="341" y="334"/>
                    </a:lnTo>
                    <a:lnTo>
                      <a:pt x="347" y="486"/>
                    </a:lnTo>
                    <a:lnTo>
                      <a:pt x="347" y="660"/>
                    </a:lnTo>
                    <a:lnTo>
                      <a:pt x="320" y="800"/>
                    </a:lnTo>
                    <a:lnTo>
                      <a:pt x="281" y="877"/>
                    </a:lnTo>
                    <a:lnTo>
                      <a:pt x="187" y="929"/>
                    </a:lnTo>
                    <a:lnTo>
                      <a:pt x="140" y="917"/>
                    </a:lnTo>
                    <a:lnTo>
                      <a:pt x="80" y="858"/>
                    </a:lnTo>
                    <a:lnTo>
                      <a:pt x="60" y="775"/>
                    </a:lnTo>
                    <a:lnTo>
                      <a:pt x="41" y="621"/>
                    </a:lnTo>
                    <a:lnTo>
                      <a:pt x="60" y="512"/>
                    </a:lnTo>
                    <a:lnTo>
                      <a:pt x="60" y="397"/>
                    </a:lnTo>
                    <a:lnTo>
                      <a:pt x="27" y="320"/>
                    </a:lnTo>
                    <a:lnTo>
                      <a:pt x="0" y="218"/>
                    </a:lnTo>
                    <a:lnTo>
                      <a:pt x="0" y="109"/>
                    </a:lnTo>
                    <a:lnTo>
                      <a:pt x="47" y="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1" name=""/>
              <p:cNvSpPr/>
              <p:nvPr/>
            </p:nvSpPr>
            <p:spPr>
              <a:xfrm flipH="1">
                <a:off x="5600160" y="517320"/>
                <a:ext cx="114840" cy="231480"/>
              </a:xfrm>
              <a:custGeom>
                <a:avLst/>
                <a:gdLst/>
                <a:ahLst/>
                <a:rect l="l" t="t" r="r" b="b"/>
                <a:pathLst>
                  <a:path w="460" h="918">
                    <a:moveTo>
                      <a:pt x="53" y="0"/>
                    </a:moveTo>
                    <a:lnTo>
                      <a:pt x="201" y="32"/>
                    </a:lnTo>
                    <a:lnTo>
                      <a:pt x="314" y="109"/>
                    </a:lnTo>
                    <a:lnTo>
                      <a:pt x="400" y="237"/>
                    </a:lnTo>
                    <a:lnTo>
                      <a:pt x="454" y="359"/>
                    </a:lnTo>
                    <a:lnTo>
                      <a:pt x="460" y="494"/>
                    </a:lnTo>
                    <a:lnTo>
                      <a:pt x="419" y="584"/>
                    </a:lnTo>
                    <a:lnTo>
                      <a:pt x="320" y="642"/>
                    </a:lnTo>
                    <a:lnTo>
                      <a:pt x="240" y="681"/>
                    </a:lnTo>
                    <a:lnTo>
                      <a:pt x="240" y="719"/>
                    </a:lnTo>
                    <a:lnTo>
                      <a:pt x="293" y="764"/>
                    </a:lnTo>
                    <a:lnTo>
                      <a:pt x="320" y="860"/>
                    </a:lnTo>
                    <a:lnTo>
                      <a:pt x="293" y="918"/>
                    </a:lnTo>
                    <a:lnTo>
                      <a:pt x="259" y="892"/>
                    </a:lnTo>
                    <a:lnTo>
                      <a:pt x="259" y="841"/>
                    </a:lnTo>
                    <a:lnTo>
                      <a:pt x="234" y="764"/>
                    </a:lnTo>
                    <a:lnTo>
                      <a:pt x="193" y="719"/>
                    </a:lnTo>
                    <a:lnTo>
                      <a:pt x="179" y="661"/>
                    </a:lnTo>
                    <a:lnTo>
                      <a:pt x="240" y="622"/>
                    </a:lnTo>
                    <a:lnTo>
                      <a:pt x="353" y="545"/>
                    </a:lnTo>
                    <a:lnTo>
                      <a:pt x="400" y="476"/>
                    </a:lnTo>
                    <a:lnTo>
                      <a:pt x="400" y="399"/>
                    </a:lnTo>
                    <a:lnTo>
                      <a:pt x="339" y="282"/>
                    </a:lnTo>
                    <a:lnTo>
                      <a:pt x="240" y="180"/>
                    </a:lnTo>
                    <a:lnTo>
                      <a:pt x="179" y="128"/>
                    </a:lnTo>
                    <a:lnTo>
                      <a:pt x="93" y="109"/>
                    </a:lnTo>
                    <a:lnTo>
                      <a:pt x="0" y="83"/>
                    </a:lnTo>
                    <a:lnTo>
                      <a:pt x="5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2" name=""/>
              <p:cNvSpPr/>
              <p:nvPr/>
            </p:nvSpPr>
            <p:spPr>
              <a:xfrm flipH="1">
                <a:off x="5737680" y="516240"/>
                <a:ext cx="84600" cy="217440"/>
              </a:xfrm>
              <a:custGeom>
                <a:avLst/>
                <a:gdLst/>
                <a:ahLst/>
                <a:rect l="l" t="t" r="r" b="b"/>
                <a:pathLst>
                  <a:path w="341" h="861">
                    <a:moveTo>
                      <a:pt x="214" y="39"/>
                    </a:moveTo>
                    <a:lnTo>
                      <a:pt x="281" y="0"/>
                    </a:lnTo>
                    <a:lnTo>
                      <a:pt x="341" y="6"/>
                    </a:lnTo>
                    <a:lnTo>
                      <a:pt x="335" y="77"/>
                    </a:lnTo>
                    <a:lnTo>
                      <a:pt x="294" y="116"/>
                    </a:lnTo>
                    <a:lnTo>
                      <a:pt x="234" y="148"/>
                    </a:lnTo>
                    <a:lnTo>
                      <a:pt x="160" y="231"/>
                    </a:lnTo>
                    <a:lnTo>
                      <a:pt x="80" y="347"/>
                    </a:lnTo>
                    <a:lnTo>
                      <a:pt x="60" y="443"/>
                    </a:lnTo>
                    <a:lnTo>
                      <a:pt x="74" y="501"/>
                    </a:lnTo>
                    <a:lnTo>
                      <a:pt x="94" y="534"/>
                    </a:lnTo>
                    <a:lnTo>
                      <a:pt x="181" y="572"/>
                    </a:lnTo>
                    <a:lnTo>
                      <a:pt x="261" y="597"/>
                    </a:lnTo>
                    <a:lnTo>
                      <a:pt x="294" y="630"/>
                    </a:lnTo>
                    <a:lnTo>
                      <a:pt x="300" y="656"/>
                    </a:lnTo>
                    <a:lnTo>
                      <a:pt x="253" y="707"/>
                    </a:lnTo>
                    <a:lnTo>
                      <a:pt x="234" y="771"/>
                    </a:lnTo>
                    <a:lnTo>
                      <a:pt x="214" y="861"/>
                    </a:lnTo>
                    <a:lnTo>
                      <a:pt x="173" y="848"/>
                    </a:lnTo>
                    <a:lnTo>
                      <a:pt x="173" y="784"/>
                    </a:lnTo>
                    <a:lnTo>
                      <a:pt x="195" y="688"/>
                    </a:lnTo>
                    <a:lnTo>
                      <a:pt x="234" y="649"/>
                    </a:lnTo>
                    <a:lnTo>
                      <a:pt x="160" y="611"/>
                    </a:lnTo>
                    <a:lnTo>
                      <a:pt x="74" y="572"/>
                    </a:lnTo>
                    <a:lnTo>
                      <a:pt x="0" y="514"/>
                    </a:lnTo>
                    <a:lnTo>
                      <a:pt x="0" y="443"/>
                    </a:lnTo>
                    <a:lnTo>
                      <a:pt x="20" y="321"/>
                    </a:lnTo>
                    <a:lnTo>
                      <a:pt x="80" y="205"/>
                    </a:lnTo>
                    <a:lnTo>
                      <a:pt x="154" y="108"/>
                    </a:lnTo>
                    <a:lnTo>
                      <a:pt x="214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3" name=""/>
              <p:cNvSpPr/>
              <p:nvPr/>
            </p:nvSpPr>
            <p:spPr>
              <a:xfrm flipH="1">
                <a:off x="5607720" y="707400"/>
                <a:ext cx="100800" cy="259560"/>
              </a:xfrm>
              <a:custGeom>
                <a:avLst/>
                <a:gdLst/>
                <a:ahLst/>
                <a:rect l="l" t="t" r="r" b="b"/>
                <a:pathLst>
                  <a:path w="402" h="1028">
                    <a:moveTo>
                      <a:pt x="27" y="0"/>
                    </a:moveTo>
                    <a:lnTo>
                      <a:pt x="120" y="38"/>
                    </a:lnTo>
                    <a:lnTo>
                      <a:pt x="167" y="135"/>
                    </a:lnTo>
                    <a:lnTo>
                      <a:pt x="181" y="307"/>
                    </a:lnTo>
                    <a:lnTo>
                      <a:pt x="167" y="593"/>
                    </a:lnTo>
                    <a:lnTo>
                      <a:pt x="128" y="817"/>
                    </a:lnTo>
                    <a:lnTo>
                      <a:pt x="107" y="913"/>
                    </a:lnTo>
                    <a:lnTo>
                      <a:pt x="147" y="933"/>
                    </a:lnTo>
                    <a:lnTo>
                      <a:pt x="227" y="856"/>
                    </a:lnTo>
                    <a:lnTo>
                      <a:pt x="322" y="799"/>
                    </a:lnTo>
                    <a:lnTo>
                      <a:pt x="348" y="805"/>
                    </a:lnTo>
                    <a:lnTo>
                      <a:pt x="402" y="842"/>
                    </a:lnTo>
                    <a:lnTo>
                      <a:pt x="402" y="862"/>
                    </a:lnTo>
                    <a:lnTo>
                      <a:pt x="288" y="913"/>
                    </a:lnTo>
                    <a:lnTo>
                      <a:pt x="167" y="977"/>
                    </a:lnTo>
                    <a:lnTo>
                      <a:pt x="68" y="1028"/>
                    </a:lnTo>
                    <a:lnTo>
                      <a:pt x="19" y="1016"/>
                    </a:lnTo>
                    <a:lnTo>
                      <a:pt x="19" y="957"/>
                    </a:lnTo>
                    <a:lnTo>
                      <a:pt x="60" y="874"/>
                    </a:lnTo>
                    <a:lnTo>
                      <a:pt x="87" y="702"/>
                    </a:lnTo>
                    <a:lnTo>
                      <a:pt x="107" y="498"/>
                    </a:lnTo>
                    <a:lnTo>
                      <a:pt x="120" y="269"/>
                    </a:lnTo>
                    <a:lnTo>
                      <a:pt x="68" y="129"/>
                    </a:lnTo>
                    <a:lnTo>
                      <a:pt x="0" y="71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4" name=""/>
              <p:cNvSpPr/>
              <p:nvPr/>
            </p:nvSpPr>
            <p:spPr>
              <a:xfrm flipH="1">
                <a:off x="5702760" y="681120"/>
                <a:ext cx="77040" cy="284040"/>
              </a:xfrm>
              <a:custGeom>
                <a:avLst/>
                <a:gdLst/>
                <a:ahLst/>
                <a:rect l="l" t="t" r="r" b="b"/>
                <a:pathLst>
                  <a:path w="309" h="1127">
                    <a:moveTo>
                      <a:pt x="124" y="223"/>
                    </a:moveTo>
                    <a:lnTo>
                      <a:pt x="207" y="51"/>
                    </a:lnTo>
                    <a:lnTo>
                      <a:pt x="282" y="0"/>
                    </a:lnTo>
                    <a:lnTo>
                      <a:pt x="309" y="32"/>
                    </a:lnTo>
                    <a:lnTo>
                      <a:pt x="288" y="89"/>
                    </a:lnTo>
                    <a:lnTo>
                      <a:pt x="207" y="230"/>
                    </a:lnTo>
                    <a:lnTo>
                      <a:pt x="145" y="376"/>
                    </a:lnTo>
                    <a:lnTo>
                      <a:pt x="103" y="586"/>
                    </a:lnTo>
                    <a:lnTo>
                      <a:pt x="75" y="821"/>
                    </a:lnTo>
                    <a:lnTo>
                      <a:pt x="75" y="1025"/>
                    </a:lnTo>
                    <a:lnTo>
                      <a:pt x="97" y="1007"/>
                    </a:lnTo>
                    <a:lnTo>
                      <a:pt x="145" y="930"/>
                    </a:lnTo>
                    <a:lnTo>
                      <a:pt x="164" y="815"/>
                    </a:lnTo>
                    <a:lnTo>
                      <a:pt x="207" y="815"/>
                    </a:lnTo>
                    <a:lnTo>
                      <a:pt x="261" y="841"/>
                    </a:lnTo>
                    <a:lnTo>
                      <a:pt x="226" y="936"/>
                    </a:lnTo>
                    <a:lnTo>
                      <a:pt x="145" y="1032"/>
                    </a:lnTo>
                    <a:lnTo>
                      <a:pt x="62" y="1127"/>
                    </a:lnTo>
                    <a:lnTo>
                      <a:pt x="21" y="1127"/>
                    </a:lnTo>
                    <a:lnTo>
                      <a:pt x="0" y="1090"/>
                    </a:lnTo>
                    <a:lnTo>
                      <a:pt x="0" y="1007"/>
                    </a:lnTo>
                    <a:lnTo>
                      <a:pt x="14" y="764"/>
                    </a:lnTo>
                    <a:lnTo>
                      <a:pt x="35" y="516"/>
                    </a:lnTo>
                    <a:lnTo>
                      <a:pt x="62" y="338"/>
                    </a:lnTo>
                    <a:lnTo>
                      <a:pt x="124" y="2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45" name=""/>
            <p:cNvSpPr/>
            <p:nvPr/>
          </p:nvSpPr>
          <p:spPr>
            <a:xfrm>
              <a:off x="3086640" y="487440"/>
              <a:ext cx="2379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600" spc="-1" strike="noStrike">
                  <a:solidFill>
                    <a:srgbClr val="000000"/>
                  </a:solidFill>
                  <a:latin typeface="Times New Roman"/>
                </a:rPr>
                <a:t>Efektivní cirkulující obje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6" name=""/>
            <p:cNvSpPr/>
            <p:nvPr/>
          </p:nvSpPr>
          <p:spPr>
            <a:xfrm flipV="1">
              <a:off x="3044880" y="493560"/>
              <a:ext cx="0" cy="268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347" name=""/>
            <p:cNvGrpSpPr/>
            <p:nvPr/>
          </p:nvGrpSpPr>
          <p:grpSpPr>
            <a:xfrm>
              <a:off x="5202360" y="98280"/>
              <a:ext cx="422280" cy="446040"/>
              <a:chOff x="5202360" y="98280"/>
              <a:chExt cx="422280" cy="446040"/>
            </a:xfrm>
          </p:grpSpPr>
          <p:sp>
            <p:nvSpPr>
              <p:cNvPr id="7348" name=""/>
              <p:cNvSpPr/>
              <p:nvPr/>
            </p:nvSpPr>
            <p:spPr>
              <a:xfrm>
                <a:off x="5202360" y="98280"/>
                <a:ext cx="422280" cy="4460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349" name=""/>
              <p:cNvGrpSpPr/>
              <p:nvPr/>
            </p:nvGrpSpPr>
            <p:grpSpPr>
              <a:xfrm>
                <a:off x="5218200" y="123840"/>
                <a:ext cx="378000" cy="403200"/>
                <a:chOff x="5218200" y="123840"/>
                <a:chExt cx="378000" cy="403200"/>
              </a:xfrm>
            </p:grpSpPr>
            <p:sp>
              <p:nvSpPr>
                <p:cNvPr id="7350" name=""/>
                <p:cNvSpPr/>
                <p:nvPr/>
              </p:nvSpPr>
              <p:spPr>
                <a:xfrm>
                  <a:off x="5218200" y="123840"/>
                  <a:ext cx="378000" cy="40320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51" name=""/>
                <p:cNvSpPr/>
                <p:nvPr/>
              </p:nvSpPr>
              <p:spPr>
                <a:xfrm rot="18621000">
                  <a:off x="5284440" y="282960"/>
                  <a:ext cx="113400" cy="173520"/>
                </a:xfrm>
                <a:custGeom>
                  <a:avLst/>
                  <a:gdLst/>
                  <a:ahLst/>
                  <a:rect l="l" t="t" r="r" b="b"/>
                  <a:pathLst>
                    <a:path w="406" h="695">
                      <a:moveTo>
                        <a:pt x="406" y="610"/>
                      </a:moveTo>
                      <a:lnTo>
                        <a:pt x="154" y="230"/>
                      </a:lnTo>
                      <a:lnTo>
                        <a:pt x="269" y="176"/>
                      </a:lnTo>
                      <a:lnTo>
                        <a:pt x="0" y="0"/>
                      </a:lnTo>
                      <a:lnTo>
                        <a:pt x="8" y="320"/>
                      </a:lnTo>
                      <a:lnTo>
                        <a:pt x="89" y="206"/>
                      </a:lnTo>
                      <a:lnTo>
                        <a:pt x="358" y="695"/>
                      </a:lnTo>
                      <a:lnTo>
                        <a:pt x="406" y="6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352" name=""/>
            <p:cNvSpPr/>
            <p:nvPr/>
          </p:nvSpPr>
          <p:spPr>
            <a:xfrm>
              <a:off x="919080" y="2109960"/>
              <a:ext cx="2670120" cy="10674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3" name=""/>
            <p:cNvSpPr/>
            <p:nvPr/>
          </p:nvSpPr>
          <p:spPr>
            <a:xfrm>
              <a:off x="1449720" y="2459160"/>
              <a:ext cx="1480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600" spc="-1" strike="noStrike">
                  <a:solidFill>
                    <a:srgbClr val="000000"/>
                  </a:solidFill>
                  <a:latin typeface="Times New Roman"/>
                </a:rPr>
                <a:t>Reabsorpce Na</a:t>
              </a:r>
              <a:r>
                <a:rPr b="0" lang="cs-CZ" sz="1600" spc="-1" strike="noStrike" baseline="30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4" name=""/>
            <p:cNvSpPr/>
            <p:nvPr/>
          </p:nvSpPr>
          <p:spPr>
            <a:xfrm flipV="1">
              <a:off x="1320840" y="2481120"/>
              <a:ext cx="0" cy="268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5" name=""/>
            <p:cNvSpPr/>
            <p:nvPr/>
          </p:nvSpPr>
          <p:spPr>
            <a:xfrm>
              <a:off x="919080" y="4992840"/>
              <a:ext cx="2670120" cy="10674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6" name=""/>
            <p:cNvSpPr/>
            <p:nvPr/>
          </p:nvSpPr>
          <p:spPr>
            <a:xfrm>
              <a:off x="1357560" y="5283360"/>
              <a:ext cx="1368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600" spc="-1" strike="noStrike">
                  <a:solidFill>
                    <a:srgbClr val="000000"/>
                  </a:solidFill>
                  <a:latin typeface="Times New Roman"/>
                </a:rPr>
                <a:t>Rychlost toku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600" spc="-1" strike="noStrike">
                  <a:solidFill>
                    <a:srgbClr val="000000"/>
                  </a:solidFill>
                  <a:latin typeface="Times New Roman"/>
                </a:rPr>
                <a:t>moči v tubul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7" name=""/>
            <p:cNvSpPr/>
            <p:nvPr/>
          </p:nvSpPr>
          <p:spPr>
            <a:xfrm flipV="1">
              <a:off x="1320840" y="5364000"/>
              <a:ext cx="0" cy="268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8" name=""/>
            <p:cNvSpPr/>
            <p:nvPr/>
          </p:nvSpPr>
          <p:spPr>
            <a:xfrm>
              <a:off x="5894280" y="4992840"/>
              <a:ext cx="2670120" cy="10674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9" name=""/>
            <p:cNvSpPr/>
            <p:nvPr/>
          </p:nvSpPr>
          <p:spPr>
            <a:xfrm>
              <a:off x="6418800" y="5283360"/>
              <a:ext cx="154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600" spc="-1" strike="noStrike">
                  <a:solidFill>
                    <a:srgbClr val="000000"/>
                  </a:solidFill>
                  <a:latin typeface="Times New Roman"/>
                </a:rPr>
                <a:t>Reabsorpce Na</a:t>
              </a:r>
              <a:r>
                <a:rPr b="0" lang="cs-CZ" sz="1600" spc="-1" strike="noStrike" baseline="30000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0" lang="cs-CZ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600" spc="-1" strike="noStrike">
                  <a:solidFill>
                    <a:srgbClr val="000000"/>
                  </a:solidFill>
                  <a:latin typeface="Times New Roman"/>
                </a:rPr>
                <a:t>(sběrné kanálky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0" name=""/>
            <p:cNvSpPr/>
            <p:nvPr/>
          </p:nvSpPr>
          <p:spPr>
            <a:xfrm flipV="1">
              <a:off x="6327720" y="5364000"/>
              <a:ext cx="0" cy="268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1" name=""/>
            <p:cNvSpPr/>
            <p:nvPr/>
          </p:nvSpPr>
          <p:spPr>
            <a:xfrm>
              <a:off x="4792680" y="2127240"/>
              <a:ext cx="2670120" cy="10674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2" name=""/>
            <p:cNvSpPr/>
            <p:nvPr/>
          </p:nvSpPr>
          <p:spPr>
            <a:xfrm>
              <a:off x="5560200" y="2482920"/>
              <a:ext cx="1084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600" spc="-1" strike="noStrike">
                  <a:solidFill>
                    <a:srgbClr val="000000"/>
                  </a:solidFill>
                  <a:latin typeface="Times New Roman"/>
                </a:rPr>
                <a:t>Aldoster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3" name=""/>
            <p:cNvSpPr/>
            <p:nvPr/>
          </p:nvSpPr>
          <p:spPr>
            <a:xfrm flipV="1">
              <a:off x="5505480" y="2531880"/>
              <a:ext cx="0" cy="268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364" name=""/>
            <p:cNvGrpSpPr/>
            <p:nvPr/>
          </p:nvGrpSpPr>
          <p:grpSpPr>
            <a:xfrm>
              <a:off x="3478320" y="3532320"/>
              <a:ext cx="1914480" cy="1067400"/>
              <a:chOff x="3478320" y="3532320"/>
              <a:chExt cx="1914480" cy="1067400"/>
            </a:xfrm>
          </p:grpSpPr>
          <p:sp>
            <p:nvSpPr>
              <p:cNvPr id="7365" name=""/>
              <p:cNvSpPr/>
              <p:nvPr/>
            </p:nvSpPr>
            <p:spPr>
              <a:xfrm>
                <a:off x="3478320" y="3532320"/>
                <a:ext cx="1914480" cy="106740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6" name=""/>
              <p:cNvSpPr/>
              <p:nvPr/>
            </p:nvSpPr>
            <p:spPr>
              <a:xfrm>
                <a:off x="3664800" y="3781440"/>
                <a:ext cx="15400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600" spc="-1" strike="noStrike">
                    <a:solidFill>
                      <a:srgbClr val="000000"/>
                    </a:solidFill>
                    <a:latin typeface="Times New Roman"/>
                  </a:rPr>
                  <a:t>Sekrece K</a:t>
                </a:r>
                <a:r>
                  <a:rPr b="0" lang="cs-CZ" sz="1600" spc="-1" strike="noStrike" baseline="30000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600" spc="-1" strike="noStrike">
                    <a:solidFill>
                      <a:srgbClr val="000000"/>
                    </a:solidFill>
                    <a:latin typeface="Times New Roman"/>
                  </a:rPr>
                  <a:t>(sběrné kanálky)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67" name=""/>
            <p:cNvSpPr/>
            <p:nvPr/>
          </p:nvSpPr>
          <p:spPr>
            <a:xfrm>
              <a:off x="4835520" y="1084320"/>
              <a:ext cx="1198440" cy="1042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8" name=""/>
            <p:cNvSpPr/>
            <p:nvPr/>
          </p:nvSpPr>
          <p:spPr>
            <a:xfrm>
              <a:off x="1962000" y="3201840"/>
              <a:ext cx="0" cy="1791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9" name=""/>
            <p:cNvSpPr/>
            <p:nvPr/>
          </p:nvSpPr>
          <p:spPr>
            <a:xfrm>
              <a:off x="6880320" y="3209760"/>
              <a:ext cx="0" cy="1791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0" name=""/>
            <p:cNvSpPr/>
            <p:nvPr/>
          </p:nvSpPr>
          <p:spPr>
            <a:xfrm flipH="1">
              <a:off x="3595320" y="5559480"/>
              <a:ext cx="2290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1" name=""/>
            <p:cNvSpPr/>
            <p:nvPr/>
          </p:nvSpPr>
          <p:spPr>
            <a:xfrm>
              <a:off x="6740640" y="422280"/>
              <a:ext cx="1454040" cy="4578480"/>
            </a:xfrm>
            <a:custGeom>
              <a:avLst/>
              <a:gdLst/>
              <a:ahLst/>
              <a:rect l="l" t="t" r="r" b="b"/>
              <a:pathLst>
                <a:path w="916" h="2884">
                  <a:moveTo>
                    <a:pt x="916" y="2884"/>
                  </a:moveTo>
                  <a:lnTo>
                    <a:pt x="911" y="3"/>
                  </a:ln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2" name=""/>
            <p:cNvSpPr/>
            <p:nvPr/>
          </p:nvSpPr>
          <p:spPr>
            <a:xfrm>
              <a:off x="7002360" y="290520"/>
              <a:ext cx="252360" cy="241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 baseline="2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3" name=""/>
            <p:cNvSpPr/>
            <p:nvPr/>
          </p:nvSpPr>
          <p:spPr>
            <a:xfrm flipV="1">
              <a:off x="2414520" y="4508280"/>
              <a:ext cx="1090800" cy="500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4" name=""/>
            <p:cNvSpPr/>
            <p:nvPr/>
          </p:nvSpPr>
          <p:spPr>
            <a:xfrm flipH="1">
              <a:off x="5393880" y="3186000"/>
              <a:ext cx="1050840" cy="468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5" name=""/>
            <p:cNvSpPr/>
            <p:nvPr/>
          </p:nvSpPr>
          <p:spPr>
            <a:xfrm>
              <a:off x="5616720" y="3386160"/>
              <a:ext cx="252360" cy="241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 baseline="2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6" name=""/>
            <p:cNvSpPr/>
            <p:nvPr/>
          </p:nvSpPr>
          <p:spPr>
            <a:xfrm>
              <a:off x="3014640" y="4552920"/>
              <a:ext cx="252360" cy="241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 baseline="2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7" name=""/>
            <p:cNvSpPr/>
            <p:nvPr/>
          </p:nvSpPr>
          <p:spPr>
            <a:xfrm flipV="1">
              <a:off x="3649680" y="3911400"/>
              <a:ext cx="0" cy="268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8" name=""/>
            <p:cNvSpPr/>
            <p:nvPr/>
          </p:nvSpPr>
          <p:spPr>
            <a:xfrm>
              <a:off x="0" y="584280"/>
              <a:ext cx="1461960" cy="131076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00000"/>
                  </a:solidFill>
                  <a:latin typeface="Times New Roman"/>
                </a:rPr>
                <a:t>Podnět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cs-CZ" sz="1600" spc="-1" strike="noStrike">
                  <a:solidFill>
                    <a:srgbClr val="000000"/>
                  </a:solidFill>
                  <a:latin typeface="Times New Roman"/>
                </a:rPr>
                <a:t>1. diuretik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00000"/>
                  </a:solidFill>
                  <a:latin typeface="Times New Roman"/>
                </a:rPr>
                <a:t>2. osmotická diuréz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9" name=""/>
            <p:cNvSpPr/>
            <p:nvPr/>
          </p:nvSpPr>
          <p:spPr>
            <a:xfrm>
              <a:off x="1469880" y="1305000"/>
              <a:ext cx="549360" cy="814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0" name=""/>
            <p:cNvSpPr/>
            <p:nvPr/>
          </p:nvSpPr>
          <p:spPr>
            <a:xfrm flipV="1">
              <a:off x="2841480" y="1090440"/>
              <a:ext cx="1041480" cy="1027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1" name=""/>
            <p:cNvSpPr/>
            <p:nvPr/>
          </p:nvSpPr>
          <p:spPr>
            <a:xfrm>
              <a:off x="3365640" y="1380960"/>
              <a:ext cx="252360" cy="241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4000" spc="-1" strike="noStrike" baseline="8000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2" name=""/>
          <p:cNvSpPr/>
          <p:nvPr/>
        </p:nvSpPr>
        <p:spPr>
          <a:xfrm>
            <a:off x="166680" y="4344840"/>
            <a:ext cx="8726400" cy="20408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Účine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3" name=""/>
          <p:cNvSpPr/>
          <p:nvPr/>
        </p:nvSpPr>
        <p:spPr>
          <a:xfrm>
            <a:off x="157320" y="0"/>
            <a:ext cx="8565840" cy="1067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Podně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4" name=""/>
          <p:cNvSpPr/>
          <p:nvPr/>
        </p:nvSpPr>
        <p:spPr>
          <a:xfrm>
            <a:off x="169920" y="1254240"/>
            <a:ext cx="8618400" cy="1310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Senzor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5" name=""/>
          <p:cNvSpPr/>
          <p:nvPr/>
        </p:nvSpPr>
        <p:spPr>
          <a:xfrm>
            <a:off x="187200" y="2851200"/>
            <a:ext cx="8670960" cy="1310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Mediátor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86" name=""/>
          <p:cNvGrpSpPr/>
          <p:nvPr/>
        </p:nvGrpSpPr>
        <p:grpSpPr>
          <a:xfrm>
            <a:off x="4745160" y="1373040"/>
            <a:ext cx="456480" cy="678960"/>
            <a:chOff x="4745160" y="1373040"/>
            <a:chExt cx="456480" cy="678960"/>
          </a:xfrm>
        </p:grpSpPr>
        <p:grpSp>
          <p:nvGrpSpPr>
            <p:cNvPr id="7387" name=""/>
            <p:cNvGrpSpPr/>
            <p:nvPr/>
          </p:nvGrpSpPr>
          <p:grpSpPr>
            <a:xfrm>
              <a:off x="4748760" y="1373040"/>
              <a:ext cx="452880" cy="678960"/>
              <a:chOff x="4748760" y="1373040"/>
              <a:chExt cx="452880" cy="678960"/>
            </a:xfrm>
          </p:grpSpPr>
          <p:grpSp>
            <p:nvGrpSpPr>
              <p:cNvPr id="7388" name=""/>
              <p:cNvGrpSpPr/>
              <p:nvPr/>
            </p:nvGrpSpPr>
            <p:grpSpPr>
              <a:xfrm>
                <a:off x="4764960" y="1530000"/>
                <a:ext cx="436680" cy="522000"/>
                <a:chOff x="4764960" y="1530000"/>
                <a:chExt cx="436680" cy="522000"/>
              </a:xfrm>
            </p:grpSpPr>
            <p:grpSp>
              <p:nvGrpSpPr>
                <p:cNvPr id="7389" name=""/>
                <p:cNvGrpSpPr/>
                <p:nvPr/>
              </p:nvGrpSpPr>
              <p:grpSpPr>
                <a:xfrm>
                  <a:off x="4764960" y="1530000"/>
                  <a:ext cx="352080" cy="110160"/>
                  <a:chOff x="4764960" y="1530000"/>
                  <a:chExt cx="352080" cy="110160"/>
                </a:xfrm>
              </p:grpSpPr>
              <p:grpSp>
                <p:nvGrpSpPr>
                  <p:cNvPr id="7390" name=""/>
                  <p:cNvGrpSpPr/>
                  <p:nvPr/>
                </p:nvGrpSpPr>
                <p:grpSpPr>
                  <a:xfrm>
                    <a:off x="5041080" y="1545120"/>
                    <a:ext cx="75960" cy="95040"/>
                    <a:chOff x="5041080" y="1545120"/>
                    <a:chExt cx="75960" cy="95040"/>
                  </a:xfrm>
                </p:grpSpPr>
                <p:grpSp>
                  <p:nvGrpSpPr>
                    <p:cNvPr id="7391" name=""/>
                    <p:cNvGrpSpPr/>
                    <p:nvPr/>
                  </p:nvGrpSpPr>
                  <p:grpSpPr>
                    <a:xfrm>
                      <a:off x="5041080" y="1545120"/>
                      <a:ext cx="54360" cy="59400"/>
                      <a:chOff x="5041080" y="1545120"/>
                      <a:chExt cx="54360" cy="59400"/>
                    </a:xfrm>
                  </p:grpSpPr>
                  <p:sp>
                    <p:nvSpPr>
                      <p:cNvPr id="7392" name=""/>
                      <p:cNvSpPr/>
                      <p:nvPr/>
                    </p:nvSpPr>
                    <p:spPr>
                      <a:xfrm>
                        <a:off x="5041080" y="1549800"/>
                        <a:ext cx="49320" cy="489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98" h="161">
                            <a:moveTo>
                              <a:pt x="0" y="161"/>
                            </a:moveTo>
                            <a:lnTo>
                              <a:pt x="18" y="132"/>
                            </a:lnTo>
                            <a:lnTo>
                              <a:pt x="37" y="108"/>
                            </a:lnTo>
                            <a:lnTo>
                              <a:pt x="58" y="81"/>
                            </a:lnTo>
                            <a:lnTo>
                              <a:pt x="82" y="57"/>
                            </a:lnTo>
                            <a:lnTo>
                              <a:pt x="107" y="37"/>
                            </a:lnTo>
                            <a:lnTo>
                              <a:pt x="131" y="23"/>
                            </a:lnTo>
                            <a:lnTo>
                              <a:pt x="150" y="12"/>
                            </a:lnTo>
                            <a:lnTo>
                              <a:pt x="170" y="6"/>
                            </a:lnTo>
                            <a:lnTo>
                              <a:pt x="198" y="0"/>
                            </a:lnTo>
                          </a:path>
                        </a:pathLst>
                      </a:custGeom>
                      <a:noFill/>
                      <a:ln w="25560">
                        <a:solidFill>
                          <a:srgbClr val="60006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160" bIns="21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393" name=""/>
                      <p:cNvSpPr/>
                      <p:nvPr/>
                    </p:nvSpPr>
                    <p:spPr>
                      <a:xfrm>
                        <a:off x="5047200" y="1555560"/>
                        <a:ext cx="48240" cy="489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95" h="160">
                            <a:moveTo>
                              <a:pt x="0" y="160"/>
                            </a:moveTo>
                            <a:lnTo>
                              <a:pt x="19" y="131"/>
                            </a:lnTo>
                            <a:lnTo>
                              <a:pt x="37" y="106"/>
                            </a:lnTo>
                            <a:lnTo>
                              <a:pt x="59" y="80"/>
                            </a:lnTo>
                            <a:lnTo>
                              <a:pt x="82" y="55"/>
                            </a:lnTo>
                            <a:lnTo>
                              <a:pt x="108" y="35"/>
                            </a:lnTo>
                            <a:lnTo>
                              <a:pt x="131" y="21"/>
                            </a:lnTo>
                            <a:lnTo>
                              <a:pt x="156" y="11"/>
                            </a:lnTo>
                            <a:lnTo>
                              <a:pt x="177" y="3"/>
                            </a:lnTo>
                            <a:lnTo>
                              <a:pt x="195" y="0"/>
                            </a:lnTo>
                          </a:path>
                        </a:pathLst>
                      </a:custGeom>
                      <a:noFill/>
                      <a:ln w="11160">
                        <a:solidFill>
                          <a:srgbClr val="40004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160" bIns="21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394" name=""/>
                      <p:cNvSpPr/>
                      <p:nvPr/>
                    </p:nvSpPr>
                    <p:spPr>
                      <a:xfrm>
                        <a:off x="5041080" y="1545120"/>
                        <a:ext cx="48240" cy="49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94" h="160">
                            <a:moveTo>
                              <a:pt x="0" y="160"/>
                            </a:moveTo>
                            <a:lnTo>
                              <a:pt x="18" y="131"/>
                            </a:lnTo>
                            <a:lnTo>
                              <a:pt x="37" y="106"/>
                            </a:lnTo>
                            <a:lnTo>
                              <a:pt x="58" y="80"/>
                            </a:lnTo>
                            <a:lnTo>
                              <a:pt x="82" y="55"/>
                            </a:lnTo>
                            <a:lnTo>
                              <a:pt x="107" y="36"/>
                            </a:lnTo>
                            <a:lnTo>
                              <a:pt x="131" y="21"/>
                            </a:lnTo>
                            <a:lnTo>
                              <a:pt x="155" y="11"/>
                            </a:lnTo>
                            <a:lnTo>
                              <a:pt x="178" y="3"/>
                            </a:lnTo>
                            <a:lnTo>
                              <a:pt x="194" y="0"/>
                            </a:lnTo>
                          </a:path>
                        </a:pathLst>
                      </a:custGeom>
                      <a:noFill/>
                      <a:ln w="4680">
                        <a:solidFill>
                          <a:srgbClr val="a000a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520" bIns="25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7395" name=""/>
                    <p:cNvGrpSpPr/>
                    <p:nvPr/>
                  </p:nvGrpSpPr>
                  <p:grpSpPr>
                    <a:xfrm>
                      <a:off x="5061960" y="1581840"/>
                      <a:ext cx="55080" cy="58320"/>
                      <a:chOff x="5061960" y="1581840"/>
                      <a:chExt cx="55080" cy="58320"/>
                    </a:xfrm>
                  </p:grpSpPr>
                  <p:sp>
                    <p:nvSpPr>
                      <p:cNvPr id="7396" name=""/>
                      <p:cNvSpPr/>
                      <p:nvPr/>
                    </p:nvSpPr>
                    <p:spPr>
                      <a:xfrm>
                        <a:off x="5061960" y="1584720"/>
                        <a:ext cx="49320" cy="489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98" h="160">
                            <a:moveTo>
                              <a:pt x="0" y="160"/>
                            </a:moveTo>
                            <a:lnTo>
                              <a:pt x="18" y="131"/>
                            </a:lnTo>
                            <a:lnTo>
                              <a:pt x="37" y="107"/>
                            </a:lnTo>
                            <a:lnTo>
                              <a:pt x="58" y="81"/>
                            </a:lnTo>
                            <a:lnTo>
                              <a:pt x="82" y="56"/>
                            </a:lnTo>
                            <a:lnTo>
                              <a:pt x="106" y="37"/>
                            </a:lnTo>
                            <a:lnTo>
                              <a:pt x="130" y="23"/>
                            </a:lnTo>
                            <a:lnTo>
                              <a:pt x="149" y="12"/>
                            </a:lnTo>
                            <a:lnTo>
                              <a:pt x="168" y="6"/>
                            </a:lnTo>
                            <a:lnTo>
                              <a:pt x="198" y="0"/>
                            </a:lnTo>
                          </a:path>
                        </a:pathLst>
                      </a:custGeom>
                      <a:noFill/>
                      <a:ln w="25560">
                        <a:solidFill>
                          <a:srgbClr val="60006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160" bIns="21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397" name=""/>
                      <p:cNvSpPr/>
                      <p:nvPr/>
                    </p:nvSpPr>
                    <p:spPr>
                      <a:xfrm>
                        <a:off x="5069160" y="1591200"/>
                        <a:ext cx="47880" cy="489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95" h="159">
                            <a:moveTo>
                              <a:pt x="0" y="159"/>
                            </a:moveTo>
                            <a:lnTo>
                              <a:pt x="19" y="131"/>
                            </a:lnTo>
                            <a:lnTo>
                              <a:pt x="37" y="106"/>
                            </a:lnTo>
                            <a:lnTo>
                              <a:pt x="59" y="79"/>
                            </a:lnTo>
                            <a:lnTo>
                              <a:pt x="81" y="56"/>
                            </a:lnTo>
                            <a:lnTo>
                              <a:pt x="107" y="36"/>
                            </a:lnTo>
                            <a:lnTo>
                              <a:pt x="130" y="22"/>
                            </a:lnTo>
                            <a:lnTo>
                              <a:pt x="155" y="12"/>
                            </a:lnTo>
                            <a:lnTo>
                              <a:pt x="177" y="4"/>
                            </a:lnTo>
                            <a:lnTo>
                              <a:pt x="195" y="0"/>
                            </a:lnTo>
                          </a:path>
                        </a:pathLst>
                      </a:custGeom>
                      <a:noFill/>
                      <a:ln w="11160">
                        <a:solidFill>
                          <a:srgbClr val="40004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160" bIns="21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398" name=""/>
                      <p:cNvSpPr/>
                      <p:nvPr/>
                    </p:nvSpPr>
                    <p:spPr>
                      <a:xfrm>
                        <a:off x="5061960" y="1581840"/>
                        <a:ext cx="47880" cy="47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94" h="159">
                            <a:moveTo>
                              <a:pt x="0" y="159"/>
                            </a:moveTo>
                            <a:lnTo>
                              <a:pt x="18" y="130"/>
                            </a:lnTo>
                            <a:lnTo>
                              <a:pt x="37" y="106"/>
                            </a:lnTo>
                            <a:lnTo>
                              <a:pt x="58" y="80"/>
                            </a:lnTo>
                            <a:lnTo>
                              <a:pt x="82" y="55"/>
                            </a:lnTo>
                            <a:lnTo>
                              <a:pt x="106" y="36"/>
                            </a:lnTo>
                            <a:lnTo>
                              <a:pt x="130" y="21"/>
                            </a:lnTo>
                            <a:lnTo>
                              <a:pt x="154" y="11"/>
                            </a:lnTo>
                            <a:lnTo>
                              <a:pt x="177" y="3"/>
                            </a:lnTo>
                            <a:lnTo>
                              <a:pt x="194" y="0"/>
                            </a:lnTo>
                          </a:path>
                        </a:pathLst>
                      </a:custGeom>
                      <a:noFill/>
                      <a:ln w="4680">
                        <a:solidFill>
                          <a:srgbClr val="a000a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720" bIns="7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7399" name=""/>
                  <p:cNvGrpSpPr/>
                  <p:nvPr/>
                </p:nvGrpSpPr>
                <p:grpSpPr>
                  <a:xfrm>
                    <a:off x="4764960" y="1530000"/>
                    <a:ext cx="263160" cy="84240"/>
                    <a:chOff x="4764960" y="1530000"/>
                    <a:chExt cx="263160" cy="84240"/>
                  </a:xfrm>
                </p:grpSpPr>
                <p:grpSp>
                  <p:nvGrpSpPr>
                    <p:cNvPr id="7400" name=""/>
                    <p:cNvGrpSpPr/>
                    <p:nvPr/>
                  </p:nvGrpSpPr>
                  <p:grpSpPr>
                    <a:xfrm>
                      <a:off x="4796640" y="1569960"/>
                      <a:ext cx="183240" cy="44280"/>
                      <a:chOff x="4796640" y="1569960"/>
                      <a:chExt cx="183240" cy="44280"/>
                    </a:xfrm>
                  </p:grpSpPr>
                  <p:grpSp>
                    <p:nvGrpSpPr>
                      <p:cNvPr id="7401" name=""/>
                      <p:cNvGrpSpPr/>
                      <p:nvPr/>
                    </p:nvGrpSpPr>
                    <p:grpSpPr>
                      <a:xfrm>
                        <a:off x="4804200" y="1569960"/>
                        <a:ext cx="175680" cy="44280"/>
                        <a:chOff x="4804200" y="1569960"/>
                        <a:chExt cx="175680" cy="44280"/>
                      </a:xfrm>
                    </p:grpSpPr>
                    <p:sp>
                      <p:nvSpPr>
                        <p:cNvPr id="7402" name=""/>
                        <p:cNvSpPr/>
                        <p:nvPr/>
                      </p:nvSpPr>
                      <p:spPr>
                        <a:xfrm>
                          <a:off x="4805280" y="1574280"/>
                          <a:ext cx="172080" cy="306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694" h="101">
                              <a:moveTo>
                                <a:pt x="0" y="80"/>
                              </a:moveTo>
                              <a:lnTo>
                                <a:pt x="42" y="67"/>
                              </a:lnTo>
                              <a:lnTo>
                                <a:pt x="85" y="54"/>
                              </a:lnTo>
                              <a:lnTo>
                                <a:pt x="143" y="40"/>
                              </a:lnTo>
                              <a:lnTo>
                                <a:pt x="205" y="27"/>
                              </a:lnTo>
                              <a:lnTo>
                                <a:pt x="268" y="14"/>
                              </a:lnTo>
                              <a:lnTo>
                                <a:pt x="315" y="8"/>
                              </a:lnTo>
                              <a:lnTo>
                                <a:pt x="372" y="2"/>
                              </a:lnTo>
                              <a:lnTo>
                                <a:pt x="433" y="0"/>
                              </a:lnTo>
                              <a:lnTo>
                                <a:pt x="490" y="3"/>
                              </a:lnTo>
                              <a:lnTo>
                                <a:pt x="540" y="6"/>
                              </a:lnTo>
                              <a:lnTo>
                                <a:pt x="590" y="14"/>
                              </a:lnTo>
                              <a:lnTo>
                                <a:pt x="617" y="25"/>
                              </a:lnTo>
                              <a:lnTo>
                                <a:pt x="642" y="39"/>
                              </a:lnTo>
                              <a:lnTo>
                                <a:pt x="663" y="56"/>
                              </a:lnTo>
                              <a:lnTo>
                                <a:pt x="685" y="83"/>
                              </a:lnTo>
                              <a:lnTo>
                                <a:pt x="694" y="101"/>
                              </a:lnTo>
                            </a:path>
                          </a:pathLst>
                        </a:custGeom>
                        <a:noFill/>
                        <a:ln w="25560">
                          <a:solidFill>
                            <a:srgbClr val="60006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6200" bIns="-162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403" name=""/>
                        <p:cNvSpPr/>
                        <p:nvPr/>
                      </p:nvSpPr>
                      <p:spPr>
                        <a:xfrm>
                          <a:off x="4804200" y="1583640"/>
                          <a:ext cx="170640" cy="306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694" h="100">
                              <a:moveTo>
                                <a:pt x="0" y="80"/>
                              </a:moveTo>
                              <a:lnTo>
                                <a:pt x="41" y="66"/>
                              </a:lnTo>
                              <a:lnTo>
                                <a:pt x="84" y="54"/>
                              </a:lnTo>
                              <a:lnTo>
                                <a:pt x="143" y="40"/>
                              </a:lnTo>
                              <a:lnTo>
                                <a:pt x="205" y="26"/>
                              </a:lnTo>
                              <a:lnTo>
                                <a:pt x="267" y="14"/>
                              </a:lnTo>
                              <a:lnTo>
                                <a:pt x="315" y="8"/>
                              </a:lnTo>
                              <a:lnTo>
                                <a:pt x="372" y="2"/>
                              </a:lnTo>
                              <a:lnTo>
                                <a:pt x="433" y="0"/>
                              </a:lnTo>
                              <a:lnTo>
                                <a:pt x="489" y="3"/>
                              </a:lnTo>
                              <a:lnTo>
                                <a:pt x="540" y="6"/>
                              </a:lnTo>
                              <a:lnTo>
                                <a:pt x="590" y="14"/>
                              </a:lnTo>
                              <a:lnTo>
                                <a:pt x="617" y="24"/>
                              </a:lnTo>
                              <a:lnTo>
                                <a:pt x="642" y="39"/>
                              </a:lnTo>
                              <a:lnTo>
                                <a:pt x="663" y="55"/>
                              </a:lnTo>
                              <a:lnTo>
                                <a:pt x="685" y="83"/>
                              </a:lnTo>
                              <a:lnTo>
                                <a:pt x="694" y="100"/>
                              </a:lnTo>
                            </a:path>
                          </a:pathLst>
                        </a:custGeom>
                        <a:noFill/>
                        <a:ln w="11160">
                          <a:solidFill>
                            <a:srgbClr val="40004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6200" bIns="-162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404" name=""/>
                        <p:cNvSpPr/>
                        <p:nvPr/>
                      </p:nvSpPr>
                      <p:spPr>
                        <a:xfrm>
                          <a:off x="4807800" y="1569960"/>
                          <a:ext cx="172080" cy="306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694" h="100">
                              <a:moveTo>
                                <a:pt x="0" y="80"/>
                              </a:moveTo>
                              <a:lnTo>
                                <a:pt x="42" y="66"/>
                              </a:lnTo>
                              <a:lnTo>
                                <a:pt x="85" y="54"/>
                              </a:lnTo>
                              <a:lnTo>
                                <a:pt x="143" y="40"/>
                              </a:lnTo>
                              <a:lnTo>
                                <a:pt x="204" y="26"/>
                              </a:lnTo>
                              <a:lnTo>
                                <a:pt x="268" y="14"/>
                              </a:lnTo>
                              <a:lnTo>
                                <a:pt x="315" y="8"/>
                              </a:lnTo>
                              <a:lnTo>
                                <a:pt x="372" y="2"/>
                              </a:lnTo>
                              <a:lnTo>
                                <a:pt x="434" y="0"/>
                              </a:lnTo>
                              <a:lnTo>
                                <a:pt x="490" y="3"/>
                              </a:lnTo>
                              <a:lnTo>
                                <a:pt x="540" y="6"/>
                              </a:lnTo>
                              <a:lnTo>
                                <a:pt x="590" y="14"/>
                              </a:lnTo>
                              <a:lnTo>
                                <a:pt x="618" y="24"/>
                              </a:lnTo>
                              <a:lnTo>
                                <a:pt x="642" y="39"/>
                              </a:lnTo>
                              <a:lnTo>
                                <a:pt x="664" y="55"/>
                              </a:lnTo>
                              <a:lnTo>
                                <a:pt x="685" y="83"/>
                              </a:lnTo>
                              <a:lnTo>
                                <a:pt x="694" y="100"/>
                              </a:lnTo>
                            </a:path>
                          </a:pathLst>
                        </a:custGeom>
                        <a:noFill/>
                        <a:ln w="4680">
                          <a:solidFill>
                            <a:srgbClr val="a000a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6200" bIns="-162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7405" name=""/>
                      <p:cNvSpPr/>
                      <p:nvPr/>
                    </p:nvSpPr>
                    <p:spPr>
                      <a:xfrm>
                        <a:off x="4796640" y="1589760"/>
                        <a:ext cx="10080" cy="21600"/>
                      </a:xfrm>
                      <a:prstGeom prst="ellipse">
                        <a:avLst/>
                      </a:prstGeom>
                      <a:solidFill>
                        <a:srgbClr val="200020"/>
                      </a:solidFill>
                      <a:ln w="3240">
                        <a:solidFill>
                          <a:srgbClr val="80008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0960" bIns="-309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7406" name=""/>
                    <p:cNvGrpSpPr/>
                    <p:nvPr/>
                  </p:nvGrpSpPr>
                  <p:grpSpPr>
                    <a:xfrm>
                      <a:off x="4764960" y="1530000"/>
                      <a:ext cx="263160" cy="64440"/>
                      <a:chOff x="4764960" y="1530000"/>
                      <a:chExt cx="263160" cy="64440"/>
                    </a:xfrm>
                  </p:grpSpPr>
                  <p:grpSp>
                    <p:nvGrpSpPr>
                      <p:cNvPr id="7407" name=""/>
                      <p:cNvGrpSpPr/>
                      <p:nvPr/>
                    </p:nvGrpSpPr>
                    <p:grpSpPr>
                      <a:xfrm>
                        <a:off x="4771080" y="1530000"/>
                        <a:ext cx="257040" cy="64440"/>
                        <a:chOff x="4771080" y="1530000"/>
                        <a:chExt cx="257040" cy="64440"/>
                      </a:xfrm>
                    </p:grpSpPr>
                    <p:sp>
                      <p:nvSpPr>
                        <p:cNvPr id="7408" name=""/>
                        <p:cNvSpPr/>
                        <p:nvPr/>
                      </p:nvSpPr>
                      <p:spPr>
                        <a:xfrm>
                          <a:off x="4773600" y="1537560"/>
                          <a:ext cx="249840" cy="442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012" h="148">
                              <a:moveTo>
                                <a:pt x="0" y="117"/>
                              </a:moveTo>
                              <a:lnTo>
                                <a:pt x="60" y="98"/>
                              </a:lnTo>
                              <a:lnTo>
                                <a:pt x="123" y="80"/>
                              </a:lnTo>
                              <a:lnTo>
                                <a:pt x="207" y="59"/>
                              </a:lnTo>
                              <a:lnTo>
                                <a:pt x="298" y="39"/>
                              </a:lnTo>
                              <a:lnTo>
                                <a:pt x="390" y="22"/>
                              </a:lnTo>
                              <a:lnTo>
                                <a:pt x="459" y="12"/>
                              </a:lnTo>
                              <a:lnTo>
                                <a:pt x="543" y="3"/>
                              </a:lnTo>
                              <a:lnTo>
                                <a:pt x="632" y="0"/>
                              </a:lnTo>
                              <a:lnTo>
                                <a:pt x="714" y="4"/>
                              </a:lnTo>
                              <a:lnTo>
                                <a:pt x="788" y="9"/>
                              </a:lnTo>
                              <a:lnTo>
                                <a:pt x="861" y="22"/>
                              </a:lnTo>
                              <a:lnTo>
                                <a:pt x="901" y="36"/>
                              </a:lnTo>
                              <a:lnTo>
                                <a:pt x="937" y="58"/>
                              </a:lnTo>
                              <a:lnTo>
                                <a:pt x="967" y="81"/>
                              </a:lnTo>
                              <a:lnTo>
                                <a:pt x="999" y="122"/>
                              </a:lnTo>
                              <a:lnTo>
                                <a:pt x="1012" y="148"/>
                              </a:lnTo>
                            </a:path>
                          </a:pathLst>
                        </a:custGeom>
                        <a:noFill/>
                        <a:ln w="25560">
                          <a:solidFill>
                            <a:srgbClr val="60006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520" bIns="-25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409" name=""/>
                        <p:cNvSpPr/>
                        <p:nvPr/>
                      </p:nvSpPr>
                      <p:spPr>
                        <a:xfrm>
                          <a:off x="4771080" y="1550160"/>
                          <a:ext cx="251280" cy="442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012" h="147">
                              <a:moveTo>
                                <a:pt x="0" y="117"/>
                              </a:moveTo>
                              <a:lnTo>
                                <a:pt x="60" y="98"/>
                              </a:lnTo>
                              <a:lnTo>
                                <a:pt x="122" y="79"/>
                              </a:lnTo>
                              <a:lnTo>
                                <a:pt x="208" y="59"/>
                              </a:lnTo>
                              <a:lnTo>
                                <a:pt x="299" y="39"/>
                              </a:lnTo>
                              <a:lnTo>
                                <a:pt x="390" y="21"/>
                              </a:lnTo>
                              <a:lnTo>
                                <a:pt x="459" y="11"/>
                              </a:lnTo>
                              <a:lnTo>
                                <a:pt x="543" y="3"/>
                              </a:lnTo>
                              <a:lnTo>
                                <a:pt x="633" y="0"/>
                              </a:lnTo>
                              <a:lnTo>
                                <a:pt x="713" y="4"/>
                              </a:lnTo>
                              <a:lnTo>
                                <a:pt x="788" y="8"/>
                              </a:lnTo>
                              <a:lnTo>
                                <a:pt x="861" y="21"/>
                              </a:lnTo>
                              <a:lnTo>
                                <a:pt x="902" y="36"/>
                              </a:lnTo>
                              <a:lnTo>
                                <a:pt x="937" y="57"/>
                              </a:lnTo>
                              <a:lnTo>
                                <a:pt x="968" y="81"/>
                              </a:lnTo>
                              <a:lnTo>
                                <a:pt x="999" y="121"/>
                              </a:lnTo>
                              <a:lnTo>
                                <a:pt x="1012" y="147"/>
                              </a:lnTo>
                            </a:path>
                          </a:pathLst>
                        </a:custGeom>
                        <a:noFill/>
                        <a:ln w="11160">
                          <a:solidFill>
                            <a:srgbClr val="40004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520" bIns="-25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410" name=""/>
                        <p:cNvSpPr/>
                        <p:nvPr/>
                      </p:nvSpPr>
                      <p:spPr>
                        <a:xfrm>
                          <a:off x="4778280" y="1530000"/>
                          <a:ext cx="249840" cy="442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012" h="147">
                              <a:moveTo>
                                <a:pt x="0" y="117"/>
                              </a:moveTo>
                              <a:lnTo>
                                <a:pt x="60" y="98"/>
                              </a:lnTo>
                              <a:lnTo>
                                <a:pt x="123" y="79"/>
                              </a:lnTo>
                              <a:lnTo>
                                <a:pt x="208" y="59"/>
                              </a:lnTo>
                              <a:lnTo>
                                <a:pt x="299" y="39"/>
                              </a:lnTo>
                              <a:lnTo>
                                <a:pt x="390" y="21"/>
                              </a:lnTo>
                              <a:lnTo>
                                <a:pt x="458" y="12"/>
                              </a:lnTo>
                              <a:lnTo>
                                <a:pt x="542" y="3"/>
                              </a:lnTo>
                              <a:lnTo>
                                <a:pt x="632" y="0"/>
                              </a:lnTo>
                              <a:lnTo>
                                <a:pt x="713" y="5"/>
                              </a:lnTo>
                              <a:lnTo>
                                <a:pt x="788" y="9"/>
                              </a:lnTo>
                              <a:lnTo>
                                <a:pt x="861" y="21"/>
                              </a:lnTo>
                              <a:lnTo>
                                <a:pt x="901" y="36"/>
                              </a:lnTo>
                              <a:lnTo>
                                <a:pt x="937" y="57"/>
                              </a:lnTo>
                              <a:lnTo>
                                <a:pt x="968" y="82"/>
                              </a:lnTo>
                              <a:lnTo>
                                <a:pt x="998" y="122"/>
                              </a:lnTo>
                              <a:lnTo>
                                <a:pt x="1012" y="147"/>
                              </a:lnTo>
                            </a:path>
                          </a:pathLst>
                        </a:custGeom>
                        <a:noFill/>
                        <a:ln w="4680">
                          <a:solidFill>
                            <a:srgbClr val="a000a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520" bIns="-25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7411" name=""/>
                      <p:cNvSpPr/>
                      <p:nvPr/>
                    </p:nvSpPr>
                    <p:spPr>
                      <a:xfrm>
                        <a:off x="4764960" y="1562400"/>
                        <a:ext cx="12240" cy="25920"/>
                      </a:xfrm>
                      <a:prstGeom prst="ellipse">
                        <a:avLst/>
                      </a:prstGeom>
                      <a:solidFill>
                        <a:srgbClr val="200020"/>
                      </a:solidFill>
                      <a:ln w="3240">
                        <a:solidFill>
                          <a:srgbClr val="80008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8080" bIns="-280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7412" name=""/>
                <p:cNvGrpSpPr/>
                <p:nvPr/>
              </p:nvGrpSpPr>
              <p:grpSpPr>
                <a:xfrm>
                  <a:off x="4775760" y="1581120"/>
                  <a:ext cx="425880" cy="470880"/>
                  <a:chOff x="4775760" y="1581120"/>
                  <a:chExt cx="425880" cy="470880"/>
                </a:xfrm>
              </p:grpSpPr>
              <p:grpSp>
                <p:nvGrpSpPr>
                  <p:cNvPr id="7413" name=""/>
                  <p:cNvGrpSpPr/>
                  <p:nvPr/>
                </p:nvGrpSpPr>
                <p:grpSpPr>
                  <a:xfrm>
                    <a:off x="4775760" y="1581120"/>
                    <a:ext cx="425880" cy="470880"/>
                    <a:chOff x="4775760" y="1581120"/>
                    <a:chExt cx="425880" cy="470880"/>
                  </a:xfrm>
                </p:grpSpPr>
                <p:grpSp>
                  <p:nvGrpSpPr>
                    <p:cNvPr id="7414" name=""/>
                    <p:cNvGrpSpPr/>
                    <p:nvPr/>
                  </p:nvGrpSpPr>
                  <p:grpSpPr>
                    <a:xfrm>
                      <a:off x="4775760" y="1581120"/>
                      <a:ext cx="425880" cy="470880"/>
                      <a:chOff x="4775760" y="1581120"/>
                      <a:chExt cx="425880" cy="470880"/>
                    </a:xfrm>
                  </p:grpSpPr>
                  <p:grpSp>
                    <p:nvGrpSpPr>
                      <p:cNvPr id="7415" name=""/>
                      <p:cNvGrpSpPr/>
                      <p:nvPr/>
                    </p:nvGrpSpPr>
                    <p:grpSpPr>
                      <a:xfrm>
                        <a:off x="4775760" y="1581120"/>
                        <a:ext cx="425880" cy="470880"/>
                        <a:chOff x="4775760" y="1581120"/>
                        <a:chExt cx="425880" cy="470880"/>
                      </a:xfrm>
                    </p:grpSpPr>
                    <p:grpSp>
                      <p:nvGrpSpPr>
                        <p:cNvPr id="7416" name=""/>
                        <p:cNvGrpSpPr/>
                        <p:nvPr/>
                      </p:nvGrpSpPr>
                      <p:grpSpPr>
                        <a:xfrm>
                          <a:off x="4775760" y="1581120"/>
                          <a:ext cx="425880" cy="470880"/>
                          <a:chOff x="4775760" y="1581120"/>
                          <a:chExt cx="425880" cy="470880"/>
                        </a:xfrm>
                      </p:grpSpPr>
                      <p:sp>
                        <p:nvSpPr>
                          <p:cNvPr id="7417" name=""/>
                          <p:cNvSpPr/>
                          <p:nvPr/>
                        </p:nvSpPr>
                        <p:spPr>
                          <a:xfrm>
                            <a:off x="4775760" y="1581120"/>
                            <a:ext cx="425880" cy="4708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716" h="1521">
                                <a:moveTo>
                                  <a:pt x="499" y="282"/>
                                </a:moveTo>
                                <a:lnTo>
                                  <a:pt x="548" y="246"/>
                                </a:lnTo>
                                <a:lnTo>
                                  <a:pt x="591" y="194"/>
                                </a:lnTo>
                                <a:lnTo>
                                  <a:pt x="634" y="140"/>
                                </a:lnTo>
                                <a:lnTo>
                                  <a:pt x="673" y="105"/>
                                </a:lnTo>
                                <a:lnTo>
                                  <a:pt x="716" y="70"/>
                                </a:lnTo>
                                <a:lnTo>
                                  <a:pt x="768" y="40"/>
                                </a:lnTo>
                                <a:lnTo>
                                  <a:pt x="806" y="19"/>
                                </a:lnTo>
                                <a:lnTo>
                                  <a:pt x="854" y="9"/>
                                </a:lnTo>
                                <a:lnTo>
                                  <a:pt x="906" y="0"/>
                                </a:lnTo>
                                <a:lnTo>
                                  <a:pt x="960" y="6"/>
                                </a:lnTo>
                                <a:lnTo>
                                  <a:pt x="1004" y="13"/>
                                </a:lnTo>
                                <a:lnTo>
                                  <a:pt x="1040" y="22"/>
                                </a:lnTo>
                                <a:lnTo>
                                  <a:pt x="1084" y="43"/>
                                </a:lnTo>
                                <a:lnTo>
                                  <a:pt x="1130" y="64"/>
                                </a:lnTo>
                                <a:lnTo>
                                  <a:pt x="1168" y="84"/>
                                </a:lnTo>
                                <a:lnTo>
                                  <a:pt x="1211" y="116"/>
                                </a:lnTo>
                                <a:lnTo>
                                  <a:pt x="1244" y="152"/>
                                </a:lnTo>
                                <a:lnTo>
                                  <a:pt x="1270" y="199"/>
                                </a:lnTo>
                                <a:lnTo>
                                  <a:pt x="1281" y="227"/>
                                </a:lnTo>
                                <a:lnTo>
                                  <a:pt x="1283" y="263"/>
                                </a:lnTo>
                                <a:lnTo>
                                  <a:pt x="1298" y="294"/>
                                </a:lnTo>
                                <a:lnTo>
                                  <a:pt x="1319" y="323"/>
                                </a:lnTo>
                                <a:lnTo>
                                  <a:pt x="1347" y="343"/>
                                </a:lnTo>
                                <a:lnTo>
                                  <a:pt x="1381" y="360"/>
                                </a:lnTo>
                                <a:lnTo>
                                  <a:pt x="1401" y="378"/>
                                </a:lnTo>
                                <a:lnTo>
                                  <a:pt x="1418" y="404"/>
                                </a:lnTo>
                                <a:lnTo>
                                  <a:pt x="1444" y="438"/>
                                </a:lnTo>
                                <a:lnTo>
                                  <a:pt x="1472" y="471"/>
                                </a:lnTo>
                                <a:lnTo>
                                  <a:pt x="1503" y="505"/>
                                </a:lnTo>
                                <a:lnTo>
                                  <a:pt x="1534" y="539"/>
                                </a:lnTo>
                                <a:lnTo>
                                  <a:pt x="1567" y="601"/>
                                </a:lnTo>
                                <a:lnTo>
                                  <a:pt x="1591" y="661"/>
                                </a:lnTo>
                                <a:lnTo>
                                  <a:pt x="1609" y="707"/>
                                </a:lnTo>
                                <a:lnTo>
                                  <a:pt x="1622" y="769"/>
                                </a:lnTo>
                                <a:lnTo>
                                  <a:pt x="1641" y="832"/>
                                </a:lnTo>
                                <a:lnTo>
                                  <a:pt x="1656" y="891"/>
                                </a:lnTo>
                                <a:lnTo>
                                  <a:pt x="1668" y="947"/>
                                </a:lnTo>
                                <a:lnTo>
                                  <a:pt x="1680" y="1005"/>
                                </a:lnTo>
                                <a:lnTo>
                                  <a:pt x="1695" y="1057"/>
                                </a:lnTo>
                                <a:lnTo>
                                  <a:pt x="1702" y="1122"/>
                                </a:lnTo>
                                <a:lnTo>
                                  <a:pt x="1710" y="1190"/>
                                </a:lnTo>
                                <a:lnTo>
                                  <a:pt x="1716" y="1253"/>
                                </a:lnTo>
                                <a:lnTo>
                                  <a:pt x="1708" y="1301"/>
                                </a:lnTo>
                                <a:lnTo>
                                  <a:pt x="1702" y="1340"/>
                                </a:lnTo>
                                <a:lnTo>
                                  <a:pt x="1698" y="1374"/>
                                </a:lnTo>
                                <a:lnTo>
                                  <a:pt x="1683" y="1404"/>
                                </a:lnTo>
                                <a:lnTo>
                                  <a:pt x="1658" y="1435"/>
                                </a:lnTo>
                                <a:lnTo>
                                  <a:pt x="1621" y="1463"/>
                                </a:lnTo>
                                <a:lnTo>
                                  <a:pt x="1576" y="1480"/>
                                </a:lnTo>
                                <a:lnTo>
                                  <a:pt x="1525" y="1491"/>
                                </a:lnTo>
                                <a:lnTo>
                                  <a:pt x="1464" y="1499"/>
                                </a:lnTo>
                                <a:lnTo>
                                  <a:pt x="1408" y="1506"/>
                                </a:lnTo>
                                <a:lnTo>
                                  <a:pt x="1346" y="1509"/>
                                </a:lnTo>
                                <a:lnTo>
                                  <a:pt x="1273" y="1516"/>
                                </a:lnTo>
                                <a:lnTo>
                                  <a:pt x="1210" y="1521"/>
                                </a:lnTo>
                                <a:lnTo>
                                  <a:pt x="1152" y="1521"/>
                                </a:lnTo>
                                <a:lnTo>
                                  <a:pt x="1094" y="1516"/>
                                </a:lnTo>
                                <a:lnTo>
                                  <a:pt x="1042" y="1509"/>
                                </a:lnTo>
                                <a:lnTo>
                                  <a:pt x="1001" y="1505"/>
                                </a:lnTo>
                                <a:lnTo>
                                  <a:pt x="957" y="1493"/>
                                </a:lnTo>
                                <a:lnTo>
                                  <a:pt x="903" y="1478"/>
                                </a:lnTo>
                                <a:lnTo>
                                  <a:pt x="843" y="1459"/>
                                </a:lnTo>
                                <a:lnTo>
                                  <a:pt x="796" y="1441"/>
                                </a:lnTo>
                                <a:lnTo>
                                  <a:pt x="741" y="1419"/>
                                </a:lnTo>
                                <a:lnTo>
                                  <a:pt x="694" y="1399"/>
                                </a:lnTo>
                                <a:lnTo>
                                  <a:pt x="647" y="1375"/>
                                </a:lnTo>
                                <a:lnTo>
                                  <a:pt x="597" y="1349"/>
                                </a:lnTo>
                                <a:lnTo>
                                  <a:pt x="550" y="1321"/>
                                </a:lnTo>
                                <a:lnTo>
                                  <a:pt x="503" y="1286"/>
                                </a:lnTo>
                                <a:lnTo>
                                  <a:pt x="460" y="1252"/>
                                </a:lnTo>
                                <a:lnTo>
                                  <a:pt x="429" y="1224"/>
                                </a:lnTo>
                                <a:lnTo>
                                  <a:pt x="388" y="1170"/>
                                </a:lnTo>
                                <a:lnTo>
                                  <a:pt x="355" y="1127"/>
                                </a:lnTo>
                                <a:lnTo>
                                  <a:pt x="321" y="1079"/>
                                </a:lnTo>
                                <a:lnTo>
                                  <a:pt x="301" y="1051"/>
                                </a:lnTo>
                                <a:lnTo>
                                  <a:pt x="285" y="1014"/>
                                </a:lnTo>
                                <a:lnTo>
                                  <a:pt x="255" y="1006"/>
                                </a:lnTo>
                                <a:lnTo>
                                  <a:pt x="221" y="996"/>
                                </a:lnTo>
                                <a:lnTo>
                                  <a:pt x="190" y="981"/>
                                </a:lnTo>
                                <a:lnTo>
                                  <a:pt x="150" y="957"/>
                                </a:lnTo>
                                <a:lnTo>
                                  <a:pt x="111" y="928"/>
                                </a:lnTo>
                                <a:lnTo>
                                  <a:pt x="85" y="894"/>
                                </a:lnTo>
                                <a:lnTo>
                                  <a:pt x="55" y="854"/>
                                </a:lnTo>
                                <a:lnTo>
                                  <a:pt x="33" y="817"/>
                                </a:lnTo>
                                <a:lnTo>
                                  <a:pt x="12" y="777"/>
                                </a:lnTo>
                                <a:lnTo>
                                  <a:pt x="4" y="738"/>
                                </a:lnTo>
                                <a:lnTo>
                                  <a:pt x="0" y="684"/>
                                </a:lnTo>
                                <a:lnTo>
                                  <a:pt x="3" y="641"/>
                                </a:lnTo>
                                <a:lnTo>
                                  <a:pt x="12" y="597"/>
                                </a:lnTo>
                                <a:lnTo>
                                  <a:pt x="27" y="547"/>
                                </a:lnTo>
                                <a:lnTo>
                                  <a:pt x="49" y="499"/>
                                </a:lnTo>
                                <a:lnTo>
                                  <a:pt x="76" y="451"/>
                                </a:lnTo>
                                <a:lnTo>
                                  <a:pt x="107" y="409"/>
                                </a:lnTo>
                                <a:lnTo>
                                  <a:pt x="134" y="378"/>
                                </a:lnTo>
                                <a:lnTo>
                                  <a:pt x="168" y="347"/>
                                </a:lnTo>
                                <a:lnTo>
                                  <a:pt x="208" y="320"/>
                                </a:lnTo>
                                <a:lnTo>
                                  <a:pt x="248" y="301"/>
                                </a:lnTo>
                                <a:lnTo>
                                  <a:pt x="298" y="289"/>
                                </a:lnTo>
                                <a:lnTo>
                                  <a:pt x="360" y="281"/>
                                </a:lnTo>
                                <a:lnTo>
                                  <a:pt x="415" y="282"/>
                                </a:lnTo>
                                <a:lnTo>
                                  <a:pt x="466" y="288"/>
                                </a:lnTo>
                                <a:lnTo>
                                  <a:pt x="499" y="282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ffc08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7418" name=""/>
                          <p:cNvSpPr/>
                          <p:nvPr/>
                        </p:nvSpPr>
                        <p:spPr>
                          <a:xfrm>
                            <a:off x="4863600" y="1698120"/>
                            <a:ext cx="338040" cy="35352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361" h="1143">
                                <a:moveTo>
                                  <a:pt x="1051" y="53"/>
                                </a:moveTo>
                                <a:lnTo>
                                  <a:pt x="1042" y="25"/>
                                </a:lnTo>
                                <a:lnTo>
                                  <a:pt x="1046" y="0"/>
                                </a:lnTo>
                                <a:lnTo>
                                  <a:pt x="1063" y="27"/>
                                </a:lnTo>
                                <a:lnTo>
                                  <a:pt x="1089" y="61"/>
                                </a:lnTo>
                                <a:lnTo>
                                  <a:pt x="1117" y="94"/>
                                </a:lnTo>
                                <a:lnTo>
                                  <a:pt x="1148" y="128"/>
                                </a:lnTo>
                                <a:lnTo>
                                  <a:pt x="1179" y="162"/>
                                </a:lnTo>
                                <a:lnTo>
                                  <a:pt x="1212" y="224"/>
                                </a:lnTo>
                                <a:lnTo>
                                  <a:pt x="1236" y="284"/>
                                </a:lnTo>
                                <a:lnTo>
                                  <a:pt x="1254" y="329"/>
                                </a:lnTo>
                                <a:lnTo>
                                  <a:pt x="1267" y="391"/>
                                </a:lnTo>
                                <a:lnTo>
                                  <a:pt x="1286" y="454"/>
                                </a:lnTo>
                                <a:lnTo>
                                  <a:pt x="1301" y="513"/>
                                </a:lnTo>
                                <a:lnTo>
                                  <a:pt x="1313" y="569"/>
                                </a:lnTo>
                                <a:lnTo>
                                  <a:pt x="1325" y="627"/>
                                </a:lnTo>
                                <a:lnTo>
                                  <a:pt x="1340" y="679"/>
                                </a:lnTo>
                                <a:lnTo>
                                  <a:pt x="1347" y="744"/>
                                </a:lnTo>
                                <a:lnTo>
                                  <a:pt x="1355" y="813"/>
                                </a:lnTo>
                                <a:lnTo>
                                  <a:pt x="1361" y="875"/>
                                </a:lnTo>
                                <a:lnTo>
                                  <a:pt x="1353" y="923"/>
                                </a:lnTo>
                                <a:lnTo>
                                  <a:pt x="1347" y="962"/>
                                </a:lnTo>
                                <a:lnTo>
                                  <a:pt x="1343" y="996"/>
                                </a:lnTo>
                                <a:lnTo>
                                  <a:pt x="1328" y="1026"/>
                                </a:lnTo>
                                <a:lnTo>
                                  <a:pt x="1303" y="1057"/>
                                </a:lnTo>
                                <a:lnTo>
                                  <a:pt x="1266" y="1085"/>
                                </a:lnTo>
                                <a:lnTo>
                                  <a:pt x="1221" y="1102"/>
                                </a:lnTo>
                                <a:lnTo>
                                  <a:pt x="1170" y="1113"/>
                                </a:lnTo>
                                <a:lnTo>
                                  <a:pt x="1109" y="1121"/>
                                </a:lnTo>
                                <a:lnTo>
                                  <a:pt x="1053" y="1128"/>
                                </a:lnTo>
                                <a:lnTo>
                                  <a:pt x="992" y="1131"/>
                                </a:lnTo>
                                <a:lnTo>
                                  <a:pt x="918" y="1138"/>
                                </a:lnTo>
                                <a:lnTo>
                                  <a:pt x="855" y="1143"/>
                                </a:lnTo>
                                <a:lnTo>
                                  <a:pt x="797" y="1143"/>
                                </a:lnTo>
                                <a:lnTo>
                                  <a:pt x="739" y="1138"/>
                                </a:lnTo>
                                <a:lnTo>
                                  <a:pt x="687" y="1131"/>
                                </a:lnTo>
                                <a:lnTo>
                                  <a:pt x="646" y="1127"/>
                                </a:lnTo>
                                <a:lnTo>
                                  <a:pt x="602" y="1115"/>
                                </a:lnTo>
                                <a:lnTo>
                                  <a:pt x="548" y="1100"/>
                                </a:lnTo>
                                <a:lnTo>
                                  <a:pt x="488" y="1081"/>
                                </a:lnTo>
                                <a:lnTo>
                                  <a:pt x="441" y="1063"/>
                                </a:lnTo>
                                <a:lnTo>
                                  <a:pt x="386" y="1041"/>
                                </a:lnTo>
                                <a:lnTo>
                                  <a:pt x="341" y="1021"/>
                                </a:lnTo>
                                <a:lnTo>
                                  <a:pt x="293" y="997"/>
                                </a:lnTo>
                                <a:lnTo>
                                  <a:pt x="243" y="971"/>
                                </a:lnTo>
                                <a:lnTo>
                                  <a:pt x="196" y="943"/>
                                </a:lnTo>
                                <a:lnTo>
                                  <a:pt x="149" y="908"/>
                                </a:lnTo>
                                <a:lnTo>
                                  <a:pt x="106" y="874"/>
                                </a:lnTo>
                                <a:lnTo>
                                  <a:pt x="74" y="847"/>
                                </a:lnTo>
                                <a:lnTo>
                                  <a:pt x="33" y="793"/>
                                </a:lnTo>
                                <a:lnTo>
                                  <a:pt x="0" y="749"/>
                                </a:lnTo>
                                <a:lnTo>
                                  <a:pt x="29" y="760"/>
                                </a:lnTo>
                                <a:lnTo>
                                  <a:pt x="54" y="782"/>
                                </a:lnTo>
                                <a:lnTo>
                                  <a:pt x="84" y="819"/>
                                </a:lnTo>
                                <a:lnTo>
                                  <a:pt x="122" y="853"/>
                                </a:lnTo>
                                <a:lnTo>
                                  <a:pt x="157" y="879"/>
                                </a:lnTo>
                                <a:lnTo>
                                  <a:pt x="198" y="908"/>
                                </a:lnTo>
                                <a:lnTo>
                                  <a:pt x="236" y="932"/>
                                </a:lnTo>
                                <a:lnTo>
                                  <a:pt x="278" y="960"/>
                                </a:lnTo>
                                <a:lnTo>
                                  <a:pt x="318" y="976"/>
                                </a:lnTo>
                                <a:lnTo>
                                  <a:pt x="366" y="1001"/>
                                </a:lnTo>
                                <a:lnTo>
                                  <a:pt x="406" y="1013"/>
                                </a:lnTo>
                                <a:lnTo>
                                  <a:pt x="443" y="1033"/>
                                </a:lnTo>
                                <a:lnTo>
                                  <a:pt x="483" y="1047"/>
                                </a:lnTo>
                                <a:lnTo>
                                  <a:pt x="519" y="1058"/>
                                </a:lnTo>
                                <a:lnTo>
                                  <a:pt x="568" y="1078"/>
                                </a:lnTo>
                                <a:lnTo>
                                  <a:pt x="613" y="1085"/>
                                </a:lnTo>
                                <a:lnTo>
                                  <a:pt x="660" y="1093"/>
                                </a:lnTo>
                                <a:lnTo>
                                  <a:pt x="708" y="1100"/>
                                </a:lnTo>
                                <a:lnTo>
                                  <a:pt x="757" y="1106"/>
                                </a:lnTo>
                                <a:lnTo>
                                  <a:pt x="805" y="1109"/>
                                </a:lnTo>
                                <a:lnTo>
                                  <a:pt x="845" y="1107"/>
                                </a:lnTo>
                                <a:lnTo>
                                  <a:pt x="889" y="1106"/>
                                </a:lnTo>
                                <a:lnTo>
                                  <a:pt x="928" y="1104"/>
                                </a:lnTo>
                                <a:lnTo>
                                  <a:pt x="971" y="1100"/>
                                </a:lnTo>
                                <a:lnTo>
                                  <a:pt x="1012" y="1097"/>
                                </a:lnTo>
                                <a:lnTo>
                                  <a:pt x="1052" y="1090"/>
                                </a:lnTo>
                                <a:lnTo>
                                  <a:pt x="1098" y="1084"/>
                                </a:lnTo>
                                <a:lnTo>
                                  <a:pt x="1140" y="1081"/>
                                </a:lnTo>
                                <a:lnTo>
                                  <a:pt x="1163" y="1067"/>
                                </a:lnTo>
                                <a:lnTo>
                                  <a:pt x="1190" y="1047"/>
                                </a:lnTo>
                                <a:lnTo>
                                  <a:pt x="1216" y="1033"/>
                                </a:lnTo>
                                <a:lnTo>
                                  <a:pt x="1234" y="1008"/>
                                </a:lnTo>
                                <a:lnTo>
                                  <a:pt x="1251" y="980"/>
                                </a:lnTo>
                                <a:lnTo>
                                  <a:pt x="1265" y="952"/>
                                </a:lnTo>
                                <a:lnTo>
                                  <a:pt x="1280" y="921"/>
                                </a:lnTo>
                                <a:lnTo>
                                  <a:pt x="1290" y="888"/>
                                </a:lnTo>
                                <a:lnTo>
                                  <a:pt x="1302" y="867"/>
                                </a:lnTo>
                                <a:lnTo>
                                  <a:pt x="1297" y="809"/>
                                </a:lnTo>
                                <a:lnTo>
                                  <a:pt x="1293" y="750"/>
                                </a:lnTo>
                                <a:lnTo>
                                  <a:pt x="1290" y="692"/>
                                </a:lnTo>
                                <a:lnTo>
                                  <a:pt x="1287" y="644"/>
                                </a:lnTo>
                                <a:lnTo>
                                  <a:pt x="1277" y="604"/>
                                </a:lnTo>
                                <a:lnTo>
                                  <a:pt x="1266" y="558"/>
                                </a:lnTo>
                                <a:lnTo>
                                  <a:pt x="1253" y="516"/>
                                </a:lnTo>
                                <a:lnTo>
                                  <a:pt x="1245" y="479"/>
                                </a:lnTo>
                                <a:lnTo>
                                  <a:pt x="1234" y="436"/>
                                </a:lnTo>
                                <a:lnTo>
                                  <a:pt x="1220" y="387"/>
                                </a:lnTo>
                                <a:lnTo>
                                  <a:pt x="1208" y="337"/>
                                </a:lnTo>
                                <a:lnTo>
                                  <a:pt x="1203" y="299"/>
                                </a:lnTo>
                                <a:lnTo>
                                  <a:pt x="1180" y="263"/>
                                </a:lnTo>
                                <a:lnTo>
                                  <a:pt x="1159" y="232"/>
                                </a:lnTo>
                                <a:lnTo>
                                  <a:pt x="1137" y="192"/>
                                </a:lnTo>
                                <a:lnTo>
                                  <a:pt x="1113" y="149"/>
                                </a:lnTo>
                                <a:lnTo>
                                  <a:pt x="1092" y="113"/>
                                </a:lnTo>
                                <a:lnTo>
                                  <a:pt x="1070" y="84"/>
                                </a:lnTo>
                                <a:lnTo>
                                  <a:pt x="1051" y="53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ffa04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7419" name=""/>
                        <p:cNvSpPr/>
                        <p:nvPr/>
                      </p:nvSpPr>
                      <p:spPr>
                        <a:xfrm>
                          <a:off x="5000040" y="1840320"/>
                          <a:ext cx="119880" cy="1512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88" h="488">
                              <a:moveTo>
                                <a:pt x="22" y="0"/>
                              </a:moveTo>
                              <a:lnTo>
                                <a:pt x="57" y="24"/>
                              </a:lnTo>
                              <a:lnTo>
                                <a:pt x="89" y="55"/>
                              </a:lnTo>
                              <a:lnTo>
                                <a:pt x="122" y="89"/>
                              </a:lnTo>
                              <a:lnTo>
                                <a:pt x="158" y="130"/>
                              </a:lnTo>
                              <a:lnTo>
                                <a:pt x="197" y="173"/>
                              </a:lnTo>
                              <a:lnTo>
                                <a:pt x="243" y="221"/>
                              </a:lnTo>
                              <a:lnTo>
                                <a:pt x="290" y="273"/>
                              </a:lnTo>
                              <a:lnTo>
                                <a:pt x="323" y="313"/>
                              </a:lnTo>
                              <a:lnTo>
                                <a:pt x="352" y="339"/>
                              </a:lnTo>
                              <a:lnTo>
                                <a:pt x="381" y="364"/>
                              </a:lnTo>
                              <a:lnTo>
                                <a:pt x="413" y="386"/>
                              </a:lnTo>
                              <a:lnTo>
                                <a:pt x="444" y="412"/>
                              </a:lnTo>
                              <a:lnTo>
                                <a:pt x="470" y="433"/>
                              </a:lnTo>
                              <a:lnTo>
                                <a:pt x="484" y="449"/>
                              </a:lnTo>
                              <a:lnTo>
                                <a:pt x="488" y="466"/>
                              </a:lnTo>
                              <a:lnTo>
                                <a:pt x="485" y="479"/>
                              </a:lnTo>
                              <a:lnTo>
                                <a:pt x="476" y="486"/>
                              </a:lnTo>
                              <a:lnTo>
                                <a:pt x="462" y="488"/>
                              </a:lnTo>
                              <a:lnTo>
                                <a:pt x="444" y="482"/>
                              </a:lnTo>
                              <a:lnTo>
                                <a:pt x="417" y="463"/>
                              </a:lnTo>
                              <a:lnTo>
                                <a:pt x="390" y="448"/>
                              </a:lnTo>
                              <a:lnTo>
                                <a:pt x="365" y="436"/>
                              </a:lnTo>
                              <a:lnTo>
                                <a:pt x="336" y="411"/>
                              </a:lnTo>
                              <a:lnTo>
                                <a:pt x="308" y="389"/>
                              </a:lnTo>
                              <a:lnTo>
                                <a:pt x="274" y="361"/>
                              </a:lnTo>
                              <a:lnTo>
                                <a:pt x="243" y="336"/>
                              </a:lnTo>
                              <a:lnTo>
                                <a:pt x="208" y="307"/>
                              </a:lnTo>
                              <a:lnTo>
                                <a:pt x="179" y="281"/>
                              </a:lnTo>
                              <a:lnTo>
                                <a:pt x="155" y="252"/>
                              </a:lnTo>
                              <a:lnTo>
                                <a:pt x="130" y="228"/>
                              </a:lnTo>
                              <a:lnTo>
                                <a:pt x="116" y="208"/>
                              </a:lnTo>
                              <a:lnTo>
                                <a:pt x="92" y="176"/>
                              </a:lnTo>
                              <a:lnTo>
                                <a:pt x="71" y="142"/>
                              </a:lnTo>
                              <a:lnTo>
                                <a:pt x="49" y="109"/>
                              </a:lnTo>
                              <a:lnTo>
                                <a:pt x="31" y="79"/>
                              </a:lnTo>
                              <a:lnTo>
                                <a:pt x="15" y="52"/>
                              </a:lnTo>
                              <a:lnTo>
                                <a:pt x="4" y="30"/>
                              </a:lnTo>
                              <a:lnTo>
                                <a:pt x="0" y="15"/>
                              </a:lnTo>
                              <a:lnTo>
                                <a:pt x="4" y="5"/>
                              </a:lnTo>
                              <a:lnTo>
                                <a:pt x="22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e0c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7420" name=""/>
                      <p:cNvSpPr/>
                      <p:nvPr/>
                    </p:nvSpPr>
                    <p:spPr>
                      <a:xfrm>
                        <a:off x="5064120" y="1929960"/>
                        <a:ext cx="105120" cy="100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22" h="325">
                            <a:moveTo>
                              <a:pt x="422" y="0"/>
                            </a:moveTo>
                            <a:lnTo>
                              <a:pt x="422" y="44"/>
                            </a:lnTo>
                            <a:lnTo>
                              <a:pt x="421" y="99"/>
                            </a:lnTo>
                            <a:lnTo>
                              <a:pt x="415" y="148"/>
                            </a:lnTo>
                            <a:lnTo>
                              <a:pt x="403" y="188"/>
                            </a:lnTo>
                            <a:lnTo>
                              <a:pt x="383" y="215"/>
                            </a:lnTo>
                            <a:lnTo>
                              <a:pt x="359" y="238"/>
                            </a:lnTo>
                            <a:lnTo>
                              <a:pt x="325" y="260"/>
                            </a:lnTo>
                            <a:lnTo>
                              <a:pt x="290" y="279"/>
                            </a:lnTo>
                            <a:lnTo>
                              <a:pt x="239" y="300"/>
                            </a:lnTo>
                            <a:lnTo>
                              <a:pt x="193" y="313"/>
                            </a:lnTo>
                            <a:lnTo>
                              <a:pt x="141" y="320"/>
                            </a:lnTo>
                            <a:lnTo>
                              <a:pt x="95" y="325"/>
                            </a:lnTo>
                            <a:lnTo>
                              <a:pt x="47" y="323"/>
                            </a:lnTo>
                            <a:lnTo>
                              <a:pt x="0" y="320"/>
                            </a:lnTo>
                          </a:path>
                        </a:pathLst>
                      </a:custGeom>
                      <a:noFill/>
                      <a:ln w="3240">
                        <a:solidFill>
                          <a:srgbClr val="ff8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7421" name=""/>
                    <p:cNvGrpSpPr/>
                    <p:nvPr/>
                  </p:nvGrpSpPr>
                  <p:grpSpPr>
                    <a:xfrm>
                      <a:off x="4789440" y="1596240"/>
                      <a:ext cx="362160" cy="417960"/>
                      <a:chOff x="4789440" y="1596240"/>
                      <a:chExt cx="362160" cy="417960"/>
                    </a:xfrm>
                  </p:grpSpPr>
                  <p:grpSp>
                    <p:nvGrpSpPr>
                      <p:cNvPr id="7422" name=""/>
                      <p:cNvGrpSpPr/>
                      <p:nvPr/>
                    </p:nvGrpSpPr>
                    <p:grpSpPr>
                      <a:xfrm>
                        <a:off x="4919040" y="1596240"/>
                        <a:ext cx="232560" cy="375120"/>
                        <a:chOff x="4919040" y="1596240"/>
                        <a:chExt cx="232560" cy="375120"/>
                      </a:xfrm>
                    </p:grpSpPr>
                    <p:grpSp>
                      <p:nvGrpSpPr>
                        <p:cNvPr id="7423" name=""/>
                        <p:cNvGrpSpPr/>
                        <p:nvPr/>
                      </p:nvGrpSpPr>
                      <p:grpSpPr>
                        <a:xfrm>
                          <a:off x="4919040" y="1596240"/>
                          <a:ext cx="232560" cy="375120"/>
                          <a:chOff x="4919040" y="1596240"/>
                          <a:chExt cx="232560" cy="375120"/>
                        </a:xfrm>
                      </p:grpSpPr>
                      <p:grpSp>
                        <p:nvGrpSpPr>
                          <p:cNvPr id="7424" name=""/>
                          <p:cNvGrpSpPr/>
                          <p:nvPr/>
                        </p:nvGrpSpPr>
                        <p:grpSpPr>
                          <a:xfrm>
                            <a:off x="4919040" y="1596240"/>
                            <a:ext cx="232560" cy="375120"/>
                            <a:chOff x="4919040" y="1596240"/>
                            <a:chExt cx="232560" cy="375120"/>
                          </a:xfrm>
                        </p:grpSpPr>
                        <p:grpSp>
                          <p:nvGrpSpPr>
                            <p:cNvPr id="7425" name=""/>
                            <p:cNvGrpSpPr/>
                            <p:nvPr/>
                          </p:nvGrpSpPr>
                          <p:grpSpPr>
                            <a:xfrm>
                              <a:off x="4919040" y="1596240"/>
                              <a:ext cx="232560" cy="375120"/>
                              <a:chOff x="4919040" y="1596240"/>
                              <a:chExt cx="232560" cy="375120"/>
                            </a:xfrm>
                          </p:grpSpPr>
                          <p:grpSp>
                            <p:nvGrpSpPr>
                              <p:cNvPr id="7426" name=""/>
                              <p:cNvGrpSpPr/>
                              <p:nvPr/>
                            </p:nvGrpSpPr>
                            <p:grpSpPr>
                              <a:xfrm>
                                <a:off x="4919040" y="1596240"/>
                                <a:ext cx="232560" cy="375120"/>
                                <a:chOff x="4919040" y="1596240"/>
                                <a:chExt cx="232560" cy="375120"/>
                              </a:xfrm>
                            </p:grpSpPr>
                            <p:sp>
                              <p:nvSpPr>
                                <p:cNvPr id="7427" name=""/>
                                <p:cNvSpPr/>
                                <p:nvPr/>
                              </p:nvSpPr>
                              <p:spPr>
                                <a:xfrm>
                                  <a:off x="4919040" y="1596240"/>
                                  <a:ext cx="232560" cy="37512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939" h="1215">
                                      <a:moveTo>
                                        <a:pt x="2" y="270"/>
                                      </a:moveTo>
                                      <a:lnTo>
                                        <a:pt x="10" y="248"/>
                                      </a:lnTo>
                                      <a:lnTo>
                                        <a:pt x="20" y="228"/>
                                      </a:lnTo>
                                      <a:lnTo>
                                        <a:pt x="32" y="206"/>
                                      </a:lnTo>
                                      <a:lnTo>
                                        <a:pt x="45" y="191"/>
                                      </a:lnTo>
                                      <a:lnTo>
                                        <a:pt x="58" y="178"/>
                                      </a:lnTo>
                                      <a:lnTo>
                                        <a:pt x="75" y="160"/>
                                      </a:lnTo>
                                      <a:lnTo>
                                        <a:pt x="95" y="137"/>
                                      </a:lnTo>
                                      <a:lnTo>
                                        <a:pt x="110" y="116"/>
                                      </a:lnTo>
                                      <a:lnTo>
                                        <a:pt x="126" y="96"/>
                                      </a:lnTo>
                                      <a:lnTo>
                                        <a:pt x="143" y="80"/>
                                      </a:lnTo>
                                      <a:lnTo>
                                        <a:pt x="164" y="62"/>
                                      </a:lnTo>
                                      <a:lnTo>
                                        <a:pt x="184" y="47"/>
                                      </a:lnTo>
                                      <a:lnTo>
                                        <a:pt x="205" y="34"/>
                                      </a:lnTo>
                                      <a:lnTo>
                                        <a:pt x="231" y="21"/>
                                      </a:lnTo>
                                      <a:lnTo>
                                        <a:pt x="259" y="11"/>
                                      </a:lnTo>
                                      <a:lnTo>
                                        <a:pt x="288" y="4"/>
                                      </a:lnTo>
                                      <a:lnTo>
                                        <a:pt x="324" y="1"/>
                                      </a:lnTo>
                                      <a:lnTo>
                                        <a:pt x="358" y="0"/>
                                      </a:lnTo>
                                      <a:lnTo>
                                        <a:pt x="385" y="2"/>
                                      </a:lnTo>
                                      <a:lnTo>
                                        <a:pt x="413" y="6"/>
                                      </a:lnTo>
                                      <a:lnTo>
                                        <a:pt x="439" y="11"/>
                                      </a:lnTo>
                                      <a:lnTo>
                                        <a:pt x="471" y="19"/>
                                      </a:lnTo>
                                      <a:lnTo>
                                        <a:pt x="499" y="32"/>
                                      </a:lnTo>
                                      <a:lnTo>
                                        <a:pt x="521" y="43"/>
                                      </a:lnTo>
                                      <a:lnTo>
                                        <a:pt x="546" y="56"/>
                                      </a:lnTo>
                                      <a:lnTo>
                                        <a:pt x="565" y="74"/>
                                      </a:lnTo>
                                      <a:lnTo>
                                        <a:pt x="584" y="93"/>
                                      </a:lnTo>
                                      <a:lnTo>
                                        <a:pt x="599" y="112"/>
                                      </a:lnTo>
                                      <a:lnTo>
                                        <a:pt x="616" y="135"/>
                                      </a:lnTo>
                                      <a:lnTo>
                                        <a:pt x="631" y="158"/>
                                      </a:lnTo>
                                      <a:lnTo>
                                        <a:pt x="640" y="179"/>
                                      </a:lnTo>
                                      <a:lnTo>
                                        <a:pt x="646" y="206"/>
                                      </a:lnTo>
                                      <a:lnTo>
                                        <a:pt x="651" y="231"/>
                                      </a:lnTo>
                                      <a:lnTo>
                                        <a:pt x="654" y="250"/>
                                      </a:lnTo>
                                      <a:lnTo>
                                        <a:pt x="653" y="271"/>
                                      </a:lnTo>
                                      <a:lnTo>
                                        <a:pt x="648" y="286"/>
                                      </a:lnTo>
                                      <a:lnTo>
                                        <a:pt x="638" y="310"/>
                                      </a:lnTo>
                                      <a:lnTo>
                                        <a:pt x="624" y="339"/>
                                      </a:lnTo>
                                      <a:lnTo>
                                        <a:pt x="611" y="365"/>
                                      </a:lnTo>
                                      <a:lnTo>
                                        <a:pt x="601" y="386"/>
                                      </a:lnTo>
                                      <a:lnTo>
                                        <a:pt x="594" y="409"/>
                                      </a:lnTo>
                                      <a:lnTo>
                                        <a:pt x="586" y="433"/>
                                      </a:lnTo>
                                      <a:lnTo>
                                        <a:pt x="580" y="454"/>
                                      </a:lnTo>
                                      <a:lnTo>
                                        <a:pt x="577" y="465"/>
                                      </a:lnTo>
                                      <a:lnTo>
                                        <a:pt x="578" y="473"/>
                                      </a:lnTo>
                                      <a:lnTo>
                                        <a:pt x="583" y="476"/>
                                      </a:lnTo>
                                      <a:lnTo>
                                        <a:pt x="590" y="476"/>
                                      </a:lnTo>
                                      <a:lnTo>
                                        <a:pt x="596" y="470"/>
                                      </a:lnTo>
                                      <a:lnTo>
                                        <a:pt x="603" y="459"/>
                                      </a:lnTo>
                                      <a:lnTo>
                                        <a:pt x="612" y="439"/>
                                      </a:lnTo>
                                      <a:lnTo>
                                        <a:pt x="625" y="411"/>
                                      </a:lnTo>
                                      <a:lnTo>
                                        <a:pt x="640" y="385"/>
                                      </a:lnTo>
                                      <a:lnTo>
                                        <a:pt x="654" y="363"/>
                                      </a:lnTo>
                                      <a:lnTo>
                                        <a:pt x="668" y="343"/>
                                      </a:lnTo>
                                      <a:lnTo>
                                        <a:pt x="676" y="334"/>
                                      </a:lnTo>
                                      <a:lnTo>
                                        <a:pt x="684" y="329"/>
                                      </a:lnTo>
                                      <a:lnTo>
                                        <a:pt x="694" y="327"/>
                                      </a:lnTo>
                                      <a:lnTo>
                                        <a:pt x="701" y="333"/>
                                      </a:lnTo>
                                      <a:lnTo>
                                        <a:pt x="711" y="351"/>
                                      </a:lnTo>
                                      <a:lnTo>
                                        <a:pt x="720" y="367"/>
                                      </a:lnTo>
                                      <a:lnTo>
                                        <a:pt x="731" y="389"/>
                                      </a:lnTo>
                                      <a:lnTo>
                                        <a:pt x="743" y="410"/>
                                      </a:lnTo>
                                      <a:lnTo>
                                        <a:pt x="753" y="429"/>
                                      </a:lnTo>
                                      <a:lnTo>
                                        <a:pt x="761" y="450"/>
                                      </a:lnTo>
                                      <a:lnTo>
                                        <a:pt x="770" y="469"/>
                                      </a:lnTo>
                                      <a:lnTo>
                                        <a:pt x="778" y="491"/>
                                      </a:lnTo>
                                      <a:lnTo>
                                        <a:pt x="792" y="505"/>
                                      </a:lnTo>
                                      <a:lnTo>
                                        <a:pt x="808" y="524"/>
                                      </a:lnTo>
                                      <a:lnTo>
                                        <a:pt x="820" y="541"/>
                                      </a:lnTo>
                                      <a:lnTo>
                                        <a:pt x="823" y="561"/>
                                      </a:lnTo>
                                      <a:lnTo>
                                        <a:pt x="821" y="581"/>
                                      </a:lnTo>
                                      <a:lnTo>
                                        <a:pt x="817" y="608"/>
                                      </a:lnTo>
                                      <a:lnTo>
                                        <a:pt x="812" y="633"/>
                                      </a:lnTo>
                                      <a:lnTo>
                                        <a:pt x="807" y="659"/>
                                      </a:lnTo>
                                      <a:lnTo>
                                        <a:pt x="817" y="675"/>
                                      </a:lnTo>
                                      <a:lnTo>
                                        <a:pt x="827" y="691"/>
                                      </a:lnTo>
                                      <a:lnTo>
                                        <a:pt x="836" y="709"/>
                                      </a:lnTo>
                                      <a:lnTo>
                                        <a:pt x="847" y="729"/>
                                      </a:lnTo>
                                      <a:lnTo>
                                        <a:pt x="863" y="762"/>
                                      </a:lnTo>
                                      <a:lnTo>
                                        <a:pt x="877" y="790"/>
                                      </a:lnTo>
                                      <a:lnTo>
                                        <a:pt x="893" y="817"/>
                                      </a:lnTo>
                                      <a:lnTo>
                                        <a:pt x="905" y="843"/>
                                      </a:lnTo>
                                      <a:lnTo>
                                        <a:pt x="911" y="861"/>
                                      </a:lnTo>
                                      <a:lnTo>
                                        <a:pt x="917" y="888"/>
                                      </a:lnTo>
                                      <a:lnTo>
                                        <a:pt x="922" y="918"/>
                                      </a:lnTo>
                                      <a:lnTo>
                                        <a:pt x="927" y="940"/>
                                      </a:lnTo>
                                      <a:lnTo>
                                        <a:pt x="933" y="971"/>
                                      </a:lnTo>
                                      <a:lnTo>
                                        <a:pt x="935" y="1002"/>
                                      </a:lnTo>
                                      <a:lnTo>
                                        <a:pt x="934" y="1023"/>
                                      </a:lnTo>
                                      <a:lnTo>
                                        <a:pt x="934" y="1047"/>
                                      </a:lnTo>
                                      <a:lnTo>
                                        <a:pt x="935" y="1096"/>
                                      </a:lnTo>
                                      <a:lnTo>
                                        <a:pt x="939" y="1153"/>
                                      </a:lnTo>
                                      <a:lnTo>
                                        <a:pt x="938" y="1179"/>
                                      </a:lnTo>
                                      <a:lnTo>
                                        <a:pt x="935" y="1196"/>
                                      </a:lnTo>
                                      <a:lnTo>
                                        <a:pt x="924" y="1206"/>
                                      </a:lnTo>
                                      <a:lnTo>
                                        <a:pt x="906" y="1214"/>
                                      </a:lnTo>
                                      <a:lnTo>
                                        <a:pt x="888" y="1215"/>
                                      </a:lnTo>
                                      <a:lnTo>
                                        <a:pt x="873" y="1208"/>
                                      </a:lnTo>
                                      <a:lnTo>
                                        <a:pt x="862" y="1199"/>
                                      </a:lnTo>
                                      <a:lnTo>
                                        <a:pt x="833" y="1181"/>
                                      </a:lnTo>
                                      <a:lnTo>
                                        <a:pt x="806" y="1167"/>
                                      </a:lnTo>
                                      <a:lnTo>
                                        <a:pt x="779" y="1155"/>
                                      </a:lnTo>
                                      <a:lnTo>
                                        <a:pt x="758" y="1136"/>
                                      </a:lnTo>
                                      <a:lnTo>
                                        <a:pt x="721" y="1103"/>
                                      </a:lnTo>
                                      <a:lnTo>
                                        <a:pt x="687" y="1069"/>
                                      </a:lnTo>
                                      <a:lnTo>
                                        <a:pt x="653" y="1038"/>
                                      </a:lnTo>
                                      <a:lnTo>
                                        <a:pt x="621" y="1002"/>
                                      </a:lnTo>
                                      <a:lnTo>
                                        <a:pt x="582" y="954"/>
                                      </a:lnTo>
                                      <a:lnTo>
                                        <a:pt x="553" y="918"/>
                                      </a:lnTo>
                                      <a:lnTo>
                                        <a:pt x="520" y="888"/>
                                      </a:lnTo>
                                      <a:lnTo>
                                        <a:pt x="481" y="847"/>
                                      </a:lnTo>
                                      <a:lnTo>
                                        <a:pt x="441" y="806"/>
                                      </a:lnTo>
                                      <a:lnTo>
                                        <a:pt x="385" y="754"/>
                                      </a:lnTo>
                                      <a:lnTo>
                                        <a:pt x="334" y="711"/>
                                      </a:lnTo>
                                      <a:lnTo>
                                        <a:pt x="310" y="684"/>
                                      </a:lnTo>
                                      <a:lnTo>
                                        <a:pt x="291" y="662"/>
                                      </a:lnTo>
                                      <a:lnTo>
                                        <a:pt x="280" y="643"/>
                                      </a:lnTo>
                                      <a:lnTo>
                                        <a:pt x="271" y="619"/>
                                      </a:lnTo>
                                      <a:lnTo>
                                        <a:pt x="270" y="607"/>
                                      </a:lnTo>
                                      <a:lnTo>
                                        <a:pt x="275" y="599"/>
                                      </a:lnTo>
                                      <a:lnTo>
                                        <a:pt x="287" y="590"/>
                                      </a:lnTo>
                                      <a:lnTo>
                                        <a:pt x="306" y="576"/>
                                      </a:lnTo>
                                      <a:lnTo>
                                        <a:pt x="327" y="562"/>
                                      </a:lnTo>
                                      <a:lnTo>
                                        <a:pt x="347" y="548"/>
                                      </a:lnTo>
                                      <a:lnTo>
                                        <a:pt x="363" y="538"/>
                                      </a:lnTo>
                                      <a:lnTo>
                                        <a:pt x="381" y="531"/>
                                      </a:lnTo>
                                      <a:lnTo>
                                        <a:pt x="402" y="524"/>
                                      </a:lnTo>
                                      <a:lnTo>
                                        <a:pt x="422" y="517"/>
                                      </a:lnTo>
                                      <a:lnTo>
                                        <a:pt x="443" y="510"/>
                                      </a:lnTo>
                                      <a:lnTo>
                                        <a:pt x="457" y="504"/>
                                      </a:lnTo>
                                      <a:lnTo>
                                        <a:pt x="459" y="498"/>
                                      </a:lnTo>
                                      <a:lnTo>
                                        <a:pt x="454" y="491"/>
                                      </a:lnTo>
                                      <a:lnTo>
                                        <a:pt x="445" y="489"/>
                                      </a:lnTo>
                                      <a:lnTo>
                                        <a:pt x="422" y="492"/>
                                      </a:lnTo>
                                      <a:lnTo>
                                        <a:pt x="398" y="496"/>
                                      </a:lnTo>
                                      <a:lnTo>
                                        <a:pt x="369" y="502"/>
                                      </a:lnTo>
                                      <a:lnTo>
                                        <a:pt x="340" y="510"/>
                                      </a:lnTo>
                                      <a:lnTo>
                                        <a:pt x="327" y="515"/>
                                      </a:lnTo>
                                      <a:lnTo>
                                        <a:pt x="311" y="527"/>
                                      </a:lnTo>
                                      <a:lnTo>
                                        <a:pt x="292" y="541"/>
                                      </a:lnTo>
                                      <a:lnTo>
                                        <a:pt x="268" y="562"/>
                                      </a:lnTo>
                                      <a:lnTo>
                                        <a:pt x="254" y="565"/>
                                      </a:lnTo>
                                      <a:lnTo>
                                        <a:pt x="232" y="567"/>
                                      </a:lnTo>
                                      <a:lnTo>
                                        <a:pt x="211" y="568"/>
                                      </a:lnTo>
                                      <a:lnTo>
                                        <a:pt x="197" y="564"/>
                                      </a:lnTo>
                                      <a:lnTo>
                                        <a:pt x="182" y="557"/>
                                      </a:lnTo>
                                      <a:lnTo>
                                        <a:pt x="162" y="549"/>
                                      </a:lnTo>
                                      <a:lnTo>
                                        <a:pt x="152" y="539"/>
                                      </a:lnTo>
                                      <a:lnTo>
                                        <a:pt x="141" y="523"/>
                                      </a:lnTo>
                                      <a:lnTo>
                                        <a:pt x="129" y="504"/>
                                      </a:lnTo>
                                      <a:lnTo>
                                        <a:pt x="119" y="489"/>
                                      </a:lnTo>
                                      <a:lnTo>
                                        <a:pt x="98" y="468"/>
                                      </a:lnTo>
                                      <a:lnTo>
                                        <a:pt x="83" y="449"/>
                                      </a:lnTo>
                                      <a:lnTo>
                                        <a:pt x="61" y="428"/>
                                      </a:lnTo>
                                      <a:lnTo>
                                        <a:pt x="44" y="410"/>
                                      </a:lnTo>
                                      <a:lnTo>
                                        <a:pt x="33" y="398"/>
                                      </a:lnTo>
                                      <a:lnTo>
                                        <a:pt x="26" y="383"/>
                                      </a:lnTo>
                                      <a:lnTo>
                                        <a:pt x="18" y="362"/>
                                      </a:lnTo>
                                      <a:lnTo>
                                        <a:pt x="9" y="338"/>
                                      </a:lnTo>
                                      <a:lnTo>
                                        <a:pt x="4" y="314"/>
                                      </a:lnTo>
                                      <a:lnTo>
                                        <a:pt x="0" y="288"/>
                                      </a:lnTo>
                                      <a:lnTo>
                                        <a:pt x="2" y="270"/>
                                      </a:lnTo>
                                      <a:close/>
                                    </a:path>
                                  </a:pathLst>
                                </a:custGeom>
                                <a:solidFill>
                                  <a:srgbClr val="ff808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grpSp>
                              <p:nvGrpSpPr>
                                <p:cNvPr id="7428" name=""/>
                                <p:cNvGrpSpPr/>
                                <p:nvPr/>
                              </p:nvGrpSpPr>
                              <p:grpSpPr>
                                <a:xfrm>
                                  <a:off x="4919040" y="1596240"/>
                                  <a:ext cx="232200" cy="372960"/>
                                  <a:chOff x="4919040" y="1596240"/>
                                  <a:chExt cx="232200" cy="372960"/>
                                </a:xfrm>
                              </p:grpSpPr>
                              <p:sp>
                                <p:nvSpPr>
                                  <p:cNvPr id="7429" name=""/>
                                  <p:cNvSpPr/>
                                  <p:nvPr/>
                                </p:nvSpPr>
                                <p:spPr>
                                  <a:xfrm>
                                    <a:off x="4985640" y="1696320"/>
                                    <a:ext cx="165600" cy="272880"/>
                                  </a:xfrm>
                                  <a:custGeom>
                                    <a:avLst/>
                                    <a:gdLst/>
                                    <a:ahLst/>
                                    <a:rect l="l" t="t" r="r" b="b"/>
                                    <a:pathLst>
                                      <a:path w="668" h="887">
                                        <a:moveTo>
                                          <a:pt x="408" y="53"/>
                                        </a:moveTo>
                                        <a:lnTo>
                                          <a:pt x="395" y="57"/>
                                        </a:lnTo>
                                        <a:lnTo>
                                          <a:pt x="379" y="68"/>
                                        </a:lnTo>
                                        <a:lnTo>
                                          <a:pt x="365" y="77"/>
                                        </a:lnTo>
                                        <a:lnTo>
                                          <a:pt x="354" y="84"/>
                                        </a:lnTo>
                                        <a:lnTo>
                                          <a:pt x="369" y="58"/>
                                        </a:lnTo>
                                        <a:lnTo>
                                          <a:pt x="383" y="36"/>
                                        </a:lnTo>
                                        <a:lnTo>
                                          <a:pt x="397" y="16"/>
                                        </a:lnTo>
                                        <a:lnTo>
                                          <a:pt x="405" y="7"/>
                                        </a:lnTo>
                                        <a:lnTo>
                                          <a:pt x="413" y="2"/>
                                        </a:lnTo>
                                        <a:lnTo>
                                          <a:pt x="423" y="0"/>
                                        </a:lnTo>
                                        <a:lnTo>
                                          <a:pt x="430" y="6"/>
                                        </a:lnTo>
                                        <a:lnTo>
                                          <a:pt x="441" y="24"/>
                                        </a:lnTo>
                                        <a:lnTo>
                                          <a:pt x="450" y="40"/>
                                        </a:lnTo>
                                        <a:lnTo>
                                          <a:pt x="461" y="62"/>
                                        </a:lnTo>
                                        <a:lnTo>
                                          <a:pt x="473" y="83"/>
                                        </a:lnTo>
                                        <a:lnTo>
                                          <a:pt x="483" y="102"/>
                                        </a:lnTo>
                                        <a:lnTo>
                                          <a:pt x="491" y="123"/>
                                        </a:lnTo>
                                        <a:lnTo>
                                          <a:pt x="500" y="142"/>
                                        </a:lnTo>
                                        <a:lnTo>
                                          <a:pt x="507" y="164"/>
                                        </a:lnTo>
                                        <a:lnTo>
                                          <a:pt x="521" y="178"/>
                                        </a:lnTo>
                                        <a:lnTo>
                                          <a:pt x="537" y="197"/>
                                        </a:lnTo>
                                        <a:lnTo>
                                          <a:pt x="549" y="214"/>
                                        </a:lnTo>
                                        <a:lnTo>
                                          <a:pt x="552" y="233"/>
                                        </a:lnTo>
                                        <a:lnTo>
                                          <a:pt x="550" y="253"/>
                                        </a:lnTo>
                                        <a:lnTo>
                                          <a:pt x="546" y="280"/>
                                        </a:lnTo>
                                        <a:lnTo>
                                          <a:pt x="541" y="305"/>
                                        </a:lnTo>
                                        <a:lnTo>
                                          <a:pt x="536" y="331"/>
                                        </a:lnTo>
                                        <a:lnTo>
                                          <a:pt x="546" y="347"/>
                                        </a:lnTo>
                                        <a:lnTo>
                                          <a:pt x="556" y="363"/>
                                        </a:lnTo>
                                        <a:lnTo>
                                          <a:pt x="565" y="381"/>
                                        </a:lnTo>
                                        <a:lnTo>
                                          <a:pt x="576" y="401"/>
                                        </a:lnTo>
                                        <a:lnTo>
                                          <a:pt x="592" y="434"/>
                                        </a:lnTo>
                                        <a:lnTo>
                                          <a:pt x="606" y="462"/>
                                        </a:lnTo>
                                        <a:lnTo>
                                          <a:pt x="622" y="489"/>
                                        </a:lnTo>
                                        <a:lnTo>
                                          <a:pt x="634" y="515"/>
                                        </a:lnTo>
                                        <a:lnTo>
                                          <a:pt x="640" y="533"/>
                                        </a:lnTo>
                                        <a:lnTo>
                                          <a:pt x="646" y="560"/>
                                        </a:lnTo>
                                        <a:lnTo>
                                          <a:pt x="651" y="591"/>
                                        </a:lnTo>
                                        <a:lnTo>
                                          <a:pt x="656" y="613"/>
                                        </a:lnTo>
                                        <a:lnTo>
                                          <a:pt x="662" y="644"/>
                                        </a:lnTo>
                                        <a:lnTo>
                                          <a:pt x="664" y="674"/>
                                        </a:lnTo>
                                        <a:lnTo>
                                          <a:pt x="663" y="695"/>
                                        </a:lnTo>
                                        <a:lnTo>
                                          <a:pt x="663" y="719"/>
                                        </a:lnTo>
                                        <a:lnTo>
                                          <a:pt x="664" y="768"/>
                                        </a:lnTo>
                                        <a:lnTo>
                                          <a:pt x="668" y="825"/>
                                        </a:lnTo>
                                        <a:lnTo>
                                          <a:pt x="667" y="851"/>
                                        </a:lnTo>
                                        <a:lnTo>
                                          <a:pt x="664" y="868"/>
                                        </a:lnTo>
                                        <a:lnTo>
                                          <a:pt x="653" y="878"/>
                                        </a:lnTo>
                                        <a:lnTo>
                                          <a:pt x="635" y="886"/>
                                        </a:lnTo>
                                        <a:lnTo>
                                          <a:pt x="617" y="887"/>
                                        </a:lnTo>
                                        <a:lnTo>
                                          <a:pt x="602" y="880"/>
                                        </a:lnTo>
                                        <a:lnTo>
                                          <a:pt x="591" y="871"/>
                                        </a:lnTo>
                                        <a:lnTo>
                                          <a:pt x="562" y="853"/>
                                        </a:lnTo>
                                        <a:lnTo>
                                          <a:pt x="535" y="839"/>
                                        </a:lnTo>
                                        <a:lnTo>
                                          <a:pt x="508" y="827"/>
                                        </a:lnTo>
                                        <a:lnTo>
                                          <a:pt x="488" y="808"/>
                                        </a:lnTo>
                                        <a:lnTo>
                                          <a:pt x="451" y="775"/>
                                        </a:lnTo>
                                        <a:lnTo>
                                          <a:pt x="416" y="741"/>
                                        </a:lnTo>
                                        <a:lnTo>
                                          <a:pt x="382" y="710"/>
                                        </a:lnTo>
                                        <a:lnTo>
                                          <a:pt x="350" y="674"/>
                                        </a:lnTo>
                                        <a:lnTo>
                                          <a:pt x="311" y="627"/>
                                        </a:lnTo>
                                        <a:lnTo>
                                          <a:pt x="282" y="591"/>
                                        </a:lnTo>
                                        <a:lnTo>
                                          <a:pt x="249" y="560"/>
                                        </a:lnTo>
                                        <a:lnTo>
                                          <a:pt x="210" y="519"/>
                                        </a:lnTo>
                                        <a:lnTo>
                                          <a:pt x="170" y="478"/>
                                        </a:lnTo>
                                        <a:lnTo>
                                          <a:pt x="115" y="426"/>
                                        </a:lnTo>
                                        <a:lnTo>
                                          <a:pt x="64" y="383"/>
                                        </a:lnTo>
                                        <a:lnTo>
                                          <a:pt x="40" y="356"/>
                                        </a:lnTo>
                                        <a:lnTo>
                                          <a:pt x="21" y="334"/>
                                        </a:lnTo>
                                        <a:lnTo>
                                          <a:pt x="10" y="315"/>
                                        </a:lnTo>
                                        <a:lnTo>
                                          <a:pt x="1" y="291"/>
                                        </a:lnTo>
                                        <a:lnTo>
                                          <a:pt x="0" y="279"/>
                                        </a:lnTo>
                                        <a:lnTo>
                                          <a:pt x="5" y="271"/>
                                        </a:lnTo>
                                        <a:lnTo>
                                          <a:pt x="17" y="262"/>
                                        </a:lnTo>
                                        <a:lnTo>
                                          <a:pt x="36" y="248"/>
                                        </a:lnTo>
                                        <a:lnTo>
                                          <a:pt x="57" y="234"/>
                                        </a:lnTo>
                                        <a:lnTo>
                                          <a:pt x="77" y="221"/>
                                        </a:lnTo>
                                        <a:lnTo>
                                          <a:pt x="93" y="211"/>
                                        </a:lnTo>
                                        <a:lnTo>
                                          <a:pt x="82" y="237"/>
                                        </a:lnTo>
                                        <a:lnTo>
                                          <a:pt x="71" y="258"/>
                                        </a:lnTo>
                                        <a:lnTo>
                                          <a:pt x="60" y="280"/>
                                        </a:lnTo>
                                        <a:lnTo>
                                          <a:pt x="54" y="295"/>
                                        </a:lnTo>
                                        <a:lnTo>
                                          <a:pt x="55" y="308"/>
                                        </a:lnTo>
                                        <a:lnTo>
                                          <a:pt x="62" y="325"/>
                                        </a:lnTo>
                                        <a:lnTo>
                                          <a:pt x="74" y="347"/>
                                        </a:lnTo>
                                        <a:lnTo>
                                          <a:pt x="91" y="366"/>
                                        </a:lnTo>
                                        <a:lnTo>
                                          <a:pt x="109" y="390"/>
                                        </a:lnTo>
                                        <a:lnTo>
                                          <a:pt x="138" y="411"/>
                                        </a:lnTo>
                                        <a:lnTo>
                                          <a:pt x="167" y="436"/>
                                        </a:lnTo>
                                        <a:lnTo>
                                          <a:pt x="190" y="455"/>
                                        </a:lnTo>
                                        <a:lnTo>
                                          <a:pt x="215" y="475"/>
                                        </a:lnTo>
                                        <a:lnTo>
                                          <a:pt x="239" y="495"/>
                                        </a:lnTo>
                                        <a:lnTo>
                                          <a:pt x="264" y="516"/>
                                        </a:lnTo>
                                        <a:lnTo>
                                          <a:pt x="284" y="541"/>
                                        </a:lnTo>
                                        <a:lnTo>
                                          <a:pt x="307" y="559"/>
                                        </a:lnTo>
                                        <a:lnTo>
                                          <a:pt x="322" y="577"/>
                                        </a:lnTo>
                                        <a:lnTo>
                                          <a:pt x="341" y="603"/>
                                        </a:lnTo>
                                        <a:lnTo>
                                          <a:pt x="358" y="628"/>
                                        </a:lnTo>
                                        <a:lnTo>
                                          <a:pt x="377" y="655"/>
                                        </a:lnTo>
                                        <a:lnTo>
                                          <a:pt x="397" y="678"/>
                                        </a:lnTo>
                                        <a:lnTo>
                                          <a:pt x="420" y="697"/>
                                        </a:lnTo>
                                        <a:lnTo>
                                          <a:pt x="453" y="724"/>
                                        </a:lnTo>
                                        <a:lnTo>
                                          <a:pt x="475" y="743"/>
                                        </a:lnTo>
                                        <a:lnTo>
                                          <a:pt x="496" y="760"/>
                                        </a:lnTo>
                                        <a:lnTo>
                                          <a:pt x="509" y="776"/>
                                        </a:lnTo>
                                        <a:lnTo>
                                          <a:pt x="528" y="783"/>
                                        </a:lnTo>
                                        <a:lnTo>
                                          <a:pt x="546" y="792"/>
                                        </a:lnTo>
                                        <a:lnTo>
                                          <a:pt x="564" y="798"/>
                                        </a:lnTo>
                                        <a:lnTo>
                                          <a:pt x="582" y="803"/>
                                        </a:lnTo>
                                        <a:lnTo>
                                          <a:pt x="594" y="802"/>
                                        </a:lnTo>
                                        <a:lnTo>
                                          <a:pt x="604" y="798"/>
                                        </a:lnTo>
                                        <a:lnTo>
                                          <a:pt x="614" y="792"/>
                                        </a:lnTo>
                                        <a:lnTo>
                                          <a:pt x="620" y="779"/>
                                        </a:lnTo>
                                        <a:lnTo>
                                          <a:pt x="623" y="766"/>
                                        </a:lnTo>
                                        <a:lnTo>
                                          <a:pt x="620" y="738"/>
                                        </a:lnTo>
                                        <a:lnTo>
                                          <a:pt x="618" y="704"/>
                                        </a:lnTo>
                                        <a:lnTo>
                                          <a:pt x="614" y="673"/>
                                        </a:lnTo>
                                        <a:lnTo>
                                          <a:pt x="610" y="640"/>
                                        </a:lnTo>
                                        <a:lnTo>
                                          <a:pt x="607" y="617"/>
                                        </a:lnTo>
                                        <a:lnTo>
                                          <a:pt x="601" y="595"/>
                                        </a:lnTo>
                                        <a:lnTo>
                                          <a:pt x="595" y="566"/>
                                        </a:lnTo>
                                        <a:lnTo>
                                          <a:pt x="586" y="539"/>
                                        </a:lnTo>
                                        <a:lnTo>
                                          <a:pt x="583" y="521"/>
                                        </a:lnTo>
                                        <a:lnTo>
                                          <a:pt x="577" y="502"/>
                                        </a:lnTo>
                                        <a:lnTo>
                                          <a:pt x="564" y="481"/>
                                        </a:lnTo>
                                        <a:lnTo>
                                          <a:pt x="555" y="459"/>
                                        </a:lnTo>
                                        <a:lnTo>
                                          <a:pt x="543" y="440"/>
                                        </a:lnTo>
                                        <a:lnTo>
                                          <a:pt x="531" y="417"/>
                                        </a:lnTo>
                                        <a:lnTo>
                                          <a:pt x="519" y="395"/>
                                        </a:lnTo>
                                        <a:lnTo>
                                          <a:pt x="506" y="370"/>
                                        </a:lnTo>
                                        <a:lnTo>
                                          <a:pt x="492" y="347"/>
                                        </a:lnTo>
                                        <a:lnTo>
                                          <a:pt x="485" y="334"/>
                                        </a:lnTo>
                                        <a:lnTo>
                                          <a:pt x="483" y="325"/>
                                        </a:lnTo>
                                        <a:lnTo>
                                          <a:pt x="487" y="313"/>
                                        </a:lnTo>
                                        <a:lnTo>
                                          <a:pt x="492" y="291"/>
                                        </a:lnTo>
                                        <a:lnTo>
                                          <a:pt x="498" y="267"/>
                                        </a:lnTo>
                                        <a:lnTo>
                                          <a:pt x="501" y="253"/>
                                        </a:lnTo>
                                        <a:lnTo>
                                          <a:pt x="506" y="242"/>
                                        </a:lnTo>
                                        <a:lnTo>
                                          <a:pt x="497" y="222"/>
                                        </a:lnTo>
                                        <a:lnTo>
                                          <a:pt x="487" y="196"/>
                                        </a:lnTo>
                                        <a:lnTo>
                                          <a:pt x="475" y="165"/>
                                        </a:lnTo>
                                        <a:lnTo>
                                          <a:pt x="463" y="135"/>
                                        </a:lnTo>
                                        <a:lnTo>
                                          <a:pt x="449" y="103"/>
                                        </a:lnTo>
                                        <a:lnTo>
                                          <a:pt x="438" y="78"/>
                                        </a:lnTo>
                                        <a:lnTo>
                                          <a:pt x="427" y="57"/>
                                        </a:lnTo>
                                        <a:lnTo>
                                          <a:pt x="418" y="52"/>
                                        </a:lnTo>
                                        <a:lnTo>
                                          <a:pt x="408" y="53"/>
                                        </a:lnTo>
                                        <a:close/>
                                      </a:path>
                                    </a:pathLst>
                                  </a:custGeom>
                                  <a:solidFill>
                                    <a:srgbClr val="ff4040"/>
                                  </a:solidFill>
                                  <a:ln w="0">
                                    <a:noFill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7430" name=""/>
                                  <p:cNvSpPr/>
                                  <p:nvPr/>
                                </p:nvSpPr>
                                <p:spPr>
                                  <a:xfrm>
                                    <a:off x="4919040" y="1596240"/>
                                    <a:ext cx="160560" cy="174240"/>
                                  </a:xfrm>
                                  <a:custGeom>
                                    <a:avLst/>
                                    <a:gdLst/>
                                    <a:ahLst/>
                                    <a:rect l="l" t="t" r="r" b="b"/>
                                    <a:pathLst>
                                      <a:path w="653" h="567">
                                        <a:moveTo>
                                          <a:pt x="2" y="269"/>
                                        </a:moveTo>
                                        <a:lnTo>
                                          <a:pt x="10" y="247"/>
                                        </a:lnTo>
                                        <a:lnTo>
                                          <a:pt x="20" y="226"/>
                                        </a:lnTo>
                                        <a:lnTo>
                                          <a:pt x="32" y="205"/>
                                        </a:lnTo>
                                        <a:lnTo>
                                          <a:pt x="45" y="190"/>
                                        </a:lnTo>
                                        <a:lnTo>
                                          <a:pt x="58" y="177"/>
                                        </a:lnTo>
                                        <a:lnTo>
                                          <a:pt x="75" y="159"/>
                                        </a:lnTo>
                                        <a:lnTo>
                                          <a:pt x="95" y="137"/>
                                        </a:lnTo>
                                        <a:lnTo>
                                          <a:pt x="110" y="116"/>
                                        </a:lnTo>
                                        <a:lnTo>
                                          <a:pt x="126" y="96"/>
                                        </a:lnTo>
                                        <a:lnTo>
                                          <a:pt x="143" y="80"/>
                                        </a:lnTo>
                                        <a:lnTo>
                                          <a:pt x="163" y="62"/>
                                        </a:lnTo>
                                        <a:lnTo>
                                          <a:pt x="183" y="47"/>
                                        </a:lnTo>
                                        <a:lnTo>
                                          <a:pt x="204" y="34"/>
                                        </a:lnTo>
                                        <a:lnTo>
                                          <a:pt x="230" y="21"/>
                                        </a:lnTo>
                                        <a:lnTo>
                                          <a:pt x="259" y="11"/>
                                        </a:lnTo>
                                        <a:lnTo>
                                          <a:pt x="288" y="4"/>
                                        </a:lnTo>
                                        <a:lnTo>
                                          <a:pt x="324" y="1"/>
                                        </a:lnTo>
                                        <a:lnTo>
                                          <a:pt x="358" y="0"/>
                                        </a:lnTo>
                                        <a:lnTo>
                                          <a:pt x="385" y="2"/>
                                        </a:lnTo>
                                        <a:lnTo>
                                          <a:pt x="413" y="6"/>
                                        </a:lnTo>
                                        <a:lnTo>
                                          <a:pt x="439" y="11"/>
                                        </a:lnTo>
                                        <a:lnTo>
                                          <a:pt x="471" y="19"/>
                                        </a:lnTo>
                                        <a:lnTo>
                                          <a:pt x="498" y="32"/>
                                        </a:lnTo>
                                        <a:lnTo>
                                          <a:pt x="520" y="43"/>
                                        </a:lnTo>
                                        <a:lnTo>
                                          <a:pt x="545" y="56"/>
                                        </a:lnTo>
                                        <a:lnTo>
                                          <a:pt x="564" y="74"/>
                                        </a:lnTo>
                                        <a:lnTo>
                                          <a:pt x="583" y="93"/>
                                        </a:lnTo>
                                        <a:lnTo>
                                          <a:pt x="598" y="112"/>
                                        </a:lnTo>
                                        <a:lnTo>
                                          <a:pt x="615" y="135"/>
                                        </a:lnTo>
                                        <a:lnTo>
                                          <a:pt x="630" y="157"/>
                                        </a:lnTo>
                                        <a:lnTo>
                                          <a:pt x="639" y="178"/>
                                        </a:lnTo>
                                        <a:lnTo>
                                          <a:pt x="645" y="205"/>
                                        </a:lnTo>
                                        <a:lnTo>
                                          <a:pt x="650" y="230"/>
                                        </a:lnTo>
                                        <a:lnTo>
                                          <a:pt x="653" y="249"/>
                                        </a:lnTo>
                                        <a:lnTo>
                                          <a:pt x="634" y="208"/>
                                        </a:lnTo>
                                        <a:lnTo>
                                          <a:pt x="623" y="188"/>
                                        </a:lnTo>
                                        <a:lnTo>
                                          <a:pt x="610" y="162"/>
                                        </a:lnTo>
                                        <a:lnTo>
                                          <a:pt x="599" y="142"/>
                                        </a:lnTo>
                                        <a:lnTo>
                                          <a:pt x="586" y="125"/>
                                        </a:lnTo>
                                        <a:lnTo>
                                          <a:pt x="571" y="105"/>
                                        </a:lnTo>
                                        <a:lnTo>
                                          <a:pt x="552" y="89"/>
                                        </a:lnTo>
                                        <a:lnTo>
                                          <a:pt x="537" y="75"/>
                                        </a:lnTo>
                                        <a:lnTo>
                                          <a:pt x="521" y="65"/>
                                        </a:lnTo>
                                        <a:lnTo>
                                          <a:pt x="503" y="59"/>
                                        </a:lnTo>
                                        <a:lnTo>
                                          <a:pt x="486" y="51"/>
                                        </a:lnTo>
                                        <a:lnTo>
                                          <a:pt x="464" y="43"/>
                                        </a:lnTo>
                                        <a:lnTo>
                                          <a:pt x="445" y="38"/>
                                        </a:lnTo>
                                        <a:lnTo>
                                          <a:pt x="422" y="32"/>
                                        </a:lnTo>
                                        <a:lnTo>
                                          <a:pt x="397" y="26"/>
                                        </a:lnTo>
                                        <a:lnTo>
                                          <a:pt x="371" y="24"/>
                                        </a:lnTo>
                                        <a:lnTo>
                                          <a:pt x="349" y="22"/>
                                        </a:lnTo>
                                        <a:lnTo>
                                          <a:pt x="331" y="24"/>
                                        </a:lnTo>
                                        <a:lnTo>
                                          <a:pt x="305" y="29"/>
                                        </a:lnTo>
                                        <a:lnTo>
                                          <a:pt x="280" y="35"/>
                                        </a:lnTo>
                                        <a:lnTo>
                                          <a:pt x="260" y="40"/>
                                        </a:lnTo>
                                        <a:lnTo>
                                          <a:pt x="240" y="49"/>
                                        </a:lnTo>
                                        <a:lnTo>
                                          <a:pt x="215" y="61"/>
                                        </a:lnTo>
                                        <a:lnTo>
                                          <a:pt x="199" y="69"/>
                                        </a:lnTo>
                                        <a:lnTo>
                                          <a:pt x="183" y="82"/>
                                        </a:lnTo>
                                        <a:lnTo>
                                          <a:pt x="161" y="99"/>
                                        </a:lnTo>
                                        <a:lnTo>
                                          <a:pt x="140" y="120"/>
                                        </a:lnTo>
                                        <a:lnTo>
                                          <a:pt x="118" y="141"/>
                                        </a:lnTo>
                                        <a:lnTo>
                                          <a:pt x="100" y="164"/>
                                        </a:lnTo>
                                        <a:lnTo>
                                          <a:pt x="82" y="189"/>
                                        </a:lnTo>
                                        <a:lnTo>
                                          <a:pt x="64" y="211"/>
                                        </a:lnTo>
                                        <a:lnTo>
                                          <a:pt x="56" y="225"/>
                                        </a:lnTo>
                                        <a:lnTo>
                                          <a:pt x="51" y="244"/>
                                        </a:lnTo>
                                        <a:lnTo>
                                          <a:pt x="43" y="261"/>
                                        </a:lnTo>
                                        <a:lnTo>
                                          <a:pt x="37" y="274"/>
                                        </a:lnTo>
                                        <a:lnTo>
                                          <a:pt x="40" y="298"/>
                                        </a:lnTo>
                                        <a:lnTo>
                                          <a:pt x="41" y="321"/>
                                        </a:lnTo>
                                        <a:lnTo>
                                          <a:pt x="47" y="336"/>
                                        </a:lnTo>
                                        <a:lnTo>
                                          <a:pt x="55" y="356"/>
                                        </a:lnTo>
                                        <a:lnTo>
                                          <a:pt x="63" y="375"/>
                                        </a:lnTo>
                                        <a:lnTo>
                                          <a:pt x="72" y="393"/>
                                        </a:lnTo>
                                        <a:lnTo>
                                          <a:pt x="91" y="415"/>
                                        </a:lnTo>
                                        <a:lnTo>
                                          <a:pt x="112" y="439"/>
                                        </a:lnTo>
                                        <a:lnTo>
                                          <a:pt x="133" y="463"/>
                                        </a:lnTo>
                                        <a:lnTo>
                                          <a:pt x="149" y="484"/>
                                        </a:lnTo>
                                        <a:lnTo>
                                          <a:pt x="163" y="502"/>
                                        </a:lnTo>
                                        <a:lnTo>
                                          <a:pt x="176" y="517"/>
                                        </a:lnTo>
                                        <a:lnTo>
                                          <a:pt x="184" y="529"/>
                                        </a:lnTo>
                                        <a:lnTo>
                                          <a:pt x="194" y="533"/>
                                        </a:lnTo>
                                        <a:lnTo>
                                          <a:pt x="208" y="536"/>
                                        </a:lnTo>
                                        <a:lnTo>
                                          <a:pt x="225" y="540"/>
                                        </a:lnTo>
                                        <a:lnTo>
                                          <a:pt x="242" y="545"/>
                                        </a:lnTo>
                                        <a:lnTo>
                                          <a:pt x="256" y="553"/>
                                        </a:lnTo>
                                        <a:lnTo>
                                          <a:pt x="268" y="561"/>
                                        </a:lnTo>
                                        <a:lnTo>
                                          <a:pt x="253" y="564"/>
                                        </a:lnTo>
                                        <a:lnTo>
                                          <a:pt x="231" y="566"/>
                                        </a:lnTo>
                                        <a:lnTo>
                                          <a:pt x="210" y="567"/>
                                        </a:lnTo>
                                        <a:lnTo>
                                          <a:pt x="196" y="563"/>
                                        </a:lnTo>
                                        <a:lnTo>
                                          <a:pt x="181" y="556"/>
                                        </a:lnTo>
                                        <a:lnTo>
                                          <a:pt x="162" y="548"/>
                                        </a:lnTo>
                                        <a:lnTo>
                                          <a:pt x="152" y="538"/>
                                        </a:lnTo>
                                        <a:lnTo>
                                          <a:pt x="141" y="522"/>
                                        </a:lnTo>
                                        <a:lnTo>
                                          <a:pt x="129" y="503"/>
                                        </a:lnTo>
                                        <a:lnTo>
                                          <a:pt x="118" y="488"/>
                                        </a:lnTo>
                                        <a:lnTo>
                                          <a:pt x="98" y="466"/>
                                        </a:lnTo>
                                        <a:lnTo>
                                          <a:pt x="83" y="448"/>
                                        </a:lnTo>
                                        <a:lnTo>
                                          <a:pt x="61" y="426"/>
                                        </a:lnTo>
                                        <a:lnTo>
                                          <a:pt x="44" y="410"/>
                                        </a:lnTo>
                                        <a:lnTo>
                                          <a:pt x="33" y="398"/>
                                        </a:lnTo>
                                        <a:lnTo>
                                          <a:pt x="26" y="383"/>
                                        </a:lnTo>
                                        <a:lnTo>
                                          <a:pt x="18" y="362"/>
                                        </a:lnTo>
                                        <a:lnTo>
                                          <a:pt x="9" y="338"/>
                                        </a:lnTo>
                                        <a:lnTo>
                                          <a:pt x="4" y="314"/>
                                        </a:lnTo>
                                        <a:lnTo>
                                          <a:pt x="0" y="287"/>
                                        </a:lnTo>
                                        <a:lnTo>
                                          <a:pt x="2" y="269"/>
                                        </a:lnTo>
                                        <a:close/>
                                      </a:path>
                                    </a:pathLst>
                                  </a:custGeom>
                                  <a:solidFill>
                                    <a:srgbClr val="ff4040"/>
                                  </a:solidFill>
                                  <a:ln w="0">
                                    <a:noFill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</p:grpSp>
                          </p:grpSp>
                          <p:sp>
                            <p:nvSpPr>
                              <p:cNvPr id="7431" name=""/>
                              <p:cNvSpPr/>
                              <p:nvPr/>
                            </p:nvSpPr>
                            <p:spPr>
                              <a:xfrm>
                                <a:off x="5030280" y="1751760"/>
                                <a:ext cx="96480" cy="15588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391" h="501">
                                    <a:moveTo>
                                      <a:pt x="103" y="64"/>
                                    </a:moveTo>
                                    <a:lnTo>
                                      <a:pt x="132" y="49"/>
                                    </a:lnTo>
                                    <a:lnTo>
                                      <a:pt x="152" y="31"/>
                                    </a:lnTo>
                                    <a:lnTo>
                                      <a:pt x="178" y="12"/>
                                    </a:lnTo>
                                    <a:lnTo>
                                      <a:pt x="198" y="3"/>
                                    </a:lnTo>
                                    <a:lnTo>
                                      <a:pt x="217" y="0"/>
                                    </a:lnTo>
                                    <a:lnTo>
                                      <a:pt x="229" y="3"/>
                                    </a:lnTo>
                                    <a:lnTo>
                                      <a:pt x="241" y="13"/>
                                    </a:lnTo>
                                    <a:lnTo>
                                      <a:pt x="249" y="31"/>
                                    </a:lnTo>
                                    <a:lnTo>
                                      <a:pt x="259" y="62"/>
                                    </a:lnTo>
                                    <a:lnTo>
                                      <a:pt x="262" y="95"/>
                                    </a:lnTo>
                                    <a:lnTo>
                                      <a:pt x="263" y="131"/>
                                    </a:lnTo>
                                    <a:lnTo>
                                      <a:pt x="269" y="165"/>
                                    </a:lnTo>
                                    <a:lnTo>
                                      <a:pt x="283" y="197"/>
                                    </a:lnTo>
                                    <a:lnTo>
                                      <a:pt x="301" y="237"/>
                                    </a:lnTo>
                                    <a:lnTo>
                                      <a:pt x="319" y="277"/>
                                    </a:lnTo>
                                    <a:lnTo>
                                      <a:pt x="340" y="319"/>
                                    </a:lnTo>
                                    <a:lnTo>
                                      <a:pt x="365" y="368"/>
                                    </a:lnTo>
                                    <a:lnTo>
                                      <a:pt x="383" y="409"/>
                                    </a:lnTo>
                                    <a:lnTo>
                                      <a:pt x="391" y="434"/>
                                    </a:lnTo>
                                    <a:lnTo>
                                      <a:pt x="391" y="458"/>
                                    </a:lnTo>
                                    <a:lnTo>
                                      <a:pt x="384" y="480"/>
                                    </a:lnTo>
                                    <a:lnTo>
                                      <a:pt x="371" y="494"/>
                                    </a:lnTo>
                                    <a:lnTo>
                                      <a:pt x="350" y="501"/>
                                    </a:lnTo>
                                    <a:lnTo>
                                      <a:pt x="326" y="498"/>
                                    </a:lnTo>
                                    <a:lnTo>
                                      <a:pt x="298" y="490"/>
                                    </a:lnTo>
                                    <a:lnTo>
                                      <a:pt x="274" y="468"/>
                                    </a:lnTo>
                                    <a:lnTo>
                                      <a:pt x="249" y="446"/>
                                    </a:lnTo>
                                    <a:lnTo>
                                      <a:pt x="227" y="416"/>
                                    </a:lnTo>
                                    <a:lnTo>
                                      <a:pt x="198" y="378"/>
                                    </a:lnTo>
                                    <a:lnTo>
                                      <a:pt x="177" y="346"/>
                                    </a:lnTo>
                                    <a:lnTo>
                                      <a:pt x="143" y="317"/>
                                    </a:lnTo>
                                    <a:lnTo>
                                      <a:pt x="112" y="288"/>
                                    </a:lnTo>
                                    <a:lnTo>
                                      <a:pt x="89" y="259"/>
                                    </a:lnTo>
                                    <a:lnTo>
                                      <a:pt x="64" y="222"/>
                                    </a:lnTo>
                                    <a:lnTo>
                                      <a:pt x="35" y="186"/>
                                    </a:lnTo>
                                    <a:lnTo>
                                      <a:pt x="15" y="163"/>
                                    </a:lnTo>
                                    <a:lnTo>
                                      <a:pt x="3" y="143"/>
                                    </a:lnTo>
                                    <a:lnTo>
                                      <a:pt x="0" y="125"/>
                                    </a:lnTo>
                                    <a:lnTo>
                                      <a:pt x="4" y="102"/>
                                    </a:lnTo>
                                    <a:lnTo>
                                      <a:pt x="16" y="87"/>
                                    </a:lnTo>
                                    <a:lnTo>
                                      <a:pt x="34" y="80"/>
                                    </a:lnTo>
                                    <a:lnTo>
                                      <a:pt x="55" y="74"/>
                                    </a:lnTo>
                                    <a:lnTo>
                                      <a:pt x="80" y="68"/>
                                    </a:lnTo>
                                    <a:lnTo>
                                      <a:pt x="103" y="64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ff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7432" name=""/>
                            <p:cNvGrpSpPr/>
                            <p:nvPr/>
                          </p:nvGrpSpPr>
                          <p:grpSpPr>
                            <a:xfrm>
                              <a:off x="4933800" y="1613160"/>
                              <a:ext cx="133560" cy="144720"/>
                              <a:chOff x="4933800" y="1613160"/>
                              <a:chExt cx="133560" cy="144720"/>
                            </a:xfrm>
                          </p:grpSpPr>
                          <p:sp>
                            <p:nvSpPr>
                              <p:cNvPr id="7433" name=""/>
                              <p:cNvSpPr/>
                              <p:nvPr/>
                            </p:nvSpPr>
                            <p:spPr>
                              <a:xfrm>
                                <a:off x="4933800" y="1613160"/>
                                <a:ext cx="133560" cy="14472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541" h="470">
                                    <a:moveTo>
                                      <a:pt x="1" y="223"/>
                                    </a:moveTo>
                                    <a:lnTo>
                                      <a:pt x="7" y="204"/>
                                    </a:lnTo>
                                    <a:lnTo>
                                      <a:pt x="16" y="188"/>
                                    </a:lnTo>
                                    <a:lnTo>
                                      <a:pt x="25" y="169"/>
                                    </a:lnTo>
                                    <a:lnTo>
                                      <a:pt x="36" y="157"/>
                                    </a:lnTo>
                                    <a:lnTo>
                                      <a:pt x="47" y="147"/>
                                    </a:lnTo>
                                    <a:lnTo>
                                      <a:pt x="62" y="131"/>
                                    </a:lnTo>
                                    <a:lnTo>
                                      <a:pt x="79" y="114"/>
                                    </a:lnTo>
                                    <a:lnTo>
                                      <a:pt x="91" y="96"/>
                                    </a:lnTo>
                                    <a:lnTo>
                                      <a:pt x="104" y="79"/>
                                    </a:lnTo>
                                    <a:lnTo>
                                      <a:pt x="119" y="66"/>
                                    </a:lnTo>
                                    <a:lnTo>
                                      <a:pt x="135" y="51"/>
                                    </a:lnTo>
                                    <a:lnTo>
                                      <a:pt x="152" y="38"/>
                                    </a:lnTo>
                                    <a:lnTo>
                                      <a:pt x="169" y="27"/>
                                    </a:lnTo>
                                    <a:lnTo>
                                      <a:pt x="190" y="17"/>
                                    </a:lnTo>
                                    <a:lnTo>
                                      <a:pt x="214" y="8"/>
                                    </a:lnTo>
                                    <a:lnTo>
                                      <a:pt x="239" y="3"/>
                                    </a:lnTo>
                                    <a:lnTo>
                                      <a:pt x="268" y="0"/>
                                    </a:lnTo>
                                    <a:lnTo>
                                      <a:pt x="297" y="0"/>
                                    </a:lnTo>
                                    <a:lnTo>
                                      <a:pt x="319" y="1"/>
                                    </a:lnTo>
                                    <a:lnTo>
                                      <a:pt x="342" y="4"/>
                                    </a:lnTo>
                                    <a:lnTo>
                                      <a:pt x="363" y="8"/>
                                    </a:lnTo>
                                    <a:lnTo>
                                      <a:pt x="391" y="15"/>
                                    </a:lnTo>
                                    <a:lnTo>
                                      <a:pt x="412" y="25"/>
                                    </a:lnTo>
                                    <a:lnTo>
                                      <a:pt x="431" y="34"/>
                                    </a:lnTo>
                                    <a:lnTo>
                                      <a:pt x="451" y="45"/>
                                    </a:lnTo>
                                    <a:lnTo>
                                      <a:pt x="468" y="61"/>
                                    </a:lnTo>
                                    <a:lnTo>
                                      <a:pt x="483" y="77"/>
                                    </a:lnTo>
                                    <a:lnTo>
                                      <a:pt x="496" y="93"/>
                                    </a:lnTo>
                                    <a:lnTo>
                                      <a:pt x="510" y="112"/>
                                    </a:lnTo>
                                    <a:lnTo>
                                      <a:pt x="522" y="129"/>
                                    </a:lnTo>
                                    <a:lnTo>
                                      <a:pt x="530" y="148"/>
                                    </a:lnTo>
                                    <a:lnTo>
                                      <a:pt x="535" y="169"/>
                                    </a:lnTo>
                                    <a:lnTo>
                                      <a:pt x="539" y="190"/>
                                    </a:lnTo>
                                    <a:lnTo>
                                      <a:pt x="541" y="206"/>
                                    </a:lnTo>
                                    <a:lnTo>
                                      <a:pt x="541" y="224"/>
                                    </a:lnTo>
                                    <a:lnTo>
                                      <a:pt x="536" y="236"/>
                                    </a:lnTo>
                                    <a:lnTo>
                                      <a:pt x="528" y="257"/>
                                    </a:lnTo>
                                    <a:lnTo>
                                      <a:pt x="516" y="281"/>
                                    </a:lnTo>
                                    <a:lnTo>
                                      <a:pt x="506" y="303"/>
                                    </a:lnTo>
                                    <a:lnTo>
                                      <a:pt x="497" y="320"/>
                                    </a:lnTo>
                                    <a:lnTo>
                                      <a:pt x="491" y="340"/>
                                    </a:lnTo>
                                    <a:lnTo>
                                      <a:pt x="485" y="358"/>
                                    </a:lnTo>
                                    <a:lnTo>
                                      <a:pt x="480" y="376"/>
                                    </a:lnTo>
                                    <a:lnTo>
                                      <a:pt x="477" y="385"/>
                                    </a:lnTo>
                                    <a:lnTo>
                                      <a:pt x="476" y="399"/>
                                    </a:lnTo>
                                    <a:lnTo>
                                      <a:pt x="475" y="421"/>
                                    </a:lnTo>
                                    <a:lnTo>
                                      <a:pt x="389" y="441"/>
                                    </a:lnTo>
                                    <a:lnTo>
                                      <a:pt x="387" y="427"/>
                                    </a:lnTo>
                                    <a:lnTo>
                                      <a:pt x="384" y="417"/>
                                    </a:lnTo>
                                    <a:lnTo>
                                      <a:pt x="379" y="409"/>
                                    </a:lnTo>
                                    <a:lnTo>
                                      <a:pt x="368" y="404"/>
                                    </a:lnTo>
                                    <a:lnTo>
                                      <a:pt x="350" y="407"/>
                                    </a:lnTo>
                                    <a:lnTo>
                                      <a:pt x="330" y="410"/>
                                    </a:lnTo>
                                    <a:lnTo>
                                      <a:pt x="306" y="416"/>
                                    </a:lnTo>
                                    <a:lnTo>
                                      <a:pt x="283" y="422"/>
                                    </a:lnTo>
                                    <a:lnTo>
                                      <a:pt x="271" y="426"/>
                                    </a:lnTo>
                                    <a:lnTo>
                                      <a:pt x="258" y="436"/>
                                    </a:lnTo>
                                    <a:lnTo>
                                      <a:pt x="243" y="448"/>
                                    </a:lnTo>
                                    <a:lnTo>
                                      <a:pt x="222" y="465"/>
                                    </a:lnTo>
                                    <a:lnTo>
                                      <a:pt x="210" y="468"/>
                                    </a:lnTo>
                                    <a:lnTo>
                                      <a:pt x="191" y="470"/>
                                    </a:lnTo>
                                    <a:lnTo>
                                      <a:pt x="173" y="470"/>
                                    </a:lnTo>
                                    <a:lnTo>
                                      <a:pt x="163" y="467"/>
                                    </a:lnTo>
                                    <a:lnTo>
                                      <a:pt x="150" y="461"/>
                                    </a:lnTo>
                                    <a:lnTo>
                                      <a:pt x="134" y="455"/>
                                    </a:lnTo>
                                    <a:lnTo>
                                      <a:pt x="126" y="446"/>
                                    </a:lnTo>
                                    <a:lnTo>
                                      <a:pt x="117" y="433"/>
                                    </a:lnTo>
                                    <a:lnTo>
                                      <a:pt x="107" y="418"/>
                                    </a:lnTo>
                                    <a:lnTo>
                                      <a:pt x="98" y="404"/>
                                    </a:lnTo>
                                    <a:lnTo>
                                      <a:pt x="81" y="387"/>
                                    </a:lnTo>
                                    <a:lnTo>
                                      <a:pt x="69" y="371"/>
                                    </a:lnTo>
                                    <a:lnTo>
                                      <a:pt x="49" y="354"/>
                                    </a:lnTo>
                                    <a:lnTo>
                                      <a:pt x="35" y="340"/>
                                    </a:lnTo>
                                    <a:lnTo>
                                      <a:pt x="26" y="329"/>
                                    </a:lnTo>
                                    <a:lnTo>
                                      <a:pt x="21" y="319"/>
                                    </a:lnTo>
                                    <a:lnTo>
                                      <a:pt x="14" y="301"/>
                                    </a:lnTo>
                                    <a:lnTo>
                                      <a:pt x="6" y="280"/>
                                    </a:lnTo>
                                    <a:lnTo>
                                      <a:pt x="2" y="260"/>
                                    </a:lnTo>
                                    <a:lnTo>
                                      <a:pt x="0" y="238"/>
                                    </a:lnTo>
                                    <a:lnTo>
                                      <a:pt x="1" y="223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ff404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7434" name=""/>
                              <p:cNvSpPr/>
                              <p:nvPr/>
                            </p:nvSpPr>
                            <p:spPr>
                              <a:xfrm>
                                <a:off x="4942440" y="1623600"/>
                                <a:ext cx="122400" cy="1310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492" h="428">
                                    <a:moveTo>
                                      <a:pt x="0" y="203"/>
                                    </a:moveTo>
                                    <a:lnTo>
                                      <a:pt x="7" y="187"/>
                                    </a:lnTo>
                                    <a:lnTo>
                                      <a:pt x="14" y="171"/>
                                    </a:lnTo>
                                    <a:lnTo>
                                      <a:pt x="23" y="155"/>
                                    </a:lnTo>
                                    <a:lnTo>
                                      <a:pt x="33" y="144"/>
                                    </a:lnTo>
                                    <a:lnTo>
                                      <a:pt x="43" y="134"/>
                                    </a:lnTo>
                                    <a:lnTo>
                                      <a:pt x="56" y="120"/>
                                    </a:lnTo>
                                    <a:lnTo>
                                      <a:pt x="72" y="105"/>
                                    </a:lnTo>
                                    <a:lnTo>
                                      <a:pt x="83" y="87"/>
                                    </a:lnTo>
                                    <a:lnTo>
                                      <a:pt x="94" y="73"/>
                                    </a:lnTo>
                                    <a:lnTo>
                                      <a:pt x="108" y="61"/>
                                    </a:lnTo>
                                    <a:lnTo>
                                      <a:pt x="123" y="47"/>
                                    </a:lnTo>
                                    <a:lnTo>
                                      <a:pt x="138" y="35"/>
                                    </a:lnTo>
                                    <a:lnTo>
                                      <a:pt x="153" y="25"/>
                                    </a:lnTo>
                                    <a:lnTo>
                                      <a:pt x="174" y="15"/>
                                    </a:lnTo>
                                    <a:lnTo>
                                      <a:pt x="194" y="8"/>
                                    </a:lnTo>
                                    <a:lnTo>
                                      <a:pt x="217" y="2"/>
                                    </a:lnTo>
                                    <a:lnTo>
                                      <a:pt x="244" y="0"/>
                                    </a:lnTo>
                                    <a:lnTo>
                                      <a:pt x="270" y="0"/>
                                    </a:lnTo>
                                    <a:lnTo>
                                      <a:pt x="290" y="0"/>
                                    </a:lnTo>
                                    <a:lnTo>
                                      <a:pt x="311" y="3"/>
                                    </a:lnTo>
                                    <a:lnTo>
                                      <a:pt x="330" y="8"/>
                                    </a:lnTo>
                                    <a:lnTo>
                                      <a:pt x="356" y="13"/>
                                    </a:lnTo>
                                    <a:lnTo>
                                      <a:pt x="375" y="23"/>
                                    </a:lnTo>
                                    <a:lnTo>
                                      <a:pt x="392" y="31"/>
                                    </a:lnTo>
                                    <a:lnTo>
                                      <a:pt x="410" y="42"/>
                                    </a:lnTo>
                                    <a:lnTo>
                                      <a:pt x="425" y="55"/>
                                    </a:lnTo>
                                    <a:lnTo>
                                      <a:pt x="440" y="71"/>
                                    </a:lnTo>
                                    <a:lnTo>
                                      <a:pt x="451" y="84"/>
                                    </a:lnTo>
                                    <a:lnTo>
                                      <a:pt x="463" y="103"/>
                                    </a:lnTo>
                                    <a:lnTo>
                                      <a:pt x="475" y="118"/>
                                    </a:lnTo>
                                    <a:lnTo>
                                      <a:pt x="482" y="135"/>
                                    </a:lnTo>
                                    <a:lnTo>
                                      <a:pt x="487" y="155"/>
                                    </a:lnTo>
                                    <a:lnTo>
                                      <a:pt x="491" y="173"/>
                                    </a:lnTo>
                                    <a:lnTo>
                                      <a:pt x="492" y="188"/>
                                    </a:lnTo>
                                    <a:lnTo>
                                      <a:pt x="492" y="204"/>
                                    </a:lnTo>
                                    <a:lnTo>
                                      <a:pt x="488" y="215"/>
                                    </a:lnTo>
                                    <a:lnTo>
                                      <a:pt x="481" y="234"/>
                                    </a:lnTo>
                                    <a:lnTo>
                                      <a:pt x="469" y="257"/>
                                    </a:lnTo>
                                    <a:lnTo>
                                      <a:pt x="461" y="276"/>
                                    </a:lnTo>
                                    <a:lnTo>
                                      <a:pt x="452" y="292"/>
                                    </a:lnTo>
                                    <a:lnTo>
                                      <a:pt x="447" y="310"/>
                                    </a:lnTo>
                                    <a:lnTo>
                                      <a:pt x="441" y="326"/>
                                    </a:lnTo>
                                    <a:lnTo>
                                      <a:pt x="437" y="343"/>
                                    </a:lnTo>
                                    <a:lnTo>
                                      <a:pt x="434" y="351"/>
                                    </a:lnTo>
                                    <a:lnTo>
                                      <a:pt x="433" y="364"/>
                                    </a:lnTo>
                                    <a:lnTo>
                                      <a:pt x="432" y="384"/>
                                    </a:lnTo>
                                    <a:lnTo>
                                      <a:pt x="354" y="402"/>
                                    </a:lnTo>
                                    <a:lnTo>
                                      <a:pt x="352" y="389"/>
                                    </a:lnTo>
                                    <a:lnTo>
                                      <a:pt x="349" y="380"/>
                                    </a:lnTo>
                                    <a:lnTo>
                                      <a:pt x="345" y="373"/>
                                    </a:lnTo>
                                    <a:lnTo>
                                      <a:pt x="335" y="368"/>
                                    </a:lnTo>
                                    <a:lnTo>
                                      <a:pt x="318" y="371"/>
                                    </a:lnTo>
                                    <a:lnTo>
                                      <a:pt x="300" y="374"/>
                                    </a:lnTo>
                                    <a:lnTo>
                                      <a:pt x="277" y="379"/>
                                    </a:lnTo>
                                    <a:lnTo>
                                      <a:pt x="257" y="385"/>
                                    </a:lnTo>
                                    <a:lnTo>
                                      <a:pt x="247" y="388"/>
                                    </a:lnTo>
                                    <a:lnTo>
                                      <a:pt x="235" y="397"/>
                                    </a:lnTo>
                                    <a:lnTo>
                                      <a:pt x="221" y="408"/>
                                    </a:lnTo>
                                    <a:lnTo>
                                      <a:pt x="203" y="424"/>
                                    </a:lnTo>
                                    <a:lnTo>
                                      <a:pt x="191" y="427"/>
                                    </a:lnTo>
                                    <a:lnTo>
                                      <a:pt x="174" y="428"/>
                                    </a:lnTo>
                                    <a:lnTo>
                                      <a:pt x="158" y="428"/>
                                    </a:lnTo>
                                    <a:lnTo>
                                      <a:pt x="148" y="426"/>
                                    </a:lnTo>
                                    <a:lnTo>
                                      <a:pt x="136" y="420"/>
                                    </a:lnTo>
                                    <a:lnTo>
                                      <a:pt x="123" y="414"/>
                                    </a:lnTo>
                                    <a:lnTo>
                                      <a:pt x="115" y="407"/>
                                    </a:lnTo>
                                    <a:lnTo>
                                      <a:pt x="106" y="395"/>
                                    </a:lnTo>
                                    <a:lnTo>
                                      <a:pt x="97" y="381"/>
                                    </a:lnTo>
                                    <a:lnTo>
                                      <a:pt x="90" y="368"/>
                                    </a:lnTo>
                                    <a:lnTo>
                                      <a:pt x="74" y="353"/>
                                    </a:lnTo>
                                    <a:lnTo>
                                      <a:pt x="62" y="339"/>
                                    </a:lnTo>
                                    <a:lnTo>
                                      <a:pt x="45" y="323"/>
                                    </a:lnTo>
                                    <a:lnTo>
                                      <a:pt x="32" y="310"/>
                                    </a:lnTo>
                                    <a:lnTo>
                                      <a:pt x="24" y="301"/>
                                    </a:lnTo>
                                    <a:lnTo>
                                      <a:pt x="19" y="290"/>
                                    </a:lnTo>
                                    <a:lnTo>
                                      <a:pt x="12" y="274"/>
                                    </a:lnTo>
                                    <a:lnTo>
                                      <a:pt x="6" y="255"/>
                                    </a:lnTo>
                                    <a:lnTo>
                                      <a:pt x="2" y="237"/>
                                    </a:lnTo>
                                    <a:lnTo>
                                      <a:pt x="0" y="218"/>
                                    </a:lnTo>
                                    <a:lnTo>
                                      <a:pt x="0" y="203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ff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7435" name=""/>
                              <p:cNvSpPr/>
                              <p:nvPr/>
                            </p:nvSpPr>
                            <p:spPr>
                              <a:xfrm>
                                <a:off x="4951080" y="1632960"/>
                                <a:ext cx="109800" cy="1184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441" h="383">
                                    <a:moveTo>
                                      <a:pt x="0" y="182"/>
                                    </a:moveTo>
                                    <a:lnTo>
                                      <a:pt x="6" y="167"/>
                                    </a:lnTo>
                                    <a:lnTo>
                                      <a:pt x="12" y="154"/>
                                    </a:lnTo>
                                    <a:lnTo>
                                      <a:pt x="19" y="138"/>
                                    </a:lnTo>
                                    <a:lnTo>
                                      <a:pt x="28" y="128"/>
                                    </a:lnTo>
                                    <a:lnTo>
                                      <a:pt x="38" y="120"/>
                                    </a:lnTo>
                                    <a:lnTo>
                                      <a:pt x="50" y="108"/>
                                    </a:lnTo>
                                    <a:lnTo>
                                      <a:pt x="63" y="93"/>
                                    </a:lnTo>
                                    <a:lnTo>
                                      <a:pt x="73" y="78"/>
                                    </a:lnTo>
                                    <a:lnTo>
                                      <a:pt x="84" y="64"/>
                                    </a:lnTo>
                                    <a:lnTo>
                                      <a:pt x="97" y="54"/>
                                    </a:lnTo>
                                    <a:lnTo>
                                      <a:pt x="110" y="42"/>
                                    </a:lnTo>
                                    <a:lnTo>
                                      <a:pt x="124" y="31"/>
                                    </a:lnTo>
                                    <a:lnTo>
                                      <a:pt x="137" y="21"/>
                                    </a:lnTo>
                                    <a:lnTo>
                                      <a:pt x="155" y="13"/>
                                    </a:lnTo>
                                    <a:lnTo>
                                      <a:pt x="174" y="7"/>
                                    </a:lnTo>
                                    <a:lnTo>
                                      <a:pt x="194" y="1"/>
                                    </a:lnTo>
                                    <a:lnTo>
                                      <a:pt x="219" y="0"/>
                                    </a:lnTo>
                                    <a:lnTo>
                                      <a:pt x="241" y="0"/>
                                    </a:lnTo>
                                    <a:lnTo>
                                      <a:pt x="261" y="0"/>
                                    </a:lnTo>
                                    <a:lnTo>
                                      <a:pt x="279" y="2"/>
                                    </a:lnTo>
                                    <a:lnTo>
                                      <a:pt x="296" y="7"/>
                                    </a:lnTo>
                                    <a:lnTo>
                                      <a:pt x="319" y="11"/>
                                    </a:lnTo>
                                    <a:lnTo>
                                      <a:pt x="336" y="19"/>
                                    </a:lnTo>
                                    <a:lnTo>
                                      <a:pt x="351" y="27"/>
                                    </a:lnTo>
                                    <a:lnTo>
                                      <a:pt x="368" y="37"/>
                                    </a:lnTo>
                                    <a:lnTo>
                                      <a:pt x="381" y="49"/>
                                    </a:lnTo>
                                    <a:lnTo>
                                      <a:pt x="395" y="63"/>
                                    </a:lnTo>
                                    <a:lnTo>
                                      <a:pt x="405" y="75"/>
                                    </a:lnTo>
                                    <a:lnTo>
                                      <a:pt x="415" y="91"/>
                                    </a:lnTo>
                                    <a:lnTo>
                                      <a:pt x="425" y="106"/>
                                    </a:lnTo>
                                    <a:lnTo>
                                      <a:pt x="432" y="121"/>
                                    </a:lnTo>
                                    <a:lnTo>
                                      <a:pt x="437" y="138"/>
                                    </a:lnTo>
                                    <a:lnTo>
                                      <a:pt x="441" y="155"/>
                                    </a:lnTo>
                                    <a:lnTo>
                                      <a:pt x="441" y="168"/>
                                    </a:lnTo>
                                    <a:lnTo>
                                      <a:pt x="441" y="182"/>
                                    </a:lnTo>
                                    <a:lnTo>
                                      <a:pt x="438" y="193"/>
                                    </a:lnTo>
                                    <a:lnTo>
                                      <a:pt x="431" y="210"/>
                                    </a:lnTo>
                                    <a:lnTo>
                                      <a:pt x="421" y="230"/>
                                    </a:lnTo>
                                    <a:lnTo>
                                      <a:pt x="414" y="247"/>
                                    </a:lnTo>
                                    <a:lnTo>
                                      <a:pt x="405" y="262"/>
                                    </a:lnTo>
                                    <a:lnTo>
                                      <a:pt x="401" y="278"/>
                                    </a:lnTo>
                                    <a:lnTo>
                                      <a:pt x="396" y="292"/>
                                    </a:lnTo>
                                    <a:lnTo>
                                      <a:pt x="392" y="308"/>
                                    </a:lnTo>
                                    <a:lnTo>
                                      <a:pt x="388" y="315"/>
                                    </a:lnTo>
                                    <a:lnTo>
                                      <a:pt x="387" y="327"/>
                                    </a:lnTo>
                                    <a:lnTo>
                                      <a:pt x="386" y="344"/>
                                    </a:lnTo>
                                    <a:lnTo>
                                      <a:pt x="317" y="361"/>
                                    </a:lnTo>
                                    <a:lnTo>
                                      <a:pt x="315" y="349"/>
                                    </a:lnTo>
                                    <a:lnTo>
                                      <a:pt x="313" y="340"/>
                                    </a:lnTo>
                                    <a:lnTo>
                                      <a:pt x="309" y="335"/>
                                    </a:lnTo>
                                    <a:lnTo>
                                      <a:pt x="301" y="330"/>
                                    </a:lnTo>
                                    <a:lnTo>
                                      <a:pt x="285" y="333"/>
                                    </a:lnTo>
                                    <a:lnTo>
                                      <a:pt x="269" y="336"/>
                                    </a:lnTo>
                                    <a:lnTo>
                                      <a:pt x="248" y="339"/>
                                    </a:lnTo>
                                    <a:lnTo>
                                      <a:pt x="230" y="346"/>
                                    </a:lnTo>
                                    <a:lnTo>
                                      <a:pt x="221" y="348"/>
                                    </a:lnTo>
                                    <a:lnTo>
                                      <a:pt x="211" y="356"/>
                                    </a:lnTo>
                                    <a:lnTo>
                                      <a:pt x="198" y="366"/>
                                    </a:lnTo>
                                    <a:lnTo>
                                      <a:pt x="181" y="380"/>
                                    </a:lnTo>
                                    <a:lnTo>
                                      <a:pt x="171" y="383"/>
                                    </a:lnTo>
                                    <a:lnTo>
                                      <a:pt x="155" y="383"/>
                                    </a:lnTo>
                                    <a:lnTo>
                                      <a:pt x="141" y="383"/>
                                    </a:lnTo>
                                    <a:lnTo>
                                      <a:pt x="133" y="382"/>
                                    </a:lnTo>
                                    <a:lnTo>
                                      <a:pt x="122" y="376"/>
                                    </a:lnTo>
                                    <a:lnTo>
                                      <a:pt x="109" y="372"/>
                                    </a:lnTo>
                                    <a:lnTo>
                                      <a:pt x="102" y="365"/>
                                    </a:lnTo>
                                    <a:lnTo>
                                      <a:pt x="95" y="355"/>
                                    </a:lnTo>
                                    <a:lnTo>
                                      <a:pt x="87" y="341"/>
                                    </a:lnTo>
                                    <a:lnTo>
                                      <a:pt x="81" y="330"/>
                                    </a:lnTo>
                                    <a:lnTo>
                                      <a:pt x="65" y="317"/>
                                    </a:lnTo>
                                    <a:lnTo>
                                      <a:pt x="55" y="303"/>
                                    </a:lnTo>
                                    <a:lnTo>
                                      <a:pt x="40" y="290"/>
                                    </a:lnTo>
                                    <a:lnTo>
                                      <a:pt x="27" y="278"/>
                                    </a:lnTo>
                                    <a:lnTo>
                                      <a:pt x="20" y="270"/>
                                    </a:lnTo>
                                    <a:lnTo>
                                      <a:pt x="17" y="260"/>
                                    </a:lnTo>
                                    <a:lnTo>
                                      <a:pt x="10" y="246"/>
                                    </a:lnTo>
                                    <a:lnTo>
                                      <a:pt x="5" y="229"/>
                                    </a:lnTo>
                                    <a:lnTo>
                                      <a:pt x="1" y="212"/>
                                    </a:lnTo>
                                    <a:lnTo>
                                      <a:pt x="0" y="195"/>
                                    </a:lnTo>
                                    <a:lnTo>
                                      <a:pt x="0" y="182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e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7436" name=""/>
                              <p:cNvSpPr/>
                              <p:nvPr/>
                            </p:nvSpPr>
                            <p:spPr>
                              <a:xfrm>
                                <a:off x="4959360" y="1641960"/>
                                <a:ext cx="97920" cy="1065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396" h="345">
                                    <a:moveTo>
                                      <a:pt x="0" y="164"/>
                                    </a:moveTo>
                                    <a:lnTo>
                                      <a:pt x="5" y="150"/>
                                    </a:lnTo>
                                    <a:lnTo>
                                      <a:pt x="10" y="138"/>
                                    </a:lnTo>
                                    <a:lnTo>
                                      <a:pt x="17" y="125"/>
                                    </a:lnTo>
                                    <a:lnTo>
                                      <a:pt x="25" y="114"/>
                                    </a:lnTo>
                                    <a:lnTo>
                                      <a:pt x="33" y="107"/>
                                    </a:lnTo>
                                    <a:lnTo>
                                      <a:pt x="45" y="96"/>
                                    </a:lnTo>
                                    <a:lnTo>
                                      <a:pt x="56" y="84"/>
                                    </a:lnTo>
                                    <a:lnTo>
                                      <a:pt x="66" y="69"/>
                                    </a:lnTo>
                                    <a:lnTo>
                                      <a:pt x="75" y="57"/>
                                    </a:lnTo>
                                    <a:lnTo>
                                      <a:pt x="86" y="48"/>
                                    </a:lnTo>
                                    <a:lnTo>
                                      <a:pt x="99" y="38"/>
                                    </a:lnTo>
                                    <a:lnTo>
                                      <a:pt x="111" y="27"/>
                                    </a:lnTo>
                                    <a:lnTo>
                                      <a:pt x="122" y="18"/>
                                    </a:lnTo>
                                    <a:lnTo>
                                      <a:pt x="140" y="11"/>
                                    </a:lnTo>
                                    <a:lnTo>
                                      <a:pt x="156" y="6"/>
                                    </a:lnTo>
                                    <a:lnTo>
                                      <a:pt x="174" y="0"/>
                                    </a:lnTo>
                                    <a:lnTo>
                                      <a:pt x="197" y="0"/>
                                    </a:lnTo>
                                    <a:lnTo>
                                      <a:pt x="216" y="0"/>
                                    </a:lnTo>
                                    <a:lnTo>
                                      <a:pt x="235" y="0"/>
                                    </a:lnTo>
                                    <a:lnTo>
                                      <a:pt x="251" y="1"/>
                                    </a:lnTo>
                                    <a:lnTo>
                                      <a:pt x="266" y="6"/>
                                    </a:lnTo>
                                    <a:lnTo>
                                      <a:pt x="287" y="9"/>
                                    </a:lnTo>
                                    <a:lnTo>
                                      <a:pt x="302" y="17"/>
                                    </a:lnTo>
                                    <a:lnTo>
                                      <a:pt x="316" y="23"/>
                                    </a:lnTo>
                                    <a:lnTo>
                                      <a:pt x="331" y="32"/>
                                    </a:lnTo>
                                    <a:lnTo>
                                      <a:pt x="343" y="44"/>
                                    </a:lnTo>
                                    <a:lnTo>
                                      <a:pt x="355" y="57"/>
                                    </a:lnTo>
                                    <a:lnTo>
                                      <a:pt x="365" y="67"/>
                                    </a:lnTo>
                                    <a:lnTo>
                                      <a:pt x="374" y="82"/>
                                    </a:lnTo>
                                    <a:lnTo>
                                      <a:pt x="383" y="95"/>
                                    </a:lnTo>
                                    <a:lnTo>
                                      <a:pt x="389" y="108"/>
                                    </a:lnTo>
                                    <a:lnTo>
                                      <a:pt x="393" y="125"/>
                                    </a:lnTo>
                                    <a:lnTo>
                                      <a:pt x="396" y="139"/>
                                    </a:lnTo>
                                    <a:lnTo>
                                      <a:pt x="396" y="151"/>
                                    </a:lnTo>
                                    <a:lnTo>
                                      <a:pt x="396" y="164"/>
                                    </a:lnTo>
                                    <a:lnTo>
                                      <a:pt x="394" y="173"/>
                                    </a:lnTo>
                                    <a:lnTo>
                                      <a:pt x="388" y="189"/>
                                    </a:lnTo>
                                    <a:lnTo>
                                      <a:pt x="379" y="207"/>
                                    </a:lnTo>
                                    <a:lnTo>
                                      <a:pt x="373" y="222"/>
                                    </a:lnTo>
                                    <a:lnTo>
                                      <a:pt x="365" y="237"/>
                                    </a:lnTo>
                                    <a:lnTo>
                                      <a:pt x="361" y="250"/>
                                    </a:lnTo>
                                    <a:lnTo>
                                      <a:pt x="356" y="263"/>
                                    </a:lnTo>
                                    <a:lnTo>
                                      <a:pt x="352" y="278"/>
                                    </a:lnTo>
                                    <a:lnTo>
                                      <a:pt x="349" y="284"/>
                                    </a:lnTo>
                                    <a:lnTo>
                                      <a:pt x="349" y="295"/>
                                    </a:lnTo>
                                    <a:lnTo>
                                      <a:pt x="348" y="310"/>
                                    </a:lnTo>
                                    <a:lnTo>
                                      <a:pt x="285" y="326"/>
                                    </a:lnTo>
                                    <a:lnTo>
                                      <a:pt x="283" y="314"/>
                                    </a:lnTo>
                                    <a:lnTo>
                                      <a:pt x="282" y="307"/>
                                    </a:lnTo>
                                    <a:lnTo>
                                      <a:pt x="278" y="302"/>
                                    </a:lnTo>
                                    <a:lnTo>
                                      <a:pt x="271" y="297"/>
                                    </a:lnTo>
                                    <a:lnTo>
                                      <a:pt x="256" y="300"/>
                                    </a:lnTo>
                                    <a:lnTo>
                                      <a:pt x="242" y="303"/>
                                    </a:lnTo>
                                    <a:lnTo>
                                      <a:pt x="223" y="306"/>
                                    </a:lnTo>
                                    <a:lnTo>
                                      <a:pt x="206" y="311"/>
                                    </a:lnTo>
                                    <a:lnTo>
                                      <a:pt x="198" y="313"/>
                                    </a:lnTo>
                                    <a:lnTo>
                                      <a:pt x="189" y="321"/>
                                    </a:lnTo>
                                    <a:lnTo>
                                      <a:pt x="178" y="330"/>
                                    </a:lnTo>
                                    <a:lnTo>
                                      <a:pt x="162" y="343"/>
                                    </a:lnTo>
                                    <a:lnTo>
                                      <a:pt x="153" y="345"/>
                                    </a:lnTo>
                                    <a:lnTo>
                                      <a:pt x="140" y="345"/>
                                    </a:lnTo>
                                    <a:lnTo>
                                      <a:pt x="126" y="345"/>
                                    </a:lnTo>
                                    <a:lnTo>
                                      <a:pt x="119" y="345"/>
                                    </a:lnTo>
                                    <a:lnTo>
                                      <a:pt x="109" y="339"/>
                                    </a:lnTo>
                                    <a:lnTo>
                                      <a:pt x="98" y="336"/>
                                    </a:lnTo>
                                    <a:lnTo>
                                      <a:pt x="92" y="329"/>
                                    </a:lnTo>
                                    <a:lnTo>
                                      <a:pt x="84" y="320"/>
                                    </a:lnTo>
                                    <a:lnTo>
                                      <a:pt x="77" y="307"/>
                                    </a:lnTo>
                                    <a:lnTo>
                                      <a:pt x="72" y="297"/>
                                    </a:lnTo>
                                    <a:lnTo>
                                      <a:pt x="58" y="286"/>
                                    </a:lnTo>
                                    <a:lnTo>
                                      <a:pt x="49" y="273"/>
                                    </a:lnTo>
                                    <a:lnTo>
                                      <a:pt x="35" y="261"/>
                                    </a:lnTo>
                                    <a:lnTo>
                                      <a:pt x="24" y="250"/>
                                    </a:lnTo>
                                    <a:lnTo>
                                      <a:pt x="18" y="243"/>
                                    </a:lnTo>
                                    <a:lnTo>
                                      <a:pt x="15" y="234"/>
                                    </a:lnTo>
                                    <a:lnTo>
                                      <a:pt x="9" y="221"/>
                                    </a:lnTo>
                                    <a:lnTo>
                                      <a:pt x="4" y="206"/>
                                    </a:lnTo>
                                    <a:lnTo>
                                      <a:pt x="0" y="191"/>
                                    </a:lnTo>
                                    <a:lnTo>
                                      <a:pt x="0" y="175"/>
                                    </a:lnTo>
                                    <a:lnTo>
                                      <a:pt x="0" y="164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c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7437" name=""/>
                          <p:cNvGrpSpPr/>
                          <p:nvPr/>
                        </p:nvGrpSpPr>
                        <p:grpSpPr>
                          <a:xfrm>
                            <a:off x="4979520" y="1609920"/>
                            <a:ext cx="90000" cy="51840"/>
                            <a:chOff x="4979520" y="1609920"/>
                            <a:chExt cx="90000" cy="51840"/>
                          </a:xfrm>
                        </p:grpSpPr>
                        <p:sp>
                          <p:nvSpPr>
                            <p:cNvPr id="7438" name=""/>
                            <p:cNvSpPr/>
                            <p:nvPr/>
                          </p:nvSpPr>
                          <p:spPr>
                            <a:xfrm>
                              <a:off x="4979520" y="1611000"/>
                              <a:ext cx="20880" cy="1512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88" h="49">
                                  <a:moveTo>
                                    <a:pt x="37" y="2"/>
                                  </a:moveTo>
                                  <a:lnTo>
                                    <a:pt x="48" y="0"/>
                                  </a:lnTo>
                                  <a:lnTo>
                                    <a:pt x="60" y="0"/>
                                  </a:lnTo>
                                  <a:lnTo>
                                    <a:pt x="68" y="1"/>
                                  </a:lnTo>
                                  <a:lnTo>
                                    <a:pt x="79" y="6"/>
                                  </a:lnTo>
                                  <a:lnTo>
                                    <a:pt x="85" y="10"/>
                                  </a:lnTo>
                                  <a:lnTo>
                                    <a:pt x="88" y="19"/>
                                  </a:lnTo>
                                  <a:lnTo>
                                    <a:pt x="85" y="29"/>
                                  </a:lnTo>
                                  <a:lnTo>
                                    <a:pt x="79" y="37"/>
                                  </a:lnTo>
                                  <a:lnTo>
                                    <a:pt x="70" y="41"/>
                                  </a:lnTo>
                                  <a:lnTo>
                                    <a:pt x="61" y="45"/>
                                  </a:lnTo>
                                  <a:lnTo>
                                    <a:pt x="48" y="47"/>
                                  </a:lnTo>
                                  <a:lnTo>
                                    <a:pt x="36" y="49"/>
                                  </a:lnTo>
                                  <a:lnTo>
                                    <a:pt x="23" y="49"/>
                                  </a:lnTo>
                                  <a:lnTo>
                                    <a:pt x="12" y="47"/>
                                  </a:lnTo>
                                  <a:lnTo>
                                    <a:pt x="3" y="42"/>
                                  </a:lnTo>
                                  <a:lnTo>
                                    <a:pt x="0" y="35"/>
                                  </a:lnTo>
                                  <a:lnTo>
                                    <a:pt x="1" y="25"/>
                                  </a:lnTo>
                                  <a:lnTo>
                                    <a:pt x="6" y="16"/>
                                  </a:lnTo>
                                  <a:lnTo>
                                    <a:pt x="16" y="9"/>
                                  </a:lnTo>
                                  <a:lnTo>
                                    <a:pt x="25" y="5"/>
                                  </a:lnTo>
                                  <a:lnTo>
                                    <a:pt x="37" y="2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a000a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31680" bIns="-3168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7439" name=""/>
                            <p:cNvSpPr/>
                            <p:nvPr/>
                          </p:nvSpPr>
                          <p:spPr>
                            <a:xfrm>
                              <a:off x="5007600" y="1609920"/>
                              <a:ext cx="22320" cy="1332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87" h="49">
                                  <a:moveTo>
                                    <a:pt x="36" y="47"/>
                                  </a:moveTo>
                                  <a:lnTo>
                                    <a:pt x="47" y="49"/>
                                  </a:lnTo>
                                  <a:lnTo>
                                    <a:pt x="58" y="49"/>
                                  </a:lnTo>
                                  <a:lnTo>
                                    <a:pt x="66" y="48"/>
                                  </a:lnTo>
                                  <a:lnTo>
                                    <a:pt x="78" y="43"/>
                                  </a:lnTo>
                                  <a:lnTo>
                                    <a:pt x="84" y="38"/>
                                  </a:lnTo>
                                  <a:lnTo>
                                    <a:pt x="87" y="30"/>
                                  </a:lnTo>
                                  <a:lnTo>
                                    <a:pt x="84" y="19"/>
                                  </a:lnTo>
                                  <a:lnTo>
                                    <a:pt x="78" y="12"/>
                                  </a:lnTo>
                                  <a:lnTo>
                                    <a:pt x="68" y="8"/>
                                  </a:lnTo>
                                  <a:lnTo>
                                    <a:pt x="59" y="4"/>
                                  </a:lnTo>
                                  <a:lnTo>
                                    <a:pt x="47" y="2"/>
                                  </a:lnTo>
                                  <a:lnTo>
                                    <a:pt x="35" y="0"/>
                                  </a:lnTo>
                                  <a:lnTo>
                                    <a:pt x="21" y="0"/>
                                  </a:lnTo>
                                  <a:lnTo>
                                    <a:pt x="10" y="2"/>
                                  </a:lnTo>
                                  <a:lnTo>
                                    <a:pt x="3" y="7"/>
                                  </a:lnTo>
                                  <a:lnTo>
                                    <a:pt x="0" y="14"/>
                                  </a:lnTo>
                                  <a:lnTo>
                                    <a:pt x="1" y="24"/>
                                  </a:lnTo>
                                  <a:lnTo>
                                    <a:pt x="6" y="33"/>
                                  </a:lnTo>
                                  <a:lnTo>
                                    <a:pt x="14" y="39"/>
                                  </a:lnTo>
                                  <a:lnTo>
                                    <a:pt x="23" y="44"/>
                                  </a:lnTo>
                                  <a:lnTo>
                                    <a:pt x="36" y="47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a000a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33480" bIns="-3348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7440" name=""/>
                            <p:cNvSpPr/>
                            <p:nvPr/>
                          </p:nvSpPr>
                          <p:spPr>
                            <a:xfrm>
                              <a:off x="5036400" y="1620360"/>
                              <a:ext cx="15840" cy="1656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68" h="56">
                                  <a:moveTo>
                                    <a:pt x="34" y="53"/>
                                  </a:moveTo>
                                  <a:lnTo>
                                    <a:pt x="45" y="56"/>
                                  </a:lnTo>
                                  <a:lnTo>
                                    <a:pt x="53" y="56"/>
                                  </a:lnTo>
                                  <a:lnTo>
                                    <a:pt x="61" y="54"/>
                                  </a:lnTo>
                                  <a:lnTo>
                                    <a:pt x="65" y="48"/>
                                  </a:lnTo>
                                  <a:lnTo>
                                    <a:pt x="68" y="40"/>
                                  </a:lnTo>
                                  <a:lnTo>
                                    <a:pt x="66" y="31"/>
                                  </a:lnTo>
                                  <a:lnTo>
                                    <a:pt x="60" y="19"/>
                                  </a:lnTo>
                                  <a:lnTo>
                                    <a:pt x="52" y="11"/>
                                  </a:lnTo>
                                  <a:lnTo>
                                    <a:pt x="41" y="5"/>
                                  </a:lnTo>
                                  <a:lnTo>
                                    <a:pt x="29" y="1"/>
                                  </a:lnTo>
                                  <a:lnTo>
                                    <a:pt x="20" y="0"/>
                                  </a:lnTo>
                                  <a:lnTo>
                                    <a:pt x="12" y="2"/>
                                  </a:lnTo>
                                  <a:lnTo>
                                    <a:pt x="4" y="7"/>
                                  </a:lnTo>
                                  <a:lnTo>
                                    <a:pt x="0" y="14"/>
                                  </a:lnTo>
                                  <a:lnTo>
                                    <a:pt x="1" y="24"/>
                                  </a:lnTo>
                                  <a:lnTo>
                                    <a:pt x="7" y="34"/>
                                  </a:lnTo>
                                  <a:lnTo>
                                    <a:pt x="16" y="41"/>
                                  </a:lnTo>
                                  <a:lnTo>
                                    <a:pt x="25" y="47"/>
                                  </a:lnTo>
                                  <a:lnTo>
                                    <a:pt x="34" y="53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a000a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30240" bIns="-3024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7441" name=""/>
                            <p:cNvSpPr/>
                            <p:nvPr/>
                          </p:nvSpPr>
                          <p:spPr>
                            <a:xfrm>
                              <a:off x="5054760" y="1641600"/>
                              <a:ext cx="14760" cy="2016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57" h="65">
                                  <a:moveTo>
                                    <a:pt x="24" y="61"/>
                                  </a:moveTo>
                                  <a:lnTo>
                                    <a:pt x="35" y="65"/>
                                  </a:lnTo>
                                  <a:lnTo>
                                    <a:pt x="45" y="64"/>
                                  </a:lnTo>
                                  <a:lnTo>
                                    <a:pt x="52" y="59"/>
                                  </a:lnTo>
                                  <a:lnTo>
                                    <a:pt x="57" y="48"/>
                                  </a:lnTo>
                                  <a:lnTo>
                                    <a:pt x="55" y="34"/>
                                  </a:lnTo>
                                  <a:lnTo>
                                    <a:pt x="52" y="23"/>
                                  </a:lnTo>
                                  <a:lnTo>
                                    <a:pt x="46" y="14"/>
                                  </a:lnTo>
                                  <a:lnTo>
                                    <a:pt x="40" y="6"/>
                                  </a:lnTo>
                                  <a:lnTo>
                                    <a:pt x="29" y="1"/>
                                  </a:lnTo>
                                  <a:lnTo>
                                    <a:pt x="21" y="0"/>
                                  </a:lnTo>
                                  <a:lnTo>
                                    <a:pt x="11" y="2"/>
                                  </a:lnTo>
                                  <a:lnTo>
                                    <a:pt x="3" y="7"/>
                                  </a:lnTo>
                                  <a:lnTo>
                                    <a:pt x="0" y="15"/>
                                  </a:lnTo>
                                  <a:lnTo>
                                    <a:pt x="1" y="24"/>
                                  </a:lnTo>
                                  <a:lnTo>
                                    <a:pt x="3" y="34"/>
                                  </a:lnTo>
                                  <a:lnTo>
                                    <a:pt x="9" y="44"/>
                                  </a:lnTo>
                                  <a:lnTo>
                                    <a:pt x="17" y="53"/>
                                  </a:lnTo>
                                  <a:lnTo>
                                    <a:pt x="24" y="61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a000a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26640" bIns="-2664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7442" name=""/>
                        <p:cNvGrpSpPr/>
                        <p:nvPr/>
                      </p:nvGrpSpPr>
                      <p:grpSpPr>
                        <a:xfrm>
                          <a:off x="5009400" y="1690200"/>
                          <a:ext cx="100800" cy="201960"/>
                          <a:chOff x="5009400" y="1690200"/>
                          <a:chExt cx="100800" cy="201960"/>
                        </a:xfrm>
                      </p:grpSpPr>
                      <p:sp>
                        <p:nvSpPr>
                          <p:cNvPr id="7443" name=""/>
                          <p:cNvSpPr/>
                          <p:nvPr/>
                        </p:nvSpPr>
                        <p:spPr>
                          <a:xfrm>
                            <a:off x="5053680" y="1691280"/>
                            <a:ext cx="56520" cy="12636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29" h="410">
                                <a:moveTo>
                                  <a:pt x="27" y="0"/>
                                </a:moveTo>
                                <a:lnTo>
                                  <a:pt x="17" y="28"/>
                                </a:lnTo>
                                <a:lnTo>
                                  <a:pt x="8" y="64"/>
                                </a:lnTo>
                                <a:lnTo>
                                  <a:pt x="3" y="103"/>
                                </a:lnTo>
                                <a:lnTo>
                                  <a:pt x="0" y="137"/>
                                </a:lnTo>
                                <a:lnTo>
                                  <a:pt x="5" y="166"/>
                                </a:lnTo>
                                <a:lnTo>
                                  <a:pt x="14" y="190"/>
                                </a:lnTo>
                                <a:lnTo>
                                  <a:pt x="30" y="215"/>
                                </a:lnTo>
                                <a:lnTo>
                                  <a:pt x="52" y="245"/>
                                </a:lnTo>
                                <a:lnTo>
                                  <a:pt x="82" y="272"/>
                                </a:lnTo>
                                <a:lnTo>
                                  <a:pt x="122" y="304"/>
                                </a:lnTo>
                                <a:lnTo>
                                  <a:pt x="152" y="329"/>
                                </a:lnTo>
                                <a:lnTo>
                                  <a:pt x="176" y="347"/>
                                </a:lnTo>
                                <a:lnTo>
                                  <a:pt x="192" y="366"/>
                                </a:lnTo>
                                <a:lnTo>
                                  <a:pt x="213" y="389"/>
                                </a:lnTo>
                                <a:lnTo>
                                  <a:pt x="229" y="410"/>
                                </a:lnTo>
                              </a:path>
                            </a:pathLst>
                          </a:custGeom>
                          <a:noFill/>
                          <a:ln w="4680">
                            <a:solidFill>
                              <a:srgbClr val="ffc0c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7444" name=""/>
                          <p:cNvSpPr/>
                          <p:nvPr/>
                        </p:nvSpPr>
                        <p:spPr>
                          <a:xfrm>
                            <a:off x="5009400" y="1733040"/>
                            <a:ext cx="54360" cy="1198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16" h="391">
                                <a:moveTo>
                                  <a:pt x="0" y="0"/>
                                </a:moveTo>
                                <a:lnTo>
                                  <a:pt x="24" y="4"/>
                                </a:lnTo>
                                <a:lnTo>
                                  <a:pt x="47" y="9"/>
                                </a:lnTo>
                                <a:lnTo>
                                  <a:pt x="73" y="18"/>
                                </a:lnTo>
                                <a:lnTo>
                                  <a:pt x="93" y="29"/>
                                </a:lnTo>
                                <a:lnTo>
                                  <a:pt x="112" y="41"/>
                                </a:lnTo>
                                <a:lnTo>
                                  <a:pt x="128" y="65"/>
                                </a:lnTo>
                                <a:lnTo>
                                  <a:pt x="142" y="87"/>
                                </a:lnTo>
                                <a:lnTo>
                                  <a:pt x="152" y="114"/>
                                </a:lnTo>
                                <a:lnTo>
                                  <a:pt x="162" y="146"/>
                                </a:lnTo>
                                <a:lnTo>
                                  <a:pt x="171" y="182"/>
                                </a:lnTo>
                                <a:lnTo>
                                  <a:pt x="174" y="222"/>
                                </a:lnTo>
                                <a:lnTo>
                                  <a:pt x="177" y="276"/>
                                </a:lnTo>
                                <a:lnTo>
                                  <a:pt x="180" y="314"/>
                                </a:lnTo>
                                <a:lnTo>
                                  <a:pt x="188" y="347"/>
                                </a:lnTo>
                                <a:lnTo>
                                  <a:pt x="201" y="372"/>
                                </a:lnTo>
                                <a:lnTo>
                                  <a:pt x="216" y="391"/>
                                </a:lnTo>
                                <a:lnTo>
                                  <a:pt x="214" y="390"/>
                                </a:lnTo>
                              </a:path>
                            </a:pathLst>
                          </a:custGeom>
                          <a:noFill/>
                          <a:ln w="4680">
                            <a:solidFill>
                              <a:srgbClr val="ffc0c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7445" name=""/>
                          <p:cNvSpPr/>
                          <p:nvPr/>
                        </p:nvSpPr>
                        <p:spPr>
                          <a:xfrm>
                            <a:off x="5011920" y="1690200"/>
                            <a:ext cx="91080" cy="20196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371" h="657">
                                <a:moveTo>
                                  <a:pt x="0" y="0"/>
                                </a:moveTo>
                                <a:lnTo>
                                  <a:pt x="26" y="25"/>
                                </a:lnTo>
                                <a:lnTo>
                                  <a:pt x="60" y="56"/>
                                </a:lnTo>
                                <a:lnTo>
                                  <a:pt x="84" y="86"/>
                                </a:lnTo>
                                <a:lnTo>
                                  <a:pt x="108" y="120"/>
                                </a:lnTo>
                                <a:lnTo>
                                  <a:pt x="132" y="159"/>
                                </a:lnTo>
                                <a:lnTo>
                                  <a:pt x="154" y="196"/>
                                </a:lnTo>
                                <a:lnTo>
                                  <a:pt x="176" y="236"/>
                                </a:lnTo>
                                <a:lnTo>
                                  <a:pt x="195" y="272"/>
                                </a:lnTo>
                                <a:lnTo>
                                  <a:pt x="213" y="313"/>
                                </a:lnTo>
                                <a:lnTo>
                                  <a:pt x="230" y="357"/>
                                </a:lnTo>
                                <a:lnTo>
                                  <a:pt x="247" y="409"/>
                                </a:lnTo>
                                <a:lnTo>
                                  <a:pt x="261" y="452"/>
                                </a:lnTo>
                                <a:lnTo>
                                  <a:pt x="277" y="496"/>
                                </a:lnTo>
                                <a:lnTo>
                                  <a:pt x="292" y="533"/>
                                </a:lnTo>
                                <a:lnTo>
                                  <a:pt x="312" y="577"/>
                                </a:lnTo>
                                <a:lnTo>
                                  <a:pt x="338" y="616"/>
                                </a:lnTo>
                                <a:lnTo>
                                  <a:pt x="371" y="657"/>
                                </a:lnTo>
                              </a:path>
                            </a:pathLst>
                          </a:custGeom>
                          <a:noFill/>
                          <a:ln w="4680">
                            <a:solidFill>
                              <a:srgbClr val="ffc0c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7446" name=""/>
                      <p:cNvGrpSpPr/>
                      <p:nvPr/>
                    </p:nvGrpSpPr>
                    <p:grpSpPr>
                      <a:xfrm>
                        <a:off x="4789440" y="1682640"/>
                        <a:ext cx="301680" cy="331560"/>
                        <a:chOff x="4789440" y="1682640"/>
                        <a:chExt cx="301680" cy="331560"/>
                      </a:xfrm>
                    </p:grpSpPr>
                    <p:grpSp>
                      <p:nvGrpSpPr>
                        <p:cNvPr id="7447" name=""/>
                        <p:cNvGrpSpPr/>
                        <p:nvPr/>
                      </p:nvGrpSpPr>
                      <p:grpSpPr>
                        <a:xfrm>
                          <a:off x="4789440" y="1682640"/>
                          <a:ext cx="301680" cy="331560"/>
                          <a:chOff x="4789440" y="1682640"/>
                          <a:chExt cx="301680" cy="331560"/>
                        </a:xfrm>
                      </p:grpSpPr>
                      <p:grpSp>
                        <p:nvGrpSpPr>
                          <p:cNvPr id="7448" name=""/>
                          <p:cNvGrpSpPr/>
                          <p:nvPr/>
                        </p:nvGrpSpPr>
                        <p:grpSpPr>
                          <a:xfrm>
                            <a:off x="4789440" y="1682640"/>
                            <a:ext cx="301680" cy="331560"/>
                            <a:chOff x="4789440" y="1682640"/>
                            <a:chExt cx="301680" cy="331560"/>
                          </a:xfrm>
                        </p:grpSpPr>
                        <p:grpSp>
                          <p:nvGrpSpPr>
                            <p:cNvPr id="7449" name=""/>
                            <p:cNvGrpSpPr/>
                            <p:nvPr/>
                          </p:nvGrpSpPr>
                          <p:grpSpPr>
                            <a:xfrm>
                              <a:off x="4789440" y="1682640"/>
                              <a:ext cx="301680" cy="331560"/>
                              <a:chOff x="4789440" y="1682640"/>
                              <a:chExt cx="301680" cy="331560"/>
                            </a:xfrm>
                          </p:grpSpPr>
                          <p:grpSp>
                            <p:nvGrpSpPr>
                              <p:cNvPr id="7450" name=""/>
                              <p:cNvGrpSpPr/>
                              <p:nvPr/>
                            </p:nvGrpSpPr>
                            <p:grpSpPr>
                              <a:xfrm>
                                <a:off x="4789440" y="1682640"/>
                                <a:ext cx="301680" cy="331560"/>
                                <a:chOff x="4789440" y="1682640"/>
                                <a:chExt cx="301680" cy="331560"/>
                              </a:xfrm>
                            </p:grpSpPr>
                            <p:sp>
                              <p:nvSpPr>
                                <p:cNvPr id="7451" name=""/>
                                <p:cNvSpPr/>
                                <p:nvPr/>
                              </p:nvSpPr>
                              <p:spPr>
                                <a:xfrm>
                                  <a:off x="4789440" y="1682640"/>
                                  <a:ext cx="301680" cy="33156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1224" h="1076">
                                      <a:moveTo>
                                        <a:pt x="95" y="86"/>
                                      </a:moveTo>
                                      <a:lnTo>
                                        <a:pt x="127" y="60"/>
                                      </a:lnTo>
                                      <a:lnTo>
                                        <a:pt x="158" y="37"/>
                                      </a:lnTo>
                                      <a:lnTo>
                                        <a:pt x="193" y="18"/>
                                      </a:lnTo>
                                      <a:lnTo>
                                        <a:pt x="234" y="6"/>
                                      </a:lnTo>
                                      <a:lnTo>
                                        <a:pt x="269" y="2"/>
                                      </a:lnTo>
                                      <a:lnTo>
                                        <a:pt x="309" y="0"/>
                                      </a:lnTo>
                                      <a:lnTo>
                                        <a:pt x="367" y="5"/>
                                      </a:lnTo>
                                      <a:lnTo>
                                        <a:pt x="424" y="17"/>
                                      </a:lnTo>
                                      <a:lnTo>
                                        <a:pt x="460" y="42"/>
                                      </a:lnTo>
                                      <a:lnTo>
                                        <a:pt x="488" y="77"/>
                                      </a:lnTo>
                                      <a:lnTo>
                                        <a:pt x="512" y="119"/>
                                      </a:lnTo>
                                      <a:lnTo>
                                        <a:pt x="537" y="159"/>
                                      </a:lnTo>
                                      <a:lnTo>
                                        <a:pt x="567" y="193"/>
                                      </a:lnTo>
                                      <a:lnTo>
                                        <a:pt x="593" y="220"/>
                                      </a:lnTo>
                                      <a:lnTo>
                                        <a:pt x="628" y="260"/>
                                      </a:lnTo>
                                      <a:lnTo>
                                        <a:pt x="642" y="297"/>
                                      </a:lnTo>
                                      <a:lnTo>
                                        <a:pt x="646" y="326"/>
                                      </a:lnTo>
                                      <a:lnTo>
                                        <a:pt x="642" y="342"/>
                                      </a:lnTo>
                                      <a:lnTo>
                                        <a:pt x="633" y="370"/>
                                      </a:lnTo>
                                      <a:lnTo>
                                        <a:pt x="618" y="396"/>
                                      </a:lnTo>
                                      <a:lnTo>
                                        <a:pt x="596" y="424"/>
                                      </a:lnTo>
                                      <a:lnTo>
                                        <a:pt x="570" y="461"/>
                                      </a:lnTo>
                                      <a:lnTo>
                                        <a:pt x="546" y="489"/>
                                      </a:lnTo>
                                      <a:lnTo>
                                        <a:pt x="527" y="520"/>
                                      </a:lnTo>
                                      <a:lnTo>
                                        <a:pt x="519" y="538"/>
                                      </a:lnTo>
                                      <a:lnTo>
                                        <a:pt x="518" y="550"/>
                                      </a:lnTo>
                                      <a:lnTo>
                                        <a:pt x="523" y="559"/>
                                      </a:lnTo>
                                      <a:lnTo>
                                        <a:pt x="533" y="563"/>
                                      </a:lnTo>
                                      <a:lnTo>
                                        <a:pt x="542" y="561"/>
                                      </a:lnTo>
                                      <a:lnTo>
                                        <a:pt x="552" y="552"/>
                                      </a:lnTo>
                                      <a:lnTo>
                                        <a:pt x="565" y="532"/>
                                      </a:lnTo>
                                      <a:lnTo>
                                        <a:pt x="585" y="502"/>
                                      </a:lnTo>
                                      <a:lnTo>
                                        <a:pt x="609" y="470"/>
                                      </a:lnTo>
                                      <a:lnTo>
                                        <a:pt x="631" y="442"/>
                                      </a:lnTo>
                                      <a:lnTo>
                                        <a:pt x="653" y="417"/>
                                      </a:lnTo>
                                      <a:lnTo>
                                        <a:pt x="676" y="395"/>
                                      </a:lnTo>
                                      <a:lnTo>
                                        <a:pt x="687" y="388"/>
                                      </a:lnTo>
                                      <a:lnTo>
                                        <a:pt x="701" y="386"/>
                                      </a:lnTo>
                                      <a:lnTo>
                                        <a:pt x="714" y="390"/>
                                      </a:lnTo>
                                      <a:lnTo>
                                        <a:pt x="722" y="395"/>
                                      </a:lnTo>
                                      <a:lnTo>
                                        <a:pt x="737" y="421"/>
                                      </a:lnTo>
                                      <a:lnTo>
                                        <a:pt x="758" y="467"/>
                                      </a:lnTo>
                                      <a:lnTo>
                                        <a:pt x="781" y="520"/>
                                      </a:lnTo>
                                      <a:lnTo>
                                        <a:pt x="803" y="571"/>
                                      </a:lnTo>
                                      <a:lnTo>
                                        <a:pt x="825" y="614"/>
                                      </a:lnTo>
                                      <a:lnTo>
                                        <a:pt x="863" y="674"/>
                                      </a:lnTo>
                                      <a:lnTo>
                                        <a:pt x="902" y="734"/>
                                      </a:lnTo>
                                      <a:lnTo>
                                        <a:pt x="944" y="793"/>
                                      </a:lnTo>
                                      <a:lnTo>
                                        <a:pt x="983" y="839"/>
                                      </a:lnTo>
                                      <a:lnTo>
                                        <a:pt x="1027" y="874"/>
                                      </a:lnTo>
                                      <a:lnTo>
                                        <a:pt x="1069" y="910"/>
                                      </a:lnTo>
                                      <a:lnTo>
                                        <a:pt x="1108" y="941"/>
                                      </a:lnTo>
                                      <a:lnTo>
                                        <a:pt x="1150" y="972"/>
                                      </a:lnTo>
                                      <a:lnTo>
                                        <a:pt x="1202" y="1009"/>
                                      </a:lnTo>
                                      <a:lnTo>
                                        <a:pt x="1213" y="1021"/>
                                      </a:lnTo>
                                      <a:lnTo>
                                        <a:pt x="1223" y="1035"/>
                                      </a:lnTo>
                                      <a:lnTo>
                                        <a:pt x="1224" y="1045"/>
                                      </a:lnTo>
                                      <a:lnTo>
                                        <a:pt x="1219" y="1059"/>
                                      </a:lnTo>
                                      <a:lnTo>
                                        <a:pt x="1209" y="1067"/>
                                      </a:lnTo>
                                      <a:lnTo>
                                        <a:pt x="1194" y="1072"/>
                                      </a:lnTo>
                                      <a:lnTo>
                                        <a:pt x="1162" y="1075"/>
                                      </a:lnTo>
                                      <a:lnTo>
                                        <a:pt x="1125" y="1076"/>
                                      </a:lnTo>
                                      <a:lnTo>
                                        <a:pt x="1062" y="1071"/>
                                      </a:lnTo>
                                      <a:lnTo>
                                        <a:pt x="1003" y="1063"/>
                                      </a:lnTo>
                                      <a:lnTo>
                                        <a:pt x="951" y="1056"/>
                                      </a:lnTo>
                                      <a:lnTo>
                                        <a:pt x="888" y="1044"/>
                                      </a:lnTo>
                                      <a:lnTo>
                                        <a:pt x="826" y="1026"/>
                                      </a:lnTo>
                                      <a:lnTo>
                                        <a:pt x="778" y="1006"/>
                                      </a:lnTo>
                                      <a:lnTo>
                                        <a:pt x="735" y="981"/>
                                      </a:lnTo>
                                      <a:lnTo>
                                        <a:pt x="670" y="954"/>
                                      </a:lnTo>
                                      <a:lnTo>
                                        <a:pt x="603" y="921"/>
                                      </a:lnTo>
                                      <a:lnTo>
                                        <a:pt x="542" y="890"/>
                                      </a:lnTo>
                                      <a:lnTo>
                                        <a:pt x="496" y="856"/>
                                      </a:lnTo>
                                      <a:lnTo>
                                        <a:pt x="453" y="826"/>
                                      </a:lnTo>
                                      <a:lnTo>
                                        <a:pt x="413" y="796"/>
                                      </a:lnTo>
                                      <a:lnTo>
                                        <a:pt x="373" y="753"/>
                                      </a:lnTo>
                                      <a:lnTo>
                                        <a:pt x="340" y="720"/>
                                      </a:lnTo>
                                      <a:lnTo>
                                        <a:pt x="311" y="689"/>
                                      </a:lnTo>
                                      <a:lnTo>
                                        <a:pt x="306" y="675"/>
                                      </a:lnTo>
                                      <a:lnTo>
                                        <a:pt x="306" y="658"/>
                                      </a:lnTo>
                                      <a:lnTo>
                                        <a:pt x="317" y="641"/>
                                      </a:lnTo>
                                      <a:lnTo>
                                        <a:pt x="335" y="629"/>
                                      </a:lnTo>
                                      <a:lnTo>
                                        <a:pt x="358" y="620"/>
                                      </a:lnTo>
                                      <a:lnTo>
                                        <a:pt x="387" y="616"/>
                                      </a:lnTo>
                                      <a:lnTo>
                                        <a:pt x="421" y="621"/>
                                      </a:lnTo>
                                      <a:lnTo>
                                        <a:pt x="453" y="631"/>
                                      </a:lnTo>
                                      <a:lnTo>
                                        <a:pt x="467" y="635"/>
                                      </a:lnTo>
                                      <a:lnTo>
                                        <a:pt x="478" y="637"/>
                                      </a:lnTo>
                                      <a:lnTo>
                                        <a:pt x="485" y="634"/>
                                      </a:lnTo>
                                      <a:lnTo>
                                        <a:pt x="490" y="626"/>
                                      </a:lnTo>
                                      <a:lnTo>
                                        <a:pt x="488" y="616"/>
                                      </a:lnTo>
                                      <a:lnTo>
                                        <a:pt x="481" y="606"/>
                                      </a:lnTo>
                                      <a:lnTo>
                                        <a:pt x="454" y="593"/>
                                      </a:lnTo>
                                      <a:lnTo>
                                        <a:pt x="425" y="586"/>
                                      </a:lnTo>
                                      <a:lnTo>
                                        <a:pt x="395" y="583"/>
                                      </a:lnTo>
                                      <a:lnTo>
                                        <a:pt x="365" y="589"/>
                                      </a:lnTo>
                                      <a:lnTo>
                                        <a:pt x="327" y="599"/>
                                      </a:lnTo>
                                      <a:lnTo>
                                        <a:pt x="283" y="613"/>
                                      </a:lnTo>
                                      <a:lnTo>
                                        <a:pt x="249" y="623"/>
                                      </a:lnTo>
                                      <a:lnTo>
                                        <a:pt x="222" y="628"/>
                                      </a:lnTo>
                                      <a:lnTo>
                                        <a:pt x="196" y="624"/>
                                      </a:lnTo>
                                      <a:lnTo>
                                        <a:pt x="170" y="616"/>
                                      </a:lnTo>
                                      <a:lnTo>
                                        <a:pt x="142" y="602"/>
                                      </a:lnTo>
                                      <a:lnTo>
                                        <a:pt x="122" y="584"/>
                                      </a:lnTo>
                                      <a:lnTo>
                                        <a:pt x="100" y="561"/>
                                      </a:lnTo>
                                      <a:lnTo>
                                        <a:pt x="72" y="525"/>
                                      </a:lnTo>
                                      <a:lnTo>
                                        <a:pt x="41" y="477"/>
                                      </a:lnTo>
                                      <a:lnTo>
                                        <a:pt x="18" y="431"/>
                                      </a:lnTo>
                                      <a:lnTo>
                                        <a:pt x="3" y="387"/>
                                      </a:lnTo>
                                      <a:lnTo>
                                        <a:pt x="0" y="356"/>
                                      </a:lnTo>
                                      <a:lnTo>
                                        <a:pt x="4" y="327"/>
                                      </a:lnTo>
                                      <a:lnTo>
                                        <a:pt x="13" y="269"/>
                                      </a:lnTo>
                                      <a:lnTo>
                                        <a:pt x="23" y="205"/>
                                      </a:lnTo>
                                      <a:lnTo>
                                        <a:pt x="44" y="153"/>
                                      </a:lnTo>
                                      <a:lnTo>
                                        <a:pt x="69" y="116"/>
                                      </a:lnTo>
                                      <a:lnTo>
                                        <a:pt x="95" y="86"/>
                                      </a:lnTo>
                                      <a:close/>
                                    </a:path>
                                  </a:pathLst>
                                </a:custGeom>
                                <a:solidFill>
                                  <a:srgbClr val="ff808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grpSp>
                              <p:nvGrpSpPr>
                                <p:cNvPr id="7452" name=""/>
                                <p:cNvGrpSpPr/>
                                <p:nvPr/>
                              </p:nvGrpSpPr>
                              <p:grpSpPr>
                                <a:xfrm>
                                  <a:off x="4789440" y="1682640"/>
                                  <a:ext cx="301320" cy="331200"/>
                                  <a:chOff x="4789440" y="1682640"/>
                                  <a:chExt cx="301320" cy="331200"/>
                                </a:xfrm>
                              </p:grpSpPr>
                              <p:sp>
                                <p:nvSpPr>
                                  <p:cNvPr id="7453" name=""/>
                                  <p:cNvSpPr/>
                                  <p:nvPr/>
                                </p:nvSpPr>
                                <p:spPr>
                                  <a:xfrm>
                                    <a:off x="4863240" y="1801440"/>
                                    <a:ext cx="227520" cy="212400"/>
                                  </a:xfrm>
                                  <a:custGeom>
                                    <a:avLst/>
                                    <a:gdLst/>
                                    <a:ahLst/>
                                    <a:rect l="l" t="t" r="r" b="b"/>
                                    <a:pathLst>
                                      <a:path w="919" h="689">
                                        <a:moveTo>
                                          <a:pt x="304" y="84"/>
                                        </a:moveTo>
                                        <a:lnTo>
                                          <a:pt x="326" y="56"/>
                                        </a:lnTo>
                                        <a:lnTo>
                                          <a:pt x="348" y="31"/>
                                        </a:lnTo>
                                        <a:lnTo>
                                          <a:pt x="371" y="9"/>
                                        </a:lnTo>
                                        <a:lnTo>
                                          <a:pt x="382" y="2"/>
                                        </a:lnTo>
                                        <a:lnTo>
                                          <a:pt x="396" y="0"/>
                                        </a:lnTo>
                                        <a:lnTo>
                                          <a:pt x="409" y="4"/>
                                        </a:lnTo>
                                        <a:lnTo>
                                          <a:pt x="417" y="9"/>
                                        </a:lnTo>
                                        <a:lnTo>
                                          <a:pt x="432" y="35"/>
                                        </a:lnTo>
                                        <a:lnTo>
                                          <a:pt x="453" y="81"/>
                                        </a:lnTo>
                                        <a:lnTo>
                                          <a:pt x="476" y="134"/>
                                        </a:lnTo>
                                        <a:lnTo>
                                          <a:pt x="498" y="184"/>
                                        </a:lnTo>
                                        <a:lnTo>
                                          <a:pt x="519" y="227"/>
                                        </a:lnTo>
                                        <a:lnTo>
                                          <a:pt x="558" y="287"/>
                                        </a:lnTo>
                                        <a:lnTo>
                                          <a:pt x="597" y="347"/>
                                        </a:lnTo>
                                        <a:lnTo>
                                          <a:pt x="640" y="406"/>
                                        </a:lnTo>
                                        <a:lnTo>
                                          <a:pt x="679" y="453"/>
                                        </a:lnTo>
                                        <a:lnTo>
                                          <a:pt x="722" y="488"/>
                                        </a:lnTo>
                                        <a:lnTo>
                                          <a:pt x="764" y="523"/>
                                        </a:lnTo>
                                        <a:lnTo>
                                          <a:pt x="803" y="554"/>
                                        </a:lnTo>
                                        <a:lnTo>
                                          <a:pt x="845" y="585"/>
                                        </a:lnTo>
                                        <a:lnTo>
                                          <a:pt x="897" y="622"/>
                                        </a:lnTo>
                                        <a:lnTo>
                                          <a:pt x="908" y="634"/>
                                        </a:lnTo>
                                        <a:lnTo>
                                          <a:pt x="918" y="648"/>
                                        </a:lnTo>
                                        <a:lnTo>
                                          <a:pt x="919" y="658"/>
                                        </a:lnTo>
                                        <a:lnTo>
                                          <a:pt x="914" y="672"/>
                                        </a:lnTo>
                                        <a:lnTo>
                                          <a:pt x="904" y="680"/>
                                        </a:lnTo>
                                        <a:lnTo>
                                          <a:pt x="889" y="685"/>
                                        </a:lnTo>
                                        <a:lnTo>
                                          <a:pt x="857" y="688"/>
                                        </a:lnTo>
                                        <a:lnTo>
                                          <a:pt x="820" y="689"/>
                                        </a:lnTo>
                                        <a:lnTo>
                                          <a:pt x="757" y="684"/>
                                        </a:lnTo>
                                        <a:lnTo>
                                          <a:pt x="698" y="676"/>
                                        </a:lnTo>
                                        <a:lnTo>
                                          <a:pt x="647" y="669"/>
                                        </a:lnTo>
                                        <a:lnTo>
                                          <a:pt x="583" y="657"/>
                                        </a:lnTo>
                                        <a:lnTo>
                                          <a:pt x="521" y="639"/>
                                        </a:lnTo>
                                        <a:lnTo>
                                          <a:pt x="473" y="619"/>
                                        </a:lnTo>
                                        <a:lnTo>
                                          <a:pt x="429" y="594"/>
                                        </a:lnTo>
                                        <a:lnTo>
                                          <a:pt x="365" y="567"/>
                                        </a:lnTo>
                                        <a:lnTo>
                                          <a:pt x="298" y="534"/>
                                        </a:lnTo>
                                        <a:lnTo>
                                          <a:pt x="237" y="504"/>
                                        </a:lnTo>
                                        <a:lnTo>
                                          <a:pt x="192" y="470"/>
                                        </a:lnTo>
                                        <a:lnTo>
                                          <a:pt x="149" y="440"/>
                                        </a:lnTo>
                                        <a:lnTo>
                                          <a:pt x="109" y="409"/>
                                        </a:lnTo>
                                        <a:lnTo>
                                          <a:pt x="69" y="366"/>
                                        </a:lnTo>
                                        <a:lnTo>
                                          <a:pt x="36" y="333"/>
                                        </a:lnTo>
                                        <a:lnTo>
                                          <a:pt x="7" y="302"/>
                                        </a:lnTo>
                                        <a:lnTo>
                                          <a:pt x="0" y="288"/>
                                        </a:lnTo>
                                        <a:lnTo>
                                          <a:pt x="3" y="271"/>
                                        </a:lnTo>
                                        <a:lnTo>
                                          <a:pt x="13" y="254"/>
                                        </a:lnTo>
                                        <a:lnTo>
                                          <a:pt x="31" y="242"/>
                                        </a:lnTo>
                                        <a:lnTo>
                                          <a:pt x="54" y="233"/>
                                        </a:lnTo>
                                        <a:lnTo>
                                          <a:pt x="83" y="229"/>
                                        </a:lnTo>
                                        <a:lnTo>
                                          <a:pt x="110" y="231"/>
                                        </a:lnTo>
                                        <a:lnTo>
                                          <a:pt x="131" y="236"/>
                                        </a:lnTo>
                                        <a:lnTo>
                                          <a:pt x="156" y="245"/>
                                        </a:lnTo>
                                        <a:lnTo>
                                          <a:pt x="170" y="249"/>
                                        </a:lnTo>
                                        <a:lnTo>
                                          <a:pt x="148" y="249"/>
                                        </a:lnTo>
                                        <a:lnTo>
                                          <a:pt x="126" y="247"/>
                                        </a:lnTo>
                                        <a:lnTo>
                                          <a:pt x="107" y="248"/>
                                        </a:lnTo>
                                        <a:lnTo>
                                          <a:pt x="89" y="251"/>
                                        </a:lnTo>
                                        <a:lnTo>
                                          <a:pt x="73" y="257"/>
                                        </a:lnTo>
                                        <a:lnTo>
                                          <a:pt x="57" y="265"/>
                                        </a:lnTo>
                                        <a:lnTo>
                                          <a:pt x="46" y="277"/>
                                        </a:lnTo>
                                        <a:lnTo>
                                          <a:pt x="40" y="288"/>
                                        </a:lnTo>
                                        <a:lnTo>
                                          <a:pt x="41" y="294"/>
                                        </a:lnTo>
                                        <a:lnTo>
                                          <a:pt x="46" y="302"/>
                                        </a:lnTo>
                                        <a:lnTo>
                                          <a:pt x="56" y="315"/>
                                        </a:lnTo>
                                        <a:lnTo>
                                          <a:pt x="75" y="339"/>
                                        </a:lnTo>
                                        <a:lnTo>
                                          <a:pt x="99" y="368"/>
                                        </a:lnTo>
                                        <a:lnTo>
                                          <a:pt x="128" y="391"/>
                                        </a:lnTo>
                                        <a:lnTo>
                                          <a:pt x="159" y="420"/>
                                        </a:lnTo>
                                        <a:lnTo>
                                          <a:pt x="193" y="445"/>
                                        </a:lnTo>
                                        <a:lnTo>
                                          <a:pt x="219" y="462"/>
                                        </a:lnTo>
                                        <a:lnTo>
                                          <a:pt x="241" y="477"/>
                                        </a:lnTo>
                                        <a:lnTo>
                                          <a:pt x="270" y="493"/>
                                        </a:lnTo>
                                        <a:lnTo>
                                          <a:pt x="292" y="507"/>
                                        </a:lnTo>
                                        <a:lnTo>
                                          <a:pt x="315" y="516"/>
                                        </a:lnTo>
                                        <a:lnTo>
                                          <a:pt x="334" y="520"/>
                                        </a:lnTo>
                                        <a:lnTo>
                                          <a:pt x="355" y="526"/>
                                        </a:lnTo>
                                        <a:lnTo>
                                          <a:pt x="376" y="537"/>
                                        </a:lnTo>
                                        <a:lnTo>
                                          <a:pt x="411" y="554"/>
                                        </a:lnTo>
                                        <a:lnTo>
                                          <a:pt x="448" y="572"/>
                                        </a:lnTo>
                                        <a:lnTo>
                                          <a:pt x="481" y="587"/>
                                        </a:lnTo>
                                        <a:lnTo>
                                          <a:pt x="512" y="604"/>
                                        </a:lnTo>
                                        <a:lnTo>
                                          <a:pt x="543" y="620"/>
                                        </a:lnTo>
                                        <a:lnTo>
                                          <a:pt x="570" y="625"/>
                                        </a:lnTo>
                                        <a:lnTo>
                                          <a:pt x="598" y="633"/>
                                        </a:lnTo>
                                        <a:lnTo>
                                          <a:pt x="628" y="642"/>
                                        </a:lnTo>
                                        <a:lnTo>
                                          <a:pt x="657" y="645"/>
                                        </a:lnTo>
                                        <a:lnTo>
                                          <a:pt x="693" y="649"/>
                                        </a:lnTo>
                                        <a:lnTo>
                                          <a:pt x="730" y="652"/>
                                        </a:lnTo>
                                        <a:lnTo>
                                          <a:pt x="764" y="655"/>
                                        </a:lnTo>
                                        <a:lnTo>
                                          <a:pt x="777" y="653"/>
                                        </a:lnTo>
                                        <a:lnTo>
                                          <a:pt x="791" y="647"/>
                                        </a:lnTo>
                                        <a:lnTo>
                                          <a:pt x="799" y="635"/>
                                        </a:lnTo>
                                        <a:lnTo>
                                          <a:pt x="803" y="621"/>
                                        </a:lnTo>
                                        <a:lnTo>
                                          <a:pt x="801" y="609"/>
                                        </a:lnTo>
                                        <a:lnTo>
                                          <a:pt x="787" y="589"/>
                                        </a:lnTo>
                                        <a:lnTo>
                                          <a:pt x="764" y="562"/>
                                        </a:lnTo>
                                        <a:lnTo>
                                          <a:pt x="739" y="540"/>
                                        </a:lnTo>
                                        <a:lnTo>
                                          <a:pt x="716" y="520"/>
                                        </a:lnTo>
                                        <a:lnTo>
                                          <a:pt x="688" y="502"/>
                                        </a:lnTo>
                                        <a:lnTo>
                                          <a:pt x="661" y="483"/>
                                        </a:lnTo>
                                        <a:lnTo>
                                          <a:pt x="635" y="461"/>
                                        </a:lnTo>
                                        <a:lnTo>
                                          <a:pt x="616" y="437"/>
                                        </a:lnTo>
                                        <a:lnTo>
                                          <a:pt x="597" y="412"/>
                                        </a:lnTo>
                                        <a:lnTo>
                                          <a:pt x="577" y="380"/>
                                        </a:lnTo>
                                        <a:lnTo>
                                          <a:pt x="561" y="355"/>
                                        </a:lnTo>
                                        <a:lnTo>
                                          <a:pt x="545" y="330"/>
                                        </a:lnTo>
                                        <a:lnTo>
                                          <a:pt x="526" y="299"/>
                                        </a:lnTo>
                                        <a:lnTo>
                                          <a:pt x="508" y="268"/>
                                        </a:lnTo>
                                        <a:lnTo>
                                          <a:pt x="493" y="240"/>
                                        </a:lnTo>
                                        <a:lnTo>
                                          <a:pt x="478" y="211"/>
                                        </a:lnTo>
                                        <a:lnTo>
                                          <a:pt x="463" y="181"/>
                                        </a:lnTo>
                                        <a:lnTo>
                                          <a:pt x="449" y="154"/>
                                        </a:lnTo>
                                        <a:lnTo>
                                          <a:pt x="436" y="128"/>
                                        </a:lnTo>
                                        <a:lnTo>
                                          <a:pt x="426" y="99"/>
                                        </a:lnTo>
                                        <a:lnTo>
                                          <a:pt x="419" y="80"/>
                                        </a:lnTo>
                                        <a:lnTo>
                                          <a:pt x="412" y="68"/>
                                        </a:lnTo>
                                        <a:lnTo>
                                          <a:pt x="401" y="59"/>
                                        </a:lnTo>
                                        <a:lnTo>
                                          <a:pt x="389" y="55"/>
                                        </a:lnTo>
                                        <a:lnTo>
                                          <a:pt x="375" y="56"/>
                                        </a:lnTo>
                                        <a:lnTo>
                                          <a:pt x="360" y="61"/>
                                        </a:lnTo>
                                        <a:lnTo>
                                          <a:pt x="344" y="70"/>
                                        </a:lnTo>
                                        <a:lnTo>
                                          <a:pt x="325" y="77"/>
                                        </a:lnTo>
                                        <a:lnTo>
                                          <a:pt x="304" y="84"/>
                                        </a:lnTo>
                                        <a:close/>
                                      </a:path>
                                    </a:pathLst>
                                  </a:custGeom>
                                  <a:solidFill>
                                    <a:srgbClr val="ff4040"/>
                                  </a:solidFill>
                                  <a:ln w="0">
                                    <a:noFill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7454" name=""/>
                                  <p:cNvSpPr/>
                                  <p:nvPr/>
                                </p:nvSpPr>
                                <p:spPr>
                                  <a:xfrm>
                                    <a:off x="4789440" y="1682640"/>
                                    <a:ext cx="159480" cy="192600"/>
                                  </a:xfrm>
                                  <a:custGeom>
                                    <a:avLst/>
                                    <a:gdLst/>
                                    <a:ahLst/>
                                    <a:rect l="l" t="t" r="r" b="b"/>
                                    <a:pathLst>
                                      <a:path w="645" h="627">
                                        <a:moveTo>
                                          <a:pt x="95" y="86"/>
                                        </a:moveTo>
                                        <a:lnTo>
                                          <a:pt x="127" y="60"/>
                                        </a:lnTo>
                                        <a:lnTo>
                                          <a:pt x="158" y="37"/>
                                        </a:lnTo>
                                        <a:lnTo>
                                          <a:pt x="192" y="18"/>
                                        </a:lnTo>
                                        <a:lnTo>
                                          <a:pt x="233" y="6"/>
                                        </a:lnTo>
                                        <a:lnTo>
                                          <a:pt x="268" y="2"/>
                                        </a:lnTo>
                                        <a:lnTo>
                                          <a:pt x="309" y="0"/>
                                        </a:lnTo>
                                        <a:lnTo>
                                          <a:pt x="367" y="5"/>
                                        </a:lnTo>
                                        <a:lnTo>
                                          <a:pt x="424" y="17"/>
                                        </a:lnTo>
                                        <a:lnTo>
                                          <a:pt x="460" y="42"/>
                                        </a:lnTo>
                                        <a:lnTo>
                                          <a:pt x="487" y="77"/>
                                        </a:lnTo>
                                        <a:lnTo>
                                          <a:pt x="511" y="119"/>
                                        </a:lnTo>
                                        <a:lnTo>
                                          <a:pt x="536" y="158"/>
                                        </a:lnTo>
                                        <a:lnTo>
                                          <a:pt x="566" y="192"/>
                                        </a:lnTo>
                                        <a:lnTo>
                                          <a:pt x="592" y="219"/>
                                        </a:lnTo>
                                        <a:lnTo>
                                          <a:pt x="627" y="259"/>
                                        </a:lnTo>
                                        <a:lnTo>
                                          <a:pt x="641" y="297"/>
                                        </a:lnTo>
                                        <a:lnTo>
                                          <a:pt x="645" y="326"/>
                                        </a:lnTo>
                                        <a:lnTo>
                                          <a:pt x="641" y="342"/>
                                        </a:lnTo>
                                        <a:lnTo>
                                          <a:pt x="632" y="370"/>
                                        </a:lnTo>
                                        <a:lnTo>
                                          <a:pt x="617" y="396"/>
                                        </a:lnTo>
                                        <a:lnTo>
                                          <a:pt x="595" y="424"/>
                                        </a:lnTo>
                                        <a:lnTo>
                                          <a:pt x="569" y="461"/>
                                        </a:lnTo>
                                        <a:lnTo>
                                          <a:pt x="545" y="488"/>
                                        </a:lnTo>
                                        <a:lnTo>
                                          <a:pt x="559" y="462"/>
                                        </a:lnTo>
                                        <a:lnTo>
                                          <a:pt x="569" y="445"/>
                                        </a:lnTo>
                                        <a:lnTo>
                                          <a:pt x="582" y="424"/>
                                        </a:lnTo>
                                        <a:lnTo>
                                          <a:pt x="591" y="407"/>
                                        </a:lnTo>
                                        <a:lnTo>
                                          <a:pt x="604" y="381"/>
                                        </a:lnTo>
                                        <a:lnTo>
                                          <a:pt x="611" y="355"/>
                                        </a:lnTo>
                                        <a:lnTo>
                                          <a:pt x="618" y="327"/>
                                        </a:lnTo>
                                        <a:lnTo>
                                          <a:pt x="620" y="312"/>
                                        </a:lnTo>
                                        <a:lnTo>
                                          <a:pt x="616" y="297"/>
                                        </a:lnTo>
                                        <a:lnTo>
                                          <a:pt x="608" y="279"/>
                                        </a:lnTo>
                                        <a:lnTo>
                                          <a:pt x="602" y="263"/>
                                        </a:lnTo>
                                        <a:lnTo>
                                          <a:pt x="589" y="251"/>
                                        </a:lnTo>
                                        <a:lnTo>
                                          <a:pt x="574" y="238"/>
                                        </a:lnTo>
                                        <a:lnTo>
                                          <a:pt x="562" y="221"/>
                                        </a:lnTo>
                                        <a:lnTo>
                                          <a:pt x="546" y="203"/>
                                        </a:lnTo>
                                        <a:lnTo>
                                          <a:pt x="531" y="181"/>
                                        </a:lnTo>
                                        <a:lnTo>
                                          <a:pt x="515" y="159"/>
                                        </a:lnTo>
                                        <a:lnTo>
                                          <a:pt x="500" y="141"/>
                                        </a:lnTo>
                                        <a:lnTo>
                                          <a:pt x="488" y="120"/>
                                        </a:lnTo>
                                        <a:lnTo>
                                          <a:pt x="477" y="97"/>
                                        </a:lnTo>
                                        <a:lnTo>
                                          <a:pt x="468" y="81"/>
                                        </a:lnTo>
                                        <a:lnTo>
                                          <a:pt x="453" y="68"/>
                                        </a:lnTo>
                                        <a:lnTo>
                                          <a:pt x="437" y="55"/>
                                        </a:lnTo>
                                        <a:lnTo>
                                          <a:pt x="421" y="43"/>
                                        </a:lnTo>
                                        <a:lnTo>
                                          <a:pt x="403" y="35"/>
                                        </a:lnTo>
                                        <a:lnTo>
                                          <a:pt x="385" y="31"/>
                                        </a:lnTo>
                                        <a:lnTo>
                                          <a:pt x="355" y="29"/>
                                        </a:lnTo>
                                        <a:lnTo>
                                          <a:pt x="325" y="29"/>
                                        </a:lnTo>
                                        <a:lnTo>
                                          <a:pt x="302" y="30"/>
                                        </a:lnTo>
                                        <a:lnTo>
                                          <a:pt x="280" y="29"/>
                                        </a:lnTo>
                                        <a:lnTo>
                                          <a:pt x="259" y="31"/>
                                        </a:lnTo>
                                        <a:lnTo>
                                          <a:pt x="236" y="36"/>
                                        </a:lnTo>
                                        <a:lnTo>
                                          <a:pt x="215" y="41"/>
                                        </a:lnTo>
                                        <a:lnTo>
                                          <a:pt x="195" y="49"/>
                                        </a:lnTo>
                                        <a:lnTo>
                                          <a:pt x="176" y="60"/>
                                        </a:lnTo>
                                        <a:lnTo>
                                          <a:pt x="158" y="74"/>
                                        </a:lnTo>
                                        <a:lnTo>
                                          <a:pt x="138" y="87"/>
                                        </a:lnTo>
                                        <a:lnTo>
                                          <a:pt x="119" y="103"/>
                                        </a:lnTo>
                                        <a:lnTo>
                                          <a:pt x="99" y="124"/>
                                        </a:lnTo>
                                        <a:lnTo>
                                          <a:pt x="83" y="143"/>
                                        </a:lnTo>
                                        <a:lnTo>
                                          <a:pt x="72" y="160"/>
                                        </a:lnTo>
                                        <a:lnTo>
                                          <a:pt x="65" y="181"/>
                                        </a:lnTo>
                                        <a:lnTo>
                                          <a:pt x="56" y="202"/>
                                        </a:lnTo>
                                        <a:lnTo>
                                          <a:pt x="47" y="223"/>
                                        </a:lnTo>
                                        <a:lnTo>
                                          <a:pt x="37" y="247"/>
                                        </a:lnTo>
                                        <a:lnTo>
                                          <a:pt x="35" y="275"/>
                                        </a:lnTo>
                                        <a:lnTo>
                                          <a:pt x="32" y="300"/>
                                        </a:lnTo>
                                        <a:lnTo>
                                          <a:pt x="29" y="324"/>
                                        </a:lnTo>
                                        <a:lnTo>
                                          <a:pt x="29" y="340"/>
                                        </a:lnTo>
                                        <a:lnTo>
                                          <a:pt x="31" y="361"/>
                                        </a:lnTo>
                                        <a:lnTo>
                                          <a:pt x="36" y="384"/>
                                        </a:lnTo>
                                        <a:lnTo>
                                          <a:pt x="40" y="408"/>
                                        </a:lnTo>
                                        <a:lnTo>
                                          <a:pt x="51" y="436"/>
                                        </a:lnTo>
                                        <a:lnTo>
                                          <a:pt x="61" y="462"/>
                                        </a:lnTo>
                                        <a:lnTo>
                                          <a:pt x="68" y="477"/>
                                        </a:lnTo>
                                        <a:lnTo>
                                          <a:pt x="80" y="496"/>
                                        </a:lnTo>
                                        <a:lnTo>
                                          <a:pt x="95" y="519"/>
                                        </a:lnTo>
                                        <a:lnTo>
                                          <a:pt x="108" y="535"/>
                                        </a:lnTo>
                                        <a:lnTo>
                                          <a:pt x="120" y="551"/>
                                        </a:lnTo>
                                        <a:lnTo>
                                          <a:pt x="136" y="566"/>
                                        </a:lnTo>
                                        <a:lnTo>
                                          <a:pt x="155" y="581"/>
                                        </a:lnTo>
                                        <a:lnTo>
                                          <a:pt x="170" y="593"/>
                                        </a:lnTo>
                                        <a:lnTo>
                                          <a:pt x="183" y="600"/>
                                        </a:lnTo>
                                        <a:lnTo>
                                          <a:pt x="202" y="607"/>
                                        </a:lnTo>
                                        <a:lnTo>
                                          <a:pt x="218" y="611"/>
                                        </a:lnTo>
                                        <a:lnTo>
                                          <a:pt x="235" y="614"/>
                                        </a:lnTo>
                                        <a:lnTo>
                                          <a:pt x="253" y="615"/>
                                        </a:lnTo>
                                        <a:lnTo>
                                          <a:pt x="282" y="612"/>
                                        </a:lnTo>
                                        <a:lnTo>
                                          <a:pt x="248" y="622"/>
                                        </a:lnTo>
                                        <a:lnTo>
                                          <a:pt x="221" y="627"/>
                                        </a:lnTo>
                                        <a:lnTo>
                                          <a:pt x="195" y="623"/>
                                        </a:lnTo>
                                        <a:lnTo>
                                          <a:pt x="169" y="615"/>
                                        </a:lnTo>
                                        <a:lnTo>
                                          <a:pt x="142" y="601"/>
                                        </a:lnTo>
                                        <a:lnTo>
                                          <a:pt x="122" y="583"/>
                                        </a:lnTo>
                                        <a:lnTo>
                                          <a:pt x="100" y="560"/>
                                        </a:lnTo>
                                        <a:lnTo>
                                          <a:pt x="72" y="524"/>
                                        </a:lnTo>
                                        <a:lnTo>
                                          <a:pt x="41" y="476"/>
                                        </a:lnTo>
                                        <a:lnTo>
                                          <a:pt x="18" y="431"/>
                                        </a:lnTo>
                                        <a:lnTo>
                                          <a:pt x="3" y="387"/>
                                        </a:lnTo>
                                        <a:lnTo>
                                          <a:pt x="0" y="356"/>
                                        </a:lnTo>
                                        <a:lnTo>
                                          <a:pt x="4" y="327"/>
                                        </a:lnTo>
                                        <a:lnTo>
                                          <a:pt x="13" y="269"/>
                                        </a:lnTo>
                                        <a:lnTo>
                                          <a:pt x="23" y="204"/>
                                        </a:lnTo>
                                        <a:lnTo>
                                          <a:pt x="44" y="153"/>
                                        </a:lnTo>
                                        <a:lnTo>
                                          <a:pt x="69" y="116"/>
                                        </a:lnTo>
                                        <a:lnTo>
                                          <a:pt x="95" y="86"/>
                                        </a:lnTo>
                                        <a:close/>
                                      </a:path>
                                    </a:pathLst>
                                  </a:custGeom>
                                  <a:solidFill>
                                    <a:srgbClr val="ff4040"/>
                                  </a:solidFill>
                                  <a:ln w="0">
                                    <a:noFill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</p:grpSp>
                          </p:grpSp>
                          <p:sp>
                            <p:nvSpPr>
                              <p:cNvPr id="7455" name=""/>
                              <p:cNvSpPr/>
                              <p:nvPr/>
                            </p:nvSpPr>
                            <p:spPr>
                              <a:xfrm>
                                <a:off x="4915440" y="1859760"/>
                                <a:ext cx="111240" cy="1245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447" h="407">
                                    <a:moveTo>
                                      <a:pt x="48" y="55"/>
                                    </a:moveTo>
                                    <a:lnTo>
                                      <a:pt x="71" y="35"/>
                                    </a:lnTo>
                                    <a:lnTo>
                                      <a:pt x="95" y="18"/>
                                    </a:lnTo>
                                    <a:lnTo>
                                      <a:pt x="111" y="7"/>
                                    </a:lnTo>
                                    <a:lnTo>
                                      <a:pt x="124" y="2"/>
                                    </a:lnTo>
                                    <a:lnTo>
                                      <a:pt x="139" y="0"/>
                                    </a:lnTo>
                                    <a:lnTo>
                                      <a:pt x="154" y="1"/>
                                    </a:lnTo>
                                    <a:lnTo>
                                      <a:pt x="171" y="8"/>
                                    </a:lnTo>
                                    <a:lnTo>
                                      <a:pt x="195" y="24"/>
                                    </a:lnTo>
                                    <a:lnTo>
                                      <a:pt x="218" y="43"/>
                                    </a:lnTo>
                                    <a:lnTo>
                                      <a:pt x="239" y="69"/>
                                    </a:lnTo>
                                    <a:lnTo>
                                      <a:pt x="256" y="96"/>
                                    </a:lnTo>
                                    <a:lnTo>
                                      <a:pt x="278" y="134"/>
                                    </a:lnTo>
                                    <a:lnTo>
                                      <a:pt x="301" y="174"/>
                                    </a:lnTo>
                                    <a:lnTo>
                                      <a:pt x="321" y="207"/>
                                    </a:lnTo>
                                    <a:lnTo>
                                      <a:pt x="341" y="240"/>
                                    </a:lnTo>
                                    <a:lnTo>
                                      <a:pt x="361" y="265"/>
                                    </a:lnTo>
                                    <a:lnTo>
                                      <a:pt x="381" y="290"/>
                                    </a:lnTo>
                                    <a:lnTo>
                                      <a:pt x="410" y="313"/>
                                    </a:lnTo>
                                    <a:lnTo>
                                      <a:pt x="432" y="338"/>
                                    </a:lnTo>
                                    <a:lnTo>
                                      <a:pt x="444" y="357"/>
                                    </a:lnTo>
                                    <a:lnTo>
                                      <a:pt x="447" y="375"/>
                                    </a:lnTo>
                                    <a:lnTo>
                                      <a:pt x="442" y="389"/>
                                    </a:lnTo>
                                    <a:lnTo>
                                      <a:pt x="433" y="399"/>
                                    </a:lnTo>
                                    <a:lnTo>
                                      <a:pt x="416" y="405"/>
                                    </a:lnTo>
                                    <a:lnTo>
                                      <a:pt x="394" y="407"/>
                                    </a:lnTo>
                                    <a:lnTo>
                                      <a:pt x="374" y="405"/>
                                    </a:lnTo>
                                    <a:lnTo>
                                      <a:pt x="338" y="397"/>
                                    </a:lnTo>
                                    <a:lnTo>
                                      <a:pt x="315" y="390"/>
                                    </a:lnTo>
                                    <a:lnTo>
                                      <a:pt x="287" y="379"/>
                                    </a:lnTo>
                                    <a:lnTo>
                                      <a:pt x="261" y="365"/>
                                    </a:lnTo>
                                    <a:lnTo>
                                      <a:pt x="235" y="350"/>
                                    </a:lnTo>
                                    <a:lnTo>
                                      <a:pt x="203" y="332"/>
                                    </a:lnTo>
                                    <a:lnTo>
                                      <a:pt x="162" y="309"/>
                                    </a:lnTo>
                                    <a:lnTo>
                                      <a:pt x="124" y="288"/>
                                    </a:lnTo>
                                    <a:lnTo>
                                      <a:pt x="94" y="269"/>
                                    </a:lnTo>
                                    <a:lnTo>
                                      <a:pt x="64" y="248"/>
                                    </a:lnTo>
                                    <a:lnTo>
                                      <a:pt x="38" y="227"/>
                                    </a:lnTo>
                                    <a:lnTo>
                                      <a:pt x="21" y="204"/>
                                    </a:lnTo>
                                    <a:lnTo>
                                      <a:pt x="9" y="183"/>
                                    </a:lnTo>
                                    <a:lnTo>
                                      <a:pt x="3" y="161"/>
                                    </a:lnTo>
                                    <a:lnTo>
                                      <a:pt x="0" y="141"/>
                                    </a:lnTo>
                                    <a:lnTo>
                                      <a:pt x="3" y="125"/>
                                    </a:lnTo>
                                    <a:lnTo>
                                      <a:pt x="8" y="108"/>
                                    </a:lnTo>
                                    <a:lnTo>
                                      <a:pt x="18" y="90"/>
                                    </a:lnTo>
                                    <a:lnTo>
                                      <a:pt x="31" y="73"/>
                                    </a:lnTo>
                                    <a:lnTo>
                                      <a:pt x="48" y="55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ff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7456" name=""/>
                            <p:cNvGrpSpPr/>
                            <p:nvPr/>
                          </p:nvGrpSpPr>
                          <p:grpSpPr>
                            <a:xfrm>
                              <a:off x="4802760" y="1701000"/>
                              <a:ext cx="132120" cy="161640"/>
                              <a:chOff x="4802760" y="1701000"/>
                              <a:chExt cx="132120" cy="161640"/>
                            </a:xfrm>
                          </p:grpSpPr>
                          <p:sp>
                            <p:nvSpPr>
                              <p:cNvPr id="7457" name=""/>
                              <p:cNvSpPr/>
                              <p:nvPr/>
                            </p:nvSpPr>
                            <p:spPr>
                              <a:xfrm>
                                <a:off x="4802760" y="1701000"/>
                                <a:ext cx="132120" cy="161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535" h="522">
                                    <a:moveTo>
                                      <a:pt x="79" y="71"/>
                                    </a:moveTo>
                                    <a:lnTo>
                                      <a:pt x="106" y="50"/>
                                    </a:lnTo>
                                    <a:lnTo>
                                      <a:pt x="131" y="31"/>
                                    </a:lnTo>
                                    <a:lnTo>
                                      <a:pt x="160" y="16"/>
                                    </a:lnTo>
                                    <a:lnTo>
                                      <a:pt x="194" y="6"/>
                                    </a:lnTo>
                                    <a:lnTo>
                                      <a:pt x="222" y="1"/>
                                    </a:lnTo>
                                    <a:lnTo>
                                      <a:pt x="257" y="0"/>
                                    </a:lnTo>
                                    <a:lnTo>
                                      <a:pt x="305" y="5"/>
                                    </a:lnTo>
                                    <a:lnTo>
                                      <a:pt x="352" y="15"/>
                                    </a:lnTo>
                                    <a:lnTo>
                                      <a:pt x="383" y="34"/>
                                    </a:lnTo>
                                    <a:lnTo>
                                      <a:pt x="404" y="63"/>
                                    </a:lnTo>
                                    <a:lnTo>
                                      <a:pt x="424" y="99"/>
                                    </a:lnTo>
                                    <a:lnTo>
                                      <a:pt x="445" y="132"/>
                                    </a:lnTo>
                                    <a:lnTo>
                                      <a:pt x="470" y="159"/>
                                    </a:lnTo>
                                    <a:lnTo>
                                      <a:pt x="493" y="183"/>
                                    </a:lnTo>
                                    <a:lnTo>
                                      <a:pt x="522" y="217"/>
                                    </a:lnTo>
                                    <a:lnTo>
                                      <a:pt x="533" y="249"/>
                                    </a:lnTo>
                                    <a:lnTo>
                                      <a:pt x="535" y="272"/>
                                    </a:lnTo>
                                    <a:lnTo>
                                      <a:pt x="533" y="286"/>
                                    </a:lnTo>
                                    <a:lnTo>
                                      <a:pt x="526" y="309"/>
                                    </a:lnTo>
                                    <a:lnTo>
                                      <a:pt x="514" y="331"/>
                                    </a:lnTo>
                                    <a:lnTo>
                                      <a:pt x="495" y="354"/>
                                    </a:lnTo>
                                    <a:lnTo>
                                      <a:pt x="473" y="385"/>
                                    </a:lnTo>
                                    <a:lnTo>
                                      <a:pt x="453" y="408"/>
                                    </a:lnTo>
                                    <a:lnTo>
                                      <a:pt x="437" y="433"/>
                                    </a:lnTo>
                                    <a:lnTo>
                                      <a:pt x="430" y="449"/>
                                    </a:lnTo>
                                    <a:lnTo>
                                      <a:pt x="429" y="458"/>
                                    </a:lnTo>
                                    <a:lnTo>
                                      <a:pt x="434" y="465"/>
                                    </a:lnTo>
                                    <a:lnTo>
                                      <a:pt x="442" y="469"/>
                                    </a:lnTo>
                                    <a:lnTo>
                                      <a:pt x="404" y="513"/>
                                    </a:lnTo>
                                    <a:lnTo>
                                      <a:pt x="400" y="505"/>
                                    </a:lnTo>
                                    <a:lnTo>
                                      <a:pt x="378" y="494"/>
                                    </a:lnTo>
                                    <a:lnTo>
                                      <a:pt x="353" y="488"/>
                                    </a:lnTo>
                                    <a:lnTo>
                                      <a:pt x="329" y="486"/>
                                    </a:lnTo>
                                    <a:lnTo>
                                      <a:pt x="303" y="491"/>
                                    </a:lnTo>
                                    <a:lnTo>
                                      <a:pt x="272" y="499"/>
                                    </a:lnTo>
                                    <a:lnTo>
                                      <a:pt x="235" y="511"/>
                                    </a:lnTo>
                                    <a:lnTo>
                                      <a:pt x="206" y="519"/>
                                    </a:lnTo>
                                    <a:lnTo>
                                      <a:pt x="183" y="522"/>
                                    </a:lnTo>
                                    <a:lnTo>
                                      <a:pt x="162" y="520"/>
                                    </a:lnTo>
                                    <a:lnTo>
                                      <a:pt x="141" y="513"/>
                                    </a:lnTo>
                                    <a:lnTo>
                                      <a:pt x="118" y="502"/>
                                    </a:lnTo>
                                    <a:lnTo>
                                      <a:pt x="102" y="487"/>
                                    </a:lnTo>
                                    <a:lnTo>
                                      <a:pt x="83" y="467"/>
                                    </a:lnTo>
                                    <a:lnTo>
                                      <a:pt x="60" y="437"/>
                                    </a:lnTo>
                                    <a:lnTo>
                                      <a:pt x="34" y="397"/>
                                    </a:lnTo>
                                    <a:lnTo>
                                      <a:pt x="15" y="359"/>
                                    </a:lnTo>
                                    <a:lnTo>
                                      <a:pt x="2" y="322"/>
                                    </a:lnTo>
                                    <a:lnTo>
                                      <a:pt x="0" y="297"/>
                                    </a:lnTo>
                                    <a:lnTo>
                                      <a:pt x="3" y="273"/>
                                    </a:lnTo>
                                    <a:lnTo>
                                      <a:pt x="11" y="224"/>
                                    </a:lnTo>
                                    <a:lnTo>
                                      <a:pt x="19" y="170"/>
                                    </a:lnTo>
                                    <a:lnTo>
                                      <a:pt x="36" y="128"/>
                                    </a:lnTo>
                                    <a:lnTo>
                                      <a:pt x="57" y="97"/>
                                    </a:lnTo>
                                    <a:lnTo>
                                      <a:pt x="79" y="71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ff404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7458" name=""/>
                              <p:cNvSpPr/>
                              <p:nvPr/>
                            </p:nvSpPr>
                            <p:spPr>
                              <a:xfrm>
                                <a:off x="4810320" y="1711800"/>
                                <a:ext cx="114480" cy="14112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466" h="457">
                                    <a:moveTo>
                                      <a:pt x="69" y="63"/>
                                    </a:moveTo>
                                    <a:lnTo>
                                      <a:pt x="91" y="43"/>
                                    </a:lnTo>
                                    <a:lnTo>
                                      <a:pt x="114" y="27"/>
                                    </a:lnTo>
                                    <a:lnTo>
                                      <a:pt x="139" y="14"/>
                                    </a:lnTo>
                                    <a:lnTo>
                                      <a:pt x="168" y="4"/>
                                    </a:lnTo>
                                    <a:lnTo>
                                      <a:pt x="192" y="0"/>
                                    </a:lnTo>
                                    <a:lnTo>
                                      <a:pt x="223" y="0"/>
                                    </a:lnTo>
                                    <a:lnTo>
                                      <a:pt x="265" y="3"/>
                                    </a:lnTo>
                                    <a:lnTo>
                                      <a:pt x="306" y="13"/>
                                    </a:lnTo>
                                    <a:lnTo>
                                      <a:pt x="334" y="30"/>
                                    </a:lnTo>
                                    <a:lnTo>
                                      <a:pt x="352" y="56"/>
                                    </a:lnTo>
                                    <a:lnTo>
                                      <a:pt x="368" y="86"/>
                                    </a:lnTo>
                                    <a:lnTo>
                                      <a:pt x="388" y="115"/>
                                    </a:lnTo>
                                    <a:lnTo>
                                      <a:pt x="409" y="140"/>
                                    </a:lnTo>
                                    <a:lnTo>
                                      <a:pt x="430" y="160"/>
                                    </a:lnTo>
                                    <a:lnTo>
                                      <a:pt x="454" y="190"/>
                                    </a:lnTo>
                                    <a:lnTo>
                                      <a:pt x="465" y="218"/>
                                    </a:lnTo>
                                    <a:lnTo>
                                      <a:pt x="466" y="238"/>
                                    </a:lnTo>
                                    <a:lnTo>
                                      <a:pt x="465" y="251"/>
                                    </a:lnTo>
                                    <a:lnTo>
                                      <a:pt x="458" y="271"/>
                                    </a:lnTo>
                                    <a:lnTo>
                                      <a:pt x="447" y="290"/>
                                    </a:lnTo>
                                    <a:lnTo>
                                      <a:pt x="432" y="311"/>
                                    </a:lnTo>
                                    <a:lnTo>
                                      <a:pt x="411" y="337"/>
                                    </a:lnTo>
                                    <a:lnTo>
                                      <a:pt x="395" y="356"/>
                                    </a:lnTo>
                                    <a:lnTo>
                                      <a:pt x="381" y="379"/>
                                    </a:lnTo>
                                    <a:lnTo>
                                      <a:pt x="374" y="392"/>
                                    </a:lnTo>
                                    <a:lnTo>
                                      <a:pt x="373" y="400"/>
                                    </a:lnTo>
                                    <a:lnTo>
                                      <a:pt x="377" y="406"/>
                                    </a:lnTo>
                                    <a:lnTo>
                                      <a:pt x="385" y="411"/>
                                    </a:lnTo>
                                    <a:lnTo>
                                      <a:pt x="352" y="450"/>
                                    </a:lnTo>
                                    <a:lnTo>
                                      <a:pt x="348" y="442"/>
                                    </a:lnTo>
                                    <a:lnTo>
                                      <a:pt x="328" y="432"/>
                                    </a:lnTo>
                                    <a:lnTo>
                                      <a:pt x="307" y="427"/>
                                    </a:lnTo>
                                    <a:lnTo>
                                      <a:pt x="285" y="425"/>
                                    </a:lnTo>
                                    <a:lnTo>
                                      <a:pt x="264" y="429"/>
                                    </a:lnTo>
                                    <a:lnTo>
                                      <a:pt x="236" y="436"/>
                                    </a:lnTo>
                                    <a:lnTo>
                                      <a:pt x="204" y="447"/>
                                    </a:lnTo>
                                    <a:lnTo>
                                      <a:pt x="179" y="455"/>
                                    </a:lnTo>
                                    <a:lnTo>
                                      <a:pt x="160" y="457"/>
                                    </a:lnTo>
                                    <a:lnTo>
                                      <a:pt x="140" y="456"/>
                                    </a:lnTo>
                                    <a:lnTo>
                                      <a:pt x="122" y="450"/>
                                    </a:lnTo>
                                    <a:lnTo>
                                      <a:pt x="102" y="439"/>
                                    </a:lnTo>
                                    <a:lnTo>
                                      <a:pt x="88" y="426"/>
                                    </a:lnTo>
                                    <a:lnTo>
                                      <a:pt x="72" y="409"/>
                                    </a:lnTo>
                                    <a:lnTo>
                                      <a:pt x="51" y="383"/>
                                    </a:lnTo>
                                    <a:lnTo>
                                      <a:pt x="29" y="348"/>
                                    </a:lnTo>
                                    <a:lnTo>
                                      <a:pt x="12" y="314"/>
                                    </a:lnTo>
                                    <a:lnTo>
                                      <a:pt x="1" y="282"/>
                                    </a:lnTo>
                                    <a:lnTo>
                                      <a:pt x="0" y="260"/>
                                    </a:lnTo>
                                    <a:lnTo>
                                      <a:pt x="2" y="239"/>
                                    </a:lnTo>
                                    <a:lnTo>
                                      <a:pt x="8" y="196"/>
                                    </a:lnTo>
                                    <a:lnTo>
                                      <a:pt x="15" y="149"/>
                                    </a:lnTo>
                                    <a:lnTo>
                                      <a:pt x="31" y="112"/>
                                    </a:lnTo>
                                    <a:lnTo>
                                      <a:pt x="49" y="85"/>
                                    </a:lnTo>
                                    <a:lnTo>
                                      <a:pt x="69" y="63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ff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7459" name=""/>
                              <p:cNvSpPr/>
                              <p:nvPr/>
                            </p:nvSpPr>
                            <p:spPr>
                              <a:xfrm>
                                <a:off x="4818960" y="1725120"/>
                                <a:ext cx="96120" cy="1184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390" h="383">
                                    <a:moveTo>
                                      <a:pt x="57" y="53"/>
                                    </a:moveTo>
                                    <a:lnTo>
                                      <a:pt x="76" y="36"/>
                                    </a:lnTo>
                                    <a:lnTo>
                                      <a:pt x="95" y="22"/>
                                    </a:lnTo>
                                    <a:lnTo>
                                      <a:pt x="115" y="11"/>
                                    </a:lnTo>
                                    <a:lnTo>
                                      <a:pt x="140" y="3"/>
                                    </a:lnTo>
                                    <a:lnTo>
                                      <a:pt x="160" y="0"/>
                                    </a:lnTo>
                                    <a:lnTo>
                                      <a:pt x="186" y="0"/>
                                    </a:lnTo>
                                    <a:lnTo>
                                      <a:pt x="221" y="2"/>
                                    </a:lnTo>
                                    <a:lnTo>
                                      <a:pt x="256" y="11"/>
                                    </a:lnTo>
                                    <a:lnTo>
                                      <a:pt x="279" y="25"/>
                                    </a:lnTo>
                                    <a:lnTo>
                                      <a:pt x="293" y="47"/>
                                    </a:lnTo>
                                    <a:lnTo>
                                      <a:pt x="308" y="72"/>
                                    </a:lnTo>
                                    <a:lnTo>
                                      <a:pt x="324" y="97"/>
                                    </a:lnTo>
                                    <a:lnTo>
                                      <a:pt x="342" y="117"/>
                                    </a:lnTo>
                                    <a:lnTo>
                                      <a:pt x="359" y="135"/>
                                    </a:lnTo>
                                    <a:lnTo>
                                      <a:pt x="379" y="159"/>
                                    </a:lnTo>
                                    <a:lnTo>
                                      <a:pt x="390" y="183"/>
                                    </a:lnTo>
                                    <a:lnTo>
                                      <a:pt x="390" y="200"/>
                                    </a:lnTo>
                                    <a:lnTo>
                                      <a:pt x="390" y="211"/>
                                    </a:lnTo>
                                    <a:lnTo>
                                      <a:pt x="383" y="227"/>
                                    </a:lnTo>
                                    <a:lnTo>
                                      <a:pt x="373" y="243"/>
                                    </a:lnTo>
                                    <a:lnTo>
                                      <a:pt x="361" y="261"/>
                                    </a:lnTo>
                                    <a:lnTo>
                                      <a:pt x="344" y="282"/>
                                    </a:lnTo>
                                    <a:lnTo>
                                      <a:pt x="330" y="299"/>
                                    </a:lnTo>
                                    <a:lnTo>
                                      <a:pt x="318" y="317"/>
                                    </a:lnTo>
                                    <a:lnTo>
                                      <a:pt x="313" y="329"/>
                                    </a:lnTo>
                                    <a:lnTo>
                                      <a:pt x="312" y="336"/>
                                    </a:lnTo>
                                    <a:lnTo>
                                      <a:pt x="315" y="341"/>
                                    </a:lnTo>
                                    <a:lnTo>
                                      <a:pt x="321" y="345"/>
                                    </a:lnTo>
                                    <a:lnTo>
                                      <a:pt x="293" y="378"/>
                                    </a:lnTo>
                                    <a:lnTo>
                                      <a:pt x="290" y="372"/>
                                    </a:lnTo>
                                    <a:lnTo>
                                      <a:pt x="274" y="362"/>
                                    </a:lnTo>
                                    <a:lnTo>
                                      <a:pt x="257" y="358"/>
                                    </a:lnTo>
                                    <a:lnTo>
                                      <a:pt x="238" y="356"/>
                                    </a:lnTo>
                                    <a:lnTo>
                                      <a:pt x="221" y="360"/>
                                    </a:lnTo>
                                    <a:lnTo>
                                      <a:pt x="197" y="367"/>
                                    </a:lnTo>
                                    <a:lnTo>
                                      <a:pt x="170" y="376"/>
                                    </a:lnTo>
                                    <a:lnTo>
                                      <a:pt x="149" y="382"/>
                                    </a:lnTo>
                                    <a:lnTo>
                                      <a:pt x="133" y="383"/>
                                    </a:lnTo>
                                    <a:lnTo>
                                      <a:pt x="117" y="383"/>
                                    </a:lnTo>
                                    <a:lnTo>
                                      <a:pt x="101" y="378"/>
                                    </a:lnTo>
                                    <a:lnTo>
                                      <a:pt x="85" y="369"/>
                                    </a:lnTo>
                                    <a:lnTo>
                                      <a:pt x="74" y="357"/>
                                    </a:lnTo>
                                    <a:lnTo>
                                      <a:pt x="59" y="343"/>
                                    </a:lnTo>
                                    <a:lnTo>
                                      <a:pt x="42" y="321"/>
                                    </a:lnTo>
                                    <a:lnTo>
                                      <a:pt x="23" y="292"/>
                                    </a:lnTo>
                                    <a:lnTo>
                                      <a:pt x="10" y="265"/>
                                    </a:lnTo>
                                    <a:lnTo>
                                      <a:pt x="0" y="237"/>
                                    </a:lnTo>
                                    <a:lnTo>
                                      <a:pt x="0" y="218"/>
                                    </a:lnTo>
                                    <a:lnTo>
                                      <a:pt x="1" y="200"/>
                                    </a:lnTo>
                                    <a:lnTo>
                                      <a:pt x="6" y="164"/>
                                    </a:lnTo>
                                    <a:lnTo>
                                      <a:pt x="12" y="124"/>
                                    </a:lnTo>
                                    <a:lnTo>
                                      <a:pt x="25" y="94"/>
                                    </a:lnTo>
                                    <a:lnTo>
                                      <a:pt x="41" y="71"/>
                                    </a:lnTo>
                                    <a:lnTo>
                                      <a:pt x="57" y="53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e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7460" name=""/>
                              <p:cNvSpPr/>
                              <p:nvPr/>
                            </p:nvSpPr>
                            <p:spPr>
                              <a:xfrm>
                                <a:off x="4825080" y="1735920"/>
                                <a:ext cx="87480" cy="10908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357" h="351">
                                    <a:moveTo>
                                      <a:pt x="53" y="47"/>
                                    </a:moveTo>
                                    <a:lnTo>
                                      <a:pt x="70" y="33"/>
                                    </a:lnTo>
                                    <a:lnTo>
                                      <a:pt x="87" y="20"/>
                                    </a:lnTo>
                                    <a:lnTo>
                                      <a:pt x="106" y="10"/>
                                    </a:lnTo>
                                    <a:lnTo>
                                      <a:pt x="128" y="2"/>
                                    </a:lnTo>
                                    <a:lnTo>
                                      <a:pt x="148" y="0"/>
                                    </a:lnTo>
                                    <a:lnTo>
                                      <a:pt x="171" y="0"/>
                                    </a:lnTo>
                                    <a:lnTo>
                                      <a:pt x="203" y="1"/>
                                    </a:lnTo>
                                    <a:lnTo>
                                      <a:pt x="235" y="10"/>
                                    </a:lnTo>
                                    <a:lnTo>
                                      <a:pt x="256" y="23"/>
                                    </a:lnTo>
                                    <a:lnTo>
                                      <a:pt x="269" y="42"/>
                                    </a:lnTo>
                                    <a:lnTo>
                                      <a:pt x="283" y="66"/>
                                    </a:lnTo>
                                    <a:lnTo>
                                      <a:pt x="298" y="89"/>
                                    </a:lnTo>
                                    <a:lnTo>
                                      <a:pt x="313" y="107"/>
                                    </a:lnTo>
                                    <a:lnTo>
                                      <a:pt x="330" y="123"/>
                                    </a:lnTo>
                                    <a:lnTo>
                                      <a:pt x="348" y="146"/>
                                    </a:lnTo>
                                    <a:lnTo>
                                      <a:pt x="357" y="167"/>
                                    </a:lnTo>
                                    <a:lnTo>
                                      <a:pt x="357" y="184"/>
                                    </a:lnTo>
                                    <a:lnTo>
                                      <a:pt x="357" y="193"/>
                                    </a:lnTo>
                                    <a:lnTo>
                                      <a:pt x="352" y="209"/>
                                    </a:lnTo>
                                    <a:lnTo>
                                      <a:pt x="343" y="224"/>
                                    </a:lnTo>
                                    <a:lnTo>
                                      <a:pt x="332" y="238"/>
                                    </a:lnTo>
                                    <a:lnTo>
                                      <a:pt x="315" y="259"/>
                                    </a:lnTo>
                                    <a:lnTo>
                                      <a:pt x="303" y="274"/>
                                    </a:lnTo>
                                    <a:lnTo>
                                      <a:pt x="292" y="292"/>
                                    </a:lnTo>
                                    <a:lnTo>
                                      <a:pt x="288" y="302"/>
                                    </a:lnTo>
                                    <a:lnTo>
                                      <a:pt x="287" y="308"/>
                                    </a:lnTo>
                                    <a:lnTo>
                                      <a:pt x="289" y="313"/>
                                    </a:lnTo>
                                    <a:lnTo>
                                      <a:pt x="295" y="316"/>
                                    </a:lnTo>
                                    <a:lnTo>
                                      <a:pt x="269" y="347"/>
                                    </a:lnTo>
                                    <a:lnTo>
                                      <a:pt x="266" y="341"/>
                                    </a:lnTo>
                                    <a:lnTo>
                                      <a:pt x="252" y="333"/>
                                    </a:lnTo>
                                    <a:lnTo>
                                      <a:pt x="236" y="329"/>
                                    </a:lnTo>
                                    <a:lnTo>
                                      <a:pt x="219" y="327"/>
                                    </a:lnTo>
                                    <a:lnTo>
                                      <a:pt x="203" y="331"/>
                                    </a:lnTo>
                                    <a:lnTo>
                                      <a:pt x="181" y="337"/>
                                    </a:lnTo>
                                    <a:lnTo>
                                      <a:pt x="156" y="345"/>
                                    </a:lnTo>
                                    <a:lnTo>
                                      <a:pt x="136" y="351"/>
                                    </a:lnTo>
                                    <a:lnTo>
                                      <a:pt x="122" y="351"/>
                                    </a:lnTo>
                                    <a:lnTo>
                                      <a:pt x="107" y="351"/>
                                    </a:lnTo>
                                    <a:lnTo>
                                      <a:pt x="93" y="347"/>
                                    </a:lnTo>
                                    <a:lnTo>
                                      <a:pt x="78" y="339"/>
                                    </a:lnTo>
                                    <a:lnTo>
                                      <a:pt x="68" y="327"/>
                                    </a:lnTo>
                                    <a:lnTo>
                                      <a:pt x="55" y="315"/>
                                    </a:lnTo>
                                    <a:lnTo>
                                      <a:pt x="38" y="295"/>
                                    </a:lnTo>
                                    <a:lnTo>
                                      <a:pt x="22" y="268"/>
                                    </a:lnTo>
                                    <a:lnTo>
                                      <a:pt x="10" y="242"/>
                                    </a:lnTo>
                                    <a:lnTo>
                                      <a:pt x="0" y="218"/>
                                    </a:lnTo>
                                    <a:lnTo>
                                      <a:pt x="0" y="200"/>
                                    </a:lnTo>
                                    <a:lnTo>
                                      <a:pt x="0" y="184"/>
                                    </a:lnTo>
                                    <a:lnTo>
                                      <a:pt x="6" y="151"/>
                                    </a:lnTo>
                                    <a:lnTo>
                                      <a:pt x="12" y="114"/>
                                    </a:lnTo>
                                    <a:lnTo>
                                      <a:pt x="23" y="85"/>
                                    </a:lnTo>
                                    <a:lnTo>
                                      <a:pt x="37" y="65"/>
                                    </a:lnTo>
                                    <a:lnTo>
                                      <a:pt x="53" y="47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c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7461" name=""/>
                          <p:cNvGrpSpPr/>
                          <p:nvPr/>
                        </p:nvGrpSpPr>
                        <p:grpSpPr>
                          <a:xfrm>
                            <a:off x="4798080" y="1711800"/>
                            <a:ext cx="44280" cy="146160"/>
                            <a:chOff x="4798080" y="1711800"/>
                            <a:chExt cx="44280" cy="146160"/>
                          </a:xfrm>
                        </p:grpSpPr>
                        <p:grpSp>
                          <p:nvGrpSpPr>
                            <p:cNvPr id="7462" name=""/>
                            <p:cNvGrpSpPr/>
                            <p:nvPr/>
                          </p:nvGrpSpPr>
                          <p:grpSpPr>
                            <a:xfrm>
                              <a:off x="4807800" y="1711800"/>
                              <a:ext cx="24480" cy="35280"/>
                              <a:chOff x="4807800" y="1711800"/>
                              <a:chExt cx="24480" cy="35280"/>
                            </a:xfrm>
                          </p:grpSpPr>
                          <p:sp>
                            <p:nvSpPr>
                              <p:cNvPr id="7463" name=""/>
                              <p:cNvSpPr/>
                              <p:nvPr/>
                            </p:nvSpPr>
                            <p:spPr>
                              <a:xfrm>
                                <a:off x="4807800" y="1711800"/>
                                <a:ext cx="24480" cy="3528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01" h="112">
                                    <a:moveTo>
                                      <a:pt x="16" y="35"/>
                                    </a:moveTo>
                                    <a:lnTo>
                                      <a:pt x="26" y="24"/>
                                    </a:lnTo>
                                    <a:lnTo>
                                      <a:pt x="37" y="16"/>
                                    </a:lnTo>
                                    <a:lnTo>
                                      <a:pt x="49" y="9"/>
                                    </a:lnTo>
                                    <a:lnTo>
                                      <a:pt x="64" y="2"/>
                                    </a:lnTo>
                                    <a:lnTo>
                                      <a:pt x="76" y="0"/>
                                    </a:lnTo>
                                    <a:lnTo>
                                      <a:pt x="86" y="3"/>
                                    </a:lnTo>
                                    <a:lnTo>
                                      <a:pt x="95" y="11"/>
                                    </a:lnTo>
                                    <a:lnTo>
                                      <a:pt x="99" y="22"/>
                                    </a:lnTo>
                                    <a:lnTo>
                                      <a:pt x="101" y="33"/>
                                    </a:lnTo>
                                    <a:lnTo>
                                      <a:pt x="98" y="49"/>
                                    </a:lnTo>
                                    <a:lnTo>
                                      <a:pt x="92" y="63"/>
                                    </a:lnTo>
                                    <a:lnTo>
                                      <a:pt x="84" y="75"/>
                                    </a:lnTo>
                                    <a:lnTo>
                                      <a:pt x="75" y="86"/>
                                    </a:lnTo>
                                    <a:lnTo>
                                      <a:pt x="63" y="97"/>
                                    </a:lnTo>
                                    <a:lnTo>
                                      <a:pt x="50" y="106"/>
                                    </a:lnTo>
                                    <a:lnTo>
                                      <a:pt x="37" y="111"/>
                                    </a:lnTo>
                                    <a:lnTo>
                                      <a:pt x="24" y="112"/>
                                    </a:lnTo>
                                    <a:lnTo>
                                      <a:pt x="13" y="108"/>
                                    </a:lnTo>
                                    <a:lnTo>
                                      <a:pt x="6" y="99"/>
                                    </a:lnTo>
                                    <a:lnTo>
                                      <a:pt x="1" y="89"/>
                                    </a:lnTo>
                                    <a:lnTo>
                                      <a:pt x="0" y="75"/>
                                    </a:lnTo>
                                    <a:lnTo>
                                      <a:pt x="3" y="61"/>
                                    </a:lnTo>
                                    <a:lnTo>
                                      <a:pt x="7" y="50"/>
                                    </a:lnTo>
                                    <a:lnTo>
                                      <a:pt x="16" y="35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8080ff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1520" bIns="-1152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7464" name=""/>
                              <p:cNvSpPr/>
                              <p:nvPr/>
                            </p:nvSpPr>
                            <p:spPr>
                              <a:xfrm>
                                <a:off x="4813920" y="1719360"/>
                                <a:ext cx="12240" cy="183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54" h="61">
                                    <a:moveTo>
                                      <a:pt x="9" y="18"/>
                                    </a:moveTo>
                                    <a:lnTo>
                                      <a:pt x="14" y="13"/>
                                    </a:lnTo>
                                    <a:lnTo>
                                      <a:pt x="20" y="7"/>
                                    </a:lnTo>
                                    <a:lnTo>
                                      <a:pt x="26" y="4"/>
                                    </a:lnTo>
                                    <a:lnTo>
                                      <a:pt x="34" y="1"/>
                                    </a:lnTo>
                                    <a:lnTo>
                                      <a:pt x="40" y="0"/>
                                    </a:lnTo>
                                    <a:lnTo>
                                      <a:pt x="45" y="1"/>
                                    </a:lnTo>
                                    <a:lnTo>
                                      <a:pt x="51" y="5"/>
                                    </a:lnTo>
                                    <a:lnTo>
                                      <a:pt x="53" y="11"/>
                                    </a:lnTo>
                                    <a:lnTo>
                                      <a:pt x="54" y="17"/>
                                    </a:lnTo>
                                    <a:lnTo>
                                      <a:pt x="53" y="27"/>
                                    </a:lnTo>
                                    <a:lnTo>
                                      <a:pt x="50" y="35"/>
                                    </a:lnTo>
                                    <a:lnTo>
                                      <a:pt x="45" y="41"/>
                                    </a:lnTo>
                                    <a:lnTo>
                                      <a:pt x="40" y="47"/>
                                    </a:lnTo>
                                    <a:lnTo>
                                      <a:pt x="34" y="54"/>
                                    </a:lnTo>
                                    <a:lnTo>
                                      <a:pt x="27" y="58"/>
                                    </a:lnTo>
                                    <a:lnTo>
                                      <a:pt x="20" y="61"/>
                                    </a:lnTo>
                                    <a:lnTo>
                                      <a:pt x="14" y="61"/>
                                    </a:lnTo>
                                    <a:lnTo>
                                      <a:pt x="8" y="59"/>
                                    </a:lnTo>
                                    <a:lnTo>
                                      <a:pt x="3" y="54"/>
                                    </a:lnTo>
                                    <a:lnTo>
                                      <a:pt x="0" y="48"/>
                                    </a:lnTo>
                                    <a:lnTo>
                                      <a:pt x="0" y="41"/>
                                    </a:lnTo>
                                    <a:lnTo>
                                      <a:pt x="1" y="34"/>
                                    </a:lnTo>
                                    <a:lnTo>
                                      <a:pt x="3" y="27"/>
                                    </a:lnTo>
                                    <a:lnTo>
                                      <a:pt x="9" y="18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60006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8440" bIns="-2844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7465" name=""/>
                            <p:cNvSpPr/>
                            <p:nvPr/>
                          </p:nvSpPr>
                          <p:spPr>
                            <a:xfrm>
                              <a:off x="4798080" y="1782720"/>
                              <a:ext cx="25560" cy="3384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101" h="111">
                                  <a:moveTo>
                                    <a:pt x="85" y="35"/>
                                  </a:moveTo>
                                  <a:lnTo>
                                    <a:pt x="75" y="24"/>
                                  </a:lnTo>
                                  <a:lnTo>
                                    <a:pt x="64" y="15"/>
                                  </a:lnTo>
                                  <a:lnTo>
                                    <a:pt x="52" y="8"/>
                                  </a:lnTo>
                                  <a:lnTo>
                                    <a:pt x="37" y="2"/>
                                  </a:lnTo>
                                  <a:lnTo>
                                    <a:pt x="26" y="0"/>
                                  </a:lnTo>
                                  <a:lnTo>
                                    <a:pt x="15" y="3"/>
                                  </a:lnTo>
                                  <a:lnTo>
                                    <a:pt x="6" y="10"/>
                                  </a:lnTo>
                                  <a:lnTo>
                                    <a:pt x="2" y="22"/>
                                  </a:lnTo>
                                  <a:lnTo>
                                    <a:pt x="0" y="33"/>
                                  </a:lnTo>
                                  <a:lnTo>
                                    <a:pt x="3" y="48"/>
                                  </a:lnTo>
                                  <a:lnTo>
                                    <a:pt x="9" y="63"/>
                                  </a:lnTo>
                                  <a:lnTo>
                                    <a:pt x="17" y="75"/>
                                  </a:lnTo>
                                  <a:lnTo>
                                    <a:pt x="27" y="85"/>
                                  </a:lnTo>
                                  <a:lnTo>
                                    <a:pt x="38" y="95"/>
                                  </a:lnTo>
                                  <a:lnTo>
                                    <a:pt x="51" y="105"/>
                                  </a:lnTo>
                                  <a:lnTo>
                                    <a:pt x="64" y="110"/>
                                  </a:lnTo>
                                  <a:lnTo>
                                    <a:pt x="77" y="111"/>
                                  </a:lnTo>
                                  <a:lnTo>
                                    <a:pt x="88" y="107"/>
                                  </a:lnTo>
                                  <a:lnTo>
                                    <a:pt x="95" y="97"/>
                                  </a:lnTo>
                                  <a:lnTo>
                                    <a:pt x="100" y="87"/>
                                  </a:lnTo>
                                  <a:lnTo>
                                    <a:pt x="101" y="75"/>
                                  </a:lnTo>
                                  <a:lnTo>
                                    <a:pt x="98" y="61"/>
                                  </a:lnTo>
                                  <a:lnTo>
                                    <a:pt x="94" y="49"/>
                                  </a:lnTo>
                                  <a:lnTo>
                                    <a:pt x="85" y="35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a000a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12960" bIns="-1296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7466" name=""/>
                            <p:cNvSpPr/>
                            <p:nvPr/>
                          </p:nvSpPr>
                          <p:spPr>
                            <a:xfrm>
                              <a:off x="4820040" y="1822320"/>
                              <a:ext cx="22320" cy="3564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91" h="114">
                                  <a:moveTo>
                                    <a:pt x="79" y="37"/>
                                  </a:moveTo>
                                  <a:lnTo>
                                    <a:pt x="71" y="23"/>
                                  </a:lnTo>
                                  <a:lnTo>
                                    <a:pt x="62" y="12"/>
                                  </a:lnTo>
                                  <a:lnTo>
                                    <a:pt x="51" y="4"/>
                                  </a:lnTo>
                                  <a:lnTo>
                                    <a:pt x="37" y="0"/>
                                  </a:lnTo>
                                  <a:lnTo>
                                    <a:pt x="27" y="3"/>
                                  </a:lnTo>
                                  <a:lnTo>
                                    <a:pt x="17" y="11"/>
                                  </a:lnTo>
                                  <a:lnTo>
                                    <a:pt x="7" y="19"/>
                                  </a:lnTo>
                                  <a:lnTo>
                                    <a:pt x="2" y="29"/>
                                  </a:lnTo>
                                  <a:lnTo>
                                    <a:pt x="0" y="38"/>
                                  </a:lnTo>
                                  <a:lnTo>
                                    <a:pt x="1" y="48"/>
                                  </a:lnTo>
                                  <a:lnTo>
                                    <a:pt x="3" y="62"/>
                                  </a:lnTo>
                                  <a:lnTo>
                                    <a:pt x="10" y="77"/>
                                  </a:lnTo>
                                  <a:lnTo>
                                    <a:pt x="18" y="88"/>
                                  </a:lnTo>
                                  <a:lnTo>
                                    <a:pt x="28" y="99"/>
                                  </a:lnTo>
                                  <a:lnTo>
                                    <a:pt x="41" y="108"/>
                                  </a:lnTo>
                                  <a:lnTo>
                                    <a:pt x="54" y="113"/>
                                  </a:lnTo>
                                  <a:lnTo>
                                    <a:pt x="67" y="114"/>
                                  </a:lnTo>
                                  <a:lnTo>
                                    <a:pt x="78" y="110"/>
                                  </a:lnTo>
                                  <a:lnTo>
                                    <a:pt x="85" y="101"/>
                                  </a:lnTo>
                                  <a:lnTo>
                                    <a:pt x="90" y="91"/>
                                  </a:lnTo>
                                  <a:lnTo>
                                    <a:pt x="91" y="77"/>
                                  </a:lnTo>
                                  <a:lnTo>
                                    <a:pt x="88" y="63"/>
                                  </a:lnTo>
                                  <a:lnTo>
                                    <a:pt x="85" y="49"/>
                                  </a:lnTo>
                                  <a:lnTo>
                                    <a:pt x="79" y="37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a000a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11160" bIns="-1116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7467" name=""/>
                        <p:cNvGrpSpPr/>
                        <p:nvPr/>
                      </p:nvGrpSpPr>
                      <p:grpSpPr>
                        <a:xfrm>
                          <a:off x="4876920" y="1785600"/>
                          <a:ext cx="160200" cy="185040"/>
                          <a:chOff x="4876920" y="1785600"/>
                          <a:chExt cx="160200" cy="185040"/>
                        </a:xfrm>
                      </p:grpSpPr>
                      <p:sp>
                        <p:nvSpPr>
                          <p:cNvPr id="7468" name=""/>
                          <p:cNvSpPr/>
                          <p:nvPr/>
                        </p:nvSpPr>
                        <p:spPr>
                          <a:xfrm>
                            <a:off x="4913640" y="1830240"/>
                            <a:ext cx="93600" cy="986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380" h="322">
                                <a:moveTo>
                                  <a:pt x="10" y="0"/>
                                </a:moveTo>
                                <a:lnTo>
                                  <a:pt x="3" y="34"/>
                                </a:lnTo>
                                <a:lnTo>
                                  <a:pt x="0" y="61"/>
                                </a:lnTo>
                                <a:lnTo>
                                  <a:pt x="6" y="92"/>
                                </a:lnTo>
                                <a:lnTo>
                                  <a:pt x="18" y="114"/>
                                </a:lnTo>
                                <a:lnTo>
                                  <a:pt x="33" y="127"/>
                                </a:lnTo>
                                <a:lnTo>
                                  <a:pt x="59" y="148"/>
                                </a:lnTo>
                                <a:lnTo>
                                  <a:pt x="84" y="163"/>
                                </a:lnTo>
                                <a:lnTo>
                                  <a:pt x="121" y="179"/>
                                </a:lnTo>
                                <a:lnTo>
                                  <a:pt x="161" y="194"/>
                                </a:lnTo>
                                <a:lnTo>
                                  <a:pt x="199" y="206"/>
                                </a:lnTo>
                                <a:lnTo>
                                  <a:pt x="239" y="219"/>
                                </a:lnTo>
                                <a:lnTo>
                                  <a:pt x="268" y="234"/>
                                </a:lnTo>
                                <a:lnTo>
                                  <a:pt x="300" y="252"/>
                                </a:lnTo>
                                <a:lnTo>
                                  <a:pt x="330" y="273"/>
                                </a:lnTo>
                                <a:lnTo>
                                  <a:pt x="355" y="295"/>
                                </a:lnTo>
                                <a:lnTo>
                                  <a:pt x="380" y="322"/>
                                </a:lnTo>
                              </a:path>
                            </a:pathLst>
                          </a:custGeom>
                          <a:noFill/>
                          <a:ln w="4680">
                            <a:solidFill>
                              <a:srgbClr val="ffc0c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7469" name=""/>
                          <p:cNvSpPr/>
                          <p:nvPr/>
                        </p:nvSpPr>
                        <p:spPr>
                          <a:xfrm>
                            <a:off x="4876920" y="1848600"/>
                            <a:ext cx="108720" cy="1216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443" h="393">
                                <a:moveTo>
                                  <a:pt x="0" y="0"/>
                                </a:moveTo>
                                <a:lnTo>
                                  <a:pt x="34" y="9"/>
                                </a:lnTo>
                                <a:lnTo>
                                  <a:pt x="65" y="18"/>
                                </a:lnTo>
                                <a:lnTo>
                                  <a:pt x="95" y="30"/>
                                </a:lnTo>
                                <a:lnTo>
                                  <a:pt x="117" y="43"/>
                                </a:lnTo>
                                <a:lnTo>
                                  <a:pt x="135" y="65"/>
                                </a:lnTo>
                                <a:lnTo>
                                  <a:pt x="150" y="93"/>
                                </a:lnTo>
                                <a:lnTo>
                                  <a:pt x="160" y="117"/>
                                </a:lnTo>
                                <a:lnTo>
                                  <a:pt x="169" y="148"/>
                                </a:lnTo>
                                <a:lnTo>
                                  <a:pt x="180" y="183"/>
                                </a:lnTo>
                                <a:lnTo>
                                  <a:pt x="193" y="214"/>
                                </a:lnTo>
                                <a:lnTo>
                                  <a:pt x="212" y="242"/>
                                </a:lnTo>
                                <a:lnTo>
                                  <a:pt x="233" y="273"/>
                                </a:lnTo>
                                <a:lnTo>
                                  <a:pt x="253" y="295"/>
                                </a:lnTo>
                                <a:lnTo>
                                  <a:pt x="280" y="316"/>
                                </a:lnTo>
                                <a:lnTo>
                                  <a:pt x="309" y="335"/>
                                </a:lnTo>
                                <a:lnTo>
                                  <a:pt x="343" y="350"/>
                                </a:lnTo>
                                <a:lnTo>
                                  <a:pt x="382" y="368"/>
                                </a:lnTo>
                                <a:lnTo>
                                  <a:pt x="415" y="381"/>
                                </a:lnTo>
                                <a:lnTo>
                                  <a:pt x="443" y="393"/>
                                </a:lnTo>
                              </a:path>
                            </a:pathLst>
                          </a:custGeom>
                          <a:noFill/>
                          <a:ln w="4680">
                            <a:solidFill>
                              <a:srgbClr val="ffc0c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7470" name=""/>
                          <p:cNvSpPr/>
                          <p:nvPr/>
                        </p:nvSpPr>
                        <p:spPr>
                          <a:xfrm>
                            <a:off x="4884120" y="1785600"/>
                            <a:ext cx="153000" cy="1850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618" h="602">
                                <a:moveTo>
                                  <a:pt x="0" y="0"/>
                                </a:moveTo>
                                <a:lnTo>
                                  <a:pt x="7" y="41"/>
                                </a:lnTo>
                                <a:lnTo>
                                  <a:pt x="18" y="82"/>
                                </a:lnTo>
                                <a:lnTo>
                                  <a:pt x="35" y="128"/>
                                </a:lnTo>
                                <a:lnTo>
                                  <a:pt x="55" y="163"/>
                                </a:lnTo>
                                <a:lnTo>
                                  <a:pt x="83" y="202"/>
                                </a:lnTo>
                                <a:lnTo>
                                  <a:pt x="104" y="237"/>
                                </a:lnTo>
                                <a:lnTo>
                                  <a:pt x="129" y="280"/>
                                </a:lnTo>
                                <a:lnTo>
                                  <a:pt x="157" y="328"/>
                                </a:lnTo>
                                <a:lnTo>
                                  <a:pt x="176" y="356"/>
                                </a:lnTo>
                                <a:lnTo>
                                  <a:pt x="199" y="385"/>
                                </a:lnTo>
                                <a:lnTo>
                                  <a:pt x="226" y="415"/>
                                </a:lnTo>
                                <a:lnTo>
                                  <a:pt x="260" y="445"/>
                                </a:lnTo>
                                <a:lnTo>
                                  <a:pt x="304" y="482"/>
                                </a:lnTo>
                                <a:lnTo>
                                  <a:pt x="342" y="512"/>
                                </a:lnTo>
                                <a:lnTo>
                                  <a:pt x="385" y="537"/>
                                </a:lnTo>
                                <a:lnTo>
                                  <a:pt x="432" y="558"/>
                                </a:lnTo>
                                <a:lnTo>
                                  <a:pt x="485" y="578"/>
                                </a:lnTo>
                                <a:lnTo>
                                  <a:pt x="525" y="589"/>
                                </a:lnTo>
                                <a:lnTo>
                                  <a:pt x="573" y="598"/>
                                </a:lnTo>
                                <a:lnTo>
                                  <a:pt x="618" y="602"/>
                                </a:lnTo>
                              </a:path>
                            </a:pathLst>
                          </a:custGeom>
                          <a:noFill/>
                          <a:ln w="4680">
                            <a:solidFill>
                              <a:srgbClr val="ffc0c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</p:grpSp>
              </p:grpSp>
              <p:grpSp>
                <p:nvGrpSpPr>
                  <p:cNvPr id="7471" name=""/>
                  <p:cNvGrpSpPr/>
                  <p:nvPr/>
                </p:nvGrpSpPr>
                <p:grpSpPr>
                  <a:xfrm>
                    <a:off x="4920480" y="1781640"/>
                    <a:ext cx="231480" cy="233640"/>
                    <a:chOff x="4920480" y="1781640"/>
                    <a:chExt cx="231480" cy="233640"/>
                  </a:xfrm>
                </p:grpSpPr>
                <p:grpSp>
                  <p:nvGrpSpPr>
                    <p:cNvPr id="7472" name=""/>
                    <p:cNvGrpSpPr/>
                    <p:nvPr/>
                  </p:nvGrpSpPr>
                  <p:grpSpPr>
                    <a:xfrm>
                      <a:off x="5008320" y="1898640"/>
                      <a:ext cx="140760" cy="116280"/>
                      <a:chOff x="5008320" y="1898640"/>
                      <a:chExt cx="140760" cy="116280"/>
                    </a:xfrm>
                  </p:grpSpPr>
                  <p:grpSp>
                    <p:nvGrpSpPr>
                      <p:cNvPr id="7473" name=""/>
                      <p:cNvGrpSpPr/>
                      <p:nvPr/>
                    </p:nvGrpSpPr>
                    <p:grpSpPr>
                      <a:xfrm>
                        <a:off x="5093640" y="1898640"/>
                        <a:ext cx="55440" cy="58320"/>
                        <a:chOff x="5093640" y="1898640"/>
                        <a:chExt cx="55440" cy="58320"/>
                      </a:xfrm>
                    </p:grpSpPr>
                    <p:sp>
                      <p:nvSpPr>
                        <p:cNvPr id="7474" name=""/>
                        <p:cNvSpPr/>
                        <p:nvPr/>
                      </p:nvSpPr>
                      <p:spPr>
                        <a:xfrm>
                          <a:off x="5116680" y="1901520"/>
                          <a:ext cx="6120" cy="324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7" h="101">
                              <a:moveTo>
                                <a:pt x="14" y="0"/>
                              </a:moveTo>
                              <a:lnTo>
                                <a:pt x="21" y="21"/>
                              </a:lnTo>
                              <a:lnTo>
                                <a:pt x="27" y="51"/>
                              </a:lnTo>
                              <a:lnTo>
                                <a:pt x="24" y="69"/>
                              </a:lnTo>
                              <a:lnTo>
                                <a:pt x="11" y="89"/>
                              </a:lnTo>
                              <a:lnTo>
                                <a:pt x="0" y="101"/>
                              </a:lnTo>
                            </a:path>
                          </a:pathLst>
                        </a:custGeom>
                        <a:noFill/>
                        <a:ln w="3240">
                          <a:solidFill>
                            <a:srgbClr val="8080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4400" bIns="-144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475" name=""/>
                        <p:cNvSpPr/>
                        <p:nvPr/>
                      </p:nvSpPr>
                      <p:spPr>
                        <a:xfrm>
                          <a:off x="5093640" y="1915560"/>
                          <a:ext cx="30600" cy="414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24" h="137">
                              <a:moveTo>
                                <a:pt x="0" y="0"/>
                              </a:moveTo>
                              <a:lnTo>
                                <a:pt x="30" y="5"/>
                              </a:lnTo>
                              <a:lnTo>
                                <a:pt x="61" y="11"/>
                              </a:lnTo>
                              <a:lnTo>
                                <a:pt x="75" y="20"/>
                              </a:lnTo>
                              <a:lnTo>
                                <a:pt x="89" y="40"/>
                              </a:lnTo>
                              <a:lnTo>
                                <a:pt x="92" y="61"/>
                              </a:lnTo>
                              <a:lnTo>
                                <a:pt x="104" y="85"/>
                              </a:lnTo>
                              <a:lnTo>
                                <a:pt x="115" y="109"/>
                              </a:lnTo>
                              <a:lnTo>
                                <a:pt x="124" y="137"/>
                              </a:lnTo>
                            </a:path>
                          </a:pathLst>
                        </a:custGeom>
                        <a:noFill/>
                        <a:ln w="3240">
                          <a:solidFill>
                            <a:srgbClr val="8080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5400" bIns="-54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476" name=""/>
                        <p:cNvSpPr/>
                        <p:nvPr/>
                      </p:nvSpPr>
                      <p:spPr>
                        <a:xfrm>
                          <a:off x="5137920" y="1898640"/>
                          <a:ext cx="11160" cy="507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5" h="162">
                              <a:moveTo>
                                <a:pt x="0" y="80"/>
                              </a:moveTo>
                              <a:lnTo>
                                <a:pt x="2" y="110"/>
                              </a:lnTo>
                              <a:lnTo>
                                <a:pt x="6" y="138"/>
                              </a:lnTo>
                              <a:lnTo>
                                <a:pt x="17" y="151"/>
                              </a:lnTo>
                              <a:lnTo>
                                <a:pt x="45" y="162"/>
                              </a:lnTo>
                              <a:lnTo>
                                <a:pt x="45" y="0"/>
                              </a:lnTo>
                            </a:path>
                          </a:pathLst>
                        </a:custGeom>
                        <a:noFill/>
                        <a:ln w="3240">
                          <a:solidFill>
                            <a:srgbClr val="8080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3960" bIns="39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7477" name=""/>
                      <p:cNvGrpSpPr/>
                      <p:nvPr/>
                    </p:nvGrpSpPr>
                    <p:grpSpPr>
                      <a:xfrm>
                        <a:off x="5008320" y="1980360"/>
                        <a:ext cx="75240" cy="34560"/>
                        <a:chOff x="5008320" y="1980360"/>
                        <a:chExt cx="75240" cy="34560"/>
                      </a:xfrm>
                    </p:grpSpPr>
                    <p:sp>
                      <p:nvSpPr>
                        <p:cNvPr id="7478" name=""/>
                        <p:cNvSpPr/>
                        <p:nvPr/>
                      </p:nvSpPr>
                      <p:spPr>
                        <a:xfrm>
                          <a:off x="5035320" y="1984680"/>
                          <a:ext cx="44280" cy="7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79" h="24">
                              <a:moveTo>
                                <a:pt x="0" y="0"/>
                              </a:moveTo>
                              <a:lnTo>
                                <a:pt x="43" y="13"/>
                              </a:lnTo>
                              <a:lnTo>
                                <a:pt x="80" y="21"/>
                              </a:lnTo>
                              <a:lnTo>
                                <a:pt x="124" y="24"/>
                              </a:lnTo>
                              <a:lnTo>
                                <a:pt x="179" y="16"/>
                              </a:lnTo>
                            </a:path>
                          </a:pathLst>
                        </a:custGeom>
                        <a:noFill/>
                        <a:ln w="3240">
                          <a:solidFill>
                            <a:srgbClr val="8080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9240" bIns="-392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479" name=""/>
                        <p:cNvSpPr/>
                        <p:nvPr/>
                      </p:nvSpPr>
                      <p:spPr>
                        <a:xfrm>
                          <a:off x="5055120" y="1980360"/>
                          <a:ext cx="8640" cy="118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5" h="42">
                              <a:moveTo>
                                <a:pt x="0" y="0"/>
                              </a:moveTo>
                              <a:lnTo>
                                <a:pt x="22" y="20"/>
                              </a:lnTo>
                              <a:lnTo>
                                <a:pt x="35" y="42"/>
                              </a:lnTo>
                            </a:path>
                          </a:pathLst>
                        </a:custGeom>
                        <a:noFill/>
                        <a:ln w="3240">
                          <a:solidFill>
                            <a:srgbClr val="8080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4920" bIns="-349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480" name=""/>
                        <p:cNvSpPr/>
                        <p:nvPr/>
                      </p:nvSpPr>
                      <p:spPr>
                        <a:xfrm>
                          <a:off x="5008320" y="2004840"/>
                          <a:ext cx="54000" cy="100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20" h="35">
                              <a:moveTo>
                                <a:pt x="0" y="0"/>
                              </a:moveTo>
                              <a:lnTo>
                                <a:pt x="57" y="9"/>
                              </a:lnTo>
                              <a:lnTo>
                                <a:pt x="115" y="16"/>
                              </a:lnTo>
                              <a:lnTo>
                                <a:pt x="168" y="25"/>
                              </a:lnTo>
                              <a:lnTo>
                                <a:pt x="220" y="35"/>
                              </a:lnTo>
                            </a:path>
                          </a:pathLst>
                        </a:custGeom>
                        <a:noFill/>
                        <a:ln w="3240">
                          <a:solidFill>
                            <a:srgbClr val="8080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6720" bIns="-367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481" name=""/>
                        <p:cNvSpPr/>
                        <p:nvPr/>
                      </p:nvSpPr>
                      <p:spPr>
                        <a:xfrm>
                          <a:off x="5055120" y="2003040"/>
                          <a:ext cx="17280" cy="7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66" h="25">
                              <a:moveTo>
                                <a:pt x="0" y="0"/>
                              </a:moveTo>
                              <a:lnTo>
                                <a:pt x="31" y="2"/>
                              </a:lnTo>
                              <a:lnTo>
                                <a:pt x="50" y="8"/>
                              </a:lnTo>
                              <a:lnTo>
                                <a:pt x="66" y="25"/>
                              </a:lnTo>
                            </a:path>
                          </a:pathLst>
                        </a:custGeom>
                        <a:noFill/>
                        <a:ln w="3240">
                          <a:solidFill>
                            <a:srgbClr val="8080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9240" bIns="-392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482" name=""/>
                        <p:cNvSpPr/>
                        <p:nvPr/>
                      </p:nvSpPr>
                      <p:spPr>
                        <a:xfrm>
                          <a:off x="5077440" y="1999800"/>
                          <a:ext cx="6120" cy="15120"/>
                        </a:xfrm>
                        <a:prstGeom prst="line">
                          <a:avLst/>
                        </a:prstGeom>
                        <a:ln w="3240">
                          <a:solidFill>
                            <a:srgbClr val="8080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1680" bIns="-316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7483" name=""/>
                    <p:cNvGrpSpPr/>
                    <p:nvPr/>
                  </p:nvGrpSpPr>
                  <p:grpSpPr>
                    <a:xfrm>
                      <a:off x="4920480" y="1781640"/>
                      <a:ext cx="231480" cy="233640"/>
                      <a:chOff x="4920480" y="1781640"/>
                      <a:chExt cx="231480" cy="233640"/>
                    </a:xfrm>
                  </p:grpSpPr>
                  <p:grpSp>
                    <p:nvGrpSpPr>
                      <p:cNvPr id="7484" name=""/>
                      <p:cNvGrpSpPr/>
                      <p:nvPr/>
                    </p:nvGrpSpPr>
                    <p:grpSpPr>
                      <a:xfrm>
                        <a:off x="4934160" y="1795320"/>
                        <a:ext cx="217800" cy="219960"/>
                        <a:chOff x="4934160" y="1795320"/>
                        <a:chExt cx="217800" cy="219960"/>
                      </a:xfrm>
                    </p:grpSpPr>
                    <p:sp>
                      <p:nvSpPr>
                        <p:cNvPr id="7485" name=""/>
                        <p:cNvSpPr/>
                        <p:nvPr/>
                      </p:nvSpPr>
                      <p:spPr>
                        <a:xfrm>
                          <a:off x="4934160" y="1795320"/>
                          <a:ext cx="217800" cy="175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77" h="567">
                              <a:moveTo>
                                <a:pt x="0" y="0"/>
                              </a:moveTo>
                              <a:lnTo>
                                <a:pt x="35" y="15"/>
                              </a:lnTo>
                              <a:lnTo>
                                <a:pt x="69" y="25"/>
                              </a:lnTo>
                              <a:lnTo>
                                <a:pt x="109" y="31"/>
                              </a:lnTo>
                              <a:lnTo>
                                <a:pt x="142" y="31"/>
                              </a:lnTo>
                              <a:lnTo>
                                <a:pt x="185" y="34"/>
                              </a:lnTo>
                              <a:lnTo>
                                <a:pt x="215" y="43"/>
                              </a:lnTo>
                              <a:lnTo>
                                <a:pt x="244" y="54"/>
                              </a:lnTo>
                              <a:lnTo>
                                <a:pt x="276" y="76"/>
                              </a:lnTo>
                              <a:lnTo>
                                <a:pt x="308" y="103"/>
                              </a:lnTo>
                              <a:lnTo>
                                <a:pt x="350" y="140"/>
                              </a:lnTo>
                              <a:lnTo>
                                <a:pt x="381" y="167"/>
                              </a:lnTo>
                              <a:lnTo>
                                <a:pt x="429" y="217"/>
                              </a:lnTo>
                              <a:lnTo>
                                <a:pt x="481" y="267"/>
                              </a:lnTo>
                              <a:lnTo>
                                <a:pt x="524" y="312"/>
                              </a:lnTo>
                              <a:lnTo>
                                <a:pt x="571" y="364"/>
                              </a:lnTo>
                              <a:lnTo>
                                <a:pt x="621" y="418"/>
                              </a:lnTo>
                              <a:lnTo>
                                <a:pt x="664" y="458"/>
                              </a:lnTo>
                              <a:lnTo>
                                <a:pt x="707" y="496"/>
                              </a:lnTo>
                              <a:lnTo>
                                <a:pt x="744" y="520"/>
                              </a:lnTo>
                              <a:lnTo>
                                <a:pt x="782" y="540"/>
                              </a:lnTo>
                              <a:lnTo>
                                <a:pt x="812" y="560"/>
                              </a:lnTo>
                              <a:lnTo>
                                <a:pt x="833" y="567"/>
                              </a:lnTo>
                              <a:lnTo>
                                <a:pt x="851" y="563"/>
                              </a:lnTo>
                              <a:lnTo>
                                <a:pt x="867" y="552"/>
                              </a:lnTo>
                              <a:lnTo>
                                <a:pt x="876" y="532"/>
                              </a:lnTo>
                              <a:lnTo>
                                <a:pt x="877" y="492"/>
                              </a:lnTo>
                              <a:lnTo>
                                <a:pt x="873" y="452"/>
                              </a:lnTo>
                            </a:path>
                          </a:pathLst>
                        </a:custGeom>
                        <a:noFill/>
                        <a:ln w="11160">
                          <a:solidFill>
                            <a:srgbClr val="8080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486" name=""/>
                        <p:cNvSpPr/>
                        <p:nvPr/>
                      </p:nvSpPr>
                      <p:spPr>
                        <a:xfrm>
                          <a:off x="4968360" y="1804320"/>
                          <a:ext cx="122400" cy="2109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94" h="685">
                              <a:moveTo>
                                <a:pt x="0" y="0"/>
                              </a:moveTo>
                              <a:lnTo>
                                <a:pt x="18" y="59"/>
                              </a:lnTo>
                              <a:lnTo>
                                <a:pt x="37" y="116"/>
                              </a:lnTo>
                              <a:lnTo>
                                <a:pt x="55" y="155"/>
                              </a:lnTo>
                              <a:lnTo>
                                <a:pt x="82" y="202"/>
                              </a:lnTo>
                              <a:lnTo>
                                <a:pt x="119" y="256"/>
                              </a:lnTo>
                              <a:lnTo>
                                <a:pt x="150" y="299"/>
                              </a:lnTo>
                              <a:lnTo>
                                <a:pt x="182" y="344"/>
                              </a:lnTo>
                              <a:lnTo>
                                <a:pt x="219" y="397"/>
                              </a:lnTo>
                              <a:lnTo>
                                <a:pt x="244" y="431"/>
                              </a:lnTo>
                              <a:lnTo>
                                <a:pt x="268" y="450"/>
                              </a:lnTo>
                              <a:lnTo>
                                <a:pt x="299" y="471"/>
                              </a:lnTo>
                              <a:lnTo>
                                <a:pt x="322" y="489"/>
                              </a:lnTo>
                              <a:lnTo>
                                <a:pt x="345" y="516"/>
                              </a:lnTo>
                              <a:lnTo>
                                <a:pt x="376" y="541"/>
                              </a:lnTo>
                              <a:lnTo>
                                <a:pt x="406" y="565"/>
                              </a:lnTo>
                              <a:lnTo>
                                <a:pt x="435" y="584"/>
                              </a:lnTo>
                              <a:lnTo>
                                <a:pt x="465" y="608"/>
                              </a:lnTo>
                              <a:lnTo>
                                <a:pt x="485" y="627"/>
                              </a:lnTo>
                              <a:lnTo>
                                <a:pt x="494" y="645"/>
                              </a:lnTo>
                              <a:lnTo>
                                <a:pt x="491" y="669"/>
                              </a:lnTo>
                              <a:lnTo>
                                <a:pt x="479" y="675"/>
                              </a:lnTo>
                              <a:lnTo>
                                <a:pt x="449" y="682"/>
                              </a:lnTo>
                              <a:lnTo>
                                <a:pt x="420" y="685"/>
                              </a:lnTo>
                              <a:lnTo>
                                <a:pt x="385" y="684"/>
                              </a:lnTo>
                            </a:path>
                          </a:pathLst>
                        </a:custGeom>
                        <a:noFill/>
                        <a:ln w="11160">
                          <a:solidFill>
                            <a:srgbClr val="8080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7487" name=""/>
                      <p:cNvGrpSpPr/>
                      <p:nvPr/>
                    </p:nvGrpSpPr>
                    <p:grpSpPr>
                      <a:xfrm>
                        <a:off x="4920480" y="1781640"/>
                        <a:ext cx="18360" cy="24480"/>
                        <a:chOff x="4920480" y="1781640"/>
                        <a:chExt cx="18360" cy="24480"/>
                      </a:xfrm>
                    </p:grpSpPr>
                    <p:sp>
                      <p:nvSpPr>
                        <p:cNvPr id="7488" name=""/>
                        <p:cNvSpPr/>
                        <p:nvPr/>
                      </p:nvSpPr>
                      <p:spPr>
                        <a:xfrm>
                          <a:off x="4920480" y="1781640"/>
                          <a:ext cx="18360" cy="24480"/>
                        </a:xfrm>
                        <a:prstGeom prst="ellipse">
                          <a:avLst/>
                        </a:prstGeom>
                        <a:solidFill>
                          <a:srgbClr val="8080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520" bIns="-295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489" name=""/>
                        <p:cNvSpPr/>
                        <p:nvPr/>
                      </p:nvSpPr>
                      <p:spPr>
                        <a:xfrm>
                          <a:off x="4922640" y="1785960"/>
                          <a:ext cx="11160" cy="13680"/>
                        </a:xfrm>
                        <a:prstGeom prst="ellipse">
                          <a:avLst/>
                        </a:prstGeom>
                        <a:solidFill>
                          <a:srgbClr val="40004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6720" bIns="-367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7490" name=""/>
              <p:cNvGrpSpPr/>
              <p:nvPr/>
            </p:nvGrpSpPr>
            <p:grpSpPr>
              <a:xfrm>
                <a:off x="4748760" y="1373040"/>
                <a:ext cx="340560" cy="318960"/>
                <a:chOff x="4748760" y="1373040"/>
                <a:chExt cx="340560" cy="318960"/>
              </a:xfrm>
            </p:grpSpPr>
            <p:grpSp>
              <p:nvGrpSpPr>
                <p:cNvPr id="7491" name=""/>
                <p:cNvGrpSpPr/>
                <p:nvPr/>
              </p:nvGrpSpPr>
              <p:grpSpPr>
                <a:xfrm>
                  <a:off x="4748760" y="1373040"/>
                  <a:ext cx="257040" cy="281880"/>
                  <a:chOff x="4748760" y="1373040"/>
                  <a:chExt cx="257040" cy="281880"/>
                </a:xfrm>
              </p:grpSpPr>
              <p:grpSp>
                <p:nvGrpSpPr>
                  <p:cNvPr id="7492" name=""/>
                  <p:cNvGrpSpPr/>
                  <p:nvPr/>
                </p:nvGrpSpPr>
                <p:grpSpPr>
                  <a:xfrm>
                    <a:off x="4748760" y="1428120"/>
                    <a:ext cx="257040" cy="81720"/>
                    <a:chOff x="4748760" y="1428120"/>
                    <a:chExt cx="257040" cy="81720"/>
                  </a:xfrm>
                </p:grpSpPr>
                <p:grpSp>
                  <p:nvGrpSpPr>
                    <p:cNvPr id="7493" name=""/>
                    <p:cNvGrpSpPr/>
                    <p:nvPr/>
                  </p:nvGrpSpPr>
                  <p:grpSpPr>
                    <a:xfrm>
                      <a:off x="4752360" y="1428120"/>
                      <a:ext cx="253440" cy="81720"/>
                      <a:chOff x="4752360" y="1428120"/>
                      <a:chExt cx="253440" cy="81720"/>
                    </a:xfrm>
                  </p:grpSpPr>
                  <p:sp>
                    <p:nvSpPr>
                      <p:cNvPr id="7494" name=""/>
                      <p:cNvSpPr/>
                      <p:nvPr/>
                    </p:nvSpPr>
                    <p:spPr>
                      <a:xfrm>
                        <a:off x="4752360" y="1428120"/>
                        <a:ext cx="252360" cy="81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20" h="265">
                            <a:moveTo>
                              <a:pt x="1020" y="106"/>
                            </a:moveTo>
                            <a:lnTo>
                              <a:pt x="970" y="100"/>
                            </a:lnTo>
                            <a:lnTo>
                              <a:pt x="913" y="94"/>
                            </a:lnTo>
                            <a:lnTo>
                              <a:pt x="851" y="82"/>
                            </a:lnTo>
                            <a:lnTo>
                              <a:pt x="781" y="69"/>
                            </a:lnTo>
                            <a:lnTo>
                              <a:pt x="712" y="55"/>
                            </a:lnTo>
                            <a:lnTo>
                              <a:pt x="650" y="42"/>
                            </a:lnTo>
                            <a:lnTo>
                              <a:pt x="596" y="33"/>
                            </a:lnTo>
                            <a:lnTo>
                              <a:pt x="538" y="24"/>
                            </a:lnTo>
                            <a:lnTo>
                              <a:pt x="470" y="15"/>
                            </a:lnTo>
                            <a:lnTo>
                              <a:pt x="419" y="5"/>
                            </a:lnTo>
                            <a:lnTo>
                              <a:pt x="367" y="0"/>
                            </a:lnTo>
                            <a:lnTo>
                              <a:pt x="320" y="2"/>
                            </a:lnTo>
                            <a:lnTo>
                              <a:pt x="275" y="8"/>
                            </a:lnTo>
                            <a:lnTo>
                              <a:pt x="214" y="19"/>
                            </a:lnTo>
                            <a:lnTo>
                              <a:pt x="165" y="31"/>
                            </a:lnTo>
                            <a:lnTo>
                              <a:pt x="134" y="41"/>
                            </a:lnTo>
                            <a:lnTo>
                              <a:pt x="99" y="58"/>
                            </a:lnTo>
                            <a:lnTo>
                              <a:pt x="62" y="75"/>
                            </a:lnTo>
                            <a:lnTo>
                              <a:pt x="29" y="94"/>
                            </a:lnTo>
                            <a:lnTo>
                              <a:pt x="0" y="113"/>
                            </a:lnTo>
                            <a:lnTo>
                              <a:pt x="68" y="265"/>
                            </a:lnTo>
                            <a:lnTo>
                              <a:pt x="107" y="250"/>
                            </a:lnTo>
                            <a:lnTo>
                              <a:pt x="141" y="237"/>
                            </a:lnTo>
                            <a:lnTo>
                              <a:pt x="174" y="226"/>
                            </a:lnTo>
                            <a:lnTo>
                              <a:pt x="208" y="217"/>
                            </a:lnTo>
                            <a:lnTo>
                              <a:pt x="248" y="204"/>
                            </a:lnTo>
                            <a:lnTo>
                              <a:pt x="283" y="198"/>
                            </a:lnTo>
                            <a:lnTo>
                              <a:pt x="335" y="193"/>
                            </a:lnTo>
                            <a:lnTo>
                              <a:pt x="404" y="192"/>
                            </a:lnTo>
                            <a:lnTo>
                              <a:pt x="464" y="195"/>
                            </a:lnTo>
                            <a:lnTo>
                              <a:pt x="529" y="195"/>
                            </a:lnTo>
                            <a:lnTo>
                              <a:pt x="578" y="198"/>
                            </a:lnTo>
                            <a:lnTo>
                              <a:pt x="629" y="206"/>
                            </a:lnTo>
                            <a:lnTo>
                              <a:pt x="1020" y="106"/>
                            </a:lnTo>
                            <a:close/>
                          </a:path>
                        </a:pathLst>
                      </a:custGeom>
                      <a:solidFill>
                        <a:srgbClr val="60006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4920" bIns="349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7495" name=""/>
                      <p:cNvGrpSpPr/>
                      <p:nvPr/>
                    </p:nvGrpSpPr>
                    <p:grpSpPr>
                      <a:xfrm>
                        <a:off x="4769280" y="1438920"/>
                        <a:ext cx="236520" cy="70200"/>
                        <a:chOff x="4769280" y="1438920"/>
                        <a:chExt cx="236520" cy="70200"/>
                      </a:xfrm>
                    </p:grpSpPr>
                    <p:grpSp>
                      <p:nvGrpSpPr>
                        <p:cNvPr id="7496" name=""/>
                        <p:cNvGrpSpPr/>
                        <p:nvPr/>
                      </p:nvGrpSpPr>
                      <p:grpSpPr>
                        <a:xfrm>
                          <a:off x="4769280" y="1460160"/>
                          <a:ext cx="236520" cy="48960"/>
                          <a:chOff x="4769280" y="1460160"/>
                          <a:chExt cx="236520" cy="48960"/>
                        </a:xfrm>
                      </p:grpSpPr>
                      <p:sp>
                        <p:nvSpPr>
                          <p:cNvPr id="7497" name=""/>
                          <p:cNvSpPr/>
                          <p:nvPr/>
                        </p:nvSpPr>
                        <p:spPr>
                          <a:xfrm>
                            <a:off x="4769280" y="1461240"/>
                            <a:ext cx="236520" cy="410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956" h="134">
                                <a:moveTo>
                                  <a:pt x="956" y="0"/>
                                </a:moveTo>
                                <a:lnTo>
                                  <a:pt x="597" y="47"/>
                                </a:lnTo>
                                <a:lnTo>
                                  <a:pt x="535" y="39"/>
                                </a:lnTo>
                                <a:lnTo>
                                  <a:pt x="480" y="35"/>
                                </a:lnTo>
                                <a:lnTo>
                                  <a:pt x="428" y="34"/>
                                </a:lnTo>
                                <a:lnTo>
                                  <a:pt x="374" y="31"/>
                                </a:lnTo>
                                <a:lnTo>
                                  <a:pt x="325" y="33"/>
                                </a:lnTo>
                                <a:lnTo>
                                  <a:pt x="281" y="35"/>
                                </a:lnTo>
                                <a:lnTo>
                                  <a:pt x="242" y="36"/>
                                </a:lnTo>
                                <a:lnTo>
                                  <a:pt x="193" y="42"/>
                                </a:lnTo>
                                <a:lnTo>
                                  <a:pt x="153" y="51"/>
                                </a:lnTo>
                                <a:lnTo>
                                  <a:pt x="114" y="63"/>
                                </a:lnTo>
                                <a:lnTo>
                                  <a:pt x="79" y="75"/>
                                </a:lnTo>
                                <a:lnTo>
                                  <a:pt x="52" y="85"/>
                                </a:lnTo>
                                <a:lnTo>
                                  <a:pt x="23" y="100"/>
                                </a:lnTo>
                                <a:lnTo>
                                  <a:pt x="0" y="118"/>
                                </a:lnTo>
                                <a:lnTo>
                                  <a:pt x="5" y="134"/>
                                </a:lnTo>
                                <a:lnTo>
                                  <a:pt x="43" y="120"/>
                                </a:lnTo>
                                <a:lnTo>
                                  <a:pt x="77" y="107"/>
                                </a:lnTo>
                                <a:lnTo>
                                  <a:pt x="110" y="96"/>
                                </a:lnTo>
                                <a:lnTo>
                                  <a:pt x="144" y="87"/>
                                </a:lnTo>
                                <a:lnTo>
                                  <a:pt x="185" y="75"/>
                                </a:lnTo>
                                <a:lnTo>
                                  <a:pt x="220" y="68"/>
                                </a:lnTo>
                                <a:lnTo>
                                  <a:pt x="271" y="63"/>
                                </a:lnTo>
                                <a:lnTo>
                                  <a:pt x="340" y="62"/>
                                </a:lnTo>
                                <a:lnTo>
                                  <a:pt x="400" y="65"/>
                                </a:lnTo>
                                <a:lnTo>
                                  <a:pt x="465" y="65"/>
                                </a:lnTo>
                                <a:lnTo>
                                  <a:pt x="514" y="68"/>
                                </a:lnTo>
                                <a:lnTo>
                                  <a:pt x="565" y="77"/>
                                </a:lnTo>
                                <a:lnTo>
                                  <a:pt x="956" y="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80008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5760" bIns="-57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7498" name=""/>
                          <p:cNvSpPr/>
                          <p:nvPr/>
                        </p:nvSpPr>
                        <p:spPr>
                          <a:xfrm>
                            <a:off x="4769280" y="1460160"/>
                            <a:ext cx="236520" cy="4896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956" h="158">
                                <a:moveTo>
                                  <a:pt x="956" y="0"/>
                                </a:moveTo>
                                <a:lnTo>
                                  <a:pt x="597" y="71"/>
                                </a:lnTo>
                                <a:lnTo>
                                  <a:pt x="535" y="62"/>
                                </a:lnTo>
                                <a:lnTo>
                                  <a:pt x="480" y="58"/>
                                </a:lnTo>
                                <a:lnTo>
                                  <a:pt x="428" y="56"/>
                                </a:lnTo>
                                <a:lnTo>
                                  <a:pt x="374" y="53"/>
                                </a:lnTo>
                                <a:lnTo>
                                  <a:pt x="325" y="55"/>
                                </a:lnTo>
                                <a:lnTo>
                                  <a:pt x="281" y="58"/>
                                </a:lnTo>
                                <a:lnTo>
                                  <a:pt x="242" y="59"/>
                                </a:lnTo>
                                <a:lnTo>
                                  <a:pt x="193" y="66"/>
                                </a:lnTo>
                                <a:lnTo>
                                  <a:pt x="153" y="75"/>
                                </a:lnTo>
                                <a:lnTo>
                                  <a:pt x="114" y="86"/>
                                </a:lnTo>
                                <a:lnTo>
                                  <a:pt x="79" y="98"/>
                                </a:lnTo>
                                <a:lnTo>
                                  <a:pt x="52" y="109"/>
                                </a:lnTo>
                                <a:lnTo>
                                  <a:pt x="23" y="123"/>
                                </a:lnTo>
                                <a:lnTo>
                                  <a:pt x="0" y="141"/>
                                </a:lnTo>
                                <a:lnTo>
                                  <a:pt x="5" y="158"/>
                                </a:lnTo>
                                <a:lnTo>
                                  <a:pt x="43" y="144"/>
                                </a:lnTo>
                                <a:lnTo>
                                  <a:pt x="77" y="130"/>
                                </a:lnTo>
                                <a:lnTo>
                                  <a:pt x="110" y="119"/>
                                </a:lnTo>
                                <a:lnTo>
                                  <a:pt x="144" y="111"/>
                                </a:lnTo>
                                <a:lnTo>
                                  <a:pt x="185" y="98"/>
                                </a:lnTo>
                                <a:lnTo>
                                  <a:pt x="220" y="91"/>
                                </a:lnTo>
                                <a:lnTo>
                                  <a:pt x="271" y="86"/>
                                </a:lnTo>
                                <a:lnTo>
                                  <a:pt x="340" y="85"/>
                                </a:lnTo>
                                <a:lnTo>
                                  <a:pt x="400" y="88"/>
                                </a:lnTo>
                                <a:lnTo>
                                  <a:pt x="465" y="88"/>
                                </a:lnTo>
                                <a:lnTo>
                                  <a:pt x="514" y="91"/>
                                </a:lnTo>
                                <a:lnTo>
                                  <a:pt x="565" y="100"/>
                                </a:lnTo>
                                <a:lnTo>
                                  <a:pt x="956" y="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40004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2160" bIns="21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7499" name=""/>
                        <p:cNvSpPr/>
                        <p:nvPr/>
                      </p:nvSpPr>
                      <p:spPr>
                        <a:xfrm>
                          <a:off x="4772880" y="1438920"/>
                          <a:ext cx="169200" cy="244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687" h="78">
                              <a:moveTo>
                                <a:pt x="0" y="78"/>
                              </a:moveTo>
                              <a:lnTo>
                                <a:pt x="32" y="62"/>
                              </a:lnTo>
                              <a:lnTo>
                                <a:pt x="65" y="47"/>
                              </a:lnTo>
                              <a:lnTo>
                                <a:pt x="111" y="34"/>
                              </a:lnTo>
                              <a:lnTo>
                                <a:pt x="161" y="20"/>
                              </a:lnTo>
                              <a:lnTo>
                                <a:pt x="212" y="10"/>
                              </a:lnTo>
                              <a:lnTo>
                                <a:pt x="256" y="4"/>
                              </a:lnTo>
                              <a:lnTo>
                                <a:pt x="318" y="0"/>
                              </a:lnTo>
                              <a:lnTo>
                                <a:pt x="357" y="0"/>
                              </a:lnTo>
                              <a:lnTo>
                                <a:pt x="414" y="3"/>
                              </a:lnTo>
                              <a:lnTo>
                                <a:pt x="469" y="10"/>
                              </a:lnTo>
                              <a:lnTo>
                                <a:pt x="509" y="17"/>
                              </a:lnTo>
                              <a:lnTo>
                                <a:pt x="556" y="26"/>
                              </a:lnTo>
                              <a:lnTo>
                                <a:pt x="601" y="38"/>
                              </a:lnTo>
                              <a:lnTo>
                                <a:pt x="642" y="50"/>
                              </a:lnTo>
                              <a:lnTo>
                                <a:pt x="687" y="68"/>
                              </a:lnTo>
                            </a:path>
                          </a:pathLst>
                        </a:custGeom>
                        <a:noFill/>
                        <a:ln w="4680">
                          <a:solidFill>
                            <a:srgbClr val="e000e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2320" bIns="-223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7500" name=""/>
                    <p:cNvGrpSpPr/>
                    <p:nvPr/>
                  </p:nvGrpSpPr>
                  <p:grpSpPr>
                    <a:xfrm>
                      <a:off x="4748760" y="1460520"/>
                      <a:ext cx="25920" cy="48960"/>
                      <a:chOff x="4748760" y="1460520"/>
                      <a:chExt cx="25920" cy="48960"/>
                    </a:xfrm>
                  </p:grpSpPr>
                  <p:sp>
                    <p:nvSpPr>
                      <p:cNvPr id="7501" name=""/>
                      <p:cNvSpPr/>
                      <p:nvPr/>
                    </p:nvSpPr>
                    <p:spPr>
                      <a:xfrm>
                        <a:off x="4748760" y="1460520"/>
                        <a:ext cx="25920" cy="489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6" h="160">
                            <a:moveTo>
                              <a:pt x="24" y="3"/>
                            </a:moveTo>
                            <a:lnTo>
                              <a:pt x="15" y="10"/>
                            </a:lnTo>
                            <a:lnTo>
                              <a:pt x="8" y="18"/>
                            </a:lnTo>
                            <a:lnTo>
                              <a:pt x="3" y="30"/>
                            </a:lnTo>
                            <a:lnTo>
                              <a:pt x="0" y="43"/>
                            </a:lnTo>
                            <a:lnTo>
                              <a:pt x="0" y="59"/>
                            </a:lnTo>
                            <a:lnTo>
                              <a:pt x="1" y="77"/>
                            </a:lnTo>
                            <a:lnTo>
                              <a:pt x="5" y="91"/>
                            </a:lnTo>
                            <a:lnTo>
                              <a:pt x="10" y="104"/>
                            </a:lnTo>
                            <a:lnTo>
                              <a:pt x="15" y="114"/>
                            </a:lnTo>
                            <a:lnTo>
                              <a:pt x="22" y="127"/>
                            </a:lnTo>
                            <a:lnTo>
                              <a:pt x="32" y="138"/>
                            </a:lnTo>
                            <a:lnTo>
                              <a:pt x="42" y="149"/>
                            </a:lnTo>
                            <a:lnTo>
                              <a:pt x="51" y="155"/>
                            </a:lnTo>
                            <a:lnTo>
                              <a:pt x="60" y="159"/>
                            </a:lnTo>
                            <a:lnTo>
                              <a:pt x="70" y="160"/>
                            </a:lnTo>
                            <a:lnTo>
                              <a:pt x="78" y="160"/>
                            </a:lnTo>
                            <a:lnTo>
                              <a:pt x="89" y="156"/>
                            </a:lnTo>
                            <a:lnTo>
                              <a:pt x="96" y="145"/>
                            </a:lnTo>
                            <a:lnTo>
                              <a:pt x="101" y="133"/>
                            </a:lnTo>
                            <a:lnTo>
                              <a:pt x="105" y="116"/>
                            </a:lnTo>
                            <a:lnTo>
                              <a:pt x="106" y="101"/>
                            </a:lnTo>
                            <a:lnTo>
                              <a:pt x="106" y="83"/>
                            </a:lnTo>
                            <a:lnTo>
                              <a:pt x="103" y="68"/>
                            </a:lnTo>
                            <a:lnTo>
                              <a:pt x="99" y="53"/>
                            </a:lnTo>
                            <a:lnTo>
                              <a:pt x="94" y="42"/>
                            </a:lnTo>
                            <a:lnTo>
                              <a:pt x="88" y="32"/>
                            </a:lnTo>
                            <a:lnTo>
                              <a:pt x="78" y="22"/>
                            </a:lnTo>
                            <a:lnTo>
                              <a:pt x="68" y="13"/>
                            </a:lnTo>
                            <a:lnTo>
                              <a:pt x="56" y="5"/>
                            </a:lnTo>
                            <a:lnTo>
                              <a:pt x="46" y="1"/>
                            </a:lnTo>
                            <a:lnTo>
                              <a:pt x="35" y="0"/>
                            </a:lnTo>
                            <a:lnTo>
                              <a:pt x="24" y="3"/>
                            </a:lnTo>
                            <a:close/>
                          </a:path>
                        </a:pathLst>
                      </a:custGeom>
                      <a:solidFill>
                        <a:srgbClr val="800080"/>
                      </a:solidFill>
                      <a:ln w="3240">
                        <a:solidFill>
                          <a:srgbClr val="40004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160" bIns="21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502" name=""/>
                      <p:cNvSpPr/>
                      <p:nvPr/>
                    </p:nvSpPr>
                    <p:spPr>
                      <a:xfrm>
                        <a:off x="4753440" y="1468080"/>
                        <a:ext cx="17280" cy="32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1" h="108">
                            <a:moveTo>
                              <a:pt x="16" y="3"/>
                            </a:moveTo>
                            <a:lnTo>
                              <a:pt x="10" y="7"/>
                            </a:lnTo>
                            <a:lnTo>
                              <a:pt x="5" y="13"/>
                            </a:lnTo>
                            <a:lnTo>
                              <a:pt x="2" y="20"/>
                            </a:lnTo>
                            <a:lnTo>
                              <a:pt x="0" y="29"/>
                            </a:lnTo>
                            <a:lnTo>
                              <a:pt x="0" y="40"/>
                            </a:lnTo>
                            <a:lnTo>
                              <a:pt x="0" y="52"/>
                            </a:lnTo>
                            <a:lnTo>
                              <a:pt x="3" y="62"/>
                            </a:lnTo>
                            <a:lnTo>
                              <a:pt x="6" y="71"/>
                            </a:lnTo>
                            <a:lnTo>
                              <a:pt x="10" y="77"/>
                            </a:lnTo>
                            <a:lnTo>
                              <a:pt x="14" y="87"/>
                            </a:lnTo>
                            <a:lnTo>
                              <a:pt x="21" y="94"/>
                            </a:lnTo>
                            <a:lnTo>
                              <a:pt x="28" y="101"/>
                            </a:lnTo>
                            <a:lnTo>
                              <a:pt x="34" y="105"/>
                            </a:lnTo>
                            <a:lnTo>
                              <a:pt x="40" y="108"/>
                            </a:lnTo>
                            <a:lnTo>
                              <a:pt x="47" y="108"/>
                            </a:lnTo>
                            <a:lnTo>
                              <a:pt x="52" y="108"/>
                            </a:lnTo>
                            <a:lnTo>
                              <a:pt x="59" y="106"/>
                            </a:lnTo>
                            <a:lnTo>
                              <a:pt x="64" y="99"/>
                            </a:lnTo>
                            <a:lnTo>
                              <a:pt x="67" y="91"/>
                            </a:lnTo>
                            <a:lnTo>
                              <a:pt x="71" y="78"/>
                            </a:lnTo>
                            <a:lnTo>
                              <a:pt x="71" y="69"/>
                            </a:lnTo>
                            <a:lnTo>
                              <a:pt x="71" y="57"/>
                            </a:lnTo>
                            <a:lnTo>
                              <a:pt x="68" y="46"/>
                            </a:lnTo>
                            <a:lnTo>
                              <a:pt x="66" y="36"/>
                            </a:lnTo>
                            <a:lnTo>
                              <a:pt x="62" y="28"/>
                            </a:lnTo>
                            <a:lnTo>
                              <a:pt x="58" y="22"/>
                            </a:lnTo>
                            <a:lnTo>
                              <a:pt x="52" y="15"/>
                            </a:lnTo>
                            <a:lnTo>
                              <a:pt x="46" y="9"/>
                            </a:lnTo>
                            <a:lnTo>
                              <a:pt x="38" y="4"/>
                            </a:lnTo>
                            <a:lnTo>
                              <a:pt x="31" y="0"/>
                            </a:lnTo>
                            <a:lnTo>
                              <a:pt x="23" y="0"/>
                            </a:lnTo>
                            <a:lnTo>
                              <a:pt x="16" y="3"/>
                            </a:lnTo>
                            <a:close/>
                          </a:path>
                        </a:pathLst>
                      </a:custGeom>
                      <a:solidFill>
                        <a:srgbClr val="600060"/>
                      </a:solidFill>
                      <a:ln w="3240">
                        <a:solidFill>
                          <a:srgbClr val="40004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4760" bIns="-147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7503" name=""/>
                  <p:cNvGrpSpPr/>
                  <p:nvPr/>
                </p:nvGrpSpPr>
                <p:grpSpPr>
                  <a:xfrm>
                    <a:off x="4822920" y="1373040"/>
                    <a:ext cx="138600" cy="281880"/>
                    <a:chOff x="4822920" y="1373040"/>
                    <a:chExt cx="138600" cy="281880"/>
                  </a:xfrm>
                </p:grpSpPr>
                <p:grpSp>
                  <p:nvGrpSpPr>
                    <p:cNvPr id="7504" name=""/>
                    <p:cNvGrpSpPr/>
                    <p:nvPr/>
                  </p:nvGrpSpPr>
                  <p:grpSpPr>
                    <a:xfrm>
                      <a:off x="4822920" y="1373040"/>
                      <a:ext cx="138600" cy="275760"/>
                      <a:chOff x="4822920" y="1373040"/>
                      <a:chExt cx="138600" cy="275760"/>
                    </a:xfrm>
                  </p:grpSpPr>
                  <p:sp>
                    <p:nvSpPr>
                      <p:cNvPr id="7505" name=""/>
                      <p:cNvSpPr/>
                      <p:nvPr/>
                    </p:nvSpPr>
                    <p:spPr>
                      <a:xfrm>
                        <a:off x="4822920" y="1373040"/>
                        <a:ext cx="138600" cy="275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62" h="898">
                            <a:moveTo>
                              <a:pt x="0" y="500"/>
                            </a:moveTo>
                            <a:lnTo>
                              <a:pt x="3" y="451"/>
                            </a:lnTo>
                            <a:lnTo>
                              <a:pt x="13" y="398"/>
                            </a:lnTo>
                            <a:lnTo>
                              <a:pt x="25" y="352"/>
                            </a:lnTo>
                            <a:lnTo>
                              <a:pt x="38" y="305"/>
                            </a:lnTo>
                            <a:lnTo>
                              <a:pt x="53" y="267"/>
                            </a:lnTo>
                            <a:lnTo>
                              <a:pt x="74" y="230"/>
                            </a:lnTo>
                            <a:lnTo>
                              <a:pt x="98" y="199"/>
                            </a:lnTo>
                            <a:lnTo>
                              <a:pt x="127" y="167"/>
                            </a:lnTo>
                            <a:lnTo>
                              <a:pt x="162" y="134"/>
                            </a:lnTo>
                            <a:lnTo>
                              <a:pt x="202" y="103"/>
                            </a:lnTo>
                            <a:lnTo>
                              <a:pt x="245" y="74"/>
                            </a:lnTo>
                            <a:lnTo>
                              <a:pt x="287" y="49"/>
                            </a:lnTo>
                            <a:lnTo>
                              <a:pt x="334" y="29"/>
                            </a:lnTo>
                            <a:lnTo>
                              <a:pt x="376" y="15"/>
                            </a:lnTo>
                            <a:lnTo>
                              <a:pt x="416" y="5"/>
                            </a:lnTo>
                            <a:lnTo>
                              <a:pt x="448" y="0"/>
                            </a:lnTo>
                            <a:lnTo>
                              <a:pt x="463" y="3"/>
                            </a:lnTo>
                            <a:lnTo>
                              <a:pt x="481" y="11"/>
                            </a:lnTo>
                            <a:lnTo>
                              <a:pt x="503" y="24"/>
                            </a:lnTo>
                            <a:lnTo>
                              <a:pt x="527" y="43"/>
                            </a:lnTo>
                            <a:lnTo>
                              <a:pt x="540" y="61"/>
                            </a:lnTo>
                            <a:lnTo>
                              <a:pt x="551" y="82"/>
                            </a:lnTo>
                            <a:lnTo>
                              <a:pt x="559" y="104"/>
                            </a:lnTo>
                            <a:lnTo>
                              <a:pt x="562" y="137"/>
                            </a:lnTo>
                            <a:lnTo>
                              <a:pt x="559" y="167"/>
                            </a:lnTo>
                            <a:lnTo>
                              <a:pt x="551" y="186"/>
                            </a:lnTo>
                            <a:lnTo>
                              <a:pt x="540" y="199"/>
                            </a:lnTo>
                            <a:lnTo>
                              <a:pt x="524" y="208"/>
                            </a:lnTo>
                            <a:lnTo>
                              <a:pt x="496" y="219"/>
                            </a:lnTo>
                            <a:lnTo>
                              <a:pt x="467" y="230"/>
                            </a:lnTo>
                            <a:lnTo>
                              <a:pt x="437" y="244"/>
                            </a:lnTo>
                            <a:lnTo>
                              <a:pt x="401" y="265"/>
                            </a:lnTo>
                            <a:lnTo>
                              <a:pt x="364" y="295"/>
                            </a:lnTo>
                            <a:lnTo>
                              <a:pt x="342" y="320"/>
                            </a:lnTo>
                            <a:lnTo>
                              <a:pt x="323" y="347"/>
                            </a:lnTo>
                            <a:lnTo>
                              <a:pt x="309" y="378"/>
                            </a:lnTo>
                            <a:lnTo>
                              <a:pt x="299" y="413"/>
                            </a:lnTo>
                            <a:lnTo>
                              <a:pt x="297" y="448"/>
                            </a:lnTo>
                            <a:lnTo>
                              <a:pt x="305" y="488"/>
                            </a:lnTo>
                            <a:lnTo>
                              <a:pt x="314" y="525"/>
                            </a:lnTo>
                            <a:lnTo>
                              <a:pt x="326" y="556"/>
                            </a:lnTo>
                            <a:lnTo>
                              <a:pt x="348" y="592"/>
                            </a:lnTo>
                            <a:lnTo>
                              <a:pt x="376" y="633"/>
                            </a:lnTo>
                            <a:lnTo>
                              <a:pt x="406" y="668"/>
                            </a:lnTo>
                            <a:lnTo>
                              <a:pt x="427" y="698"/>
                            </a:lnTo>
                            <a:lnTo>
                              <a:pt x="439" y="729"/>
                            </a:lnTo>
                            <a:lnTo>
                              <a:pt x="207" y="898"/>
                            </a:lnTo>
                            <a:lnTo>
                              <a:pt x="168" y="866"/>
                            </a:lnTo>
                            <a:lnTo>
                              <a:pt x="138" y="827"/>
                            </a:lnTo>
                            <a:lnTo>
                              <a:pt x="109" y="787"/>
                            </a:lnTo>
                            <a:lnTo>
                              <a:pt x="78" y="738"/>
                            </a:lnTo>
                            <a:lnTo>
                              <a:pt x="50" y="687"/>
                            </a:lnTo>
                            <a:lnTo>
                              <a:pt x="31" y="648"/>
                            </a:lnTo>
                            <a:lnTo>
                              <a:pt x="16" y="602"/>
                            </a:lnTo>
                            <a:lnTo>
                              <a:pt x="4" y="549"/>
                            </a:lnTo>
                            <a:lnTo>
                              <a:pt x="0" y="500"/>
                            </a:lnTo>
                            <a:close/>
                          </a:path>
                        </a:pathLst>
                      </a:custGeom>
                      <a:solidFill>
                        <a:srgbClr val="80008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7506" name=""/>
                      <p:cNvGrpSpPr/>
                      <p:nvPr/>
                    </p:nvGrpSpPr>
                    <p:grpSpPr>
                      <a:xfrm>
                        <a:off x="4822920" y="1373040"/>
                        <a:ext cx="138600" cy="275760"/>
                        <a:chOff x="4822920" y="1373040"/>
                        <a:chExt cx="138600" cy="275760"/>
                      </a:xfrm>
                    </p:grpSpPr>
                    <p:sp>
                      <p:nvSpPr>
                        <p:cNvPr id="7507" name=""/>
                        <p:cNvSpPr/>
                        <p:nvPr/>
                      </p:nvSpPr>
                      <p:spPr>
                        <a:xfrm>
                          <a:off x="4847400" y="1392840"/>
                          <a:ext cx="102600" cy="2156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17" h="703">
                              <a:moveTo>
                                <a:pt x="124" y="703"/>
                              </a:moveTo>
                              <a:lnTo>
                                <a:pt x="97" y="668"/>
                              </a:lnTo>
                              <a:lnTo>
                                <a:pt x="75" y="637"/>
                              </a:lnTo>
                              <a:lnTo>
                                <a:pt x="58" y="606"/>
                              </a:lnTo>
                              <a:lnTo>
                                <a:pt x="43" y="573"/>
                              </a:lnTo>
                              <a:lnTo>
                                <a:pt x="32" y="540"/>
                              </a:lnTo>
                              <a:lnTo>
                                <a:pt x="23" y="508"/>
                              </a:lnTo>
                              <a:lnTo>
                                <a:pt x="15" y="480"/>
                              </a:lnTo>
                              <a:lnTo>
                                <a:pt x="9" y="452"/>
                              </a:lnTo>
                              <a:lnTo>
                                <a:pt x="5" y="421"/>
                              </a:lnTo>
                              <a:lnTo>
                                <a:pt x="2" y="398"/>
                              </a:lnTo>
                              <a:lnTo>
                                <a:pt x="0" y="378"/>
                              </a:lnTo>
                              <a:lnTo>
                                <a:pt x="2" y="358"/>
                              </a:lnTo>
                              <a:lnTo>
                                <a:pt x="10" y="329"/>
                              </a:lnTo>
                              <a:lnTo>
                                <a:pt x="18" y="299"/>
                              </a:lnTo>
                              <a:lnTo>
                                <a:pt x="29" y="269"/>
                              </a:lnTo>
                              <a:lnTo>
                                <a:pt x="42" y="242"/>
                              </a:lnTo>
                              <a:lnTo>
                                <a:pt x="55" y="217"/>
                              </a:lnTo>
                              <a:lnTo>
                                <a:pt x="71" y="191"/>
                              </a:lnTo>
                              <a:lnTo>
                                <a:pt x="88" y="168"/>
                              </a:lnTo>
                              <a:lnTo>
                                <a:pt x="106" y="148"/>
                              </a:lnTo>
                              <a:lnTo>
                                <a:pt x="124" y="132"/>
                              </a:lnTo>
                              <a:lnTo>
                                <a:pt x="156" y="108"/>
                              </a:lnTo>
                              <a:lnTo>
                                <a:pt x="184" y="91"/>
                              </a:lnTo>
                              <a:lnTo>
                                <a:pt x="219" y="69"/>
                              </a:lnTo>
                              <a:lnTo>
                                <a:pt x="255" y="51"/>
                              </a:lnTo>
                              <a:lnTo>
                                <a:pt x="301" y="31"/>
                              </a:lnTo>
                              <a:lnTo>
                                <a:pt x="342" y="19"/>
                              </a:lnTo>
                              <a:lnTo>
                                <a:pt x="382" y="9"/>
                              </a:lnTo>
                              <a:lnTo>
                                <a:pt x="417" y="0"/>
                              </a:lnTo>
                            </a:path>
                          </a:pathLst>
                        </a:custGeom>
                        <a:noFill/>
                        <a:ln w="4680">
                          <a:solidFill>
                            <a:srgbClr val="ff40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508" name=""/>
                        <p:cNvSpPr/>
                        <p:nvPr/>
                      </p:nvSpPr>
                      <p:spPr>
                        <a:xfrm>
                          <a:off x="4873680" y="1415880"/>
                          <a:ext cx="87840" cy="1800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56" h="585">
                              <a:moveTo>
                                <a:pt x="6" y="348"/>
                              </a:moveTo>
                              <a:lnTo>
                                <a:pt x="2" y="319"/>
                              </a:lnTo>
                              <a:lnTo>
                                <a:pt x="0" y="288"/>
                              </a:lnTo>
                              <a:lnTo>
                                <a:pt x="2" y="254"/>
                              </a:lnTo>
                              <a:lnTo>
                                <a:pt x="6" y="229"/>
                              </a:lnTo>
                              <a:lnTo>
                                <a:pt x="13" y="204"/>
                              </a:lnTo>
                              <a:lnTo>
                                <a:pt x="24" y="174"/>
                              </a:lnTo>
                              <a:lnTo>
                                <a:pt x="43" y="146"/>
                              </a:lnTo>
                              <a:lnTo>
                                <a:pt x="60" y="123"/>
                              </a:lnTo>
                              <a:lnTo>
                                <a:pt x="78" y="108"/>
                              </a:lnTo>
                              <a:lnTo>
                                <a:pt x="98" y="89"/>
                              </a:lnTo>
                              <a:lnTo>
                                <a:pt x="119" y="73"/>
                              </a:lnTo>
                              <a:lnTo>
                                <a:pt x="145" y="58"/>
                              </a:lnTo>
                              <a:lnTo>
                                <a:pt x="172" y="42"/>
                              </a:lnTo>
                              <a:lnTo>
                                <a:pt x="196" y="31"/>
                              </a:lnTo>
                              <a:lnTo>
                                <a:pt x="221" y="21"/>
                              </a:lnTo>
                              <a:lnTo>
                                <a:pt x="244" y="14"/>
                              </a:lnTo>
                              <a:lnTo>
                                <a:pt x="268" y="7"/>
                              </a:lnTo>
                              <a:lnTo>
                                <a:pt x="297" y="2"/>
                              </a:lnTo>
                              <a:lnTo>
                                <a:pt x="324" y="1"/>
                              </a:lnTo>
                              <a:lnTo>
                                <a:pt x="342" y="0"/>
                              </a:lnTo>
                              <a:lnTo>
                                <a:pt x="356" y="1"/>
                              </a:lnTo>
                              <a:lnTo>
                                <a:pt x="355" y="17"/>
                              </a:lnTo>
                              <a:lnTo>
                                <a:pt x="353" y="30"/>
                              </a:lnTo>
                              <a:lnTo>
                                <a:pt x="339" y="32"/>
                              </a:lnTo>
                              <a:lnTo>
                                <a:pt x="319" y="37"/>
                              </a:lnTo>
                              <a:lnTo>
                                <a:pt x="296" y="44"/>
                              </a:lnTo>
                              <a:lnTo>
                                <a:pt x="270" y="55"/>
                              </a:lnTo>
                              <a:lnTo>
                                <a:pt x="244" y="66"/>
                              </a:lnTo>
                              <a:lnTo>
                                <a:pt x="216" y="78"/>
                              </a:lnTo>
                              <a:lnTo>
                                <a:pt x="187" y="91"/>
                              </a:lnTo>
                              <a:lnTo>
                                <a:pt x="150" y="113"/>
                              </a:lnTo>
                              <a:lnTo>
                                <a:pt x="113" y="143"/>
                              </a:lnTo>
                              <a:lnTo>
                                <a:pt x="91" y="166"/>
                              </a:lnTo>
                              <a:lnTo>
                                <a:pt x="73" y="194"/>
                              </a:lnTo>
                              <a:lnTo>
                                <a:pt x="59" y="225"/>
                              </a:lnTo>
                              <a:lnTo>
                                <a:pt x="49" y="260"/>
                              </a:lnTo>
                              <a:lnTo>
                                <a:pt x="47" y="295"/>
                              </a:lnTo>
                              <a:lnTo>
                                <a:pt x="55" y="335"/>
                              </a:lnTo>
                              <a:lnTo>
                                <a:pt x="64" y="371"/>
                              </a:lnTo>
                              <a:lnTo>
                                <a:pt x="76" y="402"/>
                              </a:lnTo>
                              <a:lnTo>
                                <a:pt x="97" y="438"/>
                              </a:lnTo>
                              <a:lnTo>
                                <a:pt x="125" y="478"/>
                              </a:lnTo>
                              <a:lnTo>
                                <a:pt x="155" y="514"/>
                              </a:lnTo>
                              <a:lnTo>
                                <a:pt x="177" y="545"/>
                              </a:lnTo>
                              <a:lnTo>
                                <a:pt x="198" y="579"/>
                              </a:lnTo>
                              <a:lnTo>
                                <a:pt x="165" y="585"/>
                              </a:lnTo>
                              <a:lnTo>
                                <a:pt x="148" y="570"/>
                              </a:lnTo>
                              <a:lnTo>
                                <a:pt x="130" y="553"/>
                              </a:lnTo>
                              <a:lnTo>
                                <a:pt x="108" y="535"/>
                              </a:lnTo>
                              <a:lnTo>
                                <a:pt x="89" y="513"/>
                              </a:lnTo>
                              <a:lnTo>
                                <a:pt x="67" y="483"/>
                              </a:lnTo>
                              <a:lnTo>
                                <a:pt x="49" y="454"/>
                              </a:lnTo>
                              <a:lnTo>
                                <a:pt x="31" y="424"/>
                              </a:lnTo>
                              <a:lnTo>
                                <a:pt x="19" y="395"/>
                              </a:lnTo>
                              <a:lnTo>
                                <a:pt x="13" y="376"/>
                              </a:lnTo>
                              <a:lnTo>
                                <a:pt x="6" y="348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a000a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509" name=""/>
                        <p:cNvSpPr/>
                        <p:nvPr/>
                      </p:nvSpPr>
                      <p:spPr>
                        <a:xfrm>
                          <a:off x="4884480" y="1423440"/>
                          <a:ext cx="76680" cy="1738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08" h="566">
                              <a:moveTo>
                                <a:pt x="6" y="337"/>
                              </a:moveTo>
                              <a:lnTo>
                                <a:pt x="2" y="308"/>
                              </a:lnTo>
                              <a:lnTo>
                                <a:pt x="0" y="278"/>
                              </a:lnTo>
                              <a:lnTo>
                                <a:pt x="2" y="243"/>
                              </a:lnTo>
                              <a:lnTo>
                                <a:pt x="6" y="218"/>
                              </a:lnTo>
                              <a:lnTo>
                                <a:pt x="13" y="194"/>
                              </a:lnTo>
                              <a:lnTo>
                                <a:pt x="24" y="163"/>
                              </a:lnTo>
                              <a:lnTo>
                                <a:pt x="43" y="135"/>
                              </a:lnTo>
                              <a:lnTo>
                                <a:pt x="60" y="113"/>
                              </a:lnTo>
                              <a:lnTo>
                                <a:pt x="77" y="97"/>
                              </a:lnTo>
                              <a:lnTo>
                                <a:pt x="98" y="79"/>
                              </a:lnTo>
                              <a:lnTo>
                                <a:pt x="119" y="62"/>
                              </a:lnTo>
                              <a:lnTo>
                                <a:pt x="145" y="47"/>
                              </a:lnTo>
                              <a:lnTo>
                                <a:pt x="172" y="32"/>
                              </a:lnTo>
                              <a:lnTo>
                                <a:pt x="196" y="20"/>
                              </a:lnTo>
                              <a:lnTo>
                                <a:pt x="220" y="10"/>
                              </a:lnTo>
                              <a:lnTo>
                                <a:pt x="242" y="4"/>
                              </a:lnTo>
                              <a:lnTo>
                                <a:pt x="267" y="0"/>
                              </a:lnTo>
                              <a:lnTo>
                                <a:pt x="291" y="0"/>
                              </a:lnTo>
                              <a:lnTo>
                                <a:pt x="308" y="3"/>
                              </a:lnTo>
                              <a:lnTo>
                                <a:pt x="300" y="22"/>
                              </a:lnTo>
                              <a:lnTo>
                                <a:pt x="289" y="35"/>
                              </a:lnTo>
                              <a:lnTo>
                                <a:pt x="273" y="44"/>
                              </a:lnTo>
                              <a:lnTo>
                                <a:pt x="245" y="55"/>
                              </a:lnTo>
                              <a:lnTo>
                                <a:pt x="217" y="68"/>
                              </a:lnTo>
                              <a:lnTo>
                                <a:pt x="187" y="81"/>
                              </a:lnTo>
                              <a:lnTo>
                                <a:pt x="150" y="102"/>
                              </a:lnTo>
                              <a:lnTo>
                                <a:pt x="113" y="132"/>
                              </a:lnTo>
                              <a:lnTo>
                                <a:pt x="91" y="156"/>
                              </a:lnTo>
                              <a:lnTo>
                                <a:pt x="73" y="183"/>
                              </a:lnTo>
                              <a:lnTo>
                                <a:pt x="59" y="214"/>
                              </a:lnTo>
                              <a:lnTo>
                                <a:pt x="49" y="249"/>
                              </a:lnTo>
                              <a:lnTo>
                                <a:pt x="47" y="284"/>
                              </a:lnTo>
                              <a:lnTo>
                                <a:pt x="55" y="324"/>
                              </a:lnTo>
                              <a:lnTo>
                                <a:pt x="64" y="361"/>
                              </a:lnTo>
                              <a:lnTo>
                                <a:pt x="77" y="392"/>
                              </a:lnTo>
                              <a:lnTo>
                                <a:pt x="97" y="426"/>
                              </a:lnTo>
                              <a:lnTo>
                                <a:pt x="125" y="468"/>
                              </a:lnTo>
                              <a:lnTo>
                                <a:pt x="155" y="503"/>
                              </a:lnTo>
                              <a:lnTo>
                                <a:pt x="177" y="534"/>
                              </a:lnTo>
                              <a:lnTo>
                                <a:pt x="189" y="565"/>
                              </a:lnTo>
                              <a:lnTo>
                                <a:pt x="159" y="566"/>
                              </a:lnTo>
                              <a:lnTo>
                                <a:pt x="131" y="542"/>
                              </a:lnTo>
                              <a:lnTo>
                                <a:pt x="108" y="524"/>
                              </a:lnTo>
                              <a:lnTo>
                                <a:pt x="88" y="502"/>
                              </a:lnTo>
                              <a:lnTo>
                                <a:pt x="67" y="473"/>
                              </a:lnTo>
                              <a:lnTo>
                                <a:pt x="49" y="443"/>
                              </a:lnTo>
                              <a:lnTo>
                                <a:pt x="32" y="413"/>
                              </a:lnTo>
                              <a:lnTo>
                                <a:pt x="19" y="384"/>
                              </a:lnTo>
                              <a:lnTo>
                                <a:pt x="13" y="365"/>
                              </a:lnTo>
                              <a:lnTo>
                                <a:pt x="6" y="337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0004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510" name=""/>
                        <p:cNvSpPr/>
                        <p:nvPr/>
                      </p:nvSpPr>
                      <p:spPr>
                        <a:xfrm>
                          <a:off x="4822920" y="1373040"/>
                          <a:ext cx="124920" cy="2757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503" h="898">
                              <a:moveTo>
                                <a:pt x="0" y="500"/>
                              </a:moveTo>
                              <a:lnTo>
                                <a:pt x="3" y="451"/>
                              </a:lnTo>
                              <a:lnTo>
                                <a:pt x="13" y="398"/>
                              </a:lnTo>
                              <a:lnTo>
                                <a:pt x="25" y="352"/>
                              </a:lnTo>
                              <a:lnTo>
                                <a:pt x="38" y="305"/>
                              </a:lnTo>
                              <a:lnTo>
                                <a:pt x="53" y="267"/>
                              </a:lnTo>
                              <a:lnTo>
                                <a:pt x="74" y="230"/>
                              </a:lnTo>
                              <a:lnTo>
                                <a:pt x="98" y="199"/>
                              </a:lnTo>
                              <a:lnTo>
                                <a:pt x="126" y="167"/>
                              </a:lnTo>
                              <a:lnTo>
                                <a:pt x="162" y="134"/>
                              </a:lnTo>
                              <a:lnTo>
                                <a:pt x="202" y="103"/>
                              </a:lnTo>
                              <a:lnTo>
                                <a:pt x="245" y="74"/>
                              </a:lnTo>
                              <a:lnTo>
                                <a:pt x="287" y="49"/>
                              </a:lnTo>
                              <a:lnTo>
                                <a:pt x="334" y="29"/>
                              </a:lnTo>
                              <a:lnTo>
                                <a:pt x="376" y="15"/>
                              </a:lnTo>
                              <a:lnTo>
                                <a:pt x="415" y="5"/>
                              </a:lnTo>
                              <a:lnTo>
                                <a:pt x="448" y="0"/>
                              </a:lnTo>
                              <a:lnTo>
                                <a:pt x="463" y="3"/>
                              </a:lnTo>
                              <a:lnTo>
                                <a:pt x="481" y="11"/>
                              </a:lnTo>
                              <a:lnTo>
                                <a:pt x="503" y="24"/>
                              </a:lnTo>
                              <a:lnTo>
                                <a:pt x="480" y="28"/>
                              </a:lnTo>
                              <a:lnTo>
                                <a:pt x="452" y="34"/>
                              </a:lnTo>
                              <a:lnTo>
                                <a:pt x="425" y="40"/>
                              </a:lnTo>
                              <a:lnTo>
                                <a:pt x="394" y="48"/>
                              </a:lnTo>
                              <a:lnTo>
                                <a:pt x="370" y="57"/>
                              </a:lnTo>
                              <a:lnTo>
                                <a:pt x="345" y="68"/>
                              </a:lnTo>
                              <a:lnTo>
                                <a:pt x="319" y="82"/>
                              </a:lnTo>
                              <a:lnTo>
                                <a:pt x="295" y="95"/>
                              </a:lnTo>
                              <a:lnTo>
                                <a:pt x="272" y="108"/>
                              </a:lnTo>
                              <a:lnTo>
                                <a:pt x="248" y="124"/>
                              </a:lnTo>
                              <a:lnTo>
                                <a:pt x="222" y="141"/>
                              </a:lnTo>
                              <a:lnTo>
                                <a:pt x="199" y="158"/>
                              </a:lnTo>
                              <a:lnTo>
                                <a:pt x="177" y="174"/>
                              </a:lnTo>
                              <a:lnTo>
                                <a:pt x="159" y="190"/>
                              </a:lnTo>
                              <a:lnTo>
                                <a:pt x="141" y="210"/>
                              </a:lnTo>
                              <a:lnTo>
                                <a:pt x="127" y="230"/>
                              </a:lnTo>
                              <a:lnTo>
                                <a:pt x="115" y="254"/>
                              </a:lnTo>
                              <a:lnTo>
                                <a:pt x="98" y="282"/>
                              </a:lnTo>
                              <a:lnTo>
                                <a:pt x="84" y="308"/>
                              </a:lnTo>
                              <a:lnTo>
                                <a:pt x="75" y="332"/>
                              </a:lnTo>
                              <a:lnTo>
                                <a:pt x="67" y="354"/>
                              </a:lnTo>
                              <a:lnTo>
                                <a:pt x="61" y="377"/>
                              </a:lnTo>
                              <a:lnTo>
                                <a:pt x="56" y="402"/>
                              </a:lnTo>
                              <a:lnTo>
                                <a:pt x="51" y="426"/>
                              </a:lnTo>
                              <a:lnTo>
                                <a:pt x="48" y="457"/>
                              </a:lnTo>
                              <a:lnTo>
                                <a:pt x="47" y="491"/>
                              </a:lnTo>
                              <a:lnTo>
                                <a:pt x="48" y="519"/>
                              </a:lnTo>
                              <a:lnTo>
                                <a:pt x="51" y="546"/>
                              </a:lnTo>
                              <a:lnTo>
                                <a:pt x="59" y="575"/>
                              </a:lnTo>
                              <a:lnTo>
                                <a:pt x="66" y="602"/>
                              </a:lnTo>
                              <a:lnTo>
                                <a:pt x="76" y="628"/>
                              </a:lnTo>
                              <a:lnTo>
                                <a:pt x="89" y="652"/>
                              </a:lnTo>
                              <a:lnTo>
                                <a:pt x="103" y="676"/>
                              </a:lnTo>
                              <a:lnTo>
                                <a:pt x="118" y="703"/>
                              </a:lnTo>
                              <a:lnTo>
                                <a:pt x="133" y="731"/>
                              </a:lnTo>
                              <a:lnTo>
                                <a:pt x="149" y="759"/>
                              </a:lnTo>
                              <a:lnTo>
                                <a:pt x="166" y="785"/>
                              </a:lnTo>
                              <a:lnTo>
                                <a:pt x="182" y="810"/>
                              </a:lnTo>
                              <a:lnTo>
                                <a:pt x="203" y="839"/>
                              </a:lnTo>
                              <a:lnTo>
                                <a:pt x="224" y="865"/>
                              </a:lnTo>
                              <a:lnTo>
                                <a:pt x="214" y="883"/>
                              </a:lnTo>
                              <a:lnTo>
                                <a:pt x="207" y="898"/>
                              </a:lnTo>
                              <a:lnTo>
                                <a:pt x="188" y="884"/>
                              </a:lnTo>
                              <a:lnTo>
                                <a:pt x="161" y="858"/>
                              </a:lnTo>
                              <a:lnTo>
                                <a:pt x="136" y="827"/>
                              </a:lnTo>
                              <a:lnTo>
                                <a:pt x="109" y="787"/>
                              </a:lnTo>
                              <a:lnTo>
                                <a:pt x="78" y="738"/>
                              </a:lnTo>
                              <a:lnTo>
                                <a:pt x="50" y="687"/>
                              </a:lnTo>
                              <a:lnTo>
                                <a:pt x="31" y="648"/>
                              </a:lnTo>
                              <a:lnTo>
                                <a:pt x="16" y="602"/>
                              </a:lnTo>
                              <a:lnTo>
                                <a:pt x="4" y="549"/>
                              </a:lnTo>
                              <a:lnTo>
                                <a:pt x="0" y="50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e000e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7511" name=""/>
                    <p:cNvGrpSpPr/>
                    <p:nvPr/>
                  </p:nvGrpSpPr>
                  <p:grpSpPr>
                    <a:xfrm>
                      <a:off x="4872240" y="1590120"/>
                      <a:ext cx="60480" cy="64800"/>
                      <a:chOff x="4872240" y="1590120"/>
                      <a:chExt cx="60480" cy="64800"/>
                    </a:xfrm>
                  </p:grpSpPr>
                  <p:sp>
                    <p:nvSpPr>
                      <p:cNvPr id="7512" name=""/>
                      <p:cNvSpPr/>
                      <p:nvPr/>
                    </p:nvSpPr>
                    <p:spPr>
                      <a:xfrm>
                        <a:off x="4872240" y="1590120"/>
                        <a:ext cx="60480" cy="64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44" h="210">
                            <a:moveTo>
                              <a:pt x="238" y="16"/>
                            </a:moveTo>
                            <a:lnTo>
                              <a:pt x="223" y="7"/>
                            </a:lnTo>
                            <a:lnTo>
                              <a:pt x="202" y="1"/>
                            </a:lnTo>
                            <a:lnTo>
                              <a:pt x="183" y="0"/>
                            </a:lnTo>
                            <a:lnTo>
                              <a:pt x="165" y="1"/>
                            </a:lnTo>
                            <a:lnTo>
                              <a:pt x="144" y="7"/>
                            </a:lnTo>
                            <a:lnTo>
                              <a:pt x="122" y="14"/>
                            </a:lnTo>
                            <a:lnTo>
                              <a:pt x="101" y="25"/>
                            </a:lnTo>
                            <a:lnTo>
                              <a:pt x="79" y="37"/>
                            </a:lnTo>
                            <a:lnTo>
                              <a:pt x="57" y="54"/>
                            </a:lnTo>
                            <a:lnTo>
                              <a:pt x="33" y="78"/>
                            </a:lnTo>
                            <a:lnTo>
                              <a:pt x="20" y="101"/>
                            </a:lnTo>
                            <a:lnTo>
                              <a:pt x="11" y="120"/>
                            </a:lnTo>
                            <a:lnTo>
                              <a:pt x="5" y="141"/>
                            </a:lnTo>
                            <a:lnTo>
                              <a:pt x="0" y="162"/>
                            </a:lnTo>
                            <a:lnTo>
                              <a:pt x="3" y="182"/>
                            </a:lnTo>
                            <a:lnTo>
                              <a:pt x="11" y="197"/>
                            </a:lnTo>
                            <a:lnTo>
                              <a:pt x="27" y="203"/>
                            </a:lnTo>
                            <a:lnTo>
                              <a:pt x="45" y="209"/>
                            </a:lnTo>
                            <a:lnTo>
                              <a:pt x="66" y="210"/>
                            </a:lnTo>
                            <a:lnTo>
                              <a:pt x="94" y="206"/>
                            </a:lnTo>
                            <a:lnTo>
                              <a:pt x="122" y="194"/>
                            </a:lnTo>
                            <a:lnTo>
                              <a:pt x="150" y="179"/>
                            </a:lnTo>
                            <a:lnTo>
                              <a:pt x="178" y="156"/>
                            </a:lnTo>
                            <a:lnTo>
                              <a:pt x="201" y="133"/>
                            </a:lnTo>
                            <a:lnTo>
                              <a:pt x="221" y="108"/>
                            </a:lnTo>
                            <a:lnTo>
                              <a:pt x="236" y="83"/>
                            </a:lnTo>
                            <a:lnTo>
                              <a:pt x="242" y="59"/>
                            </a:lnTo>
                            <a:lnTo>
                              <a:pt x="244" y="34"/>
                            </a:lnTo>
                            <a:lnTo>
                              <a:pt x="238" y="16"/>
                            </a:lnTo>
                            <a:close/>
                          </a:path>
                        </a:pathLst>
                      </a:custGeom>
                      <a:solidFill>
                        <a:srgbClr val="a000a0"/>
                      </a:solidFill>
                      <a:ln w="3240">
                        <a:solidFill>
                          <a:srgbClr val="20002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8000" bIns="18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513" name=""/>
                      <p:cNvSpPr/>
                      <p:nvPr/>
                    </p:nvSpPr>
                    <p:spPr>
                      <a:xfrm>
                        <a:off x="4879800" y="1599480"/>
                        <a:ext cx="45360" cy="47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82" h="155">
                            <a:moveTo>
                              <a:pt x="178" y="11"/>
                            </a:moveTo>
                            <a:lnTo>
                              <a:pt x="167" y="4"/>
                            </a:lnTo>
                            <a:lnTo>
                              <a:pt x="152" y="0"/>
                            </a:lnTo>
                            <a:lnTo>
                              <a:pt x="137" y="0"/>
                            </a:lnTo>
                            <a:lnTo>
                              <a:pt x="124" y="0"/>
                            </a:lnTo>
                            <a:lnTo>
                              <a:pt x="108" y="4"/>
                            </a:lnTo>
                            <a:lnTo>
                              <a:pt x="91" y="9"/>
                            </a:lnTo>
                            <a:lnTo>
                              <a:pt x="76" y="18"/>
                            </a:lnTo>
                            <a:lnTo>
                              <a:pt x="60" y="27"/>
                            </a:lnTo>
                            <a:lnTo>
                              <a:pt x="42" y="39"/>
                            </a:lnTo>
                            <a:lnTo>
                              <a:pt x="25" y="57"/>
                            </a:lnTo>
                            <a:lnTo>
                              <a:pt x="15" y="74"/>
                            </a:lnTo>
                            <a:lnTo>
                              <a:pt x="9" y="89"/>
                            </a:lnTo>
                            <a:lnTo>
                              <a:pt x="3" y="104"/>
                            </a:lnTo>
                            <a:lnTo>
                              <a:pt x="0" y="120"/>
                            </a:lnTo>
                            <a:lnTo>
                              <a:pt x="2" y="134"/>
                            </a:lnTo>
                            <a:lnTo>
                              <a:pt x="9" y="147"/>
                            </a:lnTo>
                            <a:lnTo>
                              <a:pt x="21" y="151"/>
                            </a:lnTo>
                            <a:lnTo>
                              <a:pt x="33" y="155"/>
                            </a:lnTo>
                            <a:lnTo>
                              <a:pt x="49" y="155"/>
                            </a:lnTo>
                            <a:lnTo>
                              <a:pt x="70" y="153"/>
                            </a:lnTo>
                            <a:lnTo>
                              <a:pt x="91" y="144"/>
                            </a:lnTo>
                            <a:lnTo>
                              <a:pt x="113" y="132"/>
                            </a:lnTo>
                            <a:lnTo>
                              <a:pt x="133" y="116"/>
                            </a:lnTo>
                            <a:lnTo>
                              <a:pt x="151" y="99"/>
                            </a:lnTo>
                            <a:lnTo>
                              <a:pt x="165" y="80"/>
                            </a:lnTo>
                            <a:lnTo>
                              <a:pt x="177" y="62"/>
                            </a:lnTo>
                            <a:lnTo>
                              <a:pt x="181" y="43"/>
                            </a:lnTo>
                            <a:lnTo>
                              <a:pt x="182" y="25"/>
                            </a:lnTo>
                            <a:lnTo>
                              <a:pt x="178" y="11"/>
                            </a:lnTo>
                            <a:close/>
                          </a:path>
                        </a:pathLst>
                      </a:custGeom>
                      <a:solidFill>
                        <a:srgbClr val="600060"/>
                      </a:solidFill>
                      <a:ln w="3240">
                        <a:solidFill>
                          <a:srgbClr val="20002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720" bIns="7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7514" name=""/>
                <p:cNvGrpSpPr/>
                <p:nvPr/>
              </p:nvGrpSpPr>
              <p:grpSpPr>
                <a:xfrm>
                  <a:off x="4822920" y="1459440"/>
                  <a:ext cx="266400" cy="232560"/>
                  <a:chOff x="4822920" y="1459440"/>
                  <a:chExt cx="266400" cy="232560"/>
                </a:xfrm>
              </p:grpSpPr>
              <p:grpSp>
                <p:nvGrpSpPr>
                  <p:cNvPr id="7515" name=""/>
                  <p:cNvGrpSpPr/>
                  <p:nvPr/>
                </p:nvGrpSpPr>
                <p:grpSpPr>
                  <a:xfrm>
                    <a:off x="4822920" y="1459440"/>
                    <a:ext cx="266400" cy="215640"/>
                    <a:chOff x="4822920" y="1459440"/>
                    <a:chExt cx="266400" cy="215640"/>
                  </a:xfrm>
                </p:grpSpPr>
                <p:sp>
                  <p:nvSpPr>
                    <p:cNvPr id="7516" name=""/>
                    <p:cNvSpPr/>
                    <p:nvPr/>
                  </p:nvSpPr>
                  <p:spPr>
                    <a:xfrm>
                      <a:off x="4822920" y="1459440"/>
                      <a:ext cx="266400" cy="215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73" h="702">
                          <a:moveTo>
                            <a:pt x="680" y="5"/>
                          </a:moveTo>
                          <a:lnTo>
                            <a:pt x="713" y="1"/>
                          </a:lnTo>
                          <a:lnTo>
                            <a:pt x="751" y="0"/>
                          </a:lnTo>
                          <a:lnTo>
                            <a:pt x="789" y="1"/>
                          </a:lnTo>
                          <a:lnTo>
                            <a:pt x="835" y="4"/>
                          </a:lnTo>
                          <a:lnTo>
                            <a:pt x="876" y="6"/>
                          </a:lnTo>
                          <a:lnTo>
                            <a:pt x="911" y="8"/>
                          </a:lnTo>
                          <a:lnTo>
                            <a:pt x="947" y="11"/>
                          </a:lnTo>
                          <a:lnTo>
                            <a:pt x="975" y="14"/>
                          </a:lnTo>
                          <a:lnTo>
                            <a:pt x="999" y="20"/>
                          </a:lnTo>
                          <a:lnTo>
                            <a:pt x="1019" y="27"/>
                          </a:lnTo>
                          <a:lnTo>
                            <a:pt x="1035" y="37"/>
                          </a:lnTo>
                          <a:lnTo>
                            <a:pt x="1046" y="46"/>
                          </a:lnTo>
                          <a:lnTo>
                            <a:pt x="1058" y="58"/>
                          </a:lnTo>
                          <a:lnTo>
                            <a:pt x="1065" y="69"/>
                          </a:lnTo>
                          <a:lnTo>
                            <a:pt x="1070" y="87"/>
                          </a:lnTo>
                          <a:lnTo>
                            <a:pt x="1073" y="102"/>
                          </a:lnTo>
                          <a:lnTo>
                            <a:pt x="1072" y="122"/>
                          </a:lnTo>
                          <a:lnTo>
                            <a:pt x="1067" y="142"/>
                          </a:lnTo>
                          <a:lnTo>
                            <a:pt x="1062" y="155"/>
                          </a:lnTo>
                          <a:lnTo>
                            <a:pt x="1054" y="167"/>
                          </a:lnTo>
                          <a:lnTo>
                            <a:pt x="1043" y="175"/>
                          </a:lnTo>
                          <a:lnTo>
                            <a:pt x="1034" y="181"/>
                          </a:lnTo>
                          <a:lnTo>
                            <a:pt x="1024" y="186"/>
                          </a:lnTo>
                          <a:lnTo>
                            <a:pt x="1008" y="188"/>
                          </a:lnTo>
                          <a:lnTo>
                            <a:pt x="985" y="187"/>
                          </a:lnTo>
                          <a:lnTo>
                            <a:pt x="961" y="186"/>
                          </a:lnTo>
                          <a:lnTo>
                            <a:pt x="935" y="188"/>
                          </a:lnTo>
                          <a:lnTo>
                            <a:pt x="913" y="189"/>
                          </a:lnTo>
                          <a:lnTo>
                            <a:pt x="886" y="190"/>
                          </a:lnTo>
                          <a:lnTo>
                            <a:pt x="860" y="190"/>
                          </a:lnTo>
                          <a:lnTo>
                            <a:pt x="832" y="188"/>
                          </a:lnTo>
                          <a:lnTo>
                            <a:pt x="801" y="188"/>
                          </a:lnTo>
                          <a:lnTo>
                            <a:pt x="771" y="186"/>
                          </a:lnTo>
                          <a:lnTo>
                            <a:pt x="745" y="188"/>
                          </a:lnTo>
                          <a:lnTo>
                            <a:pt x="714" y="190"/>
                          </a:lnTo>
                          <a:lnTo>
                            <a:pt x="682" y="192"/>
                          </a:lnTo>
                          <a:lnTo>
                            <a:pt x="655" y="198"/>
                          </a:lnTo>
                          <a:lnTo>
                            <a:pt x="627" y="207"/>
                          </a:lnTo>
                          <a:lnTo>
                            <a:pt x="600" y="216"/>
                          </a:lnTo>
                          <a:lnTo>
                            <a:pt x="570" y="227"/>
                          </a:lnTo>
                          <a:lnTo>
                            <a:pt x="541" y="238"/>
                          </a:lnTo>
                          <a:lnTo>
                            <a:pt x="517" y="248"/>
                          </a:lnTo>
                          <a:lnTo>
                            <a:pt x="489" y="259"/>
                          </a:lnTo>
                          <a:lnTo>
                            <a:pt x="467" y="272"/>
                          </a:lnTo>
                          <a:lnTo>
                            <a:pt x="447" y="283"/>
                          </a:lnTo>
                          <a:lnTo>
                            <a:pt x="426" y="295"/>
                          </a:lnTo>
                          <a:lnTo>
                            <a:pt x="404" y="308"/>
                          </a:lnTo>
                          <a:lnTo>
                            <a:pt x="387" y="324"/>
                          </a:lnTo>
                          <a:lnTo>
                            <a:pt x="366" y="346"/>
                          </a:lnTo>
                          <a:lnTo>
                            <a:pt x="350" y="365"/>
                          </a:lnTo>
                          <a:lnTo>
                            <a:pt x="335" y="381"/>
                          </a:lnTo>
                          <a:lnTo>
                            <a:pt x="319" y="403"/>
                          </a:lnTo>
                          <a:lnTo>
                            <a:pt x="307" y="424"/>
                          </a:lnTo>
                          <a:lnTo>
                            <a:pt x="295" y="448"/>
                          </a:lnTo>
                          <a:lnTo>
                            <a:pt x="283" y="470"/>
                          </a:lnTo>
                          <a:lnTo>
                            <a:pt x="273" y="494"/>
                          </a:lnTo>
                          <a:lnTo>
                            <a:pt x="268" y="517"/>
                          </a:lnTo>
                          <a:lnTo>
                            <a:pt x="262" y="539"/>
                          </a:lnTo>
                          <a:lnTo>
                            <a:pt x="258" y="564"/>
                          </a:lnTo>
                          <a:lnTo>
                            <a:pt x="255" y="587"/>
                          </a:lnTo>
                          <a:lnTo>
                            <a:pt x="252" y="617"/>
                          </a:lnTo>
                          <a:lnTo>
                            <a:pt x="251" y="645"/>
                          </a:lnTo>
                          <a:lnTo>
                            <a:pt x="250" y="672"/>
                          </a:lnTo>
                          <a:lnTo>
                            <a:pt x="248" y="702"/>
                          </a:lnTo>
                          <a:lnTo>
                            <a:pt x="5" y="700"/>
                          </a:lnTo>
                          <a:lnTo>
                            <a:pt x="1" y="675"/>
                          </a:lnTo>
                          <a:lnTo>
                            <a:pt x="0" y="651"/>
                          </a:lnTo>
                          <a:lnTo>
                            <a:pt x="2" y="623"/>
                          </a:lnTo>
                          <a:lnTo>
                            <a:pt x="5" y="589"/>
                          </a:lnTo>
                          <a:lnTo>
                            <a:pt x="8" y="558"/>
                          </a:lnTo>
                          <a:lnTo>
                            <a:pt x="11" y="533"/>
                          </a:lnTo>
                          <a:lnTo>
                            <a:pt x="17" y="509"/>
                          </a:lnTo>
                          <a:lnTo>
                            <a:pt x="23" y="485"/>
                          </a:lnTo>
                          <a:lnTo>
                            <a:pt x="33" y="457"/>
                          </a:lnTo>
                          <a:lnTo>
                            <a:pt x="42" y="430"/>
                          </a:lnTo>
                          <a:lnTo>
                            <a:pt x="51" y="407"/>
                          </a:lnTo>
                          <a:lnTo>
                            <a:pt x="62" y="384"/>
                          </a:lnTo>
                          <a:lnTo>
                            <a:pt x="73" y="360"/>
                          </a:lnTo>
                          <a:lnTo>
                            <a:pt x="86" y="339"/>
                          </a:lnTo>
                          <a:lnTo>
                            <a:pt x="100" y="315"/>
                          </a:lnTo>
                          <a:lnTo>
                            <a:pt x="117" y="290"/>
                          </a:lnTo>
                          <a:lnTo>
                            <a:pt x="134" y="265"/>
                          </a:lnTo>
                          <a:lnTo>
                            <a:pt x="151" y="244"/>
                          </a:lnTo>
                          <a:lnTo>
                            <a:pt x="170" y="219"/>
                          </a:lnTo>
                          <a:lnTo>
                            <a:pt x="190" y="200"/>
                          </a:lnTo>
                          <a:lnTo>
                            <a:pt x="215" y="179"/>
                          </a:lnTo>
                          <a:lnTo>
                            <a:pt x="240" y="159"/>
                          </a:lnTo>
                          <a:lnTo>
                            <a:pt x="266" y="137"/>
                          </a:lnTo>
                          <a:lnTo>
                            <a:pt x="291" y="120"/>
                          </a:lnTo>
                          <a:lnTo>
                            <a:pt x="315" y="103"/>
                          </a:lnTo>
                          <a:lnTo>
                            <a:pt x="338" y="90"/>
                          </a:lnTo>
                          <a:lnTo>
                            <a:pt x="362" y="77"/>
                          </a:lnTo>
                          <a:lnTo>
                            <a:pt x="384" y="64"/>
                          </a:lnTo>
                          <a:lnTo>
                            <a:pt x="410" y="52"/>
                          </a:lnTo>
                          <a:lnTo>
                            <a:pt x="438" y="43"/>
                          </a:lnTo>
                          <a:lnTo>
                            <a:pt x="469" y="36"/>
                          </a:lnTo>
                          <a:lnTo>
                            <a:pt x="501" y="29"/>
                          </a:lnTo>
                          <a:lnTo>
                            <a:pt x="533" y="24"/>
                          </a:lnTo>
                          <a:lnTo>
                            <a:pt x="572" y="19"/>
                          </a:lnTo>
                          <a:lnTo>
                            <a:pt x="611" y="14"/>
                          </a:lnTo>
                          <a:lnTo>
                            <a:pt x="645" y="9"/>
                          </a:lnTo>
                          <a:lnTo>
                            <a:pt x="680" y="5"/>
                          </a:lnTo>
                          <a:close/>
                        </a:path>
                      </a:pathLst>
                    </a:custGeom>
                    <a:solidFill>
                      <a:srgbClr val="800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7517" name=""/>
                    <p:cNvGrpSpPr/>
                    <p:nvPr/>
                  </p:nvGrpSpPr>
                  <p:grpSpPr>
                    <a:xfrm>
                      <a:off x="4843800" y="1472760"/>
                      <a:ext cx="244800" cy="201240"/>
                      <a:chOff x="4843800" y="1472760"/>
                      <a:chExt cx="244800" cy="201240"/>
                    </a:xfrm>
                  </p:grpSpPr>
                  <p:grpSp>
                    <p:nvGrpSpPr>
                      <p:cNvPr id="7518" name=""/>
                      <p:cNvGrpSpPr/>
                      <p:nvPr/>
                    </p:nvGrpSpPr>
                    <p:grpSpPr>
                      <a:xfrm>
                        <a:off x="4869720" y="1491120"/>
                        <a:ext cx="218880" cy="182880"/>
                        <a:chOff x="4869720" y="1491120"/>
                        <a:chExt cx="218880" cy="182880"/>
                      </a:xfrm>
                    </p:grpSpPr>
                    <p:sp>
                      <p:nvSpPr>
                        <p:cNvPr id="7519" name=""/>
                        <p:cNvSpPr/>
                        <p:nvPr/>
                      </p:nvSpPr>
                      <p:spPr>
                        <a:xfrm>
                          <a:off x="4869720" y="1491120"/>
                          <a:ext cx="218880" cy="1710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83" h="559">
                              <a:moveTo>
                                <a:pt x="450" y="11"/>
                              </a:moveTo>
                              <a:lnTo>
                                <a:pt x="463" y="8"/>
                              </a:lnTo>
                              <a:lnTo>
                                <a:pt x="490" y="5"/>
                              </a:lnTo>
                              <a:lnTo>
                                <a:pt x="522" y="3"/>
                              </a:lnTo>
                              <a:lnTo>
                                <a:pt x="552" y="1"/>
                              </a:lnTo>
                              <a:lnTo>
                                <a:pt x="580" y="2"/>
                              </a:lnTo>
                              <a:lnTo>
                                <a:pt x="610" y="3"/>
                              </a:lnTo>
                              <a:lnTo>
                                <a:pt x="641" y="4"/>
                              </a:lnTo>
                              <a:lnTo>
                                <a:pt x="669" y="6"/>
                              </a:lnTo>
                              <a:lnTo>
                                <a:pt x="699" y="4"/>
                              </a:lnTo>
                              <a:lnTo>
                                <a:pt x="727" y="3"/>
                              </a:lnTo>
                              <a:lnTo>
                                <a:pt x="760" y="1"/>
                              </a:lnTo>
                              <a:lnTo>
                                <a:pt x="791" y="0"/>
                              </a:lnTo>
                              <a:lnTo>
                                <a:pt x="816" y="1"/>
                              </a:lnTo>
                              <a:lnTo>
                                <a:pt x="840" y="2"/>
                              </a:lnTo>
                              <a:lnTo>
                                <a:pt x="866" y="3"/>
                              </a:lnTo>
                              <a:lnTo>
                                <a:pt x="883" y="6"/>
                              </a:lnTo>
                              <a:lnTo>
                                <a:pt x="881" y="20"/>
                              </a:lnTo>
                              <a:lnTo>
                                <a:pt x="878" y="32"/>
                              </a:lnTo>
                              <a:lnTo>
                                <a:pt x="875" y="43"/>
                              </a:lnTo>
                              <a:lnTo>
                                <a:pt x="811" y="44"/>
                              </a:lnTo>
                              <a:lnTo>
                                <a:pt x="795" y="46"/>
                              </a:lnTo>
                              <a:lnTo>
                                <a:pt x="773" y="45"/>
                              </a:lnTo>
                              <a:lnTo>
                                <a:pt x="748" y="44"/>
                              </a:lnTo>
                              <a:lnTo>
                                <a:pt x="723" y="46"/>
                              </a:lnTo>
                              <a:lnTo>
                                <a:pt x="700" y="48"/>
                              </a:lnTo>
                              <a:lnTo>
                                <a:pt x="673" y="49"/>
                              </a:lnTo>
                              <a:lnTo>
                                <a:pt x="649" y="49"/>
                              </a:lnTo>
                              <a:lnTo>
                                <a:pt x="620" y="46"/>
                              </a:lnTo>
                              <a:lnTo>
                                <a:pt x="589" y="46"/>
                              </a:lnTo>
                              <a:lnTo>
                                <a:pt x="560" y="44"/>
                              </a:lnTo>
                              <a:lnTo>
                                <a:pt x="532" y="46"/>
                              </a:lnTo>
                              <a:lnTo>
                                <a:pt x="502" y="49"/>
                              </a:lnTo>
                              <a:lnTo>
                                <a:pt x="470" y="51"/>
                              </a:lnTo>
                              <a:lnTo>
                                <a:pt x="442" y="57"/>
                              </a:lnTo>
                              <a:lnTo>
                                <a:pt x="415" y="66"/>
                              </a:lnTo>
                              <a:lnTo>
                                <a:pt x="387" y="75"/>
                              </a:lnTo>
                              <a:lnTo>
                                <a:pt x="357" y="86"/>
                              </a:lnTo>
                              <a:lnTo>
                                <a:pt x="329" y="96"/>
                              </a:lnTo>
                              <a:lnTo>
                                <a:pt x="304" y="106"/>
                              </a:lnTo>
                              <a:lnTo>
                                <a:pt x="277" y="117"/>
                              </a:lnTo>
                              <a:lnTo>
                                <a:pt x="255" y="130"/>
                              </a:lnTo>
                              <a:lnTo>
                                <a:pt x="235" y="140"/>
                              </a:lnTo>
                              <a:lnTo>
                                <a:pt x="214" y="152"/>
                              </a:lnTo>
                              <a:lnTo>
                                <a:pt x="193" y="165"/>
                              </a:lnTo>
                              <a:lnTo>
                                <a:pt x="175" y="181"/>
                              </a:lnTo>
                              <a:lnTo>
                                <a:pt x="155" y="203"/>
                              </a:lnTo>
                              <a:lnTo>
                                <a:pt x="139" y="222"/>
                              </a:lnTo>
                              <a:lnTo>
                                <a:pt x="123" y="238"/>
                              </a:lnTo>
                              <a:lnTo>
                                <a:pt x="108" y="260"/>
                              </a:lnTo>
                              <a:lnTo>
                                <a:pt x="96" y="281"/>
                              </a:lnTo>
                              <a:lnTo>
                                <a:pt x="83" y="305"/>
                              </a:lnTo>
                              <a:lnTo>
                                <a:pt x="71" y="328"/>
                              </a:lnTo>
                              <a:lnTo>
                                <a:pt x="62" y="351"/>
                              </a:lnTo>
                              <a:lnTo>
                                <a:pt x="56" y="375"/>
                              </a:lnTo>
                              <a:lnTo>
                                <a:pt x="50" y="398"/>
                              </a:lnTo>
                              <a:lnTo>
                                <a:pt x="45" y="421"/>
                              </a:lnTo>
                              <a:lnTo>
                                <a:pt x="42" y="444"/>
                              </a:lnTo>
                              <a:lnTo>
                                <a:pt x="39" y="474"/>
                              </a:lnTo>
                              <a:lnTo>
                                <a:pt x="38" y="502"/>
                              </a:lnTo>
                              <a:lnTo>
                                <a:pt x="37" y="529"/>
                              </a:lnTo>
                              <a:lnTo>
                                <a:pt x="35" y="559"/>
                              </a:lnTo>
                              <a:lnTo>
                                <a:pt x="8" y="553"/>
                              </a:lnTo>
                              <a:lnTo>
                                <a:pt x="5" y="525"/>
                              </a:lnTo>
                              <a:lnTo>
                                <a:pt x="3" y="501"/>
                              </a:lnTo>
                              <a:lnTo>
                                <a:pt x="0" y="475"/>
                              </a:lnTo>
                              <a:lnTo>
                                <a:pt x="1" y="444"/>
                              </a:lnTo>
                              <a:lnTo>
                                <a:pt x="4" y="415"/>
                              </a:lnTo>
                              <a:lnTo>
                                <a:pt x="10" y="380"/>
                              </a:lnTo>
                              <a:lnTo>
                                <a:pt x="15" y="355"/>
                              </a:lnTo>
                              <a:lnTo>
                                <a:pt x="23" y="329"/>
                              </a:lnTo>
                              <a:lnTo>
                                <a:pt x="31" y="305"/>
                              </a:lnTo>
                              <a:lnTo>
                                <a:pt x="41" y="283"/>
                              </a:lnTo>
                              <a:lnTo>
                                <a:pt x="54" y="262"/>
                              </a:lnTo>
                              <a:lnTo>
                                <a:pt x="68" y="238"/>
                              </a:lnTo>
                              <a:lnTo>
                                <a:pt x="85" y="215"/>
                              </a:lnTo>
                              <a:lnTo>
                                <a:pt x="103" y="193"/>
                              </a:lnTo>
                              <a:lnTo>
                                <a:pt x="122" y="173"/>
                              </a:lnTo>
                              <a:lnTo>
                                <a:pt x="142" y="151"/>
                              </a:lnTo>
                              <a:lnTo>
                                <a:pt x="163" y="132"/>
                              </a:lnTo>
                              <a:lnTo>
                                <a:pt x="186" y="114"/>
                              </a:lnTo>
                              <a:lnTo>
                                <a:pt x="211" y="99"/>
                              </a:lnTo>
                              <a:lnTo>
                                <a:pt x="239" y="85"/>
                              </a:lnTo>
                              <a:lnTo>
                                <a:pt x="270" y="69"/>
                              </a:lnTo>
                              <a:lnTo>
                                <a:pt x="300" y="59"/>
                              </a:lnTo>
                              <a:lnTo>
                                <a:pt x="332" y="46"/>
                              </a:lnTo>
                              <a:lnTo>
                                <a:pt x="367" y="34"/>
                              </a:lnTo>
                              <a:lnTo>
                                <a:pt x="396" y="24"/>
                              </a:lnTo>
                              <a:lnTo>
                                <a:pt x="426" y="16"/>
                              </a:lnTo>
                              <a:lnTo>
                                <a:pt x="450" y="11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000c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520" name=""/>
                        <p:cNvSpPr/>
                        <p:nvPr/>
                      </p:nvSpPr>
                      <p:spPr>
                        <a:xfrm>
                          <a:off x="4875840" y="1501920"/>
                          <a:ext cx="210240" cy="1720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54" h="560">
                              <a:moveTo>
                                <a:pt x="450" y="12"/>
                              </a:moveTo>
                              <a:lnTo>
                                <a:pt x="462" y="8"/>
                              </a:lnTo>
                              <a:lnTo>
                                <a:pt x="490" y="6"/>
                              </a:lnTo>
                              <a:lnTo>
                                <a:pt x="522" y="4"/>
                              </a:lnTo>
                              <a:lnTo>
                                <a:pt x="550" y="2"/>
                              </a:lnTo>
                              <a:lnTo>
                                <a:pt x="580" y="3"/>
                              </a:lnTo>
                              <a:lnTo>
                                <a:pt x="610" y="4"/>
                              </a:lnTo>
                              <a:lnTo>
                                <a:pt x="640" y="5"/>
                              </a:lnTo>
                              <a:lnTo>
                                <a:pt x="669" y="7"/>
                              </a:lnTo>
                              <a:lnTo>
                                <a:pt x="698" y="5"/>
                              </a:lnTo>
                              <a:lnTo>
                                <a:pt x="726" y="4"/>
                              </a:lnTo>
                              <a:lnTo>
                                <a:pt x="760" y="2"/>
                              </a:lnTo>
                              <a:lnTo>
                                <a:pt x="791" y="1"/>
                              </a:lnTo>
                              <a:lnTo>
                                <a:pt x="815" y="2"/>
                              </a:lnTo>
                              <a:lnTo>
                                <a:pt x="840" y="3"/>
                              </a:lnTo>
                              <a:lnTo>
                                <a:pt x="854" y="0"/>
                              </a:lnTo>
                              <a:lnTo>
                                <a:pt x="849" y="13"/>
                              </a:lnTo>
                              <a:lnTo>
                                <a:pt x="841" y="25"/>
                              </a:lnTo>
                              <a:lnTo>
                                <a:pt x="830" y="34"/>
                              </a:lnTo>
                              <a:lnTo>
                                <a:pt x="821" y="40"/>
                              </a:lnTo>
                              <a:lnTo>
                                <a:pt x="811" y="45"/>
                              </a:lnTo>
                              <a:lnTo>
                                <a:pt x="795" y="47"/>
                              </a:lnTo>
                              <a:lnTo>
                                <a:pt x="772" y="46"/>
                              </a:lnTo>
                              <a:lnTo>
                                <a:pt x="748" y="45"/>
                              </a:lnTo>
                              <a:lnTo>
                                <a:pt x="722" y="47"/>
                              </a:lnTo>
                              <a:lnTo>
                                <a:pt x="700" y="48"/>
                              </a:lnTo>
                              <a:lnTo>
                                <a:pt x="673" y="50"/>
                              </a:lnTo>
                              <a:lnTo>
                                <a:pt x="647" y="50"/>
                              </a:lnTo>
                              <a:lnTo>
                                <a:pt x="620" y="47"/>
                              </a:lnTo>
                              <a:lnTo>
                                <a:pt x="588" y="47"/>
                              </a:lnTo>
                              <a:lnTo>
                                <a:pt x="558" y="45"/>
                              </a:lnTo>
                              <a:lnTo>
                                <a:pt x="532" y="47"/>
                              </a:lnTo>
                              <a:lnTo>
                                <a:pt x="501" y="50"/>
                              </a:lnTo>
                              <a:lnTo>
                                <a:pt x="469" y="51"/>
                              </a:lnTo>
                              <a:lnTo>
                                <a:pt x="442" y="57"/>
                              </a:lnTo>
                              <a:lnTo>
                                <a:pt x="414" y="66"/>
                              </a:lnTo>
                              <a:lnTo>
                                <a:pt x="387" y="75"/>
                              </a:lnTo>
                              <a:lnTo>
                                <a:pt x="357" y="86"/>
                              </a:lnTo>
                              <a:lnTo>
                                <a:pt x="328" y="97"/>
                              </a:lnTo>
                              <a:lnTo>
                                <a:pt x="304" y="107"/>
                              </a:lnTo>
                              <a:lnTo>
                                <a:pt x="276" y="118"/>
                              </a:lnTo>
                              <a:lnTo>
                                <a:pt x="254" y="131"/>
                              </a:lnTo>
                              <a:lnTo>
                                <a:pt x="234" y="141"/>
                              </a:lnTo>
                              <a:lnTo>
                                <a:pt x="214" y="153"/>
                              </a:lnTo>
                              <a:lnTo>
                                <a:pt x="192" y="166"/>
                              </a:lnTo>
                              <a:lnTo>
                                <a:pt x="175" y="182"/>
                              </a:lnTo>
                              <a:lnTo>
                                <a:pt x="154" y="204"/>
                              </a:lnTo>
                              <a:lnTo>
                                <a:pt x="138" y="223"/>
                              </a:lnTo>
                              <a:lnTo>
                                <a:pt x="123" y="239"/>
                              </a:lnTo>
                              <a:lnTo>
                                <a:pt x="107" y="261"/>
                              </a:lnTo>
                              <a:lnTo>
                                <a:pt x="95" y="282"/>
                              </a:lnTo>
                              <a:lnTo>
                                <a:pt x="83" y="306"/>
                              </a:lnTo>
                              <a:lnTo>
                                <a:pt x="71" y="328"/>
                              </a:lnTo>
                              <a:lnTo>
                                <a:pt x="61" y="352"/>
                              </a:lnTo>
                              <a:lnTo>
                                <a:pt x="55" y="375"/>
                              </a:lnTo>
                              <a:lnTo>
                                <a:pt x="49" y="398"/>
                              </a:lnTo>
                              <a:lnTo>
                                <a:pt x="45" y="422"/>
                              </a:lnTo>
                              <a:lnTo>
                                <a:pt x="42" y="445"/>
                              </a:lnTo>
                              <a:lnTo>
                                <a:pt x="39" y="475"/>
                              </a:lnTo>
                              <a:lnTo>
                                <a:pt x="38" y="503"/>
                              </a:lnTo>
                              <a:lnTo>
                                <a:pt x="37" y="530"/>
                              </a:lnTo>
                              <a:lnTo>
                                <a:pt x="35" y="560"/>
                              </a:lnTo>
                              <a:lnTo>
                                <a:pt x="7" y="554"/>
                              </a:lnTo>
                              <a:lnTo>
                                <a:pt x="4" y="526"/>
                              </a:lnTo>
                              <a:lnTo>
                                <a:pt x="2" y="502"/>
                              </a:lnTo>
                              <a:lnTo>
                                <a:pt x="0" y="476"/>
                              </a:lnTo>
                              <a:lnTo>
                                <a:pt x="1" y="445"/>
                              </a:lnTo>
                              <a:lnTo>
                                <a:pt x="3" y="416"/>
                              </a:lnTo>
                              <a:lnTo>
                                <a:pt x="9" y="380"/>
                              </a:lnTo>
                              <a:lnTo>
                                <a:pt x="14" y="356"/>
                              </a:lnTo>
                              <a:lnTo>
                                <a:pt x="22" y="330"/>
                              </a:lnTo>
                              <a:lnTo>
                                <a:pt x="31" y="306"/>
                              </a:lnTo>
                              <a:lnTo>
                                <a:pt x="41" y="284"/>
                              </a:lnTo>
                              <a:lnTo>
                                <a:pt x="53" y="263"/>
                              </a:lnTo>
                              <a:lnTo>
                                <a:pt x="67" y="239"/>
                              </a:lnTo>
                              <a:lnTo>
                                <a:pt x="85" y="216"/>
                              </a:lnTo>
                              <a:lnTo>
                                <a:pt x="102" y="194"/>
                              </a:lnTo>
                              <a:lnTo>
                                <a:pt x="122" y="174"/>
                              </a:lnTo>
                              <a:lnTo>
                                <a:pt x="141" y="152"/>
                              </a:lnTo>
                              <a:lnTo>
                                <a:pt x="163" y="133"/>
                              </a:lnTo>
                              <a:lnTo>
                                <a:pt x="185" y="115"/>
                              </a:lnTo>
                              <a:lnTo>
                                <a:pt x="211" y="100"/>
                              </a:lnTo>
                              <a:lnTo>
                                <a:pt x="237" y="85"/>
                              </a:lnTo>
                              <a:lnTo>
                                <a:pt x="270" y="69"/>
                              </a:lnTo>
                              <a:lnTo>
                                <a:pt x="300" y="59"/>
                              </a:lnTo>
                              <a:lnTo>
                                <a:pt x="331" y="47"/>
                              </a:lnTo>
                              <a:lnTo>
                                <a:pt x="366" y="35"/>
                              </a:lnTo>
                              <a:lnTo>
                                <a:pt x="396" y="25"/>
                              </a:lnTo>
                              <a:lnTo>
                                <a:pt x="425" y="17"/>
                              </a:lnTo>
                              <a:lnTo>
                                <a:pt x="450" y="12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0006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7521" name=""/>
                      <p:cNvSpPr/>
                      <p:nvPr/>
                    </p:nvSpPr>
                    <p:spPr>
                      <a:xfrm>
                        <a:off x="4843800" y="1472760"/>
                        <a:ext cx="222840" cy="167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01" h="544">
                            <a:moveTo>
                              <a:pt x="901" y="6"/>
                            </a:moveTo>
                            <a:lnTo>
                              <a:pt x="865" y="3"/>
                            </a:lnTo>
                            <a:lnTo>
                              <a:pt x="836" y="2"/>
                            </a:lnTo>
                            <a:lnTo>
                              <a:pt x="796" y="1"/>
                            </a:lnTo>
                            <a:lnTo>
                              <a:pt x="756" y="0"/>
                            </a:lnTo>
                            <a:lnTo>
                              <a:pt x="709" y="1"/>
                            </a:lnTo>
                            <a:lnTo>
                              <a:pt x="660" y="2"/>
                            </a:lnTo>
                            <a:lnTo>
                              <a:pt x="615" y="4"/>
                            </a:lnTo>
                            <a:lnTo>
                              <a:pt x="578" y="7"/>
                            </a:lnTo>
                            <a:lnTo>
                              <a:pt x="536" y="12"/>
                            </a:lnTo>
                            <a:lnTo>
                              <a:pt x="490" y="18"/>
                            </a:lnTo>
                            <a:lnTo>
                              <a:pt x="461" y="24"/>
                            </a:lnTo>
                            <a:lnTo>
                              <a:pt x="437" y="31"/>
                            </a:lnTo>
                            <a:lnTo>
                              <a:pt x="411" y="37"/>
                            </a:lnTo>
                            <a:lnTo>
                              <a:pt x="385" y="45"/>
                            </a:lnTo>
                            <a:lnTo>
                              <a:pt x="357" y="55"/>
                            </a:lnTo>
                            <a:lnTo>
                              <a:pt x="326" y="70"/>
                            </a:lnTo>
                            <a:lnTo>
                              <a:pt x="299" y="82"/>
                            </a:lnTo>
                            <a:lnTo>
                              <a:pt x="274" y="94"/>
                            </a:lnTo>
                            <a:lnTo>
                              <a:pt x="254" y="107"/>
                            </a:lnTo>
                            <a:lnTo>
                              <a:pt x="233" y="123"/>
                            </a:lnTo>
                            <a:lnTo>
                              <a:pt x="212" y="139"/>
                            </a:lnTo>
                            <a:lnTo>
                              <a:pt x="186" y="160"/>
                            </a:lnTo>
                            <a:lnTo>
                              <a:pt x="163" y="180"/>
                            </a:lnTo>
                            <a:lnTo>
                              <a:pt x="146" y="196"/>
                            </a:lnTo>
                            <a:lnTo>
                              <a:pt x="130" y="212"/>
                            </a:lnTo>
                            <a:lnTo>
                              <a:pt x="112" y="231"/>
                            </a:lnTo>
                            <a:lnTo>
                              <a:pt x="96" y="246"/>
                            </a:lnTo>
                            <a:lnTo>
                              <a:pt x="81" y="266"/>
                            </a:lnTo>
                            <a:lnTo>
                              <a:pt x="69" y="287"/>
                            </a:lnTo>
                            <a:lnTo>
                              <a:pt x="56" y="315"/>
                            </a:lnTo>
                            <a:lnTo>
                              <a:pt x="43" y="343"/>
                            </a:lnTo>
                            <a:lnTo>
                              <a:pt x="33" y="369"/>
                            </a:lnTo>
                            <a:lnTo>
                              <a:pt x="24" y="394"/>
                            </a:lnTo>
                            <a:lnTo>
                              <a:pt x="17" y="419"/>
                            </a:lnTo>
                            <a:lnTo>
                              <a:pt x="9" y="451"/>
                            </a:lnTo>
                            <a:lnTo>
                              <a:pt x="5" y="480"/>
                            </a:lnTo>
                            <a:lnTo>
                              <a:pt x="1" y="509"/>
                            </a:lnTo>
                            <a:lnTo>
                              <a:pt x="0" y="544"/>
                            </a:lnTo>
                          </a:path>
                        </a:pathLst>
                      </a:custGeom>
                      <a:noFill/>
                      <a:ln w="4680">
                        <a:solidFill>
                          <a:srgbClr val="ffc0f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7522" name=""/>
                  <p:cNvGrpSpPr/>
                  <p:nvPr/>
                </p:nvGrpSpPr>
                <p:grpSpPr>
                  <a:xfrm>
                    <a:off x="4824000" y="1655280"/>
                    <a:ext cx="59400" cy="36720"/>
                    <a:chOff x="4824000" y="1655280"/>
                    <a:chExt cx="59400" cy="36720"/>
                  </a:xfrm>
                </p:grpSpPr>
                <p:sp>
                  <p:nvSpPr>
                    <p:cNvPr id="7523" name=""/>
                    <p:cNvSpPr/>
                    <p:nvPr/>
                  </p:nvSpPr>
                  <p:spPr>
                    <a:xfrm>
                      <a:off x="4824000" y="1655280"/>
                      <a:ext cx="59400" cy="36720"/>
                    </a:xfrm>
                    <a:prstGeom prst="ellipse">
                      <a:avLst/>
                    </a:prstGeom>
                    <a:solidFill>
                      <a:srgbClr val="ff00ff"/>
                    </a:solidFill>
                    <a:ln w="3240">
                      <a:solidFill>
                        <a:srgbClr val="40004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880" bIns="-20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524" name=""/>
                    <p:cNvSpPr/>
                    <p:nvPr/>
                  </p:nvSpPr>
                  <p:spPr>
                    <a:xfrm>
                      <a:off x="4829040" y="1659600"/>
                      <a:ext cx="48240" cy="27360"/>
                    </a:xfrm>
                    <a:prstGeom prst="ellipse">
                      <a:avLst/>
                    </a:prstGeom>
                    <a:solidFill>
                      <a:srgbClr val="600060"/>
                    </a:solidFill>
                    <a:ln w="3240">
                      <a:solidFill>
                        <a:srgbClr val="40004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360" bIns="-27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grpSp>
          <p:nvGrpSpPr>
            <p:cNvPr id="7525" name=""/>
            <p:cNvGrpSpPr/>
            <p:nvPr/>
          </p:nvGrpSpPr>
          <p:grpSpPr>
            <a:xfrm>
              <a:off x="4745160" y="1629360"/>
              <a:ext cx="101520" cy="385560"/>
              <a:chOff x="4745160" y="1629360"/>
              <a:chExt cx="101520" cy="385560"/>
            </a:xfrm>
          </p:grpSpPr>
          <p:grpSp>
            <p:nvGrpSpPr>
              <p:cNvPr id="7526" name=""/>
              <p:cNvGrpSpPr/>
              <p:nvPr/>
            </p:nvGrpSpPr>
            <p:grpSpPr>
              <a:xfrm>
                <a:off x="4745160" y="1644480"/>
                <a:ext cx="101520" cy="370440"/>
                <a:chOff x="4745160" y="1644480"/>
                <a:chExt cx="101520" cy="370440"/>
              </a:xfrm>
            </p:grpSpPr>
            <p:sp>
              <p:nvSpPr>
                <p:cNvPr id="7527" name=""/>
                <p:cNvSpPr/>
                <p:nvPr/>
              </p:nvSpPr>
              <p:spPr>
                <a:xfrm>
                  <a:off x="4745160" y="1644480"/>
                  <a:ext cx="101520" cy="370440"/>
                </a:xfrm>
                <a:custGeom>
                  <a:avLst/>
                  <a:gdLst/>
                  <a:ahLst/>
                  <a:rect l="l" t="t" r="r" b="b"/>
                  <a:pathLst>
                    <a:path w="410" h="1199">
                      <a:moveTo>
                        <a:pt x="270" y="0"/>
                      </a:moveTo>
                      <a:lnTo>
                        <a:pt x="0" y="18"/>
                      </a:lnTo>
                      <a:lnTo>
                        <a:pt x="3" y="47"/>
                      </a:lnTo>
                      <a:lnTo>
                        <a:pt x="9" y="79"/>
                      </a:lnTo>
                      <a:lnTo>
                        <a:pt x="16" y="113"/>
                      </a:lnTo>
                      <a:lnTo>
                        <a:pt x="22" y="152"/>
                      </a:lnTo>
                      <a:lnTo>
                        <a:pt x="31" y="198"/>
                      </a:lnTo>
                      <a:lnTo>
                        <a:pt x="41" y="242"/>
                      </a:lnTo>
                      <a:lnTo>
                        <a:pt x="49" y="279"/>
                      </a:lnTo>
                      <a:lnTo>
                        <a:pt x="58" y="315"/>
                      </a:lnTo>
                      <a:lnTo>
                        <a:pt x="66" y="354"/>
                      </a:lnTo>
                      <a:lnTo>
                        <a:pt x="75" y="397"/>
                      </a:lnTo>
                      <a:lnTo>
                        <a:pt x="83" y="442"/>
                      </a:lnTo>
                      <a:lnTo>
                        <a:pt x="92" y="490"/>
                      </a:lnTo>
                      <a:lnTo>
                        <a:pt x="97" y="517"/>
                      </a:lnTo>
                      <a:lnTo>
                        <a:pt x="101" y="552"/>
                      </a:lnTo>
                      <a:lnTo>
                        <a:pt x="106" y="593"/>
                      </a:lnTo>
                      <a:lnTo>
                        <a:pt x="110" y="631"/>
                      </a:lnTo>
                      <a:lnTo>
                        <a:pt x="117" y="679"/>
                      </a:lnTo>
                      <a:lnTo>
                        <a:pt x="123" y="729"/>
                      </a:lnTo>
                      <a:lnTo>
                        <a:pt x="127" y="769"/>
                      </a:lnTo>
                      <a:lnTo>
                        <a:pt x="128" y="809"/>
                      </a:lnTo>
                      <a:lnTo>
                        <a:pt x="130" y="843"/>
                      </a:lnTo>
                      <a:lnTo>
                        <a:pt x="133" y="887"/>
                      </a:lnTo>
                      <a:lnTo>
                        <a:pt x="135" y="932"/>
                      </a:lnTo>
                      <a:lnTo>
                        <a:pt x="133" y="974"/>
                      </a:lnTo>
                      <a:lnTo>
                        <a:pt x="134" y="1024"/>
                      </a:lnTo>
                      <a:lnTo>
                        <a:pt x="136" y="1054"/>
                      </a:lnTo>
                      <a:lnTo>
                        <a:pt x="134" y="1079"/>
                      </a:lnTo>
                      <a:lnTo>
                        <a:pt x="132" y="1110"/>
                      </a:lnTo>
                      <a:lnTo>
                        <a:pt x="133" y="1131"/>
                      </a:lnTo>
                      <a:lnTo>
                        <a:pt x="138" y="1145"/>
                      </a:lnTo>
                      <a:lnTo>
                        <a:pt x="146" y="1159"/>
                      </a:lnTo>
                      <a:lnTo>
                        <a:pt x="158" y="1170"/>
                      </a:lnTo>
                      <a:lnTo>
                        <a:pt x="175" y="1178"/>
                      </a:lnTo>
                      <a:lnTo>
                        <a:pt x="191" y="1183"/>
                      </a:lnTo>
                      <a:lnTo>
                        <a:pt x="212" y="1190"/>
                      </a:lnTo>
                      <a:lnTo>
                        <a:pt x="240" y="1195"/>
                      </a:lnTo>
                      <a:lnTo>
                        <a:pt x="266" y="1196"/>
                      </a:lnTo>
                      <a:lnTo>
                        <a:pt x="292" y="1198"/>
                      </a:lnTo>
                      <a:lnTo>
                        <a:pt x="315" y="1199"/>
                      </a:lnTo>
                      <a:lnTo>
                        <a:pt x="336" y="1197"/>
                      </a:lnTo>
                      <a:lnTo>
                        <a:pt x="354" y="1194"/>
                      </a:lnTo>
                      <a:lnTo>
                        <a:pt x="373" y="1187"/>
                      </a:lnTo>
                      <a:lnTo>
                        <a:pt x="385" y="1180"/>
                      </a:lnTo>
                      <a:lnTo>
                        <a:pt x="396" y="1173"/>
                      </a:lnTo>
                      <a:lnTo>
                        <a:pt x="404" y="1164"/>
                      </a:lnTo>
                      <a:lnTo>
                        <a:pt x="406" y="1154"/>
                      </a:lnTo>
                      <a:lnTo>
                        <a:pt x="404" y="1123"/>
                      </a:lnTo>
                      <a:lnTo>
                        <a:pt x="402" y="1093"/>
                      </a:lnTo>
                      <a:lnTo>
                        <a:pt x="404" y="1053"/>
                      </a:lnTo>
                      <a:lnTo>
                        <a:pt x="407" y="1022"/>
                      </a:lnTo>
                      <a:lnTo>
                        <a:pt x="410" y="995"/>
                      </a:lnTo>
                      <a:lnTo>
                        <a:pt x="408" y="968"/>
                      </a:lnTo>
                      <a:lnTo>
                        <a:pt x="406" y="932"/>
                      </a:lnTo>
                      <a:lnTo>
                        <a:pt x="405" y="906"/>
                      </a:lnTo>
                      <a:lnTo>
                        <a:pt x="403" y="878"/>
                      </a:lnTo>
                      <a:lnTo>
                        <a:pt x="398" y="851"/>
                      </a:lnTo>
                      <a:lnTo>
                        <a:pt x="393" y="821"/>
                      </a:lnTo>
                      <a:lnTo>
                        <a:pt x="392" y="785"/>
                      </a:lnTo>
                      <a:lnTo>
                        <a:pt x="390" y="756"/>
                      </a:lnTo>
                      <a:lnTo>
                        <a:pt x="389" y="719"/>
                      </a:lnTo>
                      <a:lnTo>
                        <a:pt x="387" y="681"/>
                      </a:lnTo>
                      <a:lnTo>
                        <a:pt x="384" y="642"/>
                      </a:lnTo>
                      <a:lnTo>
                        <a:pt x="379" y="598"/>
                      </a:lnTo>
                      <a:lnTo>
                        <a:pt x="375" y="556"/>
                      </a:lnTo>
                      <a:lnTo>
                        <a:pt x="371" y="517"/>
                      </a:lnTo>
                      <a:lnTo>
                        <a:pt x="367" y="487"/>
                      </a:lnTo>
                      <a:lnTo>
                        <a:pt x="362" y="454"/>
                      </a:lnTo>
                      <a:lnTo>
                        <a:pt x="358" y="422"/>
                      </a:lnTo>
                      <a:lnTo>
                        <a:pt x="353" y="387"/>
                      </a:lnTo>
                      <a:lnTo>
                        <a:pt x="347" y="351"/>
                      </a:lnTo>
                      <a:lnTo>
                        <a:pt x="341" y="311"/>
                      </a:lnTo>
                      <a:lnTo>
                        <a:pt x="335" y="276"/>
                      </a:lnTo>
                      <a:lnTo>
                        <a:pt x="325" y="232"/>
                      </a:lnTo>
                      <a:lnTo>
                        <a:pt x="316" y="190"/>
                      </a:lnTo>
                      <a:lnTo>
                        <a:pt x="307" y="137"/>
                      </a:lnTo>
                      <a:lnTo>
                        <a:pt x="294" y="81"/>
                      </a:lnTo>
                      <a:lnTo>
                        <a:pt x="283" y="37"/>
                      </a:lnTo>
                      <a:lnTo>
                        <a:pt x="270" y="0"/>
                      </a:lnTo>
                      <a:close/>
                    </a:path>
                  </a:pathLst>
                </a:custGeom>
                <a:solidFill>
                  <a:srgbClr val="000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528" name=""/>
                <p:cNvGrpSpPr/>
                <p:nvPr/>
              </p:nvGrpSpPr>
              <p:grpSpPr>
                <a:xfrm>
                  <a:off x="4745160" y="1644480"/>
                  <a:ext cx="101520" cy="369000"/>
                  <a:chOff x="4745160" y="1644480"/>
                  <a:chExt cx="101520" cy="369000"/>
                </a:xfrm>
              </p:grpSpPr>
              <p:grpSp>
                <p:nvGrpSpPr>
                  <p:cNvPr id="7529" name=""/>
                  <p:cNvGrpSpPr/>
                  <p:nvPr/>
                </p:nvGrpSpPr>
                <p:grpSpPr>
                  <a:xfrm>
                    <a:off x="4745160" y="1644480"/>
                    <a:ext cx="101520" cy="369000"/>
                    <a:chOff x="4745160" y="1644480"/>
                    <a:chExt cx="101520" cy="369000"/>
                  </a:xfrm>
                </p:grpSpPr>
                <p:grpSp>
                  <p:nvGrpSpPr>
                    <p:cNvPr id="7530" name=""/>
                    <p:cNvGrpSpPr/>
                    <p:nvPr/>
                  </p:nvGrpSpPr>
                  <p:grpSpPr>
                    <a:xfrm>
                      <a:off x="4745160" y="1644480"/>
                      <a:ext cx="101520" cy="369000"/>
                      <a:chOff x="4745160" y="1644480"/>
                      <a:chExt cx="101520" cy="369000"/>
                    </a:xfrm>
                  </p:grpSpPr>
                  <p:sp>
                    <p:nvSpPr>
                      <p:cNvPr id="7531" name=""/>
                      <p:cNvSpPr/>
                      <p:nvPr/>
                    </p:nvSpPr>
                    <p:spPr>
                      <a:xfrm>
                        <a:off x="4745160" y="1650240"/>
                        <a:ext cx="44280" cy="355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81" h="1152">
                            <a:moveTo>
                              <a:pt x="55" y="70"/>
                            </a:moveTo>
                            <a:lnTo>
                              <a:pt x="41" y="28"/>
                            </a:lnTo>
                            <a:lnTo>
                              <a:pt x="0" y="0"/>
                            </a:lnTo>
                            <a:lnTo>
                              <a:pt x="3" y="29"/>
                            </a:lnTo>
                            <a:lnTo>
                              <a:pt x="9" y="61"/>
                            </a:lnTo>
                            <a:lnTo>
                              <a:pt x="16" y="95"/>
                            </a:lnTo>
                            <a:lnTo>
                              <a:pt x="22" y="134"/>
                            </a:lnTo>
                            <a:lnTo>
                              <a:pt x="31" y="180"/>
                            </a:lnTo>
                            <a:lnTo>
                              <a:pt x="41" y="224"/>
                            </a:lnTo>
                            <a:lnTo>
                              <a:pt x="48" y="261"/>
                            </a:lnTo>
                            <a:lnTo>
                              <a:pt x="56" y="297"/>
                            </a:lnTo>
                            <a:lnTo>
                              <a:pt x="65" y="336"/>
                            </a:lnTo>
                            <a:lnTo>
                              <a:pt x="74" y="379"/>
                            </a:lnTo>
                            <a:lnTo>
                              <a:pt x="82" y="424"/>
                            </a:lnTo>
                            <a:lnTo>
                              <a:pt x="91" y="472"/>
                            </a:lnTo>
                            <a:lnTo>
                              <a:pt x="96" y="499"/>
                            </a:lnTo>
                            <a:lnTo>
                              <a:pt x="100" y="534"/>
                            </a:lnTo>
                            <a:lnTo>
                              <a:pt x="106" y="575"/>
                            </a:lnTo>
                            <a:lnTo>
                              <a:pt x="110" y="613"/>
                            </a:lnTo>
                            <a:lnTo>
                              <a:pt x="117" y="661"/>
                            </a:lnTo>
                            <a:lnTo>
                              <a:pt x="123" y="711"/>
                            </a:lnTo>
                            <a:lnTo>
                              <a:pt x="127" y="751"/>
                            </a:lnTo>
                            <a:lnTo>
                              <a:pt x="128" y="791"/>
                            </a:lnTo>
                            <a:lnTo>
                              <a:pt x="130" y="825"/>
                            </a:lnTo>
                            <a:lnTo>
                              <a:pt x="133" y="868"/>
                            </a:lnTo>
                            <a:lnTo>
                              <a:pt x="135" y="914"/>
                            </a:lnTo>
                            <a:lnTo>
                              <a:pt x="133" y="956"/>
                            </a:lnTo>
                            <a:lnTo>
                              <a:pt x="134" y="1006"/>
                            </a:lnTo>
                            <a:lnTo>
                              <a:pt x="136" y="1036"/>
                            </a:lnTo>
                            <a:lnTo>
                              <a:pt x="134" y="1061"/>
                            </a:lnTo>
                            <a:lnTo>
                              <a:pt x="132" y="1091"/>
                            </a:lnTo>
                            <a:lnTo>
                              <a:pt x="133" y="1113"/>
                            </a:lnTo>
                            <a:lnTo>
                              <a:pt x="137" y="1127"/>
                            </a:lnTo>
                            <a:lnTo>
                              <a:pt x="145" y="1141"/>
                            </a:lnTo>
                            <a:lnTo>
                              <a:pt x="157" y="1152"/>
                            </a:lnTo>
                            <a:lnTo>
                              <a:pt x="163" y="1122"/>
                            </a:lnTo>
                            <a:lnTo>
                              <a:pt x="166" y="1088"/>
                            </a:lnTo>
                            <a:lnTo>
                              <a:pt x="169" y="1051"/>
                            </a:lnTo>
                            <a:lnTo>
                              <a:pt x="173" y="1008"/>
                            </a:lnTo>
                            <a:lnTo>
                              <a:pt x="178" y="956"/>
                            </a:lnTo>
                            <a:lnTo>
                              <a:pt x="181" y="896"/>
                            </a:lnTo>
                            <a:lnTo>
                              <a:pt x="176" y="843"/>
                            </a:lnTo>
                            <a:lnTo>
                              <a:pt x="175" y="789"/>
                            </a:lnTo>
                            <a:lnTo>
                              <a:pt x="169" y="731"/>
                            </a:lnTo>
                            <a:lnTo>
                              <a:pt x="163" y="681"/>
                            </a:lnTo>
                            <a:lnTo>
                              <a:pt x="158" y="633"/>
                            </a:lnTo>
                            <a:lnTo>
                              <a:pt x="154" y="590"/>
                            </a:lnTo>
                            <a:lnTo>
                              <a:pt x="151" y="548"/>
                            </a:lnTo>
                            <a:lnTo>
                              <a:pt x="148" y="511"/>
                            </a:lnTo>
                            <a:lnTo>
                              <a:pt x="145" y="472"/>
                            </a:lnTo>
                            <a:lnTo>
                              <a:pt x="139" y="429"/>
                            </a:lnTo>
                            <a:lnTo>
                              <a:pt x="134" y="382"/>
                            </a:lnTo>
                            <a:lnTo>
                              <a:pt x="122" y="342"/>
                            </a:lnTo>
                            <a:lnTo>
                              <a:pt x="111" y="300"/>
                            </a:lnTo>
                            <a:lnTo>
                              <a:pt x="100" y="266"/>
                            </a:lnTo>
                            <a:lnTo>
                              <a:pt x="94" y="232"/>
                            </a:lnTo>
                            <a:lnTo>
                              <a:pt x="88" y="194"/>
                            </a:lnTo>
                            <a:lnTo>
                              <a:pt x="83" y="156"/>
                            </a:lnTo>
                            <a:lnTo>
                              <a:pt x="70" y="113"/>
                            </a:lnTo>
                            <a:lnTo>
                              <a:pt x="55" y="70"/>
                            </a:lnTo>
                            <a:close/>
                          </a:path>
                        </a:pathLst>
                      </a:custGeom>
                      <a:solidFill>
                        <a:srgbClr val="00004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532" name=""/>
                      <p:cNvSpPr/>
                      <p:nvPr/>
                    </p:nvSpPr>
                    <p:spPr>
                      <a:xfrm>
                        <a:off x="4800960" y="1644480"/>
                        <a:ext cx="45720" cy="369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88" h="1194">
                            <a:moveTo>
                              <a:pt x="48" y="0"/>
                            </a:moveTo>
                            <a:lnTo>
                              <a:pt x="0" y="38"/>
                            </a:lnTo>
                            <a:lnTo>
                              <a:pt x="17" y="57"/>
                            </a:lnTo>
                            <a:lnTo>
                              <a:pt x="29" y="78"/>
                            </a:lnTo>
                            <a:lnTo>
                              <a:pt x="35" y="106"/>
                            </a:lnTo>
                            <a:lnTo>
                              <a:pt x="41" y="148"/>
                            </a:lnTo>
                            <a:lnTo>
                              <a:pt x="49" y="188"/>
                            </a:lnTo>
                            <a:lnTo>
                              <a:pt x="61" y="240"/>
                            </a:lnTo>
                            <a:lnTo>
                              <a:pt x="70" y="290"/>
                            </a:lnTo>
                            <a:lnTo>
                              <a:pt x="79" y="334"/>
                            </a:lnTo>
                            <a:lnTo>
                              <a:pt x="85" y="383"/>
                            </a:lnTo>
                            <a:lnTo>
                              <a:pt x="92" y="427"/>
                            </a:lnTo>
                            <a:lnTo>
                              <a:pt x="101" y="476"/>
                            </a:lnTo>
                            <a:lnTo>
                              <a:pt x="111" y="516"/>
                            </a:lnTo>
                            <a:lnTo>
                              <a:pt x="117" y="564"/>
                            </a:lnTo>
                            <a:lnTo>
                              <a:pt x="113" y="610"/>
                            </a:lnTo>
                            <a:lnTo>
                              <a:pt x="117" y="651"/>
                            </a:lnTo>
                            <a:lnTo>
                              <a:pt x="120" y="703"/>
                            </a:lnTo>
                            <a:lnTo>
                              <a:pt x="122" y="762"/>
                            </a:lnTo>
                            <a:lnTo>
                              <a:pt x="126" y="825"/>
                            </a:lnTo>
                            <a:lnTo>
                              <a:pt x="134" y="886"/>
                            </a:lnTo>
                            <a:lnTo>
                              <a:pt x="140" y="928"/>
                            </a:lnTo>
                            <a:lnTo>
                              <a:pt x="140" y="968"/>
                            </a:lnTo>
                            <a:lnTo>
                              <a:pt x="142" y="1017"/>
                            </a:lnTo>
                            <a:lnTo>
                              <a:pt x="138" y="1073"/>
                            </a:lnTo>
                            <a:lnTo>
                              <a:pt x="137" y="1119"/>
                            </a:lnTo>
                            <a:lnTo>
                              <a:pt x="132" y="1160"/>
                            </a:lnTo>
                            <a:lnTo>
                              <a:pt x="133" y="1194"/>
                            </a:lnTo>
                            <a:lnTo>
                              <a:pt x="151" y="1187"/>
                            </a:lnTo>
                            <a:lnTo>
                              <a:pt x="163" y="1180"/>
                            </a:lnTo>
                            <a:lnTo>
                              <a:pt x="174" y="1173"/>
                            </a:lnTo>
                            <a:lnTo>
                              <a:pt x="182" y="1164"/>
                            </a:lnTo>
                            <a:lnTo>
                              <a:pt x="184" y="1154"/>
                            </a:lnTo>
                            <a:lnTo>
                              <a:pt x="182" y="1123"/>
                            </a:lnTo>
                            <a:lnTo>
                              <a:pt x="180" y="1093"/>
                            </a:lnTo>
                            <a:lnTo>
                              <a:pt x="182" y="1053"/>
                            </a:lnTo>
                            <a:lnTo>
                              <a:pt x="185" y="1022"/>
                            </a:lnTo>
                            <a:lnTo>
                              <a:pt x="188" y="995"/>
                            </a:lnTo>
                            <a:lnTo>
                              <a:pt x="186" y="968"/>
                            </a:lnTo>
                            <a:lnTo>
                              <a:pt x="184" y="932"/>
                            </a:lnTo>
                            <a:lnTo>
                              <a:pt x="183" y="906"/>
                            </a:lnTo>
                            <a:lnTo>
                              <a:pt x="181" y="878"/>
                            </a:lnTo>
                            <a:lnTo>
                              <a:pt x="176" y="851"/>
                            </a:lnTo>
                            <a:lnTo>
                              <a:pt x="171" y="821"/>
                            </a:lnTo>
                            <a:lnTo>
                              <a:pt x="170" y="785"/>
                            </a:lnTo>
                            <a:lnTo>
                              <a:pt x="168" y="756"/>
                            </a:lnTo>
                            <a:lnTo>
                              <a:pt x="167" y="719"/>
                            </a:lnTo>
                            <a:lnTo>
                              <a:pt x="165" y="681"/>
                            </a:lnTo>
                            <a:lnTo>
                              <a:pt x="162" y="642"/>
                            </a:lnTo>
                            <a:lnTo>
                              <a:pt x="157" y="598"/>
                            </a:lnTo>
                            <a:lnTo>
                              <a:pt x="153" y="556"/>
                            </a:lnTo>
                            <a:lnTo>
                              <a:pt x="150" y="517"/>
                            </a:lnTo>
                            <a:lnTo>
                              <a:pt x="145" y="487"/>
                            </a:lnTo>
                            <a:lnTo>
                              <a:pt x="141" y="454"/>
                            </a:lnTo>
                            <a:lnTo>
                              <a:pt x="137" y="422"/>
                            </a:lnTo>
                            <a:lnTo>
                              <a:pt x="132" y="387"/>
                            </a:lnTo>
                            <a:lnTo>
                              <a:pt x="126" y="351"/>
                            </a:lnTo>
                            <a:lnTo>
                              <a:pt x="120" y="311"/>
                            </a:lnTo>
                            <a:lnTo>
                              <a:pt x="114" y="276"/>
                            </a:lnTo>
                            <a:lnTo>
                              <a:pt x="105" y="232"/>
                            </a:lnTo>
                            <a:lnTo>
                              <a:pt x="95" y="190"/>
                            </a:lnTo>
                            <a:lnTo>
                              <a:pt x="85" y="137"/>
                            </a:lnTo>
                            <a:lnTo>
                              <a:pt x="72" y="81"/>
                            </a:lnTo>
                            <a:lnTo>
                              <a:pt x="61" y="37"/>
                            </a:lnTo>
                            <a:lnTo>
                              <a:pt x="48" y="0"/>
                            </a:lnTo>
                            <a:close/>
                          </a:path>
                        </a:pathLst>
                      </a:custGeom>
                      <a:solidFill>
                        <a:srgbClr val="00004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7533" name=""/>
                    <p:cNvSpPr/>
                    <p:nvPr/>
                  </p:nvSpPr>
                  <p:spPr>
                    <a:xfrm>
                      <a:off x="4754880" y="1657800"/>
                      <a:ext cx="50760" cy="35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6" h="1149">
                          <a:moveTo>
                            <a:pt x="15" y="42"/>
                          </a:moveTo>
                          <a:lnTo>
                            <a:pt x="0" y="0"/>
                          </a:lnTo>
                          <a:lnTo>
                            <a:pt x="73" y="28"/>
                          </a:lnTo>
                          <a:lnTo>
                            <a:pt x="77" y="57"/>
                          </a:lnTo>
                          <a:lnTo>
                            <a:pt x="82" y="82"/>
                          </a:lnTo>
                          <a:lnTo>
                            <a:pt x="90" y="111"/>
                          </a:lnTo>
                          <a:lnTo>
                            <a:pt x="98" y="133"/>
                          </a:lnTo>
                          <a:lnTo>
                            <a:pt x="108" y="159"/>
                          </a:lnTo>
                          <a:lnTo>
                            <a:pt x="118" y="189"/>
                          </a:lnTo>
                          <a:lnTo>
                            <a:pt x="124" y="217"/>
                          </a:lnTo>
                          <a:lnTo>
                            <a:pt x="129" y="249"/>
                          </a:lnTo>
                          <a:lnTo>
                            <a:pt x="135" y="281"/>
                          </a:lnTo>
                          <a:lnTo>
                            <a:pt x="140" y="316"/>
                          </a:lnTo>
                          <a:lnTo>
                            <a:pt x="149" y="351"/>
                          </a:lnTo>
                          <a:lnTo>
                            <a:pt x="155" y="376"/>
                          </a:lnTo>
                          <a:lnTo>
                            <a:pt x="163" y="407"/>
                          </a:lnTo>
                          <a:lnTo>
                            <a:pt x="169" y="429"/>
                          </a:lnTo>
                          <a:lnTo>
                            <a:pt x="174" y="452"/>
                          </a:lnTo>
                          <a:lnTo>
                            <a:pt x="176" y="479"/>
                          </a:lnTo>
                          <a:lnTo>
                            <a:pt x="178" y="505"/>
                          </a:lnTo>
                          <a:lnTo>
                            <a:pt x="180" y="535"/>
                          </a:lnTo>
                          <a:lnTo>
                            <a:pt x="185" y="574"/>
                          </a:lnTo>
                          <a:lnTo>
                            <a:pt x="189" y="608"/>
                          </a:lnTo>
                          <a:lnTo>
                            <a:pt x="193" y="644"/>
                          </a:lnTo>
                          <a:lnTo>
                            <a:pt x="199" y="678"/>
                          </a:lnTo>
                          <a:lnTo>
                            <a:pt x="201" y="708"/>
                          </a:lnTo>
                          <a:lnTo>
                            <a:pt x="204" y="759"/>
                          </a:lnTo>
                          <a:lnTo>
                            <a:pt x="205" y="795"/>
                          </a:lnTo>
                          <a:lnTo>
                            <a:pt x="205" y="837"/>
                          </a:lnTo>
                          <a:lnTo>
                            <a:pt x="206" y="864"/>
                          </a:lnTo>
                          <a:lnTo>
                            <a:pt x="205" y="900"/>
                          </a:lnTo>
                          <a:lnTo>
                            <a:pt x="203" y="942"/>
                          </a:lnTo>
                          <a:lnTo>
                            <a:pt x="200" y="976"/>
                          </a:lnTo>
                          <a:lnTo>
                            <a:pt x="202" y="1017"/>
                          </a:lnTo>
                          <a:lnTo>
                            <a:pt x="203" y="1055"/>
                          </a:lnTo>
                          <a:lnTo>
                            <a:pt x="199" y="1079"/>
                          </a:lnTo>
                          <a:lnTo>
                            <a:pt x="195" y="1102"/>
                          </a:lnTo>
                          <a:lnTo>
                            <a:pt x="191" y="1117"/>
                          </a:lnTo>
                          <a:lnTo>
                            <a:pt x="192" y="1134"/>
                          </a:lnTo>
                          <a:lnTo>
                            <a:pt x="197" y="1149"/>
                          </a:lnTo>
                          <a:lnTo>
                            <a:pt x="169" y="1145"/>
                          </a:lnTo>
                          <a:lnTo>
                            <a:pt x="153" y="1138"/>
                          </a:lnTo>
                          <a:lnTo>
                            <a:pt x="134" y="1132"/>
                          </a:lnTo>
                          <a:lnTo>
                            <a:pt x="117" y="1124"/>
                          </a:lnTo>
                          <a:lnTo>
                            <a:pt x="123" y="1094"/>
                          </a:lnTo>
                          <a:lnTo>
                            <a:pt x="126" y="1060"/>
                          </a:lnTo>
                          <a:lnTo>
                            <a:pt x="129" y="1024"/>
                          </a:lnTo>
                          <a:lnTo>
                            <a:pt x="133" y="980"/>
                          </a:lnTo>
                          <a:lnTo>
                            <a:pt x="138" y="928"/>
                          </a:lnTo>
                          <a:lnTo>
                            <a:pt x="141" y="868"/>
                          </a:lnTo>
                          <a:lnTo>
                            <a:pt x="136" y="815"/>
                          </a:lnTo>
                          <a:lnTo>
                            <a:pt x="135" y="761"/>
                          </a:lnTo>
                          <a:lnTo>
                            <a:pt x="129" y="704"/>
                          </a:lnTo>
                          <a:lnTo>
                            <a:pt x="123" y="653"/>
                          </a:lnTo>
                          <a:lnTo>
                            <a:pt x="118" y="605"/>
                          </a:lnTo>
                          <a:lnTo>
                            <a:pt x="114" y="562"/>
                          </a:lnTo>
                          <a:lnTo>
                            <a:pt x="111" y="520"/>
                          </a:lnTo>
                          <a:lnTo>
                            <a:pt x="108" y="483"/>
                          </a:lnTo>
                          <a:lnTo>
                            <a:pt x="105" y="444"/>
                          </a:lnTo>
                          <a:lnTo>
                            <a:pt x="99" y="401"/>
                          </a:lnTo>
                          <a:lnTo>
                            <a:pt x="93" y="354"/>
                          </a:lnTo>
                          <a:lnTo>
                            <a:pt x="81" y="314"/>
                          </a:lnTo>
                          <a:lnTo>
                            <a:pt x="70" y="273"/>
                          </a:lnTo>
                          <a:lnTo>
                            <a:pt x="59" y="238"/>
                          </a:lnTo>
                          <a:lnTo>
                            <a:pt x="53" y="204"/>
                          </a:lnTo>
                          <a:lnTo>
                            <a:pt x="48" y="166"/>
                          </a:lnTo>
                          <a:lnTo>
                            <a:pt x="43" y="128"/>
                          </a:lnTo>
                          <a:lnTo>
                            <a:pt x="30" y="85"/>
                          </a:lnTo>
                          <a:lnTo>
                            <a:pt x="15" y="42"/>
                          </a:lnTo>
                          <a:close/>
                        </a:path>
                      </a:pathLst>
                    </a:custGeom>
                    <a:solidFill>
                      <a:srgbClr val="4040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7534" name=""/>
                  <p:cNvSpPr/>
                  <p:nvPr/>
                </p:nvSpPr>
                <p:spPr>
                  <a:xfrm>
                    <a:off x="4790880" y="1670400"/>
                    <a:ext cx="33120" cy="31896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036">
                        <a:moveTo>
                          <a:pt x="0" y="0"/>
                        </a:moveTo>
                        <a:lnTo>
                          <a:pt x="13" y="33"/>
                        </a:lnTo>
                        <a:lnTo>
                          <a:pt x="26" y="64"/>
                        </a:lnTo>
                        <a:lnTo>
                          <a:pt x="37" y="97"/>
                        </a:lnTo>
                        <a:lnTo>
                          <a:pt x="47" y="134"/>
                        </a:lnTo>
                        <a:lnTo>
                          <a:pt x="55" y="168"/>
                        </a:lnTo>
                        <a:lnTo>
                          <a:pt x="63" y="203"/>
                        </a:lnTo>
                        <a:lnTo>
                          <a:pt x="71" y="246"/>
                        </a:lnTo>
                        <a:lnTo>
                          <a:pt x="79" y="298"/>
                        </a:lnTo>
                        <a:lnTo>
                          <a:pt x="88" y="352"/>
                        </a:lnTo>
                        <a:lnTo>
                          <a:pt x="94" y="388"/>
                        </a:lnTo>
                        <a:lnTo>
                          <a:pt x="102" y="434"/>
                        </a:lnTo>
                        <a:lnTo>
                          <a:pt x="108" y="479"/>
                        </a:lnTo>
                        <a:lnTo>
                          <a:pt x="111" y="522"/>
                        </a:lnTo>
                        <a:lnTo>
                          <a:pt x="114" y="569"/>
                        </a:lnTo>
                        <a:lnTo>
                          <a:pt x="117" y="616"/>
                        </a:lnTo>
                        <a:lnTo>
                          <a:pt x="120" y="671"/>
                        </a:lnTo>
                        <a:lnTo>
                          <a:pt x="124" y="722"/>
                        </a:lnTo>
                        <a:lnTo>
                          <a:pt x="128" y="777"/>
                        </a:lnTo>
                        <a:lnTo>
                          <a:pt x="131" y="818"/>
                        </a:lnTo>
                        <a:lnTo>
                          <a:pt x="136" y="854"/>
                        </a:lnTo>
                        <a:lnTo>
                          <a:pt x="138" y="898"/>
                        </a:lnTo>
                        <a:lnTo>
                          <a:pt x="137" y="942"/>
                        </a:lnTo>
                        <a:lnTo>
                          <a:pt x="135" y="986"/>
                        </a:lnTo>
                        <a:lnTo>
                          <a:pt x="133" y="1036"/>
                        </a:lnTo>
                      </a:path>
                    </a:pathLst>
                  </a:custGeom>
                  <a:noFill/>
                  <a:ln w="4680">
                    <a:solidFill>
                      <a:srgbClr val="c0c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7535" name=""/>
              <p:cNvGrpSpPr/>
              <p:nvPr/>
            </p:nvGrpSpPr>
            <p:grpSpPr>
              <a:xfrm>
                <a:off x="4746240" y="1629360"/>
                <a:ext cx="65160" cy="39600"/>
                <a:chOff x="4746240" y="1629360"/>
                <a:chExt cx="65160" cy="39600"/>
              </a:xfrm>
            </p:grpSpPr>
            <p:sp>
              <p:nvSpPr>
                <p:cNvPr id="7536" name=""/>
                <p:cNvSpPr/>
                <p:nvPr/>
              </p:nvSpPr>
              <p:spPr>
                <a:xfrm>
                  <a:off x="4746240" y="1629360"/>
                  <a:ext cx="65160" cy="39600"/>
                </a:xfrm>
                <a:prstGeom prst="ellipse">
                  <a:avLst/>
                </a:prstGeom>
                <a:solidFill>
                  <a:srgbClr val="4040ff"/>
                </a:solidFill>
                <a:ln w="3240">
                  <a:solidFill>
                    <a:srgbClr val="00002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37" name=""/>
                <p:cNvSpPr/>
                <p:nvPr/>
              </p:nvSpPr>
              <p:spPr>
                <a:xfrm>
                  <a:off x="4753440" y="1633680"/>
                  <a:ext cx="50400" cy="30240"/>
                </a:xfrm>
                <a:prstGeom prst="ellipse">
                  <a:avLst/>
                </a:prstGeom>
                <a:solidFill>
                  <a:srgbClr val="000080"/>
                </a:solidFill>
                <a:ln w="3240">
                  <a:solidFill>
                    <a:srgbClr val="00002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0" bIns="-25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38" name=""/>
                <p:cNvSpPr/>
                <p:nvPr/>
              </p:nvSpPr>
              <p:spPr>
                <a:xfrm>
                  <a:off x="4755960" y="1636920"/>
                  <a:ext cx="42840" cy="22680"/>
                </a:xfrm>
                <a:prstGeom prst="ellipse">
                  <a:avLst/>
                </a:prstGeom>
                <a:solidFill>
                  <a:srgbClr val="400040"/>
                </a:solidFill>
                <a:ln w="3240">
                  <a:solidFill>
                    <a:srgbClr val="00002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7539" name=""/>
          <p:cNvGrpSpPr/>
          <p:nvPr/>
        </p:nvGrpSpPr>
        <p:grpSpPr>
          <a:xfrm>
            <a:off x="5162400" y="46080"/>
            <a:ext cx="609480" cy="747360"/>
            <a:chOff x="5162400" y="46080"/>
            <a:chExt cx="609480" cy="747360"/>
          </a:xfrm>
        </p:grpSpPr>
        <p:sp>
          <p:nvSpPr>
            <p:cNvPr id="7540" name=""/>
            <p:cNvSpPr/>
            <p:nvPr/>
          </p:nvSpPr>
          <p:spPr>
            <a:xfrm flipH="1">
              <a:off x="5162400" y="46080"/>
              <a:ext cx="423360" cy="4053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41" name=""/>
            <p:cNvGrpSpPr/>
            <p:nvPr/>
          </p:nvGrpSpPr>
          <p:grpSpPr>
            <a:xfrm>
              <a:off x="5191200" y="69120"/>
              <a:ext cx="580680" cy="724320"/>
              <a:chOff x="5191200" y="69120"/>
              <a:chExt cx="580680" cy="724320"/>
            </a:xfrm>
          </p:grpSpPr>
          <p:grpSp>
            <p:nvGrpSpPr>
              <p:cNvPr id="7542" name=""/>
              <p:cNvGrpSpPr/>
              <p:nvPr/>
            </p:nvGrpSpPr>
            <p:grpSpPr>
              <a:xfrm>
                <a:off x="5549760" y="181080"/>
                <a:ext cx="222120" cy="612360"/>
                <a:chOff x="5549760" y="181080"/>
                <a:chExt cx="222120" cy="612360"/>
              </a:xfrm>
            </p:grpSpPr>
            <p:sp>
              <p:nvSpPr>
                <p:cNvPr id="7543" name=""/>
                <p:cNvSpPr/>
                <p:nvPr/>
              </p:nvSpPr>
              <p:spPr>
                <a:xfrm flipH="1">
                  <a:off x="5608080" y="181080"/>
                  <a:ext cx="122400" cy="136080"/>
                </a:xfrm>
                <a:custGeom>
                  <a:avLst/>
                  <a:gdLst/>
                  <a:ahLst/>
                  <a:rect l="l" t="t" r="r" b="b"/>
                  <a:pathLst>
                    <a:path w="490" h="538">
                      <a:moveTo>
                        <a:pt x="121" y="0"/>
                      </a:moveTo>
                      <a:lnTo>
                        <a:pt x="202" y="0"/>
                      </a:lnTo>
                      <a:lnTo>
                        <a:pt x="282" y="32"/>
                      </a:lnTo>
                      <a:lnTo>
                        <a:pt x="329" y="59"/>
                      </a:lnTo>
                      <a:lnTo>
                        <a:pt x="362" y="156"/>
                      </a:lnTo>
                      <a:lnTo>
                        <a:pt x="383" y="215"/>
                      </a:lnTo>
                      <a:lnTo>
                        <a:pt x="463" y="150"/>
                      </a:lnTo>
                      <a:lnTo>
                        <a:pt x="490" y="156"/>
                      </a:lnTo>
                      <a:lnTo>
                        <a:pt x="484" y="187"/>
                      </a:lnTo>
                      <a:lnTo>
                        <a:pt x="383" y="292"/>
                      </a:lnTo>
                      <a:lnTo>
                        <a:pt x="383" y="369"/>
                      </a:lnTo>
                      <a:lnTo>
                        <a:pt x="362" y="447"/>
                      </a:lnTo>
                      <a:lnTo>
                        <a:pt x="329" y="506"/>
                      </a:lnTo>
                      <a:lnTo>
                        <a:pt x="282" y="538"/>
                      </a:lnTo>
                      <a:lnTo>
                        <a:pt x="222" y="538"/>
                      </a:lnTo>
                      <a:lnTo>
                        <a:pt x="140" y="506"/>
                      </a:lnTo>
                      <a:lnTo>
                        <a:pt x="87" y="441"/>
                      </a:lnTo>
                      <a:lnTo>
                        <a:pt x="41" y="343"/>
                      </a:lnTo>
                      <a:lnTo>
                        <a:pt x="6" y="252"/>
                      </a:lnTo>
                      <a:lnTo>
                        <a:pt x="0" y="130"/>
                      </a:lnTo>
                      <a:lnTo>
                        <a:pt x="20" y="71"/>
                      </a:lnTo>
                      <a:lnTo>
                        <a:pt x="47" y="32"/>
                      </a:lnTo>
                      <a:lnTo>
                        <a:pt x="12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44" name=""/>
                <p:cNvSpPr/>
                <p:nvPr/>
              </p:nvSpPr>
              <p:spPr>
                <a:xfrm flipH="1">
                  <a:off x="5618880" y="334080"/>
                  <a:ext cx="86400" cy="234360"/>
                </a:xfrm>
                <a:custGeom>
                  <a:avLst/>
                  <a:gdLst/>
                  <a:ahLst/>
                  <a:rect l="l" t="t" r="r" b="b"/>
                  <a:pathLst>
                    <a:path w="347" h="929">
                      <a:moveTo>
                        <a:pt x="47" y="32"/>
                      </a:moveTo>
                      <a:lnTo>
                        <a:pt x="100" y="0"/>
                      </a:lnTo>
                      <a:lnTo>
                        <a:pt x="180" y="0"/>
                      </a:lnTo>
                      <a:lnTo>
                        <a:pt x="240" y="20"/>
                      </a:lnTo>
                      <a:lnTo>
                        <a:pt x="281" y="89"/>
                      </a:lnTo>
                      <a:lnTo>
                        <a:pt x="320" y="206"/>
                      </a:lnTo>
                      <a:lnTo>
                        <a:pt x="341" y="334"/>
                      </a:lnTo>
                      <a:lnTo>
                        <a:pt x="347" y="486"/>
                      </a:lnTo>
                      <a:lnTo>
                        <a:pt x="347" y="660"/>
                      </a:lnTo>
                      <a:lnTo>
                        <a:pt x="320" y="800"/>
                      </a:lnTo>
                      <a:lnTo>
                        <a:pt x="281" y="877"/>
                      </a:lnTo>
                      <a:lnTo>
                        <a:pt x="187" y="929"/>
                      </a:lnTo>
                      <a:lnTo>
                        <a:pt x="140" y="917"/>
                      </a:lnTo>
                      <a:lnTo>
                        <a:pt x="80" y="858"/>
                      </a:lnTo>
                      <a:lnTo>
                        <a:pt x="60" y="775"/>
                      </a:lnTo>
                      <a:lnTo>
                        <a:pt x="41" y="621"/>
                      </a:lnTo>
                      <a:lnTo>
                        <a:pt x="60" y="512"/>
                      </a:lnTo>
                      <a:lnTo>
                        <a:pt x="60" y="397"/>
                      </a:lnTo>
                      <a:lnTo>
                        <a:pt x="27" y="320"/>
                      </a:lnTo>
                      <a:lnTo>
                        <a:pt x="0" y="218"/>
                      </a:lnTo>
                      <a:lnTo>
                        <a:pt x="0" y="109"/>
                      </a:lnTo>
                      <a:lnTo>
                        <a:pt x="47" y="3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45" name=""/>
                <p:cNvSpPr/>
                <p:nvPr/>
              </p:nvSpPr>
              <p:spPr>
                <a:xfrm flipH="1">
                  <a:off x="5549400" y="342720"/>
                  <a:ext cx="114840" cy="231840"/>
                </a:xfrm>
                <a:custGeom>
                  <a:avLst/>
                  <a:gdLst/>
                  <a:ahLst/>
                  <a:rect l="l" t="t" r="r" b="b"/>
                  <a:pathLst>
                    <a:path w="460" h="918">
                      <a:moveTo>
                        <a:pt x="53" y="0"/>
                      </a:moveTo>
                      <a:lnTo>
                        <a:pt x="201" y="32"/>
                      </a:lnTo>
                      <a:lnTo>
                        <a:pt x="314" y="109"/>
                      </a:lnTo>
                      <a:lnTo>
                        <a:pt x="400" y="237"/>
                      </a:lnTo>
                      <a:lnTo>
                        <a:pt x="454" y="359"/>
                      </a:lnTo>
                      <a:lnTo>
                        <a:pt x="460" y="494"/>
                      </a:lnTo>
                      <a:lnTo>
                        <a:pt x="419" y="584"/>
                      </a:lnTo>
                      <a:lnTo>
                        <a:pt x="320" y="642"/>
                      </a:lnTo>
                      <a:lnTo>
                        <a:pt x="240" y="681"/>
                      </a:lnTo>
                      <a:lnTo>
                        <a:pt x="240" y="719"/>
                      </a:lnTo>
                      <a:lnTo>
                        <a:pt x="293" y="764"/>
                      </a:lnTo>
                      <a:lnTo>
                        <a:pt x="320" y="860"/>
                      </a:lnTo>
                      <a:lnTo>
                        <a:pt x="293" y="918"/>
                      </a:lnTo>
                      <a:lnTo>
                        <a:pt x="259" y="892"/>
                      </a:lnTo>
                      <a:lnTo>
                        <a:pt x="259" y="841"/>
                      </a:lnTo>
                      <a:lnTo>
                        <a:pt x="234" y="764"/>
                      </a:lnTo>
                      <a:lnTo>
                        <a:pt x="193" y="719"/>
                      </a:lnTo>
                      <a:lnTo>
                        <a:pt x="179" y="661"/>
                      </a:lnTo>
                      <a:lnTo>
                        <a:pt x="240" y="622"/>
                      </a:lnTo>
                      <a:lnTo>
                        <a:pt x="353" y="545"/>
                      </a:lnTo>
                      <a:lnTo>
                        <a:pt x="400" y="476"/>
                      </a:lnTo>
                      <a:lnTo>
                        <a:pt x="400" y="399"/>
                      </a:lnTo>
                      <a:lnTo>
                        <a:pt x="339" y="282"/>
                      </a:lnTo>
                      <a:lnTo>
                        <a:pt x="240" y="180"/>
                      </a:lnTo>
                      <a:lnTo>
                        <a:pt x="179" y="128"/>
                      </a:lnTo>
                      <a:lnTo>
                        <a:pt x="93" y="109"/>
                      </a:lnTo>
                      <a:lnTo>
                        <a:pt x="0" y="83"/>
                      </a:lnTo>
                      <a:lnTo>
                        <a:pt x="5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46" name=""/>
                <p:cNvSpPr/>
                <p:nvPr/>
              </p:nvSpPr>
              <p:spPr>
                <a:xfrm flipH="1">
                  <a:off x="5686920" y="342000"/>
                  <a:ext cx="84600" cy="217800"/>
                </a:xfrm>
                <a:custGeom>
                  <a:avLst/>
                  <a:gdLst/>
                  <a:ahLst/>
                  <a:rect l="l" t="t" r="r" b="b"/>
                  <a:pathLst>
                    <a:path w="341" h="861">
                      <a:moveTo>
                        <a:pt x="214" y="39"/>
                      </a:moveTo>
                      <a:lnTo>
                        <a:pt x="281" y="0"/>
                      </a:lnTo>
                      <a:lnTo>
                        <a:pt x="341" y="6"/>
                      </a:lnTo>
                      <a:lnTo>
                        <a:pt x="335" y="77"/>
                      </a:lnTo>
                      <a:lnTo>
                        <a:pt x="294" y="116"/>
                      </a:lnTo>
                      <a:lnTo>
                        <a:pt x="234" y="148"/>
                      </a:lnTo>
                      <a:lnTo>
                        <a:pt x="160" y="231"/>
                      </a:lnTo>
                      <a:lnTo>
                        <a:pt x="80" y="347"/>
                      </a:lnTo>
                      <a:lnTo>
                        <a:pt x="60" y="443"/>
                      </a:lnTo>
                      <a:lnTo>
                        <a:pt x="74" y="501"/>
                      </a:lnTo>
                      <a:lnTo>
                        <a:pt x="94" y="534"/>
                      </a:lnTo>
                      <a:lnTo>
                        <a:pt x="181" y="572"/>
                      </a:lnTo>
                      <a:lnTo>
                        <a:pt x="261" y="597"/>
                      </a:lnTo>
                      <a:lnTo>
                        <a:pt x="294" y="630"/>
                      </a:lnTo>
                      <a:lnTo>
                        <a:pt x="300" y="656"/>
                      </a:lnTo>
                      <a:lnTo>
                        <a:pt x="253" y="707"/>
                      </a:lnTo>
                      <a:lnTo>
                        <a:pt x="234" y="771"/>
                      </a:lnTo>
                      <a:lnTo>
                        <a:pt x="214" y="861"/>
                      </a:lnTo>
                      <a:lnTo>
                        <a:pt x="173" y="848"/>
                      </a:lnTo>
                      <a:lnTo>
                        <a:pt x="173" y="784"/>
                      </a:lnTo>
                      <a:lnTo>
                        <a:pt x="195" y="688"/>
                      </a:lnTo>
                      <a:lnTo>
                        <a:pt x="234" y="649"/>
                      </a:lnTo>
                      <a:lnTo>
                        <a:pt x="160" y="611"/>
                      </a:lnTo>
                      <a:lnTo>
                        <a:pt x="74" y="572"/>
                      </a:lnTo>
                      <a:lnTo>
                        <a:pt x="0" y="514"/>
                      </a:lnTo>
                      <a:lnTo>
                        <a:pt x="0" y="443"/>
                      </a:lnTo>
                      <a:lnTo>
                        <a:pt x="20" y="321"/>
                      </a:lnTo>
                      <a:lnTo>
                        <a:pt x="80" y="205"/>
                      </a:lnTo>
                      <a:lnTo>
                        <a:pt x="154" y="108"/>
                      </a:lnTo>
                      <a:lnTo>
                        <a:pt x="214" y="3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47" name=""/>
                <p:cNvSpPr/>
                <p:nvPr/>
              </p:nvSpPr>
              <p:spPr>
                <a:xfrm flipH="1">
                  <a:off x="5556960" y="533520"/>
                  <a:ext cx="100800" cy="259920"/>
                </a:xfrm>
                <a:custGeom>
                  <a:avLst/>
                  <a:gdLst/>
                  <a:ahLst/>
                  <a:rect l="l" t="t" r="r" b="b"/>
                  <a:pathLst>
                    <a:path w="402" h="1028">
                      <a:moveTo>
                        <a:pt x="27" y="0"/>
                      </a:moveTo>
                      <a:lnTo>
                        <a:pt x="120" y="38"/>
                      </a:lnTo>
                      <a:lnTo>
                        <a:pt x="167" y="135"/>
                      </a:lnTo>
                      <a:lnTo>
                        <a:pt x="181" y="307"/>
                      </a:lnTo>
                      <a:lnTo>
                        <a:pt x="167" y="593"/>
                      </a:lnTo>
                      <a:lnTo>
                        <a:pt x="128" y="817"/>
                      </a:lnTo>
                      <a:lnTo>
                        <a:pt x="107" y="913"/>
                      </a:lnTo>
                      <a:lnTo>
                        <a:pt x="147" y="933"/>
                      </a:lnTo>
                      <a:lnTo>
                        <a:pt x="227" y="856"/>
                      </a:lnTo>
                      <a:lnTo>
                        <a:pt x="322" y="799"/>
                      </a:lnTo>
                      <a:lnTo>
                        <a:pt x="348" y="805"/>
                      </a:lnTo>
                      <a:lnTo>
                        <a:pt x="402" y="842"/>
                      </a:lnTo>
                      <a:lnTo>
                        <a:pt x="402" y="862"/>
                      </a:lnTo>
                      <a:lnTo>
                        <a:pt x="288" y="913"/>
                      </a:lnTo>
                      <a:lnTo>
                        <a:pt x="167" y="977"/>
                      </a:lnTo>
                      <a:lnTo>
                        <a:pt x="68" y="1028"/>
                      </a:lnTo>
                      <a:lnTo>
                        <a:pt x="19" y="1016"/>
                      </a:lnTo>
                      <a:lnTo>
                        <a:pt x="19" y="957"/>
                      </a:lnTo>
                      <a:lnTo>
                        <a:pt x="60" y="874"/>
                      </a:lnTo>
                      <a:lnTo>
                        <a:pt x="87" y="702"/>
                      </a:lnTo>
                      <a:lnTo>
                        <a:pt x="107" y="498"/>
                      </a:lnTo>
                      <a:lnTo>
                        <a:pt x="120" y="269"/>
                      </a:lnTo>
                      <a:lnTo>
                        <a:pt x="68" y="129"/>
                      </a:lnTo>
                      <a:lnTo>
                        <a:pt x="0" y="71"/>
                      </a:lnTo>
                      <a:lnTo>
                        <a:pt x="2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48" name=""/>
                <p:cNvSpPr/>
                <p:nvPr/>
              </p:nvSpPr>
              <p:spPr>
                <a:xfrm flipH="1">
                  <a:off x="5652000" y="507240"/>
                  <a:ext cx="77040" cy="284400"/>
                </a:xfrm>
                <a:custGeom>
                  <a:avLst/>
                  <a:gdLst/>
                  <a:ahLst/>
                  <a:rect l="l" t="t" r="r" b="b"/>
                  <a:pathLst>
                    <a:path w="309" h="1127">
                      <a:moveTo>
                        <a:pt x="124" y="223"/>
                      </a:moveTo>
                      <a:lnTo>
                        <a:pt x="207" y="51"/>
                      </a:lnTo>
                      <a:lnTo>
                        <a:pt x="282" y="0"/>
                      </a:lnTo>
                      <a:lnTo>
                        <a:pt x="309" y="32"/>
                      </a:lnTo>
                      <a:lnTo>
                        <a:pt x="288" y="89"/>
                      </a:lnTo>
                      <a:lnTo>
                        <a:pt x="207" y="230"/>
                      </a:lnTo>
                      <a:lnTo>
                        <a:pt x="145" y="376"/>
                      </a:lnTo>
                      <a:lnTo>
                        <a:pt x="103" y="586"/>
                      </a:lnTo>
                      <a:lnTo>
                        <a:pt x="75" y="821"/>
                      </a:lnTo>
                      <a:lnTo>
                        <a:pt x="75" y="1025"/>
                      </a:lnTo>
                      <a:lnTo>
                        <a:pt x="97" y="1007"/>
                      </a:lnTo>
                      <a:lnTo>
                        <a:pt x="145" y="930"/>
                      </a:lnTo>
                      <a:lnTo>
                        <a:pt x="164" y="815"/>
                      </a:lnTo>
                      <a:lnTo>
                        <a:pt x="207" y="815"/>
                      </a:lnTo>
                      <a:lnTo>
                        <a:pt x="261" y="841"/>
                      </a:lnTo>
                      <a:lnTo>
                        <a:pt x="226" y="936"/>
                      </a:lnTo>
                      <a:lnTo>
                        <a:pt x="145" y="1032"/>
                      </a:lnTo>
                      <a:lnTo>
                        <a:pt x="62" y="1127"/>
                      </a:lnTo>
                      <a:lnTo>
                        <a:pt x="21" y="1127"/>
                      </a:lnTo>
                      <a:lnTo>
                        <a:pt x="0" y="1090"/>
                      </a:lnTo>
                      <a:lnTo>
                        <a:pt x="0" y="1007"/>
                      </a:lnTo>
                      <a:lnTo>
                        <a:pt x="14" y="764"/>
                      </a:lnTo>
                      <a:lnTo>
                        <a:pt x="35" y="516"/>
                      </a:lnTo>
                      <a:lnTo>
                        <a:pt x="62" y="338"/>
                      </a:lnTo>
                      <a:lnTo>
                        <a:pt x="124" y="22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549" name=""/>
              <p:cNvSpPr/>
              <p:nvPr/>
            </p:nvSpPr>
            <p:spPr>
              <a:xfrm flipH="1">
                <a:off x="5191200" y="69120"/>
                <a:ext cx="377280" cy="3650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0" name=""/>
              <p:cNvSpPr/>
              <p:nvPr/>
            </p:nvSpPr>
            <p:spPr>
              <a:xfrm rot="17359800">
                <a:off x="5400720" y="192240"/>
                <a:ext cx="145440" cy="143640"/>
              </a:xfrm>
              <a:custGeom>
                <a:avLst/>
                <a:gdLst/>
                <a:ahLst/>
                <a:rect l="l" t="t" r="r" b="b"/>
                <a:pathLst>
                  <a:path w="400" h="404">
                    <a:moveTo>
                      <a:pt x="0" y="51"/>
                    </a:moveTo>
                    <a:lnTo>
                      <a:pt x="310" y="327"/>
                    </a:lnTo>
                    <a:lnTo>
                      <a:pt x="181" y="360"/>
                    </a:lnTo>
                    <a:lnTo>
                      <a:pt x="400" y="404"/>
                    </a:lnTo>
                    <a:lnTo>
                      <a:pt x="364" y="155"/>
                    </a:lnTo>
                    <a:lnTo>
                      <a:pt x="328" y="292"/>
                    </a:lnTo>
                    <a:lnTo>
                      <a:pt x="64" y="0"/>
                    </a:lnTo>
                    <a:lnTo>
                      <a:pt x="0" y="5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551" name=""/>
          <p:cNvSpPr/>
          <p:nvPr/>
        </p:nvSpPr>
        <p:spPr>
          <a:xfrm>
            <a:off x="3053160" y="487440"/>
            <a:ext cx="23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Efektivní cirkulující obj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2" name=""/>
          <p:cNvSpPr/>
          <p:nvPr/>
        </p:nvSpPr>
        <p:spPr>
          <a:xfrm>
            <a:off x="3068280" y="2001960"/>
            <a:ext cx="279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Protažení myocytů ve stěně síně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3" name=""/>
          <p:cNvSpPr/>
          <p:nvPr/>
        </p:nvSpPr>
        <p:spPr>
          <a:xfrm>
            <a:off x="3113280" y="3103560"/>
            <a:ext cx="243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Atriální natriuretický fak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4" name=""/>
          <p:cNvSpPr/>
          <p:nvPr/>
        </p:nvSpPr>
        <p:spPr>
          <a:xfrm>
            <a:off x="3385440" y="151128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Náplň v sín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5" name=""/>
          <p:cNvSpPr/>
          <p:nvPr/>
        </p:nvSpPr>
        <p:spPr>
          <a:xfrm>
            <a:off x="1331640" y="4467240"/>
            <a:ext cx="65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Obě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6" name=""/>
          <p:cNvSpPr/>
          <p:nvPr/>
        </p:nvSpPr>
        <p:spPr>
          <a:xfrm>
            <a:off x="2693880" y="4394160"/>
            <a:ext cx="182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Endokrinní systé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7" name=""/>
          <p:cNvSpPr/>
          <p:nvPr/>
        </p:nvSpPr>
        <p:spPr>
          <a:xfrm>
            <a:off x="6135480" y="4330800"/>
            <a:ext cx="8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Ledvi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8" name=""/>
          <p:cNvSpPr/>
          <p:nvPr/>
        </p:nvSpPr>
        <p:spPr>
          <a:xfrm>
            <a:off x="1041840" y="5073480"/>
            <a:ext cx="122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Vasodilat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9" name=""/>
          <p:cNvSpPr/>
          <p:nvPr/>
        </p:nvSpPr>
        <p:spPr>
          <a:xfrm>
            <a:off x="2708280" y="4843440"/>
            <a:ext cx="66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Ren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0" name=""/>
          <p:cNvSpPr/>
          <p:nvPr/>
        </p:nvSpPr>
        <p:spPr>
          <a:xfrm>
            <a:off x="4643280" y="5291280"/>
            <a:ext cx="1896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Glomerulární filtr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1" name=""/>
          <p:cNvSpPr/>
          <p:nvPr/>
        </p:nvSpPr>
        <p:spPr>
          <a:xfrm>
            <a:off x="4820040" y="4722840"/>
            <a:ext cx="122940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Vasodilat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vas affere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2" name=""/>
          <p:cNvSpPr/>
          <p:nvPr/>
        </p:nvSpPr>
        <p:spPr>
          <a:xfrm>
            <a:off x="4520160" y="5716440"/>
            <a:ext cx="2335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Dodávka sodíku do tubulů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3" name=""/>
          <p:cNvSpPr/>
          <p:nvPr/>
        </p:nvSpPr>
        <p:spPr>
          <a:xfrm>
            <a:off x="7132680" y="4897440"/>
            <a:ext cx="1744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Resorpce sodíku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ve dřeňových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sběrných kanálcí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4" name=""/>
          <p:cNvSpPr/>
          <p:nvPr/>
        </p:nvSpPr>
        <p:spPr>
          <a:xfrm>
            <a:off x="5685480" y="6083280"/>
            <a:ext cx="214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Exkrece sodíku do moč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5" name=""/>
          <p:cNvSpPr/>
          <p:nvPr/>
        </p:nvSpPr>
        <p:spPr>
          <a:xfrm flipV="1">
            <a:off x="3011400" y="493560"/>
            <a:ext cx="0" cy="268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6" name=""/>
          <p:cNvSpPr/>
          <p:nvPr/>
        </p:nvSpPr>
        <p:spPr>
          <a:xfrm flipV="1">
            <a:off x="3354480" y="1528560"/>
            <a:ext cx="0" cy="268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7" name=""/>
          <p:cNvSpPr/>
          <p:nvPr/>
        </p:nvSpPr>
        <p:spPr>
          <a:xfrm flipV="1">
            <a:off x="3035160" y="2010960"/>
            <a:ext cx="0" cy="268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8" name=""/>
          <p:cNvSpPr/>
          <p:nvPr/>
        </p:nvSpPr>
        <p:spPr>
          <a:xfrm flipV="1">
            <a:off x="3083040" y="3155760"/>
            <a:ext cx="0" cy="268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9" name=""/>
          <p:cNvSpPr/>
          <p:nvPr/>
        </p:nvSpPr>
        <p:spPr>
          <a:xfrm flipV="1">
            <a:off x="2660760" y="4889160"/>
            <a:ext cx="0" cy="268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0" name=""/>
          <p:cNvSpPr/>
          <p:nvPr/>
        </p:nvSpPr>
        <p:spPr>
          <a:xfrm>
            <a:off x="2997720" y="5197320"/>
            <a:ext cx="108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Aldoster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1" name=""/>
          <p:cNvSpPr/>
          <p:nvPr/>
        </p:nvSpPr>
        <p:spPr>
          <a:xfrm flipV="1">
            <a:off x="2975040" y="5243400"/>
            <a:ext cx="0" cy="2685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2" name=""/>
          <p:cNvSpPr/>
          <p:nvPr/>
        </p:nvSpPr>
        <p:spPr>
          <a:xfrm>
            <a:off x="3897000" y="4911840"/>
            <a:ext cx="61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AD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3" name=""/>
          <p:cNvSpPr/>
          <p:nvPr/>
        </p:nvSpPr>
        <p:spPr>
          <a:xfrm flipV="1">
            <a:off x="3875040" y="4957560"/>
            <a:ext cx="0" cy="268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4" name=""/>
          <p:cNvSpPr/>
          <p:nvPr/>
        </p:nvSpPr>
        <p:spPr>
          <a:xfrm flipV="1">
            <a:off x="4606920" y="5368680"/>
            <a:ext cx="0" cy="268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5" name=""/>
          <p:cNvSpPr/>
          <p:nvPr/>
        </p:nvSpPr>
        <p:spPr>
          <a:xfrm flipV="1">
            <a:off x="4505400" y="5698800"/>
            <a:ext cx="0" cy="268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6" name=""/>
          <p:cNvSpPr/>
          <p:nvPr/>
        </p:nvSpPr>
        <p:spPr>
          <a:xfrm flipV="1">
            <a:off x="5659560" y="6076800"/>
            <a:ext cx="0" cy="268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7" name=""/>
          <p:cNvSpPr/>
          <p:nvPr/>
        </p:nvSpPr>
        <p:spPr>
          <a:xfrm flipV="1">
            <a:off x="7085160" y="4979880"/>
            <a:ext cx="0" cy="2685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8" name=""/>
          <p:cNvSpPr/>
          <p:nvPr/>
        </p:nvSpPr>
        <p:spPr>
          <a:xfrm>
            <a:off x="3979800" y="846000"/>
            <a:ext cx="0" cy="723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9" name=""/>
          <p:cNvSpPr/>
          <p:nvPr/>
        </p:nvSpPr>
        <p:spPr>
          <a:xfrm>
            <a:off x="3970440" y="1798560"/>
            <a:ext cx="0" cy="27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0" name=""/>
          <p:cNvSpPr/>
          <p:nvPr/>
        </p:nvSpPr>
        <p:spPr>
          <a:xfrm>
            <a:off x="3995640" y="2322360"/>
            <a:ext cx="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1" name=""/>
          <p:cNvSpPr/>
          <p:nvPr/>
        </p:nvSpPr>
        <p:spPr>
          <a:xfrm flipH="1">
            <a:off x="1955520" y="3459240"/>
            <a:ext cx="1795320" cy="103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2" name=""/>
          <p:cNvSpPr/>
          <p:nvPr/>
        </p:nvSpPr>
        <p:spPr>
          <a:xfrm>
            <a:off x="3995640" y="3494160"/>
            <a:ext cx="0" cy="98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3" name=""/>
          <p:cNvSpPr/>
          <p:nvPr/>
        </p:nvSpPr>
        <p:spPr>
          <a:xfrm>
            <a:off x="4390920" y="3519360"/>
            <a:ext cx="1765440" cy="995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4" name=""/>
          <p:cNvSpPr/>
          <p:nvPr/>
        </p:nvSpPr>
        <p:spPr>
          <a:xfrm flipH="1">
            <a:off x="5959440" y="4665600"/>
            <a:ext cx="379440" cy="227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5" name=""/>
          <p:cNvSpPr/>
          <p:nvPr/>
        </p:nvSpPr>
        <p:spPr>
          <a:xfrm>
            <a:off x="6853320" y="4665600"/>
            <a:ext cx="833400" cy="27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6" name=""/>
          <p:cNvSpPr/>
          <p:nvPr/>
        </p:nvSpPr>
        <p:spPr>
          <a:xfrm flipH="1">
            <a:off x="3094200" y="4681440"/>
            <a:ext cx="3045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7" name=""/>
          <p:cNvSpPr/>
          <p:nvPr/>
        </p:nvSpPr>
        <p:spPr>
          <a:xfrm>
            <a:off x="3591000" y="4716360"/>
            <a:ext cx="0" cy="51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8" name=""/>
          <p:cNvSpPr/>
          <p:nvPr/>
        </p:nvSpPr>
        <p:spPr>
          <a:xfrm>
            <a:off x="3809880" y="4699080"/>
            <a:ext cx="270000" cy="176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9" name=""/>
          <p:cNvSpPr/>
          <p:nvPr/>
        </p:nvSpPr>
        <p:spPr>
          <a:xfrm flipH="1">
            <a:off x="5419800" y="5221440"/>
            <a:ext cx="7920" cy="16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0" name=""/>
          <p:cNvSpPr/>
          <p:nvPr/>
        </p:nvSpPr>
        <p:spPr>
          <a:xfrm>
            <a:off x="5452920" y="5583240"/>
            <a:ext cx="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1" name=""/>
          <p:cNvSpPr/>
          <p:nvPr/>
        </p:nvSpPr>
        <p:spPr>
          <a:xfrm>
            <a:off x="5942160" y="6013440"/>
            <a:ext cx="220680" cy="1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2" name=""/>
          <p:cNvSpPr/>
          <p:nvPr/>
        </p:nvSpPr>
        <p:spPr>
          <a:xfrm flipH="1">
            <a:off x="7240320" y="5735520"/>
            <a:ext cx="539640" cy="362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3" name=""/>
          <p:cNvSpPr/>
          <p:nvPr/>
        </p:nvSpPr>
        <p:spPr>
          <a:xfrm>
            <a:off x="1668600" y="4791240"/>
            <a:ext cx="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94" name=""/>
          <p:cNvGraphicFramePr/>
          <p:nvPr/>
        </p:nvGraphicFramePr>
        <p:xfrm>
          <a:off x="6370560" y="4767120"/>
          <a:ext cx="451080" cy="573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0560" y="4767120"/>
                    <a:ext cx="451080" cy="57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596" name=""/>
          <p:cNvGrpSpPr/>
          <p:nvPr/>
        </p:nvGrpSpPr>
        <p:grpSpPr>
          <a:xfrm>
            <a:off x="542880" y="4608360"/>
            <a:ext cx="755280" cy="979200"/>
            <a:chOff x="542880" y="4608360"/>
            <a:chExt cx="755280" cy="979200"/>
          </a:xfrm>
        </p:grpSpPr>
        <p:sp>
          <p:nvSpPr>
            <p:cNvPr id="7597" name=""/>
            <p:cNvSpPr/>
            <p:nvPr/>
          </p:nvSpPr>
          <p:spPr>
            <a:xfrm>
              <a:off x="946440" y="5017680"/>
              <a:ext cx="130680" cy="95400"/>
            </a:xfrm>
            <a:custGeom>
              <a:avLst/>
              <a:gdLst/>
              <a:ahLst/>
              <a:rect l="l" t="t" r="r" b="b"/>
              <a:pathLst>
                <a:path w="326" h="434">
                  <a:moveTo>
                    <a:pt x="240" y="3"/>
                  </a:moveTo>
                  <a:lnTo>
                    <a:pt x="273" y="0"/>
                  </a:lnTo>
                  <a:lnTo>
                    <a:pt x="297" y="13"/>
                  </a:lnTo>
                  <a:lnTo>
                    <a:pt x="313" y="34"/>
                  </a:lnTo>
                  <a:lnTo>
                    <a:pt x="323" y="65"/>
                  </a:lnTo>
                  <a:lnTo>
                    <a:pt x="326" y="89"/>
                  </a:lnTo>
                  <a:lnTo>
                    <a:pt x="326" y="126"/>
                  </a:lnTo>
                  <a:lnTo>
                    <a:pt x="321" y="164"/>
                  </a:lnTo>
                  <a:lnTo>
                    <a:pt x="316" y="195"/>
                  </a:lnTo>
                  <a:lnTo>
                    <a:pt x="307" y="232"/>
                  </a:lnTo>
                  <a:lnTo>
                    <a:pt x="294" y="261"/>
                  </a:lnTo>
                  <a:lnTo>
                    <a:pt x="277" y="299"/>
                  </a:lnTo>
                  <a:lnTo>
                    <a:pt x="263" y="331"/>
                  </a:lnTo>
                  <a:lnTo>
                    <a:pt x="245" y="359"/>
                  </a:lnTo>
                  <a:lnTo>
                    <a:pt x="219" y="385"/>
                  </a:lnTo>
                  <a:lnTo>
                    <a:pt x="187" y="413"/>
                  </a:lnTo>
                  <a:lnTo>
                    <a:pt x="156" y="419"/>
                  </a:lnTo>
                  <a:lnTo>
                    <a:pt x="126" y="429"/>
                  </a:lnTo>
                  <a:lnTo>
                    <a:pt x="99" y="434"/>
                  </a:lnTo>
                  <a:lnTo>
                    <a:pt x="65" y="424"/>
                  </a:lnTo>
                  <a:lnTo>
                    <a:pt x="31" y="395"/>
                  </a:lnTo>
                  <a:lnTo>
                    <a:pt x="11" y="374"/>
                  </a:lnTo>
                  <a:lnTo>
                    <a:pt x="5" y="349"/>
                  </a:lnTo>
                  <a:lnTo>
                    <a:pt x="0" y="310"/>
                  </a:lnTo>
                  <a:lnTo>
                    <a:pt x="9" y="266"/>
                  </a:lnTo>
                  <a:lnTo>
                    <a:pt x="21" y="234"/>
                  </a:lnTo>
                  <a:lnTo>
                    <a:pt x="34" y="208"/>
                  </a:lnTo>
                  <a:lnTo>
                    <a:pt x="66" y="166"/>
                  </a:lnTo>
                  <a:lnTo>
                    <a:pt x="94" y="154"/>
                  </a:lnTo>
                  <a:lnTo>
                    <a:pt x="122" y="146"/>
                  </a:lnTo>
                  <a:lnTo>
                    <a:pt x="177" y="78"/>
                  </a:lnTo>
                  <a:lnTo>
                    <a:pt x="196" y="44"/>
                  </a:lnTo>
                  <a:lnTo>
                    <a:pt x="216" y="22"/>
                  </a:lnTo>
                  <a:lnTo>
                    <a:pt x="240" y="3"/>
                  </a:lnTo>
                  <a:close/>
                </a:path>
              </a:pathLst>
            </a:custGeom>
            <a:solidFill>
              <a:srgbClr val="dfd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8" name=""/>
            <p:cNvSpPr/>
            <p:nvPr/>
          </p:nvSpPr>
          <p:spPr>
            <a:xfrm>
              <a:off x="968400" y="5070960"/>
              <a:ext cx="127080" cy="68760"/>
            </a:xfrm>
            <a:custGeom>
              <a:avLst/>
              <a:gdLst/>
              <a:ahLst/>
              <a:rect l="l" t="t" r="r" b="b"/>
              <a:pathLst>
                <a:path w="317" h="314">
                  <a:moveTo>
                    <a:pt x="276" y="8"/>
                  </a:moveTo>
                  <a:lnTo>
                    <a:pt x="297" y="0"/>
                  </a:lnTo>
                  <a:lnTo>
                    <a:pt x="309" y="11"/>
                  </a:lnTo>
                  <a:lnTo>
                    <a:pt x="315" y="34"/>
                  </a:lnTo>
                  <a:lnTo>
                    <a:pt x="315" y="55"/>
                  </a:lnTo>
                  <a:lnTo>
                    <a:pt x="317" y="83"/>
                  </a:lnTo>
                  <a:lnTo>
                    <a:pt x="317" y="104"/>
                  </a:lnTo>
                  <a:lnTo>
                    <a:pt x="317" y="132"/>
                  </a:lnTo>
                  <a:lnTo>
                    <a:pt x="317" y="166"/>
                  </a:lnTo>
                  <a:lnTo>
                    <a:pt x="315" y="195"/>
                  </a:lnTo>
                  <a:lnTo>
                    <a:pt x="307" y="224"/>
                  </a:lnTo>
                  <a:lnTo>
                    <a:pt x="292" y="250"/>
                  </a:lnTo>
                  <a:lnTo>
                    <a:pt x="268" y="272"/>
                  </a:lnTo>
                  <a:lnTo>
                    <a:pt x="240" y="289"/>
                  </a:lnTo>
                  <a:lnTo>
                    <a:pt x="195" y="304"/>
                  </a:lnTo>
                  <a:lnTo>
                    <a:pt x="154" y="311"/>
                  </a:lnTo>
                  <a:lnTo>
                    <a:pt x="115" y="314"/>
                  </a:lnTo>
                  <a:lnTo>
                    <a:pt x="71" y="311"/>
                  </a:lnTo>
                  <a:lnTo>
                    <a:pt x="41" y="304"/>
                  </a:lnTo>
                  <a:lnTo>
                    <a:pt x="15" y="299"/>
                  </a:lnTo>
                  <a:lnTo>
                    <a:pt x="0" y="286"/>
                  </a:lnTo>
                  <a:lnTo>
                    <a:pt x="2" y="268"/>
                  </a:lnTo>
                  <a:lnTo>
                    <a:pt x="19" y="254"/>
                  </a:lnTo>
                  <a:lnTo>
                    <a:pt x="52" y="244"/>
                  </a:lnTo>
                  <a:lnTo>
                    <a:pt x="88" y="226"/>
                  </a:lnTo>
                  <a:lnTo>
                    <a:pt x="125" y="211"/>
                  </a:lnTo>
                  <a:lnTo>
                    <a:pt x="166" y="179"/>
                  </a:lnTo>
                  <a:lnTo>
                    <a:pt x="193" y="153"/>
                  </a:lnTo>
                  <a:lnTo>
                    <a:pt x="209" y="133"/>
                  </a:lnTo>
                  <a:lnTo>
                    <a:pt x="226" y="104"/>
                  </a:lnTo>
                  <a:lnTo>
                    <a:pt x="239" y="73"/>
                  </a:lnTo>
                  <a:lnTo>
                    <a:pt x="248" y="41"/>
                  </a:lnTo>
                  <a:lnTo>
                    <a:pt x="261" y="21"/>
                  </a:lnTo>
                  <a:lnTo>
                    <a:pt x="276" y="8"/>
                  </a:lnTo>
                  <a:close/>
                </a:path>
              </a:pathLst>
            </a:custGeom>
            <a:solidFill>
              <a:srgbClr val="dfd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9" name=""/>
            <p:cNvSpPr/>
            <p:nvPr/>
          </p:nvSpPr>
          <p:spPr>
            <a:xfrm>
              <a:off x="766440" y="5019840"/>
              <a:ext cx="130680" cy="95400"/>
            </a:xfrm>
            <a:custGeom>
              <a:avLst/>
              <a:gdLst/>
              <a:ahLst/>
              <a:rect l="l" t="t" r="r" b="b"/>
              <a:pathLst>
                <a:path w="326" h="435">
                  <a:moveTo>
                    <a:pt x="86" y="4"/>
                  </a:moveTo>
                  <a:lnTo>
                    <a:pt x="53" y="0"/>
                  </a:lnTo>
                  <a:lnTo>
                    <a:pt x="29" y="13"/>
                  </a:lnTo>
                  <a:lnTo>
                    <a:pt x="13" y="35"/>
                  </a:lnTo>
                  <a:lnTo>
                    <a:pt x="3" y="65"/>
                  </a:lnTo>
                  <a:lnTo>
                    <a:pt x="0" y="90"/>
                  </a:lnTo>
                  <a:lnTo>
                    <a:pt x="0" y="127"/>
                  </a:lnTo>
                  <a:lnTo>
                    <a:pt x="5" y="165"/>
                  </a:lnTo>
                  <a:lnTo>
                    <a:pt x="9" y="196"/>
                  </a:lnTo>
                  <a:lnTo>
                    <a:pt x="19" y="233"/>
                  </a:lnTo>
                  <a:lnTo>
                    <a:pt x="32" y="262"/>
                  </a:lnTo>
                  <a:lnTo>
                    <a:pt x="48" y="300"/>
                  </a:lnTo>
                  <a:lnTo>
                    <a:pt x="63" y="332"/>
                  </a:lnTo>
                  <a:lnTo>
                    <a:pt x="81" y="360"/>
                  </a:lnTo>
                  <a:lnTo>
                    <a:pt x="107" y="386"/>
                  </a:lnTo>
                  <a:lnTo>
                    <a:pt x="139" y="413"/>
                  </a:lnTo>
                  <a:lnTo>
                    <a:pt x="170" y="420"/>
                  </a:lnTo>
                  <a:lnTo>
                    <a:pt x="199" y="430"/>
                  </a:lnTo>
                  <a:lnTo>
                    <a:pt x="227" y="435"/>
                  </a:lnTo>
                  <a:lnTo>
                    <a:pt x="261" y="425"/>
                  </a:lnTo>
                  <a:lnTo>
                    <a:pt x="295" y="396"/>
                  </a:lnTo>
                  <a:lnTo>
                    <a:pt x="315" y="374"/>
                  </a:lnTo>
                  <a:lnTo>
                    <a:pt x="321" y="350"/>
                  </a:lnTo>
                  <a:lnTo>
                    <a:pt x="326" y="311"/>
                  </a:lnTo>
                  <a:lnTo>
                    <a:pt x="316" y="267"/>
                  </a:lnTo>
                  <a:lnTo>
                    <a:pt x="305" y="235"/>
                  </a:lnTo>
                  <a:lnTo>
                    <a:pt x="292" y="209"/>
                  </a:lnTo>
                  <a:lnTo>
                    <a:pt x="260" y="166"/>
                  </a:lnTo>
                  <a:lnTo>
                    <a:pt x="232" y="155"/>
                  </a:lnTo>
                  <a:lnTo>
                    <a:pt x="204" y="147"/>
                  </a:lnTo>
                  <a:lnTo>
                    <a:pt x="149" y="78"/>
                  </a:lnTo>
                  <a:lnTo>
                    <a:pt x="130" y="44"/>
                  </a:lnTo>
                  <a:lnTo>
                    <a:pt x="110" y="23"/>
                  </a:lnTo>
                  <a:lnTo>
                    <a:pt x="86" y="4"/>
                  </a:lnTo>
                  <a:close/>
                </a:path>
              </a:pathLst>
            </a:custGeom>
            <a:solidFill>
              <a:srgbClr val="dfd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0" name=""/>
            <p:cNvSpPr/>
            <p:nvPr/>
          </p:nvSpPr>
          <p:spPr>
            <a:xfrm>
              <a:off x="748080" y="5073120"/>
              <a:ext cx="126360" cy="68760"/>
            </a:xfrm>
            <a:custGeom>
              <a:avLst/>
              <a:gdLst/>
              <a:ahLst/>
              <a:rect l="l" t="t" r="r" b="b"/>
              <a:pathLst>
                <a:path w="317" h="314">
                  <a:moveTo>
                    <a:pt x="41" y="8"/>
                  </a:moveTo>
                  <a:lnTo>
                    <a:pt x="20" y="0"/>
                  </a:lnTo>
                  <a:lnTo>
                    <a:pt x="8" y="11"/>
                  </a:lnTo>
                  <a:lnTo>
                    <a:pt x="2" y="34"/>
                  </a:lnTo>
                  <a:lnTo>
                    <a:pt x="2" y="55"/>
                  </a:lnTo>
                  <a:lnTo>
                    <a:pt x="0" y="83"/>
                  </a:lnTo>
                  <a:lnTo>
                    <a:pt x="0" y="104"/>
                  </a:lnTo>
                  <a:lnTo>
                    <a:pt x="0" y="131"/>
                  </a:lnTo>
                  <a:lnTo>
                    <a:pt x="0" y="166"/>
                  </a:lnTo>
                  <a:lnTo>
                    <a:pt x="2" y="195"/>
                  </a:lnTo>
                  <a:lnTo>
                    <a:pt x="10" y="224"/>
                  </a:lnTo>
                  <a:lnTo>
                    <a:pt x="25" y="250"/>
                  </a:lnTo>
                  <a:lnTo>
                    <a:pt x="49" y="271"/>
                  </a:lnTo>
                  <a:lnTo>
                    <a:pt x="77" y="289"/>
                  </a:lnTo>
                  <a:lnTo>
                    <a:pt x="122" y="304"/>
                  </a:lnTo>
                  <a:lnTo>
                    <a:pt x="163" y="310"/>
                  </a:lnTo>
                  <a:lnTo>
                    <a:pt x="202" y="314"/>
                  </a:lnTo>
                  <a:lnTo>
                    <a:pt x="245" y="310"/>
                  </a:lnTo>
                  <a:lnTo>
                    <a:pt x="276" y="304"/>
                  </a:lnTo>
                  <a:lnTo>
                    <a:pt x="302" y="299"/>
                  </a:lnTo>
                  <a:lnTo>
                    <a:pt x="317" y="286"/>
                  </a:lnTo>
                  <a:lnTo>
                    <a:pt x="315" y="268"/>
                  </a:lnTo>
                  <a:lnTo>
                    <a:pt x="297" y="253"/>
                  </a:lnTo>
                  <a:lnTo>
                    <a:pt x="265" y="244"/>
                  </a:lnTo>
                  <a:lnTo>
                    <a:pt x="229" y="226"/>
                  </a:lnTo>
                  <a:lnTo>
                    <a:pt x="192" y="211"/>
                  </a:lnTo>
                  <a:lnTo>
                    <a:pt x="151" y="179"/>
                  </a:lnTo>
                  <a:lnTo>
                    <a:pt x="124" y="153"/>
                  </a:lnTo>
                  <a:lnTo>
                    <a:pt x="107" y="133"/>
                  </a:lnTo>
                  <a:lnTo>
                    <a:pt x="91" y="104"/>
                  </a:lnTo>
                  <a:lnTo>
                    <a:pt x="78" y="73"/>
                  </a:lnTo>
                  <a:lnTo>
                    <a:pt x="68" y="40"/>
                  </a:lnTo>
                  <a:lnTo>
                    <a:pt x="55" y="21"/>
                  </a:lnTo>
                  <a:lnTo>
                    <a:pt x="41" y="8"/>
                  </a:lnTo>
                  <a:close/>
                </a:path>
              </a:pathLst>
            </a:custGeom>
            <a:solidFill>
              <a:srgbClr val="dfd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1" name=""/>
            <p:cNvSpPr/>
            <p:nvPr/>
          </p:nvSpPr>
          <p:spPr>
            <a:xfrm>
              <a:off x="960120" y="5047560"/>
              <a:ext cx="38520" cy="21960"/>
            </a:xfrm>
            <a:custGeom>
              <a:avLst/>
              <a:gdLst/>
              <a:ahLst/>
              <a:rect l="l" t="t" r="r" b="b"/>
              <a:pathLst>
                <a:path w="96" h="99">
                  <a:moveTo>
                    <a:pt x="0" y="0"/>
                  </a:moveTo>
                  <a:lnTo>
                    <a:pt x="19" y="7"/>
                  </a:lnTo>
                  <a:lnTo>
                    <a:pt x="27" y="13"/>
                  </a:lnTo>
                  <a:lnTo>
                    <a:pt x="39" y="26"/>
                  </a:lnTo>
                  <a:lnTo>
                    <a:pt x="49" y="34"/>
                  </a:lnTo>
                  <a:lnTo>
                    <a:pt x="53" y="43"/>
                  </a:lnTo>
                  <a:lnTo>
                    <a:pt x="65" y="59"/>
                  </a:lnTo>
                  <a:lnTo>
                    <a:pt x="75" y="70"/>
                  </a:lnTo>
                  <a:lnTo>
                    <a:pt x="83" y="78"/>
                  </a:lnTo>
                  <a:lnTo>
                    <a:pt x="89" y="86"/>
                  </a:lnTo>
                  <a:lnTo>
                    <a:pt x="94" y="95"/>
                  </a:lnTo>
                  <a:lnTo>
                    <a:pt x="96" y="99"/>
                  </a:lnTo>
                </a:path>
              </a:pathLst>
            </a:custGeom>
            <a:noFill/>
            <a:ln w="9360">
              <a:solidFill>
                <a:srgbClr val="7f3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2" name=""/>
            <p:cNvSpPr/>
            <p:nvPr/>
          </p:nvSpPr>
          <p:spPr>
            <a:xfrm>
              <a:off x="895320" y="5032800"/>
              <a:ext cx="30960" cy="3960"/>
            </a:xfrm>
            <a:custGeom>
              <a:avLst/>
              <a:gdLst/>
              <a:ahLst/>
              <a:rect l="l" t="t" r="r" b="b"/>
              <a:pathLst>
                <a:path w="76" h="18">
                  <a:moveTo>
                    <a:pt x="76" y="6"/>
                  </a:moveTo>
                  <a:lnTo>
                    <a:pt x="54" y="0"/>
                  </a:lnTo>
                  <a:lnTo>
                    <a:pt x="34" y="0"/>
                  </a:lnTo>
                  <a:lnTo>
                    <a:pt x="24" y="0"/>
                  </a:lnTo>
                  <a:lnTo>
                    <a:pt x="10" y="5"/>
                  </a:lnTo>
                  <a:lnTo>
                    <a:pt x="5" y="11"/>
                  </a:lnTo>
                  <a:lnTo>
                    <a:pt x="0" y="18"/>
                  </a:lnTo>
                </a:path>
              </a:pathLst>
            </a:custGeom>
            <a:noFill/>
            <a:ln w="9360">
              <a:solidFill>
                <a:srgbClr val="7f3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3" name=""/>
            <p:cNvSpPr/>
            <p:nvPr/>
          </p:nvSpPr>
          <p:spPr>
            <a:xfrm>
              <a:off x="888840" y="5056200"/>
              <a:ext cx="19800" cy="3240"/>
            </a:xfrm>
            <a:custGeom>
              <a:avLst/>
              <a:gdLst/>
              <a:ahLst/>
              <a:rect l="l" t="t" r="r" b="b"/>
              <a:pathLst>
                <a:path w="50" h="16">
                  <a:moveTo>
                    <a:pt x="0" y="16"/>
                  </a:moveTo>
                  <a:lnTo>
                    <a:pt x="5" y="6"/>
                  </a:lnTo>
                  <a:lnTo>
                    <a:pt x="15" y="1"/>
                  </a:lnTo>
                  <a:lnTo>
                    <a:pt x="28" y="0"/>
                  </a:lnTo>
                  <a:lnTo>
                    <a:pt x="42" y="3"/>
                  </a:lnTo>
                  <a:lnTo>
                    <a:pt x="50" y="11"/>
                  </a:lnTo>
                </a:path>
              </a:pathLst>
            </a:custGeom>
            <a:noFill/>
            <a:ln w="9360">
              <a:solidFill>
                <a:srgbClr val="7f3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4" name=""/>
            <p:cNvSpPr/>
            <p:nvPr/>
          </p:nvSpPr>
          <p:spPr>
            <a:xfrm>
              <a:off x="886320" y="5059080"/>
              <a:ext cx="5400" cy="2160"/>
            </a:xfrm>
            <a:custGeom>
              <a:avLst/>
              <a:gdLst/>
              <a:ahLst/>
              <a:rect l="l" t="t" r="r" b="b"/>
              <a:pathLst>
                <a:path w="15" h="10">
                  <a:moveTo>
                    <a:pt x="0" y="0"/>
                  </a:moveTo>
                  <a:lnTo>
                    <a:pt x="5" y="4"/>
                  </a:lnTo>
                  <a:lnTo>
                    <a:pt x="15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7f3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5" name=""/>
            <p:cNvSpPr/>
            <p:nvPr/>
          </p:nvSpPr>
          <p:spPr>
            <a:xfrm>
              <a:off x="786240" y="5029920"/>
              <a:ext cx="140760" cy="557640"/>
            </a:xfrm>
            <a:custGeom>
              <a:avLst/>
              <a:gdLst/>
              <a:ahLst/>
              <a:rect l="l" t="t" r="r" b="b"/>
              <a:pathLst>
                <a:path w="353" h="2533">
                  <a:moveTo>
                    <a:pt x="353" y="0"/>
                  </a:moveTo>
                  <a:lnTo>
                    <a:pt x="309" y="27"/>
                  </a:lnTo>
                  <a:lnTo>
                    <a:pt x="279" y="48"/>
                  </a:lnTo>
                  <a:lnTo>
                    <a:pt x="252" y="68"/>
                  </a:lnTo>
                  <a:lnTo>
                    <a:pt x="223" y="89"/>
                  </a:lnTo>
                  <a:lnTo>
                    <a:pt x="185" y="122"/>
                  </a:lnTo>
                  <a:lnTo>
                    <a:pt x="154" y="157"/>
                  </a:lnTo>
                  <a:lnTo>
                    <a:pt x="130" y="193"/>
                  </a:lnTo>
                  <a:lnTo>
                    <a:pt x="117" y="211"/>
                  </a:lnTo>
                  <a:lnTo>
                    <a:pt x="104" y="237"/>
                  </a:lnTo>
                  <a:lnTo>
                    <a:pt x="94" y="265"/>
                  </a:lnTo>
                  <a:lnTo>
                    <a:pt x="84" y="297"/>
                  </a:lnTo>
                  <a:lnTo>
                    <a:pt x="80" y="326"/>
                  </a:lnTo>
                  <a:lnTo>
                    <a:pt x="75" y="362"/>
                  </a:lnTo>
                  <a:lnTo>
                    <a:pt x="73" y="400"/>
                  </a:lnTo>
                  <a:lnTo>
                    <a:pt x="70" y="450"/>
                  </a:lnTo>
                  <a:lnTo>
                    <a:pt x="68" y="499"/>
                  </a:lnTo>
                  <a:lnTo>
                    <a:pt x="68" y="549"/>
                  </a:lnTo>
                  <a:lnTo>
                    <a:pt x="68" y="579"/>
                  </a:lnTo>
                  <a:lnTo>
                    <a:pt x="71" y="647"/>
                  </a:lnTo>
                  <a:lnTo>
                    <a:pt x="75" y="714"/>
                  </a:lnTo>
                  <a:lnTo>
                    <a:pt x="80" y="785"/>
                  </a:lnTo>
                  <a:lnTo>
                    <a:pt x="86" y="904"/>
                  </a:lnTo>
                  <a:lnTo>
                    <a:pt x="91" y="975"/>
                  </a:lnTo>
                  <a:lnTo>
                    <a:pt x="94" y="1036"/>
                  </a:lnTo>
                  <a:lnTo>
                    <a:pt x="96" y="1166"/>
                  </a:lnTo>
                  <a:lnTo>
                    <a:pt x="60" y="1198"/>
                  </a:lnTo>
                  <a:lnTo>
                    <a:pt x="96" y="1171"/>
                  </a:lnTo>
                  <a:lnTo>
                    <a:pt x="63" y="1211"/>
                  </a:lnTo>
                  <a:lnTo>
                    <a:pt x="94" y="1177"/>
                  </a:lnTo>
                  <a:lnTo>
                    <a:pt x="78" y="1218"/>
                  </a:lnTo>
                  <a:lnTo>
                    <a:pt x="96" y="1184"/>
                  </a:lnTo>
                  <a:lnTo>
                    <a:pt x="96" y="1244"/>
                  </a:lnTo>
                  <a:lnTo>
                    <a:pt x="115" y="956"/>
                  </a:lnTo>
                  <a:lnTo>
                    <a:pt x="109" y="787"/>
                  </a:lnTo>
                  <a:lnTo>
                    <a:pt x="104" y="709"/>
                  </a:lnTo>
                  <a:lnTo>
                    <a:pt x="101" y="653"/>
                  </a:lnTo>
                  <a:lnTo>
                    <a:pt x="101" y="600"/>
                  </a:lnTo>
                  <a:lnTo>
                    <a:pt x="101" y="551"/>
                  </a:lnTo>
                  <a:lnTo>
                    <a:pt x="101" y="509"/>
                  </a:lnTo>
                  <a:lnTo>
                    <a:pt x="104" y="473"/>
                  </a:lnTo>
                  <a:lnTo>
                    <a:pt x="106" y="435"/>
                  </a:lnTo>
                  <a:lnTo>
                    <a:pt x="110" y="392"/>
                  </a:lnTo>
                  <a:lnTo>
                    <a:pt x="127" y="413"/>
                  </a:lnTo>
                  <a:lnTo>
                    <a:pt x="148" y="455"/>
                  </a:lnTo>
                  <a:lnTo>
                    <a:pt x="162" y="489"/>
                  </a:lnTo>
                  <a:lnTo>
                    <a:pt x="175" y="522"/>
                  </a:lnTo>
                  <a:lnTo>
                    <a:pt x="185" y="554"/>
                  </a:lnTo>
                  <a:lnTo>
                    <a:pt x="192" y="579"/>
                  </a:lnTo>
                  <a:lnTo>
                    <a:pt x="195" y="609"/>
                  </a:lnTo>
                  <a:lnTo>
                    <a:pt x="198" y="639"/>
                  </a:lnTo>
                  <a:lnTo>
                    <a:pt x="198" y="725"/>
                  </a:lnTo>
                  <a:lnTo>
                    <a:pt x="197" y="792"/>
                  </a:lnTo>
                  <a:lnTo>
                    <a:pt x="195" y="941"/>
                  </a:lnTo>
                  <a:lnTo>
                    <a:pt x="190" y="1182"/>
                  </a:lnTo>
                  <a:lnTo>
                    <a:pt x="184" y="1253"/>
                  </a:lnTo>
                  <a:lnTo>
                    <a:pt x="175" y="1296"/>
                  </a:lnTo>
                  <a:lnTo>
                    <a:pt x="164" y="1349"/>
                  </a:lnTo>
                  <a:lnTo>
                    <a:pt x="161" y="1362"/>
                  </a:lnTo>
                  <a:lnTo>
                    <a:pt x="135" y="1442"/>
                  </a:lnTo>
                  <a:lnTo>
                    <a:pt x="123" y="1507"/>
                  </a:lnTo>
                  <a:lnTo>
                    <a:pt x="107" y="1528"/>
                  </a:lnTo>
                  <a:lnTo>
                    <a:pt x="88" y="1545"/>
                  </a:lnTo>
                  <a:lnTo>
                    <a:pt x="62" y="1566"/>
                  </a:lnTo>
                  <a:lnTo>
                    <a:pt x="45" y="1585"/>
                  </a:lnTo>
                  <a:lnTo>
                    <a:pt x="29" y="1605"/>
                  </a:lnTo>
                  <a:lnTo>
                    <a:pt x="18" y="1624"/>
                  </a:lnTo>
                  <a:lnTo>
                    <a:pt x="10" y="1649"/>
                  </a:lnTo>
                  <a:lnTo>
                    <a:pt x="5" y="1668"/>
                  </a:lnTo>
                  <a:lnTo>
                    <a:pt x="2" y="1691"/>
                  </a:lnTo>
                  <a:lnTo>
                    <a:pt x="0" y="1722"/>
                  </a:lnTo>
                  <a:lnTo>
                    <a:pt x="2" y="1746"/>
                  </a:lnTo>
                  <a:lnTo>
                    <a:pt x="8" y="1782"/>
                  </a:lnTo>
                  <a:lnTo>
                    <a:pt x="16" y="1813"/>
                  </a:lnTo>
                  <a:lnTo>
                    <a:pt x="31" y="1849"/>
                  </a:lnTo>
                  <a:lnTo>
                    <a:pt x="50" y="1891"/>
                  </a:lnTo>
                  <a:lnTo>
                    <a:pt x="62" y="1915"/>
                  </a:lnTo>
                  <a:lnTo>
                    <a:pt x="73" y="1941"/>
                  </a:lnTo>
                  <a:lnTo>
                    <a:pt x="84" y="1961"/>
                  </a:lnTo>
                  <a:lnTo>
                    <a:pt x="89" y="1984"/>
                  </a:lnTo>
                  <a:lnTo>
                    <a:pt x="91" y="2010"/>
                  </a:lnTo>
                  <a:lnTo>
                    <a:pt x="89" y="2037"/>
                  </a:lnTo>
                  <a:lnTo>
                    <a:pt x="84" y="2156"/>
                  </a:lnTo>
                  <a:lnTo>
                    <a:pt x="83" y="2171"/>
                  </a:lnTo>
                  <a:lnTo>
                    <a:pt x="88" y="2189"/>
                  </a:lnTo>
                  <a:lnTo>
                    <a:pt x="93" y="2203"/>
                  </a:lnTo>
                  <a:lnTo>
                    <a:pt x="125" y="2299"/>
                  </a:lnTo>
                  <a:lnTo>
                    <a:pt x="127" y="2307"/>
                  </a:lnTo>
                  <a:lnTo>
                    <a:pt x="122" y="2330"/>
                  </a:lnTo>
                  <a:lnTo>
                    <a:pt x="115" y="2350"/>
                  </a:lnTo>
                  <a:lnTo>
                    <a:pt x="107" y="2364"/>
                  </a:lnTo>
                  <a:lnTo>
                    <a:pt x="76" y="2411"/>
                  </a:lnTo>
                  <a:lnTo>
                    <a:pt x="97" y="2389"/>
                  </a:lnTo>
                  <a:lnTo>
                    <a:pt x="112" y="2369"/>
                  </a:lnTo>
                  <a:lnTo>
                    <a:pt x="122" y="2355"/>
                  </a:lnTo>
                  <a:lnTo>
                    <a:pt x="128" y="2338"/>
                  </a:lnTo>
                  <a:lnTo>
                    <a:pt x="132" y="2322"/>
                  </a:lnTo>
                  <a:lnTo>
                    <a:pt x="143" y="2359"/>
                  </a:lnTo>
                  <a:lnTo>
                    <a:pt x="140" y="2376"/>
                  </a:lnTo>
                  <a:lnTo>
                    <a:pt x="128" y="2397"/>
                  </a:lnTo>
                  <a:lnTo>
                    <a:pt x="120" y="2408"/>
                  </a:lnTo>
                  <a:lnTo>
                    <a:pt x="110" y="2420"/>
                  </a:lnTo>
                  <a:lnTo>
                    <a:pt x="96" y="2433"/>
                  </a:lnTo>
                  <a:lnTo>
                    <a:pt x="55" y="2462"/>
                  </a:lnTo>
                  <a:lnTo>
                    <a:pt x="89" y="2441"/>
                  </a:lnTo>
                  <a:lnTo>
                    <a:pt x="94" y="2449"/>
                  </a:lnTo>
                  <a:lnTo>
                    <a:pt x="93" y="2486"/>
                  </a:lnTo>
                  <a:lnTo>
                    <a:pt x="99" y="2459"/>
                  </a:lnTo>
                  <a:lnTo>
                    <a:pt x="96" y="2439"/>
                  </a:lnTo>
                  <a:lnTo>
                    <a:pt x="114" y="2428"/>
                  </a:lnTo>
                  <a:lnTo>
                    <a:pt x="132" y="2410"/>
                  </a:lnTo>
                  <a:lnTo>
                    <a:pt x="141" y="2397"/>
                  </a:lnTo>
                  <a:lnTo>
                    <a:pt x="151" y="2376"/>
                  </a:lnTo>
                  <a:lnTo>
                    <a:pt x="159" y="2390"/>
                  </a:lnTo>
                  <a:lnTo>
                    <a:pt x="171" y="2416"/>
                  </a:lnTo>
                  <a:lnTo>
                    <a:pt x="164" y="2429"/>
                  </a:lnTo>
                  <a:lnTo>
                    <a:pt x="145" y="2447"/>
                  </a:lnTo>
                  <a:lnTo>
                    <a:pt x="161" y="2439"/>
                  </a:lnTo>
                  <a:lnTo>
                    <a:pt x="174" y="2428"/>
                  </a:lnTo>
                  <a:lnTo>
                    <a:pt x="221" y="2533"/>
                  </a:lnTo>
                  <a:lnTo>
                    <a:pt x="167" y="2384"/>
                  </a:lnTo>
                  <a:lnTo>
                    <a:pt x="149" y="2342"/>
                  </a:lnTo>
                  <a:lnTo>
                    <a:pt x="143" y="2325"/>
                  </a:lnTo>
                  <a:lnTo>
                    <a:pt x="140" y="2307"/>
                  </a:lnTo>
                  <a:lnTo>
                    <a:pt x="130" y="2276"/>
                  </a:lnTo>
                  <a:lnTo>
                    <a:pt x="107" y="2205"/>
                  </a:lnTo>
                  <a:lnTo>
                    <a:pt x="101" y="2181"/>
                  </a:lnTo>
                  <a:lnTo>
                    <a:pt x="97" y="2163"/>
                  </a:lnTo>
                  <a:lnTo>
                    <a:pt x="97" y="2146"/>
                  </a:lnTo>
                  <a:lnTo>
                    <a:pt x="107" y="2033"/>
                  </a:lnTo>
                  <a:lnTo>
                    <a:pt x="110" y="2008"/>
                  </a:lnTo>
                  <a:lnTo>
                    <a:pt x="107" y="1984"/>
                  </a:lnTo>
                  <a:lnTo>
                    <a:pt x="104" y="1961"/>
                  </a:lnTo>
                  <a:lnTo>
                    <a:pt x="96" y="1943"/>
                  </a:lnTo>
                  <a:lnTo>
                    <a:pt x="83" y="1915"/>
                  </a:lnTo>
                  <a:lnTo>
                    <a:pt x="71" y="1893"/>
                  </a:lnTo>
                  <a:lnTo>
                    <a:pt x="58" y="1867"/>
                  </a:lnTo>
                  <a:lnTo>
                    <a:pt x="45" y="1834"/>
                  </a:lnTo>
                  <a:lnTo>
                    <a:pt x="34" y="1808"/>
                  </a:lnTo>
                  <a:lnTo>
                    <a:pt x="28" y="1782"/>
                  </a:lnTo>
                  <a:lnTo>
                    <a:pt x="21" y="1745"/>
                  </a:lnTo>
                  <a:lnTo>
                    <a:pt x="21" y="1717"/>
                  </a:lnTo>
                  <a:lnTo>
                    <a:pt x="23" y="1691"/>
                  </a:lnTo>
                  <a:lnTo>
                    <a:pt x="28" y="1667"/>
                  </a:lnTo>
                  <a:lnTo>
                    <a:pt x="32" y="1645"/>
                  </a:lnTo>
                  <a:lnTo>
                    <a:pt x="41" y="1628"/>
                  </a:lnTo>
                  <a:lnTo>
                    <a:pt x="52" y="1610"/>
                  </a:lnTo>
                  <a:lnTo>
                    <a:pt x="63" y="1595"/>
                  </a:lnTo>
                  <a:lnTo>
                    <a:pt x="83" y="1579"/>
                  </a:lnTo>
                  <a:lnTo>
                    <a:pt x="104" y="1561"/>
                  </a:lnTo>
                  <a:lnTo>
                    <a:pt x="128" y="1538"/>
                  </a:lnTo>
                  <a:lnTo>
                    <a:pt x="136" y="1761"/>
                  </a:lnTo>
                  <a:lnTo>
                    <a:pt x="120" y="1771"/>
                  </a:lnTo>
                  <a:lnTo>
                    <a:pt x="107" y="1780"/>
                  </a:lnTo>
                  <a:lnTo>
                    <a:pt x="96" y="1793"/>
                  </a:lnTo>
                  <a:lnTo>
                    <a:pt x="86" y="1808"/>
                  </a:lnTo>
                  <a:lnTo>
                    <a:pt x="78" y="1828"/>
                  </a:lnTo>
                  <a:lnTo>
                    <a:pt x="70" y="1858"/>
                  </a:lnTo>
                  <a:lnTo>
                    <a:pt x="88" y="1824"/>
                  </a:lnTo>
                  <a:lnTo>
                    <a:pt x="102" y="1803"/>
                  </a:lnTo>
                  <a:lnTo>
                    <a:pt x="117" y="1789"/>
                  </a:lnTo>
                  <a:lnTo>
                    <a:pt x="130" y="1780"/>
                  </a:lnTo>
                  <a:lnTo>
                    <a:pt x="140" y="1777"/>
                  </a:lnTo>
                  <a:lnTo>
                    <a:pt x="136" y="1795"/>
                  </a:lnTo>
                  <a:lnTo>
                    <a:pt x="154" y="2145"/>
                  </a:lnTo>
                  <a:lnTo>
                    <a:pt x="154" y="2174"/>
                  </a:lnTo>
                  <a:lnTo>
                    <a:pt x="156" y="2213"/>
                  </a:lnTo>
                  <a:lnTo>
                    <a:pt x="161" y="2281"/>
                  </a:lnTo>
                  <a:lnTo>
                    <a:pt x="171" y="2350"/>
                  </a:lnTo>
                  <a:lnTo>
                    <a:pt x="166" y="2215"/>
                  </a:lnTo>
                  <a:lnTo>
                    <a:pt x="171" y="2185"/>
                  </a:lnTo>
                  <a:lnTo>
                    <a:pt x="185" y="2187"/>
                  </a:lnTo>
                  <a:lnTo>
                    <a:pt x="167" y="2179"/>
                  </a:lnTo>
                  <a:lnTo>
                    <a:pt x="167" y="2141"/>
                  </a:lnTo>
                  <a:lnTo>
                    <a:pt x="161" y="1954"/>
                  </a:lnTo>
                  <a:lnTo>
                    <a:pt x="164" y="1937"/>
                  </a:lnTo>
                  <a:lnTo>
                    <a:pt x="192" y="1937"/>
                  </a:lnTo>
                  <a:lnTo>
                    <a:pt x="161" y="1930"/>
                  </a:lnTo>
                  <a:lnTo>
                    <a:pt x="154" y="1639"/>
                  </a:lnTo>
                  <a:lnTo>
                    <a:pt x="156" y="1538"/>
                  </a:lnTo>
                  <a:lnTo>
                    <a:pt x="153" y="1497"/>
                  </a:lnTo>
                  <a:lnTo>
                    <a:pt x="159" y="1436"/>
                  </a:lnTo>
                  <a:lnTo>
                    <a:pt x="182" y="1366"/>
                  </a:lnTo>
                  <a:lnTo>
                    <a:pt x="187" y="1351"/>
                  </a:lnTo>
                  <a:lnTo>
                    <a:pt x="200" y="1289"/>
                  </a:lnTo>
                  <a:lnTo>
                    <a:pt x="206" y="1249"/>
                  </a:lnTo>
                  <a:lnTo>
                    <a:pt x="213" y="1193"/>
                  </a:lnTo>
                  <a:lnTo>
                    <a:pt x="218" y="985"/>
                  </a:lnTo>
                  <a:lnTo>
                    <a:pt x="223" y="795"/>
                  </a:lnTo>
                  <a:lnTo>
                    <a:pt x="223" y="738"/>
                  </a:lnTo>
                  <a:lnTo>
                    <a:pt x="224" y="642"/>
                  </a:lnTo>
                  <a:lnTo>
                    <a:pt x="223" y="608"/>
                  </a:lnTo>
                  <a:lnTo>
                    <a:pt x="219" y="575"/>
                  </a:lnTo>
                  <a:lnTo>
                    <a:pt x="213" y="543"/>
                  </a:lnTo>
                  <a:lnTo>
                    <a:pt x="206" y="518"/>
                  </a:lnTo>
                  <a:lnTo>
                    <a:pt x="198" y="492"/>
                  </a:lnTo>
                  <a:lnTo>
                    <a:pt x="184" y="457"/>
                  </a:lnTo>
                  <a:lnTo>
                    <a:pt x="164" y="416"/>
                  </a:lnTo>
                  <a:lnTo>
                    <a:pt x="146" y="383"/>
                  </a:lnTo>
                  <a:lnTo>
                    <a:pt x="130" y="356"/>
                  </a:lnTo>
                  <a:lnTo>
                    <a:pt x="125" y="326"/>
                  </a:lnTo>
                  <a:lnTo>
                    <a:pt x="127" y="304"/>
                  </a:lnTo>
                  <a:lnTo>
                    <a:pt x="135" y="281"/>
                  </a:lnTo>
                  <a:lnTo>
                    <a:pt x="148" y="248"/>
                  </a:lnTo>
                  <a:lnTo>
                    <a:pt x="161" y="226"/>
                  </a:lnTo>
                  <a:lnTo>
                    <a:pt x="174" y="206"/>
                  </a:lnTo>
                  <a:lnTo>
                    <a:pt x="200" y="172"/>
                  </a:lnTo>
                  <a:lnTo>
                    <a:pt x="231" y="141"/>
                  </a:lnTo>
                  <a:lnTo>
                    <a:pt x="270" y="112"/>
                  </a:lnTo>
                  <a:lnTo>
                    <a:pt x="304" y="87"/>
                  </a:lnTo>
                  <a:lnTo>
                    <a:pt x="348" y="56"/>
                  </a:lnTo>
                  <a:lnTo>
                    <a:pt x="353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6" name=""/>
            <p:cNvSpPr/>
            <p:nvPr/>
          </p:nvSpPr>
          <p:spPr>
            <a:xfrm>
              <a:off x="760680" y="5135760"/>
              <a:ext cx="59040" cy="155880"/>
            </a:xfrm>
            <a:custGeom>
              <a:avLst/>
              <a:gdLst/>
              <a:ahLst/>
              <a:rect l="l" t="t" r="r" b="b"/>
              <a:pathLst>
                <a:path w="149" h="708">
                  <a:moveTo>
                    <a:pt x="146" y="0"/>
                  </a:moveTo>
                  <a:lnTo>
                    <a:pt x="115" y="21"/>
                  </a:lnTo>
                  <a:lnTo>
                    <a:pt x="99" y="36"/>
                  </a:lnTo>
                  <a:lnTo>
                    <a:pt x="84" y="49"/>
                  </a:lnTo>
                  <a:lnTo>
                    <a:pt x="71" y="67"/>
                  </a:lnTo>
                  <a:lnTo>
                    <a:pt x="59" y="88"/>
                  </a:lnTo>
                  <a:lnTo>
                    <a:pt x="49" y="111"/>
                  </a:lnTo>
                  <a:lnTo>
                    <a:pt x="39" y="132"/>
                  </a:lnTo>
                  <a:lnTo>
                    <a:pt x="28" y="152"/>
                  </a:lnTo>
                  <a:lnTo>
                    <a:pt x="18" y="166"/>
                  </a:lnTo>
                  <a:lnTo>
                    <a:pt x="10" y="184"/>
                  </a:lnTo>
                  <a:lnTo>
                    <a:pt x="5" y="204"/>
                  </a:lnTo>
                  <a:lnTo>
                    <a:pt x="2" y="226"/>
                  </a:lnTo>
                  <a:lnTo>
                    <a:pt x="0" y="249"/>
                  </a:lnTo>
                  <a:lnTo>
                    <a:pt x="2" y="272"/>
                  </a:lnTo>
                  <a:lnTo>
                    <a:pt x="10" y="329"/>
                  </a:lnTo>
                  <a:lnTo>
                    <a:pt x="8" y="270"/>
                  </a:lnTo>
                  <a:lnTo>
                    <a:pt x="8" y="249"/>
                  </a:lnTo>
                  <a:lnTo>
                    <a:pt x="11" y="223"/>
                  </a:lnTo>
                  <a:lnTo>
                    <a:pt x="15" y="204"/>
                  </a:lnTo>
                  <a:lnTo>
                    <a:pt x="23" y="181"/>
                  </a:lnTo>
                  <a:lnTo>
                    <a:pt x="34" y="165"/>
                  </a:lnTo>
                  <a:lnTo>
                    <a:pt x="42" y="155"/>
                  </a:lnTo>
                  <a:lnTo>
                    <a:pt x="34" y="199"/>
                  </a:lnTo>
                  <a:lnTo>
                    <a:pt x="33" y="220"/>
                  </a:lnTo>
                  <a:lnTo>
                    <a:pt x="28" y="256"/>
                  </a:lnTo>
                  <a:lnTo>
                    <a:pt x="29" y="313"/>
                  </a:lnTo>
                  <a:lnTo>
                    <a:pt x="31" y="365"/>
                  </a:lnTo>
                  <a:lnTo>
                    <a:pt x="33" y="407"/>
                  </a:lnTo>
                  <a:lnTo>
                    <a:pt x="33" y="438"/>
                  </a:lnTo>
                  <a:lnTo>
                    <a:pt x="34" y="461"/>
                  </a:lnTo>
                  <a:lnTo>
                    <a:pt x="36" y="483"/>
                  </a:lnTo>
                  <a:lnTo>
                    <a:pt x="42" y="508"/>
                  </a:lnTo>
                  <a:lnTo>
                    <a:pt x="47" y="605"/>
                  </a:lnTo>
                  <a:lnTo>
                    <a:pt x="54" y="545"/>
                  </a:lnTo>
                  <a:lnTo>
                    <a:pt x="54" y="511"/>
                  </a:lnTo>
                  <a:lnTo>
                    <a:pt x="50" y="490"/>
                  </a:lnTo>
                  <a:lnTo>
                    <a:pt x="47" y="467"/>
                  </a:lnTo>
                  <a:lnTo>
                    <a:pt x="47" y="443"/>
                  </a:lnTo>
                  <a:lnTo>
                    <a:pt x="67" y="492"/>
                  </a:lnTo>
                  <a:lnTo>
                    <a:pt x="86" y="537"/>
                  </a:lnTo>
                  <a:lnTo>
                    <a:pt x="93" y="561"/>
                  </a:lnTo>
                  <a:lnTo>
                    <a:pt x="97" y="592"/>
                  </a:lnTo>
                  <a:lnTo>
                    <a:pt x="99" y="623"/>
                  </a:lnTo>
                  <a:lnTo>
                    <a:pt x="101" y="649"/>
                  </a:lnTo>
                  <a:lnTo>
                    <a:pt x="110" y="708"/>
                  </a:lnTo>
                  <a:lnTo>
                    <a:pt x="106" y="633"/>
                  </a:lnTo>
                  <a:lnTo>
                    <a:pt x="106" y="604"/>
                  </a:lnTo>
                  <a:lnTo>
                    <a:pt x="106" y="581"/>
                  </a:lnTo>
                  <a:lnTo>
                    <a:pt x="104" y="560"/>
                  </a:lnTo>
                  <a:lnTo>
                    <a:pt x="99" y="544"/>
                  </a:lnTo>
                  <a:lnTo>
                    <a:pt x="96" y="529"/>
                  </a:lnTo>
                  <a:lnTo>
                    <a:pt x="89" y="513"/>
                  </a:lnTo>
                  <a:lnTo>
                    <a:pt x="80" y="487"/>
                  </a:lnTo>
                  <a:lnTo>
                    <a:pt x="62" y="446"/>
                  </a:lnTo>
                  <a:lnTo>
                    <a:pt x="55" y="425"/>
                  </a:lnTo>
                  <a:lnTo>
                    <a:pt x="52" y="409"/>
                  </a:lnTo>
                  <a:lnTo>
                    <a:pt x="49" y="361"/>
                  </a:lnTo>
                  <a:lnTo>
                    <a:pt x="47" y="301"/>
                  </a:lnTo>
                  <a:lnTo>
                    <a:pt x="47" y="264"/>
                  </a:lnTo>
                  <a:lnTo>
                    <a:pt x="50" y="220"/>
                  </a:lnTo>
                  <a:lnTo>
                    <a:pt x="55" y="182"/>
                  </a:lnTo>
                  <a:lnTo>
                    <a:pt x="65" y="143"/>
                  </a:lnTo>
                  <a:lnTo>
                    <a:pt x="75" y="116"/>
                  </a:lnTo>
                  <a:lnTo>
                    <a:pt x="89" y="87"/>
                  </a:lnTo>
                  <a:lnTo>
                    <a:pt x="104" y="69"/>
                  </a:lnTo>
                  <a:lnTo>
                    <a:pt x="123" y="51"/>
                  </a:lnTo>
                  <a:lnTo>
                    <a:pt x="149" y="33"/>
                  </a:lnTo>
                  <a:lnTo>
                    <a:pt x="14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7" name=""/>
            <p:cNvSpPr/>
            <p:nvPr/>
          </p:nvSpPr>
          <p:spPr>
            <a:xfrm>
              <a:off x="916200" y="5027760"/>
              <a:ext cx="140760" cy="557640"/>
            </a:xfrm>
            <a:custGeom>
              <a:avLst/>
              <a:gdLst/>
              <a:ahLst/>
              <a:rect l="l" t="t" r="r" b="b"/>
              <a:pathLst>
                <a:path w="353" h="2534">
                  <a:moveTo>
                    <a:pt x="0" y="0"/>
                  </a:moveTo>
                  <a:lnTo>
                    <a:pt x="44" y="27"/>
                  </a:lnTo>
                  <a:lnTo>
                    <a:pt x="73" y="49"/>
                  </a:lnTo>
                  <a:lnTo>
                    <a:pt x="101" y="68"/>
                  </a:lnTo>
                  <a:lnTo>
                    <a:pt x="130" y="89"/>
                  </a:lnTo>
                  <a:lnTo>
                    <a:pt x="168" y="122"/>
                  </a:lnTo>
                  <a:lnTo>
                    <a:pt x="199" y="158"/>
                  </a:lnTo>
                  <a:lnTo>
                    <a:pt x="223" y="193"/>
                  </a:lnTo>
                  <a:lnTo>
                    <a:pt x="236" y="211"/>
                  </a:lnTo>
                  <a:lnTo>
                    <a:pt x="249" y="237"/>
                  </a:lnTo>
                  <a:lnTo>
                    <a:pt x="259" y="265"/>
                  </a:lnTo>
                  <a:lnTo>
                    <a:pt x="268" y="297"/>
                  </a:lnTo>
                  <a:lnTo>
                    <a:pt x="273" y="327"/>
                  </a:lnTo>
                  <a:lnTo>
                    <a:pt x="278" y="362"/>
                  </a:lnTo>
                  <a:lnTo>
                    <a:pt x="280" y="400"/>
                  </a:lnTo>
                  <a:lnTo>
                    <a:pt x="283" y="450"/>
                  </a:lnTo>
                  <a:lnTo>
                    <a:pt x="285" y="499"/>
                  </a:lnTo>
                  <a:lnTo>
                    <a:pt x="285" y="550"/>
                  </a:lnTo>
                  <a:lnTo>
                    <a:pt x="285" y="579"/>
                  </a:lnTo>
                  <a:lnTo>
                    <a:pt x="281" y="647"/>
                  </a:lnTo>
                  <a:lnTo>
                    <a:pt x="278" y="714"/>
                  </a:lnTo>
                  <a:lnTo>
                    <a:pt x="273" y="785"/>
                  </a:lnTo>
                  <a:lnTo>
                    <a:pt x="267" y="904"/>
                  </a:lnTo>
                  <a:lnTo>
                    <a:pt x="262" y="976"/>
                  </a:lnTo>
                  <a:lnTo>
                    <a:pt x="259" y="1036"/>
                  </a:lnTo>
                  <a:lnTo>
                    <a:pt x="257" y="1166"/>
                  </a:lnTo>
                  <a:lnTo>
                    <a:pt x="293" y="1198"/>
                  </a:lnTo>
                  <a:lnTo>
                    <a:pt x="257" y="1171"/>
                  </a:lnTo>
                  <a:lnTo>
                    <a:pt x="290" y="1211"/>
                  </a:lnTo>
                  <a:lnTo>
                    <a:pt x="259" y="1177"/>
                  </a:lnTo>
                  <a:lnTo>
                    <a:pt x="275" y="1218"/>
                  </a:lnTo>
                  <a:lnTo>
                    <a:pt x="257" y="1184"/>
                  </a:lnTo>
                  <a:lnTo>
                    <a:pt x="257" y="1244"/>
                  </a:lnTo>
                  <a:lnTo>
                    <a:pt x="238" y="956"/>
                  </a:lnTo>
                  <a:lnTo>
                    <a:pt x="244" y="787"/>
                  </a:lnTo>
                  <a:lnTo>
                    <a:pt x="249" y="709"/>
                  </a:lnTo>
                  <a:lnTo>
                    <a:pt x="252" y="654"/>
                  </a:lnTo>
                  <a:lnTo>
                    <a:pt x="252" y="600"/>
                  </a:lnTo>
                  <a:lnTo>
                    <a:pt x="252" y="551"/>
                  </a:lnTo>
                  <a:lnTo>
                    <a:pt x="252" y="509"/>
                  </a:lnTo>
                  <a:lnTo>
                    <a:pt x="249" y="473"/>
                  </a:lnTo>
                  <a:lnTo>
                    <a:pt x="247" y="436"/>
                  </a:lnTo>
                  <a:lnTo>
                    <a:pt x="242" y="392"/>
                  </a:lnTo>
                  <a:lnTo>
                    <a:pt x="226" y="413"/>
                  </a:lnTo>
                  <a:lnTo>
                    <a:pt x="205" y="455"/>
                  </a:lnTo>
                  <a:lnTo>
                    <a:pt x="190" y="489"/>
                  </a:lnTo>
                  <a:lnTo>
                    <a:pt x="177" y="522"/>
                  </a:lnTo>
                  <a:lnTo>
                    <a:pt x="168" y="554"/>
                  </a:lnTo>
                  <a:lnTo>
                    <a:pt x="161" y="579"/>
                  </a:lnTo>
                  <a:lnTo>
                    <a:pt x="158" y="610"/>
                  </a:lnTo>
                  <a:lnTo>
                    <a:pt x="155" y="639"/>
                  </a:lnTo>
                  <a:lnTo>
                    <a:pt x="155" y="725"/>
                  </a:lnTo>
                  <a:lnTo>
                    <a:pt x="156" y="792"/>
                  </a:lnTo>
                  <a:lnTo>
                    <a:pt x="158" y="941"/>
                  </a:lnTo>
                  <a:lnTo>
                    <a:pt x="163" y="1182"/>
                  </a:lnTo>
                  <a:lnTo>
                    <a:pt x="169" y="1254"/>
                  </a:lnTo>
                  <a:lnTo>
                    <a:pt x="177" y="1296"/>
                  </a:lnTo>
                  <a:lnTo>
                    <a:pt x="189" y="1350"/>
                  </a:lnTo>
                  <a:lnTo>
                    <a:pt x="192" y="1363"/>
                  </a:lnTo>
                  <a:lnTo>
                    <a:pt x="218" y="1442"/>
                  </a:lnTo>
                  <a:lnTo>
                    <a:pt x="229" y="1507"/>
                  </a:lnTo>
                  <a:lnTo>
                    <a:pt x="246" y="1529"/>
                  </a:lnTo>
                  <a:lnTo>
                    <a:pt x="265" y="1545"/>
                  </a:lnTo>
                  <a:lnTo>
                    <a:pt x="291" y="1566"/>
                  </a:lnTo>
                  <a:lnTo>
                    <a:pt x="307" y="1586"/>
                  </a:lnTo>
                  <a:lnTo>
                    <a:pt x="324" y="1605"/>
                  </a:lnTo>
                  <a:lnTo>
                    <a:pt x="335" y="1625"/>
                  </a:lnTo>
                  <a:lnTo>
                    <a:pt x="343" y="1649"/>
                  </a:lnTo>
                  <a:lnTo>
                    <a:pt x="348" y="1668"/>
                  </a:lnTo>
                  <a:lnTo>
                    <a:pt x="351" y="1691"/>
                  </a:lnTo>
                  <a:lnTo>
                    <a:pt x="353" y="1722"/>
                  </a:lnTo>
                  <a:lnTo>
                    <a:pt x="351" y="1747"/>
                  </a:lnTo>
                  <a:lnTo>
                    <a:pt x="345" y="1782"/>
                  </a:lnTo>
                  <a:lnTo>
                    <a:pt x="337" y="1813"/>
                  </a:lnTo>
                  <a:lnTo>
                    <a:pt x="322" y="1849"/>
                  </a:lnTo>
                  <a:lnTo>
                    <a:pt x="303" y="1891"/>
                  </a:lnTo>
                  <a:lnTo>
                    <a:pt x="291" y="1916"/>
                  </a:lnTo>
                  <a:lnTo>
                    <a:pt x="280" y="1942"/>
                  </a:lnTo>
                  <a:lnTo>
                    <a:pt x="268" y="1961"/>
                  </a:lnTo>
                  <a:lnTo>
                    <a:pt x="264" y="1984"/>
                  </a:lnTo>
                  <a:lnTo>
                    <a:pt x="262" y="2010"/>
                  </a:lnTo>
                  <a:lnTo>
                    <a:pt x="264" y="2038"/>
                  </a:lnTo>
                  <a:lnTo>
                    <a:pt x="268" y="2156"/>
                  </a:lnTo>
                  <a:lnTo>
                    <a:pt x="270" y="2171"/>
                  </a:lnTo>
                  <a:lnTo>
                    <a:pt x="265" y="2189"/>
                  </a:lnTo>
                  <a:lnTo>
                    <a:pt x="260" y="2204"/>
                  </a:lnTo>
                  <a:lnTo>
                    <a:pt x="228" y="2299"/>
                  </a:lnTo>
                  <a:lnTo>
                    <a:pt x="226" y="2308"/>
                  </a:lnTo>
                  <a:lnTo>
                    <a:pt x="231" y="2330"/>
                  </a:lnTo>
                  <a:lnTo>
                    <a:pt x="238" y="2350"/>
                  </a:lnTo>
                  <a:lnTo>
                    <a:pt x="246" y="2365"/>
                  </a:lnTo>
                  <a:lnTo>
                    <a:pt x="277" y="2412"/>
                  </a:lnTo>
                  <a:lnTo>
                    <a:pt x="255" y="2389"/>
                  </a:lnTo>
                  <a:lnTo>
                    <a:pt x="241" y="2369"/>
                  </a:lnTo>
                  <a:lnTo>
                    <a:pt x="231" y="2355"/>
                  </a:lnTo>
                  <a:lnTo>
                    <a:pt x="225" y="2339"/>
                  </a:lnTo>
                  <a:lnTo>
                    <a:pt x="221" y="2322"/>
                  </a:lnTo>
                  <a:lnTo>
                    <a:pt x="210" y="2360"/>
                  </a:lnTo>
                  <a:lnTo>
                    <a:pt x="213" y="2376"/>
                  </a:lnTo>
                  <a:lnTo>
                    <a:pt x="225" y="2397"/>
                  </a:lnTo>
                  <a:lnTo>
                    <a:pt x="233" y="2408"/>
                  </a:lnTo>
                  <a:lnTo>
                    <a:pt x="242" y="2420"/>
                  </a:lnTo>
                  <a:lnTo>
                    <a:pt x="257" y="2433"/>
                  </a:lnTo>
                  <a:lnTo>
                    <a:pt x="298" y="2462"/>
                  </a:lnTo>
                  <a:lnTo>
                    <a:pt x="264" y="2441"/>
                  </a:lnTo>
                  <a:lnTo>
                    <a:pt x="259" y="2449"/>
                  </a:lnTo>
                  <a:lnTo>
                    <a:pt x="260" y="2487"/>
                  </a:lnTo>
                  <a:lnTo>
                    <a:pt x="254" y="2459"/>
                  </a:lnTo>
                  <a:lnTo>
                    <a:pt x="257" y="2439"/>
                  </a:lnTo>
                  <a:lnTo>
                    <a:pt x="239" y="2428"/>
                  </a:lnTo>
                  <a:lnTo>
                    <a:pt x="221" y="2410"/>
                  </a:lnTo>
                  <a:lnTo>
                    <a:pt x="212" y="2397"/>
                  </a:lnTo>
                  <a:lnTo>
                    <a:pt x="202" y="2376"/>
                  </a:lnTo>
                  <a:lnTo>
                    <a:pt x="194" y="2391"/>
                  </a:lnTo>
                  <a:lnTo>
                    <a:pt x="182" y="2417"/>
                  </a:lnTo>
                  <a:lnTo>
                    <a:pt x="189" y="2430"/>
                  </a:lnTo>
                  <a:lnTo>
                    <a:pt x="208" y="2447"/>
                  </a:lnTo>
                  <a:lnTo>
                    <a:pt x="192" y="2439"/>
                  </a:lnTo>
                  <a:lnTo>
                    <a:pt x="179" y="2428"/>
                  </a:lnTo>
                  <a:lnTo>
                    <a:pt x="132" y="2534"/>
                  </a:lnTo>
                  <a:lnTo>
                    <a:pt x="186" y="2384"/>
                  </a:lnTo>
                  <a:lnTo>
                    <a:pt x="203" y="2342"/>
                  </a:lnTo>
                  <a:lnTo>
                    <a:pt x="210" y="2326"/>
                  </a:lnTo>
                  <a:lnTo>
                    <a:pt x="213" y="2308"/>
                  </a:lnTo>
                  <a:lnTo>
                    <a:pt x="223" y="2277"/>
                  </a:lnTo>
                  <a:lnTo>
                    <a:pt x="246" y="2205"/>
                  </a:lnTo>
                  <a:lnTo>
                    <a:pt x="252" y="2181"/>
                  </a:lnTo>
                  <a:lnTo>
                    <a:pt x="255" y="2163"/>
                  </a:lnTo>
                  <a:lnTo>
                    <a:pt x="255" y="2147"/>
                  </a:lnTo>
                  <a:lnTo>
                    <a:pt x="246" y="2033"/>
                  </a:lnTo>
                  <a:lnTo>
                    <a:pt x="242" y="2008"/>
                  </a:lnTo>
                  <a:lnTo>
                    <a:pt x="246" y="1984"/>
                  </a:lnTo>
                  <a:lnTo>
                    <a:pt x="249" y="1961"/>
                  </a:lnTo>
                  <a:lnTo>
                    <a:pt x="257" y="1943"/>
                  </a:lnTo>
                  <a:lnTo>
                    <a:pt x="270" y="1916"/>
                  </a:lnTo>
                  <a:lnTo>
                    <a:pt x="281" y="1893"/>
                  </a:lnTo>
                  <a:lnTo>
                    <a:pt x="294" y="1867"/>
                  </a:lnTo>
                  <a:lnTo>
                    <a:pt x="307" y="1834"/>
                  </a:lnTo>
                  <a:lnTo>
                    <a:pt x="319" y="1808"/>
                  </a:lnTo>
                  <a:lnTo>
                    <a:pt x="325" y="1782"/>
                  </a:lnTo>
                  <a:lnTo>
                    <a:pt x="332" y="1745"/>
                  </a:lnTo>
                  <a:lnTo>
                    <a:pt x="332" y="1717"/>
                  </a:lnTo>
                  <a:lnTo>
                    <a:pt x="330" y="1691"/>
                  </a:lnTo>
                  <a:lnTo>
                    <a:pt x="325" y="1667"/>
                  </a:lnTo>
                  <a:lnTo>
                    <a:pt x="320" y="1646"/>
                  </a:lnTo>
                  <a:lnTo>
                    <a:pt x="312" y="1628"/>
                  </a:lnTo>
                  <a:lnTo>
                    <a:pt x="301" y="1610"/>
                  </a:lnTo>
                  <a:lnTo>
                    <a:pt x="290" y="1595"/>
                  </a:lnTo>
                  <a:lnTo>
                    <a:pt x="270" y="1579"/>
                  </a:lnTo>
                  <a:lnTo>
                    <a:pt x="249" y="1561"/>
                  </a:lnTo>
                  <a:lnTo>
                    <a:pt x="225" y="1538"/>
                  </a:lnTo>
                  <a:lnTo>
                    <a:pt x="216" y="1761"/>
                  </a:lnTo>
                  <a:lnTo>
                    <a:pt x="233" y="1771"/>
                  </a:lnTo>
                  <a:lnTo>
                    <a:pt x="246" y="1781"/>
                  </a:lnTo>
                  <a:lnTo>
                    <a:pt x="257" y="1794"/>
                  </a:lnTo>
                  <a:lnTo>
                    <a:pt x="267" y="1808"/>
                  </a:lnTo>
                  <a:lnTo>
                    <a:pt x="275" y="1828"/>
                  </a:lnTo>
                  <a:lnTo>
                    <a:pt x="283" y="1859"/>
                  </a:lnTo>
                  <a:lnTo>
                    <a:pt x="265" y="1825"/>
                  </a:lnTo>
                  <a:lnTo>
                    <a:pt x="251" y="1803"/>
                  </a:lnTo>
                  <a:lnTo>
                    <a:pt x="236" y="1789"/>
                  </a:lnTo>
                  <a:lnTo>
                    <a:pt x="223" y="1781"/>
                  </a:lnTo>
                  <a:lnTo>
                    <a:pt x="213" y="1777"/>
                  </a:lnTo>
                  <a:lnTo>
                    <a:pt x="216" y="1795"/>
                  </a:lnTo>
                  <a:lnTo>
                    <a:pt x="199" y="2145"/>
                  </a:lnTo>
                  <a:lnTo>
                    <a:pt x="199" y="2174"/>
                  </a:lnTo>
                  <a:lnTo>
                    <a:pt x="197" y="2213"/>
                  </a:lnTo>
                  <a:lnTo>
                    <a:pt x="192" y="2282"/>
                  </a:lnTo>
                  <a:lnTo>
                    <a:pt x="182" y="2350"/>
                  </a:lnTo>
                  <a:lnTo>
                    <a:pt x="187" y="2215"/>
                  </a:lnTo>
                  <a:lnTo>
                    <a:pt x="182" y="2186"/>
                  </a:lnTo>
                  <a:lnTo>
                    <a:pt x="168" y="2187"/>
                  </a:lnTo>
                  <a:lnTo>
                    <a:pt x="186" y="2179"/>
                  </a:lnTo>
                  <a:lnTo>
                    <a:pt x="186" y="2142"/>
                  </a:lnTo>
                  <a:lnTo>
                    <a:pt x="192" y="1955"/>
                  </a:lnTo>
                  <a:lnTo>
                    <a:pt x="189" y="1937"/>
                  </a:lnTo>
                  <a:lnTo>
                    <a:pt x="161" y="1937"/>
                  </a:lnTo>
                  <a:lnTo>
                    <a:pt x="192" y="1930"/>
                  </a:lnTo>
                  <a:lnTo>
                    <a:pt x="199" y="1639"/>
                  </a:lnTo>
                  <a:lnTo>
                    <a:pt x="197" y="1538"/>
                  </a:lnTo>
                  <a:lnTo>
                    <a:pt x="200" y="1498"/>
                  </a:lnTo>
                  <a:lnTo>
                    <a:pt x="194" y="1436"/>
                  </a:lnTo>
                  <a:lnTo>
                    <a:pt x="171" y="1366"/>
                  </a:lnTo>
                  <a:lnTo>
                    <a:pt x="166" y="1351"/>
                  </a:lnTo>
                  <a:lnTo>
                    <a:pt x="153" y="1290"/>
                  </a:lnTo>
                  <a:lnTo>
                    <a:pt x="147" y="1249"/>
                  </a:lnTo>
                  <a:lnTo>
                    <a:pt x="140" y="1194"/>
                  </a:lnTo>
                  <a:lnTo>
                    <a:pt x="135" y="985"/>
                  </a:lnTo>
                  <a:lnTo>
                    <a:pt x="130" y="795"/>
                  </a:lnTo>
                  <a:lnTo>
                    <a:pt x="130" y="738"/>
                  </a:lnTo>
                  <a:lnTo>
                    <a:pt x="129" y="642"/>
                  </a:lnTo>
                  <a:lnTo>
                    <a:pt x="130" y="608"/>
                  </a:lnTo>
                  <a:lnTo>
                    <a:pt x="134" y="576"/>
                  </a:lnTo>
                  <a:lnTo>
                    <a:pt x="140" y="543"/>
                  </a:lnTo>
                  <a:lnTo>
                    <a:pt x="147" y="519"/>
                  </a:lnTo>
                  <a:lnTo>
                    <a:pt x="155" y="493"/>
                  </a:lnTo>
                  <a:lnTo>
                    <a:pt x="169" y="457"/>
                  </a:lnTo>
                  <a:lnTo>
                    <a:pt x="189" y="416"/>
                  </a:lnTo>
                  <a:lnTo>
                    <a:pt x="207" y="384"/>
                  </a:lnTo>
                  <a:lnTo>
                    <a:pt x="223" y="356"/>
                  </a:lnTo>
                  <a:lnTo>
                    <a:pt x="228" y="327"/>
                  </a:lnTo>
                  <a:lnTo>
                    <a:pt x="226" y="304"/>
                  </a:lnTo>
                  <a:lnTo>
                    <a:pt x="218" y="281"/>
                  </a:lnTo>
                  <a:lnTo>
                    <a:pt x="205" y="249"/>
                  </a:lnTo>
                  <a:lnTo>
                    <a:pt x="192" y="226"/>
                  </a:lnTo>
                  <a:lnTo>
                    <a:pt x="179" y="206"/>
                  </a:lnTo>
                  <a:lnTo>
                    <a:pt x="153" y="172"/>
                  </a:lnTo>
                  <a:lnTo>
                    <a:pt x="122" y="141"/>
                  </a:lnTo>
                  <a:lnTo>
                    <a:pt x="83" y="112"/>
                  </a:lnTo>
                  <a:lnTo>
                    <a:pt x="49" y="88"/>
                  </a:lnTo>
                  <a:lnTo>
                    <a:pt x="5" y="5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8" name=""/>
            <p:cNvSpPr/>
            <p:nvPr/>
          </p:nvSpPr>
          <p:spPr>
            <a:xfrm>
              <a:off x="1023480" y="5133600"/>
              <a:ext cx="59400" cy="155880"/>
            </a:xfrm>
            <a:custGeom>
              <a:avLst/>
              <a:gdLst/>
              <a:ahLst/>
              <a:rect l="l" t="t" r="r" b="b"/>
              <a:pathLst>
                <a:path w="150" h="707">
                  <a:moveTo>
                    <a:pt x="4" y="0"/>
                  </a:moveTo>
                  <a:lnTo>
                    <a:pt x="35" y="21"/>
                  </a:lnTo>
                  <a:lnTo>
                    <a:pt x="51" y="35"/>
                  </a:lnTo>
                  <a:lnTo>
                    <a:pt x="65" y="48"/>
                  </a:lnTo>
                  <a:lnTo>
                    <a:pt x="78" y="66"/>
                  </a:lnTo>
                  <a:lnTo>
                    <a:pt x="91" y="87"/>
                  </a:lnTo>
                  <a:lnTo>
                    <a:pt x="101" y="110"/>
                  </a:lnTo>
                  <a:lnTo>
                    <a:pt x="111" y="131"/>
                  </a:lnTo>
                  <a:lnTo>
                    <a:pt x="122" y="151"/>
                  </a:lnTo>
                  <a:lnTo>
                    <a:pt x="132" y="165"/>
                  </a:lnTo>
                  <a:lnTo>
                    <a:pt x="140" y="183"/>
                  </a:lnTo>
                  <a:lnTo>
                    <a:pt x="145" y="203"/>
                  </a:lnTo>
                  <a:lnTo>
                    <a:pt x="148" y="226"/>
                  </a:lnTo>
                  <a:lnTo>
                    <a:pt x="150" y="248"/>
                  </a:lnTo>
                  <a:lnTo>
                    <a:pt x="148" y="271"/>
                  </a:lnTo>
                  <a:lnTo>
                    <a:pt x="140" y="328"/>
                  </a:lnTo>
                  <a:lnTo>
                    <a:pt x="142" y="270"/>
                  </a:lnTo>
                  <a:lnTo>
                    <a:pt x="142" y="248"/>
                  </a:lnTo>
                  <a:lnTo>
                    <a:pt x="138" y="222"/>
                  </a:lnTo>
                  <a:lnTo>
                    <a:pt x="135" y="203"/>
                  </a:lnTo>
                  <a:lnTo>
                    <a:pt x="127" y="180"/>
                  </a:lnTo>
                  <a:lnTo>
                    <a:pt x="116" y="164"/>
                  </a:lnTo>
                  <a:lnTo>
                    <a:pt x="108" y="154"/>
                  </a:lnTo>
                  <a:lnTo>
                    <a:pt x="116" y="198"/>
                  </a:lnTo>
                  <a:lnTo>
                    <a:pt x="117" y="219"/>
                  </a:lnTo>
                  <a:lnTo>
                    <a:pt x="122" y="255"/>
                  </a:lnTo>
                  <a:lnTo>
                    <a:pt x="121" y="312"/>
                  </a:lnTo>
                  <a:lnTo>
                    <a:pt x="119" y="364"/>
                  </a:lnTo>
                  <a:lnTo>
                    <a:pt x="117" y="406"/>
                  </a:lnTo>
                  <a:lnTo>
                    <a:pt x="117" y="437"/>
                  </a:lnTo>
                  <a:lnTo>
                    <a:pt x="116" y="460"/>
                  </a:lnTo>
                  <a:lnTo>
                    <a:pt x="114" y="483"/>
                  </a:lnTo>
                  <a:lnTo>
                    <a:pt x="108" y="507"/>
                  </a:lnTo>
                  <a:lnTo>
                    <a:pt x="103" y="605"/>
                  </a:lnTo>
                  <a:lnTo>
                    <a:pt x="96" y="544"/>
                  </a:lnTo>
                  <a:lnTo>
                    <a:pt x="96" y="510"/>
                  </a:lnTo>
                  <a:lnTo>
                    <a:pt x="99" y="489"/>
                  </a:lnTo>
                  <a:lnTo>
                    <a:pt x="103" y="466"/>
                  </a:lnTo>
                  <a:lnTo>
                    <a:pt x="103" y="442"/>
                  </a:lnTo>
                  <a:lnTo>
                    <a:pt x="83" y="491"/>
                  </a:lnTo>
                  <a:lnTo>
                    <a:pt x="64" y="536"/>
                  </a:lnTo>
                  <a:lnTo>
                    <a:pt x="57" y="561"/>
                  </a:lnTo>
                  <a:lnTo>
                    <a:pt x="52" y="592"/>
                  </a:lnTo>
                  <a:lnTo>
                    <a:pt x="51" y="622"/>
                  </a:lnTo>
                  <a:lnTo>
                    <a:pt x="49" y="649"/>
                  </a:lnTo>
                  <a:lnTo>
                    <a:pt x="39" y="707"/>
                  </a:lnTo>
                  <a:lnTo>
                    <a:pt x="44" y="632"/>
                  </a:lnTo>
                  <a:lnTo>
                    <a:pt x="44" y="603"/>
                  </a:lnTo>
                  <a:lnTo>
                    <a:pt x="44" y="580"/>
                  </a:lnTo>
                  <a:lnTo>
                    <a:pt x="46" y="559"/>
                  </a:lnTo>
                  <a:lnTo>
                    <a:pt x="51" y="543"/>
                  </a:lnTo>
                  <a:lnTo>
                    <a:pt x="54" y="528"/>
                  </a:lnTo>
                  <a:lnTo>
                    <a:pt x="61" y="512"/>
                  </a:lnTo>
                  <a:lnTo>
                    <a:pt x="70" y="486"/>
                  </a:lnTo>
                  <a:lnTo>
                    <a:pt x="88" y="445"/>
                  </a:lnTo>
                  <a:lnTo>
                    <a:pt x="95" y="424"/>
                  </a:lnTo>
                  <a:lnTo>
                    <a:pt x="98" y="408"/>
                  </a:lnTo>
                  <a:lnTo>
                    <a:pt x="101" y="361"/>
                  </a:lnTo>
                  <a:lnTo>
                    <a:pt x="103" y="300"/>
                  </a:lnTo>
                  <a:lnTo>
                    <a:pt x="103" y="263"/>
                  </a:lnTo>
                  <a:lnTo>
                    <a:pt x="99" y="219"/>
                  </a:lnTo>
                  <a:lnTo>
                    <a:pt x="95" y="182"/>
                  </a:lnTo>
                  <a:lnTo>
                    <a:pt x="85" y="143"/>
                  </a:lnTo>
                  <a:lnTo>
                    <a:pt x="75" y="115"/>
                  </a:lnTo>
                  <a:lnTo>
                    <a:pt x="61" y="86"/>
                  </a:lnTo>
                  <a:lnTo>
                    <a:pt x="46" y="68"/>
                  </a:lnTo>
                  <a:lnTo>
                    <a:pt x="26" y="50"/>
                  </a:lnTo>
                  <a:lnTo>
                    <a:pt x="0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9" name=""/>
            <p:cNvSpPr/>
            <p:nvPr/>
          </p:nvSpPr>
          <p:spPr>
            <a:xfrm>
              <a:off x="872640" y="4775400"/>
              <a:ext cx="83160" cy="271080"/>
            </a:xfrm>
            <a:custGeom>
              <a:avLst/>
              <a:gdLst/>
              <a:ahLst/>
              <a:rect l="l" t="t" r="r" b="b"/>
              <a:pathLst>
                <a:path w="208" h="1231">
                  <a:moveTo>
                    <a:pt x="101" y="49"/>
                  </a:moveTo>
                  <a:lnTo>
                    <a:pt x="101" y="363"/>
                  </a:lnTo>
                  <a:lnTo>
                    <a:pt x="93" y="568"/>
                  </a:lnTo>
                  <a:lnTo>
                    <a:pt x="76" y="582"/>
                  </a:lnTo>
                  <a:lnTo>
                    <a:pt x="60" y="586"/>
                  </a:lnTo>
                  <a:lnTo>
                    <a:pt x="50" y="581"/>
                  </a:lnTo>
                  <a:lnTo>
                    <a:pt x="44" y="574"/>
                  </a:lnTo>
                  <a:lnTo>
                    <a:pt x="23" y="550"/>
                  </a:lnTo>
                  <a:lnTo>
                    <a:pt x="0" y="565"/>
                  </a:lnTo>
                  <a:lnTo>
                    <a:pt x="21" y="594"/>
                  </a:lnTo>
                  <a:lnTo>
                    <a:pt x="33" y="604"/>
                  </a:lnTo>
                  <a:lnTo>
                    <a:pt x="46" y="610"/>
                  </a:lnTo>
                  <a:lnTo>
                    <a:pt x="57" y="613"/>
                  </a:lnTo>
                  <a:lnTo>
                    <a:pt x="70" y="615"/>
                  </a:lnTo>
                  <a:lnTo>
                    <a:pt x="81" y="612"/>
                  </a:lnTo>
                  <a:lnTo>
                    <a:pt x="93" y="605"/>
                  </a:lnTo>
                  <a:lnTo>
                    <a:pt x="93" y="625"/>
                  </a:lnTo>
                  <a:lnTo>
                    <a:pt x="23" y="625"/>
                  </a:lnTo>
                  <a:lnTo>
                    <a:pt x="21" y="651"/>
                  </a:lnTo>
                  <a:lnTo>
                    <a:pt x="91" y="651"/>
                  </a:lnTo>
                  <a:lnTo>
                    <a:pt x="91" y="825"/>
                  </a:lnTo>
                  <a:lnTo>
                    <a:pt x="91" y="1222"/>
                  </a:lnTo>
                  <a:lnTo>
                    <a:pt x="145" y="1231"/>
                  </a:lnTo>
                  <a:lnTo>
                    <a:pt x="145" y="1109"/>
                  </a:lnTo>
                  <a:lnTo>
                    <a:pt x="150" y="836"/>
                  </a:lnTo>
                  <a:lnTo>
                    <a:pt x="193" y="900"/>
                  </a:lnTo>
                  <a:lnTo>
                    <a:pt x="208" y="870"/>
                  </a:lnTo>
                  <a:lnTo>
                    <a:pt x="151" y="804"/>
                  </a:lnTo>
                  <a:lnTo>
                    <a:pt x="151" y="652"/>
                  </a:lnTo>
                  <a:lnTo>
                    <a:pt x="182" y="649"/>
                  </a:lnTo>
                  <a:lnTo>
                    <a:pt x="177" y="625"/>
                  </a:lnTo>
                  <a:lnTo>
                    <a:pt x="148" y="623"/>
                  </a:lnTo>
                  <a:lnTo>
                    <a:pt x="150" y="319"/>
                  </a:lnTo>
                  <a:lnTo>
                    <a:pt x="150" y="0"/>
                  </a:lnTo>
                  <a:lnTo>
                    <a:pt x="101" y="49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0" name=""/>
            <p:cNvSpPr/>
            <p:nvPr/>
          </p:nvSpPr>
          <p:spPr>
            <a:xfrm>
              <a:off x="933840" y="4608360"/>
              <a:ext cx="47160" cy="156960"/>
            </a:xfrm>
            <a:custGeom>
              <a:avLst/>
              <a:gdLst/>
              <a:ahLst/>
              <a:rect l="l" t="t" r="r" b="b"/>
              <a:pathLst>
                <a:path w="117" h="714">
                  <a:moveTo>
                    <a:pt x="0" y="699"/>
                  </a:moveTo>
                  <a:lnTo>
                    <a:pt x="5" y="636"/>
                  </a:lnTo>
                  <a:lnTo>
                    <a:pt x="8" y="577"/>
                  </a:lnTo>
                  <a:lnTo>
                    <a:pt x="18" y="484"/>
                  </a:lnTo>
                  <a:lnTo>
                    <a:pt x="23" y="440"/>
                  </a:lnTo>
                  <a:lnTo>
                    <a:pt x="29" y="401"/>
                  </a:lnTo>
                  <a:lnTo>
                    <a:pt x="42" y="336"/>
                  </a:lnTo>
                  <a:lnTo>
                    <a:pt x="47" y="299"/>
                  </a:lnTo>
                  <a:lnTo>
                    <a:pt x="47" y="268"/>
                  </a:lnTo>
                  <a:lnTo>
                    <a:pt x="49" y="206"/>
                  </a:lnTo>
                  <a:lnTo>
                    <a:pt x="45" y="172"/>
                  </a:lnTo>
                  <a:lnTo>
                    <a:pt x="44" y="140"/>
                  </a:lnTo>
                  <a:lnTo>
                    <a:pt x="39" y="118"/>
                  </a:lnTo>
                  <a:lnTo>
                    <a:pt x="29" y="99"/>
                  </a:lnTo>
                  <a:lnTo>
                    <a:pt x="10" y="58"/>
                  </a:lnTo>
                  <a:lnTo>
                    <a:pt x="0" y="39"/>
                  </a:lnTo>
                  <a:lnTo>
                    <a:pt x="19" y="68"/>
                  </a:lnTo>
                  <a:lnTo>
                    <a:pt x="29" y="88"/>
                  </a:lnTo>
                  <a:lnTo>
                    <a:pt x="39" y="94"/>
                  </a:lnTo>
                  <a:lnTo>
                    <a:pt x="47" y="86"/>
                  </a:lnTo>
                  <a:lnTo>
                    <a:pt x="63" y="52"/>
                  </a:lnTo>
                  <a:lnTo>
                    <a:pt x="73" y="35"/>
                  </a:lnTo>
                  <a:lnTo>
                    <a:pt x="84" y="21"/>
                  </a:lnTo>
                  <a:lnTo>
                    <a:pt x="117" y="0"/>
                  </a:lnTo>
                  <a:lnTo>
                    <a:pt x="86" y="26"/>
                  </a:lnTo>
                  <a:lnTo>
                    <a:pt x="75" y="42"/>
                  </a:lnTo>
                  <a:lnTo>
                    <a:pt x="63" y="68"/>
                  </a:lnTo>
                  <a:lnTo>
                    <a:pt x="58" y="89"/>
                  </a:lnTo>
                  <a:lnTo>
                    <a:pt x="55" y="117"/>
                  </a:lnTo>
                  <a:lnTo>
                    <a:pt x="58" y="143"/>
                  </a:lnTo>
                  <a:lnTo>
                    <a:pt x="60" y="177"/>
                  </a:lnTo>
                  <a:lnTo>
                    <a:pt x="63" y="236"/>
                  </a:lnTo>
                  <a:lnTo>
                    <a:pt x="63" y="273"/>
                  </a:lnTo>
                  <a:lnTo>
                    <a:pt x="63" y="309"/>
                  </a:lnTo>
                  <a:lnTo>
                    <a:pt x="62" y="343"/>
                  </a:lnTo>
                  <a:lnTo>
                    <a:pt x="57" y="397"/>
                  </a:lnTo>
                  <a:lnTo>
                    <a:pt x="49" y="450"/>
                  </a:lnTo>
                  <a:lnTo>
                    <a:pt x="42" y="509"/>
                  </a:lnTo>
                  <a:lnTo>
                    <a:pt x="34" y="577"/>
                  </a:lnTo>
                  <a:lnTo>
                    <a:pt x="32" y="629"/>
                  </a:lnTo>
                  <a:lnTo>
                    <a:pt x="29" y="688"/>
                  </a:lnTo>
                  <a:lnTo>
                    <a:pt x="27" y="714"/>
                  </a:lnTo>
                  <a:lnTo>
                    <a:pt x="0" y="699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1" name=""/>
            <p:cNvSpPr/>
            <p:nvPr/>
          </p:nvSpPr>
          <p:spPr>
            <a:xfrm>
              <a:off x="965160" y="5308560"/>
              <a:ext cx="81360" cy="46080"/>
            </a:xfrm>
            <a:custGeom>
              <a:avLst/>
              <a:gdLst/>
              <a:ahLst/>
              <a:rect l="l" t="t" r="r" b="b"/>
              <a:pathLst>
                <a:path w="205" h="210">
                  <a:moveTo>
                    <a:pt x="26" y="0"/>
                  </a:moveTo>
                  <a:lnTo>
                    <a:pt x="59" y="44"/>
                  </a:lnTo>
                  <a:lnTo>
                    <a:pt x="80" y="51"/>
                  </a:lnTo>
                  <a:lnTo>
                    <a:pt x="98" y="54"/>
                  </a:lnTo>
                  <a:lnTo>
                    <a:pt x="119" y="49"/>
                  </a:lnTo>
                  <a:lnTo>
                    <a:pt x="133" y="41"/>
                  </a:lnTo>
                  <a:lnTo>
                    <a:pt x="158" y="34"/>
                  </a:lnTo>
                  <a:lnTo>
                    <a:pt x="171" y="36"/>
                  </a:lnTo>
                  <a:lnTo>
                    <a:pt x="182" y="43"/>
                  </a:lnTo>
                  <a:lnTo>
                    <a:pt x="194" y="51"/>
                  </a:lnTo>
                  <a:lnTo>
                    <a:pt x="202" y="64"/>
                  </a:lnTo>
                  <a:lnTo>
                    <a:pt x="203" y="78"/>
                  </a:lnTo>
                  <a:lnTo>
                    <a:pt x="205" y="93"/>
                  </a:lnTo>
                  <a:lnTo>
                    <a:pt x="202" y="109"/>
                  </a:lnTo>
                  <a:lnTo>
                    <a:pt x="195" y="122"/>
                  </a:lnTo>
                  <a:lnTo>
                    <a:pt x="181" y="132"/>
                  </a:lnTo>
                  <a:lnTo>
                    <a:pt x="163" y="137"/>
                  </a:lnTo>
                  <a:lnTo>
                    <a:pt x="143" y="137"/>
                  </a:lnTo>
                  <a:lnTo>
                    <a:pt x="125" y="127"/>
                  </a:lnTo>
                  <a:lnTo>
                    <a:pt x="122" y="116"/>
                  </a:lnTo>
                  <a:lnTo>
                    <a:pt x="117" y="88"/>
                  </a:lnTo>
                  <a:lnTo>
                    <a:pt x="117" y="124"/>
                  </a:lnTo>
                  <a:lnTo>
                    <a:pt x="114" y="138"/>
                  </a:lnTo>
                  <a:lnTo>
                    <a:pt x="133" y="135"/>
                  </a:lnTo>
                  <a:lnTo>
                    <a:pt x="156" y="143"/>
                  </a:lnTo>
                  <a:lnTo>
                    <a:pt x="172" y="160"/>
                  </a:lnTo>
                  <a:lnTo>
                    <a:pt x="182" y="182"/>
                  </a:lnTo>
                  <a:lnTo>
                    <a:pt x="181" y="197"/>
                  </a:lnTo>
                  <a:lnTo>
                    <a:pt x="169" y="210"/>
                  </a:lnTo>
                  <a:lnTo>
                    <a:pt x="155" y="210"/>
                  </a:lnTo>
                  <a:lnTo>
                    <a:pt x="132" y="202"/>
                  </a:lnTo>
                  <a:lnTo>
                    <a:pt x="107" y="194"/>
                  </a:lnTo>
                  <a:lnTo>
                    <a:pt x="85" y="189"/>
                  </a:lnTo>
                  <a:lnTo>
                    <a:pt x="60" y="191"/>
                  </a:lnTo>
                  <a:lnTo>
                    <a:pt x="38" y="187"/>
                  </a:lnTo>
                  <a:lnTo>
                    <a:pt x="23" y="182"/>
                  </a:lnTo>
                  <a:lnTo>
                    <a:pt x="10" y="173"/>
                  </a:lnTo>
                  <a:lnTo>
                    <a:pt x="3" y="156"/>
                  </a:lnTo>
                  <a:lnTo>
                    <a:pt x="2" y="137"/>
                  </a:lnTo>
                  <a:lnTo>
                    <a:pt x="7" y="114"/>
                  </a:lnTo>
                  <a:lnTo>
                    <a:pt x="7" y="82"/>
                  </a:lnTo>
                  <a:lnTo>
                    <a:pt x="0" y="54"/>
                  </a:lnTo>
                  <a:lnTo>
                    <a:pt x="7" y="21"/>
                  </a:lnTo>
                  <a:lnTo>
                    <a:pt x="0" y="54"/>
                  </a:lnTo>
                  <a:lnTo>
                    <a:pt x="8" y="80"/>
                  </a:lnTo>
                  <a:lnTo>
                    <a:pt x="10" y="98"/>
                  </a:lnTo>
                  <a:lnTo>
                    <a:pt x="13" y="108"/>
                  </a:lnTo>
                  <a:lnTo>
                    <a:pt x="23" y="117"/>
                  </a:lnTo>
                  <a:lnTo>
                    <a:pt x="39" y="119"/>
                  </a:lnTo>
                  <a:lnTo>
                    <a:pt x="57" y="117"/>
                  </a:lnTo>
                  <a:lnTo>
                    <a:pt x="77" y="111"/>
                  </a:lnTo>
                </a:path>
              </a:pathLst>
            </a:custGeom>
            <a:noFill/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2" name=""/>
            <p:cNvSpPr/>
            <p:nvPr/>
          </p:nvSpPr>
          <p:spPr>
            <a:xfrm>
              <a:off x="793440" y="5309640"/>
              <a:ext cx="81720" cy="45720"/>
            </a:xfrm>
            <a:custGeom>
              <a:avLst/>
              <a:gdLst/>
              <a:ahLst/>
              <a:rect l="l" t="t" r="r" b="b"/>
              <a:pathLst>
                <a:path w="205" h="210">
                  <a:moveTo>
                    <a:pt x="179" y="0"/>
                  </a:moveTo>
                  <a:lnTo>
                    <a:pt x="146" y="44"/>
                  </a:lnTo>
                  <a:lnTo>
                    <a:pt x="125" y="51"/>
                  </a:lnTo>
                  <a:lnTo>
                    <a:pt x="107" y="54"/>
                  </a:lnTo>
                  <a:lnTo>
                    <a:pt x="86" y="49"/>
                  </a:lnTo>
                  <a:lnTo>
                    <a:pt x="71" y="41"/>
                  </a:lnTo>
                  <a:lnTo>
                    <a:pt x="47" y="34"/>
                  </a:lnTo>
                  <a:lnTo>
                    <a:pt x="34" y="36"/>
                  </a:lnTo>
                  <a:lnTo>
                    <a:pt x="23" y="42"/>
                  </a:lnTo>
                  <a:lnTo>
                    <a:pt x="11" y="51"/>
                  </a:lnTo>
                  <a:lnTo>
                    <a:pt x="3" y="64"/>
                  </a:lnTo>
                  <a:lnTo>
                    <a:pt x="1" y="78"/>
                  </a:lnTo>
                  <a:lnTo>
                    <a:pt x="0" y="93"/>
                  </a:lnTo>
                  <a:lnTo>
                    <a:pt x="3" y="111"/>
                  </a:lnTo>
                  <a:lnTo>
                    <a:pt x="10" y="122"/>
                  </a:lnTo>
                  <a:lnTo>
                    <a:pt x="24" y="132"/>
                  </a:lnTo>
                  <a:lnTo>
                    <a:pt x="42" y="137"/>
                  </a:lnTo>
                  <a:lnTo>
                    <a:pt x="62" y="137"/>
                  </a:lnTo>
                  <a:lnTo>
                    <a:pt x="79" y="127"/>
                  </a:lnTo>
                  <a:lnTo>
                    <a:pt x="83" y="116"/>
                  </a:lnTo>
                  <a:lnTo>
                    <a:pt x="88" y="88"/>
                  </a:lnTo>
                  <a:lnTo>
                    <a:pt x="88" y="124"/>
                  </a:lnTo>
                  <a:lnTo>
                    <a:pt x="91" y="138"/>
                  </a:lnTo>
                  <a:lnTo>
                    <a:pt x="71" y="135"/>
                  </a:lnTo>
                  <a:lnTo>
                    <a:pt x="49" y="143"/>
                  </a:lnTo>
                  <a:lnTo>
                    <a:pt x="32" y="160"/>
                  </a:lnTo>
                  <a:lnTo>
                    <a:pt x="23" y="182"/>
                  </a:lnTo>
                  <a:lnTo>
                    <a:pt x="24" y="197"/>
                  </a:lnTo>
                  <a:lnTo>
                    <a:pt x="36" y="210"/>
                  </a:lnTo>
                  <a:lnTo>
                    <a:pt x="50" y="210"/>
                  </a:lnTo>
                  <a:lnTo>
                    <a:pt x="73" y="202"/>
                  </a:lnTo>
                  <a:lnTo>
                    <a:pt x="97" y="194"/>
                  </a:lnTo>
                  <a:lnTo>
                    <a:pt x="120" y="189"/>
                  </a:lnTo>
                  <a:lnTo>
                    <a:pt x="144" y="190"/>
                  </a:lnTo>
                  <a:lnTo>
                    <a:pt x="167" y="187"/>
                  </a:lnTo>
                  <a:lnTo>
                    <a:pt x="182" y="182"/>
                  </a:lnTo>
                  <a:lnTo>
                    <a:pt x="195" y="173"/>
                  </a:lnTo>
                  <a:lnTo>
                    <a:pt x="201" y="156"/>
                  </a:lnTo>
                  <a:lnTo>
                    <a:pt x="203" y="137"/>
                  </a:lnTo>
                  <a:lnTo>
                    <a:pt x="198" y="114"/>
                  </a:lnTo>
                  <a:lnTo>
                    <a:pt x="198" y="81"/>
                  </a:lnTo>
                  <a:lnTo>
                    <a:pt x="205" y="54"/>
                  </a:lnTo>
                  <a:lnTo>
                    <a:pt x="198" y="21"/>
                  </a:lnTo>
                  <a:lnTo>
                    <a:pt x="205" y="54"/>
                  </a:lnTo>
                  <a:lnTo>
                    <a:pt x="196" y="80"/>
                  </a:lnTo>
                  <a:lnTo>
                    <a:pt x="195" y="98"/>
                  </a:lnTo>
                  <a:lnTo>
                    <a:pt x="192" y="109"/>
                  </a:lnTo>
                  <a:lnTo>
                    <a:pt x="182" y="117"/>
                  </a:lnTo>
                  <a:lnTo>
                    <a:pt x="166" y="119"/>
                  </a:lnTo>
                  <a:lnTo>
                    <a:pt x="148" y="117"/>
                  </a:lnTo>
                  <a:lnTo>
                    <a:pt x="128" y="112"/>
                  </a:lnTo>
                </a:path>
              </a:pathLst>
            </a:custGeom>
            <a:noFill/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3" name=""/>
            <p:cNvSpPr/>
            <p:nvPr/>
          </p:nvSpPr>
          <p:spPr>
            <a:xfrm>
              <a:off x="942480" y="4707720"/>
              <a:ext cx="355680" cy="381960"/>
            </a:xfrm>
            <a:custGeom>
              <a:avLst/>
              <a:gdLst/>
              <a:ahLst/>
              <a:rect l="l" t="t" r="r" b="b"/>
              <a:pathLst>
                <a:path w="887" h="1735">
                  <a:moveTo>
                    <a:pt x="83" y="3"/>
                  </a:moveTo>
                  <a:lnTo>
                    <a:pt x="109" y="0"/>
                  </a:lnTo>
                  <a:lnTo>
                    <a:pt x="151" y="8"/>
                  </a:lnTo>
                  <a:lnTo>
                    <a:pt x="184" y="18"/>
                  </a:lnTo>
                  <a:lnTo>
                    <a:pt x="213" y="31"/>
                  </a:lnTo>
                  <a:lnTo>
                    <a:pt x="232" y="39"/>
                  </a:lnTo>
                  <a:lnTo>
                    <a:pt x="258" y="54"/>
                  </a:lnTo>
                  <a:lnTo>
                    <a:pt x="292" y="73"/>
                  </a:lnTo>
                  <a:lnTo>
                    <a:pt x="326" y="93"/>
                  </a:lnTo>
                  <a:lnTo>
                    <a:pt x="344" y="104"/>
                  </a:lnTo>
                  <a:lnTo>
                    <a:pt x="357" y="106"/>
                  </a:lnTo>
                  <a:lnTo>
                    <a:pt x="398" y="101"/>
                  </a:lnTo>
                  <a:lnTo>
                    <a:pt x="432" y="97"/>
                  </a:lnTo>
                  <a:lnTo>
                    <a:pt x="453" y="97"/>
                  </a:lnTo>
                  <a:lnTo>
                    <a:pt x="473" y="97"/>
                  </a:lnTo>
                  <a:lnTo>
                    <a:pt x="487" y="97"/>
                  </a:lnTo>
                  <a:lnTo>
                    <a:pt x="512" y="102"/>
                  </a:lnTo>
                  <a:lnTo>
                    <a:pt x="528" y="110"/>
                  </a:lnTo>
                  <a:lnTo>
                    <a:pt x="547" y="127"/>
                  </a:lnTo>
                  <a:lnTo>
                    <a:pt x="531" y="117"/>
                  </a:lnTo>
                  <a:lnTo>
                    <a:pt x="518" y="112"/>
                  </a:lnTo>
                  <a:lnTo>
                    <a:pt x="504" y="110"/>
                  </a:lnTo>
                  <a:lnTo>
                    <a:pt x="499" y="119"/>
                  </a:lnTo>
                  <a:lnTo>
                    <a:pt x="497" y="133"/>
                  </a:lnTo>
                  <a:lnTo>
                    <a:pt x="502" y="148"/>
                  </a:lnTo>
                  <a:lnTo>
                    <a:pt x="512" y="166"/>
                  </a:lnTo>
                  <a:lnTo>
                    <a:pt x="500" y="153"/>
                  </a:lnTo>
                  <a:lnTo>
                    <a:pt x="494" y="141"/>
                  </a:lnTo>
                  <a:lnTo>
                    <a:pt x="489" y="125"/>
                  </a:lnTo>
                  <a:lnTo>
                    <a:pt x="491" y="112"/>
                  </a:lnTo>
                  <a:lnTo>
                    <a:pt x="482" y="107"/>
                  </a:lnTo>
                  <a:lnTo>
                    <a:pt x="465" y="106"/>
                  </a:lnTo>
                  <a:lnTo>
                    <a:pt x="445" y="106"/>
                  </a:lnTo>
                  <a:lnTo>
                    <a:pt x="422" y="106"/>
                  </a:lnTo>
                  <a:lnTo>
                    <a:pt x="388" y="110"/>
                  </a:lnTo>
                  <a:lnTo>
                    <a:pt x="364" y="117"/>
                  </a:lnTo>
                  <a:lnTo>
                    <a:pt x="387" y="133"/>
                  </a:lnTo>
                  <a:lnTo>
                    <a:pt x="422" y="158"/>
                  </a:lnTo>
                  <a:lnTo>
                    <a:pt x="447" y="177"/>
                  </a:lnTo>
                  <a:lnTo>
                    <a:pt x="463" y="192"/>
                  </a:lnTo>
                  <a:lnTo>
                    <a:pt x="478" y="210"/>
                  </a:lnTo>
                  <a:lnTo>
                    <a:pt x="489" y="224"/>
                  </a:lnTo>
                  <a:lnTo>
                    <a:pt x="502" y="244"/>
                  </a:lnTo>
                  <a:lnTo>
                    <a:pt x="512" y="263"/>
                  </a:lnTo>
                  <a:lnTo>
                    <a:pt x="551" y="249"/>
                  </a:lnTo>
                  <a:lnTo>
                    <a:pt x="560" y="226"/>
                  </a:lnTo>
                  <a:lnTo>
                    <a:pt x="569" y="211"/>
                  </a:lnTo>
                  <a:lnTo>
                    <a:pt x="565" y="228"/>
                  </a:lnTo>
                  <a:lnTo>
                    <a:pt x="562" y="247"/>
                  </a:lnTo>
                  <a:lnTo>
                    <a:pt x="573" y="257"/>
                  </a:lnTo>
                  <a:lnTo>
                    <a:pt x="591" y="262"/>
                  </a:lnTo>
                  <a:lnTo>
                    <a:pt x="611" y="262"/>
                  </a:lnTo>
                  <a:lnTo>
                    <a:pt x="591" y="267"/>
                  </a:lnTo>
                  <a:lnTo>
                    <a:pt x="578" y="267"/>
                  </a:lnTo>
                  <a:lnTo>
                    <a:pt x="565" y="260"/>
                  </a:lnTo>
                  <a:lnTo>
                    <a:pt x="557" y="254"/>
                  </a:lnTo>
                  <a:lnTo>
                    <a:pt x="538" y="262"/>
                  </a:lnTo>
                  <a:lnTo>
                    <a:pt x="517" y="271"/>
                  </a:lnTo>
                  <a:lnTo>
                    <a:pt x="523" y="289"/>
                  </a:lnTo>
                  <a:lnTo>
                    <a:pt x="533" y="314"/>
                  </a:lnTo>
                  <a:lnTo>
                    <a:pt x="543" y="343"/>
                  </a:lnTo>
                  <a:lnTo>
                    <a:pt x="556" y="390"/>
                  </a:lnTo>
                  <a:lnTo>
                    <a:pt x="572" y="389"/>
                  </a:lnTo>
                  <a:lnTo>
                    <a:pt x="590" y="390"/>
                  </a:lnTo>
                  <a:lnTo>
                    <a:pt x="606" y="397"/>
                  </a:lnTo>
                  <a:lnTo>
                    <a:pt x="619" y="403"/>
                  </a:lnTo>
                  <a:lnTo>
                    <a:pt x="630" y="421"/>
                  </a:lnTo>
                  <a:lnTo>
                    <a:pt x="616" y="406"/>
                  </a:lnTo>
                  <a:lnTo>
                    <a:pt x="601" y="400"/>
                  </a:lnTo>
                  <a:lnTo>
                    <a:pt x="593" y="397"/>
                  </a:lnTo>
                  <a:lnTo>
                    <a:pt x="577" y="395"/>
                  </a:lnTo>
                  <a:lnTo>
                    <a:pt x="559" y="402"/>
                  </a:lnTo>
                  <a:lnTo>
                    <a:pt x="565" y="429"/>
                  </a:lnTo>
                  <a:lnTo>
                    <a:pt x="588" y="444"/>
                  </a:lnTo>
                  <a:lnTo>
                    <a:pt x="601" y="457"/>
                  </a:lnTo>
                  <a:lnTo>
                    <a:pt x="614" y="476"/>
                  </a:lnTo>
                  <a:lnTo>
                    <a:pt x="625" y="497"/>
                  </a:lnTo>
                  <a:lnTo>
                    <a:pt x="637" y="527"/>
                  </a:lnTo>
                  <a:lnTo>
                    <a:pt x="647" y="561"/>
                  </a:lnTo>
                  <a:lnTo>
                    <a:pt x="656" y="600"/>
                  </a:lnTo>
                  <a:lnTo>
                    <a:pt x="666" y="642"/>
                  </a:lnTo>
                  <a:lnTo>
                    <a:pt x="684" y="642"/>
                  </a:lnTo>
                  <a:lnTo>
                    <a:pt x="700" y="650"/>
                  </a:lnTo>
                  <a:lnTo>
                    <a:pt x="713" y="662"/>
                  </a:lnTo>
                  <a:lnTo>
                    <a:pt x="723" y="676"/>
                  </a:lnTo>
                  <a:lnTo>
                    <a:pt x="734" y="701"/>
                  </a:lnTo>
                  <a:lnTo>
                    <a:pt x="744" y="733"/>
                  </a:lnTo>
                  <a:lnTo>
                    <a:pt x="736" y="712"/>
                  </a:lnTo>
                  <a:lnTo>
                    <a:pt x="726" y="696"/>
                  </a:lnTo>
                  <a:lnTo>
                    <a:pt x="715" y="678"/>
                  </a:lnTo>
                  <a:lnTo>
                    <a:pt x="707" y="667"/>
                  </a:lnTo>
                  <a:lnTo>
                    <a:pt x="695" y="659"/>
                  </a:lnTo>
                  <a:lnTo>
                    <a:pt x="681" y="652"/>
                  </a:lnTo>
                  <a:lnTo>
                    <a:pt x="669" y="654"/>
                  </a:lnTo>
                  <a:lnTo>
                    <a:pt x="673" y="683"/>
                  </a:lnTo>
                  <a:lnTo>
                    <a:pt x="676" y="709"/>
                  </a:lnTo>
                  <a:lnTo>
                    <a:pt x="679" y="733"/>
                  </a:lnTo>
                  <a:lnTo>
                    <a:pt x="682" y="767"/>
                  </a:lnTo>
                  <a:lnTo>
                    <a:pt x="684" y="802"/>
                  </a:lnTo>
                  <a:lnTo>
                    <a:pt x="692" y="818"/>
                  </a:lnTo>
                  <a:lnTo>
                    <a:pt x="720" y="839"/>
                  </a:lnTo>
                  <a:lnTo>
                    <a:pt x="689" y="821"/>
                  </a:lnTo>
                  <a:lnTo>
                    <a:pt x="681" y="810"/>
                  </a:lnTo>
                  <a:lnTo>
                    <a:pt x="673" y="823"/>
                  </a:lnTo>
                  <a:lnTo>
                    <a:pt x="664" y="855"/>
                  </a:lnTo>
                  <a:lnTo>
                    <a:pt x="669" y="828"/>
                  </a:lnTo>
                  <a:lnTo>
                    <a:pt x="677" y="800"/>
                  </a:lnTo>
                  <a:lnTo>
                    <a:pt x="674" y="767"/>
                  </a:lnTo>
                  <a:lnTo>
                    <a:pt x="669" y="732"/>
                  </a:lnTo>
                  <a:lnTo>
                    <a:pt x="664" y="698"/>
                  </a:lnTo>
                  <a:lnTo>
                    <a:pt x="658" y="663"/>
                  </a:lnTo>
                  <a:lnTo>
                    <a:pt x="653" y="639"/>
                  </a:lnTo>
                  <a:lnTo>
                    <a:pt x="647" y="610"/>
                  </a:lnTo>
                  <a:lnTo>
                    <a:pt x="638" y="577"/>
                  </a:lnTo>
                  <a:lnTo>
                    <a:pt x="629" y="543"/>
                  </a:lnTo>
                  <a:lnTo>
                    <a:pt x="622" y="524"/>
                  </a:lnTo>
                  <a:lnTo>
                    <a:pt x="609" y="497"/>
                  </a:lnTo>
                  <a:lnTo>
                    <a:pt x="598" y="480"/>
                  </a:lnTo>
                  <a:lnTo>
                    <a:pt x="583" y="465"/>
                  </a:lnTo>
                  <a:lnTo>
                    <a:pt x="570" y="457"/>
                  </a:lnTo>
                  <a:lnTo>
                    <a:pt x="573" y="480"/>
                  </a:lnTo>
                  <a:lnTo>
                    <a:pt x="578" y="512"/>
                  </a:lnTo>
                  <a:lnTo>
                    <a:pt x="586" y="559"/>
                  </a:lnTo>
                  <a:lnTo>
                    <a:pt x="593" y="613"/>
                  </a:lnTo>
                  <a:lnTo>
                    <a:pt x="599" y="660"/>
                  </a:lnTo>
                  <a:lnTo>
                    <a:pt x="617" y="777"/>
                  </a:lnTo>
                  <a:lnTo>
                    <a:pt x="629" y="852"/>
                  </a:lnTo>
                  <a:lnTo>
                    <a:pt x="637" y="886"/>
                  </a:lnTo>
                  <a:lnTo>
                    <a:pt x="647" y="912"/>
                  </a:lnTo>
                  <a:lnTo>
                    <a:pt x="663" y="950"/>
                  </a:lnTo>
                  <a:lnTo>
                    <a:pt x="677" y="984"/>
                  </a:lnTo>
                  <a:lnTo>
                    <a:pt x="690" y="1016"/>
                  </a:lnTo>
                  <a:lnTo>
                    <a:pt x="708" y="1062"/>
                  </a:lnTo>
                  <a:lnTo>
                    <a:pt x="721" y="1065"/>
                  </a:lnTo>
                  <a:lnTo>
                    <a:pt x="733" y="1062"/>
                  </a:lnTo>
                  <a:lnTo>
                    <a:pt x="742" y="1052"/>
                  </a:lnTo>
                  <a:lnTo>
                    <a:pt x="749" y="1037"/>
                  </a:lnTo>
                  <a:lnTo>
                    <a:pt x="747" y="1024"/>
                  </a:lnTo>
                  <a:lnTo>
                    <a:pt x="741" y="1002"/>
                  </a:lnTo>
                  <a:lnTo>
                    <a:pt x="738" y="979"/>
                  </a:lnTo>
                  <a:lnTo>
                    <a:pt x="751" y="961"/>
                  </a:lnTo>
                  <a:lnTo>
                    <a:pt x="742" y="948"/>
                  </a:lnTo>
                  <a:lnTo>
                    <a:pt x="746" y="930"/>
                  </a:lnTo>
                  <a:lnTo>
                    <a:pt x="747" y="948"/>
                  </a:lnTo>
                  <a:lnTo>
                    <a:pt x="759" y="961"/>
                  </a:lnTo>
                  <a:lnTo>
                    <a:pt x="747" y="979"/>
                  </a:lnTo>
                  <a:lnTo>
                    <a:pt x="749" y="997"/>
                  </a:lnTo>
                  <a:lnTo>
                    <a:pt x="757" y="1033"/>
                  </a:lnTo>
                  <a:lnTo>
                    <a:pt x="773" y="1041"/>
                  </a:lnTo>
                  <a:lnTo>
                    <a:pt x="788" y="1049"/>
                  </a:lnTo>
                  <a:lnTo>
                    <a:pt x="796" y="1059"/>
                  </a:lnTo>
                  <a:lnTo>
                    <a:pt x="801" y="1072"/>
                  </a:lnTo>
                  <a:lnTo>
                    <a:pt x="804" y="1089"/>
                  </a:lnTo>
                  <a:lnTo>
                    <a:pt x="794" y="1067"/>
                  </a:lnTo>
                  <a:lnTo>
                    <a:pt x="783" y="1054"/>
                  </a:lnTo>
                  <a:lnTo>
                    <a:pt x="768" y="1047"/>
                  </a:lnTo>
                  <a:lnTo>
                    <a:pt x="759" y="1046"/>
                  </a:lnTo>
                  <a:lnTo>
                    <a:pt x="754" y="1055"/>
                  </a:lnTo>
                  <a:lnTo>
                    <a:pt x="747" y="1065"/>
                  </a:lnTo>
                  <a:lnTo>
                    <a:pt x="739" y="1073"/>
                  </a:lnTo>
                  <a:lnTo>
                    <a:pt x="728" y="1080"/>
                  </a:lnTo>
                  <a:lnTo>
                    <a:pt x="715" y="1080"/>
                  </a:lnTo>
                  <a:lnTo>
                    <a:pt x="723" y="1099"/>
                  </a:lnTo>
                  <a:lnTo>
                    <a:pt x="734" y="1116"/>
                  </a:lnTo>
                  <a:lnTo>
                    <a:pt x="747" y="1132"/>
                  </a:lnTo>
                  <a:lnTo>
                    <a:pt x="765" y="1155"/>
                  </a:lnTo>
                  <a:lnTo>
                    <a:pt x="778" y="1169"/>
                  </a:lnTo>
                  <a:lnTo>
                    <a:pt x="791" y="1182"/>
                  </a:lnTo>
                  <a:lnTo>
                    <a:pt x="799" y="1190"/>
                  </a:lnTo>
                  <a:lnTo>
                    <a:pt x="804" y="1200"/>
                  </a:lnTo>
                  <a:lnTo>
                    <a:pt x="806" y="1213"/>
                  </a:lnTo>
                  <a:lnTo>
                    <a:pt x="809" y="1288"/>
                  </a:lnTo>
                  <a:lnTo>
                    <a:pt x="811" y="1330"/>
                  </a:lnTo>
                  <a:lnTo>
                    <a:pt x="812" y="1345"/>
                  </a:lnTo>
                  <a:lnTo>
                    <a:pt x="812" y="1355"/>
                  </a:lnTo>
                  <a:lnTo>
                    <a:pt x="819" y="1374"/>
                  </a:lnTo>
                  <a:lnTo>
                    <a:pt x="827" y="1394"/>
                  </a:lnTo>
                  <a:lnTo>
                    <a:pt x="835" y="1407"/>
                  </a:lnTo>
                  <a:lnTo>
                    <a:pt x="848" y="1425"/>
                  </a:lnTo>
                  <a:lnTo>
                    <a:pt x="858" y="1436"/>
                  </a:lnTo>
                  <a:lnTo>
                    <a:pt x="859" y="1530"/>
                  </a:lnTo>
                  <a:lnTo>
                    <a:pt x="887" y="1550"/>
                  </a:lnTo>
                  <a:lnTo>
                    <a:pt x="859" y="1533"/>
                  </a:lnTo>
                  <a:lnTo>
                    <a:pt x="858" y="1564"/>
                  </a:lnTo>
                  <a:lnTo>
                    <a:pt x="853" y="1457"/>
                  </a:lnTo>
                  <a:lnTo>
                    <a:pt x="851" y="1438"/>
                  </a:lnTo>
                  <a:lnTo>
                    <a:pt x="837" y="1421"/>
                  </a:lnTo>
                  <a:lnTo>
                    <a:pt x="829" y="1410"/>
                  </a:lnTo>
                  <a:lnTo>
                    <a:pt x="819" y="1395"/>
                  </a:lnTo>
                  <a:lnTo>
                    <a:pt x="811" y="1381"/>
                  </a:lnTo>
                  <a:lnTo>
                    <a:pt x="806" y="1366"/>
                  </a:lnTo>
                  <a:lnTo>
                    <a:pt x="803" y="1351"/>
                  </a:lnTo>
                  <a:lnTo>
                    <a:pt x="801" y="1330"/>
                  </a:lnTo>
                  <a:lnTo>
                    <a:pt x="799" y="1309"/>
                  </a:lnTo>
                  <a:lnTo>
                    <a:pt x="796" y="1257"/>
                  </a:lnTo>
                  <a:lnTo>
                    <a:pt x="794" y="1211"/>
                  </a:lnTo>
                  <a:lnTo>
                    <a:pt x="791" y="1200"/>
                  </a:lnTo>
                  <a:lnTo>
                    <a:pt x="785" y="1192"/>
                  </a:lnTo>
                  <a:lnTo>
                    <a:pt x="770" y="1177"/>
                  </a:lnTo>
                  <a:lnTo>
                    <a:pt x="755" y="1163"/>
                  </a:lnTo>
                  <a:lnTo>
                    <a:pt x="742" y="1145"/>
                  </a:lnTo>
                  <a:lnTo>
                    <a:pt x="713" y="1109"/>
                  </a:lnTo>
                  <a:lnTo>
                    <a:pt x="703" y="1150"/>
                  </a:lnTo>
                  <a:lnTo>
                    <a:pt x="697" y="1192"/>
                  </a:lnTo>
                  <a:lnTo>
                    <a:pt x="694" y="1213"/>
                  </a:lnTo>
                  <a:lnTo>
                    <a:pt x="710" y="1228"/>
                  </a:lnTo>
                  <a:lnTo>
                    <a:pt x="725" y="1244"/>
                  </a:lnTo>
                  <a:lnTo>
                    <a:pt x="736" y="1244"/>
                  </a:lnTo>
                  <a:lnTo>
                    <a:pt x="764" y="1239"/>
                  </a:lnTo>
                  <a:lnTo>
                    <a:pt x="729" y="1251"/>
                  </a:lnTo>
                  <a:lnTo>
                    <a:pt x="738" y="1262"/>
                  </a:lnTo>
                  <a:lnTo>
                    <a:pt x="757" y="1291"/>
                  </a:lnTo>
                  <a:lnTo>
                    <a:pt x="772" y="1316"/>
                  </a:lnTo>
                  <a:lnTo>
                    <a:pt x="781" y="1340"/>
                  </a:lnTo>
                  <a:lnTo>
                    <a:pt x="788" y="1361"/>
                  </a:lnTo>
                  <a:lnTo>
                    <a:pt x="793" y="1382"/>
                  </a:lnTo>
                  <a:lnTo>
                    <a:pt x="796" y="1410"/>
                  </a:lnTo>
                  <a:lnTo>
                    <a:pt x="798" y="1428"/>
                  </a:lnTo>
                  <a:lnTo>
                    <a:pt x="796" y="1454"/>
                  </a:lnTo>
                  <a:lnTo>
                    <a:pt x="798" y="1477"/>
                  </a:lnTo>
                  <a:lnTo>
                    <a:pt x="798" y="1493"/>
                  </a:lnTo>
                  <a:lnTo>
                    <a:pt x="803" y="1527"/>
                  </a:lnTo>
                  <a:lnTo>
                    <a:pt x="812" y="1543"/>
                  </a:lnTo>
                  <a:lnTo>
                    <a:pt x="819" y="1555"/>
                  </a:lnTo>
                  <a:lnTo>
                    <a:pt x="827" y="1655"/>
                  </a:lnTo>
                  <a:lnTo>
                    <a:pt x="842" y="1662"/>
                  </a:lnTo>
                  <a:lnTo>
                    <a:pt x="855" y="1670"/>
                  </a:lnTo>
                  <a:lnTo>
                    <a:pt x="866" y="1673"/>
                  </a:lnTo>
                  <a:lnTo>
                    <a:pt x="882" y="1667"/>
                  </a:lnTo>
                  <a:lnTo>
                    <a:pt x="866" y="1678"/>
                  </a:lnTo>
                  <a:lnTo>
                    <a:pt x="853" y="1675"/>
                  </a:lnTo>
                  <a:lnTo>
                    <a:pt x="840" y="1668"/>
                  </a:lnTo>
                  <a:lnTo>
                    <a:pt x="827" y="1664"/>
                  </a:lnTo>
                  <a:lnTo>
                    <a:pt x="830" y="1678"/>
                  </a:lnTo>
                  <a:lnTo>
                    <a:pt x="837" y="1695"/>
                  </a:lnTo>
                  <a:lnTo>
                    <a:pt x="851" y="1716"/>
                  </a:lnTo>
                  <a:lnTo>
                    <a:pt x="871" y="1735"/>
                  </a:lnTo>
                  <a:lnTo>
                    <a:pt x="851" y="1719"/>
                  </a:lnTo>
                  <a:lnTo>
                    <a:pt x="840" y="1709"/>
                  </a:lnTo>
                  <a:lnTo>
                    <a:pt x="833" y="1698"/>
                  </a:lnTo>
                  <a:lnTo>
                    <a:pt x="825" y="1685"/>
                  </a:lnTo>
                  <a:lnTo>
                    <a:pt x="819" y="1655"/>
                  </a:lnTo>
                  <a:lnTo>
                    <a:pt x="814" y="1587"/>
                  </a:lnTo>
                  <a:lnTo>
                    <a:pt x="812" y="1558"/>
                  </a:lnTo>
                  <a:lnTo>
                    <a:pt x="804" y="1545"/>
                  </a:lnTo>
                  <a:lnTo>
                    <a:pt x="796" y="1533"/>
                  </a:lnTo>
                  <a:lnTo>
                    <a:pt x="791" y="1501"/>
                  </a:lnTo>
                  <a:lnTo>
                    <a:pt x="788" y="1467"/>
                  </a:lnTo>
                  <a:lnTo>
                    <a:pt x="788" y="1436"/>
                  </a:lnTo>
                  <a:lnTo>
                    <a:pt x="785" y="1403"/>
                  </a:lnTo>
                  <a:lnTo>
                    <a:pt x="783" y="1382"/>
                  </a:lnTo>
                  <a:lnTo>
                    <a:pt x="775" y="1351"/>
                  </a:lnTo>
                  <a:lnTo>
                    <a:pt x="767" y="1327"/>
                  </a:lnTo>
                  <a:lnTo>
                    <a:pt x="757" y="1307"/>
                  </a:lnTo>
                  <a:lnTo>
                    <a:pt x="741" y="1285"/>
                  </a:lnTo>
                  <a:lnTo>
                    <a:pt x="723" y="1259"/>
                  </a:lnTo>
                  <a:lnTo>
                    <a:pt x="708" y="1241"/>
                  </a:lnTo>
                  <a:lnTo>
                    <a:pt x="695" y="1231"/>
                  </a:lnTo>
                  <a:lnTo>
                    <a:pt x="687" y="1234"/>
                  </a:lnTo>
                  <a:lnTo>
                    <a:pt x="686" y="1267"/>
                  </a:lnTo>
                  <a:lnTo>
                    <a:pt x="686" y="1298"/>
                  </a:lnTo>
                  <a:lnTo>
                    <a:pt x="687" y="1324"/>
                  </a:lnTo>
                  <a:lnTo>
                    <a:pt x="690" y="1343"/>
                  </a:lnTo>
                  <a:lnTo>
                    <a:pt x="695" y="1363"/>
                  </a:lnTo>
                  <a:lnTo>
                    <a:pt x="707" y="1392"/>
                  </a:lnTo>
                  <a:lnTo>
                    <a:pt x="723" y="1421"/>
                  </a:lnTo>
                  <a:lnTo>
                    <a:pt x="739" y="1451"/>
                  </a:lnTo>
                  <a:lnTo>
                    <a:pt x="754" y="1481"/>
                  </a:lnTo>
                  <a:lnTo>
                    <a:pt x="768" y="1516"/>
                  </a:lnTo>
                  <a:lnTo>
                    <a:pt x="775" y="1537"/>
                  </a:lnTo>
                  <a:lnTo>
                    <a:pt x="778" y="1550"/>
                  </a:lnTo>
                  <a:lnTo>
                    <a:pt x="783" y="1586"/>
                  </a:lnTo>
                  <a:lnTo>
                    <a:pt x="786" y="1616"/>
                  </a:lnTo>
                  <a:lnTo>
                    <a:pt x="811" y="1629"/>
                  </a:lnTo>
                  <a:lnTo>
                    <a:pt x="788" y="1621"/>
                  </a:lnTo>
                  <a:lnTo>
                    <a:pt x="790" y="1638"/>
                  </a:lnTo>
                  <a:lnTo>
                    <a:pt x="793" y="1657"/>
                  </a:lnTo>
                  <a:lnTo>
                    <a:pt x="799" y="1677"/>
                  </a:lnTo>
                  <a:lnTo>
                    <a:pt x="809" y="1701"/>
                  </a:lnTo>
                  <a:lnTo>
                    <a:pt x="793" y="1670"/>
                  </a:lnTo>
                  <a:lnTo>
                    <a:pt x="785" y="1646"/>
                  </a:lnTo>
                  <a:lnTo>
                    <a:pt x="781" y="1633"/>
                  </a:lnTo>
                  <a:lnTo>
                    <a:pt x="778" y="1613"/>
                  </a:lnTo>
                  <a:lnTo>
                    <a:pt x="777" y="1594"/>
                  </a:lnTo>
                  <a:lnTo>
                    <a:pt x="770" y="1560"/>
                  </a:lnTo>
                  <a:lnTo>
                    <a:pt x="764" y="1535"/>
                  </a:lnTo>
                  <a:lnTo>
                    <a:pt x="749" y="1501"/>
                  </a:lnTo>
                  <a:lnTo>
                    <a:pt x="731" y="1467"/>
                  </a:lnTo>
                  <a:lnTo>
                    <a:pt x="712" y="1429"/>
                  </a:lnTo>
                  <a:lnTo>
                    <a:pt x="700" y="1408"/>
                  </a:lnTo>
                  <a:lnTo>
                    <a:pt x="689" y="1384"/>
                  </a:lnTo>
                  <a:lnTo>
                    <a:pt x="681" y="1366"/>
                  </a:lnTo>
                  <a:lnTo>
                    <a:pt x="676" y="1343"/>
                  </a:lnTo>
                  <a:lnTo>
                    <a:pt x="674" y="1316"/>
                  </a:lnTo>
                  <a:lnTo>
                    <a:pt x="673" y="1285"/>
                  </a:lnTo>
                  <a:lnTo>
                    <a:pt x="674" y="1242"/>
                  </a:lnTo>
                  <a:lnTo>
                    <a:pt x="677" y="1216"/>
                  </a:lnTo>
                  <a:lnTo>
                    <a:pt x="664" y="1205"/>
                  </a:lnTo>
                  <a:lnTo>
                    <a:pt x="648" y="1203"/>
                  </a:lnTo>
                  <a:lnTo>
                    <a:pt x="625" y="1203"/>
                  </a:lnTo>
                  <a:lnTo>
                    <a:pt x="664" y="1198"/>
                  </a:lnTo>
                  <a:lnTo>
                    <a:pt x="681" y="1205"/>
                  </a:lnTo>
                  <a:lnTo>
                    <a:pt x="686" y="1171"/>
                  </a:lnTo>
                  <a:lnTo>
                    <a:pt x="690" y="1140"/>
                  </a:lnTo>
                  <a:lnTo>
                    <a:pt x="702" y="1096"/>
                  </a:lnTo>
                  <a:lnTo>
                    <a:pt x="694" y="1072"/>
                  </a:lnTo>
                  <a:lnTo>
                    <a:pt x="679" y="1028"/>
                  </a:lnTo>
                  <a:lnTo>
                    <a:pt x="668" y="1000"/>
                  </a:lnTo>
                  <a:lnTo>
                    <a:pt x="656" y="974"/>
                  </a:lnTo>
                  <a:lnTo>
                    <a:pt x="645" y="946"/>
                  </a:lnTo>
                  <a:lnTo>
                    <a:pt x="632" y="919"/>
                  </a:lnTo>
                  <a:lnTo>
                    <a:pt x="621" y="888"/>
                  </a:lnTo>
                  <a:lnTo>
                    <a:pt x="614" y="862"/>
                  </a:lnTo>
                  <a:lnTo>
                    <a:pt x="609" y="831"/>
                  </a:lnTo>
                  <a:lnTo>
                    <a:pt x="598" y="759"/>
                  </a:lnTo>
                  <a:lnTo>
                    <a:pt x="586" y="688"/>
                  </a:lnTo>
                  <a:lnTo>
                    <a:pt x="577" y="689"/>
                  </a:lnTo>
                  <a:lnTo>
                    <a:pt x="570" y="694"/>
                  </a:lnTo>
                  <a:lnTo>
                    <a:pt x="562" y="706"/>
                  </a:lnTo>
                  <a:lnTo>
                    <a:pt x="559" y="720"/>
                  </a:lnTo>
                  <a:lnTo>
                    <a:pt x="557" y="761"/>
                  </a:lnTo>
                  <a:lnTo>
                    <a:pt x="562" y="803"/>
                  </a:lnTo>
                  <a:lnTo>
                    <a:pt x="562" y="839"/>
                  </a:lnTo>
                  <a:lnTo>
                    <a:pt x="562" y="865"/>
                  </a:lnTo>
                  <a:lnTo>
                    <a:pt x="565" y="880"/>
                  </a:lnTo>
                  <a:lnTo>
                    <a:pt x="572" y="896"/>
                  </a:lnTo>
                  <a:lnTo>
                    <a:pt x="586" y="920"/>
                  </a:lnTo>
                  <a:lnTo>
                    <a:pt x="603" y="953"/>
                  </a:lnTo>
                  <a:lnTo>
                    <a:pt x="625" y="995"/>
                  </a:lnTo>
                  <a:lnTo>
                    <a:pt x="638" y="1033"/>
                  </a:lnTo>
                  <a:lnTo>
                    <a:pt x="643" y="1062"/>
                  </a:lnTo>
                  <a:lnTo>
                    <a:pt x="651" y="1088"/>
                  </a:lnTo>
                  <a:lnTo>
                    <a:pt x="656" y="1120"/>
                  </a:lnTo>
                  <a:lnTo>
                    <a:pt x="676" y="1174"/>
                  </a:lnTo>
                  <a:lnTo>
                    <a:pt x="658" y="1133"/>
                  </a:lnTo>
                  <a:lnTo>
                    <a:pt x="647" y="1091"/>
                  </a:lnTo>
                  <a:lnTo>
                    <a:pt x="637" y="1063"/>
                  </a:lnTo>
                  <a:lnTo>
                    <a:pt x="632" y="1034"/>
                  </a:lnTo>
                  <a:lnTo>
                    <a:pt x="624" y="1010"/>
                  </a:lnTo>
                  <a:lnTo>
                    <a:pt x="612" y="985"/>
                  </a:lnTo>
                  <a:lnTo>
                    <a:pt x="598" y="956"/>
                  </a:lnTo>
                  <a:lnTo>
                    <a:pt x="580" y="924"/>
                  </a:lnTo>
                  <a:lnTo>
                    <a:pt x="567" y="904"/>
                  </a:lnTo>
                  <a:lnTo>
                    <a:pt x="559" y="886"/>
                  </a:lnTo>
                  <a:lnTo>
                    <a:pt x="556" y="872"/>
                  </a:lnTo>
                  <a:lnTo>
                    <a:pt x="556" y="839"/>
                  </a:lnTo>
                  <a:lnTo>
                    <a:pt x="556" y="815"/>
                  </a:lnTo>
                  <a:lnTo>
                    <a:pt x="549" y="766"/>
                  </a:lnTo>
                  <a:lnTo>
                    <a:pt x="549" y="740"/>
                  </a:lnTo>
                  <a:lnTo>
                    <a:pt x="551" y="712"/>
                  </a:lnTo>
                  <a:lnTo>
                    <a:pt x="554" y="694"/>
                  </a:lnTo>
                  <a:lnTo>
                    <a:pt x="560" y="683"/>
                  </a:lnTo>
                  <a:lnTo>
                    <a:pt x="572" y="672"/>
                  </a:lnTo>
                  <a:lnTo>
                    <a:pt x="583" y="667"/>
                  </a:lnTo>
                  <a:lnTo>
                    <a:pt x="575" y="610"/>
                  </a:lnTo>
                  <a:lnTo>
                    <a:pt x="564" y="535"/>
                  </a:lnTo>
                  <a:lnTo>
                    <a:pt x="554" y="483"/>
                  </a:lnTo>
                  <a:lnTo>
                    <a:pt x="546" y="444"/>
                  </a:lnTo>
                  <a:lnTo>
                    <a:pt x="541" y="419"/>
                  </a:lnTo>
                  <a:lnTo>
                    <a:pt x="533" y="382"/>
                  </a:lnTo>
                  <a:lnTo>
                    <a:pt x="525" y="356"/>
                  </a:lnTo>
                  <a:lnTo>
                    <a:pt x="515" y="323"/>
                  </a:lnTo>
                  <a:lnTo>
                    <a:pt x="505" y="297"/>
                  </a:lnTo>
                  <a:lnTo>
                    <a:pt x="497" y="275"/>
                  </a:lnTo>
                  <a:lnTo>
                    <a:pt x="487" y="254"/>
                  </a:lnTo>
                  <a:lnTo>
                    <a:pt x="478" y="236"/>
                  </a:lnTo>
                  <a:lnTo>
                    <a:pt x="460" y="213"/>
                  </a:lnTo>
                  <a:lnTo>
                    <a:pt x="455" y="237"/>
                  </a:lnTo>
                  <a:lnTo>
                    <a:pt x="447" y="262"/>
                  </a:lnTo>
                  <a:lnTo>
                    <a:pt x="440" y="281"/>
                  </a:lnTo>
                  <a:lnTo>
                    <a:pt x="432" y="302"/>
                  </a:lnTo>
                  <a:lnTo>
                    <a:pt x="419" y="328"/>
                  </a:lnTo>
                  <a:lnTo>
                    <a:pt x="413" y="359"/>
                  </a:lnTo>
                  <a:lnTo>
                    <a:pt x="411" y="397"/>
                  </a:lnTo>
                  <a:lnTo>
                    <a:pt x="413" y="424"/>
                  </a:lnTo>
                  <a:lnTo>
                    <a:pt x="419" y="462"/>
                  </a:lnTo>
                  <a:lnTo>
                    <a:pt x="424" y="493"/>
                  </a:lnTo>
                  <a:lnTo>
                    <a:pt x="430" y="519"/>
                  </a:lnTo>
                  <a:lnTo>
                    <a:pt x="435" y="545"/>
                  </a:lnTo>
                  <a:lnTo>
                    <a:pt x="439" y="571"/>
                  </a:lnTo>
                  <a:lnTo>
                    <a:pt x="440" y="592"/>
                  </a:lnTo>
                  <a:lnTo>
                    <a:pt x="440" y="628"/>
                  </a:lnTo>
                  <a:lnTo>
                    <a:pt x="437" y="662"/>
                  </a:lnTo>
                  <a:lnTo>
                    <a:pt x="417" y="758"/>
                  </a:lnTo>
                  <a:lnTo>
                    <a:pt x="426" y="685"/>
                  </a:lnTo>
                  <a:lnTo>
                    <a:pt x="430" y="655"/>
                  </a:lnTo>
                  <a:lnTo>
                    <a:pt x="432" y="636"/>
                  </a:lnTo>
                  <a:lnTo>
                    <a:pt x="430" y="616"/>
                  </a:lnTo>
                  <a:lnTo>
                    <a:pt x="426" y="587"/>
                  </a:lnTo>
                  <a:lnTo>
                    <a:pt x="422" y="553"/>
                  </a:lnTo>
                  <a:lnTo>
                    <a:pt x="416" y="522"/>
                  </a:lnTo>
                  <a:lnTo>
                    <a:pt x="409" y="491"/>
                  </a:lnTo>
                  <a:lnTo>
                    <a:pt x="403" y="465"/>
                  </a:lnTo>
                  <a:lnTo>
                    <a:pt x="398" y="441"/>
                  </a:lnTo>
                  <a:lnTo>
                    <a:pt x="395" y="408"/>
                  </a:lnTo>
                  <a:lnTo>
                    <a:pt x="393" y="382"/>
                  </a:lnTo>
                  <a:lnTo>
                    <a:pt x="396" y="350"/>
                  </a:lnTo>
                  <a:lnTo>
                    <a:pt x="401" y="325"/>
                  </a:lnTo>
                  <a:lnTo>
                    <a:pt x="409" y="302"/>
                  </a:lnTo>
                  <a:lnTo>
                    <a:pt x="419" y="281"/>
                  </a:lnTo>
                  <a:lnTo>
                    <a:pt x="434" y="244"/>
                  </a:lnTo>
                  <a:lnTo>
                    <a:pt x="439" y="223"/>
                  </a:lnTo>
                  <a:lnTo>
                    <a:pt x="442" y="198"/>
                  </a:lnTo>
                  <a:lnTo>
                    <a:pt x="430" y="185"/>
                  </a:lnTo>
                  <a:lnTo>
                    <a:pt x="411" y="171"/>
                  </a:lnTo>
                  <a:lnTo>
                    <a:pt x="396" y="159"/>
                  </a:lnTo>
                  <a:lnTo>
                    <a:pt x="380" y="148"/>
                  </a:lnTo>
                  <a:lnTo>
                    <a:pt x="354" y="128"/>
                  </a:lnTo>
                  <a:lnTo>
                    <a:pt x="326" y="110"/>
                  </a:lnTo>
                  <a:lnTo>
                    <a:pt x="305" y="97"/>
                  </a:lnTo>
                  <a:lnTo>
                    <a:pt x="284" y="84"/>
                  </a:lnTo>
                  <a:lnTo>
                    <a:pt x="255" y="67"/>
                  </a:lnTo>
                  <a:lnTo>
                    <a:pt x="227" y="54"/>
                  </a:lnTo>
                  <a:lnTo>
                    <a:pt x="210" y="45"/>
                  </a:lnTo>
                  <a:lnTo>
                    <a:pt x="185" y="36"/>
                  </a:lnTo>
                  <a:lnTo>
                    <a:pt x="161" y="27"/>
                  </a:lnTo>
                  <a:lnTo>
                    <a:pt x="138" y="23"/>
                  </a:lnTo>
                  <a:lnTo>
                    <a:pt x="115" y="19"/>
                  </a:lnTo>
                  <a:lnTo>
                    <a:pt x="96" y="21"/>
                  </a:lnTo>
                  <a:lnTo>
                    <a:pt x="80" y="36"/>
                  </a:lnTo>
                  <a:lnTo>
                    <a:pt x="70" y="58"/>
                  </a:lnTo>
                  <a:lnTo>
                    <a:pt x="65" y="86"/>
                  </a:lnTo>
                  <a:lnTo>
                    <a:pt x="60" y="120"/>
                  </a:lnTo>
                  <a:lnTo>
                    <a:pt x="60" y="167"/>
                  </a:lnTo>
                  <a:lnTo>
                    <a:pt x="57" y="211"/>
                  </a:lnTo>
                  <a:lnTo>
                    <a:pt x="47" y="242"/>
                  </a:lnTo>
                  <a:lnTo>
                    <a:pt x="26" y="284"/>
                  </a:lnTo>
                  <a:lnTo>
                    <a:pt x="0" y="265"/>
                  </a:lnTo>
                  <a:lnTo>
                    <a:pt x="19" y="228"/>
                  </a:lnTo>
                  <a:lnTo>
                    <a:pt x="29" y="202"/>
                  </a:lnTo>
                  <a:lnTo>
                    <a:pt x="31" y="166"/>
                  </a:lnTo>
                  <a:lnTo>
                    <a:pt x="32" y="133"/>
                  </a:lnTo>
                  <a:lnTo>
                    <a:pt x="36" y="93"/>
                  </a:lnTo>
                  <a:lnTo>
                    <a:pt x="42" y="63"/>
                  </a:lnTo>
                  <a:lnTo>
                    <a:pt x="50" y="36"/>
                  </a:lnTo>
                  <a:lnTo>
                    <a:pt x="65" y="16"/>
                  </a:lnTo>
                  <a:lnTo>
                    <a:pt x="83" y="3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4" name=""/>
            <p:cNvSpPr/>
            <p:nvPr/>
          </p:nvSpPr>
          <p:spPr>
            <a:xfrm>
              <a:off x="542880" y="4705920"/>
              <a:ext cx="391680" cy="381600"/>
            </a:xfrm>
            <a:custGeom>
              <a:avLst/>
              <a:gdLst/>
              <a:ahLst/>
              <a:rect l="l" t="t" r="r" b="b"/>
              <a:pathLst>
                <a:path w="978" h="1735">
                  <a:moveTo>
                    <a:pt x="978" y="265"/>
                  </a:moveTo>
                  <a:lnTo>
                    <a:pt x="972" y="200"/>
                  </a:lnTo>
                  <a:lnTo>
                    <a:pt x="964" y="151"/>
                  </a:lnTo>
                  <a:lnTo>
                    <a:pt x="961" y="130"/>
                  </a:lnTo>
                  <a:lnTo>
                    <a:pt x="954" y="111"/>
                  </a:lnTo>
                  <a:lnTo>
                    <a:pt x="946" y="93"/>
                  </a:lnTo>
                  <a:lnTo>
                    <a:pt x="935" y="73"/>
                  </a:lnTo>
                  <a:lnTo>
                    <a:pt x="918" y="55"/>
                  </a:lnTo>
                  <a:lnTo>
                    <a:pt x="904" y="41"/>
                  </a:lnTo>
                  <a:lnTo>
                    <a:pt x="887" y="28"/>
                  </a:lnTo>
                  <a:lnTo>
                    <a:pt x="866" y="16"/>
                  </a:lnTo>
                  <a:lnTo>
                    <a:pt x="845" y="8"/>
                  </a:lnTo>
                  <a:lnTo>
                    <a:pt x="826" y="3"/>
                  </a:lnTo>
                  <a:lnTo>
                    <a:pt x="779" y="0"/>
                  </a:lnTo>
                  <a:lnTo>
                    <a:pt x="736" y="8"/>
                  </a:lnTo>
                  <a:lnTo>
                    <a:pt x="704" y="18"/>
                  </a:lnTo>
                  <a:lnTo>
                    <a:pt x="675" y="31"/>
                  </a:lnTo>
                  <a:lnTo>
                    <a:pt x="655" y="39"/>
                  </a:lnTo>
                  <a:lnTo>
                    <a:pt x="629" y="54"/>
                  </a:lnTo>
                  <a:lnTo>
                    <a:pt x="595" y="73"/>
                  </a:lnTo>
                  <a:lnTo>
                    <a:pt x="561" y="93"/>
                  </a:lnTo>
                  <a:lnTo>
                    <a:pt x="543" y="104"/>
                  </a:lnTo>
                  <a:lnTo>
                    <a:pt x="530" y="106"/>
                  </a:lnTo>
                  <a:lnTo>
                    <a:pt x="489" y="101"/>
                  </a:lnTo>
                  <a:lnTo>
                    <a:pt x="457" y="98"/>
                  </a:lnTo>
                  <a:lnTo>
                    <a:pt x="434" y="98"/>
                  </a:lnTo>
                  <a:lnTo>
                    <a:pt x="415" y="98"/>
                  </a:lnTo>
                  <a:lnTo>
                    <a:pt x="400" y="98"/>
                  </a:lnTo>
                  <a:lnTo>
                    <a:pt x="376" y="103"/>
                  </a:lnTo>
                  <a:lnTo>
                    <a:pt x="359" y="111"/>
                  </a:lnTo>
                  <a:lnTo>
                    <a:pt x="340" y="127"/>
                  </a:lnTo>
                  <a:lnTo>
                    <a:pt x="356" y="117"/>
                  </a:lnTo>
                  <a:lnTo>
                    <a:pt x="369" y="112"/>
                  </a:lnTo>
                  <a:lnTo>
                    <a:pt x="384" y="111"/>
                  </a:lnTo>
                  <a:lnTo>
                    <a:pt x="389" y="119"/>
                  </a:lnTo>
                  <a:lnTo>
                    <a:pt x="390" y="133"/>
                  </a:lnTo>
                  <a:lnTo>
                    <a:pt x="385" y="148"/>
                  </a:lnTo>
                  <a:lnTo>
                    <a:pt x="376" y="166"/>
                  </a:lnTo>
                  <a:lnTo>
                    <a:pt x="387" y="153"/>
                  </a:lnTo>
                  <a:lnTo>
                    <a:pt x="394" y="142"/>
                  </a:lnTo>
                  <a:lnTo>
                    <a:pt x="398" y="125"/>
                  </a:lnTo>
                  <a:lnTo>
                    <a:pt x="397" y="112"/>
                  </a:lnTo>
                  <a:lnTo>
                    <a:pt x="405" y="107"/>
                  </a:lnTo>
                  <a:lnTo>
                    <a:pt x="423" y="106"/>
                  </a:lnTo>
                  <a:lnTo>
                    <a:pt x="444" y="106"/>
                  </a:lnTo>
                  <a:lnTo>
                    <a:pt x="465" y="106"/>
                  </a:lnTo>
                  <a:lnTo>
                    <a:pt x="499" y="111"/>
                  </a:lnTo>
                  <a:lnTo>
                    <a:pt x="524" y="117"/>
                  </a:lnTo>
                  <a:lnTo>
                    <a:pt x="501" y="133"/>
                  </a:lnTo>
                  <a:lnTo>
                    <a:pt x="465" y="158"/>
                  </a:lnTo>
                  <a:lnTo>
                    <a:pt x="442" y="177"/>
                  </a:lnTo>
                  <a:lnTo>
                    <a:pt x="424" y="192"/>
                  </a:lnTo>
                  <a:lnTo>
                    <a:pt x="410" y="210"/>
                  </a:lnTo>
                  <a:lnTo>
                    <a:pt x="398" y="225"/>
                  </a:lnTo>
                  <a:lnTo>
                    <a:pt x="385" y="244"/>
                  </a:lnTo>
                  <a:lnTo>
                    <a:pt x="376" y="264"/>
                  </a:lnTo>
                  <a:lnTo>
                    <a:pt x="337" y="249"/>
                  </a:lnTo>
                  <a:lnTo>
                    <a:pt x="327" y="226"/>
                  </a:lnTo>
                  <a:lnTo>
                    <a:pt x="319" y="212"/>
                  </a:lnTo>
                  <a:lnTo>
                    <a:pt x="322" y="228"/>
                  </a:lnTo>
                  <a:lnTo>
                    <a:pt x="325" y="247"/>
                  </a:lnTo>
                  <a:lnTo>
                    <a:pt x="314" y="257"/>
                  </a:lnTo>
                  <a:lnTo>
                    <a:pt x="296" y="262"/>
                  </a:lnTo>
                  <a:lnTo>
                    <a:pt x="277" y="262"/>
                  </a:lnTo>
                  <a:lnTo>
                    <a:pt x="296" y="267"/>
                  </a:lnTo>
                  <a:lnTo>
                    <a:pt x="309" y="267"/>
                  </a:lnTo>
                  <a:lnTo>
                    <a:pt x="322" y="260"/>
                  </a:lnTo>
                  <a:lnTo>
                    <a:pt x="330" y="254"/>
                  </a:lnTo>
                  <a:lnTo>
                    <a:pt x="350" y="262"/>
                  </a:lnTo>
                  <a:lnTo>
                    <a:pt x="371" y="272"/>
                  </a:lnTo>
                  <a:lnTo>
                    <a:pt x="364" y="290"/>
                  </a:lnTo>
                  <a:lnTo>
                    <a:pt x="355" y="314"/>
                  </a:lnTo>
                  <a:lnTo>
                    <a:pt x="345" y="343"/>
                  </a:lnTo>
                  <a:lnTo>
                    <a:pt x="332" y="389"/>
                  </a:lnTo>
                  <a:lnTo>
                    <a:pt x="316" y="387"/>
                  </a:lnTo>
                  <a:lnTo>
                    <a:pt x="298" y="389"/>
                  </a:lnTo>
                  <a:lnTo>
                    <a:pt x="281" y="397"/>
                  </a:lnTo>
                  <a:lnTo>
                    <a:pt x="268" y="403"/>
                  </a:lnTo>
                  <a:lnTo>
                    <a:pt x="257" y="421"/>
                  </a:lnTo>
                  <a:lnTo>
                    <a:pt x="272" y="407"/>
                  </a:lnTo>
                  <a:lnTo>
                    <a:pt x="286" y="400"/>
                  </a:lnTo>
                  <a:lnTo>
                    <a:pt x="294" y="397"/>
                  </a:lnTo>
                  <a:lnTo>
                    <a:pt x="311" y="395"/>
                  </a:lnTo>
                  <a:lnTo>
                    <a:pt x="329" y="402"/>
                  </a:lnTo>
                  <a:lnTo>
                    <a:pt x="322" y="429"/>
                  </a:lnTo>
                  <a:lnTo>
                    <a:pt x="299" y="444"/>
                  </a:lnTo>
                  <a:lnTo>
                    <a:pt x="286" y="457"/>
                  </a:lnTo>
                  <a:lnTo>
                    <a:pt x="273" y="477"/>
                  </a:lnTo>
                  <a:lnTo>
                    <a:pt x="262" y="498"/>
                  </a:lnTo>
                  <a:lnTo>
                    <a:pt x="251" y="527"/>
                  </a:lnTo>
                  <a:lnTo>
                    <a:pt x="241" y="561"/>
                  </a:lnTo>
                  <a:lnTo>
                    <a:pt x="231" y="600"/>
                  </a:lnTo>
                  <a:lnTo>
                    <a:pt x="221" y="642"/>
                  </a:lnTo>
                  <a:lnTo>
                    <a:pt x="203" y="642"/>
                  </a:lnTo>
                  <a:lnTo>
                    <a:pt x="187" y="651"/>
                  </a:lnTo>
                  <a:lnTo>
                    <a:pt x="174" y="662"/>
                  </a:lnTo>
                  <a:lnTo>
                    <a:pt x="164" y="677"/>
                  </a:lnTo>
                  <a:lnTo>
                    <a:pt x="153" y="701"/>
                  </a:lnTo>
                  <a:lnTo>
                    <a:pt x="143" y="734"/>
                  </a:lnTo>
                  <a:lnTo>
                    <a:pt x="151" y="712"/>
                  </a:lnTo>
                  <a:lnTo>
                    <a:pt x="161" y="696"/>
                  </a:lnTo>
                  <a:lnTo>
                    <a:pt x="173" y="678"/>
                  </a:lnTo>
                  <a:lnTo>
                    <a:pt x="181" y="667"/>
                  </a:lnTo>
                  <a:lnTo>
                    <a:pt x="192" y="659"/>
                  </a:lnTo>
                  <a:lnTo>
                    <a:pt x="207" y="652"/>
                  </a:lnTo>
                  <a:lnTo>
                    <a:pt x="218" y="654"/>
                  </a:lnTo>
                  <a:lnTo>
                    <a:pt x="215" y="683"/>
                  </a:lnTo>
                  <a:lnTo>
                    <a:pt x="212" y="709"/>
                  </a:lnTo>
                  <a:lnTo>
                    <a:pt x="208" y="734"/>
                  </a:lnTo>
                  <a:lnTo>
                    <a:pt x="205" y="768"/>
                  </a:lnTo>
                  <a:lnTo>
                    <a:pt x="203" y="802"/>
                  </a:lnTo>
                  <a:lnTo>
                    <a:pt x="195" y="818"/>
                  </a:lnTo>
                  <a:lnTo>
                    <a:pt x="168" y="839"/>
                  </a:lnTo>
                  <a:lnTo>
                    <a:pt x="199" y="821"/>
                  </a:lnTo>
                  <a:lnTo>
                    <a:pt x="207" y="810"/>
                  </a:lnTo>
                  <a:lnTo>
                    <a:pt x="215" y="823"/>
                  </a:lnTo>
                  <a:lnTo>
                    <a:pt x="223" y="856"/>
                  </a:lnTo>
                  <a:lnTo>
                    <a:pt x="218" y="828"/>
                  </a:lnTo>
                  <a:lnTo>
                    <a:pt x="210" y="800"/>
                  </a:lnTo>
                  <a:lnTo>
                    <a:pt x="213" y="768"/>
                  </a:lnTo>
                  <a:lnTo>
                    <a:pt x="218" y="732"/>
                  </a:lnTo>
                  <a:lnTo>
                    <a:pt x="223" y="698"/>
                  </a:lnTo>
                  <a:lnTo>
                    <a:pt x="229" y="664"/>
                  </a:lnTo>
                  <a:lnTo>
                    <a:pt x="234" y="639"/>
                  </a:lnTo>
                  <a:lnTo>
                    <a:pt x="241" y="610"/>
                  </a:lnTo>
                  <a:lnTo>
                    <a:pt x="249" y="577"/>
                  </a:lnTo>
                  <a:lnTo>
                    <a:pt x="259" y="543"/>
                  </a:lnTo>
                  <a:lnTo>
                    <a:pt x="265" y="524"/>
                  </a:lnTo>
                  <a:lnTo>
                    <a:pt x="278" y="498"/>
                  </a:lnTo>
                  <a:lnTo>
                    <a:pt x="290" y="480"/>
                  </a:lnTo>
                  <a:lnTo>
                    <a:pt x="304" y="465"/>
                  </a:lnTo>
                  <a:lnTo>
                    <a:pt x="317" y="457"/>
                  </a:lnTo>
                  <a:lnTo>
                    <a:pt x="314" y="480"/>
                  </a:lnTo>
                  <a:lnTo>
                    <a:pt x="309" y="512"/>
                  </a:lnTo>
                  <a:lnTo>
                    <a:pt x="301" y="560"/>
                  </a:lnTo>
                  <a:lnTo>
                    <a:pt x="294" y="613"/>
                  </a:lnTo>
                  <a:lnTo>
                    <a:pt x="288" y="660"/>
                  </a:lnTo>
                  <a:lnTo>
                    <a:pt x="270" y="777"/>
                  </a:lnTo>
                  <a:lnTo>
                    <a:pt x="259" y="852"/>
                  </a:lnTo>
                  <a:lnTo>
                    <a:pt x="251" y="886"/>
                  </a:lnTo>
                  <a:lnTo>
                    <a:pt x="241" y="912"/>
                  </a:lnTo>
                  <a:lnTo>
                    <a:pt x="225" y="950"/>
                  </a:lnTo>
                  <a:lnTo>
                    <a:pt x="210" y="984"/>
                  </a:lnTo>
                  <a:lnTo>
                    <a:pt x="197" y="1017"/>
                  </a:lnTo>
                  <a:lnTo>
                    <a:pt x="179" y="1062"/>
                  </a:lnTo>
                  <a:lnTo>
                    <a:pt x="166" y="1065"/>
                  </a:lnTo>
                  <a:lnTo>
                    <a:pt x="155" y="1062"/>
                  </a:lnTo>
                  <a:lnTo>
                    <a:pt x="145" y="1052"/>
                  </a:lnTo>
                  <a:lnTo>
                    <a:pt x="138" y="1038"/>
                  </a:lnTo>
                  <a:lnTo>
                    <a:pt x="140" y="1025"/>
                  </a:lnTo>
                  <a:lnTo>
                    <a:pt x="147" y="1002"/>
                  </a:lnTo>
                  <a:lnTo>
                    <a:pt x="150" y="979"/>
                  </a:lnTo>
                  <a:lnTo>
                    <a:pt x="137" y="961"/>
                  </a:lnTo>
                  <a:lnTo>
                    <a:pt x="145" y="948"/>
                  </a:lnTo>
                  <a:lnTo>
                    <a:pt x="142" y="930"/>
                  </a:lnTo>
                  <a:lnTo>
                    <a:pt x="140" y="948"/>
                  </a:lnTo>
                  <a:lnTo>
                    <a:pt x="129" y="961"/>
                  </a:lnTo>
                  <a:lnTo>
                    <a:pt x="140" y="979"/>
                  </a:lnTo>
                  <a:lnTo>
                    <a:pt x="138" y="997"/>
                  </a:lnTo>
                  <a:lnTo>
                    <a:pt x="130" y="1033"/>
                  </a:lnTo>
                  <a:lnTo>
                    <a:pt x="114" y="1041"/>
                  </a:lnTo>
                  <a:lnTo>
                    <a:pt x="99" y="1049"/>
                  </a:lnTo>
                  <a:lnTo>
                    <a:pt x="91" y="1059"/>
                  </a:lnTo>
                  <a:lnTo>
                    <a:pt x="86" y="1072"/>
                  </a:lnTo>
                  <a:lnTo>
                    <a:pt x="83" y="1090"/>
                  </a:lnTo>
                  <a:lnTo>
                    <a:pt x="93" y="1067"/>
                  </a:lnTo>
                  <a:lnTo>
                    <a:pt x="104" y="1054"/>
                  </a:lnTo>
                  <a:lnTo>
                    <a:pt x="119" y="1047"/>
                  </a:lnTo>
                  <a:lnTo>
                    <a:pt x="129" y="1046"/>
                  </a:lnTo>
                  <a:lnTo>
                    <a:pt x="134" y="1056"/>
                  </a:lnTo>
                  <a:lnTo>
                    <a:pt x="140" y="1065"/>
                  </a:lnTo>
                  <a:lnTo>
                    <a:pt x="148" y="1073"/>
                  </a:lnTo>
                  <a:lnTo>
                    <a:pt x="160" y="1080"/>
                  </a:lnTo>
                  <a:lnTo>
                    <a:pt x="173" y="1080"/>
                  </a:lnTo>
                  <a:lnTo>
                    <a:pt x="164" y="1099"/>
                  </a:lnTo>
                  <a:lnTo>
                    <a:pt x="153" y="1116"/>
                  </a:lnTo>
                  <a:lnTo>
                    <a:pt x="140" y="1132"/>
                  </a:lnTo>
                  <a:lnTo>
                    <a:pt x="122" y="1155"/>
                  </a:lnTo>
                  <a:lnTo>
                    <a:pt x="109" y="1169"/>
                  </a:lnTo>
                  <a:lnTo>
                    <a:pt x="96" y="1182"/>
                  </a:lnTo>
                  <a:lnTo>
                    <a:pt x="88" y="1191"/>
                  </a:lnTo>
                  <a:lnTo>
                    <a:pt x="83" y="1200"/>
                  </a:lnTo>
                  <a:lnTo>
                    <a:pt x="82" y="1213"/>
                  </a:lnTo>
                  <a:lnTo>
                    <a:pt x="78" y="1288"/>
                  </a:lnTo>
                  <a:lnTo>
                    <a:pt x="77" y="1330"/>
                  </a:lnTo>
                  <a:lnTo>
                    <a:pt x="75" y="1345"/>
                  </a:lnTo>
                  <a:lnTo>
                    <a:pt x="75" y="1355"/>
                  </a:lnTo>
                  <a:lnTo>
                    <a:pt x="69" y="1374"/>
                  </a:lnTo>
                  <a:lnTo>
                    <a:pt x="60" y="1394"/>
                  </a:lnTo>
                  <a:lnTo>
                    <a:pt x="52" y="1407"/>
                  </a:lnTo>
                  <a:lnTo>
                    <a:pt x="39" y="1425"/>
                  </a:lnTo>
                  <a:lnTo>
                    <a:pt x="30" y="1436"/>
                  </a:lnTo>
                  <a:lnTo>
                    <a:pt x="28" y="1530"/>
                  </a:lnTo>
                  <a:lnTo>
                    <a:pt x="0" y="1550"/>
                  </a:lnTo>
                  <a:lnTo>
                    <a:pt x="28" y="1534"/>
                  </a:lnTo>
                  <a:lnTo>
                    <a:pt x="30" y="1565"/>
                  </a:lnTo>
                  <a:lnTo>
                    <a:pt x="34" y="1457"/>
                  </a:lnTo>
                  <a:lnTo>
                    <a:pt x="36" y="1438"/>
                  </a:lnTo>
                  <a:lnTo>
                    <a:pt x="51" y="1422"/>
                  </a:lnTo>
                  <a:lnTo>
                    <a:pt x="59" y="1410"/>
                  </a:lnTo>
                  <a:lnTo>
                    <a:pt x="69" y="1395"/>
                  </a:lnTo>
                  <a:lnTo>
                    <a:pt x="77" y="1381"/>
                  </a:lnTo>
                  <a:lnTo>
                    <a:pt x="82" y="1366"/>
                  </a:lnTo>
                  <a:lnTo>
                    <a:pt x="85" y="1352"/>
                  </a:lnTo>
                  <a:lnTo>
                    <a:pt x="86" y="1330"/>
                  </a:lnTo>
                  <a:lnTo>
                    <a:pt x="88" y="1309"/>
                  </a:lnTo>
                  <a:lnTo>
                    <a:pt x="91" y="1257"/>
                  </a:lnTo>
                  <a:lnTo>
                    <a:pt x="93" y="1212"/>
                  </a:lnTo>
                  <a:lnTo>
                    <a:pt x="96" y="1200"/>
                  </a:lnTo>
                  <a:lnTo>
                    <a:pt x="103" y="1192"/>
                  </a:lnTo>
                  <a:lnTo>
                    <a:pt x="117" y="1178"/>
                  </a:lnTo>
                  <a:lnTo>
                    <a:pt x="132" y="1163"/>
                  </a:lnTo>
                  <a:lnTo>
                    <a:pt x="145" y="1145"/>
                  </a:lnTo>
                  <a:lnTo>
                    <a:pt x="174" y="1109"/>
                  </a:lnTo>
                  <a:lnTo>
                    <a:pt x="184" y="1150"/>
                  </a:lnTo>
                  <a:lnTo>
                    <a:pt x="190" y="1192"/>
                  </a:lnTo>
                  <a:lnTo>
                    <a:pt x="194" y="1213"/>
                  </a:lnTo>
                  <a:lnTo>
                    <a:pt x="177" y="1228"/>
                  </a:lnTo>
                  <a:lnTo>
                    <a:pt x="163" y="1244"/>
                  </a:lnTo>
                  <a:lnTo>
                    <a:pt x="151" y="1244"/>
                  </a:lnTo>
                  <a:lnTo>
                    <a:pt x="124" y="1239"/>
                  </a:lnTo>
                  <a:lnTo>
                    <a:pt x="158" y="1251"/>
                  </a:lnTo>
                  <a:lnTo>
                    <a:pt x="150" y="1262"/>
                  </a:lnTo>
                  <a:lnTo>
                    <a:pt x="130" y="1291"/>
                  </a:lnTo>
                  <a:lnTo>
                    <a:pt x="116" y="1316"/>
                  </a:lnTo>
                  <a:lnTo>
                    <a:pt x="106" y="1340"/>
                  </a:lnTo>
                  <a:lnTo>
                    <a:pt x="99" y="1361"/>
                  </a:lnTo>
                  <a:lnTo>
                    <a:pt x="95" y="1382"/>
                  </a:lnTo>
                  <a:lnTo>
                    <a:pt x="91" y="1410"/>
                  </a:lnTo>
                  <a:lnTo>
                    <a:pt x="90" y="1428"/>
                  </a:lnTo>
                  <a:lnTo>
                    <a:pt x="91" y="1454"/>
                  </a:lnTo>
                  <a:lnTo>
                    <a:pt x="90" y="1477"/>
                  </a:lnTo>
                  <a:lnTo>
                    <a:pt x="90" y="1493"/>
                  </a:lnTo>
                  <a:lnTo>
                    <a:pt x="85" y="1527"/>
                  </a:lnTo>
                  <a:lnTo>
                    <a:pt x="75" y="1543"/>
                  </a:lnTo>
                  <a:lnTo>
                    <a:pt x="69" y="1555"/>
                  </a:lnTo>
                  <a:lnTo>
                    <a:pt x="60" y="1656"/>
                  </a:lnTo>
                  <a:lnTo>
                    <a:pt x="46" y="1662"/>
                  </a:lnTo>
                  <a:lnTo>
                    <a:pt x="33" y="1670"/>
                  </a:lnTo>
                  <a:lnTo>
                    <a:pt x="21" y="1674"/>
                  </a:lnTo>
                  <a:lnTo>
                    <a:pt x="5" y="1667"/>
                  </a:lnTo>
                  <a:lnTo>
                    <a:pt x="21" y="1678"/>
                  </a:lnTo>
                  <a:lnTo>
                    <a:pt x="34" y="1675"/>
                  </a:lnTo>
                  <a:lnTo>
                    <a:pt x="47" y="1669"/>
                  </a:lnTo>
                  <a:lnTo>
                    <a:pt x="60" y="1664"/>
                  </a:lnTo>
                  <a:lnTo>
                    <a:pt x="57" y="1678"/>
                  </a:lnTo>
                  <a:lnTo>
                    <a:pt x="51" y="1695"/>
                  </a:lnTo>
                  <a:lnTo>
                    <a:pt x="36" y="1716"/>
                  </a:lnTo>
                  <a:lnTo>
                    <a:pt x="17" y="1735"/>
                  </a:lnTo>
                  <a:lnTo>
                    <a:pt x="36" y="1719"/>
                  </a:lnTo>
                  <a:lnTo>
                    <a:pt x="47" y="1709"/>
                  </a:lnTo>
                  <a:lnTo>
                    <a:pt x="54" y="1698"/>
                  </a:lnTo>
                  <a:lnTo>
                    <a:pt x="62" y="1685"/>
                  </a:lnTo>
                  <a:lnTo>
                    <a:pt x="69" y="1656"/>
                  </a:lnTo>
                  <a:lnTo>
                    <a:pt x="73" y="1587"/>
                  </a:lnTo>
                  <a:lnTo>
                    <a:pt x="75" y="1558"/>
                  </a:lnTo>
                  <a:lnTo>
                    <a:pt x="83" y="1545"/>
                  </a:lnTo>
                  <a:lnTo>
                    <a:pt x="91" y="1534"/>
                  </a:lnTo>
                  <a:lnTo>
                    <a:pt x="96" y="1501"/>
                  </a:lnTo>
                  <a:lnTo>
                    <a:pt x="99" y="1467"/>
                  </a:lnTo>
                  <a:lnTo>
                    <a:pt x="99" y="1436"/>
                  </a:lnTo>
                  <a:lnTo>
                    <a:pt x="103" y="1404"/>
                  </a:lnTo>
                  <a:lnTo>
                    <a:pt x="104" y="1382"/>
                  </a:lnTo>
                  <a:lnTo>
                    <a:pt x="112" y="1352"/>
                  </a:lnTo>
                  <a:lnTo>
                    <a:pt x="121" y="1327"/>
                  </a:lnTo>
                  <a:lnTo>
                    <a:pt x="130" y="1308"/>
                  </a:lnTo>
                  <a:lnTo>
                    <a:pt x="147" y="1285"/>
                  </a:lnTo>
                  <a:lnTo>
                    <a:pt x="164" y="1259"/>
                  </a:lnTo>
                  <a:lnTo>
                    <a:pt x="179" y="1241"/>
                  </a:lnTo>
                  <a:lnTo>
                    <a:pt x="192" y="1231"/>
                  </a:lnTo>
                  <a:lnTo>
                    <a:pt x="200" y="1234"/>
                  </a:lnTo>
                  <a:lnTo>
                    <a:pt x="202" y="1267"/>
                  </a:lnTo>
                  <a:lnTo>
                    <a:pt x="202" y="1298"/>
                  </a:lnTo>
                  <a:lnTo>
                    <a:pt x="200" y="1324"/>
                  </a:lnTo>
                  <a:lnTo>
                    <a:pt x="197" y="1343"/>
                  </a:lnTo>
                  <a:lnTo>
                    <a:pt x="192" y="1363"/>
                  </a:lnTo>
                  <a:lnTo>
                    <a:pt x="181" y="1392"/>
                  </a:lnTo>
                  <a:lnTo>
                    <a:pt x="164" y="1422"/>
                  </a:lnTo>
                  <a:lnTo>
                    <a:pt x="148" y="1451"/>
                  </a:lnTo>
                  <a:lnTo>
                    <a:pt x="134" y="1482"/>
                  </a:lnTo>
                  <a:lnTo>
                    <a:pt x="119" y="1516"/>
                  </a:lnTo>
                  <a:lnTo>
                    <a:pt x="112" y="1537"/>
                  </a:lnTo>
                  <a:lnTo>
                    <a:pt x="109" y="1550"/>
                  </a:lnTo>
                  <a:lnTo>
                    <a:pt x="104" y="1586"/>
                  </a:lnTo>
                  <a:lnTo>
                    <a:pt x="101" y="1617"/>
                  </a:lnTo>
                  <a:lnTo>
                    <a:pt x="77" y="1630"/>
                  </a:lnTo>
                  <a:lnTo>
                    <a:pt x="99" y="1622"/>
                  </a:lnTo>
                  <a:lnTo>
                    <a:pt x="98" y="1638"/>
                  </a:lnTo>
                  <a:lnTo>
                    <a:pt x="95" y="1657"/>
                  </a:lnTo>
                  <a:lnTo>
                    <a:pt x="88" y="1677"/>
                  </a:lnTo>
                  <a:lnTo>
                    <a:pt x="78" y="1701"/>
                  </a:lnTo>
                  <a:lnTo>
                    <a:pt x="95" y="1670"/>
                  </a:lnTo>
                  <a:lnTo>
                    <a:pt x="103" y="1646"/>
                  </a:lnTo>
                  <a:lnTo>
                    <a:pt x="106" y="1633"/>
                  </a:lnTo>
                  <a:lnTo>
                    <a:pt x="109" y="1613"/>
                  </a:lnTo>
                  <a:lnTo>
                    <a:pt x="111" y="1594"/>
                  </a:lnTo>
                  <a:lnTo>
                    <a:pt x="117" y="1560"/>
                  </a:lnTo>
                  <a:lnTo>
                    <a:pt x="124" y="1535"/>
                  </a:lnTo>
                  <a:lnTo>
                    <a:pt x="138" y="1501"/>
                  </a:lnTo>
                  <a:lnTo>
                    <a:pt x="156" y="1467"/>
                  </a:lnTo>
                  <a:lnTo>
                    <a:pt x="176" y="1430"/>
                  </a:lnTo>
                  <a:lnTo>
                    <a:pt x="187" y="1409"/>
                  </a:lnTo>
                  <a:lnTo>
                    <a:pt x="199" y="1384"/>
                  </a:lnTo>
                  <a:lnTo>
                    <a:pt x="207" y="1366"/>
                  </a:lnTo>
                  <a:lnTo>
                    <a:pt x="212" y="1343"/>
                  </a:lnTo>
                  <a:lnTo>
                    <a:pt x="213" y="1316"/>
                  </a:lnTo>
                  <a:lnTo>
                    <a:pt x="215" y="1285"/>
                  </a:lnTo>
                  <a:lnTo>
                    <a:pt x="213" y="1243"/>
                  </a:lnTo>
                  <a:lnTo>
                    <a:pt x="210" y="1217"/>
                  </a:lnTo>
                  <a:lnTo>
                    <a:pt x="223" y="1205"/>
                  </a:lnTo>
                  <a:lnTo>
                    <a:pt x="239" y="1204"/>
                  </a:lnTo>
                  <a:lnTo>
                    <a:pt x="262" y="1204"/>
                  </a:lnTo>
                  <a:lnTo>
                    <a:pt x="223" y="1199"/>
                  </a:lnTo>
                  <a:lnTo>
                    <a:pt x="207" y="1205"/>
                  </a:lnTo>
                  <a:lnTo>
                    <a:pt x="202" y="1171"/>
                  </a:lnTo>
                  <a:lnTo>
                    <a:pt x="197" y="1140"/>
                  </a:lnTo>
                  <a:lnTo>
                    <a:pt x="186" y="1096"/>
                  </a:lnTo>
                  <a:lnTo>
                    <a:pt x="194" y="1072"/>
                  </a:lnTo>
                  <a:lnTo>
                    <a:pt x="208" y="1028"/>
                  </a:lnTo>
                  <a:lnTo>
                    <a:pt x="220" y="1000"/>
                  </a:lnTo>
                  <a:lnTo>
                    <a:pt x="231" y="974"/>
                  </a:lnTo>
                  <a:lnTo>
                    <a:pt x="242" y="947"/>
                  </a:lnTo>
                  <a:lnTo>
                    <a:pt x="255" y="919"/>
                  </a:lnTo>
                  <a:lnTo>
                    <a:pt x="267" y="888"/>
                  </a:lnTo>
                  <a:lnTo>
                    <a:pt x="273" y="862"/>
                  </a:lnTo>
                  <a:lnTo>
                    <a:pt x="278" y="831"/>
                  </a:lnTo>
                  <a:lnTo>
                    <a:pt x="290" y="760"/>
                  </a:lnTo>
                  <a:lnTo>
                    <a:pt x="301" y="688"/>
                  </a:lnTo>
                  <a:lnTo>
                    <a:pt x="311" y="690"/>
                  </a:lnTo>
                  <a:lnTo>
                    <a:pt x="317" y="695"/>
                  </a:lnTo>
                  <a:lnTo>
                    <a:pt x="325" y="706"/>
                  </a:lnTo>
                  <a:lnTo>
                    <a:pt x="329" y="721"/>
                  </a:lnTo>
                  <a:lnTo>
                    <a:pt x="330" y="761"/>
                  </a:lnTo>
                  <a:lnTo>
                    <a:pt x="325" y="803"/>
                  </a:lnTo>
                  <a:lnTo>
                    <a:pt x="325" y="839"/>
                  </a:lnTo>
                  <a:lnTo>
                    <a:pt x="325" y="865"/>
                  </a:lnTo>
                  <a:lnTo>
                    <a:pt x="322" y="880"/>
                  </a:lnTo>
                  <a:lnTo>
                    <a:pt x="316" y="896"/>
                  </a:lnTo>
                  <a:lnTo>
                    <a:pt x="301" y="921"/>
                  </a:lnTo>
                  <a:lnTo>
                    <a:pt x="285" y="953"/>
                  </a:lnTo>
                  <a:lnTo>
                    <a:pt x="262" y="995"/>
                  </a:lnTo>
                  <a:lnTo>
                    <a:pt x="249" y="1033"/>
                  </a:lnTo>
                  <a:lnTo>
                    <a:pt x="244" y="1062"/>
                  </a:lnTo>
                  <a:lnTo>
                    <a:pt x="236" y="1088"/>
                  </a:lnTo>
                  <a:lnTo>
                    <a:pt x="231" y="1121"/>
                  </a:lnTo>
                  <a:lnTo>
                    <a:pt x="212" y="1174"/>
                  </a:lnTo>
                  <a:lnTo>
                    <a:pt x="229" y="1134"/>
                  </a:lnTo>
                  <a:lnTo>
                    <a:pt x="241" y="1091"/>
                  </a:lnTo>
                  <a:lnTo>
                    <a:pt x="251" y="1064"/>
                  </a:lnTo>
                  <a:lnTo>
                    <a:pt x="255" y="1034"/>
                  </a:lnTo>
                  <a:lnTo>
                    <a:pt x="264" y="1010"/>
                  </a:lnTo>
                  <a:lnTo>
                    <a:pt x="275" y="986"/>
                  </a:lnTo>
                  <a:lnTo>
                    <a:pt x="290" y="956"/>
                  </a:lnTo>
                  <a:lnTo>
                    <a:pt x="307" y="924"/>
                  </a:lnTo>
                  <a:lnTo>
                    <a:pt x="320" y="904"/>
                  </a:lnTo>
                  <a:lnTo>
                    <a:pt x="329" y="886"/>
                  </a:lnTo>
                  <a:lnTo>
                    <a:pt x="332" y="872"/>
                  </a:lnTo>
                  <a:lnTo>
                    <a:pt x="332" y="839"/>
                  </a:lnTo>
                  <a:lnTo>
                    <a:pt x="332" y="815"/>
                  </a:lnTo>
                  <a:lnTo>
                    <a:pt x="338" y="766"/>
                  </a:lnTo>
                  <a:lnTo>
                    <a:pt x="338" y="740"/>
                  </a:lnTo>
                  <a:lnTo>
                    <a:pt x="337" y="712"/>
                  </a:lnTo>
                  <a:lnTo>
                    <a:pt x="333" y="695"/>
                  </a:lnTo>
                  <a:lnTo>
                    <a:pt x="327" y="683"/>
                  </a:lnTo>
                  <a:lnTo>
                    <a:pt x="316" y="672"/>
                  </a:lnTo>
                  <a:lnTo>
                    <a:pt x="304" y="667"/>
                  </a:lnTo>
                  <a:lnTo>
                    <a:pt x="312" y="610"/>
                  </a:lnTo>
                  <a:lnTo>
                    <a:pt x="324" y="535"/>
                  </a:lnTo>
                  <a:lnTo>
                    <a:pt x="333" y="483"/>
                  </a:lnTo>
                  <a:lnTo>
                    <a:pt x="342" y="444"/>
                  </a:lnTo>
                  <a:lnTo>
                    <a:pt x="346" y="420"/>
                  </a:lnTo>
                  <a:lnTo>
                    <a:pt x="355" y="382"/>
                  </a:lnTo>
                  <a:lnTo>
                    <a:pt x="363" y="356"/>
                  </a:lnTo>
                  <a:lnTo>
                    <a:pt x="372" y="324"/>
                  </a:lnTo>
                  <a:lnTo>
                    <a:pt x="382" y="298"/>
                  </a:lnTo>
                  <a:lnTo>
                    <a:pt x="390" y="275"/>
                  </a:lnTo>
                  <a:lnTo>
                    <a:pt x="400" y="254"/>
                  </a:lnTo>
                  <a:lnTo>
                    <a:pt x="410" y="236"/>
                  </a:lnTo>
                  <a:lnTo>
                    <a:pt x="428" y="213"/>
                  </a:lnTo>
                  <a:lnTo>
                    <a:pt x="433" y="238"/>
                  </a:lnTo>
                  <a:lnTo>
                    <a:pt x="442" y="262"/>
                  </a:lnTo>
                  <a:lnTo>
                    <a:pt x="449" y="281"/>
                  </a:lnTo>
                  <a:lnTo>
                    <a:pt x="457" y="303"/>
                  </a:lnTo>
                  <a:lnTo>
                    <a:pt x="468" y="329"/>
                  </a:lnTo>
                  <a:lnTo>
                    <a:pt x="475" y="360"/>
                  </a:lnTo>
                  <a:lnTo>
                    <a:pt x="476" y="397"/>
                  </a:lnTo>
                  <a:lnTo>
                    <a:pt x="475" y="425"/>
                  </a:lnTo>
                  <a:lnTo>
                    <a:pt x="468" y="462"/>
                  </a:lnTo>
                  <a:lnTo>
                    <a:pt x="463" y="493"/>
                  </a:lnTo>
                  <a:lnTo>
                    <a:pt x="459" y="519"/>
                  </a:lnTo>
                  <a:lnTo>
                    <a:pt x="454" y="545"/>
                  </a:lnTo>
                  <a:lnTo>
                    <a:pt x="450" y="571"/>
                  </a:lnTo>
                  <a:lnTo>
                    <a:pt x="449" y="592"/>
                  </a:lnTo>
                  <a:lnTo>
                    <a:pt x="449" y="628"/>
                  </a:lnTo>
                  <a:lnTo>
                    <a:pt x="452" y="662"/>
                  </a:lnTo>
                  <a:lnTo>
                    <a:pt x="470" y="758"/>
                  </a:lnTo>
                  <a:lnTo>
                    <a:pt x="462" y="685"/>
                  </a:lnTo>
                  <a:lnTo>
                    <a:pt x="459" y="655"/>
                  </a:lnTo>
                  <a:lnTo>
                    <a:pt x="457" y="636"/>
                  </a:lnTo>
                  <a:lnTo>
                    <a:pt x="459" y="616"/>
                  </a:lnTo>
                  <a:lnTo>
                    <a:pt x="462" y="587"/>
                  </a:lnTo>
                  <a:lnTo>
                    <a:pt x="465" y="553"/>
                  </a:lnTo>
                  <a:lnTo>
                    <a:pt x="472" y="522"/>
                  </a:lnTo>
                  <a:lnTo>
                    <a:pt x="478" y="491"/>
                  </a:lnTo>
                  <a:lnTo>
                    <a:pt x="485" y="465"/>
                  </a:lnTo>
                  <a:lnTo>
                    <a:pt x="489" y="441"/>
                  </a:lnTo>
                  <a:lnTo>
                    <a:pt x="493" y="408"/>
                  </a:lnTo>
                  <a:lnTo>
                    <a:pt x="494" y="382"/>
                  </a:lnTo>
                  <a:lnTo>
                    <a:pt x="491" y="350"/>
                  </a:lnTo>
                  <a:lnTo>
                    <a:pt x="486" y="325"/>
                  </a:lnTo>
                  <a:lnTo>
                    <a:pt x="478" y="303"/>
                  </a:lnTo>
                  <a:lnTo>
                    <a:pt x="468" y="281"/>
                  </a:lnTo>
                  <a:lnTo>
                    <a:pt x="455" y="244"/>
                  </a:lnTo>
                  <a:lnTo>
                    <a:pt x="450" y="223"/>
                  </a:lnTo>
                  <a:lnTo>
                    <a:pt x="447" y="198"/>
                  </a:lnTo>
                  <a:lnTo>
                    <a:pt x="459" y="185"/>
                  </a:lnTo>
                  <a:lnTo>
                    <a:pt x="476" y="171"/>
                  </a:lnTo>
                  <a:lnTo>
                    <a:pt x="491" y="159"/>
                  </a:lnTo>
                  <a:lnTo>
                    <a:pt x="507" y="148"/>
                  </a:lnTo>
                  <a:lnTo>
                    <a:pt x="533" y="129"/>
                  </a:lnTo>
                  <a:lnTo>
                    <a:pt x="561" y="111"/>
                  </a:lnTo>
                  <a:lnTo>
                    <a:pt x="582" y="98"/>
                  </a:lnTo>
                  <a:lnTo>
                    <a:pt x="603" y="85"/>
                  </a:lnTo>
                  <a:lnTo>
                    <a:pt x="632" y="67"/>
                  </a:lnTo>
                  <a:lnTo>
                    <a:pt x="660" y="54"/>
                  </a:lnTo>
                  <a:lnTo>
                    <a:pt x="678" y="46"/>
                  </a:lnTo>
                  <a:lnTo>
                    <a:pt x="702" y="36"/>
                  </a:lnTo>
                  <a:lnTo>
                    <a:pt x="727" y="28"/>
                  </a:lnTo>
                  <a:lnTo>
                    <a:pt x="749" y="23"/>
                  </a:lnTo>
                  <a:lnTo>
                    <a:pt x="772" y="20"/>
                  </a:lnTo>
                  <a:lnTo>
                    <a:pt x="792" y="21"/>
                  </a:lnTo>
                  <a:lnTo>
                    <a:pt x="811" y="24"/>
                  </a:lnTo>
                  <a:lnTo>
                    <a:pt x="829" y="29"/>
                  </a:lnTo>
                  <a:lnTo>
                    <a:pt x="850" y="36"/>
                  </a:lnTo>
                  <a:lnTo>
                    <a:pt x="871" y="49"/>
                  </a:lnTo>
                  <a:lnTo>
                    <a:pt x="886" y="62"/>
                  </a:lnTo>
                  <a:lnTo>
                    <a:pt x="900" y="77"/>
                  </a:lnTo>
                  <a:lnTo>
                    <a:pt x="912" y="91"/>
                  </a:lnTo>
                  <a:lnTo>
                    <a:pt x="922" y="106"/>
                  </a:lnTo>
                  <a:lnTo>
                    <a:pt x="928" y="122"/>
                  </a:lnTo>
                  <a:lnTo>
                    <a:pt x="933" y="140"/>
                  </a:lnTo>
                  <a:lnTo>
                    <a:pt x="936" y="156"/>
                  </a:lnTo>
                  <a:lnTo>
                    <a:pt x="939" y="184"/>
                  </a:lnTo>
                  <a:lnTo>
                    <a:pt x="941" y="205"/>
                  </a:lnTo>
                  <a:lnTo>
                    <a:pt x="944" y="268"/>
                  </a:lnTo>
                  <a:lnTo>
                    <a:pt x="978" y="265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5" name=""/>
            <p:cNvSpPr/>
            <p:nvPr/>
          </p:nvSpPr>
          <p:spPr>
            <a:xfrm>
              <a:off x="971640" y="4722120"/>
              <a:ext cx="132120" cy="142200"/>
            </a:xfrm>
            <a:custGeom>
              <a:avLst/>
              <a:gdLst/>
              <a:ahLst/>
              <a:rect l="l" t="t" r="r" b="b"/>
              <a:pathLst>
                <a:path w="332" h="646">
                  <a:moveTo>
                    <a:pt x="44" y="0"/>
                  </a:moveTo>
                  <a:lnTo>
                    <a:pt x="61" y="3"/>
                  </a:lnTo>
                  <a:lnTo>
                    <a:pt x="82" y="11"/>
                  </a:lnTo>
                  <a:lnTo>
                    <a:pt x="101" y="21"/>
                  </a:lnTo>
                  <a:lnTo>
                    <a:pt x="117" y="31"/>
                  </a:lnTo>
                  <a:lnTo>
                    <a:pt x="135" y="44"/>
                  </a:lnTo>
                  <a:lnTo>
                    <a:pt x="156" y="60"/>
                  </a:lnTo>
                  <a:lnTo>
                    <a:pt x="174" y="76"/>
                  </a:lnTo>
                  <a:lnTo>
                    <a:pt x="191" y="94"/>
                  </a:lnTo>
                  <a:lnTo>
                    <a:pt x="208" y="117"/>
                  </a:lnTo>
                  <a:lnTo>
                    <a:pt x="225" y="141"/>
                  </a:lnTo>
                  <a:lnTo>
                    <a:pt x="238" y="163"/>
                  </a:lnTo>
                  <a:lnTo>
                    <a:pt x="254" y="192"/>
                  </a:lnTo>
                  <a:lnTo>
                    <a:pt x="272" y="231"/>
                  </a:lnTo>
                  <a:lnTo>
                    <a:pt x="286" y="270"/>
                  </a:lnTo>
                  <a:lnTo>
                    <a:pt x="299" y="312"/>
                  </a:lnTo>
                  <a:lnTo>
                    <a:pt x="309" y="350"/>
                  </a:lnTo>
                  <a:lnTo>
                    <a:pt x="317" y="385"/>
                  </a:lnTo>
                  <a:lnTo>
                    <a:pt x="322" y="415"/>
                  </a:lnTo>
                  <a:lnTo>
                    <a:pt x="325" y="442"/>
                  </a:lnTo>
                  <a:lnTo>
                    <a:pt x="330" y="486"/>
                  </a:lnTo>
                  <a:lnTo>
                    <a:pt x="332" y="530"/>
                  </a:lnTo>
                  <a:lnTo>
                    <a:pt x="332" y="572"/>
                  </a:lnTo>
                  <a:lnTo>
                    <a:pt x="330" y="589"/>
                  </a:lnTo>
                  <a:lnTo>
                    <a:pt x="329" y="608"/>
                  </a:lnTo>
                  <a:lnTo>
                    <a:pt x="327" y="616"/>
                  </a:lnTo>
                  <a:lnTo>
                    <a:pt x="325" y="624"/>
                  </a:lnTo>
                  <a:lnTo>
                    <a:pt x="322" y="634"/>
                  </a:lnTo>
                  <a:lnTo>
                    <a:pt x="316" y="641"/>
                  </a:lnTo>
                  <a:lnTo>
                    <a:pt x="306" y="646"/>
                  </a:lnTo>
                  <a:lnTo>
                    <a:pt x="296" y="646"/>
                  </a:lnTo>
                  <a:lnTo>
                    <a:pt x="285" y="642"/>
                  </a:lnTo>
                  <a:lnTo>
                    <a:pt x="272" y="633"/>
                  </a:lnTo>
                  <a:lnTo>
                    <a:pt x="260" y="621"/>
                  </a:lnTo>
                  <a:lnTo>
                    <a:pt x="246" y="611"/>
                  </a:lnTo>
                  <a:lnTo>
                    <a:pt x="226" y="598"/>
                  </a:lnTo>
                  <a:lnTo>
                    <a:pt x="207" y="590"/>
                  </a:lnTo>
                  <a:lnTo>
                    <a:pt x="186" y="585"/>
                  </a:lnTo>
                  <a:lnTo>
                    <a:pt x="153" y="577"/>
                  </a:lnTo>
                  <a:lnTo>
                    <a:pt x="122" y="571"/>
                  </a:lnTo>
                  <a:lnTo>
                    <a:pt x="103" y="563"/>
                  </a:lnTo>
                  <a:lnTo>
                    <a:pt x="83" y="553"/>
                  </a:lnTo>
                  <a:lnTo>
                    <a:pt x="69" y="541"/>
                  </a:lnTo>
                  <a:lnTo>
                    <a:pt x="61" y="528"/>
                  </a:lnTo>
                  <a:lnTo>
                    <a:pt x="56" y="517"/>
                  </a:lnTo>
                  <a:lnTo>
                    <a:pt x="54" y="502"/>
                  </a:lnTo>
                  <a:lnTo>
                    <a:pt x="54" y="489"/>
                  </a:lnTo>
                  <a:lnTo>
                    <a:pt x="56" y="431"/>
                  </a:lnTo>
                  <a:lnTo>
                    <a:pt x="54" y="384"/>
                  </a:lnTo>
                  <a:lnTo>
                    <a:pt x="49" y="328"/>
                  </a:lnTo>
                  <a:lnTo>
                    <a:pt x="44" y="275"/>
                  </a:lnTo>
                  <a:lnTo>
                    <a:pt x="38" y="231"/>
                  </a:lnTo>
                  <a:lnTo>
                    <a:pt x="31" y="190"/>
                  </a:lnTo>
                  <a:lnTo>
                    <a:pt x="25" y="156"/>
                  </a:lnTo>
                  <a:lnTo>
                    <a:pt x="15" y="109"/>
                  </a:lnTo>
                  <a:lnTo>
                    <a:pt x="10" y="84"/>
                  </a:lnTo>
                  <a:lnTo>
                    <a:pt x="4" y="57"/>
                  </a:lnTo>
                  <a:lnTo>
                    <a:pt x="0" y="34"/>
                  </a:lnTo>
                  <a:lnTo>
                    <a:pt x="2" y="19"/>
                  </a:lnTo>
                  <a:lnTo>
                    <a:pt x="7" y="10"/>
                  </a:lnTo>
                  <a:lnTo>
                    <a:pt x="17" y="3"/>
                  </a:lnTo>
                  <a:lnTo>
                    <a:pt x="31" y="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f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6" name=""/>
            <p:cNvSpPr/>
            <p:nvPr/>
          </p:nvSpPr>
          <p:spPr>
            <a:xfrm>
              <a:off x="739080" y="4722120"/>
              <a:ext cx="132120" cy="142200"/>
            </a:xfrm>
            <a:custGeom>
              <a:avLst/>
              <a:gdLst/>
              <a:ahLst/>
              <a:rect l="l" t="t" r="r" b="b"/>
              <a:pathLst>
                <a:path w="332" h="646">
                  <a:moveTo>
                    <a:pt x="288" y="0"/>
                  </a:moveTo>
                  <a:lnTo>
                    <a:pt x="272" y="3"/>
                  </a:lnTo>
                  <a:lnTo>
                    <a:pt x="251" y="11"/>
                  </a:lnTo>
                  <a:lnTo>
                    <a:pt x="231" y="21"/>
                  </a:lnTo>
                  <a:lnTo>
                    <a:pt x="215" y="31"/>
                  </a:lnTo>
                  <a:lnTo>
                    <a:pt x="197" y="44"/>
                  </a:lnTo>
                  <a:lnTo>
                    <a:pt x="176" y="60"/>
                  </a:lnTo>
                  <a:lnTo>
                    <a:pt x="158" y="76"/>
                  </a:lnTo>
                  <a:lnTo>
                    <a:pt x="142" y="94"/>
                  </a:lnTo>
                  <a:lnTo>
                    <a:pt x="124" y="117"/>
                  </a:lnTo>
                  <a:lnTo>
                    <a:pt x="108" y="141"/>
                  </a:lnTo>
                  <a:lnTo>
                    <a:pt x="95" y="163"/>
                  </a:lnTo>
                  <a:lnTo>
                    <a:pt x="78" y="192"/>
                  </a:lnTo>
                  <a:lnTo>
                    <a:pt x="61" y="231"/>
                  </a:lnTo>
                  <a:lnTo>
                    <a:pt x="46" y="270"/>
                  </a:lnTo>
                  <a:lnTo>
                    <a:pt x="33" y="312"/>
                  </a:lnTo>
                  <a:lnTo>
                    <a:pt x="23" y="350"/>
                  </a:lnTo>
                  <a:lnTo>
                    <a:pt x="15" y="385"/>
                  </a:lnTo>
                  <a:lnTo>
                    <a:pt x="10" y="415"/>
                  </a:lnTo>
                  <a:lnTo>
                    <a:pt x="7" y="442"/>
                  </a:lnTo>
                  <a:lnTo>
                    <a:pt x="2" y="486"/>
                  </a:lnTo>
                  <a:lnTo>
                    <a:pt x="0" y="530"/>
                  </a:lnTo>
                  <a:lnTo>
                    <a:pt x="0" y="572"/>
                  </a:lnTo>
                  <a:lnTo>
                    <a:pt x="2" y="589"/>
                  </a:lnTo>
                  <a:lnTo>
                    <a:pt x="4" y="608"/>
                  </a:lnTo>
                  <a:lnTo>
                    <a:pt x="5" y="616"/>
                  </a:lnTo>
                  <a:lnTo>
                    <a:pt x="7" y="624"/>
                  </a:lnTo>
                  <a:lnTo>
                    <a:pt x="10" y="634"/>
                  </a:lnTo>
                  <a:lnTo>
                    <a:pt x="17" y="641"/>
                  </a:lnTo>
                  <a:lnTo>
                    <a:pt x="26" y="646"/>
                  </a:lnTo>
                  <a:lnTo>
                    <a:pt x="36" y="646"/>
                  </a:lnTo>
                  <a:lnTo>
                    <a:pt x="48" y="642"/>
                  </a:lnTo>
                  <a:lnTo>
                    <a:pt x="61" y="633"/>
                  </a:lnTo>
                  <a:lnTo>
                    <a:pt x="72" y="621"/>
                  </a:lnTo>
                  <a:lnTo>
                    <a:pt x="87" y="611"/>
                  </a:lnTo>
                  <a:lnTo>
                    <a:pt x="106" y="598"/>
                  </a:lnTo>
                  <a:lnTo>
                    <a:pt x="125" y="590"/>
                  </a:lnTo>
                  <a:lnTo>
                    <a:pt x="147" y="585"/>
                  </a:lnTo>
                  <a:lnTo>
                    <a:pt x="179" y="577"/>
                  </a:lnTo>
                  <a:lnTo>
                    <a:pt x="210" y="571"/>
                  </a:lnTo>
                  <a:lnTo>
                    <a:pt x="229" y="563"/>
                  </a:lnTo>
                  <a:lnTo>
                    <a:pt x="249" y="553"/>
                  </a:lnTo>
                  <a:lnTo>
                    <a:pt x="264" y="541"/>
                  </a:lnTo>
                  <a:lnTo>
                    <a:pt x="272" y="528"/>
                  </a:lnTo>
                  <a:lnTo>
                    <a:pt x="277" y="517"/>
                  </a:lnTo>
                  <a:lnTo>
                    <a:pt x="278" y="502"/>
                  </a:lnTo>
                  <a:lnTo>
                    <a:pt x="278" y="489"/>
                  </a:lnTo>
                  <a:lnTo>
                    <a:pt x="277" y="431"/>
                  </a:lnTo>
                  <a:lnTo>
                    <a:pt x="278" y="384"/>
                  </a:lnTo>
                  <a:lnTo>
                    <a:pt x="283" y="328"/>
                  </a:lnTo>
                  <a:lnTo>
                    <a:pt x="288" y="275"/>
                  </a:lnTo>
                  <a:lnTo>
                    <a:pt x="294" y="231"/>
                  </a:lnTo>
                  <a:lnTo>
                    <a:pt x="301" y="190"/>
                  </a:lnTo>
                  <a:lnTo>
                    <a:pt x="307" y="156"/>
                  </a:lnTo>
                  <a:lnTo>
                    <a:pt x="317" y="109"/>
                  </a:lnTo>
                  <a:lnTo>
                    <a:pt x="322" y="84"/>
                  </a:lnTo>
                  <a:lnTo>
                    <a:pt x="329" y="57"/>
                  </a:lnTo>
                  <a:lnTo>
                    <a:pt x="332" y="34"/>
                  </a:lnTo>
                  <a:lnTo>
                    <a:pt x="330" y="19"/>
                  </a:lnTo>
                  <a:lnTo>
                    <a:pt x="325" y="10"/>
                  </a:lnTo>
                  <a:lnTo>
                    <a:pt x="316" y="3"/>
                  </a:lnTo>
                  <a:lnTo>
                    <a:pt x="301" y="0"/>
                  </a:lnTo>
                  <a:lnTo>
                    <a:pt x="288" y="0"/>
                  </a:lnTo>
                  <a:close/>
                </a:path>
              </a:pathLst>
            </a:custGeom>
            <a:solidFill>
              <a:srgbClr val="f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7" name=""/>
            <p:cNvSpPr/>
            <p:nvPr/>
          </p:nvSpPr>
          <p:spPr>
            <a:xfrm>
              <a:off x="894600" y="4761000"/>
              <a:ext cx="72000" cy="40320"/>
            </a:xfrm>
            <a:custGeom>
              <a:avLst/>
              <a:gdLst/>
              <a:ahLst/>
              <a:rect l="l" t="t" r="r" b="b"/>
              <a:pathLst>
                <a:path w="180" h="183">
                  <a:moveTo>
                    <a:pt x="0" y="133"/>
                  </a:moveTo>
                  <a:lnTo>
                    <a:pt x="0" y="117"/>
                  </a:lnTo>
                  <a:lnTo>
                    <a:pt x="1" y="97"/>
                  </a:lnTo>
                  <a:lnTo>
                    <a:pt x="6" y="79"/>
                  </a:lnTo>
                  <a:lnTo>
                    <a:pt x="13" y="61"/>
                  </a:lnTo>
                  <a:lnTo>
                    <a:pt x="19" y="48"/>
                  </a:lnTo>
                  <a:lnTo>
                    <a:pt x="26" y="37"/>
                  </a:lnTo>
                  <a:lnTo>
                    <a:pt x="35" y="26"/>
                  </a:lnTo>
                  <a:lnTo>
                    <a:pt x="45" y="17"/>
                  </a:lnTo>
                  <a:lnTo>
                    <a:pt x="55" y="11"/>
                  </a:lnTo>
                  <a:lnTo>
                    <a:pt x="73" y="4"/>
                  </a:lnTo>
                  <a:lnTo>
                    <a:pt x="94" y="0"/>
                  </a:lnTo>
                  <a:lnTo>
                    <a:pt x="117" y="1"/>
                  </a:lnTo>
                  <a:lnTo>
                    <a:pt x="136" y="8"/>
                  </a:lnTo>
                  <a:lnTo>
                    <a:pt x="149" y="16"/>
                  </a:lnTo>
                  <a:lnTo>
                    <a:pt x="162" y="27"/>
                  </a:lnTo>
                  <a:lnTo>
                    <a:pt x="174" y="43"/>
                  </a:lnTo>
                  <a:lnTo>
                    <a:pt x="178" y="61"/>
                  </a:lnTo>
                  <a:lnTo>
                    <a:pt x="180" y="81"/>
                  </a:lnTo>
                  <a:lnTo>
                    <a:pt x="178" y="104"/>
                  </a:lnTo>
                  <a:lnTo>
                    <a:pt x="170" y="126"/>
                  </a:lnTo>
                  <a:lnTo>
                    <a:pt x="149" y="183"/>
                  </a:lnTo>
                  <a:lnTo>
                    <a:pt x="1" y="183"/>
                  </a:lnTo>
                  <a:lnTo>
                    <a:pt x="0" y="133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8" name=""/>
            <p:cNvSpPr/>
            <p:nvPr/>
          </p:nvSpPr>
          <p:spPr>
            <a:xfrm>
              <a:off x="906480" y="4768920"/>
              <a:ext cx="50040" cy="28800"/>
            </a:xfrm>
            <a:custGeom>
              <a:avLst/>
              <a:gdLst/>
              <a:ahLst/>
              <a:rect l="l" t="t" r="r" b="b"/>
              <a:pathLst>
                <a:path w="125" h="130">
                  <a:moveTo>
                    <a:pt x="0" y="96"/>
                  </a:moveTo>
                  <a:lnTo>
                    <a:pt x="0" y="81"/>
                  </a:lnTo>
                  <a:lnTo>
                    <a:pt x="3" y="62"/>
                  </a:lnTo>
                  <a:lnTo>
                    <a:pt x="8" y="44"/>
                  </a:lnTo>
                  <a:lnTo>
                    <a:pt x="16" y="29"/>
                  </a:lnTo>
                  <a:lnTo>
                    <a:pt x="24" y="19"/>
                  </a:lnTo>
                  <a:lnTo>
                    <a:pt x="34" y="10"/>
                  </a:lnTo>
                  <a:lnTo>
                    <a:pt x="45" y="3"/>
                  </a:lnTo>
                  <a:lnTo>
                    <a:pt x="61" y="0"/>
                  </a:lnTo>
                  <a:lnTo>
                    <a:pt x="81" y="2"/>
                  </a:lnTo>
                  <a:lnTo>
                    <a:pt x="63" y="6"/>
                  </a:lnTo>
                  <a:lnTo>
                    <a:pt x="52" y="13"/>
                  </a:lnTo>
                  <a:lnTo>
                    <a:pt x="42" y="23"/>
                  </a:lnTo>
                  <a:lnTo>
                    <a:pt x="37" y="31"/>
                  </a:lnTo>
                  <a:lnTo>
                    <a:pt x="30" y="47"/>
                  </a:lnTo>
                  <a:lnTo>
                    <a:pt x="27" y="65"/>
                  </a:lnTo>
                  <a:lnTo>
                    <a:pt x="34" y="52"/>
                  </a:lnTo>
                  <a:lnTo>
                    <a:pt x="40" y="42"/>
                  </a:lnTo>
                  <a:lnTo>
                    <a:pt x="48" y="32"/>
                  </a:lnTo>
                  <a:lnTo>
                    <a:pt x="60" y="23"/>
                  </a:lnTo>
                  <a:lnTo>
                    <a:pt x="73" y="16"/>
                  </a:lnTo>
                  <a:lnTo>
                    <a:pt x="92" y="10"/>
                  </a:lnTo>
                  <a:lnTo>
                    <a:pt x="104" y="10"/>
                  </a:lnTo>
                  <a:lnTo>
                    <a:pt x="117" y="13"/>
                  </a:lnTo>
                  <a:lnTo>
                    <a:pt x="123" y="21"/>
                  </a:lnTo>
                  <a:lnTo>
                    <a:pt x="125" y="29"/>
                  </a:lnTo>
                  <a:lnTo>
                    <a:pt x="125" y="39"/>
                  </a:lnTo>
                  <a:lnTo>
                    <a:pt x="123" y="50"/>
                  </a:lnTo>
                  <a:lnTo>
                    <a:pt x="120" y="58"/>
                  </a:lnTo>
                  <a:lnTo>
                    <a:pt x="112" y="67"/>
                  </a:lnTo>
                  <a:lnTo>
                    <a:pt x="99" y="72"/>
                  </a:lnTo>
                  <a:lnTo>
                    <a:pt x="81" y="81"/>
                  </a:lnTo>
                  <a:lnTo>
                    <a:pt x="68" y="91"/>
                  </a:lnTo>
                  <a:lnTo>
                    <a:pt x="58" y="107"/>
                  </a:lnTo>
                  <a:lnTo>
                    <a:pt x="52" y="130"/>
                  </a:lnTo>
                  <a:lnTo>
                    <a:pt x="4" y="130"/>
                  </a:lnTo>
                  <a:lnTo>
                    <a:pt x="1" y="114"/>
                  </a:lnTo>
                  <a:lnTo>
                    <a:pt x="0" y="96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9" name=""/>
            <p:cNvSpPr/>
            <p:nvPr/>
          </p:nvSpPr>
          <p:spPr>
            <a:xfrm>
              <a:off x="858600" y="4782600"/>
              <a:ext cx="128160" cy="68760"/>
            </a:xfrm>
            <a:custGeom>
              <a:avLst/>
              <a:gdLst/>
              <a:ahLst/>
              <a:rect l="l" t="t" r="r" b="b"/>
              <a:pathLst>
                <a:path w="320" h="314">
                  <a:moveTo>
                    <a:pt x="119" y="55"/>
                  </a:moveTo>
                  <a:lnTo>
                    <a:pt x="112" y="47"/>
                  </a:lnTo>
                  <a:lnTo>
                    <a:pt x="103" y="38"/>
                  </a:lnTo>
                  <a:lnTo>
                    <a:pt x="85" y="29"/>
                  </a:lnTo>
                  <a:lnTo>
                    <a:pt x="78" y="28"/>
                  </a:lnTo>
                  <a:lnTo>
                    <a:pt x="67" y="28"/>
                  </a:lnTo>
                  <a:lnTo>
                    <a:pt x="56" y="28"/>
                  </a:lnTo>
                  <a:lnTo>
                    <a:pt x="39" y="31"/>
                  </a:lnTo>
                  <a:lnTo>
                    <a:pt x="30" y="36"/>
                  </a:lnTo>
                  <a:lnTo>
                    <a:pt x="20" y="44"/>
                  </a:lnTo>
                  <a:lnTo>
                    <a:pt x="13" y="54"/>
                  </a:lnTo>
                  <a:lnTo>
                    <a:pt x="7" y="65"/>
                  </a:lnTo>
                  <a:lnTo>
                    <a:pt x="2" y="80"/>
                  </a:lnTo>
                  <a:lnTo>
                    <a:pt x="0" y="90"/>
                  </a:lnTo>
                  <a:lnTo>
                    <a:pt x="0" y="104"/>
                  </a:lnTo>
                  <a:lnTo>
                    <a:pt x="4" y="119"/>
                  </a:lnTo>
                  <a:lnTo>
                    <a:pt x="8" y="133"/>
                  </a:lnTo>
                  <a:lnTo>
                    <a:pt x="18" y="145"/>
                  </a:lnTo>
                  <a:lnTo>
                    <a:pt x="30" y="153"/>
                  </a:lnTo>
                  <a:lnTo>
                    <a:pt x="23" y="169"/>
                  </a:lnTo>
                  <a:lnTo>
                    <a:pt x="20" y="184"/>
                  </a:lnTo>
                  <a:lnTo>
                    <a:pt x="20" y="199"/>
                  </a:lnTo>
                  <a:lnTo>
                    <a:pt x="21" y="207"/>
                  </a:lnTo>
                  <a:lnTo>
                    <a:pt x="28" y="221"/>
                  </a:lnTo>
                  <a:lnTo>
                    <a:pt x="36" y="233"/>
                  </a:lnTo>
                  <a:lnTo>
                    <a:pt x="52" y="249"/>
                  </a:lnTo>
                  <a:lnTo>
                    <a:pt x="77" y="264"/>
                  </a:lnTo>
                  <a:lnTo>
                    <a:pt x="111" y="280"/>
                  </a:lnTo>
                  <a:lnTo>
                    <a:pt x="143" y="293"/>
                  </a:lnTo>
                  <a:lnTo>
                    <a:pt x="173" y="301"/>
                  </a:lnTo>
                  <a:lnTo>
                    <a:pt x="212" y="309"/>
                  </a:lnTo>
                  <a:lnTo>
                    <a:pt x="239" y="312"/>
                  </a:lnTo>
                  <a:lnTo>
                    <a:pt x="259" y="314"/>
                  </a:lnTo>
                  <a:lnTo>
                    <a:pt x="280" y="311"/>
                  </a:lnTo>
                  <a:lnTo>
                    <a:pt x="294" y="306"/>
                  </a:lnTo>
                  <a:lnTo>
                    <a:pt x="303" y="299"/>
                  </a:lnTo>
                  <a:lnTo>
                    <a:pt x="312" y="286"/>
                  </a:lnTo>
                  <a:lnTo>
                    <a:pt x="319" y="270"/>
                  </a:lnTo>
                  <a:lnTo>
                    <a:pt x="320" y="254"/>
                  </a:lnTo>
                  <a:lnTo>
                    <a:pt x="317" y="225"/>
                  </a:lnTo>
                  <a:lnTo>
                    <a:pt x="312" y="195"/>
                  </a:lnTo>
                  <a:lnTo>
                    <a:pt x="304" y="148"/>
                  </a:lnTo>
                  <a:lnTo>
                    <a:pt x="299" y="119"/>
                  </a:lnTo>
                  <a:lnTo>
                    <a:pt x="298" y="83"/>
                  </a:lnTo>
                  <a:lnTo>
                    <a:pt x="294" y="54"/>
                  </a:lnTo>
                  <a:lnTo>
                    <a:pt x="288" y="34"/>
                  </a:lnTo>
                  <a:lnTo>
                    <a:pt x="275" y="15"/>
                  </a:lnTo>
                  <a:lnTo>
                    <a:pt x="260" y="5"/>
                  </a:lnTo>
                  <a:lnTo>
                    <a:pt x="244" y="0"/>
                  </a:lnTo>
                  <a:lnTo>
                    <a:pt x="223" y="2"/>
                  </a:lnTo>
                  <a:lnTo>
                    <a:pt x="200" y="10"/>
                  </a:lnTo>
                  <a:lnTo>
                    <a:pt x="177" y="25"/>
                  </a:lnTo>
                  <a:lnTo>
                    <a:pt x="163" y="39"/>
                  </a:lnTo>
                  <a:lnTo>
                    <a:pt x="148" y="60"/>
                  </a:lnTo>
                  <a:lnTo>
                    <a:pt x="142" y="70"/>
                  </a:lnTo>
                  <a:lnTo>
                    <a:pt x="119" y="55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0" name=""/>
            <p:cNvSpPr/>
            <p:nvPr/>
          </p:nvSpPr>
          <p:spPr>
            <a:xfrm>
              <a:off x="956880" y="4741560"/>
              <a:ext cx="119160" cy="55800"/>
            </a:xfrm>
            <a:custGeom>
              <a:avLst/>
              <a:gdLst/>
              <a:ahLst/>
              <a:rect l="l" t="t" r="r" b="b"/>
              <a:pathLst>
                <a:path w="299" h="253">
                  <a:moveTo>
                    <a:pt x="0" y="118"/>
                  </a:moveTo>
                  <a:lnTo>
                    <a:pt x="58" y="118"/>
                  </a:lnTo>
                  <a:lnTo>
                    <a:pt x="78" y="117"/>
                  </a:lnTo>
                  <a:lnTo>
                    <a:pt x="89" y="110"/>
                  </a:lnTo>
                  <a:lnTo>
                    <a:pt x="96" y="102"/>
                  </a:lnTo>
                  <a:lnTo>
                    <a:pt x="99" y="94"/>
                  </a:lnTo>
                  <a:lnTo>
                    <a:pt x="99" y="79"/>
                  </a:lnTo>
                  <a:lnTo>
                    <a:pt x="99" y="53"/>
                  </a:lnTo>
                  <a:lnTo>
                    <a:pt x="100" y="35"/>
                  </a:lnTo>
                  <a:lnTo>
                    <a:pt x="105" y="21"/>
                  </a:lnTo>
                  <a:lnTo>
                    <a:pt x="115" y="9"/>
                  </a:lnTo>
                  <a:lnTo>
                    <a:pt x="126" y="3"/>
                  </a:lnTo>
                  <a:lnTo>
                    <a:pt x="141" y="0"/>
                  </a:lnTo>
                  <a:lnTo>
                    <a:pt x="161" y="0"/>
                  </a:lnTo>
                  <a:lnTo>
                    <a:pt x="180" y="6"/>
                  </a:lnTo>
                  <a:lnTo>
                    <a:pt x="198" y="18"/>
                  </a:lnTo>
                  <a:lnTo>
                    <a:pt x="214" y="34"/>
                  </a:lnTo>
                  <a:lnTo>
                    <a:pt x="232" y="57"/>
                  </a:lnTo>
                  <a:lnTo>
                    <a:pt x="247" y="79"/>
                  </a:lnTo>
                  <a:lnTo>
                    <a:pt x="258" y="101"/>
                  </a:lnTo>
                  <a:lnTo>
                    <a:pt x="273" y="133"/>
                  </a:lnTo>
                  <a:lnTo>
                    <a:pt x="282" y="159"/>
                  </a:lnTo>
                  <a:lnTo>
                    <a:pt x="290" y="182"/>
                  </a:lnTo>
                  <a:lnTo>
                    <a:pt x="297" y="206"/>
                  </a:lnTo>
                  <a:lnTo>
                    <a:pt x="299" y="239"/>
                  </a:lnTo>
                  <a:lnTo>
                    <a:pt x="290" y="208"/>
                  </a:lnTo>
                  <a:lnTo>
                    <a:pt x="284" y="188"/>
                  </a:lnTo>
                  <a:lnTo>
                    <a:pt x="274" y="169"/>
                  </a:lnTo>
                  <a:lnTo>
                    <a:pt x="264" y="148"/>
                  </a:lnTo>
                  <a:lnTo>
                    <a:pt x="256" y="130"/>
                  </a:lnTo>
                  <a:lnTo>
                    <a:pt x="243" y="104"/>
                  </a:lnTo>
                  <a:lnTo>
                    <a:pt x="232" y="84"/>
                  </a:lnTo>
                  <a:lnTo>
                    <a:pt x="219" y="63"/>
                  </a:lnTo>
                  <a:lnTo>
                    <a:pt x="209" y="50"/>
                  </a:lnTo>
                  <a:lnTo>
                    <a:pt x="196" y="37"/>
                  </a:lnTo>
                  <a:lnTo>
                    <a:pt x="178" y="22"/>
                  </a:lnTo>
                  <a:lnTo>
                    <a:pt x="162" y="18"/>
                  </a:lnTo>
                  <a:lnTo>
                    <a:pt x="146" y="18"/>
                  </a:lnTo>
                  <a:lnTo>
                    <a:pt x="135" y="21"/>
                  </a:lnTo>
                  <a:lnTo>
                    <a:pt x="128" y="27"/>
                  </a:lnTo>
                  <a:lnTo>
                    <a:pt x="123" y="39"/>
                  </a:lnTo>
                  <a:lnTo>
                    <a:pt x="135" y="31"/>
                  </a:lnTo>
                  <a:lnTo>
                    <a:pt x="143" y="27"/>
                  </a:lnTo>
                  <a:lnTo>
                    <a:pt x="154" y="27"/>
                  </a:lnTo>
                  <a:lnTo>
                    <a:pt x="172" y="31"/>
                  </a:lnTo>
                  <a:lnTo>
                    <a:pt x="187" y="42"/>
                  </a:lnTo>
                  <a:lnTo>
                    <a:pt x="195" y="52"/>
                  </a:lnTo>
                  <a:lnTo>
                    <a:pt x="206" y="68"/>
                  </a:lnTo>
                  <a:lnTo>
                    <a:pt x="219" y="89"/>
                  </a:lnTo>
                  <a:lnTo>
                    <a:pt x="234" y="115"/>
                  </a:lnTo>
                  <a:lnTo>
                    <a:pt x="243" y="135"/>
                  </a:lnTo>
                  <a:lnTo>
                    <a:pt x="250" y="151"/>
                  </a:lnTo>
                  <a:lnTo>
                    <a:pt x="258" y="174"/>
                  </a:lnTo>
                  <a:lnTo>
                    <a:pt x="264" y="195"/>
                  </a:lnTo>
                  <a:lnTo>
                    <a:pt x="271" y="226"/>
                  </a:lnTo>
                  <a:lnTo>
                    <a:pt x="255" y="185"/>
                  </a:lnTo>
                  <a:lnTo>
                    <a:pt x="243" y="159"/>
                  </a:lnTo>
                  <a:lnTo>
                    <a:pt x="232" y="140"/>
                  </a:lnTo>
                  <a:lnTo>
                    <a:pt x="222" y="122"/>
                  </a:lnTo>
                  <a:lnTo>
                    <a:pt x="211" y="104"/>
                  </a:lnTo>
                  <a:lnTo>
                    <a:pt x="200" y="83"/>
                  </a:lnTo>
                  <a:lnTo>
                    <a:pt x="180" y="60"/>
                  </a:lnTo>
                  <a:lnTo>
                    <a:pt x="169" y="50"/>
                  </a:lnTo>
                  <a:lnTo>
                    <a:pt x="156" y="47"/>
                  </a:lnTo>
                  <a:lnTo>
                    <a:pt x="143" y="47"/>
                  </a:lnTo>
                  <a:lnTo>
                    <a:pt x="131" y="55"/>
                  </a:lnTo>
                  <a:lnTo>
                    <a:pt x="126" y="65"/>
                  </a:lnTo>
                  <a:lnTo>
                    <a:pt x="136" y="58"/>
                  </a:lnTo>
                  <a:lnTo>
                    <a:pt x="148" y="57"/>
                  </a:lnTo>
                  <a:lnTo>
                    <a:pt x="159" y="58"/>
                  </a:lnTo>
                  <a:lnTo>
                    <a:pt x="170" y="65"/>
                  </a:lnTo>
                  <a:lnTo>
                    <a:pt x="180" y="75"/>
                  </a:lnTo>
                  <a:lnTo>
                    <a:pt x="191" y="88"/>
                  </a:lnTo>
                  <a:lnTo>
                    <a:pt x="204" y="109"/>
                  </a:lnTo>
                  <a:lnTo>
                    <a:pt x="222" y="138"/>
                  </a:lnTo>
                  <a:lnTo>
                    <a:pt x="234" y="157"/>
                  </a:lnTo>
                  <a:lnTo>
                    <a:pt x="247" y="182"/>
                  </a:lnTo>
                  <a:lnTo>
                    <a:pt x="255" y="206"/>
                  </a:lnTo>
                  <a:lnTo>
                    <a:pt x="263" y="239"/>
                  </a:lnTo>
                  <a:lnTo>
                    <a:pt x="237" y="185"/>
                  </a:lnTo>
                  <a:lnTo>
                    <a:pt x="229" y="170"/>
                  </a:lnTo>
                  <a:lnTo>
                    <a:pt x="221" y="162"/>
                  </a:lnTo>
                  <a:lnTo>
                    <a:pt x="221" y="193"/>
                  </a:lnTo>
                  <a:lnTo>
                    <a:pt x="214" y="167"/>
                  </a:lnTo>
                  <a:lnTo>
                    <a:pt x="208" y="148"/>
                  </a:lnTo>
                  <a:lnTo>
                    <a:pt x="198" y="130"/>
                  </a:lnTo>
                  <a:lnTo>
                    <a:pt x="185" y="110"/>
                  </a:lnTo>
                  <a:lnTo>
                    <a:pt x="177" y="97"/>
                  </a:lnTo>
                  <a:lnTo>
                    <a:pt x="165" y="88"/>
                  </a:lnTo>
                  <a:lnTo>
                    <a:pt x="152" y="83"/>
                  </a:lnTo>
                  <a:lnTo>
                    <a:pt x="141" y="83"/>
                  </a:lnTo>
                  <a:lnTo>
                    <a:pt x="130" y="86"/>
                  </a:lnTo>
                  <a:lnTo>
                    <a:pt x="125" y="92"/>
                  </a:lnTo>
                  <a:lnTo>
                    <a:pt x="141" y="92"/>
                  </a:lnTo>
                  <a:lnTo>
                    <a:pt x="156" y="99"/>
                  </a:lnTo>
                  <a:lnTo>
                    <a:pt x="167" y="107"/>
                  </a:lnTo>
                  <a:lnTo>
                    <a:pt x="180" y="122"/>
                  </a:lnTo>
                  <a:lnTo>
                    <a:pt x="195" y="143"/>
                  </a:lnTo>
                  <a:lnTo>
                    <a:pt x="206" y="167"/>
                  </a:lnTo>
                  <a:lnTo>
                    <a:pt x="213" y="187"/>
                  </a:lnTo>
                  <a:lnTo>
                    <a:pt x="216" y="210"/>
                  </a:lnTo>
                  <a:lnTo>
                    <a:pt x="204" y="183"/>
                  </a:lnTo>
                  <a:lnTo>
                    <a:pt x="196" y="169"/>
                  </a:lnTo>
                  <a:lnTo>
                    <a:pt x="187" y="156"/>
                  </a:lnTo>
                  <a:lnTo>
                    <a:pt x="170" y="131"/>
                  </a:lnTo>
                  <a:lnTo>
                    <a:pt x="159" y="122"/>
                  </a:lnTo>
                  <a:lnTo>
                    <a:pt x="148" y="117"/>
                  </a:lnTo>
                  <a:lnTo>
                    <a:pt x="135" y="112"/>
                  </a:lnTo>
                  <a:lnTo>
                    <a:pt x="120" y="112"/>
                  </a:lnTo>
                  <a:lnTo>
                    <a:pt x="141" y="118"/>
                  </a:lnTo>
                  <a:lnTo>
                    <a:pt x="154" y="128"/>
                  </a:lnTo>
                  <a:lnTo>
                    <a:pt x="165" y="140"/>
                  </a:lnTo>
                  <a:lnTo>
                    <a:pt x="175" y="149"/>
                  </a:lnTo>
                  <a:lnTo>
                    <a:pt x="187" y="169"/>
                  </a:lnTo>
                  <a:lnTo>
                    <a:pt x="200" y="198"/>
                  </a:lnTo>
                  <a:lnTo>
                    <a:pt x="170" y="154"/>
                  </a:lnTo>
                  <a:lnTo>
                    <a:pt x="178" y="179"/>
                  </a:lnTo>
                  <a:lnTo>
                    <a:pt x="157" y="146"/>
                  </a:lnTo>
                  <a:lnTo>
                    <a:pt x="148" y="140"/>
                  </a:lnTo>
                  <a:lnTo>
                    <a:pt x="141" y="135"/>
                  </a:lnTo>
                  <a:lnTo>
                    <a:pt x="130" y="131"/>
                  </a:lnTo>
                  <a:lnTo>
                    <a:pt x="138" y="138"/>
                  </a:lnTo>
                  <a:lnTo>
                    <a:pt x="148" y="148"/>
                  </a:lnTo>
                  <a:lnTo>
                    <a:pt x="156" y="157"/>
                  </a:lnTo>
                  <a:lnTo>
                    <a:pt x="165" y="170"/>
                  </a:lnTo>
                  <a:lnTo>
                    <a:pt x="177" y="187"/>
                  </a:lnTo>
                  <a:lnTo>
                    <a:pt x="185" y="203"/>
                  </a:lnTo>
                  <a:lnTo>
                    <a:pt x="191" y="224"/>
                  </a:lnTo>
                  <a:lnTo>
                    <a:pt x="195" y="242"/>
                  </a:lnTo>
                  <a:lnTo>
                    <a:pt x="182" y="211"/>
                  </a:lnTo>
                  <a:lnTo>
                    <a:pt x="170" y="193"/>
                  </a:lnTo>
                  <a:lnTo>
                    <a:pt x="172" y="223"/>
                  </a:lnTo>
                  <a:lnTo>
                    <a:pt x="165" y="201"/>
                  </a:lnTo>
                  <a:lnTo>
                    <a:pt x="156" y="188"/>
                  </a:lnTo>
                  <a:lnTo>
                    <a:pt x="161" y="213"/>
                  </a:lnTo>
                  <a:lnTo>
                    <a:pt x="162" y="227"/>
                  </a:lnTo>
                  <a:lnTo>
                    <a:pt x="161" y="253"/>
                  </a:lnTo>
                  <a:lnTo>
                    <a:pt x="157" y="219"/>
                  </a:lnTo>
                  <a:lnTo>
                    <a:pt x="152" y="201"/>
                  </a:lnTo>
                  <a:lnTo>
                    <a:pt x="148" y="187"/>
                  </a:lnTo>
                  <a:lnTo>
                    <a:pt x="141" y="175"/>
                  </a:lnTo>
                  <a:lnTo>
                    <a:pt x="131" y="162"/>
                  </a:lnTo>
                  <a:lnTo>
                    <a:pt x="122" y="151"/>
                  </a:lnTo>
                  <a:lnTo>
                    <a:pt x="109" y="143"/>
                  </a:lnTo>
                  <a:lnTo>
                    <a:pt x="92" y="138"/>
                  </a:lnTo>
                  <a:lnTo>
                    <a:pt x="107" y="149"/>
                  </a:lnTo>
                  <a:lnTo>
                    <a:pt x="115" y="161"/>
                  </a:lnTo>
                  <a:lnTo>
                    <a:pt x="123" y="174"/>
                  </a:lnTo>
                  <a:lnTo>
                    <a:pt x="131" y="187"/>
                  </a:lnTo>
                  <a:lnTo>
                    <a:pt x="136" y="201"/>
                  </a:lnTo>
                  <a:lnTo>
                    <a:pt x="139" y="219"/>
                  </a:lnTo>
                  <a:lnTo>
                    <a:pt x="139" y="244"/>
                  </a:lnTo>
                  <a:lnTo>
                    <a:pt x="131" y="213"/>
                  </a:lnTo>
                  <a:lnTo>
                    <a:pt x="126" y="198"/>
                  </a:lnTo>
                  <a:lnTo>
                    <a:pt x="118" y="183"/>
                  </a:lnTo>
                  <a:lnTo>
                    <a:pt x="110" y="170"/>
                  </a:lnTo>
                  <a:lnTo>
                    <a:pt x="102" y="159"/>
                  </a:lnTo>
                  <a:lnTo>
                    <a:pt x="87" y="146"/>
                  </a:lnTo>
                  <a:lnTo>
                    <a:pt x="74" y="141"/>
                  </a:lnTo>
                  <a:lnTo>
                    <a:pt x="60" y="138"/>
                  </a:lnTo>
                  <a:lnTo>
                    <a:pt x="3" y="138"/>
                  </a:lnTo>
                  <a:lnTo>
                    <a:pt x="0" y="11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1" name=""/>
            <p:cNvSpPr/>
            <p:nvPr/>
          </p:nvSpPr>
          <p:spPr>
            <a:xfrm>
              <a:off x="864000" y="4790880"/>
              <a:ext cx="84600" cy="51840"/>
            </a:xfrm>
            <a:custGeom>
              <a:avLst/>
              <a:gdLst/>
              <a:ahLst/>
              <a:rect l="l" t="t" r="r" b="b"/>
              <a:pathLst>
                <a:path w="211" h="236">
                  <a:moveTo>
                    <a:pt x="102" y="33"/>
                  </a:moveTo>
                  <a:lnTo>
                    <a:pt x="84" y="18"/>
                  </a:lnTo>
                  <a:lnTo>
                    <a:pt x="71" y="10"/>
                  </a:lnTo>
                  <a:lnTo>
                    <a:pt x="47" y="3"/>
                  </a:lnTo>
                  <a:lnTo>
                    <a:pt x="36" y="5"/>
                  </a:lnTo>
                  <a:lnTo>
                    <a:pt x="23" y="12"/>
                  </a:lnTo>
                  <a:lnTo>
                    <a:pt x="10" y="23"/>
                  </a:lnTo>
                  <a:lnTo>
                    <a:pt x="3" y="34"/>
                  </a:lnTo>
                  <a:lnTo>
                    <a:pt x="0" y="49"/>
                  </a:lnTo>
                  <a:lnTo>
                    <a:pt x="0" y="62"/>
                  </a:lnTo>
                  <a:lnTo>
                    <a:pt x="3" y="75"/>
                  </a:lnTo>
                  <a:lnTo>
                    <a:pt x="8" y="85"/>
                  </a:lnTo>
                  <a:lnTo>
                    <a:pt x="19" y="94"/>
                  </a:lnTo>
                  <a:lnTo>
                    <a:pt x="36" y="103"/>
                  </a:lnTo>
                  <a:lnTo>
                    <a:pt x="67" y="112"/>
                  </a:lnTo>
                  <a:lnTo>
                    <a:pt x="49" y="114"/>
                  </a:lnTo>
                  <a:lnTo>
                    <a:pt x="39" y="120"/>
                  </a:lnTo>
                  <a:lnTo>
                    <a:pt x="32" y="129"/>
                  </a:lnTo>
                  <a:lnTo>
                    <a:pt x="31" y="140"/>
                  </a:lnTo>
                  <a:lnTo>
                    <a:pt x="31" y="150"/>
                  </a:lnTo>
                  <a:lnTo>
                    <a:pt x="32" y="161"/>
                  </a:lnTo>
                  <a:lnTo>
                    <a:pt x="36" y="169"/>
                  </a:lnTo>
                  <a:lnTo>
                    <a:pt x="42" y="179"/>
                  </a:lnTo>
                  <a:lnTo>
                    <a:pt x="52" y="189"/>
                  </a:lnTo>
                  <a:lnTo>
                    <a:pt x="70" y="200"/>
                  </a:lnTo>
                  <a:lnTo>
                    <a:pt x="94" y="212"/>
                  </a:lnTo>
                  <a:lnTo>
                    <a:pt x="119" y="221"/>
                  </a:lnTo>
                  <a:lnTo>
                    <a:pt x="143" y="228"/>
                  </a:lnTo>
                  <a:lnTo>
                    <a:pt x="171" y="233"/>
                  </a:lnTo>
                  <a:lnTo>
                    <a:pt x="198" y="236"/>
                  </a:lnTo>
                  <a:lnTo>
                    <a:pt x="211" y="236"/>
                  </a:lnTo>
                  <a:lnTo>
                    <a:pt x="188" y="215"/>
                  </a:lnTo>
                  <a:lnTo>
                    <a:pt x="179" y="202"/>
                  </a:lnTo>
                  <a:lnTo>
                    <a:pt x="169" y="189"/>
                  </a:lnTo>
                  <a:lnTo>
                    <a:pt x="159" y="176"/>
                  </a:lnTo>
                  <a:lnTo>
                    <a:pt x="151" y="163"/>
                  </a:lnTo>
                  <a:lnTo>
                    <a:pt x="145" y="150"/>
                  </a:lnTo>
                  <a:lnTo>
                    <a:pt x="140" y="137"/>
                  </a:lnTo>
                  <a:lnTo>
                    <a:pt x="136" y="122"/>
                  </a:lnTo>
                  <a:lnTo>
                    <a:pt x="135" y="101"/>
                  </a:lnTo>
                  <a:lnTo>
                    <a:pt x="136" y="83"/>
                  </a:lnTo>
                  <a:lnTo>
                    <a:pt x="141" y="68"/>
                  </a:lnTo>
                  <a:lnTo>
                    <a:pt x="151" y="54"/>
                  </a:lnTo>
                  <a:lnTo>
                    <a:pt x="161" y="46"/>
                  </a:lnTo>
                  <a:lnTo>
                    <a:pt x="171" y="39"/>
                  </a:lnTo>
                  <a:lnTo>
                    <a:pt x="180" y="33"/>
                  </a:lnTo>
                  <a:lnTo>
                    <a:pt x="182" y="21"/>
                  </a:lnTo>
                  <a:lnTo>
                    <a:pt x="180" y="12"/>
                  </a:lnTo>
                  <a:lnTo>
                    <a:pt x="175" y="3"/>
                  </a:lnTo>
                  <a:lnTo>
                    <a:pt x="166" y="0"/>
                  </a:lnTo>
                  <a:lnTo>
                    <a:pt x="154" y="3"/>
                  </a:lnTo>
                  <a:lnTo>
                    <a:pt x="148" y="10"/>
                  </a:lnTo>
                  <a:lnTo>
                    <a:pt x="141" y="18"/>
                  </a:lnTo>
                  <a:lnTo>
                    <a:pt x="138" y="26"/>
                  </a:lnTo>
                  <a:lnTo>
                    <a:pt x="138" y="38"/>
                  </a:lnTo>
                  <a:lnTo>
                    <a:pt x="130" y="46"/>
                  </a:lnTo>
                  <a:lnTo>
                    <a:pt x="123" y="54"/>
                  </a:lnTo>
                  <a:lnTo>
                    <a:pt x="112" y="72"/>
                  </a:lnTo>
                  <a:lnTo>
                    <a:pt x="112" y="47"/>
                  </a:lnTo>
                  <a:lnTo>
                    <a:pt x="102" y="33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2" name=""/>
            <p:cNvSpPr/>
            <p:nvPr/>
          </p:nvSpPr>
          <p:spPr>
            <a:xfrm>
              <a:off x="924840" y="4786920"/>
              <a:ext cx="44640" cy="50040"/>
            </a:xfrm>
            <a:custGeom>
              <a:avLst/>
              <a:gdLst/>
              <a:ahLst/>
              <a:rect l="l" t="t" r="r" b="b"/>
              <a:pathLst>
                <a:path w="112" h="228">
                  <a:moveTo>
                    <a:pt x="65" y="0"/>
                  </a:moveTo>
                  <a:lnTo>
                    <a:pt x="80" y="2"/>
                  </a:lnTo>
                  <a:lnTo>
                    <a:pt x="93" y="10"/>
                  </a:lnTo>
                  <a:lnTo>
                    <a:pt x="99" y="18"/>
                  </a:lnTo>
                  <a:lnTo>
                    <a:pt x="104" y="33"/>
                  </a:lnTo>
                  <a:lnTo>
                    <a:pt x="106" y="47"/>
                  </a:lnTo>
                  <a:lnTo>
                    <a:pt x="106" y="62"/>
                  </a:lnTo>
                  <a:lnTo>
                    <a:pt x="101" y="75"/>
                  </a:lnTo>
                  <a:lnTo>
                    <a:pt x="93" y="83"/>
                  </a:lnTo>
                  <a:lnTo>
                    <a:pt x="81" y="88"/>
                  </a:lnTo>
                  <a:lnTo>
                    <a:pt x="93" y="98"/>
                  </a:lnTo>
                  <a:lnTo>
                    <a:pt x="101" y="112"/>
                  </a:lnTo>
                  <a:lnTo>
                    <a:pt x="106" y="127"/>
                  </a:lnTo>
                  <a:lnTo>
                    <a:pt x="109" y="138"/>
                  </a:lnTo>
                  <a:lnTo>
                    <a:pt x="111" y="161"/>
                  </a:lnTo>
                  <a:lnTo>
                    <a:pt x="112" y="182"/>
                  </a:lnTo>
                  <a:lnTo>
                    <a:pt x="111" y="200"/>
                  </a:lnTo>
                  <a:lnTo>
                    <a:pt x="106" y="220"/>
                  </a:lnTo>
                  <a:lnTo>
                    <a:pt x="101" y="226"/>
                  </a:lnTo>
                  <a:lnTo>
                    <a:pt x="91" y="228"/>
                  </a:lnTo>
                  <a:lnTo>
                    <a:pt x="70" y="217"/>
                  </a:lnTo>
                  <a:lnTo>
                    <a:pt x="52" y="205"/>
                  </a:lnTo>
                  <a:lnTo>
                    <a:pt x="34" y="191"/>
                  </a:lnTo>
                  <a:lnTo>
                    <a:pt x="21" y="176"/>
                  </a:lnTo>
                  <a:lnTo>
                    <a:pt x="11" y="161"/>
                  </a:lnTo>
                  <a:lnTo>
                    <a:pt x="7" y="148"/>
                  </a:lnTo>
                  <a:lnTo>
                    <a:pt x="2" y="132"/>
                  </a:lnTo>
                  <a:lnTo>
                    <a:pt x="0" y="117"/>
                  </a:lnTo>
                  <a:lnTo>
                    <a:pt x="0" y="104"/>
                  </a:lnTo>
                  <a:lnTo>
                    <a:pt x="5" y="88"/>
                  </a:lnTo>
                  <a:lnTo>
                    <a:pt x="11" y="77"/>
                  </a:lnTo>
                  <a:lnTo>
                    <a:pt x="21" y="69"/>
                  </a:lnTo>
                  <a:lnTo>
                    <a:pt x="33" y="65"/>
                  </a:lnTo>
                  <a:lnTo>
                    <a:pt x="42" y="67"/>
                  </a:lnTo>
                  <a:lnTo>
                    <a:pt x="54" y="77"/>
                  </a:lnTo>
                  <a:lnTo>
                    <a:pt x="62" y="98"/>
                  </a:lnTo>
                  <a:lnTo>
                    <a:pt x="59" y="70"/>
                  </a:lnTo>
                  <a:lnTo>
                    <a:pt x="52" y="56"/>
                  </a:lnTo>
                  <a:lnTo>
                    <a:pt x="44" y="46"/>
                  </a:lnTo>
                  <a:lnTo>
                    <a:pt x="39" y="36"/>
                  </a:lnTo>
                  <a:lnTo>
                    <a:pt x="39" y="23"/>
                  </a:lnTo>
                  <a:lnTo>
                    <a:pt x="42" y="12"/>
                  </a:lnTo>
                  <a:lnTo>
                    <a:pt x="54" y="2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3" name=""/>
            <p:cNvSpPr/>
            <p:nvPr/>
          </p:nvSpPr>
          <p:spPr>
            <a:xfrm>
              <a:off x="770400" y="4740840"/>
              <a:ext cx="138600" cy="55800"/>
            </a:xfrm>
            <a:custGeom>
              <a:avLst/>
              <a:gdLst/>
              <a:ahLst/>
              <a:rect l="l" t="t" r="r" b="b"/>
              <a:pathLst>
                <a:path w="346" h="254">
                  <a:moveTo>
                    <a:pt x="346" y="126"/>
                  </a:moveTo>
                  <a:lnTo>
                    <a:pt x="320" y="119"/>
                  </a:lnTo>
                  <a:lnTo>
                    <a:pt x="286" y="114"/>
                  </a:lnTo>
                  <a:lnTo>
                    <a:pt x="262" y="113"/>
                  </a:lnTo>
                  <a:lnTo>
                    <a:pt x="241" y="114"/>
                  </a:lnTo>
                  <a:lnTo>
                    <a:pt x="221" y="116"/>
                  </a:lnTo>
                  <a:lnTo>
                    <a:pt x="210" y="111"/>
                  </a:lnTo>
                  <a:lnTo>
                    <a:pt x="203" y="103"/>
                  </a:lnTo>
                  <a:lnTo>
                    <a:pt x="200" y="95"/>
                  </a:lnTo>
                  <a:lnTo>
                    <a:pt x="200" y="80"/>
                  </a:lnTo>
                  <a:lnTo>
                    <a:pt x="200" y="54"/>
                  </a:lnTo>
                  <a:lnTo>
                    <a:pt x="199" y="36"/>
                  </a:lnTo>
                  <a:lnTo>
                    <a:pt x="194" y="22"/>
                  </a:lnTo>
                  <a:lnTo>
                    <a:pt x="184" y="10"/>
                  </a:lnTo>
                  <a:lnTo>
                    <a:pt x="173" y="4"/>
                  </a:lnTo>
                  <a:lnTo>
                    <a:pt x="158" y="0"/>
                  </a:lnTo>
                  <a:lnTo>
                    <a:pt x="138" y="0"/>
                  </a:lnTo>
                  <a:lnTo>
                    <a:pt x="119" y="7"/>
                  </a:lnTo>
                  <a:lnTo>
                    <a:pt x="101" y="18"/>
                  </a:lnTo>
                  <a:lnTo>
                    <a:pt x="85" y="35"/>
                  </a:lnTo>
                  <a:lnTo>
                    <a:pt x="67" y="57"/>
                  </a:lnTo>
                  <a:lnTo>
                    <a:pt x="52" y="80"/>
                  </a:lnTo>
                  <a:lnTo>
                    <a:pt x="41" y="101"/>
                  </a:lnTo>
                  <a:lnTo>
                    <a:pt x="26" y="134"/>
                  </a:lnTo>
                  <a:lnTo>
                    <a:pt x="17" y="160"/>
                  </a:lnTo>
                  <a:lnTo>
                    <a:pt x="9" y="183"/>
                  </a:lnTo>
                  <a:lnTo>
                    <a:pt x="2" y="207"/>
                  </a:lnTo>
                  <a:lnTo>
                    <a:pt x="0" y="240"/>
                  </a:lnTo>
                  <a:lnTo>
                    <a:pt x="9" y="209"/>
                  </a:lnTo>
                  <a:lnTo>
                    <a:pt x="15" y="189"/>
                  </a:lnTo>
                  <a:lnTo>
                    <a:pt x="25" y="170"/>
                  </a:lnTo>
                  <a:lnTo>
                    <a:pt x="35" y="148"/>
                  </a:lnTo>
                  <a:lnTo>
                    <a:pt x="43" y="131"/>
                  </a:lnTo>
                  <a:lnTo>
                    <a:pt x="56" y="105"/>
                  </a:lnTo>
                  <a:lnTo>
                    <a:pt x="67" y="85"/>
                  </a:lnTo>
                  <a:lnTo>
                    <a:pt x="80" y="64"/>
                  </a:lnTo>
                  <a:lnTo>
                    <a:pt x="90" y="51"/>
                  </a:lnTo>
                  <a:lnTo>
                    <a:pt x="103" y="38"/>
                  </a:lnTo>
                  <a:lnTo>
                    <a:pt x="121" y="23"/>
                  </a:lnTo>
                  <a:lnTo>
                    <a:pt x="137" y="18"/>
                  </a:lnTo>
                  <a:lnTo>
                    <a:pt x="153" y="18"/>
                  </a:lnTo>
                  <a:lnTo>
                    <a:pt x="164" y="22"/>
                  </a:lnTo>
                  <a:lnTo>
                    <a:pt x="171" y="28"/>
                  </a:lnTo>
                  <a:lnTo>
                    <a:pt x="176" y="39"/>
                  </a:lnTo>
                  <a:lnTo>
                    <a:pt x="164" y="31"/>
                  </a:lnTo>
                  <a:lnTo>
                    <a:pt x="156" y="28"/>
                  </a:lnTo>
                  <a:lnTo>
                    <a:pt x="145" y="28"/>
                  </a:lnTo>
                  <a:lnTo>
                    <a:pt x="127" y="31"/>
                  </a:lnTo>
                  <a:lnTo>
                    <a:pt x="112" y="43"/>
                  </a:lnTo>
                  <a:lnTo>
                    <a:pt x="104" y="53"/>
                  </a:lnTo>
                  <a:lnTo>
                    <a:pt x="93" y="69"/>
                  </a:lnTo>
                  <a:lnTo>
                    <a:pt x="80" y="90"/>
                  </a:lnTo>
                  <a:lnTo>
                    <a:pt x="65" y="116"/>
                  </a:lnTo>
                  <a:lnTo>
                    <a:pt x="56" y="135"/>
                  </a:lnTo>
                  <a:lnTo>
                    <a:pt x="49" y="152"/>
                  </a:lnTo>
                  <a:lnTo>
                    <a:pt x="41" y="174"/>
                  </a:lnTo>
                  <a:lnTo>
                    <a:pt x="35" y="196"/>
                  </a:lnTo>
                  <a:lnTo>
                    <a:pt x="28" y="227"/>
                  </a:lnTo>
                  <a:lnTo>
                    <a:pt x="44" y="186"/>
                  </a:lnTo>
                  <a:lnTo>
                    <a:pt x="56" y="160"/>
                  </a:lnTo>
                  <a:lnTo>
                    <a:pt x="67" y="140"/>
                  </a:lnTo>
                  <a:lnTo>
                    <a:pt x="77" y="122"/>
                  </a:lnTo>
                  <a:lnTo>
                    <a:pt x="88" y="105"/>
                  </a:lnTo>
                  <a:lnTo>
                    <a:pt x="99" y="83"/>
                  </a:lnTo>
                  <a:lnTo>
                    <a:pt x="119" y="61"/>
                  </a:lnTo>
                  <a:lnTo>
                    <a:pt x="130" y="51"/>
                  </a:lnTo>
                  <a:lnTo>
                    <a:pt x="143" y="48"/>
                  </a:lnTo>
                  <a:lnTo>
                    <a:pt x="156" y="48"/>
                  </a:lnTo>
                  <a:lnTo>
                    <a:pt x="168" y="56"/>
                  </a:lnTo>
                  <a:lnTo>
                    <a:pt x="173" y="66"/>
                  </a:lnTo>
                  <a:lnTo>
                    <a:pt x="163" y="59"/>
                  </a:lnTo>
                  <a:lnTo>
                    <a:pt x="151" y="57"/>
                  </a:lnTo>
                  <a:lnTo>
                    <a:pt x="140" y="59"/>
                  </a:lnTo>
                  <a:lnTo>
                    <a:pt x="129" y="66"/>
                  </a:lnTo>
                  <a:lnTo>
                    <a:pt x="119" y="75"/>
                  </a:lnTo>
                  <a:lnTo>
                    <a:pt x="108" y="88"/>
                  </a:lnTo>
                  <a:lnTo>
                    <a:pt x="95" y="109"/>
                  </a:lnTo>
                  <a:lnTo>
                    <a:pt x="77" y="139"/>
                  </a:lnTo>
                  <a:lnTo>
                    <a:pt x="65" y="158"/>
                  </a:lnTo>
                  <a:lnTo>
                    <a:pt x="52" y="183"/>
                  </a:lnTo>
                  <a:lnTo>
                    <a:pt x="44" y="207"/>
                  </a:lnTo>
                  <a:lnTo>
                    <a:pt x="36" y="240"/>
                  </a:lnTo>
                  <a:lnTo>
                    <a:pt x="62" y="186"/>
                  </a:lnTo>
                  <a:lnTo>
                    <a:pt x="70" y="171"/>
                  </a:lnTo>
                  <a:lnTo>
                    <a:pt x="78" y="163"/>
                  </a:lnTo>
                  <a:lnTo>
                    <a:pt x="78" y="194"/>
                  </a:lnTo>
                  <a:lnTo>
                    <a:pt x="85" y="168"/>
                  </a:lnTo>
                  <a:lnTo>
                    <a:pt x="91" y="148"/>
                  </a:lnTo>
                  <a:lnTo>
                    <a:pt x="101" y="131"/>
                  </a:lnTo>
                  <a:lnTo>
                    <a:pt x="114" y="111"/>
                  </a:lnTo>
                  <a:lnTo>
                    <a:pt x="122" y="98"/>
                  </a:lnTo>
                  <a:lnTo>
                    <a:pt x="134" y="88"/>
                  </a:lnTo>
                  <a:lnTo>
                    <a:pt x="147" y="83"/>
                  </a:lnTo>
                  <a:lnTo>
                    <a:pt x="158" y="83"/>
                  </a:lnTo>
                  <a:lnTo>
                    <a:pt x="169" y="87"/>
                  </a:lnTo>
                  <a:lnTo>
                    <a:pt x="174" y="93"/>
                  </a:lnTo>
                  <a:lnTo>
                    <a:pt x="158" y="93"/>
                  </a:lnTo>
                  <a:lnTo>
                    <a:pt x="143" y="100"/>
                  </a:lnTo>
                  <a:lnTo>
                    <a:pt x="132" y="108"/>
                  </a:lnTo>
                  <a:lnTo>
                    <a:pt x="119" y="122"/>
                  </a:lnTo>
                  <a:lnTo>
                    <a:pt x="104" y="144"/>
                  </a:lnTo>
                  <a:lnTo>
                    <a:pt x="93" y="168"/>
                  </a:lnTo>
                  <a:lnTo>
                    <a:pt x="86" y="187"/>
                  </a:lnTo>
                  <a:lnTo>
                    <a:pt x="83" y="210"/>
                  </a:lnTo>
                  <a:lnTo>
                    <a:pt x="95" y="184"/>
                  </a:lnTo>
                  <a:lnTo>
                    <a:pt x="103" y="170"/>
                  </a:lnTo>
                  <a:lnTo>
                    <a:pt x="112" y="157"/>
                  </a:lnTo>
                  <a:lnTo>
                    <a:pt x="129" y="132"/>
                  </a:lnTo>
                  <a:lnTo>
                    <a:pt x="140" y="122"/>
                  </a:lnTo>
                  <a:lnTo>
                    <a:pt x="151" y="118"/>
                  </a:lnTo>
                  <a:lnTo>
                    <a:pt x="164" y="113"/>
                  </a:lnTo>
                  <a:lnTo>
                    <a:pt x="179" y="113"/>
                  </a:lnTo>
                  <a:lnTo>
                    <a:pt x="158" y="119"/>
                  </a:lnTo>
                  <a:lnTo>
                    <a:pt x="145" y="129"/>
                  </a:lnTo>
                  <a:lnTo>
                    <a:pt x="134" y="140"/>
                  </a:lnTo>
                  <a:lnTo>
                    <a:pt x="124" y="150"/>
                  </a:lnTo>
                  <a:lnTo>
                    <a:pt x="112" y="170"/>
                  </a:lnTo>
                  <a:lnTo>
                    <a:pt x="99" y="199"/>
                  </a:lnTo>
                  <a:lnTo>
                    <a:pt x="129" y="155"/>
                  </a:lnTo>
                  <a:lnTo>
                    <a:pt x="121" y="179"/>
                  </a:lnTo>
                  <a:lnTo>
                    <a:pt x="142" y="147"/>
                  </a:lnTo>
                  <a:lnTo>
                    <a:pt x="151" y="140"/>
                  </a:lnTo>
                  <a:lnTo>
                    <a:pt x="158" y="135"/>
                  </a:lnTo>
                  <a:lnTo>
                    <a:pt x="169" y="132"/>
                  </a:lnTo>
                  <a:lnTo>
                    <a:pt x="161" y="139"/>
                  </a:lnTo>
                  <a:lnTo>
                    <a:pt x="151" y="148"/>
                  </a:lnTo>
                  <a:lnTo>
                    <a:pt x="143" y="158"/>
                  </a:lnTo>
                  <a:lnTo>
                    <a:pt x="134" y="171"/>
                  </a:lnTo>
                  <a:lnTo>
                    <a:pt x="122" y="187"/>
                  </a:lnTo>
                  <a:lnTo>
                    <a:pt x="114" y="204"/>
                  </a:lnTo>
                  <a:lnTo>
                    <a:pt x="108" y="225"/>
                  </a:lnTo>
                  <a:lnTo>
                    <a:pt x="104" y="243"/>
                  </a:lnTo>
                  <a:lnTo>
                    <a:pt x="117" y="212"/>
                  </a:lnTo>
                  <a:lnTo>
                    <a:pt x="129" y="194"/>
                  </a:lnTo>
                  <a:lnTo>
                    <a:pt x="127" y="223"/>
                  </a:lnTo>
                  <a:lnTo>
                    <a:pt x="134" y="202"/>
                  </a:lnTo>
                  <a:lnTo>
                    <a:pt x="143" y="189"/>
                  </a:lnTo>
                  <a:lnTo>
                    <a:pt x="138" y="214"/>
                  </a:lnTo>
                  <a:lnTo>
                    <a:pt x="137" y="228"/>
                  </a:lnTo>
                  <a:lnTo>
                    <a:pt x="138" y="254"/>
                  </a:lnTo>
                  <a:lnTo>
                    <a:pt x="142" y="220"/>
                  </a:lnTo>
                  <a:lnTo>
                    <a:pt x="147" y="202"/>
                  </a:lnTo>
                  <a:lnTo>
                    <a:pt x="151" y="187"/>
                  </a:lnTo>
                  <a:lnTo>
                    <a:pt x="158" y="176"/>
                  </a:lnTo>
                  <a:lnTo>
                    <a:pt x="168" y="163"/>
                  </a:lnTo>
                  <a:lnTo>
                    <a:pt x="177" y="152"/>
                  </a:lnTo>
                  <a:lnTo>
                    <a:pt x="190" y="144"/>
                  </a:lnTo>
                  <a:lnTo>
                    <a:pt x="207" y="139"/>
                  </a:lnTo>
                  <a:lnTo>
                    <a:pt x="192" y="150"/>
                  </a:lnTo>
                  <a:lnTo>
                    <a:pt x="184" y="161"/>
                  </a:lnTo>
                  <a:lnTo>
                    <a:pt x="176" y="174"/>
                  </a:lnTo>
                  <a:lnTo>
                    <a:pt x="168" y="187"/>
                  </a:lnTo>
                  <a:lnTo>
                    <a:pt x="163" y="202"/>
                  </a:lnTo>
                  <a:lnTo>
                    <a:pt x="160" y="220"/>
                  </a:lnTo>
                  <a:lnTo>
                    <a:pt x="160" y="244"/>
                  </a:lnTo>
                  <a:lnTo>
                    <a:pt x="168" y="214"/>
                  </a:lnTo>
                  <a:lnTo>
                    <a:pt x="173" y="199"/>
                  </a:lnTo>
                  <a:lnTo>
                    <a:pt x="181" y="184"/>
                  </a:lnTo>
                  <a:lnTo>
                    <a:pt x="189" y="171"/>
                  </a:lnTo>
                  <a:lnTo>
                    <a:pt x="197" y="160"/>
                  </a:lnTo>
                  <a:lnTo>
                    <a:pt x="212" y="147"/>
                  </a:lnTo>
                  <a:lnTo>
                    <a:pt x="225" y="142"/>
                  </a:lnTo>
                  <a:lnTo>
                    <a:pt x="242" y="135"/>
                  </a:lnTo>
                  <a:lnTo>
                    <a:pt x="265" y="132"/>
                  </a:lnTo>
                  <a:lnTo>
                    <a:pt x="290" y="132"/>
                  </a:lnTo>
                  <a:lnTo>
                    <a:pt x="317" y="137"/>
                  </a:lnTo>
                  <a:lnTo>
                    <a:pt x="343" y="144"/>
                  </a:lnTo>
                  <a:lnTo>
                    <a:pt x="346" y="126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4" name=""/>
            <p:cNvSpPr/>
            <p:nvPr/>
          </p:nvSpPr>
          <p:spPr>
            <a:xfrm>
              <a:off x="819000" y="4897440"/>
              <a:ext cx="96840" cy="33480"/>
            </a:xfrm>
            <a:custGeom>
              <a:avLst/>
              <a:gdLst/>
              <a:ahLst/>
              <a:rect l="l" t="t" r="r" b="b"/>
              <a:pathLst>
                <a:path w="240" h="151">
                  <a:moveTo>
                    <a:pt x="237" y="96"/>
                  </a:moveTo>
                  <a:lnTo>
                    <a:pt x="131" y="96"/>
                  </a:lnTo>
                  <a:lnTo>
                    <a:pt x="125" y="97"/>
                  </a:lnTo>
                  <a:lnTo>
                    <a:pt x="118" y="107"/>
                  </a:lnTo>
                  <a:lnTo>
                    <a:pt x="110" y="119"/>
                  </a:lnTo>
                  <a:lnTo>
                    <a:pt x="105" y="133"/>
                  </a:lnTo>
                  <a:lnTo>
                    <a:pt x="105" y="151"/>
                  </a:lnTo>
                  <a:lnTo>
                    <a:pt x="99" y="143"/>
                  </a:lnTo>
                  <a:lnTo>
                    <a:pt x="97" y="133"/>
                  </a:lnTo>
                  <a:lnTo>
                    <a:pt x="99" y="127"/>
                  </a:lnTo>
                  <a:lnTo>
                    <a:pt x="101" y="120"/>
                  </a:lnTo>
                  <a:lnTo>
                    <a:pt x="105" y="114"/>
                  </a:lnTo>
                  <a:lnTo>
                    <a:pt x="107" y="97"/>
                  </a:lnTo>
                  <a:lnTo>
                    <a:pt x="94" y="94"/>
                  </a:lnTo>
                  <a:lnTo>
                    <a:pt x="86" y="97"/>
                  </a:lnTo>
                  <a:lnTo>
                    <a:pt x="83" y="104"/>
                  </a:lnTo>
                  <a:lnTo>
                    <a:pt x="84" y="114"/>
                  </a:lnTo>
                  <a:lnTo>
                    <a:pt x="92" y="140"/>
                  </a:lnTo>
                  <a:lnTo>
                    <a:pt x="81" y="128"/>
                  </a:lnTo>
                  <a:lnTo>
                    <a:pt x="76" y="117"/>
                  </a:lnTo>
                  <a:lnTo>
                    <a:pt x="73" y="106"/>
                  </a:lnTo>
                  <a:lnTo>
                    <a:pt x="73" y="96"/>
                  </a:lnTo>
                  <a:lnTo>
                    <a:pt x="78" y="86"/>
                  </a:lnTo>
                  <a:lnTo>
                    <a:pt x="91" y="81"/>
                  </a:lnTo>
                  <a:lnTo>
                    <a:pt x="105" y="83"/>
                  </a:lnTo>
                  <a:lnTo>
                    <a:pt x="117" y="91"/>
                  </a:lnTo>
                  <a:lnTo>
                    <a:pt x="115" y="81"/>
                  </a:lnTo>
                  <a:lnTo>
                    <a:pt x="109" y="73"/>
                  </a:lnTo>
                  <a:lnTo>
                    <a:pt x="97" y="70"/>
                  </a:lnTo>
                  <a:lnTo>
                    <a:pt x="83" y="71"/>
                  </a:lnTo>
                  <a:lnTo>
                    <a:pt x="75" y="78"/>
                  </a:lnTo>
                  <a:lnTo>
                    <a:pt x="70" y="88"/>
                  </a:lnTo>
                  <a:lnTo>
                    <a:pt x="65" y="109"/>
                  </a:lnTo>
                  <a:lnTo>
                    <a:pt x="62" y="86"/>
                  </a:lnTo>
                  <a:lnTo>
                    <a:pt x="63" y="71"/>
                  </a:lnTo>
                  <a:lnTo>
                    <a:pt x="66" y="63"/>
                  </a:lnTo>
                  <a:lnTo>
                    <a:pt x="76" y="57"/>
                  </a:lnTo>
                  <a:lnTo>
                    <a:pt x="91" y="53"/>
                  </a:lnTo>
                  <a:lnTo>
                    <a:pt x="105" y="57"/>
                  </a:lnTo>
                  <a:lnTo>
                    <a:pt x="92" y="47"/>
                  </a:lnTo>
                  <a:lnTo>
                    <a:pt x="83" y="42"/>
                  </a:lnTo>
                  <a:lnTo>
                    <a:pt x="73" y="40"/>
                  </a:lnTo>
                  <a:lnTo>
                    <a:pt x="57" y="45"/>
                  </a:lnTo>
                  <a:lnTo>
                    <a:pt x="66" y="36"/>
                  </a:lnTo>
                  <a:lnTo>
                    <a:pt x="84" y="32"/>
                  </a:lnTo>
                  <a:lnTo>
                    <a:pt x="102" y="40"/>
                  </a:lnTo>
                  <a:lnTo>
                    <a:pt x="91" y="27"/>
                  </a:lnTo>
                  <a:lnTo>
                    <a:pt x="83" y="19"/>
                  </a:lnTo>
                  <a:lnTo>
                    <a:pt x="73" y="14"/>
                  </a:lnTo>
                  <a:lnTo>
                    <a:pt x="62" y="16"/>
                  </a:lnTo>
                  <a:lnTo>
                    <a:pt x="53" y="24"/>
                  </a:lnTo>
                  <a:lnTo>
                    <a:pt x="50" y="36"/>
                  </a:lnTo>
                  <a:lnTo>
                    <a:pt x="50" y="47"/>
                  </a:lnTo>
                  <a:lnTo>
                    <a:pt x="50" y="62"/>
                  </a:lnTo>
                  <a:lnTo>
                    <a:pt x="52" y="84"/>
                  </a:lnTo>
                  <a:lnTo>
                    <a:pt x="53" y="101"/>
                  </a:lnTo>
                  <a:lnTo>
                    <a:pt x="55" y="117"/>
                  </a:lnTo>
                  <a:lnTo>
                    <a:pt x="60" y="133"/>
                  </a:lnTo>
                  <a:lnTo>
                    <a:pt x="66" y="149"/>
                  </a:lnTo>
                  <a:lnTo>
                    <a:pt x="58" y="138"/>
                  </a:lnTo>
                  <a:lnTo>
                    <a:pt x="52" y="127"/>
                  </a:lnTo>
                  <a:lnTo>
                    <a:pt x="47" y="115"/>
                  </a:lnTo>
                  <a:lnTo>
                    <a:pt x="42" y="97"/>
                  </a:lnTo>
                  <a:lnTo>
                    <a:pt x="39" y="79"/>
                  </a:lnTo>
                  <a:lnTo>
                    <a:pt x="39" y="63"/>
                  </a:lnTo>
                  <a:lnTo>
                    <a:pt x="37" y="47"/>
                  </a:lnTo>
                  <a:lnTo>
                    <a:pt x="24" y="47"/>
                  </a:lnTo>
                  <a:lnTo>
                    <a:pt x="16" y="55"/>
                  </a:lnTo>
                  <a:lnTo>
                    <a:pt x="14" y="65"/>
                  </a:lnTo>
                  <a:lnTo>
                    <a:pt x="14" y="75"/>
                  </a:lnTo>
                  <a:lnTo>
                    <a:pt x="16" y="89"/>
                  </a:lnTo>
                  <a:lnTo>
                    <a:pt x="19" y="102"/>
                  </a:lnTo>
                  <a:lnTo>
                    <a:pt x="23" y="114"/>
                  </a:lnTo>
                  <a:lnTo>
                    <a:pt x="29" y="128"/>
                  </a:lnTo>
                  <a:lnTo>
                    <a:pt x="44" y="151"/>
                  </a:lnTo>
                  <a:lnTo>
                    <a:pt x="24" y="135"/>
                  </a:lnTo>
                  <a:lnTo>
                    <a:pt x="13" y="119"/>
                  </a:lnTo>
                  <a:lnTo>
                    <a:pt x="5" y="99"/>
                  </a:lnTo>
                  <a:lnTo>
                    <a:pt x="1" y="86"/>
                  </a:lnTo>
                  <a:lnTo>
                    <a:pt x="0" y="68"/>
                  </a:lnTo>
                  <a:lnTo>
                    <a:pt x="0" y="53"/>
                  </a:lnTo>
                  <a:lnTo>
                    <a:pt x="5" y="40"/>
                  </a:lnTo>
                  <a:lnTo>
                    <a:pt x="13" y="34"/>
                  </a:lnTo>
                  <a:lnTo>
                    <a:pt x="24" y="29"/>
                  </a:lnTo>
                  <a:lnTo>
                    <a:pt x="39" y="26"/>
                  </a:lnTo>
                  <a:lnTo>
                    <a:pt x="40" y="14"/>
                  </a:lnTo>
                  <a:lnTo>
                    <a:pt x="45" y="6"/>
                  </a:lnTo>
                  <a:lnTo>
                    <a:pt x="58" y="0"/>
                  </a:lnTo>
                  <a:lnTo>
                    <a:pt x="75" y="0"/>
                  </a:lnTo>
                  <a:lnTo>
                    <a:pt x="91" y="8"/>
                  </a:lnTo>
                  <a:lnTo>
                    <a:pt x="104" y="19"/>
                  </a:lnTo>
                  <a:lnTo>
                    <a:pt x="112" y="29"/>
                  </a:lnTo>
                  <a:lnTo>
                    <a:pt x="120" y="42"/>
                  </a:lnTo>
                  <a:lnTo>
                    <a:pt x="125" y="55"/>
                  </a:lnTo>
                  <a:lnTo>
                    <a:pt x="128" y="70"/>
                  </a:lnTo>
                  <a:lnTo>
                    <a:pt x="240" y="70"/>
                  </a:lnTo>
                  <a:lnTo>
                    <a:pt x="237" y="96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5" name=""/>
            <p:cNvSpPr/>
            <p:nvPr/>
          </p:nvSpPr>
          <p:spPr>
            <a:xfrm>
              <a:off x="941760" y="4897440"/>
              <a:ext cx="96120" cy="33480"/>
            </a:xfrm>
            <a:custGeom>
              <a:avLst/>
              <a:gdLst/>
              <a:ahLst/>
              <a:rect l="l" t="t" r="r" b="b"/>
              <a:pathLst>
                <a:path w="241" h="151">
                  <a:moveTo>
                    <a:pt x="4" y="96"/>
                  </a:moveTo>
                  <a:lnTo>
                    <a:pt x="109" y="96"/>
                  </a:lnTo>
                  <a:lnTo>
                    <a:pt x="116" y="97"/>
                  </a:lnTo>
                  <a:lnTo>
                    <a:pt x="122" y="107"/>
                  </a:lnTo>
                  <a:lnTo>
                    <a:pt x="130" y="119"/>
                  </a:lnTo>
                  <a:lnTo>
                    <a:pt x="135" y="133"/>
                  </a:lnTo>
                  <a:lnTo>
                    <a:pt x="135" y="151"/>
                  </a:lnTo>
                  <a:lnTo>
                    <a:pt x="142" y="143"/>
                  </a:lnTo>
                  <a:lnTo>
                    <a:pt x="143" y="133"/>
                  </a:lnTo>
                  <a:lnTo>
                    <a:pt x="142" y="127"/>
                  </a:lnTo>
                  <a:lnTo>
                    <a:pt x="140" y="120"/>
                  </a:lnTo>
                  <a:lnTo>
                    <a:pt x="135" y="114"/>
                  </a:lnTo>
                  <a:lnTo>
                    <a:pt x="134" y="97"/>
                  </a:lnTo>
                  <a:lnTo>
                    <a:pt x="147" y="94"/>
                  </a:lnTo>
                  <a:lnTo>
                    <a:pt x="155" y="97"/>
                  </a:lnTo>
                  <a:lnTo>
                    <a:pt x="158" y="104"/>
                  </a:lnTo>
                  <a:lnTo>
                    <a:pt x="156" y="114"/>
                  </a:lnTo>
                  <a:lnTo>
                    <a:pt x="148" y="140"/>
                  </a:lnTo>
                  <a:lnTo>
                    <a:pt x="160" y="128"/>
                  </a:lnTo>
                  <a:lnTo>
                    <a:pt x="164" y="117"/>
                  </a:lnTo>
                  <a:lnTo>
                    <a:pt x="168" y="106"/>
                  </a:lnTo>
                  <a:lnTo>
                    <a:pt x="168" y="96"/>
                  </a:lnTo>
                  <a:lnTo>
                    <a:pt x="163" y="86"/>
                  </a:lnTo>
                  <a:lnTo>
                    <a:pt x="150" y="81"/>
                  </a:lnTo>
                  <a:lnTo>
                    <a:pt x="135" y="83"/>
                  </a:lnTo>
                  <a:lnTo>
                    <a:pt x="124" y="91"/>
                  </a:lnTo>
                  <a:lnTo>
                    <a:pt x="125" y="81"/>
                  </a:lnTo>
                  <a:lnTo>
                    <a:pt x="132" y="73"/>
                  </a:lnTo>
                  <a:lnTo>
                    <a:pt x="143" y="70"/>
                  </a:lnTo>
                  <a:lnTo>
                    <a:pt x="158" y="71"/>
                  </a:lnTo>
                  <a:lnTo>
                    <a:pt x="166" y="78"/>
                  </a:lnTo>
                  <a:lnTo>
                    <a:pt x="171" y="88"/>
                  </a:lnTo>
                  <a:lnTo>
                    <a:pt x="176" y="109"/>
                  </a:lnTo>
                  <a:lnTo>
                    <a:pt x="179" y="86"/>
                  </a:lnTo>
                  <a:lnTo>
                    <a:pt x="177" y="71"/>
                  </a:lnTo>
                  <a:lnTo>
                    <a:pt x="174" y="63"/>
                  </a:lnTo>
                  <a:lnTo>
                    <a:pt x="164" y="57"/>
                  </a:lnTo>
                  <a:lnTo>
                    <a:pt x="150" y="53"/>
                  </a:lnTo>
                  <a:lnTo>
                    <a:pt x="135" y="57"/>
                  </a:lnTo>
                  <a:lnTo>
                    <a:pt x="148" y="47"/>
                  </a:lnTo>
                  <a:lnTo>
                    <a:pt x="158" y="42"/>
                  </a:lnTo>
                  <a:lnTo>
                    <a:pt x="168" y="40"/>
                  </a:lnTo>
                  <a:lnTo>
                    <a:pt x="184" y="45"/>
                  </a:lnTo>
                  <a:lnTo>
                    <a:pt x="174" y="36"/>
                  </a:lnTo>
                  <a:lnTo>
                    <a:pt x="156" y="32"/>
                  </a:lnTo>
                  <a:lnTo>
                    <a:pt x="138" y="40"/>
                  </a:lnTo>
                  <a:lnTo>
                    <a:pt x="150" y="27"/>
                  </a:lnTo>
                  <a:lnTo>
                    <a:pt x="158" y="19"/>
                  </a:lnTo>
                  <a:lnTo>
                    <a:pt x="168" y="14"/>
                  </a:lnTo>
                  <a:lnTo>
                    <a:pt x="179" y="16"/>
                  </a:lnTo>
                  <a:lnTo>
                    <a:pt x="187" y="24"/>
                  </a:lnTo>
                  <a:lnTo>
                    <a:pt x="190" y="36"/>
                  </a:lnTo>
                  <a:lnTo>
                    <a:pt x="190" y="47"/>
                  </a:lnTo>
                  <a:lnTo>
                    <a:pt x="190" y="62"/>
                  </a:lnTo>
                  <a:lnTo>
                    <a:pt x="189" y="84"/>
                  </a:lnTo>
                  <a:lnTo>
                    <a:pt x="187" y="101"/>
                  </a:lnTo>
                  <a:lnTo>
                    <a:pt x="186" y="117"/>
                  </a:lnTo>
                  <a:lnTo>
                    <a:pt x="181" y="133"/>
                  </a:lnTo>
                  <a:lnTo>
                    <a:pt x="174" y="149"/>
                  </a:lnTo>
                  <a:lnTo>
                    <a:pt x="182" y="138"/>
                  </a:lnTo>
                  <a:lnTo>
                    <a:pt x="189" y="127"/>
                  </a:lnTo>
                  <a:lnTo>
                    <a:pt x="194" y="115"/>
                  </a:lnTo>
                  <a:lnTo>
                    <a:pt x="199" y="97"/>
                  </a:lnTo>
                  <a:lnTo>
                    <a:pt x="202" y="79"/>
                  </a:lnTo>
                  <a:lnTo>
                    <a:pt x="202" y="63"/>
                  </a:lnTo>
                  <a:lnTo>
                    <a:pt x="203" y="47"/>
                  </a:lnTo>
                  <a:lnTo>
                    <a:pt x="216" y="47"/>
                  </a:lnTo>
                  <a:lnTo>
                    <a:pt x="225" y="55"/>
                  </a:lnTo>
                  <a:lnTo>
                    <a:pt x="226" y="65"/>
                  </a:lnTo>
                  <a:lnTo>
                    <a:pt x="226" y="75"/>
                  </a:lnTo>
                  <a:lnTo>
                    <a:pt x="225" y="89"/>
                  </a:lnTo>
                  <a:lnTo>
                    <a:pt x="221" y="102"/>
                  </a:lnTo>
                  <a:lnTo>
                    <a:pt x="218" y="114"/>
                  </a:lnTo>
                  <a:lnTo>
                    <a:pt x="212" y="128"/>
                  </a:lnTo>
                  <a:lnTo>
                    <a:pt x="197" y="151"/>
                  </a:lnTo>
                  <a:lnTo>
                    <a:pt x="216" y="135"/>
                  </a:lnTo>
                  <a:lnTo>
                    <a:pt x="228" y="119"/>
                  </a:lnTo>
                  <a:lnTo>
                    <a:pt x="236" y="99"/>
                  </a:lnTo>
                  <a:lnTo>
                    <a:pt x="239" y="86"/>
                  </a:lnTo>
                  <a:lnTo>
                    <a:pt x="241" y="68"/>
                  </a:lnTo>
                  <a:lnTo>
                    <a:pt x="241" y="53"/>
                  </a:lnTo>
                  <a:lnTo>
                    <a:pt x="236" y="40"/>
                  </a:lnTo>
                  <a:lnTo>
                    <a:pt x="228" y="34"/>
                  </a:lnTo>
                  <a:lnTo>
                    <a:pt x="216" y="29"/>
                  </a:lnTo>
                  <a:lnTo>
                    <a:pt x="202" y="26"/>
                  </a:lnTo>
                  <a:lnTo>
                    <a:pt x="200" y="14"/>
                  </a:lnTo>
                  <a:lnTo>
                    <a:pt x="195" y="6"/>
                  </a:lnTo>
                  <a:lnTo>
                    <a:pt x="182" y="0"/>
                  </a:lnTo>
                  <a:lnTo>
                    <a:pt x="166" y="0"/>
                  </a:lnTo>
                  <a:lnTo>
                    <a:pt x="150" y="8"/>
                  </a:lnTo>
                  <a:lnTo>
                    <a:pt x="137" y="19"/>
                  </a:lnTo>
                  <a:lnTo>
                    <a:pt x="129" y="29"/>
                  </a:lnTo>
                  <a:lnTo>
                    <a:pt x="121" y="42"/>
                  </a:lnTo>
                  <a:lnTo>
                    <a:pt x="116" y="55"/>
                  </a:lnTo>
                  <a:lnTo>
                    <a:pt x="112" y="70"/>
                  </a:lnTo>
                  <a:lnTo>
                    <a:pt x="0" y="70"/>
                  </a:lnTo>
                  <a:lnTo>
                    <a:pt x="4" y="96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26" name=""/>
          <p:cNvSpPr/>
          <p:nvPr/>
        </p:nvSpPr>
        <p:spPr>
          <a:xfrm>
            <a:off x="3244680" y="5137200"/>
            <a:ext cx="117720" cy="117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7" name=""/>
          <p:cNvSpPr/>
          <p:nvPr/>
        </p:nvSpPr>
        <p:spPr>
          <a:xfrm>
            <a:off x="193680" y="6521400"/>
            <a:ext cx="867096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Regulační zásah:  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všeobecná vasodilatace </a:t>
            </a: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vylučování solí a vod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8" name=""/>
          <p:cNvSpPr/>
          <p:nvPr/>
        </p:nvSpPr>
        <p:spPr>
          <a:xfrm>
            <a:off x="6270480" y="657360"/>
            <a:ext cx="2748240" cy="6051240"/>
          </a:xfrm>
          <a:custGeom>
            <a:avLst/>
            <a:gdLst/>
            <a:ahLst/>
            <a:rect l="l" t="t" r="r" b="b"/>
            <a:pathLst>
              <a:path w="1731" h="3812">
                <a:moveTo>
                  <a:pt x="1625" y="3808"/>
                </a:moveTo>
                <a:lnTo>
                  <a:pt x="1726" y="3812"/>
                </a:lnTo>
                <a:lnTo>
                  <a:pt x="1731" y="0"/>
                </a:lnTo>
                <a:lnTo>
                  <a:pt x="0" y="5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9" name=""/>
          <p:cNvSpPr/>
          <p:nvPr/>
        </p:nvSpPr>
        <p:spPr>
          <a:xfrm flipV="1">
            <a:off x="6156360" y="498240"/>
            <a:ext cx="0" cy="268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0" name=""/>
          <p:cNvSpPr/>
          <p:nvPr/>
        </p:nvSpPr>
        <p:spPr>
          <a:xfrm flipV="1">
            <a:off x="4233960" y="6534000"/>
            <a:ext cx="0" cy="268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1" name=""/>
          <p:cNvSpPr/>
          <p:nvPr/>
        </p:nvSpPr>
        <p:spPr>
          <a:xfrm>
            <a:off x="1820880" y="5445000"/>
            <a:ext cx="758880" cy="116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2" name=""/>
          <p:cNvSpPr/>
          <p:nvPr/>
        </p:nvSpPr>
        <p:spPr>
          <a:xfrm>
            <a:off x="3683160" y="5621400"/>
            <a:ext cx="893520" cy="1019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3" name=""/>
          <p:cNvSpPr/>
          <p:nvPr/>
        </p:nvSpPr>
        <p:spPr>
          <a:xfrm>
            <a:off x="4233960" y="5376960"/>
            <a:ext cx="411120" cy="12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4" name=""/>
          <p:cNvSpPr/>
          <p:nvPr/>
        </p:nvSpPr>
        <p:spPr>
          <a:xfrm flipH="1">
            <a:off x="5857920" y="6354720"/>
            <a:ext cx="39672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5" name=""/>
          <p:cNvSpPr/>
          <p:nvPr/>
        </p:nvSpPr>
        <p:spPr>
          <a:xfrm>
            <a:off x="4748040" y="2446200"/>
            <a:ext cx="3908520" cy="700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Přesun vody z intravazálníh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prostoru do intersti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6" name=""/>
          <p:cNvSpPr/>
          <p:nvPr/>
        </p:nvSpPr>
        <p:spPr>
          <a:xfrm>
            <a:off x="4651200" y="1376280"/>
            <a:ext cx="3908520" cy="739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Městnání - zvýšení středníh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kapilárního tlak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7" name=""/>
          <p:cNvSpPr/>
          <p:nvPr/>
        </p:nvSpPr>
        <p:spPr>
          <a:xfrm>
            <a:off x="863640" y="3513240"/>
            <a:ext cx="3908520" cy="757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Aktivace systém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renin-angiotensin-aldoste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8" name=""/>
          <p:cNvSpPr/>
          <p:nvPr/>
        </p:nvSpPr>
        <p:spPr>
          <a:xfrm>
            <a:off x="843120" y="4729320"/>
            <a:ext cx="3908160" cy="5270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Retence vody v ledviná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9" name=""/>
          <p:cNvSpPr/>
          <p:nvPr/>
        </p:nvSpPr>
        <p:spPr>
          <a:xfrm>
            <a:off x="1184400" y="6388200"/>
            <a:ext cx="2462040" cy="469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Plnění v diast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40" name=""/>
          <p:cNvGrpSpPr/>
          <p:nvPr/>
        </p:nvGrpSpPr>
        <p:grpSpPr>
          <a:xfrm>
            <a:off x="477720" y="1376280"/>
            <a:ext cx="3013200" cy="692280"/>
            <a:chOff x="477720" y="1376280"/>
            <a:chExt cx="3013200" cy="692280"/>
          </a:xfrm>
        </p:grpSpPr>
        <p:sp>
          <p:nvSpPr>
            <p:cNvPr id="7641" name=""/>
            <p:cNvSpPr/>
            <p:nvPr/>
          </p:nvSpPr>
          <p:spPr>
            <a:xfrm>
              <a:off x="477720" y="1376280"/>
              <a:ext cx="3013200" cy="6922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000" spc="-1" strike="noStrike">
                  <a:solidFill>
                    <a:srgbClr val="000000"/>
                  </a:solidFill>
                  <a:latin typeface="Times New Roman"/>
                </a:rPr>
                <a:t>Minutový objem srdeční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2" name=""/>
            <p:cNvSpPr/>
            <p:nvPr/>
          </p:nvSpPr>
          <p:spPr>
            <a:xfrm flipV="1">
              <a:off x="622080" y="1558800"/>
              <a:ext cx="0" cy="268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43" name=""/>
          <p:cNvGrpSpPr/>
          <p:nvPr/>
        </p:nvGrpSpPr>
        <p:grpSpPr>
          <a:xfrm>
            <a:off x="403200" y="2446200"/>
            <a:ext cx="3947760" cy="682560"/>
            <a:chOff x="403200" y="2446200"/>
            <a:chExt cx="3947760" cy="682560"/>
          </a:xfrm>
        </p:grpSpPr>
        <p:sp>
          <p:nvSpPr>
            <p:cNvPr id="7644" name=""/>
            <p:cNvSpPr/>
            <p:nvPr/>
          </p:nvSpPr>
          <p:spPr>
            <a:xfrm>
              <a:off x="403200" y="2446200"/>
              <a:ext cx="3947760" cy="6825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0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cs-CZ" sz="2000" spc="-1" strike="noStrike">
                  <a:solidFill>
                    <a:srgbClr val="000000"/>
                  </a:solidFill>
                  <a:latin typeface="Times New Roman"/>
                </a:rPr>
                <a:t>Efektivní cirkulující obje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5" name=""/>
            <p:cNvSpPr/>
            <p:nvPr/>
          </p:nvSpPr>
          <p:spPr>
            <a:xfrm flipV="1">
              <a:off x="694800" y="2660040"/>
              <a:ext cx="0" cy="268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46" name=""/>
          <p:cNvGrpSpPr/>
          <p:nvPr/>
        </p:nvGrpSpPr>
        <p:grpSpPr>
          <a:xfrm>
            <a:off x="1463760" y="5645160"/>
            <a:ext cx="1928880" cy="461880"/>
            <a:chOff x="1463760" y="5645160"/>
            <a:chExt cx="1928880" cy="461880"/>
          </a:xfrm>
        </p:grpSpPr>
        <p:sp>
          <p:nvSpPr>
            <p:cNvPr id="7647" name=""/>
            <p:cNvSpPr/>
            <p:nvPr/>
          </p:nvSpPr>
          <p:spPr>
            <a:xfrm>
              <a:off x="1463760" y="5645160"/>
              <a:ext cx="1928880" cy="4618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000" spc="-1" strike="noStrike">
                  <a:solidFill>
                    <a:srgbClr val="000000"/>
                  </a:solidFill>
                  <a:latin typeface="Times New Roman"/>
                </a:rPr>
                <a:t>Žilní náplň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8" name=""/>
            <p:cNvSpPr/>
            <p:nvPr/>
          </p:nvSpPr>
          <p:spPr>
            <a:xfrm flipV="1">
              <a:off x="1648080" y="5720760"/>
              <a:ext cx="0" cy="268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49" name=""/>
          <p:cNvSpPr/>
          <p:nvPr/>
        </p:nvSpPr>
        <p:spPr>
          <a:xfrm flipV="1">
            <a:off x="1442880" y="6470280"/>
            <a:ext cx="0" cy="268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50" name=""/>
          <p:cNvGrpSpPr/>
          <p:nvPr/>
        </p:nvGrpSpPr>
        <p:grpSpPr>
          <a:xfrm>
            <a:off x="266760" y="0"/>
            <a:ext cx="3908160" cy="944640"/>
            <a:chOff x="266760" y="0"/>
            <a:chExt cx="3908160" cy="944640"/>
          </a:xfrm>
        </p:grpSpPr>
        <p:sp>
          <p:nvSpPr>
            <p:cNvPr id="7651" name=""/>
            <p:cNvSpPr/>
            <p:nvPr/>
          </p:nvSpPr>
          <p:spPr>
            <a:xfrm>
              <a:off x="266760" y="0"/>
              <a:ext cx="3908160" cy="94464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000000"/>
                  </a:solidFill>
                  <a:latin typeface="Times New Roman"/>
                </a:rPr>
                <a:t>Selhání srd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52" name=""/>
            <p:cNvGrpSpPr/>
            <p:nvPr/>
          </p:nvGrpSpPr>
          <p:grpSpPr>
            <a:xfrm>
              <a:off x="3173400" y="0"/>
              <a:ext cx="771840" cy="811440"/>
              <a:chOff x="3173400" y="0"/>
              <a:chExt cx="771840" cy="811440"/>
            </a:xfrm>
          </p:grpSpPr>
          <p:grpSp>
            <p:nvGrpSpPr>
              <p:cNvPr id="7653" name=""/>
              <p:cNvGrpSpPr/>
              <p:nvPr/>
            </p:nvGrpSpPr>
            <p:grpSpPr>
              <a:xfrm>
                <a:off x="3179520" y="0"/>
                <a:ext cx="765720" cy="811440"/>
                <a:chOff x="3179520" y="0"/>
                <a:chExt cx="765720" cy="811440"/>
              </a:xfrm>
            </p:grpSpPr>
            <p:grpSp>
              <p:nvGrpSpPr>
                <p:cNvPr id="7654" name=""/>
                <p:cNvGrpSpPr/>
                <p:nvPr/>
              </p:nvGrpSpPr>
              <p:grpSpPr>
                <a:xfrm>
                  <a:off x="3206880" y="188280"/>
                  <a:ext cx="738360" cy="623160"/>
                  <a:chOff x="3206880" y="188280"/>
                  <a:chExt cx="738360" cy="623160"/>
                </a:xfrm>
              </p:grpSpPr>
              <p:grpSp>
                <p:nvGrpSpPr>
                  <p:cNvPr id="7655" name=""/>
                  <p:cNvGrpSpPr/>
                  <p:nvPr/>
                </p:nvGrpSpPr>
                <p:grpSpPr>
                  <a:xfrm>
                    <a:off x="3206880" y="188280"/>
                    <a:ext cx="595800" cy="131760"/>
                    <a:chOff x="3206880" y="188280"/>
                    <a:chExt cx="595800" cy="131760"/>
                  </a:xfrm>
                </p:grpSpPr>
                <p:grpSp>
                  <p:nvGrpSpPr>
                    <p:cNvPr id="7656" name=""/>
                    <p:cNvGrpSpPr/>
                    <p:nvPr/>
                  </p:nvGrpSpPr>
                  <p:grpSpPr>
                    <a:xfrm>
                      <a:off x="3674160" y="206640"/>
                      <a:ext cx="128520" cy="113400"/>
                      <a:chOff x="3674160" y="206640"/>
                      <a:chExt cx="128520" cy="113400"/>
                    </a:xfrm>
                  </p:grpSpPr>
                  <p:grpSp>
                    <p:nvGrpSpPr>
                      <p:cNvPr id="7657" name=""/>
                      <p:cNvGrpSpPr/>
                      <p:nvPr/>
                    </p:nvGrpSpPr>
                    <p:grpSpPr>
                      <a:xfrm>
                        <a:off x="3674160" y="206640"/>
                        <a:ext cx="91080" cy="71280"/>
                        <a:chOff x="3674160" y="206640"/>
                        <a:chExt cx="91080" cy="71280"/>
                      </a:xfrm>
                    </p:grpSpPr>
                    <p:sp>
                      <p:nvSpPr>
                        <p:cNvPr id="7658" name=""/>
                        <p:cNvSpPr/>
                        <p:nvPr/>
                      </p:nvSpPr>
                      <p:spPr>
                        <a:xfrm>
                          <a:off x="3674160" y="212400"/>
                          <a:ext cx="83160" cy="58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98" h="161">
                              <a:moveTo>
                                <a:pt x="0" y="161"/>
                              </a:moveTo>
                              <a:lnTo>
                                <a:pt x="18" y="132"/>
                              </a:lnTo>
                              <a:lnTo>
                                <a:pt x="37" y="108"/>
                              </a:lnTo>
                              <a:lnTo>
                                <a:pt x="58" y="81"/>
                              </a:lnTo>
                              <a:lnTo>
                                <a:pt x="82" y="57"/>
                              </a:lnTo>
                              <a:lnTo>
                                <a:pt x="107" y="37"/>
                              </a:lnTo>
                              <a:lnTo>
                                <a:pt x="131" y="23"/>
                              </a:lnTo>
                              <a:lnTo>
                                <a:pt x="150" y="12"/>
                              </a:lnTo>
                              <a:lnTo>
                                <a:pt x="170" y="6"/>
                              </a:lnTo>
                              <a:lnTo>
                                <a:pt x="198" y="0"/>
                              </a:lnTo>
                            </a:path>
                          </a:pathLst>
                        </a:custGeom>
                        <a:noFill/>
                        <a:ln w="25560">
                          <a:solidFill>
                            <a:srgbClr val="60006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1880" bIns="118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659" name=""/>
                        <p:cNvSpPr/>
                        <p:nvPr/>
                      </p:nvSpPr>
                      <p:spPr>
                        <a:xfrm>
                          <a:off x="3684240" y="219240"/>
                          <a:ext cx="81000" cy="58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95" h="160">
                              <a:moveTo>
                                <a:pt x="0" y="160"/>
                              </a:moveTo>
                              <a:lnTo>
                                <a:pt x="19" y="131"/>
                              </a:lnTo>
                              <a:lnTo>
                                <a:pt x="37" y="106"/>
                              </a:lnTo>
                              <a:lnTo>
                                <a:pt x="59" y="80"/>
                              </a:lnTo>
                              <a:lnTo>
                                <a:pt x="82" y="55"/>
                              </a:lnTo>
                              <a:lnTo>
                                <a:pt x="108" y="35"/>
                              </a:lnTo>
                              <a:lnTo>
                                <a:pt x="131" y="21"/>
                              </a:lnTo>
                              <a:lnTo>
                                <a:pt x="156" y="11"/>
                              </a:lnTo>
                              <a:lnTo>
                                <a:pt x="177" y="3"/>
                              </a:lnTo>
                              <a:lnTo>
                                <a:pt x="195" y="0"/>
                              </a:lnTo>
                            </a:path>
                          </a:pathLst>
                        </a:custGeom>
                        <a:noFill/>
                        <a:ln w="11160">
                          <a:solidFill>
                            <a:srgbClr val="40004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1880" bIns="118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660" name=""/>
                        <p:cNvSpPr/>
                        <p:nvPr/>
                      </p:nvSpPr>
                      <p:spPr>
                        <a:xfrm>
                          <a:off x="3674160" y="206640"/>
                          <a:ext cx="81000" cy="590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94" h="160">
                              <a:moveTo>
                                <a:pt x="0" y="160"/>
                              </a:moveTo>
                              <a:lnTo>
                                <a:pt x="18" y="131"/>
                              </a:lnTo>
                              <a:lnTo>
                                <a:pt x="37" y="106"/>
                              </a:lnTo>
                              <a:lnTo>
                                <a:pt x="58" y="80"/>
                              </a:lnTo>
                              <a:lnTo>
                                <a:pt x="82" y="55"/>
                              </a:lnTo>
                              <a:lnTo>
                                <a:pt x="107" y="36"/>
                              </a:lnTo>
                              <a:lnTo>
                                <a:pt x="131" y="21"/>
                              </a:lnTo>
                              <a:lnTo>
                                <a:pt x="155" y="11"/>
                              </a:lnTo>
                              <a:lnTo>
                                <a:pt x="178" y="3"/>
                              </a:lnTo>
                              <a:lnTo>
                                <a:pt x="194" y="0"/>
                              </a:lnTo>
                            </a:path>
                          </a:pathLst>
                        </a:custGeom>
                        <a:noFill/>
                        <a:ln w="4680">
                          <a:solidFill>
                            <a:srgbClr val="a000a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2240" bIns="122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7661" name=""/>
                      <p:cNvGrpSpPr/>
                      <p:nvPr/>
                    </p:nvGrpSpPr>
                    <p:grpSpPr>
                      <a:xfrm>
                        <a:off x="3709440" y="250560"/>
                        <a:ext cx="93240" cy="69480"/>
                        <a:chOff x="3709440" y="250560"/>
                        <a:chExt cx="93240" cy="69480"/>
                      </a:xfrm>
                    </p:grpSpPr>
                    <p:sp>
                      <p:nvSpPr>
                        <p:cNvPr id="7662" name=""/>
                        <p:cNvSpPr/>
                        <p:nvPr/>
                      </p:nvSpPr>
                      <p:spPr>
                        <a:xfrm>
                          <a:off x="3709440" y="254160"/>
                          <a:ext cx="82800" cy="583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98" h="160">
                              <a:moveTo>
                                <a:pt x="0" y="160"/>
                              </a:moveTo>
                              <a:lnTo>
                                <a:pt x="18" y="131"/>
                              </a:lnTo>
                              <a:lnTo>
                                <a:pt x="37" y="107"/>
                              </a:lnTo>
                              <a:lnTo>
                                <a:pt x="58" y="81"/>
                              </a:lnTo>
                              <a:lnTo>
                                <a:pt x="82" y="56"/>
                              </a:lnTo>
                              <a:lnTo>
                                <a:pt x="106" y="37"/>
                              </a:lnTo>
                              <a:lnTo>
                                <a:pt x="130" y="23"/>
                              </a:lnTo>
                              <a:lnTo>
                                <a:pt x="149" y="12"/>
                              </a:lnTo>
                              <a:lnTo>
                                <a:pt x="168" y="6"/>
                              </a:lnTo>
                              <a:lnTo>
                                <a:pt x="198" y="0"/>
                              </a:lnTo>
                            </a:path>
                          </a:pathLst>
                        </a:custGeom>
                        <a:noFill/>
                        <a:ln w="25560">
                          <a:solidFill>
                            <a:srgbClr val="60006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1520" bIns="115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663" name=""/>
                        <p:cNvSpPr/>
                        <p:nvPr/>
                      </p:nvSpPr>
                      <p:spPr>
                        <a:xfrm>
                          <a:off x="3721680" y="261720"/>
                          <a:ext cx="81000" cy="583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95" h="159">
                              <a:moveTo>
                                <a:pt x="0" y="159"/>
                              </a:moveTo>
                              <a:lnTo>
                                <a:pt x="19" y="131"/>
                              </a:lnTo>
                              <a:lnTo>
                                <a:pt x="37" y="106"/>
                              </a:lnTo>
                              <a:lnTo>
                                <a:pt x="59" y="79"/>
                              </a:lnTo>
                              <a:lnTo>
                                <a:pt x="81" y="56"/>
                              </a:lnTo>
                              <a:lnTo>
                                <a:pt x="107" y="36"/>
                              </a:lnTo>
                              <a:lnTo>
                                <a:pt x="130" y="22"/>
                              </a:lnTo>
                              <a:lnTo>
                                <a:pt x="155" y="12"/>
                              </a:lnTo>
                              <a:lnTo>
                                <a:pt x="177" y="4"/>
                              </a:lnTo>
                              <a:lnTo>
                                <a:pt x="195" y="0"/>
                              </a:lnTo>
                            </a:path>
                          </a:pathLst>
                        </a:custGeom>
                        <a:noFill/>
                        <a:ln w="11160">
                          <a:solidFill>
                            <a:srgbClr val="40004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1520" bIns="115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664" name=""/>
                        <p:cNvSpPr/>
                        <p:nvPr/>
                      </p:nvSpPr>
                      <p:spPr>
                        <a:xfrm>
                          <a:off x="3709440" y="250560"/>
                          <a:ext cx="81000" cy="568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94" h="159">
                              <a:moveTo>
                                <a:pt x="0" y="159"/>
                              </a:moveTo>
                              <a:lnTo>
                                <a:pt x="18" y="130"/>
                              </a:lnTo>
                              <a:lnTo>
                                <a:pt x="37" y="106"/>
                              </a:lnTo>
                              <a:lnTo>
                                <a:pt x="58" y="80"/>
                              </a:lnTo>
                              <a:lnTo>
                                <a:pt x="82" y="55"/>
                              </a:lnTo>
                              <a:lnTo>
                                <a:pt x="106" y="36"/>
                              </a:lnTo>
                              <a:lnTo>
                                <a:pt x="130" y="21"/>
                              </a:lnTo>
                              <a:lnTo>
                                <a:pt x="154" y="11"/>
                              </a:lnTo>
                              <a:lnTo>
                                <a:pt x="177" y="3"/>
                              </a:lnTo>
                              <a:lnTo>
                                <a:pt x="194" y="0"/>
                              </a:lnTo>
                            </a:path>
                          </a:pathLst>
                        </a:custGeom>
                        <a:noFill/>
                        <a:ln w="4680">
                          <a:solidFill>
                            <a:srgbClr val="a000a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0080" bIns="100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7665" name=""/>
                    <p:cNvGrpSpPr/>
                    <p:nvPr/>
                  </p:nvGrpSpPr>
                  <p:grpSpPr>
                    <a:xfrm>
                      <a:off x="3206880" y="188280"/>
                      <a:ext cx="445320" cy="100080"/>
                      <a:chOff x="3206880" y="188280"/>
                      <a:chExt cx="445320" cy="100080"/>
                    </a:xfrm>
                  </p:grpSpPr>
                  <p:grpSp>
                    <p:nvGrpSpPr>
                      <p:cNvPr id="7666" name=""/>
                      <p:cNvGrpSpPr/>
                      <p:nvPr/>
                    </p:nvGrpSpPr>
                    <p:grpSpPr>
                      <a:xfrm>
                        <a:off x="3260880" y="236160"/>
                        <a:ext cx="309600" cy="52200"/>
                        <a:chOff x="3260880" y="236160"/>
                        <a:chExt cx="309600" cy="52200"/>
                      </a:xfrm>
                    </p:grpSpPr>
                    <p:grpSp>
                      <p:nvGrpSpPr>
                        <p:cNvPr id="7667" name=""/>
                        <p:cNvGrpSpPr/>
                        <p:nvPr/>
                      </p:nvGrpSpPr>
                      <p:grpSpPr>
                        <a:xfrm>
                          <a:off x="3273480" y="236160"/>
                          <a:ext cx="297000" cy="52200"/>
                          <a:chOff x="3273480" y="236160"/>
                          <a:chExt cx="297000" cy="52200"/>
                        </a:xfrm>
                      </p:grpSpPr>
                      <p:sp>
                        <p:nvSpPr>
                          <p:cNvPr id="7668" name=""/>
                          <p:cNvSpPr/>
                          <p:nvPr/>
                        </p:nvSpPr>
                        <p:spPr>
                          <a:xfrm>
                            <a:off x="3275280" y="241200"/>
                            <a:ext cx="290880" cy="360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694" h="101">
                                <a:moveTo>
                                  <a:pt x="0" y="80"/>
                                </a:moveTo>
                                <a:lnTo>
                                  <a:pt x="42" y="67"/>
                                </a:lnTo>
                                <a:lnTo>
                                  <a:pt x="85" y="54"/>
                                </a:lnTo>
                                <a:lnTo>
                                  <a:pt x="143" y="40"/>
                                </a:lnTo>
                                <a:lnTo>
                                  <a:pt x="205" y="27"/>
                                </a:lnTo>
                                <a:lnTo>
                                  <a:pt x="268" y="14"/>
                                </a:lnTo>
                                <a:lnTo>
                                  <a:pt x="315" y="8"/>
                                </a:lnTo>
                                <a:lnTo>
                                  <a:pt x="372" y="2"/>
                                </a:lnTo>
                                <a:lnTo>
                                  <a:pt x="433" y="0"/>
                                </a:lnTo>
                                <a:lnTo>
                                  <a:pt x="490" y="3"/>
                                </a:lnTo>
                                <a:lnTo>
                                  <a:pt x="540" y="6"/>
                                </a:lnTo>
                                <a:lnTo>
                                  <a:pt x="590" y="14"/>
                                </a:lnTo>
                                <a:lnTo>
                                  <a:pt x="617" y="25"/>
                                </a:lnTo>
                                <a:lnTo>
                                  <a:pt x="642" y="39"/>
                                </a:lnTo>
                                <a:lnTo>
                                  <a:pt x="663" y="56"/>
                                </a:lnTo>
                                <a:lnTo>
                                  <a:pt x="685" y="83"/>
                                </a:lnTo>
                                <a:lnTo>
                                  <a:pt x="694" y="101"/>
                                </a:lnTo>
                              </a:path>
                            </a:pathLst>
                          </a:custGeom>
                          <a:noFill/>
                          <a:ln w="25560">
                            <a:solidFill>
                              <a:srgbClr val="60006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10800" bIns="-10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7669" name=""/>
                          <p:cNvSpPr/>
                          <p:nvPr/>
                        </p:nvSpPr>
                        <p:spPr>
                          <a:xfrm>
                            <a:off x="3273480" y="252360"/>
                            <a:ext cx="288360" cy="360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694" h="100">
                                <a:moveTo>
                                  <a:pt x="0" y="80"/>
                                </a:moveTo>
                                <a:lnTo>
                                  <a:pt x="41" y="66"/>
                                </a:lnTo>
                                <a:lnTo>
                                  <a:pt x="84" y="54"/>
                                </a:lnTo>
                                <a:lnTo>
                                  <a:pt x="143" y="40"/>
                                </a:lnTo>
                                <a:lnTo>
                                  <a:pt x="205" y="26"/>
                                </a:lnTo>
                                <a:lnTo>
                                  <a:pt x="267" y="14"/>
                                </a:lnTo>
                                <a:lnTo>
                                  <a:pt x="315" y="8"/>
                                </a:lnTo>
                                <a:lnTo>
                                  <a:pt x="372" y="2"/>
                                </a:lnTo>
                                <a:lnTo>
                                  <a:pt x="433" y="0"/>
                                </a:lnTo>
                                <a:lnTo>
                                  <a:pt x="489" y="3"/>
                                </a:lnTo>
                                <a:lnTo>
                                  <a:pt x="540" y="6"/>
                                </a:lnTo>
                                <a:lnTo>
                                  <a:pt x="590" y="14"/>
                                </a:lnTo>
                                <a:lnTo>
                                  <a:pt x="617" y="24"/>
                                </a:lnTo>
                                <a:lnTo>
                                  <a:pt x="642" y="39"/>
                                </a:lnTo>
                                <a:lnTo>
                                  <a:pt x="663" y="55"/>
                                </a:lnTo>
                                <a:lnTo>
                                  <a:pt x="685" y="83"/>
                                </a:lnTo>
                                <a:lnTo>
                                  <a:pt x="694" y="100"/>
                                </a:lnTo>
                              </a:path>
                            </a:pathLst>
                          </a:custGeom>
                          <a:noFill/>
                          <a:ln w="11160">
                            <a:solidFill>
                              <a:srgbClr val="40004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10800" bIns="-10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7670" name=""/>
                          <p:cNvSpPr/>
                          <p:nvPr/>
                        </p:nvSpPr>
                        <p:spPr>
                          <a:xfrm>
                            <a:off x="3279600" y="236160"/>
                            <a:ext cx="290880" cy="360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694" h="100">
                                <a:moveTo>
                                  <a:pt x="0" y="80"/>
                                </a:moveTo>
                                <a:lnTo>
                                  <a:pt x="42" y="66"/>
                                </a:lnTo>
                                <a:lnTo>
                                  <a:pt x="85" y="54"/>
                                </a:lnTo>
                                <a:lnTo>
                                  <a:pt x="143" y="40"/>
                                </a:lnTo>
                                <a:lnTo>
                                  <a:pt x="204" y="26"/>
                                </a:lnTo>
                                <a:lnTo>
                                  <a:pt x="268" y="14"/>
                                </a:lnTo>
                                <a:lnTo>
                                  <a:pt x="315" y="8"/>
                                </a:lnTo>
                                <a:lnTo>
                                  <a:pt x="372" y="2"/>
                                </a:lnTo>
                                <a:lnTo>
                                  <a:pt x="434" y="0"/>
                                </a:lnTo>
                                <a:lnTo>
                                  <a:pt x="490" y="3"/>
                                </a:lnTo>
                                <a:lnTo>
                                  <a:pt x="540" y="6"/>
                                </a:lnTo>
                                <a:lnTo>
                                  <a:pt x="590" y="14"/>
                                </a:lnTo>
                                <a:lnTo>
                                  <a:pt x="618" y="24"/>
                                </a:lnTo>
                                <a:lnTo>
                                  <a:pt x="642" y="39"/>
                                </a:lnTo>
                                <a:lnTo>
                                  <a:pt x="664" y="55"/>
                                </a:lnTo>
                                <a:lnTo>
                                  <a:pt x="685" y="83"/>
                                </a:lnTo>
                                <a:lnTo>
                                  <a:pt x="694" y="100"/>
                                </a:lnTo>
                              </a:path>
                            </a:pathLst>
                          </a:custGeom>
                          <a:noFill/>
                          <a:ln w="4680">
                            <a:solidFill>
                              <a:srgbClr val="a000a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10800" bIns="-10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7671" name=""/>
                        <p:cNvSpPr/>
                        <p:nvPr/>
                      </p:nvSpPr>
                      <p:spPr>
                        <a:xfrm>
                          <a:off x="3260880" y="259560"/>
                          <a:ext cx="16920" cy="25560"/>
                        </a:xfrm>
                        <a:prstGeom prst="ellipse">
                          <a:avLst/>
                        </a:prstGeom>
                        <a:solidFill>
                          <a:srgbClr val="200020"/>
                        </a:solidFill>
                        <a:ln w="3240">
                          <a:solidFill>
                            <a:srgbClr val="80008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8440" bIns="-284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7672" name=""/>
                      <p:cNvGrpSpPr/>
                      <p:nvPr/>
                    </p:nvGrpSpPr>
                    <p:grpSpPr>
                      <a:xfrm>
                        <a:off x="3206880" y="188280"/>
                        <a:ext cx="445320" cy="76680"/>
                        <a:chOff x="3206880" y="188280"/>
                        <a:chExt cx="445320" cy="76680"/>
                      </a:xfrm>
                    </p:grpSpPr>
                    <p:grpSp>
                      <p:nvGrpSpPr>
                        <p:cNvPr id="7673" name=""/>
                        <p:cNvGrpSpPr/>
                        <p:nvPr/>
                      </p:nvGrpSpPr>
                      <p:grpSpPr>
                        <a:xfrm>
                          <a:off x="3217320" y="188280"/>
                          <a:ext cx="434880" cy="76680"/>
                          <a:chOff x="3217320" y="188280"/>
                          <a:chExt cx="434880" cy="76680"/>
                        </a:xfrm>
                      </p:grpSpPr>
                      <p:sp>
                        <p:nvSpPr>
                          <p:cNvPr id="7674" name=""/>
                          <p:cNvSpPr/>
                          <p:nvPr/>
                        </p:nvSpPr>
                        <p:spPr>
                          <a:xfrm>
                            <a:off x="3221280" y="197280"/>
                            <a:ext cx="422280" cy="5292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012" h="148">
                                <a:moveTo>
                                  <a:pt x="0" y="117"/>
                                </a:moveTo>
                                <a:lnTo>
                                  <a:pt x="60" y="98"/>
                                </a:lnTo>
                                <a:lnTo>
                                  <a:pt x="123" y="80"/>
                                </a:lnTo>
                                <a:lnTo>
                                  <a:pt x="207" y="59"/>
                                </a:lnTo>
                                <a:lnTo>
                                  <a:pt x="298" y="39"/>
                                </a:lnTo>
                                <a:lnTo>
                                  <a:pt x="390" y="22"/>
                                </a:lnTo>
                                <a:lnTo>
                                  <a:pt x="459" y="12"/>
                                </a:lnTo>
                                <a:lnTo>
                                  <a:pt x="543" y="3"/>
                                </a:lnTo>
                                <a:lnTo>
                                  <a:pt x="632" y="0"/>
                                </a:lnTo>
                                <a:lnTo>
                                  <a:pt x="714" y="4"/>
                                </a:lnTo>
                                <a:lnTo>
                                  <a:pt x="788" y="9"/>
                                </a:lnTo>
                                <a:lnTo>
                                  <a:pt x="861" y="22"/>
                                </a:lnTo>
                                <a:lnTo>
                                  <a:pt x="901" y="36"/>
                                </a:lnTo>
                                <a:lnTo>
                                  <a:pt x="937" y="58"/>
                                </a:lnTo>
                                <a:lnTo>
                                  <a:pt x="967" y="81"/>
                                </a:lnTo>
                                <a:lnTo>
                                  <a:pt x="999" y="122"/>
                                </a:lnTo>
                                <a:lnTo>
                                  <a:pt x="1012" y="148"/>
                                </a:lnTo>
                              </a:path>
                            </a:pathLst>
                          </a:custGeom>
                          <a:noFill/>
                          <a:ln w="25560">
                            <a:solidFill>
                              <a:srgbClr val="60006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6120" bIns="61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7675" name=""/>
                          <p:cNvSpPr/>
                          <p:nvPr/>
                        </p:nvSpPr>
                        <p:spPr>
                          <a:xfrm>
                            <a:off x="3217320" y="212040"/>
                            <a:ext cx="424440" cy="5292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012" h="147">
                                <a:moveTo>
                                  <a:pt x="0" y="117"/>
                                </a:moveTo>
                                <a:lnTo>
                                  <a:pt x="60" y="98"/>
                                </a:lnTo>
                                <a:lnTo>
                                  <a:pt x="122" y="79"/>
                                </a:lnTo>
                                <a:lnTo>
                                  <a:pt x="208" y="59"/>
                                </a:lnTo>
                                <a:lnTo>
                                  <a:pt x="299" y="39"/>
                                </a:lnTo>
                                <a:lnTo>
                                  <a:pt x="390" y="21"/>
                                </a:lnTo>
                                <a:lnTo>
                                  <a:pt x="459" y="11"/>
                                </a:lnTo>
                                <a:lnTo>
                                  <a:pt x="543" y="3"/>
                                </a:lnTo>
                                <a:lnTo>
                                  <a:pt x="633" y="0"/>
                                </a:lnTo>
                                <a:lnTo>
                                  <a:pt x="713" y="4"/>
                                </a:lnTo>
                                <a:lnTo>
                                  <a:pt x="788" y="8"/>
                                </a:lnTo>
                                <a:lnTo>
                                  <a:pt x="861" y="21"/>
                                </a:lnTo>
                                <a:lnTo>
                                  <a:pt x="902" y="36"/>
                                </a:lnTo>
                                <a:lnTo>
                                  <a:pt x="937" y="57"/>
                                </a:lnTo>
                                <a:lnTo>
                                  <a:pt x="968" y="81"/>
                                </a:lnTo>
                                <a:lnTo>
                                  <a:pt x="999" y="121"/>
                                </a:lnTo>
                                <a:lnTo>
                                  <a:pt x="1012" y="147"/>
                                </a:lnTo>
                              </a:path>
                            </a:pathLst>
                          </a:custGeom>
                          <a:noFill/>
                          <a:ln w="11160">
                            <a:solidFill>
                              <a:srgbClr val="40004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6120" bIns="61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7676" name=""/>
                          <p:cNvSpPr/>
                          <p:nvPr/>
                        </p:nvSpPr>
                        <p:spPr>
                          <a:xfrm>
                            <a:off x="3229560" y="188280"/>
                            <a:ext cx="422640" cy="5292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012" h="147">
                                <a:moveTo>
                                  <a:pt x="0" y="117"/>
                                </a:moveTo>
                                <a:lnTo>
                                  <a:pt x="60" y="98"/>
                                </a:lnTo>
                                <a:lnTo>
                                  <a:pt x="123" y="79"/>
                                </a:lnTo>
                                <a:lnTo>
                                  <a:pt x="208" y="59"/>
                                </a:lnTo>
                                <a:lnTo>
                                  <a:pt x="299" y="39"/>
                                </a:lnTo>
                                <a:lnTo>
                                  <a:pt x="390" y="21"/>
                                </a:lnTo>
                                <a:lnTo>
                                  <a:pt x="458" y="12"/>
                                </a:lnTo>
                                <a:lnTo>
                                  <a:pt x="542" y="3"/>
                                </a:lnTo>
                                <a:lnTo>
                                  <a:pt x="632" y="0"/>
                                </a:lnTo>
                                <a:lnTo>
                                  <a:pt x="713" y="5"/>
                                </a:lnTo>
                                <a:lnTo>
                                  <a:pt x="788" y="9"/>
                                </a:lnTo>
                                <a:lnTo>
                                  <a:pt x="861" y="21"/>
                                </a:lnTo>
                                <a:lnTo>
                                  <a:pt x="901" y="36"/>
                                </a:lnTo>
                                <a:lnTo>
                                  <a:pt x="937" y="57"/>
                                </a:lnTo>
                                <a:lnTo>
                                  <a:pt x="968" y="82"/>
                                </a:lnTo>
                                <a:lnTo>
                                  <a:pt x="998" y="122"/>
                                </a:lnTo>
                                <a:lnTo>
                                  <a:pt x="1012" y="147"/>
                                </a:lnTo>
                              </a:path>
                            </a:pathLst>
                          </a:custGeom>
                          <a:noFill/>
                          <a:ln w="4680">
                            <a:solidFill>
                              <a:srgbClr val="a000a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6120" bIns="61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7677" name=""/>
                        <p:cNvSpPr/>
                        <p:nvPr/>
                      </p:nvSpPr>
                      <p:spPr>
                        <a:xfrm>
                          <a:off x="3206880" y="226800"/>
                          <a:ext cx="20880" cy="30960"/>
                        </a:xfrm>
                        <a:prstGeom prst="ellipse">
                          <a:avLst/>
                        </a:prstGeom>
                        <a:solidFill>
                          <a:srgbClr val="200020"/>
                        </a:solidFill>
                        <a:ln w="3240">
                          <a:solidFill>
                            <a:srgbClr val="80008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4480" bIns="-244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</p:grpSp>
              <p:grpSp>
                <p:nvGrpSpPr>
                  <p:cNvPr id="7678" name=""/>
                  <p:cNvGrpSpPr/>
                  <p:nvPr/>
                </p:nvGrpSpPr>
                <p:grpSpPr>
                  <a:xfrm>
                    <a:off x="3225240" y="249480"/>
                    <a:ext cx="720000" cy="561960"/>
                    <a:chOff x="3225240" y="249480"/>
                    <a:chExt cx="720000" cy="561960"/>
                  </a:xfrm>
                </p:grpSpPr>
                <p:grpSp>
                  <p:nvGrpSpPr>
                    <p:cNvPr id="7679" name=""/>
                    <p:cNvGrpSpPr/>
                    <p:nvPr/>
                  </p:nvGrpSpPr>
                  <p:grpSpPr>
                    <a:xfrm>
                      <a:off x="3225240" y="249480"/>
                      <a:ext cx="720000" cy="561960"/>
                      <a:chOff x="3225240" y="249480"/>
                      <a:chExt cx="720000" cy="561960"/>
                    </a:xfrm>
                  </p:grpSpPr>
                  <p:grpSp>
                    <p:nvGrpSpPr>
                      <p:cNvPr id="7680" name=""/>
                      <p:cNvGrpSpPr/>
                      <p:nvPr/>
                    </p:nvGrpSpPr>
                    <p:grpSpPr>
                      <a:xfrm>
                        <a:off x="3225240" y="249480"/>
                        <a:ext cx="720000" cy="561960"/>
                        <a:chOff x="3225240" y="249480"/>
                        <a:chExt cx="720000" cy="561960"/>
                      </a:xfrm>
                    </p:grpSpPr>
                    <p:grpSp>
                      <p:nvGrpSpPr>
                        <p:cNvPr id="7681" name=""/>
                        <p:cNvGrpSpPr/>
                        <p:nvPr/>
                      </p:nvGrpSpPr>
                      <p:grpSpPr>
                        <a:xfrm>
                          <a:off x="3225240" y="249480"/>
                          <a:ext cx="720000" cy="561960"/>
                          <a:chOff x="3225240" y="249480"/>
                          <a:chExt cx="720000" cy="561960"/>
                        </a:xfrm>
                      </p:grpSpPr>
                      <p:grpSp>
                        <p:nvGrpSpPr>
                          <p:cNvPr id="7682" name=""/>
                          <p:cNvGrpSpPr/>
                          <p:nvPr/>
                        </p:nvGrpSpPr>
                        <p:grpSpPr>
                          <a:xfrm>
                            <a:off x="3225240" y="249480"/>
                            <a:ext cx="720000" cy="561960"/>
                            <a:chOff x="3225240" y="249480"/>
                            <a:chExt cx="720000" cy="561960"/>
                          </a:xfrm>
                        </p:grpSpPr>
                        <p:sp>
                          <p:nvSpPr>
                            <p:cNvPr id="7683" name=""/>
                            <p:cNvSpPr/>
                            <p:nvPr/>
                          </p:nvSpPr>
                          <p:spPr>
                            <a:xfrm>
                              <a:off x="3225240" y="249480"/>
                              <a:ext cx="720000" cy="56196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1716" h="1521">
                                  <a:moveTo>
                                    <a:pt x="499" y="282"/>
                                  </a:moveTo>
                                  <a:lnTo>
                                    <a:pt x="548" y="246"/>
                                  </a:lnTo>
                                  <a:lnTo>
                                    <a:pt x="591" y="194"/>
                                  </a:lnTo>
                                  <a:lnTo>
                                    <a:pt x="634" y="140"/>
                                  </a:lnTo>
                                  <a:lnTo>
                                    <a:pt x="673" y="105"/>
                                  </a:lnTo>
                                  <a:lnTo>
                                    <a:pt x="716" y="70"/>
                                  </a:lnTo>
                                  <a:lnTo>
                                    <a:pt x="768" y="40"/>
                                  </a:lnTo>
                                  <a:lnTo>
                                    <a:pt x="806" y="19"/>
                                  </a:lnTo>
                                  <a:lnTo>
                                    <a:pt x="854" y="9"/>
                                  </a:lnTo>
                                  <a:lnTo>
                                    <a:pt x="906" y="0"/>
                                  </a:lnTo>
                                  <a:lnTo>
                                    <a:pt x="960" y="6"/>
                                  </a:lnTo>
                                  <a:lnTo>
                                    <a:pt x="1004" y="13"/>
                                  </a:lnTo>
                                  <a:lnTo>
                                    <a:pt x="1040" y="22"/>
                                  </a:lnTo>
                                  <a:lnTo>
                                    <a:pt x="1084" y="43"/>
                                  </a:lnTo>
                                  <a:lnTo>
                                    <a:pt x="1130" y="64"/>
                                  </a:lnTo>
                                  <a:lnTo>
                                    <a:pt x="1168" y="84"/>
                                  </a:lnTo>
                                  <a:lnTo>
                                    <a:pt x="1211" y="116"/>
                                  </a:lnTo>
                                  <a:lnTo>
                                    <a:pt x="1244" y="152"/>
                                  </a:lnTo>
                                  <a:lnTo>
                                    <a:pt x="1270" y="199"/>
                                  </a:lnTo>
                                  <a:lnTo>
                                    <a:pt x="1281" y="227"/>
                                  </a:lnTo>
                                  <a:lnTo>
                                    <a:pt x="1283" y="263"/>
                                  </a:lnTo>
                                  <a:lnTo>
                                    <a:pt x="1298" y="294"/>
                                  </a:lnTo>
                                  <a:lnTo>
                                    <a:pt x="1319" y="323"/>
                                  </a:lnTo>
                                  <a:lnTo>
                                    <a:pt x="1347" y="343"/>
                                  </a:lnTo>
                                  <a:lnTo>
                                    <a:pt x="1381" y="360"/>
                                  </a:lnTo>
                                  <a:lnTo>
                                    <a:pt x="1401" y="378"/>
                                  </a:lnTo>
                                  <a:lnTo>
                                    <a:pt x="1418" y="404"/>
                                  </a:lnTo>
                                  <a:lnTo>
                                    <a:pt x="1444" y="438"/>
                                  </a:lnTo>
                                  <a:lnTo>
                                    <a:pt x="1472" y="471"/>
                                  </a:lnTo>
                                  <a:lnTo>
                                    <a:pt x="1503" y="505"/>
                                  </a:lnTo>
                                  <a:lnTo>
                                    <a:pt x="1534" y="539"/>
                                  </a:lnTo>
                                  <a:lnTo>
                                    <a:pt x="1567" y="601"/>
                                  </a:lnTo>
                                  <a:lnTo>
                                    <a:pt x="1591" y="661"/>
                                  </a:lnTo>
                                  <a:lnTo>
                                    <a:pt x="1609" y="707"/>
                                  </a:lnTo>
                                  <a:lnTo>
                                    <a:pt x="1622" y="769"/>
                                  </a:lnTo>
                                  <a:lnTo>
                                    <a:pt x="1641" y="832"/>
                                  </a:lnTo>
                                  <a:lnTo>
                                    <a:pt x="1656" y="891"/>
                                  </a:lnTo>
                                  <a:lnTo>
                                    <a:pt x="1668" y="947"/>
                                  </a:lnTo>
                                  <a:lnTo>
                                    <a:pt x="1680" y="1005"/>
                                  </a:lnTo>
                                  <a:lnTo>
                                    <a:pt x="1695" y="1057"/>
                                  </a:lnTo>
                                  <a:lnTo>
                                    <a:pt x="1702" y="1122"/>
                                  </a:lnTo>
                                  <a:lnTo>
                                    <a:pt x="1710" y="1190"/>
                                  </a:lnTo>
                                  <a:lnTo>
                                    <a:pt x="1716" y="1253"/>
                                  </a:lnTo>
                                  <a:lnTo>
                                    <a:pt x="1708" y="1301"/>
                                  </a:lnTo>
                                  <a:lnTo>
                                    <a:pt x="1702" y="1340"/>
                                  </a:lnTo>
                                  <a:lnTo>
                                    <a:pt x="1698" y="1374"/>
                                  </a:lnTo>
                                  <a:lnTo>
                                    <a:pt x="1683" y="1404"/>
                                  </a:lnTo>
                                  <a:lnTo>
                                    <a:pt x="1658" y="1435"/>
                                  </a:lnTo>
                                  <a:lnTo>
                                    <a:pt x="1621" y="1463"/>
                                  </a:lnTo>
                                  <a:lnTo>
                                    <a:pt x="1576" y="1480"/>
                                  </a:lnTo>
                                  <a:lnTo>
                                    <a:pt x="1525" y="1491"/>
                                  </a:lnTo>
                                  <a:lnTo>
                                    <a:pt x="1464" y="1499"/>
                                  </a:lnTo>
                                  <a:lnTo>
                                    <a:pt x="1408" y="1506"/>
                                  </a:lnTo>
                                  <a:lnTo>
                                    <a:pt x="1346" y="1509"/>
                                  </a:lnTo>
                                  <a:lnTo>
                                    <a:pt x="1273" y="1516"/>
                                  </a:lnTo>
                                  <a:lnTo>
                                    <a:pt x="1210" y="1521"/>
                                  </a:lnTo>
                                  <a:lnTo>
                                    <a:pt x="1152" y="1521"/>
                                  </a:lnTo>
                                  <a:lnTo>
                                    <a:pt x="1094" y="1516"/>
                                  </a:lnTo>
                                  <a:lnTo>
                                    <a:pt x="1042" y="1509"/>
                                  </a:lnTo>
                                  <a:lnTo>
                                    <a:pt x="1001" y="1505"/>
                                  </a:lnTo>
                                  <a:lnTo>
                                    <a:pt x="957" y="1493"/>
                                  </a:lnTo>
                                  <a:lnTo>
                                    <a:pt x="903" y="1478"/>
                                  </a:lnTo>
                                  <a:lnTo>
                                    <a:pt x="843" y="1459"/>
                                  </a:lnTo>
                                  <a:lnTo>
                                    <a:pt x="796" y="1441"/>
                                  </a:lnTo>
                                  <a:lnTo>
                                    <a:pt x="741" y="1419"/>
                                  </a:lnTo>
                                  <a:lnTo>
                                    <a:pt x="694" y="1399"/>
                                  </a:lnTo>
                                  <a:lnTo>
                                    <a:pt x="647" y="1375"/>
                                  </a:lnTo>
                                  <a:lnTo>
                                    <a:pt x="597" y="1349"/>
                                  </a:lnTo>
                                  <a:lnTo>
                                    <a:pt x="550" y="1321"/>
                                  </a:lnTo>
                                  <a:lnTo>
                                    <a:pt x="503" y="1286"/>
                                  </a:lnTo>
                                  <a:lnTo>
                                    <a:pt x="460" y="1252"/>
                                  </a:lnTo>
                                  <a:lnTo>
                                    <a:pt x="429" y="1224"/>
                                  </a:lnTo>
                                  <a:lnTo>
                                    <a:pt x="388" y="1170"/>
                                  </a:lnTo>
                                  <a:lnTo>
                                    <a:pt x="355" y="1127"/>
                                  </a:lnTo>
                                  <a:lnTo>
                                    <a:pt x="321" y="1079"/>
                                  </a:lnTo>
                                  <a:lnTo>
                                    <a:pt x="301" y="1051"/>
                                  </a:lnTo>
                                  <a:lnTo>
                                    <a:pt x="285" y="1014"/>
                                  </a:lnTo>
                                  <a:lnTo>
                                    <a:pt x="255" y="1006"/>
                                  </a:lnTo>
                                  <a:lnTo>
                                    <a:pt x="221" y="996"/>
                                  </a:lnTo>
                                  <a:lnTo>
                                    <a:pt x="190" y="981"/>
                                  </a:lnTo>
                                  <a:lnTo>
                                    <a:pt x="150" y="957"/>
                                  </a:lnTo>
                                  <a:lnTo>
                                    <a:pt x="111" y="928"/>
                                  </a:lnTo>
                                  <a:lnTo>
                                    <a:pt x="85" y="894"/>
                                  </a:lnTo>
                                  <a:lnTo>
                                    <a:pt x="55" y="854"/>
                                  </a:lnTo>
                                  <a:lnTo>
                                    <a:pt x="33" y="817"/>
                                  </a:lnTo>
                                  <a:lnTo>
                                    <a:pt x="12" y="777"/>
                                  </a:lnTo>
                                  <a:lnTo>
                                    <a:pt x="4" y="738"/>
                                  </a:lnTo>
                                  <a:lnTo>
                                    <a:pt x="0" y="684"/>
                                  </a:lnTo>
                                  <a:lnTo>
                                    <a:pt x="3" y="641"/>
                                  </a:lnTo>
                                  <a:lnTo>
                                    <a:pt x="12" y="597"/>
                                  </a:lnTo>
                                  <a:lnTo>
                                    <a:pt x="27" y="547"/>
                                  </a:lnTo>
                                  <a:lnTo>
                                    <a:pt x="49" y="499"/>
                                  </a:lnTo>
                                  <a:lnTo>
                                    <a:pt x="76" y="451"/>
                                  </a:lnTo>
                                  <a:lnTo>
                                    <a:pt x="107" y="409"/>
                                  </a:lnTo>
                                  <a:lnTo>
                                    <a:pt x="134" y="378"/>
                                  </a:lnTo>
                                  <a:lnTo>
                                    <a:pt x="168" y="347"/>
                                  </a:lnTo>
                                  <a:lnTo>
                                    <a:pt x="208" y="320"/>
                                  </a:lnTo>
                                  <a:lnTo>
                                    <a:pt x="248" y="301"/>
                                  </a:lnTo>
                                  <a:lnTo>
                                    <a:pt x="298" y="289"/>
                                  </a:lnTo>
                                  <a:lnTo>
                                    <a:pt x="360" y="281"/>
                                  </a:lnTo>
                                  <a:lnTo>
                                    <a:pt x="415" y="282"/>
                                  </a:lnTo>
                                  <a:lnTo>
                                    <a:pt x="466" y="288"/>
                                  </a:lnTo>
                                  <a:lnTo>
                                    <a:pt x="499" y="282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ffc08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7684" name=""/>
                            <p:cNvSpPr/>
                            <p:nvPr/>
                          </p:nvSpPr>
                          <p:spPr>
                            <a:xfrm>
                              <a:off x="3373560" y="389520"/>
                              <a:ext cx="571320" cy="42192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1361" h="1143">
                                  <a:moveTo>
                                    <a:pt x="1051" y="53"/>
                                  </a:moveTo>
                                  <a:lnTo>
                                    <a:pt x="1042" y="25"/>
                                  </a:lnTo>
                                  <a:lnTo>
                                    <a:pt x="1046" y="0"/>
                                  </a:lnTo>
                                  <a:lnTo>
                                    <a:pt x="1063" y="27"/>
                                  </a:lnTo>
                                  <a:lnTo>
                                    <a:pt x="1089" y="61"/>
                                  </a:lnTo>
                                  <a:lnTo>
                                    <a:pt x="1117" y="94"/>
                                  </a:lnTo>
                                  <a:lnTo>
                                    <a:pt x="1148" y="128"/>
                                  </a:lnTo>
                                  <a:lnTo>
                                    <a:pt x="1179" y="162"/>
                                  </a:lnTo>
                                  <a:lnTo>
                                    <a:pt x="1212" y="224"/>
                                  </a:lnTo>
                                  <a:lnTo>
                                    <a:pt x="1236" y="284"/>
                                  </a:lnTo>
                                  <a:lnTo>
                                    <a:pt x="1254" y="329"/>
                                  </a:lnTo>
                                  <a:lnTo>
                                    <a:pt x="1267" y="391"/>
                                  </a:lnTo>
                                  <a:lnTo>
                                    <a:pt x="1286" y="454"/>
                                  </a:lnTo>
                                  <a:lnTo>
                                    <a:pt x="1301" y="513"/>
                                  </a:lnTo>
                                  <a:lnTo>
                                    <a:pt x="1313" y="569"/>
                                  </a:lnTo>
                                  <a:lnTo>
                                    <a:pt x="1325" y="627"/>
                                  </a:lnTo>
                                  <a:lnTo>
                                    <a:pt x="1340" y="679"/>
                                  </a:lnTo>
                                  <a:lnTo>
                                    <a:pt x="1347" y="744"/>
                                  </a:lnTo>
                                  <a:lnTo>
                                    <a:pt x="1355" y="813"/>
                                  </a:lnTo>
                                  <a:lnTo>
                                    <a:pt x="1361" y="875"/>
                                  </a:lnTo>
                                  <a:lnTo>
                                    <a:pt x="1353" y="923"/>
                                  </a:lnTo>
                                  <a:lnTo>
                                    <a:pt x="1347" y="962"/>
                                  </a:lnTo>
                                  <a:lnTo>
                                    <a:pt x="1343" y="996"/>
                                  </a:lnTo>
                                  <a:lnTo>
                                    <a:pt x="1328" y="1026"/>
                                  </a:lnTo>
                                  <a:lnTo>
                                    <a:pt x="1303" y="1057"/>
                                  </a:lnTo>
                                  <a:lnTo>
                                    <a:pt x="1266" y="1085"/>
                                  </a:lnTo>
                                  <a:lnTo>
                                    <a:pt x="1221" y="1102"/>
                                  </a:lnTo>
                                  <a:lnTo>
                                    <a:pt x="1170" y="1113"/>
                                  </a:lnTo>
                                  <a:lnTo>
                                    <a:pt x="1109" y="1121"/>
                                  </a:lnTo>
                                  <a:lnTo>
                                    <a:pt x="1053" y="1128"/>
                                  </a:lnTo>
                                  <a:lnTo>
                                    <a:pt x="992" y="1131"/>
                                  </a:lnTo>
                                  <a:lnTo>
                                    <a:pt x="918" y="1138"/>
                                  </a:lnTo>
                                  <a:lnTo>
                                    <a:pt x="855" y="1143"/>
                                  </a:lnTo>
                                  <a:lnTo>
                                    <a:pt x="797" y="1143"/>
                                  </a:lnTo>
                                  <a:lnTo>
                                    <a:pt x="739" y="1138"/>
                                  </a:lnTo>
                                  <a:lnTo>
                                    <a:pt x="687" y="1131"/>
                                  </a:lnTo>
                                  <a:lnTo>
                                    <a:pt x="646" y="1127"/>
                                  </a:lnTo>
                                  <a:lnTo>
                                    <a:pt x="602" y="1115"/>
                                  </a:lnTo>
                                  <a:lnTo>
                                    <a:pt x="548" y="1100"/>
                                  </a:lnTo>
                                  <a:lnTo>
                                    <a:pt x="488" y="1081"/>
                                  </a:lnTo>
                                  <a:lnTo>
                                    <a:pt x="441" y="1063"/>
                                  </a:lnTo>
                                  <a:lnTo>
                                    <a:pt x="386" y="1041"/>
                                  </a:lnTo>
                                  <a:lnTo>
                                    <a:pt x="341" y="1021"/>
                                  </a:lnTo>
                                  <a:lnTo>
                                    <a:pt x="293" y="997"/>
                                  </a:lnTo>
                                  <a:lnTo>
                                    <a:pt x="243" y="971"/>
                                  </a:lnTo>
                                  <a:lnTo>
                                    <a:pt x="196" y="943"/>
                                  </a:lnTo>
                                  <a:lnTo>
                                    <a:pt x="149" y="908"/>
                                  </a:lnTo>
                                  <a:lnTo>
                                    <a:pt x="106" y="874"/>
                                  </a:lnTo>
                                  <a:lnTo>
                                    <a:pt x="74" y="847"/>
                                  </a:lnTo>
                                  <a:lnTo>
                                    <a:pt x="33" y="793"/>
                                  </a:lnTo>
                                  <a:lnTo>
                                    <a:pt x="0" y="749"/>
                                  </a:lnTo>
                                  <a:lnTo>
                                    <a:pt x="29" y="760"/>
                                  </a:lnTo>
                                  <a:lnTo>
                                    <a:pt x="54" y="782"/>
                                  </a:lnTo>
                                  <a:lnTo>
                                    <a:pt x="84" y="819"/>
                                  </a:lnTo>
                                  <a:lnTo>
                                    <a:pt x="122" y="853"/>
                                  </a:lnTo>
                                  <a:lnTo>
                                    <a:pt x="157" y="879"/>
                                  </a:lnTo>
                                  <a:lnTo>
                                    <a:pt x="198" y="908"/>
                                  </a:lnTo>
                                  <a:lnTo>
                                    <a:pt x="236" y="932"/>
                                  </a:lnTo>
                                  <a:lnTo>
                                    <a:pt x="278" y="960"/>
                                  </a:lnTo>
                                  <a:lnTo>
                                    <a:pt x="318" y="976"/>
                                  </a:lnTo>
                                  <a:lnTo>
                                    <a:pt x="366" y="1001"/>
                                  </a:lnTo>
                                  <a:lnTo>
                                    <a:pt x="406" y="1013"/>
                                  </a:lnTo>
                                  <a:lnTo>
                                    <a:pt x="443" y="1033"/>
                                  </a:lnTo>
                                  <a:lnTo>
                                    <a:pt x="483" y="1047"/>
                                  </a:lnTo>
                                  <a:lnTo>
                                    <a:pt x="519" y="1058"/>
                                  </a:lnTo>
                                  <a:lnTo>
                                    <a:pt x="568" y="1078"/>
                                  </a:lnTo>
                                  <a:lnTo>
                                    <a:pt x="613" y="1085"/>
                                  </a:lnTo>
                                  <a:lnTo>
                                    <a:pt x="660" y="1093"/>
                                  </a:lnTo>
                                  <a:lnTo>
                                    <a:pt x="708" y="1100"/>
                                  </a:lnTo>
                                  <a:lnTo>
                                    <a:pt x="757" y="1106"/>
                                  </a:lnTo>
                                  <a:lnTo>
                                    <a:pt x="805" y="1109"/>
                                  </a:lnTo>
                                  <a:lnTo>
                                    <a:pt x="845" y="1107"/>
                                  </a:lnTo>
                                  <a:lnTo>
                                    <a:pt x="889" y="1106"/>
                                  </a:lnTo>
                                  <a:lnTo>
                                    <a:pt x="928" y="1104"/>
                                  </a:lnTo>
                                  <a:lnTo>
                                    <a:pt x="971" y="1100"/>
                                  </a:lnTo>
                                  <a:lnTo>
                                    <a:pt x="1012" y="1097"/>
                                  </a:lnTo>
                                  <a:lnTo>
                                    <a:pt x="1052" y="1090"/>
                                  </a:lnTo>
                                  <a:lnTo>
                                    <a:pt x="1098" y="1084"/>
                                  </a:lnTo>
                                  <a:lnTo>
                                    <a:pt x="1140" y="1081"/>
                                  </a:lnTo>
                                  <a:lnTo>
                                    <a:pt x="1163" y="1067"/>
                                  </a:lnTo>
                                  <a:lnTo>
                                    <a:pt x="1190" y="1047"/>
                                  </a:lnTo>
                                  <a:lnTo>
                                    <a:pt x="1216" y="1033"/>
                                  </a:lnTo>
                                  <a:lnTo>
                                    <a:pt x="1234" y="1008"/>
                                  </a:lnTo>
                                  <a:lnTo>
                                    <a:pt x="1251" y="980"/>
                                  </a:lnTo>
                                  <a:lnTo>
                                    <a:pt x="1265" y="952"/>
                                  </a:lnTo>
                                  <a:lnTo>
                                    <a:pt x="1280" y="921"/>
                                  </a:lnTo>
                                  <a:lnTo>
                                    <a:pt x="1290" y="888"/>
                                  </a:lnTo>
                                  <a:lnTo>
                                    <a:pt x="1302" y="867"/>
                                  </a:lnTo>
                                  <a:lnTo>
                                    <a:pt x="1297" y="809"/>
                                  </a:lnTo>
                                  <a:lnTo>
                                    <a:pt x="1293" y="750"/>
                                  </a:lnTo>
                                  <a:lnTo>
                                    <a:pt x="1290" y="692"/>
                                  </a:lnTo>
                                  <a:lnTo>
                                    <a:pt x="1287" y="644"/>
                                  </a:lnTo>
                                  <a:lnTo>
                                    <a:pt x="1277" y="604"/>
                                  </a:lnTo>
                                  <a:lnTo>
                                    <a:pt x="1266" y="558"/>
                                  </a:lnTo>
                                  <a:lnTo>
                                    <a:pt x="1253" y="516"/>
                                  </a:lnTo>
                                  <a:lnTo>
                                    <a:pt x="1245" y="479"/>
                                  </a:lnTo>
                                  <a:lnTo>
                                    <a:pt x="1234" y="436"/>
                                  </a:lnTo>
                                  <a:lnTo>
                                    <a:pt x="1220" y="387"/>
                                  </a:lnTo>
                                  <a:lnTo>
                                    <a:pt x="1208" y="337"/>
                                  </a:lnTo>
                                  <a:lnTo>
                                    <a:pt x="1203" y="299"/>
                                  </a:lnTo>
                                  <a:lnTo>
                                    <a:pt x="1180" y="263"/>
                                  </a:lnTo>
                                  <a:lnTo>
                                    <a:pt x="1159" y="232"/>
                                  </a:lnTo>
                                  <a:lnTo>
                                    <a:pt x="1137" y="192"/>
                                  </a:lnTo>
                                  <a:lnTo>
                                    <a:pt x="1113" y="149"/>
                                  </a:lnTo>
                                  <a:lnTo>
                                    <a:pt x="1092" y="113"/>
                                  </a:lnTo>
                                  <a:lnTo>
                                    <a:pt x="1070" y="84"/>
                                  </a:lnTo>
                                  <a:lnTo>
                                    <a:pt x="1051" y="53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ffa04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7685" name=""/>
                          <p:cNvSpPr/>
                          <p:nvPr/>
                        </p:nvSpPr>
                        <p:spPr>
                          <a:xfrm>
                            <a:off x="3604680" y="559440"/>
                            <a:ext cx="202680" cy="18036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488" h="488">
                                <a:moveTo>
                                  <a:pt x="22" y="0"/>
                                </a:moveTo>
                                <a:lnTo>
                                  <a:pt x="57" y="24"/>
                                </a:lnTo>
                                <a:lnTo>
                                  <a:pt x="89" y="55"/>
                                </a:lnTo>
                                <a:lnTo>
                                  <a:pt x="122" y="89"/>
                                </a:lnTo>
                                <a:lnTo>
                                  <a:pt x="158" y="130"/>
                                </a:lnTo>
                                <a:lnTo>
                                  <a:pt x="197" y="173"/>
                                </a:lnTo>
                                <a:lnTo>
                                  <a:pt x="243" y="221"/>
                                </a:lnTo>
                                <a:lnTo>
                                  <a:pt x="290" y="273"/>
                                </a:lnTo>
                                <a:lnTo>
                                  <a:pt x="323" y="313"/>
                                </a:lnTo>
                                <a:lnTo>
                                  <a:pt x="352" y="339"/>
                                </a:lnTo>
                                <a:lnTo>
                                  <a:pt x="381" y="364"/>
                                </a:lnTo>
                                <a:lnTo>
                                  <a:pt x="413" y="386"/>
                                </a:lnTo>
                                <a:lnTo>
                                  <a:pt x="444" y="412"/>
                                </a:lnTo>
                                <a:lnTo>
                                  <a:pt x="470" y="433"/>
                                </a:lnTo>
                                <a:lnTo>
                                  <a:pt x="484" y="449"/>
                                </a:lnTo>
                                <a:lnTo>
                                  <a:pt x="488" y="466"/>
                                </a:lnTo>
                                <a:lnTo>
                                  <a:pt x="485" y="479"/>
                                </a:lnTo>
                                <a:lnTo>
                                  <a:pt x="476" y="486"/>
                                </a:lnTo>
                                <a:lnTo>
                                  <a:pt x="462" y="488"/>
                                </a:lnTo>
                                <a:lnTo>
                                  <a:pt x="444" y="482"/>
                                </a:lnTo>
                                <a:lnTo>
                                  <a:pt x="417" y="463"/>
                                </a:lnTo>
                                <a:lnTo>
                                  <a:pt x="390" y="448"/>
                                </a:lnTo>
                                <a:lnTo>
                                  <a:pt x="365" y="436"/>
                                </a:lnTo>
                                <a:lnTo>
                                  <a:pt x="336" y="411"/>
                                </a:lnTo>
                                <a:lnTo>
                                  <a:pt x="308" y="389"/>
                                </a:lnTo>
                                <a:lnTo>
                                  <a:pt x="274" y="361"/>
                                </a:lnTo>
                                <a:lnTo>
                                  <a:pt x="243" y="336"/>
                                </a:lnTo>
                                <a:lnTo>
                                  <a:pt x="208" y="307"/>
                                </a:lnTo>
                                <a:lnTo>
                                  <a:pt x="179" y="281"/>
                                </a:lnTo>
                                <a:lnTo>
                                  <a:pt x="155" y="252"/>
                                </a:lnTo>
                                <a:lnTo>
                                  <a:pt x="130" y="228"/>
                                </a:lnTo>
                                <a:lnTo>
                                  <a:pt x="116" y="208"/>
                                </a:lnTo>
                                <a:lnTo>
                                  <a:pt x="92" y="176"/>
                                </a:lnTo>
                                <a:lnTo>
                                  <a:pt x="71" y="142"/>
                                </a:lnTo>
                                <a:lnTo>
                                  <a:pt x="49" y="109"/>
                                </a:lnTo>
                                <a:lnTo>
                                  <a:pt x="31" y="79"/>
                                </a:lnTo>
                                <a:lnTo>
                                  <a:pt x="15" y="52"/>
                                </a:lnTo>
                                <a:lnTo>
                                  <a:pt x="4" y="30"/>
                                </a:lnTo>
                                <a:lnTo>
                                  <a:pt x="0" y="15"/>
                                </a:lnTo>
                                <a:lnTo>
                                  <a:pt x="4" y="5"/>
                                </a:lnTo>
                                <a:lnTo>
                                  <a:pt x="22" y="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ffe0c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7686" name=""/>
                        <p:cNvSpPr/>
                        <p:nvPr/>
                      </p:nvSpPr>
                      <p:spPr>
                        <a:xfrm>
                          <a:off x="3713760" y="666720"/>
                          <a:ext cx="178200" cy="1195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22" h="325">
                              <a:moveTo>
                                <a:pt x="422" y="0"/>
                              </a:moveTo>
                              <a:lnTo>
                                <a:pt x="422" y="44"/>
                              </a:lnTo>
                              <a:lnTo>
                                <a:pt x="421" y="99"/>
                              </a:lnTo>
                              <a:lnTo>
                                <a:pt x="415" y="148"/>
                              </a:lnTo>
                              <a:lnTo>
                                <a:pt x="403" y="188"/>
                              </a:lnTo>
                              <a:lnTo>
                                <a:pt x="383" y="215"/>
                              </a:lnTo>
                              <a:lnTo>
                                <a:pt x="359" y="238"/>
                              </a:lnTo>
                              <a:lnTo>
                                <a:pt x="325" y="260"/>
                              </a:lnTo>
                              <a:lnTo>
                                <a:pt x="290" y="279"/>
                              </a:lnTo>
                              <a:lnTo>
                                <a:pt x="239" y="300"/>
                              </a:lnTo>
                              <a:lnTo>
                                <a:pt x="193" y="313"/>
                              </a:lnTo>
                              <a:lnTo>
                                <a:pt x="141" y="320"/>
                              </a:lnTo>
                              <a:lnTo>
                                <a:pt x="95" y="325"/>
                              </a:lnTo>
                              <a:lnTo>
                                <a:pt x="47" y="323"/>
                              </a:lnTo>
                              <a:lnTo>
                                <a:pt x="0" y="320"/>
                              </a:lnTo>
                            </a:path>
                          </a:pathLst>
                        </a:custGeom>
                        <a:noFill/>
                        <a:ln w="3240">
                          <a:solidFill>
                            <a:srgbClr val="ff8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7687" name=""/>
                      <p:cNvGrpSpPr/>
                      <p:nvPr/>
                    </p:nvGrpSpPr>
                    <p:grpSpPr>
                      <a:xfrm>
                        <a:off x="3248280" y="267840"/>
                        <a:ext cx="612000" cy="498240"/>
                        <a:chOff x="3248280" y="267840"/>
                        <a:chExt cx="612000" cy="498240"/>
                      </a:xfrm>
                    </p:grpSpPr>
                    <p:grpSp>
                      <p:nvGrpSpPr>
                        <p:cNvPr id="7688" name=""/>
                        <p:cNvGrpSpPr/>
                        <p:nvPr/>
                      </p:nvGrpSpPr>
                      <p:grpSpPr>
                        <a:xfrm>
                          <a:off x="3468240" y="267840"/>
                          <a:ext cx="392040" cy="446760"/>
                          <a:chOff x="3468240" y="267840"/>
                          <a:chExt cx="392040" cy="446760"/>
                        </a:xfrm>
                      </p:grpSpPr>
                      <p:grpSp>
                        <p:nvGrpSpPr>
                          <p:cNvPr id="7689" name=""/>
                          <p:cNvGrpSpPr/>
                          <p:nvPr/>
                        </p:nvGrpSpPr>
                        <p:grpSpPr>
                          <a:xfrm>
                            <a:off x="3468240" y="267840"/>
                            <a:ext cx="392040" cy="446760"/>
                            <a:chOff x="3468240" y="267840"/>
                            <a:chExt cx="392040" cy="446760"/>
                          </a:xfrm>
                        </p:grpSpPr>
                        <p:grpSp>
                          <p:nvGrpSpPr>
                            <p:cNvPr id="7690" name=""/>
                            <p:cNvGrpSpPr/>
                            <p:nvPr/>
                          </p:nvGrpSpPr>
                          <p:grpSpPr>
                            <a:xfrm>
                              <a:off x="3468240" y="267840"/>
                              <a:ext cx="392040" cy="446760"/>
                              <a:chOff x="3468240" y="267840"/>
                              <a:chExt cx="392040" cy="446760"/>
                            </a:xfrm>
                          </p:grpSpPr>
                          <p:grpSp>
                            <p:nvGrpSpPr>
                              <p:cNvPr id="7691" name=""/>
                              <p:cNvGrpSpPr/>
                              <p:nvPr/>
                            </p:nvGrpSpPr>
                            <p:grpSpPr>
                              <a:xfrm>
                                <a:off x="3468240" y="267840"/>
                                <a:ext cx="392040" cy="446760"/>
                                <a:chOff x="3468240" y="267840"/>
                                <a:chExt cx="392040" cy="446760"/>
                              </a:xfrm>
                            </p:grpSpPr>
                            <p:grpSp>
                              <p:nvGrpSpPr>
                                <p:cNvPr id="7692" name=""/>
                                <p:cNvGrpSpPr/>
                                <p:nvPr/>
                              </p:nvGrpSpPr>
                              <p:grpSpPr>
                                <a:xfrm>
                                  <a:off x="3468240" y="267840"/>
                                  <a:ext cx="392040" cy="446760"/>
                                  <a:chOff x="3468240" y="267840"/>
                                  <a:chExt cx="392040" cy="446760"/>
                                </a:xfrm>
                              </p:grpSpPr>
                              <p:sp>
                                <p:nvSpPr>
                                  <p:cNvPr id="7693" name=""/>
                                  <p:cNvSpPr/>
                                  <p:nvPr/>
                                </p:nvSpPr>
                                <p:spPr>
                                  <a:xfrm>
                                    <a:off x="3468240" y="267840"/>
                                    <a:ext cx="392040" cy="446760"/>
                                  </a:xfrm>
                                  <a:custGeom>
                                    <a:avLst/>
                                    <a:gdLst/>
                                    <a:ahLst/>
                                    <a:rect l="l" t="t" r="r" b="b"/>
                                    <a:pathLst>
                                      <a:path w="939" h="1215">
                                        <a:moveTo>
                                          <a:pt x="2" y="270"/>
                                        </a:moveTo>
                                        <a:lnTo>
                                          <a:pt x="10" y="248"/>
                                        </a:lnTo>
                                        <a:lnTo>
                                          <a:pt x="20" y="228"/>
                                        </a:lnTo>
                                        <a:lnTo>
                                          <a:pt x="32" y="206"/>
                                        </a:lnTo>
                                        <a:lnTo>
                                          <a:pt x="45" y="191"/>
                                        </a:lnTo>
                                        <a:lnTo>
                                          <a:pt x="58" y="178"/>
                                        </a:lnTo>
                                        <a:lnTo>
                                          <a:pt x="75" y="160"/>
                                        </a:lnTo>
                                        <a:lnTo>
                                          <a:pt x="95" y="137"/>
                                        </a:lnTo>
                                        <a:lnTo>
                                          <a:pt x="110" y="116"/>
                                        </a:lnTo>
                                        <a:lnTo>
                                          <a:pt x="126" y="96"/>
                                        </a:lnTo>
                                        <a:lnTo>
                                          <a:pt x="143" y="80"/>
                                        </a:lnTo>
                                        <a:lnTo>
                                          <a:pt x="164" y="62"/>
                                        </a:lnTo>
                                        <a:lnTo>
                                          <a:pt x="184" y="47"/>
                                        </a:lnTo>
                                        <a:lnTo>
                                          <a:pt x="205" y="34"/>
                                        </a:lnTo>
                                        <a:lnTo>
                                          <a:pt x="231" y="21"/>
                                        </a:lnTo>
                                        <a:lnTo>
                                          <a:pt x="259" y="11"/>
                                        </a:lnTo>
                                        <a:lnTo>
                                          <a:pt x="288" y="4"/>
                                        </a:lnTo>
                                        <a:lnTo>
                                          <a:pt x="324" y="1"/>
                                        </a:lnTo>
                                        <a:lnTo>
                                          <a:pt x="358" y="0"/>
                                        </a:lnTo>
                                        <a:lnTo>
                                          <a:pt x="385" y="2"/>
                                        </a:lnTo>
                                        <a:lnTo>
                                          <a:pt x="413" y="6"/>
                                        </a:lnTo>
                                        <a:lnTo>
                                          <a:pt x="439" y="11"/>
                                        </a:lnTo>
                                        <a:lnTo>
                                          <a:pt x="471" y="19"/>
                                        </a:lnTo>
                                        <a:lnTo>
                                          <a:pt x="499" y="32"/>
                                        </a:lnTo>
                                        <a:lnTo>
                                          <a:pt x="521" y="43"/>
                                        </a:lnTo>
                                        <a:lnTo>
                                          <a:pt x="546" y="56"/>
                                        </a:lnTo>
                                        <a:lnTo>
                                          <a:pt x="565" y="74"/>
                                        </a:lnTo>
                                        <a:lnTo>
                                          <a:pt x="584" y="93"/>
                                        </a:lnTo>
                                        <a:lnTo>
                                          <a:pt x="599" y="112"/>
                                        </a:lnTo>
                                        <a:lnTo>
                                          <a:pt x="616" y="135"/>
                                        </a:lnTo>
                                        <a:lnTo>
                                          <a:pt x="631" y="158"/>
                                        </a:lnTo>
                                        <a:lnTo>
                                          <a:pt x="640" y="179"/>
                                        </a:lnTo>
                                        <a:lnTo>
                                          <a:pt x="646" y="206"/>
                                        </a:lnTo>
                                        <a:lnTo>
                                          <a:pt x="651" y="231"/>
                                        </a:lnTo>
                                        <a:lnTo>
                                          <a:pt x="654" y="250"/>
                                        </a:lnTo>
                                        <a:lnTo>
                                          <a:pt x="653" y="271"/>
                                        </a:lnTo>
                                        <a:lnTo>
                                          <a:pt x="648" y="286"/>
                                        </a:lnTo>
                                        <a:lnTo>
                                          <a:pt x="638" y="310"/>
                                        </a:lnTo>
                                        <a:lnTo>
                                          <a:pt x="624" y="339"/>
                                        </a:lnTo>
                                        <a:lnTo>
                                          <a:pt x="611" y="365"/>
                                        </a:lnTo>
                                        <a:lnTo>
                                          <a:pt x="601" y="386"/>
                                        </a:lnTo>
                                        <a:lnTo>
                                          <a:pt x="594" y="409"/>
                                        </a:lnTo>
                                        <a:lnTo>
                                          <a:pt x="586" y="433"/>
                                        </a:lnTo>
                                        <a:lnTo>
                                          <a:pt x="580" y="454"/>
                                        </a:lnTo>
                                        <a:lnTo>
                                          <a:pt x="577" y="465"/>
                                        </a:lnTo>
                                        <a:lnTo>
                                          <a:pt x="578" y="473"/>
                                        </a:lnTo>
                                        <a:lnTo>
                                          <a:pt x="583" y="476"/>
                                        </a:lnTo>
                                        <a:lnTo>
                                          <a:pt x="590" y="476"/>
                                        </a:lnTo>
                                        <a:lnTo>
                                          <a:pt x="596" y="470"/>
                                        </a:lnTo>
                                        <a:lnTo>
                                          <a:pt x="603" y="459"/>
                                        </a:lnTo>
                                        <a:lnTo>
                                          <a:pt x="612" y="439"/>
                                        </a:lnTo>
                                        <a:lnTo>
                                          <a:pt x="625" y="411"/>
                                        </a:lnTo>
                                        <a:lnTo>
                                          <a:pt x="640" y="385"/>
                                        </a:lnTo>
                                        <a:lnTo>
                                          <a:pt x="654" y="363"/>
                                        </a:lnTo>
                                        <a:lnTo>
                                          <a:pt x="668" y="343"/>
                                        </a:lnTo>
                                        <a:lnTo>
                                          <a:pt x="676" y="334"/>
                                        </a:lnTo>
                                        <a:lnTo>
                                          <a:pt x="684" y="329"/>
                                        </a:lnTo>
                                        <a:lnTo>
                                          <a:pt x="694" y="327"/>
                                        </a:lnTo>
                                        <a:lnTo>
                                          <a:pt x="701" y="333"/>
                                        </a:lnTo>
                                        <a:lnTo>
                                          <a:pt x="711" y="351"/>
                                        </a:lnTo>
                                        <a:lnTo>
                                          <a:pt x="720" y="367"/>
                                        </a:lnTo>
                                        <a:lnTo>
                                          <a:pt x="731" y="389"/>
                                        </a:lnTo>
                                        <a:lnTo>
                                          <a:pt x="743" y="410"/>
                                        </a:lnTo>
                                        <a:lnTo>
                                          <a:pt x="753" y="429"/>
                                        </a:lnTo>
                                        <a:lnTo>
                                          <a:pt x="761" y="450"/>
                                        </a:lnTo>
                                        <a:lnTo>
                                          <a:pt x="770" y="469"/>
                                        </a:lnTo>
                                        <a:lnTo>
                                          <a:pt x="778" y="491"/>
                                        </a:lnTo>
                                        <a:lnTo>
                                          <a:pt x="792" y="505"/>
                                        </a:lnTo>
                                        <a:lnTo>
                                          <a:pt x="808" y="524"/>
                                        </a:lnTo>
                                        <a:lnTo>
                                          <a:pt x="820" y="541"/>
                                        </a:lnTo>
                                        <a:lnTo>
                                          <a:pt x="823" y="561"/>
                                        </a:lnTo>
                                        <a:lnTo>
                                          <a:pt x="821" y="581"/>
                                        </a:lnTo>
                                        <a:lnTo>
                                          <a:pt x="817" y="608"/>
                                        </a:lnTo>
                                        <a:lnTo>
                                          <a:pt x="812" y="633"/>
                                        </a:lnTo>
                                        <a:lnTo>
                                          <a:pt x="807" y="659"/>
                                        </a:lnTo>
                                        <a:lnTo>
                                          <a:pt x="817" y="675"/>
                                        </a:lnTo>
                                        <a:lnTo>
                                          <a:pt x="827" y="691"/>
                                        </a:lnTo>
                                        <a:lnTo>
                                          <a:pt x="836" y="709"/>
                                        </a:lnTo>
                                        <a:lnTo>
                                          <a:pt x="847" y="729"/>
                                        </a:lnTo>
                                        <a:lnTo>
                                          <a:pt x="863" y="762"/>
                                        </a:lnTo>
                                        <a:lnTo>
                                          <a:pt x="877" y="790"/>
                                        </a:lnTo>
                                        <a:lnTo>
                                          <a:pt x="893" y="817"/>
                                        </a:lnTo>
                                        <a:lnTo>
                                          <a:pt x="905" y="843"/>
                                        </a:lnTo>
                                        <a:lnTo>
                                          <a:pt x="911" y="861"/>
                                        </a:lnTo>
                                        <a:lnTo>
                                          <a:pt x="917" y="888"/>
                                        </a:lnTo>
                                        <a:lnTo>
                                          <a:pt x="922" y="918"/>
                                        </a:lnTo>
                                        <a:lnTo>
                                          <a:pt x="927" y="940"/>
                                        </a:lnTo>
                                        <a:lnTo>
                                          <a:pt x="933" y="971"/>
                                        </a:lnTo>
                                        <a:lnTo>
                                          <a:pt x="935" y="1002"/>
                                        </a:lnTo>
                                        <a:lnTo>
                                          <a:pt x="934" y="1023"/>
                                        </a:lnTo>
                                        <a:lnTo>
                                          <a:pt x="934" y="1047"/>
                                        </a:lnTo>
                                        <a:lnTo>
                                          <a:pt x="935" y="1096"/>
                                        </a:lnTo>
                                        <a:lnTo>
                                          <a:pt x="939" y="1153"/>
                                        </a:lnTo>
                                        <a:lnTo>
                                          <a:pt x="938" y="1179"/>
                                        </a:lnTo>
                                        <a:lnTo>
                                          <a:pt x="935" y="1196"/>
                                        </a:lnTo>
                                        <a:lnTo>
                                          <a:pt x="924" y="1206"/>
                                        </a:lnTo>
                                        <a:lnTo>
                                          <a:pt x="906" y="1214"/>
                                        </a:lnTo>
                                        <a:lnTo>
                                          <a:pt x="888" y="1215"/>
                                        </a:lnTo>
                                        <a:lnTo>
                                          <a:pt x="873" y="1208"/>
                                        </a:lnTo>
                                        <a:lnTo>
                                          <a:pt x="862" y="1199"/>
                                        </a:lnTo>
                                        <a:lnTo>
                                          <a:pt x="833" y="1181"/>
                                        </a:lnTo>
                                        <a:lnTo>
                                          <a:pt x="806" y="1167"/>
                                        </a:lnTo>
                                        <a:lnTo>
                                          <a:pt x="779" y="1155"/>
                                        </a:lnTo>
                                        <a:lnTo>
                                          <a:pt x="758" y="1136"/>
                                        </a:lnTo>
                                        <a:lnTo>
                                          <a:pt x="721" y="1103"/>
                                        </a:lnTo>
                                        <a:lnTo>
                                          <a:pt x="687" y="1069"/>
                                        </a:lnTo>
                                        <a:lnTo>
                                          <a:pt x="653" y="1038"/>
                                        </a:lnTo>
                                        <a:lnTo>
                                          <a:pt x="621" y="1002"/>
                                        </a:lnTo>
                                        <a:lnTo>
                                          <a:pt x="582" y="954"/>
                                        </a:lnTo>
                                        <a:lnTo>
                                          <a:pt x="553" y="918"/>
                                        </a:lnTo>
                                        <a:lnTo>
                                          <a:pt x="520" y="888"/>
                                        </a:lnTo>
                                        <a:lnTo>
                                          <a:pt x="481" y="847"/>
                                        </a:lnTo>
                                        <a:lnTo>
                                          <a:pt x="441" y="806"/>
                                        </a:lnTo>
                                        <a:lnTo>
                                          <a:pt x="385" y="754"/>
                                        </a:lnTo>
                                        <a:lnTo>
                                          <a:pt x="334" y="711"/>
                                        </a:lnTo>
                                        <a:lnTo>
                                          <a:pt x="310" y="684"/>
                                        </a:lnTo>
                                        <a:lnTo>
                                          <a:pt x="291" y="662"/>
                                        </a:lnTo>
                                        <a:lnTo>
                                          <a:pt x="280" y="643"/>
                                        </a:lnTo>
                                        <a:lnTo>
                                          <a:pt x="271" y="619"/>
                                        </a:lnTo>
                                        <a:lnTo>
                                          <a:pt x="270" y="607"/>
                                        </a:lnTo>
                                        <a:lnTo>
                                          <a:pt x="275" y="599"/>
                                        </a:lnTo>
                                        <a:lnTo>
                                          <a:pt x="287" y="590"/>
                                        </a:lnTo>
                                        <a:lnTo>
                                          <a:pt x="306" y="576"/>
                                        </a:lnTo>
                                        <a:lnTo>
                                          <a:pt x="327" y="562"/>
                                        </a:lnTo>
                                        <a:lnTo>
                                          <a:pt x="347" y="548"/>
                                        </a:lnTo>
                                        <a:lnTo>
                                          <a:pt x="363" y="538"/>
                                        </a:lnTo>
                                        <a:lnTo>
                                          <a:pt x="381" y="531"/>
                                        </a:lnTo>
                                        <a:lnTo>
                                          <a:pt x="402" y="524"/>
                                        </a:lnTo>
                                        <a:lnTo>
                                          <a:pt x="422" y="517"/>
                                        </a:lnTo>
                                        <a:lnTo>
                                          <a:pt x="443" y="510"/>
                                        </a:lnTo>
                                        <a:lnTo>
                                          <a:pt x="457" y="504"/>
                                        </a:lnTo>
                                        <a:lnTo>
                                          <a:pt x="459" y="498"/>
                                        </a:lnTo>
                                        <a:lnTo>
                                          <a:pt x="454" y="491"/>
                                        </a:lnTo>
                                        <a:lnTo>
                                          <a:pt x="445" y="489"/>
                                        </a:lnTo>
                                        <a:lnTo>
                                          <a:pt x="422" y="492"/>
                                        </a:lnTo>
                                        <a:lnTo>
                                          <a:pt x="398" y="496"/>
                                        </a:lnTo>
                                        <a:lnTo>
                                          <a:pt x="369" y="502"/>
                                        </a:lnTo>
                                        <a:lnTo>
                                          <a:pt x="340" y="510"/>
                                        </a:lnTo>
                                        <a:lnTo>
                                          <a:pt x="327" y="515"/>
                                        </a:lnTo>
                                        <a:lnTo>
                                          <a:pt x="311" y="527"/>
                                        </a:lnTo>
                                        <a:lnTo>
                                          <a:pt x="292" y="541"/>
                                        </a:lnTo>
                                        <a:lnTo>
                                          <a:pt x="268" y="562"/>
                                        </a:lnTo>
                                        <a:lnTo>
                                          <a:pt x="254" y="565"/>
                                        </a:lnTo>
                                        <a:lnTo>
                                          <a:pt x="232" y="567"/>
                                        </a:lnTo>
                                        <a:lnTo>
                                          <a:pt x="211" y="568"/>
                                        </a:lnTo>
                                        <a:lnTo>
                                          <a:pt x="197" y="564"/>
                                        </a:lnTo>
                                        <a:lnTo>
                                          <a:pt x="182" y="557"/>
                                        </a:lnTo>
                                        <a:lnTo>
                                          <a:pt x="162" y="549"/>
                                        </a:lnTo>
                                        <a:lnTo>
                                          <a:pt x="152" y="539"/>
                                        </a:lnTo>
                                        <a:lnTo>
                                          <a:pt x="141" y="523"/>
                                        </a:lnTo>
                                        <a:lnTo>
                                          <a:pt x="129" y="504"/>
                                        </a:lnTo>
                                        <a:lnTo>
                                          <a:pt x="119" y="489"/>
                                        </a:lnTo>
                                        <a:lnTo>
                                          <a:pt x="98" y="468"/>
                                        </a:lnTo>
                                        <a:lnTo>
                                          <a:pt x="83" y="449"/>
                                        </a:lnTo>
                                        <a:lnTo>
                                          <a:pt x="61" y="428"/>
                                        </a:lnTo>
                                        <a:lnTo>
                                          <a:pt x="44" y="410"/>
                                        </a:lnTo>
                                        <a:lnTo>
                                          <a:pt x="33" y="398"/>
                                        </a:lnTo>
                                        <a:lnTo>
                                          <a:pt x="26" y="383"/>
                                        </a:lnTo>
                                        <a:lnTo>
                                          <a:pt x="18" y="362"/>
                                        </a:lnTo>
                                        <a:lnTo>
                                          <a:pt x="9" y="338"/>
                                        </a:lnTo>
                                        <a:lnTo>
                                          <a:pt x="4" y="314"/>
                                        </a:lnTo>
                                        <a:lnTo>
                                          <a:pt x="0" y="288"/>
                                        </a:lnTo>
                                        <a:lnTo>
                                          <a:pt x="2" y="270"/>
                                        </a:lnTo>
                                        <a:close/>
                                      </a:path>
                                    </a:pathLst>
                                  </a:custGeom>
                                  <a:solidFill>
                                    <a:srgbClr val="ff8080"/>
                                  </a:solidFill>
                                  <a:ln w="0">
                                    <a:noFill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  <p:grpSp>
                                <p:nvGrpSpPr>
                                  <p:cNvPr id="7694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3468240" y="267840"/>
                                    <a:ext cx="391680" cy="444600"/>
                                    <a:chOff x="3468240" y="267840"/>
                                    <a:chExt cx="391680" cy="444600"/>
                                  </a:xfrm>
                                </p:grpSpPr>
                                <p:sp>
                                  <p:nvSpPr>
                                    <p:cNvPr id="769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580560" y="387360"/>
                                      <a:ext cx="279360" cy="325080"/>
                                    </a:xfrm>
                                    <a:custGeom>
                                      <a:avLst/>
                                      <a:gdLst/>
                                      <a:ahLst/>
                                      <a:rect l="l" t="t" r="r" b="b"/>
                                      <a:pathLst>
                                        <a:path w="668" h="887">
                                          <a:moveTo>
                                            <a:pt x="408" y="53"/>
                                          </a:moveTo>
                                          <a:lnTo>
                                            <a:pt x="395" y="57"/>
                                          </a:lnTo>
                                          <a:lnTo>
                                            <a:pt x="379" y="68"/>
                                          </a:lnTo>
                                          <a:lnTo>
                                            <a:pt x="365" y="77"/>
                                          </a:lnTo>
                                          <a:lnTo>
                                            <a:pt x="354" y="84"/>
                                          </a:lnTo>
                                          <a:lnTo>
                                            <a:pt x="369" y="58"/>
                                          </a:lnTo>
                                          <a:lnTo>
                                            <a:pt x="383" y="36"/>
                                          </a:lnTo>
                                          <a:lnTo>
                                            <a:pt x="397" y="16"/>
                                          </a:lnTo>
                                          <a:lnTo>
                                            <a:pt x="405" y="7"/>
                                          </a:lnTo>
                                          <a:lnTo>
                                            <a:pt x="413" y="2"/>
                                          </a:lnTo>
                                          <a:lnTo>
                                            <a:pt x="423" y="0"/>
                                          </a:lnTo>
                                          <a:lnTo>
                                            <a:pt x="430" y="6"/>
                                          </a:lnTo>
                                          <a:lnTo>
                                            <a:pt x="441" y="24"/>
                                          </a:lnTo>
                                          <a:lnTo>
                                            <a:pt x="450" y="40"/>
                                          </a:lnTo>
                                          <a:lnTo>
                                            <a:pt x="461" y="62"/>
                                          </a:lnTo>
                                          <a:lnTo>
                                            <a:pt x="473" y="83"/>
                                          </a:lnTo>
                                          <a:lnTo>
                                            <a:pt x="483" y="102"/>
                                          </a:lnTo>
                                          <a:lnTo>
                                            <a:pt x="491" y="123"/>
                                          </a:lnTo>
                                          <a:lnTo>
                                            <a:pt x="500" y="142"/>
                                          </a:lnTo>
                                          <a:lnTo>
                                            <a:pt x="507" y="164"/>
                                          </a:lnTo>
                                          <a:lnTo>
                                            <a:pt x="521" y="178"/>
                                          </a:lnTo>
                                          <a:lnTo>
                                            <a:pt x="537" y="197"/>
                                          </a:lnTo>
                                          <a:lnTo>
                                            <a:pt x="549" y="214"/>
                                          </a:lnTo>
                                          <a:lnTo>
                                            <a:pt x="552" y="233"/>
                                          </a:lnTo>
                                          <a:lnTo>
                                            <a:pt x="550" y="253"/>
                                          </a:lnTo>
                                          <a:lnTo>
                                            <a:pt x="546" y="280"/>
                                          </a:lnTo>
                                          <a:lnTo>
                                            <a:pt x="541" y="305"/>
                                          </a:lnTo>
                                          <a:lnTo>
                                            <a:pt x="536" y="331"/>
                                          </a:lnTo>
                                          <a:lnTo>
                                            <a:pt x="546" y="347"/>
                                          </a:lnTo>
                                          <a:lnTo>
                                            <a:pt x="556" y="363"/>
                                          </a:lnTo>
                                          <a:lnTo>
                                            <a:pt x="565" y="381"/>
                                          </a:lnTo>
                                          <a:lnTo>
                                            <a:pt x="576" y="401"/>
                                          </a:lnTo>
                                          <a:lnTo>
                                            <a:pt x="592" y="434"/>
                                          </a:lnTo>
                                          <a:lnTo>
                                            <a:pt x="606" y="462"/>
                                          </a:lnTo>
                                          <a:lnTo>
                                            <a:pt x="622" y="489"/>
                                          </a:lnTo>
                                          <a:lnTo>
                                            <a:pt x="634" y="515"/>
                                          </a:lnTo>
                                          <a:lnTo>
                                            <a:pt x="640" y="533"/>
                                          </a:lnTo>
                                          <a:lnTo>
                                            <a:pt x="646" y="560"/>
                                          </a:lnTo>
                                          <a:lnTo>
                                            <a:pt x="651" y="591"/>
                                          </a:lnTo>
                                          <a:lnTo>
                                            <a:pt x="656" y="613"/>
                                          </a:lnTo>
                                          <a:lnTo>
                                            <a:pt x="662" y="644"/>
                                          </a:lnTo>
                                          <a:lnTo>
                                            <a:pt x="664" y="674"/>
                                          </a:lnTo>
                                          <a:lnTo>
                                            <a:pt x="663" y="695"/>
                                          </a:lnTo>
                                          <a:lnTo>
                                            <a:pt x="663" y="719"/>
                                          </a:lnTo>
                                          <a:lnTo>
                                            <a:pt x="664" y="768"/>
                                          </a:lnTo>
                                          <a:lnTo>
                                            <a:pt x="668" y="825"/>
                                          </a:lnTo>
                                          <a:lnTo>
                                            <a:pt x="667" y="851"/>
                                          </a:lnTo>
                                          <a:lnTo>
                                            <a:pt x="664" y="868"/>
                                          </a:lnTo>
                                          <a:lnTo>
                                            <a:pt x="653" y="878"/>
                                          </a:lnTo>
                                          <a:lnTo>
                                            <a:pt x="635" y="886"/>
                                          </a:lnTo>
                                          <a:lnTo>
                                            <a:pt x="617" y="887"/>
                                          </a:lnTo>
                                          <a:lnTo>
                                            <a:pt x="602" y="880"/>
                                          </a:lnTo>
                                          <a:lnTo>
                                            <a:pt x="591" y="871"/>
                                          </a:lnTo>
                                          <a:lnTo>
                                            <a:pt x="562" y="853"/>
                                          </a:lnTo>
                                          <a:lnTo>
                                            <a:pt x="535" y="839"/>
                                          </a:lnTo>
                                          <a:lnTo>
                                            <a:pt x="508" y="827"/>
                                          </a:lnTo>
                                          <a:lnTo>
                                            <a:pt x="488" y="808"/>
                                          </a:lnTo>
                                          <a:lnTo>
                                            <a:pt x="451" y="775"/>
                                          </a:lnTo>
                                          <a:lnTo>
                                            <a:pt x="416" y="741"/>
                                          </a:lnTo>
                                          <a:lnTo>
                                            <a:pt x="382" y="710"/>
                                          </a:lnTo>
                                          <a:lnTo>
                                            <a:pt x="350" y="674"/>
                                          </a:lnTo>
                                          <a:lnTo>
                                            <a:pt x="311" y="627"/>
                                          </a:lnTo>
                                          <a:lnTo>
                                            <a:pt x="282" y="591"/>
                                          </a:lnTo>
                                          <a:lnTo>
                                            <a:pt x="249" y="560"/>
                                          </a:lnTo>
                                          <a:lnTo>
                                            <a:pt x="210" y="519"/>
                                          </a:lnTo>
                                          <a:lnTo>
                                            <a:pt x="170" y="478"/>
                                          </a:lnTo>
                                          <a:lnTo>
                                            <a:pt x="115" y="426"/>
                                          </a:lnTo>
                                          <a:lnTo>
                                            <a:pt x="64" y="383"/>
                                          </a:lnTo>
                                          <a:lnTo>
                                            <a:pt x="40" y="356"/>
                                          </a:lnTo>
                                          <a:lnTo>
                                            <a:pt x="21" y="334"/>
                                          </a:lnTo>
                                          <a:lnTo>
                                            <a:pt x="10" y="315"/>
                                          </a:lnTo>
                                          <a:lnTo>
                                            <a:pt x="1" y="291"/>
                                          </a:lnTo>
                                          <a:lnTo>
                                            <a:pt x="0" y="279"/>
                                          </a:lnTo>
                                          <a:lnTo>
                                            <a:pt x="5" y="271"/>
                                          </a:lnTo>
                                          <a:lnTo>
                                            <a:pt x="17" y="262"/>
                                          </a:lnTo>
                                          <a:lnTo>
                                            <a:pt x="36" y="248"/>
                                          </a:lnTo>
                                          <a:lnTo>
                                            <a:pt x="57" y="234"/>
                                          </a:lnTo>
                                          <a:lnTo>
                                            <a:pt x="77" y="221"/>
                                          </a:lnTo>
                                          <a:lnTo>
                                            <a:pt x="93" y="211"/>
                                          </a:lnTo>
                                          <a:lnTo>
                                            <a:pt x="82" y="237"/>
                                          </a:lnTo>
                                          <a:lnTo>
                                            <a:pt x="71" y="258"/>
                                          </a:lnTo>
                                          <a:lnTo>
                                            <a:pt x="60" y="280"/>
                                          </a:lnTo>
                                          <a:lnTo>
                                            <a:pt x="54" y="295"/>
                                          </a:lnTo>
                                          <a:lnTo>
                                            <a:pt x="55" y="308"/>
                                          </a:lnTo>
                                          <a:lnTo>
                                            <a:pt x="62" y="325"/>
                                          </a:lnTo>
                                          <a:lnTo>
                                            <a:pt x="74" y="347"/>
                                          </a:lnTo>
                                          <a:lnTo>
                                            <a:pt x="91" y="366"/>
                                          </a:lnTo>
                                          <a:lnTo>
                                            <a:pt x="109" y="390"/>
                                          </a:lnTo>
                                          <a:lnTo>
                                            <a:pt x="138" y="411"/>
                                          </a:lnTo>
                                          <a:lnTo>
                                            <a:pt x="167" y="436"/>
                                          </a:lnTo>
                                          <a:lnTo>
                                            <a:pt x="190" y="455"/>
                                          </a:lnTo>
                                          <a:lnTo>
                                            <a:pt x="215" y="475"/>
                                          </a:lnTo>
                                          <a:lnTo>
                                            <a:pt x="239" y="495"/>
                                          </a:lnTo>
                                          <a:lnTo>
                                            <a:pt x="264" y="516"/>
                                          </a:lnTo>
                                          <a:lnTo>
                                            <a:pt x="284" y="541"/>
                                          </a:lnTo>
                                          <a:lnTo>
                                            <a:pt x="307" y="559"/>
                                          </a:lnTo>
                                          <a:lnTo>
                                            <a:pt x="322" y="577"/>
                                          </a:lnTo>
                                          <a:lnTo>
                                            <a:pt x="341" y="603"/>
                                          </a:lnTo>
                                          <a:lnTo>
                                            <a:pt x="358" y="628"/>
                                          </a:lnTo>
                                          <a:lnTo>
                                            <a:pt x="377" y="655"/>
                                          </a:lnTo>
                                          <a:lnTo>
                                            <a:pt x="397" y="678"/>
                                          </a:lnTo>
                                          <a:lnTo>
                                            <a:pt x="420" y="697"/>
                                          </a:lnTo>
                                          <a:lnTo>
                                            <a:pt x="453" y="724"/>
                                          </a:lnTo>
                                          <a:lnTo>
                                            <a:pt x="475" y="743"/>
                                          </a:lnTo>
                                          <a:lnTo>
                                            <a:pt x="496" y="760"/>
                                          </a:lnTo>
                                          <a:lnTo>
                                            <a:pt x="509" y="776"/>
                                          </a:lnTo>
                                          <a:lnTo>
                                            <a:pt x="528" y="783"/>
                                          </a:lnTo>
                                          <a:lnTo>
                                            <a:pt x="546" y="792"/>
                                          </a:lnTo>
                                          <a:lnTo>
                                            <a:pt x="564" y="798"/>
                                          </a:lnTo>
                                          <a:lnTo>
                                            <a:pt x="582" y="803"/>
                                          </a:lnTo>
                                          <a:lnTo>
                                            <a:pt x="594" y="802"/>
                                          </a:lnTo>
                                          <a:lnTo>
                                            <a:pt x="604" y="798"/>
                                          </a:lnTo>
                                          <a:lnTo>
                                            <a:pt x="614" y="792"/>
                                          </a:lnTo>
                                          <a:lnTo>
                                            <a:pt x="620" y="779"/>
                                          </a:lnTo>
                                          <a:lnTo>
                                            <a:pt x="623" y="766"/>
                                          </a:lnTo>
                                          <a:lnTo>
                                            <a:pt x="620" y="738"/>
                                          </a:lnTo>
                                          <a:lnTo>
                                            <a:pt x="618" y="704"/>
                                          </a:lnTo>
                                          <a:lnTo>
                                            <a:pt x="614" y="673"/>
                                          </a:lnTo>
                                          <a:lnTo>
                                            <a:pt x="610" y="640"/>
                                          </a:lnTo>
                                          <a:lnTo>
                                            <a:pt x="607" y="617"/>
                                          </a:lnTo>
                                          <a:lnTo>
                                            <a:pt x="601" y="595"/>
                                          </a:lnTo>
                                          <a:lnTo>
                                            <a:pt x="595" y="566"/>
                                          </a:lnTo>
                                          <a:lnTo>
                                            <a:pt x="586" y="539"/>
                                          </a:lnTo>
                                          <a:lnTo>
                                            <a:pt x="583" y="521"/>
                                          </a:lnTo>
                                          <a:lnTo>
                                            <a:pt x="577" y="502"/>
                                          </a:lnTo>
                                          <a:lnTo>
                                            <a:pt x="564" y="481"/>
                                          </a:lnTo>
                                          <a:lnTo>
                                            <a:pt x="555" y="459"/>
                                          </a:lnTo>
                                          <a:lnTo>
                                            <a:pt x="543" y="440"/>
                                          </a:lnTo>
                                          <a:lnTo>
                                            <a:pt x="531" y="417"/>
                                          </a:lnTo>
                                          <a:lnTo>
                                            <a:pt x="519" y="395"/>
                                          </a:lnTo>
                                          <a:lnTo>
                                            <a:pt x="506" y="370"/>
                                          </a:lnTo>
                                          <a:lnTo>
                                            <a:pt x="492" y="347"/>
                                          </a:lnTo>
                                          <a:lnTo>
                                            <a:pt x="485" y="334"/>
                                          </a:lnTo>
                                          <a:lnTo>
                                            <a:pt x="483" y="325"/>
                                          </a:lnTo>
                                          <a:lnTo>
                                            <a:pt x="487" y="313"/>
                                          </a:lnTo>
                                          <a:lnTo>
                                            <a:pt x="492" y="291"/>
                                          </a:lnTo>
                                          <a:lnTo>
                                            <a:pt x="498" y="267"/>
                                          </a:lnTo>
                                          <a:lnTo>
                                            <a:pt x="501" y="253"/>
                                          </a:lnTo>
                                          <a:lnTo>
                                            <a:pt x="506" y="242"/>
                                          </a:lnTo>
                                          <a:lnTo>
                                            <a:pt x="497" y="222"/>
                                          </a:lnTo>
                                          <a:lnTo>
                                            <a:pt x="487" y="196"/>
                                          </a:lnTo>
                                          <a:lnTo>
                                            <a:pt x="475" y="165"/>
                                          </a:lnTo>
                                          <a:lnTo>
                                            <a:pt x="463" y="135"/>
                                          </a:lnTo>
                                          <a:lnTo>
                                            <a:pt x="449" y="103"/>
                                          </a:lnTo>
                                          <a:lnTo>
                                            <a:pt x="438" y="78"/>
                                          </a:lnTo>
                                          <a:lnTo>
                                            <a:pt x="427" y="57"/>
                                          </a:lnTo>
                                          <a:lnTo>
                                            <a:pt x="418" y="52"/>
                                          </a:lnTo>
                                          <a:lnTo>
                                            <a:pt x="408" y="53"/>
                                          </a:lnTo>
                                          <a:close/>
                                        </a:path>
                                      </a:pathLst>
                                    </a:custGeom>
                                    <a:solidFill>
                                      <a:srgbClr val="ff404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46800" bIns="4680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000000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769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468240" y="267840"/>
                                      <a:ext cx="270720" cy="207360"/>
                                    </a:xfrm>
                                    <a:custGeom>
                                      <a:avLst/>
                                      <a:gdLst/>
                                      <a:ahLst/>
                                      <a:rect l="l" t="t" r="r" b="b"/>
                                      <a:pathLst>
                                        <a:path w="653" h="567">
                                          <a:moveTo>
                                            <a:pt x="2" y="269"/>
                                          </a:moveTo>
                                          <a:lnTo>
                                            <a:pt x="10" y="247"/>
                                          </a:lnTo>
                                          <a:lnTo>
                                            <a:pt x="20" y="226"/>
                                          </a:lnTo>
                                          <a:lnTo>
                                            <a:pt x="32" y="205"/>
                                          </a:lnTo>
                                          <a:lnTo>
                                            <a:pt x="45" y="190"/>
                                          </a:lnTo>
                                          <a:lnTo>
                                            <a:pt x="58" y="177"/>
                                          </a:lnTo>
                                          <a:lnTo>
                                            <a:pt x="75" y="159"/>
                                          </a:lnTo>
                                          <a:lnTo>
                                            <a:pt x="95" y="137"/>
                                          </a:lnTo>
                                          <a:lnTo>
                                            <a:pt x="110" y="116"/>
                                          </a:lnTo>
                                          <a:lnTo>
                                            <a:pt x="126" y="96"/>
                                          </a:lnTo>
                                          <a:lnTo>
                                            <a:pt x="143" y="80"/>
                                          </a:lnTo>
                                          <a:lnTo>
                                            <a:pt x="163" y="62"/>
                                          </a:lnTo>
                                          <a:lnTo>
                                            <a:pt x="183" y="47"/>
                                          </a:lnTo>
                                          <a:lnTo>
                                            <a:pt x="204" y="34"/>
                                          </a:lnTo>
                                          <a:lnTo>
                                            <a:pt x="230" y="21"/>
                                          </a:lnTo>
                                          <a:lnTo>
                                            <a:pt x="259" y="11"/>
                                          </a:lnTo>
                                          <a:lnTo>
                                            <a:pt x="288" y="4"/>
                                          </a:lnTo>
                                          <a:lnTo>
                                            <a:pt x="324" y="1"/>
                                          </a:lnTo>
                                          <a:lnTo>
                                            <a:pt x="358" y="0"/>
                                          </a:lnTo>
                                          <a:lnTo>
                                            <a:pt x="385" y="2"/>
                                          </a:lnTo>
                                          <a:lnTo>
                                            <a:pt x="413" y="6"/>
                                          </a:lnTo>
                                          <a:lnTo>
                                            <a:pt x="439" y="11"/>
                                          </a:lnTo>
                                          <a:lnTo>
                                            <a:pt x="471" y="19"/>
                                          </a:lnTo>
                                          <a:lnTo>
                                            <a:pt x="498" y="32"/>
                                          </a:lnTo>
                                          <a:lnTo>
                                            <a:pt x="520" y="43"/>
                                          </a:lnTo>
                                          <a:lnTo>
                                            <a:pt x="545" y="56"/>
                                          </a:lnTo>
                                          <a:lnTo>
                                            <a:pt x="564" y="74"/>
                                          </a:lnTo>
                                          <a:lnTo>
                                            <a:pt x="583" y="93"/>
                                          </a:lnTo>
                                          <a:lnTo>
                                            <a:pt x="598" y="112"/>
                                          </a:lnTo>
                                          <a:lnTo>
                                            <a:pt x="615" y="135"/>
                                          </a:lnTo>
                                          <a:lnTo>
                                            <a:pt x="630" y="157"/>
                                          </a:lnTo>
                                          <a:lnTo>
                                            <a:pt x="639" y="178"/>
                                          </a:lnTo>
                                          <a:lnTo>
                                            <a:pt x="645" y="205"/>
                                          </a:lnTo>
                                          <a:lnTo>
                                            <a:pt x="650" y="230"/>
                                          </a:lnTo>
                                          <a:lnTo>
                                            <a:pt x="653" y="249"/>
                                          </a:lnTo>
                                          <a:lnTo>
                                            <a:pt x="634" y="208"/>
                                          </a:lnTo>
                                          <a:lnTo>
                                            <a:pt x="623" y="188"/>
                                          </a:lnTo>
                                          <a:lnTo>
                                            <a:pt x="610" y="162"/>
                                          </a:lnTo>
                                          <a:lnTo>
                                            <a:pt x="599" y="142"/>
                                          </a:lnTo>
                                          <a:lnTo>
                                            <a:pt x="586" y="125"/>
                                          </a:lnTo>
                                          <a:lnTo>
                                            <a:pt x="571" y="105"/>
                                          </a:lnTo>
                                          <a:lnTo>
                                            <a:pt x="552" y="89"/>
                                          </a:lnTo>
                                          <a:lnTo>
                                            <a:pt x="537" y="75"/>
                                          </a:lnTo>
                                          <a:lnTo>
                                            <a:pt x="521" y="65"/>
                                          </a:lnTo>
                                          <a:lnTo>
                                            <a:pt x="503" y="59"/>
                                          </a:lnTo>
                                          <a:lnTo>
                                            <a:pt x="486" y="51"/>
                                          </a:lnTo>
                                          <a:lnTo>
                                            <a:pt x="464" y="43"/>
                                          </a:lnTo>
                                          <a:lnTo>
                                            <a:pt x="445" y="38"/>
                                          </a:lnTo>
                                          <a:lnTo>
                                            <a:pt x="422" y="32"/>
                                          </a:lnTo>
                                          <a:lnTo>
                                            <a:pt x="397" y="26"/>
                                          </a:lnTo>
                                          <a:lnTo>
                                            <a:pt x="371" y="24"/>
                                          </a:lnTo>
                                          <a:lnTo>
                                            <a:pt x="349" y="22"/>
                                          </a:lnTo>
                                          <a:lnTo>
                                            <a:pt x="331" y="24"/>
                                          </a:lnTo>
                                          <a:lnTo>
                                            <a:pt x="305" y="29"/>
                                          </a:lnTo>
                                          <a:lnTo>
                                            <a:pt x="280" y="35"/>
                                          </a:lnTo>
                                          <a:lnTo>
                                            <a:pt x="260" y="40"/>
                                          </a:lnTo>
                                          <a:lnTo>
                                            <a:pt x="240" y="49"/>
                                          </a:lnTo>
                                          <a:lnTo>
                                            <a:pt x="215" y="61"/>
                                          </a:lnTo>
                                          <a:lnTo>
                                            <a:pt x="199" y="69"/>
                                          </a:lnTo>
                                          <a:lnTo>
                                            <a:pt x="183" y="82"/>
                                          </a:lnTo>
                                          <a:lnTo>
                                            <a:pt x="161" y="99"/>
                                          </a:lnTo>
                                          <a:lnTo>
                                            <a:pt x="140" y="120"/>
                                          </a:lnTo>
                                          <a:lnTo>
                                            <a:pt x="118" y="141"/>
                                          </a:lnTo>
                                          <a:lnTo>
                                            <a:pt x="100" y="164"/>
                                          </a:lnTo>
                                          <a:lnTo>
                                            <a:pt x="82" y="189"/>
                                          </a:lnTo>
                                          <a:lnTo>
                                            <a:pt x="64" y="211"/>
                                          </a:lnTo>
                                          <a:lnTo>
                                            <a:pt x="56" y="225"/>
                                          </a:lnTo>
                                          <a:lnTo>
                                            <a:pt x="51" y="244"/>
                                          </a:lnTo>
                                          <a:lnTo>
                                            <a:pt x="43" y="261"/>
                                          </a:lnTo>
                                          <a:lnTo>
                                            <a:pt x="37" y="274"/>
                                          </a:lnTo>
                                          <a:lnTo>
                                            <a:pt x="40" y="298"/>
                                          </a:lnTo>
                                          <a:lnTo>
                                            <a:pt x="41" y="321"/>
                                          </a:lnTo>
                                          <a:lnTo>
                                            <a:pt x="47" y="336"/>
                                          </a:lnTo>
                                          <a:lnTo>
                                            <a:pt x="55" y="356"/>
                                          </a:lnTo>
                                          <a:lnTo>
                                            <a:pt x="63" y="375"/>
                                          </a:lnTo>
                                          <a:lnTo>
                                            <a:pt x="72" y="393"/>
                                          </a:lnTo>
                                          <a:lnTo>
                                            <a:pt x="91" y="415"/>
                                          </a:lnTo>
                                          <a:lnTo>
                                            <a:pt x="112" y="439"/>
                                          </a:lnTo>
                                          <a:lnTo>
                                            <a:pt x="133" y="463"/>
                                          </a:lnTo>
                                          <a:lnTo>
                                            <a:pt x="149" y="484"/>
                                          </a:lnTo>
                                          <a:lnTo>
                                            <a:pt x="163" y="502"/>
                                          </a:lnTo>
                                          <a:lnTo>
                                            <a:pt x="176" y="517"/>
                                          </a:lnTo>
                                          <a:lnTo>
                                            <a:pt x="184" y="529"/>
                                          </a:lnTo>
                                          <a:lnTo>
                                            <a:pt x="194" y="533"/>
                                          </a:lnTo>
                                          <a:lnTo>
                                            <a:pt x="208" y="536"/>
                                          </a:lnTo>
                                          <a:lnTo>
                                            <a:pt x="225" y="540"/>
                                          </a:lnTo>
                                          <a:lnTo>
                                            <a:pt x="242" y="545"/>
                                          </a:lnTo>
                                          <a:lnTo>
                                            <a:pt x="256" y="553"/>
                                          </a:lnTo>
                                          <a:lnTo>
                                            <a:pt x="268" y="561"/>
                                          </a:lnTo>
                                          <a:lnTo>
                                            <a:pt x="253" y="564"/>
                                          </a:lnTo>
                                          <a:lnTo>
                                            <a:pt x="231" y="566"/>
                                          </a:lnTo>
                                          <a:lnTo>
                                            <a:pt x="210" y="567"/>
                                          </a:lnTo>
                                          <a:lnTo>
                                            <a:pt x="196" y="563"/>
                                          </a:lnTo>
                                          <a:lnTo>
                                            <a:pt x="181" y="556"/>
                                          </a:lnTo>
                                          <a:lnTo>
                                            <a:pt x="162" y="548"/>
                                          </a:lnTo>
                                          <a:lnTo>
                                            <a:pt x="152" y="538"/>
                                          </a:lnTo>
                                          <a:lnTo>
                                            <a:pt x="141" y="522"/>
                                          </a:lnTo>
                                          <a:lnTo>
                                            <a:pt x="129" y="503"/>
                                          </a:lnTo>
                                          <a:lnTo>
                                            <a:pt x="118" y="488"/>
                                          </a:lnTo>
                                          <a:lnTo>
                                            <a:pt x="98" y="466"/>
                                          </a:lnTo>
                                          <a:lnTo>
                                            <a:pt x="83" y="448"/>
                                          </a:lnTo>
                                          <a:lnTo>
                                            <a:pt x="61" y="426"/>
                                          </a:lnTo>
                                          <a:lnTo>
                                            <a:pt x="44" y="410"/>
                                          </a:lnTo>
                                          <a:lnTo>
                                            <a:pt x="33" y="398"/>
                                          </a:lnTo>
                                          <a:lnTo>
                                            <a:pt x="26" y="383"/>
                                          </a:lnTo>
                                          <a:lnTo>
                                            <a:pt x="18" y="362"/>
                                          </a:lnTo>
                                          <a:lnTo>
                                            <a:pt x="9" y="338"/>
                                          </a:lnTo>
                                          <a:lnTo>
                                            <a:pt x="4" y="314"/>
                                          </a:lnTo>
                                          <a:lnTo>
                                            <a:pt x="0" y="287"/>
                                          </a:lnTo>
                                          <a:lnTo>
                                            <a:pt x="2" y="269"/>
                                          </a:lnTo>
                                          <a:close/>
                                        </a:path>
                                      </a:pathLst>
                                    </a:custGeom>
                                    <a:solidFill>
                                      <a:srgbClr val="ff404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46800" bIns="4680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000000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sp>
                              <p:nvSpPr>
                                <p:cNvPr id="7697" name=""/>
                                <p:cNvSpPr/>
                                <p:nvPr/>
                              </p:nvSpPr>
                              <p:spPr>
                                <a:xfrm>
                                  <a:off x="3656160" y="453240"/>
                                  <a:ext cx="162720" cy="18612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391" h="501">
                                      <a:moveTo>
                                        <a:pt x="103" y="64"/>
                                      </a:moveTo>
                                      <a:lnTo>
                                        <a:pt x="132" y="49"/>
                                      </a:lnTo>
                                      <a:lnTo>
                                        <a:pt x="152" y="31"/>
                                      </a:lnTo>
                                      <a:lnTo>
                                        <a:pt x="178" y="12"/>
                                      </a:lnTo>
                                      <a:lnTo>
                                        <a:pt x="198" y="3"/>
                                      </a:lnTo>
                                      <a:lnTo>
                                        <a:pt x="217" y="0"/>
                                      </a:lnTo>
                                      <a:lnTo>
                                        <a:pt x="229" y="3"/>
                                      </a:lnTo>
                                      <a:lnTo>
                                        <a:pt x="241" y="13"/>
                                      </a:lnTo>
                                      <a:lnTo>
                                        <a:pt x="249" y="31"/>
                                      </a:lnTo>
                                      <a:lnTo>
                                        <a:pt x="259" y="62"/>
                                      </a:lnTo>
                                      <a:lnTo>
                                        <a:pt x="262" y="95"/>
                                      </a:lnTo>
                                      <a:lnTo>
                                        <a:pt x="263" y="131"/>
                                      </a:lnTo>
                                      <a:lnTo>
                                        <a:pt x="269" y="165"/>
                                      </a:lnTo>
                                      <a:lnTo>
                                        <a:pt x="283" y="197"/>
                                      </a:lnTo>
                                      <a:lnTo>
                                        <a:pt x="301" y="237"/>
                                      </a:lnTo>
                                      <a:lnTo>
                                        <a:pt x="319" y="277"/>
                                      </a:lnTo>
                                      <a:lnTo>
                                        <a:pt x="340" y="319"/>
                                      </a:lnTo>
                                      <a:lnTo>
                                        <a:pt x="365" y="368"/>
                                      </a:lnTo>
                                      <a:lnTo>
                                        <a:pt x="383" y="409"/>
                                      </a:lnTo>
                                      <a:lnTo>
                                        <a:pt x="391" y="434"/>
                                      </a:lnTo>
                                      <a:lnTo>
                                        <a:pt x="391" y="458"/>
                                      </a:lnTo>
                                      <a:lnTo>
                                        <a:pt x="384" y="480"/>
                                      </a:lnTo>
                                      <a:lnTo>
                                        <a:pt x="371" y="494"/>
                                      </a:lnTo>
                                      <a:lnTo>
                                        <a:pt x="350" y="501"/>
                                      </a:lnTo>
                                      <a:lnTo>
                                        <a:pt x="326" y="498"/>
                                      </a:lnTo>
                                      <a:lnTo>
                                        <a:pt x="298" y="490"/>
                                      </a:lnTo>
                                      <a:lnTo>
                                        <a:pt x="274" y="468"/>
                                      </a:lnTo>
                                      <a:lnTo>
                                        <a:pt x="249" y="446"/>
                                      </a:lnTo>
                                      <a:lnTo>
                                        <a:pt x="227" y="416"/>
                                      </a:lnTo>
                                      <a:lnTo>
                                        <a:pt x="198" y="378"/>
                                      </a:lnTo>
                                      <a:lnTo>
                                        <a:pt x="177" y="346"/>
                                      </a:lnTo>
                                      <a:lnTo>
                                        <a:pt x="143" y="317"/>
                                      </a:lnTo>
                                      <a:lnTo>
                                        <a:pt x="112" y="288"/>
                                      </a:lnTo>
                                      <a:lnTo>
                                        <a:pt x="89" y="259"/>
                                      </a:lnTo>
                                      <a:lnTo>
                                        <a:pt x="64" y="222"/>
                                      </a:lnTo>
                                      <a:lnTo>
                                        <a:pt x="35" y="186"/>
                                      </a:lnTo>
                                      <a:lnTo>
                                        <a:pt x="15" y="163"/>
                                      </a:lnTo>
                                      <a:lnTo>
                                        <a:pt x="3" y="143"/>
                                      </a:lnTo>
                                      <a:lnTo>
                                        <a:pt x="0" y="125"/>
                                      </a:lnTo>
                                      <a:lnTo>
                                        <a:pt x="4" y="102"/>
                                      </a:lnTo>
                                      <a:lnTo>
                                        <a:pt x="16" y="87"/>
                                      </a:lnTo>
                                      <a:lnTo>
                                        <a:pt x="34" y="80"/>
                                      </a:lnTo>
                                      <a:lnTo>
                                        <a:pt x="55" y="74"/>
                                      </a:lnTo>
                                      <a:lnTo>
                                        <a:pt x="80" y="68"/>
                                      </a:lnTo>
                                      <a:lnTo>
                                        <a:pt x="103" y="64"/>
                                      </a:lnTo>
                                      <a:close/>
                                    </a:path>
                                  </a:pathLst>
                                </a:custGeom>
                                <a:solidFill>
                                  <a:srgbClr val="ff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grpSp>
                            <p:nvGrpSpPr>
                              <p:cNvPr id="7698" name=""/>
                              <p:cNvGrpSpPr/>
                              <p:nvPr/>
                            </p:nvGrpSpPr>
                            <p:grpSpPr>
                              <a:xfrm>
                                <a:off x="3493080" y="288000"/>
                                <a:ext cx="225000" cy="172440"/>
                                <a:chOff x="3493080" y="288000"/>
                                <a:chExt cx="225000" cy="172440"/>
                              </a:xfrm>
                            </p:grpSpPr>
                            <p:sp>
                              <p:nvSpPr>
                                <p:cNvPr id="7699" name=""/>
                                <p:cNvSpPr/>
                                <p:nvPr/>
                              </p:nvSpPr>
                              <p:spPr>
                                <a:xfrm>
                                  <a:off x="3493080" y="288000"/>
                                  <a:ext cx="225000" cy="17244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541" h="470">
                                      <a:moveTo>
                                        <a:pt x="1" y="223"/>
                                      </a:moveTo>
                                      <a:lnTo>
                                        <a:pt x="7" y="204"/>
                                      </a:lnTo>
                                      <a:lnTo>
                                        <a:pt x="16" y="188"/>
                                      </a:lnTo>
                                      <a:lnTo>
                                        <a:pt x="25" y="169"/>
                                      </a:lnTo>
                                      <a:lnTo>
                                        <a:pt x="36" y="157"/>
                                      </a:lnTo>
                                      <a:lnTo>
                                        <a:pt x="47" y="147"/>
                                      </a:lnTo>
                                      <a:lnTo>
                                        <a:pt x="62" y="131"/>
                                      </a:lnTo>
                                      <a:lnTo>
                                        <a:pt x="79" y="114"/>
                                      </a:lnTo>
                                      <a:lnTo>
                                        <a:pt x="91" y="96"/>
                                      </a:lnTo>
                                      <a:lnTo>
                                        <a:pt x="104" y="79"/>
                                      </a:lnTo>
                                      <a:lnTo>
                                        <a:pt x="119" y="66"/>
                                      </a:lnTo>
                                      <a:lnTo>
                                        <a:pt x="135" y="51"/>
                                      </a:lnTo>
                                      <a:lnTo>
                                        <a:pt x="152" y="38"/>
                                      </a:lnTo>
                                      <a:lnTo>
                                        <a:pt x="169" y="27"/>
                                      </a:lnTo>
                                      <a:lnTo>
                                        <a:pt x="190" y="17"/>
                                      </a:lnTo>
                                      <a:lnTo>
                                        <a:pt x="214" y="8"/>
                                      </a:lnTo>
                                      <a:lnTo>
                                        <a:pt x="239" y="3"/>
                                      </a:lnTo>
                                      <a:lnTo>
                                        <a:pt x="268" y="0"/>
                                      </a:lnTo>
                                      <a:lnTo>
                                        <a:pt x="297" y="0"/>
                                      </a:lnTo>
                                      <a:lnTo>
                                        <a:pt x="319" y="1"/>
                                      </a:lnTo>
                                      <a:lnTo>
                                        <a:pt x="342" y="4"/>
                                      </a:lnTo>
                                      <a:lnTo>
                                        <a:pt x="363" y="8"/>
                                      </a:lnTo>
                                      <a:lnTo>
                                        <a:pt x="391" y="15"/>
                                      </a:lnTo>
                                      <a:lnTo>
                                        <a:pt x="412" y="25"/>
                                      </a:lnTo>
                                      <a:lnTo>
                                        <a:pt x="431" y="34"/>
                                      </a:lnTo>
                                      <a:lnTo>
                                        <a:pt x="451" y="45"/>
                                      </a:lnTo>
                                      <a:lnTo>
                                        <a:pt x="468" y="61"/>
                                      </a:lnTo>
                                      <a:lnTo>
                                        <a:pt x="483" y="77"/>
                                      </a:lnTo>
                                      <a:lnTo>
                                        <a:pt x="496" y="93"/>
                                      </a:lnTo>
                                      <a:lnTo>
                                        <a:pt x="510" y="112"/>
                                      </a:lnTo>
                                      <a:lnTo>
                                        <a:pt x="522" y="129"/>
                                      </a:lnTo>
                                      <a:lnTo>
                                        <a:pt x="530" y="148"/>
                                      </a:lnTo>
                                      <a:lnTo>
                                        <a:pt x="535" y="169"/>
                                      </a:lnTo>
                                      <a:lnTo>
                                        <a:pt x="539" y="190"/>
                                      </a:lnTo>
                                      <a:lnTo>
                                        <a:pt x="541" y="206"/>
                                      </a:lnTo>
                                      <a:lnTo>
                                        <a:pt x="541" y="224"/>
                                      </a:lnTo>
                                      <a:lnTo>
                                        <a:pt x="536" y="236"/>
                                      </a:lnTo>
                                      <a:lnTo>
                                        <a:pt x="528" y="257"/>
                                      </a:lnTo>
                                      <a:lnTo>
                                        <a:pt x="516" y="281"/>
                                      </a:lnTo>
                                      <a:lnTo>
                                        <a:pt x="506" y="303"/>
                                      </a:lnTo>
                                      <a:lnTo>
                                        <a:pt x="497" y="320"/>
                                      </a:lnTo>
                                      <a:lnTo>
                                        <a:pt x="491" y="340"/>
                                      </a:lnTo>
                                      <a:lnTo>
                                        <a:pt x="485" y="358"/>
                                      </a:lnTo>
                                      <a:lnTo>
                                        <a:pt x="480" y="376"/>
                                      </a:lnTo>
                                      <a:lnTo>
                                        <a:pt x="477" y="385"/>
                                      </a:lnTo>
                                      <a:lnTo>
                                        <a:pt x="476" y="399"/>
                                      </a:lnTo>
                                      <a:lnTo>
                                        <a:pt x="475" y="421"/>
                                      </a:lnTo>
                                      <a:lnTo>
                                        <a:pt x="389" y="441"/>
                                      </a:lnTo>
                                      <a:lnTo>
                                        <a:pt x="387" y="427"/>
                                      </a:lnTo>
                                      <a:lnTo>
                                        <a:pt x="384" y="417"/>
                                      </a:lnTo>
                                      <a:lnTo>
                                        <a:pt x="379" y="409"/>
                                      </a:lnTo>
                                      <a:lnTo>
                                        <a:pt x="368" y="404"/>
                                      </a:lnTo>
                                      <a:lnTo>
                                        <a:pt x="350" y="407"/>
                                      </a:lnTo>
                                      <a:lnTo>
                                        <a:pt x="330" y="410"/>
                                      </a:lnTo>
                                      <a:lnTo>
                                        <a:pt x="306" y="416"/>
                                      </a:lnTo>
                                      <a:lnTo>
                                        <a:pt x="283" y="422"/>
                                      </a:lnTo>
                                      <a:lnTo>
                                        <a:pt x="271" y="426"/>
                                      </a:lnTo>
                                      <a:lnTo>
                                        <a:pt x="258" y="436"/>
                                      </a:lnTo>
                                      <a:lnTo>
                                        <a:pt x="243" y="448"/>
                                      </a:lnTo>
                                      <a:lnTo>
                                        <a:pt x="222" y="465"/>
                                      </a:lnTo>
                                      <a:lnTo>
                                        <a:pt x="210" y="468"/>
                                      </a:lnTo>
                                      <a:lnTo>
                                        <a:pt x="191" y="470"/>
                                      </a:lnTo>
                                      <a:lnTo>
                                        <a:pt x="173" y="470"/>
                                      </a:lnTo>
                                      <a:lnTo>
                                        <a:pt x="163" y="467"/>
                                      </a:lnTo>
                                      <a:lnTo>
                                        <a:pt x="150" y="461"/>
                                      </a:lnTo>
                                      <a:lnTo>
                                        <a:pt x="134" y="455"/>
                                      </a:lnTo>
                                      <a:lnTo>
                                        <a:pt x="126" y="446"/>
                                      </a:lnTo>
                                      <a:lnTo>
                                        <a:pt x="117" y="433"/>
                                      </a:lnTo>
                                      <a:lnTo>
                                        <a:pt x="107" y="418"/>
                                      </a:lnTo>
                                      <a:lnTo>
                                        <a:pt x="98" y="404"/>
                                      </a:lnTo>
                                      <a:lnTo>
                                        <a:pt x="81" y="387"/>
                                      </a:lnTo>
                                      <a:lnTo>
                                        <a:pt x="69" y="371"/>
                                      </a:lnTo>
                                      <a:lnTo>
                                        <a:pt x="49" y="354"/>
                                      </a:lnTo>
                                      <a:lnTo>
                                        <a:pt x="35" y="340"/>
                                      </a:lnTo>
                                      <a:lnTo>
                                        <a:pt x="26" y="329"/>
                                      </a:lnTo>
                                      <a:lnTo>
                                        <a:pt x="21" y="319"/>
                                      </a:lnTo>
                                      <a:lnTo>
                                        <a:pt x="14" y="301"/>
                                      </a:lnTo>
                                      <a:lnTo>
                                        <a:pt x="6" y="280"/>
                                      </a:lnTo>
                                      <a:lnTo>
                                        <a:pt x="2" y="260"/>
                                      </a:lnTo>
                                      <a:lnTo>
                                        <a:pt x="0" y="238"/>
                                      </a:lnTo>
                                      <a:lnTo>
                                        <a:pt x="1" y="223"/>
                                      </a:lnTo>
                                      <a:close/>
                                    </a:path>
                                  </a:pathLst>
                                </a:custGeom>
                                <a:solidFill>
                                  <a:srgbClr val="ff404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7700" name=""/>
                                <p:cNvSpPr/>
                                <p:nvPr/>
                              </p:nvSpPr>
                              <p:spPr>
                                <a:xfrm>
                                  <a:off x="3507480" y="300240"/>
                                  <a:ext cx="206280" cy="15624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492" h="428">
                                      <a:moveTo>
                                        <a:pt x="0" y="203"/>
                                      </a:moveTo>
                                      <a:lnTo>
                                        <a:pt x="7" y="187"/>
                                      </a:lnTo>
                                      <a:lnTo>
                                        <a:pt x="14" y="171"/>
                                      </a:lnTo>
                                      <a:lnTo>
                                        <a:pt x="23" y="155"/>
                                      </a:lnTo>
                                      <a:lnTo>
                                        <a:pt x="33" y="144"/>
                                      </a:lnTo>
                                      <a:lnTo>
                                        <a:pt x="43" y="134"/>
                                      </a:lnTo>
                                      <a:lnTo>
                                        <a:pt x="56" y="120"/>
                                      </a:lnTo>
                                      <a:lnTo>
                                        <a:pt x="72" y="105"/>
                                      </a:lnTo>
                                      <a:lnTo>
                                        <a:pt x="83" y="87"/>
                                      </a:lnTo>
                                      <a:lnTo>
                                        <a:pt x="94" y="73"/>
                                      </a:lnTo>
                                      <a:lnTo>
                                        <a:pt x="108" y="61"/>
                                      </a:lnTo>
                                      <a:lnTo>
                                        <a:pt x="123" y="47"/>
                                      </a:lnTo>
                                      <a:lnTo>
                                        <a:pt x="138" y="35"/>
                                      </a:lnTo>
                                      <a:lnTo>
                                        <a:pt x="153" y="25"/>
                                      </a:lnTo>
                                      <a:lnTo>
                                        <a:pt x="174" y="15"/>
                                      </a:lnTo>
                                      <a:lnTo>
                                        <a:pt x="194" y="8"/>
                                      </a:lnTo>
                                      <a:lnTo>
                                        <a:pt x="217" y="2"/>
                                      </a:lnTo>
                                      <a:lnTo>
                                        <a:pt x="244" y="0"/>
                                      </a:lnTo>
                                      <a:lnTo>
                                        <a:pt x="270" y="0"/>
                                      </a:lnTo>
                                      <a:lnTo>
                                        <a:pt x="290" y="0"/>
                                      </a:lnTo>
                                      <a:lnTo>
                                        <a:pt x="311" y="3"/>
                                      </a:lnTo>
                                      <a:lnTo>
                                        <a:pt x="330" y="8"/>
                                      </a:lnTo>
                                      <a:lnTo>
                                        <a:pt x="356" y="13"/>
                                      </a:lnTo>
                                      <a:lnTo>
                                        <a:pt x="375" y="23"/>
                                      </a:lnTo>
                                      <a:lnTo>
                                        <a:pt x="392" y="31"/>
                                      </a:lnTo>
                                      <a:lnTo>
                                        <a:pt x="410" y="42"/>
                                      </a:lnTo>
                                      <a:lnTo>
                                        <a:pt x="425" y="55"/>
                                      </a:lnTo>
                                      <a:lnTo>
                                        <a:pt x="440" y="71"/>
                                      </a:lnTo>
                                      <a:lnTo>
                                        <a:pt x="451" y="84"/>
                                      </a:lnTo>
                                      <a:lnTo>
                                        <a:pt x="463" y="103"/>
                                      </a:lnTo>
                                      <a:lnTo>
                                        <a:pt x="475" y="118"/>
                                      </a:lnTo>
                                      <a:lnTo>
                                        <a:pt x="482" y="135"/>
                                      </a:lnTo>
                                      <a:lnTo>
                                        <a:pt x="487" y="155"/>
                                      </a:lnTo>
                                      <a:lnTo>
                                        <a:pt x="491" y="173"/>
                                      </a:lnTo>
                                      <a:lnTo>
                                        <a:pt x="492" y="188"/>
                                      </a:lnTo>
                                      <a:lnTo>
                                        <a:pt x="492" y="204"/>
                                      </a:lnTo>
                                      <a:lnTo>
                                        <a:pt x="488" y="215"/>
                                      </a:lnTo>
                                      <a:lnTo>
                                        <a:pt x="481" y="234"/>
                                      </a:lnTo>
                                      <a:lnTo>
                                        <a:pt x="469" y="257"/>
                                      </a:lnTo>
                                      <a:lnTo>
                                        <a:pt x="461" y="276"/>
                                      </a:lnTo>
                                      <a:lnTo>
                                        <a:pt x="452" y="292"/>
                                      </a:lnTo>
                                      <a:lnTo>
                                        <a:pt x="447" y="310"/>
                                      </a:lnTo>
                                      <a:lnTo>
                                        <a:pt x="441" y="326"/>
                                      </a:lnTo>
                                      <a:lnTo>
                                        <a:pt x="437" y="343"/>
                                      </a:lnTo>
                                      <a:lnTo>
                                        <a:pt x="434" y="351"/>
                                      </a:lnTo>
                                      <a:lnTo>
                                        <a:pt x="433" y="364"/>
                                      </a:lnTo>
                                      <a:lnTo>
                                        <a:pt x="432" y="384"/>
                                      </a:lnTo>
                                      <a:lnTo>
                                        <a:pt x="354" y="402"/>
                                      </a:lnTo>
                                      <a:lnTo>
                                        <a:pt x="352" y="389"/>
                                      </a:lnTo>
                                      <a:lnTo>
                                        <a:pt x="349" y="380"/>
                                      </a:lnTo>
                                      <a:lnTo>
                                        <a:pt x="345" y="373"/>
                                      </a:lnTo>
                                      <a:lnTo>
                                        <a:pt x="335" y="368"/>
                                      </a:lnTo>
                                      <a:lnTo>
                                        <a:pt x="318" y="371"/>
                                      </a:lnTo>
                                      <a:lnTo>
                                        <a:pt x="300" y="374"/>
                                      </a:lnTo>
                                      <a:lnTo>
                                        <a:pt x="277" y="379"/>
                                      </a:lnTo>
                                      <a:lnTo>
                                        <a:pt x="257" y="385"/>
                                      </a:lnTo>
                                      <a:lnTo>
                                        <a:pt x="247" y="388"/>
                                      </a:lnTo>
                                      <a:lnTo>
                                        <a:pt x="235" y="397"/>
                                      </a:lnTo>
                                      <a:lnTo>
                                        <a:pt x="221" y="408"/>
                                      </a:lnTo>
                                      <a:lnTo>
                                        <a:pt x="203" y="424"/>
                                      </a:lnTo>
                                      <a:lnTo>
                                        <a:pt x="191" y="427"/>
                                      </a:lnTo>
                                      <a:lnTo>
                                        <a:pt x="174" y="428"/>
                                      </a:lnTo>
                                      <a:lnTo>
                                        <a:pt x="158" y="428"/>
                                      </a:lnTo>
                                      <a:lnTo>
                                        <a:pt x="148" y="426"/>
                                      </a:lnTo>
                                      <a:lnTo>
                                        <a:pt x="136" y="420"/>
                                      </a:lnTo>
                                      <a:lnTo>
                                        <a:pt x="123" y="414"/>
                                      </a:lnTo>
                                      <a:lnTo>
                                        <a:pt x="115" y="407"/>
                                      </a:lnTo>
                                      <a:lnTo>
                                        <a:pt x="106" y="395"/>
                                      </a:lnTo>
                                      <a:lnTo>
                                        <a:pt x="97" y="381"/>
                                      </a:lnTo>
                                      <a:lnTo>
                                        <a:pt x="90" y="368"/>
                                      </a:lnTo>
                                      <a:lnTo>
                                        <a:pt x="74" y="353"/>
                                      </a:lnTo>
                                      <a:lnTo>
                                        <a:pt x="62" y="339"/>
                                      </a:lnTo>
                                      <a:lnTo>
                                        <a:pt x="45" y="323"/>
                                      </a:lnTo>
                                      <a:lnTo>
                                        <a:pt x="32" y="310"/>
                                      </a:lnTo>
                                      <a:lnTo>
                                        <a:pt x="24" y="301"/>
                                      </a:lnTo>
                                      <a:lnTo>
                                        <a:pt x="19" y="290"/>
                                      </a:lnTo>
                                      <a:lnTo>
                                        <a:pt x="12" y="274"/>
                                      </a:lnTo>
                                      <a:lnTo>
                                        <a:pt x="6" y="255"/>
                                      </a:lnTo>
                                      <a:lnTo>
                                        <a:pt x="2" y="237"/>
                                      </a:lnTo>
                                      <a:lnTo>
                                        <a:pt x="0" y="218"/>
                                      </a:lnTo>
                                      <a:lnTo>
                                        <a:pt x="0" y="203"/>
                                      </a:lnTo>
                                      <a:close/>
                                    </a:path>
                                  </a:pathLst>
                                </a:custGeom>
                                <a:solidFill>
                                  <a:srgbClr val="ff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7701" name=""/>
                                <p:cNvSpPr/>
                                <p:nvPr/>
                              </p:nvSpPr>
                              <p:spPr>
                                <a:xfrm>
                                  <a:off x="3522240" y="311760"/>
                                  <a:ext cx="185400" cy="14112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441" h="383">
                                      <a:moveTo>
                                        <a:pt x="0" y="182"/>
                                      </a:moveTo>
                                      <a:lnTo>
                                        <a:pt x="6" y="167"/>
                                      </a:lnTo>
                                      <a:lnTo>
                                        <a:pt x="12" y="154"/>
                                      </a:lnTo>
                                      <a:lnTo>
                                        <a:pt x="19" y="138"/>
                                      </a:lnTo>
                                      <a:lnTo>
                                        <a:pt x="28" y="128"/>
                                      </a:lnTo>
                                      <a:lnTo>
                                        <a:pt x="38" y="120"/>
                                      </a:lnTo>
                                      <a:lnTo>
                                        <a:pt x="50" y="108"/>
                                      </a:lnTo>
                                      <a:lnTo>
                                        <a:pt x="63" y="93"/>
                                      </a:lnTo>
                                      <a:lnTo>
                                        <a:pt x="73" y="78"/>
                                      </a:lnTo>
                                      <a:lnTo>
                                        <a:pt x="84" y="64"/>
                                      </a:lnTo>
                                      <a:lnTo>
                                        <a:pt x="97" y="54"/>
                                      </a:lnTo>
                                      <a:lnTo>
                                        <a:pt x="110" y="42"/>
                                      </a:lnTo>
                                      <a:lnTo>
                                        <a:pt x="124" y="31"/>
                                      </a:lnTo>
                                      <a:lnTo>
                                        <a:pt x="137" y="21"/>
                                      </a:lnTo>
                                      <a:lnTo>
                                        <a:pt x="155" y="13"/>
                                      </a:lnTo>
                                      <a:lnTo>
                                        <a:pt x="174" y="7"/>
                                      </a:lnTo>
                                      <a:lnTo>
                                        <a:pt x="194" y="1"/>
                                      </a:lnTo>
                                      <a:lnTo>
                                        <a:pt x="219" y="0"/>
                                      </a:lnTo>
                                      <a:lnTo>
                                        <a:pt x="241" y="0"/>
                                      </a:lnTo>
                                      <a:lnTo>
                                        <a:pt x="261" y="0"/>
                                      </a:lnTo>
                                      <a:lnTo>
                                        <a:pt x="279" y="2"/>
                                      </a:lnTo>
                                      <a:lnTo>
                                        <a:pt x="296" y="7"/>
                                      </a:lnTo>
                                      <a:lnTo>
                                        <a:pt x="319" y="11"/>
                                      </a:lnTo>
                                      <a:lnTo>
                                        <a:pt x="336" y="19"/>
                                      </a:lnTo>
                                      <a:lnTo>
                                        <a:pt x="351" y="27"/>
                                      </a:lnTo>
                                      <a:lnTo>
                                        <a:pt x="368" y="37"/>
                                      </a:lnTo>
                                      <a:lnTo>
                                        <a:pt x="381" y="49"/>
                                      </a:lnTo>
                                      <a:lnTo>
                                        <a:pt x="395" y="63"/>
                                      </a:lnTo>
                                      <a:lnTo>
                                        <a:pt x="405" y="75"/>
                                      </a:lnTo>
                                      <a:lnTo>
                                        <a:pt x="415" y="91"/>
                                      </a:lnTo>
                                      <a:lnTo>
                                        <a:pt x="425" y="106"/>
                                      </a:lnTo>
                                      <a:lnTo>
                                        <a:pt x="432" y="121"/>
                                      </a:lnTo>
                                      <a:lnTo>
                                        <a:pt x="437" y="138"/>
                                      </a:lnTo>
                                      <a:lnTo>
                                        <a:pt x="441" y="155"/>
                                      </a:lnTo>
                                      <a:lnTo>
                                        <a:pt x="441" y="168"/>
                                      </a:lnTo>
                                      <a:lnTo>
                                        <a:pt x="441" y="182"/>
                                      </a:lnTo>
                                      <a:lnTo>
                                        <a:pt x="438" y="193"/>
                                      </a:lnTo>
                                      <a:lnTo>
                                        <a:pt x="431" y="210"/>
                                      </a:lnTo>
                                      <a:lnTo>
                                        <a:pt x="421" y="230"/>
                                      </a:lnTo>
                                      <a:lnTo>
                                        <a:pt x="414" y="247"/>
                                      </a:lnTo>
                                      <a:lnTo>
                                        <a:pt x="405" y="262"/>
                                      </a:lnTo>
                                      <a:lnTo>
                                        <a:pt x="401" y="278"/>
                                      </a:lnTo>
                                      <a:lnTo>
                                        <a:pt x="396" y="292"/>
                                      </a:lnTo>
                                      <a:lnTo>
                                        <a:pt x="392" y="308"/>
                                      </a:lnTo>
                                      <a:lnTo>
                                        <a:pt x="388" y="315"/>
                                      </a:lnTo>
                                      <a:lnTo>
                                        <a:pt x="387" y="327"/>
                                      </a:lnTo>
                                      <a:lnTo>
                                        <a:pt x="386" y="344"/>
                                      </a:lnTo>
                                      <a:lnTo>
                                        <a:pt x="317" y="361"/>
                                      </a:lnTo>
                                      <a:lnTo>
                                        <a:pt x="315" y="349"/>
                                      </a:lnTo>
                                      <a:lnTo>
                                        <a:pt x="313" y="340"/>
                                      </a:lnTo>
                                      <a:lnTo>
                                        <a:pt x="309" y="335"/>
                                      </a:lnTo>
                                      <a:lnTo>
                                        <a:pt x="301" y="330"/>
                                      </a:lnTo>
                                      <a:lnTo>
                                        <a:pt x="285" y="333"/>
                                      </a:lnTo>
                                      <a:lnTo>
                                        <a:pt x="269" y="336"/>
                                      </a:lnTo>
                                      <a:lnTo>
                                        <a:pt x="248" y="339"/>
                                      </a:lnTo>
                                      <a:lnTo>
                                        <a:pt x="230" y="346"/>
                                      </a:lnTo>
                                      <a:lnTo>
                                        <a:pt x="221" y="348"/>
                                      </a:lnTo>
                                      <a:lnTo>
                                        <a:pt x="211" y="356"/>
                                      </a:lnTo>
                                      <a:lnTo>
                                        <a:pt x="198" y="366"/>
                                      </a:lnTo>
                                      <a:lnTo>
                                        <a:pt x="181" y="380"/>
                                      </a:lnTo>
                                      <a:lnTo>
                                        <a:pt x="171" y="383"/>
                                      </a:lnTo>
                                      <a:lnTo>
                                        <a:pt x="155" y="383"/>
                                      </a:lnTo>
                                      <a:lnTo>
                                        <a:pt x="141" y="383"/>
                                      </a:lnTo>
                                      <a:lnTo>
                                        <a:pt x="133" y="382"/>
                                      </a:lnTo>
                                      <a:lnTo>
                                        <a:pt x="122" y="376"/>
                                      </a:lnTo>
                                      <a:lnTo>
                                        <a:pt x="109" y="372"/>
                                      </a:lnTo>
                                      <a:lnTo>
                                        <a:pt x="102" y="365"/>
                                      </a:lnTo>
                                      <a:lnTo>
                                        <a:pt x="95" y="355"/>
                                      </a:lnTo>
                                      <a:lnTo>
                                        <a:pt x="87" y="341"/>
                                      </a:lnTo>
                                      <a:lnTo>
                                        <a:pt x="81" y="330"/>
                                      </a:lnTo>
                                      <a:lnTo>
                                        <a:pt x="65" y="317"/>
                                      </a:lnTo>
                                      <a:lnTo>
                                        <a:pt x="55" y="303"/>
                                      </a:lnTo>
                                      <a:lnTo>
                                        <a:pt x="40" y="290"/>
                                      </a:lnTo>
                                      <a:lnTo>
                                        <a:pt x="27" y="278"/>
                                      </a:lnTo>
                                      <a:lnTo>
                                        <a:pt x="20" y="270"/>
                                      </a:lnTo>
                                      <a:lnTo>
                                        <a:pt x="17" y="260"/>
                                      </a:lnTo>
                                      <a:lnTo>
                                        <a:pt x="10" y="246"/>
                                      </a:lnTo>
                                      <a:lnTo>
                                        <a:pt x="5" y="229"/>
                                      </a:lnTo>
                                      <a:lnTo>
                                        <a:pt x="1" y="212"/>
                                      </a:lnTo>
                                      <a:lnTo>
                                        <a:pt x="0" y="195"/>
                                      </a:lnTo>
                                      <a:lnTo>
                                        <a:pt x="0" y="182"/>
                                      </a:lnTo>
                                      <a:close/>
                                    </a:path>
                                  </a:pathLst>
                                </a:custGeom>
                                <a:solidFill>
                                  <a:srgbClr val="e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7702" name=""/>
                                <p:cNvSpPr/>
                                <p:nvPr/>
                              </p:nvSpPr>
                              <p:spPr>
                                <a:xfrm>
                                  <a:off x="3536280" y="322560"/>
                                  <a:ext cx="164880" cy="12708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396" h="345">
                                      <a:moveTo>
                                        <a:pt x="0" y="164"/>
                                      </a:moveTo>
                                      <a:lnTo>
                                        <a:pt x="5" y="150"/>
                                      </a:lnTo>
                                      <a:lnTo>
                                        <a:pt x="10" y="138"/>
                                      </a:lnTo>
                                      <a:lnTo>
                                        <a:pt x="17" y="125"/>
                                      </a:lnTo>
                                      <a:lnTo>
                                        <a:pt x="25" y="114"/>
                                      </a:lnTo>
                                      <a:lnTo>
                                        <a:pt x="33" y="107"/>
                                      </a:lnTo>
                                      <a:lnTo>
                                        <a:pt x="45" y="96"/>
                                      </a:lnTo>
                                      <a:lnTo>
                                        <a:pt x="56" y="84"/>
                                      </a:lnTo>
                                      <a:lnTo>
                                        <a:pt x="66" y="69"/>
                                      </a:lnTo>
                                      <a:lnTo>
                                        <a:pt x="75" y="57"/>
                                      </a:lnTo>
                                      <a:lnTo>
                                        <a:pt x="86" y="48"/>
                                      </a:lnTo>
                                      <a:lnTo>
                                        <a:pt x="99" y="38"/>
                                      </a:lnTo>
                                      <a:lnTo>
                                        <a:pt x="111" y="27"/>
                                      </a:lnTo>
                                      <a:lnTo>
                                        <a:pt x="122" y="18"/>
                                      </a:lnTo>
                                      <a:lnTo>
                                        <a:pt x="140" y="11"/>
                                      </a:lnTo>
                                      <a:lnTo>
                                        <a:pt x="156" y="6"/>
                                      </a:lnTo>
                                      <a:lnTo>
                                        <a:pt x="174" y="0"/>
                                      </a:lnTo>
                                      <a:lnTo>
                                        <a:pt x="197" y="0"/>
                                      </a:lnTo>
                                      <a:lnTo>
                                        <a:pt x="216" y="0"/>
                                      </a:lnTo>
                                      <a:lnTo>
                                        <a:pt x="235" y="0"/>
                                      </a:lnTo>
                                      <a:lnTo>
                                        <a:pt x="251" y="1"/>
                                      </a:lnTo>
                                      <a:lnTo>
                                        <a:pt x="266" y="6"/>
                                      </a:lnTo>
                                      <a:lnTo>
                                        <a:pt x="287" y="9"/>
                                      </a:lnTo>
                                      <a:lnTo>
                                        <a:pt x="302" y="17"/>
                                      </a:lnTo>
                                      <a:lnTo>
                                        <a:pt x="316" y="23"/>
                                      </a:lnTo>
                                      <a:lnTo>
                                        <a:pt x="331" y="32"/>
                                      </a:lnTo>
                                      <a:lnTo>
                                        <a:pt x="343" y="44"/>
                                      </a:lnTo>
                                      <a:lnTo>
                                        <a:pt x="355" y="57"/>
                                      </a:lnTo>
                                      <a:lnTo>
                                        <a:pt x="365" y="67"/>
                                      </a:lnTo>
                                      <a:lnTo>
                                        <a:pt x="374" y="82"/>
                                      </a:lnTo>
                                      <a:lnTo>
                                        <a:pt x="383" y="95"/>
                                      </a:lnTo>
                                      <a:lnTo>
                                        <a:pt x="389" y="108"/>
                                      </a:lnTo>
                                      <a:lnTo>
                                        <a:pt x="393" y="125"/>
                                      </a:lnTo>
                                      <a:lnTo>
                                        <a:pt x="396" y="139"/>
                                      </a:lnTo>
                                      <a:lnTo>
                                        <a:pt x="396" y="151"/>
                                      </a:lnTo>
                                      <a:lnTo>
                                        <a:pt x="396" y="164"/>
                                      </a:lnTo>
                                      <a:lnTo>
                                        <a:pt x="394" y="173"/>
                                      </a:lnTo>
                                      <a:lnTo>
                                        <a:pt x="388" y="189"/>
                                      </a:lnTo>
                                      <a:lnTo>
                                        <a:pt x="379" y="207"/>
                                      </a:lnTo>
                                      <a:lnTo>
                                        <a:pt x="373" y="222"/>
                                      </a:lnTo>
                                      <a:lnTo>
                                        <a:pt x="365" y="237"/>
                                      </a:lnTo>
                                      <a:lnTo>
                                        <a:pt x="361" y="250"/>
                                      </a:lnTo>
                                      <a:lnTo>
                                        <a:pt x="356" y="263"/>
                                      </a:lnTo>
                                      <a:lnTo>
                                        <a:pt x="352" y="278"/>
                                      </a:lnTo>
                                      <a:lnTo>
                                        <a:pt x="349" y="284"/>
                                      </a:lnTo>
                                      <a:lnTo>
                                        <a:pt x="349" y="295"/>
                                      </a:lnTo>
                                      <a:lnTo>
                                        <a:pt x="348" y="310"/>
                                      </a:lnTo>
                                      <a:lnTo>
                                        <a:pt x="285" y="326"/>
                                      </a:lnTo>
                                      <a:lnTo>
                                        <a:pt x="283" y="314"/>
                                      </a:lnTo>
                                      <a:lnTo>
                                        <a:pt x="282" y="307"/>
                                      </a:lnTo>
                                      <a:lnTo>
                                        <a:pt x="278" y="302"/>
                                      </a:lnTo>
                                      <a:lnTo>
                                        <a:pt x="271" y="297"/>
                                      </a:lnTo>
                                      <a:lnTo>
                                        <a:pt x="256" y="300"/>
                                      </a:lnTo>
                                      <a:lnTo>
                                        <a:pt x="242" y="303"/>
                                      </a:lnTo>
                                      <a:lnTo>
                                        <a:pt x="223" y="306"/>
                                      </a:lnTo>
                                      <a:lnTo>
                                        <a:pt x="206" y="311"/>
                                      </a:lnTo>
                                      <a:lnTo>
                                        <a:pt x="198" y="313"/>
                                      </a:lnTo>
                                      <a:lnTo>
                                        <a:pt x="189" y="321"/>
                                      </a:lnTo>
                                      <a:lnTo>
                                        <a:pt x="178" y="330"/>
                                      </a:lnTo>
                                      <a:lnTo>
                                        <a:pt x="162" y="343"/>
                                      </a:lnTo>
                                      <a:lnTo>
                                        <a:pt x="153" y="345"/>
                                      </a:lnTo>
                                      <a:lnTo>
                                        <a:pt x="140" y="345"/>
                                      </a:lnTo>
                                      <a:lnTo>
                                        <a:pt x="126" y="345"/>
                                      </a:lnTo>
                                      <a:lnTo>
                                        <a:pt x="119" y="345"/>
                                      </a:lnTo>
                                      <a:lnTo>
                                        <a:pt x="109" y="339"/>
                                      </a:lnTo>
                                      <a:lnTo>
                                        <a:pt x="98" y="336"/>
                                      </a:lnTo>
                                      <a:lnTo>
                                        <a:pt x="92" y="329"/>
                                      </a:lnTo>
                                      <a:lnTo>
                                        <a:pt x="84" y="320"/>
                                      </a:lnTo>
                                      <a:lnTo>
                                        <a:pt x="77" y="307"/>
                                      </a:lnTo>
                                      <a:lnTo>
                                        <a:pt x="72" y="297"/>
                                      </a:lnTo>
                                      <a:lnTo>
                                        <a:pt x="58" y="286"/>
                                      </a:lnTo>
                                      <a:lnTo>
                                        <a:pt x="49" y="273"/>
                                      </a:lnTo>
                                      <a:lnTo>
                                        <a:pt x="35" y="261"/>
                                      </a:lnTo>
                                      <a:lnTo>
                                        <a:pt x="24" y="250"/>
                                      </a:lnTo>
                                      <a:lnTo>
                                        <a:pt x="18" y="243"/>
                                      </a:lnTo>
                                      <a:lnTo>
                                        <a:pt x="15" y="234"/>
                                      </a:lnTo>
                                      <a:lnTo>
                                        <a:pt x="9" y="221"/>
                                      </a:lnTo>
                                      <a:lnTo>
                                        <a:pt x="4" y="206"/>
                                      </a:lnTo>
                                      <a:lnTo>
                                        <a:pt x="0" y="191"/>
                                      </a:lnTo>
                                      <a:lnTo>
                                        <a:pt x="0" y="175"/>
                                      </a:lnTo>
                                      <a:lnTo>
                                        <a:pt x="0" y="164"/>
                                      </a:lnTo>
                                      <a:close/>
                                    </a:path>
                                  </a:pathLst>
                                </a:custGeom>
                                <a:solidFill>
                                  <a:srgbClr val="c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</p:grpSp>
                        <p:grpSp>
                          <p:nvGrpSpPr>
                            <p:cNvPr id="7703" name=""/>
                            <p:cNvGrpSpPr/>
                            <p:nvPr/>
                          </p:nvGrpSpPr>
                          <p:grpSpPr>
                            <a:xfrm>
                              <a:off x="3570480" y="284400"/>
                              <a:ext cx="151920" cy="62280"/>
                              <a:chOff x="3570480" y="284400"/>
                              <a:chExt cx="151920" cy="62280"/>
                            </a:xfrm>
                          </p:grpSpPr>
                          <p:sp>
                            <p:nvSpPr>
                              <p:cNvPr id="7704" name=""/>
                              <p:cNvSpPr/>
                              <p:nvPr/>
                            </p:nvSpPr>
                            <p:spPr>
                              <a:xfrm>
                                <a:off x="3570480" y="285840"/>
                                <a:ext cx="35280" cy="180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88" h="49">
                                    <a:moveTo>
                                      <a:pt x="37" y="2"/>
                                    </a:moveTo>
                                    <a:lnTo>
                                      <a:pt x="48" y="0"/>
                                    </a:lnTo>
                                    <a:lnTo>
                                      <a:pt x="60" y="0"/>
                                    </a:lnTo>
                                    <a:lnTo>
                                      <a:pt x="68" y="1"/>
                                    </a:lnTo>
                                    <a:lnTo>
                                      <a:pt x="79" y="6"/>
                                    </a:lnTo>
                                    <a:lnTo>
                                      <a:pt x="85" y="10"/>
                                    </a:lnTo>
                                    <a:lnTo>
                                      <a:pt x="88" y="19"/>
                                    </a:lnTo>
                                    <a:lnTo>
                                      <a:pt x="85" y="29"/>
                                    </a:lnTo>
                                    <a:lnTo>
                                      <a:pt x="79" y="37"/>
                                    </a:lnTo>
                                    <a:lnTo>
                                      <a:pt x="70" y="41"/>
                                    </a:lnTo>
                                    <a:lnTo>
                                      <a:pt x="61" y="45"/>
                                    </a:lnTo>
                                    <a:lnTo>
                                      <a:pt x="48" y="47"/>
                                    </a:lnTo>
                                    <a:lnTo>
                                      <a:pt x="36" y="49"/>
                                    </a:lnTo>
                                    <a:lnTo>
                                      <a:pt x="23" y="49"/>
                                    </a:lnTo>
                                    <a:lnTo>
                                      <a:pt x="12" y="47"/>
                                    </a:lnTo>
                                    <a:lnTo>
                                      <a:pt x="3" y="42"/>
                                    </a:lnTo>
                                    <a:lnTo>
                                      <a:pt x="0" y="35"/>
                                    </a:lnTo>
                                    <a:lnTo>
                                      <a:pt x="1" y="25"/>
                                    </a:lnTo>
                                    <a:lnTo>
                                      <a:pt x="6" y="16"/>
                                    </a:lnTo>
                                    <a:lnTo>
                                      <a:pt x="16" y="9"/>
                                    </a:lnTo>
                                    <a:lnTo>
                                      <a:pt x="25" y="5"/>
                                    </a:lnTo>
                                    <a:lnTo>
                                      <a:pt x="37" y="2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a000a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8800" bIns="-288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7705" name=""/>
                              <p:cNvSpPr/>
                              <p:nvPr/>
                            </p:nvSpPr>
                            <p:spPr>
                              <a:xfrm>
                                <a:off x="3618000" y="284400"/>
                                <a:ext cx="37800" cy="162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87" h="49">
                                    <a:moveTo>
                                      <a:pt x="36" y="47"/>
                                    </a:moveTo>
                                    <a:lnTo>
                                      <a:pt x="47" y="49"/>
                                    </a:lnTo>
                                    <a:lnTo>
                                      <a:pt x="58" y="49"/>
                                    </a:lnTo>
                                    <a:lnTo>
                                      <a:pt x="66" y="48"/>
                                    </a:lnTo>
                                    <a:lnTo>
                                      <a:pt x="78" y="43"/>
                                    </a:lnTo>
                                    <a:lnTo>
                                      <a:pt x="84" y="38"/>
                                    </a:lnTo>
                                    <a:lnTo>
                                      <a:pt x="87" y="30"/>
                                    </a:lnTo>
                                    <a:lnTo>
                                      <a:pt x="84" y="19"/>
                                    </a:lnTo>
                                    <a:lnTo>
                                      <a:pt x="78" y="12"/>
                                    </a:lnTo>
                                    <a:lnTo>
                                      <a:pt x="68" y="8"/>
                                    </a:lnTo>
                                    <a:lnTo>
                                      <a:pt x="59" y="4"/>
                                    </a:lnTo>
                                    <a:lnTo>
                                      <a:pt x="47" y="2"/>
                                    </a:lnTo>
                                    <a:lnTo>
                                      <a:pt x="35" y="0"/>
                                    </a:lnTo>
                                    <a:lnTo>
                                      <a:pt x="21" y="0"/>
                                    </a:lnTo>
                                    <a:lnTo>
                                      <a:pt x="10" y="2"/>
                                    </a:lnTo>
                                    <a:lnTo>
                                      <a:pt x="3" y="7"/>
                                    </a:lnTo>
                                    <a:lnTo>
                                      <a:pt x="0" y="14"/>
                                    </a:lnTo>
                                    <a:lnTo>
                                      <a:pt x="1" y="24"/>
                                    </a:lnTo>
                                    <a:lnTo>
                                      <a:pt x="6" y="33"/>
                                    </a:lnTo>
                                    <a:lnTo>
                                      <a:pt x="14" y="39"/>
                                    </a:lnTo>
                                    <a:lnTo>
                                      <a:pt x="23" y="44"/>
                                    </a:lnTo>
                                    <a:lnTo>
                                      <a:pt x="36" y="47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a000a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0600" bIns="-306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7706" name=""/>
                              <p:cNvSpPr/>
                              <p:nvPr/>
                            </p:nvSpPr>
                            <p:spPr>
                              <a:xfrm>
                                <a:off x="3666600" y="297000"/>
                                <a:ext cx="27000" cy="198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68" h="56">
                                    <a:moveTo>
                                      <a:pt x="34" y="53"/>
                                    </a:moveTo>
                                    <a:lnTo>
                                      <a:pt x="45" y="56"/>
                                    </a:lnTo>
                                    <a:lnTo>
                                      <a:pt x="53" y="56"/>
                                    </a:lnTo>
                                    <a:lnTo>
                                      <a:pt x="61" y="54"/>
                                    </a:lnTo>
                                    <a:lnTo>
                                      <a:pt x="65" y="48"/>
                                    </a:lnTo>
                                    <a:lnTo>
                                      <a:pt x="68" y="40"/>
                                    </a:lnTo>
                                    <a:lnTo>
                                      <a:pt x="66" y="31"/>
                                    </a:lnTo>
                                    <a:lnTo>
                                      <a:pt x="60" y="19"/>
                                    </a:lnTo>
                                    <a:lnTo>
                                      <a:pt x="52" y="11"/>
                                    </a:lnTo>
                                    <a:lnTo>
                                      <a:pt x="41" y="5"/>
                                    </a:lnTo>
                                    <a:lnTo>
                                      <a:pt x="29" y="1"/>
                                    </a:lnTo>
                                    <a:lnTo>
                                      <a:pt x="20" y="0"/>
                                    </a:lnTo>
                                    <a:lnTo>
                                      <a:pt x="12" y="2"/>
                                    </a:lnTo>
                                    <a:lnTo>
                                      <a:pt x="4" y="7"/>
                                    </a:lnTo>
                                    <a:lnTo>
                                      <a:pt x="0" y="14"/>
                                    </a:lnTo>
                                    <a:lnTo>
                                      <a:pt x="1" y="24"/>
                                    </a:lnTo>
                                    <a:lnTo>
                                      <a:pt x="7" y="34"/>
                                    </a:lnTo>
                                    <a:lnTo>
                                      <a:pt x="16" y="41"/>
                                    </a:lnTo>
                                    <a:lnTo>
                                      <a:pt x="25" y="47"/>
                                    </a:lnTo>
                                    <a:lnTo>
                                      <a:pt x="34" y="53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a000a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7000" bIns="-270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7707" name=""/>
                              <p:cNvSpPr/>
                              <p:nvPr/>
                            </p:nvSpPr>
                            <p:spPr>
                              <a:xfrm>
                                <a:off x="3697560" y="322560"/>
                                <a:ext cx="24840" cy="2412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57" h="65">
                                    <a:moveTo>
                                      <a:pt x="24" y="61"/>
                                    </a:moveTo>
                                    <a:lnTo>
                                      <a:pt x="35" y="65"/>
                                    </a:lnTo>
                                    <a:lnTo>
                                      <a:pt x="45" y="64"/>
                                    </a:lnTo>
                                    <a:lnTo>
                                      <a:pt x="52" y="59"/>
                                    </a:lnTo>
                                    <a:lnTo>
                                      <a:pt x="57" y="48"/>
                                    </a:lnTo>
                                    <a:lnTo>
                                      <a:pt x="55" y="34"/>
                                    </a:lnTo>
                                    <a:lnTo>
                                      <a:pt x="52" y="23"/>
                                    </a:lnTo>
                                    <a:lnTo>
                                      <a:pt x="46" y="14"/>
                                    </a:lnTo>
                                    <a:lnTo>
                                      <a:pt x="40" y="6"/>
                                    </a:lnTo>
                                    <a:lnTo>
                                      <a:pt x="29" y="1"/>
                                    </a:lnTo>
                                    <a:lnTo>
                                      <a:pt x="21" y="0"/>
                                    </a:lnTo>
                                    <a:lnTo>
                                      <a:pt x="11" y="2"/>
                                    </a:lnTo>
                                    <a:lnTo>
                                      <a:pt x="3" y="7"/>
                                    </a:lnTo>
                                    <a:lnTo>
                                      <a:pt x="0" y="15"/>
                                    </a:lnTo>
                                    <a:lnTo>
                                      <a:pt x="1" y="24"/>
                                    </a:lnTo>
                                    <a:lnTo>
                                      <a:pt x="3" y="34"/>
                                    </a:lnTo>
                                    <a:lnTo>
                                      <a:pt x="9" y="44"/>
                                    </a:lnTo>
                                    <a:lnTo>
                                      <a:pt x="17" y="53"/>
                                    </a:lnTo>
                                    <a:lnTo>
                                      <a:pt x="24" y="61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a000a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2680" bIns="-2268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7708" name=""/>
                          <p:cNvGrpSpPr/>
                          <p:nvPr/>
                        </p:nvGrpSpPr>
                        <p:grpSpPr>
                          <a:xfrm>
                            <a:off x="3620880" y="380160"/>
                            <a:ext cx="171000" cy="241200"/>
                            <a:chOff x="3620880" y="380160"/>
                            <a:chExt cx="171000" cy="241200"/>
                          </a:xfrm>
                        </p:grpSpPr>
                        <p:sp>
                          <p:nvSpPr>
                            <p:cNvPr id="7709" name=""/>
                            <p:cNvSpPr/>
                            <p:nvPr/>
                          </p:nvSpPr>
                          <p:spPr>
                            <a:xfrm>
                              <a:off x="3696120" y="381600"/>
                              <a:ext cx="95760" cy="15120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229" h="410">
                                  <a:moveTo>
                                    <a:pt x="27" y="0"/>
                                  </a:moveTo>
                                  <a:lnTo>
                                    <a:pt x="17" y="28"/>
                                  </a:lnTo>
                                  <a:lnTo>
                                    <a:pt x="8" y="64"/>
                                  </a:lnTo>
                                  <a:lnTo>
                                    <a:pt x="3" y="103"/>
                                  </a:lnTo>
                                  <a:lnTo>
                                    <a:pt x="0" y="137"/>
                                  </a:lnTo>
                                  <a:lnTo>
                                    <a:pt x="5" y="166"/>
                                  </a:lnTo>
                                  <a:lnTo>
                                    <a:pt x="14" y="190"/>
                                  </a:lnTo>
                                  <a:lnTo>
                                    <a:pt x="30" y="215"/>
                                  </a:lnTo>
                                  <a:lnTo>
                                    <a:pt x="52" y="245"/>
                                  </a:lnTo>
                                  <a:lnTo>
                                    <a:pt x="82" y="272"/>
                                  </a:lnTo>
                                  <a:lnTo>
                                    <a:pt x="122" y="304"/>
                                  </a:lnTo>
                                  <a:lnTo>
                                    <a:pt x="152" y="329"/>
                                  </a:lnTo>
                                  <a:lnTo>
                                    <a:pt x="176" y="347"/>
                                  </a:lnTo>
                                  <a:lnTo>
                                    <a:pt x="192" y="366"/>
                                  </a:lnTo>
                                  <a:lnTo>
                                    <a:pt x="213" y="389"/>
                                  </a:lnTo>
                                  <a:lnTo>
                                    <a:pt x="229" y="410"/>
                                  </a:lnTo>
                                </a:path>
                              </a:pathLst>
                            </a:custGeom>
                            <a:noFill/>
                            <a:ln w="4680">
                              <a:solidFill>
                                <a:srgbClr val="ffc0c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7710" name=""/>
                            <p:cNvSpPr/>
                            <p:nvPr/>
                          </p:nvSpPr>
                          <p:spPr>
                            <a:xfrm>
                              <a:off x="3620880" y="431280"/>
                              <a:ext cx="91800" cy="14364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216" h="391">
                                  <a:moveTo>
                                    <a:pt x="0" y="0"/>
                                  </a:moveTo>
                                  <a:lnTo>
                                    <a:pt x="24" y="4"/>
                                  </a:lnTo>
                                  <a:lnTo>
                                    <a:pt x="47" y="9"/>
                                  </a:lnTo>
                                  <a:lnTo>
                                    <a:pt x="73" y="18"/>
                                  </a:lnTo>
                                  <a:lnTo>
                                    <a:pt x="93" y="29"/>
                                  </a:lnTo>
                                  <a:lnTo>
                                    <a:pt x="112" y="41"/>
                                  </a:lnTo>
                                  <a:lnTo>
                                    <a:pt x="128" y="65"/>
                                  </a:lnTo>
                                  <a:lnTo>
                                    <a:pt x="142" y="87"/>
                                  </a:lnTo>
                                  <a:lnTo>
                                    <a:pt x="152" y="114"/>
                                  </a:lnTo>
                                  <a:lnTo>
                                    <a:pt x="162" y="146"/>
                                  </a:lnTo>
                                  <a:lnTo>
                                    <a:pt x="171" y="182"/>
                                  </a:lnTo>
                                  <a:lnTo>
                                    <a:pt x="174" y="222"/>
                                  </a:lnTo>
                                  <a:lnTo>
                                    <a:pt x="177" y="276"/>
                                  </a:lnTo>
                                  <a:lnTo>
                                    <a:pt x="180" y="314"/>
                                  </a:lnTo>
                                  <a:lnTo>
                                    <a:pt x="188" y="347"/>
                                  </a:lnTo>
                                  <a:lnTo>
                                    <a:pt x="201" y="372"/>
                                  </a:lnTo>
                                  <a:lnTo>
                                    <a:pt x="216" y="391"/>
                                  </a:lnTo>
                                  <a:lnTo>
                                    <a:pt x="214" y="390"/>
                                  </a:lnTo>
                                </a:path>
                              </a:pathLst>
                            </a:custGeom>
                            <a:noFill/>
                            <a:ln w="4680">
                              <a:solidFill>
                                <a:srgbClr val="ffc0c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7711" name=""/>
                            <p:cNvSpPr/>
                            <p:nvPr/>
                          </p:nvSpPr>
                          <p:spPr>
                            <a:xfrm>
                              <a:off x="3624840" y="380160"/>
                              <a:ext cx="154440" cy="24120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371" h="657">
                                  <a:moveTo>
                                    <a:pt x="0" y="0"/>
                                  </a:moveTo>
                                  <a:lnTo>
                                    <a:pt x="26" y="25"/>
                                  </a:lnTo>
                                  <a:lnTo>
                                    <a:pt x="60" y="56"/>
                                  </a:lnTo>
                                  <a:lnTo>
                                    <a:pt x="84" y="86"/>
                                  </a:lnTo>
                                  <a:lnTo>
                                    <a:pt x="108" y="120"/>
                                  </a:lnTo>
                                  <a:lnTo>
                                    <a:pt x="132" y="159"/>
                                  </a:lnTo>
                                  <a:lnTo>
                                    <a:pt x="154" y="196"/>
                                  </a:lnTo>
                                  <a:lnTo>
                                    <a:pt x="176" y="236"/>
                                  </a:lnTo>
                                  <a:lnTo>
                                    <a:pt x="195" y="272"/>
                                  </a:lnTo>
                                  <a:lnTo>
                                    <a:pt x="213" y="313"/>
                                  </a:lnTo>
                                  <a:lnTo>
                                    <a:pt x="230" y="357"/>
                                  </a:lnTo>
                                  <a:lnTo>
                                    <a:pt x="247" y="409"/>
                                  </a:lnTo>
                                  <a:lnTo>
                                    <a:pt x="261" y="452"/>
                                  </a:lnTo>
                                  <a:lnTo>
                                    <a:pt x="277" y="496"/>
                                  </a:lnTo>
                                  <a:lnTo>
                                    <a:pt x="292" y="533"/>
                                  </a:lnTo>
                                  <a:lnTo>
                                    <a:pt x="312" y="577"/>
                                  </a:lnTo>
                                  <a:lnTo>
                                    <a:pt x="338" y="616"/>
                                  </a:lnTo>
                                  <a:lnTo>
                                    <a:pt x="371" y="657"/>
                                  </a:lnTo>
                                </a:path>
                              </a:pathLst>
                            </a:custGeom>
                            <a:noFill/>
                            <a:ln w="4680">
                              <a:solidFill>
                                <a:srgbClr val="ffc0c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7712" name=""/>
                        <p:cNvGrpSpPr/>
                        <p:nvPr/>
                      </p:nvGrpSpPr>
                      <p:grpSpPr>
                        <a:xfrm>
                          <a:off x="3248280" y="371160"/>
                          <a:ext cx="509400" cy="394920"/>
                          <a:chOff x="3248280" y="371160"/>
                          <a:chExt cx="509400" cy="394920"/>
                        </a:xfrm>
                      </p:grpSpPr>
                      <p:grpSp>
                        <p:nvGrpSpPr>
                          <p:cNvPr id="7713" name=""/>
                          <p:cNvGrpSpPr/>
                          <p:nvPr/>
                        </p:nvGrpSpPr>
                        <p:grpSpPr>
                          <a:xfrm>
                            <a:off x="3248280" y="371160"/>
                            <a:ext cx="509400" cy="394920"/>
                            <a:chOff x="3248280" y="371160"/>
                            <a:chExt cx="509400" cy="394920"/>
                          </a:xfrm>
                        </p:grpSpPr>
                        <p:grpSp>
                          <p:nvGrpSpPr>
                            <p:cNvPr id="7714" name=""/>
                            <p:cNvGrpSpPr/>
                            <p:nvPr/>
                          </p:nvGrpSpPr>
                          <p:grpSpPr>
                            <a:xfrm>
                              <a:off x="3248280" y="371160"/>
                              <a:ext cx="509400" cy="394920"/>
                              <a:chOff x="3248280" y="371160"/>
                              <a:chExt cx="509400" cy="394920"/>
                            </a:xfrm>
                          </p:grpSpPr>
                          <p:grpSp>
                            <p:nvGrpSpPr>
                              <p:cNvPr id="7715" name=""/>
                              <p:cNvGrpSpPr/>
                              <p:nvPr/>
                            </p:nvGrpSpPr>
                            <p:grpSpPr>
                              <a:xfrm>
                                <a:off x="3248280" y="371160"/>
                                <a:ext cx="509400" cy="394920"/>
                                <a:chOff x="3248280" y="371160"/>
                                <a:chExt cx="509400" cy="394920"/>
                              </a:xfrm>
                            </p:grpSpPr>
                            <p:grpSp>
                              <p:nvGrpSpPr>
                                <p:cNvPr id="7716" name=""/>
                                <p:cNvGrpSpPr/>
                                <p:nvPr/>
                              </p:nvGrpSpPr>
                              <p:grpSpPr>
                                <a:xfrm>
                                  <a:off x="3248280" y="371160"/>
                                  <a:ext cx="509400" cy="394920"/>
                                  <a:chOff x="3248280" y="371160"/>
                                  <a:chExt cx="509400" cy="394920"/>
                                </a:xfrm>
                              </p:grpSpPr>
                              <p:sp>
                                <p:nvSpPr>
                                  <p:cNvPr id="7717" name=""/>
                                  <p:cNvSpPr/>
                                  <p:nvPr/>
                                </p:nvSpPr>
                                <p:spPr>
                                  <a:xfrm>
                                    <a:off x="3248280" y="371160"/>
                                    <a:ext cx="509400" cy="394920"/>
                                  </a:xfrm>
                                  <a:custGeom>
                                    <a:avLst/>
                                    <a:gdLst/>
                                    <a:ahLst/>
                                    <a:rect l="l" t="t" r="r" b="b"/>
                                    <a:pathLst>
                                      <a:path w="1224" h="1076">
                                        <a:moveTo>
                                          <a:pt x="95" y="86"/>
                                        </a:moveTo>
                                        <a:lnTo>
                                          <a:pt x="127" y="60"/>
                                        </a:lnTo>
                                        <a:lnTo>
                                          <a:pt x="158" y="37"/>
                                        </a:lnTo>
                                        <a:lnTo>
                                          <a:pt x="193" y="18"/>
                                        </a:lnTo>
                                        <a:lnTo>
                                          <a:pt x="234" y="6"/>
                                        </a:lnTo>
                                        <a:lnTo>
                                          <a:pt x="269" y="2"/>
                                        </a:lnTo>
                                        <a:lnTo>
                                          <a:pt x="309" y="0"/>
                                        </a:lnTo>
                                        <a:lnTo>
                                          <a:pt x="367" y="5"/>
                                        </a:lnTo>
                                        <a:lnTo>
                                          <a:pt x="424" y="17"/>
                                        </a:lnTo>
                                        <a:lnTo>
                                          <a:pt x="460" y="42"/>
                                        </a:lnTo>
                                        <a:lnTo>
                                          <a:pt x="488" y="77"/>
                                        </a:lnTo>
                                        <a:lnTo>
                                          <a:pt x="512" y="119"/>
                                        </a:lnTo>
                                        <a:lnTo>
                                          <a:pt x="537" y="159"/>
                                        </a:lnTo>
                                        <a:lnTo>
                                          <a:pt x="567" y="193"/>
                                        </a:lnTo>
                                        <a:lnTo>
                                          <a:pt x="593" y="220"/>
                                        </a:lnTo>
                                        <a:lnTo>
                                          <a:pt x="628" y="260"/>
                                        </a:lnTo>
                                        <a:lnTo>
                                          <a:pt x="642" y="297"/>
                                        </a:lnTo>
                                        <a:lnTo>
                                          <a:pt x="646" y="326"/>
                                        </a:lnTo>
                                        <a:lnTo>
                                          <a:pt x="642" y="342"/>
                                        </a:lnTo>
                                        <a:lnTo>
                                          <a:pt x="633" y="370"/>
                                        </a:lnTo>
                                        <a:lnTo>
                                          <a:pt x="618" y="396"/>
                                        </a:lnTo>
                                        <a:lnTo>
                                          <a:pt x="596" y="424"/>
                                        </a:lnTo>
                                        <a:lnTo>
                                          <a:pt x="570" y="461"/>
                                        </a:lnTo>
                                        <a:lnTo>
                                          <a:pt x="546" y="489"/>
                                        </a:lnTo>
                                        <a:lnTo>
                                          <a:pt x="527" y="520"/>
                                        </a:lnTo>
                                        <a:lnTo>
                                          <a:pt x="519" y="538"/>
                                        </a:lnTo>
                                        <a:lnTo>
                                          <a:pt x="518" y="550"/>
                                        </a:lnTo>
                                        <a:lnTo>
                                          <a:pt x="523" y="559"/>
                                        </a:lnTo>
                                        <a:lnTo>
                                          <a:pt x="533" y="563"/>
                                        </a:lnTo>
                                        <a:lnTo>
                                          <a:pt x="542" y="561"/>
                                        </a:lnTo>
                                        <a:lnTo>
                                          <a:pt x="552" y="552"/>
                                        </a:lnTo>
                                        <a:lnTo>
                                          <a:pt x="565" y="532"/>
                                        </a:lnTo>
                                        <a:lnTo>
                                          <a:pt x="585" y="502"/>
                                        </a:lnTo>
                                        <a:lnTo>
                                          <a:pt x="609" y="470"/>
                                        </a:lnTo>
                                        <a:lnTo>
                                          <a:pt x="631" y="442"/>
                                        </a:lnTo>
                                        <a:lnTo>
                                          <a:pt x="653" y="417"/>
                                        </a:lnTo>
                                        <a:lnTo>
                                          <a:pt x="676" y="395"/>
                                        </a:lnTo>
                                        <a:lnTo>
                                          <a:pt x="687" y="388"/>
                                        </a:lnTo>
                                        <a:lnTo>
                                          <a:pt x="701" y="386"/>
                                        </a:lnTo>
                                        <a:lnTo>
                                          <a:pt x="714" y="390"/>
                                        </a:lnTo>
                                        <a:lnTo>
                                          <a:pt x="722" y="395"/>
                                        </a:lnTo>
                                        <a:lnTo>
                                          <a:pt x="737" y="421"/>
                                        </a:lnTo>
                                        <a:lnTo>
                                          <a:pt x="758" y="467"/>
                                        </a:lnTo>
                                        <a:lnTo>
                                          <a:pt x="781" y="520"/>
                                        </a:lnTo>
                                        <a:lnTo>
                                          <a:pt x="803" y="571"/>
                                        </a:lnTo>
                                        <a:lnTo>
                                          <a:pt x="825" y="614"/>
                                        </a:lnTo>
                                        <a:lnTo>
                                          <a:pt x="863" y="674"/>
                                        </a:lnTo>
                                        <a:lnTo>
                                          <a:pt x="902" y="734"/>
                                        </a:lnTo>
                                        <a:lnTo>
                                          <a:pt x="944" y="793"/>
                                        </a:lnTo>
                                        <a:lnTo>
                                          <a:pt x="983" y="839"/>
                                        </a:lnTo>
                                        <a:lnTo>
                                          <a:pt x="1027" y="874"/>
                                        </a:lnTo>
                                        <a:lnTo>
                                          <a:pt x="1069" y="910"/>
                                        </a:lnTo>
                                        <a:lnTo>
                                          <a:pt x="1108" y="941"/>
                                        </a:lnTo>
                                        <a:lnTo>
                                          <a:pt x="1150" y="972"/>
                                        </a:lnTo>
                                        <a:lnTo>
                                          <a:pt x="1202" y="1009"/>
                                        </a:lnTo>
                                        <a:lnTo>
                                          <a:pt x="1213" y="1021"/>
                                        </a:lnTo>
                                        <a:lnTo>
                                          <a:pt x="1223" y="1035"/>
                                        </a:lnTo>
                                        <a:lnTo>
                                          <a:pt x="1224" y="1045"/>
                                        </a:lnTo>
                                        <a:lnTo>
                                          <a:pt x="1219" y="1059"/>
                                        </a:lnTo>
                                        <a:lnTo>
                                          <a:pt x="1209" y="1067"/>
                                        </a:lnTo>
                                        <a:lnTo>
                                          <a:pt x="1194" y="1072"/>
                                        </a:lnTo>
                                        <a:lnTo>
                                          <a:pt x="1162" y="1075"/>
                                        </a:lnTo>
                                        <a:lnTo>
                                          <a:pt x="1125" y="1076"/>
                                        </a:lnTo>
                                        <a:lnTo>
                                          <a:pt x="1062" y="1071"/>
                                        </a:lnTo>
                                        <a:lnTo>
                                          <a:pt x="1003" y="1063"/>
                                        </a:lnTo>
                                        <a:lnTo>
                                          <a:pt x="951" y="1056"/>
                                        </a:lnTo>
                                        <a:lnTo>
                                          <a:pt x="888" y="1044"/>
                                        </a:lnTo>
                                        <a:lnTo>
                                          <a:pt x="826" y="1026"/>
                                        </a:lnTo>
                                        <a:lnTo>
                                          <a:pt x="778" y="1006"/>
                                        </a:lnTo>
                                        <a:lnTo>
                                          <a:pt x="735" y="981"/>
                                        </a:lnTo>
                                        <a:lnTo>
                                          <a:pt x="670" y="954"/>
                                        </a:lnTo>
                                        <a:lnTo>
                                          <a:pt x="603" y="921"/>
                                        </a:lnTo>
                                        <a:lnTo>
                                          <a:pt x="542" y="890"/>
                                        </a:lnTo>
                                        <a:lnTo>
                                          <a:pt x="496" y="856"/>
                                        </a:lnTo>
                                        <a:lnTo>
                                          <a:pt x="453" y="826"/>
                                        </a:lnTo>
                                        <a:lnTo>
                                          <a:pt x="413" y="796"/>
                                        </a:lnTo>
                                        <a:lnTo>
                                          <a:pt x="373" y="753"/>
                                        </a:lnTo>
                                        <a:lnTo>
                                          <a:pt x="340" y="720"/>
                                        </a:lnTo>
                                        <a:lnTo>
                                          <a:pt x="311" y="689"/>
                                        </a:lnTo>
                                        <a:lnTo>
                                          <a:pt x="306" y="675"/>
                                        </a:lnTo>
                                        <a:lnTo>
                                          <a:pt x="306" y="658"/>
                                        </a:lnTo>
                                        <a:lnTo>
                                          <a:pt x="317" y="641"/>
                                        </a:lnTo>
                                        <a:lnTo>
                                          <a:pt x="335" y="629"/>
                                        </a:lnTo>
                                        <a:lnTo>
                                          <a:pt x="358" y="620"/>
                                        </a:lnTo>
                                        <a:lnTo>
                                          <a:pt x="387" y="616"/>
                                        </a:lnTo>
                                        <a:lnTo>
                                          <a:pt x="421" y="621"/>
                                        </a:lnTo>
                                        <a:lnTo>
                                          <a:pt x="453" y="631"/>
                                        </a:lnTo>
                                        <a:lnTo>
                                          <a:pt x="467" y="635"/>
                                        </a:lnTo>
                                        <a:lnTo>
                                          <a:pt x="478" y="637"/>
                                        </a:lnTo>
                                        <a:lnTo>
                                          <a:pt x="485" y="634"/>
                                        </a:lnTo>
                                        <a:lnTo>
                                          <a:pt x="490" y="626"/>
                                        </a:lnTo>
                                        <a:lnTo>
                                          <a:pt x="488" y="616"/>
                                        </a:lnTo>
                                        <a:lnTo>
                                          <a:pt x="481" y="606"/>
                                        </a:lnTo>
                                        <a:lnTo>
                                          <a:pt x="454" y="593"/>
                                        </a:lnTo>
                                        <a:lnTo>
                                          <a:pt x="425" y="586"/>
                                        </a:lnTo>
                                        <a:lnTo>
                                          <a:pt x="395" y="583"/>
                                        </a:lnTo>
                                        <a:lnTo>
                                          <a:pt x="365" y="589"/>
                                        </a:lnTo>
                                        <a:lnTo>
                                          <a:pt x="327" y="599"/>
                                        </a:lnTo>
                                        <a:lnTo>
                                          <a:pt x="283" y="613"/>
                                        </a:lnTo>
                                        <a:lnTo>
                                          <a:pt x="249" y="623"/>
                                        </a:lnTo>
                                        <a:lnTo>
                                          <a:pt x="222" y="628"/>
                                        </a:lnTo>
                                        <a:lnTo>
                                          <a:pt x="196" y="624"/>
                                        </a:lnTo>
                                        <a:lnTo>
                                          <a:pt x="170" y="616"/>
                                        </a:lnTo>
                                        <a:lnTo>
                                          <a:pt x="142" y="602"/>
                                        </a:lnTo>
                                        <a:lnTo>
                                          <a:pt x="122" y="584"/>
                                        </a:lnTo>
                                        <a:lnTo>
                                          <a:pt x="100" y="561"/>
                                        </a:lnTo>
                                        <a:lnTo>
                                          <a:pt x="72" y="525"/>
                                        </a:lnTo>
                                        <a:lnTo>
                                          <a:pt x="41" y="477"/>
                                        </a:lnTo>
                                        <a:lnTo>
                                          <a:pt x="18" y="431"/>
                                        </a:lnTo>
                                        <a:lnTo>
                                          <a:pt x="3" y="387"/>
                                        </a:lnTo>
                                        <a:lnTo>
                                          <a:pt x="0" y="356"/>
                                        </a:lnTo>
                                        <a:lnTo>
                                          <a:pt x="4" y="327"/>
                                        </a:lnTo>
                                        <a:lnTo>
                                          <a:pt x="13" y="269"/>
                                        </a:lnTo>
                                        <a:lnTo>
                                          <a:pt x="23" y="205"/>
                                        </a:lnTo>
                                        <a:lnTo>
                                          <a:pt x="44" y="153"/>
                                        </a:lnTo>
                                        <a:lnTo>
                                          <a:pt x="69" y="116"/>
                                        </a:lnTo>
                                        <a:lnTo>
                                          <a:pt x="95" y="86"/>
                                        </a:lnTo>
                                        <a:close/>
                                      </a:path>
                                    </a:pathLst>
                                  </a:custGeom>
                                  <a:solidFill>
                                    <a:srgbClr val="ff8080"/>
                                  </a:solidFill>
                                  <a:ln w="0">
                                    <a:noFill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  <p:grpSp>
                                <p:nvGrpSpPr>
                                  <p:cNvPr id="7718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3248280" y="371160"/>
                                    <a:ext cx="509040" cy="394560"/>
                                    <a:chOff x="3248280" y="371160"/>
                                    <a:chExt cx="509040" cy="394560"/>
                                  </a:xfrm>
                                </p:grpSpPr>
                                <p:sp>
                                  <p:nvSpPr>
                                    <p:cNvPr id="771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373200" y="512640"/>
                                      <a:ext cx="384120" cy="253080"/>
                                    </a:xfrm>
                                    <a:custGeom>
                                      <a:avLst/>
                                      <a:gdLst/>
                                      <a:ahLst/>
                                      <a:rect l="l" t="t" r="r" b="b"/>
                                      <a:pathLst>
                                        <a:path w="919" h="689">
                                          <a:moveTo>
                                            <a:pt x="304" y="84"/>
                                          </a:moveTo>
                                          <a:lnTo>
                                            <a:pt x="326" y="56"/>
                                          </a:lnTo>
                                          <a:lnTo>
                                            <a:pt x="348" y="31"/>
                                          </a:lnTo>
                                          <a:lnTo>
                                            <a:pt x="371" y="9"/>
                                          </a:lnTo>
                                          <a:lnTo>
                                            <a:pt x="382" y="2"/>
                                          </a:lnTo>
                                          <a:lnTo>
                                            <a:pt x="396" y="0"/>
                                          </a:lnTo>
                                          <a:lnTo>
                                            <a:pt x="409" y="4"/>
                                          </a:lnTo>
                                          <a:lnTo>
                                            <a:pt x="417" y="9"/>
                                          </a:lnTo>
                                          <a:lnTo>
                                            <a:pt x="432" y="35"/>
                                          </a:lnTo>
                                          <a:lnTo>
                                            <a:pt x="453" y="81"/>
                                          </a:lnTo>
                                          <a:lnTo>
                                            <a:pt x="476" y="134"/>
                                          </a:lnTo>
                                          <a:lnTo>
                                            <a:pt x="498" y="184"/>
                                          </a:lnTo>
                                          <a:lnTo>
                                            <a:pt x="519" y="227"/>
                                          </a:lnTo>
                                          <a:lnTo>
                                            <a:pt x="558" y="287"/>
                                          </a:lnTo>
                                          <a:lnTo>
                                            <a:pt x="597" y="347"/>
                                          </a:lnTo>
                                          <a:lnTo>
                                            <a:pt x="640" y="406"/>
                                          </a:lnTo>
                                          <a:lnTo>
                                            <a:pt x="679" y="453"/>
                                          </a:lnTo>
                                          <a:lnTo>
                                            <a:pt x="722" y="488"/>
                                          </a:lnTo>
                                          <a:lnTo>
                                            <a:pt x="764" y="523"/>
                                          </a:lnTo>
                                          <a:lnTo>
                                            <a:pt x="803" y="554"/>
                                          </a:lnTo>
                                          <a:lnTo>
                                            <a:pt x="845" y="585"/>
                                          </a:lnTo>
                                          <a:lnTo>
                                            <a:pt x="897" y="622"/>
                                          </a:lnTo>
                                          <a:lnTo>
                                            <a:pt x="908" y="634"/>
                                          </a:lnTo>
                                          <a:lnTo>
                                            <a:pt x="918" y="648"/>
                                          </a:lnTo>
                                          <a:lnTo>
                                            <a:pt x="919" y="658"/>
                                          </a:lnTo>
                                          <a:lnTo>
                                            <a:pt x="914" y="672"/>
                                          </a:lnTo>
                                          <a:lnTo>
                                            <a:pt x="904" y="680"/>
                                          </a:lnTo>
                                          <a:lnTo>
                                            <a:pt x="889" y="685"/>
                                          </a:lnTo>
                                          <a:lnTo>
                                            <a:pt x="857" y="688"/>
                                          </a:lnTo>
                                          <a:lnTo>
                                            <a:pt x="820" y="689"/>
                                          </a:lnTo>
                                          <a:lnTo>
                                            <a:pt x="757" y="684"/>
                                          </a:lnTo>
                                          <a:lnTo>
                                            <a:pt x="698" y="676"/>
                                          </a:lnTo>
                                          <a:lnTo>
                                            <a:pt x="647" y="669"/>
                                          </a:lnTo>
                                          <a:lnTo>
                                            <a:pt x="583" y="657"/>
                                          </a:lnTo>
                                          <a:lnTo>
                                            <a:pt x="521" y="639"/>
                                          </a:lnTo>
                                          <a:lnTo>
                                            <a:pt x="473" y="619"/>
                                          </a:lnTo>
                                          <a:lnTo>
                                            <a:pt x="429" y="594"/>
                                          </a:lnTo>
                                          <a:lnTo>
                                            <a:pt x="365" y="567"/>
                                          </a:lnTo>
                                          <a:lnTo>
                                            <a:pt x="298" y="534"/>
                                          </a:lnTo>
                                          <a:lnTo>
                                            <a:pt x="237" y="504"/>
                                          </a:lnTo>
                                          <a:lnTo>
                                            <a:pt x="192" y="470"/>
                                          </a:lnTo>
                                          <a:lnTo>
                                            <a:pt x="149" y="440"/>
                                          </a:lnTo>
                                          <a:lnTo>
                                            <a:pt x="109" y="409"/>
                                          </a:lnTo>
                                          <a:lnTo>
                                            <a:pt x="69" y="366"/>
                                          </a:lnTo>
                                          <a:lnTo>
                                            <a:pt x="36" y="333"/>
                                          </a:lnTo>
                                          <a:lnTo>
                                            <a:pt x="7" y="302"/>
                                          </a:lnTo>
                                          <a:lnTo>
                                            <a:pt x="0" y="288"/>
                                          </a:lnTo>
                                          <a:lnTo>
                                            <a:pt x="3" y="271"/>
                                          </a:lnTo>
                                          <a:lnTo>
                                            <a:pt x="13" y="254"/>
                                          </a:lnTo>
                                          <a:lnTo>
                                            <a:pt x="31" y="242"/>
                                          </a:lnTo>
                                          <a:lnTo>
                                            <a:pt x="54" y="233"/>
                                          </a:lnTo>
                                          <a:lnTo>
                                            <a:pt x="83" y="229"/>
                                          </a:lnTo>
                                          <a:lnTo>
                                            <a:pt x="110" y="231"/>
                                          </a:lnTo>
                                          <a:lnTo>
                                            <a:pt x="131" y="236"/>
                                          </a:lnTo>
                                          <a:lnTo>
                                            <a:pt x="156" y="245"/>
                                          </a:lnTo>
                                          <a:lnTo>
                                            <a:pt x="170" y="249"/>
                                          </a:lnTo>
                                          <a:lnTo>
                                            <a:pt x="148" y="249"/>
                                          </a:lnTo>
                                          <a:lnTo>
                                            <a:pt x="126" y="247"/>
                                          </a:lnTo>
                                          <a:lnTo>
                                            <a:pt x="107" y="248"/>
                                          </a:lnTo>
                                          <a:lnTo>
                                            <a:pt x="89" y="251"/>
                                          </a:lnTo>
                                          <a:lnTo>
                                            <a:pt x="73" y="257"/>
                                          </a:lnTo>
                                          <a:lnTo>
                                            <a:pt x="57" y="265"/>
                                          </a:lnTo>
                                          <a:lnTo>
                                            <a:pt x="46" y="277"/>
                                          </a:lnTo>
                                          <a:lnTo>
                                            <a:pt x="40" y="288"/>
                                          </a:lnTo>
                                          <a:lnTo>
                                            <a:pt x="41" y="294"/>
                                          </a:lnTo>
                                          <a:lnTo>
                                            <a:pt x="46" y="302"/>
                                          </a:lnTo>
                                          <a:lnTo>
                                            <a:pt x="56" y="315"/>
                                          </a:lnTo>
                                          <a:lnTo>
                                            <a:pt x="75" y="339"/>
                                          </a:lnTo>
                                          <a:lnTo>
                                            <a:pt x="99" y="368"/>
                                          </a:lnTo>
                                          <a:lnTo>
                                            <a:pt x="128" y="391"/>
                                          </a:lnTo>
                                          <a:lnTo>
                                            <a:pt x="159" y="420"/>
                                          </a:lnTo>
                                          <a:lnTo>
                                            <a:pt x="193" y="445"/>
                                          </a:lnTo>
                                          <a:lnTo>
                                            <a:pt x="219" y="462"/>
                                          </a:lnTo>
                                          <a:lnTo>
                                            <a:pt x="241" y="477"/>
                                          </a:lnTo>
                                          <a:lnTo>
                                            <a:pt x="270" y="493"/>
                                          </a:lnTo>
                                          <a:lnTo>
                                            <a:pt x="292" y="507"/>
                                          </a:lnTo>
                                          <a:lnTo>
                                            <a:pt x="315" y="516"/>
                                          </a:lnTo>
                                          <a:lnTo>
                                            <a:pt x="334" y="520"/>
                                          </a:lnTo>
                                          <a:lnTo>
                                            <a:pt x="355" y="526"/>
                                          </a:lnTo>
                                          <a:lnTo>
                                            <a:pt x="376" y="537"/>
                                          </a:lnTo>
                                          <a:lnTo>
                                            <a:pt x="411" y="554"/>
                                          </a:lnTo>
                                          <a:lnTo>
                                            <a:pt x="448" y="572"/>
                                          </a:lnTo>
                                          <a:lnTo>
                                            <a:pt x="481" y="587"/>
                                          </a:lnTo>
                                          <a:lnTo>
                                            <a:pt x="512" y="604"/>
                                          </a:lnTo>
                                          <a:lnTo>
                                            <a:pt x="543" y="620"/>
                                          </a:lnTo>
                                          <a:lnTo>
                                            <a:pt x="570" y="625"/>
                                          </a:lnTo>
                                          <a:lnTo>
                                            <a:pt x="598" y="633"/>
                                          </a:lnTo>
                                          <a:lnTo>
                                            <a:pt x="628" y="642"/>
                                          </a:lnTo>
                                          <a:lnTo>
                                            <a:pt x="657" y="645"/>
                                          </a:lnTo>
                                          <a:lnTo>
                                            <a:pt x="693" y="649"/>
                                          </a:lnTo>
                                          <a:lnTo>
                                            <a:pt x="730" y="652"/>
                                          </a:lnTo>
                                          <a:lnTo>
                                            <a:pt x="764" y="655"/>
                                          </a:lnTo>
                                          <a:lnTo>
                                            <a:pt x="777" y="653"/>
                                          </a:lnTo>
                                          <a:lnTo>
                                            <a:pt x="791" y="647"/>
                                          </a:lnTo>
                                          <a:lnTo>
                                            <a:pt x="799" y="635"/>
                                          </a:lnTo>
                                          <a:lnTo>
                                            <a:pt x="803" y="621"/>
                                          </a:lnTo>
                                          <a:lnTo>
                                            <a:pt x="801" y="609"/>
                                          </a:lnTo>
                                          <a:lnTo>
                                            <a:pt x="787" y="589"/>
                                          </a:lnTo>
                                          <a:lnTo>
                                            <a:pt x="764" y="562"/>
                                          </a:lnTo>
                                          <a:lnTo>
                                            <a:pt x="739" y="540"/>
                                          </a:lnTo>
                                          <a:lnTo>
                                            <a:pt x="716" y="520"/>
                                          </a:lnTo>
                                          <a:lnTo>
                                            <a:pt x="688" y="502"/>
                                          </a:lnTo>
                                          <a:lnTo>
                                            <a:pt x="661" y="483"/>
                                          </a:lnTo>
                                          <a:lnTo>
                                            <a:pt x="635" y="461"/>
                                          </a:lnTo>
                                          <a:lnTo>
                                            <a:pt x="616" y="437"/>
                                          </a:lnTo>
                                          <a:lnTo>
                                            <a:pt x="597" y="412"/>
                                          </a:lnTo>
                                          <a:lnTo>
                                            <a:pt x="577" y="380"/>
                                          </a:lnTo>
                                          <a:lnTo>
                                            <a:pt x="561" y="355"/>
                                          </a:lnTo>
                                          <a:lnTo>
                                            <a:pt x="545" y="330"/>
                                          </a:lnTo>
                                          <a:lnTo>
                                            <a:pt x="526" y="299"/>
                                          </a:lnTo>
                                          <a:lnTo>
                                            <a:pt x="508" y="268"/>
                                          </a:lnTo>
                                          <a:lnTo>
                                            <a:pt x="493" y="240"/>
                                          </a:lnTo>
                                          <a:lnTo>
                                            <a:pt x="478" y="211"/>
                                          </a:lnTo>
                                          <a:lnTo>
                                            <a:pt x="463" y="181"/>
                                          </a:lnTo>
                                          <a:lnTo>
                                            <a:pt x="449" y="154"/>
                                          </a:lnTo>
                                          <a:lnTo>
                                            <a:pt x="436" y="128"/>
                                          </a:lnTo>
                                          <a:lnTo>
                                            <a:pt x="426" y="99"/>
                                          </a:lnTo>
                                          <a:lnTo>
                                            <a:pt x="419" y="80"/>
                                          </a:lnTo>
                                          <a:lnTo>
                                            <a:pt x="412" y="68"/>
                                          </a:lnTo>
                                          <a:lnTo>
                                            <a:pt x="401" y="59"/>
                                          </a:lnTo>
                                          <a:lnTo>
                                            <a:pt x="389" y="55"/>
                                          </a:lnTo>
                                          <a:lnTo>
                                            <a:pt x="375" y="56"/>
                                          </a:lnTo>
                                          <a:lnTo>
                                            <a:pt x="360" y="61"/>
                                          </a:lnTo>
                                          <a:lnTo>
                                            <a:pt x="344" y="70"/>
                                          </a:lnTo>
                                          <a:lnTo>
                                            <a:pt x="325" y="77"/>
                                          </a:lnTo>
                                          <a:lnTo>
                                            <a:pt x="304" y="84"/>
                                          </a:lnTo>
                                          <a:close/>
                                        </a:path>
                                      </a:pathLst>
                                    </a:custGeom>
                                    <a:solidFill>
                                      <a:srgbClr val="ff404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46800" bIns="4680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000000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7720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248280" y="371160"/>
                                      <a:ext cx="269280" cy="229320"/>
                                    </a:xfrm>
                                    <a:custGeom>
                                      <a:avLst/>
                                      <a:gdLst/>
                                      <a:ahLst/>
                                      <a:rect l="l" t="t" r="r" b="b"/>
                                      <a:pathLst>
                                        <a:path w="645" h="627">
                                          <a:moveTo>
                                            <a:pt x="95" y="86"/>
                                          </a:moveTo>
                                          <a:lnTo>
                                            <a:pt x="127" y="60"/>
                                          </a:lnTo>
                                          <a:lnTo>
                                            <a:pt x="158" y="37"/>
                                          </a:lnTo>
                                          <a:lnTo>
                                            <a:pt x="192" y="18"/>
                                          </a:lnTo>
                                          <a:lnTo>
                                            <a:pt x="233" y="6"/>
                                          </a:lnTo>
                                          <a:lnTo>
                                            <a:pt x="268" y="2"/>
                                          </a:lnTo>
                                          <a:lnTo>
                                            <a:pt x="309" y="0"/>
                                          </a:lnTo>
                                          <a:lnTo>
                                            <a:pt x="367" y="5"/>
                                          </a:lnTo>
                                          <a:lnTo>
                                            <a:pt x="424" y="17"/>
                                          </a:lnTo>
                                          <a:lnTo>
                                            <a:pt x="460" y="42"/>
                                          </a:lnTo>
                                          <a:lnTo>
                                            <a:pt x="487" y="77"/>
                                          </a:lnTo>
                                          <a:lnTo>
                                            <a:pt x="511" y="119"/>
                                          </a:lnTo>
                                          <a:lnTo>
                                            <a:pt x="536" y="158"/>
                                          </a:lnTo>
                                          <a:lnTo>
                                            <a:pt x="566" y="192"/>
                                          </a:lnTo>
                                          <a:lnTo>
                                            <a:pt x="592" y="219"/>
                                          </a:lnTo>
                                          <a:lnTo>
                                            <a:pt x="627" y="259"/>
                                          </a:lnTo>
                                          <a:lnTo>
                                            <a:pt x="641" y="297"/>
                                          </a:lnTo>
                                          <a:lnTo>
                                            <a:pt x="645" y="326"/>
                                          </a:lnTo>
                                          <a:lnTo>
                                            <a:pt x="641" y="342"/>
                                          </a:lnTo>
                                          <a:lnTo>
                                            <a:pt x="632" y="370"/>
                                          </a:lnTo>
                                          <a:lnTo>
                                            <a:pt x="617" y="396"/>
                                          </a:lnTo>
                                          <a:lnTo>
                                            <a:pt x="595" y="424"/>
                                          </a:lnTo>
                                          <a:lnTo>
                                            <a:pt x="569" y="461"/>
                                          </a:lnTo>
                                          <a:lnTo>
                                            <a:pt x="545" y="488"/>
                                          </a:lnTo>
                                          <a:lnTo>
                                            <a:pt x="559" y="462"/>
                                          </a:lnTo>
                                          <a:lnTo>
                                            <a:pt x="569" y="445"/>
                                          </a:lnTo>
                                          <a:lnTo>
                                            <a:pt x="582" y="424"/>
                                          </a:lnTo>
                                          <a:lnTo>
                                            <a:pt x="591" y="407"/>
                                          </a:lnTo>
                                          <a:lnTo>
                                            <a:pt x="604" y="381"/>
                                          </a:lnTo>
                                          <a:lnTo>
                                            <a:pt x="611" y="355"/>
                                          </a:lnTo>
                                          <a:lnTo>
                                            <a:pt x="618" y="327"/>
                                          </a:lnTo>
                                          <a:lnTo>
                                            <a:pt x="620" y="312"/>
                                          </a:lnTo>
                                          <a:lnTo>
                                            <a:pt x="616" y="297"/>
                                          </a:lnTo>
                                          <a:lnTo>
                                            <a:pt x="608" y="279"/>
                                          </a:lnTo>
                                          <a:lnTo>
                                            <a:pt x="602" y="263"/>
                                          </a:lnTo>
                                          <a:lnTo>
                                            <a:pt x="589" y="251"/>
                                          </a:lnTo>
                                          <a:lnTo>
                                            <a:pt x="574" y="238"/>
                                          </a:lnTo>
                                          <a:lnTo>
                                            <a:pt x="562" y="221"/>
                                          </a:lnTo>
                                          <a:lnTo>
                                            <a:pt x="546" y="203"/>
                                          </a:lnTo>
                                          <a:lnTo>
                                            <a:pt x="531" y="181"/>
                                          </a:lnTo>
                                          <a:lnTo>
                                            <a:pt x="515" y="159"/>
                                          </a:lnTo>
                                          <a:lnTo>
                                            <a:pt x="500" y="141"/>
                                          </a:lnTo>
                                          <a:lnTo>
                                            <a:pt x="488" y="120"/>
                                          </a:lnTo>
                                          <a:lnTo>
                                            <a:pt x="477" y="97"/>
                                          </a:lnTo>
                                          <a:lnTo>
                                            <a:pt x="468" y="81"/>
                                          </a:lnTo>
                                          <a:lnTo>
                                            <a:pt x="453" y="68"/>
                                          </a:lnTo>
                                          <a:lnTo>
                                            <a:pt x="437" y="55"/>
                                          </a:lnTo>
                                          <a:lnTo>
                                            <a:pt x="421" y="43"/>
                                          </a:lnTo>
                                          <a:lnTo>
                                            <a:pt x="403" y="35"/>
                                          </a:lnTo>
                                          <a:lnTo>
                                            <a:pt x="385" y="31"/>
                                          </a:lnTo>
                                          <a:lnTo>
                                            <a:pt x="355" y="29"/>
                                          </a:lnTo>
                                          <a:lnTo>
                                            <a:pt x="325" y="29"/>
                                          </a:lnTo>
                                          <a:lnTo>
                                            <a:pt x="302" y="30"/>
                                          </a:lnTo>
                                          <a:lnTo>
                                            <a:pt x="280" y="29"/>
                                          </a:lnTo>
                                          <a:lnTo>
                                            <a:pt x="259" y="31"/>
                                          </a:lnTo>
                                          <a:lnTo>
                                            <a:pt x="236" y="36"/>
                                          </a:lnTo>
                                          <a:lnTo>
                                            <a:pt x="215" y="41"/>
                                          </a:lnTo>
                                          <a:lnTo>
                                            <a:pt x="195" y="49"/>
                                          </a:lnTo>
                                          <a:lnTo>
                                            <a:pt x="176" y="60"/>
                                          </a:lnTo>
                                          <a:lnTo>
                                            <a:pt x="158" y="74"/>
                                          </a:lnTo>
                                          <a:lnTo>
                                            <a:pt x="138" y="87"/>
                                          </a:lnTo>
                                          <a:lnTo>
                                            <a:pt x="119" y="103"/>
                                          </a:lnTo>
                                          <a:lnTo>
                                            <a:pt x="99" y="124"/>
                                          </a:lnTo>
                                          <a:lnTo>
                                            <a:pt x="83" y="143"/>
                                          </a:lnTo>
                                          <a:lnTo>
                                            <a:pt x="72" y="160"/>
                                          </a:lnTo>
                                          <a:lnTo>
                                            <a:pt x="65" y="181"/>
                                          </a:lnTo>
                                          <a:lnTo>
                                            <a:pt x="56" y="202"/>
                                          </a:lnTo>
                                          <a:lnTo>
                                            <a:pt x="47" y="223"/>
                                          </a:lnTo>
                                          <a:lnTo>
                                            <a:pt x="37" y="247"/>
                                          </a:lnTo>
                                          <a:lnTo>
                                            <a:pt x="35" y="275"/>
                                          </a:lnTo>
                                          <a:lnTo>
                                            <a:pt x="32" y="300"/>
                                          </a:lnTo>
                                          <a:lnTo>
                                            <a:pt x="29" y="324"/>
                                          </a:lnTo>
                                          <a:lnTo>
                                            <a:pt x="29" y="340"/>
                                          </a:lnTo>
                                          <a:lnTo>
                                            <a:pt x="31" y="361"/>
                                          </a:lnTo>
                                          <a:lnTo>
                                            <a:pt x="36" y="384"/>
                                          </a:lnTo>
                                          <a:lnTo>
                                            <a:pt x="40" y="408"/>
                                          </a:lnTo>
                                          <a:lnTo>
                                            <a:pt x="51" y="436"/>
                                          </a:lnTo>
                                          <a:lnTo>
                                            <a:pt x="61" y="462"/>
                                          </a:lnTo>
                                          <a:lnTo>
                                            <a:pt x="68" y="477"/>
                                          </a:lnTo>
                                          <a:lnTo>
                                            <a:pt x="80" y="496"/>
                                          </a:lnTo>
                                          <a:lnTo>
                                            <a:pt x="95" y="519"/>
                                          </a:lnTo>
                                          <a:lnTo>
                                            <a:pt x="108" y="535"/>
                                          </a:lnTo>
                                          <a:lnTo>
                                            <a:pt x="120" y="551"/>
                                          </a:lnTo>
                                          <a:lnTo>
                                            <a:pt x="136" y="566"/>
                                          </a:lnTo>
                                          <a:lnTo>
                                            <a:pt x="155" y="581"/>
                                          </a:lnTo>
                                          <a:lnTo>
                                            <a:pt x="170" y="593"/>
                                          </a:lnTo>
                                          <a:lnTo>
                                            <a:pt x="183" y="600"/>
                                          </a:lnTo>
                                          <a:lnTo>
                                            <a:pt x="202" y="607"/>
                                          </a:lnTo>
                                          <a:lnTo>
                                            <a:pt x="218" y="611"/>
                                          </a:lnTo>
                                          <a:lnTo>
                                            <a:pt x="235" y="614"/>
                                          </a:lnTo>
                                          <a:lnTo>
                                            <a:pt x="253" y="615"/>
                                          </a:lnTo>
                                          <a:lnTo>
                                            <a:pt x="282" y="612"/>
                                          </a:lnTo>
                                          <a:lnTo>
                                            <a:pt x="248" y="622"/>
                                          </a:lnTo>
                                          <a:lnTo>
                                            <a:pt x="221" y="627"/>
                                          </a:lnTo>
                                          <a:lnTo>
                                            <a:pt x="195" y="623"/>
                                          </a:lnTo>
                                          <a:lnTo>
                                            <a:pt x="169" y="615"/>
                                          </a:lnTo>
                                          <a:lnTo>
                                            <a:pt x="142" y="601"/>
                                          </a:lnTo>
                                          <a:lnTo>
                                            <a:pt x="122" y="583"/>
                                          </a:lnTo>
                                          <a:lnTo>
                                            <a:pt x="100" y="560"/>
                                          </a:lnTo>
                                          <a:lnTo>
                                            <a:pt x="72" y="524"/>
                                          </a:lnTo>
                                          <a:lnTo>
                                            <a:pt x="41" y="476"/>
                                          </a:lnTo>
                                          <a:lnTo>
                                            <a:pt x="18" y="431"/>
                                          </a:lnTo>
                                          <a:lnTo>
                                            <a:pt x="3" y="387"/>
                                          </a:lnTo>
                                          <a:lnTo>
                                            <a:pt x="0" y="356"/>
                                          </a:lnTo>
                                          <a:lnTo>
                                            <a:pt x="4" y="327"/>
                                          </a:lnTo>
                                          <a:lnTo>
                                            <a:pt x="13" y="269"/>
                                          </a:lnTo>
                                          <a:lnTo>
                                            <a:pt x="23" y="204"/>
                                          </a:lnTo>
                                          <a:lnTo>
                                            <a:pt x="44" y="153"/>
                                          </a:lnTo>
                                          <a:lnTo>
                                            <a:pt x="69" y="116"/>
                                          </a:lnTo>
                                          <a:lnTo>
                                            <a:pt x="95" y="86"/>
                                          </a:lnTo>
                                          <a:close/>
                                        </a:path>
                                      </a:pathLst>
                                    </a:custGeom>
                                    <a:solidFill>
                                      <a:srgbClr val="ff404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46800" bIns="4680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000000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sp>
                              <p:nvSpPr>
                                <p:cNvPr id="7721" name=""/>
                                <p:cNvSpPr/>
                                <p:nvPr/>
                              </p:nvSpPr>
                              <p:spPr>
                                <a:xfrm>
                                  <a:off x="3461400" y="582480"/>
                                  <a:ext cx="187920" cy="14868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447" h="407">
                                      <a:moveTo>
                                        <a:pt x="48" y="55"/>
                                      </a:moveTo>
                                      <a:lnTo>
                                        <a:pt x="71" y="35"/>
                                      </a:lnTo>
                                      <a:lnTo>
                                        <a:pt x="95" y="18"/>
                                      </a:lnTo>
                                      <a:lnTo>
                                        <a:pt x="111" y="7"/>
                                      </a:lnTo>
                                      <a:lnTo>
                                        <a:pt x="124" y="2"/>
                                      </a:lnTo>
                                      <a:lnTo>
                                        <a:pt x="139" y="0"/>
                                      </a:lnTo>
                                      <a:lnTo>
                                        <a:pt x="154" y="1"/>
                                      </a:lnTo>
                                      <a:lnTo>
                                        <a:pt x="171" y="8"/>
                                      </a:lnTo>
                                      <a:lnTo>
                                        <a:pt x="195" y="24"/>
                                      </a:lnTo>
                                      <a:lnTo>
                                        <a:pt x="218" y="43"/>
                                      </a:lnTo>
                                      <a:lnTo>
                                        <a:pt x="239" y="69"/>
                                      </a:lnTo>
                                      <a:lnTo>
                                        <a:pt x="256" y="96"/>
                                      </a:lnTo>
                                      <a:lnTo>
                                        <a:pt x="278" y="134"/>
                                      </a:lnTo>
                                      <a:lnTo>
                                        <a:pt x="301" y="174"/>
                                      </a:lnTo>
                                      <a:lnTo>
                                        <a:pt x="321" y="207"/>
                                      </a:lnTo>
                                      <a:lnTo>
                                        <a:pt x="341" y="240"/>
                                      </a:lnTo>
                                      <a:lnTo>
                                        <a:pt x="361" y="265"/>
                                      </a:lnTo>
                                      <a:lnTo>
                                        <a:pt x="381" y="290"/>
                                      </a:lnTo>
                                      <a:lnTo>
                                        <a:pt x="410" y="313"/>
                                      </a:lnTo>
                                      <a:lnTo>
                                        <a:pt x="432" y="338"/>
                                      </a:lnTo>
                                      <a:lnTo>
                                        <a:pt x="444" y="357"/>
                                      </a:lnTo>
                                      <a:lnTo>
                                        <a:pt x="447" y="375"/>
                                      </a:lnTo>
                                      <a:lnTo>
                                        <a:pt x="442" y="389"/>
                                      </a:lnTo>
                                      <a:lnTo>
                                        <a:pt x="433" y="399"/>
                                      </a:lnTo>
                                      <a:lnTo>
                                        <a:pt x="416" y="405"/>
                                      </a:lnTo>
                                      <a:lnTo>
                                        <a:pt x="394" y="407"/>
                                      </a:lnTo>
                                      <a:lnTo>
                                        <a:pt x="374" y="405"/>
                                      </a:lnTo>
                                      <a:lnTo>
                                        <a:pt x="338" y="397"/>
                                      </a:lnTo>
                                      <a:lnTo>
                                        <a:pt x="315" y="390"/>
                                      </a:lnTo>
                                      <a:lnTo>
                                        <a:pt x="287" y="379"/>
                                      </a:lnTo>
                                      <a:lnTo>
                                        <a:pt x="261" y="365"/>
                                      </a:lnTo>
                                      <a:lnTo>
                                        <a:pt x="235" y="350"/>
                                      </a:lnTo>
                                      <a:lnTo>
                                        <a:pt x="203" y="332"/>
                                      </a:lnTo>
                                      <a:lnTo>
                                        <a:pt x="162" y="309"/>
                                      </a:lnTo>
                                      <a:lnTo>
                                        <a:pt x="124" y="288"/>
                                      </a:lnTo>
                                      <a:lnTo>
                                        <a:pt x="94" y="269"/>
                                      </a:lnTo>
                                      <a:lnTo>
                                        <a:pt x="64" y="248"/>
                                      </a:lnTo>
                                      <a:lnTo>
                                        <a:pt x="38" y="227"/>
                                      </a:lnTo>
                                      <a:lnTo>
                                        <a:pt x="21" y="204"/>
                                      </a:lnTo>
                                      <a:lnTo>
                                        <a:pt x="9" y="183"/>
                                      </a:lnTo>
                                      <a:lnTo>
                                        <a:pt x="3" y="161"/>
                                      </a:lnTo>
                                      <a:lnTo>
                                        <a:pt x="0" y="141"/>
                                      </a:lnTo>
                                      <a:lnTo>
                                        <a:pt x="3" y="125"/>
                                      </a:lnTo>
                                      <a:lnTo>
                                        <a:pt x="8" y="108"/>
                                      </a:lnTo>
                                      <a:lnTo>
                                        <a:pt x="18" y="90"/>
                                      </a:lnTo>
                                      <a:lnTo>
                                        <a:pt x="31" y="73"/>
                                      </a:lnTo>
                                      <a:lnTo>
                                        <a:pt x="48" y="55"/>
                                      </a:lnTo>
                                      <a:close/>
                                    </a:path>
                                  </a:pathLst>
                                </a:custGeom>
                                <a:solidFill>
                                  <a:srgbClr val="ff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grpSp>
                            <p:nvGrpSpPr>
                              <p:cNvPr id="7722" name=""/>
                              <p:cNvGrpSpPr/>
                              <p:nvPr/>
                            </p:nvGrpSpPr>
                            <p:grpSpPr>
                              <a:xfrm>
                                <a:off x="3270960" y="393120"/>
                                <a:ext cx="223200" cy="192960"/>
                                <a:chOff x="3270960" y="393120"/>
                                <a:chExt cx="223200" cy="192960"/>
                              </a:xfrm>
                            </p:grpSpPr>
                            <p:sp>
                              <p:nvSpPr>
                                <p:cNvPr id="7723" name=""/>
                                <p:cNvSpPr/>
                                <p:nvPr/>
                              </p:nvSpPr>
                              <p:spPr>
                                <a:xfrm>
                                  <a:off x="3270960" y="393120"/>
                                  <a:ext cx="223200" cy="19296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535" h="522">
                                      <a:moveTo>
                                        <a:pt x="79" y="71"/>
                                      </a:moveTo>
                                      <a:lnTo>
                                        <a:pt x="106" y="50"/>
                                      </a:lnTo>
                                      <a:lnTo>
                                        <a:pt x="131" y="31"/>
                                      </a:lnTo>
                                      <a:lnTo>
                                        <a:pt x="160" y="16"/>
                                      </a:lnTo>
                                      <a:lnTo>
                                        <a:pt x="194" y="6"/>
                                      </a:lnTo>
                                      <a:lnTo>
                                        <a:pt x="222" y="1"/>
                                      </a:lnTo>
                                      <a:lnTo>
                                        <a:pt x="257" y="0"/>
                                      </a:lnTo>
                                      <a:lnTo>
                                        <a:pt x="305" y="5"/>
                                      </a:lnTo>
                                      <a:lnTo>
                                        <a:pt x="352" y="15"/>
                                      </a:lnTo>
                                      <a:lnTo>
                                        <a:pt x="383" y="34"/>
                                      </a:lnTo>
                                      <a:lnTo>
                                        <a:pt x="404" y="63"/>
                                      </a:lnTo>
                                      <a:lnTo>
                                        <a:pt x="424" y="99"/>
                                      </a:lnTo>
                                      <a:lnTo>
                                        <a:pt x="445" y="132"/>
                                      </a:lnTo>
                                      <a:lnTo>
                                        <a:pt x="470" y="159"/>
                                      </a:lnTo>
                                      <a:lnTo>
                                        <a:pt x="493" y="183"/>
                                      </a:lnTo>
                                      <a:lnTo>
                                        <a:pt x="522" y="217"/>
                                      </a:lnTo>
                                      <a:lnTo>
                                        <a:pt x="533" y="249"/>
                                      </a:lnTo>
                                      <a:lnTo>
                                        <a:pt x="535" y="272"/>
                                      </a:lnTo>
                                      <a:lnTo>
                                        <a:pt x="533" y="286"/>
                                      </a:lnTo>
                                      <a:lnTo>
                                        <a:pt x="526" y="309"/>
                                      </a:lnTo>
                                      <a:lnTo>
                                        <a:pt x="514" y="331"/>
                                      </a:lnTo>
                                      <a:lnTo>
                                        <a:pt x="495" y="354"/>
                                      </a:lnTo>
                                      <a:lnTo>
                                        <a:pt x="473" y="385"/>
                                      </a:lnTo>
                                      <a:lnTo>
                                        <a:pt x="453" y="408"/>
                                      </a:lnTo>
                                      <a:lnTo>
                                        <a:pt x="437" y="433"/>
                                      </a:lnTo>
                                      <a:lnTo>
                                        <a:pt x="430" y="449"/>
                                      </a:lnTo>
                                      <a:lnTo>
                                        <a:pt x="429" y="458"/>
                                      </a:lnTo>
                                      <a:lnTo>
                                        <a:pt x="434" y="465"/>
                                      </a:lnTo>
                                      <a:lnTo>
                                        <a:pt x="442" y="469"/>
                                      </a:lnTo>
                                      <a:lnTo>
                                        <a:pt x="404" y="513"/>
                                      </a:lnTo>
                                      <a:lnTo>
                                        <a:pt x="400" y="505"/>
                                      </a:lnTo>
                                      <a:lnTo>
                                        <a:pt x="378" y="494"/>
                                      </a:lnTo>
                                      <a:lnTo>
                                        <a:pt x="353" y="488"/>
                                      </a:lnTo>
                                      <a:lnTo>
                                        <a:pt x="329" y="486"/>
                                      </a:lnTo>
                                      <a:lnTo>
                                        <a:pt x="303" y="491"/>
                                      </a:lnTo>
                                      <a:lnTo>
                                        <a:pt x="272" y="499"/>
                                      </a:lnTo>
                                      <a:lnTo>
                                        <a:pt x="235" y="511"/>
                                      </a:lnTo>
                                      <a:lnTo>
                                        <a:pt x="206" y="519"/>
                                      </a:lnTo>
                                      <a:lnTo>
                                        <a:pt x="183" y="522"/>
                                      </a:lnTo>
                                      <a:lnTo>
                                        <a:pt x="162" y="520"/>
                                      </a:lnTo>
                                      <a:lnTo>
                                        <a:pt x="141" y="513"/>
                                      </a:lnTo>
                                      <a:lnTo>
                                        <a:pt x="118" y="502"/>
                                      </a:lnTo>
                                      <a:lnTo>
                                        <a:pt x="102" y="487"/>
                                      </a:lnTo>
                                      <a:lnTo>
                                        <a:pt x="83" y="467"/>
                                      </a:lnTo>
                                      <a:lnTo>
                                        <a:pt x="60" y="437"/>
                                      </a:lnTo>
                                      <a:lnTo>
                                        <a:pt x="34" y="397"/>
                                      </a:lnTo>
                                      <a:lnTo>
                                        <a:pt x="15" y="359"/>
                                      </a:lnTo>
                                      <a:lnTo>
                                        <a:pt x="2" y="322"/>
                                      </a:lnTo>
                                      <a:lnTo>
                                        <a:pt x="0" y="297"/>
                                      </a:lnTo>
                                      <a:lnTo>
                                        <a:pt x="3" y="273"/>
                                      </a:lnTo>
                                      <a:lnTo>
                                        <a:pt x="11" y="224"/>
                                      </a:lnTo>
                                      <a:lnTo>
                                        <a:pt x="19" y="170"/>
                                      </a:lnTo>
                                      <a:lnTo>
                                        <a:pt x="36" y="128"/>
                                      </a:lnTo>
                                      <a:lnTo>
                                        <a:pt x="57" y="97"/>
                                      </a:lnTo>
                                      <a:lnTo>
                                        <a:pt x="79" y="71"/>
                                      </a:lnTo>
                                      <a:close/>
                                    </a:path>
                                  </a:pathLst>
                                </a:custGeom>
                                <a:solidFill>
                                  <a:srgbClr val="ff404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7724" name=""/>
                                <p:cNvSpPr/>
                                <p:nvPr/>
                              </p:nvSpPr>
                              <p:spPr>
                                <a:xfrm>
                                  <a:off x="3283560" y="405720"/>
                                  <a:ext cx="194040" cy="16884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466" h="457">
                                      <a:moveTo>
                                        <a:pt x="69" y="63"/>
                                      </a:moveTo>
                                      <a:lnTo>
                                        <a:pt x="91" y="43"/>
                                      </a:lnTo>
                                      <a:lnTo>
                                        <a:pt x="114" y="27"/>
                                      </a:lnTo>
                                      <a:lnTo>
                                        <a:pt x="139" y="14"/>
                                      </a:lnTo>
                                      <a:lnTo>
                                        <a:pt x="168" y="4"/>
                                      </a:lnTo>
                                      <a:lnTo>
                                        <a:pt x="192" y="0"/>
                                      </a:lnTo>
                                      <a:lnTo>
                                        <a:pt x="223" y="0"/>
                                      </a:lnTo>
                                      <a:lnTo>
                                        <a:pt x="265" y="3"/>
                                      </a:lnTo>
                                      <a:lnTo>
                                        <a:pt x="306" y="13"/>
                                      </a:lnTo>
                                      <a:lnTo>
                                        <a:pt x="334" y="30"/>
                                      </a:lnTo>
                                      <a:lnTo>
                                        <a:pt x="352" y="56"/>
                                      </a:lnTo>
                                      <a:lnTo>
                                        <a:pt x="368" y="86"/>
                                      </a:lnTo>
                                      <a:lnTo>
                                        <a:pt x="388" y="115"/>
                                      </a:lnTo>
                                      <a:lnTo>
                                        <a:pt x="409" y="140"/>
                                      </a:lnTo>
                                      <a:lnTo>
                                        <a:pt x="430" y="160"/>
                                      </a:lnTo>
                                      <a:lnTo>
                                        <a:pt x="454" y="190"/>
                                      </a:lnTo>
                                      <a:lnTo>
                                        <a:pt x="465" y="218"/>
                                      </a:lnTo>
                                      <a:lnTo>
                                        <a:pt x="466" y="238"/>
                                      </a:lnTo>
                                      <a:lnTo>
                                        <a:pt x="465" y="251"/>
                                      </a:lnTo>
                                      <a:lnTo>
                                        <a:pt x="458" y="271"/>
                                      </a:lnTo>
                                      <a:lnTo>
                                        <a:pt x="447" y="290"/>
                                      </a:lnTo>
                                      <a:lnTo>
                                        <a:pt x="432" y="311"/>
                                      </a:lnTo>
                                      <a:lnTo>
                                        <a:pt x="411" y="337"/>
                                      </a:lnTo>
                                      <a:lnTo>
                                        <a:pt x="395" y="356"/>
                                      </a:lnTo>
                                      <a:lnTo>
                                        <a:pt x="381" y="379"/>
                                      </a:lnTo>
                                      <a:lnTo>
                                        <a:pt x="374" y="392"/>
                                      </a:lnTo>
                                      <a:lnTo>
                                        <a:pt x="373" y="400"/>
                                      </a:lnTo>
                                      <a:lnTo>
                                        <a:pt x="377" y="406"/>
                                      </a:lnTo>
                                      <a:lnTo>
                                        <a:pt x="385" y="411"/>
                                      </a:lnTo>
                                      <a:lnTo>
                                        <a:pt x="352" y="450"/>
                                      </a:lnTo>
                                      <a:lnTo>
                                        <a:pt x="348" y="442"/>
                                      </a:lnTo>
                                      <a:lnTo>
                                        <a:pt x="328" y="432"/>
                                      </a:lnTo>
                                      <a:lnTo>
                                        <a:pt x="307" y="427"/>
                                      </a:lnTo>
                                      <a:lnTo>
                                        <a:pt x="285" y="425"/>
                                      </a:lnTo>
                                      <a:lnTo>
                                        <a:pt x="264" y="429"/>
                                      </a:lnTo>
                                      <a:lnTo>
                                        <a:pt x="236" y="436"/>
                                      </a:lnTo>
                                      <a:lnTo>
                                        <a:pt x="204" y="447"/>
                                      </a:lnTo>
                                      <a:lnTo>
                                        <a:pt x="179" y="455"/>
                                      </a:lnTo>
                                      <a:lnTo>
                                        <a:pt x="160" y="457"/>
                                      </a:lnTo>
                                      <a:lnTo>
                                        <a:pt x="140" y="456"/>
                                      </a:lnTo>
                                      <a:lnTo>
                                        <a:pt x="122" y="450"/>
                                      </a:lnTo>
                                      <a:lnTo>
                                        <a:pt x="102" y="439"/>
                                      </a:lnTo>
                                      <a:lnTo>
                                        <a:pt x="88" y="426"/>
                                      </a:lnTo>
                                      <a:lnTo>
                                        <a:pt x="72" y="409"/>
                                      </a:lnTo>
                                      <a:lnTo>
                                        <a:pt x="51" y="383"/>
                                      </a:lnTo>
                                      <a:lnTo>
                                        <a:pt x="29" y="348"/>
                                      </a:lnTo>
                                      <a:lnTo>
                                        <a:pt x="12" y="314"/>
                                      </a:lnTo>
                                      <a:lnTo>
                                        <a:pt x="1" y="282"/>
                                      </a:lnTo>
                                      <a:lnTo>
                                        <a:pt x="0" y="260"/>
                                      </a:lnTo>
                                      <a:lnTo>
                                        <a:pt x="2" y="239"/>
                                      </a:lnTo>
                                      <a:lnTo>
                                        <a:pt x="8" y="196"/>
                                      </a:lnTo>
                                      <a:lnTo>
                                        <a:pt x="15" y="149"/>
                                      </a:lnTo>
                                      <a:lnTo>
                                        <a:pt x="31" y="112"/>
                                      </a:lnTo>
                                      <a:lnTo>
                                        <a:pt x="49" y="85"/>
                                      </a:lnTo>
                                      <a:lnTo>
                                        <a:pt x="69" y="63"/>
                                      </a:lnTo>
                                      <a:close/>
                                    </a:path>
                                  </a:pathLst>
                                </a:custGeom>
                                <a:solidFill>
                                  <a:srgbClr val="ff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7725" name=""/>
                                <p:cNvSpPr/>
                                <p:nvPr/>
                              </p:nvSpPr>
                              <p:spPr>
                                <a:xfrm>
                                  <a:off x="3298320" y="422280"/>
                                  <a:ext cx="162720" cy="14184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390" h="383">
                                      <a:moveTo>
                                        <a:pt x="57" y="53"/>
                                      </a:moveTo>
                                      <a:lnTo>
                                        <a:pt x="76" y="36"/>
                                      </a:lnTo>
                                      <a:lnTo>
                                        <a:pt x="95" y="22"/>
                                      </a:lnTo>
                                      <a:lnTo>
                                        <a:pt x="115" y="11"/>
                                      </a:lnTo>
                                      <a:lnTo>
                                        <a:pt x="140" y="3"/>
                                      </a:lnTo>
                                      <a:lnTo>
                                        <a:pt x="160" y="0"/>
                                      </a:lnTo>
                                      <a:lnTo>
                                        <a:pt x="186" y="0"/>
                                      </a:lnTo>
                                      <a:lnTo>
                                        <a:pt x="221" y="2"/>
                                      </a:lnTo>
                                      <a:lnTo>
                                        <a:pt x="256" y="11"/>
                                      </a:lnTo>
                                      <a:lnTo>
                                        <a:pt x="279" y="25"/>
                                      </a:lnTo>
                                      <a:lnTo>
                                        <a:pt x="293" y="47"/>
                                      </a:lnTo>
                                      <a:lnTo>
                                        <a:pt x="308" y="72"/>
                                      </a:lnTo>
                                      <a:lnTo>
                                        <a:pt x="324" y="97"/>
                                      </a:lnTo>
                                      <a:lnTo>
                                        <a:pt x="342" y="117"/>
                                      </a:lnTo>
                                      <a:lnTo>
                                        <a:pt x="359" y="135"/>
                                      </a:lnTo>
                                      <a:lnTo>
                                        <a:pt x="379" y="159"/>
                                      </a:lnTo>
                                      <a:lnTo>
                                        <a:pt x="390" y="183"/>
                                      </a:lnTo>
                                      <a:lnTo>
                                        <a:pt x="390" y="200"/>
                                      </a:lnTo>
                                      <a:lnTo>
                                        <a:pt x="390" y="211"/>
                                      </a:lnTo>
                                      <a:lnTo>
                                        <a:pt x="383" y="227"/>
                                      </a:lnTo>
                                      <a:lnTo>
                                        <a:pt x="373" y="243"/>
                                      </a:lnTo>
                                      <a:lnTo>
                                        <a:pt x="361" y="261"/>
                                      </a:lnTo>
                                      <a:lnTo>
                                        <a:pt x="344" y="282"/>
                                      </a:lnTo>
                                      <a:lnTo>
                                        <a:pt x="330" y="299"/>
                                      </a:lnTo>
                                      <a:lnTo>
                                        <a:pt x="318" y="317"/>
                                      </a:lnTo>
                                      <a:lnTo>
                                        <a:pt x="313" y="329"/>
                                      </a:lnTo>
                                      <a:lnTo>
                                        <a:pt x="312" y="336"/>
                                      </a:lnTo>
                                      <a:lnTo>
                                        <a:pt x="315" y="341"/>
                                      </a:lnTo>
                                      <a:lnTo>
                                        <a:pt x="321" y="345"/>
                                      </a:lnTo>
                                      <a:lnTo>
                                        <a:pt x="293" y="378"/>
                                      </a:lnTo>
                                      <a:lnTo>
                                        <a:pt x="290" y="372"/>
                                      </a:lnTo>
                                      <a:lnTo>
                                        <a:pt x="274" y="362"/>
                                      </a:lnTo>
                                      <a:lnTo>
                                        <a:pt x="257" y="358"/>
                                      </a:lnTo>
                                      <a:lnTo>
                                        <a:pt x="238" y="356"/>
                                      </a:lnTo>
                                      <a:lnTo>
                                        <a:pt x="221" y="360"/>
                                      </a:lnTo>
                                      <a:lnTo>
                                        <a:pt x="197" y="367"/>
                                      </a:lnTo>
                                      <a:lnTo>
                                        <a:pt x="170" y="376"/>
                                      </a:lnTo>
                                      <a:lnTo>
                                        <a:pt x="149" y="382"/>
                                      </a:lnTo>
                                      <a:lnTo>
                                        <a:pt x="133" y="383"/>
                                      </a:lnTo>
                                      <a:lnTo>
                                        <a:pt x="117" y="383"/>
                                      </a:lnTo>
                                      <a:lnTo>
                                        <a:pt x="101" y="378"/>
                                      </a:lnTo>
                                      <a:lnTo>
                                        <a:pt x="85" y="369"/>
                                      </a:lnTo>
                                      <a:lnTo>
                                        <a:pt x="74" y="357"/>
                                      </a:lnTo>
                                      <a:lnTo>
                                        <a:pt x="59" y="343"/>
                                      </a:lnTo>
                                      <a:lnTo>
                                        <a:pt x="42" y="321"/>
                                      </a:lnTo>
                                      <a:lnTo>
                                        <a:pt x="23" y="292"/>
                                      </a:lnTo>
                                      <a:lnTo>
                                        <a:pt x="10" y="265"/>
                                      </a:lnTo>
                                      <a:lnTo>
                                        <a:pt x="0" y="237"/>
                                      </a:lnTo>
                                      <a:lnTo>
                                        <a:pt x="0" y="218"/>
                                      </a:lnTo>
                                      <a:lnTo>
                                        <a:pt x="1" y="200"/>
                                      </a:lnTo>
                                      <a:lnTo>
                                        <a:pt x="6" y="164"/>
                                      </a:lnTo>
                                      <a:lnTo>
                                        <a:pt x="12" y="124"/>
                                      </a:lnTo>
                                      <a:lnTo>
                                        <a:pt x="25" y="94"/>
                                      </a:lnTo>
                                      <a:lnTo>
                                        <a:pt x="41" y="71"/>
                                      </a:lnTo>
                                      <a:lnTo>
                                        <a:pt x="57" y="53"/>
                                      </a:lnTo>
                                      <a:close/>
                                    </a:path>
                                  </a:pathLst>
                                </a:custGeom>
                                <a:solidFill>
                                  <a:srgbClr val="e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7726" name=""/>
                                <p:cNvSpPr/>
                                <p:nvPr/>
                              </p:nvSpPr>
                              <p:spPr>
                                <a:xfrm>
                                  <a:off x="3308760" y="435240"/>
                                  <a:ext cx="147960" cy="13032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357" h="351">
                                      <a:moveTo>
                                        <a:pt x="53" y="47"/>
                                      </a:moveTo>
                                      <a:lnTo>
                                        <a:pt x="70" y="33"/>
                                      </a:lnTo>
                                      <a:lnTo>
                                        <a:pt x="87" y="20"/>
                                      </a:lnTo>
                                      <a:lnTo>
                                        <a:pt x="106" y="10"/>
                                      </a:lnTo>
                                      <a:lnTo>
                                        <a:pt x="128" y="2"/>
                                      </a:lnTo>
                                      <a:lnTo>
                                        <a:pt x="148" y="0"/>
                                      </a:lnTo>
                                      <a:lnTo>
                                        <a:pt x="171" y="0"/>
                                      </a:lnTo>
                                      <a:lnTo>
                                        <a:pt x="203" y="1"/>
                                      </a:lnTo>
                                      <a:lnTo>
                                        <a:pt x="235" y="10"/>
                                      </a:lnTo>
                                      <a:lnTo>
                                        <a:pt x="256" y="23"/>
                                      </a:lnTo>
                                      <a:lnTo>
                                        <a:pt x="269" y="42"/>
                                      </a:lnTo>
                                      <a:lnTo>
                                        <a:pt x="283" y="66"/>
                                      </a:lnTo>
                                      <a:lnTo>
                                        <a:pt x="298" y="89"/>
                                      </a:lnTo>
                                      <a:lnTo>
                                        <a:pt x="313" y="107"/>
                                      </a:lnTo>
                                      <a:lnTo>
                                        <a:pt x="330" y="123"/>
                                      </a:lnTo>
                                      <a:lnTo>
                                        <a:pt x="348" y="146"/>
                                      </a:lnTo>
                                      <a:lnTo>
                                        <a:pt x="357" y="167"/>
                                      </a:lnTo>
                                      <a:lnTo>
                                        <a:pt x="357" y="184"/>
                                      </a:lnTo>
                                      <a:lnTo>
                                        <a:pt x="357" y="193"/>
                                      </a:lnTo>
                                      <a:lnTo>
                                        <a:pt x="352" y="209"/>
                                      </a:lnTo>
                                      <a:lnTo>
                                        <a:pt x="343" y="224"/>
                                      </a:lnTo>
                                      <a:lnTo>
                                        <a:pt x="332" y="238"/>
                                      </a:lnTo>
                                      <a:lnTo>
                                        <a:pt x="315" y="259"/>
                                      </a:lnTo>
                                      <a:lnTo>
                                        <a:pt x="303" y="274"/>
                                      </a:lnTo>
                                      <a:lnTo>
                                        <a:pt x="292" y="292"/>
                                      </a:lnTo>
                                      <a:lnTo>
                                        <a:pt x="288" y="302"/>
                                      </a:lnTo>
                                      <a:lnTo>
                                        <a:pt x="287" y="308"/>
                                      </a:lnTo>
                                      <a:lnTo>
                                        <a:pt x="289" y="313"/>
                                      </a:lnTo>
                                      <a:lnTo>
                                        <a:pt x="295" y="316"/>
                                      </a:lnTo>
                                      <a:lnTo>
                                        <a:pt x="269" y="347"/>
                                      </a:lnTo>
                                      <a:lnTo>
                                        <a:pt x="266" y="341"/>
                                      </a:lnTo>
                                      <a:lnTo>
                                        <a:pt x="252" y="333"/>
                                      </a:lnTo>
                                      <a:lnTo>
                                        <a:pt x="236" y="329"/>
                                      </a:lnTo>
                                      <a:lnTo>
                                        <a:pt x="219" y="327"/>
                                      </a:lnTo>
                                      <a:lnTo>
                                        <a:pt x="203" y="331"/>
                                      </a:lnTo>
                                      <a:lnTo>
                                        <a:pt x="181" y="337"/>
                                      </a:lnTo>
                                      <a:lnTo>
                                        <a:pt x="156" y="345"/>
                                      </a:lnTo>
                                      <a:lnTo>
                                        <a:pt x="136" y="351"/>
                                      </a:lnTo>
                                      <a:lnTo>
                                        <a:pt x="122" y="351"/>
                                      </a:lnTo>
                                      <a:lnTo>
                                        <a:pt x="107" y="351"/>
                                      </a:lnTo>
                                      <a:lnTo>
                                        <a:pt x="93" y="347"/>
                                      </a:lnTo>
                                      <a:lnTo>
                                        <a:pt x="78" y="339"/>
                                      </a:lnTo>
                                      <a:lnTo>
                                        <a:pt x="68" y="327"/>
                                      </a:lnTo>
                                      <a:lnTo>
                                        <a:pt x="55" y="315"/>
                                      </a:lnTo>
                                      <a:lnTo>
                                        <a:pt x="38" y="295"/>
                                      </a:lnTo>
                                      <a:lnTo>
                                        <a:pt x="22" y="268"/>
                                      </a:lnTo>
                                      <a:lnTo>
                                        <a:pt x="10" y="242"/>
                                      </a:lnTo>
                                      <a:lnTo>
                                        <a:pt x="0" y="218"/>
                                      </a:lnTo>
                                      <a:lnTo>
                                        <a:pt x="0" y="200"/>
                                      </a:lnTo>
                                      <a:lnTo>
                                        <a:pt x="0" y="184"/>
                                      </a:lnTo>
                                      <a:lnTo>
                                        <a:pt x="6" y="151"/>
                                      </a:lnTo>
                                      <a:lnTo>
                                        <a:pt x="12" y="114"/>
                                      </a:lnTo>
                                      <a:lnTo>
                                        <a:pt x="23" y="85"/>
                                      </a:lnTo>
                                      <a:lnTo>
                                        <a:pt x="37" y="65"/>
                                      </a:lnTo>
                                      <a:lnTo>
                                        <a:pt x="53" y="47"/>
                                      </a:lnTo>
                                      <a:close/>
                                    </a:path>
                                  </a:pathLst>
                                </a:custGeom>
                                <a:solidFill>
                                  <a:srgbClr val="c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</p:grpSp>
                        <p:grpSp>
                          <p:nvGrpSpPr>
                            <p:cNvPr id="7727" name=""/>
                            <p:cNvGrpSpPr/>
                            <p:nvPr/>
                          </p:nvGrpSpPr>
                          <p:grpSpPr>
                            <a:xfrm>
                              <a:off x="3262680" y="406080"/>
                              <a:ext cx="74880" cy="174600"/>
                              <a:chOff x="3262680" y="406080"/>
                              <a:chExt cx="74880" cy="174600"/>
                            </a:xfrm>
                          </p:grpSpPr>
                          <p:grpSp>
                            <p:nvGrpSpPr>
                              <p:cNvPr id="7728" name=""/>
                              <p:cNvGrpSpPr/>
                              <p:nvPr/>
                            </p:nvGrpSpPr>
                            <p:grpSpPr>
                              <a:xfrm>
                                <a:off x="3278880" y="406080"/>
                                <a:ext cx="41040" cy="41760"/>
                                <a:chOff x="3278880" y="406080"/>
                                <a:chExt cx="41040" cy="41760"/>
                              </a:xfrm>
                            </p:grpSpPr>
                            <p:sp>
                              <p:nvSpPr>
                                <p:cNvPr id="7729" name=""/>
                                <p:cNvSpPr/>
                                <p:nvPr/>
                              </p:nvSpPr>
                              <p:spPr>
                                <a:xfrm>
                                  <a:off x="3278880" y="406080"/>
                                  <a:ext cx="41040" cy="4176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101" h="112">
                                      <a:moveTo>
                                        <a:pt x="16" y="35"/>
                                      </a:moveTo>
                                      <a:lnTo>
                                        <a:pt x="26" y="24"/>
                                      </a:lnTo>
                                      <a:lnTo>
                                        <a:pt x="37" y="16"/>
                                      </a:lnTo>
                                      <a:lnTo>
                                        <a:pt x="49" y="9"/>
                                      </a:lnTo>
                                      <a:lnTo>
                                        <a:pt x="64" y="2"/>
                                      </a:lnTo>
                                      <a:lnTo>
                                        <a:pt x="76" y="0"/>
                                      </a:lnTo>
                                      <a:lnTo>
                                        <a:pt x="86" y="3"/>
                                      </a:lnTo>
                                      <a:lnTo>
                                        <a:pt x="95" y="11"/>
                                      </a:lnTo>
                                      <a:lnTo>
                                        <a:pt x="99" y="22"/>
                                      </a:lnTo>
                                      <a:lnTo>
                                        <a:pt x="101" y="33"/>
                                      </a:lnTo>
                                      <a:lnTo>
                                        <a:pt x="98" y="49"/>
                                      </a:lnTo>
                                      <a:lnTo>
                                        <a:pt x="92" y="63"/>
                                      </a:lnTo>
                                      <a:lnTo>
                                        <a:pt x="84" y="75"/>
                                      </a:lnTo>
                                      <a:lnTo>
                                        <a:pt x="75" y="86"/>
                                      </a:lnTo>
                                      <a:lnTo>
                                        <a:pt x="63" y="97"/>
                                      </a:lnTo>
                                      <a:lnTo>
                                        <a:pt x="50" y="106"/>
                                      </a:lnTo>
                                      <a:lnTo>
                                        <a:pt x="37" y="111"/>
                                      </a:lnTo>
                                      <a:lnTo>
                                        <a:pt x="24" y="112"/>
                                      </a:lnTo>
                                      <a:lnTo>
                                        <a:pt x="13" y="108"/>
                                      </a:lnTo>
                                      <a:lnTo>
                                        <a:pt x="6" y="99"/>
                                      </a:lnTo>
                                      <a:lnTo>
                                        <a:pt x="1" y="89"/>
                                      </a:lnTo>
                                      <a:lnTo>
                                        <a:pt x="0" y="75"/>
                                      </a:lnTo>
                                      <a:lnTo>
                                        <a:pt x="3" y="61"/>
                                      </a:lnTo>
                                      <a:lnTo>
                                        <a:pt x="7" y="50"/>
                                      </a:lnTo>
                                      <a:lnTo>
                                        <a:pt x="16" y="35"/>
                                      </a:lnTo>
                                      <a:close/>
                                    </a:path>
                                  </a:pathLst>
                                </a:custGeom>
                                <a:solidFill>
                                  <a:srgbClr val="8080ff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5040" bIns="-504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7730" name=""/>
                                <p:cNvSpPr/>
                                <p:nvPr/>
                              </p:nvSpPr>
                              <p:spPr>
                                <a:xfrm>
                                  <a:off x="3288960" y="415080"/>
                                  <a:ext cx="20520" cy="2196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54" h="61">
                                      <a:moveTo>
                                        <a:pt x="9" y="18"/>
                                      </a:moveTo>
                                      <a:lnTo>
                                        <a:pt x="14" y="13"/>
                                      </a:lnTo>
                                      <a:lnTo>
                                        <a:pt x="20" y="7"/>
                                      </a:lnTo>
                                      <a:lnTo>
                                        <a:pt x="26" y="4"/>
                                      </a:lnTo>
                                      <a:lnTo>
                                        <a:pt x="34" y="1"/>
                                      </a:lnTo>
                                      <a:lnTo>
                                        <a:pt x="40" y="0"/>
                                      </a:lnTo>
                                      <a:lnTo>
                                        <a:pt x="45" y="1"/>
                                      </a:lnTo>
                                      <a:lnTo>
                                        <a:pt x="51" y="5"/>
                                      </a:lnTo>
                                      <a:lnTo>
                                        <a:pt x="53" y="11"/>
                                      </a:lnTo>
                                      <a:lnTo>
                                        <a:pt x="54" y="17"/>
                                      </a:lnTo>
                                      <a:lnTo>
                                        <a:pt x="53" y="27"/>
                                      </a:lnTo>
                                      <a:lnTo>
                                        <a:pt x="50" y="35"/>
                                      </a:lnTo>
                                      <a:lnTo>
                                        <a:pt x="45" y="41"/>
                                      </a:lnTo>
                                      <a:lnTo>
                                        <a:pt x="40" y="47"/>
                                      </a:lnTo>
                                      <a:lnTo>
                                        <a:pt x="34" y="54"/>
                                      </a:lnTo>
                                      <a:lnTo>
                                        <a:pt x="27" y="58"/>
                                      </a:lnTo>
                                      <a:lnTo>
                                        <a:pt x="20" y="61"/>
                                      </a:lnTo>
                                      <a:lnTo>
                                        <a:pt x="14" y="61"/>
                                      </a:lnTo>
                                      <a:lnTo>
                                        <a:pt x="8" y="59"/>
                                      </a:lnTo>
                                      <a:lnTo>
                                        <a:pt x="3" y="54"/>
                                      </a:lnTo>
                                      <a:lnTo>
                                        <a:pt x="0" y="48"/>
                                      </a:lnTo>
                                      <a:lnTo>
                                        <a:pt x="0" y="41"/>
                                      </a:lnTo>
                                      <a:lnTo>
                                        <a:pt x="1" y="34"/>
                                      </a:lnTo>
                                      <a:lnTo>
                                        <a:pt x="3" y="27"/>
                                      </a:lnTo>
                                      <a:lnTo>
                                        <a:pt x="9" y="18"/>
                                      </a:lnTo>
                                      <a:close/>
                                    </a:path>
                                  </a:pathLst>
                                </a:custGeom>
                                <a:solidFill>
                                  <a:srgbClr val="60006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24840" bIns="-2484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sp>
                            <p:nvSpPr>
                              <p:cNvPr id="7731" name=""/>
                              <p:cNvSpPr/>
                              <p:nvPr/>
                            </p:nvSpPr>
                            <p:spPr>
                              <a:xfrm>
                                <a:off x="3262680" y="490680"/>
                                <a:ext cx="43200" cy="4032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01" h="111">
                                    <a:moveTo>
                                      <a:pt x="85" y="35"/>
                                    </a:moveTo>
                                    <a:lnTo>
                                      <a:pt x="75" y="24"/>
                                    </a:lnTo>
                                    <a:lnTo>
                                      <a:pt x="64" y="15"/>
                                    </a:lnTo>
                                    <a:lnTo>
                                      <a:pt x="52" y="8"/>
                                    </a:lnTo>
                                    <a:lnTo>
                                      <a:pt x="37" y="2"/>
                                    </a:lnTo>
                                    <a:lnTo>
                                      <a:pt x="26" y="0"/>
                                    </a:lnTo>
                                    <a:lnTo>
                                      <a:pt x="15" y="3"/>
                                    </a:lnTo>
                                    <a:lnTo>
                                      <a:pt x="6" y="10"/>
                                    </a:lnTo>
                                    <a:lnTo>
                                      <a:pt x="2" y="22"/>
                                    </a:lnTo>
                                    <a:lnTo>
                                      <a:pt x="0" y="33"/>
                                    </a:lnTo>
                                    <a:lnTo>
                                      <a:pt x="3" y="48"/>
                                    </a:lnTo>
                                    <a:lnTo>
                                      <a:pt x="9" y="63"/>
                                    </a:lnTo>
                                    <a:lnTo>
                                      <a:pt x="17" y="75"/>
                                    </a:lnTo>
                                    <a:lnTo>
                                      <a:pt x="27" y="85"/>
                                    </a:lnTo>
                                    <a:lnTo>
                                      <a:pt x="38" y="95"/>
                                    </a:lnTo>
                                    <a:lnTo>
                                      <a:pt x="51" y="105"/>
                                    </a:lnTo>
                                    <a:lnTo>
                                      <a:pt x="64" y="110"/>
                                    </a:lnTo>
                                    <a:lnTo>
                                      <a:pt x="77" y="111"/>
                                    </a:lnTo>
                                    <a:lnTo>
                                      <a:pt x="88" y="107"/>
                                    </a:lnTo>
                                    <a:lnTo>
                                      <a:pt x="95" y="97"/>
                                    </a:lnTo>
                                    <a:lnTo>
                                      <a:pt x="100" y="87"/>
                                    </a:lnTo>
                                    <a:lnTo>
                                      <a:pt x="101" y="75"/>
                                    </a:lnTo>
                                    <a:lnTo>
                                      <a:pt x="98" y="61"/>
                                    </a:lnTo>
                                    <a:lnTo>
                                      <a:pt x="94" y="49"/>
                                    </a:lnTo>
                                    <a:lnTo>
                                      <a:pt x="85" y="35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a000a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6480" bIns="-648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7732" name=""/>
                              <p:cNvSpPr/>
                              <p:nvPr/>
                            </p:nvSpPr>
                            <p:spPr>
                              <a:xfrm>
                                <a:off x="3299760" y="538200"/>
                                <a:ext cx="37800" cy="4248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91" h="114">
                                    <a:moveTo>
                                      <a:pt x="79" y="37"/>
                                    </a:moveTo>
                                    <a:lnTo>
                                      <a:pt x="71" y="23"/>
                                    </a:lnTo>
                                    <a:lnTo>
                                      <a:pt x="62" y="12"/>
                                    </a:lnTo>
                                    <a:lnTo>
                                      <a:pt x="51" y="4"/>
                                    </a:lnTo>
                                    <a:lnTo>
                                      <a:pt x="37" y="0"/>
                                    </a:lnTo>
                                    <a:lnTo>
                                      <a:pt x="27" y="3"/>
                                    </a:lnTo>
                                    <a:lnTo>
                                      <a:pt x="17" y="11"/>
                                    </a:lnTo>
                                    <a:lnTo>
                                      <a:pt x="7" y="19"/>
                                    </a:lnTo>
                                    <a:lnTo>
                                      <a:pt x="2" y="29"/>
                                    </a:lnTo>
                                    <a:lnTo>
                                      <a:pt x="0" y="38"/>
                                    </a:lnTo>
                                    <a:lnTo>
                                      <a:pt x="1" y="48"/>
                                    </a:lnTo>
                                    <a:lnTo>
                                      <a:pt x="3" y="62"/>
                                    </a:lnTo>
                                    <a:lnTo>
                                      <a:pt x="10" y="77"/>
                                    </a:lnTo>
                                    <a:lnTo>
                                      <a:pt x="18" y="88"/>
                                    </a:lnTo>
                                    <a:lnTo>
                                      <a:pt x="28" y="99"/>
                                    </a:lnTo>
                                    <a:lnTo>
                                      <a:pt x="41" y="108"/>
                                    </a:lnTo>
                                    <a:lnTo>
                                      <a:pt x="54" y="113"/>
                                    </a:lnTo>
                                    <a:lnTo>
                                      <a:pt x="67" y="114"/>
                                    </a:lnTo>
                                    <a:lnTo>
                                      <a:pt x="78" y="110"/>
                                    </a:lnTo>
                                    <a:lnTo>
                                      <a:pt x="85" y="101"/>
                                    </a:lnTo>
                                    <a:lnTo>
                                      <a:pt x="90" y="91"/>
                                    </a:lnTo>
                                    <a:lnTo>
                                      <a:pt x="91" y="77"/>
                                    </a:lnTo>
                                    <a:lnTo>
                                      <a:pt x="88" y="63"/>
                                    </a:lnTo>
                                    <a:lnTo>
                                      <a:pt x="85" y="49"/>
                                    </a:lnTo>
                                    <a:lnTo>
                                      <a:pt x="79" y="37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a000a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4320" bIns="-432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7733" name=""/>
                          <p:cNvGrpSpPr/>
                          <p:nvPr/>
                        </p:nvGrpSpPr>
                        <p:grpSpPr>
                          <a:xfrm>
                            <a:off x="3396600" y="494280"/>
                            <a:ext cx="271800" cy="221400"/>
                            <a:chOff x="3396600" y="494280"/>
                            <a:chExt cx="271800" cy="221400"/>
                          </a:xfrm>
                        </p:grpSpPr>
                        <p:sp>
                          <p:nvSpPr>
                            <p:cNvPr id="7734" name=""/>
                            <p:cNvSpPr/>
                            <p:nvPr/>
                          </p:nvSpPr>
                          <p:spPr>
                            <a:xfrm>
                              <a:off x="3459240" y="547560"/>
                              <a:ext cx="158760" cy="11808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380" h="322">
                                  <a:moveTo>
                                    <a:pt x="10" y="0"/>
                                  </a:moveTo>
                                  <a:lnTo>
                                    <a:pt x="3" y="34"/>
                                  </a:lnTo>
                                  <a:lnTo>
                                    <a:pt x="0" y="61"/>
                                  </a:lnTo>
                                  <a:lnTo>
                                    <a:pt x="6" y="92"/>
                                  </a:lnTo>
                                  <a:lnTo>
                                    <a:pt x="18" y="114"/>
                                  </a:lnTo>
                                  <a:lnTo>
                                    <a:pt x="33" y="127"/>
                                  </a:lnTo>
                                  <a:lnTo>
                                    <a:pt x="59" y="148"/>
                                  </a:lnTo>
                                  <a:lnTo>
                                    <a:pt x="84" y="163"/>
                                  </a:lnTo>
                                  <a:lnTo>
                                    <a:pt x="121" y="179"/>
                                  </a:lnTo>
                                  <a:lnTo>
                                    <a:pt x="161" y="194"/>
                                  </a:lnTo>
                                  <a:lnTo>
                                    <a:pt x="199" y="206"/>
                                  </a:lnTo>
                                  <a:lnTo>
                                    <a:pt x="239" y="219"/>
                                  </a:lnTo>
                                  <a:lnTo>
                                    <a:pt x="268" y="234"/>
                                  </a:lnTo>
                                  <a:lnTo>
                                    <a:pt x="300" y="252"/>
                                  </a:lnTo>
                                  <a:lnTo>
                                    <a:pt x="330" y="273"/>
                                  </a:lnTo>
                                  <a:lnTo>
                                    <a:pt x="355" y="295"/>
                                  </a:lnTo>
                                  <a:lnTo>
                                    <a:pt x="380" y="322"/>
                                  </a:lnTo>
                                </a:path>
                              </a:pathLst>
                            </a:custGeom>
                            <a:noFill/>
                            <a:ln w="4680">
                              <a:solidFill>
                                <a:srgbClr val="ffc0c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7735" name=""/>
                            <p:cNvSpPr/>
                            <p:nvPr/>
                          </p:nvSpPr>
                          <p:spPr>
                            <a:xfrm>
                              <a:off x="3396600" y="569880"/>
                              <a:ext cx="183960" cy="14580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443" h="393">
                                  <a:moveTo>
                                    <a:pt x="0" y="0"/>
                                  </a:moveTo>
                                  <a:lnTo>
                                    <a:pt x="34" y="9"/>
                                  </a:lnTo>
                                  <a:lnTo>
                                    <a:pt x="65" y="18"/>
                                  </a:lnTo>
                                  <a:lnTo>
                                    <a:pt x="95" y="30"/>
                                  </a:lnTo>
                                  <a:lnTo>
                                    <a:pt x="117" y="43"/>
                                  </a:lnTo>
                                  <a:lnTo>
                                    <a:pt x="135" y="65"/>
                                  </a:lnTo>
                                  <a:lnTo>
                                    <a:pt x="150" y="93"/>
                                  </a:lnTo>
                                  <a:lnTo>
                                    <a:pt x="160" y="117"/>
                                  </a:lnTo>
                                  <a:lnTo>
                                    <a:pt x="169" y="148"/>
                                  </a:lnTo>
                                  <a:lnTo>
                                    <a:pt x="180" y="183"/>
                                  </a:lnTo>
                                  <a:lnTo>
                                    <a:pt x="193" y="214"/>
                                  </a:lnTo>
                                  <a:lnTo>
                                    <a:pt x="212" y="242"/>
                                  </a:lnTo>
                                  <a:lnTo>
                                    <a:pt x="233" y="273"/>
                                  </a:lnTo>
                                  <a:lnTo>
                                    <a:pt x="253" y="295"/>
                                  </a:lnTo>
                                  <a:lnTo>
                                    <a:pt x="280" y="316"/>
                                  </a:lnTo>
                                  <a:lnTo>
                                    <a:pt x="309" y="335"/>
                                  </a:lnTo>
                                  <a:lnTo>
                                    <a:pt x="343" y="350"/>
                                  </a:lnTo>
                                  <a:lnTo>
                                    <a:pt x="382" y="368"/>
                                  </a:lnTo>
                                  <a:lnTo>
                                    <a:pt x="415" y="381"/>
                                  </a:lnTo>
                                  <a:lnTo>
                                    <a:pt x="443" y="393"/>
                                  </a:lnTo>
                                </a:path>
                              </a:pathLst>
                            </a:custGeom>
                            <a:noFill/>
                            <a:ln w="4680">
                              <a:solidFill>
                                <a:srgbClr val="ffc0c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7736" name=""/>
                            <p:cNvSpPr/>
                            <p:nvPr/>
                          </p:nvSpPr>
                          <p:spPr>
                            <a:xfrm>
                              <a:off x="3408840" y="494280"/>
                              <a:ext cx="259560" cy="22140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618" h="602">
                                  <a:moveTo>
                                    <a:pt x="0" y="0"/>
                                  </a:moveTo>
                                  <a:lnTo>
                                    <a:pt x="7" y="41"/>
                                  </a:lnTo>
                                  <a:lnTo>
                                    <a:pt x="18" y="82"/>
                                  </a:lnTo>
                                  <a:lnTo>
                                    <a:pt x="35" y="128"/>
                                  </a:lnTo>
                                  <a:lnTo>
                                    <a:pt x="55" y="163"/>
                                  </a:lnTo>
                                  <a:lnTo>
                                    <a:pt x="83" y="202"/>
                                  </a:lnTo>
                                  <a:lnTo>
                                    <a:pt x="104" y="237"/>
                                  </a:lnTo>
                                  <a:lnTo>
                                    <a:pt x="129" y="280"/>
                                  </a:lnTo>
                                  <a:lnTo>
                                    <a:pt x="157" y="328"/>
                                  </a:lnTo>
                                  <a:lnTo>
                                    <a:pt x="176" y="356"/>
                                  </a:lnTo>
                                  <a:lnTo>
                                    <a:pt x="199" y="385"/>
                                  </a:lnTo>
                                  <a:lnTo>
                                    <a:pt x="226" y="415"/>
                                  </a:lnTo>
                                  <a:lnTo>
                                    <a:pt x="260" y="445"/>
                                  </a:lnTo>
                                  <a:lnTo>
                                    <a:pt x="304" y="482"/>
                                  </a:lnTo>
                                  <a:lnTo>
                                    <a:pt x="342" y="512"/>
                                  </a:lnTo>
                                  <a:lnTo>
                                    <a:pt x="385" y="537"/>
                                  </a:lnTo>
                                  <a:lnTo>
                                    <a:pt x="432" y="558"/>
                                  </a:lnTo>
                                  <a:lnTo>
                                    <a:pt x="485" y="578"/>
                                  </a:lnTo>
                                  <a:lnTo>
                                    <a:pt x="525" y="589"/>
                                  </a:lnTo>
                                  <a:lnTo>
                                    <a:pt x="573" y="598"/>
                                  </a:lnTo>
                                  <a:lnTo>
                                    <a:pt x="618" y="602"/>
                                  </a:lnTo>
                                </a:path>
                              </a:pathLst>
                            </a:custGeom>
                            <a:noFill/>
                            <a:ln w="4680">
                              <a:solidFill>
                                <a:srgbClr val="ffc0c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</p:grpSp>
                </p:grpSp>
                <p:grpSp>
                  <p:nvGrpSpPr>
                    <p:cNvPr id="7737" name=""/>
                    <p:cNvGrpSpPr/>
                    <p:nvPr/>
                  </p:nvGrpSpPr>
                  <p:grpSpPr>
                    <a:xfrm>
                      <a:off x="3470400" y="489600"/>
                      <a:ext cx="391320" cy="279720"/>
                      <a:chOff x="3470400" y="489600"/>
                      <a:chExt cx="391320" cy="279720"/>
                    </a:xfrm>
                  </p:grpSpPr>
                  <p:grpSp>
                    <p:nvGrpSpPr>
                      <p:cNvPr id="7738" name=""/>
                      <p:cNvGrpSpPr/>
                      <p:nvPr/>
                    </p:nvGrpSpPr>
                    <p:grpSpPr>
                      <a:xfrm>
                        <a:off x="3619080" y="629640"/>
                        <a:ext cx="238320" cy="139320"/>
                        <a:chOff x="3619080" y="629640"/>
                        <a:chExt cx="238320" cy="139320"/>
                      </a:xfrm>
                    </p:grpSpPr>
                    <p:grpSp>
                      <p:nvGrpSpPr>
                        <p:cNvPr id="7739" name=""/>
                        <p:cNvGrpSpPr/>
                        <p:nvPr/>
                      </p:nvGrpSpPr>
                      <p:grpSpPr>
                        <a:xfrm>
                          <a:off x="3763800" y="629640"/>
                          <a:ext cx="93600" cy="69840"/>
                          <a:chOff x="3763800" y="629640"/>
                          <a:chExt cx="93600" cy="69840"/>
                        </a:xfrm>
                      </p:grpSpPr>
                      <p:sp>
                        <p:nvSpPr>
                          <p:cNvPr id="7740" name=""/>
                          <p:cNvSpPr/>
                          <p:nvPr/>
                        </p:nvSpPr>
                        <p:spPr>
                          <a:xfrm>
                            <a:off x="3803040" y="633240"/>
                            <a:ext cx="10800" cy="3852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7" h="101">
                                <a:moveTo>
                                  <a:pt x="14" y="0"/>
                                </a:moveTo>
                                <a:lnTo>
                                  <a:pt x="21" y="21"/>
                                </a:lnTo>
                                <a:lnTo>
                                  <a:pt x="27" y="51"/>
                                </a:lnTo>
                                <a:lnTo>
                                  <a:pt x="24" y="69"/>
                                </a:lnTo>
                                <a:lnTo>
                                  <a:pt x="11" y="89"/>
                                </a:lnTo>
                                <a:lnTo>
                                  <a:pt x="0" y="101"/>
                                </a:lnTo>
                              </a:path>
                            </a:pathLst>
                          </a:custGeom>
                          <a:noFill/>
                          <a:ln w="3240">
                            <a:solidFill>
                              <a:srgbClr val="8080f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8280" bIns="-828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7741" name=""/>
                          <p:cNvSpPr/>
                          <p:nvPr/>
                        </p:nvSpPr>
                        <p:spPr>
                          <a:xfrm>
                            <a:off x="3763800" y="649800"/>
                            <a:ext cx="51840" cy="496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24" h="137">
                                <a:moveTo>
                                  <a:pt x="0" y="0"/>
                                </a:moveTo>
                                <a:lnTo>
                                  <a:pt x="30" y="5"/>
                                </a:lnTo>
                                <a:lnTo>
                                  <a:pt x="61" y="11"/>
                                </a:lnTo>
                                <a:lnTo>
                                  <a:pt x="75" y="20"/>
                                </a:lnTo>
                                <a:lnTo>
                                  <a:pt x="89" y="40"/>
                                </a:lnTo>
                                <a:lnTo>
                                  <a:pt x="92" y="61"/>
                                </a:lnTo>
                                <a:lnTo>
                                  <a:pt x="104" y="85"/>
                                </a:lnTo>
                                <a:lnTo>
                                  <a:pt x="115" y="109"/>
                                </a:lnTo>
                                <a:lnTo>
                                  <a:pt x="124" y="137"/>
                                </a:lnTo>
                              </a:path>
                            </a:pathLst>
                          </a:custGeom>
                          <a:noFill/>
                          <a:ln w="3240">
                            <a:solidFill>
                              <a:srgbClr val="8080f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2880" bIns="288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7742" name=""/>
                          <p:cNvSpPr/>
                          <p:nvPr/>
                        </p:nvSpPr>
                        <p:spPr>
                          <a:xfrm>
                            <a:off x="3838680" y="629640"/>
                            <a:ext cx="18720" cy="608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45" h="162">
                                <a:moveTo>
                                  <a:pt x="0" y="80"/>
                                </a:moveTo>
                                <a:lnTo>
                                  <a:pt x="2" y="110"/>
                                </a:lnTo>
                                <a:lnTo>
                                  <a:pt x="6" y="138"/>
                                </a:lnTo>
                                <a:lnTo>
                                  <a:pt x="17" y="151"/>
                                </a:lnTo>
                                <a:lnTo>
                                  <a:pt x="45" y="162"/>
                                </a:lnTo>
                                <a:lnTo>
                                  <a:pt x="45" y="0"/>
                                </a:lnTo>
                              </a:path>
                            </a:pathLst>
                          </a:custGeom>
                          <a:noFill/>
                          <a:ln w="3240">
                            <a:solidFill>
                              <a:srgbClr val="8080f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14040" bIns="1404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7743" name=""/>
                        <p:cNvGrpSpPr/>
                        <p:nvPr/>
                      </p:nvGrpSpPr>
                      <p:grpSpPr>
                        <a:xfrm>
                          <a:off x="3619080" y="727200"/>
                          <a:ext cx="126720" cy="41760"/>
                          <a:chOff x="3619080" y="727200"/>
                          <a:chExt cx="126720" cy="41760"/>
                        </a:xfrm>
                      </p:grpSpPr>
                      <p:sp>
                        <p:nvSpPr>
                          <p:cNvPr id="7744" name=""/>
                          <p:cNvSpPr/>
                          <p:nvPr/>
                        </p:nvSpPr>
                        <p:spPr>
                          <a:xfrm>
                            <a:off x="3664800" y="732600"/>
                            <a:ext cx="75240" cy="90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79" h="24">
                                <a:moveTo>
                                  <a:pt x="0" y="0"/>
                                </a:moveTo>
                                <a:lnTo>
                                  <a:pt x="43" y="13"/>
                                </a:lnTo>
                                <a:lnTo>
                                  <a:pt x="80" y="21"/>
                                </a:lnTo>
                                <a:lnTo>
                                  <a:pt x="124" y="24"/>
                                </a:lnTo>
                                <a:lnTo>
                                  <a:pt x="179" y="16"/>
                                </a:lnTo>
                              </a:path>
                            </a:pathLst>
                          </a:custGeom>
                          <a:noFill/>
                          <a:ln w="3240">
                            <a:solidFill>
                              <a:srgbClr val="8080f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7800" bIns="-37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7745" name=""/>
                          <p:cNvSpPr/>
                          <p:nvPr/>
                        </p:nvSpPr>
                        <p:spPr>
                          <a:xfrm>
                            <a:off x="3698280" y="727200"/>
                            <a:ext cx="14400" cy="144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35" h="42">
                                <a:moveTo>
                                  <a:pt x="0" y="0"/>
                                </a:moveTo>
                                <a:lnTo>
                                  <a:pt x="22" y="20"/>
                                </a:lnTo>
                                <a:lnTo>
                                  <a:pt x="35" y="42"/>
                                </a:lnTo>
                              </a:path>
                            </a:pathLst>
                          </a:custGeom>
                          <a:noFill/>
                          <a:ln w="3240">
                            <a:solidFill>
                              <a:srgbClr val="8080f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2400" bIns="-324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7746" name=""/>
                          <p:cNvSpPr/>
                          <p:nvPr/>
                        </p:nvSpPr>
                        <p:spPr>
                          <a:xfrm>
                            <a:off x="3619080" y="756720"/>
                            <a:ext cx="91800" cy="122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20" h="35">
                                <a:moveTo>
                                  <a:pt x="0" y="0"/>
                                </a:moveTo>
                                <a:lnTo>
                                  <a:pt x="57" y="9"/>
                                </a:lnTo>
                                <a:lnTo>
                                  <a:pt x="115" y="16"/>
                                </a:lnTo>
                                <a:lnTo>
                                  <a:pt x="168" y="25"/>
                                </a:lnTo>
                                <a:lnTo>
                                  <a:pt x="220" y="35"/>
                                </a:lnTo>
                              </a:path>
                            </a:pathLst>
                          </a:custGeom>
                          <a:noFill/>
                          <a:ln w="3240">
                            <a:solidFill>
                              <a:srgbClr val="8080f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4560" bIns="-345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7747" name=""/>
                          <p:cNvSpPr/>
                          <p:nvPr/>
                        </p:nvSpPr>
                        <p:spPr>
                          <a:xfrm>
                            <a:off x="3698280" y="754560"/>
                            <a:ext cx="29160" cy="90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66" h="25">
                                <a:moveTo>
                                  <a:pt x="0" y="0"/>
                                </a:moveTo>
                                <a:lnTo>
                                  <a:pt x="31" y="2"/>
                                </a:lnTo>
                                <a:lnTo>
                                  <a:pt x="50" y="8"/>
                                </a:lnTo>
                                <a:lnTo>
                                  <a:pt x="66" y="25"/>
                                </a:lnTo>
                              </a:path>
                            </a:pathLst>
                          </a:custGeom>
                          <a:noFill/>
                          <a:ln w="3240">
                            <a:solidFill>
                              <a:srgbClr val="8080f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7800" bIns="-37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7748" name=""/>
                          <p:cNvSpPr/>
                          <p:nvPr/>
                        </p:nvSpPr>
                        <p:spPr>
                          <a:xfrm>
                            <a:off x="3735720" y="750600"/>
                            <a:ext cx="10080" cy="18000"/>
                          </a:xfrm>
                          <a:prstGeom prst="line">
                            <a:avLst/>
                          </a:prstGeom>
                          <a:ln w="3240">
                            <a:solidFill>
                              <a:srgbClr val="8080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8800" bIns="-28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7749" name=""/>
                      <p:cNvGrpSpPr/>
                      <p:nvPr/>
                    </p:nvGrpSpPr>
                    <p:grpSpPr>
                      <a:xfrm>
                        <a:off x="3470400" y="489600"/>
                        <a:ext cx="391320" cy="279720"/>
                        <a:chOff x="3470400" y="489600"/>
                        <a:chExt cx="391320" cy="279720"/>
                      </a:xfrm>
                    </p:grpSpPr>
                    <p:grpSp>
                      <p:nvGrpSpPr>
                        <p:cNvPr id="7750" name=""/>
                        <p:cNvGrpSpPr/>
                        <p:nvPr/>
                      </p:nvGrpSpPr>
                      <p:grpSpPr>
                        <a:xfrm>
                          <a:off x="3493440" y="506160"/>
                          <a:ext cx="368280" cy="263160"/>
                          <a:chOff x="3493440" y="506160"/>
                          <a:chExt cx="368280" cy="263160"/>
                        </a:xfrm>
                      </p:grpSpPr>
                      <p:sp>
                        <p:nvSpPr>
                          <p:cNvPr id="7751" name=""/>
                          <p:cNvSpPr/>
                          <p:nvPr/>
                        </p:nvSpPr>
                        <p:spPr>
                          <a:xfrm>
                            <a:off x="3493440" y="506160"/>
                            <a:ext cx="368280" cy="2102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877" h="567">
                                <a:moveTo>
                                  <a:pt x="0" y="0"/>
                                </a:moveTo>
                                <a:lnTo>
                                  <a:pt x="35" y="15"/>
                                </a:lnTo>
                                <a:lnTo>
                                  <a:pt x="69" y="25"/>
                                </a:lnTo>
                                <a:lnTo>
                                  <a:pt x="109" y="31"/>
                                </a:lnTo>
                                <a:lnTo>
                                  <a:pt x="142" y="31"/>
                                </a:lnTo>
                                <a:lnTo>
                                  <a:pt x="185" y="34"/>
                                </a:lnTo>
                                <a:lnTo>
                                  <a:pt x="215" y="43"/>
                                </a:lnTo>
                                <a:lnTo>
                                  <a:pt x="244" y="54"/>
                                </a:lnTo>
                                <a:lnTo>
                                  <a:pt x="276" y="76"/>
                                </a:lnTo>
                                <a:lnTo>
                                  <a:pt x="308" y="103"/>
                                </a:lnTo>
                                <a:lnTo>
                                  <a:pt x="350" y="140"/>
                                </a:lnTo>
                                <a:lnTo>
                                  <a:pt x="381" y="167"/>
                                </a:lnTo>
                                <a:lnTo>
                                  <a:pt x="429" y="217"/>
                                </a:lnTo>
                                <a:lnTo>
                                  <a:pt x="481" y="267"/>
                                </a:lnTo>
                                <a:lnTo>
                                  <a:pt x="524" y="312"/>
                                </a:lnTo>
                                <a:lnTo>
                                  <a:pt x="571" y="364"/>
                                </a:lnTo>
                                <a:lnTo>
                                  <a:pt x="621" y="418"/>
                                </a:lnTo>
                                <a:lnTo>
                                  <a:pt x="664" y="458"/>
                                </a:lnTo>
                                <a:lnTo>
                                  <a:pt x="707" y="496"/>
                                </a:lnTo>
                                <a:lnTo>
                                  <a:pt x="744" y="520"/>
                                </a:lnTo>
                                <a:lnTo>
                                  <a:pt x="782" y="540"/>
                                </a:lnTo>
                                <a:lnTo>
                                  <a:pt x="812" y="560"/>
                                </a:lnTo>
                                <a:lnTo>
                                  <a:pt x="833" y="567"/>
                                </a:lnTo>
                                <a:lnTo>
                                  <a:pt x="851" y="563"/>
                                </a:lnTo>
                                <a:lnTo>
                                  <a:pt x="867" y="552"/>
                                </a:lnTo>
                                <a:lnTo>
                                  <a:pt x="876" y="532"/>
                                </a:lnTo>
                                <a:lnTo>
                                  <a:pt x="877" y="492"/>
                                </a:lnTo>
                                <a:lnTo>
                                  <a:pt x="873" y="452"/>
                                </a:lnTo>
                              </a:path>
                            </a:pathLst>
                          </a:custGeom>
                          <a:noFill/>
                          <a:ln w="11160">
                            <a:solidFill>
                              <a:srgbClr val="8080f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7752" name=""/>
                          <p:cNvSpPr/>
                          <p:nvPr/>
                        </p:nvSpPr>
                        <p:spPr>
                          <a:xfrm>
                            <a:off x="3551760" y="516960"/>
                            <a:ext cx="207360" cy="25236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494" h="685">
                                <a:moveTo>
                                  <a:pt x="0" y="0"/>
                                </a:moveTo>
                                <a:lnTo>
                                  <a:pt x="18" y="59"/>
                                </a:lnTo>
                                <a:lnTo>
                                  <a:pt x="37" y="116"/>
                                </a:lnTo>
                                <a:lnTo>
                                  <a:pt x="55" y="155"/>
                                </a:lnTo>
                                <a:lnTo>
                                  <a:pt x="82" y="202"/>
                                </a:lnTo>
                                <a:lnTo>
                                  <a:pt x="119" y="256"/>
                                </a:lnTo>
                                <a:lnTo>
                                  <a:pt x="150" y="299"/>
                                </a:lnTo>
                                <a:lnTo>
                                  <a:pt x="182" y="344"/>
                                </a:lnTo>
                                <a:lnTo>
                                  <a:pt x="219" y="397"/>
                                </a:lnTo>
                                <a:lnTo>
                                  <a:pt x="244" y="431"/>
                                </a:lnTo>
                                <a:lnTo>
                                  <a:pt x="268" y="450"/>
                                </a:lnTo>
                                <a:lnTo>
                                  <a:pt x="299" y="471"/>
                                </a:lnTo>
                                <a:lnTo>
                                  <a:pt x="322" y="489"/>
                                </a:lnTo>
                                <a:lnTo>
                                  <a:pt x="345" y="516"/>
                                </a:lnTo>
                                <a:lnTo>
                                  <a:pt x="376" y="541"/>
                                </a:lnTo>
                                <a:lnTo>
                                  <a:pt x="406" y="565"/>
                                </a:lnTo>
                                <a:lnTo>
                                  <a:pt x="435" y="584"/>
                                </a:lnTo>
                                <a:lnTo>
                                  <a:pt x="465" y="608"/>
                                </a:lnTo>
                                <a:lnTo>
                                  <a:pt x="485" y="627"/>
                                </a:lnTo>
                                <a:lnTo>
                                  <a:pt x="494" y="645"/>
                                </a:lnTo>
                                <a:lnTo>
                                  <a:pt x="491" y="669"/>
                                </a:lnTo>
                                <a:lnTo>
                                  <a:pt x="479" y="675"/>
                                </a:lnTo>
                                <a:lnTo>
                                  <a:pt x="449" y="682"/>
                                </a:lnTo>
                                <a:lnTo>
                                  <a:pt x="420" y="685"/>
                                </a:lnTo>
                                <a:lnTo>
                                  <a:pt x="385" y="684"/>
                                </a:lnTo>
                              </a:path>
                            </a:pathLst>
                          </a:custGeom>
                          <a:noFill/>
                          <a:ln w="11160">
                            <a:solidFill>
                              <a:srgbClr val="8080f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7753" name=""/>
                        <p:cNvGrpSpPr/>
                        <p:nvPr/>
                      </p:nvGrpSpPr>
                      <p:grpSpPr>
                        <a:xfrm>
                          <a:off x="3470400" y="489600"/>
                          <a:ext cx="30960" cy="29160"/>
                          <a:chOff x="3470400" y="489600"/>
                          <a:chExt cx="30960" cy="29160"/>
                        </a:xfrm>
                      </p:grpSpPr>
                      <p:sp>
                        <p:nvSpPr>
                          <p:cNvPr id="7754" name=""/>
                          <p:cNvSpPr/>
                          <p:nvPr/>
                        </p:nvSpPr>
                        <p:spPr>
                          <a:xfrm>
                            <a:off x="3470400" y="489600"/>
                            <a:ext cx="30960" cy="29160"/>
                          </a:xfrm>
                          <a:prstGeom prst="ellipse">
                            <a:avLst/>
                          </a:prstGeom>
                          <a:solidFill>
                            <a:srgbClr val="8080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6280" bIns="-2628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7755" name=""/>
                          <p:cNvSpPr/>
                          <p:nvPr/>
                        </p:nvSpPr>
                        <p:spPr>
                          <a:xfrm>
                            <a:off x="3474360" y="494640"/>
                            <a:ext cx="18720" cy="16560"/>
                          </a:xfrm>
                          <a:prstGeom prst="ellipse">
                            <a:avLst/>
                          </a:prstGeom>
                          <a:solidFill>
                            <a:srgbClr val="40004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4560" bIns="-345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</p:grpSp>
              </p:grpSp>
            </p:grpSp>
            <p:grpSp>
              <p:nvGrpSpPr>
                <p:cNvPr id="7756" name=""/>
                <p:cNvGrpSpPr/>
                <p:nvPr/>
              </p:nvGrpSpPr>
              <p:grpSpPr>
                <a:xfrm>
                  <a:off x="3179520" y="0"/>
                  <a:ext cx="576360" cy="381240"/>
                  <a:chOff x="3179520" y="0"/>
                  <a:chExt cx="576360" cy="381240"/>
                </a:xfrm>
              </p:grpSpPr>
              <p:grpSp>
                <p:nvGrpSpPr>
                  <p:cNvPr id="7757" name=""/>
                  <p:cNvGrpSpPr/>
                  <p:nvPr/>
                </p:nvGrpSpPr>
                <p:grpSpPr>
                  <a:xfrm>
                    <a:off x="3179520" y="0"/>
                    <a:ext cx="434880" cy="336960"/>
                    <a:chOff x="3179520" y="0"/>
                    <a:chExt cx="434880" cy="336960"/>
                  </a:xfrm>
                </p:grpSpPr>
                <p:grpSp>
                  <p:nvGrpSpPr>
                    <p:cNvPr id="7758" name=""/>
                    <p:cNvGrpSpPr/>
                    <p:nvPr/>
                  </p:nvGrpSpPr>
                  <p:grpSpPr>
                    <a:xfrm>
                      <a:off x="3179520" y="65880"/>
                      <a:ext cx="434880" cy="97200"/>
                      <a:chOff x="3179520" y="65880"/>
                      <a:chExt cx="434880" cy="97200"/>
                    </a:xfrm>
                  </p:grpSpPr>
                  <p:grpSp>
                    <p:nvGrpSpPr>
                      <p:cNvPr id="7759" name=""/>
                      <p:cNvGrpSpPr/>
                      <p:nvPr/>
                    </p:nvGrpSpPr>
                    <p:grpSpPr>
                      <a:xfrm>
                        <a:off x="3186000" y="65880"/>
                        <a:ext cx="428400" cy="97200"/>
                        <a:chOff x="3186000" y="65880"/>
                        <a:chExt cx="428400" cy="97200"/>
                      </a:xfrm>
                    </p:grpSpPr>
                    <p:sp>
                      <p:nvSpPr>
                        <p:cNvPr id="7760" name=""/>
                        <p:cNvSpPr/>
                        <p:nvPr/>
                      </p:nvSpPr>
                      <p:spPr>
                        <a:xfrm>
                          <a:off x="3186000" y="65880"/>
                          <a:ext cx="426960" cy="972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020" h="265">
                              <a:moveTo>
                                <a:pt x="1020" y="106"/>
                              </a:moveTo>
                              <a:lnTo>
                                <a:pt x="970" y="100"/>
                              </a:lnTo>
                              <a:lnTo>
                                <a:pt x="913" y="94"/>
                              </a:lnTo>
                              <a:lnTo>
                                <a:pt x="851" y="82"/>
                              </a:lnTo>
                              <a:lnTo>
                                <a:pt x="781" y="69"/>
                              </a:lnTo>
                              <a:lnTo>
                                <a:pt x="712" y="55"/>
                              </a:lnTo>
                              <a:lnTo>
                                <a:pt x="650" y="42"/>
                              </a:lnTo>
                              <a:lnTo>
                                <a:pt x="596" y="33"/>
                              </a:lnTo>
                              <a:lnTo>
                                <a:pt x="538" y="24"/>
                              </a:lnTo>
                              <a:lnTo>
                                <a:pt x="470" y="15"/>
                              </a:lnTo>
                              <a:lnTo>
                                <a:pt x="419" y="5"/>
                              </a:lnTo>
                              <a:lnTo>
                                <a:pt x="367" y="0"/>
                              </a:lnTo>
                              <a:lnTo>
                                <a:pt x="320" y="2"/>
                              </a:lnTo>
                              <a:lnTo>
                                <a:pt x="275" y="8"/>
                              </a:lnTo>
                              <a:lnTo>
                                <a:pt x="214" y="19"/>
                              </a:lnTo>
                              <a:lnTo>
                                <a:pt x="165" y="31"/>
                              </a:lnTo>
                              <a:lnTo>
                                <a:pt x="134" y="41"/>
                              </a:lnTo>
                              <a:lnTo>
                                <a:pt x="99" y="58"/>
                              </a:lnTo>
                              <a:lnTo>
                                <a:pt x="62" y="75"/>
                              </a:lnTo>
                              <a:lnTo>
                                <a:pt x="29" y="94"/>
                              </a:lnTo>
                              <a:lnTo>
                                <a:pt x="0" y="113"/>
                              </a:lnTo>
                              <a:lnTo>
                                <a:pt x="68" y="265"/>
                              </a:lnTo>
                              <a:lnTo>
                                <a:pt x="107" y="250"/>
                              </a:lnTo>
                              <a:lnTo>
                                <a:pt x="141" y="237"/>
                              </a:lnTo>
                              <a:lnTo>
                                <a:pt x="174" y="226"/>
                              </a:lnTo>
                              <a:lnTo>
                                <a:pt x="208" y="217"/>
                              </a:lnTo>
                              <a:lnTo>
                                <a:pt x="248" y="204"/>
                              </a:lnTo>
                              <a:lnTo>
                                <a:pt x="283" y="198"/>
                              </a:lnTo>
                              <a:lnTo>
                                <a:pt x="335" y="193"/>
                              </a:lnTo>
                              <a:lnTo>
                                <a:pt x="404" y="192"/>
                              </a:lnTo>
                              <a:lnTo>
                                <a:pt x="464" y="195"/>
                              </a:lnTo>
                              <a:lnTo>
                                <a:pt x="529" y="195"/>
                              </a:lnTo>
                              <a:lnTo>
                                <a:pt x="578" y="198"/>
                              </a:lnTo>
                              <a:lnTo>
                                <a:pt x="629" y="206"/>
                              </a:lnTo>
                              <a:lnTo>
                                <a:pt x="1020" y="106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0006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grpSp>
                      <p:nvGrpSpPr>
                        <p:cNvPr id="7761" name=""/>
                        <p:cNvGrpSpPr/>
                        <p:nvPr/>
                      </p:nvGrpSpPr>
                      <p:grpSpPr>
                        <a:xfrm>
                          <a:off x="3214800" y="78480"/>
                          <a:ext cx="399600" cy="83520"/>
                          <a:chOff x="3214800" y="78480"/>
                          <a:chExt cx="399600" cy="83520"/>
                        </a:xfrm>
                      </p:grpSpPr>
                      <p:grpSp>
                        <p:nvGrpSpPr>
                          <p:cNvPr id="7762" name=""/>
                          <p:cNvGrpSpPr/>
                          <p:nvPr/>
                        </p:nvGrpSpPr>
                        <p:grpSpPr>
                          <a:xfrm>
                            <a:off x="3214800" y="104040"/>
                            <a:ext cx="399600" cy="57960"/>
                            <a:chOff x="3214800" y="104040"/>
                            <a:chExt cx="399600" cy="57960"/>
                          </a:xfrm>
                        </p:grpSpPr>
                        <p:sp>
                          <p:nvSpPr>
                            <p:cNvPr id="7763" name=""/>
                            <p:cNvSpPr/>
                            <p:nvPr/>
                          </p:nvSpPr>
                          <p:spPr>
                            <a:xfrm>
                              <a:off x="3214800" y="105480"/>
                              <a:ext cx="399600" cy="4896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956" h="134">
                                  <a:moveTo>
                                    <a:pt x="956" y="0"/>
                                  </a:moveTo>
                                  <a:lnTo>
                                    <a:pt x="597" y="47"/>
                                  </a:lnTo>
                                  <a:lnTo>
                                    <a:pt x="535" y="39"/>
                                  </a:lnTo>
                                  <a:lnTo>
                                    <a:pt x="480" y="35"/>
                                  </a:lnTo>
                                  <a:lnTo>
                                    <a:pt x="428" y="34"/>
                                  </a:lnTo>
                                  <a:lnTo>
                                    <a:pt x="374" y="31"/>
                                  </a:lnTo>
                                  <a:lnTo>
                                    <a:pt x="325" y="33"/>
                                  </a:lnTo>
                                  <a:lnTo>
                                    <a:pt x="281" y="35"/>
                                  </a:lnTo>
                                  <a:lnTo>
                                    <a:pt x="242" y="36"/>
                                  </a:lnTo>
                                  <a:lnTo>
                                    <a:pt x="193" y="42"/>
                                  </a:lnTo>
                                  <a:lnTo>
                                    <a:pt x="153" y="51"/>
                                  </a:lnTo>
                                  <a:lnTo>
                                    <a:pt x="114" y="63"/>
                                  </a:lnTo>
                                  <a:lnTo>
                                    <a:pt x="79" y="75"/>
                                  </a:lnTo>
                                  <a:lnTo>
                                    <a:pt x="52" y="85"/>
                                  </a:lnTo>
                                  <a:lnTo>
                                    <a:pt x="23" y="100"/>
                                  </a:lnTo>
                                  <a:lnTo>
                                    <a:pt x="0" y="118"/>
                                  </a:lnTo>
                                  <a:lnTo>
                                    <a:pt x="5" y="134"/>
                                  </a:lnTo>
                                  <a:lnTo>
                                    <a:pt x="43" y="120"/>
                                  </a:lnTo>
                                  <a:lnTo>
                                    <a:pt x="77" y="107"/>
                                  </a:lnTo>
                                  <a:lnTo>
                                    <a:pt x="110" y="96"/>
                                  </a:lnTo>
                                  <a:lnTo>
                                    <a:pt x="144" y="87"/>
                                  </a:lnTo>
                                  <a:lnTo>
                                    <a:pt x="185" y="75"/>
                                  </a:lnTo>
                                  <a:lnTo>
                                    <a:pt x="220" y="68"/>
                                  </a:lnTo>
                                  <a:lnTo>
                                    <a:pt x="271" y="63"/>
                                  </a:lnTo>
                                  <a:lnTo>
                                    <a:pt x="340" y="62"/>
                                  </a:lnTo>
                                  <a:lnTo>
                                    <a:pt x="400" y="65"/>
                                  </a:lnTo>
                                  <a:lnTo>
                                    <a:pt x="465" y="65"/>
                                  </a:lnTo>
                                  <a:lnTo>
                                    <a:pt x="514" y="68"/>
                                  </a:lnTo>
                                  <a:lnTo>
                                    <a:pt x="565" y="77"/>
                                  </a:lnTo>
                                  <a:lnTo>
                                    <a:pt x="956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80008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2160" bIns="216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7764" name=""/>
                            <p:cNvSpPr/>
                            <p:nvPr/>
                          </p:nvSpPr>
                          <p:spPr>
                            <a:xfrm>
                              <a:off x="3214800" y="104040"/>
                              <a:ext cx="399600" cy="5796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956" h="158">
                                  <a:moveTo>
                                    <a:pt x="956" y="0"/>
                                  </a:moveTo>
                                  <a:lnTo>
                                    <a:pt x="597" y="71"/>
                                  </a:lnTo>
                                  <a:lnTo>
                                    <a:pt x="535" y="62"/>
                                  </a:lnTo>
                                  <a:lnTo>
                                    <a:pt x="480" y="58"/>
                                  </a:lnTo>
                                  <a:lnTo>
                                    <a:pt x="428" y="56"/>
                                  </a:lnTo>
                                  <a:lnTo>
                                    <a:pt x="374" y="53"/>
                                  </a:lnTo>
                                  <a:lnTo>
                                    <a:pt x="325" y="55"/>
                                  </a:lnTo>
                                  <a:lnTo>
                                    <a:pt x="281" y="58"/>
                                  </a:lnTo>
                                  <a:lnTo>
                                    <a:pt x="242" y="59"/>
                                  </a:lnTo>
                                  <a:lnTo>
                                    <a:pt x="193" y="66"/>
                                  </a:lnTo>
                                  <a:lnTo>
                                    <a:pt x="153" y="75"/>
                                  </a:lnTo>
                                  <a:lnTo>
                                    <a:pt x="114" y="86"/>
                                  </a:lnTo>
                                  <a:lnTo>
                                    <a:pt x="79" y="98"/>
                                  </a:lnTo>
                                  <a:lnTo>
                                    <a:pt x="52" y="109"/>
                                  </a:lnTo>
                                  <a:lnTo>
                                    <a:pt x="23" y="123"/>
                                  </a:lnTo>
                                  <a:lnTo>
                                    <a:pt x="0" y="141"/>
                                  </a:lnTo>
                                  <a:lnTo>
                                    <a:pt x="5" y="158"/>
                                  </a:lnTo>
                                  <a:lnTo>
                                    <a:pt x="43" y="144"/>
                                  </a:lnTo>
                                  <a:lnTo>
                                    <a:pt x="77" y="130"/>
                                  </a:lnTo>
                                  <a:lnTo>
                                    <a:pt x="110" y="119"/>
                                  </a:lnTo>
                                  <a:lnTo>
                                    <a:pt x="144" y="111"/>
                                  </a:lnTo>
                                  <a:lnTo>
                                    <a:pt x="185" y="98"/>
                                  </a:lnTo>
                                  <a:lnTo>
                                    <a:pt x="220" y="91"/>
                                  </a:lnTo>
                                  <a:lnTo>
                                    <a:pt x="271" y="86"/>
                                  </a:lnTo>
                                  <a:lnTo>
                                    <a:pt x="340" y="85"/>
                                  </a:lnTo>
                                  <a:lnTo>
                                    <a:pt x="400" y="88"/>
                                  </a:lnTo>
                                  <a:lnTo>
                                    <a:pt x="465" y="88"/>
                                  </a:lnTo>
                                  <a:lnTo>
                                    <a:pt x="514" y="91"/>
                                  </a:lnTo>
                                  <a:lnTo>
                                    <a:pt x="565" y="100"/>
                                  </a:lnTo>
                                  <a:lnTo>
                                    <a:pt x="956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40004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11160" bIns="1116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7765" name=""/>
                          <p:cNvSpPr/>
                          <p:nvPr/>
                        </p:nvSpPr>
                        <p:spPr>
                          <a:xfrm>
                            <a:off x="3221280" y="78480"/>
                            <a:ext cx="286560" cy="2916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687" h="78">
                                <a:moveTo>
                                  <a:pt x="0" y="78"/>
                                </a:moveTo>
                                <a:lnTo>
                                  <a:pt x="32" y="62"/>
                                </a:lnTo>
                                <a:lnTo>
                                  <a:pt x="65" y="47"/>
                                </a:lnTo>
                                <a:lnTo>
                                  <a:pt x="111" y="34"/>
                                </a:lnTo>
                                <a:lnTo>
                                  <a:pt x="161" y="20"/>
                                </a:lnTo>
                                <a:lnTo>
                                  <a:pt x="212" y="10"/>
                                </a:lnTo>
                                <a:lnTo>
                                  <a:pt x="256" y="4"/>
                                </a:lnTo>
                                <a:lnTo>
                                  <a:pt x="318" y="0"/>
                                </a:lnTo>
                                <a:lnTo>
                                  <a:pt x="357" y="0"/>
                                </a:lnTo>
                                <a:lnTo>
                                  <a:pt x="414" y="3"/>
                                </a:lnTo>
                                <a:lnTo>
                                  <a:pt x="469" y="10"/>
                                </a:lnTo>
                                <a:lnTo>
                                  <a:pt x="509" y="17"/>
                                </a:lnTo>
                                <a:lnTo>
                                  <a:pt x="556" y="26"/>
                                </a:lnTo>
                                <a:lnTo>
                                  <a:pt x="601" y="38"/>
                                </a:lnTo>
                                <a:lnTo>
                                  <a:pt x="642" y="50"/>
                                </a:lnTo>
                                <a:lnTo>
                                  <a:pt x="687" y="68"/>
                                </a:lnTo>
                              </a:path>
                            </a:pathLst>
                          </a:custGeom>
                          <a:noFill/>
                          <a:ln w="4680">
                            <a:solidFill>
                              <a:srgbClr val="e000e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17640" bIns="-1764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7766" name=""/>
                      <p:cNvGrpSpPr/>
                      <p:nvPr/>
                    </p:nvGrpSpPr>
                    <p:grpSpPr>
                      <a:xfrm>
                        <a:off x="3179520" y="104760"/>
                        <a:ext cx="43560" cy="58320"/>
                        <a:chOff x="3179520" y="104760"/>
                        <a:chExt cx="43560" cy="58320"/>
                      </a:xfrm>
                    </p:grpSpPr>
                    <p:sp>
                      <p:nvSpPr>
                        <p:cNvPr id="7767" name=""/>
                        <p:cNvSpPr/>
                        <p:nvPr/>
                      </p:nvSpPr>
                      <p:spPr>
                        <a:xfrm>
                          <a:off x="3179520" y="104760"/>
                          <a:ext cx="43560" cy="583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06" h="160">
                              <a:moveTo>
                                <a:pt x="24" y="3"/>
                              </a:moveTo>
                              <a:lnTo>
                                <a:pt x="15" y="10"/>
                              </a:lnTo>
                              <a:lnTo>
                                <a:pt x="8" y="18"/>
                              </a:lnTo>
                              <a:lnTo>
                                <a:pt x="3" y="30"/>
                              </a:lnTo>
                              <a:lnTo>
                                <a:pt x="0" y="43"/>
                              </a:lnTo>
                              <a:lnTo>
                                <a:pt x="0" y="59"/>
                              </a:lnTo>
                              <a:lnTo>
                                <a:pt x="1" y="77"/>
                              </a:lnTo>
                              <a:lnTo>
                                <a:pt x="5" y="91"/>
                              </a:lnTo>
                              <a:lnTo>
                                <a:pt x="10" y="104"/>
                              </a:lnTo>
                              <a:lnTo>
                                <a:pt x="15" y="114"/>
                              </a:lnTo>
                              <a:lnTo>
                                <a:pt x="22" y="127"/>
                              </a:lnTo>
                              <a:lnTo>
                                <a:pt x="32" y="138"/>
                              </a:lnTo>
                              <a:lnTo>
                                <a:pt x="42" y="149"/>
                              </a:lnTo>
                              <a:lnTo>
                                <a:pt x="51" y="155"/>
                              </a:lnTo>
                              <a:lnTo>
                                <a:pt x="60" y="159"/>
                              </a:lnTo>
                              <a:lnTo>
                                <a:pt x="70" y="160"/>
                              </a:lnTo>
                              <a:lnTo>
                                <a:pt x="78" y="160"/>
                              </a:lnTo>
                              <a:lnTo>
                                <a:pt x="89" y="156"/>
                              </a:lnTo>
                              <a:lnTo>
                                <a:pt x="96" y="145"/>
                              </a:lnTo>
                              <a:lnTo>
                                <a:pt x="101" y="133"/>
                              </a:lnTo>
                              <a:lnTo>
                                <a:pt x="105" y="116"/>
                              </a:lnTo>
                              <a:lnTo>
                                <a:pt x="106" y="101"/>
                              </a:lnTo>
                              <a:lnTo>
                                <a:pt x="106" y="83"/>
                              </a:lnTo>
                              <a:lnTo>
                                <a:pt x="103" y="68"/>
                              </a:lnTo>
                              <a:lnTo>
                                <a:pt x="99" y="53"/>
                              </a:lnTo>
                              <a:lnTo>
                                <a:pt x="94" y="42"/>
                              </a:lnTo>
                              <a:lnTo>
                                <a:pt x="88" y="32"/>
                              </a:lnTo>
                              <a:lnTo>
                                <a:pt x="78" y="22"/>
                              </a:lnTo>
                              <a:lnTo>
                                <a:pt x="68" y="13"/>
                              </a:lnTo>
                              <a:lnTo>
                                <a:pt x="56" y="5"/>
                              </a:lnTo>
                              <a:lnTo>
                                <a:pt x="46" y="1"/>
                              </a:lnTo>
                              <a:lnTo>
                                <a:pt x="35" y="0"/>
                              </a:lnTo>
                              <a:lnTo>
                                <a:pt x="24" y="3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800080"/>
                        </a:solidFill>
                        <a:ln w="3240">
                          <a:solidFill>
                            <a:srgbClr val="40004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1520" bIns="115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768" name=""/>
                        <p:cNvSpPr/>
                        <p:nvPr/>
                      </p:nvSpPr>
                      <p:spPr>
                        <a:xfrm>
                          <a:off x="3187800" y="113760"/>
                          <a:ext cx="29160" cy="385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71" h="108">
                              <a:moveTo>
                                <a:pt x="16" y="3"/>
                              </a:moveTo>
                              <a:lnTo>
                                <a:pt x="10" y="7"/>
                              </a:lnTo>
                              <a:lnTo>
                                <a:pt x="5" y="13"/>
                              </a:lnTo>
                              <a:lnTo>
                                <a:pt x="2" y="20"/>
                              </a:lnTo>
                              <a:lnTo>
                                <a:pt x="0" y="29"/>
                              </a:lnTo>
                              <a:lnTo>
                                <a:pt x="0" y="40"/>
                              </a:lnTo>
                              <a:lnTo>
                                <a:pt x="0" y="52"/>
                              </a:lnTo>
                              <a:lnTo>
                                <a:pt x="3" y="62"/>
                              </a:lnTo>
                              <a:lnTo>
                                <a:pt x="6" y="71"/>
                              </a:lnTo>
                              <a:lnTo>
                                <a:pt x="10" y="77"/>
                              </a:lnTo>
                              <a:lnTo>
                                <a:pt x="14" y="87"/>
                              </a:lnTo>
                              <a:lnTo>
                                <a:pt x="21" y="94"/>
                              </a:lnTo>
                              <a:lnTo>
                                <a:pt x="28" y="101"/>
                              </a:lnTo>
                              <a:lnTo>
                                <a:pt x="34" y="105"/>
                              </a:lnTo>
                              <a:lnTo>
                                <a:pt x="40" y="108"/>
                              </a:lnTo>
                              <a:lnTo>
                                <a:pt x="47" y="108"/>
                              </a:lnTo>
                              <a:lnTo>
                                <a:pt x="52" y="108"/>
                              </a:lnTo>
                              <a:lnTo>
                                <a:pt x="59" y="106"/>
                              </a:lnTo>
                              <a:lnTo>
                                <a:pt x="64" y="99"/>
                              </a:lnTo>
                              <a:lnTo>
                                <a:pt x="67" y="91"/>
                              </a:lnTo>
                              <a:lnTo>
                                <a:pt x="71" y="78"/>
                              </a:lnTo>
                              <a:lnTo>
                                <a:pt x="71" y="69"/>
                              </a:lnTo>
                              <a:lnTo>
                                <a:pt x="71" y="57"/>
                              </a:lnTo>
                              <a:lnTo>
                                <a:pt x="68" y="46"/>
                              </a:lnTo>
                              <a:lnTo>
                                <a:pt x="66" y="36"/>
                              </a:lnTo>
                              <a:lnTo>
                                <a:pt x="62" y="28"/>
                              </a:lnTo>
                              <a:lnTo>
                                <a:pt x="58" y="22"/>
                              </a:lnTo>
                              <a:lnTo>
                                <a:pt x="52" y="15"/>
                              </a:lnTo>
                              <a:lnTo>
                                <a:pt x="46" y="9"/>
                              </a:lnTo>
                              <a:lnTo>
                                <a:pt x="38" y="4"/>
                              </a:lnTo>
                              <a:lnTo>
                                <a:pt x="31" y="0"/>
                              </a:lnTo>
                              <a:lnTo>
                                <a:pt x="23" y="0"/>
                              </a:lnTo>
                              <a:lnTo>
                                <a:pt x="16" y="3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00060"/>
                        </a:solidFill>
                        <a:ln w="3240">
                          <a:solidFill>
                            <a:srgbClr val="40004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8280" bIns="-82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7769" name=""/>
                    <p:cNvGrpSpPr/>
                    <p:nvPr/>
                  </p:nvGrpSpPr>
                  <p:grpSpPr>
                    <a:xfrm>
                      <a:off x="3305520" y="0"/>
                      <a:ext cx="234000" cy="336960"/>
                      <a:chOff x="3305520" y="0"/>
                      <a:chExt cx="234000" cy="336960"/>
                    </a:xfrm>
                  </p:grpSpPr>
                  <p:grpSp>
                    <p:nvGrpSpPr>
                      <p:cNvPr id="7770" name=""/>
                      <p:cNvGrpSpPr/>
                      <p:nvPr/>
                    </p:nvGrpSpPr>
                    <p:grpSpPr>
                      <a:xfrm>
                        <a:off x="3305520" y="0"/>
                        <a:ext cx="234000" cy="329400"/>
                        <a:chOff x="3305520" y="0"/>
                        <a:chExt cx="234000" cy="329400"/>
                      </a:xfrm>
                    </p:grpSpPr>
                    <p:sp>
                      <p:nvSpPr>
                        <p:cNvPr id="7771" name=""/>
                        <p:cNvSpPr/>
                        <p:nvPr/>
                      </p:nvSpPr>
                      <p:spPr>
                        <a:xfrm>
                          <a:off x="3305520" y="0"/>
                          <a:ext cx="234000" cy="3294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562" h="898">
                              <a:moveTo>
                                <a:pt x="0" y="500"/>
                              </a:moveTo>
                              <a:lnTo>
                                <a:pt x="3" y="451"/>
                              </a:lnTo>
                              <a:lnTo>
                                <a:pt x="13" y="398"/>
                              </a:lnTo>
                              <a:lnTo>
                                <a:pt x="25" y="352"/>
                              </a:lnTo>
                              <a:lnTo>
                                <a:pt x="38" y="305"/>
                              </a:lnTo>
                              <a:lnTo>
                                <a:pt x="53" y="267"/>
                              </a:lnTo>
                              <a:lnTo>
                                <a:pt x="74" y="230"/>
                              </a:lnTo>
                              <a:lnTo>
                                <a:pt x="98" y="199"/>
                              </a:lnTo>
                              <a:lnTo>
                                <a:pt x="127" y="167"/>
                              </a:lnTo>
                              <a:lnTo>
                                <a:pt x="162" y="134"/>
                              </a:lnTo>
                              <a:lnTo>
                                <a:pt x="202" y="103"/>
                              </a:lnTo>
                              <a:lnTo>
                                <a:pt x="245" y="74"/>
                              </a:lnTo>
                              <a:lnTo>
                                <a:pt x="287" y="49"/>
                              </a:lnTo>
                              <a:lnTo>
                                <a:pt x="334" y="29"/>
                              </a:lnTo>
                              <a:lnTo>
                                <a:pt x="376" y="15"/>
                              </a:lnTo>
                              <a:lnTo>
                                <a:pt x="416" y="5"/>
                              </a:lnTo>
                              <a:lnTo>
                                <a:pt x="448" y="0"/>
                              </a:lnTo>
                              <a:lnTo>
                                <a:pt x="463" y="3"/>
                              </a:lnTo>
                              <a:lnTo>
                                <a:pt x="481" y="11"/>
                              </a:lnTo>
                              <a:lnTo>
                                <a:pt x="503" y="24"/>
                              </a:lnTo>
                              <a:lnTo>
                                <a:pt x="527" y="43"/>
                              </a:lnTo>
                              <a:lnTo>
                                <a:pt x="540" y="61"/>
                              </a:lnTo>
                              <a:lnTo>
                                <a:pt x="551" y="82"/>
                              </a:lnTo>
                              <a:lnTo>
                                <a:pt x="559" y="104"/>
                              </a:lnTo>
                              <a:lnTo>
                                <a:pt x="562" y="137"/>
                              </a:lnTo>
                              <a:lnTo>
                                <a:pt x="559" y="167"/>
                              </a:lnTo>
                              <a:lnTo>
                                <a:pt x="551" y="186"/>
                              </a:lnTo>
                              <a:lnTo>
                                <a:pt x="540" y="199"/>
                              </a:lnTo>
                              <a:lnTo>
                                <a:pt x="524" y="208"/>
                              </a:lnTo>
                              <a:lnTo>
                                <a:pt x="496" y="219"/>
                              </a:lnTo>
                              <a:lnTo>
                                <a:pt x="467" y="230"/>
                              </a:lnTo>
                              <a:lnTo>
                                <a:pt x="437" y="244"/>
                              </a:lnTo>
                              <a:lnTo>
                                <a:pt x="401" y="265"/>
                              </a:lnTo>
                              <a:lnTo>
                                <a:pt x="364" y="295"/>
                              </a:lnTo>
                              <a:lnTo>
                                <a:pt x="342" y="320"/>
                              </a:lnTo>
                              <a:lnTo>
                                <a:pt x="323" y="347"/>
                              </a:lnTo>
                              <a:lnTo>
                                <a:pt x="309" y="378"/>
                              </a:lnTo>
                              <a:lnTo>
                                <a:pt x="299" y="413"/>
                              </a:lnTo>
                              <a:lnTo>
                                <a:pt x="297" y="448"/>
                              </a:lnTo>
                              <a:lnTo>
                                <a:pt x="305" y="488"/>
                              </a:lnTo>
                              <a:lnTo>
                                <a:pt x="314" y="525"/>
                              </a:lnTo>
                              <a:lnTo>
                                <a:pt x="326" y="556"/>
                              </a:lnTo>
                              <a:lnTo>
                                <a:pt x="348" y="592"/>
                              </a:lnTo>
                              <a:lnTo>
                                <a:pt x="376" y="633"/>
                              </a:lnTo>
                              <a:lnTo>
                                <a:pt x="406" y="668"/>
                              </a:lnTo>
                              <a:lnTo>
                                <a:pt x="427" y="698"/>
                              </a:lnTo>
                              <a:lnTo>
                                <a:pt x="439" y="729"/>
                              </a:lnTo>
                              <a:lnTo>
                                <a:pt x="207" y="898"/>
                              </a:lnTo>
                              <a:lnTo>
                                <a:pt x="168" y="866"/>
                              </a:lnTo>
                              <a:lnTo>
                                <a:pt x="138" y="827"/>
                              </a:lnTo>
                              <a:lnTo>
                                <a:pt x="109" y="787"/>
                              </a:lnTo>
                              <a:lnTo>
                                <a:pt x="78" y="738"/>
                              </a:lnTo>
                              <a:lnTo>
                                <a:pt x="50" y="687"/>
                              </a:lnTo>
                              <a:lnTo>
                                <a:pt x="31" y="648"/>
                              </a:lnTo>
                              <a:lnTo>
                                <a:pt x="16" y="602"/>
                              </a:lnTo>
                              <a:lnTo>
                                <a:pt x="4" y="549"/>
                              </a:lnTo>
                              <a:lnTo>
                                <a:pt x="0" y="50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80008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grpSp>
                      <p:nvGrpSpPr>
                        <p:cNvPr id="7772" name=""/>
                        <p:cNvGrpSpPr/>
                        <p:nvPr/>
                      </p:nvGrpSpPr>
                      <p:grpSpPr>
                        <a:xfrm>
                          <a:off x="3305520" y="0"/>
                          <a:ext cx="233640" cy="329040"/>
                          <a:chOff x="3305520" y="0"/>
                          <a:chExt cx="233640" cy="329040"/>
                        </a:xfrm>
                      </p:grpSpPr>
                      <p:sp>
                        <p:nvSpPr>
                          <p:cNvPr id="7773" name=""/>
                          <p:cNvSpPr/>
                          <p:nvPr/>
                        </p:nvSpPr>
                        <p:spPr>
                          <a:xfrm>
                            <a:off x="3346920" y="23760"/>
                            <a:ext cx="173160" cy="2574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417" h="703">
                                <a:moveTo>
                                  <a:pt x="124" y="703"/>
                                </a:moveTo>
                                <a:lnTo>
                                  <a:pt x="97" y="668"/>
                                </a:lnTo>
                                <a:lnTo>
                                  <a:pt x="75" y="637"/>
                                </a:lnTo>
                                <a:lnTo>
                                  <a:pt x="58" y="606"/>
                                </a:lnTo>
                                <a:lnTo>
                                  <a:pt x="43" y="573"/>
                                </a:lnTo>
                                <a:lnTo>
                                  <a:pt x="32" y="540"/>
                                </a:lnTo>
                                <a:lnTo>
                                  <a:pt x="23" y="508"/>
                                </a:lnTo>
                                <a:lnTo>
                                  <a:pt x="15" y="480"/>
                                </a:lnTo>
                                <a:lnTo>
                                  <a:pt x="9" y="452"/>
                                </a:lnTo>
                                <a:lnTo>
                                  <a:pt x="5" y="421"/>
                                </a:lnTo>
                                <a:lnTo>
                                  <a:pt x="2" y="398"/>
                                </a:lnTo>
                                <a:lnTo>
                                  <a:pt x="0" y="378"/>
                                </a:lnTo>
                                <a:lnTo>
                                  <a:pt x="2" y="358"/>
                                </a:lnTo>
                                <a:lnTo>
                                  <a:pt x="10" y="329"/>
                                </a:lnTo>
                                <a:lnTo>
                                  <a:pt x="18" y="299"/>
                                </a:lnTo>
                                <a:lnTo>
                                  <a:pt x="29" y="269"/>
                                </a:lnTo>
                                <a:lnTo>
                                  <a:pt x="42" y="242"/>
                                </a:lnTo>
                                <a:lnTo>
                                  <a:pt x="55" y="217"/>
                                </a:lnTo>
                                <a:lnTo>
                                  <a:pt x="71" y="191"/>
                                </a:lnTo>
                                <a:lnTo>
                                  <a:pt x="88" y="168"/>
                                </a:lnTo>
                                <a:lnTo>
                                  <a:pt x="106" y="148"/>
                                </a:lnTo>
                                <a:lnTo>
                                  <a:pt x="124" y="132"/>
                                </a:lnTo>
                                <a:lnTo>
                                  <a:pt x="156" y="108"/>
                                </a:lnTo>
                                <a:lnTo>
                                  <a:pt x="184" y="91"/>
                                </a:lnTo>
                                <a:lnTo>
                                  <a:pt x="219" y="69"/>
                                </a:lnTo>
                                <a:lnTo>
                                  <a:pt x="255" y="51"/>
                                </a:lnTo>
                                <a:lnTo>
                                  <a:pt x="301" y="31"/>
                                </a:lnTo>
                                <a:lnTo>
                                  <a:pt x="342" y="19"/>
                                </a:lnTo>
                                <a:lnTo>
                                  <a:pt x="382" y="9"/>
                                </a:lnTo>
                                <a:lnTo>
                                  <a:pt x="417" y="0"/>
                                </a:lnTo>
                              </a:path>
                            </a:pathLst>
                          </a:custGeom>
                          <a:noFill/>
                          <a:ln w="4680">
                            <a:solidFill>
                              <a:srgbClr val="ff40f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7774" name=""/>
                          <p:cNvSpPr/>
                          <p:nvPr/>
                        </p:nvSpPr>
                        <p:spPr>
                          <a:xfrm>
                            <a:off x="3391200" y="51120"/>
                            <a:ext cx="147960" cy="2152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356" h="585">
                                <a:moveTo>
                                  <a:pt x="6" y="348"/>
                                </a:moveTo>
                                <a:lnTo>
                                  <a:pt x="2" y="319"/>
                                </a:lnTo>
                                <a:lnTo>
                                  <a:pt x="0" y="288"/>
                                </a:lnTo>
                                <a:lnTo>
                                  <a:pt x="2" y="254"/>
                                </a:lnTo>
                                <a:lnTo>
                                  <a:pt x="6" y="229"/>
                                </a:lnTo>
                                <a:lnTo>
                                  <a:pt x="13" y="204"/>
                                </a:lnTo>
                                <a:lnTo>
                                  <a:pt x="24" y="174"/>
                                </a:lnTo>
                                <a:lnTo>
                                  <a:pt x="43" y="146"/>
                                </a:lnTo>
                                <a:lnTo>
                                  <a:pt x="60" y="123"/>
                                </a:lnTo>
                                <a:lnTo>
                                  <a:pt x="78" y="108"/>
                                </a:lnTo>
                                <a:lnTo>
                                  <a:pt x="98" y="89"/>
                                </a:lnTo>
                                <a:lnTo>
                                  <a:pt x="119" y="73"/>
                                </a:lnTo>
                                <a:lnTo>
                                  <a:pt x="145" y="58"/>
                                </a:lnTo>
                                <a:lnTo>
                                  <a:pt x="172" y="42"/>
                                </a:lnTo>
                                <a:lnTo>
                                  <a:pt x="196" y="31"/>
                                </a:lnTo>
                                <a:lnTo>
                                  <a:pt x="221" y="21"/>
                                </a:lnTo>
                                <a:lnTo>
                                  <a:pt x="244" y="14"/>
                                </a:lnTo>
                                <a:lnTo>
                                  <a:pt x="268" y="7"/>
                                </a:lnTo>
                                <a:lnTo>
                                  <a:pt x="297" y="2"/>
                                </a:lnTo>
                                <a:lnTo>
                                  <a:pt x="324" y="1"/>
                                </a:lnTo>
                                <a:lnTo>
                                  <a:pt x="342" y="0"/>
                                </a:lnTo>
                                <a:lnTo>
                                  <a:pt x="356" y="1"/>
                                </a:lnTo>
                                <a:lnTo>
                                  <a:pt x="355" y="17"/>
                                </a:lnTo>
                                <a:lnTo>
                                  <a:pt x="353" y="30"/>
                                </a:lnTo>
                                <a:lnTo>
                                  <a:pt x="339" y="32"/>
                                </a:lnTo>
                                <a:lnTo>
                                  <a:pt x="319" y="37"/>
                                </a:lnTo>
                                <a:lnTo>
                                  <a:pt x="296" y="44"/>
                                </a:lnTo>
                                <a:lnTo>
                                  <a:pt x="270" y="55"/>
                                </a:lnTo>
                                <a:lnTo>
                                  <a:pt x="244" y="66"/>
                                </a:lnTo>
                                <a:lnTo>
                                  <a:pt x="216" y="78"/>
                                </a:lnTo>
                                <a:lnTo>
                                  <a:pt x="187" y="91"/>
                                </a:lnTo>
                                <a:lnTo>
                                  <a:pt x="150" y="113"/>
                                </a:lnTo>
                                <a:lnTo>
                                  <a:pt x="113" y="143"/>
                                </a:lnTo>
                                <a:lnTo>
                                  <a:pt x="91" y="166"/>
                                </a:lnTo>
                                <a:lnTo>
                                  <a:pt x="73" y="194"/>
                                </a:lnTo>
                                <a:lnTo>
                                  <a:pt x="59" y="225"/>
                                </a:lnTo>
                                <a:lnTo>
                                  <a:pt x="49" y="260"/>
                                </a:lnTo>
                                <a:lnTo>
                                  <a:pt x="47" y="295"/>
                                </a:lnTo>
                                <a:lnTo>
                                  <a:pt x="55" y="335"/>
                                </a:lnTo>
                                <a:lnTo>
                                  <a:pt x="64" y="371"/>
                                </a:lnTo>
                                <a:lnTo>
                                  <a:pt x="76" y="402"/>
                                </a:lnTo>
                                <a:lnTo>
                                  <a:pt x="97" y="438"/>
                                </a:lnTo>
                                <a:lnTo>
                                  <a:pt x="125" y="478"/>
                                </a:lnTo>
                                <a:lnTo>
                                  <a:pt x="155" y="514"/>
                                </a:lnTo>
                                <a:lnTo>
                                  <a:pt x="177" y="545"/>
                                </a:lnTo>
                                <a:lnTo>
                                  <a:pt x="198" y="579"/>
                                </a:lnTo>
                                <a:lnTo>
                                  <a:pt x="165" y="585"/>
                                </a:lnTo>
                                <a:lnTo>
                                  <a:pt x="148" y="570"/>
                                </a:lnTo>
                                <a:lnTo>
                                  <a:pt x="130" y="553"/>
                                </a:lnTo>
                                <a:lnTo>
                                  <a:pt x="108" y="535"/>
                                </a:lnTo>
                                <a:lnTo>
                                  <a:pt x="89" y="513"/>
                                </a:lnTo>
                                <a:lnTo>
                                  <a:pt x="67" y="483"/>
                                </a:lnTo>
                                <a:lnTo>
                                  <a:pt x="49" y="454"/>
                                </a:lnTo>
                                <a:lnTo>
                                  <a:pt x="31" y="424"/>
                                </a:lnTo>
                                <a:lnTo>
                                  <a:pt x="19" y="395"/>
                                </a:lnTo>
                                <a:lnTo>
                                  <a:pt x="13" y="376"/>
                                </a:lnTo>
                                <a:lnTo>
                                  <a:pt x="6" y="348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a000a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7775" name=""/>
                          <p:cNvSpPr/>
                          <p:nvPr/>
                        </p:nvSpPr>
                        <p:spPr>
                          <a:xfrm>
                            <a:off x="3409560" y="60480"/>
                            <a:ext cx="129600" cy="20772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308" h="566">
                                <a:moveTo>
                                  <a:pt x="6" y="337"/>
                                </a:moveTo>
                                <a:lnTo>
                                  <a:pt x="2" y="308"/>
                                </a:lnTo>
                                <a:lnTo>
                                  <a:pt x="0" y="278"/>
                                </a:lnTo>
                                <a:lnTo>
                                  <a:pt x="2" y="243"/>
                                </a:lnTo>
                                <a:lnTo>
                                  <a:pt x="6" y="218"/>
                                </a:lnTo>
                                <a:lnTo>
                                  <a:pt x="13" y="194"/>
                                </a:lnTo>
                                <a:lnTo>
                                  <a:pt x="24" y="163"/>
                                </a:lnTo>
                                <a:lnTo>
                                  <a:pt x="43" y="135"/>
                                </a:lnTo>
                                <a:lnTo>
                                  <a:pt x="60" y="113"/>
                                </a:lnTo>
                                <a:lnTo>
                                  <a:pt x="77" y="97"/>
                                </a:lnTo>
                                <a:lnTo>
                                  <a:pt x="98" y="79"/>
                                </a:lnTo>
                                <a:lnTo>
                                  <a:pt x="119" y="62"/>
                                </a:lnTo>
                                <a:lnTo>
                                  <a:pt x="145" y="47"/>
                                </a:lnTo>
                                <a:lnTo>
                                  <a:pt x="172" y="32"/>
                                </a:lnTo>
                                <a:lnTo>
                                  <a:pt x="196" y="20"/>
                                </a:lnTo>
                                <a:lnTo>
                                  <a:pt x="220" y="10"/>
                                </a:lnTo>
                                <a:lnTo>
                                  <a:pt x="242" y="4"/>
                                </a:lnTo>
                                <a:lnTo>
                                  <a:pt x="267" y="0"/>
                                </a:lnTo>
                                <a:lnTo>
                                  <a:pt x="291" y="0"/>
                                </a:lnTo>
                                <a:lnTo>
                                  <a:pt x="308" y="3"/>
                                </a:lnTo>
                                <a:lnTo>
                                  <a:pt x="300" y="22"/>
                                </a:lnTo>
                                <a:lnTo>
                                  <a:pt x="289" y="35"/>
                                </a:lnTo>
                                <a:lnTo>
                                  <a:pt x="273" y="44"/>
                                </a:lnTo>
                                <a:lnTo>
                                  <a:pt x="245" y="55"/>
                                </a:lnTo>
                                <a:lnTo>
                                  <a:pt x="217" y="68"/>
                                </a:lnTo>
                                <a:lnTo>
                                  <a:pt x="187" y="81"/>
                                </a:lnTo>
                                <a:lnTo>
                                  <a:pt x="150" y="102"/>
                                </a:lnTo>
                                <a:lnTo>
                                  <a:pt x="113" y="132"/>
                                </a:lnTo>
                                <a:lnTo>
                                  <a:pt x="91" y="156"/>
                                </a:lnTo>
                                <a:lnTo>
                                  <a:pt x="73" y="183"/>
                                </a:lnTo>
                                <a:lnTo>
                                  <a:pt x="59" y="214"/>
                                </a:lnTo>
                                <a:lnTo>
                                  <a:pt x="49" y="249"/>
                                </a:lnTo>
                                <a:lnTo>
                                  <a:pt x="47" y="284"/>
                                </a:lnTo>
                                <a:lnTo>
                                  <a:pt x="55" y="324"/>
                                </a:lnTo>
                                <a:lnTo>
                                  <a:pt x="64" y="361"/>
                                </a:lnTo>
                                <a:lnTo>
                                  <a:pt x="77" y="392"/>
                                </a:lnTo>
                                <a:lnTo>
                                  <a:pt x="97" y="426"/>
                                </a:lnTo>
                                <a:lnTo>
                                  <a:pt x="125" y="468"/>
                                </a:lnTo>
                                <a:lnTo>
                                  <a:pt x="155" y="503"/>
                                </a:lnTo>
                                <a:lnTo>
                                  <a:pt x="177" y="534"/>
                                </a:lnTo>
                                <a:lnTo>
                                  <a:pt x="189" y="565"/>
                                </a:lnTo>
                                <a:lnTo>
                                  <a:pt x="159" y="566"/>
                                </a:lnTo>
                                <a:lnTo>
                                  <a:pt x="131" y="542"/>
                                </a:lnTo>
                                <a:lnTo>
                                  <a:pt x="108" y="524"/>
                                </a:lnTo>
                                <a:lnTo>
                                  <a:pt x="88" y="502"/>
                                </a:lnTo>
                                <a:lnTo>
                                  <a:pt x="67" y="473"/>
                                </a:lnTo>
                                <a:lnTo>
                                  <a:pt x="49" y="443"/>
                                </a:lnTo>
                                <a:lnTo>
                                  <a:pt x="32" y="413"/>
                                </a:lnTo>
                                <a:lnTo>
                                  <a:pt x="19" y="384"/>
                                </a:lnTo>
                                <a:lnTo>
                                  <a:pt x="13" y="365"/>
                                </a:lnTo>
                                <a:lnTo>
                                  <a:pt x="6" y="337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40004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7776" name=""/>
                          <p:cNvSpPr/>
                          <p:nvPr/>
                        </p:nvSpPr>
                        <p:spPr>
                          <a:xfrm>
                            <a:off x="3305520" y="0"/>
                            <a:ext cx="210600" cy="3290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503" h="898">
                                <a:moveTo>
                                  <a:pt x="0" y="500"/>
                                </a:moveTo>
                                <a:lnTo>
                                  <a:pt x="3" y="451"/>
                                </a:lnTo>
                                <a:lnTo>
                                  <a:pt x="13" y="398"/>
                                </a:lnTo>
                                <a:lnTo>
                                  <a:pt x="25" y="352"/>
                                </a:lnTo>
                                <a:lnTo>
                                  <a:pt x="38" y="305"/>
                                </a:lnTo>
                                <a:lnTo>
                                  <a:pt x="53" y="267"/>
                                </a:lnTo>
                                <a:lnTo>
                                  <a:pt x="74" y="230"/>
                                </a:lnTo>
                                <a:lnTo>
                                  <a:pt x="98" y="199"/>
                                </a:lnTo>
                                <a:lnTo>
                                  <a:pt x="126" y="167"/>
                                </a:lnTo>
                                <a:lnTo>
                                  <a:pt x="162" y="134"/>
                                </a:lnTo>
                                <a:lnTo>
                                  <a:pt x="202" y="103"/>
                                </a:lnTo>
                                <a:lnTo>
                                  <a:pt x="245" y="74"/>
                                </a:lnTo>
                                <a:lnTo>
                                  <a:pt x="287" y="49"/>
                                </a:lnTo>
                                <a:lnTo>
                                  <a:pt x="334" y="29"/>
                                </a:lnTo>
                                <a:lnTo>
                                  <a:pt x="376" y="15"/>
                                </a:lnTo>
                                <a:lnTo>
                                  <a:pt x="415" y="5"/>
                                </a:lnTo>
                                <a:lnTo>
                                  <a:pt x="448" y="0"/>
                                </a:lnTo>
                                <a:lnTo>
                                  <a:pt x="463" y="3"/>
                                </a:lnTo>
                                <a:lnTo>
                                  <a:pt x="481" y="11"/>
                                </a:lnTo>
                                <a:lnTo>
                                  <a:pt x="503" y="24"/>
                                </a:lnTo>
                                <a:lnTo>
                                  <a:pt x="480" y="28"/>
                                </a:lnTo>
                                <a:lnTo>
                                  <a:pt x="452" y="34"/>
                                </a:lnTo>
                                <a:lnTo>
                                  <a:pt x="425" y="40"/>
                                </a:lnTo>
                                <a:lnTo>
                                  <a:pt x="394" y="48"/>
                                </a:lnTo>
                                <a:lnTo>
                                  <a:pt x="370" y="57"/>
                                </a:lnTo>
                                <a:lnTo>
                                  <a:pt x="345" y="68"/>
                                </a:lnTo>
                                <a:lnTo>
                                  <a:pt x="319" y="82"/>
                                </a:lnTo>
                                <a:lnTo>
                                  <a:pt x="295" y="95"/>
                                </a:lnTo>
                                <a:lnTo>
                                  <a:pt x="272" y="108"/>
                                </a:lnTo>
                                <a:lnTo>
                                  <a:pt x="248" y="124"/>
                                </a:lnTo>
                                <a:lnTo>
                                  <a:pt x="222" y="141"/>
                                </a:lnTo>
                                <a:lnTo>
                                  <a:pt x="199" y="158"/>
                                </a:lnTo>
                                <a:lnTo>
                                  <a:pt x="177" y="174"/>
                                </a:lnTo>
                                <a:lnTo>
                                  <a:pt x="159" y="190"/>
                                </a:lnTo>
                                <a:lnTo>
                                  <a:pt x="141" y="210"/>
                                </a:lnTo>
                                <a:lnTo>
                                  <a:pt x="127" y="230"/>
                                </a:lnTo>
                                <a:lnTo>
                                  <a:pt x="115" y="254"/>
                                </a:lnTo>
                                <a:lnTo>
                                  <a:pt x="98" y="282"/>
                                </a:lnTo>
                                <a:lnTo>
                                  <a:pt x="84" y="308"/>
                                </a:lnTo>
                                <a:lnTo>
                                  <a:pt x="75" y="332"/>
                                </a:lnTo>
                                <a:lnTo>
                                  <a:pt x="67" y="354"/>
                                </a:lnTo>
                                <a:lnTo>
                                  <a:pt x="61" y="377"/>
                                </a:lnTo>
                                <a:lnTo>
                                  <a:pt x="56" y="402"/>
                                </a:lnTo>
                                <a:lnTo>
                                  <a:pt x="51" y="426"/>
                                </a:lnTo>
                                <a:lnTo>
                                  <a:pt x="48" y="457"/>
                                </a:lnTo>
                                <a:lnTo>
                                  <a:pt x="47" y="491"/>
                                </a:lnTo>
                                <a:lnTo>
                                  <a:pt x="48" y="519"/>
                                </a:lnTo>
                                <a:lnTo>
                                  <a:pt x="51" y="546"/>
                                </a:lnTo>
                                <a:lnTo>
                                  <a:pt x="59" y="575"/>
                                </a:lnTo>
                                <a:lnTo>
                                  <a:pt x="66" y="602"/>
                                </a:lnTo>
                                <a:lnTo>
                                  <a:pt x="76" y="628"/>
                                </a:lnTo>
                                <a:lnTo>
                                  <a:pt x="89" y="652"/>
                                </a:lnTo>
                                <a:lnTo>
                                  <a:pt x="103" y="676"/>
                                </a:lnTo>
                                <a:lnTo>
                                  <a:pt x="118" y="703"/>
                                </a:lnTo>
                                <a:lnTo>
                                  <a:pt x="133" y="731"/>
                                </a:lnTo>
                                <a:lnTo>
                                  <a:pt x="149" y="759"/>
                                </a:lnTo>
                                <a:lnTo>
                                  <a:pt x="166" y="785"/>
                                </a:lnTo>
                                <a:lnTo>
                                  <a:pt x="182" y="810"/>
                                </a:lnTo>
                                <a:lnTo>
                                  <a:pt x="203" y="839"/>
                                </a:lnTo>
                                <a:lnTo>
                                  <a:pt x="224" y="865"/>
                                </a:lnTo>
                                <a:lnTo>
                                  <a:pt x="214" y="883"/>
                                </a:lnTo>
                                <a:lnTo>
                                  <a:pt x="207" y="898"/>
                                </a:lnTo>
                                <a:lnTo>
                                  <a:pt x="188" y="884"/>
                                </a:lnTo>
                                <a:lnTo>
                                  <a:pt x="161" y="858"/>
                                </a:lnTo>
                                <a:lnTo>
                                  <a:pt x="136" y="827"/>
                                </a:lnTo>
                                <a:lnTo>
                                  <a:pt x="109" y="787"/>
                                </a:lnTo>
                                <a:lnTo>
                                  <a:pt x="78" y="738"/>
                                </a:lnTo>
                                <a:lnTo>
                                  <a:pt x="50" y="687"/>
                                </a:lnTo>
                                <a:lnTo>
                                  <a:pt x="31" y="648"/>
                                </a:lnTo>
                                <a:lnTo>
                                  <a:pt x="16" y="602"/>
                                </a:lnTo>
                                <a:lnTo>
                                  <a:pt x="4" y="549"/>
                                </a:lnTo>
                                <a:lnTo>
                                  <a:pt x="0" y="50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e000e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7777" name=""/>
                      <p:cNvGrpSpPr/>
                      <p:nvPr/>
                    </p:nvGrpSpPr>
                    <p:grpSpPr>
                      <a:xfrm>
                        <a:off x="3389040" y="259560"/>
                        <a:ext cx="101880" cy="77400"/>
                        <a:chOff x="3389040" y="259560"/>
                        <a:chExt cx="101880" cy="77400"/>
                      </a:xfrm>
                    </p:grpSpPr>
                    <p:sp>
                      <p:nvSpPr>
                        <p:cNvPr id="7778" name=""/>
                        <p:cNvSpPr/>
                        <p:nvPr/>
                      </p:nvSpPr>
                      <p:spPr>
                        <a:xfrm>
                          <a:off x="3389040" y="259560"/>
                          <a:ext cx="101880" cy="774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44" h="210">
                              <a:moveTo>
                                <a:pt x="238" y="16"/>
                              </a:moveTo>
                              <a:lnTo>
                                <a:pt x="223" y="7"/>
                              </a:lnTo>
                              <a:lnTo>
                                <a:pt x="202" y="1"/>
                              </a:lnTo>
                              <a:lnTo>
                                <a:pt x="183" y="0"/>
                              </a:lnTo>
                              <a:lnTo>
                                <a:pt x="165" y="1"/>
                              </a:lnTo>
                              <a:lnTo>
                                <a:pt x="144" y="7"/>
                              </a:lnTo>
                              <a:lnTo>
                                <a:pt x="122" y="14"/>
                              </a:lnTo>
                              <a:lnTo>
                                <a:pt x="101" y="25"/>
                              </a:lnTo>
                              <a:lnTo>
                                <a:pt x="79" y="37"/>
                              </a:lnTo>
                              <a:lnTo>
                                <a:pt x="57" y="54"/>
                              </a:lnTo>
                              <a:lnTo>
                                <a:pt x="33" y="78"/>
                              </a:lnTo>
                              <a:lnTo>
                                <a:pt x="20" y="101"/>
                              </a:lnTo>
                              <a:lnTo>
                                <a:pt x="11" y="120"/>
                              </a:lnTo>
                              <a:lnTo>
                                <a:pt x="5" y="141"/>
                              </a:lnTo>
                              <a:lnTo>
                                <a:pt x="0" y="162"/>
                              </a:lnTo>
                              <a:lnTo>
                                <a:pt x="3" y="182"/>
                              </a:lnTo>
                              <a:lnTo>
                                <a:pt x="11" y="197"/>
                              </a:lnTo>
                              <a:lnTo>
                                <a:pt x="27" y="203"/>
                              </a:lnTo>
                              <a:lnTo>
                                <a:pt x="45" y="209"/>
                              </a:lnTo>
                              <a:lnTo>
                                <a:pt x="66" y="210"/>
                              </a:lnTo>
                              <a:lnTo>
                                <a:pt x="94" y="206"/>
                              </a:lnTo>
                              <a:lnTo>
                                <a:pt x="122" y="194"/>
                              </a:lnTo>
                              <a:lnTo>
                                <a:pt x="150" y="179"/>
                              </a:lnTo>
                              <a:lnTo>
                                <a:pt x="178" y="156"/>
                              </a:lnTo>
                              <a:lnTo>
                                <a:pt x="201" y="133"/>
                              </a:lnTo>
                              <a:lnTo>
                                <a:pt x="221" y="108"/>
                              </a:lnTo>
                              <a:lnTo>
                                <a:pt x="236" y="83"/>
                              </a:lnTo>
                              <a:lnTo>
                                <a:pt x="242" y="59"/>
                              </a:lnTo>
                              <a:lnTo>
                                <a:pt x="244" y="34"/>
                              </a:lnTo>
                              <a:lnTo>
                                <a:pt x="238" y="16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a000a0"/>
                        </a:solidFill>
                        <a:ln w="3240">
                          <a:solidFill>
                            <a:srgbClr val="20002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30600" bIns="306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779" name=""/>
                        <p:cNvSpPr/>
                        <p:nvPr/>
                      </p:nvSpPr>
                      <p:spPr>
                        <a:xfrm>
                          <a:off x="3401640" y="270720"/>
                          <a:ext cx="77040" cy="568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82" h="155">
                              <a:moveTo>
                                <a:pt x="178" y="11"/>
                              </a:moveTo>
                              <a:lnTo>
                                <a:pt x="167" y="4"/>
                              </a:lnTo>
                              <a:lnTo>
                                <a:pt x="152" y="0"/>
                              </a:lnTo>
                              <a:lnTo>
                                <a:pt x="137" y="0"/>
                              </a:lnTo>
                              <a:lnTo>
                                <a:pt x="124" y="0"/>
                              </a:lnTo>
                              <a:lnTo>
                                <a:pt x="108" y="4"/>
                              </a:lnTo>
                              <a:lnTo>
                                <a:pt x="91" y="9"/>
                              </a:lnTo>
                              <a:lnTo>
                                <a:pt x="76" y="18"/>
                              </a:lnTo>
                              <a:lnTo>
                                <a:pt x="60" y="27"/>
                              </a:lnTo>
                              <a:lnTo>
                                <a:pt x="42" y="39"/>
                              </a:lnTo>
                              <a:lnTo>
                                <a:pt x="25" y="57"/>
                              </a:lnTo>
                              <a:lnTo>
                                <a:pt x="15" y="74"/>
                              </a:lnTo>
                              <a:lnTo>
                                <a:pt x="9" y="89"/>
                              </a:lnTo>
                              <a:lnTo>
                                <a:pt x="3" y="104"/>
                              </a:lnTo>
                              <a:lnTo>
                                <a:pt x="0" y="120"/>
                              </a:lnTo>
                              <a:lnTo>
                                <a:pt x="2" y="134"/>
                              </a:lnTo>
                              <a:lnTo>
                                <a:pt x="9" y="147"/>
                              </a:lnTo>
                              <a:lnTo>
                                <a:pt x="21" y="151"/>
                              </a:lnTo>
                              <a:lnTo>
                                <a:pt x="33" y="155"/>
                              </a:lnTo>
                              <a:lnTo>
                                <a:pt x="49" y="155"/>
                              </a:lnTo>
                              <a:lnTo>
                                <a:pt x="70" y="153"/>
                              </a:lnTo>
                              <a:lnTo>
                                <a:pt x="91" y="144"/>
                              </a:lnTo>
                              <a:lnTo>
                                <a:pt x="113" y="132"/>
                              </a:lnTo>
                              <a:lnTo>
                                <a:pt x="133" y="116"/>
                              </a:lnTo>
                              <a:lnTo>
                                <a:pt x="151" y="99"/>
                              </a:lnTo>
                              <a:lnTo>
                                <a:pt x="165" y="80"/>
                              </a:lnTo>
                              <a:lnTo>
                                <a:pt x="177" y="62"/>
                              </a:lnTo>
                              <a:lnTo>
                                <a:pt x="181" y="43"/>
                              </a:lnTo>
                              <a:lnTo>
                                <a:pt x="182" y="25"/>
                              </a:lnTo>
                              <a:lnTo>
                                <a:pt x="178" y="11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00060"/>
                        </a:solidFill>
                        <a:ln w="3240">
                          <a:solidFill>
                            <a:srgbClr val="20002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0080" bIns="100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</p:grpSp>
              <p:grpSp>
                <p:nvGrpSpPr>
                  <p:cNvPr id="7780" name=""/>
                  <p:cNvGrpSpPr/>
                  <p:nvPr/>
                </p:nvGrpSpPr>
                <p:grpSpPr>
                  <a:xfrm>
                    <a:off x="3305520" y="103320"/>
                    <a:ext cx="450360" cy="277920"/>
                    <a:chOff x="3305520" y="103320"/>
                    <a:chExt cx="450360" cy="277920"/>
                  </a:xfrm>
                </p:grpSpPr>
                <p:grpSp>
                  <p:nvGrpSpPr>
                    <p:cNvPr id="7781" name=""/>
                    <p:cNvGrpSpPr/>
                    <p:nvPr/>
                  </p:nvGrpSpPr>
                  <p:grpSpPr>
                    <a:xfrm>
                      <a:off x="3305520" y="103320"/>
                      <a:ext cx="450360" cy="257760"/>
                      <a:chOff x="3305520" y="103320"/>
                      <a:chExt cx="450360" cy="257760"/>
                    </a:xfrm>
                  </p:grpSpPr>
                  <p:sp>
                    <p:nvSpPr>
                      <p:cNvPr id="7782" name=""/>
                      <p:cNvSpPr/>
                      <p:nvPr/>
                    </p:nvSpPr>
                    <p:spPr>
                      <a:xfrm>
                        <a:off x="3305520" y="103320"/>
                        <a:ext cx="450360" cy="257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73" h="702">
                            <a:moveTo>
                              <a:pt x="680" y="5"/>
                            </a:moveTo>
                            <a:lnTo>
                              <a:pt x="713" y="1"/>
                            </a:lnTo>
                            <a:lnTo>
                              <a:pt x="751" y="0"/>
                            </a:lnTo>
                            <a:lnTo>
                              <a:pt x="789" y="1"/>
                            </a:lnTo>
                            <a:lnTo>
                              <a:pt x="835" y="4"/>
                            </a:lnTo>
                            <a:lnTo>
                              <a:pt x="876" y="6"/>
                            </a:lnTo>
                            <a:lnTo>
                              <a:pt x="911" y="8"/>
                            </a:lnTo>
                            <a:lnTo>
                              <a:pt x="947" y="11"/>
                            </a:lnTo>
                            <a:lnTo>
                              <a:pt x="975" y="14"/>
                            </a:lnTo>
                            <a:lnTo>
                              <a:pt x="999" y="20"/>
                            </a:lnTo>
                            <a:lnTo>
                              <a:pt x="1019" y="27"/>
                            </a:lnTo>
                            <a:lnTo>
                              <a:pt x="1035" y="37"/>
                            </a:lnTo>
                            <a:lnTo>
                              <a:pt x="1046" y="46"/>
                            </a:lnTo>
                            <a:lnTo>
                              <a:pt x="1058" y="58"/>
                            </a:lnTo>
                            <a:lnTo>
                              <a:pt x="1065" y="69"/>
                            </a:lnTo>
                            <a:lnTo>
                              <a:pt x="1070" y="87"/>
                            </a:lnTo>
                            <a:lnTo>
                              <a:pt x="1073" y="102"/>
                            </a:lnTo>
                            <a:lnTo>
                              <a:pt x="1072" y="122"/>
                            </a:lnTo>
                            <a:lnTo>
                              <a:pt x="1067" y="142"/>
                            </a:lnTo>
                            <a:lnTo>
                              <a:pt x="1062" y="155"/>
                            </a:lnTo>
                            <a:lnTo>
                              <a:pt x="1054" y="167"/>
                            </a:lnTo>
                            <a:lnTo>
                              <a:pt x="1043" y="175"/>
                            </a:lnTo>
                            <a:lnTo>
                              <a:pt x="1034" y="181"/>
                            </a:lnTo>
                            <a:lnTo>
                              <a:pt x="1024" y="186"/>
                            </a:lnTo>
                            <a:lnTo>
                              <a:pt x="1008" y="188"/>
                            </a:lnTo>
                            <a:lnTo>
                              <a:pt x="985" y="187"/>
                            </a:lnTo>
                            <a:lnTo>
                              <a:pt x="961" y="186"/>
                            </a:lnTo>
                            <a:lnTo>
                              <a:pt x="935" y="188"/>
                            </a:lnTo>
                            <a:lnTo>
                              <a:pt x="913" y="189"/>
                            </a:lnTo>
                            <a:lnTo>
                              <a:pt x="886" y="190"/>
                            </a:lnTo>
                            <a:lnTo>
                              <a:pt x="860" y="190"/>
                            </a:lnTo>
                            <a:lnTo>
                              <a:pt x="832" y="188"/>
                            </a:lnTo>
                            <a:lnTo>
                              <a:pt x="801" y="188"/>
                            </a:lnTo>
                            <a:lnTo>
                              <a:pt x="771" y="186"/>
                            </a:lnTo>
                            <a:lnTo>
                              <a:pt x="745" y="188"/>
                            </a:lnTo>
                            <a:lnTo>
                              <a:pt x="714" y="190"/>
                            </a:lnTo>
                            <a:lnTo>
                              <a:pt x="682" y="192"/>
                            </a:lnTo>
                            <a:lnTo>
                              <a:pt x="655" y="198"/>
                            </a:lnTo>
                            <a:lnTo>
                              <a:pt x="627" y="207"/>
                            </a:lnTo>
                            <a:lnTo>
                              <a:pt x="600" y="216"/>
                            </a:lnTo>
                            <a:lnTo>
                              <a:pt x="570" y="227"/>
                            </a:lnTo>
                            <a:lnTo>
                              <a:pt x="541" y="238"/>
                            </a:lnTo>
                            <a:lnTo>
                              <a:pt x="517" y="248"/>
                            </a:lnTo>
                            <a:lnTo>
                              <a:pt x="489" y="259"/>
                            </a:lnTo>
                            <a:lnTo>
                              <a:pt x="467" y="272"/>
                            </a:lnTo>
                            <a:lnTo>
                              <a:pt x="447" y="283"/>
                            </a:lnTo>
                            <a:lnTo>
                              <a:pt x="426" y="295"/>
                            </a:lnTo>
                            <a:lnTo>
                              <a:pt x="404" y="308"/>
                            </a:lnTo>
                            <a:lnTo>
                              <a:pt x="387" y="324"/>
                            </a:lnTo>
                            <a:lnTo>
                              <a:pt x="366" y="346"/>
                            </a:lnTo>
                            <a:lnTo>
                              <a:pt x="350" y="365"/>
                            </a:lnTo>
                            <a:lnTo>
                              <a:pt x="335" y="381"/>
                            </a:lnTo>
                            <a:lnTo>
                              <a:pt x="319" y="403"/>
                            </a:lnTo>
                            <a:lnTo>
                              <a:pt x="307" y="424"/>
                            </a:lnTo>
                            <a:lnTo>
                              <a:pt x="295" y="448"/>
                            </a:lnTo>
                            <a:lnTo>
                              <a:pt x="283" y="470"/>
                            </a:lnTo>
                            <a:lnTo>
                              <a:pt x="273" y="494"/>
                            </a:lnTo>
                            <a:lnTo>
                              <a:pt x="268" y="517"/>
                            </a:lnTo>
                            <a:lnTo>
                              <a:pt x="262" y="539"/>
                            </a:lnTo>
                            <a:lnTo>
                              <a:pt x="258" y="564"/>
                            </a:lnTo>
                            <a:lnTo>
                              <a:pt x="255" y="587"/>
                            </a:lnTo>
                            <a:lnTo>
                              <a:pt x="252" y="617"/>
                            </a:lnTo>
                            <a:lnTo>
                              <a:pt x="251" y="645"/>
                            </a:lnTo>
                            <a:lnTo>
                              <a:pt x="250" y="672"/>
                            </a:lnTo>
                            <a:lnTo>
                              <a:pt x="248" y="702"/>
                            </a:lnTo>
                            <a:lnTo>
                              <a:pt x="5" y="700"/>
                            </a:lnTo>
                            <a:lnTo>
                              <a:pt x="1" y="675"/>
                            </a:lnTo>
                            <a:lnTo>
                              <a:pt x="0" y="651"/>
                            </a:lnTo>
                            <a:lnTo>
                              <a:pt x="2" y="623"/>
                            </a:lnTo>
                            <a:lnTo>
                              <a:pt x="5" y="589"/>
                            </a:lnTo>
                            <a:lnTo>
                              <a:pt x="8" y="558"/>
                            </a:lnTo>
                            <a:lnTo>
                              <a:pt x="11" y="533"/>
                            </a:lnTo>
                            <a:lnTo>
                              <a:pt x="17" y="509"/>
                            </a:lnTo>
                            <a:lnTo>
                              <a:pt x="23" y="485"/>
                            </a:lnTo>
                            <a:lnTo>
                              <a:pt x="33" y="457"/>
                            </a:lnTo>
                            <a:lnTo>
                              <a:pt x="42" y="430"/>
                            </a:lnTo>
                            <a:lnTo>
                              <a:pt x="51" y="407"/>
                            </a:lnTo>
                            <a:lnTo>
                              <a:pt x="62" y="384"/>
                            </a:lnTo>
                            <a:lnTo>
                              <a:pt x="73" y="360"/>
                            </a:lnTo>
                            <a:lnTo>
                              <a:pt x="86" y="339"/>
                            </a:lnTo>
                            <a:lnTo>
                              <a:pt x="100" y="315"/>
                            </a:lnTo>
                            <a:lnTo>
                              <a:pt x="117" y="290"/>
                            </a:lnTo>
                            <a:lnTo>
                              <a:pt x="134" y="265"/>
                            </a:lnTo>
                            <a:lnTo>
                              <a:pt x="151" y="244"/>
                            </a:lnTo>
                            <a:lnTo>
                              <a:pt x="170" y="219"/>
                            </a:lnTo>
                            <a:lnTo>
                              <a:pt x="190" y="200"/>
                            </a:lnTo>
                            <a:lnTo>
                              <a:pt x="215" y="179"/>
                            </a:lnTo>
                            <a:lnTo>
                              <a:pt x="240" y="159"/>
                            </a:lnTo>
                            <a:lnTo>
                              <a:pt x="266" y="137"/>
                            </a:lnTo>
                            <a:lnTo>
                              <a:pt x="291" y="120"/>
                            </a:lnTo>
                            <a:lnTo>
                              <a:pt x="315" y="103"/>
                            </a:lnTo>
                            <a:lnTo>
                              <a:pt x="338" y="90"/>
                            </a:lnTo>
                            <a:lnTo>
                              <a:pt x="362" y="77"/>
                            </a:lnTo>
                            <a:lnTo>
                              <a:pt x="384" y="64"/>
                            </a:lnTo>
                            <a:lnTo>
                              <a:pt x="410" y="52"/>
                            </a:lnTo>
                            <a:lnTo>
                              <a:pt x="438" y="43"/>
                            </a:lnTo>
                            <a:lnTo>
                              <a:pt x="469" y="36"/>
                            </a:lnTo>
                            <a:lnTo>
                              <a:pt x="501" y="29"/>
                            </a:lnTo>
                            <a:lnTo>
                              <a:pt x="533" y="24"/>
                            </a:lnTo>
                            <a:lnTo>
                              <a:pt x="572" y="19"/>
                            </a:lnTo>
                            <a:lnTo>
                              <a:pt x="611" y="14"/>
                            </a:lnTo>
                            <a:lnTo>
                              <a:pt x="645" y="9"/>
                            </a:lnTo>
                            <a:lnTo>
                              <a:pt x="680" y="5"/>
                            </a:lnTo>
                            <a:close/>
                          </a:path>
                        </a:pathLst>
                      </a:custGeom>
                      <a:solidFill>
                        <a:srgbClr val="80008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7783" name=""/>
                      <p:cNvGrpSpPr/>
                      <p:nvPr/>
                    </p:nvGrpSpPr>
                    <p:grpSpPr>
                      <a:xfrm>
                        <a:off x="3341160" y="119520"/>
                        <a:ext cx="413640" cy="240480"/>
                        <a:chOff x="3341160" y="119520"/>
                        <a:chExt cx="413640" cy="240480"/>
                      </a:xfrm>
                    </p:grpSpPr>
                    <p:grpSp>
                      <p:nvGrpSpPr>
                        <p:cNvPr id="7784" name=""/>
                        <p:cNvGrpSpPr/>
                        <p:nvPr/>
                      </p:nvGrpSpPr>
                      <p:grpSpPr>
                        <a:xfrm>
                          <a:off x="3385080" y="141480"/>
                          <a:ext cx="369720" cy="218520"/>
                          <a:chOff x="3385080" y="141480"/>
                          <a:chExt cx="369720" cy="218520"/>
                        </a:xfrm>
                      </p:grpSpPr>
                      <p:sp>
                        <p:nvSpPr>
                          <p:cNvPr id="7785" name=""/>
                          <p:cNvSpPr/>
                          <p:nvPr/>
                        </p:nvSpPr>
                        <p:spPr>
                          <a:xfrm>
                            <a:off x="3385080" y="141480"/>
                            <a:ext cx="369720" cy="2044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883" h="559">
                                <a:moveTo>
                                  <a:pt x="450" y="11"/>
                                </a:moveTo>
                                <a:lnTo>
                                  <a:pt x="463" y="8"/>
                                </a:lnTo>
                                <a:lnTo>
                                  <a:pt x="490" y="5"/>
                                </a:lnTo>
                                <a:lnTo>
                                  <a:pt x="522" y="3"/>
                                </a:lnTo>
                                <a:lnTo>
                                  <a:pt x="552" y="1"/>
                                </a:lnTo>
                                <a:lnTo>
                                  <a:pt x="580" y="2"/>
                                </a:lnTo>
                                <a:lnTo>
                                  <a:pt x="610" y="3"/>
                                </a:lnTo>
                                <a:lnTo>
                                  <a:pt x="641" y="4"/>
                                </a:lnTo>
                                <a:lnTo>
                                  <a:pt x="669" y="6"/>
                                </a:lnTo>
                                <a:lnTo>
                                  <a:pt x="699" y="4"/>
                                </a:lnTo>
                                <a:lnTo>
                                  <a:pt x="727" y="3"/>
                                </a:lnTo>
                                <a:lnTo>
                                  <a:pt x="760" y="1"/>
                                </a:lnTo>
                                <a:lnTo>
                                  <a:pt x="791" y="0"/>
                                </a:lnTo>
                                <a:lnTo>
                                  <a:pt x="816" y="1"/>
                                </a:lnTo>
                                <a:lnTo>
                                  <a:pt x="840" y="2"/>
                                </a:lnTo>
                                <a:lnTo>
                                  <a:pt x="866" y="3"/>
                                </a:lnTo>
                                <a:lnTo>
                                  <a:pt x="883" y="6"/>
                                </a:lnTo>
                                <a:lnTo>
                                  <a:pt x="881" y="20"/>
                                </a:lnTo>
                                <a:lnTo>
                                  <a:pt x="878" y="32"/>
                                </a:lnTo>
                                <a:lnTo>
                                  <a:pt x="875" y="43"/>
                                </a:lnTo>
                                <a:lnTo>
                                  <a:pt x="811" y="44"/>
                                </a:lnTo>
                                <a:lnTo>
                                  <a:pt x="795" y="46"/>
                                </a:lnTo>
                                <a:lnTo>
                                  <a:pt x="773" y="45"/>
                                </a:lnTo>
                                <a:lnTo>
                                  <a:pt x="748" y="44"/>
                                </a:lnTo>
                                <a:lnTo>
                                  <a:pt x="723" y="46"/>
                                </a:lnTo>
                                <a:lnTo>
                                  <a:pt x="700" y="48"/>
                                </a:lnTo>
                                <a:lnTo>
                                  <a:pt x="673" y="49"/>
                                </a:lnTo>
                                <a:lnTo>
                                  <a:pt x="649" y="49"/>
                                </a:lnTo>
                                <a:lnTo>
                                  <a:pt x="620" y="46"/>
                                </a:lnTo>
                                <a:lnTo>
                                  <a:pt x="589" y="46"/>
                                </a:lnTo>
                                <a:lnTo>
                                  <a:pt x="560" y="44"/>
                                </a:lnTo>
                                <a:lnTo>
                                  <a:pt x="532" y="46"/>
                                </a:lnTo>
                                <a:lnTo>
                                  <a:pt x="502" y="49"/>
                                </a:lnTo>
                                <a:lnTo>
                                  <a:pt x="470" y="51"/>
                                </a:lnTo>
                                <a:lnTo>
                                  <a:pt x="442" y="57"/>
                                </a:lnTo>
                                <a:lnTo>
                                  <a:pt x="415" y="66"/>
                                </a:lnTo>
                                <a:lnTo>
                                  <a:pt x="387" y="75"/>
                                </a:lnTo>
                                <a:lnTo>
                                  <a:pt x="357" y="86"/>
                                </a:lnTo>
                                <a:lnTo>
                                  <a:pt x="329" y="96"/>
                                </a:lnTo>
                                <a:lnTo>
                                  <a:pt x="304" y="106"/>
                                </a:lnTo>
                                <a:lnTo>
                                  <a:pt x="277" y="117"/>
                                </a:lnTo>
                                <a:lnTo>
                                  <a:pt x="255" y="130"/>
                                </a:lnTo>
                                <a:lnTo>
                                  <a:pt x="235" y="140"/>
                                </a:lnTo>
                                <a:lnTo>
                                  <a:pt x="214" y="152"/>
                                </a:lnTo>
                                <a:lnTo>
                                  <a:pt x="193" y="165"/>
                                </a:lnTo>
                                <a:lnTo>
                                  <a:pt x="175" y="181"/>
                                </a:lnTo>
                                <a:lnTo>
                                  <a:pt x="155" y="203"/>
                                </a:lnTo>
                                <a:lnTo>
                                  <a:pt x="139" y="222"/>
                                </a:lnTo>
                                <a:lnTo>
                                  <a:pt x="123" y="238"/>
                                </a:lnTo>
                                <a:lnTo>
                                  <a:pt x="108" y="260"/>
                                </a:lnTo>
                                <a:lnTo>
                                  <a:pt x="96" y="281"/>
                                </a:lnTo>
                                <a:lnTo>
                                  <a:pt x="83" y="305"/>
                                </a:lnTo>
                                <a:lnTo>
                                  <a:pt x="71" y="328"/>
                                </a:lnTo>
                                <a:lnTo>
                                  <a:pt x="62" y="351"/>
                                </a:lnTo>
                                <a:lnTo>
                                  <a:pt x="56" y="375"/>
                                </a:lnTo>
                                <a:lnTo>
                                  <a:pt x="50" y="398"/>
                                </a:lnTo>
                                <a:lnTo>
                                  <a:pt x="45" y="421"/>
                                </a:lnTo>
                                <a:lnTo>
                                  <a:pt x="42" y="444"/>
                                </a:lnTo>
                                <a:lnTo>
                                  <a:pt x="39" y="474"/>
                                </a:lnTo>
                                <a:lnTo>
                                  <a:pt x="38" y="502"/>
                                </a:lnTo>
                                <a:lnTo>
                                  <a:pt x="37" y="529"/>
                                </a:lnTo>
                                <a:lnTo>
                                  <a:pt x="35" y="559"/>
                                </a:lnTo>
                                <a:lnTo>
                                  <a:pt x="8" y="553"/>
                                </a:lnTo>
                                <a:lnTo>
                                  <a:pt x="5" y="525"/>
                                </a:lnTo>
                                <a:lnTo>
                                  <a:pt x="3" y="501"/>
                                </a:lnTo>
                                <a:lnTo>
                                  <a:pt x="0" y="475"/>
                                </a:lnTo>
                                <a:lnTo>
                                  <a:pt x="1" y="444"/>
                                </a:lnTo>
                                <a:lnTo>
                                  <a:pt x="4" y="415"/>
                                </a:lnTo>
                                <a:lnTo>
                                  <a:pt x="10" y="380"/>
                                </a:lnTo>
                                <a:lnTo>
                                  <a:pt x="15" y="355"/>
                                </a:lnTo>
                                <a:lnTo>
                                  <a:pt x="23" y="329"/>
                                </a:lnTo>
                                <a:lnTo>
                                  <a:pt x="31" y="305"/>
                                </a:lnTo>
                                <a:lnTo>
                                  <a:pt x="41" y="283"/>
                                </a:lnTo>
                                <a:lnTo>
                                  <a:pt x="54" y="262"/>
                                </a:lnTo>
                                <a:lnTo>
                                  <a:pt x="68" y="238"/>
                                </a:lnTo>
                                <a:lnTo>
                                  <a:pt x="85" y="215"/>
                                </a:lnTo>
                                <a:lnTo>
                                  <a:pt x="103" y="193"/>
                                </a:lnTo>
                                <a:lnTo>
                                  <a:pt x="122" y="173"/>
                                </a:lnTo>
                                <a:lnTo>
                                  <a:pt x="142" y="151"/>
                                </a:lnTo>
                                <a:lnTo>
                                  <a:pt x="163" y="132"/>
                                </a:lnTo>
                                <a:lnTo>
                                  <a:pt x="186" y="114"/>
                                </a:lnTo>
                                <a:lnTo>
                                  <a:pt x="211" y="99"/>
                                </a:lnTo>
                                <a:lnTo>
                                  <a:pt x="239" y="85"/>
                                </a:lnTo>
                                <a:lnTo>
                                  <a:pt x="270" y="69"/>
                                </a:lnTo>
                                <a:lnTo>
                                  <a:pt x="300" y="59"/>
                                </a:lnTo>
                                <a:lnTo>
                                  <a:pt x="332" y="46"/>
                                </a:lnTo>
                                <a:lnTo>
                                  <a:pt x="367" y="34"/>
                                </a:lnTo>
                                <a:lnTo>
                                  <a:pt x="396" y="24"/>
                                </a:lnTo>
                                <a:lnTo>
                                  <a:pt x="426" y="16"/>
                                </a:lnTo>
                                <a:lnTo>
                                  <a:pt x="450" y="11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c000c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7786" name=""/>
                          <p:cNvSpPr/>
                          <p:nvPr/>
                        </p:nvSpPr>
                        <p:spPr>
                          <a:xfrm>
                            <a:off x="3395160" y="154080"/>
                            <a:ext cx="354960" cy="20592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854" h="560">
                                <a:moveTo>
                                  <a:pt x="450" y="12"/>
                                </a:moveTo>
                                <a:lnTo>
                                  <a:pt x="462" y="8"/>
                                </a:lnTo>
                                <a:lnTo>
                                  <a:pt x="490" y="6"/>
                                </a:lnTo>
                                <a:lnTo>
                                  <a:pt x="522" y="4"/>
                                </a:lnTo>
                                <a:lnTo>
                                  <a:pt x="550" y="2"/>
                                </a:lnTo>
                                <a:lnTo>
                                  <a:pt x="580" y="3"/>
                                </a:lnTo>
                                <a:lnTo>
                                  <a:pt x="610" y="4"/>
                                </a:lnTo>
                                <a:lnTo>
                                  <a:pt x="640" y="5"/>
                                </a:lnTo>
                                <a:lnTo>
                                  <a:pt x="669" y="7"/>
                                </a:lnTo>
                                <a:lnTo>
                                  <a:pt x="698" y="5"/>
                                </a:lnTo>
                                <a:lnTo>
                                  <a:pt x="726" y="4"/>
                                </a:lnTo>
                                <a:lnTo>
                                  <a:pt x="760" y="2"/>
                                </a:lnTo>
                                <a:lnTo>
                                  <a:pt x="791" y="1"/>
                                </a:lnTo>
                                <a:lnTo>
                                  <a:pt x="815" y="2"/>
                                </a:lnTo>
                                <a:lnTo>
                                  <a:pt x="840" y="3"/>
                                </a:lnTo>
                                <a:lnTo>
                                  <a:pt x="854" y="0"/>
                                </a:lnTo>
                                <a:lnTo>
                                  <a:pt x="849" y="13"/>
                                </a:lnTo>
                                <a:lnTo>
                                  <a:pt x="841" y="25"/>
                                </a:lnTo>
                                <a:lnTo>
                                  <a:pt x="830" y="34"/>
                                </a:lnTo>
                                <a:lnTo>
                                  <a:pt x="821" y="40"/>
                                </a:lnTo>
                                <a:lnTo>
                                  <a:pt x="811" y="45"/>
                                </a:lnTo>
                                <a:lnTo>
                                  <a:pt x="795" y="47"/>
                                </a:lnTo>
                                <a:lnTo>
                                  <a:pt x="772" y="46"/>
                                </a:lnTo>
                                <a:lnTo>
                                  <a:pt x="748" y="45"/>
                                </a:lnTo>
                                <a:lnTo>
                                  <a:pt x="722" y="47"/>
                                </a:lnTo>
                                <a:lnTo>
                                  <a:pt x="700" y="48"/>
                                </a:lnTo>
                                <a:lnTo>
                                  <a:pt x="673" y="50"/>
                                </a:lnTo>
                                <a:lnTo>
                                  <a:pt x="647" y="50"/>
                                </a:lnTo>
                                <a:lnTo>
                                  <a:pt x="620" y="47"/>
                                </a:lnTo>
                                <a:lnTo>
                                  <a:pt x="588" y="47"/>
                                </a:lnTo>
                                <a:lnTo>
                                  <a:pt x="558" y="45"/>
                                </a:lnTo>
                                <a:lnTo>
                                  <a:pt x="532" y="47"/>
                                </a:lnTo>
                                <a:lnTo>
                                  <a:pt x="501" y="50"/>
                                </a:lnTo>
                                <a:lnTo>
                                  <a:pt x="469" y="51"/>
                                </a:lnTo>
                                <a:lnTo>
                                  <a:pt x="442" y="57"/>
                                </a:lnTo>
                                <a:lnTo>
                                  <a:pt x="414" y="66"/>
                                </a:lnTo>
                                <a:lnTo>
                                  <a:pt x="387" y="75"/>
                                </a:lnTo>
                                <a:lnTo>
                                  <a:pt x="357" y="86"/>
                                </a:lnTo>
                                <a:lnTo>
                                  <a:pt x="328" y="97"/>
                                </a:lnTo>
                                <a:lnTo>
                                  <a:pt x="304" y="107"/>
                                </a:lnTo>
                                <a:lnTo>
                                  <a:pt x="276" y="118"/>
                                </a:lnTo>
                                <a:lnTo>
                                  <a:pt x="254" y="131"/>
                                </a:lnTo>
                                <a:lnTo>
                                  <a:pt x="234" y="141"/>
                                </a:lnTo>
                                <a:lnTo>
                                  <a:pt x="214" y="153"/>
                                </a:lnTo>
                                <a:lnTo>
                                  <a:pt x="192" y="166"/>
                                </a:lnTo>
                                <a:lnTo>
                                  <a:pt x="175" y="182"/>
                                </a:lnTo>
                                <a:lnTo>
                                  <a:pt x="154" y="204"/>
                                </a:lnTo>
                                <a:lnTo>
                                  <a:pt x="138" y="223"/>
                                </a:lnTo>
                                <a:lnTo>
                                  <a:pt x="123" y="239"/>
                                </a:lnTo>
                                <a:lnTo>
                                  <a:pt x="107" y="261"/>
                                </a:lnTo>
                                <a:lnTo>
                                  <a:pt x="95" y="282"/>
                                </a:lnTo>
                                <a:lnTo>
                                  <a:pt x="83" y="306"/>
                                </a:lnTo>
                                <a:lnTo>
                                  <a:pt x="71" y="328"/>
                                </a:lnTo>
                                <a:lnTo>
                                  <a:pt x="61" y="352"/>
                                </a:lnTo>
                                <a:lnTo>
                                  <a:pt x="55" y="375"/>
                                </a:lnTo>
                                <a:lnTo>
                                  <a:pt x="49" y="398"/>
                                </a:lnTo>
                                <a:lnTo>
                                  <a:pt x="45" y="422"/>
                                </a:lnTo>
                                <a:lnTo>
                                  <a:pt x="42" y="445"/>
                                </a:lnTo>
                                <a:lnTo>
                                  <a:pt x="39" y="475"/>
                                </a:lnTo>
                                <a:lnTo>
                                  <a:pt x="38" y="503"/>
                                </a:lnTo>
                                <a:lnTo>
                                  <a:pt x="37" y="530"/>
                                </a:lnTo>
                                <a:lnTo>
                                  <a:pt x="35" y="560"/>
                                </a:lnTo>
                                <a:lnTo>
                                  <a:pt x="7" y="554"/>
                                </a:lnTo>
                                <a:lnTo>
                                  <a:pt x="4" y="526"/>
                                </a:lnTo>
                                <a:lnTo>
                                  <a:pt x="2" y="502"/>
                                </a:lnTo>
                                <a:lnTo>
                                  <a:pt x="0" y="476"/>
                                </a:lnTo>
                                <a:lnTo>
                                  <a:pt x="1" y="445"/>
                                </a:lnTo>
                                <a:lnTo>
                                  <a:pt x="3" y="416"/>
                                </a:lnTo>
                                <a:lnTo>
                                  <a:pt x="9" y="380"/>
                                </a:lnTo>
                                <a:lnTo>
                                  <a:pt x="14" y="356"/>
                                </a:lnTo>
                                <a:lnTo>
                                  <a:pt x="22" y="330"/>
                                </a:lnTo>
                                <a:lnTo>
                                  <a:pt x="31" y="306"/>
                                </a:lnTo>
                                <a:lnTo>
                                  <a:pt x="41" y="284"/>
                                </a:lnTo>
                                <a:lnTo>
                                  <a:pt x="53" y="263"/>
                                </a:lnTo>
                                <a:lnTo>
                                  <a:pt x="67" y="239"/>
                                </a:lnTo>
                                <a:lnTo>
                                  <a:pt x="85" y="216"/>
                                </a:lnTo>
                                <a:lnTo>
                                  <a:pt x="102" y="194"/>
                                </a:lnTo>
                                <a:lnTo>
                                  <a:pt x="122" y="174"/>
                                </a:lnTo>
                                <a:lnTo>
                                  <a:pt x="141" y="152"/>
                                </a:lnTo>
                                <a:lnTo>
                                  <a:pt x="163" y="133"/>
                                </a:lnTo>
                                <a:lnTo>
                                  <a:pt x="185" y="115"/>
                                </a:lnTo>
                                <a:lnTo>
                                  <a:pt x="211" y="100"/>
                                </a:lnTo>
                                <a:lnTo>
                                  <a:pt x="237" y="85"/>
                                </a:lnTo>
                                <a:lnTo>
                                  <a:pt x="270" y="69"/>
                                </a:lnTo>
                                <a:lnTo>
                                  <a:pt x="300" y="59"/>
                                </a:lnTo>
                                <a:lnTo>
                                  <a:pt x="331" y="47"/>
                                </a:lnTo>
                                <a:lnTo>
                                  <a:pt x="366" y="35"/>
                                </a:lnTo>
                                <a:lnTo>
                                  <a:pt x="396" y="25"/>
                                </a:lnTo>
                                <a:lnTo>
                                  <a:pt x="425" y="17"/>
                                </a:lnTo>
                                <a:lnTo>
                                  <a:pt x="450" y="12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60006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7787" name=""/>
                        <p:cNvSpPr/>
                        <p:nvPr/>
                      </p:nvSpPr>
                      <p:spPr>
                        <a:xfrm>
                          <a:off x="3341160" y="119520"/>
                          <a:ext cx="376920" cy="2008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901" h="544">
                              <a:moveTo>
                                <a:pt x="901" y="6"/>
                              </a:moveTo>
                              <a:lnTo>
                                <a:pt x="865" y="3"/>
                              </a:lnTo>
                              <a:lnTo>
                                <a:pt x="836" y="2"/>
                              </a:lnTo>
                              <a:lnTo>
                                <a:pt x="796" y="1"/>
                              </a:lnTo>
                              <a:lnTo>
                                <a:pt x="756" y="0"/>
                              </a:lnTo>
                              <a:lnTo>
                                <a:pt x="709" y="1"/>
                              </a:lnTo>
                              <a:lnTo>
                                <a:pt x="660" y="2"/>
                              </a:lnTo>
                              <a:lnTo>
                                <a:pt x="615" y="4"/>
                              </a:lnTo>
                              <a:lnTo>
                                <a:pt x="578" y="7"/>
                              </a:lnTo>
                              <a:lnTo>
                                <a:pt x="536" y="12"/>
                              </a:lnTo>
                              <a:lnTo>
                                <a:pt x="490" y="18"/>
                              </a:lnTo>
                              <a:lnTo>
                                <a:pt x="461" y="24"/>
                              </a:lnTo>
                              <a:lnTo>
                                <a:pt x="437" y="31"/>
                              </a:lnTo>
                              <a:lnTo>
                                <a:pt x="411" y="37"/>
                              </a:lnTo>
                              <a:lnTo>
                                <a:pt x="385" y="45"/>
                              </a:lnTo>
                              <a:lnTo>
                                <a:pt x="357" y="55"/>
                              </a:lnTo>
                              <a:lnTo>
                                <a:pt x="326" y="70"/>
                              </a:lnTo>
                              <a:lnTo>
                                <a:pt x="299" y="82"/>
                              </a:lnTo>
                              <a:lnTo>
                                <a:pt x="274" y="94"/>
                              </a:lnTo>
                              <a:lnTo>
                                <a:pt x="254" y="107"/>
                              </a:lnTo>
                              <a:lnTo>
                                <a:pt x="233" y="123"/>
                              </a:lnTo>
                              <a:lnTo>
                                <a:pt x="212" y="139"/>
                              </a:lnTo>
                              <a:lnTo>
                                <a:pt x="186" y="160"/>
                              </a:lnTo>
                              <a:lnTo>
                                <a:pt x="163" y="180"/>
                              </a:lnTo>
                              <a:lnTo>
                                <a:pt x="146" y="196"/>
                              </a:lnTo>
                              <a:lnTo>
                                <a:pt x="130" y="212"/>
                              </a:lnTo>
                              <a:lnTo>
                                <a:pt x="112" y="231"/>
                              </a:lnTo>
                              <a:lnTo>
                                <a:pt x="96" y="246"/>
                              </a:lnTo>
                              <a:lnTo>
                                <a:pt x="81" y="266"/>
                              </a:lnTo>
                              <a:lnTo>
                                <a:pt x="69" y="287"/>
                              </a:lnTo>
                              <a:lnTo>
                                <a:pt x="56" y="315"/>
                              </a:lnTo>
                              <a:lnTo>
                                <a:pt x="43" y="343"/>
                              </a:lnTo>
                              <a:lnTo>
                                <a:pt x="33" y="369"/>
                              </a:lnTo>
                              <a:lnTo>
                                <a:pt x="24" y="394"/>
                              </a:lnTo>
                              <a:lnTo>
                                <a:pt x="17" y="419"/>
                              </a:lnTo>
                              <a:lnTo>
                                <a:pt x="9" y="451"/>
                              </a:lnTo>
                              <a:lnTo>
                                <a:pt x="5" y="480"/>
                              </a:lnTo>
                              <a:lnTo>
                                <a:pt x="1" y="509"/>
                              </a:lnTo>
                              <a:lnTo>
                                <a:pt x="0" y="544"/>
                              </a:lnTo>
                            </a:path>
                          </a:pathLst>
                        </a:custGeom>
                        <a:noFill/>
                        <a:ln w="4680">
                          <a:solidFill>
                            <a:srgbClr val="ffc0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7788" name=""/>
                    <p:cNvGrpSpPr/>
                    <p:nvPr/>
                  </p:nvGrpSpPr>
                  <p:grpSpPr>
                    <a:xfrm>
                      <a:off x="3307320" y="337680"/>
                      <a:ext cx="100440" cy="43560"/>
                      <a:chOff x="3307320" y="337680"/>
                      <a:chExt cx="100440" cy="43560"/>
                    </a:xfrm>
                  </p:grpSpPr>
                  <p:sp>
                    <p:nvSpPr>
                      <p:cNvPr id="7789" name=""/>
                      <p:cNvSpPr/>
                      <p:nvPr/>
                    </p:nvSpPr>
                    <p:spPr>
                      <a:xfrm>
                        <a:off x="3307320" y="337680"/>
                        <a:ext cx="100440" cy="43560"/>
                      </a:xfrm>
                      <a:prstGeom prst="ellipse">
                        <a:avLst/>
                      </a:prstGeom>
                      <a:solidFill>
                        <a:srgbClr val="ff00ff"/>
                      </a:solidFill>
                      <a:ln w="3240">
                        <a:solidFill>
                          <a:srgbClr val="40004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5480" bIns="-15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790" name=""/>
                      <p:cNvSpPr/>
                      <p:nvPr/>
                    </p:nvSpPr>
                    <p:spPr>
                      <a:xfrm>
                        <a:off x="3315600" y="343080"/>
                        <a:ext cx="81360" cy="32760"/>
                      </a:xfrm>
                      <a:prstGeom prst="ellipse">
                        <a:avLst/>
                      </a:prstGeom>
                      <a:solidFill>
                        <a:srgbClr val="600060"/>
                      </a:solidFill>
                      <a:ln w="3240">
                        <a:solidFill>
                          <a:srgbClr val="40004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3400" bIns="-23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</p:grpSp>
          <p:grpSp>
            <p:nvGrpSpPr>
              <p:cNvPr id="7791" name=""/>
              <p:cNvGrpSpPr/>
              <p:nvPr/>
            </p:nvGrpSpPr>
            <p:grpSpPr>
              <a:xfrm>
                <a:off x="3173400" y="307080"/>
                <a:ext cx="171360" cy="461520"/>
                <a:chOff x="3173400" y="307080"/>
                <a:chExt cx="171360" cy="461520"/>
              </a:xfrm>
            </p:grpSpPr>
            <p:grpSp>
              <p:nvGrpSpPr>
                <p:cNvPr id="7792" name=""/>
                <p:cNvGrpSpPr/>
                <p:nvPr/>
              </p:nvGrpSpPr>
              <p:grpSpPr>
                <a:xfrm>
                  <a:off x="3173400" y="325440"/>
                  <a:ext cx="171360" cy="443160"/>
                  <a:chOff x="3173400" y="325440"/>
                  <a:chExt cx="171360" cy="443160"/>
                </a:xfrm>
              </p:grpSpPr>
              <p:sp>
                <p:nvSpPr>
                  <p:cNvPr id="7793" name=""/>
                  <p:cNvSpPr/>
                  <p:nvPr/>
                </p:nvSpPr>
                <p:spPr>
                  <a:xfrm>
                    <a:off x="3173400" y="325440"/>
                    <a:ext cx="171360" cy="443160"/>
                  </a:xfrm>
                  <a:custGeom>
                    <a:avLst/>
                    <a:gdLst/>
                    <a:ahLst/>
                    <a:rect l="l" t="t" r="r" b="b"/>
                    <a:pathLst>
                      <a:path w="410" h="1199">
                        <a:moveTo>
                          <a:pt x="270" y="0"/>
                        </a:moveTo>
                        <a:lnTo>
                          <a:pt x="0" y="18"/>
                        </a:lnTo>
                        <a:lnTo>
                          <a:pt x="3" y="47"/>
                        </a:lnTo>
                        <a:lnTo>
                          <a:pt x="9" y="79"/>
                        </a:lnTo>
                        <a:lnTo>
                          <a:pt x="16" y="113"/>
                        </a:lnTo>
                        <a:lnTo>
                          <a:pt x="22" y="152"/>
                        </a:lnTo>
                        <a:lnTo>
                          <a:pt x="31" y="198"/>
                        </a:lnTo>
                        <a:lnTo>
                          <a:pt x="41" y="242"/>
                        </a:lnTo>
                        <a:lnTo>
                          <a:pt x="49" y="279"/>
                        </a:lnTo>
                        <a:lnTo>
                          <a:pt x="58" y="315"/>
                        </a:lnTo>
                        <a:lnTo>
                          <a:pt x="66" y="354"/>
                        </a:lnTo>
                        <a:lnTo>
                          <a:pt x="75" y="397"/>
                        </a:lnTo>
                        <a:lnTo>
                          <a:pt x="83" y="442"/>
                        </a:lnTo>
                        <a:lnTo>
                          <a:pt x="92" y="490"/>
                        </a:lnTo>
                        <a:lnTo>
                          <a:pt x="97" y="517"/>
                        </a:lnTo>
                        <a:lnTo>
                          <a:pt x="101" y="552"/>
                        </a:lnTo>
                        <a:lnTo>
                          <a:pt x="106" y="593"/>
                        </a:lnTo>
                        <a:lnTo>
                          <a:pt x="110" y="631"/>
                        </a:lnTo>
                        <a:lnTo>
                          <a:pt x="117" y="679"/>
                        </a:lnTo>
                        <a:lnTo>
                          <a:pt x="123" y="729"/>
                        </a:lnTo>
                        <a:lnTo>
                          <a:pt x="127" y="769"/>
                        </a:lnTo>
                        <a:lnTo>
                          <a:pt x="128" y="809"/>
                        </a:lnTo>
                        <a:lnTo>
                          <a:pt x="130" y="843"/>
                        </a:lnTo>
                        <a:lnTo>
                          <a:pt x="133" y="887"/>
                        </a:lnTo>
                        <a:lnTo>
                          <a:pt x="135" y="932"/>
                        </a:lnTo>
                        <a:lnTo>
                          <a:pt x="133" y="974"/>
                        </a:lnTo>
                        <a:lnTo>
                          <a:pt x="134" y="1024"/>
                        </a:lnTo>
                        <a:lnTo>
                          <a:pt x="136" y="1054"/>
                        </a:lnTo>
                        <a:lnTo>
                          <a:pt x="134" y="1079"/>
                        </a:lnTo>
                        <a:lnTo>
                          <a:pt x="132" y="1110"/>
                        </a:lnTo>
                        <a:lnTo>
                          <a:pt x="133" y="1131"/>
                        </a:lnTo>
                        <a:lnTo>
                          <a:pt x="138" y="1145"/>
                        </a:lnTo>
                        <a:lnTo>
                          <a:pt x="146" y="1159"/>
                        </a:lnTo>
                        <a:lnTo>
                          <a:pt x="158" y="1170"/>
                        </a:lnTo>
                        <a:lnTo>
                          <a:pt x="175" y="1178"/>
                        </a:lnTo>
                        <a:lnTo>
                          <a:pt x="191" y="1183"/>
                        </a:lnTo>
                        <a:lnTo>
                          <a:pt x="212" y="1190"/>
                        </a:lnTo>
                        <a:lnTo>
                          <a:pt x="240" y="1195"/>
                        </a:lnTo>
                        <a:lnTo>
                          <a:pt x="266" y="1196"/>
                        </a:lnTo>
                        <a:lnTo>
                          <a:pt x="292" y="1198"/>
                        </a:lnTo>
                        <a:lnTo>
                          <a:pt x="315" y="1199"/>
                        </a:lnTo>
                        <a:lnTo>
                          <a:pt x="336" y="1197"/>
                        </a:lnTo>
                        <a:lnTo>
                          <a:pt x="354" y="1194"/>
                        </a:lnTo>
                        <a:lnTo>
                          <a:pt x="373" y="1187"/>
                        </a:lnTo>
                        <a:lnTo>
                          <a:pt x="385" y="1180"/>
                        </a:lnTo>
                        <a:lnTo>
                          <a:pt x="396" y="1173"/>
                        </a:lnTo>
                        <a:lnTo>
                          <a:pt x="404" y="1164"/>
                        </a:lnTo>
                        <a:lnTo>
                          <a:pt x="406" y="1154"/>
                        </a:lnTo>
                        <a:lnTo>
                          <a:pt x="404" y="1123"/>
                        </a:lnTo>
                        <a:lnTo>
                          <a:pt x="402" y="1093"/>
                        </a:lnTo>
                        <a:lnTo>
                          <a:pt x="404" y="1053"/>
                        </a:lnTo>
                        <a:lnTo>
                          <a:pt x="407" y="1022"/>
                        </a:lnTo>
                        <a:lnTo>
                          <a:pt x="410" y="995"/>
                        </a:lnTo>
                        <a:lnTo>
                          <a:pt x="408" y="968"/>
                        </a:lnTo>
                        <a:lnTo>
                          <a:pt x="406" y="932"/>
                        </a:lnTo>
                        <a:lnTo>
                          <a:pt x="405" y="906"/>
                        </a:lnTo>
                        <a:lnTo>
                          <a:pt x="403" y="878"/>
                        </a:lnTo>
                        <a:lnTo>
                          <a:pt x="398" y="851"/>
                        </a:lnTo>
                        <a:lnTo>
                          <a:pt x="393" y="821"/>
                        </a:lnTo>
                        <a:lnTo>
                          <a:pt x="392" y="785"/>
                        </a:lnTo>
                        <a:lnTo>
                          <a:pt x="390" y="756"/>
                        </a:lnTo>
                        <a:lnTo>
                          <a:pt x="389" y="719"/>
                        </a:lnTo>
                        <a:lnTo>
                          <a:pt x="387" y="681"/>
                        </a:lnTo>
                        <a:lnTo>
                          <a:pt x="384" y="642"/>
                        </a:lnTo>
                        <a:lnTo>
                          <a:pt x="379" y="598"/>
                        </a:lnTo>
                        <a:lnTo>
                          <a:pt x="375" y="556"/>
                        </a:lnTo>
                        <a:lnTo>
                          <a:pt x="371" y="517"/>
                        </a:lnTo>
                        <a:lnTo>
                          <a:pt x="367" y="487"/>
                        </a:lnTo>
                        <a:lnTo>
                          <a:pt x="362" y="454"/>
                        </a:lnTo>
                        <a:lnTo>
                          <a:pt x="358" y="422"/>
                        </a:lnTo>
                        <a:lnTo>
                          <a:pt x="353" y="387"/>
                        </a:lnTo>
                        <a:lnTo>
                          <a:pt x="347" y="351"/>
                        </a:lnTo>
                        <a:lnTo>
                          <a:pt x="341" y="311"/>
                        </a:lnTo>
                        <a:lnTo>
                          <a:pt x="335" y="276"/>
                        </a:lnTo>
                        <a:lnTo>
                          <a:pt x="325" y="232"/>
                        </a:lnTo>
                        <a:lnTo>
                          <a:pt x="316" y="190"/>
                        </a:lnTo>
                        <a:lnTo>
                          <a:pt x="307" y="137"/>
                        </a:lnTo>
                        <a:lnTo>
                          <a:pt x="294" y="81"/>
                        </a:lnTo>
                        <a:lnTo>
                          <a:pt x="283" y="37"/>
                        </a:lnTo>
                        <a:lnTo>
                          <a:pt x="270" y="0"/>
                        </a:lnTo>
                        <a:close/>
                      </a:path>
                    </a:pathLst>
                  </a:custGeom>
                  <a:solidFill>
                    <a:srgbClr val="0000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7794" name=""/>
                  <p:cNvGrpSpPr/>
                  <p:nvPr/>
                </p:nvGrpSpPr>
                <p:grpSpPr>
                  <a:xfrm>
                    <a:off x="3173400" y="325440"/>
                    <a:ext cx="170280" cy="441000"/>
                    <a:chOff x="3173400" y="325440"/>
                    <a:chExt cx="170280" cy="441000"/>
                  </a:xfrm>
                </p:grpSpPr>
                <p:grpSp>
                  <p:nvGrpSpPr>
                    <p:cNvPr id="7795" name=""/>
                    <p:cNvGrpSpPr/>
                    <p:nvPr/>
                  </p:nvGrpSpPr>
                  <p:grpSpPr>
                    <a:xfrm>
                      <a:off x="3173400" y="325440"/>
                      <a:ext cx="170280" cy="441000"/>
                      <a:chOff x="3173400" y="325440"/>
                      <a:chExt cx="170280" cy="441000"/>
                    </a:xfrm>
                  </p:grpSpPr>
                  <p:grpSp>
                    <p:nvGrpSpPr>
                      <p:cNvPr id="7796" name=""/>
                      <p:cNvGrpSpPr/>
                      <p:nvPr/>
                    </p:nvGrpSpPr>
                    <p:grpSpPr>
                      <a:xfrm>
                        <a:off x="3173400" y="325440"/>
                        <a:ext cx="170280" cy="440640"/>
                        <a:chOff x="3173400" y="325440"/>
                        <a:chExt cx="170280" cy="440640"/>
                      </a:xfrm>
                    </p:grpSpPr>
                    <p:sp>
                      <p:nvSpPr>
                        <p:cNvPr id="7797" name=""/>
                        <p:cNvSpPr/>
                        <p:nvPr/>
                      </p:nvSpPr>
                      <p:spPr>
                        <a:xfrm>
                          <a:off x="3173400" y="332280"/>
                          <a:ext cx="74880" cy="424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81" h="1152">
                              <a:moveTo>
                                <a:pt x="55" y="70"/>
                              </a:moveTo>
                              <a:lnTo>
                                <a:pt x="41" y="28"/>
                              </a:lnTo>
                              <a:lnTo>
                                <a:pt x="0" y="0"/>
                              </a:lnTo>
                              <a:lnTo>
                                <a:pt x="3" y="29"/>
                              </a:lnTo>
                              <a:lnTo>
                                <a:pt x="9" y="61"/>
                              </a:lnTo>
                              <a:lnTo>
                                <a:pt x="16" y="95"/>
                              </a:lnTo>
                              <a:lnTo>
                                <a:pt x="22" y="134"/>
                              </a:lnTo>
                              <a:lnTo>
                                <a:pt x="31" y="180"/>
                              </a:lnTo>
                              <a:lnTo>
                                <a:pt x="41" y="224"/>
                              </a:lnTo>
                              <a:lnTo>
                                <a:pt x="48" y="261"/>
                              </a:lnTo>
                              <a:lnTo>
                                <a:pt x="56" y="297"/>
                              </a:lnTo>
                              <a:lnTo>
                                <a:pt x="65" y="336"/>
                              </a:lnTo>
                              <a:lnTo>
                                <a:pt x="74" y="379"/>
                              </a:lnTo>
                              <a:lnTo>
                                <a:pt x="82" y="424"/>
                              </a:lnTo>
                              <a:lnTo>
                                <a:pt x="91" y="472"/>
                              </a:lnTo>
                              <a:lnTo>
                                <a:pt x="96" y="499"/>
                              </a:lnTo>
                              <a:lnTo>
                                <a:pt x="100" y="534"/>
                              </a:lnTo>
                              <a:lnTo>
                                <a:pt x="106" y="575"/>
                              </a:lnTo>
                              <a:lnTo>
                                <a:pt x="110" y="613"/>
                              </a:lnTo>
                              <a:lnTo>
                                <a:pt x="117" y="661"/>
                              </a:lnTo>
                              <a:lnTo>
                                <a:pt x="123" y="711"/>
                              </a:lnTo>
                              <a:lnTo>
                                <a:pt x="127" y="751"/>
                              </a:lnTo>
                              <a:lnTo>
                                <a:pt x="128" y="791"/>
                              </a:lnTo>
                              <a:lnTo>
                                <a:pt x="130" y="825"/>
                              </a:lnTo>
                              <a:lnTo>
                                <a:pt x="133" y="868"/>
                              </a:lnTo>
                              <a:lnTo>
                                <a:pt x="135" y="914"/>
                              </a:lnTo>
                              <a:lnTo>
                                <a:pt x="133" y="956"/>
                              </a:lnTo>
                              <a:lnTo>
                                <a:pt x="134" y="1006"/>
                              </a:lnTo>
                              <a:lnTo>
                                <a:pt x="136" y="1036"/>
                              </a:lnTo>
                              <a:lnTo>
                                <a:pt x="134" y="1061"/>
                              </a:lnTo>
                              <a:lnTo>
                                <a:pt x="132" y="1091"/>
                              </a:lnTo>
                              <a:lnTo>
                                <a:pt x="133" y="1113"/>
                              </a:lnTo>
                              <a:lnTo>
                                <a:pt x="137" y="1127"/>
                              </a:lnTo>
                              <a:lnTo>
                                <a:pt x="145" y="1141"/>
                              </a:lnTo>
                              <a:lnTo>
                                <a:pt x="157" y="1152"/>
                              </a:lnTo>
                              <a:lnTo>
                                <a:pt x="163" y="1122"/>
                              </a:lnTo>
                              <a:lnTo>
                                <a:pt x="166" y="1088"/>
                              </a:lnTo>
                              <a:lnTo>
                                <a:pt x="169" y="1051"/>
                              </a:lnTo>
                              <a:lnTo>
                                <a:pt x="173" y="1008"/>
                              </a:lnTo>
                              <a:lnTo>
                                <a:pt x="178" y="956"/>
                              </a:lnTo>
                              <a:lnTo>
                                <a:pt x="181" y="896"/>
                              </a:lnTo>
                              <a:lnTo>
                                <a:pt x="176" y="843"/>
                              </a:lnTo>
                              <a:lnTo>
                                <a:pt x="175" y="789"/>
                              </a:lnTo>
                              <a:lnTo>
                                <a:pt x="169" y="731"/>
                              </a:lnTo>
                              <a:lnTo>
                                <a:pt x="163" y="681"/>
                              </a:lnTo>
                              <a:lnTo>
                                <a:pt x="158" y="633"/>
                              </a:lnTo>
                              <a:lnTo>
                                <a:pt x="154" y="590"/>
                              </a:lnTo>
                              <a:lnTo>
                                <a:pt x="151" y="548"/>
                              </a:lnTo>
                              <a:lnTo>
                                <a:pt x="148" y="511"/>
                              </a:lnTo>
                              <a:lnTo>
                                <a:pt x="145" y="472"/>
                              </a:lnTo>
                              <a:lnTo>
                                <a:pt x="139" y="429"/>
                              </a:lnTo>
                              <a:lnTo>
                                <a:pt x="134" y="382"/>
                              </a:lnTo>
                              <a:lnTo>
                                <a:pt x="122" y="342"/>
                              </a:lnTo>
                              <a:lnTo>
                                <a:pt x="111" y="300"/>
                              </a:lnTo>
                              <a:lnTo>
                                <a:pt x="100" y="266"/>
                              </a:lnTo>
                              <a:lnTo>
                                <a:pt x="94" y="232"/>
                              </a:lnTo>
                              <a:lnTo>
                                <a:pt x="88" y="194"/>
                              </a:lnTo>
                              <a:lnTo>
                                <a:pt x="83" y="156"/>
                              </a:lnTo>
                              <a:lnTo>
                                <a:pt x="70" y="113"/>
                              </a:lnTo>
                              <a:lnTo>
                                <a:pt x="55" y="7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4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798" name=""/>
                        <p:cNvSpPr/>
                        <p:nvPr/>
                      </p:nvSpPr>
                      <p:spPr>
                        <a:xfrm>
                          <a:off x="3267000" y="325440"/>
                          <a:ext cx="76680" cy="4406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88" h="1194">
                              <a:moveTo>
                                <a:pt x="48" y="0"/>
                              </a:moveTo>
                              <a:lnTo>
                                <a:pt x="0" y="38"/>
                              </a:lnTo>
                              <a:lnTo>
                                <a:pt x="17" y="57"/>
                              </a:lnTo>
                              <a:lnTo>
                                <a:pt x="29" y="78"/>
                              </a:lnTo>
                              <a:lnTo>
                                <a:pt x="35" y="106"/>
                              </a:lnTo>
                              <a:lnTo>
                                <a:pt x="41" y="148"/>
                              </a:lnTo>
                              <a:lnTo>
                                <a:pt x="49" y="188"/>
                              </a:lnTo>
                              <a:lnTo>
                                <a:pt x="61" y="240"/>
                              </a:lnTo>
                              <a:lnTo>
                                <a:pt x="70" y="290"/>
                              </a:lnTo>
                              <a:lnTo>
                                <a:pt x="79" y="334"/>
                              </a:lnTo>
                              <a:lnTo>
                                <a:pt x="85" y="383"/>
                              </a:lnTo>
                              <a:lnTo>
                                <a:pt x="92" y="427"/>
                              </a:lnTo>
                              <a:lnTo>
                                <a:pt x="101" y="476"/>
                              </a:lnTo>
                              <a:lnTo>
                                <a:pt x="111" y="516"/>
                              </a:lnTo>
                              <a:lnTo>
                                <a:pt x="117" y="564"/>
                              </a:lnTo>
                              <a:lnTo>
                                <a:pt x="113" y="610"/>
                              </a:lnTo>
                              <a:lnTo>
                                <a:pt x="117" y="651"/>
                              </a:lnTo>
                              <a:lnTo>
                                <a:pt x="120" y="703"/>
                              </a:lnTo>
                              <a:lnTo>
                                <a:pt x="122" y="762"/>
                              </a:lnTo>
                              <a:lnTo>
                                <a:pt x="126" y="825"/>
                              </a:lnTo>
                              <a:lnTo>
                                <a:pt x="134" y="886"/>
                              </a:lnTo>
                              <a:lnTo>
                                <a:pt x="140" y="928"/>
                              </a:lnTo>
                              <a:lnTo>
                                <a:pt x="140" y="968"/>
                              </a:lnTo>
                              <a:lnTo>
                                <a:pt x="142" y="1017"/>
                              </a:lnTo>
                              <a:lnTo>
                                <a:pt x="138" y="1073"/>
                              </a:lnTo>
                              <a:lnTo>
                                <a:pt x="137" y="1119"/>
                              </a:lnTo>
                              <a:lnTo>
                                <a:pt x="132" y="1160"/>
                              </a:lnTo>
                              <a:lnTo>
                                <a:pt x="133" y="1194"/>
                              </a:lnTo>
                              <a:lnTo>
                                <a:pt x="151" y="1187"/>
                              </a:lnTo>
                              <a:lnTo>
                                <a:pt x="163" y="1180"/>
                              </a:lnTo>
                              <a:lnTo>
                                <a:pt x="174" y="1173"/>
                              </a:lnTo>
                              <a:lnTo>
                                <a:pt x="182" y="1164"/>
                              </a:lnTo>
                              <a:lnTo>
                                <a:pt x="184" y="1154"/>
                              </a:lnTo>
                              <a:lnTo>
                                <a:pt x="182" y="1123"/>
                              </a:lnTo>
                              <a:lnTo>
                                <a:pt x="180" y="1093"/>
                              </a:lnTo>
                              <a:lnTo>
                                <a:pt x="182" y="1053"/>
                              </a:lnTo>
                              <a:lnTo>
                                <a:pt x="185" y="1022"/>
                              </a:lnTo>
                              <a:lnTo>
                                <a:pt x="188" y="995"/>
                              </a:lnTo>
                              <a:lnTo>
                                <a:pt x="186" y="968"/>
                              </a:lnTo>
                              <a:lnTo>
                                <a:pt x="184" y="932"/>
                              </a:lnTo>
                              <a:lnTo>
                                <a:pt x="183" y="906"/>
                              </a:lnTo>
                              <a:lnTo>
                                <a:pt x="181" y="878"/>
                              </a:lnTo>
                              <a:lnTo>
                                <a:pt x="176" y="851"/>
                              </a:lnTo>
                              <a:lnTo>
                                <a:pt x="171" y="821"/>
                              </a:lnTo>
                              <a:lnTo>
                                <a:pt x="170" y="785"/>
                              </a:lnTo>
                              <a:lnTo>
                                <a:pt x="168" y="756"/>
                              </a:lnTo>
                              <a:lnTo>
                                <a:pt x="167" y="719"/>
                              </a:lnTo>
                              <a:lnTo>
                                <a:pt x="165" y="681"/>
                              </a:lnTo>
                              <a:lnTo>
                                <a:pt x="162" y="642"/>
                              </a:lnTo>
                              <a:lnTo>
                                <a:pt x="157" y="598"/>
                              </a:lnTo>
                              <a:lnTo>
                                <a:pt x="153" y="556"/>
                              </a:lnTo>
                              <a:lnTo>
                                <a:pt x="150" y="517"/>
                              </a:lnTo>
                              <a:lnTo>
                                <a:pt x="145" y="487"/>
                              </a:lnTo>
                              <a:lnTo>
                                <a:pt x="141" y="454"/>
                              </a:lnTo>
                              <a:lnTo>
                                <a:pt x="137" y="422"/>
                              </a:lnTo>
                              <a:lnTo>
                                <a:pt x="132" y="387"/>
                              </a:lnTo>
                              <a:lnTo>
                                <a:pt x="126" y="351"/>
                              </a:lnTo>
                              <a:lnTo>
                                <a:pt x="120" y="311"/>
                              </a:lnTo>
                              <a:lnTo>
                                <a:pt x="114" y="276"/>
                              </a:lnTo>
                              <a:lnTo>
                                <a:pt x="105" y="232"/>
                              </a:lnTo>
                              <a:lnTo>
                                <a:pt x="95" y="190"/>
                              </a:lnTo>
                              <a:lnTo>
                                <a:pt x="85" y="137"/>
                              </a:lnTo>
                              <a:lnTo>
                                <a:pt x="72" y="81"/>
                              </a:lnTo>
                              <a:lnTo>
                                <a:pt x="61" y="37"/>
                              </a:lnTo>
                              <a:lnTo>
                                <a:pt x="48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4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7799" name=""/>
                      <p:cNvSpPr/>
                      <p:nvPr/>
                    </p:nvSpPr>
                    <p:spPr>
                      <a:xfrm>
                        <a:off x="3189600" y="341640"/>
                        <a:ext cx="85320" cy="424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6" h="1149">
                            <a:moveTo>
                              <a:pt x="15" y="42"/>
                            </a:moveTo>
                            <a:lnTo>
                              <a:pt x="0" y="0"/>
                            </a:lnTo>
                            <a:lnTo>
                              <a:pt x="73" y="28"/>
                            </a:lnTo>
                            <a:lnTo>
                              <a:pt x="77" y="57"/>
                            </a:lnTo>
                            <a:lnTo>
                              <a:pt x="82" y="82"/>
                            </a:lnTo>
                            <a:lnTo>
                              <a:pt x="90" y="111"/>
                            </a:lnTo>
                            <a:lnTo>
                              <a:pt x="98" y="133"/>
                            </a:lnTo>
                            <a:lnTo>
                              <a:pt x="108" y="159"/>
                            </a:lnTo>
                            <a:lnTo>
                              <a:pt x="118" y="189"/>
                            </a:lnTo>
                            <a:lnTo>
                              <a:pt x="124" y="217"/>
                            </a:lnTo>
                            <a:lnTo>
                              <a:pt x="129" y="249"/>
                            </a:lnTo>
                            <a:lnTo>
                              <a:pt x="135" y="281"/>
                            </a:lnTo>
                            <a:lnTo>
                              <a:pt x="140" y="316"/>
                            </a:lnTo>
                            <a:lnTo>
                              <a:pt x="149" y="351"/>
                            </a:lnTo>
                            <a:lnTo>
                              <a:pt x="155" y="376"/>
                            </a:lnTo>
                            <a:lnTo>
                              <a:pt x="163" y="407"/>
                            </a:lnTo>
                            <a:lnTo>
                              <a:pt x="169" y="429"/>
                            </a:lnTo>
                            <a:lnTo>
                              <a:pt x="174" y="452"/>
                            </a:lnTo>
                            <a:lnTo>
                              <a:pt x="176" y="479"/>
                            </a:lnTo>
                            <a:lnTo>
                              <a:pt x="178" y="505"/>
                            </a:lnTo>
                            <a:lnTo>
                              <a:pt x="180" y="535"/>
                            </a:lnTo>
                            <a:lnTo>
                              <a:pt x="185" y="574"/>
                            </a:lnTo>
                            <a:lnTo>
                              <a:pt x="189" y="608"/>
                            </a:lnTo>
                            <a:lnTo>
                              <a:pt x="193" y="644"/>
                            </a:lnTo>
                            <a:lnTo>
                              <a:pt x="199" y="678"/>
                            </a:lnTo>
                            <a:lnTo>
                              <a:pt x="201" y="708"/>
                            </a:lnTo>
                            <a:lnTo>
                              <a:pt x="204" y="759"/>
                            </a:lnTo>
                            <a:lnTo>
                              <a:pt x="205" y="795"/>
                            </a:lnTo>
                            <a:lnTo>
                              <a:pt x="205" y="837"/>
                            </a:lnTo>
                            <a:lnTo>
                              <a:pt x="206" y="864"/>
                            </a:lnTo>
                            <a:lnTo>
                              <a:pt x="205" y="900"/>
                            </a:lnTo>
                            <a:lnTo>
                              <a:pt x="203" y="942"/>
                            </a:lnTo>
                            <a:lnTo>
                              <a:pt x="200" y="976"/>
                            </a:lnTo>
                            <a:lnTo>
                              <a:pt x="202" y="1017"/>
                            </a:lnTo>
                            <a:lnTo>
                              <a:pt x="203" y="1055"/>
                            </a:lnTo>
                            <a:lnTo>
                              <a:pt x="199" y="1079"/>
                            </a:lnTo>
                            <a:lnTo>
                              <a:pt x="195" y="1102"/>
                            </a:lnTo>
                            <a:lnTo>
                              <a:pt x="191" y="1117"/>
                            </a:lnTo>
                            <a:lnTo>
                              <a:pt x="192" y="1134"/>
                            </a:lnTo>
                            <a:lnTo>
                              <a:pt x="197" y="1149"/>
                            </a:lnTo>
                            <a:lnTo>
                              <a:pt x="169" y="1145"/>
                            </a:lnTo>
                            <a:lnTo>
                              <a:pt x="153" y="1138"/>
                            </a:lnTo>
                            <a:lnTo>
                              <a:pt x="134" y="1132"/>
                            </a:lnTo>
                            <a:lnTo>
                              <a:pt x="117" y="1124"/>
                            </a:lnTo>
                            <a:lnTo>
                              <a:pt x="123" y="1094"/>
                            </a:lnTo>
                            <a:lnTo>
                              <a:pt x="126" y="1060"/>
                            </a:lnTo>
                            <a:lnTo>
                              <a:pt x="129" y="1024"/>
                            </a:lnTo>
                            <a:lnTo>
                              <a:pt x="133" y="980"/>
                            </a:lnTo>
                            <a:lnTo>
                              <a:pt x="138" y="928"/>
                            </a:lnTo>
                            <a:lnTo>
                              <a:pt x="141" y="868"/>
                            </a:lnTo>
                            <a:lnTo>
                              <a:pt x="136" y="815"/>
                            </a:lnTo>
                            <a:lnTo>
                              <a:pt x="135" y="761"/>
                            </a:lnTo>
                            <a:lnTo>
                              <a:pt x="129" y="704"/>
                            </a:lnTo>
                            <a:lnTo>
                              <a:pt x="123" y="653"/>
                            </a:lnTo>
                            <a:lnTo>
                              <a:pt x="118" y="605"/>
                            </a:lnTo>
                            <a:lnTo>
                              <a:pt x="114" y="562"/>
                            </a:lnTo>
                            <a:lnTo>
                              <a:pt x="111" y="520"/>
                            </a:lnTo>
                            <a:lnTo>
                              <a:pt x="108" y="483"/>
                            </a:lnTo>
                            <a:lnTo>
                              <a:pt x="105" y="444"/>
                            </a:lnTo>
                            <a:lnTo>
                              <a:pt x="99" y="401"/>
                            </a:lnTo>
                            <a:lnTo>
                              <a:pt x="93" y="354"/>
                            </a:lnTo>
                            <a:lnTo>
                              <a:pt x="81" y="314"/>
                            </a:lnTo>
                            <a:lnTo>
                              <a:pt x="70" y="273"/>
                            </a:lnTo>
                            <a:lnTo>
                              <a:pt x="59" y="238"/>
                            </a:lnTo>
                            <a:lnTo>
                              <a:pt x="53" y="204"/>
                            </a:lnTo>
                            <a:lnTo>
                              <a:pt x="48" y="166"/>
                            </a:lnTo>
                            <a:lnTo>
                              <a:pt x="43" y="128"/>
                            </a:lnTo>
                            <a:lnTo>
                              <a:pt x="30" y="85"/>
                            </a:lnTo>
                            <a:lnTo>
                              <a:pt x="15" y="42"/>
                            </a:lnTo>
                            <a:close/>
                          </a:path>
                        </a:pathLst>
                      </a:custGeom>
                      <a:solidFill>
                        <a:srgbClr val="4040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7800" name=""/>
                    <p:cNvSpPr/>
                    <p:nvPr/>
                  </p:nvSpPr>
                  <p:spPr>
                    <a:xfrm>
                      <a:off x="3250440" y="356760"/>
                      <a:ext cx="56160" cy="381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8" h="1036">
                          <a:moveTo>
                            <a:pt x="0" y="0"/>
                          </a:moveTo>
                          <a:lnTo>
                            <a:pt x="13" y="33"/>
                          </a:lnTo>
                          <a:lnTo>
                            <a:pt x="26" y="64"/>
                          </a:lnTo>
                          <a:lnTo>
                            <a:pt x="37" y="97"/>
                          </a:lnTo>
                          <a:lnTo>
                            <a:pt x="47" y="134"/>
                          </a:lnTo>
                          <a:lnTo>
                            <a:pt x="55" y="168"/>
                          </a:lnTo>
                          <a:lnTo>
                            <a:pt x="63" y="203"/>
                          </a:lnTo>
                          <a:lnTo>
                            <a:pt x="71" y="246"/>
                          </a:lnTo>
                          <a:lnTo>
                            <a:pt x="79" y="298"/>
                          </a:lnTo>
                          <a:lnTo>
                            <a:pt x="88" y="352"/>
                          </a:lnTo>
                          <a:lnTo>
                            <a:pt x="94" y="388"/>
                          </a:lnTo>
                          <a:lnTo>
                            <a:pt x="102" y="434"/>
                          </a:lnTo>
                          <a:lnTo>
                            <a:pt x="108" y="479"/>
                          </a:lnTo>
                          <a:lnTo>
                            <a:pt x="111" y="522"/>
                          </a:lnTo>
                          <a:lnTo>
                            <a:pt x="114" y="569"/>
                          </a:lnTo>
                          <a:lnTo>
                            <a:pt x="117" y="616"/>
                          </a:lnTo>
                          <a:lnTo>
                            <a:pt x="120" y="671"/>
                          </a:lnTo>
                          <a:lnTo>
                            <a:pt x="124" y="722"/>
                          </a:lnTo>
                          <a:lnTo>
                            <a:pt x="128" y="777"/>
                          </a:lnTo>
                          <a:lnTo>
                            <a:pt x="131" y="818"/>
                          </a:lnTo>
                          <a:lnTo>
                            <a:pt x="136" y="854"/>
                          </a:lnTo>
                          <a:lnTo>
                            <a:pt x="138" y="898"/>
                          </a:lnTo>
                          <a:lnTo>
                            <a:pt x="137" y="942"/>
                          </a:lnTo>
                          <a:lnTo>
                            <a:pt x="135" y="986"/>
                          </a:lnTo>
                          <a:lnTo>
                            <a:pt x="133" y="1036"/>
                          </a:lnTo>
                        </a:path>
                      </a:pathLst>
                    </a:custGeom>
                    <a:noFill/>
                    <a:ln w="4680">
                      <a:solidFill>
                        <a:srgbClr val="c0c0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7801" name=""/>
                <p:cNvGrpSpPr/>
                <p:nvPr/>
              </p:nvGrpSpPr>
              <p:grpSpPr>
                <a:xfrm>
                  <a:off x="3175560" y="307080"/>
                  <a:ext cx="110160" cy="47160"/>
                  <a:chOff x="3175560" y="307080"/>
                  <a:chExt cx="110160" cy="47160"/>
                </a:xfrm>
              </p:grpSpPr>
              <p:sp>
                <p:nvSpPr>
                  <p:cNvPr id="7802" name=""/>
                  <p:cNvSpPr/>
                  <p:nvPr/>
                </p:nvSpPr>
                <p:spPr>
                  <a:xfrm>
                    <a:off x="3175560" y="307080"/>
                    <a:ext cx="110160" cy="47160"/>
                  </a:xfrm>
                  <a:prstGeom prst="ellipse">
                    <a:avLst/>
                  </a:prstGeom>
                  <a:solidFill>
                    <a:srgbClr val="4040ff"/>
                  </a:solidFill>
                  <a:ln w="3240">
                    <a:solidFill>
                      <a:srgbClr val="00002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03" name=""/>
                  <p:cNvSpPr/>
                  <p:nvPr/>
                </p:nvSpPr>
                <p:spPr>
                  <a:xfrm>
                    <a:off x="3187800" y="312480"/>
                    <a:ext cx="85680" cy="36360"/>
                  </a:xfrm>
                  <a:prstGeom prst="ellipse">
                    <a:avLst/>
                  </a:prstGeom>
                  <a:solidFill>
                    <a:srgbClr val="000080"/>
                  </a:solidFill>
                  <a:ln w="3240">
                    <a:solidFill>
                      <a:srgbClr val="00002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04" name=""/>
                  <p:cNvSpPr/>
                  <p:nvPr/>
                </p:nvSpPr>
                <p:spPr>
                  <a:xfrm>
                    <a:off x="3192120" y="316080"/>
                    <a:ext cx="72720" cy="27360"/>
                  </a:xfrm>
                  <a:prstGeom prst="ellipse">
                    <a:avLst/>
                  </a:prstGeom>
                  <a:solidFill>
                    <a:srgbClr val="400040"/>
                  </a:solidFill>
                  <a:ln w="3240">
                    <a:solidFill>
                      <a:srgbClr val="00002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sp>
        <p:nvSpPr>
          <p:cNvPr id="7805" name=""/>
          <p:cNvSpPr/>
          <p:nvPr/>
        </p:nvSpPr>
        <p:spPr>
          <a:xfrm>
            <a:off x="3487680" y="1666800"/>
            <a:ext cx="112572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6" name=""/>
          <p:cNvSpPr/>
          <p:nvPr/>
        </p:nvSpPr>
        <p:spPr>
          <a:xfrm>
            <a:off x="5173560" y="6388200"/>
            <a:ext cx="1452600" cy="469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AN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7" name=""/>
          <p:cNvSpPr/>
          <p:nvPr/>
        </p:nvSpPr>
        <p:spPr>
          <a:xfrm flipV="1">
            <a:off x="5491080" y="6470280"/>
            <a:ext cx="0" cy="268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8" name=""/>
          <p:cNvSpPr/>
          <p:nvPr/>
        </p:nvSpPr>
        <p:spPr>
          <a:xfrm flipV="1">
            <a:off x="360360" y="1519200"/>
            <a:ext cx="7920" cy="2937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9" name=""/>
          <p:cNvSpPr/>
          <p:nvPr/>
        </p:nvSpPr>
        <p:spPr>
          <a:xfrm>
            <a:off x="3611520" y="6675480"/>
            <a:ext cx="15588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0" name=""/>
          <p:cNvSpPr/>
          <p:nvPr/>
        </p:nvSpPr>
        <p:spPr>
          <a:xfrm>
            <a:off x="49320" y="1757520"/>
            <a:ext cx="1181160" cy="4860720"/>
          </a:xfrm>
          <a:custGeom>
            <a:avLst/>
            <a:gdLst/>
            <a:ahLst/>
            <a:rect l="l" t="t" r="r" b="b"/>
            <a:pathLst>
              <a:path w="744" h="2628">
                <a:moveTo>
                  <a:pt x="744" y="2622"/>
                </a:moveTo>
                <a:lnTo>
                  <a:pt x="0" y="2628"/>
                </a:lnTo>
                <a:lnTo>
                  <a:pt x="0" y="0"/>
                </a:lnTo>
                <a:lnTo>
                  <a:pt x="12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1" name=""/>
          <p:cNvSpPr/>
          <p:nvPr/>
        </p:nvSpPr>
        <p:spPr>
          <a:xfrm>
            <a:off x="6273720" y="2111400"/>
            <a:ext cx="0" cy="372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2" name=""/>
          <p:cNvSpPr/>
          <p:nvPr/>
        </p:nvSpPr>
        <p:spPr>
          <a:xfrm>
            <a:off x="2244600" y="3137040"/>
            <a:ext cx="0" cy="372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3" name=""/>
          <p:cNvSpPr/>
          <p:nvPr/>
        </p:nvSpPr>
        <p:spPr>
          <a:xfrm>
            <a:off x="5067360" y="5064120"/>
            <a:ext cx="747720" cy="1351080"/>
          </a:xfrm>
          <a:custGeom>
            <a:avLst/>
            <a:gdLst/>
            <a:ahLst/>
            <a:rect l="l" t="t" r="r" b="b"/>
            <a:pathLst>
              <a:path w="662" h="851">
                <a:moveTo>
                  <a:pt x="662" y="851"/>
                </a:moveTo>
                <a:lnTo>
                  <a:pt x="661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4" name=""/>
          <p:cNvSpPr/>
          <p:nvPr/>
        </p:nvSpPr>
        <p:spPr>
          <a:xfrm>
            <a:off x="1305000" y="4862520"/>
            <a:ext cx="7920" cy="293760"/>
          </a:xfrm>
          <a:custGeom>
            <a:avLst/>
            <a:gdLst/>
            <a:ahLst/>
            <a:rect l="l" t="t" r="r" b="b"/>
            <a:pathLst>
              <a:path w="5" h="185">
                <a:moveTo>
                  <a:pt x="0" y="185"/>
                </a:moveTo>
                <a:lnTo>
                  <a:pt x="5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5" name=""/>
          <p:cNvSpPr/>
          <p:nvPr/>
        </p:nvSpPr>
        <p:spPr>
          <a:xfrm>
            <a:off x="2235240" y="4262400"/>
            <a:ext cx="0" cy="471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6" name=""/>
          <p:cNvSpPr/>
          <p:nvPr/>
        </p:nvSpPr>
        <p:spPr>
          <a:xfrm>
            <a:off x="2244600" y="5254560"/>
            <a:ext cx="0" cy="398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7" name=""/>
          <p:cNvSpPr/>
          <p:nvPr/>
        </p:nvSpPr>
        <p:spPr>
          <a:xfrm>
            <a:off x="2254320" y="6091200"/>
            <a:ext cx="0" cy="349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8" name=""/>
          <p:cNvSpPr/>
          <p:nvPr/>
        </p:nvSpPr>
        <p:spPr>
          <a:xfrm>
            <a:off x="2244600" y="2093760"/>
            <a:ext cx="0" cy="373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9" name=""/>
          <p:cNvSpPr/>
          <p:nvPr/>
        </p:nvSpPr>
        <p:spPr>
          <a:xfrm flipH="1">
            <a:off x="4319640" y="2711520"/>
            <a:ext cx="395280" cy="11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0" name=""/>
          <p:cNvSpPr/>
          <p:nvPr/>
        </p:nvSpPr>
        <p:spPr>
          <a:xfrm flipV="1">
            <a:off x="4870440" y="4910040"/>
            <a:ext cx="7920" cy="2937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21" name=""/>
          <p:cNvGrpSpPr/>
          <p:nvPr/>
        </p:nvGrpSpPr>
        <p:grpSpPr>
          <a:xfrm>
            <a:off x="3792600" y="2465280"/>
            <a:ext cx="471240" cy="630360"/>
            <a:chOff x="3792600" y="2465280"/>
            <a:chExt cx="471240" cy="630360"/>
          </a:xfrm>
        </p:grpSpPr>
        <p:grpSp>
          <p:nvGrpSpPr>
            <p:cNvPr id="7822" name=""/>
            <p:cNvGrpSpPr/>
            <p:nvPr/>
          </p:nvGrpSpPr>
          <p:grpSpPr>
            <a:xfrm>
              <a:off x="4095360" y="2652120"/>
              <a:ext cx="168480" cy="443520"/>
              <a:chOff x="4095360" y="2652120"/>
              <a:chExt cx="168480" cy="443520"/>
            </a:xfrm>
          </p:grpSpPr>
          <p:sp>
            <p:nvSpPr>
              <p:cNvPr id="7823" name=""/>
              <p:cNvSpPr/>
              <p:nvPr/>
            </p:nvSpPr>
            <p:spPr>
              <a:xfrm flipH="1">
                <a:off x="4139640" y="2652120"/>
                <a:ext cx="92880" cy="98280"/>
              </a:xfrm>
              <a:custGeom>
                <a:avLst/>
                <a:gdLst/>
                <a:ahLst/>
                <a:rect l="l" t="t" r="r" b="b"/>
                <a:pathLst>
                  <a:path w="490" h="538">
                    <a:moveTo>
                      <a:pt x="121" y="0"/>
                    </a:moveTo>
                    <a:lnTo>
                      <a:pt x="202" y="0"/>
                    </a:lnTo>
                    <a:lnTo>
                      <a:pt x="282" y="32"/>
                    </a:lnTo>
                    <a:lnTo>
                      <a:pt x="329" y="59"/>
                    </a:lnTo>
                    <a:lnTo>
                      <a:pt x="362" y="156"/>
                    </a:lnTo>
                    <a:lnTo>
                      <a:pt x="383" y="215"/>
                    </a:lnTo>
                    <a:lnTo>
                      <a:pt x="463" y="150"/>
                    </a:lnTo>
                    <a:lnTo>
                      <a:pt x="490" y="156"/>
                    </a:lnTo>
                    <a:lnTo>
                      <a:pt x="484" y="187"/>
                    </a:lnTo>
                    <a:lnTo>
                      <a:pt x="383" y="292"/>
                    </a:lnTo>
                    <a:lnTo>
                      <a:pt x="383" y="369"/>
                    </a:lnTo>
                    <a:lnTo>
                      <a:pt x="362" y="447"/>
                    </a:lnTo>
                    <a:lnTo>
                      <a:pt x="329" y="506"/>
                    </a:lnTo>
                    <a:lnTo>
                      <a:pt x="282" y="538"/>
                    </a:lnTo>
                    <a:lnTo>
                      <a:pt x="222" y="538"/>
                    </a:lnTo>
                    <a:lnTo>
                      <a:pt x="140" y="506"/>
                    </a:lnTo>
                    <a:lnTo>
                      <a:pt x="87" y="441"/>
                    </a:lnTo>
                    <a:lnTo>
                      <a:pt x="41" y="343"/>
                    </a:lnTo>
                    <a:lnTo>
                      <a:pt x="6" y="252"/>
                    </a:lnTo>
                    <a:lnTo>
                      <a:pt x="0" y="130"/>
                    </a:lnTo>
                    <a:lnTo>
                      <a:pt x="20" y="71"/>
                    </a:lnTo>
                    <a:lnTo>
                      <a:pt x="47" y="32"/>
                    </a:lnTo>
                    <a:lnTo>
                      <a:pt x="1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4" name=""/>
              <p:cNvSpPr/>
              <p:nvPr/>
            </p:nvSpPr>
            <p:spPr>
              <a:xfrm flipH="1">
                <a:off x="4147560" y="2763000"/>
                <a:ext cx="65520" cy="169920"/>
              </a:xfrm>
              <a:custGeom>
                <a:avLst/>
                <a:gdLst/>
                <a:ahLst/>
                <a:rect l="l" t="t" r="r" b="b"/>
                <a:pathLst>
                  <a:path w="347" h="929">
                    <a:moveTo>
                      <a:pt x="47" y="32"/>
                    </a:moveTo>
                    <a:lnTo>
                      <a:pt x="100" y="0"/>
                    </a:lnTo>
                    <a:lnTo>
                      <a:pt x="180" y="0"/>
                    </a:lnTo>
                    <a:lnTo>
                      <a:pt x="240" y="20"/>
                    </a:lnTo>
                    <a:lnTo>
                      <a:pt x="281" y="89"/>
                    </a:lnTo>
                    <a:lnTo>
                      <a:pt x="320" y="206"/>
                    </a:lnTo>
                    <a:lnTo>
                      <a:pt x="341" y="334"/>
                    </a:lnTo>
                    <a:lnTo>
                      <a:pt x="347" y="486"/>
                    </a:lnTo>
                    <a:lnTo>
                      <a:pt x="347" y="660"/>
                    </a:lnTo>
                    <a:lnTo>
                      <a:pt x="320" y="800"/>
                    </a:lnTo>
                    <a:lnTo>
                      <a:pt x="281" y="877"/>
                    </a:lnTo>
                    <a:lnTo>
                      <a:pt x="187" y="929"/>
                    </a:lnTo>
                    <a:lnTo>
                      <a:pt x="140" y="917"/>
                    </a:lnTo>
                    <a:lnTo>
                      <a:pt x="80" y="858"/>
                    </a:lnTo>
                    <a:lnTo>
                      <a:pt x="60" y="775"/>
                    </a:lnTo>
                    <a:lnTo>
                      <a:pt x="41" y="621"/>
                    </a:lnTo>
                    <a:lnTo>
                      <a:pt x="60" y="512"/>
                    </a:lnTo>
                    <a:lnTo>
                      <a:pt x="60" y="397"/>
                    </a:lnTo>
                    <a:lnTo>
                      <a:pt x="27" y="320"/>
                    </a:lnTo>
                    <a:lnTo>
                      <a:pt x="0" y="218"/>
                    </a:lnTo>
                    <a:lnTo>
                      <a:pt x="0" y="109"/>
                    </a:lnTo>
                    <a:lnTo>
                      <a:pt x="47" y="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5" name=""/>
              <p:cNvSpPr/>
              <p:nvPr/>
            </p:nvSpPr>
            <p:spPr>
              <a:xfrm flipH="1">
                <a:off x="4095360" y="2769120"/>
                <a:ext cx="87120" cy="168120"/>
              </a:xfrm>
              <a:custGeom>
                <a:avLst/>
                <a:gdLst/>
                <a:ahLst/>
                <a:rect l="l" t="t" r="r" b="b"/>
                <a:pathLst>
                  <a:path w="460" h="918">
                    <a:moveTo>
                      <a:pt x="53" y="0"/>
                    </a:moveTo>
                    <a:lnTo>
                      <a:pt x="201" y="32"/>
                    </a:lnTo>
                    <a:lnTo>
                      <a:pt x="314" y="109"/>
                    </a:lnTo>
                    <a:lnTo>
                      <a:pt x="400" y="237"/>
                    </a:lnTo>
                    <a:lnTo>
                      <a:pt x="454" y="359"/>
                    </a:lnTo>
                    <a:lnTo>
                      <a:pt x="460" y="494"/>
                    </a:lnTo>
                    <a:lnTo>
                      <a:pt x="419" y="584"/>
                    </a:lnTo>
                    <a:lnTo>
                      <a:pt x="320" y="642"/>
                    </a:lnTo>
                    <a:lnTo>
                      <a:pt x="240" y="681"/>
                    </a:lnTo>
                    <a:lnTo>
                      <a:pt x="240" y="719"/>
                    </a:lnTo>
                    <a:lnTo>
                      <a:pt x="293" y="764"/>
                    </a:lnTo>
                    <a:lnTo>
                      <a:pt x="320" y="860"/>
                    </a:lnTo>
                    <a:lnTo>
                      <a:pt x="293" y="918"/>
                    </a:lnTo>
                    <a:lnTo>
                      <a:pt x="259" y="892"/>
                    </a:lnTo>
                    <a:lnTo>
                      <a:pt x="259" y="841"/>
                    </a:lnTo>
                    <a:lnTo>
                      <a:pt x="234" y="764"/>
                    </a:lnTo>
                    <a:lnTo>
                      <a:pt x="193" y="719"/>
                    </a:lnTo>
                    <a:lnTo>
                      <a:pt x="179" y="661"/>
                    </a:lnTo>
                    <a:lnTo>
                      <a:pt x="240" y="622"/>
                    </a:lnTo>
                    <a:lnTo>
                      <a:pt x="353" y="545"/>
                    </a:lnTo>
                    <a:lnTo>
                      <a:pt x="400" y="476"/>
                    </a:lnTo>
                    <a:lnTo>
                      <a:pt x="400" y="399"/>
                    </a:lnTo>
                    <a:lnTo>
                      <a:pt x="339" y="282"/>
                    </a:lnTo>
                    <a:lnTo>
                      <a:pt x="240" y="180"/>
                    </a:lnTo>
                    <a:lnTo>
                      <a:pt x="179" y="128"/>
                    </a:lnTo>
                    <a:lnTo>
                      <a:pt x="93" y="109"/>
                    </a:lnTo>
                    <a:lnTo>
                      <a:pt x="0" y="83"/>
                    </a:lnTo>
                    <a:lnTo>
                      <a:pt x="5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6" name=""/>
              <p:cNvSpPr/>
              <p:nvPr/>
            </p:nvSpPr>
            <p:spPr>
              <a:xfrm flipH="1">
                <a:off x="4199040" y="2768400"/>
                <a:ext cx="64440" cy="157680"/>
              </a:xfrm>
              <a:custGeom>
                <a:avLst/>
                <a:gdLst/>
                <a:ahLst/>
                <a:rect l="l" t="t" r="r" b="b"/>
                <a:pathLst>
                  <a:path w="341" h="861">
                    <a:moveTo>
                      <a:pt x="214" y="39"/>
                    </a:moveTo>
                    <a:lnTo>
                      <a:pt x="281" y="0"/>
                    </a:lnTo>
                    <a:lnTo>
                      <a:pt x="341" y="6"/>
                    </a:lnTo>
                    <a:lnTo>
                      <a:pt x="335" y="77"/>
                    </a:lnTo>
                    <a:lnTo>
                      <a:pt x="294" y="116"/>
                    </a:lnTo>
                    <a:lnTo>
                      <a:pt x="234" y="148"/>
                    </a:lnTo>
                    <a:lnTo>
                      <a:pt x="160" y="231"/>
                    </a:lnTo>
                    <a:lnTo>
                      <a:pt x="80" y="347"/>
                    </a:lnTo>
                    <a:lnTo>
                      <a:pt x="60" y="443"/>
                    </a:lnTo>
                    <a:lnTo>
                      <a:pt x="74" y="501"/>
                    </a:lnTo>
                    <a:lnTo>
                      <a:pt x="94" y="534"/>
                    </a:lnTo>
                    <a:lnTo>
                      <a:pt x="181" y="572"/>
                    </a:lnTo>
                    <a:lnTo>
                      <a:pt x="261" y="597"/>
                    </a:lnTo>
                    <a:lnTo>
                      <a:pt x="294" y="630"/>
                    </a:lnTo>
                    <a:lnTo>
                      <a:pt x="300" y="656"/>
                    </a:lnTo>
                    <a:lnTo>
                      <a:pt x="253" y="707"/>
                    </a:lnTo>
                    <a:lnTo>
                      <a:pt x="234" y="771"/>
                    </a:lnTo>
                    <a:lnTo>
                      <a:pt x="214" y="861"/>
                    </a:lnTo>
                    <a:lnTo>
                      <a:pt x="173" y="848"/>
                    </a:lnTo>
                    <a:lnTo>
                      <a:pt x="173" y="784"/>
                    </a:lnTo>
                    <a:lnTo>
                      <a:pt x="195" y="688"/>
                    </a:lnTo>
                    <a:lnTo>
                      <a:pt x="234" y="649"/>
                    </a:lnTo>
                    <a:lnTo>
                      <a:pt x="160" y="611"/>
                    </a:lnTo>
                    <a:lnTo>
                      <a:pt x="74" y="572"/>
                    </a:lnTo>
                    <a:lnTo>
                      <a:pt x="0" y="514"/>
                    </a:lnTo>
                    <a:lnTo>
                      <a:pt x="0" y="443"/>
                    </a:lnTo>
                    <a:lnTo>
                      <a:pt x="20" y="321"/>
                    </a:lnTo>
                    <a:lnTo>
                      <a:pt x="80" y="205"/>
                    </a:lnTo>
                    <a:lnTo>
                      <a:pt x="154" y="108"/>
                    </a:lnTo>
                    <a:lnTo>
                      <a:pt x="214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7" name=""/>
              <p:cNvSpPr/>
              <p:nvPr/>
            </p:nvSpPr>
            <p:spPr>
              <a:xfrm flipH="1">
                <a:off x="4100760" y="2907360"/>
                <a:ext cx="76320" cy="188280"/>
              </a:xfrm>
              <a:custGeom>
                <a:avLst/>
                <a:gdLst/>
                <a:ahLst/>
                <a:rect l="l" t="t" r="r" b="b"/>
                <a:pathLst>
                  <a:path w="402" h="1028">
                    <a:moveTo>
                      <a:pt x="27" y="0"/>
                    </a:moveTo>
                    <a:lnTo>
                      <a:pt x="120" y="38"/>
                    </a:lnTo>
                    <a:lnTo>
                      <a:pt x="167" y="135"/>
                    </a:lnTo>
                    <a:lnTo>
                      <a:pt x="181" y="307"/>
                    </a:lnTo>
                    <a:lnTo>
                      <a:pt x="167" y="593"/>
                    </a:lnTo>
                    <a:lnTo>
                      <a:pt x="128" y="817"/>
                    </a:lnTo>
                    <a:lnTo>
                      <a:pt x="107" y="913"/>
                    </a:lnTo>
                    <a:lnTo>
                      <a:pt x="147" y="933"/>
                    </a:lnTo>
                    <a:lnTo>
                      <a:pt x="227" y="856"/>
                    </a:lnTo>
                    <a:lnTo>
                      <a:pt x="322" y="799"/>
                    </a:lnTo>
                    <a:lnTo>
                      <a:pt x="348" y="805"/>
                    </a:lnTo>
                    <a:lnTo>
                      <a:pt x="402" y="842"/>
                    </a:lnTo>
                    <a:lnTo>
                      <a:pt x="402" y="862"/>
                    </a:lnTo>
                    <a:lnTo>
                      <a:pt x="288" y="913"/>
                    </a:lnTo>
                    <a:lnTo>
                      <a:pt x="167" y="977"/>
                    </a:lnTo>
                    <a:lnTo>
                      <a:pt x="68" y="1028"/>
                    </a:lnTo>
                    <a:lnTo>
                      <a:pt x="19" y="1016"/>
                    </a:lnTo>
                    <a:lnTo>
                      <a:pt x="19" y="957"/>
                    </a:lnTo>
                    <a:lnTo>
                      <a:pt x="60" y="874"/>
                    </a:lnTo>
                    <a:lnTo>
                      <a:pt x="87" y="702"/>
                    </a:lnTo>
                    <a:lnTo>
                      <a:pt x="107" y="498"/>
                    </a:lnTo>
                    <a:lnTo>
                      <a:pt x="120" y="269"/>
                    </a:lnTo>
                    <a:lnTo>
                      <a:pt x="68" y="129"/>
                    </a:lnTo>
                    <a:lnTo>
                      <a:pt x="0" y="71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8" name=""/>
              <p:cNvSpPr/>
              <p:nvPr/>
            </p:nvSpPr>
            <p:spPr>
              <a:xfrm flipH="1">
                <a:off x="4172400" y="2888280"/>
                <a:ext cx="58680" cy="205920"/>
              </a:xfrm>
              <a:custGeom>
                <a:avLst/>
                <a:gdLst/>
                <a:ahLst/>
                <a:rect l="l" t="t" r="r" b="b"/>
                <a:pathLst>
                  <a:path w="309" h="1127">
                    <a:moveTo>
                      <a:pt x="124" y="223"/>
                    </a:moveTo>
                    <a:lnTo>
                      <a:pt x="207" y="51"/>
                    </a:lnTo>
                    <a:lnTo>
                      <a:pt x="282" y="0"/>
                    </a:lnTo>
                    <a:lnTo>
                      <a:pt x="309" y="32"/>
                    </a:lnTo>
                    <a:lnTo>
                      <a:pt x="288" y="89"/>
                    </a:lnTo>
                    <a:lnTo>
                      <a:pt x="207" y="230"/>
                    </a:lnTo>
                    <a:lnTo>
                      <a:pt x="145" y="376"/>
                    </a:lnTo>
                    <a:lnTo>
                      <a:pt x="103" y="586"/>
                    </a:lnTo>
                    <a:lnTo>
                      <a:pt x="75" y="821"/>
                    </a:lnTo>
                    <a:lnTo>
                      <a:pt x="75" y="1025"/>
                    </a:lnTo>
                    <a:lnTo>
                      <a:pt x="97" y="1007"/>
                    </a:lnTo>
                    <a:lnTo>
                      <a:pt x="145" y="930"/>
                    </a:lnTo>
                    <a:lnTo>
                      <a:pt x="164" y="815"/>
                    </a:lnTo>
                    <a:lnTo>
                      <a:pt x="207" y="815"/>
                    </a:lnTo>
                    <a:lnTo>
                      <a:pt x="261" y="841"/>
                    </a:lnTo>
                    <a:lnTo>
                      <a:pt x="226" y="936"/>
                    </a:lnTo>
                    <a:lnTo>
                      <a:pt x="145" y="1032"/>
                    </a:lnTo>
                    <a:lnTo>
                      <a:pt x="62" y="1127"/>
                    </a:lnTo>
                    <a:lnTo>
                      <a:pt x="21" y="1127"/>
                    </a:lnTo>
                    <a:lnTo>
                      <a:pt x="0" y="1090"/>
                    </a:lnTo>
                    <a:lnTo>
                      <a:pt x="0" y="1007"/>
                    </a:lnTo>
                    <a:lnTo>
                      <a:pt x="14" y="764"/>
                    </a:lnTo>
                    <a:lnTo>
                      <a:pt x="35" y="516"/>
                    </a:lnTo>
                    <a:lnTo>
                      <a:pt x="62" y="338"/>
                    </a:lnTo>
                    <a:lnTo>
                      <a:pt x="124" y="2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29" name=""/>
            <p:cNvGrpSpPr/>
            <p:nvPr/>
          </p:nvGrpSpPr>
          <p:grpSpPr>
            <a:xfrm>
              <a:off x="3792600" y="2465280"/>
              <a:ext cx="320760" cy="323640"/>
              <a:chOff x="3792600" y="2465280"/>
              <a:chExt cx="320760" cy="323640"/>
            </a:xfrm>
          </p:grpSpPr>
          <p:sp>
            <p:nvSpPr>
              <p:cNvPr id="7830" name=""/>
              <p:cNvSpPr/>
              <p:nvPr/>
            </p:nvSpPr>
            <p:spPr>
              <a:xfrm>
                <a:off x="3792600" y="2465280"/>
                <a:ext cx="320760" cy="3236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831" name=""/>
              <p:cNvGrpSpPr/>
              <p:nvPr/>
            </p:nvGrpSpPr>
            <p:grpSpPr>
              <a:xfrm>
                <a:off x="3804480" y="2483640"/>
                <a:ext cx="286920" cy="292320"/>
                <a:chOff x="3804480" y="2483640"/>
                <a:chExt cx="286920" cy="292320"/>
              </a:xfrm>
            </p:grpSpPr>
            <p:sp>
              <p:nvSpPr>
                <p:cNvPr id="7832" name=""/>
                <p:cNvSpPr/>
                <p:nvPr/>
              </p:nvSpPr>
              <p:spPr>
                <a:xfrm>
                  <a:off x="3804480" y="2483640"/>
                  <a:ext cx="286920" cy="29232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33" name=""/>
                <p:cNvSpPr/>
                <p:nvPr/>
              </p:nvSpPr>
              <p:spPr>
                <a:xfrm rot="18621000">
                  <a:off x="3856680" y="2595600"/>
                  <a:ext cx="82080" cy="131760"/>
                </a:xfrm>
                <a:custGeom>
                  <a:avLst/>
                  <a:gdLst/>
                  <a:ahLst/>
                  <a:rect l="l" t="t" r="r" b="b"/>
                  <a:pathLst>
                    <a:path w="406" h="695">
                      <a:moveTo>
                        <a:pt x="406" y="610"/>
                      </a:moveTo>
                      <a:lnTo>
                        <a:pt x="154" y="230"/>
                      </a:lnTo>
                      <a:lnTo>
                        <a:pt x="269" y="176"/>
                      </a:lnTo>
                      <a:lnTo>
                        <a:pt x="0" y="0"/>
                      </a:lnTo>
                      <a:lnTo>
                        <a:pt x="8" y="320"/>
                      </a:lnTo>
                      <a:lnTo>
                        <a:pt x="89" y="206"/>
                      </a:lnTo>
                      <a:lnTo>
                        <a:pt x="358" y="695"/>
                      </a:lnTo>
                      <a:lnTo>
                        <a:pt x="406" y="6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7834" name=""/>
          <p:cNvSpPr/>
          <p:nvPr/>
        </p:nvSpPr>
        <p:spPr>
          <a:xfrm>
            <a:off x="2244600" y="961920"/>
            <a:ext cx="0" cy="414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35" name="" descr=""/>
          <p:cNvPicPr/>
          <p:nvPr/>
        </p:nvPicPr>
        <p:blipFill>
          <a:blip r:embed="rId1"/>
          <a:stretch/>
        </p:blipFill>
        <p:spPr>
          <a:xfrm>
            <a:off x="4257720" y="4794120"/>
            <a:ext cx="338040" cy="40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36" name=""/>
          <p:cNvGrpSpPr/>
          <p:nvPr/>
        </p:nvGrpSpPr>
        <p:grpSpPr>
          <a:xfrm>
            <a:off x="116280" y="0"/>
            <a:ext cx="9364320" cy="6629040"/>
            <a:chOff x="116280" y="0"/>
            <a:chExt cx="9364320" cy="6629040"/>
          </a:xfrm>
        </p:grpSpPr>
        <p:sp>
          <p:nvSpPr>
            <p:cNvPr id="7837" name=""/>
            <p:cNvSpPr/>
            <p:nvPr/>
          </p:nvSpPr>
          <p:spPr>
            <a:xfrm>
              <a:off x="1265400" y="3276720"/>
              <a:ext cx="1680840" cy="18478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8" name=""/>
            <p:cNvSpPr/>
            <p:nvPr/>
          </p:nvSpPr>
          <p:spPr>
            <a:xfrm>
              <a:off x="2930400" y="3276720"/>
              <a:ext cx="3292560" cy="1855800"/>
            </a:xfrm>
            <a:custGeom>
              <a:avLst/>
              <a:gdLst/>
              <a:ahLst/>
              <a:rect l="l" t="t" r="r" b="b"/>
              <a:pathLst>
                <a:path w="2074" h="1169">
                  <a:moveTo>
                    <a:pt x="11" y="5"/>
                  </a:moveTo>
                  <a:lnTo>
                    <a:pt x="5" y="0"/>
                  </a:lnTo>
                  <a:lnTo>
                    <a:pt x="103" y="336"/>
                  </a:lnTo>
                  <a:lnTo>
                    <a:pt x="1529" y="341"/>
                  </a:lnTo>
                  <a:lnTo>
                    <a:pt x="1608" y="915"/>
                  </a:lnTo>
                  <a:lnTo>
                    <a:pt x="2074" y="921"/>
                  </a:lnTo>
                  <a:lnTo>
                    <a:pt x="2074" y="1169"/>
                  </a:lnTo>
                  <a:lnTo>
                    <a:pt x="0" y="1169"/>
                  </a:lnTo>
                </a:path>
              </a:pathLst>
            </a:custGeom>
            <a:gradFill rotWithShape="0">
              <a:gsLst>
                <a:gs pos="0">
                  <a:srgbClr val="757500"/>
                </a:gs>
                <a:gs pos="100000">
                  <a:srgbClr val="fff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9" name=""/>
            <p:cNvSpPr/>
            <p:nvPr/>
          </p:nvSpPr>
          <p:spPr>
            <a:xfrm>
              <a:off x="6813720" y="2295360"/>
              <a:ext cx="2216160" cy="17733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0" name=""/>
            <p:cNvSpPr/>
            <p:nvPr/>
          </p:nvSpPr>
          <p:spPr>
            <a:xfrm>
              <a:off x="3711600" y="3809880"/>
              <a:ext cx="0" cy="40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1" name=""/>
            <p:cNvSpPr/>
            <p:nvPr/>
          </p:nvSpPr>
          <p:spPr>
            <a:xfrm>
              <a:off x="4424400" y="3801960"/>
              <a:ext cx="0" cy="41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2" name=""/>
            <p:cNvSpPr/>
            <p:nvPr/>
          </p:nvSpPr>
          <p:spPr>
            <a:xfrm>
              <a:off x="5129280" y="380052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3" name=""/>
            <p:cNvSpPr/>
            <p:nvPr/>
          </p:nvSpPr>
          <p:spPr>
            <a:xfrm>
              <a:off x="3398760" y="4229280"/>
              <a:ext cx="1920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4" name=""/>
            <p:cNvSpPr/>
            <p:nvPr/>
          </p:nvSpPr>
          <p:spPr>
            <a:xfrm>
              <a:off x="804960" y="5132520"/>
              <a:ext cx="618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5" name=""/>
            <p:cNvSpPr/>
            <p:nvPr/>
          </p:nvSpPr>
          <p:spPr>
            <a:xfrm>
              <a:off x="3390840" y="4451400"/>
              <a:ext cx="1970280" cy="525240"/>
            </a:xfrm>
            <a:custGeom>
              <a:avLst/>
              <a:gdLst/>
              <a:ahLst/>
              <a:rect l="l" t="t" r="r" b="b"/>
              <a:pathLst>
                <a:path w="1241" h="331">
                  <a:moveTo>
                    <a:pt x="0" y="331"/>
                  </a:moveTo>
                  <a:cubicBezTo>
                    <a:pt x="139" y="310"/>
                    <a:pt x="626" y="261"/>
                    <a:pt x="833" y="206"/>
                  </a:cubicBezTo>
                  <a:cubicBezTo>
                    <a:pt x="1040" y="151"/>
                    <a:pt x="1156" y="43"/>
                    <a:pt x="1241" y="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6" name=""/>
            <p:cNvSpPr/>
            <p:nvPr/>
          </p:nvSpPr>
          <p:spPr>
            <a:xfrm>
              <a:off x="4392720" y="4853160"/>
              <a:ext cx="1440" cy="287280"/>
            </a:xfrm>
            <a:custGeom>
              <a:avLst/>
              <a:gdLst/>
              <a:ahLst/>
              <a:rect l="l" t="t" r="r" b="b"/>
              <a:pathLst>
                <a:path w="1" h="181">
                  <a:moveTo>
                    <a:pt x="0" y="0"/>
                  </a:moveTo>
                  <a:lnTo>
                    <a:pt x="0" y="181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7" name=""/>
            <p:cNvSpPr/>
            <p:nvPr/>
          </p:nvSpPr>
          <p:spPr>
            <a:xfrm>
              <a:off x="5122800" y="4599000"/>
              <a:ext cx="1800" cy="533520"/>
            </a:xfrm>
            <a:custGeom>
              <a:avLst/>
              <a:gdLst/>
              <a:ahLst/>
              <a:rect l="l" t="t" r="r" b="b"/>
              <a:pathLst>
                <a:path w="1" h="336">
                  <a:moveTo>
                    <a:pt x="0" y="0"/>
                  </a:moveTo>
                  <a:lnTo>
                    <a:pt x="0" y="33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8" name=""/>
            <p:cNvSpPr/>
            <p:nvPr/>
          </p:nvSpPr>
          <p:spPr>
            <a:xfrm>
              <a:off x="681120" y="3276720"/>
              <a:ext cx="6199200" cy="1461960"/>
            </a:xfrm>
            <a:custGeom>
              <a:avLst/>
              <a:gdLst/>
              <a:ahLst/>
              <a:rect l="l" t="t" r="r" b="b"/>
              <a:pathLst>
                <a:path w="3905" h="921">
                  <a:moveTo>
                    <a:pt x="0" y="0"/>
                  </a:moveTo>
                  <a:lnTo>
                    <a:pt x="1428" y="0"/>
                  </a:lnTo>
                  <a:lnTo>
                    <a:pt x="1526" y="336"/>
                  </a:lnTo>
                  <a:lnTo>
                    <a:pt x="2948" y="341"/>
                  </a:lnTo>
                  <a:lnTo>
                    <a:pt x="3031" y="921"/>
                  </a:lnTo>
                  <a:lnTo>
                    <a:pt x="3905" y="92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9" name=""/>
            <p:cNvSpPr/>
            <p:nvPr/>
          </p:nvSpPr>
          <p:spPr>
            <a:xfrm flipV="1">
              <a:off x="976320" y="3276720"/>
              <a:ext cx="0" cy="1846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0" name=""/>
            <p:cNvSpPr/>
            <p:nvPr/>
          </p:nvSpPr>
          <p:spPr>
            <a:xfrm>
              <a:off x="6607080" y="4754520"/>
              <a:ext cx="3240" cy="393840"/>
            </a:xfrm>
            <a:custGeom>
              <a:avLst/>
              <a:gdLst/>
              <a:ahLst/>
              <a:rect l="l" t="t" r="r" b="b"/>
              <a:pathLst>
                <a:path w="2" h="248">
                  <a:moveTo>
                    <a:pt x="0" y="248"/>
                  </a:moveTo>
                  <a:lnTo>
                    <a:pt x="2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1" name=""/>
            <p:cNvSpPr/>
            <p:nvPr/>
          </p:nvSpPr>
          <p:spPr>
            <a:xfrm>
              <a:off x="3654360" y="4238640"/>
              <a:ext cx="1800" cy="728640"/>
            </a:xfrm>
            <a:custGeom>
              <a:avLst/>
              <a:gdLst/>
              <a:ahLst/>
              <a:rect l="l" t="t" r="r" b="b"/>
              <a:pathLst>
                <a:path w="1" h="459">
                  <a:moveTo>
                    <a:pt x="0" y="459"/>
                  </a:move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2" name=""/>
            <p:cNvSpPr/>
            <p:nvPr/>
          </p:nvSpPr>
          <p:spPr>
            <a:xfrm>
              <a:off x="4351320" y="4237200"/>
              <a:ext cx="1440" cy="631800"/>
            </a:xfrm>
            <a:custGeom>
              <a:avLst/>
              <a:gdLst/>
              <a:ahLst/>
              <a:rect l="l" t="t" r="r" b="b"/>
              <a:pathLst>
                <a:path w="1" h="398">
                  <a:moveTo>
                    <a:pt x="0" y="398"/>
                  </a:move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3" name=""/>
            <p:cNvSpPr/>
            <p:nvPr/>
          </p:nvSpPr>
          <p:spPr>
            <a:xfrm>
              <a:off x="3727440" y="4960800"/>
              <a:ext cx="9360" cy="163800"/>
            </a:xfrm>
            <a:custGeom>
              <a:avLst/>
              <a:gdLst/>
              <a:ahLst/>
              <a:rect l="l" t="t" r="r" b="b"/>
              <a:pathLst>
                <a:path w="6" h="103">
                  <a:moveTo>
                    <a:pt x="6" y="0"/>
                  </a:moveTo>
                  <a:lnTo>
                    <a:pt x="0" y="103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4" name=""/>
            <p:cNvSpPr/>
            <p:nvPr/>
          </p:nvSpPr>
          <p:spPr>
            <a:xfrm>
              <a:off x="1741320" y="4444920"/>
              <a:ext cx="19033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200" spc="-1" strike="noStrike">
                  <a:solidFill>
                    <a:srgbClr val="000000"/>
                  </a:solidFill>
                  <a:latin typeface="Times New Roman"/>
                </a:rPr>
                <a:t>Čistý filtrační tlak =P</a:t>
              </a:r>
              <a:r>
                <a:rPr b="0" lang="cs-CZ" sz="1200" spc="-1" strike="noStrike" baseline="-25000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cs-CZ" sz="1200" spc="-1" strike="noStrike">
                  <a:solidFill>
                    <a:srgbClr val="000000"/>
                  </a:solidFill>
                  <a:latin typeface="Times New Roman"/>
                </a:rPr>
                <a:t>-P</a:t>
              </a:r>
              <a:r>
                <a:rPr b="0" lang="cs-CZ" sz="12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cs-CZ" sz="1200" spc="-1" strike="noStrike">
                  <a:solidFill>
                    <a:srgbClr val="000000"/>
                  </a:solidFill>
                  <a:latin typeface="Times New Roman"/>
                </a:rPr>
                <a:t>-P</a:t>
              </a:r>
              <a:r>
                <a:rPr b="0" lang="cs-CZ" sz="1200" spc="-1" strike="noStrike" baseline="-25000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5" name=""/>
            <p:cNvSpPr/>
            <p:nvPr/>
          </p:nvSpPr>
          <p:spPr>
            <a:xfrm>
              <a:off x="3466800" y="3903840"/>
              <a:ext cx="3103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2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cs-CZ" sz="12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6" name=""/>
            <p:cNvSpPr/>
            <p:nvPr/>
          </p:nvSpPr>
          <p:spPr>
            <a:xfrm>
              <a:off x="3401640" y="4897440"/>
              <a:ext cx="3103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2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cs-CZ" sz="1200" spc="-1" strike="noStrike" baseline="-25000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7" name=""/>
            <p:cNvSpPr/>
            <p:nvPr/>
          </p:nvSpPr>
          <p:spPr>
            <a:xfrm>
              <a:off x="743040" y="3936960"/>
              <a:ext cx="31248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2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cs-CZ" sz="12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8" name=""/>
            <p:cNvSpPr/>
            <p:nvPr/>
          </p:nvSpPr>
          <p:spPr>
            <a:xfrm>
              <a:off x="6275520" y="4830840"/>
              <a:ext cx="31248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2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cs-CZ" sz="1200" spc="-1" strike="noStrike" baseline="-25000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9" name=""/>
            <p:cNvSpPr/>
            <p:nvPr/>
          </p:nvSpPr>
          <p:spPr>
            <a:xfrm flipV="1">
              <a:off x="4079880" y="3817440"/>
              <a:ext cx="0" cy="1305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0" name=""/>
            <p:cNvSpPr/>
            <p:nvPr/>
          </p:nvSpPr>
          <p:spPr>
            <a:xfrm>
              <a:off x="3835080" y="3895560"/>
              <a:ext cx="3103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2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cs-CZ" sz="1200" spc="-1" strike="noStrike" baseline="-25000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1" name=""/>
            <p:cNvSpPr/>
            <p:nvPr/>
          </p:nvSpPr>
          <p:spPr>
            <a:xfrm>
              <a:off x="3597120" y="1577880"/>
              <a:ext cx="262080" cy="1074960"/>
            </a:xfrm>
            <a:prstGeom prst="downArrow">
              <a:avLst>
                <a:gd name="adj1" fmla="val 50000"/>
                <a:gd name="adj2" fmla="val 102541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2" name=""/>
            <p:cNvSpPr/>
            <p:nvPr/>
          </p:nvSpPr>
          <p:spPr>
            <a:xfrm>
              <a:off x="4005360" y="1660680"/>
              <a:ext cx="231840" cy="796680"/>
            </a:xfrm>
            <a:prstGeom prst="downArrow">
              <a:avLst>
                <a:gd name="adj1" fmla="val 50000"/>
                <a:gd name="adj2" fmla="val 85908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3" name=""/>
            <p:cNvSpPr/>
            <p:nvPr/>
          </p:nvSpPr>
          <p:spPr>
            <a:xfrm>
              <a:off x="4398840" y="1609560"/>
              <a:ext cx="165240" cy="600120"/>
            </a:xfrm>
            <a:prstGeom prst="downArrow">
              <a:avLst>
                <a:gd name="adj1" fmla="val 50000"/>
                <a:gd name="adj2" fmla="val 90795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4" name=""/>
            <p:cNvSpPr/>
            <p:nvPr/>
          </p:nvSpPr>
          <p:spPr>
            <a:xfrm>
              <a:off x="4786200" y="1562040"/>
              <a:ext cx="149400" cy="500040"/>
            </a:xfrm>
            <a:prstGeom prst="downArrow">
              <a:avLst>
                <a:gd name="adj1" fmla="val 50000"/>
                <a:gd name="adj2" fmla="val 83675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5" name=""/>
            <p:cNvSpPr/>
            <p:nvPr/>
          </p:nvSpPr>
          <p:spPr>
            <a:xfrm>
              <a:off x="5419800" y="689040"/>
              <a:ext cx="895320" cy="5414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6" name=""/>
            <p:cNvSpPr/>
            <p:nvPr/>
          </p:nvSpPr>
          <p:spPr>
            <a:xfrm>
              <a:off x="2266920" y="608040"/>
              <a:ext cx="895320" cy="7380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7" name=""/>
            <p:cNvSpPr/>
            <p:nvPr/>
          </p:nvSpPr>
          <p:spPr>
            <a:xfrm>
              <a:off x="3051000" y="290520"/>
              <a:ext cx="2449800" cy="1382760"/>
            </a:xfrm>
            <a:custGeom>
              <a:avLst/>
              <a:gdLst/>
              <a:ahLst/>
              <a:rect l="l" t="t" r="r" b="b"/>
              <a:pathLst>
                <a:path w="1543" h="856">
                  <a:moveTo>
                    <a:pt x="33" y="547"/>
                  </a:moveTo>
                  <a:cubicBezTo>
                    <a:pt x="28" y="496"/>
                    <a:pt x="0" y="371"/>
                    <a:pt x="39" y="298"/>
                  </a:cubicBezTo>
                  <a:cubicBezTo>
                    <a:pt x="78" y="225"/>
                    <a:pt x="177" y="153"/>
                    <a:pt x="266" y="107"/>
                  </a:cubicBezTo>
                  <a:cubicBezTo>
                    <a:pt x="355" y="61"/>
                    <a:pt x="475" y="36"/>
                    <a:pt x="571" y="19"/>
                  </a:cubicBezTo>
                  <a:cubicBezTo>
                    <a:pt x="667" y="2"/>
                    <a:pt x="752" y="0"/>
                    <a:pt x="840" y="4"/>
                  </a:cubicBezTo>
                  <a:cubicBezTo>
                    <a:pt x="928" y="8"/>
                    <a:pt x="1030" y="27"/>
                    <a:pt x="1099" y="45"/>
                  </a:cubicBezTo>
                  <a:cubicBezTo>
                    <a:pt x="1168" y="63"/>
                    <a:pt x="1187" y="66"/>
                    <a:pt x="1254" y="112"/>
                  </a:cubicBezTo>
                  <a:cubicBezTo>
                    <a:pt x="1321" y="158"/>
                    <a:pt x="1461" y="253"/>
                    <a:pt x="1502" y="319"/>
                  </a:cubicBezTo>
                  <a:cubicBezTo>
                    <a:pt x="1543" y="385"/>
                    <a:pt x="1532" y="445"/>
                    <a:pt x="1502" y="510"/>
                  </a:cubicBezTo>
                  <a:cubicBezTo>
                    <a:pt x="1472" y="575"/>
                    <a:pt x="1399" y="655"/>
                    <a:pt x="1321" y="707"/>
                  </a:cubicBezTo>
                  <a:cubicBezTo>
                    <a:pt x="1243" y="759"/>
                    <a:pt x="1147" y="797"/>
                    <a:pt x="1032" y="821"/>
                  </a:cubicBezTo>
                  <a:cubicBezTo>
                    <a:pt x="917" y="845"/>
                    <a:pt x="741" y="856"/>
                    <a:pt x="633" y="852"/>
                  </a:cubicBezTo>
                  <a:cubicBezTo>
                    <a:pt x="525" y="848"/>
                    <a:pt x="479" y="836"/>
                    <a:pt x="385" y="795"/>
                  </a:cubicBezTo>
                  <a:cubicBezTo>
                    <a:pt x="291" y="754"/>
                    <a:pt x="131" y="646"/>
                    <a:pt x="70" y="604"/>
                  </a:cubicBezTo>
                  <a:cubicBezTo>
                    <a:pt x="9" y="562"/>
                    <a:pt x="38" y="598"/>
                    <a:pt x="33" y="547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fff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8" name=""/>
            <p:cNvSpPr/>
            <p:nvPr/>
          </p:nvSpPr>
          <p:spPr>
            <a:xfrm>
              <a:off x="2232000" y="372960"/>
              <a:ext cx="1417680" cy="408240"/>
            </a:xfrm>
            <a:custGeom>
              <a:avLst/>
              <a:gdLst/>
              <a:ahLst/>
              <a:rect l="l" t="t" r="r" b="b"/>
              <a:pathLst>
                <a:path w="893" h="257">
                  <a:moveTo>
                    <a:pt x="10" y="160"/>
                  </a:moveTo>
                  <a:cubicBezTo>
                    <a:pt x="80" y="167"/>
                    <a:pt x="345" y="162"/>
                    <a:pt x="429" y="165"/>
                  </a:cubicBezTo>
                  <a:cubicBezTo>
                    <a:pt x="513" y="168"/>
                    <a:pt x="492" y="165"/>
                    <a:pt x="512" y="180"/>
                  </a:cubicBezTo>
                  <a:cubicBezTo>
                    <a:pt x="532" y="195"/>
                    <a:pt x="536" y="249"/>
                    <a:pt x="548" y="253"/>
                  </a:cubicBezTo>
                  <a:cubicBezTo>
                    <a:pt x="560" y="257"/>
                    <a:pt x="565" y="227"/>
                    <a:pt x="584" y="207"/>
                  </a:cubicBezTo>
                  <a:cubicBezTo>
                    <a:pt x="603" y="187"/>
                    <a:pt x="635" y="155"/>
                    <a:pt x="662" y="134"/>
                  </a:cubicBezTo>
                  <a:cubicBezTo>
                    <a:pt x="689" y="113"/>
                    <a:pt x="723" y="96"/>
                    <a:pt x="745" y="82"/>
                  </a:cubicBezTo>
                  <a:cubicBezTo>
                    <a:pt x="767" y="68"/>
                    <a:pt x="772" y="64"/>
                    <a:pt x="796" y="51"/>
                  </a:cubicBezTo>
                  <a:cubicBezTo>
                    <a:pt x="820" y="38"/>
                    <a:pt x="893" y="8"/>
                    <a:pt x="890" y="4"/>
                  </a:cubicBezTo>
                  <a:cubicBezTo>
                    <a:pt x="887" y="0"/>
                    <a:pt x="814" y="14"/>
                    <a:pt x="781" y="25"/>
                  </a:cubicBezTo>
                  <a:cubicBezTo>
                    <a:pt x="748" y="36"/>
                    <a:pt x="729" y="56"/>
                    <a:pt x="693" y="72"/>
                  </a:cubicBezTo>
                  <a:cubicBezTo>
                    <a:pt x="657" y="88"/>
                    <a:pt x="678" y="115"/>
                    <a:pt x="564" y="123"/>
                  </a:cubicBezTo>
                  <a:cubicBezTo>
                    <a:pt x="450" y="131"/>
                    <a:pt x="103" y="118"/>
                    <a:pt x="10" y="123"/>
                  </a:cubicBezTo>
                  <a:cubicBezTo>
                    <a:pt x="0" y="222"/>
                    <a:pt x="31" y="87"/>
                    <a:pt x="10" y="160"/>
                  </a:cubicBez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9" name=""/>
            <p:cNvSpPr/>
            <p:nvPr/>
          </p:nvSpPr>
          <p:spPr>
            <a:xfrm>
              <a:off x="3781440" y="277920"/>
              <a:ext cx="233280" cy="74520"/>
            </a:xfrm>
            <a:custGeom>
              <a:avLst/>
              <a:gdLst/>
              <a:ahLst/>
              <a:rect l="l" t="t" r="r" b="b"/>
              <a:pathLst>
                <a:path w="147" h="40">
                  <a:moveTo>
                    <a:pt x="1" y="36"/>
                  </a:moveTo>
                  <a:cubicBezTo>
                    <a:pt x="0" y="40"/>
                    <a:pt x="55" y="36"/>
                    <a:pt x="79" y="31"/>
                  </a:cubicBezTo>
                  <a:cubicBezTo>
                    <a:pt x="103" y="26"/>
                    <a:pt x="145" y="9"/>
                    <a:pt x="146" y="5"/>
                  </a:cubicBezTo>
                  <a:cubicBezTo>
                    <a:pt x="147" y="1"/>
                    <a:pt x="108" y="0"/>
                    <a:pt x="84" y="5"/>
                  </a:cubicBezTo>
                  <a:cubicBezTo>
                    <a:pt x="60" y="10"/>
                    <a:pt x="18" y="30"/>
                    <a:pt x="1" y="36"/>
                  </a:cubicBez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0" name=""/>
            <p:cNvSpPr/>
            <p:nvPr/>
          </p:nvSpPr>
          <p:spPr>
            <a:xfrm>
              <a:off x="4525920" y="291960"/>
              <a:ext cx="249120" cy="74880"/>
            </a:xfrm>
            <a:custGeom>
              <a:avLst/>
              <a:gdLst/>
              <a:ahLst/>
              <a:rect l="l" t="t" r="r" b="b"/>
              <a:pathLst>
                <a:path w="157" h="42">
                  <a:moveTo>
                    <a:pt x="1" y="16"/>
                  </a:moveTo>
                  <a:cubicBezTo>
                    <a:pt x="0" y="21"/>
                    <a:pt x="50" y="30"/>
                    <a:pt x="76" y="33"/>
                  </a:cubicBezTo>
                  <a:cubicBezTo>
                    <a:pt x="102" y="33"/>
                    <a:pt x="155" y="42"/>
                    <a:pt x="156" y="37"/>
                  </a:cubicBezTo>
                  <a:cubicBezTo>
                    <a:pt x="157" y="32"/>
                    <a:pt x="107" y="6"/>
                    <a:pt x="81" y="3"/>
                  </a:cubicBezTo>
                  <a:cubicBezTo>
                    <a:pt x="55" y="0"/>
                    <a:pt x="2" y="11"/>
                    <a:pt x="1" y="16"/>
                  </a:cubicBez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1" name=""/>
            <p:cNvSpPr/>
            <p:nvPr/>
          </p:nvSpPr>
          <p:spPr>
            <a:xfrm>
              <a:off x="4878360" y="398520"/>
              <a:ext cx="1443240" cy="482400"/>
            </a:xfrm>
            <a:custGeom>
              <a:avLst/>
              <a:gdLst/>
              <a:ahLst/>
              <a:rect l="l" t="t" r="r" b="b"/>
              <a:pathLst>
                <a:path w="909" h="304">
                  <a:moveTo>
                    <a:pt x="904" y="206"/>
                  </a:moveTo>
                  <a:cubicBezTo>
                    <a:pt x="873" y="214"/>
                    <a:pt x="761" y="210"/>
                    <a:pt x="691" y="211"/>
                  </a:cubicBezTo>
                  <a:cubicBezTo>
                    <a:pt x="621" y="212"/>
                    <a:pt x="534" y="211"/>
                    <a:pt x="485" y="211"/>
                  </a:cubicBezTo>
                  <a:cubicBezTo>
                    <a:pt x="436" y="211"/>
                    <a:pt x="419" y="196"/>
                    <a:pt x="397" y="211"/>
                  </a:cubicBezTo>
                  <a:cubicBezTo>
                    <a:pt x="375" y="226"/>
                    <a:pt x="364" y="304"/>
                    <a:pt x="350" y="304"/>
                  </a:cubicBezTo>
                  <a:cubicBezTo>
                    <a:pt x="336" y="304"/>
                    <a:pt x="330" y="241"/>
                    <a:pt x="310" y="214"/>
                  </a:cubicBezTo>
                  <a:cubicBezTo>
                    <a:pt x="290" y="187"/>
                    <a:pt x="259" y="162"/>
                    <a:pt x="232" y="141"/>
                  </a:cubicBezTo>
                  <a:cubicBezTo>
                    <a:pt x="205" y="120"/>
                    <a:pt x="171" y="103"/>
                    <a:pt x="149" y="89"/>
                  </a:cubicBezTo>
                  <a:cubicBezTo>
                    <a:pt x="127" y="75"/>
                    <a:pt x="121" y="71"/>
                    <a:pt x="98" y="58"/>
                  </a:cubicBezTo>
                  <a:cubicBezTo>
                    <a:pt x="75" y="45"/>
                    <a:pt x="18" y="18"/>
                    <a:pt x="9" y="9"/>
                  </a:cubicBezTo>
                  <a:cubicBezTo>
                    <a:pt x="0" y="0"/>
                    <a:pt x="26" y="0"/>
                    <a:pt x="45" y="4"/>
                  </a:cubicBezTo>
                  <a:cubicBezTo>
                    <a:pt x="64" y="8"/>
                    <a:pt x="97" y="18"/>
                    <a:pt x="123" y="30"/>
                  </a:cubicBezTo>
                  <a:cubicBezTo>
                    <a:pt x="149" y="42"/>
                    <a:pt x="167" y="62"/>
                    <a:pt x="201" y="79"/>
                  </a:cubicBezTo>
                  <a:cubicBezTo>
                    <a:pt x="235" y="96"/>
                    <a:pt x="212" y="115"/>
                    <a:pt x="330" y="130"/>
                  </a:cubicBezTo>
                  <a:cubicBezTo>
                    <a:pt x="448" y="145"/>
                    <a:pt x="813" y="156"/>
                    <a:pt x="909" y="169"/>
                  </a:cubicBezTo>
                  <a:cubicBezTo>
                    <a:pt x="904" y="247"/>
                    <a:pt x="909" y="164"/>
                    <a:pt x="904" y="206"/>
                  </a:cubicBez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2" name=""/>
            <p:cNvSpPr/>
            <p:nvPr/>
          </p:nvSpPr>
          <p:spPr>
            <a:xfrm>
              <a:off x="2216160" y="1147680"/>
              <a:ext cx="1446120" cy="1648080"/>
            </a:xfrm>
            <a:custGeom>
              <a:avLst/>
              <a:gdLst/>
              <a:ahLst/>
              <a:rect l="l" t="t" r="r" b="b"/>
              <a:pathLst>
                <a:path w="911" h="1038">
                  <a:moveTo>
                    <a:pt x="0" y="117"/>
                  </a:moveTo>
                  <a:cubicBezTo>
                    <a:pt x="70" y="112"/>
                    <a:pt x="351" y="114"/>
                    <a:pt x="438" y="107"/>
                  </a:cubicBezTo>
                  <a:cubicBezTo>
                    <a:pt x="525" y="100"/>
                    <a:pt x="501" y="94"/>
                    <a:pt x="521" y="77"/>
                  </a:cubicBezTo>
                  <a:cubicBezTo>
                    <a:pt x="541" y="60"/>
                    <a:pt x="545" y="8"/>
                    <a:pt x="557" y="4"/>
                  </a:cubicBezTo>
                  <a:cubicBezTo>
                    <a:pt x="569" y="0"/>
                    <a:pt x="574" y="30"/>
                    <a:pt x="593" y="50"/>
                  </a:cubicBezTo>
                  <a:cubicBezTo>
                    <a:pt x="612" y="70"/>
                    <a:pt x="644" y="102"/>
                    <a:pt x="671" y="123"/>
                  </a:cubicBezTo>
                  <a:cubicBezTo>
                    <a:pt x="698" y="144"/>
                    <a:pt x="733" y="159"/>
                    <a:pt x="754" y="175"/>
                  </a:cubicBezTo>
                  <a:cubicBezTo>
                    <a:pt x="775" y="191"/>
                    <a:pt x="773" y="206"/>
                    <a:pt x="797" y="219"/>
                  </a:cubicBezTo>
                  <a:cubicBezTo>
                    <a:pt x="821" y="232"/>
                    <a:pt x="911" y="256"/>
                    <a:pt x="899" y="253"/>
                  </a:cubicBezTo>
                  <a:cubicBezTo>
                    <a:pt x="887" y="250"/>
                    <a:pt x="736" y="176"/>
                    <a:pt x="725" y="203"/>
                  </a:cubicBezTo>
                  <a:cubicBezTo>
                    <a:pt x="714" y="230"/>
                    <a:pt x="811" y="353"/>
                    <a:pt x="834" y="415"/>
                  </a:cubicBezTo>
                  <a:cubicBezTo>
                    <a:pt x="857" y="477"/>
                    <a:pt x="859" y="530"/>
                    <a:pt x="865" y="576"/>
                  </a:cubicBezTo>
                  <a:cubicBezTo>
                    <a:pt x="871" y="622"/>
                    <a:pt x="869" y="632"/>
                    <a:pt x="870" y="689"/>
                  </a:cubicBezTo>
                  <a:cubicBezTo>
                    <a:pt x="871" y="746"/>
                    <a:pt x="870" y="859"/>
                    <a:pt x="870" y="917"/>
                  </a:cubicBezTo>
                  <a:cubicBezTo>
                    <a:pt x="870" y="975"/>
                    <a:pt x="874" y="1038"/>
                    <a:pt x="870" y="1036"/>
                  </a:cubicBezTo>
                  <a:cubicBezTo>
                    <a:pt x="866" y="1034"/>
                    <a:pt x="848" y="987"/>
                    <a:pt x="844" y="907"/>
                  </a:cubicBezTo>
                  <a:cubicBezTo>
                    <a:pt x="840" y="827"/>
                    <a:pt x="854" y="650"/>
                    <a:pt x="844" y="555"/>
                  </a:cubicBezTo>
                  <a:cubicBezTo>
                    <a:pt x="834" y="460"/>
                    <a:pt x="804" y="392"/>
                    <a:pt x="782" y="338"/>
                  </a:cubicBezTo>
                  <a:cubicBezTo>
                    <a:pt x="760" y="284"/>
                    <a:pt x="743" y="260"/>
                    <a:pt x="709" y="229"/>
                  </a:cubicBezTo>
                  <a:cubicBezTo>
                    <a:pt x="675" y="198"/>
                    <a:pt x="698" y="162"/>
                    <a:pt x="580" y="151"/>
                  </a:cubicBezTo>
                  <a:cubicBezTo>
                    <a:pt x="462" y="140"/>
                    <a:pt x="98" y="168"/>
                    <a:pt x="1" y="162"/>
                  </a:cubicBezTo>
                  <a:cubicBezTo>
                    <a:pt x="4" y="108"/>
                    <a:pt x="3" y="183"/>
                    <a:pt x="0" y="117"/>
                  </a:cubicBez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3" name=""/>
            <p:cNvSpPr/>
            <p:nvPr/>
          </p:nvSpPr>
          <p:spPr>
            <a:xfrm flipV="1">
              <a:off x="3780000" y="1574640"/>
              <a:ext cx="233280" cy="74880"/>
            </a:xfrm>
            <a:custGeom>
              <a:avLst/>
              <a:gdLst/>
              <a:ahLst/>
              <a:rect l="l" t="t" r="r" b="b"/>
              <a:pathLst>
                <a:path w="147" h="40">
                  <a:moveTo>
                    <a:pt x="1" y="36"/>
                  </a:moveTo>
                  <a:cubicBezTo>
                    <a:pt x="0" y="40"/>
                    <a:pt x="55" y="36"/>
                    <a:pt x="79" y="31"/>
                  </a:cubicBezTo>
                  <a:cubicBezTo>
                    <a:pt x="103" y="26"/>
                    <a:pt x="145" y="9"/>
                    <a:pt x="146" y="5"/>
                  </a:cubicBezTo>
                  <a:cubicBezTo>
                    <a:pt x="147" y="1"/>
                    <a:pt x="108" y="0"/>
                    <a:pt x="84" y="5"/>
                  </a:cubicBezTo>
                  <a:cubicBezTo>
                    <a:pt x="60" y="10"/>
                    <a:pt x="18" y="30"/>
                    <a:pt x="1" y="36"/>
                  </a:cubicBez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4" name=""/>
            <p:cNvSpPr/>
            <p:nvPr/>
          </p:nvSpPr>
          <p:spPr>
            <a:xfrm flipV="1">
              <a:off x="4133880" y="1604160"/>
              <a:ext cx="249120" cy="74520"/>
            </a:xfrm>
            <a:custGeom>
              <a:avLst/>
              <a:gdLst/>
              <a:ahLst/>
              <a:rect l="l" t="t" r="r" b="b"/>
              <a:pathLst>
                <a:path w="157" h="42">
                  <a:moveTo>
                    <a:pt x="1" y="16"/>
                  </a:moveTo>
                  <a:cubicBezTo>
                    <a:pt x="0" y="21"/>
                    <a:pt x="50" y="30"/>
                    <a:pt x="76" y="33"/>
                  </a:cubicBezTo>
                  <a:cubicBezTo>
                    <a:pt x="102" y="33"/>
                    <a:pt x="155" y="42"/>
                    <a:pt x="156" y="37"/>
                  </a:cubicBezTo>
                  <a:cubicBezTo>
                    <a:pt x="157" y="32"/>
                    <a:pt x="107" y="6"/>
                    <a:pt x="81" y="3"/>
                  </a:cubicBezTo>
                  <a:cubicBezTo>
                    <a:pt x="55" y="0"/>
                    <a:pt x="2" y="11"/>
                    <a:pt x="1" y="16"/>
                  </a:cubicBez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5" name=""/>
            <p:cNvSpPr/>
            <p:nvPr/>
          </p:nvSpPr>
          <p:spPr>
            <a:xfrm flipV="1">
              <a:off x="4524480" y="1559880"/>
              <a:ext cx="249120" cy="74520"/>
            </a:xfrm>
            <a:custGeom>
              <a:avLst/>
              <a:gdLst/>
              <a:ahLst/>
              <a:rect l="l" t="t" r="r" b="b"/>
              <a:pathLst>
                <a:path w="157" h="42">
                  <a:moveTo>
                    <a:pt x="1" y="16"/>
                  </a:moveTo>
                  <a:cubicBezTo>
                    <a:pt x="0" y="21"/>
                    <a:pt x="50" y="30"/>
                    <a:pt x="76" y="33"/>
                  </a:cubicBezTo>
                  <a:cubicBezTo>
                    <a:pt x="102" y="33"/>
                    <a:pt x="155" y="42"/>
                    <a:pt x="156" y="37"/>
                  </a:cubicBezTo>
                  <a:cubicBezTo>
                    <a:pt x="157" y="32"/>
                    <a:pt x="107" y="6"/>
                    <a:pt x="81" y="3"/>
                  </a:cubicBezTo>
                  <a:cubicBezTo>
                    <a:pt x="55" y="0"/>
                    <a:pt x="2" y="11"/>
                    <a:pt x="1" y="16"/>
                  </a:cubicBez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6" name=""/>
            <p:cNvSpPr/>
            <p:nvPr/>
          </p:nvSpPr>
          <p:spPr>
            <a:xfrm>
              <a:off x="4916520" y="1046160"/>
              <a:ext cx="1403280" cy="1838160"/>
            </a:xfrm>
            <a:custGeom>
              <a:avLst/>
              <a:gdLst/>
              <a:ahLst/>
              <a:rect l="l" t="t" r="r" b="b"/>
              <a:pathLst>
                <a:path w="884" h="1158">
                  <a:moveTo>
                    <a:pt x="879" y="98"/>
                  </a:moveTo>
                  <a:cubicBezTo>
                    <a:pt x="848" y="90"/>
                    <a:pt x="736" y="94"/>
                    <a:pt x="666" y="93"/>
                  </a:cubicBezTo>
                  <a:cubicBezTo>
                    <a:pt x="596" y="92"/>
                    <a:pt x="509" y="93"/>
                    <a:pt x="460" y="93"/>
                  </a:cubicBezTo>
                  <a:cubicBezTo>
                    <a:pt x="411" y="93"/>
                    <a:pt x="394" y="108"/>
                    <a:pt x="372" y="93"/>
                  </a:cubicBezTo>
                  <a:cubicBezTo>
                    <a:pt x="350" y="78"/>
                    <a:pt x="339" y="0"/>
                    <a:pt x="325" y="0"/>
                  </a:cubicBezTo>
                  <a:cubicBezTo>
                    <a:pt x="311" y="0"/>
                    <a:pt x="305" y="63"/>
                    <a:pt x="285" y="90"/>
                  </a:cubicBezTo>
                  <a:cubicBezTo>
                    <a:pt x="265" y="117"/>
                    <a:pt x="230" y="144"/>
                    <a:pt x="207" y="163"/>
                  </a:cubicBezTo>
                  <a:cubicBezTo>
                    <a:pt x="184" y="182"/>
                    <a:pt x="166" y="189"/>
                    <a:pt x="146" y="205"/>
                  </a:cubicBezTo>
                  <a:cubicBezTo>
                    <a:pt x="126" y="221"/>
                    <a:pt x="107" y="244"/>
                    <a:pt x="84" y="262"/>
                  </a:cubicBezTo>
                  <a:cubicBezTo>
                    <a:pt x="61" y="280"/>
                    <a:pt x="0" y="314"/>
                    <a:pt x="7" y="314"/>
                  </a:cubicBezTo>
                  <a:cubicBezTo>
                    <a:pt x="14" y="314"/>
                    <a:pt x="97" y="274"/>
                    <a:pt x="126" y="262"/>
                  </a:cubicBezTo>
                  <a:cubicBezTo>
                    <a:pt x="155" y="250"/>
                    <a:pt x="185" y="220"/>
                    <a:pt x="182" y="241"/>
                  </a:cubicBezTo>
                  <a:cubicBezTo>
                    <a:pt x="179" y="262"/>
                    <a:pt x="126" y="344"/>
                    <a:pt x="110" y="391"/>
                  </a:cubicBezTo>
                  <a:cubicBezTo>
                    <a:pt x="94" y="438"/>
                    <a:pt x="91" y="477"/>
                    <a:pt x="84" y="521"/>
                  </a:cubicBezTo>
                  <a:cubicBezTo>
                    <a:pt x="77" y="565"/>
                    <a:pt x="73" y="582"/>
                    <a:pt x="69" y="655"/>
                  </a:cubicBezTo>
                  <a:cubicBezTo>
                    <a:pt x="65" y="728"/>
                    <a:pt x="59" y="885"/>
                    <a:pt x="58" y="960"/>
                  </a:cubicBezTo>
                  <a:cubicBezTo>
                    <a:pt x="57" y="1035"/>
                    <a:pt x="58" y="1077"/>
                    <a:pt x="63" y="1105"/>
                  </a:cubicBezTo>
                  <a:cubicBezTo>
                    <a:pt x="68" y="1133"/>
                    <a:pt x="85" y="1158"/>
                    <a:pt x="89" y="1131"/>
                  </a:cubicBezTo>
                  <a:cubicBezTo>
                    <a:pt x="93" y="1104"/>
                    <a:pt x="87" y="1017"/>
                    <a:pt x="89" y="945"/>
                  </a:cubicBezTo>
                  <a:cubicBezTo>
                    <a:pt x="91" y="873"/>
                    <a:pt x="97" y="768"/>
                    <a:pt x="100" y="697"/>
                  </a:cubicBezTo>
                  <a:cubicBezTo>
                    <a:pt x="103" y="626"/>
                    <a:pt x="97" y="576"/>
                    <a:pt x="105" y="521"/>
                  </a:cubicBezTo>
                  <a:cubicBezTo>
                    <a:pt x="113" y="466"/>
                    <a:pt x="113" y="423"/>
                    <a:pt x="146" y="365"/>
                  </a:cubicBezTo>
                  <a:cubicBezTo>
                    <a:pt x="179" y="307"/>
                    <a:pt x="182" y="212"/>
                    <a:pt x="305" y="174"/>
                  </a:cubicBezTo>
                  <a:cubicBezTo>
                    <a:pt x="428" y="136"/>
                    <a:pt x="788" y="148"/>
                    <a:pt x="884" y="135"/>
                  </a:cubicBezTo>
                  <a:cubicBezTo>
                    <a:pt x="879" y="57"/>
                    <a:pt x="884" y="140"/>
                    <a:pt x="879" y="98"/>
                  </a:cubicBez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7" name=""/>
            <p:cNvSpPr/>
            <p:nvPr/>
          </p:nvSpPr>
          <p:spPr>
            <a:xfrm>
              <a:off x="3543840" y="3079800"/>
              <a:ext cx="13878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200" spc="-1" strike="noStrike">
                  <a:solidFill>
                    <a:srgbClr val="000000"/>
                  </a:solidFill>
                  <a:latin typeface="Times New Roman"/>
                </a:rPr>
                <a:t>GF=K</a:t>
              </a:r>
              <a:r>
                <a:rPr b="0" lang="cs-CZ" sz="1200" spc="-1" strike="noStrike" baseline="-25000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cs-CZ" sz="1200" spc="-1" strike="noStrike">
                  <a:solidFill>
                    <a:srgbClr val="000000"/>
                  </a:solidFill>
                  <a:latin typeface="Times New Roman"/>
                </a:rPr>
                <a:t>  (P</a:t>
              </a:r>
              <a:r>
                <a:rPr b="0" lang="cs-CZ" sz="1200" spc="-1" strike="noStrike" baseline="-25000">
                  <a:solidFill>
                    <a:srgbClr val="000000"/>
                  </a:solidFill>
                  <a:latin typeface="Times New Roman"/>
                </a:rPr>
                <a:t>k </a:t>
              </a:r>
              <a:r>
                <a:rPr b="0" lang="cs-CZ" sz="1200" spc="-1" strike="noStrike">
                  <a:solidFill>
                    <a:srgbClr val="000000"/>
                  </a:solidFill>
                  <a:latin typeface="Times New Roman"/>
                </a:rPr>
                <a:t>- P</a:t>
              </a:r>
              <a:r>
                <a:rPr b="0" lang="cs-CZ" sz="1200" spc="-1" strike="noStrike" baseline="-25000">
                  <a:solidFill>
                    <a:srgbClr val="000000"/>
                  </a:solidFill>
                  <a:latin typeface="Times New Roman"/>
                </a:rPr>
                <a:t>b </a:t>
              </a:r>
              <a:r>
                <a:rPr b="0" lang="cs-CZ" sz="1200" spc="-1" strike="noStrike">
                  <a:solidFill>
                    <a:srgbClr val="000000"/>
                  </a:solidFill>
                  <a:latin typeface="Times New Roman"/>
                </a:rPr>
                <a:t>- P</a:t>
              </a:r>
              <a:r>
                <a:rPr b="0" lang="cs-CZ" sz="1200" spc="-1" strike="noStrike" baseline="-25000">
                  <a:solidFill>
                    <a:srgbClr val="000000"/>
                  </a:solidFill>
                  <a:latin typeface="Times New Roman"/>
                </a:rPr>
                <a:t>o</a:t>
              </a:r>
              <a:r>
                <a:rPr b="0" lang="cs-CZ" sz="1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8" name=""/>
            <p:cNvSpPr/>
            <p:nvPr/>
          </p:nvSpPr>
          <p:spPr>
            <a:xfrm>
              <a:off x="3594960" y="2612880"/>
              <a:ext cx="375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200" spc="-1" strike="noStrike">
                  <a:solidFill>
                    <a:srgbClr val="000000"/>
                  </a:solidFill>
                  <a:latin typeface="Times New Roman"/>
                </a:rPr>
                <a:t>G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9" name=""/>
            <p:cNvSpPr/>
            <p:nvPr/>
          </p:nvSpPr>
          <p:spPr>
            <a:xfrm>
              <a:off x="3890160" y="2408400"/>
              <a:ext cx="375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200" spc="-1" strike="noStrike">
                  <a:solidFill>
                    <a:srgbClr val="000000"/>
                  </a:solidFill>
                  <a:latin typeface="Times New Roman"/>
                </a:rPr>
                <a:t>G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0" name=""/>
            <p:cNvSpPr/>
            <p:nvPr/>
          </p:nvSpPr>
          <p:spPr>
            <a:xfrm>
              <a:off x="4268160" y="2211480"/>
              <a:ext cx="375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200" spc="-1" strike="noStrike">
                  <a:solidFill>
                    <a:srgbClr val="000000"/>
                  </a:solidFill>
                  <a:latin typeface="Times New Roman"/>
                </a:rPr>
                <a:t>G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1" name=""/>
            <p:cNvSpPr/>
            <p:nvPr/>
          </p:nvSpPr>
          <p:spPr>
            <a:xfrm>
              <a:off x="4679280" y="2038320"/>
              <a:ext cx="375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200" spc="-1" strike="noStrike">
                  <a:solidFill>
                    <a:srgbClr val="000000"/>
                  </a:solidFill>
                  <a:latin typeface="Times New Roman"/>
                </a:rPr>
                <a:t>G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2" name=""/>
            <p:cNvSpPr/>
            <p:nvPr/>
          </p:nvSpPr>
          <p:spPr>
            <a:xfrm>
              <a:off x="326880" y="101520"/>
              <a:ext cx="1354320" cy="56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200" spc="-1" strike="noStrike">
                  <a:solidFill>
                    <a:srgbClr val="000000"/>
                  </a:solidFill>
                  <a:latin typeface="Times New Roman"/>
                </a:rPr>
                <a:t>Aktivita sympatik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200" spc="-1" strike="noStrike">
                  <a:solidFill>
                    <a:srgbClr val="000000"/>
                  </a:solidFill>
                  <a:latin typeface="Times New Roman"/>
                </a:rPr>
                <a:t>Angiotenzin I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3" name=""/>
            <p:cNvSpPr/>
            <p:nvPr/>
          </p:nvSpPr>
          <p:spPr>
            <a:xfrm flipV="1">
              <a:off x="336600" y="114120"/>
              <a:ext cx="0" cy="206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4" name=""/>
            <p:cNvSpPr/>
            <p:nvPr/>
          </p:nvSpPr>
          <p:spPr>
            <a:xfrm flipV="1">
              <a:off x="328680" y="394920"/>
              <a:ext cx="0" cy="206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5" name=""/>
            <p:cNvSpPr/>
            <p:nvPr/>
          </p:nvSpPr>
          <p:spPr>
            <a:xfrm>
              <a:off x="234720" y="1168560"/>
              <a:ext cx="11941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200" spc="-1" strike="noStrike">
                  <a:solidFill>
                    <a:srgbClr val="000000"/>
                  </a:solidFill>
                  <a:latin typeface="Times New Roman"/>
                </a:rPr>
                <a:t>Prostaglandin E</a:t>
              </a:r>
              <a:r>
                <a:rPr b="0" lang="cs-CZ" sz="1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6" name=""/>
            <p:cNvSpPr/>
            <p:nvPr/>
          </p:nvSpPr>
          <p:spPr>
            <a:xfrm>
              <a:off x="116280" y="1841400"/>
              <a:ext cx="1870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200" spc="-1" strike="noStrike">
                  <a:solidFill>
                    <a:srgbClr val="000000"/>
                  </a:solidFill>
                  <a:latin typeface="Times New Roman"/>
                </a:rPr>
                <a:t>Atriální natriuretický fakto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7" name=""/>
            <p:cNvSpPr/>
            <p:nvPr/>
          </p:nvSpPr>
          <p:spPr>
            <a:xfrm>
              <a:off x="4141800" y="243000"/>
              <a:ext cx="268200" cy="77760"/>
            </a:xfrm>
            <a:custGeom>
              <a:avLst/>
              <a:gdLst/>
              <a:ahLst/>
              <a:rect l="l" t="t" r="r" b="b"/>
              <a:pathLst>
                <a:path w="169" h="49">
                  <a:moveTo>
                    <a:pt x="1" y="27"/>
                  </a:moveTo>
                  <a:cubicBezTo>
                    <a:pt x="0" y="20"/>
                    <a:pt x="48" y="0"/>
                    <a:pt x="76" y="2"/>
                  </a:cubicBezTo>
                  <a:cubicBezTo>
                    <a:pt x="104" y="4"/>
                    <a:pt x="167" y="31"/>
                    <a:pt x="168" y="38"/>
                  </a:cubicBezTo>
                  <a:cubicBezTo>
                    <a:pt x="169" y="45"/>
                    <a:pt x="109" y="49"/>
                    <a:pt x="81" y="47"/>
                  </a:cubicBezTo>
                  <a:cubicBezTo>
                    <a:pt x="53" y="45"/>
                    <a:pt x="2" y="35"/>
                    <a:pt x="1" y="27"/>
                  </a:cubicBez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8" name=""/>
            <p:cNvSpPr/>
            <p:nvPr/>
          </p:nvSpPr>
          <p:spPr>
            <a:xfrm>
              <a:off x="2011320" y="1487520"/>
              <a:ext cx="11271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200" spc="-1" strike="noStrike">
                  <a:solidFill>
                    <a:srgbClr val="000000"/>
                  </a:solidFill>
                  <a:latin typeface="Times New Roman"/>
                </a:rPr>
                <a:t>Vasokonstrikc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200" spc="-1" strike="noStrike">
                  <a:solidFill>
                    <a:srgbClr val="000000"/>
                  </a:solidFill>
                  <a:latin typeface="Times New Roman"/>
                </a:rPr>
                <a:t>vas afferen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9" name=""/>
            <p:cNvSpPr/>
            <p:nvPr/>
          </p:nvSpPr>
          <p:spPr>
            <a:xfrm>
              <a:off x="5573520" y="1322280"/>
              <a:ext cx="11271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200" spc="-1" strike="noStrike">
                  <a:solidFill>
                    <a:srgbClr val="000000"/>
                  </a:solidFill>
                  <a:latin typeface="Times New Roman"/>
                </a:rPr>
                <a:t>Vasokonstrikc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200" spc="-1" strike="noStrike">
                  <a:solidFill>
                    <a:srgbClr val="000000"/>
                  </a:solidFill>
                  <a:latin typeface="Times New Roman"/>
                </a:rPr>
                <a:t>vas efferen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0" name=""/>
            <p:cNvSpPr/>
            <p:nvPr/>
          </p:nvSpPr>
          <p:spPr>
            <a:xfrm>
              <a:off x="2009880" y="1165320"/>
              <a:ext cx="166680" cy="32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1" name=""/>
            <p:cNvSpPr/>
            <p:nvPr/>
          </p:nvSpPr>
          <p:spPr>
            <a:xfrm>
              <a:off x="1625760" y="312840"/>
              <a:ext cx="3949560" cy="119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2" name=""/>
            <p:cNvSpPr/>
            <p:nvPr/>
          </p:nvSpPr>
          <p:spPr>
            <a:xfrm>
              <a:off x="1633680" y="312840"/>
              <a:ext cx="271440" cy="672840"/>
            </a:xfrm>
            <a:custGeom>
              <a:avLst/>
              <a:gdLst/>
              <a:ahLst/>
              <a:rect l="l" t="t" r="r" b="b"/>
              <a:pathLst>
                <a:path w="171" h="424">
                  <a:moveTo>
                    <a:pt x="0" y="0"/>
                  </a:moveTo>
                  <a:lnTo>
                    <a:pt x="171" y="42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3" name=""/>
            <p:cNvSpPr/>
            <p:nvPr/>
          </p:nvSpPr>
          <p:spPr>
            <a:xfrm flipV="1">
              <a:off x="1673280" y="936720"/>
              <a:ext cx="288720" cy="164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4" name=""/>
            <p:cNvSpPr/>
            <p:nvPr/>
          </p:nvSpPr>
          <p:spPr>
            <a:xfrm flipV="1">
              <a:off x="1787400" y="1115640"/>
              <a:ext cx="265320" cy="149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5" name=""/>
            <p:cNvSpPr/>
            <p:nvPr/>
          </p:nvSpPr>
          <p:spPr>
            <a:xfrm flipV="1">
              <a:off x="1371600" y="1312920"/>
              <a:ext cx="212760" cy="566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6" name=""/>
            <p:cNvSpPr/>
            <p:nvPr/>
          </p:nvSpPr>
          <p:spPr>
            <a:xfrm flipV="1">
              <a:off x="1355760" y="1247760"/>
              <a:ext cx="163440" cy="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7" name=""/>
            <p:cNvSpPr/>
            <p:nvPr/>
          </p:nvSpPr>
          <p:spPr>
            <a:xfrm>
              <a:off x="2950200" y="2233440"/>
              <a:ext cx="357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cs-CZ" sz="1400" spc="-1" strike="noStrike" baseline="-25000">
                  <a:solidFill>
                    <a:srgbClr val="000000"/>
                  </a:solidFill>
                  <a:latin typeface="Times New Roman"/>
                </a:rPr>
                <a:t>k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8" name=""/>
            <p:cNvSpPr/>
            <p:nvPr/>
          </p:nvSpPr>
          <p:spPr>
            <a:xfrm>
              <a:off x="2946240" y="2316240"/>
              <a:ext cx="0" cy="212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9" name=""/>
            <p:cNvSpPr/>
            <p:nvPr/>
          </p:nvSpPr>
          <p:spPr>
            <a:xfrm>
              <a:off x="2905200" y="1812960"/>
              <a:ext cx="125280" cy="43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0" name=""/>
            <p:cNvSpPr/>
            <p:nvPr/>
          </p:nvSpPr>
          <p:spPr>
            <a:xfrm>
              <a:off x="5937840" y="2027160"/>
              <a:ext cx="357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cs-CZ" sz="1400" spc="-1" strike="noStrike" baseline="-25000">
                  <a:solidFill>
                    <a:srgbClr val="000000"/>
                  </a:solidFill>
                  <a:latin typeface="Times New Roman"/>
                </a:rPr>
                <a:t>k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1" name=""/>
            <p:cNvSpPr/>
            <p:nvPr/>
          </p:nvSpPr>
          <p:spPr>
            <a:xfrm>
              <a:off x="5943600" y="2062080"/>
              <a:ext cx="0" cy="212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2" name=""/>
            <p:cNvSpPr/>
            <p:nvPr/>
          </p:nvSpPr>
          <p:spPr>
            <a:xfrm flipH="1">
              <a:off x="6076440" y="1773360"/>
              <a:ext cx="63720" cy="26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3" name=""/>
            <p:cNvSpPr/>
            <p:nvPr/>
          </p:nvSpPr>
          <p:spPr>
            <a:xfrm>
              <a:off x="2176920" y="0"/>
              <a:ext cx="2140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200" spc="-1" strike="noStrike">
                  <a:solidFill>
                    <a:srgbClr val="000000"/>
                  </a:solidFill>
                  <a:latin typeface="Times New Roman"/>
                </a:rPr>
                <a:t>Kontrakce mesengiálních buně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4" name=""/>
            <p:cNvSpPr/>
            <p:nvPr/>
          </p:nvSpPr>
          <p:spPr>
            <a:xfrm flipV="1">
              <a:off x="1658880" y="163080"/>
              <a:ext cx="500040" cy="41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5" name=""/>
            <p:cNvSpPr/>
            <p:nvPr/>
          </p:nvSpPr>
          <p:spPr>
            <a:xfrm>
              <a:off x="5094360" y="42840"/>
              <a:ext cx="369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cs-CZ" sz="1400" spc="-1" strike="noStrike" baseline="-25000">
                  <a:solidFill>
                    <a:srgbClr val="000000"/>
                  </a:solidFill>
                  <a:latin typeface="Times New Roman"/>
                </a:rPr>
                <a:t>f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6" name=""/>
            <p:cNvSpPr/>
            <p:nvPr/>
          </p:nvSpPr>
          <p:spPr>
            <a:xfrm>
              <a:off x="5073480" y="101520"/>
              <a:ext cx="0" cy="212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7" name=""/>
            <p:cNvSpPr/>
            <p:nvPr/>
          </p:nvSpPr>
          <p:spPr>
            <a:xfrm>
              <a:off x="4267080" y="155520"/>
              <a:ext cx="655920" cy="3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8" name=""/>
            <p:cNvSpPr/>
            <p:nvPr/>
          </p:nvSpPr>
          <p:spPr>
            <a:xfrm flipH="1">
              <a:off x="6232320" y="1798560"/>
              <a:ext cx="82440" cy="1657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9" name=""/>
            <p:cNvSpPr/>
            <p:nvPr/>
          </p:nvSpPr>
          <p:spPr>
            <a:xfrm>
              <a:off x="3032280" y="1784520"/>
              <a:ext cx="2995560" cy="1706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0" name=""/>
            <p:cNvSpPr/>
            <p:nvPr/>
          </p:nvSpPr>
          <p:spPr>
            <a:xfrm>
              <a:off x="5379480" y="3425760"/>
              <a:ext cx="1224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200" spc="-1" strike="noStrike">
                  <a:solidFill>
                    <a:srgbClr val="000000"/>
                  </a:solidFill>
                  <a:latin typeface="Times New Roman"/>
                </a:rPr>
                <a:t>Pokles průtok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200" spc="-1" strike="noStrike">
                  <a:solidFill>
                    <a:srgbClr val="000000"/>
                  </a:solidFill>
                  <a:latin typeface="Times New Roman"/>
                </a:rPr>
                <a:t>krve glomerule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1" name=""/>
            <p:cNvSpPr/>
            <p:nvPr/>
          </p:nvSpPr>
          <p:spPr>
            <a:xfrm>
              <a:off x="6033960" y="133200"/>
              <a:ext cx="407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400" spc="-1" strike="noStrike">
                  <a:solidFill>
                    <a:srgbClr val="000000"/>
                  </a:solidFill>
                  <a:latin typeface="Times New Roman"/>
                </a:rPr>
                <a:t>G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2" name=""/>
            <p:cNvSpPr/>
            <p:nvPr/>
          </p:nvSpPr>
          <p:spPr>
            <a:xfrm>
              <a:off x="6016680" y="192240"/>
              <a:ext cx="1440" cy="201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3" name=""/>
            <p:cNvSpPr/>
            <p:nvPr/>
          </p:nvSpPr>
          <p:spPr>
            <a:xfrm>
              <a:off x="5484960" y="204840"/>
              <a:ext cx="269640" cy="5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4" name=""/>
            <p:cNvSpPr/>
            <p:nvPr/>
          </p:nvSpPr>
          <p:spPr>
            <a:xfrm>
              <a:off x="6345000" y="4238640"/>
              <a:ext cx="407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400" spc="-1" strike="noStrike">
                  <a:solidFill>
                    <a:srgbClr val="000000"/>
                  </a:solidFill>
                  <a:latin typeface="Times New Roman"/>
                </a:rPr>
                <a:t>G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5" name=""/>
            <p:cNvSpPr/>
            <p:nvPr/>
          </p:nvSpPr>
          <p:spPr>
            <a:xfrm>
              <a:off x="6327720" y="4297320"/>
              <a:ext cx="0" cy="212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6" name=""/>
            <p:cNvSpPr/>
            <p:nvPr/>
          </p:nvSpPr>
          <p:spPr>
            <a:xfrm>
              <a:off x="6191280" y="3851280"/>
              <a:ext cx="279360" cy="376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7" name=""/>
            <p:cNvSpPr/>
            <p:nvPr/>
          </p:nvSpPr>
          <p:spPr>
            <a:xfrm>
              <a:off x="3063600" y="2874960"/>
              <a:ext cx="407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400" spc="-1" strike="noStrike">
                  <a:solidFill>
                    <a:srgbClr val="000000"/>
                  </a:solidFill>
                  <a:latin typeface="Times New Roman"/>
                </a:rPr>
                <a:t>G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8" name=""/>
            <p:cNvSpPr/>
            <p:nvPr/>
          </p:nvSpPr>
          <p:spPr>
            <a:xfrm>
              <a:off x="3046320" y="2933640"/>
              <a:ext cx="0" cy="212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9" name=""/>
            <p:cNvSpPr/>
            <p:nvPr/>
          </p:nvSpPr>
          <p:spPr>
            <a:xfrm>
              <a:off x="3103560" y="2544840"/>
              <a:ext cx="66600" cy="336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0" name=""/>
            <p:cNvSpPr/>
            <p:nvPr/>
          </p:nvSpPr>
          <p:spPr>
            <a:xfrm rot="19784400">
              <a:off x="1447200" y="974160"/>
              <a:ext cx="790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200" spc="-1" strike="noStrike">
                  <a:solidFill>
                    <a:srgbClr val="000000"/>
                  </a:solidFill>
                  <a:latin typeface="Times New Roman"/>
                </a:rPr>
                <a:t>blokování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1" name=""/>
            <p:cNvSpPr/>
            <p:nvPr/>
          </p:nvSpPr>
          <p:spPr>
            <a:xfrm>
              <a:off x="2286360" y="5238720"/>
              <a:ext cx="33429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cs-CZ" sz="1400" spc="-1" strike="noStrike" baseline="-25000">
                  <a:solidFill>
                    <a:srgbClr val="000000"/>
                  </a:solidFill>
                  <a:latin typeface="Times New Roman"/>
                </a:rPr>
                <a:t>k  </a:t>
              </a:r>
              <a:r>
                <a:rPr b="0" lang="cs-CZ" sz="1400" spc="-1" strike="noStrike">
                  <a:solidFill>
                    <a:srgbClr val="000000"/>
                  </a:solidFill>
                  <a:latin typeface="Times New Roman"/>
                </a:rPr>
                <a:t>- hydrostatický tlak v kapiláře glomerulu</a:t>
              </a:r>
              <a:r>
                <a:rPr b="0" lang="cs-CZ" sz="14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2" name=""/>
            <p:cNvSpPr/>
            <p:nvPr/>
          </p:nvSpPr>
          <p:spPr>
            <a:xfrm>
              <a:off x="2270520" y="5494320"/>
              <a:ext cx="35092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cs-CZ" sz="1400" spc="-1" strike="noStrike" baseline="-25000">
                  <a:solidFill>
                    <a:srgbClr val="000000"/>
                  </a:solidFill>
                  <a:latin typeface="Times New Roman"/>
                </a:rPr>
                <a:t>b  </a:t>
              </a:r>
              <a:r>
                <a:rPr b="0" lang="cs-CZ" sz="1400" spc="-1" strike="noStrike">
                  <a:solidFill>
                    <a:srgbClr val="000000"/>
                  </a:solidFill>
                  <a:latin typeface="Times New Roman"/>
                </a:rPr>
                <a:t>- hydrostatický tlak v Bowmanově pouzdře</a:t>
              </a:r>
              <a:r>
                <a:rPr b="0" lang="cs-CZ" sz="14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3" name=""/>
            <p:cNvSpPr/>
            <p:nvPr/>
          </p:nvSpPr>
          <p:spPr>
            <a:xfrm>
              <a:off x="2266920" y="5748480"/>
              <a:ext cx="23022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cs-CZ" sz="1400" spc="-1" strike="noStrike" baseline="-25000">
                  <a:solidFill>
                    <a:srgbClr val="000000"/>
                  </a:solidFill>
                  <a:latin typeface="Times New Roman"/>
                </a:rPr>
                <a:t>o  </a:t>
              </a:r>
              <a:r>
                <a:rPr b="0" lang="cs-CZ" sz="1400" spc="-1" strike="noStrike">
                  <a:solidFill>
                    <a:srgbClr val="000000"/>
                  </a:solidFill>
                  <a:latin typeface="Times New Roman"/>
                </a:rPr>
                <a:t>- onkotický tlak v kapiláře</a:t>
              </a:r>
              <a:r>
                <a:rPr b="0" lang="cs-CZ" sz="14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4" name=""/>
            <p:cNvSpPr/>
            <p:nvPr/>
          </p:nvSpPr>
          <p:spPr>
            <a:xfrm>
              <a:off x="2274120" y="6021360"/>
              <a:ext cx="21848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cs-CZ" sz="1400" spc="-1" strike="noStrike" baseline="-25000">
                  <a:solidFill>
                    <a:srgbClr val="000000"/>
                  </a:solidFill>
                  <a:latin typeface="Times New Roman"/>
                </a:rPr>
                <a:t>f  </a:t>
              </a:r>
              <a:r>
                <a:rPr b="0" lang="cs-CZ" sz="1400" spc="-1" strike="noStrike">
                  <a:solidFill>
                    <a:srgbClr val="000000"/>
                  </a:solidFill>
                  <a:latin typeface="Times New Roman"/>
                </a:rPr>
                <a:t>- ultrafiltrační koeficient</a:t>
              </a:r>
              <a:r>
                <a:rPr b="0" lang="cs-CZ" sz="14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5" name=""/>
            <p:cNvSpPr/>
            <p:nvPr/>
          </p:nvSpPr>
          <p:spPr>
            <a:xfrm>
              <a:off x="2307240" y="6292800"/>
              <a:ext cx="2067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400" spc="-1" strike="noStrike">
                  <a:solidFill>
                    <a:srgbClr val="000000"/>
                  </a:solidFill>
                  <a:latin typeface="Times New Roman"/>
                </a:rPr>
                <a:t>GF</a:t>
              </a:r>
              <a:r>
                <a:rPr b="0" lang="cs-CZ" sz="1400" spc="-1" strike="noStrike" baseline="-25000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cs-CZ" sz="1400" spc="-1" strike="noStrike">
                  <a:solidFill>
                    <a:srgbClr val="000000"/>
                  </a:solidFill>
                  <a:latin typeface="Times New Roman"/>
                </a:rPr>
                <a:t>- glomerulární filtrace</a:t>
              </a:r>
              <a:r>
                <a:rPr b="0" lang="cs-CZ" sz="14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6" name=""/>
            <p:cNvSpPr/>
            <p:nvPr/>
          </p:nvSpPr>
          <p:spPr>
            <a:xfrm flipH="1" flipV="1">
              <a:off x="698400" y="696600"/>
              <a:ext cx="238320" cy="48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7" name=""/>
            <p:cNvSpPr/>
            <p:nvPr/>
          </p:nvSpPr>
          <p:spPr>
            <a:xfrm flipV="1">
              <a:off x="1019160" y="421920"/>
              <a:ext cx="492120" cy="716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8" name=""/>
            <p:cNvSpPr/>
            <p:nvPr/>
          </p:nvSpPr>
          <p:spPr>
            <a:xfrm>
              <a:off x="1346040" y="558720"/>
              <a:ext cx="4189680" cy="1044720"/>
            </a:xfrm>
            <a:custGeom>
              <a:avLst/>
              <a:gdLst/>
              <a:ahLst/>
              <a:rect l="l" t="t" r="r" b="b"/>
              <a:pathLst>
                <a:path w="2639" h="658">
                  <a:moveTo>
                    <a:pt x="0" y="0"/>
                  </a:moveTo>
                  <a:lnTo>
                    <a:pt x="2639" y="65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9" name=""/>
            <p:cNvSpPr/>
            <p:nvPr/>
          </p:nvSpPr>
          <p:spPr>
            <a:xfrm>
              <a:off x="1855800" y="1224000"/>
              <a:ext cx="230040" cy="303120"/>
            </a:xfrm>
            <a:custGeom>
              <a:avLst/>
              <a:gdLst/>
              <a:ahLst/>
              <a:rect l="l" t="t" r="r" b="b"/>
              <a:pathLst>
                <a:path w="145" h="191">
                  <a:moveTo>
                    <a:pt x="145" y="191"/>
                  </a:move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0" name=""/>
            <p:cNvSpPr/>
            <p:nvPr/>
          </p:nvSpPr>
          <p:spPr>
            <a:xfrm>
              <a:off x="1353960" y="558720"/>
              <a:ext cx="378000" cy="492120"/>
            </a:xfrm>
            <a:custGeom>
              <a:avLst/>
              <a:gdLst/>
              <a:ahLst/>
              <a:rect l="l" t="t" r="r" b="b"/>
              <a:pathLst>
                <a:path w="238" h="310">
                  <a:moveTo>
                    <a:pt x="0" y="0"/>
                  </a:moveTo>
                  <a:lnTo>
                    <a:pt x="238" y="31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1" name=""/>
            <p:cNvSpPr/>
            <p:nvPr/>
          </p:nvSpPr>
          <p:spPr>
            <a:xfrm>
              <a:off x="5697360" y="2471760"/>
              <a:ext cx="407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400" spc="-1" strike="noStrike">
                  <a:solidFill>
                    <a:srgbClr val="000000"/>
                  </a:solidFill>
                  <a:latin typeface="Times New Roman"/>
                </a:rPr>
                <a:t>G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2" name=""/>
            <p:cNvSpPr/>
            <p:nvPr/>
          </p:nvSpPr>
          <p:spPr>
            <a:xfrm>
              <a:off x="5721480" y="2532240"/>
              <a:ext cx="0" cy="21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3" name=""/>
            <p:cNvSpPr/>
            <p:nvPr/>
          </p:nvSpPr>
          <p:spPr>
            <a:xfrm flipH="1">
              <a:off x="5961240" y="2281320"/>
              <a:ext cx="63360" cy="26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4" name=""/>
            <p:cNvSpPr/>
            <p:nvPr/>
          </p:nvSpPr>
          <p:spPr>
            <a:xfrm>
              <a:off x="6815160" y="2278080"/>
              <a:ext cx="0" cy="177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5" name=""/>
            <p:cNvSpPr/>
            <p:nvPr/>
          </p:nvSpPr>
          <p:spPr>
            <a:xfrm>
              <a:off x="6823080" y="4051440"/>
              <a:ext cx="2208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6" name=""/>
            <p:cNvSpPr/>
            <p:nvPr/>
          </p:nvSpPr>
          <p:spPr>
            <a:xfrm>
              <a:off x="6816600" y="4051440"/>
              <a:ext cx="0" cy="18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7" name=""/>
            <p:cNvSpPr/>
            <p:nvPr/>
          </p:nvSpPr>
          <p:spPr>
            <a:xfrm>
              <a:off x="6597720" y="4438800"/>
              <a:ext cx="2546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200" spc="-1" strike="noStrike">
                  <a:solidFill>
                    <a:srgbClr val="000000"/>
                  </a:solidFill>
                  <a:latin typeface="Times New Roman"/>
                </a:rPr>
                <a:t>Rezistence ve vas efferens  (% normy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8" name=""/>
            <p:cNvSpPr/>
            <p:nvPr/>
          </p:nvSpPr>
          <p:spPr>
            <a:xfrm>
              <a:off x="7316640" y="4051440"/>
              <a:ext cx="0" cy="18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9" name=""/>
            <p:cNvSpPr/>
            <p:nvPr/>
          </p:nvSpPr>
          <p:spPr>
            <a:xfrm>
              <a:off x="7816680" y="4051440"/>
              <a:ext cx="0" cy="18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0" name=""/>
            <p:cNvSpPr/>
            <p:nvPr/>
          </p:nvSpPr>
          <p:spPr>
            <a:xfrm>
              <a:off x="8317080" y="4051440"/>
              <a:ext cx="0" cy="18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1" name=""/>
            <p:cNvSpPr/>
            <p:nvPr/>
          </p:nvSpPr>
          <p:spPr>
            <a:xfrm>
              <a:off x="8817120" y="4051440"/>
              <a:ext cx="0" cy="18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2" name=""/>
            <p:cNvSpPr/>
            <p:nvPr/>
          </p:nvSpPr>
          <p:spPr>
            <a:xfrm>
              <a:off x="6751800" y="4230720"/>
              <a:ext cx="18396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3" name=""/>
            <p:cNvSpPr/>
            <p:nvPr/>
          </p:nvSpPr>
          <p:spPr>
            <a:xfrm>
              <a:off x="7107120" y="4240080"/>
              <a:ext cx="2341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200" spc="-1" strike="noStrike">
                  <a:solidFill>
                    <a:srgbClr val="000000"/>
                  </a:solidFill>
                  <a:latin typeface="Times New Roman"/>
                </a:rPr>
                <a:t>100%    200%   300%     400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4" name=""/>
            <p:cNvSpPr/>
            <p:nvPr/>
          </p:nvSpPr>
          <p:spPr>
            <a:xfrm>
              <a:off x="7013520" y="2533680"/>
              <a:ext cx="2009880" cy="1281240"/>
            </a:xfrm>
            <a:custGeom>
              <a:avLst/>
              <a:gdLst/>
              <a:ahLst/>
              <a:rect l="l" t="t" r="r" b="b"/>
              <a:pathLst>
                <a:path w="1266" h="807">
                  <a:moveTo>
                    <a:pt x="0" y="807"/>
                  </a:moveTo>
                  <a:cubicBezTo>
                    <a:pt x="9" y="741"/>
                    <a:pt x="30" y="515"/>
                    <a:pt x="57" y="408"/>
                  </a:cubicBezTo>
                  <a:cubicBezTo>
                    <a:pt x="84" y="301"/>
                    <a:pt x="100" y="231"/>
                    <a:pt x="160" y="167"/>
                  </a:cubicBezTo>
                  <a:cubicBezTo>
                    <a:pt x="230" y="101"/>
                    <a:pt x="338" y="40"/>
                    <a:pt x="415" y="24"/>
                  </a:cubicBezTo>
                  <a:cubicBezTo>
                    <a:pt x="492" y="8"/>
                    <a:pt x="436" y="12"/>
                    <a:pt x="507" y="6"/>
                  </a:cubicBezTo>
                  <a:cubicBezTo>
                    <a:pt x="578" y="0"/>
                    <a:pt x="671" y="12"/>
                    <a:pt x="736" y="42"/>
                  </a:cubicBezTo>
                  <a:cubicBezTo>
                    <a:pt x="801" y="72"/>
                    <a:pt x="806" y="80"/>
                    <a:pt x="894" y="152"/>
                  </a:cubicBezTo>
                  <a:cubicBezTo>
                    <a:pt x="982" y="224"/>
                    <a:pt x="1188" y="408"/>
                    <a:pt x="1266" y="47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5" name=""/>
            <p:cNvSpPr/>
            <p:nvPr/>
          </p:nvSpPr>
          <p:spPr>
            <a:xfrm>
              <a:off x="7012080" y="2620800"/>
              <a:ext cx="2027160" cy="1132200"/>
            </a:xfrm>
            <a:custGeom>
              <a:avLst/>
              <a:gdLst/>
              <a:ahLst/>
              <a:rect l="l" t="t" r="r" b="b"/>
              <a:pathLst>
                <a:path w="1277" h="713">
                  <a:moveTo>
                    <a:pt x="0" y="0"/>
                  </a:moveTo>
                  <a:cubicBezTo>
                    <a:pt x="57" y="74"/>
                    <a:pt x="104" y="139"/>
                    <a:pt x="150" y="191"/>
                  </a:cubicBezTo>
                  <a:cubicBezTo>
                    <a:pt x="196" y="243"/>
                    <a:pt x="206" y="255"/>
                    <a:pt x="279" y="310"/>
                  </a:cubicBezTo>
                  <a:cubicBezTo>
                    <a:pt x="352" y="365"/>
                    <a:pt x="475" y="464"/>
                    <a:pt x="590" y="522"/>
                  </a:cubicBezTo>
                  <a:cubicBezTo>
                    <a:pt x="705" y="580"/>
                    <a:pt x="853" y="625"/>
                    <a:pt x="967" y="657"/>
                  </a:cubicBezTo>
                  <a:cubicBezTo>
                    <a:pt x="1081" y="689"/>
                    <a:pt x="1213" y="701"/>
                    <a:pt x="1277" y="713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6" name=""/>
            <p:cNvSpPr/>
            <p:nvPr/>
          </p:nvSpPr>
          <p:spPr>
            <a:xfrm>
              <a:off x="7292880" y="2970360"/>
              <a:ext cx="74880" cy="903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7" name=""/>
            <p:cNvSpPr/>
            <p:nvPr/>
          </p:nvSpPr>
          <p:spPr>
            <a:xfrm>
              <a:off x="7292880" y="2716200"/>
              <a:ext cx="74880" cy="903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8" name=""/>
            <p:cNvSpPr/>
            <p:nvPr/>
          </p:nvSpPr>
          <p:spPr>
            <a:xfrm rot="1200">
              <a:off x="7378200" y="2315880"/>
              <a:ext cx="14954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200" spc="-1" strike="noStrike">
                  <a:solidFill>
                    <a:srgbClr val="000000"/>
                  </a:solidFill>
                  <a:latin typeface="Times New Roman"/>
                </a:rPr>
                <a:t>Glomerulární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200" spc="-1" strike="noStrike">
                  <a:solidFill>
                    <a:srgbClr val="000000"/>
                  </a:solidFill>
                  <a:latin typeface="Times New Roman"/>
                </a:rPr>
                <a:t>filtrac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9" name=""/>
            <p:cNvSpPr/>
            <p:nvPr/>
          </p:nvSpPr>
          <p:spPr>
            <a:xfrm rot="1195800">
              <a:off x="7164000" y="3021120"/>
              <a:ext cx="1979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200" spc="-1" strike="noStrike">
                  <a:solidFill>
                    <a:srgbClr val="000000"/>
                  </a:solidFill>
                  <a:latin typeface="Times New Roman"/>
                </a:rPr>
                <a:t>Průtok krv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200" spc="-1" strike="noStrike">
                  <a:solidFill>
                    <a:srgbClr val="000000"/>
                  </a:solidFill>
                  <a:latin typeface="Times New Roman"/>
                </a:rPr>
                <a:t>glomerule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0" name=""/>
            <p:cNvSpPr/>
            <p:nvPr/>
          </p:nvSpPr>
          <p:spPr>
            <a:xfrm>
              <a:off x="6437160" y="3589200"/>
              <a:ext cx="1811520" cy="32040"/>
            </a:xfrm>
            <a:custGeom>
              <a:avLst/>
              <a:gdLst/>
              <a:ahLst/>
              <a:rect l="l" t="t" r="r" b="b"/>
              <a:pathLst>
                <a:path w="1141" h="20">
                  <a:moveTo>
                    <a:pt x="0" y="20"/>
                  </a:moveTo>
                  <a:lnTo>
                    <a:pt x="1141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760" bIns="-14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1" name=""/>
            <p:cNvSpPr/>
            <p:nvPr/>
          </p:nvSpPr>
          <p:spPr>
            <a:xfrm>
              <a:off x="6035760" y="2629080"/>
              <a:ext cx="14587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2" name=""/>
            <p:cNvSpPr/>
            <p:nvPr/>
          </p:nvSpPr>
          <p:spPr>
            <a:xfrm>
              <a:off x="6723000" y="2876400"/>
              <a:ext cx="1819440" cy="1509840"/>
            </a:xfrm>
            <a:custGeom>
              <a:avLst/>
              <a:gdLst/>
              <a:ahLst/>
              <a:rect l="l" t="t" r="r" b="b"/>
              <a:pathLst>
                <a:path w="1146" h="951">
                  <a:moveTo>
                    <a:pt x="0" y="951"/>
                  </a:moveTo>
                  <a:lnTo>
                    <a:pt x="1146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3" name=""/>
            <p:cNvSpPr/>
            <p:nvPr/>
          </p:nvSpPr>
          <p:spPr>
            <a:xfrm>
              <a:off x="7504920" y="2719440"/>
              <a:ext cx="569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200" spc="-1" strike="noStrike">
                  <a:solidFill>
                    <a:srgbClr val="000000"/>
                  </a:solidFill>
                  <a:latin typeface="Times New Roman"/>
                </a:rPr>
                <a:t>norm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4" name=""/>
            <p:cNvSpPr/>
            <p:nvPr/>
          </p:nvSpPr>
          <p:spPr>
            <a:xfrm>
              <a:off x="7353360" y="2774880"/>
              <a:ext cx="209520" cy="93600"/>
            </a:xfrm>
            <a:custGeom>
              <a:avLst/>
              <a:gdLst/>
              <a:ahLst/>
              <a:rect l="l" t="t" r="r" b="b"/>
              <a:pathLst>
                <a:path w="132" h="59">
                  <a:moveTo>
                    <a:pt x="132" y="59"/>
                  </a:move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5" name=""/>
            <p:cNvSpPr/>
            <p:nvPr/>
          </p:nvSpPr>
          <p:spPr>
            <a:xfrm>
              <a:off x="7351560" y="2900520"/>
              <a:ext cx="217800" cy="102960"/>
            </a:xfrm>
            <a:custGeom>
              <a:avLst/>
              <a:gdLst/>
              <a:ahLst/>
              <a:rect l="l" t="t" r="r" b="b"/>
              <a:pathLst>
                <a:path w="137" h="65">
                  <a:moveTo>
                    <a:pt x="137" y="0"/>
                  </a:moveTo>
                  <a:lnTo>
                    <a:pt x="0" y="65"/>
                  </a:lnTo>
                </a:path>
              </a:pathLst>
            </a:custGeom>
            <a:noFill/>
            <a:ln w="9360">
              <a:solidFill>
                <a:srgbClr val="00000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6" name=""/>
            <p:cNvSpPr/>
            <p:nvPr/>
          </p:nvSpPr>
          <p:spPr>
            <a:xfrm>
              <a:off x="6229080" y="5183280"/>
              <a:ext cx="1986480" cy="57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cs-CZ" sz="1400" spc="-1" strike="noStrike" baseline="-25000">
                  <a:solidFill>
                    <a:srgbClr val="000000"/>
                  </a:solidFill>
                  <a:latin typeface="Times New Roman"/>
                </a:rPr>
                <a:t>e  </a:t>
              </a:r>
              <a:r>
                <a:rPr b="0" lang="cs-CZ" sz="1400" spc="-1" strike="noStrike">
                  <a:solidFill>
                    <a:srgbClr val="000000"/>
                  </a:solidFill>
                  <a:latin typeface="Times New Roman"/>
                </a:rPr>
                <a:t>- hydrostatický tlak v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400" spc="-1" strike="noStrike">
                  <a:solidFill>
                    <a:srgbClr val="000000"/>
                  </a:solidFill>
                  <a:latin typeface="Times New Roman"/>
                </a:rPr>
                <a:t>       </a:t>
              </a:r>
              <a:r>
                <a:rPr b="0" lang="cs-CZ" sz="1400" spc="-1" strike="noStrike">
                  <a:solidFill>
                    <a:srgbClr val="000000"/>
                  </a:solidFill>
                  <a:latin typeface="Times New Roman"/>
                </a:rPr>
                <a:t>vas efferens</a:t>
              </a:r>
              <a:r>
                <a:rPr b="0" lang="cs-CZ" sz="14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7" name=""/>
            <p:cNvSpPr/>
            <p:nvPr/>
          </p:nvSpPr>
          <p:spPr>
            <a:xfrm>
              <a:off x="266760" y="5167440"/>
              <a:ext cx="1915920" cy="57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cs-CZ" sz="1400" spc="-1" strike="noStrike" baseline="-25000">
                  <a:solidFill>
                    <a:srgbClr val="000000"/>
                  </a:solidFill>
                  <a:latin typeface="Times New Roman"/>
                </a:rPr>
                <a:t>a  </a:t>
              </a:r>
              <a:r>
                <a:rPr b="0" lang="cs-CZ" sz="1400" spc="-1" strike="noStrike">
                  <a:solidFill>
                    <a:srgbClr val="000000"/>
                  </a:solidFill>
                  <a:latin typeface="Times New Roman"/>
                </a:rPr>
                <a:t>- hydrostatický tlak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400" spc="-1" strike="noStrike">
                  <a:solidFill>
                    <a:srgbClr val="000000"/>
                  </a:solidFill>
                  <a:latin typeface="Times New Roman"/>
                </a:rPr>
                <a:t>       </a:t>
              </a:r>
              <a:r>
                <a:rPr b="0" lang="cs-CZ" sz="1400" spc="-1" strike="noStrike">
                  <a:solidFill>
                    <a:srgbClr val="000000"/>
                  </a:solidFill>
                  <a:latin typeface="Times New Roman"/>
                </a:rPr>
                <a:t>ve vas afferens</a:t>
              </a:r>
              <a:r>
                <a:rPr b="0" lang="cs-CZ" sz="14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8" name=""/>
            <p:cNvSpPr/>
            <p:nvPr/>
          </p:nvSpPr>
          <p:spPr>
            <a:xfrm>
              <a:off x="6854760" y="41400"/>
              <a:ext cx="2216160" cy="1419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9" name=""/>
            <p:cNvSpPr/>
            <p:nvPr/>
          </p:nvSpPr>
          <p:spPr>
            <a:xfrm>
              <a:off x="6846840" y="36360"/>
              <a:ext cx="0" cy="141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0" name=""/>
            <p:cNvSpPr/>
            <p:nvPr/>
          </p:nvSpPr>
          <p:spPr>
            <a:xfrm>
              <a:off x="6854760" y="1455840"/>
              <a:ext cx="2208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1" name=""/>
            <p:cNvSpPr/>
            <p:nvPr/>
          </p:nvSpPr>
          <p:spPr>
            <a:xfrm>
              <a:off x="6848640" y="1455840"/>
              <a:ext cx="0" cy="18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2" name=""/>
            <p:cNvSpPr/>
            <p:nvPr/>
          </p:nvSpPr>
          <p:spPr>
            <a:xfrm>
              <a:off x="6629400" y="1843200"/>
              <a:ext cx="2546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200" spc="-1" strike="noStrike">
                  <a:solidFill>
                    <a:srgbClr val="000000"/>
                  </a:solidFill>
                  <a:latin typeface="Times New Roman"/>
                </a:rPr>
                <a:t>Rezistence ve vas afferens  (% normy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3" name=""/>
            <p:cNvSpPr/>
            <p:nvPr/>
          </p:nvSpPr>
          <p:spPr>
            <a:xfrm>
              <a:off x="7348680" y="1455840"/>
              <a:ext cx="0" cy="18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4" name=""/>
            <p:cNvSpPr/>
            <p:nvPr/>
          </p:nvSpPr>
          <p:spPr>
            <a:xfrm>
              <a:off x="7848720" y="1455840"/>
              <a:ext cx="0" cy="18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5" name=""/>
            <p:cNvSpPr/>
            <p:nvPr/>
          </p:nvSpPr>
          <p:spPr>
            <a:xfrm>
              <a:off x="8348760" y="1455840"/>
              <a:ext cx="0" cy="18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6" name=""/>
            <p:cNvSpPr/>
            <p:nvPr/>
          </p:nvSpPr>
          <p:spPr>
            <a:xfrm>
              <a:off x="8848800" y="1455840"/>
              <a:ext cx="0" cy="18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7" name=""/>
            <p:cNvSpPr/>
            <p:nvPr/>
          </p:nvSpPr>
          <p:spPr>
            <a:xfrm>
              <a:off x="6783480" y="1635120"/>
              <a:ext cx="18396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8" name=""/>
            <p:cNvSpPr/>
            <p:nvPr/>
          </p:nvSpPr>
          <p:spPr>
            <a:xfrm>
              <a:off x="7139160" y="1644480"/>
              <a:ext cx="2341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200" spc="-1" strike="noStrike">
                  <a:solidFill>
                    <a:srgbClr val="000000"/>
                  </a:solidFill>
                  <a:latin typeface="Times New Roman"/>
                </a:rPr>
                <a:t>100%    200%   300%     400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9" name=""/>
            <p:cNvSpPr/>
            <p:nvPr/>
          </p:nvSpPr>
          <p:spPr>
            <a:xfrm>
              <a:off x="7332840" y="41400"/>
              <a:ext cx="1001520" cy="1403280"/>
            </a:xfrm>
            <a:custGeom>
              <a:avLst/>
              <a:gdLst/>
              <a:ahLst/>
              <a:rect l="l" t="t" r="r" b="b"/>
              <a:pathLst>
                <a:path w="631" h="884">
                  <a:moveTo>
                    <a:pt x="0" y="0"/>
                  </a:moveTo>
                  <a:cubicBezTo>
                    <a:pt x="3" y="13"/>
                    <a:pt x="5" y="29"/>
                    <a:pt x="26" y="77"/>
                  </a:cubicBezTo>
                  <a:cubicBezTo>
                    <a:pt x="91" y="166"/>
                    <a:pt x="52" y="175"/>
                    <a:pt x="124" y="290"/>
                  </a:cubicBezTo>
                  <a:cubicBezTo>
                    <a:pt x="187" y="394"/>
                    <a:pt x="319" y="599"/>
                    <a:pt x="403" y="698"/>
                  </a:cubicBezTo>
                  <a:cubicBezTo>
                    <a:pt x="487" y="797"/>
                    <a:pt x="584" y="845"/>
                    <a:pt x="631" y="88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0" name=""/>
            <p:cNvSpPr/>
            <p:nvPr/>
          </p:nvSpPr>
          <p:spPr>
            <a:xfrm>
              <a:off x="7043760" y="25560"/>
              <a:ext cx="2027160" cy="1131840"/>
            </a:xfrm>
            <a:custGeom>
              <a:avLst/>
              <a:gdLst/>
              <a:ahLst/>
              <a:rect l="l" t="t" r="r" b="b"/>
              <a:pathLst>
                <a:path w="1277" h="713">
                  <a:moveTo>
                    <a:pt x="0" y="0"/>
                  </a:moveTo>
                  <a:cubicBezTo>
                    <a:pt x="57" y="74"/>
                    <a:pt x="104" y="139"/>
                    <a:pt x="150" y="191"/>
                  </a:cubicBezTo>
                  <a:cubicBezTo>
                    <a:pt x="196" y="243"/>
                    <a:pt x="206" y="255"/>
                    <a:pt x="279" y="310"/>
                  </a:cubicBezTo>
                  <a:cubicBezTo>
                    <a:pt x="352" y="365"/>
                    <a:pt x="475" y="464"/>
                    <a:pt x="590" y="522"/>
                  </a:cubicBezTo>
                  <a:cubicBezTo>
                    <a:pt x="705" y="580"/>
                    <a:pt x="853" y="625"/>
                    <a:pt x="967" y="657"/>
                  </a:cubicBezTo>
                  <a:cubicBezTo>
                    <a:pt x="1081" y="689"/>
                    <a:pt x="1213" y="701"/>
                    <a:pt x="1277" y="713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1" name=""/>
            <p:cNvSpPr/>
            <p:nvPr/>
          </p:nvSpPr>
          <p:spPr>
            <a:xfrm>
              <a:off x="7324560" y="374760"/>
              <a:ext cx="74880" cy="903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2" name=""/>
            <p:cNvSpPr/>
            <p:nvPr/>
          </p:nvSpPr>
          <p:spPr>
            <a:xfrm>
              <a:off x="7324560" y="120600"/>
              <a:ext cx="74880" cy="903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3" name=""/>
            <p:cNvSpPr/>
            <p:nvPr/>
          </p:nvSpPr>
          <p:spPr>
            <a:xfrm rot="1200">
              <a:off x="6271920" y="882360"/>
              <a:ext cx="16192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200" spc="-1" strike="noStrike">
                  <a:solidFill>
                    <a:srgbClr val="000000"/>
                  </a:solidFill>
                  <a:latin typeface="Times New Roman"/>
                </a:rPr>
                <a:t>Glomerulární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2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cs-CZ" sz="1200" spc="-1" strike="noStrike">
                  <a:solidFill>
                    <a:srgbClr val="000000"/>
                  </a:solidFill>
                  <a:latin typeface="Times New Roman"/>
                </a:rPr>
                <a:t>filtrac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4" name=""/>
            <p:cNvSpPr/>
            <p:nvPr/>
          </p:nvSpPr>
          <p:spPr>
            <a:xfrm rot="1195800">
              <a:off x="7178400" y="450720"/>
              <a:ext cx="1979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200" spc="-1" strike="noStrike">
                  <a:solidFill>
                    <a:srgbClr val="000000"/>
                  </a:solidFill>
                  <a:latin typeface="Times New Roman"/>
                </a:rPr>
                <a:t>Průtok krv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200" spc="-1" strike="noStrike">
                  <a:solidFill>
                    <a:srgbClr val="000000"/>
                  </a:solidFill>
                  <a:latin typeface="Times New Roman"/>
                </a:rPr>
                <a:t>glomerule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5" name=""/>
            <p:cNvSpPr/>
            <p:nvPr/>
          </p:nvSpPr>
          <p:spPr>
            <a:xfrm>
              <a:off x="7536960" y="123840"/>
              <a:ext cx="569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200" spc="-1" strike="noStrike">
                  <a:solidFill>
                    <a:srgbClr val="000000"/>
                  </a:solidFill>
                  <a:latin typeface="Times New Roman"/>
                </a:rPr>
                <a:t>norm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6" name=""/>
            <p:cNvSpPr/>
            <p:nvPr/>
          </p:nvSpPr>
          <p:spPr>
            <a:xfrm flipH="1" flipV="1">
              <a:off x="7378560" y="180720"/>
              <a:ext cx="214560" cy="9036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7" name=""/>
            <p:cNvSpPr/>
            <p:nvPr/>
          </p:nvSpPr>
          <p:spPr>
            <a:xfrm flipH="1">
              <a:off x="7384680" y="304920"/>
              <a:ext cx="214200" cy="982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8" name=""/>
            <p:cNvSpPr/>
            <p:nvPr/>
          </p:nvSpPr>
          <p:spPr>
            <a:xfrm>
              <a:off x="5041800" y="4221000"/>
              <a:ext cx="1800" cy="409680"/>
            </a:xfrm>
            <a:custGeom>
              <a:avLst/>
              <a:gdLst/>
              <a:ahLst/>
              <a:rect l="l" t="t" r="r" b="b"/>
              <a:pathLst>
                <a:path w="1" h="258">
                  <a:moveTo>
                    <a:pt x="0" y="258"/>
                  </a:move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9" name=""/>
          <p:cNvSpPr/>
          <p:nvPr/>
        </p:nvSpPr>
        <p:spPr>
          <a:xfrm>
            <a:off x="5564160" y="144360"/>
            <a:ext cx="468360" cy="1854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0" name=""/>
          <p:cNvSpPr/>
          <p:nvPr/>
        </p:nvSpPr>
        <p:spPr>
          <a:xfrm>
            <a:off x="3281400" y="5157720"/>
            <a:ext cx="262080" cy="887400"/>
          </a:xfrm>
          <a:prstGeom prst="downArrow">
            <a:avLst>
              <a:gd name="adj1" fmla="val 50000"/>
              <a:gd name="adj2" fmla="val 84650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1" name=""/>
          <p:cNvSpPr/>
          <p:nvPr/>
        </p:nvSpPr>
        <p:spPr>
          <a:xfrm>
            <a:off x="3610080" y="5067360"/>
            <a:ext cx="261720" cy="887400"/>
          </a:xfrm>
          <a:prstGeom prst="downArrow">
            <a:avLst>
              <a:gd name="adj1" fmla="val 50000"/>
              <a:gd name="adj2" fmla="val 84766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2" name=""/>
          <p:cNvSpPr/>
          <p:nvPr/>
        </p:nvSpPr>
        <p:spPr>
          <a:xfrm>
            <a:off x="2506680" y="5176800"/>
            <a:ext cx="262080" cy="1108080"/>
          </a:xfrm>
          <a:prstGeom prst="downArrow">
            <a:avLst>
              <a:gd name="adj1" fmla="val 50000"/>
              <a:gd name="adj2" fmla="val 105701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3" name=""/>
          <p:cNvSpPr/>
          <p:nvPr/>
        </p:nvSpPr>
        <p:spPr>
          <a:xfrm>
            <a:off x="2914560" y="5259240"/>
            <a:ext cx="262080" cy="887400"/>
          </a:xfrm>
          <a:prstGeom prst="downArrow">
            <a:avLst>
              <a:gd name="adj1" fmla="val 50000"/>
              <a:gd name="adj2" fmla="val 84650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4" name=""/>
          <p:cNvSpPr/>
          <p:nvPr/>
        </p:nvSpPr>
        <p:spPr>
          <a:xfrm>
            <a:off x="4329000" y="4287960"/>
            <a:ext cx="895320" cy="5410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5" name=""/>
          <p:cNvSpPr/>
          <p:nvPr/>
        </p:nvSpPr>
        <p:spPr>
          <a:xfrm>
            <a:off x="1176480" y="4206960"/>
            <a:ext cx="895320" cy="738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6" name=""/>
          <p:cNvSpPr/>
          <p:nvPr/>
        </p:nvSpPr>
        <p:spPr>
          <a:xfrm>
            <a:off x="1960560" y="3889440"/>
            <a:ext cx="2449440" cy="1382760"/>
          </a:xfrm>
          <a:custGeom>
            <a:avLst/>
            <a:gdLst/>
            <a:ahLst/>
            <a:rect l="l" t="t" r="r" b="b"/>
            <a:pathLst>
              <a:path w="1543" h="856">
                <a:moveTo>
                  <a:pt x="33" y="547"/>
                </a:moveTo>
                <a:cubicBezTo>
                  <a:pt x="28" y="496"/>
                  <a:pt x="0" y="371"/>
                  <a:pt x="39" y="298"/>
                </a:cubicBezTo>
                <a:cubicBezTo>
                  <a:pt x="78" y="225"/>
                  <a:pt x="177" y="153"/>
                  <a:pt x="266" y="107"/>
                </a:cubicBezTo>
                <a:cubicBezTo>
                  <a:pt x="355" y="61"/>
                  <a:pt x="475" y="36"/>
                  <a:pt x="571" y="19"/>
                </a:cubicBezTo>
                <a:cubicBezTo>
                  <a:pt x="667" y="2"/>
                  <a:pt x="752" y="0"/>
                  <a:pt x="840" y="4"/>
                </a:cubicBezTo>
                <a:cubicBezTo>
                  <a:pt x="928" y="8"/>
                  <a:pt x="1030" y="27"/>
                  <a:pt x="1099" y="45"/>
                </a:cubicBezTo>
                <a:cubicBezTo>
                  <a:pt x="1168" y="63"/>
                  <a:pt x="1187" y="66"/>
                  <a:pt x="1254" y="112"/>
                </a:cubicBezTo>
                <a:cubicBezTo>
                  <a:pt x="1321" y="158"/>
                  <a:pt x="1461" y="253"/>
                  <a:pt x="1502" y="319"/>
                </a:cubicBezTo>
                <a:cubicBezTo>
                  <a:pt x="1543" y="385"/>
                  <a:pt x="1532" y="445"/>
                  <a:pt x="1502" y="510"/>
                </a:cubicBezTo>
                <a:cubicBezTo>
                  <a:pt x="1472" y="575"/>
                  <a:pt x="1399" y="655"/>
                  <a:pt x="1321" y="707"/>
                </a:cubicBezTo>
                <a:cubicBezTo>
                  <a:pt x="1243" y="759"/>
                  <a:pt x="1147" y="797"/>
                  <a:pt x="1032" y="821"/>
                </a:cubicBezTo>
                <a:cubicBezTo>
                  <a:pt x="917" y="845"/>
                  <a:pt x="741" y="856"/>
                  <a:pt x="633" y="852"/>
                </a:cubicBezTo>
                <a:cubicBezTo>
                  <a:pt x="525" y="848"/>
                  <a:pt x="479" y="836"/>
                  <a:pt x="385" y="795"/>
                </a:cubicBezTo>
                <a:cubicBezTo>
                  <a:pt x="291" y="754"/>
                  <a:pt x="131" y="646"/>
                  <a:pt x="70" y="604"/>
                </a:cubicBezTo>
                <a:cubicBezTo>
                  <a:pt x="9" y="562"/>
                  <a:pt x="38" y="598"/>
                  <a:pt x="33" y="547"/>
                </a:cubicBez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ffff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7" name=""/>
          <p:cNvSpPr/>
          <p:nvPr/>
        </p:nvSpPr>
        <p:spPr>
          <a:xfrm>
            <a:off x="1141560" y="3971880"/>
            <a:ext cx="1417320" cy="407880"/>
          </a:xfrm>
          <a:custGeom>
            <a:avLst/>
            <a:gdLst/>
            <a:ahLst/>
            <a:rect l="l" t="t" r="r" b="b"/>
            <a:pathLst>
              <a:path w="893" h="257">
                <a:moveTo>
                  <a:pt x="10" y="160"/>
                </a:moveTo>
                <a:cubicBezTo>
                  <a:pt x="80" y="167"/>
                  <a:pt x="345" y="162"/>
                  <a:pt x="429" y="165"/>
                </a:cubicBezTo>
                <a:cubicBezTo>
                  <a:pt x="513" y="168"/>
                  <a:pt x="492" y="165"/>
                  <a:pt x="512" y="180"/>
                </a:cubicBezTo>
                <a:cubicBezTo>
                  <a:pt x="532" y="195"/>
                  <a:pt x="536" y="249"/>
                  <a:pt x="548" y="253"/>
                </a:cubicBezTo>
                <a:cubicBezTo>
                  <a:pt x="560" y="257"/>
                  <a:pt x="565" y="227"/>
                  <a:pt x="584" y="207"/>
                </a:cubicBezTo>
                <a:cubicBezTo>
                  <a:pt x="603" y="187"/>
                  <a:pt x="635" y="155"/>
                  <a:pt x="662" y="134"/>
                </a:cubicBezTo>
                <a:cubicBezTo>
                  <a:pt x="689" y="113"/>
                  <a:pt x="723" y="96"/>
                  <a:pt x="745" y="82"/>
                </a:cubicBezTo>
                <a:cubicBezTo>
                  <a:pt x="767" y="68"/>
                  <a:pt x="772" y="64"/>
                  <a:pt x="796" y="51"/>
                </a:cubicBezTo>
                <a:cubicBezTo>
                  <a:pt x="820" y="38"/>
                  <a:pt x="893" y="8"/>
                  <a:pt x="890" y="4"/>
                </a:cubicBezTo>
                <a:cubicBezTo>
                  <a:pt x="887" y="0"/>
                  <a:pt x="814" y="14"/>
                  <a:pt x="781" y="25"/>
                </a:cubicBezTo>
                <a:cubicBezTo>
                  <a:pt x="748" y="36"/>
                  <a:pt x="729" y="56"/>
                  <a:pt x="693" y="72"/>
                </a:cubicBezTo>
                <a:cubicBezTo>
                  <a:pt x="657" y="88"/>
                  <a:pt x="678" y="115"/>
                  <a:pt x="564" y="123"/>
                </a:cubicBezTo>
                <a:cubicBezTo>
                  <a:pt x="450" y="131"/>
                  <a:pt x="103" y="118"/>
                  <a:pt x="10" y="123"/>
                </a:cubicBezTo>
                <a:cubicBezTo>
                  <a:pt x="0" y="222"/>
                  <a:pt x="31" y="87"/>
                  <a:pt x="10" y="160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8" name=""/>
          <p:cNvSpPr/>
          <p:nvPr/>
        </p:nvSpPr>
        <p:spPr>
          <a:xfrm>
            <a:off x="2690640" y="3876840"/>
            <a:ext cx="233640" cy="74520"/>
          </a:xfrm>
          <a:custGeom>
            <a:avLst/>
            <a:gdLst/>
            <a:ahLst/>
            <a:rect l="l" t="t" r="r" b="b"/>
            <a:pathLst>
              <a:path w="147" h="40">
                <a:moveTo>
                  <a:pt x="1" y="36"/>
                </a:moveTo>
                <a:cubicBezTo>
                  <a:pt x="0" y="40"/>
                  <a:pt x="55" y="36"/>
                  <a:pt x="79" y="31"/>
                </a:cubicBezTo>
                <a:cubicBezTo>
                  <a:pt x="103" y="26"/>
                  <a:pt x="145" y="9"/>
                  <a:pt x="146" y="5"/>
                </a:cubicBezTo>
                <a:cubicBezTo>
                  <a:pt x="147" y="1"/>
                  <a:pt x="108" y="0"/>
                  <a:pt x="84" y="5"/>
                </a:cubicBezTo>
                <a:cubicBezTo>
                  <a:pt x="60" y="10"/>
                  <a:pt x="18" y="30"/>
                  <a:pt x="1" y="36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9" name=""/>
          <p:cNvSpPr/>
          <p:nvPr/>
        </p:nvSpPr>
        <p:spPr>
          <a:xfrm>
            <a:off x="3435480" y="3890880"/>
            <a:ext cx="249120" cy="74520"/>
          </a:xfrm>
          <a:custGeom>
            <a:avLst/>
            <a:gdLst/>
            <a:ahLst/>
            <a:rect l="l" t="t" r="r" b="b"/>
            <a:pathLst>
              <a:path w="157" h="42">
                <a:moveTo>
                  <a:pt x="1" y="16"/>
                </a:moveTo>
                <a:cubicBezTo>
                  <a:pt x="0" y="21"/>
                  <a:pt x="50" y="30"/>
                  <a:pt x="76" y="33"/>
                </a:cubicBezTo>
                <a:cubicBezTo>
                  <a:pt x="102" y="33"/>
                  <a:pt x="155" y="42"/>
                  <a:pt x="156" y="37"/>
                </a:cubicBezTo>
                <a:cubicBezTo>
                  <a:pt x="157" y="32"/>
                  <a:pt x="107" y="6"/>
                  <a:pt x="81" y="3"/>
                </a:cubicBezTo>
                <a:cubicBezTo>
                  <a:pt x="55" y="0"/>
                  <a:pt x="2" y="11"/>
                  <a:pt x="1" y="16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0" name=""/>
          <p:cNvSpPr/>
          <p:nvPr/>
        </p:nvSpPr>
        <p:spPr>
          <a:xfrm>
            <a:off x="3787920" y="3997440"/>
            <a:ext cx="1442880" cy="482400"/>
          </a:xfrm>
          <a:custGeom>
            <a:avLst/>
            <a:gdLst/>
            <a:ahLst/>
            <a:rect l="l" t="t" r="r" b="b"/>
            <a:pathLst>
              <a:path w="909" h="304">
                <a:moveTo>
                  <a:pt x="904" y="206"/>
                </a:moveTo>
                <a:cubicBezTo>
                  <a:pt x="873" y="214"/>
                  <a:pt x="761" y="210"/>
                  <a:pt x="691" y="211"/>
                </a:cubicBezTo>
                <a:cubicBezTo>
                  <a:pt x="621" y="212"/>
                  <a:pt x="534" y="211"/>
                  <a:pt x="485" y="211"/>
                </a:cubicBezTo>
                <a:cubicBezTo>
                  <a:pt x="436" y="211"/>
                  <a:pt x="419" y="196"/>
                  <a:pt x="397" y="211"/>
                </a:cubicBezTo>
                <a:cubicBezTo>
                  <a:pt x="375" y="226"/>
                  <a:pt x="364" y="304"/>
                  <a:pt x="350" y="304"/>
                </a:cubicBezTo>
                <a:cubicBezTo>
                  <a:pt x="336" y="304"/>
                  <a:pt x="330" y="241"/>
                  <a:pt x="310" y="214"/>
                </a:cubicBezTo>
                <a:cubicBezTo>
                  <a:pt x="290" y="187"/>
                  <a:pt x="259" y="162"/>
                  <a:pt x="232" y="141"/>
                </a:cubicBezTo>
                <a:cubicBezTo>
                  <a:pt x="205" y="120"/>
                  <a:pt x="171" y="103"/>
                  <a:pt x="149" y="89"/>
                </a:cubicBezTo>
                <a:cubicBezTo>
                  <a:pt x="127" y="75"/>
                  <a:pt x="121" y="71"/>
                  <a:pt x="98" y="58"/>
                </a:cubicBezTo>
                <a:cubicBezTo>
                  <a:pt x="75" y="45"/>
                  <a:pt x="18" y="18"/>
                  <a:pt x="9" y="9"/>
                </a:cubicBezTo>
                <a:cubicBezTo>
                  <a:pt x="0" y="0"/>
                  <a:pt x="26" y="0"/>
                  <a:pt x="45" y="4"/>
                </a:cubicBezTo>
                <a:cubicBezTo>
                  <a:pt x="64" y="8"/>
                  <a:pt x="97" y="18"/>
                  <a:pt x="123" y="30"/>
                </a:cubicBezTo>
                <a:cubicBezTo>
                  <a:pt x="149" y="42"/>
                  <a:pt x="167" y="62"/>
                  <a:pt x="201" y="79"/>
                </a:cubicBezTo>
                <a:cubicBezTo>
                  <a:pt x="235" y="96"/>
                  <a:pt x="212" y="115"/>
                  <a:pt x="330" y="130"/>
                </a:cubicBezTo>
                <a:cubicBezTo>
                  <a:pt x="448" y="145"/>
                  <a:pt x="813" y="156"/>
                  <a:pt x="909" y="169"/>
                </a:cubicBezTo>
                <a:cubicBezTo>
                  <a:pt x="904" y="247"/>
                  <a:pt x="909" y="164"/>
                  <a:pt x="904" y="206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1" name=""/>
          <p:cNvSpPr/>
          <p:nvPr/>
        </p:nvSpPr>
        <p:spPr>
          <a:xfrm>
            <a:off x="1125360" y="4746600"/>
            <a:ext cx="1446480" cy="1647720"/>
          </a:xfrm>
          <a:custGeom>
            <a:avLst/>
            <a:gdLst/>
            <a:ahLst/>
            <a:rect l="l" t="t" r="r" b="b"/>
            <a:pathLst>
              <a:path w="911" h="1038">
                <a:moveTo>
                  <a:pt x="0" y="117"/>
                </a:moveTo>
                <a:cubicBezTo>
                  <a:pt x="70" y="112"/>
                  <a:pt x="351" y="114"/>
                  <a:pt x="438" y="107"/>
                </a:cubicBezTo>
                <a:cubicBezTo>
                  <a:pt x="525" y="100"/>
                  <a:pt x="501" y="94"/>
                  <a:pt x="521" y="77"/>
                </a:cubicBezTo>
                <a:cubicBezTo>
                  <a:pt x="541" y="60"/>
                  <a:pt x="545" y="8"/>
                  <a:pt x="557" y="4"/>
                </a:cubicBezTo>
                <a:cubicBezTo>
                  <a:pt x="569" y="0"/>
                  <a:pt x="574" y="30"/>
                  <a:pt x="593" y="50"/>
                </a:cubicBezTo>
                <a:cubicBezTo>
                  <a:pt x="612" y="70"/>
                  <a:pt x="644" y="102"/>
                  <a:pt x="671" y="123"/>
                </a:cubicBezTo>
                <a:cubicBezTo>
                  <a:pt x="698" y="144"/>
                  <a:pt x="733" y="159"/>
                  <a:pt x="754" y="175"/>
                </a:cubicBezTo>
                <a:cubicBezTo>
                  <a:pt x="775" y="191"/>
                  <a:pt x="773" y="206"/>
                  <a:pt x="797" y="219"/>
                </a:cubicBezTo>
                <a:cubicBezTo>
                  <a:pt x="821" y="232"/>
                  <a:pt x="911" y="256"/>
                  <a:pt x="899" y="253"/>
                </a:cubicBezTo>
                <a:cubicBezTo>
                  <a:pt x="887" y="250"/>
                  <a:pt x="736" y="176"/>
                  <a:pt x="725" y="203"/>
                </a:cubicBezTo>
                <a:cubicBezTo>
                  <a:pt x="714" y="230"/>
                  <a:pt x="811" y="353"/>
                  <a:pt x="834" y="415"/>
                </a:cubicBezTo>
                <a:cubicBezTo>
                  <a:pt x="857" y="477"/>
                  <a:pt x="859" y="530"/>
                  <a:pt x="865" y="576"/>
                </a:cubicBezTo>
                <a:cubicBezTo>
                  <a:pt x="871" y="622"/>
                  <a:pt x="869" y="632"/>
                  <a:pt x="870" y="689"/>
                </a:cubicBezTo>
                <a:cubicBezTo>
                  <a:pt x="871" y="746"/>
                  <a:pt x="870" y="859"/>
                  <a:pt x="870" y="917"/>
                </a:cubicBezTo>
                <a:cubicBezTo>
                  <a:pt x="870" y="975"/>
                  <a:pt x="874" y="1038"/>
                  <a:pt x="870" y="1036"/>
                </a:cubicBezTo>
                <a:cubicBezTo>
                  <a:pt x="866" y="1034"/>
                  <a:pt x="848" y="987"/>
                  <a:pt x="844" y="907"/>
                </a:cubicBezTo>
                <a:cubicBezTo>
                  <a:pt x="840" y="827"/>
                  <a:pt x="854" y="650"/>
                  <a:pt x="844" y="555"/>
                </a:cubicBezTo>
                <a:cubicBezTo>
                  <a:pt x="834" y="460"/>
                  <a:pt x="804" y="392"/>
                  <a:pt x="782" y="338"/>
                </a:cubicBezTo>
                <a:cubicBezTo>
                  <a:pt x="760" y="284"/>
                  <a:pt x="743" y="260"/>
                  <a:pt x="709" y="229"/>
                </a:cubicBezTo>
                <a:cubicBezTo>
                  <a:pt x="675" y="198"/>
                  <a:pt x="698" y="162"/>
                  <a:pt x="580" y="151"/>
                </a:cubicBezTo>
                <a:cubicBezTo>
                  <a:pt x="462" y="140"/>
                  <a:pt x="98" y="168"/>
                  <a:pt x="1" y="162"/>
                </a:cubicBezTo>
                <a:cubicBezTo>
                  <a:pt x="4" y="108"/>
                  <a:pt x="3" y="183"/>
                  <a:pt x="0" y="117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2" name=""/>
          <p:cNvSpPr/>
          <p:nvPr/>
        </p:nvSpPr>
        <p:spPr>
          <a:xfrm flipV="1">
            <a:off x="2689200" y="5173560"/>
            <a:ext cx="233280" cy="74880"/>
          </a:xfrm>
          <a:custGeom>
            <a:avLst/>
            <a:gdLst/>
            <a:ahLst/>
            <a:rect l="l" t="t" r="r" b="b"/>
            <a:pathLst>
              <a:path w="147" h="40">
                <a:moveTo>
                  <a:pt x="1" y="36"/>
                </a:moveTo>
                <a:cubicBezTo>
                  <a:pt x="0" y="40"/>
                  <a:pt x="55" y="36"/>
                  <a:pt x="79" y="31"/>
                </a:cubicBezTo>
                <a:cubicBezTo>
                  <a:pt x="103" y="26"/>
                  <a:pt x="145" y="9"/>
                  <a:pt x="146" y="5"/>
                </a:cubicBezTo>
                <a:cubicBezTo>
                  <a:pt x="147" y="1"/>
                  <a:pt x="108" y="0"/>
                  <a:pt x="84" y="5"/>
                </a:cubicBezTo>
                <a:cubicBezTo>
                  <a:pt x="60" y="10"/>
                  <a:pt x="18" y="30"/>
                  <a:pt x="1" y="36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3" name=""/>
          <p:cNvSpPr/>
          <p:nvPr/>
        </p:nvSpPr>
        <p:spPr>
          <a:xfrm flipV="1">
            <a:off x="3043080" y="5203080"/>
            <a:ext cx="249480" cy="74520"/>
          </a:xfrm>
          <a:custGeom>
            <a:avLst/>
            <a:gdLst/>
            <a:ahLst/>
            <a:rect l="l" t="t" r="r" b="b"/>
            <a:pathLst>
              <a:path w="157" h="42">
                <a:moveTo>
                  <a:pt x="1" y="16"/>
                </a:moveTo>
                <a:cubicBezTo>
                  <a:pt x="0" y="21"/>
                  <a:pt x="50" y="30"/>
                  <a:pt x="76" y="33"/>
                </a:cubicBezTo>
                <a:cubicBezTo>
                  <a:pt x="102" y="33"/>
                  <a:pt x="155" y="42"/>
                  <a:pt x="156" y="37"/>
                </a:cubicBezTo>
                <a:cubicBezTo>
                  <a:pt x="157" y="32"/>
                  <a:pt x="107" y="6"/>
                  <a:pt x="81" y="3"/>
                </a:cubicBezTo>
                <a:cubicBezTo>
                  <a:pt x="55" y="0"/>
                  <a:pt x="2" y="11"/>
                  <a:pt x="1" y="16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4" name=""/>
          <p:cNvSpPr/>
          <p:nvPr/>
        </p:nvSpPr>
        <p:spPr>
          <a:xfrm flipV="1">
            <a:off x="3433680" y="5158800"/>
            <a:ext cx="249480" cy="74520"/>
          </a:xfrm>
          <a:custGeom>
            <a:avLst/>
            <a:gdLst/>
            <a:ahLst/>
            <a:rect l="l" t="t" r="r" b="b"/>
            <a:pathLst>
              <a:path w="157" h="42">
                <a:moveTo>
                  <a:pt x="1" y="16"/>
                </a:moveTo>
                <a:cubicBezTo>
                  <a:pt x="0" y="21"/>
                  <a:pt x="50" y="30"/>
                  <a:pt x="76" y="33"/>
                </a:cubicBezTo>
                <a:cubicBezTo>
                  <a:pt x="102" y="33"/>
                  <a:pt x="155" y="42"/>
                  <a:pt x="156" y="37"/>
                </a:cubicBezTo>
                <a:cubicBezTo>
                  <a:pt x="157" y="32"/>
                  <a:pt x="107" y="6"/>
                  <a:pt x="81" y="3"/>
                </a:cubicBezTo>
                <a:cubicBezTo>
                  <a:pt x="55" y="0"/>
                  <a:pt x="2" y="11"/>
                  <a:pt x="1" y="16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5" name=""/>
          <p:cNvSpPr/>
          <p:nvPr/>
        </p:nvSpPr>
        <p:spPr>
          <a:xfrm>
            <a:off x="3825720" y="4645080"/>
            <a:ext cx="1403640" cy="1838160"/>
          </a:xfrm>
          <a:custGeom>
            <a:avLst/>
            <a:gdLst/>
            <a:ahLst/>
            <a:rect l="l" t="t" r="r" b="b"/>
            <a:pathLst>
              <a:path w="884" h="1158">
                <a:moveTo>
                  <a:pt x="879" y="98"/>
                </a:moveTo>
                <a:cubicBezTo>
                  <a:pt x="848" y="90"/>
                  <a:pt x="736" y="94"/>
                  <a:pt x="666" y="93"/>
                </a:cubicBezTo>
                <a:cubicBezTo>
                  <a:pt x="596" y="92"/>
                  <a:pt x="509" y="93"/>
                  <a:pt x="460" y="93"/>
                </a:cubicBezTo>
                <a:cubicBezTo>
                  <a:pt x="411" y="93"/>
                  <a:pt x="394" y="108"/>
                  <a:pt x="372" y="93"/>
                </a:cubicBezTo>
                <a:cubicBezTo>
                  <a:pt x="350" y="78"/>
                  <a:pt x="339" y="0"/>
                  <a:pt x="325" y="0"/>
                </a:cubicBezTo>
                <a:cubicBezTo>
                  <a:pt x="311" y="0"/>
                  <a:pt x="305" y="63"/>
                  <a:pt x="285" y="90"/>
                </a:cubicBezTo>
                <a:cubicBezTo>
                  <a:pt x="265" y="117"/>
                  <a:pt x="230" y="144"/>
                  <a:pt x="207" y="163"/>
                </a:cubicBezTo>
                <a:cubicBezTo>
                  <a:pt x="184" y="182"/>
                  <a:pt x="166" y="189"/>
                  <a:pt x="146" y="205"/>
                </a:cubicBezTo>
                <a:cubicBezTo>
                  <a:pt x="126" y="221"/>
                  <a:pt x="107" y="244"/>
                  <a:pt x="84" y="262"/>
                </a:cubicBezTo>
                <a:cubicBezTo>
                  <a:pt x="61" y="280"/>
                  <a:pt x="0" y="314"/>
                  <a:pt x="7" y="314"/>
                </a:cubicBezTo>
                <a:cubicBezTo>
                  <a:pt x="14" y="314"/>
                  <a:pt x="97" y="274"/>
                  <a:pt x="126" y="262"/>
                </a:cubicBezTo>
                <a:cubicBezTo>
                  <a:pt x="155" y="250"/>
                  <a:pt x="185" y="220"/>
                  <a:pt x="182" y="241"/>
                </a:cubicBezTo>
                <a:cubicBezTo>
                  <a:pt x="179" y="262"/>
                  <a:pt x="126" y="344"/>
                  <a:pt x="110" y="391"/>
                </a:cubicBezTo>
                <a:cubicBezTo>
                  <a:pt x="94" y="438"/>
                  <a:pt x="91" y="477"/>
                  <a:pt x="84" y="521"/>
                </a:cubicBezTo>
                <a:cubicBezTo>
                  <a:pt x="77" y="565"/>
                  <a:pt x="73" y="582"/>
                  <a:pt x="69" y="655"/>
                </a:cubicBezTo>
                <a:cubicBezTo>
                  <a:pt x="65" y="728"/>
                  <a:pt x="59" y="885"/>
                  <a:pt x="58" y="960"/>
                </a:cubicBezTo>
                <a:cubicBezTo>
                  <a:pt x="57" y="1035"/>
                  <a:pt x="58" y="1077"/>
                  <a:pt x="63" y="1105"/>
                </a:cubicBezTo>
                <a:cubicBezTo>
                  <a:pt x="68" y="1133"/>
                  <a:pt x="85" y="1158"/>
                  <a:pt x="89" y="1131"/>
                </a:cubicBezTo>
                <a:cubicBezTo>
                  <a:pt x="93" y="1104"/>
                  <a:pt x="87" y="1017"/>
                  <a:pt x="89" y="945"/>
                </a:cubicBezTo>
                <a:cubicBezTo>
                  <a:pt x="91" y="873"/>
                  <a:pt x="97" y="768"/>
                  <a:pt x="100" y="697"/>
                </a:cubicBezTo>
                <a:cubicBezTo>
                  <a:pt x="103" y="626"/>
                  <a:pt x="97" y="576"/>
                  <a:pt x="105" y="521"/>
                </a:cubicBezTo>
                <a:cubicBezTo>
                  <a:pt x="113" y="466"/>
                  <a:pt x="113" y="423"/>
                  <a:pt x="146" y="365"/>
                </a:cubicBezTo>
                <a:cubicBezTo>
                  <a:pt x="179" y="307"/>
                  <a:pt x="182" y="212"/>
                  <a:pt x="305" y="174"/>
                </a:cubicBezTo>
                <a:cubicBezTo>
                  <a:pt x="428" y="136"/>
                  <a:pt x="788" y="148"/>
                  <a:pt x="884" y="135"/>
                </a:cubicBezTo>
                <a:cubicBezTo>
                  <a:pt x="879" y="57"/>
                  <a:pt x="884" y="140"/>
                  <a:pt x="879" y="98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6" name=""/>
          <p:cNvSpPr/>
          <p:nvPr/>
        </p:nvSpPr>
        <p:spPr>
          <a:xfrm>
            <a:off x="2480760" y="6284880"/>
            <a:ext cx="37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G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7" name=""/>
          <p:cNvSpPr/>
          <p:nvPr/>
        </p:nvSpPr>
        <p:spPr>
          <a:xfrm>
            <a:off x="2799720" y="6172200"/>
            <a:ext cx="37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G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8" name=""/>
          <p:cNvSpPr/>
          <p:nvPr/>
        </p:nvSpPr>
        <p:spPr>
          <a:xfrm>
            <a:off x="3177360" y="6072120"/>
            <a:ext cx="37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G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9" name=""/>
          <p:cNvSpPr/>
          <p:nvPr/>
        </p:nvSpPr>
        <p:spPr>
          <a:xfrm>
            <a:off x="3507840" y="5965920"/>
            <a:ext cx="37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G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0" name=""/>
          <p:cNvSpPr/>
          <p:nvPr/>
        </p:nvSpPr>
        <p:spPr>
          <a:xfrm>
            <a:off x="10800" y="4448160"/>
            <a:ext cx="116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Zvýšení perfúz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1" name=""/>
          <p:cNvSpPr/>
          <p:nvPr/>
        </p:nvSpPr>
        <p:spPr>
          <a:xfrm>
            <a:off x="2030040" y="4406760"/>
            <a:ext cx="229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ozvolnější růst onkotického tlak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2" name=""/>
          <p:cNvSpPr/>
          <p:nvPr/>
        </p:nvSpPr>
        <p:spPr>
          <a:xfrm>
            <a:off x="2698200" y="6475320"/>
            <a:ext cx="247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Zvýšení celkové glomerulární filtr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3" name=""/>
          <p:cNvSpPr/>
          <p:nvPr/>
        </p:nvSpPr>
        <p:spPr>
          <a:xfrm>
            <a:off x="1200240" y="4576680"/>
            <a:ext cx="73980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4" name=""/>
          <p:cNvSpPr/>
          <p:nvPr/>
        </p:nvSpPr>
        <p:spPr>
          <a:xfrm>
            <a:off x="3722760" y="4732200"/>
            <a:ext cx="828720" cy="1764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5" name=""/>
          <p:cNvSpPr/>
          <p:nvPr/>
        </p:nvSpPr>
        <p:spPr>
          <a:xfrm>
            <a:off x="3051000" y="3841920"/>
            <a:ext cx="268560" cy="77760"/>
          </a:xfrm>
          <a:custGeom>
            <a:avLst/>
            <a:gdLst/>
            <a:ahLst/>
            <a:rect l="l" t="t" r="r" b="b"/>
            <a:pathLst>
              <a:path w="169" h="49">
                <a:moveTo>
                  <a:pt x="1" y="27"/>
                </a:moveTo>
                <a:cubicBezTo>
                  <a:pt x="0" y="20"/>
                  <a:pt x="48" y="0"/>
                  <a:pt x="76" y="2"/>
                </a:cubicBezTo>
                <a:cubicBezTo>
                  <a:pt x="104" y="4"/>
                  <a:pt x="167" y="31"/>
                  <a:pt x="168" y="38"/>
                </a:cubicBezTo>
                <a:cubicBezTo>
                  <a:pt x="169" y="45"/>
                  <a:pt x="109" y="49"/>
                  <a:pt x="81" y="47"/>
                </a:cubicBezTo>
                <a:cubicBezTo>
                  <a:pt x="53" y="45"/>
                  <a:pt x="2" y="35"/>
                  <a:pt x="1" y="27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6" name=""/>
          <p:cNvSpPr/>
          <p:nvPr/>
        </p:nvSpPr>
        <p:spPr>
          <a:xfrm>
            <a:off x="2506680" y="1728720"/>
            <a:ext cx="270000" cy="1074960"/>
          </a:xfrm>
          <a:prstGeom prst="downArrow">
            <a:avLst>
              <a:gd name="adj1" fmla="val 50000"/>
              <a:gd name="adj2" fmla="val 99533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7" name=""/>
          <p:cNvSpPr/>
          <p:nvPr/>
        </p:nvSpPr>
        <p:spPr>
          <a:xfrm>
            <a:off x="2914560" y="1776240"/>
            <a:ext cx="262080" cy="517680"/>
          </a:xfrm>
          <a:prstGeom prst="downArrow">
            <a:avLst>
              <a:gd name="adj1" fmla="val 50000"/>
              <a:gd name="adj2" fmla="val 49382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8" name=""/>
          <p:cNvSpPr/>
          <p:nvPr/>
        </p:nvSpPr>
        <p:spPr>
          <a:xfrm>
            <a:off x="3308400" y="1760400"/>
            <a:ext cx="155520" cy="354240"/>
          </a:xfrm>
          <a:prstGeom prst="downArrow">
            <a:avLst>
              <a:gd name="adj1" fmla="val 50000"/>
              <a:gd name="adj2" fmla="val 56944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9" name=""/>
          <p:cNvSpPr/>
          <p:nvPr/>
        </p:nvSpPr>
        <p:spPr>
          <a:xfrm>
            <a:off x="3728880" y="1646280"/>
            <a:ext cx="108000" cy="261720"/>
          </a:xfrm>
          <a:prstGeom prst="downArrow">
            <a:avLst>
              <a:gd name="adj1" fmla="val 50000"/>
              <a:gd name="adj2" fmla="val 60583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0" name=""/>
          <p:cNvSpPr/>
          <p:nvPr/>
        </p:nvSpPr>
        <p:spPr>
          <a:xfrm>
            <a:off x="4311720" y="880920"/>
            <a:ext cx="895320" cy="5414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1" name=""/>
          <p:cNvSpPr/>
          <p:nvPr/>
        </p:nvSpPr>
        <p:spPr>
          <a:xfrm>
            <a:off x="1176480" y="758880"/>
            <a:ext cx="895320" cy="738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2" name=""/>
          <p:cNvSpPr/>
          <p:nvPr/>
        </p:nvSpPr>
        <p:spPr>
          <a:xfrm>
            <a:off x="1960560" y="441360"/>
            <a:ext cx="2449440" cy="1382760"/>
          </a:xfrm>
          <a:custGeom>
            <a:avLst/>
            <a:gdLst/>
            <a:ahLst/>
            <a:rect l="l" t="t" r="r" b="b"/>
            <a:pathLst>
              <a:path w="1543" h="856">
                <a:moveTo>
                  <a:pt x="33" y="547"/>
                </a:moveTo>
                <a:cubicBezTo>
                  <a:pt x="28" y="496"/>
                  <a:pt x="0" y="371"/>
                  <a:pt x="39" y="298"/>
                </a:cubicBezTo>
                <a:cubicBezTo>
                  <a:pt x="78" y="225"/>
                  <a:pt x="177" y="153"/>
                  <a:pt x="266" y="107"/>
                </a:cubicBezTo>
                <a:cubicBezTo>
                  <a:pt x="355" y="61"/>
                  <a:pt x="475" y="36"/>
                  <a:pt x="571" y="19"/>
                </a:cubicBezTo>
                <a:cubicBezTo>
                  <a:pt x="667" y="2"/>
                  <a:pt x="752" y="0"/>
                  <a:pt x="840" y="4"/>
                </a:cubicBezTo>
                <a:cubicBezTo>
                  <a:pt x="928" y="8"/>
                  <a:pt x="1030" y="27"/>
                  <a:pt x="1099" y="45"/>
                </a:cubicBezTo>
                <a:cubicBezTo>
                  <a:pt x="1168" y="63"/>
                  <a:pt x="1187" y="66"/>
                  <a:pt x="1254" y="112"/>
                </a:cubicBezTo>
                <a:cubicBezTo>
                  <a:pt x="1321" y="158"/>
                  <a:pt x="1461" y="253"/>
                  <a:pt x="1502" y="319"/>
                </a:cubicBezTo>
                <a:cubicBezTo>
                  <a:pt x="1543" y="385"/>
                  <a:pt x="1532" y="445"/>
                  <a:pt x="1502" y="510"/>
                </a:cubicBezTo>
                <a:cubicBezTo>
                  <a:pt x="1472" y="575"/>
                  <a:pt x="1399" y="655"/>
                  <a:pt x="1321" y="707"/>
                </a:cubicBezTo>
                <a:cubicBezTo>
                  <a:pt x="1243" y="759"/>
                  <a:pt x="1147" y="797"/>
                  <a:pt x="1032" y="821"/>
                </a:cubicBezTo>
                <a:cubicBezTo>
                  <a:pt x="917" y="845"/>
                  <a:pt x="741" y="856"/>
                  <a:pt x="633" y="852"/>
                </a:cubicBezTo>
                <a:cubicBezTo>
                  <a:pt x="525" y="848"/>
                  <a:pt x="479" y="836"/>
                  <a:pt x="385" y="795"/>
                </a:cubicBezTo>
                <a:cubicBezTo>
                  <a:pt x="291" y="754"/>
                  <a:pt x="131" y="646"/>
                  <a:pt x="70" y="604"/>
                </a:cubicBezTo>
                <a:cubicBezTo>
                  <a:pt x="9" y="562"/>
                  <a:pt x="38" y="598"/>
                  <a:pt x="33" y="547"/>
                </a:cubicBezTo>
                <a:close/>
              </a:path>
            </a:pathLst>
          </a:custGeom>
          <a:gradFill rotWithShape="0">
            <a:gsLst>
              <a:gs pos="0">
                <a:srgbClr val="808080"/>
              </a:gs>
              <a:gs pos="100000">
                <a:srgbClr val="ffff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3" name=""/>
          <p:cNvSpPr/>
          <p:nvPr/>
        </p:nvSpPr>
        <p:spPr>
          <a:xfrm>
            <a:off x="1141560" y="523800"/>
            <a:ext cx="1417320" cy="408240"/>
          </a:xfrm>
          <a:custGeom>
            <a:avLst/>
            <a:gdLst/>
            <a:ahLst/>
            <a:rect l="l" t="t" r="r" b="b"/>
            <a:pathLst>
              <a:path w="893" h="257">
                <a:moveTo>
                  <a:pt x="10" y="160"/>
                </a:moveTo>
                <a:cubicBezTo>
                  <a:pt x="80" y="167"/>
                  <a:pt x="345" y="162"/>
                  <a:pt x="429" y="165"/>
                </a:cubicBezTo>
                <a:cubicBezTo>
                  <a:pt x="513" y="168"/>
                  <a:pt x="492" y="165"/>
                  <a:pt x="512" y="180"/>
                </a:cubicBezTo>
                <a:cubicBezTo>
                  <a:pt x="532" y="195"/>
                  <a:pt x="536" y="249"/>
                  <a:pt x="548" y="253"/>
                </a:cubicBezTo>
                <a:cubicBezTo>
                  <a:pt x="560" y="257"/>
                  <a:pt x="565" y="227"/>
                  <a:pt x="584" y="207"/>
                </a:cubicBezTo>
                <a:cubicBezTo>
                  <a:pt x="603" y="187"/>
                  <a:pt x="635" y="155"/>
                  <a:pt x="662" y="134"/>
                </a:cubicBezTo>
                <a:cubicBezTo>
                  <a:pt x="689" y="113"/>
                  <a:pt x="723" y="96"/>
                  <a:pt x="745" y="82"/>
                </a:cubicBezTo>
                <a:cubicBezTo>
                  <a:pt x="767" y="68"/>
                  <a:pt x="772" y="64"/>
                  <a:pt x="796" y="51"/>
                </a:cubicBezTo>
                <a:cubicBezTo>
                  <a:pt x="820" y="38"/>
                  <a:pt x="893" y="8"/>
                  <a:pt x="890" y="4"/>
                </a:cubicBezTo>
                <a:cubicBezTo>
                  <a:pt x="887" y="0"/>
                  <a:pt x="814" y="14"/>
                  <a:pt x="781" y="25"/>
                </a:cubicBezTo>
                <a:cubicBezTo>
                  <a:pt x="748" y="36"/>
                  <a:pt x="729" y="56"/>
                  <a:pt x="693" y="72"/>
                </a:cubicBezTo>
                <a:cubicBezTo>
                  <a:pt x="657" y="88"/>
                  <a:pt x="678" y="115"/>
                  <a:pt x="564" y="123"/>
                </a:cubicBezTo>
                <a:cubicBezTo>
                  <a:pt x="450" y="131"/>
                  <a:pt x="103" y="118"/>
                  <a:pt x="10" y="123"/>
                </a:cubicBezTo>
                <a:cubicBezTo>
                  <a:pt x="0" y="222"/>
                  <a:pt x="31" y="87"/>
                  <a:pt x="10" y="160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4" name=""/>
          <p:cNvSpPr/>
          <p:nvPr/>
        </p:nvSpPr>
        <p:spPr>
          <a:xfrm>
            <a:off x="2690640" y="428760"/>
            <a:ext cx="233640" cy="74520"/>
          </a:xfrm>
          <a:custGeom>
            <a:avLst/>
            <a:gdLst/>
            <a:ahLst/>
            <a:rect l="l" t="t" r="r" b="b"/>
            <a:pathLst>
              <a:path w="147" h="40">
                <a:moveTo>
                  <a:pt x="1" y="36"/>
                </a:moveTo>
                <a:cubicBezTo>
                  <a:pt x="0" y="40"/>
                  <a:pt x="55" y="36"/>
                  <a:pt x="79" y="31"/>
                </a:cubicBezTo>
                <a:cubicBezTo>
                  <a:pt x="103" y="26"/>
                  <a:pt x="145" y="9"/>
                  <a:pt x="146" y="5"/>
                </a:cubicBezTo>
                <a:cubicBezTo>
                  <a:pt x="147" y="1"/>
                  <a:pt x="108" y="0"/>
                  <a:pt x="84" y="5"/>
                </a:cubicBezTo>
                <a:cubicBezTo>
                  <a:pt x="60" y="10"/>
                  <a:pt x="18" y="30"/>
                  <a:pt x="1" y="36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5" name=""/>
          <p:cNvSpPr/>
          <p:nvPr/>
        </p:nvSpPr>
        <p:spPr>
          <a:xfrm>
            <a:off x="3435480" y="442800"/>
            <a:ext cx="249120" cy="74880"/>
          </a:xfrm>
          <a:custGeom>
            <a:avLst/>
            <a:gdLst/>
            <a:ahLst/>
            <a:rect l="l" t="t" r="r" b="b"/>
            <a:pathLst>
              <a:path w="157" h="42">
                <a:moveTo>
                  <a:pt x="1" y="16"/>
                </a:moveTo>
                <a:cubicBezTo>
                  <a:pt x="0" y="21"/>
                  <a:pt x="50" y="30"/>
                  <a:pt x="76" y="33"/>
                </a:cubicBezTo>
                <a:cubicBezTo>
                  <a:pt x="102" y="33"/>
                  <a:pt x="155" y="42"/>
                  <a:pt x="156" y="37"/>
                </a:cubicBezTo>
                <a:cubicBezTo>
                  <a:pt x="157" y="32"/>
                  <a:pt x="107" y="6"/>
                  <a:pt x="81" y="3"/>
                </a:cubicBezTo>
                <a:cubicBezTo>
                  <a:pt x="55" y="0"/>
                  <a:pt x="2" y="11"/>
                  <a:pt x="1" y="16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6" name=""/>
          <p:cNvSpPr/>
          <p:nvPr/>
        </p:nvSpPr>
        <p:spPr>
          <a:xfrm>
            <a:off x="3787920" y="549360"/>
            <a:ext cx="1442880" cy="496800"/>
          </a:xfrm>
          <a:custGeom>
            <a:avLst/>
            <a:gdLst/>
            <a:ahLst/>
            <a:rect l="l" t="t" r="r" b="b"/>
            <a:pathLst>
              <a:path w="909" h="313">
                <a:moveTo>
                  <a:pt x="904" y="206"/>
                </a:moveTo>
                <a:cubicBezTo>
                  <a:pt x="873" y="214"/>
                  <a:pt x="761" y="210"/>
                  <a:pt x="691" y="211"/>
                </a:cubicBezTo>
                <a:cubicBezTo>
                  <a:pt x="624" y="215"/>
                  <a:pt x="547" y="221"/>
                  <a:pt x="501" y="230"/>
                </a:cubicBezTo>
                <a:cubicBezTo>
                  <a:pt x="455" y="239"/>
                  <a:pt x="438" y="254"/>
                  <a:pt x="413" y="266"/>
                </a:cubicBezTo>
                <a:cubicBezTo>
                  <a:pt x="388" y="278"/>
                  <a:pt x="367" y="313"/>
                  <a:pt x="350" y="304"/>
                </a:cubicBezTo>
                <a:cubicBezTo>
                  <a:pt x="333" y="295"/>
                  <a:pt x="330" y="241"/>
                  <a:pt x="310" y="214"/>
                </a:cubicBezTo>
                <a:cubicBezTo>
                  <a:pt x="290" y="187"/>
                  <a:pt x="259" y="162"/>
                  <a:pt x="232" y="141"/>
                </a:cubicBezTo>
                <a:cubicBezTo>
                  <a:pt x="205" y="120"/>
                  <a:pt x="171" y="103"/>
                  <a:pt x="149" y="89"/>
                </a:cubicBezTo>
                <a:cubicBezTo>
                  <a:pt x="127" y="75"/>
                  <a:pt x="121" y="71"/>
                  <a:pt x="98" y="58"/>
                </a:cubicBezTo>
                <a:cubicBezTo>
                  <a:pt x="75" y="45"/>
                  <a:pt x="18" y="18"/>
                  <a:pt x="9" y="9"/>
                </a:cubicBezTo>
                <a:cubicBezTo>
                  <a:pt x="0" y="0"/>
                  <a:pt x="26" y="0"/>
                  <a:pt x="45" y="4"/>
                </a:cubicBezTo>
                <a:cubicBezTo>
                  <a:pt x="64" y="8"/>
                  <a:pt x="97" y="18"/>
                  <a:pt x="123" y="30"/>
                </a:cubicBezTo>
                <a:cubicBezTo>
                  <a:pt x="149" y="42"/>
                  <a:pt x="167" y="62"/>
                  <a:pt x="201" y="79"/>
                </a:cubicBezTo>
                <a:cubicBezTo>
                  <a:pt x="235" y="96"/>
                  <a:pt x="212" y="115"/>
                  <a:pt x="330" y="130"/>
                </a:cubicBezTo>
                <a:cubicBezTo>
                  <a:pt x="448" y="145"/>
                  <a:pt x="813" y="156"/>
                  <a:pt x="909" y="169"/>
                </a:cubicBezTo>
                <a:cubicBezTo>
                  <a:pt x="904" y="247"/>
                  <a:pt x="909" y="164"/>
                  <a:pt x="904" y="206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7" name=""/>
          <p:cNvSpPr/>
          <p:nvPr/>
        </p:nvSpPr>
        <p:spPr>
          <a:xfrm>
            <a:off x="1125360" y="1298520"/>
            <a:ext cx="1446480" cy="1647720"/>
          </a:xfrm>
          <a:custGeom>
            <a:avLst/>
            <a:gdLst/>
            <a:ahLst/>
            <a:rect l="l" t="t" r="r" b="b"/>
            <a:pathLst>
              <a:path w="911" h="1038">
                <a:moveTo>
                  <a:pt x="0" y="117"/>
                </a:moveTo>
                <a:cubicBezTo>
                  <a:pt x="70" y="112"/>
                  <a:pt x="351" y="114"/>
                  <a:pt x="438" y="107"/>
                </a:cubicBezTo>
                <a:cubicBezTo>
                  <a:pt x="525" y="100"/>
                  <a:pt x="501" y="94"/>
                  <a:pt x="521" y="77"/>
                </a:cubicBezTo>
                <a:cubicBezTo>
                  <a:pt x="541" y="60"/>
                  <a:pt x="545" y="8"/>
                  <a:pt x="557" y="4"/>
                </a:cubicBezTo>
                <a:cubicBezTo>
                  <a:pt x="569" y="0"/>
                  <a:pt x="574" y="30"/>
                  <a:pt x="593" y="50"/>
                </a:cubicBezTo>
                <a:cubicBezTo>
                  <a:pt x="612" y="70"/>
                  <a:pt x="644" y="102"/>
                  <a:pt x="671" y="123"/>
                </a:cubicBezTo>
                <a:cubicBezTo>
                  <a:pt x="698" y="144"/>
                  <a:pt x="733" y="159"/>
                  <a:pt x="754" y="175"/>
                </a:cubicBezTo>
                <a:cubicBezTo>
                  <a:pt x="775" y="191"/>
                  <a:pt x="773" y="206"/>
                  <a:pt x="797" y="219"/>
                </a:cubicBezTo>
                <a:cubicBezTo>
                  <a:pt x="821" y="232"/>
                  <a:pt x="911" y="256"/>
                  <a:pt x="899" y="253"/>
                </a:cubicBezTo>
                <a:cubicBezTo>
                  <a:pt x="887" y="250"/>
                  <a:pt x="736" y="176"/>
                  <a:pt x="725" y="203"/>
                </a:cubicBezTo>
                <a:cubicBezTo>
                  <a:pt x="714" y="230"/>
                  <a:pt x="811" y="353"/>
                  <a:pt x="834" y="415"/>
                </a:cubicBezTo>
                <a:cubicBezTo>
                  <a:pt x="857" y="477"/>
                  <a:pt x="859" y="530"/>
                  <a:pt x="865" y="576"/>
                </a:cubicBezTo>
                <a:cubicBezTo>
                  <a:pt x="871" y="622"/>
                  <a:pt x="869" y="632"/>
                  <a:pt x="870" y="689"/>
                </a:cubicBezTo>
                <a:cubicBezTo>
                  <a:pt x="871" y="746"/>
                  <a:pt x="870" y="859"/>
                  <a:pt x="870" y="917"/>
                </a:cubicBezTo>
                <a:cubicBezTo>
                  <a:pt x="870" y="975"/>
                  <a:pt x="874" y="1038"/>
                  <a:pt x="870" y="1036"/>
                </a:cubicBezTo>
                <a:cubicBezTo>
                  <a:pt x="866" y="1034"/>
                  <a:pt x="848" y="987"/>
                  <a:pt x="844" y="907"/>
                </a:cubicBezTo>
                <a:cubicBezTo>
                  <a:pt x="840" y="827"/>
                  <a:pt x="854" y="650"/>
                  <a:pt x="844" y="555"/>
                </a:cubicBezTo>
                <a:cubicBezTo>
                  <a:pt x="834" y="460"/>
                  <a:pt x="804" y="392"/>
                  <a:pt x="782" y="338"/>
                </a:cubicBezTo>
                <a:cubicBezTo>
                  <a:pt x="760" y="284"/>
                  <a:pt x="743" y="260"/>
                  <a:pt x="709" y="229"/>
                </a:cubicBezTo>
                <a:cubicBezTo>
                  <a:pt x="675" y="198"/>
                  <a:pt x="698" y="162"/>
                  <a:pt x="580" y="151"/>
                </a:cubicBezTo>
                <a:cubicBezTo>
                  <a:pt x="462" y="140"/>
                  <a:pt x="98" y="168"/>
                  <a:pt x="1" y="162"/>
                </a:cubicBezTo>
                <a:cubicBezTo>
                  <a:pt x="4" y="108"/>
                  <a:pt x="3" y="183"/>
                  <a:pt x="0" y="117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8" name=""/>
          <p:cNvSpPr/>
          <p:nvPr/>
        </p:nvSpPr>
        <p:spPr>
          <a:xfrm flipV="1">
            <a:off x="2689200" y="1725480"/>
            <a:ext cx="233280" cy="74880"/>
          </a:xfrm>
          <a:custGeom>
            <a:avLst/>
            <a:gdLst/>
            <a:ahLst/>
            <a:rect l="l" t="t" r="r" b="b"/>
            <a:pathLst>
              <a:path w="147" h="40">
                <a:moveTo>
                  <a:pt x="1" y="36"/>
                </a:moveTo>
                <a:cubicBezTo>
                  <a:pt x="0" y="40"/>
                  <a:pt x="55" y="36"/>
                  <a:pt x="79" y="31"/>
                </a:cubicBezTo>
                <a:cubicBezTo>
                  <a:pt x="103" y="26"/>
                  <a:pt x="145" y="9"/>
                  <a:pt x="146" y="5"/>
                </a:cubicBezTo>
                <a:cubicBezTo>
                  <a:pt x="147" y="1"/>
                  <a:pt x="108" y="0"/>
                  <a:pt x="84" y="5"/>
                </a:cubicBezTo>
                <a:cubicBezTo>
                  <a:pt x="60" y="10"/>
                  <a:pt x="18" y="30"/>
                  <a:pt x="1" y="36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9" name=""/>
          <p:cNvSpPr/>
          <p:nvPr/>
        </p:nvSpPr>
        <p:spPr>
          <a:xfrm flipV="1">
            <a:off x="3043080" y="1755000"/>
            <a:ext cx="249480" cy="74520"/>
          </a:xfrm>
          <a:custGeom>
            <a:avLst/>
            <a:gdLst/>
            <a:ahLst/>
            <a:rect l="l" t="t" r="r" b="b"/>
            <a:pathLst>
              <a:path w="157" h="42">
                <a:moveTo>
                  <a:pt x="1" y="16"/>
                </a:moveTo>
                <a:cubicBezTo>
                  <a:pt x="0" y="21"/>
                  <a:pt x="50" y="30"/>
                  <a:pt x="76" y="33"/>
                </a:cubicBezTo>
                <a:cubicBezTo>
                  <a:pt x="102" y="33"/>
                  <a:pt x="155" y="42"/>
                  <a:pt x="156" y="37"/>
                </a:cubicBezTo>
                <a:cubicBezTo>
                  <a:pt x="157" y="32"/>
                  <a:pt x="107" y="6"/>
                  <a:pt x="81" y="3"/>
                </a:cubicBezTo>
                <a:cubicBezTo>
                  <a:pt x="55" y="0"/>
                  <a:pt x="2" y="11"/>
                  <a:pt x="1" y="16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0" name=""/>
          <p:cNvSpPr/>
          <p:nvPr/>
        </p:nvSpPr>
        <p:spPr>
          <a:xfrm flipV="1">
            <a:off x="3433680" y="1710720"/>
            <a:ext cx="249480" cy="74520"/>
          </a:xfrm>
          <a:custGeom>
            <a:avLst/>
            <a:gdLst/>
            <a:ahLst/>
            <a:rect l="l" t="t" r="r" b="b"/>
            <a:pathLst>
              <a:path w="157" h="42">
                <a:moveTo>
                  <a:pt x="1" y="16"/>
                </a:moveTo>
                <a:cubicBezTo>
                  <a:pt x="0" y="21"/>
                  <a:pt x="50" y="30"/>
                  <a:pt x="76" y="33"/>
                </a:cubicBezTo>
                <a:cubicBezTo>
                  <a:pt x="102" y="33"/>
                  <a:pt x="155" y="42"/>
                  <a:pt x="156" y="37"/>
                </a:cubicBezTo>
                <a:cubicBezTo>
                  <a:pt x="157" y="32"/>
                  <a:pt x="107" y="6"/>
                  <a:pt x="81" y="3"/>
                </a:cubicBezTo>
                <a:cubicBezTo>
                  <a:pt x="55" y="0"/>
                  <a:pt x="2" y="11"/>
                  <a:pt x="1" y="16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1" name=""/>
          <p:cNvSpPr/>
          <p:nvPr/>
        </p:nvSpPr>
        <p:spPr>
          <a:xfrm>
            <a:off x="3825720" y="1130400"/>
            <a:ext cx="1403640" cy="1904760"/>
          </a:xfrm>
          <a:custGeom>
            <a:avLst/>
            <a:gdLst/>
            <a:ahLst/>
            <a:rect l="l" t="t" r="r" b="b"/>
            <a:pathLst>
              <a:path w="884" h="1200">
                <a:moveTo>
                  <a:pt x="879" y="140"/>
                </a:moveTo>
                <a:cubicBezTo>
                  <a:pt x="848" y="132"/>
                  <a:pt x="736" y="136"/>
                  <a:pt x="666" y="135"/>
                </a:cubicBezTo>
                <a:cubicBezTo>
                  <a:pt x="598" y="132"/>
                  <a:pt x="518" y="133"/>
                  <a:pt x="472" y="123"/>
                </a:cubicBezTo>
                <a:cubicBezTo>
                  <a:pt x="426" y="113"/>
                  <a:pt x="414" y="95"/>
                  <a:pt x="389" y="76"/>
                </a:cubicBezTo>
                <a:cubicBezTo>
                  <a:pt x="364" y="57"/>
                  <a:pt x="339" y="0"/>
                  <a:pt x="322" y="9"/>
                </a:cubicBezTo>
                <a:cubicBezTo>
                  <a:pt x="305" y="18"/>
                  <a:pt x="304" y="99"/>
                  <a:pt x="285" y="132"/>
                </a:cubicBezTo>
                <a:cubicBezTo>
                  <a:pt x="266" y="165"/>
                  <a:pt x="230" y="186"/>
                  <a:pt x="207" y="205"/>
                </a:cubicBezTo>
                <a:cubicBezTo>
                  <a:pt x="184" y="224"/>
                  <a:pt x="166" y="231"/>
                  <a:pt x="146" y="247"/>
                </a:cubicBezTo>
                <a:cubicBezTo>
                  <a:pt x="126" y="263"/>
                  <a:pt x="107" y="286"/>
                  <a:pt x="84" y="304"/>
                </a:cubicBezTo>
                <a:cubicBezTo>
                  <a:pt x="61" y="322"/>
                  <a:pt x="0" y="356"/>
                  <a:pt x="7" y="356"/>
                </a:cubicBezTo>
                <a:cubicBezTo>
                  <a:pt x="14" y="356"/>
                  <a:pt x="97" y="316"/>
                  <a:pt x="126" y="304"/>
                </a:cubicBezTo>
                <a:cubicBezTo>
                  <a:pt x="155" y="292"/>
                  <a:pt x="185" y="262"/>
                  <a:pt x="182" y="283"/>
                </a:cubicBezTo>
                <a:cubicBezTo>
                  <a:pt x="179" y="304"/>
                  <a:pt x="126" y="386"/>
                  <a:pt x="110" y="433"/>
                </a:cubicBezTo>
                <a:cubicBezTo>
                  <a:pt x="94" y="480"/>
                  <a:pt x="91" y="519"/>
                  <a:pt x="84" y="563"/>
                </a:cubicBezTo>
                <a:cubicBezTo>
                  <a:pt x="77" y="607"/>
                  <a:pt x="73" y="624"/>
                  <a:pt x="69" y="697"/>
                </a:cubicBezTo>
                <a:cubicBezTo>
                  <a:pt x="65" y="770"/>
                  <a:pt x="59" y="927"/>
                  <a:pt x="58" y="1002"/>
                </a:cubicBezTo>
                <a:cubicBezTo>
                  <a:pt x="57" y="1077"/>
                  <a:pt x="58" y="1119"/>
                  <a:pt x="63" y="1147"/>
                </a:cubicBezTo>
                <a:cubicBezTo>
                  <a:pt x="68" y="1175"/>
                  <a:pt x="85" y="1200"/>
                  <a:pt x="89" y="1173"/>
                </a:cubicBezTo>
                <a:cubicBezTo>
                  <a:pt x="93" y="1146"/>
                  <a:pt x="87" y="1059"/>
                  <a:pt x="89" y="987"/>
                </a:cubicBezTo>
                <a:cubicBezTo>
                  <a:pt x="91" y="915"/>
                  <a:pt x="97" y="810"/>
                  <a:pt x="100" y="739"/>
                </a:cubicBezTo>
                <a:cubicBezTo>
                  <a:pt x="103" y="668"/>
                  <a:pt x="97" y="618"/>
                  <a:pt x="105" y="563"/>
                </a:cubicBezTo>
                <a:cubicBezTo>
                  <a:pt x="113" y="508"/>
                  <a:pt x="113" y="465"/>
                  <a:pt x="146" y="407"/>
                </a:cubicBezTo>
                <a:cubicBezTo>
                  <a:pt x="179" y="349"/>
                  <a:pt x="182" y="254"/>
                  <a:pt x="305" y="216"/>
                </a:cubicBezTo>
                <a:cubicBezTo>
                  <a:pt x="428" y="178"/>
                  <a:pt x="788" y="190"/>
                  <a:pt x="884" y="177"/>
                </a:cubicBezTo>
                <a:cubicBezTo>
                  <a:pt x="879" y="99"/>
                  <a:pt x="884" y="182"/>
                  <a:pt x="879" y="140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2" name=""/>
          <p:cNvSpPr/>
          <p:nvPr/>
        </p:nvSpPr>
        <p:spPr>
          <a:xfrm>
            <a:off x="2504520" y="2763720"/>
            <a:ext cx="37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G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3" name=""/>
          <p:cNvSpPr/>
          <p:nvPr/>
        </p:nvSpPr>
        <p:spPr>
          <a:xfrm>
            <a:off x="2799720" y="2352600"/>
            <a:ext cx="37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G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4" name=""/>
          <p:cNvSpPr/>
          <p:nvPr/>
        </p:nvSpPr>
        <p:spPr>
          <a:xfrm>
            <a:off x="3177360" y="2141640"/>
            <a:ext cx="37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G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5" name=""/>
          <p:cNvSpPr/>
          <p:nvPr/>
        </p:nvSpPr>
        <p:spPr>
          <a:xfrm>
            <a:off x="3580560" y="1911240"/>
            <a:ext cx="37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G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6" name=""/>
          <p:cNvSpPr/>
          <p:nvPr/>
        </p:nvSpPr>
        <p:spPr>
          <a:xfrm>
            <a:off x="3051000" y="393840"/>
            <a:ext cx="268560" cy="77760"/>
          </a:xfrm>
          <a:custGeom>
            <a:avLst/>
            <a:gdLst/>
            <a:ahLst/>
            <a:rect l="l" t="t" r="r" b="b"/>
            <a:pathLst>
              <a:path w="169" h="49">
                <a:moveTo>
                  <a:pt x="1" y="27"/>
                </a:moveTo>
                <a:cubicBezTo>
                  <a:pt x="0" y="20"/>
                  <a:pt x="48" y="0"/>
                  <a:pt x="76" y="2"/>
                </a:cubicBezTo>
                <a:cubicBezTo>
                  <a:pt x="104" y="4"/>
                  <a:pt x="167" y="31"/>
                  <a:pt x="168" y="38"/>
                </a:cubicBezTo>
                <a:cubicBezTo>
                  <a:pt x="169" y="45"/>
                  <a:pt x="109" y="49"/>
                  <a:pt x="81" y="47"/>
                </a:cubicBezTo>
                <a:cubicBezTo>
                  <a:pt x="53" y="45"/>
                  <a:pt x="2" y="35"/>
                  <a:pt x="1" y="27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7" name=""/>
          <p:cNvSpPr/>
          <p:nvPr/>
        </p:nvSpPr>
        <p:spPr>
          <a:xfrm>
            <a:off x="2200320" y="919080"/>
            <a:ext cx="1595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Růst onkotického tlak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odél kapilá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8" name=""/>
          <p:cNvSpPr/>
          <p:nvPr/>
        </p:nvSpPr>
        <p:spPr>
          <a:xfrm>
            <a:off x="4334760" y="2081160"/>
            <a:ext cx="790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Snižování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filtr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9" name=""/>
          <p:cNvSpPr/>
          <p:nvPr/>
        </p:nvSpPr>
        <p:spPr>
          <a:xfrm flipH="1" flipV="1">
            <a:off x="3884760" y="2096640"/>
            <a:ext cx="426960" cy="7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0" name=""/>
          <p:cNvSpPr/>
          <p:nvPr/>
        </p:nvSpPr>
        <p:spPr>
          <a:xfrm flipH="1">
            <a:off x="3498840" y="2211480"/>
            <a:ext cx="789120" cy="4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1" name=""/>
          <p:cNvSpPr/>
          <p:nvPr/>
        </p:nvSpPr>
        <p:spPr>
          <a:xfrm>
            <a:off x="3506760" y="1308240"/>
            <a:ext cx="1027080" cy="822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2" name=""/>
          <p:cNvSpPr/>
          <p:nvPr/>
        </p:nvSpPr>
        <p:spPr>
          <a:xfrm flipH="1">
            <a:off x="3176280" y="2270160"/>
            <a:ext cx="1160280" cy="171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3" name=""/>
          <p:cNvSpPr/>
          <p:nvPr/>
        </p:nvSpPr>
        <p:spPr>
          <a:xfrm>
            <a:off x="5962680" y="157320"/>
            <a:ext cx="2992320" cy="1844640"/>
          </a:xfrm>
          <a:custGeom>
            <a:avLst/>
            <a:gdLst/>
            <a:ahLst/>
            <a:rect l="l" t="t" r="r" b="b"/>
            <a:pathLst>
              <a:path w="1885" h="1162">
                <a:moveTo>
                  <a:pt x="0" y="2"/>
                </a:moveTo>
                <a:lnTo>
                  <a:pt x="53" y="0"/>
                </a:lnTo>
                <a:lnTo>
                  <a:pt x="76" y="81"/>
                </a:lnTo>
                <a:lnTo>
                  <a:pt x="151" y="335"/>
                </a:lnTo>
                <a:lnTo>
                  <a:pt x="1568" y="340"/>
                </a:lnTo>
                <a:lnTo>
                  <a:pt x="1647" y="907"/>
                </a:lnTo>
                <a:lnTo>
                  <a:pt x="1885" y="907"/>
                </a:lnTo>
                <a:lnTo>
                  <a:pt x="1885" y="1162"/>
                </a:lnTo>
                <a:lnTo>
                  <a:pt x="39" y="1157"/>
                </a:lnTo>
              </a:path>
            </a:pathLst>
          </a:custGeom>
          <a:gradFill rotWithShape="0">
            <a:gsLst>
              <a:gs pos="0">
                <a:srgbClr val="757500"/>
              </a:gs>
              <a:gs pos="100000">
                <a:srgbClr val="ffff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4" name=""/>
          <p:cNvSpPr/>
          <p:nvPr/>
        </p:nvSpPr>
        <p:spPr>
          <a:xfrm>
            <a:off x="6805440" y="685800"/>
            <a:ext cx="0" cy="403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5" name=""/>
          <p:cNvSpPr/>
          <p:nvPr/>
        </p:nvSpPr>
        <p:spPr>
          <a:xfrm>
            <a:off x="7518240" y="677880"/>
            <a:ext cx="0" cy="411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6" name=""/>
          <p:cNvSpPr/>
          <p:nvPr/>
        </p:nvSpPr>
        <p:spPr>
          <a:xfrm>
            <a:off x="8223120" y="676440"/>
            <a:ext cx="0" cy="4190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7" name=""/>
          <p:cNvSpPr/>
          <p:nvPr/>
        </p:nvSpPr>
        <p:spPr>
          <a:xfrm>
            <a:off x="6492960" y="1104840"/>
            <a:ext cx="1920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8" name=""/>
          <p:cNvSpPr/>
          <p:nvPr/>
        </p:nvSpPr>
        <p:spPr>
          <a:xfrm>
            <a:off x="5564160" y="2000160"/>
            <a:ext cx="3382920" cy="1800"/>
          </a:xfrm>
          <a:custGeom>
            <a:avLst/>
            <a:gdLst/>
            <a:ahLst/>
            <a:rect l="l" t="t" r="r" b="b"/>
            <a:pathLst>
              <a:path w="2131" h="1">
                <a:moveTo>
                  <a:pt x="0" y="0"/>
                </a:moveTo>
                <a:lnTo>
                  <a:pt x="2131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9" name=""/>
          <p:cNvSpPr/>
          <p:nvPr/>
        </p:nvSpPr>
        <p:spPr>
          <a:xfrm>
            <a:off x="6485040" y="1258920"/>
            <a:ext cx="1912680" cy="593640"/>
          </a:xfrm>
          <a:custGeom>
            <a:avLst/>
            <a:gdLst/>
            <a:ahLst/>
            <a:rect l="l" t="t" r="r" b="b"/>
            <a:pathLst>
              <a:path w="1205" h="374">
                <a:moveTo>
                  <a:pt x="0" y="374"/>
                </a:moveTo>
                <a:cubicBezTo>
                  <a:pt x="127" y="352"/>
                  <a:pt x="564" y="306"/>
                  <a:pt x="765" y="244"/>
                </a:cubicBezTo>
                <a:cubicBezTo>
                  <a:pt x="966" y="182"/>
                  <a:pt x="1113" y="51"/>
                  <a:pt x="1205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0" name=""/>
          <p:cNvSpPr/>
          <p:nvPr/>
        </p:nvSpPr>
        <p:spPr>
          <a:xfrm>
            <a:off x="7486560" y="1698480"/>
            <a:ext cx="1800" cy="304920"/>
          </a:xfrm>
          <a:custGeom>
            <a:avLst/>
            <a:gdLst/>
            <a:ahLst/>
            <a:rect l="l" t="t" r="r" b="b"/>
            <a:pathLst>
              <a:path w="1" h="192">
                <a:moveTo>
                  <a:pt x="0" y="0"/>
                </a:moveTo>
                <a:lnTo>
                  <a:pt x="0" y="192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1" name=""/>
          <p:cNvSpPr/>
          <p:nvPr/>
        </p:nvSpPr>
        <p:spPr>
          <a:xfrm>
            <a:off x="8250120" y="1357200"/>
            <a:ext cx="3240" cy="657360"/>
          </a:xfrm>
          <a:custGeom>
            <a:avLst/>
            <a:gdLst/>
            <a:ahLst/>
            <a:rect l="l" t="t" r="r" b="b"/>
            <a:pathLst>
              <a:path w="2" h="414">
                <a:moveTo>
                  <a:pt x="2" y="0"/>
                </a:moveTo>
                <a:lnTo>
                  <a:pt x="0" y="414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2" name=""/>
          <p:cNvSpPr/>
          <p:nvPr/>
        </p:nvSpPr>
        <p:spPr>
          <a:xfrm>
            <a:off x="5556240" y="152280"/>
            <a:ext cx="3390840" cy="1462320"/>
          </a:xfrm>
          <a:custGeom>
            <a:avLst/>
            <a:gdLst/>
            <a:ahLst/>
            <a:rect l="l" t="t" r="r" b="b"/>
            <a:pathLst>
              <a:path w="2136" h="921">
                <a:moveTo>
                  <a:pt x="0" y="0"/>
                </a:moveTo>
                <a:lnTo>
                  <a:pt x="306" y="0"/>
                </a:lnTo>
                <a:lnTo>
                  <a:pt x="404" y="336"/>
                </a:lnTo>
                <a:lnTo>
                  <a:pt x="1826" y="341"/>
                </a:lnTo>
                <a:lnTo>
                  <a:pt x="1909" y="921"/>
                </a:lnTo>
                <a:lnTo>
                  <a:pt x="2136" y="921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3" name=""/>
          <p:cNvSpPr/>
          <p:nvPr/>
        </p:nvSpPr>
        <p:spPr>
          <a:xfrm>
            <a:off x="6748560" y="1114560"/>
            <a:ext cx="1440" cy="728640"/>
          </a:xfrm>
          <a:custGeom>
            <a:avLst/>
            <a:gdLst/>
            <a:ahLst/>
            <a:rect l="l" t="t" r="r" b="b"/>
            <a:pathLst>
              <a:path w="1" h="459">
                <a:moveTo>
                  <a:pt x="0" y="459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4" name=""/>
          <p:cNvSpPr/>
          <p:nvPr/>
        </p:nvSpPr>
        <p:spPr>
          <a:xfrm flipV="1">
            <a:off x="7453440" y="1112760"/>
            <a:ext cx="0" cy="56664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5" name=""/>
          <p:cNvSpPr/>
          <p:nvPr/>
        </p:nvSpPr>
        <p:spPr>
          <a:xfrm>
            <a:off x="8134200" y="1089000"/>
            <a:ext cx="1800" cy="326880"/>
          </a:xfrm>
          <a:custGeom>
            <a:avLst/>
            <a:gdLst/>
            <a:ahLst/>
            <a:rect l="l" t="t" r="r" b="b"/>
            <a:pathLst>
              <a:path w="1" h="206">
                <a:moveTo>
                  <a:pt x="0" y="206"/>
                </a:moveTo>
                <a:lnTo>
                  <a:pt x="1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6" name=""/>
          <p:cNvSpPr/>
          <p:nvPr/>
        </p:nvSpPr>
        <p:spPr>
          <a:xfrm>
            <a:off x="6821640" y="1836720"/>
            <a:ext cx="9360" cy="163440"/>
          </a:xfrm>
          <a:custGeom>
            <a:avLst/>
            <a:gdLst/>
            <a:ahLst/>
            <a:rect l="l" t="t" r="r" b="b"/>
            <a:pathLst>
              <a:path w="6" h="103">
                <a:moveTo>
                  <a:pt x="6" y="0"/>
                </a:moveTo>
                <a:lnTo>
                  <a:pt x="0" y="103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7" name=""/>
          <p:cNvSpPr/>
          <p:nvPr/>
        </p:nvSpPr>
        <p:spPr>
          <a:xfrm>
            <a:off x="5491800" y="1149480"/>
            <a:ext cx="132840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Čistý filtrační tlak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=P</a:t>
            </a:r>
            <a:r>
              <a:rPr b="0" lang="cs-CZ" sz="12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-P</a:t>
            </a:r>
            <a:r>
              <a:rPr b="0" lang="cs-CZ" sz="12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-P</a:t>
            </a:r>
            <a:r>
              <a:rPr b="0" lang="cs-CZ" sz="12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8" name=""/>
          <p:cNvSpPr/>
          <p:nvPr/>
        </p:nvSpPr>
        <p:spPr>
          <a:xfrm>
            <a:off x="6560640" y="779400"/>
            <a:ext cx="3103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12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9" name=""/>
          <p:cNvSpPr/>
          <p:nvPr/>
        </p:nvSpPr>
        <p:spPr>
          <a:xfrm>
            <a:off x="6495480" y="1773360"/>
            <a:ext cx="3103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12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0" name=""/>
          <p:cNvSpPr/>
          <p:nvPr/>
        </p:nvSpPr>
        <p:spPr>
          <a:xfrm>
            <a:off x="3828960" y="1271520"/>
            <a:ext cx="3128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12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1" name=""/>
          <p:cNvSpPr/>
          <p:nvPr/>
        </p:nvSpPr>
        <p:spPr>
          <a:xfrm flipV="1">
            <a:off x="7174080" y="693360"/>
            <a:ext cx="0" cy="1305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2" name=""/>
          <p:cNvSpPr/>
          <p:nvPr/>
        </p:nvSpPr>
        <p:spPr>
          <a:xfrm>
            <a:off x="6928920" y="771480"/>
            <a:ext cx="3103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12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3" name=""/>
          <p:cNvSpPr/>
          <p:nvPr/>
        </p:nvSpPr>
        <p:spPr>
          <a:xfrm>
            <a:off x="5613480" y="2992320"/>
            <a:ext cx="468360" cy="1854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4" name=""/>
          <p:cNvSpPr/>
          <p:nvPr/>
        </p:nvSpPr>
        <p:spPr>
          <a:xfrm>
            <a:off x="6056280" y="3000240"/>
            <a:ext cx="2948040" cy="1863720"/>
          </a:xfrm>
          <a:custGeom>
            <a:avLst/>
            <a:gdLst/>
            <a:ahLst/>
            <a:rect l="l" t="t" r="r" b="b"/>
            <a:pathLst>
              <a:path w="1857" h="1174">
                <a:moveTo>
                  <a:pt x="0" y="6"/>
                </a:moveTo>
                <a:lnTo>
                  <a:pt x="16" y="0"/>
                </a:lnTo>
                <a:lnTo>
                  <a:pt x="114" y="336"/>
                </a:lnTo>
                <a:lnTo>
                  <a:pt x="1540" y="341"/>
                </a:lnTo>
                <a:lnTo>
                  <a:pt x="1619" y="915"/>
                </a:lnTo>
                <a:lnTo>
                  <a:pt x="1857" y="915"/>
                </a:lnTo>
                <a:lnTo>
                  <a:pt x="1857" y="1174"/>
                </a:lnTo>
                <a:lnTo>
                  <a:pt x="11" y="1169"/>
                </a:lnTo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ffff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5" name=""/>
          <p:cNvSpPr/>
          <p:nvPr/>
        </p:nvSpPr>
        <p:spPr>
          <a:xfrm>
            <a:off x="6854760" y="3533760"/>
            <a:ext cx="0" cy="403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6" name=""/>
          <p:cNvSpPr/>
          <p:nvPr/>
        </p:nvSpPr>
        <p:spPr>
          <a:xfrm>
            <a:off x="7567560" y="3525840"/>
            <a:ext cx="0" cy="411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7" name=""/>
          <p:cNvSpPr/>
          <p:nvPr/>
        </p:nvSpPr>
        <p:spPr>
          <a:xfrm>
            <a:off x="8272440" y="3524400"/>
            <a:ext cx="0" cy="4190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8" name=""/>
          <p:cNvSpPr/>
          <p:nvPr/>
        </p:nvSpPr>
        <p:spPr>
          <a:xfrm>
            <a:off x="6541920" y="3952800"/>
            <a:ext cx="1920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9" name=""/>
          <p:cNvSpPr/>
          <p:nvPr/>
        </p:nvSpPr>
        <p:spPr>
          <a:xfrm>
            <a:off x="5613480" y="4848120"/>
            <a:ext cx="3382920" cy="1800"/>
          </a:xfrm>
          <a:custGeom>
            <a:avLst/>
            <a:gdLst/>
            <a:ahLst/>
            <a:rect l="l" t="t" r="r" b="b"/>
            <a:pathLst>
              <a:path w="2131" h="1">
                <a:moveTo>
                  <a:pt x="0" y="0"/>
                </a:moveTo>
                <a:lnTo>
                  <a:pt x="2131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0" name=""/>
          <p:cNvSpPr/>
          <p:nvPr/>
        </p:nvSpPr>
        <p:spPr>
          <a:xfrm>
            <a:off x="6534000" y="4486320"/>
            <a:ext cx="1936800" cy="214200"/>
          </a:xfrm>
          <a:custGeom>
            <a:avLst/>
            <a:gdLst/>
            <a:ahLst/>
            <a:rect l="l" t="t" r="r" b="b"/>
            <a:pathLst>
              <a:path w="1220" h="135">
                <a:moveTo>
                  <a:pt x="0" y="135"/>
                </a:moveTo>
                <a:cubicBezTo>
                  <a:pt x="125" y="126"/>
                  <a:pt x="547" y="105"/>
                  <a:pt x="750" y="83"/>
                </a:cubicBezTo>
                <a:cubicBezTo>
                  <a:pt x="953" y="61"/>
                  <a:pt x="1122" y="17"/>
                  <a:pt x="1220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1" name=""/>
          <p:cNvSpPr/>
          <p:nvPr/>
        </p:nvSpPr>
        <p:spPr>
          <a:xfrm>
            <a:off x="7593120" y="4643280"/>
            <a:ext cx="1440" cy="189000"/>
          </a:xfrm>
          <a:custGeom>
            <a:avLst/>
            <a:gdLst/>
            <a:ahLst/>
            <a:rect l="l" t="t" r="r" b="b"/>
            <a:pathLst>
              <a:path w="1" h="119">
                <a:moveTo>
                  <a:pt x="0" y="0"/>
                </a:moveTo>
                <a:lnTo>
                  <a:pt x="0" y="119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2" name=""/>
          <p:cNvSpPr/>
          <p:nvPr/>
        </p:nvSpPr>
        <p:spPr>
          <a:xfrm>
            <a:off x="8299440" y="4527720"/>
            <a:ext cx="1440" cy="320400"/>
          </a:xfrm>
          <a:custGeom>
            <a:avLst/>
            <a:gdLst/>
            <a:ahLst/>
            <a:rect l="l" t="t" r="r" b="b"/>
            <a:pathLst>
              <a:path w="1" h="202">
                <a:moveTo>
                  <a:pt x="0" y="0"/>
                </a:moveTo>
                <a:lnTo>
                  <a:pt x="0" y="202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3" name=""/>
          <p:cNvSpPr/>
          <p:nvPr/>
        </p:nvSpPr>
        <p:spPr>
          <a:xfrm>
            <a:off x="5605560" y="3000240"/>
            <a:ext cx="3390840" cy="1462320"/>
          </a:xfrm>
          <a:custGeom>
            <a:avLst/>
            <a:gdLst/>
            <a:ahLst/>
            <a:rect l="l" t="t" r="r" b="b"/>
            <a:pathLst>
              <a:path w="2136" h="921">
                <a:moveTo>
                  <a:pt x="0" y="0"/>
                </a:moveTo>
                <a:lnTo>
                  <a:pt x="306" y="0"/>
                </a:lnTo>
                <a:lnTo>
                  <a:pt x="404" y="336"/>
                </a:lnTo>
                <a:lnTo>
                  <a:pt x="1826" y="341"/>
                </a:lnTo>
                <a:lnTo>
                  <a:pt x="1909" y="921"/>
                </a:lnTo>
                <a:lnTo>
                  <a:pt x="2136" y="921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4" name=""/>
          <p:cNvSpPr/>
          <p:nvPr/>
        </p:nvSpPr>
        <p:spPr>
          <a:xfrm>
            <a:off x="6797520" y="3962520"/>
            <a:ext cx="1800" cy="728640"/>
          </a:xfrm>
          <a:custGeom>
            <a:avLst/>
            <a:gdLst/>
            <a:ahLst/>
            <a:rect l="l" t="t" r="r" b="b"/>
            <a:pathLst>
              <a:path w="1" h="459">
                <a:moveTo>
                  <a:pt x="0" y="459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5" name=""/>
          <p:cNvSpPr/>
          <p:nvPr/>
        </p:nvSpPr>
        <p:spPr>
          <a:xfrm>
            <a:off x="7527960" y="3954600"/>
            <a:ext cx="1440" cy="688680"/>
          </a:xfrm>
          <a:custGeom>
            <a:avLst/>
            <a:gdLst/>
            <a:ahLst/>
            <a:rect l="l" t="t" r="r" b="b"/>
            <a:pathLst>
              <a:path w="1" h="434">
                <a:moveTo>
                  <a:pt x="0" y="434"/>
                </a:moveTo>
                <a:lnTo>
                  <a:pt x="1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6" name=""/>
          <p:cNvSpPr/>
          <p:nvPr/>
        </p:nvSpPr>
        <p:spPr>
          <a:xfrm>
            <a:off x="8201160" y="3936960"/>
            <a:ext cx="1440" cy="606600"/>
          </a:xfrm>
          <a:custGeom>
            <a:avLst/>
            <a:gdLst/>
            <a:ahLst/>
            <a:rect l="l" t="t" r="r" b="b"/>
            <a:pathLst>
              <a:path w="1" h="382">
                <a:moveTo>
                  <a:pt x="0" y="382"/>
                </a:moveTo>
                <a:lnTo>
                  <a:pt x="1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7" name=""/>
          <p:cNvSpPr/>
          <p:nvPr/>
        </p:nvSpPr>
        <p:spPr>
          <a:xfrm>
            <a:off x="6870600" y="4684680"/>
            <a:ext cx="9720" cy="163440"/>
          </a:xfrm>
          <a:custGeom>
            <a:avLst/>
            <a:gdLst/>
            <a:ahLst/>
            <a:rect l="l" t="t" r="r" b="b"/>
            <a:pathLst>
              <a:path w="6" h="103">
                <a:moveTo>
                  <a:pt x="6" y="0"/>
                </a:moveTo>
                <a:lnTo>
                  <a:pt x="0" y="103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8" name=""/>
          <p:cNvSpPr/>
          <p:nvPr/>
        </p:nvSpPr>
        <p:spPr>
          <a:xfrm>
            <a:off x="5541120" y="3997440"/>
            <a:ext cx="132840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Čistý filtrační tlak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=P</a:t>
            </a:r>
            <a:r>
              <a:rPr b="0" lang="cs-CZ" sz="12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-P</a:t>
            </a:r>
            <a:r>
              <a:rPr b="0" lang="cs-CZ" sz="12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-P</a:t>
            </a:r>
            <a:r>
              <a:rPr b="0" lang="cs-CZ" sz="12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9" name=""/>
          <p:cNvSpPr/>
          <p:nvPr/>
        </p:nvSpPr>
        <p:spPr>
          <a:xfrm>
            <a:off x="6609960" y="3627360"/>
            <a:ext cx="3103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12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0" name=""/>
          <p:cNvSpPr/>
          <p:nvPr/>
        </p:nvSpPr>
        <p:spPr>
          <a:xfrm>
            <a:off x="6544800" y="4621320"/>
            <a:ext cx="3103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12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1" name=""/>
          <p:cNvSpPr/>
          <p:nvPr/>
        </p:nvSpPr>
        <p:spPr>
          <a:xfrm flipV="1">
            <a:off x="7223040" y="3541320"/>
            <a:ext cx="0" cy="1305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2" name=""/>
          <p:cNvSpPr/>
          <p:nvPr/>
        </p:nvSpPr>
        <p:spPr>
          <a:xfrm>
            <a:off x="6978240" y="3619440"/>
            <a:ext cx="3103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12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3" name=""/>
          <p:cNvSpPr/>
          <p:nvPr/>
        </p:nvSpPr>
        <p:spPr>
          <a:xfrm>
            <a:off x="5659560" y="5234040"/>
            <a:ext cx="33429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1400" spc="-1" strike="noStrike" baseline="-25000">
                <a:solidFill>
                  <a:srgbClr val="000000"/>
                </a:solidFill>
                <a:latin typeface="Times New Roman"/>
              </a:rPr>
              <a:t>k  </a:t>
            </a: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- hydrostatický tlak v kapiláře glomerulu</a:t>
            </a:r>
            <a:r>
              <a:rPr b="0" lang="cs-CZ" sz="1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4" name=""/>
          <p:cNvSpPr/>
          <p:nvPr/>
        </p:nvSpPr>
        <p:spPr>
          <a:xfrm>
            <a:off x="5644080" y="5489640"/>
            <a:ext cx="35092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1400" spc="-1" strike="noStrike" baseline="-25000">
                <a:solidFill>
                  <a:srgbClr val="000000"/>
                </a:solidFill>
                <a:latin typeface="Times New Roman"/>
              </a:rPr>
              <a:t>b  </a:t>
            </a: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- hydrostatický tlak v Bowmanově pouzdře</a:t>
            </a:r>
            <a:r>
              <a:rPr b="0" lang="cs-CZ" sz="1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5" name=""/>
          <p:cNvSpPr/>
          <p:nvPr/>
        </p:nvSpPr>
        <p:spPr>
          <a:xfrm>
            <a:off x="5640480" y="5743440"/>
            <a:ext cx="2302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1400" spc="-1" strike="noStrike" baseline="-25000">
                <a:solidFill>
                  <a:srgbClr val="000000"/>
                </a:solidFill>
                <a:latin typeface="Times New Roman"/>
              </a:rPr>
              <a:t>o  </a:t>
            </a: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- onkotický tlak v kapiláře</a:t>
            </a:r>
            <a:r>
              <a:rPr b="0" lang="cs-CZ" sz="1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6" name=""/>
          <p:cNvSpPr/>
          <p:nvPr/>
        </p:nvSpPr>
        <p:spPr>
          <a:xfrm>
            <a:off x="5647320" y="6016680"/>
            <a:ext cx="2184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cs-CZ" sz="1400" spc="-1" strike="noStrike" baseline="-25000">
                <a:solidFill>
                  <a:srgbClr val="000000"/>
                </a:solidFill>
                <a:latin typeface="Times New Roman"/>
              </a:rPr>
              <a:t>f  </a:t>
            </a: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- ultrafiltrační koeficient</a:t>
            </a:r>
            <a:r>
              <a:rPr b="0" lang="cs-CZ" sz="1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7" name=""/>
          <p:cNvSpPr/>
          <p:nvPr/>
        </p:nvSpPr>
        <p:spPr>
          <a:xfrm>
            <a:off x="5631480" y="6288120"/>
            <a:ext cx="20674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GF</a:t>
            </a:r>
            <a:r>
              <a:rPr b="0" lang="cs-CZ" sz="14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- glomerulární filtrace</a:t>
            </a:r>
            <a:r>
              <a:rPr b="0" lang="cs-CZ" sz="1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8" name=""/>
          <p:cNvSpPr/>
          <p:nvPr/>
        </p:nvSpPr>
        <p:spPr>
          <a:xfrm>
            <a:off x="5682960" y="6561000"/>
            <a:ext cx="17672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GF=K</a:t>
            </a:r>
            <a:r>
              <a:rPr b="0" lang="cs-CZ" sz="14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  (P</a:t>
            </a:r>
            <a:r>
              <a:rPr b="0" lang="cs-CZ" sz="1400" spc="-1" strike="noStrike" baseline="-25000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-  P</a:t>
            </a:r>
            <a:r>
              <a:rPr b="0" lang="cs-CZ" sz="1400" spc="-1" strike="noStrike" baseline="-25000">
                <a:solidFill>
                  <a:srgbClr val="000000"/>
                </a:solidFill>
                <a:latin typeface="Times New Roman"/>
              </a:rPr>
              <a:t>b </a:t>
            </a: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-    P</a:t>
            </a:r>
            <a:r>
              <a:rPr b="0" lang="cs-CZ" sz="14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9" name=""/>
          <p:cNvSpPr/>
          <p:nvPr/>
        </p:nvSpPr>
        <p:spPr>
          <a:xfrm>
            <a:off x="5673600" y="6605640"/>
            <a:ext cx="0" cy="2556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0" name=""/>
          <p:cNvSpPr/>
          <p:nvPr/>
        </p:nvSpPr>
        <p:spPr>
          <a:xfrm>
            <a:off x="7101000" y="6605640"/>
            <a:ext cx="0" cy="255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1" name=""/>
          <p:cNvSpPr/>
          <p:nvPr/>
        </p:nvSpPr>
        <p:spPr>
          <a:xfrm>
            <a:off x="5616720" y="108000"/>
            <a:ext cx="3527280" cy="1855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2" name=""/>
          <p:cNvSpPr/>
          <p:nvPr/>
        </p:nvSpPr>
        <p:spPr>
          <a:xfrm>
            <a:off x="3543480" y="4808520"/>
            <a:ext cx="2668320" cy="1601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3" name=""/>
          <p:cNvSpPr/>
          <p:nvPr/>
        </p:nvSpPr>
        <p:spPr>
          <a:xfrm>
            <a:off x="811080" y="533520"/>
            <a:ext cx="3867120" cy="3960720"/>
          </a:xfrm>
          <a:custGeom>
            <a:avLst/>
            <a:gdLst/>
            <a:ahLst/>
            <a:rect l="l" t="t" r="r" b="b"/>
            <a:pathLst>
              <a:path w="2436" h="2495">
                <a:moveTo>
                  <a:pt x="774" y="0"/>
                </a:moveTo>
                <a:cubicBezTo>
                  <a:pt x="761" y="22"/>
                  <a:pt x="749" y="44"/>
                  <a:pt x="742" y="69"/>
                </a:cubicBezTo>
                <a:cubicBezTo>
                  <a:pt x="735" y="94"/>
                  <a:pt x="730" y="129"/>
                  <a:pt x="731" y="149"/>
                </a:cubicBezTo>
                <a:cubicBezTo>
                  <a:pt x="732" y="169"/>
                  <a:pt x="742" y="179"/>
                  <a:pt x="747" y="191"/>
                </a:cubicBezTo>
                <a:cubicBezTo>
                  <a:pt x="752" y="203"/>
                  <a:pt x="749" y="219"/>
                  <a:pt x="763" y="223"/>
                </a:cubicBezTo>
                <a:cubicBezTo>
                  <a:pt x="777" y="227"/>
                  <a:pt x="808" y="213"/>
                  <a:pt x="832" y="213"/>
                </a:cubicBezTo>
                <a:cubicBezTo>
                  <a:pt x="856" y="213"/>
                  <a:pt x="879" y="215"/>
                  <a:pt x="906" y="223"/>
                </a:cubicBezTo>
                <a:cubicBezTo>
                  <a:pt x="933" y="231"/>
                  <a:pt x="971" y="233"/>
                  <a:pt x="997" y="260"/>
                </a:cubicBezTo>
                <a:cubicBezTo>
                  <a:pt x="1023" y="287"/>
                  <a:pt x="1032" y="368"/>
                  <a:pt x="1060" y="388"/>
                </a:cubicBezTo>
                <a:cubicBezTo>
                  <a:pt x="1088" y="408"/>
                  <a:pt x="1129" y="380"/>
                  <a:pt x="1163" y="378"/>
                </a:cubicBezTo>
                <a:cubicBezTo>
                  <a:pt x="1197" y="376"/>
                  <a:pt x="1231" y="383"/>
                  <a:pt x="1267" y="378"/>
                </a:cubicBezTo>
                <a:cubicBezTo>
                  <a:pt x="1303" y="373"/>
                  <a:pt x="1343" y="346"/>
                  <a:pt x="1379" y="345"/>
                </a:cubicBezTo>
                <a:cubicBezTo>
                  <a:pt x="1415" y="344"/>
                  <a:pt x="1446" y="365"/>
                  <a:pt x="1484" y="373"/>
                </a:cubicBezTo>
                <a:cubicBezTo>
                  <a:pt x="1522" y="381"/>
                  <a:pt x="1554" y="406"/>
                  <a:pt x="1608" y="394"/>
                </a:cubicBezTo>
                <a:cubicBezTo>
                  <a:pt x="1662" y="382"/>
                  <a:pt x="1743" y="319"/>
                  <a:pt x="1809" y="298"/>
                </a:cubicBezTo>
                <a:cubicBezTo>
                  <a:pt x="1875" y="277"/>
                  <a:pt x="1952" y="268"/>
                  <a:pt x="2006" y="266"/>
                </a:cubicBezTo>
                <a:cubicBezTo>
                  <a:pt x="2060" y="264"/>
                  <a:pt x="2100" y="282"/>
                  <a:pt x="2134" y="288"/>
                </a:cubicBezTo>
                <a:cubicBezTo>
                  <a:pt x="2168" y="294"/>
                  <a:pt x="2180" y="305"/>
                  <a:pt x="2208" y="304"/>
                </a:cubicBezTo>
                <a:cubicBezTo>
                  <a:pt x="2236" y="303"/>
                  <a:pt x="2275" y="270"/>
                  <a:pt x="2303" y="282"/>
                </a:cubicBezTo>
                <a:cubicBezTo>
                  <a:pt x="2331" y="294"/>
                  <a:pt x="2356" y="332"/>
                  <a:pt x="2377" y="377"/>
                </a:cubicBezTo>
                <a:cubicBezTo>
                  <a:pt x="2398" y="422"/>
                  <a:pt x="2424" y="470"/>
                  <a:pt x="2430" y="552"/>
                </a:cubicBezTo>
                <a:cubicBezTo>
                  <a:pt x="2436" y="634"/>
                  <a:pt x="2436" y="755"/>
                  <a:pt x="2414" y="871"/>
                </a:cubicBezTo>
                <a:cubicBezTo>
                  <a:pt x="2392" y="987"/>
                  <a:pt x="2327" y="1146"/>
                  <a:pt x="2298" y="1248"/>
                </a:cubicBezTo>
                <a:cubicBezTo>
                  <a:pt x="2269" y="1350"/>
                  <a:pt x="2262" y="1431"/>
                  <a:pt x="2239" y="1482"/>
                </a:cubicBezTo>
                <a:cubicBezTo>
                  <a:pt x="2216" y="1533"/>
                  <a:pt x="2185" y="1522"/>
                  <a:pt x="2159" y="1556"/>
                </a:cubicBezTo>
                <a:cubicBezTo>
                  <a:pt x="2133" y="1590"/>
                  <a:pt x="2111" y="1641"/>
                  <a:pt x="2085" y="1689"/>
                </a:cubicBezTo>
                <a:cubicBezTo>
                  <a:pt x="2059" y="1737"/>
                  <a:pt x="2037" y="1794"/>
                  <a:pt x="2006" y="1843"/>
                </a:cubicBezTo>
                <a:cubicBezTo>
                  <a:pt x="1975" y="1892"/>
                  <a:pt x="1935" y="1925"/>
                  <a:pt x="1899" y="1986"/>
                </a:cubicBezTo>
                <a:cubicBezTo>
                  <a:pt x="1863" y="2047"/>
                  <a:pt x="1815" y="2152"/>
                  <a:pt x="1788" y="2209"/>
                </a:cubicBezTo>
                <a:cubicBezTo>
                  <a:pt x="1761" y="2266"/>
                  <a:pt x="1763" y="2291"/>
                  <a:pt x="1735" y="2331"/>
                </a:cubicBezTo>
                <a:cubicBezTo>
                  <a:pt x="1707" y="2371"/>
                  <a:pt x="1665" y="2423"/>
                  <a:pt x="1618" y="2448"/>
                </a:cubicBezTo>
                <a:cubicBezTo>
                  <a:pt x="1571" y="2473"/>
                  <a:pt x="1506" y="2495"/>
                  <a:pt x="1453" y="2480"/>
                </a:cubicBezTo>
                <a:cubicBezTo>
                  <a:pt x="1400" y="2465"/>
                  <a:pt x="1358" y="2488"/>
                  <a:pt x="1299" y="2358"/>
                </a:cubicBezTo>
                <a:cubicBezTo>
                  <a:pt x="1240" y="2228"/>
                  <a:pt x="1149" y="1836"/>
                  <a:pt x="1096" y="1702"/>
                </a:cubicBezTo>
                <a:cubicBezTo>
                  <a:pt x="1043" y="1568"/>
                  <a:pt x="1022" y="1603"/>
                  <a:pt x="982" y="1552"/>
                </a:cubicBezTo>
                <a:cubicBezTo>
                  <a:pt x="942" y="1501"/>
                  <a:pt x="938" y="1508"/>
                  <a:pt x="853" y="1397"/>
                </a:cubicBezTo>
                <a:cubicBezTo>
                  <a:pt x="768" y="1286"/>
                  <a:pt x="550" y="990"/>
                  <a:pt x="472" y="888"/>
                </a:cubicBezTo>
                <a:cubicBezTo>
                  <a:pt x="394" y="786"/>
                  <a:pt x="402" y="807"/>
                  <a:pt x="382" y="782"/>
                </a:cubicBezTo>
                <a:cubicBezTo>
                  <a:pt x="362" y="757"/>
                  <a:pt x="366" y="745"/>
                  <a:pt x="350" y="739"/>
                </a:cubicBezTo>
                <a:cubicBezTo>
                  <a:pt x="334" y="733"/>
                  <a:pt x="315" y="740"/>
                  <a:pt x="285" y="744"/>
                </a:cubicBezTo>
                <a:cubicBezTo>
                  <a:pt x="255" y="748"/>
                  <a:pt x="200" y="769"/>
                  <a:pt x="168" y="765"/>
                </a:cubicBezTo>
                <a:cubicBezTo>
                  <a:pt x="136" y="761"/>
                  <a:pt x="115" y="726"/>
                  <a:pt x="94" y="717"/>
                </a:cubicBezTo>
                <a:cubicBezTo>
                  <a:pt x="73" y="708"/>
                  <a:pt x="56" y="692"/>
                  <a:pt x="41" y="712"/>
                </a:cubicBezTo>
                <a:cubicBezTo>
                  <a:pt x="26" y="732"/>
                  <a:pt x="8" y="801"/>
                  <a:pt x="4" y="839"/>
                </a:cubicBezTo>
                <a:cubicBezTo>
                  <a:pt x="0" y="877"/>
                  <a:pt x="11" y="918"/>
                  <a:pt x="14" y="940"/>
                </a:cubicBezTo>
                <a:cubicBezTo>
                  <a:pt x="17" y="962"/>
                  <a:pt x="18" y="967"/>
                  <a:pt x="20" y="97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4" name=""/>
          <p:cNvSpPr/>
          <p:nvPr/>
        </p:nvSpPr>
        <p:spPr>
          <a:xfrm>
            <a:off x="560520" y="982800"/>
            <a:ext cx="3867120" cy="3313080"/>
          </a:xfrm>
          <a:custGeom>
            <a:avLst/>
            <a:gdLst/>
            <a:ahLst/>
            <a:rect l="l" t="t" r="r" b="b"/>
            <a:pathLst>
              <a:path w="2436" h="2087">
                <a:moveTo>
                  <a:pt x="485" y="0"/>
                </a:moveTo>
                <a:cubicBezTo>
                  <a:pt x="527" y="1"/>
                  <a:pt x="570" y="2"/>
                  <a:pt x="597" y="5"/>
                </a:cubicBezTo>
                <a:cubicBezTo>
                  <a:pt x="624" y="8"/>
                  <a:pt x="625" y="7"/>
                  <a:pt x="650" y="16"/>
                </a:cubicBezTo>
                <a:cubicBezTo>
                  <a:pt x="675" y="25"/>
                  <a:pt x="719" y="42"/>
                  <a:pt x="746" y="58"/>
                </a:cubicBezTo>
                <a:cubicBezTo>
                  <a:pt x="773" y="74"/>
                  <a:pt x="804" y="92"/>
                  <a:pt x="815" y="111"/>
                </a:cubicBezTo>
                <a:cubicBezTo>
                  <a:pt x="826" y="130"/>
                  <a:pt x="805" y="146"/>
                  <a:pt x="815" y="175"/>
                </a:cubicBezTo>
                <a:cubicBezTo>
                  <a:pt x="825" y="204"/>
                  <a:pt x="846" y="257"/>
                  <a:pt x="878" y="287"/>
                </a:cubicBezTo>
                <a:cubicBezTo>
                  <a:pt x="910" y="317"/>
                  <a:pt x="971" y="346"/>
                  <a:pt x="1006" y="356"/>
                </a:cubicBezTo>
                <a:cubicBezTo>
                  <a:pt x="1041" y="366"/>
                  <a:pt x="1058" y="360"/>
                  <a:pt x="1091" y="345"/>
                </a:cubicBezTo>
                <a:cubicBezTo>
                  <a:pt x="1124" y="330"/>
                  <a:pt x="1166" y="270"/>
                  <a:pt x="1202" y="265"/>
                </a:cubicBezTo>
                <a:cubicBezTo>
                  <a:pt x="1238" y="260"/>
                  <a:pt x="1276" y="307"/>
                  <a:pt x="1309" y="313"/>
                </a:cubicBezTo>
                <a:cubicBezTo>
                  <a:pt x="1342" y="319"/>
                  <a:pt x="1369" y="306"/>
                  <a:pt x="1399" y="303"/>
                </a:cubicBezTo>
                <a:cubicBezTo>
                  <a:pt x="1429" y="300"/>
                  <a:pt x="1464" y="290"/>
                  <a:pt x="1489" y="292"/>
                </a:cubicBezTo>
                <a:cubicBezTo>
                  <a:pt x="1514" y="294"/>
                  <a:pt x="1523" y="301"/>
                  <a:pt x="1547" y="313"/>
                </a:cubicBezTo>
                <a:cubicBezTo>
                  <a:pt x="1571" y="325"/>
                  <a:pt x="1591" y="358"/>
                  <a:pt x="1632" y="366"/>
                </a:cubicBezTo>
                <a:cubicBezTo>
                  <a:pt x="1673" y="374"/>
                  <a:pt x="1735" y="373"/>
                  <a:pt x="1792" y="361"/>
                </a:cubicBezTo>
                <a:cubicBezTo>
                  <a:pt x="1849" y="349"/>
                  <a:pt x="1926" y="312"/>
                  <a:pt x="1972" y="292"/>
                </a:cubicBezTo>
                <a:cubicBezTo>
                  <a:pt x="2018" y="272"/>
                  <a:pt x="2022" y="247"/>
                  <a:pt x="2066" y="240"/>
                </a:cubicBezTo>
                <a:cubicBezTo>
                  <a:pt x="2110" y="233"/>
                  <a:pt x="2181" y="251"/>
                  <a:pt x="2238" y="249"/>
                </a:cubicBezTo>
                <a:cubicBezTo>
                  <a:pt x="2295" y="247"/>
                  <a:pt x="2380" y="200"/>
                  <a:pt x="2408" y="228"/>
                </a:cubicBezTo>
                <a:cubicBezTo>
                  <a:pt x="2436" y="256"/>
                  <a:pt x="2416" y="343"/>
                  <a:pt x="2408" y="419"/>
                </a:cubicBezTo>
                <a:cubicBezTo>
                  <a:pt x="2400" y="495"/>
                  <a:pt x="2387" y="595"/>
                  <a:pt x="2360" y="685"/>
                </a:cubicBezTo>
                <a:cubicBezTo>
                  <a:pt x="2333" y="775"/>
                  <a:pt x="2267" y="887"/>
                  <a:pt x="2243" y="961"/>
                </a:cubicBezTo>
                <a:cubicBezTo>
                  <a:pt x="2219" y="1035"/>
                  <a:pt x="2222" y="1083"/>
                  <a:pt x="2216" y="1131"/>
                </a:cubicBezTo>
                <a:cubicBezTo>
                  <a:pt x="2210" y="1179"/>
                  <a:pt x="2230" y="1189"/>
                  <a:pt x="2206" y="1248"/>
                </a:cubicBezTo>
                <a:cubicBezTo>
                  <a:pt x="2182" y="1307"/>
                  <a:pt x="2116" y="1403"/>
                  <a:pt x="2073" y="1486"/>
                </a:cubicBezTo>
                <a:cubicBezTo>
                  <a:pt x="2030" y="1569"/>
                  <a:pt x="1979" y="1672"/>
                  <a:pt x="1946" y="1747"/>
                </a:cubicBezTo>
                <a:cubicBezTo>
                  <a:pt x="1913" y="1822"/>
                  <a:pt x="1901" y="1889"/>
                  <a:pt x="1877" y="1938"/>
                </a:cubicBezTo>
                <a:cubicBezTo>
                  <a:pt x="1853" y="1987"/>
                  <a:pt x="1833" y="2016"/>
                  <a:pt x="1802" y="2039"/>
                </a:cubicBezTo>
                <a:cubicBezTo>
                  <a:pt x="1771" y="2062"/>
                  <a:pt x="1739" y="2087"/>
                  <a:pt x="1691" y="2076"/>
                </a:cubicBezTo>
                <a:cubicBezTo>
                  <a:pt x="1643" y="2065"/>
                  <a:pt x="1555" y="2040"/>
                  <a:pt x="1516" y="1970"/>
                </a:cubicBezTo>
                <a:cubicBezTo>
                  <a:pt x="1477" y="1900"/>
                  <a:pt x="1489" y="1768"/>
                  <a:pt x="1457" y="1656"/>
                </a:cubicBezTo>
                <a:cubicBezTo>
                  <a:pt x="1425" y="1544"/>
                  <a:pt x="1351" y="1384"/>
                  <a:pt x="1326" y="1300"/>
                </a:cubicBezTo>
                <a:cubicBezTo>
                  <a:pt x="1301" y="1216"/>
                  <a:pt x="1319" y="1196"/>
                  <a:pt x="1305" y="1150"/>
                </a:cubicBezTo>
                <a:cubicBezTo>
                  <a:pt x="1291" y="1104"/>
                  <a:pt x="1267" y="1069"/>
                  <a:pt x="1243" y="1025"/>
                </a:cubicBezTo>
                <a:cubicBezTo>
                  <a:pt x="1219" y="981"/>
                  <a:pt x="1207" y="948"/>
                  <a:pt x="1161" y="886"/>
                </a:cubicBezTo>
                <a:cubicBezTo>
                  <a:pt x="1115" y="824"/>
                  <a:pt x="1030" y="724"/>
                  <a:pt x="969" y="653"/>
                </a:cubicBezTo>
                <a:cubicBezTo>
                  <a:pt x="908" y="582"/>
                  <a:pt x="840" y="517"/>
                  <a:pt x="793" y="462"/>
                </a:cubicBezTo>
                <a:cubicBezTo>
                  <a:pt x="746" y="407"/>
                  <a:pt x="727" y="361"/>
                  <a:pt x="685" y="322"/>
                </a:cubicBezTo>
                <a:cubicBezTo>
                  <a:pt x="643" y="283"/>
                  <a:pt x="583" y="243"/>
                  <a:pt x="540" y="230"/>
                </a:cubicBezTo>
                <a:cubicBezTo>
                  <a:pt x="497" y="217"/>
                  <a:pt x="466" y="240"/>
                  <a:pt x="426" y="245"/>
                </a:cubicBezTo>
                <a:cubicBezTo>
                  <a:pt x="386" y="250"/>
                  <a:pt x="348" y="264"/>
                  <a:pt x="302" y="261"/>
                </a:cubicBezTo>
                <a:cubicBezTo>
                  <a:pt x="256" y="258"/>
                  <a:pt x="192" y="222"/>
                  <a:pt x="152" y="225"/>
                </a:cubicBezTo>
                <a:cubicBezTo>
                  <a:pt x="112" y="228"/>
                  <a:pt x="88" y="239"/>
                  <a:pt x="64" y="276"/>
                </a:cubicBezTo>
                <a:cubicBezTo>
                  <a:pt x="40" y="313"/>
                  <a:pt x="16" y="384"/>
                  <a:pt x="8" y="446"/>
                </a:cubicBezTo>
                <a:cubicBezTo>
                  <a:pt x="0" y="508"/>
                  <a:pt x="12" y="615"/>
                  <a:pt x="13" y="64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5" name=""/>
          <p:cNvSpPr/>
          <p:nvPr/>
        </p:nvSpPr>
        <p:spPr>
          <a:xfrm>
            <a:off x="1298520" y="484200"/>
            <a:ext cx="641520" cy="522360"/>
          </a:xfrm>
          <a:custGeom>
            <a:avLst/>
            <a:gdLst/>
            <a:ahLst/>
            <a:rect l="l" t="t" r="r" b="b"/>
            <a:pathLst>
              <a:path w="404" h="329">
                <a:moveTo>
                  <a:pt x="0" y="245"/>
                </a:moveTo>
                <a:cubicBezTo>
                  <a:pt x="51" y="248"/>
                  <a:pt x="105" y="249"/>
                  <a:pt x="154" y="261"/>
                </a:cubicBezTo>
                <a:cubicBezTo>
                  <a:pt x="203" y="273"/>
                  <a:pt x="258" y="309"/>
                  <a:pt x="292" y="319"/>
                </a:cubicBezTo>
                <a:cubicBezTo>
                  <a:pt x="326" y="329"/>
                  <a:pt x="345" y="327"/>
                  <a:pt x="361" y="319"/>
                </a:cubicBezTo>
                <a:cubicBezTo>
                  <a:pt x="377" y="311"/>
                  <a:pt x="386" y="297"/>
                  <a:pt x="388" y="271"/>
                </a:cubicBezTo>
                <a:cubicBezTo>
                  <a:pt x="390" y="245"/>
                  <a:pt x="375" y="199"/>
                  <a:pt x="372" y="165"/>
                </a:cubicBezTo>
                <a:cubicBezTo>
                  <a:pt x="369" y="131"/>
                  <a:pt x="367" y="91"/>
                  <a:pt x="372" y="64"/>
                </a:cubicBezTo>
                <a:cubicBezTo>
                  <a:pt x="377" y="37"/>
                  <a:pt x="390" y="18"/>
                  <a:pt x="40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6" name=""/>
          <p:cNvSpPr/>
          <p:nvPr/>
        </p:nvSpPr>
        <p:spPr>
          <a:xfrm>
            <a:off x="2354040" y="390600"/>
            <a:ext cx="1035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Times New Roman"/>
              </a:rPr>
              <a:t>Vzestu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Times New Roman"/>
              </a:rPr>
              <a:t>glomerulární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Times New Roman"/>
              </a:rPr>
              <a:t>filtr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7" name=""/>
          <p:cNvSpPr/>
          <p:nvPr/>
        </p:nvSpPr>
        <p:spPr>
          <a:xfrm>
            <a:off x="2147760" y="592200"/>
            <a:ext cx="214560" cy="20484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8" name=""/>
          <p:cNvSpPr/>
          <p:nvPr/>
        </p:nvSpPr>
        <p:spPr>
          <a:xfrm>
            <a:off x="4290840" y="1141560"/>
            <a:ext cx="222480" cy="608040"/>
          </a:xfrm>
          <a:custGeom>
            <a:avLst/>
            <a:gdLst/>
            <a:ahLst/>
            <a:rect l="l" t="t" r="r" b="b"/>
            <a:pathLst>
              <a:path w="140" h="383">
                <a:moveTo>
                  <a:pt x="0" y="0"/>
                </a:moveTo>
                <a:cubicBezTo>
                  <a:pt x="12" y="4"/>
                  <a:pt x="51" y="9"/>
                  <a:pt x="73" y="26"/>
                </a:cubicBezTo>
                <a:cubicBezTo>
                  <a:pt x="94" y="42"/>
                  <a:pt x="119" y="45"/>
                  <a:pt x="130" y="104"/>
                </a:cubicBezTo>
                <a:lnTo>
                  <a:pt x="140" y="383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9" name=""/>
          <p:cNvSpPr/>
          <p:nvPr/>
        </p:nvSpPr>
        <p:spPr>
          <a:xfrm>
            <a:off x="4052880" y="1035000"/>
            <a:ext cx="214200" cy="20484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0" name=""/>
          <p:cNvSpPr/>
          <p:nvPr/>
        </p:nvSpPr>
        <p:spPr>
          <a:xfrm>
            <a:off x="3854160" y="160200"/>
            <a:ext cx="1118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Times New Roman"/>
              </a:rPr>
              <a:t>Zvýšení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Times New Roman"/>
              </a:rPr>
              <a:t>dodávky NaC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Times New Roman"/>
              </a:rPr>
              <a:t>do Henle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Times New Roman"/>
              </a:rPr>
              <a:t>kličk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1" name=""/>
          <p:cNvSpPr/>
          <p:nvPr/>
        </p:nvSpPr>
        <p:spPr>
          <a:xfrm>
            <a:off x="360" y="703440"/>
            <a:ext cx="12657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Times New Roman"/>
              </a:rPr>
              <a:t>Zvýšení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Times New Roman"/>
              </a:rPr>
              <a:t>transportu NaC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Times New Roman"/>
              </a:rPr>
              <a:t>do macula den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2" name=""/>
          <p:cNvSpPr/>
          <p:nvPr/>
        </p:nvSpPr>
        <p:spPr>
          <a:xfrm>
            <a:off x="1333440" y="1052640"/>
            <a:ext cx="214200" cy="20484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3" name=""/>
          <p:cNvSpPr/>
          <p:nvPr/>
        </p:nvSpPr>
        <p:spPr>
          <a:xfrm>
            <a:off x="1273320" y="1182600"/>
            <a:ext cx="512640" cy="757440"/>
          </a:xfrm>
          <a:custGeom>
            <a:avLst/>
            <a:gdLst/>
            <a:ahLst/>
            <a:rect l="l" t="t" r="r" b="b"/>
            <a:pathLst>
              <a:path w="323" h="477">
                <a:moveTo>
                  <a:pt x="323" y="477"/>
                </a:moveTo>
                <a:cubicBezTo>
                  <a:pt x="274" y="419"/>
                  <a:pt x="74" y="209"/>
                  <a:pt x="29" y="130"/>
                </a:cubicBezTo>
                <a:cubicBezTo>
                  <a:pt x="0" y="42"/>
                  <a:pt x="48" y="30"/>
                  <a:pt x="5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4" name=""/>
          <p:cNvSpPr/>
          <p:nvPr/>
        </p:nvSpPr>
        <p:spPr>
          <a:xfrm>
            <a:off x="1082520" y="1427040"/>
            <a:ext cx="878040" cy="716040"/>
          </a:xfrm>
          <a:custGeom>
            <a:avLst/>
            <a:gdLst/>
            <a:ahLst/>
            <a:rect l="l" t="t" r="r" b="b"/>
            <a:pathLst>
              <a:path w="553" h="451">
                <a:moveTo>
                  <a:pt x="553" y="451"/>
                </a:moveTo>
                <a:cubicBezTo>
                  <a:pt x="494" y="387"/>
                  <a:pt x="293" y="128"/>
                  <a:pt x="201" y="64"/>
                </a:cubicBezTo>
                <a:cubicBezTo>
                  <a:pt x="109" y="0"/>
                  <a:pt x="42" y="68"/>
                  <a:pt x="0" y="69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5" name=""/>
          <p:cNvSpPr/>
          <p:nvPr/>
        </p:nvSpPr>
        <p:spPr>
          <a:xfrm>
            <a:off x="602640" y="282600"/>
            <a:ext cx="1226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Times New Roman"/>
              </a:rPr>
              <a:t>Vasokonstrik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Times New Roman"/>
              </a:rPr>
              <a:t>vas affer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6" name=""/>
          <p:cNvSpPr/>
          <p:nvPr/>
        </p:nvSpPr>
        <p:spPr>
          <a:xfrm>
            <a:off x="1284120" y="746280"/>
            <a:ext cx="214560" cy="20448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7" name=""/>
          <p:cNvSpPr/>
          <p:nvPr/>
        </p:nvSpPr>
        <p:spPr>
          <a:xfrm>
            <a:off x="2051640" y="1114560"/>
            <a:ext cx="199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Times New Roman"/>
              </a:rPr>
              <a:t>Pokles glomerulární filtr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8" name=""/>
          <p:cNvSpPr/>
          <p:nvPr/>
        </p:nvSpPr>
        <p:spPr>
          <a:xfrm>
            <a:off x="1900080" y="1116000"/>
            <a:ext cx="214560" cy="20484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9" name=""/>
          <p:cNvSpPr/>
          <p:nvPr/>
        </p:nvSpPr>
        <p:spPr>
          <a:xfrm>
            <a:off x="4983120" y="2725560"/>
            <a:ext cx="3867120" cy="3961080"/>
          </a:xfrm>
          <a:custGeom>
            <a:avLst/>
            <a:gdLst/>
            <a:ahLst/>
            <a:rect l="l" t="t" r="r" b="b"/>
            <a:pathLst>
              <a:path w="2436" h="2495">
                <a:moveTo>
                  <a:pt x="774" y="0"/>
                </a:moveTo>
                <a:cubicBezTo>
                  <a:pt x="761" y="22"/>
                  <a:pt x="749" y="44"/>
                  <a:pt x="742" y="69"/>
                </a:cubicBezTo>
                <a:cubicBezTo>
                  <a:pt x="735" y="94"/>
                  <a:pt x="730" y="129"/>
                  <a:pt x="731" y="149"/>
                </a:cubicBezTo>
                <a:cubicBezTo>
                  <a:pt x="732" y="169"/>
                  <a:pt x="742" y="179"/>
                  <a:pt x="747" y="191"/>
                </a:cubicBezTo>
                <a:cubicBezTo>
                  <a:pt x="752" y="203"/>
                  <a:pt x="749" y="219"/>
                  <a:pt x="763" y="223"/>
                </a:cubicBezTo>
                <a:cubicBezTo>
                  <a:pt x="777" y="227"/>
                  <a:pt x="808" y="213"/>
                  <a:pt x="832" y="213"/>
                </a:cubicBezTo>
                <a:cubicBezTo>
                  <a:pt x="856" y="213"/>
                  <a:pt x="879" y="215"/>
                  <a:pt x="906" y="223"/>
                </a:cubicBezTo>
                <a:cubicBezTo>
                  <a:pt x="933" y="231"/>
                  <a:pt x="971" y="233"/>
                  <a:pt x="997" y="260"/>
                </a:cubicBezTo>
                <a:cubicBezTo>
                  <a:pt x="1023" y="287"/>
                  <a:pt x="1032" y="368"/>
                  <a:pt x="1060" y="388"/>
                </a:cubicBezTo>
                <a:cubicBezTo>
                  <a:pt x="1088" y="408"/>
                  <a:pt x="1129" y="380"/>
                  <a:pt x="1163" y="378"/>
                </a:cubicBezTo>
                <a:cubicBezTo>
                  <a:pt x="1197" y="376"/>
                  <a:pt x="1231" y="383"/>
                  <a:pt x="1267" y="378"/>
                </a:cubicBezTo>
                <a:cubicBezTo>
                  <a:pt x="1303" y="373"/>
                  <a:pt x="1343" y="346"/>
                  <a:pt x="1379" y="345"/>
                </a:cubicBezTo>
                <a:cubicBezTo>
                  <a:pt x="1415" y="344"/>
                  <a:pt x="1446" y="365"/>
                  <a:pt x="1484" y="373"/>
                </a:cubicBezTo>
                <a:cubicBezTo>
                  <a:pt x="1522" y="381"/>
                  <a:pt x="1554" y="406"/>
                  <a:pt x="1608" y="394"/>
                </a:cubicBezTo>
                <a:cubicBezTo>
                  <a:pt x="1662" y="382"/>
                  <a:pt x="1743" y="319"/>
                  <a:pt x="1809" y="298"/>
                </a:cubicBezTo>
                <a:cubicBezTo>
                  <a:pt x="1875" y="277"/>
                  <a:pt x="1952" y="268"/>
                  <a:pt x="2006" y="266"/>
                </a:cubicBezTo>
                <a:cubicBezTo>
                  <a:pt x="2060" y="264"/>
                  <a:pt x="2100" y="282"/>
                  <a:pt x="2134" y="288"/>
                </a:cubicBezTo>
                <a:cubicBezTo>
                  <a:pt x="2168" y="294"/>
                  <a:pt x="2180" y="305"/>
                  <a:pt x="2208" y="304"/>
                </a:cubicBezTo>
                <a:cubicBezTo>
                  <a:pt x="2236" y="303"/>
                  <a:pt x="2275" y="270"/>
                  <a:pt x="2303" y="282"/>
                </a:cubicBezTo>
                <a:cubicBezTo>
                  <a:pt x="2331" y="294"/>
                  <a:pt x="2356" y="332"/>
                  <a:pt x="2377" y="377"/>
                </a:cubicBezTo>
                <a:cubicBezTo>
                  <a:pt x="2398" y="422"/>
                  <a:pt x="2424" y="470"/>
                  <a:pt x="2430" y="552"/>
                </a:cubicBezTo>
                <a:cubicBezTo>
                  <a:pt x="2436" y="634"/>
                  <a:pt x="2436" y="755"/>
                  <a:pt x="2414" y="871"/>
                </a:cubicBezTo>
                <a:cubicBezTo>
                  <a:pt x="2392" y="987"/>
                  <a:pt x="2327" y="1146"/>
                  <a:pt x="2298" y="1248"/>
                </a:cubicBezTo>
                <a:cubicBezTo>
                  <a:pt x="2269" y="1350"/>
                  <a:pt x="2262" y="1431"/>
                  <a:pt x="2239" y="1482"/>
                </a:cubicBezTo>
                <a:cubicBezTo>
                  <a:pt x="2216" y="1533"/>
                  <a:pt x="2185" y="1522"/>
                  <a:pt x="2159" y="1556"/>
                </a:cubicBezTo>
                <a:cubicBezTo>
                  <a:pt x="2133" y="1590"/>
                  <a:pt x="2111" y="1641"/>
                  <a:pt x="2085" y="1689"/>
                </a:cubicBezTo>
                <a:cubicBezTo>
                  <a:pt x="2059" y="1737"/>
                  <a:pt x="2037" y="1794"/>
                  <a:pt x="2006" y="1843"/>
                </a:cubicBezTo>
                <a:cubicBezTo>
                  <a:pt x="1975" y="1892"/>
                  <a:pt x="1935" y="1925"/>
                  <a:pt x="1899" y="1986"/>
                </a:cubicBezTo>
                <a:cubicBezTo>
                  <a:pt x="1863" y="2047"/>
                  <a:pt x="1815" y="2152"/>
                  <a:pt x="1788" y="2209"/>
                </a:cubicBezTo>
                <a:cubicBezTo>
                  <a:pt x="1761" y="2266"/>
                  <a:pt x="1763" y="2291"/>
                  <a:pt x="1735" y="2331"/>
                </a:cubicBezTo>
                <a:cubicBezTo>
                  <a:pt x="1707" y="2371"/>
                  <a:pt x="1665" y="2423"/>
                  <a:pt x="1618" y="2448"/>
                </a:cubicBezTo>
                <a:cubicBezTo>
                  <a:pt x="1571" y="2473"/>
                  <a:pt x="1506" y="2495"/>
                  <a:pt x="1453" y="2480"/>
                </a:cubicBezTo>
                <a:cubicBezTo>
                  <a:pt x="1400" y="2465"/>
                  <a:pt x="1358" y="2488"/>
                  <a:pt x="1299" y="2358"/>
                </a:cubicBezTo>
                <a:cubicBezTo>
                  <a:pt x="1240" y="2228"/>
                  <a:pt x="1149" y="1836"/>
                  <a:pt x="1096" y="1702"/>
                </a:cubicBezTo>
                <a:cubicBezTo>
                  <a:pt x="1043" y="1568"/>
                  <a:pt x="1022" y="1603"/>
                  <a:pt x="982" y="1552"/>
                </a:cubicBezTo>
                <a:cubicBezTo>
                  <a:pt x="942" y="1501"/>
                  <a:pt x="938" y="1508"/>
                  <a:pt x="853" y="1397"/>
                </a:cubicBezTo>
                <a:cubicBezTo>
                  <a:pt x="768" y="1286"/>
                  <a:pt x="550" y="990"/>
                  <a:pt x="472" y="888"/>
                </a:cubicBezTo>
                <a:cubicBezTo>
                  <a:pt x="394" y="786"/>
                  <a:pt x="402" y="807"/>
                  <a:pt x="382" y="782"/>
                </a:cubicBezTo>
                <a:cubicBezTo>
                  <a:pt x="362" y="757"/>
                  <a:pt x="366" y="745"/>
                  <a:pt x="350" y="739"/>
                </a:cubicBezTo>
                <a:cubicBezTo>
                  <a:pt x="334" y="733"/>
                  <a:pt x="315" y="740"/>
                  <a:pt x="285" y="744"/>
                </a:cubicBezTo>
                <a:cubicBezTo>
                  <a:pt x="255" y="748"/>
                  <a:pt x="200" y="769"/>
                  <a:pt x="168" y="765"/>
                </a:cubicBezTo>
                <a:cubicBezTo>
                  <a:pt x="136" y="761"/>
                  <a:pt x="115" y="726"/>
                  <a:pt x="94" y="717"/>
                </a:cubicBezTo>
                <a:cubicBezTo>
                  <a:pt x="73" y="708"/>
                  <a:pt x="56" y="692"/>
                  <a:pt x="41" y="712"/>
                </a:cubicBezTo>
                <a:cubicBezTo>
                  <a:pt x="26" y="732"/>
                  <a:pt x="8" y="801"/>
                  <a:pt x="4" y="839"/>
                </a:cubicBezTo>
                <a:cubicBezTo>
                  <a:pt x="0" y="877"/>
                  <a:pt x="11" y="918"/>
                  <a:pt x="14" y="940"/>
                </a:cubicBezTo>
                <a:cubicBezTo>
                  <a:pt x="17" y="962"/>
                  <a:pt x="18" y="967"/>
                  <a:pt x="20" y="97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0" name=""/>
          <p:cNvSpPr/>
          <p:nvPr/>
        </p:nvSpPr>
        <p:spPr>
          <a:xfrm>
            <a:off x="4732200" y="3174840"/>
            <a:ext cx="3867120" cy="3313440"/>
          </a:xfrm>
          <a:custGeom>
            <a:avLst/>
            <a:gdLst/>
            <a:ahLst/>
            <a:rect l="l" t="t" r="r" b="b"/>
            <a:pathLst>
              <a:path w="2436" h="2087">
                <a:moveTo>
                  <a:pt x="485" y="0"/>
                </a:moveTo>
                <a:cubicBezTo>
                  <a:pt x="527" y="1"/>
                  <a:pt x="570" y="2"/>
                  <a:pt x="597" y="5"/>
                </a:cubicBezTo>
                <a:cubicBezTo>
                  <a:pt x="624" y="8"/>
                  <a:pt x="625" y="7"/>
                  <a:pt x="650" y="16"/>
                </a:cubicBezTo>
                <a:cubicBezTo>
                  <a:pt x="675" y="25"/>
                  <a:pt x="719" y="42"/>
                  <a:pt x="746" y="58"/>
                </a:cubicBezTo>
                <a:cubicBezTo>
                  <a:pt x="773" y="74"/>
                  <a:pt x="804" y="92"/>
                  <a:pt x="815" y="111"/>
                </a:cubicBezTo>
                <a:cubicBezTo>
                  <a:pt x="826" y="130"/>
                  <a:pt x="805" y="146"/>
                  <a:pt x="815" y="175"/>
                </a:cubicBezTo>
                <a:cubicBezTo>
                  <a:pt x="825" y="204"/>
                  <a:pt x="846" y="257"/>
                  <a:pt x="878" y="287"/>
                </a:cubicBezTo>
                <a:cubicBezTo>
                  <a:pt x="910" y="317"/>
                  <a:pt x="971" y="346"/>
                  <a:pt x="1006" y="356"/>
                </a:cubicBezTo>
                <a:cubicBezTo>
                  <a:pt x="1041" y="366"/>
                  <a:pt x="1058" y="360"/>
                  <a:pt x="1091" y="345"/>
                </a:cubicBezTo>
                <a:cubicBezTo>
                  <a:pt x="1124" y="330"/>
                  <a:pt x="1166" y="270"/>
                  <a:pt x="1202" y="265"/>
                </a:cubicBezTo>
                <a:cubicBezTo>
                  <a:pt x="1238" y="260"/>
                  <a:pt x="1276" y="307"/>
                  <a:pt x="1309" y="313"/>
                </a:cubicBezTo>
                <a:cubicBezTo>
                  <a:pt x="1342" y="319"/>
                  <a:pt x="1369" y="306"/>
                  <a:pt x="1399" y="303"/>
                </a:cubicBezTo>
                <a:cubicBezTo>
                  <a:pt x="1429" y="300"/>
                  <a:pt x="1464" y="290"/>
                  <a:pt x="1489" y="292"/>
                </a:cubicBezTo>
                <a:cubicBezTo>
                  <a:pt x="1514" y="294"/>
                  <a:pt x="1523" y="301"/>
                  <a:pt x="1547" y="313"/>
                </a:cubicBezTo>
                <a:cubicBezTo>
                  <a:pt x="1571" y="325"/>
                  <a:pt x="1591" y="358"/>
                  <a:pt x="1632" y="366"/>
                </a:cubicBezTo>
                <a:cubicBezTo>
                  <a:pt x="1673" y="374"/>
                  <a:pt x="1735" y="373"/>
                  <a:pt x="1792" y="361"/>
                </a:cubicBezTo>
                <a:cubicBezTo>
                  <a:pt x="1849" y="349"/>
                  <a:pt x="1926" y="312"/>
                  <a:pt x="1972" y="292"/>
                </a:cubicBezTo>
                <a:cubicBezTo>
                  <a:pt x="2018" y="272"/>
                  <a:pt x="2022" y="247"/>
                  <a:pt x="2066" y="240"/>
                </a:cubicBezTo>
                <a:cubicBezTo>
                  <a:pt x="2110" y="233"/>
                  <a:pt x="2181" y="251"/>
                  <a:pt x="2238" y="249"/>
                </a:cubicBezTo>
                <a:cubicBezTo>
                  <a:pt x="2295" y="247"/>
                  <a:pt x="2380" y="200"/>
                  <a:pt x="2408" y="228"/>
                </a:cubicBezTo>
                <a:cubicBezTo>
                  <a:pt x="2436" y="256"/>
                  <a:pt x="2416" y="343"/>
                  <a:pt x="2408" y="419"/>
                </a:cubicBezTo>
                <a:cubicBezTo>
                  <a:pt x="2400" y="495"/>
                  <a:pt x="2387" y="595"/>
                  <a:pt x="2360" y="685"/>
                </a:cubicBezTo>
                <a:cubicBezTo>
                  <a:pt x="2333" y="775"/>
                  <a:pt x="2267" y="887"/>
                  <a:pt x="2243" y="961"/>
                </a:cubicBezTo>
                <a:cubicBezTo>
                  <a:pt x="2219" y="1035"/>
                  <a:pt x="2222" y="1083"/>
                  <a:pt x="2216" y="1131"/>
                </a:cubicBezTo>
                <a:cubicBezTo>
                  <a:pt x="2210" y="1179"/>
                  <a:pt x="2230" y="1189"/>
                  <a:pt x="2206" y="1248"/>
                </a:cubicBezTo>
                <a:cubicBezTo>
                  <a:pt x="2182" y="1307"/>
                  <a:pt x="2116" y="1403"/>
                  <a:pt x="2073" y="1486"/>
                </a:cubicBezTo>
                <a:cubicBezTo>
                  <a:pt x="2030" y="1569"/>
                  <a:pt x="1979" y="1672"/>
                  <a:pt x="1946" y="1747"/>
                </a:cubicBezTo>
                <a:cubicBezTo>
                  <a:pt x="1913" y="1822"/>
                  <a:pt x="1901" y="1889"/>
                  <a:pt x="1877" y="1938"/>
                </a:cubicBezTo>
                <a:cubicBezTo>
                  <a:pt x="1853" y="1987"/>
                  <a:pt x="1833" y="2016"/>
                  <a:pt x="1802" y="2039"/>
                </a:cubicBezTo>
                <a:cubicBezTo>
                  <a:pt x="1771" y="2062"/>
                  <a:pt x="1739" y="2087"/>
                  <a:pt x="1691" y="2076"/>
                </a:cubicBezTo>
                <a:cubicBezTo>
                  <a:pt x="1643" y="2065"/>
                  <a:pt x="1555" y="2040"/>
                  <a:pt x="1516" y="1970"/>
                </a:cubicBezTo>
                <a:cubicBezTo>
                  <a:pt x="1477" y="1900"/>
                  <a:pt x="1489" y="1768"/>
                  <a:pt x="1457" y="1656"/>
                </a:cubicBezTo>
                <a:cubicBezTo>
                  <a:pt x="1425" y="1544"/>
                  <a:pt x="1351" y="1384"/>
                  <a:pt x="1326" y="1300"/>
                </a:cubicBezTo>
                <a:cubicBezTo>
                  <a:pt x="1301" y="1216"/>
                  <a:pt x="1319" y="1196"/>
                  <a:pt x="1305" y="1150"/>
                </a:cubicBezTo>
                <a:cubicBezTo>
                  <a:pt x="1291" y="1104"/>
                  <a:pt x="1267" y="1069"/>
                  <a:pt x="1243" y="1025"/>
                </a:cubicBezTo>
                <a:cubicBezTo>
                  <a:pt x="1219" y="981"/>
                  <a:pt x="1207" y="948"/>
                  <a:pt x="1161" y="886"/>
                </a:cubicBezTo>
                <a:cubicBezTo>
                  <a:pt x="1115" y="824"/>
                  <a:pt x="1030" y="724"/>
                  <a:pt x="969" y="653"/>
                </a:cubicBezTo>
                <a:cubicBezTo>
                  <a:pt x="908" y="582"/>
                  <a:pt x="840" y="517"/>
                  <a:pt x="793" y="462"/>
                </a:cubicBezTo>
                <a:cubicBezTo>
                  <a:pt x="746" y="407"/>
                  <a:pt x="727" y="361"/>
                  <a:pt x="685" y="322"/>
                </a:cubicBezTo>
                <a:cubicBezTo>
                  <a:pt x="643" y="283"/>
                  <a:pt x="583" y="243"/>
                  <a:pt x="540" y="230"/>
                </a:cubicBezTo>
                <a:cubicBezTo>
                  <a:pt x="497" y="217"/>
                  <a:pt x="466" y="240"/>
                  <a:pt x="426" y="245"/>
                </a:cubicBezTo>
                <a:cubicBezTo>
                  <a:pt x="386" y="250"/>
                  <a:pt x="348" y="264"/>
                  <a:pt x="302" y="261"/>
                </a:cubicBezTo>
                <a:cubicBezTo>
                  <a:pt x="256" y="258"/>
                  <a:pt x="192" y="222"/>
                  <a:pt x="152" y="225"/>
                </a:cubicBezTo>
                <a:cubicBezTo>
                  <a:pt x="112" y="228"/>
                  <a:pt x="88" y="239"/>
                  <a:pt x="64" y="276"/>
                </a:cubicBezTo>
                <a:cubicBezTo>
                  <a:pt x="40" y="313"/>
                  <a:pt x="16" y="384"/>
                  <a:pt x="8" y="446"/>
                </a:cubicBezTo>
                <a:cubicBezTo>
                  <a:pt x="0" y="508"/>
                  <a:pt x="12" y="615"/>
                  <a:pt x="13" y="64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1" name=""/>
          <p:cNvSpPr/>
          <p:nvPr/>
        </p:nvSpPr>
        <p:spPr>
          <a:xfrm>
            <a:off x="5470560" y="2676600"/>
            <a:ext cx="641160" cy="522360"/>
          </a:xfrm>
          <a:custGeom>
            <a:avLst/>
            <a:gdLst/>
            <a:ahLst/>
            <a:rect l="l" t="t" r="r" b="b"/>
            <a:pathLst>
              <a:path w="404" h="329">
                <a:moveTo>
                  <a:pt x="0" y="245"/>
                </a:moveTo>
                <a:cubicBezTo>
                  <a:pt x="51" y="248"/>
                  <a:pt x="105" y="249"/>
                  <a:pt x="154" y="261"/>
                </a:cubicBezTo>
                <a:cubicBezTo>
                  <a:pt x="203" y="273"/>
                  <a:pt x="258" y="309"/>
                  <a:pt x="292" y="319"/>
                </a:cubicBezTo>
                <a:cubicBezTo>
                  <a:pt x="326" y="329"/>
                  <a:pt x="345" y="327"/>
                  <a:pt x="361" y="319"/>
                </a:cubicBezTo>
                <a:cubicBezTo>
                  <a:pt x="377" y="311"/>
                  <a:pt x="386" y="297"/>
                  <a:pt x="388" y="271"/>
                </a:cubicBezTo>
                <a:cubicBezTo>
                  <a:pt x="390" y="245"/>
                  <a:pt x="375" y="199"/>
                  <a:pt x="372" y="165"/>
                </a:cubicBezTo>
                <a:cubicBezTo>
                  <a:pt x="369" y="131"/>
                  <a:pt x="367" y="91"/>
                  <a:pt x="372" y="64"/>
                </a:cubicBezTo>
                <a:cubicBezTo>
                  <a:pt x="377" y="37"/>
                  <a:pt x="390" y="18"/>
                  <a:pt x="40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2" name=""/>
          <p:cNvSpPr/>
          <p:nvPr/>
        </p:nvSpPr>
        <p:spPr>
          <a:xfrm>
            <a:off x="6533640" y="2583000"/>
            <a:ext cx="1035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Times New Roman"/>
              </a:rPr>
              <a:t>Pokl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Times New Roman"/>
              </a:rPr>
              <a:t>glomerulární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Times New Roman"/>
              </a:rPr>
              <a:t>filtr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3" name=""/>
          <p:cNvSpPr/>
          <p:nvPr/>
        </p:nvSpPr>
        <p:spPr>
          <a:xfrm>
            <a:off x="6319800" y="2784600"/>
            <a:ext cx="214200" cy="20484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4" name=""/>
          <p:cNvSpPr/>
          <p:nvPr/>
        </p:nvSpPr>
        <p:spPr>
          <a:xfrm>
            <a:off x="8462880" y="3333600"/>
            <a:ext cx="222480" cy="608040"/>
          </a:xfrm>
          <a:custGeom>
            <a:avLst/>
            <a:gdLst/>
            <a:ahLst/>
            <a:rect l="l" t="t" r="r" b="b"/>
            <a:pathLst>
              <a:path w="140" h="383">
                <a:moveTo>
                  <a:pt x="0" y="0"/>
                </a:moveTo>
                <a:cubicBezTo>
                  <a:pt x="12" y="4"/>
                  <a:pt x="51" y="9"/>
                  <a:pt x="73" y="26"/>
                </a:cubicBezTo>
                <a:cubicBezTo>
                  <a:pt x="94" y="42"/>
                  <a:pt x="119" y="45"/>
                  <a:pt x="130" y="104"/>
                </a:cubicBezTo>
                <a:lnTo>
                  <a:pt x="140" y="383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5" name=""/>
          <p:cNvSpPr/>
          <p:nvPr/>
        </p:nvSpPr>
        <p:spPr>
          <a:xfrm>
            <a:off x="8224920" y="3227400"/>
            <a:ext cx="214200" cy="20484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6" name=""/>
          <p:cNvSpPr/>
          <p:nvPr/>
        </p:nvSpPr>
        <p:spPr>
          <a:xfrm>
            <a:off x="8026200" y="2352600"/>
            <a:ext cx="1118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Times New Roman"/>
              </a:rPr>
              <a:t>Snížení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Times New Roman"/>
              </a:rPr>
              <a:t>dodávky NaC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Times New Roman"/>
              </a:rPr>
              <a:t>do Henle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Times New Roman"/>
              </a:rPr>
              <a:t>kličk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7" name=""/>
          <p:cNvSpPr/>
          <p:nvPr/>
        </p:nvSpPr>
        <p:spPr>
          <a:xfrm>
            <a:off x="4280400" y="2921040"/>
            <a:ext cx="12657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Times New Roman"/>
              </a:rPr>
              <a:t>Snížení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Times New Roman"/>
              </a:rPr>
              <a:t>transportu NaC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Times New Roman"/>
              </a:rPr>
              <a:t>do macula den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8" name=""/>
          <p:cNvSpPr/>
          <p:nvPr/>
        </p:nvSpPr>
        <p:spPr>
          <a:xfrm>
            <a:off x="5505480" y="3244680"/>
            <a:ext cx="214200" cy="20484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9" name=""/>
          <p:cNvSpPr/>
          <p:nvPr/>
        </p:nvSpPr>
        <p:spPr>
          <a:xfrm>
            <a:off x="5445000" y="3375000"/>
            <a:ext cx="513000" cy="757440"/>
          </a:xfrm>
          <a:custGeom>
            <a:avLst/>
            <a:gdLst/>
            <a:ahLst/>
            <a:rect l="l" t="t" r="r" b="b"/>
            <a:pathLst>
              <a:path w="323" h="477">
                <a:moveTo>
                  <a:pt x="323" y="477"/>
                </a:moveTo>
                <a:cubicBezTo>
                  <a:pt x="274" y="419"/>
                  <a:pt x="74" y="209"/>
                  <a:pt x="29" y="130"/>
                </a:cubicBezTo>
                <a:cubicBezTo>
                  <a:pt x="0" y="42"/>
                  <a:pt x="48" y="30"/>
                  <a:pt x="5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0" name=""/>
          <p:cNvSpPr/>
          <p:nvPr/>
        </p:nvSpPr>
        <p:spPr>
          <a:xfrm>
            <a:off x="5254560" y="3619440"/>
            <a:ext cx="878040" cy="716040"/>
          </a:xfrm>
          <a:custGeom>
            <a:avLst/>
            <a:gdLst/>
            <a:ahLst/>
            <a:rect l="l" t="t" r="r" b="b"/>
            <a:pathLst>
              <a:path w="553" h="451">
                <a:moveTo>
                  <a:pt x="553" y="451"/>
                </a:moveTo>
                <a:cubicBezTo>
                  <a:pt x="494" y="387"/>
                  <a:pt x="293" y="128"/>
                  <a:pt x="201" y="64"/>
                </a:cubicBezTo>
                <a:cubicBezTo>
                  <a:pt x="109" y="0"/>
                  <a:pt x="42" y="68"/>
                  <a:pt x="0" y="69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1" name=""/>
          <p:cNvSpPr/>
          <p:nvPr/>
        </p:nvSpPr>
        <p:spPr>
          <a:xfrm>
            <a:off x="4952160" y="2475000"/>
            <a:ext cx="1047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Times New Roman"/>
              </a:rPr>
              <a:t>Vasodilat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Times New Roman"/>
              </a:rPr>
              <a:t>vas affer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2" name=""/>
          <p:cNvSpPr/>
          <p:nvPr/>
        </p:nvSpPr>
        <p:spPr>
          <a:xfrm>
            <a:off x="5456160" y="2938320"/>
            <a:ext cx="214560" cy="20484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3" name=""/>
          <p:cNvSpPr/>
          <p:nvPr/>
        </p:nvSpPr>
        <p:spPr>
          <a:xfrm>
            <a:off x="6223320" y="3306600"/>
            <a:ext cx="20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Times New Roman"/>
              </a:rPr>
              <a:t>Vzestup glomerulární filtr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4" name=""/>
          <p:cNvSpPr/>
          <p:nvPr/>
        </p:nvSpPr>
        <p:spPr>
          <a:xfrm>
            <a:off x="6072120" y="3308400"/>
            <a:ext cx="214560" cy="20484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5" name=""/>
          <p:cNvSpPr/>
          <p:nvPr/>
        </p:nvSpPr>
        <p:spPr>
          <a:xfrm>
            <a:off x="0" y="3873600"/>
            <a:ext cx="2463840" cy="468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Tonus glomerulárních arteri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Tubuloglomerulární zpětná vazb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6" name=""/>
          <p:cNvSpPr/>
          <p:nvPr/>
        </p:nvSpPr>
        <p:spPr>
          <a:xfrm>
            <a:off x="0" y="6026040"/>
            <a:ext cx="3201840" cy="4701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Sekrece renin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Adaptace tubuloglomerulární zpětné vazb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7" name=""/>
          <p:cNvSpPr/>
          <p:nvPr/>
        </p:nvSpPr>
        <p:spPr>
          <a:xfrm>
            <a:off x="333360" y="4838760"/>
            <a:ext cx="1652760" cy="7095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Times New Roman"/>
              </a:rPr>
              <a:t>Juxtaglomerulární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Times New Roman"/>
              </a:rPr>
              <a:t>apará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8" name=""/>
          <p:cNvSpPr/>
          <p:nvPr/>
        </p:nvSpPr>
        <p:spPr>
          <a:xfrm>
            <a:off x="-1440" y="3543480"/>
            <a:ext cx="246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Rychlá odezva (minuty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9" name=""/>
          <p:cNvSpPr/>
          <p:nvPr/>
        </p:nvSpPr>
        <p:spPr>
          <a:xfrm>
            <a:off x="-1080" y="6491160"/>
            <a:ext cx="290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Pomalá odezva (hodiny-dny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0" name=""/>
          <p:cNvSpPr/>
          <p:nvPr/>
        </p:nvSpPr>
        <p:spPr>
          <a:xfrm flipH="1">
            <a:off x="1206000" y="5559480"/>
            <a:ext cx="1800" cy="49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1" name=""/>
          <p:cNvSpPr/>
          <p:nvPr/>
        </p:nvSpPr>
        <p:spPr>
          <a:xfrm flipH="1" flipV="1">
            <a:off x="1182240" y="4335120"/>
            <a:ext cx="1800" cy="509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2" name=""/>
          <p:cNvSpPr/>
          <p:nvPr/>
        </p:nvSpPr>
        <p:spPr>
          <a:xfrm>
            <a:off x="5608800" y="69840"/>
            <a:ext cx="1440" cy="18939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3" name=""/>
          <p:cNvSpPr/>
          <p:nvPr/>
        </p:nvSpPr>
        <p:spPr>
          <a:xfrm>
            <a:off x="5607000" y="1969920"/>
            <a:ext cx="3537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4" name=""/>
          <p:cNvSpPr/>
          <p:nvPr/>
        </p:nvSpPr>
        <p:spPr>
          <a:xfrm>
            <a:off x="3524400" y="6342120"/>
            <a:ext cx="344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tranport Na</a:t>
            </a:r>
            <a:r>
              <a:rPr b="0" lang="cs-CZ" sz="1400" spc="-1" strike="noStrike" baseline="4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 a Cl</a:t>
            </a:r>
            <a:r>
              <a:rPr b="0" lang="cs-CZ" sz="1400" spc="-1" strike="noStrike" baseline="40000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do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buněk macula dens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5" name=""/>
          <p:cNvSpPr/>
          <p:nvPr/>
        </p:nvSpPr>
        <p:spPr>
          <a:xfrm rot="16200000">
            <a:off x="4642200" y="874080"/>
            <a:ext cx="165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glomerulární filtr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6" name=""/>
          <p:cNvSpPr/>
          <p:nvPr/>
        </p:nvSpPr>
        <p:spPr>
          <a:xfrm>
            <a:off x="6100920" y="419040"/>
            <a:ext cx="1214280" cy="1224000"/>
          </a:xfrm>
          <a:custGeom>
            <a:avLst/>
            <a:gdLst/>
            <a:ahLst/>
            <a:rect l="l" t="t" r="r" b="b"/>
            <a:pathLst>
              <a:path w="765" h="771">
                <a:moveTo>
                  <a:pt x="0" y="0"/>
                </a:moveTo>
                <a:cubicBezTo>
                  <a:pt x="63" y="9"/>
                  <a:pt x="126" y="18"/>
                  <a:pt x="176" y="72"/>
                </a:cubicBezTo>
                <a:cubicBezTo>
                  <a:pt x="226" y="126"/>
                  <a:pt x="263" y="244"/>
                  <a:pt x="300" y="326"/>
                </a:cubicBezTo>
                <a:cubicBezTo>
                  <a:pt x="337" y="408"/>
                  <a:pt x="352" y="496"/>
                  <a:pt x="398" y="564"/>
                </a:cubicBezTo>
                <a:cubicBezTo>
                  <a:pt x="444" y="632"/>
                  <a:pt x="513" y="699"/>
                  <a:pt x="574" y="734"/>
                </a:cubicBezTo>
                <a:cubicBezTo>
                  <a:pt x="635" y="769"/>
                  <a:pt x="725" y="763"/>
                  <a:pt x="765" y="77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7" name=""/>
          <p:cNvSpPr/>
          <p:nvPr/>
        </p:nvSpPr>
        <p:spPr>
          <a:xfrm>
            <a:off x="6093000" y="417600"/>
            <a:ext cx="2207880" cy="706320"/>
          </a:xfrm>
          <a:custGeom>
            <a:avLst/>
            <a:gdLst/>
            <a:ahLst/>
            <a:rect l="l" t="t" r="r" b="b"/>
            <a:pathLst>
              <a:path w="1391" h="445">
                <a:moveTo>
                  <a:pt x="0" y="1"/>
                </a:moveTo>
                <a:cubicBezTo>
                  <a:pt x="18" y="4"/>
                  <a:pt x="47" y="0"/>
                  <a:pt x="108" y="21"/>
                </a:cubicBezTo>
                <a:cubicBezTo>
                  <a:pt x="169" y="42"/>
                  <a:pt x="290" y="80"/>
                  <a:pt x="367" y="125"/>
                </a:cubicBezTo>
                <a:cubicBezTo>
                  <a:pt x="444" y="170"/>
                  <a:pt x="505" y="248"/>
                  <a:pt x="569" y="290"/>
                </a:cubicBezTo>
                <a:cubicBezTo>
                  <a:pt x="633" y="332"/>
                  <a:pt x="688" y="354"/>
                  <a:pt x="750" y="378"/>
                </a:cubicBezTo>
                <a:cubicBezTo>
                  <a:pt x="812" y="402"/>
                  <a:pt x="834" y="425"/>
                  <a:pt x="941" y="435"/>
                </a:cubicBezTo>
                <a:cubicBezTo>
                  <a:pt x="1048" y="445"/>
                  <a:pt x="1297" y="436"/>
                  <a:pt x="1391" y="43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8" name=""/>
          <p:cNvSpPr/>
          <p:nvPr/>
        </p:nvSpPr>
        <p:spPr>
          <a:xfrm>
            <a:off x="6531120" y="879480"/>
            <a:ext cx="123840" cy="114120"/>
          </a:xfrm>
          <a:prstGeom prst="ellipse">
            <a:avLst/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9" name=""/>
          <p:cNvSpPr/>
          <p:nvPr/>
        </p:nvSpPr>
        <p:spPr>
          <a:xfrm>
            <a:off x="7091280" y="888840"/>
            <a:ext cx="123840" cy="114480"/>
          </a:xfrm>
          <a:prstGeom prst="ellipse">
            <a:avLst/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0" name=""/>
          <p:cNvSpPr/>
          <p:nvPr/>
        </p:nvSpPr>
        <p:spPr>
          <a:xfrm>
            <a:off x="7294320" y="1389240"/>
            <a:ext cx="1008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akutní sta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(minut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1" name=""/>
          <p:cNvSpPr/>
          <p:nvPr/>
        </p:nvSpPr>
        <p:spPr>
          <a:xfrm>
            <a:off x="7488360" y="344520"/>
            <a:ext cx="1652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adaptace na zvýšený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transport NaC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(hodiny, dn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2" name=""/>
          <p:cNvSpPr/>
          <p:nvPr/>
        </p:nvSpPr>
        <p:spPr>
          <a:xfrm flipH="1">
            <a:off x="6667200" y="942840"/>
            <a:ext cx="3934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3" name=""/>
          <p:cNvSpPr/>
          <p:nvPr/>
        </p:nvSpPr>
        <p:spPr>
          <a:xfrm>
            <a:off x="5616720" y="949320"/>
            <a:ext cx="89352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4" name=""/>
          <p:cNvSpPr/>
          <p:nvPr/>
        </p:nvSpPr>
        <p:spPr>
          <a:xfrm>
            <a:off x="5775480" y="693720"/>
            <a:ext cx="682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nor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5" name=""/>
          <p:cNvSpPr/>
          <p:nvPr/>
        </p:nvSpPr>
        <p:spPr>
          <a:xfrm>
            <a:off x="3538440" y="4802040"/>
            <a:ext cx="3240" cy="16131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6" name=""/>
          <p:cNvSpPr/>
          <p:nvPr/>
        </p:nvSpPr>
        <p:spPr>
          <a:xfrm>
            <a:off x="3532320" y="6404040"/>
            <a:ext cx="2700360" cy="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7" name=""/>
          <p:cNvSpPr/>
          <p:nvPr/>
        </p:nvSpPr>
        <p:spPr>
          <a:xfrm rot="16137600">
            <a:off x="2793240" y="5326560"/>
            <a:ext cx="1220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sekrece renin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8" name=""/>
          <p:cNvSpPr/>
          <p:nvPr/>
        </p:nvSpPr>
        <p:spPr>
          <a:xfrm>
            <a:off x="3627360" y="4878360"/>
            <a:ext cx="2406600" cy="1487520"/>
          </a:xfrm>
          <a:custGeom>
            <a:avLst/>
            <a:gdLst/>
            <a:ahLst/>
            <a:rect l="l" t="t" r="r" b="b"/>
            <a:pathLst>
              <a:path w="1361" h="937">
                <a:moveTo>
                  <a:pt x="0" y="0"/>
                </a:moveTo>
                <a:cubicBezTo>
                  <a:pt x="10" y="137"/>
                  <a:pt x="21" y="274"/>
                  <a:pt x="52" y="383"/>
                </a:cubicBezTo>
                <a:cubicBezTo>
                  <a:pt x="83" y="492"/>
                  <a:pt x="125" y="587"/>
                  <a:pt x="187" y="657"/>
                </a:cubicBezTo>
                <a:cubicBezTo>
                  <a:pt x="249" y="727"/>
                  <a:pt x="334" y="766"/>
                  <a:pt x="425" y="802"/>
                </a:cubicBezTo>
                <a:cubicBezTo>
                  <a:pt x="516" y="838"/>
                  <a:pt x="579" y="853"/>
                  <a:pt x="735" y="875"/>
                </a:cubicBezTo>
                <a:cubicBezTo>
                  <a:pt x="891" y="897"/>
                  <a:pt x="1126" y="917"/>
                  <a:pt x="1361" y="937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9" name=""/>
          <p:cNvSpPr/>
          <p:nvPr/>
        </p:nvSpPr>
        <p:spPr>
          <a:xfrm>
            <a:off x="5702400" y="1924200"/>
            <a:ext cx="344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tranport Na</a:t>
            </a:r>
            <a:r>
              <a:rPr b="0" lang="cs-CZ" sz="1400" spc="-1" strike="noStrike" baseline="4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 a Cl</a:t>
            </a:r>
            <a:r>
              <a:rPr b="0" lang="cs-CZ" sz="1400" spc="-1" strike="noStrike" baseline="40000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do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buněk macula dens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0" name=""/>
          <p:cNvSpPr/>
          <p:nvPr/>
        </p:nvSpPr>
        <p:spPr>
          <a:xfrm>
            <a:off x="4695840" y="1460520"/>
            <a:ext cx="206280" cy="728640"/>
          </a:xfrm>
          <a:prstGeom prst="downArrow">
            <a:avLst>
              <a:gd name="adj1" fmla="val 50000"/>
              <a:gd name="adj2" fmla="val 8830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1" name=""/>
          <p:cNvSpPr/>
          <p:nvPr/>
        </p:nvSpPr>
        <p:spPr>
          <a:xfrm>
            <a:off x="5016600" y="1515960"/>
            <a:ext cx="182520" cy="540000"/>
          </a:xfrm>
          <a:prstGeom prst="downArrow">
            <a:avLst>
              <a:gd name="adj1" fmla="val 50000"/>
              <a:gd name="adj2" fmla="val 73964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2" name=""/>
          <p:cNvSpPr/>
          <p:nvPr/>
        </p:nvSpPr>
        <p:spPr>
          <a:xfrm>
            <a:off x="5327640" y="1481040"/>
            <a:ext cx="130320" cy="408240"/>
          </a:xfrm>
          <a:prstGeom prst="downArrow">
            <a:avLst>
              <a:gd name="adj1" fmla="val 50000"/>
              <a:gd name="adj2" fmla="val 78315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3" name=""/>
          <p:cNvSpPr/>
          <p:nvPr/>
        </p:nvSpPr>
        <p:spPr>
          <a:xfrm>
            <a:off x="5632560" y="1449360"/>
            <a:ext cx="117360" cy="339840"/>
          </a:xfrm>
          <a:prstGeom prst="downArrow">
            <a:avLst>
              <a:gd name="adj1" fmla="val 50000"/>
              <a:gd name="adj2" fmla="val 72393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4" name=""/>
          <p:cNvSpPr/>
          <p:nvPr/>
        </p:nvSpPr>
        <p:spPr>
          <a:xfrm>
            <a:off x="6118200" y="884160"/>
            <a:ext cx="704880" cy="3682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5" name=""/>
          <p:cNvSpPr/>
          <p:nvPr/>
        </p:nvSpPr>
        <p:spPr>
          <a:xfrm>
            <a:off x="3646440" y="801720"/>
            <a:ext cx="706320" cy="501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6" name=""/>
          <p:cNvSpPr/>
          <p:nvPr/>
        </p:nvSpPr>
        <p:spPr>
          <a:xfrm>
            <a:off x="4264200" y="585720"/>
            <a:ext cx="1930320" cy="938160"/>
          </a:xfrm>
          <a:custGeom>
            <a:avLst/>
            <a:gdLst/>
            <a:ahLst/>
            <a:rect l="l" t="t" r="r" b="b"/>
            <a:pathLst>
              <a:path w="1543" h="856">
                <a:moveTo>
                  <a:pt x="33" y="547"/>
                </a:moveTo>
                <a:cubicBezTo>
                  <a:pt x="28" y="496"/>
                  <a:pt x="0" y="371"/>
                  <a:pt x="39" y="298"/>
                </a:cubicBezTo>
                <a:cubicBezTo>
                  <a:pt x="78" y="225"/>
                  <a:pt x="177" y="153"/>
                  <a:pt x="266" y="107"/>
                </a:cubicBezTo>
                <a:cubicBezTo>
                  <a:pt x="355" y="61"/>
                  <a:pt x="475" y="36"/>
                  <a:pt x="571" y="19"/>
                </a:cubicBezTo>
                <a:cubicBezTo>
                  <a:pt x="667" y="2"/>
                  <a:pt x="752" y="0"/>
                  <a:pt x="840" y="4"/>
                </a:cubicBezTo>
                <a:cubicBezTo>
                  <a:pt x="928" y="8"/>
                  <a:pt x="1030" y="27"/>
                  <a:pt x="1099" y="45"/>
                </a:cubicBezTo>
                <a:cubicBezTo>
                  <a:pt x="1168" y="63"/>
                  <a:pt x="1187" y="66"/>
                  <a:pt x="1254" y="112"/>
                </a:cubicBezTo>
                <a:cubicBezTo>
                  <a:pt x="1321" y="158"/>
                  <a:pt x="1461" y="253"/>
                  <a:pt x="1502" y="319"/>
                </a:cubicBezTo>
                <a:cubicBezTo>
                  <a:pt x="1543" y="385"/>
                  <a:pt x="1532" y="445"/>
                  <a:pt x="1502" y="510"/>
                </a:cubicBezTo>
                <a:cubicBezTo>
                  <a:pt x="1472" y="575"/>
                  <a:pt x="1399" y="655"/>
                  <a:pt x="1321" y="707"/>
                </a:cubicBezTo>
                <a:cubicBezTo>
                  <a:pt x="1243" y="759"/>
                  <a:pt x="1147" y="797"/>
                  <a:pt x="1032" y="821"/>
                </a:cubicBezTo>
                <a:cubicBezTo>
                  <a:pt x="917" y="845"/>
                  <a:pt x="741" y="856"/>
                  <a:pt x="633" y="852"/>
                </a:cubicBezTo>
                <a:cubicBezTo>
                  <a:pt x="525" y="848"/>
                  <a:pt x="479" y="836"/>
                  <a:pt x="385" y="795"/>
                </a:cubicBezTo>
                <a:cubicBezTo>
                  <a:pt x="291" y="754"/>
                  <a:pt x="131" y="646"/>
                  <a:pt x="70" y="604"/>
                </a:cubicBezTo>
                <a:cubicBezTo>
                  <a:pt x="9" y="562"/>
                  <a:pt x="38" y="598"/>
                  <a:pt x="33" y="547"/>
                </a:cubicBezTo>
                <a:close/>
              </a:path>
            </a:pathLst>
          </a:custGeom>
          <a:gradFill rotWithShape="0">
            <a:gsLst>
              <a:gs pos="0">
                <a:srgbClr val="808080"/>
              </a:gs>
              <a:gs pos="100000">
                <a:srgbClr val="ffff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7" name=""/>
          <p:cNvSpPr/>
          <p:nvPr/>
        </p:nvSpPr>
        <p:spPr>
          <a:xfrm>
            <a:off x="3619440" y="642960"/>
            <a:ext cx="1117800" cy="276120"/>
          </a:xfrm>
          <a:custGeom>
            <a:avLst/>
            <a:gdLst/>
            <a:ahLst/>
            <a:rect l="l" t="t" r="r" b="b"/>
            <a:pathLst>
              <a:path w="893" h="257">
                <a:moveTo>
                  <a:pt x="10" y="160"/>
                </a:moveTo>
                <a:cubicBezTo>
                  <a:pt x="80" y="167"/>
                  <a:pt x="345" y="162"/>
                  <a:pt x="429" y="165"/>
                </a:cubicBezTo>
                <a:cubicBezTo>
                  <a:pt x="513" y="168"/>
                  <a:pt x="492" y="165"/>
                  <a:pt x="512" y="180"/>
                </a:cubicBezTo>
                <a:cubicBezTo>
                  <a:pt x="532" y="195"/>
                  <a:pt x="536" y="249"/>
                  <a:pt x="548" y="253"/>
                </a:cubicBezTo>
                <a:cubicBezTo>
                  <a:pt x="560" y="257"/>
                  <a:pt x="565" y="227"/>
                  <a:pt x="584" y="207"/>
                </a:cubicBezTo>
                <a:cubicBezTo>
                  <a:pt x="603" y="187"/>
                  <a:pt x="635" y="155"/>
                  <a:pt x="662" y="134"/>
                </a:cubicBezTo>
                <a:cubicBezTo>
                  <a:pt x="689" y="113"/>
                  <a:pt x="723" y="96"/>
                  <a:pt x="745" y="82"/>
                </a:cubicBezTo>
                <a:cubicBezTo>
                  <a:pt x="767" y="68"/>
                  <a:pt x="772" y="64"/>
                  <a:pt x="796" y="51"/>
                </a:cubicBezTo>
                <a:cubicBezTo>
                  <a:pt x="820" y="38"/>
                  <a:pt x="893" y="8"/>
                  <a:pt x="890" y="4"/>
                </a:cubicBezTo>
                <a:cubicBezTo>
                  <a:pt x="887" y="0"/>
                  <a:pt x="814" y="14"/>
                  <a:pt x="781" y="25"/>
                </a:cubicBezTo>
                <a:cubicBezTo>
                  <a:pt x="748" y="36"/>
                  <a:pt x="729" y="56"/>
                  <a:pt x="693" y="72"/>
                </a:cubicBezTo>
                <a:cubicBezTo>
                  <a:pt x="657" y="88"/>
                  <a:pt x="678" y="115"/>
                  <a:pt x="564" y="123"/>
                </a:cubicBezTo>
                <a:cubicBezTo>
                  <a:pt x="450" y="131"/>
                  <a:pt x="103" y="118"/>
                  <a:pt x="10" y="123"/>
                </a:cubicBezTo>
                <a:cubicBezTo>
                  <a:pt x="0" y="222"/>
                  <a:pt x="31" y="87"/>
                  <a:pt x="10" y="160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8" name=""/>
          <p:cNvSpPr/>
          <p:nvPr/>
        </p:nvSpPr>
        <p:spPr>
          <a:xfrm>
            <a:off x="4840200" y="577800"/>
            <a:ext cx="184320" cy="50760"/>
          </a:xfrm>
          <a:custGeom>
            <a:avLst/>
            <a:gdLst/>
            <a:ahLst/>
            <a:rect l="l" t="t" r="r" b="b"/>
            <a:pathLst>
              <a:path w="147" h="40">
                <a:moveTo>
                  <a:pt x="1" y="36"/>
                </a:moveTo>
                <a:cubicBezTo>
                  <a:pt x="0" y="40"/>
                  <a:pt x="55" y="36"/>
                  <a:pt x="79" y="31"/>
                </a:cubicBezTo>
                <a:cubicBezTo>
                  <a:pt x="103" y="26"/>
                  <a:pt x="145" y="9"/>
                  <a:pt x="146" y="5"/>
                </a:cubicBezTo>
                <a:cubicBezTo>
                  <a:pt x="147" y="1"/>
                  <a:pt x="108" y="0"/>
                  <a:pt x="84" y="5"/>
                </a:cubicBezTo>
                <a:cubicBezTo>
                  <a:pt x="60" y="10"/>
                  <a:pt x="18" y="30"/>
                  <a:pt x="1" y="36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9" name=""/>
          <p:cNvSpPr/>
          <p:nvPr/>
        </p:nvSpPr>
        <p:spPr>
          <a:xfrm>
            <a:off x="5427720" y="587520"/>
            <a:ext cx="195120" cy="50760"/>
          </a:xfrm>
          <a:custGeom>
            <a:avLst/>
            <a:gdLst/>
            <a:ahLst/>
            <a:rect l="l" t="t" r="r" b="b"/>
            <a:pathLst>
              <a:path w="157" h="42">
                <a:moveTo>
                  <a:pt x="1" y="16"/>
                </a:moveTo>
                <a:cubicBezTo>
                  <a:pt x="0" y="21"/>
                  <a:pt x="50" y="30"/>
                  <a:pt x="76" y="33"/>
                </a:cubicBezTo>
                <a:cubicBezTo>
                  <a:pt x="102" y="33"/>
                  <a:pt x="155" y="42"/>
                  <a:pt x="156" y="37"/>
                </a:cubicBezTo>
                <a:cubicBezTo>
                  <a:pt x="157" y="32"/>
                  <a:pt x="107" y="6"/>
                  <a:pt x="81" y="3"/>
                </a:cubicBezTo>
                <a:cubicBezTo>
                  <a:pt x="55" y="0"/>
                  <a:pt x="2" y="11"/>
                  <a:pt x="1" y="16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0" name=""/>
          <p:cNvSpPr/>
          <p:nvPr/>
        </p:nvSpPr>
        <p:spPr>
          <a:xfrm>
            <a:off x="5705640" y="658800"/>
            <a:ext cx="1136520" cy="301680"/>
          </a:xfrm>
          <a:custGeom>
            <a:avLst/>
            <a:gdLst/>
            <a:ahLst/>
            <a:rect l="l" t="t" r="r" b="b"/>
            <a:pathLst>
              <a:path w="716" h="190">
                <a:moveTo>
                  <a:pt x="712" y="140"/>
                </a:moveTo>
                <a:cubicBezTo>
                  <a:pt x="688" y="146"/>
                  <a:pt x="599" y="143"/>
                  <a:pt x="544" y="144"/>
                </a:cubicBezTo>
                <a:cubicBezTo>
                  <a:pt x="492" y="146"/>
                  <a:pt x="431" y="150"/>
                  <a:pt x="395" y="157"/>
                </a:cubicBezTo>
                <a:cubicBezTo>
                  <a:pt x="358" y="163"/>
                  <a:pt x="344" y="177"/>
                  <a:pt x="325" y="181"/>
                </a:cubicBezTo>
                <a:cubicBezTo>
                  <a:pt x="306" y="185"/>
                  <a:pt x="293" y="190"/>
                  <a:pt x="280" y="184"/>
                </a:cubicBezTo>
                <a:cubicBezTo>
                  <a:pt x="267" y="178"/>
                  <a:pt x="260" y="161"/>
                  <a:pt x="244" y="146"/>
                </a:cubicBezTo>
                <a:cubicBezTo>
                  <a:pt x="228" y="131"/>
                  <a:pt x="204" y="110"/>
                  <a:pt x="183" y="96"/>
                </a:cubicBezTo>
                <a:cubicBezTo>
                  <a:pt x="161" y="82"/>
                  <a:pt x="135" y="70"/>
                  <a:pt x="117" y="61"/>
                </a:cubicBezTo>
                <a:cubicBezTo>
                  <a:pt x="100" y="51"/>
                  <a:pt x="95" y="48"/>
                  <a:pt x="77" y="39"/>
                </a:cubicBezTo>
                <a:cubicBezTo>
                  <a:pt x="59" y="31"/>
                  <a:pt x="14" y="12"/>
                  <a:pt x="7" y="6"/>
                </a:cubicBezTo>
                <a:cubicBezTo>
                  <a:pt x="0" y="0"/>
                  <a:pt x="20" y="0"/>
                  <a:pt x="35" y="3"/>
                </a:cubicBezTo>
                <a:cubicBezTo>
                  <a:pt x="50" y="5"/>
                  <a:pt x="76" y="12"/>
                  <a:pt x="97" y="20"/>
                </a:cubicBezTo>
                <a:cubicBezTo>
                  <a:pt x="117" y="29"/>
                  <a:pt x="132" y="42"/>
                  <a:pt x="158" y="54"/>
                </a:cubicBezTo>
                <a:cubicBezTo>
                  <a:pt x="185" y="65"/>
                  <a:pt x="167" y="78"/>
                  <a:pt x="260" y="88"/>
                </a:cubicBezTo>
                <a:cubicBezTo>
                  <a:pt x="353" y="99"/>
                  <a:pt x="640" y="106"/>
                  <a:pt x="716" y="115"/>
                </a:cubicBezTo>
                <a:cubicBezTo>
                  <a:pt x="712" y="168"/>
                  <a:pt x="716" y="112"/>
                  <a:pt x="712" y="140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1" name=""/>
          <p:cNvSpPr/>
          <p:nvPr/>
        </p:nvSpPr>
        <p:spPr>
          <a:xfrm>
            <a:off x="3606840" y="1168560"/>
            <a:ext cx="1139760" cy="1117440"/>
          </a:xfrm>
          <a:custGeom>
            <a:avLst/>
            <a:gdLst/>
            <a:ahLst/>
            <a:rect l="l" t="t" r="r" b="b"/>
            <a:pathLst>
              <a:path w="911" h="1038">
                <a:moveTo>
                  <a:pt x="0" y="117"/>
                </a:moveTo>
                <a:cubicBezTo>
                  <a:pt x="70" y="112"/>
                  <a:pt x="351" y="114"/>
                  <a:pt x="438" y="107"/>
                </a:cubicBezTo>
                <a:cubicBezTo>
                  <a:pt x="525" y="100"/>
                  <a:pt x="501" y="94"/>
                  <a:pt x="521" y="77"/>
                </a:cubicBezTo>
                <a:cubicBezTo>
                  <a:pt x="541" y="60"/>
                  <a:pt x="545" y="8"/>
                  <a:pt x="557" y="4"/>
                </a:cubicBezTo>
                <a:cubicBezTo>
                  <a:pt x="569" y="0"/>
                  <a:pt x="574" y="30"/>
                  <a:pt x="593" y="50"/>
                </a:cubicBezTo>
                <a:cubicBezTo>
                  <a:pt x="612" y="70"/>
                  <a:pt x="644" y="102"/>
                  <a:pt x="671" y="123"/>
                </a:cubicBezTo>
                <a:cubicBezTo>
                  <a:pt x="698" y="144"/>
                  <a:pt x="733" y="159"/>
                  <a:pt x="754" y="175"/>
                </a:cubicBezTo>
                <a:cubicBezTo>
                  <a:pt x="775" y="191"/>
                  <a:pt x="773" y="206"/>
                  <a:pt x="797" y="219"/>
                </a:cubicBezTo>
                <a:cubicBezTo>
                  <a:pt x="821" y="232"/>
                  <a:pt x="911" y="256"/>
                  <a:pt x="899" y="253"/>
                </a:cubicBezTo>
                <a:cubicBezTo>
                  <a:pt x="887" y="250"/>
                  <a:pt x="736" y="176"/>
                  <a:pt x="725" y="203"/>
                </a:cubicBezTo>
                <a:cubicBezTo>
                  <a:pt x="714" y="230"/>
                  <a:pt x="811" y="353"/>
                  <a:pt x="834" y="415"/>
                </a:cubicBezTo>
                <a:cubicBezTo>
                  <a:pt x="857" y="477"/>
                  <a:pt x="859" y="530"/>
                  <a:pt x="865" y="576"/>
                </a:cubicBezTo>
                <a:cubicBezTo>
                  <a:pt x="871" y="622"/>
                  <a:pt x="869" y="632"/>
                  <a:pt x="870" y="689"/>
                </a:cubicBezTo>
                <a:cubicBezTo>
                  <a:pt x="871" y="746"/>
                  <a:pt x="870" y="859"/>
                  <a:pt x="870" y="917"/>
                </a:cubicBezTo>
                <a:cubicBezTo>
                  <a:pt x="870" y="975"/>
                  <a:pt x="874" y="1038"/>
                  <a:pt x="870" y="1036"/>
                </a:cubicBezTo>
                <a:cubicBezTo>
                  <a:pt x="866" y="1034"/>
                  <a:pt x="848" y="987"/>
                  <a:pt x="844" y="907"/>
                </a:cubicBezTo>
                <a:cubicBezTo>
                  <a:pt x="840" y="827"/>
                  <a:pt x="854" y="650"/>
                  <a:pt x="844" y="555"/>
                </a:cubicBezTo>
                <a:cubicBezTo>
                  <a:pt x="834" y="460"/>
                  <a:pt x="804" y="392"/>
                  <a:pt x="782" y="338"/>
                </a:cubicBezTo>
                <a:cubicBezTo>
                  <a:pt x="760" y="284"/>
                  <a:pt x="743" y="260"/>
                  <a:pt x="709" y="229"/>
                </a:cubicBezTo>
                <a:cubicBezTo>
                  <a:pt x="675" y="198"/>
                  <a:pt x="698" y="162"/>
                  <a:pt x="580" y="151"/>
                </a:cubicBezTo>
                <a:cubicBezTo>
                  <a:pt x="462" y="140"/>
                  <a:pt x="98" y="168"/>
                  <a:pt x="1" y="162"/>
                </a:cubicBezTo>
                <a:cubicBezTo>
                  <a:pt x="4" y="108"/>
                  <a:pt x="3" y="183"/>
                  <a:pt x="0" y="117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2" name=""/>
          <p:cNvSpPr/>
          <p:nvPr/>
        </p:nvSpPr>
        <p:spPr>
          <a:xfrm flipV="1">
            <a:off x="4838760" y="1456560"/>
            <a:ext cx="183960" cy="50760"/>
          </a:xfrm>
          <a:custGeom>
            <a:avLst/>
            <a:gdLst/>
            <a:ahLst/>
            <a:rect l="l" t="t" r="r" b="b"/>
            <a:pathLst>
              <a:path w="147" h="40">
                <a:moveTo>
                  <a:pt x="1" y="36"/>
                </a:moveTo>
                <a:cubicBezTo>
                  <a:pt x="0" y="40"/>
                  <a:pt x="55" y="36"/>
                  <a:pt x="79" y="31"/>
                </a:cubicBezTo>
                <a:cubicBezTo>
                  <a:pt x="103" y="26"/>
                  <a:pt x="145" y="9"/>
                  <a:pt x="146" y="5"/>
                </a:cubicBezTo>
                <a:cubicBezTo>
                  <a:pt x="147" y="1"/>
                  <a:pt x="108" y="0"/>
                  <a:pt x="84" y="5"/>
                </a:cubicBezTo>
                <a:cubicBezTo>
                  <a:pt x="60" y="10"/>
                  <a:pt x="18" y="30"/>
                  <a:pt x="1" y="36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3" name=""/>
          <p:cNvSpPr/>
          <p:nvPr/>
        </p:nvSpPr>
        <p:spPr>
          <a:xfrm flipV="1">
            <a:off x="5118120" y="1477800"/>
            <a:ext cx="196920" cy="51120"/>
          </a:xfrm>
          <a:custGeom>
            <a:avLst/>
            <a:gdLst/>
            <a:ahLst/>
            <a:rect l="l" t="t" r="r" b="b"/>
            <a:pathLst>
              <a:path w="157" h="42">
                <a:moveTo>
                  <a:pt x="1" y="16"/>
                </a:moveTo>
                <a:cubicBezTo>
                  <a:pt x="0" y="21"/>
                  <a:pt x="50" y="30"/>
                  <a:pt x="76" y="33"/>
                </a:cubicBezTo>
                <a:cubicBezTo>
                  <a:pt x="102" y="33"/>
                  <a:pt x="155" y="42"/>
                  <a:pt x="156" y="37"/>
                </a:cubicBezTo>
                <a:cubicBezTo>
                  <a:pt x="157" y="32"/>
                  <a:pt x="107" y="6"/>
                  <a:pt x="81" y="3"/>
                </a:cubicBezTo>
                <a:cubicBezTo>
                  <a:pt x="55" y="0"/>
                  <a:pt x="2" y="11"/>
                  <a:pt x="1" y="16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4" name=""/>
          <p:cNvSpPr/>
          <p:nvPr/>
        </p:nvSpPr>
        <p:spPr>
          <a:xfrm flipV="1">
            <a:off x="5425920" y="1447200"/>
            <a:ext cx="196920" cy="50760"/>
          </a:xfrm>
          <a:custGeom>
            <a:avLst/>
            <a:gdLst/>
            <a:ahLst/>
            <a:rect l="l" t="t" r="r" b="b"/>
            <a:pathLst>
              <a:path w="157" h="42">
                <a:moveTo>
                  <a:pt x="1" y="16"/>
                </a:moveTo>
                <a:cubicBezTo>
                  <a:pt x="0" y="21"/>
                  <a:pt x="50" y="30"/>
                  <a:pt x="76" y="33"/>
                </a:cubicBezTo>
                <a:cubicBezTo>
                  <a:pt x="102" y="33"/>
                  <a:pt x="155" y="42"/>
                  <a:pt x="156" y="37"/>
                </a:cubicBezTo>
                <a:cubicBezTo>
                  <a:pt x="157" y="32"/>
                  <a:pt x="107" y="6"/>
                  <a:pt x="81" y="3"/>
                </a:cubicBezTo>
                <a:cubicBezTo>
                  <a:pt x="55" y="0"/>
                  <a:pt x="2" y="11"/>
                  <a:pt x="1" y="16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5" name=""/>
          <p:cNvSpPr/>
          <p:nvPr/>
        </p:nvSpPr>
        <p:spPr>
          <a:xfrm>
            <a:off x="5735520" y="1127160"/>
            <a:ext cx="1104840" cy="1219320"/>
          </a:xfrm>
          <a:custGeom>
            <a:avLst/>
            <a:gdLst/>
            <a:ahLst/>
            <a:rect l="l" t="t" r="r" b="b"/>
            <a:pathLst>
              <a:path w="696" h="768">
                <a:moveTo>
                  <a:pt x="692" y="49"/>
                </a:moveTo>
                <a:cubicBezTo>
                  <a:pt x="668" y="44"/>
                  <a:pt x="579" y="46"/>
                  <a:pt x="524" y="46"/>
                </a:cubicBezTo>
                <a:cubicBezTo>
                  <a:pt x="471" y="44"/>
                  <a:pt x="408" y="44"/>
                  <a:pt x="372" y="37"/>
                </a:cubicBezTo>
                <a:cubicBezTo>
                  <a:pt x="335" y="31"/>
                  <a:pt x="323" y="10"/>
                  <a:pt x="306" y="6"/>
                </a:cubicBezTo>
                <a:cubicBezTo>
                  <a:pt x="289" y="2"/>
                  <a:pt x="278" y="11"/>
                  <a:pt x="271" y="11"/>
                </a:cubicBezTo>
                <a:cubicBezTo>
                  <a:pt x="264" y="11"/>
                  <a:pt x="273" y="0"/>
                  <a:pt x="265" y="5"/>
                </a:cubicBezTo>
                <a:cubicBezTo>
                  <a:pt x="257" y="10"/>
                  <a:pt x="241" y="29"/>
                  <a:pt x="224" y="44"/>
                </a:cubicBezTo>
                <a:cubicBezTo>
                  <a:pt x="207" y="59"/>
                  <a:pt x="181" y="80"/>
                  <a:pt x="163" y="93"/>
                </a:cubicBezTo>
                <a:cubicBezTo>
                  <a:pt x="145" y="106"/>
                  <a:pt x="131" y="111"/>
                  <a:pt x="115" y="122"/>
                </a:cubicBezTo>
                <a:cubicBezTo>
                  <a:pt x="99" y="132"/>
                  <a:pt x="84" y="148"/>
                  <a:pt x="66" y="160"/>
                </a:cubicBezTo>
                <a:cubicBezTo>
                  <a:pt x="48" y="172"/>
                  <a:pt x="0" y="195"/>
                  <a:pt x="6" y="195"/>
                </a:cubicBezTo>
                <a:cubicBezTo>
                  <a:pt x="11" y="195"/>
                  <a:pt x="76" y="168"/>
                  <a:pt x="99" y="160"/>
                </a:cubicBezTo>
                <a:cubicBezTo>
                  <a:pt x="122" y="152"/>
                  <a:pt x="146" y="132"/>
                  <a:pt x="143" y="146"/>
                </a:cubicBezTo>
                <a:cubicBezTo>
                  <a:pt x="141" y="160"/>
                  <a:pt x="99" y="216"/>
                  <a:pt x="87" y="248"/>
                </a:cubicBezTo>
                <a:cubicBezTo>
                  <a:pt x="74" y="280"/>
                  <a:pt x="72" y="306"/>
                  <a:pt x="66" y="336"/>
                </a:cubicBezTo>
                <a:cubicBezTo>
                  <a:pt x="61" y="366"/>
                  <a:pt x="57" y="377"/>
                  <a:pt x="54" y="427"/>
                </a:cubicBezTo>
                <a:cubicBezTo>
                  <a:pt x="51" y="476"/>
                  <a:pt x="46" y="583"/>
                  <a:pt x="46" y="634"/>
                </a:cubicBezTo>
                <a:cubicBezTo>
                  <a:pt x="45" y="685"/>
                  <a:pt x="46" y="713"/>
                  <a:pt x="50" y="732"/>
                </a:cubicBezTo>
                <a:cubicBezTo>
                  <a:pt x="54" y="751"/>
                  <a:pt x="67" y="768"/>
                  <a:pt x="70" y="750"/>
                </a:cubicBezTo>
                <a:cubicBezTo>
                  <a:pt x="73" y="731"/>
                  <a:pt x="68" y="672"/>
                  <a:pt x="70" y="624"/>
                </a:cubicBezTo>
                <a:cubicBezTo>
                  <a:pt x="72" y="575"/>
                  <a:pt x="76" y="503"/>
                  <a:pt x="79" y="455"/>
                </a:cubicBezTo>
                <a:cubicBezTo>
                  <a:pt x="81" y="407"/>
                  <a:pt x="76" y="373"/>
                  <a:pt x="83" y="336"/>
                </a:cubicBezTo>
                <a:cubicBezTo>
                  <a:pt x="89" y="299"/>
                  <a:pt x="89" y="269"/>
                  <a:pt x="115" y="230"/>
                </a:cubicBezTo>
                <a:cubicBezTo>
                  <a:pt x="141" y="191"/>
                  <a:pt x="143" y="126"/>
                  <a:pt x="240" y="101"/>
                </a:cubicBezTo>
                <a:cubicBezTo>
                  <a:pt x="337" y="75"/>
                  <a:pt x="620" y="83"/>
                  <a:pt x="696" y="74"/>
                </a:cubicBezTo>
                <a:cubicBezTo>
                  <a:pt x="692" y="21"/>
                  <a:pt x="696" y="77"/>
                  <a:pt x="692" y="49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6" name=""/>
          <p:cNvSpPr/>
          <p:nvPr/>
        </p:nvSpPr>
        <p:spPr>
          <a:xfrm>
            <a:off x="5124600" y="554040"/>
            <a:ext cx="210960" cy="52560"/>
          </a:xfrm>
          <a:custGeom>
            <a:avLst/>
            <a:gdLst/>
            <a:ahLst/>
            <a:rect l="l" t="t" r="r" b="b"/>
            <a:pathLst>
              <a:path w="169" h="49">
                <a:moveTo>
                  <a:pt x="1" y="27"/>
                </a:moveTo>
                <a:cubicBezTo>
                  <a:pt x="0" y="20"/>
                  <a:pt x="48" y="0"/>
                  <a:pt x="76" y="2"/>
                </a:cubicBezTo>
                <a:cubicBezTo>
                  <a:pt x="104" y="4"/>
                  <a:pt x="167" y="31"/>
                  <a:pt x="168" y="38"/>
                </a:cubicBezTo>
                <a:cubicBezTo>
                  <a:pt x="169" y="45"/>
                  <a:pt x="109" y="49"/>
                  <a:pt x="81" y="47"/>
                </a:cubicBezTo>
                <a:cubicBezTo>
                  <a:pt x="53" y="45"/>
                  <a:pt x="2" y="35"/>
                  <a:pt x="1" y="27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7" name=""/>
          <p:cNvSpPr/>
          <p:nvPr/>
        </p:nvSpPr>
        <p:spPr>
          <a:xfrm>
            <a:off x="4778280" y="3513240"/>
            <a:ext cx="206640" cy="728640"/>
          </a:xfrm>
          <a:prstGeom prst="downArrow">
            <a:avLst>
              <a:gd name="adj1" fmla="val 50000"/>
              <a:gd name="adj2" fmla="val 88153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8" name=""/>
          <p:cNvSpPr/>
          <p:nvPr/>
        </p:nvSpPr>
        <p:spPr>
          <a:xfrm>
            <a:off x="5099040" y="3568680"/>
            <a:ext cx="182520" cy="539640"/>
          </a:xfrm>
          <a:prstGeom prst="downArrow">
            <a:avLst>
              <a:gd name="adj1" fmla="val 50000"/>
              <a:gd name="adj2" fmla="val 73915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9" name=""/>
          <p:cNvSpPr/>
          <p:nvPr/>
        </p:nvSpPr>
        <p:spPr>
          <a:xfrm>
            <a:off x="5410080" y="3533760"/>
            <a:ext cx="130320" cy="407880"/>
          </a:xfrm>
          <a:prstGeom prst="downArrow">
            <a:avLst>
              <a:gd name="adj1" fmla="val 50000"/>
              <a:gd name="adj2" fmla="val 78246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0" name=""/>
          <p:cNvSpPr/>
          <p:nvPr/>
        </p:nvSpPr>
        <p:spPr>
          <a:xfrm>
            <a:off x="5715000" y="3502080"/>
            <a:ext cx="117360" cy="339840"/>
          </a:xfrm>
          <a:prstGeom prst="downArrow">
            <a:avLst>
              <a:gd name="adj1" fmla="val 50000"/>
              <a:gd name="adj2" fmla="val 72393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1" name=""/>
          <p:cNvSpPr/>
          <p:nvPr/>
        </p:nvSpPr>
        <p:spPr>
          <a:xfrm>
            <a:off x="6200640" y="2936880"/>
            <a:ext cx="704880" cy="3682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2" name=""/>
          <p:cNvSpPr/>
          <p:nvPr/>
        </p:nvSpPr>
        <p:spPr>
          <a:xfrm>
            <a:off x="3728880" y="2854440"/>
            <a:ext cx="706680" cy="501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3" name=""/>
          <p:cNvSpPr/>
          <p:nvPr/>
        </p:nvSpPr>
        <p:spPr>
          <a:xfrm>
            <a:off x="4348080" y="2638440"/>
            <a:ext cx="1930320" cy="938160"/>
          </a:xfrm>
          <a:custGeom>
            <a:avLst/>
            <a:gdLst/>
            <a:ahLst/>
            <a:rect l="l" t="t" r="r" b="b"/>
            <a:pathLst>
              <a:path w="1543" h="856">
                <a:moveTo>
                  <a:pt x="33" y="547"/>
                </a:moveTo>
                <a:cubicBezTo>
                  <a:pt x="28" y="496"/>
                  <a:pt x="0" y="371"/>
                  <a:pt x="39" y="298"/>
                </a:cubicBezTo>
                <a:cubicBezTo>
                  <a:pt x="78" y="225"/>
                  <a:pt x="177" y="153"/>
                  <a:pt x="266" y="107"/>
                </a:cubicBezTo>
                <a:cubicBezTo>
                  <a:pt x="355" y="61"/>
                  <a:pt x="475" y="36"/>
                  <a:pt x="571" y="19"/>
                </a:cubicBezTo>
                <a:cubicBezTo>
                  <a:pt x="667" y="2"/>
                  <a:pt x="752" y="0"/>
                  <a:pt x="840" y="4"/>
                </a:cubicBezTo>
                <a:cubicBezTo>
                  <a:pt x="928" y="8"/>
                  <a:pt x="1030" y="27"/>
                  <a:pt x="1099" y="45"/>
                </a:cubicBezTo>
                <a:cubicBezTo>
                  <a:pt x="1168" y="63"/>
                  <a:pt x="1187" y="66"/>
                  <a:pt x="1254" y="112"/>
                </a:cubicBezTo>
                <a:cubicBezTo>
                  <a:pt x="1321" y="158"/>
                  <a:pt x="1461" y="253"/>
                  <a:pt x="1502" y="319"/>
                </a:cubicBezTo>
                <a:cubicBezTo>
                  <a:pt x="1543" y="385"/>
                  <a:pt x="1532" y="445"/>
                  <a:pt x="1502" y="510"/>
                </a:cubicBezTo>
                <a:cubicBezTo>
                  <a:pt x="1472" y="575"/>
                  <a:pt x="1399" y="655"/>
                  <a:pt x="1321" y="707"/>
                </a:cubicBezTo>
                <a:cubicBezTo>
                  <a:pt x="1243" y="759"/>
                  <a:pt x="1147" y="797"/>
                  <a:pt x="1032" y="821"/>
                </a:cubicBezTo>
                <a:cubicBezTo>
                  <a:pt x="917" y="845"/>
                  <a:pt x="741" y="856"/>
                  <a:pt x="633" y="852"/>
                </a:cubicBezTo>
                <a:cubicBezTo>
                  <a:pt x="525" y="848"/>
                  <a:pt x="479" y="836"/>
                  <a:pt x="385" y="795"/>
                </a:cubicBezTo>
                <a:cubicBezTo>
                  <a:pt x="291" y="754"/>
                  <a:pt x="131" y="646"/>
                  <a:pt x="70" y="604"/>
                </a:cubicBezTo>
                <a:cubicBezTo>
                  <a:pt x="9" y="562"/>
                  <a:pt x="38" y="598"/>
                  <a:pt x="33" y="547"/>
                </a:cubicBezTo>
                <a:close/>
              </a:path>
            </a:pathLst>
          </a:custGeom>
          <a:gradFill rotWithShape="0">
            <a:gsLst>
              <a:gs pos="0">
                <a:srgbClr val="808080"/>
              </a:gs>
              <a:gs pos="100000">
                <a:srgbClr val="ffff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4" name=""/>
          <p:cNvSpPr/>
          <p:nvPr/>
        </p:nvSpPr>
        <p:spPr>
          <a:xfrm>
            <a:off x="3701880" y="2695680"/>
            <a:ext cx="1117800" cy="276120"/>
          </a:xfrm>
          <a:custGeom>
            <a:avLst/>
            <a:gdLst/>
            <a:ahLst/>
            <a:rect l="l" t="t" r="r" b="b"/>
            <a:pathLst>
              <a:path w="893" h="257">
                <a:moveTo>
                  <a:pt x="10" y="160"/>
                </a:moveTo>
                <a:cubicBezTo>
                  <a:pt x="80" y="167"/>
                  <a:pt x="345" y="162"/>
                  <a:pt x="429" y="165"/>
                </a:cubicBezTo>
                <a:cubicBezTo>
                  <a:pt x="513" y="168"/>
                  <a:pt x="492" y="165"/>
                  <a:pt x="512" y="180"/>
                </a:cubicBezTo>
                <a:cubicBezTo>
                  <a:pt x="532" y="195"/>
                  <a:pt x="536" y="249"/>
                  <a:pt x="548" y="253"/>
                </a:cubicBezTo>
                <a:cubicBezTo>
                  <a:pt x="560" y="257"/>
                  <a:pt x="565" y="227"/>
                  <a:pt x="584" y="207"/>
                </a:cubicBezTo>
                <a:cubicBezTo>
                  <a:pt x="603" y="187"/>
                  <a:pt x="635" y="155"/>
                  <a:pt x="662" y="134"/>
                </a:cubicBezTo>
                <a:cubicBezTo>
                  <a:pt x="689" y="113"/>
                  <a:pt x="723" y="96"/>
                  <a:pt x="745" y="82"/>
                </a:cubicBezTo>
                <a:cubicBezTo>
                  <a:pt x="767" y="68"/>
                  <a:pt x="772" y="64"/>
                  <a:pt x="796" y="51"/>
                </a:cubicBezTo>
                <a:cubicBezTo>
                  <a:pt x="820" y="38"/>
                  <a:pt x="893" y="8"/>
                  <a:pt x="890" y="4"/>
                </a:cubicBezTo>
                <a:cubicBezTo>
                  <a:pt x="887" y="0"/>
                  <a:pt x="814" y="14"/>
                  <a:pt x="781" y="25"/>
                </a:cubicBezTo>
                <a:cubicBezTo>
                  <a:pt x="748" y="36"/>
                  <a:pt x="729" y="56"/>
                  <a:pt x="693" y="72"/>
                </a:cubicBezTo>
                <a:cubicBezTo>
                  <a:pt x="657" y="88"/>
                  <a:pt x="678" y="115"/>
                  <a:pt x="564" y="123"/>
                </a:cubicBezTo>
                <a:cubicBezTo>
                  <a:pt x="450" y="131"/>
                  <a:pt x="103" y="118"/>
                  <a:pt x="10" y="123"/>
                </a:cubicBezTo>
                <a:cubicBezTo>
                  <a:pt x="0" y="222"/>
                  <a:pt x="31" y="87"/>
                  <a:pt x="10" y="160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5" name=""/>
          <p:cNvSpPr/>
          <p:nvPr/>
        </p:nvSpPr>
        <p:spPr>
          <a:xfrm>
            <a:off x="4923000" y="2630520"/>
            <a:ext cx="183960" cy="50760"/>
          </a:xfrm>
          <a:custGeom>
            <a:avLst/>
            <a:gdLst/>
            <a:ahLst/>
            <a:rect l="l" t="t" r="r" b="b"/>
            <a:pathLst>
              <a:path w="147" h="40">
                <a:moveTo>
                  <a:pt x="1" y="36"/>
                </a:moveTo>
                <a:cubicBezTo>
                  <a:pt x="0" y="40"/>
                  <a:pt x="55" y="36"/>
                  <a:pt x="79" y="31"/>
                </a:cubicBezTo>
                <a:cubicBezTo>
                  <a:pt x="103" y="26"/>
                  <a:pt x="145" y="9"/>
                  <a:pt x="146" y="5"/>
                </a:cubicBezTo>
                <a:cubicBezTo>
                  <a:pt x="147" y="1"/>
                  <a:pt x="108" y="0"/>
                  <a:pt x="84" y="5"/>
                </a:cubicBezTo>
                <a:cubicBezTo>
                  <a:pt x="60" y="10"/>
                  <a:pt x="18" y="30"/>
                  <a:pt x="1" y="36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6" name=""/>
          <p:cNvSpPr/>
          <p:nvPr/>
        </p:nvSpPr>
        <p:spPr>
          <a:xfrm>
            <a:off x="5510160" y="2639880"/>
            <a:ext cx="195480" cy="50760"/>
          </a:xfrm>
          <a:custGeom>
            <a:avLst/>
            <a:gdLst/>
            <a:ahLst/>
            <a:rect l="l" t="t" r="r" b="b"/>
            <a:pathLst>
              <a:path w="157" h="42">
                <a:moveTo>
                  <a:pt x="1" y="16"/>
                </a:moveTo>
                <a:cubicBezTo>
                  <a:pt x="0" y="21"/>
                  <a:pt x="50" y="30"/>
                  <a:pt x="76" y="33"/>
                </a:cubicBezTo>
                <a:cubicBezTo>
                  <a:pt x="102" y="33"/>
                  <a:pt x="155" y="42"/>
                  <a:pt x="156" y="37"/>
                </a:cubicBezTo>
                <a:cubicBezTo>
                  <a:pt x="157" y="32"/>
                  <a:pt x="107" y="6"/>
                  <a:pt x="81" y="3"/>
                </a:cubicBezTo>
                <a:cubicBezTo>
                  <a:pt x="55" y="0"/>
                  <a:pt x="2" y="11"/>
                  <a:pt x="1" y="16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7" name=""/>
          <p:cNvSpPr/>
          <p:nvPr/>
        </p:nvSpPr>
        <p:spPr>
          <a:xfrm>
            <a:off x="5788080" y="2711520"/>
            <a:ext cx="1136520" cy="345960"/>
          </a:xfrm>
          <a:custGeom>
            <a:avLst/>
            <a:gdLst/>
            <a:ahLst/>
            <a:rect l="l" t="t" r="r" b="b"/>
            <a:pathLst>
              <a:path w="716" h="218">
                <a:moveTo>
                  <a:pt x="712" y="140"/>
                </a:moveTo>
                <a:cubicBezTo>
                  <a:pt x="688" y="146"/>
                  <a:pt x="599" y="143"/>
                  <a:pt x="544" y="144"/>
                </a:cubicBezTo>
                <a:cubicBezTo>
                  <a:pt x="492" y="146"/>
                  <a:pt x="427" y="146"/>
                  <a:pt x="395" y="157"/>
                </a:cubicBezTo>
                <a:cubicBezTo>
                  <a:pt x="363" y="168"/>
                  <a:pt x="375" y="202"/>
                  <a:pt x="355" y="210"/>
                </a:cubicBezTo>
                <a:cubicBezTo>
                  <a:pt x="335" y="218"/>
                  <a:pt x="295" y="218"/>
                  <a:pt x="276" y="207"/>
                </a:cubicBezTo>
                <a:cubicBezTo>
                  <a:pt x="257" y="196"/>
                  <a:pt x="260" y="164"/>
                  <a:pt x="244" y="146"/>
                </a:cubicBezTo>
                <a:cubicBezTo>
                  <a:pt x="228" y="127"/>
                  <a:pt x="204" y="110"/>
                  <a:pt x="183" y="96"/>
                </a:cubicBezTo>
                <a:cubicBezTo>
                  <a:pt x="161" y="82"/>
                  <a:pt x="135" y="70"/>
                  <a:pt x="117" y="61"/>
                </a:cubicBezTo>
                <a:cubicBezTo>
                  <a:pt x="100" y="51"/>
                  <a:pt x="95" y="48"/>
                  <a:pt x="77" y="39"/>
                </a:cubicBezTo>
                <a:cubicBezTo>
                  <a:pt x="59" y="31"/>
                  <a:pt x="14" y="12"/>
                  <a:pt x="7" y="6"/>
                </a:cubicBezTo>
                <a:cubicBezTo>
                  <a:pt x="0" y="0"/>
                  <a:pt x="20" y="0"/>
                  <a:pt x="35" y="3"/>
                </a:cubicBezTo>
                <a:cubicBezTo>
                  <a:pt x="50" y="5"/>
                  <a:pt x="76" y="12"/>
                  <a:pt x="97" y="20"/>
                </a:cubicBezTo>
                <a:cubicBezTo>
                  <a:pt x="117" y="29"/>
                  <a:pt x="132" y="42"/>
                  <a:pt x="158" y="54"/>
                </a:cubicBezTo>
                <a:cubicBezTo>
                  <a:pt x="185" y="65"/>
                  <a:pt x="167" y="78"/>
                  <a:pt x="260" y="88"/>
                </a:cubicBezTo>
                <a:cubicBezTo>
                  <a:pt x="353" y="99"/>
                  <a:pt x="640" y="106"/>
                  <a:pt x="716" y="115"/>
                </a:cubicBezTo>
                <a:cubicBezTo>
                  <a:pt x="712" y="168"/>
                  <a:pt x="716" y="112"/>
                  <a:pt x="712" y="140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8" name=""/>
          <p:cNvSpPr/>
          <p:nvPr/>
        </p:nvSpPr>
        <p:spPr>
          <a:xfrm>
            <a:off x="3689280" y="3220920"/>
            <a:ext cx="1139760" cy="1117800"/>
          </a:xfrm>
          <a:custGeom>
            <a:avLst/>
            <a:gdLst/>
            <a:ahLst/>
            <a:rect l="l" t="t" r="r" b="b"/>
            <a:pathLst>
              <a:path w="911" h="1038">
                <a:moveTo>
                  <a:pt x="0" y="117"/>
                </a:moveTo>
                <a:cubicBezTo>
                  <a:pt x="70" y="112"/>
                  <a:pt x="351" y="114"/>
                  <a:pt x="438" y="107"/>
                </a:cubicBezTo>
                <a:cubicBezTo>
                  <a:pt x="525" y="100"/>
                  <a:pt x="501" y="94"/>
                  <a:pt x="521" y="77"/>
                </a:cubicBezTo>
                <a:cubicBezTo>
                  <a:pt x="541" y="60"/>
                  <a:pt x="545" y="8"/>
                  <a:pt x="557" y="4"/>
                </a:cubicBezTo>
                <a:cubicBezTo>
                  <a:pt x="569" y="0"/>
                  <a:pt x="574" y="30"/>
                  <a:pt x="593" y="50"/>
                </a:cubicBezTo>
                <a:cubicBezTo>
                  <a:pt x="612" y="70"/>
                  <a:pt x="644" y="102"/>
                  <a:pt x="671" y="123"/>
                </a:cubicBezTo>
                <a:cubicBezTo>
                  <a:pt x="698" y="144"/>
                  <a:pt x="733" y="159"/>
                  <a:pt x="754" y="175"/>
                </a:cubicBezTo>
                <a:cubicBezTo>
                  <a:pt x="775" y="191"/>
                  <a:pt x="773" y="206"/>
                  <a:pt x="797" y="219"/>
                </a:cubicBezTo>
                <a:cubicBezTo>
                  <a:pt x="821" y="232"/>
                  <a:pt x="911" y="256"/>
                  <a:pt x="899" y="253"/>
                </a:cubicBezTo>
                <a:cubicBezTo>
                  <a:pt x="887" y="250"/>
                  <a:pt x="736" y="176"/>
                  <a:pt x="725" y="203"/>
                </a:cubicBezTo>
                <a:cubicBezTo>
                  <a:pt x="714" y="230"/>
                  <a:pt x="811" y="353"/>
                  <a:pt x="834" y="415"/>
                </a:cubicBezTo>
                <a:cubicBezTo>
                  <a:pt x="857" y="477"/>
                  <a:pt x="859" y="530"/>
                  <a:pt x="865" y="576"/>
                </a:cubicBezTo>
                <a:cubicBezTo>
                  <a:pt x="871" y="622"/>
                  <a:pt x="869" y="632"/>
                  <a:pt x="870" y="689"/>
                </a:cubicBezTo>
                <a:cubicBezTo>
                  <a:pt x="871" y="746"/>
                  <a:pt x="870" y="859"/>
                  <a:pt x="870" y="917"/>
                </a:cubicBezTo>
                <a:cubicBezTo>
                  <a:pt x="870" y="975"/>
                  <a:pt x="874" y="1038"/>
                  <a:pt x="870" y="1036"/>
                </a:cubicBezTo>
                <a:cubicBezTo>
                  <a:pt x="866" y="1034"/>
                  <a:pt x="848" y="987"/>
                  <a:pt x="844" y="907"/>
                </a:cubicBezTo>
                <a:cubicBezTo>
                  <a:pt x="840" y="827"/>
                  <a:pt x="854" y="650"/>
                  <a:pt x="844" y="555"/>
                </a:cubicBezTo>
                <a:cubicBezTo>
                  <a:pt x="834" y="460"/>
                  <a:pt x="804" y="392"/>
                  <a:pt x="782" y="338"/>
                </a:cubicBezTo>
                <a:cubicBezTo>
                  <a:pt x="760" y="284"/>
                  <a:pt x="743" y="260"/>
                  <a:pt x="709" y="229"/>
                </a:cubicBezTo>
                <a:cubicBezTo>
                  <a:pt x="675" y="198"/>
                  <a:pt x="698" y="162"/>
                  <a:pt x="580" y="151"/>
                </a:cubicBezTo>
                <a:cubicBezTo>
                  <a:pt x="462" y="140"/>
                  <a:pt x="98" y="168"/>
                  <a:pt x="1" y="162"/>
                </a:cubicBezTo>
                <a:cubicBezTo>
                  <a:pt x="4" y="108"/>
                  <a:pt x="3" y="183"/>
                  <a:pt x="0" y="117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9" name=""/>
          <p:cNvSpPr/>
          <p:nvPr/>
        </p:nvSpPr>
        <p:spPr>
          <a:xfrm flipV="1">
            <a:off x="4921200" y="3509280"/>
            <a:ext cx="184320" cy="50760"/>
          </a:xfrm>
          <a:custGeom>
            <a:avLst/>
            <a:gdLst/>
            <a:ahLst/>
            <a:rect l="l" t="t" r="r" b="b"/>
            <a:pathLst>
              <a:path w="147" h="40">
                <a:moveTo>
                  <a:pt x="1" y="36"/>
                </a:moveTo>
                <a:cubicBezTo>
                  <a:pt x="0" y="40"/>
                  <a:pt x="55" y="36"/>
                  <a:pt x="79" y="31"/>
                </a:cubicBezTo>
                <a:cubicBezTo>
                  <a:pt x="103" y="26"/>
                  <a:pt x="145" y="9"/>
                  <a:pt x="146" y="5"/>
                </a:cubicBezTo>
                <a:cubicBezTo>
                  <a:pt x="147" y="1"/>
                  <a:pt x="108" y="0"/>
                  <a:pt x="84" y="5"/>
                </a:cubicBezTo>
                <a:cubicBezTo>
                  <a:pt x="60" y="10"/>
                  <a:pt x="18" y="30"/>
                  <a:pt x="1" y="36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0" name=""/>
          <p:cNvSpPr/>
          <p:nvPr/>
        </p:nvSpPr>
        <p:spPr>
          <a:xfrm flipV="1">
            <a:off x="5200560" y="3529800"/>
            <a:ext cx="196920" cy="50760"/>
          </a:xfrm>
          <a:custGeom>
            <a:avLst/>
            <a:gdLst/>
            <a:ahLst/>
            <a:rect l="l" t="t" r="r" b="b"/>
            <a:pathLst>
              <a:path w="157" h="42">
                <a:moveTo>
                  <a:pt x="1" y="16"/>
                </a:moveTo>
                <a:cubicBezTo>
                  <a:pt x="0" y="21"/>
                  <a:pt x="50" y="30"/>
                  <a:pt x="76" y="33"/>
                </a:cubicBezTo>
                <a:cubicBezTo>
                  <a:pt x="102" y="33"/>
                  <a:pt x="155" y="42"/>
                  <a:pt x="156" y="37"/>
                </a:cubicBezTo>
                <a:cubicBezTo>
                  <a:pt x="157" y="32"/>
                  <a:pt x="107" y="6"/>
                  <a:pt x="81" y="3"/>
                </a:cubicBezTo>
                <a:cubicBezTo>
                  <a:pt x="55" y="0"/>
                  <a:pt x="2" y="11"/>
                  <a:pt x="1" y="16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1" name=""/>
          <p:cNvSpPr/>
          <p:nvPr/>
        </p:nvSpPr>
        <p:spPr>
          <a:xfrm flipV="1">
            <a:off x="5508720" y="3500280"/>
            <a:ext cx="196920" cy="51120"/>
          </a:xfrm>
          <a:custGeom>
            <a:avLst/>
            <a:gdLst/>
            <a:ahLst/>
            <a:rect l="l" t="t" r="r" b="b"/>
            <a:pathLst>
              <a:path w="157" h="42">
                <a:moveTo>
                  <a:pt x="1" y="16"/>
                </a:moveTo>
                <a:cubicBezTo>
                  <a:pt x="0" y="21"/>
                  <a:pt x="50" y="30"/>
                  <a:pt x="76" y="33"/>
                </a:cubicBezTo>
                <a:cubicBezTo>
                  <a:pt x="102" y="33"/>
                  <a:pt x="155" y="42"/>
                  <a:pt x="156" y="37"/>
                </a:cubicBezTo>
                <a:cubicBezTo>
                  <a:pt x="157" y="32"/>
                  <a:pt x="107" y="6"/>
                  <a:pt x="81" y="3"/>
                </a:cubicBezTo>
                <a:cubicBezTo>
                  <a:pt x="55" y="0"/>
                  <a:pt x="2" y="11"/>
                  <a:pt x="1" y="16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2" name=""/>
          <p:cNvSpPr/>
          <p:nvPr/>
        </p:nvSpPr>
        <p:spPr>
          <a:xfrm>
            <a:off x="5818320" y="3122640"/>
            <a:ext cx="1104840" cy="1276200"/>
          </a:xfrm>
          <a:custGeom>
            <a:avLst/>
            <a:gdLst/>
            <a:ahLst/>
            <a:rect l="l" t="t" r="r" b="b"/>
            <a:pathLst>
              <a:path w="696" h="804">
                <a:moveTo>
                  <a:pt x="692" y="85"/>
                </a:moveTo>
                <a:cubicBezTo>
                  <a:pt x="668" y="80"/>
                  <a:pt x="579" y="82"/>
                  <a:pt x="524" y="82"/>
                </a:cubicBezTo>
                <a:cubicBezTo>
                  <a:pt x="471" y="80"/>
                  <a:pt x="402" y="83"/>
                  <a:pt x="372" y="73"/>
                </a:cubicBezTo>
                <a:cubicBezTo>
                  <a:pt x="342" y="63"/>
                  <a:pt x="348" y="34"/>
                  <a:pt x="341" y="23"/>
                </a:cubicBezTo>
                <a:cubicBezTo>
                  <a:pt x="334" y="12"/>
                  <a:pt x="341" y="10"/>
                  <a:pt x="327" y="8"/>
                </a:cubicBezTo>
                <a:cubicBezTo>
                  <a:pt x="313" y="6"/>
                  <a:pt x="272" y="0"/>
                  <a:pt x="255" y="12"/>
                </a:cubicBezTo>
                <a:cubicBezTo>
                  <a:pt x="238" y="24"/>
                  <a:pt x="239" y="60"/>
                  <a:pt x="224" y="80"/>
                </a:cubicBezTo>
                <a:cubicBezTo>
                  <a:pt x="209" y="100"/>
                  <a:pt x="181" y="116"/>
                  <a:pt x="163" y="129"/>
                </a:cubicBezTo>
                <a:cubicBezTo>
                  <a:pt x="145" y="142"/>
                  <a:pt x="131" y="147"/>
                  <a:pt x="115" y="158"/>
                </a:cubicBezTo>
                <a:cubicBezTo>
                  <a:pt x="99" y="168"/>
                  <a:pt x="84" y="184"/>
                  <a:pt x="66" y="196"/>
                </a:cubicBezTo>
                <a:cubicBezTo>
                  <a:pt x="48" y="208"/>
                  <a:pt x="0" y="231"/>
                  <a:pt x="6" y="231"/>
                </a:cubicBezTo>
                <a:cubicBezTo>
                  <a:pt x="11" y="231"/>
                  <a:pt x="76" y="204"/>
                  <a:pt x="99" y="196"/>
                </a:cubicBezTo>
                <a:cubicBezTo>
                  <a:pt x="122" y="188"/>
                  <a:pt x="146" y="168"/>
                  <a:pt x="143" y="182"/>
                </a:cubicBezTo>
                <a:cubicBezTo>
                  <a:pt x="141" y="196"/>
                  <a:pt x="99" y="252"/>
                  <a:pt x="87" y="284"/>
                </a:cubicBezTo>
                <a:cubicBezTo>
                  <a:pt x="74" y="316"/>
                  <a:pt x="72" y="342"/>
                  <a:pt x="66" y="372"/>
                </a:cubicBezTo>
                <a:cubicBezTo>
                  <a:pt x="61" y="402"/>
                  <a:pt x="57" y="413"/>
                  <a:pt x="54" y="463"/>
                </a:cubicBezTo>
                <a:cubicBezTo>
                  <a:pt x="51" y="512"/>
                  <a:pt x="46" y="619"/>
                  <a:pt x="46" y="670"/>
                </a:cubicBezTo>
                <a:cubicBezTo>
                  <a:pt x="45" y="721"/>
                  <a:pt x="46" y="749"/>
                  <a:pt x="50" y="768"/>
                </a:cubicBezTo>
                <a:cubicBezTo>
                  <a:pt x="54" y="787"/>
                  <a:pt x="67" y="804"/>
                  <a:pt x="70" y="786"/>
                </a:cubicBezTo>
                <a:cubicBezTo>
                  <a:pt x="73" y="767"/>
                  <a:pt x="68" y="708"/>
                  <a:pt x="70" y="660"/>
                </a:cubicBezTo>
                <a:cubicBezTo>
                  <a:pt x="72" y="611"/>
                  <a:pt x="76" y="539"/>
                  <a:pt x="79" y="491"/>
                </a:cubicBezTo>
                <a:cubicBezTo>
                  <a:pt x="81" y="443"/>
                  <a:pt x="76" y="409"/>
                  <a:pt x="83" y="372"/>
                </a:cubicBezTo>
                <a:cubicBezTo>
                  <a:pt x="89" y="335"/>
                  <a:pt x="89" y="305"/>
                  <a:pt x="115" y="266"/>
                </a:cubicBezTo>
                <a:cubicBezTo>
                  <a:pt x="141" y="227"/>
                  <a:pt x="143" y="162"/>
                  <a:pt x="240" y="137"/>
                </a:cubicBezTo>
                <a:cubicBezTo>
                  <a:pt x="337" y="111"/>
                  <a:pt x="620" y="119"/>
                  <a:pt x="696" y="110"/>
                </a:cubicBezTo>
                <a:cubicBezTo>
                  <a:pt x="692" y="57"/>
                  <a:pt x="696" y="113"/>
                  <a:pt x="692" y="85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3" name=""/>
          <p:cNvSpPr/>
          <p:nvPr/>
        </p:nvSpPr>
        <p:spPr>
          <a:xfrm>
            <a:off x="5207040" y="2606760"/>
            <a:ext cx="210960" cy="52200"/>
          </a:xfrm>
          <a:custGeom>
            <a:avLst/>
            <a:gdLst/>
            <a:ahLst/>
            <a:rect l="l" t="t" r="r" b="b"/>
            <a:pathLst>
              <a:path w="169" h="49">
                <a:moveTo>
                  <a:pt x="1" y="27"/>
                </a:moveTo>
                <a:cubicBezTo>
                  <a:pt x="0" y="20"/>
                  <a:pt x="48" y="0"/>
                  <a:pt x="76" y="2"/>
                </a:cubicBezTo>
                <a:cubicBezTo>
                  <a:pt x="104" y="4"/>
                  <a:pt x="167" y="31"/>
                  <a:pt x="168" y="38"/>
                </a:cubicBezTo>
                <a:cubicBezTo>
                  <a:pt x="169" y="45"/>
                  <a:pt x="109" y="49"/>
                  <a:pt x="81" y="47"/>
                </a:cubicBezTo>
                <a:cubicBezTo>
                  <a:pt x="53" y="45"/>
                  <a:pt x="2" y="35"/>
                  <a:pt x="1" y="27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4" name=""/>
          <p:cNvSpPr/>
          <p:nvPr/>
        </p:nvSpPr>
        <p:spPr>
          <a:xfrm>
            <a:off x="4789440" y="5807160"/>
            <a:ext cx="108000" cy="388800"/>
          </a:xfrm>
          <a:prstGeom prst="downArrow">
            <a:avLst>
              <a:gd name="adj1" fmla="val 50000"/>
              <a:gd name="adj2" fmla="val 90000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5" name=""/>
          <p:cNvSpPr/>
          <p:nvPr/>
        </p:nvSpPr>
        <p:spPr>
          <a:xfrm>
            <a:off x="5067360" y="5835600"/>
            <a:ext cx="119160" cy="222480"/>
          </a:xfrm>
          <a:prstGeom prst="downArrow">
            <a:avLst>
              <a:gd name="adj1" fmla="val 50000"/>
              <a:gd name="adj2" fmla="val 4667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6" name=""/>
          <p:cNvSpPr/>
          <p:nvPr/>
        </p:nvSpPr>
        <p:spPr>
          <a:xfrm>
            <a:off x="5381640" y="5800680"/>
            <a:ext cx="74520" cy="173160"/>
          </a:xfrm>
          <a:prstGeom prst="downArrow">
            <a:avLst>
              <a:gd name="adj1" fmla="val 50000"/>
              <a:gd name="adj2" fmla="val 58092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7" name=""/>
          <p:cNvSpPr/>
          <p:nvPr/>
        </p:nvSpPr>
        <p:spPr>
          <a:xfrm>
            <a:off x="5681520" y="5784840"/>
            <a:ext cx="74880" cy="120600"/>
          </a:xfrm>
          <a:prstGeom prst="downArrow">
            <a:avLst>
              <a:gd name="adj1" fmla="val 50000"/>
              <a:gd name="adj2" fmla="val 40264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8" name=""/>
          <p:cNvSpPr/>
          <p:nvPr/>
        </p:nvSpPr>
        <p:spPr>
          <a:xfrm>
            <a:off x="6137280" y="5219640"/>
            <a:ext cx="704880" cy="3682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9" name=""/>
          <p:cNvSpPr/>
          <p:nvPr/>
        </p:nvSpPr>
        <p:spPr>
          <a:xfrm>
            <a:off x="3695760" y="5137200"/>
            <a:ext cx="706320" cy="501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0" name=""/>
          <p:cNvSpPr/>
          <p:nvPr/>
        </p:nvSpPr>
        <p:spPr>
          <a:xfrm>
            <a:off x="4314960" y="4921200"/>
            <a:ext cx="1930320" cy="938160"/>
          </a:xfrm>
          <a:custGeom>
            <a:avLst/>
            <a:gdLst/>
            <a:ahLst/>
            <a:rect l="l" t="t" r="r" b="b"/>
            <a:pathLst>
              <a:path w="1543" h="856">
                <a:moveTo>
                  <a:pt x="33" y="547"/>
                </a:moveTo>
                <a:cubicBezTo>
                  <a:pt x="28" y="496"/>
                  <a:pt x="0" y="371"/>
                  <a:pt x="39" y="298"/>
                </a:cubicBezTo>
                <a:cubicBezTo>
                  <a:pt x="78" y="225"/>
                  <a:pt x="177" y="153"/>
                  <a:pt x="266" y="107"/>
                </a:cubicBezTo>
                <a:cubicBezTo>
                  <a:pt x="355" y="61"/>
                  <a:pt x="475" y="36"/>
                  <a:pt x="571" y="19"/>
                </a:cubicBezTo>
                <a:cubicBezTo>
                  <a:pt x="667" y="2"/>
                  <a:pt x="752" y="0"/>
                  <a:pt x="840" y="4"/>
                </a:cubicBezTo>
                <a:cubicBezTo>
                  <a:pt x="928" y="8"/>
                  <a:pt x="1030" y="27"/>
                  <a:pt x="1099" y="45"/>
                </a:cubicBezTo>
                <a:cubicBezTo>
                  <a:pt x="1168" y="63"/>
                  <a:pt x="1187" y="66"/>
                  <a:pt x="1254" y="112"/>
                </a:cubicBezTo>
                <a:cubicBezTo>
                  <a:pt x="1321" y="158"/>
                  <a:pt x="1461" y="253"/>
                  <a:pt x="1502" y="319"/>
                </a:cubicBezTo>
                <a:cubicBezTo>
                  <a:pt x="1543" y="385"/>
                  <a:pt x="1532" y="445"/>
                  <a:pt x="1502" y="510"/>
                </a:cubicBezTo>
                <a:cubicBezTo>
                  <a:pt x="1472" y="575"/>
                  <a:pt x="1399" y="655"/>
                  <a:pt x="1321" y="707"/>
                </a:cubicBezTo>
                <a:cubicBezTo>
                  <a:pt x="1243" y="759"/>
                  <a:pt x="1147" y="797"/>
                  <a:pt x="1032" y="821"/>
                </a:cubicBezTo>
                <a:cubicBezTo>
                  <a:pt x="917" y="845"/>
                  <a:pt x="741" y="856"/>
                  <a:pt x="633" y="852"/>
                </a:cubicBezTo>
                <a:cubicBezTo>
                  <a:pt x="525" y="848"/>
                  <a:pt x="479" y="836"/>
                  <a:pt x="385" y="795"/>
                </a:cubicBezTo>
                <a:cubicBezTo>
                  <a:pt x="291" y="754"/>
                  <a:pt x="131" y="646"/>
                  <a:pt x="70" y="604"/>
                </a:cubicBezTo>
                <a:cubicBezTo>
                  <a:pt x="9" y="562"/>
                  <a:pt x="38" y="598"/>
                  <a:pt x="33" y="547"/>
                </a:cubicBezTo>
                <a:close/>
              </a:path>
            </a:pathLst>
          </a:custGeom>
          <a:gradFill rotWithShape="0">
            <a:gsLst>
              <a:gs pos="0">
                <a:srgbClr val="808080"/>
              </a:gs>
              <a:gs pos="100000">
                <a:srgbClr val="ffff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1" name=""/>
          <p:cNvSpPr/>
          <p:nvPr/>
        </p:nvSpPr>
        <p:spPr>
          <a:xfrm>
            <a:off x="3668760" y="4978440"/>
            <a:ext cx="1117440" cy="392040"/>
          </a:xfrm>
          <a:custGeom>
            <a:avLst/>
            <a:gdLst/>
            <a:ahLst/>
            <a:rect l="l" t="t" r="r" b="b"/>
            <a:pathLst>
              <a:path w="704" h="247">
                <a:moveTo>
                  <a:pt x="8" y="108"/>
                </a:moveTo>
                <a:cubicBezTo>
                  <a:pt x="63" y="113"/>
                  <a:pt x="221" y="111"/>
                  <a:pt x="273" y="114"/>
                </a:cubicBezTo>
                <a:cubicBezTo>
                  <a:pt x="325" y="117"/>
                  <a:pt x="307" y="105"/>
                  <a:pt x="321" y="124"/>
                </a:cubicBezTo>
                <a:cubicBezTo>
                  <a:pt x="335" y="143"/>
                  <a:pt x="335" y="211"/>
                  <a:pt x="357" y="229"/>
                </a:cubicBezTo>
                <a:cubicBezTo>
                  <a:pt x="379" y="247"/>
                  <a:pt x="438" y="245"/>
                  <a:pt x="456" y="232"/>
                </a:cubicBezTo>
                <a:cubicBezTo>
                  <a:pt x="474" y="219"/>
                  <a:pt x="452" y="174"/>
                  <a:pt x="463" y="151"/>
                </a:cubicBezTo>
                <a:cubicBezTo>
                  <a:pt x="474" y="128"/>
                  <a:pt x="501" y="107"/>
                  <a:pt x="522" y="91"/>
                </a:cubicBezTo>
                <a:cubicBezTo>
                  <a:pt x="543" y="75"/>
                  <a:pt x="570" y="65"/>
                  <a:pt x="587" y="56"/>
                </a:cubicBezTo>
                <a:cubicBezTo>
                  <a:pt x="605" y="46"/>
                  <a:pt x="609" y="43"/>
                  <a:pt x="628" y="35"/>
                </a:cubicBezTo>
                <a:cubicBezTo>
                  <a:pt x="646" y="26"/>
                  <a:pt x="704" y="5"/>
                  <a:pt x="702" y="3"/>
                </a:cubicBezTo>
                <a:cubicBezTo>
                  <a:pt x="699" y="0"/>
                  <a:pt x="642" y="9"/>
                  <a:pt x="616" y="17"/>
                </a:cubicBezTo>
                <a:cubicBezTo>
                  <a:pt x="590" y="24"/>
                  <a:pt x="575" y="38"/>
                  <a:pt x="546" y="49"/>
                </a:cubicBezTo>
                <a:cubicBezTo>
                  <a:pt x="518" y="60"/>
                  <a:pt x="535" y="78"/>
                  <a:pt x="445" y="83"/>
                </a:cubicBezTo>
                <a:cubicBezTo>
                  <a:pt x="355" y="89"/>
                  <a:pt x="81" y="80"/>
                  <a:pt x="8" y="83"/>
                </a:cubicBezTo>
                <a:cubicBezTo>
                  <a:pt x="0" y="150"/>
                  <a:pt x="24" y="59"/>
                  <a:pt x="8" y="108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2" name=""/>
          <p:cNvSpPr/>
          <p:nvPr/>
        </p:nvSpPr>
        <p:spPr>
          <a:xfrm>
            <a:off x="4889520" y="4913280"/>
            <a:ext cx="183960" cy="50760"/>
          </a:xfrm>
          <a:custGeom>
            <a:avLst/>
            <a:gdLst/>
            <a:ahLst/>
            <a:rect l="l" t="t" r="r" b="b"/>
            <a:pathLst>
              <a:path w="147" h="40">
                <a:moveTo>
                  <a:pt x="1" y="36"/>
                </a:moveTo>
                <a:cubicBezTo>
                  <a:pt x="0" y="40"/>
                  <a:pt x="55" y="36"/>
                  <a:pt x="79" y="31"/>
                </a:cubicBezTo>
                <a:cubicBezTo>
                  <a:pt x="103" y="26"/>
                  <a:pt x="145" y="9"/>
                  <a:pt x="146" y="5"/>
                </a:cubicBezTo>
                <a:cubicBezTo>
                  <a:pt x="147" y="1"/>
                  <a:pt x="108" y="0"/>
                  <a:pt x="84" y="5"/>
                </a:cubicBezTo>
                <a:cubicBezTo>
                  <a:pt x="60" y="10"/>
                  <a:pt x="18" y="30"/>
                  <a:pt x="1" y="36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3" name=""/>
          <p:cNvSpPr/>
          <p:nvPr/>
        </p:nvSpPr>
        <p:spPr>
          <a:xfrm>
            <a:off x="5477040" y="4923000"/>
            <a:ext cx="195120" cy="50760"/>
          </a:xfrm>
          <a:custGeom>
            <a:avLst/>
            <a:gdLst/>
            <a:ahLst/>
            <a:rect l="l" t="t" r="r" b="b"/>
            <a:pathLst>
              <a:path w="157" h="42">
                <a:moveTo>
                  <a:pt x="1" y="16"/>
                </a:moveTo>
                <a:cubicBezTo>
                  <a:pt x="0" y="21"/>
                  <a:pt x="50" y="30"/>
                  <a:pt x="76" y="33"/>
                </a:cubicBezTo>
                <a:cubicBezTo>
                  <a:pt x="102" y="33"/>
                  <a:pt x="155" y="42"/>
                  <a:pt x="156" y="37"/>
                </a:cubicBezTo>
                <a:cubicBezTo>
                  <a:pt x="157" y="32"/>
                  <a:pt x="107" y="6"/>
                  <a:pt x="81" y="3"/>
                </a:cubicBezTo>
                <a:cubicBezTo>
                  <a:pt x="55" y="0"/>
                  <a:pt x="2" y="11"/>
                  <a:pt x="1" y="16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4" name=""/>
          <p:cNvSpPr/>
          <p:nvPr/>
        </p:nvSpPr>
        <p:spPr>
          <a:xfrm>
            <a:off x="5754600" y="4994280"/>
            <a:ext cx="1136880" cy="361800"/>
          </a:xfrm>
          <a:custGeom>
            <a:avLst/>
            <a:gdLst/>
            <a:ahLst/>
            <a:rect l="l" t="t" r="r" b="b"/>
            <a:pathLst>
              <a:path w="716" h="228">
                <a:moveTo>
                  <a:pt x="712" y="140"/>
                </a:moveTo>
                <a:cubicBezTo>
                  <a:pt x="688" y="146"/>
                  <a:pt x="599" y="143"/>
                  <a:pt x="544" y="144"/>
                </a:cubicBezTo>
                <a:cubicBezTo>
                  <a:pt x="510" y="149"/>
                  <a:pt x="517" y="158"/>
                  <a:pt x="505" y="170"/>
                </a:cubicBezTo>
                <a:cubicBezTo>
                  <a:pt x="493" y="182"/>
                  <a:pt x="482" y="210"/>
                  <a:pt x="469" y="219"/>
                </a:cubicBezTo>
                <a:cubicBezTo>
                  <a:pt x="456" y="228"/>
                  <a:pt x="444" y="222"/>
                  <a:pt x="426" y="222"/>
                </a:cubicBezTo>
                <a:cubicBezTo>
                  <a:pt x="408" y="222"/>
                  <a:pt x="388" y="217"/>
                  <a:pt x="363" y="216"/>
                </a:cubicBezTo>
                <a:cubicBezTo>
                  <a:pt x="338" y="215"/>
                  <a:pt x="297" y="227"/>
                  <a:pt x="277" y="215"/>
                </a:cubicBezTo>
                <a:cubicBezTo>
                  <a:pt x="257" y="203"/>
                  <a:pt x="260" y="166"/>
                  <a:pt x="244" y="146"/>
                </a:cubicBezTo>
                <a:cubicBezTo>
                  <a:pt x="228" y="126"/>
                  <a:pt x="204" y="110"/>
                  <a:pt x="183" y="96"/>
                </a:cubicBezTo>
                <a:cubicBezTo>
                  <a:pt x="161" y="82"/>
                  <a:pt x="135" y="70"/>
                  <a:pt x="117" y="61"/>
                </a:cubicBezTo>
                <a:cubicBezTo>
                  <a:pt x="100" y="51"/>
                  <a:pt x="95" y="48"/>
                  <a:pt x="77" y="39"/>
                </a:cubicBezTo>
                <a:cubicBezTo>
                  <a:pt x="59" y="31"/>
                  <a:pt x="14" y="12"/>
                  <a:pt x="7" y="6"/>
                </a:cubicBezTo>
                <a:cubicBezTo>
                  <a:pt x="0" y="0"/>
                  <a:pt x="20" y="0"/>
                  <a:pt x="35" y="3"/>
                </a:cubicBezTo>
                <a:cubicBezTo>
                  <a:pt x="50" y="5"/>
                  <a:pt x="76" y="12"/>
                  <a:pt x="97" y="20"/>
                </a:cubicBezTo>
                <a:cubicBezTo>
                  <a:pt x="117" y="29"/>
                  <a:pt x="132" y="42"/>
                  <a:pt x="158" y="54"/>
                </a:cubicBezTo>
                <a:cubicBezTo>
                  <a:pt x="185" y="65"/>
                  <a:pt x="167" y="78"/>
                  <a:pt x="260" y="88"/>
                </a:cubicBezTo>
                <a:cubicBezTo>
                  <a:pt x="353" y="99"/>
                  <a:pt x="640" y="106"/>
                  <a:pt x="716" y="115"/>
                </a:cubicBezTo>
                <a:cubicBezTo>
                  <a:pt x="712" y="168"/>
                  <a:pt x="716" y="112"/>
                  <a:pt x="712" y="140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5" name=""/>
          <p:cNvSpPr/>
          <p:nvPr/>
        </p:nvSpPr>
        <p:spPr>
          <a:xfrm>
            <a:off x="3649680" y="5388120"/>
            <a:ext cx="1139760" cy="1236600"/>
          </a:xfrm>
          <a:custGeom>
            <a:avLst/>
            <a:gdLst/>
            <a:ahLst/>
            <a:rect l="l" t="t" r="r" b="b"/>
            <a:pathLst>
              <a:path w="718" h="779">
                <a:moveTo>
                  <a:pt x="0" y="154"/>
                </a:moveTo>
                <a:cubicBezTo>
                  <a:pt x="55" y="151"/>
                  <a:pt x="255" y="155"/>
                  <a:pt x="316" y="141"/>
                </a:cubicBezTo>
                <a:cubicBezTo>
                  <a:pt x="376" y="119"/>
                  <a:pt x="345" y="44"/>
                  <a:pt x="361" y="22"/>
                </a:cubicBezTo>
                <a:cubicBezTo>
                  <a:pt x="377" y="0"/>
                  <a:pt x="396" y="8"/>
                  <a:pt x="415" y="9"/>
                </a:cubicBezTo>
                <a:cubicBezTo>
                  <a:pt x="434" y="10"/>
                  <a:pt x="464" y="10"/>
                  <a:pt x="474" y="27"/>
                </a:cubicBezTo>
                <a:cubicBezTo>
                  <a:pt x="484" y="44"/>
                  <a:pt x="468" y="87"/>
                  <a:pt x="477" y="109"/>
                </a:cubicBezTo>
                <a:cubicBezTo>
                  <a:pt x="486" y="131"/>
                  <a:pt x="510" y="144"/>
                  <a:pt x="529" y="158"/>
                </a:cubicBezTo>
                <a:cubicBezTo>
                  <a:pt x="548" y="172"/>
                  <a:pt x="578" y="183"/>
                  <a:pt x="594" y="194"/>
                </a:cubicBezTo>
                <a:cubicBezTo>
                  <a:pt x="611" y="205"/>
                  <a:pt x="609" y="215"/>
                  <a:pt x="628" y="224"/>
                </a:cubicBezTo>
                <a:cubicBezTo>
                  <a:pt x="647" y="232"/>
                  <a:pt x="718" y="249"/>
                  <a:pt x="709" y="247"/>
                </a:cubicBezTo>
                <a:cubicBezTo>
                  <a:pt x="699" y="245"/>
                  <a:pt x="580" y="194"/>
                  <a:pt x="571" y="213"/>
                </a:cubicBezTo>
                <a:cubicBezTo>
                  <a:pt x="563" y="231"/>
                  <a:pt x="639" y="314"/>
                  <a:pt x="657" y="356"/>
                </a:cubicBezTo>
                <a:cubicBezTo>
                  <a:pt x="675" y="399"/>
                  <a:pt x="677" y="434"/>
                  <a:pt x="682" y="466"/>
                </a:cubicBezTo>
                <a:cubicBezTo>
                  <a:pt x="686" y="497"/>
                  <a:pt x="685" y="504"/>
                  <a:pt x="686" y="542"/>
                </a:cubicBezTo>
                <a:cubicBezTo>
                  <a:pt x="686" y="581"/>
                  <a:pt x="686" y="658"/>
                  <a:pt x="686" y="697"/>
                </a:cubicBezTo>
                <a:cubicBezTo>
                  <a:pt x="686" y="736"/>
                  <a:pt x="689" y="779"/>
                  <a:pt x="686" y="778"/>
                </a:cubicBezTo>
                <a:cubicBezTo>
                  <a:pt x="683" y="776"/>
                  <a:pt x="668" y="744"/>
                  <a:pt x="665" y="690"/>
                </a:cubicBezTo>
                <a:cubicBezTo>
                  <a:pt x="662" y="636"/>
                  <a:pt x="673" y="516"/>
                  <a:pt x="665" y="451"/>
                </a:cubicBezTo>
                <a:cubicBezTo>
                  <a:pt x="657" y="387"/>
                  <a:pt x="634" y="341"/>
                  <a:pt x="616" y="304"/>
                </a:cubicBezTo>
                <a:cubicBezTo>
                  <a:pt x="599" y="268"/>
                  <a:pt x="586" y="251"/>
                  <a:pt x="559" y="230"/>
                </a:cubicBezTo>
                <a:cubicBezTo>
                  <a:pt x="532" y="209"/>
                  <a:pt x="550" y="185"/>
                  <a:pt x="457" y="177"/>
                </a:cubicBezTo>
                <a:cubicBezTo>
                  <a:pt x="364" y="170"/>
                  <a:pt x="77" y="189"/>
                  <a:pt x="1" y="185"/>
                </a:cubicBezTo>
                <a:cubicBezTo>
                  <a:pt x="3" y="148"/>
                  <a:pt x="2" y="199"/>
                  <a:pt x="0" y="154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6" name=""/>
          <p:cNvSpPr/>
          <p:nvPr/>
        </p:nvSpPr>
        <p:spPr>
          <a:xfrm flipV="1">
            <a:off x="4888080" y="5792040"/>
            <a:ext cx="183960" cy="50760"/>
          </a:xfrm>
          <a:custGeom>
            <a:avLst/>
            <a:gdLst/>
            <a:ahLst/>
            <a:rect l="l" t="t" r="r" b="b"/>
            <a:pathLst>
              <a:path w="147" h="40">
                <a:moveTo>
                  <a:pt x="1" y="36"/>
                </a:moveTo>
                <a:cubicBezTo>
                  <a:pt x="0" y="40"/>
                  <a:pt x="55" y="36"/>
                  <a:pt x="79" y="31"/>
                </a:cubicBezTo>
                <a:cubicBezTo>
                  <a:pt x="103" y="26"/>
                  <a:pt x="145" y="9"/>
                  <a:pt x="146" y="5"/>
                </a:cubicBezTo>
                <a:cubicBezTo>
                  <a:pt x="147" y="1"/>
                  <a:pt x="108" y="0"/>
                  <a:pt x="84" y="5"/>
                </a:cubicBezTo>
                <a:cubicBezTo>
                  <a:pt x="60" y="10"/>
                  <a:pt x="18" y="30"/>
                  <a:pt x="1" y="36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7" name=""/>
          <p:cNvSpPr/>
          <p:nvPr/>
        </p:nvSpPr>
        <p:spPr>
          <a:xfrm flipV="1">
            <a:off x="5167440" y="5813280"/>
            <a:ext cx="196560" cy="51120"/>
          </a:xfrm>
          <a:custGeom>
            <a:avLst/>
            <a:gdLst/>
            <a:ahLst/>
            <a:rect l="l" t="t" r="r" b="b"/>
            <a:pathLst>
              <a:path w="157" h="42">
                <a:moveTo>
                  <a:pt x="1" y="16"/>
                </a:moveTo>
                <a:cubicBezTo>
                  <a:pt x="0" y="21"/>
                  <a:pt x="50" y="30"/>
                  <a:pt x="76" y="33"/>
                </a:cubicBezTo>
                <a:cubicBezTo>
                  <a:pt x="102" y="33"/>
                  <a:pt x="155" y="42"/>
                  <a:pt x="156" y="37"/>
                </a:cubicBezTo>
                <a:cubicBezTo>
                  <a:pt x="157" y="32"/>
                  <a:pt x="107" y="6"/>
                  <a:pt x="81" y="3"/>
                </a:cubicBezTo>
                <a:cubicBezTo>
                  <a:pt x="55" y="0"/>
                  <a:pt x="2" y="11"/>
                  <a:pt x="1" y="16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8" name=""/>
          <p:cNvSpPr/>
          <p:nvPr/>
        </p:nvSpPr>
        <p:spPr>
          <a:xfrm flipV="1">
            <a:off x="5475240" y="5782680"/>
            <a:ext cx="196920" cy="50760"/>
          </a:xfrm>
          <a:custGeom>
            <a:avLst/>
            <a:gdLst/>
            <a:ahLst/>
            <a:rect l="l" t="t" r="r" b="b"/>
            <a:pathLst>
              <a:path w="157" h="42">
                <a:moveTo>
                  <a:pt x="1" y="16"/>
                </a:moveTo>
                <a:cubicBezTo>
                  <a:pt x="0" y="21"/>
                  <a:pt x="50" y="30"/>
                  <a:pt x="76" y="33"/>
                </a:cubicBezTo>
                <a:cubicBezTo>
                  <a:pt x="102" y="33"/>
                  <a:pt x="155" y="42"/>
                  <a:pt x="156" y="37"/>
                </a:cubicBezTo>
                <a:cubicBezTo>
                  <a:pt x="157" y="32"/>
                  <a:pt x="107" y="6"/>
                  <a:pt x="81" y="3"/>
                </a:cubicBezTo>
                <a:cubicBezTo>
                  <a:pt x="55" y="0"/>
                  <a:pt x="2" y="11"/>
                  <a:pt x="1" y="16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9" name=""/>
          <p:cNvSpPr/>
          <p:nvPr/>
        </p:nvSpPr>
        <p:spPr>
          <a:xfrm>
            <a:off x="5781600" y="5345280"/>
            <a:ext cx="1104840" cy="1319040"/>
          </a:xfrm>
          <a:custGeom>
            <a:avLst/>
            <a:gdLst/>
            <a:ahLst/>
            <a:rect l="l" t="t" r="r" b="b"/>
            <a:pathLst>
              <a:path w="696" h="831">
                <a:moveTo>
                  <a:pt x="692" y="112"/>
                </a:moveTo>
                <a:cubicBezTo>
                  <a:pt x="668" y="107"/>
                  <a:pt x="579" y="109"/>
                  <a:pt x="524" y="109"/>
                </a:cubicBezTo>
                <a:cubicBezTo>
                  <a:pt x="485" y="93"/>
                  <a:pt x="482" y="34"/>
                  <a:pt x="457" y="17"/>
                </a:cubicBezTo>
                <a:cubicBezTo>
                  <a:pt x="432" y="0"/>
                  <a:pt x="403" y="10"/>
                  <a:pt x="371" y="8"/>
                </a:cubicBezTo>
                <a:cubicBezTo>
                  <a:pt x="339" y="6"/>
                  <a:pt x="285" y="4"/>
                  <a:pt x="266" y="6"/>
                </a:cubicBezTo>
                <a:cubicBezTo>
                  <a:pt x="247" y="8"/>
                  <a:pt x="261" y="6"/>
                  <a:pt x="254" y="23"/>
                </a:cubicBezTo>
                <a:cubicBezTo>
                  <a:pt x="247" y="40"/>
                  <a:pt x="239" y="84"/>
                  <a:pt x="224" y="107"/>
                </a:cubicBezTo>
                <a:cubicBezTo>
                  <a:pt x="209" y="129"/>
                  <a:pt x="181" y="143"/>
                  <a:pt x="163" y="156"/>
                </a:cubicBezTo>
                <a:cubicBezTo>
                  <a:pt x="145" y="169"/>
                  <a:pt x="131" y="174"/>
                  <a:pt x="115" y="185"/>
                </a:cubicBezTo>
                <a:cubicBezTo>
                  <a:pt x="99" y="195"/>
                  <a:pt x="84" y="211"/>
                  <a:pt x="66" y="223"/>
                </a:cubicBezTo>
                <a:cubicBezTo>
                  <a:pt x="48" y="235"/>
                  <a:pt x="0" y="258"/>
                  <a:pt x="6" y="258"/>
                </a:cubicBezTo>
                <a:cubicBezTo>
                  <a:pt x="11" y="258"/>
                  <a:pt x="76" y="231"/>
                  <a:pt x="99" y="223"/>
                </a:cubicBezTo>
                <a:cubicBezTo>
                  <a:pt x="122" y="215"/>
                  <a:pt x="146" y="195"/>
                  <a:pt x="143" y="209"/>
                </a:cubicBezTo>
                <a:cubicBezTo>
                  <a:pt x="141" y="223"/>
                  <a:pt x="99" y="279"/>
                  <a:pt x="87" y="311"/>
                </a:cubicBezTo>
                <a:cubicBezTo>
                  <a:pt x="74" y="343"/>
                  <a:pt x="72" y="369"/>
                  <a:pt x="66" y="399"/>
                </a:cubicBezTo>
                <a:cubicBezTo>
                  <a:pt x="61" y="429"/>
                  <a:pt x="57" y="440"/>
                  <a:pt x="54" y="490"/>
                </a:cubicBezTo>
                <a:cubicBezTo>
                  <a:pt x="51" y="539"/>
                  <a:pt x="46" y="646"/>
                  <a:pt x="46" y="697"/>
                </a:cubicBezTo>
                <a:cubicBezTo>
                  <a:pt x="45" y="748"/>
                  <a:pt x="46" y="776"/>
                  <a:pt x="50" y="795"/>
                </a:cubicBezTo>
                <a:cubicBezTo>
                  <a:pt x="54" y="814"/>
                  <a:pt x="67" y="831"/>
                  <a:pt x="70" y="813"/>
                </a:cubicBezTo>
                <a:cubicBezTo>
                  <a:pt x="73" y="794"/>
                  <a:pt x="68" y="735"/>
                  <a:pt x="70" y="687"/>
                </a:cubicBezTo>
                <a:cubicBezTo>
                  <a:pt x="72" y="638"/>
                  <a:pt x="76" y="566"/>
                  <a:pt x="79" y="518"/>
                </a:cubicBezTo>
                <a:cubicBezTo>
                  <a:pt x="81" y="470"/>
                  <a:pt x="76" y="436"/>
                  <a:pt x="83" y="399"/>
                </a:cubicBezTo>
                <a:cubicBezTo>
                  <a:pt x="89" y="362"/>
                  <a:pt x="89" y="332"/>
                  <a:pt x="115" y="293"/>
                </a:cubicBezTo>
                <a:cubicBezTo>
                  <a:pt x="141" y="254"/>
                  <a:pt x="143" y="189"/>
                  <a:pt x="240" y="164"/>
                </a:cubicBezTo>
                <a:cubicBezTo>
                  <a:pt x="337" y="138"/>
                  <a:pt x="620" y="146"/>
                  <a:pt x="696" y="137"/>
                </a:cubicBezTo>
                <a:cubicBezTo>
                  <a:pt x="692" y="84"/>
                  <a:pt x="696" y="140"/>
                  <a:pt x="692" y="112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0" name=""/>
          <p:cNvSpPr/>
          <p:nvPr/>
        </p:nvSpPr>
        <p:spPr>
          <a:xfrm>
            <a:off x="5173560" y="4889520"/>
            <a:ext cx="211320" cy="52200"/>
          </a:xfrm>
          <a:custGeom>
            <a:avLst/>
            <a:gdLst/>
            <a:ahLst/>
            <a:rect l="l" t="t" r="r" b="b"/>
            <a:pathLst>
              <a:path w="169" h="49">
                <a:moveTo>
                  <a:pt x="1" y="27"/>
                </a:moveTo>
                <a:cubicBezTo>
                  <a:pt x="0" y="20"/>
                  <a:pt x="48" y="0"/>
                  <a:pt x="76" y="2"/>
                </a:cubicBezTo>
                <a:cubicBezTo>
                  <a:pt x="104" y="4"/>
                  <a:pt x="167" y="31"/>
                  <a:pt x="168" y="38"/>
                </a:cubicBezTo>
                <a:cubicBezTo>
                  <a:pt x="169" y="45"/>
                  <a:pt x="109" y="49"/>
                  <a:pt x="81" y="47"/>
                </a:cubicBezTo>
                <a:cubicBezTo>
                  <a:pt x="53" y="45"/>
                  <a:pt x="2" y="35"/>
                  <a:pt x="1" y="27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1" name=""/>
          <p:cNvSpPr/>
          <p:nvPr/>
        </p:nvSpPr>
        <p:spPr>
          <a:xfrm>
            <a:off x="3186000" y="1660680"/>
            <a:ext cx="1495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ubulo-glomerulární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autoregul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2" name=""/>
          <p:cNvSpPr/>
          <p:nvPr/>
        </p:nvSpPr>
        <p:spPr>
          <a:xfrm>
            <a:off x="2282760" y="1809720"/>
            <a:ext cx="1251000" cy="1197000"/>
          </a:xfrm>
          <a:custGeom>
            <a:avLst/>
            <a:gdLst/>
            <a:ahLst/>
            <a:rect l="l" t="t" r="r" b="b"/>
            <a:pathLst>
              <a:path w="2436" h="2495">
                <a:moveTo>
                  <a:pt x="774" y="0"/>
                </a:moveTo>
                <a:cubicBezTo>
                  <a:pt x="761" y="22"/>
                  <a:pt x="749" y="44"/>
                  <a:pt x="742" y="69"/>
                </a:cubicBezTo>
                <a:cubicBezTo>
                  <a:pt x="735" y="94"/>
                  <a:pt x="730" y="129"/>
                  <a:pt x="731" y="149"/>
                </a:cubicBezTo>
                <a:cubicBezTo>
                  <a:pt x="732" y="169"/>
                  <a:pt x="742" y="179"/>
                  <a:pt x="747" y="191"/>
                </a:cubicBezTo>
                <a:cubicBezTo>
                  <a:pt x="752" y="203"/>
                  <a:pt x="749" y="219"/>
                  <a:pt x="763" y="223"/>
                </a:cubicBezTo>
                <a:cubicBezTo>
                  <a:pt x="777" y="227"/>
                  <a:pt x="808" y="213"/>
                  <a:pt x="832" y="213"/>
                </a:cubicBezTo>
                <a:cubicBezTo>
                  <a:pt x="856" y="213"/>
                  <a:pt x="879" y="215"/>
                  <a:pt x="906" y="223"/>
                </a:cubicBezTo>
                <a:cubicBezTo>
                  <a:pt x="933" y="231"/>
                  <a:pt x="971" y="233"/>
                  <a:pt x="997" y="260"/>
                </a:cubicBezTo>
                <a:cubicBezTo>
                  <a:pt x="1023" y="287"/>
                  <a:pt x="1032" y="368"/>
                  <a:pt x="1060" y="388"/>
                </a:cubicBezTo>
                <a:cubicBezTo>
                  <a:pt x="1088" y="408"/>
                  <a:pt x="1129" y="380"/>
                  <a:pt x="1163" y="378"/>
                </a:cubicBezTo>
                <a:cubicBezTo>
                  <a:pt x="1197" y="376"/>
                  <a:pt x="1231" y="383"/>
                  <a:pt x="1267" y="378"/>
                </a:cubicBezTo>
                <a:cubicBezTo>
                  <a:pt x="1303" y="373"/>
                  <a:pt x="1343" y="346"/>
                  <a:pt x="1379" y="345"/>
                </a:cubicBezTo>
                <a:cubicBezTo>
                  <a:pt x="1415" y="344"/>
                  <a:pt x="1446" y="365"/>
                  <a:pt x="1484" y="373"/>
                </a:cubicBezTo>
                <a:cubicBezTo>
                  <a:pt x="1522" y="381"/>
                  <a:pt x="1554" y="406"/>
                  <a:pt x="1608" y="394"/>
                </a:cubicBezTo>
                <a:cubicBezTo>
                  <a:pt x="1662" y="382"/>
                  <a:pt x="1743" y="319"/>
                  <a:pt x="1809" y="298"/>
                </a:cubicBezTo>
                <a:cubicBezTo>
                  <a:pt x="1875" y="277"/>
                  <a:pt x="1952" y="268"/>
                  <a:pt x="2006" y="266"/>
                </a:cubicBezTo>
                <a:cubicBezTo>
                  <a:pt x="2060" y="264"/>
                  <a:pt x="2100" y="282"/>
                  <a:pt x="2134" y="288"/>
                </a:cubicBezTo>
                <a:cubicBezTo>
                  <a:pt x="2168" y="294"/>
                  <a:pt x="2180" y="305"/>
                  <a:pt x="2208" y="304"/>
                </a:cubicBezTo>
                <a:cubicBezTo>
                  <a:pt x="2236" y="303"/>
                  <a:pt x="2275" y="270"/>
                  <a:pt x="2303" y="282"/>
                </a:cubicBezTo>
                <a:cubicBezTo>
                  <a:pt x="2331" y="294"/>
                  <a:pt x="2356" y="332"/>
                  <a:pt x="2377" y="377"/>
                </a:cubicBezTo>
                <a:cubicBezTo>
                  <a:pt x="2398" y="422"/>
                  <a:pt x="2424" y="470"/>
                  <a:pt x="2430" y="552"/>
                </a:cubicBezTo>
                <a:cubicBezTo>
                  <a:pt x="2436" y="634"/>
                  <a:pt x="2436" y="755"/>
                  <a:pt x="2414" y="871"/>
                </a:cubicBezTo>
                <a:cubicBezTo>
                  <a:pt x="2392" y="987"/>
                  <a:pt x="2327" y="1146"/>
                  <a:pt x="2298" y="1248"/>
                </a:cubicBezTo>
                <a:cubicBezTo>
                  <a:pt x="2269" y="1350"/>
                  <a:pt x="2262" y="1431"/>
                  <a:pt x="2239" y="1482"/>
                </a:cubicBezTo>
                <a:cubicBezTo>
                  <a:pt x="2216" y="1533"/>
                  <a:pt x="2185" y="1522"/>
                  <a:pt x="2159" y="1556"/>
                </a:cubicBezTo>
                <a:cubicBezTo>
                  <a:pt x="2133" y="1590"/>
                  <a:pt x="2111" y="1641"/>
                  <a:pt x="2085" y="1689"/>
                </a:cubicBezTo>
                <a:cubicBezTo>
                  <a:pt x="2059" y="1737"/>
                  <a:pt x="2037" y="1794"/>
                  <a:pt x="2006" y="1843"/>
                </a:cubicBezTo>
                <a:cubicBezTo>
                  <a:pt x="1975" y="1892"/>
                  <a:pt x="1935" y="1925"/>
                  <a:pt x="1899" y="1986"/>
                </a:cubicBezTo>
                <a:cubicBezTo>
                  <a:pt x="1863" y="2047"/>
                  <a:pt x="1815" y="2152"/>
                  <a:pt x="1788" y="2209"/>
                </a:cubicBezTo>
                <a:cubicBezTo>
                  <a:pt x="1761" y="2266"/>
                  <a:pt x="1763" y="2291"/>
                  <a:pt x="1735" y="2331"/>
                </a:cubicBezTo>
                <a:cubicBezTo>
                  <a:pt x="1707" y="2371"/>
                  <a:pt x="1665" y="2423"/>
                  <a:pt x="1618" y="2448"/>
                </a:cubicBezTo>
                <a:cubicBezTo>
                  <a:pt x="1571" y="2473"/>
                  <a:pt x="1506" y="2495"/>
                  <a:pt x="1453" y="2480"/>
                </a:cubicBezTo>
                <a:cubicBezTo>
                  <a:pt x="1400" y="2465"/>
                  <a:pt x="1358" y="2488"/>
                  <a:pt x="1299" y="2358"/>
                </a:cubicBezTo>
                <a:cubicBezTo>
                  <a:pt x="1240" y="2228"/>
                  <a:pt x="1149" y="1836"/>
                  <a:pt x="1096" y="1702"/>
                </a:cubicBezTo>
                <a:cubicBezTo>
                  <a:pt x="1043" y="1568"/>
                  <a:pt x="1022" y="1603"/>
                  <a:pt x="982" y="1552"/>
                </a:cubicBezTo>
                <a:cubicBezTo>
                  <a:pt x="942" y="1501"/>
                  <a:pt x="938" y="1508"/>
                  <a:pt x="853" y="1397"/>
                </a:cubicBezTo>
                <a:cubicBezTo>
                  <a:pt x="768" y="1286"/>
                  <a:pt x="550" y="990"/>
                  <a:pt x="472" y="888"/>
                </a:cubicBezTo>
                <a:cubicBezTo>
                  <a:pt x="394" y="786"/>
                  <a:pt x="402" y="807"/>
                  <a:pt x="382" y="782"/>
                </a:cubicBezTo>
                <a:cubicBezTo>
                  <a:pt x="362" y="757"/>
                  <a:pt x="366" y="745"/>
                  <a:pt x="350" y="739"/>
                </a:cubicBezTo>
                <a:cubicBezTo>
                  <a:pt x="334" y="733"/>
                  <a:pt x="315" y="740"/>
                  <a:pt x="285" y="744"/>
                </a:cubicBezTo>
                <a:cubicBezTo>
                  <a:pt x="255" y="748"/>
                  <a:pt x="200" y="769"/>
                  <a:pt x="168" y="765"/>
                </a:cubicBezTo>
                <a:cubicBezTo>
                  <a:pt x="136" y="761"/>
                  <a:pt x="115" y="726"/>
                  <a:pt x="94" y="717"/>
                </a:cubicBezTo>
                <a:cubicBezTo>
                  <a:pt x="73" y="708"/>
                  <a:pt x="56" y="692"/>
                  <a:pt x="41" y="712"/>
                </a:cubicBezTo>
                <a:cubicBezTo>
                  <a:pt x="26" y="732"/>
                  <a:pt x="8" y="801"/>
                  <a:pt x="4" y="839"/>
                </a:cubicBezTo>
                <a:cubicBezTo>
                  <a:pt x="0" y="877"/>
                  <a:pt x="11" y="918"/>
                  <a:pt x="14" y="940"/>
                </a:cubicBezTo>
                <a:cubicBezTo>
                  <a:pt x="17" y="962"/>
                  <a:pt x="18" y="967"/>
                  <a:pt x="20" y="972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3" name=""/>
          <p:cNvSpPr/>
          <p:nvPr/>
        </p:nvSpPr>
        <p:spPr>
          <a:xfrm>
            <a:off x="2200320" y="1946160"/>
            <a:ext cx="1252440" cy="1000080"/>
          </a:xfrm>
          <a:custGeom>
            <a:avLst/>
            <a:gdLst/>
            <a:ahLst/>
            <a:rect l="l" t="t" r="r" b="b"/>
            <a:pathLst>
              <a:path w="2437" h="2087">
                <a:moveTo>
                  <a:pt x="486" y="0"/>
                </a:moveTo>
                <a:cubicBezTo>
                  <a:pt x="528" y="1"/>
                  <a:pt x="571" y="2"/>
                  <a:pt x="598" y="5"/>
                </a:cubicBezTo>
                <a:cubicBezTo>
                  <a:pt x="625" y="8"/>
                  <a:pt x="626" y="7"/>
                  <a:pt x="651" y="16"/>
                </a:cubicBezTo>
                <a:cubicBezTo>
                  <a:pt x="676" y="25"/>
                  <a:pt x="720" y="42"/>
                  <a:pt x="747" y="58"/>
                </a:cubicBezTo>
                <a:cubicBezTo>
                  <a:pt x="774" y="74"/>
                  <a:pt x="805" y="92"/>
                  <a:pt x="816" y="111"/>
                </a:cubicBezTo>
                <a:cubicBezTo>
                  <a:pt x="827" y="130"/>
                  <a:pt x="806" y="146"/>
                  <a:pt x="816" y="175"/>
                </a:cubicBezTo>
                <a:cubicBezTo>
                  <a:pt x="826" y="204"/>
                  <a:pt x="847" y="257"/>
                  <a:pt x="879" y="287"/>
                </a:cubicBezTo>
                <a:cubicBezTo>
                  <a:pt x="911" y="317"/>
                  <a:pt x="972" y="346"/>
                  <a:pt x="1007" y="356"/>
                </a:cubicBezTo>
                <a:cubicBezTo>
                  <a:pt x="1042" y="366"/>
                  <a:pt x="1059" y="360"/>
                  <a:pt x="1092" y="345"/>
                </a:cubicBezTo>
                <a:cubicBezTo>
                  <a:pt x="1125" y="330"/>
                  <a:pt x="1167" y="270"/>
                  <a:pt x="1203" y="265"/>
                </a:cubicBezTo>
                <a:cubicBezTo>
                  <a:pt x="1239" y="260"/>
                  <a:pt x="1277" y="307"/>
                  <a:pt x="1310" y="313"/>
                </a:cubicBezTo>
                <a:cubicBezTo>
                  <a:pt x="1343" y="319"/>
                  <a:pt x="1370" y="306"/>
                  <a:pt x="1400" y="303"/>
                </a:cubicBezTo>
                <a:cubicBezTo>
                  <a:pt x="1430" y="300"/>
                  <a:pt x="1465" y="290"/>
                  <a:pt x="1490" y="292"/>
                </a:cubicBezTo>
                <a:cubicBezTo>
                  <a:pt x="1515" y="294"/>
                  <a:pt x="1524" y="301"/>
                  <a:pt x="1548" y="313"/>
                </a:cubicBezTo>
                <a:cubicBezTo>
                  <a:pt x="1572" y="325"/>
                  <a:pt x="1592" y="358"/>
                  <a:pt x="1633" y="366"/>
                </a:cubicBezTo>
                <a:cubicBezTo>
                  <a:pt x="1674" y="374"/>
                  <a:pt x="1736" y="373"/>
                  <a:pt x="1793" y="361"/>
                </a:cubicBezTo>
                <a:cubicBezTo>
                  <a:pt x="1850" y="349"/>
                  <a:pt x="1927" y="312"/>
                  <a:pt x="1973" y="292"/>
                </a:cubicBezTo>
                <a:cubicBezTo>
                  <a:pt x="2019" y="272"/>
                  <a:pt x="2023" y="247"/>
                  <a:pt x="2067" y="240"/>
                </a:cubicBezTo>
                <a:cubicBezTo>
                  <a:pt x="2111" y="233"/>
                  <a:pt x="2182" y="251"/>
                  <a:pt x="2239" y="249"/>
                </a:cubicBezTo>
                <a:cubicBezTo>
                  <a:pt x="2296" y="247"/>
                  <a:pt x="2381" y="200"/>
                  <a:pt x="2409" y="228"/>
                </a:cubicBezTo>
                <a:cubicBezTo>
                  <a:pt x="2437" y="256"/>
                  <a:pt x="2417" y="343"/>
                  <a:pt x="2409" y="419"/>
                </a:cubicBezTo>
                <a:cubicBezTo>
                  <a:pt x="2401" y="495"/>
                  <a:pt x="2388" y="595"/>
                  <a:pt x="2361" y="685"/>
                </a:cubicBezTo>
                <a:cubicBezTo>
                  <a:pt x="2334" y="775"/>
                  <a:pt x="2268" y="887"/>
                  <a:pt x="2244" y="961"/>
                </a:cubicBezTo>
                <a:cubicBezTo>
                  <a:pt x="2220" y="1035"/>
                  <a:pt x="2223" y="1083"/>
                  <a:pt x="2217" y="1131"/>
                </a:cubicBezTo>
                <a:cubicBezTo>
                  <a:pt x="2211" y="1179"/>
                  <a:pt x="2231" y="1189"/>
                  <a:pt x="2207" y="1248"/>
                </a:cubicBezTo>
                <a:cubicBezTo>
                  <a:pt x="2183" y="1307"/>
                  <a:pt x="2117" y="1403"/>
                  <a:pt x="2074" y="1486"/>
                </a:cubicBezTo>
                <a:cubicBezTo>
                  <a:pt x="2031" y="1569"/>
                  <a:pt x="1980" y="1672"/>
                  <a:pt x="1947" y="1747"/>
                </a:cubicBezTo>
                <a:cubicBezTo>
                  <a:pt x="1914" y="1822"/>
                  <a:pt x="1902" y="1889"/>
                  <a:pt x="1878" y="1938"/>
                </a:cubicBezTo>
                <a:cubicBezTo>
                  <a:pt x="1854" y="1987"/>
                  <a:pt x="1834" y="2016"/>
                  <a:pt x="1803" y="2039"/>
                </a:cubicBezTo>
                <a:cubicBezTo>
                  <a:pt x="1772" y="2062"/>
                  <a:pt x="1740" y="2087"/>
                  <a:pt x="1692" y="2076"/>
                </a:cubicBezTo>
                <a:cubicBezTo>
                  <a:pt x="1644" y="2065"/>
                  <a:pt x="1556" y="2040"/>
                  <a:pt x="1517" y="1970"/>
                </a:cubicBezTo>
                <a:cubicBezTo>
                  <a:pt x="1478" y="1900"/>
                  <a:pt x="1490" y="1768"/>
                  <a:pt x="1458" y="1656"/>
                </a:cubicBezTo>
                <a:cubicBezTo>
                  <a:pt x="1426" y="1544"/>
                  <a:pt x="1352" y="1384"/>
                  <a:pt x="1327" y="1300"/>
                </a:cubicBezTo>
                <a:cubicBezTo>
                  <a:pt x="1302" y="1216"/>
                  <a:pt x="1320" y="1196"/>
                  <a:pt x="1306" y="1150"/>
                </a:cubicBezTo>
                <a:cubicBezTo>
                  <a:pt x="1292" y="1104"/>
                  <a:pt x="1268" y="1069"/>
                  <a:pt x="1244" y="1025"/>
                </a:cubicBezTo>
                <a:cubicBezTo>
                  <a:pt x="1220" y="981"/>
                  <a:pt x="1208" y="948"/>
                  <a:pt x="1162" y="886"/>
                </a:cubicBezTo>
                <a:cubicBezTo>
                  <a:pt x="1116" y="824"/>
                  <a:pt x="1031" y="724"/>
                  <a:pt x="970" y="653"/>
                </a:cubicBezTo>
                <a:cubicBezTo>
                  <a:pt x="909" y="582"/>
                  <a:pt x="841" y="517"/>
                  <a:pt x="794" y="462"/>
                </a:cubicBezTo>
                <a:cubicBezTo>
                  <a:pt x="747" y="407"/>
                  <a:pt x="733" y="372"/>
                  <a:pt x="686" y="322"/>
                </a:cubicBezTo>
                <a:cubicBezTo>
                  <a:pt x="639" y="272"/>
                  <a:pt x="561" y="177"/>
                  <a:pt x="513" y="159"/>
                </a:cubicBezTo>
                <a:cubicBezTo>
                  <a:pt x="465" y="141"/>
                  <a:pt x="431" y="201"/>
                  <a:pt x="396" y="212"/>
                </a:cubicBezTo>
                <a:cubicBezTo>
                  <a:pt x="361" y="223"/>
                  <a:pt x="337" y="233"/>
                  <a:pt x="301" y="228"/>
                </a:cubicBezTo>
                <a:cubicBezTo>
                  <a:pt x="265" y="223"/>
                  <a:pt x="217" y="177"/>
                  <a:pt x="178" y="180"/>
                </a:cubicBezTo>
                <a:cubicBezTo>
                  <a:pt x="139" y="183"/>
                  <a:pt x="95" y="200"/>
                  <a:pt x="67" y="244"/>
                </a:cubicBezTo>
                <a:cubicBezTo>
                  <a:pt x="39" y="288"/>
                  <a:pt x="18" y="379"/>
                  <a:pt x="9" y="446"/>
                </a:cubicBezTo>
                <a:cubicBezTo>
                  <a:pt x="0" y="513"/>
                  <a:pt x="13" y="615"/>
                  <a:pt x="14" y="648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4" name=""/>
          <p:cNvSpPr/>
          <p:nvPr/>
        </p:nvSpPr>
        <p:spPr>
          <a:xfrm>
            <a:off x="2440080" y="1795320"/>
            <a:ext cx="206280" cy="157320"/>
          </a:xfrm>
          <a:custGeom>
            <a:avLst/>
            <a:gdLst/>
            <a:ahLst/>
            <a:rect l="l" t="t" r="r" b="b"/>
            <a:pathLst>
              <a:path w="404" h="329">
                <a:moveTo>
                  <a:pt x="0" y="245"/>
                </a:moveTo>
                <a:cubicBezTo>
                  <a:pt x="51" y="248"/>
                  <a:pt x="105" y="249"/>
                  <a:pt x="154" y="261"/>
                </a:cubicBezTo>
                <a:cubicBezTo>
                  <a:pt x="203" y="273"/>
                  <a:pt x="258" y="309"/>
                  <a:pt x="292" y="319"/>
                </a:cubicBezTo>
                <a:cubicBezTo>
                  <a:pt x="326" y="329"/>
                  <a:pt x="345" y="327"/>
                  <a:pt x="361" y="319"/>
                </a:cubicBezTo>
                <a:cubicBezTo>
                  <a:pt x="377" y="311"/>
                  <a:pt x="386" y="297"/>
                  <a:pt x="388" y="271"/>
                </a:cubicBezTo>
                <a:cubicBezTo>
                  <a:pt x="390" y="245"/>
                  <a:pt x="375" y="199"/>
                  <a:pt x="372" y="165"/>
                </a:cubicBezTo>
                <a:cubicBezTo>
                  <a:pt x="369" y="131"/>
                  <a:pt x="367" y="91"/>
                  <a:pt x="372" y="64"/>
                </a:cubicBezTo>
                <a:cubicBezTo>
                  <a:pt x="377" y="37"/>
                  <a:pt x="390" y="18"/>
                  <a:pt x="404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5" name=""/>
          <p:cNvSpPr/>
          <p:nvPr/>
        </p:nvSpPr>
        <p:spPr>
          <a:xfrm>
            <a:off x="3408480" y="1994040"/>
            <a:ext cx="71280" cy="183960"/>
          </a:xfrm>
          <a:custGeom>
            <a:avLst/>
            <a:gdLst/>
            <a:ahLst/>
            <a:rect l="l" t="t" r="r" b="b"/>
            <a:pathLst>
              <a:path w="140" h="383">
                <a:moveTo>
                  <a:pt x="0" y="0"/>
                </a:moveTo>
                <a:cubicBezTo>
                  <a:pt x="12" y="4"/>
                  <a:pt x="51" y="9"/>
                  <a:pt x="73" y="26"/>
                </a:cubicBezTo>
                <a:cubicBezTo>
                  <a:pt x="94" y="42"/>
                  <a:pt x="119" y="45"/>
                  <a:pt x="130" y="104"/>
                </a:cubicBezTo>
                <a:lnTo>
                  <a:pt x="140" y="383"/>
                </a:ln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6" name=""/>
          <p:cNvSpPr/>
          <p:nvPr/>
        </p:nvSpPr>
        <p:spPr>
          <a:xfrm>
            <a:off x="2495520" y="1971720"/>
            <a:ext cx="125280" cy="10944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7" name=""/>
          <p:cNvSpPr/>
          <p:nvPr/>
        </p:nvSpPr>
        <p:spPr>
          <a:xfrm>
            <a:off x="2482920" y="2004840"/>
            <a:ext cx="315720" cy="486000"/>
          </a:xfrm>
          <a:custGeom>
            <a:avLst/>
            <a:gdLst/>
            <a:ahLst/>
            <a:rect l="l" t="t" r="r" b="b"/>
            <a:pathLst>
              <a:path w="199" h="306">
                <a:moveTo>
                  <a:pt x="199" y="306"/>
                </a:moveTo>
                <a:cubicBezTo>
                  <a:pt x="183" y="287"/>
                  <a:pt x="131" y="227"/>
                  <a:pt x="100" y="191"/>
                </a:cubicBezTo>
                <a:cubicBezTo>
                  <a:pt x="75" y="160"/>
                  <a:pt x="28" y="115"/>
                  <a:pt x="14" y="89"/>
                </a:cubicBezTo>
                <a:cubicBezTo>
                  <a:pt x="0" y="63"/>
                  <a:pt x="6" y="52"/>
                  <a:pt x="13" y="37"/>
                </a:cubicBezTo>
                <a:cubicBezTo>
                  <a:pt x="20" y="22"/>
                  <a:pt x="46" y="8"/>
                  <a:pt x="55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8" name=""/>
          <p:cNvSpPr/>
          <p:nvPr/>
        </p:nvSpPr>
        <p:spPr>
          <a:xfrm>
            <a:off x="2243160" y="2111400"/>
            <a:ext cx="274680" cy="58680"/>
          </a:xfrm>
          <a:custGeom>
            <a:avLst/>
            <a:gdLst/>
            <a:ahLst/>
            <a:rect l="l" t="t" r="r" b="b"/>
            <a:pathLst>
              <a:path w="173" h="37">
                <a:moveTo>
                  <a:pt x="173" y="37"/>
                </a:moveTo>
                <a:cubicBezTo>
                  <a:pt x="166" y="32"/>
                  <a:pt x="160" y="11"/>
                  <a:pt x="131" y="7"/>
                </a:cubicBezTo>
                <a:cubicBezTo>
                  <a:pt x="109" y="0"/>
                  <a:pt x="29" y="13"/>
                  <a:pt x="0" y="15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9" name=""/>
          <p:cNvSpPr/>
          <p:nvPr/>
        </p:nvSpPr>
        <p:spPr>
          <a:xfrm>
            <a:off x="4267080" y="1265400"/>
            <a:ext cx="212760" cy="245880"/>
          </a:xfrm>
          <a:prstGeom prst="ellipse">
            <a:avLst/>
          </a:prstGeom>
          <a:solidFill>
            <a:srgbClr val="ffff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baseline="2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0" name=""/>
          <p:cNvSpPr/>
          <p:nvPr/>
        </p:nvSpPr>
        <p:spPr>
          <a:xfrm>
            <a:off x="3898800" y="1281240"/>
            <a:ext cx="212760" cy="245880"/>
          </a:xfrm>
          <a:prstGeom prst="ellipse">
            <a:avLst/>
          </a:prstGeom>
          <a:solidFill>
            <a:srgbClr val="ffff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baseline="10000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1" name=""/>
          <p:cNvSpPr/>
          <p:nvPr/>
        </p:nvSpPr>
        <p:spPr>
          <a:xfrm>
            <a:off x="2612880" y="1455840"/>
            <a:ext cx="1651320" cy="539640"/>
          </a:xfrm>
          <a:custGeom>
            <a:avLst/>
            <a:gdLst/>
            <a:ahLst/>
            <a:rect l="l" t="t" r="r" b="b"/>
            <a:pathLst>
              <a:path w="1040" h="340">
                <a:moveTo>
                  <a:pt x="0" y="340"/>
                </a:moveTo>
                <a:cubicBezTo>
                  <a:pt x="80" y="292"/>
                  <a:pt x="349" y="78"/>
                  <a:pt x="478" y="51"/>
                </a:cubicBezTo>
                <a:cubicBezTo>
                  <a:pt x="592" y="0"/>
                  <a:pt x="682" y="179"/>
                  <a:pt x="773" y="175"/>
                </a:cubicBezTo>
                <a:cubicBezTo>
                  <a:pt x="833" y="185"/>
                  <a:pt x="962" y="198"/>
                  <a:pt x="1001" y="170"/>
                </a:cubicBezTo>
                <a:cubicBezTo>
                  <a:pt x="1040" y="142"/>
                  <a:pt x="1005" y="39"/>
                  <a:pt x="1006" y="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2" name=""/>
          <p:cNvSpPr/>
          <p:nvPr/>
        </p:nvSpPr>
        <p:spPr>
          <a:xfrm flipH="1">
            <a:off x="326520" y="2973240"/>
            <a:ext cx="1800" cy="362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3" name=""/>
          <p:cNvSpPr/>
          <p:nvPr/>
        </p:nvSpPr>
        <p:spPr>
          <a:xfrm>
            <a:off x="414720" y="2984400"/>
            <a:ext cx="100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erfúzní tlak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4" name=""/>
          <p:cNvSpPr/>
          <p:nvPr/>
        </p:nvSpPr>
        <p:spPr>
          <a:xfrm>
            <a:off x="4994280" y="4503600"/>
            <a:ext cx="106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angiotensin 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5" name=""/>
          <p:cNvSpPr/>
          <p:nvPr/>
        </p:nvSpPr>
        <p:spPr>
          <a:xfrm>
            <a:off x="2035080" y="6170760"/>
            <a:ext cx="1354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Aktivita sympatik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6" name=""/>
          <p:cNvSpPr/>
          <p:nvPr/>
        </p:nvSpPr>
        <p:spPr>
          <a:xfrm>
            <a:off x="2154240" y="3949560"/>
            <a:ext cx="1127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Vasokonstrik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vas affer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7" name=""/>
          <p:cNvSpPr/>
          <p:nvPr/>
        </p:nvSpPr>
        <p:spPr>
          <a:xfrm rot="3364800">
            <a:off x="2714400" y="3461760"/>
            <a:ext cx="79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blokování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8" name=""/>
          <p:cNvSpPr/>
          <p:nvPr/>
        </p:nvSpPr>
        <p:spPr>
          <a:xfrm>
            <a:off x="866160" y="939960"/>
            <a:ext cx="1669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Zvýšení transmurálníh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laku v cévě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9" name=""/>
          <p:cNvSpPr/>
          <p:nvPr/>
        </p:nvSpPr>
        <p:spPr>
          <a:xfrm>
            <a:off x="2559240" y="1054080"/>
            <a:ext cx="1093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autoregulační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vasokonstrik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0" name=""/>
          <p:cNvSpPr/>
          <p:nvPr/>
        </p:nvSpPr>
        <p:spPr>
          <a:xfrm>
            <a:off x="4267800" y="923760"/>
            <a:ext cx="1305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růtok se nezmění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1" name=""/>
          <p:cNvSpPr/>
          <p:nvPr/>
        </p:nvSpPr>
        <p:spPr>
          <a:xfrm>
            <a:off x="708840" y="325440"/>
            <a:ext cx="1636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Snížení transmurálníh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laku v cévě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2" name=""/>
          <p:cNvSpPr/>
          <p:nvPr/>
        </p:nvSpPr>
        <p:spPr>
          <a:xfrm>
            <a:off x="2490480" y="461880"/>
            <a:ext cx="100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autoregulační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vasodilat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3" name=""/>
          <p:cNvSpPr/>
          <p:nvPr/>
        </p:nvSpPr>
        <p:spPr>
          <a:xfrm flipV="1">
            <a:off x="3568680" y="1118880"/>
            <a:ext cx="695520" cy="65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4" name=""/>
          <p:cNvSpPr/>
          <p:nvPr/>
        </p:nvSpPr>
        <p:spPr>
          <a:xfrm>
            <a:off x="3395520" y="797040"/>
            <a:ext cx="868680" cy="231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5" name=""/>
          <p:cNvSpPr/>
          <p:nvPr/>
        </p:nvSpPr>
        <p:spPr>
          <a:xfrm>
            <a:off x="2017800" y="639720"/>
            <a:ext cx="476280" cy="58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6" name=""/>
          <p:cNvSpPr/>
          <p:nvPr/>
        </p:nvSpPr>
        <p:spPr>
          <a:xfrm>
            <a:off x="1940040" y="1241280"/>
            <a:ext cx="601560" cy="47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7" name=""/>
          <p:cNvSpPr/>
          <p:nvPr/>
        </p:nvSpPr>
        <p:spPr>
          <a:xfrm>
            <a:off x="3606480" y="4068720"/>
            <a:ext cx="1194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rostaglandin E</a:t>
            </a:r>
            <a:r>
              <a:rPr b="0" lang="cs-CZ" sz="1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8" name=""/>
          <p:cNvSpPr/>
          <p:nvPr/>
        </p:nvSpPr>
        <p:spPr>
          <a:xfrm flipH="1">
            <a:off x="3578400" y="4008600"/>
            <a:ext cx="1440" cy="2556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9" name=""/>
          <p:cNvSpPr/>
          <p:nvPr/>
        </p:nvSpPr>
        <p:spPr>
          <a:xfrm>
            <a:off x="3544200" y="3384720"/>
            <a:ext cx="1102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Vasokonstrik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vas affer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je zabráně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0" name=""/>
          <p:cNvSpPr/>
          <p:nvPr/>
        </p:nvSpPr>
        <p:spPr>
          <a:xfrm>
            <a:off x="2071800" y="3745080"/>
            <a:ext cx="280800" cy="245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1" name=""/>
          <p:cNvSpPr/>
          <p:nvPr/>
        </p:nvSpPr>
        <p:spPr>
          <a:xfrm>
            <a:off x="2755800" y="3768840"/>
            <a:ext cx="303480" cy="123840"/>
          </a:xfrm>
          <a:custGeom>
            <a:avLst/>
            <a:gdLst/>
            <a:ahLst/>
            <a:rect l="l" t="t" r="r" b="b"/>
            <a:pathLst>
              <a:path w="191" h="78">
                <a:moveTo>
                  <a:pt x="191" y="0"/>
                </a:moveTo>
                <a:lnTo>
                  <a:pt x="0" y="7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2" name=""/>
          <p:cNvSpPr/>
          <p:nvPr/>
        </p:nvSpPr>
        <p:spPr>
          <a:xfrm>
            <a:off x="3014640" y="3211560"/>
            <a:ext cx="423720" cy="64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3" name=""/>
          <p:cNvSpPr/>
          <p:nvPr/>
        </p:nvSpPr>
        <p:spPr>
          <a:xfrm>
            <a:off x="404640" y="3309840"/>
            <a:ext cx="4378320" cy="1685880"/>
          </a:xfrm>
          <a:custGeom>
            <a:avLst/>
            <a:gdLst/>
            <a:ahLst/>
            <a:rect l="l" t="t" r="r" b="b"/>
            <a:pathLst>
              <a:path w="2758" h="1062">
                <a:moveTo>
                  <a:pt x="141" y="0"/>
                </a:moveTo>
                <a:cubicBezTo>
                  <a:pt x="136" y="83"/>
                  <a:pt x="0" y="354"/>
                  <a:pt x="110" y="501"/>
                </a:cubicBezTo>
                <a:cubicBezTo>
                  <a:pt x="220" y="648"/>
                  <a:pt x="550" y="796"/>
                  <a:pt x="803" y="880"/>
                </a:cubicBezTo>
                <a:cubicBezTo>
                  <a:pt x="1056" y="964"/>
                  <a:pt x="1168" y="1062"/>
                  <a:pt x="1631" y="1003"/>
                </a:cubicBezTo>
                <a:cubicBezTo>
                  <a:pt x="2094" y="944"/>
                  <a:pt x="2523" y="901"/>
                  <a:pt x="2758" y="87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4" name=""/>
          <p:cNvSpPr/>
          <p:nvPr/>
        </p:nvSpPr>
        <p:spPr>
          <a:xfrm flipV="1">
            <a:off x="3308400" y="3557520"/>
            <a:ext cx="309600" cy="122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5" name=""/>
          <p:cNvSpPr/>
          <p:nvPr/>
        </p:nvSpPr>
        <p:spPr>
          <a:xfrm flipH="1">
            <a:off x="2322000" y="5264280"/>
            <a:ext cx="1800" cy="36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6" name=""/>
          <p:cNvSpPr/>
          <p:nvPr/>
        </p:nvSpPr>
        <p:spPr>
          <a:xfrm>
            <a:off x="2381760" y="5251320"/>
            <a:ext cx="96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erfúzní tla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7" name=""/>
          <p:cNvSpPr/>
          <p:nvPr/>
        </p:nvSpPr>
        <p:spPr>
          <a:xfrm flipH="1">
            <a:off x="2182320" y="5256360"/>
            <a:ext cx="1800" cy="36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8" name=""/>
          <p:cNvSpPr/>
          <p:nvPr/>
        </p:nvSpPr>
        <p:spPr>
          <a:xfrm flipH="1">
            <a:off x="2034720" y="5256360"/>
            <a:ext cx="1800" cy="36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9" name=""/>
          <p:cNvSpPr/>
          <p:nvPr/>
        </p:nvSpPr>
        <p:spPr>
          <a:xfrm>
            <a:off x="2903400" y="5970600"/>
            <a:ext cx="590760" cy="196920"/>
          </a:xfrm>
          <a:custGeom>
            <a:avLst/>
            <a:gdLst/>
            <a:ahLst/>
            <a:rect l="l" t="t" r="r" b="b"/>
            <a:pathLst>
              <a:path w="372" h="124">
                <a:moveTo>
                  <a:pt x="0" y="124"/>
                </a:moveTo>
                <a:lnTo>
                  <a:pt x="37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0" name=""/>
          <p:cNvSpPr/>
          <p:nvPr/>
        </p:nvSpPr>
        <p:spPr>
          <a:xfrm>
            <a:off x="2746440" y="5468760"/>
            <a:ext cx="1440" cy="632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1" name=""/>
          <p:cNvSpPr/>
          <p:nvPr/>
        </p:nvSpPr>
        <p:spPr>
          <a:xfrm>
            <a:off x="4802400" y="6551640"/>
            <a:ext cx="106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angiotensin 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2" name=""/>
          <p:cNvSpPr/>
          <p:nvPr/>
        </p:nvSpPr>
        <p:spPr>
          <a:xfrm>
            <a:off x="6113520" y="5626080"/>
            <a:ext cx="1127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Vasokonstrik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vas effer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3" name=""/>
          <p:cNvSpPr/>
          <p:nvPr/>
        </p:nvSpPr>
        <p:spPr>
          <a:xfrm>
            <a:off x="6162480" y="3449520"/>
            <a:ext cx="1127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Vasokonstrik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vas effer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4" name=""/>
          <p:cNvSpPr/>
          <p:nvPr/>
        </p:nvSpPr>
        <p:spPr>
          <a:xfrm>
            <a:off x="1490760" y="5573880"/>
            <a:ext cx="3336840" cy="1144440"/>
          </a:xfrm>
          <a:custGeom>
            <a:avLst/>
            <a:gdLst/>
            <a:ahLst/>
            <a:rect l="l" t="t" r="r" b="b"/>
            <a:pathLst>
              <a:path w="2102" h="721">
                <a:moveTo>
                  <a:pt x="745" y="0"/>
                </a:moveTo>
                <a:cubicBezTo>
                  <a:pt x="624" y="97"/>
                  <a:pt x="0" y="464"/>
                  <a:pt x="16" y="580"/>
                </a:cubicBezTo>
                <a:cubicBezTo>
                  <a:pt x="28" y="680"/>
                  <a:pt x="592" y="682"/>
                  <a:pt x="843" y="698"/>
                </a:cubicBezTo>
                <a:lnTo>
                  <a:pt x="2102" y="721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5" name=""/>
          <p:cNvSpPr/>
          <p:nvPr/>
        </p:nvSpPr>
        <p:spPr>
          <a:xfrm>
            <a:off x="5832360" y="6103800"/>
            <a:ext cx="849600" cy="611280"/>
          </a:xfrm>
          <a:custGeom>
            <a:avLst/>
            <a:gdLst/>
            <a:ahLst/>
            <a:rect l="l" t="t" r="r" b="b"/>
            <a:pathLst>
              <a:path w="535" h="385">
                <a:moveTo>
                  <a:pt x="0" y="385"/>
                </a:moveTo>
                <a:cubicBezTo>
                  <a:pt x="56" y="366"/>
                  <a:pt x="245" y="336"/>
                  <a:pt x="334" y="272"/>
                </a:cubicBezTo>
                <a:cubicBezTo>
                  <a:pt x="423" y="208"/>
                  <a:pt x="493" y="57"/>
                  <a:pt x="535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6" name=""/>
          <p:cNvSpPr/>
          <p:nvPr/>
        </p:nvSpPr>
        <p:spPr>
          <a:xfrm>
            <a:off x="5958000" y="3919680"/>
            <a:ext cx="730080" cy="608040"/>
          </a:xfrm>
          <a:custGeom>
            <a:avLst/>
            <a:gdLst/>
            <a:ahLst/>
            <a:rect l="l" t="t" r="r" b="b"/>
            <a:pathLst>
              <a:path w="460" h="383">
                <a:moveTo>
                  <a:pt x="0" y="383"/>
                </a:moveTo>
                <a:lnTo>
                  <a:pt x="46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7" name=""/>
          <p:cNvSpPr/>
          <p:nvPr/>
        </p:nvSpPr>
        <p:spPr>
          <a:xfrm>
            <a:off x="4678560" y="2138400"/>
            <a:ext cx="1093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GF se nezmění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8" name=""/>
          <p:cNvSpPr/>
          <p:nvPr/>
        </p:nvSpPr>
        <p:spPr>
          <a:xfrm>
            <a:off x="4429800" y="529128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růtok pokles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9" name=""/>
          <p:cNvSpPr/>
          <p:nvPr/>
        </p:nvSpPr>
        <p:spPr>
          <a:xfrm>
            <a:off x="4826160" y="4133880"/>
            <a:ext cx="1093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GF se nezmění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0" name=""/>
          <p:cNvSpPr/>
          <p:nvPr/>
        </p:nvSpPr>
        <p:spPr>
          <a:xfrm>
            <a:off x="4718160" y="6137280"/>
            <a:ext cx="95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GF pokles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1" name=""/>
          <p:cNvSpPr/>
          <p:nvPr/>
        </p:nvSpPr>
        <p:spPr>
          <a:xfrm>
            <a:off x="1320480" y="3429000"/>
            <a:ext cx="1354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Aktivita sympatik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2" name=""/>
          <p:cNvSpPr/>
          <p:nvPr/>
        </p:nvSpPr>
        <p:spPr>
          <a:xfrm>
            <a:off x="1376280" y="3168720"/>
            <a:ext cx="44460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3" name=""/>
          <p:cNvSpPr/>
          <p:nvPr/>
        </p:nvSpPr>
        <p:spPr>
          <a:xfrm>
            <a:off x="3951360" y="6207120"/>
            <a:ext cx="817560" cy="463680"/>
          </a:xfrm>
          <a:custGeom>
            <a:avLst/>
            <a:gdLst/>
            <a:ahLst/>
            <a:rect l="l" t="t" r="r" b="b"/>
            <a:pathLst>
              <a:path w="279" h="212">
                <a:moveTo>
                  <a:pt x="279" y="212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4" name=""/>
          <p:cNvSpPr/>
          <p:nvPr/>
        </p:nvSpPr>
        <p:spPr>
          <a:xfrm>
            <a:off x="3429000" y="5715000"/>
            <a:ext cx="1127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Vasokonstrik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vas affer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5" name=""/>
          <p:cNvSpPr/>
          <p:nvPr/>
        </p:nvSpPr>
        <p:spPr>
          <a:xfrm>
            <a:off x="3133800" y="4343400"/>
            <a:ext cx="1747800" cy="287280"/>
          </a:xfrm>
          <a:custGeom>
            <a:avLst/>
            <a:gdLst/>
            <a:ahLst/>
            <a:rect l="l" t="t" r="r" b="b"/>
            <a:pathLst>
              <a:path w="1101" h="181">
                <a:moveTo>
                  <a:pt x="1101" y="181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6" name=""/>
          <p:cNvSpPr/>
          <p:nvPr/>
        </p:nvSpPr>
        <p:spPr>
          <a:xfrm>
            <a:off x="4192560" y="4343400"/>
            <a:ext cx="706320" cy="279360"/>
          </a:xfrm>
          <a:custGeom>
            <a:avLst/>
            <a:gdLst/>
            <a:ahLst/>
            <a:rect l="l" t="t" r="r" b="b"/>
            <a:pathLst>
              <a:path w="445" h="176">
                <a:moveTo>
                  <a:pt x="445" y="176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7" name=""/>
          <p:cNvSpPr/>
          <p:nvPr/>
        </p:nvSpPr>
        <p:spPr>
          <a:xfrm>
            <a:off x="2817720" y="3367080"/>
            <a:ext cx="424080" cy="641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8" name=""/>
          <p:cNvSpPr/>
          <p:nvPr/>
        </p:nvSpPr>
        <p:spPr>
          <a:xfrm>
            <a:off x="3298680" y="3859200"/>
            <a:ext cx="181080" cy="246240"/>
          </a:xfrm>
          <a:custGeom>
            <a:avLst/>
            <a:gdLst/>
            <a:ahLst/>
            <a:rect l="l" t="t" r="r" b="b"/>
            <a:pathLst>
              <a:path w="114" h="155">
                <a:moveTo>
                  <a:pt x="114" y="155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9" name=""/>
          <p:cNvSpPr/>
          <p:nvPr/>
        </p:nvSpPr>
        <p:spPr>
          <a:xfrm>
            <a:off x="1857240" y="3727440"/>
            <a:ext cx="2229120" cy="1060560"/>
          </a:xfrm>
          <a:custGeom>
            <a:avLst/>
            <a:gdLst/>
            <a:ahLst/>
            <a:rect l="l" t="t" r="r" b="b"/>
            <a:pathLst>
              <a:path w="1404" h="668">
                <a:moveTo>
                  <a:pt x="121" y="0"/>
                </a:moveTo>
                <a:cubicBezTo>
                  <a:pt x="118" y="76"/>
                  <a:pt x="0" y="346"/>
                  <a:pt x="100" y="456"/>
                </a:cubicBezTo>
                <a:cubicBezTo>
                  <a:pt x="200" y="566"/>
                  <a:pt x="504" y="668"/>
                  <a:pt x="721" y="657"/>
                </a:cubicBezTo>
                <a:cubicBezTo>
                  <a:pt x="938" y="646"/>
                  <a:pt x="1262" y="444"/>
                  <a:pt x="1404" y="3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0" name=""/>
          <p:cNvSpPr/>
          <p:nvPr/>
        </p:nvSpPr>
        <p:spPr>
          <a:xfrm flipH="1">
            <a:off x="1302840" y="3467160"/>
            <a:ext cx="1800" cy="2556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1" name=""/>
          <p:cNvSpPr/>
          <p:nvPr/>
        </p:nvSpPr>
        <p:spPr>
          <a:xfrm flipH="1">
            <a:off x="2041560" y="6184800"/>
            <a:ext cx="1440" cy="2556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2" name=""/>
          <p:cNvSpPr/>
          <p:nvPr/>
        </p:nvSpPr>
        <p:spPr>
          <a:xfrm flipH="1">
            <a:off x="1886040" y="6184800"/>
            <a:ext cx="1440" cy="2556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3" name=""/>
          <p:cNvSpPr/>
          <p:nvPr/>
        </p:nvSpPr>
        <p:spPr>
          <a:xfrm flipH="1">
            <a:off x="4871520" y="6515280"/>
            <a:ext cx="1800" cy="2552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4" name=""/>
          <p:cNvSpPr/>
          <p:nvPr/>
        </p:nvSpPr>
        <p:spPr>
          <a:xfrm flipH="1">
            <a:off x="4965840" y="4508640"/>
            <a:ext cx="1440" cy="2556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5" name=""/>
          <p:cNvSpPr/>
          <p:nvPr/>
        </p:nvSpPr>
        <p:spPr>
          <a:xfrm>
            <a:off x="6283440" y="3211560"/>
            <a:ext cx="255600" cy="253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6" name=""/>
          <p:cNvSpPr/>
          <p:nvPr/>
        </p:nvSpPr>
        <p:spPr>
          <a:xfrm flipH="1">
            <a:off x="4265640" y="5502240"/>
            <a:ext cx="22320" cy="246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7" name=""/>
          <p:cNvSpPr/>
          <p:nvPr/>
        </p:nvSpPr>
        <p:spPr>
          <a:xfrm>
            <a:off x="6324480" y="5445000"/>
            <a:ext cx="255600" cy="2541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8" name=""/>
          <p:cNvSpPr/>
          <p:nvPr/>
        </p:nvSpPr>
        <p:spPr>
          <a:xfrm>
            <a:off x="4521600" y="2935440"/>
            <a:ext cx="1305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růtok se nezmění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9" name=""/>
          <p:cNvSpPr/>
          <p:nvPr/>
        </p:nvSpPr>
        <p:spPr>
          <a:xfrm>
            <a:off x="6924600" y="74520"/>
            <a:ext cx="2216160" cy="1897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0" name=""/>
          <p:cNvSpPr/>
          <p:nvPr/>
        </p:nvSpPr>
        <p:spPr>
          <a:xfrm>
            <a:off x="6919920" y="85680"/>
            <a:ext cx="0" cy="1887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1" name=""/>
          <p:cNvSpPr/>
          <p:nvPr/>
        </p:nvSpPr>
        <p:spPr>
          <a:xfrm>
            <a:off x="6927840" y="1973160"/>
            <a:ext cx="2208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2" name=""/>
          <p:cNvSpPr/>
          <p:nvPr/>
        </p:nvSpPr>
        <p:spPr>
          <a:xfrm>
            <a:off x="6921360" y="1973160"/>
            <a:ext cx="0" cy="18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3" name=""/>
          <p:cNvSpPr/>
          <p:nvPr/>
        </p:nvSpPr>
        <p:spPr>
          <a:xfrm>
            <a:off x="7605720" y="2351160"/>
            <a:ext cx="146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Arteriální tlak [torr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4" name=""/>
          <p:cNvSpPr/>
          <p:nvPr/>
        </p:nvSpPr>
        <p:spPr>
          <a:xfrm>
            <a:off x="7421400" y="1973160"/>
            <a:ext cx="0" cy="18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5" name=""/>
          <p:cNvSpPr/>
          <p:nvPr/>
        </p:nvSpPr>
        <p:spPr>
          <a:xfrm>
            <a:off x="7921800" y="1973160"/>
            <a:ext cx="0" cy="18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6" name=""/>
          <p:cNvSpPr/>
          <p:nvPr/>
        </p:nvSpPr>
        <p:spPr>
          <a:xfrm>
            <a:off x="8421840" y="1973160"/>
            <a:ext cx="0" cy="18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7" name=""/>
          <p:cNvSpPr/>
          <p:nvPr/>
        </p:nvSpPr>
        <p:spPr>
          <a:xfrm>
            <a:off x="8921880" y="1973160"/>
            <a:ext cx="0" cy="18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8" name=""/>
          <p:cNvSpPr/>
          <p:nvPr/>
        </p:nvSpPr>
        <p:spPr>
          <a:xfrm>
            <a:off x="6856560" y="215280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9" name=""/>
          <p:cNvSpPr/>
          <p:nvPr/>
        </p:nvSpPr>
        <p:spPr>
          <a:xfrm>
            <a:off x="7394400" y="495360"/>
            <a:ext cx="1746360" cy="1379520"/>
          </a:xfrm>
          <a:custGeom>
            <a:avLst/>
            <a:gdLst/>
            <a:ahLst/>
            <a:rect l="l" t="t" r="r" b="b"/>
            <a:pathLst>
              <a:path w="1100" h="869">
                <a:moveTo>
                  <a:pt x="0" y="869"/>
                </a:moveTo>
                <a:cubicBezTo>
                  <a:pt x="16" y="786"/>
                  <a:pt x="62" y="486"/>
                  <a:pt x="97" y="373"/>
                </a:cubicBezTo>
                <a:cubicBezTo>
                  <a:pt x="132" y="260"/>
                  <a:pt x="165" y="217"/>
                  <a:pt x="212" y="189"/>
                </a:cubicBezTo>
                <a:cubicBezTo>
                  <a:pt x="259" y="161"/>
                  <a:pt x="267" y="165"/>
                  <a:pt x="314" y="156"/>
                </a:cubicBezTo>
                <a:cubicBezTo>
                  <a:pt x="361" y="147"/>
                  <a:pt x="427" y="141"/>
                  <a:pt x="495" y="135"/>
                </a:cubicBezTo>
                <a:cubicBezTo>
                  <a:pt x="563" y="129"/>
                  <a:pt x="649" y="130"/>
                  <a:pt x="725" y="120"/>
                </a:cubicBezTo>
                <a:cubicBezTo>
                  <a:pt x="801" y="110"/>
                  <a:pt x="890" y="97"/>
                  <a:pt x="952" y="77"/>
                </a:cubicBezTo>
                <a:cubicBezTo>
                  <a:pt x="1014" y="57"/>
                  <a:pt x="1069" y="16"/>
                  <a:pt x="110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0" name=""/>
          <p:cNvSpPr/>
          <p:nvPr/>
        </p:nvSpPr>
        <p:spPr>
          <a:xfrm>
            <a:off x="7066080" y="109440"/>
            <a:ext cx="2077920" cy="1762200"/>
          </a:xfrm>
          <a:custGeom>
            <a:avLst/>
            <a:gdLst/>
            <a:ahLst/>
            <a:rect l="l" t="t" r="r" b="b"/>
            <a:pathLst>
              <a:path w="1309" h="1110">
                <a:moveTo>
                  <a:pt x="0" y="1110"/>
                </a:moveTo>
                <a:cubicBezTo>
                  <a:pt x="43" y="1010"/>
                  <a:pt x="194" y="638"/>
                  <a:pt x="259" y="510"/>
                </a:cubicBezTo>
                <a:cubicBezTo>
                  <a:pt x="324" y="382"/>
                  <a:pt x="355" y="374"/>
                  <a:pt x="392" y="339"/>
                </a:cubicBezTo>
                <a:cubicBezTo>
                  <a:pt x="446" y="310"/>
                  <a:pt x="437" y="314"/>
                  <a:pt x="479" y="302"/>
                </a:cubicBezTo>
                <a:cubicBezTo>
                  <a:pt x="521" y="290"/>
                  <a:pt x="585" y="275"/>
                  <a:pt x="642" y="267"/>
                </a:cubicBezTo>
                <a:cubicBezTo>
                  <a:pt x="699" y="259"/>
                  <a:pt x="761" y="259"/>
                  <a:pt x="823" y="254"/>
                </a:cubicBezTo>
                <a:cubicBezTo>
                  <a:pt x="885" y="249"/>
                  <a:pt x="953" y="254"/>
                  <a:pt x="1014" y="236"/>
                </a:cubicBezTo>
                <a:cubicBezTo>
                  <a:pt x="1075" y="218"/>
                  <a:pt x="1141" y="187"/>
                  <a:pt x="1190" y="148"/>
                </a:cubicBezTo>
                <a:cubicBezTo>
                  <a:pt x="1239" y="109"/>
                  <a:pt x="1284" y="31"/>
                  <a:pt x="1309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1" name=""/>
          <p:cNvSpPr/>
          <p:nvPr/>
        </p:nvSpPr>
        <p:spPr>
          <a:xfrm>
            <a:off x="7897680" y="687240"/>
            <a:ext cx="74880" cy="907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2" name=""/>
          <p:cNvSpPr/>
          <p:nvPr/>
        </p:nvSpPr>
        <p:spPr>
          <a:xfrm>
            <a:off x="7867800" y="514440"/>
            <a:ext cx="74520" cy="903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3" name=""/>
          <p:cNvSpPr/>
          <p:nvPr/>
        </p:nvSpPr>
        <p:spPr>
          <a:xfrm rot="1200">
            <a:off x="7641720" y="676080"/>
            <a:ext cx="1495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Glomerulární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filtr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4" name=""/>
          <p:cNvSpPr/>
          <p:nvPr/>
        </p:nvSpPr>
        <p:spPr>
          <a:xfrm rot="21087000">
            <a:off x="7024680" y="304560"/>
            <a:ext cx="1979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růtok kr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5" name=""/>
          <p:cNvSpPr/>
          <p:nvPr/>
        </p:nvSpPr>
        <p:spPr>
          <a:xfrm>
            <a:off x="8171640" y="453960"/>
            <a:ext cx="56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nor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6" name=""/>
          <p:cNvSpPr/>
          <p:nvPr/>
        </p:nvSpPr>
        <p:spPr>
          <a:xfrm>
            <a:off x="7959600" y="565200"/>
            <a:ext cx="258840" cy="61920"/>
          </a:xfrm>
          <a:custGeom>
            <a:avLst/>
            <a:gdLst/>
            <a:ahLst/>
            <a:rect l="l" t="t" r="r" b="b"/>
            <a:pathLst>
              <a:path w="163" h="39">
                <a:moveTo>
                  <a:pt x="163" y="39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7" name=""/>
          <p:cNvSpPr/>
          <p:nvPr/>
        </p:nvSpPr>
        <p:spPr>
          <a:xfrm>
            <a:off x="7981920" y="628560"/>
            <a:ext cx="243000" cy="103320"/>
          </a:xfrm>
          <a:custGeom>
            <a:avLst/>
            <a:gdLst/>
            <a:ahLst/>
            <a:rect l="l" t="t" r="r" b="b"/>
            <a:pathLst>
              <a:path w="153" h="65">
                <a:moveTo>
                  <a:pt x="153" y="0"/>
                </a:moveTo>
                <a:lnTo>
                  <a:pt x="0" y="65"/>
                </a:lnTo>
              </a:path>
            </a:pathLst>
          </a:custGeom>
          <a:noFill/>
          <a:ln w="9360">
            <a:solidFill>
              <a:srgbClr val="00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8" name=""/>
          <p:cNvSpPr/>
          <p:nvPr/>
        </p:nvSpPr>
        <p:spPr>
          <a:xfrm>
            <a:off x="7135920" y="2131920"/>
            <a:ext cx="200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50        100       150       2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9" name=""/>
          <p:cNvSpPr/>
          <p:nvPr/>
        </p:nvSpPr>
        <p:spPr>
          <a:xfrm>
            <a:off x="176760" y="50760"/>
            <a:ext cx="100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erfúzní tlak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0" name=""/>
          <p:cNvSpPr/>
          <p:nvPr/>
        </p:nvSpPr>
        <p:spPr>
          <a:xfrm flipH="1">
            <a:off x="105840" y="0"/>
            <a:ext cx="1800" cy="36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1" name=""/>
          <p:cNvSpPr/>
          <p:nvPr/>
        </p:nvSpPr>
        <p:spPr>
          <a:xfrm>
            <a:off x="208440" y="1420920"/>
            <a:ext cx="100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erfúzní tlak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2" name=""/>
          <p:cNvSpPr/>
          <p:nvPr/>
        </p:nvSpPr>
        <p:spPr>
          <a:xfrm flipH="1">
            <a:off x="147240" y="1379520"/>
            <a:ext cx="1800" cy="3618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3" name=""/>
          <p:cNvSpPr/>
          <p:nvPr/>
        </p:nvSpPr>
        <p:spPr>
          <a:xfrm>
            <a:off x="2557440" y="50760"/>
            <a:ext cx="625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růtok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4" name=""/>
          <p:cNvSpPr/>
          <p:nvPr/>
        </p:nvSpPr>
        <p:spPr>
          <a:xfrm flipH="1">
            <a:off x="2538000" y="0"/>
            <a:ext cx="1800" cy="36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5" name=""/>
          <p:cNvSpPr/>
          <p:nvPr/>
        </p:nvSpPr>
        <p:spPr>
          <a:xfrm flipV="1">
            <a:off x="2871720" y="325440"/>
            <a:ext cx="204840" cy="20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6" name=""/>
          <p:cNvSpPr/>
          <p:nvPr/>
        </p:nvSpPr>
        <p:spPr>
          <a:xfrm flipH="1">
            <a:off x="3160800" y="0"/>
            <a:ext cx="1440" cy="3618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7" name=""/>
          <p:cNvSpPr/>
          <p:nvPr/>
        </p:nvSpPr>
        <p:spPr>
          <a:xfrm>
            <a:off x="1195560" y="179280"/>
            <a:ext cx="114120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8" name=""/>
          <p:cNvSpPr/>
          <p:nvPr/>
        </p:nvSpPr>
        <p:spPr>
          <a:xfrm>
            <a:off x="1400040" y="1833480"/>
            <a:ext cx="625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růtok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9" name=""/>
          <p:cNvSpPr/>
          <p:nvPr/>
        </p:nvSpPr>
        <p:spPr>
          <a:xfrm flipH="1">
            <a:off x="1380600" y="1782720"/>
            <a:ext cx="1800" cy="3621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0" name=""/>
          <p:cNvSpPr/>
          <p:nvPr/>
        </p:nvSpPr>
        <p:spPr>
          <a:xfrm flipH="1">
            <a:off x="2003400" y="1782720"/>
            <a:ext cx="1440" cy="362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1" name=""/>
          <p:cNvSpPr/>
          <p:nvPr/>
        </p:nvSpPr>
        <p:spPr>
          <a:xfrm>
            <a:off x="506520" y="1706400"/>
            <a:ext cx="75564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2" name=""/>
          <p:cNvSpPr/>
          <p:nvPr/>
        </p:nvSpPr>
        <p:spPr>
          <a:xfrm flipV="1">
            <a:off x="2098800" y="1483920"/>
            <a:ext cx="517320" cy="397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3" name=""/>
          <p:cNvSpPr/>
          <p:nvPr/>
        </p:nvSpPr>
        <p:spPr>
          <a:xfrm flipV="1">
            <a:off x="474840" y="1157040"/>
            <a:ext cx="419040" cy="245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4" name=""/>
          <p:cNvSpPr/>
          <p:nvPr/>
        </p:nvSpPr>
        <p:spPr>
          <a:xfrm>
            <a:off x="399960" y="325440"/>
            <a:ext cx="303480" cy="258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5" name=""/>
          <p:cNvSpPr/>
          <p:nvPr/>
        </p:nvSpPr>
        <p:spPr>
          <a:xfrm>
            <a:off x="1122480" y="3732120"/>
            <a:ext cx="5767200" cy="1481400"/>
          </a:xfrm>
          <a:custGeom>
            <a:avLst/>
            <a:gdLst/>
            <a:ahLst/>
            <a:rect l="l" t="t" r="r" b="b"/>
            <a:pathLst>
              <a:path w="3633" h="933">
                <a:moveTo>
                  <a:pt x="577" y="0"/>
                </a:moveTo>
                <a:cubicBezTo>
                  <a:pt x="542" y="135"/>
                  <a:pt x="0" y="701"/>
                  <a:pt x="374" y="817"/>
                </a:cubicBezTo>
                <a:cubicBezTo>
                  <a:pt x="748" y="933"/>
                  <a:pt x="2298" y="734"/>
                  <a:pt x="2820" y="694"/>
                </a:cubicBezTo>
                <a:cubicBezTo>
                  <a:pt x="3342" y="654"/>
                  <a:pt x="3385" y="679"/>
                  <a:pt x="3509" y="576"/>
                </a:cubicBezTo>
                <a:cubicBezTo>
                  <a:pt x="3633" y="473"/>
                  <a:pt x="3554" y="179"/>
                  <a:pt x="3566" y="7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6" name=""/>
          <p:cNvSpPr/>
          <p:nvPr/>
        </p:nvSpPr>
        <p:spPr>
          <a:xfrm>
            <a:off x="2801880" y="6108840"/>
            <a:ext cx="4245120" cy="771480"/>
          </a:xfrm>
          <a:custGeom>
            <a:avLst/>
            <a:gdLst/>
            <a:ahLst/>
            <a:rect l="l" t="t" r="r" b="b"/>
            <a:pathLst>
              <a:path w="2674" h="486">
                <a:moveTo>
                  <a:pt x="57" y="222"/>
                </a:moveTo>
                <a:cubicBezTo>
                  <a:pt x="74" y="260"/>
                  <a:pt x="0" y="410"/>
                  <a:pt x="161" y="448"/>
                </a:cubicBezTo>
                <a:cubicBezTo>
                  <a:pt x="322" y="486"/>
                  <a:pt x="713" y="450"/>
                  <a:pt x="1021" y="448"/>
                </a:cubicBezTo>
                <a:cubicBezTo>
                  <a:pt x="1329" y="446"/>
                  <a:pt x="1746" y="464"/>
                  <a:pt x="2007" y="439"/>
                </a:cubicBezTo>
                <a:cubicBezTo>
                  <a:pt x="2268" y="414"/>
                  <a:pt x="2500" y="369"/>
                  <a:pt x="2587" y="296"/>
                </a:cubicBezTo>
                <a:cubicBezTo>
                  <a:pt x="2674" y="223"/>
                  <a:pt x="2540" y="49"/>
                  <a:pt x="253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97" name=""/>
          <p:cNvGrpSpPr/>
          <p:nvPr/>
        </p:nvGrpSpPr>
        <p:grpSpPr>
          <a:xfrm>
            <a:off x="0" y="0"/>
            <a:ext cx="8921160" cy="6858000"/>
            <a:chOff x="0" y="0"/>
            <a:chExt cx="8921160" cy="6858000"/>
          </a:xfrm>
        </p:grpSpPr>
        <p:grpSp>
          <p:nvGrpSpPr>
            <p:cNvPr id="8298" name=""/>
            <p:cNvGrpSpPr/>
            <p:nvPr/>
          </p:nvGrpSpPr>
          <p:grpSpPr>
            <a:xfrm>
              <a:off x="2860560" y="0"/>
              <a:ext cx="1281240" cy="1133640"/>
              <a:chOff x="2860560" y="0"/>
              <a:chExt cx="1281240" cy="1133640"/>
            </a:xfrm>
          </p:grpSpPr>
          <p:sp>
            <p:nvSpPr>
              <p:cNvPr id="8299" name=""/>
              <p:cNvSpPr/>
              <p:nvPr/>
            </p:nvSpPr>
            <p:spPr>
              <a:xfrm flipH="1" rot="19347000">
                <a:off x="2897640" y="518760"/>
                <a:ext cx="827280" cy="404640"/>
              </a:xfrm>
              <a:prstGeom prst="lightningBol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0" name=""/>
              <p:cNvSpPr/>
              <p:nvPr/>
            </p:nvSpPr>
            <p:spPr>
              <a:xfrm>
                <a:off x="3132000" y="0"/>
                <a:ext cx="1009800" cy="55080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1000" spc="-1" strike="noStrike">
                    <a:solidFill>
                      <a:srgbClr val="000000"/>
                    </a:solidFill>
                    <a:latin typeface="Times New Roman"/>
                  </a:rPr>
                  <a:t>Stimulace: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1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cs-CZ" sz="1000" spc="-1" strike="noStrike">
                    <a:solidFill>
                      <a:srgbClr val="000000"/>
                    </a:solidFill>
                    <a:latin typeface="Times New Roman"/>
                  </a:rPr>
                  <a:t>Angiotensin I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10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1" lang="cs-CZ" sz="1000" spc="-1" strike="noStrike">
                    <a:solidFill>
                      <a:srgbClr val="000000"/>
                    </a:solidFill>
                    <a:latin typeface="Times New Roman"/>
                  </a:rPr>
                  <a:t>Sympatiku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01" name=""/>
            <p:cNvGrpSpPr/>
            <p:nvPr/>
          </p:nvGrpSpPr>
          <p:grpSpPr>
            <a:xfrm>
              <a:off x="0" y="0"/>
              <a:ext cx="8921160" cy="6858000"/>
              <a:chOff x="0" y="0"/>
              <a:chExt cx="8921160" cy="6858000"/>
            </a:xfrm>
          </p:grpSpPr>
          <p:sp>
            <p:nvSpPr>
              <p:cNvPr id="8302" name=""/>
              <p:cNvSpPr/>
              <p:nvPr/>
            </p:nvSpPr>
            <p:spPr>
              <a:xfrm>
                <a:off x="0" y="3443400"/>
                <a:ext cx="4187880" cy="319392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3" name=""/>
              <p:cNvSpPr/>
              <p:nvPr/>
            </p:nvSpPr>
            <p:spPr>
              <a:xfrm>
                <a:off x="4595760" y="3443400"/>
                <a:ext cx="4162320" cy="319392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4" name=""/>
              <p:cNvSpPr/>
              <p:nvPr/>
            </p:nvSpPr>
            <p:spPr>
              <a:xfrm>
                <a:off x="5977080" y="3670200"/>
                <a:ext cx="1593720" cy="2776680"/>
              </a:xfrm>
              <a:custGeom>
                <a:avLst/>
                <a:gdLst/>
                <a:ahLst/>
                <a:rect l="l" t="t" r="r" b="b"/>
                <a:pathLst>
                  <a:path w="1004" h="1749">
                    <a:moveTo>
                      <a:pt x="704" y="1712"/>
                    </a:moveTo>
                    <a:lnTo>
                      <a:pt x="512" y="1681"/>
                    </a:lnTo>
                    <a:lnTo>
                      <a:pt x="62" y="1464"/>
                    </a:lnTo>
                    <a:lnTo>
                      <a:pt x="0" y="1335"/>
                    </a:lnTo>
                    <a:lnTo>
                      <a:pt x="36" y="962"/>
                    </a:lnTo>
                    <a:lnTo>
                      <a:pt x="104" y="455"/>
                    </a:lnTo>
                    <a:lnTo>
                      <a:pt x="93" y="243"/>
                    </a:lnTo>
                    <a:lnTo>
                      <a:pt x="636" y="31"/>
                    </a:lnTo>
                    <a:lnTo>
                      <a:pt x="859" y="0"/>
                    </a:lnTo>
                    <a:lnTo>
                      <a:pt x="1004" y="657"/>
                    </a:lnTo>
                    <a:lnTo>
                      <a:pt x="905" y="1236"/>
                    </a:lnTo>
                    <a:lnTo>
                      <a:pt x="740" y="1743"/>
                    </a:lnTo>
                    <a:lnTo>
                      <a:pt x="554" y="1749"/>
                    </a:lnTo>
                  </a:path>
                </a:pathLst>
              </a:custGeom>
              <a:solidFill>
                <a:srgbClr val="ffff6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5" name=""/>
              <p:cNvSpPr/>
              <p:nvPr/>
            </p:nvSpPr>
            <p:spPr>
              <a:xfrm>
                <a:off x="1584360" y="246240"/>
                <a:ext cx="1593720" cy="2776320"/>
              </a:xfrm>
              <a:custGeom>
                <a:avLst/>
                <a:gdLst/>
                <a:ahLst/>
                <a:rect l="l" t="t" r="r" b="b"/>
                <a:pathLst>
                  <a:path w="1004" h="1749">
                    <a:moveTo>
                      <a:pt x="704" y="1712"/>
                    </a:moveTo>
                    <a:lnTo>
                      <a:pt x="512" y="1681"/>
                    </a:lnTo>
                    <a:lnTo>
                      <a:pt x="62" y="1464"/>
                    </a:lnTo>
                    <a:lnTo>
                      <a:pt x="0" y="1335"/>
                    </a:lnTo>
                    <a:lnTo>
                      <a:pt x="36" y="962"/>
                    </a:lnTo>
                    <a:lnTo>
                      <a:pt x="104" y="455"/>
                    </a:lnTo>
                    <a:lnTo>
                      <a:pt x="93" y="243"/>
                    </a:lnTo>
                    <a:lnTo>
                      <a:pt x="636" y="31"/>
                    </a:lnTo>
                    <a:lnTo>
                      <a:pt x="859" y="0"/>
                    </a:lnTo>
                    <a:lnTo>
                      <a:pt x="1004" y="657"/>
                    </a:lnTo>
                    <a:lnTo>
                      <a:pt x="905" y="1236"/>
                    </a:lnTo>
                    <a:lnTo>
                      <a:pt x="740" y="1743"/>
                    </a:lnTo>
                    <a:lnTo>
                      <a:pt x="554" y="1749"/>
                    </a:lnTo>
                  </a:path>
                </a:pathLst>
              </a:custGeom>
              <a:solidFill>
                <a:srgbClr val="ffff6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6" name=""/>
              <p:cNvSpPr/>
              <p:nvPr/>
            </p:nvSpPr>
            <p:spPr>
              <a:xfrm>
                <a:off x="1444680" y="3711600"/>
                <a:ext cx="1511280" cy="2751120"/>
              </a:xfrm>
              <a:custGeom>
                <a:avLst/>
                <a:gdLst/>
                <a:ahLst/>
                <a:rect l="l" t="t" r="r" b="b"/>
                <a:pathLst>
                  <a:path w="952" h="1733">
                    <a:moveTo>
                      <a:pt x="657" y="1686"/>
                    </a:moveTo>
                    <a:lnTo>
                      <a:pt x="326" y="1588"/>
                    </a:lnTo>
                    <a:lnTo>
                      <a:pt x="68" y="1433"/>
                    </a:lnTo>
                    <a:lnTo>
                      <a:pt x="0" y="1246"/>
                    </a:lnTo>
                    <a:lnTo>
                      <a:pt x="83" y="838"/>
                    </a:lnTo>
                    <a:lnTo>
                      <a:pt x="99" y="362"/>
                    </a:lnTo>
                    <a:lnTo>
                      <a:pt x="124" y="202"/>
                    </a:lnTo>
                    <a:lnTo>
                      <a:pt x="461" y="108"/>
                    </a:lnTo>
                    <a:lnTo>
                      <a:pt x="766" y="0"/>
                    </a:lnTo>
                    <a:lnTo>
                      <a:pt x="843" y="21"/>
                    </a:lnTo>
                    <a:lnTo>
                      <a:pt x="952" y="533"/>
                    </a:lnTo>
                    <a:lnTo>
                      <a:pt x="905" y="1272"/>
                    </a:lnTo>
                    <a:lnTo>
                      <a:pt x="699" y="1722"/>
                    </a:lnTo>
                    <a:lnTo>
                      <a:pt x="600" y="1733"/>
                    </a:lnTo>
                  </a:path>
                </a:pathLst>
              </a:cu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7" name=""/>
              <p:cNvSpPr/>
              <p:nvPr/>
            </p:nvSpPr>
            <p:spPr>
              <a:xfrm>
                <a:off x="5124600" y="631800"/>
                <a:ext cx="2805120" cy="2446200"/>
              </a:xfrm>
              <a:prstGeom prst="rect">
                <a:avLst/>
              </a:pr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8" name=""/>
              <p:cNvSpPr/>
              <p:nvPr/>
            </p:nvSpPr>
            <p:spPr>
              <a:xfrm>
                <a:off x="2160" y="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9" name=""/>
              <p:cNvSpPr/>
              <p:nvPr/>
            </p:nvSpPr>
            <p:spPr>
              <a:xfrm>
                <a:off x="1800" y="3403440"/>
                <a:ext cx="383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0" name=""/>
              <p:cNvSpPr/>
              <p:nvPr/>
            </p:nvSpPr>
            <p:spPr>
              <a:xfrm>
                <a:off x="4615560" y="345276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1" name=""/>
              <p:cNvSpPr/>
              <p:nvPr/>
            </p:nvSpPr>
            <p:spPr>
              <a:xfrm flipV="1">
                <a:off x="5114880" y="509400"/>
                <a:ext cx="1800" cy="2585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2" name=""/>
              <p:cNvSpPr/>
              <p:nvPr/>
            </p:nvSpPr>
            <p:spPr>
              <a:xfrm flipV="1">
                <a:off x="5114880" y="3088800"/>
                <a:ext cx="287352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3" name=""/>
              <p:cNvSpPr/>
              <p:nvPr/>
            </p:nvSpPr>
            <p:spPr>
              <a:xfrm>
                <a:off x="5667480" y="3089160"/>
                <a:ext cx="1440" cy="147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4" name=""/>
              <p:cNvSpPr/>
              <p:nvPr/>
            </p:nvSpPr>
            <p:spPr>
              <a:xfrm>
                <a:off x="6242760" y="3098880"/>
                <a:ext cx="1800" cy="147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5" name=""/>
              <p:cNvSpPr/>
              <p:nvPr/>
            </p:nvSpPr>
            <p:spPr>
              <a:xfrm>
                <a:off x="6788880" y="3094200"/>
                <a:ext cx="1800" cy="147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6" name=""/>
              <p:cNvSpPr/>
              <p:nvPr/>
            </p:nvSpPr>
            <p:spPr>
              <a:xfrm>
                <a:off x="7356600" y="3089160"/>
                <a:ext cx="1440" cy="147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7" name=""/>
              <p:cNvSpPr/>
              <p:nvPr/>
            </p:nvSpPr>
            <p:spPr>
              <a:xfrm flipH="1" flipV="1">
                <a:off x="5030640" y="3087720"/>
                <a:ext cx="669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8" name=""/>
              <p:cNvSpPr/>
              <p:nvPr/>
            </p:nvSpPr>
            <p:spPr>
              <a:xfrm flipH="1" flipV="1">
                <a:off x="5035320" y="2724120"/>
                <a:ext cx="666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9" name=""/>
              <p:cNvSpPr/>
              <p:nvPr/>
            </p:nvSpPr>
            <p:spPr>
              <a:xfrm flipH="1" flipV="1">
                <a:off x="5041440" y="2332080"/>
                <a:ext cx="666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0" name=""/>
              <p:cNvSpPr/>
              <p:nvPr/>
            </p:nvSpPr>
            <p:spPr>
              <a:xfrm flipH="1" flipV="1">
                <a:off x="5032080" y="1968480"/>
                <a:ext cx="666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1" name=""/>
              <p:cNvSpPr/>
              <p:nvPr/>
            </p:nvSpPr>
            <p:spPr>
              <a:xfrm flipH="1" flipV="1">
                <a:off x="5044680" y="1617840"/>
                <a:ext cx="666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2" name=""/>
              <p:cNvSpPr/>
              <p:nvPr/>
            </p:nvSpPr>
            <p:spPr>
              <a:xfrm flipH="1" flipV="1">
                <a:off x="5040000" y="1220760"/>
                <a:ext cx="666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3" name=""/>
              <p:cNvSpPr/>
              <p:nvPr/>
            </p:nvSpPr>
            <p:spPr>
              <a:xfrm flipH="1" flipV="1">
                <a:off x="5041440" y="860400"/>
                <a:ext cx="666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4" name=""/>
              <p:cNvSpPr/>
              <p:nvPr/>
            </p:nvSpPr>
            <p:spPr>
              <a:xfrm>
                <a:off x="5119560" y="1220760"/>
                <a:ext cx="2157480" cy="1440"/>
              </a:xfrm>
              <a:custGeom>
                <a:avLst/>
                <a:gdLst/>
                <a:ahLst/>
                <a:rect l="l" t="t" r="r" b="b"/>
                <a:pathLst>
                  <a:path w="1359" h="1">
                    <a:moveTo>
                      <a:pt x="0" y="0"/>
                    </a:moveTo>
                    <a:cubicBezTo>
                      <a:pt x="226" y="0"/>
                      <a:pt x="1076" y="0"/>
                      <a:pt x="1359" y="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5" name=""/>
              <p:cNvSpPr/>
              <p:nvPr/>
            </p:nvSpPr>
            <p:spPr>
              <a:xfrm>
                <a:off x="5114880" y="851040"/>
                <a:ext cx="2181240" cy="374400"/>
              </a:xfrm>
              <a:custGeom>
                <a:avLst/>
                <a:gdLst/>
                <a:ahLst/>
                <a:rect l="l" t="t" r="r" b="b"/>
                <a:pathLst>
                  <a:path w="1374" h="236">
                    <a:moveTo>
                      <a:pt x="0" y="236"/>
                    </a:moveTo>
                    <a:cubicBezTo>
                      <a:pt x="10" y="213"/>
                      <a:pt x="36" y="134"/>
                      <a:pt x="63" y="99"/>
                    </a:cubicBezTo>
                    <a:cubicBezTo>
                      <a:pt x="90" y="64"/>
                      <a:pt x="109" y="39"/>
                      <a:pt x="160" y="24"/>
                    </a:cubicBezTo>
                    <a:cubicBezTo>
                      <a:pt x="211" y="8"/>
                      <a:pt x="320" y="9"/>
                      <a:pt x="370" y="6"/>
                    </a:cubicBezTo>
                    <a:cubicBezTo>
                      <a:pt x="420" y="3"/>
                      <a:pt x="390" y="6"/>
                      <a:pt x="462" y="6"/>
                    </a:cubicBezTo>
                    <a:cubicBezTo>
                      <a:pt x="534" y="6"/>
                      <a:pt x="649" y="6"/>
                      <a:pt x="801" y="5"/>
                    </a:cubicBezTo>
                    <a:cubicBezTo>
                      <a:pt x="953" y="4"/>
                      <a:pt x="1255" y="1"/>
                      <a:pt x="1374" y="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6" name=""/>
              <p:cNvSpPr/>
              <p:nvPr/>
            </p:nvSpPr>
            <p:spPr>
              <a:xfrm>
                <a:off x="5122800" y="1225440"/>
                <a:ext cx="2192400" cy="1486080"/>
              </a:xfrm>
              <a:custGeom>
                <a:avLst/>
                <a:gdLst/>
                <a:ahLst/>
                <a:rect l="l" t="t" r="r" b="b"/>
                <a:pathLst>
                  <a:path w="1381" h="936">
                    <a:moveTo>
                      <a:pt x="0" y="0"/>
                    </a:moveTo>
                    <a:cubicBezTo>
                      <a:pt x="21" y="40"/>
                      <a:pt x="74" y="152"/>
                      <a:pt x="125" y="238"/>
                    </a:cubicBezTo>
                    <a:cubicBezTo>
                      <a:pt x="176" y="324"/>
                      <a:pt x="236" y="438"/>
                      <a:pt x="307" y="513"/>
                    </a:cubicBezTo>
                    <a:cubicBezTo>
                      <a:pt x="378" y="588"/>
                      <a:pt x="466" y="641"/>
                      <a:pt x="550" y="690"/>
                    </a:cubicBezTo>
                    <a:cubicBezTo>
                      <a:pt x="634" y="739"/>
                      <a:pt x="706" y="771"/>
                      <a:pt x="808" y="804"/>
                    </a:cubicBezTo>
                    <a:cubicBezTo>
                      <a:pt x="910" y="837"/>
                      <a:pt x="1067" y="869"/>
                      <a:pt x="1162" y="891"/>
                    </a:cubicBezTo>
                    <a:cubicBezTo>
                      <a:pt x="1257" y="913"/>
                      <a:pt x="1336" y="927"/>
                      <a:pt x="1381" y="936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7" name=""/>
              <p:cNvSpPr/>
              <p:nvPr/>
            </p:nvSpPr>
            <p:spPr>
              <a:xfrm>
                <a:off x="5119560" y="1225440"/>
                <a:ext cx="2216160" cy="1704960"/>
              </a:xfrm>
              <a:custGeom>
                <a:avLst/>
                <a:gdLst/>
                <a:ahLst/>
                <a:rect l="l" t="t" r="r" b="b"/>
                <a:pathLst>
                  <a:path w="1396" h="1074">
                    <a:moveTo>
                      <a:pt x="0" y="0"/>
                    </a:moveTo>
                    <a:cubicBezTo>
                      <a:pt x="21" y="61"/>
                      <a:pt x="74" y="249"/>
                      <a:pt x="127" y="365"/>
                    </a:cubicBezTo>
                    <a:cubicBezTo>
                      <a:pt x="180" y="481"/>
                      <a:pt x="252" y="615"/>
                      <a:pt x="321" y="697"/>
                    </a:cubicBezTo>
                    <a:cubicBezTo>
                      <a:pt x="390" y="779"/>
                      <a:pt x="451" y="810"/>
                      <a:pt x="541" y="856"/>
                    </a:cubicBezTo>
                    <a:cubicBezTo>
                      <a:pt x="631" y="902"/>
                      <a:pt x="776" y="947"/>
                      <a:pt x="864" y="975"/>
                    </a:cubicBezTo>
                    <a:cubicBezTo>
                      <a:pt x="952" y="1003"/>
                      <a:pt x="1021" y="1013"/>
                      <a:pt x="1069" y="1024"/>
                    </a:cubicBezTo>
                    <a:cubicBezTo>
                      <a:pt x="1117" y="1035"/>
                      <a:pt x="1138" y="1040"/>
                      <a:pt x="1152" y="1044"/>
                    </a:cubicBezTo>
                    <a:cubicBezTo>
                      <a:pt x="1166" y="1048"/>
                      <a:pt x="1149" y="1046"/>
                      <a:pt x="1156" y="1047"/>
                    </a:cubicBezTo>
                    <a:cubicBezTo>
                      <a:pt x="1163" y="1048"/>
                      <a:pt x="1176" y="1048"/>
                      <a:pt x="1194" y="1051"/>
                    </a:cubicBezTo>
                    <a:cubicBezTo>
                      <a:pt x="1212" y="1054"/>
                      <a:pt x="1232" y="1059"/>
                      <a:pt x="1266" y="1063"/>
                    </a:cubicBezTo>
                    <a:cubicBezTo>
                      <a:pt x="1300" y="1067"/>
                      <a:pt x="1369" y="1072"/>
                      <a:pt x="1396" y="1074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8" name=""/>
              <p:cNvSpPr/>
              <p:nvPr/>
            </p:nvSpPr>
            <p:spPr>
              <a:xfrm>
                <a:off x="5121360" y="1220760"/>
                <a:ext cx="2205000" cy="1778040"/>
              </a:xfrm>
              <a:custGeom>
                <a:avLst/>
                <a:gdLst/>
                <a:ahLst/>
                <a:rect l="l" t="t" r="r" b="b"/>
                <a:pathLst>
                  <a:path w="1389" h="1120">
                    <a:moveTo>
                      <a:pt x="0" y="0"/>
                    </a:moveTo>
                    <a:cubicBezTo>
                      <a:pt x="16" y="57"/>
                      <a:pt x="53" y="230"/>
                      <a:pt x="95" y="343"/>
                    </a:cubicBezTo>
                    <a:cubicBezTo>
                      <a:pt x="137" y="456"/>
                      <a:pt x="189" y="590"/>
                      <a:pt x="252" y="681"/>
                    </a:cubicBezTo>
                    <a:cubicBezTo>
                      <a:pt x="315" y="772"/>
                      <a:pt x="377" y="832"/>
                      <a:pt x="476" y="889"/>
                    </a:cubicBezTo>
                    <a:cubicBezTo>
                      <a:pt x="575" y="946"/>
                      <a:pt x="739" y="991"/>
                      <a:pt x="849" y="1023"/>
                    </a:cubicBezTo>
                    <a:cubicBezTo>
                      <a:pt x="959" y="1055"/>
                      <a:pt x="1068" y="1071"/>
                      <a:pt x="1134" y="1084"/>
                    </a:cubicBezTo>
                    <a:cubicBezTo>
                      <a:pt x="1200" y="1097"/>
                      <a:pt x="1205" y="1096"/>
                      <a:pt x="1247" y="1102"/>
                    </a:cubicBezTo>
                    <a:cubicBezTo>
                      <a:pt x="1289" y="1108"/>
                      <a:pt x="1360" y="1116"/>
                      <a:pt x="1389" y="112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9" name=""/>
              <p:cNvSpPr/>
              <p:nvPr/>
            </p:nvSpPr>
            <p:spPr>
              <a:xfrm>
                <a:off x="5119560" y="1235160"/>
                <a:ext cx="2211480" cy="1815840"/>
              </a:xfrm>
              <a:custGeom>
                <a:avLst/>
                <a:gdLst/>
                <a:ahLst/>
                <a:rect l="l" t="t" r="r" b="b"/>
                <a:pathLst>
                  <a:path w="1393" h="1144">
                    <a:moveTo>
                      <a:pt x="0" y="0"/>
                    </a:moveTo>
                    <a:cubicBezTo>
                      <a:pt x="10" y="49"/>
                      <a:pt x="33" y="194"/>
                      <a:pt x="61" y="294"/>
                    </a:cubicBezTo>
                    <a:cubicBezTo>
                      <a:pt x="89" y="394"/>
                      <a:pt x="124" y="512"/>
                      <a:pt x="171" y="603"/>
                    </a:cubicBezTo>
                    <a:cubicBezTo>
                      <a:pt x="218" y="694"/>
                      <a:pt x="288" y="785"/>
                      <a:pt x="343" y="841"/>
                    </a:cubicBezTo>
                    <a:cubicBezTo>
                      <a:pt x="398" y="897"/>
                      <a:pt x="447" y="913"/>
                      <a:pt x="498" y="940"/>
                    </a:cubicBezTo>
                    <a:cubicBezTo>
                      <a:pt x="549" y="967"/>
                      <a:pt x="593" y="984"/>
                      <a:pt x="649" y="1003"/>
                    </a:cubicBezTo>
                    <a:cubicBezTo>
                      <a:pt x="705" y="1022"/>
                      <a:pt x="764" y="1040"/>
                      <a:pt x="834" y="1057"/>
                    </a:cubicBezTo>
                    <a:cubicBezTo>
                      <a:pt x="904" y="1074"/>
                      <a:pt x="975" y="1090"/>
                      <a:pt x="1068" y="1104"/>
                    </a:cubicBezTo>
                    <a:cubicBezTo>
                      <a:pt x="1161" y="1118"/>
                      <a:pt x="1325" y="1136"/>
                      <a:pt x="1393" y="1144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0" name=""/>
              <p:cNvSpPr/>
              <p:nvPr/>
            </p:nvSpPr>
            <p:spPr>
              <a:xfrm>
                <a:off x="5110920" y="3084480"/>
                <a:ext cx="1800" cy="147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1" name=""/>
              <p:cNvSpPr/>
              <p:nvPr/>
            </p:nvSpPr>
            <p:spPr>
              <a:xfrm>
                <a:off x="7499520" y="627120"/>
                <a:ext cx="412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600" spc="-1" strike="noStrike">
                    <a:solidFill>
                      <a:srgbClr val="000000"/>
                    </a:solidFill>
                    <a:latin typeface="Times New Roman"/>
                  </a:rPr>
                  <a:t>Cl</a:t>
                </a:r>
                <a:r>
                  <a:rPr b="0" lang="cs-CZ" sz="1600" spc="-1" strike="noStrike" baseline="40000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2" name=""/>
              <p:cNvSpPr/>
              <p:nvPr/>
            </p:nvSpPr>
            <p:spPr>
              <a:xfrm>
                <a:off x="7476120" y="1020600"/>
                <a:ext cx="482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600" spc="-1" strike="noStrike">
                    <a:solidFill>
                      <a:srgbClr val="000000"/>
                    </a:solidFill>
                    <a:latin typeface="Times New Roman"/>
                  </a:rPr>
                  <a:t>Na</a:t>
                </a:r>
                <a:r>
                  <a:rPr b="0" lang="cs-CZ" sz="1600" spc="-1" strike="noStrike" baseline="40000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3" name=""/>
              <p:cNvSpPr/>
              <p:nvPr/>
            </p:nvSpPr>
            <p:spPr>
              <a:xfrm>
                <a:off x="6659280" y="1371600"/>
                <a:ext cx="1037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600" spc="-1" strike="noStrike">
                    <a:solidFill>
                      <a:srgbClr val="000000"/>
                    </a:solidFill>
                    <a:latin typeface="Times New Roman"/>
                  </a:rPr>
                  <a:t>osmolarit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4" name=""/>
              <p:cNvSpPr/>
              <p:nvPr/>
            </p:nvSpPr>
            <p:spPr>
              <a:xfrm>
                <a:off x="7283160" y="2368440"/>
                <a:ext cx="70812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600" spc="-1" strike="noStrike">
                    <a:solidFill>
                      <a:srgbClr val="000000"/>
                    </a:solidFill>
                    <a:latin typeface="Times New Roman"/>
                  </a:rPr>
                  <a:t>HCO</a:t>
                </a:r>
                <a:r>
                  <a:rPr b="0" lang="cs-CZ" sz="1600" spc="-1" strike="noStrike" baseline="-25000">
                    <a:solidFill>
                      <a:srgbClr val="000000"/>
                    </a:solidFill>
                    <a:latin typeface="Times New Roman"/>
                  </a:rPr>
                  <a:t>3</a:t>
                </a:r>
                <a:r>
                  <a:rPr b="0" lang="cs-CZ" sz="1600" spc="-1" strike="noStrike" baseline="40000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5" name=""/>
              <p:cNvSpPr/>
              <p:nvPr/>
            </p:nvSpPr>
            <p:spPr>
              <a:xfrm>
                <a:off x="7878600" y="2562120"/>
                <a:ext cx="825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600" spc="-1" strike="noStrike">
                    <a:solidFill>
                      <a:srgbClr val="000000"/>
                    </a:solidFill>
                    <a:latin typeface="Times New Roman"/>
                  </a:rPr>
                  <a:t>glukóz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6" name=""/>
              <p:cNvSpPr/>
              <p:nvPr/>
            </p:nvSpPr>
            <p:spPr>
              <a:xfrm>
                <a:off x="7907400" y="2805120"/>
                <a:ext cx="6318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600" spc="-1" strike="noStrike">
                    <a:solidFill>
                      <a:srgbClr val="000000"/>
                    </a:solidFill>
                    <a:latin typeface="Times New Roman"/>
                  </a:rPr>
                  <a:t>laktá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7" name=""/>
              <p:cNvSpPr/>
              <p:nvPr/>
            </p:nvSpPr>
            <p:spPr>
              <a:xfrm flipH="1">
                <a:off x="7365960" y="2798640"/>
                <a:ext cx="555840" cy="12384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8" name=""/>
              <p:cNvSpPr/>
              <p:nvPr/>
            </p:nvSpPr>
            <p:spPr>
              <a:xfrm flipH="1">
                <a:off x="7356600" y="2987640"/>
                <a:ext cx="574560" cy="1584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9" name=""/>
              <p:cNvSpPr/>
              <p:nvPr/>
            </p:nvSpPr>
            <p:spPr>
              <a:xfrm>
                <a:off x="5074920" y="2797200"/>
                <a:ext cx="1378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600" spc="-1" strike="noStrike">
                    <a:solidFill>
                      <a:srgbClr val="000000"/>
                    </a:solidFill>
                    <a:latin typeface="Times New Roman"/>
                  </a:rPr>
                  <a:t>aminokyseliny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0" name=""/>
              <p:cNvSpPr/>
              <p:nvPr/>
            </p:nvSpPr>
            <p:spPr>
              <a:xfrm flipV="1">
                <a:off x="5492880" y="2641680"/>
                <a:ext cx="228600" cy="23184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1" name=""/>
              <p:cNvSpPr/>
              <p:nvPr/>
            </p:nvSpPr>
            <p:spPr>
              <a:xfrm>
                <a:off x="4621320" y="2903400"/>
                <a:ext cx="452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600" spc="-1" strike="noStrike">
                    <a:solidFill>
                      <a:srgbClr val="000000"/>
                    </a:solidFill>
                    <a:latin typeface="Times New Roman"/>
                  </a:rPr>
                  <a:t>0%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2" name=""/>
              <p:cNvSpPr/>
              <p:nvPr/>
            </p:nvSpPr>
            <p:spPr>
              <a:xfrm>
                <a:off x="4546440" y="2541600"/>
                <a:ext cx="554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600" spc="-1" strike="noStrike">
                    <a:solidFill>
                      <a:srgbClr val="000000"/>
                    </a:solidFill>
                    <a:latin typeface="Times New Roman"/>
                  </a:rPr>
                  <a:t>20%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3" name=""/>
              <p:cNvSpPr/>
              <p:nvPr/>
            </p:nvSpPr>
            <p:spPr>
              <a:xfrm>
                <a:off x="4527360" y="2135160"/>
                <a:ext cx="554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600" spc="-1" strike="noStrike">
                    <a:solidFill>
                      <a:srgbClr val="000000"/>
                    </a:solidFill>
                    <a:latin typeface="Times New Roman"/>
                  </a:rPr>
                  <a:t>40%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4" name=""/>
              <p:cNvSpPr/>
              <p:nvPr/>
            </p:nvSpPr>
            <p:spPr>
              <a:xfrm>
                <a:off x="4532040" y="1797120"/>
                <a:ext cx="554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600" spc="-1" strike="noStrike">
                    <a:solidFill>
                      <a:srgbClr val="000000"/>
                    </a:solidFill>
                    <a:latin typeface="Times New Roman"/>
                  </a:rPr>
                  <a:t>60%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5" name=""/>
              <p:cNvSpPr/>
              <p:nvPr/>
            </p:nvSpPr>
            <p:spPr>
              <a:xfrm>
                <a:off x="4510080" y="1459080"/>
                <a:ext cx="554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600" spc="-1" strike="noStrike">
                    <a:solidFill>
                      <a:srgbClr val="000000"/>
                    </a:solidFill>
                    <a:latin typeface="Times New Roman"/>
                  </a:rPr>
                  <a:t>80%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6" name=""/>
              <p:cNvSpPr/>
              <p:nvPr/>
            </p:nvSpPr>
            <p:spPr>
              <a:xfrm>
                <a:off x="4426920" y="1047600"/>
                <a:ext cx="656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600" spc="-1" strike="noStrike">
                    <a:solidFill>
                      <a:srgbClr val="000000"/>
                    </a:solidFill>
                    <a:latin typeface="Times New Roman"/>
                  </a:rPr>
                  <a:t>100%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7" name=""/>
              <p:cNvSpPr/>
              <p:nvPr/>
            </p:nvSpPr>
            <p:spPr>
              <a:xfrm>
                <a:off x="4424040" y="665280"/>
                <a:ext cx="656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600" spc="-1" strike="noStrike">
                    <a:solidFill>
                      <a:srgbClr val="000000"/>
                    </a:solidFill>
                    <a:latin typeface="Times New Roman"/>
                  </a:rPr>
                  <a:t>120%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8" name=""/>
              <p:cNvSpPr/>
              <p:nvPr/>
            </p:nvSpPr>
            <p:spPr>
              <a:xfrm>
                <a:off x="4254120" y="0"/>
                <a:ext cx="32500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600" spc="-1" strike="noStrike">
                    <a:solidFill>
                      <a:srgbClr val="000000"/>
                    </a:solidFill>
                    <a:latin typeface="Times New Roman"/>
                  </a:rPr>
                  <a:t>Koncentrace v tubulární tekutině jak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600" spc="-1" strike="noStrike">
                    <a:solidFill>
                      <a:srgbClr val="000000"/>
                    </a:solidFill>
                    <a:latin typeface="Times New Roman"/>
                  </a:rPr>
                  <a:t>% podíl plazmatické koncentrac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9" name=""/>
              <p:cNvSpPr/>
              <p:nvPr/>
            </p:nvSpPr>
            <p:spPr>
              <a:xfrm>
                <a:off x="7728480" y="3110040"/>
                <a:ext cx="1192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600" spc="-1" strike="noStrike">
                    <a:solidFill>
                      <a:srgbClr val="000000"/>
                    </a:solidFill>
                    <a:latin typeface="Times New Roman"/>
                  </a:rPr>
                  <a:t>délka tubulu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0" name=""/>
              <p:cNvSpPr/>
              <p:nvPr/>
            </p:nvSpPr>
            <p:spPr>
              <a:xfrm>
                <a:off x="4978440" y="3151080"/>
                <a:ext cx="2700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600" spc="-1" strike="noStrike">
                    <a:solidFill>
                      <a:srgbClr val="000000"/>
                    </a:solidFill>
                    <a:latin typeface="Times New Roman"/>
                  </a:rPr>
                  <a:t>0%    20%    40%   60%    80%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1" name=""/>
              <p:cNvSpPr/>
              <p:nvPr/>
            </p:nvSpPr>
            <p:spPr>
              <a:xfrm flipH="1">
                <a:off x="7332840" y="1206360"/>
                <a:ext cx="19656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2" name=""/>
              <p:cNvSpPr/>
              <p:nvPr/>
            </p:nvSpPr>
            <p:spPr>
              <a:xfrm flipH="1" flipV="1">
                <a:off x="6872400" y="1252080"/>
                <a:ext cx="48960" cy="18252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3" name=""/>
              <p:cNvSpPr/>
              <p:nvPr/>
            </p:nvSpPr>
            <p:spPr>
              <a:xfrm flipH="1">
                <a:off x="7356600" y="830160"/>
                <a:ext cx="19656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4" name=""/>
              <p:cNvSpPr/>
              <p:nvPr/>
            </p:nvSpPr>
            <p:spPr>
              <a:xfrm flipH="1">
                <a:off x="7135560" y="2560680"/>
                <a:ext cx="204840" cy="777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5" name=""/>
              <p:cNvSpPr/>
              <p:nvPr/>
            </p:nvSpPr>
            <p:spPr>
              <a:xfrm>
                <a:off x="1523880" y="1397160"/>
                <a:ext cx="6096240" cy="406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8356" name=""/>
              <p:cNvGraphicFramePr/>
              <p:nvPr/>
            </p:nvGraphicFramePr>
            <p:xfrm>
              <a:off x="1325520" y="0"/>
              <a:ext cx="1930320" cy="346860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8357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1325520" y="0"/>
                        <a:ext cx="1930320" cy="34686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8358" name=""/>
              <p:cNvSpPr/>
              <p:nvPr/>
            </p:nvSpPr>
            <p:spPr>
              <a:xfrm rot="5978400">
                <a:off x="1525320" y="1211400"/>
                <a:ext cx="361800" cy="37764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9" name=""/>
              <p:cNvSpPr/>
              <p:nvPr/>
            </p:nvSpPr>
            <p:spPr>
              <a:xfrm rot="5978400">
                <a:off x="1617480" y="1303200"/>
                <a:ext cx="177840" cy="193680"/>
              </a:xfrm>
              <a:prstGeom prst="ellipse">
                <a:avLst/>
              </a:prstGeom>
              <a:solidFill>
                <a:srgbClr val="ff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0" name=""/>
              <p:cNvSpPr/>
              <p:nvPr/>
            </p:nvSpPr>
            <p:spPr>
              <a:xfrm>
                <a:off x="1581120" y="1312920"/>
                <a:ext cx="298440" cy="58680"/>
              </a:xfrm>
              <a:custGeom>
                <a:avLst/>
                <a:gdLst/>
                <a:ahLst/>
                <a:rect l="l" t="t" r="r" b="b"/>
                <a:pathLst>
                  <a:path w="188" h="37">
                    <a:moveTo>
                      <a:pt x="188" y="37"/>
                    </a:moveTo>
                    <a:lnTo>
                      <a:pt x="116" y="7"/>
                    </a:lnTo>
                    <a:lnTo>
                      <a:pt x="68" y="0"/>
                    </a:lnTo>
                    <a:lnTo>
                      <a:pt x="0" y="19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1" name=""/>
              <p:cNvSpPr/>
              <p:nvPr/>
            </p:nvSpPr>
            <p:spPr>
              <a:xfrm>
                <a:off x="1546200" y="1444680"/>
                <a:ext cx="291960" cy="60120"/>
              </a:xfrm>
              <a:custGeom>
                <a:avLst/>
                <a:gdLst/>
                <a:ahLst/>
                <a:rect l="l" t="t" r="r" b="b"/>
                <a:pathLst>
                  <a:path w="184" h="38">
                    <a:moveTo>
                      <a:pt x="184" y="13"/>
                    </a:moveTo>
                    <a:lnTo>
                      <a:pt x="138" y="23"/>
                    </a:lnTo>
                    <a:lnTo>
                      <a:pt x="106" y="38"/>
                    </a:lnTo>
                    <a:lnTo>
                      <a:pt x="67" y="24"/>
                    </a:lnTo>
                    <a:lnTo>
                      <a:pt x="0" y="0"/>
                    </a:lnTo>
                    <a:lnTo>
                      <a:pt x="3" y="1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2" name=""/>
              <p:cNvSpPr/>
              <p:nvPr/>
            </p:nvSpPr>
            <p:spPr>
              <a:xfrm>
                <a:off x="837000" y="955800"/>
                <a:ext cx="4168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1200" spc="-1" strike="noStrike">
                    <a:solidFill>
                      <a:srgbClr val="000000"/>
                    </a:solidFill>
                    <a:latin typeface="Times New Roman"/>
                  </a:rPr>
                  <a:t>Na</a:t>
                </a:r>
                <a:r>
                  <a:rPr b="1" lang="cs-CZ" sz="1200" spc="-1" strike="noStrike" baseline="40000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3" name=""/>
              <p:cNvSpPr/>
              <p:nvPr/>
            </p:nvSpPr>
            <p:spPr>
              <a:xfrm>
                <a:off x="2478240" y="598320"/>
                <a:ext cx="4168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1200" spc="-1" strike="noStrike">
                    <a:solidFill>
                      <a:srgbClr val="000000"/>
                    </a:solidFill>
                    <a:latin typeface="Times New Roman"/>
                  </a:rPr>
                  <a:t>Na</a:t>
                </a:r>
                <a:r>
                  <a:rPr b="1" lang="cs-CZ" sz="1200" spc="-1" strike="noStrike" baseline="40000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4" name=""/>
              <p:cNvSpPr/>
              <p:nvPr/>
            </p:nvSpPr>
            <p:spPr>
              <a:xfrm>
                <a:off x="3422880" y="717480"/>
                <a:ext cx="4168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1200" spc="-1" strike="noStrike">
                    <a:solidFill>
                      <a:srgbClr val="000000"/>
                    </a:solidFill>
                    <a:latin typeface="Times New Roman"/>
                  </a:rPr>
                  <a:t>Na</a:t>
                </a:r>
                <a:r>
                  <a:rPr b="1" lang="cs-CZ" sz="1200" spc="-1" strike="noStrike" baseline="40000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5" name=""/>
              <p:cNvSpPr/>
              <p:nvPr/>
            </p:nvSpPr>
            <p:spPr>
              <a:xfrm>
                <a:off x="3497400" y="1390680"/>
                <a:ext cx="3499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1200" spc="-1" strike="noStrike">
                    <a:solidFill>
                      <a:srgbClr val="000000"/>
                    </a:solidFill>
                    <a:latin typeface="Times New Roman"/>
                  </a:rPr>
                  <a:t>K</a:t>
                </a:r>
                <a:r>
                  <a:rPr b="1" lang="cs-CZ" sz="1200" spc="-1" strike="noStrike" baseline="40000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6" name=""/>
              <p:cNvSpPr/>
              <p:nvPr/>
            </p:nvSpPr>
            <p:spPr>
              <a:xfrm>
                <a:off x="993960" y="1465200"/>
                <a:ext cx="3499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12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r>
                  <a:rPr b="1" lang="cs-CZ" sz="1200" spc="-1" strike="noStrike" baseline="40000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7" name=""/>
              <p:cNvSpPr/>
              <p:nvPr/>
            </p:nvSpPr>
            <p:spPr>
              <a:xfrm>
                <a:off x="1881360" y="1407960"/>
                <a:ext cx="3499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12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r>
                  <a:rPr b="1" lang="cs-CZ" sz="1200" spc="-1" strike="noStrike" baseline="40000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8" name=""/>
              <p:cNvSpPr/>
              <p:nvPr/>
            </p:nvSpPr>
            <p:spPr>
              <a:xfrm>
                <a:off x="374760" y="1801800"/>
                <a:ext cx="63324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12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r>
                  <a:rPr b="1" lang="cs-CZ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1" lang="cs-CZ" sz="1200" spc="-1" strike="noStrike">
                    <a:solidFill>
                      <a:srgbClr val="000000"/>
                    </a:solidFill>
                    <a:latin typeface="Times New Roman"/>
                  </a:rPr>
                  <a:t>CO</a:t>
                </a:r>
                <a:r>
                  <a:rPr b="1" lang="cs-CZ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9" name=""/>
              <p:cNvSpPr/>
              <p:nvPr/>
            </p:nvSpPr>
            <p:spPr>
              <a:xfrm>
                <a:off x="0" y="1095480"/>
                <a:ext cx="633240" cy="35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1200" spc="-1" strike="noStrike">
                    <a:solidFill>
                      <a:srgbClr val="000000"/>
                    </a:solidFill>
                    <a:latin typeface="Times New Roman"/>
                  </a:rPr>
                  <a:t>HCO</a:t>
                </a:r>
                <a:r>
                  <a:rPr b="1" lang="cs-CZ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3</a:t>
                </a:r>
                <a:r>
                  <a:rPr b="1" lang="cs-CZ" sz="1600" spc="-1" strike="noStrike" baseline="40000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0" name=""/>
              <p:cNvSpPr/>
              <p:nvPr/>
            </p:nvSpPr>
            <p:spPr>
              <a:xfrm>
                <a:off x="235080" y="2336760"/>
                <a:ext cx="49500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12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r>
                  <a:rPr b="1" lang="cs-CZ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1" lang="cs-CZ" sz="1200" spc="-1" strike="noStrike">
                    <a:solidFill>
                      <a:srgbClr val="000000"/>
                    </a:solidFill>
                    <a:latin typeface="Times New Roman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1" name=""/>
              <p:cNvSpPr/>
              <p:nvPr/>
            </p:nvSpPr>
            <p:spPr>
              <a:xfrm flipH="1">
                <a:off x="762840" y="1957320"/>
                <a:ext cx="1198440" cy="385920"/>
              </a:xfrm>
              <a:prstGeom prst="rightArrow">
                <a:avLst>
                  <a:gd name="adj1" fmla="val 50000"/>
                  <a:gd name="adj2" fmla="val 77635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200" spc="-1" strike="noStrike">
                    <a:solidFill>
                      <a:srgbClr val="000000"/>
                    </a:solidFill>
                    <a:latin typeface="Times New Roman"/>
                  </a:rPr>
                  <a:t>karboanhydráz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2" name=""/>
              <p:cNvSpPr/>
              <p:nvPr/>
            </p:nvSpPr>
            <p:spPr>
              <a:xfrm>
                <a:off x="974880" y="2394000"/>
                <a:ext cx="48564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1200" spc="-1" strike="noStrike">
                    <a:solidFill>
                      <a:srgbClr val="000000"/>
                    </a:solidFill>
                    <a:latin typeface="Times New Roman"/>
                  </a:rPr>
                  <a:t>CO</a:t>
                </a:r>
                <a:r>
                  <a:rPr b="1" lang="cs-CZ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3" name=""/>
              <p:cNvSpPr/>
              <p:nvPr/>
            </p:nvSpPr>
            <p:spPr>
              <a:xfrm flipH="1">
                <a:off x="2380680" y="2013120"/>
                <a:ext cx="1198440" cy="385560"/>
              </a:xfrm>
              <a:prstGeom prst="rightArrow">
                <a:avLst>
                  <a:gd name="adj1" fmla="val 50000"/>
                  <a:gd name="adj2" fmla="val 77708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200" spc="-1" strike="noStrike">
                    <a:solidFill>
                      <a:srgbClr val="000000"/>
                    </a:solidFill>
                    <a:latin typeface="Times New Roman"/>
                  </a:rPr>
                  <a:t>karboanhydráz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4" name=""/>
              <p:cNvSpPr/>
              <p:nvPr/>
            </p:nvSpPr>
            <p:spPr>
              <a:xfrm>
                <a:off x="1820880" y="2311560"/>
                <a:ext cx="48564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1200" spc="-1" strike="noStrike">
                    <a:solidFill>
                      <a:srgbClr val="000000"/>
                    </a:solidFill>
                    <a:latin typeface="Times New Roman"/>
                  </a:rPr>
                  <a:t>CO</a:t>
                </a:r>
                <a:r>
                  <a:rPr b="1" lang="cs-CZ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5" name=""/>
              <p:cNvSpPr/>
              <p:nvPr/>
            </p:nvSpPr>
            <p:spPr>
              <a:xfrm>
                <a:off x="2313000" y="2354400"/>
                <a:ext cx="49536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12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r>
                  <a:rPr b="1" lang="cs-CZ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1" lang="cs-CZ" sz="1200" spc="-1" strike="noStrike">
                    <a:solidFill>
                      <a:srgbClr val="000000"/>
                    </a:solidFill>
                    <a:latin typeface="Times New Roman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6" name=""/>
              <p:cNvSpPr/>
              <p:nvPr/>
            </p:nvSpPr>
            <p:spPr>
              <a:xfrm>
                <a:off x="2041560" y="1768320"/>
                <a:ext cx="63324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12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r>
                  <a:rPr b="1" lang="cs-CZ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1" lang="cs-CZ" sz="1200" spc="-1" strike="noStrike">
                    <a:solidFill>
                      <a:srgbClr val="000000"/>
                    </a:solidFill>
                    <a:latin typeface="Times New Roman"/>
                  </a:rPr>
                  <a:t>CO</a:t>
                </a:r>
                <a:r>
                  <a:rPr b="1" lang="cs-CZ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7" name=""/>
              <p:cNvSpPr/>
              <p:nvPr/>
            </p:nvSpPr>
            <p:spPr>
              <a:xfrm>
                <a:off x="2413080" y="1533600"/>
                <a:ext cx="633240" cy="35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1200" spc="-1" strike="noStrike">
                    <a:solidFill>
                      <a:srgbClr val="000000"/>
                    </a:solidFill>
                    <a:latin typeface="Times New Roman"/>
                  </a:rPr>
                  <a:t>HCO</a:t>
                </a:r>
                <a:r>
                  <a:rPr b="1" lang="cs-CZ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3</a:t>
                </a:r>
                <a:r>
                  <a:rPr b="1" lang="cs-CZ" sz="1600" spc="-1" strike="noStrike" baseline="40000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8" name=""/>
              <p:cNvSpPr/>
              <p:nvPr/>
            </p:nvSpPr>
            <p:spPr>
              <a:xfrm flipH="1" flipV="1" rot="10800000">
                <a:off x="2873880" y="932400"/>
                <a:ext cx="506520" cy="530280"/>
              </a:xfrm>
              <a:prstGeom prst="ellipse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9" name=""/>
              <p:cNvSpPr/>
              <p:nvPr/>
            </p:nvSpPr>
            <p:spPr>
              <a:xfrm flipH="1" flipV="1" rot="10800000">
                <a:off x="2965320" y="1037160"/>
                <a:ext cx="338400" cy="33660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0" name=""/>
              <p:cNvSpPr/>
              <p:nvPr/>
            </p:nvSpPr>
            <p:spPr>
              <a:xfrm flipH="1" flipV="1" rot="10800000">
                <a:off x="2321280" y="1040400"/>
                <a:ext cx="209880" cy="20772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1" name=""/>
              <p:cNvSpPr/>
              <p:nvPr/>
            </p:nvSpPr>
            <p:spPr>
              <a:xfrm>
                <a:off x="2405880" y="1036800"/>
                <a:ext cx="708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2" name=""/>
              <p:cNvSpPr/>
              <p:nvPr/>
            </p:nvSpPr>
            <p:spPr>
              <a:xfrm>
                <a:off x="2432880" y="1247040"/>
                <a:ext cx="663480" cy="120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3" name=""/>
              <p:cNvSpPr/>
              <p:nvPr/>
            </p:nvSpPr>
            <p:spPr>
              <a:xfrm>
                <a:off x="2254320" y="820800"/>
                <a:ext cx="485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1200" spc="-1" strike="noStrike">
                    <a:solidFill>
                      <a:srgbClr val="000000"/>
                    </a:solidFill>
                    <a:latin typeface="Times New Roman"/>
                  </a:rPr>
                  <a:t>AT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4" name=""/>
              <p:cNvSpPr/>
              <p:nvPr/>
            </p:nvSpPr>
            <p:spPr>
              <a:xfrm>
                <a:off x="2262240" y="1209600"/>
                <a:ext cx="4932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1200" spc="-1" strike="noStrike">
                    <a:solidFill>
                      <a:srgbClr val="000000"/>
                    </a:solidFill>
                    <a:latin typeface="Times New Roman"/>
                  </a:rPr>
                  <a:t>AD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5" name=""/>
              <p:cNvSpPr/>
              <p:nvPr/>
            </p:nvSpPr>
            <p:spPr>
              <a:xfrm>
                <a:off x="2538360" y="1027080"/>
                <a:ext cx="6480" cy="262080"/>
              </a:xfrm>
              <a:custGeom>
                <a:avLst/>
                <a:gdLst/>
                <a:ahLst/>
                <a:rect l="l" t="t" r="r" b="b"/>
                <a:pathLst>
                  <a:path w="4" h="165">
                    <a:moveTo>
                      <a:pt x="4" y="0"/>
                    </a:moveTo>
                    <a:lnTo>
                      <a:pt x="0" y="165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6" name=""/>
              <p:cNvSpPr/>
              <p:nvPr/>
            </p:nvSpPr>
            <p:spPr>
              <a:xfrm>
                <a:off x="542880" y="2257560"/>
                <a:ext cx="187200" cy="131760"/>
              </a:xfrm>
              <a:custGeom>
                <a:avLst/>
                <a:gdLst/>
                <a:ahLst/>
                <a:rect l="l" t="t" r="r" b="b"/>
                <a:pathLst>
                  <a:path w="118" h="83">
                    <a:moveTo>
                      <a:pt x="118" y="0"/>
                    </a:moveTo>
                    <a:cubicBezTo>
                      <a:pt x="98" y="14"/>
                      <a:pt x="25" y="66"/>
                      <a:pt x="0" y="83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7" name=""/>
              <p:cNvSpPr/>
              <p:nvPr/>
            </p:nvSpPr>
            <p:spPr>
              <a:xfrm>
                <a:off x="722160" y="2060640"/>
                <a:ext cx="385920" cy="369720"/>
              </a:xfrm>
              <a:custGeom>
                <a:avLst/>
                <a:gdLst/>
                <a:ahLst/>
                <a:rect l="l" t="t" r="r" b="b"/>
                <a:pathLst>
                  <a:path w="243" h="233">
                    <a:moveTo>
                      <a:pt x="0" y="0"/>
                    </a:moveTo>
                    <a:lnTo>
                      <a:pt x="0" y="135"/>
                    </a:lnTo>
                    <a:cubicBezTo>
                      <a:pt x="40" y="174"/>
                      <a:pt x="193" y="213"/>
                      <a:pt x="243" y="233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8" name=""/>
              <p:cNvSpPr/>
              <p:nvPr/>
            </p:nvSpPr>
            <p:spPr>
              <a:xfrm>
                <a:off x="1346040" y="2441520"/>
                <a:ext cx="543240" cy="54000"/>
              </a:xfrm>
              <a:custGeom>
                <a:avLst/>
                <a:gdLst/>
                <a:ahLst/>
                <a:rect l="l" t="t" r="r" b="b"/>
                <a:pathLst>
                  <a:path w="342" h="34">
                    <a:moveTo>
                      <a:pt x="0" y="34"/>
                    </a:moveTo>
                    <a:lnTo>
                      <a:pt x="134" y="4"/>
                    </a:lnTo>
                    <a:cubicBezTo>
                      <a:pt x="158" y="0"/>
                      <a:pt x="110" y="8"/>
                      <a:pt x="145" y="9"/>
                    </a:cubicBezTo>
                    <a:cubicBezTo>
                      <a:pt x="180" y="10"/>
                      <a:pt x="301" y="9"/>
                      <a:pt x="342" y="9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9" name=""/>
              <p:cNvSpPr/>
              <p:nvPr/>
            </p:nvSpPr>
            <p:spPr>
              <a:xfrm>
                <a:off x="2347920" y="2019240"/>
                <a:ext cx="131760" cy="395280"/>
              </a:xfrm>
              <a:custGeom>
                <a:avLst/>
                <a:gdLst/>
                <a:ahLst/>
                <a:rect l="l" t="t" r="r" b="b"/>
                <a:pathLst>
                  <a:path w="83" h="249">
                    <a:moveTo>
                      <a:pt x="5" y="0"/>
                    </a:moveTo>
                    <a:lnTo>
                      <a:pt x="0" y="135"/>
                    </a:lnTo>
                    <a:cubicBezTo>
                      <a:pt x="8" y="168"/>
                      <a:pt x="38" y="178"/>
                      <a:pt x="52" y="197"/>
                    </a:cubicBezTo>
                    <a:cubicBezTo>
                      <a:pt x="66" y="216"/>
                      <a:pt x="77" y="238"/>
                      <a:pt x="83" y="249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0" name=""/>
              <p:cNvSpPr/>
              <p:nvPr/>
            </p:nvSpPr>
            <p:spPr>
              <a:xfrm>
                <a:off x="2095560" y="2200320"/>
                <a:ext cx="245880" cy="164880"/>
              </a:xfrm>
              <a:custGeom>
                <a:avLst/>
                <a:gdLst/>
                <a:ahLst/>
                <a:rect l="l" t="t" r="r" b="b"/>
                <a:pathLst>
                  <a:path w="155" h="104">
                    <a:moveTo>
                      <a:pt x="155" y="0"/>
                    </a:moveTo>
                    <a:lnTo>
                      <a:pt x="114" y="42"/>
                    </a:lnTo>
                    <a:cubicBezTo>
                      <a:pt x="96" y="52"/>
                      <a:pt x="65" y="52"/>
                      <a:pt x="46" y="62"/>
                    </a:cubicBezTo>
                    <a:cubicBezTo>
                      <a:pt x="27" y="72"/>
                      <a:pt x="10" y="95"/>
                      <a:pt x="0" y="104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1" name=""/>
              <p:cNvSpPr/>
              <p:nvPr/>
            </p:nvSpPr>
            <p:spPr>
              <a:xfrm>
                <a:off x="2306520" y="1692360"/>
                <a:ext cx="214560" cy="155520"/>
              </a:xfrm>
              <a:custGeom>
                <a:avLst/>
                <a:gdLst/>
                <a:ahLst/>
                <a:rect l="l" t="t" r="r" b="b"/>
                <a:pathLst>
                  <a:path w="135" h="98">
                    <a:moveTo>
                      <a:pt x="0" y="98"/>
                    </a:moveTo>
                    <a:lnTo>
                      <a:pt x="16" y="36"/>
                    </a:lnTo>
                    <a:cubicBezTo>
                      <a:pt x="38" y="20"/>
                      <a:pt x="111" y="7"/>
                      <a:pt x="135" y="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2" name=""/>
              <p:cNvSpPr/>
              <p:nvPr/>
            </p:nvSpPr>
            <p:spPr>
              <a:xfrm>
                <a:off x="558720" y="1273320"/>
                <a:ext cx="196920" cy="556920"/>
              </a:xfrm>
              <a:custGeom>
                <a:avLst/>
                <a:gdLst/>
                <a:ahLst/>
                <a:rect l="l" t="t" r="r" b="b"/>
                <a:pathLst>
                  <a:path w="124" h="351">
                    <a:moveTo>
                      <a:pt x="119" y="351"/>
                    </a:moveTo>
                    <a:lnTo>
                      <a:pt x="124" y="191"/>
                    </a:lnTo>
                    <a:lnTo>
                      <a:pt x="93" y="83"/>
                    </a:lnTo>
                    <a:cubicBezTo>
                      <a:pt x="72" y="51"/>
                      <a:pt x="19" y="17"/>
                      <a:pt x="0" y="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3" name=""/>
              <p:cNvSpPr/>
              <p:nvPr/>
            </p:nvSpPr>
            <p:spPr>
              <a:xfrm>
                <a:off x="747720" y="1558800"/>
                <a:ext cx="295200" cy="149400"/>
              </a:xfrm>
              <a:custGeom>
                <a:avLst/>
                <a:gdLst/>
                <a:ahLst/>
                <a:rect l="l" t="t" r="r" b="b"/>
                <a:pathLst>
                  <a:path w="186" h="94">
                    <a:moveTo>
                      <a:pt x="0" y="94"/>
                    </a:moveTo>
                    <a:cubicBezTo>
                      <a:pt x="12" y="80"/>
                      <a:pt x="41" y="25"/>
                      <a:pt x="72" y="11"/>
                    </a:cubicBezTo>
                    <a:cubicBezTo>
                      <a:pt x="134" y="0"/>
                      <a:pt x="161" y="8"/>
                      <a:pt x="186" y="11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4" name=""/>
              <p:cNvSpPr/>
              <p:nvPr/>
            </p:nvSpPr>
            <p:spPr>
              <a:xfrm>
                <a:off x="2052720" y="1625760"/>
                <a:ext cx="245880" cy="204480"/>
              </a:xfrm>
              <a:custGeom>
                <a:avLst/>
                <a:gdLst/>
                <a:ahLst/>
                <a:rect l="l" t="t" r="r" b="b"/>
                <a:pathLst>
                  <a:path w="155" h="129">
                    <a:moveTo>
                      <a:pt x="155" y="129"/>
                    </a:moveTo>
                    <a:lnTo>
                      <a:pt x="119" y="78"/>
                    </a:lnTo>
                    <a:cubicBezTo>
                      <a:pt x="93" y="57"/>
                      <a:pt x="25" y="16"/>
                      <a:pt x="0" y="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5" name=""/>
              <p:cNvSpPr/>
              <p:nvPr/>
            </p:nvSpPr>
            <p:spPr>
              <a:xfrm>
                <a:off x="1265400" y="1542960"/>
                <a:ext cx="663480" cy="66600"/>
              </a:xfrm>
              <a:custGeom>
                <a:avLst/>
                <a:gdLst/>
                <a:ahLst/>
                <a:rect l="l" t="t" r="r" b="b"/>
                <a:pathLst>
                  <a:path w="418" h="42">
                    <a:moveTo>
                      <a:pt x="418" y="0"/>
                    </a:moveTo>
                    <a:lnTo>
                      <a:pt x="268" y="0"/>
                    </a:lnTo>
                    <a:cubicBezTo>
                      <a:pt x="198" y="7"/>
                      <a:pt x="56" y="33"/>
                      <a:pt x="0" y="42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6" name=""/>
              <p:cNvSpPr/>
              <p:nvPr/>
            </p:nvSpPr>
            <p:spPr>
              <a:xfrm>
                <a:off x="1206360" y="681120"/>
                <a:ext cx="1297080" cy="606240"/>
              </a:xfrm>
              <a:custGeom>
                <a:avLst/>
                <a:gdLst/>
                <a:ahLst/>
                <a:rect l="l" t="t" r="r" b="b"/>
                <a:pathLst>
                  <a:path w="817" h="382">
                    <a:moveTo>
                      <a:pt x="817" y="42"/>
                    </a:moveTo>
                    <a:cubicBezTo>
                      <a:pt x="791" y="46"/>
                      <a:pt x="781" y="0"/>
                      <a:pt x="662" y="68"/>
                    </a:cubicBezTo>
                    <a:cubicBezTo>
                      <a:pt x="543" y="136"/>
                      <a:pt x="461" y="315"/>
                      <a:pt x="404" y="362"/>
                    </a:cubicBezTo>
                    <a:lnTo>
                      <a:pt x="321" y="352"/>
                    </a:lnTo>
                    <a:cubicBezTo>
                      <a:pt x="287" y="354"/>
                      <a:pt x="250" y="382"/>
                      <a:pt x="197" y="373"/>
                    </a:cubicBezTo>
                    <a:cubicBezTo>
                      <a:pt x="144" y="364"/>
                      <a:pt x="41" y="311"/>
                      <a:pt x="0" y="295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7" name=""/>
              <p:cNvSpPr/>
              <p:nvPr/>
            </p:nvSpPr>
            <p:spPr>
              <a:xfrm>
                <a:off x="2832120" y="747720"/>
                <a:ext cx="608040" cy="290520"/>
              </a:xfrm>
              <a:custGeom>
                <a:avLst/>
                <a:gdLst/>
                <a:ahLst/>
                <a:rect l="l" t="t" r="r" b="b"/>
                <a:pathLst>
                  <a:path w="383" h="183">
                    <a:moveTo>
                      <a:pt x="0" y="0"/>
                    </a:moveTo>
                    <a:lnTo>
                      <a:pt x="109" y="129"/>
                    </a:lnTo>
                    <a:cubicBezTo>
                      <a:pt x="143" y="158"/>
                      <a:pt x="161" y="183"/>
                      <a:pt x="207" y="176"/>
                    </a:cubicBezTo>
                    <a:cubicBezTo>
                      <a:pt x="253" y="169"/>
                      <a:pt x="346" y="106"/>
                      <a:pt x="383" y="88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8" name=""/>
              <p:cNvSpPr/>
              <p:nvPr/>
            </p:nvSpPr>
            <p:spPr>
              <a:xfrm>
                <a:off x="2774880" y="1376280"/>
                <a:ext cx="739800" cy="127080"/>
              </a:xfrm>
              <a:custGeom>
                <a:avLst/>
                <a:gdLst/>
                <a:ahLst/>
                <a:rect l="l" t="t" r="r" b="b"/>
                <a:pathLst>
                  <a:path w="466" h="80">
                    <a:moveTo>
                      <a:pt x="0" y="54"/>
                    </a:moveTo>
                    <a:lnTo>
                      <a:pt x="181" y="7"/>
                    </a:lnTo>
                    <a:cubicBezTo>
                      <a:pt x="225" y="0"/>
                      <a:pt x="217" y="0"/>
                      <a:pt x="264" y="12"/>
                    </a:cubicBezTo>
                    <a:cubicBezTo>
                      <a:pt x="311" y="24"/>
                      <a:pt x="424" y="66"/>
                      <a:pt x="466" y="8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8399" name=""/>
              <p:cNvGraphicFramePr/>
              <p:nvPr/>
            </p:nvGraphicFramePr>
            <p:xfrm>
              <a:off x="1150920" y="3389400"/>
              <a:ext cx="1930320" cy="346860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8400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1150920" y="3389400"/>
                        <a:ext cx="1930320" cy="34686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8401" name=""/>
              <p:cNvSpPr/>
              <p:nvPr/>
            </p:nvSpPr>
            <p:spPr>
              <a:xfrm rot="5978400">
                <a:off x="1447200" y="4673520"/>
                <a:ext cx="362160" cy="37764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2" name=""/>
              <p:cNvSpPr/>
              <p:nvPr/>
            </p:nvSpPr>
            <p:spPr>
              <a:xfrm rot="5978400">
                <a:off x="1539720" y="4765680"/>
                <a:ext cx="177840" cy="193680"/>
              </a:xfrm>
              <a:prstGeom prst="ellipse">
                <a:avLst/>
              </a:prstGeom>
              <a:solidFill>
                <a:srgbClr val="ff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3" name=""/>
              <p:cNvSpPr/>
              <p:nvPr/>
            </p:nvSpPr>
            <p:spPr>
              <a:xfrm>
                <a:off x="1528920" y="4768920"/>
                <a:ext cx="242640" cy="33120"/>
              </a:xfrm>
              <a:custGeom>
                <a:avLst/>
                <a:gdLst/>
                <a:ahLst/>
                <a:rect l="l" t="t" r="r" b="b"/>
                <a:pathLst>
                  <a:path w="153" h="21">
                    <a:moveTo>
                      <a:pt x="153" y="21"/>
                    </a:move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4" name=""/>
              <p:cNvSpPr/>
              <p:nvPr/>
            </p:nvSpPr>
            <p:spPr>
              <a:xfrm>
                <a:off x="1515960" y="4933800"/>
                <a:ext cx="216000" cy="27000"/>
              </a:xfrm>
              <a:custGeom>
                <a:avLst/>
                <a:gdLst/>
                <a:ahLst/>
                <a:rect l="l" t="t" r="r" b="b"/>
                <a:pathLst>
                  <a:path w="136" h="17">
                    <a:moveTo>
                      <a:pt x="136" y="17"/>
                    </a:move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5" name=""/>
              <p:cNvSpPr/>
              <p:nvPr/>
            </p:nvSpPr>
            <p:spPr>
              <a:xfrm>
                <a:off x="756000" y="4419720"/>
                <a:ext cx="4168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1200" spc="-1" strike="noStrike">
                    <a:solidFill>
                      <a:srgbClr val="000000"/>
                    </a:solidFill>
                    <a:latin typeface="Times New Roman"/>
                  </a:rPr>
                  <a:t>Na</a:t>
                </a:r>
                <a:r>
                  <a:rPr b="1" lang="cs-CZ" sz="1200" spc="-1" strike="noStrike" baseline="40000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6" name=""/>
              <p:cNvSpPr/>
              <p:nvPr/>
            </p:nvSpPr>
            <p:spPr>
              <a:xfrm>
                <a:off x="2397240" y="4062240"/>
                <a:ext cx="4168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1200" spc="-1" strike="noStrike">
                    <a:solidFill>
                      <a:srgbClr val="000000"/>
                    </a:solidFill>
                    <a:latin typeface="Times New Roman"/>
                  </a:rPr>
                  <a:t>Na</a:t>
                </a:r>
                <a:r>
                  <a:rPr b="1" lang="cs-CZ" sz="1200" spc="-1" strike="noStrike" baseline="40000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7" name=""/>
              <p:cNvSpPr/>
              <p:nvPr/>
            </p:nvSpPr>
            <p:spPr>
              <a:xfrm>
                <a:off x="3341880" y="4181400"/>
                <a:ext cx="4168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1200" spc="-1" strike="noStrike">
                    <a:solidFill>
                      <a:srgbClr val="000000"/>
                    </a:solidFill>
                    <a:latin typeface="Times New Roman"/>
                  </a:rPr>
                  <a:t>Na</a:t>
                </a:r>
                <a:r>
                  <a:rPr b="1" lang="cs-CZ" sz="1200" spc="-1" strike="noStrike" baseline="40000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8" name=""/>
              <p:cNvSpPr/>
              <p:nvPr/>
            </p:nvSpPr>
            <p:spPr>
              <a:xfrm>
                <a:off x="3416760" y="4854600"/>
                <a:ext cx="3499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1200" spc="-1" strike="noStrike">
                    <a:solidFill>
                      <a:srgbClr val="000000"/>
                    </a:solidFill>
                    <a:latin typeface="Times New Roman"/>
                  </a:rPr>
                  <a:t>K</a:t>
                </a:r>
                <a:r>
                  <a:rPr b="1" lang="cs-CZ" sz="1200" spc="-1" strike="noStrike" baseline="40000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9" name=""/>
              <p:cNvSpPr/>
              <p:nvPr/>
            </p:nvSpPr>
            <p:spPr>
              <a:xfrm>
                <a:off x="1729800" y="5218200"/>
                <a:ext cx="689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1200" spc="-1" strike="noStrike">
                    <a:solidFill>
                      <a:srgbClr val="000000"/>
                    </a:solidFill>
                    <a:latin typeface="Times New Roman"/>
                  </a:rPr>
                  <a:t>glukóz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0" name=""/>
              <p:cNvSpPr/>
              <p:nvPr/>
            </p:nvSpPr>
            <p:spPr>
              <a:xfrm flipH="1" flipV="1" rot="10800000">
                <a:off x="2703600" y="4404240"/>
                <a:ext cx="506160" cy="530280"/>
              </a:xfrm>
              <a:prstGeom prst="ellipse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1" name=""/>
              <p:cNvSpPr/>
              <p:nvPr/>
            </p:nvSpPr>
            <p:spPr>
              <a:xfrm flipH="1" flipV="1" rot="10800000">
                <a:off x="2792880" y="4509000"/>
                <a:ext cx="338040" cy="33660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2" name=""/>
              <p:cNvSpPr/>
              <p:nvPr/>
            </p:nvSpPr>
            <p:spPr>
              <a:xfrm flipH="1" flipV="1" rot="10800000">
                <a:off x="2151000" y="4513320"/>
                <a:ext cx="209520" cy="20808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3" name=""/>
              <p:cNvSpPr/>
              <p:nvPr/>
            </p:nvSpPr>
            <p:spPr>
              <a:xfrm flipV="1">
                <a:off x="2275920" y="4511160"/>
                <a:ext cx="66492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4" name=""/>
              <p:cNvSpPr/>
              <p:nvPr/>
            </p:nvSpPr>
            <p:spPr>
              <a:xfrm>
                <a:off x="2258280" y="4723560"/>
                <a:ext cx="655560" cy="112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5" name=""/>
              <p:cNvSpPr/>
              <p:nvPr/>
            </p:nvSpPr>
            <p:spPr>
              <a:xfrm>
                <a:off x="2082600" y="4292640"/>
                <a:ext cx="485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1200" spc="-1" strike="noStrike">
                    <a:solidFill>
                      <a:srgbClr val="000000"/>
                    </a:solidFill>
                    <a:latin typeface="Times New Roman"/>
                  </a:rPr>
                  <a:t>AT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6" name=""/>
              <p:cNvSpPr/>
              <p:nvPr/>
            </p:nvSpPr>
            <p:spPr>
              <a:xfrm>
                <a:off x="2090880" y="4681440"/>
                <a:ext cx="4932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1200" spc="-1" strike="noStrike">
                    <a:solidFill>
                      <a:srgbClr val="000000"/>
                    </a:solidFill>
                    <a:latin typeface="Times New Roman"/>
                  </a:rPr>
                  <a:t>AD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7" name=""/>
              <p:cNvSpPr/>
              <p:nvPr/>
            </p:nvSpPr>
            <p:spPr>
              <a:xfrm>
                <a:off x="2367000" y="4498920"/>
                <a:ext cx="6480" cy="262080"/>
              </a:xfrm>
              <a:custGeom>
                <a:avLst/>
                <a:gdLst/>
                <a:ahLst/>
                <a:rect l="l" t="t" r="r" b="b"/>
                <a:pathLst>
                  <a:path w="4" h="165">
                    <a:moveTo>
                      <a:pt x="4" y="0"/>
                    </a:moveTo>
                    <a:lnTo>
                      <a:pt x="0" y="165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8" name=""/>
              <p:cNvSpPr/>
              <p:nvPr/>
            </p:nvSpPr>
            <p:spPr>
              <a:xfrm>
                <a:off x="2382840" y="5402160"/>
                <a:ext cx="934920" cy="501840"/>
              </a:xfrm>
              <a:custGeom>
                <a:avLst/>
                <a:gdLst/>
                <a:ahLst/>
                <a:rect l="l" t="t" r="r" b="b"/>
                <a:pathLst>
                  <a:path w="589" h="316">
                    <a:moveTo>
                      <a:pt x="0" y="0"/>
                    </a:moveTo>
                    <a:lnTo>
                      <a:pt x="181" y="57"/>
                    </a:lnTo>
                    <a:cubicBezTo>
                      <a:pt x="240" y="80"/>
                      <a:pt x="289" y="97"/>
                      <a:pt x="357" y="140"/>
                    </a:cubicBezTo>
                    <a:cubicBezTo>
                      <a:pt x="425" y="183"/>
                      <a:pt x="541" y="279"/>
                      <a:pt x="589" y="316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9" name=""/>
              <p:cNvSpPr/>
              <p:nvPr/>
            </p:nvSpPr>
            <p:spPr>
              <a:xfrm>
                <a:off x="2570040" y="5127480"/>
                <a:ext cx="939960" cy="254160"/>
              </a:xfrm>
              <a:custGeom>
                <a:avLst/>
                <a:gdLst/>
                <a:ahLst/>
                <a:rect l="l" t="t" r="r" b="b"/>
                <a:pathLst>
                  <a:path w="592" h="160">
                    <a:moveTo>
                      <a:pt x="0" y="77"/>
                    </a:moveTo>
                    <a:cubicBezTo>
                      <a:pt x="31" y="89"/>
                      <a:pt x="86" y="160"/>
                      <a:pt x="185" y="147"/>
                    </a:cubicBezTo>
                    <a:cubicBezTo>
                      <a:pt x="284" y="134"/>
                      <a:pt x="507" y="31"/>
                      <a:pt x="592" y="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0" name=""/>
              <p:cNvSpPr/>
              <p:nvPr/>
            </p:nvSpPr>
            <p:spPr>
              <a:xfrm>
                <a:off x="1125360" y="4964040"/>
                <a:ext cx="846360" cy="298440"/>
              </a:xfrm>
              <a:custGeom>
                <a:avLst/>
                <a:gdLst/>
                <a:ahLst/>
                <a:rect l="l" t="t" r="r" b="b"/>
                <a:pathLst>
                  <a:path w="533" h="188">
                    <a:moveTo>
                      <a:pt x="533" y="188"/>
                    </a:moveTo>
                    <a:lnTo>
                      <a:pt x="326" y="28"/>
                    </a:lnTo>
                    <a:cubicBezTo>
                      <a:pt x="267" y="0"/>
                      <a:pt x="235" y="10"/>
                      <a:pt x="181" y="18"/>
                    </a:cubicBezTo>
                    <a:cubicBezTo>
                      <a:pt x="127" y="26"/>
                      <a:pt x="38" y="63"/>
                      <a:pt x="0" y="75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1" name=""/>
              <p:cNvSpPr/>
              <p:nvPr/>
            </p:nvSpPr>
            <p:spPr>
              <a:xfrm>
                <a:off x="1125360" y="4145040"/>
                <a:ext cx="1297080" cy="606240"/>
              </a:xfrm>
              <a:custGeom>
                <a:avLst/>
                <a:gdLst/>
                <a:ahLst/>
                <a:rect l="l" t="t" r="r" b="b"/>
                <a:pathLst>
                  <a:path w="817" h="382">
                    <a:moveTo>
                      <a:pt x="817" y="42"/>
                    </a:moveTo>
                    <a:cubicBezTo>
                      <a:pt x="791" y="46"/>
                      <a:pt x="781" y="0"/>
                      <a:pt x="662" y="68"/>
                    </a:cubicBezTo>
                    <a:cubicBezTo>
                      <a:pt x="543" y="136"/>
                      <a:pt x="461" y="315"/>
                      <a:pt x="404" y="362"/>
                    </a:cubicBezTo>
                    <a:lnTo>
                      <a:pt x="321" y="352"/>
                    </a:lnTo>
                    <a:cubicBezTo>
                      <a:pt x="287" y="354"/>
                      <a:pt x="250" y="382"/>
                      <a:pt x="197" y="373"/>
                    </a:cubicBezTo>
                    <a:cubicBezTo>
                      <a:pt x="144" y="364"/>
                      <a:pt x="41" y="311"/>
                      <a:pt x="0" y="295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2" name=""/>
              <p:cNvSpPr/>
              <p:nvPr/>
            </p:nvSpPr>
            <p:spPr>
              <a:xfrm>
                <a:off x="2706840" y="4227480"/>
                <a:ext cx="652320" cy="281160"/>
              </a:xfrm>
              <a:custGeom>
                <a:avLst/>
                <a:gdLst/>
                <a:ahLst/>
                <a:rect l="l" t="t" r="r" b="b"/>
                <a:pathLst>
                  <a:path w="411" h="177">
                    <a:moveTo>
                      <a:pt x="0" y="0"/>
                    </a:moveTo>
                    <a:lnTo>
                      <a:pt x="72" y="35"/>
                    </a:lnTo>
                    <a:lnTo>
                      <a:pt x="135" y="143"/>
                    </a:lnTo>
                    <a:cubicBezTo>
                      <a:pt x="162" y="165"/>
                      <a:pt x="189" y="177"/>
                      <a:pt x="235" y="166"/>
                    </a:cubicBezTo>
                    <a:cubicBezTo>
                      <a:pt x="281" y="155"/>
                      <a:pt x="374" y="96"/>
                      <a:pt x="411" y="78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3" name=""/>
              <p:cNvSpPr/>
              <p:nvPr/>
            </p:nvSpPr>
            <p:spPr>
              <a:xfrm>
                <a:off x="2573280" y="4854600"/>
                <a:ext cx="860400" cy="144360"/>
              </a:xfrm>
              <a:custGeom>
                <a:avLst/>
                <a:gdLst/>
                <a:ahLst/>
                <a:rect l="l" t="t" r="r" b="b"/>
                <a:pathLst>
                  <a:path w="542" h="91">
                    <a:moveTo>
                      <a:pt x="0" y="91"/>
                    </a:moveTo>
                    <a:cubicBezTo>
                      <a:pt x="37" y="78"/>
                      <a:pt x="166" y="26"/>
                      <a:pt x="222" y="13"/>
                    </a:cubicBezTo>
                    <a:cubicBezTo>
                      <a:pt x="278" y="0"/>
                      <a:pt x="284" y="3"/>
                      <a:pt x="337" y="13"/>
                    </a:cubicBezTo>
                    <a:cubicBezTo>
                      <a:pt x="390" y="23"/>
                      <a:pt x="499" y="59"/>
                      <a:pt x="542" y="71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4" name=""/>
              <p:cNvSpPr/>
              <p:nvPr/>
            </p:nvSpPr>
            <p:spPr>
              <a:xfrm>
                <a:off x="2306880" y="5027760"/>
                <a:ext cx="3499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1200" spc="-1" strike="noStrike">
                    <a:solidFill>
                      <a:srgbClr val="000000"/>
                    </a:solidFill>
                    <a:latin typeface="Times New Roman"/>
                  </a:rPr>
                  <a:t>K</a:t>
                </a:r>
                <a:r>
                  <a:rPr b="1" lang="cs-CZ" sz="1200" spc="-1" strike="noStrike" baseline="40000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5" name=""/>
              <p:cNvSpPr/>
              <p:nvPr/>
            </p:nvSpPr>
            <p:spPr>
              <a:xfrm>
                <a:off x="3306240" y="5924520"/>
                <a:ext cx="689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1200" spc="-1" strike="noStrike">
                    <a:solidFill>
                      <a:srgbClr val="000000"/>
                    </a:solidFill>
                    <a:latin typeface="Times New Roman"/>
                  </a:rPr>
                  <a:t>glukóz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6" name=""/>
              <p:cNvSpPr/>
              <p:nvPr/>
            </p:nvSpPr>
            <p:spPr>
              <a:xfrm>
                <a:off x="399600" y="4954680"/>
                <a:ext cx="689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1200" spc="-1" strike="noStrike">
                    <a:solidFill>
                      <a:srgbClr val="000000"/>
                    </a:solidFill>
                    <a:latin typeface="Times New Roman"/>
                  </a:rPr>
                  <a:t>glukóz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8427" name=""/>
              <p:cNvGraphicFramePr/>
              <p:nvPr/>
            </p:nvGraphicFramePr>
            <p:xfrm>
              <a:off x="5732640" y="3430440"/>
              <a:ext cx="1930320" cy="342756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8428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5732640" y="3430440"/>
                        <a:ext cx="1930320" cy="3427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8429" name=""/>
              <p:cNvSpPr/>
              <p:nvPr/>
            </p:nvSpPr>
            <p:spPr>
              <a:xfrm rot="5978400">
                <a:off x="5919120" y="4600440"/>
                <a:ext cx="362160" cy="37764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0" name=""/>
              <p:cNvSpPr/>
              <p:nvPr/>
            </p:nvSpPr>
            <p:spPr>
              <a:xfrm rot="5978400">
                <a:off x="6012000" y="4692600"/>
                <a:ext cx="177840" cy="193680"/>
              </a:xfrm>
              <a:prstGeom prst="ellipse">
                <a:avLst/>
              </a:prstGeom>
              <a:solidFill>
                <a:srgbClr val="ff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1" name=""/>
              <p:cNvSpPr/>
              <p:nvPr/>
            </p:nvSpPr>
            <p:spPr>
              <a:xfrm>
                <a:off x="5975280" y="4702320"/>
                <a:ext cx="298440" cy="58680"/>
              </a:xfrm>
              <a:custGeom>
                <a:avLst/>
                <a:gdLst/>
                <a:ahLst/>
                <a:rect l="l" t="t" r="r" b="b"/>
                <a:pathLst>
                  <a:path w="188" h="37">
                    <a:moveTo>
                      <a:pt x="188" y="37"/>
                    </a:moveTo>
                    <a:lnTo>
                      <a:pt x="116" y="7"/>
                    </a:lnTo>
                    <a:lnTo>
                      <a:pt x="68" y="0"/>
                    </a:lnTo>
                    <a:lnTo>
                      <a:pt x="0" y="19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2" name=""/>
              <p:cNvSpPr/>
              <p:nvPr/>
            </p:nvSpPr>
            <p:spPr>
              <a:xfrm>
                <a:off x="5940360" y="4834080"/>
                <a:ext cx="292320" cy="60120"/>
              </a:xfrm>
              <a:custGeom>
                <a:avLst/>
                <a:gdLst/>
                <a:ahLst/>
                <a:rect l="l" t="t" r="r" b="b"/>
                <a:pathLst>
                  <a:path w="184" h="38">
                    <a:moveTo>
                      <a:pt x="184" y="13"/>
                    </a:moveTo>
                    <a:lnTo>
                      <a:pt x="138" y="23"/>
                    </a:lnTo>
                    <a:lnTo>
                      <a:pt x="106" y="38"/>
                    </a:lnTo>
                    <a:lnTo>
                      <a:pt x="67" y="24"/>
                    </a:lnTo>
                    <a:lnTo>
                      <a:pt x="0" y="0"/>
                    </a:lnTo>
                    <a:lnTo>
                      <a:pt x="3" y="1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3" name=""/>
              <p:cNvSpPr/>
              <p:nvPr/>
            </p:nvSpPr>
            <p:spPr>
              <a:xfrm>
                <a:off x="5231160" y="4344840"/>
                <a:ext cx="4168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1200" spc="-1" strike="noStrike">
                    <a:solidFill>
                      <a:srgbClr val="000000"/>
                    </a:solidFill>
                    <a:latin typeface="Times New Roman"/>
                  </a:rPr>
                  <a:t>Na</a:t>
                </a:r>
                <a:r>
                  <a:rPr b="1" lang="cs-CZ" sz="1200" spc="-1" strike="noStrike" baseline="40000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4" name=""/>
              <p:cNvSpPr/>
              <p:nvPr/>
            </p:nvSpPr>
            <p:spPr>
              <a:xfrm>
                <a:off x="6872400" y="3987720"/>
                <a:ext cx="4168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1200" spc="-1" strike="noStrike">
                    <a:solidFill>
                      <a:srgbClr val="000000"/>
                    </a:solidFill>
                    <a:latin typeface="Times New Roman"/>
                  </a:rPr>
                  <a:t>Na</a:t>
                </a:r>
                <a:r>
                  <a:rPr b="1" lang="cs-CZ" sz="1200" spc="-1" strike="noStrike" baseline="40000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5" name=""/>
              <p:cNvSpPr/>
              <p:nvPr/>
            </p:nvSpPr>
            <p:spPr>
              <a:xfrm>
                <a:off x="7817040" y="4106880"/>
                <a:ext cx="4168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1200" spc="-1" strike="noStrike">
                    <a:solidFill>
                      <a:srgbClr val="000000"/>
                    </a:solidFill>
                    <a:latin typeface="Times New Roman"/>
                  </a:rPr>
                  <a:t>Na</a:t>
                </a:r>
                <a:r>
                  <a:rPr b="1" lang="cs-CZ" sz="1200" spc="-1" strike="noStrike" baseline="40000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6" name=""/>
              <p:cNvSpPr/>
              <p:nvPr/>
            </p:nvSpPr>
            <p:spPr>
              <a:xfrm>
                <a:off x="7891920" y="4780080"/>
                <a:ext cx="3499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1200" spc="-1" strike="noStrike">
                    <a:solidFill>
                      <a:srgbClr val="000000"/>
                    </a:solidFill>
                    <a:latin typeface="Times New Roman"/>
                  </a:rPr>
                  <a:t>K</a:t>
                </a:r>
                <a:r>
                  <a:rPr b="1" lang="cs-CZ" sz="1200" spc="-1" strike="noStrike" baseline="40000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7" name=""/>
              <p:cNvSpPr/>
              <p:nvPr/>
            </p:nvSpPr>
            <p:spPr>
              <a:xfrm>
                <a:off x="5388120" y="4854600"/>
                <a:ext cx="3499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12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r>
                  <a:rPr b="1" lang="cs-CZ" sz="1200" spc="-1" strike="noStrike" baseline="40000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8" name=""/>
              <p:cNvSpPr/>
              <p:nvPr/>
            </p:nvSpPr>
            <p:spPr>
              <a:xfrm>
                <a:off x="6275520" y="4797360"/>
                <a:ext cx="3499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12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r>
                  <a:rPr b="1" lang="cs-CZ" sz="1200" spc="-1" strike="noStrike" baseline="40000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9" name=""/>
              <p:cNvSpPr/>
              <p:nvPr/>
            </p:nvSpPr>
            <p:spPr>
              <a:xfrm>
                <a:off x="6324480" y="5156280"/>
                <a:ext cx="546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1200" spc="-1" strike="noStrike">
                    <a:solidFill>
                      <a:srgbClr val="000000"/>
                    </a:solidFill>
                    <a:latin typeface="Times New Roman"/>
                  </a:rPr>
                  <a:t>A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440" name=""/>
              <p:cNvGrpSpPr/>
              <p:nvPr/>
            </p:nvGrpSpPr>
            <p:grpSpPr>
              <a:xfrm>
                <a:off x="6648480" y="4210200"/>
                <a:ext cx="1126080" cy="665280"/>
                <a:chOff x="6648480" y="4210200"/>
                <a:chExt cx="1126080" cy="665280"/>
              </a:xfrm>
            </p:grpSpPr>
            <p:grpSp>
              <p:nvGrpSpPr>
                <p:cNvPr id="8441" name=""/>
                <p:cNvGrpSpPr/>
                <p:nvPr/>
              </p:nvGrpSpPr>
              <p:grpSpPr>
                <a:xfrm>
                  <a:off x="6716520" y="4322160"/>
                  <a:ext cx="1058040" cy="530280"/>
                  <a:chOff x="6716520" y="4322160"/>
                  <a:chExt cx="1058040" cy="530280"/>
                </a:xfrm>
              </p:grpSpPr>
              <p:sp>
                <p:nvSpPr>
                  <p:cNvPr id="8442" name=""/>
                  <p:cNvSpPr/>
                  <p:nvPr/>
                </p:nvSpPr>
                <p:spPr>
                  <a:xfrm flipH="1" flipV="1" rot="10800000">
                    <a:off x="7267680" y="4321800"/>
                    <a:ext cx="506520" cy="530280"/>
                  </a:xfrm>
                  <a:prstGeom prst="ellipse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43" name=""/>
                  <p:cNvSpPr/>
                  <p:nvPr/>
                </p:nvSpPr>
                <p:spPr>
                  <a:xfrm flipH="1" flipV="1" rot="10800000">
                    <a:off x="7358400" y="4426560"/>
                    <a:ext cx="338040" cy="33660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44" name=""/>
                  <p:cNvSpPr/>
                  <p:nvPr/>
                </p:nvSpPr>
                <p:spPr>
                  <a:xfrm flipH="1" flipV="1" rot="10800000">
                    <a:off x="6716520" y="4429800"/>
                    <a:ext cx="209520" cy="207720"/>
                  </a:xfrm>
                  <a:prstGeom prst="ellipse">
                    <a:avLst/>
                  </a:prstGeom>
                  <a:solidFill>
                    <a:srgbClr val="ff33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45" name=""/>
                  <p:cNvSpPr/>
                  <p:nvPr/>
                </p:nvSpPr>
                <p:spPr>
                  <a:xfrm flipV="1">
                    <a:off x="6779880" y="4416480"/>
                    <a:ext cx="727200" cy="17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46" name=""/>
                  <p:cNvSpPr/>
                  <p:nvPr/>
                </p:nvSpPr>
                <p:spPr>
                  <a:xfrm>
                    <a:off x="6826680" y="4625280"/>
                    <a:ext cx="654120" cy="1126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447" name=""/>
                <p:cNvSpPr/>
                <p:nvPr/>
              </p:nvSpPr>
              <p:spPr>
                <a:xfrm>
                  <a:off x="6648480" y="4210200"/>
                  <a:ext cx="48564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cs-CZ" sz="1200" spc="-1" strike="noStrike">
                      <a:solidFill>
                        <a:srgbClr val="000000"/>
                      </a:solidFill>
                      <a:latin typeface="Times New Roman"/>
                    </a:rPr>
                    <a:t>ATP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48" name=""/>
                <p:cNvSpPr/>
                <p:nvPr/>
              </p:nvSpPr>
              <p:spPr>
                <a:xfrm>
                  <a:off x="6656400" y="4599000"/>
                  <a:ext cx="49320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cs-CZ" sz="1200" spc="-1" strike="noStrike">
                      <a:solidFill>
                        <a:srgbClr val="000000"/>
                      </a:solidFill>
                      <a:latin typeface="Times New Roman"/>
                    </a:rPr>
                    <a:t>ADP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49" name=""/>
                <p:cNvSpPr/>
                <p:nvPr/>
              </p:nvSpPr>
              <p:spPr>
                <a:xfrm>
                  <a:off x="6932520" y="4416480"/>
                  <a:ext cx="6120" cy="262080"/>
                </a:xfrm>
                <a:custGeom>
                  <a:avLst/>
                  <a:gdLst/>
                  <a:ahLst/>
                  <a:rect l="l" t="t" r="r" b="b"/>
                  <a:pathLst>
                    <a:path w="4" h="165">
                      <a:moveTo>
                        <a:pt x="4" y="0"/>
                      </a:moveTo>
                      <a:lnTo>
                        <a:pt x="0" y="165"/>
                      </a:ln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450" name=""/>
              <p:cNvSpPr/>
              <p:nvPr/>
            </p:nvSpPr>
            <p:spPr>
              <a:xfrm>
                <a:off x="5121360" y="5018040"/>
                <a:ext cx="306360" cy="287280"/>
              </a:xfrm>
              <a:custGeom>
                <a:avLst/>
                <a:gdLst/>
                <a:ahLst/>
                <a:rect l="l" t="t" r="r" b="b"/>
                <a:pathLst>
                  <a:path w="193" h="181">
                    <a:moveTo>
                      <a:pt x="167" y="181"/>
                    </a:moveTo>
                    <a:cubicBezTo>
                      <a:pt x="144" y="174"/>
                      <a:pt x="54" y="158"/>
                      <a:pt x="27" y="139"/>
                    </a:cubicBezTo>
                    <a:cubicBezTo>
                      <a:pt x="0" y="120"/>
                      <a:pt x="2" y="88"/>
                      <a:pt x="7" y="67"/>
                    </a:cubicBezTo>
                    <a:cubicBezTo>
                      <a:pt x="12" y="46"/>
                      <a:pt x="27" y="20"/>
                      <a:pt x="58" y="10"/>
                    </a:cubicBezTo>
                    <a:cubicBezTo>
                      <a:pt x="89" y="0"/>
                      <a:pt x="165" y="6"/>
                      <a:pt x="193" y="5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1" name=""/>
              <p:cNvSpPr/>
              <p:nvPr/>
            </p:nvSpPr>
            <p:spPr>
              <a:xfrm>
                <a:off x="6537240" y="4965840"/>
                <a:ext cx="363600" cy="342720"/>
              </a:xfrm>
              <a:custGeom>
                <a:avLst/>
                <a:gdLst/>
                <a:ahLst/>
                <a:rect l="l" t="t" r="r" b="b"/>
                <a:pathLst>
                  <a:path w="229" h="216">
                    <a:moveTo>
                      <a:pt x="86" y="216"/>
                    </a:moveTo>
                    <a:lnTo>
                      <a:pt x="159" y="208"/>
                    </a:lnTo>
                    <a:cubicBezTo>
                      <a:pt x="181" y="195"/>
                      <a:pt x="220" y="169"/>
                      <a:pt x="220" y="139"/>
                    </a:cubicBezTo>
                    <a:cubicBezTo>
                      <a:pt x="229" y="95"/>
                      <a:pt x="194" y="50"/>
                      <a:pt x="157" y="27"/>
                    </a:cubicBezTo>
                    <a:cubicBezTo>
                      <a:pt x="120" y="4"/>
                      <a:pt x="33" y="6"/>
                      <a:pt x="0" y="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2" name=""/>
              <p:cNvSpPr/>
              <p:nvPr/>
            </p:nvSpPr>
            <p:spPr>
              <a:xfrm>
                <a:off x="5659560" y="4932360"/>
                <a:ext cx="663480" cy="66600"/>
              </a:xfrm>
              <a:custGeom>
                <a:avLst/>
                <a:gdLst/>
                <a:ahLst/>
                <a:rect l="l" t="t" r="r" b="b"/>
                <a:pathLst>
                  <a:path w="418" h="42">
                    <a:moveTo>
                      <a:pt x="418" y="0"/>
                    </a:moveTo>
                    <a:lnTo>
                      <a:pt x="268" y="0"/>
                    </a:lnTo>
                    <a:cubicBezTo>
                      <a:pt x="198" y="7"/>
                      <a:pt x="56" y="33"/>
                      <a:pt x="0" y="42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3" name=""/>
              <p:cNvSpPr/>
              <p:nvPr/>
            </p:nvSpPr>
            <p:spPr>
              <a:xfrm>
                <a:off x="5600880" y="4070520"/>
                <a:ext cx="1296720" cy="606240"/>
              </a:xfrm>
              <a:custGeom>
                <a:avLst/>
                <a:gdLst/>
                <a:ahLst/>
                <a:rect l="l" t="t" r="r" b="b"/>
                <a:pathLst>
                  <a:path w="817" h="382">
                    <a:moveTo>
                      <a:pt x="817" y="42"/>
                    </a:moveTo>
                    <a:cubicBezTo>
                      <a:pt x="791" y="46"/>
                      <a:pt x="781" y="0"/>
                      <a:pt x="662" y="68"/>
                    </a:cubicBezTo>
                    <a:cubicBezTo>
                      <a:pt x="543" y="136"/>
                      <a:pt x="461" y="315"/>
                      <a:pt x="404" y="362"/>
                    </a:cubicBezTo>
                    <a:lnTo>
                      <a:pt x="321" y="352"/>
                    </a:lnTo>
                    <a:cubicBezTo>
                      <a:pt x="287" y="354"/>
                      <a:pt x="250" y="382"/>
                      <a:pt x="197" y="373"/>
                    </a:cubicBezTo>
                    <a:cubicBezTo>
                      <a:pt x="144" y="364"/>
                      <a:pt x="41" y="311"/>
                      <a:pt x="0" y="295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4" name=""/>
              <p:cNvSpPr/>
              <p:nvPr/>
            </p:nvSpPr>
            <p:spPr>
              <a:xfrm>
                <a:off x="7226280" y="4137120"/>
                <a:ext cx="608040" cy="290520"/>
              </a:xfrm>
              <a:custGeom>
                <a:avLst/>
                <a:gdLst/>
                <a:ahLst/>
                <a:rect l="l" t="t" r="r" b="b"/>
                <a:pathLst>
                  <a:path w="383" h="183">
                    <a:moveTo>
                      <a:pt x="0" y="0"/>
                    </a:moveTo>
                    <a:lnTo>
                      <a:pt x="109" y="129"/>
                    </a:lnTo>
                    <a:cubicBezTo>
                      <a:pt x="143" y="158"/>
                      <a:pt x="161" y="183"/>
                      <a:pt x="207" y="176"/>
                    </a:cubicBezTo>
                    <a:cubicBezTo>
                      <a:pt x="253" y="169"/>
                      <a:pt x="346" y="106"/>
                      <a:pt x="383" y="88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5" name=""/>
              <p:cNvSpPr/>
              <p:nvPr/>
            </p:nvSpPr>
            <p:spPr>
              <a:xfrm>
                <a:off x="7169040" y="4765680"/>
                <a:ext cx="739800" cy="127080"/>
              </a:xfrm>
              <a:custGeom>
                <a:avLst/>
                <a:gdLst/>
                <a:ahLst/>
                <a:rect l="l" t="t" r="r" b="b"/>
                <a:pathLst>
                  <a:path w="466" h="80">
                    <a:moveTo>
                      <a:pt x="0" y="54"/>
                    </a:moveTo>
                    <a:lnTo>
                      <a:pt x="181" y="7"/>
                    </a:lnTo>
                    <a:cubicBezTo>
                      <a:pt x="225" y="0"/>
                      <a:pt x="217" y="0"/>
                      <a:pt x="264" y="12"/>
                    </a:cubicBezTo>
                    <a:cubicBezTo>
                      <a:pt x="311" y="24"/>
                      <a:pt x="424" y="66"/>
                      <a:pt x="466" y="8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6" name=""/>
              <p:cNvSpPr/>
              <p:nvPr/>
            </p:nvSpPr>
            <p:spPr>
              <a:xfrm>
                <a:off x="6442200" y="5300640"/>
                <a:ext cx="401400" cy="314280"/>
              </a:xfrm>
              <a:custGeom>
                <a:avLst/>
                <a:gdLst/>
                <a:ahLst/>
                <a:rect l="l" t="t" r="r" b="b"/>
                <a:pathLst>
                  <a:path w="253" h="198">
                    <a:moveTo>
                      <a:pt x="0" y="198"/>
                    </a:moveTo>
                    <a:lnTo>
                      <a:pt x="103" y="197"/>
                    </a:lnTo>
                    <a:cubicBezTo>
                      <a:pt x="141" y="191"/>
                      <a:pt x="203" y="187"/>
                      <a:pt x="226" y="164"/>
                    </a:cubicBezTo>
                    <a:cubicBezTo>
                      <a:pt x="248" y="141"/>
                      <a:pt x="253" y="84"/>
                      <a:pt x="243" y="56"/>
                    </a:cubicBezTo>
                    <a:cubicBezTo>
                      <a:pt x="240" y="30"/>
                      <a:pt x="222" y="18"/>
                      <a:pt x="207" y="9"/>
                    </a:cubicBezTo>
                    <a:cubicBezTo>
                      <a:pt x="192" y="0"/>
                      <a:pt x="161" y="4"/>
                      <a:pt x="156" y="3"/>
                    </a:cubicBezTo>
                    <a:cubicBezTo>
                      <a:pt x="151" y="2"/>
                      <a:pt x="174" y="5"/>
                      <a:pt x="178" y="5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7" name=""/>
              <p:cNvSpPr/>
              <p:nvPr/>
            </p:nvSpPr>
            <p:spPr>
              <a:xfrm>
                <a:off x="6217200" y="5445000"/>
                <a:ext cx="3193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12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1" lang="cs-CZ" sz="1200" spc="-1" strike="noStrike" baseline="40000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8" name=""/>
              <p:cNvSpPr/>
              <p:nvPr/>
            </p:nvSpPr>
            <p:spPr>
              <a:xfrm rot="5978400">
                <a:off x="5827680" y="5425560"/>
                <a:ext cx="362160" cy="3780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9" name=""/>
              <p:cNvSpPr/>
              <p:nvPr/>
            </p:nvSpPr>
            <p:spPr>
              <a:xfrm rot="5978400">
                <a:off x="5919840" y="5518080"/>
                <a:ext cx="177840" cy="193680"/>
              </a:xfrm>
              <a:prstGeom prst="ellipse">
                <a:avLst/>
              </a:prstGeom>
              <a:solidFill>
                <a:srgbClr val="ff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0" name=""/>
              <p:cNvSpPr/>
              <p:nvPr/>
            </p:nvSpPr>
            <p:spPr>
              <a:xfrm>
                <a:off x="5870520" y="5527800"/>
                <a:ext cx="266760" cy="66600"/>
              </a:xfrm>
              <a:custGeom>
                <a:avLst/>
                <a:gdLst/>
                <a:ahLst/>
                <a:rect l="l" t="t" r="r" b="b"/>
                <a:pathLst>
                  <a:path w="168" h="42">
                    <a:moveTo>
                      <a:pt x="168" y="42"/>
                    </a:moveTo>
                    <a:lnTo>
                      <a:pt x="124" y="7"/>
                    </a:lnTo>
                    <a:lnTo>
                      <a:pt x="76" y="0"/>
                    </a:lnTo>
                    <a:lnTo>
                      <a:pt x="0" y="18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1" name=""/>
              <p:cNvSpPr/>
              <p:nvPr/>
            </p:nvSpPr>
            <p:spPr>
              <a:xfrm>
                <a:off x="5881680" y="5670720"/>
                <a:ext cx="270000" cy="48960"/>
              </a:xfrm>
              <a:custGeom>
                <a:avLst/>
                <a:gdLst/>
                <a:ahLst/>
                <a:rect l="l" t="t" r="r" b="b"/>
                <a:pathLst>
                  <a:path w="170" h="31">
                    <a:moveTo>
                      <a:pt x="170" y="7"/>
                    </a:moveTo>
                    <a:lnTo>
                      <a:pt x="117" y="16"/>
                    </a:lnTo>
                    <a:lnTo>
                      <a:pt x="85" y="31"/>
                    </a:lnTo>
                    <a:lnTo>
                      <a:pt x="56" y="24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2" name=""/>
              <p:cNvSpPr/>
              <p:nvPr/>
            </p:nvSpPr>
            <p:spPr>
              <a:xfrm>
                <a:off x="5338800" y="5138640"/>
                <a:ext cx="546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1200" spc="-1" strike="noStrike">
                    <a:solidFill>
                      <a:srgbClr val="000000"/>
                    </a:solidFill>
                    <a:latin typeface="Times New Roman"/>
                  </a:rPr>
                  <a:t>A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3" name=""/>
              <p:cNvSpPr/>
              <p:nvPr/>
            </p:nvSpPr>
            <p:spPr>
              <a:xfrm>
                <a:off x="5363280" y="5437080"/>
                <a:ext cx="3193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12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1" lang="cs-CZ" sz="1200" spc="-1" strike="noStrike" baseline="40000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4" name=""/>
              <p:cNvSpPr/>
              <p:nvPr/>
            </p:nvSpPr>
            <p:spPr>
              <a:xfrm>
                <a:off x="5060880" y="5281560"/>
                <a:ext cx="300240" cy="287280"/>
              </a:xfrm>
              <a:custGeom>
                <a:avLst/>
                <a:gdLst/>
                <a:ahLst/>
                <a:rect l="l" t="t" r="r" b="b"/>
                <a:pathLst>
                  <a:path w="189" h="181">
                    <a:moveTo>
                      <a:pt x="163" y="181"/>
                    </a:moveTo>
                    <a:cubicBezTo>
                      <a:pt x="142" y="175"/>
                      <a:pt x="66" y="163"/>
                      <a:pt x="39" y="144"/>
                    </a:cubicBezTo>
                    <a:cubicBezTo>
                      <a:pt x="12" y="125"/>
                      <a:pt x="0" y="89"/>
                      <a:pt x="3" y="67"/>
                    </a:cubicBezTo>
                    <a:cubicBezTo>
                      <a:pt x="6" y="45"/>
                      <a:pt x="23" y="20"/>
                      <a:pt x="54" y="10"/>
                    </a:cubicBezTo>
                    <a:cubicBezTo>
                      <a:pt x="85" y="0"/>
                      <a:pt x="161" y="6"/>
                      <a:pt x="189" y="5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5" name=""/>
              <p:cNvSpPr/>
              <p:nvPr/>
            </p:nvSpPr>
            <p:spPr>
              <a:xfrm>
                <a:off x="5624640" y="5475240"/>
                <a:ext cx="657000" cy="92160"/>
              </a:xfrm>
              <a:custGeom>
                <a:avLst/>
                <a:gdLst/>
                <a:ahLst/>
                <a:rect l="l" t="t" r="r" b="b"/>
                <a:pathLst>
                  <a:path w="414" h="58">
                    <a:moveTo>
                      <a:pt x="414" y="58"/>
                    </a:moveTo>
                    <a:lnTo>
                      <a:pt x="372" y="58"/>
                    </a:lnTo>
                    <a:lnTo>
                      <a:pt x="295" y="22"/>
                    </a:lnTo>
                    <a:cubicBezTo>
                      <a:pt x="270" y="13"/>
                      <a:pt x="271" y="0"/>
                      <a:pt x="222" y="6"/>
                    </a:cubicBezTo>
                    <a:cubicBezTo>
                      <a:pt x="173" y="12"/>
                      <a:pt x="46" y="47"/>
                      <a:pt x="0" y="58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360" bIns="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6" name=""/>
              <p:cNvSpPr/>
              <p:nvPr/>
            </p:nvSpPr>
            <p:spPr>
              <a:xfrm>
                <a:off x="5320440" y="5686560"/>
                <a:ext cx="3618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1200" spc="-1" strike="noStrike">
                    <a:solidFill>
                      <a:srgbClr val="000000"/>
                    </a:solidFill>
                    <a:latin typeface="Times New Roman"/>
                  </a:rPr>
                  <a:t>Cl</a:t>
                </a:r>
                <a:r>
                  <a:rPr b="1" lang="cs-CZ" sz="1200" spc="-1" strike="noStrike" baseline="40000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7" name=""/>
              <p:cNvSpPr/>
              <p:nvPr/>
            </p:nvSpPr>
            <p:spPr>
              <a:xfrm>
                <a:off x="5641920" y="5751360"/>
                <a:ext cx="1017720" cy="79560"/>
              </a:xfrm>
              <a:custGeom>
                <a:avLst/>
                <a:gdLst/>
                <a:ahLst/>
                <a:rect l="l" t="t" r="r" b="b"/>
                <a:pathLst>
                  <a:path w="641" h="50">
                    <a:moveTo>
                      <a:pt x="641" y="50"/>
                    </a:moveTo>
                    <a:lnTo>
                      <a:pt x="268" y="1"/>
                    </a:lnTo>
                    <a:cubicBezTo>
                      <a:pt x="161" y="0"/>
                      <a:pt x="56" y="34"/>
                      <a:pt x="0" y="43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8" name=""/>
              <p:cNvSpPr/>
              <p:nvPr/>
            </p:nvSpPr>
            <p:spPr>
              <a:xfrm rot="5978400">
                <a:off x="7186320" y="5486400"/>
                <a:ext cx="361800" cy="37764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9" name=""/>
              <p:cNvSpPr/>
              <p:nvPr/>
            </p:nvSpPr>
            <p:spPr>
              <a:xfrm rot="5978400">
                <a:off x="7278840" y="5578560"/>
                <a:ext cx="177840" cy="193680"/>
              </a:xfrm>
              <a:prstGeom prst="ellipse">
                <a:avLst/>
              </a:prstGeom>
              <a:solidFill>
                <a:srgbClr val="ff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0" name=""/>
              <p:cNvSpPr/>
              <p:nvPr/>
            </p:nvSpPr>
            <p:spPr>
              <a:xfrm>
                <a:off x="7267680" y="5581800"/>
                <a:ext cx="242640" cy="33120"/>
              </a:xfrm>
              <a:custGeom>
                <a:avLst/>
                <a:gdLst/>
                <a:ahLst/>
                <a:rect l="l" t="t" r="r" b="b"/>
                <a:pathLst>
                  <a:path w="153" h="21">
                    <a:moveTo>
                      <a:pt x="153" y="21"/>
                    </a:move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1" name=""/>
              <p:cNvSpPr/>
              <p:nvPr/>
            </p:nvSpPr>
            <p:spPr>
              <a:xfrm>
                <a:off x="7254720" y="5746680"/>
                <a:ext cx="216000" cy="27000"/>
              </a:xfrm>
              <a:custGeom>
                <a:avLst/>
                <a:gdLst/>
                <a:ahLst/>
                <a:rect l="l" t="t" r="r" b="b"/>
                <a:pathLst>
                  <a:path w="136" h="17">
                    <a:moveTo>
                      <a:pt x="136" y="17"/>
                    </a:move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2" name=""/>
              <p:cNvSpPr/>
              <p:nvPr/>
            </p:nvSpPr>
            <p:spPr>
              <a:xfrm>
                <a:off x="2955960" y="1698480"/>
                <a:ext cx="623880" cy="82800"/>
              </a:xfrm>
              <a:custGeom>
                <a:avLst/>
                <a:gdLst/>
                <a:ahLst/>
                <a:rect l="l" t="t" r="r" b="b"/>
                <a:pathLst>
                  <a:path w="367" h="41">
                    <a:moveTo>
                      <a:pt x="367" y="41"/>
                    </a:moveTo>
                    <a:lnTo>
                      <a:pt x="82" y="10"/>
                    </a:lnTo>
                    <a:cubicBezTo>
                      <a:pt x="21" y="3"/>
                      <a:pt x="17" y="2"/>
                      <a:pt x="0" y="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0" bIns="36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3" name=""/>
              <p:cNvSpPr/>
              <p:nvPr/>
            </p:nvSpPr>
            <p:spPr>
              <a:xfrm>
                <a:off x="6634800" y="5692680"/>
                <a:ext cx="3618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1200" spc="-1" strike="noStrike">
                    <a:solidFill>
                      <a:srgbClr val="000000"/>
                    </a:solidFill>
                    <a:latin typeface="Times New Roman"/>
                  </a:rPr>
                  <a:t>Cl</a:t>
                </a:r>
                <a:r>
                  <a:rPr b="1" lang="cs-CZ" sz="1200" spc="-1" strike="noStrike" baseline="40000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4" name=""/>
              <p:cNvSpPr/>
              <p:nvPr/>
            </p:nvSpPr>
            <p:spPr>
              <a:xfrm>
                <a:off x="7916040" y="5749920"/>
                <a:ext cx="3618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1200" spc="-1" strike="noStrike">
                    <a:solidFill>
                      <a:srgbClr val="000000"/>
                    </a:solidFill>
                    <a:latin typeface="Times New Roman"/>
                  </a:rPr>
                  <a:t>Cl</a:t>
                </a:r>
                <a:r>
                  <a:rPr b="1" lang="cs-CZ" sz="1200" spc="-1" strike="noStrike" baseline="40000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5" name=""/>
              <p:cNvSpPr/>
              <p:nvPr/>
            </p:nvSpPr>
            <p:spPr>
              <a:xfrm>
                <a:off x="6946920" y="5792760"/>
                <a:ext cx="968400" cy="87480"/>
              </a:xfrm>
              <a:custGeom>
                <a:avLst/>
                <a:gdLst/>
                <a:ahLst/>
                <a:rect l="l" t="t" r="r" b="b"/>
                <a:pathLst>
                  <a:path w="610" h="55">
                    <a:moveTo>
                      <a:pt x="610" y="55"/>
                    </a:moveTo>
                    <a:lnTo>
                      <a:pt x="237" y="6"/>
                    </a:lnTo>
                    <a:cubicBezTo>
                      <a:pt x="135" y="0"/>
                      <a:pt x="49" y="16"/>
                      <a:pt x="0" y="18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6" name=""/>
              <p:cNvSpPr/>
              <p:nvPr/>
            </p:nvSpPr>
            <p:spPr>
              <a:xfrm>
                <a:off x="7110360" y="5057640"/>
                <a:ext cx="895320" cy="493920"/>
              </a:xfrm>
              <a:custGeom>
                <a:avLst/>
                <a:gdLst/>
                <a:ahLst/>
                <a:rect l="l" t="t" r="r" b="b"/>
                <a:pathLst>
                  <a:path w="564" h="311">
                    <a:moveTo>
                      <a:pt x="564" y="11"/>
                    </a:moveTo>
                    <a:cubicBezTo>
                      <a:pt x="546" y="41"/>
                      <a:pt x="507" y="144"/>
                      <a:pt x="455" y="192"/>
                    </a:cubicBezTo>
                    <a:cubicBezTo>
                      <a:pt x="407" y="246"/>
                      <a:pt x="320" y="289"/>
                      <a:pt x="253" y="300"/>
                    </a:cubicBezTo>
                    <a:cubicBezTo>
                      <a:pt x="186" y="311"/>
                      <a:pt x="94" y="309"/>
                      <a:pt x="52" y="259"/>
                    </a:cubicBezTo>
                    <a:cubicBezTo>
                      <a:pt x="10" y="209"/>
                      <a:pt x="11" y="54"/>
                      <a:pt x="0" y="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7" name=""/>
              <p:cNvSpPr/>
              <p:nvPr/>
            </p:nvSpPr>
            <p:spPr>
              <a:xfrm>
                <a:off x="6947280" y="4813200"/>
                <a:ext cx="3499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1200" spc="-1" strike="noStrike">
                    <a:solidFill>
                      <a:srgbClr val="000000"/>
                    </a:solidFill>
                    <a:latin typeface="Times New Roman"/>
                  </a:rPr>
                  <a:t>K</a:t>
                </a:r>
                <a:r>
                  <a:rPr b="1" lang="cs-CZ" sz="1200" spc="-1" strike="noStrike" baseline="40000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8" name=""/>
              <p:cNvSpPr/>
              <p:nvPr/>
            </p:nvSpPr>
            <p:spPr>
              <a:xfrm>
                <a:off x="5708520" y="5259240"/>
                <a:ext cx="677880" cy="25560"/>
              </a:xfrm>
              <a:custGeom>
                <a:avLst/>
                <a:gdLst/>
                <a:ahLst/>
                <a:rect l="l" t="t" r="r" b="b"/>
                <a:pathLst>
                  <a:path w="427" h="16">
                    <a:moveTo>
                      <a:pt x="427" y="16"/>
                    </a:moveTo>
                    <a:lnTo>
                      <a:pt x="0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prstDash val="dash"/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9" name=""/>
              <p:cNvSpPr/>
              <p:nvPr/>
            </p:nvSpPr>
            <p:spPr>
              <a:xfrm>
                <a:off x="0" y="0"/>
                <a:ext cx="4162320" cy="320184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80" name=""/>
            <p:cNvGrpSpPr/>
            <p:nvPr/>
          </p:nvGrpSpPr>
          <p:grpSpPr>
            <a:xfrm>
              <a:off x="2754360" y="3448080"/>
              <a:ext cx="1281240" cy="1133640"/>
              <a:chOff x="2754360" y="3448080"/>
              <a:chExt cx="1281240" cy="1133640"/>
            </a:xfrm>
          </p:grpSpPr>
          <p:sp>
            <p:nvSpPr>
              <p:cNvPr id="8481" name=""/>
              <p:cNvSpPr/>
              <p:nvPr/>
            </p:nvSpPr>
            <p:spPr>
              <a:xfrm flipH="1" rot="19347000">
                <a:off x="2791440" y="3966840"/>
                <a:ext cx="827280" cy="404640"/>
              </a:xfrm>
              <a:prstGeom prst="lightningBol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2" name=""/>
              <p:cNvSpPr/>
              <p:nvPr/>
            </p:nvSpPr>
            <p:spPr>
              <a:xfrm>
                <a:off x="3025800" y="3448080"/>
                <a:ext cx="1009800" cy="55080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1000" spc="-1" strike="noStrike">
                    <a:solidFill>
                      <a:srgbClr val="000000"/>
                    </a:solidFill>
                    <a:latin typeface="Times New Roman"/>
                  </a:rPr>
                  <a:t>Stimulace: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1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cs-CZ" sz="1000" spc="-1" strike="noStrike">
                    <a:solidFill>
                      <a:srgbClr val="000000"/>
                    </a:solidFill>
                    <a:latin typeface="Times New Roman"/>
                  </a:rPr>
                  <a:t>Angiotensin I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10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1" lang="cs-CZ" sz="1000" spc="-1" strike="noStrike">
                    <a:solidFill>
                      <a:srgbClr val="000000"/>
                    </a:solidFill>
                    <a:latin typeface="Times New Roman"/>
                  </a:rPr>
                  <a:t>Sympatiku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83" name=""/>
            <p:cNvGrpSpPr/>
            <p:nvPr/>
          </p:nvGrpSpPr>
          <p:grpSpPr>
            <a:xfrm>
              <a:off x="7270560" y="3448080"/>
              <a:ext cx="1281240" cy="1133640"/>
              <a:chOff x="7270560" y="3448080"/>
              <a:chExt cx="1281240" cy="1133640"/>
            </a:xfrm>
          </p:grpSpPr>
          <p:sp>
            <p:nvSpPr>
              <p:cNvPr id="8484" name=""/>
              <p:cNvSpPr/>
              <p:nvPr/>
            </p:nvSpPr>
            <p:spPr>
              <a:xfrm flipH="1" rot="19347000">
                <a:off x="7307640" y="3966840"/>
                <a:ext cx="827280" cy="404640"/>
              </a:xfrm>
              <a:prstGeom prst="lightningBol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5" name=""/>
              <p:cNvSpPr/>
              <p:nvPr/>
            </p:nvSpPr>
            <p:spPr>
              <a:xfrm>
                <a:off x="7542000" y="3448080"/>
                <a:ext cx="1009800" cy="55080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1000" spc="-1" strike="noStrike">
                    <a:solidFill>
                      <a:srgbClr val="000000"/>
                    </a:solidFill>
                    <a:latin typeface="Times New Roman"/>
                  </a:rPr>
                  <a:t>Stimulace: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1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cs-CZ" sz="1000" spc="-1" strike="noStrike">
                    <a:solidFill>
                      <a:srgbClr val="000000"/>
                    </a:solidFill>
                    <a:latin typeface="Times New Roman"/>
                  </a:rPr>
                  <a:t>Angiotensin I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10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1" lang="cs-CZ" sz="1000" spc="-1" strike="noStrike">
                    <a:solidFill>
                      <a:srgbClr val="000000"/>
                    </a:solidFill>
                    <a:latin typeface="Times New Roman"/>
                  </a:rPr>
                  <a:t>Sympatiku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"/>
          <p:cNvSpPr/>
          <p:nvPr/>
        </p:nvSpPr>
        <p:spPr>
          <a:xfrm>
            <a:off x="2424240" y="1969920"/>
            <a:ext cx="3260520" cy="1132200"/>
          </a:xfrm>
          <a:prstGeom prst="bracePair">
            <a:avLst>
              <a:gd name="adj" fmla="val 8333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2516040" y="1573200"/>
            <a:ext cx="3068640" cy="357120"/>
          </a:xfrm>
          <a:prstGeom prst="bracePair">
            <a:avLst>
              <a:gd name="adj" fmla="val 8333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2295360" y="1325520"/>
            <a:ext cx="2927520" cy="2184480"/>
          </a:xfrm>
          <a:prstGeom prst="can">
            <a:avLst>
              <a:gd name="adj" fmla="val 25000"/>
            </a:avLst>
          </a:prstGeom>
          <a:solidFill>
            <a:srgbClr val="ffff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2300400" y="2641680"/>
            <a:ext cx="2936880" cy="3897360"/>
          </a:xfrm>
          <a:prstGeom prst="can">
            <a:avLst>
              <a:gd name="adj" fmla="val 25000"/>
            </a:avLst>
          </a:prstGeom>
          <a:solidFill>
            <a:srgbClr val="ffff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62532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Obsah vody v organis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89360" y="2742840"/>
            <a:ext cx="1458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CT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60-65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45 litrů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3146760" y="5022720"/>
            <a:ext cx="1458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I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40-45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30 litrů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2984760" y="1326960"/>
            <a:ext cx="1458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20-23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15 litrů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5738400" y="2207520"/>
            <a:ext cx="285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IS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16% (12 litrů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5423040" y="1385280"/>
            <a:ext cx="359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Plazm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4% (3 litr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0" y="5217480"/>
            <a:ext cx="247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ECT/ICT=1/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5819760" y="2687040"/>
            <a:ext cx="283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lazma/IST=1/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6" name=""/>
          <p:cNvSpPr/>
          <p:nvPr/>
        </p:nvSpPr>
        <p:spPr>
          <a:xfrm>
            <a:off x="6213600" y="0"/>
            <a:ext cx="2800080" cy="22255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7" name=""/>
          <p:cNvSpPr/>
          <p:nvPr/>
        </p:nvSpPr>
        <p:spPr>
          <a:xfrm>
            <a:off x="-426960" y="2151000"/>
            <a:ext cx="4146480" cy="9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ehydrat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8" name=""/>
          <p:cNvSpPr/>
          <p:nvPr/>
        </p:nvSpPr>
        <p:spPr>
          <a:xfrm>
            <a:off x="550800" y="2878200"/>
            <a:ext cx="3665520" cy="14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Hypoosmolár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Isoosmolár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Hyperosmolár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9" name=""/>
          <p:cNvSpPr/>
          <p:nvPr/>
        </p:nvSpPr>
        <p:spPr>
          <a:xfrm>
            <a:off x="550800" y="5056200"/>
            <a:ext cx="3665520" cy="14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Hypoosmolár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Isoosmolár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Hyperosmolár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0" name=""/>
          <p:cNvSpPr/>
          <p:nvPr/>
        </p:nvSpPr>
        <p:spPr>
          <a:xfrm>
            <a:off x="0" y="4249800"/>
            <a:ext cx="4146480" cy="9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Hyperhydrat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1" name=""/>
          <p:cNvSpPr/>
          <p:nvPr/>
        </p:nvSpPr>
        <p:spPr>
          <a:xfrm>
            <a:off x="6386400" y="6008760"/>
            <a:ext cx="101628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ztráty vod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2" name=""/>
          <p:cNvSpPr/>
          <p:nvPr/>
        </p:nvSpPr>
        <p:spPr>
          <a:xfrm>
            <a:off x="7751880" y="5888160"/>
            <a:ext cx="850680" cy="6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ztráty solutů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93" name=""/>
          <p:cNvGrpSpPr/>
          <p:nvPr/>
        </p:nvGrpSpPr>
        <p:grpSpPr>
          <a:xfrm>
            <a:off x="6694560" y="5451480"/>
            <a:ext cx="674640" cy="759960"/>
            <a:chOff x="6694560" y="5451480"/>
            <a:chExt cx="674640" cy="759960"/>
          </a:xfrm>
        </p:grpSpPr>
        <p:pic>
          <p:nvPicPr>
            <p:cNvPr id="8494" name="" descr=""/>
            <p:cNvPicPr/>
            <p:nvPr/>
          </p:nvPicPr>
          <p:blipFill>
            <a:blip r:embed="rId1"/>
            <a:stretch/>
          </p:blipFill>
          <p:spPr>
            <a:xfrm>
              <a:off x="6694560" y="5451480"/>
              <a:ext cx="674640" cy="532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495" name=""/>
            <p:cNvGrpSpPr/>
            <p:nvPr/>
          </p:nvGrpSpPr>
          <p:grpSpPr>
            <a:xfrm>
              <a:off x="7220520" y="5973120"/>
              <a:ext cx="61200" cy="238320"/>
              <a:chOff x="7220520" y="5973120"/>
              <a:chExt cx="61200" cy="238320"/>
            </a:xfrm>
          </p:grpSpPr>
          <p:sp>
            <p:nvSpPr>
              <p:cNvPr id="8496" name=""/>
              <p:cNvSpPr/>
              <p:nvPr/>
            </p:nvSpPr>
            <p:spPr>
              <a:xfrm>
                <a:off x="7220520" y="5973120"/>
                <a:ext cx="61200" cy="115920"/>
              </a:xfrm>
              <a:custGeom>
                <a:avLst/>
                <a:gdLst/>
                <a:ahLst/>
                <a:rect l="l" t="t" r="r" b="b"/>
                <a:pathLst>
                  <a:path w="196" h="371">
                    <a:moveTo>
                      <a:pt x="95" y="0"/>
                    </a:moveTo>
                    <a:lnTo>
                      <a:pt x="105" y="58"/>
                    </a:lnTo>
                    <a:lnTo>
                      <a:pt x="111" y="88"/>
                    </a:lnTo>
                    <a:lnTo>
                      <a:pt x="121" y="122"/>
                    </a:lnTo>
                    <a:lnTo>
                      <a:pt x="132" y="142"/>
                    </a:lnTo>
                    <a:lnTo>
                      <a:pt x="147" y="166"/>
                    </a:lnTo>
                    <a:lnTo>
                      <a:pt x="167" y="194"/>
                    </a:lnTo>
                    <a:lnTo>
                      <a:pt x="184" y="220"/>
                    </a:lnTo>
                    <a:lnTo>
                      <a:pt x="192" y="246"/>
                    </a:lnTo>
                    <a:lnTo>
                      <a:pt x="196" y="279"/>
                    </a:lnTo>
                    <a:lnTo>
                      <a:pt x="189" y="307"/>
                    </a:lnTo>
                    <a:lnTo>
                      <a:pt x="178" y="328"/>
                    </a:lnTo>
                    <a:lnTo>
                      <a:pt x="162" y="345"/>
                    </a:lnTo>
                    <a:lnTo>
                      <a:pt x="141" y="361"/>
                    </a:lnTo>
                    <a:lnTo>
                      <a:pt x="121" y="368"/>
                    </a:lnTo>
                    <a:lnTo>
                      <a:pt x="99" y="371"/>
                    </a:lnTo>
                    <a:lnTo>
                      <a:pt x="76" y="368"/>
                    </a:lnTo>
                    <a:lnTo>
                      <a:pt x="54" y="362"/>
                    </a:lnTo>
                    <a:lnTo>
                      <a:pt x="34" y="351"/>
                    </a:lnTo>
                    <a:lnTo>
                      <a:pt x="19" y="335"/>
                    </a:lnTo>
                    <a:lnTo>
                      <a:pt x="8" y="316"/>
                    </a:lnTo>
                    <a:lnTo>
                      <a:pt x="3" y="297"/>
                    </a:lnTo>
                    <a:lnTo>
                      <a:pt x="0" y="272"/>
                    </a:lnTo>
                    <a:lnTo>
                      <a:pt x="5" y="240"/>
                    </a:lnTo>
                    <a:lnTo>
                      <a:pt x="13" y="218"/>
                    </a:lnTo>
                    <a:lnTo>
                      <a:pt x="30" y="191"/>
                    </a:lnTo>
                    <a:lnTo>
                      <a:pt x="49" y="166"/>
                    </a:lnTo>
                    <a:lnTo>
                      <a:pt x="62" y="141"/>
                    </a:lnTo>
                    <a:lnTo>
                      <a:pt x="72" y="120"/>
                    </a:lnTo>
                    <a:lnTo>
                      <a:pt x="81" y="90"/>
                    </a:lnTo>
                    <a:lnTo>
                      <a:pt x="86" y="58"/>
                    </a:lnTo>
                    <a:lnTo>
                      <a:pt x="95" y="0"/>
                    </a:lnTo>
                    <a:close/>
                  </a:path>
                </a:pathLst>
              </a:cu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7" name=""/>
              <p:cNvSpPr/>
              <p:nvPr/>
            </p:nvSpPr>
            <p:spPr>
              <a:xfrm>
                <a:off x="7220520" y="6095520"/>
                <a:ext cx="61200" cy="115920"/>
              </a:xfrm>
              <a:custGeom>
                <a:avLst/>
                <a:gdLst/>
                <a:ahLst/>
                <a:rect l="l" t="t" r="r" b="b"/>
                <a:pathLst>
                  <a:path w="196" h="372">
                    <a:moveTo>
                      <a:pt x="95" y="0"/>
                    </a:moveTo>
                    <a:lnTo>
                      <a:pt x="105" y="59"/>
                    </a:lnTo>
                    <a:lnTo>
                      <a:pt x="111" y="88"/>
                    </a:lnTo>
                    <a:lnTo>
                      <a:pt x="121" y="122"/>
                    </a:lnTo>
                    <a:lnTo>
                      <a:pt x="132" y="143"/>
                    </a:lnTo>
                    <a:lnTo>
                      <a:pt x="147" y="167"/>
                    </a:lnTo>
                    <a:lnTo>
                      <a:pt x="167" y="195"/>
                    </a:lnTo>
                    <a:lnTo>
                      <a:pt x="184" y="220"/>
                    </a:lnTo>
                    <a:lnTo>
                      <a:pt x="192" y="247"/>
                    </a:lnTo>
                    <a:lnTo>
                      <a:pt x="196" y="279"/>
                    </a:lnTo>
                    <a:lnTo>
                      <a:pt x="189" y="308"/>
                    </a:lnTo>
                    <a:lnTo>
                      <a:pt x="178" y="328"/>
                    </a:lnTo>
                    <a:lnTo>
                      <a:pt x="162" y="345"/>
                    </a:lnTo>
                    <a:lnTo>
                      <a:pt x="141" y="361"/>
                    </a:lnTo>
                    <a:lnTo>
                      <a:pt x="121" y="369"/>
                    </a:lnTo>
                    <a:lnTo>
                      <a:pt x="99" y="372"/>
                    </a:lnTo>
                    <a:lnTo>
                      <a:pt x="76" y="369"/>
                    </a:lnTo>
                    <a:lnTo>
                      <a:pt x="54" y="363"/>
                    </a:lnTo>
                    <a:lnTo>
                      <a:pt x="34" y="351"/>
                    </a:lnTo>
                    <a:lnTo>
                      <a:pt x="19" y="336"/>
                    </a:lnTo>
                    <a:lnTo>
                      <a:pt x="8" y="317"/>
                    </a:lnTo>
                    <a:lnTo>
                      <a:pt x="3" y="298"/>
                    </a:lnTo>
                    <a:lnTo>
                      <a:pt x="0" y="272"/>
                    </a:lnTo>
                    <a:lnTo>
                      <a:pt x="5" y="242"/>
                    </a:lnTo>
                    <a:lnTo>
                      <a:pt x="13" y="219"/>
                    </a:lnTo>
                    <a:lnTo>
                      <a:pt x="30" y="191"/>
                    </a:lnTo>
                    <a:lnTo>
                      <a:pt x="49" y="167"/>
                    </a:lnTo>
                    <a:lnTo>
                      <a:pt x="62" y="141"/>
                    </a:lnTo>
                    <a:lnTo>
                      <a:pt x="72" y="120"/>
                    </a:lnTo>
                    <a:lnTo>
                      <a:pt x="81" y="90"/>
                    </a:lnTo>
                    <a:lnTo>
                      <a:pt x="86" y="59"/>
                    </a:lnTo>
                    <a:lnTo>
                      <a:pt x="95" y="0"/>
                    </a:lnTo>
                    <a:close/>
                  </a:path>
                </a:pathLst>
              </a:cu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498" name=""/>
          <p:cNvGrpSpPr/>
          <p:nvPr/>
        </p:nvGrpSpPr>
        <p:grpSpPr>
          <a:xfrm>
            <a:off x="7831440" y="5397120"/>
            <a:ext cx="1082160" cy="808560"/>
            <a:chOff x="7831440" y="5397120"/>
            <a:chExt cx="1082160" cy="808560"/>
          </a:xfrm>
        </p:grpSpPr>
        <p:sp>
          <p:nvSpPr>
            <p:cNvPr id="8499" name=""/>
            <p:cNvSpPr/>
            <p:nvPr/>
          </p:nvSpPr>
          <p:spPr>
            <a:xfrm rot="6456000">
              <a:off x="8068680" y="5270760"/>
              <a:ext cx="214200" cy="654480"/>
            </a:xfrm>
            <a:prstGeom prst="can">
              <a:avLst>
                <a:gd name="adj" fmla="val 25000"/>
              </a:avLst>
            </a:prstGeom>
            <a:solidFill>
              <a:srgbClr val="80808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0" name=""/>
            <p:cNvSpPr/>
            <p:nvPr/>
          </p:nvSpPr>
          <p:spPr>
            <a:xfrm>
              <a:off x="8321040" y="5618160"/>
              <a:ext cx="592560" cy="587520"/>
            </a:xfrm>
            <a:custGeom>
              <a:avLst/>
              <a:gdLst/>
              <a:ahLst/>
              <a:rect l="l" t="t" r="r" b="b"/>
              <a:pathLst>
                <a:path w="740" h="830">
                  <a:moveTo>
                    <a:pt x="16" y="158"/>
                  </a:moveTo>
                  <a:cubicBezTo>
                    <a:pt x="30" y="199"/>
                    <a:pt x="63" y="176"/>
                    <a:pt x="78" y="213"/>
                  </a:cubicBezTo>
                  <a:cubicBezTo>
                    <a:pt x="87" y="240"/>
                    <a:pt x="103" y="258"/>
                    <a:pt x="115" y="286"/>
                  </a:cubicBezTo>
                  <a:cubicBezTo>
                    <a:pt x="123" y="302"/>
                    <a:pt x="128" y="320"/>
                    <a:pt x="134" y="336"/>
                  </a:cubicBezTo>
                  <a:cubicBezTo>
                    <a:pt x="155" y="488"/>
                    <a:pt x="174" y="561"/>
                    <a:pt x="250" y="652"/>
                  </a:cubicBezTo>
                  <a:cubicBezTo>
                    <a:pt x="267" y="714"/>
                    <a:pt x="303" y="810"/>
                    <a:pt x="343" y="810"/>
                  </a:cubicBezTo>
                  <a:cubicBezTo>
                    <a:pt x="427" y="787"/>
                    <a:pt x="660" y="830"/>
                    <a:pt x="740" y="784"/>
                  </a:cubicBezTo>
                  <a:cubicBezTo>
                    <a:pt x="694" y="652"/>
                    <a:pt x="636" y="796"/>
                    <a:pt x="576" y="659"/>
                  </a:cubicBezTo>
                  <a:cubicBezTo>
                    <a:pt x="552" y="609"/>
                    <a:pt x="551" y="529"/>
                    <a:pt x="523" y="484"/>
                  </a:cubicBezTo>
                  <a:cubicBezTo>
                    <a:pt x="510" y="404"/>
                    <a:pt x="505" y="386"/>
                    <a:pt x="463" y="365"/>
                  </a:cubicBezTo>
                  <a:cubicBezTo>
                    <a:pt x="454" y="302"/>
                    <a:pt x="411" y="270"/>
                    <a:pt x="372" y="270"/>
                  </a:cubicBezTo>
                  <a:cubicBezTo>
                    <a:pt x="368" y="252"/>
                    <a:pt x="325" y="186"/>
                    <a:pt x="316" y="179"/>
                  </a:cubicBezTo>
                  <a:cubicBezTo>
                    <a:pt x="293" y="161"/>
                    <a:pt x="241" y="144"/>
                    <a:pt x="214" y="138"/>
                  </a:cubicBezTo>
                  <a:cubicBezTo>
                    <a:pt x="170" y="122"/>
                    <a:pt x="108" y="28"/>
                    <a:pt x="63" y="12"/>
                  </a:cubicBezTo>
                  <a:cubicBezTo>
                    <a:pt x="47" y="0"/>
                    <a:pt x="3" y="58"/>
                    <a:pt x="17" y="58"/>
                  </a:cubicBezTo>
                  <a:cubicBezTo>
                    <a:pt x="17" y="144"/>
                    <a:pt x="0" y="76"/>
                    <a:pt x="16" y="158"/>
                  </a:cubicBez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01" name=""/>
          <p:cNvSpPr/>
          <p:nvPr/>
        </p:nvSpPr>
        <p:spPr>
          <a:xfrm>
            <a:off x="6332400" y="2224080"/>
            <a:ext cx="101628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retence vod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2" name=""/>
          <p:cNvSpPr/>
          <p:nvPr/>
        </p:nvSpPr>
        <p:spPr>
          <a:xfrm>
            <a:off x="7497720" y="2201760"/>
            <a:ext cx="1006560" cy="66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retence solutů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03" name=""/>
          <p:cNvGrpSpPr/>
          <p:nvPr/>
        </p:nvGrpSpPr>
        <p:grpSpPr>
          <a:xfrm>
            <a:off x="6632640" y="2984400"/>
            <a:ext cx="460440" cy="691920"/>
            <a:chOff x="6632640" y="2984400"/>
            <a:chExt cx="460440" cy="691920"/>
          </a:xfrm>
        </p:grpSpPr>
        <p:sp>
          <p:nvSpPr>
            <p:cNvPr id="8504" name=""/>
            <p:cNvSpPr/>
            <p:nvPr/>
          </p:nvSpPr>
          <p:spPr>
            <a:xfrm>
              <a:off x="6636600" y="3036960"/>
              <a:ext cx="452160" cy="474840"/>
            </a:xfrm>
            <a:custGeom>
              <a:avLst/>
              <a:gdLst/>
              <a:ahLst/>
              <a:rect l="l" t="t" r="r" b="b"/>
              <a:pathLst>
                <a:path w="2256" h="2295">
                  <a:moveTo>
                    <a:pt x="0" y="0"/>
                  </a:moveTo>
                  <a:lnTo>
                    <a:pt x="939" y="1180"/>
                  </a:lnTo>
                  <a:lnTo>
                    <a:pt x="980" y="2175"/>
                  </a:lnTo>
                  <a:lnTo>
                    <a:pt x="983" y="2202"/>
                  </a:lnTo>
                  <a:lnTo>
                    <a:pt x="991" y="2221"/>
                  </a:lnTo>
                  <a:lnTo>
                    <a:pt x="1000" y="2235"/>
                  </a:lnTo>
                  <a:lnTo>
                    <a:pt x="1010" y="2246"/>
                  </a:lnTo>
                  <a:lnTo>
                    <a:pt x="1024" y="2260"/>
                  </a:lnTo>
                  <a:lnTo>
                    <a:pt x="1038" y="2268"/>
                  </a:lnTo>
                  <a:lnTo>
                    <a:pt x="1060" y="2281"/>
                  </a:lnTo>
                  <a:lnTo>
                    <a:pt x="1083" y="2287"/>
                  </a:lnTo>
                  <a:lnTo>
                    <a:pt x="1111" y="2293"/>
                  </a:lnTo>
                  <a:lnTo>
                    <a:pt x="1128" y="2295"/>
                  </a:lnTo>
                  <a:lnTo>
                    <a:pt x="1145" y="2295"/>
                  </a:lnTo>
                  <a:lnTo>
                    <a:pt x="1163" y="2292"/>
                  </a:lnTo>
                  <a:lnTo>
                    <a:pt x="1183" y="2286"/>
                  </a:lnTo>
                  <a:lnTo>
                    <a:pt x="1202" y="2279"/>
                  </a:lnTo>
                  <a:lnTo>
                    <a:pt x="1221" y="2268"/>
                  </a:lnTo>
                  <a:lnTo>
                    <a:pt x="1235" y="2259"/>
                  </a:lnTo>
                  <a:lnTo>
                    <a:pt x="1251" y="2243"/>
                  </a:lnTo>
                  <a:lnTo>
                    <a:pt x="1262" y="2227"/>
                  </a:lnTo>
                  <a:lnTo>
                    <a:pt x="1273" y="2203"/>
                  </a:lnTo>
                  <a:lnTo>
                    <a:pt x="1276" y="2181"/>
                  </a:lnTo>
                  <a:lnTo>
                    <a:pt x="1336" y="1161"/>
                  </a:lnTo>
                  <a:lnTo>
                    <a:pt x="225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5" name=""/>
            <p:cNvSpPr/>
            <p:nvPr/>
          </p:nvSpPr>
          <p:spPr>
            <a:xfrm>
              <a:off x="6632640" y="2984400"/>
              <a:ext cx="460440" cy="90000"/>
            </a:xfrm>
            <a:prstGeom prst="ellipse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6" name=""/>
            <p:cNvSpPr/>
            <p:nvPr/>
          </p:nvSpPr>
          <p:spPr>
            <a:xfrm>
              <a:off x="6668640" y="3050640"/>
              <a:ext cx="392040" cy="447120"/>
            </a:xfrm>
            <a:custGeom>
              <a:avLst/>
              <a:gdLst/>
              <a:ahLst/>
              <a:rect l="l" t="t" r="r" b="b"/>
              <a:pathLst>
                <a:path w="1956" h="2159">
                  <a:moveTo>
                    <a:pt x="0" y="19"/>
                  </a:moveTo>
                  <a:lnTo>
                    <a:pt x="857" y="1063"/>
                  </a:lnTo>
                  <a:lnTo>
                    <a:pt x="879" y="2090"/>
                  </a:lnTo>
                  <a:lnTo>
                    <a:pt x="887" y="2107"/>
                  </a:lnTo>
                  <a:lnTo>
                    <a:pt x="897" y="2123"/>
                  </a:lnTo>
                  <a:lnTo>
                    <a:pt x="906" y="2137"/>
                  </a:lnTo>
                  <a:lnTo>
                    <a:pt x="922" y="2147"/>
                  </a:lnTo>
                  <a:lnTo>
                    <a:pt x="939" y="2156"/>
                  </a:lnTo>
                  <a:lnTo>
                    <a:pt x="962" y="2159"/>
                  </a:lnTo>
                  <a:lnTo>
                    <a:pt x="983" y="2157"/>
                  </a:lnTo>
                  <a:lnTo>
                    <a:pt x="1005" y="2153"/>
                  </a:lnTo>
                  <a:lnTo>
                    <a:pt x="1026" y="2140"/>
                  </a:lnTo>
                  <a:lnTo>
                    <a:pt x="1040" y="2123"/>
                  </a:lnTo>
                  <a:lnTo>
                    <a:pt x="1048" y="2109"/>
                  </a:lnTo>
                  <a:lnTo>
                    <a:pt x="1056" y="2088"/>
                  </a:lnTo>
                  <a:lnTo>
                    <a:pt x="1100" y="1045"/>
                  </a:lnTo>
                  <a:lnTo>
                    <a:pt x="1956" y="0"/>
                  </a:lnTo>
                  <a:lnTo>
                    <a:pt x="1790" y="41"/>
                  </a:lnTo>
                  <a:lnTo>
                    <a:pt x="1531" y="77"/>
                  </a:lnTo>
                  <a:lnTo>
                    <a:pt x="1247" y="98"/>
                  </a:lnTo>
                  <a:lnTo>
                    <a:pt x="962" y="109"/>
                  </a:lnTo>
                  <a:lnTo>
                    <a:pt x="662" y="98"/>
                  </a:lnTo>
                  <a:lnTo>
                    <a:pt x="398" y="77"/>
                  </a:lnTo>
                  <a:lnTo>
                    <a:pt x="178" y="52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7" name=""/>
            <p:cNvSpPr/>
            <p:nvPr/>
          </p:nvSpPr>
          <p:spPr>
            <a:xfrm>
              <a:off x="6735960" y="3141360"/>
              <a:ext cx="253080" cy="357480"/>
            </a:xfrm>
            <a:custGeom>
              <a:avLst/>
              <a:gdLst/>
              <a:ahLst/>
              <a:rect l="l" t="t" r="r" b="b"/>
              <a:pathLst>
                <a:path w="1264" h="1728">
                  <a:moveTo>
                    <a:pt x="0" y="0"/>
                  </a:moveTo>
                  <a:lnTo>
                    <a:pt x="520" y="624"/>
                  </a:lnTo>
                  <a:lnTo>
                    <a:pt x="531" y="1657"/>
                  </a:lnTo>
                  <a:lnTo>
                    <a:pt x="541" y="1674"/>
                  </a:lnTo>
                  <a:lnTo>
                    <a:pt x="553" y="1688"/>
                  </a:lnTo>
                  <a:lnTo>
                    <a:pt x="564" y="1701"/>
                  </a:lnTo>
                  <a:lnTo>
                    <a:pt x="580" y="1715"/>
                  </a:lnTo>
                  <a:lnTo>
                    <a:pt x="608" y="1723"/>
                  </a:lnTo>
                  <a:lnTo>
                    <a:pt x="632" y="1728"/>
                  </a:lnTo>
                  <a:lnTo>
                    <a:pt x="651" y="1725"/>
                  </a:lnTo>
                  <a:lnTo>
                    <a:pt x="673" y="1720"/>
                  </a:lnTo>
                  <a:lnTo>
                    <a:pt x="694" y="1709"/>
                  </a:lnTo>
                  <a:lnTo>
                    <a:pt x="711" y="1692"/>
                  </a:lnTo>
                  <a:lnTo>
                    <a:pt x="723" y="1669"/>
                  </a:lnTo>
                  <a:lnTo>
                    <a:pt x="730" y="1657"/>
                  </a:lnTo>
                  <a:lnTo>
                    <a:pt x="761" y="605"/>
                  </a:lnTo>
                  <a:lnTo>
                    <a:pt x="126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8" name=""/>
            <p:cNvSpPr/>
            <p:nvPr/>
          </p:nvSpPr>
          <p:spPr>
            <a:xfrm>
              <a:off x="6842880" y="3518280"/>
              <a:ext cx="39600" cy="76680"/>
            </a:xfrm>
            <a:custGeom>
              <a:avLst/>
              <a:gdLst/>
              <a:ahLst/>
              <a:rect l="l" t="t" r="r" b="b"/>
              <a:pathLst>
                <a:path w="196" h="370">
                  <a:moveTo>
                    <a:pt x="95" y="0"/>
                  </a:moveTo>
                  <a:lnTo>
                    <a:pt x="105" y="58"/>
                  </a:lnTo>
                  <a:lnTo>
                    <a:pt x="111" y="87"/>
                  </a:lnTo>
                  <a:lnTo>
                    <a:pt x="121" y="121"/>
                  </a:lnTo>
                  <a:lnTo>
                    <a:pt x="132" y="141"/>
                  </a:lnTo>
                  <a:lnTo>
                    <a:pt x="147" y="166"/>
                  </a:lnTo>
                  <a:lnTo>
                    <a:pt x="167" y="193"/>
                  </a:lnTo>
                  <a:lnTo>
                    <a:pt x="184" y="220"/>
                  </a:lnTo>
                  <a:lnTo>
                    <a:pt x="192" y="245"/>
                  </a:lnTo>
                  <a:lnTo>
                    <a:pt x="196" y="278"/>
                  </a:lnTo>
                  <a:lnTo>
                    <a:pt x="189" y="307"/>
                  </a:lnTo>
                  <a:lnTo>
                    <a:pt x="178" y="328"/>
                  </a:lnTo>
                  <a:lnTo>
                    <a:pt x="162" y="345"/>
                  </a:lnTo>
                  <a:lnTo>
                    <a:pt x="141" y="361"/>
                  </a:lnTo>
                  <a:lnTo>
                    <a:pt x="121" y="367"/>
                  </a:lnTo>
                  <a:lnTo>
                    <a:pt x="99" y="370"/>
                  </a:lnTo>
                  <a:lnTo>
                    <a:pt x="76" y="367"/>
                  </a:lnTo>
                  <a:lnTo>
                    <a:pt x="54" y="362"/>
                  </a:lnTo>
                  <a:lnTo>
                    <a:pt x="34" y="350"/>
                  </a:lnTo>
                  <a:lnTo>
                    <a:pt x="19" y="334"/>
                  </a:lnTo>
                  <a:lnTo>
                    <a:pt x="8" y="315"/>
                  </a:lnTo>
                  <a:lnTo>
                    <a:pt x="3" y="296"/>
                  </a:lnTo>
                  <a:lnTo>
                    <a:pt x="0" y="272"/>
                  </a:lnTo>
                  <a:lnTo>
                    <a:pt x="5" y="240"/>
                  </a:lnTo>
                  <a:lnTo>
                    <a:pt x="13" y="218"/>
                  </a:lnTo>
                  <a:lnTo>
                    <a:pt x="30" y="190"/>
                  </a:lnTo>
                  <a:lnTo>
                    <a:pt x="49" y="166"/>
                  </a:lnTo>
                  <a:lnTo>
                    <a:pt x="62" y="140"/>
                  </a:lnTo>
                  <a:lnTo>
                    <a:pt x="72" y="119"/>
                  </a:lnTo>
                  <a:lnTo>
                    <a:pt x="81" y="90"/>
                  </a:lnTo>
                  <a:lnTo>
                    <a:pt x="86" y="58"/>
                  </a:lnTo>
                  <a:lnTo>
                    <a:pt x="95" y="0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9" name=""/>
            <p:cNvSpPr/>
            <p:nvPr/>
          </p:nvSpPr>
          <p:spPr>
            <a:xfrm>
              <a:off x="6655320" y="2993040"/>
              <a:ext cx="414720" cy="7236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0" name=""/>
            <p:cNvSpPr/>
            <p:nvPr/>
          </p:nvSpPr>
          <p:spPr>
            <a:xfrm>
              <a:off x="6842880" y="3599640"/>
              <a:ext cx="39600" cy="76680"/>
            </a:xfrm>
            <a:custGeom>
              <a:avLst/>
              <a:gdLst/>
              <a:ahLst/>
              <a:rect l="l" t="t" r="r" b="b"/>
              <a:pathLst>
                <a:path w="196" h="372">
                  <a:moveTo>
                    <a:pt x="95" y="0"/>
                  </a:moveTo>
                  <a:lnTo>
                    <a:pt x="105" y="60"/>
                  </a:lnTo>
                  <a:lnTo>
                    <a:pt x="111" y="88"/>
                  </a:lnTo>
                  <a:lnTo>
                    <a:pt x="121" y="122"/>
                  </a:lnTo>
                  <a:lnTo>
                    <a:pt x="132" y="143"/>
                  </a:lnTo>
                  <a:lnTo>
                    <a:pt x="147" y="168"/>
                  </a:lnTo>
                  <a:lnTo>
                    <a:pt x="167" y="195"/>
                  </a:lnTo>
                  <a:lnTo>
                    <a:pt x="184" y="221"/>
                  </a:lnTo>
                  <a:lnTo>
                    <a:pt x="192" y="247"/>
                  </a:lnTo>
                  <a:lnTo>
                    <a:pt x="196" y="279"/>
                  </a:lnTo>
                  <a:lnTo>
                    <a:pt x="189" y="308"/>
                  </a:lnTo>
                  <a:lnTo>
                    <a:pt x="178" y="328"/>
                  </a:lnTo>
                  <a:lnTo>
                    <a:pt x="162" y="345"/>
                  </a:lnTo>
                  <a:lnTo>
                    <a:pt x="141" y="361"/>
                  </a:lnTo>
                  <a:lnTo>
                    <a:pt x="121" y="369"/>
                  </a:lnTo>
                  <a:lnTo>
                    <a:pt x="99" y="372"/>
                  </a:lnTo>
                  <a:lnTo>
                    <a:pt x="76" y="369"/>
                  </a:lnTo>
                  <a:lnTo>
                    <a:pt x="54" y="363"/>
                  </a:lnTo>
                  <a:lnTo>
                    <a:pt x="34" y="351"/>
                  </a:lnTo>
                  <a:lnTo>
                    <a:pt x="19" y="336"/>
                  </a:lnTo>
                  <a:lnTo>
                    <a:pt x="8" y="317"/>
                  </a:lnTo>
                  <a:lnTo>
                    <a:pt x="3" y="298"/>
                  </a:lnTo>
                  <a:lnTo>
                    <a:pt x="0" y="272"/>
                  </a:lnTo>
                  <a:lnTo>
                    <a:pt x="5" y="242"/>
                  </a:lnTo>
                  <a:lnTo>
                    <a:pt x="13" y="219"/>
                  </a:lnTo>
                  <a:lnTo>
                    <a:pt x="30" y="191"/>
                  </a:lnTo>
                  <a:lnTo>
                    <a:pt x="49" y="168"/>
                  </a:lnTo>
                  <a:lnTo>
                    <a:pt x="62" y="141"/>
                  </a:lnTo>
                  <a:lnTo>
                    <a:pt x="72" y="120"/>
                  </a:lnTo>
                  <a:lnTo>
                    <a:pt x="81" y="90"/>
                  </a:lnTo>
                  <a:lnTo>
                    <a:pt x="86" y="60"/>
                  </a:lnTo>
                  <a:lnTo>
                    <a:pt x="95" y="0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1" name=""/>
            <p:cNvSpPr/>
            <p:nvPr/>
          </p:nvSpPr>
          <p:spPr>
            <a:xfrm>
              <a:off x="6733440" y="3112920"/>
              <a:ext cx="258480" cy="46440"/>
            </a:xfrm>
            <a:prstGeom prst="ellipse">
              <a:avLst/>
            </a:pr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2" name=""/>
            <p:cNvSpPr/>
            <p:nvPr/>
          </p:nvSpPr>
          <p:spPr>
            <a:xfrm>
              <a:off x="6845400" y="3470040"/>
              <a:ext cx="34200" cy="35640"/>
            </a:xfrm>
            <a:prstGeom prst="ellipse">
              <a:avLst/>
            </a:prstGeom>
            <a:solidFill>
              <a:srgbClr val="009999"/>
            </a:solidFill>
            <a:ln w="1764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13" name=""/>
          <p:cNvGrpSpPr/>
          <p:nvPr/>
        </p:nvGrpSpPr>
        <p:grpSpPr>
          <a:xfrm>
            <a:off x="7523280" y="3067200"/>
            <a:ext cx="678960" cy="796680"/>
            <a:chOff x="7523280" y="3067200"/>
            <a:chExt cx="678960" cy="796680"/>
          </a:xfrm>
        </p:grpSpPr>
        <p:grpSp>
          <p:nvGrpSpPr>
            <p:cNvPr id="8514" name=""/>
            <p:cNvGrpSpPr/>
            <p:nvPr/>
          </p:nvGrpSpPr>
          <p:grpSpPr>
            <a:xfrm>
              <a:off x="7523280" y="3093480"/>
              <a:ext cx="594720" cy="402480"/>
              <a:chOff x="7523280" y="3093480"/>
              <a:chExt cx="594720" cy="402480"/>
            </a:xfrm>
          </p:grpSpPr>
          <p:grpSp>
            <p:nvGrpSpPr>
              <p:cNvPr id="8515" name=""/>
              <p:cNvGrpSpPr/>
              <p:nvPr/>
            </p:nvGrpSpPr>
            <p:grpSpPr>
              <a:xfrm>
                <a:off x="7523280" y="3137760"/>
                <a:ext cx="577080" cy="358200"/>
                <a:chOff x="7523280" y="3137760"/>
                <a:chExt cx="577080" cy="358200"/>
              </a:xfrm>
            </p:grpSpPr>
            <p:grpSp>
              <p:nvGrpSpPr>
                <p:cNvPr id="8516" name=""/>
                <p:cNvGrpSpPr/>
                <p:nvPr/>
              </p:nvGrpSpPr>
              <p:grpSpPr>
                <a:xfrm>
                  <a:off x="7523280" y="3137760"/>
                  <a:ext cx="575640" cy="358200"/>
                  <a:chOff x="7523280" y="3137760"/>
                  <a:chExt cx="575640" cy="358200"/>
                </a:xfrm>
              </p:grpSpPr>
              <p:sp>
                <p:nvSpPr>
                  <p:cNvPr id="8517" name=""/>
                  <p:cNvSpPr/>
                  <p:nvPr/>
                </p:nvSpPr>
                <p:spPr>
                  <a:xfrm rot="1404600">
                    <a:off x="7519680" y="3288600"/>
                    <a:ext cx="563760" cy="99360"/>
                  </a:xfrm>
                  <a:prstGeom prst="ellipse">
                    <a:avLst/>
                  </a:prstGeom>
                  <a:solidFill>
                    <a:srgbClr val="e0e0e0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760" bIns="23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18" name=""/>
                  <p:cNvSpPr/>
                  <p:nvPr/>
                </p:nvSpPr>
                <p:spPr>
                  <a:xfrm rot="1404600">
                    <a:off x="7539120" y="3245760"/>
                    <a:ext cx="563760" cy="96840"/>
                  </a:xfrm>
                  <a:prstGeom prst="rect">
                    <a:avLst/>
                  </a:pr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519" name=""/>
                <p:cNvSpPr/>
                <p:nvPr/>
              </p:nvSpPr>
              <p:spPr>
                <a:xfrm flipV="1">
                  <a:off x="7539120" y="3138840"/>
                  <a:ext cx="42120" cy="9324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440" bIns="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20" name=""/>
                <p:cNvSpPr/>
                <p:nvPr/>
              </p:nvSpPr>
              <p:spPr>
                <a:xfrm flipH="1">
                  <a:off x="8062200" y="3366360"/>
                  <a:ext cx="38160" cy="9072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21" name=""/>
              <p:cNvGrpSpPr/>
              <p:nvPr/>
            </p:nvGrpSpPr>
            <p:grpSpPr>
              <a:xfrm>
                <a:off x="7561800" y="3093480"/>
                <a:ext cx="556200" cy="314280"/>
                <a:chOff x="7561800" y="3093480"/>
                <a:chExt cx="556200" cy="314280"/>
              </a:xfrm>
            </p:grpSpPr>
            <p:sp>
              <p:nvSpPr>
                <p:cNvPr id="8522" name=""/>
                <p:cNvSpPr/>
                <p:nvPr/>
              </p:nvSpPr>
              <p:spPr>
                <a:xfrm rot="1404600">
                  <a:off x="7557840" y="3201120"/>
                  <a:ext cx="563760" cy="98280"/>
                </a:xfrm>
                <a:prstGeom prst="ellipse">
                  <a:avLst/>
                </a:prstGeom>
                <a:solidFill>
                  <a:srgbClr val="e0e0e0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23" name=""/>
                <p:cNvSpPr/>
                <p:nvPr/>
              </p:nvSpPr>
              <p:spPr>
                <a:xfrm rot="1404600">
                  <a:off x="7574040" y="3215160"/>
                  <a:ext cx="528840" cy="76680"/>
                </a:xfrm>
                <a:prstGeom prst="ellipse">
                  <a:avLst/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524" name=""/>
            <p:cNvSpPr/>
            <p:nvPr/>
          </p:nvSpPr>
          <p:spPr>
            <a:xfrm>
              <a:off x="7571160" y="3067200"/>
              <a:ext cx="631080" cy="796680"/>
            </a:xfrm>
            <a:custGeom>
              <a:avLst/>
              <a:gdLst/>
              <a:ahLst/>
              <a:rect l="l" t="t" r="r" b="b"/>
              <a:pathLst>
                <a:path w="410" h="554">
                  <a:moveTo>
                    <a:pt x="196" y="30"/>
                  </a:moveTo>
                  <a:cubicBezTo>
                    <a:pt x="95" y="0"/>
                    <a:pt x="0" y="54"/>
                    <a:pt x="4" y="68"/>
                  </a:cubicBezTo>
                  <a:cubicBezTo>
                    <a:pt x="4" y="82"/>
                    <a:pt x="124" y="130"/>
                    <a:pt x="178" y="151"/>
                  </a:cubicBezTo>
                  <a:cubicBezTo>
                    <a:pt x="219" y="170"/>
                    <a:pt x="223" y="170"/>
                    <a:pt x="247" y="177"/>
                  </a:cubicBezTo>
                  <a:cubicBezTo>
                    <a:pt x="272" y="184"/>
                    <a:pt x="310" y="160"/>
                    <a:pt x="327" y="195"/>
                  </a:cubicBezTo>
                  <a:cubicBezTo>
                    <a:pt x="351" y="214"/>
                    <a:pt x="350" y="331"/>
                    <a:pt x="348" y="385"/>
                  </a:cubicBezTo>
                  <a:cubicBezTo>
                    <a:pt x="346" y="439"/>
                    <a:pt x="312" y="494"/>
                    <a:pt x="315" y="517"/>
                  </a:cubicBezTo>
                  <a:cubicBezTo>
                    <a:pt x="318" y="540"/>
                    <a:pt x="353" y="522"/>
                    <a:pt x="367" y="523"/>
                  </a:cubicBezTo>
                  <a:cubicBezTo>
                    <a:pt x="381" y="524"/>
                    <a:pt x="398" y="554"/>
                    <a:pt x="400" y="523"/>
                  </a:cubicBezTo>
                  <a:cubicBezTo>
                    <a:pt x="410" y="504"/>
                    <a:pt x="388" y="393"/>
                    <a:pt x="381" y="339"/>
                  </a:cubicBezTo>
                  <a:cubicBezTo>
                    <a:pt x="374" y="285"/>
                    <a:pt x="378" y="240"/>
                    <a:pt x="358" y="198"/>
                  </a:cubicBezTo>
                  <a:cubicBezTo>
                    <a:pt x="338" y="156"/>
                    <a:pt x="287" y="113"/>
                    <a:pt x="261" y="85"/>
                  </a:cubicBezTo>
                  <a:cubicBezTo>
                    <a:pt x="234" y="57"/>
                    <a:pt x="210" y="42"/>
                    <a:pt x="196" y="30"/>
                  </a:cubicBezTo>
                  <a:close/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25" name=""/>
          <p:cNvSpPr/>
          <p:nvPr/>
        </p:nvSpPr>
        <p:spPr>
          <a:xfrm>
            <a:off x="6299280" y="1662120"/>
            <a:ext cx="2106360" cy="66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obj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26" name="" descr=""/>
          <p:cNvPicPr/>
          <p:nvPr/>
        </p:nvPicPr>
        <p:blipFill>
          <a:blip r:embed="rId4"/>
          <a:stretch/>
        </p:blipFill>
        <p:spPr>
          <a:xfrm>
            <a:off x="6548400" y="317520"/>
            <a:ext cx="1698840" cy="1519200"/>
          </a:xfrm>
          <a:prstGeom prst="rect">
            <a:avLst/>
          </a:prstGeom>
          <a:ln w="0">
            <a:noFill/>
          </a:ln>
        </p:spPr>
      </p:pic>
      <p:pic>
        <p:nvPicPr>
          <p:cNvPr id="8527" name="" descr=""/>
          <p:cNvPicPr/>
          <p:nvPr/>
        </p:nvPicPr>
        <p:blipFill>
          <a:blip r:embed="rId5"/>
          <a:stretch/>
        </p:blipFill>
        <p:spPr>
          <a:xfrm>
            <a:off x="6556320" y="3659040"/>
            <a:ext cx="1698840" cy="1519560"/>
          </a:xfrm>
          <a:prstGeom prst="rect">
            <a:avLst/>
          </a:prstGeom>
          <a:ln w="0">
            <a:noFill/>
          </a:ln>
        </p:spPr>
      </p:pic>
      <p:grpSp>
        <p:nvGrpSpPr>
          <p:cNvPr id="8528" name=""/>
          <p:cNvGrpSpPr/>
          <p:nvPr/>
        </p:nvGrpSpPr>
        <p:grpSpPr>
          <a:xfrm>
            <a:off x="6377040" y="431640"/>
            <a:ext cx="460440" cy="691920"/>
            <a:chOff x="6377040" y="431640"/>
            <a:chExt cx="460440" cy="691920"/>
          </a:xfrm>
        </p:grpSpPr>
        <p:sp>
          <p:nvSpPr>
            <p:cNvPr id="8529" name=""/>
            <p:cNvSpPr/>
            <p:nvPr/>
          </p:nvSpPr>
          <p:spPr>
            <a:xfrm>
              <a:off x="6381000" y="484200"/>
              <a:ext cx="452160" cy="474840"/>
            </a:xfrm>
            <a:custGeom>
              <a:avLst/>
              <a:gdLst/>
              <a:ahLst/>
              <a:rect l="l" t="t" r="r" b="b"/>
              <a:pathLst>
                <a:path w="2256" h="2295">
                  <a:moveTo>
                    <a:pt x="0" y="0"/>
                  </a:moveTo>
                  <a:lnTo>
                    <a:pt x="939" y="1180"/>
                  </a:lnTo>
                  <a:lnTo>
                    <a:pt x="980" y="2175"/>
                  </a:lnTo>
                  <a:lnTo>
                    <a:pt x="983" y="2202"/>
                  </a:lnTo>
                  <a:lnTo>
                    <a:pt x="991" y="2221"/>
                  </a:lnTo>
                  <a:lnTo>
                    <a:pt x="1000" y="2235"/>
                  </a:lnTo>
                  <a:lnTo>
                    <a:pt x="1010" y="2246"/>
                  </a:lnTo>
                  <a:lnTo>
                    <a:pt x="1024" y="2260"/>
                  </a:lnTo>
                  <a:lnTo>
                    <a:pt x="1038" y="2268"/>
                  </a:lnTo>
                  <a:lnTo>
                    <a:pt x="1060" y="2281"/>
                  </a:lnTo>
                  <a:lnTo>
                    <a:pt x="1083" y="2287"/>
                  </a:lnTo>
                  <a:lnTo>
                    <a:pt x="1111" y="2293"/>
                  </a:lnTo>
                  <a:lnTo>
                    <a:pt x="1128" y="2295"/>
                  </a:lnTo>
                  <a:lnTo>
                    <a:pt x="1145" y="2295"/>
                  </a:lnTo>
                  <a:lnTo>
                    <a:pt x="1163" y="2292"/>
                  </a:lnTo>
                  <a:lnTo>
                    <a:pt x="1183" y="2286"/>
                  </a:lnTo>
                  <a:lnTo>
                    <a:pt x="1202" y="2279"/>
                  </a:lnTo>
                  <a:lnTo>
                    <a:pt x="1221" y="2268"/>
                  </a:lnTo>
                  <a:lnTo>
                    <a:pt x="1235" y="2259"/>
                  </a:lnTo>
                  <a:lnTo>
                    <a:pt x="1251" y="2243"/>
                  </a:lnTo>
                  <a:lnTo>
                    <a:pt x="1262" y="2227"/>
                  </a:lnTo>
                  <a:lnTo>
                    <a:pt x="1273" y="2203"/>
                  </a:lnTo>
                  <a:lnTo>
                    <a:pt x="1276" y="2181"/>
                  </a:lnTo>
                  <a:lnTo>
                    <a:pt x="1336" y="1161"/>
                  </a:lnTo>
                  <a:lnTo>
                    <a:pt x="225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0" name=""/>
            <p:cNvSpPr/>
            <p:nvPr/>
          </p:nvSpPr>
          <p:spPr>
            <a:xfrm>
              <a:off x="6377040" y="431640"/>
              <a:ext cx="460440" cy="90000"/>
            </a:xfrm>
            <a:prstGeom prst="ellipse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1" name=""/>
            <p:cNvSpPr/>
            <p:nvPr/>
          </p:nvSpPr>
          <p:spPr>
            <a:xfrm>
              <a:off x="6413040" y="497880"/>
              <a:ext cx="392040" cy="447120"/>
            </a:xfrm>
            <a:custGeom>
              <a:avLst/>
              <a:gdLst/>
              <a:ahLst/>
              <a:rect l="l" t="t" r="r" b="b"/>
              <a:pathLst>
                <a:path w="1956" h="2159">
                  <a:moveTo>
                    <a:pt x="0" y="19"/>
                  </a:moveTo>
                  <a:lnTo>
                    <a:pt x="857" y="1063"/>
                  </a:lnTo>
                  <a:lnTo>
                    <a:pt x="879" y="2090"/>
                  </a:lnTo>
                  <a:lnTo>
                    <a:pt x="887" y="2107"/>
                  </a:lnTo>
                  <a:lnTo>
                    <a:pt x="897" y="2123"/>
                  </a:lnTo>
                  <a:lnTo>
                    <a:pt x="906" y="2137"/>
                  </a:lnTo>
                  <a:lnTo>
                    <a:pt x="922" y="2147"/>
                  </a:lnTo>
                  <a:lnTo>
                    <a:pt x="939" y="2156"/>
                  </a:lnTo>
                  <a:lnTo>
                    <a:pt x="962" y="2159"/>
                  </a:lnTo>
                  <a:lnTo>
                    <a:pt x="983" y="2157"/>
                  </a:lnTo>
                  <a:lnTo>
                    <a:pt x="1005" y="2153"/>
                  </a:lnTo>
                  <a:lnTo>
                    <a:pt x="1026" y="2140"/>
                  </a:lnTo>
                  <a:lnTo>
                    <a:pt x="1040" y="2123"/>
                  </a:lnTo>
                  <a:lnTo>
                    <a:pt x="1048" y="2109"/>
                  </a:lnTo>
                  <a:lnTo>
                    <a:pt x="1056" y="2088"/>
                  </a:lnTo>
                  <a:lnTo>
                    <a:pt x="1100" y="1045"/>
                  </a:lnTo>
                  <a:lnTo>
                    <a:pt x="1956" y="0"/>
                  </a:lnTo>
                  <a:lnTo>
                    <a:pt x="1790" y="41"/>
                  </a:lnTo>
                  <a:lnTo>
                    <a:pt x="1531" y="77"/>
                  </a:lnTo>
                  <a:lnTo>
                    <a:pt x="1247" y="98"/>
                  </a:lnTo>
                  <a:lnTo>
                    <a:pt x="962" y="109"/>
                  </a:lnTo>
                  <a:lnTo>
                    <a:pt x="662" y="98"/>
                  </a:lnTo>
                  <a:lnTo>
                    <a:pt x="398" y="77"/>
                  </a:lnTo>
                  <a:lnTo>
                    <a:pt x="178" y="52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2" name=""/>
            <p:cNvSpPr/>
            <p:nvPr/>
          </p:nvSpPr>
          <p:spPr>
            <a:xfrm>
              <a:off x="6480360" y="588600"/>
              <a:ext cx="253080" cy="357480"/>
            </a:xfrm>
            <a:custGeom>
              <a:avLst/>
              <a:gdLst/>
              <a:ahLst/>
              <a:rect l="l" t="t" r="r" b="b"/>
              <a:pathLst>
                <a:path w="1264" h="1728">
                  <a:moveTo>
                    <a:pt x="0" y="0"/>
                  </a:moveTo>
                  <a:lnTo>
                    <a:pt x="520" y="624"/>
                  </a:lnTo>
                  <a:lnTo>
                    <a:pt x="531" y="1657"/>
                  </a:lnTo>
                  <a:lnTo>
                    <a:pt x="541" y="1674"/>
                  </a:lnTo>
                  <a:lnTo>
                    <a:pt x="553" y="1688"/>
                  </a:lnTo>
                  <a:lnTo>
                    <a:pt x="564" y="1701"/>
                  </a:lnTo>
                  <a:lnTo>
                    <a:pt x="580" y="1715"/>
                  </a:lnTo>
                  <a:lnTo>
                    <a:pt x="608" y="1723"/>
                  </a:lnTo>
                  <a:lnTo>
                    <a:pt x="632" y="1728"/>
                  </a:lnTo>
                  <a:lnTo>
                    <a:pt x="651" y="1725"/>
                  </a:lnTo>
                  <a:lnTo>
                    <a:pt x="673" y="1720"/>
                  </a:lnTo>
                  <a:lnTo>
                    <a:pt x="694" y="1709"/>
                  </a:lnTo>
                  <a:lnTo>
                    <a:pt x="711" y="1692"/>
                  </a:lnTo>
                  <a:lnTo>
                    <a:pt x="723" y="1669"/>
                  </a:lnTo>
                  <a:lnTo>
                    <a:pt x="730" y="1657"/>
                  </a:lnTo>
                  <a:lnTo>
                    <a:pt x="761" y="605"/>
                  </a:lnTo>
                  <a:lnTo>
                    <a:pt x="126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3" name=""/>
            <p:cNvSpPr/>
            <p:nvPr/>
          </p:nvSpPr>
          <p:spPr>
            <a:xfrm>
              <a:off x="6587280" y="965520"/>
              <a:ext cx="39600" cy="76680"/>
            </a:xfrm>
            <a:custGeom>
              <a:avLst/>
              <a:gdLst/>
              <a:ahLst/>
              <a:rect l="l" t="t" r="r" b="b"/>
              <a:pathLst>
                <a:path w="196" h="370">
                  <a:moveTo>
                    <a:pt x="95" y="0"/>
                  </a:moveTo>
                  <a:lnTo>
                    <a:pt x="105" y="58"/>
                  </a:lnTo>
                  <a:lnTo>
                    <a:pt x="111" y="87"/>
                  </a:lnTo>
                  <a:lnTo>
                    <a:pt x="121" y="121"/>
                  </a:lnTo>
                  <a:lnTo>
                    <a:pt x="132" y="141"/>
                  </a:lnTo>
                  <a:lnTo>
                    <a:pt x="147" y="166"/>
                  </a:lnTo>
                  <a:lnTo>
                    <a:pt x="167" y="193"/>
                  </a:lnTo>
                  <a:lnTo>
                    <a:pt x="184" y="220"/>
                  </a:lnTo>
                  <a:lnTo>
                    <a:pt x="192" y="245"/>
                  </a:lnTo>
                  <a:lnTo>
                    <a:pt x="196" y="278"/>
                  </a:lnTo>
                  <a:lnTo>
                    <a:pt x="189" y="307"/>
                  </a:lnTo>
                  <a:lnTo>
                    <a:pt x="178" y="328"/>
                  </a:lnTo>
                  <a:lnTo>
                    <a:pt x="162" y="345"/>
                  </a:lnTo>
                  <a:lnTo>
                    <a:pt x="141" y="361"/>
                  </a:lnTo>
                  <a:lnTo>
                    <a:pt x="121" y="367"/>
                  </a:lnTo>
                  <a:lnTo>
                    <a:pt x="99" y="370"/>
                  </a:lnTo>
                  <a:lnTo>
                    <a:pt x="76" y="367"/>
                  </a:lnTo>
                  <a:lnTo>
                    <a:pt x="54" y="362"/>
                  </a:lnTo>
                  <a:lnTo>
                    <a:pt x="34" y="350"/>
                  </a:lnTo>
                  <a:lnTo>
                    <a:pt x="19" y="334"/>
                  </a:lnTo>
                  <a:lnTo>
                    <a:pt x="8" y="315"/>
                  </a:lnTo>
                  <a:lnTo>
                    <a:pt x="3" y="296"/>
                  </a:lnTo>
                  <a:lnTo>
                    <a:pt x="0" y="272"/>
                  </a:lnTo>
                  <a:lnTo>
                    <a:pt x="5" y="240"/>
                  </a:lnTo>
                  <a:lnTo>
                    <a:pt x="13" y="218"/>
                  </a:lnTo>
                  <a:lnTo>
                    <a:pt x="30" y="190"/>
                  </a:lnTo>
                  <a:lnTo>
                    <a:pt x="49" y="166"/>
                  </a:lnTo>
                  <a:lnTo>
                    <a:pt x="62" y="140"/>
                  </a:lnTo>
                  <a:lnTo>
                    <a:pt x="72" y="119"/>
                  </a:lnTo>
                  <a:lnTo>
                    <a:pt x="81" y="90"/>
                  </a:lnTo>
                  <a:lnTo>
                    <a:pt x="86" y="58"/>
                  </a:lnTo>
                  <a:lnTo>
                    <a:pt x="95" y="0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4" name=""/>
            <p:cNvSpPr/>
            <p:nvPr/>
          </p:nvSpPr>
          <p:spPr>
            <a:xfrm>
              <a:off x="6399720" y="440280"/>
              <a:ext cx="414720" cy="7236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5" name=""/>
            <p:cNvSpPr/>
            <p:nvPr/>
          </p:nvSpPr>
          <p:spPr>
            <a:xfrm>
              <a:off x="6587280" y="1046880"/>
              <a:ext cx="39600" cy="76680"/>
            </a:xfrm>
            <a:custGeom>
              <a:avLst/>
              <a:gdLst/>
              <a:ahLst/>
              <a:rect l="l" t="t" r="r" b="b"/>
              <a:pathLst>
                <a:path w="196" h="372">
                  <a:moveTo>
                    <a:pt x="95" y="0"/>
                  </a:moveTo>
                  <a:lnTo>
                    <a:pt x="105" y="60"/>
                  </a:lnTo>
                  <a:lnTo>
                    <a:pt x="111" y="88"/>
                  </a:lnTo>
                  <a:lnTo>
                    <a:pt x="121" y="122"/>
                  </a:lnTo>
                  <a:lnTo>
                    <a:pt x="132" y="143"/>
                  </a:lnTo>
                  <a:lnTo>
                    <a:pt x="147" y="168"/>
                  </a:lnTo>
                  <a:lnTo>
                    <a:pt x="167" y="195"/>
                  </a:lnTo>
                  <a:lnTo>
                    <a:pt x="184" y="221"/>
                  </a:lnTo>
                  <a:lnTo>
                    <a:pt x="192" y="247"/>
                  </a:lnTo>
                  <a:lnTo>
                    <a:pt x="196" y="279"/>
                  </a:lnTo>
                  <a:lnTo>
                    <a:pt x="189" y="308"/>
                  </a:lnTo>
                  <a:lnTo>
                    <a:pt x="178" y="328"/>
                  </a:lnTo>
                  <a:lnTo>
                    <a:pt x="162" y="345"/>
                  </a:lnTo>
                  <a:lnTo>
                    <a:pt x="141" y="361"/>
                  </a:lnTo>
                  <a:lnTo>
                    <a:pt x="121" y="369"/>
                  </a:lnTo>
                  <a:lnTo>
                    <a:pt x="99" y="372"/>
                  </a:lnTo>
                  <a:lnTo>
                    <a:pt x="76" y="369"/>
                  </a:lnTo>
                  <a:lnTo>
                    <a:pt x="54" y="363"/>
                  </a:lnTo>
                  <a:lnTo>
                    <a:pt x="34" y="351"/>
                  </a:lnTo>
                  <a:lnTo>
                    <a:pt x="19" y="336"/>
                  </a:lnTo>
                  <a:lnTo>
                    <a:pt x="8" y="317"/>
                  </a:lnTo>
                  <a:lnTo>
                    <a:pt x="3" y="298"/>
                  </a:lnTo>
                  <a:lnTo>
                    <a:pt x="0" y="272"/>
                  </a:lnTo>
                  <a:lnTo>
                    <a:pt x="5" y="242"/>
                  </a:lnTo>
                  <a:lnTo>
                    <a:pt x="13" y="219"/>
                  </a:lnTo>
                  <a:lnTo>
                    <a:pt x="30" y="191"/>
                  </a:lnTo>
                  <a:lnTo>
                    <a:pt x="49" y="168"/>
                  </a:lnTo>
                  <a:lnTo>
                    <a:pt x="62" y="141"/>
                  </a:lnTo>
                  <a:lnTo>
                    <a:pt x="72" y="120"/>
                  </a:lnTo>
                  <a:lnTo>
                    <a:pt x="81" y="90"/>
                  </a:lnTo>
                  <a:lnTo>
                    <a:pt x="86" y="60"/>
                  </a:lnTo>
                  <a:lnTo>
                    <a:pt x="95" y="0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6" name=""/>
            <p:cNvSpPr/>
            <p:nvPr/>
          </p:nvSpPr>
          <p:spPr>
            <a:xfrm>
              <a:off x="6477840" y="560160"/>
              <a:ext cx="258480" cy="46440"/>
            </a:xfrm>
            <a:prstGeom prst="ellipse">
              <a:avLst/>
            </a:pr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7" name=""/>
            <p:cNvSpPr/>
            <p:nvPr/>
          </p:nvSpPr>
          <p:spPr>
            <a:xfrm>
              <a:off x="6589800" y="917280"/>
              <a:ext cx="34200" cy="35640"/>
            </a:xfrm>
            <a:prstGeom prst="ellipse">
              <a:avLst/>
            </a:prstGeom>
            <a:solidFill>
              <a:srgbClr val="009999"/>
            </a:solidFill>
            <a:ln w="1764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38" name=""/>
          <p:cNvSpPr/>
          <p:nvPr/>
        </p:nvSpPr>
        <p:spPr>
          <a:xfrm>
            <a:off x="6210360" y="-138240"/>
            <a:ext cx="101592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retence vod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39" name="" descr=""/>
          <p:cNvPicPr/>
          <p:nvPr/>
        </p:nvPicPr>
        <p:blipFill>
          <a:blip r:embed="rId6"/>
          <a:stretch/>
        </p:blipFill>
        <p:spPr>
          <a:xfrm>
            <a:off x="8050320" y="560520"/>
            <a:ext cx="674640" cy="531720"/>
          </a:xfrm>
          <a:prstGeom prst="rect">
            <a:avLst/>
          </a:prstGeom>
          <a:ln w="0">
            <a:noFill/>
          </a:ln>
        </p:spPr>
      </p:pic>
      <p:grpSp>
        <p:nvGrpSpPr>
          <p:cNvPr id="8540" name=""/>
          <p:cNvGrpSpPr/>
          <p:nvPr/>
        </p:nvGrpSpPr>
        <p:grpSpPr>
          <a:xfrm>
            <a:off x="8575560" y="1082520"/>
            <a:ext cx="61920" cy="238320"/>
            <a:chOff x="8575560" y="1082520"/>
            <a:chExt cx="61920" cy="238320"/>
          </a:xfrm>
        </p:grpSpPr>
        <p:sp>
          <p:nvSpPr>
            <p:cNvPr id="8541" name=""/>
            <p:cNvSpPr/>
            <p:nvPr/>
          </p:nvSpPr>
          <p:spPr>
            <a:xfrm>
              <a:off x="8575560" y="1082520"/>
              <a:ext cx="61920" cy="115920"/>
            </a:xfrm>
            <a:custGeom>
              <a:avLst/>
              <a:gdLst/>
              <a:ahLst/>
              <a:rect l="l" t="t" r="r" b="b"/>
              <a:pathLst>
                <a:path w="196" h="371">
                  <a:moveTo>
                    <a:pt x="95" y="0"/>
                  </a:moveTo>
                  <a:lnTo>
                    <a:pt x="105" y="58"/>
                  </a:lnTo>
                  <a:lnTo>
                    <a:pt x="111" y="88"/>
                  </a:lnTo>
                  <a:lnTo>
                    <a:pt x="121" y="122"/>
                  </a:lnTo>
                  <a:lnTo>
                    <a:pt x="132" y="142"/>
                  </a:lnTo>
                  <a:lnTo>
                    <a:pt x="147" y="166"/>
                  </a:lnTo>
                  <a:lnTo>
                    <a:pt x="167" y="194"/>
                  </a:lnTo>
                  <a:lnTo>
                    <a:pt x="184" y="220"/>
                  </a:lnTo>
                  <a:lnTo>
                    <a:pt x="192" y="246"/>
                  </a:lnTo>
                  <a:lnTo>
                    <a:pt x="196" y="279"/>
                  </a:lnTo>
                  <a:lnTo>
                    <a:pt x="189" y="307"/>
                  </a:lnTo>
                  <a:lnTo>
                    <a:pt x="178" y="328"/>
                  </a:lnTo>
                  <a:lnTo>
                    <a:pt x="162" y="345"/>
                  </a:lnTo>
                  <a:lnTo>
                    <a:pt x="141" y="361"/>
                  </a:lnTo>
                  <a:lnTo>
                    <a:pt x="121" y="368"/>
                  </a:lnTo>
                  <a:lnTo>
                    <a:pt x="99" y="371"/>
                  </a:lnTo>
                  <a:lnTo>
                    <a:pt x="76" y="368"/>
                  </a:lnTo>
                  <a:lnTo>
                    <a:pt x="54" y="362"/>
                  </a:lnTo>
                  <a:lnTo>
                    <a:pt x="34" y="351"/>
                  </a:lnTo>
                  <a:lnTo>
                    <a:pt x="19" y="335"/>
                  </a:lnTo>
                  <a:lnTo>
                    <a:pt x="8" y="316"/>
                  </a:lnTo>
                  <a:lnTo>
                    <a:pt x="3" y="297"/>
                  </a:lnTo>
                  <a:lnTo>
                    <a:pt x="0" y="272"/>
                  </a:lnTo>
                  <a:lnTo>
                    <a:pt x="5" y="240"/>
                  </a:lnTo>
                  <a:lnTo>
                    <a:pt x="13" y="218"/>
                  </a:lnTo>
                  <a:lnTo>
                    <a:pt x="30" y="191"/>
                  </a:lnTo>
                  <a:lnTo>
                    <a:pt x="49" y="166"/>
                  </a:lnTo>
                  <a:lnTo>
                    <a:pt x="62" y="141"/>
                  </a:lnTo>
                  <a:lnTo>
                    <a:pt x="72" y="120"/>
                  </a:lnTo>
                  <a:lnTo>
                    <a:pt x="81" y="90"/>
                  </a:lnTo>
                  <a:lnTo>
                    <a:pt x="86" y="58"/>
                  </a:lnTo>
                  <a:lnTo>
                    <a:pt x="95" y="0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2" name=""/>
            <p:cNvSpPr/>
            <p:nvPr/>
          </p:nvSpPr>
          <p:spPr>
            <a:xfrm>
              <a:off x="8575560" y="1204920"/>
              <a:ext cx="61920" cy="115920"/>
            </a:xfrm>
            <a:custGeom>
              <a:avLst/>
              <a:gdLst/>
              <a:ahLst/>
              <a:rect l="l" t="t" r="r" b="b"/>
              <a:pathLst>
                <a:path w="196" h="372">
                  <a:moveTo>
                    <a:pt x="95" y="0"/>
                  </a:moveTo>
                  <a:lnTo>
                    <a:pt x="105" y="59"/>
                  </a:lnTo>
                  <a:lnTo>
                    <a:pt x="111" y="88"/>
                  </a:lnTo>
                  <a:lnTo>
                    <a:pt x="121" y="122"/>
                  </a:lnTo>
                  <a:lnTo>
                    <a:pt x="132" y="143"/>
                  </a:lnTo>
                  <a:lnTo>
                    <a:pt x="147" y="167"/>
                  </a:lnTo>
                  <a:lnTo>
                    <a:pt x="167" y="195"/>
                  </a:lnTo>
                  <a:lnTo>
                    <a:pt x="184" y="220"/>
                  </a:lnTo>
                  <a:lnTo>
                    <a:pt x="192" y="247"/>
                  </a:lnTo>
                  <a:lnTo>
                    <a:pt x="196" y="279"/>
                  </a:lnTo>
                  <a:lnTo>
                    <a:pt x="189" y="308"/>
                  </a:lnTo>
                  <a:lnTo>
                    <a:pt x="178" y="328"/>
                  </a:lnTo>
                  <a:lnTo>
                    <a:pt x="162" y="345"/>
                  </a:lnTo>
                  <a:lnTo>
                    <a:pt x="141" y="361"/>
                  </a:lnTo>
                  <a:lnTo>
                    <a:pt x="121" y="369"/>
                  </a:lnTo>
                  <a:lnTo>
                    <a:pt x="99" y="372"/>
                  </a:lnTo>
                  <a:lnTo>
                    <a:pt x="76" y="369"/>
                  </a:lnTo>
                  <a:lnTo>
                    <a:pt x="54" y="363"/>
                  </a:lnTo>
                  <a:lnTo>
                    <a:pt x="34" y="351"/>
                  </a:lnTo>
                  <a:lnTo>
                    <a:pt x="19" y="336"/>
                  </a:lnTo>
                  <a:lnTo>
                    <a:pt x="8" y="317"/>
                  </a:lnTo>
                  <a:lnTo>
                    <a:pt x="3" y="298"/>
                  </a:lnTo>
                  <a:lnTo>
                    <a:pt x="0" y="272"/>
                  </a:lnTo>
                  <a:lnTo>
                    <a:pt x="5" y="242"/>
                  </a:lnTo>
                  <a:lnTo>
                    <a:pt x="13" y="219"/>
                  </a:lnTo>
                  <a:lnTo>
                    <a:pt x="30" y="191"/>
                  </a:lnTo>
                  <a:lnTo>
                    <a:pt x="49" y="167"/>
                  </a:lnTo>
                  <a:lnTo>
                    <a:pt x="62" y="141"/>
                  </a:lnTo>
                  <a:lnTo>
                    <a:pt x="72" y="120"/>
                  </a:lnTo>
                  <a:lnTo>
                    <a:pt x="81" y="90"/>
                  </a:lnTo>
                  <a:lnTo>
                    <a:pt x="86" y="59"/>
                  </a:lnTo>
                  <a:lnTo>
                    <a:pt x="95" y="0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43" name=""/>
          <p:cNvSpPr/>
          <p:nvPr/>
        </p:nvSpPr>
        <p:spPr>
          <a:xfrm>
            <a:off x="7637400" y="-15840"/>
            <a:ext cx="101592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ztráty vod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4" name=""/>
          <p:cNvSpPr/>
          <p:nvPr/>
        </p:nvSpPr>
        <p:spPr>
          <a:xfrm>
            <a:off x="6380280" y="4979880"/>
            <a:ext cx="2106360" cy="66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osmolari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5" name=""/>
          <p:cNvSpPr/>
          <p:nvPr/>
        </p:nvSpPr>
        <p:spPr>
          <a:xfrm>
            <a:off x="-658800" y="0"/>
            <a:ext cx="4146480" cy="9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Euvolem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6" name=""/>
          <p:cNvSpPr/>
          <p:nvPr/>
        </p:nvSpPr>
        <p:spPr>
          <a:xfrm>
            <a:off x="550800" y="782640"/>
            <a:ext cx="7088400" cy="14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Hypoosmolár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Isoosmolární - fyziologický sta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Hyperosmolár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7" name=""/>
          <p:cNvSpPr/>
          <p:nvPr/>
        </p:nvSpPr>
        <p:spPr>
          <a:xfrm>
            <a:off x="6229440" y="2324160"/>
            <a:ext cx="2778120" cy="43290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8" name=""/>
          <p:cNvSpPr/>
          <p:nvPr/>
        </p:nvSpPr>
        <p:spPr>
          <a:xfrm>
            <a:off x="3973680" y="2976480"/>
            <a:ext cx="637920" cy="6825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9" name=""/>
          <p:cNvSpPr/>
          <p:nvPr/>
        </p:nvSpPr>
        <p:spPr>
          <a:xfrm>
            <a:off x="345960" y="2901960"/>
            <a:ext cx="638280" cy="682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0" name=""/>
          <p:cNvSpPr/>
          <p:nvPr/>
        </p:nvSpPr>
        <p:spPr>
          <a:xfrm>
            <a:off x="7710480" y="2982960"/>
            <a:ext cx="638280" cy="6825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1" name=""/>
          <p:cNvSpPr/>
          <p:nvPr/>
        </p:nvSpPr>
        <p:spPr>
          <a:xfrm flipH="1" flipV="1">
            <a:off x="1017720" y="3286080"/>
            <a:ext cx="2938320" cy="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2" name=""/>
          <p:cNvSpPr/>
          <p:nvPr/>
        </p:nvSpPr>
        <p:spPr>
          <a:xfrm flipH="1">
            <a:off x="4613400" y="3276720"/>
            <a:ext cx="3046320" cy="7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3" name=""/>
          <p:cNvSpPr/>
          <p:nvPr/>
        </p:nvSpPr>
        <p:spPr>
          <a:xfrm>
            <a:off x="3884760" y="635040"/>
            <a:ext cx="917280" cy="10429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4" name=""/>
          <p:cNvSpPr/>
          <p:nvPr/>
        </p:nvSpPr>
        <p:spPr>
          <a:xfrm>
            <a:off x="1227240" y="625320"/>
            <a:ext cx="949320" cy="10526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5" name=""/>
          <p:cNvSpPr/>
          <p:nvPr/>
        </p:nvSpPr>
        <p:spPr>
          <a:xfrm>
            <a:off x="6405480" y="635040"/>
            <a:ext cx="917640" cy="104292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6" name=""/>
          <p:cNvSpPr/>
          <p:nvPr/>
        </p:nvSpPr>
        <p:spPr>
          <a:xfrm>
            <a:off x="4302000" y="1677960"/>
            <a:ext cx="1800" cy="12938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7" name=""/>
          <p:cNvSpPr/>
          <p:nvPr/>
        </p:nvSpPr>
        <p:spPr>
          <a:xfrm>
            <a:off x="4533840" y="1076400"/>
            <a:ext cx="1878120" cy="1877760"/>
          </a:xfrm>
          <a:custGeom>
            <a:avLst/>
            <a:gdLst/>
            <a:ahLst/>
            <a:rect l="l" t="t" r="r" b="b"/>
            <a:pathLst>
              <a:path w="1183" h="1183">
                <a:moveTo>
                  <a:pt x="1183" y="0"/>
                </a:moveTo>
                <a:lnTo>
                  <a:pt x="0" y="1183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8" name=""/>
          <p:cNvSpPr/>
          <p:nvPr/>
        </p:nvSpPr>
        <p:spPr>
          <a:xfrm>
            <a:off x="2235240" y="1346040"/>
            <a:ext cx="1820880" cy="1600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9" name=""/>
          <p:cNvSpPr/>
          <p:nvPr/>
        </p:nvSpPr>
        <p:spPr>
          <a:xfrm>
            <a:off x="4137120" y="5897520"/>
            <a:ext cx="425520" cy="33804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0" name=""/>
          <p:cNvSpPr/>
          <p:nvPr/>
        </p:nvSpPr>
        <p:spPr>
          <a:xfrm flipH="1">
            <a:off x="4319280" y="3689280"/>
            <a:ext cx="6120" cy="2175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1" name=""/>
          <p:cNvSpPr/>
          <p:nvPr/>
        </p:nvSpPr>
        <p:spPr>
          <a:xfrm>
            <a:off x="6624720" y="5135400"/>
            <a:ext cx="425520" cy="3384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2" name=""/>
          <p:cNvSpPr/>
          <p:nvPr/>
        </p:nvSpPr>
        <p:spPr>
          <a:xfrm>
            <a:off x="1459080" y="5259240"/>
            <a:ext cx="425160" cy="3384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3" name=""/>
          <p:cNvSpPr/>
          <p:nvPr/>
        </p:nvSpPr>
        <p:spPr>
          <a:xfrm flipH="1" flipV="1">
            <a:off x="4500720" y="3670200"/>
            <a:ext cx="2093760" cy="1611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4" name=""/>
          <p:cNvSpPr/>
          <p:nvPr/>
        </p:nvSpPr>
        <p:spPr>
          <a:xfrm flipV="1">
            <a:off x="1757520" y="3695400"/>
            <a:ext cx="2355840" cy="1546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5" name=""/>
          <p:cNvSpPr/>
          <p:nvPr/>
        </p:nvSpPr>
        <p:spPr>
          <a:xfrm>
            <a:off x="6118200" y="5543640"/>
            <a:ext cx="20797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Hypoosmolárn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dehydrat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6" name=""/>
          <p:cNvSpPr/>
          <p:nvPr/>
        </p:nvSpPr>
        <p:spPr>
          <a:xfrm>
            <a:off x="6481800" y="3695760"/>
            <a:ext cx="208116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Euvolemick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hypoosmolari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7" name=""/>
          <p:cNvSpPr/>
          <p:nvPr/>
        </p:nvSpPr>
        <p:spPr>
          <a:xfrm>
            <a:off x="5780160" y="0"/>
            <a:ext cx="21556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Hypoosmolární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hyperhydrat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8" name=""/>
          <p:cNvSpPr/>
          <p:nvPr/>
        </p:nvSpPr>
        <p:spPr>
          <a:xfrm>
            <a:off x="245880" y="5635800"/>
            <a:ext cx="22410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Hyperosmolární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dehydrat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9" name=""/>
          <p:cNvSpPr/>
          <p:nvPr/>
        </p:nvSpPr>
        <p:spPr>
          <a:xfrm>
            <a:off x="531360" y="0"/>
            <a:ext cx="22410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Hyperosmolární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hyperhydrat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0" name=""/>
          <p:cNvSpPr/>
          <p:nvPr/>
        </p:nvSpPr>
        <p:spPr>
          <a:xfrm>
            <a:off x="3386520" y="0"/>
            <a:ext cx="20628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Isoosmolární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hyperhydrat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1" name=""/>
          <p:cNvSpPr/>
          <p:nvPr/>
        </p:nvSpPr>
        <p:spPr>
          <a:xfrm>
            <a:off x="3513960" y="6254640"/>
            <a:ext cx="17762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Isoosmolárn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dehydrat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72" name=""/>
          <p:cNvGrpSpPr/>
          <p:nvPr/>
        </p:nvGrpSpPr>
        <p:grpSpPr>
          <a:xfrm>
            <a:off x="4905360" y="1406520"/>
            <a:ext cx="527040" cy="645840"/>
            <a:chOff x="4905360" y="1406520"/>
            <a:chExt cx="527040" cy="645840"/>
          </a:xfrm>
        </p:grpSpPr>
        <p:sp>
          <p:nvSpPr>
            <p:cNvPr id="8573" name=""/>
            <p:cNvSpPr/>
            <p:nvPr/>
          </p:nvSpPr>
          <p:spPr>
            <a:xfrm>
              <a:off x="4910040" y="1455480"/>
              <a:ext cx="517320" cy="443160"/>
            </a:xfrm>
            <a:custGeom>
              <a:avLst/>
              <a:gdLst/>
              <a:ahLst/>
              <a:rect l="l" t="t" r="r" b="b"/>
              <a:pathLst>
                <a:path w="2256" h="2295">
                  <a:moveTo>
                    <a:pt x="0" y="0"/>
                  </a:moveTo>
                  <a:lnTo>
                    <a:pt x="939" y="1180"/>
                  </a:lnTo>
                  <a:lnTo>
                    <a:pt x="980" y="2175"/>
                  </a:lnTo>
                  <a:lnTo>
                    <a:pt x="983" y="2202"/>
                  </a:lnTo>
                  <a:lnTo>
                    <a:pt x="991" y="2221"/>
                  </a:lnTo>
                  <a:lnTo>
                    <a:pt x="1000" y="2235"/>
                  </a:lnTo>
                  <a:lnTo>
                    <a:pt x="1010" y="2246"/>
                  </a:lnTo>
                  <a:lnTo>
                    <a:pt x="1024" y="2260"/>
                  </a:lnTo>
                  <a:lnTo>
                    <a:pt x="1038" y="2268"/>
                  </a:lnTo>
                  <a:lnTo>
                    <a:pt x="1060" y="2281"/>
                  </a:lnTo>
                  <a:lnTo>
                    <a:pt x="1083" y="2287"/>
                  </a:lnTo>
                  <a:lnTo>
                    <a:pt x="1111" y="2293"/>
                  </a:lnTo>
                  <a:lnTo>
                    <a:pt x="1128" y="2295"/>
                  </a:lnTo>
                  <a:lnTo>
                    <a:pt x="1145" y="2295"/>
                  </a:lnTo>
                  <a:lnTo>
                    <a:pt x="1163" y="2292"/>
                  </a:lnTo>
                  <a:lnTo>
                    <a:pt x="1183" y="2286"/>
                  </a:lnTo>
                  <a:lnTo>
                    <a:pt x="1202" y="2279"/>
                  </a:lnTo>
                  <a:lnTo>
                    <a:pt x="1221" y="2268"/>
                  </a:lnTo>
                  <a:lnTo>
                    <a:pt x="1235" y="2259"/>
                  </a:lnTo>
                  <a:lnTo>
                    <a:pt x="1251" y="2243"/>
                  </a:lnTo>
                  <a:lnTo>
                    <a:pt x="1262" y="2227"/>
                  </a:lnTo>
                  <a:lnTo>
                    <a:pt x="1273" y="2203"/>
                  </a:lnTo>
                  <a:lnTo>
                    <a:pt x="1276" y="2181"/>
                  </a:lnTo>
                  <a:lnTo>
                    <a:pt x="1336" y="1161"/>
                  </a:lnTo>
                  <a:lnTo>
                    <a:pt x="225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4" name=""/>
            <p:cNvSpPr/>
            <p:nvPr/>
          </p:nvSpPr>
          <p:spPr>
            <a:xfrm>
              <a:off x="4905360" y="1406520"/>
              <a:ext cx="527040" cy="83880"/>
            </a:xfrm>
            <a:prstGeom prst="ellipse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5" name=""/>
            <p:cNvSpPr/>
            <p:nvPr/>
          </p:nvSpPr>
          <p:spPr>
            <a:xfrm>
              <a:off x="4946400" y="1468440"/>
              <a:ext cx="448560" cy="417240"/>
            </a:xfrm>
            <a:custGeom>
              <a:avLst/>
              <a:gdLst/>
              <a:ahLst/>
              <a:rect l="l" t="t" r="r" b="b"/>
              <a:pathLst>
                <a:path w="1956" h="2159">
                  <a:moveTo>
                    <a:pt x="0" y="19"/>
                  </a:moveTo>
                  <a:lnTo>
                    <a:pt x="857" y="1063"/>
                  </a:lnTo>
                  <a:lnTo>
                    <a:pt x="879" y="2090"/>
                  </a:lnTo>
                  <a:lnTo>
                    <a:pt x="887" y="2107"/>
                  </a:lnTo>
                  <a:lnTo>
                    <a:pt x="897" y="2123"/>
                  </a:lnTo>
                  <a:lnTo>
                    <a:pt x="906" y="2137"/>
                  </a:lnTo>
                  <a:lnTo>
                    <a:pt x="922" y="2147"/>
                  </a:lnTo>
                  <a:lnTo>
                    <a:pt x="939" y="2156"/>
                  </a:lnTo>
                  <a:lnTo>
                    <a:pt x="962" y="2159"/>
                  </a:lnTo>
                  <a:lnTo>
                    <a:pt x="983" y="2157"/>
                  </a:lnTo>
                  <a:lnTo>
                    <a:pt x="1005" y="2153"/>
                  </a:lnTo>
                  <a:lnTo>
                    <a:pt x="1026" y="2140"/>
                  </a:lnTo>
                  <a:lnTo>
                    <a:pt x="1040" y="2123"/>
                  </a:lnTo>
                  <a:lnTo>
                    <a:pt x="1048" y="2109"/>
                  </a:lnTo>
                  <a:lnTo>
                    <a:pt x="1056" y="2088"/>
                  </a:lnTo>
                  <a:lnTo>
                    <a:pt x="1100" y="1045"/>
                  </a:lnTo>
                  <a:lnTo>
                    <a:pt x="1956" y="0"/>
                  </a:lnTo>
                  <a:lnTo>
                    <a:pt x="1790" y="41"/>
                  </a:lnTo>
                  <a:lnTo>
                    <a:pt x="1531" y="77"/>
                  </a:lnTo>
                  <a:lnTo>
                    <a:pt x="1247" y="98"/>
                  </a:lnTo>
                  <a:lnTo>
                    <a:pt x="962" y="109"/>
                  </a:lnTo>
                  <a:lnTo>
                    <a:pt x="662" y="98"/>
                  </a:lnTo>
                  <a:lnTo>
                    <a:pt x="398" y="77"/>
                  </a:lnTo>
                  <a:lnTo>
                    <a:pt x="178" y="52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6" name=""/>
            <p:cNvSpPr/>
            <p:nvPr/>
          </p:nvSpPr>
          <p:spPr>
            <a:xfrm>
              <a:off x="5023800" y="1553040"/>
              <a:ext cx="289440" cy="333720"/>
            </a:xfrm>
            <a:custGeom>
              <a:avLst/>
              <a:gdLst/>
              <a:ahLst/>
              <a:rect l="l" t="t" r="r" b="b"/>
              <a:pathLst>
                <a:path w="1264" h="1728">
                  <a:moveTo>
                    <a:pt x="0" y="0"/>
                  </a:moveTo>
                  <a:lnTo>
                    <a:pt x="520" y="624"/>
                  </a:lnTo>
                  <a:lnTo>
                    <a:pt x="531" y="1657"/>
                  </a:lnTo>
                  <a:lnTo>
                    <a:pt x="541" y="1674"/>
                  </a:lnTo>
                  <a:lnTo>
                    <a:pt x="553" y="1688"/>
                  </a:lnTo>
                  <a:lnTo>
                    <a:pt x="564" y="1701"/>
                  </a:lnTo>
                  <a:lnTo>
                    <a:pt x="580" y="1715"/>
                  </a:lnTo>
                  <a:lnTo>
                    <a:pt x="608" y="1723"/>
                  </a:lnTo>
                  <a:lnTo>
                    <a:pt x="632" y="1728"/>
                  </a:lnTo>
                  <a:lnTo>
                    <a:pt x="651" y="1725"/>
                  </a:lnTo>
                  <a:lnTo>
                    <a:pt x="673" y="1720"/>
                  </a:lnTo>
                  <a:lnTo>
                    <a:pt x="694" y="1709"/>
                  </a:lnTo>
                  <a:lnTo>
                    <a:pt x="711" y="1692"/>
                  </a:lnTo>
                  <a:lnTo>
                    <a:pt x="723" y="1669"/>
                  </a:lnTo>
                  <a:lnTo>
                    <a:pt x="730" y="1657"/>
                  </a:lnTo>
                  <a:lnTo>
                    <a:pt x="761" y="605"/>
                  </a:lnTo>
                  <a:lnTo>
                    <a:pt x="126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7" name=""/>
            <p:cNvSpPr/>
            <p:nvPr/>
          </p:nvSpPr>
          <p:spPr>
            <a:xfrm>
              <a:off x="5146200" y="1905120"/>
              <a:ext cx="45360" cy="71640"/>
            </a:xfrm>
            <a:custGeom>
              <a:avLst/>
              <a:gdLst/>
              <a:ahLst/>
              <a:rect l="l" t="t" r="r" b="b"/>
              <a:pathLst>
                <a:path w="196" h="370">
                  <a:moveTo>
                    <a:pt x="95" y="0"/>
                  </a:moveTo>
                  <a:lnTo>
                    <a:pt x="105" y="58"/>
                  </a:lnTo>
                  <a:lnTo>
                    <a:pt x="111" y="87"/>
                  </a:lnTo>
                  <a:lnTo>
                    <a:pt x="121" y="121"/>
                  </a:lnTo>
                  <a:lnTo>
                    <a:pt x="132" y="141"/>
                  </a:lnTo>
                  <a:lnTo>
                    <a:pt x="147" y="166"/>
                  </a:lnTo>
                  <a:lnTo>
                    <a:pt x="167" y="193"/>
                  </a:lnTo>
                  <a:lnTo>
                    <a:pt x="184" y="220"/>
                  </a:lnTo>
                  <a:lnTo>
                    <a:pt x="192" y="245"/>
                  </a:lnTo>
                  <a:lnTo>
                    <a:pt x="196" y="278"/>
                  </a:lnTo>
                  <a:lnTo>
                    <a:pt x="189" y="307"/>
                  </a:lnTo>
                  <a:lnTo>
                    <a:pt x="178" y="328"/>
                  </a:lnTo>
                  <a:lnTo>
                    <a:pt x="162" y="345"/>
                  </a:lnTo>
                  <a:lnTo>
                    <a:pt x="141" y="361"/>
                  </a:lnTo>
                  <a:lnTo>
                    <a:pt x="121" y="367"/>
                  </a:lnTo>
                  <a:lnTo>
                    <a:pt x="99" y="370"/>
                  </a:lnTo>
                  <a:lnTo>
                    <a:pt x="76" y="367"/>
                  </a:lnTo>
                  <a:lnTo>
                    <a:pt x="54" y="362"/>
                  </a:lnTo>
                  <a:lnTo>
                    <a:pt x="34" y="350"/>
                  </a:lnTo>
                  <a:lnTo>
                    <a:pt x="19" y="334"/>
                  </a:lnTo>
                  <a:lnTo>
                    <a:pt x="8" y="315"/>
                  </a:lnTo>
                  <a:lnTo>
                    <a:pt x="3" y="296"/>
                  </a:lnTo>
                  <a:lnTo>
                    <a:pt x="0" y="272"/>
                  </a:lnTo>
                  <a:lnTo>
                    <a:pt x="5" y="240"/>
                  </a:lnTo>
                  <a:lnTo>
                    <a:pt x="13" y="218"/>
                  </a:lnTo>
                  <a:lnTo>
                    <a:pt x="30" y="190"/>
                  </a:lnTo>
                  <a:lnTo>
                    <a:pt x="49" y="166"/>
                  </a:lnTo>
                  <a:lnTo>
                    <a:pt x="62" y="140"/>
                  </a:lnTo>
                  <a:lnTo>
                    <a:pt x="72" y="119"/>
                  </a:lnTo>
                  <a:lnTo>
                    <a:pt x="81" y="90"/>
                  </a:lnTo>
                  <a:lnTo>
                    <a:pt x="86" y="58"/>
                  </a:lnTo>
                  <a:lnTo>
                    <a:pt x="95" y="0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8" name=""/>
            <p:cNvSpPr/>
            <p:nvPr/>
          </p:nvSpPr>
          <p:spPr>
            <a:xfrm>
              <a:off x="4931280" y="1414440"/>
              <a:ext cx="474840" cy="6768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9" name=""/>
            <p:cNvSpPr/>
            <p:nvPr/>
          </p:nvSpPr>
          <p:spPr>
            <a:xfrm>
              <a:off x="5146200" y="1980720"/>
              <a:ext cx="45360" cy="71640"/>
            </a:xfrm>
            <a:custGeom>
              <a:avLst/>
              <a:gdLst/>
              <a:ahLst/>
              <a:rect l="l" t="t" r="r" b="b"/>
              <a:pathLst>
                <a:path w="196" h="372">
                  <a:moveTo>
                    <a:pt x="95" y="0"/>
                  </a:moveTo>
                  <a:lnTo>
                    <a:pt x="105" y="60"/>
                  </a:lnTo>
                  <a:lnTo>
                    <a:pt x="111" y="88"/>
                  </a:lnTo>
                  <a:lnTo>
                    <a:pt x="121" y="122"/>
                  </a:lnTo>
                  <a:lnTo>
                    <a:pt x="132" y="143"/>
                  </a:lnTo>
                  <a:lnTo>
                    <a:pt x="147" y="168"/>
                  </a:lnTo>
                  <a:lnTo>
                    <a:pt x="167" y="195"/>
                  </a:lnTo>
                  <a:lnTo>
                    <a:pt x="184" y="221"/>
                  </a:lnTo>
                  <a:lnTo>
                    <a:pt x="192" y="247"/>
                  </a:lnTo>
                  <a:lnTo>
                    <a:pt x="196" y="279"/>
                  </a:lnTo>
                  <a:lnTo>
                    <a:pt x="189" y="308"/>
                  </a:lnTo>
                  <a:lnTo>
                    <a:pt x="178" y="328"/>
                  </a:lnTo>
                  <a:lnTo>
                    <a:pt x="162" y="345"/>
                  </a:lnTo>
                  <a:lnTo>
                    <a:pt x="141" y="361"/>
                  </a:lnTo>
                  <a:lnTo>
                    <a:pt x="121" y="369"/>
                  </a:lnTo>
                  <a:lnTo>
                    <a:pt x="99" y="372"/>
                  </a:lnTo>
                  <a:lnTo>
                    <a:pt x="76" y="369"/>
                  </a:lnTo>
                  <a:lnTo>
                    <a:pt x="54" y="363"/>
                  </a:lnTo>
                  <a:lnTo>
                    <a:pt x="34" y="351"/>
                  </a:lnTo>
                  <a:lnTo>
                    <a:pt x="19" y="336"/>
                  </a:lnTo>
                  <a:lnTo>
                    <a:pt x="8" y="317"/>
                  </a:lnTo>
                  <a:lnTo>
                    <a:pt x="3" y="298"/>
                  </a:lnTo>
                  <a:lnTo>
                    <a:pt x="0" y="272"/>
                  </a:lnTo>
                  <a:lnTo>
                    <a:pt x="5" y="242"/>
                  </a:lnTo>
                  <a:lnTo>
                    <a:pt x="13" y="219"/>
                  </a:lnTo>
                  <a:lnTo>
                    <a:pt x="30" y="191"/>
                  </a:lnTo>
                  <a:lnTo>
                    <a:pt x="49" y="168"/>
                  </a:lnTo>
                  <a:lnTo>
                    <a:pt x="62" y="141"/>
                  </a:lnTo>
                  <a:lnTo>
                    <a:pt x="72" y="120"/>
                  </a:lnTo>
                  <a:lnTo>
                    <a:pt x="81" y="90"/>
                  </a:lnTo>
                  <a:lnTo>
                    <a:pt x="86" y="60"/>
                  </a:lnTo>
                  <a:lnTo>
                    <a:pt x="95" y="0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0" name=""/>
            <p:cNvSpPr/>
            <p:nvPr/>
          </p:nvSpPr>
          <p:spPr>
            <a:xfrm>
              <a:off x="5020920" y="1526400"/>
              <a:ext cx="295920" cy="43200"/>
            </a:xfrm>
            <a:prstGeom prst="ellipse">
              <a:avLst/>
            </a:pr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1" name=""/>
            <p:cNvSpPr/>
            <p:nvPr/>
          </p:nvSpPr>
          <p:spPr>
            <a:xfrm>
              <a:off x="5148720" y="1859760"/>
              <a:ext cx="39240" cy="33480"/>
            </a:xfrm>
            <a:prstGeom prst="ellipse">
              <a:avLst/>
            </a:prstGeom>
            <a:solidFill>
              <a:srgbClr val="009999"/>
            </a:solidFill>
            <a:ln w="1764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82" name=""/>
          <p:cNvGrpSpPr/>
          <p:nvPr/>
        </p:nvGrpSpPr>
        <p:grpSpPr>
          <a:xfrm>
            <a:off x="5676840" y="992160"/>
            <a:ext cx="252000" cy="320760"/>
            <a:chOff x="5676840" y="992160"/>
            <a:chExt cx="252000" cy="320760"/>
          </a:xfrm>
        </p:grpSpPr>
        <p:grpSp>
          <p:nvGrpSpPr>
            <p:cNvPr id="8583" name=""/>
            <p:cNvGrpSpPr/>
            <p:nvPr/>
          </p:nvGrpSpPr>
          <p:grpSpPr>
            <a:xfrm>
              <a:off x="5676840" y="1006200"/>
              <a:ext cx="222120" cy="155160"/>
              <a:chOff x="5676840" y="1006200"/>
              <a:chExt cx="222120" cy="155160"/>
            </a:xfrm>
          </p:grpSpPr>
          <p:grpSp>
            <p:nvGrpSpPr>
              <p:cNvPr id="8584" name=""/>
              <p:cNvGrpSpPr/>
              <p:nvPr/>
            </p:nvGrpSpPr>
            <p:grpSpPr>
              <a:xfrm>
                <a:off x="5676840" y="1024200"/>
                <a:ext cx="215280" cy="137160"/>
                <a:chOff x="5676840" y="1024200"/>
                <a:chExt cx="215280" cy="137160"/>
              </a:xfrm>
            </p:grpSpPr>
            <p:grpSp>
              <p:nvGrpSpPr>
                <p:cNvPr id="8585" name=""/>
                <p:cNvGrpSpPr/>
                <p:nvPr/>
              </p:nvGrpSpPr>
              <p:grpSpPr>
                <a:xfrm>
                  <a:off x="5676840" y="1024200"/>
                  <a:ext cx="214560" cy="137160"/>
                  <a:chOff x="5676840" y="1024200"/>
                  <a:chExt cx="214560" cy="137160"/>
                </a:xfrm>
              </p:grpSpPr>
              <p:sp>
                <p:nvSpPr>
                  <p:cNvPr id="8586" name=""/>
                  <p:cNvSpPr/>
                  <p:nvPr/>
                </p:nvSpPr>
                <p:spPr>
                  <a:xfrm rot="1404600">
                    <a:off x="5676120" y="1081440"/>
                    <a:ext cx="208440" cy="39960"/>
                  </a:xfrm>
                  <a:prstGeom prst="ellipse">
                    <a:avLst/>
                  </a:prstGeom>
                  <a:solidFill>
                    <a:srgbClr val="e0e0e0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360" bIns="-18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87" name=""/>
                  <p:cNvSpPr/>
                  <p:nvPr/>
                </p:nvSpPr>
                <p:spPr>
                  <a:xfrm rot="1404600">
                    <a:off x="5683680" y="1063800"/>
                    <a:ext cx="208440" cy="38880"/>
                  </a:xfrm>
                  <a:prstGeom prst="rect">
                    <a:avLst/>
                  </a:pr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588" name=""/>
                <p:cNvSpPr/>
                <p:nvPr/>
              </p:nvSpPr>
              <p:spPr>
                <a:xfrm flipV="1">
                  <a:off x="5683320" y="1024560"/>
                  <a:ext cx="16560" cy="3744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89" name=""/>
                <p:cNvSpPr/>
                <p:nvPr/>
              </p:nvSpPr>
              <p:spPr>
                <a:xfrm flipH="1">
                  <a:off x="5876640" y="1108800"/>
                  <a:ext cx="15480" cy="3672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90" name=""/>
              <p:cNvGrpSpPr/>
              <p:nvPr/>
            </p:nvGrpSpPr>
            <p:grpSpPr>
              <a:xfrm>
                <a:off x="5691960" y="1006200"/>
                <a:ext cx="207000" cy="119160"/>
                <a:chOff x="5691960" y="1006200"/>
                <a:chExt cx="207000" cy="119160"/>
              </a:xfrm>
            </p:grpSpPr>
            <p:sp>
              <p:nvSpPr>
                <p:cNvPr id="8591" name=""/>
                <p:cNvSpPr/>
                <p:nvPr/>
              </p:nvSpPr>
              <p:spPr>
                <a:xfrm rot="1404600">
                  <a:off x="5691240" y="1045800"/>
                  <a:ext cx="208440" cy="39600"/>
                </a:xfrm>
                <a:prstGeom prst="ellipse">
                  <a:avLst/>
                </a:prstGeom>
                <a:solidFill>
                  <a:srgbClr val="e0e0e0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92" name=""/>
                <p:cNvSpPr/>
                <p:nvPr/>
              </p:nvSpPr>
              <p:spPr>
                <a:xfrm rot="1404600">
                  <a:off x="5697000" y="1051560"/>
                  <a:ext cx="195840" cy="30960"/>
                </a:xfrm>
                <a:prstGeom prst="ellipse">
                  <a:avLst/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593" name=""/>
            <p:cNvSpPr/>
            <p:nvPr/>
          </p:nvSpPr>
          <p:spPr>
            <a:xfrm>
              <a:off x="5695560" y="992160"/>
              <a:ext cx="233280" cy="320760"/>
            </a:xfrm>
            <a:custGeom>
              <a:avLst/>
              <a:gdLst/>
              <a:ahLst/>
              <a:rect l="l" t="t" r="r" b="b"/>
              <a:pathLst>
                <a:path w="410" h="554">
                  <a:moveTo>
                    <a:pt x="196" y="30"/>
                  </a:moveTo>
                  <a:cubicBezTo>
                    <a:pt x="95" y="0"/>
                    <a:pt x="0" y="54"/>
                    <a:pt x="4" y="68"/>
                  </a:cubicBezTo>
                  <a:cubicBezTo>
                    <a:pt x="4" y="82"/>
                    <a:pt x="124" y="130"/>
                    <a:pt x="178" y="151"/>
                  </a:cubicBezTo>
                  <a:cubicBezTo>
                    <a:pt x="219" y="170"/>
                    <a:pt x="223" y="170"/>
                    <a:pt x="247" y="177"/>
                  </a:cubicBezTo>
                  <a:cubicBezTo>
                    <a:pt x="272" y="184"/>
                    <a:pt x="310" y="160"/>
                    <a:pt x="327" y="195"/>
                  </a:cubicBezTo>
                  <a:cubicBezTo>
                    <a:pt x="351" y="214"/>
                    <a:pt x="350" y="331"/>
                    <a:pt x="348" y="385"/>
                  </a:cubicBezTo>
                  <a:cubicBezTo>
                    <a:pt x="346" y="439"/>
                    <a:pt x="312" y="494"/>
                    <a:pt x="315" y="517"/>
                  </a:cubicBezTo>
                  <a:cubicBezTo>
                    <a:pt x="318" y="540"/>
                    <a:pt x="353" y="522"/>
                    <a:pt x="367" y="523"/>
                  </a:cubicBezTo>
                  <a:cubicBezTo>
                    <a:pt x="381" y="524"/>
                    <a:pt x="398" y="554"/>
                    <a:pt x="400" y="523"/>
                  </a:cubicBezTo>
                  <a:cubicBezTo>
                    <a:pt x="410" y="504"/>
                    <a:pt x="388" y="393"/>
                    <a:pt x="381" y="339"/>
                  </a:cubicBezTo>
                  <a:cubicBezTo>
                    <a:pt x="374" y="285"/>
                    <a:pt x="378" y="240"/>
                    <a:pt x="358" y="198"/>
                  </a:cubicBezTo>
                  <a:cubicBezTo>
                    <a:pt x="338" y="156"/>
                    <a:pt x="287" y="113"/>
                    <a:pt x="261" y="85"/>
                  </a:cubicBezTo>
                  <a:cubicBezTo>
                    <a:pt x="234" y="57"/>
                    <a:pt x="210" y="42"/>
                    <a:pt x="196" y="30"/>
                  </a:cubicBezTo>
                  <a:close/>
                </a:path>
              </a:pathLst>
            </a:custGeom>
            <a:blipFill rotWithShape="0">
              <a:blip r:embed="rId1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94" name=""/>
          <p:cNvGrpSpPr/>
          <p:nvPr/>
        </p:nvGrpSpPr>
        <p:grpSpPr>
          <a:xfrm>
            <a:off x="3975120" y="1873080"/>
            <a:ext cx="330120" cy="380880"/>
            <a:chOff x="3975120" y="1873080"/>
            <a:chExt cx="330120" cy="380880"/>
          </a:xfrm>
        </p:grpSpPr>
        <p:sp>
          <p:nvSpPr>
            <p:cNvPr id="8595" name=""/>
            <p:cNvSpPr/>
            <p:nvPr/>
          </p:nvSpPr>
          <p:spPr>
            <a:xfrm>
              <a:off x="3978000" y="1901880"/>
              <a:ext cx="324000" cy="261360"/>
            </a:xfrm>
            <a:custGeom>
              <a:avLst/>
              <a:gdLst/>
              <a:ahLst/>
              <a:rect l="l" t="t" r="r" b="b"/>
              <a:pathLst>
                <a:path w="2256" h="2295">
                  <a:moveTo>
                    <a:pt x="0" y="0"/>
                  </a:moveTo>
                  <a:lnTo>
                    <a:pt x="939" y="1180"/>
                  </a:lnTo>
                  <a:lnTo>
                    <a:pt x="980" y="2175"/>
                  </a:lnTo>
                  <a:lnTo>
                    <a:pt x="983" y="2202"/>
                  </a:lnTo>
                  <a:lnTo>
                    <a:pt x="991" y="2221"/>
                  </a:lnTo>
                  <a:lnTo>
                    <a:pt x="1000" y="2235"/>
                  </a:lnTo>
                  <a:lnTo>
                    <a:pt x="1010" y="2246"/>
                  </a:lnTo>
                  <a:lnTo>
                    <a:pt x="1024" y="2260"/>
                  </a:lnTo>
                  <a:lnTo>
                    <a:pt x="1038" y="2268"/>
                  </a:lnTo>
                  <a:lnTo>
                    <a:pt x="1060" y="2281"/>
                  </a:lnTo>
                  <a:lnTo>
                    <a:pt x="1083" y="2287"/>
                  </a:lnTo>
                  <a:lnTo>
                    <a:pt x="1111" y="2293"/>
                  </a:lnTo>
                  <a:lnTo>
                    <a:pt x="1128" y="2295"/>
                  </a:lnTo>
                  <a:lnTo>
                    <a:pt x="1145" y="2295"/>
                  </a:lnTo>
                  <a:lnTo>
                    <a:pt x="1163" y="2292"/>
                  </a:lnTo>
                  <a:lnTo>
                    <a:pt x="1183" y="2286"/>
                  </a:lnTo>
                  <a:lnTo>
                    <a:pt x="1202" y="2279"/>
                  </a:lnTo>
                  <a:lnTo>
                    <a:pt x="1221" y="2268"/>
                  </a:lnTo>
                  <a:lnTo>
                    <a:pt x="1235" y="2259"/>
                  </a:lnTo>
                  <a:lnTo>
                    <a:pt x="1251" y="2243"/>
                  </a:lnTo>
                  <a:lnTo>
                    <a:pt x="1262" y="2227"/>
                  </a:lnTo>
                  <a:lnTo>
                    <a:pt x="1273" y="2203"/>
                  </a:lnTo>
                  <a:lnTo>
                    <a:pt x="1276" y="2181"/>
                  </a:lnTo>
                  <a:lnTo>
                    <a:pt x="1336" y="1161"/>
                  </a:lnTo>
                  <a:lnTo>
                    <a:pt x="225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6" name=""/>
            <p:cNvSpPr/>
            <p:nvPr/>
          </p:nvSpPr>
          <p:spPr>
            <a:xfrm>
              <a:off x="3975120" y="1873080"/>
              <a:ext cx="330120" cy="49320"/>
            </a:xfrm>
            <a:prstGeom prst="ellipse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7" name=""/>
            <p:cNvSpPr/>
            <p:nvPr/>
          </p:nvSpPr>
          <p:spPr>
            <a:xfrm>
              <a:off x="4000680" y="1909440"/>
              <a:ext cx="281160" cy="246240"/>
            </a:xfrm>
            <a:custGeom>
              <a:avLst/>
              <a:gdLst/>
              <a:ahLst/>
              <a:rect l="l" t="t" r="r" b="b"/>
              <a:pathLst>
                <a:path w="1956" h="2159">
                  <a:moveTo>
                    <a:pt x="0" y="19"/>
                  </a:moveTo>
                  <a:lnTo>
                    <a:pt x="857" y="1063"/>
                  </a:lnTo>
                  <a:lnTo>
                    <a:pt x="879" y="2090"/>
                  </a:lnTo>
                  <a:lnTo>
                    <a:pt x="887" y="2107"/>
                  </a:lnTo>
                  <a:lnTo>
                    <a:pt x="897" y="2123"/>
                  </a:lnTo>
                  <a:lnTo>
                    <a:pt x="906" y="2137"/>
                  </a:lnTo>
                  <a:lnTo>
                    <a:pt x="922" y="2147"/>
                  </a:lnTo>
                  <a:lnTo>
                    <a:pt x="939" y="2156"/>
                  </a:lnTo>
                  <a:lnTo>
                    <a:pt x="962" y="2159"/>
                  </a:lnTo>
                  <a:lnTo>
                    <a:pt x="983" y="2157"/>
                  </a:lnTo>
                  <a:lnTo>
                    <a:pt x="1005" y="2153"/>
                  </a:lnTo>
                  <a:lnTo>
                    <a:pt x="1026" y="2140"/>
                  </a:lnTo>
                  <a:lnTo>
                    <a:pt x="1040" y="2123"/>
                  </a:lnTo>
                  <a:lnTo>
                    <a:pt x="1048" y="2109"/>
                  </a:lnTo>
                  <a:lnTo>
                    <a:pt x="1056" y="2088"/>
                  </a:lnTo>
                  <a:lnTo>
                    <a:pt x="1100" y="1045"/>
                  </a:lnTo>
                  <a:lnTo>
                    <a:pt x="1956" y="0"/>
                  </a:lnTo>
                  <a:lnTo>
                    <a:pt x="1790" y="41"/>
                  </a:lnTo>
                  <a:lnTo>
                    <a:pt x="1531" y="77"/>
                  </a:lnTo>
                  <a:lnTo>
                    <a:pt x="1247" y="98"/>
                  </a:lnTo>
                  <a:lnTo>
                    <a:pt x="962" y="109"/>
                  </a:lnTo>
                  <a:lnTo>
                    <a:pt x="662" y="98"/>
                  </a:lnTo>
                  <a:lnTo>
                    <a:pt x="398" y="77"/>
                  </a:lnTo>
                  <a:lnTo>
                    <a:pt x="178" y="52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8" name=""/>
            <p:cNvSpPr/>
            <p:nvPr/>
          </p:nvSpPr>
          <p:spPr>
            <a:xfrm>
              <a:off x="4049280" y="1959480"/>
              <a:ext cx="181440" cy="196920"/>
            </a:xfrm>
            <a:custGeom>
              <a:avLst/>
              <a:gdLst/>
              <a:ahLst/>
              <a:rect l="l" t="t" r="r" b="b"/>
              <a:pathLst>
                <a:path w="1264" h="1728">
                  <a:moveTo>
                    <a:pt x="0" y="0"/>
                  </a:moveTo>
                  <a:lnTo>
                    <a:pt x="520" y="624"/>
                  </a:lnTo>
                  <a:lnTo>
                    <a:pt x="531" y="1657"/>
                  </a:lnTo>
                  <a:lnTo>
                    <a:pt x="541" y="1674"/>
                  </a:lnTo>
                  <a:lnTo>
                    <a:pt x="553" y="1688"/>
                  </a:lnTo>
                  <a:lnTo>
                    <a:pt x="564" y="1701"/>
                  </a:lnTo>
                  <a:lnTo>
                    <a:pt x="580" y="1715"/>
                  </a:lnTo>
                  <a:lnTo>
                    <a:pt x="608" y="1723"/>
                  </a:lnTo>
                  <a:lnTo>
                    <a:pt x="632" y="1728"/>
                  </a:lnTo>
                  <a:lnTo>
                    <a:pt x="651" y="1725"/>
                  </a:lnTo>
                  <a:lnTo>
                    <a:pt x="673" y="1720"/>
                  </a:lnTo>
                  <a:lnTo>
                    <a:pt x="694" y="1709"/>
                  </a:lnTo>
                  <a:lnTo>
                    <a:pt x="711" y="1692"/>
                  </a:lnTo>
                  <a:lnTo>
                    <a:pt x="723" y="1669"/>
                  </a:lnTo>
                  <a:lnTo>
                    <a:pt x="730" y="1657"/>
                  </a:lnTo>
                  <a:lnTo>
                    <a:pt x="761" y="605"/>
                  </a:lnTo>
                  <a:lnTo>
                    <a:pt x="126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9" name=""/>
            <p:cNvSpPr/>
            <p:nvPr/>
          </p:nvSpPr>
          <p:spPr>
            <a:xfrm>
              <a:off x="4125960" y="2167200"/>
              <a:ext cx="28440" cy="42120"/>
            </a:xfrm>
            <a:custGeom>
              <a:avLst/>
              <a:gdLst/>
              <a:ahLst/>
              <a:rect l="l" t="t" r="r" b="b"/>
              <a:pathLst>
                <a:path w="196" h="370">
                  <a:moveTo>
                    <a:pt x="95" y="0"/>
                  </a:moveTo>
                  <a:lnTo>
                    <a:pt x="105" y="58"/>
                  </a:lnTo>
                  <a:lnTo>
                    <a:pt x="111" y="87"/>
                  </a:lnTo>
                  <a:lnTo>
                    <a:pt x="121" y="121"/>
                  </a:lnTo>
                  <a:lnTo>
                    <a:pt x="132" y="141"/>
                  </a:lnTo>
                  <a:lnTo>
                    <a:pt x="147" y="166"/>
                  </a:lnTo>
                  <a:lnTo>
                    <a:pt x="167" y="193"/>
                  </a:lnTo>
                  <a:lnTo>
                    <a:pt x="184" y="220"/>
                  </a:lnTo>
                  <a:lnTo>
                    <a:pt x="192" y="245"/>
                  </a:lnTo>
                  <a:lnTo>
                    <a:pt x="196" y="278"/>
                  </a:lnTo>
                  <a:lnTo>
                    <a:pt x="189" y="307"/>
                  </a:lnTo>
                  <a:lnTo>
                    <a:pt x="178" y="328"/>
                  </a:lnTo>
                  <a:lnTo>
                    <a:pt x="162" y="345"/>
                  </a:lnTo>
                  <a:lnTo>
                    <a:pt x="141" y="361"/>
                  </a:lnTo>
                  <a:lnTo>
                    <a:pt x="121" y="367"/>
                  </a:lnTo>
                  <a:lnTo>
                    <a:pt x="99" y="370"/>
                  </a:lnTo>
                  <a:lnTo>
                    <a:pt x="76" y="367"/>
                  </a:lnTo>
                  <a:lnTo>
                    <a:pt x="54" y="362"/>
                  </a:lnTo>
                  <a:lnTo>
                    <a:pt x="34" y="350"/>
                  </a:lnTo>
                  <a:lnTo>
                    <a:pt x="19" y="334"/>
                  </a:lnTo>
                  <a:lnTo>
                    <a:pt x="8" y="315"/>
                  </a:lnTo>
                  <a:lnTo>
                    <a:pt x="3" y="296"/>
                  </a:lnTo>
                  <a:lnTo>
                    <a:pt x="0" y="272"/>
                  </a:lnTo>
                  <a:lnTo>
                    <a:pt x="5" y="240"/>
                  </a:lnTo>
                  <a:lnTo>
                    <a:pt x="13" y="218"/>
                  </a:lnTo>
                  <a:lnTo>
                    <a:pt x="30" y="190"/>
                  </a:lnTo>
                  <a:lnTo>
                    <a:pt x="49" y="166"/>
                  </a:lnTo>
                  <a:lnTo>
                    <a:pt x="62" y="140"/>
                  </a:lnTo>
                  <a:lnTo>
                    <a:pt x="72" y="119"/>
                  </a:lnTo>
                  <a:lnTo>
                    <a:pt x="81" y="90"/>
                  </a:lnTo>
                  <a:lnTo>
                    <a:pt x="86" y="58"/>
                  </a:lnTo>
                  <a:lnTo>
                    <a:pt x="95" y="0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0" name=""/>
            <p:cNvSpPr/>
            <p:nvPr/>
          </p:nvSpPr>
          <p:spPr>
            <a:xfrm>
              <a:off x="3991320" y="1877760"/>
              <a:ext cx="297360" cy="3996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1" name=""/>
            <p:cNvSpPr/>
            <p:nvPr/>
          </p:nvSpPr>
          <p:spPr>
            <a:xfrm>
              <a:off x="4125960" y="2211840"/>
              <a:ext cx="28440" cy="42120"/>
            </a:xfrm>
            <a:custGeom>
              <a:avLst/>
              <a:gdLst/>
              <a:ahLst/>
              <a:rect l="l" t="t" r="r" b="b"/>
              <a:pathLst>
                <a:path w="196" h="372">
                  <a:moveTo>
                    <a:pt x="95" y="0"/>
                  </a:moveTo>
                  <a:lnTo>
                    <a:pt x="105" y="60"/>
                  </a:lnTo>
                  <a:lnTo>
                    <a:pt x="111" y="88"/>
                  </a:lnTo>
                  <a:lnTo>
                    <a:pt x="121" y="122"/>
                  </a:lnTo>
                  <a:lnTo>
                    <a:pt x="132" y="143"/>
                  </a:lnTo>
                  <a:lnTo>
                    <a:pt x="147" y="168"/>
                  </a:lnTo>
                  <a:lnTo>
                    <a:pt x="167" y="195"/>
                  </a:lnTo>
                  <a:lnTo>
                    <a:pt x="184" y="221"/>
                  </a:lnTo>
                  <a:lnTo>
                    <a:pt x="192" y="247"/>
                  </a:lnTo>
                  <a:lnTo>
                    <a:pt x="196" y="279"/>
                  </a:lnTo>
                  <a:lnTo>
                    <a:pt x="189" y="308"/>
                  </a:lnTo>
                  <a:lnTo>
                    <a:pt x="178" y="328"/>
                  </a:lnTo>
                  <a:lnTo>
                    <a:pt x="162" y="345"/>
                  </a:lnTo>
                  <a:lnTo>
                    <a:pt x="141" y="361"/>
                  </a:lnTo>
                  <a:lnTo>
                    <a:pt x="121" y="369"/>
                  </a:lnTo>
                  <a:lnTo>
                    <a:pt x="99" y="372"/>
                  </a:lnTo>
                  <a:lnTo>
                    <a:pt x="76" y="369"/>
                  </a:lnTo>
                  <a:lnTo>
                    <a:pt x="54" y="363"/>
                  </a:lnTo>
                  <a:lnTo>
                    <a:pt x="34" y="351"/>
                  </a:lnTo>
                  <a:lnTo>
                    <a:pt x="19" y="336"/>
                  </a:lnTo>
                  <a:lnTo>
                    <a:pt x="8" y="317"/>
                  </a:lnTo>
                  <a:lnTo>
                    <a:pt x="3" y="298"/>
                  </a:lnTo>
                  <a:lnTo>
                    <a:pt x="0" y="272"/>
                  </a:lnTo>
                  <a:lnTo>
                    <a:pt x="5" y="242"/>
                  </a:lnTo>
                  <a:lnTo>
                    <a:pt x="13" y="219"/>
                  </a:lnTo>
                  <a:lnTo>
                    <a:pt x="30" y="191"/>
                  </a:lnTo>
                  <a:lnTo>
                    <a:pt x="49" y="168"/>
                  </a:lnTo>
                  <a:lnTo>
                    <a:pt x="62" y="141"/>
                  </a:lnTo>
                  <a:lnTo>
                    <a:pt x="72" y="120"/>
                  </a:lnTo>
                  <a:lnTo>
                    <a:pt x="81" y="90"/>
                  </a:lnTo>
                  <a:lnTo>
                    <a:pt x="86" y="60"/>
                  </a:lnTo>
                  <a:lnTo>
                    <a:pt x="95" y="0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2" name=""/>
            <p:cNvSpPr/>
            <p:nvPr/>
          </p:nvSpPr>
          <p:spPr>
            <a:xfrm>
              <a:off x="4047480" y="1943640"/>
              <a:ext cx="185400" cy="25560"/>
            </a:xfrm>
            <a:prstGeom prst="ellipse">
              <a:avLst/>
            </a:pr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3" name=""/>
            <p:cNvSpPr/>
            <p:nvPr/>
          </p:nvSpPr>
          <p:spPr>
            <a:xfrm>
              <a:off x="4127760" y="2140560"/>
              <a:ext cx="24480" cy="19440"/>
            </a:xfrm>
            <a:prstGeom prst="ellipse">
              <a:avLst/>
            </a:prstGeom>
            <a:solidFill>
              <a:srgbClr val="009999"/>
            </a:solidFill>
            <a:ln w="1764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04" name=""/>
          <p:cNvGrpSpPr/>
          <p:nvPr/>
        </p:nvGrpSpPr>
        <p:grpSpPr>
          <a:xfrm>
            <a:off x="3974400" y="2289240"/>
            <a:ext cx="315000" cy="442800"/>
            <a:chOff x="3974400" y="2289240"/>
            <a:chExt cx="315000" cy="442800"/>
          </a:xfrm>
        </p:grpSpPr>
        <p:grpSp>
          <p:nvGrpSpPr>
            <p:cNvPr id="8605" name=""/>
            <p:cNvGrpSpPr/>
            <p:nvPr/>
          </p:nvGrpSpPr>
          <p:grpSpPr>
            <a:xfrm>
              <a:off x="3974400" y="2314440"/>
              <a:ext cx="280800" cy="202320"/>
              <a:chOff x="3974400" y="2314440"/>
              <a:chExt cx="280800" cy="202320"/>
            </a:xfrm>
          </p:grpSpPr>
          <p:grpSp>
            <p:nvGrpSpPr>
              <p:cNvPr id="8606" name=""/>
              <p:cNvGrpSpPr/>
              <p:nvPr/>
            </p:nvGrpSpPr>
            <p:grpSpPr>
              <a:xfrm>
                <a:off x="3974400" y="2338920"/>
                <a:ext cx="270000" cy="177840"/>
                <a:chOff x="3974400" y="2338920"/>
                <a:chExt cx="270000" cy="177840"/>
              </a:xfrm>
            </p:grpSpPr>
            <p:grpSp>
              <p:nvGrpSpPr>
                <p:cNvPr id="8607" name=""/>
                <p:cNvGrpSpPr/>
                <p:nvPr/>
              </p:nvGrpSpPr>
              <p:grpSpPr>
                <a:xfrm>
                  <a:off x="3974400" y="2338920"/>
                  <a:ext cx="270000" cy="177840"/>
                  <a:chOff x="3974400" y="2338920"/>
                  <a:chExt cx="270000" cy="177840"/>
                </a:xfrm>
              </p:grpSpPr>
              <p:sp>
                <p:nvSpPr>
                  <p:cNvPr id="8608" name=""/>
                  <p:cNvSpPr/>
                  <p:nvPr/>
                </p:nvSpPr>
                <p:spPr>
                  <a:xfrm rot="1404600">
                    <a:off x="3974400" y="2412000"/>
                    <a:ext cx="258840" cy="55440"/>
                  </a:xfrm>
                  <a:prstGeom prst="ellipse">
                    <a:avLst/>
                  </a:prstGeom>
                  <a:solidFill>
                    <a:srgbClr val="e0e0e0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0" bIns="-7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09" name=""/>
                  <p:cNvSpPr/>
                  <p:nvPr/>
                </p:nvSpPr>
                <p:spPr>
                  <a:xfrm rot="1404600">
                    <a:off x="3985200" y="2387880"/>
                    <a:ext cx="258840" cy="54000"/>
                  </a:xfrm>
                  <a:prstGeom prst="rect">
                    <a:avLst/>
                  </a:pr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0" bIns="7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610" name=""/>
                <p:cNvSpPr/>
                <p:nvPr/>
              </p:nvSpPr>
              <p:spPr>
                <a:xfrm flipV="1">
                  <a:off x="3983400" y="2339640"/>
                  <a:ext cx="23400" cy="5184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11" name=""/>
                <p:cNvSpPr/>
                <p:nvPr/>
              </p:nvSpPr>
              <p:spPr>
                <a:xfrm flipH="1">
                  <a:off x="4223160" y="2444040"/>
                  <a:ext cx="21240" cy="5040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612" name=""/>
              <p:cNvGrpSpPr/>
              <p:nvPr/>
            </p:nvGrpSpPr>
            <p:grpSpPr>
              <a:xfrm>
                <a:off x="3996000" y="2314440"/>
                <a:ext cx="259200" cy="153000"/>
                <a:chOff x="3996000" y="2314440"/>
                <a:chExt cx="259200" cy="153000"/>
              </a:xfrm>
            </p:grpSpPr>
            <p:sp>
              <p:nvSpPr>
                <p:cNvPr id="8613" name=""/>
                <p:cNvSpPr/>
                <p:nvPr/>
              </p:nvSpPr>
              <p:spPr>
                <a:xfrm rot="1404600">
                  <a:off x="3996000" y="2363400"/>
                  <a:ext cx="258840" cy="54720"/>
                </a:xfrm>
                <a:prstGeom prst="ellipse">
                  <a:avLst/>
                </a:prstGeom>
                <a:solidFill>
                  <a:srgbClr val="e0e0e0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14" name=""/>
                <p:cNvSpPr/>
                <p:nvPr/>
              </p:nvSpPr>
              <p:spPr>
                <a:xfrm rot="1404600">
                  <a:off x="4002840" y="2371320"/>
                  <a:ext cx="243000" cy="42840"/>
                </a:xfrm>
                <a:prstGeom prst="ellipse">
                  <a:avLst/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615" name=""/>
            <p:cNvSpPr/>
            <p:nvPr/>
          </p:nvSpPr>
          <p:spPr>
            <a:xfrm>
              <a:off x="3999960" y="2289240"/>
              <a:ext cx="289440" cy="442800"/>
            </a:xfrm>
            <a:custGeom>
              <a:avLst/>
              <a:gdLst/>
              <a:ahLst/>
              <a:rect l="l" t="t" r="r" b="b"/>
              <a:pathLst>
                <a:path w="410" h="554">
                  <a:moveTo>
                    <a:pt x="196" y="30"/>
                  </a:moveTo>
                  <a:cubicBezTo>
                    <a:pt x="95" y="0"/>
                    <a:pt x="0" y="54"/>
                    <a:pt x="4" y="68"/>
                  </a:cubicBezTo>
                  <a:cubicBezTo>
                    <a:pt x="4" y="82"/>
                    <a:pt x="124" y="130"/>
                    <a:pt x="178" y="151"/>
                  </a:cubicBezTo>
                  <a:cubicBezTo>
                    <a:pt x="219" y="170"/>
                    <a:pt x="223" y="170"/>
                    <a:pt x="247" y="177"/>
                  </a:cubicBezTo>
                  <a:cubicBezTo>
                    <a:pt x="272" y="184"/>
                    <a:pt x="310" y="160"/>
                    <a:pt x="327" y="195"/>
                  </a:cubicBezTo>
                  <a:cubicBezTo>
                    <a:pt x="351" y="214"/>
                    <a:pt x="350" y="331"/>
                    <a:pt x="348" y="385"/>
                  </a:cubicBezTo>
                  <a:cubicBezTo>
                    <a:pt x="346" y="439"/>
                    <a:pt x="312" y="494"/>
                    <a:pt x="315" y="517"/>
                  </a:cubicBezTo>
                  <a:cubicBezTo>
                    <a:pt x="318" y="540"/>
                    <a:pt x="353" y="522"/>
                    <a:pt x="367" y="523"/>
                  </a:cubicBezTo>
                  <a:cubicBezTo>
                    <a:pt x="381" y="524"/>
                    <a:pt x="398" y="554"/>
                    <a:pt x="400" y="523"/>
                  </a:cubicBezTo>
                  <a:cubicBezTo>
                    <a:pt x="410" y="504"/>
                    <a:pt x="388" y="393"/>
                    <a:pt x="381" y="339"/>
                  </a:cubicBezTo>
                  <a:cubicBezTo>
                    <a:pt x="374" y="285"/>
                    <a:pt x="378" y="240"/>
                    <a:pt x="358" y="198"/>
                  </a:cubicBezTo>
                  <a:cubicBezTo>
                    <a:pt x="338" y="156"/>
                    <a:pt x="287" y="113"/>
                    <a:pt x="261" y="85"/>
                  </a:cubicBezTo>
                  <a:cubicBezTo>
                    <a:pt x="234" y="57"/>
                    <a:pt x="210" y="42"/>
                    <a:pt x="196" y="30"/>
                  </a:cubicBezTo>
                  <a:close/>
                </a:path>
              </a:pathLst>
            </a:custGeom>
            <a:blipFill rotWithShape="0">
              <a:blip r:embed="rId1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16" name=""/>
          <p:cNvGrpSpPr/>
          <p:nvPr/>
        </p:nvGrpSpPr>
        <p:grpSpPr>
          <a:xfrm>
            <a:off x="2700360" y="1351080"/>
            <a:ext cx="280800" cy="242640"/>
            <a:chOff x="2700360" y="1351080"/>
            <a:chExt cx="280800" cy="242640"/>
          </a:xfrm>
        </p:grpSpPr>
        <p:sp>
          <p:nvSpPr>
            <p:cNvPr id="8617" name=""/>
            <p:cNvSpPr/>
            <p:nvPr/>
          </p:nvSpPr>
          <p:spPr>
            <a:xfrm>
              <a:off x="2702880" y="1369440"/>
              <a:ext cx="275760" cy="166320"/>
            </a:xfrm>
            <a:custGeom>
              <a:avLst/>
              <a:gdLst/>
              <a:ahLst/>
              <a:rect l="l" t="t" r="r" b="b"/>
              <a:pathLst>
                <a:path w="2256" h="2295">
                  <a:moveTo>
                    <a:pt x="0" y="0"/>
                  </a:moveTo>
                  <a:lnTo>
                    <a:pt x="939" y="1180"/>
                  </a:lnTo>
                  <a:lnTo>
                    <a:pt x="980" y="2175"/>
                  </a:lnTo>
                  <a:lnTo>
                    <a:pt x="983" y="2202"/>
                  </a:lnTo>
                  <a:lnTo>
                    <a:pt x="991" y="2221"/>
                  </a:lnTo>
                  <a:lnTo>
                    <a:pt x="1000" y="2235"/>
                  </a:lnTo>
                  <a:lnTo>
                    <a:pt x="1010" y="2246"/>
                  </a:lnTo>
                  <a:lnTo>
                    <a:pt x="1024" y="2260"/>
                  </a:lnTo>
                  <a:lnTo>
                    <a:pt x="1038" y="2268"/>
                  </a:lnTo>
                  <a:lnTo>
                    <a:pt x="1060" y="2281"/>
                  </a:lnTo>
                  <a:lnTo>
                    <a:pt x="1083" y="2287"/>
                  </a:lnTo>
                  <a:lnTo>
                    <a:pt x="1111" y="2293"/>
                  </a:lnTo>
                  <a:lnTo>
                    <a:pt x="1128" y="2295"/>
                  </a:lnTo>
                  <a:lnTo>
                    <a:pt x="1145" y="2295"/>
                  </a:lnTo>
                  <a:lnTo>
                    <a:pt x="1163" y="2292"/>
                  </a:lnTo>
                  <a:lnTo>
                    <a:pt x="1183" y="2286"/>
                  </a:lnTo>
                  <a:lnTo>
                    <a:pt x="1202" y="2279"/>
                  </a:lnTo>
                  <a:lnTo>
                    <a:pt x="1221" y="2268"/>
                  </a:lnTo>
                  <a:lnTo>
                    <a:pt x="1235" y="2259"/>
                  </a:lnTo>
                  <a:lnTo>
                    <a:pt x="1251" y="2243"/>
                  </a:lnTo>
                  <a:lnTo>
                    <a:pt x="1262" y="2227"/>
                  </a:lnTo>
                  <a:lnTo>
                    <a:pt x="1273" y="2203"/>
                  </a:lnTo>
                  <a:lnTo>
                    <a:pt x="1276" y="2181"/>
                  </a:lnTo>
                  <a:lnTo>
                    <a:pt x="1336" y="1161"/>
                  </a:lnTo>
                  <a:lnTo>
                    <a:pt x="225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8" name=""/>
            <p:cNvSpPr/>
            <p:nvPr/>
          </p:nvSpPr>
          <p:spPr>
            <a:xfrm>
              <a:off x="2700360" y="1351080"/>
              <a:ext cx="280800" cy="31320"/>
            </a:xfrm>
            <a:prstGeom prst="ellipse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9" name=""/>
            <p:cNvSpPr/>
            <p:nvPr/>
          </p:nvSpPr>
          <p:spPr>
            <a:xfrm>
              <a:off x="2722320" y="1374120"/>
              <a:ext cx="239040" cy="156600"/>
            </a:xfrm>
            <a:custGeom>
              <a:avLst/>
              <a:gdLst/>
              <a:ahLst/>
              <a:rect l="l" t="t" r="r" b="b"/>
              <a:pathLst>
                <a:path w="1956" h="2159">
                  <a:moveTo>
                    <a:pt x="0" y="19"/>
                  </a:moveTo>
                  <a:lnTo>
                    <a:pt x="857" y="1063"/>
                  </a:lnTo>
                  <a:lnTo>
                    <a:pt x="879" y="2090"/>
                  </a:lnTo>
                  <a:lnTo>
                    <a:pt x="887" y="2107"/>
                  </a:lnTo>
                  <a:lnTo>
                    <a:pt x="897" y="2123"/>
                  </a:lnTo>
                  <a:lnTo>
                    <a:pt x="906" y="2137"/>
                  </a:lnTo>
                  <a:lnTo>
                    <a:pt x="922" y="2147"/>
                  </a:lnTo>
                  <a:lnTo>
                    <a:pt x="939" y="2156"/>
                  </a:lnTo>
                  <a:lnTo>
                    <a:pt x="962" y="2159"/>
                  </a:lnTo>
                  <a:lnTo>
                    <a:pt x="983" y="2157"/>
                  </a:lnTo>
                  <a:lnTo>
                    <a:pt x="1005" y="2153"/>
                  </a:lnTo>
                  <a:lnTo>
                    <a:pt x="1026" y="2140"/>
                  </a:lnTo>
                  <a:lnTo>
                    <a:pt x="1040" y="2123"/>
                  </a:lnTo>
                  <a:lnTo>
                    <a:pt x="1048" y="2109"/>
                  </a:lnTo>
                  <a:lnTo>
                    <a:pt x="1056" y="2088"/>
                  </a:lnTo>
                  <a:lnTo>
                    <a:pt x="1100" y="1045"/>
                  </a:lnTo>
                  <a:lnTo>
                    <a:pt x="1956" y="0"/>
                  </a:lnTo>
                  <a:lnTo>
                    <a:pt x="1790" y="41"/>
                  </a:lnTo>
                  <a:lnTo>
                    <a:pt x="1531" y="77"/>
                  </a:lnTo>
                  <a:lnTo>
                    <a:pt x="1247" y="98"/>
                  </a:lnTo>
                  <a:lnTo>
                    <a:pt x="962" y="109"/>
                  </a:lnTo>
                  <a:lnTo>
                    <a:pt x="662" y="98"/>
                  </a:lnTo>
                  <a:lnTo>
                    <a:pt x="398" y="77"/>
                  </a:lnTo>
                  <a:lnTo>
                    <a:pt x="178" y="52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0" name=""/>
            <p:cNvSpPr/>
            <p:nvPr/>
          </p:nvSpPr>
          <p:spPr>
            <a:xfrm>
              <a:off x="2763360" y="1406160"/>
              <a:ext cx="154080" cy="125280"/>
            </a:xfrm>
            <a:custGeom>
              <a:avLst/>
              <a:gdLst/>
              <a:ahLst/>
              <a:rect l="l" t="t" r="r" b="b"/>
              <a:pathLst>
                <a:path w="1264" h="1728">
                  <a:moveTo>
                    <a:pt x="0" y="0"/>
                  </a:moveTo>
                  <a:lnTo>
                    <a:pt x="520" y="624"/>
                  </a:lnTo>
                  <a:lnTo>
                    <a:pt x="531" y="1657"/>
                  </a:lnTo>
                  <a:lnTo>
                    <a:pt x="541" y="1674"/>
                  </a:lnTo>
                  <a:lnTo>
                    <a:pt x="553" y="1688"/>
                  </a:lnTo>
                  <a:lnTo>
                    <a:pt x="564" y="1701"/>
                  </a:lnTo>
                  <a:lnTo>
                    <a:pt x="580" y="1715"/>
                  </a:lnTo>
                  <a:lnTo>
                    <a:pt x="608" y="1723"/>
                  </a:lnTo>
                  <a:lnTo>
                    <a:pt x="632" y="1728"/>
                  </a:lnTo>
                  <a:lnTo>
                    <a:pt x="651" y="1725"/>
                  </a:lnTo>
                  <a:lnTo>
                    <a:pt x="673" y="1720"/>
                  </a:lnTo>
                  <a:lnTo>
                    <a:pt x="694" y="1709"/>
                  </a:lnTo>
                  <a:lnTo>
                    <a:pt x="711" y="1692"/>
                  </a:lnTo>
                  <a:lnTo>
                    <a:pt x="723" y="1669"/>
                  </a:lnTo>
                  <a:lnTo>
                    <a:pt x="730" y="1657"/>
                  </a:lnTo>
                  <a:lnTo>
                    <a:pt x="761" y="605"/>
                  </a:lnTo>
                  <a:lnTo>
                    <a:pt x="126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1" name=""/>
            <p:cNvSpPr/>
            <p:nvPr/>
          </p:nvSpPr>
          <p:spPr>
            <a:xfrm>
              <a:off x="2828520" y="1538280"/>
              <a:ext cx="24120" cy="26640"/>
            </a:xfrm>
            <a:custGeom>
              <a:avLst/>
              <a:gdLst/>
              <a:ahLst/>
              <a:rect l="l" t="t" r="r" b="b"/>
              <a:pathLst>
                <a:path w="196" h="370">
                  <a:moveTo>
                    <a:pt x="95" y="0"/>
                  </a:moveTo>
                  <a:lnTo>
                    <a:pt x="105" y="58"/>
                  </a:lnTo>
                  <a:lnTo>
                    <a:pt x="111" y="87"/>
                  </a:lnTo>
                  <a:lnTo>
                    <a:pt x="121" y="121"/>
                  </a:lnTo>
                  <a:lnTo>
                    <a:pt x="132" y="141"/>
                  </a:lnTo>
                  <a:lnTo>
                    <a:pt x="147" y="166"/>
                  </a:lnTo>
                  <a:lnTo>
                    <a:pt x="167" y="193"/>
                  </a:lnTo>
                  <a:lnTo>
                    <a:pt x="184" y="220"/>
                  </a:lnTo>
                  <a:lnTo>
                    <a:pt x="192" y="245"/>
                  </a:lnTo>
                  <a:lnTo>
                    <a:pt x="196" y="278"/>
                  </a:lnTo>
                  <a:lnTo>
                    <a:pt x="189" y="307"/>
                  </a:lnTo>
                  <a:lnTo>
                    <a:pt x="178" y="328"/>
                  </a:lnTo>
                  <a:lnTo>
                    <a:pt x="162" y="345"/>
                  </a:lnTo>
                  <a:lnTo>
                    <a:pt x="141" y="361"/>
                  </a:lnTo>
                  <a:lnTo>
                    <a:pt x="121" y="367"/>
                  </a:lnTo>
                  <a:lnTo>
                    <a:pt x="99" y="370"/>
                  </a:lnTo>
                  <a:lnTo>
                    <a:pt x="76" y="367"/>
                  </a:lnTo>
                  <a:lnTo>
                    <a:pt x="54" y="362"/>
                  </a:lnTo>
                  <a:lnTo>
                    <a:pt x="34" y="350"/>
                  </a:lnTo>
                  <a:lnTo>
                    <a:pt x="19" y="334"/>
                  </a:lnTo>
                  <a:lnTo>
                    <a:pt x="8" y="315"/>
                  </a:lnTo>
                  <a:lnTo>
                    <a:pt x="3" y="296"/>
                  </a:lnTo>
                  <a:lnTo>
                    <a:pt x="0" y="272"/>
                  </a:lnTo>
                  <a:lnTo>
                    <a:pt x="5" y="240"/>
                  </a:lnTo>
                  <a:lnTo>
                    <a:pt x="13" y="218"/>
                  </a:lnTo>
                  <a:lnTo>
                    <a:pt x="30" y="190"/>
                  </a:lnTo>
                  <a:lnTo>
                    <a:pt x="49" y="166"/>
                  </a:lnTo>
                  <a:lnTo>
                    <a:pt x="62" y="140"/>
                  </a:lnTo>
                  <a:lnTo>
                    <a:pt x="72" y="119"/>
                  </a:lnTo>
                  <a:lnTo>
                    <a:pt x="81" y="90"/>
                  </a:lnTo>
                  <a:lnTo>
                    <a:pt x="86" y="58"/>
                  </a:lnTo>
                  <a:lnTo>
                    <a:pt x="95" y="0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2" name=""/>
            <p:cNvSpPr/>
            <p:nvPr/>
          </p:nvSpPr>
          <p:spPr>
            <a:xfrm>
              <a:off x="2714040" y="1353960"/>
              <a:ext cx="253080" cy="2520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3" name=""/>
            <p:cNvSpPr/>
            <p:nvPr/>
          </p:nvSpPr>
          <p:spPr>
            <a:xfrm>
              <a:off x="2828520" y="1566720"/>
              <a:ext cx="24120" cy="27000"/>
            </a:xfrm>
            <a:custGeom>
              <a:avLst/>
              <a:gdLst/>
              <a:ahLst/>
              <a:rect l="l" t="t" r="r" b="b"/>
              <a:pathLst>
                <a:path w="196" h="372">
                  <a:moveTo>
                    <a:pt x="95" y="0"/>
                  </a:moveTo>
                  <a:lnTo>
                    <a:pt x="105" y="60"/>
                  </a:lnTo>
                  <a:lnTo>
                    <a:pt x="111" y="88"/>
                  </a:lnTo>
                  <a:lnTo>
                    <a:pt x="121" y="122"/>
                  </a:lnTo>
                  <a:lnTo>
                    <a:pt x="132" y="143"/>
                  </a:lnTo>
                  <a:lnTo>
                    <a:pt x="147" y="168"/>
                  </a:lnTo>
                  <a:lnTo>
                    <a:pt x="167" y="195"/>
                  </a:lnTo>
                  <a:lnTo>
                    <a:pt x="184" y="221"/>
                  </a:lnTo>
                  <a:lnTo>
                    <a:pt x="192" y="247"/>
                  </a:lnTo>
                  <a:lnTo>
                    <a:pt x="196" y="279"/>
                  </a:lnTo>
                  <a:lnTo>
                    <a:pt x="189" y="308"/>
                  </a:lnTo>
                  <a:lnTo>
                    <a:pt x="178" y="328"/>
                  </a:lnTo>
                  <a:lnTo>
                    <a:pt x="162" y="345"/>
                  </a:lnTo>
                  <a:lnTo>
                    <a:pt x="141" y="361"/>
                  </a:lnTo>
                  <a:lnTo>
                    <a:pt x="121" y="369"/>
                  </a:lnTo>
                  <a:lnTo>
                    <a:pt x="99" y="372"/>
                  </a:lnTo>
                  <a:lnTo>
                    <a:pt x="76" y="369"/>
                  </a:lnTo>
                  <a:lnTo>
                    <a:pt x="54" y="363"/>
                  </a:lnTo>
                  <a:lnTo>
                    <a:pt x="34" y="351"/>
                  </a:lnTo>
                  <a:lnTo>
                    <a:pt x="19" y="336"/>
                  </a:lnTo>
                  <a:lnTo>
                    <a:pt x="8" y="317"/>
                  </a:lnTo>
                  <a:lnTo>
                    <a:pt x="3" y="298"/>
                  </a:lnTo>
                  <a:lnTo>
                    <a:pt x="0" y="272"/>
                  </a:lnTo>
                  <a:lnTo>
                    <a:pt x="5" y="242"/>
                  </a:lnTo>
                  <a:lnTo>
                    <a:pt x="13" y="219"/>
                  </a:lnTo>
                  <a:lnTo>
                    <a:pt x="30" y="191"/>
                  </a:lnTo>
                  <a:lnTo>
                    <a:pt x="49" y="168"/>
                  </a:lnTo>
                  <a:lnTo>
                    <a:pt x="62" y="141"/>
                  </a:lnTo>
                  <a:lnTo>
                    <a:pt x="72" y="120"/>
                  </a:lnTo>
                  <a:lnTo>
                    <a:pt x="81" y="90"/>
                  </a:lnTo>
                  <a:lnTo>
                    <a:pt x="86" y="60"/>
                  </a:lnTo>
                  <a:lnTo>
                    <a:pt x="95" y="0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4" name=""/>
            <p:cNvSpPr/>
            <p:nvPr/>
          </p:nvSpPr>
          <p:spPr>
            <a:xfrm>
              <a:off x="2761920" y="1396080"/>
              <a:ext cx="157680" cy="16200"/>
            </a:xfrm>
            <a:prstGeom prst="ellipse">
              <a:avLst/>
            </a:pr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5" name=""/>
            <p:cNvSpPr/>
            <p:nvPr/>
          </p:nvSpPr>
          <p:spPr>
            <a:xfrm>
              <a:off x="2829960" y="1521360"/>
              <a:ext cx="20880" cy="12240"/>
            </a:xfrm>
            <a:prstGeom prst="ellipse">
              <a:avLst/>
            </a:prstGeom>
            <a:solidFill>
              <a:srgbClr val="009999"/>
            </a:solidFill>
            <a:ln w="1764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26" name=""/>
          <p:cNvGrpSpPr/>
          <p:nvPr/>
        </p:nvGrpSpPr>
        <p:grpSpPr>
          <a:xfrm>
            <a:off x="3348360" y="1905120"/>
            <a:ext cx="461160" cy="549000"/>
            <a:chOff x="3348360" y="1905120"/>
            <a:chExt cx="461160" cy="549000"/>
          </a:xfrm>
        </p:grpSpPr>
        <p:grpSp>
          <p:nvGrpSpPr>
            <p:cNvPr id="8627" name=""/>
            <p:cNvGrpSpPr/>
            <p:nvPr/>
          </p:nvGrpSpPr>
          <p:grpSpPr>
            <a:xfrm>
              <a:off x="3348360" y="1924200"/>
              <a:ext cx="404640" cy="275040"/>
              <a:chOff x="3348360" y="1924200"/>
              <a:chExt cx="404640" cy="275040"/>
            </a:xfrm>
          </p:grpSpPr>
          <p:grpSp>
            <p:nvGrpSpPr>
              <p:cNvPr id="8628" name=""/>
              <p:cNvGrpSpPr/>
              <p:nvPr/>
            </p:nvGrpSpPr>
            <p:grpSpPr>
              <a:xfrm>
                <a:off x="3348360" y="1954440"/>
                <a:ext cx="392400" cy="244800"/>
                <a:chOff x="3348360" y="1954440"/>
                <a:chExt cx="392400" cy="244800"/>
              </a:xfrm>
            </p:grpSpPr>
            <p:grpSp>
              <p:nvGrpSpPr>
                <p:cNvPr id="8629" name=""/>
                <p:cNvGrpSpPr/>
                <p:nvPr/>
              </p:nvGrpSpPr>
              <p:grpSpPr>
                <a:xfrm>
                  <a:off x="3348360" y="1954440"/>
                  <a:ext cx="391680" cy="244800"/>
                  <a:chOff x="3348360" y="1954440"/>
                  <a:chExt cx="391680" cy="244800"/>
                </a:xfrm>
              </p:grpSpPr>
              <p:sp>
                <p:nvSpPr>
                  <p:cNvPr id="8630" name=""/>
                  <p:cNvSpPr/>
                  <p:nvPr/>
                </p:nvSpPr>
                <p:spPr>
                  <a:xfrm rot="1404600">
                    <a:off x="3345840" y="2057400"/>
                    <a:ext cx="383400" cy="68400"/>
                  </a:xfrm>
                  <a:prstGeom prst="ellipse">
                    <a:avLst/>
                  </a:prstGeom>
                  <a:solidFill>
                    <a:srgbClr val="e0e0e0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" bIns="2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31" name=""/>
                  <p:cNvSpPr/>
                  <p:nvPr/>
                </p:nvSpPr>
                <p:spPr>
                  <a:xfrm rot="1404600">
                    <a:off x="3359160" y="2027520"/>
                    <a:ext cx="383400" cy="66960"/>
                  </a:xfrm>
                  <a:prstGeom prst="rect">
                    <a:avLst/>
                  </a:pr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160" bIns="20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632" name=""/>
                <p:cNvSpPr/>
                <p:nvPr/>
              </p:nvSpPr>
              <p:spPr>
                <a:xfrm flipV="1">
                  <a:off x="3359160" y="1954800"/>
                  <a:ext cx="28800" cy="6408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33" name=""/>
                <p:cNvSpPr/>
                <p:nvPr/>
              </p:nvSpPr>
              <p:spPr>
                <a:xfrm flipH="1">
                  <a:off x="3714480" y="2110320"/>
                  <a:ext cx="26280" cy="6228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634" name=""/>
              <p:cNvGrpSpPr/>
              <p:nvPr/>
            </p:nvGrpSpPr>
            <p:grpSpPr>
              <a:xfrm>
                <a:off x="3374280" y="1924200"/>
                <a:ext cx="378720" cy="214560"/>
                <a:chOff x="3374280" y="1924200"/>
                <a:chExt cx="378720" cy="214560"/>
              </a:xfrm>
            </p:grpSpPr>
            <p:sp>
              <p:nvSpPr>
                <p:cNvPr id="8635" name=""/>
                <p:cNvSpPr/>
                <p:nvPr/>
              </p:nvSpPr>
              <p:spPr>
                <a:xfrm rot="1404600">
                  <a:off x="3371760" y="1997280"/>
                  <a:ext cx="383400" cy="67680"/>
                </a:xfrm>
                <a:prstGeom prst="ellipse">
                  <a:avLst/>
                </a:prstGeom>
                <a:solidFill>
                  <a:srgbClr val="e0e0e0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" bIns="1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36" name=""/>
                <p:cNvSpPr/>
                <p:nvPr/>
              </p:nvSpPr>
              <p:spPr>
                <a:xfrm rot="1404600">
                  <a:off x="3382560" y="2007000"/>
                  <a:ext cx="359640" cy="52920"/>
                </a:xfrm>
                <a:prstGeom prst="ellipse">
                  <a:avLst/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637" name=""/>
            <p:cNvSpPr/>
            <p:nvPr/>
          </p:nvSpPr>
          <p:spPr>
            <a:xfrm>
              <a:off x="3380400" y="1905120"/>
              <a:ext cx="429120" cy="549000"/>
            </a:xfrm>
            <a:custGeom>
              <a:avLst/>
              <a:gdLst/>
              <a:ahLst/>
              <a:rect l="l" t="t" r="r" b="b"/>
              <a:pathLst>
                <a:path w="410" h="554">
                  <a:moveTo>
                    <a:pt x="196" y="30"/>
                  </a:moveTo>
                  <a:cubicBezTo>
                    <a:pt x="95" y="0"/>
                    <a:pt x="0" y="54"/>
                    <a:pt x="4" y="68"/>
                  </a:cubicBezTo>
                  <a:cubicBezTo>
                    <a:pt x="4" y="82"/>
                    <a:pt x="124" y="130"/>
                    <a:pt x="178" y="151"/>
                  </a:cubicBezTo>
                  <a:cubicBezTo>
                    <a:pt x="219" y="170"/>
                    <a:pt x="223" y="170"/>
                    <a:pt x="247" y="177"/>
                  </a:cubicBezTo>
                  <a:cubicBezTo>
                    <a:pt x="272" y="184"/>
                    <a:pt x="310" y="160"/>
                    <a:pt x="327" y="195"/>
                  </a:cubicBezTo>
                  <a:cubicBezTo>
                    <a:pt x="351" y="214"/>
                    <a:pt x="350" y="331"/>
                    <a:pt x="348" y="385"/>
                  </a:cubicBezTo>
                  <a:cubicBezTo>
                    <a:pt x="346" y="439"/>
                    <a:pt x="312" y="494"/>
                    <a:pt x="315" y="517"/>
                  </a:cubicBezTo>
                  <a:cubicBezTo>
                    <a:pt x="318" y="540"/>
                    <a:pt x="353" y="522"/>
                    <a:pt x="367" y="523"/>
                  </a:cubicBezTo>
                  <a:cubicBezTo>
                    <a:pt x="381" y="524"/>
                    <a:pt x="398" y="554"/>
                    <a:pt x="400" y="523"/>
                  </a:cubicBezTo>
                  <a:cubicBezTo>
                    <a:pt x="410" y="504"/>
                    <a:pt x="388" y="393"/>
                    <a:pt x="381" y="339"/>
                  </a:cubicBezTo>
                  <a:cubicBezTo>
                    <a:pt x="374" y="285"/>
                    <a:pt x="378" y="240"/>
                    <a:pt x="358" y="198"/>
                  </a:cubicBezTo>
                  <a:cubicBezTo>
                    <a:pt x="338" y="156"/>
                    <a:pt x="287" y="113"/>
                    <a:pt x="261" y="85"/>
                  </a:cubicBezTo>
                  <a:cubicBezTo>
                    <a:pt x="234" y="57"/>
                    <a:pt x="210" y="42"/>
                    <a:pt x="196" y="30"/>
                  </a:cubicBezTo>
                  <a:close/>
                </a:path>
              </a:pathLst>
            </a:custGeom>
            <a:blipFill rotWithShape="0">
              <a:blip r:embed="rId1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8" name=""/>
          <p:cNvGrpSpPr/>
          <p:nvPr/>
        </p:nvGrpSpPr>
        <p:grpSpPr>
          <a:xfrm>
            <a:off x="3930480" y="4278240"/>
            <a:ext cx="395280" cy="465120"/>
            <a:chOff x="3930480" y="4278240"/>
            <a:chExt cx="395280" cy="465120"/>
          </a:xfrm>
        </p:grpSpPr>
        <p:pic>
          <p:nvPicPr>
            <p:cNvPr id="8639" name="" descr=""/>
            <p:cNvPicPr/>
            <p:nvPr/>
          </p:nvPicPr>
          <p:blipFill>
            <a:blip r:embed="rId13"/>
            <a:stretch/>
          </p:blipFill>
          <p:spPr>
            <a:xfrm>
              <a:off x="3930480" y="4278240"/>
              <a:ext cx="395280" cy="325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640" name=""/>
            <p:cNvGrpSpPr/>
            <p:nvPr/>
          </p:nvGrpSpPr>
          <p:grpSpPr>
            <a:xfrm>
              <a:off x="4238640" y="4597560"/>
              <a:ext cx="36000" cy="145800"/>
              <a:chOff x="4238640" y="4597560"/>
              <a:chExt cx="36000" cy="145800"/>
            </a:xfrm>
          </p:grpSpPr>
          <p:sp>
            <p:nvSpPr>
              <p:cNvPr id="8641" name=""/>
              <p:cNvSpPr/>
              <p:nvPr/>
            </p:nvSpPr>
            <p:spPr>
              <a:xfrm>
                <a:off x="4238640" y="4597560"/>
                <a:ext cx="36000" cy="70920"/>
              </a:xfrm>
              <a:custGeom>
                <a:avLst/>
                <a:gdLst/>
                <a:ahLst/>
                <a:rect l="l" t="t" r="r" b="b"/>
                <a:pathLst>
                  <a:path w="196" h="371">
                    <a:moveTo>
                      <a:pt x="95" y="0"/>
                    </a:moveTo>
                    <a:lnTo>
                      <a:pt x="105" y="58"/>
                    </a:lnTo>
                    <a:lnTo>
                      <a:pt x="111" y="88"/>
                    </a:lnTo>
                    <a:lnTo>
                      <a:pt x="121" y="122"/>
                    </a:lnTo>
                    <a:lnTo>
                      <a:pt x="132" y="142"/>
                    </a:lnTo>
                    <a:lnTo>
                      <a:pt x="147" y="166"/>
                    </a:lnTo>
                    <a:lnTo>
                      <a:pt x="167" y="194"/>
                    </a:lnTo>
                    <a:lnTo>
                      <a:pt x="184" y="220"/>
                    </a:lnTo>
                    <a:lnTo>
                      <a:pt x="192" y="246"/>
                    </a:lnTo>
                    <a:lnTo>
                      <a:pt x="196" y="279"/>
                    </a:lnTo>
                    <a:lnTo>
                      <a:pt x="189" y="307"/>
                    </a:lnTo>
                    <a:lnTo>
                      <a:pt x="178" y="328"/>
                    </a:lnTo>
                    <a:lnTo>
                      <a:pt x="162" y="345"/>
                    </a:lnTo>
                    <a:lnTo>
                      <a:pt x="141" y="361"/>
                    </a:lnTo>
                    <a:lnTo>
                      <a:pt x="121" y="368"/>
                    </a:lnTo>
                    <a:lnTo>
                      <a:pt x="99" y="371"/>
                    </a:lnTo>
                    <a:lnTo>
                      <a:pt x="76" y="368"/>
                    </a:lnTo>
                    <a:lnTo>
                      <a:pt x="54" y="362"/>
                    </a:lnTo>
                    <a:lnTo>
                      <a:pt x="34" y="351"/>
                    </a:lnTo>
                    <a:lnTo>
                      <a:pt x="19" y="335"/>
                    </a:lnTo>
                    <a:lnTo>
                      <a:pt x="8" y="316"/>
                    </a:lnTo>
                    <a:lnTo>
                      <a:pt x="3" y="297"/>
                    </a:lnTo>
                    <a:lnTo>
                      <a:pt x="0" y="272"/>
                    </a:lnTo>
                    <a:lnTo>
                      <a:pt x="5" y="240"/>
                    </a:lnTo>
                    <a:lnTo>
                      <a:pt x="13" y="218"/>
                    </a:lnTo>
                    <a:lnTo>
                      <a:pt x="30" y="191"/>
                    </a:lnTo>
                    <a:lnTo>
                      <a:pt x="49" y="166"/>
                    </a:lnTo>
                    <a:lnTo>
                      <a:pt x="62" y="141"/>
                    </a:lnTo>
                    <a:lnTo>
                      <a:pt x="72" y="120"/>
                    </a:lnTo>
                    <a:lnTo>
                      <a:pt x="81" y="90"/>
                    </a:lnTo>
                    <a:lnTo>
                      <a:pt x="86" y="58"/>
                    </a:lnTo>
                    <a:lnTo>
                      <a:pt x="95" y="0"/>
                    </a:lnTo>
                    <a:close/>
                  </a:path>
                </a:pathLst>
              </a:cu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2" name=""/>
              <p:cNvSpPr/>
              <p:nvPr/>
            </p:nvSpPr>
            <p:spPr>
              <a:xfrm>
                <a:off x="4238640" y="4672440"/>
                <a:ext cx="36000" cy="70920"/>
              </a:xfrm>
              <a:custGeom>
                <a:avLst/>
                <a:gdLst/>
                <a:ahLst/>
                <a:rect l="l" t="t" r="r" b="b"/>
                <a:pathLst>
                  <a:path w="196" h="372">
                    <a:moveTo>
                      <a:pt x="95" y="0"/>
                    </a:moveTo>
                    <a:lnTo>
                      <a:pt x="105" y="59"/>
                    </a:lnTo>
                    <a:lnTo>
                      <a:pt x="111" y="88"/>
                    </a:lnTo>
                    <a:lnTo>
                      <a:pt x="121" y="122"/>
                    </a:lnTo>
                    <a:lnTo>
                      <a:pt x="132" y="143"/>
                    </a:lnTo>
                    <a:lnTo>
                      <a:pt x="147" y="167"/>
                    </a:lnTo>
                    <a:lnTo>
                      <a:pt x="167" y="195"/>
                    </a:lnTo>
                    <a:lnTo>
                      <a:pt x="184" y="220"/>
                    </a:lnTo>
                    <a:lnTo>
                      <a:pt x="192" y="247"/>
                    </a:lnTo>
                    <a:lnTo>
                      <a:pt x="196" y="279"/>
                    </a:lnTo>
                    <a:lnTo>
                      <a:pt x="189" y="308"/>
                    </a:lnTo>
                    <a:lnTo>
                      <a:pt x="178" y="328"/>
                    </a:lnTo>
                    <a:lnTo>
                      <a:pt x="162" y="345"/>
                    </a:lnTo>
                    <a:lnTo>
                      <a:pt x="141" y="361"/>
                    </a:lnTo>
                    <a:lnTo>
                      <a:pt x="121" y="369"/>
                    </a:lnTo>
                    <a:lnTo>
                      <a:pt x="99" y="372"/>
                    </a:lnTo>
                    <a:lnTo>
                      <a:pt x="76" y="369"/>
                    </a:lnTo>
                    <a:lnTo>
                      <a:pt x="54" y="363"/>
                    </a:lnTo>
                    <a:lnTo>
                      <a:pt x="34" y="351"/>
                    </a:lnTo>
                    <a:lnTo>
                      <a:pt x="19" y="336"/>
                    </a:lnTo>
                    <a:lnTo>
                      <a:pt x="8" y="317"/>
                    </a:lnTo>
                    <a:lnTo>
                      <a:pt x="3" y="298"/>
                    </a:lnTo>
                    <a:lnTo>
                      <a:pt x="0" y="272"/>
                    </a:lnTo>
                    <a:lnTo>
                      <a:pt x="5" y="242"/>
                    </a:lnTo>
                    <a:lnTo>
                      <a:pt x="13" y="219"/>
                    </a:lnTo>
                    <a:lnTo>
                      <a:pt x="30" y="191"/>
                    </a:lnTo>
                    <a:lnTo>
                      <a:pt x="49" y="167"/>
                    </a:lnTo>
                    <a:lnTo>
                      <a:pt x="62" y="141"/>
                    </a:lnTo>
                    <a:lnTo>
                      <a:pt x="72" y="120"/>
                    </a:lnTo>
                    <a:lnTo>
                      <a:pt x="81" y="90"/>
                    </a:lnTo>
                    <a:lnTo>
                      <a:pt x="86" y="59"/>
                    </a:lnTo>
                    <a:lnTo>
                      <a:pt x="95" y="0"/>
                    </a:lnTo>
                    <a:close/>
                  </a:path>
                </a:pathLst>
              </a:cu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643" name=""/>
          <p:cNvGrpSpPr/>
          <p:nvPr/>
        </p:nvGrpSpPr>
        <p:grpSpPr>
          <a:xfrm>
            <a:off x="3936960" y="4785840"/>
            <a:ext cx="399960" cy="371880"/>
            <a:chOff x="3936960" y="4785840"/>
            <a:chExt cx="399960" cy="371880"/>
          </a:xfrm>
        </p:grpSpPr>
        <p:sp>
          <p:nvSpPr>
            <p:cNvPr id="8644" name=""/>
            <p:cNvSpPr/>
            <p:nvPr/>
          </p:nvSpPr>
          <p:spPr>
            <a:xfrm rot="6456000">
              <a:off x="4015800" y="4750200"/>
              <a:ext cx="101160" cy="239760"/>
            </a:xfrm>
            <a:prstGeom prst="can">
              <a:avLst>
                <a:gd name="adj" fmla="val 25000"/>
              </a:avLst>
            </a:prstGeom>
            <a:solidFill>
              <a:srgbClr val="80808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5" name=""/>
            <p:cNvSpPr/>
            <p:nvPr/>
          </p:nvSpPr>
          <p:spPr>
            <a:xfrm>
              <a:off x="4119840" y="4879800"/>
              <a:ext cx="217080" cy="277920"/>
            </a:xfrm>
            <a:custGeom>
              <a:avLst/>
              <a:gdLst/>
              <a:ahLst/>
              <a:rect l="l" t="t" r="r" b="b"/>
              <a:pathLst>
                <a:path w="740" h="830">
                  <a:moveTo>
                    <a:pt x="16" y="158"/>
                  </a:moveTo>
                  <a:cubicBezTo>
                    <a:pt x="30" y="199"/>
                    <a:pt x="63" y="176"/>
                    <a:pt x="78" y="213"/>
                  </a:cubicBezTo>
                  <a:cubicBezTo>
                    <a:pt x="87" y="240"/>
                    <a:pt x="103" y="258"/>
                    <a:pt x="115" y="286"/>
                  </a:cubicBezTo>
                  <a:cubicBezTo>
                    <a:pt x="123" y="302"/>
                    <a:pt x="128" y="320"/>
                    <a:pt x="134" y="336"/>
                  </a:cubicBezTo>
                  <a:cubicBezTo>
                    <a:pt x="155" y="488"/>
                    <a:pt x="174" y="561"/>
                    <a:pt x="250" y="652"/>
                  </a:cubicBezTo>
                  <a:cubicBezTo>
                    <a:pt x="267" y="714"/>
                    <a:pt x="303" y="810"/>
                    <a:pt x="343" y="810"/>
                  </a:cubicBezTo>
                  <a:cubicBezTo>
                    <a:pt x="427" y="787"/>
                    <a:pt x="660" y="830"/>
                    <a:pt x="740" y="784"/>
                  </a:cubicBezTo>
                  <a:cubicBezTo>
                    <a:pt x="694" y="652"/>
                    <a:pt x="636" y="796"/>
                    <a:pt x="576" y="659"/>
                  </a:cubicBezTo>
                  <a:cubicBezTo>
                    <a:pt x="552" y="609"/>
                    <a:pt x="551" y="529"/>
                    <a:pt x="523" y="484"/>
                  </a:cubicBezTo>
                  <a:cubicBezTo>
                    <a:pt x="510" y="404"/>
                    <a:pt x="505" y="386"/>
                    <a:pt x="463" y="365"/>
                  </a:cubicBezTo>
                  <a:cubicBezTo>
                    <a:pt x="454" y="302"/>
                    <a:pt x="411" y="270"/>
                    <a:pt x="372" y="270"/>
                  </a:cubicBezTo>
                  <a:cubicBezTo>
                    <a:pt x="368" y="252"/>
                    <a:pt x="325" y="186"/>
                    <a:pt x="316" y="179"/>
                  </a:cubicBezTo>
                  <a:cubicBezTo>
                    <a:pt x="293" y="161"/>
                    <a:pt x="241" y="144"/>
                    <a:pt x="214" y="138"/>
                  </a:cubicBezTo>
                  <a:cubicBezTo>
                    <a:pt x="170" y="122"/>
                    <a:pt x="108" y="28"/>
                    <a:pt x="63" y="12"/>
                  </a:cubicBezTo>
                  <a:cubicBezTo>
                    <a:pt x="47" y="0"/>
                    <a:pt x="3" y="58"/>
                    <a:pt x="17" y="58"/>
                  </a:cubicBezTo>
                  <a:cubicBezTo>
                    <a:pt x="17" y="144"/>
                    <a:pt x="0" y="76"/>
                    <a:pt x="16" y="158"/>
                  </a:cubicBezTo>
                  <a:close/>
                </a:path>
              </a:pathLst>
            </a:custGeom>
            <a:blipFill rotWithShape="0">
              <a:blip r:embed="rId1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46" name=""/>
          <p:cNvGrpSpPr/>
          <p:nvPr/>
        </p:nvGrpSpPr>
        <p:grpSpPr>
          <a:xfrm>
            <a:off x="4871880" y="4248000"/>
            <a:ext cx="271800" cy="324720"/>
            <a:chOff x="4871880" y="4248000"/>
            <a:chExt cx="271800" cy="324720"/>
          </a:xfrm>
        </p:grpSpPr>
        <p:pic>
          <p:nvPicPr>
            <p:cNvPr id="8647" name="" descr=""/>
            <p:cNvPicPr/>
            <p:nvPr/>
          </p:nvPicPr>
          <p:blipFill>
            <a:blip r:embed="rId15"/>
            <a:stretch/>
          </p:blipFill>
          <p:spPr>
            <a:xfrm>
              <a:off x="4871880" y="4248000"/>
              <a:ext cx="271800" cy="227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648" name=""/>
            <p:cNvGrpSpPr/>
            <p:nvPr/>
          </p:nvGrpSpPr>
          <p:grpSpPr>
            <a:xfrm>
              <a:off x="5083920" y="4471200"/>
              <a:ext cx="24480" cy="101520"/>
              <a:chOff x="5083920" y="4471200"/>
              <a:chExt cx="24480" cy="101520"/>
            </a:xfrm>
          </p:grpSpPr>
          <p:sp>
            <p:nvSpPr>
              <p:cNvPr id="8649" name=""/>
              <p:cNvSpPr/>
              <p:nvPr/>
            </p:nvSpPr>
            <p:spPr>
              <a:xfrm>
                <a:off x="5083920" y="4471200"/>
                <a:ext cx="24480" cy="49320"/>
              </a:xfrm>
              <a:custGeom>
                <a:avLst/>
                <a:gdLst/>
                <a:ahLst/>
                <a:rect l="l" t="t" r="r" b="b"/>
                <a:pathLst>
                  <a:path w="196" h="371">
                    <a:moveTo>
                      <a:pt x="95" y="0"/>
                    </a:moveTo>
                    <a:lnTo>
                      <a:pt x="105" y="58"/>
                    </a:lnTo>
                    <a:lnTo>
                      <a:pt x="111" y="88"/>
                    </a:lnTo>
                    <a:lnTo>
                      <a:pt x="121" y="122"/>
                    </a:lnTo>
                    <a:lnTo>
                      <a:pt x="132" y="142"/>
                    </a:lnTo>
                    <a:lnTo>
                      <a:pt x="147" y="166"/>
                    </a:lnTo>
                    <a:lnTo>
                      <a:pt x="167" y="194"/>
                    </a:lnTo>
                    <a:lnTo>
                      <a:pt x="184" y="220"/>
                    </a:lnTo>
                    <a:lnTo>
                      <a:pt x="192" y="246"/>
                    </a:lnTo>
                    <a:lnTo>
                      <a:pt x="196" y="279"/>
                    </a:lnTo>
                    <a:lnTo>
                      <a:pt x="189" y="307"/>
                    </a:lnTo>
                    <a:lnTo>
                      <a:pt x="178" y="328"/>
                    </a:lnTo>
                    <a:lnTo>
                      <a:pt x="162" y="345"/>
                    </a:lnTo>
                    <a:lnTo>
                      <a:pt x="141" y="361"/>
                    </a:lnTo>
                    <a:lnTo>
                      <a:pt x="121" y="368"/>
                    </a:lnTo>
                    <a:lnTo>
                      <a:pt x="99" y="371"/>
                    </a:lnTo>
                    <a:lnTo>
                      <a:pt x="76" y="368"/>
                    </a:lnTo>
                    <a:lnTo>
                      <a:pt x="54" y="362"/>
                    </a:lnTo>
                    <a:lnTo>
                      <a:pt x="34" y="351"/>
                    </a:lnTo>
                    <a:lnTo>
                      <a:pt x="19" y="335"/>
                    </a:lnTo>
                    <a:lnTo>
                      <a:pt x="8" y="316"/>
                    </a:lnTo>
                    <a:lnTo>
                      <a:pt x="3" y="297"/>
                    </a:lnTo>
                    <a:lnTo>
                      <a:pt x="0" y="272"/>
                    </a:lnTo>
                    <a:lnTo>
                      <a:pt x="5" y="240"/>
                    </a:lnTo>
                    <a:lnTo>
                      <a:pt x="13" y="218"/>
                    </a:lnTo>
                    <a:lnTo>
                      <a:pt x="30" y="191"/>
                    </a:lnTo>
                    <a:lnTo>
                      <a:pt x="49" y="166"/>
                    </a:lnTo>
                    <a:lnTo>
                      <a:pt x="62" y="141"/>
                    </a:lnTo>
                    <a:lnTo>
                      <a:pt x="72" y="120"/>
                    </a:lnTo>
                    <a:lnTo>
                      <a:pt x="81" y="90"/>
                    </a:lnTo>
                    <a:lnTo>
                      <a:pt x="86" y="58"/>
                    </a:lnTo>
                    <a:lnTo>
                      <a:pt x="95" y="0"/>
                    </a:lnTo>
                    <a:close/>
                  </a:path>
                </a:pathLst>
              </a:cu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0" name=""/>
              <p:cNvSpPr/>
              <p:nvPr/>
            </p:nvSpPr>
            <p:spPr>
              <a:xfrm>
                <a:off x="5083920" y="4523400"/>
                <a:ext cx="24480" cy="49320"/>
              </a:xfrm>
              <a:custGeom>
                <a:avLst/>
                <a:gdLst/>
                <a:ahLst/>
                <a:rect l="l" t="t" r="r" b="b"/>
                <a:pathLst>
                  <a:path w="196" h="372">
                    <a:moveTo>
                      <a:pt x="95" y="0"/>
                    </a:moveTo>
                    <a:lnTo>
                      <a:pt x="105" y="59"/>
                    </a:lnTo>
                    <a:lnTo>
                      <a:pt x="111" y="88"/>
                    </a:lnTo>
                    <a:lnTo>
                      <a:pt x="121" y="122"/>
                    </a:lnTo>
                    <a:lnTo>
                      <a:pt x="132" y="143"/>
                    </a:lnTo>
                    <a:lnTo>
                      <a:pt x="147" y="167"/>
                    </a:lnTo>
                    <a:lnTo>
                      <a:pt x="167" y="195"/>
                    </a:lnTo>
                    <a:lnTo>
                      <a:pt x="184" y="220"/>
                    </a:lnTo>
                    <a:lnTo>
                      <a:pt x="192" y="247"/>
                    </a:lnTo>
                    <a:lnTo>
                      <a:pt x="196" y="279"/>
                    </a:lnTo>
                    <a:lnTo>
                      <a:pt x="189" y="308"/>
                    </a:lnTo>
                    <a:lnTo>
                      <a:pt x="178" y="328"/>
                    </a:lnTo>
                    <a:lnTo>
                      <a:pt x="162" y="345"/>
                    </a:lnTo>
                    <a:lnTo>
                      <a:pt x="141" y="361"/>
                    </a:lnTo>
                    <a:lnTo>
                      <a:pt x="121" y="369"/>
                    </a:lnTo>
                    <a:lnTo>
                      <a:pt x="99" y="372"/>
                    </a:lnTo>
                    <a:lnTo>
                      <a:pt x="76" y="369"/>
                    </a:lnTo>
                    <a:lnTo>
                      <a:pt x="54" y="363"/>
                    </a:lnTo>
                    <a:lnTo>
                      <a:pt x="34" y="351"/>
                    </a:lnTo>
                    <a:lnTo>
                      <a:pt x="19" y="336"/>
                    </a:lnTo>
                    <a:lnTo>
                      <a:pt x="8" y="317"/>
                    </a:lnTo>
                    <a:lnTo>
                      <a:pt x="3" y="298"/>
                    </a:lnTo>
                    <a:lnTo>
                      <a:pt x="0" y="272"/>
                    </a:lnTo>
                    <a:lnTo>
                      <a:pt x="5" y="242"/>
                    </a:lnTo>
                    <a:lnTo>
                      <a:pt x="13" y="219"/>
                    </a:lnTo>
                    <a:lnTo>
                      <a:pt x="30" y="191"/>
                    </a:lnTo>
                    <a:lnTo>
                      <a:pt x="49" y="167"/>
                    </a:lnTo>
                    <a:lnTo>
                      <a:pt x="62" y="141"/>
                    </a:lnTo>
                    <a:lnTo>
                      <a:pt x="72" y="120"/>
                    </a:lnTo>
                    <a:lnTo>
                      <a:pt x="81" y="90"/>
                    </a:lnTo>
                    <a:lnTo>
                      <a:pt x="86" y="59"/>
                    </a:lnTo>
                    <a:lnTo>
                      <a:pt x="95" y="0"/>
                    </a:lnTo>
                    <a:close/>
                  </a:path>
                </a:pathLst>
              </a:cu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651" name=""/>
          <p:cNvGrpSpPr/>
          <p:nvPr/>
        </p:nvGrpSpPr>
        <p:grpSpPr>
          <a:xfrm>
            <a:off x="5200560" y="4452120"/>
            <a:ext cx="793800" cy="734400"/>
            <a:chOff x="5200560" y="4452120"/>
            <a:chExt cx="793800" cy="734400"/>
          </a:xfrm>
        </p:grpSpPr>
        <p:sp>
          <p:nvSpPr>
            <p:cNvPr id="8652" name=""/>
            <p:cNvSpPr/>
            <p:nvPr/>
          </p:nvSpPr>
          <p:spPr>
            <a:xfrm rot="6456000">
              <a:off x="5357520" y="4381200"/>
              <a:ext cx="199800" cy="475920"/>
            </a:xfrm>
            <a:prstGeom prst="can">
              <a:avLst>
                <a:gd name="adj" fmla="val 25000"/>
              </a:avLst>
            </a:prstGeom>
            <a:solidFill>
              <a:srgbClr val="80808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3" name=""/>
            <p:cNvSpPr/>
            <p:nvPr/>
          </p:nvSpPr>
          <p:spPr>
            <a:xfrm>
              <a:off x="5563440" y="4638240"/>
              <a:ext cx="430920" cy="548280"/>
            </a:xfrm>
            <a:custGeom>
              <a:avLst/>
              <a:gdLst/>
              <a:ahLst/>
              <a:rect l="l" t="t" r="r" b="b"/>
              <a:pathLst>
                <a:path w="740" h="830">
                  <a:moveTo>
                    <a:pt x="16" y="158"/>
                  </a:moveTo>
                  <a:cubicBezTo>
                    <a:pt x="30" y="199"/>
                    <a:pt x="63" y="176"/>
                    <a:pt x="78" y="213"/>
                  </a:cubicBezTo>
                  <a:cubicBezTo>
                    <a:pt x="87" y="240"/>
                    <a:pt x="103" y="258"/>
                    <a:pt x="115" y="286"/>
                  </a:cubicBezTo>
                  <a:cubicBezTo>
                    <a:pt x="123" y="302"/>
                    <a:pt x="128" y="320"/>
                    <a:pt x="134" y="336"/>
                  </a:cubicBezTo>
                  <a:cubicBezTo>
                    <a:pt x="155" y="488"/>
                    <a:pt x="174" y="561"/>
                    <a:pt x="250" y="652"/>
                  </a:cubicBezTo>
                  <a:cubicBezTo>
                    <a:pt x="267" y="714"/>
                    <a:pt x="303" y="810"/>
                    <a:pt x="343" y="810"/>
                  </a:cubicBezTo>
                  <a:cubicBezTo>
                    <a:pt x="427" y="787"/>
                    <a:pt x="660" y="830"/>
                    <a:pt x="740" y="784"/>
                  </a:cubicBezTo>
                  <a:cubicBezTo>
                    <a:pt x="694" y="652"/>
                    <a:pt x="636" y="796"/>
                    <a:pt x="576" y="659"/>
                  </a:cubicBezTo>
                  <a:cubicBezTo>
                    <a:pt x="552" y="609"/>
                    <a:pt x="551" y="529"/>
                    <a:pt x="523" y="484"/>
                  </a:cubicBezTo>
                  <a:cubicBezTo>
                    <a:pt x="510" y="404"/>
                    <a:pt x="505" y="386"/>
                    <a:pt x="463" y="365"/>
                  </a:cubicBezTo>
                  <a:cubicBezTo>
                    <a:pt x="454" y="302"/>
                    <a:pt x="411" y="270"/>
                    <a:pt x="372" y="270"/>
                  </a:cubicBezTo>
                  <a:cubicBezTo>
                    <a:pt x="368" y="252"/>
                    <a:pt x="325" y="186"/>
                    <a:pt x="316" y="179"/>
                  </a:cubicBezTo>
                  <a:cubicBezTo>
                    <a:pt x="293" y="161"/>
                    <a:pt x="241" y="144"/>
                    <a:pt x="214" y="138"/>
                  </a:cubicBezTo>
                  <a:cubicBezTo>
                    <a:pt x="170" y="122"/>
                    <a:pt x="108" y="28"/>
                    <a:pt x="63" y="12"/>
                  </a:cubicBezTo>
                  <a:cubicBezTo>
                    <a:pt x="47" y="0"/>
                    <a:pt x="3" y="58"/>
                    <a:pt x="17" y="58"/>
                  </a:cubicBezTo>
                  <a:cubicBezTo>
                    <a:pt x="17" y="144"/>
                    <a:pt x="0" y="76"/>
                    <a:pt x="16" y="158"/>
                  </a:cubicBezTo>
                  <a:close/>
                </a:path>
              </a:pathLst>
            </a:custGeom>
            <a:blipFill rotWithShape="0">
              <a:blip r:embed="rId1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54" name=""/>
          <p:cNvGrpSpPr/>
          <p:nvPr/>
        </p:nvGrpSpPr>
        <p:grpSpPr>
          <a:xfrm>
            <a:off x="2843280" y="4421160"/>
            <a:ext cx="658800" cy="762120"/>
            <a:chOff x="2843280" y="4421160"/>
            <a:chExt cx="658800" cy="762120"/>
          </a:xfrm>
        </p:grpSpPr>
        <p:pic>
          <p:nvPicPr>
            <p:cNvPr id="8655" name="" descr=""/>
            <p:cNvPicPr/>
            <p:nvPr/>
          </p:nvPicPr>
          <p:blipFill>
            <a:blip r:embed="rId17"/>
            <a:stretch/>
          </p:blipFill>
          <p:spPr>
            <a:xfrm>
              <a:off x="2843280" y="4421160"/>
              <a:ext cx="658800" cy="5335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656" name=""/>
            <p:cNvGrpSpPr/>
            <p:nvPr/>
          </p:nvGrpSpPr>
          <p:grpSpPr>
            <a:xfrm>
              <a:off x="3357000" y="4944240"/>
              <a:ext cx="59760" cy="239040"/>
              <a:chOff x="3357000" y="4944240"/>
              <a:chExt cx="59760" cy="239040"/>
            </a:xfrm>
          </p:grpSpPr>
          <p:sp>
            <p:nvSpPr>
              <p:cNvPr id="8657" name=""/>
              <p:cNvSpPr/>
              <p:nvPr/>
            </p:nvSpPr>
            <p:spPr>
              <a:xfrm>
                <a:off x="3357000" y="4944240"/>
                <a:ext cx="59760" cy="116280"/>
              </a:xfrm>
              <a:custGeom>
                <a:avLst/>
                <a:gdLst/>
                <a:ahLst/>
                <a:rect l="l" t="t" r="r" b="b"/>
                <a:pathLst>
                  <a:path w="196" h="371">
                    <a:moveTo>
                      <a:pt x="95" y="0"/>
                    </a:moveTo>
                    <a:lnTo>
                      <a:pt x="105" y="58"/>
                    </a:lnTo>
                    <a:lnTo>
                      <a:pt x="111" y="88"/>
                    </a:lnTo>
                    <a:lnTo>
                      <a:pt x="121" y="122"/>
                    </a:lnTo>
                    <a:lnTo>
                      <a:pt x="132" y="142"/>
                    </a:lnTo>
                    <a:lnTo>
                      <a:pt x="147" y="166"/>
                    </a:lnTo>
                    <a:lnTo>
                      <a:pt x="167" y="194"/>
                    </a:lnTo>
                    <a:lnTo>
                      <a:pt x="184" y="220"/>
                    </a:lnTo>
                    <a:lnTo>
                      <a:pt x="192" y="246"/>
                    </a:lnTo>
                    <a:lnTo>
                      <a:pt x="196" y="279"/>
                    </a:lnTo>
                    <a:lnTo>
                      <a:pt x="189" y="307"/>
                    </a:lnTo>
                    <a:lnTo>
                      <a:pt x="178" y="328"/>
                    </a:lnTo>
                    <a:lnTo>
                      <a:pt x="162" y="345"/>
                    </a:lnTo>
                    <a:lnTo>
                      <a:pt x="141" y="361"/>
                    </a:lnTo>
                    <a:lnTo>
                      <a:pt x="121" y="368"/>
                    </a:lnTo>
                    <a:lnTo>
                      <a:pt x="99" y="371"/>
                    </a:lnTo>
                    <a:lnTo>
                      <a:pt x="76" y="368"/>
                    </a:lnTo>
                    <a:lnTo>
                      <a:pt x="54" y="362"/>
                    </a:lnTo>
                    <a:lnTo>
                      <a:pt x="34" y="351"/>
                    </a:lnTo>
                    <a:lnTo>
                      <a:pt x="19" y="335"/>
                    </a:lnTo>
                    <a:lnTo>
                      <a:pt x="8" y="316"/>
                    </a:lnTo>
                    <a:lnTo>
                      <a:pt x="3" y="297"/>
                    </a:lnTo>
                    <a:lnTo>
                      <a:pt x="0" y="272"/>
                    </a:lnTo>
                    <a:lnTo>
                      <a:pt x="5" y="240"/>
                    </a:lnTo>
                    <a:lnTo>
                      <a:pt x="13" y="218"/>
                    </a:lnTo>
                    <a:lnTo>
                      <a:pt x="30" y="191"/>
                    </a:lnTo>
                    <a:lnTo>
                      <a:pt x="49" y="166"/>
                    </a:lnTo>
                    <a:lnTo>
                      <a:pt x="62" y="141"/>
                    </a:lnTo>
                    <a:lnTo>
                      <a:pt x="72" y="120"/>
                    </a:lnTo>
                    <a:lnTo>
                      <a:pt x="81" y="90"/>
                    </a:lnTo>
                    <a:lnTo>
                      <a:pt x="86" y="58"/>
                    </a:lnTo>
                    <a:lnTo>
                      <a:pt x="95" y="0"/>
                    </a:lnTo>
                    <a:close/>
                  </a:path>
                </a:pathLst>
              </a:cu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8" name=""/>
              <p:cNvSpPr/>
              <p:nvPr/>
            </p:nvSpPr>
            <p:spPr>
              <a:xfrm>
                <a:off x="3357000" y="5067000"/>
                <a:ext cx="59760" cy="116280"/>
              </a:xfrm>
              <a:custGeom>
                <a:avLst/>
                <a:gdLst/>
                <a:ahLst/>
                <a:rect l="l" t="t" r="r" b="b"/>
                <a:pathLst>
                  <a:path w="196" h="372">
                    <a:moveTo>
                      <a:pt x="95" y="0"/>
                    </a:moveTo>
                    <a:lnTo>
                      <a:pt x="105" y="59"/>
                    </a:lnTo>
                    <a:lnTo>
                      <a:pt x="111" y="88"/>
                    </a:lnTo>
                    <a:lnTo>
                      <a:pt x="121" y="122"/>
                    </a:lnTo>
                    <a:lnTo>
                      <a:pt x="132" y="143"/>
                    </a:lnTo>
                    <a:lnTo>
                      <a:pt x="147" y="167"/>
                    </a:lnTo>
                    <a:lnTo>
                      <a:pt x="167" y="195"/>
                    </a:lnTo>
                    <a:lnTo>
                      <a:pt x="184" y="220"/>
                    </a:lnTo>
                    <a:lnTo>
                      <a:pt x="192" y="247"/>
                    </a:lnTo>
                    <a:lnTo>
                      <a:pt x="196" y="279"/>
                    </a:lnTo>
                    <a:lnTo>
                      <a:pt x="189" y="308"/>
                    </a:lnTo>
                    <a:lnTo>
                      <a:pt x="178" y="328"/>
                    </a:lnTo>
                    <a:lnTo>
                      <a:pt x="162" y="345"/>
                    </a:lnTo>
                    <a:lnTo>
                      <a:pt x="141" y="361"/>
                    </a:lnTo>
                    <a:lnTo>
                      <a:pt x="121" y="369"/>
                    </a:lnTo>
                    <a:lnTo>
                      <a:pt x="99" y="372"/>
                    </a:lnTo>
                    <a:lnTo>
                      <a:pt x="76" y="369"/>
                    </a:lnTo>
                    <a:lnTo>
                      <a:pt x="54" y="363"/>
                    </a:lnTo>
                    <a:lnTo>
                      <a:pt x="34" y="351"/>
                    </a:lnTo>
                    <a:lnTo>
                      <a:pt x="19" y="336"/>
                    </a:lnTo>
                    <a:lnTo>
                      <a:pt x="8" y="317"/>
                    </a:lnTo>
                    <a:lnTo>
                      <a:pt x="3" y="298"/>
                    </a:lnTo>
                    <a:lnTo>
                      <a:pt x="0" y="272"/>
                    </a:lnTo>
                    <a:lnTo>
                      <a:pt x="5" y="242"/>
                    </a:lnTo>
                    <a:lnTo>
                      <a:pt x="13" y="219"/>
                    </a:lnTo>
                    <a:lnTo>
                      <a:pt x="30" y="191"/>
                    </a:lnTo>
                    <a:lnTo>
                      <a:pt x="49" y="167"/>
                    </a:lnTo>
                    <a:lnTo>
                      <a:pt x="62" y="141"/>
                    </a:lnTo>
                    <a:lnTo>
                      <a:pt x="72" y="120"/>
                    </a:lnTo>
                    <a:lnTo>
                      <a:pt x="81" y="90"/>
                    </a:lnTo>
                    <a:lnTo>
                      <a:pt x="86" y="59"/>
                    </a:lnTo>
                    <a:lnTo>
                      <a:pt x="95" y="0"/>
                    </a:lnTo>
                    <a:close/>
                  </a:path>
                </a:pathLst>
              </a:cu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659" name=""/>
          <p:cNvGrpSpPr/>
          <p:nvPr/>
        </p:nvGrpSpPr>
        <p:grpSpPr>
          <a:xfrm>
            <a:off x="2631600" y="4773240"/>
            <a:ext cx="251280" cy="268560"/>
            <a:chOff x="2631600" y="4773240"/>
            <a:chExt cx="251280" cy="268560"/>
          </a:xfrm>
        </p:grpSpPr>
        <p:sp>
          <p:nvSpPr>
            <p:cNvPr id="8660" name=""/>
            <p:cNvSpPr/>
            <p:nvPr/>
          </p:nvSpPr>
          <p:spPr>
            <a:xfrm rot="6456000">
              <a:off x="2676960" y="4755960"/>
              <a:ext cx="74160" cy="149400"/>
            </a:xfrm>
            <a:prstGeom prst="can">
              <a:avLst>
                <a:gd name="adj" fmla="val 25000"/>
              </a:avLst>
            </a:prstGeom>
            <a:solidFill>
              <a:srgbClr val="80808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1" name=""/>
            <p:cNvSpPr/>
            <p:nvPr/>
          </p:nvSpPr>
          <p:spPr>
            <a:xfrm>
              <a:off x="2747520" y="4838040"/>
              <a:ext cx="135360" cy="203760"/>
            </a:xfrm>
            <a:custGeom>
              <a:avLst/>
              <a:gdLst/>
              <a:ahLst/>
              <a:rect l="l" t="t" r="r" b="b"/>
              <a:pathLst>
                <a:path w="740" h="830">
                  <a:moveTo>
                    <a:pt x="16" y="158"/>
                  </a:moveTo>
                  <a:cubicBezTo>
                    <a:pt x="30" y="199"/>
                    <a:pt x="63" y="176"/>
                    <a:pt x="78" y="213"/>
                  </a:cubicBezTo>
                  <a:cubicBezTo>
                    <a:pt x="87" y="240"/>
                    <a:pt x="103" y="258"/>
                    <a:pt x="115" y="286"/>
                  </a:cubicBezTo>
                  <a:cubicBezTo>
                    <a:pt x="123" y="302"/>
                    <a:pt x="128" y="320"/>
                    <a:pt x="134" y="336"/>
                  </a:cubicBezTo>
                  <a:cubicBezTo>
                    <a:pt x="155" y="488"/>
                    <a:pt x="174" y="561"/>
                    <a:pt x="250" y="652"/>
                  </a:cubicBezTo>
                  <a:cubicBezTo>
                    <a:pt x="267" y="714"/>
                    <a:pt x="303" y="810"/>
                    <a:pt x="343" y="810"/>
                  </a:cubicBezTo>
                  <a:cubicBezTo>
                    <a:pt x="427" y="787"/>
                    <a:pt x="660" y="830"/>
                    <a:pt x="740" y="784"/>
                  </a:cubicBezTo>
                  <a:cubicBezTo>
                    <a:pt x="694" y="652"/>
                    <a:pt x="636" y="796"/>
                    <a:pt x="576" y="659"/>
                  </a:cubicBezTo>
                  <a:cubicBezTo>
                    <a:pt x="552" y="609"/>
                    <a:pt x="551" y="529"/>
                    <a:pt x="523" y="484"/>
                  </a:cubicBezTo>
                  <a:cubicBezTo>
                    <a:pt x="510" y="404"/>
                    <a:pt x="505" y="386"/>
                    <a:pt x="463" y="365"/>
                  </a:cubicBezTo>
                  <a:cubicBezTo>
                    <a:pt x="454" y="302"/>
                    <a:pt x="411" y="270"/>
                    <a:pt x="372" y="270"/>
                  </a:cubicBezTo>
                  <a:cubicBezTo>
                    <a:pt x="368" y="252"/>
                    <a:pt x="325" y="186"/>
                    <a:pt x="316" y="179"/>
                  </a:cubicBezTo>
                  <a:cubicBezTo>
                    <a:pt x="293" y="161"/>
                    <a:pt x="241" y="144"/>
                    <a:pt x="214" y="138"/>
                  </a:cubicBezTo>
                  <a:cubicBezTo>
                    <a:pt x="170" y="122"/>
                    <a:pt x="108" y="28"/>
                    <a:pt x="63" y="12"/>
                  </a:cubicBezTo>
                  <a:cubicBezTo>
                    <a:pt x="47" y="0"/>
                    <a:pt x="3" y="58"/>
                    <a:pt x="17" y="58"/>
                  </a:cubicBezTo>
                  <a:cubicBezTo>
                    <a:pt x="17" y="144"/>
                    <a:pt x="0" y="76"/>
                    <a:pt x="16" y="158"/>
                  </a:cubicBezTo>
                  <a:close/>
                </a:path>
              </a:pathLst>
            </a:custGeom>
            <a:blipFill rotWithShape="0">
              <a:blip r:embed="rId1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62" name=""/>
          <p:cNvSpPr/>
          <p:nvPr/>
        </p:nvSpPr>
        <p:spPr>
          <a:xfrm>
            <a:off x="308880" y="3598920"/>
            <a:ext cx="21664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Euvolemick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hyperosmolari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63" name=""/>
          <p:cNvGrpSpPr/>
          <p:nvPr/>
        </p:nvGrpSpPr>
        <p:grpSpPr>
          <a:xfrm>
            <a:off x="1608480" y="2719440"/>
            <a:ext cx="461160" cy="549360"/>
            <a:chOff x="1608480" y="2719440"/>
            <a:chExt cx="461160" cy="549360"/>
          </a:xfrm>
        </p:grpSpPr>
        <p:grpSp>
          <p:nvGrpSpPr>
            <p:cNvPr id="8664" name=""/>
            <p:cNvGrpSpPr/>
            <p:nvPr/>
          </p:nvGrpSpPr>
          <p:grpSpPr>
            <a:xfrm>
              <a:off x="1608480" y="2738520"/>
              <a:ext cx="404640" cy="275040"/>
              <a:chOff x="1608480" y="2738520"/>
              <a:chExt cx="404640" cy="275040"/>
            </a:xfrm>
          </p:grpSpPr>
          <p:grpSp>
            <p:nvGrpSpPr>
              <p:cNvPr id="8665" name=""/>
              <p:cNvGrpSpPr/>
              <p:nvPr/>
            </p:nvGrpSpPr>
            <p:grpSpPr>
              <a:xfrm>
                <a:off x="1608480" y="2768760"/>
                <a:ext cx="392400" cy="244800"/>
                <a:chOff x="1608480" y="2768760"/>
                <a:chExt cx="392400" cy="244800"/>
              </a:xfrm>
            </p:grpSpPr>
            <p:grpSp>
              <p:nvGrpSpPr>
                <p:cNvPr id="8666" name=""/>
                <p:cNvGrpSpPr/>
                <p:nvPr/>
              </p:nvGrpSpPr>
              <p:grpSpPr>
                <a:xfrm>
                  <a:off x="1608480" y="2768760"/>
                  <a:ext cx="391680" cy="244800"/>
                  <a:chOff x="1608480" y="2768760"/>
                  <a:chExt cx="391680" cy="244800"/>
                </a:xfrm>
              </p:grpSpPr>
              <p:sp>
                <p:nvSpPr>
                  <p:cNvPr id="8667" name=""/>
                  <p:cNvSpPr/>
                  <p:nvPr/>
                </p:nvSpPr>
                <p:spPr>
                  <a:xfrm rot="1404600">
                    <a:off x="1605960" y="2871720"/>
                    <a:ext cx="383400" cy="68400"/>
                  </a:xfrm>
                  <a:prstGeom prst="ellipse">
                    <a:avLst/>
                  </a:prstGeom>
                  <a:solidFill>
                    <a:srgbClr val="e0e0e0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" bIns="2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68" name=""/>
                  <p:cNvSpPr/>
                  <p:nvPr/>
                </p:nvSpPr>
                <p:spPr>
                  <a:xfrm rot="1404600">
                    <a:off x="1619280" y="2841840"/>
                    <a:ext cx="383400" cy="66960"/>
                  </a:xfrm>
                  <a:prstGeom prst="rect">
                    <a:avLst/>
                  </a:pr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160" bIns="20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669" name=""/>
                <p:cNvSpPr/>
                <p:nvPr/>
              </p:nvSpPr>
              <p:spPr>
                <a:xfrm flipV="1">
                  <a:off x="1619280" y="2769120"/>
                  <a:ext cx="28800" cy="6408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70" name=""/>
                <p:cNvSpPr/>
                <p:nvPr/>
              </p:nvSpPr>
              <p:spPr>
                <a:xfrm flipH="1">
                  <a:off x="1974600" y="2924640"/>
                  <a:ext cx="26280" cy="6228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671" name=""/>
              <p:cNvGrpSpPr/>
              <p:nvPr/>
            </p:nvGrpSpPr>
            <p:grpSpPr>
              <a:xfrm>
                <a:off x="1634400" y="2738520"/>
                <a:ext cx="378720" cy="214560"/>
                <a:chOff x="1634400" y="2738520"/>
                <a:chExt cx="378720" cy="214560"/>
              </a:xfrm>
            </p:grpSpPr>
            <p:sp>
              <p:nvSpPr>
                <p:cNvPr id="8672" name=""/>
                <p:cNvSpPr/>
                <p:nvPr/>
              </p:nvSpPr>
              <p:spPr>
                <a:xfrm rot="1404600">
                  <a:off x="1631880" y="2811600"/>
                  <a:ext cx="383400" cy="67680"/>
                </a:xfrm>
                <a:prstGeom prst="ellipse">
                  <a:avLst/>
                </a:prstGeom>
                <a:solidFill>
                  <a:srgbClr val="e0e0e0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" bIns="1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73" name=""/>
                <p:cNvSpPr/>
                <p:nvPr/>
              </p:nvSpPr>
              <p:spPr>
                <a:xfrm rot="1404600">
                  <a:off x="1642680" y="2821320"/>
                  <a:ext cx="359640" cy="52920"/>
                </a:xfrm>
                <a:prstGeom prst="ellipse">
                  <a:avLst/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674" name=""/>
            <p:cNvSpPr/>
            <p:nvPr/>
          </p:nvSpPr>
          <p:spPr>
            <a:xfrm>
              <a:off x="1640520" y="2719440"/>
              <a:ext cx="429120" cy="549360"/>
            </a:xfrm>
            <a:custGeom>
              <a:avLst/>
              <a:gdLst/>
              <a:ahLst/>
              <a:rect l="l" t="t" r="r" b="b"/>
              <a:pathLst>
                <a:path w="410" h="554">
                  <a:moveTo>
                    <a:pt x="196" y="30"/>
                  </a:moveTo>
                  <a:cubicBezTo>
                    <a:pt x="95" y="0"/>
                    <a:pt x="0" y="54"/>
                    <a:pt x="4" y="68"/>
                  </a:cubicBezTo>
                  <a:cubicBezTo>
                    <a:pt x="4" y="82"/>
                    <a:pt x="124" y="130"/>
                    <a:pt x="178" y="151"/>
                  </a:cubicBezTo>
                  <a:cubicBezTo>
                    <a:pt x="219" y="170"/>
                    <a:pt x="223" y="170"/>
                    <a:pt x="247" y="177"/>
                  </a:cubicBezTo>
                  <a:cubicBezTo>
                    <a:pt x="272" y="184"/>
                    <a:pt x="310" y="160"/>
                    <a:pt x="327" y="195"/>
                  </a:cubicBezTo>
                  <a:cubicBezTo>
                    <a:pt x="351" y="214"/>
                    <a:pt x="350" y="331"/>
                    <a:pt x="348" y="385"/>
                  </a:cubicBezTo>
                  <a:cubicBezTo>
                    <a:pt x="346" y="439"/>
                    <a:pt x="312" y="494"/>
                    <a:pt x="315" y="517"/>
                  </a:cubicBezTo>
                  <a:cubicBezTo>
                    <a:pt x="318" y="540"/>
                    <a:pt x="353" y="522"/>
                    <a:pt x="367" y="523"/>
                  </a:cubicBezTo>
                  <a:cubicBezTo>
                    <a:pt x="381" y="524"/>
                    <a:pt x="398" y="554"/>
                    <a:pt x="400" y="523"/>
                  </a:cubicBezTo>
                  <a:cubicBezTo>
                    <a:pt x="410" y="504"/>
                    <a:pt x="388" y="393"/>
                    <a:pt x="381" y="339"/>
                  </a:cubicBezTo>
                  <a:cubicBezTo>
                    <a:pt x="374" y="285"/>
                    <a:pt x="378" y="240"/>
                    <a:pt x="358" y="198"/>
                  </a:cubicBezTo>
                  <a:cubicBezTo>
                    <a:pt x="338" y="156"/>
                    <a:pt x="287" y="113"/>
                    <a:pt x="261" y="85"/>
                  </a:cubicBezTo>
                  <a:cubicBezTo>
                    <a:pt x="234" y="57"/>
                    <a:pt x="210" y="42"/>
                    <a:pt x="196" y="30"/>
                  </a:cubicBezTo>
                  <a:close/>
                </a:path>
              </a:pathLst>
            </a:custGeom>
            <a:blipFill rotWithShape="0">
              <a:blip r:embed="rId1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75" name=""/>
          <p:cNvSpPr/>
          <p:nvPr/>
        </p:nvSpPr>
        <p:spPr>
          <a:xfrm rot="19641000">
            <a:off x="1801080" y="4279680"/>
            <a:ext cx="212688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600" spc="-1" strike="noStrike">
                <a:solidFill>
                  <a:srgbClr val="000000"/>
                </a:solidFill>
                <a:latin typeface="Times New Roman"/>
              </a:rPr>
              <a:t>ztráta vody &gt; ztráta solí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6" name=""/>
          <p:cNvSpPr/>
          <p:nvPr/>
        </p:nvSpPr>
        <p:spPr>
          <a:xfrm rot="2301600">
            <a:off x="4567680" y="4254480"/>
            <a:ext cx="212688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600" spc="-1" strike="noStrike">
                <a:solidFill>
                  <a:srgbClr val="000000"/>
                </a:solidFill>
                <a:latin typeface="Times New Roman"/>
              </a:rPr>
              <a:t>ztráta vody &lt; ztráta solí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7" name=""/>
          <p:cNvSpPr/>
          <p:nvPr/>
        </p:nvSpPr>
        <p:spPr>
          <a:xfrm rot="5388000">
            <a:off x="3368160" y="4686480"/>
            <a:ext cx="212688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600" spc="-1" strike="noStrike">
                <a:solidFill>
                  <a:srgbClr val="000000"/>
                </a:solidFill>
                <a:latin typeface="Times New Roman"/>
              </a:rPr>
              <a:t>ztráta vody = ztráta solí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8" name=""/>
          <p:cNvSpPr/>
          <p:nvPr/>
        </p:nvSpPr>
        <p:spPr>
          <a:xfrm rot="5388000">
            <a:off x="3841560" y="2106720"/>
            <a:ext cx="12826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1600" spc="-1" strike="noStrike">
                <a:solidFill>
                  <a:srgbClr val="000000"/>
                </a:solidFill>
                <a:latin typeface="Times New Roman"/>
              </a:rPr>
              <a:t>příjem vod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1600" spc="-1" strike="noStrike">
                <a:solidFill>
                  <a:srgbClr val="000000"/>
                </a:solidFill>
                <a:latin typeface="Times New Roman"/>
              </a:rPr>
              <a:t>= příjem solí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9" name=""/>
          <p:cNvSpPr/>
          <p:nvPr/>
        </p:nvSpPr>
        <p:spPr>
          <a:xfrm rot="18898800">
            <a:off x="4451040" y="1658160"/>
            <a:ext cx="225792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600" spc="-1" strike="noStrike">
                <a:solidFill>
                  <a:srgbClr val="000000"/>
                </a:solidFill>
                <a:latin typeface="Times New Roman"/>
              </a:rPr>
              <a:t>příjem vody &gt; příjem solí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0" name=""/>
          <p:cNvSpPr/>
          <p:nvPr/>
        </p:nvSpPr>
        <p:spPr>
          <a:xfrm rot="2508600">
            <a:off x="2128680" y="1957320"/>
            <a:ext cx="225792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600" spc="-1" strike="noStrike">
                <a:solidFill>
                  <a:srgbClr val="000000"/>
                </a:solidFill>
                <a:latin typeface="Times New Roman"/>
              </a:rPr>
              <a:t>příjem vody &lt; příjem solí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1" name=""/>
          <p:cNvSpPr/>
          <p:nvPr/>
        </p:nvSpPr>
        <p:spPr>
          <a:xfrm>
            <a:off x="2120040" y="2968560"/>
            <a:ext cx="113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600" spc="-1" strike="noStrike">
                <a:solidFill>
                  <a:srgbClr val="000000"/>
                </a:solidFill>
                <a:latin typeface="Times New Roman"/>
              </a:rPr>
              <a:t>retence solí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82" name=""/>
          <p:cNvGrpSpPr/>
          <p:nvPr/>
        </p:nvGrpSpPr>
        <p:grpSpPr>
          <a:xfrm>
            <a:off x="5613480" y="3277440"/>
            <a:ext cx="793800" cy="733680"/>
            <a:chOff x="5613480" y="3277440"/>
            <a:chExt cx="793800" cy="733680"/>
          </a:xfrm>
        </p:grpSpPr>
        <p:sp>
          <p:nvSpPr>
            <p:cNvPr id="8683" name=""/>
            <p:cNvSpPr/>
            <p:nvPr/>
          </p:nvSpPr>
          <p:spPr>
            <a:xfrm rot="6456000">
              <a:off x="5770440" y="3206520"/>
              <a:ext cx="199800" cy="475920"/>
            </a:xfrm>
            <a:prstGeom prst="can">
              <a:avLst>
                <a:gd name="adj" fmla="val 25000"/>
              </a:avLst>
            </a:prstGeom>
            <a:solidFill>
              <a:srgbClr val="80808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4" name=""/>
            <p:cNvSpPr/>
            <p:nvPr/>
          </p:nvSpPr>
          <p:spPr>
            <a:xfrm>
              <a:off x="5976360" y="3463200"/>
              <a:ext cx="430920" cy="547920"/>
            </a:xfrm>
            <a:custGeom>
              <a:avLst/>
              <a:gdLst/>
              <a:ahLst/>
              <a:rect l="l" t="t" r="r" b="b"/>
              <a:pathLst>
                <a:path w="740" h="830">
                  <a:moveTo>
                    <a:pt x="16" y="158"/>
                  </a:moveTo>
                  <a:cubicBezTo>
                    <a:pt x="30" y="199"/>
                    <a:pt x="63" y="176"/>
                    <a:pt x="78" y="213"/>
                  </a:cubicBezTo>
                  <a:cubicBezTo>
                    <a:pt x="87" y="240"/>
                    <a:pt x="103" y="258"/>
                    <a:pt x="115" y="286"/>
                  </a:cubicBezTo>
                  <a:cubicBezTo>
                    <a:pt x="123" y="302"/>
                    <a:pt x="128" y="320"/>
                    <a:pt x="134" y="336"/>
                  </a:cubicBezTo>
                  <a:cubicBezTo>
                    <a:pt x="155" y="488"/>
                    <a:pt x="174" y="561"/>
                    <a:pt x="250" y="652"/>
                  </a:cubicBezTo>
                  <a:cubicBezTo>
                    <a:pt x="267" y="714"/>
                    <a:pt x="303" y="810"/>
                    <a:pt x="343" y="810"/>
                  </a:cubicBezTo>
                  <a:cubicBezTo>
                    <a:pt x="427" y="787"/>
                    <a:pt x="660" y="830"/>
                    <a:pt x="740" y="784"/>
                  </a:cubicBezTo>
                  <a:cubicBezTo>
                    <a:pt x="694" y="652"/>
                    <a:pt x="636" y="796"/>
                    <a:pt x="576" y="659"/>
                  </a:cubicBezTo>
                  <a:cubicBezTo>
                    <a:pt x="552" y="609"/>
                    <a:pt x="551" y="529"/>
                    <a:pt x="523" y="484"/>
                  </a:cubicBezTo>
                  <a:cubicBezTo>
                    <a:pt x="510" y="404"/>
                    <a:pt x="505" y="386"/>
                    <a:pt x="463" y="365"/>
                  </a:cubicBezTo>
                  <a:cubicBezTo>
                    <a:pt x="454" y="302"/>
                    <a:pt x="411" y="270"/>
                    <a:pt x="372" y="270"/>
                  </a:cubicBezTo>
                  <a:cubicBezTo>
                    <a:pt x="368" y="252"/>
                    <a:pt x="325" y="186"/>
                    <a:pt x="316" y="179"/>
                  </a:cubicBezTo>
                  <a:cubicBezTo>
                    <a:pt x="293" y="161"/>
                    <a:pt x="241" y="144"/>
                    <a:pt x="214" y="138"/>
                  </a:cubicBezTo>
                  <a:cubicBezTo>
                    <a:pt x="170" y="122"/>
                    <a:pt x="108" y="28"/>
                    <a:pt x="63" y="12"/>
                  </a:cubicBezTo>
                  <a:cubicBezTo>
                    <a:pt x="47" y="0"/>
                    <a:pt x="3" y="58"/>
                    <a:pt x="17" y="58"/>
                  </a:cubicBezTo>
                  <a:cubicBezTo>
                    <a:pt x="17" y="144"/>
                    <a:pt x="0" y="76"/>
                    <a:pt x="16" y="158"/>
                  </a:cubicBezTo>
                  <a:close/>
                </a:path>
              </a:pathLst>
            </a:custGeom>
            <a:blipFill rotWithShape="0">
              <a:blip r:embed="rId2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85" name=""/>
          <p:cNvSpPr/>
          <p:nvPr/>
        </p:nvSpPr>
        <p:spPr>
          <a:xfrm>
            <a:off x="6068520" y="3009960"/>
            <a:ext cx="1000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600" spc="-1" strike="noStrike">
                <a:solidFill>
                  <a:srgbClr val="000000"/>
                </a:solidFill>
                <a:latin typeface="Times New Roman"/>
              </a:rPr>
              <a:t>ztráta solí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6" name=""/>
          <p:cNvSpPr/>
          <p:nvPr/>
        </p:nvSpPr>
        <p:spPr>
          <a:xfrm>
            <a:off x="903240" y="4172040"/>
            <a:ext cx="682560" cy="9954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7" name=""/>
          <p:cNvSpPr/>
          <p:nvPr/>
        </p:nvSpPr>
        <p:spPr>
          <a:xfrm flipH="1">
            <a:off x="682200" y="1677960"/>
            <a:ext cx="762120" cy="1224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8" name=""/>
          <p:cNvSpPr/>
          <p:nvPr/>
        </p:nvSpPr>
        <p:spPr>
          <a:xfrm flipH="1">
            <a:off x="4557600" y="5324400"/>
            <a:ext cx="2059200" cy="7970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9" name=""/>
          <p:cNvSpPr/>
          <p:nvPr/>
        </p:nvSpPr>
        <p:spPr>
          <a:xfrm flipH="1" flipV="1">
            <a:off x="1914480" y="5414760"/>
            <a:ext cx="2232000" cy="657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0" name=""/>
          <p:cNvSpPr/>
          <p:nvPr/>
        </p:nvSpPr>
        <p:spPr>
          <a:xfrm flipH="1">
            <a:off x="6873840" y="4302000"/>
            <a:ext cx="960480" cy="7905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1" name=""/>
          <p:cNvSpPr/>
          <p:nvPr/>
        </p:nvSpPr>
        <p:spPr>
          <a:xfrm>
            <a:off x="7088040" y="1677960"/>
            <a:ext cx="836640" cy="12794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2" name=""/>
          <p:cNvSpPr/>
          <p:nvPr/>
        </p:nvSpPr>
        <p:spPr>
          <a:xfrm>
            <a:off x="4829040" y="839880"/>
            <a:ext cx="159408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3" name=""/>
          <p:cNvSpPr/>
          <p:nvPr/>
        </p:nvSpPr>
        <p:spPr>
          <a:xfrm>
            <a:off x="2251080" y="839880"/>
            <a:ext cx="15937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4" name=""/>
          <p:cNvSpPr/>
          <p:nvPr/>
        </p:nvSpPr>
        <p:spPr>
          <a:xfrm>
            <a:off x="4386240" y="3686040"/>
            <a:ext cx="392040" cy="2300400"/>
          </a:xfrm>
          <a:custGeom>
            <a:avLst/>
            <a:gdLst/>
            <a:ahLst/>
            <a:rect l="l" t="t" r="r" b="b"/>
            <a:pathLst>
              <a:path w="247" h="1449">
                <a:moveTo>
                  <a:pt x="133" y="1449"/>
                </a:moveTo>
                <a:cubicBezTo>
                  <a:pt x="150" y="1414"/>
                  <a:pt x="218" y="1434"/>
                  <a:pt x="237" y="1237"/>
                </a:cubicBezTo>
                <a:lnTo>
                  <a:pt x="247" y="269"/>
                </a:lnTo>
                <a:cubicBezTo>
                  <a:pt x="208" y="63"/>
                  <a:pt x="51" y="56"/>
                  <a:pt x="0" y="0"/>
                </a:cubicBez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5" name=""/>
          <p:cNvSpPr/>
          <p:nvPr/>
        </p:nvSpPr>
        <p:spPr>
          <a:xfrm>
            <a:off x="3890880" y="1677960"/>
            <a:ext cx="303120" cy="1246320"/>
          </a:xfrm>
          <a:custGeom>
            <a:avLst/>
            <a:gdLst/>
            <a:ahLst/>
            <a:rect l="l" t="t" r="r" b="b"/>
            <a:pathLst>
              <a:path w="191" h="785">
                <a:moveTo>
                  <a:pt x="67" y="0"/>
                </a:moveTo>
                <a:cubicBezTo>
                  <a:pt x="59" y="70"/>
                  <a:pt x="0" y="323"/>
                  <a:pt x="16" y="422"/>
                </a:cubicBezTo>
                <a:cubicBezTo>
                  <a:pt x="32" y="521"/>
                  <a:pt x="141" y="533"/>
                  <a:pt x="166" y="593"/>
                </a:cubicBezTo>
                <a:cubicBezTo>
                  <a:pt x="191" y="653"/>
                  <a:pt x="167" y="745"/>
                  <a:pt x="167" y="785"/>
                </a:cubicBezTo>
              </a:path>
            </a:pathLst>
          </a:custGeom>
          <a:noFill/>
          <a:ln w="9360">
            <a:solidFill>
              <a:srgbClr val="00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6" name=""/>
          <p:cNvSpPr/>
          <p:nvPr/>
        </p:nvSpPr>
        <p:spPr>
          <a:xfrm>
            <a:off x="4638600" y="3419640"/>
            <a:ext cx="2151000" cy="1697040"/>
          </a:xfrm>
          <a:custGeom>
            <a:avLst/>
            <a:gdLst/>
            <a:ahLst/>
            <a:rect l="l" t="t" r="r" b="b"/>
            <a:pathLst>
              <a:path w="1355" h="1069">
                <a:moveTo>
                  <a:pt x="1355" y="1069"/>
                </a:moveTo>
                <a:cubicBezTo>
                  <a:pt x="1328" y="992"/>
                  <a:pt x="1337" y="769"/>
                  <a:pt x="1190" y="608"/>
                </a:cubicBezTo>
                <a:cubicBezTo>
                  <a:pt x="1043" y="447"/>
                  <a:pt x="669" y="202"/>
                  <a:pt x="471" y="101"/>
                </a:cubicBezTo>
                <a:cubicBezTo>
                  <a:pt x="273" y="0"/>
                  <a:pt x="98" y="23"/>
                  <a:pt x="0" y="3"/>
                </a:cubicBez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7" name=""/>
          <p:cNvSpPr/>
          <p:nvPr/>
        </p:nvSpPr>
        <p:spPr>
          <a:xfrm>
            <a:off x="4638600" y="2814480"/>
            <a:ext cx="3038400" cy="371520"/>
          </a:xfrm>
          <a:custGeom>
            <a:avLst/>
            <a:gdLst/>
            <a:ahLst/>
            <a:rect l="l" t="t" r="r" b="b"/>
            <a:pathLst>
              <a:path w="1914" h="234">
                <a:moveTo>
                  <a:pt x="1914" y="213"/>
                </a:moveTo>
                <a:cubicBezTo>
                  <a:pt x="1862" y="181"/>
                  <a:pt x="1800" y="54"/>
                  <a:pt x="1598" y="27"/>
                </a:cubicBezTo>
                <a:cubicBezTo>
                  <a:pt x="1396" y="0"/>
                  <a:pt x="970" y="19"/>
                  <a:pt x="704" y="53"/>
                </a:cubicBezTo>
                <a:cubicBezTo>
                  <a:pt x="438" y="87"/>
                  <a:pt x="147" y="196"/>
                  <a:pt x="0" y="234"/>
                </a:cubicBez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8" name=""/>
          <p:cNvSpPr/>
          <p:nvPr/>
        </p:nvSpPr>
        <p:spPr>
          <a:xfrm>
            <a:off x="4638600" y="1700280"/>
            <a:ext cx="2241720" cy="1346040"/>
          </a:xfrm>
          <a:custGeom>
            <a:avLst/>
            <a:gdLst/>
            <a:ahLst/>
            <a:rect l="l" t="t" r="r" b="b"/>
            <a:pathLst>
              <a:path w="1412" h="848">
                <a:moveTo>
                  <a:pt x="1412" y="0"/>
                </a:moveTo>
                <a:cubicBezTo>
                  <a:pt x="1404" y="46"/>
                  <a:pt x="1404" y="205"/>
                  <a:pt x="1371" y="279"/>
                </a:cubicBezTo>
                <a:cubicBezTo>
                  <a:pt x="1338" y="353"/>
                  <a:pt x="1290" y="402"/>
                  <a:pt x="1211" y="445"/>
                </a:cubicBezTo>
                <a:cubicBezTo>
                  <a:pt x="1132" y="488"/>
                  <a:pt x="1097" y="471"/>
                  <a:pt x="895" y="538"/>
                </a:cubicBezTo>
                <a:cubicBezTo>
                  <a:pt x="693" y="605"/>
                  <a:pt x="186" y="784"/>
                  <a:pt x="0" y="848"/>
                </a:cubicBez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9" name=""/>
          <p:cNvSpPr/>
          <p:nvPr/>
        </p:nvSpPr>
        <p:spPr>
          <a:xfrm>
            <a:off x="1790640" y="1692360"/>
            <a:ext cx="2158920" cy="1460520"/>
          </a:xfrm>
          <a:custGeom>
            <a:avLst/>
            <a:gdLst/>
            <a:ahLst/>
            <a:rect l="l" t="t" r="r" b="b"/>
            <a:pathLst>
              <a:path w="1360" h="920">
                <a:moveTo>
                  <a:pt x="1360" y="920"/>
                </a:moveTo>
                <a:cubicBezTo>
                  <a:pt x="1264" y="887"/>
                  <a:pt x="961" y="802"/>
                  <a:pt x="786" y="724"/>
                </a:cubicBezTo>
                <a:lnTo>
                  <a:pt x="310" y="455"/>
                </a:lnTo>
                <a:cubicBezTo>
                  <a:pt x="179" y="334"/>
                  <a:pt x="65" y="95"/>
                  <a:pt x="0" y="0"/>
                </a:cubicBez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0" name=""/>
          <p:cNvSpPr/>
          <p:nvPr/>
        </p:nvSpPr>
        <p:spPr>
          <a:xfrm>
            <a:off x="976320" y="3457440"/>
            <a:ext cx="2989080" cy="189000"/>
          </a:xfrm>
          <a:custGeom>
            <a:avLst/>
            <a:gdLst/>
            <a:ahLst/>
            <a:rect l="l" t="t" r="r" b="b"/>
            <a:pathLst>
              <a:path w="1883" h="119">
                <a:moveTo>
                  <a:pt x="1883" y="0"/>
                </a:moveTo>
                <a:cubicBezTo>
                  <a:pt x="1754" y="20"/>
                  <a:pt x="1337" y="105"/>
                  <a:pt x="1107" y="119"/>
                </a:cubicBezTo>
                <a:lnTo>
                  <a:pt x="502" y="82"/>
                </a:lnTo>
                <a:cubicBezTo>
                  <a:pt x="317" y="63"/>
                  <a:pt x="105" y="21"/>
                  <a:pt x="0" y="5"/>
                </a:cubicBez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1" name=""/>
          <p:cNvSpPr/>
          <p:nvPr/>
        </p:nvSpPr>
        <p:spPr>
          <a:xfrm>
            <a:off x="1682640" y="3587760"/>
            <a:ext cx="2259000" cy="1635120"/>
          </a:xfrm>
          <a:custGeom>
            <a:avLst/>
            <a:gdLst/>
            <a:ahLst/>
            <a:rect l="l" t="t" r="r" b="b"/>
            <a:pathLst>
              <a:path w="1423" h="1030">
                <a:moveTo>
                  <a:pt x="1423" y="0"/>
                </a:moveTo>
                <a:cubicBezTo>
                  <a:pt x="1298" y="44"/>
                  <a:pt x="879" y="162"/>
                  <a:pt x="673" y="264"/>
                </a:cubicBezTo>
                <a:lnTo>
                  <a:pt x="186" y="611"/>
                </a:lnTo>
                <a:cubicBezTo>
                  <a:pt x="74" y="739"/>
                  <a:pt x="39" y="943"/>
                  <a:pt x="0" y="1030"/>
                </a:cubicBez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02" name=""/>
          <p:cNvGrpSpPr/>
          <p:nvPr/>
        </p:nvGrpSpPr>
        <p:grpSpPr>
          <a:xfrm>
            <a:off x="8575560" y="5573880"/>
            <a:ext cx="271440" cy="344160"/>
            <a:chOff x="8575560" y="5573880"/>
            <a:chExt cx="271440" cy="344160"/>
          </a:xfrm>
        </p:grpSpPr>
        <p:pic>
          <p:nvPicPr>
            <p:cNvPr id="8703" name="" descr=""/>
            <p:cNvPicPr/>
            <p:nvPr/>
          </p:nvPicPr>
          <p:blipFill>
            <a:blip r:embed="rId1"/>
            <a:stretch/>
          </p:blipFill>
          <p:spPr>
            <a:xfrm>
              <a:off x="8575560" y="5573880"/>
              <a:ext cx="271440" cy="2412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704" name=""/>
            <p:cNvGrpSpPr/>
            <p:nvPr/>
          </p:nvGrpSpPr>
          <p:grpSpPr>
            <a:xfrm>
              <a:off x="8787240" y="5810040"/>
              <a:ext cx="24480" cy="108000"/>
              <a:chOff x="8787240" y="5810040"/>
              <a:chExt cx="24480" cy="108000"/>
            </a:xfrm>
          </p:grpSpPr>
          <p:sp>
            <p:nvSpPr>
              <p:cNvPr id="8705" name=""/>
              <p:cNvSpPr/>
              <p:nvPr/>
            </p:nvSpPr>
            <p:spPr>
              <a:xfrm>
                <a:off x="8787240" y="5810040"/>
                <a:ext cx="24480" cy="52560"/>
              </a:xfrm>
              <a:custGeom>
                <a:avLst/>
                <a:gdLst/>
                <a:ahLst/>
                <a:rect l="l" t="t" r="r" b="b"/>
                <a:pathLst>
                  <a:path w="196" h="371">
                    <a:moveTo>
                      <a:pt x="95" y="0"/>
                    </a:moveTo>
                    <a:lnTo>
                      <a:pt x="105" y="58"/>
                    </a:lnTo>
                    <a:lnTo>
                      <a:pt x="111" y="88"/>
                    </a:lnTo>
                    <a:lnTo>
                      <a:pt x="121" y="122"/>
                    </a:lnTo>
                    <a:lnTo>
                      <a:pt x="132" y="142"/>
                    </a:lnTo>
                    <a:lnTo>
                      <a:pt x="147" y="166"/>
                    </a:lnTo>
                    <a:lnTo>
                      <a:pt x="167" y="194"/>
                    </a:lnTo>
                    <a:lnTo>
                      <a:pt x="184" y="220"/>
                    </a:lnTo>
                    <a:lnTo>
                      <a:pt x="192" y="246"/>
                    </a:lnTo>
                    <a:lnTo>
                      <a:pt x="196" y="279"/>
                    </a:lnTo>
                    <a:lnTo>
                      <a:pt x="189" y="307"/>
                    </a:lnTo>
                    <a:lnTo>
                      <a:pt x="178" y="328"/>
                    </a:lnTo>
                    <a:lnTo>
                      <a:pt x="162" y="345"/>
                    </a:lnTo>
                    <a:lnTo>
                      <a:pt x="141" y="361"/>
                    </a:lnTo>
                    <a:lnTo>
                      <a:pt x="121" y="368"/>
                    </a:lnTo>
                    <a:lnTo>
                      <a:pt x="99" y="371"/>
                    </a:lnTo>
                    <a:lnTo>
                      <a:pt x="76" y="368"/>
                    </a:lnTo>
                    <a:lnTo>
                      <a:pt x="54" y="362"/>
                    </a:lnTo>
                    <a:lnTo>
                      <a:pt x="34" y="351"/>
                    </a:lnTo>
                    <a:lnTo>
                      <a:pt x="19" y="335"/>
                    </a:lnTo>
                    <a:lnTo>
                      <a:pt x="8" y="316"/>
                    </a:lnTo>
                    <a:lnTo>
                      <a:pt x="3" y="297"/>
                    </a:lnTo>
                    <a:lnTo>
                      <a:pt x="0" y="272"/>
                    </a:lnTo>
                    <a:lnTo>
                      <a:pt x="5" y="240"/>
                    </a:lnTo>
                    <a:lnTo>
                      <a:pt x="13" y="218"/>
                    </a:lnTo>
                    <a:lnTo>
                      <a:pt x="30" y="191"/>
                    </a:lnTo>
                    <a:lnTo>
                      <a:pt x="49" y="166"/>
                    </a:lnTo>
                    <a:lnTo>
                      <a:pt x="62" y="141"/>
                    </a:lnTo>
                    <a:lnTo>
                      <a:pt x="72" y="120"/>
                    </a:lnTo>
                    <a:lnTo>
                      <a:pt x="81" y="90"/>
                    </a:lnTo>
                    <a:lnTo>
                      <a:pt x="86" y="58"/>
                    </a:lnTo>
                    <a:lnTo>
                      <a:pt x="95" y="0"/>
                    </a:lnTo>
                    <a:close/>
                  </a:path>
                </a:pathLst>
              </a:cu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6" name=""/>
              <p:cNvSpPr/>
              <p:nvPr/>
            </p:nvSpPr>
            <p:spPr>
              <a:xfrm>
                <a:off x="8787240" y="5865480"/>
                <a:ext cx="24480" cy="52560"/>
              </a:xfrm>
              <a:custGeom>
                <a:avLst/>
                <a:gdLst/>
                <a:ahLst/>
                <a:rect l="l" t="t" r="r" b="b"/>
                <a:pathLst>
                  <a:path w="196" h="372">
                    <a:moveTo>
                      <a:pt x="95" y="0"/>
                    </a:moveTo>
                    <a:lnTo>
                      <a:pt x="105" y="59"/>
                    </a:lnTo>
                    <a:lnTo>
                      <a:pt x="111" y="88"/>
                    </a:lnTo>
                    <a:lnTo>
                      <a:pt x="121" y="122"/>
                    </a:lnTo>
                    <a:lnTo>
                      <a:pt x="132" y="143"/>
                    </a:lnTo>
                    <a:lnTo>
                      <a:pt x="147" y="167"/>
                    </a:lnTo>
                    <a:lnTo>
                      <a:pt x="167" y="195"/>
                    </a:lnTo>
                    <a:lnTo>
                      <a:pt x="184" y="220"/>
                    </a:lnTo>
                    <a:lnTo>
                      <a:pt x="192" y="247"/>
                    </a:lnTo>
                    <a:lnTo>
                      <a:pt x="196" y="279"/>
                    </a:lnTo>
                    <a:lnTo>
                      <a:pt x="189" y="308"/>
                    </a:lnTo>
                    <a:lnTo>
                      <a:pt x="178" y="328"/>
                    </a:lnTo>
                    <a:lnTo>
                      <a:pt x="162" y="345"/>
                    </a:lnTo>
                    <a:lnTo>
                      <a:pt x="141" y="361"/>
                    </a:lnTo>
                    <a:lnTo>
                      <a:pt x="121" y="369"/>
                    </a:lnTo>
                    <a:lnTo>
                      <a:pt x="99" y="372"/>
                    </a:lnTo>
                    <a:lnTo>
                      <a:pt x="76" y="369"/>
                    </a:lnTo>
                    <a:lnTo>
                      <a:pt x="54" y="363"/>
                    </a:lnTo>
                    <a:lnTo>
                      <a:pt x="34" y="351"/>
                    </a:lnTo>
                    <a:lnTo>
                      <a:pt x="19" y="336"/>
                    </a:lnTo>
                    <a:lnTo>
                      <a:pt x="8" y="317"/>
                    </a:lnTo>
                    <a:lnTo>
                      <a:pt x="3" y="298"/>
                    </a:lnTo>
                    <a:lnTo>
                      <a:pt x="0" y="272"/>
                    </a:lnTo>
                    <a:lnTo>
                      <a:pt x="5" y="242"/>
                    </a:lnTo>
                    <a:lnTo>
                      <a:pt x="13" y="219"/>
                    </a:lnTo>
                    <a:lnTo>
                      <a:pt x="30" y="191"/>
                    </a:lnTo>
                    <a:lnTo>
                      <a:pt x="49" y="167"/>
                    </a:lnTo>
                    <a:lnTo>
                      <a:pt x="62" y="141"/>
                    </a:lnTo>
                    <a:lnTo>
                      <a:pt x="72" y="120"/>
                    </a:lnTo>
                    <a:lnTo>
                      <a:pt x="81" y="90"/>
                    </a:lnTo>
                    <a:lnTo>
                      <a:pt x="86" y="59"/>
                    </a:lnTo>
                    <a:lnTo>
                      <a:pt x="95" y="0"/>
                    </a:lnTo>
                    <a:close/>
                  </a:path>
                </a:pathLst>
              </a:cu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707" name=""/>
          <p:cNvGrpSpPr/>
          <p:nvPr/>
        </p:nvGrpSpPr>
        <p:grpSpPr>
          <a:xfrm>
            <a:off x="563400" y="5737320"/>
            <a:ext cx="871200" cy="936000"/>
            <a:chOff x="563400" y="5737320"/>
            <a:chExt cx="871200" cy="936000"/>
          </a:xfrm>
        </p:grpSpPr>
        <p:pic>
          <p:nvPicPr>
            <p:cNvPr id="8708" name="" descr=""/>
            <p:cNvPicPr/>
            <p:nvPr/>
          </p:nvPicPr>
          <p:blipFill>
            <a:blip r:embed="rId2"/>
            <a:stretch/>
          </p:blipFill>
          <p:spPr>
            <a:xfrm>
              <a:off x="563400" y="5737320"/>
              <a:ext cx="871200" cy="6555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709" name=""/>
            <p:cNvGrpSpPr/>
            <p:nvPr/>
          </p:nvGrpSpPr>
          <p:grpSpPr>
            <a:xfrm>
              <a:off x="1242720" y="6379920"/>
              <a:ext cx="79200" cy="293400"/>
              <a:chOff x="1242720" y="6379920"/>
              <a:chExt cx="79200" cy="293400"/>
            </a:xfrm>
          </p:grpSpPr>
          <p:sp>
            <p:nvSpPr>
              <p:cNvPr id="8710" name=""/>
              <p:cNvSpPr/>
              <p:nvPr/>
            </p:nvSpPr>
            <p:spPr>
              <a:xfrm>
                <a:off x="1242720" y="6379920"/>
                <a:ext cx="79200" cy="142560"/>
              </a:xfrm>
              <a:custGeom>
                <a:avLst/>
                <a:gdLst/>
                <a:ahLst/>
                <a:rect l="l" t="t" r="r" b="b"/>
                <a:pathLst>
                  <a:path w="196" h="371">
                    <a:moveTo>
                      <a:pt x="95" y="0"/>
                    </a:moveTo>
                    <a:lnTo>
                      <a:pt x="105" y="58"/>
                    </a:lnTo>
                    <a:lnTo>
                      <a:pt x="111" y="88"/>
                    </a:lnTo>
                    <a:lnTo>
                      <a:pt x="121" y="122"/>
                    </a:lnTo>
                    <a:lnTo>
                      <a:pt x="132" y="142"/>
                    </a:lnTo>
                    <a:lnTo>
                      <a:pt x="147" y="166"/>
                    </a:lnTo>
                    <a:lnTo>
                      <a:pt x="167" y="194"/>
                    </a:lnTo>
                    <a:lnTo>
                      <a:pt x="184" y="220"/>
                    </a:lnTo>
                    <a:lnTo>
                      <a:pt x="192" y="246"/>
                    </a:lnTo>
                    <a:lnTo>
                      <a:pt x="196" y="279"/>
                    </a:lnTo>
                    <a:lnTo>
                      <a:pt x="189" y="307"/>
                    </a:lnTo>
                    <a:lnTo>
                      <a:pt x="178" y="328"/>
                    </a:lnTo>
                    <a:lnTo>
                      <a:pt x="162" y="345"/>
                    </a:lnTo>
                    <a:lnTo>
                      <a:pt x="141" y="361"/>
                    </a:lnTo>
                    <a:lnTo>
                      <a:pt x="121" y="368"/>
                    </a:lnTo>
                    <a:lnTo>
                      <a:pt x="99" y="371"/>
                    </a:lnTo>
                    <a:lnTo>
                      <a:pt x="76" y="368"/>
                    </a:lnTo>
                    <a:lnTo>
                      <a:pt x="54" y="362"/>
                    </a:lnTo>
                    <a:lnTo>
                      <a:pt x="34" y="351"/>
                    </a:lnTo>
                    <a:lnTo>
                      <a:pt x="19" y="335"/>
                    </a:lnTo>
                    <a:lnTo>
                      <a:pt x="8" y="316"/>
                    </a:lnTo>
                    <a:lnTo>
                      <a:pt x="3" y="297"/>
                    </a:lnTo>
                    <a:lnTo>
                      <a:pt x="0" y="272"/>
                    </a:lnTo>
                    <a:lnTo>
                      <a:pt x="5" y="240"/>
                    </a:lnTo>
                    <a:lnTo>
                      <a:pt x="13" y="218"/>
                    </a:lnTo>
                    <a:lnTo>
                      <a:pt x="30" y="191"/>
                    </a:lnTo>
                    <a:lnTo>
                      <a:pt x="49" y="166"/>
                    </a:lnTo>
                    <a:lnTo>
                      <a:pt x="62" y="141"/>
                    </a:lnTo>
                    <a:lnTo>
                      <a:pt x="72" y="120"/>
                    </a:lnTo>
                    <a:lnTo>
                      <a:pt x="81" y="90"/>
                    </a:lnTo>
                    <a:lnTo>
                      <a:pt x="86" y="58"/>
                    </a:lnTo>
                    <a:lnTo>
                      <a:pt x="95" y="0"/>
                    </a:lnTo>
                    <a:close/>
                  </a:path>
                </a:pathLst>
              </a:cu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1" name=""/>
              <p:cNvSpPr/>
              <p:nvPr/>
            </p:nvSpPr>
            <p:spPr>
              <a:xfrm>
                <a:off x="1242720" y="6530760"/>
                <a:ext cx="79200" cy="142560"/>
              </a:xfrm>
              <a:custGeom>
                <a:avLst/>
                <a:gdLst/>
                <a:ahLst/>
                <a:rect l="l" t="t" r="r" b="b"/>
                <a:pathLst>
                  <a:path w="196" h="372">
                    <a:moveTo>
                      <a:pt x="95" y="0"/>
                    </a:moveTo>
                    <a:lnTo>
                      <a:pt x="105" y="59"/>
                    </a:lnTo>
                    <a:lnTo>
                      <a:pt x="111" y="88"/>
                    </a:lnTo>
                    <a:lnTo>
                      <a:pt x="121" y="122"/>
                    </a:lnTo>
                    <a:lnTo>
                      <a:pt x="132" y="143"/>
                    </a:lnTo>
                    <a:lnTo>
                      <a:pt x="147" y="167"/>
                    </a:lnTo>
                    <a:lnTo>
                      <a:pt x="167" y="195"/>
                    </a:lnTo>
                    <a:lnTo>
                      <a:pt x="184" y="220"/>
                    </a:lnTo>
                    <a:lnTo>
                      <a:pt x="192" y="247"/>
                    </a:lnTo>
                    <a:lnTo>
                      <a:pt x="196" y="279"/>
                    </a:lnTo>
                    <a:lnTo>
                      <a:pt x="189" y="308"/>
                    </a:lnTo>
                    <a:lnTo>
                      <a:pt x="178" y="328"/>
                    </a:lnTo>
                    <a:lnTo>
                      <a:pt x="162" y="345"/>
                    </a:lnTo>
                    <a:lnTo>
                      <a:pt x="141" y="361"/>
                    </a:lnTo>
                    <a:lnTo>
                      <a:pt x="121" y="369"/>
                    </a:lnTo>
                    <a:lnTo>
                      <a:pt x="99" y="372"/>
                    </a:lnTo>
                    <a:lnTo>
                      <a:pt x="76" y="369"/>
                    </a:lnTo>
                    <a:lnTo>
                      <a:pt x="54" y="363"/>
                    </a:lnTo>
                    <a:lnTo>
                      <a:pt x="34" y="351"/>
                    </a:lnTo>
                    <a:lnTo>
                      <a:pt x="19" y="336"/>
                    </a:lnTo>
                    <a:lnTo>
                      <a:pt x="8" y="317"/>
                    </a:lnTo>
                    <a:lnTo>
                      <a:pt x="3" y="298"/>
                    </a:lnTo>
                    <a:lnTo>
                      <a:pt x="0" y="272"/>
                    </a:lnTo>
                    <a:lnTo>
                      <a:pt x="5" y="242"/>
                    </a:lnTo>
                    <a:lnTo>
                      <a:pt x="13" y="219"/>
                    </a:lnTo>
                    <a:lnTo>
                      <a:pt x="30" y="191"/>
                    </a:lnTo>
                    <a:lnTo>
                      <a:pt x="49" y="167"/>
                    </a:lnTo>
                    <a:lnTo>
                      <a:pt x="62" y="141"/>
                    </a:lnTo>
                    <a:lnTo>
                      <a:pt x="72" y="120"/>
                    </a:lnTo>
                    <a:lnTo>
                      <a:pt x="81" y="90"/>
                    </a:lnTo>
                    <a:lnTo>
                      <a:pt x="86" y="59"/>
                    </a:lnTo>
                    <a:lnTo>
                      <a:pt x="95" y="0"/>
                    </a:lnTo>
                    <a:close/>
                  </a:path>
                </a:pathLst>
              </a:cu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712" name=""/>
          <p:cNvSpPr/>
          <p:nvPr/>
        </p:nvSpPr>
        <p:spPr>
          <a:xfrm flipH="1" flipV="1" rot="16200000">
            <a:off x="3826440" y="5227200"/>
            <a:ext cx="431640" cy="1728720"/>
          </a:xfrm>
          <a:prstGeom prst="upArrow">
            <a:avLst>
              <a:gd name="adj1" fmla="val 50000"/>
              <a:gd name="adj2" fmla="val 100125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3" name=""/>
          <p:cNvSpPr/>
          <p:nvPr/>
        </p:nvSpPr>
        <p:spPr>
          <a:xfrm>
            <a:off x="7380360" y="2276640"/>
            <a:ext cx="431640" cy="1728720"/>
          </a:xfrm>
          <a:prstGeom prst="upArrow">
            <a:avLst>
              <a:gd name="adj1" fmla="val 50000"/>
              <a:gd name="adj2" fmla="val 100125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4" name=""/>
          <p:cNvSpPr/>
          <p:nvPr/>
        </p:nvSpPr>
        <p:spPr>
          <a:xfrm>
            <a:off x="3359160" y="2646360"/>
            <a:ext cx="638280" cy="6825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nor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5" name=""/>
          <p:cNvSpPr/>
          <p:nvPr/>
        </p:nvSpPr>
        <p:spPr>
          <a:xfrm>
            <a:off x="1650960" y="2627280"/>
            <a:ext cx="638280" cy="6825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6" name=""/>
          <p:cNvSpPr/>
          <p:nvPr/>
        </p:nvSpPr>
        <p:spPr>
          <a:xfrm>
            <a:off x="5075280" y="2637000"/>
            <a:ext cx="638280" cy="6825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7" name=""/>
          <p:cNvSpPr/>
          <p:nvPr/>
        </p:nvSpPr>
        <p:spPr>
          <a:xfrm>
            <a:off x="3206880" y="741240"/>
            <a:ext cx="917280" cy="10432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8" name=""/>
          <p:cNvSpPr/>
          <p:nvPr/>
        </p:nvSpPr>
        <p:spPr>
          <a:xfrm>
            <a:off x="1496880" y="728640"/>
            <a:ext cx="949320" cy="105264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9" name=""/>
          <p:cNvSpPr/>
          <p:nvPr/>
        </p:nvSpPr>
        <p:spPr>
          <a:xfrm>
            <a:off x="4944960" y="685800"/>
            <a:ext cx="917640" cy="104292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0" name=""/>
          <p:cNvSpPr/>
          <p:nvPr/>
        </p:nvSpPr>
        <p:spPr>
          <a:xfrm>
            <a:off x="3475080" y="4218120"/>
            <a:ext cx="425520" cy="3380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1" name=""/>
          <p:cNvSpPr/>
          <p:nvPr/>
        </p:nvSpPr>
        <p:spPr>
          <a:xfrm>
            <a:off x="5172120" y="4176720"/>
            <a:ext cx="425520" cy="33804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2" name=""/>
          <p:cNvSpPr/>
          <p:nvPr/>
        </p:nvSpPr>
        <p:spPr>
          <a:xfrm>
            <a:off x="1725480" y="4165560"/>
            <a:ext cx="425520" cy="33804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3" name=""/>
          <p:cNvSpPr/>
          <p:nvPr/>
        </p:nvSpPr>
        <p:spPr>
          <a:xfrm>
            <a:off x="4614480" y="4543560"/>
            <a:ext cx="16041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Hypoosmolární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dehydrat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4" name=""/>
          <p:cNvSpPr/>
          <p:nvPr/>
        </p:nvSpPr>
        <p:spPr>
          <a:xfrm>
            <a:off x="5745600" y="2724120"/>
            <a:ext cx="16056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Euvolemická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hypoosmolari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5" name=""/>
          <p:cNvSpPr/>
          <p:nvPr/>
        </p:nvSpPr>
        <p:spPr>
          <a:xfrm>
            <a:off x="4515480" y="182520"/>
            <a:ext cx="1668240" cy="49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Hypoosmolární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hyperhydrat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6" name=""/>
          <p:cNvSpPr/>
          <p:nvPr/>
        </p:nvSpPr>
        <p:spPr>
          <a:xfrm>
            <a:off x="1132200" y="4503600"/>
            <a:ext cx="17262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Hyperosmolární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dehydrat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7" name=""/>
          <p:cNvSpPr/>
          <p:nvPr/>
        </p:nvSpPr>
        <p:spPr>
          <a:xfrm>
            <a:off x="948240" y="223920"/>
            <a:ext cx="17262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Hyperosmolární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hyperhydrat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8" name=""/>
          <p:cNvSpPr/>
          <p:nvPr/>
        </p:nvSpPr>
        <p:spPr>
          <a:xfrm>
            <a:off x="2882880" y="254160"/>
            <a:ext cx="1593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Isoosmolární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hyperhydrat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9" name=""/>
          <p:cNvSpPr/>
          <p:nvPr/>
        </p:nvSpPr>
        <p:spPr>
          <a:xfrm>
            <a:off x="3036240" y="4572000"/>
            <a:ext cx="13755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Isoosmolární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dehydrat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0" name=""/>
          <p:cNvSpPr/>
          <p:nvPr/>
        </p:nvSpPr>
        <p:spPr>
          <a:xfrm>
            <a:off x="-47520" y="2776680"/>
            <a:ext cx="16696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Euvolemická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hyperosmolari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1" name=""/>
          <p:cNvSpPr/>
          <p:nvPr/>
        </p:nvSpPr>
        <p:spPr>
          <a:xfrm>
            <a:off x="3435480" y="3354480"/>
            <a:ext cx="485640" cy="825480"/>
          </a:xfrm>
          <a:prstGeom prst="upDownArrow">
            <a:avLst>
              <a:gd name="adj1" fmla="val 50000"/>
              <a:gd name="adj2" fmla="val 3383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2" name=""/>
          <p:cNvSpPr/>
          <p:nvPr/>
        </p:nvSpPr>
        <p:spPr>
          <a:xfrm>
            <a:off x="2303640" y="2757600"/>
            <a:ext cx="1035000" cy="396720"/>
          </a:xfrm>
          <a:prstGeom prst="leftRightArrow">
            <a:avLst>
              <a:gd name="adj1" fmla="val 50000"/>
              <a:gd name="adj2" fmla="val 5193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3" name=""/>
          <p:cNvSpPr/>
          <p:nvPr/>
        </p:nvSpPr>
        <p:spPr>
          <a:xfrm>
            <a:off x="1695600" y="3322800"/>
            <a:ext cx="485640" cy="825480"/>
          </a:xfrm>
          <a:prstGeom prst="upDownArrow">
            <a:avLst>
              <a:gd name="adj1" fmla="val 50000"/>
              <a:gd name="adj2" fmla="val 3383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4" name=""/>
          <p:cNvSpPr/>
          <p:nvPr/>
        </p:nvSpPr>
        <p:spPr>
          <a:xfrm>
            <a:off x="5141880" y="3351240"/>
            <a:ext cx="485640" cy="825480"/>
          </a:xfrm>
          <a:prstGeom prst="upDownArrow">
            <a:avLst>
              <a:gd name="adj1" fmla="val 50000"/>
              <a:gd name="adj2" fmla="val 3383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5" name=""/>
          <p:cNvSpPr/>
          <p:nvPr/>
        </p:nvSpPr>
        <p:spPr>
          <a:xfrm>
            <a:off x="2192400" y="4176720"/>
            <a:ext cx="1252440" cy="396720"/>
          </a:xfrm>
          <a:prstGeom prst="leftRightArrow">
            <a:avLst>
              <a:gd name="adj1" fmla="val 50000"/>
              <a:gd name="adj2" fmla="val 6284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6" name=""/>
          <p:cNvSpPr/>
          <p:nvPr/>
        </p:nvSpPr>
        <p:spPr>
          <a:xfrm>
            <a:off x="3433680" y="1816200"/>
            <a:ext cx="486000" cy="825480"/>
          </a:xfrm>
          <a:prstGeom prst="upDownArrow">
            <a:avLst>
              <a:gd name="adj1" fmla="val 50000"/>
              <a:gd name="adj2" fmla="val 3381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7" name=""/>
          <p:cNvSpPr/>
          <p:nvPr/>
        </p:nvSpPr>
        <p:spPr>
          <a:xfrm>
            <a:off x="1746360" y="1784520"/>
            <a:ext cx="485640" cy="825480"/>
          </a:xfrm>
          <a:prstGeom prst="upDownArrow">
            <a:avLst>
              <a:gd name="adj1" fmla="val 50000"/>
              <a:gd name="adj2" fmla="val 3383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8" name=""/>
          <p:cNvSpPr/>
          <p:nvPr/>
        </p:nvSpPr>
        <p:spPr>
          <a:xfrm>
            <a:off x="2459160" y="1084320"/>
            <a:ext cx="757080" cy="396720"/>
          </a:xfrm>
          <a:prstGeom prst="leftRightArrow">
            <a:avLst>
              <a:gd name="adj1" fmla="val 50000"/>
              <a:gd name="adj2" fmla="val 3799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9" name=""/>
          <p:cNvSpPr/>
          <p:nvPr/>
        </p:nvSpPr>
        <p:spPr>
          <a:xfrm>
            <a:off x="4159080" y="1022400"/>
            <a:ext cx="757440" cy="396720"/>
          </a:xfrm>
          <a:prstGeom prst="leftRightArrow">
            <a:avLst>
              <a:gd name="adj1" fmla="val 50000"/>
              <a:gd name="adj2" fmla="val 3800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0" name=""/>
          <p:cNvSpPr/>
          <p:nvPr/>
        </p:nvSpPr>
        <p:spPr>
          <a:xfrm>
            <a:off x="4017960" y="2786040"/>
            <a:ext cx="1035000" cy="396720"/>
          </a:xfrm>
          <a:prstGeom prst="leftRightArrow">
            <a:avLst>
              <a:gd name="adj1" fmla="val 50000"/>
              <a:gd name="adj2" fmla="val 5193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1" name=""/>
          <p:cNvSpPr/>
          <p:nvPr/>
        </p:nvSpPr>
        <p:spPr>
          <a:xfrm>
            <a:off x="5126040" y="1770120"/>
            <a:ext cx="485640" cy="825480"/>
          </a:xfrm>
          <a:prstGeom prst="upDownArrow">
            <a:avLst>
              <a:gd name="adj1" fmla="val 50000"/>
              <a:gd name="adj2" fmla="val 3383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2" name=""/>
          <p:cNvSpPr/>
          <p:nvPr/>
        </p:nvSpPr>
        <p:spPr>
          <a:xfrm>
            <a:off x="3914640" y="4175280"/>
            <a:ext cx="1252800" cy="396720"/>
          </a:xfrm>
          <a:prstGeom prst="leftRightArrow">
            <a:avLst>
              <a:gd name="adj1" fmla="val 50000"/>
              <a:gd name="adj2" fmla="val 6286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43" name=""/>
          <p:cNvGrpSpPr/>
          <p:nvPr/>
        </p:nvGrpSpPr>
        <p:grpSpPr>
          <a:xfrm>
            <a:off x="2316240" y="5141880"/>
            <a:ext cx="828000" cy="443520"/>
            <a:chOff x="2316240" y="5141880"/>
            <a:chExt cx="828000" cy="443520"/>
          </a:xfrm>
        </p:grpSpPr>
        <p:grpSp>
          <p:nvGrpSpPr>
            <p:cNvPr id="8744" name=""/>
            <p:cNvGrpSpPr/>
            <p:nvPr/>
          </p:nvGrpSpPr>
          <p:grpSpPr>
            <a:xfrm>
              <a:off x="2320920" y="5360760"/>
              <a:ext cx="823320" cy="224640"/>
              <a:chOff x="2320920" y="5360760"/>
              <a:chExt cx="823320" cy="224640"/>
            </a:xfrm>
          </p:grpSpPr>
          <p:grpSp>
            <p:nvGrpSpPr>
              <p:cNvPr id="8745" name=""/>
              <p:cNvGrpSpPr/>
              <p:nvPr/>
            </p:nvGrpSpPr>
            <p:grpSpPr>
              <a:xfrm>
                <a:off x="2320920" y="5416200"/>
                <a:ext cx="823320" cy="169200"/>
                <a:chOff x="2320920" y="5416200"/>
                <a:chExt cx="823320" cy="169200"/>
              </a:xfrm>
            </p:grpSpPr>
            <p:grpSp>
              <p:nvGrpSpPr>
                <p:cNvPr id="8746" name=""/>
                <p:cNvGrpSpPr/>
                <p:nvPr/>
              </p:nvGrpSpPr>
              <p:grpSpPr>
                <a:xfrm>
                  <a:off x="2323080" y="5416200"/>
                  <a:ext cx="814680" cy="169200"/>
                  <a:chOff x="2323080" y="5416200"/>
                  <a:chExt cx="814680" cy="169200"/>
                </a:xfrm>
              </p:grpSpPr>
              <p:sp>
                <p:nvSpPr>
                  <p:cNvPr id="8747" name=""/>
                  <p:cNvSpPr/>
                  <p:nvPr/>
                </p:nvSpPr>
                <p:spPr>
                  <a:xfrm>
                    <a:off x="2323080" y="5470560"/>
                    <a:ext cx="814680" cy="114840"/>
                  </a:xfrm>
                  <a:prstGeom prst="ellipse">
                    <a:avLst/>
                  </a:prstGeom>
                  <a:solidFill>
                    <a:srgbClr val="e0e0e0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920" bIns="34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48" name=""/>
                  <p:cNvSpPr/>
                  <p:nvPr/>
                </p:nvSpPr>
                <p:spPr>
                  <a:xfrm>
                    <a:off x="2323080" y="5416200"/>
                    <a:ext cx="814680" cy="111960"/>
                  </a:xfrm>
                  <a:prstGeom prst="rect">
                    <a:avLst/>
                  </a:pr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749" name=""/>
                <p:cNvSpPr/>
                <p:nvPr/>
              </p:nvSpPr>
              <p:spPr>
                <a:xfrm flipV="1">
                  <a:off x="2320920" y="5417640"/>
                  <a:ext cx="2160" cy="11808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50" name=""/>
                <p:cNvSpPr/>
                <p:nvPr/>
              </p:nvSpPr>
              <p:spPr>
                <a:xfrm>
                  <a:off x="3142440" y="5420880"/>
                  <a:ext cx="1800" cy="11340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51" name=""/>
              <p:cNvGrpSpPr/>
              <p:nvPr/>
            </p:nvGrpSpPr>
            <p:grpSpPr>
              <a:xfrm>
                <a:off x="2323080" y="5360760"/>
                <a:ext cx="815040" cy="113400"/>
                <a:chOff x="2323080" y="5360760"/>
                <a:chExt cx="815040" cy="113400"/>
              </a:xfrm>
            </p:grpSpPr>
            <p:sp>
              <p:nvSpPr>
                <p:cNvPr id="8752" name=""/>
                <p:cNvSpPr/>
                <p:nvPr/>
              </p:nvSpPr>
              <p:spPr>
                <a:xfrm>
                  <a:off x="2323080" y="5360760"/>
                  <a:ext cx="815040" cy="113400"/>
                </a:xfrm>
                <a:prstGeom prst="ellipse">
                  <a:avLst/>
                </a:prstGeom>
                <a:solidFill>
                  <a:srgbClr val="e0e0e0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480" bIns="33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53" name=""/>
                <p:cNvSpPr/>
                <p:nvPr/>
              </p:nvSpPr>
              <p:spPr>
                <a:xfrm>
                  <a:off x="2347920" y="5377320"/>
                  <a:ext cx="765000" cy="88560"/>
                </a:xfrm>
                <a:prstGeom prst="ellipse">
                  <a:avLst/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840" bIns="15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754" name=""/>
            <p:cNvSpPr/>
            <p:nvPr/>
          </p:nvSpPr>
          <p:spPr>
            <a:xfrm>
              <a:off x="2316240" y="5141880"/>
              <a:ext cx="793800" cy="338040"/>
            </a:xfrm>
            <a:custGeom>
              <a:avLst/>
              <a:gdLst/>
              <a:ahLst/>
              <a:rect l="l" t="t" r="r" b="b"/>
              <a:pathLst>
                <a:path w="500" h="213">
                  <a:moveTo>
                    <a:pt x="449" y="110"/>
                  </a:moveTo>
                  <a:cubicBezTo>
                    <a:pt x="429" y="97"/>
                    <a:pt x="376" y="44"/>
                    <a:pt x="327" y="30"/>
                  </a:cubicBezTo>
                  <a:cubicBezTo>
                    <a:pt x="278" y="16"/>
                    <a:pt x="208" y="0"/>
                    <a:pt x="157" y="24"/>
                  </a:cubicBezTo>
                  <a:cubicBezTo>
                    <a:pt x="106" y="48"/>
                    <a:pt x="0" y="146"/>
                    <a:pt x="20" y="177"/>
                  </a:cubicBezTo>
                  <a:cubicBezTo>
                    <a:pt x="24" y="191"/>
                    <a:pt x="216" y="204"/>
                    <a:pt x="275" y="210"/>
                  </a:cubicBezTo>
                  <a:cubicBezTo>
                    <a:pt x="340" y="213"/>
                    <a:pt x="382" y="197"/>
                    <a:pt x="413" y="194"/>
                  </a:cubicBezTo>
                  <a:cubicBezTo>
                    <a:pt x="444" y="191"/>
                    <a:pt x="447" y="193"/>
                    <a:pt x="461" y="190"/>
                  </a:cubicBezTo>
                  <a:cubicBezTo>
                    <a:pt x="475" y="187"/>
                    <a:pt x="492" y="180"/>
                    <a:pt x="500" y="177"/>
                  </a:cubicBezTo>
                </a:path>
              </a:pathLst>
            </a:custGeom>
            <a:blipFill rotWithShape="0">
              <a:blip r:embed="rId1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55" name=""/>
          <p:cNvSpPr/>
          <p:nvPr/>
        </p:nvSpPr>
        <p:spPr>
          <a:xfrm>
            <a:off x="3541320" y="5916600"/>
            <a:ext cx="1000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600" spc="-1" strike="noStrike">
                <a:solidFill>
                  <a:srgbClr val="000000"/>
                </a:solidFill>
                <a:latin typeface="Times New Roman"/>
              </a:rPr>
              <a:t>ztráta solí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6" name=""/>
          <p:cNvSpPr/>
          <p:nvPr/>
        </p:nvSpPr>
        <p:spPr>
          <a:xfrm rot="16200000">
            <a:off x="6723000" y="303876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600" spc="-1" strike="noStrike">
                <a:solidFill>
                  <a:srgbClr val="000000"/>
                </a:solidFill>
                <a:latin typeface="Times New Roman"/>
              </a:rPr>
              <a:t>Izotonická re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57" name=""/>
          <p:cNvGrpSpPr/>
          <p:nvPr/>
        </p:nvGrpSpPr>
        <p:grpSpPr>
          <a:xfrm>
            <a:off x="8083440" y="4197240"/>
            <a:ext cx="871200" cy="936000"/>
            <a:chOff x="8083440" y="4197240"/>
            <a:chExt cx="871200" cy="936000"/>
          </a:xfrm>
        </p:grpSpPr>
        <p:pic>
          <p:nvPicPr>
            <p:cNvPr id="8758" name="" descr=""/>
            <p:cNvPicPr/>
            <p:nvPr/>
          </p:nvPicPr>
          <p:blipFill>
            <a:blip r:embed="rId13"/>
            <a:stretch/>
          </p:blipFill>
          <p:spPr>
            <a:xfrm>
              <a:off x="8083440" y="4197240"/>
              <a:ext cx="871200" cy="655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759" name=""/>
            <p:cNvGrpSpPr/>
            <p:nvPr/>
          </p:nvGrpSpPr>
          <p:grpSpPr>
            <a:xfrm>
              <a:off x="8762760" y="4839840"/>
              <a:ext cx="79200" cy="293400"/>
              <a:chOff x="8762760" y="4839840"/>
              <a:chExt cx="79200" cy="293400"/>
            </a:xfrm>
          </p:grpSpPr>
          <p:sp>
            <p:nvSpPr>
              <p:cNvPr id="8760" name=""/>
              <p:cNvSpPr/>
              <p:nvPr/>
            </p:nvSpPr>
            <p:spPr>
              <a:xfrm>
                <a:off x="8762760" y="4839840"/>
                <a:ext cx="79200" cy="142560"/>
              </a:xfrm>
              <a:custGeom>
                <a:avLst/>
                <a:gdLst/>
                <a:ahLst/>
                <a:rect l="l" t="t" r="r" b="b"/>
                <a:pathLst>
                  <a:path w="196" h="371">
                    <a:moveTo>
                      <a:pt x="95" y="0"/>
                    </a:moveTo>
                    <a:lnTo>
                      <a:pt x="105" y="58"/>
                    </a:lnTo>
                    <a:lnTo>
                      <a:pt x="111" y="88"/>
                    </a:lnTo>
                    <a:lnTo>
                      <a:pt x="121" y="122"/>
                    </a:lnTo>
                    <a:lnTo>
                      <a:pt x="132" y="142"/>
                    </a:lnTo>
                    <a:lnTo>
                      <a:pt x="147" y="166"/>
                    </a:lnTo>
                    <a:lnTo>
                      <a:pt x="167" y="194"/>
                    </a:lnTo>
                    <a:lnTo>
                      <a:pt x="184" y="220"/>
                    </a:lnTo>
                    <a:lnTo>
                      <a:pt x="192" y="246"/>
                    </a:lnTo>
                    <a:lnTo>
                      <a:pt x="196" y="279"/>
                    </a:lnTo>
                    <a:lnTo>
                      <a:pt x="189" y="307"/>
                    </a:lnTo>
                    <a:lnTo>
                      <a:pt x="178" y="328"/>
                    </a:lnTo>
                    <a:lnTo>
                      <a:pt x="162" y="345"/>
                    </a:lnTo>
                    <a:lnTo>
                      <a:pt x="141" y="361"/>
                    </a:lnTo>
                    <a:lnTo>
                      <a:pt x="121" y="368"/>
                    </a:lnTo>
                    <a:lnTo>
                      <a:pt x="99" y="371"/>
                    </a:lnTo>
                    <a:lnTo>
                      <a:pt x="76" y="368"/>
                    </a:lnTo>
                    <a:lnTo>
                      <a:pt x="54" y="362"/>
                    </a:lnTo>
                    <a:lnTo>
                      <a:pt x="34" y="351"/>
                    </a:lnTo>
                    <a:lnTo>
                      <a:pt x="19" y="335"/>
                    </a:lnTo>
                    <a:lnTo>
                      <a:pt x="8" y="316"/>
                    </a:lnTo>
                    <a:lnTo>
                      <a:pt x="3" y="297"/>
                    </a:lnTo>
                    <a:lnTo>
                      <a:pt x="0" y="272"/>
                    </a:lnTo>
                    <a:lnTo>
                      <a:pt x="5" y="240"/>
                    </a:lnTo>
                    <a:lnTo>
                      <a:pt x="13" y="218"/>
                    </a:lnTo>
                    <a:lnTo>
                      <a:pt x="30" y="191"/>
                    </a:lnTo>
                    <a:lnTo>
                      <a:pt x="49" y="166"/>
                    </a:lnTo>
                    <a:lnTo>
                      <a:pt x="62" y="141"/>
                    </a:lnTo>
                    <a:lnTo>
                      <a:pt x="72" y="120"/>
                    </a:lnTo>
                    <a:lnTo>
                      <a:pt x="81" y="90"/>
                    </a:lnTo>
                    <a:lnTo>
                      <a:pt x="86" y="58"/>
                    </a:lnTo>
                    <a:lnTo>
                      <a:pt x="95" y="0"/>
                    </a:lnTo>
                    <a:close/>
                  </a:path>
                </a:pathLst>
              </a:cu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1" name=""/>
              <p:cNvSpPr/>
              <p:nvPr/>
            </p:nvSpPr>
            <p:spPr>
              <a:xfrm>
                <a:off x="8762760" y="4990680"/>
                <a:ext cx="79200" cy="142560"/>
              </a:xfrm>
              <a:custGeom>
                <a:avLst/>
                <a:gdLst/>
                <a:ahLst/>
                <a:rect l="l" t="t" r="r" b="b"/>
                <a:pathLst>
                  <a:path w="196" h="372">
                    <a:moveTo>
                      <a:pt x="95" y="0"/>
                    </a:moveTo>
                    <a:lnTo>
                      <a:pt x="105" y="59"/>
                    </a:lnTo>
                    <a:lnTo>
                      <a:pt x="111" y="88"/>
                    </a:lnTo>
                    <a:lnTo>
                      <a:pt x="121" y="122"/>
                    </a:lnTo>
                    <a:lnTo>
                      <a:pt x="132" y="143"/>
                    </a:lnTo>
                    <a:lnTo>
                      <a:pt x="147" y="167"/>
                    </a:lnTo>
                    <a:lnTo>
                      <a:pt x="167" y="195"/>
                    </a:lnTo>
                    <a:lnTo>
                      <a:pt x="184" y="220"/>
                    </a:lnTo>
                    <a:lnTo>
                      <a:pt x="192" y="247"/>
                    </a:lnTo>
                    <a:lnTo>
                      <a:pt x="196" y="279"/>
                    </a:lnTo>
                    <a:lnTo>
                      <a:pt x="189" y="308"/>
                    </a:lnTo>
                    <a:lnTo>
                      <a:pt x="178" y="328"/>
                    </a:lnTo>
                    <a:lnTo>
                      <a:pt x="162" y="345"/>
                    </a:lnTo>
                    <a:lnTo>
                      <a:pt x="141" y="361"/>
                    </a:lnTo>
                    <a:lnTo>
                      <a:pt x="121" y="369"/>
                    </a:lnTo>
                    <a:lnTo>
                      <a:pt x="99" y="372"/>
                    </a:lnTo>
                    <a:lnTo>
                      <a:pt x="76" y="369"/>
                    </a:lnTo>
                    <a:lnTo>
                      <a:pt x="54" y="363"/>
                    </a:lnTo>
                    <a:lnTo>
                      <a:pt x="34" y="351"/>
                    </a:lnTo>
                    <a:lnTo>
                      <a:pt x="19" y="336"/>
                    </a:lnTo>
                    <a:lnTo>
                      <a:pt x="8" y="317"/>
                    </a:lnTo>
                    <a:lnTo>
                      <a:pt x="3" y="298"/>
                    </a:lnTo>
                    <a:lnTo>
                      <a:pt x="0" y="272"/>
                    </a:lnTo>
                    <a:lnTo>
                      <a:pt x="5" y="242"/>
                    </a:lnTo>
                    <a:lnTo>
                      <a:pt x="13" y="219"/>
                    </a:lnTo>
                    <a:lnTo>
                      <a:pt x="30" y="191"/>
                    </a:lnTo>
                    <a:lnTo>
                      <a:pt x="49" y="167"/>
                    </a:lnTo>
                    <a:lnTo>
                      <a:pt x="62" y="141"/>
                    </a:lnTo>
                    <a:lnTo>
                      <a:pt x="72" y="120"/>
                    </a:lnTo>
                    <a:lnTo>
                      <a:pt x="81" y="90"/>
                    </a:lnTo>
                    <a:lnTo>
                      <a:pt x="86" y="59"/>
                    </a:lnTo>
                    <a:lnTo>
                      <a:pt x="95" y="0"/>
                    </a:lnTo>
                    <a:close/>
                  </a:path>
                </a:pathLst>
              </a:cu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762" name=""/>
          <p:cNvGrpSpPr/>
          <p:nvPr/>
        </p:nvGrpSpPr>
        <p:grpSpPr>
          <a:xfrm>
            <a:off x="7670880" y="122400"/>
            <a:ext cx="593640" cy="736200"/>
            <a:chOff x="7670880" y="122400"/>
            <a:chExt cx="593640" cy="736200"/>
          </a:xfrm>
        </p:grpSpPr>
        <p:sp>
          <p:nvSpPr>
            <p:cNvPr id="8763" name=""/>
            <p:cNvSpPr/>
            <p:nvPr/>
          </p:nvSpPr>
          <p:spPr>
            <a:xfrm>
              <a:off x="7676280" y="178560"/>
              <a:ext cx="582840" cy="505080"/>
            </a:xfrm>
            <a:custGeom>
              <a:avLst/>
              <a:gdLst/>
              <a:ahLst/>
              <a:rect l="l" t="t" r="r" b="b"/>
              <a:pathLst>
                <a:path w="2256" h="2295">
                  <a:moveTo>
                    <a:pt x="0" y="0"/>
                  </a:moveTo>
                  <a:lnTo>
                    <a:pt x="939" y="1180"/>
                  </a:lnTo>
                  <a:lnTo>
                    <a:pt x="980" y="2175"/>
                  </a:lnTo>
                  <a:lnTo>
                    <a:pt x="983" y="2202"/>
                  </a:lnTo>
                  <a:lnTo>
                    <a:pt x="991" y="2221"/>
                  </a:lnTo>
                  <a:lnTo>
                    <a:pt x="1000" y="2235"/>
                  </a:lnTo>
                  <a:lnTo>
                    <a:pt x="1010" y="2246"/>
                  </a:lnTo>
                  <a:lnTo>
                    <a:pt x="1024" y="2260"/>
                  </a:lnTo>
                  <a:lnTo>
                    <a:pt x="1038" y="2268"/>
                  </a:lnTo>
                  <a:lnTo>
                    <a:pt x="1060" y="2281"/>
                  </a:lnTo>
                  <a:lnTo>
                    <a:pt x="1083" y="2287"/>
                  </a:lnTo>
                  <a:lnTo>
                    <a:pt x="1111" y="2293"/>
                  </a:lnTo>
                  <a:lnTo>
                    <a:pt x="1128" y="2295"/>
                  </a:lnTo>
                  <a:lnTo>
                    <a:pt x="1145" y="2295"/>
                  </a:lnTo>
                  <a:lnTo>
                    <a:pt x="1163" y="2292"/>
                  </a:lnTo>
                  <a:lnTo>
                    <a:pt x="1183" y="2286"/>
                  </a:lnTo>
                  <a:lnTo>
                    <a:pt x="1202" y="2279"/>
                  </a:lnTo>
                  <a:lnTo>
                    <a:pt x="1221" y="2268"/>
                  </a:lnTo>
                  <a:lnTo>
                    <a:pt x="1235" y="2259"/>
                  </a:lnTo>
                  <a:lnTo>
                    <a:pt x="1251" y="2243"/>
                  </a:lnTo>
                  <a:lnTo>
                    <a:pt x="1262" y="2227"/>
                  </a:lnTo>
                  <a:lnTo>
                    <a:pt x="1273" y="2203"/>
                  </a:lnTo>
                  <a:lnTo>
                    <a:pt x="1276" y="2181"/>
                  </a:lnTo>
                  <a:lnTo>
                    <a:pt x="1336" y="1161"/>
                  </a:lnTo>
                  <a:lnTo>
                    <a:pt x="225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4" name=""/>
            <p:cNvSpPr/>
            <p:nvPr/>
          </p:nvSpPr>
          <p:spPr>
            <a:xfrm>
              <a:off x="7670880" y="122400"/>
              <a:ext cx="593640" cy="95760"/>
            </a:xfrm>
            <a:prstGeom prst="ellipse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5" name=""/>
            <p:cNvSpPr/>
            <p:nvPr/>
          </p:nvSpPr>
          <p:spPr>
            <a:xfrm>
              <a:off x="7717320" y="192960"/>
              <a:ext cx="505080" cy="475560"/>
            </a:xfrm>
            <a:custGeom>
              <a:avLst/>
              <a:gdLst/>
              <a:ahLst/>
              <a:rect l="l" t="t" r="r" b="b"/>
              <a:pathLst>
                <a:path w="1956" h="2159">
                  <a:moveTo>
                    <a:pt x="0" y="19"/>
                  </a:moveTo>
                  <a:lnTo>
                    <a:pt x="857" y="1063"/>
                  </a:lnTo>
                  <a:lnTo>
                    <a:pt x="879" y="2090"/>
                  </a:lnTo>
                  <a:lnTo>
                    <a:pt x="887" y="2107"/>
                  </a:lnTo>
                  <a:lnTo>
                    <a:pt x="897" y="2123"/>
                  </a:lnTo>
                  <a:lnTo>
                    <a:pt x="906" y="2137"/>
                  </a:lnTo>
                  <a:lnTo>
                    <a:pt x="922" y="2147"/>
                  </a:lnTo>
                  <a:lnTo>
                    <a:pt x="939" y="2156"/>
                  </a:lnTo>
                  <a:lnTo>
                    <a:pt x="962" y="2159"/>
                  </a:lnTo>
                  <a:lnTo>
                    <a:pt x="983" y="2157"/>
                  </a:lnTo>
                  <a:lnTo>
                    <a:pt x="1005" y="2153"/>
                  </a:lnTo>
                  <a:lnTo>
                    <a:pt x="1026" y="2140"/>
                  </a:lnTo>
                  <a:lnTo>
                    <a:pt x="1040" y="2123"/>
                  </a:lnTo>
                  <a:lnTo>
                    <a:pt x="1048" y="2109"/>
                  </a:lnTo>
                  <a:lnTo>
                    <a:pt x="1056" y="2088"/>
                  </a:lnTo>
                  <a:lnTo>
                    <a:pt x="1100" y="1045"/>
                  </a:lnTo>
                  <a:lnTo>
                    <a:pt x="1956" y="0"/>
                  </a:lnTo>
                  <a:lnTo>
                    <a:pt x="1790" y="41"/>
                  </a:lnTo>
                  <a:lnTo>
                    <a:pt x="1531" y="77"/>
                  </a:lnTo>
                  <a:lnTo>
                    <a:pt x="1247" y="98"/>
                  </a:lnTo>
                  <a:lnTo>
                    <a:pt x="962" y="109"/>
                  </a:lnTo>
                  <a:lnTo>
                    <a:pt x="662" y="98"/>
                  </a:lnTo>
                  <a:lnTo>
                    <a:pt x="398" y="77"/>
                  </a:lnTo>
                  <a:lnTo>
                    <a:pt x="178" y="52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6" name=""/>
            <p:cNvSpPr/>
            <p:nvPr/>
          </p:nvSpPr>
          <p:spPr>
            <a:xfrm>
              <a:off x="7804080" y="289440"/>
              <a:ext cx="326160" cy="380520"/>
            </a:xfrm>
            <a:custGeom>
              <a:avLst/>
              <a:gdLst/>
              <a:ahLst/>
              <a:rect l="l" t="t" r="r" b="b"/>
              <a:pathLst>
                <a:path w="1264" h="1728">
                  <a:moveTo>
                    <a:pt x="0" y="0"/>
                  </a:moveTo>
                  <a:lnTo>
                    <a:pt x="520" y="624"/>
                  </a:lnTo>
                  <a:lnTo>
                    <a:pt x="531" y="1657"/>
                  </a:lnTo>
                  <a:lnTo>
                    <a:pt x="541" y="1674"/>
                  </a:lnTo>
                  <a:lnTo>
                    <a:pt x="553" y="1688"/>
                  </a:lnTo>
                  <a:lnTo>
                    <a:pt x="564" y="1701"/>
                  </a:lnTo>
                  <a:lnTo>
                    <a:pt x="580" y="1715"/>
                  </a:lnTo>
                  <a:lnTo>
                    <a:pt x="608" y="1723"/>
                  </a:lnTo>
                  <a:lnTo>
                    <a:pt x="632" y="1728"/>
                  </a:lnTo>
                  <a:lnTo>
                    <a:pt x="651" y="1725"/>
                  </a:lnTo>
                  <a:lnTo>
                    <a:pt x="673" y="1720"/>
                  </a:lnTo>
                  <a:lnTo>
                    <a:pt x="694" y="1709"/>
                  </a:lnTo>
                  <a:lnTo>
                    <a:pt x="711" y="1692"/>
                  </a:lnTo>
                  <a:lnTo>
                    <a:pt x="723" y="1669"/>
                  </a:lnTo>
                  <a:lnTo>
                    <a:pt x="730" y="1657"/>
                  </a:lnTo>
                  <a:lnTo>
                    <a:pt x="761" y="605"/>
                  </a:lnTo>
                  <a:lnTo>
                    <a:pt x="126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7" name=""/>
            <p:cNvSpPr/>
            <p:nvPr/>
          </p:nvSpPr>
          <p:spPr>
            <a:xfrm>
              <a:off x="7941960" y="690480"/>
              <a:ext cx="51120" cy="81720"/>
            </a:xfrm>
            <a:custGeom>
              <a:avLst/>
              <a:gdLst/>
              <a:ahLst/>
              <a:rect l="l" t="t" r="r" b="b"/>
              <a:pathLst>
                <a:path w="196" h="370">
                  <a:moveTo>
                    <a:pt x="95" y="0"/>
                  </a:moveTo>
                  <a:lnTo>
                    <a:pt x="105" y="58"/>
                  </a:lnTo>
                  <a:lnTo>
                    <a:pt x="111" y="87"/>
                  </a:lnTo>
                  <a:lnTo>
                    <a:pt x="121" y="121"/>
                  </a:lnTo>
                  <a:lnTo>
                    <a:pt x="132" y="141"/>
                  </a:lnTo>
                  <a:lnTo>
                    <a:pt x="147" y="166"/>
                  </a:lnTo>
                  <a:lnTo>
                    <a:pt x="167" y="193"/>
                  </a:lnTo>
                  <a:lnTo>
                    <a:pt x="184" y="220"/>
                  </a:lnTo>
                  <a:lnTo>
                    <a:pt x="192" y="245"/>
                  </a:lnTo>
                  <a:lnTo>
                    <a:pt x="196" y="278"/>
                  </a:lnTo>
                  <a:lnTo>
                    <a:pt x="189" y="307"/>
                  </a:lnTo>
                  <a:lnTo>
                    <a:pt x="178" y="328"/>
                  </a:lnTo>
                  <a:lnTo>
                    <a:pt x="162" y="345"/>
                  </a:lnTo>
                  <a:lnTo>
                    <a:pt x="141" y="361"/>
                  </a:lnTo>
                  <a:lnTo>
                    <a:pt x="121" y="367"/>
                  </a:lnTo>
                  <a:lnTo>
                    <a:pt x="99" y="370"/>
                  </a:lnTo>
                  <a:lnTo>
                    <a:pt x="76" y="367"/>
                  </a:lnTo>
                  <a:lnTo>
                    <a:pt x="54" y="362"/>
                  </a:lnTo>
                  <a:lnTo>
                    <a:pt x="34" y="350"/>
                  </a:lnTo>
                  <a:lnTo>
                    <a:pt x="19" y="334"/>
                  </a:lnTo>
                  <a:lnTo>
                    <a:pt x="8" y="315"/>
                  </a:lnTo>
                  <a:lnTo>
                    <a:pt x="3" y="296"/>
                  </a:lnTo>
                  <a:lnTo>
                    <a:pt x="0" y="272"/>
                  </a:lnTo>
                  <a:lnTo>
                    <a:pt x="5" y="240"/>
                  </a:lnTo>
                  <a:lnTo>
                    <a:pt x="13" y="218"/>
                  </a:lnTo>
                  <a:lnTo>
                    <a:pt x="30" y="190"/>
                  </a:lnTo>
                  <a:lnTo>
                    <a:pt x="49" y="166"/>
                  </a:lnTo>
                  <a:lnTo>
                    <a:pt x="62" y="140"/>
                  </a:lnTo>
                  <a:lnTo>
                    <a:pt x="72" y="119"/>
                  </a:lnTo>
                  <a:lnTo>
                    <a:pt x="81" y="90"/>
                  </a:lnTo>
                  <a:lnTo>
                    <a:pt x="86" y="58"/>
                  </a:lnTo>
                  <a:lnTo>
                    <a:pt x="95" y="0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8" name=""/>
            <p:cNvSpPr/>
            <p:nvPr/>
          </p:nvSpPr>
          <p:spPr>
            <a:xfrm>
              <a:off x="7700400" y="131400"/>
              <a:ext cx="534600" cy="7704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9" name=""/>
            <p:cNvSpPr/>
            <p:nvPr/>
          </p:nvSpPr>
          <p:spPr>
            <a:xfrm>
              <a:off x="7941960" y="776880"/>
              <a:ext cx="51120" cy="81720"/>
            </a:xfrm>
            <a:custGeom>
              <a:avLst/>
              <a:gdLst/>
              <a:ahLst/>
              <a:rect l="l" t="t" r="r" b="b"/>
              <a:pathLst>
                <a:path w="196" h="372">
                  <a:moveTo>
                    <a:pt x="95" y="0"/>
                  </a:moveTo>
                  <a:lnTo>
                    <a:pt x="105" y="60"/>
                  </a:lnTo>
                  <a:lnTo>
                    <a:pt x="111" y="88"/>
                  </a:lnTo>
                  <a:lnTo>
                    <a:pt x="121" y="122"/>
                  </a:lnTo>
                  <a:lnTo>
                    <a:pt x="132" y="143"/>
                  </a:lnTo>
                  <a:lnTo>
                    <a:pt x="147" y="168"/>
                  </a:lnTo>
                  <a:lnTo>
                    <a:pt x="167" y="195"/>
                  </a:lnTo>
                  <a:lnTo>
                    <a:pt x="184" y="221"/>
                  </a:lnTo>
                  <a:lnTo>
                    <a:pt x="192" y="247"/>
                  </a:lnTo>
                  <a:lnTo>
                    <a:pt x="196" y="279"/>
                  </a:lnTo>
                  <a:lnTo>
                    <a:pt x="189" y="308"/>
                  </a:lnTo>
                  <a:lnTo>
                    <a:pt x="178" y="328"/>
                  </a:lnTo>
                  <a:lnTo>
                    <a:pt x="162" y="345"/>
                  </a:lnTo>
                  <a:lnTo>
                    <a:pt x="141" y="361"/>
                  </a:lnTo>
                  <a:lnTo>
                    <a:pt x="121" y="369"/>
                  </a:lnTo>
                  <a:lnTo>
                    <a:pt x="99" y="372"/>
                  </a:lnTo>
                  <a:lnTo>
                    <a:pt x="76" y="369"/>
                  </a:lnTo>
                  <a:lnTo>
                    <a:pt x="54" y="363"/>
                  </a:lnTo>
                  <a:lnTo>
                    <a:pt x="34" y="351"/>
                  </a:lnTo>
                  <a:lnTo>
                    <a:pt x="19" y="336"/>
                  </a:lnTo>
                  <a:lnTo>
                    <a:pt x="8" y="317"/>
                  </a:lnTo>
                  <a:lnTo>
                    <a:pt x="3" y="298"/>
                  </a:lnTo>
                  <a:lnTo>
                    <a:pt x="0" y="272"/>
                  </a:lnTo>
                  <a:lnTo>
                    <a:pt x="5" y="242"/>
                  </a:lnTo>
                  <a:lnTo>
                    <a:pt x="13" y="219"/>
                  </a:lnTo>
                  <a:lnTo>
                    <a:pt x="30" y="191"/>
                  </a:lnTo>
                  <a:lnTo>
                    <a:pt x="49" y="168"/>
                  </a:lnTo>
                  <a:lnTo>
                    <a:pt x="62" y="141"/>
                  </a:lnTo>
                  <a:lnTo>
                    <a:pt x="72" y="120"/>
                  </a:lnTo>
                  <a:lnTo>
                    <a:pt x="81" y="90"/>
                  </a:lnTo>
                  <a:lnTo>
                    <a:pt x="86" y="60"/>
                  </a:lnTo>
                  <a:lnTo>
                    <a:pt x="95" y="0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0" name=""/>
            <p:cNvSpPr/>
            <p:nvPr/>
          </p:nvSpPr>
          <p:spPr>
            <a:xfrm>
              <a:off x="7800840" y="259200"/>
              <a:ext cx="333000" cy="49320"/>
            </a:xfrm>
            <a:prstGeom prst="ellipse">
              <a:avLst/>
            </a:pr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1" name=""/>
            <p:cNvSpPr/>
            <p:nvPr/>
          </p:nvSpPr>
          <p:spPr>
            <a:xfrm>
              <a:off x="7945200" y="639000"/>
              <a:ext cx="44280" cy="38160"/>
            </a:xfrm>
            <a:prstGeom prst="ellipse">
              <a:avLst/>
            </a:prstGeom>
            <a:solidFill>
              <a:srgbClr val="009999"/>
            </a:solidFill>
            <a:ln w="1764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72" name=""/>
          <p:cNvSpPr/>
          <p:nvPr/>
        </p:nvSpPr>
        <p:spPr>
          <a:xfrm rot="18483600">
            <a:off x="4361400" y="3098160"/>
            <a:ext cx="486000" cy="1220760"/>
          </a:xfrm>
          <a:prstGeom prst="upDownArrow">
            <a:avLst>
              <a:gd name="adj1" fmla="val 50000"/>
              <a:gd name="adj2" fmla="val 50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3" name=""/>
          <p:cNvSpPr/>
          <p:nvPr/>
        </p:nvSpPr>
        <p:spPr>
          <a:xfrm rot="18483600">
            <a:off x="2644200" y="1603800"/>
            <a:ext cx="485640" cy="1220760"/>
          </a:xfrm>
          <a:prstGeom prst="upDownArrow">
            <a:avLst>
              <a:gd name="adj1" fmla="val 50000"/>
              <a:gd name="adj2" fmla="val 5004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4" name=""/>
          <p:cNvSpPr/>
          <p:nvPr/>
        </p:nvSpPr>
        <p:spPr>
          <a:xfrm flipH="1" rot="2778000">
            <a:off x="4241160" y="1583280"/>
            <a:ext cx="485640" cy="1220760"/>
          </a:xfrm>
          <a:prstGeom prst="upDownArrow">
            <a:avLst>
              <a:gd name="adj1" fmla="val 50000"/>
              <a:gd name="adj2" fmla="val 5004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5" name=""/>
          <p:cNvSpPr/>
          <p:nvPr/>
        </p:nvSpPr>
        <p:spPr>
          <a:xfrm flipH="1" rot="3342600">
            <a:off x="2587680" y="3085560"/>
            <a:ext cx="486000" cy="1220400"/>
          </a:xfrm>
          <a:prstGeom prst="upDownArrow">
            <a:avLst>
              <a:gd name="adj1" fmla="val 50000"/>
              <a:gd name="adj2" fmla="val 4998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76" name=""/>
          <p:cNvGrpSpPr/>
          <p:nvPr/>
        </p:nvGrpSpPr>
        <p:grpSpPr>
          <a:xfrm>
            <a:off x="8166960" y="5671080"/>
            <a:ext cx="1049040" cy="1070640"/>
            <a:chOff x="8166960" y="5671080"/>
            <a:chExt cx="1049040" cy="1070640"/>
          </a:xfrm>
        </p:grpSpPr>
        <p:grpSp>
          <p:nvGrpSpPr>
            <p:cNvPr id="8777" name=""/>
            <p:cNvGrpSpPr/>
            <p:nvPr/>
          </p:nvGrpSpPr>
          <p:grpSpPr>
            <a:xfrm>
              <a:off x="8203320" y="5693400"/>
              <a:ext cx="833760" cy="532080"/>
              <a:chOff x="8203320" y="5693400"/>
              <a:chExt cx="833760" cy="532080"/>
            </a:xfrm>
          </p:grpSpPr>
          <p:grpSp>
            <p:nvGrpSpPr>
              <p:cNvPr id="8778" name=""/>
              <p:cNvGrpSpPr/>
              <p:nvPr/>
            </p:nvGrpSpPr>
            <p:grpSpPr>
              <a:xfrm>
                <a:off x="8203320" y="5745600"/>
                <a:ext cx="812880" cy="479880"/>
                <a:chOff x="8203320" y="5745600"/>
                <a:chExt cx="812880" cy="479880"/>
              </a:xfrm>
            </p:grpSpPr>
            <p:grpSp>
              <p:nvGrpSpPr>
                <p:cNvPr id="8779" name=""/>
                <p:cNvGrpSpPr/>
                <p:nvPr/>
              </p:nvGrpSpPr>
              <p:grpSpPr>
                <a:xfrm>
                  <a:off x="8203320" y="5745600"/>
                  <a:ext cx="810720" cy="479880"/>
                  <a:chOff x="8203320" y="5745600"/>
                  <a:chExt cx="810720" cy="479880"/>
                </a:xfrm>
              </p:grpSpPr>
              <p:sp>
                <p:nvSpPr>
                  <p:cNvPr id="8780" name=""/>
                  <p:cNvSpPr/>
                  <p:nvPr/>
                </p:nvSpPr>
                <p:spPr>
                  <a:xfrm rot="1404600">
                    <a:off x="8193240" y="5952240"/>
                    <a:ext cx="808200" cy="117360"/>
                  </a:xfrm>
                  <a:prstGeom prst="ellipse">
                    <a:avLst/>
                  </a:prstGeom>
                  <a:solidFill>
                    <a:srgbClr val="e0e0e0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720" bIns="36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81" name=""/>
                  <p:cNvSpPr/>
                  <p:nvPr/>
                </p:nvSpPr>
                <p:spPr>
                  <a:xfrm rot="1404600">
                    <a:off x="8216280" y="5901120"/>
                    <a:ext cx="808200" cy="114480"/>
                  </a:xfrm>
                  <a:prstGeom prst="rect">
                    <a:avLst/>
                  </a:pr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782" name=""/>
                <p:cNvSpPr/>
                <p:nvPr/>
              </p:nvSpPr>
              <p:spPr>
                <a:xfrm flipV="1">
                  <a:off x="8222040" y="5746680"/>
                  <a:ext cx="49680" cy="10980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83" name=""/>
                <p:cNvSpPr/>
                <p:nvPr/>
              </p:nvSpPr>
              <p:spPr>
                <a:xfrm flipH="1">
                  <a:off x="8971920" y="6073200"/>
                  <a:ext cx="44280" cy="10692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84" name=""/>
              <p:cNvGrpSpPr/>
              <p:nvPr/>
            </p:nvGrpSpPr>
            <p:grpSpPr>
              <a:xfrm>
                <a:off x="8249040" y="5693400"/>
                <a:ext cx="788040" cy="427680"/>
                <a:chOff x="8249040" y="5693400"/>
                <a:chExt cx="788040" cy="427680"/>
              </a:xfrm>
            </p:grpSpPr>
            <p:sp>
              <p:nvSpPr>
                <p:cNvPr id="8785" name=""/>
                <p:cNvSpPr/>
                <p:nvPr/>
              </p:nvSpPr>
              <p:spPr>
                <a:xfrm rot="1404600">
                  <a:off x="8238600" y="5848920"/>
                  <a:ext cx="808560" cy="115920"/>
                </a:xfrm>
                <a:prstGeom prst="ellipse">
                  <a:avLst/>
                </a:prstGeom>
                <a:solidFill>
                  <a:srgbClr val="e0e0e0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86" name=""/>
                <p:cNvSpPr/>
                <p:nvPr/>
              </p:nvSpPr>
              <p:spPr>
                <a:xfrm rot="1404600">
                  <a:off x="8261640" y="5865840"/>
                  <a:ext cx="758880" cy="90720"/>
                </a:xfrm>
                <a:prstGeom prst="ellipse">
                  <a:avLst/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787" name=""/>
            <p:cNvSpPr/>
            <p:nvPr/>
          </p:nvSpPr>
          <p:spPr>
            <a:xfrm rot="581400">
              <a:off x="8238960" y="5740560"/>
              <a:ext cx="905040" cy="931680"/>
            </a:xfrm>
            <a:custGeom>
              <a:avLst/>
              <a:gdLst/>
              <a:ahLst/>
              <a:rect l="l" t="t" r="r" b="b"/>
              <a:pathLst>
                <a:path w="410" h="554">
                  <a:moveTo>
                    <a:pt x="196" y="30"/>
                  </a:moveTo>
                  <a:cubicBezTo>
                    <a:pt x="95" y="0"/>
                    <a:pt x="0" y="54"/>
                    <a:pt x="4" y="68"/>
                  </a:cubicBezTo>
                  <a:cubicBezTo>
                    <a:pt x="4" y="82"/>
                    <a:pt x="124" y="130"/>
                    <a:pt x="178" y="151"/>
                  </a:cubicBezTo>
                  <a:cubicBezTo>
                    <a:pt x="219" y="170"/>
                    <a:pt x="223" y="170"/>
                    <a:pt x="247" y="177"/>
                  </a:cubicBezTo>
                  <a:cubicBezTo>
                    <a:pt x="272" y="184"/>
                    <a:pt x="310" y="160"/>
                    <a:pt x="327" y="195"/>
                  </a:cubicBezTo>
                  <a:cubicBezTo>
                    <a:pt x="351" y="214"/>
                    <a:pt x="350" y="331"/>
                    <a:pt x="348" y="385"/>
                  </a:cubicBezTo>
                  <a:cubicBezTo>
                    <a:pt x="346" y="439"/>
                    <a:pt x="312" y="494"/>
                    <a:pt x="315" y="517"/>
                  </a:cubicBezTo>
                  <a:cubicBezTo>
                    <a:pt x="318" y="540"/>
                    <a:pt x="353" y="522"/>
                    <a:pt x="367" y="523"/>
                  </a:cubicBezTo>
                  <a:cubicBezTo>
                    <a:pt x="381" y="524"/>
                    <a:pt x="398" y="554"/>
                    <a:pt x="400" y="523"/>
                  </a:cubicBezTo>
                  <a:cubicBezTo>
                    <a:pt x="410" y="504"/>
                    <a:pt x="388" y="393"/>
                    <a:pt x="381" y="339"/>
                  </a:cubicBezTo>
                  <a:cubicBezTo>
                    <a:pt x="374" y="285"/>
                    <a:pt x="378" y="240"/>
                    <a:pt x="358" y="198"/>
                  </a:cubicBezTo>
                  <a:cubicBezTo>
                    <a:pt x="338" y="156"/>
                    <a:pt x="287" y="113"/>
                    <a:pt x="261" y="85"/>
                  </a:cubicBezTo>
                  <a:cubicBezTo>
                    <a:pt x="234" y="57"/>
                    <a:pt x="210" y="42"/>
                    <a:pt x="196" y="30"/>
                  </a:cubicBezTo>
                  <a:close/>
                </a:path>
              </a:pathLst>
            </a:custGeom>
            <a:blipFill rotWithShape="0">
              <a:blip r:embed="rId1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88" name=""/>
          <p:cNvGrpSpPr/>
          <p:nvPr/>
        </p:nvGrpSpPr>
        <p:grpSpPr>
          <a:xfrm>
            <a:off x="6046920" y="4676760"/>
            <a:ext cx="828000" cy="443520"/>
            <a:chOff x="6046920" y="4676760"/>
            <a:chExt cx="828000" cy="443520"/>
          </a:xfrm>
        </p:grpSpPr>
        <p:grpSp>
          <p:nvGrpSpPr>
            <p:cNvPr id="8789" name=""/>
            <p:cNvGrpSpPr/>
            <p:nvPr/>
          </p:nvGrpSpPr>
          <p:grpSpPr>
            <a:xfrm>
              <a:off x="6051600" y="4895640"/>
              <a:ext cx="823320" cy="224640"/>
              <a:chOff x="6051600" y="4895640"/>
              <a:chExt cx="823320" cy="224640"/>
            </a:xfrm>
          </p:grpSpPr>
          <p:grpSp>
            <p:nvGrpSpPr>
              <p:cNvPr id="8790" name=""/>
              <p:cNvGrpSpPr/>
              <p:nvPr/>
            </p:nvGrpSpPr>
            <p:grpSpPr>
              <a:xfrm>
                <a:off x="6051600" y="4951080"/>
                <a:ext cx="823320" cy="169200"/>
                <a:chOff x="6051600" y="4951080"/>
                <a:chExt cx="823320" cy="169200"/>
              </a:xfrm>
            </p:grpSpPr>
            <p:grpSp>
              <p:nvGrpSpPr>
                <p:cNvPr id="8791" name=""/>
                <p:cNvGrpSpPr/>
                <p:nvPr/>
              </p:nvGrpSpPr>
              <p:grpSpPr>
                <a:xfrm>
                  <a:off x="6053760" y="4951080"/>
                  <a:ext cx="814680" cy="169200"/>
                  <a:chOff x="6053760" y="4951080"/>
                  <a:chExt cx="814680" cy="169200"/>
                </a:xfrm>
              </p:grpSpPr>
              <p:sp>
                <p:nvSpPr>
                  <p:cNvPr id="8792" name=""/>
                  <p:cNvSpPr/>
                  <p:nvPr/>
                </p:nvSpPr>
                <p:spPr>
                  <a:xfrm>
                    <a:off x="6053760" y="5005440"/>
                    <a:ext cx="814680" cy="114840"/>
                  </a:xfrm>
                  <a:prstGeom prst="ellipse">
                    <a:avLst/>
                  </a:prstGeom>
                  <a:solidFill>
                    <a:srgbClr val="e0e0e0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920" bIns="34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93" name=""/>
                  <p:cNvSpPr/>
                  <p:nvPr/>
                </p:nvSpPr>
                <p:spPr>
                  <a:xfrm>
                    <a:off x="6053760" y="4951080"/>
                    <a:ext cx="814680" cy="111960"/>
                  </a:xfrm>
                  <a:prstGeom prst="rect">
                    <a:avLst/>
                  </a:pr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794" name=""/>
                <p:cNvSpPr/>
                <p:nvPr/>
              </p:nvSpPr>
              <p:spPr>
                <a:xfrm flipV="1">
                  <a:off x="6051600" y="4952520"/>
                  <a:ext cx="2160" cy="11808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95" name=""/>
                <p:cNvSpPr/>
                <p:nvPr/>
              </p:nvSpPr>
              <p:spPr>
                <a:xfrm>
                  <a:off x="6873120" y="4955760"/>
                  <a:ext cx="1800" cy="11340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96" name=""/>
              <p:cNvGrpSpPr/>
              <p:nvPr/>
            </p:nvGrpSpPr>
            <p:grpSpPr>
              <a:xfrm>
                <a:off x="6053760" y="4895640"/>
                <a:ext cx="815040" cy="113400"/>
                <a:chOff x="6053760" y="4895640"/>
                <a:chExt cx="815040" cy="113400"/>
              </a:xfrm>
            </p:grpSpPr>
            <p:sp>
              <p:nvSpPr>
                <p:cNvPr id="8797" name=""/>
                <p:cNvSpPr/>
                <p:nvPr/>
              </p:nvSpPr>
              <p:spPr>
                <a:xfrm>
                  <a:off x="6053760" y="4895640"/>
                  <a:ext cx="815040" cy="113400"/>
                </a:xfrm>
                <a:prstGeom prst="ellipse">
                  <a:avLst/>
                </a:prstGeom>
                <a:solidFill>
                  <a:srgbClr val="e0e0e0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480" bIns="33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98" name=""/>
                <p:cNvSpPr/>
                <p:nvPr/>
              </p:nvSpPr>
              <p:spPr>
                <a:xfrm>
                  <a:off x="6078600" y="4912200"/>
                  <a:ext cx="765000" cy="88560"/>
                </a:xfrm>
                <a:prstGeom prst="ellipse">
                  <a:avLst/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840" bIns="15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799" name=""/>
            <p:cNvSpPr/>
            <p:nvPr/>
          </p:nvSpPr>
          <p:spPr>
            <a:xfrm>
              <a:off x="6046920" y="4676760"/>
              <a:ext cx="793800" cy="338040"/>
            </a:xfrm>
            <a:custGeom>
              <a:avLst/>
              <a:gdLst/>
              <a:ahLst/>
              <a:rect l="l" t="t" r="r" b="b"/>
              <a:pathLst>
                <a:path w="500" h="213">
                  <a:moveTo>
                    <a:pt x="449" y="110"/>
                  </a:moveTo>
                  <a:cubicBezTo>
                    <a:pt x="429" y="97"/>
                    <a:pt x="376" y="44"/>
                    <a:pt x="327" y="30"/>
                  </a:cubicBezTo>
                  <a:cubicBezTo>
                    <a:pt x="278" y="16"/>
                    <a:pt x="208" y="0"/>
                    <a:pt x="157" y="24"/>
                  </a:cubicBezTo>
                  <a:cubicBezTo>
                    <a:pt x="106" y="48"/>
                    <a:pt x="0" y="146"/>
                    <a:pt x="20" y="177"/>
                  </a:cubicBezTo>
                  <a:cubicBezTo>
                    <a:pt x="24" y="191"/>
                    <a:pt x="216" y="204"/>
                    <a:pt x="275" y="210"/>
                  </a:cubicBezTo>
                  <a:cubicBezTo>
                    <a:pt x="340" y="213"/>
                    <a:pt x="382" y="197"/>
                    <a:pt x="413" y="194"/>
                  </a:cubicBezTo>
                  <a:cubicBezTo>
                    <a:pt x="444" y="191"/>
                    <a:pt x="447" y="193"/>
                    <a:pt x="461" y="190"/>
                  </a:cubicBezTo>
                  <a:cubicBezTo>
                    <a:pt x="475" y="187"/>
                    <a:pt x="492" y="180"/>
                    <a:pt x="500" y="177"/>
                  </a:cubicBezTo>
                </a:path>
              </a:pathLst>
            </a:custGeom>
            <a:blipFill rotWithShape="0">
              <a:blip r:embed="rId1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00" name=""/>
          <p:cNvGrpSpPr/>
          <p:nvPr/>
        </p:nvGrpSpPr>
        <p:grpSpPr>
          <a:xfrm>
            <a:off x="-1898640" y="9923400"/>
            <a:ext cx="264960" cy="339840"/>
            <a:chOff x="-1898640" y="9923400"/>
            <a:chExt cx="264960" cy="339840"/>
          </a:xfrm>
        </p:grpSpPr>
        <p:sp>
          <p:nvSpPr>
            <p:cNvPr id="8801" name=""/>
            <p:cNvSpPr/>
            <p:nvPr/>
          </p:nvSpPr>
          <p:spPr>
            <a:xfrm>
              <a:off x="-1896120" y="9949320"/>
              <a:ext cx="260280" cy="233280"/>
            </a:xfrm>
            <a:custGeom>
              <a:avLst/>
              <a:gdLst/>
              <a:ahLst/>
              <a:rect l="l" t="t" r="r" b="b"/>
              <a:pathLst>
                <a:path w="2256" h="2295">
                  <a:moveTo>
                    <a:pt x="0" y="0"/>
                  </a:moveTo>
                  <a:lnTo>
                    <a:pt x="939" y="1180"/>
                  </a:lnTo>
                  <a:lnTo>
                    <a:pt x="980" y="2175"/>
                  </a:lnTo>
                  <a:lnTo>
                    <a:pt x="983" y="2202"/>
                  </a:lnTo>
                  <a:lnTo>
                    <a:pt x="991" y="2221"/>
                  </a:lnTo>
                  <a:lnTo>
                    <a:pt x="1000" y="2235"/>
                  </a:lnTo>
                  <a:lnTo>
                    <a:pt x="1010" y="2246"/>
                  </a:lnTo>
                  <a:lnTo>
                    <a:pt x="1024" y="2260"/>
                  </a:lnTo>
                  <a:lnTo>
                    <a:pt x="1038" y="2268"/>
                  </a:lnTo>
                  <a:lnTo>
                    <a:pt x="1060" y="2281"/>
                  </a:lnTo>
                  <a:lnTo>
                    <a:pt x="1083" y="2287"/>
                  </a:lnTo>
                  <a:lnTo>
                    <a:pt x="1111" y="2293"/>
                  </a:lnTo>
                  <a:lnTo>
                    <a:pt x="1128" y="2295"/>
                  </a:lnTo>
                  <a:lnTo>
                    <a:pt x="1145" y="2295"/>
                  </a:lnTo>
                  <a:lnTo>
                    <a:pt x="1163" y="2292"/>
                  </a:lnTo>
                  <a:lnTo>
                    <a:pt x="1183" y="2286"/>
                  </a:lnTo>
                  <a:lnTo>
                    <a:pt x="1202" y="2279"/>
                  </a:lnTo>
                  <a:lnTo>
                    <a:pt x="1221" y="2268"/>
                  </a:lnTo>
                  <a:lnTo>
                    <a:pt x="1235" y="2259"/>
                  </a:lnTo>
                  <a:lnTo>
                    <a:pt x="1251" y="2243"/>
                  </a:lnTo>
                  <a:lnTo>
                    <a:pt x="1262" y="2227"/>
                  </a:lnTo>
                  <a:lnTo>
                    <a:pt x="1273" y="2203"/>
                  </a:lnTo>
                  <a:lnTo>
                    <a:pt x="1276" y="2181"/>
                  </a:lnTo>
                  <a:lnTo>
                    <a:pt x="1336" y="1161"/>
                  </a:lnTo>
                  <a:lnTo>
                    <a:pt x="225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2" name=""/>
            <p:cNvSpPr/>
            <p:nvPr/>
          </p:nvSpPr>
          <p:spPr>
            <a:xfrm>
              <a:off x="-1898640" y="9923400"/>
              <a:ext cx="264960" cy="43920"/>
            </a:xfrm>
            <a:prstGeom prst="ellipse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3" name=""/>
            <p:cNvSpPr/>
            <p:nvPr/>
          </p:nvSpPr>
          <p:spPr>
            <a:xfrm>
              <a:off x="-1877760" y="9955800"/>
              <a:ext cx="225720" cy="219600"/>
            </a:xfrm>
            <a:custGeom>
              <a:avLst/>
              <a:gdLst/>
              <a:ahLst/>
              <a:rect l="l" t="t" r="r" b="b"/>
              <a:pathLst>
                <a:path w="1956" h="2159">
                  <a:moveTo>
                    <a:pt x="0" y="19"/>
                  </a:moveTo>
                  <a:lnTo>
                    <a:pt x="857" y="1063"/>
                  </a:lnTo>
                  <a:lnTo>
                    <a:pt x="879" y="2090"/>
                  </a:lnTo>
                  <a:lnTo>
                    <a:pt x="887" y="2107"/>
                  </a:lnTo>
                  <a:lnTo>
                    <a:pt x="897" y="2123"/>
                  </a:lnTo>
                  <a:lnTo>
                    <a:pt x="906" y="2137"/>
                  </a:lnTo>
                  <a:lnTo>
                    <a:pt x="922" y="2147"/>
                  </a:lnTo>
                  <a:lnTo>
                    <a:pt x="939" y="2156"/>
                  </a:lnTo>
                  <a:lnTo>
                    <a:pt x="962" y="2159"/>
                  </a:lnTo>
                  <a:lnTo>
                    <a:pt x="983" y="2157"/>
                  </a:lnTo>
                  <a:lnTo>
                    <a:pt x="1005" y="2153"/>
                  </a:lnTo>
                  <a:lnTo>
                    <a:pt x="1026" y="2140"/>
                  </a:lnTo>
                  <a:lnTo>
                    <a:pt x="1040" y="2123"/>
                  </a:lnTo>
                  <a:lnTo>
                    <a:pt x="1048" y="2109"/>
                  </a:lnTo>
                  <a:lnTo>
                    <a:pt x="1056" y="2088"/>
                  </a:lnTo>
                  <a:lnTo>
                    <a:pt x="1100" y="1045"/>
                  </a:lnTo>
                  <a:lnTo>
                    <a:pt x="1956" y="0"/>
                  </a:lnTo>
                  <a:lnTo>
                    <a:pt x="1790" y="41"/>
                  </a:lnTo>
                  <a:lnTo>
                    <a:pt x="1531" y="77"/>
                  </a:lnTo>
                  <a:lnTo>
                    <a:pt x="1247" y="98"/>
                  </a:lnTo>
                  <a:lnTo>
                    <a:pt x="962" y="109"/>
                  </a:lnTo>
                  <a:lnTo>
                    <a:pt x="662" y="98"/>
                  </a:lnTo>
                  <a:lnTo>
                    <a:pt x="398" y="77"/>
                  </a:lnTo>
                  <a:lnTo>
                    <a:pt x="178" y="52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4" name=""/>
            <p:cNvSpPr/>
            <p:nvPr/>
          </p:nvSpPr>
          <p:spPr>
            <a:xfrm>
              <a:off x="-1838880" y="10000440"/>
              <a:ext cx="145440" cy="175680"/>
            </a:xfrm>
            <a:custGeom>
              <a:avLst/>
              <a:gdLst/>
              <a:ahLst/>
              <a:rect l="l" t="t" r="r" b="b"/>
              <a:pathLst>
                <a:path w="1264" h="1728">
                  <a:moveTo>
                    <a:pt x="0" y="0"/>
                  </a:moveTo>
                  <a:lnTo>
                    <a:pt x="520" y="624"/>
                  </a:lnTo>
                  <a:lnTo>
                    <a:pt x="531" y="1657"/>
                  </a:lnTo>
                  <a:lnTo>
                    <a:pt x="541" y="1674"/>
                  </a:lnTo>
                  <a:lnTo>
                    <a:pt x="553" y="1688"/>
                  </a:lnTo>
                  <a:lnTo>
                    <a:pt x="564" y="1701"/>
                  </a:lnTo>
                  <a:lnTo>
                    <a:pt x="580" y="1715"/>
                  </a:lnTo>
                  <a:lnTo>
                    <a:pt x="608" y="1723"/>
                  </a:lnTo>
                  <a:lnTo>
                    <a:pt x="632" y="1728"/>
                  </a:lnTo>
                  <a:lnTo>
                    <a:pt x="651" y="1725"/>
                  </a:lnTo>
                  <a:lnTo>
                    <a:pt x="673" y="1720"/>
                  </a:lnTo>
                  <a:lnTo>
                    <a:pt x="694" y="1709"/>
                  </a:lnTo>
                  <a:lnTo>
                    <a:pt x="711" y="1692"/>
                  </a:lnTo>
                  <a:lnTo>
                    <a:pt x="723" y="1669"/>
                  </a:lnTo>
                  <a:lnTo>
                    <a:pt x="730" y="1657"/>
                  </a:lnTo>
                  <a:lnTo>
                    <a:pt x="761" y="605"/>
                  </a:lnTo>
                  <a:lnTo>
                    <a:pt x="126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5" name=""/>
            <p:cNvSpPr/>
            <p:nvPr/>
          </p:nvSpPr>
          <p:spPr>
            <a:xfrm>
              <a:off x="-1777320" y="10185480"/>
              <a:ext cx="22680" cy="37440"/>
            </a:xfrm>
            <a:custGeom>
              <a:avLst/>
              <a:gdLst/>
              <a:ahLst/>
              <a:rect l="l" t="t" r="r" b="b"/>
              <a:pathLst>
                <a:path w="196" h="370">
                  <a:moveTo>
                    <a:pt x="95" y="0"/>
                  </a:moveTo>
                  <a:lnTo>
                    <a:pt x="105" y="58"/>
                  </a:lnTo>
                  <a:lnTo>
                    <a:pt x="111" y="87"/>
                  </a:lnTo>
                  <a:lnTo>
                    <a:pt x="121" y="121"/>
                  </a:lnTo>
                  <a:lnTo>
                    <a:pt x="132" y="141"/>
                  </a:lnTo>
                  <a:lnTo>
                    <a:pt x="147" y="166"/>
                  </a:lnTo>
                  <a:lnTo>
                    <a:pt x="167" y="193"/>
                  </a:lnTo>
                  <a:lnTo>
                    <a:pt x="184" y="220"/>
                  </a:lnTo>
                  <a:lnTo>
                    <a:pt x="192" y="245"/>
                  </a:lnTo>
                  <a:lnTo>
                    <a:pt x="196" y="278"/>
                  </a:lnTo>
                  <a:lnTo>
                    <a:pt x="189" y="307"/>
                  </a:lnTo>
                  <a:lnTo>
                    <a:pt x="178" y="328"/>
                  </a:lnTo>
                  <a:lnTo>
                    <a:pt x="162" y="345"/>
                  </a:lnTo>
                  <a:lnTo>
                    <a:pt x="141" y="361"/>
                  </a:lnTo>
                  <a:lnTo>
                    <a:pt x="121" y="367"/>
                  </a:lnTo>
                  <a:lnTo>
                    <a:pt x="99" y="370"/>
                  </a:lnTo>
                  <a:lnTo>
                    <a:pt x="76" y="367"/>
                  </a:lnTo>
                  <a:lnTo>
                    <a:pt x="54" y="362"/>
                  </a:lnTo>
                  <a:lnTo>
                    <a:pt x="34" y="350"/>
                  </a:lnTo>
                  <a:lnTo>
                    <a:pt x="19" y="334"/>
                  </a:lnTo>
                  <a:lnTo>
                    <a:pt x="8" y="315"/>
                  </a:lnTo>
                  <a:lnTo>
                    <a:pt x="3" y="296"/>
                  </a:lnTo>
                  <a:lnTo>
                    <a:pt x="0" y="272"/>
                  </a:lnTo>
                  <a:lnTo>
                    <a:pt x="5" y="240"/>
                  </a:lnTo>
                  <a:lnTo>
                    <a:pt x="13" y="218"/>
                  </a:lnTo>
                  <a:lnTo>
                    <a:pt x="30" y="190"/>
                  </a:lnTo>
                  <a:lnTo>
                    <a:pt x="49" y="166"/>
                  </a:lnTo>
                  <a:lnTo>
                    <a:pt x="62" y="140"/>
                  </a:lnTo>
                  <a:lnTo>
                    <a:pt x="72" y="119"/>
                  </a:lnTo>
                  <a:lnTo>
                    <a:pt x="81" y="90"/>
                  </a:lnTo>
                  <a:lnTo>
                    <a:pt x="86" y="58"/>
                  </a:lnTo>
                  <a:lnTo>
                    <a:pt x="95" y="0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6" name=""/>
            <p:cNvSpPr/>
            <p:nvPr/>
          </p:nvSpPr>
          <p:spPr>
            <a:xfrm>
              <a:off x="-1885320" y="9927360"/>
              <a:ext cx="238680" cy="3564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7" name=""/>
            <p:cNvSpPr/>
            <p:nvPr/>
          </p:nvSpPr>
          <p:spPr>
            <a:xfrm>
              <a:off x="-1777320" y="10225440"/>
              <a:ext cx="22680" cy="37800"/>
            </a:xfrm>
            <a:custGeom>
              <a:avLst/>
              <a:gdLst/>
              <a:ahLst/>
              <a:rect l="l" t="t" r="r" b="b"/>
              <a:pathLst>
                <a:path w="196" h="372">
                  <a:moveTo>
                    <a:pt x="95" y="0"/>
                  </a:moveTo>
                  <a:lnTo>
                    <a:pt x="105" y="60"/>
                  </a:lnTo>
                  <a:lnTo>
                    <a:pt x="111" y="88"/>
                  </a:lnTo>
                  <a:lnTo>
                    <a:pt x="121" y="122"/>
                  </a:lnTo>
                  <a:lnTo>
                    <a:pt x="132" y="143"/>
                  </a:lnTo>
                  <a:lnTo>
                    <a:pt x="147" y="168"/>
                  </a:lnTo>
                  <a:lnTo>
                    <a:pt x="167" y="195"/>
                  </a:lnTo>
                  <a:lnTo>
                    <a:pt x="184" y="221"/>
                  </a:lnTo>
                  <a:lnTo>
                    <a:pt x="192" y="247"/>
                  </a:lnTo>
                  <a:lnTo>
                    <a:pt x="196" y="279"/>
                  </a:lnTo>
                  <a:lnTo>
                    <a:pt x="189" y="308"/>
                  </a:lnTo>
                  <a:lnTo>
                    <a:pt x="178" y="328"/>
                  </a:lnTo>
                  <a:lnTo>
                    <a:pt x="162" y="345"/>
                  </a:lnTo>
                  <a:lnTo>
                    <a:pt x="141" y="361"/>
                  </a:lnTo>
                  <a:lnTo>
                    <a:pt x="121" y="369"/>
                  </a:lnTo>
                  <a:lnTo>
                    <a:pt x="99" y="372"/>
                  </a:lnTo>
                  <a:lnTo>
                    <a:pt x="76" y="369"/>
                  </a:lnTo>
                  <a:lnTo>
                    <a:pt x="54" y="363"/>
                  </a:lnTo>
                  <a:lnTo>
                    <a:pt x="34" y="351"/>
                  </a:lnTo>
                  <a:lnTo>
                    <a:pt x="19" y="336"/>
                  </a:lnTo>
                  <a:lnTo>
                    <a:pt x="8" y="317"/>
                  </a:lnTo>
                  <a:lnTo>
                    <a:pt x="3" y="298"/>
                  </a:lnTo>
                  <a:lnTo>
                    <a:pt x="0" y="272"/>
                  </a:lnTo>
                  <a:lnTo>
                    <a:pt x="5" y="242"/>
                  </a:lnTo>
                  <a:lnTo>
                    <a:pt x="13" y="219"/>
                  </a:lnTo>
                  <a:lnTo>
                    <a:pt x="30" y="191"/>
                  </a:lnTo>
                  <a:lnTo>
                    <a:pt x="49" y="168"/>
                  </a:lnTo>
                  <a:lnTo>
                    <a:pt x="62" y="141"/>
                  </a:lnTo>
                  <a:lnTo>
                    <a:pt x="72" y="120"/>
                  </a:lnTo>
                  <a:lnTo>
                    <a:pt x="81" y="90"/>
                  </a:lnTo>
                  <a:lnTo>
                    <a:pt x="86" y="60"/>
                  </a:lnTo>
                  <a:lnTo>
                    <a:pt x="95" y="0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8" name=""/>
            <p:cNvSpPr/>
            <p:nvPr/>
          </p:nvSpPr>
          <p:spPr>
            <a:xfrm>
              <a:off x="-1840320" y="9986400"/>
              <a:ext cx="148680" cy="22680"/>
            </a:xfrm>
            <a:prstGeom prst="ellipse">
              <a:avLst/>
            </a:pr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9" name=""/>
            <p:cNvSpPr/>
            <p:nvPr/>
          </p:nvSpPr>
          <p:spPr>
            <a:xfrm>
              <a:off x="-1775880" y="10161720"/>
              <a:ext cx="19440" cy="17280"/>
            </a:xfrm>
            <a:prstGeom prst="ellipse">
              <a:avLst/>
            </a:prstGeom>
            <a:solidFill>
              <a:srgbClr val="009999"/>
            </a:solidFill>
            <a:ln w="1764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10" name=""/>
          <p:cNvGrpSpPr/>
          <p:nvPr/>
        </p:nvGrpSpPr>
        <p:grpSpPr>
          <a:xfrm>
            <a:off x="8556480" y="2208240"/>
            <a:ext cx="431640" cy="1728720"/>
            <a:chOff x="8556480" y="2208240"/>
            <a:chExt cx="431640" cy="1728720"/>
          </a:xfrm>
        </p:grpSpPr>
        <p:sp>
          <p:nvSpPr>
            <p:cNvPr id="8811" name=""/>
            <p:cNvSpPr/>
            <p:nvPr/>
          </p:nvSpPr>
          <p:spPr>
            <a:xfrm flipV="1">
              <a:off x="8556480" y="2208240"/>
              <a:ext cx="431640" cy="1728720"/>
            </a:xfrm>
            <a:prstGeom prst="upArrow">
              <a:avLst>
                <a:gd name="adj1" fmla="val 50000"/>
                <a:gd name="adj2" fmla="val 100125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2" name=""/>
            <p:cNvSpPr/>
            <p:nvPr/>
          </p:nvSpPr>
          <p:spPr>
            <a:xfrm rot="16200000">
              <a:off x="7966440" y="282492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1600" spc="-1" strike="noStrike">
                  <a:solidFill>
                    <a:srgbClr val="000000"/>
                  </a:solidFill>
                  <a:latin typeface="Times New Roman"/>
                </a:rPr>
                <a:t>Izotonické ztrá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13" name=""/>
          <p:cNvSpPr/>
          <p:nvPr/>
        </p:nvSpPr>
        <p:spPr>
          <a:xfrm flipV="1" rot="3467400">
            <a:off x="711720" y="4553280"/>
            <a:ext cx="431640" cy="2071440"/>
          </a:xfrm>
          <a:prstGeom prst="upArrow">
            <a:avLst>
              <a:gd name="adj1" fmla="val 50000"/>
              <a:gd name="adj2" fmla="val 119975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4" name=""/>
          <p:cNvSpPr/>
          <p:nvPr/>
        </p:nvSpPr>
        <p:spPr>
          <a:xfrm rot="19667400">
            <a:off x="55080" y="5405040"/>
            <a:ext cx="1755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600" spc="-1" strike="noStrike">
                <a:solidFill>
                  <a:srgbClr val="000000"/>
                </a:solidFill>
                <a:latin typeface="Times New Roman"/>
              </a:rPr>
              <a:t>Hypotonické ztrá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5" name=""/>
          <p:cNvSpPr/>
          <p:nvPr/>
        </p:nvSpPr>
        <p:spPr>
          <a:xfrm flipV="1" rot="14267400">
            <a:off x="6760080" y="16560"/>
            <a:ext cx="431640" cy="2071440"/>
          </a:xfrm>
          <a:prstGeom prst="upArrow">
            <a:avLst>
              <a:gd name="adj1" fmla="val 50000"/>
              <a:gd name="adj2" fmla="val 119975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6" name=""/>
          <p:cNvSpPr/>
          <p:nvPr/>
        </p:nvSpPr>
        <p:spPr>
          <a:xfrm rot="19667400">
            <a:off x="5945040" y="907920"/>
            <a:ext cx="191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600" spc="-1" strike="noStrike">
                <a:solidFill>
                  <a:srgbClr val="000000"/>
                </a:solidFill>
                <a:latin typeface="Times New Roman"/>
              </a:rPr>
              <a:t>Hypotonická re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17" name=""/>
          <p:cNvGrpSpPr/>
          <p:nvPr/>
        </p:nvGrpSpPr>
        <p:grpSpPr>
          <a:xfrm>
            <a:off x="8051760" y="368280"/>
            <a:ext cx="338040" cy="163080"/>
            <a:chOff x="8051760" y="368280"/>
            <a:chExt cx="338040" cy="163080"/>
          </a:xfrm>
        </p:grpSpPr>
        <p:grpSp>
          <p:nvGrpSpPr>
            <p:cNvPr id="8818" name=""/>
            <p:cNvGrpSpPr/>
            <p:nvPr/>
          </p:nvGrpSpPr>
          <p:grpSpPr>
            <a:xfrm>
              <a:off x="8053560" y="448920"/>
              <a:ext cx="336240" cy="82440"/>
              <a:chOff x="8053560" y="448920"/>
              <a:chExt cx="336240" cy="82440"/>
            </a:xfrm>
          </p:grpSpPr>
          <p:grpSp>
            <p:nvGrpSpPr>
              <p:cNvPr id="8819" name=""/>
              <p:cNvGrpSpPr/>
              <p:nvPr/>
            </p:nvGrpSpPr>
            <p:grpSpPr>
              <a:xfrm>
                <a:off x="8053560" y="469440"/>
                <a:ext cx="336240" cy="61920"/>
                <a:chOff x="8053560" y="469440"/>
                <a:chExt cx="336240" cy="61920"/>
              </a:xfrm>
            </p:grpSpPr>
            <p:grpSp>
              <p:nvGrpSpPr>
                <p:cNvPr id="8820" name=""/>
                <p:cNvGrpSpPr/>
                <p:nvPr/>
              </p:nvGrpSpPr>
              <p:grpSpPr>
                <a:xfrm>
                  <a:off x="8054280" y="469440"/>
                  <a:ext cx="332640" cy="61920"/>
                  <a:chOff x="8054280" y="469440"/>
                  <a:chExt cx="332640" cy="61920"/>
                </a:xfrm>
              </p:grpSpPr>
              <p:sp>
                <p:nvSpPr>
                  <p:cNvPr id="8821" name=""/>
                  <p:cNvSpPr/>
                  <p:nvPr/>
                </p:nvSpPr>
                <p:spPr>
                  <a:xfrm>
                    <a:off x="8054280" y="489240"/>
                    <a:ext cx="332640" cy="42120"/>
                  </a:xfrm>
                  <a:prstGeom prst="ellipse">
                    <a:avLst/>
                  </a:prstGeom>
                  <a:solidFill>
                    <a:srgbClr val="e0e0e0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920" bIns="-16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22" name=""/>
                  <p:cNvSpPr/>
                  <p:nvPr/>
                </p:nvSpPr>
                <p:spPr>
                  <a:xfrm>
                    <a:off x="8054280" y="469440"/>
                    <a:ext cx="332640" cy="41040"/>
                  </a:xfrm>
                  <a:prstGeom prst="rect">
                    <a:avLst/>
                  </a:pr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760" bIns="-5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823" name=""/>
                <p:cNvSpPr/>
                <p:nvPr/>
              </p:nvSpPr>
              <p:spPr>
                <a:xfrm flipV="1">
                  <a:off x="8053560" y="469800"/>
                  <a:ext cx="720" cy="4320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" bIns="-3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24" name=""/>
                <p:cNvSpPr/>
                <p:nvPr/>
              </p:nvSpPr>
              <p:spPr>
                <a:xfrm>
                  <a:off x="8389080" y="471240"/>
                  <a:ext cx="720" cy="4176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25" name=""/>
              <p:cNvGrpSpPr/>
              <p:nvPr/>
            </p:nvGrpSpPr>
            <p:grpSpPr>
              <a:xfrm>
                <a:off x="8054280" y="448920"/>
                <a:ext cx="332640" cy="41760"/>
                <a:chOff x="8054280" y="448920"/>
                <a:chExt cx="332640" cy="41760"/>
              </a:xfrm>
            </p:grpSpPr>
            <p:sp>
              <p:nvSpPr>
                <p:cNvPr id="8826" name=""/>
                <p:cNvSpPr/>
                <p:nvPr/>
              </p:nvSpPr>
              <p:spPr>
                <a:xfrm>
                  <a:off x="8054280" y="448920"/>
                  <a:ext cx="332640" cy="41760"/>
                </a:xfrm>
                <a:prstGeom prst="ellipse">
                  <a:avLst/>
                </a:prstGeom>
                <a:solidFill>
                  <a:srgbClr val="e0e0e0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27" name=""/>
                <p:cNvSpPr/>
                <p:nvPr/>
              </p:nvSpPr>
              <p:spPr>
                <a:xfrm>
                  <a:off x="8064360" y="455040"/>
                  <a:ext cx="312120" cy="32760"/>
                </a:xfrm>
                <a:prstGeom prst="ellipse">
                  <a:avLst/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828" name=""/>
            <p:cNvSpPr/>
            <p:nvPr/>
          </p:nvSpPr>
          <p:spPr>
            <a:xfrm>
              <a:off x="8051760" y="368280"/>
              <a:ext cx="324000" cy="124200"/>
            </a:xfrm>
            <a:custGeom>
              <a:avLst/>
              <a:gdLst/>
              <a:ahLst/>
              <a:rect l="l" t="t" r="r" b="b"/>
              <a:pathLst>
                <a:path w="500" h="213">
                  <a:moveTo>
                    <a:pt x="449" y="110"/>
                  </a:moveTo>
                  <a:cubicBezTo>
                    <a:pt x="429" y="97"/>
                    <a:pt x="376" y="44"/>
                    <a:pt x="327" y="30"/>
                  </a:cubicBezTo>
                  <a:cubicBezTo>
                    <a:pt x="278" y="16"/>
                    <a:pt x="208" y="0"/>
                    <a:pt x="157" y="24"/>
                  </a:cubicBezTo>
                  <a:cubicBezTo>
                    <a:pt x="106" y="48"/>
                    <a:pt x="0" y="146"/>
                    <a:pt x="20" y="177"/>
                  </a:cubicBezTo>
                  <a:cubicBezTo>
                    <a:pt x="24" y="191"/>
                    <a:pt x="216" y="204"/>
                    <a:pt x="275" y="210"/>
                  </a:cubicBezTo>
                  <a:cubicBezTo>
                    <a:pt x="340" y="213"/>
                    <a:pt x="382" y="197"/>
                    <a:pt x="413" y="194"/>
                  </a:cubicBezTo>
                  <a:cubicBezTo>
                    <a:pt x="444" y="191"/>
                    <a:pt x="447" y="193"/>
                    <a:pt x="461" y="190"/>
                  </a:cubicBezTo>
                  <a:cubicBezTo>
                    <a:pt x="475" y="187"/>
                    <a:pt x="492" y="180"/>
                    <a:pt x="500" y="177"/>
                  </a:cubicBezTo>
                </a:path>
              </a:pathLst>
            </a:custGeom>
            <a:blipFill rotWithShape="0">
              <a:blip r:embed="rId1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29" name=""/>
          <p:cNvGrpSpPr/>
          <p:nvPr/>
        </p:nvGrpSpPr>
        <p:grpSpPr>
          <a:xfrm>
            <a:off x="7050240" y="1812960"/>
            <a:ext cx="827280" cy="443520"/>
            <a:chOff x="7050240" y="1812960"/>
            <a:chExt cx="827280" cy="443520"/>
          </a:xfrm>
        </p:grpSpPr>
        <p:grpSp>
          <p:nvGrpSpPr>
            <p:cNvPr id="8830" name=""/>
            <p:cNvGrpSpPr/>
            <p:nvPr/>
          </p:nvGrpSpPr>
          <p:grpSpPr>
            <a:xfrm>
              <a:off x="7054560" y="2031840"/>
              <a:ext cx="822960" cy="224640"/>
              <a:chOff x="7054560" y="2031840"/>
              <a:chExt cx="822960" cy="224640"/>
            </a:xfrm>
          </p:grpSpPr>
          <p:grpSp>
            <p:nvGrpSpPr>
              <p:cNvPr id="8831" name=""/>
              <p:cNvGrpSpPr/>
              <p:nvPr/>
            </p:nvGrpSpPr>
            <p:grpSpPr>
              <a:xfrm>
                <a:off x="7054560" y="2087280"/>
                <a:ext cx="822960" cy="169200"/>
                <a:chOff x="7054560" y="2087280"/>
                <a:chExt cx="822960" cy="169200"/>
              </a:xfrm>
            </p:grpSpPr>
            <p:grpSp>
              <p:nvGrpSpPr>
                <p:cNvPr id="8832" name=""/>
                <p:cNvGrpSpPr/>
                <p:nvPr/>
              </p:nvGrpSpPr>
              <p:grpSpPr>
                <a:xfrm>
                  <a:off x="7056720" y="2087280"/>
                  <a:ext cx="814320" cy="169200"/>
                  <a:chOff x="7056720" y="2087280"/>
                  <a:chExt cx="814320" cy="169200"/>
                </a:xfrm>
              </p:grpSpPr>
              <p:sp>
                <p:nvSpPr>
                  <p:cNvPr id="8833" name=""/>
                  <p:cNvSpPr/>
                  <p:nvPr/>
                </p:nvSpPr>
                <p:spPr>
                  <a:xfrm>
                    <a:off x="7056720" y="2141640"/>
                    <a:ext cx="814320" cy="114840"/>
                  </a:xfrm>
                  <a:prstGeom prst="ellipse">
                    <a:avLst/>
                  </a:prstGeom>
                  <a:solidFill>
                    <a:srgbClr val="e0e0e0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920" bIns="34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34" name=""/>
                  <p:cNvSpPr/>
                  <p:nvPr/>
                </p:nvSpPr>
                <p:spPr>
                  <a:xfrm>
                    <a:off x="7056720" y="2087280"/>
                    <a:ext cx="814320" cy="111960"/>
                  </a:xfrm>
                  <a:prstGeom prst="rect">
                    <a:avLst/>
                  </a:pr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835" name=""/>
                <p:cNvSpPr/>
                <p:nvPr/>
              </p:nvSpPr>
              <p:spPr>
                <a:xfrm flipV="1">
                  <a:off x="7054560" y="2088720"/>
                  <a:ext cx="2160" cy="11808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36" name=""/>
                <p:cNvSpPr/>
                <p:nvPr/>
              </p:nvSpPr>
              <p:spPr>
                <a:xfrm>
                  <a:off x="7875720" y="2091960"/>
                  <a:ext cx="1800" cy="11340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37" name=""/>
              <p:cNvGrpSpPr/>
              <p:nvPr/>
            </p:nvGrpSpPr>
            <p:grpSpPr>
              <a:xfrm>
                <a:off x="7056720" y="2031840"/>
                <a:ext cx="814680" cy="113400"/>
                <a:chOff x="7056720" y="2031840"/>
                <a:chExt cx="814680" cy="113400"/>
              </a:xfrm>
            </p:grpSpPr>
            <p:sp>
              <p:nvSpPr>
                <p:cNvPr id="8838" name=""/>
                <p:cNvSpPr/>
                <p:nvPr/>
              </p:nvSpPr>
              <p:spPr>
                <a:xfrm>
                  <a:off x="7056720" y="2031840"/>
                  <a:ext cx="814680" cy="113400"/>
                </a:xfrm>
                <a:prstGeom prst="ellipse">
                  <a:avLst/>
                </a:prstGeom>
                <a:solidFill>
                  <a:srgbClr val="e0e0e0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480" bIns="33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39" name=""/>
                <p:cNvSpPr/>
                <p:nvPr/>
              </p:nvSpPr>
              <p:spPr>
                <a:xfrm>
                  <a:off x="7081560" y="2048400"/>
                  <a:ext cx="764640" cy="88560"/>
                </a:xfrm>
                <a:prstGeom prst="ellipse">
                  <a:avLst/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840" bIns="15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840" name=""/>
            <p:cNvSpPr/>
            <p:nvPr/>
          </p:nvSpPr>
          <p:spPr>
            <a:xfrm>
              <a:off x="7050240" y="1812960"/>
              <a:ext cx="793440" cy="338040"/>
            </a:xfrm>
            <a:custGeom>
              <a:avLst/>
              <a:gdLst/>
              <a:ahLst/>
              <a:rect l="l" t="t" r="r" b="b"/>
              <a:pathLst>
                <a:path w="500" h="213">
                  <a:moveTo>
                    <a:pt x="449" y="110"/>
                  </a:moveTo>
                  <a:cubicBezTo>
                    <a:pt x="429" y="97"/>
                    <a:pt x="376" y="44"/>
                    <a:pt x="327" y="30"/>
                  </a:cubicBezTo>
                  <a:cubicBezTo>
                    <a:pt x="278" y="16"/>
                    <a:pt x="208" y="0"/>
                    <a:pt x="157" y="24"/>
                  </a:cubicBezTo>
                  <a:cubicBezTo>
                    <a:pt x="106" y="48"/>
                    <a:pt x="0" y="146"/>
                    <a:pt x="20" y="177"/>
                  </a:cubicBezTo>
                  <a:cubicBezTo>
                    <a:pt x="24" y="191"/>
                    <a:pt x="216" y="204"/>
                    <a:pt x="275" y="210"/>
                  </a:cubicBezTo>
                  <a:cubicBezTo>
                    <a:pt x="340" y="213"/>
                    <a:pt x="382" y="197"/>
                    <a:pt x="413" y="194"/>
                  </a:cubicBezTo>
                  <a:cubicBezTo>
                    <a:pt x="444" y="191"/>
                    <a:pt x="447" y="193"/>
                    <a:pt x="461" y="190"/>
                  </a:cubicBezTo>
                  <a:cubicBezTo>
                    <a:pt x="475" y="187"/>
                    <a:pt x="492" y="180"/>
                    <a:pt x="500" y="177"/>
                  </a:cubicBezTo>
                </a:path>
              </a:pathLst>
            </a:custGeom>
            <a:blipFill rotWithShape="0">
              <a:blip r:embed="rId1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41" name=""/>
          <p:cNvGrpSpPr/>
          <p:nvPr/>
        </p:nvGrpSpPr>
        <p:grpSpPr>
          <a:xfrm>
            <a:off x="7647120" y="1781280"/>
            <a:ext cx="593640" cy="736200"/>
            <a:chOff x="7647120" y="1781280"/>
            <a:chExt cx="593640" cy="736200"/>
          </a:xfrm>
        </p:grpSpPr>
        <p:sp>
          <p:nvSpPr>
            <p:cNvPr id="8842" name=""/>
            <p:cNvSpPr/>
            <p:nvPr/>
          </p:nvSpPr>
          <p:spPr>
            <a:xfrm>
              <a:off x="7652520" y="1837440"/>
              <a:ext cx="582840" cy="505080"/>
            </a:xfrm>
            <a:custGeom>
              <a:avLst/>
              <a:gdLst/>
              <a:ahLst/>
              <a:rect l="l" t="t" r="r" b="b"/>
              <a:pathLst>
                <a:path w="2256" h="2295">
                  <a:moveTo>
                    <a:pt x="0" y="0"/>
                  </a:moveTo>
                  <a:lnTo>
                    <a:pt x="939" y="1180"/>
                  </a:lnTo>
                  <a:lnTo>
                    <a:pt x="980" y="2175"/>
                  </a:lnTo>
                  <a:lnTo>
                    <a:pt x="983" y="2202"/>
                  </a:lnTo>
                  <a:lnTo>
                    <a:pt x="991" y="2221"/>
                  </a:lnTo>
                  <a:lnTo>
                    <a:pt x="1000" y="2235"/>
                  </a:lnTo>
                  <a:lnTo>
                    <a:pt x="1010" y="2246"/>
                  </a:lnTo>
                  <a:lnTo>
                    <a:pt x="1024" y="2260"/>
                  </a:lnTo>
                  <a:lnTo>
                    <a:pt x="1038" y="2268"/>
                  </a:lnTo>
                  <a:lnTo>
                    <a:pt x="1060" y="2281"/>
                  </a:lnTo>
                  <a:lnTo>
                    <a:pt x="1083" y="2287"/>
                  </a:lnTo>
                  <a:lnTo>
                    <a:pt x="1111" y="2293"/>
                  </a:lnTo>
                  <a:lnTo>
                    <a:pt x="1128" y="2295"/>
                  </a:lnTo>
                  <a:lnTo>
                    <a:pt x="1145" y="2295"/>
                  </a:lnTo>
                  <a:lnTo>
                    <a:pt x="1163" y="2292"/>
                  </a:lnTo>
                  <a:lnTo>
                    <a:pt x="1183" y="2286"/>
                  </a:lnTo>
                  <a:lnTo>
                    <a:pt x="1202" y="2279"/>
                  </a:lnTo>
                  <a:lnTo>
                    <a:pt x="1221" y="2268"/>
                  </a:lnTo>
                  <a:lnTo>
                    <a:pt x="1235" y="2259"/>
                  </a:lnTo>
                  <a:lnTo>
                    <a:pt x="1251" y="2243"/>
                  </a:lnTo>
                  <a:lnTo>
                    <a:pt x="1262" y="2227"/>
                  </a:lnTo>
                  <a:lnTo>
                    <a:pt x="1273" y="2203"/>
                  </a:lnTo>
                  <a:lnTo>
                    <a:pt x="1276" y="2181"/>
                  </a:lnTo>
                  <a:lnTo>
                    <a:pt x="1336" y="1161"/>
                  </a:lnTo>
                  <a:lnTo>
                    <a:pt x="225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3" name=""/>
            <p:cNvSpPr/>
            <p:nvPr/>
          </p:nvSpPr>
          <p:spPr>
            <a:xfrm>
              <a:off x="7647120" y="1781280"/>
              <a:ext cx="593640" cy="95760"/>
            </a:xfrm>
            <a:prstGeom prst="ellipse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4" name=""/>
            <p:cNvSpPr/>
            <p:nvPr/>
          </p:nvSpPr>
          <p:spPr>
            <a:xfrm>
              <a:off x="7693560" y="1851840"/>
              <a:ext cx="505080" cy="475560"/>
            </a:xfrm>
            <a:custGeom>
              <a:avLst/>
              <a:gdLst/>
              <a:ahLst/>
              <a:rect l="l" t="t" r="r" b="b"/>
              <a:pathLst>
                <a:path w="1956" h="2159">
                  <a:moveTo>
                    <a:pt x="0" y="19"/>
                  </a:moveTo>
                  <a:lnTo>
                    <a:pt x="857" y="1063"/>
                  </a:lnTo>
                  <a:lnTo>
                    <a:pt x="879" y="2090"/>
                  </a:lnTo>
                  <a:lnTo>
                    <a:pt x="887" y="2107"/>
                  </a:lnTo>
                  <a:lnTo>
                    <a:pt x="897" y="2123"/>
                  </a:lnTo>
                  <a:lnTo>
                    <a:pt x="906" y="2137"/>
                  </a:lnTo>
                  <a:lnTo>
                    <a:pt x="922" y="2147"/>
                  </a:lnTo>
                  <a:lnTo>
                    <a:pt x="939" y="2156"/>
                  </a:lnTo>
                  <a:lnTo>
                    <a:pt x="962" y="2159"/>
                  </a:lnTo>
                  <a:lnTo>
                    <a:pt x="983" y="2157"/>
                  </a:lnTo>
                  <a:lnTo>
                    <a:pt x="1005" y="2153"/>
                  </a:lnTo>
                  <a:lnTo>
                    <a:pt x="1026" y="2140"/>
                  </a:lnTo>
                  <a:lnTo>
                    <a:pt x="1040" y="2123"/>
                  </a:lnTo>
                  <a:lnTo>
                    <a:pt x="1048" y="2109"/>
                  </a:lnTo>
                  <a:lnTo>
                    <a:pt x="1056" y="2088"/>
                  </a:lnTo>
                  <a:lnTo>
                    <a:pt x="1100" y="1045"/>
                  </a:lnTo>
                  <a:lnTo>
                    <a:pt x="1956" y="0"/>
                  </a:lnTo>
                  <a:lnTo>
                    <a:pt x="1790" y="41"/>
                  </a:lnTo>
                  <a:lnTo>
                    <a:pt x="1531" y="77"/>
                  </a:lnTo>
                  <a:lnTo>
                    <a:pt x="1247" y="98"/>
                  </a:lnTo>
                  <a:lnTo>
                    <a:pt x="962" y="109"/>
                  </a:lnTo>
                  <a:lnTo>
                    <a:pt x="662" y="98"/>
                  </a:lnTo>
                  <a:lnTo>
                    <a:pt x="398" y="77"/>
                  </a:lnTo>
                  <a:lnTo>
                    <a:pt x="178" y="52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5" name=""/>
            <p:cNvSpPr/>
            <p:nvPr/>
          </p:nvSpPr>
          <p:spPr>
            <a:xfrm>
              <a:off x="7780320" y="1948320"/>
              <a:ext cx="326160" cy="380520"/>
            </a:xfrm>
            <a:custGeom>
              <a:avLst/>
              <a:gdLst/>
              <a:ahLst/>
              <a:rect l="l" t="t" r="r" b="b"/>
              <a:pathLst>
                <a:path w="1264" h="1728">
                  <a:moveTo>
                    <a:pt x="0" y="0"/>
                  </a:moveTo>
                  <a:lnTo>
                    <a:pt x="520" y="624"/>
                  </a:lnTo>
                  <a:lnTo>
                    <a:pt x="531" y="1657"/>
                  </a:lnTo>
                  <a:lnTo>
                    <a:pt x="541" y="1674"/>
                  </a:lnTo>
                  <a:lnTo>
                    <a:pt x="553" y="1688"/>
                  </a:lnTo>
                  <a:lnTo>
                    <a:pt x="564" y="1701"/>
                  </a:lnTo>
                  <a:lnTo>
                    <a:pt x="580" y="1715"/>
                  </a:lnTo>
                  <a:lnTo>
                    <a:pt x="608" y="1723"/>
                  </a:lnTo>
                  <a:lnTo>
                    <a:pt x="632" y="1728"/>
                  </a:lnTo>
                  <a:lnTo>
                    <a:pt x="651" y="1725"/>
                  </a:lnTo>
                  <a:lnTo>
                    <a:pt x="673" y="1720"/>
                  </a:lnTo>
                  <a:lnTo>
                    <a:pt x="694" y="1709"/>
                  </a:lnTo>
                  <a:lnTo>
                    <a:pt x="711" y="1692"/>
                  </a:lnTo>
                  <a:lnTo>
                    <a:pt x="723" y="1669"/>
                  </a:lnTo>
                  <a:lnTo>
                    <a:pt x="730" y="1657"/>
                  </a:lnTo>
                  <a:lnTo>
                    <a:pt x="761" y="605"/>
                  </a:lnTo>
                  <a:lnTo>
                    <a:pt x="126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6" name=""/>
            <p:cNvSpPr/>
            <p:nvPr/>
          </p:nvSpPr>
          <p:spPr>
            <a:xfrm>
              <a:off x="7918200" y="2349360"/>
              <a:ext cx="51120" cy="81720"/>
            </a:xfrm>
            <a:custGeom>
              <a:avLst/>
              <a:gdLst/>
              <a:ahLst/>
              <a:rect l="l" t="t" r="r" b="b"/>
              <a:pathLst>
                <a:path w="196" h="370">
                  <a:moveTo>
                    <a:pt x="95" y="0"/>
                  </a:moveTo>
                  <a:lnTo>
                    <a:pt x="105" y="58"/>
                  </a:lnTo>
                  <a:lnTo>
                    <a:pt x="111" y="87"/>
                  </a:lnTo>
                  <a:lnTo>
                    <a:pt x="121" y="121"/>
                  </a:lnTo>
                  <a:lnTo>
                    <a:pt x="132" y="141"/>
                  </a:lnTo>
                  <a:lnTo>
                    <a:pt x="147" y="166"/>
                  </a:lnTo>
                  <a:lnTo>
                    <a:pt x="167" y="193"/>
                  </a:lnTo>
                  <a:lnTo>
                    <a:pt x="184" y="220"/>
                  </a:lnTo>
                  <a:lnTo>
                    <a:pt x="192" y="245"/>
                  </a:lnTo>
                  <a:lnTo>
                    <a:pt x="196" y="278"/>
                  </a:lnTo>
                  <a:lnTo>
                    <a:pt x="189" y="307"/>
                  </a:lnTo>
                  <a:lnTo>
                    <a:pt x="178" y="328"/>
                  </a:lnTo>
                  <a:lnTo>
                    <a:pt x="162" y="345"/>
                  </a:lnTo>
                  <a:lnTo>
                    <a:pt x="141" y="361"/>
                  </a:lnTo>
                  <a:lnTo>
                    <a:pt x="121" y="367"/>
                  </a:lnTo>
                  <a:lnTo>
                    <a:pt x="99" y="370"/>
                  </a:lnTo>
                  <a:lnTo>
                    <a:pt x="76" y="367"/>
                  </a:lnTo>
                  <a:lnTo>
                    <a:pt x="54" y="362"/>
                  </a:lnTo>
                  <a:lnTo>
                    <a:pt x="34" y="350"/>
                  </a:lnTo>
                  <a:lnTo>
                    <a:pt x="19" y="334"/>
                  </a:lnTo>
                  <a:lnTo>
                    <a:pt x="8" y="315"/>
                  </a:lnTo>
                  <a:lnTo>
                    <a:pt x="3" y="296"/>
                  </a:lnTo>
                  <a:lnTo>
                    <a:pt x="0" y="272"/>
                  </a:lnTo>
                  <a:lnTo>
                    <a:pt x="5" y="240"/>
                  </a:lnTo>
                  <a:lnTo>
                    <a:pt x="13" y="218"/>
                  </a:lnTo>
                  <a:lnTo>
                    <a:pt x="30" y="190"/>
                  </a:lnTo>
                  <a:lnTo>
                    <a:pt x="49" y="166"/>
                  </a:lnTo>
                  <a:lnTo>
                    <a:pt x="62" y="140"/>
                  </a:lnTo>
                  <a:lnTo>
                    <a:pt x="72" y="119"/>
                  </a:lnTo>
                  <a:lnTo>
                    <a:pt x="81" y="90"/>
                  </a:lnTo>
                  <a:lnTo>
                    <a:pt x="86" y="58"/>
                  </a:lnTo>
                  <a:lnTo>
                    <a:pt x="95" y="0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7" name=""/>
            <p:cNvSpPr/>
            <p:nvPr/>
          </p:nvSpPr>
          <p:spPr>
            <a:xfrm>
              <a:off x="7676640" y="1790280"/>
              <a:ext cx="534600" cy="7704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8" name=""/>
            <p:cNvSpPr/>
            <p:nvPr/>
          </p:nvSpPr>
          <p:spPr>
            <a:xfrm>
              <a:off x="7918200" y="2435760"/>
              <a:ext cx="51120" cy="81720"/>
            </a:xfrm>
            <a:custGeom>
              <a:avLst/>
              <a:gdLst/>
              <a:ahLst/>
              <a:rect l="l" t="t" r="r" b="b"/>
              <a:pathLst>
                <a:path w="196" h="372">
                  <a:moveTo>
                    <a:pt x="95" y="0"/>
                  </a:moveTo>
                  <a:lnTo>
                    <a:pt x="105" y="60"/>
                  </a:lnTo>
                  <a:lnTo>
                    <a:pt x="111" y="88"/>
                  </a:lnTo>
                  <a:lnTo>
                    <a:pt x="121" y="122"/>
                  </a:lnTo>
                  <a:lnTo>
                    <a:pt x="132" y="143"/>
                  </a:lnTo>
                  <a:lnTo>
                    <a:pt x="147" y="168"/>
                  </a:lnTo>
                  <a:lnTo>
                    <a:pt x="167" y="195"/>
                  </a:lnTo>
                  <a:lnTo>
                    <a:pt x="184" y="221"/>
                  </a:lnTo>
                  <a:lnTo>
                    <a:pt x="192" y="247"/>
                  </a:lnTo>
                  <a:lnTo>
                    <a:pt x="196" y="279"/>
                  </a:lnTo>
                  <a:lnTo>
                    <a:pt x="189" y="308"/>
                  </a:lnTo>
                  <a:lnTo>
                    <a:pt x="178" y="328"/>
                  </a:lnTo>
                  <a:lnTo>
                    <a:pt x="162" y="345"/>
                  </a:lnTo>
                  <a:lnTo>
                    <a:pt x="141" y="361"/>
                  </a:lnTo>
                  <a:lnTo>
                    <a:pt x="121" y="369"/>
                  </a:lnTo>
                  <a:lnTo>
                    <a:pt x="99" y="372"/>
                  </a:lnTo>
                  <a:lnTo>
                    <a:pt x="76" y="369"/>
                  </a:lnTo>
                  <a:lnTo>
                    <a:pt x="54" y="363"/>
                  </a:lnTo>
                  <a:lnTo>
                    <a:pt x="34" y="351"/>
                  </a:lnTo>
                  <a:lnTo>
                    <a:pt x="19" y="336"/>
                  </a:lnTo>
                  <a:lnTo>
                    <a:pt x="8" y="317"/>
                  </a:lnTo>
                  <a:lnTo>
                    <a:pt x="3" y="298"/>
                  </a:lnTo>
                  <a:lnTo>
                    <a:pt x="0" y="272"/>
                  </a:lnTo>
                  <a:lnTo>
                    <a:pt x="5" y="242"/>
                  </a:lnTo>
                  <a:lnTo>
                    <a:pt x="13" y="219"/>
                  </a:lnTo>
                  <a:lnTo>
                    <a:pt x="30" y="191"/>
                  </a:lnTo>
                  <a:lnTo>
                    <a:pt x="49" y="168"/>
                  </a:lnTo>
                  <a:lnTo>
                    <a:pt x="62" y="141"/>
                  </a:lnTo>
                  <a:lnTo>
                    <a:pt x="72" y="120"/>
                  </a:lnTo>
                  <a:lnTo>
                    <a:pt x="81" y="90"/>
                  </a:lnTo>
                  <a:lnTo>
                    <a:pt x="86" y="60"/>
                  </a:lnTo>
                  <a:lnTo>
                    <a:pt x="95" y="0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9" name=""/>
            <p:cNvSpPr/>
            <p:nvPr/>
          </p:nvSpPr>
          <p:spPr>
            <a:xfrm>
              <a:off x="7777080" y="1918080"/>
              <a:ext cx="333000" cy="49320"/>
            </a:xfrm>
            <a:prstGeom prst="ellipse">
              <a:avLst/>
            </a:pr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0" name=""/>
            <p:cNvSpPr/>
            <p:nvPr/>
          </p:nvSpPr>
          <p:spPr>
            <a:xfrm>
              <a:off x="7921440" y="2297880"/>
              <a:ext cx="44280" cy="38160"/>
            </a:xfrm>
            <a:prstGeom prst="ellipse">
              <a:avLst/>
            </a:prstGeom>
            <a:solidFill>
              <a:srgbClr val="009999"/>
            </a:solidFill>
            <a:ln w="1764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51" name=""/>
          <p:cNvSpPr/>
          <p:nvPr/>
        </p:nvSpPr>
        <p:spPr>
          <a:xfrm flipV="1" rot="18784800">
            <a:off x="7557120" y="3976200"/>
            <a:ext cx="432000" cy="2072160"/>
          </a:xfrm>
          <a:prstGeom prst="upArrow">
            <a:avLst>
              <a:gd name="adj1" fmla="val 50000"/>
              <a:gd name="adj2" fmla="val 11991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2" name=""/>
          <p:cNvSpPr/>
          <p:nvPr/>
        </p:nvSpPr>
        <p:spPr>
          <a:xfrm rot="2535000">
            <a:off x="6778080" y="4736880"/>
            <a:ext cx="182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600" spc="-1" strike="noStrike">
                <a:solidFill>
                  <a:srgbClr val="000000"/>
                </a:solidFill>
                <a:latin typeface="Times New Roman"/>
              </a:rPr>
              <a:t>Hypertonické ztrá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3" name=""/>
          <p:cNvSpPr/>
          <p:nvPr/>
        </p:nvSpPr>
        <p:spPr>
          <a:xfrm flipV="1" rot="7984800">
            <a:off x="7234920" y="4800600"/>
            <a:ext cx="431640" cy="2071440"/>
          </a:xfrm>
          <a:prstGeom prst="upArrow">
            <a:avLst>
              <a:gd name="adj1" fmla="val 50000"/>
              <a:gd name="adj2" fmla="val 119975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4" name=""/>
          <p:cNvSpPr/>
          <p:nvPr/>
        </p:nvSpPr>
        <p:spPr>
          <a:xfrm rot="2535000">
            <a:off x="6549480" y="5727240"/>
            <a:ext cx="197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600" spc="-1" strike="noStrike">
                <a:solidFill>
                  <a:srgbClr val="000000"/>
                </a:solidFill>
                <a:latin typeface="Times New Roman"/>
              </a:rPr>
              <a:t>Hypertonická re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55" name=""/>
          <p:cNvGrpSpPr/>
          <p:nvPr/>
        </p:nvGrpSpPr>
        <p:grpSpPr>
          <a:xfrm>
            <a:off x="6622920" y="4606920"/>
            <a:ext cx="189000" cy="209520"/>
            <a:chOff x="6622920" y="4606920"/>
            <a:chExt cx="189000" cy="209520"/>
          </a:xfrm>
        </p:grpSpPr>
        <p:sp>
          <p:nvSpPr>
            <p:cNvPr id="8856" name=""/>
            <p:cNvSpPr/>
            <p:nvPr/>
          </p:nvSpPr>
          <p:spPr>
            <a:xfrm>
              <a:off x="6624360" y="4622760"/>
              <a:ext cx="185760" cy="143640"/>
            </a:xfrm>
            <a:custGeom>
              <a:avLst/>
              <a:gdLst/>
              <a:ahLst/>
              <a:rect l="l" t="t" r="r" b="b"/>
              <a:pathLst>
                <a:path w="2256" h="2295">
                  <a:moveTo>
                    <a:pt x="0" y="0"/>
                  </a:moveTo>
                  <a:lnTo>
                    <a:pt x="939" y="1180"/>
                  </a:lnTo>
                  <a:lnTo>
                    <a:pt x="980" y="2175"/>
                  </a:lnTo>
                  <a:lnTo>
                    <a:pt x="983" y="2202"/>
                  </a:lnTo>
                  <a:lnTo>
                    <a:pt x="991" y="2221"/>
                  </a:lnTo>
                  <a:lnTo>
                    <a:pt x="1000" y="2235"/>
                  </a:lnTo>
                  <a:lnTo>
                    <a:pt x="1010" y="2246"/>
                  </a:lnTo>
                  <a:lnTo>
                    <a:pt x="1024" y="2260"/>
                  </a:lnTo>
                  <a:lnTo>
                    <a:pt x="1038" y="2268"/>
                  </a:lnTo>
                  <a:lnTo>
                    <a:pt x="1060" y="2281"/>
                  </a:lnTo>
                  <a:lnTo>
                    <a:pt x="1083" y="2287"/>
                  </a:lnTo>
                  <a:lnTo>
                    <a:pt x="1111" y="2293"/>
                  </a:lnTo>
                  <a:lnTo>
                    <a:pt x="1128" y="2295"/>
                  </a:lnTo>
                  <a:lnTo>
                    <a:pt x="1145" y="2295"/>
                  </a:lnTo>
                  <a:lnTo>
                    <a:pt x="1163" y="2292"/>
                  </a:lnTo>
                  <a:lnTo>
                    <a:pt x="1183" y="2286"/>
                  </a:lnTo>
                  <a:lnTo>
                    <a:pt x="1202" y="2279"/>
                  </a:lnTo>
                  <a:lnTo>
                    <a:pt x="1221" y="2268"/>
                  </a:lnTo>
                  <a:lnTo>
                    <a:pt x="1235" y="2259"/>
                  </a:lnTo>
                  <a:lnTo>
                    <a:pt x="1251" y="2243"/>
                  </a:lnTo>
                  <a:lnTo>
                    <a:pt x="1262" y="2227"/>
                  </a:lnTo>
                  <a:lnTo>
                    <a:pt x="1273" y="2203"/>
                  </a:lnTo>
                  <a:lnTo>
                    <a:pt x="1276" y="2181"/>
                  </a:lnTo>
                  <a:lnTo>
                    <a:pt x="1336" y="1161"/>
                  </a:lnTo>
                  <a:lnTo>
                    <a:pt x="225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7" name=""/>
            <p:cNvSpPr/>
            <p:nvPr/>
          </p:nvSpPr>
          <p:spPr>
            <a:xfrm>
              <a:off x="6622920" y="4606920"/>
              <a:ext cx="189000" cy="27000"/>
            </a:xfrm>
            <a:prstGeom prst="ellipse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8" name=""/>
            <p:cNvSpPr/>
            <p:nvPr/>
          </p:nvSpPr>
          <p:spPr>
            <a:xfrm>
              <a:off x="6637680" y="4626720"/>
              <a:ext cx="160920" cy="135360"/>
            </a:xfrm>
            <a:custGeom>
              <a:avLst/>
              <a:gdLst/>
              <a:ahLst/>
              <a:rect l="l" t="t" r="r" b="b"/>
              <a:pathLst>
                <a:path w="1956" h="2159">
                  <a:moveTo>
                    <a:pt x="0" y="19"/>
                  </a:moveTo>
                  <a:lnTo>
                    <a:pt x="857" y="1063"/>
                  </a:lnTo>
                  <a:lnTo>
                    <a:pt x="879" y="2090"/>
                  </a:lnTo>
                  <a:lnTo>
                    <a:pt x="887" y="2107"/>
                  </a:lnTo>
                  <a:lnTo>
                    <a:pt x="897" y="2123"/>
                  </a:lnTo>
                  <a:lnTo>
                    <a:pt x="906" y="2137"/>
                  </a:lnTo>
                  <a:lnTo>
                    <a:pt x="922" y="2147"/>
                  </a:lnTo>
                  <a:lnTo>
                    <a:pt x="939" y="2156"/>
                  </a:lnTo>
                  <a:lnTo>
                    <a:pt x="962" y="2159"/>
                  </a:lnTo>
                  <a:lnTo>
                    <a:pt x="983" y="2157"/>
                  </a:lnTo>
                  <a:lnTo>
                    <a:pt x="1005" y="2153"/>
                  </a:lnTo>
                  <a:lnTo>
                    <a:pt x="1026" y="2140"/>
                  </a:lnTo>
                  <a:lnTo>
                    <a:pt x="1040" y="2123"/>
                  </a:lnTo>
                  <a:lnTo>
                    <a:pt x="1048" y="2109"/>
                  </a:lnTo>
                  <a:lnTo>
                    <a:pt x="1056" y="2088"/>
                  </a:lnTo>
                  <a:lnTo>
                    <a:pt x="1100" y="1045"/>
                  </a:lnTo>
                  <a:lnTo>
                    <a:pt x="1956" y="0"/>
                  </a:lnTo>
                  <a:lnTo>
                    <a:pt x="1790" y="41"/>
                  </a:lnTo>
                  <a:lnTo>
                    <a:pt x="1531" y="77"/>
                  </a:lnTo>
                  <a:lnTo>
                    <a:pt x="1247" y="98"/>
                  </a:lnTo>
                  <a:lnTo>
                    <a:pt x="962" y="109"/>
                  </a:lnTo>
                  <a:lnTo>
                    <a:pt x="662" y="98"/>
                  </a:lnTo>
                  <a:lnTo>
                    <a:pt x="398" y="77"/>
                  </a:lnTo>
                  <a:lnTo>
                    <a:pt x="178" y="52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9" name=""/>
            <p:cNvSpPr/>
            <p:nvPr/>
          </p:nvSpPr>
          <p:spPr>
            <a:xfrm>
              <a:off x="6665400" y="4654440"/>
              <a:ext cx="103680" cy="108360"/>
            </a:xfrm>
            <a:custGeom>
              <a:avLst/>
              <a:gdLst/>
              <a:ahLst/>
              <a:rect l="l" t="t" r="r" b="b"/>
              <a:pathLst>
                <a:path w="1264" h="1728">
                  <a:moveTo>
                    <a:pt x="0" y="0"/>
                  </a:moveTo>
                  <a:lnTo>
                    <a:pt x="520" y="624"/>
                  </a:lnTo>
                  <a:lnTo>
                    <a:pt x="531" y="1657"/>
                  </a:lnTo>
                  <a:lnTo>
                    <a:pt x="541" y="1674"/>
                  </a:lnTo>
                  <a:lnTo>
                    <a:pt x="553" y="1688"/>
                  </a:lnTo>
                  <a:lnTo>
                    <a:pt x="564" y="1701"/>
                  </a:lnTo>
                  <a:lnTo>
                    <a:pt x="580" y="1715"/>
                  </a:lnTo>
                  <a:lnTo>
                    <a:pt x="608" y="1723"/>
                  </a:lnTo>
                  <a:lnTo>
                    <a:pt x="632" y="1728"/>
                  </a:lnTo>
                  <a:lnTo>
                    <a:pt x="651" y="1725"/>
                  </a:lnTo>
                  <a:lnTo>
                    <a:pt x="673" y="1720"/>
                  </a:lnTo>
                  <a:lnTo>
                    <a:pt x="694" y="1709"/>
                  </a:lnTo>
                  <a:lnTo>
                    <a:pt x="711" y="1692"/>
                  </a:lnTo>
                  <a:lnTo>
                    <a:pt x="723" y="1669"/>
                  </a:lnTo>
                  <a:lnTo>
                    <a:pt x="730" y="1657"/>
                  </a:lnTo>
                  <a:lnTo>
                    <a:pt x="761" y="605"/>
                  </a:lnTo>
                  <a:lnTo>
                    <a:pt x="126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0" name=""/>
            <p:cNvSpPr/>
            <p:nvPr/>
          </p:nvSpPr>
          <p:spPr>
            <a:xfrm>
              <a:off x="6709320" y="4768560"/>
              <a:ext cx="16200" cy="23040"/>
            </a:xfrm>
            <a:custGeom>
              <a:avLst/>
              <a:gdLst/>
              <a:ahLst/>
              <a:rect l="l" t="t" r="r" b="b"/>
              <a:pathLst>
                <a:path w="196" h="370">
                  <a:moveTo>
                    <a:pt x="95" y="0"/>
                  </a:moveTo>
                  <a:lnTo>
                    <a:pt x="105" y="58"/>
                  </a:lnTo>
                  <a:lnTo>
                    <a:pt x="111" y="87"/>
                  </a:lnTo>
                  <a:lnTo>
                    <a:pt x="121" y="121"/>
                  </a:lnTo>
                  <a:lnTo>
                    <a:pt x="132" y="141"/>
                  </a:lnTo>
                  <a:lnTo>
                    <a:pt x="147" y="166"/>
                  </a:lnTo>
                  <a:lnTo>
                    <a:pt x="167" y="193"/>
                  </a:lnTo>
                  <a:lnTo>
                    <a:pt x="184" y="220"/>
                  </a:lnTo>
                  <a:lnTo>
                    <a:pt x="192" y="245"/>
                  </a:lnTo>
                  <a:lnTo>
                    <a:pt x="196" y="278"/>
                  </a:lnTo>
                  <a:lnTo>
                    <a:pt x="189" y="307"/>
                  </a:lnTo>
                  <a:lnTo>
                    <a:pt x="178" y="328"/>
                  </a:lnTo>
                  <a:lnTo>
                    <a:pt x="162" y="345"/>
                  </a:lnTo>
                  <a:lnTo>
                    <a:pt x="141" y="361"/>
                  </a:lnTo>
                  <a:lnTo>
                    <a:pt x="121" y="367"/>
                  </a:lnTo>
                  <a:lnTo>
                    <a:pt x="99" y="370"/>
                  </a:lnTo>
                  <a:lnTo>
                    <a:pt x="76" y="367"/>
                  </a:lnTo>
                  <a:lnTo>
                    <a:pt x="54" y="362"/>
                  </a:lnTo>
                  <a:lnTo>
                    <a:pt x="34" y="350"/>
                  </a:lnTo>
                  <a:lnTo>
                    <a:pt x="19" y="334"/>
                  </a:lnTo>
                  <a:lnTo>
                    <a:pt x="8" y="315"/>
                  </a:lnTo>
                  <a:lnTo>
                    <a:pt x="3" y="296"/>
                  </a:lnTo>
                  <a:lnTo>
                    <a:pt x="0" y="272"/>
                  </a:lnTo>
                  <a:lnTo>
                    <a:pt x="5" y="240"/>
                  </a:lnTo>
                  <a:lnTo>
                    <a:pt x="13" y="218"/>
                  </a:lnTo>
                  <a:lnTo>
                    <a:pt x="30" y="190"/>
                  </a:lnTo>
                  <a:lnTo>
                    <a:pt x="49" y="166"/>
                  </a:lnTo>
                  <a:lnTo>
                    <a:pt x="62" y="140"/>
                  </a:lnTo>
                  <a:lnTo>
                    <a:pt x="72" y="119"/>
                  </a:lnTo>
                  <a:lnTo>
                    <a:pt x="81" y="90"/>
                  </a:lnTo>
                  <a:lnTo>
                    <a:pt x="86" y="58"/>
                  </a:lnTo>
                  <a:lnTo>
                    <a:pt x="95" y="0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1" name=""/>
            <p:cNvSpPr/>
            <p:nvPr/>
          </p:nvSpPr>
          <p:spPr>
            <a:xfrm>
              <a:off x="6632280" y="4609440"/>
              <a:ext cx="170280" cy="2196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2" name=""/>
            <p:cNvSpPr/>
            <p:nvPr/>
          </p:nvSpPr>
          <p:spPr>
            <a:xfrm>
              <a:off x="6709320" y="4793400"/>
              <a:ext cx="16200" cy="23040"/>
            </a:xfrm>
            <a:custGeom>
              <a:avLst/>
              <a:gdLst/>
              <a:ahLst/>
              <a:rect l="l" t="t" r="r" b="b"/>
              <a:pathLst>
                <a:path w="196" h="372">
                  <a:moveTo>
                    <a:pt x="95" y="0"/>
                  </a:moveTo>
                  <a:lnTo>
                    <a:pt x="105" y="60"/>
                  </a:lnTo>
                  <a:lnTo>
                    <a:pt x="111" y="88"/>
                  </a:lnTo>
                  <a:lnTo>
                    <a:pt x="121" y="122"/>
                  </a:lnTo>
                  <a:lnTo>
                    <a:pt x="132" y="143"/>
                  </a:lnTo>
                  <a:lnTo>
                    <a:pt x="147" y="168"/>
                  </a:lnTo>
                  <a:lnTo>
                    <a:pt x="167" y="195"/>
                  </a:lnTo>
                  <a:lnTo>
                    <a:pt x="184" y="221"/>
                  </a:lnTo>
                  <a:lnTo>
                    <a:pt x="192" y="247"/>
                  </a:lnTo>
                  <a:lnTo>
                    <a:pt x="196" y="279"/>
                  </a:lnTo>
                  <a:lnTo>
                    <a:pt x="189" y="308"/>
                  </a:lnTo>
                  <a:lnTo>
                    <a:pt x="178" y="328"/>
                  </a:lnTo>
                  <a:lnTo>
                    <a:pt x="162" y="345"/>
                  </a:lnTo>
                  <a:lnTo>
                    <a:pt x="141" y="361"/>
                  </a:lnTo>
                  <a:lnTo>
                    <a:pt x="121" y="369"/>
                  </a:lnTo>
                  <a:lnTo>
                    <a:pt x="99" y="372"/>
                  </a:lnTo>
                  <a:lnTo>
                    <a:pt x="76" y="369"/>
                  </a:lnTo>
                  <a:lnTo>
                    <a:pt x="54" y="363"/>
                  </a:lnTo>
                  <a:lnTo>
                    <a:pt x="34" y="351"/>
                  </a:lnTo>
                  <a:lnTo>
                    <a:pt x="19" y="336"/>
                  </a:lnTo>
                  <a:lnTo>
                    <a:pt x="8" y="317"/>
                  </a:lnTo>
                  <a:lnTo>
                    <a:pt x="3" y="298"/>
                  </a:lnTo>
                  <a:lnTo>
                    <a:pt x="0" y="272"/>
                  </a:lnTo>
                  <a:lnTo>
                    <a:pt x="5" y="242"/>
                  </a:lnTo>
                  <a:lnTo>
                    <a:pt x="13" y="219"/>
                  </a:lnTo>
                  <a:lnTo>
                    <a:pt x="30" y="191"/>
                  </a:lnTo>
                  <a:lnTo>
                    <a:pt x="49" y="168"/>
                  </a:lnTo>
                  <a:lnTo>
                    <a:pt x="62" y="141"/>
                  </a:lnTo>
                  <a:lnTo>
                    <a:pt x="72" y="120"/>
                  </a:lnTo>
                  <a:lnTo>
                    <a:pt x="81" y="90"/>
                  </a:lnTo>
                  <a:lnTo>
                    <a:pt x="86" y="60"/>
                  </a:lnTo>
                  <a:lnTo>
                    <a:pt x="95" y="0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3" name=""/>
            <p:cNvSpPr/>
            <p:nvPr/>
          </p:nvSpPr>
          <p:spPr>
            <a:xfrm>
              <a:off x="6664320" y="4645800"/>
              <a:ext cx="106200" cy="14040"/>
            </a:xfrm>
            <a:prstGeom prst="ellipse">
              <a:avLst/>
            </a:pr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4" name=""/>
            <p:cNvSpPr/>
            <p:nvPr/>
          </p:nvSpPr>
          <p:spPr>
            <a:xfrm>
              <a:off x="6710040" y="4753800"/>
              <a:ext cx="14040" cy="10800"/>
            </a:xfrm>
            <a:prstGeom prst="ellipse">
              <a:avLst/>
            </a:prstGeom>
            <a:solidFill>
              <a:srgbClr val="009999"/>
            </a:solidFill>
            <a:ln w="1764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65" name=""/>
          <p:cNvGrpSpPr/>
          <p:nvPr/>
        </p:nvGrpSpPr>
        <p:grpSpPr>
          <a:xfrm>
            <a:off x="835920" y="6255720"/>
            <a:ext cx="304200" cy="328320"/>
            <a:chOff x="835920" y="6255720"/>
            <a:chExt cx="304200" cy="328320"/>
          </a:xfrm>
        </p:grpSpPr>
        <p:grpSp>
          <p:nvGrpSpPr>
            <p:cNvPr id="8866" name=""/>
            <p:cNvGrpSpPr/>
            <p:nvPr/>
          </p:nvGrpSpPr>
          <p:grpSpPr>
            <a:xfrm>
              <a:off x="846720" y="6264360"/>
              <a:ext cx="240840" cy="157320"/>
              <a:chOff x="846720" y="6264360"/>
              <a:chExt cx="240840" cy="157320"/>
            </a:xfrm>
          </p:grpSpPr>
          <p:grpSp>
            <p:nvGrpSpPr>
              <p:cNvPr id="8867" name=""/>
              <p:cNvGrpSpPr/>
              <p:nvPr/>
            </p:nvGrpSpPr>
            <p:grpSpPr>
              <a:xfrm>
                <a:off x="846720" y="6280560"/>
                <a:ext cx="235080" cy="141120"/>
                <a:chOff x="846720" y="6280560"/>
                <a:chExt cx="235080" cy="141120"/>
              </a:xfrm>
            </p:grpSpPr>
            <p:grpSp>
              <p:nvGrpSpPr>
                <p:cNvPr id="8868" name=""/>
                <p:cNvGrpSpPr/>
                <p:nvPr/>
              </p:nvGrpSpPr>
              <p:grpSpPr>
                <a:xfrm>
                  <a:off x="846720" y="6280560"/>
                  <a:ext cx="234000" cy="141120"/>
                  <a:chOff x="846720" y="6280560"/>
                  <a:chExt cx="234000" cy="141120"/>
                </a:xfrm>
              </p:grpSpPr>
              <p:sp>
                <p:nvSpPr>
                  <p:cNvPr id="8869" name=""/>
                  <p:cNvSpPr/>
                  <p:nvPr/>
                </p:nvSpPr>
                <p:spPr>
                  <a:xfrm rot="1404600">
                    <a:off x="844200" y="6340680"/>
                    <a:ext cx="231480" cy="36360"/>
                  </a:xfrm>
                  <a:prstGeom prst="ellipse">
                    <a:avLst/>
                  </a:prstGeom>
                  <a:solidFill>
                    <a:srgbClr val="e0e0e0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70" name=""/>
                  <p:cNvSpPr/>
                  <p:nvPr/>
                </p:nvSpPr>
                <p:spPr>
                  <a:xfrm rot="1404600">
                    <a:off x="851760" y="6324840"/>
                    <a:ext cx="231480" cy="35280"/>
                  </a:xfrm>
                  <a:prstGeom prst="rect">
                    <a:avLst/>
                  </a:pr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871" name=""/>
                <p:cNvSpPr/>
                <p:nvPr/>
              </p:nvSpPr>
              <p:spPr>
                <a:xfrm flipV="1">
                  <a:off x="852840" y="6280920"/>
                  <a:ext cx="15120" cy="3420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72" name=""/>
                <p:cNvSpPr/>
                <p:nvPr/>
              </p:nvSpPr>
              <p:spPr>
                <a:xfrm flipH="1">
                  <a:off x="1067760" y="6374880"/>
                  <a:ext cx="14040" cy="3312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73" name=""/>
              <p:cNvGrpSpPr/>
              <p:nvPr/>
            </p:nvGrpSpPr>
            <p:grpSpPr>
              <a:xfrm>
                <a:off x="860760" y="6264360"/>
                <a:ext cx="226800" cy="124920"/>
                <a:chOff x="860760" y="6264360"/>
                <a:chExt cx="226800" cy="124920"/>
              </a:xfrm>
            </p:grpSpPr>
            <p:sp>
              <p:nvSpPr>
                <p:cNvPr id="8874" name=""/>
                <p:cNvSpPr/>
                <p:nvPr/>
              </p:nvSpPr>
              <p:spPr>
                <a:xfrm rot="1404600">
                  <a:off x="858240" y="6308640"/>
                  <a:ext cx="231480" cy="36000"/>
                </a:xfrm>
                <a:prstGeom prst="ellipse">
                  <a:avLst/>
                </a:prstGeom>
                <a:solidFill>
                  <a:srgbClr val="e0e0e0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75" name=""/>
                <p:cNvSpPr/>
                <p:nvPr/>
              </p:nvSpPr>
              <p:spPr>
                <a:xfrm rot="1404600">
                  <a:off x="864360" y="6314040"/>
                  <a:ext cx="217440" cy="28080"/>
                </a:xfrm>
                <a:prstGeom prst="ellipse">
                  <a:avLst/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876" name=""/>
            <p:cNvSpPr/>
            <p:nvPr/>
          </p:nvSpPr>
          <p:spPr>
            <a:xfrm rot="581400">
              <a:off x="858240" y="6275160"/>
              <a:ext cx="259200" cy="288720"/>
            </a:xfrm>
            <a:custGeom>
              <a:avLst/>
              <a:gdLst/>
              <a:ahLst/>
              <a:rect l="l" t="t" r="r" b="b"/>
              <a:pathLst>
                <a:path w="410" h="554">
                  <a:moveTo>
                    <a:pt x="196" y="30"/>
                  </a:moveTo>
                  <a:cubicBezTo>
                    <a:pt x="95" y="0"/>
                    <a:pt x="0" y="54"/>
                    <a:pt x="4" y="68"/>
                  </a:cubicBezTo>
                  <a:cubicBezTo>
                    <a:pt x="4" y="82"/>
                    <a:pt x="124" y="130"/>
                    <a:pt x="178" y="151"/>
                  </a:cubicBezTo>
                  <a:cubicBezTo>
                    <a:pt x="219" y="170"/>
                    <a:pt x="223" y="170"/>
                    <a:pt x="247" y="177"/>
                  </a:cubicBezTo>
                  <a:cubicBezTo>
                    <a:pt x="272" y="184"/>
                    <a:pt x="310" y="160"/>
                    <a:pt x="327" y="195"/>
                  </a:cubicBezTo>
                  <a:cubicBezTo>
                    <a:pt x="351" y="214"/>
                    <a:pt x="350" y="331"/>
                    <a:pt x="348" y="385"/>
                  </a:cubicBezTo>
                  <a:cubicBezTo>
                    <a:pt x="346" y="439"/>
                    <a:pt x="312" y="494"/>
                    <a:pt x="315" y="517"/>
                  </a:cubicBezTo>
                  <a:cubicBezTo>
                    <a:pt x="318" y="540"/>
                    <a:pt x="353" y="522"/>
                    <a:pt x="367" y="523"/>
                  </a:cubicBezTo>
                  <a:cubicBezTo>
                    <a:pt x="381" y="524"/>
                    <a:pt x="398" y="554"/>
                    <a:pt x="400" y="523"/>
                  </a:cubicBezTo>
                  <a:cubicBezTo>
                    <a:pt x="410" y="504"/>
                    <a:pt x="388" y="393"/>
                    <a:pt x="381" y="339"/>
                  </a:cubicBezTo>
                  <a:cubicBezTo>
                    <a:pt x="374" y="285"/>
                    <a:pt x="378" y="240"/>
                    <a:pt x="358" y="198"/>
                  </a:cubicBezTo>
                  <a:cubicBezTo>
                    <a:pt x="338" y="156"/>
                    <a:pt x="287" y="113"/>
                    <a:pt x="261" y="85"/>
                  </a:cubicBezTo>
                  <a:cubicBezTo>
                    <a:pt x="234" y="57"/>
                    <a:pt x="210" y="42"/>
                    <a:pt x="196" y="30"/>
                  </a:cubicBezTo>
                  <a:close/>
                </a:path>
              </a:pathLst>
            </a:custGeom>
            <a:blipFill rotWithShape="0">
              <a:blip r:embed="rId1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77" name=""/>
          <p:cNvGrpSpPr/>
          <p:nvPr/>
        </p:nvGrpSpPr>
        <p:grpSpPr>
          <a:xfrm>
            <a:off x="8166960" y="3816720"/>
            <a:ext cx="1049040" cy="1070640"/>
            <a:chOff x="8166960" y="3816720"/>
            <a:chExt cx="1049040" cy="1070640"/>
          </a:xfrm>
        </p:grpSpPr>
        <p:grpSp>
          <p:nvGrpSpPr>
            <p:cNvPr id="8878" name=""/>
            <p:cNvGrpSpPr/>
            <p:nvPr/>
          </p:nvGrpSpPr>
          <p:grpSpPr>
            <a:xfrm>
              <a:off x="8203320" y="3839040"/>
              <a:ext cx="833760" cy="532080"/>
              <a:chOff x="8203320" y="3839040"/>
              <a:chExt cx="833760" cy="532080"/>
            </a:xfrm>
          </p:grpSpPr>
          <p:grpSp>
            <p:nvGrpSpPr>
              <p:cNvPr id="8879" name=""/>
              <p:cNvGrpSpPr/>
              <p:nvPr/>
            </p:nvGrpSpPr>
            <p:grpSpPr>
              <a:xfrm>
                <a:off x="8203320" y="3891240"/>
                <a:ext cx="812880" cy="479880"/>
                <a:chOff x="8203320" y="3891240"/>
                <a:chExt cx="812880" cy="479880"/>
              </a:xfrm>
            </p:grpSpPr>
            <p:grpSp>
              <p:nvGrpSpPr>
                <p:cNvPr id="8880" name=""/>
                <p:cNvGrpSpPr/>
                <p:nvPr/>
              </p:nvGrpSpPr>
              <p:grpSpPr>
                <a:xfrm>
                  <a:off x="8203320" y="3891240"/>
                  <a:ext cx="810720" cy="479880"/>
                  <a:chOff x="8203320" y="3891240"/>
                  <a:chExt cx="810720" cy="479880"/>
                </a:xfrm>
              </p:grpSpPr>
              <p:sp>
                <p:nvSpPr>
                  <p:cNvPr id="8881" name=""/>
                  <p:cNvSpPr/>
                  <p:nvPr/>
                </p:nvSpPr>
                <p:spPr>
                  <a:xfrm rot="1404600">
                    <a:off x="8193240" y="4097880"/>
                    <a:ext cx="808200" cy="117360"/>
                  </a:xfrm>
                  <a:prstGeom prst="ellipse">
                    <a:avLst/>
                  </a:prstGeom>
                  <a:solidFill>
                    <a:srgbClr val="e0e0e0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720" bIns="36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82" name=""/>
                  <p:cNvSpPr/>
                  <p:nvPr/>
                </p:nvSpPr>
                <p:spPr>
                  <a:xfrm rot="1404600">
                    <a:off x="8216280" y="4046760"/>
                    <a:ext cx="808200" cy="114480"/>
                  </a:xfrm>
                  <a:prstGeom prst="rect">
                    <a:avLst/>
                  </a:pr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883" name=""/>
                <p:cNvSpPr/>
                <p:nvPr/>
              </p:nvSpPr>
              <p:spPr>
                <a:xfrm flipV="1">
                  <a:off x="8222040" y="3892320"/>
                  <a:ext cx="49680" cy="10980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84" name=""/>
                <p:cNvSpPr/>
                <p:nvPr/>
              </p:nvSpPr>
              <p:spPr>
                <a:xfrm flipH="1">
                  <a:off x="8971920" y="4218840"/>
                  <a:ext cx="44280" cy="10692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85" name=""/>
              <p:cNvGrpSpPr/>
              <p:nvPr/>
            </p:nvGrpSpPr>
            <p:grpSpPr>
              <a:xfrm>
                <a:off x="8249040" y="3839040"/>
                <a:ext cx="788040" cy="427680"/>
                <a:chOff x="8249040" y="3839040"/>
                <a:chExt cx="788040" cy="427680"/>
              </a:xfrm>
            </p:grpSpPr>
            <p:sp>
              <p:nvSpPr>
                <p:cNvPr id="8886" name=""/>
                <p:cNvSpPr/>
                <p:nvPr/>
              </p:nvSpPr>
              <p:spPr>
                <a:xfrm rot="1404600">
                  <a:off x="8238600" y="3994560"/>
                  <a:ext cx="808560" cy="115920"/>
                </a:xfrm>
                <a:prstGeom prst="ellipse">
                  <a:avLst/>
                </a:prstGeom>
                <a:solidFill>
                  <a:srgbClr val="e0e0e0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87" name=""/>
                <p:cNvSpPr/>
                <p:nvPr/>
              </p:nvSpPr>
              <p:spPr>
                <a:xfrm rot="1404600">
                  <a:off x="8261640" y="4011480"/>
                  <a:ext cx="758880" cy="90720"/>
                </a:xfrm>
                <a:prstGeom prst="ellipse">
                  <a:avLst/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888" name=""/>
            <p:cNvSpPr/>
            <p:nvPr/>
          </p:nvSpPr>
          <p:spPr>
            <a:xfrm rot="581400">
              <a:off x="8238960" y="3886200"/>
              <a:ext cx="905040" cy="931680"/>
            </a:xfrm>
            <a:custGeom>
              <a:avLst/>
              <a:gdLst/>
              <a:ahLst/>
              <a:rect l="l" t="t" r="r" b="b"/>
              <a:pathLst>
                <a:path w="410" h="554">
                  <a:moveTo>
                    <a:pt x="196" y="30"/>
                  </a:moveTo>
                  <a:cubicBezTo>
                    <a:pt x="95" y="0"/>
                    <a:pt x="0" y="54"/>
                    <a:pt x="4" y="68"/>
                  </a:cubicBezTo>
                  <a:cubicBezTo>
                    <a:pt x="4" y="82"/>
                    <a:pt x="124" y="130"/>
                    <a:pt x="178" y="151"/>
                  </a:cubicBezTo>
                  <a:cubicBezTo>
                    <a:pt x="219" y="170"/>
                    <a:pt x="223" y="170"/>
                    <a:pt x="247" y="177"/>
                  </a:cubicBezTo>
                  <a:cubicBezTo>
                    <a:pt x="272" y="184"/>
                    <a:pt x="310" y="160"/>
                    <a:pt x="327" y="195"/>
                  </a:cubicBezTo>
                  <a:cubicBezTo>
                    <a:pt x="351" y="214"/>
                    <a:pt x="350" y="331"/>
                    <a:pt x="348" y="385"/>
                  </a:cubicBezTo>
                  <a:cubicBezTo>
                    <a:pt x="346" y="439"/>
                    <a:pt x="312" y="494"/>
                    <a:pt x="315" y="517"/>
                  </a:cubicBezTo>
                  <a:cubicBezTo>
                    <a:pt x="318" y="540"/>
                    <a:pt x="353" y="522"/>
                    <a:pt x="367" y="523"/>
                  </a:cubicBezTo>
                  <a:cubicBezTo>
                    <a:pt x="381" y="524"/>
                    <a:pt x="398" y="554"/>
                    <a:pt x="400" y="523"/>
                  </a:cubicBezTo>
                  <a:cubicBezTo>
                    <a:pt x="410" y="504"/>
                    <a:pt x="388" y="393"/>
                    <a:pt x="381" y="339"/>
                  </a:cubicBezTo>
                  <a:cubicBezTo>
                    <a:pt x="374" y="285"/>
                    <a:pt x="378" y="240"/>
                    <a:pt x="358" y="198"/>
                  </a:cubicBezTo>
                  <a:cubicBezTo>
                    <a:pt x="338" y="156"/>
                    <a:pt x="287" y="113"/>
                    <a:pt x="261" y="85"/>
                  </a:cubicBezTo>
                  <a:cubicBezTo>
                    <a:pt x="234" y="57"/>
                    <a:pt x="210" y="42"/>
                    <a:pt x="196" y="30"/>
                  </a:cubicBezTo>
                  <a:close/>
                </a:path>
              </a:pathLst>
            </a:custGeom>
            <a:blipFill rotWithShape="0">
              <a:blip r:embed="rId1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89" name=""/>
          <p:cNvSpPr/>
          <p:nvPr/>
        </p:nvSpPr>
        <p:spPr>
          <a:xfrm flipV="1" rot="5400000">
            <a:off x="3820320" y="4595400"/>
            <a:ext cx="431640" cy="1728720"/>
          </a:xfrm>
          <a:prstGeom prst="upArrow">
            <a:avLst>
              <a:gd name="adj1" fmla="val 50000"/>
              <a:gd name="adj2" fmla="val 100125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0" name=""/>
          <p:cNvSpPr/>
          <p:nvPr/>
        </p:nvSpPr>
        <p:spPr>
          <a:xfrm>
            <a:off x="3610800" y="5264280"/>
            <a:ext cx="113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600" spc="-1" strike="noStrike">
                <a:solidFill>
                  <a:srgbClr val="000000"/>
                </a:solidFill>
                <a:latin typeface="Times New Roman"/>
              </a:rPr>
              <a:t>retence solí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91" name=""/>
          <p:cNvGrpSpPr/>
          <p:nvPr/>
        </p:nvGrpSpPr>
        <p:grpSpPr>
          <a:xfrm>
            <a:off x="4585680" y="5712120"/>
            <a:ext cx="1049040" cy="1070640"/>
            <a:chOff x="4585680" y="5712120"/>
            <a:chExt cx="1049040" cy="1070640"/>
          </a:xfrm>
        </p:grpSpPr>
        <p:grpSp>
          <p:nvGrpSpPr>
            <p:cNvPr id="8892" name=""/>
            <p:cNvGrpSpPr/>
            <p:nvPr/>
          </p:nvGrpSpPr>
          <p:grpSpPr>
            <a:xfrm>
              <a:off x="4622040" y="5734440"/>
              <a:ext cx="833760" cy="532080"/>
              <a:chOff x="4622040" y="5734440"/>
              <a:chExt cx="833760" cy="532080"/>
            </a:xfrm>
          </p:grpSpPr>
          <p:grpSp>
            <p:nvGrpSpPr>
              <p:cNvPr id="8893" name=""/>
              <p:cNvGrpSpPr/>
              <p:nvPr/>
            </p:nvGrpSpPr>
            <p:grpSpPr>
              <a:xfrm>
                <a:off x="4622040" y="5786640"/>
                <a:ext cx="812880" cy="479880"/>
                <a:chOff x="4622040" y="5786640"/>
                <a:chExt cx="812880" cy="479880"/>
              </a:xfrm>
            </p:grpSpPr>
            <p:grpSp>
              <p:nvGrpSpPr>
                <p:cNvPr id="8894" name=""/>
                <p:cNvGrpSpPr/>
                <p:nvPr/>
              </p:nvGrpSpPr>
              <p:grpSpPr>
                <a:xfrm>
                  <a:off x="4622040" y="5786640"/>
                  <a:ext cx="810720" cy="479880"/>
                  <a:chOff x="4622040" y="5786640"/>
                  <a:chExt cx="810720" cy="479880"/>
                </a:xfrm>
              </p:grpSpPr>
              <p:sp>
                <p:nvSpPr>
                  <p:cNvPr id="8895" name=""/>
                  <p:cNvSpPr/>
                  <p:nvPr/>
                </p:nvSpPr>
                <p:spPr>
                  <a:xfrm rot="1404600">
                    <a:off x="4611960" y="5993280"/>
                    <a:ext cx="808200" cy="117360"/>
                  </a:xfrm>
                  <a:prstGeom prst="ellipse">
                    <a:avLst/>
                  </a:prstGeom>
                  <a:solidFill>
                    <a:srgbClr val="e0e0e0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720" bIns="36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96" name=""/>
                  <p:cNvSpPr/>
                  <p:nvPr/>
                </p:nvSpPr>
                <p:spPr>
                  <a:xfrm rot="1404600">
                    <a:off x="4635000" y="5942160"/>
                    <a:ext cx="808200" cy="114480"/>
                  </a:xfrm>
                  <a:prstGeom prst="rect">
                    <a:avLst/>
                  </a:pr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897" name=""/>
                <p:cNvSpPr/>
                <p:nvPr/>
              </p:nvSpPr>
              <p:spPr>
                <a:xfrm flipV="1">
                  <a:off x="4640760" y="5787720"/>
                  <a:ext cx="49680" cy="10980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98" name=""/>
                <p:cNvSpPr/>
                <p:nvPr/>
              </p:nvSpPr>
              <p:spPr>
                <a:xfrm flipH="1">
                  <a:off x="5390640" y="6114240"/>
                  <a:ext cx="44280" cy="10692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99" name=""/>
              <p:cNvGrpSpPr/>
              <p:nvPr/>
            </p:nvGrpSpPr>
            <p:grpSpPr>
              <a:xfrm>
                <a:off x="4667760" y="5734440"/>
                <a:ext cx="788040" cy="427680"/>
                <a:chOff x="4667760" y="5734440"/>
                <a:chExt cx="788040" cy="427680"/>
              </a:xfrm>
            </p:grpSpPr>
            <p:sp>
              <p:nvSpPr>
                <p:cNvPr id="8900" name=""/>
                <p:cNvSpPr/>
                <p:nvPr/>
              </p:nvSpPr>
              <p:spPr>
                <a:xfrm rot="1404600">
                  <a:off x="4657320" y="5889960"/>
                  <a:ext cx="808560" cy="115920"/>
                </a:xfrm>
                <a:prstGeom prst="ellipse">
                  <a:avLst/>
                </a:prstGeom>
                <a:solidFill>
                  <a:srgbClr val="e0e0e0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01" name=""/>
                <p:cNvSpPr/>
                <p:nvPr/>
              </p:nvSpPr>
              <p:spPr>
                <a:xfrm rot="1404600">
                  <a:off x="4680360" y="5906880"/>
                  <a:ext cx="758880" cy="90720"/>
                </a:xfrm>
                <a:prstGeom prst="ellipse">
                  <a:avLst/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902" name=""/>
            <p:cNvSpPr/>
            <p:nvPr/>
          </p:nvSpPr>
          <p:spPr>
            <a:xfrm rot="581400">
              <a:off x="4657680" y="5781600"/>
              <a:ext cx="905040" cy="931680"/>
            </a:xfrm>
            <a:custGeom>
              <a:avLst/>
              <a:gdLst/>
              <a:ahLst/>
              <a:rect l="l" t="t" r="r" b="b"/>
              <a:pathLst>
                <a:path w="410" h="554">
                  <a:moveTo>
                    <a:pt x="196" y="30"/>
                  </a:moveTo>
                  <a:cubicBezTo>
                    <a:pt x="95" y="0"/>
                    <a:pt x="0" y="54"/>
                    <a:pt x="4" y="68"/>
                  </a:cubicBezTo>
                  <a:cubicBezTo>
                    <a:pt x="4" y="82"/>
                    <a:pt x="124" y="130"/>
                    <a:pt x="178" y="151"/>
                  </a:cubicBezTo>
                  <a:cubicBezTo>
                    <a:pt x="219" y="170"/>
                    <a:pt x="223" y="170"/>
                    <a:pt x="247" y="177"/>
                  </a:cubicBezTo>
                  <a:cubicBezTo>
                    <a:pt x="272" y="184"/>
                    <a:pt x="310" y="160"/>
                    <a:pt x="327" y="195"/>
                  </a:cubicBezTo>
                  <a:cubicBezTo>
                    <a:pt x="351" y="214"/>
                    <a:pt x="350" y="331"/>
                    <a:pt x="348" y="385"/>
                  </a:cubicBezTo>
                  <a:cubicBezTo>
                    <a:pt x="346" y="439"/>
                    <a:pt x="312" y="494"/>
                    <a:pt x="315" y="517"/>
                  </a:cubicBezTo>
                  <a:cubicBezTo>
                    <a:pt x="318" y="540"/>
                    <a:pt x="353" y="522"/>
                    <a:pt x="367" y="523"/>
                  </a:cubicBezTo>
                  <a:cubicBezTo>
                    <a:pt x="381" y="524"/>
                    <a:pt x="398" y="554"/>
                    <a:pt x="400" y="523"/>
                  </a:cubicBezTo>
                  <a:cubicBezTo>
                    <a:pt x="410" y="504"/>
                    <a:pt x="388" y="393"/>
                    <a:pt x="381" y="339"/>
                  </a:cubicBezTo>
                  <a:cubicBezTo>
                    <a:pt x="374" y="285"/>
                    <a:pt x="378" y="240"/>
                    <a:pt x="358" y="198"/>
                  </a:cubicBezTo>
                  <a:cubicBezTo>
                    <a:pt x="338" y="156"/>
                    <a:pt x="287" y="113"/>
                    <a:pt x="261" y="85"/>
                  </a:cubicBezTo>
                  <a:cubicBezTo>
                    <a:pt x="234" y="57"/>
                    <a:pt x="210" y="42"/>
                    <a:pt x="196" y="30"/>
                  </a:cubicBezTo>
                  <a:close/>
                </a:path>
              </a:pathLst>
            </a:custGeom>
            <a:blipFill rotWithShape="0">
              <a:blip r:embed="rId2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3" name=""/>
          <p:cNvSpPr/>
          <p:nvPr/>
        </p:nvSpPr>
        <p:spPr>
          <a:xfrm>
            <a:off x="0" y="133200"/>
            <a:ext cx="8899560" cy="9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Isoosmolární dehydrat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4" name=""/>
          <p:cNvSpPr/>
          <p:nvPr/>
        </p:nvSpPr>
        <p:spPr>
          <a:xfrm flipH="1">
            <a:off x="3704760" y="2281320"/>
            <a:ext cx="1800" cy="259704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5" name=""/>
          <p:cNvSpPr/>
          <p:nvPr/>
        </p:nvSpPr>
        <p:spPr>
          <a:xfrm flipH="1">
            <a:off x="6024600" y="2430360"/>
            <a:ext cx="7920" cy="244800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6" name=""/>
          <p:cNvSpPr/>
          <p:nvPr/>
        </p:nvSpPr>
        <p:spPr>
          <a:xfrm>
            <a:off x="3463920" y="2256480"/>
            <a:ext cx="234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ECT         I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7" name=""/>
          <p:cNvSpPr/>
          <p:nvPr/>
        </p:nvSpPr>
        <p:spPr>
          <a:xfrm>
            <a:off x="4329000" y="2330280"/>
            <a:ext cx="9720" cy="25480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8" name=""/>
          <p:cNvSpPr/>
          <p:nvPr/>
        </p:nvSpPr>
        <p:spPr>
          <a:xfrm>
            <a:off x="6195960" y="2929680"/>
            <a:ext cx="2948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Výchozí sta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9" name=""/>
          <p:cNvSpPr/>
          <p:nvPr/>
        </p:nvSpPr>
        <p:spPr>
          <a:xfrm>
            <a:off x="3701880" y="2840040"/>
            <a:ext cx="638280" cy="6825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0" name=""/>
          <p:cNvSpPr/>
          <p:nvPr/>
        </p:nvSpPr>
        <p:spPr>
          <a:xfrm>
            <a:off x="4343400" y="2840040"/>
            <a:ext cx="1681200" cy="682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1" name=""/>
          <p:cNvSpPr/>
          <p:nvPr/>
        </p:nvSpPr>
        <p:spPr>
          <a:xfrm>
            <a:off x="2036880" y="1160280"/>
            <a:ext cx="3517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Příčina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ztráta isotonické tekutiny (stejná ztráta vody a solutů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2" name=""/>
          <p:cNvSpPr/>
          <p:nvPr/>
        </p:nvSpPr>
        <p:spPr>
          <a:xfrm>
            <a:off x="3833640" y="3890880"/>
            <a:ext cx="565200" cy="6825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3" name=""/>
          <p:cNvSpPr/>
          <p:nvPr/>
        </p:nvSpPr>
        <p:spPr>
          <a:xfrm>
            <a:off x="4330800" y="3894120"/>
            <a:ext cx="1704960" cy="6793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4" name=""/>
          <p:cNvSpPr/>
          <p:nvPr/>
        </p:nvSpPr>
        <p:spPr>
          <a:xfrm>
            <a:off x="6195960" y="3840840"/>
            <a:ext cx="2948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Ztráta isotonické tekutiny z ECT nevede k přesunům vody mezi ICT a 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5" name=""/>
          <p:cNvSpPr/>
          <p:nvPr/>
        </p:nvSpPr>
        <p:spPr>
          <a:xfrm>
            <a:off x="2313360" y="4268520"/>
            <a:ext cx="576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6" name=""/>
          <p:cNvSpPr/>
          <p:nvPr/>
        </p:nvSpPr>
        <p:spPr>
          <a:xfrm>
            <a:off x="2951280" y="4432320"/>
            <a:ext cx="888840" cy="14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7" name=""/>
          <p:cNvSpPr/>
          <p:nvPr/>
        </p:nvSpPr>
        <p:spPr>
          <a:xfrm>
            <a:off x="1876320" y="3884040"/>
            <a:ext cx="138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Solu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8" name=""/>
          <p:cNvSpPr/>
          <p:nvPr/>
        </p:nvSpPr>
        <p:spPr>
          <a:xfrm>
            <a:off x="2954160" y="4098960"/>
            <a:ext cx="866880" cy="14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19" name=""/>
          <p:cNvGrpSpPr/>
          <p:nvPr/>
        </p:nvGrpSpPr>
        <p:grpSpPr>
          <a:xfrm>
            <a:off x="0" y="133200"/>
            <a:ext cx="9144000" cy="6724440"/>
            <a:chOff x="0" y="133200"/>
            <a:chExt cx="9144000" cy="6724440"/>
          </a:xfrm>
        </p:grpSpPr>
        <p:sp>
          <p:nvSpPr>
            <p:cNvPr id="8920" name=""/>
            <p:cNvSpPr/>
            <p:nvPr/>
          </p:nvSpPr>
          <p:spPr>
            <a:xfrm>
              <a:off x="0" y="133200"/>
              <a:ext cx="8899560" cy="90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4400" spc="-1" strike="noStrike">
                  <a:solidFill>
                    <a:srgbClr val="000000"/>
                  </a:solidFill>
                  <a:latin typeface="Times New Roman"/>
                </a:rPr>
                <a:t>Isoosmolární dehydratace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1" name=""/>
            <p:cNvSpPr/>
            <p:nvPr/>
          </p:nvSpPr>
          <p:spPr>
            <a:xfrm flipH="1">
              <a:off x="3704760" y="981000"/>
              <a:ext cx="1800" cy="2597400"/>
            </a:xfrm>
            <a:prstGeom prst="line">
              <a:avLst/>
            </a:prstGeom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2" name=""/>
            <p:cNvSpPr/>
            <p:nvPr/>
          </p:nvSpPr>
          <p:spPr>
            <a:xfrm flipH="1">
              <a:off x="6024600" y="1130400"/>
              <a:ext cx="7920" cy="2448000"/>
            </a:xfrm>
            <a:prstGeom prst="line">
              <a:avLst/>
            </a:prstGeom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3" name=""/>
            <p:cNvSpPr/>
            <p:nvPr/>
          </p:nvSpPr>
          <p:spPr>
            <a:xfrm>
              <a:off x="3463920" y="956160"/>
              <a:ext cx="2343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ECT         IC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4" name=""/>
            <p:cNvSpPr/>
            <p:nvPr/>
          </p:nvSpPr>
          <p:spPr>
            <a:xfrm>
              <a:off x="4329000" y="1030320"/>
              <a:ext cx="9720" cy="2548080"/>
            </a:xfrm>
            <a:prstGeom prst="line">
              <a:avLst/>
            </a:prstGeom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5" name=""/>
            <p:cNvSpPr/>
            <p:nvPr/>
          </p:nvSpPr>
          <p:spPr>
            <a:xfrm>
              <a:off x="6195960" y="1629360"/>
              <a:ext cx="2948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000" spc="-1" strike="noStrike">
                  <a:solidFill>
                    <a:srgbClr val="000000"/>
                  </a:solidFill>
                  <a:latin typeface="Times New Roman"/>
                </a:rPr>
                <a:t>Výchozí stav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6" name=""/>
            <p:cNvSpPr/>
            <p:nvPr/>
          </p:nvSpPr>
          <p:spPr>
            <a:xfrm>
              <a:off x="3701880" y="1539720"/>
              <a:ext cx="638280" cy="6829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7" name=""/>
            <p:cNvSpPr/>
            <p:nvPr/>
          </p:nvSpPr>
          <p:spPr>
            <a:xfrm>
              <a:off x="4343400" y="1539720"/>
              <a:ext cx="1681200" cy="6829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8" name=""/>
            <p:cNvSpPr/>
            <p:nvPr/>
          </p:nvSpPr>
          <p:spPr>
            <a:xfrm>
              <a:off x="192240" y="1382400"/>
              <a:ext cx="35179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Příčina: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 ztráta isotonické tekutiny (stejná ztráta vody a solutů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9" name=""/>
            <p:cNvSpPr/>
            <p:nvPr/>
          </p:nvSpPr>
          <p:spPr>
            <a:xfrm>
              <a:off x="3833640" y="2590920"/>
              <a:ext cx="565200" cy="6825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0" name=""/>
            <p:cNvSpPr/>
            <p:nvPr/>
          </p:nvSpPr>
          <p:spPr>
            <a:xfrm>
              <a:off x="4330800" y="2593800"/>
              <a:ext cx="1704960" cy="67968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1" name=""/>
            <p:cNvSpPr/>
            <p:nvPr/>
          </p:nvSpPr>
          <p:spPr>
            <a:xfrm>
              <a:off x="6195960" y="2540520"/>
              <a:ext cx="294804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000" spc="-1" strike="noStrike">
                  <a:solidFill>
                    <a:srgbClr val="000000"/>
                  </a:solidFill>
                  <a:latin typeface="Times New Roman"/>
                </a:rPr>
                <a:t>Ztráta isotonické tekutiny z ECT nevede k přesunům vody mezi ICT a 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2" name=""/>
            <p:cNvSpPr/>
            <p:nvPr/>
          </p:nvSpPr>
          <p:spPr>
            <a:xfrm>
              <a:off x="244440" y="3494160"/>
              <a:ext cx="8899560" cy="90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4400" spc="-1" strike="noStrike">
                  <a:solidFill>
                    <a:srgbClr val="000000"/>
                  </a:solidFill>
                  <a:latin typeface="Times New Roman"/>
                </a:rPr>
                <a:t>Isoosmolární hyperhydratace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3" name=""/>
            <p:cNvSpPr/>
            <p:nvPr/>
          </p:nvSpPr>
          <p:spPr>
            <a:xfrm flipH="1">
              <a:off x="3576240" y="4259160"/>
              <a:ext cx="1800" cy="2597400"/>
            </a:xfrm>
            <a:prstGeom prst="line">
              <a:avLst/>
            </a:prstGeom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4" name=""/>
            <p:cNvSpPr/>
            <p:nvPr/>
          </p:nvSpPr>
          <p:spPr>
            <a:xfrm flipH="1">
              <a:off x="5896080" y="4408560"/>
              <a:ext cx="7920" cy="2448000"/>
            </a:xfrm>
            <a:prstGeom prst="line">
              <a:avLst/>
            </a:prstGeom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5" name=""/>
            <p:cNvSpPr/>
            <p:nvPr/>
          </p:nvSpPr>
          <p:spPr>
            <a:xfrm>
              <a:off x="3335400" y="4234320"/>
              <a:ext cx="2343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ECT         IC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6" name=""/>
            <p:cNvSpPr/>
            <p:nvPr/>
          </p:nvSpPr>
          <p:spPr>
            <a:xfrm>
              <a:off x="4200480" y="4308480"/>
              <a:ext cx="9720" cy="2548080"/>
            </a:xfrm>
            <a:prstGeom prst="line">
              <a:avLst/>
            </a:prstGeom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7" name=""/>
            <p:cNvSpPr/>
            <p:nvPr/>
          </p:nvSpPr>
          <p:spPr>
            <a:xfrm>
              <a:off x="6058080" y="4917240"/>
              <a:ext cx="2947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000" spc="-1" strike="noStrike">
                  <a:solidFill>
                    <a:srgbClr val="000000"/>
                  </a:solidFill>
                  <a:latin typeface="Times New Roman"/>
                </a:rPr>
                <a:t>Výchozí stav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8" name=""/>
            <p:cNvSpPr/>
            <p:nvPr/>
          </p:nvSpPr>
          <p:spPr>
            <a:xfrm>
              <a:off x="3573360" y="4818240"/>
              <a:ext cx="638280" cy="68256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9" name=""/>
            <p:cNvSpPr/>
            <p:nvPr/>
          </p:nvSpPr>
          <p:spPr>
            <a:xfrm>
              <a:off x="4214880" y="4818240"/>
              <a:ext cx="1681200" cy="6825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0" name=""/>
            <p:cNvSpPr/>
            <p:nvPr/>
          </p:nvSpPr>
          <p:spPr>
            <a:xfrm>
              <a:off x="0" y="4620960"/>
              <a:ext cx="36608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Příčina: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retence isotonické tekutiny (stejná retence vody a solutů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1" name=""/>
            <p:cNvSpPr/>
            <p:nvPr/>
          </p:nvSpPr>
          <p:spPr>
            <a:xfrm>
              <a:off x="3454560" y="5880240"/>
              <a:ext cx="815760" cy="67140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2" name=""/>
            <p:cNvSpPr/>
            <p:nvPr/>
          </p:nvSpPr>
          <p:spPr>
            <a:xfrm>
              <a:off x="4202280" y="5872320"/>
              <a:ext cx="1704960" cy="67932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3" name=""/>
            <p:cNvSpPr/>
            <p:nvPr/>
          </p:nvSpPr>
          <p:spPr>
            <a:xfrm>
              <a:off x="6195960" y="5544000"/>
              <a:ext cx="29480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000" spc="-1" strike="noStrike">
                  <a:solidFill>
                    <a:srgbClr val="000000"/>
                  </a:solidFill>
                  <a:latin typeface="Times New Roman"/>
                </a:rPr>
                <a:t>Retence isotonické tekutiny z ECT nevede k přesunům vody mezi ICT a 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4" name=""/>
            <p:cNvSpPr/>
            <p:nvPr/>
          </p:nvSpPr>
          <p:spPr>
            <a:xfrm>
              <a:off x="2313360" y="2968200"/>
              <a:ext cx="5767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0" lang="cs-CZ" sz="1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cs-CZ" sz="18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5" name=""/>
            <p:cNvSpPr/>
            <p:nvPr/>
          </p:nvSpPr>
          <p:spPr>
            <a:xfrm>
              <a:off x="2951280" y="3132000"/>
              <a:ext cx="88884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6" name=""/>
            <p:cNvSpPr/>
            <p:nvPr/>
          </p:nvSpPr>
          <p:spPr>
            <a:xfrm>
              <a:off x="1876320" y="2583720"/>
              <a:ext cx="138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000000"/>
                  </a:solidFill>
                  <a:latin typeface="Times New Roman"/>
                </a:rPr>
                <a:t>Solut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7" name=""/>
            <p:cNvSpPr/>
            <p:nvPr/>
          </p:nvSpPr>
          <p:spPr>
            <a:xfrm>
              <a:off x="2954160" y="2798640"/>
              <a:ext cx="86688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8" name=""/>
            <p:cNvSpPr/>
            <p:nvPr/>
          </p:nvSpPr>
          <p:spPr>
            <a:xfrm>
              <a:off x="1913400" y="6248160"/>
              <a:ext cx="5767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0" lang="cs-CZ" sz="1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cs-CZ" sz="18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9" name=""/>
            <p:cNvSpPr/>
            <p:nvPr/>
          </p:nvSpPr>
          <p:spPr>
            <a:xfrm>
              <a:off x="2550960" y="6411960"/>
              <a:ext cx="8892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0" name=""/>
            <p:cNvSpPr/>
            <p:nvPr/>
          </p:nvSpPr>
          <p:spPr>
            <a:xfrm>
              <a:off x="1476360" y="5863680"/>
              <a:ext cx="138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000000"/>
                  </a:solidFill>
                  <a:latin typeface="Times New Roman"/>
                </a:rPr>
                <a:t>Solut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1" name=""/>
            <p:cNvSpPr/>
            <p:nvPr/>
          </p:nvSpPr>
          <p:spPr>
            <a:xfrm>
              <a:off x="2576520" y="6078600"/>
              <a:ext cx="8668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2" name=""/>
          <p:cNvSpPr/>
          <p:nvPr/>
        </p:nvSpPr>
        <p:spPr>
          <a:xfrm>
            <a:off x="368280" y="407880"/>
            <a:ext cx="8899560" cy="9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Isoosmolární hyperhydrat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3" name=""/>
          <p:cNvSpPr/>
          <p:nvPr/>
        </p:nvSpPr>
        <p:spPr>
          <a:xfrm flipH="1">
            <a:off x="3171960" y="2828880"/>
            <a:ext cx="1440" cy="259704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4" name=""/>
          <p:cNvSpPr/>
          <p:nvPr/>
        </p:nvSpPr>
        <p:spPr>
          <a:xfrm flipH="1">
            <a:off x="5491080" y="2978280"/>
            <a:ext cx="7920" cy="244764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5" name=""/>
          <p:cNvSpPr/>
          <p:nvPr/>
        </p:nvSpPr>
        <p:spPr>
          <a:xfrm>
            <a:off x="2930400" y="2804040"/>
            <a:ext cx="234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ECT         I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6" name=""/>
          <p:cNvSpPr/>
          <p:nvPr/>
        </p:nvSpPr>
        <p:spPr>
          <a:xfrm>
            <a:off x="3795840" y="2878200"/>
            <a:ext cx="9360" cy="254772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7" name=""/>
          <p:cNvSpPr/>
          <p:nvPr/>
        </p:nvSpPr>
        <p:spPr>
          <a:xfrm>
            <a:off x="5653080" y="3486960"/>
            <a:ext cx="2948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Výchozí sta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8" name=""/>
          <p:cNvSpPr/>
          <p:nvPr/>
        </p:nvSpPr>
        <p:spPr>
          <a:xfrm>
            <a:off x="3168720" y="3387600"/>
            <a:ext cx="638280" cy="682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9" name=""/>
          <p:cNvSpPr/>
          <p:nvPr/>
        </p:nvSpPr>
        <p:spPr>
          <a:xfrm>
            <a:off x="3809880" y="3387600"/>
            <a:ext cx="1681200" cy="6829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0" name=""/>
          <p:cNvSpPr/>
          <p:nvPr/>
        </p:nvSpPr>
        <p:spPr>
          <a:xfrm>
            <a:off x="1600200" y="1449000"/>
            <a:ext cx="366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Příčina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retence isotonické tekutiny (stejná retence vody a solutů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1" name=""/>
          <p:cNvSpPr/>
          <p:nvPr/>
        </p:nvSpPr>
        <p:spPr>
          <a:xfrm>
            <a:off x="3049560" y="4449600"/>
            <a:ext cx="816120" cy="6717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2" name=""/>
          <p:cNvSpPr/>
          <p:nvPr/>
        </p:nvSpPr>
        <p:spPr>
          <a:xfrm>
            <a:off x="3797280" y="4441680"/>
            <a:ext cx="1704960" cy="6796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3" name=""/>
          <p:cNvSpPr/>
          <p:nvPr/>
        </p:nvSpPr>
        <p:spPr>
          <a:xfrm>
            <a:off x="5791320" y="4113720"/>
            <a:ext cx="29480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Retence isotonické tekutiny z ECT nevede k přesunům vody mezi ICT a 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4" name=""/>
          <p:cNvSpPr/>
          <p:nvPr/>
        </p:nvSpPr>
        <p:spPr>
          <a:xfrm>
            <a:off x="1508760" y="4817520"/>
            <a:ext cx="576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5" name=""/>
          <p:cNvSpPr/>
          <p:nvPr/>
        </p:nvSpPr>
        <p:spPr>
          <a:xfrm>
            <a:off x="2146320" y="4981680"/>
            <a:ext cx="88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6" name=""/>
          <p:cNvSpPr/>
          <p:nvPr/>
        </p:nvSpPr>
        <p:spPr>
          <a:xfrm>
            <a:off x="1071720" y="4433040"/>
            <a:ext cx="138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Solu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7" name=""/>
          <p:cNvSpPr/>
          <p:nvPr/>
        </p:nvSpPr>
        <p:spPr>
          <a:xfrm>
            <a:off x="2171880" y="4648320"/>
            <a:ext cx="8665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68" name=""/>
          <p:cNvGrpSpPr/>
          <p:nvPr/>
        </p:nvGrpSpPr>
        <p:grpSpPr>
          <a:xfrm>
            <a:off x="247680" y="157320"/>
            <a:ext cx="8899560" cy="6553080"/>
            <a:chOff x="247680" y="157320"/>
            <a:chExt cx="8899560" cy="6553080"/>
          </a:xfrm>
        </p:grpSpPr>
        <p:sp>
          <p:nvSpPr>
            <p:cNvPr id="8969" name=""/>
            <p:cNvSpPr/>
            <p:nvPr/>
          </p:nvSpPr>
          <p:spPr>
            <a:xfrm>
              <a:off x="247680" y="157320"/>
              <a:ext cx="8899560" cy="90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4400" spc="-1" strike="noStrike">
                  <a:solidFill>
                    <a:srgbClr val="000000"/>
                  </a:solidFill>
                  <a:latin typeface="Times New Roman"/>
                </a:rPr>
                <a:t>Hyperosmolární dehydratace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0" name=""/>
            <p:cNvSpPr/>
            <p:nvPr/>
          </p:nvSpPr>
          <p:spPr>
            <a:xfrm>
              <a:off x="3576600" y="1677960"/>
              <a:ext cx="638280" cy="6825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1" name=""/>
            <p:cNvSpPr/>
            <p:nvPr/>
          </p:nvSpPr>
          <p:spPr>
            <a:xfrm>
              <a:off x="4218120" y="1677960"/>
              <a:ext cx="1681200" cy="682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2" name=""/>
            <p:cNvSpPr/>
            <p:nvPr/>
          </p:nvSpPr>
          <p:spPr>
            <a:xfrm>
              <a:off x="3857760" y="2730600"/>
              <a:ext cx="365040" cy="6602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3" name=""/>
            <p:cNvSpPr/>
            <p:nvPr/>
          </p:nvSpPr>
          <p:spPr>
            <a:xfrm>
              <a:off x="4195800" y="2730600"/>
              <a:ext cx="1703520" cy="66492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4" name=""/>
            <p:cNvSpPr/>
            <p:nvPr/>
          </p:nvSpPr>
          <p:spPr>
            <a:xfrm flipV="1">
              <a:off x="3987720" y="3026880"/>
              <a:ext cx="627120" cy="972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5" name=""/>
            <p:cNvSpPr/>
            <p:nvPr/>
          </p:nvSpPr>
          <p:spPr>
            <a:xfrm>
              <a:off x="4697280" y="2796120"/>
              <a:ext cx="708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0" lang="cs-CZ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6" name=""/>
            <p:cNvSpPr/>
            <p:nvPr/>
          </p:nvSpPr>
          <p:spPr>
            <a:xfrm>
              <a:off x="3732120" y="3589200"/>
              <a:ext cx="480960" cy="58896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7" name=""/>
            <p:cNvSpPr/>
            <p:nvPr/>
          </p:nvSpPr>
          <p:spPr>
            <a:xfrm>
              <a:off x="4216320" y="3591000"/>
              <a:ext cx="1451160" cy="587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8" name=""/>
            <p:cNvSpPr/>
            <p:nvPr/>
          </p:nvSpPr>
          <p:spPr>
            <a:xfrm flipH="1">
              <a:off x="3558960" y="1162080"/>
              <a:ext cx="21960" cy="5548320"/>
            </a:xfrm>
            <a:prstGeom prst="line">
              <a:avLst/>
            </a:prstGeom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9" name=""/>
            <p:cNvSpPr/>
            <p:nvPr/>
          </p:nvSpPr>
          <p:spPr>
            <a:xfrm flipH="1">
              <a:off x="5890680" y="1219320"/>
              <a:ext cx="8280" cy="5467320"/>
            </a:xfrm>
            <a:prstGeom prst="line">
              <a:avLst/>
            </a:prstGeom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0" name=""/>
            <p:cNvSpPr/>
            <p:nvPr/>
          </p:nvSpPr>
          <p:spPr>
            <a:xfrm>
              <a:off x="3740040" y="5133960"/>
              <a:ext cx="474840" cy="57780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1" name=""/>
            <p:cNvSpPr/>
            <p:nvPr/>
          </p:nvSpPr>
          <p:spPr>
            <a:xfrm>
              <a:off x="4218120" y="5126040"/>
              <a:ext cx="1423800" cy="58752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2" name=""/>
            <p:cNvSpPr/>
            <p:nvPr/>
          </p:nvSpPr>
          <p:spPr>
            <a:xfrm flipV="1">
              <a:off x="3929040" y="5419800"/>
              <a:ext cx="627120" cy="93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3" name=""/>
            <p:cNvSpPr/>
            <p:nvPr/>
          </p:nvSpPr>
          <p:spPr>
            <a:xfrm>
              <a:off x="4543200" y="5166360"/>
              <a:ext cx="708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ffffff"/>
                  </a:solidFill>
                  <a:latin typeface="Times New Roman"/>
                </a:rPr>
                <a:t>H</a:t>
              </a:r>
              <a:r>
                <a:rPr b="0" lang="cs-CZ" sz="2400" spc="-1" strike="noStrike" baseline="-25000">
                  <a:solidFill>
                    <a:srgbClr val="ffffff"/>
                  </a:solidFill>
                  <a:latin typeface="Times New Roman"/>
                </a:rPr>
                <a:t>2</a:t>
              </a:r>
              <a:r>
                <a:rPr b="0" lang="cs-CZ" sz="2400" spc="-1" strike="noStrike">
                  <a:solidFill>
                    <a:srgbClr val="ffffff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4" name=""/>
            <p:cNvSpPr/>
            <p:nvPr/>
          </p:nvSpPr>
          <p:spPr>
            <a:xfrm>
              <a:off x="792000" y="1552680"/>
              <a:ext cx="2781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Příčina: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větší ztráta vody než solutů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5" name=""/>
            <p:cNvSpPr/>
            <p:nvPr/>
          </p:nvSpPr>
          <p:spPr>
            <a:xfrm>
              <a:off x="3832200" y="5969160"/>
              <a:ext cx="426960" cy="58572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6" name=""/>
            <p:cNvSpPr/>
            <p:nvPr/>
          </p:nvSpPr>
          <p:spPr>
            <a:xfrm>
              <a:off x="4213080" y="5969160"/>
              <a:ext cx="1608120" cy="587160"/>
            </a:xfrm>
            <a:prstGeom prst="rect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7" name=""/>
            <p:cNvSpPr/>
            <p:nvPr/>
          </p:nvSpPr>
          <p:spPr>
            <a:xfrm>
              <a:off x="3338640" y="1094400"/>
              <a:ext cx="2342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ECT         IC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8" name=""/>
            <p:cNvSpPr/>
            <p:nvPr/>
          </p:nvSpPr>
          <p:spPr>
            <a:xfrm>
              <a:off x="4208400" y="1135080"/>
              <a:ext cx="0" cy="4848120"/>
            </a:xfrm>
            <a:prstGeom prst="line">
              <a:avLst/>
            </a:prstGeom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9" name=""/>
            <p:cNvSpPr/>
            <p:nvPr/>
          </p:nvSpPr>
          <p:spPr>
            <a:xfrm>
              <a:off x="2187360" y="2939040"/>
              <a:ext cx="708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0" lang="cs-CZ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0" name=""/>
            <p:cNvSpPr/>
            <p:nvPr/>
          </p:nvSpPr>
          <p:spPr>
            <a:xfrm>
              <a:off x="2954160" y="3220920"/>
              <a:ext cx="88920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1" name=""/>
            <p:cNvSpPr/>
            <p:nvPr/>
          </p:nvSpPr>
          <p:spPr>
            <a:xfrm>
              <a:off x="3728880" y="4362480"/>
              <a:ext cx="481320" cy="588960"/>
            </a:xfrm>
            <a:prstGeom prst="rect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2" name=""/>
            <p:cNvSpPr/>
            <p:nvPr/>
          </p:nvSpPr>
          <p:spPr>
            <a:xfrm>
              <a:off x="4213080" y="4363920"/>
              <a:ext cx="1451160" cy="587520"/>
            </a:xfrm>
            <a:prstGeom prst="rect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3" name=""/>
            <p:cNvSpPr/>
            <p:nvPr/>
          </p:nvSpPr>
          <p:spPr>
            <a:xfrm>
              <a:off x="6068880" y="1776960"/>
              <a:ext cx="2948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000" spc="-1" strike="noStrike">
                  <a:solidFill>
                    <a:srgbClr val="000000"/>
                  </a:solidFill>
                  <a:latin typeface="Times New Roman"/>
                </a:rPr>
                <a:t>Výchozí stav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4" name=""/>
            <p:cNvSpPr/>
            <p:nvPr/>
          </p:nvSpPr>
          <p:spPr>
            <a:xfrm>
              <a:off x="6068880" y="2809080"/>
              <a:ext cx="2948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000" spc="-1" strike="noStrike">
                  <a:solidFill>
                    <a:srgbClr val="000000"/>
                  </a:solidFill>
                  <a:latin typeface="Times New Roman"/>
                </a:rPr>
                <a:t>Začátek poruch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5" name=""/>
            <p:cNvSpPr/>
            <p:nvPr/>
          </p:nvSpPr>
          <p:spPr>
            <a:xfrm>
              <a:off x="6068880" y="3520080"/>
              <a:ext cx="2948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000" spc="-1" strike="noStrike">
                  <a:solidFill>
                    <a:srgbClr val="000000"/>
                  </a:solidFill>
                  <a:latin typeface="Times New Roman"/>
                </a:rPr>
                <a:t>Osmotické ekvilibrium-snížení objemu I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6" name=""/>
            <p:cNvSpPr/>
            <p:nvPr/>
          </p:nvSpPr>
          <p:spPr>
            <a:xfrm>
              <a:off x="6080040" y="4269240"/>
              <a:ext cx="2948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000" spc="-1" strike="noStrike">
                  <a:solidFill>
                    <a:srgbClr val="000000"/>
                  </a:solidFill>
                  <a:latin typeface="Times New Roman"/>
                </a:rPr>
                <a:t>Kompenzační zvýšení osmolarity v ICT..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7" name=""/>
            <p:cNvSpPr/>
            <p:nvPr/>
          </p:nvSpPr>
          <p:spPr>
            <a:xfrm>
              <a:off x="6068880" y="5082120"/>
              <a:ext cx="2948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0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r>
                <a:rPr b="0" lang="cs-CZ" sz="2000" spc="-1" strike="noStrike">
                  <a:solidFill>
                    <a:srgbClr val="000000"/>
                  </a:solidFill>
                  <a:latin typeface="Times New Roman"/>
                </a:rPr>
                <a:t>vede k přesunu vody do ICT..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8" name=""/>
            <p:cNvSpPr/>
            <p:nvPr/>
          </p:nvSpPr>
          <p:spPr>
            <a:xfrm>
              <a:off x="6068880" y="5810760"/>
              <a:ext cx="2948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0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r>
                <a:rPr b="0" lang="cs-CZ" sz="2000" spc="-1" strike="noStrike">
                  <a:solidFill>
                    <a:srgbClr val="000000"/>
                  </a:solidFill>
                  <a:latin typeface="Times New Roman"/>
                </a:rPr>
                <a:t>a ke korekci sníženého objemu I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9" name=""/>
            <p:cNvSpPr/>
            <p:nvPr/>
          </p:nvSpPr>
          <p:spPr>
            <a:xfrm>
              <a:off x="1868400" y="2661480"/>
              <a:ext cx="138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000000"/>
                  </a:solidFill>
                  <a:latin typeface="Times New Roman"/>
                </a:rPr>
                <a:t>Solut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0" name=""/>
            <p:cNvSpPr/>
            <p:nvPr/>
          </p:nvSpPr>
          <p:spPr>
            <a:xfrm>
              <a:off x="2967120" y="2854440"/>
              <a:ext cx="8665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1" name=""/>
            <p:cNvSpPr/>
            <p:nvPr/>
          </p:nvSpPr>
          <p:spPr>
            <a:xfrm>
              <a:off x="4211640" y="3038400"/>
              <a:ext cx="403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2" name=""/>
          <p:cNvSpPr/>
          <p:nvPr/>
        </p:nvSpPr>
        <p:spPr>
          <a:xfrm>
            <a:off x="582480" y="0"/>
            <a:ext cx="2465640" cy="104760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imes New Roman"/>
              </a:rPr>
              <a:t>Porucha vstřebávání chloridů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1400" spc="-1" strike="noStrike">
                <a:solidFill>
                  <a:srgbClr val="000000"/>
                </a:solidFill>
                <a:latin typeface="Times New Roman"/>
              </a:rPr>
              <a:t>ve vzestupném raménku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imes New Roman"/>
              </a:rPr>
              <a:t>Henleho kličk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3" name=""/>
          <p:cNvSpPr/>
          <p:nvPr/>
        </p:nvSpPr>
        <p:spPr>
          <a:xfrm>
            <a:off x="781200" y="1503360"/>
            <a:ext cx="2093760" cy="692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Zvýšená nabídka Na</a:t>
            </a:r>
            <a:r>
              <a:rPr b="0" lang="cs-CZ" sz="1400" spc="-1" strike="noStrike" baseline="38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a Cl</a:t>
            </a:r>
            <a:r>
              <a:rPr b="0" lang="cs-CZ" sz="1400" spc="-1" strike="noStrike" baseline="36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 do distálního tubul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(a osmoticky vázané vod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4" name=""/>
          <p:cNvSpPr/>
          <p:nvPr/>
        </p:nvSpPr>
        <p:spPr>
          <a:xfrm>
            <a:off x="782640" y="2943360"/>
            <a:ext cx="2093760" cy="715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Zvýšený průtok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v  tubul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5" name=""/>
          <p:cNvSpPr/>
          <p:nvPr/>
        </p:nvSpPr>
        <p:spPr>
          <a:xfrm>
            <a:off x="3548160" y="2957400"/>
            <a:ext cx="2093760" cy="560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Zvýšení sekrece K</a:t>
            </a:r>
            <a:r>
              <a:rPr b="0" lang="cs-CZ" sz="1400" spc="-1" strike="noStrike" baseline="38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6" name=""/>
          <p:cNvSpPr/>
          <p:nvPr/>
        </p:nvSpPr>
        <p:spPr>
          <a:xfrm>
            <a:off x="6415200" y="2720880"/>
            <a:ext cx="2093760" cy="873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Stimulace sekrece renin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(a regulační smyčky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renin-angiotensin-aldoster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7" name=""/>
          <p:cNvSpPr/>
          <p:nvPr/>
        </p:nvSpPr>
        <p:spPr>
          <a:xfrm>
            <a:off x="3548160" y="1430280"/>
            <a:ext cx="2093760" cy="873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Zvýšení elektronegativ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v lumen tubulu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(díky vysoké hladině Cl</a:t>
            </a:r>
            <a:r>
              <a:rPr b="1" lang="cs-CZ" sz="1400" spc="-1" strike="noStrike" baseline="38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8" name=""/>
          <p:cNvSpPr/>
          <p:nvPr/>
        </p:nvSpPr>
        <p:spPr>
          <a:xfrm>
            <a:off x="3941640" y="5170320"/>
            <a:ext cx="2094120" cy="544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Zvýšení resorpce Na</a:t>
            </a:r>
            <a:r>
              <a:rPr b="0" lang="cs-CZ" sz="1400" spc="-1" strike="noStrike" baseline="38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9" name=""/>
          <p:cNvSpPr/>
          <p:nvPr/>
        </p:nvSpPr>
        <p:spPr>
          <a:xfrm>
            <a:off x="782640" y="5024520"/>
            <a:ext cx="2093760" cy="87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Zajištění resorpc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zvýšeného množství vody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přitékající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do tubulů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0" name=""/>
          <p:cNvSpPr/>
          <p:nvPr/>
        </p:nvSpPr>
        <p:spPr>
          <a:xfrm>
            <a:off x="6388200" y="3951360"/>
            <a:ext cx="2093760" cy="60156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Hypokalémi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1" name=""/>
          <p:cNvSpPr/>
          <p:nvPr/>
        </p:nvSpPr>
        <p:spPr>
          <a:xfrm>
            <a:off x="6664320" y="155520"/>
            <a:ext cx="2093760" cy="87336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Hypochlorémi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2" name=""/>
          <p:cNvSpPr/>
          <p:nvPr/>
        </p:nvSpPr>
        <p:spPr>
          <a:xfrm>
            <a:off x="3548160" y="158760"/>
            <a:ext cx="2093760" cy="87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Zvýšené ztráty chloridů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3" name=""/>
          <p:cNvSpPr/>
          <p:nvPr/>
        </p:nvSpPr>
        <p:spPr>
          <a:xfrm>
            <a:off x="6640560" y="1327320"/>
            <a:ext cx="2381040" cy="87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Zvýšená hladi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aldosteron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4" name=""/>
          <p:cNvSpPr/>
          <p:nvPr/>
        </p:nvSpPr>
        <p:spPr>
          <a:xfrm>
            <a:off x="3490920" y="4094280"/>
            <a:ext cx="2093760" cy="487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Zvýšené ztráty K</a:t>
            </a:r>
            <a:r>
              <a:rPr b="0" lang="cs-CZ" sz="1400" spc="-1" strike="noStrike" baseline="38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5" name=""/>
          <p:cNvSpPr/>
          <p:nvPr/>
        </p:nvSpPr>
        <p:spPr>
          <a:xfrm>
            <a:off x="6413400" y="5303880"/>
            <a:ext cx="2094120" cy="660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Výměna K</a:t>
            </a:r>
            <a:r>
              <a:rPr b="0" lang="cs-CZ" sz="1400" spc="-1" strike="noStrike" baseline="38000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za v buňkách H</a:t>
            </a:r>
            <a:r>
              <a:rPr b="0" lang="cs-CZ" sz="1400" spc="-1" strike="noStrike" baseline="38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(K</a:t>
            </a:r>
            <a:r>
              <a:rPr b="0" lang="cs-CZ" sz="1400" spc="-1" strike="noStrike" baseline="38000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do buňky a H</a:t>
            </a:r>
            <a:r>
              <a:rPr b="0" lang="cs-CZ" sz="1400" spc="-1" strike="noStrike" baseline="38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 z buňk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6" name=""/>
          <p:cNvSpPr/>
          <p:nvPr/>
        </p:nvSpPr>
        <p:spPr>
          <a:xfrm>
            <a:off x="3467160" y="6153120"/>
            <a:ext cx="2093760" cy="54468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Metabolická alkalóz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7" name=""/>
          <p:cNvSpPr/>
          <p:nvPr/>
        </p:nvSpPr>
        <p:spPr>
          <a:xfrm flipH="1">
            <a:off x="1830240" y="1042920"/>
            <a:ext cx="7920" cy="5000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8" name=""/>
          <p:cNvSpPr/>
          <p:nvPr/>
        </p:nvSpPr>
        <p:spPr>
          <a:xfrm>
            <a:off x="1839960" y="2225520"/>
            <a:ext cx="1440" cy="690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9" name=""/>
          <p:cNvSpPr/>
          <p:nvPr/>
        </p:nvSpPr>
        <p:spPr>
          <a:xfrm flipV="1">
            <a:off x="2876400" y="5486400"/>
            <a:ext cx="1071720" cy="79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0" name=""/>
          <p:cNvSpPr/>
          <p:nvPr/>
        </p:nvSpPr>
        <p:spPr>
          <a:xfrm>
            <a:off x="5653080" y="606600"/>
            <a:ext cx="998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1" name=""/>
          <p:cNvSpPr/>
          <p:nvPr/>
        </p:nvSpPr>
        <p:spPr>
          <a:xfrm>
            <a:off x="7678800" y="3560760"/>
            <a:ext cx="0" cy="4269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2" name=""/>
          <p:cNvSpPr/>
          <p:nvPr/>
        </p:nvSpPr>
        <p:spPr>
          <a:xfrm>
            <a:off x="4525920" y="3495600"/>
            <a:ext cx="0" cy="5907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3" name=""/>
          <p:cNvSpPr/>
          <p:nvPr/>
        </p:nvSpPr>
        <p:spPr>
          <a:xfrm>
            <a:off x="5583240" y="4346640"/>
            <a:ext cx="781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4" name=""/>
          <p:cNvSpPr/>
          <p:nvPr/>
        </p:nvSpPr>
        <p:spPr>
          <a:xfrm>
            <a:off x="7678800" y="2220840"/>
            <a:ext cx="0" cy="5018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5" name=""/>
          <p:cNvSpPr/>
          <p:nvPr/>
        </p:nvSpPr>
        <p:spPr>
          <a:xfrm>
            <a:off x="7678800" y="4537080"/>
            <a:ext cx="0" cy="747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6" name=""/>
          <p:cNvSpPr/>
          <p:nvPr/>
        </p:nvSpPr>
        <p:spPr>
          <a:xfrm flipH="1">
            <a:off x="5659200" y="1890720"/>
            <a:ext cx="965160" cy="1281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7" name=""/>
          <p:cNvSpPr/>
          <p:nvPr/>
        </p:nvSpPr>
        <p:spPr>
          <a:xfrm flipH="1">
            <a:off x="5411520" y="1889280"/>
            <a:ext cx="1212840" cy="3260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8" name=""/>
          <p:cNvSpPr/>
          <p:nvPr/>
        </p:nvSpPr>
        <p:spPr>
          <a:xfrm flipH="1">
            <a:off x="5560560" y="5694480"/>
            <a:ext cx="847800" cy="666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9" name=""/>
          <p:cNvSpPr/>
          <p:nvPr/>
        </p:nvSpPr>
        <p:spPr>
          <a:xfrm>
            <a:off x="4500720" y="2298600"/>
            <a:ext cx="1440" cy="638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0" name=""/>
          <p:cNvSpPr/>
          <p:nvPr/>
        </p:nvSpPr>
        <p:spPr>
          <a:xfrm>
            <a:off x="2876400" y="3284640"/>
            <a:ext cx="663840" cy="7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1" name=""/>
          <p:cNvSpPr/>
          <p:nvPr/>
        </p:nvSpPr>
        <p:spPr>
          <a:xfrm flipV="1">
            <a:off x="2876400" y="665280"/>
            <a:ext cx="679680" cy="1149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2" name=""/>
          <p:cNvSpPr/>
          <p:nvPr/>
        </p:nvSpPr>
        <p:spPr>
          <a:xfrm>
            <a:off x="2876400" y="1798560"/>
            <a:ext cx="663840" cy="7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3" name=""/>
          <p:cNvSpPr/>
          <p:nvPr/>
        </p:nvSpPr>
        <p:spPr>
          <a:xfrm>
            <a:off x="6951600" y="6067440"/>
            <a:ext cx="2094120" cy="684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Stimulace distáln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cs-CZ" sz="1400" spc="-1" strike="noStrike" baseline="38000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ATPázy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(zvýšení renální exkrece H</a:t>
            </a:r>
            <a:r>
              <a:rPr b="0" lang="cs-CZ" sz="1400" spc="-1" strike="noStrike" baseline="38000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4" name=""/>
          <p:cNvSpPr/>
          <p:nvPr/>
        </p:nvSpPr>
        <p:spPr>
          <a:xfrm>
            <a:off x="8785080" y="2217600"/>
            <a:ext cx="1800" cy="3868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5" name=""/>
          <p:cNvSpPr/>
          <p:nvPr/>
        </p:nvSpPr>
        <p:spPr>
          <a:xfrm flipV="1">
            <a:off x="5594400" y="6456240"/>
            <a:ext cx="1382760" cy="79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36" name=""/>
          <p:cNvGrpSpPr/>
          <p:nvPr/>
        </p:nvGrpSpPr>
        <p:grpSpPr>
          <a:xfrm>
            <a:off x="247680" y="168120"/>
            <a:ext cx="8899560" cy="6567480"/>
            <a:chOff x="247680" y="168120"/>
            <a:chExt cx="8899560" cy="6567480"/>
          </a:xfrm>
        </p:grpSpPr>
        <p:sp>
          <p:nvSpPr>
            <p:cNvPr id="9037" name=""/>
            <p:cNvSpPr/>
            <p:nvPr/>
          </p:nvSpPr>
          <p:spPr>
            <a:xfrm>
              <a:off x="247680" y="168120"/>
              <a:ext cx="8899560" cy="90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4400" spc="-1" strike="noStrike">
                  <a:solidFill>
                    <a:srgbClr val="000000"/>
                  </a:solidFill>
                  <a:latin typeface="Times New Roman"/>
                </a:rPr>
                <a:t>Hyposmolární dehydratace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8" name=""/>
            <p:cNvSpPr/>
            <p:nvPr/>
          </p:nvSpPr>
          <p:spPr>
            <a:xfrm>
              <a:off x="3492360" y="1677960"/>
              <a:ext cx="638280" cy="6825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9" name=""/>
            <p:cNvSpPr/>
            <p:nvPr/>
          </p:nvSpPr>
          <p:spPr>
            <a:xfrm>
              <a:off x="4133880" y="1677960"/>
              <a:ext cx="1681200" cy="682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0" name=""/>
            <p:cNvSpPr/>
            <p:nvPr/>
          </p:nvSpPr>
          <p:spPr>
            <a:xfrm>
              <a:off x="3753000" y="2720880"/>
              <a:ext cx="365040" cy="6699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1" name=""/>
            <p:cNvSpPr/>
            <p:nvPr/>
          </p:nvSpPr>
          <p:spPr>
            <a:xfrm>
              <a:off x="4111560" y="2720880"/>
              <a:ext cx="1703520" cy="6699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2" name=""/>
            <p:cNvSpPr/>
            <p:nvPr/>
          </p:nvSpPr>
          <p:spPr>
            <a:xfrm>
              <a:off x="3903840" y="3036960"/>
              <a:ext cx="634680" cy="14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3" name=""/>
            <p:cNvSpPr/>
            <p:nvPr/>
          </p:nvSpPr>
          <p:spPr>
            <a:xfrm>
              <a:off x="4613040" y="2796120"/>
              <a:ext cx="708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0" lang="cs-CZ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4" name=""/>
            <p:cNvSpPr/>
            <p:nvPr/>
          </p:nvSpPr>
          <p:spPr>
            <a:xfrm>
              <a:off x="3760920" y="3589200"/>
              <a:ext cx="368280" cy="58896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5" name=""/>
            <p:cNvSpPr/>
            <p:nvPr/>
          </p:nvSpPr>
          <p:spPr>
            <a:xfrm>
              <a:off x="4132440" y="3591000"/>
              <a:ext cx="1888920" cy="587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6" name=""/>
            <p:cNvSpPr/>
            <p:nvPr/>
          </p:nvSpPr>
          <p:spPr>
            <a:xfrm flipH="1">
              <a:off x="3475080" y="1162080"/>
              <a:ext cx="22320" cy="5548320"/>
            </a:xfrm>
            <a:prstGeom prst="line">
              <a:avLst/>
            </a:prstGeom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7" name=""/>
            <p:cNvSpPr/>
            <p:nvPr/>
          </p:nvSpPr>
          <p:spPr>
            <a:xfrm flipH="1">
              <a:off x="5815080" y="1268280"/>
              <a:ext cx="7920" cy="5467320"/>
            </a:xfrm>
            <a:prstGeom prst="line">
              <a:avLst/>
            </a:prstGeom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8" name=""/>
            <p:cNvSpPr/>
            <p:nvPr/>
          </p:nvSpPr>
          <p:spPr>
            <a:xfrm>
              <a:off x="3726000" y="5116680"/>
              <a:ext cx="404640" cy="59508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9" name=""/>
            <p:cNvSpPr/>
            <p:nvPr/>
          </p:nvSpPr>
          <p:spPr>
            <a:xfrm>
              <a:off x="4133880" y="5126040"/>
              <a:ext cx="1887480" cy="5875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0" name=""/>
            <p:cNvSpPr/>
            <p:nvPr/>
          </p:nvSpPr>
          <p:spPr>
            <a:xfrm flipV="1">
              <a:off x="3844800" y="5419800"/>
              <a:ext cx="627120" cy="9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1" name=""/>
            <p:cNvSpPr/>
            <p:nvPr/>
          </p:nvSpPr>
          <p:spPr>
            <a:xfrm>
              <a:off x="4458960" y="5166360"/>
              <a:ext cx="708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0" lang="cs-CZ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2" name=""/>
            <p:cNvSpPr/>
            <p:nvPr/>
          </p:nvSpPr>
          <p:spPr>
            <a:xfrm>
              <a:off x="493560" y="1543320"/>
              <a:ext cx="31276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Příčina: větší ztráta solutů než vod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3" name=""/>
            <p:cNvSpPr/>
            <p:nvPr/>
          </p:nvSpPr>
          <p:spPr>
            <a:xfrm>
              <a:off x="3633840" y="5969160"/>
              <a:ext cx="541440" cy="58572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4" name=""/>
            <p:cNvSpPr/>
            <p:nvPr/>
          </p:nvSpPr>
          <p:spPr>
            <a:xfrm>
              <a:off x="4129200" y="5969160"/>
              <a:ext cx="1770120" cy="58716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5" name=""/>
            <p:cNvSpPr/>
            <p:nvPr/>
          </p:nvSpPr>
          <p:spPr>
            <a:xfrm>
              <a:off x="3254400" y="1094400"/>
              <a:ext cx="2343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ECT         IC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6" name=""/>
            <p:cNvSpPr/>
            <p:nvPr/>
          </p:nvSpPr>
          <p:spPr>
            <a:xfrm>
              <a:off x="4121280" y="1135080"/>
              <a:ext cx="0" cy="4848120"/>
            </a:xfrm>
            <a:prstGeom prst="line">
              <a:avLst/>
            </a:prstGeom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7" name=""/>
            <p:cNvSpPr/>
            <p:nvPr/>
          </p:nvSpPr>
          <p:spPr>
            <a:xfrm>
              <a:off x="3759120" y="4362480"/>
              <a:ext cx="362160" cy="588960"/>
            </a:xfrm>
            <a:prstGeom prst="rect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8" name=""/>
            <p:cNvSpPr/>
            <p:nvPr/>
          </p:nvSpPr>
          <p:spPr>
            <a:xfrm>
              <a:off x="4129200" y="4363920"/>
              <a:ext cx="1888920" cy="5875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9" name=""/>
            <p:cNvSpPr/>
            <p:nvPr/>
          </p:nvSpPr>
          <p:spPr>
            <a:xfrm>
              <a:off x="5977080" y="1776960"/>
              <a:ext cx="2947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000" spc="-1" strike="noStrike">
                  <a:solidFill>
                    <a:srgbClr val="000000"/>
                  </a:solidFill>
                  <a:latin typeface="Times New Roman"/>
                </a:rPr>
                <a:t>Výchozí stav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0" name=""/>
            <p:cNvSpPr/>
            <p:nvPr/>
          </p:nvSpPr>
          <p:spPr>
            <a:xfrm>
              <a:off x="5977080" y="2809080"/>
              <a:ext cx="2947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000" spc="-1" strike="noStrike">
                  <a:solidFill>
                    <a:srgbClr val="000000"/>
                  </a:solidFill>
                  <a:latin typeface="Times New Roman"/>
                </a:rPr>
                <a:t>Začátek poruch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1" name=""/>
            <p:cNvSpPr/>
            <p:nvPr/>
          </p:nvSpPr>
          <p:spPr>
            <a:xfrm>
              <a:off x="5977080" y="3520080"/>
              <a:ext cx="29476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000" spc="-1" strike="noStrike">
                  <a:solidFill>
                    <a:srgbClr val="000000"/>
                  </a:solidFill>
                  <a:latin typeface="Times New Roman"/>
                </a:rPr>
                <a:t>Osmotické ekvilibrium-zvýšení objemu I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2" name=""/>
            <p:cNvSpPr/>
            <p:nvPr/>
          </p:nvSpPr>
          <p:spPr>
            <a:xfrm>
              <a:off x="5987880" y="4269240"/>
              <a:ext cx="2948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000" spc="-1" strike="noStrike">
                  <a:solidFill>
                    <a:srgbClr val="000000"/>
                  </a:solidFill>
                  <a:latin typeface="Times New Roman"/>
                </a:rPr>
                <a:t>Kompenzační snížení osmolarity v ICT..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3" name=""/>
            <p:cNvSpPr/>
            <p:nvPr/>
          </p:nvSpPr>
          <p:spPr>
            <a:xfrm>
              <a:off x="5977080" y="5082120"/>
              <a:ext cx="29476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0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r>
                <a:rPr b="0" lang="cs-CZ" sz="2000" spc="-1" strike="noStrike">
                  <a:solidFill>
                    <a:srgbClr val="000000"/>
                  </a:solidFill>
                  <a:latin typeface="Times New Roman"/>
                </a:rPr>
                <a:t>vede k přesunu vody z ICT..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4" name=""/>
            <p:cNvSpPr/>
            <p:nvPr/>
          </p:nvSpPr>
          <p:spPr>
            <a:xfrm>
              <a:off x="5977080" y="5810760"/>
              <a:ext cx="29476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0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r>
                <a:rPr b="0" lang="cs-CZ" sz="2000" spc="-1" strike="noStrike">
                  <a:solidFill>
                    <a:srgbClr val="000000"/>
                  </a:solidFill>
                  <a:latin typeface="Times New Roman"/>
                </a:rPr>
                <a:t>a ke korekci zvýšeného objemu I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5" name=""/>
            <p:cNvSpPr/>
            <p:nvPr/>
          </p:nvSpPr>
          <p:spPr>
            <a:xfrm>
              <a:off x="2331000" y="3023640"/>
              <a:ext cx="5767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0" lang="cs-CZ" sz="1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cs-CZ" sz="18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6" name=""/>
            <p:cNvSpPr/>
            <p:nvPr/>
          </p:nvSpPr>
          <p:spPr>
            <a:xfrm>
              <a:off x="2870280" y="3220920"/>
              <a:ext cx="88884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7" name=""/>
            <p:cNvSpPr/>
            <p:nvPr/>
          </p:nvSpPr>
          <p:spPr>
            <a:xfrm>
              <a:off x="1784520" y="2616840"/>
              <a:ext cx="1382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Solut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8" name=""/>
            <p:cNvSpPr/>
            <p:nvPr/>
          </p:nvSpPr>
          <p:spPr>
            <a:xfrm>
              <a:off x="2882880" y="2854440"/>
              <a:ext cx="866880" cy="14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69" name=""/>
          <p:cNvGrpSpPr/>
          <p:nvPr/>
        </p:nvGrpSpPr>
        <p:grpSpPr>
          <a:xfrm>
            <a:off x="5850000" y="2488320"/>
            <a:ext cx="1130760" cy="1307520"/>
            <a:chOff x="5850000" y="2488320"/>
            <a:chExt cx="1130760" cy="1307520"/>
          </a:xfrm>
        </p:grpSpPr>
        <p:sp>
          <p:nvSpPr>
            <p:cNvPr id="9070" name=""/>
            <p:cNvSpPr/>
            <p:nvPr/>
          </p:nvSpPr>
          <p:spPr>
            <a:xfrm rot="19162200">
              <a:off x="6200640" y="2622240"/>
              <a:ext cx="649080" cy="641520"/>
            </a:xfrm>
            <a:custGeom>
              <a:avLst/>
              <a:gdLst/>
              <a:ahLst/>
              <a:rect l="l" t="t" r="r" b="b"/>
              <a:pathLst>
                <a:path w="2843" h="3174">
                  <a:moveTo>
                    <a:pt x="1" y="403"/>
                  </a:moveTo>
                  <a:lnTo>
                    <a:pt x="11" y="376"/>
                  </a:lnTo>
                  <a:lnTo>
                    <a:pt x="36" y="354"/>
                  </a:lnTo>
                  <a:lnTo>
                    <a:pt x="77" y="328"/>
                  </a:lnTo>
                  <a:lnTo>
                    <a:pt x="190" y="288"/>
                  </a:lnTo>
                  <a:lnTo>
                    <a:pt x="276" y="262"/>
                  </a:lnTo>
                  <a:lnTo>
                    <a:pt x="374" y="234"/>
                  </a:lnTo>
                  <a:lnTo>
                    <a:pt x="486" y="202"/>
                  </a:lnTo>
                  <a:lnTo>
                    <a:pt x="552" y="163"/>
                  </a:lnTo>
                  <a:lnTo>
                    <a:pt x="621" y="135"/>
                  </a:lnTo>
                  <a:lnTo>
                    <a:pt x="710" y="107"/>
                  </a:lnTo>
                  <a:lnTo>
                    <a:pt x="796" y="83"/>
                  </a:lnTo>
                  <a:lnTo>
                    <a:pt x="901" y="58"/>
                  </a:lnTo>
                  <a:lnTo>
                    <a:pt x="1024" y="40"/>
                  </a:lnTo>
                  <a:lnTo>
                    <a:pt x="1158" y="20"/>
                  </a:lnTo>
                  <a:lnTo>
                    <a:pt x="1301" y="8"/>
                  </a:lnTo>
                  <a:lnTo>
                    <a:pt x="1431" y="1"/>
                  </a:lnTo>
                  <a:lnTo>
                    <a:pt x="1558" y="0"/>
                  </a:lnTo>
                  <a:lnTo>
                    <a:pt x="1680" y="1"/>
                  </a:lnTo>
                  <a:lnTo>
                    <a:pt x="1816" y="11"/>
                  </a:lnTo>
                  <a:lnTo>
                    <a:pt x="1944" y="23"/>
                  </a:lnTo>
                  <a:lnTo>
                    <a:pt x="2051" y="37"/>
                  </a:lnTo>
                  <a:lnTo>
                    <a:pt x="2156" y="55"/>
                  </a:lnTo>
                  <a:lnTo>
                    <a:pt x="2259" y="75"/>
                  </a:lnTo>
                  <a:lnTo>
                    <a:pt x="2359" y="101"/>
                  </a:lnTo>
                  <a:lnTo>
                    <a:pt x="2442" y="127"/>
                  </a:lnTo>
                  <a:lnTo>
                    <a:pt x="2528" y="158"/>
                  </a:lnTo>
                  <a:lnTo>
                    <a:pt x="2611" y="199"/>
                  </a:lnTo>
                  <a:lnTo>
                    <a:pt x="2675" y="235"/>
                  </a:lnTo>
                  <a:lnTo>
                    <a:pt x="2742" y="283"/>
                  </a:lnTo>
                  <a:lnTo>
                    <a:pt x="2793" y="335"/>
                  </a:lnTo>
                  <a:lnTo>
                    <a:pt x="2825" y="383"/>
                  </a:lnTo>
                  <a:lnTo>
                    <a:pt x="2843" y="437"/>
                  </a:lnTo>
                  <a:lnTo>
                    <a:pt x="2843" y="485"/>
                  </a:lnTo>
                  <a:lnTo>
                    <a:pt x="2829" y="534"/>
                  </a:lnTo>
                  <a:lnTo>
                    <a:pt x="2799" y="585"/>
                  </a:lnTo>
                  <a:lnTo>
                    <a:pt x="2753" y="632"/>
                  </a:lnTo>
                  <a:lnTo>
                    <a:pt x="2712" y="665"/>
                  </a:lnTo>
                  <a:lnTo>
                    <a:pt x="2712" y="2763"/>
                  </a:lnTo>
                  <a:lnTo>
                    <a:pt x="2697" y="2805"/>
                  </a:lnTo>
                  <a:lnTo>
                    <a:pt x="2671" y="2857"/>
                  </a:lnTo>
                  <a:lnTo>
                    <a:pt x="2629" y="2904"/>
                  </a:lnTo>
                  <a:lnTo>
                    <a:pt x="2583" y="2946"/>
                  </a:lnTo>
                  <a:lnTo>
                    <a:pt x="2530" y="2977"/>
                  </a:lnTo>
                  <a:lnTo>
                    <a:pt x="2484" y="3002"/>
                  </a:lnTo>
                  <a:lnTo>
                    <a:pt x="2431" y="3029"/>
                  </a:lnTo>
                  <a:lnTo>
                    <a:pt x="2364" y="3054"/>
                  </a:lnTo>
                  <a:lnTo>
                    <a:pt x="2291" y="3076"/>
                  </a:lnTo>
                  <a:lnTo>
                    <a:pt x="2204" y="3102"/>
                  </a:lnTo>
                  <a:lnTo>
                    <a:pt x="2131" y="3117"/>
                  </a:lnTo>
                  <a:lnTo>
                    <a:pt x="2052" y="3133"/>
                  </a:lnTo>
                  <a:lnTo>
                    <a:pt x="1970" y="3148"/>
                  </a:lnTo>
                  <a:lnTo>
                    <a:pt x="1867" y="3159"/>
                  </a:lnTo>
                  <a:lnTo>
                    <a:pt x="1789" y="3164"/>
                  </a:lnTo>
                  <a:lnTo>
                    <a:pt x="1674" y="3174"/>
                  </a:lnTo>
                  <a:lnTo>
                    <a:pt x="1581" y="3174"/>
                  </a:lnTo>
                  <a:lnTo>
                    <a:pt x="1472" y="3174"/>
                  </a:lnTo>
                  <a:lnTo>
                    <a:pt x="1352" y="3169"/>
                  </a:lnTo>
                  <a:lnTo>
                    <a:pt x="1278" y="3164"/>
                  </a:lnTo>
                  <a:lnTo>
                    <a:pt x="1187" y="3154"/>
                  </a:lnTo>
                  <a:lnTo>
                    <a:pt x="1103" y="3137"/>
                  </a:lnTo>
                  <a:lnTo>
                    <a:pt x="994" y="3117"/>
                  </a:lnTo>
                  <a:lnTo>
                    <a:pt x="915" y="3102"/>
                  </a:lnTo>
                  <a:lnTo>
                    <a:pt x="811" y="3070"/>
                  </a:lnTo>
                  <a:lnTo>
                    <a:pt x="729" y="3045"/>
                  </a:lnTo>
                  <a:lnTo>
                    <a:pt x="657" y="3013"/>
                  </a:lnTo>
                  <a:lnTo>
                    <a:pt x="595" y="2977"/>
                  </a:lnTo>
                  <a:lnTo>
                    <a:pt x="543" y="2946"/>
                  </a:lnTo>
                  <a:lnTo>
                    <a:pt x="490" y="2904"/>
                  </a:lnTo>
                  <a:lnTo>
                    <a:pt x="455" y="2857"/>
                  </a:lnTo>
                  <a:lnTo>
                    <a:pt x="429" y="2800"/>
                  </a:lnTo>
                  <a:lnTo>
                    <a:pt x="418" y="2758"/>
                  </a:lnTo>
                  <a:lnTo>
                    <a:pt x="407" y="2718"/>
                  </a:lnTo>
                  <a:lnTo>
                    <a:pt x="407" y="1097"/>
                  </a:lnTo>
                  <a:lnTo>
                    <a:pt x="154" y="600"/>
                  </a:lnTo>
                  <a:lnTo>
                    <a:pt x="72" y="526"/>
                  </a:lnTo>
                  <a:lnTo>
                    <a:pt x="45" y="502"/>
                  </a:lnTo>
                  <a:lnTo>
                    <a:pt x="20" y="480"/>
                  </a:lnTo>
                  <a:lnTo>
                    <a:pt x="4" y="451"/>
                  </a:lnTo>
                  <a:lnTo>
                    <a:pt x="0" y="424"/>
                  </a:lnTo>
                  <a:lnTo>
                    <a:pt x="1" y="403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071" name=""/>
            <p:cNvGrpSpPr/>
            <p:nvPr/>
          </p:nvGrpSpPr>
          <p:grpSpPr>
            <a:xfrm>
              <a:off x="6095520" y="2515320"/>
              <a:ext cx="831960" cy="833760"/>
              <a:chOff x="6095520" y="2515320"/>
              <a:chExt cx="831960" cy="833760"/>
            </a:xfrm>
          </p:grpSpPr>
          <p:sp>
            <p:nvSpPr>
              <p:cNvPr id="9072" name=""/>
              <p:cNvSpPr/>
              <p:nvPr/>
            </p:nvSpPr>
            <p:spPr>
              <a:xfrm rot="19162200">
                <a:off x="6282000" y="2718720"/>
                <a:ext cx="542880" cy="515520"/>
              </a:xfrm>
              <a:custGeom>
                <a:avLst/>
                <a:gdLst/>
                <a:ahLst/>
                <a:rect l="l" t="t" r="r" b="b"/>
                <a:pathLst>
                  <a:path w="2380" h="2548">
                    <a:moveTo>
                      <a:pt x="0" y="0"/>
                    </a:moveTo>
                    <a:lnTo>
                      <a:pt x="269" y="496"/>
                    </a:lnTo>
                    <a:lnTo>
                      <a:pt x="269" y="2158"/>
                    </a:lnTo>
                    <a:lnTo>
                      <a:pt x="284" y="2225"/>
                    </a:lnTo>
                    <a:lnTo>
                      <a:pt x="304" y="2263"/>
                    </a:lnTo>
                    <a:lnTo>
                      <a:pt x="329" y="2304"/>
                    </a:lnTo>
                    <a:lnTo>
                      <a:pt x="361" y="2324"/>
                    </a:lnTo>
                    <a:lnTo>
                      <a:pt x="408" y="2361"/>
                    </a:lnTo>
                    <a:lnTo>
                      <a:pt x="460" y="2387"/>
                    </a:lnTo>
                    <a:lnTo>
                      <a:pt x="517" y="2413"/>
                    </a:lnTo>
                    <a:lnTo>
                      <a:pt x="590" y="2438"/>
                    </a:lnTo>
                    <a:lnTo>
                      <a:pt x="662" y="2465"/>
                    </a:lnTo>
                    <a:lnTo>
                      <a:pt x="731" y="2483"/>
                    </a:lnTo>
                    <a:lnTo>
                      <a:pt x="817" y="2501"/>
                    </a:lnTo>
                    <a:lnTo>
                      <a:pt x="902" y="2517"/>
                    </a:lnTo>
                    <a:lnTo>
                      <a:pt x="981" y="2528"/>
                    </a:lnTo>
                    <a:lnTo>
                      <a:pt x="1057" y="2537"/>
                    </a:lnTo>
                    <a:lnTo>
                      <a:pt x="1145" y="2543"/>
                    </a:lnTo>
                    <a:lnTo>
                      <a:pt x="1240" y="2548"/>
                    </a:lnTo>
                    <a:lnTo>
                      <a:pt x="1349" y="2548"/>
                    </a:lnTo>
                    <a:lnTo>
                      <a:pt x="1458" y="2543"/>
                    </a:lnTo>
                    <a:lnTo>
                      <a:pt x="1561" y="2537"/>
                    </a:lnTo>
                    <a:lnTo>
                      <a:pt x="1659" y="2528"/>
                    </a:lnTo>
                    <a:lnTo>
                      <a:pt x="1759" y="2514"/>
                    </a:lnTo>
                    <a:lnTo>
                      <a:pt x="1831" y="2501"/>
                    </a:lnTo>
                    <a:lnTo>
                      <a:pt x="1923" y="2480"/>
                    </a:lnTo>
                    <a:lnTo>
                      <a:pt x="1996" y="2458"/>
                    </a:lnTo>
                    <a:lnTo>
                      <a:pt x="2063" y="2438"/>
                    </a:lnTo>
                    <a:lnTo>
                      <a:pt x="2131" y="2413"/>
                    </a:lnTo>
                    <a:lnTo>
                      <a:pt x="2193" y="2387"/>
                    </a:lnTo>
                    <a:lnTo>
                      <a:pt x="2241" y="2361"/>
                    </a:lnTo>
                    <a:lnTo>
                      <a:pt x="2286" y="2324"/>
                    </a:lnTo>
                    <a:lnTo>
                      <a:pt x="2317" y="2298"/>
                    </a:lnTo>
                    <a:lnTo>
                      <a:pt x="2345" y="2267"/>
                    </a:lnTo>
                    <a:lnTo>
                      <a:pt x="2371" y="2220"/>
                    </a:lnTo>
                    <a:lnTo>
                      <a:pt x="2380" y="2168"/>
                    </a:lnTo>
                    <a:lnTo>
                      <a:pt x="2380" y="187"/>
                    </a:lnTo>
                    <a:lnTo>
                      <a:pt x="2293" y="228"/>
                    </a:lnTo>
                    <a:lnTo>
                      <a:pt x="2170" y="273"/>
                    </a:lnTo>
                    <a:lnTo>
                      <a:pt x="2039" y="307"/>
                    </a:lnTo>
                    <a:lnTo>
                      <a:pt x="1893" y="341"/>
                    </a:lnTo>
                    <a:lnTo>
                      <a:pt x="1748" y="363"/>
                    </a:lnTo>
                    <a:lnTo>
                      <a:pt x="1592" y="378"/>
                    </a:lnTo>
                    <a:lnTo>
                      <a:pt x="1426" y="388"/>
                    </a:lnTo>
                    <a:lnTo>
                      <a:pt x="1259" y="388"/>
                    </a:lnTo>
                    <a:lnTo>
                      <a:pt x="1080" y="380"/>
                    </a:lnTo>
                    <a:lnTo>
                      <a:pt x="916" y="358"/>
                    </a:lnTo>
                    <a:lnTo>
                      <a:pt x="739" y="333"/>
                    </a:lnTo>
                    <a:lnTo>
                      <a:pt x="575" y="291"/>
                    </a:lnTo>
                    <a:lnTo>
                      <a:pt x="444" y="251"/>
                    </a:lnTo>
                    <a:lnTo>
                      <a:pt x="369" y="218"/>
                    </a:lnTo>
                    <a:lnTo>
                      <a:pt x="310" y="183"/>
                    </a:lnTo>
                    <a:lnTo>
                      <a:pt x="269" y="151"/>
                    </a:lnTo>
                    <a:lnTo>
                      <a:pt x="234" y="109"/>
                    </a:lnTo>
                    <a:lnTo>
                      <a:pt x="212" y="93"/>
                    </a:lnTo>
                    <a:lnTo>
                      <a:pt x="180" y="72"/>
                    </a:lnTo>
                    <a:lnTo>
                      <a:pt x="153" y="57"/>
                    </a:lnTo>
                    <a:lnTo>
                      <a:pt x="120" y="41"/>
                    </a:lnTo>
                    <a:lnTo>
                      <a:pt x="86" y="27"/>
                    </a:lnTo>
                    <a:lnTo>
                      <a:pt x="48" y="1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3" name=""/>
              <p:cNvSpPr/>
              <p:nvPr/>
            </p:nvSpPr>
            <p:spPr>
              <a:xfrm rot="19162200">
                <a:off x="6074640" y="2689920"/>
                <a:ext cx="595080" cy="156240"/>
              </a:xfrm>
              <a:custGeom>
                <a:avLst/>
                <a:gdLst/>
                <a:ahLst/>
                <a:rect l="l" t="t" r="r" b="b"/>
                <a:pathLst>
                  <a:path w="2602" h="773">
                    <a:moveTo>
                      <a:pt x="0" y="348"/>
                    </a:moveTo>
                    <a:lnTo>
                      <a:pt x="20" y="337"/>
                    </a:lnTo>
                    <a:lnTo>
                      <a:pt x="51" y="322"/>
                    </a:lnTo>
                    <a:lnTo>
                      <a:pt x="106" y="305"/>
                    </a:lnTo>
                    <a:lnTo>
                      <a:pt x="204" y="278"/>
                    </a:lnTo>
                    <a:lnTo>
                      <a:pt x="286" y="255"/>
                    </a:lnTo>
                    <a:lnTo>
                      <a:pt x="359" y="236"/>
                    </a:lnTo>
                    <a:lnTo>
                      <a:pt x="422" y="222"/>
                    </a:lnTo>
                    <a:lnTo>
                      <a:pt x="462" y="187"/>
                    </a:lnTo>
                    <a:lnTo>
                      <a:pt x="515" y="154"/>
                    </a:lnTo>
                    <a:lnTo>
                      <a:pt x="572" y="132"/>
                    </a:lnTo>
                    <a:lnTo>
                      <a:pt x="631" y="108"/>
                    </a:lnTo>
                    <a:lnTo>
                      <a:pt x="697" y="89"/>
                    </a:lnTo>
                    <a:lnTo>
                      <a:pt x="761" y="73"/>
                    </a:lnTo>
                    <a:lnTo>
                      <a:pt x="832" y="55"/>
                    </a:lnTo>
                    <a:lnTo>
                      <a:pt x="903" y="41"/>
                    </a:lnTo>
                    <a:lnTo>
                      <a:pt x="988" y="26"/>
                    </a:lnTo>
                    <a:lnTo>
                      <a:pt x="1081" y="17"/>
                    </a:lnTo>
                    <a:lnTo>
                      <a:pt x="1199" y="6"/>
                    </a:lnTo>
                    <a:lnTo>
                      <a:pt x="1345" y="0"/>
                    </a:lnTo>
                    <a:lnTo>
                      <a:pt x="1502" y="0"/>
                    </a:lnTo>
                    <a:lnTo>
                      <a:pt x="1647" y="5"/>
                    </a:lnTo>
                    <a:lnTo>
                      <a:pt x="1811" y="21"/>
                    </a:lnTo>
                    <a:lnTo>
                      <a:pt x="1941" y="36"/>
                    </a:lnTo>
                    <a:lnTo>
                      <a:pt x="2069" y="59"/>
                    </a:lnTo>
                    <a:lnTo>
                      <a:pt x="2184" y="88"/>
                    </a:lnTo>
                    <a:lnTo>
                      <a:pt x="2297" y="121"/>
                    </a:lnTo>
                    <a:lnTo>
                      <a:pt x="2388" y="159"/>
                    </a:lnTo>
                    <a:lnTo>
                      <a:pt x="2468" y="203"/>
                    </a:lnTo>
                    <a:lnTo>
                      <a:pt x="2527" y="247"/>
                    </a:lnTo>
                    <a:lnTo>
                      <a:pt x="2566" y="286"/>
                    </a:lnTo>
                    <a:lnTo>
                      <a:pt x="2592" y="331"/>
                    </a:lnTo>
                    <a:lnTo>
                      <a:pt x="2602" y="374"/>
                    </a:lnTo>
                    <a:lnTo>
                      <a:pt x="2602" y="410"/>
                    </a:lnTo>
                    <a:lnTo>
                      <a:pt x="2592" y="446"/>
                    </a:lnTo>
                    <a:lnTo>
                      <a:pt x="2569" y="483"/>
                    </a:lnTo>
                    <a:lnTo>
                      <a:pt x="2539" y="512"/>
                    </a:lnTo>
                    <a:lnTo>
                      <a:pt x="2504" y="543"/>
                    </a:lnTo>
                    <a:lnTo>
                      <a:pt x="2461" y="575"/>
                    </a:lnTo>
                    <a:lnTo>
                      <a:pt x="2415" y="601"/>
                    </a:lnTo>
                    <a:lnTo>
                      <a:pt x="2350" y="631"/>
                    </a:lnTo>
                    <a:lnTo>
                      <a:pt x="2278" y="657"/>
                    </a:lnTo>
                    <a:lnTo>
                      <a:pt x="2185" y="685"/>
                    </a:lnTo>
                    <a:lnTo>
                      <a:pt x="2087" y="710"/>
                    </a:lnTo>
                    <a:lnTo>
                      <a:pt x="1970" y="732"/>
                    </a:lnTo>
                    <a:lnTo>
                      <a:pt x="1875" y="747"/>
                    </a:lnTo>
                    <a:lnTo>
                      <a:pt x="1754" y="759"/>
                    </a:lnTo>
                    <a:lnTo>
                      <a:pt x="1631" y="766"/>
                    </a:lnTo>
                    <a:lnTo>
                      <a:pt x="1500" y="773"/>
                    </a:lnTo>
                    <a:lnTo>
                      <a:pt x="1397" y="773"/>
                    </a:lnTo>
                    <a:lnTo>
                      <a:pt x="1296" y="766"/>
                    </a:lnTo>
                    <a:lnTo>
                      <a:pt x="1198" y="762"/>
                    </a:lnTo>
                    <a:lnTo>
                      <a:pt x="1094" y="751"/>
                    </a:lnTo>
                    <a:lnTo>
                      <a:pt x="1002" y="737"/>
                    </a:lnTo>
                    <a:lnTo>
                      <a:pt x="927" y="726"/>
                    </a:lnTo>
                    <a:lnTo>
                      <a:pt x="843" y="710"/>
                    </a:lnTo>
                    <a:lnTo>
                      <a:pt x="768" y="691"/>
                    </a:lnTo>
                    <a:lnTo>
                      <a:pt x="703" y="675"/>
                    </a:lnTo>
                    <a:lnTo>
                      <a:pt x="646" y="653"/>
                    </a:lnTo>
                    <a:lnTo>
                      <a:pt x="589" y="632"/>
                    </a:lnTo>
                    <a:lnTo>
                      <a:pt x="536" y="610"/>
                    </a:lnTo>
                    <a:lnTo>
                      <a:pt x="493" y="585"/>
                    </a:lnTo>
                    <a:lnTo>
                      <a:pt x="451" y="554"/>
                    </a:lnTo>
                    <a:lnTo>
                      <a:pt x="426" y="528"/>
                    </a:lnTo>
                    <a:lnTo>
                      <a:pt x="400" y="499"/>
                    </a:lnTo>
                    <a:lnTo>
                      <a:pt x="351" y="473"/>
                    </a:lnTo>
                    <a:lnTo>
                      <a:pt x="306" y="453"/>
                    </a:lnTo>
                    <a:lnTo>
                      <a:pt x="248" y="432"/>
                    </a:lnTo>
                    <a:lnTo>
                      <a:pt x="185" y="413"/>
                    </a:lnTo>
                    <a:lnTo>
                      <a:pt x="119" y="394"/>
                    </a:lnTo>
                    <a:lnTo>
                      <a:pt x="78" y="383"/>
                    </a:lnTo>
                    <a:lnTo>
                      <a:pt x="27" y="370"/>
                    </a:lnTo>
                    <a:lnTo>
                      <a:pt x="0" y="360"/>
                    </a:lnTo>
                    <a:lnTo>
                      <a:pt x="0" y="348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074" name=""/>
            <p:cNvSpPr/>
            <p:nvPr/>
          </p:nvSpPr>
          <p:spPr>
            <a:xfrm>
              <a:off x="6256440" y="2957400"/>
              <a:ext cx="619200" cy="309600"/>
            </a:xfrm>
            <a:custGeom>
              <a:avLst/>
              <a:gdLst/>
              <a:ahLst/>
              <a:rect l="l" t="t" r="r" b="b"/>
              <a:pathLst>
                <a:path w="390" h="195">
                  <a:moveTo>
                    <a:pt x="0" y="13"/>
                  </a:moveTo>
                  <a:lnTo>
                    <a:pt x="153" y="175"/>
                  </a:lnTo>
                  <a:lnTo>
                    <a:pt x="159" y="183"/>
                  </a:lnTo>
                  <a:lnTo>
                    <a:pt x="173" y="195"/>
                  </a:lnTo>
                  <a:lnTo>
                    <a:pt x="174" y="192"/>
                  </a:lnTo>
                  <a:lnTo>
                    <a:pt x="182" y="190"/>
                  </a:lnTo>
                  <a:lnTo>
                    <a:pt x="191" y="187"/>
                  </a:lnTo>
                  <a:lnTo>
                    <a:pt x="197" y="186"/>
                  </a:lnTo>
                  <a:lnTo>
                    <a:pt x="203" y="183"/>
                  </a:lnTo>
                  <a:lnTo>
                    <a:pt x="215" y="177"/>
                  </a:lnTo>
                  <a:lnTo>
                    <a:pt x="226" y="172"/>
                  </a:lnTo>
                  <a:lnTo>
                    <a:pt x="235" y="168"/>
                  </a:lnTo>
                  <a:lnTo>
                    <a:pt x="246" y="163"/>
                  </a:lnTo>
                  <a:lnTo>
                    <a:pt x="256" y="157"/>
                  </a:lnTo>
                  <a:lnTo>
                    <a:pt x="266" y="152"/>
                  </a:lnTo>
                  <a:lnTo>
                    <a:pt x="275" y="147"/>
                  </a:lnTo>
                  <a:lnTo>
                    <a:pt x="285" y="140"/>
                  </a:lnTo>
                  <a:lnTo>
                    <a:pt x="296" y="133"/>
                  </a:lnTo>
                  <a:lnTo>
                    <a:pt x="308" y="123"/>
                  </a:lnTo>
                  <a:lnTo>
                    <a:pt x="320" y="114"/>
                  </a:lnTo>
                  <a:lnTo>
                    <a:pt x="330" y="104"/>
                  </a:lnTo>
                  <a:lnTo>
                    <a:pt x="340" y="96"/>
                  </a:lnTo>
                  <a:lnTo>
                    <a:pt x="349" y="86"/>
                  </a:lnTo>
                  <a:lnTo>
                    <a:pt x="356" y="78"/>
                  </a:lnTo>
                  <a:lnTo>
                    <a:pt x="364" y="69"/>
                  </a:lnTo>
                  <a:lnTo>
                    <a:pt x="370" y="61"/>
                  </a:lnTo>
                  <a:lnTo>
                    <a:pt x="375" y="54"/>
                  </a:lnTo>
                  <a:lnTo>
                    <a:pt x="380" y="46"/>
                  </a:lnTo>
                  <a:lnTo>
                    <a:pt x="385" y="38"/>
                  </a:lnTo>
                  <a:lnTo>
                    <a:pt x="387" y="31"/>
                  </a:lnTo>
                  <a:lnTo>
                    <a:pt x="389" y="24"/>
                  </a:lnTo>
                  <a:lnTo>
                    <a:pt x="389" y="19"/>
                  </a:lnTo>
                  <a:lnTo>
                    <a:pt x="390" y="14"/>
                  </a:lnTo>
                  <a:lnTo>
                    <a:pt x="388" y="8"/>
                  </a:lnTo>
                  <a:lnTo>
                    <a:pt x="384" y="2"/>
                  </a:lnTo>
                  <a:lnTo>
                    <a:pt x="325" y="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5" name=""/>
            <p:cNvSpPr/>
            <p:nvPr/>
          </p:nvSpPr>
          <p:spPr>
            <a:xfrm rot="71400">
              <a:off x="6190920" y="2927160"/>
              <a:ext cx="693720" cy="6804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076" name="" descr=""/>
            <p:cNvPicPr/>
            <p:nvPr/>
          </p:nvPicPr>
          <p:blipFill>
            <a:blip r:embed="rId1"/>
            <a:stretch/>
          </p:blipFill>
          <p:spPr>
            <a:xfrm>
              <a:off x="5850000" y="3192480"/>
              <a:ext cx="1009800" cy="60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77" name=""/>
            <p:cNvSpPr/>
            <p:nvPr/>
          </p:nvSpPr>
          <p:spPr>
            <a:xfrm rot="31200">
              <a:off x="5892480" y="3368520"/>
              <a:ext cx="471600" cy="98280"/>
            </a:xfrm>
            <a:prstGeom prst="ellipse">
              <a:avLst/>
            </a:prstGeom>
            <a:solidFill>
              <a:srgbClr val="8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8" name=""/>
            <p:cNvSpPr/>
            <p:nvPr/>
          </p:nvSpPr>
          <p:spPr>
            <a:xfrm>
              <a:off x="6102360" y="2962440"/>
              <a:ext cx="44640" cy="77760"/>
            </a:xfrm>
            <a:custGeom>
              <a:avLst/>
              <a:gdLst/>
              <a:ahLst/>
              <a:rect l="l" t="t" r="r" b="b"/>
              <a:pathLst>
                <a:path w="196" h="370">
                  <a:moveTo>
                    <a:pt x="95" y="0"/>
                  </a:moveTo>
                  <a:lnTo>
                    <a:pt x="105" y="58"/>
                  </a:lnTo>
                  <a:lnTo>
                    <a:pt x="111" y="87"/>
                  </a:lnTo>
                  <a:lnTo>
                    <a:pt x="121" y="121"/>
                  </a:lnTo>
                  <a:lnTo>
                    <a:pt x="132" y="141"/>
                  </a:lnTo>
                  <a:lnTo>
                    <a:pt x="147" y="166"/>
                  </a:lnTo>
                  <a:lnTo>
                    <a:pt x="167" y="193"/>
                  </a:lnTo>
                  <a:lnTo>
                    <a:pt x="184" y="220"/>
                  </a:lnTo>
                  <a:lnTo>
                    <a:pt x="192" y="245"/>
                  </a:lnTo>
                  <a:lnTo>
                    <a:pt x="196" y="278"/>
                  </a:lnTo>
                  <a:lnTo>
                    <a:pt x="189" y="307"/>
                  </a:lnTo>
                  <a:lnTo>
                    <a:pt x="178" y="328"/>
                  </a:lnTo>
                  <a:lnTo>
                    <a:pt x="162" y="345"/>
                  </a:lnTo>
                  <a:lnTo>
                    <a:pt x="141" y="361"/>
                  </a:lnTo>
                  <a:lnTo>
                    <a:pt x="121" y="367"/>
                  </a:lnTo>
                  <a:lnTo>
                    <a:pt x="99" y="370"/>
                  </a:lnTo>
                  <a:lnTo>
                    <a:pt x="76" y="367"/>
                  </a:lnTo>
                  <a:lnTo>
                    <a:pt x="54" y="362"/>
                  </a:lnTo>
                  <a:lnTo>
                    <a:pt x="34" y="350"/>
                  </a:lnTo>
                  <a:lnTo>
                    <a:pt x="19" y="334"/>
                  </a:lnTo>
                  <a:lnTo>
                    <a:pt x="8" y="315"/>
                  </a:lnTo>
                  <a:lnTo>
                    <a:pt x="3" y="296"/>
                  </a:lnTo>
                  <a:lnTo>
                    <a:pt x="0" y="272"/>
                  </a:lnTo>
                  <a:lnTo>
                    <a:pt x="5" y="240"/>
                  </a:lnTo>
                  <a:lnTo>
                    <a:pt x="13" y="218"/>
                  </a:lnTo>
                  <a:lnTo>
                    <a:pt x="30" y="190"/>
                  </a:lnTo>
                  <a:lnTo>
                    <a:pt x="49" y="166"/>
                  </a:lnTo>
                  <a:lnTo>
                    <a:pt x="62" y="140"/>
                  </a:lnTo>
                  <a:lnTo>
                    <a:pt x="72" y="119"/>
                  </a:lnTo>
                  <a:lnTo>
                    <a:pt x="81" y="90"/>
                  </a:lnTo>
                  <a:lnTo>
                    <a:pt x="86" y="58"/>
                  </a:lnTo>
                  <a:lnTo>
                    <a:pt x="95" y="0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9" name=""/>
            <p:cNvSpPr/>
            <p:nvPr/>
          </p:nvSpPr>
          <p:spPr>
            <a:xfrm>
              <a:off x="6093000" y="3127320"/>
              <a:ext cx="44280" cy="79560"/>
            </a:xfrm>
            <a:custGeom>
              <a:avLst/>
              <a:gdLst/>
              <a:ahLst/>
              <a:rect l="l" t="t" r="r" b="b"/>
              <a:pathLst>
                <a:path w="196" h="372">
                  <a:moveTo>
                    <a:pt x="95" y="0"/>
                  </a:moveTo>
                  <a:lnTo>
                    <a:pt x="105" y="60"/>
                  </a:lnTo>
                  <a:lnTo>
                    <a:pt x="111" y="88"/>
                  </a:lnTo>
                  <a:lnTo>
                    <a:pt x="121" y="122"/>
                  </a:lnTo>
                  <a:lnTo>
                    <a:pt x="132" y="143"/>
                  </a:lnTo>
                  <a:lnTo>
                    <a:pt x="147" y="168"/>
                  </a:lnTo>
                  <a:lnTo>
                    <a:pt x="167" y="195"/>
                  </a:lnTo>
                  <a:lnTo>
                    <a:pt x="184" y="221"/>
                  </a:lnTo>
                  <a:lnTo>
                    <a:pt x="192" y="247"/>
                  </a:lnTo>
                  <a:lnTo>
                    <a:pt x="196" y="279"/>
                  </a:lnTo>
                  <a:lnTo>
                    <a:pt x="189" y="308"/>
                  </a:lnTo>
                  <a:lnTo>
                    <a:pt x="178" y="328"/>
                  </a:lnTo>
                  <a:lnTo>
                    <a:pt x="162" y="345"/>
                  </a:lnTo>
                  <a:lnTo>
                    <a:pt x="141" y="361"/>
                  </a:lnTo>
                  <a:lnTo>
                    <a:pt x="121" y="369"/>
                  </a:lnTo>
                  <a:lnTo>
                    <a:pt x="99" y="372"/>
                  </a:lnTo>
                  <a:lnTo>
                    <a:pt x="76" y="369"/>
                  </a:lnTo>
                  <a:lnTo>
                    <a:pt x="54" y="363"/>
                  </a:lnTo>
                  <a:lnTo>
                    <a:pt x="34" y="351"/>
                  </a:lnTo>
                  <a:lnTo>
                    <a:pt x="19" y="336"/>
                  </a:lnTo>
                  <a:lnTo>
                    <a:pt x="8" y="317"/>
                  </a:lnTo>
                  <a:lnTo>
                    <a:pt x="3" y="298"/>
                  </a:lnTo>
                  <a:lnTo>
                    <a:pt x="0" y="272"/>
                  </a:lnTo>
                  <a:lnTo>
                    <a:pt x="5" y="242"/>
                  </a:lnTo>
                  <a:lnTo>
                    <a:pt x="13" y="219"/>
                  </a:lnTo>
                  <a:lnTo>
                    <a:pt x="30" y="191"/>
                  </a:lnTo>
                  <a:lnTo>
                    <a:pt x="49" y="168"/>
                  </a:lnTo>
                  <a:lnTo>
                    <a:pt x="62" y="141"/>
                  </a:lnTo>
                  <a:lnTo>
                    <a:pt x="72" y="120"/>
                  </a:lnTo>
                  <a:lnTo>
                    <a:pt x="81" y="90"/>
                  </a:lnTo>
                  <a:lnTo>
                    <a:pt x="86" y="60"/>
                  </a:lnTo>
                  <a:lnTo>
                    <a:pt x="95" y="0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80" name=""/>
          <p:cNvSpPr/>
          <p:nvPr/>
        </p:nvSpPr>
        <p:spPr>
          <a:xfrm>
            <a:off x="88920" y="114480"/>
            <a:ext cx="2340000" cy="463320"/>
          </a:xfrm>
          <a:prstGeom prst="rect">
            <a:avLst/>
          </a:prstGeom>
          <a:solidFill>
            <a:srgbClr val="ffff66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Městnavé srdeční selhání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1" name=""/>
          <p:cNvSpPr/>
          <p:nvPr/>
        </p:nvSpPr>
        <p:spPr>
          <a:xfrm>
            <a:off x="3257640" y="139680"/>
            <a:ext cx="2135160" cy="412920"/>
          </a:xfrm>
          <a:prstGeom prst="rect">
            <a:avLst/>
          </a:prstGeom>
          <a:solidFill>
            <a:srgbClr val="ffff66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Cirhóza ja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2" name=""/>
          <p:cNvSpPr/>
          <p:nvPr/>
        </p:nvSpPr>
        <p:spPr>
          <a:xfrm>
            <a:off x="6559560" y="165240"/>
            <a:ext cx="2135160" cy="395280"/>
          </a:xfrm>
          <a:prstGeom prst="rect">
            <a:avLst/>
          </a:prstGeom>
          <a:solidFill>
            <a:srgbClr val="ffff66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Nefrotický syndr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3" name=""/>
          <p:cNvSpPr/>
          <p:nvPr/>
        </p:nvSpPr>
        <p:spPr>
          <a:xfrm>
            <a:off x="415800" y="1047600"/>
            <a:ext cx="2135160" cy="4636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Minutový obj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4" name=""/>
          <p:cNvSpPr/>
          <p:nvPr/>
        </p:nvSpPr>
        <p:spPr>
          <a:xfrm>
            <a:off x="885960" y="1847880"/>
            <a:ext cx="2135160" cy="4636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Kapilární tla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5" name=""/>
          <p:cNvSpPr/>
          <p:nvPr/>
        </p:nvSpPr>
        <p:spPr>
          <a:xfrm>
            <a:off x="2841480" y="3900600"/>
            <a:ext cx="3068640" cy="496800"/>
          </a:xfrm>
          <a:prstGeom prst="rect">
            <a:avLst/>
          </a:prstGeom>
          <a:solidFill>
            <a:srgbClr val="ffff66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Efektivní cirkulující obj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6" name=""/>
          <p:cNvSpPr/>
          <p:nvPr/>
        </p:nvSpPr>
        <p:spPr>
          <a:xfrm>
            <a:off x="3182760" y="3127320"/>
            <a:ext cx="2544840" cy="51264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Přesun tekutiny 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intravazálního prostor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7" name=""/>
          <p:cNvSpPr/>
          <p:nvPr/>
        </p:nvSpPr>
        <p:spPr>
          <a:xfrm>
            <a:off x="3438360" y="930240"/>
            <a:ext cx="2135520" cy="4636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Asci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8" name=""/>
          <p:cNvSpPr/>
          <p:nvPr/>
        </p:nvSpPr>
        <p:spPr>
          <a:xfrm>
            <a:off x="3440160" y="1379520"/>
            <a:ext cx="2135160" cy="4636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Album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9" name=""/>
          <p:cNvSpPr/>
          <p:nvPr/>
        </p:nvSpPr>
        <p:spPr>
          <a:xfrm>
            <a:off x="1174680" y="1954080"/>
            <a:ext cx="0" cy="2876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0" name=""/>
          <p:cNvSpPr/>
          <p:nvPr/>
        </p:nvSpPr>
        <p:spPr>
          <a:xfrm>
            <a:off x="633240" y="1141560"/>
            <a:ext cx="0" cy="287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1" name=""/>
          <p:cNvSpPr/>
          <p:nvPr/>
        </p:nvSpPr>
        <p:spPr>
          <a:xfrm>
            <a:off x="3949560" y="1468440"/>
            <a:ext cx="0" cy="287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2" name=""/>
          <p:cNvSpPr/>
          <p:nvPr/>
        </p:nvSpPr>
        <p:spPr>
          <a:xfrm>
            <a:off x="6035760" y="1182600"/>
            <a:ext cx="2135160" cy="4636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Album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3" name=""/>
          <p:cNvSpPr/>
          <p:nvPr/>
        </p:nvSpPr>
        <p:spPr>
          <a:xfrm>
            <a:off x="6585120" y="1289160"/>
            <a:ext cx="0" cy="287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4" name=""/>
          <p:cNvSpPr/>
          <p:nvPr/>
        </p:nvSpPr>
        <p:spPr>
          <a:xfrm>
            <a:off x="2714760" y="4756320"/>
            <a:ext cx="3316320" cy="51084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Sympatik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Renin - angiotensin - aldoster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5" name=""/>
          <p:cNvSpPr/>
          <p:nvPr/>
        </p:nvSpPr>
        <p:spPr>
          <a:xfrm>
            <a:off x="3125880" y="4016520"/>
            <a:ext cx="0" cy="287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6" name=""/>
          <p:cNvSpPr/>
          <p:nvPr/>
        </p:nvSpPr>
        <p:spPr>
          <a:xfrm>
            <a:off x="3741840" y="4772160"/>
            <a:ext cx="0" cy="2872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7" name=""/>
          <p:cNvSpPr/>
          <p:nvPr/>
        </p:nvSpPr>
        <p:spPr>
          <a:xfrm>
            <a:off x="2847960" y="5510160"/>
            <a:ext cx="3046320" cy="4381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Reabsorpce Na</a:t>
            </a:r>
            <a:r>
              <a:rPr b="0" lang="cs-CZ" sz="16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v ledviná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8" name=""/>
          <p:cNvSpPr/>
          <p:nvPr/>
        </p:nvSpPr>
        <p:spPr>
          <a:xfrm>
            <a:off x="2911320" y="4951440"/>
            <a:ext cx="0" cy="2872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9" name=""/>
          <p:cNvSpPr/>
          <p:nvPr/>
        </p:nvSpPr>
        <p:spPr>
          <a:xfrm>
            <a:off x="1574640" y="1527120"/>
            <a:ext cx="292320" cy="303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0" name=""/>
          <p:cNvSpPr/>
          <p:nvPr/>
        </p:nvSpPr>
        <p:spPr>
          <a:xfrm>
            <a:off x="839880" y="625320"/>
            <a:ext cx="447480" cy="4464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1" name=""/>
          <p:cNvSpPr/>
          <p:nvPr/>
        </p:nvSpPr>
        <p:spPr>
          <a:xfrm>
            <a:off x="2265480" y="2301840"/>
            <a:ext cx="903240" cy="880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2" name=""/>
          <p:cNvSpPr/>
          <p:nvPr/>
        </p:nvSpPr>
        <p:spPr>
          <a:xfrm flipH="1">
            <a:off x="5743440" y="1654200"/>
            <a:ext cx="1044720" cy="1631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3" name=""/>
          <p:cNvSpPr/>
          <p:nvPr/>
        </p:nvSpPr>
        <p:spPr>
          <a:xfrm flipH="1">
            <a:off x="7110000" y="585720"/>
            <a:ext cx="415800" cy="62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4" name=""/>
          <p:cNvSpPr/>
          <p:nvPr/>
        </p:nvSpPr>
        <p:spPr>
          <a:xfrm>
            <a:off x="4370400" y="587520"/>
            <a:ext cx="0" cy="334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5" name=""/>
          <p:cNvSpPr/>
          <p:nvPr/>
        </p:nvSpPr>
        <p:spPr>
          <a:xfrm>
            <a:off x="4378320" y="1882800"/>
            <a:ext cx="0" cy="1185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6" name=""/>
          <p:cNvSpPr/>
          <p:nvPr/>
        </p:nvSpPr>
        <p:spPr>
          <a:xfrm>
            <a:off x="4370400" y="3656160"/>
            <a:ext cx="7920" cy="218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7" name=""/>
          <p:cNvSpPr/>
          <p:nvPr/>
        </p:nvSpPr>
        <p:spPr>
          <a:xfrm>
            <a:off x="4378320" y="4386240"/>
            <a:ext cx="0" cy="352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8" name=""/>
          <p:cNvSpPr/>
          <p:nvPr/>
        </p:nvSpPr>
        <p:spPr>
          <a:xfrm>
            <a:off x="4378320" y="5238720"/>
            <a:ext cx="0" cy="28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9" name=""/>
          <p:cNvSpPr/>
          <p:nvPr/>
        </p:nvSpPr>
        <p:spPr>
          <a:xfrm>
            <a:off x="3110040" y="5576760"/>
            <a:ext cx="1440" cy="2876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0" name=""/>
          <p:cNvSpPr/>
          <p:nvPr/>
        </p:nvSpPr>
        <p:spPr>
          <a:xfrm>
            <a:off x="2863800" y="6348240"/>
            <a:ext cx="2971800" cy="438480"/>
          </a:xfrm>
          <a:prstGeom prst="rect">
            <a:avLst/>
          </a:prstGeom>
          <a:solidFill>
            <a:srgbClr val="ffff66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Edém (hyperhydratac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1" name=""/>
          <p:cNvSpPr/>
          <p:nvPr/>
        </p:nvSpPr>
        <p:spPr>
          <a:xfrm>
            <a:off x="3218040" y="6435720"/>
            <a:ext cx="0" cy="2872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2" name=""/>
          <p:cNvSpPr/>
          <p:nvPr/>
        </p:nvSpPr>
        <p:spPr>
          <a:xfrm>
            <a:off x="4378320" y="5929200"/>
            <a:ext cx="0" cy="425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13" name=""/>
          <p:cNvGrpSpPr/>
          <p:nvPr/>
        </p:nvGrpSpPr>
        <p:grpSpPr>
          <a:xfrm>
            <a:off x="6261120" y="3805200"/>
            <a:ext cx="649440" cy="723960"/>
            <a:chOff x="6261120" y="3805200"/>
            <a:chExt cx="649440" cy="723960"/>
          </a:xfrm>
        </p:grpSpPr>
        <p:sp>
          <p:nvSpPr>
            <p:cNvPr id="9114" name=""/>
            <p:cNvSpPr/>
            <p:nvPr/>
          </p:nvSpPr>
          <p:spPr>
            <a:xfrm>
              <a:off x="6261120" y="3805200"/>
              <a:ext cx="649440" cy="723960"/>
            </a:xfrm>
            <a:custGeom>
              <a:avLst/>
              <a:gdLst/>
              <a:ahLst/>
              <a:rect l="l" t="t" r="r" b="b"/>
              <a:pathLst>
                <a:path w="2866" h="3197">
                  <a:moveTo>
                    <a:pt x="1" y="406"/>
                  </a:moveTo>
                  <a:lnTo>
                    <a:pt x="11" y="379"/>
                  </a:lnTo>
                  <a:lnTo>
                    <a:pt x="37" y="357"/>
                  </a:lnTo>
                  <a:lnTo>
                    <a:pt x="78" y="330"/>
                  </a:lnTo>
                  <a:lnTo>
                    <a:pt x="191" y="290"/>
                  </a:lnTo>
                  <a:lnTo>
                    <a:pt x="278" y="263"/>
                  </a:lnTo>
                  <a:lnTo>
                    <a:pt x="377" y="236"/>
                  </a:lnTo>
                  <a:lnTo>
                    <a:pt x="490" y="203"/>
                  </a:lnTo>
                  <a:lnTo>
                    <a:pt x="556" y="164"/>
                  </a:lnTo>
                  <a:lnTo>
                    <a:pt x="626" y="136"/>
                  </a:lnTo>
                  <a:lnTo>
                    <a:pt x="716" y="108"/>
                  </a:lnTo>
                  <a:lnTo>
                    <a:pt x="802" y="83"/>
                  </a:lnTo>
                  <a:lnTo>
                    <a:pt x="908" y="59"/>
                  </a:lnTo>
                  <a:lnTo>
                    <a:pt x="1033" y="40"/>
                  </a:lnTo>
                  <a:lnTo>
                    <a:pt x="1167" y="20"/>
                  </a:lnTo>
                  <a:lnTo>
                    <a:pt x="1311" y="8"/>
                  </a:lnTo>
                  <a:lnTo>
                    <a:pt x="1442" y="1"/>
                  </a:lnTo>
                  <a:lnTo>
                    <a:pt x="1570" y="0"/>
                  </a:lnTo>
                  <a:lnTo>
                    <a:pt x="1694" y="1"/>
                  </a:lnTo>
                  <a:lnTo>
                    <a:pt x="1831" y="11"/>
                  </a:lnTo>
                  <a:lnTo>
                    <a:pt x="1960" y="23"/>
                  </a:lnTo>
                  <a:lnTo>
                    <a:pt x="2068" y="38"/>
                  </a:lnTo>
                  <a:lnTo>
                    <a:pt x="2174" y="55"/>
                  </a:lnTo>
                  <a:lnTo>
                    <a:pt x="2277" y="75"/>
                  </a:lnTo>
                  <a:lnTo>
                    <a:pt x="2379" y="102"/>
                  </a:lnTo>
                  <a:lnTo>
                    <a:pt x="2462" y="128"/>
                  </a:lnTo>
                  <a:lnTo>
                    <a:pt x="2549" y="159"/>
                  </a:lnTo>
                  <a:lnTo>
                    <a:pt x="2632" y="200"/>
                  </a:lnTo>
                  <a:lnTo>
                    <a:pt x="2697" y="237"/>
                  </a:lnTo>
                  <a:lnTo>
                    <a:pt x="2764" y="285"/>
                  </a:lnTo>
                  <a:lnTo>
                    <a:pt x="2816" y="337"/>
                  </a:lnTo>
                  <a:lnTo>
                    <a:pt x="2848" y="386"/>
                  </a:lnTo>
                  <a:lnTo>
                    <a:pt x="2866" y="440"/>
                  </a:lnTo>
                  <a:lnTo>
                    <a:pt x="2866" y="488"/>
                  </a:lnTo>
                  <a:lnTo>
                    <a:pt x="2852" y="538"/>
                  </a:lnTo>
                  <a:lnTo>
                    <a:pt x="2822" y="590"/>
                  </a:lnTo>
                  <a:lnTo>
                    <a:pt x="2775" y="636"/>
                  </a:lnTo>
                  <a:lnTo>
                    <a:pt x="2734" y="670"/>
                  </a:lnTo>
                  <a:lnTo>
                    <a:pt x="2734" y="2783"/>
                  </a:lnTo>
                  <a:lnTo>
                    <a:pt x="2719" y="2825"/>
                  </a:lnTo>
                  <a:lnTo>
                    <a:pt x="2692" y="2877"/>
                  </a:lnTo>
                  <a:lnTo>
                    <a:pt x="2650" y="2925"/>
                  </a:lnTo>
                  <a:lnTo>
                    <a:pt x="2603" y="2967"/>
                  </a:lnTo>
                  <a:lnTo>
                    <a:pt x="2550" y="2998"/>
                  </a:lnTo>
                  <a:lnTo>
                    <a:pt x="2504" y="3024"/>
                  </a:lnTo>
                  <a:lnTo>
                    <a:pt x="2451" y="3051"/>
                  </a:lnTo>
                  <a:lnTo>
                    <a:pt x="2383" y="3076"/>
                  </a:lnTo>
                  <a:lnTo>
                    <a:pt x="2310" y="3099"/>
                  </a:lnTo>
                  <a:lnTo>
                    <a:pt x="2222" y="3124"/>
                  </a:lnTo>
                  <a:lnTo>
                    <a:pt x="2148" y="3140"/>
                  </a:lnTo>
                  <a:lnTo>
                    <a:pt x="2069" y="3155"/>
                  </a:lnTo>
                  <a:lnTo>
                    <a:pt x="1986" y="3171"/>
                  </a:lnTo>
                  <a:lnTo>
                    <a:pt x="1882" y="3182"/>
                  </a:lnTo>
                  <a:lnTo>
                    <a:pt x="1803" y="3187"/>
                  </a:lnTo>
                  <a:lnTo>
                    <a:pt x="1687" y="3197"/>
                  </a:lnTo>
                  <a:lnTo>
                    <a:pt x="1594" y="3197"/>
                  </a:lnTo>
                  <a:lnTo>
                    <a:pt x="1484" y="3197"/>
                  </a:lnTo>
                  <a:lnTo>
                    <a:pt x="1363" y="3192"/>
                  </a:lnTo>
                  <a:lnTo>
                    <a:pt x="1289" y="3187"/>
                  </a:lnTo>
                  <a:lnTo>
                    <a:pt x="1196" y="3177"/>
                  </a:lnTo>
                  <a:lnTo>
                    <a:pt x="1112" y="3160"/>
                  </a:lnTo>
                  <a:lnTo>
                    <a:pt x="1002" y="3140"/>
                  </a:lnTo>
                  <a:lnTo>
                    <a:pt x="923" y="3124"/>
                  </a:lnTo>
                  <a:lnTo>
                    <a:pt x="818" y="3092"/>
                  </a:lnTo>
                  <a:lnTo>
                    <a:pt x="734" y="3067"/>
                  </a:lnTo>
                  <a:lnTo>
                    <a:pt x="662" y="3035"/>
                  </a:lnTo>
                  <a:lnTo>
                    <a:pt x="600" y="2998"/>
                  </a:lnTo>
                  <a:lnTo>
                    <a:pt x="547" y="2967"/>
                  </a:lnTo>
                  <a:lnTo>
                    <a:pt x="494" y="2925"/>
                  </a:lnTo>
                  <a:lnTo>
                    <a:pt x="458" y="2877"/>
                  </a:lnTo>
                  <a:lnTo>
                    <a:pt x="433" y="2820"/>
                  </a:lnTo>
                  <a:lnTo>
                    <a:pt x="422" y="2778"/>
                  </a:lnTo>
                  <a:lnTo>
                    <a:pt x="411" y="2738"/>
                  </a:lnTo>
                  <a:lnTo>
                    <a:pt x="411" y="1105"/>
                  </a:lnTo>
                  <a:lnTo>
                    <a:pt x="156" y="604"/>
                  </a:lnTo>
                  <a:lnTo>
                    <a:pt x="72" y="529"/>
                  </a:lnTo>
                  <a:lnTo>
                    <a:pt x="45" y="506"/>
                  </a:lnTo>
                  <a:lnTo>
                    <a:pt x="20" y="484"/>
                  </a:lnTo>
                  <a:lnTo>
                    <a:pt x="4" y="454"/>
                  </a:lnTo>
                  <a:lnTo>
                    <a:pt x="0" y="427"/>
                  </a:lnTo>
                  <a:lnTo>
                    <a:pt x="1" y="406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115" name=""/>
            <p:cNvGrpSpPr/>
            <p:nvPr/>
          </p:nvGrpSpPr>
          <p:grpSpPr>
            <a:xfrm>
              <a:off x="6285240" y="3816360"/>
              <a:ext cx="595080" cy="692280"/>
              <a:chOff x="6285240" y="3816360"/>
              <a:chExt cx="595080" cy="692280"/>
            </a:xfrm>
          </p:grpSpPr>
          <p:sp>
            <p:nvSpPr>
              <p:cNvPr id="9116" name=""/>
              <p:cNvSpPr/>
              <p:nvPr/>
            </p:nvSpPr>
            <p:spPr>
              <a:xfrm>
                <a:off x="6313680" y="3925800"/>
                <a:ext cx="542880" cy="582840"/>
              </a:xfrm>
              <a:custGeom>
                <a:avLst/>
                <a:gdLst/>
                <a:ahLst/>
                <a:rect l="l" t="t" r="r" b="b"/>
                <a:pathLst>
                  <a:path w="2399" h="2566">
                    <a:moveTo>
                      <a:pt x="0" y="0"/>
                    </a:moveTo>
                    <a:lnTo>
                      <a:pt x="271" y="500"/>
                    </a:lnTo>
                    <a:lnTo>
                      <a:pt x="271" y="2173"/>
                    </a:lnTo>
                    <a:lnTo>
                      <a:pt x="286" y="2241"/>
                    </a:lnTo>
                    <a:lnTo>
                      <a:pt x="306" y="2279"/>
                    </a:lnTo>
                    <a:lnTo>
                      <a:pt x="332" y="2320"/>
                    </a:lnTo>
                    <a:lnTo>
                      <a:pt x="364" y="2340"/>
                    </a:lnTo>
                    <a:lnTo>
                      <a:pt x="411" y="2378"/>
                    </a:lnTo>
                    <a:lnTo>
                      <a:pt x="463" y="2404"/>
                    </a:lnTo>
                    <a:lnTo>
                      <a:pt x="521" y="2430"/>
                    </a:lnTo>
                    <a:lnTo>
                      <a:pt x="595" y="2456"/>
                    </a:lnTo>
                    <a:lnTo>
                      <a:pt x="667" y="2483"/>
                    </a:lnTo>
                    <a:lnTo>
                      <a:pt x="737" y="2500"/>
                    </a:lnTo>
                    <a:lnTo>
                      <a:pt x="824" y="2519"/>
                    </a:lnTo>
                    <a:lnTo>
                      <a:pt x="910" y="2535"/>
                    </a:lnTo>
                    <a:lnTo>
                      <a:pt x="989" y="2546"/>
                    </a:lnTo>
                    <a:lnTo>
                      <a:pt x="1065" y="2555"/>
                    </a:lnTo>
                    <a:lnTo>
                      <a:pt x="1155" y="2562"/>
                    </a:lnTo>
                    <a:lnTo>
                      <a:pt x="1250" y="2566"/>
                    </a:lnTo>
                    <a:lnTo>
                      <a:pt x="1359" y="2566"/>
                    </a:lnTo>
                    <a:lnTo>
                      <a:pt x="1470" y="2562"/>
                    </a:lnTo>
                    <a:lnTo>
                      <a:pt x="1573" y="2555"/>
                    </a:lnTo>
                    <a:lnTo>
                      <a:pt x="1672" y="2546"/>
                    </a:lnTo>
                    <a:lnTo>
                      <a:pt x="1773" y="2532"/>
                    </a:lnTo>
                    <a:lnTo>
                      <a:pt x="1846" y="2519"/>
                    </a:lnTo>
                    <a:lnTo>
                      <a:pt x="1938" y="2498"/>
                    </a:lnTo>
                    <a:lnTo>
                      <a:pt x="2012" y="2476"/>
                    </a:lnTo>
                    <a:lnTo>
                      <a:pt x="2080" y="2456"/>
                    </a:lnTo>
                    <a:lnTo>
                      <a:pt x="2149" y="2430"/>
                    </a:lnTo>
                    <a:lnTo>
                      <a:pt x="2211" y="2404"/>
                    </a:lnTo>
                    <a:lnTo>
                      <a:pt x="2259" y="2378"/>
                    </a:lnTo>
                    <a:lnTo>
                      <a:pt x="2304" y="2340"/>
                    </a:lnTo>
                    <a:lnTo>
                      <a:pt x="2336" y="2315"/>
                    </a:lnTo>
                    <a:lnTo>
                      <a:pt x="2363" y="2283"/>
                    </a:lnTo>
                    <a:lnTo>
                      <a:pt x="2390" y="2236"/>
                    </a:lnTo>
                    <a:lnTo>
                      <a:pt x="2399" y="2183"/>
                    </a:lnTo>
                    <a:lnTo>
                      <a:pt x="2399" y="188"/>
                    </a:lnTo>
                    <a:lnTo>
                      <a:pt x="2311" y="229"/>
                    </a:lnTo>
                    <a:lnTo>
                      <a:pt x="2188" y="275"/>
                    </a:lnTo>
                    <a:lnTo>
                      <a:pt x="2055" y="310"/>
                    </a:lnTo>
                    <a:lnTo>
                      <a:pt x="1908" y="343"/>
                    </a:lnTo>
                    <a:lnTo>
                      <a:pt x="1762" y="365"/>
                    </a:lnTo>
                    <a:lnTo>
                      <a:pt x="1604" y="381"/>
                    </a:lnTo>
                    <a:lnTo>
                      <a:pt x="1437" y="391"/>
                    </a:lnTo>
                    <a:lnTo>
                      <a:pt x="1269" y="391"/>
                    </a:lnTo>
                    <a:lnTo>
                      <a:pt x="1089" y="383"/>
                    </a:lnTo>
                    <a:lnTo>
                      <a:pt x="923" y="361"/>
                    </a:lnTo>
                    <a:lnTo>
                      <a:pt x="745" y="335"/>
                    </a:lnTo>
                    <a:lnTo>
                      <a:pt x="579" y="293"/>
                    </a:lnTo>
                    <a:lnTo>
                      <a:pt x="448" y="253"/>
                    </a:lnTo>
                    <a:lnTo>
                      <a:pt x="372" y="219"/>
                    </a:lnTo>
                    <a:lnTo>
                      <a:pt x="312" y="184"/>
                    </a:lnTo>
                    <a:lnTo>
                      <a:pt x="271" y="152"/>
                    </a:lnTo>
                    <a:lnTo>
                      <a:pt x="236" y="109"/>
                    </a:lnTo>
                    <a:lnTo>
                      <a:pt x="214" y="94"/>
                    </a:lnTo>
                    <a:lnTo>
                      <a:pt x="182" y="73"/>
                    </a:lnTo>
                    <a:lnTo>
                      <a:pt x="154" y="57"/>
                    </a:lnTo>
                    <a:lnTo>
                      <a:pt x="120" y="41"/>
                    </a:lnTo>
                    <a:lnTo>
                      <a:pt x="87" y="27"/>
                    </a:lnTo>
                    <a:lnTo>
                      <a:pt x="48" y="1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7" name=""/>
              <p:cNvSpPr/>
              <p:nvPr/>
            </p:nvSpPr>
            <p:spPr>
              <a:xfrm>
                <a:off x="6285240" y="3816360"/>
                <a:ext cx="595080" cy="177840"/>
              </a:xfrm>
              <a:custGeom>
                <a:avLst/>
                <a:gdLst/>
                <a:ahLst/>
                <a:rect l="l" t="t" r="r" b="b"/>
                <a:pathLst>
                  <a:path w="2623" h="779">
                    <a:moveTo>
                      <a:pt x="0" y="351"/>
                    </a:moveTo>
                    <a:lnTo>
                      <a:pt x="20" y="340"/>
                    </a:lnTo>
                    <a:lnTo>
                      <a:pt x="51" y="325"/>
                    </a:lnTo>
                    <a:lnTo>
                      <a:pt x="106" y="307"/>
                    </a:lnTo>
                    <a:lnTo>
                      <a:pt x="206" y="281"/>
                    </a:lnTo>
                    <a:lnTo>
                      <a:pt x="288" y="257"/>
                    </a:lnTo>
                    <a:lnTo>
                      <a:pt x="361" y="238"/>
                    </a:lnTo>
                    <a:lnTo>
                      <a:pt x="425" y="224"/>
                    </a:lnTo>
                    <a:lnTo>
                      <a:pt x="466" y="188"/>
                    </a:lnTo>
                    <a:lnTo>
                      <a:pt x="519" y="156"/>
                    </a:lnTo>
                    <a:lnTo>
                      <a:pt x="576" y="134"/>
                    </a:lnTo>
                    <a:lnTo>
                      <a:pt x="636" y="109"/>
                    </a:lnTo>
                    <a:lnTo>
                      <a:pt x="702" y="90"/>
                    </a:lnTo>
                    <a:lnTo>
                      <a:pt x="767" y="74"/>
                    </a:lnTo>
                    <a:lnTo>
                      <a:pt x="839" y="56"/>
                    </a:lnTo>
                    <a:lnTo>
                      <a:pt x="910" y="41"/>
                    </a:lnTo>
                    <a:lnTo>
                      <a:pt x="996" y="27"/>
                    </a:lnTo>
                    <a:lnTo>
                      <a:pt x="1089" y="18"/>
                    </a:lnTo>
                    <a:lnTo>
                      <a:pt x="1209" y="7"/>
                    </a:lnTo>
                    <a:lnTo>
                      <a:pt x="1355" y="0"/>
                    </a:lnTo>
                    <a:lnTo>
                      <a:pt x="1514" y="0"/>
                    </a:lnTo>
                    <a:lnTo>
                      <a:pt x="1660" y="6"/>
                    </a:lnTo>
                    <a:lnTo>
                      <a:pt x="1825" y="21"/>
                    </a:lnTo>
                    <a:lnTo>
                      <a:pt x="1957" y="37"/>
                    </a:lnTo>
                    <a:lnTo>
                      <a:pt x="2086" y="60"/>
                    </a:lnTo>
                    <a:lnTo>
                      <a:pt x="2201" y="89"/>
                    </a:lnTo>
                    <a:lnTo>
                      <a:pt x="2315" y="123"/>
                    </a:lnTo>
                    <a:lnTo>
                      <a:pt x="2407" y="160"/>
                    </a:lnTo>
                    <a:lnTo>
                      <a:pt x="2488" y="205"/>
                    </a:lnTo>
                    <a:lnTo>
                      <a:pt x="2548" y="249"/>
                    </a:lnTo>
                    <a:lnTo>
                      <a:pt x="2587" y="288"/>
                    </a:lnTo>
                    <a:lnTo>
                      <a:pt x="2613" y="334"/>
                    </a:lnTo>
                    <a:lnTo>
                      <a:pt x="2623" y="377"/>
                    </a:lnTo>
                    <a:lnTo>
                      <a:pt x="2623" y="413"/>
                    </a:lnTo>
                    <a:lnTo>
                      <a:pt x="2613" y="450"/>
                    </a:lnTo>
                    <a:lnTo>
                      <a:pt x="2590" y="486"/>
                    </a:lnTo>
                    <a:lnTo>
                      <a:pt x="2560" y="516"/>
                    </a:lnTo>
                    <a:lnTo>
                      <a:pt x="2524" y="548"/>
                    </a:lnTo>
                    <a:lnTo>
                      <a:pt x="2481" y="580"/>
                    </a:lnTo>
                    <a:lnTo>
                      <a:pt x="2434" y="605"/>
                    </a:lnTo>
                    <a:lnTo>
                      <a:pt x="2368" y="636"/>
                    </a:lnTo>
                    <a:lnTo>
                      <a:pt x="2296" y="662"/>
                    </a:lnTo>
                    <a:lnTo>
                      <a:pt x="2203" y="690"/>
                    </a:lnTo>
                    <a:lnTo>
                      <a:pt x="2103" y="716"/>
                    </a:lnTo>
                    <a:lnTo>
                      <a:pt x="1985" y="738"/>
                    </a:lnTo>
                    <a:lnTo>
                      <a:pt x="1890" y="752"/>
                    </a:lnTo>
                    <a:lnTo>
                      <a:pt x="1768" y="765"/>
                    </a:lnTo>
                    <a:lnTo>
                      <a:pt x="1644" y="772"/>
                    </a:lnTo>
                    <a:lnTo>
                      <a:pt x="1512" y="779"/>
                    </a:lnTo>
                    <a:lnTo>
                      <a:pt x="1408" y="779"/>
                    </a:lnTo>
                    <a:lnTo>
                      <a:pt x="1306" y="772"/>
                    </a:lnTo>
                    <a:lnTo>
                      <a:pt x="1207" y="768"/>
                    </a:lnTo>
                    <a:lnTo>
                      <a:pt x="1103" y="757"/>
                    </a:lnTo>
                    <a:lnTo>
                      <a:pt x="1010" y="742"/>
                    </a:lnTo>
                    <a:lnTo>
                      <a:pt x="935" y="731"/>
                    </a:lnTo>
                    <a:lnTo>
                      <a:pt x="850" y="716"/>
                    </a:lnTo>
                    <a:lnTo>
                      <a:pt x="774" y="697"/>
                    </a:lnTo>
                    <a:lnTo>
                      <a:pt x="709" y="680"/>
                    </a:lnTo>
                    <a:lnTo>
                      <a:pt x="651" y="658"/>
                    </a:lnTo>
                    <a:lnTo>
                      <a:pt x="594" y="637"/>
                    </a:lnTo>
                    <a:lnTo>
                      <a:pt x="541" y="614"/>
                    </a:lnTo>
                    <a:lnTo>
                      <a:pt x="497" y="590"/>
                    </a:lnTo>
                    <a:lnTo>
                      <a:pt x="455" y="559"/>
                    </a:lnTo>
                    <a:lnTo>
                      <a:pt x="429" y="532"/>
                    </a:lnTo>
                    <a:lnTo>
                      <a:pt x="403" y="503"/>
                    </a:lnTo>
                    <a:lnTo>
                      <a:pt x="354" y="476"/>
                    </a:lnTo>
                    <a:lnTo>
                      <a:pt x="308" y="456"/>
                    </a:lnTo>
                    <a:lnTo>
                      <a:pt x="250" y="435"/>
                    </a:lnTo>
                    <a:lnTo>
                      <a:pt x="187" y="416"/>
                    </a:lnTo>
                    <a:lnTo>
                      <a:pt x="120" y="397"/>
                    </a:lnTo>
                    <a:lnTo>
                      <a:pt x="79" y="386"/>
                    </a:lnTo>
                    <a:lnTo>
                      <a:pt x="27" y="373"/>
                    </a:lnTo>
                    <a:lnTo>
                      <a:pt x="0" y="363"/>
                    </a:lnTo>
                    <a:lnTo>
                      <a:pt x="0" y="351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118" name=""/>
            <p:cNvSpPr/>
            <p:nvPr/>
          </p:nvSpPr>
          <p:spPr>
            <a:xfrm>
              <a:off x="6372360" y="4389480"/>
              <a:ext cx="484200" cy="119160"/>
            </a:xfrm>
            <a:custGeom>
              <a:avLst/>
              <a:gdLst/>
              <a:ahLst/>
              <a:rect l="l" t="t" r="r" b="b"/>
              <a:pathLst>
                <a:path w="305" h="75">
                  <a:moveTo>
                    <a:pt x="0" y="3"/>
                  </a:moveTo>
                  <a:lnTo>
                    <a:pt x="1" y="19"/>
                  </a:lnTo>
                  <a:lnTo>
                    <a:pt x="3" y="28"/>
                  </a:lnTo>
                  <a:lnTo>
                    <a:pt x="6" y="34"/>
                  </a:lnTo>
                  <a:lnTo>
                    <a:pt x="10" y="39"/>
                  </a:lnTo>
                  <a:lnTo>
                    <a:pt x="15" y="43"/>
                  </a:lnTo>
                  <a:lnTo>
                    <a:pt x="22" y="48"/>
                  </a:lnTo>
                  <a:lnTo>
                    <a:pt x="29" y="52"/>
                  </a:lnTo>
                  <a:lnTo>
                    <a:pt x="38" y="56"/>
                  </a:lnTo>
                  <a:lnTo>
                    <a:pt x="48" y="59"/>
                  </a:lnTo>
                  <a:lnTo>
                    <a:pt x="59" y="63"/>
                  </a:lnTo>
                  <a:lnTo>
                    <a:pt x="68" y="66"/>
                  </a:lnTo>
                  <a:lnTo>
                    <a:pt x="81" y="68"/>
                  </a:lnTo>
                  <a:lnTo>
                    <a:pt x="93" y="70"/>
                  </a:lnTo>
                  <a:lnTo>
                    <a:pt x="104" y="72"/>
                  </a:lnTo>
                  <a:lnTo>
                    <a:pt x="115" y="73"/>
                  </a:lnTo>
                  <a:lnTo>
                    <a:pt x="128" y="74"/>
                  </a:lnTo>
                  <a:lnTo>
                    <a:pt x="141" y="75"/>
                  </a:lnTo>
                  <a:lnTo>
                    <a:pt x="157" y="75"/>
                  </a:lnTo>
                  <a:lnTo>
                    <a:pt x="173" y="74"/>
                  </a:lnTo>
                  <a:lnTo>
                    <a:pt x="188" y="73"/>
                  </a:lnTo>
                  <a:lnTo>
                    <a:pt x="202" y="72"/>
                  </a:lnTo>
                  <a:lnTo>
                    <a:pt x="216" y="70"/>
                  </a:lnTo>
                  <a:lnTo>
                    <a:pt x="226" y="68"/>
                  </a:lnTo>
                  <a:lnTo>
                    <a:pt x="240" y="65"/>
                  </a:lnTo>
                  <a:lnTo>
                    <a:pt x="250" y="62"/>
                  </a:lnTo>
                  <a:lnTo>
                    <a:pt x="260" y="59"/>
                  </a:lnTo>
                  <a:lnTo>
                    <a:pt x="269" y="55"/>
                  </a:lnTo>
                  <a:lnTo>
                    <a:pt x="278" y="51"/>
                  </a:lnTo>
                  <a:lnTo>
                    <a:pt x="285" y="47"/>
                  </a:lnTo>
                  <a:lnTo>
                    <a:pt x="291" y="42"/>
                  </a:lnTo>
                  <a:lnTo>
                    <a:pt x="296" y="39"/>
                  </a:lnTo>
                  <a:lnTo>
                    <a:pt x="300" y="35"/>
                  </a:lnTo>
                  <a:lnTo>
                    <a:pt x="303" y="28"/>
                  </a:lnTo>
                  <a:lnTo>
                    <a:pt x="305" y="21"/>
                  </a:lnTo>
                  <a:lnTo>
                    <a:pt x="304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9" name=""/>
            <p:cNvSpPr/>
            <p:nvPr/>
          </p:nvSpPr>
          <p:spPr>
            <a:xfrm>
              <a:off x="6369120" y="4302000"/>
              <a:ext cx="486000" cy="169920"/>
            </a:xfrm>
            <a:prstGeom prst="ellipse">
              <a:avLst/>
            </a:prstGeom>
            <a:solidFill>
              <a:srgbClr val="8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0" name=""/>
            <p:cNvSpPr/>
            <p:nvPr/>
          </p:nvSpPr>
          <p:spPr>
            <a:xfrm>
              <a:off x="6386760" y="4314960"/>
              <a:ext cx="449280" cy="14760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21" name=""/>
          <p:cNvSpPr/>
          <p:nvPr/>
        </p:nvSpPr>
        <p:spPr>
          <a:xfrm>
            <a:off x="6062760" y="6426360"/>
            <a:ext cx="968400" cy="485640"/>
          </a:xfrm>
          <a:custGeom>
            <a:avLst/>
            <a:gdLst/>
            <a:ahLst/>
            <a:rect l="l" t="t" r="r" b="b"/>
            <a:pathLst>
              <a:path w="610" h="306">
                <a:moveTo>
                  <a:pt x="19" y="225"/>
                </a:moveTo>
                <a:cubicBezTo>
                  <a:pt x="32" y="265"/>
                  <a:pt x="47" y="236"/>
                  <a:pt x="91" y="239"/>
                </a:cubicBezTo>
                <a:cubicBezTo>
                  <a:pt x="117" y="236"/>
                  <a:pt x="82" y="298"/>
                  <a:pt x="98" y="291"/>
                </a:cubicBezTo>
                <a:cubicBezTo>
                  <a:pt x="115" y="296"/>
                  <a:pt x="176" y="285"/>
                  <a:pt x="191" y="270"/>
                </a:cubicBezTo>
                <a:cubicBezTo>
                  <a:pt x="206" y="255"/>
                  <a:pt x="188" y="205"/>
                  <a:pt x="188" y="200"/>
                </a:cubicBezTo>
                <a:cubicBezTo>
                  <a:pt x="209" y="201"/>
                  <a:pt x="172" y="236"/>
                  <a:pt x="191" y="238"/>
                </a:cubicBezTo>
                <a:cubicBezTo>
                  <a:pt x="214" y="255"/>
                  <a:pt x="240" y="234"/>
                  <a:pt x="269" y="236"/>
                </a:cubicBezTo>
                <a:cubicBezTo>
                  <a:pt x="291" y="237"/>
                  <a:pt x="274" y="267"/>
                  <a:pt x="280" y="284"/>
                </a:cubicBezTo>
                <a:cubicBezTo>
                  <a:pt x="291" y="294"/>
                  <a:pt x="319" y="297"/>
                  <a:pt x="336" y="296"/>
                </a:cubicBezTo>
                <a:cubicBezTo>
                  <a:pt x="346" y="306"/>
                  <a:pt x="369" y="282"/>
                  <a:pt x="382" y="280"/>
                </a:cubicBezTo>
                <a:cubicBezTo>
                  <a:pt x="395" y="278"/>
                  <a:pt x="405" y="288"/>
                  <a:pt x="412" y="286"/>
                </a:cubicBezTo>
                <a:cubicBezTo>
                  <a:pt x="420" y="289"/>
                  <a:pt x="427" y="266"/>
                  <a:pt x="427" y="266"/>
                </a:cubicBezTo>
                <a:cubicBezTo>
                  <a:pt x="443" y="277"/>
                  <a:pt x="463" y="271"/>
                  <a:pt x="481" y="269"/>
                </a:cubicBezTo>
                <a:cubicBezTo>
                  <a:pt x="500" y="263"/>
                  <a:pt x="519" y="260"/>
                  <a:pt x="538" y="254"/>
                </a:cubicBezTo>
                <a:cubicBezTo>
                  <a:pt x="539" y="227"/>
                  <a:pt x="574" y="210"/>
                  <a:pt x="581" y="183"/>
                </a:cubicBezTo>
                <a:cubicBezTo>
                  <a:pt x="583" y="163"/>
                  <a:pt x="573" y="132"/>
                  <a:pt x="593" y="125"/>
                </a:cubicBezTo>
                <a:cubicBezTo>
                  <a:pt x="610" y="102"/>
                  <a:pt x="607" y="108"/>
                  <a:pt x="604" y="68"/>
                </a:cubicBezTo>
                <a:cubicBezTo>
                  <a:pt x="604" y="61"/>
                  <a:pt x="605" y="51"/>
                  <a:pt x="599" y="48"/>
                </a:cubicBezTo>
                <a:cubicBezTo>
                  <a:pt x="584" y="42"/>
                  <a:pt x="567" y="46"/>
                  <a:pt x="551" y="45"/>
                </a:cubicBezTo>
                <a:cubicBezTo>
                  <a:pt x="546" y="40"/>
                  <a:pt x="546" y="36"/>
                  <a:pt x="539" y="35"/>
                </a:cubicBezTo>
                <a:cubicBezTo>
                  <a:pt x="522" y="36"/>
                  <a:pt x="510" y="41"/>
                  <a:pt x="493" y="42"/>
                </a:cubicBezTo>
                <a:cubicBezTo>
                  <a:pt x="471" y="38"/>
                  <a:pt x="450" y="30"/>
                  <a:pt x="428" y="29"/>
                </a:cubicBezTo>
                <a:cubicBezTo>
                  <a:pt x="368" y="9"/>
                  <a:pt x="301" y="14"/>
                  <a:pt x="239" y="12"/>
                </a:cubicBezTo>
                <a:cubicBezTo>
                  <a:pt x="196" y="15"/>
                  <a:pt x="219" y="22"/>
                  <a:pt x="176" y="21"/>
                </a:cubicBezTo>
                <a:cubicBezTo>
                  <a:pt x="164" y="17"/>
                  <a:pt x="161" y="16"/>
                  <a:pt x="145" y="14"/>
                </a:cubicBezTo>
                <a:cubicBezTo>
                  <a:pt x="129" y="12"/>
                  <a:pt x="98" y="0"/>
                  <a:pt x="80" y="6"/>
                </a:cubicBezTo>
                <a:cubicBezTo>
                  <a:pt x="44" y="26"/>
                  <a:pt x="41" y="30"/>
                  <a:pt x="35" y="48"/>
                </a:cubicBezTo>
                <a:cubicBezTo>
                  <a:pt x="34" y="64"/>
                  <a:pt x="0" y="84"/>
                  <a:pt x="16" y="89"/>
                </a:cubicBezTo>
                <a:cubicBezTo>
                  <a:pt x="24" y="100"/>
                  <a:pt x="34" y="110"/>
                  <a:pt x="43" y="120"/>
                </a:cubicBezTo>
                <a:cubicBezTo>
                  <a:pt x="45" y="132"/>
                  <a:pt x="15" y="234"/>
                  <a:pt x="19" y="225"/>
                </a:cubicBez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2" name=""/>
          <p:cNvSpPr/>
          <p:nvPr/>
        </p:nvSpPr>
        <p:spPr>
          <a:xfrm>
            <a:off x="6273720" y="5919840"/>
            <a:ext cx="649440" cy="723960"/>
          </a:xfrm>
          <a:custGeom>
            <a:avLst/>
            <a:gdLst/>
            <a:ahLst/>
            <a:rect l="l" t="t" r="r" b="b"/>
            <a:pathLst>
              <a:path w="2866" h="3197">
                <a:moveTo>
                  <a:pt x="1" y="406"/>
                </a:moveTo>
                <a:lnTo>
                  <a:pt x="11" y="379"/>
                </a:lnTo>
                <a:lnTo>
                  <a:pt x="37" y="357"/>
                </a:lnTo>
                <a:lnTo>
                  <a:pt x="78" y="330"/>
                </a:lnTo>
                <a:lnTo>
                  <a:pt x="191" y="290"/>
                </a:lnTo>
                <a:lnTo>
                  <a:pt x="278" y="263"/>
                </a:lnTo>
                <a:lnTo>
                  <a:pt x="377" y="236"/>
                </a:lnTo>
                <a:lnTo>
                  <a:pt x="490" y="203"/>
                </a:lnTo>
                <a:lnTo>
                  <a:pt x="556" y="164"/>
                </a:lnTo>
                <a:lnTo>
                  <a:pt x="626" y="136"/>
                </a:lnTo>
                <a:lnTo>
                  <a:pt x="716" y="108"/>
                </a:lnTo>
                <a:lnTo>
                  <a:pt x="802" y="83"/>
                </a:lnTo>
                <a:lnTo>
                  <a:pt x="908" y="59"/>
                </a:lnTo>
                <a:lnTo>
                  <a:pt x="1033" y="40"/>
                </a:lnTo>
                <a:lnTo>
                  <a:pt x="1167" y="20"/>
                </a:lnTo>
                <a:lnTo>
                  <a:pt x="1311" y="8"/>
                </a:lnTo>
                <a:lnTo>
                  <a:pt x="1442" y="1"/>
                </a:lnTo>
                <a:lnTo>
                  <a:pt x="1570" y="0"/>
                </a:lnTo>
                <a:lnTo>
                  <a:pt x="1694" y="1"/>
                </a:lnTo>
                <a:lnTo>
                  <a:pt x="1831" y="11"/>
                </a:lnTo>
                <a:lnTo>
                  <a:pt x="1960" y="23"/>
                </a:lnTo>
                <a:lnTo>
                  <a:pt x="2068" y="38"/>
                </a:lnTo>
                <a:lnTo>
                  <a:pt x="2174" y="55"/>
                </a:lnTo>
                <a:lnTo>
                  <a:pt x="2277" y="75"/>
                </a:lnTo>
                <a:lnTo>
                  <a:pt x="2379" y="102"/>
                </a:lnTo>
                <a:lnTo>
                  <a:pt x="2462" y="128"/>
                </a:lnTo>
                <a:lnTo>
                  <a:pt x="2549" y="159"/>
                </a:lnTo>
                <a:lnTo>
                  <a:pt x="2632" y="200"/>
                </a:lnTo>
                <a:lnTo>
                  <a:pt x="2697" y="237"/>
                </a:lnTo>
                <a:lnTo>
                  <a:pt x="2764" y="285"/>
                </a:lnTo>
                <a:lnTo>
                  <a:pt x="2816" y="337"/>
                </a:lnTo>
                <a:lnTo>
                  <a:pt x="2848" y="386"/>
                </a:lnTo>
                <a:lnTo>
                  <a:pt x="2866" y="440"/>
                </a:lnTo>
                <a:lnTo>
                  <a:pt x="2866" y="488"/>
                </a:lnTo>
                <a:lnTo>
                  <a:pt x="2852" y="538"/>
                </a:lnTo>
                <a:lnTo>
                  <a:pt x="2822" y="590"/>
                </a:lnTo>
                <a:lnTo>
                  <a:pt x="2775" y="636"/>
                </a:lnTo>
                <a:lnTo>
                  <a:pt x="2734" y="670"/>
                </a:lnTo>
                <a:lnTo>
                  <a:pt x="2734" y="2783"/>
                </a:lnTo>
                <a:lnTo>
                  <a:pt x="2719" y="2825"/>
                </a:lnTo>
                <a:lnTo>
                  <a:pt x="2692" y="2877"/>
                </a:lnTo>
                <a:lnTo>
                  <a:pt x="2650" y="2925"/>
                </a:lnTo>
                <a:lnTo>
                  <a:pt x="2603" y="2967"/>
                </a:lnTo>
                <a:lnTo>
                  <a:pt x="2550" y="2998"/>
                </a:lnTo>
                <a:lnTo>
                  <a:pt x="2504" y="3024"/>
                </a:lnTo>
                <a:lnTo>
                  <a:pt x="2451" y="3051"/>
                </a:lnTo>
                <a:lnTo>
                  <a:pt x="2383" y="3076"/>
                </a:lnTo>
                <a:lnTo>
                  <a:pt x="2310" y="3099"/>
                </a:lnTo>
                <a:lnTo>
                  <a:pt x="2222" y="3124"/>
                </a:lnTo>
                <a:lnTo>
                  <a:pt x="2148" y="3140"/>
                </a:lnTo>
                <a:lnTo>
                  <a:pt x="2069" y="3155"/>
                </a:lnTo>
                <a:lnTo>
                  <a:pt x="1986" y="3171"/>
                </a:lnTo>
                <a:lnTo>
                  <a:pt x="1882" y="3182"/>
                </a:lnTo>
                <a:lnTo>
                  <a:pt x="1803" y="3187"/>
                </a:lnTo>
                <a:lnTo>
                  <a:pt x="1687" y="3197"/>
                </a:lnTo>
                <a:lnTo>
                  <a:pt x="1594" y="3197"/>
                </a:lnTo>
                <a:lnTo>
                  <a:pt x="1484" y="3197"/>
                </a:lnTo>
                <a:lnTo>
                  <a:pt x="1363" y="3192"/>
                </a:lnTo>
                <a:lnTo>
                  <a:pt x="1289" y="3187"/>
                </a:lnTo>
                <a:lnTo>
                  <a:pt x="1196" y="3177"/>
                </a:lnTo>
                <a:lnTo>
                  <a:pt x="1112" y="3160"/>
                </a:lnTo>
                <a:lnTo>
                  <a:pt x="1002" y="3140"/>
                </a:lnTo>
                <a:lnTo>
                  <a:pt x="923" y="3124"/>
                </a:lnTo>
                <a:lnTo>
                  <a:pt x="818" y="3092"/>
                </a:lnTo>
                <a:lnTo>
                  <a:pt x="734" y="3067"/>
                </a:lnTo>
                <a:lnTo>
                  <a:pt x="662" y="3035"/>
                </a:lnTo>
                <a:lnTo>
                  <a:pt x="600" y="2998"/>
                </a:lnTo>
                <a:lnTo>
                  <a:pt x="547" y="2967"/>
                </a:lnTo>
                <a:lnTo>
                  <a:pt x="494" y="2925"/>
                </a:lnTo>
                <a:lnTo>
                  <a:pt x="458" y="2877"/>
                </a:lnTo>
                <a:lnTo>
                  <a:pt x="433" y="2820"/>
                </a:lnTo>
                <a:lnTo>
                  <a:pt x="422" y="2778"/>
                </a:lnTo>
                <a:lnTo>
                  <a:pt x="411" y="2738"/>
                </a:lnTo>
                <a:lnTo>
                  <a:pt x="411" y="1105"/>
                </a:lnTo>
                <a:lnTo>
                  <a:pt x="156" y="604"/>
                </a:lnTo>
                <a:lnTo>
                  <a:pt x="72" y="529"/>
                </a:lnTo>
                <a:lnTo>
                  <a:pt x="45" y="506"/>
                </a:lnTo>
                <a:lnTo>
                  <a:pt x="20" y="484"/>
                </a:lnTo>
                <a:lnTo>
                  <a:pt x="4" y="454"/>
                </a:lnTo>
                <a:lnTo>
                  <a:pt x="0" y="427"/>
                </a:lnTo>
                <a:lnTo>
                  <a:pt x="1" y="4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3" name=""/>
          <p:cNvSpPr/>
          <p:nvPr/>
        </p:nvSpPr>
        <p:spPr>
          <a:xfrm>
            <a:off x="6326280" y="6040440"/>
            <a:ext cx="542880" cy="582480"/>
          </a:xfrm>
          <a:custGeom>
            <a:avLst/>
            <a:gdLst/>
            <a:ahLst/>
            <a:rect l="l" t="t" r="r" b="b"/>
            <a:pathLst>
              <a:path w="2399" h="2566">
                <a:moveTo>
                  <a:pt x="0" y="0"/>
                </a:moveTo>
                <a:lnTo>
                  <a:pt x="271" y="500"/>
                </a:lnTo>
                <a:lnTo>
                  <a:pt x="271" y="2173"/>
                </a:lnTo>
                <a:lnTo>
                  <a:pt x="286" y="2241"/>
                </a:lnTo>
                <a:lnTo>
                  <a:pt x="306" y="2279"/>
                </a:lnTo>
                <a:lnTo>
                  <a:pt x="332" y="2320"/>
                </a:lnTo>
                <a:lnTo>
                  <a:pt x="364" y="2340"/>
                </a:lnTo>
                <a:lnTo>
                  <a:pt x="411" y="2378"/>
                </a:lnTo>
                <a:lnTo>
                  <a:pt x="463" y="2404"/>
                </a:lnTo>
                <a:lnTo>
                  <a:pt x="521" y="2430"/>
                </a:lnTo>
                <a:lnTo>
                  <a:pt x="595" y="2456"/>
                </a:lnTo>
                <a:lnTo>
                  <a:pt x="667" y="2483"/>
                </a:lnTo>
                <a:lnTo>
                  <a:pt x="737" y="2500"/>
                </a:lnTo>
                <a:lnTo>
                  <a:pt x="824" y="2519"/>
                </a:lnTo>
                <a:lnTo>
                  <a:pt x="910" y="2535"/>
                </a:lnTo>
                <a:lnTo>
                  <a:pt x="989" y="2546"/>
                </a:lnTo>
                <a:lnTo>
                  <a:pt x="1065" y="2555"/>
                </a:lnTo>
                <a:lnTo>
                  <a:pt x="1155" y="2562"/>
                </a:lnTo>
                <a:lnTo>
                  <a:pt x="1250" y="2566"/>
                </a:lnTo>
                <a:lnTo>
                  <a:pt x="1359" y="2566"/>
                </a:lnTo>
                <a:lnTo>
                  <a:pt x="1470" y="2562"/>
                </a:lnTo>
                <a:lnTo>
                  <a:pt x="1573" y="2555"/>
                </a:lnTo>
                <a:lnTo>
                  <a:pt x="1672" y="2546"/>
                </a:lnTo>
                <a:lnTo>
                  <a:pt x="1773" y="2532"/>
                </a:lnTo>
                <a:lnTo>
                  <a:pt x="1846" y="2519"/>
                </a:lnTo>
                <a:lnTo>
                  <a:pt x="1938" y="2498"/>
                </a:lnTo>
                <a:lnTo>
                  <a:pt x="2012" y="2476"/>
                </a:lnTo>
                <a:lnTo>
                  <a:pt x="2080" y="2456"/>
                </a:lnTo>
                <a:lnTo>
                  <a:pt x="2149" y="2430"/>
                </a:lnTo>
                <a:lnTo>
                  <a:pt x="2211" y="2404"/>
                </a:lnTo>
                <a:lnTo>
                  <a:pt x="2259" y="2378"/>
                </a:lnTo>
                <a:lnTo>
                  <a:pt x="2304" y="2340"/>
                </a:lnTo>
                <a:lnTo>
                  <a:pt x="2336" y="2315"/>
                </a:lnTo>
                <a:lnTo>
                  <a:pt x="2363" y="2283"/>
                </a:lnTo>
                <a:lnTo>
                  <a:pt x="2390" y="2236"/>
                </a:lnTo>
                <a:lnTo>
                  <a:pt x="2399" y="2183"/>
                </a:lnTo>
                <a:lnTo>
                  <a:pt x="2399" y="188"/>
                </a:lnTo>
                <a:lnTo>
                  <a:pt x="2311" y="229"/>
                </a:lnTo>
                <a:lnTo>
                  <a:pt x="2188" y="275"/>
                </a:lnTo>
                <a:lnTo>
                  <a:pt x="2055" y="310"/>
                </a:lnTo>
                <a:lnTo>
                  <a:pt x="1908" y="343"/>
                </a:lnTo>
                <a:lnTo>
                  <a:pt x="1762" y="365"/>
                </a:lnTo>
                <a:lnTo>
                  <a:pt x="1604" y="381"/>
                </a:lnTo>
                <a:lnTo>
                  <a:pt x="1437" y="391"/>
                </a:lnTo>
                <a:lnTo>
                  <a:pt x="1269" y="391"/>
                </a:lnTo>
                <a:lnTo>
                  <a:pt x="1089" y="383"/>
                </a:lnTo>
                <a:lnTo>
                  <a:pt x="923" y="361"/>
                </a:lnTo>
                <a:lnTo>
                  <a:pt x="745" y="335"/>
                </a:lnTo>
                <a:lnTo>
                  <a:pt x="579" y="293"/>
                </a:lnTo>
                <a:lnTo>
                  <a:pt x="448" y="253"/>
                </a:lnTo>
                <a:lnTo>
                  <a:pt x="372" y="219"/>
                </a:lnTo>
                <a:lnTo>
                  <a:pt x="312" y="184"/>
                </a:lnTo>
                <a:lnTo>
                  <a:pt x="271" y="152"/>
                </a:lnTo>
                <a:lnTo>
                  <a:pt x="236" y="109"/>
                </a:lnTo>
                <a:lnTo>
                  <a:pt x="214" y="94"/>
                </a:lnTo>
                <a:lnTo>
                  <a:pt x="182" y="73"/>
                </a:lnTo>
                <a:lnTo>
                  <a:pt x="154" y="57"/>
                </a:lnTo>
                <a:lnTo>
                  <a:pt x="120" y="41"/>
                </a:lnTo>
                <a:lnTo>
                  <a:pt x="87" y="27"/>
                </a:lnTo>
                <a:lnTo>
                  <a:pt x="48" y="16"/>
                </a:lnTo>
                <a:lnTo>
                  <a:pt x="0" y="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4" name=""/>
          <p:cNvSpPr/>
          <p:nvPr/>
        </p:nvSpPr>
        <p:spPr>
          <a:xfrm>
            <a:off x="6327720" y="6040440"/>
            <a:ext cx="541440" cy="582480"/>
          </a:xfrm>
          <a:custGeom>
            <a:avLst/>
            <a:gdLst/>
            <a:ahLst/>
            <a:rect l="l" t="t" r="r" b="b"/>
            <a:pathLst>
              <a:path w="341" h="367">
                <a:moveTo>
                  <a:pt x="24" y="11"/>
                </a:moveTo>
                <a:lnTo>
                  <a:pt x="0" y="0"/>
                </a:lnTo>
                <a:lnTo>
                  <a:pt x="36" y="60"/>
                </a:lnTo>
                <a:lnTo>
                  <a:pt x="37" y="311"/>
                </a:lnTo>
                <a:lnTo>
                  <a:pt x="39" y="320"/>
                </a:lnTo>
                <a:lnTo>
                  <a:pt x="42" y="326"/>
                </a:lnTo>
                <a:lnTo>
                  <a:pt x="46" y="331"/>
                </a:lnTo>
                <a:lnTo>
                  <a:pt x="51" y="335"/>
                </a:lnTo>
                <a:lnTo>
                  <a:pt x="58" y="340"/>
                </a:lnTo>
                <a:lnTo>
                  <a:pt x="65" y="344"/>
                </a:lnTo>
                <a:lnTo>
                  <a:pt x="74" y="348"/>
                </a:lnTo>
                <a:lnTo>
                  <a:pt x="84" y="351"/>
                </a:lnTo>
                <a:lnTo>
                  <a:pt x="95" y="355"/>
                </a:lnTo>
                <a:lnTo>
                  <a:pt x="104" y="358"/>
                </a:lnTo>
                <a:lnTo>
                  <a:pt x="117" y="360"/>
                </a:lnTo>
                <a:lnTo>
                  <a:pt x="129" y="362"/>
                </a:lnTo>
                <a:lnTo>
                  <a:pt x="140" y="364"/>
                </a:lnTo>
                <a:lnTo>
                  <a:pt x="151" y="365"/>
                </a:lnTo>
                <a:lnTo>
                  <a:pt x="164" y="366"/>
                </a:lnTo>
                <a:lnTo>
                  <a:pt x="177" y="367"/>
                </a:lnTo>
                <a:lnTo>
                  <a:pt x="193" y="367"/>
                </a:lnTo>
                <a:lnTo>
                  <a:pt x="209" y="366"/>
                </a:lnTo>
                <a:lnTo>
                  <a:pt x="224" y="365"/>
                </a:lnTo>
                <a:lnTo>
                  <a:pt x="238" y="364"/>
                </a:lnTo>
                <a:lnTo>
                  <a:pt x="252" y="362"/>
                </a:lnTo>
                <a:lnTo>
                  <a:pt x="262" y="360"/>
                </a:lnTo>
                <a:lnTo>
                  <a:pt x="276" y="357"/>
                </a:lnTo>
                <a:lnTo>
                  <a:pt x="286" y="354"/>
                </a:lnTo>
                <a:lnTo>
                  <a:pt x="296" y="351"/>
                </a:lnTo>
                <a:lnTo>
                  <a:pt x="305" y="347"/>
                </a:lnTo>
                <a:lnTo>
                  <a:pt x="314" y="343"/>
                </a:lnTo>
                <a:lnTo>
                  <a:pt x="321" y="339"/>
                </a:lnTo>
                <a:lnTo>
                  <a:pt x="327" y="334"/>
                </a:lnTo>
                <a:lnTo>
                  <a:pt x="332" y="331"/>
                </a:lnTo>
                <a:lnTo>
                  <a:pt x="336" y="327"/>
                </a:lnTo>
                <a:lnTo>
                  <a:pt x="339" y="320"/>
                </a:lnTo>
                <a:lnTo>
                  <a:pt x="341" y="313"/>
                </a:lnTo>
                <a:lnTo>
                  <a:pt x="340" y="33"/>
                </a:lnTo>
                <a:lnTo>
                  <a:pt x="268" y="53"/>
                </a:lnTo>
                <a:lnTo>
                  <a:pt x="165" y="57"/>
                </a:lnTo>
                <a:lnTo>
                  <a:pt x="87" y="48"/>
                </a:lnTo>
                <a:lnTo>
                  <a:pt x="36" y="26"/>
                </a:lnTo>
                <a:lnTo>
                  <a:pt x="24" y="11"/>
                </a:lnTo>
                <a:close/>
              </a:path>
            </a:pathLst>
          </a:custGeom>
          <a:solidFill>
            <a:srgbClr val="00a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5" name=""/>
          <p:cNvSpPr/>
          <p:nvPr/>
        </p:nvSpPr>
        <p:spPr>
          <a:xfrm>
            <a:off x="6267600" y="5931000"/>
            <a:ext cx="657000" cy="222120"/>
          </a:xfrm>
          <a:custGeom>
            <a:avLst/>
            <a:gdLst/>
            <a:ahLst/>
            <a:rect l="l" t="t" r="r" b="b"/>
            <a:pathLst>
              <a:path w="414" h="140">
                <a:moveTo>
                  <a:pt x="0" y="65"/>
                </a:moveTo>
                <a:lnTo>
                  <a:pt x="17" y="45"/>
                </a:lnTo>
                <a:lnTo>
                  <a:pt x="6" y="68"/>
                </a:lnTo>
                <a:lnTo>
                  <a:pt x="34" y="44"/>
                </a:lnTo>
                <a:lnTo>
                  <a:pt x="48" y="40"/>
                </a:lnTo>
                <a:lnTo>
                  <a:pt x="60" y="37"/>
                </a:lnTo>
                <a:lnTo>
                  <a:pt x="71" y="34"/>
                </a:lnTo>
                <a:lnTo>
                  <a:pt x="80" y="32"/>
                </a:lnTo>
                <a:lnTo>
                  <a:pt x="86" y="27"/>
                </a:lnTo>
                <a:lnTo>
                  <a:pt x="93" y="22"/>
                </a:lnTo>
                <a:lnTo>
                  <a:pt x="101" y="19"/>
                </a:lnTo>
                <a:lnTo>
                  <a:pt x="110" y="16"/>
                </a:lnTo>
                <a:lnTo>
                  <a:pt x="119" y="13"/>
                </a:lnTo>
                <a:lnTo>
                  <a:pt x="129" y="11"/>
                </a:lnTo>
                <a:lnTo>
                  <a:pt x="139" y="8"/>
                </a:lnTo>
                <a:lnTo>
                  <a:pt x="149" y="6"/>
                </a:lnTo>
                <a:lnTo>
                  <a:pt x="161" y="4"/>
                </a:lnTo>
                <a:lnTo>
                  <a:pt x="175" y="3"/>
                </a:lnTo>
                <a:lnTo>
                  <a:pt x="192" y="1"/>
                </a:lnTo>
                <a:lnTo>
                  <a:pt x="213" y="0"/>
                </a:lnTo>
                <a:lnTo>
                  <a:pt x="235" y="0"/>
                </a:lnTo>
                <a:lnTo>
                  <a:pt x="256" y="1"/>
                </a:lnTo>
                <a:lnTo>
                  <a:pt x="280" y="3"/>
                </a:lnTo>
                <a:lnTo>
                  <a:pt x="299" y="5"/>
                </a:lnTo>
                <a:lnTo>
                  <a:pt x="317" y="9"/>
                </a:lnTo>
                <a:lnTo>
                  <a:pt x="334" y="13"/>
                </a:lnTo>
                <a:lnTo>
                  <a:pt x="350" y="18"/>
                </a:lnTo>
                <a:lnTo>
                  <a:pt x="363" y="23"/>
                </a:lnTo>
                <a:lnTo>
                  <a:pt x="375" y="29"/>
                </a:lnTo>
                <a:lnTo>
                  <a:pt x="383" y="36"/>
                </a:lnTo>
                <a:lnTo>
                  <a:pt x="389" y="41"/>
                </a:lnTo>
                <a:lnTo>
                  <a:pt x="413" y="51"/>
                </a:lnTo>
                <a:lnTo>
                  <a:pt x="414" y="92"/>
                </a:lnTo>
                <a:lnTo>
                  <a:pt x="411" y="68"/>
                </a:lnTo>
                <a:lnTo>
                  <a:pt x="393" y="65"/>
                </a:lnTo>
                <a:lnTo>
                  <a:pt x="389" y="70"/>
                </a:lnTo>
                <a:lnTo>
                  <a:pt x="385" y="74"/>
                </a:lnTo>
                <a:lnTo>
                  <a:pt x="380" y="79"/>
                </a:lnTo>
                <a:lnTo>
                  <a:pt x="374" y="83"/>
                </a:lnTo>
                <a:lnTo>
                  <a:pt x="367" y="87"/>
                </a:lnTo>
                <a:lnTo>
                  <a:pt x="358" y="91"/>
                </a:lnTo>
                <a:lnTo>
                  <a:pt x="347" y="95"/>
                </a:lnTo>
                <a:lnTo>
                  <a:pt x="350" y="113"/>
                </a:lnTo>
                <a:lnTo>
                  <a:pt x="320" y="103"/>
                </a:lnTo>
                <a:lnTo>
                  <a:pt x="303" y="106"/>
                </a:lnTo>
                <a:lnTo>
                  <a:pt x="289" y="108"/>
                </a:lnTo>
                <a:lnTo>
                  <a:pt x="272" y="110"/>
                </a:lnTo>
                <a:lnTo>
                  <a:pt x="246" y="140"/>
                </a:lnTo>
                <a:lnTo>
                  <a:pt x="235" y="112"/>
                </a:lnTo>
                <a:lnTo>
                  <a:pt x="220" y="112"/>
                </a:lnTo>
                <a:lnTo>
                  <a:pt x="206" y="111"/>
                </a:lnTo>
                <a:lnTo>
                  <a:pt x="192" y="110"/>
                </a:lnTo>
                <a:lnTo>
                  <a:pt x="177" y="109"/>
                </a:lnTo>
                <a:lnTo>
                  <a:pt x="163" y="107"/>
                </a:lnTo>
                <a:lnTo>
                  <a:pt x="153" y="105"/>
                </a:lnTo>
                <a:lnTo>
                  <a:pt x="141" y="103"/>
                </a:lnTo>
                <a:lnTo>
                  <a:pt x="125" y="122"/>
                </a:lnTo>
                <a:lnTo>
                  <a:pt x="120" y="98"/>
                </a:lnTo>
                <a:lnTo>
                  <a:pt x="112" y="95"/>
                </a:lnTo>
                <a:lnTo>
                  <a:pt x="104" y="92"/>
                </a:lnTo>
                <a:lnTo>
                  <a:pt x="96" y="88"/>
                </a:lnTo>
                <a:lnTo>
                  <a:pt x="90" y="85"/>
                </a:lnTo>
                <a:lnTo>
                  <a:pt x="84" y="80"/>
                </a:lnTo>
                <a:lnTo>
                  <a:pt x="80" y="76"/>
                </a:lnTo>
                <a:lnTo>
                  <a:pt x="77" y="72"/>
                </a:lnTo>
                <a:lnTo>
                  <a:pt x="70" y="68"/>
                </a:lnTo>
                <a:lnTo>
                  <a:pt x="63" y="66"/>
                </a:lnTo>
                <a:lnTo>
                  <a:pt x="55" y="63"/>
                </a:lnTo>
                <a:lnTo>
                  <a:pt x="46" y="60"/>
                </a:lnTo>
                <a:lnTo>
                  <a:pt x="36" y="57"/>
                </a:lnTo>
                <a:lnTo>
                  <a:pt x="30" y="55"/>
                </a:lnTo>
                <a:lnTo>
                  <a:pt x="23" y="54"/>
                </a:lnTo>
                <a:lnTo>
                  <a:pt x="19" y="52"/>
                </a:lnTo>
                <a:lnTo>
                  <a:pt x="0" y="65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6" name=""/>
          <p:cNvSpPr/>
          <p:nvPr/>
        </p:nvSpPr>
        <p:spPr>
          <a:xfrm>
            <a:off x="6632640" y="6176880"/>
            <a:ext cx="44280" cy="79560"/>
          </a:xfrm>
          <a:custGeom>
            <a:avLst/>
            <a:gdLst/>
            <a:ahLst/>
            <a:rect l="l" t="t" r="r" b="b"/>
            <a:pathLst>
              <a:path w="196" h="372">
                <a:moveTo>
                  <a:pt x="95" y="0"/>
                </a:moveTo>
                <a:lnTo>
                  <a:pt x="105" y="60"/>
                </a:lnTo>
                <a:lnTo>
                  <a:pt x="111" y="88"/>
                </a:lnTo>
                <a:lnTo>
                  <a:pt x="121" y="122"/>
                </a:lnTo>
                <a:lnTo>
                  <a:pt x="132" y="143"/>
                </a:lnTo>
                <a:lnTo>
                  <a:pt x="147" y="168"/>
                </a:lnTo>
                <a:lnTo>
                  <a:pt x="167" y="195"/>
                </a:lnTo>
                <a:lnTo>
                  <a:pt x="184" y="221"/>
                </a:lnTo>
                <a:lnTo>
                  <a:pt x="192" y="247"/>
                </a:lnTo>
                <a:lnTo>
                  <a:pt x="196" y="279"/>
                </a:lnTo>
                <a:lnTo>
                  <a:pt x="189" y="308"/>
                </a:lnTo>
                <a:lnTo>
                  <a:pt x="178" y="328"/>
                </a:lnTo>
                <a:lnTo>
                  <a:pt x="162" y="345"/>
                </a:lnTo>
                <a:lnTo>
                  <a:pt x="141" y="361"/>
                </a:lnTo>
                <a:lnTo>
                  <a:pt x="121" y="369"/>
                </a:lnTo>
                <a:lnTo>
                  <a:pt x="99" y="372"/>
                </a:lnTo>
                <a:lnTo>
                  <a:pt x="76" y="369"/>
                </a:lnTo>
                <a:lnTo>
                  <a:pt x="54" y="363"/>
                </a:lnTo>
                <a:lnTo>
                  <a:pt x="34" y="351"/>
                </a:lnTo>
                <a:lnTo>
                  <a:pt x="19" y="336"/>
                </a:lnTo>
                <a:lnTo>
                  <a:pt x="8" y="317"/>
                </a:lnTo>
                <a:lnTo>
                  <a:pt x="3" y="298"/>
                </a:lnTo>
                <a:lnTo>
                  <a:pt x="0" y="272"/>
                </a:lnTo>
                <a:lnTo>
                  <a:pt x="5" y="242"/>
                </a:lnTo>
                <a:lnTo>
                  <a:pt x="13" y="219"/>
                </a:lnTo>
                <a:lnTo>
                  <a:pt x="30" y="191"/>
                </a:lnTo>
                <a:lnTo>
                  <a:pt x="49" y="168"/>
                </a:lnTo>
                <a:lnTo>
                  <a:pt x="62" y="141"/>
                </a:lnTo>
                <a:lnTo>
                  <a:pt x="72" y="120"/>
                </a:lnTo>
                <a:lnTo>
                  <a:pt x="81" y="90"/>
                </a:lnTo>
                <a:lnTo>
                  <a:pt x="86" y="60"/>
                </a:lnTo>
                <a:lnTo>
                  <a:pt x="95" y="0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7" name=""/>
          <p:cNvSpPr/>
          <p:nvPr/>
        </p:nvSpPr>
        <p:spPr>
          <a:xfrm>
            <a:off x="6800760" y="6105600"/>
            <a:ext cx="44640" cy="79200"/>
          </a:xfrm>
          <a:custGeom>
            <a:avLst/>
            <a:gdLst/>
            <a:ahLst/>
            <a:rect l="l" t="t" r="r" b="b"/>
            <a:pathLst>
              <a:path w="196" h="372">
                <a:moveTo>
                  <a:pt x="95" y="0"/>
                </a:moveTo>
                <a:lnTo>
                  <a:pt x="105" y="60"/>
                </a:lnTo>
                <a:lnTo>
                  <a:pt x="111" y="88"/>
                </a:lnTo>
                <a:lnTo>
                  <a:pt x="121" y="122"/>
                </a:lnTo>
                <a:lnTo>
                  <a:pt x="132" y="143"/>
                </a:lnTo>
                <a:lnTo>
                  <a:pt x="147" y="168"/>
                </a:lnTo>
                <a:lnTo>
                  <a:pt x="167" y="195"/>
                </a:lnTo>
                <a:lnTo>
                  <a:pt x="184" y="221"/>
                </a:lnTo>
                <a:lnTo>
                  <a:pt x="192" y="247"/>
                </a:lnTo>
                <a:lnTo>
                  <a:pt x="196" y="279"/>
                </a:lnTo>
                <a:lnTo>
                  <a:pt x="189" y="308"/>
                </a:lnTo>
                <a:lnTo>
                  <a:pt x="178" y="328"/>
                </a:lnTo>
                <a:lnTo>
                  <a:pt x="162" y="345"/>
                </a:lnTo>
                <a:lnTo>
                  <a:pt x="141" y="361"/>
                </a:lnTo>
                <a:lnTo>
                  <a:pt x="121" y="369"/>
                </a:lnTo>
                <a:lnTo>
                  <a:pt x="99" y="372"/>
                </a:lnTo>
                <a:lnTo>
                  <a:pt x="76" y="369"/>
                </a:lnTo>
                <a:lnTo>
                  <a:pt x="54" y="363"/>
                </a:lnTo>
                <a:lnTo>
                  <a:pt x="34" y="351"/>
                </a:lnTo>
                <a:lnTo>
                  <a:pt x="19" y="336"/>
                </a:lnTo>
                <a:lnTo>
                  <a:pt x="8" y="317"/>
                </a:lnTo>
                <a:lnTo>
                  <a:pt x="3" y="298"/>
                </a:lnTo>
                <a:lnTo>
                  <a:pt x="0" y="272"/>
                </a:lnTo>
                <a:lnTo>
                  <a:pt x="5" y="242"/>
                </a:lnTo>
                <a:lnTo>
                  <a:pt x="13" y="219"/>
                </a:lnTo>
                <a:lnTo>
                  <a:pt x="30" y="191"/>
                </a:lnTo>
                <a:lnTo>
                  <a:pt x="49" y="168"/>
                </a:lnTo>
                <a:lnTo>
                  <a:pt x="62" y="141"/>
                </a:lnTo>
                <a:lnTo>
                  <a:pt x="72" y="120"/>
                </a:lnTo>
                <a:lnTo>
                  <a:pt x="81" y="90"/>
                </a:lnTo>
                <a:lnTo>
                  <a:pt x="86" y="60"/>
                </a:lnTo>
                <a:lnTo>
                  <a:pt x="95" y="0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8" name=""/>
          <p:cNvSpPr/>
          <p:nvPr/>
        </p:nvSpPr>
        <p:spPr>
          <a:xfrm>
            <a:off x="6800760" y="6465960"/>
            <a:ext cx="44640" cy="79200"/>
          </a:xfrm>
          <a:custGeom>
            <a:avLst/>
            <a:gdLst/>
            <a:ahLst/>
            <a:rect l="l" t="t" r="r" b="b"/>
            <a:pathLst>
              <a:path w="196" h="372">
                <a:moveTo>
                  <a:pt x="95" y="0"/>
                </a:moveTo>
                <a:lnTo>
                  <a:pt x="105" y="60"/>
                </a:lnTo>
                <a:lnTo>
                  <a:pt x="111" y="88"/>
                </a:lnTo>
                <a:lnTo>
                  <a:pt x="121" y="122"/>
                </a:lnTo>
                <a:lnTo>
                  <a:pt x="132" y="143"/>
                </a:lnTo>
                <a:lnTo>
                  <a:pt x="147" y="168"/>
                </a:lnTo>
                <a:lnTo>
                  <a:pt x="167" y="195"/>
                </a:lnTo>
                <a:lnTo>
                  <a:pt x="184" y="221"/>
                </a:lnTo>
                <a:lnTo>
                  <a:pt x="192" y="247"/>
                </a:lnTo>
                <a:lnTo>
                  <a:pt x="196" y="279"/>
                </a:lnTo>
                <a:lnTo>
                  <a:pt x="189" y="308"/>
                </a:lnTo>
                <a:lnTo>
                  <a:pt x="178" y="328"/>
                </a:lnTo>
                <a:lnTo>
                  <a:pt x="162" y="345"/>
                </a:lnTo>
                <a:lnTo>
                  <a:pt x="141" y="361"/>
                </a:lnTo>
                <a:lnTo>
                  <a:pt x="121" y="369"/>
                </a:lnTo>
                <a:lnTo>
                  <a:pt x="99" y="372"/>
                </a:lnTo>
                <a:lnTo>
                  <a:pt x="76" y="369"/>
                </a:lnTo>
                <a:lnTo>
                  <a:pt x="54" y="363"/>
                </a:lnTo>
                <a:lnTo>
                  <a:pt x="34" y="351"/>
                </a:lnTo>
                <a:lnTo>
                  <a:pt x="19" y="336"/>
                </a:lnTo>
                <a:lnTo>
                  <a:pt x="8" y="317"/>
                </a:lnTo>
                <a:lnTo>
                  <a:pt x="3" y="298"/>
                </a:lnTo>
                <a:lnTo>
                  <a:pt x="0" y="272"/>
                </a:lnTo>
                <a:lnTo>
                  <a:pt x="5" y="242"/>
                </a:lnTo>
                <a:lnTo>
                  <a:pt x="13" y="219"/>
                </a:lnTo>
                <a:lnTo>
                  <a:pt x="30" y="191"/>
                </a:lnTo>
                <a:lnTo>
                  <a:pt x="49" y="168"/>
                </a:lnTo>
                <a:lnTo>
                  <a:pt x="62" y="141"/>
                </a:lnTo>
                <a:lnTo>
                  <a:pt x="72" y="120"/>
                </a:lnTo>
                <a:lnTo>
                  <a:pt x="81" y="90"/>
                </a:lnTo>
                <a:lnTo>
                  <a:pt x="86" y="60"/>
                </a:lnTo>
                <a:lnTo>
                  <a:pt x="95" y="0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9" name=""/>
          <p:cNvSpPr/>
          <p:nvPr/>
        </p:nvSpPr>
        <p:spPr>
          <a:xfrm>
            <a:off x="6626160" y="6556320"/>
            <a:ext cx="44640" cy="79560"/>
          </a:xfrm>
          <a:custGeom>
            <a:avLst/>
            <a:gdLst/>
            <a:ahLst/>
            <a:rect l="l" t="t" r="r" b="b"/>
            <a:pathLst>
              <a:path w="196" h="372">
                <a:moveTo>
                  <a:pt x="95" y="0"/>
                </a:moveTo>
                <a:lnTo>
                  <a:pt x="105" y="60"/>
                </a:lnTo>
                <a:lnTo>
                  <a:pt x="111" y="88"/>
                </a:lnTo>
                <a:lnTo>
                  <a:pt x="121" y="122"/>
                </a:lnTo>
                <a:lnTo>
                  <a:pt x="132" y="143"/>
                </a:lnTo>
                <a:lnTo>
                  <a:pt x="147" y="168"/>
                </a:lnTo>
                <a:lnTo>
                  <a:pt x="167" y="195"/>
                </a:lnTo>
                <a:lnTo>
                  <a:pt x="184" y="221"/>
                </a:lnTo>
                <a:lnTo>
                  <a:pt x="192" y="247"/>
                </a:lnTo>
                <a:lnTo>
                  <a:pt x="196" y="279"/>
                </a:lnTo>
                <a:lnTo>
                  <a:pt x="189" y="308"/>
                </a:lnTo>
                <a:lnTo>
                  <a:pt x="178" y="328"/>
                </a:lnTo>
                <a:lnTo>
                  <a:pt x="162" y="345"/>
                </a:lnTo>
                <a:lnTo>
                  <a:pt x="141" y="361"/>
                </a:lnTo>
                <a:lnTo>
                  <a:pt x="121" y="369"/>
                </a:lnTo>
                <a:lnTo>
                  <a:pt x="99" y="372"/>
                </a:lnTo>
                <a:lnTo>
                  <a:pt x="76" y="369"/>
                </a:lnTo>
                <a:lnTo>
                  <a:pt x="54" y="363"/>
                </a:lnTo>
                <a:lnTo>
                  <a:pt x="34" y="351"/>
                </a:lnTo>
                <a:lnTo>
                  <a:pt x="19" y="336"/>
                </a:lnTo>
                <a:lnTo>
                  <a:pt x="8" y="317"/>
                </a:lnTo>
                <a:lnTo>
                  <a:pt x="3" y="298"/>
                </a:lnTo>
                <a:lnTo>
                  <a:pt x="0" y="272"/>
                </a:lnTo>
                <a:lnTo>
                  <a:pt x="5" y="242"/>
                </a:lnTo>
                <a:lnTo>
                  <a:pt x="13" y="219"/>
                </a:lnTo>
                <a:lnTo>
                  <a:pt x="30" y="191"/>
                </a:lnTo>
                <a:lnTo>
                  <a:pt x="49" y="168"/>
                </a:lnTo>
                <a:lnTo>
                  <a:pt x="62" y="141"/>
                </a:lnTo>
                <a:lnTo>
                  <a:pt x="72" y="120"/>
                </a:lnTo>
                <a:lnTo>
                  <a:pt x="81" y="90"/>
                </a:lnTo>
                <a:lnTo>
                  <a:pt x="86" y="60"/>
                </a:lnTo>
                <a:lnTo>
                  <a:pt x="95" y="0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0" name=""/>
          <p:cNvSpPr/>
          <p:nvPr/>
        </p:nvSpPr>
        <p:spPr>
          <a:xfrm>
            <a:off x="6435720" y="6149880"/>
            <a:ext cx="44280" cy="79560"/>
          </a:xfrm>
          <a:custGeom>
            <a:avLst/>
            <a:gdLst/>
            <a:ahLst/>
            <a:rect l="l" t="t" r="r" b="b"/>
            <a:pathLst>
              <a:path w="196" h="372">
                <a:moveTo>
                  <a:pt x="95" y="0"/>
                </a:moveTo>
                <a:lnTo>
                  <a:pt x="105" y="60"/>
                </a:lnTo>
                <a:lnTo>
                  <a:pt x="111" y="88"/>
                </a:lnTo>
                <a:lnTo>
                  <a:pt x="121" y="122"/>
                </a:lnTo>
                <a:lnTo>
                  <a:pt x="132" y="143"/>
                </a:lnTo>
                <a:lnTo>
                  <a:pt x="147" y="168"/>
                </a:lnTo>
                <a:lnTo>
                  <a:pt x="167" y="195"/>
                </a:lnTo>
                <a:lnTo>
                  <a:pt x="184" y="221"/>
                </a:lnTo>
                <a:lnTo>
                  <a:pt x="192" y="247"/>
                </a:lnTo>
                <a:lnTo>
                  <a:pt x="196" y="279"/>
                </a:lnTo>
                <a:lnTo>
                  <a:pt x="189" y="308"/>
                </a:lnTo>
                <a:lnTo>
                  <a:pt x="178" y="328"/>
                </a:lnTo>
                <a:lnTo>
                  <a:pt x="162" y="345"/>
                </a:lnTo>
                <a:lnTo>
                  <a:pt x="141" y="361"/>
                </a:lnTo>
                <a:lnTo>
                  <a:pt x="121" y="369"/>
                </a:lnTo>
                <a:lnTo>
                  <a:pt x="99" y="372"/>
                </a:lnTo>
                <a:lnTo>
                  <a:pt x="76" y="369"/>
                </a:lnTo>
                <a:lnTo>
                  <a:pt x="54" y="363"/>
                </a:lnTo>
                <a:lnTo>
                  <a:pt x="34" y="351"/>
                </a:lnTo>
                <a:lnTo>
                  <a:pt x="19" y="336"/>
                </a:lnTo>
                <a:lnTo>
                  <a:pt x="8" y="317"/>
                </a:lnTo>
                <a:lnTo>
                  <a:pt x="3" y="298"/>
                </a:lnTo>
                <a:lnTo>
                  <a:pt x="0" y="272"/>
                </a:lnTo>
                <a:lnTo>
                  <a:pt x="5" y="242"/>
                </a:lnTo>
                <a:lnTo>
                  <a:pt x="13" y="219"/>
                </a:lnTo>
                <a:lnTo>
                  <a:pt x="30" y="191"/>
                </a:lnTo>
                <a:lnTo>
                  <a:pt x="49" y="168"/>
                </a:lnTo>
                <a:lnTo>
                  <a:pt x="62" y="141"/>
                </a:lnTo>
                <a:lnTo>
                  <a:pt x="72" y="120"/>
                </a:lnTo>
                <a:lnTo>
                  <a:pt x="81" y="90"/>
                </a:lnTo>
                <a:lnTo>
                  <a:pt x="86" y="60"/>
                </a:lnTo>
                <a:lnTo>
                  <a:pt x="95" y="0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1" name=""/>
          <p:cNvSpPr/>
          <p:nvPr/>
        </p:nvSpPr>
        <p:spPr>
          <a:xfrm>
            <a:off x="6426360" y="6407280"/>
            <a:ext cx="44280" cy="79200"/>
          </a:xfrm>
          <a:custGeom>
            <a:avLst/>
            <a:gdLst/>
            <a:ahLst/>
            <a:rect l="l" t="t" r="r" b="b"/>
            <a:pathLst>
              <a:path w="196" h="372">
                <a:moveTo>
                  <a:pt x="95" y="0"/>
                </a:moveTo>
                <a:lnTo>
                  <a:pt x="105" y="60"/>
                </a:lnTo>
                <a:lnTo>
                  <a:pt x="111" y="88"/>
                </a:lnTo>
                <a:lnTo>
                  <a:pt x="121" y="122"/>
                </a:lnTo>
                <a:lnTo>
                  <a:pt x="132" y="143"/>
                </a:lnTo>
                <a:lnTo>
                  <a:pt x="147" y="168"/>
                </a:lnTo>
                <a:lnTo>
                  <a:pt x="167" y="195"/>
                </a:lnTo>
                <a:lnTo>
                  <a:pt x="184" y="221"/>
                </a:lnTo>
                <a:lnTo>
                  <a:pt x="192" y="247"/>
                </a:lnTo>
                <a:lnTo>
                  <a:pt x="196" y="279"/>
                </a:lnTo>
                <a:lnTo>
                  <a:pt x="189" y="308"/>
                </a:lnTo>
                <a:lnTo>
                  <a:pt x="178" y="328"/>
                </a:lnTo>
                <a:lnTo>
                  <a:pt x="162" y="345"/>
                </a:lnTo>
                <a:lnTo>
                  <a:pt x="141" y="361"/>
                </a:lnTo>
                <a:lnTo>
                  <a:pt x="121" y="369"/>
                </a:lnTo>
                <a:lnTo>
                  <a:pt x="99" y="372"/>
                </a:lnTo>
                <a:lnTo>
                  <a:pt x="76" y="369"/>
                </a:lnTo>
                <a:lnTo>
                  <a:pt x="54" y="363"/>
                </a:lnTo>
                <a:lnTo>
                  <a:pt x="34" y="351"/>
                </a:lnTo>
                <a:lnTo>
                  <a:pt x="19" y="336"/>
                </a:lnTo>
                <a:lnTo>
                  <a:pt x="8" y="317"/>
                </a:lnTo>
                <a:lnTo>
                  <a:pt x="3" y="298"/>
                </a:lnTo>
                <a:lnTo>
                  <a:pt x="0" y="272"/>
                </a:lnTo>
                <a:lnTo>
                  <a:pt x="5" y="242"/>
                </a:lnTo>
                <a:lnTo>
                  <a:pt x="13" y="219"/>
                </a:lnTo>
                <a:lnTo>
                  <a:pt x="30" y="191"/>
                </a:lnTo>
                <a:lnTo>
                  <a:pt x="49" y="168"/>
                </a:lnTo>
                <a:lnTo>
                  <a:pt x="62" y="141"/>
                </a:lnTo>
                <a:lnTo>
                  <a:pt x="72" y="120"/>
                </a:lnTo>
                <a:lnTo>
                  <a:pt x="81" y="90"/>
                </a:lnTo>
                <a:lnTo>
                  <a:pt x="86" y="60"/>
                </a:lnTo>
                <a:lnTo>
                  <a:pt x="95" y="0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2" name=""/>
          <p:cNvSpPr/>
          <p:nvPr/>
        </p:nvSpPr>
        <p:spPr>
          <a:xfrm>
            <a:off x="6900840" y="6049800"/>
            <a:ext cx="44640" cy="79560"/>
          </a:xfrm>
          <a:custGeom>
            <a:avLst/>
            <a:gdLst/>
            <a:ahLst/>
            <a:rect l="l" t="t" r="r" b="b"/>
            <a:pathLst>
              <a:path w="196" h="372">
                <a:moveTo>
                  <a:pt x="95" y="0"/>
                </a:moveTo>
                <a:lnTo>
                  <a:pt x="105" y="60"/>
                </a:lnTo>
                <a:lnTo>
                  <a:pt x="111" y="88"/>
                </a:lnTo>
                <a:lnTo>
                  <a:pt x="121" y="122"/>
                </a:lnTo>
                <a:lnTo>
                  <a:pt x="132" y="143"/>
                </a:lnTo>
                <a:lnTo>
                  <a:pt x="147" y="168"/>
                </a:lnTo>
                <a:lnTo>
                  <a:pt x="167" y="195"/>
                </a:lnTo>
                <a:lnTo>
                  <a:pt x="184" y="221"/>
                </a:lnTo>
                <a:lnTo>
                  <a:pt x="192" y="247"/>
                </a:lnTo>
                <a:lnTo>
                  <a:pt x="196" y="279"/>
                </a:lnTo>
                <a:lnTo>
                  <a:pt x="189" y="308"/>
                </a:lnTo>
                <a:lnTo>
                  <a:pt x="178" y="328"/>
                </a:lnTo>
                <a:lnTo>
                  <a:pt x="162" y="345"/>
                </a:lnTo>
                <a:lnTo>
                  <a:pt x="141" y="361"/>
                </a:lnTo>
                <a:lnTo>
                  <a:pt x="121" y="369"/>
                </a:lnTo>
                <a:lnTo>
                  <a:pt x="99" y="372"/>
                </a:lnTo>
                <a:lnTo>
                  <a:pt x="76" y="369"/>
                </a:lnTo>
                <a:lnTo>
                  <a:pt x="54" y="363"/>
                </a:lnTo>
                <a:lnTo>
                  <a:pt x="34" y="351"/>
                </a:lnTo>
                <a:lnTo>
                  <a:pt x="19" y="336"/>
                </a:lnTo>
                <a:lnTo>
                  <a:pt x="8" y="317"/>
                </a:lnTo>
                <a:lnTo>
                  <a:pt x="3" y="298"/>
                </a:lnTo>
                <a:lnTo>
                  <a:pt x="0" y="272"/>
                </a:lnTo>
                <a:lnTo>
                  <a:pt x="5" y="242"/>
                </a:lnTo>
                <a:lnTo>
                  <a:pt x="13" y="219"/>
                </a:lnTo>
                <a:lnTo>
                  <a:pt x="30" y="191"/>
                </a:lnTo>
                <a:lnTo>
                  <a:pt x="49" y="168"/>
                </a:lnTo>
                <a:lnTo>
                  <a:pt x="62" y="141"/>
                </a:lnTo>
                <a:lnTo>
                  <a:pt x="72" y="120"/>
                </a:lnTo>
                <a:lnTo>
                  <a:pt x="81" y="90"/>
                </a:lnTo>
                <a:lnTo>
                  <a:pt x="86" y="60"/>
                </a:lnTo>
                <a:lnTo>
                  <a:pt x="95" y="0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3" name=""/>
          <p:cNvSpPr/>
          <p:nvPr/>
        </p:nvSpPr>
        <p:spPr>
          <a:xfrm>
            <a:off x="6897600" y="6248520"/>
            <a:ext cx="44640" cy="79200"/>
          </a:xfrm>
          <a:custGeom>
            <a:avLst/>
            <a:gdLst/>
            <a:ahLst/>
            <a:rect l="l" t="t" r="r" b="b"/>
            <a:pathLst>
              <a:path w="196" h="372">
                <a:moveTo>
                  <a:pt x="95" y="0"/>
                </a:moveTo>
                <a:lnTo>
                  <a:pt x="105" y="60"/>
                </a:lnTo>
                <a:lnTo>
                  <a:pt x="111" y="88"/>
                </a:lnTo>
                <a:lnTo>
                  <a:pt x="121" y="122"/>
                </a:lnTo>
                <a:lnTo>
                  <a:pt x="132" y="143"/>
                </a:lnTo>
                <a:lnTo>
                  <a:pt x="147" y="168"/>
                </a:lnTo>
                <a:lnTo>
                  <a:pt x="167" y="195"/>
                </a:lnTo>
                <a:lnTo>
                  <a:pt x="184" y="221"/>
                </a:lnTo>
                <a:lnTo>
                  <a:pt x="192" y="247"/>
                </a:lnTo>
                <a:lnTo>
                  <a:pt x="196" y="279"/>
                </a:lnTo>
                <a:lnTo>
                  <a:pt x="189" y="308"/>
                </a:lnTo>
                <a:lnTo>
                  <a:pt x="178" y="328"/>
                </a:lnTo>
                <a:lnTo>
                  <a:pt x="162" y="345"/>
                </a:lnTo>
                <a:lnTo>
                  <a:pt x="141" y="361"/>
                </a:lnTo>
                <a:lnTo>
                  <a:pt x="121" y="369"/>
                </a:lnTo>
                <a:lnTo>
                  <a:pt x="99" y="372"/>
                </a:lnTo>
                <a:lnTo>
                  <a:pt x="76" y="369"/>
                </a:lnTo>
                <a:lnTo>
                  <a:pt x="54" y="363"/>
                </a:lnTo>
                <a:lnTo>
                  <a:pt x="34" y="351"/>
                </a:lnTo>
                <a:lnTo>
                  <a:pt x="19" y="336"/>
                </a:lnTo>
                <a:lnTo>
                  <a:pt x="8" y="317"/>
                </a:lnTo>
                <a:lnTo>
                  <a:pt x="3" y="298"/>
                </a:lnTo>
                <a:lnTo>
                  <a:pt x="0" y="272"/>
                </a:lnTo>
                <a:lnTo>
                  <a:pt x="5" y="242"/>
                </a:lnTo>
                <a:lnTo>
                  <a:pt x="13" y="219"/>
                </a:lnTo>
                <a:lnTo>
                  <a:pt x="30" y="191"/>
                </a:lnTo>
                <a:lnTo>
                  <a:pt x="49" y="168"/>
                </a:lnTo>
                <a:lnTo>
                  <a:pt x="62" y="141"/>
                </a:lnTo>
                <a:lnTo>
                  <a:pt x="72" y="120"/>
                </a:lnTo>
                <a:lnTo>
                  <a:pt x="81" y="90"/>
                </a:lnTo>
                <a:lnTo>
                  <a:pt x="86" y="60"/>
                </a:lnTo>
                <a:lnTo>
                  <a:pt x="95" y="0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4" name=""/>
          <p:cNvSpPr/>
          <p:nvPr/>
        </p:nvSpPr>
        <p:spPr>
          <a:xfrm>
            <a:off x="6899400" y="6432480"/>
            <a:ext cx="44280" cy="79560"/>
          </a:xfrm>
          <a:custGeom>
            <a:avLst/>
            <a:gdLst/>
            <a:ahLst/>
            <a:rect l="l" t="t" r="r" b="b"/>
            <a:pathLst>
              <a:path w="196" h="372">
                <a:moveTo>
                  <a:pt x="95" y="0"/>
                </a:moveTo>
                <a:lnTo>
                  <a:pt x="105" y="60"/>
                </a:lnTo>
                <a:lnTo>
                  <a:pt x="111" y="88"/>
                </a:lnTo>
                <a:lnTo>
                  <a:pt x="121" y="122"/>
                </a:lnTo>
                <a:lnTo>
                  <a:pt x="132" y="143"/>
                </a:lnTo>
                <a:lnTo>
                  <a:pt x="147" y="168"/>
                </a:lnTo>
                <a:lnTo>
                  <a:pt x="167" y="195"/>
                </a:lnTo>
                <a:lnTo>
                  <a:pt x="184" y="221"/>
                </a:lnTo>
                <a:lnTo>
                  <a:pt x="192" y="247"/>
                </a:lnTo>
                <a:lnTo>
                  <a:pt x="196" y="279"/>
                </a:lnTo>
                <a:lnTo>
                  <a:pt x="189" y="308"/>
                </a:lnTo>
                <a:lnTo>
                  <a:pt x="178" y="328"/>
                </a:lnTo>
                <a:lnTo>
                  <a:pt x="162" y="345"/>
                </a:lnTo>
                <a:lnTo>
                  <a:pt x="141" y="361"/>
                </a:lnTo>
                <a:lnTo>
                  <a:pt x="121" y="369"/>
                </a:lnTo>
                <a:lnTo>
                  <a:pt x="99" y="372"/>
                </a:lnTo>
                <a:lnTo>
                  <a:pt x="76" y="369"/>
                </a:lnTo>
                <a:lnTo>
                  <a:pt x="54" y="363"/>
                </a:lnTo>
                <a:lnTo>
                  <a:pt x="34" y="351"/>
                </a:lnTo>
                <a:lnTo>
                  <a:pt x="19" y="336"/>
                </a:lnTo>
                <a:lnTo>
                  <a:pt x="8" y="317"/>
                </a:lnTo>
                <a:lnTo>
                  <a:pt x="3" y="298"/>
                </a:lnTo>
                <a:lnTo>
                  <a:pt x="0" y="272"/>
                </a:lnTo>
                <a:lnTo>
                  <a:pt x="5" y="242"/>
                </a:lnTo>
                <a:lnTo>
                  <a:pt x="13" y="219"/>
                </a:lnTo>
                <a:lnTo>
                  <a:pt x="30" y="191"/>
                </a:lnTo>
                <a:lnTo>
                  <a:pt x="49" y="168"/>
                </a:lnTo>
                <a:lnTo>
                  <a:pt x="62" y="141"/>
                </a:lnTo>
                <a:lnTo>
                  <a:pt x="72" y="120"/>
                </a:lnTo>
                <a:lnTo>
                  <a:pt x="81" y="90"/>
                </a:lnTo>
                <a:lnTo>
                  <a:pt x="86" y="60"/>
                </a:lnTo>
                <a:lnTo>
                  <a:pt x="95" y="0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5" name=""/>
          <p:cNvSpPr/>
          <p:nvPr/>
        </p:nvSpPr>
        <p:spPr>
          <a:xfrm>
            <a:off x="6249960" y="6029280"/>
            <a:ext cx="44640" cy="79560"/>
          </a:xfrm>
          <a:custGeom>
            <a:avLst/>
            <a:gdLst/>
            <a:ahLst/>
            <a:rect l="l" t="t" r="r" b="b"/>
            <a:pathLst>
              <a:path w="196" h="372">
                <a:moveTo>
                  <a:pt x="95" y="0"/>
                </a:moveTo>
                <a:lnTo>
                  <a:pt x="105" y="60"/>
                </a:lnTo>
                <a:lnTo>
                  <a:pt x="111" y="88"/>
                </a:lnTo>
                <a:lnTo>
                  <a:pt x="121" y="122"/>
                </a:lnTo>
                <a:lnTo>
                  <a:pt x="132" y="143"/>
                </a:lnTo>
                <a:lnTo>
                  <a:pt x="147" y="168"/>
                </a:lnTo>
                <a:lnTo>
                  <a:pt x="167" y="195"/>
                </a:lnTo>
                <a:lnTo>
                  <a:pt x="184" y="221"/>
                </a:lnTo>
                <a:lnTo>
                  <a:pt x="192" y="247"/>
                </a:lnTo>
                <a:lnTo>
                  <a:pt x="196" y="279"/>
                </a:lnTo>
                <a:lnTo>
                  <a:pt x="189" y="308"/>
                </a:lnTo>
                <a:lnTo>
                  <a:pt x="178" y="328"/>
                </a:lnTo>
                <a:lnTo>
                  <a:pt x="162" y="345"/>
                </a:lnTo>
                <a:lnTo>
                  <a:pt x="141" y="361"/>
                </a:lnTo>
                <a:lnTo>
                  <a:pt x="121" y="369"/>
                </a:lnTo>
                <a:lnTo>
                  <a:pt x="99" y="372"/>
                </a:lnTo>
                <a:lnTo>
                  <a:pt x="76" y="369"/>
                </a:lnTo>
                <a:lnTo>
                  <a:pt x="54" y="363"/>
                </a:lnTo>
                <a:lnTo>
                  <a:pt x="34" y="351"/>
                </a:lnTo>
                <a:lnTo>
                  <a:pt x="19" y="336"/>
                </a:lnTo>
                <a:lnTo>
                  <a:pt x="8" y="317"/>
                </a:lnTo>
                <a:lnTo>
                  <a:pt x="3" y="298"/>
                </a:lnTo>
                <a:lnTo>
                  <a:pt x="0" y="272"/>
                </a:lnTo>
                <a:lnTo>
                  <a:pt x="5" y="242"/>
                </a:lnTo>
                <a:lnTo>
                  <a:pt x="13" y="219"/>
                </a:lnTo>
                <a:lnTo>
                  <a:pt x="30" y="191"/>
                </a:lnTo>
                <a:lnTo>
                  <a:pt x="49" y="168"/>
                </a:lnTo>
                <a:lnTo>
                  <a:pt x="62" y="141"/>
                </a:lnTo>
                <a:lnTo>
                  <a:pt x="72" y="120"/>
                </a:lnTo>
                <a:lnTo>
                  <a:pt x="81" y="90"/>
                </a:lnTo>
                <a:lnTo>
                  <a:pt x="86" y="60"/>
                </a:lnTo>
                <a:lnTo>
                  <a:pt x="95" y="0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6" name=""/>
          <p:cNvSpPr/>
          <p:nvPr/>
        </p:nvSpPr>
        <p:spPr>
          <a:xfrm>
            <a:off x="6253200" y="6222960"/>
            <a:ext cx="44280" cy="79560"/>
          </a:xfrm>
          <a:custGeom>
            <a:avLst/>
            <a:gdLst/>
            <a:ahLst/>
            <a:rect l="l" t="t" r="r" b="b"/>
            <a:pathLst>
              <a:path w="196" h="372">
                <a:moveTo>
                  <a:pt x="95" y="0"/>
                </a:moveTo>
                <a:lnTo>
                  <a:pt x="105" y="60"/>
                </a:lnTo>
                <a:lnTo>
                  <a:pt x="111" y="88"/>
                </a:lnTo>
                <a:lnTo>
                  <a:pt x="121" y="122"/>
                </a:lnTo>
                <a:lnTo>
                  <a:pt x="132" y="143"/>
                </a:lnTo>
                <a:lnTo>
                  <a:pt x="147" y="168"/>
                </a:lnTo>
                <a:lnTo>
                  <a:pt x="167" y="195"/>
                </a:lnTo>
                <a:lnTo>
                  <a:pt x="184" y="221"/>
                </a:lnTo>
                <a:lnTo>
                  <a:pt x="192" y="247"/>
                </a:lnTo>
                <a:lnTo>
                  <a:pt x="196" y="279"/>
                </a:lnTo>
                <a:lnTo>
                  <a:pt x="189" y="308"/>
                </a:lnTo>
                <a:lnTo>
                  <a:pt x="178" y="328"/>
                </a:lnTo>
                <a:lnTo>
                  <a:pt x="162" y="345"/>
                </a:lnTo>
                <a:lnTo>
                  <a:pt x="141" y="361"/>
                </a:lnTo>
                <a:lnTo>
                  <a:pt x="121" y="369"/>
                </a:lnTo>
                <a:lnTo>
                  <a:pt x="99" y="372"/>
                </a:lnTo>
                <a:lnTo>
                  <a:pt x="76" y="369"/>
                </a:lnTo>
                <a:lnTo>
                  <a:pt x="54" y="363"/>
                </a:lnTo>
                <a:lnTo>
                  <a:pt x="34" y="351"/>
                </a:lnTo>
                <a:lnTo>
                  <a:pt x="19" y="336"/>
                </a:lnTo>
                <a:lnTo>
                  <a:pt x="8" y="317"/>
                </a:lnTo>
                <a:lnTo>
                  <a:pt x="3" y="298"/>
                </a:lnTo>
                <a:lnTo>
                  <a:pt x="0" y="272"/>
                </a:lnTo>
                <a:lnTo>
                  <a:pt x="5" y="242"/>
                </a:lnTo>
                <a:lnTo>
                  <a:pt x="13" y="219"/>
                </a:lnTo>
                <a:lnTo>
                  <a:pt x="30" y="191"/>
                </a:lnTo>
                <a:lnTo>
                  <a:pt x="49" y="168"/>
                </a:lnTo>
                <a:lnTo>
                  <a:pt x="62" y="141"/>
                </a:lnTo>
                <a:lnTo>
                  <a:pt x="72" y="120"/>
                </a:lnTo>
                <a:lnTo>
                  <a:pt x="81" y="90"/>
                </a:lnTo>
                <a:lnTo>
                  <a:pt x="86" y="60"/>
                </a:lnTo>
                <a:lnTo>
                  <a:pt x="95" y="0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7" name=""/>
          <p:cNvSpPr/>
          <p:nvPr/>
        </p:nvSpPr>
        <p:spPr>
          <a:xfrm>
            <a:off x="6226200" y="6540480"/>
            <a:ext cx="44280" cy="79560"/>
          </a:xfrm>
          <a:custGeom>
            <a:avLst/>
            <a:gdLst/>
            <a:ahLst/>
            <a:rect l="l" t="t" r="r" b="b"/>
            <a:pathLst>
              <a:path w="196" h="372">
                <a:moveTo>
                  <a:pt x="95" y="0"/>
                </a:moveTo>
                <a:lnTo>
                  <a:pt x="105" y="60"/>
                </a:lnTo>
                <a:lnTo>
                  <a:pt x="111" y="88"/>
                </a:lnTo>
                <a:lnTo>
                  <a:pt x="121" y="122"/>
                </a:lnTo>
                <a:lnTo>
                  <a:pt x="132" y="143"/>
                </a:lnTo>
                <a:lnTo>
                  <a:pt x="147" y="168"/>
                </a:lnTo>
                <a:lnTo>
                  <a:pt x="167" y="195"/>
                </a:lnTo>
                <a:lnTo>
                  <a:pt x="184" y="221"/>
                </a:lnTo>
                <a:lnTo>
                  <a:pt x="192" y="247"/>
                </a:lnTo>
                <a:lnTo>
                  <a:pt x="196" y="279"/>
                </a:lnTo>
                <a:lnTo>
                  <a:pt x="189" y="308"/>
                </a:lnTo>
                <a:lnTo>
                  <a:pt x="178" y="328"/>
                </a:lnTo>
                <a:lnTo>
                  <a:pt x="162" y="345"/>
                </a:lnTo>
                <a:lnTo>
                  <a:pt x="141" y="361"/>
                </a:lnTo>
                <a:lnTo>
                  <a:pt x="121" y="369"/>
                </a:lnTo>
                <a:lnTo>
                  <a:pt x="99" y="372"/>
                </a:lnTo>
                <a:lnTo>
                  <a:pt x="76" y="369"/>
                </a:lnTo>
                <a:lnTo>
                  <a:pt x="54" y="363"/>
                </a:lnTo>
                <a:lnTo>
                  <a:pt x="34" y="351"/>
                </a:lnTo>
                <a:lnTo>
                  <a:pt x="19" y="336"/>
                </a:lnTo>
                <a:lnTo>
                  <a:pt x="8" y="317"/>
                </a:lnTo>
                <a:lnTo>
                  <a:pt x="3" y="298"/>
                </a:lnTo>
                <a:lnTo>
                  <a:pt x="0" y="272"/>
                </a:lnTo>
                <a:lnTo>
                  <a:pt x="5" y="242"/>
                </a:lnTo>
                <a:lnTo>
                  <a:pt x="13" y="219"/>
                </a:lnTo>
                <a:lnTo>
                  <a:pt x="30" y="191"/>
                </a:lnTo>
                <a:lnTo>
                  <a:pt x="49" y="168"/>
                </a:lnTo>
                <a:lnTo>
                  <a:pt x="62" y="141"/>
                </a:lnTo>
                <a:lnTo>
                  <a:pt x="72" y="120"/>
                </a:lnTo>
                <a:lnTo>
                  <a:pt x="81" y="90"/>
                </a:lnTo>
                <a:lnTo>
                  <a:pt x="86" y="60"/>
                </a:lnTo>
                <a:lnTo>
                  <a:pt x="95" y="0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8" name=""/>
          <p:cNvSpPr/>
          <p:nvPr/>
        </p:nvSpPr>
        <p:spPr>
          <a:xfrm>
            <a:off x="6257880" y="6415200"/>
            <a:ext cx="44640" cy="79200"/>
          </a:xfrm>
          <a:custGeom>
            <a:avLst/>
            <a:gdLst/>
            <a:ahLst/>
            <a:rect l="l" t="t" r="r" b="b"/>
            <a:pathLst>
              <a:path w="196" h="372">
                <a:moveTo>
                  <a:pt x="95" y="0"/>
                </a:moveTo>
                <a:lnTo>
                  <a:pt x="105" y="60"/>
                </a:lnTo>
                <a:lnTo>
                  <a:pt x="111" y="88"/>
                </a:lnTo>
                <a:lnTo>
                  <a:pt x="121" y="122"/>
                </a:lnTo>
                <a:lnTo>
                  <a:pt x="132" y="143"/>
                </a:lnTo>
                <a:lnTo>
                  <a:pt x="147" y="168"/>
                </a:lnTo>
                <a:lnTo>
                  <a:pt x="167" y="195"/>
                </a:lnTo>
                <a:lnTo>
                  <a:pt x="184" y="221"/>
                </a:lnTo>
                <a:lnTo>
                  <a:pt x="192" y="247"/>
                </a:lnTo>
                <a:lnTo>
                  <a:pt x="196" y="279"/>
                </a:lnTo>
                <a:lnTo>
                  <a:pt x="189" y="308"/>
                </a:lnTo>
                <a:lnTo>
                  <a:pt x="178" y="328"/>
                </a:lnTo>
                <a:lnTo>
                  <a:pt x="162" y="345"/>
                </a:lnTo>
                <a:lnTo>
                  <a:pt x="141" y="361"/>
                </a:lnTo>
                <a:lnTo>
                  <a:pt x="121" y="369"/>
                </a:lnTo>
                <a:lnTo>
                  <a:pt x="99" y="372"/>
                </a:lnTo>
                <a:lnTo>
                  <a:pt x="76" y="369"/>
                </a:lnTo>
                <a:lnTo>
                  <a:pt x="54" y="363"/>
                </a:lnTo>
                <a:lnTo>
                  <a:pt x="34" y="351"/>
                </a:lnTo>
                <a:lnTo>
                  <a:pt x="19" y="336"/>
                </a:lnTo>
                <a:lnTo>
                  <a:pt x="8" y="317"/>
                </a:lnTo>
                <a:lnTo>
                  <a:pt x="3" y="298"/>
                </a:lnTo>
                <a:lnTo>
                  <a:pt x="0" y="272"/>
                </a:lnTo>
                <a:lnTo>
                  <a:pt x="5" y="242"/>
                </a:lnTo>
                <a:lnTo>
                  <a:pt x="13" y="219"/>
                </a:lnTo>
                <a:lnTo>
                  <a:pt x="30" y="191"/>
                </a:lnTo>
                <a:lnTo>
                  <a:pt x="49" y="168"/>
                </a:lnTo>
                <a:lnTo>
                  <a:pt x="62" y="141"/>
                </a:lnTo>
                <a:lnTo>
                  <a:pt x="72" y="120"/>
                </a:lnTo>
                <a:lnTo>
                  <a:pt x="81" y="90"/>
                </a:lnTo>
                <a:lnTo>
                  <a:pt x="86" y="60"/>
                </a:lnTo>
                <a:lnTo>
                  <a:pt x="95" y="0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139" name=""/>
          <p:cNvGraphicFramePr/>
          <p:nvPr/>
        </p:nvGraphicFramePr>
        <p:xfrm>
          <a:off x="6413400" y="5243400"/>
          <a:ext cx="495360" cy="587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14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413400" y="5243400"/>
                    <a:ext cx="495360" cy="5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41" name=""/>
          <p:cNvSpPr/>
          <p:nvPr/>
        </p:nvSpPr>
        <p:spPr>
          <a:xfrm flipH="1" rot="4040400">
            <a:off x="7501680" y="4809240"/>
            <a:ext cx="117360" cy="135000"/>
          </a:xfrm>
          <a:custGeom>
            <a:avLst/>
            <a:gdLst/>
            <a:ahLst/>
            <a:rect l="l" t="t" r="r" b="b"/>
            <a:pathLst>
              <a:path w="593" h="625">
                <a:moveTo>
                  <a:pt x="292" y="0"/>
                </a:moveTo>
                <a:lnTo>
                  <a:pt x="366" y="10"/>
                </a:lnTo>
                <a:lnTo>
                  <a:pt x="402" y="57"/>
                </a:lnTo>
                <a:lnTo>
                  <a:pt x="419" y="152"/>
                </a:lnTo>
                <a:lnTo>
                  <a:pt x="407" y="267"/>
                </a:lnTo>
                <a:lnTo>
                  <a:pt x="379" y="338"/>
                </a:lnTo>
                <a:lnTo>
                  <a:pt x="346" y="429"/>
                </a:lnTo>
                <a:lnTo>
                  <a:pt x="543" y="543"/>
                </a:lnTo>
                <a:lnTo>
                  <a:pt x="593" y="586"/>
                </a:lnTo>
                <a:lnTo>
                  <a:pt x="564" y="625"/>
                </a:lnTo>
                <a:lnTo>
                  <a:pt x="465" y="543"/>
                </a:lnTo>
                <a:lnTo>
                  <a:pt x="316" y="486"/>
                </a:lnTo>
                <a:lnTo>
                  <a:pt x="246" y="557"/>
                </a:lnTo>
                <a:lnTo>
                  <a:pt x="173" y="609"/>
                </a:lnTo>
                <a:lnTo>
                  <a:pt x="110" y="614"/>
                </a:lnTo>
                <a:lnTo>
                  <a:pt x="48" y="609"/>
                </a:lnTo>
                <a:lnTo>
                  <a:pt x="20" y="567"/>
                </a:lnTo>
                <a:lnTo>
                  <a:pt x="0" y="472"/>
                </a:lnTo>
                <a:lnTo>
                  <a:pt x="0" y="366"/>
                </a:lnTo>
                <a:lnTo>
                  <a:pt x="23" y="286"/>
                </a:lnTo>
                <a:lnTo>
                  <a:pt x="106" y="157"/>
                </a:lnTo>
                <a:lnTo>
                  <a:pt x="198" y="71"/>
                </a:lnTo>
                <a:lnTo>
                  <a:pt x="259" y="24"/>
                </a:lnTo>
                <a:lnTo>
                  <a:pt x="316" y="10"/>
                </a:lnTo>
                <a:lnTo>
                  <a:pt x="29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2" name=""/>
          <p:cNvSpPr/>
          <p:nvPr/>
        </p:nvSpPr>
        <p:spPr>
          <a:xfrm flipH="1" rot="21206400">
            <a:off x="7273800" y="4984560"/>
            <a:ext cx="244440" cy="117000"/>
          </a:xfrm>
          <a:custGeom>
            <a:avLst/>
            <a:gdLst/>
            <a:ahLst/>
            <a:rect l="l" t="t" r="r" b="b"/>
            <a:pathLst>
              <a:path w="1224" h="545">
                <a:moveTo>
                  <a:pt x="13" y="0"/>
                </a:moveTo>
                <a:lnTo>
                  <a:pt x="128" y="15"/>
                </a:lnTo>
                <a:lnTo>
                  <a:pt x="338" y="110"/>
                </a:lnTo>
                <a:lnTo>
                  <a:pt x="519" y="187"/>
                </a:lnTo>
                <a:lnTo>
                  <a:pt x="722" y="253"/>
                </a:lnTo>
                <a:lnTo>
                  <a:pt x="866" y="325"/>
                </a:lnTo>
                <a:lnTo>
                  <a:pt x="1064" y="402"/>
                </a:lnTo>
                <a:lnTo>
                  <a:pt x="1224" y="473"/>
                </a:lnTo>
                <a:lnTo>
                  <a:pt x="1216" y="501"/>
                </a:lnTo>
                <a:lnTo>
                  <a:pt x="1167" y="515"/>
                </a:lnTo>
                <a:lnTo>
                  <a:pt x="1026" y="439"/>
                </a:lnTo>
                <a:lnTo>
                  <a:pt x="1018" y="487"/>
                </a:lnTo>
                <a:lnTo>
                  <a:pt x="981" y="530"/>
                </a:lnTo>
                <a:lnTo>
                  <a:pt x="928" y="545"/>
                </a:lnTo>
                <a:lnTo>
                  <a:pt x="870" y="511"/>
                </a:lnTo>
                <a:lnTo>
                  <a:pt x="828" y="468"/>
                </a:lnTo>
                <a:lnTo>
                  <a:pt x="833" y="402"/>
                </a:lnTo>
                <a:lnTo>
                  <a:pt x="845" y="368"/>
                </a:lnTo>
                <a:lnTo>
                  <a:pt x="709" y="301"/>
                </a:lnTo>
                <a:lnTo>
                  <a:pt x="644" y="287"/>
                </a:lnTo>
                <a:lnTo>
                  <a:pt x="519" y="258"/>
                </a:lnTo>
                <a:lnTo>
                  <a:pt x="351" y="197"/>
                </a:lnTo>
                <a:lnTo>
                  <a:pt x="215" y="129"/>
                </a:lnTo>
                <a:lnTo>
                  <a:pt x="117" y="101"/>
                </a:lnTo>
                <a:lnTo>
                  <a:pt x="13" y="110"/>
                </a:lnTo>
                <a:lnTo>
                  <a:pt x="0" y="39"/>
                </a:lnTo>
                <a:lnTo>
                  <a:pt x="42" y="0"/>
                </a:lnTo>
                <a:lnTo>
                  <a:pt x="67" y="0"/>
                </a:lnTo>
                <a:lnTo>
                  <a:pt x="1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3" name=""/>
          <p:cNvSpPr/>
          <p:nvPr/>
        </p:nvSpPr>
        <p:spPr>
          <a:xfrm flipH="1">
            <a:off x="7501680" y="4950000"/>
            <a:ext cx="81000" cy="252360"/>
          </a:xfrm>
          <a:custGeom>
            <a:avLst/>
            <a:gdLst/>
            <a:ahLst/>
            <a:rect l="l" t="t" r="r" b="b"/>
            <a:pathLst>
              <a:path w="403" h="1168">
                <a:moveTo>
                  <a:pt x="230" y="0"/>
                </a:moveTo>
                <a:lnTo>
                  <a:pt x="283" y="0"/>
                </a:lnTo>
                <a:lnTo>
                  <a:pt x="329" y="24"/>
                </a:lnTo>
                <a:lnTo>
                  <a:pt x="378" y="96"/>
                </a:lnTo>
                <a:lnTo>
                  <a:pt x="394" y="186"/>
                </a:lnTo>
                <a:lnTo>
                  <a:pt x="403" y="410"/>
                </a:lnTo>
                <a:lnTo>
                  <a:pt x="391" y="601"/>
                </a:lnTo>
                <a:lnTo>
                  <a:pt x="353" y="796"/>
                </a:lnTo>
                <a:lnTo>
                  <a:pt x="304" y="997"/>
                </a:lnTo>
                <a:lnTo>
                  <a:pt x="246" y="1116"/>
                </a:lnTo>
                <a:lnTo>
                  <a:pt x="173" y="1168"/>
                </a:lnTo>
                <a:lnTo>
                  <a:pt x="111" y="1168"/>
                </a:lnTo>
                <a:lnTo>
                  <a:pt x="37" y="1116"/>
                </a:lnTo>
                <a:lnTo>
                  <a:pt x="8" y="1039"/>
                </a:lnTo>
                <a:lnTo>
                  <a:pt x="0" y="902"/>
                </a:lnTo>
                <a:lnTo>
                  <a:pt x="8" y="730"/>
                </a:lnTo>
                <a:lnTo>
                  <a:pt x="45" y="516"/>
                </a:lnTo>
                <a:lnTo>
                  <a:pt x="95" y="253"/>
                </a:lnTo>
                <a:lnTo>
                  <a:pt x="156" y="52"/>
                </a:lnTo>
                <a:lnTo>
                  <a:pt x="193" y="24"/>
                </a:lnTo>
                <a:lnTo>
                  <a:pt x="23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4" name=""/>
          <p:cNvSpPr/>
          <p:nvPr/>
        </p:nvSpPr>
        <p:spPr>
          <a:xfrm flipH="1">
            <a:off x="7553160" y="4937040"/>
            <a:ext cx="114480" cy="230400"/>
          </a:xfrm>
          <a:custGeom>
            <a:avLst/>
            <a:gdLst/>
            <a:ahLst/>
            <a:rect l="l" t="t" r="r" b="b"/>
            <a:pathLst>
              <a:path w="570" h="1072">
                <a:moveTo>
                  <a:pt x="433" y="42"/>
                </a:moveTo>
                <a:lnTo>
                  <a:pt x="495" y="0"/>
                </a:lnTo>
                <a:lnTo>
                  <a:pt x="540" y="0"/>
                </a:lnTo>
                <a:lnTo>
                  <a:pt x="570" y="33"/>
                </a:lnTo>
                <a:lnTo>
                  <a:pt x="553" y="99"/>
                </a:lnTo>
                <a:lnTo>
                  <a:pt x="516" y="142"/>
                </a:lnTo>
                <a:lnTo>
                  <a:pt x="446" y="184"/>
                </a:lnTo>
                <a:lnTo>
                  <a:pt x="309" y="247"/>
                </a:lnTo>
                <a:lnTo>
                  <a:pt x="136" y="356"/>
                </a:lnTo>
                <a:lnTo>
                  <a:pt x="70" y="361"/>
                </a:lnTo>
                <a:lnTo>
                  <a:pt x="107" y="462"/>
                </a:lnTo>
                <a:lnTo>
                  <a:pt x="181" y="571"/>
                </a:lnTo>
                <a:lnTo>
                  <a:pt x="243" y="705"/>
                </a:lnTo>
                <a:lnTo>
                  <a:pt x="268" y="842"/>
                </a:lnTo>
                <a:lnTo>
                  <a:pt x="256" y="886"/>
                </a:lnTo>
                <a:lnTo>
                  <a:pt x="218" y="914"/>
                </a:lnTo>
                <a:lnTo>
                  <a:pt x="168" y="933"/>
                </a:lnTo>
                <a:lnTo>
                  <a:pt x="120" y="976"/>
                </a:lnTo>
                <a:lnTo>
                  <a:pt x="99" y="1019"/>
                </a:lnTo>
                <a:lnTo>
                  <a:pt x="87" y="1072"/>
                </a:lnTo>
                <a:lnTo>
                  <a:pt x="49" y="1072"/>
                </a:lnTo>
                <a:lnTo>
                  <a:pt x="37" y="1033"/>
                </a:lnTo>
                <a:lnTo>
                  <a:pt x="62" y="971"/>
                </a:lnTo>
                <a:lnTo>
                  <a:pt x="132" y="929"/>
                </a:lnTo>
                <a:lnTo>
                  <a:pt x="173" y="886"/>
                </a:lnTo>
                <a:lnTo>
                  <a:pt x="210" y="862"/>
                </a:lnTo>
                <a:lnTo>
                  <a:pt x="223" y="818"/>
                </a:lnTo>
                <a:lnTo>
                  <a:pt x="206" y="705"/>
                </a:lnTo>
                <a:lnTo>
                  <a:pt x="148" y="618"/>
                </a:lnTo>
                <a:lnTo>
                  <a:pt x="99" y="542"/>
                </a:lnTo>
                <a:lnTo>
                  <a:pt x="37" y="457"/>
                </a:lnTo>
                <a:lnTo>
                  <a:pt x="0" y="375"/>
                </a:lnTo>
                <a:lnTo>
                  <a:pt x="0" y="328"/>
                </a:lnTo>
                <a:lnTo>
                  <a:pt x="32" y="304"/>
                </a:lnTo>
                <a:lnTo>
                  <a:pt x="160" y="219"/>
                </a:lnTo>
                <a:lnTo>
                  <a:pt x="285" y="142"/>
                </a:lnTo>
                <a:lnTo>
                  <a:pt x="409" y="71"/>
                </a:lnTo>
                <a:lnTo>
                  <a:pt x="433" y="4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5" name=""/>
          <p:cNvSpPr/>
          <p:nvPr/>
        </p:nvSpPr>
        <p:spPr>
          <a:xfrm flipH="1">
            <a:off x="7481880" y="5180040"/>
            <a:ext cx="76320" cy="249120"/>
          </a:xfrm>
          <a:custGeom>
            <a:avLst/>
            <a:gdLst/>
            <a:ahLst/>
            <a:rect l="l" t="t" r="r" b="b"/>
            <a:pathLst>
              <a:path w="379" h="1164">
                <a:moveTo>
                  <a:pt x="70" y="134"/>
                </a:moveTo>
                <a:lnTo>
                  <a:pt x="20" y="57"/>
                </a:lnTo>
                <a:lnTo>
                  <a:pt x="37" y="0"/>
                </a:lnTo>
                <a:lnTo>
                  <a:pt x="87" y="0"/>
                </a:lnTo>
                <a:lnTo>
                  <a:pt x="145" y="62"/>
                </a:lnTo>
                <a:lnTo>
                  <a:pt x="218" y="191"/>
                </a:lnTo>
                <a:lnTo>
                  <a:pt x="260" y="316"/>
                </a:lnTo>
                <a:lnTo>
                  <a:pt x="296" y="434"/>
                </a:lnTo>
                <a:lnTo>
                  <a:pt x="309" y="544"/>
                </a:lnTo>
                <a:lnTo>
                  <a:pt x="305" y="601"/>
                </a:lnTo>
                <a:lnTo>
                  <a:pt x="268" y="672"/>
                </a:lnTo>
                <a:lnTo>
                  <a:pt x="206" y="863"/>
                </a:lnTo>
                <a:lnTo>
                  <a:pt x="136" y="973"/>
                </a:lnTo>
                <a:lnTo>
                  <a:pt x="120" y="1021"/>
                </a:lnTo>
                <a:lnTo>
                  <a:pt x="186" y="1030"/>
                </a:lnTo>
                <a:lnTo>
                  <a:pt x="273" y="1030"/>
                </a:lnTo>
                <a:lnTo>
                  <a:pt x="379" y="1074"/>
                </a:lnTo>
                <a:lnTo>
                  <a:pt x="371" y="1107"/>
                </a:lnTo>
                <a:lnTo>
                  <a:pt x="354" y="1145"/>
                </a:lnTo>
                <a:lnTo>
                  <a:pt x="321" y="1164"/>
                </a:lnTo>
                <a:lnTo>
                  <a:pt x="256" y="1135"/>
                </a:lnTo>
                <a:lnTo>
                  <a:pt x="186" y="1093"/>
                </a:lnTo>
                <a:lnTo>
                  <a:pt x="87" y="1088"/>
                </a:lnTo>
                <a:lnTo>
                  <a:pt x="25" y="1102"/>
                </a:lnTo>
                <a:lnTo>
                  <a:pt x="0" y="1079"/>
                </a:lnTo>
                <a:lnTo>
                  <a:pt x="0" y="1044"/>
                </a:lnTo>
                <a:lnTo>
                  <a:pt x="33" y="1006"/>
                </a:lnTo>
                <a:lnTo>
                  <a:pt x="87" y="945"/>
                </a:lnTo>
                <a:lnTo>
                  <a:pt x="181" y="787"/>
                </a:lnTo>
                <a:lnTo>
                  <a:pt x="223" y="648"/>
                </a:lnTo>
                <a:lnTo>
                  <a:pt x="235" y="516"/>
                </a:lnTo>
                <a:lnTo>
                  <a:pt x="231" y="444"/>
                </a:lnTo>
                <a:lnTo>
                  <a:pt x="198" y="316"/>
                </a:lnTo>
                <a:lnTo>
                  <a:pt x="111" y="177"/>
                </a:lnTo>
                <a:lnTo>
                  <a:pt x="50" y="106"/>
                </a:lnTo>
                <a:lnTo>
                  <a:pt x="70" y="13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6" name=""/>
          <p:cNvSpPr/>
          <p:nvPr/>
        </p:nvSpPr>
        <p:spPr>
          <a:xfrm flipH="1">
            <a:off x="7563600" y="5164200"/>
            <a:ext cx="111240" cy="274680"/>
          </a:xfrm>
          <a:custGeom>
            <a:avLst/>
            <a:gdLst/>
            <a:ahLst/>
            <a:rect l="l" t="t" r="r" b="b"/>
            <a:pathLst>
              <a:path w="557" h="1282">
                <a:moveTo>
                  <a:pt x="326" y="224"/>
                </a:moveTo>
                <a:lnTo>
                  <a:pt x="408" y="100"/>
                </a:lnTo>
                <a:lnTo>
                  <a:pt x="482" y="0"/>
                </a:lnTo>
                <a:lnTo>
                  <a:pt x="532" y="10"/>
                </a:lnTo>
                <a:lnTo>
                  <a:pt x="557" y="52"/>
                </a:lnTo>
                <a:lnTo>
                  <a:pt x="557" y="129"/>
                </a:lnTo>
                <a:lnTo>
                  <a:pt x="511" y="172"/>
                </a:lnTo>
                <a:lnTo>
                  <a:pt x="433" y="229"/>
                </a:lnTo>
                <a:lnTo>
                  <a:pt x="371" y="300"/>
                </a:lnTo>
                <a:lnTo>
                  <a:pt x="301" y="396"/>
                </a:lnTo>
                <a:lnTo>
                  <a:pt x="273" y="467"/>
                </a:lnTo>
                <a:lnTo>
                  <a:pt x="240" y="554"/>
                </a:lnTo>
                <a:lnTo>
                  <a:pt x="223" y="667"/>
                </a:lnTo>
                <a:lnTo>
                  <a:pt x="223" y="773"/>
                </a:lnTo>
                <a:lnTo>
                  <a:pt x="240" y="901"/>
                </a:lnTo>
                <a:lnTo>
                  <a:pt x="285" y="1025"/>
                </a:lnTo>
                <a:lnTo>
                  <a:pt x="321" y="1096"/>
                </a:lnTo>
                <a:lnTo>
                  <a:pt x="346" y="1144"/>
                </a:lnTo>
                <a:lnTo>
                  <a:pt x="346" y="1183"/>
                </a:lnTo>
                <a:lnTo>
                  <a:pt x="321" y="1197"/>
                </a:lnTo>
                <a:lnTo>
                  <a:pt x="265" y="1197"/>
                </a:lnTo>
                <a:lnTo>
                  <a:pt x="173" y="1216"/>
                </a:lnTo>
                <a:lnTo>
                  <a:pt x="103" y="1244"/>
                </a:lnTo>
                <a:lnTo>
                  <a:pt x="62" y="1282"/>
                </a:lnTo>
                <a:lnTo>
                  <a:pt x="25" y="1268"/>
                </a:lnTo>
                <a:lnTo>
                  <a:pt x="0" y="1216"/>
                </a:lnTo>
                <a:lnTo>
                  <a:pt x="4" y="1172"/>
                </a:lnTo>
                <a:lnTo>
                  <a:pt x="74" y="1139"/>
                </a:lnTo>
                <a:lnTo>
                  <a:pt x="185" y="1129"/>
                </a:lnTo>
                <a:lnTo>
                  <a:pt x="288" y="1129"/>
                </a:lnTo>
                <a:lnTo>
                  <a:pt x="248" y="1072"/>
                </a:lnTo>
                <a:lnTo>
                  <a:pt x="227" y="1001"/>
                </a:lnTo>
                <a:lnTo>
                  <a:pt x="198" y="901"/>
                </a:lnTo>
                <a:lnTo>
                  <a:pt x="165" y="796"/>
                </a:lnTo>
                <a:lnTo>
                  <a:pt x="165" y="672"/>
                </a:lnTo>
                <a:lnTo>
                  <a:pt x="173" y="554"/>
                </a:lnTo>
                <a:lnTo>
                  <a:pt x="210" y="443"/>
                </a:lnTo>
                <a:lnTo>
                  <a:pt x="276" y="300"/>
                </a:lnTo>
                <a:lnTo>
                  <a:pt x="326" y="22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7" name=""/>
          <p:cNvSpPr/>
          <p:nvPr/>
        </p:nvSpPr>
        <p:spPr>
          <a:xfrm>
            <a:off x="6724800" y="5380200"/>
            <a:ext cx="0" cy="2872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48" name=""/>
          <p:cNvGrpSpPr/>
          <p:nvPr/>
        </p:nvGrpSpPr>
        <p:grpSpPr>
          <a:xfrm>
            <a:off x="7399080" y="3919680"/>
            <a:ext cx="222120" cy="610920"/>
            <a:chOff x="7399080" y="3919680"/>
            <a:chExt cx="222120" cy="610920"/>
          </a:xfrm>
        </p:grpSpPr>
        <p:sp>
          <p:nvSpPr>
            <p:cNvPr id="9149" name=""/>
            <p:cNvSpPr/>
            <p:nvPr/>
          </p:nvSpPr>
          <p:spPr>
            <a:xfrm flipH="1">
              <a:off x="7457400" y="3919680"/>
              <a:ext cx="122400" cy="135720"/>
            </a:xfrm>
            <a:custGeom>
              <a:avLst/>
              <a:gdLst/>
              <a:ahLst/>
              <a:rect l="l" t="t" r="r" b="b"/>
              <a:pathLst>
                <a:path w="490" h="538">
                  <a:moveTo>
                    <a:pt x="121" y="0"/>
                  </a:moveTo>
                  <a:lnTo>
                    <a:pt x="202" y="0"/>
                  </a:lnTo>
                  <a:lnTo>
                    <a:pt x="282" y="32"/>
                  </a:lnTo>
                  <a:lnTo>
                    <a:pt x="329" y="59"/>
                  </a:lnTo>
                  <a:lnTo>
                    <a:pt x="362" y="156"/>
                  </a:lnTo>
                  <a:lnTo>
                    <a:pt x="383" y="215"/>
                  </a:lnTo>
                  <a:lnTo>
                    <a:pt x="463" y="150"/>
                  </a:lnTo>
                  <a:lnTo>
                    <a:pt x="490" y="156"/>
                  </a:lnTo>
                  <a:lnTo>
                    <a:pt x="484" y="187"/>
                  </a:lnTo>
                  <a:lnTo>
                    <a:pt x="383" y="292"/>
                  </a:lnTo>
                  <a:lnTo>
                    <a:pt x="383" y="369"/>
                  </a:lnTo>
                  <a:lnTo>
                    <a:pt x="362" y="447"/>
                  </a:lnTo>
                  <a:lnTo>
                    <a:pt x="329" y="506"/>
                  </a:lnTo>
                  <a:lnTo>
                    <a:pt x="282" y="538"/>
                  </a:lnTo>
                  <a:lnTo>
                    <a:pt x="222" y="538"/>
                  </a:lnTo>
                  <a:lnTo>
                    <a:pt x="140" y="506"/>
                  </a:lnTo>
                  <a:lnTo>
                    <a:pt x="87" y="441"/>
                  </a:lnTo>
                  <a:lnTo>
                    <a:pt x="41" y="343"/>
                  </a:lnTo>
                  <a:lnTo>
                    <a:pt x="6" y="252"/>
                  </a:lnTo>
                  <a:lnTo>
                    <a:pt x="0" y="130"/>
                  </a:lnTo>
                  <a:lnTo>
                    <a:pt x="20" y="71"/>
                  </a:lnTo>
                  <a:lnTo>
                    <a:pt x="47" y="32"/>
                  </a:lnTo>
                  <a:lnTo>
                    <a:pt x="12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0" name=""/>
            <p:cNvSpPr/>
            <p:nvPr/>
          </p:nvSpPr>
          <p:spPr>
            <a:xfrm flipH="1">
              <a:off x="7468200" y="4072320"/>
              <a:ext cx="86400" cy="234000"/>
            </a:xfrm>
            <a:custGeom>
              <a:avLst/>
              <a:gdLst/>
              <a:ahLst/>
              <a:rect l="l" t="t" r="r" b="b"/>
              <a:pathLst>
                <a:path w="347" h="929">
                  <a:moveTo>
                    <a:pt x="47" y="32"/>
                  </a:moveTo>
                  <a:lnTo>
                    <a:pt x="100" y="0"/>
                  </a:lnTo>
                  <a:lnTo>
                    <a:pt x="180" y="0"/>
                  </a:lnTo>
                  <a:lnTo>
                    <a:pt x="240" y="20"/>
                  </a:lnTo>
                  <a:lnTo>
                    <a:pt x="281" y="89"/>
                  </a:lnTo>
                  <a:lnTo>
                    <a:pt x="320" y="206"/>
                  </a:lnTo>
                  <a:lnTo>
                    <a:pt x="341" y="334"/>
                  </a:lnTo>
                  <a:lnTo>
                    <a:pt x="347" y="486"/>
                  </a:lnTo>
                  <a:lnTo>
                    <a:pt x="347" y="660"/>
                  </a:lnTo>
                  <a:lnTo>
                    <a:pt x="320" y="800"/>
                  </a:lnTo>
                  <a:lnTo>
                    <a:pt x="281" y="877"/>
                  </a:lnTo>
                  <a:lnTo>
                    <a:pt x="187" y="929"/>
                  </a:lnTo>
                  <a:lnTo>
                    <a:pt x="140" y="917"/>
                  </a:lnTo>
                  <a:lnTo>
                    <a:pt x="80" y="858"/>
                  </a:lnTo>
                  <a:lnTo>
                    <a:pt x="60" y="775"/>
                  </a:lnTo>
                  <a:lnTo>
                    <a:pt x="41" y="621"/>
                  </a:lnTo>
                  <a:lnTo>
                    <a:pt x="60" y="512"/>
                  </a:lnTo>
                  <a:lnTo>
                    <a:pt x="60" y="397"/>
                  </a:lnTo>
                  <a:lnTo>
                    <a:pt x="27" y="320"/>
                  </a:lnTo>
                  <a:lnTo>
                    <a:pt x="0" y="218"/>
                  </a:lnTo>
                  <a:lnTo>
                    <a:pt x="0" y="109"/>
                  </a:lnTo>
                  <a:lnTo>
                    <a:pt x="47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1" name=""/>
            <p:cNvSpPr/>
            <p:nvPr/>
          </p:nvSpPr>
          <p:spPr>
            <a:xfrm flipH="1">
              <a:off x="7398720" y="4080960"/>
              <a:ext cx="114840" cy="231480"/>
            </a:xfrm>
            <a:custGeom>
              <a:avLst/>
              <a:gdLst/>
              <a:ahLst/>
              <a:rect l="l" t="t" r="r" b="b"/>
              <a:pathLst>
                <a:path w="460" h="918">
                  <a:moveTo>
                    <a:pt x="53" y="0"/>
                  </a:moveTo>
                  <a:lnTo>
                    <a:pt x="201" y="32"/>
                  </a:lnTo>
                  <a:lnTo>
                    <a:pt x="314" y="109"/>
                  </a:lnTo>
                  <a:lnTo>
                    <a:pt x="400" y="237"/>
                  </a:lnTo>
                  <a:lnTo>
                    <a:pt x="454" y="359"/>
                  </a:lnTo>
                  <a:lnTo>
                    <a:pt x="460" y="494"/>
                  </a:lnTo>
                  <a:lnTo>
                    <a:pt x="419" y="584"/>
                  </a:lnTo>
                  <a:lnTo>
                    <a:pt x="320" y="642"/>
                  </a:lnTo>
                  <a:lnTo>
                    <a:pt x="240" y="681"/>
                  </a:lnTo>
                  <a:lnTo>
                    <a:pt x="240" y="719"/>
                  </a:lnTo>
                  <a:lnTo>
                    <a:pt x="293" y="764"/>
                  </a:lnTo>
                  <a:lnTo>
                    <a:pt x="320" y="860"/>
                  </a:lnTo>
                  <a:lnTo>
                    <a:pt x="293" y="918"/>
                  </a:lnTo>
                  <a:lnTo>
                    <a:pt x="259" y="892"/>
                  </a:lnTo>
                  <a:lnTo>
                    <a:pt x="259" y="841"/>
                  </a:lnTo>
                  <a:lnTo>
                    <a:pt x="234" y="764"/>
                  </a:lnTo>
                  <a:lnTo>
                    <a:pt x="193" y="719"/>
                  </a:lnTo>
                  <a:lnTo>
                    <a:pt x="179" y="661"/>
                  </a:lnTo>
                  <a:lnTo>
                    <a:pt x="240" y="622"/>
                  </a:lnTo>
                  <a:lnTo>
                    <a:pt x="353" y="545"/>
                  </a:lnTo>
                  <a:lnTo>
                    <a:pt x="400" y="476"/>
                  </a:lnTo>
                  <a:lnTo>
                    <a:pt x="400" y="399"/>
                  </a:lnTo>
                  <a:lnTo>
                    <a:pt x="339" y="282"/>
                  </a:lnTo>
                  <a:lnTo>
                    <a:pt x="240" y="180"/>
                  </a:lnTo>
                  <a:lnTo>
                    <a:pt x="179" y="128"/>
                  </a:lnTo>
                  <a:lnTo>
                    <a:pt x="93" y="109"/>
                  </a:lnTo>
                  <a:lnTo>
                    <a:pt x="0" y="83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2" name=""/>
            <p:cNvSpPr/>
            <p:nvPr/>
          </p:nvSpPr>
          <p:spPr>
            <a:xfrm flipH="1">
              <a:off x="7536240" y="4079880"/>
              <a:ext cx="84600" cy="217080"/>
            </a:xfrm>
            <a:custGeom>
              <a:avLst/>
              <a:gdLst/>
              <a:ahLst/>
              <a:rect l="l" t="t" r="r" b="b"/>
              <a:pathLst>
                <a:path w="341" h="861">
                  <a:moveTo>
                    <a:pt x="214" y="39"/>
                  </a:moveTo>
                  <a:lnTo>
                    <a:pt x="281" y="0"/>
                  </a:lnTo>
                  <a:lnTo>
                    <a:pt x="341" y="6"/>
                  </a:lnTo>
                  <a:lnTo>
                    <a:pt x="335" y="77"/>
                  </a:lnTo>
                  <a:lnTo>
                    <a:pt x="294" y="116"/>
                  </a:lnTo>
                  <a:lnTo>
                    <a:pt x="234" y="148"/>
                  </a:lnTo>
                  <a:lnTo>
                    <a:pt x="160" y="231"/>
                  </a:lnTo>
                  <a:lnTo>
                    <a:pt x="80" y="347"/>
                  </a:lnTo>
                  <a:lnTo>
                    <a:pt x="60" y="443"/>
                  </a:lnTo>
                  <a:lnTo>
                    <a:pt x="74" y="501"/>
                  </a:lnTo>
                  <a:lnTo>
                    <a:pt x="94" y="534"/>
                  </a:lnTo>
                  <a:lnTo>
                    <a:pt x="181" y="572"/>
                  </a:lnTo>
                  <a:lnTo>
                    <a:pt x="261" y="597"/>
                  </a:lnTo>
                  <a:lnTo>
                    <a:pt x="294" y="630"/>
                  </a:lnTo>
                  <a:lnTo>
                    <a:pt x="300" y="656"/>
                  </a:lnTo>
                  <a:lnTo>
                    <a:pt x="253" y="707"/>
                  </a:lnTo>
                  <a:lnTo>
                    <a:pt x="234" y="771"/>
                  </a:lnTo>
                  <a:lnTo>
                    <a:pt x="214" y="861"/>
                  </a:lnTo>
                  <a:lnTo>
                    <a:pt x="173" y="848"/>
                  </a:lnTo>
                  <a:lnTo>
                    <a:pt x="173" y="784"/>
                  </a:lnTo>
                  <a:lnTo>
                    <a:pt x="195" y="688"/>
                  </a:lnTo>
                  <a:lnTo>
                    <a:pt x="234" y="649"/>
                  </a:lnTo>
                  <a:lnTo>
                    <a:pt x="160" y="611"/>
                  </a:lnTo>
                  <a:lnTo>
                    <a:pt x="74" y="572"/>
                  </a:lnTo>
                  <a:lnTo>
                    <a:pt x="0" y="514"/>
                  </a:lnTo>
                  <a:lnTo>
                    <a:pt x="0" y="443"/>
                  </a:lnTo>
                  <a:lnTo>
                    <a:pt x="20" y="321"/>
                  </a:lnTo>
                  <a:lnTo>
                    <a:pt x="80" y="205"/>
                  </a:lnTo>
                  <a:lnTo>
                    <a:pt x="154" y="108"/>
                  </a:lnTo>
                  <a:lnTo>
                    <a:pt x="214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3" name=""/>
            <p:cNvSpPr/>
            <p:nvPr/>
          </p:nvSpPr>
          <p:spPr>
            <a:xfrm flipH="1">
              <a:off x="7406280" y="4271400"/>
              <a:ext cx="100800" cy="259200"/>
            </a:xfrm>
            <a:custGeom>
              <a:avLst/>
              <a:gdLst/>
              <a:ahLst/>
              <a:rect l="l" t="t" r="r" b="b"/>
              <a:pathLst>
                <a:path w="402" h="1028">
                  <a:moveTo>
                    <a:pt x="27" y="0"/>
                  </a:moveTo>
                  <a:lnTo>
                    <a:pt x="120" y="38"/>
                  </a:lnTo>
                  <a:lnTo>
                    <a:pt x="167" y="135"/>
                  </a:lnTo>
                  <a:lnTo>
                    <a:pt x="181" y="307"/>
                  </a:lnTo>
                  <a:lnTo>
                    <a:pt x="167" y="593"/>
                  </a:lnTo>
                  <a:lnTo>
                    <a:pt x="128" y="817"/>
                  </a:lnTo>
                  <a:lnTo>
                    <a:pt x="107" y="913"/>
                  </a:lnTo>
                  <a:lnTo>
                    <a:pt x="147" y="933"/>
                  </a:lnTo>
                  <a:lnTo>
                    <a:pt x="227" y="856"/>
                  </a:lnTo>
                  <a:lnTo>
                    <a:pt x="322" y="799"/>
                  </a:lnTo>
                  <a:lnTo>
                    <a:pt x="348" y="805"/>
                  </a:lnTo>
                  <a:lnTo>
                    <a:pt x="402" y="842"/>
                  </a:lnTo>
                  <a:lnTo>
                    <a:pt x="402" y="862"/>
                  </a:lnTo>
                  <a:lnTo>
                    <a:pt x="288" y="913"/>
                  </a:lnTo>
                  <a:lnTo>
                    <a:pt x="167" y="977"/>
                  </a:lnTo>
                  <a:lnTo>
                    <a:pt x="68" y="1028"/>
                  </a:lnTo>
                  <a:lnTo>
                    <a:pt x="19" y="1016"/>
                  </a:lnTo>
                  <a:lnTo>
                    <a:pt x="19" y="957"/>
                  </a:lnTo>
                  <a:lnTo>
                    <a:pt x="60" y="874"/>
                  </a:lnTo>
                  <a:lnTo>
                    <a:pt x="87" y="702"/>
                  </a:lnTo>
                  <a:lnTo>
                    <a:pt x="107" y="498"/>
                  </a:lnTo>
                  <a:lnTo>
                    <a:pt x="120" y="269"/>
                  </a:lnTo>
                  <a:lnTo>
                    <a:pt x="68" y="129"/>
                  </a:lnTo>
                  <a:lnTo>
                    <a:pt x="0" y="71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4" name=""/>
            <p:cNvSpPr/>
            <p:nvPr/>
          </p:nvSpPr>
          <p:spPr>
            <a:xfrm flipH="1">
              <a:off x="7501320" y="4245120"/>
              <a:ext cx="77040" cy="283680"/>
            </a:xfrm>
            <a:custGeom>
              <a:avLst/>
              <a:gdLst/>
              <a:ahLst/>
              <a:rect l="l" t="t" r="r" b="b"/>
              <a:pathLst>
                <a:path w="309" h="1127">
                  <a:moveTo>
                    <a:pt x="124" y="223"/>
                  </a:moveTo>
                  <a:lnTo>
                    <a:pt x="207" y="51"/>
                  </a:lnTo>
                  <a:lnTo>
                    <a:pt x="282" y="0"/>
                  </a:lnTo>
                  <a:lnTo>
                    <a:pt x="309" y="32"/>
                  </a:lnTo>
                  <a:lnTo>
                    <a:pt x="288" y="89"/>
                  </a:lnTo>
                  <a:lnTo>
                    <a:pt x="207" y="230"/>
                  </a:lnTo>
                  <a:lnTo>
                    <a:pt x="145" y="376"/>
                  </a:lnTo>
                  <a:lnTo>
                    <a:pt x="103" y="586"/>
                  </a:lnTo>
                  <a:lnTo>
                    <a:pt x="75" y="821"/>
                  </a:lnTo>
                  <a:lnTo>
                    <a:pt x="75" y="1025"/>
                  </a:lnTo>
                  <a:lnTo>
                    <a:pt x="97" y="1007"/>
                  </a:lnTo>
                  <a:lnTo>
                    <a:pt x="145" y="930"/>
                  </a:lnTo>
                  <a:lnTo>
                    <a:pt x="164" y="815"/>
                  </a:lnTo>
                  <a:lnTo>
                    <a:pt x="207" y="815"/>
                  </a:lnTo>
                  <a:lnTo>
                    <a:pt x="261" y="841"/>
                  </a:lnTo>
                  <a:lnTo>
                    <a:pt x="226" y="936"/>
                  </a:lnTo>
                  <a:lnTo>
                    <a:pt x="145" y="1032"/>
                  </a:lnTo>
                  <a:lnTo>
                    <a:pt x="62" y="1127"/>
                  </a:lnTo>
                  <a:lnTo>
                    <a:pt x="21" y="1127"/>
                  </a:lnTo>
                  <a:lnTo>
                    <a:pt x="0" y="1090"/>
                  </a:lnTo>
                  <a:lnTo>
                    <a:pt x="0" y="1007"/>
                  </a:lnTo>
                  <a:lnTo>
                    <a:pt x="14" y="764"/>
                  </a:lnTo>
                  <a:lnTo>
                    <a:pt x="35" y="516"/>
                  </a:lnTo>
                  <a:lnTo>
                    <a:pt x="62" y="338"/>
                  </a:lnTo>
                  <a:lnTo>
                    <a:pt x="124" y="2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55" name=""/>
          <p:cNvGrpSpPr/>
          <p:nvPr/>
        </p:nvGrpSpPr>
        <p:grpSpPr>
          <a:xfrm>
            <a:off x="7000920" y="3662280"/>
            <a:ext cx="422280" cy="446040"/>
            <a:chOff x="7000920" y="3662280"/>
            <a:chExt cx="422280" cy="446040"/>
          </a:xfrm>
        </p:grpSpPr>
        <p:sp>
          <p:nvSpPr>
            <p:cNvPr id="9156" name=""/>
            <p:cNvSpPr/>
            <p:nvPr/>
          </p:nvSpPr>
          <p:spPr>
            <a:xfrm>
              <a:off x="7000920" y="3662280"/>
              <a:ext cx="422280" cy="4460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157" name=""/>
            <p:cNvGrpSpPr/>
            <p:nvPr/>
          </p:nvGrpSpPr>
          <p:grpSpPr>
            <a:xfrm>
              <a:off x="7016760" y="3687840"/>
              <a:ext cx="378000" cy="403200"/>
              <a:chOff x="7016760" y="3687840"/>
              <a:chExt cx="378000" cy="403200"/>
            </a:xfrm>
          </p:grpSpPr>
          <p:sp>
            <p:nvSpPr>
              <p:cNvPr id="9158" name=""/>
              <p:cNvSpPr/>
              <p:nvPr/>
            </p:nvSpPr>
            <p:spPr>
              <a:xfrm>
                <a:off x="7016760" y="3687840"/>
                <a:ext cx="378000" cy="4032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9" name=""/>
              <p:cNvSpPr/>
              <p:nvPr/>
            </p:nvSpPr>
            <p:spPr>
              <a:xfrm rot="18621000">
                <a:off x="7083000" y="3846960"/>
                <a:ext cx="113400" cy="173520"/>
              </a:xfrm>
              <a:custGeom>
                <a:avLst/>
                <a:gdLst/>
                <a:ahLst/>
                <a:rect l="l" t="t" r="r" b="b"/>
                <a:pathLst>
                  <a:path w="406" h="695">
                    <a:moveTo>
                      <a:pt x="406" y="610"/>
                    </a:moveTo>
                    <a:lnTo>
                      <a:pt x="154" y="230"/>
                    </a:lnTo>
                    <a:lnTo>
                      <a:pt x="269" y="176"/>
                    </a:lnTo>
                    <a:lnTo>
                      <a:pt x="0" y="0"/>
                    </a:lnTo>
                    <a:lnTo>
                      <a:pt x="8" y="320"/>
                    </a:lnTo>
                    <a:lnTo>
                      <a:pt x="89" y="206"/>
                    </a:lnTo>
                    <a:lnTo>
                      <a:pt x="358" y="695"/>
                    </a:lnTo>
                    <a:lnTo>
                      <a:pt x="406" y="6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0" name=""/>
          <p:cNvGrpSpPr/>
          <p:nvPr/>
        </p:nvGrpSpPr>
        <p:grpSpPr>
          <a:xfrm>
            <a:off x="705240" y="260280"/>
            <a:ext cx="8008560" cy="6419880"/>
            <a:chOff x="705240" y="260280"/>
            <a:chExt cx="8008560" cy="6419880"/>
          </a:xfrm>
        </p:grpSpPr>
        <p:sp>
          <p:nvSpPr>
            <p:cNvPr id="601" name=""/>
            <p:cNvSpPr/>
            <p:nvPr/>
          </p:nvSpPr>
          <p:spPr>
            <a:xfrm>
              <a:off x="905040" y="2692440"/>
              <a:ext cx="5116320" cy="2830320"/>
            </a:xfrm>
            <a:prstGeom prst="can">
              <a:avLst>
                <a:gd name="adj" fmla="val 25000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1065240" y="3416400"/>
              <a:ext cx="4956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4400" spc="-1" strike="noStrike">
                  <a:solidFill>
                    <a:srgbClr val="000000"/>
                  </a:solidFill>
                  <a:latin typeface="Times New Roman"/>
                </a:rPr>
                <a:t>Denní bilance vody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3" name=""/>
            <p:cNvGrpSpPr/>
            <p:nvPr/>
          </p:nvGrpSpPr>
          <p:grpSpPr>
            <a:xfrm>
              <a:off x="2859120" y="1609560"/>
              <a:ext cx="879480" cy="1404720"/>
              <a:chOff x="2859120" y="1609560"/>
              <a:chExt cx="879480" cy="1404720"/>
            </a:xfrm>
          </p:grpSpPr>
          <p:sp>
            <p:nvSpPr>
              <p:cNvPr id="604" name=""/>
              <p:cNvSpPr/>
              <p:nvPr/>
            </p:nvSpPr>
            <p:spPr>
              <a:xfrm>
                <a:off x="2867040" y="1716480"/>
                <a:ext cx="863280" cy="963720"/>
              </a:xfrm>
              <a:custGeom>
                <a:avLst/>
                <a:gdLst/>
                <a:ahLst/>
                <a:rect l="l" t="t" r="r" b="b"/>
                <a:pathLst>
                  <a:path w="2256" h="2295">
                    <a:moveTo>
                      <a:pt x="0" y="0"/>
                    </a:moveTo>
                    <a:lnTo>
                      <a:pt x="939" y="1180"/>
                    </a:lnTo>
                    <a:lnTo>
                      <a:pt x="980" y="2175"/>
                    </a:lnTo>
                    <a:lnTo>
                      <a:pt x="983" y="2202"/>
                    </a:lnTo>
                    <a:lnTo>
                      <a:pt x="991" y="2221"/>
                    </a:lnTo>
                    <a:lnTo>
                      <a:pt x="1000" y="2235"/>
                    </a:lnTo>
                    <a:lnTo>
                      <a:pt x="1010" y="2246"/>
                    </a:lnTo>
                    <a:lnTo>
                      <a:pt x="1024" y="2260"/>
                    </a:lnTo>
                    <a:lnTo>
                      <a:pt x="1038" y="2268"/>
                    </a:lnTo>
                    <a:lnTo>
                      <a:pt x="1060" y="2281"/>
                    </a:lnTo>
                    <a:lnTo>
                      <a:pt x="1083" y="2287"/>
                    </a:lnTo>
                    <a:lnTo>
                      <a:pt x="1111" y="2293"/>
                    </a:lnTo>
                    <a:lnTo>
                      <a:pt x="1128" y="2295"/>
                    </a:lnTo>
                    <a:lnTo>
                      <a:pt x="1145" y="2295"/>
                    </a:lnTo>
                    <a:lnTo>
                      <a:pt x="1163" y="2292"/>
                    </a:lnTo>
                    <a:lnTo>
                      <a:pt x="1183" y="2286"/>
                    </a:lnTo>
                    <a:lnTo>
                      <a:pt x="1202" y="2279"/>
                    </a:lnTo>
                    <a:lnTo>
                      <a:pt x="1221" y="2268"/>
                    </a:lnTo>
                    <a:lnTo>
                      <a:pt x="1235" y="2259"/>
                    </a:lnTo>
                    <a:lnTo>
                      <a:pt x="1251" y="2243"/>
                    </a:lnTo>
                    <a:lnTo>
                      <a:pt x="1262" y="2227"/>
                    </a:lnTo>
                    <a:lnTo>
                      <a:pt x="1273" y="2203"/>
                    </a:lnTo>
                    <a:lnTo>
                      <a:pt x="1276" y="2181"/>
                    </a:lnTo>
                    <a:lnTo>
                      <a:pt x="1336" y="1161"/>
                    </a:lnTo>
                    <a:lnTo>
                      <a:pt x="225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2859120" y="1609560"/>
                <a:ext cx="879480" cy="182880"/>
              </a:xfrm>
              <a:prstGeom prst="ellipse">
                <a:avLst/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2927880" y="1744200"/>
                <a:ext cx="748440" cy="907200"/>
              </a:xfrm>
              <a:custGeom>
                <a:avLst/>
                <a:gdLst/>
                <a:ahLst/>
                <a:rect l="l" t="t" r="r" b="b"/>
                <a:pathLst>
                  <a:path w="1956" h="2159">
                    <a:moveTo>
                      <a:pt x="0" y="19"/>
                    </a:moveTo>
                    <a:lnTo>
                      <a:pt x="857" y="1063"/>
                    </a:lnTo>
                    <a:lnTo>
                      <a:pt x="879" y="2090"/>
                    </a:lnTo>
                    <a:lnTo>
                      <a:pt x="887" y="2107"/>
                    </a:lnTo>
                    <a:lnTo>
                      <a:pt x="897" y="2123"/>
                    </a:lnTo>
                    <a:lnTo>
                      <a:pt x="906" y="2137"/>
                    </a:lnTo>
                    <a:lnTo>
                      <a:pt x="922" y="2147"/>
                    </a:lnTo>
                    <a:lnTo>
                      <a:pt x="939" y="2156"/>
                    </a:lnTo>
                    <a:lnTo>
                      <a:pt x="962" y="2159"/>
                    </a:lnTo>
                    <a:lnTo>
                      <a:pt x="983" y="2157"/>
                    </a:lnTo>
                    <a:lnTo>
                      <a:pt x="1005" y="2153"/>
                    </a:lnTo>
                    <a:lnTo>
                      <a:pt x="1026" y="2140"/>
                    </a:lnTo>
                    <a:lnTo>
                      <a:pt x="1040" y="2123"/>
                    </a:lnTo>
                    <a:lnTo>
                      <a:pt x="1048" y="2109"/>
                    </a:lnTo>
                    <a:lnTo>
                      <a:pt x="1056" y="2088"/>
                    </a:lnTo>
                    <a:lnTo>
                      <a:pt x="1100" y="1045"/>
                    </a:lnTo>
                    <a:lnTo>
                      <a:pt x="1956" y="0"/>
                    </a:lnTo>
                    <a:lnTo>
                      <a:pt x="1790" y="41"/>
                    </a:lnTo>
                    <a:lnTo>
                      <a:pt x="1531" y="77"/>
                    </a:lnTo>
                    <a:lnTo>
                      <a:pt x="1247" y="98"/>
                    </a:lnTo>
                    <a:lnTo>
                      <a:pt x="962" y="109"/>
                    </a:lnTo>
                    <a:lnTo>
                      <a:pt x="662" y="98"/>
                    </a:lnTo>
                    <a:lnTo>
                      <a:pt x="398" y="77"/>
                    </a:lnTo>
                    <a:lnTo>
                      <a:pt x="178" y="52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3056400" y="1928160"/>
                <a:ext cx="483120" cy="725760"/>
              </a:xfrm>
              <a:custGeom>
                <a:avLst/>
                <a:gdLst/>
                <a:ahLst/>
                <a:rect l="l" t="t" r="r" b="b"/>
                <a:pathLst>
                  <a:path w="1264" h="1728">
                    <a:moveTo>
                      <a:pt x="0" y="0"/>
                    </a:moveTo>
                    <a:lnTo>
                      <a:pt x="520" y="624"/>
                    </a:lnTo>
                    <a:lnTo>
                      <a:pt x="531" y="1657"/>
                    </a:lnTo>
                    <a:lnTo>
                      <a:pt x="541" y="1674"/>
                    </a:lnTo>
                    <a:lnTo>
                      <a:pt x="553" y="1688"/>
                    </a:lnTo>
                    <a:lnTo>
                      <a:pt x="564" y="1701"/>
                    </a:lnTo>
                    <a:lnTo>
                      <a:pt x="580" y="1715"/>
                    </a:lnTo>
                    <a:lnTo>
                      <a:pt x="608" y="1723"/>
                    </a:lnTo>
                    <a:lnTo>
                      <a:pt x="632" y="1728"/>
                    </a:lnTo>
                    <a:lnTo>
                      <a:pt x="651" y="1725"/>
                    </a:lnTo>
                    <a:lnTo>
                      <a:pt x="673" y="1720"/>
                    </a:lnTo>
                    <a:lnTo>
                      <a:pt x="694" y="1709"/>
                    </a:lnTo>
                    <a:lnTo>
                      <a:pt x="711" y="1692"/>
                    </a:lnTo>
                    <a:lnTo>
                      <a:pt x="723" y="1669"/>
                    </a:lnTo>
                    <a:lnTo>
                      <a:pt x="730" y="1657"/>
                    </a:lnTo>
                    <a:lnTo>
                      <a:pt x="761" y="605"/>
                    </a:lnTo>
                    <a:lnTo>
                      <a:pt x="126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3260880" y="2693160"/>
                <a:ext cx="75600" cy="155880"/>
              </a:xfrm>
              <a:custGeom>
                <a:avLst/>
                <a:gdLst/>
                <a:ahLst/>
                <a:rect l="l" t="t" r="r" b="b"/>
                <a:pathLst>
                  <a:path w="196" h="370">
                    <a:moveTo>
                      <a:pt x="95" y="0"/>
                    </a:moveTo>
                    <a:lnTo>
                      <a:pt x="105" y="58"/>
                    </a:lnTo>
                    <a:lnTo>
                      <a:pt x="111" y="87"/>
                    </a:lnTo>
                    <a:lnTo>
                      <a:pt x="121" y="121"/>
                    </a:lnTo>
                    <a:lnTo>
                      <a:pt x="132" y="141"/>
                    </a:lnTo>
                    <a:lnTo>
                      <a:pt x="147" y="166"/>
                    </a:lnTo>
                    <a:lnTo>
                      <a:pt x="167" y="193"/>
                    </a:lnTo>
                    <a:lnTo>
                      <a:pt x="184" y="220"/>
                    </a:lnTo>
                    <a:lnTo>
                      <a:pt x="192" y="245"/>
                    </a:lnTo>
                    <a:lnTo>
                      <a:pt x="196" y="278"/>
                    </a:lnTo>
                    <a:lnTo>
                      <a:pt x="189" y="307"/>
                    </a:lnTo>
                    <a:lnTo>
                      <a:pt x="178" y="328"/>
                    </a:lnTo>
                    <a:lnTo>
                      <a:pt x="162" y="345"/>
                    </a:lnTo>
                    <a:lnTo>
                      <a:pt x="141" y="361"/>
                    </a:lnTo>
                    <a:lnTo>
                      <a:pt x="121" y="367"/>
                    </a:lnTo>
                    <a:lnTo>
                      <a:pt x="99" y="370"/>
                    </a:lnTo>
                    <a:lnTo>
                      <a:pt x="76" y="367"/>
                    </a:lnTo>
                    <a:lnTo>
                      <a:pt x="54" y="362"/>
                    </a:lnTo>
                    <a:lnTo>
                      <a:pt x="34" y="350"/>
                    </a:lnTo>
                    <a:lnTo>
                      <a:pt x="19" y="334"/>
                    </a:lnTo>
                    <a:lnTo>
                      <a:pt x="8" y="315"/>
                    </a:lnTo>
                    <a:lnTo>
                      <a:pt x="3" y="296"/>
                    </a:lnTo>
                    <a:lnTo>
                      <a:pt x="0" y="272"/>
                    </a:lnTo>
                    <a:lnTo>
                      <a:pt x="5" y="240"/>
                    </a:lnTo>
                    <a:lnTo>
                      <a:pt x="13" y="218"/>
                    </a:lnTo>
                    <a:lnTo>
                      <a:pt x="30" y="190"/>
                    </a:lnTo>
                    <a:lnTo>
                      <a:pt x="49" y="166"/>
                    </a:lnTo>
                    <a:lnTo>
                      <a:pt x="62" y="140"/>
                    </a:lnTo>
                    <a:lnTo>
                      <a:pt x="72" y="119"/>
                    </a:lnTo>
                    <a:lnTo>
                      <a:pt x="81" y="90"/>
                    </a:lnTo>
                    <a:lnTo>
                      <a:pt x="86" y="58"/>
                    </a:lnTo>
                    <a:lnTo>
                      <a:pt x="95" y="0"/>
                    </a:lnTo>
                    <a:close/>
                  </a:path>
                </a:pathLst>
              </a:cu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2902680" y="1627200"/>
                <a:ext cx="792000" cy="147240"/>
              </a:xfrm>
              <a:prstGeom prst="ellips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3260880" y="2858040"/>
                <a:ext cx="75600" cy="156240"/>
              </a:xfrm>
              <a:custGeom>
                <a:avLst/>
                <a:gdLst/>
                <a:ahLst/>
                <a:rect l="l" t="t" r="r" b="b"/>
                <a:pathLst>
                  <a:path w="196" h="372">
                    <a:moveTo>
                      <a:pt x="95" y="0"/>
                    </a:moveTo>
                    <a:lnTo>
                      <a:pt x="105" y="60"/>
                    </a:lnTo>
                    <a:lnTo>
                      <a:pt x="111" y="88"/>
                    </a:lnTo>
                    <a:lnTo>
                      <a:pt x="121" y="122"/>
                    </a:lnTo>
                    <a:lnTo>
                      <a:pt x="132" y="143"/>
                    </a:lnTo>
                    <a:lnTo>
                      <a:pt x="147" y="168"/>
                    </a:lnTo>
                    <a:lnTo>
                      <a:pt x="167" y="195"/>
                    </a:lnTo>
                    <a:lnTo>
                      <a:pt x="184" y="221"/>
                    </a:lnTo>
                    <a:lnTo>
                      <a:pt x="192" y="247"/>
                    </a:lnTo>
                    <a:lnTo>
                      <a:pt x="196" y="279"/>
                    </a:lnTo>
                    <a:lnTo>
                      <a:pt x="189" y="308"/>
                    </a:lnTo>
                    <a:lnTo>
                      <a:pt x="178" y="328"/>
                    </a:lnTo>
                    <a:lnTo>
                      <a:pt x="162" y="345"/>
                    </a:lnTo>
                    <a:lnTo>
                      <a:pt x="141" y="361"/>
                    </a:lnTo>
                    <a:lnTo>
                      <a:pt x="121" y="369"/>
                    </a:lnTo>
                    <a:lnTo>
                      <a:pt x="99" y="372"/>
                    </a:lnTo>
                    <a:lnTo>
                      <a:pt x="76" y="369"/>
                    </a:lnTo>
                    <a:lnTo>
                      <a:pt x="54" y="363"/>
                    </a:lnTo>
                    <a:lnTo>
                      <a:pt x="34" y="351"/>
                    </a:lnTo>
                    <a:lnTo>
                      <a:pt x="19" y="336"/>
                    </a:lnTo>
                    <a:lnTo>
                      <a:pt x="8" y="317"/>
                    </a:lnTo>
                    <a:lnTo>
                      <a:pt x="3" y="298"/>
                    </a:lnTo>
                    <a:lnTo>
                      <a:pt x="0" y="272"/>
                    </a:lnTo>
                    <a:lnTo>
                      <a:pt x="5" y="242"/>
                    </a:lnTo>
                    <a:lnTo>
                      <a:pt x="13" y="219"/>
                    </a:lnTo>
                    <a:lnTo>
                      <a:pt x="30" y="191"/>
                    </a:lnTo>
                    <a:lnTo>
                      <a:pt x="49" y="168"/>
                    </a:lnTo>
                    <a:lnTo>
                      <a:pt x="62" y="141"/>
                    </a:lnTo>
                    <a:lnTo>
                      <a:pt x="72" y="120"/>
                    </a:lnTo>
                    <a:lnTo>
                      <a:pt x="81" y="90"/>
                    </a:lnTo>
                    <a:lnTo>
                      <a:pt x="86" y="60"/>
                    </a:lnTo>
                    <a:lnTo>
                      <a:pt x="95" y="0"/>
                    </a:lnTo>
                    <a:close/>
                  </a:path>
                </a:pathLst>
              </a:cu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3051720" y="1870200"/>
                <a:ext cx="493560" cy="94320"/>
              </a:xfrm>
              <a:prstGeom prst="ellipse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3265560" y="2594880"/>
                <a:ext cx="65520" cy="72720"/>
              </a:xfrm>
              <a:prstGeom prst="ellipse">
                <a:avLst/>
              </a:prstGeom>
              <a:solidFill>
                <a:srgbClr val="009999"/>
              </a:solidFill>
              <a:ln w="1764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3" name=""/>
            <p:cNvGrpSpPr/>
            <p:nvPr/>
          </p:nvGrpSpPr>
          <p:grpSpPr>
            <a:xfrm>
              <a:off x="4919760" y="4600440"/>
              <a:ext cx="822240" cy="961560"/>
              <a:chOff x="4919760" y="4600440"/>
              <a:chExt cx="822240" cy="961560"/>
            </a:xfrm>
          </p:grpSpPr>
          <p:graphicFrame>
            <p:nvGraphicFramePr>
              <p:cNvPr id="614" name=""/>
              <p:cNvGraphicFramePr/>
              <p:nvPr/>
            </p:nvGraphicFramePr>
            <p:xfrm>
              <a:off x="4919760" y="4600440"/>
              <a:ext cx="822240" cy="7160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615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4919760" y="4600440"/>
                        <a:ext cx="822240" cy="7160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pSp>
            <p:nvGrpSpPr>
              <p:cNvPr id="616" name=""/>
              <p:cNvGrpSpPr/>
              <p:nvPr/>
            </p:nvGrpSpPr>
            <p:grpSpPr>
              <a:xfrm>
                <a:off x="5545080" y="5241960"/>
                <a:ext cx="74160" cy="320040"/>
                <a:chOff x="5545080" y="5241960"/>
                <a:chExt cx="74160" cy="320040"/>
              </a:xfrm>
            </p:grpSpPr>
            <p:sp>
              <p:nvSpPr>
                <p:cNvPr id="617" name=""/>
                <p:cNvSpPr/>
                <p:nvPr/>
              </p:nvSpPr>
              <p:spPr>
                <a:xfrm>
                  <a:off x="5545080" y="5241960"/>
                  <a:ext cx="74160" cy="155520"/>
                </a:xfrm>
                <a:custGeom>
                  <a:avLst/>
                  <a:gdLst/>
                  <a:ahLst/>
                  <a:rect l="l" t="t" r="r" b="b"/>
                  <a:pathLst>
                    <a:path w="196" h="371">
                      <a:moveTo>
                        <a:pt x="95" y="0"/>
                      </a:moveTo>
                      <a:lnTo>
                        <a:pt x="105" y="58"/>
                      </a:lnTo>
                      <a:lnTo>
                        <a:pt x="111" y="88"/>
                      </a:lnTo>
                      <a:lnTo>
                        <a:pt x="121" y="122"/>
                      </a:lnTo>
                      <a:lnTo>
                        <a:pt x="132" y="142"/>
                      </a:lnTo>
                      <a:lnTo>
                        <a:pt x="147" y="166"/>
                      </a:lnTo>
                      <a:lnTo>
                        <a:pt x="167" y="194"/>
                      </a:lnTo>
                      <a:lnTo>
                        <a:pt x="184" y="220"/>
                      </a:lnTo>
                      <a:lnTo>
                        <a:pt x="192" y="246"/>
                      </a:lnTo>
                      <a:lnTo>
                        <a:pt x="196" y="279"/>
                      </a:lnTo>
                      <a:lnTo>
                        <a:pt x="189" y="307"/>
                      </a:lnTo>
                      <a:lnTo>
                        <a:pt x="178" y="328"/>
                      </a:lnTo>
                      <a:lnTo>
                        <a:pt x="162" y="345"/>
                      </a:lnTo>
                      <a:lnTo>
                        <a:pt x="141" y="361"/>
                      </a:lnTo>
                      <a:lnTo>
                        <a:pt x="121" y="368"/>
                      </a:lnTo>
                      <a:lnTo>
                        <a:pt x="99" y="371"/>
                      </a:lnTo>
                      <a:lnTo>
                        <a:pt x="76" y="368"/>
                      </a:lnTo>
                      <a:lnTo>
                        <a:pt x="54" y="362"/>
                      </a:lnTo>
                      <a:lnTo>
                        <a:pt x="34" y="351"/>
                      </a:lnTo>
                      <a:lnTo>
                        <a:pt x="19" y="335"/>
                      </a:lnTo>
                      <a:lnTo>
                        <a:pt x="8" y="316"/>
                      </a:lnTo>
                      <a:lnTo>
                        <a:pt x="3" y="297"/>
                      </a:lnTo>
                      <a:lnTo>
                        <a:pt x="0" y="272"/>
                      </a:lnTo>
                      <a:lnTo>
                        <a:pt x="5" y="240"/>
                      </a:lnTo>
                      <a:lnTo>
                        <a:pt x="13" y="218"/>
                      </a:lnTo>
                      <a:lnTo>
                        <a:pt x="30" y="191"/>
                      </a:lnTo>
                      <a:lnTo>
                        <a:pt x="49" y="166"/>
                      </a:lnTo>
                      <a:lnTo>
                        <a:pt x="62" y="141"/>
                      </a:lnTo>
                      <a:lnTo>
                        <a:pt x="72" y="120"/>
                      </a:lnTo>
                      <a:lnTo>
                        <a:pt x="81" y="90"/>
                      </a:lnTo>
                      <a:lnTo>
                        <a:pt x="86" y="58"/>
                      </a:lnTo>
                      <a:lnTo>
                        <a:pt x="95" y="0"/>
                      </a:lnTo>
                      <a:close/>
                    </a:path>
                  </a:pathLst>
                </a:custGeom>
                <a:solidFill>
                  <a:srgbClr val="00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8" name=""/>
                <p:cNvSpPr/>
                <p:nvPr/>
              </p:nvSpPr>
              <p:spPr>
                <a:xfrm>
                  <a:off x="5545080" y="5406480"/>
                  <a:ext cx="74160" cy="155520"/>
                </a:xfrm>
                <a:custGeom>
                  <a:avLst/>
                  <a:gdLst/>
                  <a:ahLst/>
                  <a:rect l="l" t="t" r="r" b="b"/>
                  <a:pathLst>
                    <a:path w="196" h="372">
                      <a:moveTo>
                        <a:pt x="95" y="0"/>
                      </a:moveTo>
                      <a:lnTo>
                        <a:pt x="105" y="59"/>
                      </a:lnTo>
                      <a:lnTo>
                        <a:pt x="111" y="88"/>
                      </a:lnTo>
                      <a:lnTo>
                        <a:pt x="121" y="122"/>
                      </a:lnTo>
                      <a:lnTo>
                        <a:pt x="132" y="143"/>
                      </a:lnTo>
                      <a:lnTo>
                        <a:pt x="147" y="167"/>
                      </a:lnTo>
                      <a:lnTo>
                        <a:pt x="167" y="195"/>
                      </a:lnTo>
                      <a:lnTo>
                        <a:pt x="184" y="220"/>
                      </a:lnTo>
                      <a:lnTo>
                        <a:pt x="192" y="247"/>
                      </a:lnTo>
                      <a:lnTo>
                        <a:pt x="196" y="279"/>
                      </a:lnTo>
                      <a:lnTo>
                        <a:pt x="189" y="308"/>
                      </a:lnTo>
                      <a:lnTo>
                        <a:pt x="178" y="328"/>
                      </a:lnTo>
                      <a:lnTo>
                        <a:pt x="162" y="345"/>
                      </a:lnTo>
                      <a:lnTo>
                        <a:pt x="141" y="361"/>
                      </a:lnTo>
                      <a:lnTo>
                        <a:pt x="121" y="369"/>
                      </a:lnTo>
                      <a:lnTo>
                        <a:pt x="99" y="372"/>
                      </a:lnTo>
                      <a:lnTo>
                        <a:pt x="76" y="369"/>
                      </a:lnTo>
                      <a:lnTo>
                        <a:pt x="54" y="363"/>
                      </a:lnTo>
                      <a:lnTo>
                        <a:pt x="34" y="351"/>
                      </a:lnTo>
                      <a:lnTo>
                        <a:pt x="19" y="336"/>
                      </a:lnTo>
                      <a:lnTo>
                        <a:pt x="8" y="317"/>
                      </a:lnTo>
                      <a:lnTo>
                        <a:pt x="3" y="298"/>
                      </a:lnTo>
                      <a:lnTo>
                        <a:pt x="0" y="272"/>
                      </a:lnTo>
                      <a:lnTo>
                        <a:pt x="5" y="242"/>
                      </a:lnTo>
                      <a:lnTo>
                        <a:pt x="13" y="219"/>
                      </a:lnTo>
                      <a:lnTo>
                        <a:pt x="30" y="191"/>
                      </a:lnTo>
                      <a:lnTo>
                        <a:pt x="49" y="167"/>
                      </a:lnTo>
                      <a:lnTo>
                        <a:pt x="62" y="141"/>
                      </a:lnTo>
                      <a:lnTo>
                        <a:pt x="72" y="120"/>
                      </a:lnTo>
                      <a:lnTo>
                        <a:pt x="81" y="90"/>
                      </a:lnTo>
                      <a:lnTo>
                        <a:pt x="86" y="59"/>
                      </a:lnTo>
                      <a:lnTo>
                        <a:pt x="95" y="0"/>
                      </a:lnTo>
                      <a:close/>
                    </a:path>
                  </a:pathLst>
                </a:custGeom>
                <a:solidFill>
                  <a:srgbClr val="00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19" name=""/>
            <p:cNvSpPr/>
            <p:nvPr/>
          </p:nvSpPr>
          <p:spPr>
            <a:xfrm>
              <a:off x="2635200" y="714600"/>
              <a:ext cx="12826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Tekutin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1 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4346640" y="677880"/>
              <a:ext cx="1368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Potravin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1 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1" name=""/>
            <p:cNvGrpSpPr/>
            <p:nvPr/>
          </p:nvGrpSpPr>
          <p:grpSpPr>
            <a:xfrm>
              <a:off x="4365720" y="1679400"/>
              <a:ext cx="879480" cy="1404720"/>
              <a:chOff x="4365720" y="1679400"/>
              <a:chExt cx="879480" cy="1404720"/>
            </a:xfrm>
          </p:grpSpPr>
          <p:sp>
            <p:nvSpPr>
              <p:cNvPr id="622" name=""/>
              <p:cNvSpPr/>
              <p:nvPr/>
            </p:nvSpPr>
            <p:spPr>
              <a:xfrm>
                <a:off x="4373640" y="1786320"/>
                <a:ext cx="863280" cy="963720"/>
              </a:xfrm>
              <a:custGeom>
                <a:avLst/>
                <a:gdLst/>
                <a:ahLst/>
                <a:rect l="l" t="t" r="r" b="b"/>
                <a:pathLst>
                  <a:path w="2256" h="2295">
                    <a:moveTo>
                      <a:pt x="0" y="0"/>
                    </a:moveTo>
                    <a:lnTo>
                      <a:pt x="939" y="1180"/>
                    </a:lnTo>
                    <a:lnTo>
                      <a:pt x="980" y="2175"/>
                    </a:lnTo>
                    <a:lnTo>
                      <a:pt x="983" y="2202"/>
                    </a:lnTo>
                    <a:lnTo>
                      <a:pt x="991" y="2221"/>
                    </a:lnTo>
                    <a:lnTo>
                      <a:pt x="1000" y="2235"/>
                    </a:lnTo>
                    <a:lnTo>
                      <a:pt x="1010" y="2246"/>
                    </a:lnTo>
                    <a:lnTo>
                      <a:pt x="1024" y="2260"/>
                    </a:lnTo>
                    <a:lnTo>
                      <a:pt x="1038" y="2268"/>
                    </a:lnTo>
                    <a:lnTo>
                      <a:pt x="1060" y="2281"/>
                    </a:lnTo>
                    <a:lnTo>
                      <a:pt x="1083" y="2287"/>
                    </a:lnTo>
                    <a:lnTo>
                      <a:pt x="1111" y="2293"/>
                    </a:lnTo>
                    <a:lnTo>
                      <a:pt x="1128" y="2295"/>
                    </a:lnTo>
                    <a:lnTo>
                      <a:pt x="1145" y="2295"/>
                    </a:lnTo>
                    <a:lnTo>
                      <a:pt x="1163" y="2292"/>
                    </a:lnTo>
                    <a:lnTo>
                      <a:pt x="1183" y="2286"/>
                    </a:lnTo>
                    <a:lnTo>
                      <a:pt x="1202" y="2279"/>
                    </a:lnTo>
                    <a:lnTo>
                      <a:pt x="1221" y="2268"/>
                    </a:lnTo>
                    <a:lnTo>
                      <a:pt x="1235" y="2259"/>
                    </a:lnTo>
                    <a:lnTo>
                      <a:pt x="1251" y="2243"/>
                    </a:lnTo>
                    <a:lnTo>
                      <a:pt x="1262" y="2227"/>
                    </a:lnTo>
                    <a:lnTo>
                      <a:pt x="1273" y="2203"/>
                    </a:lnTo>
                    <a:lnTo>
                      <a:pt x="1276" y="2181"/>
                    </a:lnTo>
                    <a:lnTo>
                      <a:pt x="1336" y="1161"/>
                    </a:lnTo>
                    <a:lnTo>
                      <a:pt x="225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4365720" y="1679400"/>
                <a:ext cx="879480" cy="182880"/>
              </a:xfrm>
              <a:prstGeom prst="ellipse">
                <a:avLst/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4434480" y="1814040"/>
                <a:ext cx="748440" cy="907200"/>
              </a:xfrm>
              <a:custGeom>
                <a:avLst/>
                <a:gdLst/>
                <a:ahLst/>
                <a:rect l="l" t="t" r="r" b="b"/>
                <a:pathLst>
                  <a:path w="1956" h="2159">
                    <a:moveTo>
                      <a:pt x="0" y="19"/>
                    </a:moveTo>
                    <a:lnTo>
                      <a:pt x="857" y="1063"/>
                    </a:lnTo>
                    <a:lnTo>
                      <a:pt x="879" y="2090"/>
                    </a:lnTo>
                    <a:lnTo>
                      <a:pt x="887" y="2107"/>
                    </a:lnTo>
                    <a:lnTo>
                      <a:pt x="897" y="2123"/>
                    </a:lnTo>
                    <a:lnTo>
                      <a:pt x="906" y="2137"/>
                    </a:lnTo>
                    <a:lnTo>
                      <a:pt x="922" y="2147"/>
                    </a:lnTo>
                    <a:lnTo>
                      <a:pt x="939" y="2156"/>
                    </a:lnTo>
                    <a:lnTo>
                      <a:pt x="962" y="2159"/>
                    </a:lnTo>
                    <a:lnTo>
                      <a:pt x="983" y="2157"/>
                    </a:lnTo>
                    <a:lnTo>
                      <a:pt x="1005" y="2153"/>
                    </a:lnTo>
                    <a:lnTo>
                      <a:pt x="1026" y="2140"/>
                    </a:lnTo>
                    <a:lnTo>
                      <a:pt x="1040" y="2123"/>
                    </a:lnTo>
                    <a:lnTo>
                      <a:pt x="1048" y="2109"/>
                    </a:lnTo>
                    <a:lnTo>
                      <a:pt x="1056" y="2088"/>
                    </a:lnTo>
                    <a:lnTo>
                      <a:pt x="1100" y="1045"/>
                    </a:lnTo>
                    <a:lnTo>
                      <a:pt x="1956" y="0"/>
                    </a:lnTo>
                    <a:lnTo>
                      <a:pt x="1790" y="41"/>
                    </a:lnTo>
                    <a:lnTo>
                      <a:pt x="1531" y="77"/>
                    </a:lnTo>
                    <a:lnTo>
                      <a:pt x="1247" y="98"/>
                    </a:lnTo>
                    <a:lnTo>
                      <a:pt x="962" y="109"/>
                    </a:lnTo>
                    <a:lnTo>
                      <a:pt x="662" y="98"/>
                    </a:lnTo>
                    <a:lnTo>
                      <a:pt x="398" y="77"/>
                    </a:lnTo>
                    <a:lnTo>
                      <a:pt x="178" y="52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4563000" y="1998000"/>
                <a:ext cx="483120" cy="725760"/>
              </a:xfrm>
              <a:custGeom>
                <a:avLst/>
                <a:gdLst/>
                <a:ahLst/>
                <a:rect l="l" t="t" r="r" b="b"/>
                <a:pathLst>
                  <a:path w="1264" h="1728">
                    <a:moveTo>
                      <a:pt x="0" y="0"/>
                    </a:moveTo>
                    <a:lnTo>
                      <a:pt x="520" y="624"/>
                    </a:lnTo>
                    <a:lnTo>
                      <a:pt x="531" y="1657"/>
                    </a:lnTo>
                    <a:lnTo>
                      <a:pt x="541" y="1674"/>
                    </a:lnTo>
                    <a:lnTo>
                      <a:pt x="553" y="1688"/>
                    </a:lnTo>
                    <a:lnTo>
                      <a:pt x="564" y="1701"/>
                    </a:lnTo>
                    <a:lnTo>
                      <a:pt x="580" y="1715"/>
                    </a:lnTo>
                    <a:lnTo>
                      <a:pt x="608" y="1723"/>
                    </a:lnTo>
                    <a:lnTo>
                      <a:pt x="632" y="1728"/>
                    </a:lnTo>
                    <a:lnTo>
                      <a:pt x="651" y="1725"/>
                    </a:lnTo>
                    <a:lnTo>
                      <a:pt x="673" y="1720"/>
                    </a:lnTo>
                    <a:lnTo>
                      <a:pt x="694" y="1709"/>
                    </a:lnTo>
                    <a:lnTo>
                      <a:pt x="711" y="1692"/>
                    </a:lnTo>
                    <a:lnTo>
                      <a:pt x="723" y="1669"/>
                    </a:lnTo>
                    <a:lnTo>
                      <a:pt x="730" y="1657"/>
                    </a:lnTo>
                    <a:lnTo>
                      <a:pt x="761" y="605"/>
                    </a:lnTo>
                    <a:lnTo>
                      <a:pt x="126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4767480" y="2763000"/>
                <a:ext cx="75600" cy="155880"/>
              </a:xfrm>
              <a:custGeom>
                <a:avLst/>
                <a:gdLst/>
                <a:ahLst/>
                <a:rect l="l" t="t" r="r" b="b"/>
                <a:pathLst>
                  <a:path w="196" h="370">
                    <a:moveTo>
                      <a:pt x="95" y="0"/>
                    </a:moveTo>
                    <a:lnTo>
                      <a:pt x="105" y="58"/>
                    </a:lnTo>
                    <a:lnTo>
                      <a:pt x="111" y="87"/>
                    </a:lnTo>
                    <a:lnTo>
                      <a:pt x="121" y="121"/>
                    </a:lnTo>
                    <a:lnTo>
                      <a:pt x="132" y="141"/>
                    </a:lnTo>
                    <a:lnTo>
                      <a:pt x="147" y="166"/>
                    </a:lnTo>
                    <a:lnTo>
                      <a:pt x="167" y="193"/>
                    </a:lnTo>
                    <a:lnTo>
                      <a:pt x="184" y="220"/>
                    </a:lnTo>
                    <a:lnTo>
                      <a:pt x="192" y="245"/>
                    </a:lnTo>
                    <a:lnTo>
                      <a:pt x="196" y="278"/>
                    </a:lnTo>
                    <a:lnTo>
                      <a:pt x="189" y="307"/>
                    </a:lnTo>
                    <a:lnTo>
                      <a:pt x="178" y="328"/>
                    </a:lnTo>
                    <a:lnTo>
                      <a:pt x="162" y="345"/>
                    </a:lnTo>
                    <a:lnTo>
                      <a:pt x="141" y="361"/>
                    </a:lnTo>
                    <a:lnTo>
                      <a:pt x="121" y="367"/>
                    </a:lnTo>
                    <a:lnTo>
                      <a:pt x="99" y="370"/>
                    </a:lnTo>
                    <a:lnTo>
                      <a:pt x="76" y="367"/>
                    </a:lnTo>
                    <a:lnTo>
                      <a:pt x="54" y="362"/>
                    </a:lnTo>
                    <a:lnTo>
                      <a:pt x="34" y="350"/>
                    </a:lnTo>
                    <a:lnTo>
                      <a:pt x="19" y="334"/>
                    </a:lnTo>
                    <a:lnTo>
                      <a:pt x="8" y="315"/>
                    </a:lnTo>
                    <a:lnTo>
                      <a:pt x="3" y="296"/>
                    </a:lnTo>
                    <a:lnTo>
                      <a:pt x="0" y="272"/>
                    </a:lnTo>
                    <a:lnTo>
                      <a:pt x="5" y="240"/>
                    </a:lnTo>
                    <a:lnTo>
                      <a:pt x="13" y="218"/>
                    </a:lnTo>
                    <a:lnTo>
                      <a:pt x="30" y="190"/>
                    </a:lnTo>
                    <a:lnTo>
                      <a:pt x="49" y="166"/>
                    </a:lnTo>
                    <a:lnTo>
                      <a:pt x="62" y="140"/>
                    </a:lnTo>
                    <a:lnTo>
                      <a:pt x="72" y="119"/>
                    </a:lnTo>
                    <a:lnTo>
                      <a:pt x="81" y="90"/>
                    </a:lnTo>
                    <a:lnTo>
                      <a:pt x="86" y="58"/>
                    </a:lnTo>
                    <a:lnTo>
                      <a:pt x="95" y="0"/>
                    </a:lnTo>
                    <a:close/>
                  </a:path>
                </a:pathLst>
              </a:cu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4409280" y="1697040"/>
                <a:ext cx="792000" cy="147240"/>
              </a:xfrm>
              <a:prstGeom prst="ellips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4767480" y="2927880"/>
                <a:ext cx="75600" cy="156240"/>
              </a:xfrm>
              <a:custGeom>
                <a:avLst/>
                <a:gdLst/>
                <a:ahLst/>
                <a:rect l="l" t="t" r="r" b="b"/>
                <a:pathLst>
                  <a:path w="196" h="372">
                    <a:moveTo>
                      <a:pt x="95" y="0"/>
                    </a:moveTo>
                    <a:lnTo>
                      <a:pt x="105" y="60"/>
                    </a:lnTo>
                    <a:lnTo>
                      <a:pt x="111" y="88"/>
                    </a:lnTo>
                    <a:lnTo>
                      <a:pt x="121" y="122"/>
                    </a:lnTo>
                    <a:lnTo>
                      <a:pt x="132" y="143"/>
                    </a:lnTo>
                    <a:lnTo>
                      <a:pt x="147" y="168"/>
                    </a:lnTo>
                    <a:lnTo>
                      <a:pt x="167" y="195"/>
                    </a:lnTo>
                    <a:lnTo>
                      <a:pt x="184" y="221"/>
                    </a:lnTo>
                    <a:lnTo>
                      <a:pt x="192" y="247"/>
                    </a:lnTo>
                    <a:lnTo>
                      <a:pt x="196" y="279"/>
                    </a:lnTo>
                    <a:lnTo>
                      <a:pt x="189" y="308"/>
                    </a:lnTo>
                    <a:lnTo>
                      <a:pt x="178" y="328"/>
                    </a:lnTo>
                    <a:lnTo>
                      <a:pt x="162" y="345"/>
                    </a:lnTo>
                    <a:lnTo>
                      <a:pt x="141" y="361"/>
                    </a:lnTo>
                    <a:lnTo>
                      <a:pt x="121" y="369"/>
                    </a:lnTo>
                    <a:lnTo>
                      <a:pt x="99" y="372"/>
                    </a:lnTo>
                    <a:lnTo>
                      <a:pt x="76" y="369"/>
                    </a:lnTo>
                    <a:lnTo>
                      <a:pt x="54" y="363"/>
                    </a:lnTo>
                    <a:lnTo>
                      <a:pt x="34" y="351"/>
                    </a:lnTo>
                    <a:lnTo>
                      <a:pt x="19" y="336"/>
                    </a:lnTo>
                    <a:lnTo>
                      <a:pt x="8" y="317"/>
                    </a:lnTo>
                    <a:lnTo>
                      <a:pt x="3" y="298"/>
                    </a:lnTo>
                    <a:lnTo>
                      <a:pt x="0" y="272"/>
                    </a:lnTo>
                    <a:lnTo>
                      <a:pt x="5" y="242"/>
                    </a:lnTo>
                    <a:lnTo>
                      <a:pt x="13" y="219"/>
                    </a:lnTo>
                    <a:lnTo>
                      <a:pt x="30" y="191"/>
                    </a:lnTo>
                    <a:lnTo>
                      <a:pt x="49" y="168"/>
                    </a:lnTo>
                    <a:lnTo>
                      <a:pt x="62" y="141"/>
                    </a:lnTo>
                    <a:lnTo>
                      <a:pt x="72" y="120"/>
                    </a:lnTo>
                    <a:lnTo>
                      <a:pt x="81" y="90"/>
                    </a:lnTo>
                    <a:lnTo>
                      <a:pt x="86" y="60"/>
                    </a:lnTo>
                    <a:lnTo>
                      <a:pt x="95" y="0"/>
                    </a:lnTo>
                    <a:close/>
                  </a:path>
                </a:pathLst>
              </a:cu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4558320" y="1940040"/>
                <a:ext cx="493560" cy="94320"/>
              </a:xfrm>
              <a:prstGeom prst="ellipse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4772160" y="2664720"/>
                <a:ext cx="65520" cy="72720"/>
              </a:xfrm>
              <a:prstGeom prst="ellipse">
                <a:avLst/>
              </a:prstGeom>
              <a:solidFill>
                <a:srgbClr val="009999"/>
              </a:solidFill>
              <a:ln w="1764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1" name=""/>
            <p:cNvSpPr/>
            <p:nvPr/>
          </p:nvSpPr>
          <p:spPr>
            <a:xfrm>
              <a:off x="705240" y="879480"/>
              <a:ext cx="19119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Metabolismu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0,5 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2" name=""/>
            <p:cNvGrpSpPr/>
            <p:nvPr/>
          </p:nvGrpSpPr>
          <p:grpSpPr>
            <a:xfrm>
              <a:off x="3641760" y="4721400"/>
              <a:ext cx="822240" cy="1011960"/>
              <a:chOff x="3641760" y="4721400"/>
              <a:chExt cx="822240" cy="1011960"/>
            </a:xfrm>
          </p:grpSpPr>
          <p:graphicFrame>
            <p:nvGraphicFramePr>
              <p:cNvPr id="633" name=""/>
              <p:cNvGraphicFramePr/>
              <p:nvPr/>
            </p:nvGraphicFramePr>
            <p:xfrm>
              <a:off x="3641760" y="4721400"/>
              <a:ext cx="822240" cy="71568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634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3641760" y="4721400"/>
                        <a:ext cx="822240" cy="715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pSp>
            <p:nvGrpSpPr>
              <p:cNvPr id="635" name=""/>
              <p:cNvGrpSpPr/>
              <p:nvPr/>
            </p:nvGrpSpPr>
            <p:grpSpPr>
              <a:xfrm>
                <a:off x="4282920" y="5413320"/>
                <a:ext cx="74880" cy="320040"/>
                <a:chOff x="4282920" y="5413320"/>
                <a:chExt cx="74880" cy="320040"/>
              </a:xfrm>
            </p:grpSpPr>
            <p:sp>
              <p:nvSpPr>
                <p:cNvPr id="636" name=""/>
                <p:cNvSpPr/>
                <p:nvPr/>
              </p:nvSpPr>
              <p:spPr>
                <a:xfrm>
                  <a:off x="4282920" y="5413320"/>
                  <a:ext cx="74880" cy="155520"/>
                </a:xfrm>
                <a:custGeom>
                  <a:avLst/>
                  <a:gdLst/>
                  <a:ahLst/>
                  <a:rect l="l" t="t" r="r" b="b"/>
                  <a:pathLst>
                    <a:path w="196" h="371">
                      <a:moveTo>
                        <a:pt x="95" y="0"/>
                      </a:moveTo>
                      <a:lnTo>
                        <a:pt x="105" y="58"/>
                      </a:lnTo>
                      <a:lnTo>
                        <a:pt x="111" y="88"/>
                      </a:lnTo>
                      <a:lnTo>
                        <a:pt x="121" y="122"/>
                      </a:lnTo>
                      <a:lnTo>
                        <a:pt x="132" y="142"/>
                      </a:lnTo>
                      <a:lnTo>
                        <a:pt x="147" y="166"/>
                      </a:lnTo>
                      <a:lnTo>
                        <a:pt x="167" y="194"/>
                      </a:lnTo>
                      <a:lnTo>
                        <a:pt x="184" y="220"/>
                      </a:lnTo>
                      <a:lnTo>
                        <a:pt x="192" y="246"/>
                      </a:lnTo>
                      <a:lnTo>
                        <a:pt x="196" y="279"/>
                      </a:lnTo>
                      <a:lnTo>
                        <a:pt x="189" y="307"/>
                      </a:lnTo>
                      <a:lnTo>
                        <a:pt x="178" y="328"/>
                      </a:lnTo>
                      <a:lnTo>
                        <a:pt x="162" y="345"/>
                      </a:lnTo>
                      <a:lnTo>
                        <a:pt x="141" y="361"/>
                      </a:lnTo>
                      <a:lnTo>
                        <a:pt x="121" y="368"/>
                      </a:lnTo>
                      <a:lnTo>
                        <a:pt x="99" y="371"/>
                      </a:lnTo>
                      <a:lnTo>
                        <a:pt x="76" y="368"/>
                      </a:lnTo>
                      <a:lnTo>
                        <a:pt x="54" y="362"/>
                      </a:lnTo>
                      <a:lnTo>
                        <a:pt x="34" y="351"/>
                      </a:lnTo>
                      <a:lnTo>
                        <a:pt x="19" y="335"/>
                      </a:lnTo>
                      <a:lnTo>
                        <a:pt x="8" y="316"/>
                      </a:lnTo>
                      <a:lnTo>
                        <a:pt x="3" y="297"/>
                      </a:lnTo>
                      <a:lnTo>
                        <a:pt x="0" y="272"/>
                      </a:lnTo>
                      <a:lnTo>
                        <a:pt x="5" y="240"/>
                      </a:lnTo>
                      <a:lnTo>
                        <a:pt x="13" y="218"/>
                      </a:lnTo>
                      <a:lnTo>
                        <a:pt x="30" y="191"/>
                      </a:lnTo>
                      <a:lnTo>
                        <a:pt x="49" y="166"/>
                      </a:lnTo>
                      <a:lnTo>
                        <a:pt x="62" y="141"/>
                      </a:lnTo>
                      <a:lnTo>
                        <a:pt x="72" y="120"/>
                      </a:lnTo>
                      <a:lnTo>
                        <a:pt x="81" y="90"/>
                      </a:lnTo>
                      <a:lnTo>
                        <a:pt x="86" y="58"/>
                      </a:lnTo>
                      <a:lnTo>
                        <a:pt x="95" y="0"/>
                      </a:lnTo>
                      <a:close/>
                    </a:path>
                  </a:pathLst>
                </a:custGeom>
                <a:solidFill>
                  <a:srgbClr val="00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7" name=""/>
                <p:cNvSpPr/>
                <p:nvPr/>
              </p:nvSpPr>
              <p:spPr>
                <a:xfrm>
                  <a:off x="4282920" y="5577840"/>
                  <a:ext cx="74880" cy="155520"/>
                </a:xfrm>
                <a:custGeom>
                  <a:avLst/>
                  <a:gdLst/>
                  <a:ahLst/>
                  <a:rect l="l" t="t" r="r" b="b"/>
                  <a:pathLst>
                    <a:path w="196" h="372">
                      <a:moveTo>
                        <a:pt x="95" y="0"/>
                      </a:moveTo>
                      <a:lnTo>
                        <a:pt x="105" y="59"/>
                      </a:lnTo>
                      <a:lnTo>
                        <a:pt x="111" y="88"/>
                      </a:lnTo>
                      <a:lnTo>
                        <a:pt x="121" y="122"/>
                      </a:lnTo>
                      <a:lnTo>
                        <a:pt x="132" y="143"/>
                      </a:lnTo>
                      <a:lnTo>
                        <a:pt x="147" y="167"/>
                      </a:lnTo>
                      <a:lnTo>
                        <a:pt x="167" y="195"/>
                      </a:lnTo>
                      <a:lnTo>
                        <a:pt x="184" y="220"/>
                      </a:lnTo>
                      <a:lnTo>
                        <a:pt x="192" y="247"/>
                      </a:lnTo>
                      <a:lnTo>
                        <a:pt x="196" y="279"/>
                      </a:lnTo>
                      <a:lnTo>
                        <a:pt x="189" y="308"/>
                      </a:lnTo>
                      <a:lnTo>
                        <a:pt x="178" y="328"/>
                      </a:lnTo>
                      <a:lnTo>
                        <a:pt x="162" y="345"/>
                      </a:lnTo>
                      <a:lnTo>
                        <a:pt x="141" y="361"/>
                      </a:lnTo>
                      <a:lnTo>
                        <a:pt x="121" y="369"/>
                      </a:lnTo>
                      <a:lnTo>
                        <a:pt x="99" y="372"/>
                      </a:lnTo>
                      <a:lnTo>
                        <a:pt x="76" y="369"/>
                      </a:lnTo>
                      <a:lnTo>
                        <a:pt x="54" y="363"/>
                      </a:lnTo>
                      <a:lnTo>
                        <a:pt x="34" y="351"/>
                      </a:lnTo>
                      <a:lnTo>
                        <a:pt x="19" y="336"/>
                      </a:lnTo>
                      <a:lnTo>
                        <a:pt x="8" y="317"/>
                      </a:lnTo>
                      <a:lnTo>
                        <a:pt x="3" y="298"/>
                      </a:lnTo>
                      <a:lnTo>
                        <a:pt x="0" y="272"/>
                      </a:lnTo>
                      <a:lnTo>
                        <a:pt x="5" y="242"/>
                      </a:lnTo>
                      <a:lnTo>
                        <a:pt x="13" y="219"/>
                      </a:lnTo>
                      <a:lnTo>
                        <a:pt x="30" y="191"/>
                      </a:lnTo>
                      <a:lnTo>
                        <a:pt x="49" y="167"/>
                      </a:lnTo>
                      <a:lnTo>
                        <a:pt x="62" y="141"/>
                      </a:lnTo>
                      <a:lnTo>
                        <a:pt x="72" y="120"/>
                      </a:lnTo>
                      <a:lnTo>
                        <a:pt x="81" y="90"/>
                      </a:lnTo>
                      <a:lnTo>
                        <a:pt x="86" y="59"/>
                      </a:lnTo>
                      <a:lnTo>
                        <a:pt x="95" y="0"/>
                      </a:lnTo>
                      <a:close/>
                    </a:path>
                  </a:pathLst>
                </a:custGeom>
                <a:solidFill>
                  <a:srgbClr val="00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38" name=""/>
            <p:cNvGrpSpPr/>
            <p:nvPr/>
          </p:nvGrpSpPr>
          <p:grpSpPr>
            <a:xfrm>
              <a:off x="1239840" y="4525920"/>
              <a:ext cx="822240" cy="1022040"/>
              <a:chOff x="1239840" y="4525920"/>
              <a:chExt cx="822240" cy="1022040"/>
            </a:xfrm>
          </p:grpSpPr>
          <p:graphicFrame>
            <p:nvGraphicFramePr>
              <p:cNvPr id="639" name=""/>
              <p:cNvGraphicFramePr/>
              <p:nvPr/>
            </p:nvGraphicFramePr>
            <p:xfrm>
              <a:off x="1239840" y="4525920"/>
              <a:ext cx="822240" cy="71604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640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239840" y="4525920"/>
                        <a:ext cx="822240" cy="7160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pSp>
            <p:nvGrpSpPr>
              <p:cNvPr id="641" name=""/>
              <p:cNvGrpSpPr/>
              <p:nvPr/>
            </p:nvGrpSpPr>
            <p:grpSpPr>
              <a:xfrm>
                <a:off x="1881000" y="5227560"/>
                <a:ext cx="74880" cy="320400"/>
                <a:chOff x="1881000" y="5227560"/>
                <a:chExt cx="74880" cy="320400"/>
              </a:xfrm>
            </p:grpSpPr>
            <p:sp>
              <p:nvSpPr>
                <p:cNvPr id="642" name=""/>
                <p:cNvSpPr/>
                <p:nvPr/>
              </p:nvSpPr>
              <p:spPr>
                <a:xfrm>
                  <a:off x="1881000" y="5227560"/>
                  <a:ext cx="74880" cy="155880"/>
                </a:xfrm>
                <a:custGeom>
                  <a:avLst/>
                  <a:gdLst/>
                  <a:ahLst/>
                  <a:rect l="l" t="t" r="r" b="b"/>
                  <a:pathLst>
                    <a:path w="196" h="371">
                      <a:moveTo>
                        <a:pt x="95" y="0"/>
                      </a:moveTo>
                      <a:lnTo>
                        <a:pt x="105" y="58"/>
                      </a:lnTo>
                      <a:lnTo>
                        <a:pt x="111" y="88"/>
                      </a:lnTo>
                      <a:lnTo>
                        <a:pt x="121" y="122"/>
                      </a:lnTo>
                      <a:lnTo>
                        <a:pt x="132" y="142"/>
                      </a:lnTo>
                      <a:lnTo>
                        <a:pt x="147" y="166"/>
                      </a:lnTo>
                      <a:lnTo>
                        <a:pt x="167" y="194"/>
                      </a:lnTo>
                      <a:lnTo>
                        <a:pt x="184" y="220"/>
                      </a:lnTo>
                      <a:lnTo>
                        <a:pt x="192" y="246"/>
                      </a:lnTo>
                      <a:lnTo>
                        <a:pt x="196" y="279"/>
                      </a:lnTo>
                      <a:lnTo>
                        <a:pt x="189" y="307"/>
                      </a:lnTo>
                      <a:lnTo>
                        <a:pt x="178" y="328"/>
                      </a:lnTo>
                      <a:lnTo>
                        <a:pt x="162" y="345"/>
                      </a:lnTo>
                      <a:lnTo>
                        <a:pt x="141" y="361"/>
                      </a:lnTo>
                      <a:lnTo>
                        <a:pt x="121" y="368"/>
                      </a:lnTo>
                      <a:lnTo>
                        <a:pt x="99" y="371"/>
                      </a:lnTo>
                      <a:lnTo>
                        <a:pt x="76" y="368"/>
                      </a:lnTo>
                      <a:lnTo>
                        <a:pt x="54" y="362"/>
                      </a:lnTo>
                      <a:lnTo>
                        <a:pt x="34" y="351"/>
                      </a:lnTo>
                      <a:lnTo>
                        <a:pt x="19" y="335"/>
                      </a:lnTo>
                      <a:lnTo>
                        <a:pt x="8" y="316"/>
                      </a:lnTo>
                      <a:lnTo>
                        <a:pt x="3" y="297"/>
                      </a:lnTo>
                      <a:lnTo>
                        <a:pt x="0" y="272"/>
                      </a:lnTo>
                      <a:lnTo>
                        <a:pt x="5" y="240"/>
                      </a:lnTo>
                      <a:lnTo>
                        <a:pt x="13" y="218"/>
                      </a:lnTo>
                      <a:lnTo>
                        <a:pt x="30" y="191"/>
                      </a:lnTo>
                      <a:lnTo>
                        <a:pt x="49" y="166"/>
                      </a:lnTo>
                      <a:lnTo>
                        <a:pt x="62" y="141"/>
                      </a:lnTo>
                      <a:lnTo>
                        <a:pt x="72" y="120"/>
                      </a:lnTo>
                      <a:lnTo>
                        <a:pt x="81" y="90"/>
                      </a:lnTo>
                      <a:lnTo>
                        <a:pt x="86" y="58"/>
                      </a:lnTo>
                      <a:lnTo>
                        <a:pt x="95" y="0"/>
                      </a:lnTo>
                      <a:close/>
                    </a:path>
                  </a:pathLst>
                </a:custGeom>
                <a:solidFill>
                  <a:srgbClr val="00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3" name=""/>
                <p:cNvSpPr/>
                <p:nvPr/>
              </p:nvSpPr>
              <p:spPr>
                <a:xfrm>
                  <a:off x="1881000" y="5392080"/>
                  <a:ext cx="74880" cy="155880"/>
                </a:xfrm>
                <a:custGeom>
                  <a:avLst/>
                  <a:gdLst/>
                  <a:ahLst/>
                  <a:rect l="l" t="t" r="r" b="b"/>
                  <a:pathLst>
                    <a:path w="196" h="372">
                      <a:moveTo>
                        <a:pt x="95" y="0"/>
                      </a:moveTo>
                      <a:lnTo>
                        <a:pt x="105" y="59"/>
                      </a:lnTo>
                      <a:lnTo>
                        <a:pt x="111" y="88"/>
                      </a:lnTo>
                      <a:lnTo>
                        <a:pt x="121" y="122"/>
                      </a:lnTo>
                      <a:lnTo>
                        <a:pt x="132" y="143"/>
                      </a:lnTo>
                      <a:lnTo>
                        <a:pt x="147" y="167"/>
                      </a:lnTo>
                      <a:lnTo>
                        <a:pt x="167" y="195"/>
                      </a:lnTo>
                      <a:lnTo>
                        <a:pt x="184" y="220"/>
                      </a:lnTo>
                      <a:lnTo>
                        <a:pt x="192" y="247"/>
                      </a:lnTo>
                      <a:lnTo>
                        <a:pt x="196" y="279"/>
                      </a:lnTo>
                      <a:lnTo>
                        <a:pt x="189" y="308"/>
                      </a:lnTo>
                      <a:lnTo>
                        <a:pt x="178" y="328"/>
                      </a:lnTo>
                      <a:lnTo>
                        <a:pt x="162" y="345"/>
                      </a:lnTo>
                      <a:lnTo>
                        <a:pt x="141" y="361"/>
                      </a:lnTo>
                      <a:lnTo>
                        <a:pt x="121" y="369"/>
                      </a:lnTo>
                      <a:lnTo>
                        <a:pt x="99" y="372"/>
                      </a:lnTo>
                      <a:lnTo>
                        <a:pt x="76" y="369"/>
                      </a:lnTo>
                      <a:lnTo>
                        <a:pt x="54" y="363"/>
                      </a:lnTo>
                      <a:lnTo>
                        <a:pt x="34" y="351"/>
                      </a:lnTo>
                      <a:lnTo>
                        <a:pt x="19" y="336"/>
                      </a:lnTo>
                      <a:lnTo>
                        <a:pt x="8" y="317"/>
                      </a:lnTo>
                      <a:lnTo>
                        <a:pt x="3" y="298"/>
                      </a:lnTo>
                      <a:lnTo>
                        <a:pt x="0" y="272"/>
                      </a:lnTo>
                      <a:lnTo>
                        <a:pt x="5" y="242"/>
                      </a:lnTo>
                      <a:lnTo>
                        <a:pt x="13" y="219"/>
                      </a:lnTo>
                      <a:lnTo>
                        <a:pt x="30" y="191"/>
                      </a:lnTo>
                      <a:lnTo>
                        <a:pt x="49" y="167"/>
                      </a:lnTo>
                      <a:lnTo>
                        <a:pt x="62" y="141"/>
                      </a:lnTo>
                      <a:lnTo>
                        <a:pt x="72" y="120"/>
                      </a:lnTo>
                      <a:lnTo>
                        <a:pt x="81" y="90"/>
                      </a:lnTo>
                      <a:lnTo>
                        <a:pt x="86" y="59"/>
                      </a:lnTo>
                      <a:lnTo>
                        <a:pt x="95" y="0"/>
                      </a:lnTo>
                      <a:close/>
                    </a:path>
                  </a:pathLst>
                </a:custGeom>
                <a:solidFill>
                  <a:srgbClr val="00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44" name=""/>
            <p:cNvGrpSpPr/>
            <p:nvPr/>
          </p:nvGrpSpPr>
          <p:grpSpPr>
            <a:xfrm>
              <a:off x="2441520" y="4691160"/>
              <a:ext cx="822240" cy="1022040"/>
              <a:chOff x="2441520" y="4691160"/>
              <a:chExt cx="822240" cy="1022040"/>
            </a:xfrm>
          </p:grpSpPr>
          <p:graphicFrame>
            <p:nvGraphicFramePr>
              <p:cNvPr id="645" name=""/>
              <p:cNvGraphicFramePr/>
              <p:nvPr/>
            </p:nvGraphicFramePr>
            <p:xfrm>
              <a:off x="2441520" y="4691160"/>
              <a:ext cx="822240" cy="71604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646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41520" y="4691160"/>
                        <a:ext cx="822240" cy="7160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pSp>
            <p:nvGrpSpPr>
              <p:cNvPr id="647" name=""/>
              <p:cNvGrpSpPr/>
              <p:nvPr/>
            </p:nvGrpSpPr>
            <p:grpSpPr>
              <a:xfrm>
                <a:off x="3082680" y="5392800"/>
                <a:ext cx="74880" cy="320400"/>
                <a:chOff x="3082680" y="5392800"/>
                <a:chExt cx="74880" cy="320400"/>
              </a:xfrm>
            </p:grpSpPr>
            <p:sp>
              <p:nvSpPr>
                <p:cNvPr id="648" name=""/>
                <p:cNvSpPr/>
                <p:nvPr/>
              </p:nvSpPr>
              <p:spPr>
                <a:xfrm>
                  <a:off x="3082680" y="5392800"/>
                  <a:ext cx="74880" cy="155880"/>
                </a:xfrm>
                <a:custGeom>
                  <a:avLst/>
                  <a:gdLst/>
                  <a:ahLst/>
                  <a:rect l="l" t="t" r="r" b="b"/>
                  <a:pathLst>
                    <a:path w="196" h="371">
                      <a:moveTo>
                        <a:pt x="95" y="0"/>
                      </a:moveTo>
                      <a:lnTo>
                        <a:pt x="105" y="58"/>
                      </a:lnTo>
                      <a:lnTo>
                        <a:pt x="111" y="88"/>
                      </a:lnTo>
                      <a:lnTo>
                        <a:pt x="121" y="122"/>
                      </a:lnTo>
                      <a:lnTo>
                        <a:pt x="132" y="142"/>
                      </a:lnTo>
                      <a:lnTo>
                        <a:pt x="147" y="166"/>
                      </a:lnTo>
                      <a:lnTo>
                        <a:pt x="167" y="194"/>
                      </a:lnTo>
                      <a:lnTo>
                        <a:pt x="184" y="220"/>
                      </a:lnTo>
                      <a:lnTo>
                        <a:pt x="192" y="246"/>
                      </a:lnTo>
                      <a:lnTo>
                        <a:pt x="196" y="279"/>
                      </a:lnTo>
                      <a:lnTo>
                        <a:pt x="189" y="307"/>
                      </a:lnTo>
                      <a:lnTo>
                        <a:pt x="178" y="328"/>
                      </a:lnTo>
                      <a:lnTo>
                        <a:pt x="162" y="345"/>
                      </a:lnTo>
                      <a:lnTo>
                        <a:pt x="141" y="361"/>
                      </a:lnTo>
                      <a:lnTo>
                        <a:pt x="121" y="368"/>
                      </a:lnTo>
                      <a:lnTo>
                        <a:pt x="99" y="371"/>
                      </a:lnTo>
                      <a:lnTo>
                        <a:pt x="76" y="368"/>
                      </a:lnTo>
                      <a:lnTo>
                        <a:pt x="54" y="362"/>
                      </a:lnTo>
                      <a:lnTo>
                        <a:pt x="34" y="351"/>
                      </a:lnTo>
                      <a:lnTo>
                        <a:pt x="19" y="335"/>
                      </a:lnTo>
                      <a:lnTo>
                        <a:pt x="8" y="316"/>
                      </a:lnTo>
                      <a:lnTo>
                        <a:pt x="3" y="297"/>
                      </a:lnTo>
                      <a:lnTo>
                        <a:pt x="0" y="272"/>
                      </a:lnTo>
                      <a:lnTo>
                        <a:pt x="5" y="240"/>
                      </a:lnTo>
                      <a:lnTo>
                        <a:pt x="13" y="218"/>
                      </a:lnTo>
                      <a:lnTo>
                        <a:pt x="30" y="191"/>
                      </a:lnTo>
                      <a:lnTo>
                        <a:pt x="49" y="166"/>
                      </a:lnTo>
                      <a:lnTo>
                        <a:pt x="62" y="141"/>
                      </a:lnTo>
                      <a:lnTo>
                        <a:pt x="72" y="120"/>
                      </a:lnTo>
                      <a:lnTo>
                        <a:pt x="81" y="90"/>
                      </a:lnTo>
                      <a:lnTo>
                        <a:pt x="86" y="58"/>
                      </a:lnTo>
                      <a:lnTo>
                        <a:pt x="95" y="0"/>
                      </a:lnTo>
                      <a:close/>
                    </a:path>
                  </a:pathLst>
                </a:custGeom>
                <a:solidFill>
                  <a:srgbClr val="00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9" name=""/>
                <p:cNvSpPr/>
                <p:nvPr/>
              </p:nvSpPr>
              <p:spPr>
                <a:xfrm>
                  <a:off x="3082680" y="5557320"/>
                  <a:ext cx="74880" cy="155880"/>
                </a:xfrm>
                <a:custGeom>
                  <a:avLst/>
                  <a:gdLst/>
                  <a:ahLst/>
                  <a:rect l="l" t="t" r="r" b="b"/>
                  <a:pathLst>
                    <a:path w="196" h="372">
                      <a:moveTo>
                        <a:pt x="95" y="0"/>
                      </a:moveTo>
                      <a:lnTo>
                        <a:pt x="105" y="59"/>
                      </a:lnTo>
                      <a:lnTo>
                        <a:pt x="111" y="88"/>
                      </a:lnTo>
                      <a:lnTo>
                        <a:pt x="121" y="122"/>
                      </a:lnTo>
                      <a:lnTo>
                        <a:pt x="132" y="143"/>
                      </a:lnTo>
                      <a:lnTo>
                        <a:pt x="147" y="167"/>
                      </a:lnTo>
                      <a:lnTo>
                        <a:pt x="167" y="195"/>
                      </a:lnTo>
                      <a:lnTo>
                        <a:pt x="184" y="220"/>
                      </a:lnTo>
                      <a:lnTo>
                        <a:pt x="192" y="247"/>
                      </a:lnTo>
                      <a:lnTo>
                        <a:pt x="196" y="279"/>
                      </a:lnTo>
                      <a:lnTo>
                        <a:pt x="189" y="308"/>
                      </a:lnTo>
                      <a:lnTo>
                        <a:pt x="178" y="328"/>
                      </a:lnTo>
                      <a:lnTo>
                        <a:pt x="162" y="345"/>
                      </a:lnTo>
                      <a:lnTo>
                        <a:pt x="141" y="361"/>
                      </a:lnTo>
                      <a:lnTo>
                        <a:pt x="121" y="369"/>
                      </a:lnTo>
                      <a:lnTo>
                        <a:pt x="99" y="372"/>
                      </a:lnTo>
                      <a:lnTo>
                        <a:pt x="76" y="369"/>
                      </a:lnTo>
                      <a:lnTo>
                        <a:pt x="54" y="363"/>
                      </a:lnTo>
                      <a:lnTo>
                        <a:pt x="34" y="351"/>
                      </a:lnTo>
                      <a:lnTo>
                        <a:pt x="19" y="336"/>
                      </a:lnTo>
                      <a:lnTo>
                        <a:pt x="8" y="317"/>
                      </a:lnTo>
                      <a:lnTo>
                        <a:pt x="3" y="298"/>
                      </a:lnTo>
                      <a:lnTo>
                        <a:pt x="0" y="272"/>
                      </a:lnTo>
                      <a:lnTo>
                        <a:pt x="5" y="242"/>
                      </a:lnTo>
                      <a:lnTo>
                        <a:pt x="13" y="219"/>
                      </a:lnTo>
                      <a:lnTo>
                        <a:pt x="30" y="191"/>
                      </a:lnTo>
                      <a:lnTo>
                        <a:pt x="49" y="167"/>
                      </a:lnTo>
                      <a:lnTo>
                        <a:pt x="62" y="141"/>
                      </a:lnTo>
                      <a:lnTo>
                        <a:pt x="72" y="120"/>
                      </a:lnTo>
                      <a:lnTo>
                        <a:pt x="81" y="90"/>
                      </a:lnTo>
                      <a:lnTo>
                        <a:pt x="86" y="59"/>
                      </a:lnTo>
                      <a:lnTo>
                        <a:pt x="95" y="0"/>
                      </a:lnTo>
                      <a:close/>
                    </a:path>
                  </a:pathLst>
                </a:custGeom>
                <a:solidFill>
                  <a:srgbClr val="00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50" name=""/>
            <p:cNvGrpSpPr/>
            <p:nvPr/>
          </p:nvGrpSpPr>
          <p:grpSpPr>
            <a:xfrm>
              <a:off x="1306440" y="1709640"/>
              <a:ext cx="879480" cy="1404720"/>
              <a:chOff x="1306440" y="1709640"/>
              <a:chExt cx="879480" cy="1404720"/>
            </a:xfrm>
          </p:grpSpPr>
          <p:sp>
            <p:nvSpPr>
              <p:cNvPr id="651" name=""/>
              <p:cNvSpPr/>
              <p:nvPr/>
            </p:nvSpPr>
            <p:spPr>
              <a:xfrm>
                <a:off x="1314360" y="1816560"/>
                <a:ext cx="863280" cy="963720"/>
              </a:xfrm>
              <a:custGeom>
                <a:avLst/>
                <a:gdLst/>
                <a:ahLst/>
                <a:rect l="l" t="t" r="r" b="b"/>
                <a:pathLst>
                  <a:path w="2256" h="2295">
                    <a:moveTo>
                      <a:pt x="0" y="0"/>
                    </a:moveTo>
                    <a:lnTo>
                      <a:pt x="939" y="1180"/>
                    </a:lnTo>
                    <a:lnTo>
                      <a:pt x="980" y="2175"/>
                    </a:lnTo>
                    <a:lnTo>
                      <a:pt x="983" y="2202"/>
                    </a:lnTo>
                    <a:lnTo>
                      <a:pt x="991" y="2221"/>
                    </a:lnTo>
                    <a:lnTo>
                      <a:pt x="1000" y="2235"/>
                    </a:lnTo>
                    <a:lnTo>
                      <a:pt x="1010" y="2246"/>
                    </a:lnTo>
                    <a:lnTo>
                      <a:pt x="1024" y="2260"/>
                    </a:lnTo>
                    <a:lnTo>
                      <a:pt x="1038" y="2268"/>
                    </a:lnTo>
                    <a:lnTo>
                      <a:pt x="1060" y="2281"/>
                    </a:lnTo>
                    <a:lnTo>
                      <a:pt x="1083" y="2287"/>
                    </a:lnTo>
                    <a:lnTo>
                      <a:pt x="1111" y="2293"/>
                    </a:lnTo>
                    <a:lnTo>
                      <a:pt x="1128" y="2295"/>
                    </a:lnTo>
                    <a:lnTo>
                      <a:pt x="1145" y="2295"/>
                    </a:lnTo>
                    <a:lnTo>
                      <a:pt x="1163" y="2292"/>
                    </a:lnTo>
                    <a:lnTo>
                      <a:pt x="1183" y="2286"/>
                    </a:lnTo>
                    <a:lnTo>
                      <a:pt x="1202" y="2279"/>
                    </a:lnTo>
                    <a:lnTo>
                      <a:pt x="1221" y="2268"/>
                    </a:lnTo>
                    <a:lnTo>
                      <a:pt x="1235" y="2259"/>
                    </a:lnTo>
                    <a:lnTo>
                      <a:pt x="1251" y="2243"/>
                    </a:lnTo>
                    <a:lnTo>
                      <a:pt x="1262" y="2227"/>
                    </a:lnTo>
                    <a:lnTo>
                      <a:pt x="1273" y="2203"/>
                    </a:lnTo>
                    <a:lnTo>
                      <a:pt x="1276" y="2181"/>
                    </a:lnTo>
                    <a:lnTo>
                      <a:pt x="1336" y="1161"/>
                    </a:lnTo>
                    <a:lnTo>
                      <a:pt x="225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1306440" y="1709640"/>
                <a:ext cx="879480" cy="182880"/>
              </a:xfrm>
              <a:prstGeom prst="ellipse">
                <a:avLst/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1375200" y="1844280"/>
                <a:ext cx="748440" cy="907200"/>
              </a:xfrm>
              <a:custGeom>
                <a:avLst/>
                <a:gdLst/>
                <a:ahLst/>
                <a:rect l="l" t="t" r="r" b="b"/>
                <a:pathLst>
                  <a:path w="1956" h="2159">
                    <a:moveTo>
                      <a:pt x="0" y="19"/>
                    </a:moveTo>
                    <a:lnTo>
                      <a:pt x="857" y="1063"/>
                    </a:lnTo>
                    <a:lnTo>
                      <a:pt x="879" y="2090"/>
                    </a:lnTo>
                    <a:lnTo>
                      <a:pt x="887" y="2107"/>
                    </a:lnTo>
                    <a:lnTo>
                      <a:pt x="897" y="2123"/>
                    </a:lnTo>
                    <a:lnTo>
                      <a:pt x="906" y="2137"/>
                    </a:lnTo>
                    <a:lnTo>
                      <a:pt x="922" y="2147"/>
                    </a:lnTo>
                    <a:lnTo>
                      <a:pt x="939" y="2156"/>
                    </a:lnTo>
                    <a:lnTo>
                      <a:pt x="962" y="2159"/>
                    </a:lnTo>
                    <a:lnTo>
                      <a:pt x="983" y="2157"/>
                    </a:lnTo>
                    <a:lnTo>
                      <a:pt x="1005" y="2153"/>
                    </a:lnTo>
                    <a:lnTo>
                      <a:pt x="1026" y="2140"/>
                    </a:lnTo>
                    <a:lnTo>
                      <a:pt x="1040" y="2123"/>
                    </a:lnTo>
                    <a:lnTo>
                      <a:pt x="1048" y="2109"/>
                    </a:lnTo>
                    <a:lnTo>
                      <a:pt x="1056" y="2088"/>
                    </a:lnTo>
                    <a:lnTo>
                      <a:pt x="1100" y="1045"/>
                    </a:lnTo>
                    <a:lnTo>
                      <a:pt x="1956" y="0"/>
                    </a:lnTo>
                    <a:lnTo>
                      <a:pt x="1790" y="41"/>
                    </a:lnTo>
                    <a:lnTo>
                      <a:pt x="1531" y="77"/>
                    </a:lnTo>
                    <a:lnTo>
                      <a:pt x="1247" y="98"/>
                    </a:lnTo>
                    <a:lnTo>
                      <a:pt x="962" y="109"/>
                    </a:lnTo>
                    <a:lnTo>
                      <a:pt x="662" y="98"/>
                    </a:lnTo>
                    <a:lnTo>
                      <a:pt x="398" y="77"/>
                    </a:lnTo>
                    <a:lnTo>
                      <a:pt x="178" y="52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1503720" y="2028240"/>
                <a:ext cx="483120" cy="725760"/>
              </a:xfrm>
              <a:custGeom>
                <a:avLst/>
                <a:gdLst/>
                <a:ahLst/>
                <a:rect l="l" t="t" r="r" b="b"/>
                <a:pathLst>
                  <a:path w="1264" h="1728">
                    <a:moveTo>
                      <a:pt x="0" y="0"/>
                    </a:moveTo>
                    <a:lnTo>
                      <a:pt x="520" y="624"/>
                    </a:lnTo>
                    <a:lnTo>
                      <a:pt x="531" y="1657"/>
                    </a:lnTo>
                    <a:lnTo>
                      <a:pt x="541" y="1674"/>
                    </a:lnTo>
                    <a:lnTo>
                      <a:pt x="553" y="1688"/>
                    </a:lnTo>
                    <a:lnTo>
                      <a:pt x="564" y="1701"/>
                    </a:lnTo>
                    <a:lnTo>
                      <a:pt x="580" y="1715"/>
                    </a:lnTo>
                    <a:lnTo>
                      <a:pt x="608" y="1723"/>
                    </a:lnTo>
                    <a:lnTo>
                      <a:pt x="632" y="1728"/>
                    </a:lnTo>
                    <a:lnTo>
                      <a:pt x="651" y="1725"/>
                    </a:lnTo>
                    <a:lnTo>
                      <a:pt x="673" y="1720"/>
                    </a:lnTo>
                    <a:lnTo>
                      <a:pt x="694" y="1709"/>
                    </a:lnTo>
                    <a:lnTo>
                      <a:pt x="711" y="1692"/>
                    </a:lnTo>
                    <a:lnTo>
                      <a:pt x="723" y="1669"/>
                    </a:lnTo>
                    <a:lnTo>
                      <a:pt x="730" y="1657"/>
                    </a:lnTo>
                    <a:lnTo>
                      <a:pt x="761" y="605"/>
                    </a:lnTo>
                    <a:lnTo>
                      <a:pt x="126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1708200" y="2793240"/>
                <a:ext cx="75600" cy="155880"/>
              </a:xfrm>
              <a:custGeom>
                <a:avLst/>
                <a:gdLst/>
                <a:ahLst/>
                <a:rect l="l" t="t" r="r" b="b"/>
                <a:pathLst>
                  <a:path w="196" h="370">
                    <a:moveTo>
                      <a:pt x="95" y="0"/>
                    </a:moveTo>
                    <a:lnTo>
                      <a:pt x="105" y="58"/>
                    </a:lnTo>
                    <a:lnTo>
                      <a:pt x="111" y="87"/>
                    </a:lnTo>
                    <a:lnTo>
                      <a:pt x="121" y="121"/>
                    </a:lnTo>
                    <a:lnTo>
                      <a:pt x="132" y="141"/>
                    </a:lnTo>
                    <a:lnTo>
                      <a:pt x="147" y="166"/>
                    </a:lnTo>
                    <a:lnTo>
                      <a:pt x="167" y="193"/>
                    </a:lnTo>
                    <a:lnTo>
                      <a:pt x="184" y="220"/>
                    </a:lnTo>
                    <a:lnTo>
                      <a:pt x="192" y="245"/>
                    </a:lnTo>
                    <a:lnTo>
                      <a:pt x="196" y="278"/>
                    </a:lnTo>
                    <a:lnTo>
                      <a:pt x="189" y="307"/>
                    </a:lnTo>
                    <a:lnTo>
                      <a:pt x="178" y="328"/>
                    </a:lnTo>
                    <a:lnTo>
                      <a:pt x="162" y="345"/>
                    </a:lnTo>
                    <a:lnTo>
                      <a:pt x="141" y="361"/>
                    </a:lnTo>
                    <a:lnTo>
                      <a:pt x="121" y="367"/>
                    </a:lnTo>
                    <a:lnTo>
                      <a:pt x="99" y="370"/>
                    </a:lnTo>
                    <a:lnTo>
                      <a:pt x="76" y="367"/>
                    </a:lnTo>
                    <a:lnTo>
                      <a:pt x="54" y="362"/>
                    </a:lnTo>
                    <a:lnTo>
                      <a:pt x="34" y="350"/>
                    </a:lnTo>
                    <a:lnTo>
                      <a:pt x="19" y="334"/>
                    </a:lnTo>
                    <a:lnTo>
                      <a:pt x="8" y="315"/>
                    </a:lnTo>
                    <a:lnTo>
                      <a:pt x="3" y="296"/>
                    </a:lnTo>
                    <a:lnTo>
                      <a:pt x="0" y="272"/>
                    </a:lnTo>
                    <a:lnTo>
                      <a:pt x="5" y="240"/>
                    </a:lnTo>
                    <a:lnTo>
                      <a:pt x="13" y="218"/>
                    </a:lnTo>
                    <a:lnTo>
                      <a:pt x="30" y="190"/>
                    </a:lnTo>
                    <a:lnTo>
                      <a:pt x="49" y="166"/>
                    </a:lnTo>
                    <a:lnTo>
                      <a:pt x="62" y="140"/>
                    </a:lnTo>
                    <a:lnTo>
                      <a:pt x="72" y="119"/>
                    </a:lnTo>
                    <a:lnTo>
                      <a:pt x="81" y="90"/>
                    </a:lnTo>
                    <a:lnTo>
                      <a:pt x="86" y="58"/>
                    </a:lnTo>
                    <a:lnTo>
                      <a:pt x="95" y="0"/>
                    </a:lnTo>
                    <a:close/>
                  </a:path>
                </a:pathLst>
              </a:cu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1350000" y="1727280"/>
                <a:ext cx="792000" cy="147240"/>
              </a:xfrm>
              <a:prstGeom prst="ellips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1708200" y="2958120"/>
                <a:ext cx="75600" cy="156240"/>
              </a:xfrm>
              <a:custGeom>
                <a:avLst/>
                <a:gdLst/>
                <a:ahLst/>
                <a:rect l="l" t="t" r="r" b="b"/>
                <a:pathLst>
                  <a:path w="196" h="372">
                    <a:moveTo>
                      <a:pt x="95" y="0"/>
                    </a:moveTo>
                    <a:lnTo>
                      <a:pt x="105" y="60"/>
                    </a:lnTo>
                    <a:lnTo>
                      <a:pt x="111" y="88"/>
                    </a:lnTo>
                    <a:lnTo>
                      <a:pt x="121" y="122"/>
                    </a:lnTo>
                    <a:lnTo>
                      <a:pt x="132" y="143"/>
                    </a:lnTo>
                    <a:lnTo>
                      <a:pt x="147" y="168"/>
                    </a:lnTo>
                    <a:lnTo>
                      <a:pt x="167" y="195"/>
                    </a:lnTo>
                    <a:lnTo>
                      <a:pt x="184" y="221"/>
                    </a:lnTo>
                    <a:lnTo>
                      <a:pt x="192" y="247"/>
                    </a:lnTo>
                    <a:lnTo>
                      <a:pt x="196" y="279"/>
                    </a:lnTo>
                    <a:lnTo>
                      <a:pt x="189" y="308"/>
                    </a:lnTo>
                    <a:lnTo>
                      <a:pt x="178" y="328"/>
                    </a:lnTo>
                    <a:lnTo>
                      <a:pt x="162" y="345"/>
                    </a:lnTo>
                    <a:lnTo>
                      <a:pt x="141" y="361"/>
                    </a:lnTo>
                    <a:lnTo>
                      <a:pt x="121" y="369"/>
                    </a:lnTo>
                    <a:lnTo>
                      <a:pt x="99" y="372"/>
                    </a:lnTo>
                    <a:lnTo>
                      <a:pt x="76" y="369"/>
                    </a:lnTo>
                    <a:lnTo>
                      <a:pt x="54" y="363"/>
                    </a:lnTo>
                    <a:lnTo>
                      <a:pt x="34" y="351"/>
                    </a:lnTo>
                    <a:lnTo>
                      <a:pt x="19" y="336"/>
                    </a:lnTo>
                    <a:lnTo>
                      <a:pt x="8" y="317"/>
                    </a:lnTo>
                    <a:lnTo>
                      <a:pt x="3" y="298"/>
                    </a:lnTo>
                    <a:lnTo>
                      <a:pt x="0" y="272"/>
                    </a:lnTo>
                    <a:lnTo>
                      <a:pt x="5" y="242"/>
                    </a:lnTo>
                    <a:lnTo>
                      <a:pt x="13" y="219"/>
                    </a:lnTo>
                    <a:lnTo>
                      <a:pt x="30" y="191"/>
                    </a:lnTo>
                    <a:lnTo>
                      <a:pt x="49" y="168"/>
                    </a:lnTo>
                    <a:lnTo>
                      <a:pt x="62" y="141"/>
                    </a:lnTo>
                    <a:lnTo>
                      <a:pt x="72" y="120"/>
                    </a:lnTo>
                    <a:lnTo>
                      <a:pt x="81" y="90"/>
                    </a:lnTo>
                    <a:lnTo>
                      <a:pt x="86" y="60"/>
                    </a:lnTo>
                    <a:lnTo>
                      <a:pt x="95" y="0"/>
                    </a:lnTo>
                    <a:close/>
                  </a:path>
                </a:pathLst>
              </a:cu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1499040" y="1970280"/>
                <a:ext cx="493560" cy="94320"/>
              </a:xfrm>
              <a:prstGeom prst="ellipse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1712880" y="2694960"/>
                <a:ext cx="65520" cy="72720"/>
              </a:xfrm>
              <a:prstGeom prst="ellipse">
                <a:avLst/>
              </a:prstGeom>
              <a:solidFill>
                <a:srgbClr val="009999"/>
              </a:solidFill>
              <a:ln w="1764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0" name=""/>
            <p:cNvSpPr/>
            <p:nvPr/>
          </p:nvSpPr>
          <p:spPr>
            <a:xfrm>
              <a:off x="1370880" y="5712120"/>
              <a:ext cx="7491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Moč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1-2 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2557080" y="5854680"/>
              <a:ext cx="1029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Stoli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0,1 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3619080" y="5735880"/>
              <a:ext cx="14533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Perspira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0,6-0,8 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970520" y="5626080"/>
              <a:ext cx="13845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Respira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0,5 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64" name=""/>
            <p:cNvGraphicFramePr/>
            <p:nvPr/>
          </p:nvGraphicFramePr>
          <p:xfrm>
            <a:off x="6558120" y="260280"/>
            <a:ext cx="2155680" cy="192888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665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6558120" y="260280"/>
                      <a:ext cx="2155680" cy="192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0" name=""/>
          <p:cNvSpPr/>
          <p:nvPr/>
        </p:nvSpPr>
        <p:spPr>
          <a:xfrm>
            <a:off x="277920" y="2017800"/>
            <a:ext cx="2528640" cy="6919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Glomerulární filtr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Primární    reabsorpce Na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1" name=""/>
          <p:cNvSpPr/>
          <p:nvPr/>
        </p:nvSpPr>
        <p:spPr>
          <a:xfrm>
            <a:off x="88920" y="114480"/>
            <a:ext cx="2529000" cy="691920"/>
          </a:xfrm>
          <a:prstGeom prst="rect">
            <a:avLst/>
          </a:prstGeom>
          <a:solidFill>
            <a:srgbClr val="ffff66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Primární onemocnění ledv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2" name=""/>
          <p:cNvSpPr/>
          <p:nvPr/>
        </p:nvSpPr>
        <p:spPr>
          <a:xfrm>
            <a:off x="6330960" y="122400"/>
            <a:ext cx="2340000" cy="677880"/>
          </a:xfrm>
          <a:prstGeom prst="rect">
            <a:avLst/>
          </a:prstGeom>
          <a:solidFill>
            <a:srgbClr val="ffff66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Primární     renin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Primární     aldosteron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3" name=""/>
          <p:cNvSpPr/>
          <p:nvPr/>
        </p:nvSpPr>
        <p:spPr>
          <a:xfrm>
            <a:off x="7608960" y="214200"/>
            <a:ext cx="0" cy="2872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4" name=""/>
          <p:cNvSpPr/>
          <p:nvPr/>
        </p:nvSpPr>
        <p:spPr>
          <a:xfrm>
            <a:off x="7378560" y="444600"/>
            <a:ext cx="0" cy="2872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5" name=""/>
          <p:cNvSpPr/>
          <p:nvPr/>
        </p:nvSpPr>
        <p:spPr>
          <a:xfrm>
            <a:off x="4459320" y="1628640"/>
            <a:ext cx="2340000" cy="6778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Angiotensin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Aldoster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6" name=""/>
          <p:cNvSpPr/>
          <p:nvPr/>
        </p:nvSpPr>
        <p:spPr>
          <a:xfrm>
            <a:off x="4843440" y="1676520"/>
            <a:ext cx="0" cy="2872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7" name=""/>
          <p:cNvSpPr/>
          <p:nvPr/>
        </p:nvSpPr>
        <p:spPr>
          <a:xfrm>
            <a:off x="4998960" y="1954080"/>
            <a:ext cx="0" cy="2876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8" name=""/>
          <p:cNvSpPr/>
          <p:nvPr/>
        </p:nvSpPr>
        <p:spPr>
          <a:xfrm>
            <a:off x="566640" y="2139840"/>
            <a:ext cx="7920" cy="238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9" name=""/>
          <p:cNvSpPr/>
          <p:nvPr/>
        </p:nvSpPr>
        <p:spPr>
          <a:xfrm>
            <a:off x="3203640" y="2938320"/>
            <a:ext cx="2529000" cy="6922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Reabsorpce Na</a:t>
            </a:r>
            <a:r>
              <a:rPr b="0" lang="cs-CZ" sz="16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0" name=""/>
          <p:cNvSpPr/>
          <p:nvPr/>
        </p:nvSpPr>
        <p:spPr>
          <a:xfrm>
            <a:off x="3119400" y="4235400"/>
            <a:ext cx="2766960" cy="700200"/>
          </a:xfrm>
          <a:prstGeom prst="rect">
            <a:avLst/>
          </a:prstGeom>
          <a:solidFill>
            <a:srgbClr val="ffff66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Retence Na</a:t>
            </a:r>
            <a:r>
              <a:rPr b="0" lang="cs-CZ" sz="1600" spc="-1" strike="noStrike" baseline="30000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a vody v ledviná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1" name=""/>
          <p:cNvSpPr/>
          <p:nvPr/>
        </p:nvSpPr>
        <p:spPr>
          <a:xfrm>
            <a:off x="3111480" y="5707080"/>
            <a:ext cx="2529000" cy="692280"/>
          </a:xfrm>
          <a:prstGeom prst="rect">
            <a:avLst/>
          </a:prstGeom>
          <a:solidFill>
            <a:srgbClr val="ffff66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Edém, hypertenz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(hyperhydratac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72" name=""/>
          <p:cNvGrpSpPr/>
          <p:nvPr/>
        </p:nvGrpSpPr>
        <p:grpSpPr>
          <a:xfrm>
            <a:off x="6611760" y="5610240"/>
            <a:ext cx="968400" cy="992160"/>
            <a:chOff x="6611760" y="5610240"/>
            <a:chExt cx="968400" cy="992160"/>
          </a:xfrm>
        </p:grpSpPr>
        <p:sp>
          <p:nvSpPr>
            <p:cNvPr id="9173" name=""/>
            <p:cNvSpPr/>
            <p:nvPr/>
          </p:nvSpPr>
          <p:spPr>
            <a:xfrm>
              <a:off x="6611760" y="6116760"/>
              <a:ext cx="968400" cy="485640"/>
            </a:xfrm>
            <a:custGeom>
              <a:avLst/>
              <a:gdLst/>
              <a:ahLst/>
              <a:rect l="l" t="t" r="r" b="b"/>
              <a:pathLst>
                <a:path w="610" h="306">
                  <a:moveTo>
                    <a:pt x="19" y="225"/>
                  </a:moveTo>
                  <a:cubicBezTo>
                    <a:pt x="32" y="265"/>
                    <a:pt x="47" y="236"/>
                    <a:pt x="91" y="239"/>
                  </a:cubicBezTo>
                  <a:cubicBezTo>
                    <a:pt x="117" y="236"/>
                    <a:pt x="82" y="298"/>
                    <a:pt x="98" y="291"/>
                  </a:cubicBezTo>
                  <a:cubicBezTo>
                    <a:pt x="115" y="296"/>
                    <a:pt x="176" y="285"/>
                    <a:pt x="191" y="270"/>
                  </a:cubicBezTo>
                  <a:cubicBezTo>
                    <a:pt x="206" y="255"/>
                    <a:pt x="188" y="205"/>
                    <a:pt x="188" y="200"/>
                  </a:cubicBezTo>
                  <a:cubicBezTo>
                    <a:pt x="209" y="201"/>
                    <a:pt x="172" y="236"/>
                    <a:pt x="191" y="238"/>
                  </a:cubicBezTo>
                  <a:cubicBezTo>
                    <a:pt x="214" y="255"/>
                    <a:pt x="240" y="234"/>
                    <a:pt x="269" y="236"/>
                  </a:cubicBezTo>
                  <a:cubicBezTo>
                    <a:pt x="291" y="237"/>
                    <a:pt x="274" y="267"/>
                    <a:pt x="280" y="284"/>
                  </a:cubicBezTo>
                  <a:cubicBezTo>
                    <a:pt x="291" y="294"/>
                    <a:pt x="319" y="297"/>
                    <a:pt x="336" y="296"/>
                  </a:cubicBezTo>
                  <a:cubicBezTo>
                    <a:pt x="346" y="306"/>
                    <a:pt x="369" y="282"/>
                    <a:pt x="382" y="280"/>
                  </a:cubicBezTo>
                  <a:cubicBezTo>
                    <a:pt x="395" y="278"/>
                    <a:pt x="405" y="288"/>
                    <a:pt x="412" y="286"/>
                  </a:cubicBezTo>
                  <a:cubicBezTo>
                    <a:pt x="420" y="289"/>
                    <a:pt x="427" y="266"/>
                    <a:pt x="427" y="266"/>
                  </a:cubicBezTo>
                  <a:cubicBezTo>
                    <a:pt x="443" y="277"/>
                    <a:pt x="463" y="271"/>
                    <a:pt x="481" y="269"/>
                  </a:cubicBezTo>
                  <a:cubicBezTo>
                    <a:pt x="500" y="263"/>
                    <a:pt x="519" y="260"/>
                    <a:pt x="538" y="254"/>
                  </a:cubicBezTo>
                  <a:cubicBezTo>
                    <a:pt x="539" y="227"/>
                    <a:pt x="574" y="210"/>
                    <a:pt x="581" y="183"/>
                  </a:cubicBezTo>
                  <a:cubicBezTo>
                    <a:pt x="583" y="163"/>
                    <a:pt x="573" y="132"/>
                    <a:pt x="593" y="125"/>
                  </a:cubicBezTo>
                  <a:cubicBezTo>
                    <a:pt x="610" y="102"/>
                    <a:pt x="607" y="108"/>
                    <a:pt x="604" y="68"/>
                  </a:cubicBezTo>
                  <a:cubicBezTo>
                    <a:pt x="604" y="61"/>
                    <a:pt x="605" y="51"/>
                    <a:pt x="599" y="48"/>
                  </a:cubicBezTo>
                  <a:cubicBezTo>
                    <a:pt x="584" y="42"/>
                    <a:pt x="567" y="46"/>
                    <a:pt x="551" y="45"/>
                  </a:cubicBezTo>
                  <a:cubicBezTo>
                    <a:pt x="546" y="40"/>
                    <a:pt x="546" y="36"/>
                    <a:pt x="539" y="35"/>
                  </a:cubicBezTo>
                  <a:cubicBezTo>
                    <a:pt x="522" y="36"/>
                    <a:pt x="510" y="41"/>
                    <a:pt x="493" y="42"/>
                  </a:cubicBezTo>
                  <a:cubicBezTo>
                    <a:pt x="471" y="38"/>
                    <a:pt x="450" y="30"/>
                    <a:pt x="428" y="29"/>
                  </a:cubicBezTo>
                  <a:cubicBezTo>
                    <a:pt x="368" y="9"/>
                    <a:pt x="301" y="14"/>
                    <a:pt x="239" y="12"/>
                  </a:cubicBezTo>
                  <a:cubicBezTo>
                    <a:pt x="196" y="15"/>
                    <a:pt x="219" y="22"/>
                    <a:pt x="176" y="21"/>
                  </a:cubicBezTo>
                  <a:cubicBezTo>
                    <a:pt x="164" y="17"/>
                    <a:pt x="161" y="16"/>
                    <a:pt x="145" y="14"/>
                  </a:cubicBezTo>
                  <a:cubicBezTo>
                    <a:pt x="129" y="12"/>
                    <a:pt x="98" y="0"/>
                    <a:pt x="80" y="6"/>
                  </a:cubicBezTo>
                  <a:cubicBezTo>
                    <a:pt x="44" y="26"/>
                    <a:pt x="41" y="30"/>
                    <a:pt x="35" y="48"/>
                  </a:cubicBezTo>
                  <a:cubicBezTo>
                    <a:pt x="34" y="64"/>
                    <a:pt x="0" y="84"/>
                    <a:pt x="16" y="89"/>
                  </a:cubicBezTo>
                  <a:cubicBezTo>
                    <a:pt x="24" y="100"/>
                    <a:pt x="34" y="110"/>
                    <a:pt x="43" y="120"/>
                  </a:cubicBezTo>
                  <a:cubicBezTo>
                    <a:pt x="45" y="132"/>
                    <a:pt x="15" y="234"/>
                    <a:pt x="19" y="225"/>
                  </a:cubicBez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4" name=""/>
            <p:cNvSpPr/>
            <p:nvPr/>
          </p:nvSpPr>
          <p:spPr>
            <a:xfrm>
              <a:off x="6822720" y="5610240"/>
              <a:ext cx="649440" cy="723960"/>
            </a:xfrm>
            <a:custGeom>
              <a:avLst/>
              <a:gdLst/>
              <a:ahLst/>
              <a:rect l="l" t="t" r="r" b="b"/>
              <a:pathLst>
                <a:path w="2866" h="3197">
                  <a:moveTo>
                    <a:pt x="1" y="406"/>
                  </a:moveTo>
                  <a:lnTo>
                    <a:pt x="11" y="379"/>
                  </a:lnTo>
                  <a:lnTo>
                    <a:pt x="37" y="357"/>
                  </a:lnTo>
                  <a:lnTo>
                    <a:pt x="78" y="330"/>
                  </a:lnTo>
                  <a:lnTo>
                    <a:pt x="191" y="290"/>
                  </a:lnTo>
                  <a:lnTo>
                    <a:pt x="278" y="263"/>
                  </a:lnTo>
                  <a:lnTo>
                    <a:pt x="377" y="236"/>
                  </a:lnTo>
                  <a:lnTo>
                    <a:pt x="490" y="203"/>
                  </a:lnTo>
                  <a:lnTo>
                    <a:pt x="556" y="164"/>
                  </a:lnTo>
                  <a:lnTo>
                    <a:pt x="626" y="136"/>
                  </a:lnTo>
                  <a:lnTo>
                    <a:pt x="716" y="108"/>
                  </a:lnTo>
                  <a:lnTo>
                    <a:pt x="802" y="83"/>
                  </a:lnTo>
                  <a:lnTo>
                    <a:pt x="908" y="59"/>
                  </a:lnTo>
                  <a:lnTo>
                    <a:pt x="1033" y="40"/>
                  </a:lnTo>
                  <a:lnTo>
                    <a:pt x="1167" y="20"/>
                  </a:lnTo>
                  <a:lnTo>
                    <a:pt x="1311" y="8"/>
                  </a:lnTo>
                  <a:lnTo>
                    <a:pt x="1442" y="1"/>
                  </a:lnTo>
                  <a:lnTo>
                    <a:pt x="1570" y="0"/>
                  </a:lnTo>
                  <a:lnTo>
                    <a:pt x="1694" y="1"/>
                  </a:lnTo>
                  <a:lnTo>
                    <a:pt x="1831" y="11"/>
                  </a:lnTo>
                  <a:lnTo>
                    <a:pt x="1960" y="23"/>
                  </a:lnTo>
                  <a:lnTo>
                    <a:pt x="2068" y="38"/>
                  </a:lnTo>
                  <a:lnTo>
                    <a:pt x="2174" y="55"/>
                  </a:lnTo>
                  <a:lnTo>
                    <a:pt x="2277" y="75"/>
                  </a:lnTo>
                  <a:lnTo>
                    <a:pt x="2379" y="102"/>
                  </a:lnTo>
                  <a:lnTo>
                    <a:pt x="2462" y="128"/>
                  </a:lnTo>
                  <a:lnTo>
                    <a:pt x="2549" y="159"/>
                  </a:lnTo>
                  <a:lnTo>
                    <a:pt x="2632" y="200"/>
                  </a:lnTo>
                  <a:lnTo>
                    <a:pt x="2697" y="237"/>
                  </a:lnTo>
                  <a:lnTo>
                    <a:pt x="2764" y="285"/>
                  </a:lnTo>
                  <a:lnTo>
                    <a:pt x="2816" y="337"/>
                  </a:lnTo>
                  <a:lnTo>
                    <a:pt x="2848" y="386"/>
                  </a:lnTo>
                  <a:lnTo>
                    <a:pt x="2866" y="440"/>
                  </a:lnTo>
                  <a:lnTo>
                    <a:pt x="2866" y="488"/>
                  </a:lnTo>
                  <a:lnTo>
                    <a:pt x="2852" y="538"/>
                  </a:lnTo>
                  <a:lnTo>
                    <a:pt x="2822" y="590"/>
                  </a:lnTo>
                  <a:lnTo>
                    <a:pt x="2775" y="636"/>
                  </a:lnTo>
                  <a:lnTo>
                    <a:pt x="2734" y="670"/>
                  </a:lnTo>
                  <a:lnTo>
                    <a:pt x="2734" y="2783"/>
                  </a:lnTo>
                  <a:lnTo>
                    <a:pt x="2719" y="2825"/>
                  </a:lnTo>
                  <a:lnTo>
                    <a:pt x="2692" y="2877"/>
                  </a:lnTo>
                  <a:lnTo>
                    <a:pt x="2650" y="2925"/>
                  </a:lnTo>
                  <a:lnTo>
                    <a:pt x="2603" y="2967"/>
                  </a:lnTo>
                  <a:lnTo>
                    <a:pt x="2550" y="2998"/>
                  </a:lnTo>
                  <a:lnTo>
                    <a:pt x="2504" y="3024"/>
                  </a:lnTo>
                  <a:lnTo>
                    <a:pt x="2451" y="3051"/>
                  </a:lnTo>
                  <a:lnTo>
                    <a:pt x="2383" y="3076"/>
                  </a:lnTo>
                  <a:lnTo>
                    <a:pt x="2310" y="3099"/>
                  </a:lnTo>
                  <a:lnTo>
                    <a:pt x="2222" y="3124"/>
                  </a:lnTo>
                  <a:lnTo>
                    <a:pt x="2148" y="3140"/>
                  </a:lnTo>
                  <a:lnTo>
                    <a:pt x="2069" y="3155"/>
                  </a:lnTo>
                  <a:lnTo>
                    <a:pt x="1986" y="3171"/>
                  </a:lnTo>
                  <a:lnTo>
                    <a:pt x="1882" y="3182"/>
                  </a:lnTo>
                  <a:lnTo>
                    <a:pt x="1803" y="3187"/>
                  </a:lnTo>
                  <a:lnTo>
                    <a:pt x="1687" y="3197"/>
                  </a:lnTo>
                  <a:lnTo>
                    <a:pt x="1594" y="3197"/>
                  </a:lnTo>
                  <a:lnTo>
                    <a:pt x="1484" y="3197"/>
                  </a:lnTo>
                  <a:lnTo>
                    <a:pt x="1363" y="3192"/>
                  </a:lnTo>
                  <a:lnTo>
                    <a:pt x="1289" y="3187"/>
                  </a:lnTo>
                  <a:lnTo>
                    <a:pt x="1196" y="3177"/>
                  </a:lnTo>
                  <a:lnTo>
                    <a:pt x="1112" y="3160"/>
                  </a:lnTo>
                  <a:lnTo>
                    <a:pt x="1002" y="3140"/>
                  </a:lnTo>
                  <a:lnTo>
                    <a:pt x="923" y="3124"/>
                  </a:lnTo>
                  <a:lnTo>
                    <a:pt x="818" y="3092"/>
                  </a:lnTo>
                  <a:lnTo>
                    <a:pt x="734" y="3067"/>
                  </a:lnTo>
                  <a:lnTo>
                    <a:pt x="662" y="3035"/>
                  </a:lnTo>
                  <a:lnTo>
                    <a:pt x="600" y="2998"/>
                  </a:lnTo>
                  <a:lnTo>
                    <a:pt x="547" y="2967"/>
                  </a:lnTo>
                  <a:lnTo>
                    <a:pt x="494" y="2925"/>
                  </a:lnTo>
                  <a:lnTo>
                    <a:pt x="458" y="2877"/>
                  </a:lnTo>
                  <a:lnTo>
                    <a:pt x="433" y="2820"/>
                  </a:lnTo>
                  <a:lnTo>
                    <a:pt x="422" y="2778"/>
                  </a:lnTo>
                  <a:lnTo>
                    <a:pt x="411" y="2738"/>
                  </a:lnTo>
                  <a:lnTo>
                    <a:pt x="411" y="1105"/>
                  </a:lnTo>
                  <a:lnTo>
                    <a:pt x="156" y="604"/>
                  </a:lnTo>
                  <a:lnTo>
                    <a:pt x="72" y="529"/>
                  </a:lnTo>
                  <a:lnTo>
                    <a:pt x="45" y="506"/>
                  </a:lnTo>
                  <a:lnTo>
                    <a:pt x="20" y="484"/>
                  </a:lnTo>
                  <a:lnTo>
                    <a:pt x="4" y="454"/>
                  </a:lnTo>
                  <a:lnTo>
                    <a:pt x="0" y="427"/>
                  </a:lnTo>
                  <a:lnTo>
                    <a:pt x="1" y="406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5" name=""/>
            <p:cNvSpPr/>
            <p:nvPr/>
          </p:nvSpPr>
          <p:spPr>
            <a:xfrm>
              <a:off x="6875280" y="5730840"/>
              <a:ext cx="542880" cy="582840"/>
            </a:xfrm>
            <a:custGeom>
              <a:avLst/>
              <a:gdLst/>
              <a:ahLst/>
              <a:rect l="l" t="t" r="r" b="b"/>
              <a:pathLst>
                <a:path w="2399" h="2566">
                  <a:moveTo>
                    <a:pt x="0" y="0"/>
                  </a:moveTo>
                  <a:lnTo>
                    <a:pt x="271" y="500"/>
                  </a:lnTo>
                  <a:lnTo>
                    <a:pt x="271" y="2173"/>
                  </a:lnTo>
                  <a:lnTo>
                    <a:pt x="286" y="2241"/>
                  </a:lnTo>
                  <a:lnTo>
                    <a:pt x="306" y="2279"/>
                  </a:lnTo>
                  <a:lnTo>
                    <a:pt x="332" y="2320"/>
                  </a:lnTo>
                  <a:lnTo>
                    <a:pt x="364" y="2340"/>
                  </a:lnTo>
                  <a:lnTo>
                    <a:pt x="411" y="2378"/>
                  </a:lnTo>
                  <a:lnTo>
                    <a:pt x="463" y="2404"/>
                  </a:lnTo>
                  <a:lnTo>
                    <a:pt x="521" y="2430"/>
                  </a:lnTo>
                  <a:lnTo>
                    <a:pt x="595" y="2456"/>
                  </a:lnTo>
                  <a:lnTo>
                    <a:pt x="667" y="2483"/>
                  </a:lnTo>
                  <a:lnTo>
                    <a:pt x="737" y="2500"/>
                  </a:lnTo>
                  <a:lnTo>
                    <a:pt x="824" y="2519"/>
                  </a:lnTo>
                  <a:lnTo>
                    <a:pt x="910" y="2535"/>
                  </a:lnTo>
                  <a:lnTo>
                    <a:pt x="989" y="2546"/>
                  </a:lnTo>
                  <a:lnTo>
                    <a:pt x="1065" y="2555"/>
                  </a:lnTo>
                  <a:lnTo>
                    <a:pt x="1155" y="2562"/>
                  </a:lnTo>
                  <a:lnTo>
                    <a:pt x="1250" y="2566"/>
                  </a:lnTo>
                  <a:lnTo>
                    <a:pt x="1359" y="2566"/>
                  </a:lnTo>
                  <a:lnTo>
                    <a:pt x="1470" y="2562"/>
                  </a:lnTo>
                  <a:lnTo>
                    <a:pt x="1573" y="2555"/>
                  </a:lnTo>
                  <a:lnTo>
                    <a:pt x="1672" y="2546"/>
                  </a:lnTo>
                  <a:lnTo>
                    <a:pt x="1773" y="2532"/>
                  </a:lnTo>
                  <a:lnTo>
                    <a:pt x="1846" y="2519"/>
                  </a:lnTo>
                  <a:lnTo>
                    <a:pt x="1938" y="2498"/>
                  </a:lnTo>
                  <a:lnTo>
                    <a:pt x="2012" y="2476"/>
                  </a:lnTo>
                  <a:lnTo>
                    <a:pt x="2080" y="2456"/>
                  </a:lnTo>
                  <a:lnTo>
                    <a:pt x="2149" y="2430"/>
                  </a:lnTo>
                  <a:lnTo>
                    <a:pt x="2211" y="2404"/>
                  </a:lnTo>
                  <a:lnTo>
                    <a:pt x="2259" y="2378"/>
                  </a:lnTo>
                  <a:lnTo>
                    <a:pt x="2304" y="2340"/>
                  </a:lnTo>
                  <a:lnTo>
                    <a:pt x="2336" y="2315"/>
                  </a:lnTo>
                  <a:lnTo>
                    <a:pt x="2363" y="2283"/>
                  </a:lnTo>
                  <a:lnTo>
                    <a:pt x="2390" y="2236"/>
                  </a:lnTo>
                  <a:lnTo>
                    <a:pt x="2399" y="2183"/>
                  </a:lnTo>
                  <a:lnTo>
                    <a:pt x="2399" y="188"/>
                  </a:lnTo>
                  <a:lnTo>
                    <a:pt x="2311" y="229"/>
                  </a:lnTo>
                  <a:lnTo>
                    <a:pt x="2188" y="275"/>
                  </a:lnTo>
                  <a:lnTo>
                    <a:pt x="2055" y="310"/>
                  </a:lnTo>
                  <a:lnTo>
                    <a:pt x="1908" y="343"/>
                  </a:lnTo>
                  <a:lnTo>
                    <a:pt x="1762" y="365"/>
                  </a:lnTo>
                  <a:lnTo>
                    <a:pt x="1604" y="381"/>
                  </a:lnTo>
                  <a:lnTo>
                    <a:pt x="1437" y="391"/>
                  </a:lnTo>
                  <a:lnTo>
                    <a:pt x="1269" y="391"/>
                  </a:lnTo>
                  <a:lnTo>
                    <a:pt x="1089" y="383"/>
                  </a:lnTo>
                  <a:lnTo>
                    <a:pt x="923" y="361"/>
                  </a:lnTo>
                  <a:lnTo>
                    <a:pt x="745" y="335"/>
                  </a:lnTo>
                  <a:lnTo>
                    <a:pt x="579" y="293"/>
                  </a:lnTo>
                  <a:lnTo>
                    <a:pt x="448" y="253"/>
                  </a:lnTo>
                  <a:lnTo>
                    <a:pt x="372" y="219"/>
                  </a:lnTo>
                  <a:lnTo>
                    <a:pt x="312" y="184"/>
                  </a:lnTo>
                  <a:lnTo>
                    <a:pt x="271" y="152"/>
                  </a:lnTo>
                  <a:lnTo>
                    <a:pt x="236" y="109"/>
                  </a:lnTo>
                  <a:lnTo>
                    <a:pt x="214" y="94"/>
                  </a:lnTo>
                  <a:lnTo>
                    <a:pt x="182" y="73"/>
                  </a:lnTo>
                  <a:lnTo>
                    <a:pt x="154" y="57"/>
                  </a:lnTo>
                  <a:lnTo>
                    <a:pt x="120" y="41"/>
                  </a:lnTo>
                  <a:lnTo>
                    <a:pt x="87" y="27"/>
                  </a:lnTo>
                  <a:lnTo>
                    <a:pt x="48" y="1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6" name=""/>
            <p:cNvSpPr/>
            <p:nvPr/>
          </p:nvSpPr>
          <p:spPr>
            <a:xfrm>
              <a:off x="6876720" y="5730840"/>
              <a:ext cx="541440" cy="582840"/>
            </a:xfrm>
            <a:custGeom>
              <a:avLst/>
              <a:gdLst/>
              <a:ahLst/>
              <a:rect l="l" t="t" r="r" b="b"/>
              <a:pathLst>
                <a:path w="341" h="367">
                  <a:moveTo>
                    <a:pt x="24" y="11"/>
                  </a:moveTo>
                  <a:lnTo>
                    <a:pt x="0" y="0"/>
                  </a:lnTo>
                  <a:lnTo>
                    <a:pt x="36" y="60"/>
                  </a:lnTo>
                  <a:lnTo>
                    <a:pt x="37" y="311"/>
                  </a:lnTo>
                  <a:lnTo>
                    <a:pt x="39" y="320"/>
                  </a:lnTo>
                  <a:lnTo>
                    <a:pt x="42" y="326"/>
                  </a:lnTo>
                  <a:lnTo>
                    <a:pt x="46" y="331"/>
                  </a:lnTo>
                  <a:lnTo>
                    <a:pt x="51" y="335"/>
                  </a:lnTo>
                  <a:lnTo>
                    <a:pt x="58" y="340"/>
                  </a:lnTo>
                  <a:lnTo>
                    <a:pt x="65" y="344"/>
                  </a:lnTo>
                  <a:lnTo>
                    <a:pt x="74" y="348"/>
                  </a:lnTo>
                  <a:lnTo>
                    <a:pt x="84" y="351"/>
                  </a:lnTo>
                  <a:lnTo>
                    <a:pt x="95" y="355"/>
                  </a:lnTo>
                  <a:lnTo>
                    <a:pt x="104" y="358"/>
                  </a:lnTo>
                  <a:lnTo>
                    <a:pt x="117" y="360"/>
                  </a:lnTo>
                  <a:lnTo>
                    <a:pt x="129" y="362"/>
                  </a:lnTo>
                  <a:lnTo>
                    <a:pt x="140" y="364"/>
                  </a:lnTo>
                  <a:lnTo>
                    <a:pt x="151" y="365"/>
                  </a:lnTo>
                  <a:lnTo>
                    <a:pt x="164" y="366"/>
                  </a:lnTo>
                  <a:lnTo>
                    <a:pt x="177" y="367"/>
                  </a:lnTo>
                  <a:lnTo>
                    <a:pt x="193" y="367"/>
                  </a:lnTo>
                  <a:lnTo>
                    <a:pt x="209" y="366"/>
                  </a:lnTo>
                  <a:lnTo>
                    <a:pt x="224" y="365"/>
                  </a:lnTo>
                  <a:lnTo>
                    <a:pt x="238" y="364"/>
                  </a:lnTo>
                  <a:lnTo>
                    <a:pt x="252" y="362"/>
                  </a:lnTo>
                  <a:lnTo>
                    <a:pt x="262" y="360"/>
                  </a:lnTo>
                  <a:lnTo>
                    <a:pt x="276" y="357"/>
                  </a:lnTo>
                  <a:lnTo>
                    <a:pt x="286" y="354"/>
                  </a:lnTo>
                  <a:lnTo>
                    <a:pt x="296" y="351"/>
                  </a:lnTo>
                  <a:lnTo>
                    <a:pt x="305" y="347"/>
                  </a:lnTo>
                  <a:lnTo>
                    <a:pt x="314" y="343"/>
                  </a:lnTo>
                  <a:lnTo>
                    <a:pt x="321" y="339"/>
                  </a:lnTo>
                  <a:lnTo>
                    <a:pt x="327" y="334"/>
                  </a:lnTo>
                  <a:lnTo>
                    <a:pt x="332" y="331"/>
                  </a:lnTo>
                  <a:lnTo>
                    <a:pt x="336" y="327"/>
                  </a:lnTo>
                  <a:lnTo>
                    <a:pt x="339" y="320"/>
                  </a:lnTo>
                  <a:lnTo>
                    <a:pt x="341" y="313"/>
                  </a:lnTo>
                  <a:lnTo>
                    <a:pt x="340" y="33"/>
                  </a:lnTo>
                  <a:lnTo>
                    <a:pt x="268" y="53"/>
                  </a:lnTo>
                  <a:lnTo>
                    <a:pt x="165" y="57"/>
                  </a:lnTo>
                  <a:lnTo>
                    <a:pt x="87" y="48"/>
                  </a:lnTo>
                  <a:lnTo>
                    <a:pt x="36" y="26"/>
                  </a:lnTo>
                  <a:lnTo>
                    <a:pt x="24" y="11"/>
                  </a:lnTo>
                  <a:close/>
                </a:path>
              </a:pathLst>
            </a:custGeom>
            <a:solidFill>
              <a:srgbClr val="0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7" name=""/>
            <p:cNvSpPr/>
            <p:nvPr/>
          </p:nvSpPr>
          <p:spPr>
            <a:xfrm>
              <a:off x="6816600" y="5621400"/>
              <a:ext cx="657000" cy="222120"/>
            </a:xfrm>
            <a:custGeom>
              <a:avLst/>
              <a:gdLst/>
              <a:ahLst/>
              <a:rect l="l" t="t" r="r" b="b"/>
              <a:pathLst>
                <a:path w="414" h="140">
                  <a:moveTo>
                    <a:pt x="0" y="65"/>
                  </a:moveTo>
                  <a:lnTo>
                    <a:pt x="17" y="45"/>
                  </a:lnTo>
                  <a:lnTo>
                    <a:pt x="6" y="68"/>
                  </a:lnTo>
                  <a:lnTo>
                    <a:pt x="34" y="44"/>
                  </a:lnTo>
                  <a:lnTo>
                    <a:pt x="48" y="40"/>
                  </a:lnTo>
                  <a:lnTo>
                    <a:pt x="60" y="37"/>
                  </a:lnTo>
                  <a:lnTo>
                    <a:pt x="71" y="34"/>
                  </a:lnTo>
                  <a:lnTo>
                    <a:pt x="80" y="32"/>
                  </a:lnTo>
                  <a:lnTo>
                    <a:pt x="86" y="27"/>
                  </a:lnTo>
                  <a:lnTo>
                    <a:pt x="93" y="22"/>
                  </a:lnTo>
                  <a:lnTo>
                    <a:pt x="101" y="19"/>
                  </a:lnTo>
                  <a:lnTo>
                    <a:pt x="110" y="16"/>
                  </a:lnTo>
                  <a:lnTo>
                    <a:pt x="119" y="13"/>
                  </a:lnTo>
                  <a:lnTo>
                    <a:pt x="129" y="11"/>
                  </a:lnTo>
                  <a:lnTo>
                    <a:pt x="139" y="8"/>
                  </a:lnTo>
                  <a:lnTo>
                    <a:pt x="149" y="6"/>
                  </a:lnTo>
                  <a:lnTo>
                    <a:pt x="161" y="4"/>
                  </a:lnTo>
                  <a:lnTo>
                    <a:pt x="175" y="3"/>
                  </a:lnTo>
                  <a:lnTo>
                    <a:pt x="192" y="1"/>
                  </a:lnTo>
                  <a:lnTo>
                    <a:pt x="213" y="0"/>
                  </a:lnTo>
                  <a:lnTo>
                    <a:pt x="235" y="0"/>
                  </a:lnTo>
                  <a:lnTo>
                    <a:pt x="256" y="1"/>
                  </a:lnTo>
                  <a:lnTo>
                    <a:pt x="280" y="3"/>
                  </a:lnTo>
                  <a:lnTo>
                    <a:pt x="299" y="5"/>
                  </a:lnTo>
                  <a:lnTo>
                    <a:pt x="317" y="9"/>
                  </a:lnTo>
                  <a:lnTo>
                    <a:pt x="334" y="13"/>
                  </a:lnTo>
                  <a:lnTo>
                    <a:pt x="350" y="18"/>
                  </a:lnTo>
                  <a:lnTo>
                    <a:pt x="363" y="23"/>
                  </a:lnTo>
                  <a:lnTo>
                    <a:pt x="375" y="29"/>
                  </a:lnTo>
                  <a:lnTo>
                    <a:pt x="383" y="36"/>
                  </a:lnTo>
                  <a:lnTo>
                    <a:pt x="389" y="41"/>
                  </a:lnTo>
                  <a:lnTo>
                    <a:pt x="413" y="51"/>
                  </a:lnTo>
                  <a:lnTo>
                    <a:pt x="414" y="92"/>
                  </a:lnTo>
                  <a:lnTo>
                    <a:pt x="411" y="68"/>
                  </a:lnTo>
                  <a:lnTo>
                    <a:pt x="393" y="65"/>
                  </a:lnTo>
                  <a:lnTo>
                    <a:pt x="389" y="70"/>
                  </a:lnTo>
                  <a:lnTo>
                    <a:pt x="385" y="74"/>
                  </a:lnTo>
                  <a:lnTo>
                    <a:pt x="380" y="79"/>
                  </a:lnTo>
                  <a:lnTo>
                    <a:pt x="374" y="83"/>
                  </a:lnTo>
                  <a:lnTo>
                    <a:pt x="367" y="87"/>
                  </a:lnTo>
                  <a:lnTo>
                    <a:pt x="358" y="91"/>
                  </a:lnTo>
                  <a:lnTo>
                    <a:pt x="347" y="95"/>
                  </a:lnTo>
                  <a:lnTo>
                    <a:pt x="350" y="113"/>
                  </a:lnTo>
                  <a:lnTo>
                    <a:pt x="320" y="103"/>
                  </a:lnTo>
                  <a:lnTo>
                    <a:pt x="303" y="106"/>
                  </a:lnTo>
                  <a:lnTo>
                    <a:pt x="289" y="108"/>
                  </a:lnTo>
                  <a:lnTo>
                    <a:pt x="272" y="110"/>
                  </a:lnTo>
                  <a:lnTo>
                    <a:pt x="246" y="140"/>
                  </a:lnTo>
                  <a:lnTo>
                    <a:pt x="235" y="112"/>
                  </a:lnTo>
                  <a:lnTo>
                    <a:pt x="220" y="112"/>
                  </a:lnTo>
                  <a:lnTo>
                    <a:pt x="206" y="111"/>
                  </a:lnTo>
                  <a:lnTo>
                    <a:pt x="192" y="110"/>
                  </a:lnTo>
                  <a:lnTo>
                    <a:pt x="177" y="109"/>
                  </a:lnTo>
                  <a:lnTo>
                    <a:pt x="163" y="107"/>
                  </a:lnTo>
                  <a:lnTo>
                    <a:pt x="153" y="105"/>
                  </a:lnTo>
                  <a:lnTo>
                    <a:pt x="141" y="103"/>
                  </a:lnTo>
                  <a:lnTo>
                    <a:pt x="125" y="122"/>
                  </a:lnTo>
                  <a:lnTo>
                    <a:pt x="120" y="98"/>
                  </a:lnTo>
                  <a:lnTo>
                    <a:pt x="112" y="95"/>
                  </a:lnTo>
                  <a:lnTo>
                    <a:pt x="104" y="92"/>
                  </a:lnTo>
                  <a:lnTo>
                    <a:pt x="96" y="88"/>
                  </a:lnTo>
                  <a:lnTo>
                    <a:pt x="90" y="85"/>
                  </a:lnTo>
                  <a:lnTo>
                    <a:pt x="84" y="80"/>
                  </a:lnTo>
                  <a:lnTo>
                    <a:pt x="80" y="76"/>
                  </a:lnTo>
                  <a:lnTo>
                    <a:pt x="77" y="72"/>
                  </a:lnTo>
                  <a:lnTo>
                    <a:pt x="70" y="68"/>
                  </a:lnTo>
                  <a:lnTo>
                    <a:pt x="63" y="66"/>
                  </a:lnTo>
                  <a:lnTo>
                    <a:pt x="55" y="63"/>
                  </a:lnTo>
                  <a:lnTo>
                    <a:pt x="46" y="60"/>
                  </a:lnTo>
                  <a:lnTo>
                    <a:pt x="36" y="57"/>
                  </a:lnTo>
                  <a:lnTo>
                    <a:pt x="30" y="55"/>
                  </a:lnTo>
                  <a:lnTo>
                    <a:pt x="23" y="54"/>
                  </a:lnTo>
                  <a:lnTo>
                    <a:pt x="19" y="52"/>
                  </a:lnTo>
                  <a:lnTo>
                    <a:pt x="0" y="65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8" name=""/>
            <p:cNvSpPr/>
            <p:nvPr/>
          </p:nvSpPr>
          <p:spPr>
            <a:xfrm>
              <a:off x="7181640" y="5867640"/>
              <a:ext cx="44280" cy="79200"/>
            </a:xfrm>
            <a:custGeom>
              <a:avLst/>
              <a:gdLst/>
              <a:ahLst/>
              <a:rect l="l" t="t" r="r" b="b"/>
              <a:pathLst>
                <a:path w="196" h="372">
                  <a:moveTo>
                    <a:pt x="95" y="0"/>
                  </a:moveTo>
                  <a:lnTo>
                    <a:pt x="105" y="60"/>
                  </a:lnTo>
                  <a:lnTo>
                    <a:pt x="111" y="88"/>
                  </a:lnTo>
                  <a:lnTo>
                    <a:pt x="121" y="122"/>
                  </a:lnTo>
                  <a:lnTo>
                    <a:pt x="132" y="143"/>
                  </a:lnTo>
                  <a:lnTo>
                    <a:pt x="147" y="168"/>
                  </a:lnTo>
                  <a:lnTo>
                    <a:pt x="167" y="195"/>
                  </a:lnTo>
                  <a:lnTo>
                    <a:pt x="184" y="221"/>
                  </a:lnTo>
                  <a:lnTo>
                    <a:pt x="192" y="247"/>
                  </a:lnTo>
                  <a:lnTo>
                    <a:pt x="196" y="279"/>
                  </a:lnTo>
                  <a:lnTo>
                    <a:pt x="189" y="308"/>
                  </a:lnTo>
                  <a:lnTo>
                    <a:pt x="178" y="328"/>
                  </a:lnTo>
                  <a:lnTo>
                    <a:pt x="162" y="345"/>
                  </a:lnTo>
                  <a:lnTo>
                    <a:pt x="141" y="361"/>
                  </a:lnTo>
                  <a:lnTo>
                    <a:pt x="121" y="369"/>
                  </a:lnTo>
                  <a:lnTo>
                    <a:pt x="99" y="372"/>
                  </a:lnTo>
                  <a:lnTo>
                    <a:pt x="76" y="369"/>
                  </a:lnTo>
                  <a:lnTo>
                    <a:pt x="54" y="363"/>
                  </a:lnTo>
                  <a:lnTo>
                    <a:pt x="34" y="351"/>
                  </a:lnTo>
                  <a:lnTo>
                    <a:pt x="19" y="336"/>
                  </a:lnTo>
                  <a:lnTo>
                    <a:pt x="8" y="317"/>
                  </a:lnTo>
                  <a:lnTo>
                    <a:pt x="3" y="298"/>
                  </a:lnTo>
                  <a:lnTo>
                    <a:pt x="0" y="272"/>
                  </a:lnTo>
                  <a:lnTo>
                    <a:pt x="5" y="242"/>
                  </a:lnTo>
                  <a:lnTo>
                    <a:pt x="13" y="219"/>
                  </a:lnTo>
                  <a:lnTo>
                    <a:pt x="30" y="191"/>
                  </a:lnTo>
                  <a:lnTo>
                    <a:pt x="49" y="168"/>
                  </a:lnTo>
                  <a:lnTo>
                    <a:pt x="62" y="141"/>
                  </a:lnTo>
                  <a:lnTo>
                    <a:pt x="72" y="120"/>
                  </a:lnTo>
                  <a:lnTo>
                    <a:pt x="81" y="90"/>
                  </a:lnTo>
                  <a:lnTo>
                    <a:pt x="86" y="60"/>
                  </a:lnTo>
                  <a:lnTo>
                    <a:pt x="95" y="0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9" name=""/>
            <p:cNvSpPr/>
            <p:nvPr/>
          </p:nvSpPr>
          <p:spPr>
            <a:xfrm>
              <a:off x="7349760" y="5796000"/>
              <a:ext cx="44640" cy="79560"/>
            </a:xfrm>
            <a:custGeom>
              <a:avLst/>
              <a:gdLst/>
              <a:ahLst/>
              <a:rect l="l" t="t" r="r" b="b"/>
              <a:pathLst>
                <a:path w="196" h="372">
                  <a:moveTo>
                    <a:pt x="95" y="0"/>
                  </a:moveTo>
                  <a:lnTo>
                    <a:pt x="105" y="60"/>
                  </a:lnTo>
                  <a:lnTo>
                    <a:pt x="111" y="88"/>
                  </a:lnTo>
                  <a:lnTo>
                    <a:pt x="121" y="122"/>
                  </a:lnTo>
                  <a:lnTo>
                    <a:pt x="132" y="143"/>
                  </a:lnTo>
                  <a:lnTo>
                    <a:pt x="147" y="168"/>
                  </a:lnTo>
                  <a:lnTo>
                    <a:pt x="167" y="195"/>
                  </a:lnTo>
                  <a:lnTo>
                    <a:pt x="184" y="221"/>
                  </a:lnTo>
                  <a:lnTo>
                    <a:pt x="192" y="247"/>
                  </a:lnTo>
                  <a:lnTo>
                    <a:pt x="196" y="279"/>
                  </a:lnTo>
                  <a:lnTo>
                    <a:pt x="189" y="308"/>
                  </a:lnTo>
                  <a:lnTo>
                    <a:pt x="178" y="328"/>
                  </a:lnTo>
                  <a:lnTo>
                    <a:pt x="162" y="345"/>
                  </a:lnTo>
                  <a:lnTo>
                    <a:pt x="141" y="361"/>
                  </a:lnTo>
                  <a:lnTo>
                    <a:pt x="121" y="369"/>
                  </a:lnTo>
                  <a:lnTo>
                    <a:pt x="99" y="372"/>
                  </a:lnTo>
                  <a:lnTo>
                    <a:pt x="76" y="369"/>
                  </a:lnTo>
                  <a:lnTo>
                    <a:pt x="54" y="363"/>
                  </a:lnTo>
                  <a:lnTo>
                    <a:pt x="34" y="351"/>
                  </a:lnTo>
                  <a:lnTo>
                    <a:pt x="19" y="336"/>
                  </a:lnTo>
                  <a:lnTo>
                    <a:pt x="8" y="317"/>
                  </a:lnTo>
                  <a:lnTo>
                    <a:pt x="3" y="298"/>
                  </a:lnTo>
                  <a:lnTo>
                    <a:pt x="0" y="272"/>
                  </a:lnTo>
                  <a:lnTo>
                    <a:pt x="5" y="242"/>
                  </a:lnTo>
                  <a:lnTo>
                    <a:pt x="13" y="219"/>
                  </a:lnTo>
                  <a:lnTo>
                    <a:pt x="30" y="191"/>
                  </a:lnTo>
                  <a:lnTo>
                    <a:pt x="49" y="168"/>
                  </a:lnTo>
                  <a:lnTo>
                    <a:pt x="62" y="141"/>
                  </a:lnTo>
                  <a:lnTo>
                    <a:pt x="72" y="120"/>
                  </a:lnTo>
                  <a:lnTo>
                    <a:pt x="81" y="90"/>
                  </a:lnTo>
                  <a:lnTo>
                    <a:pt x="86" y="60"/>
                  </a:lnTo>
                  <a:lnTo>
                    <a:pt x="95" y="0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0" name=""/>
            <p:cNvSpPr/>
            <p:nvPr/>
          </p:nvSpPr>
          <p:spPr>
            <a:xfrm>
              <a:off x="7349760" y="6156360"/>
              <a:ext cx="44640" cy="79560"/>
            </a:xfrm>
            <a:custGeom>
              <a:avLst/>
              <a:gdLst/>
              <a:ahLst/>
              <a:rect l="l" t="t" r="r" b="b"/>
              <a:pathLst>
                <a:path w="196" h="372">
                  <a:moveTo>
                    <a:pt x="95" y="0"/>
                  </a:moveTo>
                  <a:lnTo>
                    <a:pt x="105" y="60"/>
                  </a:lnTo>
                  <a:lnTo>
                    <a:pt x="111" y="88"/>
                  </a:lnTo>
                  <a:lnTo>
                    <a:pt x="121" y="122"/>
                  </a:lnTo>
                  <a:lnTo>
                    <a:pt x="132" y="143"/>
                  </a:lnTo>
                  <a:lnTo>
                    <a:pt x="147" y="168"/>
                  </a:lnTo>
                  <a:lnTo>
                    <a:pt x="167" y="195"/>
                  </a:lnTo>
                  <a:lnTo>
                    <a:pt x="184" y="221"/>
                  </a:lnTo>
                  <a:lnTo>
                    <a:pt x="192" y="247"/>
                  </a:lnTo>
                  <a:lnTo>
                    <a:pt x="196" y="279"/>
                  </a:lnTo>
                  <a:lnTo>
                    <a:pt x="189" y="308"/>
                  </a:lnTo>
                  <a:lnTo>
                    <a:pt x="178" y="328"/>
                  </a:lnTo>
                  <a:lnTo>
                    <a:pt x="162" y="345"/>
                  </a:lnTo>
                  <a:lnTo>
                    <a:pt x="141" y="361"/>
                  </a:lnTo>
                  <a:lnTo>
                    <a:pt x="121" y="369"/>
                  </a:lnTo>
                  <a:lnTo>
                    <a:pt x="99" y="372"/>
                  </a:lnTo>
                  <a:lnTo>
                    <a:pt x="76" y="369"/>
                  </a:lnTo>
                  <a:lnTo>
                    <a:pt x="54" y="363"/>
                  </a:lnTo>
                  <a:lnTo>
                    <a:pt x="34" y="351"/>
                  </a:lnTo>
                  <a:lnTo>
                    <a:pt x="19" y="336"/>
                  </a:lnTo>
                  <a:lnTo>
                    <a:pt x="8" y="317"/>
                  </a:lnTo>
                  <a:lnTo>
                    <a:pt x="3" y="298"/>
                  </a:lnTo>
                  <a:lnTo>
                    <a:pt x="0" y="272"/>
                  </a:lnTo>
                  <a:lnTo>
                    <a:pt x="5" y="242"/>
                  </a:lnTo>
                  <a:lnTo>
                    <a:pt x="13" y="219"/>
                  </a:lnTo>
                  <a:lnTo>
                    <a:pt x="30" y="191"/>
                  </a:lnTo>
                  <a:lnTo>
                    <a:pt x="49" y="168"/>
                  </a:lnTo>
                  <a:lnTo>
                    <a:pt x="62" y="141"/>
                  </a:lnTo>
                  <a:lnTo>
                    <a:pt x="72" y="120"/>
                  </a:lnTo>
                  <a:lnTo>
                    <a:pt x="81" y="90"/>
                  </a:lnTo>
                  <a:lnTo>
                    <a:pt x="86" y="60"/>
                  </a:lnTo>
                  <a:lnTo>
                    <a:pt x="95" y="0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1" name=""/>
            <p:cNvSpPr/>
            <p:nvPr/>
          </p:nvSpPr>
          <p:spPr>
            <a:xfrm>
              <a:off x="7175160" y="6246720"/>
              <a:ext cx="44640" cy="79560"/>
            </a:xfrm>
            <a:custGeom>
              <a:avLst/>
              <a:gdLst/>
              <a:ahLst/>
              <a:rect l="l" t="t" r="r" b="b"/>
              <a:pathLst>
                <a:path w="196" h="372">
                  <a:moveTo>
                    <a:pt x="95" y="0"/>
                  </a:moveTo>
                  <a:lnTo>
                    <a:pt x="105" y="60"/>
                  </a:lnTo>
                  <a:lnTo>
                    <a:pt x="111" y="88"/>
                  </a:lnTo>
                  <a:lnTo>
                    <a:pt x="121" y="122"/>
                  </a:lnTo>
                  <a:lnTo>
                    <a:pt x="132" y="143"/>
                  </a:lnTo>
                  <a:lnTo>
                    <a:pt x="147" y="168"/>
                  </a:lnTo>
                  <a:lnTo>
                    <a:pt x="167" y="195"/>
                  </a:lnTo>
                  <a:lnTo>
                    <a:pt x="184" y="221"/>
                  </a:lnTo>
                  <a:lnTo>
                    <a:pt x="192" y="247"/>
                  </a:lnTo>
                  <a:lnTo>
                    <a:pt x="196" y="279"/>
                  </a:lnTo>
                  <a:lnTo>
                    <a:pt x="189" y="308"/>
                  </a:lnTo>
                  <a:lnTo>
                    <a:pt x="178" y="328"/>
                  </a:lnTo>
                  <a:lnTo>
                    <a:pt x="162" y="345"/>
                  </a:lnTo>
                  <a:lnTo>
                    <a:pt x="141" y="361"/>
                  </a:lnTo>
                  <a:lnTo>
                    <a:pt x="121" y="369"/>
                  </a:lnTo>
                  <a:lnTo>
                    <a:pt x="99" y="372"/>
                  </a:lnTo>
                  <a:lnTo>
                    <a:pt x="76" y="369"/>
                  </a:lnTo>
                  <a:lnTo>
                    <a:pt x="54" y="363"/>
                  </a:lnTo>
                  <a:lnTo>
                    <a:pt x="34" y="351"/>
                  </a:lnTo>
                  <a:lnTo>
                    <a:pt x="19" y="336"/>
                  </a:lnTo>
                  <a:lnTo>
                    <a:pt x="8" y="317"/>
                  </a:lnTo>
                  <a:lnTo>
                    <a:pt x="3" y="298"/>
                  </a:lnTo>
                  <a:lnTo>
                    <a:pt x="0" y="272"/>
                  </a:lnTo>
                  <a:lnTo>
                    <a:pt x="5" y="242"/>
                  </a:lnTo>
                  <a:lnTo>
                    <a:pt x="13" y="219"/>
                  </a:lnTo>
                  <a:lnTo>
                    <a:pt x="30" y="191"/>
                  </a:lnTo>
                  <a:lnTo>
                    <a:pt x="49" y="168"/>
                  </a:lnTo>
                  <a:lnTo>
                    <a:pt x="62" y="141"/>
                  </a:lnTo>
                  <a:lnTo>
                    <a:pt x="72" y="120"/>
                  </a:lnTo>
                  <a:lnTo>
                    <a:pt x="81" y="90"/>
                  </a:lnTo>
                  <a:lnTo>
                    <a:pt x="86" y="60"/>
                  </a:lnTo>
                  <a:lnTo>
                    <a:pt x="95" y="0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2" name=""/>
            <p:cNvSpPr/>
            <p:nvPr/>
          </p:nvSpPr>
          <p:spPr>
            <a:xfrm>
              <a:off x="6984720" y="5840640"/>
              <a:ext cx="44640" cy="79200"/>
            </a:xfrm>
            <a:custGeom>
              <a:avLst/>
              <a:gdLst/>
              <a:ahLst/>
              <a:rect l="l" t="t" r="r" b="b"/>
              <a:pathLst>
                <a:path w="196" h="372">
                  <a:moveTo>
                    <a:pt x="95" y="0"/>
                  </a:moveTo>
                  <a:lnTo>
                    <a:pt x="105" y="60"/>
                  </a:lnTo>
                  <a:lnTo>
                    <a:pt x="111" y="88"/>
                  </a:lnTo>
                  <a:lnTo>
                    <a:pt x="121" y="122"/>
                  </a:lnTo>
                  <a:lnTo>
                    <a:pt x="132" y="143"/>
                  </a:lnTo>
                  <a:lnTo>
                    <a:pt x="147" y="168"/>
                  </a:lnTo>
                  <a:lnTo>
                    <a:pt x="167" y="195"/>
                  </a:lnTo>
                  <a:lnTo>
                    <a:pt x="184" y="221"/>
                  </a:lnTo>
                  <a:lnTo>
                    <a:pt x="192" y="247"/>
                  </a:lnTo>
                  <a:lnTo>
                    <a:pt x="196" y="279"/>
                  </a:lnTo>
                  <a:lnTo>
                    <a:pt x="189" y="308"/>
                  </a:lnTo>
                  <a:lnTo>
                    <a:pt x="178" y="328"/>
                  </a:lnTo>
                  <a:lnTo>
                    <a:pt x="162" y="345"/>
                  </a:lnTo>
                  <a:lnTo>
                    <a:pt x="141" y="361"/>
                  </a:lnTo>
                  <a:lnTo>
                    <a:pt x="121" y="369"/>
                  </a:lnTo>
                  <a:lnTo>
                    <a:pt x="99" y="372"/>
                  </a:lnTo>
                  <a:lnTo>
                    <a:pt x="76" y="369"/>
                  </a:lnTo>
                  <a:lnTo>
                    <a:pt x="54" y="363"/>
                  </a:lnTo>
                  <a:lnTo>
                    <a:pt x="34" y="351"/>
                  </a:lnTo>
                  <a:lnTo>
                    <a:pt x="19" y="336"/>
                  </a:lnTo>
                  <a:lnTo>
                    <a:pt x="8" y="317"/>
                  </a:lnTo>
                  <a:lnTo>
                    <a:pt x="3" y="298"/>
                  </a:lnTo>
                  <a:lnTo>
                    <a:pt x="0" y="272"/>
                  </a:lnTo>
                  <a:lnTo>
                    <a:pt x="5" y="242"/>
                  </a:lnTo>
                  <a:lnTo>
                    <a:pt x="13" y="219"/>
                  </a:lnTo>
                  <a:lnTo>
                    <a:pt x="30" y="191"/>
                  </a:lnTo>
                  <a:lnTo>
                    <a:pt x="49" y="168"/>
                  </a:lnTo>
                  <a:lnTo>
                    <a:pt x="62" y="141"/>
                  </a:lnTo>
                  <a:lnTo>
                    <a:pt x="72" y="120"/>
                  </a:lnTo>
                  <a:lnTo>
                    <a:pt x="81" y="90"/>
                  </a:lnTo>
                  <a:lnTo>
                    <a:pt x="86" y="60"/>
                  </a:lnTo>
                  <a:lnTo>
                    <a:pt x="95" y="0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3" name=""/>
            <p:cNvSpPr/>
            <p:nvPr/>
          </p:nvSpPr>
          <p:spPr>
            <a:xfrm>
              <a:off x="6975360" y="6097680"/>
              <a:ext cx="44280" cy="79200"/>
            </a:xfrm>
            <a:custGeom>
              <a:avLst/>
              <a:gdLst/>
              <a:ahLst/>
              <a:rect l="l" t="t" r="r" b="b"/>
              <a:pathLst>
                <a:path w="196" h="372">
                  <a:moveTo>
                    <a:pt x="95" y="0"/>
                  </a:moveTo>
                  <a:lnTo>
                    <a:pt x="105" y="60"/>
                  </a:lnTo>
                  <a:lnTo>
                    <a:pt x="111" y="88"/>
                  </a:lnTo>
                  <a:lnTo>
                    <a:pt x="121" y="122"/>
                  </a:lnTo>
                  <a:lnTo>
                    <a:pt x="132" y="143"/>
                  </a:lnTo>
                  <a:lnTo>
                    <a:pt x="147" y="168"/>
                  </a:lnTo>
                  <a:lnTo>
                    <a:pt x="167" y="195"/>
                  </a:lnTo>
                  <a:lnTo>
                    <a:pt x="184" y="221"/>
                  </a:lnTo>
                  <a:lnTo>
                    <a:pt x="192" y="247"/>
                  </a:lnTo>
                  <a:lnTo>
                    <a:pt x="196" y="279"/>
                  </a:lnTo>
                  <a:lnTo>
                    <a:pt x="189" y="308"/>
                  </a:lnTo>
                  <a:lnTo>
                    <a:pt x="178" y="328"/>
                  </a:lnTo>
                  <a:lnTo>
                    <a:pt x="162" y="345"/>
                  </a:lnTo>
                  <a:lnTo>
                    <a:pt x="141" y="361"/>
                  </a:lnTo>
                  <a:lnTo>
                    <a:pt x="121" y="369"/>
                  </a:lnTo>
                  <a:lnTo>
                    <a:pt x="99" y="372"/>
                  </a:lnTo>
                  <a:lnTo>
                    <a:pt x="76" y="369"/>
                  </a:lnTo>
                  <a:lnTo>
                    <a:pt x="54" y="363"/>
                  </a:lnTo>
                  <a:lnTo>
                    <a:pt x="34" y="351"/>
                  </a:lnTo>
                  <a:lnTo>
                    <a:pt x="19" y="336"/>
                  </a:lnTo>
                  <a:lnTo>
                    <a:pt x="8" y="317"/>
                  </a:lnTo>
                  <a:lnTo>
                    <a:pt x="3" y="298"/>
                  </a:lnTo>
                  <a:lnTo>
                    <a:pt x="0" y="272"/>
                  </a:lnTo>
                  <a:lnTo>
                    <a:pt x="5" y="242"/>
                  </a:lnTo>
                  <a:lnTo>
                    <a:pt x="13" y="219"/>
                  </a:lnTo>
                  <a:lnTo>
                    <a:pt x="30" y="191"/>
                  </a:lnTo>
                  <a:lnTo>
                    <a:pt x="49" y="168"/>
                  </a:lnTo>
                  <a:lnTo>
                    <a:pt x="62" y="141"/>
                  </a:lnTo>
                  <a:lnTo>
                    <a:pt x="72" y="120"/>
                  </a:lnTo>
                  <a:lnTo>
                    <a:pt x="81" y="90"/>
                  </a:lnTo>
                  <a:lnTo>
                    <a:pt x="86" y="60"/>
                  </a:lnTo>
                  <a:lnTo>
                    <a:pt x="95" y="0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4" name=""/>
            <p:cNvSpPr/>
            <p:nvPr/>
          </p:nvSpPr>
          <p:spPr>
            <a:xfrm>
              <a:off x="7449840" y="5740560"/>
              <a:ext cx="44640" cy="79200"/>
            </a:xfrm>
            <a:custGeom>
              <a:avLst/>
              <a:gdLst/>
              <a:ahLst/>
              <a:rect l="l" t="t" r="r" b="b"/>
              <a:pathLst>
                <a:path w="196" h="372">
                  <a:moveTo>
                    <a:pt x="95" y="0"/>
                  </a:moveTo>
                  <a:lnTo>
                    <a:pt x="105" y="60"/>
                  </a:lnTo>
                  <a:lnTo>
                    <a:pt x="111" y="88"/>
                  </a:lnTo>
                  <a:lnTo>
                    <a:pt x="121" y="122"/>
                  </a:lnTo>
                  <a:lnTo>
                    <a:pt x="132" y="143"/>
                  </a:lnTo>
                  <a:lnTo>
                    <a:pt x="147" y="168"/>
                  </a:lnTo>
                  <a:lnTo>
                    <a:pt x="167" y="195"/>
                  </a:lnTo>
                  <a:lnTo>
                    <a:pt x="184" y="221"/>
                  </a:lnTo>
                  <a:lnTo>
                    <a:pt x="192" y="247"/>
                  </a:lnTo>
                  <a:lnTo>
                    <a:pt x="196" y="279"/>
                  </a:lnTo>
                  <a:lnTo>
                    <a:pt x="189" y="308"/>
                  </a:lnTo>
                  <a:lnTo>
                    <a:pt x="178" y="328"/>
                  </a:lnTo>
                  <a:lnTo>
                    <a:pt x="162" y="345"/>
                  </a:lnTo>
                  <a:lnTo>
                    <a:pt x="141" y="361"/>
                  </a:lnTo>
                  <a:lnTo>
                    <a:pt x="121" y="369"/>
                  </a:lnTo>
                  <a:lnTo>
                    <a:pt x="99" y="372"/>
                  </a:lnTo>
                  <a:lnTo>
                    <a:pt x="76" y="369"/>
                  </a:lnTo>
                  <a:lnTo>
                    <a:pt x="54" y="363"/>
                  </a:lnTo>
                  <a:lnTo>
                    <a:pt x="34" y="351"/>
                  </a:lnTo>
                  <a:lnTo>
                    <a:pt x="19" y="336"/>
                  </a:lnTo>
                  <a:lnTo>
                    <a:pt x="8" y="317"/>
                  </a:lnTo>
                  <a:lnTo>
                    <a:pt x="3" y="298"/>
                  </a:lnTo>
                  <a:lnTo>
                    <a:pt x="0" y="272"/>
                  </a:lnTo>
                  <a:lnTo>
                    <a:pt x="5" y="242"/>
                  </a:lnTo>
                  <a:lnTo>
                    <a:pt x="13" y="219"/>
                  </a:lnTo>
                  <a:lnTo>
                    <a:pt x="30" y="191"/>
                  </a:lnTo>
                  <a:lnTo>
                    <a:pt x="49" y="168"/>
                  </a:lnTo>
                  <a:lnTo>
                    <a:pt x="62" y="141"/>
                  </a:lnTo>
                  <a:lnTo>
                    <a:pt x="72" y="120"/>
                  </a:lnTo>
                  <a:lnTo>
                    <a:pt x="81" y="90"/>
                  </a:lnTo>
                  <a:lnTo>
                    <a:pt x="86" y="60"/>
                  </a:lnTo>
                  <a:lnTo>
                    <a:pt x="95" y="0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5" name=""/>
            <p:cNvSpPr/>
            <p:nvPr/>
          </p:nvSpPr>
          <p:spPr>
            <a:xfrm>
              <a:off x="7446600" y="5938920"/>
              <a:ext cx="44640" cy="79200"/>
            </a:xfrm>
            <a:custGeom>
              <a:avLst/>
              <a:gdLst/>
              <a:ahLst/>
              <a:rect l="l" t="t" r="r" b="b"/>
              <a:pathLst>
                <a:path w="196" h="372">
                  <a:moveTo>
                    <a:pt x="95" y="0"/>
                  </a:moveTo>
                  <a:lnTo>
                    <a:pt x="105" y="60"/>
                  </a:lnTo>
                  <a:lnTo>
                    <a:pt x="111" y="88"/>
                  </a:lnTo>
                  <a:lnTo>
                    <a:pt x="121" y="122"/>
                  </a:lnTo>
                  <a:lnTo>
                    <a:pt x="132" y="143"/>
                  </a:lnTo>
                  <a:lnTo>
                    <a:pt x="147" y="168"/>
                  </a:lnTo>
                  <a:lnTo>
                    <a:pt x="167" y="195"/>
                  </a:lnTo>
                  <a:lnTo>
                    <a:pt x="184" y="221"/>
                  </a:lnTo>
                  <a:lnTo>
                    <a:pt x="192" y="247"/>
                  </a:lnTo>
                  <a:lnTo>
                    <a:pt x="196" y="279"/>
                  </a:lnTo>
                  <a:lnTo>
                    <a:pt x="189" y="308"/>
                  </a:lnTo>
                  <a:lnTo>
                    <a:pt x="178" y="328"/>
                  </a:lnTo>
                  <a:lnTo>
                    <a:pt x="162" y="345"/>
                  </a:lnTo>
                  <a:lnTo>
                    <a:pt x="141" y="361"/>
                  </a:lnTo>
                  <a:lnTo>
                    <a:pt x="121" y="369"/>
                  </a:lnTo>
                  <a:lnTo>
                    <a:pt x="99" y="372"/>
                  </a:lnTo>
                  <a:lnTo>
                    <a:pt x="76" y="369"/>
                  </a:lnTo>
                  <a:lnTo>
                    <a:pt x="54" y="363"/>
                  </a:lnTo>
                  <a:lnTo>
                    <a:pt x="34" y="351"/>
                  </a:lnTo>
                  <a:lnTo>
                    <a:pt x="19" y="336"/>
                  </a:lnTo>
                  <a:lnTo>
                    <a:pt x="8" y="317"/>
                  </a:lnTo>
                  <a:lnTo>
                    <a:pt x="3" y="298"/>
                  </a:lnTo>
                  <a:lnTo>
                    <a:pt x="0" y="272"/>
                  </a:lnTo>
                  <a:lnTo>
                    <a:pt x="5" y="242"/>
                  </a:lnTo>
                  <a:lnTo>
                    <a:pt x="13" y="219"/>
                  </a:lnTo>
                  <a:lnTo>
                    <a:pt x="30" y="191"/>
                  </a:lnTo>
                  <a:lnTo>
                    <a:pt x="49" y="168"/>
                  </a:lnTo>
                  <a:lnTo>
                    <a:pt x="62" y="141"/>
                  </a:lnTo>
                  <a:lnTo>
                    <a:pt x="72" y="120"/>
                  </a:lnTo>
                  <a:lnTo>
                    <a:pt x="81" y="90"/>
                  </a:lnTo>
                  <a:lnTo>
                    <a:pt x="86" y="60"/>
                  </a:lnTo>
                  <a:lnTo>
                    <a:pt x="95" y="0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6" name=""/>
            <p:cNvSpPr/>
            <p:nvPr/>
          </p:nvSpPr>
          <p:spPr>
            <a:xfrm>
              <a:off x="7448400" y="6123240"/>
              <a:ext cx="44280" cy="79200"/>
            </a:xfrm>
            <a:custGeom>
              <a:avLst/>
              <a:gdLst/>
              <a:ahLst/>
              <a:rect l="l" t="t" r="r" b="b"/>
              <a:pathLst>
                <a:path w="196" h="372">
                  <a:moveTo>
                    <a:pt x="95" y="0"/>
                  </a:moveTo>
                  <a:lnTo>
                    <a:pt x="105" y="60"/>
                  </a:lnTo>
                  <a:lnTo>
                    <a:pt x="111" y="88"/>
                  </a:lnTo>
                  <a:lnTo>
                    <a:pt x="121" y="122"/>
                  </a:lnTo>
                  <a:lnTo>
                    <a:pt x="132" y="143"/>
                  </a:lnTo>
                  <a:lnTo>
                    <a:pt x="147" y="168"/>
                  </a:lnTo>
                  <a:lnTo>
                    <a:pt x="167" y="195"/>
                  </a:lnTo>
                  <a:lnTo>
                    <a:pt x="184" y="221"/>
                  </a:lnTo>
                  <a:lnTo>
                    <a:pt x="192" y="247"/>
                  </a:lnTo>
                  <a:lnTo>
                    <a:pt x="196" y="279"/>
                  </a:lnTo>
                  <a:lnTo>
                    <a:pt x="189" y="308"/>
                  </a:lnTo>
                  <a:lnTo>
                    <a:pt x="178" y="328"/>
                  </a:lnTo>
                  <a:lnTo>
                    <a:pt x="162" y="345"/>
                  </a:lnTo>
                  <a:lnTo>
                    <a:pt x="141" y="361"/>
                  </a:lnTo>
                  <a:lnTo>
                    <a:pt x="121" y="369"/>
                  </a:lnTo>
                  <a:lnTo>
                    <a:pt x="99" y="372"/>
                  </a:lnTo>
                  <a:lnTo>
                    <a:pt x="76" y="369"/>
                  </a:lnTo>
                  <a:lnTo>
                    <a:pt x="54" y="363"/>
                  </a:lnTo>
                  <a:lnTo>
                    <a:pt x="34" y="351"/>
                  </a:lnTo>
                  <a:lnTo>
                    <a:pt x="19" y="336"/>
                  </a:lnTo>
                  <a:lnTo>
                    <a:pt x="8" y="317"/>
                  </a:lnTo>
                  <a:lnTo>
                    <a:pt x="3" y="298"/>
                  </a:lnTo>
                  <a:lnTo>
                    <a:pt x="0" y="272"/>
                  </a:lnTo>
                  <a:lnTo>
                    <a:pt x="5" y="242"/>
                  </a:lnTo>
                  <a:lnTo>
                    <a:pt x="13" y="219"/>
                  </a:lnTo>
                  <a:lnTo>
                    <a:pt x="30" y="191"/>
                  </a:lnTo>
                  <a:lnTo>
                    <a:pt x="49" y="168"/>
                  </a:lnTo>
                  <a:lnTo>
                    <a:pt x="62" y="141"/>
                  </a:lnTo>
                  <a:lnTo>
                    <a:pt x="72" y="120"/>
                  </a:lnTo>
                  <a:lnTo>
                    <a:pt x="81" y="90"/>
                  </a:lnTo>
                  <a:lnTo>
                    <a:pt x="86" y="60"/>
                  </a:lnTo>
                  <a:lnTo>
                    <a:pt x="95" y="0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7" name=""/>
            <p:cNvSpPr/>
            <p:nvPr/>
          </p:nvSpPr>
          <p:spPr>
            <a:xfrm>
              <a:off x="6798960" y="5719680"/>
              <a:ext cx="44640" cy="79560"/>
            </a:xfrm>
            <a:custGeom>
              <a:avLst/>
              <a:gdLst/>
              <a:ahLst/>
              <a:rect l="l" t="t" r="r" b="b"/>
              <a:pathLst>
                <a:path w="196" h="372">
                  <a:moveTo>
                    <a:pt x="95" y="0"/>
                  </a:moveTo>
                  <a:lnTo>
                    <a:pt x="105" y="60"/>
                  </a:lnTo>
                  <a:lnTo>
                    <a:pt x="111" y="88"/>
                  </a:lnTo>
                  <a:lnTo>
                    <a:pt x="121" y="122"/>
                  </a:lnTo>
                  <a:lnTo>
                    <a:pt x="132" y="143"/>
                  </a:lnTo>
                  <a:lnTo>
                    <a:pt x="147" y="168"/>
                  </a:lnTo>
                  <a:lnTo>
                    <a:pt x="167" y="195"/>
                  </a:lnTo>
                  <a:lnTo>
                    <a:pt x="184" y="221"/>
                  </a:lnTo>
                  <a:lnTo>
                    <a:pt x="192" y="247"/>
                  </a:lnTo>
                  <a:lnTo>
                    <a:pt x="196" y="279"/>
                  </a:lnTo>
                  <a:lnTo>
                    <a:pt x="189" y="308"/>
                  </a:lnTo>
                  <a:lnTo>
                    <a:pt x="178" y="328"/>
                  </a:lnTo>
                  <a:lnTo>
                    <a:pt x="162" y="345"/>
                  </a:lnTo>
                  <a:lnTo>
                    <a:pt x="141" y="361"/>
                  </a:lnTo>
                  <a:lnTo>
                    <a:pt x="121" y="369"/>
                  </a:lnTo>
                  <a:lnTo>
                    <a:pt x="99" y="372"/>
                  </a:lnTo>
                  <a:lnTo>
                    <a:pt x="76" y="369"/>
                  </a:lnTo>
                  <a:lnTo>
                    <a:pt x="54" y="363"/>
                  </a:lnTo>
                  <a:lnTo>
                    <a:pt x="34" y="351"/>
                  </a:lnTo>
                  <a:lnTo>
                    <a:pt x="19" y="336"/>
                  </a:lnTo>
                  <a:lnTo>
                    <a:pt x="8" y="317"/>
                  </a:lnTo>
                  <a:lnTo>
                    <a:pt x="3" y="298"/>
                  </a:lnTo>
                  <a:lnTo>
                    <a:pt x="0" y="272"/>
                  </a:lnTo>
                  <a:lnTo>
                    <a:pt x="5" y="242"/>
                  </a:lnTo>
                  <a:lnTo>
                    <a:pt x="13" y="219"/>
                  </a:lnTo>
                  <a:lnTo>
                    <a:pt x="30" y="191"/>
                  </a:lnTo>
                  <a:lnTo>
                    <a:pt x="49" y="168"/>
                  </a:lnTo>
                  <a:lnTo>
                    <a:pt x="62" y="141"/>
                  </a:lnTo>
                  <a:lnTo>
                    <a:pt x="72" y="120"/>
                  </a:lnTo>
                  <a:lnTo>
                    <a:pt x="81" y="90"/>
                  </a:lnTo>
                  <a:lnTo>
                    <a:pt x="86" y="60"/>
                  </a:lnTo>
                  <a:lnTo>
                    <a:pt x="95" y="0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8" name=""/>
            <p:cNvSpPr/>
            <p:nvPr/>
          </p:nvSpPr>
          <p:spPr>
            <a:xfrm>
              <a:off x="6802200" y="5913360"/>
              <a:ext cx="44280" cy="79560"/>
            </a:xfrm>
            <a:custGeom>
              <a:avLst/>
              <a:gdLst/>
              <a:ahLst/>
              <a:rect l="l" t="t" r="r" b="b"/>
              <a:pathLst>
                <a:path w="196" h="372">
                  <a:moveTo>
                    <a:pt x="95" y="0"/>
                  </a:moveTo>
                  <a:lnTo>
                    <a:pt x="105" y="60"/>
                  </a:lnTo>
                  <a:lnTo>
                    <a:pt x="111" y="88"/>
                  </a:lnTo>
                  <a:lnTo>
                    <a:pt x="121" y="122"/>
                  </a:lnTo>
                  <a:lnTo>
                    <a:pt x="132" y="143"/>
                  </a:lnTo>
                  <a:lnTo>
                    <a:pt x="147" y="168"/>
                  </a:lnTo>
                  <a:lnTo>
                    <a:pt x="167" y="195"/>
                  </a:lnTo>
                  <a:lnTo>
                    <a:pt x="184" y="221"/>
                  </a:lnTo>
                  <a:lnTo>
                    <a:pt x="192" y="247"/>
                  </a:lnTo>
                  <a:lnTo>
                    <a:pt x="196" y="279"/>
                  </a:lnTo>
                  <a:lnTo>
                    <a:pt x="189" y="308"/>
                  </a:lnTo>
                  <a:lnTo>
                    <a:pt x="178" y="328"/>
                  </a:lnTo>
                  <a:lnTo>
                    <a:pt x="162" y="345"/>
                  </a:lnTo>
                  <a:lnTo>
                    <a:pt x="141" y="361"/>
                  </a:lnTo>
                  <a:lnTo>
                    <a:pt x="121" y="369"/>
                  </a:lnTo>
                  <a:lnTo>
                    <a:pt x="99" y="372"/>
                  </a:lnTo>
                  <a:lnTo>
                    <a:pt x="76" y="369"/>
                  </a:lnTo>
                  <a:lnTo>
                    <a:pt x="54" y="363"/>
                  </a:lnTo>
                  <a:lnTo>
                    <a:pt x="34" y="351"/>
                  </a:lnTo>
                  <a:lnTo>
                    <a:pt x="19" y="336"/>
                  </a:lnTo>
                  <a:lnTo>
                    <a:pt x="8" y="317"/>
                  </a:lnTo>
                  <a:lnTo>
                    <a:pt x="3" y="298"/>
                  </a:lnTo>
                  <a:lnTo>
                    <a:pt x="0" y="272"/>
                  </a:lnTo>
                  <a:lnTo>
                    <a:pt x="5" y="242"/>
                  </a:lnTo>
                  <a:lnTo>
                    <a:pt x="13" y="219"/>
                  </a:lnTo>
                  <a:lnTo>
                    <a:pt x="30" y="191"/>
                  </a:lnTo>
                  <a:lnTo>
                    <a:pt x="49" y="168"/>
                  </a:lnTo>
                  <a:lnTo>
                    <a:pt x="62" y="141"/>
                  </a:lnTo>
                  <a:lnTo>
                    <a:pt x="72" y="120"/>
                  </a:lnTo>
                  <a:lnTo>
                    <a:pt x="81" y="90"/>
                  </a:lnTo>
                  <a:lnTo>
                    <a:pt x="86" y="60"/>
                  </a:lnTo>
                  <a:lnTo>
                    <a:pt x="95" y="0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9" name=""/>
            <p:cNvSpPr/>
            <p:nvPr/>
          </p:nvSpPr>
          <p:spPr>
            <a:xfrm>
              <a:off x="6775200" y="6230880"/>
              <a:ext cx="44280" cy="79560"/>
            </a:xfrm>
            <a:custGeom>
              <a:avLst/>
              <a:gdLst/>
              <a:ahLst/>
              <a:rect l="l" t="t" r="r" b="b"/>
              <a:pathLst>
                <a:path w="196" h="372">
                  <a:moveTo>
                    <a:pt x="95" y="0"/>
                  </a:moveTo>
                  <a:lnTo>
                    <a:pt x="105" y="60"/>
                  </a:lnTo>
                  <a:lnTo>
                    <a:pt x="111" y="88"/>
                  </a:lnTo>
                  <a:lnTo>
                    <a:pt x="121" y="122"/>
                  </a:lnTo>
                  <a:lnTo>
                    <a:pt x="132" y="143"/>
                  </a:lnTo>
                  <a:lnTo>
                    <a:pt x="147" y="168"/>
                  </a:lnTo>
                  <a:lnTo>
                    <a:pt x="167" y="195"/>
                  </a:lnTo>
                  <a:lnTo>
                    <a:pt x="184" y="221"/>
                  </a:lnTo>
                  <a:lnTo>
                    <a:pt x="192" y="247"/>
                  </a:lnTo>
                  <a:lnTo>
                    <a:pt x="196" y="279"/>
                  </a:lnTo>
                  <a:lnTo>
                    <a:pt x="189" y="308"/>
                  </a:lnTo>
                  <a:lnTo>
                    <a:pt x="178" y="328"/>
                  </a:lnTo>
                  <a:lnTo>
                    <a:pt x="162" y="345"/>
                  </a:lnTo>
                  <a:lnTo>
                    <a:pt x="141" y="361"/>
                  </a:lnTo>
                  <a:lnTo>
                    <a:pt x="121" y="369"/>
                  </a:lnTo>
                  <a:lnTo>
                    <a:pt x="99" y="372"/>
                  </a:lnTo>
                  <a:lnTo>
                    <a:pt x="76" y="369"/>
                  </a:lnTo>
                  <a:lnTo>
                    <a:pt x="54" y="363"/>
                  </a:lnTo>
                  <a:lnTo>
                    <a:pt x="34" y="351"/>
                  </a:lnTo>
                  <a:lnTo>
                    <a:pt x="19" y="336"/>
                  </a:lnTo>
                  <a:lnTo>
                    <a:pt x="8" y="317"/>
                  </a:lnTo>
                  <a:lnTo>
                    <a:pt x="3" y="298"/>
                  </a:lnTo>
                  <a:lnTo>
                    <a:pt x="0" y="272"/>
                  </a:lnTo>
                  <a:lnTo>
                    <a:pt x="5" y="242"/>
                  </a:lnTo>
                  <a:lnTo>
                    <a:pt x="13" y="219"/>
                  </a:lnTo>
                  <a:lnTo>
                    <a:pt x="30" y="191"/>
                  </a:lnTo>
                  <a:lnTo>
                    <a:pt x="49" y="168"/>
                  </a:lnTo>
                  <a:lnTo>
                    <a:pt x="62" y="141"/>
                  </a:lnTo>
                  <a:lnTo>
                    <a:pt x="72" y="120"/>
                  </a:lnTo>
                  <a:lnTo>
                    <a:pt x="81" y="90"/>
                  </a:lnTo>
                  <a:lnTo>
                    <a:pt x="86" y="60"/>
                  </a:lnTo>
                  <a:lnTo>
                    <a:pt x="95" y="0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0" name=""/>
            <p:cNvSpPr/>
            <p:nvPr/>
          </p:nvSpPr>
          <p:spPr>
            <a:xfrm>
              <a:off x="6806880" y="6105600"/>
              <a:ext cx="44640" cy="79200"/>
            </a:xfrm>
            <a:custGeom>
              <a:avLst/>
              <a:gdLst/>
              <a:ahLst/>
              <a:rect l="l" t="t" r="r" b="b"/>
              <a:pathLst>
                <a:path w="196" h="372">
                  <a:moveTo>
                    <a:pt x="95" y="0"/>
                  </a:moveTo>
                  <a:lnTo>
                    <a:pt x="105" y="60"/>
                  </a:lnTo>
                  <a:lnTo>
                    <a:pt x="111" y="88"/>
                  </a:lnTo>
                  <a:lnTo>
                    <a:pt x="121" y="122"/>
                  </a:lnTo>
                  <a:lnTo>
                    <a:pt x="132" y="143"/>
                  </a:lnTo>
                  <a:lnTo>
                    <a:pt x="147" y="168"/>
                  </a:lnTo>
                  <a:lnTo>
                    <a:pt x="167" y="195"/>
                  </a:lnTo>
                  <a:lnTo>
                    <a:pt x="184" y="221"/>
                  </a:lnTo>
                  <a:lnTo>
                    <a:pt x="192" y="247"/>
                  </a:lnTo>
                  <a:lnTo>
                    <a:pt x="196" y="279"/>
                  </a:lnTo>
                  <a:lnTo>
                    <a:pt x="189" y="308"/>
                  </a:lnTo>
                  <a:lnTo>
                    <a:pt x="178" y="328"/>
                  </a:lnTo>
                  <a:lnTo>
                    <a:pt x="162" y="345"/>
                  </a:lnTo>
                  <a:lnTo>
                    <a:pt x="141" y="361"/>
                  </a:lnTo>
                  <a:lnTo>
                    <a:pt x="121" y="369"/>
                  </a:lnTo>
                  <a:lnTo>
                    <a:pt x="99" y="372"/>
                  </a:lnTo>
                  <a:lnTo>
                    <a:pt x="76" y="369"/>
                  </a:lnTo>
                  <a:lnTo>
                    <a:pt x="54" y="363"/>
                  </a:lnTo>
                  <a:lnTo>
                    <a:pt x="34" y="351"/>
                  </a:lnTo>
                  <a:lnTo>
                    <a:pt x="19" y="336"/>
                  </a:lnTo>
                  <a:lnTo>
                    <a:pt x="8" y="317"/>
                  </a:lnTo>
                  <a:lnTo>
                    <a:pt x="3" y="298"/>
                  </a:lnTo>
                  <a:lnTo>
                    <a:pt x="0" y="272"/>
                  </a:lnTo>
                  <a:lnTo>
                    <a:pt x="5" y="242"/>
                  </a:lnTo>
                  <a:lnTo>
                    <a:pt x="13" y="219"/>
                  </a:lnTo>
                  <a:lnTo>
                    <a:pt x="30" y="191"/>
                  </a:lnTo>
                  <a:lnTo>
                    <a:pt x="49" y="168"/>
                  </a:lnTo>
                  <a:lnTo>
                    <a:pt x="62" y="141"/>
                  </a:lnTo>
                  <a:lnTo>
                    <a:pt x="72" y="120"/>
                  </a:lnTo>
                  <a:lnTo>
                    <a:pt x="81" y="90"/>
                  </a:lnTo>
                  <a:lnTo>
                    <a:pt x="86" y="60"/>
                  </a:lnTo>
                  <a:lnTo>
                    <a:pt x="95" y="0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9191" name=""/>
          <p:cNvGraphicFramePr/>
          <p:nvPr/>
        </p:nvGraphicFramePr>
        <p:xfrm>
          <a:off x="6808680" y="4084560"/>
          <a:ext cx="594000" cy="70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08680" y="4084560"/>
                    <a:ext cx="594000" cy="70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193" name="" descr=""/>
          <p:cNvPicPr/>
          <p:nvPr/>
        </p:nvPicPr>
        <p:blipFill>
          <a:blip r:embed="rId3"/>
          <a:stretch/>
        </p:blipFill>
        <p:spPr>
          <a:xfrm>
            <a:off x="6175440" y="4181400"/>
            <a:ext cx="598320" cy="730440"/>
          </a:xfrm>
          <a:prstGeom prst="rect">
            <a:avLst/>
          </a:prstGeom>
          <a:ln w="0">
            <a:noFill/>
          </a:ln>
        </p:spPr>
      </p:pic>
      <p:sp>
        <p:nvSpPr>
          <p:cNvPr id="9194" name=""/>
          <p:cNvSpPr/>
          <p:nvPr/>
        </p:nvSpPr>
        <p:spPr>
          <a:xfrm flipH="1">
            <a:off x="4510080" y="2292480"/>
            <a:ext cx="804960" cy="626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5" name=""/>
          <p:cNvSpPr/>
          <p:nvPr/>
        </p:nvSpPr>
        <p:spPr>
          <a:xfrm>
            <a:off x="4378320" y="3581280"/>
            <a:ext cx="0" cy="644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6" name=""/>
          <p:cNvSpPr/>
          <p:nvPr/>
        </p:nvSpPr>
        <p:spPr>
          <a:xfrm>
            <a:off x="4387680" y="4962600"/>
            <a:ext cx="0" cy="71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7" name=""/>
          <p:cNvSpPr/>
          <p:nvPr/>
        </p:nvSpPr>
        <p:spPr>
          <a:xfrm>
            <a:off x="833400" y="814320"/>
            <a:ext cx="770040" cy="1217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8" name=""/>
          <p:cNvSpPr/>
          <p:nvPr/>
        </p:nvSpPr>
        <p:spPr>
          <a:xfrm>
            <a:off x="1990800" y="2693880"/>
            <a:ext cx="1123920" cy="1752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9" name=""/>
          <p:cNvSpPr/>
          <p:nvPr/>
        </p:nvSpPr>
        <p:spPr>
          <a:xfrm flipH="1">
            <a:off x="6144840" y="757080"/>
            <a:ext cx="1125720" cy="879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0" name=""/>
          <p:cNvSpPr/>
          <p:nvPr/>
        </p:nvSpPr>
        <p:spPr>
          <a:xfrm>
            <a:off x="3497400" y="5830920"/>
            <a:ext cx="0" cy="2872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1" name=""/>
          <p:cNvSpPr/>
          <p:nvPr/>
        </p:nvSpPr>
        <p:spPr>
          <a:xfrm>
            <a:off x="1247760" y="2378160"/>
            <a:ext cx="7920" cy="2379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02" name=""/>
          <p:cNvGrpSpPr/>
          <p:nvPr/>
        </p:nvGrpSpPr>
        <p:grpSpPr>
          <a:xfrm>
            <a:off x="0" y="128520"/>
            <a:ext cx="9134640" cy="6631200"/>
            <a:chOff x="0" y="128520"/>
            <a:chExt cx="9134640" cy="6631200"/>
          </a:xfrm>
        </p:grpSpPr>
        <p:sp>
          <p:nvSpPr>
            <p:cNvPr id="9203" name=""/>
            <p:cNvSpPr/>
            <p:nvPr/>
          </p:nvSpPr>
          <p:spPr>
            <a:xfrm>
              <a:off x="7442280" y="3159000"/>
              <a:ext cx="377640" cy="1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4" name=""/>
            <p:cNvSpPr/>
            <p:nvPr/>
          </p:nvSpPr>
          <p:spPr>
            <a:xfrm>
              <a:off x="6051600" y="5394240"/>
              <a:ext cx="673200" cy="1019160"/>
            </a:xfrm>
            <a:custGeom>
              <a:avLst/>
              <a:gdLst/>
              <a:ahLst/>
              <a:rect l="l" t="t" r="r" b="b"/>
              <a:pathLst>
                <a:path w="424" h="642">
                  <a:moveTo>
                    <a:pt x="0" y="642"/>
                  </a:moveTo>
                  <a:lnTo>
                    <a:pt x="67" y="502"/>
                  </a:lnTo>
                  <a:lnTo>
                    <a:pt x="139" y="331"/>
                  </a:lnTo>
                  <a:lnTo>
                    <a:pt x="181" y="218"/>
                  </a:lnTo>
                  <a:lnTo>
                    <a:pt x="207" y="145"/>
                  </a:lnTo>
                  <a:lnTo>
                    <a:pt x="217" y="0"/>
                  </a:lnTo>
                  <a:lnTo>
                    <a:pt x="253" y="238"/>
                  </a:lnTo>
                  <a:lnTo>
                    <a:pt x="284" y="352"/>
                  </a:lnTo>
                  <a:lnTo>
                    <a:pt x="341" y="450"/>
                  </a:lnTo>
                  <a:lnTo>
                    <a:pt x="424" y="559"/>
                  </a:lnTo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5" name=""/>
            <p:cNvSpPr/>
            <p:nvPr/>
          </p:nvSpPr>
          <p:spPr>
            <a:xfrm>
              <a:off x="6068880" y="6102360"/>
              <a:ext cx="696960" cy="65736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6" name=""/>
            <p:cNvSpPr/>
            <p:nvPr/>
          </p:nvSpPr>
          <p:spPr>
            <a:xfrm>
              <a:off x="1749600" y="2065320"/>
              <a:ext cx="4994280" cy="3597120"/>
            </a:xfrm>
            <a:custGeom>
              <a:avLst/>
              <a:gdLst/>
              <a:ahLst/>
              <a:rect l="l" t="t" r="r" b="b"/>
              <a:pathLst>
                <a:path w="3146" h="2266">
                  <a:moveTo>
                    <a:pt x="2671" y="2266"/>
                  </a:moveTo>
                  <a:cubicBezTo>
                    <a:pt x="2680" y="1989"/>
                    <a:pt x="2769" y="891"/>
                    <a:pt x="2732" y="594"/>
                  </a:cubicBezTo>
                  <a:cubicBezTo>
                    <a:pt x="2694" y="297"/>
                    <a:pt x="2570" y="515"/>
                    <a:pt x="2451" y="484"/>
                  </a:cubicBezTo>
                  <a:cubicBezTo>
                    <a:pt x="2332" y="454"/>
                    <a:pt x="2099" y="326"/>
                    <a:pt x="2021" y="407"/>
                  </a:cubicBezTo>
                  <a:cubicBezTo>
                    <a:pt x="1942" y="488"/>
                    <a:pt x="1982" y="815"/>
                    <a:pt x="1978" y="967"/>
                  </a:cubicBezTo>
                  <a:cubicBezTo>
                    <a:pt x="1974" y="1118"/>
                    <a:pt x="2008" y="1226"/>
                    <a:pt x="1998" y="1312"/>
                  </a:cubicBezTo>
                  <a:cubicBezTo>
                    <a:pt x="1987" y="1398"/>
                    <a:pt x="1932" y="1373"/>
                    <a:pt x="1918" y="1490"/>
                  </a:cubicBezTo>
                  <a:cubicBezTo>
                    <a:pt x="1903" y="1607"/>
                    <a:pt x="1939" y="1899"/>
                    <a:pt x="1912" y="2019"/>
                  </a:cubicBezTo>
                  <a:cubicBezTo>
                    <a:pt x="1886" y="2140"/>
                    <a:pt x="1827" y="2178"/>
                    <a:pt x="1756" y="2214"/>
                  </a:cubicBezTo>
                  <a:cubicBezTo>
                    <a:pt x="1685" y="2250"/>
                    <a:pt x="1553" y="2250"/>
                    <a:pt x="1489" y="2232"/>
                  </a:cubicBezTo>
                  <a:cubicBezTo>
                    <a:pt x="1425" y="2214"/>
                    <a:pt x="1397" y="2169"/>
                    <a:pt x="1366" y="2102"/>
                  </a:cubicBezTo>
                  <a:cubicBezTo>
                    <a:pt x="1336" y="2036"/>
                    <a:pt x="1317" y="1908"/>
                    <a:pt x="1304" y="1830"/>
                  </a:cubicBezTo>
                  <a:cubicBezTo>
                    <a:pt x="1292" y="1753"/>
                    <a:pt x="1290" y="1726"/>
                    <a:pt x="1288" y="1636"/>
                  </a:cubicBezTo>
                  <a:cubicBezTo>
                    <a:pt x="1286" y="1546"/>
                    <a:pt x="1286" y="1375"/>
                    <a:pt x="1288" y="1292"/>
                  </a:cubicBezTo>
                  <a:cubicBezTo>
                    <a:pt x="1290" y="1209"/>
                    <a:pt x="1308" y="1190"/>
                    <a:pt x="1297" y="1134"/>
                  </a:cubicBezTo>
                  <a:cubicBezTo>
                    <a:pt x="1286" y="1078"/>
                    <a:pt x="1233" y="1048"/>
                    <a:pt x="1221" y="959"/>
                  </a:cubicBezTo>
                  <a:cubicBezTo>
                    <a:pt x="1208" y="871"/>
                    <a:pt x="1226" y="691"/>
                    <a:pt x="1222" y="603"/>
                  </a:cubicBezTo>
                  <a:cubicBezTo>
                    <a:pt x="1219" y="515"/>
                    <a:pt x="1221" y="463"/>
                    <a:pt x="1198" y="434"/>
                  </a:cubicBezTo>
                  <a:cubicBezTo>
                    <a:pt x="1174" y="405"/>
                    <a:pt x="1125" y="419"/>
                    <a:pt x="1086" y="427"/>
                  </a:cubicBezTo>
                  <a:cubicBezTo>
                    <a:pt x="1046" y="434"/>
                    <a:pt x="1013" y="479"/>
                    <a:pt x="966" y="477"/>
                  </a:cubicBezTo>
                  <a:cubicBezTo>
                    <a:pt x="920" y="475"/>
                    <a:pt x="870" y="409"/>
                    <a:pt x="812" y="412"/>
                  </a:cubicBezTo>
                  <a:cubicBezTo>
                    <a:pt x="753" y="416"/>
                    <a:pt x="664" y="477"/>
                    <a:pt x="611" y="499"/>
                  </a:cubicBezTo>
                  <a:cubicBezTo>
                    <a:pt x="558" y="520"/>
                    <a:pt x="540" y="506"/>
                    <a:pt x="497" y="538"/>
                  </a:cubicBezTo>
                  <a:cubicBezTo>
                    <a:pt x="454" y="571"/>
                    <a:pt x="419" y="688"/>
                    <a:pt x="350" y="697"/>
                  </a:cubicBezTo>
                  <a:cubicBezTo>
                    <a:pt x="280" y="706"/>
                    <a:pt x="126" y="654"/>
                    <a:pt x="83" y="594"/>
                  </a:cubicBezTo>
                  <a:cubicBezTo>
                    <a:pt x="40" y="534"/>
                    <a:pt x="105" y="387"/>
                    <a:pt x="93" y="334"/>
                  </a:cubicBezTo>
                  <a:cubicBezTo>
                    <a:pt x="81" y="281"/>
                    <a:pt x="0" y="314"/>
                    <a:pt x="10" y="277"/>
                  </a:cubicBezTo>
                  <a:cubicBezTo>
                    <a:pt x="20" y="240"/>
                    <a:pt x="98" y="138"/>
                    <a:pt x="156" y="110"/>
                  </a:cubicBezTo>
                  <a:cubicBezTo>
                    <a:pt x="214" y="82"/>
                    <a:pt x="296" y="88"/>
                    <a:pt x="358" y="110"/>
                  </a:cubicBezTo>
                  <a:cubicBezTo>
                    <a:pt x="421" y="131"/>
                    <a:pt x="463" y="227"/>
                    <a:pt x="524" y="241"/>
                  </a:cubicBezTo>
                  <a:cubicBezTo>
                    <a:pt x="584" y="256"/>
                    <a:pt x="675" y="209"/>
                    <a:pt x="723" y="194"/>
                  </a:cubicBezTo>
                  <a:cubicBezTo>
                    <a:pt x="771" y="180"/>
                    <a:pt x="783" y="160"/>
                    <a:pt x="810" y="155"/>
                  </a:cubicBezTo>
                  <a:cubicBezTo>
                    <a:pt x="837" y="149"/>
                    <a:pt x="860" y="155"/>
                    <a:pt x="888" y="166"/>
                  </a:cubicBezTo>
                  <a:cubicBezTo>
                    <a:pt x="917" y="176"/>
                    <a:pt x="947" y="214"/>
                    <a:pt x="977" y="221"/>
                  </a:cubicBezTo>
                  <a:cubicBezTo>
                    <a:pt x="1007" y="229"/>
                    <a:pt x="1023" y="220"/>
                    <a:pt x="1070" y="207"/>
                  </a:cubicBezTo>
                  <a:cubicBezTo>
                    <a:pt x="1116" y="194"/>
                    <a:pt x="1198" y="153"/>
                    <a:pt x="1251" y="148"/>
                  </a:cubicBezTo>
                  <a:cubicBezTo>
                    <a:pt x="1304" y="142"/>
                    <a:pt x="1352" y="151"/>
                    <a:pt x="1386" y="171"/>
                  </a:cubicBezTo>
                  <a:cubicBezTo>
                    <a:pt x="1420" y="191"/>
                    <a:pt x="1439" y="223"/>
                    <a:pt x="1454" y="270"/>
                  </a:cubicBezTo>
                  <a:cubicBezTo>
                    <a:pt x="1468" y="317"/>
                    <a:pt x="1468" y="362"/>
                    <a:pt x="1471" y="455"/>
                  </a:cubicBezTo>
                  <a:cubicBezTo>
                    <a:pt x="1475" y="549"/>
                    <a:pt x="1480" y="749"/>
                    <a:pt x="1480" y="833"/>
                  </a:cubicBezTo>
                  <a:cubicBezTo>
                    <a:pt x="1480" y="918"/>
                    <a:pt x="1486" y="914"/>
                    <a:pt x="1475" y="967"/>
                  </a:cubicBezTo>
                  <a:cubicBezTo>
                    <a:pt x="1464" y="1019"/>
                    <a:pt x="1422" y="1089"/>
                    <a:pt x="1411" y="1150"/>
                  </a:cubicBezTo>
                  <a:cubicBezTo>
                    <a:pt x="1400" y="1211"/>
                    <a:pt x="1407" y="1247"/>
                    <a:pt x="1407" y="1339"/>
                  </a:cubicBezTo>
                  <a:cubicBezTo>
                    <a:pt x="1407" y="1431"/>
                    <a:pt x="1409" y="1620"/>
                    <a:pt x="1411" y="1706"/>
                  </a:cubicBezTo>
                  <a:cubicBezTo>
                    <a:pt x="1413" y="1793"/>
                    <a:pt x="1402" y="1789"/>
                    <a:pt x="1416" y="1861"/>
                  </a:cubicBezTo>
                  <a:cubicBezTo>
                    <a:pt x="1430" y="1933"/>
                    <a:pt x="1445" y="2093"/>
                    <a:pt x="1502" y="2135"/>
                  </a:cubicBezTo>
                  <a:cubicBezTo>
                    <a:pt x="1558" y="2176"/>
                    <a:pt x="1702" y="2147"/>
                    <a:pt x="1758" y="2113"/>
                  </a:cubicBezTo>
                  <a:cubicBezTo>
                    <a:pt x="1813" y="2079"/>
                    <a:pt x="1820" y="2027"/>
                    <a:pt x="1830" y="1926"/>
                  </a:cubicBezTo>
                  <a:cubicBezTo>
                    <a:pt x="1841" y="1825"/>
                    <a:pt x="1841" y="1602"/>
                    <a:pt x="1820" y="1506"/>
                  </a:cubicBezTo>
                  <a:cubicBezTo>
                    <a:pt x="1798" y="1411"/>
                    <a:pt x="1722" y="1454"/>
                    <a:pt x="1697" y="1350"/>
                  </a:cubicBezTo>
                  <a:cubicBezTo>
                    <a:pt x="1672" y="1245"/>
                    <a:pt x="1674" y="1048"/>
                    <a:pt x="1674" y="882"/>
                  </a:cubicBezTo>
                  <a:cubicBezTo>
                    <a:pt x="1674" y="716"/>
                    <a:pt x="1676" y="481"/>
                    <a:pt x="1694" y="351"/>
                  </a:cubicBezTo>
                  <a:cubicBezTo>
                    <a:pt x="1711" y="221"/>
                    <a:pt x="1715" y="148"/>
                    <a:pt x="1786" y="101"/>
                  </a:cubicBezTo>
                  <a:cubicBezTo>
                    <a:pt x="1857" y="54"/>
                    <a:pt x="2021" y="63"/>
                    <a:pt x="2126" y="74"/>
                  </a:cubicBezTo>
                  <a:cubicBezTo>
                    <a:pt x="2230" y="85"/>
                    <a:pt x="2337" y="146"/>
                    <a:pt x="2414" y="162"/>
                  </a:cubicBezTo>
                  <a:cubicBezTo>
                    <a:pt x="2490" y="178"/>
                    <a:pt x="2515" y="189"/>
                    <a:pt x="2586" y="173"/>
                  </a:cubicBezTo>
                  <a:cubicBezTo>
                    <a:pt x="2657" y="157"/>
                    <a:pt x="2735" y="34"/>
                    <a:pt x="2842" y="59"/>
                  </a:cubicBezTo>
                  <a:cubicBezTo>
                    <a:pt x="2949" y="85"/>
                    <a:pt x="2956" y="0"/>
                    <a:pt x="3007" y="367"/>
                  </a:cubicBezTo>
                  <a:cubicBezTo>
                    <a:pt x="3059" y="734"/>
                    <a:pt x="3118" y="1870"/>
                    <a:pt x="3146" y="2266"/>
                  </a:cubicBezTo>
                </a:path>
              </a:pathLst>
            </a:custGeom>
            <a:solidFill>
              <a:srgbClr val="ffff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7" name=""/>
            <p:cNvSpPr/>
            <p:nvPr/>
          </p:nvSpPr>
          <p:spPr>
            <a:xfrm>
              <a:off x="2379600" y="1386000"/>
              <a:ext cx="1913040" cy="691920"/>
            </a:xfrm>
            <a:prstGeom prst="rect">
              <a:avLst/>
            </a:prstGeom>
            <a:solidFill>
              <a:srgbClr val="ffff66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600" spc="-1" strike="noStrike">
                  <a:solidFill>
                    <a:srgbClr val="000000"/>
                  </a:solidFill>
                  <a:latin typeface="Times New Roman"/>
                </a:rPr>
                <a:t>Proximální tubulu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600" spc="-1" strike="noStrike">
                  <a:solidFill>
                    <a:srgbClr val="000000"/>
                  </a:solidFill>
                  <a:latin typeface="Times New Roman"/>
                </a:rPr>
                <a:t>Reabsorpce Na</a:t>
              </a:r>
              <a:r>
                <a:rPr b="0" lang="cs-CZ" sz="1600" spc="-1" strike="noStrike" baseline="30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8" name=""/>
            <p:cNvSpPr/>
            <p:nvPr/>
          </p:nvSpPr>
          <p:spPr>
            <a:xfrm>
              <a:off x="2486160" y="128520"/>
              <a:ext cx="1912680" cy="75888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600" spc="-1" strike="noStrike">
                  <a:solidFill>
                    <a:srgbClr val="000000"/>
                  </a:solidFill>
                  <a:latin typeface="Times New Roman"/>
                </a:rPr>
                <a:t>Stimulace sympatik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600" spc="-1" strike="noStrike">
                  <a:solidFill>
                    <a:srgbClr val="000000"/>
                  </a:solidFill>
                  <a:latin typeface="Times New Roman"/>
                </a:rPr>
                <a:t>Angiotensin I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600" spc="-1" strike="noStrike">
                  <a:solidFill>
                    <a:srgbClr val="000000"/>
                  </a:solidFill>
                  <a:latin typeface="Times New Roman"/>
                </a:rPr>
                <a:t>Insul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9" name=""/>
            <p:cNvSpPr/>
            <p:nvPr/>
          </p:nvSpPr>
          <p:spPr>
            <a:xfrm>
              <a:off x="787320" y="3290760"/>
              <a:ext cx="2257560" cy="692280"/>
            </a:xfrm>
            <a:prstGeom prst="rect">
              <a:avLst/>
            </a:prstGeom>
            <a:solidFill>
              <a:srgbClr val="ffff66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600" spc="-1" strike="noStrike">
                  <a:solidFill>
                    <a:srgbClr val="000000"/>
                  </a:solidFill>
                  <a:latin typeface="Times New Roman"/>
                </a:rPr>
                <a:t>Glomerulární filtra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0" name=""/>
            <p:cNvSpPr/>
            <p:nvPr/>
          </p:nvSpPr>
          <p:spPr>
            <a:xfrm>
              <a:off x="728640" y="1395360"/>
              <a:ext cx="1354320" cy="54468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600" spc="-1" strike="noStrike">
                  <a:solidFill>
                    <a:srgbClr val="000000"/>
                  </a:solidFill>
                  <a:latin typeface="Times New Roman"/>
                </a:rPr>
                <a:t>Hladina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600" spc="-1" strike="noStrike">
                  <a:solidFill>
                    <a:srgbClr val="000000"/>
                  </a:solidFill>
                  <a:latin typeface="Times New Roman"/>
                </a:rPr>
                <a:t>bílkov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1" name=""/>
            <p:cNvSpPr/>
            <p:nvPr/>
          </p:nvSpPr>
          <p:spPr>
            <a:xfrm>
              <a:off x="1468440" y="2203560"/>
              <a:ext cx="501480" cy="907920"/>
            </a:xfrm>
            <a:custGeom>
              <a:avLst/>
              <a:gdLst/>
              <a:ahLst/>
              <a:rect l="l" t="t" r="r" b="b"/>
              <a:pathLst>
                <a:path w="316" h="572">
                  <a:moveTo>
                    <a:pt x="73" y="572"/>
                  </a:moveTo>
                  <a:cubicBezTo>
                    <a:pt x="94" y="560"/>
                    <a:pt x="116" y="548"/>
                    <a:pt x="150" y="530"/>
                  </a:cubicBezTo>
                  <a:cubicBezTo>
                    <a:pt x="184" y="512"/>
                    <a:pt x="252" y="496"/>
                    <a:pt x="280" y="463"/>
                  </a:cubicBezTo>
                  <a:cubicBezTo>
                    <a:pt x="308" y="430"/>
                    <a:pt x="316" y="372"/>
                    <a:pt x="316" y="334"/>
                  </a:cubicBezTo>
                  <a:cubicBezTo>
                    <a:pt x="316" y="296"/>
                    <a:pt x="306" y="263"/>
                    <a:pt x="280" y="236"/>
                  </a:cubicBezTo>
                  <a:cubicBezTo>
                    <a:pt x="254" y="209"/>
                    <a:pt x="181" y="198"/>
                    <a:pt x="156" y="168"/>
                  </a:cubicBezTo>
                  <a:cubicBezTo>
                    <a:pt x="131" y="138"/>
                    <a:pt x="145" y="82"/>
                    <a:pt x="130" y="55"/>
                  </a:cubicBezTo>
                  <a:cubicBezTo>
                    <a:pt x="115" y="28"/>
                    <a:pt x="88" y="6"/>
                    <a:pt x="68" y="3"/>
                  </a:cubicBezTo>
                  <a:cubicBezTo>
                    <a:pt x="48" y="0"/>
                    <a:pt x="16" y="18"/>
                    <a:pt x="11" y="34"/>
                  </a:cubicBezTo>
                  <a:cubicBezTo>
                    <a:pt x="6" y="50"/>
                    <a:pt x="23" y="74"/>
                    <a:pt x="37" y="97"/>
                  </a:cubicBezTo>
                  <a:cubicBezTo>
                    <a:pt x="51" y="120"/>
                    <a:pt x="62" y="144"/>
                    <a:pt x="93" y="174"/>
                  </a:cubicBezTo>
                  <a:cubicBezTo>
                    <a:pt x="124" y="204"/>
                    <a:pt x="195" y="248"/>
                    <a:pt x="223" y="277"/>
                  </a:cubicBezTo>
                  <a:cubicBezTo>
                    <a:pt x="251" y="306"/>
                    <a:pt x="271" y="317"/>
                    <a:pt x="259" y="349"/>
                  </a:cubicBezTo>
                  <a:cubicBezTo>
                    <a:pt x="247" y="381"/>
                    <a:pt x="193" y="438"/>
                    <a:pt x="150" y="468"/>
                  </a:cubicBezTo>
                  <a:cubicBezTo>
                    <a:pt x="107" y="498"/>
                    <a:pt x="53" y="514"/>
                    <a:pt x="0" y="530"/>
                  </a:cubicBezTo>
                  <a:lnTo>
                    <a:pt x="73" y="572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2" name=""/>
            <p:cNvSpPr/>
            <p:nvPr/>
          </p:nvSpPr>
          <p:spPr>
            <a:xfrm>
              <a:off x="1789200" y="2833560"/>
              <a:ext cx="74520" cy="74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3" name=""/>
            <p:cNvSpPr/>
            <p:nvPr/>
          </p:nvSpPr>
          <p:spPr>
            <a:xfrm>
              <a:off x="1503360" y="2241720"/>
              <a:ext cx="115920" cy="74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4" name=""/>
            <p:cNvSpPr/>
            <p:nvPr/>
          </p:nvSpPr>
          <p:spPr>
            <a:xfrm flipH="1" flipV="1">
              <a:off x="1395360" y="1944360"/>
              <a:ext cx="139680" cy="245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5" name=""/>
            <p:cNvSpPr/>
            <p:nvPr/>
          </p:nvSpPr>
          <p:spPr>
            <a:xfrm flipV="1">
              <a:off x="2109960" y="1657440"/>
              <a:ext cx="236520" cy="7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6" name=""/>
            <p:cNvSpPr/>
            <p:nvPr/>
          </p:nvSpPr>
          <p:spPr>
            <a:xfrm>
              <a:off x="2749680" y="355680"/>
              <a:ext cx="9360" cy="245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7" name=""/>
            <p:cNvSpPr/>
            <p:nvPr/>
          </p:nvSpPr>
          <p:spPr>
            <a:xfrm>
              <a:off x="3019320" y="584280"/>
              <a:ext cx="9720" cy="245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8" name=""/>
            <p:cNvSpPr/>
            <p:nvPr/>
          </p:nvSpPr>
          <p:spPr>
            <a:xfrm flipH="1">
              <a:off x="3381120" y="905040"/>
              <a:ext cx="3240" cy="48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9" name=""/>
            <p:cNvSpPr/>
            <p:nvPr/>
          </p:nvSpPr>
          <p:spPr>
            <a:xfrm>
              <a:off x="2585880" y="1725480"/>
              <a:ext cx="9720" cy="246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0" name=""/>
            <p:cNvSpPr/>
            <p:nvPr/>
          </p:nvSpPr>
          <p:spPr>
            <a:xfrm>
              <a:off x="928800" y="1487520"/>
              <a:ext cx="9360" cy="245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1" name=""/>
            <p:cNvSpPr/>
            <p:nvPr/>
          </p:nvSpPr>
          <p:spPr>
            <a:xfrm>
              <a:off x="961920" y="3516480"/>
              <a:ext cx="9720" cy="245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2" name=""/>
            <p:cNvSpPr/>
            <p:nvPr/>
          </p:nvSpPr>
          <p:spPr>
            <a:xfrm>
              <a:off x="0" y="4243320"/>
              <a:ext cx="1913040" cy="35568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600" spc="-1" strike="noStrike">
                  <a:solidFill>
                    <a:srgbClr val="000000"/>
                  </a:solidFill>
                  <a:latin typeface="Times New Roman"/>
                </a:rPr>
                <a:t>Renální vaskulitid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3" name=""/>
            <p:cNvSpPr/>
            <p:nvPr/>
          </p:nvSpPr>
          <p:spPr>
            <a:xfrm>
              <a:off x="917640" y="4782960"/>
              <a:ext cx="1739880" cy="35568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600" spc="-1" strike="noStrike">
                  <a:solidFill>
                    <a:srgbClr val="000000"/>
                  </a:solidFill>
                  <a:latin typeface="Times New Roman"/>
                </a:rPr>
                <a:t>Glomerulonefritid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4" name=""/>
            <p:cNvSpPr/>
            <p:nvPr/>
          </p:nvSpPr>
          <p:spPr>
            <a:xfrm>
              <a:off x="1120680" y="5423040"/>
              <a:ext cx="2264040" cy="129060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600" spc="-1" strike="noStrike">
                  <a:solidFill>
                    <a:srgbClr val="000000"/>
                  </a:solidFill>
                  <a:latin typeface="Times New Roman"/>
                </a:rPr>
                <a:t>Stimulace symatik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600" spc="-1" strike="noStrike">
                  <a:solidFill>
                    <a:srgbClr val="000000"/>
                  </a:solidFill>
                  <a:latin typeface="Times New Roman"/>
                </a:rPr>
                <a:t>Angiotensin I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600" spc="-1" strike="noStrike">
                  <a:solidFill>
                    <a:srgbClr val="000000"/>
                  </a:solidFill>
                  <a:latin typeface="Times New Roman"/>
                </a:rPr>
                <a:t>PGE</a:t>
              </a:r>
              <a:r>
                <a:rPr b="0" lang="cs-CZ" sz="1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600" spc="-1" strike="noStrike">
                  <a:solidFill>
                    <a:srgbClr val="000000"/>
                  </a:solidFill>
                  <a:latin typeface="Times New Roman"/>
                </a:rPr>
                <a:t>AN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600" spc="-1" strike="noStrike">
                  <a:solidFill>
                    <a:srgbClr val="000000"/>
                  </a:solidFill>
                  <a:latin typeface="Times New Roman"/>
                </a:rPr>
                <a:t>Akutní tubulární nekróz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5" name=""/>
            <p:cNvSpPr/>
            <p:nvPr/>
          </p:nvSpPr>
          <p:spPr>
            <a:xfrm>
              <a:off x="4197240" y="5684760"/>
              <a:ext cx="1738440" cy="107496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600" spc="-1" strike="noStrike">
                  <a:solidFill>
                    <a:srgbClr val="000000"/>
                  </a:solidFill>
                  <a:latin typeface="Times New Roman"/>
                </a:rPr>
                <a:t>Stimulace sympatik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600" spc="-1" strike="noStrike">
                  <a:solidFill>
                    <a:srgbClr val="000000"/>
                  </a:solidFill>
                  <a:latin typeface="Times New Roman"/>
                </a:rPr>
                <a:t>Angiotensin I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600" spc="-1" strike="noStrike">
                  <a:solidFill>
                    <a:srgbClr val="000000"/>
                  </a:solidFill>
                  <a:latin typeface="Times New Roman"/>
                </a:rPr>
                <a:t>PGE</a:t>
              </a:r>
              <a:r>
                <a:rPr b="0" lang="cs-CZ" sz="1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600" spc="-1" strike="noStrike">
                  <a:solidFill>
                    <a:srgbClr val="000000"/>
                  </a:solidFill>
                  <a:latin typeface="Times New Roman"/>
                </a:rPr>
                <a:t>AD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226" name=""/>
            <p:cNvGrpSpPr/>
            <p:nvPr/>
          </p:nvGrpSpPr>
          <p:grpSpPr>
            <a:xfrm>
              <a:off x="4993920" y="2924280"/>
              <a:ext cx="692280" cy="1895400"/>
              <a:chOff x="4993920" y="2924280"/>
              <a:chExt cx="692280" cy="1895400"/>
            </a:xfrm>
          </p:grpSpPr>
          <p:sp>
            <p:nvSpPr>
              <p:cNvPr id="9227" name=""/>
              <p:cNvSpPr/>
              <p:nvPr/>
            </p:nvSpPr>
            <p:spPr>
              <a:xfrm rot="5400000">
                <a:off x="4392360" y="3525840"/>
                <a:ext cx="1895400" cy="692280"/>
              </a:xfrm>
              <a:prstGeom prst="rect">
                <a:avLst/>
              </a:prstGeom>
              <a:solidFill>
                <a:srgbClr val="ffff66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600" spc="-1" strike="noStrike">
                    <a:solidFill>
                      <a:srgbClr val="000000"/>
                    </a:solidFill>
                    <a:latin typeface="Times New Roman"/>
                  </a:rPr>
                  <a:t>Henleho kličk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600" spc="-1" strike="noStrike">
                    <a:solidFill>
                      <a:srgbClr val="000000"/>
                    </a:solidFill>
                    <a:latin typeface="Times New Roman"/>
                  </a:rPr>
                  <a:t>Reabsorpce Na</a:t>
                </a:r>
                <a:r>
                  <a:rPr b="0" lang="cs-CZ" sz="1600" spc="-1" strike="noStrike" baseline="30000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8" name=""/>
              <p:cNvSpPr/>
              <p:nvPr/>
            </p:nvSpPr>
            <p:spPr>
              <a:xfrm flipH="1">
                <a:off x="5108400" y="3097440"/>
                <a:ext cx="245880" cy="9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9" name=""/>
            <p:cNvGrpSpPr/>
            <p:nvPr/>
          </p:nvGrpSpPr>
          <p:grpSpPr>
            <a:xfrm>
              <a:off x="6741720" y="2119320"/>
              <a:ext cx="692280" cy="1895400"/>
              <a:chOff x="6741720" y="2119320"/>
              <a:chExt cx="692280" cy="1895400"/>
            </a:xfrm>
          </p:grpSpPr>
          <p:sp>
            <p:nvSpPr>
              <p:cNvPr id="9230" name=""/>
              <p:cNvSpPr/>
              <p:nvPr/>
            </p:nvSpPr>
            <p:spPr>
              <a:xfrm rot="5400000">
                <a:off x="6140160" y="2720880"/>
                <a:ext cx="1895400" cy="692280"/>
              </a:xfrm>
              <a:prstGeom prst="rect">
                <a:avLst/>
              </a:prstGeom>
              <a:solidFill>
                <a:srgbClr val="ffff66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600" spc="-1" strike="noStrike">
                    <a:solidFill>
                      <a:srgbClr val="000000"/>
                    </a:solidFill>
                    <a:latin typeface="Times New Roman"/>
                  </a:rPr>
                  <a:t>Sběrné kanálky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600" spc="-1" strike="noStrike">
                    <a:solidFill>
                      <a:srgbClr val="000000"/>
                    </a:solidFill>
                    <a:latin typeface="Times New Roman"/>
                  </a:rPr>
                  <a:t>Reabsorpce Na</a:t>
                </a:r>
                <a:r>
                  <a:rPr b="0" lang="cs-CZ" sz="1600" spc="-1" strike="noStrike" baseline="30000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1" name=""/>
              <p:cNvSpPr/>
              <p:nvPr/>
            </p:nvSpPr>
            <p:spPr>
              <a:xfrm flipH="1">
                <a:off x="6856200" y="2292480"/>
                <a:ext cx="245880" cy="9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232" name=""/>
            <p:cNvSpPr/>
            <p:nvPr/>
          </p:nvSpPr>
          <p:spPr>
            <a:xfrm>
              <a:off x="6202440" y="237960"/>
              <a:ext cx="1738080" cy="95256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600" spc="-1" strike="noStrike">
                  <a:solidFill>
                    <a:srgbClr val="000000"/>
                  </a:solidFill>
                  <a:latin typeface="Times New Roman"/>
                </a:rPr>
                <a:t>Ren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600" spc="-1" strike="noStrike">
                  <a:solidFill>
                    <a:srgbClr val="000000"/>
                  </a:solidFill>
                  <a:latin typeface="Times New Roman"/>
                </a:rPr>
                <a:t>Angiotensin I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600" spc="-1" strike="noStrike">
                  <a:solidFill>
                    <a:srgbClr val="000000"/>
                  </a:solidFill>
                  <a:latin typeface="Times New Roman"/>
                </a:rPr>
                <a:t>Aldoster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3" name=""/>
            <p:cNvSpPr/>
            <p:nvPr/>
          </p:nvSpPr>
          <p:spPr>
            <a:xfrm>
              <a:off x="6784920" y="4591080"/>
              <a:ext cx="852480" cy="42696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600" spc="-1" strike="noStrike">
                  <a:solidFill>
                    <a:srgbClr val="000000"/>
                  </a:solidFill>
                  <a:latin typeface="Times New Roman"/>
                </a:rPr>
                <a:t>AN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4" name=""/>
            <p:cNvSpPr/>
            <p:nvPr/>
          </p:nvSpPr>
          <p:spPr>
            <a:xfrm>
              <a:off x="6174000" y="6205680"/>
              <a:ext cx="634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Na</a:t>
              </a:r>
              <a:r>
                <a:rPr b="0" lang="cs-CZ" sz="2400" spc="-1" strike="noStrike" baseline="40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5" name=""/>
            <p:cNvSpPr/>
            <p:nvPr/>
          </p:nvSpPr>
          <p:spPr>
            <a:xfrm>
              <a:off x="6388200" y="5418000"/>
              <a:ext cx="0" cy="773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6" name=""/>
            <p:cNvSpPr/>
            <p:nvPr/>
          </p:nvSpPr>
          <p:spPr>
            <a:xfrm>
              <a:off x="6167520" y="6326280"/>
              <a:ext cx="9360" cy="245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7" name=""/>
            <p:cNvSpPr/>
            <p:nvPr/>
          </p:nvSpPr>
          <p:spPr>
            <a:xfrm>
              <a:off x="4368960" y="5964120"/>
              <a:ext cx="9360" cy="246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8" name=""/>
            <p:cNvSpPr/>
            <p:nvPr/>
          </p:nvSpPr>
          <p:spPr>
            <a:xfrm>
              <a:off x="4721400" y="6235560"/>
              <a:ext cx="9360" cy="246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9" name=""/>
            <p:cNvSpPr/>
            <p:nvPr/>
          </p:nvSpPr>
          <p:spPr>
            <a:xfrm>
              <a:off x="4722840" y="6489720"/>
              <a:ext cx="9360" cy="245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0" name=""/>
            <p:cNvSpPr/>
            <p:nvPr/>
          </p:nvSpPr>
          <p:spPr>
            <a:xfrm>
              <a:off x="1936800" y="6005520"/>
              <a:ext cx="9360" cy="245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1" name=""/>
            <p:cNvSpPr/>
            <p:nvPr/>
          </p:nvSpPr>
          <p:spPr>
            <a:xfrm>
              <a:off x="1938240" y="6259680"/>
              <a:ext cx="9720" cy="245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2" name=""/>
            <p:cNvSpPr/>
            <p:nvPr/>
          </p:nvSpPr>
          <p:spPr>
            <a:xfrm>
              <a:off x="1577880" y="5702400"/>
              <a:ext cx="9720" cy="245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3" name=""/>
            <p:cNvSpPr/>
            <p:nvPr/>
          </p:nvSpPr>
          <p:spPr>
            <a:xfrm>
              <a:off x="6897600" y="4699080"/>
              <a:ext cx="9720" cy="245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4" name=""/>
            <p:cNvSpPr/>
            <p:nvPr/>
          </p:nvSpPr>
          <p:spPr>
            <a:xfrm>
              <a:off x="6708600" y="289080"/>
              <a:ext cx="9720" cy="245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5" name=""/>
            <p:cNvSpPr/>
            <p:nvPr/>
          </p:nvSpPr>
          <p:spPr>
            <a:xfrm>
              <a:off x="6348240" y="617400"/>
              <a:ext cx="9720" cy="246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6" name=""/>
            <p:cNvSpPr/>
            <p:nvPr/>
          </p:nvSpPr>
          <p:spPr>
            <a:xfrm>
              <a:off x="6512040" y="888840"/>
              <a:ext cx="9360" cy="246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7" name=""/>
            <p:cNvSpPr/>
            <p:nvPr/>
          </p:nvSpPr>
          <p:spPr>
            <a:xfrm>
              <a:off x="7047000" y="1181160"/>
              <a:ext cx="0" cy="912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8" name=""/>
            <p:cNvSpPr/>
            <p:nvPr/>
          </p:nvSpPr>
          <p:spPr>
            <a:xfrm>
              <a:off x="7047000" y="3997440"/>
              <a:ext cx="0" cy="593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9" name=""/>
            <p:cNvSpPr/>
            <p:nvPr/>
          </p:nvSpPr>
          <p:spPr>
            <a:xfrm>
              <a:off x="5265720" y="4802040"/>
              <a:ext cx="0" cy="892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0" name=""/>
            <p:cNvSpPr/>
            <p:nvPr/>
          </p:nvSpPr>
          <p:spPr>
            <a:xfrm>
              <a:off x="2819520" y="4013280"/>
              <a:ext cx="0" cy="1409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1" name=""/>
            <p:cNvSpPr/>
            <p:nvPr/>
          </p:nvSpPr>
          <p:spPr>
            <a:xfrm>
              <a:off x="2104920" y="3963960"/>
              <a:ext cx="0" cy="785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2" name=""/>
            <p:cNvSpPr/>
            <p:nvPr/>
          </p:nvSpPr>
          <p:spPr>
            <a:xfrm>
              <a:off x="1219320" y="3965400"/>
              <a:ext cx="0" cy="28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3" name=""/>
            <p:cNvSpPr/>
            <p:nvPr/>
          </p:nvSpPr>
          <p:spPr>
            <a:xfrm>
              <a:off x="8172360" y="3984480"/>
              <a:ext cx="852480" cy="63180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1600" spc="-1" strike="noStrike">
                  <a:solidFill>
                    <a:srgbClr val="000000"/>
                  </a:solidFill>
                  <a:latin typeface="Times New Roman"/>
                </a:rPr>
                <a:t>AD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600" spc="-1" strike="noStrike">
                  <a:solidFill>
                    <a:srgbClr val="000000"/>
                  </a:solidFill>
                  <a:latin typeface="Times New Roman"/>
                </a:rPr>
                <a:t>PGE</a:t>
              </a:r>
              <a:r>
                <a:rPr b="0" lang="cs-CZ" sz="1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4" name=""/>
            <p:cNvSpPr/>
            <p:nvPr/>
          </p:nvSpPr>
          <p:spPr>
            <a:xfrm>
              <a:off x="7780320" y="2887560"/>
              <a:ext cx="1354320" cy="50976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6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cs-CZ" sz="1600" spc="-1" strike="noStrike">
                  <a:solidFill>
                    <a:srgbClr val="000000"/>
                  </a:solidFill>
                  <a:latin typeface="Times New Roman"/>
                </a:rPr>
                <a:t>permeabilita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600" spc="-1" strike="noStrike">
                  <a:solidFill>
                    <a:srgbClr val="000000"/>
                  </a:solidFill>
                  <a:latin typeface="Times New Roman"/>
                </a:rPr>
                <a:t>pro vod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5" name=""/>
            <p:cNvSpPr/>
            <p:nvPr/>
          </p:nvSpPr>
          <p:spPr>
            <a:xfrm>
              <a:off x="7875720" y="2998800"/>
              <a:ext cx="9360" cy="245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6" name=""/>
            <p:cNvSpPr/>
            <p:nvPr/>
          </p:nvSpPr>
          <p:spPr>
            <a:xfrm>
              <a:off x="8271000" y="4033800"/>
              <a:ext cx="9360" cy="246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7" name=""/>
            <p:cNvSpPr/>
            <p:nvPr/>
          </p:nvSpPr>
          <p:spPr>
            <a:xfrm>
              <a:off x="8286840" y="4338720"/>
              <a:ext cx="9360" cy="245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8" name=""/>
            <p:cNvSpPr/>
            <p:nvPr/>
          </p:nvSpPr>
          <p:spPr>
            <a:xfrm flipH="1">
              <a:off x="8569080" y="3349800"/>
              <a:ext cx="6120" cy="66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59" name=""/>
          <p:cNvGrpSpPr/>
          <p:nvPr/>
        </p:nvGrpSpPr>
        <p:grpSpPr>
          <a:xfrm>
            <a:off x="247680" y="168120"/>
            <a:ext cx="8899560" cy="6542280"/>
            <a:chOff x="247680" y="168120"/>
            <a:chExt cx="8899560" cy="6542280"/>
          </a:xfrm>
        </p:grpSpPr>
        <p:sp>
          <p:nvSpPr>
            <p:cNvPr id="9260" name=""/>
            <p:cNvSpPr/>
            <p:nvPr/>
          </p:nvSpPr>
          <p:spPr>
            <a:xfrm>
              <a:off x="247680" y="168120"/>
              <a:ext cx="8899560" cy="90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4400" spc="-1" strike="noStrike">
                  <a:solidFill>
                    <a:srgbClr val="000000"/>
                  </a:solidFill>
                  <a:latin typeface="Times New Roman"/>
                </a:rPr>
                <a:t>Hyperosmolární hyperhydratace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1" name=""/>
            <p:cNvSpPr/>
            <p:nvPr/>
          </p:nvSpPr>
          <p:spPr>
            <a:xfrm flipV="1">
              <a:off x="3903840" y="3026880"/>
              <a:ext cx="626760" cy="9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2" name=""/>
            <p:cNvSpPr/>
            <p:nvPr/>
          </p:nvSpPr>
          <p:spPr>
            <a:xfrm>
              <a:off x="4613040" y="2796120"/>
              <a:ext cx="708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0" lang="cs-CZ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3" name=""/>
            <p:cNvSpPr/>
            <p:nvPr/>
          </p:nvSpPr>
          <p:spPr>
            <a:xfrm flipH="1">
              <a:off x="3475080" y="1162080"/>
              <a:ext cx="22320" cy="5548320"/>
            </a:xfrm>
            <a:prstGeom prst="line">
              <a:avLst/>
            </a:prstGeom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4" name=""/>
            <p:cNvSpPr/>
            <p:nvPr/>
          </p:nvSpPr>
          <p:spPr>
            <a:xfrm flipH="1">
              <a:off x="5807160" y="1219320"/>
              <a:ext cx="7920" cy="5467320"/>
            </a:xfrm>
            <a:prstGeom prst="line">
              <a:avLst/>
            </a:prstGeom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5" name=""/>
            <p:cNvSpPr/>
            <p:nvPr/>
          </p:nvSpPr>
          <p:spPr>
            <a:xfrm>
              <a:off x="565200" y="1552680"/>
              <a:ext cx="28796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Příčina: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větší retence solutů než vod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6" name=""/>
            <p:cNvSpPr/>
            <p:nvPr/>
          </p:nvSpPr>
          <p:spPr>
            <a:xfrm>
              <a:off x="3254400" y="1094400"/>
              <a:ext cx="2343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ECT         IC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7" name=""/>
            <p:cNvSpPr/>
            <p:nvPr/>
          </p:nvSpPr>
          <p:spPr>
            <a:xfrm>
              <a:off x="4124160" y="1135080"/>
              <a:ext cx="0" cy="4848120"/>
            </a:xfrm>
            <a:prstGeom prst="line">
              <a:avLst/>
            </a:prstGeom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8" name=""/>
            <p:cNvSpPr/>
            <p:nvPr/>
          </p:nvSpPr>
          <p:spPr>
            <a:xfrm>
              <a:off x="1147680" y="2561040"/>
              <a:ext cx="1382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Solut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9" name=""/>
            <p:cNvSpPr/>
            <p:nvPr/>
          </p:nvSpPr>
          <p:spPr>
            <a:xfrm>
              <a:off x="2362320" y="2865600"/>
              <a:ext cx="934920" cy="14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0" name=""/>
            <p:cNvSpPr/>
            <p:nvPr/>
          </p:nvSpPr>
          <p:spPr>
            <a:xfrm>
              <a:off x="5977080" y="1776960"/>
              <a:ext cx="2947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000" spc="-1" strike="noStrike">
                  <a:solidFill>
                    <a:srgbClr val="000000"/>
                  </a:solidFill>
                  <a:latin typeface="Times New Roman"/>
                </a:rPr>
                <a:t>Výchozí stav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1" name=""/>
            <p:cNvSpPr/>
            <p:nvPr/>
          </p:nvSpPr>
          <p:spPr>
            <a:xfrm>
              <a:off x="5977080" y="2809080"/>
              <a:ext cx="2947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000" spc="-1" strike="noStrike">
                  <a:solidFill>
                    <a:srgbClr val="000000"/>
                  </a:solidFill>
                  <a:latin typeface="Times New Roman"/>
                </a:rPr>
                <a:t>Začátek poruch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2" name=""/>
            <p:cNvSpPr/>
            <p:nvPr/>
          </p:nvSpPr>
          <p:spPr>
            <a:xfrm>
              <a:off x="5977080" y="3520080"/>
              <a:ext cx="29476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000" spc="-1" strike="noStrike">
                  <a:solidFill>
                    <a:srgbClr val="000000"/>
                  </a:solidFill>
                  <a:latin typeface="Times New Roman"/>
                </a:rPr>
                <a:t>Osmotické ekvilibrium-snížení objemu I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3" name=""/>
            <p:cNvSpPr/>
            <p:nvPr/>
          </p:nvSpPr>
          <p:spPr>
            <a:xfrm>
              <a:off x="5987880" y="4269240"/>
              <a:ext cx="2948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000" spc="-1" strike="noStrike">
                  <a:solidFill>
                    <a:srgbClr val="000000"/>
                  </a:solidFill>
                  <a:latin typeface="Times New Roman"/>
                </a:rPr>
                <a:t>Kompenzační zvýšení osmolarity v ICT..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4" name=""/>
            <p:cNvSpPr/>
            <p:nvPr/>
          </p:nvSpPr>
          <p:spPr>
            <a:xfrm>
              <a:off x="5977080" y="5082120"/>
              <a:ext cx="29476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0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r>
                <a:rPr b="0" lang="cs-CZ" sz="2000" spc="-1" strike="noStrike">
                  <a:solidFill>
                    <a:srgbClr val="000000"/>
                  </a:solidFill>
                  <a:latin typeface="Times New Roman"/>
                </a:rPr>
                <a:t>vede k přesunu vody do ICT..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5" name=""/>
            <p:cNvSpPr/>
            <p:nvPr/>
          </p:nvSpPr>
          <p:spPr>
            <a:xfrm>
              <a:off x="5977080" y="5810760"/>
              <a:ext cx="29476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0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r>
                <a:rPr b="0" lang="cs-CZ" sz="2000" spc="-1" strike="noStrike">
                  <a:solidFill>
                    <a:srgbClr val="000000"/>
                  </a:solidFill>
                  <a:latin typeface="Times New Roman"/>
                </a:rPr>
                <a:t>a ke korekci sníženého objemu I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6" name=""/>
            <p:cNvSpPr/>
            <p:nvPr/>
          </p:nvSpPr>
          <p:spPr>
            <a:xfrm>
              <a:off x="3492360" y="1677960"/>
              <a:ext cx="638280" cy="6825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7" name=""/>
            <p:cNvSpPr/>
            <p:nvPr/>
          </p:nvSpPr>
          <p:spPr>
            <a:xfrm>
              <a:off x="4119480" y="1677960"/>
              <a:ext cx="1681200" cy="682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8" name=""/>
            <p:cNvSpPr/>
            <p:nvPr/>
          </p:nvSpPr>
          <p:spPr>
            <a:xfrm>
              <a:off x="3303720" y="2730600"/>
              <a:ext cx="834840" cy="6714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9" name=""/>
            <p:cNvSpPr/>
            <p:nvPr/>
          </p:nvSpPr>
          <p:spPr>
            <a:xfrm>
              <a:off x="4111560" y="2730600"/>
              <a:ext cx="1703520" cy="66492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0" name=""/>
            <p:cNvSpPr/>
            <p:nvPr/>
          </p:nvSpPr>
          <p:spPr>
            <a:xfrm flipV="1">
              <a:off x="3903840" y="3026880"/>
              <a:ext cx="626760" cy="972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1" name=""/>
            <p:cNvSpPr/>
            <p:nvPr/>
          </p:nvSpPr>
          <p:spPr>
            <a:xfrm>
              <a:off x="4613040" y="2796120"/>
              <a:ext cx="708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0" lang="cs-CZ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2" name=""/>
            <p:cNvSpPr/>
            <p:nvPr/>
          </p:nvSpPr>
          <p:spPr>
            <a:xfrm>
              <a:off x="3228840" y="3589200"/>
              <a:ext cx="900360" cy="58896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3" name=""/>
            <p:cNvSpPr/>
            <p:nvPr/>
          </p:nvSpPr>
          <p:spPr>
            <a:xfrm>
              <a:off x="4132440" y="3591000"/>
              <a:ext cx="1450800" cy="587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4" name=""/>
            <p:cNvSpPr/>
            <p:nvPr/>
          </p:nvSpPr>
          <p:spPr>
            <a:xfrm flipH="1">
              <a:off x="5807160" y="1219320"/>
              <a:ext cx="7920" cy="5467320"/>
            </a:xfrm>
            <a:prstGeom prst="line">
              <a:avLst/>
            </a:prstGeom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5" name=""/>
            <p:cNvSpPr/>
            <p:nvPr/>
          </p:nvSpPr>
          <p:spPr>
            <a:xfrm>
              <a:off x="3232080" y="5133960"/>
              <a:ext cx="898560" cy="57780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6" name=""/>
            <p:cNvSpPr/>
            <p:nvPr/>
          </p:nvSpPr>
          <p:spPr>
            <a:xfrm>
              <a:off x="4133880" y="5126040"/>
              <a:ext cx="1423800" cy="58752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7" name=""/>
            <p:cNvSpPr/>
            <p:nvPr/>
          </p:nvSpPr>
          <p:spPr>
            <a:xfrm flipV="1">
              <a:off x="3844800" y="5419800"/>
              <a:ext cx="627120" cy="93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8" name=""/>
            <p:cNvSpPr/>
            <p:nvPr/>
          </p:nvSpPr>
          <p:spPr>
            <a:xfrm>
              <a:off x="4458960" y="5166360"/>
              <a:ext cx="708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ffffff"/>
                  </a:solidFill>
                  <a:latin typeface="Times New Roman"/>
                </a:rPr>
                <a:t>H</a:t>
              </a:r>
              <a:r>
                <a:rPr b="0" lang="cs-CZ" sz="2400" spc="-1" strike="noStrike" baseline="-25000">
                  <a:solidFill>
                    <a:srgbClr val="ffffff"/>
                  </a:solidFill>
                  <a:latin typeface="Times New Roman"/>
                </a:rPr>
                <a:t>2</a:t>
              </a:r>
              <a:r>
                <a:rPr b="0" lang="cs-CZ" sz="2400" spc="-1" strike="noStrike">
                  <a:solidFill>
                    <a:srgbClr val="ffffff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9" name=""/>
            <p:cNvSpPr/>
            <p:nvPr/>
          </p:nvSpPr>
          <p:spPr>
            <a:xfrm>
              <a:off x="3336840" y="5969160"/>
              <a:ext cx="838440" cy="58572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0" name=""/>
            <p:cNvSpPr/>
            <p:nvPr/>
          </p:nvSpPr>
          <p:spPr>
            <a:xfrm>
              <a:off x="4129200" y="5969160"/>
              <a:ext cx="1608120" cy="587160"/>
            </a:xfrm>
            <a:prstGeom prst="rect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1" name=""/>
            <p:cNvSpPr/>
            <p:nvPr/>
          </p:nvSpPr>
          <p:spPr>
            <a:xfrm>
              <a:off x="3236760" y="4362480"/>
              <a:ext cx="889200" cy="588960"/>
            </a:xfrm>
            <a:prstGeom prst="rect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2" name=""/>
            <p:cNvSpPr/>
            <p:nvPr/>
          </p:nvSpPr>
          <p:spPr>
            <a:xfrm>
              <a:off x="4129200" y="4363920"/>
              <a:ext cx="1450800" cy="587520"/>
            </a:xfrm>
            <a:prstGeom prst="rect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3" name=""/>
            <p:cNvSpPr/>
            <p:nvPr/>
          </p:nvSpPr>
          <p:spPr>
            <a:xfrm flipV="1">
              <a:off x="2395440" y="3235320"/>
              <a:ext cx="892440" cy="7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4" name=""/>
            <p:cNvSpPr/>
            <p:nvPr/>
          </p:nvSpPr>
          <p:spPr>
            <a:xfrm>
              <a:off x="1746720" y="3055680"/>
              <a:ext cx="5767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0" lang="cs-CZ" sz="1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cs-CZ" sz="18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95" name=""/>
          <p:cNvSpPr/>
          <p:nvPr/>
        </p:nvSpPr>
        <p:spPr>
          <a:xfrm>
            <a:off x="4138560" y="3038400"/>
            <a:ext cx="3938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6" name=""/>
          <p:cNvSpPr/>
          <p:nvPr/>
        </p:nvSpPr>
        <p:spPr>
          <a:xfrm>
            <a:off x="247680" y="135000"/>
            <a:ext cx="8899560" cy="9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Hyposmolární hyperhydrat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7" name=""/>
          <p:cNvSpPr/>
          <p:nvPr/>
        </p:nvSpPr>
        <p:spPr>
          <a:xfrm flipH="1">
            <a:off x="3438360" y="1162080"/>
            <a:ext cx="22320" cy="554832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8" name=""/>
          <p:cNvSpPr/>
          <p:nvPr/>
        </p:nvSpPr>
        <p:spPr>
          <a:xfrm flipH="1">
            <a:off x="5778360" y="1268280"/>
            <a:ext cx="7920" cy="546732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9" name=""/>
          <p:cNvSpPr/>
          <p:nvPr/>
        </p:nvSpPr>
        <p:spPr>
          <a:xfrm>
            <a:off x="276120" y="1565280"/>
            <a:ext cx="3135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Příčina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větší retence vody než solut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0" name=""/>
          <p:cNvSpPr/>
          <p:nvPr/>
        </p:nvSpPr>
        <p:spPr>
          <a:xfrm>
            <a:off x="3218040" y="1094400"/>
            <a:ext cx="234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ECT         I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1" name=""/>
          <p:cNvSpPr/>
          <p:nvPr/>
        </p:nvSpPr>
        <p:spPr>
          <a:xfrm>
            <a:off x="4084560" y="1135080"/>
            <a:ext cx="0" cy="484812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2" name=""/>
          <p:cNvSpPr/>
          <p:nvPr/>
        </p:nvSpPr>
        <p:spPr>
          <a:xfrm>
            <a:off x="5940360" y="1776960"/>
            <a:ext cx="2948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Výchozí sta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3" name=""/>
          <p:cNvSpPr/>
          <p:nvPr/>
        </p:nvSpPr>
        <p:spPr>
          <a:xfrm>
            <a:off x="5940360" y="2809080"/>
            <a:ext cx="2948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Začátek poruch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4" name=""/>
          <p:cNvSpPr/>
          <p:nvPr/>
        </p:nvSpPr>
        <p:spPr>
          <a:xfrm>
            <a:off x="5940360" y="3520080"/>
            <a:ext cx="2948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Osmotické ekvilibrium-zvýšení objemu I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5" name=""/>
          <p:cNvSpPr/>
          <p:nvPr/>
        </p:nvSpPr>
        <p:spPr>
          <a:xfrm>
            <a:off x="5951520" y="4269240"/>
            <a:ext cx="2948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Kompenzační snížení osmolarity v ICT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6" name=""/>
          <p:cNvSpPr/>
          <p:nvPr/>
        </p:nvSpPr>
        <p:spPr>
          <a:xfrm>
            <a:off x="5940360" y="5082120"/>
            <a:ext cx="2948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vede k přesunu vody z ICT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7" name=""/>
          <p:cNvSpPr/>
          <p:nvPr/>
        </p:nvSpPr>
        <p:spPr>
          <a:xfrm>
            <a:off x="5940360" y="5810760"/>
            <a:ext cx="2948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a ke korekci zvýšeného objemu I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8" name=""/>
          <p:cNvSpPr/>
          <p:nvPr/>
        </p:nvSpPr>
        <p:spPr>
          <a:xfrm>
            <a:off x="3456000" y="1677960"/>
            <a:ext cx="638280" cy="6825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9" name=""/>
          <p:cNvSpPr/>
          <p:nvPr/>
        </p:nvSpPr>
        <p:spPr>
          <a:xfrm>
            <a:off x="4097160" y="1677960"/>
            <a:ext cx="1681200" cy="682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0" name=""/>
          <p:cNvSpPr/>
          <p:nvPr/>
        </p:nvSpPr>
        <p:spPr>
          <a:xfrm>
            <a:off x="3236760" y="2720880"/>
            <a:ext cx="927360" cy="6699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1" name=""/>
          <p:cNvSpPr/>
          <p:nvPr/>
        </p:nvSpPr>
        <p:spPr>
          <a:xfrm>
            <a:off x="4075200" y="2720880"/>
            <a:ext cx="1703160" cy="6699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2" name=""/>
          <p:cNvSpPr/>
          <p:nvPr/>
        </p:nvSpPr>
        <p:spPr>
          <a:xfrm>
            <a:off x="3867120" y="3036960"/>
            <a:ext cx="635040" cy="14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3" name=""/>
          <p:cNvSpPr/>
          <p:nvPr/>
        </p:nvSpPr>
        <p:spPr>
          <a:xfrm>
            <a:off x="4576320" y="2796120"/>
            <a:ext cx="708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4" name=""/>
          <p:cNvSpPr/>
          <p:nvPr/>
        </p:nvSpPr>
        <p:spPr>
          <a:xfrm>
            <a:off x="3382920" y="3589200"/>
            <a:ext cx="709560" cy="5889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5" name=""/>
          <p:cNvSpPr/>
          <p:nvPr/>
        </p:nvSpPr>
        <p:spPr>
          <a:xfrm>
            <a:off x="4095720" y="3591000"/>
            <a:ext cx="1889280" cy="587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6" name=""/>
          <p:cNvSpPr/>
          <p:nvPr/>
        </p:nvSpPr>
        <p:spPr>
          <a:xfrm>
            <a:off x="3373560" y="5127480"/>
            <a:ext cx="720720" cy="58428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7" name=""/>
          <p:cNvSpPr/>
          <p:nvPr/>
        </p:nvSpPr>
        <p:spPr>
          <a:xfrm>
            <a:off x="4097160" y="5126040"/>
            <a:ext cx="1887840" cy="5875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8" name=""/>
          <p:cNvSpPr/>
          <p:nvPr/>
        </p:nvSpPr>
        <p:spPr>
          <a:xfrm flipV="1">
            <a:off x="3808440" y="5419800"/>
            <a:ext cx="627120" cy="936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9" name=""/>
          <p:cNvSpPr/>
          <p:nvPr/>
        </p:nvSpPr>
        <p:spPr>
          <a:xfrm>
            <a:off x="4422600" y="5166360"/>
            <a:ext cx="708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0" name=""/>
          <p:cNvSpPr/>
          <p:nvPr/>
        </p:nvSpPr>
        <p:spPr>
          <a:xfrm>
            <a:off x="3236760" y="5959440"/>
            <a:ext cx="901800" cy="58428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1" name=""/>
          <p:cNvSpPr/>
          <p:nvPr/>
        </p:nvSpPr>
        <p:spPr>
          <a:xfrm>
            <a:off x="4140360" y="5962680"/>
            <a:ext cx="1722240" cy="58752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2" name=""/>
          <p:cNvSpPr/>
          <p:nvPr/>
        </p:nvSpPr>
        <p:spPr>
          <a:xfrm>
            <a:off x="3373560" y="4362480"/>
            <a:ext cx="711000" cy="58896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3" name=""/>
          <p:cNvSpPr/>
          <p:nvPr/>
        </p:nvSpPr>
        <p:spPr>
          <a:xfrm>
            <a:off x="4092480" y="4363920"/>
            <a:ext cx="1889280" cy="5875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4" name=""/>
          <p:cNvSpPr/>
          <p:nvPr/>
        </p:nvSpPr>
        <p:spPr>
          <a:xfrm>
            <a:off x="1284120" y="2660040"/>
            <a:ext cx="138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Solu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5" name=""/>
          <p:cNvSpPr/>
          <p:nvPr/>
        </p:nvSpPr>
        <p:spPr>
          <a:xfrm>
            <a:off x="2325600" y="2865600"/>
            <a:ext cx="93528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6" name=""/>
          <p:cNvSpPr/>
          <p:nvPr/>
        </p:nvSpPr>
        <p:spPr>
          <a:xfrm>
            <a:off x="2347920" y="3232080"/>
            <a:ext cx="903240" cy="32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7" name=""/>
          <p:cNvSpPr/>
          <p:nvPr/>
        </p:nvSpPr>
        <p:spPr>
          <a:xfrm>
            <a:off x="1612440" y="2981880"/>
            <a:ext cx="708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8" name=""/>
          <p:cNvSpPr/>
          <p:nvPr/>
        </p:nvSpPr>
        <p:spPr>
          <a:xfrm>
            <a:off x="2197080" y="2457360"/>
            <a:ext cx="1009800" cy="101916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9" name=""/>
          <p:cNvSpPr/>
          <p:nvPr/>
        </p:nvSpPr>
        <p:spPr>
          <a:xfrm>
            <a:off x="2380320" y="5332320"/>
            <a:ext cx="576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0" name=""/>
          <p:cNvSpPr/>
          <p:nvPr/>
        </p:nvSpPr>
        <p:spPr>
          <a:xfrm>
            <a:off x="2592360" y="4987800"/>
            <a:ext cx="44640" cy="79560"/>
          </a:xfrm>
          <a:custGeom>
            <a:avLst/>
            <a:gdLst/>
            <a:ahLst/>
            <a:rect l="l" t="t" r="r" b="b"/>
            <a:pathLst>
              <a:path w="196" h="372">
                <a:moveTo>
                  <a:pt x="95" y="0"/>
                </a:moveTo>
                <a:lnTo>
                  <a:pt x="105" y="60"/>
                </a:lnTo>
                <a:lnTo>
                  <a:pt x="111" y="88"/>
                </a:lnTo>
                <a:lnTo>
                  <a:pt x="121" y="122"/>
                </a:lnTo>
                <a:lnTo>
                  <a:pt x="132" y="143"/>
                </a:lnTo>
                <a:lnTo>
                  <a:pt x="147" y="168"/>
                </a:lnTo>
                <a:lnTo>
                  <a:pt x="167" y="195"/>
                </a:lnTo>
                <a:lnTo>
                  <a:pt x="184" y="221"/>
                </a:lnTo>
                <a:lnTo>
                  <a:pt x="192" y="247"/>
                </a:lnTo>
                <a:lnTo>
                  <a:pt x="196" y="279"/>
                </a:lnTo>
                <a:lnTo>
                  <a:pt x="189" y="308"/>
                </a:lnTo>
                <a:lnTo>
                  <a:pt x="178" y="328"/>
                </a:lnTo>
                <a:lnTo>
                  <a:pt x="162" y="345"/>
                </a:lnTo>
                <a:lnTo>
                  <a:pt x="141" y="361"/>
                </a:lnTo>
                <a:lnTo>
                  <a:pt x="121" y="369"/>
                </a:lnTo>
                <a:lnTo>
                  <a:pt x="99" y="372"/>
                </a:lnTo>
                <a:lnTo>
                  <a:pt x="76" y="369"/>
                </a:lnTo>
                <a:lnTo>
                  <a:pt x="54" y="363"/>
                </a:lnTo>
                <a:lnTo>
                  <a:pt x="34" y="351"/>
                </a:lnTo>
                <a:lnTo>
                  <a:pt x="19" y="336"/>
                </a:lnTo>
                <a:lnTo>
                  <a:pt x="8" y="317"/>
                </a:lnTo>
                <a:lnTo>
                  <a:pt x="3" y="298"/>
                </a:lnTo>
                <a:lnTo>
                  <a:pt x="0" y="272"/>
                </a:lnTo>
                <a:lnTo>
                  <a:pt x="5" y="242"/>
                </a:lnTo>
                <a:lnTo>
                  <a:pt x="13" y="219"/>
                </a:lnTo>
                <a:lnTo>
                  <a:pt x="30" y="191"/>
                </a:lnTo>
                <a:lnTo>
                  <a:pt x="49" y="168"/>
                </a:lnTo>
                <a:lnTo>
                  <a:pt x="62" y="141"/>
                </a:lnTo>
                <a:lnTo>
                  <a:pt x="72" y="120"/>
                </a:lnTo>
                <a:lnTo>
                  <a:pt x="81" y="90"/>
                </a:lnTo>
                <a:lnTo>
                  <a:pt x="86" y="60"/>
                </a:lnTo>
                <a:lnTo>
                  <a:pt x="95" y="0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1" name=""/>
          <p:cNvSpPr/>
          <p:nvPr/>
        </p:nvSpPr>
        <p:spPr>
          <a:xfrm>
            <a:off x="2573280" y="5129280"/>
            <a:ext cx="44640" cy="79200"/>
          </a:xfrm>
          <a:custGeom>
            <a:avLst/>
            <a:gdLst/>
            <a:ahLst/>
            <a:rect l="l" t="t" r="r" b="b"/>
            <a:pathLst>
              <a:path w="196" h="372">
                <a:moveTo>
                  <a:pt x="95" y="0"/>
                </a:moveTo>
                <a:lnTo>
                  <a:pt x="105" y="60"/>
                </a:lnTo>
                <a:lnTo>
                  <a:pt x="111" y="88"/>
                </a:lnTo>
                <a:lnTo>
                  <a:pt x="121" y="122"/>
                </a:lnTo>
                <a:lnTo>
                  <a:pt x="132" y="143"/>
                </a:lnTo>
                <a:lnTo>
                  <a:pt x="147" y="168"/>
                </a:lnTo>
                <a:lnTo>
                  <a:pt x="167" y="195"/>
                </a:lnTo>
                <a:lnTo>
                  <a:pt x="184" y="221"/>
                </a:lnTo>
                <a:lnTo>
                  <a:pt x="192" y="247"/>
                </a:lnTo>
                <a:lnTo>
                  <a:pt x="196" y="279"/>
                </a:lnTo>
                <a:lnTo>
                  <a:pt x="189" y="308"/>
                </a:lnTo>
                <a:lnTo>
                  <a:pt x="178" y="328"/>
                </a:lnTo>
                <a:lnTo>
                  <a:pt x="162" y="345"/>
                </a:lnTo>
                <a:lnTo>
                  <a:pt x="141" y="361"/>
                </a:lnTo>
                <a:lnTo>
                  <a:pt x="121" y="369"/>
                </a:lnTo>
                <a:lnTo>
                  <a:pt x="99" y="372"/>
                </a:lnTo>
                <a:lnTo>
                  <a:pt x="76" y="369"/>
                </a:lnTo>
                <a:lnTo>
                  <a:pt x="54" y="363"/>
                </a:lnTo>
                <a:lnTo>
                  <a:pt x="34" y="351"/>
                </a:lnTo>
                <a:lnTo>
                  <a:pt x="19" y="336"/>
                </a:lnTo>
                <a:lnTo>
                  <a:pt x="8" y="317"/>
                </a:lnTo>
                <a:lnTo>
                  <a:pt x="3" y="298"/>
                </a:lnTo>
                <a:lnTo>
                  <a:pt x="0" y="272"/>
                </a:lnTo>
                <a:lnTo>
                  <a:pt x="5" y="242"/>
                </a:lnTo>
                <a:lnTo>
                  <a:pt x="13" y="219"/>
                </a:lnTo>
                <a:lnTo>
                  <a:pt x="30" y="191"/>
                </a:lnTo>
                <a:lnTo>
                  <a:pt x="49" y="168"/>
                </a:lnTo>
                <a:lnTo>
                  <a:pt x="62" y="141"/>
                </a:lnTo>
                <a:lnTo>
                  <a:pt x="72" y="120"/>
                </a:lnTo>
                <a:lnTo>
                  <a:pt x="81" y="90"/>
                </a:lnTo>
                <a:lnTo>
                  <a:pt x="86" y="60"/>
                </a:lnTo>
                <a:lnTo>
                  <a:pt x="95" y="0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2" name=""/>
          <p:cNvSpPr/>
          <p:nvPr/>
        </p:nvSpPr>
        <p:spPr>
          <a:xfrm>
            <a:off x="2579760" y="5329080"/>
            <a:ext cx="44280" cy="79560"/>
          </a:xfrm>
          <a:custGeom>
            <a:avLst/>
            <a:gdLst/>
            <a:ahLst/>
            <a:rect l="l" t="t" r="r" b="b"/>
            <a:pathLst>
              <a:path w="196" h="372">
                <a:moveTo>
                  <a:pt x="95" y="0"/>
                </a:moveTo>
                <a:lnTo>
                  <a:pt x="105" y="60"/>
                </a:lnTo>
                <a:lnTo>
                  <a:pt x="111" y="88"/>
                </a:lnTo>
                <a:lnTo>
                  <a:pt x="121" y="122"/>
                </a:lnTo>
                <a:lnTo>
                  <a:pt x="132" y="143"/>
                </a:lnTo>
                <a:lnTo>
                  <a:pt x="147" y="168"/>
                </a:lnTo>
                <a:lnTo>
                  <a:pt x="167" y="195"/>
                </a:lnTo>
                <a:lnTo>
                  <a:pt x="184" y="221"/>
                </a:lnTo>
                <a:lnTo>
                  <a:pt x="192" y="247"/>
                </a:lnTo>
                <a:lnTo>
                  <a:pt x="196" y="279"/>
                </a:lnTo>
                <a:lnTo>
                  <a:pt x="189" y="308"/>
                </a:lnTo>
                <a:lnTo>
                  <a:pt x="178" y="328"/>
                </a:lnTo>
                <a:lnTo>
                  <a:pt x="162" y="345"/>
                </a:lnTo>
                <a:lnTo>
                  <a:pt x="141" y="361"/>
                </a:lnTo>
                <a:lnTo>
                  <a:pt x="121" y="369"/>
                </a:lnTo>
                <a:lnTo>
                  <a:pt x="99" y="372"/>
                </a:lnTo>
                <a:lnTo>
                  <a:pt x="76" y="369"/>
                </a:lnTo>
                <a:lnTo>
                  <a:pt x="54" y="363"/>
                </a:lnTo>
                <a:lnTo>
                  <a:pt x="34" y="351"/>
                </a:lnTo>
                <a:lnTo>
                  <a:pt x="19" y="336"/>
                </a:lnTo>
                <a:lnTo>
                  <a:pt x="8" y="317"/>
                </a:lnTo>
                <a:lnTo>
                  <a:pt x="3" y="298"/>
                </a:lnTo>
                <a:lnTo>
                  <a:pt x="0" y="272"/>
                </a:lnTo>
                <a:lnTo>
                  <a:pt x="5" y="242"/>
                </a:lnTo>
                <a:lnTo>
                  <a:pt x="13" y="219"/>
                </a:lnTo>
                <a:lnTo>
                  <a:pt x="30" y="191"/>
                </a:lnTo>
                <a:lnTo>
                  <a:pt x="49" y="168"/>
                </a:lnTo>
                <a:lnTo>
                  <a:pt x="62" y="141"/>
                </a:lnTo>
                <a:lnTo>
                  <a:pt x="72" y="120"/>
                </a:lnTo>
                <a:lnTo>
                  <a:pt x="81" y="90"/>
                </a:lnTo>
                <a:lnTo>
                  <a:pt x="86" y="60"/>
                </a:lnTo>
                <a:lnTo>
                  <a:pt x="95" y="0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3" name=""/>
          <p:cNvSpPr/>
          <p:nvPr/>
        </p:nvSpPr>
        <p:spPr>
          <a:xfrm rot="8861400">
            <a:off x="3018600" y="3306240"/>
            <a:ext cx="111240" cy="1403640"/>
          </a:xfrm>
          <a:prstGeom prst="can">
            <a:avLst>
              <a:gd name="adj" fmla="val 2981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4" name=""/>
          <p:cNvSpPr/>
          <p:nvPr/>
        </p:nvSpPr>
        <p:spPr>
          <a:xfrm rot="12156000">
            <a:off x="2766240" y="3803400"/>
            <a:ext cx="74520" cy="1063440"/>
          </a:xfrm>
          <a:prstGeom prst="can">
            <a:avLst>
              <a:gd name="adj" fmla="val 1307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5" name=""/>
          <p:cNvSpPr/>
          <p:nvPr/>
        </p:nvSpPr>
        <p:spPr>
          <a:xfrm>
            <a:off x="2587680" y="4834080"/>
            <a:ext cx="44280" cy="79200"/>
          </a:xfrm>
          <a:custGeom>
            <a:avLst/>
            <a:gdLst/>
            <a:ahLst/>
            <a:rect l="l" t="t" r="r" b="b"/>
            <a:pathLst>
              <a:path w="196" h="372">
                <a:moveTo>
                  <a:pt x="95" y="0"/>
                </a:moveTo>
                <a:lnTo>
                  <a:pt x="105" y="60"/>
                </a:lnTo>
                <a:lnTo>
                  <a:pt x="111" y="88"/>
                </a:lnTo>
                <a:lnTo>
                  <a:pt x="121" y="122"/>
                </a:lnTo>
                <a:lnTo>
                  <a:pt x="132" y="143"/>
                </a:lnTo>
                <a:lnTo>
                  <a:pt x="147" y="168"/>
                </a:lnTo>
                <a:lnTo>
                  <a:pt x="167" y="195"/>
                </a:lnTo>
                <a:lnTo>
                  <a:pt x="184" y="221"/>
                </a:lnTo>
                <a:lnTo>
                  <a:pt x="192" y="247"/>
                </a:lnTo>
                <a:lnTo>
                  <a:pt x="196" y="279"/>
                </a:lnTo>
                <a:lnTo>
                  <a:pt x="189" y="308"/>
                </a:lnTo>
                <a:lnTo>
                  <a:pt x="178" y="328"/>
                </a:lnTo>
                <a:lnTo>
                  <a:pt x="162" y="345"/>
                </a:lnTo>
                <a:lnTo>
                  <a:pt x="141" y="361"/>
                </a:lnTo>
                <a:lnTo>
                  <a:pt x="121" y="369"/>
                </a:lnTo>
                <a:lnTo>
                  <a:pt x="99" y="372"/>
                </a:lnTo>
                <a:lnTo>
                  <a:pt x="76" y="369"/>
                </a:lnTo>
                <a:lnTo>
                  <a:pt x="54" y="363"/>
                </a:lnTo>
                <a:lnTo>
                  <a:pt x="34" y="351"/>
                </a:lnTo>
                <a:lnTo>
                  <a:pt x="19" y="336"/>
                </a:lnTo>
                <a:lnTo>
                  <a:pt x="8" y="317"/>
                </a:lnTo>
                <a:lnTo>
                  <a:pt x="3" y="298"/>
                </a:lnTo>
                <a:lnTo>
                  <a:pt x="0" y="272"/>
                </a:lnTo>
                <a:lnTo>
                  <a:pt x="5" y="242"/>
                </a:lnTo>
                <a:lnTo>
                  <a:pt x="13" y="219"/>
                </a:lnTo>
                <a:lnTo>
                  <a:pt x="30" y="191"/>
                </a:lnTo>
                <a:lnTo>
                  <a:pt x="49" y="168"/>
                </a:lnTo>
                <a:lnTo>
                  <a:pt x="62" y="141"/>
                </a:lnTo>
                <a:lnTo>
                  <a:pt x="72" y="120"/>
                </a:lnTo>
                <a:lnTo>
                  <a:pt x="81" y="90"/>
                </a:lnTo>
                <a:lnTo>
                  <a:pt x="86" y="60"/>
                </a:lnTo>
                <a:lnTo>
                  <a:pt x="95" y="0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6" name=""/>
          <p:cNvSpPr/>
          <p:nvPr/>
        </p:nvSpPr>
        <p:spPr>
          <a:xfrm rot="17604600">
            <a:off x="2563560" y="4722120"/>
            <a:ext cx="135000" cy="748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7" name=""/>
          <p:cNvSpPr/>
          <p:nvPr/>
        </p:nvSpPr>
        <p:spPr>
          <a:xfrm>
            <a:off x="3151080" y="4535640"/>
            <a:ext cx="689040" cy="64908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38" name=""/>
          <p:cNvGrpSpPr/>
          <p:nvPr/>
        </p:nvGrpSpPr>
        <p:grpSpPr>
          <a:xfrm>
            <a:off x="998640" y="3736800"/>
            <a:ext cx="678960" cy="797040"/>
            <a:chOff x="998640" y="3736800"/>
            <a:chExt cx="678960" cy="797040"/>
          </a:xfrm>
        </p:grpSpPr>
        <p:grpSp>
          <p:nvGrpSpPr>
            <p:cNvPr id="9339" name=""/>
            <p:cNvGrpSpPr/>
            <p:nvPr/>
          </p:nvGrpSpPr>
          <p:grpSpPr>
            <a:xfrm>
              <a:off x="998640" y="3763080"/>
              <a:ext cx="594720" cy="402480"/>
              <a:chOff x="998640" y="3763080"/>
              <a:chExt cx="594720" cy="402480"/>
            </a:xfrm>
          </p:grpSpPr>
          <p:grpSp>
            <p:nvGrpSpPr>
              <p:cNvPr id="9340" name=""/>
              <p:cNvGrpSpPr/>
              <p:nvPr/>
            </p:nvGrpSpPr>
            <p:grpSpPr>
              <a:xfrm>
                <a:off x="998640" y="3807360"/>
                <a:ext cx="577080" cy="358200"/>
                <a:chOff x="998640" y="3807360"/>
                <a:chExt cx="577080" cy="358200"/>
              </a:xfrm>
            </p:grpSpPr>
            <p:grpSp>
              <p:nvGrpSpPr>
                <p:cNvPr id="9341" name=""/>
                <p:cNvGrpSpPr/>
                <p:nvPr/>
              </p:nvGrpSpPr>
              <p:grpSpPr>
                <a:xfrm>
                  <a:off x="998640" y="3807360"/>
                  <a:ext cx="575640" cy="358200"/>
                  <a:chOff x="998640" y="3807360"/>
                  <a:chExt cx="575640" cy="358200"/>
                </a:xfrm>
              </p:grpSpPr>
              <p:sp>
                <p:nvSpPr>
                  <p:cNvPr id="9342" name=""/>
                  <p:cNvSpPr/>
                  <p:nvPr/>
                </p:nvSpPr>
                <p:spPr>
                  <a:xfrm rot="1404600">
                    <a:off x="995040" y="3958200"/>
                    <a:ext cx="563760" cy="99360"/>
                  </a:xfrm>
                  <a:prstGeom prst="ellipse">
                    <a:avLst/>
                  </a:prstGeom>
                  <a:solidFill>
                    <a:srgbClr val="e0e0e0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760" bIns="23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43" name=""/>
                  <p:cNvSpPr/>
                  <p:nvPr/>
                </p:nvSpPr>
                <p:spPr>
                  <a:xfrm rot="1404600">
                    <a:off x="1014480" y="3915360"/>
                    <a:ext cx="563760" cy="96840"/>
                  </a:xfrm>
                  <a:prstGeom prst="rect">
                    <a:avLst/>
                  </a:pr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9344" name=""/>
                <p:cNvSpPr/>
                <p:nvPr/>
              </p:nvSpPr>
              <p:spPr>
                <a:xfrm flipV="1">
                  <a:off x="1014480" y="3808440"/>
                  <a:ext cx="42120" cy="9324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440" bIns="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45" name=""/>
                <p:cNvSpPr/>
                <p:nvPr/>
              </p:nvSpPr>
              <p:spPr>
                <a:xfrm flipH="1">
                  <a:off x="1537560" y="4035960"/>
                  <a:ext cx="38160" cy="9072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346" name=""/>
              <p:cNvGrpSpPr/>
              <p:nvPr/>
            </p:nvGrpSpPr>
            <p:grpSpPr>
              <a:xfrm>
                <a:off x="1037160" y="3763080"/>
                <a:ext cx="556200" cy="314280"/>
                <a:chOff x="1037160" y="3763080"/>
                <a:chExt cx="556200" cy="314280"/>
              </a:xfrm>
            </p:grpSpPr>
            <p:sp>
              <p:nvSpPr>
                <p:cNvPr id="9347" name=""/>
                <p:cNvSpPr/>
                <p:nvPr/>
              </p:nvSpPr>
              <p:spPr>
                <a:xfrm rot="1404600">
                  <a:off x="1033200" y="3870720"/>
                  <a:ext cx="563760" cy="98280"/>
                </a:xfrm>
                <a:prstGeom prst="ellipse">
                  <a:avLst/>
                </a:prstGeom>
                <a:solidFill>
                  <a:srgbClr val="e0e0e0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48" name=""/>
                <p:cNvSpPr/>
                <p:nvPr/>
              </p:nvSpPr>
              <p:spPr>
                <a:xfrm rot="1404600">
                  <a:off x="1049400" y="3884760"/>
                  <a:ext cx="528840" cy="76680"/>
                </a:xfrm>
                <a:prstGeom prst="ellipse">
                  <a:avLst/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9349" name=""/>
            <p:cNvSpPr/>
            <p:nvPr/>
          </p:nvSpPr>
          <p:spPr>
            <a:xfrm>
              <a:off x="1046520" y="3736800"/>
              <a:ext cx="631080" cy="797040"/>
            </a:xfrm>
            <a:custGeom>
              <a:avLst/>
              <a:gdLst/>
              <a:ahLst/>
              <a:rect l="l" t="t" r="r" b="b"/>
              <a:pathLst>
                <a:path w="410" h="554">
                  <a:moveTo>
                    <a:pt x="196" y="30"/>
                  </a:moveTo>
                  <a:cubicBezTo>
                    <a:pt x="95" y="0"/>
                    <a:pt x="0" y="54"/>
                    <a:pt x="4" y="68"/>
                  </a:cubicBezTo>
                  <a:cubicBezTo>
                    <a:pt x="4" y="82"/>
                    <a:pt x="124" y="130"/>
                    <a:pt x="178" y="151"/>
                  </a:cubicBezTo>
                  <a:cubicBezTo>
                    <a:pt x="219" y="170"/>
                    <a:pt x="223" y="170"/>
                    <a:pt x="247" y="177"/>
                  </a:cubicBezTo>
                  <a:cubicBezTo>
                    <a:pt x="272" y="184"/>
                    <a:pt x="310" y="160"/>
                    <a:pt x="327" y="195"/>
                  </a:cubicBezTo>
                  <a:cubicBezTo>
                    <a:pt x="351" y="214"/>
                    <a:pt x="350" y="331"/>
                    <a:pt x="348" y="385"/>
                  </a:cubicBezTo>
                  <a:cubicBezTo>
                    <a:pt x="346" y="439"/>
                    <a:pt x="312" y="494"/>
                    <a:pt x="315" y="517"/>
                  </a:cubicBezTo>
                  <a:cubicBezTo>
                    <a:pt x="318" y="540"/>
                    <a:pt x="353" y="522"/>
                    <a:pt x="367" y="523"/>
                  </a:cubicBezTo>
                  <a:cubicBezTo>
                    <a:pt x="381" y="524"/>
                    <a:pt x="398" y="554"/>
                    <a:pt x="400" y="523"/>
                  </a:cubicBezTo>
                  <a:cubicBezTo>
                    <a:pt x="410" y="504"/>
                    <a:pt x="388" y="393"/>
                    <a:pt x="381" y="339"/>
                  </a:cubicBezTo>
                  <a:cubicBezTo>
                    <a:pt x="374" y="285"/>
                    <a:pt x="378" y="240"/>
                    <a:pt x="358" y="198"/>
                  </a:cubicBezTo>
                  <a:cubicBezTo>
                    <a:pt x="338" y="156"/>
                    <a:pt x="287" y="113"/>
                    <a:pt x="261" y="85"/>
                  </a:cubicBezTo>
                  <a:cubicBezTo>
                    <a:pt x="234" y="57"/>
                    <a:pt x="210" y="42"/>
                    <a:pt x="196" y="30"/>
                  </a:cubicBezTo>
                  <a:close/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50" name=""/>
          <p:cNvSpPr/>
          <p:nvPr/>
        </p:nvSpPr>
        <p:spPr>
          <a:xfrm rot="13014000">
            <a:off x="1967040" y="3223800"/>
            <a:ext cx="110880" cy="1403280"/>
          </a:xfrm>
          <a:prstGeom prst="can">
            <a:avLst>
              <a:gd name="adj" fmla="val 2981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51" name=""/>
          <p:cNvGrpSpPr/>
          <p:nvPr/>
        </p:nvGrpSpPr>
        <p:grpSpPr>
          <a:xfrm>
            <a:off x="7618320" y="3763800"/>
            <a:ext cx="592200" cy="719280"/>
            <a:chOff x="7618320" y="3763800"/>
            <a:chExt cx="592200" cy="719280"/>
          </a:xfrm>
        </p:grpSpPr>
        <p:sp>
          <p:nvSpPr>
            <p:cNvPr id="9352" name=""/>
            <p:cNvSpPr/>
            <p:nvPr/>
          </p:nvSpPr>
          <p:spPr>
            <a:xfrm>
              <a:off x="7623720" y="3818520"/>
              <a:ext cx="581400" cy="493560"/>
            </a:xfrm>
            <a:custGeom>
              <a:avLst/>
              <a:gdLst/>
              <a:ahLst/>
              <a:rect l="l" t="t" r="r" b="b"/>
              <a:pathLst>
                <a:path w="2256" h="2295">
                  <a:moveTo>
                    <a:pt x="0" y="0"/>
                  </a:moveTo>
                  <a:lnTo>
                    <a:pt x="939" y="1180"/>
                  </a:lnTo>
                  <a:lnTo>
                    <a:pt x="980" y="2175"/>
                  </a:lnTo>
                  <a:lnTo>
                    <a:pt x="983" y="2202"/>
                  </a:lnTo>
                  <a:lnTo>
                    <a:pt x="991" y="2221"/>
                  </a:lnTo>
                  <a:lnTo>
                    <a:pt x="1000" y="2235"/>
                  </a:lnTo>
                  <a:lnTo>
                    <a:pt x="1010" y="2246"/>
                  </a:lnTo>
                  <a:lnTo>
                    <a:pt x="1024" y="2260"/>
                  </a:lnTo>
                  <a:lnTo>
                    <a:pt x="1038" y="2268"/>
                  </a:lnTo>
                  <a:lnTo>
                    <a:pt x="1060" y="2281"/>
                  </a:lnTo>
                  <a:lnTo>
                    <a:pt x="1083" y="2287"/>
                  </a:lnTo>
                  <a:lnTo>
                    <a:pt x="1111" y="2293"/>
                  </a:lnTo>
                  <a:lnTo>
                    <a:pt x="1128" y="2295"/>
                  </a:lnTo>
                  <a:lnTo>
                    <a:pt x="1145" y="2295"/>
                  </a:lnTo>
                  <a:lnTo>
                    <a:pt x="1163" y="2292"/>
                  </a:lnTo>
                  <a:lnTo>
                    <a:pt x="1183" y="2286"/>
                  </a:lnTo>
                  <a:lnTo>
                    <a:pt x="1202" y="2279"/>
                  </a:lnTo>
                  <a:lnTo>
                    <a:pt x="1221" y="2268"/>
                  </a:lnTo>
                  <a:lnTo>
                    <a:pt x="1235" y="2259"/>
                  </a:lnTo>
                  <a:lnTo>
                    <a:pt x="1251" y="2243"/>
                  </a:lnTo>
                  <a:lnTo>
                    <a:pt x="1262" y="2227"/>
                  </a:lnTo>
                  <a:lnTo>
                    <a:pt x="1273" y="2203"/>
                  </a:lnTo>
                  <a:lnTo>
                    <a:pt x="1276" y="2181"/>
                  </a:lnTo>
                  <a:lnTo>
                    <a:pt x="1336" y="1161"/>
                  </a:lnTo>
                  <a:lnTo>
                    <a:pt x="225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3" name=""/>
            <p:cNvSpPr/>
            <p:nvPr/>
          </p:nvSpPr>
          <p:spPr>
            <a:xfrm>
              <a:off x="7618320" y="3763800"/>
              <a:ext cx="592200" cy="93600"/>
            </a:xfrm>
            <a:prstGeom prst="ellipse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4" name=""/>
            <p:cNvSpPr/>
            <p:nvPr/>
          </p:nvSpPr>
          <p:spPr>
            <a:xfrm>
              <a:off x="7664760" y="3832560"/>
              <a:ext cx="504000" cy="464400"/>
            </a:xfrm>
            <a:custGeom>
              <a:avLst/>
              <a:gdLst/>
              <a:ahLst/>
              <a:rect l="l" t="t" r="r" b="b"/>
              <a:pathLst>
                <a:path w="1956" h="2159">
                  <a:moveTo>
                    <a:pt x="0" y="19"/>
                  </a:moveTo>
                  <a:lnTo>
                    <a:pt x="857" y="1063"/>
                  </a:lnTo>
                  <a:lnTo>
                    <a:pt x="879" y="2090"/>
                  </a:lnTo>
                  <a:lnTo>
                    <a:pt x="887" y="2107"/>
                  </a:lnTo>
                  <a:lnTo>
                    <a:pt x="897" y="2123"/>
                  </a:lnTo>
                  <a:lnTo>
                    <a:pt x="906" y="2137"/>
                  </a:lnTo>
                  <a:lnTo>
                    <a:pt x="922" y="2147"/>
                  </a:lnTo>
                  <a:lnTo>
                    <a:pt x="939" y="2156"/>
                  </a:lnTo>
                  <a:lnTo>
                    <a:pt x="962" y="2159"/>
                  </a:lnTo>
                  <a:lnTo>
                    <a:pt x="983" y="2157"/>
                  </a:lnTo>
                  <a:lnTo>
                    <a:pt x="1005" y="2153"/>
                  </a:lnTo>
                  <a:lnTo>
                    <a:pt x="1026" y="2140"/>
                  </a:lnTo>
                  <a:lnTo>
                    <a:pt x="1040" y="2123"/>
                  </a:lnTo>
                  <a:lnTo>
                    <a:pt x="1048" y="2109"/>
                  </a:lnTo>
                  <a:lnTo>
                    <a:pt x="1056" y="2088"/>
                  </a:lnTo>
                  <a:lnTo>
                    <a:pt x="1100" y="1045"/>
                  </a:lnTo>
                  <a:lnTo>
                    <a:pt x="1956" y="0"/>
                  </a:lnTo>
                  <a:lnTo>
                    <a:pt x="1790" y="41"/>
                  </a:lnTo>
                  <a:lnTo>
                    <a:pt x="1531" y="77"/>
                  </a:lnTo>
                  <a:lnTo>
                    <a:pt x="1247" y="98"/>
                  </a:lnTo>
                  <a:lnTo>
                    <a:pt x="962" y="109"/>
                  </a:lnTo>
                  <a:lnTo>
                    <a:pt x="662" y="98"/>
                  </a:lnTo>
                  <a:lnTo>
                    <a:pt x="398" y="77"/>
                  </a:lnTo>
                  <a:lnTo>
                    <a:pt x="178" y="52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5" name=""/>
            <p:cNvSpPr/>
            <p:nvPr/>
          </p:nvSpPr>
          <p:spPr>
            <a:xfrm>
              <a:off x="7751160" y="3926880"/>
              <a:ext cx="325440" cy="371520"/>
            </a:xfrm>
            <a:custGeom>
              <a:avLst/>
              <a:gdLst/>
              <a:ahLst/>
              <a:rect l="l" t="t" r="r" b="b"/>
              <a:pathLst>
                <a:path w="1264" h="1728">
                  <a:moveTo>
                    <a:pt x="0" y="0"/>
                  </a:moveTo>
                  <a:lnTo>
                    <a:pt x="520" y="624"/>
                  </a:lnTo>
                  <a:lnTo>
                    <a:pt x="531" y="1657"/>
                  </a:lnTo>
                  <a:lnTo>
                    <a:pt x="541" y="1674"/>
                  </a:lnTo>
                  <a:lnTo>
                    <a:pt x="553" y="1688"/>
                  </a:lnTo>
                  <a:lnTo>
                    <a:pt x="564" y="1701"/>
                  </a:lnTo>
                  <a:lnTo>
                    <a:pt x="580" y="1715"/>
                  </a:lnTo>
                  <a:lnTo>
                    <a:pt x="608" y="1723"/>
                  </a:lnTo>
                  <a:lnTo>
                    <a:pt x="632" y="1728"/>
                  </a:lnTo>
                  <a:lnTo>
                    <a:pt x="651" y="1725"/>
                  </a:lnTo>
                  <a:lnTo>
                    <a:pt x="673" y="1720"/>
                  </a:lnTo>
                  <a:lnTo>
                    <a:pt x="694" y="1709"/>
                  </a:lnTo>
                  <a:lnTo>
                    <a:pt x="711" y="1692"/>
                  </a:lnTo>
                  <a:lnTo>
                    <a:pt x="723" y="1669"/>
                  </a:lnTo>
                  <a:lnTo>
                    <a:pt x="730" y="1657"/>
                  </a:lnTo>
                  <a:lnTo>
                    <a:pt x="761" y="605"/>
                  </a:lnTo>
                  <a:lnTo>
                    <a:pt x="126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6" name=""/>
            <p:cNvSpPr/>
            <p:nvPr/>
          </p:nvSpPr>
          <p:spPr>
            <a:xfrm>
              <a:off x="7889040" y="4318560"/>
              <a:ext cx="50760" cy="79560"/>
            </a:xfrm>
            <a:custGeom>
              <a:avLst/>
              <a:gdLst/>
              <a:ahLst/>
              <a:rect l="l" t="t" r="r" b="b"/>
              <a:pathLst>
                <a:path w="196" h="370">
                  <a:moveTo>
                    <a:pt x="95" y="0"/>
                  </a:moveTo>
                  <a:lnTo>
                    <a:pt x="105" y="58"/>
                  </a:lnTo>
                  <a:lnTo>
                    <a:pt x="111" y="87"/>
                  </a:lnTo>
                  <a:lnTo>
                    <a:pt x="121" y="121"/>
                  </a:lnTo>
                  <a:lnTo>
                    <a:pt x="132" y="141"/>
                  </a:lnTo>
                  <a:lnTo>
                    <a:pt x="147" y="166"/>
                  </a:lnTo>
                  <a:lnTo>
                    <a:pt x="167" y="193"/>
                  </a:lnTo>
                  <a:lnTo>
                    <a:pt x="184" y="220"/>
                  </a:lnTo>
                  <a:lnTo>
                    <a:pt x="192" y="245"/>
                  </a:lnTo>
                  <a:lnTo>
                    <a:pt x="196" y="278"/>
                  </a:lnTo>
                  <a:lnTo>
                    <a:pt x="189" y="307"/>
                  </a:lnTo>
                  <a:lnTo>
                    <a:pt x="178" y="328"/>
                  </a:lnTo>
                  <a:lnTo>
                    <a:pt x="162" y="345"/>
                  </a:lnTo>
                  <a:lnTo>
                    <a:pt x="141" y="361"/>
                  </a:lnTo>
                  <a:lnTo>
                    <a:pt x="121" y="367"/>
                  </a:lnTo>
                  <a:lnTo>
                    <a:pt x="99" y="370"/>
                  </a:lnTo>
                  <a:lnTo>
                    <a:pt x="76" y="367"/>
                  </a:lnTo>
                  <a:lnTo>
                    <a:pt x="54" y="362"/>
                  </a:lnTo>
                  <a:lnTo>
                    <a:pt x="34" y="350"/>
                  </a:lnTo>
                  <a:lnTo>
                    <a:pt x="19" y="334"/>
                  </a:lnTo>
                  <a:lnTo>
                    <a:pt x="8" y="315"/>
                  </a:lnTo>
                  <a:lnTo>
                    <a:pt x="3" y="296"/>
                  </a:lnTo>
                  <a:lnTo>
                    <a:pt x="0" y="272"/>
                  </a:lnTo>
                  <a:lnTo>
                    <a:pt x="5" y="240"/>
                  </a:lnTo>
                  <a:lnTo>
                    <a:pt x="13" y="218"/>
                  </a:lnTo>
                  <a:lnTo>
                    <a:pt x="30" y="190"/>
                  </a:lnTo>
                  <a:lnTo>
                    <a:pt x="49" y="166"/>
                  </a:lnTo>
                  <a:lnTo>
                    <a:pt x="62" y="140"/>
                  </a:lnTo>
                  <a:lnTo>
                    <a:pt x="72" y="119"/>
                  </a:lnTo>
                  <a:lnTo>
                    <a:pt x="81" y="90"/>
                  </a:lnTo>
                  <a:lnTo>
                    <a:pt x="86" y="58"/>
                  </a:lnTo>
                  <a:lnTo>
                    <a:pt x="95" y="0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7" name=""/>
            <p:cNvSpPr/>
            <p:nvPr/>
          </p:nvSpPr>
          <p:spPr>
            <a:xfrm>
              <a:off x="7647480" y="3772800"/>
              <a:ext cx="533520" cy="7524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8" name=""/>
            <p:cNvSpPr/>
            <p:nvPr/>
          </p:nvSpPr>
          <p:spPr>
            <a:xfrm>
              <a:off x="7889040" y="4403160"/>
              <a:ext cx="50760" cy="79920"/>
            </a:xfrm>
            <a:custGeom>
              <a:avLst/>
              <a:gdLst/>
              <a:ahLst/>
              <a:rect l="l" t="t" r="r" b="b"/>
              <a:pathLst>
                <a:path w="196" h="372">
                  <a:moveTo>
                    <a:pt x="95" y="0"/>
                  </a:moveTo>
                  <a:lnTo>
                    <a:pt x="105" y="60"/>
                  </a:lnTo>
                  <a:lnTo>
                    <a:pt x="111" y="88"/>
                  </a:lnTo>
                  <a:lnTo>
                    <a:pt x="121" y="122"/>
                  </a:lnTo>
                  <a:lnTo>
                    <a:pt x="132" y="143"/>
                  </a:lnTo>
                  <a:lnTo>
                    <a:pt x="147" y="168"/>
                  </a:lnTo>
                  <a:lnTo>
                    <a:pt x="167" y="195"/>
                  </a:lnTo>
                  <a:lnTo>
                    <a:pt x="184" y="221"/>
                  </a:lnTo>
                  <a:lnTo>
                    <a:pt x="192" y="247"/>
                  </a:lnTo>
                  <a:lnTo>
                    <a:pt x="196" y="279"/>
                  </a:lnTo>
                  <a:lnTo>
                    <a:pt x="189" y="308"/>
                  </a:lnTo>
                  <a:lnTo>
                    <a:pt x="178" y="328"/>
                  </a:lnTo>
                  <a:lnTo>
                    <a:pt x="162" y="345"/>
                  </a:lnTo>
                  <a:lnTo>
                    <a:pt x="141" y="361"/>
                  </a:lnTo>
                  <a:lnTo>
                    <a:pt x="121" y="369"/>
                  </a:lnTo>
                  <a:lnTo>
                    <a:pt x="99" y="372"/>
                  </a:lnTo>
                  <a:lnTo>
                    <a:pt x="76" y="369"/>
                  </a:lnTo>
                  <a:lnTo>
                    <a:pt x="54" y="363"/>
                  </a:lnTo>
                  <a:lnTo>
                    <a:pt x="34" y="351"/>
                  </a:lnTo>
                  <a:lnTo>
                    <a:pt x="19" y="336"/>
                  </a:lnTo>
                  <a:lnTo>
                    <a:pt x="8" y="317"/>
                  </a:lnTo>
                  <a:lnTo>
                    <a:pt x="3" y="298"/>
                  </a:lnTo>
                  <a:lnTo>
                    <a:pt x="0" y="272"/>
                  </a:lnTo>
                  <a:lnTo>
                    <a:pt x="5" y="242"/>
                  </a:lnTo>
                  <a:lnTo>
                    <a:pt x="13" y="219"/>
                  </a:lnTo>
                  <a:lnTo>
                    <a:pt x="30" y="191"/>
                  </a:lnTo>
                  <a:lnTo>
                    <a:pt x="49" y="168"/>
                  </a:lnTo>
                  <a:lnTo>
                    <a:pt x="62" y="141"/>
                  </a:lnTo>
                  <a:lnTo>
                    <a:pt x="72" y="120"/>
                  </a:lnTo>
                  <a:lnTo>
                    <a:pt x="81" y="90"/>
                  </a:lnTo>
                  <a:lnTo>
                    <a:pt x="86" y="60"/>
                  </a:lnTo>
                  <a:lnTo>
                    <a:pt x="95" y="0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9" name=""/>
            <p:cNvSpPr/>
            <p:nvPr/>
          </p:nvSpPr>
          <p:spPr>
            <a:xfrm>
              <a:off x="7747920" y="3897360"/>
              <a:ext cx="332280" cy="48240"/>
            </a:xfrm>
            <a:prstGeom prst="ellipse">
              <a:avLst/>
            </a:pr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0" name=""/>
            <p:cNvSpPr/>
            <p:nvPr/>
          </p:nvSpPr>
          <p:spPr>
            <a:xfrm>
              <a:off x="7891920" y="4268160"/>
              <a:ext cx="43920" cy="37080"/>
            </a:xfrm>
            <a:prstGeom prst="ellipse">
              <a:avLst/>
            </a:prstGeom>
            <a:solidFill>
              <a:srgbClr val="009999"/>
            </a:solidFill>
            <a:ln w="1764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61" name=""/>
          <p:cNvSpPr/>
          <p:nvPr/>
        </p:nvSpPr>
        <p:spPr>
          <a:xfrm>
            <a:off x="2995920" y="5632560"/>
            <a:ext cx="118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deficit vod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2" name=""/>
          <p:cNvSpPr/>
          <p:nvPr/>
        </p:nvSpPr>
        <p:spPr>
          <a:xfrm>
            <a:off x="677880" y="5665680"/>
            <a:ext cx="1390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retence solutů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3" name=""/>
          <p:cNvSpPr/>
          <p:nvPr/>
        </p:nvSpPr>
        <p:spPr>
          <a:xfrm>
            <a:off x="6523200" y="2457360"/>
            <a:ext cx="1009440" cy="101916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4" name=""/>
          <p:cNvSpPr/>
          <p:nvPr/>
        </p:nvSpPr>
        <p:spPr>
          <a:xfrm>
            <a:off x="7675920" y="3368520"/>
            <a:ext cx="576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5" name=""/>
          <p:cNvSpPr/>
          <p:nvPr/>
        </p:nvSpPr>
        <p:spPr>
          <a:xfrm rot="8861400">
            <a:off x="7461000" y="3306240"/>
            <a:ext cx="110880" cy="1403640"/>
          </a:xfrm>
          <a:prstGeom prst="can">
            <a:avLst>
              <a:gd name="adj" fmla="val 2981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6" name=""/>
          <p:cNvSpPr/>
          <p:nvPr/>
        </p:nvSpPr>
        <p:spPr>
          <a:xfrm>
            <a:off x="7485120" y="4510080"/>
            <a:ext cx="1106280" cy="1184400"/>
          </a:xfrm>
          <a:prstGeom prst="ellipse">
            <a:avLst/>
          </a:prstGeom>
          <a:blipFill rotWithShape="0">
            <a:blip r:embed="rId5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7" name=""/>
          <p:cNvSpPr/>
          <p:nvPr/>
        </p:nvSpPr>
        <p:spPr>
          <a:xfrm rot="13014000">
            <a:off x="6408360" y="3223800"/>
            <a:ext cx="111240" cy="1403280"/>
          </a:xfrm>
          <a:prstGeom prst="can">
            <a:avLst>
              <a:gd name="adj" fmla="val 2981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8" name=""/>
          <p:cNvSpPr/>
          <p:nvPr/>
        </p:nvSpPr>
        <p:spPr>
          <a:xfrm>
            <a:off x="7343640" y="5648400"/>
            <a:ext cx="127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retence vod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9" name=""/>
          <p:cNvSpPr/>
          <p:nvPr/>
        </p:nvSpPr>
        <p:spPr>
          <a:xfrm>
            <a:off x="1137240" y="5983200"/>
            <a:ext cx="223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(relativní nebo absolutní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70" name=""/>
          <p:cNvGrpSpPr/>
          <p:nvPr/>
        </p:nvGrpSpPr>
        <p:grpSpPr>
          <a:xfrm>
            <a:off x="6259680" y="4062600"/>
            <a:ext cx="544320" cy="556560"/>
            <a:chOff x="6259680" y="4062600"/>
            <a:chExt cx="544320" cy="556560"/>
          </a:xfrm>
        </p:grpSpPr>
        <p:sp>
          <p:nvSpPr>
            <p:cNvPr id="9371" name=""/>
            <p:cNvSpPr/>
            <p:nvPr/>
          </p:nvSpPr>
          <p:spPr>
            <a:xfrm rot="6456000">
              <a:off x="6360840" y="4022280"/>
              <a:ext cx="153360" cy="324720"/>
            </a:xfrm>
            <a:prstGeom prst="can">
              <a:avLst>
                <a:gd name="adj" fmla="val 25000"/>
              </a:avLst>
            </a:prstGeom>
            <a:solidFill>
              <a:srgbClr val="80808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2" name=""/>
            <p:cNvSpPr/>
            <p:nvPr/>
          </p:nvSpPr>
          <p:spPr>
            <a:xfrm>
              <a:off x="6509880" y="4199040"/>
              <a:ext cx="294120" cy="420120"/>
            </a:xfrm>
            <a:custGeom>
              <a:avLst/>
              <a:gdLst/>
              <a:ahLst/>
              <a:rect l="l" t="t" r="r" b="b"/>
              <a:pathLst>
                <a:path w="740" h="830">
                  <a:moveTo>
                    <a:pt x="16" y="158"/>
                  </a:moveTo>
                  <a:cubicBezTo>
                    <a:pt x="30" y="199"/>
                    <a:pt x="63" y="176"/>
                    <a:pt x="78" y="213"/>
                  </a:cubicBezTo>
                  <a:cubicBezTo>
                    <a:pt x="87" y="240"/>
                    <a:pt x="103" y="258"/>
                    <a:pt x="115" y="286"/>
                  </a:cubicBezTo>
                  <a:cubicBezTo>
                    <a:pt x="123" y="302"/>
                    <a:pt x="128" y="320"/>
                    <a:pt x="134" y="336"/>
                  </a:cubicBezTo>
                  <a:cubicBezTo>
                    <a:pt x="155" y="488"/>
                    <a:pt x="174" y="561"/>
                    <a:pt x="250" y="652"/>
                  </a:cubicBezTo>
                  <a:cubicBezTo>
                    <a:pt x="267" y="714"/>
                    <a:pt x="303" y="810"/>
                    <a:pt x="343" y="810"/>
                  </a:cubicBezTo>
                  <a:cubicBezTo>
                    <a:pt x="427" y="787"/>
                    <a:pt x="660" y="830"/>
                    <a:pt x="740" y="784"/>
                  </a:cubicBezTo>
                  <a:cubicBezTo>
                    <a:pt x="694" y="652"/>
                    <a:pt x="636" y="796"/>
                    <a:pt x="576" y="659"/>
                  </a:cubicBezTo>
                  <a:cubicBezTo>
                    <a:pt x="552" y="609"/>
                    <a:pt x="551" y="529"/>
                    <a:pt x="523" y="484"/>
                  </a:cubicBezTo>
                  <a:cubicBezTo>
                    <a:pt x="510" y="404"/>
                    <a:pt x="505" y="386"/>
                    <a:pt x="463" y="365"/>
                  </a:cubicBezTo>
                  <a:cubicBezTo>
                    <a:pt x="454" y="302"/>
                    <a:pt x="411" y="270"/>
                    <a:pt x="372" y="270"/>
                  </a:cubicBezTo>
                  <a:cubicBezTo>
                    <a:pt x="368" y="252"/>
                    <a:pt x="325" y="186"/>
                    <a:pt x="316" y="179"/>
                  </a:cubicBezTo>
                  <a:cubicBezTo>
                    <a:pt x="293" y="161"/>
                    <a:pt x="241" y="144"/>
                    <a:pt x="214" y="138"/>
                  </a:cubicBezTo>
                  <a:cubicBezTo>
                    <a:pt x="170" y="122"/>
                    <a:pt x="108" y="28"/>
                    <a:pt x="63" y="12"/>
                  </a:cubicBezTo>
                  <a:cubicBezTo>
                    <a:pt x="47" y="0"/>
                    <a:pt x="3" y="58"/>
                    <a:pt x="17" y="58"/>
                  </a:cubicBezTo>
                  <a:cubicBezTo>
                    <a:pt x="17" y="144"/>
                    <a:pt x="0" y="76"/>
                    <a:pt x="16" y="158"/>
                  </a:cubicBezTo>
                  <a:close/>
                </a:path>
              </a:pathLst>
            </a:custGeom>
            <a:blipFill rotWithShape="0">
              <a:blip r:embed="rId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73" name=""/>
          <p:cNvSpPr/>
          <p:nvPr/>
        </p:nvSpPr>
        <p:spPr>
          <a:xfrm>
            <a:off x="5801400" y="5983200"/>
            <a:ext cx="223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(relativní nebo absolutní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4" name=""/>
          <p:cNvSpPr/>
          <p:nvPr/>
        </p:nvSpPr>
        <p:spPr>
          <a:xfrm>
            <a:off x="4991400" y="5646600"/>
            <a:ext cx="130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deficit solutů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5" name=""/>
          <p:cNvSpPr/>
          <p:nvPr/>
        </p:nvSpPr>
        <p:spPr>
          <a:xfrm>
            <a:off x="5573880" y="4416480"/>
            <a:ext cx="777600" cy="762120"/>
          </a:xfrm>
          <a:prstGeom prst="ellipse">
            <a:avLst/>
          </a:prstGeom>
          <a:blipFill rotWithShape="0">
            <a:blip r:embed="rId7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6" name=""/>
          <p:cNvSpPr/>
          <p:nvPr/>
        </p:nvSpPr>
        <p:spPr>
          <a:xfrm>
            <a:off x="893880" y="4390920"/>
            <a:ext cx="1025280" cy="1052640"/>
          </a:xfrm>
          <a:prstGeom prst="ellipse">
            <a:avLst/>
          </a:prstGeom>
          <a:blipFill rotWithShape="0">
            <a:blip r:embed="rId8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7" name=""/>
          <p:cNvSpPr/>
          <p:nvPr/>
        </p:nvSpPr>
        <p:spPr>
          <a:xfrm>
            <a:off x="1199880" y="3435480"/>
            <a:ext cx="74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solu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8" name=""/>
          <p:cNvSpPr/>
          <p:nvPr/>
        </p:nvSpPr>
        <p:spPr>
          <a:xfrm>
            <a:off x="6505200" y="4552920"/>
            <a:ext cx="74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solu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9" name=""/>
          <p:cNvSpPr/>
          <p:nvPr/>
        </p:nvSpPr>
        <p:spPr>
          <a:xfrm>
            <a:off x="938880" y="1811160"/>
            <a:ext cx="283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Příčiny hyperosmola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0" name=""/>
          <p:cNvSpPr/>
          <p:nvPr/>
        </p:nvSpPr>
        <p:spPr>
          <a:xfrm>
            <a:off x="5563440" y="1816200"/>
            <a:ext cx="260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Příčiny hyposmola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1" name=""/>
          <p:cNvSpPr/>
          <p:nvPr/>
        </p:nvSpPr>
        <p:spPr>
          <a:xfrm>
            <a:off x="2725200" y="689040"/>
            <a:ext cx="377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Poruchy osmolar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82" name=""/>
          <p:cNvGrpSpPr/>
          <p:nvPr/>
        </p:nvGrpSpPr>
        <p:grpSpPr>
          <a:xfrm>
            <a:off x="201600" y="0"/>
            <a:ext cx="8942400" cy="6889320"/>
            <a:chOff x="201600" y="0"/>
            <a:chExt cx="8942400" cy="6889320"/>
          </a:xfrm>
        </p:grpSpPr>
        <p:sp>
          <p:nvSpPr>
            <p:cNvPr id="9383" name=""/>
            <p:cNvSpPr/>
            <p:nvPr/>
          </p:nvSpPr>
          <p:spPr>
            <a:xfrm>
              <a:off x="911880" y="1521000"/>
              <a:ext cx="736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Arial"/>
                </a:rPr>
                <a:t>CO</a:t>
              </a:r>
              <a:r>
                <a:rPr b="1" lang="cs-CZ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4" name=""/>
            <p:cNvSpPr/>
            <p:nvPr/>
          </p:nvSpPr>
          <p:spPr>
            <a:xfrm>
              <a:off x="1029240" y="3576600"/>
              <a:ext cx="736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cs-CZ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cs-CZ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5" name=""/>
            <p:cNvSpPr/>
            <p:nvPr/>
          </p:nvSpPr>
          <p:spPr>
            <a:xfrm>
              <a:off x="3083040" y="2571840"/>
              <a:ext cx="1055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cs-CZ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cs-CZ" sz="2400" spc="-1" strike="noStrike">
                  <a:solidFill>
                    <a:srgbClr val="000000"/>
                  </a:solidFill>
                  <a:latin typeface="Arial"/>
                </a:rPr>
                <a:t>CO</a:t>
              </a:r>
              <a:r>
                <a:rPr b="1" lang="cs-CZ" sz="2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6" name=""/>
            <p:cNvSpPr/>
            <p:nvPr/>
          </p:nvSpPr>
          <p:spPr>
            <a:xfrm>
              <a:off x="5409360" y="1547640"/>
              <a:ext cx="1015920" cy="59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Arial"/>
                </a:rPr>
                <a:t>HCO</a:t>
              </a:r>
              <a:r>
                <a:rPr b="1" lang="cs-CZ" sz="2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cs-CZ" sz="2400" spc="-1" strike="noStrike" baseline="70000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7" name=""/>
            <p:cNvSpPr/>
            <p:nvPr/>
          </p:nvSpPr>
          <p:spPr>
            <a:xfrm>
              <a:off x="5456160" y="3575160"/>
              <a:ext cx="52380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cs-CZ" sz="2400" spc="-1" strike="noStrike" baseline="7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388" name=""/>
            <p:cNvGrpSpPr/>
            <p:nvPr/>
          </p:nvGrpSpPr>
          <p:grpSpPr>
            <a:xfrm>
              <a:off x="4173480" y="1779480"/>
              <a:ext cx="1222560" cy="2038320"/>
              <a:chOff x="4173480" y="1779480"/>
              <a:chExt cx="1222560" cy="2038320"/>
            </a:xfrm>
          </p:grpSpPr>
          <p:sp>
            <p:nvSpPr>
              <p:cNvPr id="9389" name=""/>
              <p:cNvSpPr/>
              <p:nvPr/>
            </p:nvSpPr>
            <p:spPr>
              <a:xfrm>
                <a:off x="4173480" y="1779480"/>
                <a:ext cx="1222560" cy="1023840"/>
              </a:xfrm>
              <a:custGeom>
                <a:avLst/>
                <a:gdLst/>
                <a:ahLst/>
                <a:rect l="l" t="t" r="r" b="b"/>
                <a:pathLst>
                  <a:path w="866" h="645">
                    <a:moveTo>
                      <a:pt x="0" y="645"/>
                    </a:moveTo>
                    <a:lnTo>
                      <a:pt x="442" y="645"/>
                    </a:lnTo>
                    <a:cubicBezTo>
                      <a:pt x="528" y="627"/>
                      <a:pt x="503" y="630"/>
                      <a:pt x="515" y="538"/>
                    </a:cubicBezTo>
                    <a:lnTo>
                      <a:pt x="515" y="91"/>
                    </a:lnTo>
                    <a:cubicBezTo>
                      <a:pt x="530" y="1"/>
                      <a:pt x="548" y="15"/>
                      <a:pt x="606" y="0"/>
                    </a:cubicBezTo>
                    <a:lnTo>
                      <a:pt x="866" y="0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90" name=""/>
              <p:cNvSpPr/>
              <p:nvPr/>
            </p:nvSpPr>
            <p:spPr>
              <a:xfrm flipV="1">
                <a:off x="4173480" y="2793960"/>
                <a:ext cx="1222560" cy="1023840"/>
              </a:xfrm>
              <a:custGeom>
                <a:avLst/>
                <a:gdLst/>
                <a:ahLst/>
                <a:rect l="l" t="t" r="r" b="b"/>
                <a:pathLst>
                  <a:path w="866" h="645">
                    <a:moveTo>
                      <a:pt x="0" y="645"/>
                    </a:moveTo>
                    <a:lnTo>
                      <a:pt x="442" y="645"/>
                    </a:lnTo>
                    <a:cubicBezTo>
                      <a:pt x="528" y="627"/>
                      <a:pt x="503" y="630"/>
                      <a:pt x="515" y="538"/>
                    </a:cubicBezTo>
                    <a:lnTo>
                      <a:pt x="515" y="91"/>
                    </a:lnTo>
                    <a:cubicBezTo>
                      <a:pt x="530" y="1"/>
                      <a:pt x="548" y="15"/>
                      <a:pt x="606" y="0"/>
                    </a:cubicBezTo>
                    <a:lnTo>
                      <a:pt x="866" y="0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91" name=""/>
            <p:cNvGrpSpPr/>
            <p:nvPr/>
          </p:nvGrpSpPr>
          <p:grpSpPr>
            <a:xfrm>
              <a:off x="1836720" y="1778040"/>
              <a:ext cx="1222560" cy="2038320"/>
              <a:chOff x="1836720" y="1778040"/>
              <a:chExt cx="1222560" cy="2038320"/>
            </a:xfrm>
          </p:grpSpPr>
          <p:sp>
            <p:nvSpPr>
              <p:cNvPr id="9392" name=""/>
              <p:cNvSpPr/>
              <p:nvPr/>
            </p:nvSpPr>
            <p:spPr>
              <a:xfrm flipH="1">
                <a:off x="1836720" y="1778040"/>
                <a:ext cx="1222560" cy="1023840"/>
              </a:xfrm>
              <a:custGeom>
                <a:avLst/>
                <a:gdLst/>
                <a:ahLst/>
                <a:rect l="l" t="t" r="r" b="b"/>
                <a:pathLst>
                  <a:path w="866" h="645">
                    <a:moveTo>
                      <a:pt x="0" y="645"/>
                    </a:moveTo>
                    <a:lnTo>
                      <a:pt x="442" y="645"/>
                    </a:lnTo>
                    <a:cubicBezTo>
                      <a:pt x="528" y="627"/>
                      <a:pt x="503" y="630"/>
                      <a:pt x="515" y="538"/>
                    </a:cubicBezTo>
                    <a:lnTo>
                      <a:pt x="515" y="91"/>
                    </a:lnTo>
                    <a:cubicBezTo>
                      <a:pt x="530" y="1"/>
                      <a:pt x="548" y="15"/>
                      <a:pt x="606" y="0"/>
                    </a:cubicBezTo>
                    <a:lnTo>
                      <a:pt x="866" y="0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93" name=""/>
              <p:cNvSpPr/>
              <p:nvPr/>
            </p:nvSpPr>
            <p:spPr>
              <a:xfrm flipH="1" flipV="1">
                <a:off x="1836720" y="2792520"/>
                <a:ext cx="1222560" cy="1023840"/>
              </a:xfrm>
              <a:custGeom>
                <a:avLst/>
                <a:gdLst/>
                <a:ahLst/>
                <a:rect l="l" t="t" r="r" b="b"/>
                <a:pathLst>
                  <a:path w="866" h="645">
                    <a:moveTo>
                      <a:pt x="0" y="645"/>
                    </a:moveTo>
                    <a:lnTo>
                      <a:pt x="442" y="645"/>
                    </a:lnTo>
                    <a:cubicBezTo>
                      <a:pt x="528" y="627"/>
                      <a:pt x="503" y="630"/>
                      <a:pt x="515" y="538"/>
                    </a:cubicBezTo>
                    <a:lnTo>
                      <a:pt x="515" y="91"/>
                    </a:lnTo>
                    <a:cubicBezTo>
                      <a:pt x="530" y="1"/>
                      <a:pt x="548" y="15"/>
                      <a:pt x="606" y="0"/>
                    </a:cubicBezTo>
                    <a:lnTo>
                      <a:pt x="866" y="0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94" name=""/>
            <p:cNvGrpSpPr/>
            <p:nvPr/>
          </p:nvGrpSpPr>
          <p:grpSpPr>
            <a:xfrm>
              <a:off x="3203640" y="4054320"/>
              <a:ext cx="2766600" cy="2803320"/>
              <a:chOff x="3203640" y="4054320"/>
              <a:chExt cx="2766600" cy="2803320"/>
            </a:xfrm>
          </p:grpSpPr>
          <p:sp>
            <p:nvSpPr>
              <p:cNvPr id="9395" name=""/>
              <p:cNvSpPr/>
              <p:nvPr/>
            </p:nvSpPr>
            <p:spPr>
              <a:xfrm flipV="1" rot="16200000">
                <a:off x="4887720" y="3955320"/>
                <a:ext cx="983520" cy="1181160"/>
              </a:xfrm>
              <a:custGeom>
                <a:avLst/>
                <a:gdLst>
                  <a:gd name="textAreaLeft" fmla="*/ 0 w 983520"/>
                  <a:gd name="textAreaRight" fmla="*/ 983520 w 983520"/>
                  <a:gd name="textAreaTop" fmla="*/ -360 h 1181160"/>
                  <a:gd name="textAreaBottom" fmla="*/ 1181160 h 1181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lnTo>
                      <a:pt x="0" y="12160"/>
                    </a:lnTo>
                    <a:arcTo wR="12427" hR="9260" stAng="10800000" swAng="5400000"/>
                    <a:lnTo>
                      <a:pt x="15100" y="2900"/>
                    </a:lnTo>
                    <a:lnTo>
                      <a:pt x="15100" y="0"/>
                    </a:lnTo>
                    <a:lnTo>
                      <a:pt x="21600" y="6079"/>
                    </a:lnTo>
                    <a:lnTo>
                      <a:pt x="15100" y="12158"/>
                    </a:lnTo>
                    <a:lnTo>
                      <a:pt x="15100" y="9258"/>
                    </a:lnTo>
                    <a:lnTo>
                      <a:pt x="12427" y="9258"/>
                    </a:lnTo>
                    <a:arcTo wR="6069" hR="2902" stAng="16200000" swAng="-5400000"/>
                    <a:lnTo>
                      <a:pt x="6358" y="21600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96" name=""/>
              <p:cNvSpPr/>
              <p:nvPr/>
            </p:nvSpPr>
            <p:spPr>
              <a:xfrm>
                <a:off x="3203640" y="4741200"/>
                <a:ext cx="1643040" cy="2116440"/>
              </a:xfrm>
              <a:custGeom>
                <a:avLst/>
                <a:gdLst/>
                <a:ahLst/>
                <a:rect l="l" t="t" r="r" b="b"/>
                <a:pathLst>
                  <a:path w="1035" h="1349">
                    <a:moveTo>
                      <a:pt x="1025" y="0"/>
                    </a:moveTo>
                    <a:lnTo>
                      <a:pt x="494" y="11"/>
                    </a:lnTo>
                    <a:cubicBezTo>
                      <a:pt x="353" y="27"/>
                      <a:pt x="263" y="24"/>
                      <a:pt x="181" y="96"/>
                    </a:cubicBezTo>
                    <a:cubicBezTo>
                      <a:pt x="70" y="165"/>
                      <a:pt x="30" y="232"/>
                      <a:pt x="0" y="441"/>
                    </a:cubicBezTo>
                    <a:lnTo>
                      <a:pt x="0" y="1349"/>
                    </a:lnTo>
                    <a:lnTo>
                      <a:pt x="186" y="1349"/>
                    </a:lnTo>
                    <a:lnTo>
                      <a:pt x="186" y="563"/>
                    </a:lnTo>
                    <a:cubicBezTo>
                      <a:pt x="214" y="375"/>
                      <a:pt x="255" y="287"/>
                      <a:pt x="351" y="223"/>
                    </a:cubicBezTo>
                    <a:lnTo>
                      <a:pt x="765" y="181"/>
                    </a:lnTo>
                    <a:lnTo>
                      <a:pt x="1035" y="191"/>
                    </a:lnTo>
                    <a:lnTo>
                      <a:pt x="1025" y="0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97" name=""/>
            <p:cNvSpPr/>
            <p:nvPr/>
          </p:nvSpPr>
          <p:spPr>
            <a:xfrm flipH="1">
              <a:off x="2476440" y="4842000"/>
              <a:ext cx="814320" cy="866520"/>
            </a:xfrm>
            <a:custGeom>
              <a:avLst/>
              <a:gdLst>
                <a:gd name="textAreaLeft" fmla="*/ 360 w 814320"/>
                <a:gd name="textAreaRight" fmla="*/ 815040 w 814320"/>
                <a:gd name="textAreaTop" fmla="*/ 0 h 866520"/>
                <a:gd name="textAreaBottom" fmla="*/ 866880 h 866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260" stAng="10800000" swAng="5400000"/>
                  <a:lnTo>
                    <a:pt x="15100" y="2900"/>
                  </a:lnTo>
                  <a:lnTo>
                    <a:pt x="15100" y="0"/>
                  </a:lnTo>
                  <a:lnTo>
                    <a:pt x="21600" y="6079"/>
                  </a:lnTo>
                  <a:lnTo>
                    <a:pt x="15100" y="12158"/>
                  </a:lnTo>
                  <a:lnTo>
                    <a:pt x="15100" y="9258"/>
                  </a:lnTo>
                  <a:lnTo>
                    <a:pt x="12427" y="9258"/>
                  </a:lnTo>
                  <a:arcTo wR="6069" hR="2902" stAng="16200000" swAng="-5400000"/>
                  <a:lnTo>
                    <a:pt x="6358" y="21600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8" name=""/>
            <p:cNvSpPr/>
            <p:nvPr/>
          </p:nvSpPr>
          <p:spPr>
            <a:xfrm>
              <a:off x="3043080" y="5667480"/>
              <a:ext cx="247680" cy="119052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9" name=""/>
            <p:cNvSpPr/>
            <p:nvPr/>
          </p:nvSpPr>
          <p:spPr>
            <a:xfrm>
              <a:off x="2014560" y="4784760"/>
              <a:ext cx="45972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1" lang="cs-CZ" sz="2400" spc="-1" strike="noStrike" baseline="70000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00" name=""/>
            <p:cNvGrpSpPr/>
            <p:nvPr/>
          </p:nvGrpSpPr>
          <p:grpSpPr>
            <a:xfrm>
              <a:off x="351000" y="1960560"/>
              <a:ext cx="1206000" cy="4897080"/>
              <a:chOff x="351000" y="1960560"/>
              <a:chExt cx="1206000" cy="4897080"/>
            </a:xfrm>
          </p:grpSpPr>
          <p:sp>
            <p:nvSpPr>
              <p:cNvPr id="9401" name=""/>
              <p:cNvSpPr/>
              <p:nvPr/>
            </p:nvSpPr>
            <p:spPr>
              <a:xfrm flipH="1" rot="5269800">
                <a:off x="722160" y="1929600"/>
                <a:ext cx="773280" cy="866880"/>
              </a:xfrm>
              <a:custGeom>
                <a:avLst/>
                <a:gdLst>
                  <a:gd name="textAreaLeft" fmla="*/ 360 w 773280"/>
                  <a:gd name="textAreaRight" fmla="*/ 774000 w 773280"/>
                  <a:gd name="textAreaTop" fmla="*/ 0 h 866880"/>
                  <a:gd name="textAreaBottom" fmla="*/ 867240 h 866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lnTo>
                      <a:pt x="0" y="12160"/>
                    </a:lnTo>
                    <a:arcTo wR="12427" hR="9260" stAng="10800000" swAng="5400000"/>
                    <a:lnTo>
                      <a:pt x="15100" y="2900"/>
                    </a:lnTo>
                    <a:lnTo>
                      <a:pt x="15100" y="0"/>
                    </a:lnTo>
                    <a:lnTo>
                      <a:pt x="21600" y="6079"/>
                    </a:lnTo>
                    <a:lnTo>
                      <a:pt x="15100" y="12158"/>
                    </a:lnTo>
                    <a:lnTo>
                      <a:pt x="15100" y="9258"/>
                    </a:lnTo>
                    <a:lnTo>
                      <a:pt x="12427" y="9258"/>
                    </a:lnTo>
                    <a:arcTo wR="6069" hR="2902" stAng="16200000" swAng="-5400000"/>
                    <a:lnTo>
                      <a:pt x="6358" y="21600"/>
                    </a:lnTo>
                    <a:close/>
                  </a:path>
                </a:pathLst>
              </a:cu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2" name=""/>
              <p:cNvSpPr/>
              <p:nvPr/>
            </p:nvSpPr>
            <p:spPr>
              <a:xfrm>
                <a:off x="372960" y="2968200"/>
                <a:ext cx="228600" cy="388944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3" name=""/>
              <p:cNvSpPr/>
              <p:nvPr/>
            </p:nvSpPr>
            <p:spPr>
              <a:xfrm>
                <a:off x="351000" y="2518920"/>
                <a:ext cx="458640" cy="580320"/>
              </a:xfrm>
              <a:custGeom>
                <a:avLst/>
                <a:gdLst/>
                <a:ahLst/>
                <a:rect l="l" t="t" r="r" b="b"/>
                <a:pathLst>
                  <a:path w="289" h="385">
                    <a:moveTo>
                      <a:pt x="18" y="347"/>
                    </a:moveTo>
                    <a:cubicBezTo>
                      <a:pt x="0" y="316"/>
                      <a:pt x="26" y="215"/>
                      <a:pt x="40" y="166"/>
                    </a:cubicBezTo>
                    <a:cubicBezTo>
                      <a:pt x="54" y="117"/>
                      <a:pt x="72" y="80"/>
                      <a:pt x="103" y="55"/>
                    </a:cubicBezTo>
                    <a:cubicBezTo>
                      <a:pt x="134" y="30"/>
                      <a:pt x="196" y="0"/>
                      <a:pt x="225" y="17"/>
                    </a:cubicBezTo>
                    <a:cubicBezTo>
                      <a:pt x="254" y="34"/>
                      <a:pt x="289" y="122"/>
                      <a:pt x="279" y="155"/>
                    </a:cubicBezTo>
                    <a:cubicBezTo>
                      <a:pt x="204" y="155"/>
                      <a:pt x="188" y="181"/>
                      <a:pt x="167" y="214"/>
                    </a:cubicBezTo>
                    <a:cubicBezTo>
                      <a:pt x="153" y="248"/>
                      <a:pt x="176" y="330"/>
                      <a:pt x="151" y="352"/>
                    </a:cubicBezTo>
                    <a:cubicBezTo>
                      <a:pt x="126" y="374"/>
                      <a:pt x="34" y="385"/>
                      <a:pt x="18" y="347"/>
                    </a:cubicBezTo>
                    <a:close/>
                  </a:path>
                </a:pathLst>
              </a:cu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aphicFrame>
          <p:nvGraphicFramePr>
            <p:cNvPr id="9404" name=""/>
            <p:cNvGraphicFramePr/>
            <p:nvPr/>
          </p:nvGraphicFramePr>
          <p:xfrm>
            <a:off x="1471680" y="436680"/>
            <a:ext cx="1412640" cy="10508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940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471680" y="436680"/>
                      <a:ext cx="1412640" cy="1050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406" name=""/>
            <p:cNvSpPr/>
            <p:nvPr/>
          </p:nvSpPr>
          <p:spPr>
            <a:xfrm>
              <a:off x="1036800" y="243000"/>
              <a:ext cx="479160" cy="1314360"/>
            </a:xfrm>
            <a:prstGeom prst="upArrow">
              <a:avLst>
                <a:gd name="adj1" fmla="val 50000"/>
                <a:gd name="adj2" fmla="val 68576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9407" name=""/>
            <p:cNvGraphicFramePr/>
            <p:nvPr/>
          </p:nvGraphicFramePr>
          <p:xfrm>
            <a:off x="6519960" y="371520"/>
            <a:ext cx="1495440" cy="17715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9408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519960" y="371520"/>
                      <a:ext cx="1495440" cy="1771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409" name=""/>
            <p:cNvSpPr/>
            <p:nvPr/>
          </p:nvSpPr>
          <p:spPr>
            <a:xfrm>
              <a:off x="6180120" y="2727360"/>
              <a:ext cx="1582920" cy="59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Arial"/>
                </a:rPr>
                <a:t>TA+NH</a:t>
              </a:r>
              <a:r>
                <a:rPr b="1" lang="cs-CZ" sz="24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1" lang="cs-CZ" sz="2400" spc="-1" strike="noStrike" baseline="7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0" name=""/>
            <p:cNvSpPr/>
            <p:nvPr/>
          </p:nvSpPr>
          <p:spPr>
            <a:xfrm>
              <a:off x="210960" y="6222960"/>
              <a:ext cx="2725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000000"/>
                  </a:solidFill>
                  <a:latin typeface="Arial"/>
                </a:rPr>
                <a:t>20 000 mmol/24 ho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1" name=""/>
            <p:cNvSpPr/>
            <p:nvPr/>
          </p:nvSpPr>
          <p:spPr>
            <a:xfrm>
              <a:off x="3017880" y="6222960"/>
              <a:ext cx="2144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000000"/>
                  </a:solidFill>
                  <a:latin typeface="Arial"/>
                </a:rPr>
                <a:t>60 mmol/24 ho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2" name=""/>
            <p:cNvSpPr/>
            <p:nvPr/>
          </p:nvSpPr>
          <p:spPr>
            <a:xfrm>
              <a:off x="3679920" y="912960"/>
              <a:ext cx="2144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000000"/>
                  </a:solidFill>
                  <a:latin typeface="Arial"/>
                </a:rPr>
                <a:t>60 mmol/24 ho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13" name=""/>
            <p:cNvGrpSpPr/>
            <p:nvPr/>
          </p:nvGrpSpPr>
          <p:grpSpPr>
            <a:xfrm>
              <a:off x="5619600" y="738360"/>
              <a:ext cx="1481040" cy="1906200"/>
              <a:chOff x="5619600" y="738360"/>
              <a:chExt cx="1481040" cy="1906200"/>
            </a:xfrm>
          </p:grpSpPr>
          <p:sp>
            <p:nvSpPr>
              <p:cNvPr id="9414" name=""/>
              <p:cNvSpPr/>
              <p:nvPr/>
            </p:nvSpPr>
            <p:spPr>
              <a:xfrm flipV="1">
                <a:off x="6618240" y="1918800"/>
                <a:ext cx="482400" cy="725400"/>
              </a:xfrm>
              <a:prstGeom prst="upArrow">
                <a:avLst>
                  <a:gd name="adj1" fmla="val 50000"/>
                  <a:gd name="adj2" fmla="val 37593"/>
                </a:avLst>
              </a:pr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5" name=""/>
              <p:cNvSpPr/>
              <p:nvPr/>
            </p:nvSpPr>
            <p:spPr>
              <a:xfrm flipV="1" rot="5400000">
                <a:off x="5645520" y="747360"/>
                <a:ext cx="814680" cy="866880"/>
              </a:xfrm>
              <a:custGeom>
                <a:avLst/>
                <a:gdLst>
                  <a:gd name="textAreaLeft" fmla="*/ 0 w 814680"/>
                  <a:gd name="textAreaRight" fmla="*/ 815040 w 814680"/>
                  <a:gd name="textAreaTop" fmla="*/ 360 h 866880"/>
                  <a:gd name="textAreaBottom" fmla="*/ 867600 h 866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lnTo>
                      <a:pt x="0" y="12160"/>
                    </a:lnTo>
                    <a:arcTo wR="12427" hR="9260" stAng="10800000" swAng="5400000"/>
                    <a:lnTo>
                      <a:pt x="15100" y="2900"/>
                    </a:lnTo>
                    <a:lnTo>
                      <a:pt x="15100" y="0"/>
                    </a:lnTo>
                    <a:lnTo>
                      <a:pt x="21600" y="6079"/>
                    </a:lnTo>
                    <a:lnTo>
                      <a:pt x="15100" y="12158"/>
                    </a:lnTo>
                    <a:lnTo>
                      <a:pt x="15100" y="9258"/>
                    </a:lnTo>
                    <a:lnTo>
                      <a:pt x="12427" y="9258"/>
                    </a:lnTo>
                    <a:arcTo wR="6069" hR="2902" stAng="16200000" swAng="-5400000"/>
                    <a:lnTo>
                      <a:pt x="6358" y="21600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6" name=""/>
              <p:cNvSpPr/>
              <p:nvPr/>
            </p:nvSpPr>
            <p:spPr>
              <a:xfrm>
                <a:off x="6738840" y="993960"/>
                <a:ext cx="243000" cy="950760"/>
              </a:xfrm>
              <a:prstGeom prst="rect">
                <a:avLst/>
              </a:pr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7" name=""/>
              <p:cNvSpPr/>
              <p:nvPr/>
            </p:nvSpPr>
            <p:spPr>
              <a:xfrm rot="16200000">
                <a:off x="6433200" y="461520"/>
                <a:ext cx="239760" cy="869760"/>
              </a:xfrm>
              <a:prstGeom prst="rect">
                <a:avLst/>
              </a:pr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8" name=""/>
              <p:cNvSpPr/>
              <p:nvPr/>
            </p:nvSpPr>
            <p:spPr>
              <a:xfrm>
                <a:off x="5948280" y="738360"/>
                <a:ext cx="1143000" cy="32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1400" spc="-1" strike="noStrike">
                    <a:solidFill>
                      <a:srgbClr val="000000"/>
                    </a:solidFill>
                    <a:latin typeface="Times New Roman"/>
                  </a:rPr>
                  <a:t>Exkrece H</a:t>
                </a:r>
                <a:r>
                  <a:rPr b="1" lang="cs-CZ" sz="1400" spc="-1" strike="noStrike" baseline="50000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19" name=""/>
            <p:cNvSpPr/>
            <p:nvPr/>
          </p:nvSpPr>
          <p:spPr>
            <a:xfrm>
              <a:off x="5438880" y="0"/>
              <a:ext cx="3705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400" spc="-1" strike="noStrike">
                  <a:solidFill>
                    <a:srgbClr val="000000"/>
                  </a:solidFill>
                  <a:latin typeface="Times New Roman"/>
                </a:rPr>
                <a:t>Prakticky úplná reabsorbce bikarbonátů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0" name=""/>
            <p:cNvSpPr/>
            <p:nvPr/>
          </p:nvSpPr>
          <p:spPr>
            <a:xfrm>
              <a:off x="6891480" y="469800"/>
              <a:ext cx="1155600" cy="185760"/>
            </a:xfrm>
            <a:prstGeom prst="leftArrow">
              <a:avLst>
                <a:gd name="adj1" fmla="val 50000"/>
                <a:gd name="adj2" fmla="val 155523"/>
              </a:avLst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080" bIns="46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1" name=""/>
            <p:cNvSpPr/>
            <p:nvPr/>
          </p:nvSpPr>
          <p:spPr>
            <a:xfrm flipH="1">
              <a:off x="6927120" y="282600"/>
              <a:ext cx="1158840" cy="187200"/>
            </a:xfrm>
            <a:prstGeom prst="leftArrow">
              <a:avLst>
                <a:gd name="adj1" fmla="val 50000"/>
                <a:gd name="adj2" fmla="val 154760"/>
              </a:avLst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2" name=""/>
            <p:cNvSpPr/>
            <p:nvPr/>
          </p:nvSpPr>
          <p:spPr>
            <a:xfrm rot="5400000">
              <a:off x="7866720" y="362520"/>
              <a:ext cx="307800" cy="255600"/>
            </a:xfrm>
            <a:prstGeom prst="uturnArrow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3" name=""/>
            <p:cNvSpPr/>
            <p:nvPr/>
          </p:nvSpPr>
          <p:spPr>
            <a:xfrm>
              <a:off x="2624040" y="6553080"/>
              <a:ext cx="3705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400" spc="-1" strike="noStrike">
                  <a:solidFill>
                    <a:srgbClr val="000000"/>
                  </a:solidFill>
                  <a:latin typeface="Times New Roman"/>
                </a:rPr>
                <a:t>Metabolická tvorba silných kysel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4" name=""/>
            <p:cNvSpPr/>
            <p:nvPr/>
          </p:nvSpPr>
          <p:spPr>
            <a:xfrm>
              <a:off x="201600" y="6553080"/>
              <a:ext cx="23176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400" spc="-1" strike="noStrike">
                  <a:solidFill>
                    <a:srgbClr val="000000"/>
                  </a:solidFill>
                  <a:latin typeface="Times New Roman"/>
                </a:rPr>
                <a:t>Metabolická tvorba CO</a:t>
              </a:r>
              <a:r>
                <a:rPr b="1" lang="cs-CZ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5" name=""/>
          <p:cNvSpPr/>
          <p:nvPr/>
        </p:nvSpPr>
        <p:spPr>
          <a:xfrm flipH="1">
            <a:off x="1955160" y="396720"/>
            <a:ext cx="723960" cy="7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6" name=""/>
          <p:cNvSpPr/>
          <p:nvPr/>
        </p:nvSpPr>
        <p:spPr>
          <a:xfrm>
            <a:off x="7191360" y="2070000"/>
            <a:ext cx="568440" cy="723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7" name=""/>
          <p:cNvSpPr/>
          <p:nvPr/>
        </p:nvSpPr>
        <p:spPr>
          <a:xfrm>
            <a:off x="7188120" y="1981080"/>
            <a:ext cx="587520" cy="997200"/>
          </a:xfrm>
          <a:prstGeom prst="rect">
            <a:avLst/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8" name=""/>
          <p:cNvSpPr/>
          <p:nvPr/>
        </p:nvSpPr>
        <p:spPr>
          <a:xfrm>
            <a:off x="7186680" y="2362320"/>
            <a:ext cx="579240" cy="6397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9" name=""/>
          <p:cNvSpPr/>
          <p:nvPr/>
        </p:nvSpPr>
        <p:spPr>
          <a:xfrm>
            <a:off x="7202520" y="230040"/>
            <a:ext cx="1111320" cy="76680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0" name=""/>
          <p:cNvSpPr/>
          <p:nvPr/>
        </p:nvSpPr>
        <p:spPr>
          <a:xfrm>
            <a:off x="7201080" y="220680"/>
            <a:ext cx="1110960" cy="7840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1" name=""/>
          <p:cNvSpPr/>
          <p:nvPr/>
        </p:nvSpPr>
        <p:spPr>
          <a:xfrm>
            <a:off x="4772160" y="1341360"/>
            <a:ext cx="1144440" cy="7081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2" name=""/>
          <p:cNvSpPr/>
          <p:nvPr/>
        </p:nvSpPr>
        <p:spPr>
          <a:xfrm>
            <a:off x="2671920" y="322200"/>
            <a:ext cx="927000" cy="7066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3" name=""/>
          <p:cNvSpPr/>
          <p:nvPr/>
        </p:nvSpPr>
        <p:spPr>
          <a:xfrm>
            <a:off x="7313760" y="2505240"/>
            <a:ext cx="9360" cy="2934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4" name=""/>
          <p:cNvSpPr/>
          <p:nvPr/>
        </p:nvSpPr>
        <p:spPr>
          <a:xfrm>
            <a:off x="2775600" y="442800"/>
            <a:ext cx="736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5" name=""/>
          <p:cNvSpPr/>
          <p:nvPr/>
        </p:nvSpPr>
        <p:spPr>
          <a:xfrm>
            <a:off x="2816640" y="2489040"/>
            <a:ext cx="736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6" name=""/>
          <p:cNvSpPr/>
          <p:nvPr/>
        </p:nvSpPr>
        <p:spPr>
          <a:xfrm>
            <a:off x="4829040" y="1484280"/>
            <a:ext cx="1055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7" name=""/>
          <p:cNvSpPr/>
          <p:nvPr/>
        </p:nvSpPr>
        <p:spPr>
          <a:xfrm>
            <a:off x="7260840" y="396720"/>
            <a:ext cx="956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HCO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8" name=""/>
          <p:cNvSpPr/>
          <p:nvPr/>
        </p:nvSpPr>
        <p:spPr>
          <a:xfrm>
            <a:off x="7327800" y="2428920"/>
            <a:ext cx="52380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cs-CZ" sz="2400" spc="-1" strike="noStrike" baseline="70000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9" name=""/>
          <p:cNvSpPr/>
          <p:nvPr/>
        </p:nvSpPr>
        <p:spPr>
          <a:xfrm>
            <a:off x="6027840" y="692280"/>
            <a:ext cx="1155600" cy="1023840"/>
          </a:xfrm>
          <a:custGeom>
            <a:avLst/>
            <a:gdLst/>
            <a:ahLst/>
            <a:rect l="l" t="t" r="r" b="b"/>
            <a:pathLst>
              <a:path w="728" h="645">
                <a:moveTo>
                  <a:pt x="0" y="642"/>
                </a:moveTo>
                <a:lnTo>
                  <a:pt x="351" y="645"/>
                </a:lnTo>
                <a:cubicBezTo>
                  <a:pt x="420" y="628"/>
                  <a:pt x="405" y="630"/>
                  <a:pt x="416" y="538"/>
                </a:cubicBezTo>
                <a:lnTo>
                  <a:pt x="416" y="91"/>
                </a:lnTo>
                <a:cubicBezTo>
                  <a:pt x="429" y="1"/>
                  <a:pt x="445" y="15"/>
                  <a:pt x="497" y="0"/>
                </a:cubicBezTo>
                <a:lnTo>
                  <a:pt x="728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0" name=""/>
          <p:cNvSpPr/>
          <p:nvPr/>
        </p:nvSpPr>
        <p:spPr>
          <a:xfrm>
            <a:off x="5934240" y="1708200"/>
            <a:ext cx="1249200" cy="1023840"/>
          </a:xfrm>
          <a:custGeom>
            <a:avLst/>
            <a:gdLst/>
            <a:ahLst/>
            <a:rect l="l" t="t" r="r" b="b"/>
            <a:pathLst>
              <a:path w="787" h="645">
                <a:moveTo>
                  <a:pt x="0" y="2"/>
                </a:moveTo>
                <a:lnTo>
                  <a:pt x="410" y="0"/>
                </a:lnTo>
                <a:cubicBezTo>
                  <a:pt x="489" y="17"/>
                  <a:pt x="464" y="15"/>
                  <a:pt x="475" y="107"/>
                </a:cubicBezTo>
                <a:lnTo>
                  <a:pt x="475" y="554"/>
                </a:lnTo>
                <a:cubicBezTo>
                  <a:pt x="488" y="644"/>
                  <a:pt x="504" y="630"/>
                  <a:pt x="556" y="645"/>
                </a:cubicBezTo>
                <a:lnTo>
                  <a:pt x="787" y="645"/>
                </a:ln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41" name=""/>
          <p:cNvGrpSpPr/>
          <p:nvPr/>
        </p:nvGrpSpPr>
        <p:grpSpPr>
          <a:xfrm>
            <a:off x="3624120" y="690480"/>
            <a:ext cx="1130400" cy="2038320"/>
            <a:chOff x="3624120" y="690480"/>
            <a:chExt cx="1130400" cy="2038320"/>
          </a:xfrm>
        </p:grpSpPr>
        <p:sp>
          <p:nvSpPr>
            <p:cNvPr id="9442" name=""/>
            <p:cNvSpPr/>
            <p:nvPr/>
          </p:nvSpPr>
          <p:spPr>
            <a:xfrm flipH="1">
              <a:off x="3624120" y="690480"/>
              <a:ext cx="1130400" cy="1023840"/>
            </a:xfrm>
            <a:custGeom>
              <a:avLst/>
              <a:gdLst/>
              <a:ahLst/>
              <a:rect l="l" t="t" r="r" b="b"/>
              <a:pathLst>
                <a:path w="866" h="645">
                  <a:moveTo>
                    <a:pt x="0" y="645"/>
                  </a:moveTo>
                  <a:lnTo>
                    <a:pt x="442" y="645"/>
                  </a:lnTo>
                  <a:cubicBezTo>
                    <a:pt x="528" y="627"/>
                    <a:pt x="503" y="630"/>
                    <a:pt x="515" y="538"/>
                  </a:cubicBezTo>
                  <a:lnTo>
                    <a:pt x="515" y="91"/>
                  </a:lnTo>
                  <a:cubicBezTo>
                    <a:pt x="530" y="1"/>
                    <a:pt x="548" y="15"/>
                    <a:pt x="606" y="0"/>
                  </a:cubicBezTo>
                  <a:lnTo>
                    <a:pt x="866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3" name=""/>
            <p:cNvSpPr/>
            <p:nvPr/>
          </p:nvSpPr>
          <p:spPr>
            <a:xfrm flipH="1" flipV="1">
              <a:off x="3624120" y="1704960"/>
              <a:ext cx="1130400" cy="1023840"/>
            </a:xfrm>
            <a:custGeom>
              <a:avLst/>
              <a:gdLst/>
              <a:ahLst/>
              <a:rect l="l" t="t" r="r" b="b"/>
              <a:pathLst>
                <a:path w="866" h="645">
                  <a:moveTo>
                    <a:pt x="0" y="645"/>
                  </a:moveTo>
                  <a:lnTo>
                    <a:pt x="442" y="645"/>
                  </a:lnTo>
                  <a:cubicBezTo>
                    <a:pt x="528" y="627"/>
                    <a:pt x="503" y="630"/>
                    <a:pt x="515" y="538"/>
                  </a:cubicBezTo>
                  <a:lnTo>
                    <a:pt x="515" y="91"/>
                  </a:lnTo>
                  <a:cubicBezTo>
                    <a:pt x="530" y="1"/>
                    <a:pt x="548" y="15"/>
                    <a:pt x="606" y="0"/>
                  </a:cubicBezTo>
                  <a:lnTo>
                    <a:pt x="866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44" name=""/>
          <p:cNvGrpSpPr/>
          <p:nvPr/>
        </p:nvGrpSpPr>
        <p:grpSpPr>
          <a:xfrm>
            <a:off x="7197840" y="1071720"/>
            <a:ext cx="560160" cy="877320"/>
            <a:chOff x="7197840" y="1071720"/>
            <a:chExt cx="560160" cy="877320"/>
          </a:xfrm>
        </p:grpSpPr>
        <p:sp>
          <p:nvSpPr>
            <p:cNvPr id="9445" name=""/>
            <p:cNvSpPr/>
            <p:nvPr/>
          </p:nvSpPr>
          <p:spPr>
            <a:xfrm>
              <a:off x="7202160" y="1138320"/>
              <a:ext cx="550800" cy="602640"/>
            </a:xfrm>
            <a:custGeom>
              <a:avLst/>
              <a:gdLst/>
              <a:ahLst/>
              <a:rect l="l" t="t" r="r" b="b"/>
              <a:pathLst>
                <a:path w="2256" h="2295">
                  <a:moveTo>
                    <a:pt x="0" y="0"/>
                  </a:moveTo>
                  <a:lnTo>
                    <a:pt x="939" y="1180"/>
                  </a:lnTo>
                  <a:lnTo>
                    <a:pt x="980" y="2175"/>
                  </a:lnTo>
                  <a:lnTo>
                    <a:pt x="983" y="2202"/>
                  </a:lnTo>
                  <a:lnTo>
                    <a:pt x="991" y="2221"/>
                  </a:lnTo>
                  <a:lnTo>
                    <a:pt x="1000" y="2235"/>
                  </a:lnTo>
                  <a:lnTo>
                    <a:pt x="1010" y="2246"/>
                  </a:lnTo>
                  <a:lnTo>
                    <a:pt x="1024" y="2260"/>
                  </a:lnTo>
                  <a:lnTo>
                    <a:pt x="1038" y="2268"/>
                  </a:lnTo>
                  <a:lnTo>
                    <a:pt x="1060" y="2281"/>
                  </a:lnTo>
                  <a:lnTo>
                    <a:pt x="1083" y="2287"/>
                  </a:lnTo>
                  <a:lnTo>
                    <a:pt x="1111" y="2293"/>
                  </a:lnTo>
                  <a:lnTo>
                    <a:pt x="1128" y="2295"/>
                  </a:lnTo>
                  <a:lnTo>
                    <a:pt x="1145" y="2295"/>
                  </a:lnTo>
                  <a:lnTo>
                    <a:pt x="1163" y="2292"/>
                  </a:lnTo>
                  <a:lnTo>
                    <a:pt x="1183" y="2286"/>
                  </a:lnTo>
                  <a:lnTo>
                    <a:pt x="1202" y="2279"/>
                  </a:lnTo>
                  <a:lnTo>
                    <a:pt x="1221" y="2268"/>
                  </a:lnTo>
                  <a:lnTo>
                    <a:pt x="1235" y="2259"/>
                  </a:lnTo>
                  <a:lnTo>
                    <a:pt x="1251" y="2243"/>
                  </a:lnTo>
                  <a:lnTo>
                    <a:pt x="1262" y="2227"/>
                  </a:lnTo>
                  <a:lnTo>
                    <a:pt x="1273" y="2203"/>
                  </a:lnTo>
                  <a:lnTo>
                    <a:pt x="1276" y="2181"/>
                  </a:lnTo>
                  <a:lnTo>
                    <a:pt x="1336" y="1161"/>
                  </a:lnTo>
                  <a:lnTo>
                    <a:pt x="225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6" name=""/>
            <p:cNvSpPr/>
            <p:nvPr/>
          </p:nvSpPr>
          <p:spPr>
            <a:xfrm>
              <a:off x="7197840" y="1071720"/>
              <a:ext cx="560160" cy="113760"/>
            </a:xfrm>
            <a:prstGeom prst="ellipse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7" name=""/>
            <p:cNvSpPr/>
            <p:nvPr/>
          </p:nvSpPr>
          <p:spPr>
            <a:xfrm>
              <a:off x="7242120" y="1155240"/>
              <a:ext cx="475920" cy="567720"/>
            </a:xfrm>
            <a:custGeom>
              <a:avLst/>
              <a:gdLst/>
              <a:ahLst/>
              <a:rect l="l" t="t" r="r" b="b"/>
              <a:pathLst>
                <a:path w="1956" h="2159">
                  <a:moveTo>
                    <a:pt x="0" y="19"/>
                  </a:moveTo>
                  <a:lnTo>
                    <a:pt x="857" y="1063"/>
                  </a:lnTo>
                  <a:lnTo>
                    <a:pt x="879" y="2090"/>
                  </a:lnTo>
                  <a:lnTo>
                    <a:pt x="887" y="2107"/>
                  </a:lnTo>
                  <a:lnTo>
                    <a:pt x="897" y="2123"/>
                  </a:lnTo>
                  <a:lnTo>
                    <a:pt x="906" y="2137"/>
                  </a:lnTo>
                  <a:lnTo>
                    <a:pt x="922" y="2147"/>
                  </a:lnTo>
                  <a:lnTo>
                    <a:pt x="939" y="2156"/>
                  </a:lnTo>
                  <a:lnTo>
                    <a:pt x="962" y="2159"/>
                  </a:lnTo>
                  <a:lnTo>
                    <a:pt x="983" y="2157"/>
                  </a:lnTo>
                  <a:lnTo>
                    <a:pt x="1005" y="2153"/>
                  </a:lnTo>
                  <a:lnTo>
                    <a:pt x="1026" y="2140"/>
                  </a:lnTo>
                  <a:lnTo>
                    <a:pt x="1040" y="2123"/>
                  </a:lnTo>
                  <a:lnTo>
                    <a:pt x="1048" y="2109"/>
                  </a:lnTo>
                  <a:lnTo>
                    <a:pt x="1056" y="2088"/>
                  </a:lnTo>
                  <a:lnTo>
                    <a:pt x="1100" y="1045"/>
                  </a:lnTo>
                  <a:lnTo>
                    <a:pt x="1956" y="0"/>
                  </a:lnTo>
                  <a:lnTo>
                    <a:pt x="1790" y="41"/>
                  </a:lnTo>
                  <a:lnTo>
                    <a:pt x="1531" y="77"/>
                  </a:lnTo>
                  <a:lnTo>
                    <a:pt x="1247" y="98"/>
                  </a:lnTo>
                  <a:lnTo>
                    <a:pt x="962" y="109"/>
                  </a:lnTo>
                  <a:lnTo>
                    <a:pt x="662" y="98"/>
                  </a:lnTo>
                  <a:lnTo>
                    <a:pt x="398" y="77"/>
                  </a:lnTo>
                  <a:lnTo>
                    <a:pt x="178" y="52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8" name=""/>
            <p:cNvSpPr/>
            <p:nvPr/>
          </p:nvSpPr>
          <p:spPr>
            <a:xfrm>
              <a:off x="7322760" y="1270440"/>
              <a:ext cx="307800" cy="453960"/>
            </a:xfrm>
            <a:custGeom>
              <a:avLst/>
              <a:gdLst/>
              <a:ahLst/>
              <a:rect l="l" t="t" r="r" b="b"/>
              <a:pathLst>
                <a:path w="1264" h="1728">
                  <a:moveTo>
                    <a:pt x="0" y="0"/>
                  </a:moveTo>
                  <a:lnTo>
                    <a:pt x="520" y="624"/>
                  </a:lnTo>
                  <a:lnTo>
                    <a:pt x="531" y="1657"/>
                  </a:lnTo>
                  <a:lnTo>
                    <a:pt x="541" y="1674"/>
                  </a:lnTo>
                  <a:lnTo>
                    <a:pt x="553" y="1688"/>
                  </a:lnTo>
                  <a:lnTo>
                    <a:pt x="564" y="1701"/>
                  </a:lnTo>
                  <a:lnTo>
                    <a:pt x="580" y="1715"/>
                  </a:lnTo>
                  <a:lnTo>
                    <a:pt x="608" y="1723"/>
                  </a:lnTo>
                  <a:lnTo>
                    <a:pt x="632" y="1728"/>
                  </a:lnTo>
                  <a:lnTo>
                    <a:pt x="651" y="1725"/>
                  </a:lnTo>
                  <a:lnTo>
                    <a:pt x="673" y="1720"/>
                  </a:lnTo>
                  <a:lnTo>
                    <a:pt x="694" y="1709"/>
                  </a:lnTo>
                  <a:lnTo>
                    <a:pt x="711" y="1692"/>
                  </a:lnTo>
                  <a:lnTo>
                    <a:pt x="723" y="1669"/>
                  </a:lnTo>
                  <a:lnTo>
                    <a:pt x="730" y="1657"/>
                  </a:lnTo>
                  <a:lnTo>
                    <a:pt x="761" y="605"/>
                  </a:lnTo>
                  <a:lnTo>
                    <a:pt x="126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9" name=""/>
            <p:cNvSpPr/>
            <p:nvPr/>
          </p:nvSpPr>
          <p:spPr>
            <a:xfrm>
              <a:off x="7453080" y="1748880"/>
              <a:ext cx="48960" cy="96840"/>
            </a:xfrm>
            <a:custGeom>
              <a:avLst/>
              <a:gdLst/>
              <a:ahLst/>
              <a:rect l="l" t="t" r="r" b="b"/>
              <a:pathLst>
                <a:path w="196" h="370">
                  <a:moveTo>
                    <a:pt x="95" y="0"/>
                  </a:moveTo>
                  <a:lnTo>
                    <a:pt x="105" y="58"/>
                  </a:lnTo>
                  <a:lnTo>
                    <a:pt x="111" y="87"/>
                  </a:lnTo>
                  <a:lnTo>
                    <a:pt x="121" y="121"/>
                  </a:lnTo>
                  <a:lnTo>
                    <a:pt x="132" y="141"/>
                  </a:lnTo>
                  <a:lnTo>
                    <a:pt x="147" y="166"/>
                  </a:lnTo>
                  <a:lnTo>
                    <a:pt x="167" y="193"/>
                  </a:lnTo>
                  <a:lnTo>
                    <a:pt x="184" y="220"/>
                  </a:lnTo>
                  <a:lnTo>
                    <a:pt x="192" y="245"/>
                  </a:lnTo>
                  <a:lnTo>
                    <a:pt x="196" y="278"/>
                  </a:lnTo>
                  <a:lnTo>
                    <a:pt x="189" y="307"/>
                  </a:lnTo>
                  <a:lnTo>
                    <a:pt x="178" y="328"/>
                  </a:lnTo>
                  <a:lnTo>
                    <a:pt x="162" y="345"/>
                  </a:lnTo>
                  <a:lnTo>
                    <a:pt x="141" y="361"/>
                  </a:lnTo>
                  <a:lnTo>
                    <a:pt x="121" y="367"/>
                  </a:lnTo>
                  <a:lnTo>
                    <a:pt x="99" y="370"/>
                  </a:lnTo>
                  <a:lnTo>
                    <a:pt x="76" y="367"/>
                  </a:lnTo>
                  <a:lnTo>
                    <a:pt x="54" y="362"/>
                  </a:lnTo>
                  <a:lnTo>
                    <a:pt x="34" y="350"/>
                  </a:lnTo>
                  <a:lnTo>
                    <a:pt x="19" y="334"/>
                  </a:lnTo>
                  <a:lnTo>
                    <a:pt x="8" y="315"/>
                  </a:lnTo>
                  <a:lnTo>
                    <a:pt x="3" y="296"/>
                  </a:lnTo>
                  <a:lnTo>
                    <a:pt x="0" y="272"/>
                  </a:lnTo>
                  <a:lnTo>
                    <a:pt x="5" y="240"/>
                  </a:lnTo>
                  <a:lnTo>
                    <a:pt x="13" y="218"/>
                  </a:lnTo>
                  <a:lnTo>
                    <a:pt x="30" y="190"/>
                  </a:lnTo>
                  <a:lnTo>
                    <a:pt x="49" y="166"/>
                  </a:lnTo>
                  <a:lnTo>
                    <a:pt x="62" y="140"/>
                  </a:lnTo>
                  <a:lnTo>
                    <a:pt x="72" y="119"/>
                  </a:lnTo>
                  <a:lnTo>
                    <a:pt x="81" y="90"/>
                  </a:lnTo>
                  <a:lnTo>
                    <a:pt x="86" y="58"/>
                  </a:lnTo>
                  <a:lnTo>
                    <a:pt x="95" y="0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0" name=""/>
            <p:cNvSpPr/>
            <p:nvPr/>
          </p:nvSpPr>
          <p:spPr>
            <a:xfrm>
              <a:off x="7226280" y="1082160"/>
              <a:ext cx="502560" cy="9252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1" name=""/>
            <p:cNvSpPr/>
            <p:nvPr/>
          </p:nvSpPr>
          <p:spPr>
            <a:xfrm>
              <a:off x="7453080" y="1852200"/>
              <a:ext cx="48960" cy="96840"/>
            </a:xfrm>
            <a:custGeom>
              <a:avLst/>
              <a:gdLst/>
              <a:ahLst/>
              <a:rect l="l" t="t" r="r" b="b"/>
              <a:pathLst>
                <a:path w="196" h="372">
                  <a:moveTo>
                    <a:pt x="95" y="0"/>
                  </a:moveTo>
                  <a:lnTo>
                    <a:pt x="105" y="60"/>
                  </a:lnTo>
                  <a:lnTo>
                    <a:pt x="111" y="88"/>
                  </a:lnTo>
                  <a:lnTo>
                    <a:pt x="121" y="122"/>
                  </a:lnTo>
                  <a:lnTo>
                    <a:pt x="132" y="143"/>
                  </a:lnTo>
                  <a:lnTo>
                    <a:pt x="147" y="168"/>
                  </a:lnTo>
                  <a:lnTo>
                    <a:pt x="167" y="195"/>
                  </a:lnTo>
                  <a:lnTo>
                    <a:pt x="184" y="221"/>
                  </a:lnTo>
                  <a:lnTo>
                    <a:pt x="192" y="247"/>
                  </a:lnTo>
                  <a:lnTo>
                    <a:pt x="196" y="279"/>
                  </a:lnTo>
                  <a:lnTo>
                    <a:pt x="189" y="308"/>
                  </a:lnTo>
                  <a:lnTo>
                    <a:pt x="178" y="328"/>
                  </a:lnTo>
                  <a:lnTo>
                    <a:pt x="162" y="345"/>
                  </a:lnTo>
                  <a:lnTo>
                    <a:pt x="141" y="361"/>
                  </a:lnTo>
                  <a:lnTo>
                    <a:pt x="121" y="369"/>
                  </a:lnTo>
                  <a:lnTo>
                    <a:pt x="99" y="372"/>
                  </a:lnTo>
                  <a:lnTo>
                    <a:pt x="76" y="369"/>
                  </a:lnTo>
                  <a:lnTo>
                    <a:pt x="54" y="363"/>
                  </a:lnTo>
                  <a:lnTo>
                    <a:pt x="34" y="351"/>
                  </a:lnTo>
                  <a:lnTo>
                    <a:pt x="19" y="336"/>
                  </a:lnTo>
                  <a:lnTo>
                    <a:pt x="8" y="317"/>
                  </a:lnTo>
                  <a:lnTo>
                    <a:pt x="3" y="298"/>
                  </a:lnTo>
                  <a:lnTo>
                    <a:pt x="0" y="272"/>
                  </a:lnTo>
                  <a:lnTo>
                    <a:pt x="5" y="242"/>
                  </a:lnTo>
                  <a:lnTo>
                    <a:pt x="13" y="219"/>
                  </a:lnTo>
                  <a:lnTo>
                    <a:pt x="30" y="191"/>
                  </a:lnTo>
                  <a:lnTo>
                    <a:pt x="49" y="168"/>
                  </a:lnTo>
                  <a:lnTo>
                    <a:pt x="62" y="141"/>
                  </a:lnTo>
                  <a:lnTo>
                    <a:pt x="72" y="120"/>
                  </a:lnTo>
                  <a:lnTo>
                    <a:pt x="81" y="90"/>
                  </a:lnTo>
                  <a:lnTo>
                    <a:pt x="86" y="60"/>
                  </a:lnTo>
                  <a:lnTo>
                    <a:pt x="95" y="0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2" name=""/>
            <p:cNvSpPr/>
            <p:nvPr/>
          </p:nvSpPr>
          <p:spPr>
            <a:xfrm>
              <a:off x="7319880" y="1234080"/>
              <a:ext cx="315360" cy="59040"/>
            </a:xfrm>
            <a:prstGeom prst="ellipse">
              <a:avLst/>
            </a:pr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3" name=""/>
            <p:cNvSpPr/>
            <p:nvPr/>
          </p:nvSpPr>
          <p:spPr>
            <a:xfrm>
              <a:off x="7456320" y="1686600"/>
              <a:ext cx="41040" cy="45720"/>
            </a:xfrm>
            <a:prstGeom prst="ellipse">
              <a:avLst/>
            </a:prstGeom>
            <a:solidFill>
              <a:srgbClr val="009999"/>
            </a:solidFill>
            <a:ln w="1764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54" name=""/>
          <p:cNvSpPr/>
          <p:nvPr/>
        </p:nvSpPr>
        <p:spPr>
          <a:xfrm>
            <a:off x="7870680" y="1992240"/>
            <a:ext cx="1800" cy="3524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5" name=""/>
          <p:cNvSpPr/>
          <p:nvPr/>
        </p:nvSpPr>
        <p:spPr>
          <a:xfrm>
            <a:off x="8049960" y="27612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6" name=""/>
          <p:cNvSpPr/>
          <p:nvPr/>
        </p:nvSpPr>
        <p:spPr>
          <a:xfrm>
            <a:off x="140400" y="0"/>
            <a:ext cx="239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Uzavřený systé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7" name=""/>
          <p:cNvSpPr/>
          <p:nvPr/>
        </p:nvSpPr>
        <p:spPr>
          <a:xfrm>
            <a:off x="2682720" y="3465360"/>
            <a:ext cx="920880" cy="851040"/>
          </a:xfrm>
          <a:prstGeom prst="rect">
            <a:avLst/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8" name=""/>
          <p:cNvSpPr/>
          <p:nvPr/>
        </p:nvSpPr>
        <p:spPr>
          <a:xfrm>
            <a:off x="4778280" y="4433760"/>
            <a:ext cx="1147680" cy="851040"/>
          </a:xfrm>
          <a:prstGeom prst="rect">
            <a:avLst/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9" name=""/>
          <p:cNvSpPr/>
          <p:nvPr/>
        </p:nvSpPr>
        <p:spPr>
          <a:xfrm>
            <a:off x="7201080" y="5256360"/>
            <a:ext cx="568080" cy="83340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0" name=""/>
          <p:cNvSpPr/>
          <p:nvPr/>
        </p:nvSpPr>
        <p:spPr>
          <a:xfrm>
            <a:off x="7196040" y="5510160"/>
            <a:ext cx="571680" cy="754200"/>
          </a:xfrm>
          <a:prstGeom prst="rect">
            <a:avLst/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1" name=""/>
          <p:cNvSpPr/>
          <p:nvPr/>
        </p:nvSpPr>
        <p:spPr>
          <a:xfrm>
            <a:off x="7196040" y="5657760"/>
            <a:ext cx="579600" cy="6397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2" name=""/>
          <p:cNvSpPr/>
          <p:nvPr/>
        </p:nvSpPr>
        <p:spPr>
          <a:xfrm>
            <a:off x="7203960" y="3525840"/>
            <a:ext cx="1111320" cy="76680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3" name=""/>
          <p:cNvSpPr/>
          <p:nvPr/>
        </p:nvSpPr>
        <p:spPr>
          <a:xfrm>
            <a:off x="7210440" y="3736800"/>
            <a:ext cx="1111320" cy="56376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4" name=""/>
          <p:cNvSpPr/>
          <p:nvPr/>
        </p:nvSpPr>
        <p:spPr>
          <a:xfrm>
            <a:off x="4781520" y="4637160"/>
            <a:ext cx="1144440" cy="7081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5" name=""/>
          <p:cNvSpPr/>
          <p:nvPr/>
        </p:nvSpPr>
        <p:spPr>
          <a:xfrm>
            <a:off x="2681280" y="3618000"/>
            <a:ext cx="927000" cy="7063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6" name=""/>
          <p:cNvSpPr/>
          <p:nvPr/>
        </p:nvSpPr>
        <p:spPr>
          <a:xfrm>
            <a:off x="7323120" y="5800680"/>
            <a:ext cx="9720" cy="2937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7" name=""/>
          <p:cNvSpPr/>
          <p:nvPr/>
        </p:nvSpPr>
        <p:spPr>
          <a:xfrm>
            <a:off x="2826360" y="3738600"/>
            <a:ext cx="736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8" name=""/>
          <p:cNvSpPr/>
          <p:nvPr/>
        </p:nvSpPr>
        <p:spPr>
          <a:xfrm>
            <a:off x="2826360" y="5784840"/>
            <a:ext cx="736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9" name=""/>
          <p:cNvSpPr/>
          <p:nvPr/>
        </p:nvSpPr>
        <p:spPr>
          <a:xfrm>
            <a:off x="4881600" y="4780080"/>
            <a:ext cx="1087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0" name=""/>
          <p:cNvSpPr/>
          <p:nvPr/>
        </p:nvSpPr>
        <p:spPr>
          <a:xfrm>
            <a:off x="7378200" y="3738600"/>
            <a:ext cx="956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HCO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1" name=""/>
          <p:cNvSpPr/>
          <p:nvPr/>
        </p:nvSpPr>
        <p:spPr>
          <a:xfrm>
            <a:off x="7337520" y="5724360"/>
            <a:ext cx="52380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cs-CZ" sz="2400" spc="-1" strike="noStrike" baseline="70000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2" name=""/>
          <p:cNvSpPr/>
          <p:nvPr/>
        </p:nvSpPr>
        <p:spPr>
          <a:xfrm>
            <a:off x="6037200" y="3987720"/>
            <a:ext cx="1155600" cy="1023840"/>
          </a:xfrm>
          <a:custGeom>
            <a:avLst/>
            <a:gdLst/>
            <a:ahLst/>
            <a:rect l="l" t="t" r="r" b="b"/>
            <a:pathLst>
              <a:path w="728" h="645">
                <a:moveTo>
                  <a:pt x="0" y="642"/>
                </a:moveTo>
                <a:lnTo>
                  <a:pt x="351" y="645"/>
                </a:lnTo>
                <a:cubicBezTo>
                  <a:pt x="420" y="628"/>
                  <a:pt x="405" y="630"/>
                  <a:pt x="416" y="538"/>
                </a:cubicBezTo>
                <a:lnTo>
                  <a:pt x="416" y="91"/>
                </a:lnTo>
                <a:cubicBezTo>
                  <a:pt x="429" y="1"/>
                  <a:pt x="445" y="15"/>
                  <a:pt x="497" y="0"/>
                </a:cubicBezTo>
                <a:lnTo>
                  <a:pt x="728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3" name=""/>
          <p:cNvSpPr/>
          <p:nvPr/>
        </p:nvSpPr>
        <p:spPr>
          <a:xfrm>
            <a:off x="5943600" y="5003640"/>
            <a:ext cx="1249200" cy="1024200"/>
          </a:xfrm>
          <a:custGeom>
            <a:avLst/>
            <a:gdLst/>
            <a:ahLst/>
            <a:rect l="l" t="t" r="r" b="b"/>
            <a:pathLst>
              <a:path w="787" h="645">
                <a:moveTo>
                  <a:pt x="0" y="2"/>
                </a:moveTo>
                <a:lnTo>
                  <a:pt x="410" y="0"/>
                </a:lnTo>
                <a:cubicBezTo>
                  <a:pt x="489" y="17"/>
                  <a:pt x="464" y="15"/>
                  <a:pt x="475" y="107"/>
                </a:cubicBezTo>
                <a:lnTo>
                  <a:pt x="475" y="554"/>
                </a:lnTo>
                <a:cubicBezTo>
                  <a:pt x="488" y="644"/>
                  <a:pt x="504" y="630"/>
                  <a:pt x="556" y="645"/>
                </a:cubicBezTo>
                <a:lnTo>
                  <a:pt x="787" y="645"/>
                </a:ln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74" name=""/>
          <p:cNvGrpSpPr/>
          <p:nvPr/>
        </p:nvGrpSpPr>
        <p:grpSpPr>
          <a:xfrm>
            <a:off x="3633840" y="3986280"/>
            <a:ext cx="1130400" cy="2038320"/>
            <a:chOff x="3633840" y="3986280"/>
            <a:chExt cx="1130400" cy="2038320"/>
          </a:xfrm>
        </p:grpSpPr>
        <p:sp>
          <p:nvSpPr>
            <p:cNvPr id="9475" name=""/>
            <p:cNvSpPr/>
            <p:nvPr/>
          </p:nvSpPr>
          <p:spPr>
            <a:xfrm flipH="1">
              <a:off x="3633840" y="3986280"/>
              <a:ext cx="1130400" cy="1023840"/>
            </a:xfrm>
            <a:custGeom>
              <a:avLst/>
              <a:gdLst/>
              <a:ahLst/>
              <a:rect l="l" t="t" r="r" b="b"/>
              <a:pathLst>
                <a:path w="866" h="645">
                  <a:moveTo>
                    <a:pt x="0" y="645"/>
                  </a:moveTo>
                  <a:lnTo>
                    <a:pt x="442" y="645"/>
                  </a:lnTo>
                  <a:cubicBezTo>
                    <a:pt x="528" y="627"/>
                    <a:pt x="503" y="630"/>
                    <a:pt x="515" y="538"/>
                  </a:cubicBezTo>
                  <a:lnTo>
                    <a:pt x="515" y="91"/>
                  </a:lnTo>
                  <a:cubicBezTo>
                    <a:pt x="530" y="1"/>
                    <a:pt x="548" y="15"/>
                    <a:pt x="606" y="0"/>
                  </a:cubicBezTo>
                  <a:lnTo>
                    <a:pt x="866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6" name=""/>
            <p:cNvSpPr/>
            <p:nvPr/>
          </p:nvSpPr>
          <p:spPr>
            <a:xfrm flipH="1" flipV="1">
              <a:off x="3633840" y="5000760"/>
              <a:ext cx="1130400" cy="1023840"/>
            </a:xfrm>
            <a:custGeom>
              <a:avLst/>
              <a:gdLst/>
              <a:ahLst/>
              <a:rect l="l" t="t" r="r" b="b"/>
              <a:pathLst>
                <a:path w="866" h="645">
                  <a:moveTo>
                    <a:pt x="0" y="645"/>
                  </a:moveTo>
                  <a:lnTo>
                    <a:pt x="442" y="645"/>
                  </a:lnTo>
                  <a:cubicBezTo>
                    <a:pt x="528" y="627"/>
                    <a:pt x="503" y="630"/>
                    <a:pt x="515" y="538"/>
                  </a:cubicBezTo>
                  <a:lnTo>
                    <a:pt x="515" y="91"/>
                  </a:lnTo>
                  <a:cubicBezTo>
                    <a:pt x="530" y="1"/>
                    <a:pt x="548" y="15"/>
                    <a:pt x="606" y="0"/>
                  </a:cubicBezTo>
                  <a:lnTo>
                    <a:pt x="866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77" name=""/>
          <p:cNvSpPr/>
          <p:nvPr/>
        </p:nvSpPr>
        <p:spPr>
          <a:xfrm>
            <a:off x="8059680" y="357192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8" name=""/>
          <p:cNvSpPr/>
          <p:nvPr/>
        </p:nvSpPr>
        <p:spPr>
          <a:xfrm>
            <a:off x="7348680" y="3846600"/>
            <a:ext cx="9360" cy="2937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9" name=""/>
          <p:cNvSpPr/>
          <p:nvPr/>
        </p:nvSpPr>
        <p:spPr>
          <a:xfrm>
            <a:off x="4871880" y="4849920"/>
            <a:ext cx="9720" cy="2937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0" name=""/>
          <p:cNvSpPr/>
          <p:nvPr/>
        </p:nvSpPr>
        <p:spPr>
          <a:xfrm>
            <a:off x="2798640" y="3846600"/>
            <a:ext cx="9720" cy="2937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1" name=""/>
          <p:cNvSpPr/>
          <p:nvPr/>
        </p:nvSpPr>
        <p:spPr>
          <a:xfrm>
            <a:off x="7502400" y="1327320"/>
            <a:ext cx="192096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imes New Roman"/>
              </a:rPr>
              <a:t>1. Přidání silné kyseliny ( iontů H</a:t>
            </a:r>
            <a:r>
              <a:rPr b="1" lang="cs-CZ" sz="1400" spc="-1" strike="noStrike" baseline="46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cs-CZ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2" name=""/>
          <p:cNvSpPr/>
          <p:nvPr/>
        </p:nvSpPr>
        <p:spPr>
          <a:xfrm>
            <a:off x="4784760" y="5425920"/>
            <a:ext cx="1909800" cy="9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imes New Roman"/>
              </a:rPr>
              <a:t>3. Ustavení nové rovnováhy se zvýšenou koncentrací CO</a:t>
            </a:r>
            <a:r>
              <a:rPr b="1" lang="cs-CZ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cs-CZ" sz="1400" spc="-1" strike="noStrike">
                <a:solidFill>
                  <a:srgbClr val="000000"/>
                </a:solidFill>
                <a:latin typeface="Times New Roman"/>
              </a:rPr>
              <a:t> a H</a:t>
            </a:r>
            <a:r>
              <a:rPr b="1" lang="cs-CZ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cs-CZ" sz="14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1" lang="cs-CZ" sz="1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3" name=""/>
          <p:cNvSpPr/>
          <p:nvPr/>
        </p:nvSpPr>
        <p:spPr>
          <a:xfrm>
            <a:off x="6802560" y="4471920"/>
            <a:ext cx="2087280" cy="116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1400" spc="-1" strike="noStrike">
                <a:solidFill>
                  <a:srgbClr val="000000"/>
                </a:solidFill>
                <a:latin typeface="Times New Roman"/>
              </a:rPr>
              <a:t>2. Spotřeba bikarbonátů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imes New Roman"/>
              </a:rPr>
              <a:t>a přidaných H</a:t>
            </a:r>
            <a:r>
              <a:rPr b="1" lang="cs-CZ" sz="1400" spc="-1" strike="noStrike" baseline="46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cs-CZ" sz="1400" spc="-1" strike="noStrike">
                <a:solidFill>
                  <a:srgbClr val="000000"/>
                </a:solidFill>
                <a:latin typeface="Times New Roman"/>
              </a:rPr>
              <a:t> iontů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1400" spc="-1" strike="noStrike">
                <a:solidFill>
                  <a:srgbClr val="000000"/>
                </a:solidFill>
                <a:latin typeface="Times New Roman"/>
              </a:rPr>
              <a:t>v pufrační reakci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84" name=""/>
          <p:cNvGrpSpPr/>
          <p:nvPr/>
        </p:nvGrpSpPr>
        <p:grpSpPr>
          <a:xfrm>
            <a:off x="125280" y="0"/>
            <a:ext cx="9090000" cy="6820920"/>
            <a:chOff x="125280" y="0"/>
            <a:chExt cx="9090000" cy="6820920"/>
          </a:xfrm>
        </p:grpSpPr>
        <p:sp>
          <p:nvSpPr>
            <p:cNvPr id="9485" name=""/>
            <p:cNvSpPr/>
            <p:nvPr/>
          </p:nvSpPr>
          <p:spPr>
            <a:xfrm flipH="1">
              <a:off x="1996200" y="804960"/>
              <a:ext cx="72396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6" name=""/>
            <p:cNvSpPr/>
            <p:nvPr/>
          </p:nvSpPr>
          <p:spPr>
            <a:xfrm>
              <a:off x="3076200" y="0"/>
              <a:ext cx="2360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Otevřený systé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7" name=""/>
            <p:cNvSpPr/>
            <p:nvPr/>
          </p:nvSpPr>
          <p:spPr>
            <a:xfrm>
              <a:off x="2692440" y="1004760"/>
              <a:ext cx="920880" cy="851040"/>
            </a:xfrm>
            <a:prstGeom prst="rect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8" name=""/>
            <p:cNvSpPr/>
            <p:nvPr/>
          </p:nvSpPr>
          <p:spPr>
            <a:xfrm>
              <a:off x="4786200" y="1973160"/>
              <a:ext cx="1148040" cy="851040"/>
            </a:xfrm>
            <a:prstGeom prst="rect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9" name=""/>
            <p:cNvSpPr/>
            <p:nvPr/>
          </p:nvSpPr>
          <p:spPr>
            <a:xfrm>
              <a:off x="7210440" y="2795760"/>
              <a:ext cx="576360" cy="833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0" name=""/>
            <p:cNvSpPr/>
            <p:nvPr/>
          </p:nvSpPr>
          <p:spPr>
            <a:xfrm>
              <a:off x="7205760" y="3032280"/>
              <a:ext cx="579240" cy="771480"/>
            </a:xfrm>
            <a:prstGeom prst="rect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1" name=""/>
            <p:cNvSpPr/>
            <p:nvPr/>
          </p:nvSpPr>
          <p:spPr>
            <a:xfrm>
              <a:off x="7205760" y="3197160"/>
              <a:ext cx="579240" cy="63972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2" name=""/>
            <p:cNvSpPr/>
            <p:nvPr/>
          </p:nvSpPr>
          <p:spPr>
            <a:xfrm>
              <a:off x="7219800" y="1065240"/>
              <a:ext cx="1105200" cy="766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3" name=""/>
            <p:cNvSpPr/>
            <p:nvPr/>
          </p:nvSpPr>
          <p:spPr>
            <a:xfrm>
              <a:off x="7219800" y="1276200"/>
              <a:ext cx="1111320" cy="56376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4" name=""/>
            <p:cNvSpPr/>
            <p:nvPr/>
          </p:nvSpPr>
          <p:spPr>
            <a:xfrm>
              <a:off x="4791240" y="2176560"/>
              <a:ext cx="1144440" cy="70776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5" name=""/>
            <p:cNvSpPr/>
            <p:nvPr/>
          </p:nvSpPr>
          <p:spPr>
            <a:xfrm>
              <a:off x="2690640" y="1157400"/>
              <a:ext cx="927360" cy="70632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6" name=""/>
            <p:cNvSpPr/>
            <p:nvPr/>
          </p:nvSpPr>
          <p:spPr>
            <a:xfrm>
              <a:off x="2835720" y="1278000"/>
              <a:ext cx="736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Arial"/>
                </a:rPr>
                <a:t>CO</a:t>
              </a:r>
              <a:r>
                <a:rPr b="1" lang="cs-CZ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7" name=""/>
            <p:cNvSpPr/>
            <p:nvPr/>
          </p:nvSpPr>
          <p:spPr>
            <a:xfrm>
              <a:off x="4890960" y="2319480"/>
              <a:ext cx="1087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cs-CZ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cs-CZ" sz="2400" spc="-1" strike="noStrike">
                  <a:solidFill>
                    <a:srgbClr val="000000"/>
                  </a:solidFill>
                  <a:latin typeface="Arial"/>
                </a:rPr>
                <a:t>CO</a:t>
              </a:r>
              <a:r>
                <a:rPr b="1" lang="cs-CZ" sz="2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8" name=""/>
            <p:cNvSpPr/>
            <p:nvPr/>
          </p:nvSpPr>
          <p:spPr>
            <a:xfrm>
              <a:off x="7387560" y="1278000"/>
              <a:ext cx="956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Arial"/>
                </a:rPr>
                <a:t>HCO</a:t>
              </a:r>
              <a:r>
                <a:rPr b="1" lang="cs-CZ" sz="2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9" name=""/>
            <p:cNvSpPr/>
            <p:nvPr/>
          </p:nvSpPr>
          <p:spPr>
            <a:xfrm>
              <a:off x="6046920" y="1527120"/>
              <a:ext cx="1155600" cy="1023840"/>
            </a:xfrm>
            <a:custGeom>
              <a:avLst/>
              <a:gdLst/>
              <a:ahLst/>
              <a:rect l="l" t="t" r="r" b="b"/>
              <a:pathLst>
                <a:path w="728" h="645">
                  <a:moveTo>
                    <a:pt x="0" y="642"/>
                  </a:moveTo>
                  <a:lnTo>
                    <a:pt x="351" y="645"/>
                  </a:lnTo>
                  <a:cubicBezTo>
                    <a:pt x="420" y="628"/>
                    <a:pt x="405" y="630"/>
                    <a:pt x="416" y="538"/>
                  </a:cubicBezTo>
                  <a:lnTo>
                    <a:pt x="416" y="91"/>
                  </a:lnTo>
                  <a:cubicBezTo>
                    <a:pt x="429" y="1"/>
                    <a:pt x="445" y="15"/>
                    <a:pt x="497" y="0"/>
                  </a:cubicBezTo>
                  <a:lnTo>
                    <a:pt x="728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0" name=""/>
            <p:cNvSpPr/>
            <p:nvPr/>
          </p:nvSpPr>
          <p:spPr>
            <a:xfrm>
              <a:off x="5952960" y="2543040"/>
              <a:ext cx="1249560" cy="1024200"/>
            </a:xfrm>
            <a:custGeom>
              <a:avLst/>
              <a:gdLst/>
              <a:ahLst/>
              <a:rect l="l" t="t" r="r" b="b"/>
              <a:pathLst>
                <a:path w="787" h="645">
                  <a:moveTo>
                    <a:pt x="0" y="2"/>
                  </a:moveTo>
                  <a:lnTo>
                    <a:pt x="410" y="0"/>
                  </a:lnTo>
                  <a:cubicBezTo>
                    <a:pt x="489" y="17"/>
                    <a:pt x="464" y="15"/>
                    <a:pt x="475" y="107"/>
                  </a:cubicBezTo>
                  <a:lnTo>
                    <a:pt x="475" y="554"/>
                  </a:lnTo>
                  <a:cubicBezTo>
                    <a:pt x="488" y="644"/>
                    <a:pt x="504" y="630"/>
                    <a:pt x="556" y="645"/>
                  </a:cubicBezTo>
                  <a:lnTo>
                    <a:pt x="787" y="645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501" name=""/>
            <p:cNvGrpSpPr/>
            <p:nvPr/>
          </p:nvGrpSpPr>
          <p:grpSpPr>
            <a:xfrm>
              <a:off x="3643200" y="1525680"/>
              <a:ext cx="1130400" cy="2038320"/>
              <a:chOff x="3643200" y="1525680"/>
              <a:chExt cx="1130400" cy="2038320"/>
            </a:xfrm>
          </p:grpSpPr>
          <p:sp>
            <p:nvSpPr>
              <p:cNvPr id="9502" name=""/>
              <p:cNvSpPr/>
              <p:nvPr/>
            </p:nvSpPr>
            <p:spPr>
              <a:xfrm flipH="1">
                <a:off x="3643200" y="1525680"/>
                <a:ext cx="1130400" cy="1023840"/>
              </a:xfrm>
              <a:custGeom>
                <a:avLst/>
                <a:gdLst/>
                <a:ahLst/>
                <a:rect l="l" t="t" r="r" b="b"/>
                <a:pathLst>
                  <a:path w="866" h="645">
                    <a:moveTo>
                      <a:pt x="0" y="645"/>
                    </a:moveTo>
                    <a:lnTo>
                      <a:pt x="442" y="645"/>
                    </a:lnTo>
                    <a:cubicBezTo>
                      <a:pt x="528" y="627"/>
                      <a:pt x="503" y="630"/>
                      <a:pt x="515" y="538"/>
                    </a:cubicBezTo>
                    <a:lnTo>
                      <a:pt x="515" y="91"/>
                    </a:lnTo>
                    <a:cubicBezTo>
                      <a:pt x="530" y="1"/>
                      <a:pt x="548" y="15"/>
                      <a:pt x="606" y="0"/>
                    </a:cubicBezTo>
                    <a:lnTo>
                      <a:pt x="866" y="0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3" name=""/>
              <p:cNvSpPr/>
              <p:nvPr/>
            </p:nvSpPr>
            <p:spPr>
              <a:xfrm flipH="1" flipV="1">
                <a:off x="3643200" y="2540160"/>
                <a:ext cx="1130400" cy="1023840"/>
              </a:xfrm>
              <a:custGeom>
                <a:avLst/>
                <a:gdLst/>
                <a:ahLst/>
                <a:rect l="l" t="t" r="r" b="b"/>
                <a:pathLst>
                  <a:path w="866" h="645">
                    <a:moveTo>
                      <a:pt x="0" y="645"/>
                    </a:moveTo>
                    <a:lnTo>
                      <a:pt x="442" y="645"/>
                    </a:lnTo>
                    <a:cubicBezTo>
                      <a:pt x="528" y="627"/>
                      <a:pt x="503" y="630"/>
                      <a:pt x="515" y="538"/>
                    </a:cubicBezTo>
                    <a:lnTo>
                      <a:pt x="515" y="91"/>
                    </a:lnTo>
                    <a:cubicBezTo>
                      <a:pt x="530" y="1"/>
                      <a:pt x="548" y="15"/>
                      <a:pt x="606" y="0"/>
                    </a:cubicBezTo>
                    <a:lnTo>
                      <a:pt x="866" y="0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04" name=""/>
            <p:cNvSpPr/>
            <p:nvPr/>
          </p:nvSpPr>
          <p:spPr>
            <a:xfrm>
              <a:off x="8069040" y="111132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5" name=""/>
            <p:cNvSpPr/>
            <p:nvPr/>
          </p:nvSpPr>
          <p:spPr>
            <a:xfrm>
              <a:off x="7358040" y="1386000"/>
              <a:ext cx="9720" cy="293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6" name=""/>
            <p:cNvSpPr/>
            <p:nvPr/>
          </p:nvSpPr>
          <p:spPr>
            <a:xfrm>
              <a:off x="4881600" y="2389320"/>
              <a:ext cx="9360" cy="293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7" name=""/>
            <p:cNvSpPr/>
            <p:nvPr/>
          </p:nvSpPr>
          <p:spPr>
            <a:xfrm>
              <a:off x="2808360" y="1386000"/>
              <a:ext cx="9360" cy="293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9508" name=""/>
            <p:cNvGraphicFramePr/>
            <p:nvPr/>
          </p:nvGraphicFramePr>
          <p:xfrm>
            <a:off x="1636560" y="101520"/>
            <a:ext cx="1040040" cy="7732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950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636560" y="101520"/>
                      <a:ext cx="1040040" cy="773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510" name=""/>
            <p:cNvSpPr/>
            <p:nvPr/>
          </p:nvSpPr>
          <p:spPr>
            <a:xfrm>
              <a:off x="7207200" y="5673600"/>
              <a:ext cx="568440" cy="833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1" name=""/>
            <p:cNvSpPr/>
            <p:nvPr/>
          </p:nvSpPr>
          <p:spPr>
            <a:xfrm>
              <a:off x="7202520" y="6029280"/>
              <a:ext cx="579240" cy="652680"/>
            </a:xfrm>
            <a:prstGeom prst="rect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2" name=""/>
            <p:cNvSpPr/>
            <p:nvPr/>
          </p:nvSpPr>
          <p:spPr>
            <a:xfrm>
              <a:off x="7202520" y="6075360"/>
              <a:ext cx="579240" cy="60660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3" name=""/>
            <p:cNvSpPr/>
            <p:nvPr/>
          </p:nvSpPr>
          <p:spPr>
            <a:xfrm>
              <a:off x="7210440" y="3943440"/>
              <a:ext cx="1111320" cy="766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4" name=""/>
            <p:cNvSpPr/>
            <p:nvPr/>
          </p:nvSpPr>
          <p:spPr>
            <a:xfrm>
              <a:off x="7218360" y="4268880"/>
              <a:ext cx="1111320" cy="47304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5" name=""/>
            <p:cNvSpPr/>
            <p:nvPr/>
          </p:nvSpPr>
          <p:spPr>
            <a:xfrm>
              <a:off x="4788000" y="5054760"/>
              <a:ext cx="1144440" cy="70776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6" name=""/>
            <p:cNvSpPr/>
            <p:nvPr/>
          </p:nvSpPr>
          <p:spPr>
            <a:xfrm>
              <a:off x="2687760" y="4035600"/>
              <a:ext cx="927000" cy="70632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7" name=""/>
            <p:cNvSpPr/>
            <p:nvPr/>
          </p:nvSpPr>
          <p:spPr>
            <a:xfrm>
              <a:off x="7329600" y="6175440"/>
              <a:ext cx="1440" cy="420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8" name=""/>
            <p:cNvSpPr/>
            <p:nvPr/>
          </p:nvSpPr>
          <p:spPr>
            <a:xfrm>
              <a:off x="2832840" y="4156200"/>
              <a:ext cx="736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Arial"/>
                </a:rPr>
                <a:t>CO</a:t>
              </a:r>
              <a:r>
                <a:rPr b="1" lang="cs-CZ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9" name=""/>
            <p:cNvSpPr/>
            <p:nvPr/>
          </p:nvSpPr>
          <p:spPr>
            <a:xfrm>
              <a:off x="2832840" y="6202440"/>
              <a:ext cx="736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cs-CZ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cs-CZ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0" name=""/>
            <p:cNvSpPr/>
            <p:nvPr/>
          </p:nvSpPr>
          <p:spPr>
            <a:xfrm>
              <a:off x="4888080" y="5197320"/>
              <a:ext cx="1087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cs-CZ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cs-CZ" sz="2400" spc="-1" strike="noStrike">
                  <a:solidFill>
                    <a:srgbClr val="000000"/>
                  </a:solidFill>
                  <a:latin typeface="Arial"/>
                </a:rPr>
                <a:t>CO</a:t>
              </a:r>
              <a:r>
                <a:rPr b="1" lang="cs-CZ" sz="2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1" name=""/>
            <p:cNvSpPr/>
            <p:nvPr/>
          </p:nvSpPr>
          <p:spPr>
            <a:xfrm>
              <a:off x="7386120" y="4284720"/>
              <a:ext cx="956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Arial"/>
                </a:rPr>
                <a:t>HCO</a:t>
              </a:r>
              <a:r>
                <a:rPr b="1" lang="cs-CZ" sz="2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2" name=""/>
            <p:cNvSpPr/>
            <p:nvPr/>
          </p:nvSpPr>
          <p:spPr>
            <a:xfrm>
              <a:off x="7343640" y="6132600"/>
              <a:ext cx="52416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cs-CZ" sz="2400" spc="-1" strike="noStrike" baseline="7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3" name=""/>
            <p:cNvSpPr/>
            <p:nvPr/>
          </p:nvSpPr>
          <p:spPr>
            <a:xfrm>
              <a:off x="6043680" y="4405320"/>
              <a:ext cx="1155600" cy="1023840"/>
            </a:xfrm>
            <a:custGeom>
              <a:avLst/>
              <a:gdLst/>
              <a:ahLst/>
              <a:rect l="l" t="t" r="r" b="b"/>
              <a:pathLst>
                <a:path w="728" h="645">
                  <a:moveTo>
                    <a:pt x="0" y="642"/>
                  </a:moveTo>
                  <a:lnTo>
                    <a:pt x="351" y="645"/>
                  </a:lnTo>
                  <a:cubicBezTo>
                    <a:pt x="420" y="628"/>
                    <a:pt x="405" y="630"/>
                    <a:pt x="416" y="538"/>
                  </a:cubicBezTo>
                  <a:lnTo>
                    <a:pt x="416" y="91"/>
                  </a:lnTo>
                  <a:cubicBezTo>
                    <a:pt x="429" y="1"/>
                    <a:pt x="445" y="15"/>
                    <a:pt x="497" y="0"/>
                  </a:cubicBezTo>
                  <a:lnTo>
                    <a:pt x="728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4" name=""/>
            <p:cNvSpPr/>
            <p:nvPr/>
          </p:nvSpPr>
          <p:spPr>
            <a:xfrm>
              <a:off x="5950080" y="5421240"/>
              <a:ext cx="1249200" cy="1023840"/>
            </a:xfrm>
            <a:custGeom>
              <a:avLst/>
              <a:gdLst/>
              <a:ahLst/>
              <a:rect l="l" t="t" r="r" b="b"/>
              <a:pathLst>
                <a:path w="787" h="645">
                  <a:moveTo>
                    <a:pt x="0" y="2"/>
                  </a:moveTo>
                  <a:lnTo>
                    <a:pt x="410" y="0"/>
                  </a:lnTo>
                  <a:cubicBezTo>
                    <a:pt x="489" y="17"/>
                    <a:pt x="464" y="15"/>
                    <a:pt x="475" y="107"/>
                  </a:cubicBezTo>
                  <a:lnTo>
                    <a:pt x="475" y="554"/>
                  </a:lnTo>
                  <a:cubicBezTo>
                    <a:pt x="488" y="644"/>
                    <a:pt x="504" y="630"/>
                    <a:pt x="556" y="645"/>
                  </a:cubicBezTo>
                  <a:lnTo>
                    <a:pt x="787" y="645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525" name=""/>
            <p:cNvGrpSpPr/>
            <p:nvPr/>
          </p:nvGrpSpPr>
          <p:grpSpPr>
            <a:xfrm>
              <a:off x="3639960" y="4403880"/>
              <a:ext cx="1130400" cy="2038320"/>
              <a:chOff x="3639960" y="4403880"/>
              <a:chExt cx="1130400" cy="2038320"/>
            </a:xfrm>
          </p:grpSpPr>
          <p:sp>
            <p:nvSpPr>
              <p:cNvPr id="9526" name=""/>
              <p:cNvSpPr/>
              <p:nvPr/>
            </p:nvSpPr>
            <p:spPr>
              <a:xfrm flipH="1">
                <a:off x="3639960" y="4403880"/>
                <a:ext cx="1130400" cy="1023840"/>
              </a:xfrm>
              <a:custGeom>
                <a:avLst/>
                <a:gdLst/>
                <a:ahLst/>
                <a:rect l="l" t="t" r="r" b="b"/>
                <a:pathLst>
                  <a:path w="866" h="645">
                    <a:moveTo>
                      <a:pt x="0" y="645"/>
                    </a:moveTo>
                    <a:lnTo>
                      <a:pt x="442" y="645"/>
                    </a:lnTo>
                    <a:cubicBezTo>
                      <a:pt x="528" y="627"/>
                      <a:pt x="503" y="630"/>
                      <a:pt x="515" y="538"/>
                    </a:cubicBezTo>
                    <a:lnTo>
                      <a:pt x="515" y="91"/>
                    </a:lnTo>
                    <a:cubicBezTo>
                      <a:pt x="530" y="1"/>
                      <a:pt x="548" y="15"/>
                      <a:pt x="606" y="0"/>
                    </a:cubicBezTo>
                    <a:lnTo>
                      <a:pt x="866" y="0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27" name=""/>
              <p:cNvSpPr/>
              <p:nvPr/>
            </p:nvSpPr>
            <p:spPr>
              <a:xfrm flipH="1" flipV="1">
                <a:off x="3639960" y="5418360"/>
                <a:ext cx="1130400" cy="1023840"/>
              </a:xfrm>
              <a:custGeom>
                <a:avLst/>
                <a:gdLst/>
                <a:ahLst/>
                <a:rect l="l" t="t" r="r" b="b"/>
                <a:pathLst>
                  <a:path w="866" h="645">
                    <a:moveTo>
                      <a:pt x="0" y="645"/>
                    </a:moveTo>
                    <a:lnTo>
                      <a:pt x="442" y="645"/>
                    </a:lnTo>
                    <a:cubicBezTo>
                      <a:pt x="528" y="627"/>
                      <a:pt x="503" y="630"/>
                      <a:pt x="515" y="538"/>
                    </a:cubicBezTo>
                    <a:lnTo>
                      <a:pt x="515" y="91"/>
                    </a:lnTo>
                    <a:cubicBezTo>
                      <a:pt x="530" y="1"/>
                      <a:pt x="548" y="15"/>
                      <a:pt x="606" y="0"/>
                    </a:cubicBezTo>
                    <a:lnTo>
                      <a:pt x="866" y="0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28" name=""/>
            <p:cNvSpPr/>
            <p:nvPr/>
          </p:nvSpPr>
          <p:spPr>
            <a:xfrm>
              <a:off x="8067600" y="406872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9" name=""/>
            <p:cNvSpPr/>
            <p:nvPr/>
          </p:nvSpPr>
          <p:spPr>
            <a:xfrm>
              <a:off x="7373880" y="4311720"/>
              <a:ext cx="1800" cy="385560"/>
            </a:xfrm>
            <a:custGeom>
              <a:avLst/>
              <a:gdLst/>
              <a:ahLst/>
              <a:rect l="l" t="t" r="r" b="b"/>
              <a:pathLst>
                <a:path w="1" h="243">
                  <a:moveTo>
                    <a:pt x="0" y="0"/>
                  </a:moveTo>
                  <a:lnTo>
                    <a:pt x="0" y="243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0" name=""/>
            <p:cNvSpPr/>
            <p:nvPr/>
          </p:nvSpPr>
          <p:spPr>
            <a:xfrm>
              <a:off x="7297560" y="3349800"/>
              <a:ext cx="9720" cy="293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1" name=""/>
            <p:cNvSpPr/>
            <p:nvPr/>
          </p:nvSpPr>
          <p:spPr>
            <a:xfrm>
              <a:off x="2800800" y="3333600"/>
              <a:ext cx="736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cs-CZ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cs-CZ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2" name=""/>
            <p:cNvSpPr/>
            <p:nvPr/>
          </p:nvSpPr>
          <p:spPr>
            <a:xfrm>
              <a:off x="7311960" y="3273480"/>
              <a:ext cx="52380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cs-CZ" sz="2400" spc="-1" strike="noStrike" baseline="7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9533" name=""/>
            <p:cNvGraphicFramePr/>
            <p:nvPr/>
          </p:nvGraphicFramePr>
          <p:xfrm>
            <a:off x="1612800" y="3192480"/>
            <a:ext cx="1040040" cy="7729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9534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612800" y="3192480"/>
                      <a:ext cx="1040040" cy="772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535" name=""/>
            <p:cNvSpPr/>
            <p:nvPr/>
          </p:nvSpPr>
          <p:spPr>
            <a:xfrm>
              <a:off x="4724280" y="4125960"/>
              <a:ext cx="1909800" cy="11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400" spc="-1" strike="noStrike">
                  <a:solidFill>
                    <a:srgbClr val="000000"/>
                  </a:solidFill>
                  <a:latin typeface="Times New Roman"/>
                </a:rPr>
                <a:t>5. Zvýšená hladina H</a:t>
              </a:r>
              <a:r>
                <a:rPr b="1" lang="cs-CZ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cs-CZ" sz="1400" spc="-1" strike="noStrike">
                  <a:solidFill>
                    <a:srgbClr val="000000"/>
                  </a:solidFill>
                  <a:latin typeface="Times New Roman"/>
                </a:rPr>
                <a:t>CO</a:t>
              </a:r>
              <a:r>
                <a:rPr b="1" lang="cs-CZ" sz="1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1" lang="cs-CZ" sz="1400" spc="-1" strike="noStrike">
                  <a:solidFill>
                    <a:srgbClr val="000000"/>
                  </a:solidFill>
                  <a:latin typeface="Times New Roman"/>
                </a:rPr>
                <a:t> se snížila na původní hodnotu -  posun rovnováhy dolev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6" name=""/>
            <p:cNvSpPr/>
            <p:nvPr/>
          </p:nvSpPr>
          <p:spPr>
            <a:xfrm>
              <a:off x="125280" y="833400"/>
              <a:ext cx="1909800" cy="234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400" spc="-1" strike="noStrike">
                  <a:solidFill>
                    <a:srgbClr val="000000"/>
                  </a:solidFill>
                  <a:latin typeface="Times New Roman"/>
                </a:rPr>
                <a:t>4. Odstranění CO</a:t>
              </a:r>
              <a:r>
                <a:rPr b="1" lang="cs-CZ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cs-CZ" sz="1400" spc="-1" strike="noStrike">
                  <a:solidFill>
                    <a:srgbClr val="000000"/>
                  </a:solidFill>
                  <a:latin typeface="Times New Roman"/>
                </a:rPr>
                <a:t> a H</a:t>
              </a:r>
              <a:r>
                <a:rPr b="1" lang="cs-CZ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cs-CZ" sz="1400" spc="-1" strike="noStrike">
                  <a:solidFill>
                    <a:srgbClr val="000000"/>
                  </a:solidFill>
                  <a:latin typeface="Times New Roman"/>
                </a:rPr>
                <a:t>CO</a:t>
              </a:r>
              <a:r>
                <a:rPr b="1" lang="cs-CZ" sz="1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1" lang="cs-CZ" sz="1400" spc="-1" strike="noStrike">
                  <a:solidFill>
                    <a:srgbClr val="000000"/>
                  </a:solidFill>
                  <a:latin typeface="Times New Roman"/>
                </a:rPr>
                <a:t> vzniklých v důsledku pufrační reakce protože respirační systém udržuje hladinu CO</a:t>
              </a:r>
              <a:r>
                <a:rPr b="1" lang="cs-CZ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cs-CZ" sz="1400" spc="-1" strike="noStrike">
                  <a:solidFill>
                    <a:srgbClr val="000000"/>
                  </a:solidFill>
                  <a:latin typeface="Times New Roman"/>
                </a:rPr>
                <a:t> a H</a:t>
              </a:r>
              <a:r>
                <a:rPr b="1" lang="cs-CZ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cs-CZ" sz="1400" spc="-1" strike="noStrike">
                  <a:solidFill>
                    <a:srgbClr val="000000"/>
                  </a:solidFill>
                  <a:latin typeface="Times New Roman"/>
                </a:rPr>
                <a:t>CO</a:t>
              </a:r>
              <a:r>
                <a:rPr b="1" lang="cs-CZ" sz="1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1" lang="cs-CZ" sz="1400" spc="-1" strike="noStrike">
                  <a:solidFill>
                    <a:srgbClr val="000000"/>
                  </a:solidFill>
                  <a:latin typeface="Times New Roman"/>
                </a:rPr>
                <a:t> na konstantní úrovni (v závislosti na hodnotě alveolární ventilace)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7" name=""/>
            <p:cNvSpPr/>
            <p:nvPr/>
          </p:nvSpPr>
          <p:spPr>
            <a:xfrm>
              <a:off x="6769080" y="4759200"/>
              <a:ext cx="2090880" cy="95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1400" spc="-1" strike="noStrike">
                  <a:solidFill>
                    <a:srgbClr val="000000"/>
                  </a:solidFill>
                  <a:latin typeface="Times New Roman"/>
                </a:rPr>
                <a:t>6. Další spotřeba bikarbonátů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400" spc="-1" strike="noStrike">
                  <a:solidFill>
                    <a:srgbClr val="000000"/>
                  </a:solidFill>
                  <a:latin typeface="Times New Roman"/>
                </a:rPr>
                <a:t>a iontů H</a:t>
              </a:r>
              <a:r>
                <a:rPr b="1" lang="cs-CZ" sz="1400" spc="-1" strike="noStrike" baseline="46000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lang="cs-CZ" sz="1400" spc="-1" strike="noStrike">
                  <a:solidFill>
                    <a:srgbClr val="000000"/>
                  </a:solidFill>
                  <a:latin typeface="Times New Roman"/>
                </a:rPr>
                <a:t> v pufrační reakc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8" name=""/>
            <p:cNvSpPr/>
            <p:nvPr/>
          </p:nvSpPr>
          <p:spPr>
            <a:xfrm>
              <a:off x="7775640" y="5654520"/>
              <a:ext cx="1439640" cy="116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400" spc="-1" strike="noStrike">
                  <a:solidFill>
                    <a:srgbClr val="000000"/>
                  </a:solidFill>
                  <a:latin typeface="Times New Roman"/>
                </a:rPr>
                <a:t>7. Rovnovážná koncentrace H</a:t>
              </a:r>
              <a:r>
                <a:rPr b="1" lang="cs-CZ" sz="1400" spc="-1" strike="noStrike" baseline="46000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lang="cs-CZ" sz="1400" spc="-1" strike="noStrike">
                  <a:solidFill>
                    <a:srgbClr val="000000"/>
                  </a:solidFill>
                  <a:latin typeface="Times New Roman"/>
                </a:rPr>
                <a:t> iontů se dále sníží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9" name=""/>
            <p:cNvSpPr/>
            <p:nvPr/>
          </p:nvSpPr>
          <p:spPr>
            <a:xfrm flipH="1" flipV="1" rot="5400000">
              <a:off x="2218320" y="681840"/>
              <a:ext cx="486000" cy="465120"/>
            </a:xfrm>
            <a:custGeom>
              <a:avLst/>
              <a:gdLst>
                <a:gd name="textAreaLeft" fmla="*/ 360 w 486000"/>
                <a:gd name="textAreaRight" fmla="*/ 486720 w 486000"/>
                <a:gd name="textAreaTop" fmla="*/ 360 h 465120"/>
                <a:gd name="textAreaBottom" fmla="*/ 465840 h 46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260" stAng="10800000" swAng="5400000"/>
                  <a:lnTo>
                    <a:pt x="15100" y="2900"/>
                  </a:lnTo>
                  <a:lnTo>
                    <a:pt x="15100" y="0"/>
                  </a:lnTo>
                  <a:lnTo>
                    <a:pt x="21600" y="6079"/>
                  </a:lnTo>
                  <a:lnTo>
                    <a:pt x="15100" y="12158"/>
                  </a:lnTo>
                  <a:lnTo>
                    <a:pt x="15100" y="9258"/>
                  </a:lnTo>
                  <a:lnTo>
                    <a:pt x="12427" y="9258"/>
                  </a:lnTo>
                  <a:arcTo wR="6069" hR="2902" stAng="16200000" swAng="-5400000"/>
                  <a:lnTo>
                    <a:pt x="6358" y="21600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0" name=""/>
            <p:cNvSpPr/>
            <p:nvPr/>
          </p:nvSpPr>
          <p:spPr>
            <a:xfrm>
              <a:off x="2222640" y="1441440"/>
              <a:ext cx="471240" cy="142920"/>
            </a:xfrm>
            <a:prstGeom prst="leftRightArrow">
              <a:avLst>
                <a:gd name="adj1" fmla="val 50000"/>
                <a:gd name="adj2" fmla="val 65639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1" name=""/>
            <p:cNvSpPr/>
            <p:nvPr/>
          </p:nvSpPr>
          <p:spPr>
            <a:xfrm>
              <a:off x="2016000" y="671400"/>
              <a:ext cx="271440" cy="1494000"/>
            </a:xfrm>
            <a:prstGeom prst="upArrow">
              <a:avLst>
                <a:gd name="adj1" fmla="val 50000"/>
                <a:gd name="adj2" fmla="val 137599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2" name=""/>
            <p:cNvSpPr/>
            <p:nvPr/>
          </p:nvSpPr>
          <p:spPr>
            <a:xfrm>
              <a:off x="2205000" y="4349880"/>
              <a:ext cx="471600" cy="142920"/>
            </a:xfrm>
            <a:prstGeom prst="leftRightArrow">
              <a:avLst>
                <a:gd name="adj1" fmla="val 50000"/>
                <a:gd name="adj2" fmla="val 65689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3" name=""/>
            <p:cNvSpPr/>
            <p:nvPr/>
          </p:nvSpPr>
          <p:spPr>
            <a:xfrm>
              <a:off x="1998720" y="3708360"/>
              <a:ext cx="271440" cy="1494000"/>
            </a:xfrm>
            <a:prstGeom prst="upArrow">
              <a:avLst>
                <a:gd name="adj1" fmla="val 50000"/>
                <a:gd name="adj2" fmla="val 137599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4" name=""/>
            <p:cNvSpPr/>
            <p:nvPr/>
          </p:nvSpPr>
          <p:spPr>
            <a:xfrm>
              <a:off x="4416480" y="6029280"/>
              <a:ext cx="23526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Závěr: </a:t>
              </a:r>
              <a:r>
                <a:rPr b="1" lang="cs-CZ" sz="1400" spc="-1" strike="noStrike">
                  <a:solidFill>
                    <a:srgbClr val="000000"/>
                  </a:solidFill>
                  <a:latin typeface="Times New Roman"/>
                </a:rPr>
                <a:t> pufrační systém pracuje efektivněj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5" name=""/>
            <p:cNvSpPr/>
            <p:nvPr/>
          </p:nvSpPr>
          <p:spPr>
            <a:xfrm>
              <a:off x="3086280" y="457200"/>
              <a:ext cx="2960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400" spc="-1" strike="noStrike">
                  <a:solidFill>
                    <a:srgbClr val="000000"/>
                  </a:solidFill>
                  <a:latin typeface="Times New Roman"/>
                </a:rPr>
                <a:t>(body 1. - 3. viz předchozí obrázek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6" name=""/>
            <p:cNvSpPr/>
            <p:nvPr/>
          </p:nvSpPr>
          <p:spPr>
            <a:xfrm>
              <a:off x="3635280" y="1035000"/>
              <a:ext cx="1119240" cy="1073160"/>
            </a:xfrm>
            <a:custGeom>
              <a:avLst/>
              <a:gdLst/>
              <a:ahLst/>
              <a:rect l="l" t="t" r="r" b="b"/>
              <a:pathLst>
                <a:path w="705" h="676">
                  <a:moveTo>
                    <a:pt x="705" y="658"/>
                  </a:moveTo>
                  <a:cubicBezTo>
                    <a:pt x="659" y="645"/>
                    <a:pt x="490" y="676"/>
                    <a:pt x="435" y="581"/>
                  </a:cubicBezTo>
                  <a:cubicBezTo>
                    <a:pt x="380" y="486"/>
                    <a:pt x="446" y="182"/>
                    <a:pt x="374" y="91"/>
                  </a:cubicBezTo>
                  <a:cubicBezTo>
                    <a:pt x="302" y="0"/>
                    <a:pt x="78" y="47"/>
                    <a:pt x="0" y="36"/>
                  </a:cubicBezTo>
                </a:path>
              </a:pathLst>
            </a:custGeom>
            <a:noFill/>
            <a:ln w="76320">
              <a:solidFill>
                <a:srgbClr val="ff3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47" name=""/>
          <p:cNvGrpSpPr/>
          <p:nvPr/>
        </p:nvGrpSpPr>
        <p:grpSpPr>
          <a:xfrm>
            <a:off x="167760" y="47520"/>
            <a:ext cx="8976240" cy="4089600"/>
            <a:chOff x="167760" y="47520"/>
            <a:chExt cx="8976240" cy="4089600"/>
          </a:xfrm>
        </p:grpSpPr>
        <p:sp>
          <p:nvSpPr>
            <p:cNvPr id="9548" name=""/>
            <p:cNvSpPr/>
            <p:nvPr/>
          </p:nvSpPr>
          <p:spPr>
            <a:xfrm>
              <a:off x="5392800" y="3108240"/>
              <a:ext cx="1114200" cy="368280"/>
            </a:xfrm>
            <a:prstGeom prst="rect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9" name=""/>
            <p:cNvSpPr/>
            <p:nvPr/>
          </p:nvSpPr>
          <p:spPr>
            <a:xfrm>
              <a:off x="5410080" y="965160"/>
              <a:ext cx="1114560" cy="1073160"/>
            </a:xfrm>
            <a:prstGeom prst="rect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0" name=""/>
            <p:cNvSpPr/>
            <p:nvPr/>
          </p:nvSpPr>
          <p:spPr>
            <a:xfrm>
              <a:off x="2981160" y="2104920"/>
              <a:ext cx="1149480" cy="1003320"/>
            </a:xfrm>
            <a:prstGeom prst="rect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1" name=""/>
            <p:cNvSpPr/>
            <p:nvPr/>
          </p:nvSpPr>
          <p:spPr>
            <a:xfrm>
              <a:off x="880920" y="1073160"/>
              <a:ext cx="930240" cy="1031760"/>
            </a:xfrm>
            <a:prstGeom prst="rect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2" name=""/>
            <p:cNvSpPr/>
            <p:nvPr/>
          </p:nvSpPr>
          <p:spPr>
            <a:xfrm>
              <a:off x="5413320" y="1333440"/>
              <a:ext cx="1111320" cy="75888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3" name=""/>
            <p:cNvSpPr/>
            <p:nvPr/>
          </p:nvSpPr>
          <p:spPr>
            <a:xfrm>
              <a:off x="2984400" y="2428920"/>
              <a:ext cx="1144800" cy="70812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4" name=""/>
            <p:cNvSpPr/>
            <p:nvPr/>
          </p:nvSpPr>
          <p:spPr>
            <a:xfrm>
              <a:off x="884160" y="1409760"/>
              <a:ext cx="927000" cy="70632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5" name=""/>
            <p:cNvSpPr/>
            <p:nvPr/>
          </p:nvSpPr>
          <p:spPr>
            <a:xfrm>
              <a:off x="1046880" y="1555920"/>
              <a:ext cx="736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Arial"/>
                </a:rPr>
                <a:t>CO</a:t>
              </a:r>
              <a:r>
                <a:rPr b="1" lang="cs-CZ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6" name=""/>
            <p:cNvSpPr/>
            <p:nvPr/>
          </p:nvSpPr>
          <p:spPr>
            <a:xfrm>
              <a:off x="1029240" y="3576600"/>
              <a:ext cx="736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cs-CZ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cs-CZ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7" name=""/>
            <p:cNvSpPr/>
            <p:nvPr/>
          </p:nvSpPr>
          <p:spPr>
            <a:xfrm>
              <a:off x="3143160" y="2589120"/>
              <a:ext cx="1055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cs-CZ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cs-CZ" sz="2400" spc="-1" strike="noStrike">
                  <a:solidFill>
                    <a:srgbClr val="000000"/>
                  </a:solidFill>
                  <a:latin typeface="Arial"/>
                </a:rPr>
                <a:t>CO</a:t>
              </a:r>
              <a:r>
                <a:rPr b="1" lang="cs-CZ" sz="2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8" name=""/>
            <p:cNvSpPr/>
            <p:nvPr/>
          </p:nvSpPr>
          <p:spPr>
            <a:xfrm>
              <a:off x="5581080" y="1530360"/>
              <a:ext cx="956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Arial"/>
                </a:rPr>
                <a:t>HCO</a:t>
              </a:r>
              <a:r>
                <a:rPr b="1" lang="cs-CZ" sz="2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9" name=""/>
            <p:cNvSpPr/>
            <p:nvPr/>
          </p:nvSpPr>
          <p:spPr>
            <a:xfrm>
              <a:off x="4240080" y="1779480"/>
              <a:ext cx="1155960" cy="1024200"/>
            </a:xfrm>
            <a:custGeom>
              <a:avLst/>
              <a:gdLst/>
              <a:ahLst/>
              <a:rect l="l" t="t" r="r" b="b"/>
              <a:pathLst>
                <a:path w="728" h="645">
                  <a:moveTo>
                    <a:pt x="0" y="642"/>
                  </a:moveTo>
                  <a:lnTo>
                    <a:pt x="351" y="645"/>
                  </a:lnTo>
                  <a:cubicBezTo>
                    <a:pt x="420" y="628"/>
                    <a:pt x="405" y="630"/>
                    <a:pt x="416" y="538"/>
                  </a:cubicBezTo>
                  <a:lnTo>
                    <a:pt x="416" y="91"/>
                  </a:lnTo>
                  <a:cubicBezTo>
                    <a:pt x="429" y="1"/>
                    <a:pt x="445" y="15"/>
                    <a:pt x="497" y="0"/>
                  </a:cubicBezTo>
                  <a:lnTo>
                    <a:pt x="728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0" name=""/>
            <p:cNvSpPr/>
            <p:nvPr/>
          </p:nvSpPr>
          <p:spPr>
            <a:xfrm>
              <a:off x="4146480" y="2795760"/>
              <a:ext cx="1249560" cy="1023840"/>
            </a:xfrm>
            <a:custGeom>
              <a:avLst/>
              <a:gdLst/>
              <a:ahLst/>
              <a:rect l="l" t="t" r="r" b="b"/>
              <a:pathLst>
                <a:path w="787" h="645">
                  <a:moveTo>
                    <a:pt x="0" y="2"/>
                  </a:moveTo>
                  <a:lnTo>
                    <a:pt x="410" y="0"/>
                  </a:lnTo>
                  <a:cubicBezTo>
                    <a:pt x="489" y="17"/>
                    <a:pt x="464" y="15"/>
                    <a:pt x="475" y="107"/>
                  </a:cubicBezTo>
                  <a:lnTo>
                    <a:pt x="475" y="554"/>
                  </a:lnTo>
                  <a:cubicBezTo>
                    <a:pt x="488" y="644"/>
                    <a:pt x="504" y="630"/>
                    <a:pt x="556" y="645"/>
                  </a:cubicBezTo>
                  <a:lnTo>
                    <a:pt x="787" y="645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561" name=""/>
            <p:cNvGrpSpPr/>
            <p:nvPr/>
          </p:nvGrpSpPr>
          <p:grpSpPr>
            <a:xfrm>
              <a:off x="1836720" y="1778040"/>
              <a:ext cx="1130400" cy="2038320"/>
              <a:chOff x="1836720" y="1778040"/>
              <a:chExt cx="1130400" cy="2038320"/>
            </a:xfrm>
          </p:grpSpPr>
          <p:sp>
            <p:nvSpPr>
              <p:cNvPr id="9562" name=""/>
              <p:cNvSpPr/>
              <p:nvPr/>
            </p:nvSpPr>
            <p:spPr>
              <a:xfrm flipH="1">
                <a:off x="1836720" y="1778040"/>
                <a:ext cx="1130400" cy="1023840"/>
              </a:xfrm>
              <a:custGeom>
                <a:avLst/>
                <a:gdLst/>
                <a:ahLst/>
                <a:rect l="l" t="t" r="r" b="b"/>
                <a:pathLst>
                  <a:path w="866" h="645">
                    <a:moveTo>
                      <a:pt x="0" y="645"/>
                    </a:moveTo>
                    <a:lnTo>
                      <a:pt x="442" y="645"/>
                    </a:lnTo>
                    <a:cubicBezTo>
                      <a:pt x="528" y="627"/>
                      <a:pt x="503" y="630"/>
                      <a:pt x="515" y="538"/>
                    </a:cubicBezTo>
                    <a:lnTo>
                      <a:pt x="515" y="91"/>
                    </a:lnTo>
                    <a:cubicBezTo>
                      <a:pt x="530" y="1"/>
                      <a:pt x="548" y="15"/>
                      <a:pt x="606" y="0"/>
                    </a:cubicBezTo>
                    <a:lnTo>
                      <a:pt x="866" y="0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3" name=""/>
              <p:cNvSpPr/>
              <p:nvPr/>
            </p:nvSpPr>
            <p:spPr>
              <a:xfrm flipH="1" flipV="1">
                <a:off x="1836720" y="2792520"/>
                <a:ext cx="1130400" cy="1023840"/>
              </a:xfrm>
              <a:custGeom>
                <a:avLst/>
                <a:gdLst/>
                <a:ahLst/>
                <a:rect l="l" t="t" r="r" b="b"/>
                <a:pathLst>
                  <a:path w="866" h="645">
                    <a:moveTo>
                      <a:pt x="0" y="645"/>
                    </a:moveTo>
                    <a:lnTo>
                      <a:pt x="442" y="645"/>
                    </a:lnTo>
                    <a:cubicBezTo>
                      <a:pt x="528" y="627"/>
                      <a:pt x="503" y="630"/>
                      <a:pt x="515" y="538"/>
                    </a:cubicBezTo>
                    <a:lnTo>
                      <a:pt x="515" y="91"/>
                    </a:lnTo>
                    <a:cubicBezTo>
                      <a:pt x="530" y="1"/>
                      <a:pt x="548" y="15"/>
                      <a:pt x="606" y="0"/>
                    </a:cubicBezTo>
                    <a:lnTo>
                      <a:pt x="866" y="0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64" name=""/>
            <p:cNvSpPr/>
            <p:nvPr/>
          </p:nvSpPr>
          <p:spPr>
            <a:xfrm flipH="1">
              <a:off x="167400" y="1484280"/>
              <a:ext cx="72396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565" name=""/>
            <p:cNvGrpSpPr/>
            <p:nvPr/>
          </p:nvGrpSpPr>
          <p:grpSpPr>
            <a:xfrm>
              <a:off x="1028880" y="47520"/>
              <a:ext cx="560160" cy="917640"/>
              <a:chOff x="1028880" y="47520"/>
              <a:chExt cx="560160" cy="917640"/>
            </a:xfrm>
          </p:grpSpPr>
          <p:sp>
            <p:nvSpPr>
              <p:cNvPr id="9566" name=""/>
              <p:cNvSpPr/>
              <p:nvPr/>
            </p:nvSpPr>
            <p:spPr>
              <a:xfrm>
                <a:off x="1033200" y="117360"/>
                <a:ext cx="550800" cy="630360"/>
              </a:xfrm>
              <a:custGeom>
                <a:avLst/>
                <a:gdLst/>
                <a:ahLst/>
                <a:rect l="l" t="t" r="r" b="b"/>
                <a:pathLst>
                  <a:path w="2256" h="2295">
                    <a:moveTo>
                      <a:pt x="0" y="0"/>
                    </a:moveTo>
                    <a:lnTo>
                      <a:pt x="939" y="1180"/>
                    </a:lnTo>
                    <a:lnTo>
                      <a:pt x="980" y="2175"/>
                    </a:lnTo>
                    <a:lnTo>
                      <a:pt x="983" y="2202"/>
                    </a:lnTo>
                    <a:lnTo>
                      <a:pt x="991" y="2221"/>
                    </a:lnTo>
                    <a:lnTo>
                      <a:pt x="1000" y="2235"/>
                    </a:lnTo>
                    <a:lnTo>
                      <a:pt x="1010" y="2246"/>
                    </a:lnTo>
                    <a:lnTo>
                      <a:pt x="1024" y="2260"/>
                    </a:lnTo>
                    <a:lnTo>
                      <a:pt x="1038" y="2268"/>
                    </a:lnTo>
                    <a:lnTo>
                      <a:pt x="1060" y="2281"/>
                    </a:lnTo>
                    <a:lnTo>
                      <a:pt x="1083" y="2287"/>
                    </a:lnTo>
                    <a:lnTo>
                      <a:pt x="1111" y="2293"/>
                    </a:lnTo>
                    <a:lnTo>
                      <a:pt x="1128" y="2295"/>
                    </a:lnTo>
                    <a:lnTo>
                      <a:pt x="1145" y="2295"/>
                    </a:lnTo>
                    <a:lnTo>
                      <a:pt x="1163" y="2292"/>
                    </a:lnTo>
                    <a:lnTo>
                      <a:pt x="1183" y="2286"/>
                    </a:lnTo>
                    <a:lnTo>
                      <a:pt x="1202" y="2279"/>
                    </a:lnTo>
                    <a:lnTo>
                      <a:pt x="1221" y="2268"/>
                    </a:lnTo>
                    <a:lnTo>
                      <a:pt x="1235" y="2259"/>
                    </a:lnTo>
                    <a:lnTo>
                      <a:pt x="1251" y="2243"/>
                    </a:lnTo>
                    <a:lnTo>
                      <a:pt x="1262" y="2227"/>
                    </a:lnTo>
                    <a:lnTo>
                      <a:pt x="1273" y="2203"/>
                    </a:lnTo>
                    <a:lnTo>
                      <a:pt x="1276" y="2181"/>
                    </a:lnTo>
                    <a:lnTo>
                      <a:pt x="1336" y="1161"/>
                    </a:lnTo>
                    <a:lnTo>
                      <a:pt x="225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7" name=""/>
              <p:cNvSpPr/>
              <p:nvPr/>
            </p:nvSpPr>
            <p:spPr>
              <a:xfrm>
                <a:off x="1028880" y="47520"/>
                <a:ext cx="560160" cy="119160"/>
              </a:xfrm>
              <a:prstGeom prst="ellipse">
                <a:avLst/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8" name=""/>
              <p:cNvSpPr/>
              <p:nvPr/>
            </p:nvSpPr>
            <p:spPr>
              <a:xfrm>
                <a:off x="1073160" y="135000"/>
                <a:ext cx="475920" cy="593640"/>
              </a:xfrm>
              <a:custGeom>
                <a:avLst/>
                <a:gdLst/>
                <a:ahLst/>
                <a:rect l="l" t="t" r="r" b="b"/>
                <a:pathLst>
                  <a:path w="1956" h="2159">
                    <a:moveTo>
                      <a:pt x="0" y="19"/>
                    </a:moveTo>
                    <a:lnTo>
                      <a:pt x="857" y="1063"/>
                    </a:lnTo>
                    <a:lnTo>
                      <a:pt x="879" y="2090"/>
                    </a:lnTo>
                    <a:lnTo>
                      <a:pt x="887" y="2107"/>
                    </a:lnTo>
                    <a:lnTo>
                      <a:pt x="897" y="2123"/>
                    </a:lnTo>
                    <a:lnTo>
                      <a:pt x="906" y="2137"/>
                    </a:lnTo>
                    <a:lnTo>
                      <a:pt x="922" y="2147"/>
                    </a:lnTo>
                    <a:lnTo>
                      <a:pt x="939" y="2156"/>
                    </a:lnTo>
                    <a:lnTo>
                      <a:pt x="962" y="2159"/>
                    </a:lnTo>
                    <a:lnTo>
                      <a:pt x="983" y="2157"/>
                    </a:lnTo>
                    <a:lnTo>
                      <a:pt x="1005" y="2153"/>
                    </a:lnTo>
                    <a:lnTo>
                      <a:pt x="1026" y="2140"/>
                    </a:lnTo>
                    <a:lnTo>
                      <a:pt x="1040" y="2123"/>
                    </a:lnTo>
                    <a:lnTo>
                      <a:pt x="1048" y="2109"/>
                    </a:lnTo>
                    <a:lnTo>
                      <a:pt x="1056" y="2088"/>
                    </a:lnTo>
                    <a:lnTo>
                      <a:pt x="1100" y="1045"/>
                    </a:lnTo>
                    <a:lnTo>
                      <a:pt x="1956" y="0"/>
                    </a:lnTo>
                    <a:lnTo>
                      <a:pt x="1790" y="41"/>
                    </a:lnTo>
                    <a:lnTo>
                      <a:pt x="1531" y="77"/>
                    </a:lnTo>
                    <a:lnTo>
                      <a:pt x="1247" y="98"/>
                    </a:lnTo>
                    <a:lnTo>
                      <a:pt x="962" y="109"/>
                    </a:lnTo>
                    <a:lnTo>
                      <a:pt x="662" y="98"/>
                    </a:lnTo>
                    <a:lnTo>
                      <a:pt x="398" y="77"/>
                    </a:lnTo>
                    <a:lnTo>
                      <a:pt x="178" y="52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9" name=""/>
              <p:cNvSpPr/>
              <p:nvPr/>
            </p:nvSpPr>
            <p:spPr>
              <a:xfrm>
                <a:off x="1153800" y="255600"/>
                <a:ext cx="307800" cy="474840"/>
              </a:xfrm>
              <a:custGeom>
                <a:avLst/>
                <a:gdLst/>
                <a:ahLst/>
                <a:rect l="l" t="t" r="r" b="b"/>
                <a:pathLst>
                  <a:path w="1264" h="1728">
                    <a:moveTo>
                      <a:pt x="0" y="0"/>
                    </a:moveTo>
                    <a:lnTo>
                      <a:pt x="520" y="624"/>
                    </a:lnTo>
                    <a:lnTo>
                      <a:pt x="531" y="1657"/>
                    </a:lnTo>
                    <a:lnTo>
                      <a:pt x="541" y="1674"/>
                    </a:lnTo>
                    <a:lnTo>
                      <a:pt x="553" y="1688"/>
                    </a:lnTo>
                    <a:lnTo>
                      <a:pt x="564" y="1701"/>
                    </a:lnTo>
                    <a:lnTo>
                      <a:pt x="580" y="1715"/>
                    </a:lnTo>
                    <a:lnTo>
                      <a:pt x="608" y="1723"/>
                    </a:lnTo>
                    <a:lnTo>
                      <a:pt x="632" y="1728"/>
                    </a:lnTo>
                    <a:lnTo>
                      <a:pt x="651" y="1725"/>
                    </a:lnTo>
                    <a:lnTo>
                      <a:pt x="673" y="1720"/>
                    </a:lnTo>
                    <a:lnTo>
                      <a:pt x="694" y="1709"/>
                    </a:lnTo>
                    <a:lnTo>
                      <a:pt x="711" y="1692"/>
                    </a:lnTo>
                    <a:lnTo>
                      <a:pt x="723" y="1669"/>
                    </a:lnTo>
                    <a:lnTo>
                      <a:pt x="730" y="1657"/>
                    </a:lnTo>
                    <a:lnTo>
                      <a:pt x="761" y="605"/>
                    </a:lnTo>
                    <a:lnTo>
                      <a:pt x="126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0" name=""/>
              <p:cNvSpPr/>
              <p:nvPr/>
            </p:nvSpPr>
            <p:spPr>
              <a:xfrm>
                <a:off x="1284120" y="755640"/>
                <a:ext cx="48960" cy="101520"/>
              </a:xfrm>
              <a:custGeom>
                <a:avLst/>
                <a:gdLst/>
                <a:ahLst/>
                <a:rect l="l" t="t" r="r" b="b"/>
                <a:pathLst>
                  <a:path w="196" h="370">
                    <a:moveTo>
                      <a:pt x="95" y="0"/>
                    </a:moveTo>
                    <a:lnTo>
                      <a:pt x="105" y="58"/>
                    </a:lnTo>
                    <a:lnTo>
                      <a:pt x="111" y="87"/>
                    </a:lnTo>
                    <a:lnTo>
                      <a:pt x="121" y="121"/>
                    </a:lnTo>
                    <a:lnTo>
                      <a:pt x="132" y="141"/>
                    </a:lnTo>
                    <a:lnTo>
                      <a:pt x="147" y="166"/>
                    </a:lnTo>
                    <a:lnTo>
                      <a:pt x="167" y="193"/>
                    </a:lnTo>
                    <a:lnTo>
                      <a:pt x="184" y="220"/>
                    </a:lnTo>
                    <a:lnTo>
                      <a:pt x="192" y="245"/>
                    </a:lnTo>
                    <a:lnTo>
                      <a:pt x="196" y="278"/>
                    </a:lnTo>
                    <a:lnTo>
                      <a:pt x="189" y="307"/>
                    </a:lnTo>
                    <a:lnTo>
                      <a:pt x="178" y="328"/>
                    </a:lnTo>
                    <a:lnTo>
                      <a:pt x="162" y="345"/>
                    </a:lnTo>
                    <a:lnTo>
                      <a:pt x="141" y="361"/>
                    </a:lnTo>
                    <a:lnTo>
                      <a:pt x="121" y="367"/>
                    </a:lnTo>
                    <a:lnTo>
                      <a:pt x="99" y="370"/>
                    </a:lnTo>
                    <a:lnTo>
                      <a:pt x="76" y="367"/>
                    </a:lnTo>
                    <a:lnTo>
                      <a:pt x="54" y="362"/>
                    </a:lnTo>
                    <a:lnTo>
                      <a:pt x="34" y="350"/>
                    </a:lnTo>
                    <a:lnTo>
                      <a:pt x="19" y="334"/>
                    </a:lnTo>
                    <a:lnTo>
                      <a:pt x="8" y="315"/>
                    </a:lnTo>
                    <a:lnTo>
                      <a:pt x="3" y="296"/>
                    </a:lnTo>
                    <a:lnTo>
                      <a:pt x="0" y="272"/>
                    </a:lnTo>
                    <a:lnTo>
                      <a:pt x="5" y="240"/>
                    </a:lnTo>
                    <a:lnTo>
                      <a:pt x="13" y="218"/>
                    </a:lnTo>
                    <a:lnTo>
                      <a:pt x="30" y="190"/>
                    </a:lnTo>
                    <a:lnTo>
                      <a:pt x="49" y="166"/>
                    </a:lnTo>
                    <a:lnTo>
                      <a:pt x="62" y="140"/>
                    </a:lnTo>
                    <a:lnTo>
                      <a:pt x="72" y="119"/>
                    </a:lnTo>
                    <a:lnTo>
                      <a:pt x="81" y="90"/>
                    </a:lnTo>
                    <a:lnTo>
                      <a:pt x="86" y="58"/>
                    </a:lnTo>
                    <a:lnTo>
                      <a:pt x="95" y="0"/>
                    </a:lnTo>
                    <a:close/>
                  </a:path>
                </a:pathLst>
              </a:cu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1" name=""/>
              <p:cNvSpPr/>
              <p:nvPr/>
            </p:nvSpPr>
            <p:spPr>
              <a:xfrm>
                <a:off x="1057320" y="58680"/>
                <a:ext cx="502560" cy="96840"/>
              </a:xfrm>
              <a:prstGeom prst="ellips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2" name=""/>
              <p:cNvSpPr/>
              <p:nvPr/>
            </p:nvSpPr>
            <p:spPr>
              <a:xfrm>
                <a:off x="1284120" y="863640"/>
                <a:ext cx="48960" cy="101520"/>
              </a:xfrm>
              <a:custGeom>
                <a:avLst/>
                <a:gdLst/>
                <a:ahLst/>
                <a:rect l="l" t="t" r="r" b="b"/>
                <a:pathLst>
                  <a:path w="196" h="372">
                    <a:moveTo>
                      <a:pt x="95" y="0"/>
                    </a:moveTo>
                    <a:lnTo>
                      <a:pt x="105" y="60"/>
                    </a:lnTo>
                    <a:lnTo>
                      <a:pt x="111" y="88"/>
                    </a:lnTo>
                    <a:lnTo>
                      <a:pt x="121" y="122"/>
                    </a:lnTo>
                    <a:lnTo>
                      <a:pt x="132" y="143"/>
                    </a:lnTo>
                    <a:lnTo>
                      <a:pt x="147" y="168"/>
                    </a:lnTo>
                    <a:lnTo>
                      <a:pt x="167" y="195"/>
                    </a:lnTo>
                    <a:lnTo>
                      <a:pt x="184" y="221"/>
                    </a:lnTo>
                    <a:lnTo>
                      <a:pt x="192" y="247"/>
                    </a:lnTo>
                    <a:lnTo>
                      <a:pt x="196" y="279"/>
                    </a:lnTo>
                    <a:lnTo>
                      <a:pt x="189" y="308"/>
                    </a:lnTo>
                    <a:lnTo>
                      <a:pt x="178" y="328"/>
                    </a:lnTo>
                    <a:lnTo>
                      <a:pt x="162" y="345"/>
                    </a:lnTo>
                    <a:lnTo>
                      <a:pt x="141" y="361"/>
                    </a:lnTo>
                    <a:lnTo>
                      <a:pt x="121" y="369"/>
                    </a:lnTo>
                    <a:lnTo>
                      <a:pt x="99" y="372"/>
                    </a:lnTo>
                    <a:lnTo>
                      <a:pt x="76" y="369"/>
                    </a:lnTo>
                    <a:lnTo>
                      <a:pt x="54" y="363"/>
                    </a:lnTo>
                    <a:lnTo>
                      <a:pt x="34" y="351"/>
                    </a:lnTo>
                    <a:lnTo>
                      <a:pt x="19" y="336"/>
                    </a:lnTo>
                    <a:lnTo>
                      <a:pt x="8" y="317"/>
                    </a:lnTo>
                    <a:lnTo>
                      <a:pt x="3" y="298"/>
                    </a:lnTo>
                    <a:lnTo>
                      <a:pt x="0" y="272"/>
                    </a:lnTo>
                    <a:lnTo>
                      <a:pt x="5" y="242"/>
                    </a:lnTo>
                    <a:lnTo>
                      <a:pt x="13" y="219"/>
                    </a:lnTo>
                    <a:lnTo>
                      <a:pt x="30" y="191"/>
                    </a:lnTo>
                    <a:lnTo>
                      <a:pt x="49" y="168"/>
                    </a:lnTo>
                    <a:lnTo>
                      <a:pt x="62" y="141"/>
                    </a:lnTo>
                    <a:lnTo>
                      <a:pt x="72" y="120"/>
                    </a:lnTo>
                    <a:lnTo>
                      <a:pt x="81" y="90"/>
                    </a:lnTo>
                    <a:lnTo>
                      <a:pt x="86" y="60"/>
                    </a:lnTo>
                    <a:lnTo>
                      <a:pt x="95" y="0"/>
                    </a:lnTo>
                    <a:close/>
                  </a:path>
                </a:pathLst>
              </a:cu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3" name=""/>
              <p:cNvSpPr/>
              <p:nvPr/>
            </p:nvSpPr>
            <p:spPr>
              <a:xfrm>
                <a:off x="1150920" y="217440"/>
                <a:ext cx="315360" cy="61920"/>
              </a:xfrm>
              <a:prstGeom prst="ellipse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4" name=""/>
              <p:cNvSpPr/>
              <p:nvPr/>
            </p:nvSpPr>
            <p:spPr>
              <a:xfrm>
                <a:off x="1287360" y="690480"/>
                <a:ext cx="41040" cy="47880"/>
              </a:xfrm>
              <a:prstGeom prst="ellipse">
                <a:avLst/>
              </a:prstGeom>
              <a:solidFill>
                <a:srgbClr val="009999"/>
              </a:solidFill>
              <a:ln w="1764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75" name=""/>
            <p:cNvSpPr/>
            <p:nvPr/>
          </p:nvSpPr>
          <p:spPr>
            <a:xfrm>
              <a:off x="5518080" y="1595520"/>
              <a:ext cx="9720" cy="293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6" name=""/>
            <p:cNvSpPr/>
            <p:nvPr/>
          </p:nvSpPr>
          <p:spPr>
            <a:xfrm>
              <a:off x="6262560" y="136368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7" name=""/>
            <p:cNvSpPr/>
            <p:nvPr/>
          </p:nvSpPr>
          <p:spPr>
            <a:xfrm>
              <a:off x="3108240" y="2673360"/>
              <a:ext cx="9720" cy="293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8" name=""/>
            <p:cNvSpPr/>
            <p:nvPr/>
          </p:nvSpPr>
          <p:spPr>
            <a:xfrm>
              <a:off x="1000080" y="1628640"/>
              <a:ext cx="9720" cy="293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9" name=""/>
            <p:cNvSpPr/>
            <p:nvPr/>
          </p:nvSpPr>
          <p:spPr>
            <a:xfrm>
              <a:off x="6743880" y="971640"/>
              <a:ext cx="0" cy="36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0" name=""/>
            <p:cNvSpPr/>
            <p:nvPr/>
          </p:nvSpPr>
          <p:spPr>
            <a:xfrm>
              <a:off x="6521400" y="1333440"/>
              <a:ext cx="349200" cy="0"/>
            </a:xfrm>
            <a:prstGeom prst="line">
              <a:avLst/>
            </a:prstGeom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1" name=""/>
            <p:cNvSpPr/>
            <p:nvPr/>
          </p:nvSpPr>
          <p:spPr>
            <a:xfrm>
              <a:off x="6499080" y="971640"/>
              <a:ext cx="349560" cy="0"/>
            </a:xfrm>
            <a:prstGeom prst="line">
              <a:avLst/>
            </a:prstGeom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2" name=""/>
            <p:cNvSpPr/>
            <p:nvPr/>
          </p:nvSpPr>
          <p:spPr>
            <a:xfrm>
              <a:off x="6726240" y="3114720"/>
              <a:ext cx="0" cy="36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3" name=""/>
            <p:cNvSpPr/>
            <p:nvPr/>
          </p:nvSpPr>
          <p:spPr>
            <a:xfrm>
              <a:off x="6504120" y="3476520"/>
              <a:ext cx="349200" cy="0"/>
            </a:xfrm>
            <a:prstGeom prst="line">
              <a:avLst/>
            </a:prstGeom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4" name=""/>
            <p:cNvSpPr/>
            <p:nvPr/>
          </p:nvSpPr>
          <p:spPr>
            <a:xfrm>
              <a:off x="6481800" y="3114720"/>
              <a:ext cx="349200" cy="0"/>
            </a:xfrm>
            <a:prstGeom prst="line">
              <a:avLst/>
            </a:prstGeom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5" name=""/>
            <p:cNvSpPr/>
            <p:nvPr/>
          </p:nvSpPr>
          <p:spPr>
            <a:xfrm>
              <a:off x="5392800" y="3479760"/>
              <a:ext cx="579240" cy="63972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6" name=""/>
            <p:cNvSpPr/>
            <p:nvPr/>
          </p:nvSpPr>
          <p:spPr>
            <a:xfrm>
              <a:off x="5518080" y="3592440"/>
              <a:ext cx="52380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cs-CZ" sz="2400" spc="-1" strike="noStrike" baseline="7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7" name=""/>
            <p:cNvSpPr/>
            <p:nvPr/>
          </p:nvSpPr>
          <p:spPr>
            <a:xfrm>
              <a:off x="5508720" y="3592440"/>
              <a:ext cx="9360" cy="293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8" name=""/>
            <p:cNvSpPr/>
            <p:nvPr/>
          </p:nvSpPr>
          <p:spPr>
            <a:xfrm>
              <a:off x="6743880" y="3137040"/>
              <a:ext cx="24001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400" spc="-1" strike="noStrike">
                  <a:solidFill>
                    <a:srgbClr val="000000"/>
                  </a:solidFill>
                  <a:latin typeface="Times New Roman"/>
                </a:rPr>
                <a:t>+1 mmol/l = 1 000 000 nmol/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400" spc="-1" strike="noStrike">
                  <a:solidFill>
                    <a:srgbClr val="000000"/>
                  </a:solidFill>
                  <a:latin typeface="Times New Roman"/>
                </a:rPr>
                <a:t>pokles na pH=3!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9" name=""/>
            <p:cNvSpPr/>
            <p:nvPr/>
          </p:nvSpPr>
          <p:spPr>
            <a:xfrm>
              <a:off x="6726240" y="971640"/>
              <a:ext cx="1012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400" spc="-1" strike="noStrike">
                  <a:solidFill>
                    <a:srgbClr val="000000"/>
                  </a:solidFill>
                  <a:latin typeface="Times New Roman"/>
                </a:rPr>
                <a:t>+1 mmol/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0" name=""/>
            <p:cNvSpPr/>
            <p:nvPr/>
          </p:nvSpPr>
          <p:spPr>
            <a:xfrm>
              <a:off x="6726240" y="1628640"/>
              <a:ext cx="1012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400" spc="-1" strike="noStrike">
                  <a:solidFill>
                    <a:srgbClr val="000000"/>
                  </a:solidFill>
                  <a:latin typeface="Times New Roman"/>
                </a:rPr>
                <a:t>24 mmol/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1" name=""/>
            <p:cNvSpPr/>
            <p:nvPr/>
          </p:nvSpPr>
          <p:spPr>
            <a:xfrm>
              <a:off x="6041880" y="3516480"/>
              <a:ext cx="10130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400" spc="-1" strike="noStrike">
                  <a:solidFill>
                    <a:srgbClr val="000000"/>
                  </a:solidFill>
                  <a:latin typeface="Times New Roman"/>
                </a:rPr>
                <a:t>40 nmol/l (pH=7,4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2" name=""/>
            <p:cNvSpPr/>
            <p:nvPr/>
          </p:nvSpPr>
          <p:spPr>
            <a:xfrm>
              <a:off x="6521400" y="2092320"/>
              <a:ext cx="349200" cy="0"/>
            </a:xfrm>
            <a:prstGeom prst="line">
              <a:avLst/>
            </a:prstGeom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3" name=""/>
            <p:cNvSpPr/>
            <p:nvPr/>
          </p:nvSpPr>
          <p:spPr>
            <a:xfrm>
              <a:off x="6743880" y="1346040"/>
              <a:ext cx="0" cy="758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4" name=""/>
            <p:cNvSpPr/>
            <p:nvPr/>
          </p:nvSpPr>
          <p:spPr>
            <a:xfrm>
              <a:off x="5972040" y="4119480"/>
              <a:ext cx="349560" cy="0"/>
            </a:xfrm>
            <a:prstGeom prst="line">
              <a:avLst/>
            </a:prstGeom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5" name=""/>
            <p:cNvSpPr/>
            <p:nvPr/>
          </p:nvSpPr>
          <p:spPr>
            <a:xfrm>
              <a:off x="6154560" y="3476520"/>
              <a:ext cx="0" cy="642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96" name=""/>
          <p:cNvGrpSpPr/>
          <p:nvPr/>
        </p:nvGrpSpPr>
        <p:grpSpPr>
          <a:xfrm>
            <a:off x="167760" y="135000"/>
            <a:ext cx="8853840" cy="6662880"/>
            <a:chOff x="167760" y="135000"/>
            <a:chExt cx="8853840" cy="6662880"/>
          </a:xfrm>
        </p:grpSpPr>
        <p:sp>
          <p:nvSpPr>
            <p:cNvPr id="9597" name=""/>
            <p:cNvSpPr/>
            <p:nvPr/>
          </p:nvSpPr>
          <p:spPr>
            <a:xfrm>
              <a:off x="4995720" y="3506760"/>
              <a:ext cx="587520" cy="700200"/>
            </a:xfrm>
            <a:prstGeom prst="rect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8" name=""/>
            <p:cNvSpPr/>
            <p:nvPr/>
          </p:nvSpPr>
          <p:spPr>
            <a:xfrm flipH="1">
              <a:off x="167400" y="1484280"/>
              <a:ext cx="72396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9" name=""/>
            <p:cNvSpPr/>
            <p:nvPr/>
          </p:nvSpPr>
          <p:spPr>
            <a:xfrm>
              <a:off x="7763040" y="4054320"/>
              <a:ext cx="1109520" cy="1025640"/>
            </a:xfrm>
            <a:prstGeom prst="rect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0" name=""/>
            <p:cNvSpPr/>
            <p:nvPr/>
          </p:nvSpPr>
          <p:spPr>
            <a:xfrm>
              <a:off x="5000760" y="3195720"/>
              <a:ext cx="1114200" cy="368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1" name=""/>
            <p:cNvSpPr/>
            <p:nvPr/>
          </p:nvSpPr>
          <p:spPr>
            <a:xfrm>
              <a:off x="5018040" y="1052640"/>
              <a:ext cx="1114560" cy="1073160"/>
            </a:xfrm>
            <a:prstGeom prst="rect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2" name=""/>
            <p:cNvSpPr/>
            <p:nvPr/>
          </p:nvSpPr>
          <p:spPr>
            <a:xfrm>
              <a:off x="2589120" y="2192400"/>
              <a:ext cx="1149480" cy="1003320"/>
            </a:xfrm>
            <a:prstGeom prst="rect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3" name=""/>
            <p:cNvSpPr/>
            <p:nvPr/>
          </p:nvSpPr>
          <p:spPr>
            <a:xfrm>
              <a:off x="488880" y="1160640"/>
              <a:ext cx="930240" cy="1031760"/>
            </a:xfrm>
            <a:prstGeom prst="rect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4" name=""/>
            <p:cNvSpPr/>
            <p:nvPr/>
          </p:nvSpPr>
          <p:spPr>
            <a:xfrm>
              <a:off x="5021280" y="1420920"/>
              <a:ext cx="1111320" cy="75888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5" name=""/>
            <p:cNvSpPr/>
            <p:nvPr/>
          </p:nvSpPr>
          <p:spPr>
            <a:xfrm>
              <a:off x="2592360" y="2516040"/>
              <a:ext cx="1144440" cy="70812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6" name=""/>
            <p:cNvSpPr/>
            <p:nvPr/>
          </p:nvSpPr>
          <p:spPr>
            <a:xfrm>
              <a:off x="492120" y="1496880"/>
              <a:ext cx="927000" cy="70668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7" name=""/>
            <p:cNvSpPr/>
            <p:nvPr/>
          </p:nvSpPr>
          <p:spPr>
            <a:xfrm>
              <a:off x="654480" y="1643040"/>
              <a:ext cx="736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Arial"/>
                </a:rPr>
                <a:t>CO</a:t>
              </a:r>
              <a:r>
                <a:rPr b="1" lang="cs-CZ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8" name=""/>
            <p:cNvSpPr/>
            <p:nvPr/>
          </p:nvSpPr>
          <p:spPr>
            <a:xfrm>
              <a:off x="637200" y="3664080"/>
              <a:ext cx="736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cs-CZ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cs-CZ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9" name=""/>
            <p:cNvSpPr/>
            <p:nvPr/>
          </p:nvSpPr>
          <p:spPr>
            <a:xfrm>
              <a:off x="2751120" y="2676600"/>
              <a:ext cx="1055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cs-CZ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cs-CZ" sz="2400" spc="-1" strike="noStrike">
                  <a:solidFill>
                    <a:srgbClr val="000000"/>
                  </a:solidFill>
                  <a:latin typeface="Arial"/>
                </a:rPr>
                <a:t>CO</a:t>
              </a:r>
              <a:r>
                <a:rPr b="1" lang="cs-CZ" sz="2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0" name=""/>
            <p:cNvSpPr/>
            <p:nvPr/>
          </p:nvSpPr>
          <p:spPr>
            <a:xfrm>
              <a:off x="5189040" y="1617840"/>
              <a:ext cx="956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Arial"/>
                </a:rPr>
                <a:t>HCO</a:t>
              </a:r>
              <a:r>
                <a:rPr b="1" lang="cs-CZ" sz="2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1" name=""/>
            <p:cNvSpPr/>
            <p:nvPr/>
          </p:nvSpPr>
          <p:spPr>
            <a:xfrm>
              <a:off x="3848040" y="1866960"/>
              <a:ext cx="1155600" cy="1023840"/>
            </a:xfrm>
            <a:custGeom>
              <a:avLst/>
              <a:gdLst/>
              <a:ahLst/>
              <a:rect l="l" t="t" r="r" b="b"/>
              <a:pathLst>
                <a:path w="728" h="645">
                  <a:moveTo>
                    <a:pt x="0" y="642"/>
                  </a:moveTo>
                  <a:lnTo>
                    <a:pt x="351" y="645"/>
                  </a:lnTo>
                  <a:cubicBezTo>
                    <a:pt x="420" y="628"/>
                    <a:pt x="405" y="630"/>
                    <a:pt x="416" y="538"/>
                  </a:cubicBezTo>
                  <a:lnTo>
                    <a:pt x="416" y="91"/>
                  </a:lnTo>
                  <a:cubicBezTo>
                    <a:pt x="429" y="1"/>
                    <a:pt x="445" y="15"/>
                    <a:pt x="497" y="0"/>
                  </a:cubicBezTo>
                  <a:lnTo>
                    <a:pt x="728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2" name=""/>
            <p:cNvSpPr/>
            <p:nvPr/>
          </p:nvSpPr>
          <p:spPr>
            <a:xfrm>
              <a:off x="3754440" y="2882880"/>
              <a:ext cx="1249200" cy="1023840"/>
            </a:xfrm>
            <a:custGeom>
              <a:avLst/>
              <a:gdLst/>
              <a:ahLst/>
              <a:rect l="l" t="t" r="r" b="b"/>
              <a:pathLst>
                <a:path w="787" h="645">
                  <a:moveTo>
                    <a:pt x="0" y="2"/>
                  </a:moveTo>
                  <a:lnTo>
                    <a:pt x="410" y="0"/>
                  </a:lnTo>
                  <a:cubicBezTo>
                    <a:pt x="489" y="17"/>
                    <a:pt x="464" y="15"/>
                    <a:pt x="475" y="107"/>
                  </a:cubicBezTo>
                  <a:lnTo>
                    <a:pt x="475" y="554"/>
                  </a:lnTo>
                  <a:cubicBezTo>
                    <a:pt x="488" y="644"/>
                    <a:pt x="504" y="630"/>
                    <a:pt x="556" y="645"/>
                  </a:cubicBezTo>
                  <a:lnTo>
                    <a:pt x="787" y="645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13" name=""/>
            <p:cNvGrpSpPr/>
            <p:nvPr/>
          </p:nvGrpSpPr>
          <p:grpSpPr>
            <a:xfrm>
              <a:off x="1444680" y="1865160"/>
              <a:ext cx="1130400" cy="2038320"/>
              <a:chOff x="1444680" y="1865160"/>
              <a:chExt cx="1130400" cy="2038320"/>
            </a:xfrm>
          </p:grpSpPr>
          <p:sp>
            <p:nvSpPr>
              <p:cNvPr id="9614" name=""/>
              <p:cNvSpPr/>
              <p:nvPr/>
            </p:nvSpPr>
            <p:spPr>
              <a:xfrm flipH="1">
                <a:off x="1444680" y="1865160"/>
                <a:ext cx="1130400" cy="1023840"/>
              </a:xfrm>
              <a:custGeom>
                <a:avLst/>
                <a:gdLst/>
                <a:ahLst/>
                <a:rect l="l" t="t" r="r" b="b"/>
                <a:pathLst>
                  <a:path w="866" h="645">
                    <a:moveTo>
                      <a:pt x="0" y="645"/>
                    </a:moveTo>
                    <a:lnTo>
                      <a:pt x="442" y="645"/>
                    </a:lnTo>
                    <a:cubicBezTo>
                      <a:pt x="528" y="627"/>
                      <a:pt x="503" y="630"/>
                      <a:pt x="515" y="538"/>
                    </a:cubicBezTo>
                    <a:lnTo>
                      <a:pt x="515" y="91"/>
                    </a:lnTo>
                    <a:cubicBezTo>
                      <a:pt x="530" y="1"/>
                      <a:pt x="548" y="15"/>
                      <a:pt x="606" y="0"/>
                    </a:cubicBezTo>
                    <a:lnTo>
                      <a:pt x="866" y="0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5" name=""/>
              <p:cNvSpPr/>
              <p:nvPr/>
            </p:nvSpPr>
            <p:spPr>
              <a:xfrm flipH="1" flipV="1">
                <a:off x="1444680" y="2879640"/>
                <a:ext cx="1130400" cy="1023840"/>
              </a:xfrm>
              <a:custGeom>
                <a:avLst/>
                <a:gdLst/>
                <a:ahLst/>
                <a:rect l="l" t="t" r="r" b="b"/>
                <a:pathLst>
                  <a:path w="866" h="645">
                    <a:moveTo>
                      <a:pt x="0" y="645"/>
                    </a:moveTo>
                    <a:lnTo>
                      <a:pt x="442" y="645"/>
                    </a:lnTo>
                    <a:cubicBezTo>
                      <a:pt x="528" y="627"/>
                      <a:pt x="503" y="630"/>
                      <a:pt x="515" y="538"/>
                    </a:cubicBezTo>
                    <a:lnTo>
                      <a:pt x="515" y="91"/>
                    </a:lnTo>
                    <a:cubicBezTo>
                      <a:pt x="530" y="1"/>
                      <a:pt x="548" y="15"/>
                      <a:pt x="606" y="0"/>
                    </a:cubicBezTo>
                    <a:lnTo>
                      <a:pt x="866" y="0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616" name=""/>
            <p:cNvGrpSpPr/>
            <p:nvPr/>
          </p:nvGrpSpPr>
          <p:grpSpPr>
            <a:xfrm>
              <a:off x="636480" y="135000"/>
              <a:ext cx="560520" cy="917640"/>
              <a:chOff x="636480" y="135000"/>
              <a:chExt cx="560520" cy="917640"/>
            </a:xfrm>
          </p:grpSpPr>
          <p:sp>
            <p:nvSpPr>
              <p:cNvPr id="9617" name=""/>
              <p:cNvSpPr/>
              <p:nvPr/>
            </p:nvSpPr>
            <p:spPr>
              <a:xfrm>
                <a:off x="641160" y="204840"/>
                <a:ext cx="551160" cy="630360"/>
              </a:xfrm>
              <a:custGeom>
                <a:avLst/>
                <a:gdLst/>
                <a:ahLst/>
                <a:rect l="l" t="t" r="r" b="b"/>
                <a:pathLst>
                  <a:path w="2256" h="2295">
                    <a:moveTo>
                      <a:pt x="0" y="0"/>
                    </a:moveTo>
                    <a:lnTo>
                      <a:pt x="939" y="1180"/>
                    </a:lnTo>
                    <a:lnTo>
                      <a:pt x="980" y="2175"/>
                    </a:lnTo>
                    <a:lnTo>
                      <a:pt x="983" y="2202"/>
                    </a:lnTo>
                    <a:lnTo>
                      <a:pt x="991" y="2221"/>
                    </a:lnTo>
                    <a:lnTo>
                      <a:pt x="1000" y="2235"/>
                    </a:lnTo>
                    <a:lnTo>
                      <a:pt x="1010" y="2246"/>
                    </a:lnTo>
                    <a:lnTo>
                      <a:pt x="1024" y="2260"/>
                    </a:lnTo>
                    <a:lnTo>
                      <a:pt x="1038" y="2268"/>
                    </a:lnTo>
                    <a:lnTo>
                      <a:pt x="1060" y="2281"/>
                    </a:lnTo>
                    <a:lnTo>
                      <a:pt x="1083" y="2287"/>
                    </a:lnTo>
                    <a:lnTo>
                      <a:pt x="1111" y="2293"/>
                    </a:lnTo>
                    <a:lnTo>
                      <a:pt x="1128" y="2295"/>
                    </a:lnTo>
                    <a:lnTo>
                      <a:pt x="1145" y="2295"/>
                    </a:lnTo>
                    <a:lnTo>
                      <a:pt x="1163" y="2292"/>
                    </a:lnTo>
                    <a:lnTo>
                      <a:pt x="1183" y="2286"/>
                    </a:lnTo>
                    <a:lnTo>
                      <a:pt x="1202" y="2279"/>
                    </a:lnTo>
                    <a:lnTo>
                      <a:pt x="1221" y="2268"/>
                    </a:lnTo>
                    <a:lnTo>
                      <a:pt x="1235" y="2259"/>
                    </a:lnTo>
                    <a:lnTo>
                      <a:pt x="1251" y="2243"/>
                    </a:lnTo>
                    <a:lnTo>
                      <a:pt x="1262" y="2227"/>
                    </a:lnTo>
                    <a:lnTo>
                      <a:pt x="1273" y="2203"/>
                    </a:lnTo>
                    <a:lnTo>
                      <a:pt x="1276" y="2181"/>
                    </a:lnTo>
                    <a:lnTo>
                      <a:pt x="1336" y="1161"/>
                    </a:lnTo>
                    <a:lnTo>
                      <a:pt x="225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8" name=""/>
              <p:cNvSpPr/>
              <p:nvPr/>
            </p:nvSpPr>
            <p:spPr>
              <a:xfrm>
                <a:off x="636480" y="135000"/>
                <a:ext cx="560520" cy="119160"/>
              </a:xfrm>
              <a:prstGeom prst="ellipse">
                <a:avLst/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9" name=""/>
              <p:cNvSpPr/>
              <p:nvPr/>
            </p:nvSpPr>
            <p:spPr>
              <a:xfrm>
                <a:off x="681120" y="222480"/>
                <a:ext cx="476280" cy="593640"/>
              </a:xfrm>
              <a:custGeom>
                <a:avLst/>
                <a:gdLst/>
                <a:ahLst/>
                <a:rect l="l" t="t" r="r" b="b"/>
                <a:pathLst>
                  <a:path w="1956" h="2159">
                    <a:moveTo>
                      <a:pt x="0" y="19"/>
                    </a:moveTo>
                    <a:lnTo>
                      <a:pt x="857" y="1063"/>
                    </a:lnTo>
                    <a:lnTo>
                      <a:pt x="879" y="2090"/>
                    </a:lnTo>
                    <a:lnTo>
                      <a:pt x="887" y="2107"/>
                    </a:lnTo>
                    <a:lnTo>
                      <a:pt x="897" y="2123"/>
                    </a:lnTo>
                    <a:lnTo>
                      <a:pt x="906" y="2137"/>
                    </a:lnTo>
                    <a:lnTo>
                      <a:pt x="922" y="2147"/>
                    </a:lnTo>
                    <a:lnTo>
                      <a:pt x="939" y="2156"/>
                    </a:lnTo>
                    <a:lnTo>
                      <a:pt x="962" y="2159"/>
                    </a:lnTo>
                    <a:lnTo>
                      <a:pt x="983" y="2157"/>
                    </a:lnTo>
                    <a:lnTo>
                      <a:pt x="1005" y="2153"/>
                    </a:lnTo>
                    <a:lnTo>
                      <a:pt x="1026" y="2140"/>
                    </a:lnTo>
                    <a:lnTo>
                      <a:pt x="1040" y="2123"/>
                    </a:lnTo>
                    <a:lnTo>
                      <a:pt x="1048" y="2109"/>
                    </a:lnTo>
                    <a:lnTo>
                      <a:pt x="1056" y="2088"/>
                    </a:lnTo>
                    <a:lnTo>
                      <a:pt x="1100" y="1045"/>
                    </a:lnTo>
                    <a:lnTo>
                      <a:pt x="1956" y="0"/>
                    </a:lnTo>
                    <a:lnTo>
                      <a:pt x="1790" y="41"/>
                    </a:lnTo>
                    <a:lnTo>
                      <a:pt x="1531" y="77"/>
                    </a:lnTo>
                    <a:lnTo>
                      <a:pt x="1247" y="98"/>
                    </a:lnTo>
                    <a:lnTo>
                      <a:pt x="962" y="109"/>
                    </a:lnTo>
                    <a:lnTo>
                      <a:pt x="662" y="98"/>
                    </a:lnTo>
                    <a:lnTo>
                      <a:pt x="398" y="77"/>
                    </a:lnTo>
                    <a:lnTo>
                      <a:pt x="178" y="52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0" name=""/>
              <p:cNvSpPr/>
              <p:nvPr/>
            </p:nvSpPr>
            <p:spPr>
              <a:xfrm>
                <a:off x="761760" y="343080"/>
                <a:ext cx="308160" cy="474840"/>
              </a:xfrm>
              <a:custGeom>
                <a:avLst/>
                <a:gdLst/>
                <a:ahLst/>
                <a:rect l="l" t="t" r="r" b="b"/>
                <a:pathLst>
                  <a:path w="1264" h="1728">
                    <a:moveTo>
                      <a:pt x="0" y="0"/>
                    </a:moveTo>
                    <a:lnTo>
                      <a:pt x="520" y="624"/>
                    </a:lnTo>
                    <a:lnTo>
                      <a:pt x="531" y="1657"/>
                    </a:lnTo>
                    <a:lnTo>
                      <a:pt x="541" y="1674"/>
                    </a:lnTo>
                    <a:lnTo>
                      <a:pt x="553" y="1688"/>
                    </a:lnTo>
                    <a:lnTo>
                      <a:pt x="564" y="1701"/>
                    </a:lnTo>
                    <a:lnTo>
                      <a:pt x="580" y="1715"/>
                    </a:lnTo>
                    <a:lnTo>
                      <a:pt x="608" y="1723"/>
                    </a:lnTo>
                    <a:lnTo>
                      <a:pt x="632" y="1728"/>
                    </a:lnTo>
                    <a:lnTo>
                      <a:pt x="651" y="1725"/>
                    </a:lnTo>
                    <a:lnTo>
                      <a:pt x="673" y="1720"/>
                    </a:lnTo>
                    <a:lnTo>
                      <a:pt x="694" y="1709"/>
                    </a:lnTo>
                    <a:lnTo>
                      <a:pt x="711" y="1692"/>
                    </a:lnTo>
                    <a:lnTo>
                      <a:pt x="723" y="1669"/>
                    </a:lnTo>
                    <a:lnTo>
                      <a:pt x="730" y="1657"/>
                    </a:lnTo>
                    <a:lnTo>
                      <a:pt x="761" y="605"/>
                    </a:lnTo>
                    <a:lnTo>
                      <a:pt x="126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1" name=""/>
              <p:cNvSpPr/>
              <p:nvPr/>
            </p:nvSpPr>
            <p:spPr>
              <a:xfrm>
                <a:off x="892080" y="843120"/>
                <a:ext cx="49320" cy="101520"/>
              </a:xfrm>
              <a:custGeom>
                <a:avLst/>
                <a:gdLst/>
                <a:ahLst/>
                <a:rect l="l" t="t" r="r" b="b"/>
                <a:pathLst>
                  <a:path w="196" h="370">
                    <a:moveTo>
                      <a:pt x="95" y="0"/>
                    </a:moveTo>
                    <a:lnTo>
                      <a:pt x="105" y="58"/>
                    </a:lnTo>
                    <a:lnTo>
                      <a:pt x="111" y="87"/>
                    </a:lnTo>
                    <a:lnTo>
                      <a:pt x="121" y="121"/>
                    </a:lnTo>
                    <a:lnTo>
                      <a:pt x="132" y="141"/>
                    </a:lnTo>
                    <a:lnTo>
                      <a:pt x="147" y="166"/>
                    </a:lnTo>
                    <a:lnTo>
                      <a:pt x="167" y="193"/>
                    </a:lnTo>
                    <a:lnTo>
                      <a:pt x="184" y="220"/>
                    </a:lnTo>
                    <a:lnTo>
                      <a:pt x="192" y="245"/>
                    </a:lnTo>
                    <a:lnTo>
                      <a:pt x="196" y="278"/>
                    </a:lnTo>
                    <a:lnTo>
                      <a:pt x="189" y="307"/>
                    </a:lnTo>
                    <a:lnTo>
                      <a:pt x="178" y="328"/>
                    </a:lnTo>
                    <a:lnTo>
                      <a:pt x="162" y="345"/>
                    </a:lnTo>
                    <a:lnTo>
                      <a:pt x="141" y="361"/>
                    </a:lnTo>
                    <a:lnTo>
                      <a:pt x="121" y="367"/>
                    </a:lnTo>
                    <a:lnTo>
                      <a:pt x="99" y="370"/>
                    </a:lnTo>
                    <a:lnTo>
                      <a:pt x="76" y="367"/>
                    </a:lnTo>
                    <a:lnTo>
                      <a:pt x="54" y="362"/>
                    </a:lnTo>
                    <a:lnTo>
                      <a:pt x="34" y="350"/>
                    </a:lnTo>
                    <a:lnTo>
                      <a:pt x="19" y="334"/>
                    </a:lnTo>
                    <a:lnTo>
                      <a:pt x="8" y="315"/>
                    </a:lnTo>
                    <a:lnTo>
                      <a:pt x="3" y="296"/>
                    </a:lnTo>
                    <a:lnTo>
                      <a:pt x="0" y="272"/>
                    </a:lnTo>
                    <a:lnTo>
                      <a:pt x="5" y="240"/>
                    </a:lnTo>
                    <a:lnTo>
                      <a:pt x="13" y="218"/>
                    </a:lnTo>
                    <a:lnTo>
                      <a:pt x="30" y="190"/>
                    </a:lnTo>
                    <a:lnTo>
                      <a:pt x="49" y="166"/>
                    </a:lnTo>
                    <a:lnTo>
                      <a:pt x="62" y="140"/>
                    </a:lnTo>
                    <a:lnTo>
                      <a:pt x="72" y="119"/>
                    </a:lnTo>
                    <a:lnTo>
                      <a:pt x="81" y="90"/>
                    </a:lnTo>
                    <a:lnTo>
                      <a:pt x="86" y="58"/>
                    </a:lnTo>
                    <a:lnTo>
                      <a:pt x="95" y="0"/>
                    </a:lnTo>
                    <a:close/>
                  </a:path>
                </a:pathLst>
              </a:cu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2" name=""/>
              <p:cNvSpPr/>
              <p:nvPr/>
            </p:nvSpPr>
            <p:spPr>
              <a:xfrm>
                <a:off x="665280" y="146160"/>
                <a:ext cx="502920" cy="96840"/>
              </a:xfrm>
              <a:prstGeom prst="ellips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3" name=""/>
              <p:cNvSpPr/>
              <p:nvPr/>
            </p:nvSpPr>
            <p:spPr>
              <a:xfrm>
                <a:off x="892080" y="951120"/>
                <a:ext cx="49320" cy="101520"/>
              </a:xfrm>
              <a:custGeom>
                <a:avLst/>
                <a:gdLst/>
                <a:ahLst/>
                <a:rect l="l" t="t" r="r" b="b"/>
                <a:pathLst>
                  <a:path w="196" h="372">
                    <a:moveTo>
                      <a:pt x="95" y="0"/>
                    </a:moveTo>
                    <a:lnTo>
                      <a:pt x="105" y="60"/>
                    </a:lnTo>
                    <a:lnTo>
                      <a:pt x="111" y="88"/>
                    </a:lnTo>
                    <a:lnTo>
                      <a:pt x="121" y="122"/>
                    </a:lnTo>
                    <a:lnTo>
                      <a:pt x="132" y="143"/>
                    </a:lnTo>
                    <a:lnTo>
                      <a:pt x="147" y="168"/>
                    </a:lnTo>
                    <a:lnTo>
                      <a:pt x="167" y="195"/>
                    </a:lnTo>
                    <a:lnTo>
                      <a:pt x="184" y="221"/>
                    </a:lnTo>
                    <a:lnTo>
                      <a:pt x="192" y="247"/>
                    </a:lnTo>
                    <a:lnTo>
                      <a:pt x="196" y="279"/>
                    </a:lnTo>
                    <a:lnTo>
                      <a:pt x="189" y="308"/>
                    </a:lnTo>
                    <a:lnTo>
                      <a:pt x="178" y="328"/>
                    </a:lnTo>
                    <a:lnTo>
                      <a:pt x="162" y="345"/>
                    </a:lnTo>
                    <a:lnTo>
                      <a:pt x="141" y="361"/>
                    </a:lnTo>
                    <a:lnTo>
                      <a:pt x="121" y="369"/>
                    </a:lnTo>
                    <a:lnTo>
                      <a:pt x="99" y="372"/>
                    </a:lnTo>
                    <a:lnTo>
                      <a:pt x="76" y="369"/>
                    </a:lnTo>
                    <a:lnTo>
                      <a:pt x="54" y="363"/>
                    </a:lnTo>
                    <a:lnTo>
                      <a:pt x="34" y="351"/>
                    </a:lnTo>
                    <a:lnTo>
                      <a:pt x="19" y="336"/>
                    </a:lnTo>
                    <a:lnTo>
                      <a:pt x="8" y="317"/>
                    </a:lnTo>
                    <a:lnTo>
                      <a:pt x="3" y="298"/>
                    </a:lnTo>
                    <a:lnTo>
                      <a:pt x="0" y="272"/>
                    </a:lnTo>
                    <a:lnTo>
                      <a:pt x="5" y="242"/>
                    </a:lnTo>
                    <a:lnTo>
                      <a:pt x="13" y="219"/>
                    </a:lnTo>
                    <a:lnTo>
                      <a:pt x="30" y="191"/>
                    </a:lnTo>
                    <a:lnTo>
                      <a:pt x="49" y="168"/>
                    </a:lnTo>
                    <a:lnTo>
                      <a:pt x="62" y="141"/>
                    </a:lnTo>
                    <a:lnTo>
                      <a:pt x="72" y="120"/>
                    </a:lnTo>
                    <a:lnTo>
                      <a:pt x="81" y="90"/>
                    </a:lnTo>
                    <a:lnTo>
                      <a:pt x="86" y="60"/>
                    </a:lnTo>
                    <a:lnTo>
                      <a:pt x="95" y="0"/>
                    </a:lnTo>
                    <a:close/>
                  </a:path>
                </a:pathLst>
              </a:cu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4" name=""/>
              <p:cNvSpPr/>
              <p:nvPr/>
            </p:nvSpPr>
            <p:spPr>
              <a:xfrm>
                <a:off x="758880" y="304920"/>
                <a:ext cx="315720" cy="61920"/>
              </a:xfrm>
              <a:prstGeom prst="ellipse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5" name=""/>
              <p:cNvSpPr/>
              <p:nvPr/>
            </p:nvSpPr>
            <p:spPr>
              <a:xfrm>
                <a:off x="895320" y="777960"/>
                <a:ext cx="41400" cy="47880"/>
              </a:xfrm>
              <a:prstGeom prst="ellipse">
                <a:avLst/>
              </a:prstGeom>
              <a:solidFill>
                <a:srgbClr val="009999"/>
              </a:solidFill>
              <a:ln w="1764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26" name=""/>
            <p:cNvSpPr/>
            <p:nvPr/>
          </p:nvSpPr>
          <p:spPr>
            <a:xfrm>
              <a:off x="5126040" y="1682640"/>
              <a:ext cx="9360" cy="293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7" name=""/>
            <p:cNvSpPr/>
            <p:nvPr/>
          </p:nvSpPr>
          <p:spPr>
            <a:xfrm>
              <a:off x="5870160" y="145080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8" name=""/>
            <p:cNvSpPr/>
            <p:nvPr/>
          </p:nvSpPr>
          <p:spPr>
            <a:xfrm>
              <a:off x="2716200" y="2760840"/>
              <a:ext cx="9360" cy="293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9" name=""/>
            <p:cNvSpPr/>
            <p:nvPr/>
          </p:nvSpPr>
          <p:spPr>
            <a:xfrm>
              <a:off x="608040" y="1716120"/>
              <a:ext cx="9360" cy="293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0" name=""/>
            <p:cNvSpPr/>
            <p:nvPr/>
          </p:nvSpPr>
          <p:spPr>
            <a:xfrm>
              <a:off x="6351480" y="1058760"/>
              <a:ext cx="0" cy="362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1" name=""/>
            <p:cNvSpPr/>
            <p:nvPr/>
          </p:nvSpPr>
          <p:spPr>
            <a:xfrm>
              <a:off x="6129360" y="1420920"/>
              <a:ext cx="349200" cy="0"/>
            </a:xfrm>
            <a:prstGeom prst="line">
              <a:avLst/>
            </a:prstGeom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2" name=""/>
            <p:cNvSpPr/>
            <p:nvPr/>
          </p:nvSpPr>
          <p:spPr>
            <a:xfrm>
              <a:off x="6107040" y="1058760"/>
              <a:ext cx="349200" cy="0"/>
            </a:xfrm>
            <a:prstGeom prst="line">
              <a:avLst/>
            </a:prstGeom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3" name=""/>
            <p:cNvSpPr/>
            <p:nvPr/>
          </p:nvSpPr>
          <p:spPr>
            <a:xfrm>
              <a:off x="6334200" y="3201840"/>
              <a:ext cx="0" cy="362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4" name=""/>
            <p:cNvSpPr/>
            <p:nvPr/>
          </p:nvSpPr>
          <p:spPr>
            <a:xfrm>
              <a:off x="6111720" y="3564000"/>
              <a:ext cx="349560" cy="0"/>
            </a:xfrm>
            <a:prstGeom prst="line">
              <a:avLst/>
            </a:prstGeom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5" name=""/>
            <p:cNvSpPr/>
            <p:nvPr/>
          </p:nvSpPr>
          <p:spPr>
            <a:xfrm>
              <a:off x="6089760" y="3201840"/>
              <a:ext cx="349200" cy="0"/>
            </a:xfrm>
            <a:prstGeom prst="line">
              <a:avLst/>
            </a:prstGeom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6" name=""/>
            <p:cNvSpPr/>
            <p:nvPr/>
          </p:nvSpPr>
          <p:spPr>
            <a:xfrm>
              <a:off x="5000760" y="3567240"/>
              <a:ext cx="579240" cy="63972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7" name=""/>
            <p:cNvSpPr/>
            <p:nvPr/>
          </p:nvSpPr>
          <p:spPr>
            <a:xfrm>
              <a:off x="5126040" y="3679920"/>
              <a:ext cx="52380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cs-CZ" sz="2400" spc="-1" strike="noStrike" baseline="7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8" name=""/>
            <p:cNvSpPr/>
            <p:nvPr/>
          </p:nvSpPr>
          <p:spPr>
            <a:xfrm>
              <a:off x="5116680" y="3679920"/>
              <a:ext cx="9360" cy="293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9" name=""/>
            <p:cNvSpPr/>
            <p:nvPr/>
          </p:nvSpPr>
          <p:spPr>
            <a:xfrm>
              <a:off x="6351480" y="3224160"/>
              <a:ext cx="2400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400" spc="-1" strike="noStrike">
                  <a:solidFill>
                    <a:srgbClr val="000000"/>
                  </a:solidFill>
                  <a:latin typeface="Times New Roman"/>
                </a:rPr>
                <a:t>+1 mmol/l = 1 000 000 nmol/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0" name=""/>
            <p:cNvSpPr/>
            <p:nvPr/>
          </p:nvSpPr>
          <p:spPr>
            <a:xfrm>
              <a:off x="6289560" y="1644480"/>
              <a:ext cx="1013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400" spc="-1" strike="noStrike">
                  <a:solidFill>
                    <a:srgbClr val="000000"/>
                  </a:solidFill>
                  <a:latin typeface="Times New Roman"/>
                </a:rPr>
                <a:t>24 mmol/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1" name=""/>
            <p:cNvSpPr/>
            <p:nvPr/>
          </p:nvSpPr>
          <p:spPr>
            <a:xfrm>
              <a:off x="5583240" y="3564000"/>
              <a:ext cx="2087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400" spc="-1" strike="noStrike">
                  <a:solidFill>
                    <a:srgbClr val="000000"/>
                  </a:solidFill>
                  <a:latin typeface="Times New Roman"/>
                </a:rPr>
                <a:t>43 nmol/l (pH=7,37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2" name=""/>
            <p:cNvSpPr/>
            <p:nvPr/>
          </p:nvSpPr>
          <p:spPr>
            <a:xfrm>
              <a:off x="6129360" y="2179800"/>
              <a:ext cx="349200" cy="0"/>
            </a:xfrm>
            <a:prstGeom prst="line">
              <a:avLst/>
            </a:prstGeom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3" name=""/>
            <p:cNvSpPr/>
            <p:nvPr/>
          </p:nvSpPr>
          <p:spPr>
            <a:xfrm>
              <a:off x="6351480" y="1433520"/>
              <a:ext cx="0" cy="758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4" name=""/>
            <p:cNvSpPr/>
            <p:nvPr/>
          </p:nvSpPr>
          <p:spPr>
            <a:xfrm>
              <a:off x="5580000" y="4206960"/>
              <a:ext cx="349200" cy="0"/>
            </a:xfrm>
            <a:prstGeom prst="line">
              <a:avLst/>
            </a:prstGeom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5" name=""/>
            <p:cNvSpPr/>
            <p:nvPr/>
          </p:nvSpPr>
          <p:spPr>
            <a:xfrm>
              <a:off x="5762520" y="3506760"/>
              <a:ext cx="0" cy="7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6" name=""/>
            <p:cNvSpPr/>
            <p:nvPr/>
          </p:nvSpPr>
          <p:spPr>
            <a:xfrm>
              <a:off x="7761240" y="4416480"/>
              <a:ext cx="1111320" cy="78264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7" name=""/>
            <p:cNvSpPr/>
            <p:nvPr/>
          </p:nvSpPr>
          <p:spPr>
            <a:xfrm>
              <a:off x="4997520" y="5199120"/>
              <a:ext cx="1111320" cy="9777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8" name=""/>
            <p:cNvSpPr/>
            <p:nvPr/>
          </p:nvSpPr>
          <p:spPr>
            <a:xfrm>
              <a:off x="4995720" y="5560920"/>
              <a:ext cx="1111320" cy="62388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9" name=""/>
            <p:cNvSpPr/>
            <p:nvPr/>
          </p:nvSpPr>
          <p:spPr>
            <a:xfrm>
              <a:off x="5189040" y="5680080"/>
              <a:ext cx="83304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Arial"/>
                </a:rPr>
                <a:t>Buf </a:t>
              </a:r>
              <a:r>
                <a:rPr b="1" lang="cs-CZ" sz="2400" spc="-1" strike="noStrike" baseline="70000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0" name=""/>
            <p:cNvSpPr/>
            <p:nvPr/>
          </p:nvSpPr>
          <p:spPr>
            <a:xfrm>
              <a:off x="5583240" y="3870360"/>
              <a:ext cx="2154240" cy="1035000"/>
            </a:xfrm>
            <a:custGeom>
              <a:avLst/>
              <a:gdLst/>
              <a:ahLst/>
              <a:rect l="l" t="t" r="r" b="b"/>
              <a:pathLst>
                <a:path w="1357" h="652">
                  <a:moveTo>
                    <a:pt x="1357" y="647"/>
                  </a:moveTo>
                  <a:lnTo>
                    <a:pt x="757" y="652"/>
                  </a:lnTo>
                  <a:cubicBezTo>
                    <a:pt x="637" y="634"/>
                    <a:pt x="655" y="631"/>
                    <a:pt x="635" y="538"/>
                  </a:cubicBezTo>
                  <a:lnTo>
                    <a:pt x="635" y="91"/>
                  </a:lnTo>
                  <a:cubicBezTo>
                    <a:pt x="622" y="1"/>
                    <a:pt x="660" y="15"/>
                    <a:pt x="554" y="0"/>
                  </a:cubicBezTo>
                  <a:lnTo>
                    <a:pt x="0" y="1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1" name=""/>
            <p:cNvSpPr/>
            <p:nvPr/>
          </p:nvSpPr>
          <p:spPr>
            <a:xfrm>
              <a:off x="6095880" y="4897440"/>
              <a:ext cx="1658880" cy="1012680"/>
            </a:xfrm>
            <a:custGeom>
              <a:avLst/>
              <a:gdLst/>
              <a:ahLst/>
              <a:rect l="l" t="t" r="r" b="b"/>
              <a:pathLst>
                <a:path w="1045" h="638">
                  <a:moveTo>
                    <a:pt x="1045" y="0"/>
                  </a:moveTo>
                  <a:lnTo>
                    <a:pt x="763" y="5"/>
                  </a:lnTo>
                  <a:lnTo>
                    <a:pt x="434" y="0"/>
                  </a:lnTo>
                  <a:cubicBezTo>
                    <a:pt x="359" y="22"/>
                    <a:pt x="332" y="47"/>
                    <a:pt x="312" y="138"/>
                  </a:cubicBezTo>
                  <a:lnTo>
                    <a:pt x="312" y="547"/>
                  </a:lnTo>
                  <a:cubicBezTo>
                    <a:pt x="298" y="630"/>
                    <a:pt x="283" y="623"/>
                    <a:pt x="231" y="638"/>
                  </a:cubicBezTo>
                  <a:lnTo>
                    <a:pt x="0" y="63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2" name=""/>
            <p:cNvSpPr/>
            <p:nvPr/>
          </p:nvSpPr>
          <p:spPr>
            <a:xfrm>
              <a:off x="5154480" y="5748480"/>
              <a:ext cx="9720" cy="293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3" name=""/>
            <p:cNvSpPr/>
            <p:nvPr/>
          </p:nvSpPr>
          <p:spPr>
            <a:xfrm>
              <a:off x="7962120" y="4622760"/>
              <a:ext cx="90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Arial"/>
                </a:rPr>
                <a:t>HBu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4" name=""/>
            <p:cNvSpPr/>
            <p:nvPr/>
          </p:nvSpPr>
          <p:spPr>
            <a:xfrm>
              <a:off x="7950240" y="4694400"/>
              <a:ext cx="9360" cy="293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5" name=""/>
            <p:cNvSpPr/>
            <p:nvPr/>
          </p:nvSpPr>
          <p:spPr>
            <a:xfrm>
              <a:off x="4784760" y="5199120"/>
              <a:ext cx="0" cy="36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6" name=""/>
            <p:cNvSpPr/>
            <p:nvPr/>
          </p:nvSpPr>
          <p:spPr>
            <a:xfrm>
              <a:off x="4654440" y="5560920"/>
              <a:ext cx="349200" cy="0"/>
            </a:xfrm>
            <a:prstGeom prst="line">
              <a:avLst/>
            </a:prstGeom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7" name=""/>
            <p:cNvSpPr/>
            <p:nvPr/>
          </p:nvSpPr>
          <p:spPr>
            <a:xfrm>
              <a:off x="4646520" y="5192640"/>
              <a:ext cx="349200" cy="0"/>
            </a:xfrm>
            <a:prstGeom prst="line">
              <a:avLst/>
            </a:prstGeom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8" name=""/>
            <p:cNvSpPr/>
            <p:nvPr/>
          </p:nvSpPr>
          <p:spPr>
            <a:xfrm>
              <a:off x="7612200" y="4054320"/>
              <a:ext cx="0" cy="362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9" name=""/>
            <p:cNvSpPr/>
            <p:nvPr/>
          </p:nvSpPr>
          <p:spPr>
            <a:xfrm>
              <a:off x="7427880" y="4416480"/>
              <a:ext cx="349200" cy="0"/>
            </a:xfrm>
            <a:prstGeom prst="line">
              <a:avLst/>
            </a:prstGeom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0" name=""/>
            <p:cNvSpPr/>
            <p:nvPr/>
          </p:nvSpPr>
          <p:spPr>
            <a:xfrm>
              <a:off x="7412040" y="4054320"/>
              <a:ext cx="349200" cy="0"/>
            </a:xfrm>
            <a:prstGeom prst="line">
              <a:avLst/>
            </a:prstGeom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1" name=""/>
            <p:cNvSpPr/>
            <p:nvPr/>
          </p:nvSpPr>
          <p:spPr>
            <a:xfrm>
              <a:off x="6572160" y="4054320"/>
              <a:ext cx="1098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400" spc="-1" strike="noStrike">
                  <a:solidFill>
                    <a:srgbClr val="000000"/>
                  </a:solidFill>
                  <a:latin typeface="Times New Roman"/>
                </a:rPr>
                <a:t>+1 mmol/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2" name=""/>
            <p:cNvSpPr/>
            <p:nvPr/>
          </p:nvSpPr>
          <p:spPr>
            <a:xfrm>
              <a:off x="5519880" y="3506760"/>
              <a:ext cx="349200" cy="0"/>
            </a:xfrm>
            <a:prstGeom prst="line">
              <a:avLst/>
            </a:prstGeom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3" name=""/>
            <p:cNvSpPr/>
            <p:nvPr/>
          </p:nvSpPr>
          <p:spPr>
            <a:xfrm>
              <a:off x="3206880" y="5205240"/>
              <a:ext cx="1695240" cy="4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400" spc="-1" strike="noStrike">
                  <a:solidFill>
                    <a:srgbClr val="000000"/>
                  </a:solidFill>
                  <a:latin typeface="Times New Roman"/>
                </a:rPr>
                <a:t>dBuf </a:t>
              </a:r>
              <a:r>
                <a:rPr b="1" lang="cs-CZ" sz="2000" spc="-1" strike="noStrike" baseline="50000">
                  <a:solidFill>
                    <a:srgbClr val="000000"/>
                  </a:solidFill>
                  <a:latin typeface="Times New Roman"/>
                </a:rPr>
                <a:t>-</a:t>
              </a:r>
              <a:r>
                <a:rPr b="1" lang="cs-CZ" sz="1400" spc="-1" strike="noStrike">
                  <a:solidFill>
                    <a:srgbClr val="000000"/>
                  </a:solidFill>
                  <a:latin typeface="Times New Roman"/>
                </a:rPr>
                <a:t> = -1 mmol/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64" name=""/>
            <p:cNvGrpSpPr/>
            <p:nvPr/>
          </p:nvGrpSpPr>
          <p:grpSpPr>
            <a:xfrm>
              <a:off x="6176880" y="977760"/>
              <a:ext cx="2085840" cy="452160"/>
              <a:chOff x="6176880" y="977760"/>
              <a:chExt cx="2085840" cy="452160"/>
            </a:xfrm>
          </p:grpSpPr>
          <p:sp>
            <p:nvSpPr>
              <p:cNvPr id="9665" name=""/>
              <p:cNvSpPr/>
              <p:nvPr/>
            </p:nvSpPr>
            <p:spPr>
              <a:xfrm>
                <a:off x="6176880" y="1093680"/>
                <a:ext cx="208584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1400" spc="-1" strike="noStrike">
                    <a:solidFill>
                      <a:srgbClr val="000000"/>
                    </a:solidFill>
                    <a:latin typeface="Times New Roman"/>
                  </a:rPr>
                  <a:t>dHCO</a:t>
                </a:r>
                <a:r>
                  <a:rPr b="1" lang="cs-CZ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3</a:t>
                </a:r>
                <a:r>
                  <a:rPr b="1" lang="cs-CZ" sz="1400" spc="-1" strike="noStrike">
                    <a:solidFill>
                      <a:srgbClr val="000000"/>
                    </a:solidFill>
                    <a:latin typeface="Times New Roman"/>
                  </a:rPr>
                  <a:t> = +1 mmol/l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6" name=""/>
              <p:cNvSpPr/>
              <p:nvPr/>
            </p:nvSpPr>
            <p:spPr>
              <a:xfrm>
                <a:off x="6951600" y="977760"/>
                <a:ext cx="81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14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67" name=""/>
            <p:cNvSpPr/>
            <p:nvPr/>
          </p:nvSpPr>
          <p:spPr>
            <a:xfrm>
              <a:off x="1782000" y="135000"/>
              <a:ext cx="3230280" cy="510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Arial"/>
                </a:rPr>
                <a:t>Titrace CO</a:t>
              </a:r>
              <a:r>
                <a:rPr b="1" lang="cs-CZ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cs-CZ" sz="2400" spc="-1" strike="noStrike">
                  <a:solidFill>
                    <a:srgbClr val="000000"/>
                  </a:solidFill>
                  <a:latin typeface="Arial"/>
                </a:rPr>
                <a:t> „in vitro“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8" name=""/>
            <p:cNvSpPr/>
            <p:nvPr/>
          </p:nvSpPr>
          <p:spPr>
            <a:xfrm>
              <a:off x="173160" y="5510160"/>
              <a:ext cx="3625560" cy="1287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00000"/>
                  </a:solidFill>
                  <a:latin typeface="Arial"/>
                </a:rPr>
                <a:t>Při vzestupu CO2 hodnota celkové koncentrace nárazníkových bazí (Buffer Base) - BB se nemění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00000"/>
                  </a:solidFill>
                  <a:latin typeface="Arial"/>
                </a:rPr>
                <a:t>BB  =</a:t>
              </a:r>
              <a:r>
                <a:rPr b="1" lang="cs-CZ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[</a:t>
              </a:r>
              <a:r>
                <a:rPr b="1" lang="cs-CZ" sz="1600" spc="-1" strike="noStrike">
                  <a:solidFill>
                    <a:srgbClr val="000000"/>
                  </a:solidFill>
                  <a:latin typeface="Arial"/>
                </a:rPr>
                <a:t>HCO</a:t>
              </a:r>
              <a:r>
                <a:rPr b="1" lang="cs-CZ" sz="16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cs-CZ" sz="1600" spc="-1" strike="noStrike" baseline="7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1" lang="cs-CZ" sz="2400" spc="-1" strike="noStrike" baseline="70000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Arial"/>
                </a:rPr>
                <a:t>]</a:t>
              </a:r>
              <a:r>
                <a:rPr b="1" lang="cs-CZ" sz="2400" spc="-1" strike="noStrike">
                  <a:solidFill>
                    <a:srgbClr val="000000"/>
                  </a:solidFill>
                  <a:latin typeface="Arial"/>
                </a:rPr>
                <a:t>+ </a:t>
              </a:r>
              <a:r>
                <a:rPr b="0" lang="cs-CZ" sz="2400" spc="-1" strike="noStrike">
                  <a:solidFill>
                    <a:srgbClr val="000000"/>
                  </a:solidFill>
                  <a:latin typeface="Arial"/>
                </a:rPr>
                <a:t>[</a:t>
              </a:r>
              <a:r>
                <a:rPr b="1" lang="cs-CZ" sz="1600" spc="-1" strike="noStrike">
                  <a:solidFill>
                    <a:srgbClr val="000000"/>
                  </a:solidFill>
                  <a:latin typeface="Arial"/>
                </a:rPr>
                <a:t>Buf </a:t>
              </a:r>
              <a:r>
                <a:rPr b="1" lang="cs-CZ" sz="1600" spc="-1" strike="noStrike" baseline="7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1" lang="cs-CZ" sz="2400" spc="-1" strike="noStrike" baseline="70000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Arial"/>
                </a:rPr>
                <a:t>]</a:t>
              </a:r>
              <a:r>
                <a:rPr b="1" lang="cs-CZ" sz="1600" spc="-1" strike="noStrike">
                  <a:solidFill>
                    <a:srgbClr val="000000"/>
                  </a:solidFill>
                  <a:latin typeface="Arial"/>
                </a:rPr>
                <a:t> = const</a:t>
              </a:r>
              <a:r>
                <a:rPr b="1" lang="cs-CZ" sz="2400" spc="-1" strike="noStrike" baseline="70000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9" name=""/>
            <p:cNvSpPr/>
            <p:nvPr/>
          </p:nvSpPr>
          <p:spPr>
            <a:xfrm>
              <a:off x="6689880" y="1778040"/>
              <a:ext cx="2331720" cy="1290600"/>
            </a:xfrm>
            <a:prstGeom prst="cloudCallout">
              <a:avLst>
                <a:gd name="adj1" fmla="val -96833"/>
                <a:gd name="adj2" fmla="val 71773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400" spc="-1" strike="noStrike">
                  <a:solidFill>
                    <a:srgbClr val="000000"/>
                  </a:solidFill>
                  <a:latin typeface="Times New Roman"/>
                </a:rPr>
                <a:t>999 997 nmol/l H</a:t>
              </a:r>
              <a:r>
                <a:rPr b="1" lang="cs-CZ" sz="1400" spc="-1" strike="noStrike" baseline="30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400" spc="-1" strike="noStrike">
                  <a:solidFill>
                    <a:srgbClr val="000000"/>
                  </a:solidFill>
                  <a:latin typeface="Times New Roman"/>
                </a:rPr>
                <a:t>bylo „odpufrováno“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400" spc="-1" strike="noStrike">
                  <a:solidFill>
                    <a:srgbClr val="000000"/>
                  </a:solidFill>
                  <a:latin typeface="Times New Roman"/>
                </a:rPr>
                <a:t>nebikarbonátovými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400" spc="-1" strike="noStrike">
                  <a:solidFill>
                    <a:srgbClr val="000000"/>
                  </a:solidFill>
                  <a:latin typeface="Times New Roman"/>
                </a:rPr>
                <a:t>nárazníky</a:t>
              </a:r>
              <a:r>
                <a:rPr b="0" lang="cs-CZ" sz="12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6" name=""/>
          <p:cNvGrpSpPr/>
          <p:nvPr/>
        </p:nvGrpSpPr>
        <p:grpSpPr>
          <a:xfrm>
            <a:off x="793800" y="260280"/>
            <a:ext cx="7920000" cy="6393240"/>
            <a:chOff x="793800" y="260280"/>
            <a:chExt cx="7920000" cy="6393240"/>
          </a:xfrm>
        </p:grpSpPr>
        <p:sp>
          <p:nvSpPr>
            <p:cNvPr id="667" name=""/>
            <p:cNvSpPr/>
            <p:nvPr/>
          </p:nvSpPr>
          <p:spPr>
            <a:xfrm>
              <a:off x="905040" y="2692440"/>
              <a:ext cx="5116320" cy="2830320"/>
            </a:xfrm>
            <a:prstGeom prst="can">
              <a:avLst>
                <a:gd name="adj" fmla="val 25000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793800" y="3389400"/>
              <a:ext cx="52452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4400" spc="-1" strike="noStrike">
                  <a:solidFill>
                    <a:srgbClr val="000000"/>
                  </a:solidFill>
                  <a:latin typeface="Times New Roman"/>
                </a:rPr>
                <a:t>Denní bilance sodíku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9" name=""/>
            <p:cNvGrpSpPr/>
            <p:nvPr/>
          </p:nvGrpSpPr>
          <p:grpSpPr>
            <a:xfrm>
              <a:off x="2859120" y="1609560"/>
              <a:ext cx="879480" cy="1404720"/>
              <a:chOff x="2859120" y="1609560"/>
              <a:chExt cx="879480" cy="1404720"/>
            </a:xfrm>
          </p:grpSpPr>
          <p:sp>
            <p:nvSpPr>
              <p:cNvPr id="670" name=""/>
              <p:cNvSpPr/>
              <p:nvPr/>
            </p:nvSpPr>
            <p:spPr>
              <a:xfrm>
                <a:off x="2867040" y="1716480"/>
                <a:ext cx="863280" cy="963720"/>
              </a:xfrm>
              <a:custGeom>
                <a:avLst/>
                <a:gdLst/>
                <a:ahLst/>
                <a:rect l="l" t="t" r="r" b="b"/>
                <a:pathLst>
                  <a:path w="2256" h="2295">
                    <a:moveTo>
                      <a:pt x="0" y="0"/>
                    </a:moveTo>
                    <a:lnTo>
                      <a:pt x="939" y="1180"/>
                    </a:lnTo>
                    <a:lnTo>
                      <a:pt x="980" y="2175"/>
                    </a:lnTo>
                    <a:lnTo>
                      <a:pt x="983" y="2202"/>
                    </a:lnTo>
                    <a:lnTo>
                      <a:pt x="991" y="2221"/>
                    </a:lnTo>
                    <a:lnTo>
                      <a:pt x="1000" y="2235"/>
                    </a:lnTo>
                    <a:lnTo>
                      <a:pt x="1010" y="2246"/>
                    </a:lnTo>
                    <a:lnTo>
                      <a:pt x="1024" y="2260"/>
                    </a:lnTo>
                    <a:lnTo>
                      <a:pt x="1038" y="2268"/>
                    </a:lnTo>
                    <a:lnTo>
                      <a:pt x="1060" y="2281"/>
                    </a:lnTo>
                    <a:lnTo>
                      <a:pt x="1083" y="2287"/>
                    </a:lnTo>
                    <a:lnTo>
                      <a:pt x="1111" y="2293"/>
                    </a:lnTo>
                    <a:lnTo>
                      <a:pt x="1128" y="2295"/>
                    </a:lnTo>
                    <a:lnTo>
                      <a:pt x="1145" y="2295"/>
                    </a:lnTo>
                    <a:lnTo>
                      <a:pt x="1163" y="2292"/>
                    </a:lnTo>
                    <a:lnTo>
                      <a:pt x="1183" y="2286"/>
                    </a:lnTo>
                    <a:lnTo>
                      <a:pt x="1202" y="2279"/>
                    </a:lnTo>
                    <a:lnTo>
                      <a:pt x="1221" y="2268"/>
                    </a:lnTo>
                    <a:lnTo>
                      <a:pt x="1235" y="2259"/>
                    </a:lnTo>
                    <a:lnTo>
                      <a:pt x="1251" y="2243"/>
                    </a:lnTo>
                    <a:lnTo>
                      <a:pt x="1262" y="2227"/>
                    </a:lnTo>
                    <a:lnTo>
                      <a:pt x="1273" y="2203"/>
                    </a:lnTo>
                    <a:lnTo>
                      <a:pt x="1276" y="2181"/>
                    </a:lnTo>
                    <a:lnTo>
                      <a:pt x="1336" y="1161"/>
                    </a:lnTo>
                    <a:lnTo>
                      <a:pt x="225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2859120" y="1609560"/>
                <a:ext cx="879480" cy="182880"/>
              </a:xfrm>
              <a:prstGeom prst="ellipse">
                <a:avLst/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2927880" y="1744200"/>
                <a:ext cx="748440" cy="907200"/>
              </a:xfrm>
              <a:custGeom>
                <a:avLst/>
                <a:gdLst/>
                <a:ahLst/>
                <a:rect l="l" t="t" r="r" b="b"/>
                <a:pathLst>
                  <a:path w="1956" h="2159">
                    <a:moveTo>
                      <a:pt x="0" y="19"/>
                    </a:moveTo>
                    <a:lnTo>
                      <a:pt x="857" y="1063"/>
                    </a:lnTo>
                    <a:lnTo>
                      <a:pt x="879" y="2090"/>
                    </a:lnTo>
                    <a:lnTo>
                      <a:pt x="887" y="2107"/>
                    </a:lnTo>
                    <a:lnTo>
                      <a:pt x="897" y="2123"/>
                    </a:lnTo>
                    <a:lnTo>
                      <a:pt x="906" y="2137"/>
                    </a:lnTo>
                    <a:lnTo>
                      <a:pt x="922" y="2147"/>
                    </a:lnTo>
                    <a:lnTo>
                      <a:pt x="939" y="2156"/>
                    </a:lnTo>
                    <a:lnTo>
                      <a:pt x="962" y="2159"/>
                    </a:lnTo>
                    <a:lnTo>
                      <a:pt x="983" y="2157"/>
                    </a:lnTo>
                    <a:lnTo>
                      <a:pt x="1005" y="2153"/>
                    </a:lnTo>
                    <a:lnTo>
                      <a:pt x="1026" y="2140"/>
                    </a:lnTo>
                    <a:lnTo>
                      <a:pt x="1040" y="2123"/>
                    </a:lnTo>
                    <a:lnTo>
                      <a:pt x="1048" y="2109"/>
                    </a:lnTo>
                    <a:lnTo>
                      <a:pt x="1056" y="2088"/>
                    </a:lnTo>
                    <a:lnTo>
                      <a:pt x="1100" y="1045"/>
                    </a:lnTo>
                    <a:lnTo>
                      <a:pt x="1956" y="0"/>
                    </a:lnTo>
                    <a:lnTo>
                      <a:pt x="1790" y="41"/>
                    </a:lnTo>
                    <a:lnTo>
                      <a:pt x="1531" y="77"/>
                    </a:lnTo>
                    <a:lnTo>
                      <a:pt x="1247" y="98"/>
                    </a:lnTo>
                    <a:lnTo>
                      <a:pt x="962" y="109"/>
                    </a:lnTo>
                    <a:lnTo>
                      <a:pt x="662" y="98"/>
                    </a:lnTo>
                    <a:lnTo>
                      <a:pt x="398" y="77"/>
                    </a:lnTo>
                    <a:lnTo>
                      <a:pt x="178" y="52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3056400" y="1928160"/>
                <a:ext cx="483120" cy="725760"/>
              </a:xfrm>
              <a:custGeom>
                <a:avLst/>
                <a:gdLst/>
                <a:ahLst/>
                <a:rect l="l" t="t" r="r" b="b"/>
                <a:pathLst>
                  <a:path w="1264" h="1728">
                    <a:moveTo>
                      <a:pt x="0" y="0"/>
                    </a:moveTo>
                    <a:lnTo>
                      <a:pt x="520" y="624"/>
                    </a:lnTo>
                    <a:lnTo>
                      <a:pt x="531" y="1657"/>
                    </a:lnTo>
                    <a:lnTo>
                      <a:pt x="541" y="1674"/>
                    </a:lnTo>
                    <a:lnTo>
                      <a:pt x="553" y="1688"/>
                    </a:lnTo>
                    <a:lnTo>
                      <a:pt x="564" y="1701"/>
                    </a:lnTo>
                    <a:lnTo>
                      <a:pt x="580" y="1715"/>
                    </a:lnTo>
                    <a:lnTo>
                      <a:pt x="608" y="1723"/>
                    </a:lnTo>
                    <a:lnTo>
                      <a:pt x="632" y="1728"/>
                    </a:lnTo>
                    <a:lnTo>
                      <a:pt x="651" y="1725"/>
                    </a:lnTo>
                    <a:lnTo>
                      <a:pt x="673" y="1720"/>
                    </a:lnTo>
                    <a:lnTo>
                      <a:pt x="694" y="1709"/>
                    </a:lnTo>
                    <a:lnTo>
                      <a:pt x="711" y="1692"/>
                    </a:lnTo>
                    <a:lnTo>
                      <a:pt x="723" y="1669"/>
                    </a:lnTo>
                    <a:lnTo>
                      <a:pt x="730" y="1657"/>
                    </a:lnTo>
                    <a:lnTo>
                      <a:pt x="761" y="605"/>
                    </a:lnTo>
                    <a:lnTo>
                      <a:pt x="126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3260880" y="2693160"/>
                <a:ext cx="75600" cy="155880"/>
              </a:xfrm>
              <a:custGeom>
                <a:avLst/>
                <a:gdLst/>
                <a:ahLst/>
                <a:rect l="l" t="t" r="r" b="b"/>
                <a:pathLst>
                  <a:path w="196" h="370">
                    <a:moveTo>
                      <a:pt x="95" y="0"/>
                    </a:moveTo>
                    <a:lnTo>
                      <a:pt x="105" y="58"/>
                    </a:lnTo>
                    <a:lnTo>
                      <a:pt x="111" y="87"/>
                    </a:lnTo>
                    <a:lnTo>
                      <a:pt x="121" y="121"/>
                    </a:lnTo>
                    <a:lnTo>
                      <a:pt x="132" y="141"/>
                    </a:lnTo>
                    <a:lnTo>
                      <a:pt x="147" y="166"/>
                    </a:lnTo>
                    <a:lnTo>
                      <a:pt x="167" y="193"/>
                    </a:lnTo>
                    <a:lnTo>
                      <a:pt x="184" y="220"/>
                    </a:lnTo>
                    <a:lnTo>
                      <a:pt x="192" y="245"/>
                    </a:lnTo>
                    <a:lnTo>
                      <a:pt x="196" y="278"/>
                    </a:lnTo>
                    <a:lnTo>
                      <a:pt x="189" y="307"/>
                    </a:lnTo>
                    <a:lnTo>
                      <a:pt x="178" y="328"/>
                    </a:lnTo>
                    <a:lnTo>
                      <a:pt x="162" y="345"/>
                    </a:lnTo>
                    <a:lnTo>
                      <a:pt x="141" y="361"/>
                    </a:lnTo>
                    <a:lnTo>
                      <a:pt x="121" y="367"/>
                    </a:lnTo>
                    <a:lnTo>
                      <a:pt x="99" y="370"/>
                    </a:lnTo>
                    <a:lnTo>
                      <a:pt x="76" y="367"/>
                    </a:lnTo>
                    <a:lnTo>
                      <a:pt x="54" y="362"/>
                    </a:lnTo>
                    <a:lnTo>
                      <a:pt x="34" y="350"/>
                    </a:lnTo>
                    <a:lnTo>
                      <a:pt x="19" y="334"/>
                    </a:lnTo>
                    <a:lnTo>
                      <a:pt x="8" y="315"/>
                    </a:lnTo>
                    <a:lnTo>
                      <a:pt x="3" y="296"/>
                    </a:lnTo>
                    <a:lnTo>
                      <a:pt x="0" y="272"/>
                    </a:lnTo>
                    <a:lnTo>
                      <a:pt x="5" y="240"/>
                    </a:lnTo>
                    <a:lnTo>
                      <a:pt x="13" y="218"/>
                    </a:lnTo>
                    <a:lnTo>
                      <a:pt x="30" y="190"/>
                    </a:lnTo>
                    <a:lnTo>
                      <a:pt x="49" y="166"/>
                    </a:lnTo>
                    <a:lnTo>
                      <a:pt x="62" y="140"/>
                    </a:lnTo>
                    <a:lnTo>
                      <a:pt x="72" y="119"/>
                    </a:lnTo>
                    <a:lnTo>
                      <a:pt x="81" y="90"/>
                    </a:lnTo>
                    <a:lnTo>
                      <a:pt x="86" y="58"/>
                    </a:lnTo>
                    <a:lnTo>
                      <a:pt x="95" y="0"/>
                    </a:lnTo>
                    <a:close/>
                  </a:path>
                </a:pathLst>
              </a:cu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2902680" y="1627200"/>
                <a:ext cx="792000" cy="147240"/>
              </a:xfrm>
              <a:prstGeom prst="ellips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3260880" y="2858040"/>
                <a:ext cx="75600" cy="156240"/>
              </a:xfrm>
              <a:custGeom>
                <a:avLst/>
                <a:gdLst/>
                <a:ahLst/>
                <a:rect l="l" t="t" r="r" b="b"/>
                <a:pathLst>
                  <a:path w="196" h="372">
                    <a:moveTo>
                      <a:pt x="95" y="0"/>
                    </a:moveTo>
                    <a:lnTo>
                      <a:pt x="105" y="60"/>
                    </a:lnTo>
                    <a:lnTo>
                      <a:pt x="111" y="88"/>
                    </a:lnTo>
                    <a:lnTo>
                      <a:pt x="121" y="122"/>
                    </a:lnTo>
                    <a:lnTo>
                      <a:pt x="132" y="143"/>
                    </a:lnTo>
                    <a:lnTo>
                      <a:pt x="147" y="168"/>
                    </a:lnTo>
                    <a:lnTo>
                      <a:pt x="167" y="195"/>
                    </a:lnTo>
                    <a:lnTo>
                      <a:pt x="184" y="221"/>
                    </a:lnTo>
                    <a:lnTo>
                      <a:pt x="192" y="247"/>
                    </a:lnTo>
                    <a:lnTo>
                      <a:pt x="196" y="279"/>
                    </a:lnTo>
                    <a:lnTo>
                      <a:pt x="189" y="308"/>
                    </a:lnTo>
                    <a:lnTo>
                      <a:pt x="178" y="328"/>
                    </a:lnTo>
                    <a:lnTo>
                      <a:pt x="162" y="345"/>
                    </a:lnTo>
                    <a:lnTo>
                      <a:pt x="141" y="361"/>
                    </a:lnTo>
                    <a:lnTo>
                      <a:pt x="121" y="369"/>
                    </a:lnTo>
                    <a:lnTo>
                      <a:pt x="99" y="372"/>
                    </a:lnTo>
                    <a:lnTo>
                      <a:pt x="76" y="369"/>
                    </a:lnTo>
                    <a:lnTo>
                      <a:pt x="54" y="363"/>
                    </a:lnTo>
                    <a:lnTo>
                      <a:pt x="34" y="351"/>
                    </a:lnTo>
                    <a:lnTo>
                      <a:pt x="19" y="336"/>
                    </a:lnTo>
                    <a:lnTo>
                      <a:pt x="8" y="317"/>
                    </a:lnTo>
                    <a:lnTo>
                      <a:pt x="3" y="298"/>
                    </a:lnTo>
                    <a:lnTo>
                      <a:pt x="0" y="272"/>
                    </a:lnTo>
                    <a:lnTo>
                      <a:pt x="5" y="242"/>
                    </a:lnTo>
                    <a:lnTo>
                      <a:pt x="13" y="219"/>
                    </a:lnTo>
                    <a:lnTo>
                      <a:pt x="30" y="191"/>
                    </a:lnTo>
                    <a:lnTo>
                      <a:pt x="49" y="168"/>
                    </a:lnTo>
                    <a:lnTo>
                      <a:pt x="62" y="141"/>
                    </a:lnTo>
                    <a:lnTo>
                      <a:pt x="72" y="120"/>
                    </a:lnTo>
                    <a:lnTo>
                      <a:pt x="81" y="90"/>
                    </a:lnTo>
                    <a:lnTo>
                      <a:pt x="86" y="60"/>
                    </a:lnTo>
                    <a:lnTo>
                      <a:pt x="95" y="0"/>
                    </a:lnTo>
                    <a:close/>
                  </a:path>
                </a:pathLst>
              </a:cu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3051720" y="1870200"/>
                <a:ext cx="493560" cy="94320"/>
              </a:xfrm>
              <a:prstGeom prst="ellipse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3265560" y="2594880"/>
                <a:ext cx="65520" cy="72720"/>
              </a:xfrm>
              <a:prstGeom prst="ellipse">
                <a:avLst/>
              </a:prstGeom>
              <a:solidFill>
                <a:srgbClr val="009999"/>
              </a:solidFill>
              <a:ln w="1764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9" name=""/>
            <p:cNvGrpSpPr/>
            <p:nvPr/>
          </p:nvGrpSpPr>
          <p:grpSpPr>
            <a:xfrm>
              <a:off x="4919760" y="4600440"/>
              <a:ext cx="822240" cy="961560"/>
              <a:chOff x="4919760" y="4600440"/>
              <a:chExt cx="822240" cy="961560"/>
            </a:xfrm>
          </p:grpSpPr>
          <p:graphicFrame>
            <p:nvGraphicFramePr>
              <p:cNvPr id="680" name=""/>
              <p:cNvGraphicFramePr/>
              <p:nvPr/>
            </p:nvGraphicFramePr>
            <p:xfrm>
              <a:off x="4919760" y="4600440"/>
              <a:ext cx="822240" cy="7160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681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4919760" y="4600440"/>
                        <a:ext cx="822240" cy="7160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pSp>
            <p:nvGrpSpPr>
              <p:cNvPr id="682" name=""/>
              <p:cNvGrpSpPr/>
              <p:nvPr/>
            </p:nvGrpSpPr>
            <p:grpSpPr>
              <a:xfrm>
                <a:off x="5545080" y="5241960"/>
                <a:ext cx="74160" cy="320040"/>
                <a:chOff x="5545080" y="5241960"/>
                <a:chExt cx="74160" cy="320040"/>
              </a:xfrm>
            </p:grpSpPr>
            <p:sp>
              <p:nvSpPr>
                <p:cNvPr id="683" name=""/>
                <p:cNvSpPr/>
                <p:nvPr/>
              </p:nvSpPr>
              <p:spPr>
                <a:xfrm>
                  <a:off x="5545080" y="5241960"/>
                  <a:ext cx="74160" cy="155520"/>
                </a:xfrm>
                <a:custGeom>
                  <a:avLst/>
                  <a:gdLst/>
                  <a:ahLst/>
                  <a:rect l="l" t="t" r="r" b="b"/>
                  <a:pathLst>
                    <a:path w="196" h="371">
                      <a:moveTo>
                        <a:pt x="95" y="0"/>
                      </a:moveTo>
                      <a:lnTo>
                        <a:pt x="105" y="58"/>
                      </a:lnTo>
                      <a:lnTo>
                        <a:pt x="111" y="88"/>
                      </a:lnTo>
                      <a:lnTo>
                        <a:pt x="121" y="122"/>
                      </a:lnTo>
                      <a:lnTo>
                        <a:pt x="132" y="142"/>
                      </a:lnTo>
                      <a:lnTo>
                        <a:pt x="147" y="166"/>
                      </a:lnTo>
                      <a:lnTo>
                        <a:pt x="167" y="194"/>
                      </a:lnTo>
                      <a:lnTo>
                        <a:pt x="184" y="220"/>
                      </a:lnTo>
                      <a:lnTo>
                        <a:pt x="192" y="246"/>
                      </a:lnTo>
                      <a:lnTo>
                        <a:pt x="196" y="279"/>
                      </a:lnTo>
                      <a:lnTo>
                        <a:pt x="189" y="307"/>
                      </a:lnTo>
                      <a:lnTo>
                        <a:pt x="178" y="328"/>
                      </a:lnTo>
                      <a:lnTo>
                        <a:pt x="162" y="345"/>
                      </a:lnTo>
                      <a:lnTo>
                        <a:pt x="141" y="361"/>
                      </a:lnTo>
                      <a:lnTo>
                        <a:pt x="121" y="368"/>
                      </a:lnTo>
                      <a:lnTo>
                        <a:pt x="99" y="371"/>
                      </a:lnTo>
                      <a:lnTo>
                        <a:pt x="76" y="368"/>
                      </a:lnTo>
                      <a:lnTo>
                        <a:pt x="54" y="362"/>
                      </a:lnTo>
                      <a:lnTo>
                        <a:pt x="34" y="351"/>
                      </a:lnTo>
                      <a:lnTo>
                        <a:pt x="19" y="335"/>
                      </a:lnTo>
                      <a:lnTo>
                        <a:pt x="8" y="316"/>
                      </a:lnTo>
                      <a:lnTo>
                        <a:pt x="3" y="297"/>
                      </a:lnTo>
                      <a:lnTo>
                        <a:pt x="0" y="272"/>
                      </a:lnTo>
                      <a:lnTo>
                        <a:pt x="5" y="240"/>
                      </a:lnTo>
                      <a:lnTo>
                        <a:pt x="13" y="218"/>
                      </a:lnTo>
                      <a:lnTo>
                        <a:pt x="30" y="191"/>
                      </a:lnTo>
                      <a:lnTo>
                        <a:pt x="49" y="166"/>
                      </a:lnTo>
                      <a:lnTo>
                        <a:pt x="62" y="141"/>
                      </a:lnTo>
                      <a:lnTo>
                        <a:pt x="72" y="120"/>
                      </a:lnTo>
                      <a:lnTo>
                        <a:pt x="81" y="90"/>
                      </a:lnTo>
                      <a:lnTo>
                        <a:pt x="86" y="58"/>
                      </a:lnTo>
                      <a:lnTo>
                        <a:pt x="95" y="0"/>
                      </a:lnTo>
                      <a:close/>
                    </a:path>
                  </a:pathLst>
                </a:custGeom>
                <a:solidFill>
                  <a:srgbClr val="00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4" name=""/>
                <p:cNvSpPr/>
                <p:nvPr/>
              </p:nvSpPr>
              <p:spPr>
                <a:xfrm>
                  <a:off x="5545080" y="5406480"/>
                  <a:ext cx="74160" cy="155520"/>
                </a:xfrm>
                <a:custGeom>
                  <a:avLst/>
                  <a:gdLst/>
                  <a:ahLst/>
                  <a:rect l="l" t="t" r="r" b="b"/>
                  <a:pathLst>
                    <a:path w="196" h="372">
                      <a:moveTo>
                        <a:pt x="95" y="0"/>
                      </a:moveTo>
                      <a:lnTo>
                        <a:pt x="105" y="59"/>
                      </a:lnTo>
                      <a:lnTo>
                        <a:pt x="111" y="88"/>
                      </a:lnTo>
                      <a:lnTo>
                        <a:pt x="121" y="122"/>
                      </a:lnTo>
                      <a:lnTo>
                        <a:pt x="132" y="143"/>
                      </a:lnTo>
                      <a:lnTo>
                        <a:pt x="147" y="167"/>
                      </a:lnTo>
                      <a:lnTo>
                        <a:pt x="167" y="195"/>
                      </a:lnTo>
                      <a:lnTo>
                        <a:pt x="184" y="220"/>
                      </a:lnTo>
                      <a:lnTo>
                        <a:pt x="192" y="247"/>
                      </a:lnTo>
                      <a:lnTo>
                        <a:pt x="196" y="279"/>
                      </a:lnTo>
                      <a:lnTo>
                        <a:pt x="189" y="308"/>
                      </a:lnTo>
                      <a:lnTo>
                        <a:pt x="178" y="328"/>
                      </a:lnTo>
                      <a:lnTo>
                        <a:pt x="162" y="345"/>
                      </a:lnTo>
                      <a:lnTo>
                        <a:pt x="141" y="361"/>
                      </a:lnTo>
                      <a:lnTo>
                        <a:pt x="121" y="369"/>
                      </a:lnTo>
                      <a:lnTo>
                        <a:pt x="99" y="372"/>
                      </a:lnTo>
                      <a:lnTo>
                        <a:pt x="76" y="369"/>
                      </a:lnTo>
                      <a:lnTo>
                        <a:pt x="54" y="363"/>
                      </a:lnTo>
                      <a:lnTo>
                        <a:pt x="34" y="351"/>
                      </a:lnTo>
                      <a:lnTo>
                        <a:pt x="19" y="336"/>
                      </a:lnTo>
                      <a:lnTo>
                        <a:pt x="8" y="317"/>
                      </a:lnTo>
                      <a:lnTo>
                        <a:pt x="3" y="298"/>
                      </a:lnTo>
                      <a:lnTo>
                        <a:pt x="0" y="272"/>
                      </a:lnTo>
                      <a:lnTo>
                        <a:pt x="5" y="242"/>
                      </a:lnTo>
                      <a:lnTo>
                        <a:pt x="13" y="219"/>
                      </a:lnTo>
                      <a:lnTo>
                        <a:pt x="30" y="191"/>
                      </a:lnTo>
                      <a:lnTo>
                        <a:pt x="49" y="167"/>
                      </a:lnTo>
                      <a:lnTo>
                        <a:pt x="62" y="141"/>
                      </a:lnTo>
                      <a:lnTo>
                        <a:pt x="72" y="120"/>
                      </a:lnTo>
                      <a:lnTo>
                        <a:pt x="81" y="90"/>
                      </a:lnTo>
                      <a:lnTo>
                        <a:pt x="86" y="59"/>
                      </a:lnTo>
                      <a:lnTo>
                        <a:pt x="95" y="0"/>
                      </a:lnTo>
                      <a:close/>
                    </a:path>
                  </a:pathLst>
                </a:custGeom>
                <a:solidFill>
                  <a:srgbClr val="00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85" name=""/>
            <p:cNvSpPr/>
            <p:nvPr/>
          </p:nvSpPr>
          <p:spPr>
            <a:xfrm>
              <a:off x="2361960" y="714600"/>
              <a:ext cx="1834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Potrav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50-350 mmo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86" name=""/>
            <p:cNvGrpSpPr/>
            <p:nvPr/>
          </p:nvGrpSpPr>
          <p:grpSpPr>
            <a:xfrm>
              <a:off x="1265400" y="4638600"/>
              <a:ext cx="822240" cy="1022040"/>
              <a:chOff x="1265400" y="4638600"/>
              <a:chExt cx="822240" cy="1022040"/>
            </a:xfrm>
          </p:grpSpPr>
          <p:graphicFrame>
            <p:nvGraphicFramePr>
              <p:cNvPr id="687" name=""/>
              <p:cNvGraphicFramePr/>
              <p:nvPr/>
            </p:nvGraphicFramePr>
            <p:xfrm>
              <a:off x="1265400" y="4638600"/>
              <a:ext cx="822240" cy="71604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688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1265400" y="4638600"/>
                        <a:ext cx="822240" cy="7160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pSp>
            <p:nvGrpSpPr>
              <p:cNvPr id="689" name=""/>
              <p:cNvGrpSpPr/>
              <p:nvPr/>
            </p:nvGrpSpPr>
            <p:grpSpPr>
              <a:xfrm>
                <a:off x="1906560" y="5340240"/>
                <a:ext cx="74880" cy="320400"/>
                <a:chOff x="1906560" y="5340240"/>
                <a:chExt cx="74880" cy="320400"/>
              </a:xfrm>
            </p:grpSpPr>
            <p:sp>
              <p:nvSpPr>
                <p:cNvPr id="690" name=""/>
                <p:cNvSpPr/>
                <p:nvPr/>
              </p:nvSpPr>
              <p:spPr>
                <a:xfrm>
                  <a:off x="1906560" y="5340240"/>
                  <a:ext cx="74880" cy="155880"/>
                </a:xfrm>
                <a:custGeom>
                  <a:avLst/>
                  <a:gdLst/>
                  <a:ahLst/>
                  <a:rect l="l" t="t" r="r" b="b"/>
                  <a:pathLst>
                    <a:path w="196" h="371">
                      <a:moveTo>
                        <a:pt x="95" y="0"/>
                      </a:moveTo>
                      <a:lnTo>
                        <a:pt x="105" y="58"/>
                      </a:lnTo>
                      <a:lnTo>
                        <a:pt x="111" y="88"/>
                      </a:lnTo>
                      <a:lnTo>
                        <a:pt x="121" y="122"/>
                      </a:lnTo>
                      <a:lnTo>
                        <a:pt x="132" y="142"/>
                      </a:lnTo>
                      <a:lnTo>
                        <a:pt x="147" y="166"/>
                      </a:lnTo>
                      <a:lnTo>
                        <a:pt x="167" y="194"/>
                      </a:lnTo>
                      <a:lnTo>
                        <a:pt x="184" y="220"/>
                      </a:lnTo>
                      <a:lnTo>
                        <a:pt x="192" y="246"/>
                      </a:lnTo>
                      <a:lnTo>
                        <a:pt x="196" y="279"/>
                      </a:lnTo>
                      <a:lnTo>
                        <a:pt x="189" y="307"/>
                      </a:lnTo>
                      <a:lnTo>
                        <a:pt x="178" y="328"/>
                      </a:lnTo>
                      <a:lnTo>
                        <a:pt x="162" y="345"/>
                      </a:lnTo>
                      <a:lnTo>
                        <a:pt x="141" y="361"/>
                      </a:lnTo>
                      <a:lnTo>
                        <a:pt x="121" y="368"/>
                      </a:lnTo>
                      <a:lnTo>
                        <a:pt x="99" y="371"/>
                      </a:lnTo>
                      <a:lnTo>
                        <a:pt x="76" y="368"/>
                      </a:lnTo>
                      <a:lnTo>
                        <a:pt x="54" y="362"/>
                      </a:lnTo>
                      <a:lnTo>
                        <a:pt x="34" y="351"/>
                      </a:lnTo>
                      <a:lnTo>
                        <a:pt x="19" y="335"/>
                      </a:lnTo>
                      <a:lnTo>
                        <a:pt x="8" y="316"/>
                      </a:lnTo>
                      <a:lnTo>
                        <a:pt x="3" y="297"/>
                      </a:lnTo>
                      <a:lnTo>
                        <a:pt x="0" y="272"/>
                      </a:lnTo>
                      <a:lnTo>
                        <a:pt x="5" y="240"/>
                      </a:lnTo>
                      <a:lnTo>
                        <a:pt x="13" y="218"/>
                      </a:lnTo>
                      <a:lnTo>
                        <a:pt x="30" y="191"/>
                      </a:lnTo>
                      <a:lnTo>
                        <a:pt x="49" y="166"/>
                      </a:lnTo>
                      <a:lnTo>
                        <a:pt x="62" y="141"/>
                      </a:lnTo>
                      <a:lnTo>
                        <a:pt x="72" y="120"/>
                      </a:lnTo>
                      <a:lnTo>
                        <a:pt x="81" y="90"/>
                      </a:lnTo>
                      <a:lnTo>
                        <a:pt x="86" y="58"/>
                      </a:lnTo>
                      <a:lnTo>
                        <a:pt x="95" y="0"/>
                      </a:lnTo>
                      <a:close/>
                    </a:path>
                  </a:pathLst>
                </a:custGeom>
                <a:solidFill>
                  <a:srgbClr val="00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1" name=""/>
                <p:cNvSpPr/>
                <p:nvPr/>
              </p:nvSpPr>
              <p:spPr>
                <a:xfrm>
                  <a:off x="1906560" y="5504760"/>
                  <a:ext cx="74880" cy="155880"/>
                </a:xfrm>
                <a:custGeom>
                  <a:avLst/>
                  <a:gdLst/>
                  <a:ahLst/>
                  <a:rect l="l" t="t" r="r" b="b"/>
                  <a:pathLst>
                    <a:path w="196" h="372">
                      <a:moveTo>
                        <a:pt x="95" y="0"/>
                      </a:moveTo>
                      <a:lnTo>
                        <a:pt x="105" y="59"/>
                      </a:lnTo>
                      <a:lnTo>
                        <a:pt x="111" y="88"/>
                      </a:lnTo>
                      <a:lnTo>
                        <a:pt x="121" y="122"/>
                      </a:lnTo>
                      <a:lnTo>
                        <a:pt x="132" y="143"/>
                      </a:lnTo>
                      <a:lnTo>
                        <a:pt x="147" y="167"/>
                      </a:lnTo>
                      <a:lnTo>
                        <a:pt x="167" y="195"/>
                      </a:lnTo>
                      <a:lnTo>
                        <a:pt x="184" y="220"/>
                      </a:lnTo>
                      <a:lnTo>
                        <a:pt x="192" y="247"/>
                      </a:lnTo>
                      <a:lnTo>
                        <a:pt x="196" y="279"/>
                      </a:lnTo>
                      <a:lnTo>
                        <a:pt x="189" y="308"/>
                      </a:lnTo>
                      <a:lnTo>
                        <a:pt x="178" y="328"/>
                      </a:lnTo>
                      <a:lnTo>
                        <a:pt x="162" y="345"/>
                      </a:lnTo>
                      <a:lnTo>
                        <a:pt x="141" y="361"/>
                      </a:lnTo>
                      <a:lnTo>
                        <a:pt x="121" y="369"/>
                      </a:lnTo>
                      <a:lnTo>
                        <a:pt x="99" y="372"/>
                      </a:lnTo>
                      <a:lnTo>
                        <a:pt x="76" y="369"/>
                      </a:lnTo>
                      <a:lnTo>
                        <a:pt x="54" y="363"/>
                      </a:lnTo>
                      <a:lnTo>
                        <a:pt x="34" y="351"/>
                      </a:lnTo>
                      <a:lnTo>
                        <a:pt x="19" y="336"/>
                      </a:lnTo>
                      <a:lnTo>
                        <a:pt x="8" y="317"/>
                      </a:lnTo>
                      <a:lnTo>
                        <a:pt x="3" y="298"/>
                      </a:lnTo>
                      <a:lnTo>
                        <a:pt x="0" y="272"/>
                      </a:lnTo>
                      <a:lnTo>
                        <a:pt x="5" y="242"/>
                      </a:lnTo>
                      <a:lnTo>
                        <a:pt x="13" y="219"/>
                      </a:lnTo>
                      <a:lnTo>
                        <a:pt x="30" y="191"/>
                      </a:lnTo>
                      <a:lnTo>
                        <a:pt x="49" y="167"/>
                      </a:lnTo>
                      <a:lnTo>
                        <a:pt x="62" y="141"/>
                      </a:lnTo>
                      <a:lnTo>
                        <a:pt x="72" y="120"/>
                      </a:lnTo>
                      <a:lnTo>
                        <a:pt x="81" y="90"/>
                      </a:lnTo>
                      <a:lnTo>
                        <a:pt x="86" y="59"/>
                      </a:lnTo>
                      <a:lnTo>
                        <a:pt x="95" y="0"/>
                      </a:lnTo>
                      <a:close/>
                    </a:path>
                  </a:pathLst>
                </a:custGeom>
                <a:solidFill>
                  <a:srgbClr val="00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92" name=""/>
            <p:cNvGrpSpPr/>
            <p:nvPr/>
          </p:nvGrpSpPr>
          <p:grpSpPr>
            <a:xfrm>
              <a:off x="3201840" y="4761000"/>
              <a:ext cx="822240" cy="1022040"/>
              <a:chOff x="3201840" y="4761000"/>
              <a:chExt cx="822240" cy="1022040"/>
            </a:xfrm>
          </p:grpSpPr>
          <p:graphicFrame>
            <p:nvGraphicFramePr>
              <p:cNvPr id="693" name=""/>
              <p:cNvGraphicFramePr/>
              <p:nvPr/>
            </p:nvGraphicFramePr>
            <p:xfrm>
              <a:off x="3201840" y="4761000"/>
              <a:ext cx="822240" cy="71604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694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3201840" y="4761000"/>
                        <a:ext cx="822240" cy="7160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pSp>
            <p:nvGrpSpPr>
              <p:cNvPr id="695" name=""/>
              <p:cNvGrpSpPr/>
              <p:nvPr/>
            </p:nvGrpSpPr>
            <p:grpSpPr>
              <a:xfrm>
                <a:off x="3843000" y="5462640"/>
                <a:ext cx="74880" cy="320400"/>
                <a:chOff x="3843000" y="5462640"/>
                <a:chExt cx="74880" cy="320400"/>
              </a:xfrm>
            </p:grpSpPr>
            <p:sp>
              <p:nvSpPr>
                <p:cNvPr id="696" name=""/>
                <p:cNvSpPr/>
                <p:nvPr/>
              </p:nvSpPr>
              <p:spPr>
                <a:xfrm>
                  <a:off x="3843000" y="5462640"/>
                  <a:ext cx="74880" cy="155880"/>
                </a:xfrm>
                <a:custGeom>
                  <a:avLst/>
                  <a:gdLst/>
                  <a:ahLst/>
                  <a:rect l="l" t="t" r="r" b="b"/>
                  <a:pathLst>
                    <a:path w="196" h="371">
                      <a:moveTo>
                        <a:pt x="95" y="0"/>
                      </a:moveTo>
                      <a:lnTo>
                        <a:pt x="105" y="58"/>
                      </a:lnTo>
                      <a:lnTo>
                        <a:pt x="111" y="88"/>
                      </a:lnTo>
                      <a:lnTo>
                        <a:pt x="121" y="122"/>
                      </a:lnTo>
                      <a:lnTo>
                        <a:pt x="132" y="142"/>
                      </a:lnTo>
                      <a:lnTo>
                        <a:pt x="147" y="166"/>
                      </a:lnTo>
                      <a:lnTo>
                        <a:pt x="167" y="194"/>
                      </a:lnTo>
                      <a:lnTo>
                        <a:pt x="184" y="220"/>
                      </a:lnTo>
                      <a:lnTo>
                        <a:pt x="192" y="246"/>
                      </a:lnTo>
                      <a:lnTo>
                        <a:pt x="196" y="279"/>
                      </a:lnTo>
                      <a:lnTo>
                        <a:pt x="189" y="307"/>
                      </a:lnTo>
                      <a:lnTo>
                        <a:pt x="178" y="328"/>
                      </a:lnTo>
                      <a:lnTo>
                        <a:pt x="162" y="345"/>
                      </a:lnTo>
                      <a:lnTo>
                        <a:pt x="141" y="361"/>
                      </a:lnTo>
                      <a:lnTo>
                        <a:pt x="121" y="368"/>
                      </a:lnTo>
                      <a:lnTo>
                        <a:pt x="99" y="371"/>
                      </a:lnTo>
                      <a:lnTo>
                        <a:pt x="76" y="368"/>
                      </a:lnTo>
                      <a:lnTo>
                        <a:pt x="54" y="362"/>
                      </a:lnTo>
                      <a:lnTo>
                        <a:pt x="34" y="351"/>
                      </a:lnTo>
                      <a:lnTo>
                        <a:pt x="19" y="335"/>
                      </a:lnTo>
                      <a:lnTo>
                        <a:pt x="8" y="316"/>
                      </a:lnTo>
                      <a:lnTo>
                        <a:pt x="3" y="297"/>
                      </a:lnTo>
                      <a:lnTo>
                        <a:pt x="0" y="272"/>
                      </a:lnTo>
                      <a:lnTo>
                        <a:pt x="5" y="240"/>
                      </a:lnTo>
                      <a:lnTo>
                        <a:pt x="13" y="218"/>
                      </a:lnTo>
                      <a:lnTo>
                        <a:pt x="30" y="191"/>
                      </a:lnTo>
                      <a:lnTo>
                        <a:pt x="49" y="166"/>
                      </a:lnTo>
                      <a:lnTo>
                        <a:pt x="62" y="141"/>
                      </a:lnTo>
                      <a:lnTo>
                        <a:pt x="72" y="120"/>
                      </a:lnTo>
                      <a:lnTo>
                        <a:pt x="81" y="90"/>
                      </a:lnTo>
                      <a:lnTo>
                        <a:pt x="86" y="58"/>
                      </a:lnTo>
                      <a:lnTo>
                        <a:pt x="95" y="0"/>
                      </a:lnTo>
                      <a:close/>
                    </a:path>
                  </a:pathLst>
                </a:custGeom>
                <a:solidFill>
                  <a:srgbClr val="00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7" name=""/>
                <p:cNvSpPr/>
                <p:nvPr/>
              </p:nvSpPr>
              <p:spPr>
                <a:xfrm>
                  <a:off x="3843000" y="5627160"/>
                  <a:ext cx="74880" cy="155880"/>
                </a:xfrm>
                <a:custGeom>
                  <a:avLst/>
                  <a:gdLst/>
                  <a:ahLst/>
                  <a:rect l="l" t="t" r="r" b="b"/>
                  <a:pathLst>
                    <a:path w="196" h="372">
                      <a:moveTo>
                        <a:pt x="95" y="0"/>
                      </a:moveTo>
                      <a:lnTo>
                        <a:pt x="105" y="59"/>
                      </a:lnTo>
                      <a:lnTo>
                        <a:pt x="111" y="88"/>
                      </a:lnTo>
                      <a:lnTo>
                        <a:pt x="121" y="122"/>
                      </a:lnTo>
                      <a:lnTo>
                        <a:pt x="132" y="143"/>
                      </a:lnTo>
                      <a:lnTo>
                        <a:pt x="147" y="167"/>
                      </a:lnTo>
                      <a:lnTo>
                        <a:pt x="167" y="195"/>
                      </a:lnTo>
                      <a:lnTo>
                        <a:pt x="184" y="220"/>
                      </a:lnTo>
                      <a:lnTo>
                        <a:pt x="192" y="247"/>
                      </a:lnTo>
                      <a:lnTo>
                        <a:pt x="196" y="279"/>
                      </a:lnTo>
                      <a:lnTo>
                        <a:pt x="189" y="308"/>
                      </a:lnTo>
                      <a:lnTo>
                        <a:pt x="178" y="328"/>
                      </a:lnTo>
                      <a:lnTo>
                        <a:pt x="162" y="345"/>
                      </a:lnTo>
                      <a:lnTo>
                        <a:pt x="141" y="361"/>
                      </a:lnTo>
                      <a:lnTo>
                        <a:pt x="121" y="369"/>
                      </a:lnTo>
                      <a:lnTo>
                        <a:pt x="99" y="372"/>
                      </a:lnTo>
                      <a:lnTo>
                        <a:pt x="76" y="369"/>
                      </a:lnTo>
                      <a:lnTo>
                        <a:pt x="54" y="363"/>
                      </a:lnTo>
                      <a:lnTo>
                        <a:pt x="34" y="351"/>
                      </a:lnTo>
                      <a:lnTo>
                        <a:pt x="19" y="336"/>
                      </a:lnTo>
                      <a:lnTo>
                        <a:pt x="8" y="317"/>
                      </a:lnTo>
                      <a:lnTo>
                        <a:pt x="3" y="298"/>
                      </a:lnTo>
                      <a:lnTo>
                        <a:pt x="0" y="272"/>
                      </a:lnTo>
                      <a:lnTo>
                        <a:pt x="5" y="242"/>
                      </a:lnTo>
                      <a:lnTo>
                        <a:pt x="13" y="219"/>
                      </a:lnTo>
                      <a:lnTo>
                        <a:pt x="30" y="191"/>
                      </a:lnTo>
                      <a:lnTo>
                        <a:pt x="49" y="167"/>
                      </a:lnTo>
                      <a:lnTo>
                        <a:pt x="62" y="141"/>
                      </a:lnTo>
                      <a:lnTo>
                        <a:pt x="72" y="120"/>
                      </a:lnTo>
                      <a:lnTo>
                        <a:pt x="81" y="90"/>
                      </a:lnTo>
                      <a:lnTo>
                        <a:pt x="86" y="59"/>
                      </a:lnTo>
                      <a:lnTo>
                        <a:pt x="95" y="0"/>
                      </a:lnTo>
                      <a:close/>
                    </a:path>
                  </a:pathLst>
                </a:custGeom>
                <a:solidFill>
                  <a:srgbClr val="00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98" name=""/>
            <p:cNvSpPr/>
            <p:nvPr/>
          </p:nvSpPr>
          <p:spPr>
            <a:xfrm>
              <a:off x="980640" y="5667480"/>
              <a:ext cx="1834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Moč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50-350 mmo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3240000" y="5828040"/>
              <a:ext cx="1275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Stoli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10 mmo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5025960" y="5626080"/>
              <a:ext cx="1275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Po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10 mmo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01" name=""/>
            <p:cNvGraphicFramePr/>
            <p:nvPr/>
          </p:nvGraphicFramePr>
          <p:xfrm>
            <a:off x="6558120" y="260280"/>
            <a:ext cx="2155680" cy="19288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02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6558120" y="260280"/>
                      <a:ext cx="2155680" cy="192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70" name=""/>
          <p:cNvGrpSpPr/>
          <p:nvPr/>
        </p:nvGrpSpPr>
        <p:grpSpPr>
          <a:xfrm>
            <a:off x="0" y="42840"/>
            <a:ext cx="9144000" cy="6817680"/>
            <a:chOff x="0" y="42840"/>
            <a:chExt cx="9144000" cy="6817680"/>
          </a:xfrm>
        </p:grpSpPr>
        <p:sp>
          <p:nvSpPr>
            <p:cNvPr id="9671" name=""/>
            <p:cNvSpPr/>
            <p:nvPr/>
          </p:nvSpPr>
          <p:spPr>
            <a:xfrm>
              <a:off x="0" y="760320"/>
              <a:ext cx="9144000" cy="394200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2" name=""/>
            <p:cNvSpPr/>
            <p:nvPr/>
          </p:nvSpPr>
          <p:spPr>
            <a:xfrm>
              <a:off x="0" y="3860640"/>
              <a:ext cx="9144000" cy="29973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3" name=""/>
            <p:cNvSpPr/>
            <p:nvPr/>
          </p:nvSpPr>
          <p:spPr>
            <a:xfrm flipH="1">
              <a:off x="167400" y="1484280"/>
              <a:ext cx="72396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4" name=""/>
            <p:cNvSpPr/>
            <p:nvPr/>
          </p:nvSpPr>
          <p:spPr>
            <a:xfrm>
              <a:off x="5033880" y="2101680"/>
              <a:ext cx="587520" cy="571680"/>
            </a:xfrm>
            <a:prstGeom prst="rect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5" name=""/>
            <p:cNvSpPr/>
            <p:nvPr/>
          </p:nvSpPr>
          <p:spPr>
            <a:xfrm>
              <a:off x="7396200" y="2243160"/>
              <a:ext cx="1111320" cy="1008000"/>
            </a:xfrm>
            <a:prstGeom prst="rect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6" name=""/>
            <p:cNvSpPr/>
            <p:nvPr/>
          </p:nvSpPr>
          <p:spPr>
            <a:xfrm>
              <a:off x="5019840" y="871560"/>
              <a:ext cx="1106280" cy="1030320"/>
            </a:xfrm>
            <a:prstGeom prst="rect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7" name=""/>
            <p:cNvSpPr/>
            <p:nvPr/>
          </p:nvSpPr>
          <p:spPr>
            <a:xfrm>
              <a:off x="2616120" y="1471680"/>
              <a:ext cx="1149480" cy="1003320"/>
            </a:xfrm>
            <a:prstGeom prst="rect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8" name=""/>
            <p:cNvSpPr/>
            <p:nvPr/>
          </p:nvSpPr>
          <p:spPr>
            <a:xfrm>
              <a:off x="533520" y="912960"/>
              <a:ext cx="930240" cy="1031760"/>
            </a:xfrm>
            <a:prstGeom prst="rect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9" name=""/>
            <p:cNvSpPr/>
            <p:nvPr/>
          </p:nvSpPr>
          <p:spPr>
            <a:xfrm>
              <a:off x="5014800" y="1197000"/>
              <a:ext cx="1111320" cy="75888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0" name=""/>
            <p:cNvSpPr/>
            <p:nvPr/>
          </p:nvSpPr>
          <p:spPr>
            <a:xfrm>
              <a:off x="2619360" y="1787400"/>
              <a:ext cx="1144440" cy="70812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1" name=""/>
            <p:cNvSpPr/>
            <p:nvPr/>
          </p:nvSpPr>
          <p:spPr>
            <a:xfrm>
              <a:off x="536400" y="1249200"/>
              <a:ext cx="927360" cy="70668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2" name=""/>
            <p:cNvSpPr/>
            <p:nvPr/>
          </p:nvSpPr>
          <p:spPr>
            <a:xfrm>
              <a:off x="699120" y="1395360"/>
              <a:ext cx="736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Arial"/>
                </a:rPr>
                <a:t>CO</a:t>
              </a:r>
              <a:r>
                <a:rPr b="1" lang="cs-CZ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3" name=""/>
            <p:cNvSpPr/>
            <p:nvPr/>
          </p:nvSpPr>
          <p:spPr>
            <a:xfrm>
              <a:off x="849960" y="2236680"/>
              <a:ext cx="736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cs-CZ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cs-CZ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4" name=""/>
            <p:cNvSpPr/>
            <p:nvPr/>
          </p:nvSpPr>
          <p:spPr>
            <a:xfrm>
              <a:off x="2778120" y="1955880"/>
              <a:ext cx="1055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cs-CZ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cs-CZ" sz="2400" spc="-1" strike="noStrike">
                  <a:solidFill>
                    <a:srgbClr val="000000"/>
                  </a:solidFill>
                  <a:latin typeface="Arial"/>
                </a:rPr>
                <a:t>CO</a:t>
              </a:r>
              <a:r>
                <a:rPr b="1" lang="cs-CZ" sz="2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5" name=""/>
            <p:cNvSpPr/>
            <p:nvPr/>
          </p:nvSpPr>
          <p:spPr>
            <a:xfrm>
              <a:off x="5233320" y="1370160"/>
              <a:ext cx="956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Arial"/>
                </a:rPr>
                <a:t>HCO</a:t>
              </a:r>
              <a:r>
                <a:rPr b="1" lang="cs-CZ" sz="2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86" name=""/>
            <p:cNvGrpSpPr/>
            <p:nvPr/>
          </p:nvGrpSpPr>
          <p:grpSpPr>
            <a:xfrm>
              <a:off x="3765600" y="1635120"/>
              <a:ext cx="1249200" cy="910800"/>
              <a:chOff x="3765600" y="1635120"/>
              <a:chExt cx="1249200" cy="910800"/>
            </a:xfrm>
          </p:grpSpPr>
          <p:sp>
            <p:nvSpPr>
              <p:cNvPr id="9687" name=""/>
              <p:cNvSpPr/>
              <p:nvPr/>
            </p:nvSpPr>
            <p:spPr>
              <a:xfrm>
                <a:off x="3859200" y="1635120"/>
                <a:ext cx="1155600" cy="457200"/>
              </a:xfrm>
              <a:custGeom>
                <a:avLst/>
                <a:gdLst/>
                <a:ahLst/>
                <a:rect l="l" t="t" r="r" b="b"/>
                <a:pathLst>
                  <a:path w="728" h="645">
                    <a:moveTo>
                      <a:pt x="0" y="642"/>
                    </a:moveTo>
                    <a:lnTo>
                      <a:pt x="351" y="645"/>
                    </a:lnTo>
                    <a:cubicBezTo>
                      <a:pt x="420" y="628"/>
                      <a:pt x="405" y="630"/>
                      <a:pt x="416" y="538"/>
                    </a:cubicBezTo>
                    <a:lnTo>
                      <a:pt x="416" y="91"/>
                    </a:lnTo>
                    <a:cubicBezTo>
                      <a:pt x="429" y="1"/>
                      <a:pt x="445" y="15"/>
                      <a:pt x="497" y="0"/>
                    </a:cubicBezTo>
                    <a:lnTo>
                      <a:pt x="728" y="0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8" name=""/>
              <p:cNvSpPr/>
              <p:nvPr/>
            </p:nvSpPr>
            <p:spPr>
              <a:xfrm>
                <a:off x="3765600" y="2088720"/>
                <a:ext cx="1249200" cy="457200"/>
              </a:xfrm>
              <a:custGeom>
                <a:avLst/>
                <a:gdLst/>
                <a:ahLst/>
                <a:rect l="l" t="t" r="r" b="b"/>
                <a:pathLst>
                  <a:path w="787" h="645">
                    <a:moveTo>
                      <a:pt x="0" y="2"/>
                    </a:moveTo>
                    <a:lnTo>
                      <a:pt x="410" y="0"/>
                    </a:lnTo>
                    <a:cubicBezTo>
                      <a:pt x="489" y="17"/>
                      <a:pt x="464" y="15"/>
                      <a:pt x="475" y="107"/>
                    </a:cubicBezTo>
                    <a:lnTo>
                      <a:pt x="475" y="554"/>
                    </a:lnTo>
                    <a:cubicBezTo>
                      <a:pt x="488" y="644"/>
                      <a:pt x="504" y="630"/>
                      <a:pt x="556" y="645"/>
                    </a:cubicBezTo>
                    <a:lnTo>
                      <a:pt x="787" y="645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89" name=""/>
            <p:cNvSpPr/>
            <p:nvPr/>
          </p:nvSpPr>
          <p:spPr>
            <a:xfrm flipH="1">
              <a:off x="1488960" y="1617840"/>
              <a:ext cx="1130400" cy="426960"/>
            </a:xfrm>
            <a:custGeom>
              <a:avLst/>
              <a:gdLst/>
              <a:ahLst/>
              <a:rect l="l" t="t" r="r" b="b"/>
              <a:pathLst>
                <a:path w="866" h="645">
                  <a:moveTo>
                    <a:pt x="0" y="645"/>
                  </a:moveTo>
                  <a:lnTo>
                    <a:pt x="442" y="645"/>
                  </a:lnTo>
                  <a:cubicBezTo>
                    <a:pt x="528" y="627"/>
                    <a:pt x="503" y="630"/>
                    <a:pt x="515" y="538"/>
                  </a:cubicBezTo>
                  <a:lnTo>
                    <a:pt x="515" y="91"/>
                  </a:lnTo>
                  <a:cubicBezTo>
                    <a:pt x="530" y="1"/>
                    <a:pt x="548" y="15"/>
                    <a:pt x="606" y="0"/>
                  </a:cubicBezTo>
                  <a:lnTo>
                    <a:pt x="866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0" name=""/>
            <p:cNvSpPr/>
            <p:nvPr/>
          </p:nvSpPr>
          <p:spPr>
            <a:xfrm>
              <a:off x="1550880" y="2041560"/>
              <a:ext cx="1068480" cy="426960"/>
            </a:xfrm>
            <a:custGeom>
              <a:avLst/>
              <a:gdLst/>
              <a:ahLst/>
              <a:rect l="l" t="t" r="r" b="b"/>
              <a:pathLst>
                <a:path w="673" h="269">
                  <a:moveTo>
                    <a:pt x="673" y="0"/>
                  </a:moveTo>
                  <a:lnTo>
                    <a:pt x="310" y="0"/>
                  </a:lnTo>
                  <a:cubicBezTo>
                    <a:pt x="239" y="8"/>
                    <a:pt x="259" y="6"/>
                    <a:pt x="250" y="45"/>
                  </a:cubicBezTo>
                  <a:lnTo>
                    <a:pt x="250" y="231"/>
                  </a:lnTo>
                  <a:cubicBezTo>
                    <a:pt x="237" y="269"/>
                    <a:pt x="217" y="264"/>
                    <a:pt x="175" y="269"/>
                  </a:cubicBezTo>
                  <a:lnTo>
                    <a:pt x="0" y="262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1" name=""/>
            <p:cNvSpPr/>
            <p:nvPr/>
          </p:nvSpPr>
          <p:spPr>
            <a:xfrm>
              <a:off x="5197320" y="1370160"/>
              <a:ext cx="0" cy="352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2" name=""/>
            <p:cNvSpPr/>
            <p:nvPr/>
          </p:nvSpPr>
          <p:spPr>
            <a:xfrm>
              <a:off x="5914800" y="120348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3" name=""/>
            <p:cNvSpPr/>
            <p:nvPr/>
          </p:nvSpPr>
          <p:spPr>
            <a:xfrm>
              <a:off x="2743200" y="2039760"/>
              <a:ext cx="9360" cy="293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4" name=""/>
            <p:cNvSpPr/>
            <p:nvPr/>
          </p:nvSpPr>
          <p:spPr>
            <a:xfrm>
              <a:off x="652320" y="1468440"/>
              <a:ext cx="0" cy="318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5" name=""/>
            <p:cNvSpPr/>
            <p:nvPr/>
          </p:nvSpPr>
          <p:spPr>
            <a:xfrm>
              <a:off x="5038560" y="2143080"/>
              <a:ext cx="579600" cy="55584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6" name=""/>
            <p:cNvSpPr/>
            <p:nvPr/>
          </p:nvSpPr>
          <p:spPr>
            <a:xfrm>
              <a:off x="5187960" y="2247840"/>
              <a:ext cx="52380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cs-CZ" sz="2400" spc="-1" strike="noStrike" baseline="7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7" name=""/>
            <p:cNvSpPr/>
            <p:nvPr/>
          </p:nvSpPr>
          <p:spPr>
            <a:xfrm>
              <a:off x="5180040" y="2239920"/>
              <a:ext cx="9360" cy="293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8" name=""/>
            <p:cNvSpPr/>
            <p:nvPr/>
          </p:nvSpPr>
          <p:spPr>
            <a:xfrm>
              <a:off x="7396200" y="2587680"/>
              <a:ext cx="1111320" cy="78264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9" name=""/>
            <p:cNvSpPr/>
            <p:nvPr/>
          </p:nvSpPr>
          <p:spPr>
            <a:xfrm>
              <a:off x="5024520" y="2798640"/>
              <a:ext cx="1111320" cy="9525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0" name=""/>
            <p:cNvSpPr/>
            <p:nvPr/>
          </p:nvSpPr>
          <p:spPr>
            <a:xfrm>
              <a:off x="5022720" y="3151080"/>
              <a:ext cx="1111320" cy="60804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1" name=""/>
            <p:cNvSpPr/>
            <p:nvPr/>
          </p:nvSpPr>
          <p:spPr>
            <a:xfrm>
              <a:off x="5216040" y="3265560"/>
              <a:ext cx="83304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Arial"/>
                </a:rPr>
                <a:t>Buf </a:t>
              </a:r>
              <a:r>
                <a:rPr b="1" lang="cs-CZ" sz="2400" spc="-1" strike="noStrike" baseline="70000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702" name=""/>
            <p:cNvGrpSpPr/>
            <p:nvPr/>
          </p:nvGrpSpPr>
          <p:grpSpPr>
            <a:xfrm>
              <a:off x="5599080" y="2506680"/>
              <a:ext cx="1780920" cy="958680"/>
              <a:chOff x="5599080" y="2506680"/>
              <a:chExt cx="1780920" cy="958680"/>
            </a:xfrm>
          </p:grpSpPr>
          <p:sp>
            <p:nvSpPr>
              <p:cNvPr id="9703" name=""/>
              <p:cNvSpPr/>
              <p:nvPr/>
            </p:nvSpPr>
            <p:spPr>
              <a:xfrm>
                <a:off x="5599080" y="2506680"/>
                <a:ext cx="1768320" cy="485640"/>
              </a:xfrm>
              <a:custGeom>
                <a:avLst/>
                <a:gdLst/>
                <a:ahLst/>
                <a:rect l="l" t="t" r="r" b="b"/>
                <a:pathLst>
                  <a:path w="1114" h="306">
                    <a:moveTo>
                      <a:pt x="1114" y="304"/>
                    </a:moveTo>
                    <a:lnTo>
                      <a:pt x="660" y="306"/>
                    </a:lnTo>
                    <a:cubicBezTo>
                      <a:pt x="570" y="298"/>
                      <a:pt x="583" y="296"/>
                      <a:pt x="568" y="252"/>
                    </a:cubicBezTo>
                    <a:lnTo>
                      <a:pt x="568" y="42"/>
                    </a:lnTo>
                    <a:cubicBezTo>
                      <a:pt x="552" y="0"/>
                      <a:pt x="568" y="8"/>
                      <a:pt x="473" y="1"/>
                    </a:cubicBezTo>
                    <a:lnTo>
                      <a:pt x="0" y="1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4" name=""/>
              <p:cNvSpPr/>
              <p:nvPr/>
            </p:nvSpPr>
            <p:spPr>
              <a:xfrm>
                <a:off x="6126120" y="2989080"/>
                <a:ext cx="1253880" cy="476280"/>
              </a:xfrm>
              <a:custGeom>
                <a:avLst/>
                <a:gdLst/>
                <a:ahLst/>
                <a:rect l="l" t="t" r="r" b="b"/>
                <a:pathLst>
                  <a:path w="1045" h="638">
                    <a:moveTo>
                      <a:pt x="1045" y="0"/>
                    </a:moveTo>
                    <a:lnTo>
                      <a:pt x="763" y="5"/>
                    </a:lnTo>
                    <a:lnTo>
                      <a:pt x="434" y="0"/>
                    </a:lnTo>
                    <a:cubicBezTo>
                      <a:pt x="359" y="22"/>
                      <a:pt x="332" y="47"/>
                      <a:pt x="312" y="138"/>
                    </a:cubicBezTo>
                    <a:lnTo>
                      <a:pt x="312" y="547"/>
                    </a:lnTo>
                    <a:cubicBezTo>
                      <a:pt x="298" y="630"/>
                      <a:pt x="283" y="623"/>
                      <a:pt x="231" y="638"/>
                    </a:cubicBezTo>
                    <a:lnTo>
                      <a:pt x="0" y="638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705" name=""/>
            <p:cNvSpPr/>
            <p:nvPr/>
          </p:nvSpPr>
          <p:spPr>
            <a:xfrm flipH="1">
              <a:off x="5190840" y="3322800"/>
              <a:ext cx="6120" cy="293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6" name=""/>
            <p:cNvSpPr/>
            <p:nvPr/>
          </p:nvSpPr>
          <p:spPr>
            <a:xfrm>
              <a:off x="7597080" y="2793960"/>
              <a:ext cx="90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Arial"/>
                </a:rPr>
                <a:t>HBu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7" name=""/>
            <p:cNvSpPr/>
            <p:nvPr/>
          </p:nvSpPr>
          <p:spPr>
            <a:xfrm>
              <a:off x="7585200" y="2865600"/>
              <a:ext cx="1440" cy="303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8" name=""/>
            <p:cNvSpPr/>
            <p:nvPr/>
          </p:nvSpPr>
          <p:spPr>
            <a:xfrm>
              <a:off x="5010120" y="5437080"/>
              <a:ext cx="587520" cy="582840"/>
            </a:xfrm>
            <a:prstGeom prst="rect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9" name=""/>
            <p:cNvSpPr/>
            <p:nvPr/>
          </p:nvSpPr>
          <p:spPr>
            <a:xfrm>
              <a:off x="5048280" y="4386240"/>
              <a:ext cx="1104840" cy="838080"/>
            </a:xfrm>
            <a:prstGeom prst="rect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0" name=""/>
            <p:cNvSpPr/>
            <p:nvPr/>
          </p:nvSpPr>
          <p:spPr>
            <a:xfrm>
              <a:off x="2592360" y="4818240"/>
              <a:ext cx="1149480" cy="1002960"/>
            </a:xfrm>
            <a:prstGeom prst="rect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1" name=""/>
            <p:cNvSpPr/>
            <p:nvPr/>
          </p:nvSpPr>
          <p:spPr>
            <a:xfrm>
              <a:off x="509760" y="4259160"/>
              <a:ext cx="930240" cy="1032120"/>
            </a:xfrm>
            <a:prstGeom prst="rect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2" name=""/>
            <p:cNvSpPr/>
            <p:nvPr/>
          </p:nvSpPr>
          <p:spPr>
            <a:xfrm>
              <a:off x="5041800" y="4519440"/>
              <a:ext cx="1111320" cy="75888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3" name=""/>
            <p:cNvSpPr/>
            <p:nvPr/>
          </p:nvSpPr>
          <p:spPr>
            <a:xfrm>
              <a:off x="2595600" y="5133960"/>
              <a:ext cx="1144440" cy="70812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4" name=""/>
            <p:cNvSpPr/>
            <p:nvPr/>
          </p:nvSpPr>
          <p:spPr>
            <a:xfrm>
              <a:off x="512640" y="4595760"/>
              <a:ext cx="927360" cy="70632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5" name=""/>
            <p:cNvSpPr/>
            <p:nvPr/>
          </p:nvSpPr>
          <p:spPr>
            <a:xfrm>
              <a:off x="675360" y="4741920"/>
              <a:ext cx="736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Arial"/>
                </a:rPr>
                <a:t>CO</a:t>
              </a:r>
              <a:r>
                <a:rPr b="1" lang="cs-CZ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6" name=""/>
            <p:cNvSpPr/>
            <p:nvPr/>
          </p:nvSpPr>
          <p:spPr>
            <a:xfrm>
              <a:off x="726120" y="5573880"/>
              <a:ext cx="736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cs-CZ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cs-CZ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7" name=""/>
            <p:cNvSpPr/>
            <p:nvPr/>
          </p:nvSpPr>
          <p:spPr>
            <a:xfrm>
              <a:off x="2754360" y="5302080"/>
              <a:ext cx="1055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cs-CZ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cs-CZ" sz="2400" spc="-1" strike="noStrike">
                  <a:solidFill>
                    <a:srgbClr val="000000"/>
                  </a:solidFill>
                  <a:latin typeface="Arial"/>
                </a:rPr>
                <a:t>CO</a:t>
              </a:r>
              <a:r>
                <a:rPr b="1" lang="cs-CZ" sz="2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8" name=""/>
            <p:cNvSpPr/>
            <p:nvPr/>
          </p:nvSpPr>
          <p:spPr>
            <a:xfrm>
              <a:off x="5209560" y="4716360"/>
              <a:ext cx="956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Arial"/>
                </a:rPr>
                <a:t>HCO</a:t>
              </a:r>
              <a:r>
                <a:rPr b="1" lang="cs-CZ" sz="2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719" name=""/>
            <p:cNvGrpSpPr/>
            <p:nvPr/>
          </p:nvGrpSpPr>
          <p:grpSpPr>
            <a:xfrm>
              <a:off x="3741840" y="4981680"/>
              <a:ext cx="1249200" cy="910800"/>
              <a:chOff x="3741840" y="4981680"/>
              <a:chExt cx="1249200" cy="910800"/>
            </a:xfrm>
          </p:grpSpPr>
          <p:sp>
            <p:nvSpPr>
              <p:cNvPr id="9720" name=""/>
              <p:cNvSpPr/>
              <p:nvPr/>
            </p:nvSpPr>
            <p:spPr>
              <a:xfrm>
                <a:off x="3835440" y="4981680"/>
                <a:ext cx="1155600" cy="457200"/>
              </a:xfrm>
              <a:custGeom>
                <a:avLst/>
                <a:gdLst/>
                <a:ahLst/>
                <a:rect l="l" t="t" r="r" b="b"/>
                <a:pathLst>
                  <a:path w="728" h="645">
                    <a:moveTo>
                      <a:pt x="0" y="642"/>
                    </a:moveTo>
                    <a:lnTo>
                      <a:pt x="351" y="645"/>
                    </a:lnTo>
                    <a:cubicBezTo>
                      <a:pt x="420" y="628"/>
                      <a:pt x="405" y="630"/>
                      <a:pt x="416" y="538"/>
                    </a:cubicBezTo>
                    <a:lnTo>
                      <a:pt x="416" y="91"/>
                    </a:lnTo>
                    <a:cubicBezTo>
                      <a:pt x="429" y="1"/>
                      <a:pt x="445" y="15"/>
                      <a:pt x="497" y="0"/>
                    </a:cubicBezTo>
                    <a:lnTo>
                      <a:pt x="728" y="0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1" name=""/>
              <p:cNvSpPr/>
              <p:nvPr/>
            </p:nvSpPr>
            <p:spPr>
              <a:xfrm>
                <a:off x="3741840" y="5435280"/>
                <a:ext cx="1249200" cy="457200"/>
              </a:xfrm>
              <a:custGeom>
                <a:avLst/>
                <a:gdLst/>
                <a:ahLst/>
                <a:rect l="l" t="t" r="r" b="b"/>
                <a:pathLst>
                  <a:path w="787" h="645">
                    <a:moveTo>
                      <a:pt x="0" y="2"/>
                    </a:moveTo>
                    <a:lnTo>
                      <a:pt x="410" y="0"/>
                    </a:lnTo>
                    <a:cubicBezTo>
                      <a:pt x="489" y="17"/>
                      <a:pt x="464" y="15"/>
                      <a:pt x="475" y="107"/>
                    </a:cubicBezTo>
                    <a:lnTo>
                      <a:pt x="475" y="554"/>
                    </a:lnTo>
                    <a:cubicBezTo>
                      <a:pt x="488" y="644"/>
                      <a:pt x="504" y="630"/>
                      <a:pt x="556" y="645"/>
                    </a:cubicBezTo>
                    <a:lnTo>
                      <a:pt x="787" y="645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22" name=""/>
            <p:cNvGrpSpPr/>
            <p:nvPr/>
          </p:nvGrpSpPr>
          <p:grpSpPr>
            <a:xfrm>
              <a:off x="1465200" y="4964040"/>
              <a:ext cx="1130400" cy="848880"/>
              <a:chOff x="1465200" y="4964040"/>
              <a:chExt cx="1130400" cy="848880"/>
            </a:xfrm>
          </p:grpSpPr>
          <p:sp>
            <p:nvSpPr>
              <p:cNvPr id="9723" name=""/>
              <p:cNvSpPr/>
              <p:nvPr/>
            </p:nvSpPr>
            <p:spPr>
              <a:xfrm flipH="1">
                <a:off x="1465200" y="4964040"/>
                <a:ext cx="1130400" cy="426600"/>
              </a:xfrm>
              <a:custGeom>
                <a:avLst/>
                <a:gdLst/>
                <a:ahLst/>
                <a:rect l="l" t="t" r="r" b="b"/>
                <a:pathLst>
                  <a:path w="866" h="645">
                    <a:moveTo>
                      <a:pt x="0" y="645"/>
                    </a:moveTo>
                    <a:lnTo>
                      <a:pt x="442" y="645"/>
                    </a:lnTo>
                    <a:cubicBezTo>
                      <a:pt x="528" y="627"/>
                      <a:pt x="503" y="630"/>
                      <a:pt x="515" y="538"/>
                    </a:cubicBezTo>
                    <a:lnTo>
                      <a:pt x="515" y="91"/>
                    </a:lnTo>
                    <a:cubicBezTo>
                      <a:pt x="530" y="1"/>
                      <a:pt x="548" y="15"/>
                      <a:pt x="606" y="0"/>
                    </a:cubicBezTo>
                    <a:lnTo>
                      <a:pt x="866" y="0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4" name=""/>
              <p:cNvSpPr/>
              <p:nvPr/>
            </p:nvSpPr>
            <p:spPr>
              <a:xfrm flipH="1" flipV="1">
                <a:off x="1465200" y="5385960"/>
                <a:ext cx="1130400" cy="426600"/>
              </a:xfrm>
              <a:custGeom>
                <a:avLst/>
                <a:gdLst/>
                <a:ahLst/>
                <a:rect l="l" t="t" r="r" b="b"/>
                <a:pathLst>
                  <a:path w="866" h="645">
                    <a:moveTo>
                      <a:pt x="0" y="645"/>
                    </a:moveTo>
                    <a:lnTo>
                      <a:pt x="442" y="645"/>
                    </a:lnTo>
                    <a:cubicBezTo>
                      <a:pt x="528" y="627"/>
                      <a:pt x="503" y="630"/>
                      <a:pt x="515" y="538"/>
                    </a:cubicBezTo>
                    <a:lnTo>
                      <a:pt x="515" y="91"/>
                    </a:lnTo>
                    <a:cubicBezTo>
                      <a:pt x="530" y="1"/>
                      <a:pt x="548" y="15"/>
                      <a:pt x="606" y="0"/>
                    </a:cubicBezTo>
                    <a:lnTo>
                      <a:pt x="866" y="0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725" name=""/>
            <p:cNvSpPr/>
            <p:nvPr/>
          </p:nvSpPr>
          <p:spPr>
            <a:xfrm>
              <a:off x="5146560" y="4781520"/>
              <a:ext cx="9720" cy="293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6" name=""/>
            <p:cNvSpPr/>
            <p:nvPr/>
          </p:nvSpPr>
          <p:spPr>
            <a:xfrm>
              <a:off x="5891040" y="454968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7" name=""/>
            <p:cNvSpPr/>
            <p:nvPr/>
          </p:nvSpPr>
          <p:spPr>
            <a:xfrm>
              <a:off x="2719440" y="5386320"/>
              <a:ext cx="9360" cy="293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8" name=""/>
            <p:cNvSpPr/>
            <p:nvPr/>
          </p:nvSpPr>
          <p:spPr>
            <a:xfrm>
              <a:off x="628560" y="4815000"/>
              <a:ext cx="9720" cy="293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9" name=""/>
            <p:cNvSpPr/>
            <p:nvPr/>
          </p:nvSpPr>
          <p:spPr>
            <a:xfrm>
              <a:off x="5014800" y="5489640"/>
              <a:ext cx="579600" cy="55548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0" name=""/>
            <p:cNvSpPr/>
            <p:nvPr/>
          </p:nvSpPr>
          <p:spPr>
            <a:xfrm>
              <a:off x="5164200" y="5594400"/>
              <a:ext cx="52380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cs-CZ" sz="2400" spc="-1" strike="noStrike" baseline="7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1" name=""/>
            <p:cNvSpPr/>
            <p:nvPr/>
          </p:nvSpPr>
          <p:spPr>
            <a:xfrm>
              <a:off x="5156280" y="5586480"/>
              <a:ext cx="9360" cy="293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2" name=""/>
            <p:cNvSpPr/>
            <p:nvPr/>
          </p:nvSpPr>
          <p:spPr>
            <a:xfrm>
              <a:off x="6119640" y="1427040"/>
              <a:ext cx="2810160" cy="3645000"/>
            </a:xfrm>
            <a:custGeom>
              <a:avLst/>
              <a:gdLst/>
              <a:ahLst/>
              <a:rect l="l" t="t" r="r" b="b"/>
              <a:pathLst>
                <a:path w="1770" h="2296">
                  <a:moveTo>
                    <a:pt x="48" y="2232"/>
                  </a:moveTo>
                  <a:cubicBezTo>
                    <a:pt x="290" y="2208"/>
                    <a:pt x="1230" y="2296"/>
                    <a:pt x="1500" y="2095"/>
                  </a:cubicBezTo>
                  <a:cubicBezTo>
                    <a:pt x="1770" y="1894"/>
                    <a:pt x="1686" y="1349"/>
                    <a:pt x="1671" y="1027"/>
                  </a:cubicBezTo>
                  <a:cubicBezTo>
                    <a:pt x="1660" y="671"/>
                    <a:pt x="1690" y="326"/>
                    <a:pt x="1412" y="163"/>
                  </a:cubicBezTo>
                  <a:cubicBezTo>
                    <a:pt x="1134" y="0"/>
                    <a:pt x="294" y="74"/>
                    <a:pt x="0" y="51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3" name=""/>
            <p:cNvSpPr/>
            <p:nvPr/>
          </p:nvSpPr>
          <p:spPr>
            <a:xfrm>
              <a:off x="6383160" y="974880"/>
              <a:ext cx="23576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400" spc="-1" strike="noStrike">
                  <a:solidFill>
                    <a:srgbClr val="000000"/>
                  </a:solidFill>
                  <a:latin typeface="Times New Roman"/>
                </a:rPr>
                <a:t>Difúze podle koncentračního gradient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734" name=""/>
            <p:cNvGrpSpPr/>
            <p:nvPr/>
          </p:nvGrpSpPr>
          <p:grpSpPr>
            <a:xfrm>
              <a:off x="536400" y="42840"/>
              <a:ext cx="714240" cy="828360"/>
              <a:chOff x="536400" y="42840"/>
              <a:chExt cx="714240" cy="828360"/>
            </a:xfrm>
          </p:grpSpPr>
          <p:sp>
            <p:nvSpPr>
              <p:cNvPr id="9735" name=""/>
              <p:cNvSpPr/>
              <p:nvPr/>
            </p:nvSpPr>
            <p:spPr>
              <a:xfrm>
                <a:off x="542160" y="105840"/>
                <a:ext cx="702360" cy="569160"/>
              </a:xfrm>
              <a:custGeom>
                <a:avLst/>
                <a:gdLst/>
                <a:ahLst/>
                <a:rect l="l" t="t" r="r" b="b"/>
                <a:pathLst>
                  <a:path w="2256" h="2295">
                    <a:moveTo>
                      <a:pt x="0" y="0"/>
                    </a:moveTo>
                    <a:lnTo>
                      <a:pt x="939" y="1180"/>
                    </a:lnTo>
                    <a:lnTo>
                      <a:pt x="980" y="2175"/>
                    </a:lnTo>
                    <a:lnTo>
                      <a:pt x="983" y="2202"/>
                    </a:lnTo>
                    <a:lnTo>
                      <a:pt x="991" y="2221"/>
                    </a:lnTo>
                    <a:lnTo>
                      <a:pt x="1000" y="2235"/>
                    </a:lnTo>
                    <a:lnTo>
                      <a:pt x="1010" y="2246"/>
                    </a:lnTo>
                    <a:lnTo>
                      <a:pt x="1024" y="2260"/>
                    </a:lnTo>
                    <a:lnTo>
                      <a:pt x="1038" y="2268"/>
                    </a:lnTo>
                    <a:lnTo>
                      <a:pt x="1060" y="2281"/>
                    </a:lnTo>
                    <a:lnTo>
                      <a:pt x="1083" y="2287"/>
                    </a:lnTo>
                    <a:lnTo>
                      <a:pt x="1111" y="2293"/>
                    </a:lnTo>
                    <a:lnTo>
                      <a:pt x="1128" y="2295"/>
                    </a:lnTo>
                    <a:lnTo>
                      <a:pt x="1145" y="2295"/>
                    </a:lnTo>
                    <a:lnTo>
                      <a:pt x="1163" y="2292"/>
                    </a:lnTo>
                    <a:lnTo>
                      <a:pt x="1183" y="2286"/>
                    </a:lnTo>
                    <a:lnTo>
                      <a:pt x="1202" y="2279"/>
                    </a:lnTo>
                    <a:lnTo>
                      <a:pt x="1221" y="2268"/>
                    </a:lnTo>
                    <a:lnTo>
                      <a:pt x="1235" y="2259"/>
                    </a:lnTo>
                    <a:lnTo>
                      <a:pt x="1251" y="2243"/>
                    </a:lnTo>
                    <a:lnTo>
                      <a:pt x="1262" y="2227"/>
                    </a:lnTo>
                    <a:lnTo>
                      <a:pt x="1273" y="2203"/>
                    </a:lnTo>
                    <a:lnTo>
                      <a:pt x="1276" y="2181"/>
                    </a:lnTo>
                    <a:lnTo>
                      <a:pt x="1336" y="1161"/>
                    </a:lnTo>
                    <a:lnTo>
                      <a:pt x="225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6" name=""/>
              <p:cNvSpPr/>
              <p:nvPr/>
            </p:nvSpPr>
            <p:spPr>
              <a:xfrm>
                <a:off x="536400" y="42840"/>
                <a:ext cx="714240" cy="107280"/>
              </a:xfrm>
              <a:prstGeom prst="ellipse">
                <a:avLst/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7" name=""/>
              <p:cNvSpPr/>
              <p:nvPr/>
            </p:nvSpPr>
            <p:spPr>
              <a:xfrm>
                <a:off x="593280" y="121680"/>
                <a:ext cx="606960" cy="536040"/>
              </a:xfrm>
              <a:custGeom>
                <a:avLst/>
                <a:gdLst/>
                <a:ahLst/>
                <a:rect l="l" t="t" r="r" b="b"/>
                <a:pathLst>
                  <a:path w="1956" h="2159">
                    <a:moveTo>
                      <a:pt x="0" y="19"/>
                    </a:moveTo>
                    <a:lnTo>
                      <a:pt x="857" y="1063"/>
                    </a:lnTo>
                    <a:lnTo>
                      <a:pt x="879" y="2090"/>
                    </a:lnTo>
                    <a:lnTo>
                      <a:pt x="887" y="2107"/>
                    </a:lnTo>
                    <a:lnTo>
                      <a:pt x="897" y="2123"/>
                    </a:lnTo>
                    <a:lnTo>
                      <a:pt x="906" y="2137"/>
                    </a:lnTo>
                    <a:lnTo>
                      <a:pt x="922" y="2147"/>
                    </a:lnTo>
                    <a:lnTo>
                      <a:pt x="939" y="2156"/>
                    </a:lnTo>
                    <a:lnTo>
                      <a:pt x="962" y="2159"/>
                    </a:lnTo>
                    <a:lnTo>
                      <a:pt x="983" y="2157"/>
                    </a:lnTo>
                    <a:lnTo>
                      <a:pt x="1005" y="2153"/>
                    </a:lnTo>
                    <a:lnTo>
                      <a:pt x="1026" y="2140"/>
                    </a:lnTo>
                    <a:lnTo>
                      <a:pt x="1040" y="2123"/>
                    </a:lnTo>
                    <a:lnTo>
                      <a:pt x="1048" y="2109"/>
                    </a:lnTo>
                    <a:lnTo>
                      <a:pt x="1056" y="2088"/>
                    </a:lnTo>
                    <a:lnTo>
                      <a:pt x="1100" y="1045"/>
                    </a:lnTo>
                    <a:lnTo>
                      <a:pt x="1956" y="0"/>
                    </a:lnTo>
                    <a:lnTo>
                      <a:pt x="1790" y="41"/>
                    </a:lnTo>
                    <a:lnTo>
                      <a:pt x="1531" y="77"/>
                    </a:lnTo>
                    <a:lnTo>
                      <a:pt x="1247" y="98"/>
                    </a:lnTo>
                    <a:lnTo>
                      <a:pt x="962" y="109"/>
                    </a:lnTo>
                    <a:lnTo>
                      <a:pt x="662" y="98"/>
                    </a:lnTo>
                    <a:lnTo>
                      <a:pt x="398" y="77"/>
                    </a:lnTo>
                    <a:lnTo>
                      <a:pt x="178" y="52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8" name=""/>
              <p:cNvSpPr/>
              <p:nvPr/>
            </p:nvSpPr>
            <p:spPr>
              <a:xfrm>
                <a:off x="695880" y="230760"/>
                <a:ext cx="392760" cy="428760"/>
              </a:xfrm>
              <a:custGeom>
                <a:avLst/>
                <a:gdLst/>
                <a:ahLst/>
                <a:rect l="l" t="t" r="r" b="b"/>
                <a:pathLst>
                  <a:path w="1264" h="1728">
                    <a:moveTo>
                      <a:pt x="0" y="0"/>
                    </a:moveTo>
                    <a:lnTo>
                      <a:pt x="520" y="624"/>
                    </a:lnTo>
                    <a:lnTo>
                      <a:pt x="531" y="1657"/>
                    </a:lnTo>
                    <a:lnTo>
                      <a:pt x="541" y="1674"/>
                    </a:lnTo>
                    <a:lnTo>
                      <a:pt x="553" y="1688"/>
                    </a:lnTo>
                    <a:lnTo>
                      <a:pt x="564" y="1701"/>
                    </a:lnTo>
                    <a:lnTo>
                      <a:pt x="580" y="1715"/>
                    </a:lnTo>
                    <a:lnTo>
                      <a:pt x="608" y="1723"/>
                    </a:lnTo>
                    <a:lnTo>
                      <a:pt x="632" y="1728"/>
                    </a:lnTo>
                    <a:lnTo>
                      <a:pt x="651" y="1725"/>
                    </a:lnTo>
                    <a:lnTo>
                      <a:pt x="673" y="1720"/>
                    </a:lnTo>
                    <a:lnTo>
                      <a:pt x="694" y="1709"/>
                    </a:lnTo>
                    <a:lnTo>
                      <a:pt x="711" y="1692"/>
                    </a:lnTo>
                    <a:lnTo>
                      <a:pt x="723" y="1669"/>
                    </a:lnTo>
                    <a:lnTo>
                      <a:pt x="730" y="1657"/>
                    </a:lnTo>
                    <a:lnTo>
                      <a:pt x="761" y="605"/>
                    </a:lnTo>
                    <a:lnTo>
                      <a:pt x="126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9" name=""/>
              <p:cNvSpPr/>
              <p:nvPr/>
            </p:nvSpPr>
            <p:spPr>
              <a:xfrm>
                <a:off x="862200" y="682200"/>
                <a:ext cx="62640" cy="91440"/>
              </a:xfrm>
              <a:custGeom>
                <a:avLst/>
                <a:gdLst/>
                <a:ahLst/>
                <a:rect l="l" t="t" r="r" b="b"/>
                <a:pathLst>
                  <a:path w="196" h="370">
                    <a:moveTo>
                      <a:pt x="95" y="0"/>
                    </a:moveTo>
                    <a:lnTo>
                      <a:pt x="105" y="58"/>
                    </a:lnTo>
                    <a:lnTo>
                      <a:pt x="111" y="87"/>
                    </a:lnTo>
                    <a:lnTo>
                      <a:pt x="121" y="121"/>
                    </a:lnTo>
                    <a:lnTo>
                      <a:pt x="132" y="141"/>
                    </a:lnTo>
                    <a:lnTo>
                      <a:pt x="147" y="166"/>
                    </a:lnTo>
                    <a:lnTo>
                      <a:pt x="167" y="193"/>
                    </a:lnTo>
                    <a:lnTo>
                      <a:pt x="184" y="220"/>
                    </a:lnTo>
                    <a:lnTo>
                      <a:pt x="192" y="245"/>
                    </a:lnTo>
                    <a:lnTo>
                      <a:pt x="196" y="278"/>
                    </a:lnTo>
                    <a:lnTo>
                      <a:pt x="189" y="307"/>
                    </a:lnTo>
                    <a:lnTo>
                      <a:pt x="178" y="328"/>
                    </a:lnTo>
                    <a:lnTo>
                      <a:pt x="162" y="345"/>
                    </a:lnTo>
                    <a:lnTo>
                      <a:pt x="141" y="361"/>
                    </a:lnTo>
                    <a:lnTo>
                      <a:pt x="121" y="367"/>
                    </a:lnTo>
                    <a:lnTo>
                      <a:pt x="99" y="370"/>
                    </a:lnTo>
                    <a:lnTo>
                      <a:pt x="76" y="367"/>
                    </a:lnTo>
                    <a:lnTo>
                      <a:pt x="54" y="362"/>
                    </a:lnTo>
                    <a:lnTo>
                      <a:pt x="34" y="350"/>
                    </a:lnTo>
                    <a:lnTo>
                      <a:pt x="19" y="334"/>
                    </a:lnTo>
                    <a:lnTo>
                      <a:pt x="8" y="315"/>
                    </a:lnTo>
                    <a:lnTo>
                      <a:pt x="3" y="296"/>
                    </a:lnTo>
                    <a:lnTo>
                      <a:pt x="0" y="272"/>
                    </a:lnTo>
                    <a:lnTo>
                      <a:pt x="5" y="240"/>
                    </a:lnTo>
                    <a:lnTo>
                      <a:pt x="13" y="218"/>
                    </a:lnTo>
                    <a:lnTo>
                      <a:pt x="30" y="190"/>
                    </a:lnTo>
                    <a:lnTo>
                      <a:pt x="49" y="166"/>
                    </a:lnTo>
                    <a:lnTo>
                      <a:pt x="62" y="140"/>
                    </a:lnTo>
                    <a:lnTo>
                      <a:pt x="72" y="119"/>
                    </a:lnTo>
                    <a:lnTo>
                      <a:pt x="81" y="90"/>
                    </a:lnTo>
                    <a:lnTo>
                      <a:pt x="86" y="58"/>
                    </a:lnTo>
                    <a:lnTo>
                      <a:pt x="95" y="0"/>
                    </a:lnTo>
                    <a:close/>
                  </a:path>
                </a:pathLst>
              </a:cu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0" name=""/>
              <p:cNvSpPr/>
              <p:nvPr/>
            </p:nvSpPr>
            <p:spPr>
              <a:xfrm>
                <a:off x="572760" y="52560"/>
                <a:ext cx="640800" cy="87120"/>
              </a:xfrm>
              <a:prstGeom prst="ellips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1" name=""/>
              <p:cNvSpPr/>
              <p:nvPr/>
            </p:nvSpPr>
            <p:spPr>
              <a:xfrm>
                <a:off x="862200" y="779760"/>
                <a:ext cx="62640" cy="91440"/>
              </a:xfrm>
              <a:custGeom>
                <a:avLst/>
                <a:gdLst/>
                <a:ahLst/>
                <a:rect l="l" t="t" r="r" b="b"/>
                <a:pathLst>
                  <a:path w="196" h="372">
                    <a:moveTo>
                      <a:pt x="95" y="0"/>
                    </a:moveTo>
                    <a:lnTo>
                      <a:pt x="105" y="60"/>
                    </a:lnTo>
                    <a:lnTo>
                      <a:pt x="111" y="88"/>
                    </a:lnTo>
                    <a:lnTo>
                      <a:pt x="121" y="122"/>
                    </a:lnTo>
                    <a:lnTo>
                      <a:pt x="132" y="143"/>
                    </a:lnTo>
                    <a:lnTo>
                      <a:pt x="147" y="168"/>
                    </a:lnTo>
                    <a:lnTo>
                      <a:pt x="167" y="195"/>
                    </a:lnTo>
                    <a:lnTo>
                      <a:pt x="184" y="221"/>
                    </a:lnTo>
                    <a:lnTo>
                      <a:pt x="192" y="247"/>
                    </a:lnTo>
                    <a:lnTo>
                      <a:pt x="196" y="279"/>
                    </a:lnTo>
                    <a:lnTo>
                      <a:pt x="189" y="308"/>
                    </a:lnTo>
                    <a:lnTo>
                      <a:pt x="178" y="328"/>
                    </a:lnTo>
                    <a:lnTo>
                      <a:pt x="162" y="345"/>
                    </a:lnTo>
                    <a:lnTo>
                      <a:pt x="141" y="361"/>
                    </a:lnTo>
                    <a:lnTo>
                      <a:pt x="121" y="369"/>
                    </a:lnTo>
                    <a:lnTo>
                      <a:pt x="99" y="372"/>
                    </a:lnTo>
                    <a:lnTo>
                      <a:pt x="76" y="369"/>
                    </a:lnTo>
                    <a:lnTo>
                      <a:pt x="54" y="363"/>
                    </a:lnTo>
                    <a:lnTo>
                      <a:pt x="34" y="351"/>
                    </a:lnTo>
                    <a:lnTo>
                      <a:pt x="19" y="336"/>
                    </a:lnTo>
                    <a:lnTo>
                      <a:pt x="8" y="317"/>
                    </a:lnTo>
                    <a:lnTo>
                      <a:pt x="3" y="298"/>
                    </a:lnTo>
                    <a:lnTo>
                      <a:pt x="0" y="272"/>
                    </a:lnTo>
                    <a:lnTo>
                      <a:pt x="5" y="242"/>
                    </a:lnTo>
                    <a:lnTo>
                      <a:pt x="13" y="219"/>
                    </a:lnTo>
                    <a:lnTo>
                      <a:pt x="30" y="191"/>
                    </a:lnTo>
                    <a:lnTo>
                      <a:pt x="49" y="168"/>
                    </a:lnTo>
                    <a:lnTo>
                      <a:pt x="62" y="141"/>
                    </a:lnTo>
                    <a:lnTo>
                      <a:pt x="72" y="120"/>
                    </a:lnTo>
                    <a:lnTo>
                      <a:pt x="81" y="90"/>
                    </a:lnTo>
                    <a:lnTo>
                      <a:pt x="86" y="60"/>
                    </a:lnTo>
                    <a:lnTo>
                      <a:pt x="95" y="0"/>
                    </a:lnTo>
                    <a:close/>
                  </a:path>
                </a:pathLst>
              </a:cu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2" name=""/>
              <p:cNvSpPr/>
              <p:nvPr/>
            </p:nvSpPr>
            <p:spPr>
              <a:xfrm>
                <a:off x="692280" y="196200"/>
                <a:ext cx="402120" cy="55800"/>
              </a:xfrm>
              <a:prstGeom prst="ellipse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3" name=""/>
              <p:cNvSpPr/>
              <p:nvPr/>
            </p:nvSpPr>
            <p:spPr>
              <a:xfrm>
                <a:off x="866160" y="623520"/>
                <a:ext cx="52560" cy="43200"/>
              </a:xfrm>
              <a:prstGeom prst="ellipse">
                <a:avLst/>
              </a:prstGeom>
              <a:solidFill>
                <a:srgbClr val="009999"/>
              </a:solidFill>
              <a:ln w="1764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aphicFrame>
          <p:nvGraphicFramePr>
            <p:cNvPr id="9744" name=""/>
            <p:cNvGraphicFramePr/>
            <p:nvPr/>
          </p:nvGraphicFramePr>
          <p:xfrm>
            <a:off x="1260360" y="52560"/>
            <a:ext cx="893880" cy="6634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9745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260360" y="52560"/>
                      <a:ext cx="893880" cy="663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746" name=""/>
            <p:cNvSpPr txBox="1"/>
            <p:nvPr/>
          </p:nvSpPr>
          <p:spPr>
            <a:xfrm>
              <a:off x="6389640" y="4024440"/>
              <a:ext cx="215280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atin typeface="Times New Roman"/>
                </a:rPr>
                <a:t>Intersticium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  <a:ea typeface="Times New Roman"/>
              </a:endParaRPr>
            </a:p>
          </p:txBody>
        </p:sp>
        <p:sp>
          <p:nvSpPr>
            <p:cNvPr id="9747" name=""/>
            <p:cNvSpPr txBox="1"/>
            <p:nvPr/>
          </p:nvSpPr>
          <p:spPr>
            <a:xfrm>
              <a:off x="6616800" y="3278160"/>
              <a:ext cx="9046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atin typeface="Times New Roman"/>
                </a:rPr>
                <a:t>Krev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  <a:ea typeface="Times New Roman"/>
              </a:endParaRPr>
            </a:p>
          </p:txBody>
        </p:sp>
        <p:sp>
          <p:nvSpPr>
            <p:cNvPr id="9748" name=""/>
            <p:cNvSpPr/>
            <p:nvPr/>
          </p:nvSpPr>
          <p:spPr>
            <a:xfrm>
              <a:off x="2614320" y="135000"/>
              <a:ext cx="3178440" cy="510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Arial"/>
                </a:rPr>
                <a:t>Titrace CO</a:t>
              </a:r>
              <a:r>
                <a:rPr b="1" lang="cs-CZ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cs-CZ" sz="2400" spc="-1" strike="noStrike">
                  <a:solidFill>
                    <a:srgbClr val="000000"/>
                  </a:solidFill>
                  <a:latin typeface="Arial"/>
                </a:rPr>
                <a:t> „in vivo“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9" name=""/>
            <p:cNvSpPr/>
            <p:nvPr/>
          </p:nvSpPr>
          <p:spPr>
            <a:xfrm>
              <a:off x="849240" y="2773440"/>
              <a:ext cx="127008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400" spc="-1" strike="noStrike">
                  <a:solidFill>
                    <a:srgbClr val="000000"/>
                  </a:solidFill>
                  <a:latin typeface="Times New Roman"/>
                </a:rPr>
                <a:t>Koncentrace CO2 v krvi a v IST jsou v ekvilibri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0" name=""/>
            <p:cNvSpPr/>
            <p:nvPr/>
          </p:nvSpPr>
          <p:spPr>
            <a:xfrm>
              <a:off x="852480" y="1968480"/>
              <a:ext cx="1440" cy="2266920"/>
            </a:xfrm>
            <a:custGeom>
              <a:avLst/>
              <a:gdLst/>
              <a:ahLst/>
              <a:rect l="l" t="t" r="r" b="b"/>
              <a:pathLst>
                <a:path w="1" h="1428">
                  <a:moveTo>
                    <a:pt x="0" y="1428"/>
                  </a:moveTo>
                  <a:lnTo>
                    <a:pt x="1" y="0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1" name=""/>
            <p:cNvSpPr/>
            <p:nvPr/>
          </p:nvSpPr>
          <p:spPr>
            <a:xfrm>
              <a:off x="7367760" y="5978520"/>
              <a:ext cx="1112760" cy="208080"/>
            </a:xfrm>
            <a:prstGeom prst="rect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2" name=""/>
            <p:cNvSpPr/>
            <p:nvPr/>
          </p:nvSpPr>
          <p:spPr>
            <a:xfrm>
              <a:off x="5600880" y="5641920"/>
              <a:ext cx="1768320" cy="486000"/>
            </a:xfrm>
            <a:custGeom>
              <a:avLst/>
              <a:gdLst/>
              <a:ahLst/>
              <a:rect l="l" t="t" r="r" b="b"/>
              <a:pathLst>
                <a:path w="1114" h="306">
                  <a:moveTo>
                    <a:pt x="1114" y="304"/>
                  </a:moveTo>
                  <a:lnTo>
                    <a:pt x="660" y="306"/>
                  </a:lnTo>
                  <a:cubicBezTo>
                    <a:pt x="570" y="298"/>
                    <a:pt x="583" y="296"/>
                    <a:pt x="568" y="252"/>
                  </a:cubicBezTo>
                  <a:lnTo>
                    <a:pt x="568" y="42"/>
                  </a:lnTo>
                  <a:cubicBezTo>
                    <a:pt x="552" y="0"/>
                    <a:pt x="568" y="8"/>
                    <a:pt x="473" y="1"/>
                  </a:cubicBezTo>
                  <a:lnTo>
                    <a:pt x="0" y="1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3" name=""/>
            <p:cNvSpPr/>
            <p:nvPr/>
          </p:nvSpPr>
          <p:spPr>
            <a:xfrm>
              <a:off x="6178680" y="6124680"/>
              <a:ext cx="1203120" cy="487080"/>
            </a:xfrm>
            <a:custGeom>
              <a:avLst/>
              <a:gdLst/>
              <a:ahLst/>
              <a:rect l="l" t="t" r="r" b="b"/>
              <a:pathLst>
                <a:path w="758" h="307">
                  <a:moveTo>
                    <a:pt x="758" y="0"/>
                  </a:moveTo>
                  <a:lnTo>
                    <a:pt x="545" y="2"/>
                  </a:lnTo>
                  <a:lnTo>
                    <a:pt x="296" y="0"/>
                  </a:lnTo>
                  <a:cubicBezTo>
                    <a:pt x="239" y="10"/>
                    <a:pt x="219" y="22"/>
                    <a:pt x="204" y="65"/>
                  </a:cubicBezTo>
                  <a:lnTo>
                    <a:pt x="204" y="257"/>
                  </a:lnTo>
                  <a:cubicBezTo>
                    <a:pt x="193" y="296"/>
                    <a:pt x="177" y="292"/>
                    <a:pt x="143" y="300"/>
                  </a:cubicBezTo>
                  <a:lnTo>
                    <a:pt x="0" y="307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4" name=""/>
            <p:cNvSpPr/>
            <p:nvPr/>
          </p:nvSpPr>
          <p:spPr>
            <a:xfrm>
              <a:off x="7443000" y="5565600"/>
              <a:ext cx="90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Arial"/>
                </a:rPr>
                <a:t>HBu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5" name=""/>
            <p:cNvSpPr/>
            <p:nvPr/>
          </p:nvSpPr>
          <p:spPr>
            <a:xfrm>
              <a:off x="7432560" y="5630760"/>
              <a:ext cx="1800" cy="303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6" name=""/>
            <p:cNvSpPr/>
            <p:nvPr/>
          </p:nvSpPr>
          <p:spPr>
            <a:xfrm>
              <a:off x="5049720" y="6467400"/>
              <a:ext cx="1119240" cy="1983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7" name=""/>
            <p:cNvSpPr/>
            <p:nvPr/>
          </p:nvSpPr>
          <p:spPr>
            <a:xfrm>
              <a:off x="5065560" y="6551640"/>
              <a:ext cx="1103400" cy="13644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8" name=""/>
            <p:cNvSpPr/>
            <p:nvPr/>
          </p:nvSpPr>
          <p:spPr>
            <a:xfrm>
              <a:off x="5200200" y="6064200"/>
              <a:ext cx="83304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Arial"/>
                </a:rPr>
                <a:t>Buf </a:t>
              </a:r>
              <a:r>
                <a:rPr b="1" lang="cs-CZ" sz="2400" spc="-1" strike="noStrike" baseline="70000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9" name=""/>
            <p:cNvSpPr/>
            <p:nvPr/>
          </p:nvSpPr>
          <p:spPr>
            <a:xfrm>
              <a:off x="5192640" y="6134040"/>
              <a:ext cx="9720" cy="293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0" name=""/>
            <p:cNvSpPr/>
            <p:nvPr/>
          </p:nvSpPr>
          <p:spPr>
            <a:xfrm>
              <a:off x="952560" y="3863880"/>
              <a:ext cx="772956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1" name=""/>
            <p:cNvSpPr/>
            <p:nvPr/>
          </p:nvSpPr>
          <p:spPr>
            <a:xfrm flipH="1">
              <a:off x="0" y="3873600"/>
              <a:ext cx="7444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2" name=""/>
            <p:cNvSpPr/>
            <p:nvPr/>
          </p:nvSpPr>
          <p:spPr>
            <a:xfrm>
              <a:off x="8899560" y="3863880"/>
              <a:ext cx="24444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3" name=""/>
            <p:cNvSpPr/>
            <p:nvPr/>
          </p:nvSpPr>
          <p:spPr>
            <a:xfrm>
              <a:off x="6610320" y="6340320"/>
              <a:ext cx="22226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400" spc="-1" strike="noStrike">
                  <a:solidFill>
                    <a:srgbClr val="000000"/>
                  </a:solidFill>
                  <a:latin typeface="Times New Roman"/>
                </a:rPr>
                <a:t>V IST je malá koncentrace nebikarbonátových pufrů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4" name=""/>
            <p:cNvSpPr/>
            <p:nvPr/>
          </p:nvSpPr>
          <p:spPr>
            <a:xfrm>
              <a:off x="7377120" y="6059520"/>
              <a:ext cx="1103400" cy="13644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5" name=""/>
            <p:cNvSpPr/>
            <p:nvPr/>
          </p:nvSpPr>
          <p:spPr>
            <a:xfrm>
              <a:off x="2131200" y="2705040"/>
              <a:ext cx="2479680" cy="1285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00000"/>
                  </a:solidFill>
                  <a:latin typeface="Times New Roman"/>
                </a:rPr>
                <a:t>Při vzestupu CO</a:t>
              </a:r>
              <a:r>
                <a:rPr b="1" lang="cs-CZ" sz="1600" spc="-1" strike="noStrike" baseline="-25000">
                  <a:solidFill>
                    <a:srgbClr val="000000"/>
                  </a:solidFill>
                  <a:latin typeface="Times New Roman"/>
                </a:rPr>
                <a:t>2 </a:t>
              </a:r>
              <a:r>
                <a:rPr b="1" lang="cs-CZ" sz="1600" spc="-1" strike="noStrike">
                  <a:solidFill>
                    <a:srgbClr val="000000"/>
                  </a:solidFill>
                  <a:latin typeface="Times New Roman"/>
                </a:rPr>
                <a:t>hodnot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00000"/>
                  </a:solidFill>
                  <a:latin typeface="Arial"/>
                </a:rPr>
                <a:t>BB  =</a:t>
              </a:r>
              <a:r>
                <a:rPr b="1" lang="cs-CZ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[</a:t>
              </a:r>
              <a:r>
                <a:rPr b="1" lang="cs-CZ" sz="1600" spc="-1" strike="noStrike">
                  <a:solidFill>
                    <a:srgbClr val="000000"/>
                  </a:solidFill>
                  <a:latin typeface="Arial"/>
                </a:rPr>
                <a:t>HCO</a:t>
              </a:r>
              <a:r>
                <a:rPr b="1" lang="cs-CZ" sz="16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cs-CZ" sz="1600" spc="-1" strike="noStrike" baseline="7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1" lang="cs-CZ" sz="2400" spc="-1" strike="noStrike" baseline="70000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Arial"/>
                </a:rPr>
                <a:t>]</a:t>
              </a:r>
              <a:r>
                <a:rPr b="1" lang="cs-CZ" sz="2400" spc="-1" strike="noStrike">
                  <a:solidFill>
                    <a:srgbClr val="000000"/>
                  </a:solidFill>
                  <a:latin typeface="Arial"/>
                </a:rPr>
                <a:t>+ </a:t>
              </a:r>
              <a:r>
                <a:rPr b="0" lang="cs-CZ" sz="2400" spc="-1" strike="noStrike">
                  <a:solidFill>
                    <a:srgbClr val="000000"/>
                  </a:solidFill>
                  <a:latin typeface="Arial"/>
                </a:rPr>
                <a:t>[</a:t>
              </a:r>
              <a:r>
                <a:rPr b="1" lang="cs-CZ" sz="1600" spc="-1" strike="noStrike">
                  <a:solidFill>
                    <a:srgbClr val="000000"/>
                  </a:solidFill>
                  <a:latin typeface="Arial"/>
                </a:rPr>
                <a:t>Buf </a:t>
              </a:r>
              <a:r>
                <a:rPr b="1" lang="cs-CZ" sz="1600" spc="-1" strike="noStrike" baseline="7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1" lang="cs-CZ" sz="2400" spc="-1" strike="noStrike" baseline="70000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Arial"/>
                </a:rPr>
                <a:t>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cs-CZ" sz="1600" spc="-1" strike="noStrike">
                  <a:solidFill>
                    <a:srgbClr val="000000"/>
                  </a:solidFill>
                  <a:latin typeface="Arial"/>
                </a:rPr>
                <a:t>v krvi klesá</a:t>
              </a:r>
              <a:r>
                <a:rPr b="1" lang="cs-CZ" sz="2400" spc="-1" strike="noStrike" baseline="70000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66" name=""/>
          <p:cNvGrpSpPr/>
          <p:nvPr/>
        </p:nvGrpSpPr>
        <p:grpSpPr>
          <a:xfrm>
            <a:off x="-84240" y="83160"/>
            <a:ext cx="9228240" cy="5983200"/>
            <a:chOff x="-84240" y="83160"/>
            <a:chExt cx="9228240" cy="5983200"/>
          </a:xfrm>
        </p:grpSpPr>
        <p:sp>
          <p:nvSpPr>
            <p:cNvPr id="9767" name=""/>
            <p:cNvSpPr/>
            <p:nvPr/>
          </p:nvSpPr>
          <p:spPr>
            <a:xfrm flipH="1">
              <a:off x="907560" y="803160"/>
              <a:ext cx="17640" cy="4857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8" name=""/>
            <p:cNvSpPr/>
            <p:nvPr/>
          </p:nvSpPr>
          <p:spPr>
            <a:xfrm flipH="1" flipV="1">
              <a:off x="907560" y="5656320"/>
              <a:ext cx="41864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9" name=""/>
            <p:cNvSpPr/>
            <p:nvPr/>
          </p:nvSpPr>
          <p:spPr>
            <a:xfrm>
              <a:off x="855720" y="3233880"/>
              <a:ext cx="1839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0" name=""/>
            <p:cNvSpPr/>
            <p:nvPr/>
          </p:nvSpPr>
          <p:spPr>
            <a:xfrm>
              <a:off x="841320" y="803160"/>
              <a:ext cx="1843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1" name=""/>
            <p:cNvSpPr/>
            <p:nvPr/>
          </p:nvSpPr>
          <p:spPr>
            <a:xfrm>
              <a:off x="301680" y="604440"/>
              <a:ext cx="658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600" spc="-1" strike="noStrike">
                  <a:solidFill>
                    <a:srgbClr val="000000"/>
                  </a:solidFill>
                  <a:latin typeface="Times New Roman"/>
                </a:rPr>
                <a:t>1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2" name=""/>
            <p:cNvSpPr/>
            <p:nvPr/>
          </p:nvSpPr>
          <p:spPr>
            <a:xfrm>
              <a:off x="341280" y="3006360"/>
              <a:ext cx="658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600" spc="-1" strike="noStrike">
                  <a:solidFill>
                    <a:srgbClr val="000000"/>
                  </a:solidFill>
                  <a:latin typeface="Times New Roman"/>
                </a:rPr>
                <a:t>5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3" name=""/>
            <p:cNvSpPr/>
            <p:nvPr/>
          </p:nvSpPr>
          <p:spPr>
            <a:xfrm>
              <a:off x="-84240" y="1705680"/>
              <a:ext cx="10861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600" spc="-1" strike="noStrike">
                  <a:solidFill>
                    <a:srgbClr val="000000"/>
                  </a:solidFill>
                  <a:latin typeface="Times New Roman"/>
                </a:rPr>
                <a:t>% celkové regulační odpověd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4" name=""/>
            <p:cNvSpPr/>
            <p:nvPr/>
          </p:nvSpPr>
          <p:spPr>
            <a:xfrm>
              <a:off x="2471760" y="5565600"/>
              <a:ext cx="1440" cy="227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5" name=""/>
            <p:cNvSpPr/>
            <p:nvPr/>
          </p:nvSpPr>
          <p:spPr>
            <a:xfrm>
              <a:off x="3992400" y="5560920"/>
              <a:ext cx="1800" cy="227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6" name=""/>
            <p:cNvSpPr/>
            <p:nvPr/>
          </p:nvSpPr>
          <p:spPr>
            <a:xfrm>
              <a:off x="5513400" y="5556240"/>
              <a:ext cx="1440" cy="227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7" name=""/>
            <p:cNvSpPr/>
            <p:nvPr/>
          </p:nvSpPr>
          <p:spPr>
            <a:xfrm flipH="1">
              <a:off x="5229360" y="5646600"/>
              <a:ext cx="370656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8" name=""/>
            <p:cNvSpPr/>
            <p:nvPr/>
          </p:nvSpPr>
          <p:spPr>
            <a:xfrm>
              <a:off x="1952640" y="5709960"/>
              <a:ext cx="1052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600" spc="-1" strike="noStrike">
                  <a:solidFill>
                    <a:srgbClr val="000000"/>
                  </a:solidFill>
                  <a:latin typeface="Times New Roman"/>
                </a:rPr>
                <a:t>6 hod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9" name=""/>
            <p:cNvSpPr/>
            <p:nvPr/>
          </p:nvSpPr>
          <p:spPr>
            <a:xfrm>
              <a:off x="3540240" y="5708160"/>
              <a:ext cx="1052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600" spc="-1" strike="noStrike">
                  <a:solidFill>
                    <a:srgbClr val="000000"/>
                  </a:solidFill>
                  <a:latin typeface="Times New Roman"/>
                </a:rPr>
                <a:t>12 hod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0" name=""/>
            <p:cNvSpPr/>
            <p:nvPr/>
          </p:nvSpPr>
          <p:spPr>
            <a:xfrm>
              <a:off x="5089680" y="5729040"/>
              <a:ext cx="1052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600" spc="-1" strike="noStrike">
                  <a:solidFill>
                    <a:srgbClr val="000000"/>
                  </a:solidFill>
                  <a:latin typeface="Times New Roman"/>
                </a:rPr>
                <a:t>24 hod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1" name=""/>
            <p:cNvSpPr/>
            <p:nvPr/>
          </p:nvSpPr>
          <p:spPr>
            <a:xfrm>
              <a:off x="8091360" y="5663880"/>
              <a:ext cx="1052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600" spc="-1" strike="noStrike">
                  <a:solidFill>
                    <a:srgbClr val="000000"/>
                  </a:solidFill>
                  <a:latin typeface="Times New Roman"/>
                </a:rPr>
                <a:t>72 hod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2" name=""/>
            <p:cNvSpPr/>
            <p:nvPr/>
          </p:nvSpPr>
          <p:spPr>
            <a:xfrm>
              <a:off x="8647200" y="5519880"/>
              <a:ext cx="1440" cy="226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3" name=""/>
            <p:cNvSpPr/>
            <p:nvPr/>
          </p:nvSpPr>
          <p:spPr>
            <a:xfrm>
              <a:off x="927000" y="376200"/>
              <a:ext cx="0" cy="33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4" name=""/>
            <p:cNvSpPr/>
            <p:nvPr/>
          </p:nvSpPr>
          <p:spPr>
            <a:xfrm>
              <a:off x="318960" y="83160"/>
              <a:ext cx="28609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600" spc="-1" strike="noStrike">
                  <a:solidFill>
                    <a:srgbClr val="000000"/>
                  </a:solidFill>
                  <a:latin typeface="Times New Roman"/>
                </a:rPr>
                <a:t>Počátek retence H</a:t>
              </a:r>
              <a:r>
                <a:rPr b="0" lang="cs-CZ" sz="1600" spc="-1" strike="noStrike" baseline="30000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0" lang="cs-CZ" sz="16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1600" spc="-1" strike="noStrike">
                  <a:solidFill>
                    <a:srgbClr val="000000"/>
                  </a:solidFill>
                  <a:latin typeface="Times New Roman"/>
                </a:rPr>
                <a:t>iontů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5" name=""/>
            <p:cNvSpPr/>
            <p:nvPr/>
          </p:nvSpPr>
          <p:spPr>
            <a:xfrm>
              <a:off x="917640" y="808200"/>
              <a:ext cx="952560" cy="4844880"/>
            </a:xfrm>
            <a:custGeom>
              <a:avLst/>
              <a:gdLst/>
              <a:ahLst/>
              <a:rect l="l" t="t" r="r" b="b"/>
              <a:pathLst>
                <a:path w="600" h="3052">
                  <a:moveTo>
                    <a:pt x="0" y="3052"/>
                  </a:moveTo>
                  <a:cubicBezTo>
                    <a:pt x="5" y="2715"/>
                    <a:pt x="24" y="1466"/>
                    <a:pt x="33" y="1027"/>
                  </a:cubicBezTo>
                  <a:cubicBezTo>
                    <a:pt x="42" y="588"/>
                    <a:pt x="33" y="576"/>
                    <a:pt x="55" y="416"/>
                  </a:cubicBezTo>
                  <a:cubicBezTo>
                    <a:pt x="77" y="256"/>
                    <a:pt x="74" y="138"/>
                    <a:pt x="165" y="69"/>
                  </a:cubicBezTo>
                  <a:cubicBezTo>
                    <a:pt x="256" y="0"/>
                    <a:pt x="510" y="17"/>
                    <a:pt x="600" y="3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6" name=""/>
            <p:cNvSpPr/>
            <p:nvPr/>
          </p:nvSpPr>
          <p:spPr>
            <a:xfrm>
              <a:off x="909720" y="811080"/>
              <a:ext cx="2236680" cy="4832640"/>
            </a:xfrm>
            <a:custGeom>
              <a:avLst/>
              <a:gdLst/>
              <a:ahLst/>
              <a:rect l="l" t="t" r="r" b="b"/>
              <a:pathLst>
                <a:path w="1409" h="3044">
                  <a:moveTo>
                    <a:pt x="0" y="3044"/>
                  </a:moveTo>
                  <a:cubicBezTo>
                    <a:pt x="40" y="2790"/>
                    <a:pt x="183" y="1878"/>
                    <a:pt x="242" y="1520"/>
                  </a:cubicBezTo>
                  <a:cubicBezTo>
                    <a:pt x="301" y="1162"/>
                    <a:pt x="308" y="1094"/>
                    <a:pt x="357" y="893"/>
                  </a:cubicBezTo>
                  <a:cubicBezTo>
                    <a:pt x="406" y="692"/>
                    <a:pt x="458" y="453"/>
                    <a:pt x="539" y="315"/>
                  </a:cubicBezTo>
                  <a:cubicBezTo>
                    <a:pt x="620" y="177"/>
                    <a:pt x="697" y="119"/>
                    <a:pt x="842" y="67"/>
                  </a:cubicBezTo>
                  <a:cubicBezTo>
                    <a:pt x="987" y="15"/>
                    <a:pt x="1291" y="14"/>
                    <a:pt x="1409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7" name=""/>
            <p:cNvSpPr/>
            <p:nvPr/>
          </p:nvSpPr>
          <p:spPr>
            <a:xfrm>
              <a:off x="909720" y="803160"/>
              <a:ext cx="3652920" cy="4849920"/>
            </a:xfrm>
            <a:custGeom>
              <a:avLst/>
              <a:gdLst/>
              <a:ahLst/>
              <a:rect l="l" t="t" r="r" b="b"/>
              <a:pathLst>
                <a:path w="2301" h="3055">
                  <a:moveTo>
                    <a:pt x="0" y="3055"/>
                  </a:moveTo>
                  <a:cubicBezTo>
                    <a:pt x="50" y="2916"/>
                    <a:pt x="170" y="2540"/>
                    <a:pt x="302" y="2219"/>
                  </a:cubicBezTo>
                  <a:cubicBezTo>
                    <a:pt x="434" y="1898"/>
                    <a:pt x="638" y="1421"/>
                    <a:pt x="792" y="1129"/>
                  </a:cubicBezTo>
                  <a:cubicBezTo>
                    <a:pt x="946" y="837"/>
                    <a:pt x="1074" y="639"/>
                    <a:pt x="1227" y="468"/>
                  </a:cubicBezTo>
                  <a:cubicBezTo>
                    <a:pt x="1380" y="297"/>
                    <a:pt x="1533" y="183"/>
                    <a:pt x="1712" y="105"/>
                  </a:cubicBezTo>
                  <a:cubicBezTo>
                    <a:pt x="1891" y="27"/>
                    <a:pt x="2178" y="22"/>
                    <a:pt x="2301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8" name=""/>
            <p:cNvSpPr/>
            <p:nvPr/>
          </p:nvSpPr>
          <p:spPr>
            <a:xfrm>
              <a:off x="900000" y="4098960"/>
              <a:ext cx="4186440" cy="1554120"/>
            </a:xfrm>
            <a:custGeom>
              <a:avLst/>
              <a:gdLst/>
              <a:ahLst/>
              <a:rect l="l" t="t" r="r" b="b"/>
              <a:pathLst>
                <a:path w="2637" h="979">
                  <a:moveTo>
                    <a:pt x="0" y="979"/>
                  </a:moveTo>
                  <a:cubicBezTo>
                    <a:pt x="208" y="935"/>
                    <a:pt x="894" y="819"/>
                    <a:pt x="1250" y="715"/>
                  </a:cubicBezTo>
                  <a:cubicBezTo>
                    <a:pt x="1606" y="611"/>
                    <a:pt x="1905" y="476"/>
                    <a:pt x="2136" y="357"/>
                  </a:cubicBezTo>
                  <a:cubicBezTo>
                    <a:pt x="2367" y="238"/>
                    <a:pt x="2533" y="74"/>
                    <a:pt x="2637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9" name=""/>
            <p:cNvSpPr/>
            <p:nvPr/>
          </p:nvSpPr>
          <p:spPr>
            <a:xfrm>
              <a:off x="5045040" y="4002120"/>
              <a:ext cx="69840" cy="26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0" name=""/>
            <p:cNvSpPr/>
            <p:nvPr/>
          </p:nvSpPr>
          <p:spPr>
            <a:xfrm>
              <a:off x="5234040" y="795240"/>
              <a:ext cx="3706920" cy="3311640"/>
            </a:xfrm>
            <a:custGeom>
              <a:avLst/>
              <a:gdLst/>
              <a:ahLst/>
              <a:rect l="l" t="t" r="r" b="b"/>
              <a:pathLst>
                <a:path w="2335" h="2086">
                  <a:moveTo>
                    <a:pt x="0" y="2086"/>
                  </a:moveTo>
                  <a:cubicBezTo>
                    <a:pt x="84" y="1910"/>
                    <a:pt x="322" y="1323"/>
                    <a:pt x="507" y="1029"/>
                  </a:cubicBezTo>
                  <a:cubicBezTo>
                    <a:pt x="692" y="735"/>
                    <a:pt x="900" y="479"/>
                    <a:pt x="1112" y="319"/>
                  </a:cubicBezTo>
                  <a:cubicBezTo>
                    <a:pt x="1324" y="159"/>
                    <a:pt x="1575" y="119"/>
                    <a:pt x="1779" y="66"/>
                  </a:cubicBezTo>
                  <a:cubicBezTo>
                    <a:pt x="1983" y="13"/>
                    <a:pt x="2219" y="14"/>
                    <a:pt x="2335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1" name=""/>
            <p:cNvSpPr/>
            <p:nvPr/>
          </p:nvSpPr>
          <p:spPr>
            <a:xfrm>
              <a:off x="5180040" y="3979800"/>
              <a:ext cx="69840" cy="26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2" name=""/>
            <p:cNvSpPr/>
            <p:nvPr/>
          </p:nvSpPr>
          <p:spPr>
            <a:xfrm>
              <a:off x="5049720" y="5508720"/>
              <a:ext cx="69840" cy="26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3" name=""/>
            <p:cNvSpPr/>
            <p:nvPr/>
          </p:nvSpPr>
          <p:spPr>
            <a:xfrm>
              <a:off x="5202360" y="5511960"/>
              <a:ext cx="69840" cy="26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4" name=""/>
            <p:cNvSpPr/>
            <p:nvPr/>
          </p:nvSpPr>
          <p:spPr>
            <a:xfrm>
              <a:off x="6962760" y="1277640"/>
              <a:ext cx="1819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600" spc="-1" strike="noStrike">
                  <a:solidFill>
                    <a:srgbClr val="000000"/>
                  </a:solidFill>
                  <a:latin typeface="Times New Roman"/>
                </a:rPr>
                <a:t>Renální exkrece H</a:t>
              </a:r>
              <a:r>
                <a:rPr b="0" lang="cs-CZ" sz="1600" spc="-1" strike="noStrike" baseline="40000">
                  <a:solidFill>
                    <a:srgbClr val="000000"/>
                  </a:solidFill>
                  <a:latin typeface="Times New Roman"/>
                </a:rPr>
                <a:t>+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5" name=""/>
            <p:cNvSpPr/>
            <p:nvPr/>
          </p:nvSpPr>
          <p:spPr>
            <a:xfrm>
              <a:off x="2589120" y="1422360"/>
              <a:ext cx="1567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600" spc="-1" strike="noStrike">
                  <a:solidFill>
                    <a:srgbClr val="000000"/>
                  </a:solidFill>
                  <a:latin typeface="Times New Roman"/>
                </a:rPr>
                <a:t>Respirační kompenzace</a:t>
              </a:r>
              <a:r>
                <a:rPr b="0" lang="cs-CZ" sz="1600" spc="-1" strike="noStrike" baseline="40000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6" name=""/>
            <p:cNvSpPr/>
            <p:nvPr/>
          </p:nvSpPr>
          <p:spPr>
            <a:xfrm>
              <a:off x="1833480" y="528120"/>
              <a:ext cx="4415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600" spc="-1" strike="noStrike">
                  <a:solidFill>
                    <a:srgbClr val="000000"/>
                  </a:solidFill>
                  <a:latin typeface="Times New Roman"/>
                </a:rPr>
                <a:t>Redistribuce ECT-ICT a intracelulární pufrování</a:t>
              </a:r>
              <a:r>
                <a:rPr b="0" lang="cs-CZ" sz="1600" spc="-1" strike="noStrike" baseline="40000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7" name=""/>
            <p:cNvSpPr/>
            <p:nvPr/>
          </p:nvSpPr>
          <p:spPr>
            <a:xfrm>
              <a:off x="852480" y="306000"/>
              <a:ext cx="4110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600" spc="-1" strike="noStrike">
                  <a:solidFill>
                    <a:srgbClr val="000000"/>
                  </a:solidFill>
                  <a:latin typeface="Times New Roman"/>
                </a:rPr>
                <a:t>Redistribuce krev-IST a ECT pufrování</a:t>
              </a:r>
              <a:r>
                <a:rPr b="0" lang="cs-CZ" sz="1600" spc="-1" strike="noStrike" baseline="40000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8" name=""/>
            <p:cNvSpPr/>
            <p:nvPr/>
          </p:nvSpPr>
          <p:spPr>
            <a:xfrm>
              <a:off x="2070000" y="804960"/>
              <a:ext cx="0" cy="18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9" name=""/>
            <p:cNvSpPr/>
            <p:nvPr/>
          </p:nvSpPr>
          <p:spPr>
            <a:xfrm>
              <a:off x="1254240" y="519120"/>
              <a:ext cx="0" cy="33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00" name=""/>
          <p:cNvGrpSpPr/>
          <p:nvPr/>
        </p:nvGrpSpPr>
        <p:grpSpPr>
          <a:xfrm>
            <a:off x="631800" y="144360"/>
            <a:ext cx="8229600" cy="6714720"/>
            <a:chOff x="631800" y="144360"/>
            <a:chExt cx="8229600" cy="6714720"/>
          </a:xfrm>
        </p:grpSpPr>
        <p:sp>
          <p:nvSpPr>
            <p:cNvPr id="9801" name=""/>
            <p:cNvSpPr/>
            <p:nvPr/>
          </p:nvSpPr>
          <p:spPr>
            <a:xfrm>
              <a:off x="1457280" y="270000"/>
              <a:ext cx="0" cy="3808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2" name=""/>
            <p:cNvSpPr/>
            <p:nvPr/>
          </p:nvSpPr>
          <p:spPr>
            <a:xfrm>
              <a:off x="2759040" y="144360"/>
              <a:ext cx="4392720" cy="6713640"/>
            </a:xfrm>
            <a:custGeom>
              <a:avLst/>
              <a:gdLst>
                <a:gd name="textAreaLeft" fmla="*/ 214200 w 4392720"/>
                <a:gd name="textAreaRight" fmla="*/ 4178520 w 4392720"/>
                <a:gd name="textAreaTop" fmla="*/ 214200 h 6713640"/>
                <a:gd name="textAreaBottom" fmla="*/ 6499440 h 6713640"/>
              </a:gdLst>
              <a:ahLst/>
              <a:rect l="textAreaLeft" t="textAreaTop" r="textAreaRight" b="textAreaBottom"/>
              <a:pathLst>
                <a:path w="21600" h="33012">
                  <a:moveTo>
                    <a:pt x="3600" y="0"/>
                  </a:moveTo>
                  <a:arcTo wR="3600" hR="3600" stAng="16200000" swAng="-5400000"/>
                  <a:lnTo>
                    <a:pt x="0" y="29412"/>
                  </a:lnTo>
                  <a:arcTo wR="3600" hR="3600" stAng="10800000" swAng="-5400000"/>
                  <a:lnTo>
                    <a:pt x="18000" y="3301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3" name=""/>
            <p:cNvSpPr/>
            <p:nvPr/>
          </p:nvSpPr>
          <p:spPr>
            <a:xfrm>
              <a:off x="4173480" y="5813280"/>
              <a:ext cx="320760" cy="3574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400" spc="-1" strike="noStrike">
                  <a:solidFill>
                    <a:srgbClr val="000000"/>
                  </a:solidFill>
                  <a:latin typeface="Times New Roman"/>
                </a:rPr>
                <a:t>Na</a:t>
              </a:r>
              <a:r>
                <a:rPr b="0" lang="cs-CZ" sz="1400" spc="-1" strike="noStrike" baseline="30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4" name=""/>
            <p:cNvSpPr/>
            <p:nvPr/>
          </p:nvSpPr>
          <p:spPr>
            <a:xfrm>
              <a:off x="3564000" y="2178360"/>
              <a:ext cx="8985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400" spc="-1" strike="noStrike">
                  <a:solidFill>
                    <a:srgbClr val="000000"/>
                  </a:solidFill>
                  <a:latin typeface="Times New Roman"/>
                </a:rPr>
                <a:t>elektrický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400" spc="-1" strike="noStrike">
                  <a:solidFill>
                    <a:srgbClr val="000000"/>
                  </a:solidFill>
                  <a:latin typeface="Times New Roman"/>
                </a:rPr>
                <a:t>gradi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5" name=""/>
            <p:cNvSpPr/>
            <p:nvPr/>
          </p:nvSpPr>
          <p:spPr>
            <a:xfrm>
              <a:off x="879120" y="767160"/>
              <a:ext cx="1107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400" spc="-1" strike="noStrike">
                  <a:solidFill>
                    <a:srgbClr val="000000"/>
                  </a:solidFill>
                  <a:latin typeface="Times New Roman"/>
                </a:rPr>
                <a:t>koncentrační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400" spc="-1" strike="noStrike">
                  <a:solidFill>
                    <a:srgbClr val="000000"/>
                  </a:solidFill>
                  <a:latin typeface="Times New Roman"/>
                </a:rPr>
                <a:t>gradi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6" name=""/>
            <p:cNvSpPr/>
            <p:nvPr/>
          </p:nvSpPr>
          <p:spPr>
            <a:xfrm flipH="1">
              <a:off x="3887640" y="1057320"/>
              <a:ext cx="130320" cy="777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7" name=""/>
            <p:cNvSpPr/>
            <p:nvPr/>
          </p:nvSpPr>
          <p:spPr>
            <a:xfrm rot="1551000">
              <a:off x="1245960" y="866520"/>
              <a:ext cx="3144600" cy="7452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8" name=""/>
            <p:cNvSpPr/>
            <p:nvPr/>
          </p:nvSpPr>
          <p:spPr>
            <a:xfrm>
              <a:off x="2660760" y="934920"/>
              <a:ext cx="233280" cy="511200"/>
            </a:xfrm>
            <a:prstGeom prst="triangle">
              <a:avLst>
                <a:gd name="adj" fmla="val 50000"/>
              </a:avLst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9" name=""/>
            <p:cNvSpPr/>
            <p:nvPr/>
          </p:nvSpPr>
          <p:spPr>
            <a:xfrm>
              <a:off x="3838680" y="4565520"/>
              <a:ext cx="56880" cy="1650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0" name=""/>
            <p:cNvSpPr/>
            <p:nvPr/>
          </p:nvSpPr>
          <p:spPr>
            <a:xfrm>
              <a:off x="3678120" y="4650120"/>
              <a:ext cx="412920" cy="1491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1" name=""/>
            <p:cNvSpPr/>
            <p:nvPr/>
          </p:nvSpPr>
          <p:spPr>
            <a:xfrm>
              <a:off x="2341440" y="406440"/>
              <a:ext cx="223920" cy="25236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4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0" lang="cs-CZ" sz="1400" spc="-1" strike="noStrike" baseline="30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2" name=""/>
            <p:cNvSpPr/>
            <p:nvPr/>
          </p:nvSpPr>
          <p:spPr>
            <a:xfrm>
              <a:off x="2033640" y="4508640"/>
              <a:ext cx="320760" cy="35712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400" spc="-1" strike="noStrike">
                  <a:solidFill>
                    <a:srgbClr val="000000"/>
                  </a:solidFill>
                  <a:latin typeface="Times New Roman"/>
                </a:rPr>
                <a:t>Na</a:t>
              </a:r>
              <a:r>
                <a:rPr b="0" lang="cs-CZ" sz="1400" spc="-1" strike="noStrike" baseline="30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3" name=""/>
            <p:cNvSpPr/>
            <p:nvPr/>
          </p:nvSpPr>
          <p:spPr>
            <a:xfrm>
              <a:off x="3610080" y="4116240"/>
              <a:ext cx="223560" cy="25272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4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0" lang="cs-CZ" sz="1400" spc="-1" strike="noStrike" baseline="30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4" name=""/>
            <p:cNvSpPr/>
            <p:nvPr/>
          </p:nvSpPr>
          <p:spPr>
            <a:xfrm>
              <a:off x="2693880" y="3478320"/>
              <a:ext cx="223920" cy="25236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4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0" lang="cs-CZ" sz="1400" spc="-1" strike="noStrike" baseline="30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5" name=""/>
            <p:cNvSpPr/>
            <p:nvPr/>
          </p:nvSpPr>
          <p:spPr>
            <a:xfrm>
              <a:off x="2948040" y="5086440"/>
              <a:ext cx="320760" cy="35712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400" spc="-1" strike="noStrike">
                  <a:solidFill>
                    <a:srgbClr val="000000"/>
                  </a:solidFill>
                  <a:latin typeface="Times New Roman"/>
                </a:rPr>
                <a:t>Na</a:t>
              </a:r>
              <a:r>
                <a:rPr b="0" lang="cs-CZ" sz="1400" spc="-1" strike="noStrike" baseline="30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6" name=""/>
            <p:cNvSpPr/>
            <p:nvPr/>
          </p:nvSpPr>
          <p:spPr>
            <a:xfrm>
              <a:off x="1781280" y="2901960"/>
              <a:ext cx="223560" cy="25236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4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0" lang="cs-CZ" sz="1400" spc="-1" strike="noStrike" baseline="30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817" name=""/>
            <p:cNvGrpSpPr/>
            <p:nvPr/>
          </p:nvGrpSpPr>
          <p:grpSpPr>
            <a:xfrm>
              <a:off x="1413720" y="2842920"/>
              <a:ext cx="2591640" cy="2215080"/>
              <a:chOff x="1413720" y="2842920"/>
              <a:chExt cx="2591640" cy="2215080"/>
            </a:xfrm>
          </p:grpSpPr>
          <p:sp>
            <p:nvSpPr>
              <p:cNvPr id="9818" name=""/>
              <p:cNvSpPr/>
              <p:nvPr/>
            </p:nvSpPr>
            <p:spPr>
              <a:xfrm flipH="1" rot="2031600">
                <a:off x="1565640" y="3840480"/>
                <a:ext cx="2468160" cy="20808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9" name=""/>
              <p:cNvSpPr/>
              <p:nvPr/>
            </p:nvSpPr>
            <p:spPr>
              <a:xfrm flipH="1" rot="7171200">
                <a:off x="3609360" y="4100760"/>
                <a:ext cx="328320" cy="34704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0" name=""/>
              <p:cNvSpPr/>
              <p:nvPr/>
            </p:nvSpPr>
            <p:spPr>
              <a:xfrm flipH="1" rot="7171200">
                <a:off x="3147840" y="3785040"/>
                <a:ext cx="328680" cy="34740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1" name=""/>
              <p:cNvSpPr/>
              <p:nvPr/>
            </p:nvSpPr>
            <p:spPr>
              <a:xfrm flipH="1" rot="7171200">
                <a:off x="2686320" y="3469680"/>
                <a:ext cx="328680" cy="34740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2" name=""/>
              <p:cNvSpPr/>
              <p:nvPr/>
            </p:nvSpPr>
            <p:spPr>
              <a:xfrm flipH="1" rot="7171200">
                <a:off x="2224440" y="3154680"/>
                <a:ext cx="328680" cy="34704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3" name=""/>
              <p:cNvSpPr/>
              <p:nvPr/>
            </p:nvSpPr>
            <p:spPr>
              <a:xfrm flipH="1" rot="7171200">
                <a:off x="1787760" y="2897640"/>
                <a:ext cx="328320" cy="34704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4" name=""/>
              <p:cNvSpPr/>
              <p:nvPr/>
            </p:nvSpPr>
            <p:spPr>
              <a:xfrm flipH="1" rot="19626000">
                <a:off x="1481040" y="3314160"/>
                <a:ext cx="328680" cy="34740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5" name=""/>
              <p:cNvSpPr/>
              <p:nvPr/>
            </p:nvSpPr>
            <p:spPr>
              <a:xfrm flipH="1" rot="18376200">
                <a:off x="1994760" y="3674880"/>
                <a:ext cx="328680" cy="34740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6" name=""/>
              <p:cNvSpPr/>
              <p:nvPr/>
            </p:nvSpPr>
            <p:spPr>
              <a:xfrm flipH="1" rot="18376200">
                <a:off x="2496240" y="4007520"/>
                <a:ext cx="328320" cy="34740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7" name=""/>
              <p:cNvSpPr/>
              <p:nvPr/>
            </p:nvSpPr>
            <p:spPr>
              <a:xfrm flipH="1" rot="18376200">
                <a:off x="2963160" y="4327560"/>
                <a:ext cx="328680" cy="34704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8" name=""/>
              <p:cNvSpPr/>
              <p:nvPr/>
            </p:nvSpPr>
            <p:spPr>
              <a:xfrm flipH="1" rot="17269800">
                <a:off x="3548880" y="4674240"/>
                <a:ext cx="328680" cy="34740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29" name=""/>
            <p:cNvSpPr/>
            <p:nvPr/>
          </p:nvSpPr>
          <p:spPr>
            <a:xfrm>
              <a:off x="3646440" y="4479840"/>
              <a:ext cx="182520" cy="1983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0" name=""/>
            <p:cNvSpPr/>
            <p:nvPr/>
          </p:nvSpPr>
          <p:spPr>
            <a:xfrm>
              <a:off x="2328840" y="250920"/>
              <a:ext cx="492120" cy="207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1" name=""/>
            <p:cNvSpPr/>
            <p:nvPr/>
          </p:nvSpPr>
          <p:spPr>
            <a:xfrm>
              <a:off x="2122560" y="4286160"/>
              <a:ext cx="363600" cy="233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2" name=""/>
            <p:cNvSpPr/>
            <p:nvPr/>
          </p:nvSpPr>
          <p:spPr>
            <a:xfrm>
              <a:off x="3054240" y="4924440"/>
              <a:ext cx="363600" cy="233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3" name=""/>
            <p:cNvSpPr/>
            <p:nvPr/>
          </p:nvSpPr>
          <p:spPr>
            <a:xfrm>
              <a:off x="3692520" y="3892680"/>
              <a:ext cx="363600" cy="233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4" name=""/>
            <p:cNvSpPr/>
            <p:nvPr/>
          </p:nvSpPr>
          <p:spPr>
            <a:xfrm>
              <a:off x="2805120" y="3308400"/>
              <a:ext cx="363600" cy="233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5" name=""/>
            <p:cNvSpPr/>
            <p:nvPr/>
          </p:nvSpPr>
          <p:spPr>
            <a:xfrm>
              <a:off x="1833480" y="2654280"/>
              <a:ext cx="363600" cy="233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6" name=""/>
            <p:cNvSpPr/>
            <p:nvPr/>
          </p:nvSpPr>
          <p:spPr>
            <a:xfrm>
              <a:off x="4113360" y="1574640"/>
              <a:ext cx="0" cy="5889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837" name=""/>
            <p:cNvGrpSpPr/>
            <p:nvPr/>
          </p:nvGrpSpPr>
          <p:grpSpPr>
            <a:xfrm>
              <a:off x="5722200" y="1925280"/>
              <a:ext cx="2591640" cy="2215080"/>
              <a:chOff x="5722200" y="1925280"/>
              <a:chExt cx="2591640" cy="2215080"/>
            </a:xfrm>
          </p:grpSpPr>
          <p:sp>
            <p:nvSpPr>
              <p:cNvPr id="9838" name=""/>
              <p:cNvSpPr/>
              <p:nvPr/>
            </p:nvSpPr>
            <p:spPr>
              <a:xfrm flipH="1" rot="2031600">
                <a:off x="5874120" y="2922840"/>
                <a:ext cx="2468160" cy="20808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9" name=""/>
              <p:cNvSpPr/>
              <p:nvPr/>
            </p:nvSpPr>
            <p:spPr>
              <a:xfrm flipH="1" rot="7171200">
                <a:off x="7917840" y="3183120"/>
                <a:ext cx="328320" cy="34704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0" name=""/>
              <p:cNvSpPr/>
              <p:nvPr/>
            </p:nvSpPr>
            <p:spPr>
              <a:xfrm flipH="1" rot="7171200">
                <a:off x="7456320" y="2867400"/>
                <a:ext cx="328680" cy="34740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1" name=""/>
              <p:cNvSpPr/>
              <p:nvPr/>
            </p:nvSpPr>
            <p:spPr>
              <a:xfrm flipH="1" rot="7171200">
                <a:off x="6994800" y="2552040"/>
                <a:ext cx="328680" cy="34740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2" name=""/>
              <p:cNvSpPr/>
              <p:nvPr/>
            </p:nvSpPr>
            <p:spPr>
              <a:xfrm flipH="1" rot="7171200">
                <a:off x="6532920" y="2237040"/>
                <a:ext cx="328680" cy="34704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3" name=""/>
              <p:cNvSpPr/>
              <p:nvPr/>
            </p:nvSpPr>
            <p:spPr>
              <a:xfrm flipH="1" rot="7171200">
                <a:off x="6096240" y="1980000"/>
                <a:ext cx="328320" cy="34704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4" name=""/>
              <p:cNvSpPr/>
              <p:nvPr/>
            </p:nvSpPr>
            <p:spPr>
              <a:xfrm flipH="1" rot="19626000">
                <a:off x="5789520" y="2396520"/>
                <a:ext cx="328680" cy="34740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5" name=""/>
              <p:cNvSpPr/>
              <p:nvPr/>
            </p:nvSpPr>
            <p:spPr>
              <a:xfrm flipH="1" rot="18376200">
                <a:off x="6303240" y="2757240"/>
                <a:ext cx="328680" cy="34740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6" name=""/>
              <p:cNvSpPr/>
              <p:nvPr/>
            </p:nvSpPr>
            <p:spPr>
              <a:xfrm flipH="1" rot="18376200">
                <a:off x="6804720" y="3089880"/>
                <a:ext cx="328320" cy="34740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7" name=""/>
              <p:cNvSpPr/>
              <p:nvPr/>
            </p:nvSpPr>
            <p:spPr>
              <a:xfrm flipH="1" rot="18376200">
                <a:off x="7271640" y="3409920"/>
                <a:ext cx="328680" cy="34704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8" name=""/>
              <p:cNvSpPr/>
              <p:nvPr/>
            </p:nvSpPr>
            <p:spPr>
              <a:xfrm flipH="1" rot="17269800">
                <a:off x="7857360" y="3756600"/>
                <a:ext cx="328680" cy="34740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49" name=""/>
            <p:cNvGrpSpPr/>
            <p:nvPr/>
          </p:nvGrpSpPr>
          <p:grpSpPr>
            <a:xfrm>
              <a:off x="5981760" y="4161960"/>
              <a:ext cx="2530800" cy="2344320"/>
              <a:chOff x="5981760" y="4161960"/>
              <a:chExt cx="2530800" cy="2344320"/>
            </a:xfrm>
          </p:grpSpPr>
          <p:sp>
            <p:nvSpPr>
              <p:cNvPr id="9850" name=""/>
              <p:cNvSpPr/>
              <p:nvPr/>
            </p:nvSpPr>
            <p:spPr>
              <a:xfrm flipH="1" flipV="1" rot="8530200">
                <a:off x="5931000" y="5220000"/>
                <a:ext cx="2468160" cy="20844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1" name=""/>
              <p:cNvSpPr/>
              <p:nvPr/>
            </p:nvSpPr>
            <p:spPr>
              <a:xfrm flipH="1" flipV="1" rot="3390600">
                <a:off x="6052680" y="5546520"/>
                <a:ext cx="328320" cy="34740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2" name=""/>
              <p:cNvSpPr/>
              <p:nvPr/>
            </p:nvSpPr>
            <p:spPr>
              <a:xfrm flipH="1" flipV="1" rot="3390600">
                <a:off x="6490800" y="5200200"/>
                <a:ext cx="328680" cy="34740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3" name=""/>
              <p:cNvSpPr/>
              <p:nvPr/>
            </p:nvSpPr>
            <p:spPr>
              <a:xfrm flipH="1" flipV="1" rot="3390600">
                <a:off x="6928920" y="4853880"/>
                <a:ext cx="328680" cy="34740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4" name=""/>
              <p:cNvSpPr/>
              <p:nvPr/>
            </p:nvSpPr>
            <p:spPr>
              <a:xfrm flipH="1" flipV="1" rot="3390600">
                <a:off x="7367760" y="4507200"/>
                <a:ext cx="328680" cy="34704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5" name=""/>
              <p:cNvSpPr/>
              <p:nvPr/>
            </p:nvSpPr>
            <p:spPr>
              <a:xfrm flipH="1" flipV="1" rot="3390600">
                <a:off x="7786440" y="4220280"/>
                <a:ext cx="328320" cy="34740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6" name=""/>
              <p:cNvSpPr/>
              <p:nvPr/>
            </p:nvSpPr>
            <p:spPr>
              <a:xfrm flipH="1" flipV="1" rot="12535800">
                <a:off x="8120160" y="4615200"/>
                <a:ext cx="328680" cy="34740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7" name=""/>
              <p:cNvSpPr/>
              <p:nvPr/>
            </p:nvSpPr>
            <p:spPr>
              <a:xfrm flipH="1" flipV="1" rot="13785600">
                <a:off x="7632720" y="5010840"/>
                <a:ext cx="328680" cy="34740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8" name=""/>
              <p:cNvSpPr/>
              <p:nvPr/>
            </p:nvSpPr>
            <p:spPr>
              <a:xfrm flipH="1" flipV="1" rot="13785600">
                <a:off x="7156440" y="5377320"/>
                <a:ext cx="328320" cy="34740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9" name=""/>
              <p:cNvSpPr/>
              <p:nvPr/>
            </p:nvSpPr>
            <p:spPr>
              <a:xfrm flipH="1" flipV="1" rot="13785600">
                <a:off x="6711840" y="5729040"/>
                <a:ext cx="328680" cy="34704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0" name=""/>
              <p:cNvSpPr/>
              <p:nvPr/>
            </p:nvSpPr>
            <p:spPr>
              <a:xfrm flipH="1" flipV="1" rot="14892000">
                <a:off x="6151680" y="6115320"/>
                <a:ext cx="328680" cy="34740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61" name=""/>
            <p:cNvSpPr/>
            <p:nvPr/>
          </p:nvSpPr>
          <p:spPr>
            <a:xfrm>
              <a:off x="1755720" y="3220920"/>
              <a:ext cx="182520" cy="198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2" name=""/>
            <p:cNvSpPr/>
            <p:nvPr/>
          </p:nvSpPr>
          <p:spPr>
            <a:xfrm>
              <a:off x="6056280" y="2279520"/>
              <a:ext cx="182520" cy="198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3" name=""/>
            <p:cNvSpPr/>
            <p:nvPr/>
          </p:nvSpPr>
          <p:spPr>
            <a:xfrm>
              <a:off x="7958160" y="3557520"/>
              <a:ext cx="182520" cy="1983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4" name=""/>
            <p:cNvSpPr/>
            <p:nvPr/>
          </p:nvSpPr>
          <p:spPr>
            <a:xfrm>
              <a:off x="7964640" y="4548240"/>
              <a:ext cx="182520" cy="1983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5" name=""/>
            <p:cNvSpPr/>
            <p:nvPr/>
          </p:nvSpPr>
          <p:spPr>
            <a:xfrm>
              <a:off x="6168960" y="5923080"/>
              <a:ext cx="182520" cy="1983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6" name=""/>
            <p:cNvSpPr/>
            <p:nvPr/>
          </p:nvSpPr>
          <p:spPr>
            <a:xfrm>
              <a:off x="6099120" y="5454720"/>
              <a:ext cx="320760" cy="35712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400" spc="-1" strike="noStrike">
                  <a:solidFill>
                    <a:srgbClr val="000000"/>
                  </a:solidFill>
                  <a:latin typeface="Times New Roman"/>
                </a:rPr>
                <a:t>Na</a:t>
              </a:r>
              <a:r>
                <a:rPr b="0" lang="cs-CZ" sz="1400" spc="-1" strike="noStrike" baseline="30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7" name=""/>
            <p:cNvSpPr/>
            <p:nvPr/>
          </p:nvSpPr>
          <p:spPr>
            <a:xfrm>
              <a:off x="7013520" y="4784760"/>
              <a:ext cx="320760" cy="35712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400" spc="-1" strike="noStrike">
                  <a:solidFill>
                    <a:srgbClr val="000000"/>
                  </a:solidFill>
                  <a:latin typeface="Times New Roman"/>
                </a:rPr>
                <a:t>Na</a:t>
              </a:r>
              <a:r>
                <a:rPr b="0" lang="cs-CZ" sz="1400" spc="-1" strike="noStrike" baseline="30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8" name=""/>
            <p:cNvSpPr/>
            <p:nvPr/>
          </p:nvSpPr>
          <p:spPr>
            <a:xfrm>
              <a:off x="7867800" y="4176720"/>
              <a:ext cx="320400" cy="35712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400" spc="-1" strike="noStrike">
                  <a:solidFill>
                    <a:srgbClr val="000000"/>
                  </a:solidFill>
                  <a:latin typeface="Times New Roman"/>
                </a:rPr>
                <a:t>Na</a:t>
              </a:r>
              <a:r>
                <a:rPr b="0" lang="cs-CZ" sz="1400" spc="-1" strike="noStrike" baseline="30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9" name=""/>
            <p:cNvSpPr/>
            <p:nvPr/>
          </p:nvSpPr>
          <p:spPr>
            <a:xfrm>
              <a:off x="7854840" y="3110040"/>
              <a:ext cx="320760" cy="35712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cs-CZ" sz="1400" spc="-1" strike="noStrike" baseline="30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0" name=""/>
            <p:cNvSpPr/>
            <p:nvPr/>
          </p:nvSpPr>
          <p:spPr>
            <a:xfrm>
              <a:off x="6014880" y="1903320"/>
              <a:ext cx="320760" cy="35712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cs-CZ" sz="1400" spc="-1" strike="noStrike" baseline="30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1" name=""/>
            <p:cNvSpPr/>
            <p:nvPr/>
          </p:nvSpPr>
          <p:spPr>
            <a:xfrm>
              <a:off x="5334120" y="5969160"/>
              <a:ext cx="320400" cy="35712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400" spc="-1" strike="noStrike">
                  <a:solidFill>
                    <a:srgbClr val="000000"/>
                  </a:solidFill>
                  <a:latin typeface="Times New Roman"/>
                </a:rPr>
                <a:t>Na</a:t>
              </a:r>
              <a:r>
                <a:rPr b="0" lang="cs-CZ" sz="1400" spc="-1" strike="noStrike" baseline="30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2" name=""/>
            <p:cNvSpPr/>
            <p:nvPr/>
          </p:nvSpPr>
          <p:spPr>
            <a:xfrm>
              <a:off x="5397480" y="2098800"/>
              <a:ext cx="320760" cy="35712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cs-CZ" sz="1400" spc="-1" strike="noStrike" baseline="30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3" name=""/>
            <p:cNvSpPr/>
            <p:nvPr/>
          </p:nvSpPr>
          <p:spPr>
            <a:xfrm>
              <a:off x="5402160" y="565200"/>
              <a:ext cx="320760" cy="35712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cs-CZ" sz="1400" spc="-1" strike="noStrike" baseline="30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4" name=""/>
            <p:cNvSpPr/>
            <p:nvPr/>
          </p:nvSpPr>
          <p:spPr>
            <a:xfrm>
              <a:off x="6316560" y="657360"/>
              <a:ext cx="320760" cy="35712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cs-CZ" sz="1400" spc="-1" strike="noStrike" baseline="30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5" name=""/>
            <p:cNvSpPr/>
            <p:nvPr/>
          </p:nvSpPr>
          <p:spPr>
            <a:xfrm>
              <a:off x="8540640" y="5353200"/>
              <a:ext cx="320760" cy="35712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400" spc="-1" strike="noStrike">
                  <a:solidFill>
                    <a:srgbClr val="000000"/>
                  </a:solidFill>
                  <a:latin typeface="Times New Roman"/>
                </a:rPr>
                <a:t>Na</a:t>
              </a:r>
              <a:r>
                <a:rPr b="0" lang="cs-CZ" sz="1400" spc="-1" strike="noStrike" baseline="30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6" name=""/>
            <p:cNvSpPr/>
            <p:nvPr/>
          </p:nvSpPr>
          <p:spPr>
            <a:xfrm>
              <a:off x="7792920" y="5440320"/>
              <a:ext cx="320760" cy="35712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400" spc="-1" strike="noStrike">
                  <a:solidFill>
                    <a:srgbClr val="000000"/>
                  </a:solidFill>
                  <a:latin typeface="Times New Roman"/>
                </a:rPr>
                <a:t>Na</a:t>
              </a:r>
              <a:r>
                <a:rPr b="0" lang="cs-CZ" sz="1400" spc="-1" strike="noStrike" baseline="30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7" name=""/>
            <p:cNvSpPr/>
            <p:nvPr/>
          </p:nvSpPr>
          <p:spPr>
            <a:xfrm>
              <a:off x="8481960" y="6210360"/>
              <a:ext cx="320760" cy="35712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400" spc="-1" strike="noStrike">
                  <a:solidFill>
                    <a:srgbClr val="000000"/>
                  </a:solidFill>
                  <a:latin typeface="Times New Roman"/>
                </a:rPr>
                <a:t>Na</a:t>
              </a:r>
              <a:r>
                <a:rPr b="0" lang="cs-CZ" sz="1400" spc="-1" strike="noStrike" baseline="30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8" name=""/>
            <p:cNvSpPr/>
            <p:nvPr/>
          </p:nvSpPr>
          <p:spPr>
            <a:xfrm>
              <a:off x="1366920" y="5092560"/>
              <a:ext cx="320760" cy="3574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400" spc="-1" strike="noStrike">
                  <a:solidFill>
                    <a:srgbClr val="000000"/>
                  </a:solidFill>
                  <a:latin typeface="Times New Roman"/>
                </a:rPr>
                <a:t>Na</a:t>
              </a:r>
              <a:r>
                <a:rPr b="0" lang="cs-CZ" sz="1400" spc="-1" strike="noStrike" baseline="30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9" name=""/>
            <p:cNvSpPr/>
            <p:nvPr/>
          </p:nvSpPr>
          <p:spPr>
            <a:xfrm>
              <a:off x="1144440" y="4287960"/>
              <a:ext cx="320760" cy="35712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400" spc="-1" strike="noStrike">
                  <a:solidFill>
                    <a:srgbClr val="000000"/>
                  </a:solidFill>
                  <a:latin typeface="Times New Roman"/>
                </a:rPr>
                <a:t>Na</a:t>
              </a:r>
              <a:r>
                <a:rPr b="0" lang="cs-CZ" sz="1400" spc="-1" strike="noStrike" baseline="30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0" name=""/>
            <p:cNvSpPr/>
            <p:nvPr/>
          </p:nvSpPr>
          <p:spPr>
            <a:xfrm>
              <a:off x="4341960" y="4200480"/>
              <a:ext cx="223560" cy="25236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4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0" lang="cs-CZ" sz="1400" spc="-1" strike="noStrike" baseline="30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1" name=""/>
            <p:cNvSpPr/>
            <p:nvPr/>
          </p:nvSpPr>
          <p:spPr>
            <a:xfrm>
              <a:off x="4381560" y="3643200"/>
              <a:ext cx="223920" cy="25236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4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0" lang="cs-CZ" sz="1400" spc="-1" strike="noStrike" baseline="30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2" name=""/>
            <p:cNvSpPr/>
            <p:nvPr/>
          </p:nvSpPr>
          <p:spPr>
            <a:xfrm>
              <a:off x="4870440" y="865080"/>
              <a:ext cx="320760" cy="35712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cs-CZ" sz="1400" spc="-1" strike="noStrike" baseline="30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3" name=""/>
            <p:cNvSpPr/>
            <p:nvPr/>
          </p:nvSpPr>
          <p:spPr>
            <a:xfrm>
              <a:off x="5280840" y="3601080"/>
              <a:ext cx="75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AT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4" name=""/>
            <p:cNvSpPr/>
            <p:nvPr/>
          </p:nvSpPr>
          <p:spPr>
            <a:xfrm>
              <a:off x="5218200" y="4407480"/>
              <a:ext cx="78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AD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5" name=""/>
            <p:cNvSpPr/>
            <p:nvPr/>
          </p:nvSpPr>
          <p:spPr>
            <a:xfrm>
              <a:off x="5956200" y="3878280"/>
              <a:ext cx="577800" cy="673200"/>
            </a:xfrm>
            <a:custGeom>
              <a:avLst/>
              <a:gdLst/>
              <a:ahLst/>
              <a:rect l="l" t="t" r="r" b="b"/>
              <a:pathLst>
                <a:path w="364" h="424">
                  <a:moveTo>
                    <a:pt x="44" y="0"/>
                  </a:moveTo>
                  <a:cubicBezTo>
                    <a:pt x="80" y="7"/>
                    <a:pt x="205" y="14"/>
                    <a:pt x="258" y="42"/>
                  </a:cubicBezTo>
                  <a:cubicBezTo>
                    <a:pt x="311" y="70"/>
                    <a:pt x="358" y="121"/>
                    <a:pt x="361" y="168"/>
                  </a:cubicBezTo>
                  <a:cubicBezTo>
                    <a:pt x="364" y="215"/>
                    <a:pt x="338" y="283"/>
                    <a:pt x="278" y="326"/>
                  </a:cubicBezTo>
                  <a:cubicBezTo>
                    <a:pt x="218" y="369"/>
                    <a:pt x="58" y="404"/>
                    <a:pt x="0" y="424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6" name=""/>
            <p:cNvSpPr/>
            <p:nvPr/>
          </p:nvSpPr>
          <p:spPr>
            <a:xfrm>
              <a:off x="6226200" y="3997440"/>
              <a:ext cx="293760" cy="355320"/>
            </a:xfrm>
            <a:prstGeom prst="ellips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7" name=""/>
            <p:cNvSpPr/>
            <p:nvPr/>
          </p:nvSpPr>
          <p:spPr>
            <a:xfrm>
              <a:off x="6291360" y="4073400"/>
              <a:ext cx="182520" cy="198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8" name=""/>
            <p:cNvSpPr/>
            <p:nvPr/>
          </p:nvSpPr>
          <p:spPr>
            <a:xfrm flipH="1">
              <a:off x="6339240" y="3744720"/>
              <a:ext cx="1755720" cy="338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9" name=""/>
            <p:cNvSpPr/>
            <p:nvPr/>
          </p:nvSpPr>
          <p:spPr>
            <a:xfrm flipH="1">
              <a:off x="6395040" y="3589920"/>
              <a:ext cx="1586160" cy="684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0" name=""/>
            <p:cNvSpPr/>
            <p:nvPr/>
          </p:nvSpPr>
          <p:spPr>
            <a:xfrm flipH="1" flipV="1">
              <a:off x="6414840" y="4093920"/>
              <a:ext cx="163476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1" name=""/>
            <p:cNvSpPr/>
            <p:nvPr/>
          </p:nvSpPr>
          <p:spPr>
            <a:xfrm flipH="1" flipV="1">
              <a:off x="6374880" y="4243680"/>
              <a:ext cx="1651320" cy="474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2" name=""/>
            <p:cNvSpPr/>
            <p:nvPr/>
          </p:nvSpPr>
          <p:spPr>
            <a:xfrm>
              <a:off x="3913200" y="4668840"/>
              <a:ext cx="0" cy="353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3" name=""/>
            <p:cNvSpPr/>
            <p:nvPr/>
          </p:nvSpPr>
          <p:spPr>
            <a:xfrm>
              <a:off x="3994200" y="5470560"/>
              <a:ext cx="112680" cy="336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4" name=""/>
            <p:cNvSpPr/>
            <p:nvPr/>
          </p:nvSpPr>
          <p:spPr>
            <a:xfrm flipH="1">
              <a:off x="3789360" y="5467320"/>
              <a:ext cx="9360" cy="370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5" name=""/>
            <p:cNvSpPr/>
            <p:nvPr/>
          </p:nvSpPr>
          <p:spPr>
            <a:xfrm>
              <a:off x="7904160" y="2960640"/>
              <a:ext cx="363600" cy="233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6" name=""/>
            <p:cNvSpPr/>
            <p:nvPr/>
          </p:nvSpPr>
          <p:spPr>
            <a:xfrm>
              <a:off x="6027840" y="1712880"/>
              <a:ext cx="363600" cy="233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7" name=""/>
            <p:cNvSpPr/>
            <p:nvPr/>
          </p:nvSpPr>
          <p:spPr>
            <a:xfrm>
              <a:off x="5916600" y="512640"/>
              <a:ext cx="363600" cy="233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8" name=""/>
            <p:cNvSpPr/>
            <p:nvPr/>
          </p:nvSpPr>
          <p:spPr>
            <a:xfrm>
              <a:off x="8223120" y="1960560"/>
              <a:ext cx="363600" cy="233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9" name=""/>
            <p:cNvSpPr/>
            <p:nvPr/>
          </p:nvSpPr>
          <p:spPr>
            <a:xfrm flipV="1">
              <a:off x="5892840" y="5289120"/>
              <a:ext cx="328680" cy="328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0" name=""/>
            <p:cNvSpPr/>
            <p:nvPr/>
          </p:nvSpPr>
          <p:spPr>
            <a:xfrm flipV="1">
              <a:off x="6729480" y="4679640"/>
              <a:ext cx="328680" cy="328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1" name=""/>
            <p:cNvSpPr/>
            <p:nvPr/>
          </p:nvSpPr>
          <p:spPr>
            <a:xfrm>
              <a:off x="5521320" y="1214280"/>
              <a:ext cx="320760" cy="3574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cs-CZ" sz="1400" spc="-1" strike="noStrike" baseline="30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2" name=""/>
            <p:cNvSpPr/>
            <p:nvPr/>
          </p:nvSpPr>
          <p:spPr>
            <a:xfrm>
              <a:off x="8151840" y="5681520"/>
              <a:ext cx="320760" cy="3574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400" spc="-1" strike="noStrike">
                  <a:solidFill>
                    <a:srgbClr val="000000"/>
                  </a:solidFill>
                  <a:latin typeface="Times New Roman"/>
                </a:rPr>
                <a:t>Na</a:t>
              </a:r>
              <a:r>
                <a:rPr b="0" lang="cs-CZ" sz="1400" spc="-1" strike="noStrike" baseline="30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3" name=""/>
            <p:cNvSpPr/>
            <p:nvPr/>
          </p:nvSpPr>
          <p:spPr>
            <a:xfrm>
              <a:off x="765000" y="4811760"/>
              <a:ext cx="320760" cy="35712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400" spc="-1" strike="noStrike">
                  <a:solidFill>
                    <a:srgbClr val="000000"/>
                  </a:solidFill>
                  <a:latin typeface="Times New Roman"/>
                </a:rPr>
                <a:t>Na</a:t>
              </a:r>
              <a:r>
                <a:rPr b="0" lang="cs-CZ" sz="1400" spc="-1" strike="noStrike" baseline="30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4" name=""/>
            <p:cNvSpPr/>
            <p:nvPr/>
          </p:nvSpPr>
          <p:spPr>
            <a:xfrm>
              <a:off x="631800" y="4054320"/>
              <a:ext cx="320760" cy="3574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400" spc="-1" strike="noStrike">
                  <a:solidFill>
                    <a:srgbClr val="000000"/>
                  </a:solidFill>
                  <a:latin typeface="Times New Roman"/>
                </a:rPr>
                <a:t>Na</a:t>
              </a:r>
              <a:r>
                <a:rPr b="0" lang="cs-CZ" sz="1400" spc="-1" strike="noStrike" baseline="30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5" name=""/>
            <p:cNvSpPr/>
            <p:nvPr/>
          </p:nvSpPr>
          <p:spPr>
            <a:xfrm>
              <a:off x="4135320" y="3855960"/>
              <a:ext cx="223920" cy="25236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4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0" lang="cs-CZ" sz="1400" spc="-1" strike="noStrike" baseline="30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6" name=""/>
            <p:cNvSpPr/>
            <p:nvPr/>
          </p:nvSpPr>
          <p:spPr>
            <a:xfrm>
              <a:off x="4349880" y="1930320"/>
              <a:ext cx="223560" cy="25236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4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0" lang="cs-CZ" sz="1400" spc="-1" strike="noStrike" baseline="30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7" name=""/>
            <p:cNvSpPr/>
            <p:nvPr/>
          </p:nvSpPr>
          <p:spPr>
            <a:xfrm>
              <a:off x="4005360" y="3241800"/>
              <a:ext cx="223920" cy="25236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4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0" lang="cs-CZ" sz="1400" spc="-1" strike="noStrike" baseline="30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8" name=""/>
            <p:cNvSpPr/>
            <p:nvPr/>
          </p:nvSpPr>
          <p:spPr>
            <a:xfrm>
              <a:off x="4354560" y="3079800"/>
              <a:ext cx="223920" cy="25236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4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0" lang="cs-CZ" sz="1400" spc="-1" strike="noStrike" baseline="30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9" name=""/>
            <p:cNvSpPr/>
            <p:nvPr/>
          </p:nvSpPr>
          <p:spPr>
            <a:xfrm>
              <a:off x="4576680" y="1609560"/>
              <a:ext cx="223920" cy="25272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4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0" lang="cs-CZ" sz="1400" spc="-1" strike="noStrike" baseline="30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0" name=""/>
            <p:cNvSpPr/>
            <p:nvPr/>
          </p:nvSpPr>
          <p:spPr>
            <a:xfrm>
              <a:off x="1035000" y="3330720"/>
              <a:ext cx="223920" cy="25236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4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0" lang="cs-CZ" sz="1400" spc="-1" strike="noStrike" baseline="30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1" name=""/>
            <p:cNvSpPr/>
            <p:nvPr/>
          </p:nvSpPr>
          <p:spPr>
            <a:xfrm>
              <a:off x="4162320" y="2657520"/>
              <a:ext cx="223920" cy="25236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4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0" lang="cs-CZ" sz="1400" spc="-1" strike="noStrike" baseline="30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2" name=""/>
            <p:cNvSpPr/>
            <p:nvPr/>
          </p:nvSpPr>
          <p:spPr>
            <a:xfrm>
              <a:off x="7507440" y="5811840"/>
              <a:ext cx="320400" cy="35712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400" spc="-1" strike="noStrike">
                  <a:solidFill>
                    <a:srgbClr val="000000"/>
                  </a:solidFill>
                  <a:latin typeface="Times New Roman"/>
                </a:rPr>
                <a:t>Na</a:t>
              </a:r>
              <a:r>
                <a:rPr b="0" lang="cs-CZ" sz="1400" spc="-1" strike="noStrike" baseline="30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3" name=""/>
            <p:cNvSpPr/>
            <p:nvPr/>
          </p:nvSpPr>
          <p:spPr>
            <a:xfrm>
              <a:off x="7753320" y="6257880"/>
              <a:ext cx="320760" cy="35712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400" spc="-1" strike="noStrike">
                  <a:solidFill>
                    <a:srgbClr val="000000"/>
                  </a:solidFill>
                  <a:latin typeface="Times New Roman"/>
                </a:rPr>
                <a:t>Na</a:t>
              </a:r>
              <a:r>
                <a:rPr b="0" lang="cs-CZ" sz="1400" spc="-1" strike="noStrike" baseline="30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4" name=""/>
            <p:cNvSpPr/>
            <p:nvPr/>
          </p:nvSpPr>
          <p:spPr>
            <a:xfrm>
              <a:off x="8535960" y="3340080"/>
              <a:ext cx="320760" cy="35712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cs-CZ" sz="1400" spc="-1" strike="noStrike" baseline="30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5" name=""/>
            <p:cNvSpPr/>
            <p:nvPr/>
          </p:nvSpPr>
          <p:spPr>
            <a:xfrm>
              <a:off x="4798080" y="2607120"/>
              <a:ext cx="1197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1400" spc="-1" strike="noStrike">
                  <a:solidFill>
                    <a:srgbClr val="000000"/>
                  </a:solidFill>
                  <a:latin typeface="Times New Roman"/>
                </a:rPr>
                <a:t>metabolismu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6" name=""/>
            <p:cNvSpPr/>
            <p:nvPr/>
          </p:nvSpPr>
          <p:spPr>
            <a:xfrm>
              <a:off x="4789440" y="1949400"/>
              <a:ext cx="328680" cy="679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7" name=""/>
            <p:cNvSpPr/>
            <p:nvPr/>
          </p:nvSpPr>
          <p:spPr>
            <a:xfrm>
              <a:off x="4584600" y="2286000"/>
              <a:ext cx="362160" cy="376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8" name=""/>
            <p:cNvSpPr/>
            <p:nvPr/>
          </p:nvSpPr>
          <p:spPr>
            <a:xfrm flipV="1">
              <a:off x="4697280" y="2957400"/>
              <a:ext cx="241560" cy="246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9" name=""/>
            <p:cNvSpPr/>
            <p:nvPr/>
          </p:nvSpPr>
          <p:spPr>
            <a:xfrm flipV="1">
              <a:off x="4653000" y="2962080"/>
              <a:ext cx="563400" cy="657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0" name=""/>
            <p:cNvSpPr/>
            <p:nvPr/>
          </p:nvSpPr>
          <p:spPr>
            <a:xfrm flipV="1">
              <a:off x="4589640" y="2965320"/>
              <a:ext cx="801360" cy="1170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1" name=""/>
            <p:cNvSpPr/>
            <p:nvPr/>
          </p:nvSpPr>
          <p:spPr>
            <a:xfrm flipV="1">
              <a:off x="4449600" y="2784240"/>
              <a:ext cx="376560" cy="161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2" name=""/>
            <p:cNvSpPr/>
            <p:nvPr/>
          </p:nvSpPr>
          <p:spPr>
            <a:xfrm>
              <a:off x="5848200" y="804960"/>
              <a:ext cx="320760" cy="35712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cs-CZ" sz="1400" spc="-1" strike="noStrike" baseline="30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3" name=""/>
            <p:cNvSpPr/>
            <p:nvPr/>
          </p:nvSpPr>
          <p:spPr>
            <a:xfrm>
              <a:off x="6302520" y="1541880"/>
              <a:ext cx="8985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400" spc="-1" strike="noStrike">
                  <a:solidFill>
                    <a:srgbClr val="000000"/>
                  </a:solidFill>
                  <a:latin typeface="Times New Roman"/>
                </a:rPr>
                <a:t>elektrický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400" spc="-1" strike="noStrike">
                  <a:solidFill>
                    <a:srgbClr val="000000"/>
                  </a:solidFill>
                  <a:latin typeface="Times New Roman"/>
                </a:rPr>
                <a:t>gradi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4" name=""/>
            <p:cNvSpPr/>
            <p:nvPr/>
          </p:nvSpPr>
          <p:spPr>
            <a:xfrm>
              <a:off x="7090920" y="2135520"/>
              <a:ext cx="1107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400" spc="-1" strike="noStrike">
                  <a:solidFill>
                    <a:srgbClr val="000000"/>
                  </a:solidFill>
                  <a:latin typeface="Times New Roman"/>
                </a:rPr>
                <a:t>koncentrační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400" spc="-1" strike="noStrike">
                  <a:solidFill>
                    <a:srgbClr val="000000"/>
                  </a:solidFill>
                  <a:latin typeface="Times New Roman"/>
                </a:rPr>
                <a:t>gradi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5" name=""/>
            <p:cNvSpPr/>
            <p:nvPr/>
          </p:nvSpPr>
          <p:spPr>
            <a:xfrm>
              <a:off x="7497720" y="1528920"/>
              <a:ext cx="0" cy="7063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6" name=""/>
            <p:cNvSpPr/>
            <p:nvPr/>
          </p:nvSpPr>
          <p:spPr>
            <a:xfrm>
              <a:off x="3133800" y="6552000"/>
              <a:ext cx="265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400" spc="-1" strike="noStrike">
                  <a:solidFill>
                    <a:srgbClr val="000000"/>
                  </a:solidFill>
                  <a:latin typeface="Times New Roman"/>
                </a:rPr>
                <a:t>Elektrický a koncentrační gradi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7" name=""/>
            <p:cNvSpPr/>
            <p:nvPr/>
          </p:nvSpPr>
          <p:spPr>
            <a:xfrm>
              <a:off x="3430440" y="5808600"/>
              <a:ext cx="0" cy="7444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8" name=""/>
            <p:cNvSpPr/>
            <p:nvPr/>
          </p:nvSpPr>
          <p:spPr>
            <a:xfrm>
              <a:off x="3691080" y="5951520"/>
              <a:ext cx="0" cy="6336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9" name=""/>
            <p:cNvSpPr/>
            <p:nvPr/>
          </p:nvSpPr>
          <p:spPr>
            <a:xfrm>
              <a:off x="5276880" y="1552680"/>
              <a:ext cx="320760" cy="35712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cs-CZ" sz="1400" spc="-1" strike="noStrike" baseline="30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0" name=""/>
            <p:cNvSpPr/>
            <p:nvPr/>
          </p:nvSpPr>
          <p:spPr>
            <a:xfrm>
              <a:off x="6688080" y="992160"/>
              <a:ext cx="0" cy="6429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1" name=""/>
            <p:cNvSpPr/>
            <p:nvPr/>
          </p:nvSpPr>
          <p:spPr>
            <a:xfrm rot="7272000">
              <a:off x="7011720" y="485280"/>
              <a:ext cx="484200" cy="1509840"/>
            </a:xfrm>
            <a:prstGeom prst="can">
              <a:avLst>
                <a:gd name="adj" fmla="val 20379"/>
              </a:avLst>
            </a:prstGeom>
            <a:solidFill>
              <a:srgbClr val="66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2" name=""/>
            <p:cNvSpPr/>
            <p:nvPr/>
          </p:nvSpPr>
          <p:spPr>
            <a:xfrm>
              <a:off x="7791480" y="1538280"/>
              <a:ext cx="320760" cy="35712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cs-CZ" sz="1400" spc="-1" strike="noStrike" baseline="30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3" name=""/>
            <p:cNvSpPr/>
            <p:nvPr/>
          </p:nvSpPr>
          <p:spPr>
            <a:xfrm>
              <a:off x="8369280" y="4994280"/>
              <a:ext cx="320760" cy="35712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400" spc="-1" strike="noStrike">
                  <a:solidFill>
                    <a:srgbClr val="000000"/>
                  </a:solidFill>
                  <a:latin typeface="Times New Roman"/>
                </a:rPr>
                <a:t>Na</a:t>
              </a:r>
              <a:r>
                <a:rPr b="0" lang="cs-CZ" sz="1400" spc="-1" strike="noStrike" baseline="30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4" name=""/>
            <p:cNvSpPr/>
            <p:nvPr/>
          </p:nvSpPr>
          <p:spPr>
            <a:xfrm>
              <a:off x="7105680" y="6004080"/>
              <a:ext cx="423720" cy="563400"/>
            </a:xfrm>
            <a:custGeom>
              <a:avLst/>
              <a:gdLst/>
              <a:ahLst/>
              <a:rect l="l" t="t" r="r" b="b"/>
              <a:pathLst>
                <a:path w="267" h="355">
                  <a:moveTo>
                    <a:pt x="210" y="0"/>
                  </a:moveTo>
                  <a:cubicBezTo>
                    <a:pt x="179" y="27"/>
                    <a:pt x="44" y="12"/>
                    <a:pt x="22" y="169"/>
                  </a:cubicBezTo>
                  <a:cubicBezTo>
                    <a:pt x="0" y="326"/>
                    <a:pt x="216" y="317"/>
                    <a:pt x="267" y="35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5" name=""/>
            <p:cNvSpPr/>
            <p:nvPr/>
          </p:nvSpPr>
          <p:spPr>
            <a:xfrm rot="10800000">
              <a:off x="2350800" y="5721120"/>
              <a:ext cx="423720" cy="563400"/>
            </a:xfrm>
            <a:custGeom>
              <a:avLst/>
              <a:gdLst/>
              <a:ahLst/>
              <a:rect l="l" t="t" r="r" b="b"/>
              <a:pathLst>
                <a:path w="267" h="355">
                  <a:moveTo>
                    <a:pt x="210" y="0"/>
                  </a:moveTo>
                  <a:cubicBezTo>
                    <a:pt x="179" y="27"/>
                    <a:pt x="44" y="12"/>
                    <a:pt x="22" y="169"/>
                  </a:cubicBezTo>
                  <a:cubicBezTo>
                    <a:pt x="0" y="326"/>
                    <a:pt x="216" y="317"/>
                    <a:pt x="267" y="35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6" name=""/>
            <p:cNvSpPr/>
            <p:nvPr/>
          </p:nvSpPr>
          <p:spPr>
            <a:xfrm>
              <a:off x="1917720" y="5489640"/>
              <a:ext cx="320760" cy="35712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400" spc="-1" strike="noStrike">
                  <a:solidFill>
                    <a:srgbClr val="000000"/>
                  </a:solidFill>
                  <a:latin typeface="Times New Roman"/>
                </a:rPr>
                <a:t>Na</a:t>
              </a:r>
              <a:r>
                <a:rPr b="0" lang="cs-CZ" sz="1400" spc="-1" strike="noStrike" baseline="30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7" name=""/>
            <p:cNvSpPr/>
            <p:nvPr/>
          </p:nvSpPr>
          <p:spPr>
            <a:xfrm flipV="1" rot="1974000">
              <a:off x="1531440" y="5347440"/>
              <a:ext cx="2667240" cy="88920"/>
            </a:xfrm>
            <a:prstGeom prst="rect">
              <a:avLst/>
            </a:prstGeom>
            <a:solidFill>
              <a:srgbClr val="80808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8" name=""/>
            <p:cNvSpPr/>
            <p:nvPr/>
          </p:nvSpPr>
          <p:spPr>
            <a:xfrm>
              <a:off x="3741840" y="5915160"/>
              <a:ext cx="501480" cy="501480"/>
            </a:xfrm>
            <a:prstGeom prst="sun">
              <a:avLst>
                <a:gd name="adj" fmla="val 25000"/>
              </a:avLst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39" name=""/>
          <p:cNvGrpSpPr/>
          <p:nvPr/>
        </p:nvGrpSpPr>
        <p:grpSpPr>
          <a:xfrm>
            <a:off x="2466360" y="2001960"/>
            <a:ext cx="4509000" cy="3346200"/>
            <a:chOff x="2466360" y="2001960"/>
            <a:chExt cx="4509000" cy="3346200"/>
          </a:xfrm>
        </p:grpSpPr>
        <p:sp>
          <p:nvSpPr>
            <p:cNvPr id="9940" name=""/>
            <p:cNvSpPr/>
            <p:nvPr/>
          </p:nvSpPr>
          <p:spPr>
            <a:xfrm>
              <a:off x="2760840" y="3487320"/>
              <a:ext cx="3499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2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1" lang="cs-CZ" sz="1200" spc="-1" strike="noStrike" baseline="50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1" name=""/>
            <p:cNvSpPr/>
            <p:nvPr/>
          </p:nvSpPr>
          <p:spPr>
            <a:xfrm>
              <a:off x="3549600" y="2001960"/>
              <a:ext cx="2095560" cy="2639880"/>
            </a:xfrm>
            <a:custGeom>
              <a:avLst/>
              <a:gdLst>
                <a:gd name="textAreaLeft" fmla="*/ 102240 w 2095560"/>
                <a:gd name="textAreaRight" fmla="*/ 1993320 w 2095560"/>
                <a:gd name="textAreaTop" fmla="*/ 102240 h 2639880"/>
                <a:gd name="textAreaBottom" fmla="*/ 2537640 h 2639880"/>
              </a:gdLst>
              <a:ahLst/>
              <a:rect l="textAreaLeft" t="textAreaTop" r="textAreaRight" b="textAreaBottom"/>
              <a:pathLst>
                <a:path w="21600" h="27210">
                  <a:moveTo>
                    <a:pt x="3600" y="0"/>
                  </a:moveTo>
                  <a:arcTo wR="3600" hR="3600" stAng="16200000" swAng="-5400000"/>
                  <a:lnTo>
                    <a:pt x="0" y="23610"/>
                  </a:lnTo>
                  <a:arcTo wR="3600" hR="3600" stAng="10800000" swAng="-5400000"/>
                  <a:lnTo>
                    <a:pt x="18000" y="2721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ff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2" name=""/>
            <p:cNvSpPr/>
            <p:nvPr/>
          </p:nvSpPr>
          <p:spPr>
            <a:xfrm>
              <a:off x="3338640" y="3679920"/>
              <a:ext cx="441360" cy="436320"/>
            </a:xfrm>
            <a:prstGeom prst="ellipse">
              <a:avLst/>
            </a:prstGeom>
            <a:solidFill>
              <a:srgbClr val="ff99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3" name=""/>
            <p:cNvSpPr/>
            <p:nvPr/>
          </p:nvSpPr>
          <p:spPr>
            <a:xfrm>
              <a:off x="3121200" y="4124160"/>
              <a:ext cx="1171440" cy="8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4" name=""/>
            <p:cNvSpPr/>
            <p:nvPr/>
          </p:nvSpPr>
          <p:spPr>
            <a:xfrm>
              <a:off x="3070080" y="3201840"/>
              <a:ext cx="1119240" cy="506520"/>
            </a:xfrm>
            <a:custGeom>
              <a:avLst/>
              <a:gdLst/>
              <a:ahLst/>
              <a:rect l="l" t="t" r="r" b="b"/>
              <a:pathLst>
                <a:path w="760" h="347">
                  <a:moveTo>
                    <a:pt x="0" y="319"/>
                  </a:moveTo>
                  <a:cubicBezTo>
                    <a:pt x="107" y="315"/>
                    <a:pt x="520" y="347"/>
                    <a:pt x="640" y="294"/>
                  </a:cubicBezTo>
                  <a:cubicBezTo>
                    <a:pt x="760" y="241"/>
                    <a:pt x="716" y="98"/>
                    <a:pt x="722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5" name=""/>
            <p:cNvSpPr/>
            <p:nvPr/>
          </p:nvSpPr>
          <p:spPr>
            <a:xfrm>
              <a:off x="4344480" y="3938400"/>
              <a:ext cx="53604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800" spc="-1" strike="noStrike">
                  <a:solidFill>
                    <a:srgbClr val="000000"/>
                  </a:solidFill>
                  <a:latin typeface="Times New Roman"/>
                </a:rPr>
                <a:t>Na</a:t>
              </a:r>
              <a:r>
                <a:rPr b="1" lang="cs-CZ" sz="1800" spc="-1" strike="noStrike" baseline="50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6" name=""/>
            <p:cNvSpPr/>
            <p:nvPr/>
          </p:nvSpPr>
          <p:spPr>
            <a:xfrm>
              <a:off x="5394240" y="3675240"/>
              <a:ext cx="441360" cy="436320"/>
            </a:xfrm>
            <a:prstGeom prst="ellipse">
              <a:avLst/>
            </a:prstGeom>
            <a:solidFill>
              <a:srgbClr val="ff33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7" name=""/>
            <p:cNvSpPr/>
            <p:nvPr/>
          </p:nvSpPr>
          <p:spPr>
            <a:xfrm>
              <a:off x="4878360" y="4143240"/>
              <a:ext cx="1236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8" name=""/>
            <p:cNvSpPr/>
            <p:nvPr/>
          </p:nvSpPr>
          <p:spPr>
            <a:xfrm>
              <a:off x="4679640" y="3418920"/>
              <a:ext cx="57384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1" lang="cs-CZ" sz="2800" spc="-1" strike="noStrike" baseline="50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9" name=""/>
            <p:cNvSpPr/>
            <p:nvPr/>
          </p:nvSpPr>
          <p:spPr>
            <a:xfrm>
              <a:off x="4846680" y="2838600"/>
              <a:ext cx="1334880" cy="631800"/>
            </a:xfrm>
            <a:custGeom>
              <a:avLst/>
              <a:gdLst/>
              <a:ahLst/>
              <a:rect l="l" t="t" r="r" b="b"/>
              <a:pathLst>
                <a:path w="1098" h="475">
                  <a:moveTo>
                    <a:pt x="1098" y="35"/>
                  </a:moveTo>
                  <a:cubicBezTo>
                    <a:pt x="943" y="40"/>
                    <a:pt x="352" y="0"/>
                    <a:pt x="176" y="73"/>
                  </a:cubicBezTo>
                  <a:cubicBezTo>
                    <a:pt x="0" y="146"/>
                    <a:pt x="56" y="357"/>
                    <a:pt x="44" y="475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0" name=""/>
            <p:cNvSpPr/>
            <p:nvPr/>
          </p:nvSpPr>
          <p:spPr>
            <a:xfrm rot="5475000">
              <a:off x="5508000" y="2592000"/>
              <a:ext cx="314280" cy="561960"/>
            </a:xfrm>
            <a:prstGeom prst="can">
              <a:avLst>
                <a:gd name="adj" fmla="val 20379"/>
              </a:avLst>
            </a:prstGeom>
            <a:solidFill>
              <a:srgbClr val="66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1" name=""/>
            <p:cNvSpPr/>
            <p:nvPr/>
          </p:nvSpPr>
          <p:spPr>
            <a:xfrm>
              <a:off x="5845320" y="2882880"/>
              <a:ext cx="102960" cy="1440"/>
            </a:xfrm>
            <a:custGeom>
              <a:avLst/>
              <a:gdLst/>
              <a:ahLst/>
              <a:rect l="l" t="t" r="r" b="b"/>
              <a:pathLst>
                <a:path w="70" h="1">
                  <a:moveTo>
                    <a:pt x="0" y="0"/>
                  </a:moveTo>
                  <a:lnTo>
                    <a:pt x="70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2" name=""/>
            <p:cNvSpPr/>
            <p:nvPr/>
          </p:nvSpPr>
          <p:spPr>
            <a:xfrm>
              <a:off x="5116680" y="3033720"/>
              <a:ext cx="1265040" cy="685800"/>
            </a:xfrm>
            <a:custGeom>
              <a:avLst/>
              <a:gdLst/>
              <a:ahLst/>
              <a:rect l="l" t="t" r="r" b="b"/>
              <a:pathLst>
                <a:path w="1094" h="471">
                  <a:moveTo>
                    <a:pt x="0" y="436"/>
                  </a:moveTo>
                  <a:cubicBezTo>
                    <a:pt x="155" y="431"/>
                    <a:pt x="750" y="471"/>
                    <a:pt x="922" y="398"/>
                  </a:cubicBezTo>
                  <a:cubicBezTo>
                    <a:pt x="1094" y="325"/>
                    <a:pt x="1024" y="92"/>
                    <a:pt x="1035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3" name=""/>
            <p:cNvSpPr/>
            <p:nvPr/>
          </p:nvSpPr>
          <p:spPr>
            <a:xfrm>
              <a:off x="6128280" y="2695320"/>
              <a:ext cx="43524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8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1" lang="cs-CZ" sz="1800" spc="-1" strike="noStrike" baseline="50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4" name=""/>
            <p:cNvSpPr/>
            <p:nvPr/>
          </p:nvSpPr>
          <p:spPr>
            <a:xfrm>
              <a:off x="3935880" y="2842920"/>
              <a:ext cx="43524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8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1" lang="cs-CZ" sz="1800" spc="-1" strike="noStrike" baseline="50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5" name=""/>
            <p:cNvSpPr/>
            <p:nvPr/>
          </p:nvSpPr>
          <p:spPr>
            <a:xfrm>
              <a:off x="4100400" y="2395440"/>
              <a:ext cx="459000" cy="473040"/>
            </a:xfrm>
            <a:custGeom>
              <a:avLst/>
              <a:gdLst/>
              <a:ahLst/>
              <a:rect l="l" t="t" r="r" b="b"/>
              <a:pathLst>
                <a:path w="312" h="324">
                  <a:moveTo>
                    <a:pt x="12" y="324"/>
                  </a:moveTo>
                  <a:cubicBezTo>
                    <a:pt x="18" y="279"/>
                    <a:pt x="0" y="102"/>
                    <a:pt x="50" y="51"/>
                  </a:cubicBezTo>
                  <a:cubicBezTo>
                    <a:pt x="100" y="0"/>
                    <a:pt x="149" y="18"/>
                    <a:pt x="312" y="18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6" name=""/>
            <p:cNvSpPr/>
            <p:nvPr/>
          </p:nvSpPr>
          <p:spPr>
            <a:xfrm>
              <a:off x="4485240" y="2245320"/>
              <a:ext cx="1197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1400" spc="-1" strike="noStrike">
                  <a:solidFill>
                    <a:srgbClr val="000000"/>
                  </a:solidFill>
                  <a:latin typeface="Times New Roman"/>
                </a:rPr>
                <a:t>metabolismu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7" name=""/>
            <p:cNvSpPr/>
            <p:nvPr/>
          </p:nvSpPr>
          <p:spPr>
            <a:xfrm>
              <a:off x="3151080" y="3800520"/>
              <a:ext cx="182520" cy="1810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 baseline="8000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8" name=""/>
            <p:cNvSpPr/>
            <p:nvPr/>
          </p:nvSpPr>
          <p:spPr>
            <a:xfrm>
              <a:off x="3797280" y="3814920"/>
              <a:ext cx="182520" cy="1807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9" name=""/>
            <p:cNvSpPr/>
            <p:nvPr/>
          </p:nvSpPr>
          <p:spPr>
            <a:xfrm>
              <a:off x="4017960" y="3056040"/>
              <a:ext cx="560520" cy="847800"/>
            </a:xfrm>
            <a:custGeom>
              <a:avLst/>
              <a:gdLst/>
              <a:ahLst/>
              <a:rect l="l" t="t" r="r" b="b"/>
              <a:pathLst>
                <a:path w="353" h="534">
                  <a:moveTo>
                    <a:pt x="142" y="0"/>
                  </a:moveTo>
                  <a:cubicBezTo>
                    <a:pt x="171" y="13"/>
                    <a:pt x="290" y="11"/>
                    <a:pt x="316" y="81"/>
                  </a:cubicBezTo>
                  <a:cubicBezTo>
                    <a:pt x="342" y="151"/>
                    <a:pt x="353" y="344"/>
                    <a:pt x="300" y="420"/>
                  </a:cubicBezTo>
                  <a:cubicBezTo>
                    <a:pt x="247" y="496"/>
                    <a:pt x="62" y="510"/>
                    <a:pt x="0" y="534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0" name=""/>
            <p:cNvSpPr/>
            <p:nvPr/>
          </p:nvSpPr>
          <p:spPr>
            <a:xfrm>
              <a:off x="2843280" y="3705120"/>
              <a:ext cx="290520" cy="198720"/>
            </a:xfrm>
            <a:custGeom>
              <a:avLst/>
              <a:gdLst/>
              <a:ahLst/>
              <a:rect l="l" t="t" r="r" b="b"/>
              <a:pathLst>
                <a:path w="183" h="125">
                  <a:moveTo>
                    <a:pt x="9" y="0"/>
                  </a:moveTo>
                  <a:cubicBezTo>
                    <a:pt x="10" y="13"/>
                    <a:pt x="0" y="61"/>
                    <a:pt x="9" y="81"/>
                  </a:cubicBezTo>
                  <a:cubicBezTo>
                    <a:pt x="21" y="94"/>
                    <a:pt x="34" y="115"/>
                    <a:pt x="63" y="120"/>
                  </a:cubicBezTo>
                  <a:cubicBezTo>
                    <a:pt x="92" y="125"/>
                    <a:pt x="158" y="111"/>
                    <a:pt x="183" y="109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1" name=""/>
            <p:cNvSpPr/>
            <p:nvPr/>
          </p:nvSpPr>
          <p:spPr>
            <a:xfrm>
              <a:off x="4546440" y="3833640"/>
              <a:ext cx="622440" cy="190800"/>
            </a:xfrm>
            <a:custGeom>
              <a:avLst/>
              <a:gdLst/>
              <a:ahLst/>
              <a:rect l="l" t="t" r="r" b="b"/>
              <a:pathLst>
                <a:path w="365" h="120">
                  <a:moveTo>
                    <a:pt x="0" y="120"/>
                  </a:moveTo>
                  <a:cubicBezTo>
                    <a:pt x="14" y="108"/>
                    <a:pt x="26" y="40"/>
                    <a:pt x="87" y="28"/>
                  </a:cubicBezTo>
                  <a:cubicBezTo>
                    <a:pt x="191" y="0"/>
                    <a:pt x="288" y="40"/>
                    <a:pt x="365" y="49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2" name=""/>
            <p:cNvSpPr/>
            <p:nvPr/>
          </p:nvSpPr>
          <p:spPr>
            <a:xfrm>
              <a:off x="2466360" y="3887280"/>
              <a:ext cx="73260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Na</a:t>
              </a:r>
              <a:r>
                <a:rPr b="1" lang="cs-CZ" sz="2800" spc="-1" strike="noStrike" baseline="50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3" name=""/>
            <p:cNvSpPr/>
            <p:nvPr/>
          </p:nvSpPr>
          <p:spPr>
            <a:xfrm>
              <a:off x="2614680" y="4354560"/>
              <a:ext cx="588960" cy="957240"/>
            </a:xfrm>
            <a:custGeom>
              <a:avLst/>
              <a:gdLst/>
              <a:ahLst/>
              <a:rect l="l" t="t" r="r" b="b"/>
              <a:pathLst>
                <a:path w="371" h="603">
                  <a:moveTo>
                    <a:pt x="27" y="0"/>
                  </a:moveTo>
                  <a:cubicBezTo>
                    <a:pt x="27" y="35"/>
                    <a:pt x="28" y="146"/>
                    <a:pt x="27" y="213"/>
                  </a:cubicBezTo>
                  <a:cubicBezTo>
                    <a:pt x="30" y="244"/>
                    <a:pt x="0" y="345"/>
                    <a:pt x="22" y="404"/>
                  </a:cubicBezTo>
                  <a:cubicBezTo>
                    <a:pt x="33" y="456"/>
                    <a:pt x="48" y="499"/>
                    <a:pt x="93" y="529"/>
                  </a:cubicBezTo>
                  <a:cubicBezTo>
                    <a:pt x="138" y="559"/>
                    <a:pt x="249" y="603"/>
                    <a:pt x="295" y="584"/>
                  </a:cubicBezTo>
                  <a:cubicBezTo>
                    <a:pt x="341" y="565"/>
                    <a:pt x="355" y="450"/>
                    <a:pt x="371" y="41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4" name=""/>
            <p:cNvSpPr/>
            <p:nvPr/>
          </p:nvSpPr>
          <p:spPr>
            <a:xfrm>
              <a:off x="3722760" y="4284720"/>
              <a:ext cx="820800" cy="1063440"/>
            </a:xfrm>
            <a:custGeom>
              <a:avLst/>
              <a:gdLst/>
              <a:ahLst/>
              <a:rect l="l" t="t" r="r" b="b"/>
              <a:pathLst>
                <a:path w="517" h="670">
                  <a:moveTo>
                    <a:pt x="502" y="0"/>
                  </a:moveTo>
                  <a:cubicBezTo>
                    <a:pt x="501" y="37"/>
                    <a:pt x="517" y="124"/>
                    <a:pt x="497" y="224"/>
                  </a:cubicBezTo>
                  <a:cubicBezTo>
                    <a:pt x="477" y="324"/>
                    <a:pt x="452" y="530"/>
                    <a:pt x="382" y="600"/>
                  </a:cubicBezTo>
                  <a:cubicBezTo>
                    <a:pt x="312" y="670"/>
                    <a:pt x="141" y="670"/>
                    <a:pt x="77" y="644"/>
                  </a:cubicBezTo>
                  <a:cubicBezTo>
                    <a:pt x="13" y="618"/>
                    <a:pt x="16" y="488"/>
                    <a:pt x="0" y="44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5" name=""/>
            <p:cNvSpPr/>
            <p:nvPr/>
          </p:nvSpPr>
          <p:spPr>
            <a:xfrm flipV="1">
              <a:off x="3503520" y="4324320"/>
              <a:ext cx="3240" cy="325440"/>
            </a:xfrm>
            <a:prstGeom prst="line">
              <a:avLst/>
            </a:prstGeom>
            <a:ln cap="rnd" w="1908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6" name=""/>
            <p:cNvSpPr/>
            <p:nvPr/>
          </p:nvSpPr>
          <p:spPr>
            <a:xfrm>
              <a:off x="6008760" y="2916360"/>
              <a:ext cx="966600" cy="1035000"/>
            </a:xfrm>
            <a:custGeom>
              <a:avLst/>
              <a:gdLst/>
              <a:ahLst/>
              <a:rect l="l" t="t" r="r" b="b"/>
              <a:pathLst>
                <a:path w="609" h="652">
                  <a:moveTo>
                    <a:pt x="317" y="0"/>
                  </a:moveTo>
                  <a:cubicBezTo>
                    <a:pt x="361" y="21"/>
                    <a:pt x="545" y="31"/>
                    <a:pt x="578" y="126"/>
                  </a:cubicBezTo>
                  <a:cubicBezTo>
                    <a:pt x="590" y="171"/>
                    <a:pt x="609" y="484"/>
                    <a:pt x="513" y="568"/>
                  </a:cubicBezTo>
                  <a:cubicBezTo>
                    <a:pt x="417" y="652"/>
                    <a:pt x="107" y="615"/>
                    <a:pt x="0" y="62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7" name=""/>
            <p:cNvSpPr/>
            <p:nvPr/>
          </p:nvSpPr>
          <p:spPr>
            <a:xfrm>
              <a:off x="4775040" y="383796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1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8" name=""/>
            <p:cNvSpPr/>
            <p:nvPr/>
          </p:nvSpPr>
          <p:spPr>
            <a:xfrm>
              <a:off x="6399000" y="365040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1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9" name=""/>
            <p:cNvSpPr/>
            <p:nvPr/>
          </p:nvSpPr>
          <p:spPr>
            <a:xfrm>
              <a:off x="3278160" y="439992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1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0" name=""/>
            <p:cNvSpPr/>
            <p:nvPr/>
          </p:nvSpPr>
          <p:spPr>
            <a:xfrm>
              <a:off x="4330440" y="344592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1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1" name=""/>
            <p:cNvSpPr/>
            <p:nvPr/>
          </p:nvSpPr>
          <p:spPr>
            <a:xfrm>
              <a:off x="2838240" y="365832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1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2" name=""/>
            <p:cNvSpPr/>
            <p:nvPr/>
          </p:nvSpPr>
          <p:spPr>
            <a:xfrm>
              <a:off x="2967120" y="4638600"/>
              <a:ext cx="981000" cy="36216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200" spc="-1" strike="noStrike">
                  <a:solidFill>
                    <a:srgbClr val="000000"/>
                  </a:solidFill>
                  <a:latin typeface="Times New Roman"/>
                </a:rPr>
                <a:t>[Na</a:t>
              </a:r>
              <a:r>
                <a:rPr b="1" lang="cs-CZ" sz="1200" spc="-1" strike="noStrike" baseline="30000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lang="cs-CZ" sz="12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r>
                <a:rPr b="1" lang="cs-CZ" sz="1200" spc="-1" strike="noStrike" baseline="-25000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cs-CZ" sz="1200" spc="-1" strike="noStrike">
                  <a:solidFill>
                    <a:srgbClr val="000000"/>
                  </a:solidFill>
                  <a:latin typeface="Times New Roman"/>
                </a:rPr>
                <a:t>-[Na</a:t>
              </a:r>
              <a:r>
                <a:rPr b="1" lang="cs-CZ" sz="1200" spc="-1" strike="noStrike" baseline="30000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lang="cs-CZ" sz="12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r>
                <a:rPr b="1" lang="cs-CZ" sz="12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3" name=""/>
            <p:cNvSpPr/>
            <p:nvPr/>
          </p:nvSpPr>
          <p:spPr>
            <a:xfrm>
              <a:off x="3440160" y="4138560"/>
              <a:ext cx="182520" cy="1810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4" name=""/>
            <p:cNvSpPr/>
            <p:nvPr/>
          </p:nvSpPr>
          <p:spPr>
            <a:xfrm>
              <a:off x="5186520" y="3787920"/>
              <a:ext cx="182520" cy="1807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5" name=""/>
            <p:cNvSpPr/>
            <p:nvPr/>
          </p:nvSpPr>
          <p:spPr>
            <a:xfrm>
              <a:off x="5824440" y="3817800"/>
              <a:ext cx="182520" cy="1810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6" name=""/>
            <p:cNvSpPr/>
            <p:nvPr/>
          </p:nvSpPr>
          <p:spPr>
            <a:xfrm>
              <a:off x="3048120" y="2674800"/>
              <a:ext cx="477720" cy="822600"/>
            </a:xfrm>
            <a:custGeom>
              <a:avLst/>
              <a:gdLst/>
              <a:ahLst/>
              <a:rect l="l" t="t" r="r" b="b"/>
              <a:pathLst>
                <a:path w="301" h="518">
                  <a:moveTo>
                    <a:pt x="0" y="0"/>
                  </a:moveTo>
                  <a:cubicBezTo>
                    <a:pt x="40" y="20"/>
                    <a:pt x="191" y="73"/>
                    <a:pt x="240" y="115"/>
                  </a:cubicBezTo>
                  <a:cubicBezTo>
                    <a:pt x="289" y="157"/>
                    <a:pt x="288" y="210"/>
                    <a:pt x="294" y="251"/>
                  </a:cubicBezTo>
                  <a:cubicBezTo>
                    <a:pt x="300" y="292"/>
                    <a:pt x="301" y="326"/>
                    <a:pt x="278" y="360"/>
                  </a:cubicBezTo>
                  <a:cubicBezTo>
                    <a:pt x="255" y="394"/>
                    <a:pt x="198" y="427"/>
                    <a:pt x="153" y="453"/>
                  </a:cubicBezTo>
                  <a:cubicBezTo>
                    <a:pt x="108" y="479"/>
                    <a:pt x="51" y="508"/>
                    <a:pt x="11" y="518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7" name=""/>
            <p:cNvSpPr/>
            <p:nvPr/>
          </p:nvSpPr>
          <p:spPr>
            <a:xfrm>
              <a:off x="3209760" y="30092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1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78" name=""/>
          <p:cNvGrpSpPr/>
          <p:nvPr/>
        </p:nvGrpSpPr>
        <p:grpSpPr>
          <a:xfrm>
            <a:off x="109440" y="249120"/>
            <a:ext cx="9027360" cy="6481440"/>
            <a:chOff x="109440" y="249120"/>
            <a:chExt cx="9027360" cy="6481440"/>
          </a:xfrm>
        </p:grpSpPr>
        <p:sp>
          <p:nvSpPr>
            <p:cNvPr id="9979" name=""/>
            <p:cNvSpPr/>
            <p:nvPr/>
          </p:nvSpPr>
          <p:spPr>
            <a:xfrm>
              <a:off x="1476360" y="297000"/>
              <a:ext cx="2620800" cy="2703240"/>
            </a:xfrm>
            <a:prstGeom prst="cloudCallout">
              <a:avLst>
                <a:gd name="adj1" fmla="val -15597"/>
                <a:gd name="adj2" fmla="val 73370"/>
              </a:avLst>
            </a:prstGeom>
            <a:solidFill>
              <a:srgbClr val="66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0" name=""/>
            <p:cNvSpPr/>
            <p:nvPr/>
          </p:nvSpPr>
          <p:spPr>
            <a:xfrm>
              <a:off x="1200240" y="3736800"/>
              <a:ext cx="2095560" cy="2640240"/>
            </a:xfrm>
            <a:custGeom>
              <a:avLst/>
              <a:gdLst>
                <a:gd name="textAreaLeft" fmla="*/ 102240 w 2095560"/>
                <a:gd name="textAreaRight" fmla="*/ 1993320 w 2095560"/>
                <a:gd name="textAreaTop" fmla="*/ 102240 h 2640240"/>
                <a:gd name="textAreaBottom" fmla="*/ 2538000 h 2640240"/>
              </a:gdLst>
              <a:ahLst/>
              <a:rect l="textAreaLeft" t="textAreaTop" r="textAreaRight" b="textAreaBottom"/>
              <a:pathLst>
                <a:path w="21600" h="27213">
                  <a:moveTo>
                    <a:pt x="3600" y="0"/>
                  </a:moveTo>
                  <a:arcTo wR="3600" hR="3600" stAng="16200000" swAng="-5400000"/>
                  <a:lnTo>
                    <a:pt x="0" y="23613"/>
                  </a:lnTo>
                  <a:arcTo wR="3600" hR="3600" stAng="10800000" swAng="-5400000"/>
                  <a:lnTo>
                    <a:pt x="18000" y="2721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ff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1" name=""/>
            <p:cNvSpPr/>
            <p:nvPr/>
          </p:nvSpPr>
          <p:spPr>
            <a:xfrm>
              <a:off x="979560" y="5415120"/>
              <a:ext cx="441360" cy="436320"/>
            </a:xfrm>
            <a:prstGeom prst="ellipse">
              <a:avLst/>
            </a:prstGeom>
            <a:solidFill>
              <a:srgbClr val="ff99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2" name=""/>
            <p:cNvSpPr/>
            <p:nvPr/>
          </p:nvSpPr>
          <p:spPr>
            <a:xfrm>
              <a:off x="762120" y="5859360"/>
              <a:ext cx="1171440" cy="7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3" name=""/>
            <p:cNvSpPr/>
            <p:nvPr/>
          </p:nvSpPr>
          <p:spPr>
            <a:xfrm>
              <a:off x="711360" y="4937040"/>
              <a:ext cx="1118880" cy="506520"/>
            </a:xfrm>
            <a:custGeom>
              <a:avLst/>
              <a:gdLst/>
              <a:ahLst/>
              <a:rect l="l" t="t" r="r" b="b"/>
              <a:pathLst>
                <a:path w="760" h="347">
                  <a:moveTo>
                    <a:pt x="0" y="319"/>
                  </a:moveTo>
                  <a:cubicBezTo>
                    <a:pt x="107" y="315"/>
                    <a:pt x="520" y="347"/>
                    <a:pt x="640" y="294"/>
                  </a:cubicBezTo>
                  <a:cubicBezTo>
                    <a:pt x="760" y="241"/>
                    <a:pt x="716" y="98"/>
                    <a:pt x="722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4" name=""/>
            <p:cNvSpPr/>
            <p:nvPr/>
          </p:nvSpPr>
          <p:spPr>
            <a:xfrm>
              <a:off x="2044800" y="5722560"/>
              <a:ext cx="4168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200" spc="-1" strike="noStrike">
                  <a:solidFill>
                    <a:srgbClr val="000000"/>
                  </a:solidFill>
                  <a:latin typeface="Times New Roman"/>
                </a:rPr>
                <a:t>Na</a:t>
              </a:r>
              <a:r>
                <a:rPr b="1" lang="cs-CZ" sz="1200" spc="-1" strike="noStrike" baseline="50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5" name=""/>
            <p:cNvSpPr/>
            <p:nvPr/>
          </p:nvSpPr>
          <p:spPr>
            <a:xfrm>
              <a:off x="3033720" y="5410080"/>
              <a:ext cx="442800" cy="436680"/>
            </a:xfrm>
            <a:prstGeom prst="ellipse">
              <a:avLst/>
            </a:prstGeom>
            <a:solidFill>
              <a:srgbClr val="ff33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6" name=""/>
            <p:cNvSpPr/>
            <p:nvPr/>
          </p:nvSpPr>
          <p:spPr>
            <a:xfrm>
              <a:off x="2536920" y="5853240"/>
              <a:ext cx="1236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7" name=""/>
            <p:cNvSpPr/>
            <p:nvPr/>
          </p:nvSpPr>
          <p:spPr>
            <a:xfrm>
              <a:off x="2417400" y="5267160"/>
              <a:ext cx="378720" cy="32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1" lang="cs-CZ" sz="1400" spc="-1" strike="noStrike" baseline="50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8" name=""/>
            <p:cNvSpPr/>
            <p:nvPr/>
          </p:nvSpPr>
          <p:spPr>
            <a:xfrm>
              <a:off x="2487600" y="4573440"/>
              <a:ext cx="1335240" cy="693720"/>
            </a:xfrm>
            <a:custGeom>
              <a:avLst/>
              <a:gdLst/>
              <a:ahLst/>
              <a:rect l="l" t="t" r="r" b="b"/>
              <a:pathLst>
                <a:path w="1098" h="475">
                  <a:moveTo>
                    <a:pt x="1098" y="35"/>
                  </a:moveTo>
                  <a:cubicBezTo>
                    <a:pt x="943" y="40"/>
                    <a:pt x="352" y="0"/>
                    <a:pt x="176" y="73"/>
                  </a:cubicBezTo>
                  <a:cubicBezTo>
                    <a:pt x="0" y="146"/>
                    <a:pt x="56" y="357"/>
                    <a:pt x="44" y="475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9" name=""/>
            <p:cNvSpPr/>
            <p:nvPr/>
          </p:nvSpPr>
          <p:spPr>
            <a:xfrm rot="5475000">
              <a:off x="3148920" y="4327200"/>
              <a:ext cx="314280" cy="561960"/>
            </a:xfrm>
            <a:prstGeom prst="can">
              <a:avLst>
                <a:gd name="adj" fmla="val 20379"/>
              </a:avLst>
            </a:prstGeom>
            <a:solidFill>
              <a:srgbClr val="66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0" name=""/>
            <p:cNvSpPr/>
            <p:nvPr/>
          </p:nvSpPr>
          <p:spPr>
            <a:xfrm>
              <a:off x="3486240" y="4618080"/>
              <a:ext cx="102960" cy="1440"/>
            </a:xfrm>
            <a:custGeom>
              <a:avLst/>
              <a:gdLst/>
              <a:ahLst/>
              <a:rect l="l" t="t" r="r" b="b"/>
              <a:pathLst>
                <a:path w="70" h="1">
                  <a:moveTo>
                    <a:pt x="0" y="0"/>
                  </a:moveTo>
                  <a:lnTo>
                    <a:pt x="70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1" name=""/>
            <p:cNvSpPr/>
            <p:nvPr/>
          </p:nvSpPr>
          <p:spPr>
            <a:xfrm>
              <a:off x="2757600" y="4768920"/>
              <a:ext cx="1265040" cy="685800"/>
            </a:xfrm>
            <a:custGeom>
              <a:avLst/>
              <a:gdLst/>
              <a:ahLst/>
              <a:rect l="l" t="t" r="r" b="b"/>
              <a:pathLst>
                <a:path w="1094" h="471">
                  <a:moveTo>
                    <a:pt x="0" y="436"/>
                  </a:moveTo>
                  <a:cubicBezTo>
                    <a:pt x="155" y="431"/>
                    <a:pt x="750" y="471"/>
                    <a:pt x="922" y="398"/>
                  </a:cubicBezTo>
                  <a:cubicBezTo>
                    <a:pt x="1094" y="325"/>
                    <a:pt x="1024" y="92"/>
                    <a:pt x="1035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2" name=""/>
            <p:cNvSpPr/>
            <p:nvPr/>
          </p:nvSpPr>
          <p:spPr>
            <a:xfrm>
              <a:off x="3769200" y="4430520"/>
              <a:ext cx="43524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8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1" lang="cs-CZ" sz="1800" spc="-1" strike="noStrike" baseline="50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3" name=""/>
            <p:cNvSpPr/>
            <p:nvPr/>
          </p:nvSpPr>
          <p:spPr>
            <a:xfrm>
              <a:off x="1509120" y="4498560"/>
              <a:ext cx="57384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1" lang="cs-CZ" sz="2800" spc="-1" strike="noStrike" baseline="50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4" name=""/>
            <p:cNvSpPr/>
            <p:nvPr/>
          </p:nvSpPr>
          <p:spPr>
            <a:xfrm>
              <a:off x="1741320" y="4130640"/>
              <a:ext cx="459000" cy="473040"/>
            </a:xfrm>
            <a:custGeom>
              <a:avLst/>
              <a:gdLst/>
              <a:ahLst/>
              <a:rect l="l" t="t" r="r" b="b"/>
              <a:pathLst>
                <a:path w="312" h="324">
                  <a:moveTo>
                    <a:pt x="12" y="324"/>
                  </a:moveTo>
                  <a:cubicBezTo>
                    <a:pt x="18" y="279"/>
                    <a:pt x="0" y="102"/>
                    <a:pt x="50" y="51"/>
                  </a:cubicBezTo>
                  <a:cubicBezTo>
                    <a:pt x="100" y="0"/>
                    <a:pt x="149" y="18"/>
                    <a:pt x="312" y="18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5" name=""/>
            <p:cNvSpPr/>
            <p:nvPr/>
          </p:nvSpPr>
          <p:spPr>
            <a:xfrm>
              <a:off x="2126160" y="3980520"/>
              <a:ext cx="1197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1400" spc="-1" strike="noStrike">
                  <a:solidFill>
                    <a:srgbClr val="000000"/>
                  </a:solidFill>
                  <a:latin typeface="Times New Roman"/>
                </a:rPr>
                <a:t>metabolismu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6" name=""/>
            <p:cNvSpPr/>
            <p:nvPr/>
          </p:nvSpPr>
          <p:spPr>
            <a:xfrm>
              <a:off x="6122880" y="3706920"/>
              <a:ext cx="2095560" cy="2639880"/>
            </a:xfrm>
            <a:custGeom>
              <a:avLst/>
              <a:gdLst>
                <a:gd name="textAreaLeft" fmla="*/ 102240 w 2095560"/>
                <a:gd name="textAreaRight" fmla="*/ 1993320 w 2095560"/>
                <a:gd name="textAreaTop" fmla="*/ 102240 h 2639880"/>
                <a:gd name="textAreaBottom" fmla="*/ 2537640 h 2639880"/>
              </a:gdLst>
              <a:ahLst/>
              <a:rect l="textAreaLeft" t="textAreaTop" r="textAreaRight" b="textAreaBottom"/>
              <a:pathLst>
                <a:path w="21600" h="27210">
                  <a:moveTo>
                    <a:pt x="3600" y="0"/>
                  </a:moveTo>
                  <a:arcTo wR="3600" hR="3600" stAng="16200000" swAng="-5400000"/>
                  <a:lnTo>
                    <a:pt x="0" y="23610"/>
                  </a:lnTo>
                  <a:arcTo wR="3600" hR="3600" stAng="10800000" swAng="-5400000"/>
                  <a:lnTo>
                    <a:pt x="18000" y="2721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ff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7" name=""/>
            <p:cNvSpPr/>
            <p:nvPr/>
          </p:nvSpPr>
          <p:spPr>
            <a:xfrm>
              <a:off x="5911920" y="5402160"/>
              <a:ext cx="441360" cy="436680"/>
            </a:xfrm>
            <a:prstGeom prst="ellipse">
              <a:avLst/>
            </a:prstGeom>
            <a:solidFill>
              <a:srgbClr val="ff99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8" name=""/>
            <p:cNvSpPr/>
            <p:nvPr/>
          </p:nvSpPr>
          <p:spPr>
            <a:xfrm>
              <a:off x="5694480" y="5846760"/>
              <a:ext cx="1171440" cy="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9" name=""/>
            <p:cNvSpPr/>
            <p:nvPr/>
          </p:nvSpPr>
          <p:spPr>
            <a:xfrm>
              <a:off x="5643720" y="4984920"/>
              <a:ext cx="1041120" cy="446040"/>
            </a:xfrm>
            <a:custGeom>
              <a:avLst/>
              <a:gdLst/>
              <a:ahLst/>
              <a:rect l="l" t="t" r="r" b="b"/>
              <a:pathLst>
                <a:path w="760" h="347">
                  <a:moveTo>
                    <a:pt x="0" y="319"/>
                  </a:moveTo>
                  <a:cubicBezTo>
                    <a:pt x="107" y="315"/>
                    <a:pt x="520" y="347"/>
                    <a:pt x="640" y="294"/>
                  </a:cubicBezTo>
                  <a:cubicBezTo>
                    <a:pt x="760" y="241"/>
                    <a:pt x="716" y="98"/>
                    <a:pt x="722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0" name=""/>
            <p:cNvSpPr/>
            <p:nvPr/>
          </p:nvSpPr>
          <p:spPr>
            <a:xfrm>
              <a:off x="6917760" y="5661000"/>
              <a:ext cx="53604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800" spc="-1" strike="noStrike">
                  <a:solidFill>
                    <a:srgbClr val="000000"/>
                  </a:solidFill>
                  <a:latin typeface="Times New Roman"/>
                </a:rPr>
                <a:t>Na</a:t>
              </a:r>
              <a:r>
                <a:rPr b="1" lang="cs-CZ" sz="1800" spc="-1" strike="noStrike" baseline="50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1" name=""/>
            <p:cNvSpPr/>
            <p:nvPr/>
          </p:nvSpPr>
          <p:spPr>
            <a:xfrm>
              <a:off x="7967520" y="5397480"/>
              <a:ext cx="441360" cy="436680"/>
            </a:xfrm>
            <a:prstGeom prst="ellipse">
              <a:avLst/>
            </a:prstGeom>
            <a:solidFill>
              <a:srgbClr val="ff33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2" name=""/>
            <p:cNvSpPr/>
            <p:nvPr/>
          </p:nvSpPr>
          <p:spPr>
            <a:xfrm>
              <a:off x="7451640" y="5865840"/>
              <a:ext cx="1236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3" name=""/>
            <p:cNvSpPr/>
            <p:nvPr/>
          </p:nvSpPr>
          <p:spPr>
            <a:xfrm>
              <a:off x="7322040" y="5222520"/>
              <a:ext cx="43524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8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1" lang="cs-CZ" sz="1800" spc="-1" strike="noStrike" baseline="50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4" name=""/>
            <p:cNvSpPr/>
            <p:nvPr/>
          </p:nvSpPr>
          <p:spPr>
            <a:xfrm>
              <a:off x="7419960" y="4560840"/>
              <a:ext cx="1335240" cy="693720"/>
            </a:xfrm>
            <a:custGeom>
              <a:avLst/>
              <a:gdLst/>
              <a:ahLst/>
              <a:rect l="l" t="t" r="r" b="b"/>
              <a:pathLst>
                <a:path w="1098" h="475">
                  <a:moveTo>
                    <a:pt x="1098" y="35"/>
                  </a:moveTo>
                  <a:cubicBezTo>
                    <a:pt x="943" y="40"/>
                    <a:pt x="352" y="0"/>
                    <a:pt x="176" y="73"/>
                  </a:cubicBezTo>
                  <a:cubicBezTo>
                    <a:pt x="0" y="146"/>
                    <a:pt x="56" y="357"/>
                    <a:pt x="44" y="475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5" name=""/>
            <p:cNvSpPr/>
            <p:nvPr/>
          </p:nvSpPr>
          <p:spPr>
            <a:xfrm rot="5475000">
              <a:off x="8081280" y="4314600"/>
              <a:ext cx="314280" cy="561960"/>
            </a:xfrm>
            <a:prstGeom prst="can">
              <a:avLst>
                <a:gd name="adj" fmla="val 20379"/>
              </a:avLst>
            </a:prstGeom>
            <a:solidFill>
              <a:srgbClr val="66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6" name=""/>
            <p:cNvSpPr/>
            <p:nvPr/>
          </p:nvSpPr>
          <p:spPr>
            <a:xfrm>
              <a:off x="8418600" y="4605480"/>
              <a:ext cx="102960" cy="1440"/>
            </a:xfrm>
            <a:custGeom>
              <a:avLst/>
              <a:gdLst/>
              <a:ahLst/>
              <a:rect l="l" t="t" r="r" b="b"/>
              <a:pathLst>
                <a:path w="70" h="1">
                  <a:moveTo>
                    <a:pt x="0" y="0"/>
                  </a:moveTo>
                  <a:lnTo>
                    <a:pt x="70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7" name=""/>
            <p:cNvSpPr/>
            <p:nvPr/>
          </p:nvSpPr>
          <p:spPr>
            <a:xfrm>
              <a:off x="7689960" y="4756320"/>
              <a:ext cx="1265040" cy="685800"/>
            </a:xfrm>
            <a:custGeom>
              <a:avLst/>
              <a:gdLst/>
              <a:ahLst/>
              <a:rect l="l" t="t" r="r" b="b"/>
              <a:pathLst>
                <a:path w="1094" h="471">
                  <a:moveTo>
                    <a:pt x="0" y="436"/>
                  </a:moveTo>
                  <a:cubicBezTo>
                    <a:pt x="155" y="431"/>
                    <a:pt x="750" y="471"/>
                    <a:pt x="922" y="398"/>
                  </a:cubicBezTo>
                  <a:cubicBezTo>
                    <a:pt x="1094" y="325"/>
                    <a:pt x="1024" y="92"/>
                    <a:pt x="1035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8" name=""/>
            <p:cNvSpPr/>
            <p:nvPr/>
          </p:nvSpPr>
          <p:spPr>
            <a:xfrm>
              <a:off x="8701560" y="4417920"/>
              <a:ext cx="43524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8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1" lang="cs-CZ" sz="1800" spc="-1" strike="noStrike" baseline="50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9" name=""/>
            <p:cNvSpPr/>
            <p:nvPr/>
          </p:nvSpPr>
          <p:spPr>
            <a:xfrm>
              <a:off x="6397200" y="4474800"/>
              <a:ext cx="57384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1" lang="cs-CZ" sz="2800" spc="-1" strike="noStrike" baseline="50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0" name=""/>
            <p:cNvSpPr/>
            <p:nvPr/>
          </p:nvSpPr>
          <p:spPr>
            <a:xfrm>
              <a:off x="6673680" y="4118040"/>
              <a:ext cx="459000" cy="473040"/>
            </a:xfrm>
            <a:custGeom>
              <a:avLst/>
              <a:gdLst/>
              <a:ahLst/>
              <a:rect l="l" t="t" r="r" b="b"/>
              <a:pathLst>
                <a:path w="312" h="324">
                  <a:moveTo>
                    <a:pt x="12" y="324"/>
                  </a:moveTo>
                  <a:cubicBezTo>
                    <a:pt x="18" y="279"/>
                    <a:pt x="0" y="102"/>
                    <a:pt x="50" y="51"/>
                  </a:cubicBezTo>
                  <a:cubicBezTo>
                    <a:pt x="100" y="0"/>
                    <a:pt x="149" y="18"/>
                    <a:pt x="312" y="18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1" name=""/>
            <p:cNvSpPr/>
            <p:nvPr/>
          </p:nvSpPr>
          <p:spPr>
            <a:xfrm>
              <a:off x="7058520" y="3967560"/>
              <a:ext cx="1197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1400" spc="-1" strike="noStrike">
                  <a:solidFill>
                    <a:srgbClr val="000000"/>
                  </a:solidFill>
                  <a:latin typeface="Times New Roman"/>
                </a:rPr>
                <a:t>metabolismu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2" name=""/>
            <p:cNvSpPr/>
            <p:nvPr/>
          </p:nvSpPr>
          <p:spPr>
            <a:xfrm>
              <a:off x="294480" y="5162040"/>
              <a:ext cx="518760" cy="48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1" lang="cs-CZ" sz="2400" spc="-1" strike="noStrike" baseline="50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3" name=""/>
            <p:cNvSpPr/>
            <p:nvPr/>
          </p:nvSpPr>
          <p:spPr>
            <a:xfrm>
              <a:off x="1841400" y="1209600"/>
              <a:ext cx="822600" cy="1341360"/>
            </a:xfrm>
            <a:custGeom>
              <a:avLst/>
              <a:gdLst>
                <a:gd name="textAreaLeft" fmla="*/ 39960 w 822600"/>
                <a:gd name="textAreaRight" fmla="*/ 782640 w 822600"/>
                <a:gd name="textAreaTop" fmla="*/ 39960 h 1341360"/>
                <a:gd name="textAreaBottom" fmla="*/ 1301400 h 1341360"/>
              </a:gdLst>
              <a:ahLst/>
              <a:rect l="textAreaLeft" t="textAreaTop" r="textAreaRight" b="textAreaBottom"/>
              <a:pathLst>
                <a:path w="21600" h="35216">
                  <a:moveTo>
                    <a:pt x="3600" y="0"/>
                  </a:moveTo>
                  <a:arcTo wR="3600" hR="3600" stAng="16200000" swAng="-5400000"/>
                  <a:lnTo>
                    <a:pt x="0" y="31616"/>
                  </a:lnTo>
                  <a:arcTo wR="3600" hR="3600" stAng="10800000" swAng="-5400000"/>
                  <a:lnTo>
                    <a:pt x="18000" y="3521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66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4" name=""/>
            <p:cNvSpPr/>
            <p:nvPr/>
          </p:nvSpPr>
          <p:spPr>
            <a:xfrm>
              <a:off x="2844720" y="1900800"/>
              <a:ext cx="51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1" lang="cs-CZ" sz="2000" spc="-1" strike="noStrike" baseline="30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5" name=""/>
            <p:cNvSpPr/>
            <p:nvPr/>
          </p:nvSpPr>
          <p:spPr>
            <a:xfrm>
              <a:off x="2832120" y="1569240"/>
              <a:ext cx="51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1" lang="cs-CZ" sz="2000" spc="-1" strike="noStrike" baseline="30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6" name=""/>
            <p:cNvSpPr/>
            <p:nvPr/>
          </p:nvSpPr>
          <p:spPr>
            <a:xfrm flipH="1">
              <a:off x="2410920" y="1746360"/>
              <a:ext cx="419400" cy="19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7" name=""/>
            <p:cNvSpPr/>
            <p:nvPr/>
          </p:nvSpPr>
          <p:spPr>
            <a:xfrm flipV="1">
              <a:off x="2482920" y="2084400"/>
              <a:ext cx="399960" cy="6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8" name=""/>
            <p:cNvSpPr/>
            <p:nvPr/>
          </p:nvSpPr>
          <p:spPr>
            <a:xfrm>
              <a:off x="2009880" y="1888200"/>
              <a:ext cx="51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1" lang="cs-CZ" sz="2000" spc="-1" strike="noStrike" baseline="30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9" name=""/>
            <p:cNvSpPr/>
            <p:nvPr/>
          </p:nvSpPr>
          <p:spPr>
            <a:xfrm>
              <a:off x="1979640" y="1554840"/>
              <a:ext cx="51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1" lang="cs-CZ" sz="2000" spc="-1" strike="noStrike" baseline="30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0" name=""/>
            <p:cNvSpPr/>
            <p:nvPr/>
          </p:nvSpPr>
          <p:spPr>
            <a:xfrm flipV="1">
              <a:off x="2011320" y="1644120"/>
              <a:ext cx="0" cy="18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1" name=""/>
            <p:cNvSpPr/>
            <p:nvPr/>
          </p:nvSpPr>
          <p:spPr>
            <a:xfrm flipV="1">
              <a:off x="2006640" y="1995120"/>
              <a:ext cx="0" cy="18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2" name=""/>
            <p:cNvSpPr/>
            <p:nvPr/>
          </p:nvSpPr>
          <p:spPr>
            <a:xfrm flipV="1">
              <a:off x="3292560" y="2007720"/>
              <a:ext cx="0" cy="18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3" name=""/>
            <p:cNvSpPr/>
            <p:nvPr/>
          </p:nvSpPr>
          <p:spPr>
            <a:xfrm>
              <a:off x="5225400" y="5157000"/>
              <a:ext cx="518760" cy="48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1" lang="cs-CZ" sz="2400" spc="-1" strike="noStrike" baseline="50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4" name=""/>
            <p:cNvSpPr/>
            <p:nvPr/>
          </p:nvSpPr>
          <p:spPr>
            <a:xfrm>
              <a:off x="6766920" y="3731040"/>
              <a:ext cx="79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1400" spc="-1" strike="noStrike">
                  <a:solidFill>
                    <a:srgbClr val="000000"/>
                  </a:solidFill>
                  <a:latin typeface="Times New Roman"/>
                </a:rPr>
                <a:t>Aniont </a:t>
              </a:r>
              <a:r>
                <a:rPr b="1" i="1" lang="cs-CZ" sz="2400" spc="-1" strike="noStrike" baseline="30000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5" name=""/>
            <p:cNvSpPr/>
            <p:nvPr/>
          </p:nvSpPr>
          <p:spPr>
            <a:xfrm>
              <a:off x="4392000" y="4540680"/>
              <a:ext cx="79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1400" spc="-1" strike="noStrike">
                  <a:solidFill>
                    <a:srgbClr val="000000"/>
                  </a:solidFill>
                  <a:latin typeface="Times New Roman"/>
                </a:rPr>
                <a:t>Aniont </a:t>
              </a:r>
              <a:r>
                <a:rPr b="1" i="1" lang="cs-CZ" sz="2400" spc="-1" strike="noStrike" baseline="30000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6" name=""/>
            <p:cNvSpPr/>
            <p:nvPr/>
          </p:nvSpPr>
          <p:spPr>
            <a:xfrm>
              <a:off x="4802760" y="3813840"/>
              <a:ext cx="886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1400" spc="-1" strike="noStrike">
                  <a:solidFill>
                    <a:srgbClr val="000000"/>
                  </a:solidFill>
                  <a:latin typeface="Times New Roman"/>
                </a:rPr>
                <a:t>H-Anio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7" name=""/>
            <p:cNvSpPr/>
            <p:nvPr/>
          </p:nvSpPr>
          <p:spPr>
            <a:xfrm flipH="1" flipV="1">
              <a:off x="5416200" y="4162320"/>
              <a:ext cx="4680" cy="952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8" name=""/>
            <p:cNvSpPr/>
            <p:nvPr/>
          </p:nvSpPr>
          <p:spPr>
            <a:xfrm>
              <a:off x="5049720" y="4556160"/>
              <a:ext cx="362160" cy="264960"/>
            </a:xfrm>
            <a:custGeom>
              <a:avLst/>
              <a:gdLst/>
              <a:ahLst/>
              <a:rect l="l" t="t" r="r" b="b"/>
              <a:pathLst>
                <a:path w="228" h="167">
                  <a:moveTo>
                    <a:pt x="0" y="157"/>
                  </a:moveTo>
                  <a:cubicBezTo>
                    <a:pt x="24" y="154"/>
                    <a:pt x="108" y="167"/>
                    <a:pt x="146" y="141"/>
                  </a:cubicBezTo>
                  <a:cubicBezTo>
                    <a:pt x="184" y="115"/>
                    <a:pt x="211" y="29"/>
                    <a:pt x="228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9" name=""/>
            <p:cNvSpPr/>
            <p:nvPr/>
          </p:nvSpPr>
          <p:spPr>
            <a:xfrm flipV="1">
              <a:off x="6024600" y="3978360"/>
              <a:ext cx="541440" cy="612720"/>
            </a:xfrm>
            <a:custGeom>
              <a:avLst/>
              <a:gdLst/>
              <a:ahLst/>
              <a:rect l="l" t="t" r="r" b="b"/>
              <a:pathLst>
                <a:path w="341" h="287">
                  <a:moveTo>
                    <a:pt x="0" y="283"/>
                  </a:moveTo>
                  <a:cubicBezTo>
                    <a:pt x="48" y="276"/>
                    <a:pt x="237" y="287"/>
                    <a:pt x="289" y="240"/>
                  </a:cubicBezTo>
                  <a:cubicBezTo>
                    <a:pt x="341" y="193"/>
                    <a:pt x="307" y="50"/>
                    <a:pt x="311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0" name=""/>
            <p:cNvSpPr/>
            <p:nvPr/>
          </p:nvSpPr>
          <p:spPr>
            <a:xfrm>
              <a:off x="5673600" y="3983040"/>
              <a:ext cx="1171800" cy="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1" name=""/>
            <p:cNvSpPr/>
            <p:nvPr/>
          </p:nvSpPr>
          <p:spPr>
            <a:xfrm>
              <a:off x="2032200" y="695160"/>
              <a:ext cx="1972800" cy="53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14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1" i="1" lang="cs-CZ" sz="1400" spc="-1" strike="noStrike" baseline="50000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i="1" lang="cs-CZ" sz="1400" spc="-1" strike="noStrike">
                  <a:solidFill>
                    <a:srgbClr val="000000"/>
                  </a:solidFill>
                  <a:latin typeface="Times New Roman"/>
                </a:rPr>
                <a:t>/K</a:t>
              </a:r>
              <a:r>
                <a:rPr b="1" i="1" lang="cs-CZ" sz="1400" spc="-1" strike="noStrike" baseline="50000">
                  <a:solidFill>
                    <a:srgbClr val="000000"/>
                  </a:solidFill>
                  <a:latin typeface="Times New Roman"/>
                </a:rPr>
                <a:t>+  </a:t>
              </a:r>
              <a:r>
                <a:rPr b="1" i="1" lang="cs-CZ" sz="1400" spc="-1" strike="noStrike">
                  <a:solidFill>
                    <a:srgbClr val="000000"/>
                  </a:solidFill>
                  <a:latin typeface="Times New Roman"/>
                </a:rPr>
                <a:t>a H</a:t>
              </a:r>
              <a:r>
                <a:rPr b="1" i="1" lang="cs-CZ" sz="1400" spc="-1" strike="noStrike" baseline="50000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i="1" lang="cs-CZ" sz="1400" spc="-1" strike="noStrike">
                  <a:solidFill>
                    <a:srgbClr val="000000"/>
                  </a:solidFill>
                  <a:latin typeface="Times New Roman"/>
                </a:rPr>
                <a:t>/Na</a:t>
              </a:r>
              <a:r>
                <a:rPr b="1" i="1" lang="cs-CZ" sz="1400" spc="-1" strike="noStrike" baseline="50000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i="1" lang="cs-CZ" sz="1400" spc="-1" strike="noStrike">
                  <a:solidFill>
                    <a:srgbClr val="000000"/>
                  </a:solidFill>
                  <a:latin typeface="Times New Roman"/>
                </a:rPr>
                <a:t> výměna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1400" spc="-1" strike="noStrike">
                  <a:solidFill>
                    <a:srgbClr val="000000"/>
                  </a:solidFill>
                  <a:latin typeface="Times New Roman"/>
                </a:rPr>
                <a:t>při acidémii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032" name=""/>
            <p:cNvGrpSpPr/>
            <p:nvPr/>
          </p:nvGrpSpPr>
          <p:grpSpPr>
            <a:xfrm>
              <a:off x="3127320" y="5502240"/>
              <a:ext cx="266400" cy="260280"/>
              <a:chOff x="3127320" y="5502240"/>
              <a:chExt cx="266400" cy="260280"/>
            </a:xfrm>
          </p:grpSpPr>
          <p:sp>
            <p:nvSpPr>
              <p:cNvPr id="10033" name=""/>
              <p:cNvSpPr/>
              <p:nvPr/>
            </p:nvSpPr>
            <p:spPr>
              <a:xfrm>
                <a:off x="3127320" y="5502240"/>
                <a:ext cx="266400" cy="260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4" name=""/>
              <p:cNvSpPr/>
              <p:nvPr/>
            </p:nvSpPr>
            <p:spPr>
              <a:xfrm>
                <a:off x="3259440" y="5545080"/>
                <a:ext cx="9360" cy="190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035" name=""/>
            <p:cNvGrpSpPr/>
            <p:nvPr/>
          </p:nvGrpSpPr>
          <p:grpSpPr>
            <a:xfrm>
              <a:off x="2203560" y="5268960"/>
              <a:ext cx="258480" cy="260280"/>
              <a:chOff x="2203560" y="5268960"/>
              <a:chExt cx="258480" cy="260280"/>
            </a:xfrm>
          </p:grpSpPr>
          <p:sp>
            <p:nvSpPr>
              <p:cNvPr id="10036" name=""/>
              <p:cNvSpPr/>
              <p:nvPr/>
            </p:nvSpPr>
            <p:spPr>
              <a:xfrm>
                <a:off x="2203560" y="5268960"/>
                <a:ext cx="258480" cy="260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7" name=""/>
              <p:cNvSpPr/>
              <p:nvPr/>
            </p:nvSpPr>
            <p:spPr>
              <a:xfrm>
                <a:off x="2331720" y="5311800"/>
                <a:ext cx="9000" cy="190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038" name=""/>
            <p:cNvGrpSpPr/>
            <p:nvPr/>
          </p:nvGrpSpPr>
          <p:grpSpPr>
            <a:xfrm>
              <a:off x="2079720" y="5940360"/>
              <a:ext cx="258840" cy="260280"/>
              <a:chOff x="2079720" y="5940360"/>
              <a:chExt cx="258840" cy="260280"/>
            </a:xfrm>
          </p:grpSpPr>
          <p:sp>
            <p:nvSpPr>
              <p:cNvPr id="10039" name=""/>
              <p:cNvSpPr/>
              <p:nvPr/>
            </p:nvSpPr>
            <p:spPr>
              <a:xfrm>
                <a:off x="2079720" y="5940360"/>
                <a:ext cx="258840" cy="260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0" name=""/>
              <p:cNvSpPr/>
              <p:nvPr/>
            </p:nvSpPr>
            <p:spPr>
              <a:xfrm>
                <a:off x="2208240" y="5983200"/>
                <a:ext cx="9360" cy="190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041" name=""/>
            <p:cNvSpPr/>
            <p:nvPr/>
          </p:nvSpPr>
          <p:spPr>
            <a:xfrm>
              <a:off x="2328840" y="5913360"/>
              <a:ext cx="857160" cy="289080"/>
            </a:xfrm>
            <a:custGeom>
              <a:avLst/>
              <a:gdLst/>
              <a:ahLst/>
              <a:rect l="l" t="t" r="r" b="b"/>
              <a:pathLst>
                <a:path w="540" h="182">
                  <a:moveTo>
                    <a:pt x="0" y="110"/>
                  </a:moveTo>
                  <a:cubicBezTo>
                    <a:pt x="65" y="119"/>
                    <a:pt x="303" y="182"/>
                    <a:pt x="393" y="164"/>
                  </a:cubicBezTo>
                  <a:cubicBezTo>
                    <a:pt x="483" y="146"/>
                    <a:pt x="510" y="34"/>
                    <a:pt x="540" y="0"/>
                  </a:cubicBezTo>
                </a:path>
              </a:pathLst>
            </a:custGeom>
            <a:noFill/>
            <a:ln cap="rnd" w="19080">
              <a:solidFill>
                <a:srgbClr val="000000"/>
              </a:solidFill>
              <a:custDash>
                <a:ds d="100000" sp="1000"/>
              </a:custDash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2" name=""/>
            <p:cNvSpPr/>
            <p:nvPr/>
          </p:nvSpPr>
          <p:spPr>
            <a:xfrm>
              <a:off x="2351160" y="5511960"/>
              <a:ext cx="671400" cy="250560"/>
            </a:xfrm>
            <a:custGeom>
              <a:avLst/>
              <a:gdLst/>
              <a:ahLst/>
              <a:rect l="l" t="t" r="r" b="b"/>
              <a:pathLst>
                <a:path w="423" h="158">
                  <a:moveTo>
                    <a:pt x="423" y="117"/>
                  </a:moveTo>
                  <a:cubicBezTo>
                    <a:pt x="363" y="122"/>
                    <a:pt x="126" y="158"/>
                    <a:pt x="63" y="139"/>
                  </a:cubicBezTo>
                  <a:cubicBezTo>
                    <a:pt x="0" y="120"/>
                    <a:pt x="49" y="29"/>
                    <a:pt x="45" y="0"/>
                  </a:cubicBezTo>
                </a:path>
              </a:pathLst>
            </a:custGeom>
            <a:noFill/>
            <a:ln cap="rnd" w="19080">
              <a:solidFill>
                <a:srgbClr val="000000"/>
              </a:solidFill>
              <a:custDash>
                <a:ds d="100000" sp="1000"/>
              </a:custDash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3" name=""/>
            <p:cNvSpPr/>
            <p:nvPr/>
          </p:nvSpPr>
          <p:spPr>
            <a:xfrm>
              <a:off x="5216400" y="5437080"/>
              <a:ext cx="584280" cy="349200"/>
            </a:xfrm>
            <a:custGeom>
              <a:avLst/>
              <a:gdLst/>
              <a:ahLst/>
              <a:rect l="l" t="t" r="r" b="b"/>
              <a:pathLst>
                <a:path w="368" h="220">
                  <a:moveTo>
                    <a:pt x="58" y="0"/>
                  </a:moveTo>
                  <a:cubicBezTo>
                    <a:pt x="49" y="20"/>
                    <a:pt x="0" y="86"/>
                    <a:pt x="3" y="120"/>
                  </a:cubicBezTo>
                  <a:cubicBezTo>
                    <a:pt x="6" y="154"/>
                    <a:pt x="40" y="198"/>
                    <a:pt x="74" y="207"/>
                  </a:cubicBezTo>
                  <a:cubicBezTo>
                    <a:pt x="86" y="220"/>
                    <a:pt x="167" y="183"/>
                    <a:pt x="210" y="176"/>
                  </a:cubicBezTo>
                  <a:cubicBezTo>
                    <a:pt x="259" y="167"/>
                    <a:pt x="335" y="158"/>
                    <a:pt x="368" y="153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4" name=""/>
            <p:cNvSpPr/>
            <p:nvPr/>
          </p:nvSpPr>
          <p:spPr>
            <a:xfrm>
              <a:off x="6477120" y="4822920"/>
              <a:ext cx="574560" cy="804600"/>
            </a:xfrm>
            <a:custGeom>
              <a:avLst/>
              <a:gdLst/>
              <a:ahLst/>
              <a:rect l="l" t="t" r="r" b="b"/>
              <a:pathLst>
                <a:path w="362" h="507">
                  <a:moveTo>
                    <a:pt x="240" y="0"/>
                  </a:moveTo>
                  <a:cubicBezTo>
                    <a:pt x="254" y="65"/>
                    <a:pt x="362" y="309"/>
                    <a:pt x="322" y="393"/>
                  </a:cubicBezTo>
                  <a:cubicBezTo>
                    <a:pt x="282" y="477"/>
                    <a:pt x="67" y="483"/>
                    <a:pt x="0" y="50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045" name=""/>
            <p:cNvGrpSpPr/>
            <p:nvPr/>
          </p:nvGrpSpPr>
          <p:grpSpPr>
            <a:xfrm>
              <a:off x="109440" y="5261040"/>
              <a:ext cx="258840" cy="260280"/>
              <a:chOff x="109440" y="5261040"/>
              <a:chExt cx="258840" cy="260280"/>
            </a:xfrm>
          </p:grpSpPr>
          <p:sp>
            <p:nvSpPr>
              <p:cNvPr id="10046" name=""/>
              <p:cNvSpPr/>
              <p:nvPr/>
            </p:nvSpPr>
            <p:spPr>
              <a:xfrm>
                <a:off x="109440" y="5261040"/>
                <a:ext cx="258840" cy="260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7" name=""/>
              <p:cNvSpPr/>
              <p:nvPr/>
            </p:nvSpPr>
            <p:spPr>
              <a:xfrm>
                <a:off x="237960" y="5303880"/>
                <a:ext cx="9720" cy="190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048" name=""/>
            <p:cNvGrpSpPr/>
            <p:nvPr/>
          </p:nvGrpSpPr>
          <p:grpSpPr>
            <a:xfrm>
              <a:off x="5010120" y="5183280"/>
              <a:ext cx="258840" cy="260280"/>
              <a:chOff x="5010120" y="5183280"/>
              <a:chExt cx="258840" cy="260280"/>
            </a:xfrm>
          </p:grpSpPr>
          <p:sp>
            <p:nvSpPr>
              <p:cNvPr id="10049" name=""/>
              <p:cNvSpPr/>
              <p:nvPr/>
            </p:nvSpPr>
            <p:spPr>
              <a:xfrm>
                <a:off x="5010120" y="5183280"/>
                <a:ext cx="258840" cy="260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0" name=""/>
              <p:cNvSpPr/>
              <p:nvPr/>
            </p:nvSpPr>
            <p:spPr>
              <a:xfrm>
                <a:off x="5132520" y="5226120"/>
                <a:ext cx="11160" cy="191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051" name=""/>
            <p:cNvSpPr/>
            <p:nvPr/>
          </p:nvSpPr>
          <p:spPr>
            <a:xfrm>
              <a:off x="1298520" y="5765760"/>
              <a:ext cx="733320" cy="460440"/>
            </a:xfrm>
            <a:custGeom>
              <a:avLst/>
              <a:gdLst/>
              <a:ahLst/>
              <a:rect l="l" t="t" r="r" b="b"/>
              <a:pathLst>
                <a:path w="462" h="290">
                  <a:moveTo>
                    <a:pt x="0" y="0"/>
                  </a:moveTo>
                  <a:cubicBezTo>
                    <a:pt x="25" y="42"/>
                    <a:pt x="76" y="212"/>
                    <a:pt x="153" y="251"/>
                  </a:cubicBezTo>
                  <a:cubicBezTo>
                    <a:pt x="230" y="290"/>
                    <a:pt x="398" y="236"/>
                    <a:pt x="462" y="232"/>
                  </a:cubicBezTo>
                </a:path>
              </a:pathLst>
            </a:custGeom>
            <a:noFill/>
            <a:ln cap="rnd" w="19080">
              <a:solidFill>
                <a:srgbClr val="000000"/>
              </a:solidFill>
              <a:custDash>
                <a:ds d="100000" sp="1000"/>
              </a:custDash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052" name=""/>
            <p:cNvGrpSpPr/>
            <p:nvPr/>
          </p:nvGrpSpPr>
          <p:grpSpPr>
            <a:xfrm>
              <a:off x="1062000" y="5502240"/>
              <a:ext cx="258840" cy="260280"/>
              <a:chOff x="1062000" y="5502240"/>
              <a:chExt cx="258840" cy="260280"/>
            </a:xfrm>
          </p:grpSpPr>
          <p:sp>
            <p:nvSpPr>
              <p:cNvPr id="10053" name=""/>
              <p:cNvSpPr/>
              <p:nvPr/>
            </p:nvSpPr>
            <p:spPr>
              <a:xfrm>
                <a:off x="1062000" y="5502240"/>
                <a:ext cx="258840" cy="260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4" name=""/>
              <p:cNvSpPr/>
              <p:nvPr/>
            </p:nvSpPr>
            <p:spPr>
              <a:xfrm>
                <a:off x="1190520" y="5545080"/>
                <a:ext cx="9360" cy="190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055" name=""/>
            <p:cNvSpPr/>
            <p:nvPr/>
          </p:nvSpPr>
          <p:spPr>
            <a:xfrm>
              <a:off x="270000" y="5578560"/>
              <a:ext cx="730080" cy="196920"/>
            </a:xfrm>
            <a:custGeom>
              <a:avLst/>
              <a:gdLst/>
              <a:ahLst/>
              <a:rect l="l" t="t" r="r" b="b"/>
              <a:pathLst>
                <a:path w="460" h="124">
                  <a:moveTo>
                    <a:pt x="0" y="0"/>
                  </a:moveTo>
                  <a:cubicBezTo>
                    <a:pt x="16" y="19"/>
                    <a:pt x="20" y="102"/>
                    <a:pt x="97" y="113"/>
                  </a:cubicBezTo>
                  <a:cubicBezTo>
                    <a:pt x="174" y="124"/>
                    <a:pt x="385" y="77"/>
                    <a:pt x="460" y="68"/>
                  </a:cubicBezTo>
                </a:path>
              </a:pathLst>
            </a:custGeom>
            <a:noFill/>
            <a:ln cap="rnd" w="19080">
              <a:solidFill>
                <a:srgbClr val="000000"/>
              </a:solidFill>
              <a:custDash>
                <a:ds d="100000" sp="1000"/>
              </a:custDash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6" name=""/>
            <p:cNvSpPr/>
            <p:nvPr/>
          </p:nvSpPr>
          <p:spPr>
            <a:xfrm flipV="1">
              <a:off x="1228680" y="4876920"/>
              <a:ext cx="246240" cy="627120"/>
            </a:xfrm>
            <a:prstGeom prst="line">
              <a:avLst/>
            </a:prstGeom>
            <a:ln cap="rnd" w="1908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057" name=""/>
            <p:cNvGrpSpPr/>
            <p:nvPr/>
          </p:nvGrpSpPr>
          <p:grpSpPr>
            <a:xfrm>
              <a:off x="1343160" y="4616280"/>
              <a:ext cx="258480" cy="260280"/>
              <a:chOff x="1343160" y="4616280"/>
              <a:chExt cx="258480" cy="260280"/>
            </a:xfrm>
          </p:grpSpPr>
          <p:sp>
            <p:nvSpPr>
              <p:cNvPr id="10058" name=""/>
              <p:cNvSpPr/>
              <p:nvPr/>
            </p:nvSpPr>
            <p:spPr>
              <a:xfrm>
                <a:off x="1343160" y="4616280"/>
                <a:ext cx="258480" cy="260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9" name=""/>
              <p:cNvSpPr/>
              <p:nvPr/>
            </p:nvSpPr>
            <p:spPr>
              <a:xfrm>
                <a:off x="1471320" y="4659120"/>
                <a:ext cx="9360" cy="190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060" name=""/>
            <p:cNvSpPr/>
            <p:nvPr/>
          </p:nvSpPr>
          <p:spPr>
            <a:xfrm>
              <a:off x="534960" y="553176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1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1" name=""/>
            <p:cNvSpPr/>
            <p:nvPr/>
          </p:nvSpPr>
          <p:spPr>
            <a:xfrm>
              <a:off x="1517400" y="596988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1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2" name=""/>
            <p:cNvSpPr/>
            <p:nvPr/>
          </p:nvSpPr>
          <p:spPr>
            <a:xfrm>
              <a:off x="2473200" y="59144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1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3" name=""/>
            <p:cNvSpPr/>
            <p:nvPr/>
          </p:nvSpPr>
          <p:spPr>
            <a:xfrm>
              <a:off x="2504880" y="55364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1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4" name=""/>
            <p:cNvSpPr/>
            <p:nvPr/>
          </p:nvSpPr>
          <p:spPr>
            <a:xfrm>
              <a:off x="1331640" y="497772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1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065" name=""/>
            <p:cNvGrpSpPr/>
            <p:nvPr/>
          </p:nvGrpSpPr>
          <p:grpSpPr>
            <a:xfrm>
              <a:off x="6191280" y="5516640"/>
              <a:ext cx="258840" cy="260280"/>
              <a:chOff x="6191280" y="5516640"/>
              <a:chExt cx="258840" cy="260280"/>
            </a:xfrm>
          </p:grpSpPr>
          <p:sp>
            <p:nvSpPr>
              <p:cNvPr id="10066" name=""/>
              <p:cNvSpPr/>
              <p:nvPr/>
            </p:nvSpPr>
            <p:spPr>
              <a:xfrm>
                <a:off x="6191280" y="5516640"/>
                <a:ext cx="258840" cy="260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7" name=""/>
              <p:cNvSpPr/>
              <p:nvPr/>
            </p:nvSpPr>
            <p:spPr>
              <a:xfrm>
                <a:off x="6319800" y="5559480"/>
                <a:ext cx="9720" cy="190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068" name=""/>
            <p:cNvSpPr/>
            <p:nvPr/>
          </p:nvSpPr>
          <p:spPr>
            <a:xfrm>
              <a:off x="5819760" y="5500800"/>
              <a:ext cx="258840" cy="260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9" name=""/>
            <p:cNvSpPr/>
            <p:nvPr/>
          </p:nvSpPr>
          <p:spPr>
            <a:xfrm flipH="1">
              <a:off x="5958000" y="5551560"/>
              <a:ext cx="1440" cy="182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0" name=""/>
            <p:cNvSpPr/>
            <p:nvPr/>
          </p:nvSpPr>
          <p:spPr>
            <a:xfrm>
              <a:off x="6210360" y="4645080"/>
              <a:ext cx="258840" cy="260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1" name=""/>
            <p:cNvSpPr/>
            <p:nvPr/>
          </p:nvSpPr>
          <p:spPr>
            <a:xfrm>
              <a:off x="6332400" y="4680000"/>
              <a:ext cx="5040" cy="191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2" name=""/>
            <p:cNvSpPr/>
            <p:nvPr/>
          </p:nvSpPr>
          <p:spPr>
            <a:xfrm>
              <a:off x="5446800" y="4199040"/>
              <a:ext cx="892080" cy="1028520"/>
            </a:xfrm>
            <a:custGeom>
              <a:avLst/>
              <a:gdLst/>
              <a:ahLst/>
              <a:rect l="l" t="t" r="r" b="b"/>
              <a:pathLst>
                <a:path w="562" h="648">
                  <a:moveTo>
                    <a:pt x="0" y="648"/>
                  </a:moveTo>
                  <a:cubicBezTo>
                    <a:pt x="11" y="585"/>
                    <a:pt x="25" y="369"/>
                    <a:pt x="65" y="267"/>
                  </a:cubicBezTo>
                  <a:cubicBezTo>
                    <a:pt x="105" y="165"/>
                    <a:pt x="169" y="66"/>
                    <a:pt x="240" y="33"/>
                  </a:cubicBezTo>
                  <a:cubicBezTo>
                    <a:pt x="311" y="0"/>
                    <a:pt x="437" y="25"/>
                    <a:pt x="491" y="66"/>
                  </a:cubicBezTo>
                  <a:cubicBezTo>
                    <a:pt x="545" y="107"/>
                    <a:pt x="547" y="234"/>
                    <a:pt x="562" y="278"/>
                  </a:cubicBezTo>
                </a:path>
              </a:pathLst>
            </a:custGeom>
            <a:noFill/>
            <a:ln cap="rnd" w="19080">
              <a:solidFill>
                <a:srgbClr val="000000"/>
              </a:solidFill>
              <a:custDash>
                <a:ds d="100000" sp="1000"/>
              </a:custDash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3" name=""/>
            <p:cNvSpPr/>
            <p:nvPr/>
          </p:nvSpPr>
          <p:spPr>
            <a:xfrm>
              <a:off x="5646600" y="434268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1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4" name=""/>
            <p:cNvSpPr/>
            <p:nvPr/>
          </p:nvSpPr>
          <p:spPr>
            <a:xfrm>
              <a:off x="6640200" y="531756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1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5" name=""/>
            <p:cNvSpPr/>
            <p:nvPr/>
          </p:nvSpPr>
          <p:spPr>
            <a:xfrm>
              <a:off x="5248080" y="55634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1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6" name=""/>
            <p:cNvSpPr/>
            <p:nvPr/>
          </p:nvSpPr>
          <p:spPr>
            <a:xfrm>
              <a:off x="3268800" y="1662120"/>
              <a:ext cx="258480" cy="2509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7" name=""/>
            <p:cNvSpPr/>
            <p:nvPr/>
          </p:nvSpPr>
          <p:spPr>
            <a:xfrm>
              <a:off x="3379680" y="1703520"/>
              <a:ext cx="9720" cy="183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8" name=""/>
            <p:cNvSpPr/>
            <p:nvPr/>
          </p:nvSpPr>
          <p:spPr>
            <a:xfrm>
              <a:off x="6097680" y="249120"/>
              <a:ext cx="2630520" cy="2766960"/>
            </a:xfrm>
            <a:prstGeom prst="cloudCallout">
              <a:avLst>
                <a:gd name="adj1" fmla="val -15361"/>
                <a:gd name="adj2" fmla="val 72833"/>
              </a:avLst>
            </a:prstGeom>
            <a:solidFill>
              <a:srgbClr val="66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9" name=""/>
            <p:cNvSpPr/>
            <p:nvPr/>
          </p:nvSpPr>
          <p:spPr>
            <a:xfrm>
              <a:off x="6488280" y="1441440"/>
              <a:ext cx="822240" cy="1135080"/>
            </a:xfrm>
            <a:custGeom>
              <a:avLst/>
              <a:gdLst>
                <a:gd name="textAreaLeft" fmla="*/ 39960 w 822240"/>
                <a:gd name="textAreaRight" fmla="*/ 782280 w 822240"/>
                <a:gd name="textAreaTop" fmla="*/ 39960 h 1135080"/>
                <a:gd name="textAreaBottom" fmla="*/ 1095120 h 1135080"/>
              </a:gdLst>
              <a:ahLst/>
              <a:rect l="textAreaLeft" t="textAreaTop" r="textAreaRight" b="textAreaBottom"/>
              <a:pathLst>
                <a:path w="21600" h="29815">
                  <a:moveTo>
                    <a:pt x="3600" y="0"/>
                  </a:moveTo>
                  <a:arcTo wR="3600" hR="3600" stAng="16200000" swAng="-5400000"/>
                  <a:lnTo>
                    <a:pt x="0" y="26215"/>
                  </a:lnTo>
                  <a:arcTo wR="3600" hR="3600" stAng="10800000" swAng="-5400000"/>
                  <a:lnTo>
                    <a:pt x="18000" y="2981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66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0" name=""/>
            <p:cNvSpPr/>
            <p:nvPr/>
          </p:nvSpPr>
          <p:spPr>
            <a:xfrm>
              <a:off x="7483320" y="2180160"/>
              <a:ext cx="51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1" lang="cs-CZ" sz="2000" spc="-1" strike="noStrike" baseline="30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1" name=""/>
            <p:cNvSpPr/>
            <p:nvPr/>
          </p:nvSpPr>
          <p:spPr>
            <a:xfrm>
              <a:off x="7469280" y="1783440"/>
              <a:ext cx="51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1" lang="cs-CZ" sz="2000" spc="-1" strike="noStrike" baseline="30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2" name=""/>
            <p:cNvSpPr/>
            <p:nvPr/>
          </p:nvSpPr>
          <p:spPr>
            <a:xfrm flipH="1">
              <a:off x="7040520" y="2016000"/>
              <a:ext cx="419040" cy="19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3" name=""/>
            <p:cNvSpPr/>
            <p:nvPr/>
          </p:nvSpPr>
          <p:spPr>
            <a:xfrm>
              <a:off x="6648480" y="2167560"/>
              <a:ext cx="51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1" lang="cs-CZ" sz="2000" spc="-1" strike="noStrike" baseline="30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4" name=""/>
            <p:cNvSpPr/>
            <p:nvPr/>
          </p:nvSpPr>
          <p:spPr>
            <a:xfrm>
              <a:off x="6618240" y="1834200"/>
              <a:ext cx="51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1" lang="cs-CZ" sz="2000" spc="-1" strike="noStrike" baseline="30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5" name=""/>
            <p:cNvSpPr/>
            <p:nvPr/>
          </p:nvSpPr>
          <p:spPr>
            <a:xfrm flipV="1">
              <a:off x="6649920" y="1924200"/>
              <a:ext cx="0" cy="180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6" name=""/>
            <p:cNvSpPr/>
            <p:nvPr/>
          </p:nvSpPr>
          <p:spPr>
            <a:xfrm>
              <a:off x="6370920" y="666360"/>
              <a:ext cx="2087280" cy="74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14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1" i="1" lang="cs-CZ" sz="1400" spc="-1" strike="noStrike" baseline="50000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i="1" lang="cs-CZ" sz="1400" spc="-1" strike="noStrike">
                  <a:solidFill>
                    <a:srgbClr val="000000"/>
                  </a:solidFill>
                  <a:latin typeface="Times New Roman"/>
                </a:rPr>
                <a:t>/K</a:t>
              </a:r>
              <a:r>
                <a:rPr b="1" i="1" lang="cs-CZ" sz="1400" spc="-1" strike="noStrike" baseline="50000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i="1" lang="cs-CZ" sz="1400" spc="-1" strike="noStrike">
                  <a:solidFill>
                    <a:srgbClr val="000000"/>
                  </a:solidFill>
                  <a:latin typeface="Times New Roman"/>
                </a:rPr>
                <a:t> a H</a:t>
              </a:r>
              <a:r>
                <a:rPr b="1" i="1" lang="cs-CZ" sz="1400" spc="-1" strike="noStrike" baseline="50000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i="1" lang="cs-CZ" sz="1400" spc="-1" strike="noStrike">
                  <a:solidFill>
                    <a:srgbClr val="000000"/>
                  </a:solidFill>
                  <a:latin typeface="Times New Roman"/>
                </a:rPr>
                <a:t>/Na</a:t>
              </a:r>
              <a:r>
                <a:rPr b="1" i="1" lang="cs-CZ" sz="1400" spc="-1" strike="noStrike" baseline="50000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i="1" lang="cs-CZ" sz="1400" spc="-1" strike="noStrike">
                  <a:solidFill>
                    <a:srgbClr val="000000"/>
                  </a:solidFill>
                  <a:latin typeface="Times New Roman"/>
                </a:rPr>
                <a:t> výměna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1400" spc="-1" strike="noStrike">
                  <a:solidFill>
                    <a:srgbClr val="000000"/>
                  </a:solidFill>
                  <a:latin typeface="Times New Roman"/>
                </a:rPr>
                <a:t>při acidóze s hromadění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1400" spc="-1" strike="noStrike">
                  <a:solidFill>
                    <a:srgbClr val="000000"/>
                  </a:solidFill>
                  <a:latin typeface="Times New Roman"/>
                </a:rPr>
                <a:t>organických aniontů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7" name=""/>
            <p:cNvSpPr/>
            <p:nvPr/>
          </p:nvSpPr>
          <p:spPr>
            <a:xfrm>
              <a:off x="7880400" y="1860480"/>
              <a:ext cx="258840" cy="2509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8" name=""/>
            <p:cNvSpPr/>
            <p:nvPr/>
          </p:nvSpPr>
          <p:spPr>
            <a:xfrm>
              <a:off x="8008920" y="1901880"/>
              <a:ext cx="3240" cy="183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9" name=""/>
            <p:cNvSpPr/>
            <p:nvPr/>
          </p:nvSpPr>
          <p:spPr>
            <a:xfrm>
              <a:off x="2843280" y="1254960"/>
              <a:ext cx="636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000000"/>
                  </a:solidFill>
                  <a:latin typeface="Times New Roman"/>
                </a:rPr>
                <a:t>Na</a:t>
              </a:r>
              <a:r>
                <a:rPr b="1" lang="cs-CZ" sz="2000" spc="-1" strike="noStrike" baseline="30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0" name=""/>
            <p:cNvSpPr/>
            <p:nvPr/>
          </p:nvSpPr>
          <p:spPr>
            <a:xfrm flipV="1">
              <a:off x="2481120" y="1438200"/>
              <a:ext cx="400320" cy="6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1" name=""/>
            <p:cNvSpPr/>
            <p:nvPr/>
          </p:nvSpPr>
          <p:spPr>
            <a:xfrm>
              <a:off x="1954080" y="1242000"/>
              <a:ext cx="682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000000"/>
                  </a:solidFill>
                  <a:latin typeface="Times New Roman"/>
                </a:rPr>
                <a:t>Na</a:t>
              </a:r>
              <a:r>
                <a:rPr b="1" lang="cs-CZ" sz="2000" spc="-1" strike="noStrike" baseline="30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2" name=""/>
            <p:cNvSpPr/>
            <p:nvPr/>
          </p:nvSpPr>
          <p:spPr>
            <a:xfrm flipV="1">
              <a:off x="2004840" y="1348920"/>
              <a:ext cx="0" cy="18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3" name=""/>
            <p:cNvSpPr/>
            <p:nvPr/>
          </p:nvSpPr>
          <p:spPr>
            <a:xfrm flipV="1">
              <a:off x="3336840" y="1362240"/>
              <a:ext cx="0" cy="180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4" name=""/>
            <p:cNvSpPr/>
            <p:nvPr/>
          </p:nvSpPr>
          <p:spPr>
            <a:xfrm>
              <a:off x="6516720" y="1477080"/>
              <a:ext cx="68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000000"/>
                  </a:solidFill>
                  <a:latin typeface="Times New Roman"/>
                </a:rPr>
                <a:t>Na</a:t>
              </a:r>
              <a:r>
                <a:rPr b="1" lang="cs-CZ" sz="2000" spc="-1" strike="noStrike" baseline="30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5" name=""/>
            <p:cNvSpPr/>
            <p:nvPr/>
          </p:nvSpPr>
          <p:spPr>
            <a:xfrm>
              <a:off x="7432560" y="1440360"/>
              <a:ext cx="682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000000"/>
                  </a:solidFill>
                  <a:latin typeface="Times New Roman"/>
                </a:rPr>
                <a:t>Na</a:t>
              </a:r>
              <a:r>
                <a:rPr b="1" lang="cs-CZ" sz="2000" spc="-1" strike="noStrike" baseline="30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6" name=""/>
            <p:cNvSpPr/>
            <p:nvPr/>
          </p:nvSpPr>
          <p:spPr>
            <a:xfrm>
              <a:off x="310320" y="6415560"/>
              <a:ext cx="3746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1400" spc="-1" strike="noStrike">
                  <a:solidFill>
                    <a:srgbClr val="000000"/>
                  </a:solidFill>
                  <a:latin typeface="Times New Roman"/>
                </a:rPr>
                <a:t>a) acidémie bez hromadění organických aniontů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7" name=""/>
            <p:cNvSpPr/>
            <p:nvPr/>
          </p:nvSpPr>
          <p:spPr>
            <a:xfrm>
              <a:off x="5114160" y="6423480"/>
              <a:ext cx="3716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1400" spc="-1" strike="noStrike">
                  <a:solidFill>
                    <a:srgbClr val="000000"/>
                  </a:solidFill>
                  <a:latin typeface="Times New Roman"/>
                </a:rPr>
                <a:t>a) acidémie s hromaděním organických aniontů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98" name=""/>
          <p:cNvGrpSpPr/>
          <p:nvPr/>
        </p:nvGrpSpPr>
        <p:grpSpPr>
          <a:xfrm>
            <a:off x="12240" y="0"/>
            <a:ext cx="8853840" cy="6743160"/>
            <a:chOff x="12240" y="0"/>
            <a:chExt cx="8853840" cy="6743160"/>
          </a:xfrm>
        </p:grpSpPr>
        <p:sp>
          <p:nvSpPr>
            <p:cNvPr id="10099" name=""/>
            <p:cNvSpPr/>
            <p:nvPr/>
          </p:nvSpPr>
          <p:spPr>
            <a:xfrm>
              <a:off x="5784840" y="0"/>
              <a:ext cx="2631960" cy="2698920"/>
            </a:xfrm>
            <a:prstGeom prst="cloudCallout">
              <a:avLst>
                <a:gd name="adj1" fmla="val -38120"/>
                <a:gd name="adj2" fmla="val 67000"/>
              </a:avLst>
            </a:prstGeom>
            <a:solidFill>
              <a:srgbClr val="66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0" name=""/>
            <p:cNvSpPr/>
            <p:nvPr/>
          </p:nvSpPr>
          <p:spPr>
            <a:xfrm>
              <a:off x="6197760" y="1031760"/>
              <a:ext cx="822240" cy="1104840"/>
            </a:xfrm>
            <a:custGeom>
              <a:avLst/>
              <a:gdLst>
                <a:gd name="textAreaLeft" fmla="*/ 39960 w 822240"/>
                <a:gd name="textAreaRight" fmla="*/ 782280 w 822240"/>
                <a:gd name="textAreaTop" fmla="*/ 39960 h 1104840"/>
                <a:gd name="textAreaBottom" fmla="*/ 1064880 h 1104840"/>
              </a:gdLst>
              <a:ahLst/>
              <a:rect l="textAreaLeft" t="textAreaTop" r="textAreaRight" b="textAreaBottom"/>
              <a:pathLst>
                <a:path w="21600" h="29021">
                  <a:moveTo>
                    <a:pt x="3600" y="0"/>
                  </a:moveTo>
                  <a:arcTo wR="3600" hR="3600" stAng="16200000" swAng="-5400000"/>
                  <a:lnTo>
                    <a:pt x="0" y="25421"/>
                  </a:lnTo>
                  <a:arcTo wR="3600" hR="3600" stAng="10800000" swAng="-5400000"/>
                  <a:lnTo>
                    <a:pt x="18000" y="2902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66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1" name=""/>
            <p:cNvSpPr/>
            <p:nvPr/>
          </p:nvSpPr>
          <p:spPr>
            <a:xfrm>
              <a:off x="7192800" y="1651680"/>
              <a:ext cx="51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1" lang="cs-CZ" sz="2000" spc="-1" strike="noStrike" baseline="30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2" name=""/>
            <p:cNvSpPr/>
            <p:nvPr/>
          </p:nvSpPr>
          <p:spPr>
            <a:xfrm>
              <a:off x="7196040" y="1316880"/>
              <a:ext cx="51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1" lang="cs-CZ" sz="2000" spc="-1" strike="noStrike" baseline="30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3" name=""/>
            <p:cNvSpPr/>
            <p:nvPr/>
          </p:nvSpPr>
          <p:spPr>
            <a:xfrm flipH="1">
              <a:off x="6749640" y="1550880"/>
              <a:ext cx="51444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4" name=""/>
            <p:cNvSpPr/>
            <p:nvPr/>
          </p:nvSpPr>
          <p:spPr>
            <a:xfrm flipV="1">
              <a:off x="6813720" y="1834920"/>
              <a:ext cx="417240" cy="6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5" name=""/>
            <p:cNvSpPr/>
            <p:nvPr/>
          </p:nvSpPr>
          <p:spPr>
            <a:xfrm>
              <a:off x="6357960" y="1639080"/>
              <a:ext cx="51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1" lang="cs-CZ" sz="2000" spc="-1" strike="noStrike" baseline="30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6" name=""/>
            <p:cNvSpPr/>
            <p:nvPr/>
          </p:nvSpPr>
          <p:spPr>
            <a:xfrm>
              <a:off x="6327720" y="1351800"/>
              <a:ext cx="51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1" lang="cs-CZ" sz="2000" spc="-1" strike="noStrike" baseline="30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7" name=""/>
            <p:cNvSpPr/>
            <p:nvPr/>
          </p:nvSpPr>
          <p:spPr>
            <a:xfrm flipV="1">
              <a:off x="6359400" y="1441080"/>
              <a:ext cx="0" cy="18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8" name=""/>
            <p:cNvSpPr/>
            <p:nvPr/>
          </p:nvSpPr>
          <p:spPr>
            <a:xfrm flipV="1">
              <a:off x="6354720" y="1746360"/>
              <a:ext cx="0" cy="180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9" name=""/>
            <p:cNvSpPr/>
            <p:nvPr/>
          </p:nvSpPr>
          <p:spPr>
            <a:xfrm flipV="1">
              <a:off x="7693200" y="1459080"/>
              <a:ext cx="0" cy="180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0" name=""/>
            <p:cNvSpPr/>
            <p:nvPr/>
          </p:nvSpPr>
          <p:spPr>
            <a:xfrm>
              <a:off x="6217560" y="483840"/>
              <a:ext cx="1965240" cy="53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14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1" i="1" lang="cs-CZ" sz="1400" spc="-1" strike="noStrike" baseline="50000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i="1" lang="cs-CZ" sz="1400" spc="-1" strike="noStrike">
                  <a:solidFill>
                    <a:srgbClr val="000000"/>
                  </a:solidFill>
                  <a:latin typeface="Times New Roman"/>
                </a:rPr>
                <a:t>/K</a:t>
              </a:r>
              <a:r>
                <a:rPr b="1" i="1" lang="cs-CZ" sz="1400" spc="-1" strike="noStrike" baseline="50000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i="1" lang="cs-CZ" sz="1400" spc="-1" strike="noStrike">
                  <a:solidFill>
                    <a:srgbClr val="000000"/>
                  </a:solidFill>
                  <a:latin typeface="Times New Roman"/>
                </a:rPr>
                <a:t> a H</a:t>
              </a:r>
              <a:r>
                <a:rPr b="1" i="1" lang="cs-CZ" sz="1400" spc="-1" strike="noStrike" baseline="50000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i="1" lang="cs-CZ" sz="1400" spc="-1" strike="noStrike">
                  <a:solidFill>
                    <a:srgbClr val="000000"/>
                  </a:solidFill>
                  <a:latin typeface="Times New Roman"/>
                </a:rPr>
                <a:t>/Na</a:t>
              </a:r>
              <a:r>
                <a:rPr b="1" i="1" lang="cs-CZ" sz="1400" spc="-1" strike="noStrike" baseline="50000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i="1" lang="cs-CZ" sz="1400" spc="-1" strike="noStrike">
                  <a:solidFill>
                    <a:srgbClr val="000000"/>
                  </a:solidFill>
                  <a:latin typeface="Times New Roman"/>
                </a:rPr>
                <a:t> výměna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1400" spc="-1" strike="noStrike">
                  <a:solidFill>
                    <a:srgbClr val="000000"/>
                  </a:solidFill>
                  <a:latin typeface="Times New Roman"/>
                </a:rPr>
                <a:t>při deficitu draslík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111" name=""/>
            <p:cNvGrpSpPr/>
            <p:nvPr/>
          </p:nvGrpSpPr>
          <p:grpSpPr>
            <a:xfrm>
              <a:off x="7591320" y="1749600"/>
              <a:ext cx="258840" cy="260280"/>
              <a:chOff x="7591320" y="1749600"/>
              <a:chExt cx="258840" cy="260280"/>
            </a:xfrm>
          </p:grpSpPr>
          <p:sp>
            <p:nvSpPr>
              <p:cNvPr id="10112" name=""/>
              <p:cNvSpPr/>
              <p:nvPr/>
            </p:nvSpPr>
            <p:spPr>
              <a:xfrm>
                <a:off x="7591320" y="1749600"/>
                <a:ext cx="258840" cy="260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3" name=""/>
              <p:cNvSpPr/>
              <p:nvPr/>
            </p:nvSpPr>
            <p:spPr>
              <a:xfrm>
                <a:off x="7719840" y="1792440"/>
                <a:ext cx="9360" cy="190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114" name=""/>
            <p:cNvSpPr/>
            <p:nvPr/>
          </p:nvSpPr>
          <p:spPr>
            <a:xfrm>
              <a:off x="1165320" y="0"/>
              <a:ext cx="2631960" cy="2698920"/>
            </a:xfrm>
            <a:prstGeom prst="cloudCallout">
              <a:avLst>
                <a:gd name="adj1" fmla="val -33472"/>
                <a:gd name="adj2" fmla="val 68296"/>
              </a:avLst>
            </a:prstGeom>
            <a:solidFill>
              <a:srgbClr val="66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5" name=""/>
            <p:cNvSpPr/>
            <p:nvPr/>
          </p:nvSpPr>
          <p:spPr>
            <a:xfrm>
              <a:off x="1200240" y="3200400"/>
              <a:ext cx="2095560" cy="2639880"/>
            </a:xfrm>
            <a:custGeom>
              <a:avLst/>
              <a:gdLst>
                <a:gd name="textAreaLeft" fmla="*/ 102240 w 2095560"/>
                <a:gd name="textAreaRight" fmla="*/ 1993320 w 2095560"/>
                <a:gd name="textAreaTop" fmla="*/ 102240 h 2639880"/>
                <a:gd name="textAreaBottom" fmla="*/ 2537640 h 2639880"/>
              </a:gdLst>
              <a:ahLst/>
              <a:rect l="textAreaLeft" t="textAreaTop" r="textAreaRight" b="textAreaBottom"/>
              <a:pathLst>
                <a:path w="21600" h="27210">
                  <a:moveTo>
                    <a:pt x="3600" y="0"/>
                  </a:moveTo>
                  <a:arcTo wR="3600" hR="3600" stAng="16200000" swAng="-5400000"/>
                  <a:lnTo>
                    <a:pt x="0" y="23610"/>
                  </a:lnTo>
                  <a:arcTo wR="3600" hR="3600" stAng="10800000" swAng="-5400000"/>
                  <a:lnTo>
                    <a:pt x="18000" y="2721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ff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6" name=""/>
            <p:cNvSpPr/>
            <p:nvPr/>
          </p:nvSpPr>
          <p:spPr>
            <a:xfrm>
              <a:off x="988920" y="4886280"/>
              <a:ext cx="441360" cy="436680"/>
            </a:xfrm>
            <a:prstGeom prst="ellipse">
              <a:avLst/>
            </a:prstGeom>
            <a:solidFill>
              <a:srgbClr val="ff99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7" name=""/>
            <p:cNvSpPr/>
            <p:nvPr/>
          </p:nvSpPr>
          <p:spPr>
            <a:xfrm>
              <a:off x="771480" y="5330880"/>
              <a:ext cx="1171800" cy="79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8" name=""/>
            <p:cNvSpPr/>
            <p:nvPr/>
          </p:nvSpPr>
          <p:spPr>
            <a:xfrm>
              <a:off x="720720" y="4408560"/>
              <a:ext cx="1119240" cy="506520"/>
            </a:xfrm>
            <a:custGeom>
              <a:avLst/>
              <a:gdLst/>
              <a:ahLst/>
              <a:rect l="l" t="t" r="r" b="b"/>
              <a:pathLst>
                <a:path w="760" h="347">
                  <a:moveTo>
                    <a:pt x="0" y="319"/>
                  </a:moveTo>
                  <a:cubicBezTo>
                    <a:pt x="107" y="315"/>
                    <a:pt x="520" y="347"/>
                    <a:pt x="640" y="294"/>
                  </a:cubicBezTo>
                  <a:cubicBezTo>
                    <a:pt x="760" y="241"/>
                    <a:pt x="716" y="98"/>
                    <a:pt x="722" y="0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9" name=""/>
            <p:cNvSpPr/>
            <p:nvPr/>
          </p:nvSpPr>
          <p:spPr>
            <a:xfrm>
              <a:off x="1937160" y="5096880"/>
              <a:ext cx="653040" cy="48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Na</a:t>
              </a:r>
              <a:r>
                <a:rPr b="1" lang="cs-CZ" sz="2400" spc="-1" strike="noStrike" baseline="50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0" name=""/>
            <p:cNvSpPr/>
            <p:nvPr/>
          </p:nvSpPr>
          <p:spPr>
            <a:xfrm>
              <a:off x="3103560" y="4881600"/>
              <a:ext cx="442800" cy="436680"/>
            </a:xfrm>
            <a:prstGeom prst="ellipse">
              <a:avLst/>
            </a:prstGeom>
            <a:solidFill>
              <a:srgbClr val="ff33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1" name=""/>
            <p:cNvSpPr/>
            <p:nvPr/>
          </p:nvSpPr>
          <p:spPr>
            <a:xfrm>
              <a:off x="2546280" y="5324400"/>
              <a:ext cx="12366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2" name=""/>
            <p:cNvSpPr/>
            <p:nvPr/>
          </p:nvSpPr>
          <p:spPr>
            <a:xfrm>
              <a:off x="2322000" y="4503240"/>
              <a:ext cx="57384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1" lang="cs-CZ" sz="2800" spc="-1" strike="noStrike" baseline="50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3" name=""/>
            <p:cNvSpPr/>
            <p:nvPr/>
          </p:nvSpPr>
          <p:spPr>
            <a:xfrm>
              <a:off x="2496960" y="4044960"/>
              <a:ext cx="1335240" cy="547560"/>
            </a:xfrm>
            <a:custGeom>
              <a:avLst/>
              <a:gdLst/>
              <a:ahLst/>
              <a:rect l="l" t="t" r="r" b="b"/>
              <a:pathLst>
                <a:path w="1098" h="475">
                  <a:moveTo>
                    <a:pt x="1098" y="35"/>
                  </a:moveTo>
                  <a:cubicBezTo>
                    <a:pt x="943" y="40"/>
                    <a:pt x="352" y="0"/>
                    <a:pt x="176" y="73"/>
                  </a:cubicBezTo>
                  <a:cubicBezTo>
                    <a:pt x="0" y="146"/>
                    <a:pt x="56" y="357"/>
                    <a:pt x="44" y="475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4" name=""/>
            <p:cNvSpPr/>
            <p:nvPr/>
          </p:nvSpPr>
          <p:spPr>
            <a:xfrm rot="5475000">
              <a:off x="3158280" y="3798720"/>
              <a:ext cx="314640" cy="561960"/>
            </a:xfrm>
            <a:prstGeom prst="can">
              <a:avLst>
                <a:gd name="adj" fmla="val 20379"/>
              </a:avLst>
            </a:prstGeom>
            <a:solidFill>
              <a:srgbClr val="66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5" name=""/>
            <p:cNvSpPr/>
            <p:nvPr/>
          </p:nvSpPr>
          <p:spPr>
            <a:xfrm>
              <a:off x="3495600" y="4089240"/>
              <a:ext cx="103320" cy="1800"/>
            </a:xfrm>
            <a:custGeom>
              <a:avLst/>
              <a:gdLst/>
              <a:ahLst/>
              <a:rect l="l" t="t" r="r" b="b"/>
              <a:pathLst>
                <a:path w="70" h="1">
                  <a:moveTo>
                    <a:pt x="0" y="0"/>
                  </a:moveTo>
                  <a:lnTo>
                    <a:pt x="70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6" name=""/>
            <p:cNvSpPr/>
            <p:nvPr/>
          </p:nvSpPr>
          <p:spPr>
            <a:xfrm>
              <a:off x="2766960" y="4259160"/>
              <a:ext cx="1270080" cy="663840"/>
            </a:xfrm>
            <a:custGeom>
              <a:avLst/>
              <a:gdLst/>
              <a:ahLst/>
              <a:rect l="l" t="t" r="r" b="b"/>
              <a:pathLst>
                <a:path w="800" h="418">
                  <a:moveTo>
                    <a:pt x="0" y="388"/>
                  </a:moveTo>
                  <a:cubicBezTo>
                    <a:pt x="113" y="383"/>
                    <a:pt x="544" y="418"/>
                    <a:pt x="672" y="353"/>
                  </a:cubicBezTo>
                  <a:cubicBezTo>
                    <a:pt x="800" y="288"/>
                    <a:pt x="773" y="174"/>
                    <a:pt x="767" y="0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7" name=""/>
            <p:cNvSpPr/>
            <p:nvPr/>
          </p:nvSpPr>
          <p:spPr>
            <a:xfrm>
              <a:off x="3778920" y="3902040"/>
              <a:ext cx="43524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8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1" lang="cs-CZ" sz="1800" spc="-1" strike="noStrike" baseline="50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8" name=""/>
            <p:cNvSpPr/>
            <p:nvPr/>
          </p:nvSpPr>
          <p:spPr>
            <a:xfrm>
              <a:off x="1642680" y="4115520"/>
              <a:ext cx="320760" cy="25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0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1" lang="cs-CZ" sz="1000" spc="-1" strike="noStrike" baseline="50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9" name=""/>
            <p:cNvSpPr/>
            <p:nvPr/>
          </p:nvSpPr>
          <p:spPr>
            <a:xfrm>
              <a:off x="1751040" y="3602160"/>
              <a:ext cx="458640" cy="473040"/>
            </a:xfrm>
            <a:custGeom>
              <a:avLst/>
              <a:gdLst/>
              <a:ahLst/>
              <a:rect l="l" t="t" r="r" b="b"/>
              <a:pathLst>
                <a:path w="312" h="324">
                  <a:moveTo>
                    <a:pt x="12" y="324"/>
                  </a:moveTo>
                  <a:cubicBezTo>
                    <a:pt x="18" y="279"/>
                    <a:pt x="0" y="102"/>
                    <a:pt x="50" y="51"/>
                  </a:cubicBezTo>
                  <a:cubicBezTo>
                    <a:pt x="100" y="0"/>
                    <a:pt x="149" y="18"/>
                    <a:pt x="312" y="18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0" name=""/>
            <p:cNvSpPr/>
            <p:nvPr/>
          </p:nvSpPr>
          <p:spPr>
            <a:xfrm>
              <a:off x="2135880" y="3451680"/>
              <a:ext cx="1197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1400" spc="-1" strike="noStrike">
                  <a:solidFill>
                    <a:srgbClr val="000000"/>
                  </a:solidFill>
                  <a:latin typeface="Times New Roman"/>
                </a:rPr>
                <a:t>metabolismu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1" name=""/>
            <p:cNvSpPr/>
            <p:nvPr/>
          </p:nvSpPr>
          <p:spPr>
            <a:xfrm>
              <a:off x="331200" y="4755240"/>
              <a:ext cx="307440" cy="24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9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1" lang="cs-CZ" sz="900" spc="-1" strike="noStrike" baseline="50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2" name=""/>
            <p:cNvSpPr/>
            <p:nvPr/>
          </p:nvSpPr>
          <p:spPr>
            <a:xfrm>
              <a:off x="1577880" y="977760"/>
              <a:ext cx="822600" cy="1158840"/>
            </a:xfrm>
            <a:custGeom>
              <a:avLst/>
              <a:gdLst>
                <a:gd name="textAreaLeft" fmla="*/ 39960 w 822600"/>
                <a:gd name="textAreaRight" fmla="*/ 782640 w 822600"/>
                <a:gd name="textAreaTop" fmla="*/ 39960 h 1158840"/>
                <a:gd name="textAreaBottom" fmla="*/ 1118880 h 1158840"/>
              </a:gdLst>
              <a:ahLst/>
              <a:rect l="textAreaLeft" t="textAreaTop" r="textAreaRight" b="textAreaBottom"/>
              <a:pathLst>
                <a:path w="21600" h="30425">
                  <a:moveTo>
                    <a:pt x="3600" y="0"/>
                  </a:moveTo>
                  <a:arcTo wR="3600" hR="3600" stAng="16200000" swAng="-5400000"/>
                  <a:lnTo>
                    <a:pt x="0" y="26825"/>
                  </a:lnTo>
                  <a:arcTo wR="3600" hR="3600" stAng="10800000" swAng="-5400000"/>
                  <a:lnTo>
                    <a:pt x="18000" y="3042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66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3" name=""/>
            <p:cNvSpPr/>
            <p:nvPr/>
          </p:nvSpPr>
          <p:spPr>
            <a:xfrm>
              <a:off x="2573280" y="1651680"/>
              <a:ext cx="51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1" lang="cs-CZ" sz="2000" spc="-1" strike="noStrike" baseline="30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4" name=""/>
            <p:cNvSpPr/>
            <p:nvPr/>
          </p:nvSpPr>
          <p:spPr>
            <a:xfrm>
              <a:off x="2576520" y="1270800"/>
              <a:ext cx="51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1" lang="cs-CZ" sz="2000" spc="-1" strike="noStrike" baseline="30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5" name=""/>
            <p:cNvSpPr/>
            <p:nvPr/>
          </p:nvSpPr>
          <p:spPr>
            <a:xfrm flipH="1">
              <a:off x="2130120" y="1504800"/>
              <a:ext cx="51444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6" name=""/>
            <p:cNvSpPr/>
            <p:nvPr/>
          </p:nvSpPr>
          <p:spPr>
            <a:xfrm flipV="1">
              <a:off x="2193840" y="1834920"/>
              <a:ext cx="417600" cy="6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7" name=""/>
            <p:cNvSpPr/>
            <p:nvPr/>
          </p:nvSpPr>
          <p:spPr>
            <a:xfrm>
              <a:off x="1738440" y="1639080"/>
              <a:ext cx="51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1" lang="cs-CZ" sz="2000" spc="-1" strike="noStrike" baseline="30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8" name=""/>
            <p:cNvSpPr/>
            <p:nvPr/>
          </p:nvSpPr>
          <p:spPr>
            <a:xfrm>
              <a:off x="1708200" y="1305720"/>
              <a:ext cx="51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1" lang="cs-CZ" sz="2000" spc="-1" strike="noStrike" baseline="30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9" name=""/>
            <p:cNvSpPr/>
            <p:nvPr/>
          </p:nvSpPr>
          <p:spPr>
            <a:xfrm flipV="1">
              <a:off x="1739880" y="1395000"/>
              <a:ext cx="0" cy="18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0" name=""/>
            <p:cNvSpPr/>
            <p:nvPr/>
          </p:nvSpPr>
          <p:spPr>
            <a:xfrm flipV="1">
              <a:off x="1735200" y="1746360"/>
              <a:ext cx="0" cy="180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1" name=""/>
            <p:cNvSpPr/>
            <p:nvPr/>
          </p:nvSpPr>
          <p:spPr>
            <a:xfrm flipV="1">
              <a:off x="3021120" y="1758600"/>
              <a:ext cx="0" cy="18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2" name=""/>
            <p:cNvSpPr/>
            <p:nvPr/>
          </p:nvSpPr>
          <p:spPr>
            <a:xfrm>
              <a:off x="1675080" y="442440"/>
              <a:ext cx="1946880" cy="53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14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1" i="1" lang="cs-CZ" sz="1400" spc="-1" strike="noStrike" baseline="50000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i="1" lang="cs-CZ" sz="1400" spc="-1" strike="noStrike">
                  <a:solidFill>
                    <a:srgbClr val="000000"/>
                  </a:solidFill>
                  <a:latin typeface="Times New Roman"/>
                </a:rPr>
                <a:t>/K</a:t>
              </a:r>
              <a:r>
                <a:rPr b="1" i="1" lang="cs-CZ" sz="1400" spc="-1" strike="noStrike" baseline="50000">
                  <a:solidFill>
                    <a:srgbClr val="000000"/>
                  </a:solidFill>
                  <a:latin typeface="Times New Roman"/>
                </a:rPr>
                <a:t>+ </a:t>
              </a:r>
              <a:r>
                <a:rPr b="1" i="1" lang="cs-CZ" sz="1400" spc="-1" strike="noStrike">
                  <a:solidFill>
                    <a:srgbClr val="000000"/>
                  </a:solidFill>
                  <a:latin typeface="Times New Roman"/>
                </a:rPr>
                <a:t>a H</a:t>
              </a:r>
              <a:r>
                <a:rPr b="1" i="1" lang="cs-CZ" sz="1400" spc="-1" strike="noStrike" baseline="50000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i="1" lang="cs-CZ" sz="1400" spc="-1" strike="noStrike">
                  <a:solidFill>
                    <a:srgbClr val="000000"/>
                  </a:solidFill>
                  <a:latin typeface="Times New Roman"/>
                </a:rPr>
                <a:t>/Na</a:t>
              </a:r>
              <a:r>
                <a:rPr b="1" i="1" lang="cs-CZ" sz="1400" spc="-1" strike="noStrike" baseline="50000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i="1" lang="cs-CZ" sz="1400" spc="-1" strike="noStrike">
                  <a:solidFill>
                    <a:srgbClr val="000000"/>
                  </a:solidFill>
                  <a:latin typeface="Times New Roman"/>
                </a:rPr>
                <a:t> výměna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1400" spc="-1" strike="noStrike">
                  <a:solidFill>
                    <a:srgbClr val="000000"/>
                  </a:solidFill>
                  <a:latin typeface="Times New Roman"/>
                </a:rPr>
                <a:t>při alkalémi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3" name=""/>
            <p:cNvSpPr/>
            <p:nvPr/>
          </p:nvSpPr>
          <p:spPr>
            <a:xfrm>
              <a:off x="861840" y="6371280"/>
              <a:ext cx="2631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1400" spc="-1" strike="noStrike">
                  <a:solidFill>
                    <a:srgbClr val="000000"/>
                  </a:solidFill>
                  <a:latin typeface="Times New Roman"/>
                </a:rPr>
                <a:t>a) alkalémie bez deficitu draslík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4" name=""/>
            <p:cNvSpPr/>
            <p:nvPr/>
          </p:nvSpPr>
          <p:spPr>
            <a:xfrm>
              <a:off x="2330280" y="5384880"/>
              <a:ext cx="917640" cy="315720"/>
            </a:xfrm>
            <a:custGeom>
              <a:avLst/>
              <a:gdLst/>
              <a:ahLst/>
              <a:rect l="l" t="t" r="r" b="b"/>
              <a:pathLst>
                <a:path w="578" h="199">
                  <a:moveTo>
                    <a:pt x="0" y="180"/>
                  </a:moveTo>
                  <a:cubicBezTo>
                    <a:pt x="64" y="179"/>
                    <a:pt x="286" y="199"/>
                    <a:pt x="382" y="169"/>
                  </a:cubicBezTo>
                  <a:cubicBezTo>
                    <a:pt x="478" y="139"/>
                    <a:pt x="537" y="35"/>
                    <a:pt x="578" y="0"/>
                  </a:cubicBezTo>
                </a:path>
              </a:pathLst>
            </a:custGeom>
            <a:noFill/>
            <a:ln cap="rnd" w="19080">
              <a:solidFill>
                <a:srgbClr val="000000"/>
              </a:solidFill>
              <a:custDash>
                <a:ds d="100000" sp="1000"/>
              </a:custDash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5" name=""/>
            <p:cNvSpPr/>
            <p:nvPr/>
          </p:nvSpPr>
          <p:spPr>
            <a:xfrm>
              <a:off x="2292480" y="4913280"/>
              <a:ext cx="798480" cy="231840"/>
            </a:xfrm>
            <a:custGeom>
              <a:avLst/>
              <a:gdLst/>
              <a:ahLst/>
              <a:rect l="l" t="t" r="r" b="b"/>
              <a:pathLst>
                <a:path w="503" h="146">
                  <a:moveTo>
                    <a:pt x="503" y="110"/>
                  </a:moveTo>
                  <a:cubicBezTo>
                    <a:pt x="447" y="113"/>
                    <a:pt x="250" y="146"/>
                    <a:pt x="166" y="128"/>
                  </a:cubicBezTo>
                  <a:cubicBezTo>
                    <a:pt x="82" y="110"/>
                    <a:pt x="35" y="27"/>
                    <a:pt x="0" y="0"/>
                  </a:cubicBezTo>
                </a:path>
              </a:pathLst>
            </a:custGeom>
            <a:noFill/>
            <a:ln cap="rnd" w="19080">
              <a:solidFill>
                <a:srgbClr val="000000"/>
              </a:solidFill>
              <a:custDash>
                <a:ds d="100000" sp="1000"/>
              </a:custDash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146" name=""/>
            <p:cNvGrpSpPr/>
            <p:nvPr/>
          </p:nvGrpSpPr>
          <p:grpSpPr>
            <a:xfrm>
              <a:off x="1063800" y="4984920"/>
              <a:ext cx="258480" cy="260280"/>
              <a:chOff x="1063800" y="4984920"/>
              <a:chExt cx="258480" cy="260280"/>
            </a:xfrm>
          </p:grpSpPr>
          <p:sp>
            <p:nvSpPr>
              <p:cNvPr id="10147" name=""/>
              <p:cNvSpPr/>
              <p:nvPr/>
            </p:nvSpPr>
            <p:spPr>
              <a:xfrm>
                <a:off x="1063800" y="4984920"/>
                <a:ext cx="258480" cy="260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8" name=""/>
              <p:cNvSpPr/>
              <p:nvPr/>
            </p:nvSpPr>
            <p:spPr>
              <a:xfrm>
                <a:off x="1191960" y="5027760"/>
                <a:ext cx="9360" cy="190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149" name=""/>
            <p:cNvSpPr/>
            <p:nvPr/>
          </p:nvSpPr>
          <p:spPr>
            <a:xfrm>
              <a:off x="422280" y="4992840"/>
              <a:ext cx="547560" cy="183960"/>
            </a:xfrm>
            <a:custGeom>
              <a:avLst/>
              <a:gdLst/>
              <a:ahLst/>
              <a:rect l="l" t="t" r="r" b="b"/>
              <a:pathLst>
                <a:path w="345" h="116">
                  <a:moveTo>
                    <a:pt x="0" y="0"/>
                  </a:moveTo>
                  <a:cubicBezTo>
                    <a:pt x="4" y="14"/>
                    <a:pt x="0" y="66"/>
                    <a:pt x="24" y="83"/>
                  </a:cubicBezTo>
                  <a:cubicBezTo>
                    <a:pt x="36" y="96"/>
                    <a:pt x="95" y="101"/>
                    <a:pt x="144" y="105"/>
                  </a:cubicBezTo>
                  <a:cubicBezTo>
                    <a:pt x="197" y="110"/>
                    <a:pt x="303" y="114"/>
                    <a:pt x="345" y="116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150" name=""/>
            <p:cNvGrpSpPr/>
            <p:nvPr/>
          </p:nvGrpSpPr>
          <p:grpSpPr>
            <a:xfrm>
              <a:off x="112680" y="4770360"/>
              <a:ext cx="258840" cy="260280"/>
              <a:chOff x="112680" y="4770360"/>
              <a:chExt cx="258840" cy="260280"/>
            </a:xfrm>
          </p:grpSpPr>
          <p:sp>
            <p:nvSpPr>
              <p:cNvPr id="10151" name=""/>
              <p:cNvSpPr/>
              <p:nvPr/>
            </p:nvSpPr>
            <p:spPr>
              <a:xfrm>
                <a:off x="112680" y="4770360"/>
                <a:ext cx="258840" cy="260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2" name=""/>
              <p:cNvSpPr/>
              <p:nvPr/>
            </p:nvSpPr>
            <p:spPr>
              <a:xfrm>
                <a:off x="241200" y="4813200"/>
                <a:ext cx="9360" cy="190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53" name=""/>
            <p:cNvGrpSpPr/>
            <p:nvPr/>
          </p:nvGrpSpPr>
          <p:grpSpPr>
            <a:xfrm>
              <a:off x="2057400" y="5483160"/>
              <a:ext cx="258840" cy="260280"/>
              <a:chOff x="2057400" y="5483160"/>
              <a:chExt cx="258840" cy="260280"/>
            </a:xfrm>
          </p:grpSpPr>
          <p:sp>
            <p:nvSpPr>
              <p:cNvPr id="10154" name=""/>
              <p:cNvSpPr/>
              <p:nvPr/>
            </p:nvSpPr>
            <p:spPr>
              <a:xfrm>
                <a:off x="2057400" y="5483160"/>
                <a:ext cx="258840" cy="260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5" name=""/>
              <p:cNvSpPr/>
              <p:nvPr/>
            </p:nvSpPr>
            <p:spPr>
              <a:xfrm>
                <a:off x="2185920" y="5526000"/>
                <a:ext cx="9720" cy="190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156" name=""/>
            <p:cNvSpPr/>
            <p:nvPr/>
          </p:nvSpPr>
          <p:spPr>
            <a:xfrm>
              <a:off x="3174840" y="4973760"/>
              <a:ext cx="258840" cy="260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7" name=""/>
            <p:cNvSpPr/>
            <p:nvPr/>
          </p:nvSpPr>
          <p:spPr>
            <a:xfrm>
              <a:off x="3298680" y="5016600"/>
              <a:ext cx="9720" cy="190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158" name=""/>
            <p:cNvGrpSpPr/>
            <p:nvPr/>
          </p:nvGrpSpPr>
          <p:grpSpPr>
            <a:xfrm>
              <a:off x="2143080" y="4653000"/>
              <a:ext cx="258840" cy="260280"/>
              <a:chOff x="2143080" y="4653000"/>
              <a:chExt cx="258840" cy="260280"/>
            </a:xfrm>
          </p:grpSpPr>
          <p:sp>
            <p:nvSpPr>
              <p:cNvPr id="10159" name=""/>
              <p:cNvSpPr/>
              <p:nvPr/>
            </p:nvSpPr>
            <p:spPr>
              <a:xfrm>
                <a:off x="2143080" y="4653000"/>
                <a:ext cx="258840" cy="260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0" name=""/>
              <p:cNvSpPr/>
              <p:nvPr/>
            </p:nvSpPr>
            <p:spPr>
              <a:xfrm>
                <a:off x="2271600" y="4695840"/>
                <a:ext cx="9720" cy="190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61" name=""/>
            <p:cNvGrpSpPr/>
            <p:nvPr/>
          </p:nvGrpSpPr>
          <p:grpSpPr>
            <a:xfrm>
              <a:off x="1424160" y="4168800"/>
              <a:ext cx="258480" cy="260280"/>
              <a:chOff x="1424160" y="4168800"/>
              <a:chExt cx="258480" cy="260280"/>
            </a:xfrm>
          </p:grpSpPr>
          <p:sp>
            <p:nvSpPr>
              <p:cNvPr id="10162" name=""/>
              <p:cNvSpPr/>
              <p:nvPr/>
            </p:nvSpPr>
            <p:spPr>
              <a:xfrm>
                <a:off x="1424160" y="4168800"/>
                <a:ext cx="258480" cy="260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3" name=""/>
              <p:cNvSpPr/>
              <p:nvPr/>
            </p:nvSpPr>
            <p:spPr>
              <a:xfrm>
                <a:off x="1552320" y="4211640"/>
                <a:ext cx="9000" cy="190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164" name=""/>
            <p:cNvSpPr/>
            <p:nvPr/>
          </p:nvSpPr>
          <p:spPr>
            <a:xfrm>
              <a:off x="1225440" y="4457880"/>
              <a:ext cx="351000" cy="496800"/>
            </a:xfrm>
            <a:custGeom>
              <a:avLst/>
              <a:gdLst/>
              <a:ahLst/>
              <a:rect l="l" t="t" r="r" b="b"/>
              <a:pathLst>
                <a:path w="221" h="313">
                  <a:moveTo>
                    <a:pt x="0" y="313"/>
                  </a:moveTo>
                  <a:cubicBezTo>
                    <a:pt x="6" y="290"/>
                    <a:pt x="13" y="200"/>
                    <a:pt x="36" y="174"/>
                  </a:cubicBezTo>
                  <a:cubicBezTo>
                    <a:pt x="67" y="126"/>
                    <a:pt x="107" y="164"/>
                    <a:pt x="139" y="159"/>
                  </a:cubicBezTo>
                  <a:cubicBezTo>
                    <a:pt x="168" y="155"/>
                    <a:pt x="199" y="174"/>
                    <a:pt x="210" y="148"/>
                  </a:cubicBezTo>
                  <a:cubicBezTo>
                    <a:pt x="221" y="122"/>
                    <a:pt x="206" y="31"/>
                    <a:pt x="205" y="0"/>
                  </a:cubicBezTo>
                </a:path>
              </a:pathLst>
            </a:custGeom>
            <a:noFill/>
            <a:ln cap="rnd" w="19080">
              <a:solidFill>
                <a:srgbClr val="000000"/>
              </a:solidFill>
              <a:custDash>
                <a:ds d="100000" sp="1000"/>
              </a:custDash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5" name=""/>
            <p:cNvSpPr/>
            <p:nvPr/>
          </p:nvSpPr>
          <p:spPr>
            <a:xfrm>
              <a:off x="1204920" y="5367240"/>
              <a:ext cx="839880" cy="324000"/>
            </a:xfrm>
            <a:custGeom>
              <a:avLst/>
              <a:gdLst/>
              <a:ahLst/>
              <a:rect l="l" t="t" r="r" b="b"/>
              <a:pathLst>
                <a:path w="529" h="204">
                  <a:moveTo>
                    <a:pt x="0" y="0"/>
                  </a:moveTo>
                  <a:cubicBezTo>
                    <a:pt x="16" y="22"/>
                    <a:pt x="51" y="98"/>
                    <a:pt x="98" y="131"/>
                  </a:cubicBezTo>
                  <a:cubicBezTo>
                    <a:pt x="145" y="164"/>
                    <a:pt x="211" y="188"/>
                    <a:pt x="283" y="196"/>
                  </a:cubicBezTo>
                  <a:cubicBezTo>
                    <a:pt x="355" y="204"/>
                    <a:pt x="478" y="183"/>
                    <a:pt x="529" y="180"/>
                  </a:cubicBezTo>
                </a:path>
              </a:pathLst>
            </a:custGeom>
            <a:noFill/>
            <a:ln cap="rnd" w="19080">
              <a:solidFill>
                <a:srgbClr val="000000"/>
              </a:solidFill>
              <a:custDash>
                <a:ds d="100000" sp="1000"/>
              </a:custDash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6" name=""/>
            <p:cNvSpPr/>
            <p:nvPr/>
          </p:nvSpPr>
          <p:spPr>
            <a:xfrm>
              <a:off x="465120" y="494280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1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7" name=""/>
            <p:cNvSpPr/>
            <p:nvPr/>
          </p:nvSpPr>
          <p:spPr>
            <a:xfrm>
              <a:off x="1272960" y="446328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1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8" name=""/>
            <p:cNvSpPr/>
            <p:nvPr/>
          </p:nvSpPr>
          <p:spPr>
            <a:xfrm>
              <a:off x="1611000" y="546660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1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9" name=""/>
            <p:cNvSpPr/>
            <p:nvPr/>
          </p:nvSpPr>
          <p:spPr>
            <a:xfrm>
              <a:off x="2724120" y="543816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1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0" name=""/>
            <p:cNvSpPr/>
            <p:nvPr/>
          </p:nvSpPr>
          <p:spPr>
            <a:xfrm>
              <a:off x="2523960" y="49046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1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171" name=""/>
            <p:cNvGrpSpPr/>
            <p:nvPr/>
          </p:nvGrpSpPr>
          <p:grpSpPr>
            <a:xfrm>
              <a:off x="3024360" y="1360440"/>
              <a:ext cx="258480" cy="260280"/>
              <a:chOff x="3024360" y="1360440"/>
              <a:chExt cx="258480" cy="260280"/>
            </a:xfrm>
          </p:grpSpPr>
          <p:sp>
            <p:nvSpPr>
              <p:cNvPr id="10172" name=""/>
              <p:cNvSpPr/>
              <p:nvPr/>
            </p:nvSpPr>
            <p:spPr>
              <a:xfrm>
                <a:off x="3024360" y="1360440"/>
                <a:ext cx="258480" cy="260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3" name=""/>
              <p:cNvSpPr/>
              <p:nvPr/>
            </p:nvSpPr>
            <p:spPr>
              <a:xfrm>
                <a:off x="3152520" y="1403280"/>
                <a:ext cx="9000" cy="190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74" name=""/>
            <p:cNvGrpSpPr/>
            <p:nvPr/>
          </p:nvGrpSpPr>
          <p:grpSpPr>
            <a:xfrm>
              <a:off x="4118040" y="4005360"/>
              <a:ext cx="258840" cy="260280"/>
              <a:chOff x="4118040" y="4005360"/>
              <a:chExt cx="258840" cy="260280"/>
            </a:xfrm>
          </p:grpSpPr>
          <p:sp>
            <p:nvSpPr>
              <p:cNvPr id="10175" name=""/>
              <p:cNvSpPr/>
              <p:nvPr/>
            </p:nvSpPr>
            <p:spPr>
              <a:xfrm>
                <a:off x="4118040" y="4005360"/>
                <a:ext cx="258840" cy="260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6" name=""/>
              <p:cNvSpPr/>
              <p:nvPr/>
            </p:nvSpPr>
            <p:spPr>
              <a:xfrm>
                <a:off x="4246560" y="4048200"/>
                <a:ext cx="9360" cy="190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177" name=""/>
            <p:cNvSpPr/>
            <p:nvPr/>
          </p:nvSpPr>
          <p:spPr>
            <a:xfrm>
              <a:off x="3556080" y="4325760"/>
              <a:ext cx="722160" cy="873360"/>
            </a:xfrm>
            <a:custGeom>
              <a:avLst/>
              <a:gdLst/>
              <a:ahLst/>
              <a:rect l="l" t="t" r="r" b="b"/>
              <a:pathLst>
                <a:path w="455" h="550">
                  <a:moveTo>
                    <a:pt x="0" y="513"/>
                  </a:moveTo>
                  <a:cubicBezTo>
                    <a:pt x="64" y="505"/>
                    <a:pt x="313" y="550"/>
                    <a:pt x="384" y="465"/>
                  </a:cubicBezTo>
                  <a:cubicBezTo>
                    <a:pt x="455" y="380"/>
                    <a:pt x="416" y="97"/>
                    <a:pt x="424" y="0"/>
                  </a:cubicBezTo>
                </a:path>
              </a:pathLst>
            </a:custGeom>
            <a:noFill/>
            <a:ln cap="rnd" w="19080">
              <a:solidFill>
                <a:srgbClr val="000000"/>
              </a:solidFill>
              <a:custDash>
                <a:ds d="100000" sp="1000"/>
              </a:custDash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8" name=""/>
            <p:cNvSpPr/>
            <p:nvPr/>
          </p:nvSpPr>
          <p:spPr>
            <a:xfrm>
              <a:off x="3889080" y="490140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1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9" name=""/>
            <p:cNvSpPr/>
            <p:nvPr/>
          </p:nvSpPr>
          <p:spPr>
            <a:xfrm>
              <a:off x="4948560" y="4676400"/>
              <a:ext cx="3499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2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1" lang="cs-CZ" sz="1200" spc="-1" strike="noStrike" baseline="50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0" name=""/>
            <p:cNvSpPr/>
            <p:nvPr/>
          </p:nvSpPr>
          <p:spPr>
            <a:xfrm>
              <a:off x="5727600" y="3147840"/>
              <a:ext cx="2095560" cy="2640240"/>
            </a:xfrm>
            <a:custGeom>
              <a:avLst/>
              <a:gdLst>
                <a:gd name="textAreaLeft" fmla="*/ 102240 w 2095560"/>
                <a:gd name="textAreaRight" fmla="*/ 1993320 w 2095560"/>
                <a:gd name="textAreaTop" fmla="*/ 102240 h 2640240"/>
                <a:gd name="textAreaBottom" fmla="*/ 2538000 h 2640240"/>
              </a:gdLst>
              <a:ahLst/>
              <a:rect l="textAreaLeft" t="textAreaTop" r="textAreaRight" b="textAreaBottom"/>
              <a:pathLst>
                <a:path w="21600" h="27213">
                  <a:moveTo>
                    <a:pt x="3600" y="0"/>
                  </a:moveTo>
                  <a:arcTo wR="3600" hR="3600" stAng="16200000" swAng="-5400000"/>
                  <a:lnTo>
                    <a:pt x="0" y="23613"/>
                  </a:lnTo>
                  <a:arcTo wR="3600" hR="3600" stAng="10800000" swAng="-5400000"/>
                  <a:lnTo>
                    <a:pt x="18000" y="2721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ff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1" name=""/>
            <p:cNvSpPr/>
            <p:nvPr/>
          </p:nvSpPr>
          <p:spPr>
            <a:xfrm>
              <a:off x="5516640" y="4824360"/>
              <a:ext cx="441360" cy="436680"/>
            </a:xfrm>
            <a:prstGeom prst="ellipse">
              <a:avLst/>
            </a:prstGeom>
            <a:solidFill>
              <a:srgbClr val="ff99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2" name=""/>
            <p:cNvSpPr/>
            <p:nvPr/>
          </p:nvSpPr>
          <p:spPr>
            <a:xfrm>
              <a:off x="5299200" y="5278320"/>
              <a:ext cx="1171440" cy="7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3" name=""/>
            <p:cNvSpPr/>
            <p:nvPr/>
          </p:nvSpPr>
          <p:spPr>
            <a:xfrm>
              <a:off x="5248440" y="4356000"/>
              <a:ext cx="1118880" cy="506520"/>
            </a:xfrm>
            <a:custGeom>
              <a:avLst/>
              <a:gdLst/>
              <a:ahLst/>
              <a:rect l="l" t="t" r="r" b="b"/>
              <a:pathLst>
                <a:path w="760" h="347">
                  <a:moveTo>
                    <a:pt x="0" y="319"/>
                  </a:moveTo>
                  <a:cubicBezTo>
                    <a:pt x="107" y="315"/>
                    <a:pt x="520" y="347"/>
                    <a:pt x="640" y="294"/>
                  </a:cubicBezTo>
                  <a:cubicBezTo>
                    <a:pt x="760" y="241"/>
                    <a:pt x="716" y="98"/>
                    <a:pt x="722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4" name=""/>
            <p:cNvSpPr/>
            <p:nvPr/>
          </p:nvSpPr>
          <p:spPr>
            <a:xfrm>
              <a:off x="6409080" y="5044320"/>
              <a:ext cx="653040" cy="48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Na</a:t>
              </a:r>
              <a:r>
                <a:rPr b="1" lang="cs-CZ" sz="2400" spc="-1" strike="noStrike" baseline="50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5" name=""/>
            <p:cNvSpPr/>
            <p:nvPr/>
          </p:nvSpPr>
          <p:spPr>
            <a:xfrm>
              <a:off x="7572240" y="4829040"/>
              <a:ext cx="441360" cy="436680"/>
            </a:xfrm>
            <a:prstGeom prst="ellipse">
              <a:avLst/>
            </a:prstGeom>
            <a:solidFill>
              <a:srgbClr val="ff33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6" name=""/>
            <p:cNvSpPr/>
            <p:nvPr/>
          </p:nvSpPr>
          <p:spPr>
            <a:xfrm>
              <a:off x="7056360" y="5280120"/>
              <a:ext cx="1236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7" name=""/>
            <p:cNvSpPr/>
            <p:nvPr/>
          </p:nvSpPr>
          <p:spPr>
            <a:xfrm>
              <a:off x="6913080" y="4637160"/>
              <a:ext cx="462600" cy="4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1" lang="cs-CZ" sz="2000" spc="-1" strike="noStrike" baseline="50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8" name=""/>
            <p:cNvSpPr/>
            <p:nvPr/>
          </p:nvSpPr>
          <p:spPr>
            <a:xfrm>
              <a:off x="7024680" y="3992400"/>
              <a:ext cx="1335240" cy="632160"/>
            </a:xfrm>
            <a:custGeom>
              <a:avLst/>
              <a:gdLst/>
              <a:ahLst/>
              <a:rect l="l" t="t" r="r" b="b"/>
              <a:pathLst>
                <a:path w="1098" h="475">
                  <a:moveTo>
                    <a:pt x="1098" y="35"/>
                  </a:moveTo>
                  <a:cubicBezTo>
                    <a:pt x="943" y="40"/>
                    <a:pt x="352" y="0"/>
                    <a:pt x="176" y="73"/>
                  </a:cubicBezTo>
                  <a:cubicBezTo>
                    <a:pt x="0" y="146"/>
                    <a:pt x="56" y="357"/>
                    <a:pt x="44" y="475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9" name=""/>
            <p:cNvSpPr/>
            <p:nvPr/>
          </p:nvSpPr>
          <p:spPr>
            <a:xfrm rot="5475000">
              <a:off x="7686000" y="3746160"/>
              <a:ext cx="314280" cy="561960"/>
            </a:xfrm>
            <a:prstGeom prst="can">
              <a:avLst>
                <a:gd name="adj" fmla="val 20379"/>
              </a:avLst>
            </a:prstGeom>
            <a:solidFill>
              <a:srgbClr val="66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0" name=""/>
            <p:cNvSpPr/>
            <p:nvPr/>
          </p:nvSpPr>
          <p:spPr>
            <a:xfrm>
              <a:off x="8023320" y="4037040"/>
              <a:ext cx="102960" cy="1440"/>
            </a:xfrm>
            <a:custGeom>
              <a:avLst/>
              <a:gdLst/>
              <a:ahLst/>
              <a:rect l="l" t="t" r="r" b="b"/>
              <a:pathLst>
                <a:path w="70" h="1">
                  <a:moveTo>
                    <a:pt x="0" y="0"/>
                  </a:moveTo>
                  <a:lnTo>
                    <a:pt x="70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1" name=""/>
            <p:cNvSpPr/>
            <p:nvPr/>
          </p:nvSpPr>
          <p:spPr>
            <a:xfrm>
              <a:off x="7294680" y="4187880"/>
              <a:ext cx="1265040" cy="685800"/>
            </a:xfrm>
            <a:custGeom>
              <a:avLst/>
              <a:gdLst/>
              <a:ahLst/>
              <a:rect l="l" t="t" r="r" b="b"/>
              <a:pathLst>
                <a:path w="1094" h="471">
                  <a:moveTo>
                    <a:pt x="0" y="436"/>
                  </a:moveTo>
                  <a:cubicBezTo>
                    <a:pt x="155" y="431"/>
                    <a:pt x="750" y="471"/>
                    <a:pt x="922" y="398"/>
                  </a:cubicBezTo>
                  <a:cubicBezTo>
                    <a:pt x="1094" y="325"/>
                    <a:pt x="1024" y="92"/>
                    <a:pt x="1035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2" name=""/>
            <p:cNvSpPr/>
            <p:nvPr/>
          </p:nvSpPr>
          <p:spPr>
            <a:xfrm>
              <a:off x="8334000" y="3881160"/>
              <a:ext cx="378720" cy="32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1" lang="cs-CZ" sz="1400" spc="-1" strike="noStrike" baseline="50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3" name=""/>
            <p:cNvSpPr/>
            <p:nvPr/>
          </p:nvSpPr>
          <p:spPr>
            <a:xfrm>
              <a:off x="6073200" y="3949200"/>
              <a:ext cx="518760" cy="48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1" lang="cs-CZ" sz="2400" spc="-1" strike="noStrike" baseline="50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4" name=""/>
            <p:cNvSpPr/>
            <p:nvPr/>
          </p:nvSpPr>
          <p:spPr>
            <a:xfrm>
              <a:off x="6278400" y="3549600"/>
              <a:ext cx="459000" cy="473040"/>
            </a:xfrm>
            <a:custGeom>
              <a:avLst/>
              <a:gdLst/>
              <a:ahLst/>
              <a:rect l="l" t="t" r="r" b="b"/>
              <a:pathLst>
                <a:path w="312" h="324">
                  <a:moveTo>
                    <a:pt x="12" y="324"/>
                  </a:moveTo>
                  <a:cubicBezTo>
                    <a:pt x="18" y="279"/>
                    <a:pt x="0" y="102"/>
                    <a:pt x="50" y="51"/>
                  </a:cubicBezTo>
                  <a:cubicBezTo>
                    <a:pt x="100" y="0"/>
                    <a:pt x="149" y="18"/>
                    <a:pt x="312" y="18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5" name=""/>
            <p:cNvSpPr/>
            <p:nvPr/>
          </p:nvSpPr>
          <p:spPr>
            <a:xfrm>
              <a:off x="6663240" y="3399480"/>
              <a:ext cx="1197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1400" spc="-1" strike="noStrike">
                  <a:solidFill>
                    <a:srgbClr val="000000"/>
                  </a:solidFill>
                  <a:latin typeface="Times New Roman"/>
                </a:rPr>
                <a:t>metabolismu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6" name=""/>
            <p:cNvSpPr/>
            <p:nvPr/>
          </p:nvSpPr>
          <p:spPr>
            <a:xfrm>
              <a:off x="5862600" y="5479920"/>
              <a:ext cx="1252440" cy="952560"/>
            </a:xfrm>
            <a:custGeom>
              <a:avLst/>
              <a:gdLst/>
              <a:ahLst/>
              <a:rect l="l" t="t" r="r" b="b"/>
              <a:pathLst>
                <a:path w="789" h="600">
                  <a:moveTo>
                    <a:pt x="752" y="0"/>
                  </a:moveTo>
                  <a:cubicBezTo>
                    <a:pt x="741" y="81"/>
                    <a:pt x="789" y="389"/>
                    <a:pt x="692" y="486"/>
                  </a:cubicBezTo>
                  <a:cubicBezTo>
                    <a:pt x="595" y="583"/>
                    <a:pt x="284" y="600"/>
                    <a:pt x="169" y="584"/>
                  </a:cubicBezTo>
                  <a:cubicBezTo>
                    <a:pt x="54" y="568"/>
                    <a:pt x="35" y="433"/>
                    <a:pt x="0" y="393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7" name=""/>
            <p:cNvSpPr/>
            <p:nvPr/>
          </p:nvSpPr>
          <p:spPr>
            <a:xfrm>
              <a:off x="5124600" y="5738760"/>
              <a:ext cx="981000" cy="36216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200" spc="-1" strike="noStrike">
                  <a:solidFill>
                    <a:srgbClr val="000000"/>
                  </a:solidFill>
                  <a:latin typeface="Times New Roman"/>
                </a:rPr>
                <a:t>[Na</a:t>
              </a:r>
              <a:r>
                <a:rPr b="1" lang="cs-CZ" sz="1200" spc="-1" strike="noStrike" baseline="30000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lang="cs-CZ" sz="12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r>
                <a:rPr b="1" lang="cs-CZ" sz="1200" spc="-1" strike="noStrike" baseline="-25000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cs-CZ" sz="1200" spc="-1" strike="noStrike">
                  <a:solidFill>
                    <a:srgbClr val="000000"/>
                  </a:solidFill>
                  <a:latin typeface="Times New Roman"/>
                </a:rPr>
                <a:t>-[Na</a:t>
              </a:r>
              <a:r>
                <a:rPr b="1" lang="cs-CZ" sz="1200" spc="-1" strike="noStrike" baseline="30000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lang="cs-CZ" sz="12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r>
                <a:rPr b="1" lang="cs-CZ" sz="12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8" name=""/>
            <p:cNvSpPr/>
            <p:nvPr/>
          </p:nvSpPr>
          <p:spPr>
            <a:xfrm>
              <a:off x="5587920" y="5289480"/>
              <a:ext cx="74520" cy="449280"/>
            </a:xfrm>
            <a:custGeom>
              <a:avLst/>
              <a:gdLst/>
              <a:ahLst/>
              <a:rect l="l" t="t" r="r" b="b"/>
              <a:pathLst>
                <a:path w="27" h="261">
                  <a:moveTo>
                    <a:pt x="0" y="261"/>
                  </a:moveTo>
                  <a:lnTo>
                    <a:pt x="27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custDash>
                <a:ds d="100000" sp="1000"/>
              </a:custDash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9" name=""/>
            <p:cNvSpPr/>
            <p:nvPr/>
          </p:nvSpPr>
          <p:spPr>
            <a:xfrm>
              <a:off x="8475480" y="475848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1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0" name=""/>
            <p:cNvSpPr/>
            <p:nvPr/>
          </p:nvSpPr>
          <p:spPr>
            <a:xfrm>
              <a:off x="7186320" y="487908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1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1" name=""/>
            <p:cNvSpPr/>
            <p:nvPr/>
          </p:nvSpPr>
          <p:spPr>
            <a:xfrm>
              <a:off x="7273800" y="505080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1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2" name=""/>
            <p:cNvSpPr/>
            <p:nvPr/>
          </p:nvSpPr>
          <p:spPr>
            <a:xfrm>
              <a:off x="5851440" y="448560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1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3" name=""/>
            <p:cNvSpPr/>
            <p:nvPr/>
          </p:nvSpPr>
          <p:spPr>
            <a:xfrm>
              <a:off x="5354640" y="539352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1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204" name=""/>
            <p:cNvGrpSpPr/>
            <p:nvPr/>
          </p:nvGrpSpPr>
          <p:grpSpPr>
            <a:xfrm>
              <a:off x="8607600" y="3941640"/>
              <a:ext cx="258480" cy="260280"/>
              <a:chOff x="8607600" y="3941640"/>
              <a:chExt cx="258480" cy="260280"/>
            </a:xfrm>
          </p:grpSpPr>
          <p:sp>
            <p:nvSpPr>
              <p:cNvPr id="10205" name=""/>
              <p:cNvSpPr/>
              <p:nvPr/>
            </p:nvSpPr>
            <p:spPr>
              <a:xfrm>
                <a:off x="8607600" y="3941640"/>
                <a:ext cx="258480" cy="260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6" name=""/>
              <p:cNvSpPr/>
              <p:nvPr/>
            </p:nvSpPr>
            <p:spPr>
              <a:xfrm>
                <a:off x="8735760" y="3984480"/>
                <a:ext cx="9000" cy="190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207" name=""/>
            <p:cNvSpPr/>
            <p:nvPr/>
          </p:nvSpPr>
          <p:spPr>
            <a:xfrm>
              <a:off x="8001000" y="4235400"/>
              <a:ext cx="817560" cy="873000"/>
            </a:xfrm>
            <a:custGeom>
              <a:avLst/>
              <a:gdLst/>
              <a:ahLst/>
              <a:rect l="l" t="t" r="r" b="b"/>
              <a:pathLst>
                <a:path w="455" h="550">
                  <a:moveTo>
                    <a:pt x="0" y="513"/>
                  </a:moveTo>
                  <a:cubicBezTo>
                    <a:pt x="64" y="505"/>
                    <a:pt x="313" y="550"/>
                    <a:pt x="384" y="465"/>
                  </a:cubicBezTo>
                  <a:cubicBezTo>
                    <a:pt x="455" y="380"/>
                    <a:pt x="416" y="97"/>
                    <a:pt x="424" y="0"/>
                  </a:cubicBezTo>
                </a:path>
              </a:pathLst>
            </a:custGeom>
            <a:noFill/>
            <a:ln cap="rnd" w="19080">
              <a:solidFill>
                <a:srgbClr val="000000"/>
              </a:solidFill>
              <a:custDash>
                <a:ds d="100000" sp="1000"/>
              </a:custDash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8" name=""/>
            <p:cNvSpPr/>
            <p:nvPr/>
          </p:nvSpPr>
          <p:spPr>
            <a:xfrm>
              <a:off x="7658280" y="4915080"/>
              <a:ext cx="258480" cy="260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9" name=""/>
            <p:cNvSpPr/>
            <p:nvPr/>
          </p:nvSpPr>
          <p:spPr>
            <a:xfrm>
              <a:off x="7799400" y="4950000"/>
              <a:ext cx="9360" cy="190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210" name=""/>
            <p:cNvGrpSpPr/>
            <p:nvPr/>
          </p:nvGrpSpPr>
          <p:grpSpPr>
            <a:xfrm>
              <a:off x="6727680" y="4702320"/>
              <a:ext cx="258840" cy="260280"/>
              <a:chOff x="6727680" y="4702320"/>
              <a:chExt cx="258840" cy="260280"/>
            </a:xfrm>
          </p:grpSpPr>
          <p:sp>
            <p:nvSpPr>
              <p:cNvPr id="10211" name=""/>
              <p:cNvSpPr/>
              <p:nvPr/>
            </p:nvSpPr>
            <p:spPr>
              <a:xfrm>
                <a:off x="6727680" y="4702320"/>
                <a:ext cx="258840" cy="260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2" name=""/>
              <p:cNvSpPr/>
              <p:nvPr/>
            </p:nvSpPr>
            <p:spPr>
              <a:xfrm>
                <a:off x="6856200" y="4745160"/>
                <a:ext cx="9360" cy="190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213" name=""/>
            <p:cNvGrpSpPr/>
            <p:nvPr/>
          </p:nvGrpSpPr>
          <p:grpSpPr>
            <a:xfrm>
              <a:off x="4921200" y="5776920"/>
              <a:ext cx="258840" cy="260280"/>
              <a:chOff x="4921200" y="5776920"/>
              <a:chExt cx="258840" cy="260280"/>
            </a:xfrm>
          </p:grpSpPr>
          <p:sp>
            <p:nvSpPr>
              <p:cNvPr id="10214" name=""/>
              <p:cNvSpPr/>
              <p:nvPr/>
            </p:nvSpPr>
            <p:spPr>
              <a:xfrm>
                <a:off x="4921200" y="5776920"/>
                <a:ext cx="258840" cy="260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5" name=""/>
              <p:cNvSpPr/>
              <p:nvPr/>
            </p:nvSpPr>
            <p:spPr>
              <a:xfrm>
                <a:off x="5052960" y="5805360"/>
                <a:ext cx="0" cy="19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216" name=""/>
            <p:cNvSpPr/>
            <p:nvPr/>
          </p:nvSpPr>
          <p:spPr>
            <a:xfrm>
              <a:off x="6953400" y="4943520"/>
              <a:ext cx="606240" cy="136440"/>
            </a:xfrm>
            <a:custGeom>
              <a:avLst/>
              <a:gdLst/>
              <a:ahLst/>
              <a:rect l="l" t="t" r="r" b="b"/>
              <a:pathLst>
                <a:path w="382" h="86">
                  <a:moveTo>
                    <a:pt x="382" y="55"/>
                  </a:moveTo>
                  <a:cubicBezTo>
                    <a:pt x="344" y="59"/>
                    <a:pt x="217" y="86"/>
                    <a:pt x="153" y="77"/>
                  </a:cubicBezTo>
                  <a:cubicBezTo>
                    <a:pt x="89" y="68"/>
                    <a:pt x="32" y="16"/>
                    <a:pt x="0" y="0"/>
                  </a:cubicBezTo>
                </a:path>
              </a:pathLst>
            </a:custGeom>
            <a:noFill/>
            <a:ln cap="rnd" w="19080">
              <a:solidFill>
                <a:srgbClr val="000000"/>
              </a:solidFill>
              <a:custDash>
                <a:ds d="100000" sp="1000"/>
              </a:custDash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7" name=""/>
            <p:cNvSpPr/>
            <p:nvPr/>
          </p:nvSpPr>
          <p:spPr>
            <a:xfrm>
              <a:off x="7161120" y="5030640"/>
              <a:ext cx="432000" cy="208080"/>
            </a:xfrm>
            <a:custGeom>
              <a:avLst/>
              <a:gdLst/>
              <a:ahLst/>
              <a:rect l="l" t="t" r="r" b="b"/>
              <a:pathLst>
                <a:path w="272" h="131">
                  <a:moveTo>
                    <a:pt x="272" y="0"/>
                  </a:moveTo>
                  <a:cubicBezTo>
                    <a:pt x="246" y="8"/>
                    <a:pt x="165" y="43"/>
                    <a:pt x="120" y="65"/>
                  </a:cubicBezTo>
                  <a:cubicBezTo>
                    <a:pt x="75" y="87"/>
                    <a:pt x="25" y="117"/>
                    <a:pt x="0" y="131"/>
                  </a:cubicBezTo>
                </a:path>
              </a:pathLst>
            </a:custGeom>
            <a:noFill/>
            <a:ln cap="rnd" w="19080">
              <a:solidFill>
                <a:srgbClr val="000000"/>
              </a:solidFill>
              <a:custDash>
                <a:ds d="100000" sp="1000"/>
              </a:custDash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8" name=""/>
            <p:cNvSpPr/>
            <p:nvPr/>
          </p:nvSpPr>
          <p:spPr>
            <a:xfrm>
              <a:off x="6292800" y="621756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1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219" name=""/>
            <p:cNvGrpSpPr/>
            <p:nvPr/>
          </p:nvGrpSpPr>
          <p:grpSpPr>
            <a:xfrm>
              <a:off x="5603760" y="4910040"/>
              <a:ext cx="258480" cy="260280"/>
              <a:chOff x="5603760" y="4910040"/>
              <a:chExt cx="258480" cy="260280"/>
            </a:xfrm>
          </p:grpSpPr>
          <p:sp>
            <p:nvSpPr>
              <p:cNvPr id="10220" name=""/>
              <p:cNvSpPr/>
              <p:nvPr/>
            </p:nvSpPr>
            <p:spPr>
              <a:xfrm>
                <a:off x="5603760" y="4910040"/>
                <a:ext cx="258480" cy="260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1" name=""/>
              <p:cNvSpPr/>
              <p:nvPr/>
            </p:nvSpPr>
            <p:spPr>
              <a:xfrm>
                <a:off x="5735520" y="4955760"/>
                <a:ext cx="0" cy="19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222" name=""/>
            <p:cNvGrpSpPr/>
            <p:nvPr/>
          </p:nvGrpSpPr>
          <p:grpSpPr>
            <a:xfrm>
              <a:off x="4737240" y="4702320"/>
              <a:ext cx="258480" cy="260280"/>
              <a:chOff x="4737240" y="4702320"/>
              <a:chExt cx="258480" cy="260280"/>
            </a:xfrm>
          </p:grpSpPr>
          <p:sp>
            <p:nvSpPr>
              <p:cNvPr id="10223" name=""/>
              <p:cNvSpPr/>
              <p:nvPr/>
            </p:nvSpPr>
            <p:spPr>
              <a:xfrm>
                <a:off x="4737240" y="4702320"/>
                <a:ext cx="258480" cy="260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4" name=""/>
              <p:cNvSpPr/>
              <p:nvPr/>
            </p:nvSpPr>
            <p:spPr>
              <a:xfrm>
                <a:off x="4869000" y="4748040"/>
                <a:ext cx="0" cy="19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225" name=""/>
            <p:cNvGrpSpPr/>
            <p:nvPr/>
          </p:nvGrpSpPr>
          <p:grpSpPr>
            <a:xfrm>
              <a:off x="5896080" y="4076640"/>
              <a:ext cx="258480" cy="260280"/>
              <a:chOff x="5896080" y="4076640"/>
              <a:chExt cx="258480" cy="260280"/>
            </a:xfrm>
          </p:grpSpPr>
          <p:sp>
            <p:nvSpPr>
              <p:cNvPr id="10226" name=""/>
              <p:cNvSpPr/>
              <p:nvPr/>
            </p:nvSpPr>
            <p:spPr>
              <a:xfrm>
                <a:off x="5896080" y="4076640"/>
                <a:ext cx="258480" cy="260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7" name=""/>
              <p:cNvSpPr/>
              <p:nvPr/>
            </p:nvSpPr>
            <p:spPr>
              <a:xfrm>
                <a:off x="6027480" y="4105080"/>
                <a:ext cx="0" cy="19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228" name=""/>
            <p:cNvSpPr/>
            <p:nvPr/>
          </p:nvSpPr>
          <p:spPr>
            <a:xfrm>
              <a:off x="5800680" y="4371840"/>
              <a:ext cx="276120" cy="460440"/>
            </a:xfrm>
            <a:custGeom>
              <a:avLst/>
              <a:gdLst/>
              <a:ahLst/>
              <a:rect l="l" t="t" r="r" b="b"/>
              <a:pathLst>
                <a:path w="174" h="290">
                  <a:moveTo>
                    <a:pt x="0" y="290"/>
                  </a:moveTo>
                  <a:cubicBezTo>
                    <a:pt x="25" y="275"/>
                    <a:pt x="122" y="245"/>
                    <a:pt x="148" y="197"/>
                  </a:cubicBezTo>
                  <a:cubicBezTo>
                    <a:pt x="174" y="149"/>
                    <a:pt x="157" y="41"/>
                    <a:pt x="159" y="0"/>
                  </a:cubicBezTo>
                </a:path>
              </a:pathLst>
            </a:custGeom>
            <a:noFill/>
            <a:ln cap="rnd" w="19080">
              <a:solidFill>
                <a:srgbClr val="000000"/>
              </a:solidFill>
              <a:custDash>
                <a:ds d="100000" sp="1000"/>
              </a:custDash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9" name=""/>
            <p:cNvSpPr/>
            <p:nvPr/>
          </p:nvSpPr>
          <p:spPr>
            <a:xfrm>
              <a:off x="4952880" y="4322880"/>
              <a:ext cx="735120" cy="507960"/>
            </a:xfrm>
            <a:custGeom>
              <a:avLst/>
              <a:gdLst/>
              <a:ahLst/>
              <a:rect l="l" t="t" r="r" b="b"/>
              <a:pathLst>
                <a:path w="463" h="320">
                  <a:moveTo>
                    <a:pt x="463" y="320"/>
                  </a:moveTo>
                  <a:cubicBezTo>
                    <a:pt x="447" y="287"/>
                    <a:pt x="405" y="179"/>
                    <a:pt x="365" y="129"/>
                  </a:cubicBezTo>
                  <a:cubicBezTo>
                    <a:pt x="325" y="79"/>
                    <a:pt x="285" y="0"/>
                    <a:pt x="224" y="20"/>
                  </a:cubicBezTo>
                  <a:cubicBezTo>
                    <a:pt x="163" y="40"/>
                    <a:pt x="46" y="202"/>
                    <a:pt x="0" y="249"/>
                  </a:cubicBezTo>
                </a:path>
              </a:pathLst>
            </a:custGeom>
            <a:noFill/>
            <a:ln cap="rnd" w="19080">
              <a:solidFill>
                <a:srgbClr val="000000"/>
              </a:solidFill>
              <a:custDash>
                <a:ds d="100000" sp="1000"/>
              </a:custDash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0" name=""/>
            <p:cNvSpPr/>
            <p:nvPr/>
          </p:nvSpPr>
          <p:spPr>
            <a:xfrm>
              <a:off x="5190840" y="433476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10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1" name=""/>
            <p:cNvSpPr/>
            <p:nvPr/>
          </p:nvSpPr>
          <p:spPr>
            <a:xfrm>
              <a:off x="5594400" y="6436080"/>
              <a:ext cx="2581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1400" spc="-1" strike="noStrike">
                  <a:solidFill>
                    <a:srgbClr val="000000"/>
                  </a:solidFill>
                  <a:latin typeface="Times New Roman"/>
                </a:rPr>
                <a:t>b) alkalémie s deficitem draslík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232" name=""/>
            <p:cNvGrpSpPr/>
            <p:nvPr/>
          </p:nvGrpSpPr>
          <p:grpSpPr>
            <a:xfrm>
              <a:off x="6946920" y="5199120"/>
              <a:ext cx="258840" cy="260280"/>
              <a:chOff x="6946920" y="5199120"/>
              <a:chExt cx="258840" cy="260280"/>
            </a:xfrm>
          </p:grpSpPr>
          <p:sp>
            <p:nvSpPr>
              <p:cNvPr id="10233" name=""/>
              <p:cNvSpPr/>
              <p:nvPr/>
            </p:nvSpPr>
            <p:spPr>
              <a:xfrm>
                <a:off x="6946920" y="5199120"/>
                <a:ext cx="258840" cy="260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4" name=""/>
              <p:cNvSpPr/>
              <p:nvPr/>
            </p:nvSpPr>
            <p:spPr>
              <a:xfrm>
                <a:off x="7078680" y="5227560"/>
                <a:ext cx="0" cy="19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235" name=""/>
            <p:cNvSpPr/>
            <p:nvPr/>
          </p:nvSpPr>
          <p:spPr>
            <a:xfrm>
              <a:off x="4606560" y="4992120"/>
              <a:ext cx="73260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Na</a:t>
              </a:r>
              <a:r>
                <a:rPr b="1" lang="cs-CZ" sz="2800" spc="-1" strike="noStrike" baseline="50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6" name=""/>
            <p:cNvSpPr/>
            <p:nvPr/>
          </p:nvSpPr>
          <p:spPr>
            <a:xfrm>
              <a:off x="12240" y="5108040"/>
              <a:ext cx="73260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Na</a:t>
              </a:r>
              <a:r>
                <a:rPr b="1" lang="cs-CZ" sz="2800" spc="-1" strike="noStrike" baseline="50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7" name=""/>
            <p:cNvSpPr/>
            <p:nvPr/>
          </p:nvSpPr>
          <p:spPr>
            <a:xfrm>
              <a:off x="2558880" y="1010160"/>
              <a:ext cx="636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000000"/>
                  </a:solidFill>
                  <a:latin typeface="Times New Roman"/>
                </a:rPr>
                <a:t>Na</a:t>
              </a:r>
              <a:r>
                <a:rPr b="1" lang="cs-CZ" sz="2000" spc="-1" strike="noStrike" baseline="30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8" name=""/>
            <p:cNvSpPr/>
            <p:nvPr/>
          </p:nvSpPr>
          <p:spPr>
            <a:xfrm flipV="1">
              <a:off x="2189160" y="1239840"/>
              <a:ext cx="399960" cy="6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9" name=""/>
            <p:cNvSpPr/>
            <p:nvPr/>
          </p:nvSpPr>
          <p:spPr>
            <a:xfrm>
              <a:off x="1644480" y="1016640"/>
              <a:ext cx="682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000000"/>
                  </a:solidFill>
                  <a:latin typeface="Times New Roman"/>
                </a:rPr>
                <a:t>Na</a:t>
              </a:r>
              <a:r>
                <a:rPr b="1" lang="cs-CZ" sz="2000" spc="-1" strike="noStrike" baseline="30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0" name=""/>
            <p:cNvSpPr/>
            <p:nvPr/>
          </p:nvSpPr>
          <p:spPr>
            <a:xfrm flipV="1">
              <a:off x="1703520" y="1136160"/>
              <a:ext cx="0" cy="18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1" name=""/>
            <p:cNvSpPr/>
            <p:nvPr/>
          </p:nvSpPr>
          <p:spPr>
            <a:xfrm flipV="1">
              <a:off x="3146400" y="1093320"/>
              <a:ext cx="0" cy="18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2" name=""/>
            <p:cNvSpPr/>
            <p:nvPr/>
          </p:nvSpPr>
          <p:spPr>
            <a:xfrm>
              <a:off x="7211880" y="1045080"/>
              <a:ext cx="636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000000"/>
                  </a:solidFill>
                  <a:latin typeface="Times New Roman"/>
                </a:rPr>
                <a:t>Na</a:t>
              </a:r>
              <a:r>
                <a:rPr b="1" lang="cs-CZ" sz="2000" spc="-1" strike="noStrike" baseline="30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3" name=""/>
            <p:cNvSpPr/>
            <p:nvPr/>
          </p:nvSpPr>
          <p:spPr>
            <a:xfrm flipV="1">
              <a:off x="6805440" y="1282680"/>
              <a:ext cx="400320" cy="6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4" name=""/>
            <p:cNvSpPr/>
            <p:nvPr/>
          </p:nvSpPr>
          <p:spPr>
            <a:xfrm>
              <a:off x="6297480" y="1051560"/>
              <a:ext cx="682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000000"/>
                  </a:solidFill>
                  <a:latin typeface="Times New Roman"/>
                </a:rPr>
                <a:t>Na</a:t>
              </a:r>
              <a:r>
                <a:rPr b="1" lang="cs-CZ" sz="2000" spc="-1" strike="noStrike" baseline="30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5" name=""/>
            <p:cNvSpPr/>
            <p:nvPr/>
          </p:nvSpPr>
          <p:spPr>
            <a:xfrm flipV="1">
              <a:off x="6356520" y="1171080"/>
              <a:ext cx="0" cy="18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6" name=""/>
            <p:cNvSpPr/>
            <p:nvPr/>
          </p:nvSpPr>
          <p:spPr>
            <a:xfrm flipV="1">
              <a:off x="7799400" y="1128240"/>
              <a:ext cx="0" cy="18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7" name=""/>
          <p:cNvSpPr/>
          <p:nvPr/>
        </p:nvSpPr>
        <p:spPr>
          <a:xfrm>
            <a:off x="960480" y="235080"/>
            <a:ext cx="0" cy="3189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8" name=""/>
          <p:cNvSpPr/>
          <p:nvPr/>
        </p:nvSpPr>
        <p:spPr>
          <a:xfrm flipH="1" flipV="1">
            <a:off x="948960" y="3419640"/>
            <a:ext cx="43527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9" name=""/>
          <p:cNvSpPr/>
          <p:nvPr/>
        </p:nvSpPr>
        <p:spPr>
          <a:xfrm>
            <a:off x="880920" y="3041640"/>
            <a:ext cx="1843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0" name=""/>
          <p:cNvSpPr/>
          <p:nvPr/>
        </p:nvSpPr>
        <p:spPr>
          <a:xfrm>
            <a:off x="858960" y="349200"/>
            <a:ext cx="1839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1" name=""/>
          <p:cNvSpPr/>
          <p:nvPr/>
        </p:nvSpPr>
        <p:spPr>
          <a:xfrm>
            <a:off x="316080" y="2857320"/>
            <a:ext cx="65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2" name=""/>
          <p:cNvSpPr/>
          <p:nvPr/>
        </p:nvSpPr>
        <p:spPr>
          <a:xfrm>
            <a:off x="0" y="-25920"/>
            <a:ext cx="1085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cs-CZ" sz="16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mmol/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3" name=""/>
          <p:cNvSpPr/>
          <p:nvPr/>
        </p:nvSpPr>
        <p:spPr>
          <a:xfrm>
            <a:off x="1335240" y="3303720"/>
            <a:ext cx="1440" cy="226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4" name=""/>
          <p:cNvSpPr/>
          <p:nvPr/>
        </p:nvSpPr>
        <p:spPr>
          <a:xfrm>
            <a:off x="1095480" y="3543120"/>
            <a:ext cx="53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6,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5" name=""/>
          <p:cNvSpPr/>
          <p:nvPr/>
        </p:nvSpPr>
        <p:spPr>
          <a:xfrm>
            <a:off x="884160" y="2652840"/>
            <a:ext cx="1843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6" name=""/>
          <p:cNvSpPr/>
          <p:nvPr/>
        </p:nvSpPr>
        <p:spPr>
          <a:xfrm>
            <a:off x="844560" y="2271600"/>
            <a:ext cx="184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7" name=""/>
          <p:cNvSpPr/>
          <p:nvPr/>
        </p:nvSpPr>
        <p:spPr>
          <a:xfrm>
            <a:off x="830160" y="1898640"/>
            <a:ext cx="1843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8" name=""/>
          <p:cNvSpPr/>
          <p:nvPr/>
        </p:nvSpPr>
        <p:spPr>
          <a:xfrm>
            <a:off x="851040" y="1525680"/>
            <a:ext cx="1839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9" name=""/>
          <p:cNvSpPr/>
          <p:nvPr/>
        </p:nvSpPr>
        <p:spPr>
          <a:xfrm>
            <a:off x="836640" y="1143000"/>
            <a:ext cx="1839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0" name=""/>
          <p:cNvSpPr/>
          <p:nvPr/>
        </p:nvSpPr>
        <p:spPr>
          <a:xfrm>
            <a:off x="849240" y="727200"/>
            <a:ext cx="1843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1" name=""/>
          <p:cNvSpPr/>
          <p:nvPr/>
        </p:nvSpPr>
        <p:spPr>
          <a:xfrm>
            <a:off x="311040" y="2476080"/>
            <a:ext cx="65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2" name=""/>
          <p:cNvSpPr/>
          <p:nvPr/>
        </p:nvSpPr>
        <p:spPr>
          <a:xfrm>
            <a:off x="306360" y="2114280"/>
            <a:ext cx="65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3" name=""/>
          <p:cNvSpPr/>
          <p:nvPr/>
        </p:nvSpPr>
        <p:spPr>
          <a:xfrm>
            <a:off x="326880" y="1699920"/>
            <a:ext cx="65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4" name=""/>
          <p:cNvSpPr/>
          <p:nvPr/>
        </p:nvSpPr>
        <p:spPr>
          <a:xfrm>
            <a:off x="304920" y="1371240"/>
            <a:ext cx="65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5" name=""/>
          <p:cNvSpPr/>
          <p:nvPr/>
        </p:nvSpPr>
        <p:spPr>
          <a:xfrm>
            <a:off x="299880" y="953640"/>
            <a:ext cx="65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6" name=""/>
          <p:cNvSpPr/>
          <p:nvPr/>
        </p:nvSpPr>
        <p:spPr>
          <a:xfrm>
            <a:off x="312840" y="572760"/>
            <a:ext cx="65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7" name=""/>
          <p:cNvSpPr/>
          <p:nvPr/>
        </p:nvSpPr>
        <p:spPr>
          <a:xfrm>
            <a:off x="317520" y="166320"/>
            <a:ext cx="65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8" name=""/>
          <p:cNvSpPr/>
          <p:nvPr/>
        </p:nvSpPr>
        <p:spPr>
          <a:xfrm flipH="1">
            <a:off x="1725480" y="3298680"/>
            <a:ext cx="7920" cy="209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9" name=""/>
          <p:cNvSpPr/>
          <p:nvPr/>
        </p:nvSpPr>
        <p:spPr>
          <a:xfrm>
            <a:off x="2103480" y="3313080"/>
            <a:ext cx="0" cy="227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0" name=""/>
          <p:cNvSpPr/>
          <p:nvPr/>
        </p:nvSpPr>
        <p:spPr>
          <a:xfrm>
            <a:off x="2490840" y="3316320"/>
            <a:ext cx="0" cy="227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1" name=""/>
          <p:cNvSpPr/>
          <p:nvPr/>
        </p:nvSpPr>
        <p:spPr>
          <a:xfrm>
            <a:off x="2878200" y="3319560"/>
            <a:ext cx="0" cy="226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2" name=""/>
          <p:cNvSpPr/>
          <p:nvPr/>
        </p:nvSpPr>
        <p:spPr>
          <a:xfrm>
            <a:off x="3265560" y="3322800"/>
            <a:ext cx="0" cy="226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3" name=""/>
          <p:cNvSpPr/>
          <p:nvPr/>
        </p:nvSpPr>
        <p:spPr>
          <a:xfrm>
            <a:off x="3652920" y="3325680"/>
            <a:ext cx="0" cy="227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4" name=""/>
          <p:cNvSpPr/>
          <p:nvPr/>
        </p:nvSpPr>
        <p:spPr>
          <a:xfrm>
            <a:off x="4040280" y="3328920"/>
            <a:ext cx="0" cy="227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5" name=""/>
          <p:cNvSpPr/>
          <p:nvPr/>
        </p:nvSpPr>
        <p:spPr>
          <a:xfrm>
            <a:off x="4427640" y="3332160"/>
            <a:ext cx="0" cy="227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6" name=""/>
          <p:cNvSpPr/>
          <p:nvPr/>
        </p:nvSpPr>
        <p:spPr>
          <a:xfrm>
            <a:off x="4815000" y="3335400"/>
            <a:ext cx="0" cy="226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7" name=""/>
          <p:cNvSpPr/>
          <p:nvPr/>
        </p:nvSpPr>
        <p:spPr>
          <a:xfrm>
            <a:off x="1468440" y="3538080"/>
            <a:ext cx="53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7,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8" name=""/>
          <p:cNvSpPr/>
          <p:nvPr/>
        </p:nvSpPr>
        <p:spPr>
          <a:xfrm>
            <a:off x="1812960" y="3541320"/>
            <a:ext cx="53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7,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9" name=""/>
          <p:cNvSpPr/>
          <p:nvPr/>
        </p:nvSpPr>
        <p:spPr>
          <a:xfrm>
            <a:off x="2174760" y="3526920"/>
            <a:ext cx="536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7,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0" name=""/>
          <p:cNvSpPr/>
          <p:nvPr/>
        </p:nvSpPr>
        <p:spPr>
          <a:xfrm>
            <a:off x="2579760" y="3522240"/>
            <a:ext cx="53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7,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1" name=""/>
          <p:cNvSpPr/>
          <p:nvPr/>
        </p:nvSpPr>
        <p:spPr>
          <a:xfrm>
            <a:off x="2968560" y="3552480"/>
            <a:ext cx="536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7,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2" name=""/>
          <p:cNvSpPr/>
          <p:nvPr/>
        </p:nvSpPr>
        <p:spPr>
          <a:xfrm>
            <a:off x="3409920" y="3538080"/>
            <a:ext cx="536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7,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3" name=""/>
          <p:cNvSpPr/>
          <p:nvPr/>
        </p:nvSpPr>
        <p:spPr>
          <a:xfrm>
            <a:off x="3745080" y="3558960"/>
            <a:ext cx="53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7,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4" name=""/>
          <p:cNvSpPr/>
          <p:nvPr/>
        </p:nvSpPr>
        <p:spPr>
          <a:xfrm>
            <a:off x="4168800" y="3561840"/>
            <a:ext cx="53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7,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5" name=""/>
          <p:cNvSpPr/>
          <p:nvPr/>
        </p:nvSpPr>
        <p:spPr>
          <a:xfrm>
            <a:off x="4600440" y="3547800"/>
            <a:ext cx="536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7,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6" name=""/>
          <p:cNvSpPr/>
          <p:nvPr/>
        </p:nvSpPr>
        <p:spPr>
          <a:xfrm>
            <a:off x="5041800" y="3447720"/>
            <a:ext cx="536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p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7" name=""/>
          <p:cNvSpPr/>
          <p:nvPr/>
        </p:nvSpPr>
        <p:spPr>
          <a:xfrm flipV="1">
            <a:off x="3073320" y="262080"/>
            <a:ext cx="0" cy="31636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8" name=""/>
          <p:cNvSpPr/>
          <p:nvPr/>
        </p:nvSpPr>
        <p:spPr>
          <a:xfrm flipV="1">
            <a:off x="3449520" y="262080"/>
            <a:ext cx="0" cy="31636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9" name=""/>
          <p:cNvSpPr/>
          <p:nvPr/>
        </p:nvSpPr>
        <p:spPr>
          <a:xfrm flipH="1">
            <a:off x="968040" y="1974960"/>
            <a:ext cx="443052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0" name=""/>
          <p:cNvSpPr/>
          <p:nvPr/>
        </p:nvSpPr>
        <p:spPr>
          <a:xfrm flipH="1">
            <a:off x="941400" y="1371600"/>
            <a:ext cx="44308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1" name=""/>
          <p:cNvSpPr/>
          <p:nvPr/>
        </p:nvSpPr>
        <p:spPr>
          <a:xfrm>
            <a:off x="1344600" y="488880"/>
            <a:ext cx="3470400" cy="1548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2" name=""/>
          <p:cNvSpPr/>
          <p:nvPr/>
        </p:nvSpPr>
        <p:spPr>
          <a:xfrm>
            <a:off x="1389240" y="1449360"/>
            <a:ext cx="3477960" cy="1014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3" name=""/>
          <p:cNvSpPr/>
          <p:nvPr/>
        </p:nvSpPr>
        <p:spPr>
          <a:xfrm rot="1428600">
            <a:off x="1336320" y="1112400"/>
            <a:ext cx="290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Pásmo normální kalémi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4" name=""/>
          <p:cNvSpPr/>
          <p:nvPr/>
        </p:nvSpPr>
        <p:spPr>
          <a:xfrm flipH="1" flipV="1">
            <a:off x="2523960" y="1580760"/>
            <a:ext cx="725760" cy="219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95" name=""/>
          <p:cNvGraphicFramePr/>
          <p:nvPr/>
        </p:nvGraphicFramePr>
        <p:xfrm>
          <a:off x="1027080" y="1111320"/>
          <a:ext cx="362160" cy="758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27080" y="1111320"/>
                    <a:ext cx="362160" cy="75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297" name=""/>
          <p:cNvGrpSpPr/>
          <p:nvPr/>
        </p:nvGrpSpPr>
        <p:grpSpPr>
          <a:xfrm>
            <a:off x="3583080" y="2359080"/>
            <a:ext cx="585360" cy="425160"/>
            <a:chOff x="3583080" y="2359080"/>
            <a:chExt cx="585360" cy="425160"/>
          </a:xfrm>
        </p:grpSpPr>
        <p:grpSp>
          <p:nvGrpSpPr>
            <p:cNvPr id="10298" name=""/>
            <p:cNvGrpSpPr/>
            <p:nvPr/>
          </p:nvGrpSpPr>
          <p:grpSpPr>
            <a:xfrm>
              <a:off x="3583080" y="2359080"/>
              <a:ext cx="585360" cy="425160"/>
              <a:chOff x="3583080" y="2359080"/>
              <a:chExt cx="585360" cy="425160"/>
            </a:xfrm>
          </p:grpSpPr>
          <p:sp>
            <p:nvSpPr>
              <p:cNvPr id="10299" name=""/>
              <p:cNvSpPr/>
              <p:nvPr/>
            </p:nvSpPr>
            <p:spPr>
              <a:xfrm>
                <a:off x="3593160" y="2359080"/>
                <a:ext cx="575280" cy="420120"/>
              </a:xfrm>
              <a:custGeom>
                <a:avLst/>
                <a:gdLst/>
                <a:ahLst/>
                <a:rect l="l" t="t" r="r" b="b"/>
                <a:pathLst>
                  <a:path w="1332" h="813">
                    <a:moveTo>
                      <a:pt x="1238" y="643"/>
                    </a:moveTo>
                    <a:lnTo>
                      <a:pt x="1199" y="632"/>
                    </a:lnTo>
                    <a:lnTo>
                      <a:pt x="217" y="138"/>
                    </a:lnTo>
                    <a:lnTo>
                      <a:pt x="188" y="111"/>
                    </a:lnTo>
                    <a:lnTo>
                      <a:pt x="167" y="83"/>
                    </a:lnTo>
                    <a:lnTo>
                      <a:pt x="154" y="66"/>
                    </a:lnTo>
                    <a:lnTo>
                      <a:pt x="141" y="48"/>
                    </a:lnTo>
                    <a:lnTo>
                      <a:pt x="134" y="33"/>
                    </a:lnTo>
                    <a:lnTo>
                      <a:pt x="123" y="19"/>
                    </a:lnTo>
                    <a:lnTo>
                      <a:pt x="114" y="11"/>
                    </a:lnTo>
                    <a:lnTo>
                      <a:pt x="91" y="0"/>
                    </a:lnTo>
                    <a:lnTo>
                      <a:pt x="69" y="0"/>
                    </a:lnTo>
                    <a:lnTo>
                      <a:pt x="52" y="5"/>
                    </a:lnTo>
                    <a:lnTo>
                      <a:pt x="36" y="15"/>
                    </a:lnTo>
                    <a:lnTo>
                      <a:pt x="19" y="36"/>
                    </a:lnTo>
                    <a:lnTo>
                      <a:pt x="12" y="62"/>
                    </a:lnTo>
                    <a:lnTo>
                      <a:pt x="14" y="78"/>
                    </a:lnTo>
                    <a:lnTo>
                      <a:pt x="21" y="97"/>
                    </a:lnTo>
                    <a:lnTo>
                      <a:pt x="8" y="110"/>
                    </a:lnTo>
                    <a:lnTo>
                      <a:pt x="1" y="125"/>
                    </a:lnTo>
                    <a:lnTo>
                      <a:pt x="0" y="145"/>
                    </a:lnTo>
                    <a:lnTo>
                      <a:pt x="8" y="168"/>
                    </a:lnTo>
                    <a:lnTo>
                      <a:pt x="23" y="182"/>
                    </a:lnTo>
                    <a:lnTo>
                      <a:pt x="43" y="190"/>
                    </a:lnTo>
                    <a:lnTo>
                      <a:pt x="70" y="193"/>
                    </a:lnTo>
                    <a:lnTo>
                      <a:pt x="95" y="193"/>
                    </a:lnTo>
                    <a:lnTo>
                      <a:pt x="139" y="204"/>
                    </a:lnTo>
                    <a:lnTo>
                      <a:pt x="199" y="227"/>
                    </a:lnTo>
                    <a:lnTo>
                      <a:pt x="1131" y="696"/>
                    </a:lnTo>
                    <a:lnTo>
                      <a:pt x="1162" y="724"/>
                    </a:lnTo>
                    <a:lnTo>
                      <a:pt x="1199" y="764"/>
                    </a:lnTo>
                    <a:lnTo>
                      <a:pt x="1215" y="783"/>
                    </a:lnTo>
                    <a:lnTo>
                      <a:pt x="1229" y="799"/>
                    </a:lnTo>
                    <a:lnTo>
                      <a:pt x="1245" y="810"/>
                    </a:lnTo>
                    <a:lnTo>
                      <a:pt x="1266" y="813"/>
                    </a:lnTo>
                    <a:lnTo>
                      <a:pt x="1284" y="809"/>
                    </a:lnTo>
                    <a:lnTo>
                      <a:pt x="1300" y="799"/>
                    </a:lnTo>
                    <a:lnTo>
                      <a:pt x="1313" y="785"/>
                    </a:lnTo>
                    <a:lnTo>
                      <a:pt x="1317" y="764"/>
                    </a:lnTo>
                    <a:lnTo>
                      <a:pt x="1315" y="748"/>
                    </a:lnTo>
                    <a:lnTo>
                      <a:pt x="1314" y="739"/>
                    </a:lnTo>
                    <a:lnTo>
                      <a:pt x="1323" y="729"/>
                    </a:lnTo>
                    <a:lnTo>
                      <a:pt x="1332" y="711"/>
                    </a:lnTo>
                    <a:lnTo>
                      <a:pt x="1332" y="699"/>
                    </a:lnTo>
                    <a:lnTo>
                      <a:pt x="1326" y="676"/>
                    </a:lnTo>
                    <a:lnTo>
                      <a:pt x="1315" y="662"/>
                    </a:lnTo>
                    <a:lnTo>
                      <a:pt x="1297" y="652"/>
                    </a:lnTo>
                    <a:lnTo>
                      <a:pt x="1275" y="651"/>
                    </a:lnTo>
                    <a:lnTo>
                      <a:pt x="1238" y="643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0" name=""/>
              <p:cNvSpPr/>
              <p:nvPr/>
            </p:nvSpPr>
            <p:spPr>
              <a:xfrm>
                <a:off x="3583080" y="2361960"/>
                <a:ext cx="577080" cy="422280"/>
              </a:xfrm>
              <a:custGeom>
                <a:avLst/>
                <a:gdLst/>
                <a:ahLst/>
                <a:rect l="l" t="t" r="r" b="b"/>
                <a:pathLst>
                  <a:path w="1336" h="814">
                    <a:moveTo>
                      <a:pt x="133" y="636"/>
                    </a:moveTo>
                    <a:lnTo>
                      <a:pt x="1116" y="142"/>
                    </a:lnTo>
                    <a:lnTo>
                      <a:pt x="1141" y="119"/>
                    </a:lnTo>
                    <a:lnTo>
                      <a:pt x="1165" y="92"/>
                    </a:lnTo>
                    <a:lnTo>
                      <a:pt x="1192" y="57"/>
                    </a:lnTo>
                    <a:lnTo>
                      <a:pt x="1202" y="34"/>
                    </a:lnTo>
                    <a:lnTo>
                      <a:pt x="1215" y="15"/>
                    </a:lnTo>
                    <a:lnTo>
                      <a:pt x="1233" y="4"/>
                    </a:lnTo>
                    <a:lnTo>
                      <a:pt x="1253" y="0"/>
                    </a:lnTo>
                    <a:lnTo>
                      <a:pt x="1278" y="4"/>
                    </a:lnTo>
                    <a:lnTo>
                      <a:pt x="1298" y="16"/>
                    </a:lnTo>
                    <a:lnTo>
                      <a:pt x="1314" y="30"/>
                    </a:lnTo>
                    <a:lnTo>
                      <a:pt x="1322" y="50"/>
                    </a:lnTo>
                    <a:lnTo>
                      <a:pt x="1323" y="66"/>
                    </a:lnTo>
                    <a:lnTo>
                      <a:pt x="1322" y="82"/>
                    </a:lnTo>
                    <a:lnTo>
                      <a:pt x="1314" y="97"/>
                    </a:lnTo>
                    <a:lnTo>
                      <a:pt x="1323" y="107"/>
                    </a:lnTo>
                    <a:lnTo>
                      <a:pt x="1331" y="120"/>
                    </a:lnTo>
                    <a:lnTo>
                      <a:pt x="1336" y="146"/>
                    </a:lnTo>
                    <a:lnTo>
                      <a:pt x="1329" y="167"/>
                    </a:lnTo>
                    <a:lnTo>
                      <a:pt x="1316" y="179"/>
                    </a:lnTo>
                    <a:lnTo>
                      <a:pt x="1304" y="188"/>
                    </a:lnTo>
                    <a:lnTo>
                      <a:pt x="1289" y="194"/>
                    </a:lnTo>
                    <a:lnTo>
                      <a:pt x="1261" y="194"/>
                    </a:lnTo>
                    <a:lnTo>
                      <a:pt x="1238" y="196"/>
                    </a:lnTo>
                    <a:lnTo>
                      <a:pt x="1219" y="200"/>
                    </a:lnTo>
                    <a:lnTo>
                      <a:pt x="1145" y="226"/>
                    </a:lnTo>
                    <a:lnTo>
                      <a:pt x="212" y="693"/>
                    </a:lnTo>
                    <a:lnTo>
                      <a:pt x="178" y="722"/>
                    </a:lnTo>
                    <a:lnTo>
                      <a:pt x="149" y="750"/>
                    </a:lnTo>
                    <a:lnTo>
                      <a:pt x="122" y="783"/>
                    </a:lnTo>
                    <a:lnTo>
                      <a:pt x="112" y="795"/>
                    </a:lnTo>
                    <a:lnTo>
                      <a:pt x="97" y="807"/>
                    </a:lnTo>
                    <a:lnTo>
                      <a:pt x="83" y="813"/>
                    </a:lnTo>
                    <a:lnTo>
                      <a:pt x="71" y="814"/>
                    </a:lnTo>
                    <a:lnTo>
                      <a:pt x="56" y="813"/>
                    </a:lnTo>
                    <a:lnTo>
                      <a:pt x="35" y="802"/>
                    </a:lnTo>
                    <a:lnTo>
                      <a:pt x="22" y="783"/>
                    </a:lnTo>
                    <a:lnTo>
                      <a:pt x="18" y="766"/>
                    </a:lnTo>
                    <a:lnTo>
                      <a:pt x="19" y="754"/>
                    </a:lnTo>
                    <a:lnTo>
                      <a:pt x="23" y="741"/>
                    </a:lnTo>
                    <a:lnTo>
                      <a:pt x="8" y="729"/>
                    </a:lnTo>
                    <a:lnTo>
                      <a:pt x="0" y="709"/>
                    </a:lnTo>
                    <a:lnTo>
                      <a:pt x="1" y="691"/>
                    </a:lnTo>
                    <a:lnTo>
                      <a:pt x="8" y="674"/>
                    </a:lnTo>
                    <a:lnTo>
                      <a:pt x="20" y="661"/>
                    </a:lnTo>
                    <a:lnTo>
                      <a:pt x="39" y="652"/>
                    </a:lnTo>
                    <a:lnTo>
                      <a:pt x="57" y="652"/>
                    </a:lnTo>
                    <a:lnTo>
                      <a:pt x="96" y="644"/>
                    </a:lnTo>
                    <a:lnTo>
                      <a:pt x="133" y="636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01" name=""/>
            <p:cNvGrpSpPr/>
            <p:nvPr/>
          </p:nvGrpSpPr>
          <p:grpSpPr>
            <a:xfrm>
              <a:off x="3777480" y="2400120"/>
              <a:ext cx="200520" cy="363600"/>
              <a:chOff x="3777480" y="2400120"/>
              <a:chExt cx="200520" cy="363600"/>
            </a:xfrm>
          </p:grpSpPr>
          <p:grpSp>
            <p:nvGrpSpPr>
              <p:cNvPr id="10302" name=""/>
              <p:cNvGrpSpPr/>
              <p:nvPr/>
            </p:nvGrpSpPr>
            <p:grpSpPr>
              <a:xfrm>
                <a:off x="3777480" y="2487960"/>
                <a:ext cx="200520" cy="227520"/>
                <a:chOff x="3777480" y="2487960"/>
                <a:chExt cx="200520" cy="227520"/>
              </a:xfrm>
            </p:grpSpPr>
            <p:grpSp>
              <p:nvGrpSpPr>
                <p:cNvPr id="10303" name=""/>
                <p:cNvGrpSpPr/>
                <p:nvPr/>
              </p:nvGrpSpPr>
              <p:grpSpPr>
                <a:xfrm>
                  <a:off x="3777480" y="2487960"/>
                  <a:ext cx="200520" cy="160200"/>
                  <a:chOff x="3777480" y="2487960"/>
                  <a:chExt cx="200520" cy="160200"/>
                </a:xfrm>
              </p:grpSpPr>
              <p:sp>
                <p:nvSpPr>
                  <p:cNvPr id="10304" name=""/>
                  <p:cNvSpPr/>
                  <p:nvPr/>
                </p:nvSpPr>
                <p:spPr>
                  <a:xfrm>
                    <a:off x="3777480" y="2603880"/>
                    <a:ext cx="30600" cy="4428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85">
                        <a:moveTo>
                          <a:pt x="0" y="11"/>
                        </a:moveTo>
                        <a:lnTo>
                          <a:pt x="6" y="28"/>
                        </a:lnTo>
                        <a:lnTo>
                          <a:pt x="11" y="43"/>
                        </a:lnTo>
                        <a:lnTo>
                          <a:pt x="18" y="55"/>
                        </a:lnTo>
                        <a:lnTo>
                          <a:pt x="26" y="66"/>
                        </a:lnTo>
                        <a:lnTo>
                          <a:pt x="36" y="77"/>
                        </a:lnTo>
                        <a:lnTo>
                          <a:pt x="44" y="85"/>
                        </a:lnTo>
                        <a:lnTo>
                          <a:pt x="73" y="70"/>
                        </a:lnTo>
                        <a:lnTo>
                          <a:pt x="22" y="0"/>
                        </a:lnTo>
                        <a:lnTo>
                          <a:pt x="0" y="11"/>
                        </a:lnTo>
                        <a:close/>
                      </a:path>
                    </a:pathLst>
                  </a:custGeom>
                  <a:solidFill>
                    <a:srgbClr val="a0a0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" bIns="-2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05" name=""/>
                  <p:cNvSpPr/>
                  <p:nvPr/>
                </p:nvSpPr>
                <p:spPr>
                  <a:xfrm>
                    <a:off x="3948120" y="2600640"/>
                    <a:ext cx="29880" cy="44280"/>
                  </a:xfrm>
                  <a:custGeom>
                    <a:avLst/>
                    <a:gdLst/>
                    <a:ahLst/>
                    <a:rect l="l" t="t" r="r" b="b"/>
                    <a:pathLst>
                      <a:path w="70" h="87">
                        <a:moveTo>
                          <a:pt x="70" y="14"/>
                        </a:moveTo>
                        <a:lnTo>
                          <a:pt x="64" y="31"/>
                        </a:lnTo>
                        <a:lnTo>
                          <a:pt x="59" y="46"/>
                        </a:lnTo>
                        <a:lnTo>
                          <a:pt x="52" y="58"/>
                        </a:lnTo>
                        <a:lnTo>
                          <a:pt x="44" y="69"/>
                        </a:lnTo>
                        <a:lnTo>
                          <a:pt x="34" y="80"/>
                        </a:lnTo>
                        <a:lnTo>
                          <a:pt x="26" y="87"/>
                        </a:lnTo>
                        <a:lnTo>
                          <a:pt x="0" y="73"/>
                        </a:lnTo>
                        <a:lnTo>
                          <a:pt x="44" y="0"/>
                        </a:lnTo>
                        <a:lnTo>
                          <a:pt x="70" y="14"/>
                        </a:lnTo>
                        <a:close/>
                      </a:path>
                    </a:pathLst>
                  </a:custGeom>
                  <a:solidFill>
                    <a:srgbClr val="a0a0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" bIns="-2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06" name=""/>
                  <p:cNvSpPr/>
                  <p:nvPr/>
                </p:nvSpPr>
                <p:spPr>
                  <a:xfrm>
                    <a:off x="3778920" y="2487960"/>
                    <a:ext cx="13680" cy="54720"/>
                  </a:xfrm>
                  <a:custGeom>
                    <a:avLst/>
                    <a:gdLst/>
                    <a:ahLst/>
                    <a:rect l="l" t="t" r="r" b="b"/>
                    <a:pathLst>
                      <a:path w="33" h="105">
                        <a:moveTo>
                          <a:pt x="9" y="0"/>
                        </a:moveTo>
                        <a:lnTo>
                          <a:pt x="6" y="11"/>
                        </a:lnTo>
                        <a:lnTo>
                          <a:pt x="6" y="22"/>
                        </a:lnTo>
                        <a:lnTo>
                          <a:pt x="6" y="27"/>
                        </a:lnTo>
                        <a:lnTo>
                          <a:pt x="7" y="33"/>
                        </a:lnTo>
                        <a:lnTo>
                          <a:pt x="9" y="42"/>
                        </a:lnTo>
                        <a:lnTo>
                          <a:pt x="9" y="50"/>
                        </a:lnTo>
                        <a:lnTo>
                          <a:pt x="10" y="59"/>
                        </a:lnTo>
                        <a:lnTo>
                          <a:pt x="9" y="67"/>
                        </a:lnTo>
                        <a:lnTo>
                          <a:pt x="7" y="75"/>
                        </a:lnTo>
                        <a:lnTo>
                          <a:pt x="3" y="85"/>
                        </a:lnTo>
                        <a:lnTo>
                          <a:pt x="0" y="92"/>
                        </a:lnTo>
                        <a:lnTo>
                          <a:pt x="25" y="105"/>
                        </a:lnTo>
                        <a:lnTo>
                          <a:pt x="33" y="37"/>
                        </a:lnTo>
                        <a:lnTo>
                          <a:pt x="33" y="13"/>
                        </a:lnTo>
                        <a:lnTo>
                          <a:pt x="9" y="0"/>
                        </a:lnTo>
                        <a:close/>
                      </a:path>
                    </a:pathLst>
                  </a:custGeom>
                  <a:solidFill>
                    <a:srgbClr val="a0a0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920" bIns="7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07" name=""/>
                  <p:cNvSpPr/>
                  <p:nvPr/>
                </p:nvSpPr>
                <p:spPr>
                  <a:xfrm>
                    <a:off x="3961080" y="2491920"/>
                    <a:ext cx="13680" cy="54360"/>
                  </a:xfrm>
                  <a:custGeom>
                    <a:avLst/>
                    <a:gdLst/>
                    <a:ahLst/>
                    <a:rect l="l" t="t" r="r" b="b"/>
                    <a:pathLst>
                      <a:path w="33" h="106">
                        <a:moveTo>
                          <a:pt x="24" y="0"/>
                        </a:moveTo>
                        <a:lnTo>
                          <a:pt x="27" y="11"/>
                        </a:lnTo>
                        <a:lnTo>
                          <a:pt x="27" y="22"/>
                        </a:lnTo>
                        <a:lnTo>
                          <a:pt x="27" y="27"/>
                        </a:lnTo>
                        <a:lnTo>
                          <a:pt x="26" y="33"/>
                        </a:lnTo>
                        <a:lnTo>
                          <a:pt x="24" y="42"/>
                        </a:lnTo>
                        <a:lnTo>
                          <a:pt x="24" y="51"/>
                        </a:lnTo>
                        <a:lnTo>
                          <a:pt x="23" y="59"/>
                        </a:lnTo>
                        <a:lnTo>
                          <a:pt x="24" y="67"/>
                        </a:lnTo>
                        <a:lnTo>
                          <a:pt x="26" y="75"/>
                        </a:lnTo>
                        <a:lnTo>
                          <a:pt x="30" y="85"/>
                        </a:lnTo>
                        <a:lnTo>
                          <a:pt x="33" y="92"/>
                        </a:lnTo>
                        <a:lnTo>
                          <a:pt x="8" y="106"/>
                        </a:lnTo>
                        <a:lnTo>
                          <a:pt x="0" y="37"/>
                        </a:lnTo>
                        <a:lnTo>
                          <a:pt x="0" y="14"/>
                        </a:lnTo>
                        <a:lnTo>
                          <a:pt x="24" y="0"/>
                        </a:lnTo>
                        <a:close/>
                      </a:path>
                    </a:pathLst>
                  </a:custGeom>
                  <a:solidFill>
                    <a:srgbClr val="a0a0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560" bIns="7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308" name=""/>
                <p:cNvGrpSpPr/>
                <p:nvPr/>
              </p:nvGrpSpPr>
              <p:grpSpPr>
                <a:xfrm>
                  <a:off x="3803040" y="2641320"/>
                  <a:ext cx="147240" cy="74160"/>
                  <a:chOff x="3803040" y="2641320"/>
                  <a:chExt cx="147240" cy="74160"/>
                </a:xfrm>
              </p:grpSpPr>
              <p:sp>
                <p:nvSpPr>
                  <p:cNvPr id="10309" name=""/>
                  <p:cNvSpPr/>
                  <p:nvPr/>
                </p:nvSpPr>
                <p:spPr>
                  <a:xfrm>
                    <a:off x="3803040" y="2641320"/>
                    <a:ext cx="20520" cy="7416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43">
                        <a:moveTo>
                          <a:pt x="0" y="0"/>
                        </a:moveTo>
                        <a:lnTo>
                          <a:pt x="5" y="15"/>
                        </a:lnTo>
                        <a:lnTo>
                          <a:pt x="8" y="37"/>
                        </a:lnTo>
                        <a:lnTo>
                          <a:pt x="9" y="68"/>
                        </a:lnTo>
                        <a:lnTo>
                          <a:pt x="11" y="90"/>
                        </a:lnTo>
                        <a:lnTo>
                          <a:pt x="12" y="110"/>
                        </a:lnTo>
                        <a:lnTo>
                          <a:pt x="16" y="127"/>
                        </a:lnTo>
                        <a:lnTo>
                          <a:pt x="23" y="143"/>
                        </a:lnTo>
                        <a:lnTo>
                          <a:pt x="23" y="130"/>
                        </a:lnTo>
                        <a:lnTo>
                          <a:pt x="26" y="114"/>
                        </a:lnTo>
                        <a:lnTo>
                          <a:pt x="30" y="99"/>
                        </a:lnTo>
                        <a:lnTo>
                          <a:pt x="36" y="85"/>
                        </a:lnTo>
                        <a:lnTo>
                          <a:pt x="38" y="73"/>
                        </a:lnTo>
                        <a:lnTo>
                          <a:pt x="42" y="60"/>
                        </a:lnTo>
                        <a:lnTo>
                          <a:pt x="45" y="48"/>
                        </a:lnTo>
                        <a:lnTo>
                          <a:pt x="47" y="33"/>
                        </a:lnTo>
                        <a:lnTo>
                          <a:pt x="42" y="22"/>
                        </a:lnTo>
                        <a:lnTo>
                          <a:pt x="37" y="10"/>
                        </a:lnTo>
                        <a:lnTo>
                          <a:pt x="31" y="3"/>
                        </a:lnTo>
                        <a:lnTo>
                          <a:pt x="2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360" bIns="27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10" name=""/>
                  <p:cNvSpPr/>
                  <p:nvPr/>
                </p:nvSpPr>
                <p:spPr>
                  <a:xfrm>
                    <a:off x="3931560" y="2641320"/>
                    <a:ext cx="18720" cy="7416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144">
                        <a:moveTo>
                          <a:pt x="44" y="0"/>
                        </a:moveTo>
                        <a:lnTo>
                          <a:pt x="37" y="19"/>
                        </a:lnTo>
                        <a:lnTo>
                          <a:pt x="34" y="41"/>
                        </a:lnTo>
                        <a:lnTo>
                          <a:pt x="33" y="72"/>
                        </a:lnTo>
                        <a:lnTo>
                          <a:pt x="33" y="94"/>
                        </a:lnTo>
                        <a:lnTo>
                          <a:pt x="30" y="113"/>
                        </a:lnTo>
                        <a:lnTo>
                          <a:pt x="26" y="131"/>
                        </a:lnTo>
                        <a:lnTo>
                          <a:pt x="21" y="144"/>
                        </a:lnTo>
                        <a:lnTo>
                          <a:pt x="22" y="133"/>
                        </a:lnTo>
                        <a:lnTo>
                          <a:pt x="19" y="116"/>
                        </a:lnTo>
                        <a:lnTo>
                          <a:pt x="14" y="101"/>
                        </a:lnTo>
                        <a:lnTo>
                          <a:pt x="11" y="87"/>
                        </a:lnTo>
                        <a:lnTo>
                          <a:pt x="7" y="74"/>
                        </a:lnTo>
                        <a:lnTo>
                          <a:pt x="6" y="63"/>
                        </a:lnTo>
                        <a:lnTo>
                          <a:pt x="3" y="52"/>
                        </a:lnTo>
                        <a:lnTo>
                          <a:pt x="1" y="35"/>
                        </a:lnTo>
                        <a:lnTo>
                          <a:pt x="0" y="26"/>
                        </a:lnTo>
                        <a:lnTo>
                          <a:pt x="6" y="13"/>
                        </a:lnTo>
                        <a:lnTo>
                          <a:pt x="11" y="6"/>
                        </a:lnTo>
                        <a:lnTo>
                          <a:pt x="26" y="4"/>
                        </a:lnTo>
                        <a:lnTo>
                          <a:pt x="44" y="0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360" bIns="27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311" name=""/>
              <p:cNvGrpSpPr/>
              <p:nvPr/>
            </p:nvGrpSpPr>
            <p:grpSpPr>
              <a:xfrm>
                <a:off x="3782520" y="2400120"/>
                <a:ext cx="189720" cy="363600"/>
                <a:chOff x="3782520" y="2400120"/>
                <a:chExt cx="189720" cy="363600"/>
              </a:xfrm>
            </p:grpSpPr>
            <p:sp>
              <p:nvSpPr>
                <p:cNvPr id="10312" name=""/>
                <p:cNvSpPr/>
                <p:nvPr/>
              </p:nvSpPr>
              <p:spPr>
                <a:xfrm>
                  <a:off x="3782520" y="2400120"/>
                  <a:ext cx="189720" cy="363600"/>
                </a:xfrm>
                <a:custGeom>
                  <a:avLst/>
                  <a:gdLst/>
                  <a:ahLst/>
                  <a:rect l="l" t="t" r="r" b="b"/>
                  <a:pathLst>
                    <a:path w="440" h="702">
                      <a:moveTo>
                        <a:pt x="418" y="248"/>
                      </a:moveTo>
                      <a:lnTo>
                        <a:pt x="422" y="223"/>
                      </a:lnTo>
                      <a:lnTo>
                        <a:pt x="422" y="190"/>
                      </a:lnTo>
                      <a:lnTo>
                        <a:pt x="418" y="163"/>
                      </a:lnTo>
                      <a:lnTo>
                        <a:pt x="408" y="130"/>
                      </a:lnTo>
                      <a:lnTo>
                        <a:pt x="393" y="94"/>
                      </a:lnTo>
                      <a:lnTo>
                        <a:pt x="371" y="64"/>
                      </a:lnTo>
                      <a:lnTo>
                        <a:pt x="345" y="40"/>
                      </a:lnTo>
                      <a:lnTo>
                        <a:pt x="322" y="23"/>
                      </a:lnTo>
                      <a:lnTo>
                        <a:pt x="289" y="11"/>
                      </a:lnTo>
                      <a:lnTo>
                        <a:pt x="255" y="2"/>
                      </a:lnTo>
                      <a:lnTo>
                        <a:pt x="223" y="0"/>
                      </a:lnTo>
                      <a:lnTo>
                        <a:pt x="186" y="2"/>
                      </a:lnTo>
                      <a:lnTo>
                        <a:pt x="152" y="11"/>
                      </a:lnTo>
                      <a:lnTo>
                        <a:pt x="115" y="27"/>
                      </a:lnTo>
                      <a:lnTo>
                        <a:pt x="89" y="45"/>
                      </a:lnTo>
                      <a:lnTo>
                        <a:pt x="65" y="68"/>
                      </a:lnTo>
                      <a:lnTo>
                        <a:pt x="46" y="94"/>
                      </a:lnTo>
                      <a:lnTo>
                        <a:pt x="31" y="126"/>
                      </a:lnTo>
                      <a:lnTo>
                        <a:pt x="20" y="160"/>
                      </a:lnTo>
                      <a:lnTo>
                        <a:pt x="16" y="203"/>
                      </a:lnTo>
                      <a:lnTo>
                        <a:pt x="19" y="220"/>
                      </a:lnTo>
                      <a:lnTo>
                        <a:pt x="20" y="245"/>
                      </a:lnTo>
                      <a:lnTo>
                        <a:pt x="16" y="260"/>
                      </a:lnTo>
                      <a:lnTo>
                        <a:pt x="8" y="281"/>
                      </a:lnTo>
                      <a:lnTo>
                        <a:pt x="2" y="307"/>
                      </a:lnTo>
                      <a:lnTo>
                        <a:pt x="0" y="338"/>
                      </a:lnTo>
                      <a:lnTo>
                        <a:pt x="2" y="370"/>
                      </a:lnTo>
                      <a:lnTo>
                        <a:pt x="8" y="396"/>
                      </a:lnTo>
                      <a:lnTo>
                        <a:pt x="20" y="428"/>
                      </a:lnTo>
                      <a:lnTo>
                        <a:pt x="35" y="448"/>
                      </a:lnTo>
                      <a:lnTo>
                        <a:pt x="49" y="465"/>
                      </a:lnTo>
                      <a:lnTo>
                        <a:pt x="64" y="466"/>
                      </a:lnTo>
                      <a:lnTo>
                        <a:pt x="80" y="470"/>
                      </a:lnTo>
                      <a:lnTo>
                        <a:pt x="89" y="478"/>
                      </a:lnTo>
                      <a:lnTo>
                        <a:pt x="96" y="495"/>
                      </a:lnTo>
                      <a:lnTo>
                        <a:pt x="96" y="511"/>
                      </a:lnTo>
                      <a:lnTo>
                        <a:pt x="89" y="537"/>
                      </a:lnTo>
                      <a:lnTo>
                        <a:pt x="82" y="555"/>
                      </a:lnTo>
                      <a:lnTo>
                        <a:pt x="78" y="570"/>
                      </a:lnTo>
                      <a:lnTo>
                        <a:pt x="74" y="592"/>
                      </a:lnTo>
                      <a:lnTo>
                        <a:pt x="74" y="607"/>
                      </a:lnTo>
                      <a:lnTo>
                        <a:pt x="78" y="625"/>
                      </a:lnTo>
                      <a:lnTo>
                        <a:pt x="86" y="644"/>
                      </a:lnTo>
                      <a:lnTo>
                        <a:pt x="101" y="665"/>
                      </a:lnTo>
                      <a:lnTo>
                        <a:pt x="123" y="680"/>
                      </a:lnTo>
                      <a:lnTo>
                        <a:pt x="146" y="691"/>
                      </a:lnTo>
                      <a:lnTo>
                        <a:pt x="185" y="699"/>
                      </a:lnTo>
                      <a:lnTo>
                        <a:pt x="219" y="702"/>
                      </a:lnTo>
                      <a:lnTo>
                        <a:pt x="256" y="700"/>
                      </a:lnTo>
                      <a:lnTo>
                        <a:pt x="293" y="694"/>
                      </a:lnTo>
                      <a:lnTo>
                        <a:pt x="318" y="683"/>
                      </a:lnTo>
                      <a:lnTo>
                        <a:pt x="337" y="667"/>
                      </a:lnTo>
                      <a:lnTo>
                        <a:pt x="351" y="650"/>
                      </a:lnTo>
                      <a:lnTo>
                        <a:pt x="360" y="630"/>
                      </a:lnTo>
                      <a:lnTo>
                        <a:pt x="366" y="611"/>
                      </a:lnTo>
                      <a:lnTo>
                        <a:pt x="367" y="591"/>
                      </a:lnTo>
                      <a:lnTo>
                        <a:pt x="364" y="576"/>
                      </a:lnTo>
                      <a:lnTo>
                        <a:pt x="359" y="554"/>
                      </a:lnTo>
                      <a:lnTo>
                        <a:pt x="355" y="539"/>
                      </a:lnTo>
                      <a:lnTo>
                        <a:pt x="351" y="526"/>
                      </a:lnTo>
                      <a:lnTo>
                        <a:pt x="348" y="503"/>
                      </a:lnTo>
                      <a:lnTo>
                        <a:pt x="345" y="489"/>
                      </a:lnTo>
                      <a:lnTo>
                        <a:pt x="351" y="474"/>
                      </a:lnTo>
                      <a:lnTo>
                        <a:pt x="363" y="469"/>
                      </a:lnTo>
                      <a:lnTo>
                        <a:pt x="379" y="467"/>
                      </a:lnTo>
                      <a:lnTo>
                        <a:pt x="392" y="462"/>
                      </a:lnTo>
                      <a:lnTo>
                        <a:pt x="404" y="452"/>
                      </a:lnTo>
                      <a:lnTo>
                        <a:pt x="414" y="440"/>
                      </a:lnTo>
                      <a:lnTo>
                        <a:pt x="423" y="419"/>
                      </a:lnTo>
                      <a:lnTo>
                        <a:pt x="432" y="397"/>
                      </a:lnTo>
                      <a:lnTo>
                        <a:pt x="437" y="370"/>
                      </a:lnTo>
                      <a:lnTo>
                        <a:pt x="440" y="344"/>
                      </a:lnTo>
                      <a:lnTo>
                        <a:pt x="438" y="319"/>
                      </a:lnTo>
                      <a:lnTo>
                        <a:pt x="434" y="299"/>
                      </a:lnTo>
                      <a:lnTo>
                        <a:pt x="430" y="281"/>
                      </a:lnTo>
                      <a:lnTo>
                        <a:pt x="418" y="248"/>
                      </a:lnTo>
                      <a:close/>
                    </a:path>
                  </a:pathLst>
                </a:cu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313" name=""/>
                <p:cNvGrpSpPr/>
                <p:nvPr/>
              </p:nvGrpSpPr>
              <p:grpSpPr>
                <a:xfrm>
                  <a:off x="3854880" y="2564640"/>
                  <a:ext cx="42120" cy="65160"/>
                  <a:chOff x="3854880" y="2564640"/>
                  <a:chExt cx="42120" cy="65160"/>
                </a:xfrm>
              </p:grpSpPr>
              <p:sp>
                <p:nvSpPr>
                  <p:cNvPr id="10314" name=""/>
                  <p:cNvSpPr/>
                  <p:nvPr/>
                </p:nvSpPr>
                <p:spPr>
                  <a:xfrm>
                    <a:off x="3854880" y="2564640"/>
                    <a:ext cx="42120" cy="65160"/>
                  </a:xfrm>
                  <a:custGeom>
                    <a:avLst/>
                    <a:gdLst/>
                    <a:ahLst/>
                    <a:rect l="l" t="t" r="r" b="b"/>
                    <a:pathLst>
                      <a:path w="99" h="127">
                        <a:moveTo>
                          <a:pt x="50" y="0"/>
                        </a:moveTo>
                        <a:lnTo>
                          <a:pt x="41" y="2"/>
                        </a:lnTo>
                        <a:lnTo>
                          <a:pt x="34" y="9"/>
                        </a:lnTo>
                        <a:lnTo>
                          <a:pt x="32" y="18"/>
                        </a:lnTo>
                        <a:lnTo>
                          <a:pt x="8" y="91"/>
                        </a:lnTo>
                        <a:lnTo>
                          <a:pt x="3" y="98"/>
                        </a:lnTo>
                        <a:lnTo>
                          <a:pt x="0" y="109"/>
                        </a:lnTo>
                        <a:lnTo>
                          <a:pt x="3" y="120"/>
                        </a:lnTo>
                        <a:lnTo>
                          <a:pt x="10" y="125"/>
                        </a:lnTo>
                        <a:lnTo>
                          <a:pt x="18" y="127"/>
                        </a:lnTo>
                        <a:lnTo>
                          <a:pt x="85" y="127"/>
                        </a:lnTo>
                        <a:lnTo>
                          <a:pt x="92" y="124"/>
                        </a:lnTo>
                        <a:lnTo>
                          <a:pt x="98" y="117"/>
                        </a:lnTo>
                        <a:lnTo>
                          <a:pt x="99" y="107"/>
                        </a:lnTo>
                        <a:lnTo>
                          <a:pt x="98" y="99"/>
                        </a:lnTo>
                        <a:lnTo>
                          <a:pt x="66" y="14"/>
                        </a:lnTo>
                        <a:lnTo>
                          <a:pt x="62" y="5"/>
                        </a:lnTo>
                        <a:lnTo>
                          <a:pt x="50" y="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360" bIns="18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0315" name=""/>
                  <p:cNvGrpSpPr/>
                  <p:nvPr/>
                </p:nvGrpSpPr>
                <p:grpSpPr>
                  <a:xfrm>
                    <a:off x="3859920" y="2602800"/>
                    <a:ext cx="32400" cy="22680"/>
                    <a:chOff x="3859920" y="2602800"/>
                    <a:chExt cx="32400" cy="22680"/>
                  </a:xfrm>
                </p:grpSpPr>
                <p:sp>
                  <p:nvSpPr>
                    <p:cNvPr id="10316" name=""/>
                    <p:cNvSpPr/>
                    <p:nvPr/>
                  </p:nvSpPr>
                  <p:spPr>
                    <a:xfrm>
                      <a:off x="3859920" y="2602800"/>
                      <a:ext cx="12600" cy="21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41">
                          <a:moveTo>
                            <a:pt x="28" y="4"/>
                          </a:moveTo>
                          <a:lnTo>
                            <a:pt x="16" y="0"/>
                          </a:lnTo>
                          <a:lnTo>
                            <a:pt x="2" y="20"/>
                          </a:lnTo>
                          <a:lnTo>
                            <a:pt x="0" y="31"/>
                          </a:lnTo>
                          <a:lnTo>
                            <a:pt x="4" y="37"/>
                          </a:lnTo>
                          <a:lnTo>
                            <a:pt x="9" y="41"/>
                          </a:lnTo>
                          <a:lnTo>
                            <a:pt x="17" y="41"/>
                          </a:lnTo>
                          <a:lnTo>
                            <a:pt x="21" y="37"/>
                          </a:lnTo>
                          <a:lnTo>
                            <a:pt x="24" y="30"/>
                          </a:lnTo>
                          <a:lnTo>
                            <a:pt x="28" y="4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200" bIns="-25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317" name=""/>
                    <p:cNvSpPr/>
                    <p:nvPr/>
                  </p:nvSpPr>
                  <p:spPr>
                    <a:xfrm>
                      <a:off x="3880440" y="2603880"/>
                      <a:ext cx="11880" cy="21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" h="41">
                          <a:moveTo>
                            <a:pt x="0" y="4"/>
                          </a:moveTo>
                          <a:lnTo>
                            <a:pt x="13" y="0"/>
                          </a:lnTo>
                          <a:lnTo>
                            <a:pt x="26" y="21"/>
                          </a:lnTo>
                          <a:lnTo>
                            <a:pt x="29" y="32"/>
                          </a:lnTo>
                          <a:lnTo>
                            <a:pt x="25" y="37"/>
                          </a:lnTo>
                          <a:lnTo>
                            <a:pt x="19" y="41"/>
                          </a:lnTo>
                          <a:lnTo>
                            <a:pt x="11" y="41"/>
                          </a:lnTo>
                          <a:lnTo>
                            <a:pt x="7" y="37"/>
                          </a:lnTo>
                          <a:lnTo>
                            <a:pt x="4" y="30"/>
                          </a:lnTo>
                          <a:lnTo>
                            <a:pt x="0" y="4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200" bIns="-25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0318" name=""/>
                <p:cNvGrpSpPr/>
                <p:nvPr/>
              </p:nvGrpSpPr>
              <p:grpSpPr>
                <a:xfrm>
                  <a:off x="3807360" y="2518200"/>
                  <a:ext cx="140040" cy="59760"/>
                  <a:chOff x="3807360" y="2518200"/>
                  <a:chExt cx="140040" cy="59760"/>
                </a:xfrm>
              </p:grpSpPr>
              <p:sp>
                <p:nvSpPr>
                  <p:cNvPr id="10319" name=""/>
                  <p:cNvSpPr/>
                  <p:nvPr/>
                </p:nvSpPr>
                <p:spPr>
                  <a:xfrm>
                    <a:off x="3896640" y="2518920"/>
                    <a:ext cx="50760" cy="59040"/>
                  </a:xfrm>
                  <a:custGeom>
                    <a:avLst/>
                    <a:gdLst/>
                    <a:ahLst/>
                    <a:rect l="l" t="t" r="r" b="b"/>
                    <a:pathLst>
                      <a:path w="118" h="115">
                        <a:moveTo>
                          <a:pt x="33" y="5"/>
                        </a:moveTo>
                        <a:lnTo>
                          <a:pt x="19" y="20"/>
                        </a:lnTo>
                        <a:lnTo>
                          <a:pt x="8" y="41"/>
                        </a:lnTo>
                        <a:lnTo>
                          <a:pt x="7" y="60"/>
                        </a:lnTo>
                        <a:lnTo>
                          <a:pt x="0" y="70"/>
                        </a:lnTo>
                        <a:lnTo>
                          <a:pt x="4" y="87"/>
                        </a:lnTo>
                        <a:lnTo>
                          <a:pt x="19" y="101"/>
                        </a:lnTo>
                        <a:lnTo>
                          <a:pt x="34" y="108"/>
                        </a:lnTo>
                        <a:lnTo>
                          <a:pt x="53" y="112"/>
                        </a:lnTo>
                        <a:lnTo>
                          <a:pt x="75" y="115"/>
                        </a:lnTo>
                        <a:lnTo>
                          <a:pt x="90" y="114"/>
                        </a:lnTo>
                        <a:lnTo>
                          <a:pt x="104" y="104"/>
                        </a:lnTo>
                        <a:lnTo>
                          <a:pt x="111" y="87"/>
                        </a:lnTo>
                        <a:lnTo>
                          <a:pt x="118" y="68"/>
                        </a:lnTo>
                        <a:lnTo>
                          <a:pt x="118" y="44"/>
                        </a:lnTo>
                        <a:lnTo>
                          <a:pt x="110" y="29"/>
                        </a:lnTo>
                        <a:lnTo>
                          <a:pt x="95" y="13"/>
                        </a:lnTo>
                        <a:lnTo>
                          <a:pt x="78" y="4"/>
                        </a:lnTo>
                        <a:lnTo>
                          <a:pt x="56" y="0"/>
                        </a:lnTo>
                        <a:lnTo>
                          <a:pt x="33" y="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240" bIns="12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20" name=""/>
                  <p:cNvSpPr/>
                  <p:nvPr/>
                </p:nvSpPr>
                <p:spPr>
                  <a:xfrm>
                    <a:off x="3807360" y="2518200"/>
                    <a:ext cx="50760" cy="57960"/>
                  </a:xfrm>
                  <a:custGeom>
                    <a:avLst/>
                    <a:gdLst/>
                    <a:ahLst/>
                    <a:rect l="l" t="t" r="r" b="b"/>
                    <a:pathLst>
                      <a:path w="118" h="113">
                        <a:moveTo>
                          <a:pt x="84" y="3"/>
                        </a:moveTo>
                        <a:lnTo>
                          <a:pt x="103" y="21"/>
                        </a:lnTo>
                        <a:lnTo>
                          <a:pt x="110" y="40"/>
                        </a:lnTo>
                        <a:lnTo>
                          <a:pt x="111" y="59"/>
                        </a:lnTo>
                        <a:lnTo>
                          <a:pt x="118" y="69"/>
                        </a:lnTo>
                        <a:lnTo>
                          <a:pt x="114" y="85"/>
                        </a:lnTo>
                        <a:lnTo>
                          <a:pt x="100" y="99"/>
                        </a:lnTo>
                        <a:lnTo>
                          <a:pt x="87" y="107"/>
                        </a:lnTo>
                        <a:lnTo>
                          <a:pt x="66" y="111"/>
                        </a:lnTo>
                        <a:lnTo>
                          <a:pt x="47" y="113"/>
                        </a:lnTo>
                        <a:lnTo>
                          <a:pt x="30" y="113"/>
                        </a:lnTo>
                        <a:lnTo>
                          <a:pt x="18" y="105"/>
                        </a:lnTo>
                        <a:lnTo>
                          <a:pt x="7" y="88"/>
                        </a:lnTo>
                        <a:lnTo>
                          <a:pt x="0" y="68"/>
                        </a:lnTo>
                        <a:lnTo>
                          <a:pt x="0" y="43"/>
                        </a:lnTo>
                        <a:lnTo>
                          <a:pt x="8" y="25"/>
                        </a:lnTo>
                        <a:lnTo>
                          <a:pt x="23" y="13"/>
                        </a:lnTo>
                        <a:lnTo>
                          <a:pt x="37" y="4"/>
                        </a:lnTo>
                        <a:lnTo>
                          <a:pt x="58" y="0"/>
                        </a:lnTo>
                        <a:lnTo>
                          <a:pt x="84" y="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1160" bIns="11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321" name=""/>
                <p:cNvGrpSpPr/>
                <p:nvPr/>
              </p:nvGrpSpPr>
              <p:grpSpPr>
                <a:xfrm>
                  <a:off x="3828240" y="2644560"/>
                  <a:ext cx="99000" cy="43920"/>
                  <a:chOff x="3828240" y="2644560"/>
                  <a:chExt cx="99000" cy="43920"/>
                </a:xfrm>
              </p:grpSpPr>
              <p:sp>
                <p:nvSpPr>
                  <p:cNvPr id="10322" name=""/>
                  <p:cNvSpPr/>
                  <p:nvPr/>
                </p:nvSpPr>
                <p:spPr>
                  <a:xfrm>
                    <a:off x="3828240" y="2644560"/>
                    <a:ext cx="97920" cy="43200"/>
                  </a:xfrm>
                  <a:custGeom>
                    <a:avLst/>
                    <a:gdLst/>
                    <a:ahLst/>
                    <a:rect l="l" t="t" r="r" b="b"/>
                    <a:pathLst>
                      <a:path w="228" h="84">
                        <a:moveTo>
                          <a:pt x="6" y="17"/>
                        </a:moveTo>
                        <a:lnTo>
                          <a:pt x="18" y="11"/>
                        </a:lnTo>
                        <a:lnTo>
                          <a:pt x="40" y="6"/>
                        </a:lnTo>
                        <a:lnTo>
                          <a:pt x="58" y="2"/>
                        </a:lnTo>
                        <a:lnTo>
                          <a:pt x="77" y="0"/>
                        </a:lnTo>
                        <a:lnTo>
                          <a:pt x="98" y="0"/>
                        </a:lnTo>
                        <a:lnTo>
                          <a:pt x="132" y="0"/>
                        </a:lnTo>
                        <a:lnTo>
                          <a:pt x="154" y="3"/>
                        </a:lnTo>
                        <a:lnTo>
                          <a:pt x="177" y="7"/>
                        </a:lnTo>
                        <a:lnTo>
                          <a:pt x="197" y="11"/>
                        </a:lnTo>
                        <a:lnTo>
                          <a:pt x="220" y="18"/>
                        </a:lnTo>
                        <a:lnTo>
                          <a:pt x="227" y="26"/>
                        </a:lnTo>
                        <a:lnTo>
                          <a:pt x="228" y="54"/>
                        </a:lnTo>
                        <a:lnTo>
                          <a:pt x="228" y="65"/>
                        </a:lnTo>
                        <a:lnTo>
                          <a:pt x="223" y="84"/>
                        </a:lnTo>
                        <a:lnTo>
                          <a:pt x="208" y="83"/>
                        </a:lnTo>
                        <a:lnTo>
                          <a:pt x="172" y="83"/>
                        </a:lnTo>
                        <a:lnTo>
                          <a:pt x="139" y="83"/>
                        </a:lnTo>
                        <a:lnTo>
                          <a:pt x="102" y="83"/>
                        </a:lnTo>
                        <a:lnTo>
                          <a:pt x="13" y="80"/>
                        </a:lnTo>
                        <a:lnTo>
                          <a:pt x="9" y="72"/>
                        </a:lnTo>
                        <a:lnTo>
                          <a:pt x="3" y="63"/>
                        </a:lnTo>
                        <a:lnTo>
                          <a:pt x="2" y="51"/>
                        </a:lnTo>
                        <a:lnTo>
                          <a:pt x="0" y="39"/>
                        </a:lnTo>
                        <a:lnTo>
                          <a:pt x="6" y="1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" bIns="-3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23" name=""/>
                  <p:cNvSpPr/>
                  <p:nvPr/>
                </p:nvSpPr>
                <p:spPr>
                  <a:xfrm>
                    <a:off x="3828240" y="2644560"/>
                    <a:ext cx="99000" cy="27720"/>
                  </a:xfrm>
                  <a:custGeom>
                    <a:avLst/>
                    <a:gdLst/>
                    <a:ahLst/>
                    <a:rect l="l" t="t" r="r" b="b"/>
                    <a:pathLst>
                      <a:path w="231" h="55">
                        <a:moveTo>
                          <a:pt x="5" y="15"/>
                        </a:moveTo>
                        <a:lnTo>
                          <a:pt x="18" y="10"/>
                        </a:lnTo>
                        <a:lnTo>
                          <a:pt x="38" y="6"/>
                        </a:lnTo>
                        <a:lnTo>
                          <a:pt x="53" y="1"/>
                        </a:lnTo>
                        <a:lnTo>
                          <a:pt x="69" y="0"/>
                        </a:lnTo>
                        <a:lnTo>
                          <a:pt x="99" y="0"/>
                        </a:lnTo>
                        <a:lnTo>
                          <a:pt x="123" y="0"/>
                        </a:lnTo>
                        <a:lnTo>
                          <a:pt x="149" y="1"/>
                        </a:lnTo>
                        <a:lnTo>
                          <a:pt x="171" y="4"/>
                        </a:lnTo>
                        <a:lnTo>
                          <a:pt x="187" y="8"/>
                        </a:lnTo>
                        <a:lnTo>
                          <a:pt x="203" y="12"/>
                        </a:lnTo>
                        <a:lnTo>
                          <a:pt x="224" y="16"/>
                        </a:lnTo>
                        <a:lnTo>
                          <a:pt x="231" y="29"/>
                        </a:lnTo>
                        <a:lnTo>
                          <a:pt x="230" y="37"/>
                        </a:lnTo>
                        <a:lnTo>
                          <a:pt x="230" y="55"/>
                        </a:lnTo>
                        <a:lnTo>
                          <a:pt x="220" y="55"/>
                        </a:lnTo>
                        <a:lnTo>
                          <a:pt x="219" y="44"/>
                        </a:lnTo>
                        <a:lnTo>
                          <a:pt x="216" y="53"/>
                        </a:lnTo>
                        <a:lnTo>
                          <a:pt x="203" y="53"/>
                        </a:lnTo>
                        <a:lnTo>
                          <a:pt x="199" y="40"/>
                        </a:lnTo>
                        <a:lnTo>
                          <a:pt x="198" y="49"/>
                        </a:lnTo>
                        <a:lnTo>
                          <a:pt x="188" y="48"/>
                        </a:lnTo>
                        <a:lnTo>
                          <a:pt x="182" y="30"/>
                        </a:lnTo>
                        <a:lnTo>
                          <a:pt x="183" y="51"/>
                        </a:lnTo>
                        <a:lnTo>
                          <a:pt x="168" y="49"/>
                        </a:lnTo>
                        <a:lnTo>
                          <a:pt x="161" y="41"/>
                        </a:lnTo>
                        <a:lnTo>
                          <a:pt x="160" y="49"/>
                        </a:lnTo>
                        <a:lnTo>
                          <a:pt x="143" y="49"/>
                        </a:lnTo>
                        <a:lnTo>
                          <a:pt x="139" y="32"/>
                        </a:lnTo>
                        <a:lnTo>
                          <a:pt x="134" y="48"/>
                        </a:lnTo>
                        <a:lnTo>
                          <a:pt x="113" y="47"/>
                        </a:lnTo>
                        <a:lnTo>
                          <a:pt x="106" y="26"/>
                        </a:lnTo>
                        <a:lnTo>
                          <a:pt x="102" y="47"/>
                        </a:lnTo>
                        <a:lnTo>
                          <a:pt x="86" y="41"/>
                        </a:lnTo>
                        <a:lnTo>
                          <a:pt x="75" y="45"/>
                        </a:lnTo>
                        <a:lnTo>
                          <a:pt x="73" y="25"/>
                        </a:lnTo>
                        <a:lnTo>
                          <a:pt x="65" y="44"/>
                        </a:lnTo>
                        <a:lnTo>
                          <a:pt x="53" y="44"/>
                        </a:lnTo>
                        <a:lnTo>
                          <a:pt x="50" y="33"/>
                        </a:lnTo>
                        <a:lnTo>
                          <a:pt x="47" y="45"/>
                        </a:lnTo>
                        <a:lnTo>
                          <a:pt x="33" y="44"/>
                        </a:lnTo>
                        <a:lnTo>
                          <a:pt x="29" y="36"/>
                        </a:lnTo>
                        <a:lnTo>
                          <a:pt x="27" y="44"/>
                        </a:lnTo>
                        <a:lnTo>
                          <a:pt x="17" y="44"/>
                        </a:lnTo>
                        <a:lnTo>
                          <a:pt x="16" y="37"/>
                        </a:lnTo>
                        <a:lnTo>
                          <a:pt x="11" y="44"/>
                        </a:lnTo>
                        <a:lnTo>
                          <a:pt x="3" y="44"/>
                        </a:lnTo>
                        <a:lnTo>
                          <a:pt x="0" y="37"/>
                        </a:lnTo>
                        <a:lnTo>
                          <a:pt x="5" y="15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080" bIns="-19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24" name=""/>
                  <p:cNvSpPr/>
                  <p:nvPr/>
                </p:nvSpPr>
                <p:spPr>
                  <a:xfrm>
                    <a:off x="3828960" y="2670120"/>
                    <a:ext cx="97200" cy="18360"/>
                  </a:xfrm>
                  <a:custGeom>
                    <a:avLst/>
                    <a:gdLst/>
                    <a:ahLst/>
                    <a:rect l="l" t="t" r="r" b="b"/>
                    <a:pathLst>
                      <a:path w="226" h="35">
                        <a:moveTo>
                          <a:pt x="0" y="1"/>
                        </a:moveTo>
                        <a:lnTo>
                          <a:pt x="0" y="9"/>
                        </a:lnTo>
                        <a:lnTo>
                          <a:pt x="3" y="22"/>
                        </a:lnTo>
                        <a:lnTo>
                          <a:pt x="11" y="30"/>
                        </a:lnTo>
                        <a:lnTo>
                          <a:pt x="23" y="31"/>
                        </a:lnTo>
                        <a:lnTo>
                          <a:pt x="37" y="31"/>
                        </a:lnTo>
                        <a:lnTo>
                          <a:pt x="44" y="24"/>
                        </a:lnTo>
                        <a:lnTo>
                          <a:pt x="51" y="33"/>
                        </a:lnTo>
                        <a:lnTo>
                          <a:pt x="63" y="33"/>
                        </a:lnTo>
                        <a:lnTo>
                          <a:pt x="81" y="33"/>
                        </a:lnTo>
                        <a:lnTo>
                          <a:pt x="86" y="27"/>
                        </a:lnTo>
                        <a:lnTo>
                          <a:pt x="96" y="24"/>
                        </a:lnTo>
                        <a:lnTo>
                          <a:pt x="101" y="33"/>
                        </a:lnTo>
                        <a:lnTo>
                          <a:pt x="115" y="33"/>
                        </a:lnTo>
                        <a:lnTo>
                          <a:pt x="123" y="33"/>
                        </a:lnTo>
                        <a:lnTo>
                          <a:pt x="129" y="27"/>
                        </a:lnTo>
                        <a:lnTo>
                          <a:pt x="136" y="33"/>
                        </a:lnTo>
                        <a:lnTo>
                          <a:pt x="144" y="33"/>
                        </a:lnTo>
                        <a:lnTo>
                          <a:pt x="151" y="31"/>
                        </a:lnTo>
                        <a:lnTo>
                          <a:pt x="159" y="26"/>
                        </a:lnTo>
                        <a:lnTo>
                          <a:pt x="163" y="23"/>
                        </a:lnTo>
                        <a:lnTo>
                          <a:pt x="169" y="33"/>
                        </a:lnTo>
                        <a:lnTo>
                          <a:pt x="174" y="33"/>
                        </a:lnTo>
                        <a:lnTo>
                          <a:pt x="190" y="33"/>
                        </a:lnTo>
                        <a:lnTo>
                          <a:pt x="201" y="33"/>
                        </a:lnTo>
                        <a:lnTo>
                          <a:pt x="208" y="33"/>
                        </a:lnTo>
                        <a:lnTo>
                          <a:pt x="214" y="26"/>
                        </a:lnTo>
                        <a:lnTo>
                          <a:pt x="221" y="35"/>
                        </a:lnTo>
                        <a:lnTo>
                          <a:pt x="223" y="29"/>
                        </a:lnTo>
                        <a:lnTo>
                          <a:pt x="226" y="16"/>
                        </a:lnTo>
                        <a:lnTo>
                          <a:pt x="219" y="11"/>
                        </a:lnTo>
                        <a:lnTo>
                          <a:pt x="212" y="11"/>
                        </a:lnTo>
                        <a:lnTo>
                          <a:pt x="207" y="18"/>
                        </a:lnTo>
                        <a:lnTo>
                          <a:pt x="206" y="9"/>
                        </a:lnTo>
                        <a:lnTo>
                          <a:pt x="195" y="7"/>
                        </a:lnTo>
                        <a:lnTo>
                          <a:pt x="189" y="18"/>
                        </a:lnTo>
                        <a:lnTo>
                          <a:pt x="188" y="7"/>
                        </a:lnTo>
                        <a:lnTo>
                          <a:pt x="171" y="7"/>
                        </a:lnTo>
                        <a:lnTo>
                          <a:pt x="170" y="11"/>
                        </a:lnTo>
                        <a:lnTo>
                          <a:pt x="163" y="7"/>
                        </a:lnTo>
                        <a:lnTo>
                          <a:pt x="144" y="5"/>
                        </a:lnTo>
                        <a:lnTo>
                          <a:pt x="141" y="12"/>
                        </a:lnTo>
                        <a:lnTo>
                          <a:pt x="125" y="12"/>
                        </a:lnTo>
                        <a:lnTo>
                          <a:pt x="123" y="2"/>
                        </a:lnTo>
                        <a:lnTo>
                          <a:pt x="108" y="2"/>
                        </a:lnTo>
                        <a:lnTo>
                          <a:pt x="103" y="9"/>
                        </a:lnTo>
                        <a:lnTo>
                          <a:pt x="94" y="2"/>
                        </a:lnTo>
                        <a:lnTo>
                          <a:pt x="75" y="2"/>
                        </a:lnTo>
                        <a:lnTo>
                          <a:pt x="68" y="9"/>
                        </a:lnTo>
                        <a:lnTo>
                          <a:pt x="59" y="1"/>
                        </a:lnTo>
                        <a:lnTo>
                          <a:pt x="49" y="1"/>
                        </a:lnTo>
                        <a:lnTo>
                          <a:pt x="42" y="9"/>
                        </a:lnTo>
                        <a:lnTo>
                          <a:pt x="37" y="0"/>
                        </a:lnTo>
                        <a:lnTo>
                          <a:pt x="33" y="0"/>
                        </a:lnTo>
                        <a:lnTo>
                          <a:pt x="27" y="8"/>
                        </a:lnTo>
                        <a:lnTo>
                          <a:pt x="20" y="1"/>
                        </a:lnTo>
                        <a:lnTo>
                          <a:pt x="14" y="7"/>
                        </a:lnTo>
                        <a:lnTo>
                          <a:pt x="0" y="1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graphicFrame>
        <p:nvGraphicFramePr>
          <p:cNvPr id="10325" name=""/>
          <p:cNvGraphicFramePr/>
          <p:nvPr/>
        </p:nvGraphicFramePr>
        <p:xfrm>
          <a:off x="1573200" y="2141640"/>
          <a:ext cx="679320" cy="853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32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73200" y="2141640"/>
                    <a:ext cx="679320" cy="85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327" name=""/>
          <p:cNvGraphicFramePr/>
          <p:nvPr/>
        </p:nvGraphicFramePr>
        <p:xfrm>
          <a:off x="1854360" y="4437000"/>
          <a:ext cx="1457280" cy="1724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32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854360" y="4437000"/>
                    <a:ext cx="1457280" cy="172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29" name=""/>
          <p:cNvSpPr/>
          <p:nvPr/>
        </p:nvSpPr>
        <p:spPr>
          <a:xfrm flipH="1" flipV="1">
            <a:off x="2017440" y="1449360"/>
            <a:ext cx="515880" cy="123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0" name=""/>
          <p:cNvSpPr/>
          <p:nvPr/>
        </p:nvSpPr>
        <p:spPr>
          <a:xfrm flipH="1">
            <a:off x="1773000" y="1449360"/>
            <a:ext cx="23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1" name=""/>
          <p:cNvSpPr/>
          <p:nvPr/>
        </p:nvSpPr>
        <p:spPr>
          <a:xfrm flipH="1">
            <a:off x="1608120" y="1449360"/>
            <a:ext cx="217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2" name=""/>
          <p:cNvSpPr/>
          <p:nvPr/>
        </p:nvSpPr>
        <p:spPr>
          <a:xfrm flipH="1">
            <a:off x="1449000" y="1449360"/>
            <a:ext cx="1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3" name=""/>
          <p:cNvSpPr/>
          <p:nvPr/>
        </p:nvSpPr>
        <p:spPr>
          <a:xfrm flipH="1">
            <a:off x="1336680" y="1449360"/>
            <a:ext cx="130320" cy="114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4" name=""/>
          <p:cNvSpPr/>
          <p:nvPr/>
        </p:nvSpPr>
        <p:spPr>
          <a:xfrm>
            <a:off x="1336680" y="1563840"/>
            <a:ext cx="0" cy="87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5" name=""/>
          <p:cNvSpPr/>
          <p:nvPr/>
        </p:nvSpPr>
        <p:spPr>
          <a:xfrm>
            <a:off x="1336680" y="1643040"/>
            <a:ext cx="0" cy="139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6" name=""/>
          <p:cNvSpPr/>
          <p:nvPr/>
        </p:nvSpPr>
        <p:spPr>
          <a:xfrm>
            <a:off x="1336680" y="1782720"/>
            <a:ext cx="0" cy="954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7" name=""/>
          <p:cNvSpPr/>
          <p:nvPr/>
        </p:nvSpPr>
        <p:spPr>
          <a:xfrm>
            <a:off x="1336680" y="1870200"/>
            <a:ext cx="2052720" cy="60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8" name=""/>
          <p:cNvSpPr/>
          <p:nvPr/>
        </p:nvSpPr>
        <p:spPr>
          <a:xfrm>
            <a:off x="1389240" y="1112400"/>
            <a:ext cx="53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9" name=""/>
          <p:cNvSpPr/>
          <p:nvPr/>
        </p:nvSpPr>
        <p:spPr>
          <a:xfrm>
            <a:off x="1044720" y="1858680"/>
            <a:ext cx="53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0" name=""/>
          <p:cNvSpPr/>
          <p:nvPr/>
        </p:nvSpPr>
        <p:spPr>
          <a:xfrm>
            <a:off x="3268800" y="2361960"/>
            <a:ext cx="53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1" name=""/>
          <p:cNvSpPr/>
          <p:nvPr/>
        </p:nvSpPr>
        <p:spPr>
          <a:xfrm>
            <a:off x="555480" y="4183200"/>
            <a:ext cx="822600" cy="1339560"/>
          </a:xfrm>
          <a:custGeom>
            <a:avLst/>
            <a:gdLst>
              <a:gd name="textAreaLeft" fmla="*/ 39960 w 822600"/>
              <a:gd name="textAreaRight" fmla="*/ 782640 w 822600"/>
              <a:gd name="textAreaTop" fmla="*/ 39960 h 1339560"/>
              <a:gd name="textAreaBottom" fmla="*/ 1299600 h 1339560"/>
            </a:gdLst>
            <a:ahLst/>
            <a:rect l="textAreaLeft" t="textAreaTop" r="textAreaRight" b="textAreaBottom"/>
            <a:pathLst>
              <a:path w="21600" h="35169">
                <a:moveTo>
                  <a:pt x="3600" y="0"/>
                </a:moveTo>
                <a:arcTo wR="3600" hR="3600" stAng="16200000" swAng="-5400000"/>
                <a:lnTo>
                  <a:pt x="0" y="31569"/>
                </a:lnTo>
                <a:arcTo wR="3600" hR="3600" stAng="10800000" swAng="-5400000"/>
                <a:lnTo>
                  <a:pt x="18000" y="351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6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2" name=""/>
          <p:cNvSpPr/>
          <p:nvPr/>
        </p:nvSpPr>
        <p:spPr>
          <a:xfrm>
            <a:off x="1517760" y="4837680"/>
            <a:ext cx="51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cs-CZ" sz="20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3" name=""/>
          <p:cNvSpPr/>
          <p:nvPr/>
        </p:nvSpPr>
        <p:spPr>
          <a:xfrm>
            <a:off x="720720" y="428904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cs-CZ" sz="16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4" name=""/>
          <p:cNvSpPr/>
          <p:nvPr/>
        </p:nvSpPr>
        <p:spPr>
          <a:xfrm>
            <a:off x="1536840" y="4242600"/>
            <a:ext cx="51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cs-CZ" sz="20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5" name=""/>
          <p:cNvSpPr/>
          <p:nvPr/>
        </p:nvSpPr>
        <p:spPr>
          <a:xfrm>
            <a:off x="541440" y="4556520"/>
            <a:ext cx="863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cs-CZ" sz="4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6" name=""/>
          <p:cNvSpPr/>
          <p:nvPr/>
        </p:nvSpPr>
        <p:spPr>
          <a:xfrm flipH="1">
            <a:off x="1185840" y="4467240"/>
            <a:ext cx="419040" cy="19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7" name=""/>
          <p:cNvSpPr/>
          <p:nvPr/>
        </p:nvSpPr>
        <p:spPr>
          <a:xfrm flipV="1">
            <a:off x="1231920" y="5046480"/>
            <a:ext cx="399960" cy="6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348" name=""/>
          <p:cNvGraphicFramePr/>
          <p:nvPr/>
        </p:nvGraphicFramePr>
        <p:xfrm>
          <a:off x="4916520" y="4284720"/>
          <a:ext cx="1457280" cy="1724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34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916520" y="4284720"/>
                    <a:ext cx="1457280" cy="172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50" name=""/>
          <p:cNvSpPr/>
          <p:nvPr/>
        </p:nvSpPr>
        <p:spPr>
          <a:xfrm>
            <a:off x="3689280" y="4110120"/>
            <a:ext cx="785880" cy="1339920"/>
          </a:xfrm>
          <a:custGeom>
            <a:avLst/>
            <a:gdLst>
              <a:gd name="textAreaLeft" fmla="*/ 38160 w 785880"/>
              <a:gd name="textAreaRight" fmla="*/ 747720 w 785880"/>
              <a:gd name="textAreaTop" fmla="*/ 38160 h 1339920"/>
              <a:gd name="textAreaBottom" fmla="*/ 1301760 h 1339920"/>
            </a:gdLst>
            <a:ahLst/>
            <a:rect l="textAreaLeft" t="textAreaTop" r="textAreaRight" b="textAreaBottom"/>
            <a:pathLst>
              <a:path w="21600" h="36821">
                <a:moveTo>
                  <a:pt x="3600" y="0"/>
                </a:moveTo>
                <a:arcTo wR="3600" hR="3600" stAng="16200000" swAng="-5400000"/>
                <a:lnTo>
                  <a:pt x="0" y="33221"/>
                </a:lnTo>
                <a:arcTo wR="3600" hR="3600" stAng="10800000" swAng="-5400000"/>
                <a:lnTo>
                  <a:pt x="18000" y="3682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6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1" name=""/>
          <p:cNvSpPr/>
          <p:nvPr/>
        </p:nvSpPr>
        <p:spPr>
          <a:xfrm>
            <a:off x="4606920" y="481932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cs-CZ" sz="16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2" name=""/>
          <p:cNvSpPr/>
          <p:nvPr/>
        </p:nvSpPr>
        <p:spPr>
          <a:xfrm>
            <a:off x="3809880" y="424152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cs-CZ" sz="16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3" name=""/>
          <p:cNvSpPr/>
          <p:nvPr/>
        </p:nvSpPr>
        <p:spPr>
          <a:xfrm>
            <a:off x="4626000" y="4194720"/>
            <a:ext cx="51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cs-CZ" sz="20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4" name=""/>
          <p:cNvSpPr/>
          <p:nvPr/>
        </p:nvSpPr>
        <p:spPr>
          <a:xfrm>
            <a:off x="3673440" y="474084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cs-CZ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5" name=""/>
          <p:cNvSpPr/>
          <p:nvPr/>
        </p:nvSpPr>
        <p:spPr>
          <a:xfrm flipH="1">
            <a:off x="4274640" y="4419720"/>
            <a:ext cx="419400" cy="19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6" name=""/>
          <p:cNvSpPr/>
          <p:nvPr/>
        </p:nvSpPr>
        <p:spPr>
          <a:xfrm flipV="1">
            <a:off x="4321080" y="4998960"/>
            <a:ext cx="400320" cy="6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357" name=""/>
          <p:cNvGraphicFramePr/>
          <p:nvPr/>
        </p:nvGraphicFramePr>
        <p:xfrm>
          <a:off x="7607160" y="4218120"/>
          <a:ext cx="1457640" cy="17240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035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607160" y="4218120"/>
                    <a:ext cx="1457640" cy="172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59" name=""/>
          <p:cNvSpPr/>
          <p:nvPr/>
        </p:nvSpPr>
        <p:spPr>
          <a:xfrm>
            <a:off x="6510240" y="4092480"/>
            <a:ext cx="743040" cy="1339920"/>
          </a:xfrm>
          <a:custGeom>
            <a:avLst/>
            <a:gdLst>
              <a:gd name="textAreaLeft" fmla="*/ 36000 w 743040"/>
              <a:gd name="textAreaRight" fmla="*/ 707040 w 743040"/>
              <a:gd name="textAreaTop" fmla="*/ 36000 h 1339920"/>
              <a:gd name="textAreaBottom" fmla="*/ 1303920 h 1339920"/>
            </a:gdLst>
            <a:ahLst/>
            <a:rect l="textAreaLeft" t="textAreaTop" r="textAreaRight" b="textAreaBottom"/>
            <a:pathLst>
              <a:path w="21600" h="38943">
                <a:moveTo>
                  <a:pt x="3600" y="0"/>
                </a:moveTo>
                <a:arcTo wR="3600" hR="3600" stAng="16200000" swAng="-5400000"/>
                <a:lnTo>
                  <a:pt x="0" y="35343"/>
                </a:lnTo>
                <a:arcTo wR="3600" hR="3600" stAng="10800000" swAng="-5400000"/>
                <a:lnTo>
                  <a:pt x="18000" y="3894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6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0" name=""/>
          <p:cNvSpPr/>
          <p:nvPr/>
        </p:nvSpPr>
        <p:spPr>
          <a:xfrm>
            <a:off x="7331040" y="4777560"/>
            <a:ext cx="519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cs-CZ" sz="10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1" name=""/>
          <p:cNvSpPr/>
          <p:nvPr/>
        </p:nvSpPr>
        <p:spPr>
          <a:xfrm>
            <a:off x="6534000" y="415584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cs-CZ" sz="16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2" name=""/>
          <p:cNvSpPr/>
          <p:nvPr/>
        </p:nvSpPr>
        <p:spPr>
          <a:xfrm>
            <a:off x="7351560" y="4183920"/>
            <a:ext cx="51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cs-CZ" sz="1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3" name=""/>
          <p:cNvSpPr/>
          <p:nvPr/>
        </p:nvSpPr>
        <p:spPr>
          <a:xfrm>
            <a:off x="6364440" y="4707720"/>
            <a:ext cx="86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cs-CZ" sz="20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4" name=""/>
          <p:cNvSpPr/>
          <p:nvPr/>
        </p:nvSpPr>
        <p:spPr>
          <a:xfrm flipH="1">
            <a:off x="6999120" y="4343400"/>
            <a:ext cx="463680" cy="93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5" name=""/>
          <p:cNvSpPr/>
          <p:nvPr/>
        </p:nvSpPr>
        <p:spPr>
          <a:xfrm flipV="1">
            <a:off x="7045200" y="4913280"/>
            <a:ext cx="400320" cy="648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6" name=""/>
          <p:cNvSpPr/>
          <p:nvPr/>
        </p:nvSpPr>
        <p:spPr>
          <a:xfrm>
            <a:off x="3078000" y="1633320"/>
            <a:ext cx="536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367" name=""/>
          <p:cNvGraphicFramePr/>
          <p:nvPr/>
        </p:nvGraphicFramePr>
        <p:xfrm>
          <a:off x="7346880" y="930240"/>
          <a:ext cx="1457280" cy="17240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0368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346880" y="930240"/>
                    <a:ext cx="1457280" cy="172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69" name=""/>
          <p:cNvSpPr/>
          <p:nvPr/>
        </p:nvSpPr>
        <p:spPr>
          <a:xfrm>
            <a:off x="6126120" y="614520"/>
            <a:ext cx="822240" cy="1339560"/>
          </a:xfrm>
          <a:custGeom>
            <a:avLst/>
            <a:gdLst>
              <a:gd name="textAreaLeft" fmla="*/ 39960 w 822240"/>
              <a:gd name="textAreaRight" fmla="*/ 782280 w 822240"/>
              <a:gd name="textAreaTop" fmla="*/ 39960 h 1339560"/>
              <a:gd name="textAreaBottom" fmla="*/ 1299600 h 1339560"/>
            </a:gdLst>
            <a:ahLst/>
            <a:rect l="textAreaLeft" t="textAreaTop" r="textAreaRight" b="textAreaBottom"/>
            <a:pathLst>
              <a:path w="21600" h="35184">
                <a:moveTo>
                  <a:pt x="3600" y="0"/>
                </a:moveTo>
                <a:arcTo wR="3600" hR="3600" stAng="16200000" swAng="-5400000"/>
                <a:lnTo>
                  <a:pt x="0" y="31584"/>
                </a:lnTo>
                <a:arcTo wR="3600" hR="3600" stAng="10800000" swAng="-5400000"/>
                <a:lnTo>
                  <a:pt x="18000" y="351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6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0" name=""/>
          <p:cNvSpPr/>
          <p:nvPr/>
        </p:nvSpPr>
        <p:spPr>
          <a:xfrm>
            <a:off x="7088040" y="1269000"/>
            <a:ext cx="51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cs-CZ" sz="20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1" name=""/>
          <p:cNvSpPr/>
          <p:nvPr/>
        </p:nvSpPr>
        <p:spPr>
          <a:xfrm>
            <a:off x="6291360" y="7203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cs-CZ" sz="16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2" name=""/>
          <p:cNvSpPr/>
          <p:nvPr/>
        </p:nvSpPr>
        <p:spPr>
          <a:xfrm>
            <a:off x="7107120" y="732600"/>
            <a:ext cx="51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cs-CZ" sz="1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3" name=""/>
          <p:cNvSpPr/>
          <p:nvPr/>
        </p:nvSpPr>
        <p:spPr>
          <a:xfrm>
            <a:off x="6111720" y="987840"/>
            <a:ext cx="863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cs-CZ" sz="4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4" name=""/>
          <p:cNvSpPr/>
          <p:nvPr/>
        </p:nvSpPr>
        <p:spPr>
          <a:xfrm>
            <a:off x="6708600" y="2923920"/>
            <a:ext cx="108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A: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Nor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5" name=""/>
          <p:cNvSpPr/>
          <p:nvPr/>
        </p:nvSpPr>
        <p:spPr>
          <a:xfrm>
            <a:off x="328680" y="6143760"/>
            <a:ext cx="185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B: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Acidóza - výměna K</a:t>
            </a:r>
            <a:r>
              <a:rPr b="0" lang="cs-CZ" sz="16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za H</a:t>
            </a:r>
            <a:r>
              <a:rPr b="0" lang="cs-CZ" sz="16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6" name=""/>
          <p:cNvSpPr/>
          <p:nvPr/>
        </p:nvSpPr>
        <p:spPr>
          <a:xfrm>
            <a:off x="3714840" y="6141960"/>
            <a:ext cx="2519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C: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Dlouhodobá acidóza - deplece K</a:t>
            </a:r>
            <a:r>
              <a:rPr b="0" lang="cs-CZ" sz="16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7" name=""/>
          <p:cNvSpPr/>
          <p:nvPr/>
        </p:nvSpPr>
        <p:spPr>
          <a:xfrm>
            <a:off x="6554880" y="6033240"/>
            <a:ext cx="2292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D: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Rychlá alkalizace - výměna H</a:t>
            </a:r>
            <a:r>
              <a:rPr b="0" lang="cs-CZ" sz="16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za K</a:t>
            </a:r>
            <a:r>
              <a:rPr b="0" lang="cs-CZ" sz="1600" spc="-1" strike="noStrike" baseline="30000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- nebezpečná hypokalémi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78" name=""/>
          <p:cNvGrpSpPr/>
          <p:nvPr/>
        </p:nvGrpSpPr>
        <p:grpSpPr>
          <a:xfrm>
            <a:off x="513360" y="1397160"/>
            <a:ext cx="8630640" cy="4579920"/>
            <a:chOff x="513360" y="1397160"/>
            <a:chExt cx="8630640" cy="4579920"/>
          </a:xfrm>
        </p:grpSpPr>
        <p:graphicFrame>
          <p:nvGraphicFramePr>
            <p:cNvPr id="10379" name=""/>
            <p:cNvGraphicFramePr/>
            <p:nvPr/>
          </p:nvGraphicFramePr>
          <p:xfrm>
            <a:off x="2670120" y="3732120"/>
            <a:ext cx="1187640" cy="6555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03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670120" y="3732120"/>
                      <a:ext cx="118764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0381" name=""/>
            <p:cNvGrpSpPr/>
            <p:nvPr/>
          </p:nvGrpSpPr>
          <p:grpSpPr>
            <a:xfrm>
              <a:off x="2243160" y="4332240"/>
              <a:ext cx="863640" cy="1077840"/>
              <a:chOff x="2243160" y="4332240"/>
              <a:chExt cx="863640" cy="1077840"/>
            </a:xfrm>
          </p:grpSpPr>
          <p:grpSp>
            <p:nvGrpSpPr>
              <p:cNvPr id="10382" name=""/>
              <p:cNvGrpSpPr/>
              <p:nvPr/>
            </p:nvGrpSpPr>
            <p:grpSpPr>
              <a:xfrm>
                <a:off x="2396160" y="4577040"/>
                <a:ext cx="584640" cy="502200"/>
                <a:chOff x="2396160" y="4577040"/>
                <a:chExt cx="584640" cy="502200"/>
              </a:xfrm>
            </p:grpSpPr>
            <p:sp>
              <p:nvSpPr>
                <p:cNvPr id="10383" name=""/>
                <p:cNvSpPr/>
                <p:nvPr/>
              </p:nvSpPr>
              <p:spPr>
                <a:xfrm>
                  <a:off x="2532240" y="4713120"/>
                  <a:ext cx="391680" cy="366120"/>
                </a:xfrm>
                <a:custGeom>
                  <a:avLst/>
                  <a:gdLst/>
                  <a:ahLst/>
                  <a:rect l="l" t="t" r="r" b="b"/>
                  <a:pathLst>
                    <a:path w="975" h="912">
                      <a:moveTo>
                        <a:pt x="443" y="801"/>
                      </a:moveTo>
                      <a:lnTo>
                        <a:pt x="401" y="808"/>
                      </a:lnTo>
                      <a:lnTo>
                        <a:pt x="358" y="834"/>
                      </a:lnTo>
                      <a:lnTo>
                        <a:pt x="329" y="870"/>
                      </a:lnTo>
                      <a:lnTo>
                        <a:pt x="318" y="893"/>
                      </a:lnTo>
                      <a:lnTo>
                        <a:pt x="250" y="902"/>
                      </a:lnTo>
                      <a:lnTo>
                        <a:pt x="210" y="909"/>
                      </a:lnTo>
                      <a:lnTo>
                        <a:pt x="176" y="912"/>
                      </a:lnTo>
                      <a:lnTo>
                        <a:pt x="137" y="909"/>
                      </a:lnTo>
                      <a:lnTo>
                        <a:pt x="95" y="896"/>
                      </a:lnTo>
                      <a:lnTo>
                        <a:pt x="63" y="873"/>
                      </a:lnTo>
                      <a:lnTo>
                        <a:pt x="39" y="840"/>
                      </a:lnTo>
                      <a:lnTo>
                        <a:pt x="25" y="792"/>
                      </a:lnTo>
                      <a:lnTo>
                        <a:pt x="17" y="765"/>
                      </a:lnTo>
                      <a:lnTo>
                        <a:pt x="22" y="732"/>
                      </a:lnTo>
                      <a:lnTo>
                        <a:pt x="36" y="709"/>
                      </a:lnTo>
                      <a:lnTo>
                        <a:pt x="71" y="705"/>
                      </a:lnTo>
                      <a:lnTo>
                        <a:pt x="105" y="707"/>
                      </a:lnTo>
                      <a:lnTo>
                        <a:pt x="134" y="716"/>
                      </a:lnTo>
                      <a:lnTo>
                        <a:pt x="161" y="739"/>
                      </a:lnTo>
                      <a:lnTo>
                        <a:pt x="200" y="755"/>
                      </a:lnTo>
                      <a:lnTo>
                        <a:pt x="272" y="769"/>
                      </a:lnTo>
                      <a:lnTo>
                        <a:pt x="318" y="771"/>
                      </a:lnTo>
                      <a:lnTo>
                        <a:pt x="361" y="765"/>
                      </a:lnTo>
                      <a:lnTo>
                        <a:pt x="396" y="746"/>
                      </a:lnTo>
                      <a:lnTo>
                        <a:pt x="416" y="728"/>
                      </a:lnTo>
                      <a:lnTo>
                        <a:pt x="446" y="696"/>
                      </a:lnTo>
                      <a:lnTo>
                        <a:pt x="477" y="686"/>
                      </a:lnTo>
                      <a:lnTo>
                        <a:pt x="532" y="686"/>
                      </a:lnTo>
                      <a:lnTo>
                        <a:pt x="578" y="680"/>
                      </a:lnTo>
                      <a:lnTo>
                        <a:pt x="617" y="669"/>
                      </a:lnTo>
                      <a:lnTo>
                        <a:pt x="644" y="647"/>
                      </a:lnTo>
                      <a:lnTo>
                        <a:pt x="690" y="608"/>
                      </a:lnTo>
                      <a:lnTo>
                        <a:pt x="607" y="661"/>
                      </a:lnTo>
                      <a:lnTo>
                        <a:pt x="574" y="670"/>
                      </a:lnTo>
                      <a:lnTo>
                        <a:pt x="525" y="680"/>
                      </a:lnTo>
                      <a:lnTo>
                        <a:pt x="475" y="680"/>
                      </a:lnTo>
                      <a:lnTo>
                        <a:pt x="447" y="680"/>
                      </a:lnTo>
                      <a:lnTo>
                        <a:pt x="423" y="654"/>
                      </a:lnTo>
                      <a:lnTo>
                        <a:pt x="396" y="613"/>
                      </a:lnTo>
                      <a:lnTo>
                        <a:pt x="334" y="558"/>
                      </a:lnTo>
                      <a:lnTo>
                        <a:pt x="223" y="475"/>
                      </a:lnTo>
                      <a:lnTo>
                        <a:pt x="167" y="452"/>
                      </a:lnTo>
                      <a:lnTo>
                        <a:pt x="118" y="431"/>
                      </a:lnTo>
                      <a:lnTo>
                        <a:pt x="63" y="404"/>
                      </a:lnTo>
                      <a:lnTo>
                        <a:pt x="36" y="385"/>
                      </a:lnTo>
                      <a:lnTo>
                        <a:pt x="12" y="365"/>
                      </a:lnTo>
                      <a:lnTo>
                        <a:pt x="2" y="328"/>
                      </a:lnTo>
                      <a:lnTo>
                        <a:pt x="0" y="292"/>
                      </a:lnTo>
                      <a:lnTo>
                        <a:pt x="5" y="255"/>
                      </a:lnTo>
                      <a:lnTo>
                        <a:pt x="17" y="220"/>
                      </a:lnTo>
                      <a:lnTo>
                        <a:pt x="43" y="184"/>
                      </a:lnTo>
                      <a:lnTo>
                        <a:pt x="82" y="158"/>
                      </a:lnTo>
                      <a:lnTo>
                        <a:pt x="128" y="140"/>
                      </a:lnTo>
                      <a:lnTo>
                        <a:pt x="173" y="132"/>
                      </a:lnTo>
                      <a:lnTo>
                        <a:pt x="245" y="131"/>
                      </a:lnTo>
                      <a:lnTo>
                        <a:pt x="345" y="138"/>
                      </a:lnTo>
                      <a:lnTo>
                        <a:pt x="429" y="138"/>
                      </a:lnTo>
                      <a:lnTo>
                        <a:pt x="475" y="155"/>
                      </a:lnTo>
                      <a:lnTo>
                        <a:pt x="489" y="190"/>
                      </a:lnTo>
                      <a:lnTo>
                        <a:pt x="489" y="240"/>
                      </a:lnTo>
                      <a:lnTo>
                        <a:pt x="490" y="304"/>
                      </a:lnTo>
                      <a:lnTo>
                        <a:pt x="502" y="240"/>
                      </a:lnTo>
                      <a:lnTo>
                        <a:pt x="493" y="177"/>
                      </a:lnTo>
                      <a:lnTo>
                        <a:pt x="496" y="147"/>
                      </a:lnTo>
                      <a:lnTo>
                        <a:pt x="523" y="127"/>
                      </a:lnTo>
                      <a:lnTo>
                        <a:pt x="544" y="104"/>
                      </a:lnTo>
                      <a:lnTo>
                        <a:pt x="564" y="66"/>
                      </a:lnTo>
                      <a:lnTo>
                        <a:pt x="587" y="20"/>
                      </a:lnTo>
                      <a:lnTo>
                        <a:pt x="614" y="0"/>
                      </a:lnTo>
                      <a:lnTo>
                        <a:pt x="653" y="0"/>
                      </a:lnTo>
                      <a:lnTo>
                        <a:pt x="695" y="12"/>
                      </a:lnTo>
                      <a:lnTo>
                        <a:pt x="722" y="35"/>
                      </a:lnTo>
                      <a:lnTo>
                        <a:pt x="791" y="42"/>
                      </a:lnTo>
                      <a:lnTo>
                        <a:pt x="841" y="48"/>
                      </a:lnTo>
                      <a:lnTo>
                        <a:pt x="889" y="71"/>
                      </a:lnTo>
                      <a:lnTo>
                        <a:pt x="932" y="117"/>
                      </a:lnTo>
                      <a:lnTo>
                        <a:pt x="965" y="196"/>
                      </a:lnTo>
                      <a:lnTo>
                        <a:pt x="973" y="243"/>
                      </a:lnTo>
                      <a:lnTo>
                        <a:pt x="969" y="292"/>
                      </a:lnTo>
                      <a:lnTo>
                        <a:pt x="975" y="342"/>
                      </a:lnTo>
                      <a:lnTo>
                        <a:pt x="965" y="381"/>
                      </a:lnTo>
                      <a:lnTo>
                        <a:pt x="939" y="397"/>
                      </a:lnTo>
                      <a:lnTo>
                        <a:pt x="903" y="420"/>
                      </a:lnTo>
                      <a:lnTo>
                        <a:pt x="877" y="446"/>
                      </a:lnTo>
                      <a:lnTo>
                        <a:pt x="845" y="457"/>
                      </a:lnTo>
                      <a:lnTo>
                        <a:pt x="807" y="452"/>
                      </a:lnTo>
                      <a:lnTo>
                        <a:pt x="791" y="446"/>
                      </a:lnTo>
                      <a:lnTo>
                        <a:pt x="787" y="373"/>
                      </a:lnTo>
                      <a:lnTo>
                        <a:pt x="787" y="308"/>
                      </a:lnTo>
                      <a:lnTo>
                        <a:pt x="769" y="266"/>
                      </a:lnTo>
                      <a:lnTo>
                        <a:pt x="729" y="227"/>
                      </a:lnTo>
                      <a:lnTo>
                        <a:pt x="680" y="184"/>
                      </a:lnTo>
                      <a:lnTo>
                        <a:pt x="667" y="173"/>
                      </a:lnTo>
                      <a:lnTo>
                        <a:pt x="695" y="204"/>
                      </a:lnTo>
                      <a:lnTo>
                        <a:pt x="753" y="259"/>
                      </a:lnTo>
                      <a:lnTo>
                        <a:pt x="775" y="304"/>
                      </a:lnTo>
                      <a:lnTo>
                        <a:pt x="779" y="344"/>
                      </a:lnTo>
                      <a:lnTo>
                        <a:pt x="784" y="443"/>
                      </a:lnTo>
                      <a:lnTo>
                        <a:pt x="710" y="452"/>
                      </a:lnTo>
                      <a:lnTo>
                        <a:pt x="653" y="475"/>
                      </a:lnTo>
                      <a:lnTo>
                        <a:pt x="601" y="492"/>
                      </a:lnTo>
                      <a:lnTo>
                        <a:pt x="564" y="492"/>
                      </a:lnTo>
                      <a:lnTo>
                        <a:pt x="528" y="475"/>
                      </a:lnTo>
                      <a:lnTo>
                        <a:pt x="502" y="447"/>
                      </a:lnTo>
                      <a:lnTo>
                        <a:pt x="457" y="404"/>
                      </a:lnTo>
                      <a:lnTo>
                        <a:pt x="408" y="370"/>
                      </a:lnTo>
                      <a:lnTo>
                        <a:pt x="347" y="344"/>
                      </a:lnTo>
                      <a:lnTo>
                        <a:pt x="283" y="324"/>
                      </a:lnTo>
                      <a:lnTo>
                        <a:pt x="176" y="296"/>
                      </a:lnTo>
                      <a:lnTo>
                        <a:pt x="272" y="335"/>
                      </a:lnTo>
                      <a:lnTo>
                        <a:pt x="347" y="355"/>
                      </a:lnTo>
                      <a:lnTo>
                        <a:pt x="452" y="411"/>
                      </a:lnTo>
                      <a:lnTo>
                        <a:pt x="500" y="462"/>
                      </a:lnTo>
                      <a:lnTo>
                        <a:pt x="548" y="498"/>
                      </a:lnTo>
                      <a:lnTo>
                        <a:pt x="594" y="503"/>
                      </a:lnTo>
                      <a:lnTo>
                        <a:pt x="636" y="493"/>
                      </a:lnTo>
                      <a:lnTo>
                        <a:pt x="679" y="477"/>
                      </a:lnTo>
                      <a:lnTo>
                        <a:pt x="726" y="459"/>
                      </a:lnTo>
                      <a:lnTo>
                        <a:pt x="776" y="452"/>
                      </a:lnTo>
                      <a:lnTo>
                        <a:pt x="835" y="462"/>
                      </a:lnTo>
                      <a:lnTo>
                        <a:pt x="847" y="477"/>
                      </a:lnTo>
                      <a:lnTo>
                        <a:pt x="830" y="528"/>
                      </a:lnTo>
                      <a:lnTo>
                        <a:pt x="827" y="597"/>
                      </a:lnTo>
                      <a:lnTo>
                        <a:pt x="825" y="657"/>
                      </a:lnTo>
                      <a:lnTo>
                        <a:pt x="811" y="707"/>
                      </a:lnTo>
                      <a:lnTo>
                        <a:pt x="792" y="759"/>
                      </a:lnTo>
                      <a:lnTo>
                        <a:pt x="779" y="792"/>
                      </a:lnTo>
                      <a:lnTo>
                        <a:pt x="758" y="817"/>
                      </a:lnTo>
                      <a:lnTo>
                        <a:pt x="726" y="834"/>
                      </a:lnTo>
                      <a:lnTo>
                        <a:pt x="690" y="845"/>
                      </a:lnTo>
                      <a:lnTo>
                        <a:pt x="630" y="858"/>
                      </a:lnTo>
                      <a:lnTo>
                        <a:pt x="591" y="858"/>
                      </a:lnTo>
                      <a:lnTo>
                        <a:pt x="541" y="835"/>
                      </a:lnTo>
                      <a:lnTo>
                        <a:pt x="498" y="812"/>
                      </a:lnTo>
                      <a:lnTo>
                        <a:pt x="443" y="801"/>
                      </a:lnTo>
                      <a:close/>
                    </a:path>
                  </a:pathLst>
                </a:custGeom>
                <a:solidFill>
                  <a:srgbClr val="ff8080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84" name=""/>
                <p:cNvSpPr/>
                <p:nvPr/>
              </p:nvSpPr>
              <p:spPr>
                <a:xfrm>
                  <a:off x="2396160" y="4622400"/>
                  <a:ext cx="366120" cy="398880"/>
                </a:xfrm>
                <a:custGeom>
                  <a:avLst/>
                  <a:gdLst/>
                  <a:ahLst/>
                  <a:rect l="l" t="t" r="r" b="b"/>
                  <a:pathLst>
                    <a:path w="913" h="995">
                      <a:moveTo>
                        <a:pt x="546" y="803"/>
                      </a:moveTo>
                      <a:lnTo>
                        <a:pt x="546" y="826"/>
                      </a:lnTo>
                      <a:lnTo>
                        <a:pt x="542" y="841"/>
                      </a:lnTo>
                      <a:lnTo>
                        <a:pt x="526" y="839"/>
                      </a:lnTo>
                      <a:lnTo>
                        <a:pt x="517" y="831"/>
                      </a:lnTo>
                      <a:lnTo>
                        <a:pt x="473" y="942"/>
                      </a:lnTo>
                      <a:lnTo>
                        <a:pt x="507" y="965"/>
                      </a:lnTo>
                      <a:lnTo>
                        <a:pt x="539" y="979"/>
                      </a:lnTo>
                      <a:lnTo>
                        <a:pt x="589" y="991"/>
                      </a:lnTo>
                      <a:lnTo>
                        <a:pt x="634" y="995"/>
                      </a:lnTo>
                      <a:lnTo>
                        <a:pt x="686" y="991"/>
                      </a:lnTo>
                      <a:lnTo>
                        <a:pt x="713" y="981"/>
                      </a:lnTo>
                      <a:lnTo>
                        <a:pt x="739" y="968"/>
                      </a:lnTo>
                      <a:lnTo>
                        <a:pt x="758" y="949"/>
                      </a:lnTo>
                      <a:lnTo>
                        <a:pt x="768" y="929"/>
                      </a:lnTo>
                      <a:lnTo>
                        <a:pt x="768" y="895"/>
                      </a:lnTo>
                      <a:lnTo>
                        <a:pt x="739" y="843"/>
                      </a:lnTo>
                      <a:lnTo>
                        <a:pt x="704" y="811"/>
                      </a:lnTo>
                      <a:lnTo>
                        <a:pt x="657" y="770"/>
                      </a:lnTo>
                      <a:lnTo>
                        <a:pt x="584" y="715"/>
                      </a:lnTo>
                      <a:lnTo>
                        <a:pt x="535" y="689"/>
                      </a:lnTo>
                      <a:lnTo>
                        <a:pt x="430" y="643"/>
                      </a:lnTo>
                      <a:lnTo>
                        <a:pt x="368" y="630"/>
                      </a:lnTo>
                      <a:lnTo>
                        <a:pt x="333" y="630"/>
                      </a:lnTo>
                      <a:lnTo>
                        <a:pt x="283" y="639"/>
                      </a:lnTo>
                      <a:lnTo>
                        <a:pt x="213" y="669"/>
                      </a:lnTo>
                      <a:lnTo>
                        <a:pt x="279" y="623"/>
                      </a:lnTo>
                      <a:lnTo>
                        <a:pt x="306" y="587"/>
                      </a:lnTo>
                      <a:lnTo>
                        <a:pt x="325" y="535"/>
                      </a:lnTo>
                      <a:lnTo>
                        <a:pt x="341" y="478"/>
                      </a:lnTo>
                      <a:lnTo>
                        <a:pt x="344" y="412"/>
                      </a:lnTo>
                      <a:lnTo>
                        <a:pt x="329" y="341"/>
                      </a:lnTo>
                      <a:lnTo>
                        <a:pt x="309" y="312"/>
                      </a:lnTo>
                      <a:lnTo>
                        <a:pt x="279" y="285"/>
                      </a:lnTo>
                      <a:lnTo>
                        <a:pt x="239" y="246"/>
                      </a:lnTo>
                      <a:lnTo>
                        <a:pt x="300" y="288"/>
                      </a:lnTo>
                      <a:lnTo>
                        <a:pt x="341" y="312"/>
                      </a:lnTo>
                      <a:lnTo>
                        <a:pt x="355" y="320"/>
                      </a:lnTo>
                      <a:lnTo>
                        <a:pt x="395" y="338"/>
                      </a:lnTo>
                      <a:lnTo>
                        <a:pt x="457" y="354"/>
                      </a:lnTo>
                      <a:lnTo>
                        <a:pt x="529" y="354"/>
                      </a:lnTo>
                      <a:lnTo>
                        <a:pt x="624" y="357"/>
                      </a:lnTo>
                      <a:lnTo>
                        <a:pt x="700" y="361"/>
                      </a:lnTo>
                      <a:lnTo>
                        <a:pt x="768" y="358"/>
                      </a:lnTo>
                      <a:lnTo>
                        <a:pt x="802" y="370"/>
                      </a:lnTo>
                      <a:lnTo>
                        <a:pt x="835" y="370"/>
                      </a:lnTo>
                      <a:lnTo>
                        <a:pt x="868" y="346"/>
                      </a:lnTo>
                      <a:lnTo>
                        <a:pt x="894" y="308"/>
                      </a:lnTo>
                      <a:lnTo>
                        <a:pt x="910" y="272"/>
                      </a:lnTo>
                      <a:lnTo>
                        <a:pt x="913" y="238"/>
                      </a:lnTo>
                      <a:lnTo>
                        <a:pt x="898" y="216"/>
                      </a:lnTo>
                      <a:lnTo>
                        <a:pt x="868" y="205"/>
                      </a:lnTo>
                      <a:lnTo>
                        <a:pt x="847" y="184"/>
                      </a:lnTo>
                      <a:lnTo>
                        <a:pt x="847" y="157"/>
                      </a:lnTo>
                      <a:lnTo>
                        <a:pt x="835" y="137"/>
                      </a:lnTo>
                      <a:lnTo>
                        <a:pt x="821" y="120"/>
                      </a:lnTo>
                      <a:lnTo>
                        <a:pt x="802" y="107"/>
                      </a:lnTo>
                      <a:lnTo>
                        <a:pt x="766" y="95"/>
                      </a:lnTo>
                      <a:lnTo>
                        <a:pt x="709" y="120"/>
                      </a:lnTo>
                      <a:lnTo>
                        <a:pt x="658" y="127"/>
                      </a:lnTo>
                      <a:lnTo>
                        <a:pt x="601" y="130"/>
                      </a:lnTo>
                      <a:lnTo>
                        <a:pt x="556" y="123"/>
                      </a:lnTo>
                      <a:lnTo>
                        <a:pt x="500" y="107"/>
                      </a:lnTo>
                      <a:lnTo>
                        <a:pt x="448" y="81"/>
                      </a:lnTo>
                      <a:lnTo>
                        <a:pt x="417" y="62"/>
                      </a:lnTo>
                      <a:lnTo>
                        <a:pt x="390" y="68"/>
                      </a:lnTo>
                      <a:lnTo>
                        <a:pt x="368" y="80"/>
                      </a:lnTo>
                      <a:lnTo>
                        <a:pt x="375" y="123"/>
                      </a:lnTo>
                      <a:lnTo>
                        <a:pt x="430" y="154"/>
                      </a:lnTo>
                      <a:lnTo>
                        <a:pt x="487" y="189"/>
                      </a:lnTo>
                      <a:lnTo>
                        <a:pt x="558" y="223"/>
                      </a:lnTo>
                      <a:lnTo>
                        <a:pt x="638" y="251"/>
                      </a:lnTo>
                      <a:lnTo>
                        <a:pt x="697" y="261"/>
                      </a:lnTo>
                      <a:lnTo>
                        <a:pt x="628" y="256"/>
                      </a:lnTo>
                      <a:lnTo>
                        <a:pt x="542" y="226"/>
                      </a:lnTo>
                      <a:lnTo>
                        <a:pt x="492" y="200"/>
                      </a:lnTo>
                      <a:lnTo>
                        <a:pt x="390" y="134"/>
                      </a:lnTo>
                      <a:lnTo>
                        <a:pt x="341" y="92"/>
                      </a:lnTo>
                      <a:lnTo>
                        <a:pt x="310" y="92"/>
                      </a:lnTo>
                      <a:lnTo>
                        <a:pt x="277" y="88"/>
                      </a:lnTo>
                      <a:lnTo>
                        <a:pt x="247" y="77"/>
                      </a:lnTo>
                      <a:lnTo>
                        <a:pt x="204" y="46"/>
                      </a:lnTo>
                      <a:lnTo>
                        <a:pt x="149" y="0"/>
                      </a:lnTo>
                      <a:lnTo>
                        <a:pt x="99" y="5"/>
                      </a:lnTo>
                      <a:lnTo>
                        <a:pt x="89" y="61"/>
                      </a:lnTo>
                      <a:lnTo>
                        <a:pt x="73" y="111"/>
                      </a:lnTo>
                      <a:lnTo>
                        <a:pt x="49" y="153"/>
                      </a:lnTo>
                      <a:lnTo>
                        <a:pt x="19" y="189"/>
                      </a:lnTo>
                      <a:lnTo>
                        <a:pt x="10" y="216"/>
                      </a:lnTo>
                      <a:lnTo>
                        <a:pt x="11" y="249"/>
                      </a:lnTo>
                      <a:lnTo>
                        <a:pt x="23" y="288"/>
                      </a:lnTo>
                      <a:lnTo>
                        <a:pt x="50" y="323"/>
                      </a:lnTo>
                      <a:lnTo>
                        <a:pt x="42" y="350"/>
                      </a:lnTo>
                      <a:lnTo>
                        <a:pt x="46" y="384"/>
                      </a:lnTo>
                      <a:lnTo>
                        <a:pt x="60" y="419"/>
                      </a:lnTo>
                      <a:lnTo>
                        <a:pt x="82" y="445"/>
                      </a:lnTo>
                      <a:lnTo>
                        <a:pt x="49" y="462"/>
                      </a:lnTo>
                      <a:lnTo>
                        <a:pt x="27" y="481"/>
                      </a:lnTo>
                      <a:lnTo>
                        <a:pt x="7" y="512"/>
                      </a:lnTo>
                      <a:lnTo>
                        <a:pt x="0" y="561"/>
                      </a:lnTo>
                      <a:lnTo>
                        <a:pt x="42" y="616"/>
                      </a:lnTo>
                      <a:lnTo>
                        <a:pt x="66" y="665"/>
                      </a:lnTo>
                      <a:lnTo>
                        <a:pt x="82" y="712"/>
                      </a:lnTo>
                      <a:lnTo>
                        <a:pt x="80" y="772"/>
                      </a:lnTo>
                      <a:lnTo>
                        <a:pt x="69" y="814"/>
                      </a:lnTo>
                      <a:lnTo>
                        <a:pt x="69" y="843"/>
                      </a:lnTo>
                      <a:lnTo>
                        <a:pt x="88" y="862"/>
                      </a:lnTo>
                      <a:lnTo>
                        <a:pt x="115" y="866"/>
                      </a:lnTo>
                      <a:lnTo>
                        <a:pt x="149" y="857"/>
                      </a:lnTo>
                      <a:lnTo>
                        <a:pt x="216" y="827"/>
                      </a:lnTo>
                      <a:lnTo>
                        <a:pt x="282" y="804"/>
                      </a:lnTo>
                      <a:lnTo>
                        <a:pt x="328" y="795"/>
                      </a:lnTo>
                      <a:lnTo>
                        <a:pt x="372" y="791"/>
                      </a:lnTo>
                      <a:lnTo>
                        <a:pt x="414" y="795"/>
                      </a:lnTo>
                      <a:lnTo>
                        <a:pt x="446" y="804"/>
                      </a:lnTo>
                      <a:lnTo>
                        <a:pt x="489" y="816"/>
                      </a:lnTo>
                      <a:lnTo>
                        <a:pt x="535" y="830"/>
                      </a:lnTo>
                      <a:lnTo>
                        <a:pt x="546" y="803"/>
                      </a:lnTo>
                      <a:close/>
                    </a:path>
                  </a:pathLst>
                </a:custGeom>
                <a:solidFill>
                  <a:srgbClr val="ff8080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85" name=""/>
                <p:cNvSpPr/>
                <p:nvPr/>
              </p:nvSpPr>
              <p:spPr>
                <a:xfrm>
                  <a:off x="2739600" y="4577040"/>
                  <a:ext cx="241200" cy="232560"/>
                </a:xfrm>
                <a:custGeom>
                  <a:avLst/>
                  <a:gdLst/>
                  <a:ahLst/>
                  <a:rect l="l" t="t" r="r" b="b"/>
                  <a:pathLst>
                    <a:path w="601" h="578">
                      <a:moveTo>
                        <a:pt x="509" y="0"/>
                      </a:moveTo>
                      <a:lnTo>
                        <a:pt x="476" y="3"/>
                      </a:lnTo>
                      <a:lnTo>
                        <a:pt x="442" y="15"/>
                      </a:lnTo>
                      <a:lnTo>
                        <a:pt x="407" y="39"/>
                      </a:lnTo>
                      <a:lnTo>
                        <a:pt x="391" y="55"/>
                      </a:lnTo>
                      <a:lnTo>
                        <a:pt x="365" y="88"/>
                      </a:lnTo>
                      <a:lnTo>
                        <a:pt x="329" y="124"/>
                      </a:lnTo>
                      <a:lnTo>
                        <a:pt x="283" y="157"/>
                      </a:lnTo>
                      <a:lnTo>
                        <a:pt x="233" y="181"/>
                      </a:lnTo>
                      <a:lnTo>
                        <a:pt x="160" y="193"/>
                      </a:lnTo>
                      <a:lnTo>
                        <a:pt x="91" y="200"/>
                      </a:lnTo>
                      <a:lnTo>
                        <a:pt x="51" y="207"/>
                      </a:lnTo>
                      <a:lnTo>
                        <a:pt x="13" y="235"/>
                      </a:lnTo>
                      <a:lnTo>
                        <a:pt x="0" y="273"/>
                      </a:lnTo>
                      <a:lnTo>
                        <a:pt x="0" y="296"/>
                      </a:lnTo>
                      <a:lnTo>
                        <a:pt x="28" y="317"/>
                      </a:lnTo>
                      <a:lnTo>
                        <a:pt x="59" y="334"/>
                      </a:lnTo>
                      <a:lnTo>
                        <a:pt x="101" y="340"/>
                      </a:lnTo>
                      <a:lnTo>
                        <a:pt x="128" y="335"/>
                      </a:lnTo>
                      <a:lnTo>
                        <a:pt x="153" y="338"/>
                      </a:lnTo>
                      <a:lnTo>
                        <a:pt x="179" y="347"/>
                      </a:lnTo>
                      <a:lnTo>
                        <a:pt x="197" y="370"/>
                      </a:lnTo>
                      <a:lnTo>
                        <a:pt x="226" y="377"/>
                      </a:lnTo>
                      <a:lnTo>
                        <a:pt x="263" y="381"/>
                      </a:lnTo>
                      <a:lnTo>
                        <a:pt x="304" y="384"/>
                      </a:lnTo>
                      <a:lnTo>
                        <a:pt x="345" y="393"/>
                      </a:lnTo>
                      <a:lnTo>
                        <a:pt x="377" y="414"/>
                      </a:lnTo>
                      <a:lnTo>
                        <a:pt x="403" y="436"/>
                      </a:lnTo>
                      <a:lnTo>
                        <a:pt x="427" y="473"/>
                      </a:lnTo>
                      <a:lnTo>
                        <a:pt x="443" y="524"/>
                      </a:lnTo>
                      <a:lnTo>
                        <a:pt x="462" y="578"/>
                      </a:lnTo>
                      <a:lnTo>
                        <a:pt x="492" y="531"/>
                      </a:lnTo>
                      <a:lnTo>
                        <a:pt x="516" y="493"/>
                      </a:lnTo>
                      <a:lnTo>
                        <a:pt x="551" y="453"/>
                      </a:lnTo>
                      <a:lnTo>
                        <a:pt x="558" y="427"/>
                      </a:lnTo>
                      <a:lnTo>
                        <a:pt x="578" y="389"/>
                      </a:lnTo>
                      <a:lnTo>
                        <a:pt x="601" y="338"/>
                      </a:lnTo>
                      <a:lnTo>
                        <a:pt x="578" y="327"/>
                      </a:lnTo>
                      <a:lnTo>
                        <a:pt x="551" y="305"/>
                      </a:lnTo>
                      <a:lnTo>
                        <a:pt x="512" y="273"/>
                      </a:lnTo>
                      <a:lnTo>
                        <a:pt x="493" y="239"/>
                      </a:lnTo>
                      <a:lnTo>
                        <a:pt x="482" y="207"/>
                      </a:lnTo>
                      <a:lnTo>
                        <a:pt x="404" y="207"/>
                      </a:lnTo>
                      <a:lnTo>
                        <a:pt x="352" y="212"/>
                      </a:lnTo>
                      <a:lnTo>
                        <a:pt x="281" y="227"/>
                      </a:lnTo>
                      <a:lnTo>
                        <a:pt x="348" y="203"/>
                      </a:lnTo>
                      <a:lnTo>
                        <a:pt x="403" y="193"/>
                      </a:lnTo>
                      <a:lnTo>
                        <a:pt x="482" y="203"/>
                      </a:lnTo>
                      <a:lnTo>
                        <a:pt x="480" y="143"/>
                      </a:lnTo>
                      <a:lnTo>
                        <a:pt x="485" y="78"/>
                      </a:lnTo>
                      <a:lnTo>
                        <a:pt x="509" y="0"/>
                      </a:lnTo>
                      <a:close/>
                    </a:path>
                  </a:pathLst>
                </a:custGeom>
                <a:solidFill>
                  <a:srgbClr val="ff8080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386" name=""/>
              <p:cNvGrpSpPr/>
              <p:nvPr/>
            </p:nvGrpSpPr>
            <p:grpSpPr>
              <a:xfrm>
                <a:off x="2243160" y="4332240"/>
                <a:ext cx="863640" cy="1077840"/>
                <a:chOff x="2243160" y="4332240"/>
                <a:chExt cx="863640" cy="1077840"/>
              </a:xfrm>
            </p:grpSpPr>
            <p:sp>
              <p:nvSpPr>
                <p:cNvPr id="10387" name=""/>
                <p:cNvSpPr/>
                <p:nvPr/>
              </p:nvSpPr>
              <p:spPr>
                <a:xfrm>
                  <a:off x="2243160" y="4332240"/>
                  <a:ext cx="863640" cy="1077840"/>
                </a:xfrm>
                <a:custGeom>
                  <a:avLst/>
                  <a:gdLst/>
                  <a:ahLst/>
                  <a:rect l="l" t="t" r="r" b="b"/>
                  <a:pathLst>
                    <a:path w="2148" h="2684">
                      <a:moveTo>
                        <a:pt x="1147" y="2684"/>
                      </a:moveTo>
                      <a:lnTo>
                        <a:pt x="1170" y="2669"/>
                      </a:lnTo>
                      <a:lnTo>
                        <a:pt x="1183" y="2558"/>
                      </a:lnTo>
                      <a:lnTo>
                        <a:pt x="1197" y="2441"/>
                      </a:lnTo>
                      <a:lnTo>
                        <a:pt x="1210" y="2365"/>
                      </a:lnTo>
                      <a:lnTo>
                        <a:pt x="1249" y="2303"/>
                      </a:lnTo>
                      <a:lnTo>
                        <a:pt x="1287" y="2221"/>
                      </a:lnTo>
                      <a:lnTo>
                        <a:pt x="1305" y="2145"/>
                      </a:lnTo>
                      <a:lnTo>
                        <a:pt x="1307" y="2076"/>
                      </a:lnTo>
                      <a:lnTo>
                        <a:pt x="1305" y="2042"/>
                      </a:lnTo>
                      <a:lnTo>
                        <a:pt x="1367" y="2056"/>
                      </a:lnTo>
                      <a:lnTo>
                        <a:pt x="1435" y="2058"/>
                      </a:lnTo>
                      <a:lnTo>
                        <a:pt x="1512" y="2049"/>
                      </a:lnTo>
                      <a:lnTo>
                        <a:pt x="1574" y="2027"/>
                      </a:lnTo>
                      <a:lnTo>
                        <a:pt x="1601" y="2014"/>
                      </a:lnTo>
                      <a:lnTo>
                        <a:pt x="1655" y="1960"/>
                      </a:lnTo>
                      <a:lnTo>
                        <a:pt x="1668" y="1925"/>
                      </a:lnTo>
                      <a:lnTo>
                        <a:pt x="1725" y="1897"/>
                      </a:lnTo>
                      <a:lnTo>
                        <a:pt x="1767" y="1856"/>
                      </a:lnTo>
                      <a:lnTo>
                        <a:pt x="1801" y="1794"/>
                      </a:lnTo>
                      <a:lnTo>
                        <a:pt x="1821" y="1718"/>
                      </a:lnTo>
                      <a:lnTo>
                        <a:pt x="1813" y="1600"/>
                      </a:lnTo>
                      <a:lnTo>
                        <a:pt x="1863" y="1573"/>
                      </a:lnTo>
                      <a:lnTo>
                        <a:pt x="1918" y="1500"/>
                      </a:lnTo>
                      <a:lnTo>
                        <a:pt x="1956" y="1429"/>
                      </a:lnTo>
                      <a:lnTo>
                        <a:pt x="1977" y="1299"/>
                      </a:lnTo>
                      <a:lnTo>
                        <a:pt x="2020" y="1280"/>
                      </a:lnTo>
                      <a:lnTo>
                        <a:pt x="2061" y="1250"/>
                      </a:lnTo>
                      <a:lnTo>
                        <a:pt x="2105" y="1189"/>
                      </a:lnTo>
                      <a:lnTo>
                        <a:pt x="2120" y="1156"/>
                      </a:lnTo>
                      <a:lnTo>
                        <a:pt x="2143" y="1050"/>
                      </a:lnTo>
                      <a:lnTo>
                        <a:pt x="2148" y="981"/>
                      </a:lnTo>
                      <a:lnTo>
                        <a:pt x="2143" y="946"/>
                      </a:lnTo>
                      <a:lnTo>
                        <a:pt x="2123" y="893"/>
                      </a:lnTo>
                      <a:lnTo>
                        <a:pt x="2089" y="877"/>
                      </a:lnTo>
                      <a:lnTo>
                        <a:pt x="2116" y="784"/>
                      </a:lnTo>
                      <a:lnTo>
                        <a:pt x="2113" y="726"/>
                      </a:lnTo>
                      <a:lnTo>
                        <a:pt x="2096" y="695"/>
                      </a:lnTo>
                      <a:lnTo>
                        <a:pt x="2100" y="616"/>
                      </a:lnTo>
                      <a:lnTo>
                        <a:pt x="2080" y="557"/>
                      </a:lnTo>
                      <a:lnTo>
                        <a:pt x="2074" y="492"/>
                      </a:lnTo>
                      <a:lnTo>
                        <a:pt x="2130" y="341"/>
                      </a:lnTo>
                      <a:lnTo>
                        <a:pt x="2143" y="276"/>
                      </a:lnTo>
                      <a:lnTo>
                        <a:pt x="2142" y="207"/>
                      </a:lnTo>
                      <a:lnTo>
                        <a:pt x="2130" y="134"/>
                      </a:lnTo>
                      <a:lnTo>
                        <a:pt x="2102" y="77"/>
                      </a:lnTo>
                      <a:lnTo>
                        <a:pt x="2054" y="19"/>
                      </a:lnTo>
                      <a:lnTo>
                        <a:pt x="1985" y="0"/>
                      </a:lnTo>
                      <a:lnTo>
                        <a:pt x="1896" y="118"/>
                      </a:lnTo>
                      <a:lnTo>
                        <a:pt x="1846" y="184"/>
                      </a:lnTo>
                      <a:lnTo>
                        <a:pt x="1780" y="253"/>
                      </a:lnTo>
                      <a:lnTo>
                        <a:pt x="1709" y="311"/>
                      </a:lnTo>
                      <a:lnTo>
                        <a:pt x="1668" y="343"/>
                      </a:lnTo>
                      <a:lnTo>
                        <a:pt x="1636" y="381"/>
                      </a:lnTo>
                      <a:lnTo>
                        <a:pt x="1558" y="391"/>
                      </a:lnTo>
                      <a:lnTo>
                        <a:pt x="1496" y="432"/>
                      </a:lnTo>
                      <a:lnTo>
                        <a:pt x="1449" y="501"/>
                      </a:lnTo>
                      <a:lnTo>
                        <a:pt x="1334" y="485"/>
                      </a:lnTo>
                      <a:lnTo>
                        <a:pt x="1279" y="492"/>
                      </a:lnTo>
                      <a:lnTo>
                        <a:pt x="1202" y="515"/>
                      </a:lnTo>
                      <a:lnTo>
                        <a:pt x="1101" y="561"/>
                      </a:lnTo>
                      <a:lnTo>
                        <a:pt x="1032" y="534"/>
                      </a:lnTo>
                      <a:lnTo>
                        <a:pt x="854" y="519"/>
                      </a:lnTo>
                      <a:lnTo>
                        <a:pt x="791" y="522"/>
                      </a:lnTo>
                      <a:lnTo>
                        <a:pt x="736" y="524"/>
                      </a:lnTo>
                      <a:lnTo>
                        <a:pt x="679" y="481"/>
                      </a:lnTo>
                      <a:lnTo>
                        <a:pt x="582" y="446"/>
                      </a:lnTo>
                      <a:lnTo>
                        <a:pt x="516" y="439"/>
                      </a:lnTo>
                      <a:lnTo>
                        <a:pt x="480" y="449"/>
                      </a:lnTo>
                      <a:lnTo>
                        <a:pt x="446" y="414"/>
                      </a:lnTo>
                      <a:lnTo>
                        <a:pt x="420" y="366"/>
                      </a:lnTo>
                      <a:lnTo>
                        <a:pt x="372" y="380"/>
                      </a:lnTo>
                      <a:lnTo>
                        <a:pt x="315" y="384"/>
                      </a:lnTo>
                      <a:lnTo>
                        <a:pt x="269" y="377"/>
                      </a:lnTo>
                      <a:lnTo>
                        <a:pt x="240" y="364"/>
                      </a:lnTo>
                      <a:lnTo>
                        <a:pt x="171" y="419"/>
                      </a:lnTo>
                      <a:lnTo>
                        <a:pt x="152" y="449"/>
                      </a:lnTo>
                      <a:lnTo>
                        <a:pt x="112" y="462"/>
                      </a:lnTo>
                      <a:lnTo>
                        <a:pt x="66" y="501"/>
                      </a:lnTo>
                      <a:lnTo>
                        <a:pt x="36" y="565"/>
                      </a:lnTo>
                      <a:lnTo>
                        <a:pt x="23" y="614"/>
                      </a:lnTo>
                      <a:lnTo>
                        <a:pt x="23" y="660"/>
                      </a:lnTo>
                      <a:lnTo>
                        <a:pt x="29" y="716"/>
                      </a:lnTo>
                      <a:lnTo>
                        <a:pt x="52" y="772"/>
                      </a:lnTo>
                      <a:lnTo>
                        <a:pt x="85" y="811"/>
                      </a:lnTo>
                      <a:lnTo>
                        <a:pt x="86" y="837"/>
                      </a:lnTo>
                      <a:lnTo>
                        <a:pt x="56" y="903"/>
                      </a:lnTo>
                      <a:lnTo>
                        <a:pt x="23" y="965"/>
                      </a:lnTo>
                      <a:lnTo>
                        <a:pt x="4" y="1023"/>
                      </a:lnTo>
                      <a:lnTo>
                        <a:pt x="0" y="1066"/>
                      </a:lnTo>
                      <a:lnTo>
                        <a:pt x="4" y="1116"/>
                      </a:lnTo>
                      <a:lnTo>
                        <a:pt x="16" y="1158"/>
                      </a:lnTo>
                      <a:lnTo>
                        <a:pt x="39" y="1192"/>
                      </a:lnTo>
                      <a:lnTo>
                        <a:pt x="86" y="1222"/>
                      </a:lnTo>
                      <a:lnTo>
                        <a:pt x="66" y="1264"/>
                      </a:lnTo>
                      <a:lnTo>
                        <a:pt x="55" y="1293"/>
                      </a:lnTo>
                      <a:lnTo>
                        <a:pt x="50" y="1339"/>
                      </a:lnTo>
                      <a:lnTo>
                        <a:pt x="52" y="1454"/>
                      </a:lnTo>
                      <a:lnTo>
                        <a:pt x="56" y="1539"/>
                      </a:lnTo>
                      <a:lnTo>
                        <a:pt x="79" y="1622"/>
                      </a:lnTo>
                      <a:lnTo>
                        <a:pt x="128" y="1718"/>
                      </a:lnTo>
                      <a:lnTo>
                        <a:pt x="114" y="1741"/>
                      </a:lnTo>
                      <a:lnTo>
                        <a:pt x="106" y="1777"/>
                      </a:lnTo>
                      <a:lnTo>
                        <a:pt x="118" y="1830"/>
                      </a:lnTo>
                      <a:lnTo>
                        <a:pt x="145" y="1874"/>
                      </a:lnTo>
                      <a:lnTo>
                        <a:pt x="187" y="1914"/>
                      </a:lnTo>
                      <a:lnTo>
                        <a:pt x="234" y="1943"/>
                      </a:lnTo>
                      <a:lnTo>
                        <a:pt x="292" y="1953"/>
                      </a:lnTo>
                      <a:lnTo>
                        <a:pt x="374" y="1945"/>
                      </a:lnTo>
                      <a:lnTo>
                        <a:pt x="447" y="1922"/>
                      </a:lnTo>
                      <a:lnTo>
                        <a:pt x="505" y="1879"/>
                      </a:lnTo>
                      <a:lnTo>
                        <a:pt x="558" y="1861"/>
                      </a:lnTo>
                      <a:lnTo>
                        <a:pt x="608" y="1856"/>
                      </a:lnTo>
                      <a:lnTo>
                        <a:pt x="648" y="1851"/>
                      </a:lnTo>
                      <a:lnTo>
                        <a:pt x="702" y="1838"/>
                      </a:lnTo>
                      <a:lnTo>
                        <a:pt x="732" y="1806"/>
                      </a:lnTo>
                      <a:lnTo>
                        <a:pt x="740" y="1769"/>
                      </a:lnTo>
                      <a:lnTo>
                        <a:pt x="736" y="1720"/>
                      </a:lnTo>
                      <a:lnTo>
                        <a:pt x="733" y="1688"/>
                      </a:lnTo>
                      <a:lnTo>
                        <a:pt x="749" y="1664"/>
                      </a:lnTo>
                      <a:lnTo>
                        <a:pt x="772" y="1652"/>
                      </a:lnTo>
                      <a:lnTo>
                        <a:pt x="804" y="1652"/>
                      </a:lnTo>
                      <a:lnTo>
                        <a:pt x="854" y="1668"/>
                      </a:lnTo>
                      <a:lnTo>
                        <a:pt x="900" y="1554"/>
                      </a:lnTo>
                      <a:lnTo>
                        <a:pt x="783" y="1516"/>
                      </a:lnTo>
                      <a:lnTo>
                        <a:pt x="702" y="1520"/>
                      </a:lnTo>
                      <a:lnTo>
                        <a:pt x="625" y="1541"/>
                      </a:lnTo>
                      <a:lnTo>
                        <a:pt x="546" y="1576"/>
                      </a:lnTo>
                      <a:lnTo>
                        <a:pt x="463" y="1610"/>
                      </a:lnTo>
                      <a:lnTo>
                        <a:pt x="427" y="1623"/>
                      </a:lnTo>
                      <a:lnTo>
                        <a:pt x="430" y="1577"/>
                      </a:lnTo>
                      <a:lnTo>
                        <a:pt x="457" y="1508"/>
                      </a:lnTo>
                      <a:lnTo>
                        <a:pt x="461" y="1435"/>
                      </a:lnTo>
                      <a:lnTo>
                        <a:pt x="427" y="1345"/>
                      </a:lnTo>
                      <a:lnTo>
                        <a:pt x="395" y="1300"/>
                      </a:lnTo>
                      <a:lnTo>
                        <a:pt x="388" y="1277"/>
                      </a:lnTo>
                      <a:lnTo>
                        <a:pt x="385" y="1254"/>
                      </a:lnTo>
                      <a:lnTo>
                        <a:pt x="415" y="1181"/>
                      </a:lnTo>
                      <a:lnTo>
                        <a:pt x="423" y="1126"/>
                      </a:lnTo>
                      <a:lnTo>
                        <a:pt x="423" y="1058"/>
                      </a:lnTo>
                      <a:lnTo>
                        <a:pt x="400" y="1002"/>
                      </a:lnTo>
                      <a:lnTo>
                        <a:pt x="361" y="933"/>
                      </a:lnTo>
                      <a:lnTo>
                        <a:pt x="407" y="905"/>
                      </a:lnTo>
                      <a:lnTo>
                        <a:pt x="450" y="843"/>
                      </a:lnTo>
                      <a:lnTo>
                        <a:pt x="474" y="769"/>
                      </a:lnTo>
                      <a:lnTo>
                        <a:pt x="484" y="726"/>
                      </a:lnTo>
                      <a:lnTo>
                        <a:pt x="542" y="722"/>
                      </a:lnTo>
                      <a:lnTo>
                        <a:pt x="589" y="769"/>
                      </a:lnTo>
                      <a:lnTo>
                        <a:pt x="658" y="811"/>
                      </a:lnTo>
                      <a:lnTo>
                        <a:pt x="710" y="815"/>
                      </a:lnTo>
                      <a:lnTo>
                        <a:pt x="753" y="800"/>
                      </a:lnTo>
                      <a:lnTo>
                        <a:pt x="792" y="777"/>
                      </a:lnTo>
                      <a:lnTo>
                        <a:pt x="831" y="808"/>
                      </a:lnTo>
                      <a:lnTo>
                        <a:pt x="896" y="838"/>
                      </a:lnTo>
                      <a:lnTo>
                        <a:pt x="982" y="853"/>
                      </a:lnTo>
                      <a:lnTo>
                        <a:pt x="1051" y="850"/>
                      </a:lnTo>
                      <a:lnTo>
                        <a:pt x="1098" y="843"/>
                      </a:lnTo>
                      <a:lnTo>
                        <a:pt x="1154" y="818"/>
                      </a:lnTo>
                      <a:lnTo>
                        <a:pt x="1209" y="784"/>
                      </a:lnTo>
                      <a:lnTo>
                        <a:pt x="1278" y="815"/>
                      </a:lnTo>
                      <a:lnTo>
                        <a:pt x="1353" y="808"/>
                      </a:lnTo>
                      <a:lnTo>
                        <a:pt x="1458" y="795"/>
                      </a:lnTo>
                      <a:lnTo>
                        <a:pt x="1519" y="762"/>
                      </a:lnTo>
                      <a:lnTo>
                        <a:pt x="1567" y="726"/>
                      </a:lnTo>
                      <a:lnTo>
                        <a:pt x="1609" y="677"/>
                      </a:lnTo>
                      <a:lnTo>
                        <a:pt x="1623" y="657"/>
                      </a:lnTo>
                      <a:lnTo>
                        <a:pt x="1663" y="603"/>
                      </a:lnTo>
                      <a:lnTo>
                        <a:pt x="1698" y="596"/>
                      </a:lnTo>
                      <a:lnTo>
                        <a:pt x="1752" y="581"/>
                      </a:lnTo>
                      <a:lnTo>
                        <a:pt x="1724" y="689"/>
                      </a:lnTo>
                      <a:lnTo>
                        <a:pt x="1718" y="795"/>
                      </a:lnTo>
                      <a:lnTo>
                        <a:pt x="1732" y="854"/>
                      </a:lnTo>
                      <a:lnTo>
                        <a:pt x="1764" y="900"/>
                      </a:lnTo>
                      <a:lnTo>
                        <a:pt x="1841" y="949"/>
                      </a:lnTo>
                      <a:lnTo>
                        <a:pt x="1814" y="1002"/>
                      </a:lnTo>
                      <a:lnTo>
                        <a:pt x="1787" y="1066"/>
                      </a:lnTo>
                      <a:lnTo>
                        <a:pt x="1752" y="1104"/>
                      </a:lnTo>
                      <a:lnTo>
                        <a:pt x="1716" y="1161"/>
                      </a:lnTo>
                      <a:lnTo>
                        <a:pt x="1691" y="1230"/>
                      </a:lnTo>
                      <a:lnTo>
                        <a:pt x="1695" y="1307"/>
                      </a:lnTo>
                      <a:lnTo>
                        <a:pt x="1679" y="1333"/>
                      </a:lnTo>
                      <a:lnTo>
                        <a:pt x="1634" y="1360"/>
                      </a:lnTo>
                      <a:lnTo>
                        <a:pt x="1593" y="1396"/>
                      </a:lnTo>
                      <a:lnTo>
                        <a:pt x="1570" y="1429"/>
                      </a:lnTo>
                      <a:lnTo>
                        <a:pt x="1554" y="1470"/>
                      </a:lnTo>
                      <a:lnTo>
                        <a:pt x="1551" y="1527"/>
                      </a:lnTo>
                      <a:lnTo>
                        <a:pt x="1547" y="1608"/>
                      </a:lnTo>
                      <a:lnTo>
                        <a:pt x="1527" y="1677"/>
                      </a:lnTo>
                      <a:lnTo>
                        <a:pt x="1504" y="1766"/>
                      </a:lnTo>
                      <a:lnTo>
                        <a:pt x="1476" y="1803"/>
                      </a:lnTo>
                      <a:lnTo>
                        <a:pt x="1449" y="1823"/>
                      </a:lnTo>
                      <a:lnTo>
                        <a:pt x="1407" y="1835"/>
                      </a:lnTo>
                      <a:lnTo>
                        <a:pt x="1377" y="1838"/>
                      </a:lnTo>
                      <a:lnTo>
                        <a:pt x="1350" y="1830"/>
                      </a:lnTo>
                      <a:lnTo>
                        <a:pt x="1321" y="1822"/>
                      </a:lnTo>
                      <a:lnTo>
                        <a:pt x="1287" y="1800"/>
                      </a:lnTo>
                      <a:lnTo>
                        <a:pt x="1256" y="1783"/>
                      </a:lnTo>
                      <a:lnTo>
                        <a:pt x="1222" y="1766"/>
                      </a:lnTo>
                      <a:lnTo>
                        <a:pt x="1186" y="1757"/>
                      </a:lnTo>
                      <a:lnTo>
                        <a:pt x="1159" y="1753"/>
                      </a:lnTo>
                      <a:lnTo>
                        <a:pt x="1128" y="1757"/>
                      </a:lnTo>
                      <a:lnTo>
                        <a:pt x="1090" y="1783"/>
                      </a:lnTo>
                      <a:lnTo>
                        <a:pt x="1059" y="1817"/>
                      </a:lnTo>
                      <a:lnTo>
                        <a:pt x="1039" y="1861"/>
                      </a:lnTo>
                      <a:lnTo>
                        <a:pt x="1028" y="1934"/>
                      </a:lnTo>
                      <a:lnTo>
                        <a:pt x="1032" y="2022"/>
                      </a:lnTo>
                      <a:lnTo>
                        <a:pt x="1058" y="2045"/>
                      </a:lnTo>
                      <a:lnTo>
                        <a:pt x="1038" y="2096"/>
                      </a:lnTo>
                      <a:lnTo>
                        <a:pt x="1044" y="2207"/>
                      </a:lnTo>
                      <a:lnTo>
                        <a:pt x="1116" y="2407"/>
                      </a:lnTo>
                      <a:lnTo>
                        <a:pt x="1116" y="2472"/>
                      </a:lnTo>
                      <a:lnTo>
                        <a:pt x="1127" y="2661"/>
                      </a:lnTo>
                      <a:lnTo>
                        <a:pt x="1147" y="2684"/>
                      </a:lnTo>
                      <a:close/>
                    </a:path>
                  </a:pathLst>
                </a:custGeom>
                <a:solidFill>
                  <a:srgbClr val="ffc080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388" name=""/>
                <p:cNvGrpSpPr/>
                <p:nvPr/>
              </p:nvGrpSpPr>
              <p:grpSpPr>
                <a:xfrm>
                  <a:off x="2294640" y="4461120"/>
                  <a:ext cx="757440" cy="630360"/>
                  <a:chOff x="2294640" y="4461120"/>
                  <a:chExt cx="757440" cy="630360"/>
                </a:xfrm>
              </p:grpSpPr>
              <p:sp>
                <p:nvSpPr>
                  <p:cNvPr id="10389" name=""/>
                  <p:cNvSpPr/>
                  <p:nvPr/>
                </p:nvSpPr>
                <p:spPr>
                  <a:xfrm>
                    <a:off x="2989440" y="4524840"/>
                    <a:ext cx="10800" cy="5760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145">
                        <a:moveTo>
                          <a:pt x="28" y="145"/>
                        </a:moveTo>
                        <a:lnTo>
                          <a:pt x="0" y="81"/>
                        </a:lnTo>
                        <a:lnTo>
                          <a:pt x="0" y="14"/>
                        </a:lnTo>
                        <a:lnTo>
                          <a:pt x="15" y="0"/>
                        </a:ln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800" bIns="10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90" name=""/>
                  <p:cNvSpPr/>
                  <p:nvPr/>
                </p:nvSpPr>
                <p:spPr>
                  <a:xfrm>
                    <a:off x="2939760" y="4461120"/>
                    <a:ext cx="84240" cy="108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2" h="269">
                        <a:moveTo>
                          <a:pt x="212" y="0"/>
                        </a:moveTo>
                        <a:lnTo>
                          <a:pt x="185" y="62"/>
                        </a:lnTo>
                        <a:lnTo>
                          <a:pt x="158" y="124"/>
                        </a:lnTo>
                        <a:lnTo>
                          <a:pt x="145" y="173"/>
                        </a:lnTo>
                        <a:lnTo>
                          <a:pt x="96" y="200"/>
                        </a:lnTo>
                        <a:lnTo>
                          <a:pt x="49" y="248"/>
                        </a:lnTo>
                        <a:lnTo>
                          <a:pt x="0" y="255"/>
                        </a:lnTo>
                        <a:lnTo>
                          <a:pt x="21" y="269"/>
                        </a:ln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91" name=""/>
                  <p:cNvSpPr/>
                  <p:nvPr/>
                </p:nvSpPr>
                <p:spPr>
                  <a:xfrm>
                    <a:off x="2683080" y="4563360"/>
                    <a:ext cx="1692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62">
                        <a:moveTo>
                          <a:pt x="0" y="0"/>
                        </a:moveTo>
                        <a:lnTo>
                          <a:pt x="42" y="54"/>
                        </a:lnTo>
                        <a:lnTo>
                          <a:pt x="42" y="62"/>
                        </a:ln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0" bIns="-21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92" name=""/>
                  <p:cNvSpPr/>
                  <p:nvPr/>
                </p:nvSpPr>
                <p:spPr>
                  <a:xfrm>
                    <a:off x="2528640" y="4533480"/>
                    <a:ext cx="23760" cy="313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480" bIns="-15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93" name=""/>
                  <p:cNvSpPr/>
                  <p:nvPr/>
                </p:nvSpPr>
                <p:spPr>
                  <a:xfrm>
                    <a:off x="2294640" y="4507920"/>
                    <a:ext cx="141120" cy="22680"/>
                  </a:xfrm>
                  <a:custGeom>
                    <a:avLst/>
                    <a:gdLst/>
                    <a:ahLst/>
                    <a:rect l="l" t="t" r="r" b="b"/>
                    <a:pathLst>
                      <a:path w="351" h="56">
                        <a:moveTo>
                          <a:pt x="351" y="0"/>
                        </a:moveTo>
                        <a:lnTo>
                          <a:pt x="302" y="49"/>
                        </a:lnTo>
                        <a:lnTo>
                          <a:pt x="255" y="56"/>
                        </a:lnTo>
                        <a:lnTo>
                          <a:pt x="220" y="21"/>
                        </a:lnTo>
                        <a:lnTo>
                          <a:pt x="166" y="7"/>
                        </a:lnTo>
                        <a:lnTo>
                          <a:pt x="104" y="7"/>
                        </a:lnTo>
                        <a:lnTo>
                          <a:pt x="22" y="7"/>
                        </a:lnTo>
                        <a:lnTo>
                          <a:pt x="0" y="7"/>
                        </a:lnTo>
                        <a:lnTo>
                          <a:pt x="8" y="14"/>
                        </a:ln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120" bIns="-24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94" name=""/>
                  <p:cNvSpPr/>
                  <p:nvPr/>
                </p:nvSpPr>
                <p:spPr>
                  <a:xfrm>
                    <a:off x="2313720" y="4593600"/>
                    <a:ext cx="118080" cy="80640"/>
                  </a:xfrm>
                  <a:custGeom>
                    <a:avLst/>
                    <a:gdLst/>
                    <a:ahLst/>
                    <a:rect l="l" t="t" r="r" b="b"/>
                    <a:pathLst>
                      <a:path w="295" h="200">
                        <a:moveTo>
                          <a:pt x="295" y="82"/>
                        </a:moveTo>
                        <a:lnTo>
                          <a:pt x="219" y="82"/>
                        </a:lnTo>
                        <a:lnTo>
                          <a:pt x="157" y="82"/>
                        </a:lnTo>
                        <a:lnTo>
                          <a:pt x="102" y="82"/>
                        </a:lnTo>
                        <a:lnTo>
                          <a:pt x="48" y="47"/>
                        </a:lnTo>
                        <a:lnTo>
                          <a:pt x="7" y="0"/>
                        </a:lnTo>
                        <a:lnTo>
                          <a:pt x="41" y="55"/>
                        </a:lnTo>
                        <a:lnTo>
                          <a:pt x="48" y="109"/>
                        </a:lnTo>
                        <a:lnTo>
                          <a:pt x="41" y="158"/>
                        </a:lnTo>
                        <a:lnTo>
                          <a:pt x="20" y="178"/>
                        </a:lnTo>
                        <a:lnTo>
                          <a:pt x="0" y="200"/>
                        </a:ln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3840" bIns="33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95" name=""/>
                  <p:cNvSpPr/>
                  <p:nvPr/>
                </p:nvSpPr>
                <p:spPr>
                  <a:xfrm>
                    <a:off x="2322360" y="4732200"/>
                    <a:ext cx="68400" cy="320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1" h="799">
                        <a:moveTo>
                          <a:pt x="0" y="0"/>
                        </a:moveTo>
                        <a:lnTo>
                          <a:pt x="8" y="56"/>
                        </a:lnTo>
                        <a:lnTo>
                          <a:pt x="21" y="110"/>
                        </a:lnTo>
                        <a:lnTo>
                          <a:pt x="77" y="145"/>
                        </a:lnTo>
                        <a:lnTo>
                          <a:pt x="35" y="187"/>
                        </a:lnTo>
                        <a:lnTo>
                          <a:pt x="28" y="234"/>
                        </a:lnTo>
                        <a:lnTo>
                          <a:pt x="48" y="290"/>
                        </a:lnTo>
                        <a:lnTo>
                          <a:pt x="82" y="345"/>
                        </a:lnTo>
                        <a:lnTo>
                          <a:pt x="90" y="379"/>
                        </a:lnTo>
                        <a:lnTo>
                          <a:pt x="97" y="441"/>
                        </a:lnTo>
                        <a:lnTo>
                          <a:pt x="69" y="490"/>
                        </a:lnTo>
                        <a:lnTo>
                          <a:pt x="42" y="537"/>
                        </a:lnTo>
                        <a:lnTo>
                          <a:pt x="90" y="552"/>
                        </a:lnTo>
                        <a:lnTo>
                          <a:pt x="104" y="586"/>
                        </a:lnTo>
                        <a:lnTo>
                          <a:pt x="124" y="655"/>
                        </a:lnTo>
                        <a:lnTo>
                          <a:pt x="124" y="675"/>
                        </a:lnTo>
                        <a:lnTo>
                          <a:pt x="110" y="695"/>
                        </a:lnTo>
                        <a:lnTo>
                          <a:pt x="104" y="737"/>
                        </a:lnTo>
                        <a:lnTo>
                          <a:pt x="110" y="764"/>
                        </a:lnTo>
                        <a:lnTo>
                          <a:pt x="151" y="786"/>
                        </a:lnTo>
                        <a:lnTo>
                          <a:pt x="159" y="799"/>
                        </a:lnTo>
                        <a:lnTo>
                          <a:pt x="171" y="792"/>
                        </a:ln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96" name=""/>
                  <p:cNvSpPr/>
                  <p:nvPr/>
                </p:nvSpPr>
                <p:spPr>
                  <a:xfrm>
                    <a:off x="3006360" y="4651560"/>
                    <a:ext cx="45720" cy="66240"/>
                  </a:xfrm>
                  <a:custGeom>
                    <a:avLst/>
                    <a:gdLst/>
                    <a:ahLst/>
                    <a:rect l="l" t="t" r="r" b="b"/>
                    <a:pathLst>
                      <a:path w="116" h="165">
                        <a:moveTo>
                          <a:pt x="14" y="0"/>
                        </a:moveTo>
                        <a:lnTo>
                          <a:pt x="0" y="29"/>
                        </a:lnTo>
                        <a:lnTo>
                          <a:pt x="0" y="76"/>
                        </a:lnTo>
                        <a:lnTo>
                          <a:pt x="14" y="103"/>
                        </a:lnTo>
                        <a:lnTo>
                          <a:pt x="27" y="145"/>
                        </a:lnTo>
                        <a:lnTo>
                          <a:pt x="42" y="165"/>
                        </a:lnTo>
                        <a:lnTo>
                          <a:pt x="75" y="125"/>
                        </a:lnTo>
                        <a:lnTo>
                          <a:pt x="116" y="125"/>
                        </a:ln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440" bIns="19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97" name=""/>
                  <p:cNvSpPr/>
                  <p:nvPr/>
                </p:nvSpPr>
                <p:spPr>
                  <a:xfrm>
                    <a:off x="2986920" y="4766040"/>
                    <a:ext cx="37440" cy="9036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227">
                        <a:moveTo>
                          <a:pt x="94" y="0"/>
                        </a:moveTo>
                        <a:lnTo>
                          <a:pt x="40" y="42"/>
                        </a:lnTo>
                        <a:lnTo>
                          <a:pt x="20" y="76"/>
                        </a:lnTo>
                        <a:lnTo>
                          <a:pt x="5" y="138"/>
                        </a:lnTo>
                        <a:lnTo>
                          <a:pt x="20" y="193"/>
                        </a:lnTo>
                        <a:lnTo>
                          <a:pt x="0" y="227"/>
                        </a:ln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560" bIns="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98" name=""/>
                  <p:cNvSpPr/>
                  <p:nvPr/>
                </p:nvSpPr>
                <p:spPr>
                  <a:xfrm>
                    <a:off x="2912400" y="4903200"/>
                    <a:ext cx="38520" cy="97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241">
                        <a:moveTo>
                          <a:pt x="96" y="0"/>
                        </a:moveTo>
                        <a:lnTo>
                          <a:pt x="40" y="48"/>
                        </a:lnTo>
                        <a:lnTo>
                          <a:pt x="20" y="117"/>
                        </a:lnTo>
                        <a:lnTo>
                          <a:pt x="0" y="186"/>
                        </a:lnTo>
                        <a:lnTo>
                          <a:pt x="0" y="234"/>
                        </a:lnTo>
                        <a:lnTo>
                          <a:pt x="0" y="241"/>
                        </a:ln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99" name=""/>
                  <p:cNvSpPr/>
                  <p:nvPr/>
                </p:nvSpPr>
                <p:spPr>
                  <a:xfrm>
                    <a:off x="2826720" y="5020200"/>
                    <a:ext cx="66240" cy="7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64" h="178">
                        <a:moveTo>
                          <a:pt x="164" y="0"/>
                        </a:moveTo>
                        <a:lnTo>
                          <a:pt x="131" y="47"/>
                        </a:lnTo>
                        <a:lnTo>
                          <a:pt x="117" y="96"/>
                        </a:lnTo>
                        <a:lnTo>
                          <a:pt x="69" y="116"/>
                        </a:lnTo>
                        <a:lnTo>
                          <a:pt x="48" y="158"/>
                        </a:lnTo>
                        <a:lnTo>
                          <a:pt x="0" y="178"/>
                        </a:ln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480" bIns="24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aphicFrame>
          <p:nvGraphicFramePr>
            <p:cNvPr id="10400" name=""/>
            <p:cNvGraphicFramePr/>
            <p:nvPr/>
          </p:nvGraphicFramePr>
          <p:xfrm>
            <a:off x="5035680" y="3041640"/>
            <a:ext cx="947520" cy="11206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040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035680" y="3041640"/>
                      <a:ext cx="947520" cy="1120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02" name=""/>
            <p:cNvGraphicFramePr/>
            <p:nvPr/>
          </p:nvGraphicFramePr>
          <p:xfrm>
            <a:off x="5952960" y="3235320"/>
            <a:ext cx="1793880" cy="12952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4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952960" y="3235320"/>
                      <a:ext cx="1793880" cy="1295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cxnSp>
          <p:nvCxnSpPr>
            <p:cNvPr id="10404" name=""/>
            <p:cNvCxnSpPr/>
            <p:nvPr/>
          </p:nvCxnSpPr>
          <p:spPr>
            <a:xfrm>
              <a:off x="4633560" y="5349600"/>
              <a:ext cx="10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0405" name=""/>
            <p:cNvCxnSpPr/>
            <p:nvPr/>
          </p:nvCxnSpPr>
          <p:spPr>
            <a:xfrm>
              <a:off x="5733720" y="2742840"/>
              <a:ext cx="10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graphicFrame>
          <p:nvGraphicFramePr>
            <p:cNvPr id="10406" name=""/>
            <p:cNvGraphicFramePr/>
            <p:nvPr/>
          </p:nvGraphicFramePr>
          <p:xfrm>
            <a:off x="1913040" y="2349360"/>
            <a:ext cx="1296720" cy="14526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407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913040" y="2349360"/>
                      <a:ext cx="1296720" cy="1452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408" name=""/>
            <p:cNvSpPr/>
            <p:nvPr/>
          </p:nvSpPr>
          <p:spPr>
            <a:xfrm>
              <a:off x="2055960" y="4408560"/>
              <a:ext cx="1720800" cy="9525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9" name=""/>
            <p:cNvSpPr/>
            <p:nvPr/>
          </p:nvSpPr>
          <p:spPr>
            <a:xfrm>
              <a:off x="513360" y="4134240"/>
              <a:ext cx="1282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Glukóz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0" name=""/>
            <p:cNvSpPr/>
            <p:nvPr/>
          </p:nvSpPr>
          <p:spPr>
            <a:xfrm>
              <a:off x="3732480" y="5066280"/>
              <a:ext cx="106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Laktá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1" name=""/>
            <p:cNvSpPr/>
            <p:nvPr/>
          </p:nvSpPr>
          <p:spPr>
            <a:xfrm>
              <a:off x="7326360" y="4335840"/>
              <a:ext cx="171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Glukóz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2" name=""/>
            <p:cNvSpPr/>
            <p:nvPr/>
          </p:nvSpPr>
          <p:spPr>
            <a:xfrm>
              <a:off x="4551480" y="2620800"/>
              <a:ext cx="2384280" cy="19670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3" name=""/>
            <p:cNvSpPr/>
            <p:nvPr/>
          </p:nvSpPr>
          <p:spPr>
            <a:xfrm>
              <a:off x="3821040" y="2080800"/>
              <a:ext cx="990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1" lang="cs-CZ" sz="3600" spc="-1" strike="noStrike" baseline="30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4" name=""/>
            <p:cNvSpPr/>
            <p:nvPr/>
          </p:nvSpPr>
          <p:spPr>
            <a:xfrm flipV="1">
              <a:off x="4870440" y="4582800"/>
              <a:ext cx="2044800" cy="981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5" name=""/>
            <p:cNvSpPr/>
            <p:nvPr/>
          </p:nvSpPr>
          <p:spPr>
            <a:xfrm flipV="1">
              <a:off x="2027160" y="2603160"/>
              <a:ext cx="1973520" cy="180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6" name=""/>
            <p:cNvSpPr/>
            <p:nvPr/>
          </p:nvSpPr>
          <p:spPr>
            <a:xfrm>
              <a:off x="3486240" y="1441800"/>
              <a:ext cx="224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1 300 mmol/de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417" name=""/>
            <p:cNvGrpSpPr/>
            <p:nvPr/>
          </p:nvGrpSpPr>
          <p:grpSpPr>
            <a:xfrm>
              <a:off x="2144880" y="5529240"/>
              <a:ext cx="903240" cy="447840"/>
              <a:chOff x="2144880" y="5529240"/>
              <a:chExt cx="903240" cy="447840"/>
            </a:xfrm>
          </p:grpSpPr>
          <p:sp>
            <p:nvSpPr>
              <p:cNvPr id="10418" name=""/>
              <p:cNvSpPr/>
              <p:nvPr/>
            </p:nvSpPr>
            <p:spPr>
              <a:xfrm>
                <a:off x="2144880" y="5529240"/>
                <a:ext cx="903240" cy="407880"/>
              </a:xfrm>
              <a:custGeom>
                <a:avLst/>
                <a:gdLst/>
                <a:ahLst/>
                <a:rect l="l" t="t" r="r" b="b"/>
                <a:pathLst>
                  <a:path w="1726" h="783">
                    <a:moveTo>
                      <a:pt x="197" y="695"/>
                    </a:moveTo>
                    <a:cubicBezTo>
                      <a:pt x="0" y="607"/>
                      <a:pt x="243" y="283"/>
                      <a:pt x="351" y="167"/>
                    </a:cubicBezTo>
                    <a:cubicBezTo>
                      <a:pt x="459" y="51"/>
                      <a:pt x="682" y="0"/>
                      <a:pt x="847" y="2"/>
                    </a:cubicBezTo>
                    <a:cubicBezTo>
                      <a:pt x="1012" y="4"/>
                      <a:pt x="1227" y="63"/>
                      <a:pt x="1342" y="178"/>
                    </a:cubicBezTo>
                    <a:cubicBezTo>
                      <a:pt x="1457" y="293"/>
                      <a:pt x="1726" y="609"/>
                      <a:pt x="1535" y="695"/>
                    </a:cubicBezTo>
                    <a:cubicBezTo>
                      <a:pt x="1344" y="781"/>
                      <a:pt x="394" y="783"/>
                      <a:pt x="197" y="6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751700"/>
                  </a:gs>
                  <a:gs pos="100000">
                    <a:srgbClr val="ff33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9" name=""/>
              <p:cNvSpPr/>
              <p:nvPr/>
            </p:nvSpPr>
            <p:spPr>
              <a:xfrm>
                <a:off x="2183760" y="5749560"/>
                <a:ext cx="816480" cy="227520"/>
              </a:xfrm>
              <a:custGeom>
                <a:avLst/>
                <a:gdLst/>
                <a:ahLst/>
                <a:rect l="l" t="t" r="r" b="b"/>
                <a:pathLst>
                  <a:path w="1560" h="437">
                    <a:moveTo>
                      <a:pt x="783" y="344"/>
                    </a:moveTo>
                    <a:cubicBezTo>
                      <a:pt x="562" y="346"/>
                      <a:pt x="224" y="437"/>
                      <a:pt x="112" y="388"/>
                    </a:cubicBezTo>
                    <a:cubicBezTo>
                      <a:pt x="0" y="339"/>
                      <a:pt x="2" y="94"/>
                      <a:pt x="112" y="47"/>
                    </a:cubicBezTo>
                    <a:cubicBezTo>
                      <a:pt x="222" y="0"/>
                      <a:pt x="549" y="108"/>
                      <a:pt x="772" y="108"/>
                    </a:cubicBezTo>
                    <a:cubicBezTo>
                      <a:pt x="995" y="108"/>
                      <a:pt x="1338" y="2"/>
                      <a:pt x="1449" y="47"/>
                    </a:cubicBezTo>
                    <a:cubicBezTo>
                      <a:pt x="1560" y="92"/>
                      <a:pt x="1549" y="327"/>
                      <a:pt x="1438" y="377"/>
                    </a:cubicBezTo>
                    <a:cubicBezTo>
                      <a:pt x="1327" y="427"/>
                      <a:pt x="1004" y="342"/>
                      <a:pt x="783" y="344"/>
                    </a:cubicBezTo>
                    <a:close/>
                  </a:path>
                </a:pathLst>
              </a:custGeom>
              <a:solidFill>
                <a:srgbClr val="ff33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420" name=""/>
            <p:cNvSpPr/>
            <p:nvPr/>
          </p:nvSpPr>
          <p:spPr>
            <a:xfrm>
              <a:off x="4619520" y="2424240"/>
              <a:ext cx="2428920" cy="5634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1" name=""/>
            <p:cNvSpPr/>
            <p:nvPr/>
          </p:nvSpPr>
          <p:spPr>
            <a:xfrm flipV="1">
              <a:off x="6996240" y="2962080"/>
              <a:ext cx="304560" cy="126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2" name=""/>
            <p:cNvSpPr/>
            <p:nvPr/>
          </p:nvSpPr>
          <p:spPr>
            <a:xfrm flipV="1">
              <a:off x="6919920" y="4586040"/>
              <a:ext cx="663480" cy="32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3" name=""/>
            <p:cNvSpPr/>
            <p:nvPr/>
          </p:nvSpPr>
          <p:spPr>
            <a:xfrm>
              <a:off x="1523880" y="1397160"/>
              <a:ext cx="6096240" cy="406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424" name=""/>
            <p:cNvGrpSpPr/>
            <p:nvPr/>
          </p:nvGrpSpPr>
          <p:grpSpPr>
            <a:xfrm>
              <a:off x="1897200" y="1473120"/>
              <a:ext cx="1179000" cy="682560"/>
              <a:chOff x="1897200" y="1473120"/>
              <a:chExt cx="1179000" cy="682560"/>
            </a:xfrm>
          </p:grpSpPr>
          <p:sp>
            <p:nvSpPr>
              <p:cNvPr id="10425" name=""/>
              <p:cNvSpPr/>
              <p:nvPr/>
            </p:nvSpPr>
            <p:spPr>
              <a:xfrm>
                <a:off x="1897200" y="1800720"/>
                <a:ext cx="671040" cy="354960"/>
              </a:xfrm>
              <a:custGeom>
                <a:avLst/>
                <a:gdLst/>
                <a:ahLst/>
                <a:rect l="l" t="t" r="r" b="b"/>
                <a:pathLst>
                  <a:path w="1801" h="865">
                    <a:moveTo>
                      <a:pt x="0" y="644"/>
                    </a:moveTo>
                    <a:cubicBezTo>
                      <a:pt x="88" y="611"/>
                      <a:pt x="321" y="531"/>
                      <a:pt x="529" y="457"/>
                    </a:cubicBezTo>
                    <a:cubicBezTo>
                      <a:pt x="737" y="383"/>
                      <a:pt x="1086" y="274"/>
                      <a:pt x="1250" y="199"/>
                    </a:cubicBezTo>
                    <a:cubicBezTo>
                      <a:pt x="1414" y="124"/>
                      <a:pt x="1429" y="0"/>
                      <a:pt x="1514" y="6"/>
                    </a:cubicBezTo>
                    <a:cubicBezTo>
                      <a:pt x="1599" y="12"/>
                      <a:pt x="1723" y="133"/>
                      <a:pt x="1762" y="237"/>
                    </a:cubicBezTo>
                    <a:cubicBezTo>
                      <a:pt x="1801" y="341"/>
                      <a:pt x="1789" y="562"/>
                      <a:pt x="1751" y="628"/>
                    </a:cubicBezTo>
                    <a:cubicBezTo>
                      <a:pt x="1713" y="694"/>
                      <a:pt x="1592" y="644"/>
                      <a:pt x="1531" y="633"/>
                    </a:cubicBezTo>
                    <a:cubicBezTo>
                      <a:pt x="1470" y="622"/>
                      <a:pt x="1461" y="566"/>
                      <a:pt x="1387" y="562"/>
                    </a:cubicBezTo>
                    <a:cubicBezTo>
                      <a:pt x="1313" y="558"/>
                      <a:pt x="1313" y="556"/>
                      <a:pt x="1090" y="606"/>
                    </a:cubicBezTo>
                    <a:cubicBezTo>
                      <a:pt x="867" y="656"/>
                      <a:pt x="267" y="811"/>
                      <a:pt x="50" y="865"/>
                    </a:cubicBezTo>
                    <a:lnTo>
                      <a:pt x="0" y="644"/>
                    </a:lnTo>
                    <a:close/>
                  </a:path>
                </a:pathLst>
              </a:custGeom>
              <a:solidFill>
                <a:srgbClr val="ffff6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6" name=""/>
              <p:cNvSpPr/>
              <p:nvPr/>
            </p:nvSpPr>
            <p:spPr>
              <a:xfrm>
                <a:off x="2430360" y="1473480"/>
                <a:ext cx="645840" cy="619920"/>
              </a:xfrm>
              <a:custGeom>
                <a:avLst/>
                <a:gdLst/>
                <a:ahLst/>
                <a:rect l="l" t="t" r="r" b="b"/>
                <a:pathLst>
                  <a:path w="1734" h="1511">
                    <a:moveTo>
                      <a:pt x="1734" y="314"/>
                    </a:moveTo>
                    <a:cubicBezTo>
                      <a:pt x="1586" y="420"/>
                      <a:pt x="1029" y="770"/>
                      <a:pt x="847" y="947"/>
                    </a:cubicBezTo>
                    <a:cubicBezTo>
                      <a:pt x="665" y="1124"/>
                      <a:pt x="715" y="1283"/>
                      <a:pt x="644" y="1376"/>
                    </a:cubicBezTo>
                    <a:cubicBezTo>
                      <a:pt x="573" y="1469"/>
                      <a:pt x="473" y="1495"/>
                      <a:pt x="423" y="1503"/>
                    </a:cubicBezTo>
                    <a:cubicBezTo>
                      <a:pt x="373" y="1511"/>
                      <a:pt x="353" y="1485"/>
                      <a:pt x="346" y="1426"/>
                    </a:cubicBezTo>
                    <a:cubicBezTo>
                      <a:pt x="339" y="1367"/>
                      <a:pt x="382" y="1228"/>
                      <a:pt x="379" y="1151"/>
                    </a:cubicBezTo>
                    <a:cubicBezTo>
                      <a:pt x="376" y="1074"/>
                      <a:pt x="356" y="1018"/>
                      <a:pt x="330" y="964"/>
                    </a:cubicBezTo>
                    <a:cubicBezTo>
                      <a:pt x="304" y="910"/>
                      <a:pt x="259" y="856"/>
                      <a:pt x="220" y="826"/>
                    </a:cubicBezTo>
                    <a:cubicBezTo>
                      <a:pt x="181" y="796"/>
                      <a:pt x="122" y="803"/>
                      <a:pt x="93" y="782"/>
                    </a:cubicBezTo>
                    <a:cubicBezTo>
                      <a:pt x="64" y="761"/>
                      <a:pt x="0" y="722"/>
                      <a:pt x="43" y="699"/>
                    </a:cubicBezTo>
                    <a:cubicBezTo>
                      <a:pt x="86" y="676"/>
                      <a:pt x="271" y="641"/>
                      <a:pt x="352" y="644"/>
                    </a:cubicBezTo>
                    <a:cubicBezTo>
                      <a:pt x="433" y="647"/>
                      <a:pt x="444" y="727"/>
                      <a:pt x="528" y="716"/>
                    </a:cubicBezTo>
                    <a:cubicBezTo>
                      <a:pt x="612" y="705"/>
                      <a:pt x="682" y="697"/>
                      <a:pt x="858" y="578"/>
                    </a:cubicBezTo>
                    <a:cubicBezTo>
                      <a:pt x="1034" y="459"/>
                      <a:pt x="1434" y="120"/>
                      <a:pt x="1585" y="0"/>
                    </a:cubicBezTo>
                    <a:lnTo>
                      <a:pt x="1734" y="314"/>
                    </a:lnTo>
                    <a:close/>
                  </a:path>
                </a:pathLst>
              </a:custGeom>
              <a:solidFill>
                <a:srgbClr val="ffff6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7" name=""/>
              <p:cNvSpPr/>
              <p:nvPr/>
            </p:nvSpPr>
            <p:spPr>
              <a:xfrm>
                <a:off x="1909440" y="1473120"/>
                <a:ext cx="1165320" cy="635040"/>
              </a:xfrm>
              <a:custGeom>
                <a:avLst/>
                <a:gdLst/>
                <a:ahLst/>
                <a:rect l="l" t="t" r="r" b="b"/>
                <a:pathLst>
                  <a:path w="3128" h="1548">
                    <a:moveTo>
                      <a:pt x="0" y="1394"/>
                    </a:moveTo>
                    <a:cubicBezTo>
                      <a:pt x="17" y="1548"/>
                      <a:pt x="443" y="1218"/>
                      <a:pt x="628" y="1146"/>
                    </a:cubicBezTo>
                    <a:cubicBezTo>
                      <a:pt x="813" y="1074"/>
                      <a:pt x="956" y="1026"/>
                      <a:pt x="1112" y="959"/>
                    </a:cubicBezTo>
                    <a:cubicBezTo>
                      <a:pt x="1268" y="892"/>
                      <a:pt x="1308" y="871"/>
                      <a:pt x="1564" y="744"/>
                    </a:cubicBezTo>
                    <a:cubicBezTo>
                      <a:pt x="1820" y="617"/>
                      <a:pt x="2413" y="321"/>
                      <a:pt x="2648" y="199"/>
                    </a:cubicBezTo>
                    <a:cubicBezTo>
                      <a:pt x="2883" y="77"/>
                      <a:pt x="3128" y="24"/>
                      <a:pt x="2973" y="12"/>
                    </a:cubicBezTo>
                    <a:cubicBezTo>
                      <a:pt x="2818" y="0"/>
                      <a:pt x="2095" y="34"/>
                      <a:pt x="1718" y="128"/>
                    </a:cubicBezTo>
                    <a:cubicBezTo>
                      <a:pt x="1341" y="222"/>
                      <a:pt x="996" y="363"/>
                      <a:pt x="710" y="574"/>
                    </a:cubicBezTo>
                    <a:cubicBezTo>
                      <a:pt x="424" y="785"/>
                      <a:pt x="148" y="1223"/>
                      <a:pt x="0" y="139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751700"/>
                  </a:gs>
                  <a:gs pos="100000">
                    <a:srgbClr val="ff33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428" name=""/>
            <p:cNvSpPr/>
            <p:nvPr/>
          </p:nvSpPr>
          <p:spPr>
            <a:xfrm flipH="1" flipV="1">
              <a:off x="1757160" y="4390560"/>
              <a:ext cx="352440" cy="97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429" name=""/>
            <p:cNvGrpSpPr/>
            <p:nvPr/>
          </p:nvGrpSpPr>
          <p:grpSpPr>
            <a:xfrm>
              <a:off x="7257960" y="2195640"/>
              <a:ext cx="856800" cy="919080"/>
              <a:chOff x="7257960" y="2195640"/>
              <a:chExt cx="856800" cy="919080"/>
            </a:xfrm>
          </p:grpSpPr>
          <p:grpSp>
            <p:nvGrpSpPr>
              <p:cNvPr id="10430" name=""/>
              <p:cNvGrpSpPr/>
              <p:nvPr/>
            </p:nvGrpSpPr>
            <p:grpSpPr>
              <a:xfrm>
                <a:off x="7257960" y="2818080"/>
                <a:ext cx="667080" cy="296640"/>
                <a:chOff x="7257960" y="2818080"/>
                <a:chExt cx="667080" cy="296640"/>
              </a:xfrm>
            </p:grpSpPr>
            <p:grpSp>
              <p:nvGrpSpPr>
                <p:cNvPr id="10431" name=""/>
                <p:cNvGrpSpPr/>
                <p:nvPr/>
              </p:nvGrpSpPr>
              <p:grpSpPr>
                <a:xfrm>
                  <a:off x="7257960" y="2891520"/>
                  <a:ext cx="667080" cy="223200"/>
                  <a:chOff x="7257960" y="2891520"/>
                  <a:chExt cx="667080" cy="223200"/>
                </a:xfrm>
              </p:grpSpPr>
              <p:grpSp>
                <p:nvGrpSpPr>
                  <p:cNvPr id="10432" name=""/>
                  <p:cNvGrpSpPr/>
                  <p:nvPr/>
                </p:nvGrpSpPr>
                <p:grpSpPr>
                  <a:xfrm>
                    <a:off x="7259760" y="2891520"/>
                    <a:ext cx="659880" cy="223200"/>
                    <a:chOff x="7259760" y="2891520"/>
                    <a:chExt cx="659880" cy="223200"/>
                  </a:xfrm>
                </p:grpSpPr>
                <p:sp>
                  <p:nvSpPr>
                    <p:cNvPr id="10433" name=""/>
                    <p:cNvSpPr/>
                    <p:nvPr/>
                  </p:nvSpPr>
                  <p:spPr>
                    <a:xfrm>
                      <a:off x="7259760" y="2963520"/>
                      <a:ext cx="659880" cy="151200"/>
                    </a:xfrm>
                    <a:prstGeom prst="ellipse">
                      <a:avLst/>
                    </a:prstGeom>
                    <a:solidFill>
                      <a:srgbClr val="e0e0e0"/>
                    </a:solidFill>
                    <a:ln w="64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434" name=""/>
                    <p:cNvSpPr/>
                    <p:nvPr/>
                  </p:nvSpPr>
                  <p:spPr>
                    <a:xfrm>
                      <a:off x="7259760" y="2891520"/>
                      <a:ext cx="659880" cy="147600"/>
                    </a:xfrm>
                    <a:prstGeom prst="rect">
                      <a:avLst/>
                    </a:prstGeom>
                    <a:solidFill>
                      <a:srgbClr val="e0e0e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0435" name=""/>
                  <p:cNvSpPr/>
                  <p:nvPr/>
                </p:nvSpPr>
                <p:spPr>
                  <a:xfrm flipV="1">
                    <a:off x="7257960" y="2893680"/>
                    <a:ext cx="1800" cy="15552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36" name=""/>
                  <p:cNvSpPr/>
                  <p:nvPr/>
                </p:nvSpPr>
                <p:spPr>
                  <a:xfrm>
                    <a:off x="7923600" y="2898000"/>
                    <a:ext cx="1440" cy="14976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437" name=""/>
                <p:cNvGrpSpPr/>
                <p:nvPr/>
              </p:nvGrpSpPr>
              <p:grpSpPr>
                <a:xfrm>
                  <a:off x="7259760" y="2818080"/>
                  <a:ext cx="660240" cy="149400"/>
                  <a:chOff x="7259760" y="2818080"/>
                  <a:chExt cx="660240" cy="149400"/>
                </a:xfrm>
              </p:grpSpPr>
              <p:sp>
                <p:nvSpPr>
                  <p:cNvPr id="10438" name=""/>
                  <p:cNvSpPr/>
                  <p:nvPr/>
                </p:nvSpPr>
                <p:spPr>
                  <a:xfrm>
                    <a:off x="7259760" y="2818080"/>
                    <a:ext cx="660240" cy="149400"/>
                  </a:xfrm>
                  <a:prstGeom prst="ellipse">
                    <a:avLst/>
                  </a:prstGeom>
                  <a:solidFill>
                    <a:srgbClr val="e0e0e0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39" name=""/>
                  <p:cNvSpPr/>
                  <p:nvPr/>
                </p:nvSpPr>
                <p:spPr>
                  <a:xfrm>
                    <a:off x="7279920" y="2840040"/>
                    <a:ext cx="619920" cy="11700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360" bIns="36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440" name=""/>
              <p:cNvGrpSpPr/>
              <p:nvPr/>
            </p:nvGrpSpPr>
            <p:grpSpPr>
              <a:xfrm>
                <a:off x="7337520" y="2195640"/>
                <a:ext cx="777240" cy="763920"/>
                <a:chOff x="7337520" y="2195640"/>
                <a:chExt cx="777240" cy="763920"/>
              </a:xfrm>
            </p:grpSpPr>
            <p:sp>
              <p:nvSpPr>
                <p:cNvPr id="10441" name=""/>
                <p:cNvSpPr/>
                <p:nvPr/>
              </p:nvSpPr>
              <p:spPr>
                <a:xfrm>
                  <a:off x="7367760" y="2766240"/>
                  <a:ext cx="456480" cy="193320"/>
                </a:xfrm>
                <a:prstGeom prst="ellipse">
                  <a:avLst/>
                </a:prstGeom>
                <a:solidFill>
                  <a:srgbClr val="c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42" name=""/>
                <p:cNvSpPr/>
                <p:nvPr/>
              </p:nvSpPr>
              <p:spPr>
                <a:xfrm>
                  <a:off x="7337520" y="2195640"/>
                  <a:ext cx="777240" cy="695880"/>
                </a:xfrm>
                <a:custGeom>
                  <a:avLst/>
                  <a:gdLst/>
                  <a:ahLst/>
                  <a:rect l="l" t="t" r="r" b="b"/>
                  <a:pathLst>
                    <a:path w="1381" h="1018">
                      <a:moveTo>
                        <a:pt x="54" y="976"/>
                      </a:moveTo>
                      <a:lnTo>
                        <a:pt x="31" y="898"/>
                      </a:lnTo>
                      <a:lnTo>
                        <a:pt x="18" y="832"/>
                      </a:lnTo>
                      <a:lnTo>
                        <a:pt x="9" y="772"/>
                      </a:lnTo>
                      <a:lnTo>
                        <a:pt x="6" y="738"/>
                      </a:lnTo>
                      <a:lnTo>
                        <a:pt x="1" y="688"/>
                      </a:lnTo>
                      <a:lnTo>
                        <a:pt x="0" y="607"/>
                      </a:lnTo>
                      <a:lnTo>
                        <a:pt x="10" y="542"/>
                      </a:lnTo>
                      <a:lnTo>
                        <a:pt x="21" y="491"/>
                      </a:lnTo>
                      <a:lnTo>
                        <a:pt x="47" y="444"/>
                      </a:lnTo>
                      <a:lnTo>
                        <a:pt x="82" y="396"/>
                      </a:lnTo>
                      <a:lnTo>
                        <a:pt x="143" y="353"/>
                      </a:lnTo>
                      <a:lnTo>
                        <a:pt x="189" y="333"/>
                      </a:lnTo>
                      <a:lnTo>
                        <a:pt x="240" y="322"/>
                      </a:lnTo>
                      <a:lnTo>
                        <a:pt x="279" y="299"/>
                      </a:lnTo>
                      <a:lnTo>
                        <a:pt x="345" y="257"/>
                      </a:lnTo>
                      <a:lnTo>
                        <a:pt x="305" y="304"/>
                      </a:lnTo>
                      <a:lnTo>
                        <a:pt x="353" y="292"/>
                      </a:lnTo>
                      <a:lnTo>
                        <a:pt x="387" y="283"/>
                      </a:lnTo>
                      <a:lnTo>
                        <a:pt x="436" y="280"/>
                      </a:lnTo>
                      <a:lnTo>
                        <a:pt x="426" y="222"/>
                      </a:lnTo>
                      <a:lnTo>
                        <a:pt x="432" y="170"/>
                      </a:lnTo>
                      <a:lnTo>
                        <a:pt x="445" y="130"/>
                      </a:lnTo>
                      <a:lnTo>
                        <a:pt x="483" y="82"/>
                      </a:lnTo>
                      <a:lnTo>
                        <a:pt x="529" y="45"/>
                      </a:lnTo>
                      <a:lnTo>
                        <a:pt x="617" y="0"/>
                      </a:lnTo>
                      <a:lnTo>
                        <a:pt x="548" y="88"/>
                      </a:lnTo>
                      <a:lnTo>
                        <a:pt x="610" y="69"/>
                      </a:lnTo>
                      <a:lnTo>
                        <a:pt x="659" y="64"/>
                      </a:lnTo>
                      <a:lnTo>
                        <a:pt x="726" y="64"/>
                      </a:lnTo>
                      <a:lnTo>
                        <a:pt x="629" y="104"/>
                      </a:lnTo>
                      <a:lnTo>
                        <a:pt x="702" y="104"/>
                      </a:lnTo>
                      <a:lnTo>
                        <a:pt x="799" y="69"/>
                      </a:lnTo>
                      <a:lnTo>
                        <a:pt x="856" y="54"/>
                      </a:lnTo>
                      <a:lnTo>
                        <a:pt x="949" y="45"/>
                      </a:lnTo>
                      <a:lnTo>
                        <a:pt x="1018" y="38"/>
                      </a:lnTo>
                      <a:lnTo>
                        <a:pt x="1087" y="45"/>
                      </a:lnTo>
                      <a:lnTo>
                        <a:pt x="1199" y="57"/>
                      </a:lnTo>
                      <a:lnTo>
                        <a:pt x="1080" y="73"/>
                      </a:lnTo>
                      <a:lnTo>
                        <a:pt x="1039" y="101"/>
                      </a:lnTo>
                      <a:lnTo>
                        <a:pt x="1015" y="135"/>
                      </a:lnTo>
                      <a:lnTo>
                        <a:pt x="1083" y="114"/>
                      </a:lnTo>
                      <a:lnTo>
                        <a:pt x="1168" y="88"/>
                      </a:lnTo>
                      <a:lnTo>
                        <a:pt x="1253" y="78"/>
                      </a:lnTo>
                      <a:lnTo>
                        <a:pt x="1312" y="76"/>
                      </a:lnTo>
                      <a:lnTo>
                        <a:pt x="1381" y="92"/>
                      </a:lnTo>
                      <a:lnTo>
                        <a:pt x="1309" y="107"/>
                      </a:lnTo>
                      <a:lnTo>
                        <a:pt x="1246" y="126"/>
                      </a:lnTo>
                      <a:lnTo>
                        <a:pt x="1184" y="151"/>
                      </a:lnTo>
                      <a:lnTo>
                        <a:pt x="1139" y="173"/>
                      </a:lnTo>
                      <a:lnTo>
                        <a:pt x="1077" y="230"/>
                      </a:lnTo>
                      <a:lnTo>
                        <a:pt x="1031" y="283"/>
                      </a:lnTo>
                      <a:lnTo>
                        <a:pt x="1000" y="348"/>
                      </a:lnTo>
                      <a:lnTo>
                        <a:pt x="1007" y="423"/>
                      </a:lnTo>
                      <a:lnTo>
                        <a:pt x="1014" y="495"/>
                      </a:lnTo>
                      <a:lnTo>
                        <a:pt x="1015" y="550"/>
                      </a:lnTo>
                      <a:lnTo>
                        <a:pt x="1006" y="621"/>
                      </a:lnTo>
                      <a:lnTo>
                        <a:pt x="984" y="671"/>
                      </a:lnTo>
                      <a:lnTo>
                        <a:pt x="946" y="696"/>
                      </a:lnTo>
                      <a:lnTo>
                        <a:pt x="906" y="709"/>
                      </a:lnTo>
                      <a:lnTo>
                        <a:pt x="850" y="713"/>
                      </a:lnTo>
                      <a:lnTo>
                        <a:pt x="868" y="744"/>
                      </a:lnTo>
                      <a:lnTo>
                        <a:pt x="887" y="773"/>
                      </a:lnTo>
                      <a:lnTo>
                        <a:pt x="903" y="819"/>
                      </a:lnTo>
                      <a:lnTo>
                        <a:pt x="906" y="859"/>
                      </a:lnTo>
                      <a:lnTo>
                        <a:pt x="896" y="903"/>
                      </a:lnTo>
                      <a:lnTo>
                        <a:pt x="861" y="990"/>
                      </a:lnTo>
                      <a:lnTo>
                        <a:pt x="795" y="1018"/>
                      </a:lnTo>
                      <a:lnTo>
                        <a:pt x="54" y="976"/>
                      </a:lnTo>
                      <a:close/>
                    </a:path>
                  </a:pathLst>
                </a:custGeom>
                <a:solidFill>
                  <a:srgbClr val="c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43" name=""/>
                <p:cNvSpPr/>
                <p:nvPr/>
              </p:nvSpPr>
              <p:spPr>
                <a:xfrm>
                  <a:off x="7404840" y="2672280"/>
                  <a:ext cx="412560" cy="279000"/>
                </a:xfrm>
                <a:prstGeom prst="ellipse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44" name=""/>
                <p:cNvSpPr/>
                <p:nvPr/>
              </p:nvSpPr>
              <p:spPr>
                <a:xfrm>
                  <a:off x="7379640" y="2234160"/>
                  <a:ext cx="655920" cy="692280"/>
                </a:xfrm>
                <a:custGeom>
                  <a:avLst/>
                  <a:gdLst/>
                  <a:ahLst/>
                  <a:rect l="l" t="t" r="r" b="b"/>
                  <a:pathLst>
                    <a:path w="1164" h="1010">
                      <a:moveTo>
                        <a:pt x="50" y="869"/>
                      </a:moveTo>
                      <a:lnTo>
                        <a:pt x="31" y="802"/>
                      </a:lnTo>
                      <a:lnTo>
                        <a:pt x="12" y="730"/>
                      </a:lnTo>
                      <a:lnTo>
                        <a:pt x="0" y="668"/>
                      </a:lnTo>
                      <a:lnTo>
                        <a:pt x="0" y="579"/>
                      </a:lnTo>
                      <a:lnTo>
                        <a:pt x="7" y="535"/>
                      </a:lnTo>
                      <a:lnTo>
                        <a:pt x="16" y="491"/>
                      </a:lnTo>
                      <a:lnTo>
                        <a:pt x="41" y="441"/>
                      </a:lnTo>
                      <a:lnTo>
                        <a:pt x="72" y="393"/>
                      </a:lnTo>
                      <a:lnTo>
                        <a:pt x="110" y="361"/>
                      </a:lnTo>
                      <a:lnTo>
                        <a:pt x="147" y="332"/>
                      </a:lnTo>
                      <a:lnTo>
                        <a:pt x="197" y="318"/>
                      </a:lnTo>
                      <a:lnTo>
                        <a:pt x="261" y="311"/>
                      </a:lnTo>
                      <a:lnTo>
                        <a:pt x="312" y="304"/>
                      </a:lnTo>
                      <a:lnTo>
                        <a:pt x="381" y="299"/>
                      </a:lnTo>
                      <a:lnTo>
                        <a:pt x="423" y="292"/>
                      </a:lnTo>
                      <a:lnTo>
                        <a:pt x="404" y="249"/>
                      </a:lnTo>
                      <a:lnTo>
                        <a:pt x="385" y="205"/>
                      </a:lnTo>
                      <a:lnTo>
                        <a:pt x="378" y="158"/>
                      </a:lnTo>
                      <a:lnTo>
                        <a:pt x="381" y="113"/>
                      </a:lnTo>
                      <a:lnTo>
                        <a:pt x="397" y="69"/>
                      </a:lnTo>
                      <a:lnTo>
                        <a:pt x="419" y="40"/>
                      </a:lnTo>
                      <a:lnTo>
                        <a:pt x="463" y="0"/>
                      </a:lnTo>
                      <a:lnTo>
                        <a:pt x="438" y="40"/>
                      </a:lnTo>
                      <a:lnTo>
                        <a:pt x="428" y="73"/>
                      </a:lnTo>
                      <a:lnTo>
                        <a:pt x="457" y="50"/>
                      </a:lnTo>
                      <a:lnTo>
                        <a:pt x="494" y="40"/>
                      </a:lnTo>
                      <a:lnTo>
                        <a:pt x="542" y="35"/>
                      </a:lnTo>
                      <a:lnTo>
                        <a:pt x="497" y="47"/>
                      </a:lnTo>
                      <a:lnTo>
                        <a:pt x="480" y="66"/>
                      </a:lnTo>
                      <a:lnTo>
                        <a:pt x="470" y="97"/>
                      </a:lnTo>
                      <a:lnTo>
                        <a:pt x="473" y="126"/>
                      </a:lnTo>
                      <a:lnTo>
                        <a:pt x="497" y="85"/>
                      </a:lnTo>
                      <a:lnTo>
                        <a:pt x="525" y="69"/>
                      </a:lnTo>
                      <a:lnTo>
                        <a:pt x="563" y="59"/>
                      </a:lnTo>
                      <a:lnTo>
                        <a:pt x="627" y="59"/>
                      </a:lnTo>
                      <a:lnTo>
                        <a:pt x="696" y="44"/>
                      </a:lnTo>
                      <a:lnTo>
                        <a:pt x="736" y="35"/>
                      </a:lnTo>
                      <a:lnTo>
                        <a:pt x="802" y="19"/>
                      </a:lnTo>
                      <a:lnTo>
                        <a:pt x="868" y="9"/>
                      </a:lnTo>
                      <a:lnTo>
                        <a:pt x="945" y="9"/>
                      </a:lnTo>
                      <a:lnTo>
                        <a:pt x="977" y="16"/>
                      </a:lnTo>
                      <a:lnTo>
                        <a:pt x="948" y="35"/>
                      </a:lnTo>
                      <a:lnTo>
                        <a:pt x="910" y="73"/>
                      </a:lnTo>
                      <a:lnTo>
                        <a:pt x="889" y="107"/>
                      </a:lnTo>
                      <a:lnTo>
                        <a:pt x="874" y="126"/>
                      </a:lnTo>
                      <a:lnTo>
                        <a:pt x="852" y="170"/>
                      </a:lnTo>
                      <a:lnTo>
                        <a:pt x="917" y="120"/>
                      </a:lnTo>
                      <a:lnTo>
                        <a:pt x="970" y="92"/>
                      </a:lnTo>
                      <a:lnTo>
                        <a:pt x="1045" y="66"/>
                      </a:lnTo>
                      <a:lnTo>
                        <a:pt x="1124" y="54"/>
                      </a:lnTo>
                      <a:lnTo>
                        <a:pt x="1164" y="50"/>
                      </a:lnTo>
                      <a:lnTo>
                        <a:pt x="1095" y="73"/>
                      </a:lnTo>
                      <a:lnTo>
                        <a:pt x="1026" y="101"/>
                      </a:lnTo>
                      <a:lnTo>
                        <a:pt x="974" y="151"/>
                      </a:lnTo>
                      <a:lnTo>
                        <a:pt x="905" y="239"/>
                      </a:lnTo>
                      <a:lnTo>
                        <a:pt x="868" y="323"/>
                      </a:lnTo>
                      <a:lnTo>
                        <a:pt x="850" y="393"/>
                      </a:lnTo>
                      <a:lnTo>
                        <a:pt x="874" y="374"/>
                      </a:lnTo>
                      <a:lnTo>
                        <a:pt x="889" y="349"/>
                      </a:lnTo>
                      <a:lnTo>
                        <a:pt x="901" y="318"/>
                      </a:lnTo>
                      <a:lnTo>
                        <a:pt x="905" y="368"/>
                      </a:lnTo>
                      <a:lnTo>
                        <a:pt x="914" y="427"/>
                      </a:lnTo>
                      <a:lnTo>
                        <a:pt x="914" y="472"/>
                      </a:lnTo>
                      <a:lnTo>
                        <a:pt x="905" y="531"/>
                      </a:lnTo>
                      <a:lnTo>
                        <a:pt x="882" y="585"/>
                      </a:lnTo>
                      <a:lnTo>
                        <a:pt x="850" y="611"/>
                      </a:lnTo>
                      <a:lnTo>
                        <a:pt x="805" y="620"/>
                      </a:lnTo>
                      <a:lnTo>
                        <a:pt x="762" y="620"/>
                      </a:lnTo>
                      <a:lnTo>
                        <a:pt x="686" y="620"/>
                      </a:lnTo>
                      <a:lnTo>
                        <a:pt x="743" y="670"/>
                      </a:lnTo>
                      <a:lnTo>
                        <a:pt x="771" y="711"/>
                      </a:lnTo>
                      <a:lnTo>
                        <a:pt x="793" y="776"/>
                      </a:lnTo>
                      <a:lnTo>
                        <a:pt x="796" y="810"/>
                      </a:lnTo>
                      <a:lnTo>
                        <a:pt x="790" y="838"/>
                      </a:lnTo>
                      <a:lnTo>
                        <a:pt x="783" y="865"/>
                      </a:lnTo>
                      <a:lnTo>
                        <a:pt x="752" y="914"/>
                      </a:lnTo>
                      <a:lnTo>
                        <a:pt x="670" y="923"/>
                      </a:lnTo>
                      <a:lnTo>
                        <a:pt x="620" y="967"/>
                      </a:lnTo>
                      <a:lnTo>
                        <a:pt x="535" y="983"/>
                      </a:lnTo>
                      <a:lnTo>
                        <a:pt x="419" y="1010"/>
                      </a:lnTo>
                      <a:lnTo>
                        <a:pt x="50" y="869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45" name=""/>
                <p:cNvSpPr/>
                <p:nvPr/>
              </p:nvSpPr>
              <p:spPr>
                <a:xfrm>
                  <a:off x="7347240" y="2414880"/>
                  <a:ext cx="133560" cy="361440"/>
                </a:xfrm>
                <a:custGeom>
                  <a:avLst/>
                  <a:gdLst/>
                  <a:ahLst/>
                  <a:rect l="l" t="t" r="r" b="b"/>
                  <a:pathLst>
                    <a:path w="239" h="527">
                      <a:moveTo>
                        <a:pt x="239" y="0"/>
                      </a:moveTo>
                      <a:lnTo>
                        <a:pt x="183" y="26"/>
                      </a:lnTo>
                      <a:lnTo>
                        <a:pt x="127" y="50"/>
                      </a:lnTo>
                      <a:lnTo>
                        <a:pt x="75" y="94"/>
                      </a:lnTo>
                      <a:lnTo>
                        <a:pt x="38" y="147"/>
                      </a:lnTo>
                      <a:lnTo>
                        <a:pt x="22" y="190"/>
                      </a:lnTo>
                      <a:lnTo>
                        <a:pt x="7" y="242"/>
                      </a:lnTo>
                      <a:lnTo>
                        <a:pt x="0" y="308"/>
                      </a:lnTo>
                      <a:lnTo>
                        <a:pt x="3" y="387"/>
                      </a:lnTo>
                      <a:lnTo>
                        <a:pt x="19" y="426"/>
                      </a:lnTo>
                      <a:lnTo>
                        <a:pt x="38" y="473"/>
                      </a:lnTo>
                      <a:lnTo>
                        <a:pt x="60" y="527"/>
                      </a:lnTo>
                      <a:lnTo>
                        <a:pt x="41" y="449"/>
                      </a:lnTo>
                      <a:lnTo>
                        <a:pt x="26" y="380"/>
                      </a:lnTo>
                      <a:lnTo>
                        <a:pt x="29" y="304"/>
                      </a:lnTo>
                      <a:lnTo>
                        <a:pt x="48" y="213"/>
                      </a:lnTo>
                      <a:lnTo>
                        <a:pt x="84" y="130"/>
                      </a:lnTo>
                      <a:lnTo>
                        <a:pt x="113" y="94"/>
                      </a:lnTo>
                      <a:lnTo>
                        <a:pt x="144" y="66"/>
                      </a:lnTo>
                      <a:lnTo>
                        <a:pt x="169" y="44"/>
                      </a:lnTo>
                      <a:lnTo>
                        <a:pt x="239" y="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46" name=""/>
                <p:cNvSpPr/>
                <p:nvPr/>
              </p:nvSpPr>
              <p:spPr>
                <a:xfrm>
                  <a:off x="7651800" y="2287800"/>
                  <a:ext cx="70920" cy="108720"/>
                </a:xfrm>
                <a:custGeom>
                  <a:avLst/>
                  <a:gdLst/>
                  <a:ahLst/>
                  <a:rect l="l" t="t" r="r" b="b"/>
                  <a:pathLst>
                    <a:path w="125" h="158">
                      <a:moveTo>
                        <a:pt x="125" y="0"/>
                      </a:moveTo>
                      <a:lnTo>
                        <a:pt x="64" y="10"/>
                      </a:lnTo>
                      <a:lnTo>
                        <a:pt x="28" y="23"/>
                      </a:lnTo>
                      <a:lnTo>
                        <a:pt x="12" y="41"/>
                      </a:lnTo>
                      <a:lnTo>
                        <a:pt x="5" y="56"/>
                      </a:lnTo>
                      <a:lnTo>
                        <a:pt x="0" y="88"/>
                      </a:lnTo>
                      <a:lnTo>
                        <a:pt x="0" y="121"/>
                      </a:lnTo>
                      <a:lnTo>
                        <a:pt x="2" y="158"/>
                      </a:lnTo>
                      <a:lnTo>
                        <a:pt x="12" y="79"/>
                      </a:lnTo>
                      <a:lnTo>
                        <a:pt x="32" y="46"/>
                      </a:lnTo>
                      <a:lnTo>
                        <a:pt x="51" y="33"/>
                      </a:lnTo>
                      <a:lnTo>
                        <a:pt x="125" y="0"/>
                      </a:lnTo>
                      <a:close/>
                    </a:path>
                  </a:pathLst>
                </a:custGeom>
                <a:solidFill>
                  <a:srgbClr val="c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47" name=""/>
                <p:cNvSpPr/>
                <p:nvPr/>
              </p:nvSpPr>
              <p:spPr>
                <a:xfrm>
                  <a:off x="7764840" y="2501640"/>
                  <a:ext cx="116640" cy="141480"/>
                </a:xfrm>
                <a:custGeom>
                  <a:avLst/>
                  <a:gdLst/>
                  <a:ahLst/>
                  <a:rect l="l" t="t" r="r" b="b"/>
                  <a:pathLst>
                    <a:path w="206" h="205">
                      <a:moveTo>
                        <a:pt x="204" y="0"/>
                      </a:moveTo>
                      <a:lnTo>
                        <a:pt x="206" y="52"/>
                      </a:lnTo>
                      <a:lnTo>
                        <a:pt x="204" y="106"/>
                      </a:lnTo>
                      <a:lnTo>
                        <a:pt x="185" y="158"/>
                      </a:lnTo>
                      <a:lnTo>
                        <a:pt x="163" y="186"/>
                      </a:lnTo>
                      <a:lnTo>
                        <a:pt x="136" y="200"/>
                      </a:lnTo>
                      <a:lnTo>
                        <a:pt x="82" y="202"/>
                      </a:lnTo>
                      <a:lnTo>
                        <a:pt x="34" y="205"/>
                      </a:lnTo>
                      <a:lnTo>
                        <a:pt x="0" y="202"/>
                      </a:lnTo>
                      <a:lnTo>
                        <a:pt x="24" y="196"/>
                      </a:lnTo>
                      <a:lnTo>
                        <a:pt x="63" y="186"/>
                      </a:lnTo>
                      <a:lnTo>
                        <a:pt x="108" y="165"/>
                      </a:lnTo>
                      <a:lnTo>
                        <a:pt x="146" y="128"/>
                      </a:lnTo>
                      <a:lnTo>
                        <a:pt x="173" y="81"/>
                      </a:lnTo>
                      <a:lnTo>
                        <a:pt x="185" y="52"/>
                      </a:lnTo>
                      <a:lnTo>
                        <a:pt x="204" y="0"/>
                      </a:lnTo>
                      <a:close/>
                    </a:path>
                  </a:pathLst>
                </a:custGeom>
                <a:solidFill>
                  <a:srgbClr val="c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48" name=""/>
                <p:cNvSpPr/>
                <p:nvPr/>
              </p:nvSpPr>
              <p:spPr>
                <a:xfrm>
                  <a:off x="7404840" y="2476800"/>
                  <a:ext cx="101520" cy="293400"/>
                </a:xfrm>
                <a:custGeom>
                  <a:avLst/>
                  <a:gdLst/>
                  <a:ahLst/>
                  <a:rect l="l" t="t" r="r" b="b"/>
                  <a:pathLst>
                    <a:path w="182" h="430">
                      <a:moveTo>
                        <a:pt x="182" y="0"/>
                      </a:moveTo>
                      <a:lnTo>
                        <a:pt x="120" y="16"/>
                      </a:lnTo>
                      <a:lnTo>
                        <a:pt x="54" y="54"/>
                      </a:lnTo>
                      <a:lnTo>
                        <a:pt x="27" y="89"/>
                      </a:lnTo>
                      <a:lnTo>
                        <a:pt x="12" y="125"/>
                      </a:lnTo>
                      <a:lnTo>
                        <a:pt x="2" y="178"/>
                      </a:lnTo>
                      <a:lnTo>
                        <a:pt x="0" y="220"/>
                      </a:lnTo>
                      <a:lnTo>
                        <a:pt x="0" y="254"/>
                      </a:lnTo>
                      <a:lnTo>
                        <a:pt x="12" y="345"/>
                      </a:lnTo>
                      <a:lnTo>
                        <a:pt x="33" y="430"/>
                      </a:lnTo>
                      <a:lnTo>
                        <a:pt x="27" y="273"/>
                      </a:lnTo>
                      <a:lnTo>
                        <a:pt x="36" y="213"/>
                      </a:lnTo>
                      <a:lnTo>
                        <a:pt x="54" y="154"/>
                      </a:lnTo>
                      <a:lnTo>
                        <a:pt x="82" y="101"/>
                      </a:lnTo>
                      <a:lnTo>
                        <a:pt x="101" y="70"/>
                      </a:lnTo>
                      <a:lnTo>
                        <a:pt x="129" y="42"/>
                      </a:lnTo>
                      <a:lnTo>
                        <a:pt x="182" y="0"/>
                      </a:lnTo>
                      <a:close/>
                    </a:path>
                  </a:pathLst>
                </a:custGeom>
                <a:solidFill>
                  <a:srgbClr val="c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49" name=""/>
                <p:cNvSpPr/>
                <p:nvPr/>
              </p:nvSpPr>
              <p:spPr>
                <a:xfrm>
                  <a:off x="7671960" y="2259000"/>
                  <a:ext cx="201240" cy="182880"/>
                </a:xfrm>
                <a:custGeom>
                  <a:avLst/>
                  <a:gdLst/>
                  <a:ahLst/>
                  <a:rect l="l" t="t" r="r" b="b"/>
                  <a:pathLst>
                    <a:path w="356" h="268">
                      <a:moveTo>
                        <a:pt x="356" y="0"/>
                      </a:moveTo>
                      <a:lnTo>
                        <a:pt x="295" y="5"/>
                      </a:lnTo>
                      <a:lnTo>
                        <a:pt x="256" y="15"/>
                      </a:lnTo>
                      <a:lnTo>
                        <a:pt x="225" y="31"/>
                      </a:lnTo>
                      <a:lnTo>
                        <a:pt x="203" y="47"/>
                      </a:lnTo>
                      <a:lnTo>
                        <a:pt x="175" y="70"/>
                      </a:lnTo>
                      <a:lnTo>
                        <a:pt x="149" y="115"/>
                      </a:lnTo>
                      <a:lnTo>
                        <a:pt x="149" y="74"/>
                      </a:lnTo>
                      <a:lnTo>
                        <a:pt x="156" y="50"/>
                      </a:lnTo>
                      <a:lnTo>
                        <a:pt x="165" y="38"/>
                      </a:lnTo>
                      <a:lnTo>
                        <a:pt x="140" y="53"/>
                      </a:lnTo>
                      <a:lnTo>
                        <a:pt x="121" y="77"/>
                      </a:lnTo>
                      <a:lnTo>
                        <a:pt x="118" y="112"/>
                      </a:lnTo>
                      <a:lnTo>
                        <a:pt x="115" y="134"/>
                      </a:lnTo>
                      <a:lnTo>
                        <a:pt x="102" y="178"/>
                      </a:lnTo>
                      <a:lnTo>
                        <a:pt x="90" y="208"/>
                      </a:lnTo>
                      <a:lnTo>
                        <a:pt x="67" y="239"/>
                      </a:lnTo>
                      <a:lnTo>
                        <a:pt x="19" y="258"/>
                      </a:lnTo>
                      <a:lnTo>
                        <a:pt x="0" y="265"/>
                      </a:lnTo>
                      <a:lnTo>
                        <a:pt x="72" y="268"/>
                      </a:lnTo>
                      <a:lnTo>
                        <a:pt x="106" y="268"/>
                      </a:lnTo>
                      <a:lnTo>
                        <a:pt x="140" y="249"/>
                      </a:lnTo>
                      <a:lnTo>
                        <a:pt x="165" y="220"/>
                      </a:lnTo>
                      <a:lnTo>
                        <a:pt x="177" y="184"/>
                      </a:lnTo>
                      <a:lnTo>
                        <a:pt x="187" y="146"/>
                      </a:lnTo>
                      <a:lnTo>
                        <a:pt x="208" y="115"/>
                      </a:lnTo>
                      <a:lnTo>
                        <a:pt x="270" y="89"/>
                      </a:lnTo>
                      <a:lnTo>
                        <a:pt x="227" y="89"/>
                      </a:lnTo>
                      <a:lnTo>
                        <a:pt x="225" y="70"/>
                      </a:lnTo>
                      <a:lnTo>
                        <a:pt x="243" y="53"/>
                      </a:lnTo>
                      <a:lnTo>
                        <a:pt x="270" y="34"/>
                      </a:lnTo>
                      <a:lnTo>
                        <a:pt x="295" y="22"/>
                      </a:lnTo>
                      <a:lnTo>
                        <a:pt x="356" y="0"/>
                      </a:lnTo>
                      <a:close/>
                    </a:path>
                  </a:pathLst>
                </a:custGeom>
                <a:solidFill>
                  <a:srgbClr val="c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50" name=""/>
                <p:cNvSpPr/>
                <p:nvPr/>
              </p:nvSpPr>
              <p:spPr>
                <a:xfrm>
                  <a:off x="7465680" y="2493360"/>
                  <a:ext cx="244800" cy="392040"/>
                </a:xfrm>
                <a:custGeom>
                  <a:avLst/>
                  <a:gdLst/>
                  <a:ahLst/>
                  <a:rect l="l" t="t" r="r" b="b"/>
                  <a:pathLst>
                    <a:path w="434" h="572">
                      <a:moveTo>
                        <a:pt x="297" y="0"/>
                      </a:moveTo>
                      <a:lnTo>
                        <a:pt x="209" y="19"/>
                      </a:lnTo>
                      <a:lnTo>
                        <a:pt x="139" y="41"/>
                      </a:lnTo>
                      <a:lnTo>
                        <a:pt x="85" y="79"/>
                      </a:lnTo>
                      <a:lnTo>
                        <a:pt x="41" y="133"/>
                      </a:lnTo>
                      <a:lnTo>
                        <a:pt x="10" y="207"/>
                      </a:lnTo>
                      <a:lnTo>
                        <a:pt x="0" y="267"/>
                      </a:lnTo>
                      <a:lnTo>
                        <a:pt x="0" y="352"/>
                      </a:lnTo>
                      <a:lnTo>
                        <a:pt x="7" y="425"/>
                      </a:lnTo>
                      <a:lnTo>
                        <a:pt x="22" y="483"/>
                      </a:lnTo>
                      <a:lnTo>
                        <a:pt x="43" y="535"/>
                      </a:lnTo>
                      <a:lnTo>
                        <a:pt x="155" y="572"/>
                      </a:lnTo>
                      <a:lnTo>
                        <a:pt x="246" y="541"/>
                      </a:lnTo>
                      <a:lnTo>
                        <a:pt x="297" y="513"/>
                      </a:lnTo>
                      <a:lnTo>
                        <a:pt x="322" y="483"/>
                      </a:lnTo>
                      <a:lnTo>
                        <a:pt x="346" y="425"/>
                      </a:lnTo>
                      <a:lnTo>
                        <a:pt x="361" y="366"/>
                      </a:lnTo>
                      <a:lnTo>
                        <a:pt x="365" y="311"/>
                      </a:lnTo>
                      <a:lnTo>
                        <a:pt x="358" y="274"/>
                      </a:lnTo>
                      <a:lnTo>
                        <a:pt x="346" y="349"/>
                      </a:lnTo>
                      <a:lnTo>
                        <a:pt x="326" y="394"/>
                      </a:lnTo>
                      <a:lnTo>
                        <a:pt x="290" y="430"/>
                      </a:lnTo>
                      <a:lnTo>
                        <a:pt x="246" y="455"/>
                      </a:lnTo>
                      <a:lnTo>
                        <a:pt x="281" y="390"/>
                      </a:lnTo>
                      <a:lnTo>
                        <a:pt x="290" y="359"/>
                      </a:lnTo>
                      <a:lnTo>
                        <a:pt x="290" y="318"/>
                      </a:lnTo>
                      <a:lnTo>
                        <a:pt x="290" y="264"/>
                      </a:lnTo>
                      <a:lnTo>
                        <a:pt x="300" y="198"/>
                      </a:lnTo>
                      <a:lnTo>
                        <a:pt x="312" y="163"/>
                      </a:lnTo>
                      <a:lnTo>
                        <a:pt x="327" y="121"/>
                      </a:lnTo>
                      <a:lnTo>
                        <a:pt x="339" y="98"/>
                      </a:lnTo>
                      <a:lnTo>
                        <a:pt x="312" y="117"/>
                      </a:lnTo>
                      <a:lnTo>
                        <a:pt x="288" y="148"/>
                      </a:lnTo>
                      <a:lnTo>
                        <a:pt x="255" y="217"/>
                      </a:lnTo>
                      <a:lnTo>
                        <a:pt x="231" y="283"/>
                      </a:lnTo>
                      <a:lnTo>
                        <a:pt x="222" y="226"/>
                      </a:lnTo>
                      <a:lnTo>
                        <a:pt x="224" y="160"/>
                      </a:lnTo>
                      <a:lnTo>
                        <a:pt x="240" y="107"/>
                      </a:lnTo>
                      <a:lnTo>
                        <a:pt x="272" y="76"/>
                      </a:lnTo>
                      <a:lnTo>
                        <a:pt x="297" y="60"/>
                      </a:lnTo>
                      <a:lnTo>
                        <a:pt x="349" y="50"/>
                      </a:lnTo>
                      <a:lnTo>
                        <a:pt x="380" y="50"/>
                      </a:lnTo>
                      <a:lnTo>
                        <a:pt x="434" y="38"/>
                      </a:lnTo>
                      <a:lnTo>
                        <a:pt x="355" y="38"/>
                      </a:lnTo>
                      <a:lnTo>
                        <a:pt x="303" y="41"/>
                      </a:lnTo>
                      <a:lnTo>
                        <a:pt x="222" y="67"/>
                      </a:lnTo>
                      <a:lnTo>
                        <a:pt x="181" y="86"/>
                      </a:lnTo>
                      <a:lnTo>
                        <a:pt x="146" y="123"/>
                      </a:lnTo>
                      <a:lnTo>
                        <a:pt x="155" y="86"/>
                      </a:lnTo>
                      <a:lnTo>
                        <a:pt x="174" y="57"/>
                      </a:lnTo>
                      <a:lnTo>
                        <a:pt x="205" y="41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c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0451" name=""/>
            <p:cNvSpPr/>
            <p:nvPr/>
          </p:nvSpPr>
          <p:spPr>
            <a:xfrm>
              <a:off x="7466040" y="1784880"/>
              <a:ext cx="1677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CO</a:t>
              </a:r>
              <a:r>
                <a:rPr b="1" lang="cs-CZ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+H</a:t>
              </a:r>
              <a:r>
                <a:rPr b="1" lang="cs-CZ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452" name=""/>
            <p:cNvGraphicFramePr/>
            <p:nvPr/>
          </p:nvGraphicFramePr>
          <p:xfrm>
            <a:off x="5465880" y="3819600"/>
            <a:ext cx="682560" cy="81108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453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465880" y="3819600"/>
                      <a:ext cx="682560" cy="811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454" name=""/>
            <p:cNvSpPr/>
            <p:nvPr/>
          </p:nvSpPr>
          <p:spPr>
            <a:xfrm flipV="1">
              <a:off x="4797360" y="2962440"/>
              <a:ext cx="2227320" cy="2203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55" name=""/>
          <p:cNvGrpSpPr/>
          <p:nvPr/>
        </p:nvGrpSpPr>
        <p:grpSpPr>
          <a:xfrm>
            <a:off x="284040" y="918000"/>
            <a:ext cx="7994880" cy="4432320"/>
            <a:chOff x="284040" y="918000"/>
            <a:chExt cx="7994880" cy="4432320"/>
          </a:xfrm>
        </p:grpSpPr>
        <p:cxnSp>
          <p:nvCxnSpPr>
            <p:cNvPr id="10456" name=""/>
            <p:cNvCxnSpPr/>
            <p:nvPr/>
          </p:nvCxnSpPr>
          <p:spPr>
            <a:xfrm>
              <a:off x="4633560" y="5349600"/>
              <a:ext cx="10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0457" name=""/>
            <p:cNvCxnSpPr/>
            <p:nvPr/>
          </p:nvCxnSpPr>
          <p:spPr>
            <a:xfrm>
              <a:off x="5733720" y="2742840"/>
              <a:ext cx="10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graphicFrame>
          <p:nvGraphicFramePr>
            <p:cNvPr id="10458" name=""/>
            <p:cNvGraphicFramePr/>
            <p:nvPr/>
          </p:nvGraphicFramePr>
          <p:xfrm>
            <a:off x="3059280" y="2921040"/>
            <a:ext cx="1904760" cy="13762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045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059280" y="2921040"/>
                      <a:ext cx="1904760" cy="1376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60" name=""/>
            <p:cNvGraphicFramePr/>
            <p:nvPr/>
          </p:nvGraphicFramePr>
          <p:xfrm>
            <a:off x="5605560" y="1752480"/>
            <a:ext cx="1562040" cy="17496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046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605560" y="1752480"/>
                      <a:ext cx="1562040" cy="1749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462" name=""/>
            <p:cNvSpPr/>
            <p:nvPr/>
          </p:nvSpPr>
          <p:spPr>
            <a:xfrm>
              <a:off x="284040" y="2973240"/>
              <a:ext cx="1067040" cy="1143000"/>
            </a:xfrm>
            <a:prstGeom prst="ellipse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75752f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3" name=""/>
            <p:cNvSpPr/>
            <p:nvPr/>
          </p:nvSpPr>
          <p:spPr>
            <a:xfrm>
              <a:off x="1216080" y="3605040"/>
              <a:ext cx="533520" cy="8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4" name=""/>
            <p:cNvSpPr/>
            <p:nvPr/>
          </p:nvSpPr>
          <p:spPr>
            <a:xfrm>
              <a:off x="312120" y="3304080"/>
              <a:ext cx="87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Tuk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5" name=""/>
            <p:cNvSpPr/>
            <p:nvPr/>
          </p:nvSpPr>
          <p:spPr>
            <a:xfrm>
              <a:off x="1734120" y="3257640"/>
              <a:ext cx="1249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Mastné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kyselin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6" name=""/>
            <p:cNvSpPr/>
            <p:nvPr/>
          </p:nvSpPr>
          <p:spPr>
            <a:xfrm>
              <a:off x="4511520" y="3997080"/>
              <a:ext cx="1719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Ketolátky</a:t>
              </a:r>
              <a:r>
                <a:rPr b="1" lang="cs-CZ" sz="4000" spc="-1" strike="noStrike" baseline="30000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7" name=""/>
            <p:cNvSpPr/>
            <p:nvPr/>
          </p:nvSpPr>
          <p:spPr>
            <a:xfrm>
              <a:off x="3941640" y="3625920"/>
              <a:ext cx="731880" cy="4888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8" name=""/>
            <p:cNvSpPr/>
            <p:nvPr/>
          </p:nvSpPr>
          <p:spPr>
            <a:xfrm flipV="1">
              <a:off x="5694480" y="3619080"/>
              <a:ext cx="598320" cy="5684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9" name=""/>
            <p:cNvSpPr/>
            <p:nvPr/>
          </p:nvSpPr>
          <p:spPr>
            <a:xfrm>
              <a:off x="4921200" y="1356840"/>
              <a:ext cx="990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1" lang="cs-CZ" sz="3600" spc="-1" strike="noStrike" baseline="30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0" name=""/>
            <p:cNvSpPr/>
            <p:nvPr/>
          </p:nvSpPr>
          <p:spPr>
            <a:xfrm>
              <a:off x="2863800" y="3618000"/>
              <a:ext cx="10922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471" name=""/>
            <p:cNvGraphicFramePr/>
            <p:nvPr/>
          </p:nvGraphicFramePr>
          <p:xfrm>
            <a:off x="6348240" y="3852720"/>
            <a:ext cx="1051200" cy="12495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472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348240" y="3852720"/>
                      <a:ext cx="1051200" cy="1249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473" name=""/>
            <p:cNvSpPr/>
            <p:nvPr/>
          </p:nvSpPr>
          <p:spPr>
            <a:xfrm flipV="1">
              <a:off x="1212840" y="1833120"/>
              <a:ext cx="3817800" cy="17859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4" name=""/>
            <p:cNvSpPr/>
            <p:nvPr/>
          </p:nvSpPr>
          <p:spPr>
            <a:xfrm>
              <a:off x="5510160" y="2004840"/>
              <a:ext cx="763560" cy="15559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5" name=""/>
            <p:cNvSpPr/>
            <p:nvPr/>
          </p:nvSpPr>
          <p:spPr>
            <a:xfrm>
              <a:off x="4195800" y="918000"/>
              <a:ext cx="2579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300-400 mmol/de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6" name=""/>
            <p:cNvSpPr/>
            <p:nvPr/>
          </p:nvSpPr>
          <p:spPr>
            <a:xfrm flipV="1">
              <a:off x="3938760" y="1938240"/>
              <a:ext cx="1150920" cy="16956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477" name=""/>
            <p:cNvGrpSpPr/>
            <p:nvPr/>
          </p:nvGrpSpPr>
          <p:grpSpPr>
            <a:xfrm>
              <a:off x="6270480" y="3216240"/>
              <a:ext cx="856800" cy="919440"/>
              <a:chOff x="6270480" y="3216240"/>
              <a:chExt cx="856800" cy="919440"/>
            </a:xfrm>
          </p:grpSpPr>
          <p:grpSp>
            <p:nvGrpSpPr>
              <p:cNvPr id="10478" name=""/>
              <p:cNvGrpSpPr/>
              <p:nvPr/>
            </p:nvGrpSpPr>
            <p:grpSpPr>
              <a:xfrm>
                <a:off x="6270480" y="3839040"/>
                <a:ext cx="667080" cy="296640"/>
                <a:chOff x="6270480" y="3839040"/>
                <a:chExt cx="667080" cy="296640"/>
              </a:xfrm>
            </p:grpSpPr>
            <p:grpSp>
              <p:nvGrpSpPr>
                <p:cNvPr id="10479" name=""/>
                <p:cNvGrpSpPr/>
                <p:nvPr/>
              </p:nvGrpSpPr>
              <p:grpSpPr>
                <a:xfrm>
                  <a:off x="6270480" y="3912480"/>
                  <a:ext cx="667080" cy="223200"/>
                  <a:chOff x="6270480" y="3912480"/>
                  <a:chExt cx="667080" cy="223200"/>
                </a:xfrm>
              </p:grpSpPr>
              <p:grpSp>
                <p:nvGrpSpPr>
                  <p:cNvPr id="10480" name=""/>
                  <p:cNvGrpSpPr/>
                  <p:nvPr/>
                </p:nvGrpSpPr>
                <p:grpSpPr>
                  <a:xfrm>
                    <a:off x="6272280" y="3912480"/>
                    <a:ext cx="659880" cy="223200"/>
                    <a:chOff x="6272280" y="3912480"/>
                    <a:chExt cx="659880" cy="223200"/>
                  </a:xfrm>
                </p:grpSpPr>
                <p:sp>
                  <p:nvSpPr>
                    <p:cNvPr id="10481" name=""/>
                    <p:cNvSpPr/>
                    <p:nvPr/>
                  </p:nvSpPr>
                  <p:spPr>
                    <a:xfrm>
                      <a:off x="6272280" y="3984480"/>
                      <a:ext cx="659880" cy="151200"/>
                    </a:xfrm>
                    <a:prstGeom prst="ellipse">
                      <a:avLst/>
                    </a:prstGeom>
                    <a:solidFill>
                      <a:srgbClr val="e0e0e0"/>
                    </a:solidFill>
                    <a:ln w="64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482" name=""/>
                    <p:cNvSpPr/>
                    <p:nvPr/>
                  </p:nvSpPr>
                  <p:spPr>
                    <a:xfrm>
                      <a:off x="6272280" y="3912480"/>
                      <a:ext cx="659880" cy="147600"/>
                    </a:xfrm>
                    <a:prstGeom prst="rect">
                      <a:avLst/>
                    </a:prstGeom>
                    <a:solidFill>
                      <a:srgbClr val="e0e0e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0483" name=""/>
                  <p:cNvSpPr/>
                  <p:nvPr/>
                </p:nvSpPr>
                <p:spPr>
                  <a:xfrm flipV="1">
                    <a:off x="6270480" y="3914640"/>
                    <a:ext cx="1800" cy="15552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84" name=""/>
                  <p:cNvSpPr/>
                  <p:nvPr/>
                </p:nvSpPr>
                <p:spPr>
                  <a:xfrm>
                    <a:off x="6936120" y="3918960"/>
                    <a:ext cx="1440" cy="14976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485" name=""/>
                <p:cNvGrpSpPr/>
                <p:nvPr/>
              </p:nvGrpSpPr>
              <p:grpSpPr>
                <a:xfrm>
                  <a:off x="6272280" y="3839040"/>
                  <a:ext cx="660240" cy="149400"/>
                  <a:chOff x="6272280" y="3839040"/>
                  <a:chExt cx="660240" cy="149400"/>
                </a:xfrm>
              </p:grpSpPr>
              <p:sp>
                <p:nvSpPr>
                  <p:cNvPr id="10486" name=""/>
                  <p:cNvSpPr/>
                  <p:nvPr/>
                </p:nvSpPr>
                <p:spPr>
                  <a:xfrm>
                    <a:off x="6272280" y="3839040"/>
                    <a:ext cx="660240" cy="149400"/>
                  </a:xfrm>
                  <a:prstGeom prst="ellipse">
                    <a:avLst/>
                  </a:prstGeom>
                  <a:solidFill>
                    <a:srgbClr val="e0e0e0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87" name=""/>
                  <p:cNvSpPr/>
                  <p:nvPr/>
                </p:nvSpPr>
                <p:spPr>
                  <a:xfrm>
                    <a:off x="6292440" y="3861000"/>
                    <a:ext cx="619920" cy="11700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360" bIns="36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488" name=""/>
              <p:cNvGrpSpPr/>
              <p:nvPr/>
            </p:nvGrpSpPr>
            <p:grpSpPr>
              <a:xfrm>
                <a:off x="6350040" y="3216240"/>
                <a:ext cx="777240" cy="763920"/>
                <a:chOff x="6350040" y="3216240"/>
                <a:chExt cx="777240" cy="763920"/>
              </a:xfrm>
            </p:grpSpPr>
            <p:sp>
              <p:nvSpPr>
                <p:cNvPr id="10489" name=""/>
                <p:cNvSpPr/>
                <p:nvPr/>
              </p:nvSpPr>
              <p:spPr>
                <a:xfrm>
                  <a:off x="6380280" y="3786840"/>
                  <a:ext cx="456480" cy="193320"/>
                </a:xfrm>
                <a:prstGeom prst="ellipse">
                  <a:avLst/>
                </a:prstGeom>
                <a:solidFill>
                  <a:srgbClr val="c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90" name=""/>
                <p:cNvSpPr/>
                <p:nvPr/>
              </p:nvSpPr>
              <p:spPr>
                <a:xfrm>
                  <a:off x="6350040" y="3216240"/>
                  <a:ext cx="777240" cy="695880"/>
                </a:xfrm>
                <a:custGeom>
                  <a:avLst/>
                  <a:gdLst/>
                  <a:ahLst/>
                  <a:rect l="l" t="t" r="r" b="b"/>
                  <a:pathLst>
                    <a:path w="1381" h="1018">
                      <a:moveTo>
                        <a:pt x="54" y="976"/>
                      </a:moveTo>
                      <a:lnTo>
                        <a:pt x="31" y="898"/>
                      </a:lnTo>
                      <a:lnTo>
                        <a:pt x="18" y="832"/>
                      </a:lnTo>
                      <a:lnTo>
                        <a:pt x="9" y="772"/>
                      </a:lnTo>
                      <a:lnTo>
                        <a:pt x="6" y="738"/>
                      </a:lnTo>
                      <a:lnTo>
                        <a:pt x="1" y="688"/>
                      </a:lnTo>
                      <a:lnTo>
                        <a:pt x="0" y="607"/>
                      </a:lnTo>
                      <a:lnTo>
                        <a:pt x="10" y="542"/>
                      </a:lnTo>
                      <a:lnTo>
                        <a:pt x="21" y="491"/>
                      </a:lnTo>
                      <a:lnTo>
                        <a:pt x="47" y="444"/>
                      </a:lnTo>
                      <a:lnTo>
                        <a:pt x="82" y="396"/>
                      </a:lnTo>
                      <a:lnTo>
                        <a:pt x="143" y="353"/>
                      </a:lnTo>
                      <a:lnTo>
                        <a:pt x="189" y="333"/>
                      </a:lnTo>
                      <a:lnTo>
                        <a:pt x="240" y="322"/>
                      </a:lnTo>
                      <a:lnTo>
                        <a:pt x="279" y="299"/>
                      </a:lnTo>
                      <a:lnTo>
                        <a:pt x="345" y="257"/>
                      </a:lnTo>
                      <a:lnTo>
                        <a:pt x="305" y="304"/>
                      </a:lnTo>
                      <a:lnTo>
                        <a:pt x="353" y="292"/>
                      </a:lnTo>
                      <a:lnTo>
                        <a:pt x="387" y="283"/>
                      </a:lnTo>
                      <a:lnTo>
                        <a:pt x="436" y="280"/>
                      </a:lnTo>
                      <a:lnTo>
                        <a:pt x="426" y="222"/>
                      </a:lnTo>
                      <a:lnTo>
                        <a:pt x="432" y="170"/>
                      </a:lnTo>
                      <a:lnTo>
                        <a:pt x="445" y="130"/>
                      </a:lnTo>
                      <a:lnTo>
                        <a:pt x="483" y="82"/>
                      </a:lnTo>
                      <a:lnTo>
                        <a:pt x="529" y="45"/>
                      </a:lnTo>
                      <a:lnTo>
                        <a:pt x="617" y="0"/>
                      </a:lnTo>
                      <a:lnTo>
                        <a:pt x="548" y="88"/>
                      </a:lnTo>
                      <a:lnTo>
                        <a:pt x="610" y="69"/>
                      </a:lnTo>
                      <a:lnTo>
                        <a:pt x="659" y="64"/>
                      </a:lnTo>
                      <a:lnTo>
                        <a:pt x="726" y="64"/>
                      </a:lnTo>
                      <a:lnTo>
                        <a:pt x="629" y="104"/>
                      </a:lnTo>
                      <a:lnTo>
                        <a:pt x="702" y="104"/>
                      </a:lnTo>
                      <a:lnTo>
                        <a:pt x="799" y="69"/>
                      </a:lnTo>
                      <a:lnTo>
                        <a:pt x="856" y="54"/>
                      </a:lnTo>
                      <a:lnTo>
                        <a:pt x="949" y="45"/>
                      </a:lnTo>
                      <a:lnTo>
                        <a:pt x="1018" y="38"/>
                      </a:lnTo>
                      <a:lnTo>
                        <a:pt x="1087" y="45"/>
                      </a:lnTo>
                      <a:lnTo>
                        <a:pt x="1199" y="57"/>
                      </a:lnTo>
                      <a:lnTo>
                        <a:pt x="1080" y="73"/>
                      </a:lnTo>
                      <a:lnTo>
                        <a:pt x="1039" y="101"/>
                      </a:lnTo>
                      <a:lnTo>
                        <a:pt x="1015" y="135"/>
                      </a:lnTo>
                      <a:lnTo>
                        <a:pt x="1083" y="114"/>
                      </a:lnTo>
                      <a:lnTo>
                        <a:pt x="1168" y="88"/>
                      </a:lnTo>
                      <a:lnTo>
                        <a:pt x="1253" y="78"/>
                      </a:lnTo>
                      <a:lnTo>
                        <a:pt x="1312" y="76"/>
                      </a:lnTo>
                      <a:lnTo>
                        <a:pt x="1381" y="92"/>
                      </a:lnTo>
                      <a:lnTo>
                        <a:pt x="1309" y="107"/>
                      </a:lnTo>
                      <a:lnTo>
                        <a:pt x="1246" y="126"/>
                      </a:lnTo>
                      <a:lnTo>
                        <a:pt x="1184" y="151"/>
                      </a:lnTo>
                      <a:lnTo>
                        <a:pt x="1139" y="173"/>
                      </a:lnTo>
                      <a:lnTo>
                        <a:pt x="1077" y="230"/>
                      </a:lnTo>
                      <a:lnTo>
                        <a:pt x="1031" y="283"/>
                      </a:lnTo>
                      <a:lnTo>
                        <a:pt x="1000" y="348"/>
                      </a:lnTo>
                      <a:lnTo>
                        <a:pt x="1007" y="423"/>
                      </a:lnTo>
                      <a:lnTo>
                        <a:pt x="1014" y="495"/>
                      </a:lnTo>
                      <a:lnTo>
                        <a:pt x="1015" y="550"/>
                      </a:lnTo>
                      <a:lnTo>
                        <a:pt x="1006" y="621"/>
                      </a:lnTo>
                      <a:lnTo>
                        <a:pt x="984" y="671"/>
                      </a:lnTo>
                      <a:lnTo>
                        <a:pt x="946" y="696"/>
                      </a:lnTo>
                      <a:lnTo>
                        <a:pt x="906" y="709"/>
                      </a:lnTo>
                      <a:lnTo>
                        <a:pt x="850" y="713"/>
                      </a:lnTo>
                      <a:lnTo>
                        <a:pt x="868" y="744"/>
                      </a:lnTo>
                      <a:lnTo>
                        <a:pt x="887" y="773"/>
                      </a:lnTo>
                      <a:lnTo>
                        <a:pt x="903" y="819"/>
                      </a:lnTo>
                      <a:lnTo>
                        <a:pt x="906" y="859"/>
                      </a:lnTo>
                      <a:lnTo>
                        <a:pt x="896" y="903"/>
                      </a:lnTo>
                      <a:lnTo>
                        <a:pt x="861" y="990"/>
                      </a:lnTo>
                      <a:lnTo>
                        <a:pt x="795" y="1018"/>
                      </a:lnTo>
                      <a:lnTo>
                        <a:pt x="54" y="976"/>
                      </a:lnTo>
                      <a:close/>
                    </a:path>
                  </a:pathLst>
                </a:custGeom>
                <a:solidFill>
                  <a:srgbClr val="c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91" name=""/>
                <p:cNvSpPr/>
                <p:nvPr/>
              </p:nvSpPr>
              <p:spPr>
                <a:xfrm>
                  <a:off x="6417360" y="3692880"/>
                  <a:ext cx="412560" cy="279000"/>
                </a:xfrm>
                <a:prstGeom prst="ellipse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92" name=""/>
                <p:cNvSpPr/>
                <p:nvPr/>
              </p:nvSpPr>
              <p:spPr>
                <a:xfrm>
                  <a:off x="6392160" y="3254760"/>
                  <a:ext cx="655920" cy="692280"/>
                </a:xfrm>
                <a:custGeom>
                  <a:avLst/>
                  <a:gdLst/>
                  <a:ahLst/>
                  <a:rect l="l" t="t" r="r" b="b"/>
                  <a:pathLst>
                    <a:path w="1164" h="1010">
                      <a:moveTo>
                        <a:pt x="50" y="869"/>
                      </a:moveTo>
                      <a:lnTo>
                        <a:pt x="31" y="802"/>
                      </a:lnTo>
                      <a:lnTo>
                        <a:pt x="12" y="730"/>
                      </a:lnTo>
                      <a:lnTo>
                        <a:pt x="0" y="668"/>
                      </a:lnTo>
                      <a:lnTo>
                        <a:pt x="0" y="579"/>
                      </a:lnTo>
                      <a:lnTo>
                        <a:pt x="7" y="535"/>
                      </a:lnTo>
                      <a:lnTo>
                        <a:pt x="16" y="491"/>
                      </a:lnTo>
                      <a:lnTo>
                        <a:pt x="41" y="441"/>
                      </a:lnTo>
                      <a:lnTo>
                        <a:pt x="72" y="393"/>
                      </a:lnTo>
                      <a:lnTo>
                        <a:pt x="110" y="361"/>
                      </a:lnTo>
                      <a:lnTo>
                        <a:pt x="147" y="332"/>
                      </a:lnTo>
                      <a:lnTo>
                        <a:pt x="197" y="318"/>
                      </a:lnTo>
                      <a:lnTo>
                        <a:pt x="261" y="311"/>
                      </a:lnTo>
                      <a:lnTo>
                        <a:pt x="312" y="304"/>
                      </a:lnTo>
                      <a:lnTo>
                        <a:pt x="381" y="299"/>
                      </a:lnTo>
                      <a:lnTo>
                        <a:pt x="423" y="292"/>
                      </a:lnTo>
                      <a:lnTo>
                        <a:pt x="404" y="249"/>
                      </a:lnTo>
                      <a:lnTo>
                        <a:pt x="385" y="205"/>
                      </a:lnTo>
                      <a:lnTo>
                        <a:pt x="378" y="158"/>
                      </a:lnTo>
                      <a:lnTo>
                        <a:pt x="381" y="113"/>
                      </a:lnTo>
                      <a:lnTo>
                        <a:pt x="397" y="69"/>
                      </a:lnTo>
                      <a:lnTo>
                        <a:pt x="419" y="40"/>
                      </a:lnTo>
                      <a:lnTo>
                        <a:pt x="463" y="0"/>
                      </a:lnTo>
                      <a:lnTo>
                        <a:pt x="438" y="40"/>
                      </a:lnTo>
                      <a:lnTo>
                        <a:pt x="428" y="73"/>
                      </a:lnTo>
                      <a:lnTo>
                        <a:pt x="457" y="50"/>
                      </a:lnTo>
                      <a:lnTo>
                        <a:pt x="494" y="40"/>
                      </a:lnTo>
                      <a:lnTo>
                        <a:pt x="542" y="35"/>
                      </a:lnTo>
                      <a:lnTo>
                        <a:pt x="497" y="47"/>
                      </a:lnTo>
                      <a:lnTo>
                        <a:pt x="480" y="66"/>
                      </a:lnTo>
                      <a:lnTo>
                        <a:pt x="470" y="97"/>
                      </a:lnTo>
                      <a:lnTo>
                        <a:pt x="473" y="126"/>
                      </a:lnTo>
                      <a:lnTo>
                        <a:pt x="497" y="85"/>
                      </a:lnTo>
                      <a:lnTo>
                        <a:pt x="525" y="69"/>
                      </a:lnTo>
                      <a:lnTo>
                        <a:pt x="563" y="59"/>
                      </a:lnTo>
                      <a:lnTo>
                        <a:pt x="627" y="59"/>
                      </a:lnTo>
                      <a:lnTo>
                        <a:pt x="696" y="44"/>
                      </a:lnTo>
                      <a:lnTo>
                        <a:pt x="736" y="35"/>
                      </a:lnTo>
                      <a:lnTo>
                        <a:pt x="802" y="19"/>
                      </a:lnTo>
                      <a:lnTo>
                        <a:pt x="868" y="9"/>
                      </a:lnTo>
                      <a:lnTo>
                        <a:pt x="945" y="9"/>
                      </a:lnTo>
                      <a:lnTo>
                        <a:pt x="977" y="16"/>
                      </a:lnTo>
                      <a:lnTo>
                        <a:pt x="948" y="35"/>
                      </a:lnTo>
                      <a:lnTo>
                        <a:pt x="910" y="73"/>
                      </a:lnTo>
                      <a:lnTo>
                        <a:pt x="889" y="107"/>
                      </a:lnTo>
                      <a:lnTo>
                        <a:pt x="874" y="126"/>
                      </a:lnTo>
                      <a:lnTo>
                        <a:pt x="852" y="170"/>
                      </a:lnTo>
                      <a:lnTo>
                        <a:pt x="917" y="120"/>
                      </a:lnTo>
                      <a:lnTo>
                        <a:pt x="970" y="92"/>
                      </a:lnTo>
                      <a:lnTo>
                        <a:pt x="1045" y="66"/>
                      </a:lnTo>
                      <a:lnTo>
                        <a:pt x="1124" y="54"/>
                      </a:lnTo>
                      <a:lnTo>
                        <a:pt x="1164" y="50"/>
                      </a:lnTo>
                      <a:lnTo>
                        <a:pt x="1095" y="73"/>
                      </a:lnTo>
                      <a:lnTo>
                        <a:pt x="1026" y="101"/>
                      </a:lnTo>
                      <a:lnTo>
                        <a:pt x="974" y="151"/>
                      </a:lnTo>
                      <a:lnTo>
                        <a:pt x="905" y="239"/>
                      </a:lnTo>
                      <a:lnTo>
                        <a:pt x="868" y="323"/>
                      </a:lnTo>
                      <a:lnTo>
                        <a:pt x="850" y="393"/>
                      </a:lnTo>
                      <a:lnTo>
                        <a:pt x="874" y="374"/>
                      </a:lnTo>
                      <a:lnTo>
                        <a:pt x="889" y="349"/>
                      </a:lnTo>
                      <a:lnTo>
                        <a:pt x="901" y="318"/>
                      </a:lnTo>
                      <a:lnTo>
                        <a:pt x="905" y="368"/>
                      </a:lnTo>
                      <a:lnTo>
                        <a:pt x="914" y="427"/>
                      </a:lnTo>
                      <a:lnTo>
                        <a:pt x="914" y="472"/>
                      </a:lnTo>
                      <a:lnTo>
                        <a:pt x="905" y="531"/>
                      </a:lnTo>
                      <a:lnTo>
                        <a:pt x="882" y="585"/>
                      </a:lnTo>
                      <a:lnTo>
                        <a:pt x="850" y="611"/>
                      </a:lnTo>
                      <a:lnTo>
                        <a:pt x="805" y="620"/>
                      </a:lnTo>
                      <a:lnTo>
                        <a:pt x="762" y="620"/>
                      </a:lnTo>
                      <a:lnTo>
                        <a:pt x="686" y="620"/>
                      </a:lnTo>
                      <a:lnTo>
                        <a:pt x="743" y="670"/>
                      </a:lnTo>
                      <a:lnTo>
                        <a:pt x="771" y="711"/>
                      </a:lnTo>
                      <a:lnTo>
                        <a:pt x="793" y="776"/>
                      </a:lnTo>
                      <a:lnTo>
                        <a:pt x="796" y="810"/>
                      </a:lnTo>
                      <a:lnTo>
                        <a:pt x="790" y="838"/>
                      </a:lnTo>
                      <a:lnTo>
                        <a:pt x="783" y="865"/>
                      </a:lnTo>
                      <a:lnTo>
                        <a:pt x="752" y="914"/>
                      </a:lnTo>
                      <a:lnTo>
                        <a:pt x="670" y="923"/>
                      </a:lnTo>
                      <a:lnTo>
                        <a:pt x="620" y="967"/>
                      </a:lnTo>
                      <a:lnTo>
                        <a:pt x="535" y="983"/>
                      </a:lnTo>
                      <a:lnTo>
                        <a:pt x="419" y="1010"/>
                      </a:lnTo>
                      <a:lnTo>
                        <a:pt x="50" y="869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93" name=""/>
                <p:cNvSpPr/>
                <p:nvPr/>
              </p:nvSpPr>
              <p:spPr>
                <a:xfrm>
                  <a:off x="6359760" y="3435480"/>
                  <a:ext cx="133560" cy="361440"/>
                </a:xfrm>
                <a:custGeom>
                  <a:avLst/>
                  <a:gdLst/>
                  <a:ahLst/>
                  <a:rect l="l" t="t" r="r" b="b"/>
                  <a:pathLst>
                    <a:path w="239" h="527">
                      <a:moveTo>
                        <a:pt x="239" y="0"/>
                      </a:moveTo>
                      <a:lnTo>
                        <a:pt x="183" y="26"/>
                      </a:lnTo>
                      <a:lnTo>
                        <a:pt x="127" y="50"/>
                      </a:lnTo>
                      <a:lnTo>
                        <a:pt x="75" y="94"/>
                      </a:lnTo>
                      <a:lnTo>
                        <a:pt x="38" y="147"/>
                      </a:lnTo>
                      <a:lnTo>
                        <a:pt x="22" y="190"/>
                      </a:lnTo>
                      <a:lnTo>
                        <a:pt x="7" y="242"/>
                      </a:lnTo>
                      <a:lnTo>
                        <a:pt x="0" y="308"/>
                      </a:lnTo>
                      <a:lnTo>
                        <a:pt x="3" y="387"/>
                      </a:lnTo>
                      <a:lnTo>
                        <a:pt x="19" y="426"/>
                      </a:lnTo>
                      <a:lnTo>
                        <a:pt x="38" y="473"/>
                      </a:lnTo>
                      <a:lnTo>
                        <a:pt x="60" y="527"/>
                      </a:lnTo>
                      <a:lnTo>
                        <a:pt x="41" y="449"/>
                      </a:lnTo>
                      <a:lnTo>
                        <a:pt x="26" y="380"/>
                      </a:lnTo>
                      <a:lnTo>
                        <a:pt x="29" y="304"/>
                      </a:lnTo>
                      <a:lnTo>
                        <a:pt x="48" y="213"/>
                      </a:lnTo>
                      <a:lnTo>
                        <a:pt x="84" y="130"/>
                      </a:lnTo>
                      <a:lnTo>
                        <a:pt x="113" y="94"/>
                      </a:lnTo>
                      <a:lnTo>
                        <a:pt x="144" y="66"/>
                      </a:lnTo>
                      <a:lnTo>
                        <a:pt x="169" y="44"/>
                      </a:lnTo>
                      <a:lnTo>
                        <a:pt x="239" y="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94" name=""/>
                <p:cNvSpPr/>
                <p:nvPr/>
              </p:nvSpPr>
              <p:spPr>
                <a:xfrm>
                  <a:off x="6664320" y="3308400"/>
                  <a:ext cx="70920" cy="108720"/>
                </a:xfrm>
                <a:custGeom>
                  <a:avLst/>
                  <a:gdLst/>
                  <a:ahLst/>
                  <a:rect l="l" t="t" r="r" b="b"/>
                  <a:pathLst>
                    <a:path w="125" h="158">
                      <a:moveTo>
                        <a:pt x="125" y="0"/>
                      </a:moveTo>
                      <a:lnTo>
                        <a:pt x="64" y="10"/>
                      </a:lnTo>
                      <a:lnTo>
                        <a:pt x="28" y="23"/>
                      </a:lnTo>
                      <a:lnTo>
                        <a:pt x="12" y="41"/>
                      </a:lnTo>
                      <a:lnTo>
                        <a:pt x="5" y="56"/>
                      </a:lnTo>
                      <a:lnTo>
                        <a:pt x="0" y="88"/>
                      </a:lnTo>
                      <a:lnTo>
                        <a:pt x="0" y="121"/>
                      </a:lnTo>
                      <a:lnTo>
                        <a:pt x="2" y="158"/>
                      </a:lnTo>
                      <a:lnTo>
                        <a:pt x="12" y="79"/>
                      </a:lnTo>
                      <a:lnTo>
                        <a:pt x="32" y="46"/>
                      </a:lnTo>
                      <a:lnTo>
                        <a:pt x="51" y="33"/>
                      </a:lnTo>
                      <a:lnTo>
                        <a:pt x="125" y="0"/>
                      </a:lnTo>
                      <a:close/>
                    </a:path>
                  </a:pathLst>
                </a:custGeom>
                <a:solidFill>
                  <a:srgbClr val="c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95" name=""/>
                <p:cNvSpPr/>
                <p:nvPr/>
              </p:nvSpPr>
              <p:spPr>
                <a:xfrm>
                  <a:off x="6777360" y="3522240"/>
                  <a:ext cx="116640" cy="141480"/>
                </a:xfrm>
                <a:custGeom>
                  <a:avLst/>
                  <a:gdLst/>
                  <a:ahLst/>
                  <a:rect l="l" t="t" r="r" b="b"/>
                  <a:pathLst>
                    <a:path w="206" h="205">
                      <a:moveTo>
                        <a:pt x="204" y="0"/>
                      </a:moveTo>
                      <a:lnTo>
                        <a:pt x="206" y="52"/>
                      </a:lnTo>
                      <a:lnTo>
                        <a:pt x="204" y="106"/>
                      </a:lnTo>
                      <a:lnTo>
                        <a:pt x="185" y="158"/>
                      </a:lnTo>
                      <a:lnTo>
                        <a:pt x="163" y="186"/>
                      </a:lnTo>
                      <a:lnTo>
                        <a:pt x="136" y="200"/>
                      </a:lnTo>
                      <a:lnTo>
                        <a:pt x="82" y="202"/>
                      </a:lnTo>
                      <a:lnTo>
                        <a:pt x="34" y="205"/>
                      </a:lnTo>
                      <a:lnTo>
                        <a:pt x="0" y="202"/>
                      </a:lnTo>
                      <a:lnTo>
                        <a:pt x="24" y="196"/>
                      </a:lnTo>
                      <a:lnTo>
                        <a:pt x="63" y="186"/>
                      </a:lnTo>
                      <a:lnTo>
                        <a:pt x="108" y="165"/>
                      </a:lnTo>
                      <a:lnTo>
                        <a:pt x="146" y="128"/>
                      </a:lnTo>
                      <a:lnTo>
                        <a:pt x="173" y="81"/>
                      </a:lnTo>
                      <a:lnTo>
                        <a:pt x="185" y="52"/>
                      </a:lnTo>
                      <a:lnTo>
                        <a:pt x="204" y="0"/>
                      </a:lnTo>
                      <a:close/>
                    </a:path>
                  </a:pathLst>
                </a:custGeom>
                <a:solidFill>
                  <a:srgbClr val="c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96" name=""/>
                <p:cNvSpPr/>
                <p:nvPr/>
              </p:nvSpPr>
              <p:spPr>
                <a:xfrm>
                  <a:off x="6417360" y="3497400"/>
                  <a:ext cx="101520" cy="293400"/>
                </a:xfrm>
                <a:custGeom>
                  <a:avLst/>
                  <a:gdLst/>
                  <a:ahLst/>
                  <a:rect l="l" t="t" r="r" b="b"/>
                  <a:pathLst>
                    <a:path w="182" h="430">
                      <a:moveTo>
                        <a:pt x="182" y="0"/>
                      </a:moveTo>
                      <a:lnTo>
                        <a:pt x="120" y="16"/>
                      </a:lnTo>
                      <a:lnTo>
                        <a:pt x="54" y="54"/>
                      </a:lnTo>
                      <a:lnTo>
                        <a:pt x="27" y="89"/>
                      </a:lnTo>
                      <a:lnTo>
                        <a:pt x="12" y="125"/>
                      </a:lnTo>
                      <a:lnTo>
                        <a:pt x="2" y="178"/>
                      </a:lnTo>
                      <a:lnTo>
                        <a:pt x="0" y="220"/>
                      </a:lnTo>
                      <a:lnTo>
                        <a:pt x="0" y="254"/>
                      </a:lnTo>
                      <a:lnTo>
                        <a:pt x="12" y="345"/>
                      </a:lnTo>
                      <a:lnTo>
                        <a:pt x="33" y="430"/>
                      </a:lnTo>
                      <a:lnTo>
                        <a:pt x="27" y="273"/>
                      </a:lnTo>
                      <a:lnTo>
                        <a:pt x="36" y="213"/>
                      </a:lnTo>
                      <a:lnTo>
                        <a:pt x="54" y="154"/>
                      </a:lnTo>
                      <a:lnTo>
                        <a:pt x="82" y="101"/>
                      </a:lnTo>
                      <a:lnTo>
                        <a:pt x="101" y="70"/>
                      </a:lnTo>
                      <a:lnTo>
                        <a:pt x="129" y="42"/>
                      </a:lnTo>
                      <a:lnTo>
                        <a:pt x="182" y="0"/>
                      </a:lnTo>
                      <a:close/>
                    </a:path>
                  </a:pathLst>
                </a:custGeom>
                <a:solidFill>
                  <a:srgbClr val="c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97" name=""/>
                <p:cNvSpPr/>
                <p:nvPr/>
              </p:nvSpPr>
              <p:spPr>
                <a:xfrm>
                  <a:off x="6684480" y="3279600"/>
                  <a:ext cx="201240" cy="182880"/>
                </a:xfrm>
                <a:custGeom>
                  <a:avLst/>
                  <a:gdLst/>
                  <a:ahLst/>
                  <a:rect l="l" t="t" r="r" b="b"/>
                  <a:pathLst>
                    <a:path w="356" h="268">
                      <a:moveTo>
                        <a:pt x="356" y="0"/>
                      </a:moveTo>
                      <a:lnTo>
                        <a:pt x="295" y="5"/>
                      </a:lnTo>
                      <a:lnTo>
                        <a:pt x="256" y="15"/>
                      </a:lnTo>
                      <a:lnTo>
                        <a:pt x="225" y="31"/>
                      </a:lnTo>
                      <a:lnTo>
                        <a:pt x="203" y="47"/>
                      </a:lnTo>
                      <a:lnTo>
                        <a:pt x="175" y="70"/>
                      </a:lnTo>
                      <a:lnTo>
                        <a:pt x="149" y="115"/>
                      </a:lnTo>
                      <a:lnTo>
                        <a:pt x="149" y="74"/>
                      </a:lnTo>
                      <a:lnTo>
                        <a:pt x="156" y="50"/>
                      </a:lnTo>
                      <a:lnTo>
                        <a:pt x="165" y="38"/>
                      </a:lnTo>
                      <a:lnTo>
                        <a:pt x="140" y="53"/>
                      </a:lnTo>
                      <a:lnTo>
                        <a:pt x="121" y="77"/>
                      </a:lnTo>
                      <a:lnTo>
                        <a:pt x="118" y="112"/>
                      </a:lnTo>
                      <a:lnTo>
                        <a:pt x="115" y="134"/>
                      </a:lnTo>
                      <a:lnTo>
                        <a:pt x="102" y="178"/>
                      </a:lnTo>
                      <a:lnTo>
                        <a:pt x="90" y="208"/>
                      </a:lnTo>
                      <a:lnTo>
                        <a:pt x="67" y="239"/>
                      </a:lnTo>
                      <a:lnTo>
                        <a:pt x="19" y="258"/>
                      </a:lnTo>
                      <a:lnTo>
                        <a:pt x="0" y="265"/>
                      </a:lnTo>
                      <a:lnTo>
                        <a:pt x="72" y="268"/>
                      </a:lnTo>
                      <a:lnTo>
                        <a:pt x="106" y="268"/>
                      </a:lnTo>
                      <a:lnTo>
                        <a:pt x="140" y="249"/>
                      </a:lnTo>
                      <a:lnTo>
                        <a:pt x="165" y="220"/>
                      </a:lnTo>
                      <a:lnTo>
                        <a:pt x="177" y="184"/>
                      </a:lnTo>
                      <a:lnTo>
                        <a:pt x="187" y="146"/>
                      </a:lnTo>
                      <a:lnTo>
                        <a:pt x="208" y="115"/>
                      </a:lnTo>
                      <a:lnTo>
                        <a:pt x="270" y="89"/>
                      </a:lnTo>
                      <a:lnTo>
                        <a:pt x="227" y="89"/>
                      </a:lnTo>
                      <a:lnTo>
                        <a:pt x="225" y="70"/>
                      </a:lnTo>
                      <a:lnTo>
                        <a:pt x="243" y="53"/>
                      </a:lnTo>
                      <a:lnTo>
                        <a:pt x="270" y="34"/>
                      </a:lnTo>
                      <a:lnTo>
                        <a:pt x="295" y="22"/>
                      </a:lnTo>
                      <a:lnTo>
                        <a:pt x="356" y="0"/>
                      </a:lnTo>
                      <a:close/>
                    </a:path>
                  </a:pathLst>
                </a:custGeom>
                <a:solidFill>
                  <a:srgbClr val="c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98" name=""/>
                <p:cNvSpPr/>
                <p:nvPr/>
              </p:nvSpPr>
              <p:spPr>
                <a:xfrm>
                  <a:off x="6478200" y="3513960"/>
                  <a:ext cx="244800" cy="392040"/>
                </a:xfrm>
                <a:custGeom>
                  <a:avLst/>
                  <a:gdLst/>
                  <a:ahLst/>
                  <a:rect l="l" t="t" r="r" b="b"/>
                  <a:pathLst>
                    <a:path w="434" h="572">
                      <a:moveTo>
                        <a:pt x="297" y="0"/>
                      </a:moveTo>
                      <a:lnTo>
                        <a:pt x="209" y="19"/>
                      </a:lnTo>
                      <a:lnTo>
                        <a:pt x="139" y="41"/>
                      </a:lnTo>
                      <a:lnTo>
                        <a:pt x="85" y="79"/>
                      </a:lnTo>
                      <a:lnTo>
                        <a:pt x="41" y="133"/>
                      </a:lnTo>
                      <a:lnTo>
                        <a:pt x="10" y="207"/>
                      </a:lnTo>
                      <a:lnTo>
                        <a:pt x="0" y="267"/>
                      </a:lnTo>
                      <a:lnTo>
                        <a:pt x="0" y="352"/>
                      </a:lnTo>
                      <a:lnTo>
                        <a:pt x="7" y="425"/>
                      </a:lnTo>
                      <a:lnTo>
                        <a:pt x="22" y="483"/>
                      </a:lnTo>
                      <a:lnTo>
                        <a:pt x="43" y="535"/>
                      </a:lnTo>
                      <a:lnTo>
                        <a:pt x="155" y="572"/>
                      </a:lnTo>
                      <a:lnTo>
                        <a:pt x="246" y="541"/>
                      </a:lnTo>
                      <a:lnTo>
                        <a:pt x="297" y="513"/>
                      </a:lnTo>
                      <a:lnTo>
                        <a:pt x="322" y="483"/>
                      </a:lnTo>
                      <a:lnTo>
                        <a:pt x="346" y="425"/>
                      </a:lnTo>
                      <a:lnTo>
                        <a:pt x="361" y="366"/>
                      </a:lnTo>
                      <a:lnTo>
                        <a:pt x="365" y="311"/>
                      </a:lnTo>
                      <a:lnTo>
                        <a:pt x="358" y="274"/>
                      </a:lnTo>
                      <a:lnTo>
                        <a:pt x="346" y="349"/>
                      </a:lnTo>
                      <a:lnTo>
                        <a:pt x="326" y="394"/>
                      </a:lnTo>
                      <a:lnTo>
                        <a:pt x="290" y="430"/>
                      </a:lnTo>
                      <a:lnTo>
                        <a:pt x="246" y="455"/>
                      </a:lnTo>
                      <a:lnTo>
                        <a:pt x="281" y="390"/>
                      </a:lnTo>
                      <a:lnTo>
                        <a:pt x="290" y="359"/>
                      </a:lnTo>
                      <a:lnTo>
                        <a:pt x="290" y="318"/>
                      </a:lnTo>
                      <a:lnTo>
                        <a:pt x="290" y="264"/>
                      </a:lnTo>
                      <a:lnTo>
                        <a:pt x="300" y="198"/>
                      </a:lnTo>
                      <a:lnTo>
                        <a:pt x="312" y="163"/>
                      </a:lnTo>
                      <a:lnTo>
                        <a:pt x="327" y="121"/>
                      </a:lnTo>
                      <a:lnTo>
                        <a:pt x="339" y="98"/>
                      </a:lnTo>
                      <a:lnTo>
                        <a:pt x="312" y="117"/>
                      </a:lnTo>
                      <a:lnTo>
                        <a:pt x="288" y="148"/>
                      </a:lnTo>
                      <a:lnTo>
                        <a:pt x="255" y="217"/>
                      </a:lnTo>
                      <a:lnTo>
                        <a:pt x="231" y="283"/>
                      </a:lnTo>
                      <a:lnTo>
                        <a:pt x="222" y="226"/>
                      </a:lnTo>
                      <a:lnTo>
                        <a:pt x="224" y="160"/>
                      </a:lnTo>
                      <a:lnTo>
                        <a:pt x="240" y="107"/>
                      </a:lnTo>
                      <a:lnTo>
                        <a:pt x="272" y="76"/>
                      </a:lnTo>
                      <a:lnTo>
                        <a:pt x="297" y="60"/>
                      </a:lnTo>
                      <a:lnTo>
                        <a:pt x="349" y="50"/>
                      </a:lnTo>
                      <a:lnTo>
                        <a:pt x="380" y="50"/>
                      </a:lnTo>
                      <a:lnTo>
                        <a:pt x="434" y="38"/>
                      </a:lnTo>
                      <a:lnTo>
                        <a:pt x="355" y="38"/>
                      </a:lnTo>
                      <a:lnTo>
                        <a:pt x="303" y="41"/>
                      </a:lnTo>
                      <a:lnTo>
                        <a:pt x="222" y="67"/>
                      </a:lnTo>
                      <a:lnTo>
                        <a:pt x="181" y="86"/>
                      </a:lnTo>
                      <a:lnTo>
                        <a:pt x="146" y="123"/>
                      </a:lnTo>
                      <a:lnTo>
                        <a:pt x="155" y="86"/>
                      </a:lnTo>
                      <a:lnTo>
                        <a:pt x="174" y="57"/>
                      </a:lnTo>
                      <a:lnTo>
                        <a:pt x="205" y="41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c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0499" name=""/>
            <p:cNvSpPr/>
            <p:nvPr/>
          </p:nvSpPr>
          <p:spPr>
            <a:xfrm>
              <a:off x="6600960" y="2728080"/>
              <a:ext cx="1677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CO</a:t>
              </a:r>
              <a:r>
                <a:rPr b="1" lang="cs-CZ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+H</a:t>
              </a:r>
              <a:r>
                <a:rPr b="1" lang="cs-CZ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00" name=""/>
          <p:cNvGrpSpPr/>
          <p:nvPr/>
        </p:nvGrpSpPr>
        <p:grpSpPr>
          <a:xfrm>
            <a:off x="0" y="-15480"/>
            <a:ext cx="9144000" cy="6892920"/>
            <a:chOff x="0" y="-15480"/>
            <a:chExt cx="9144000" cy="6892920"/>
          </a:xfrm>
        </p:grpSpPr>
        <p:grpSp>
          <p:nvGrpSpPr>
            <p:cNvPr id="10501" name=""/>
            <p:cNvGrpSpPr/>
            <p:nvPr/>
          </p:nvGrpSpPr>
          <p:grpSpPr>
            <a:xfrm>
              <a:off x="3787920" y="5445000"/>
              <a:ext cx="523440" cy="561240"/>
              <a:chOff x="3787920" y="5445000"/>
              <a:chExt cx="523440" cy="561240"/>
            </a:xfrm>
          </p:grpSpPr>
          <p:grpSp>
            <p:nvGrpSpPr>
              <p:cNvPr id="10502" name=""/>
              <p:cNvGrpSpPr/>
              <p:nvPr/>
            </p:nvGrpSpPr>
            <p:grpSpPr>
              <a:xfrm>
                <a:off x="3787920" y="5825160"/>
                <a:ext cx="407520" cy="181080"/>
                <a:chOff x="3787920" y="5825160"/>
                <a:chExt cx="407520" cy="181080"/>
              </a:xfrm>
            </p:grpSpPr>
            <p:grpSp>
              <p:nvGrpSpPr>
                <p:cNvPr id="10503" name=""/>
                <p:cNvGrpSpPr/>
                <p:nvPr/>
              </p:nvGrpSpPr>
              <p:grpSpPr>
                <a:xfrm>
                  <a:off x="3787920" y="5869800"/>
                  <a:ext cx="407520" cy="136440"/>
                  <a:chOff x="3787920" y="5869800"/>
                  <a:chExt cx="407520" cy="136440"/>
                </a:xfrm>
              </p:grpSpPr>
              <p:grpSp>
                <p:nvGrpSpPr>
                  <p:cNvPr id="10504" name=""/>
                  <p:cNvGrpSpPr/>
                  <p:nvPr/>
                </p:nvGrpSpPr>
                <p:grpSpPr>
                  <a:xfrm>
                    <a:off x="3789000" y="5869800"/>
                    <a:ext cx="403560" cy="136440"/>
                    <a:chOff x="3789000" y="5869800"/>
                    <a:chExt cx="403560" cy="136440"/>
                  </a:xfrm>
                </p:grpSpPr>
                <p:sp>
                  <p:nvSpPr>
                    <p:cNvPr id="10505" name=""/>
                    <p:cNvSpPr/>
                    <p:nvPr/>
                  </p:nvSpPr>
                  <p:spPr>
                    <a:xfrm>
                      <a:off x="3789000" y="5913720"/>
                      <a:ext cx="403560" cy="92520"/>
                    </a:xfrm>
                    <a:prstGeom prst="ellipse">
                      <a:avLst/>
                    </a:prstGeom>
                    <a:solidFill>
                      <a:srgbClr val="e0e0e0"/>
                    </a:solidFill>
                    <a:ln w="64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9080" bIns="19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506" name=""/>
                    <p:cNvSpPr/>
                    <p:nvPr/>
                  </p:nvSpPr>
                  <p:spPr>
                    <a:xfrm>
                      <a:off x="3789000" y="5869800"/>
                      <a:ext cx="403560" cy="90360"/>
                    </a:xfrm>
                    <a:prstGeom prst="rect">
                      <a:avLst/>
                    </a:prstGeom>
                    <a:solidFill>
                      <a:srgbClr val="e0e0e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3560" bIns="43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0507" name=""/>
                  <p:cNvSpPr/>
                  <p:nvPr/>
                </p:nvSpPr>
                <p:spPr>
                  <a:xfrm flipV="1">
                    <a:off x="3787920" y="5870880"/>
                    <a:ext cx="1080" cy="9504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08" name=""/>
                  <p:cNvSpPr/>
                  <p:nvPr/>
                </p:nvSpPr>
                <p:spPr>
                  <a:xfrm>
                    <a:off x="4194720" y="5873760"/>
                    <a:ext cx="720" cy="9144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4640" bIns="44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509" name=""/>
                <p:cNvGrpSpPr/>
                <p:nvPr/>
              </p:nvGrpSpPr>
              <p:grpSpPr>
                <a:xfrm>
                  <a:off x="3789000" y="5825160"/>
                  <a:ext cx="403560" cy="91440"/>
                  <a:chOff x="3789000" y="5825160"/>
                  <a:chExt cx="403560" cy="91440"/>
                </a:xfrm>
              </p:grpSpPr>
              <p:sp>
                <p:nvSpPr>
                  <p:cNvPr id="10510" name=""/>
                  <p:cNvSpPr/>
                  <p:nvPr/>
                </p:nvSpPr>
                <p:spPr>
                  <a:xfrm>
                    <a:off x="3789000" y="5825160"/>
                    <a:ext cx="403560" cy="91440"/>
                  </a:xfrm>
                  <a:prstGeom prst="ellipse">
                    <a:avLst/>
                  </a:prstGeom>
                  <a:solidFill>
                    <a:srgbClr val="e0e0e0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11" name=""/>
                  <p:cNvSpPr/>
                  <p:nvPr/>
                </p:nvSpPr>
                <p:spPr>
                  <a:xfrm>
                    <a:off x="3801240" y="5838480"/>
                    <a:ext cx="378720" cy="7128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0" bIns="3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512" name=""/>
              <p:cNvGrpSpPr/>
              <p:nvPr/>
            </p:nvGrpSpPr>
            <p:grpSpPr>
              <a:xfrm>
                <a:off x="3836520" y="5445000"/>
                <a:ext cx="474840" cy="466560"/>
                <a:chOff x="3836520" y="5445000"/>
                <a:chExt cx="474840" cy="466560"/>
              </a:xfrm>
            </p:grpSpPr>
            <p:sp>
              <p:nvSpPr>
                <p:cNvPr id="10513" name=""/>
                <p:cNvSpPr/>
                <p:nvPr/>
              </p:nvSpPr>
              <p:spPr>
                <a:xfrm>
                  <a:off x="3854880" y="5793480"/>
                  <a:ext cx="278640" cy="118080"/>
                </a:xfrm>
                <a:prstGeom prst="ellipse">
                  <a:avLst/>
                </a:prstGeom>
                <a:solidFill>
                  <a:srgbClr val="c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14" name=""/>
                <p:cNvSpPr/>
                <p:nvPr/>
              </p:nvSpPr>
              <p:spPr>
                <a:xfrm>
                  <a:off x="3836520" y="5445000"/>
                  <a:ext cx="474840" cy="424800"/>
                </a:xfrm>
                <a:custGeom>
                  <a:avLst/>
                  <a:gdLst/>
                  <a:ahLst/>
                  <a:rect l="l" t="t" r="r" b="b"/>
                  <a:pathLst>
                    <a:path w="1381" h="1018">
                      <a:moveTo>
                        <a:pt x="54" y="976"/>
                      </a:moveTo>
                      <a:lnTo>
                        <a:pt x="31" y="898"/>
                      </a:lnTo>
                      <a:lnTo>
                        <a:pt x="18" y="832"/>
                      </a:lnTo>
                      <a:lnTo>
                        <a:pt x="9" y="772"/>
                      </a:lnTo>
                      <a:lnTo>
                        <a:pt x="6" y="738"/>
                      </a:lnTo>
                      <a:lnTo>
                        <a:pt x="1" y="688"/>
                      </a:lnTo>
                      <a:lnTo>
                        <a:pt x="0" y="607"/>
                      </a:lnTo>
                      <a:lnTo>
                        <a:pt x="10" y="542"/>
                      </a:lnTo>
                      <a:lnTo>
                        <a:pt x="21" y="491"/>
                      </a:lnTo>
                      <a:lnTo>
                        <a:pt x="47" y="444"/>
                      </a:lnTo>
                      <a:lnTo>
                        <a:pt x="82" y="396"/>
                      </a:lnTo>
                      <a:lnTo>
                        <a:pt x="143" y="353"/>
                      </a:lnTo>
                      <a:lnTo>
                        <a:pt x="189" y="333"/>
                      </a:lnTo>
                      <a:lnTo>
                        <a:pt x="240" y="322"/>
                      </a:lnTo>
                      <a:lnTo>
                        <a:pt x="279" y="299"/>
                      </a:lnTo>
                      <a:lnTo>
                        <a:pt x="345" y="257"/>
                      </a:lnTo>
                      <a:lnTo>
                        <a:pt x="305" y="304"/>
                      </a:lnTo>
                      <a:lnTo>
                        <a:pt x="353" y="292"/>
                      </a:lnTo>
                      <a:lnTo>
                        <a:pt x="387" y="283"/>
                      </a:lnTo>
                      <a:lnTo>
                        <a:pt x="436" y="280"/>
                      </a:lnTo>
                      <a:lnTo>
                        <a:pt x="426" y="222"/>
                      </a:lnTo>
                      <a:lnTo>
                        <a:pt x="432" y="170"/>
                      </a:lnTo>
                      <a:lnTo>
                        <a:pt x="445" y="130"/>
                      </a:lnTo>
                      <a:lnTo>
                        <a:pt x="483" y="82"/>
                      </a:lnTo>
                      <a:lnTo>
                        <a:pt x="529" y="45"/>
                      </a:lnTo>
                      <a:lnTo>
                        <a:pt x="617" y="0"/>
                      </a:lnTo>
                      <a:lnTo>
                        <a:pt x="548" y="88"/>
                      </a:lnTo>
                      <a:lnTo>
                        <a:pt x="610" y="69"/>
                      </a:lnTo>
                      <a:lnTo>
                        <a:pt x="659" y="64"/>
                      </a:lnTo>
                      <a:lnTo>
                        <a:pt x="726" y="64"/>
                      </a:lnTo>
                      <a:lnTo>
                        <a:pt x="629" y="104"/>
                      </a:lnTo>
                      <a:lnTo>
                        <a:pt x="702" y="104"/>
                      </a:lnTo>
                      <a:lnTo>
                        <a:pt x="799" y="69"/>
                      </a:lnTo>
                      <a:lnTo>
                        <a:pt x="856" y="54"/>
                      </a:lnTo>
                      <a:lnTo>
                        <a:pt x="949" y="45"/>
                      </a:lnTo>
                      <a:lnTo>
                        <a:pt x="1018" y="38"/>
                      </a:lnTo>
                      <a:lnTo>
                        <a:pt x="1087" y="45"/>
                      </a:lnTo>
                      <a:lnTo>
                        <a:pt x="1199" y="57"/>
                      </a:lnTo>
                      <a:lnTo>
                        <a:pt x="1080" y="73"/>
                      </a:lnTo>
                      <a:lnTo>
                        <a:pt x="1039" y="101"/>
                      </a:lnTo>
                      <a:lnTo>
                        <a:pt x="1015" y="135"/>
                      </a:lnTo>
                      <a:lnTo>
                        <a:pt x="1083" y="114"/>
                      </a:lnTo>
                      <a:lnTo>
                        <a:pt x="1168" y="88"/>
                      </a:lnTo>
                      <a:lnTo>
                        <a:pt x="1253" y="78"/>
                      </a:lnTo>
                      <a:lnTo>
                        <a:pt x="1312" y="76"/>
                      </a:lnTo>
                      <a:lnTo>
                        <a:pt x="1381" y="92"/>
                      </a:lnTo>
                      <a:lnTo>
                        <a:pt x="1309" y="107"/>
                      </a:lnTo>
                      <a:lnTo>
                        <a:pt x="1246" y="126"/>
                      </a:lnTo>
                      <a:lnTo>
                        <a:pt x="1184" y="151"/>
                      </a:lnTo>
                      <a:lnTo>
                        <a:pt x="1139" y="173"/>
                      </a:lnTo>
                      <a:lnTo>
                        <a:pt x="1077" y="230"/>
                      </a:lnTo>
                      <a:lnTo>
                        <a:pt x="1031" y="283"/>
                      </a:lnTo>
                      <a:lnTo>
                        <a:pt x="1000" y="348"/>
                      </a:lnTo>
                      <a:lnTo>
                        <a:pt x="1007" y="423"/>
                      </a:lnTo>
                      <a:lnTo>
                        <a:pt x="1014" y="495"/>
                      </a:lnTo>
                      <a:lnTo>
                        <a:pt x="1015" y="550"/>
                      </a:lnTo>
                      <a:lnTo>
                        <a:pt x="1006" y="621"/>
                      </a:lnTo>
                      <a:lnTo>
                        <a:pt x="984" y="671"/>
                      </a:lnTo>
                      <a:lnTo>
                        <a:pt x="946" y="696"/>
                      </a:lnTo>
                      <a:lnTo>
                        <a:pt x="906" y="709"/>
                      </a:lnTo>
                      <a:lnTo>
                        <a:pt x="850" y="713"/>
                      </a:lnTo>
                      <a:lnTo>
                        <a:pt x="868" y="744"/>
                      </a:lnTo>
                      <a:lnTo>
                        <a:pt x="887" y="773"/>
                      </a:lnTo>
                      <a:lnTo>
                        <a:pt x="903" y="819"/>
                      </a:lnTo>
                      <a:lnTo>
                        <a:pt x="906" y="859"/>
                      </a:lnTo>
                      <a:lnTo>
                        <a:pt x="896" y="903"/>
                      </a:lnTo>
                      <a:lnTo>
                        <a:pt x="861" y="990"/>
                      </a:lnTo>
                      <a:lnTo>
                        <a:pt x="795" y="1018"/>
                      </a:lnTo>
                      <a:lnTo>
                        <a:pt x="54" y="976"/>
                      </a:lnTo>
                      <a:close/>
                    </a:path>
                  </a:pathLst>
                </a:custGeom>
                <a:solidFill>
                  <a:srgbClr val="c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15" name=""/>
                <p:cNvSpPr/>
                <p:nvPr/>
              </p:nvSpPr>
              <p:spPr>
                <a:xfrm>
                  <a:off x="3877560" y="5735880"/>
                  <a:ext cx="252000" cy="170280"/>
                </a:xfrm>
                <a:prstGeom prst="ellipse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16" name=""/>
                <p:cNvSpPr/>
                <p:nvPr/>
              </p:nvSpPr>
              <p:spPr>
                <a:xfrm>
                  <a:off x="3862080" y="5468400"/>
                  <a:ext cx="400680" cy="422640"/>
                </a:xfrm>
                <a:custGeom>
                  <a:avLst/>
                  <a:gdLst/>
                  <a:ahLst/>
                  <a:rect l="l" t="t" r="r" b="b"/>
                  <a:pathLst>
                    <a:path w="1164" h="1010">
                      <a:moveTo>
                        <a:pt x="50" y="869"/>
                      </a:moveTo>
                      <a:lnTo>
                        <a:pt x="31" y="802"/>
                      </a:lnTo>
                      <a:lnTo>
                        <a:pt x="12" y="730"/>
                      </a:lnTo>
                      <a:lnTo>
                        <a:pt x="0" y="668"/>
                      </a:lnTo>
                      <a:lnTo>
                        <a:pt x="0" y="579"/>
                      </a:lnTo>
                      <a:lnTo>
                        <a:pt x="7" y="535"/>
                      </a:lnTo>
                      <a:lnTo>
                        <a:pt x="16" y="491"/>
                      </a:lnTo>
                      <a:lnTo>
                        <a:pt x="41" y="441"/>
                      </a:lnTo>
                      <a:lnTo>
                        <a:pt x="72" y="393"/>
                      </a:lnTo>
                      <a:lnTo>
                        <a:pt x="110" y="361"/>
                      </a:lnTo>
                      <a:lnTo>
                        <a:pt x="147" y="332"/>
                      </a:lnTo>
                      <a:lnTo>
                        <a:pt x="197" y="318"/>
                      </a:lnTo>
                      <a:lnTo>
                        <a:pt x="261" y="311"/>
                      </a:lnTo>
                      <a:lnTo>
                        <a:pt x="312" y="304"/>
                      </a:lnTo>
                      <a:lnTo>
                        <a:pt x="381" y="299"/>
                      </a:lnTo>
                      <a:lnTo>
                        <a:pt x="423" y="292"/>
                      </a:lnTo>
                      <a:lnTo>
                        <a:pt x="404" y="249"/>
                      </a:lnTo>
                      <a:lnTo>
                        <a:pt x="385" y="205"/>
                      </a:lnTo>
                      <a:lnTo>
                        <a:pt x="378" y="158"/>
                      </a:lnTo>
                      <a:lnTo>
                        <a:pt x="381" y="113"/>
                      </a:lnTo>
                      <a:lnTo>
                        <a:pt x="397" y="69"/>
                      </a:lnTo>
                      <a:lnTo>
                        <a:pt x="419" y="40"/>
                      </a:lnTo>
                      <a:lnTo>
                        <a:pt x="463" y="0"/>
                      </a:lnTo>
                      <a:lnTo>
                        <a:pt x="438" y="40"/>
                      </a:lnTo>
                      <a:lnTo>
                        <a:pt x="428" y="73"/>
                      </a:lnTo>
                      <a:lnTo>
                        <a:pt x="457" y="50"/>
                      </a:lnTo>
                      <a:lnTo>
                        <a:pt x="494" y="40"/>
                      </a:lnTo>
                      <a:lnTo>
                        <a:pt x="542" y="35"/>
                      </a:lnTo>
                      <a:lnTo>
                        <a:pt x="497" y="47"/>
                      </a:lnTo>
                      <a:lnTo>
                        <a:pt x="480" y="66"/>
                      </a:lnTo>
                      <a:lnTo>
                        <a:pt x="470" y="97"/>
                      </a:lnTo>
                      <a:lnTo>
                        <a:pt x="473" y="126"/>
                      </a:lnTo>
                      <a:lnTo>
                        <a:pt x="497" y="85"/>
                      </a:lnTo>
                      <a:lnTo>
                        <a:pt x="525" y="69"/>
                      </a:lnTo>
                      <a:lnTo>
                        <a:pt x="563" y="59"/>
                      </a:lnTo>
                      <a:lnTo>
                        <a:pt x="627" y="59"/>
                      </a:lnTo>
                      <a:lnTo>
                        <a:pt x="696" y="44"/>
                      </a:lnTo>
                      <a:lnTo>
                        <a:pt x="736" y="35"/>
                      </a:lnTo>
                      <a:lnTo>
                        <a:pt x="802" y="19"/>
                      </a:lnTo>
                      <a:lnTo>
                        <a:pt x="868" y="9"/>
                      </a:lnTo>
                      <a:lnTo>
                        <a:pt x="945" y="9"/>
                      </a:lnTo>
                      <a:lnTo>
                        <a:pt x="977" y="16"/>
                      </a:lnTo>
                      <a:lnTo>
                        <a:pt x="948" y="35"/>
                      </a:lnTo>
                      <a:lnTo>
                        <a:pt x="910" y="73"/>
                      </a:lnTo>
                      <a:lnTo>
                        <a:pt x="889" y="107"/>
                      </a:lnTo>
                      <a:lnTo>
                        <a:pt x="874" y="126"/>
                      </a:lnTo>
                      <a:lnTo>
                        <a:pt x="852" y="170"/>
                      </a:lnTo>
                      <a:lnTo>
                        <a:pt x="917" y="120"/>
                      </a:lnTo>
                      <a:lnTo>
                        <a:pt x="970" y="92"/>
                      </a:lnTo>
                      <a:lnTo>
                        <a:pt x="1045" y="66"/>
                      </a:lnTo>
                      <a:lnTo>
                        <a:pt x="1124" y="54"/>
                      </a:lnTo>
                      <a:lnTo>
                        <a:pt x="1164" y="50"/>
                      </a:lnTo>
                      <a:lnTo>
                        <a:pt x="1095" y="73"/>
                      </a:lnTo>
                      <a:lnTo>
                        <a:pt x="1026" y="101"/>
                      </a:lnTo>
                      <a:lnTo>
                        <a:pt x="974" y="151"/>
                      </a:lnTo>
                      <a:lnTo>
                        <a:pt x="905" y="239"/>
                      </a:lnTo>
                      <a:lnTo>
                        <a:pt x="868" y="323"/>
                      </a:lnTo>
                      <a:lnTo>
                        <a:pt x="850" y="393"/>
                      </a:lnTo>
                      <a:lnTo>
                        <a:pt x="874" y="374"/>
                      </a:lnTo>
                      <a:lnTo>
                        <a:pt x="889" y="349"/>
                      </a:lnTo>
                      <a:lnTo>
                        <a:pt x="901" y="318"/>
                      </a:lnTo>
                      <a:lnTo>
                        <a:pt x="905" y="368"/>
                      </a:lnTo>
                      <a:lnTo>
                        <a:pt x="914" y="427"/>
                      </a:lnTo>
                      <a:lnTo>
                        <a:pt x="914" y="472"/>
                      </a:lnTo>
                      <a:lnTo>
                        <a:pt x="905" y="531"/>
                      </a:lnTo>
                      <a:lnTo>
                        <a:pt x="882" y="585"/>
                      </a:lnTo>
                      <a:lnTo>
                        <a:pt x="850" y="611"/>
                      </a:lnTo>
                      <a:lnTo>
                        <a:pt x="805" y="620"/>
                      </a:lnTo>
                      <a:lnTo>
                        <a:pt x="762" y="620"/>
                      </a:lnTo>
                      <a:lnTo>
                        <a:pt x="686" y="620"/>
                      </a:lnTo>
                      <a:lnTo>
                        <a:pt x="743" y="670"/>
                      </a:lnTo>
                      <a:lnTo>
                        <a:pt x="771" y="711"/>
                      </a:lnTo>
                      <a:lnTo>
                        <a:pt x="793" y="776"/>
                      </a:lnTo>
                      <a:lnTo>
                        <a:pt x="796" y="810"/>
                      </a:lnTo>
                      <a:lnTo>
                        <a:pt x="790" y="838"/>
                      </a:lnTo>
                      <a:lnTo>
                        <a:pt x="783" y="865"/>
                      </a:lnTo>
                      <a:lnTo>
                        <a:pt x="752" y="914"/>
                      </a:lnTo>
                      <a:lnTo>
                        <a:pt x="670" y="923"/>
                      </a:lnTo>
                      <a:lnTo>
                        <a:pt x="620" y="967"/>
                      </a:lnTo>
                      <a:lnTo>
                        <a:pt x="535" y="983"/>
                      </a:lnTo>
                      <a:lnTo>
                        <a:pt x="419" y="1010"/>
                      </a:lnTo>
                      <a:lnTo>
                        <a:pt x="50" y="869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17" name=""/>
                <p:cNvSpPr/>
                <p:nvPr/>
              </p:nvSpPr>
              <p:spPr>
                <a:xfrm>
                  <a:off x="3842280" y="5578920"/>
                  <a:ext cx="81720" cy="220680"/>
                </a:xfrm>
                <a:custGeom>
                  <a:avLst/>
                  <a:gdLst/>
                  <a:ahLst/>
                  <a:rect l="l" t="t" r="r" b="b"/>
                  <a:pathLst>
                    <a:path w="239" h="527">
                      <a:moveTo>
                        <a:pt x="239" y="0"/>
                      </a:moveTo>
                      <a:lnTo>
                        <a:pt x="183" y="26"/>
                      </a:lnTo>
                      <a:lnTo>
                        <a:pt x="127" y="50"/>
                      </a:lnTo>
                      <a:lnTo>
                        <a:pt x="75" y="94"/>
                      </a:lnTo>
                      <a:lnTo>
                        <a:pt x="38" y="147"/>
                      </a:lnTo>
                      <a:lnTo>
                        <a:pt x="22" y="190"/>
                      </a:lnTo>
                      <a:lnTo>
                        <a:pt x="7" y="242"/>
                      </a:lnTo>
                      <a:lnTo>
                        <a:pt x="0" y="308"/>
                      </a:lnTo>
                      <a:lnTo>
                        <a:pt x="3" y="387"/>
                      </a:lnTo>
                      <a:lnTo>
                        <a:pt x="19" y="426"/>
                      </a:lnTo>
                      <a:lnTo>
                        <a:pt x="38" y="473"/>
                      </a:lnTo>
                      <a:lnTo>
                        <a:pt x="60" y="527"/>
                      </a:lnTo>
                      <a:lnTo>
                        <a:pt x="41" y="449"/>
                      </a:lnTo>
                      <a:lnTo>
                        <a:pt x="26" y="380"/>
                      </a:lnTo>
                      <a:lnTo>
                        <a:pt x="29" y="304"/>
                      </a:lnTo>
                      <a:lnTo>
                        <a:pt x="48" y="213"/>
                      </a:lnTo>
                      <a:lnTo>
                        <a:pt x="84" y="130"/>
                      </a:lnTo>
                      <a:lnTo>
                        <a:pt x="113" y="94"/>
                      </a:lnTo>
                      <a:lnTo>
                        <a:pt x="144" y="66"/>
                      </a:lnTo>
                      <a:lnTo>
                        <a:pt x="169" y="44"/>
                      </a:lnTo>
                      <a:lnTo>
                        <a:pt x="239" y="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18" name=""/>
                <p:cNvSpPr/>
                <p:nvPr/>
              </p:nvSpPr>
              <p:spPr>
                <a:xfrm>
                  <a:off x="4028400" y="5501160"/>
                  <a:ext cx="43200" cy="66240"/>
                </a:xfrm>
                <a:custGeom>
                  <a:avLst/>
                  <a:gdLst/>
                  <a:ahLst/>
                  <a:rect l="l" t="t" r="r" b="b"/>
                  <a:pathLst>
                    <a:path w="125" h="158">
                      <a:moveTo>
                        <a:pt x="125" y="0"/>
                      </a:moveTo>
                      <a:lnTo>
                        <a:pt x="64" y="10"/>
                      </a:lnTo>
                      <a:lnTo>
                        <a:pt x="28" y="23"/>
                      </a:lnTo>
                      <a:lnTo>
                        <a:pt x="12" y="41"/>
                      </a:lnTo>
                      <a:lnTo>
                        <a:pt x="5" y="56"/>
                      </a:lnTo>
                      <a:lnTo>
                        <a:pt x="0" y="88"/>
                      </a:lnTo>
                      <a:lnTo>
                        <a:pt x="0" y="121"/>
                      </a:lnTo>
                      <a:lnTo>
                        <a:pt x="2" y="158"/>
                      </a:lnTo>
                      <a:lnTo>
                        <a:pt x="12" y="79"/>
                      </a:lnTo>
                      <a:lnTo>
                        <a:pt x="32" y="46"/>
                      </a:lnTo>
                      <a:lnTo>
                        <a:pt x="51" y="33"/>
                      </a:lnTo>
                      <a:lnTo>
                        <a:pt x="125" y="0"/>
                      </a:lnTo>
                      <a:close/>
                    </a:path>
                  </a:pathLst>
                </a:custGeom>
                <a:solidFill>
                  <a:srgbClr val="c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440" bIns="19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19" name=""/>
                <p:cNvSpPr/>
                <p:nvPr/>
              </p:nvSpPr>
              <p:spPr>
                <a:xfrm>
                  <a:off x="4097520" y="5631840"/>
                  <a:ext cx="71280" cy="86400"/>
                </a:xfrm>
                <a:custGeom>
                  <a:avLst/>
                  <a:gdLst/>
                  <a:ahLst/>
                  <a:rect l="l" t="t" r="r" b="b"/>
                  <a:pathLst>
                    <a:path w="206" h="205">
                      <a:moveTo>
                        <a:pt x="204" y="0"/>
                      </a:moveTo>
                      <a:lnTo>
                        <a:pt x="206" y="52"/>
                      </a:lnTo>
                      <a:lnTo>
                        <a:pt x="204" y="106"/>
                      </a:lnTo>
                      <a:lnTo>
                        <a:pt x="185" y="158"/>
                      </a:lnTo>
                      <a:lnTo>
                        <a:pt x="163" y="186"/>
                      </a:lnTo>
                      <a:lnTo>
                        <a:pt x="136" y="200"/>
                      </a:lnTo>
                      <a:lnTo>
                        <a:pt x="82" y="202"/>
                      </a:lnTo>
                      <a:lnTo>
                        <a:pt x="34" y="205"/>
                      </a:lnTo>
                      <a:lnTo>
                        <a:pt x="0" y="202"/>
                      </a:lnTo>
                      <a:lnTo>
                        <a:pt x="24" y="196"/>
                      </a:lnTo>
                      <a:lnTo>
                        <a:pt x="63" y="186"/>
                      </a:lnTo>
                      <a:lnTo>
                        <a:pt x="108" y="165"/>
                      </a:lnTo>
                      <a:lnTo>
                        <a:pt x="146" y="128"/>
                      </a:lnTo>
                      <a:lnTo>
                        <a:pt x="173" y="81"/>
                      </a:lnTo>
                      <a:lnTo>
                        <a:pt x="185" y="52"/>
                      </a:lnTo>
                      <a:lnTo>
                        <a:pt x="204" y="0"/>
                      </a:lnTo>
                      <a:close/>
                    </a:path>
                  </a:pathLst>
                </a:custGeom>
                <a:solidFill>
                  <a:srgbClr val="c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0" bIns="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20" name=""/>
                <p:cNvSpPr/>
                <p:nvPr/>
              </p:nvSpPr>
              <p:spPr>
                <a:xfrm>
                  <a:off x="3877560" y="5616720"/>
                  <a:ext cx="61920" cy="178920"/>
                </a:xfrm>
                <a:custGeom>
                  <a:avLst/>
                  <a:gdLst/>
                  <a:ahLst/>
                  <a:rect l="l" t="t" r="r" b="b"/>
                  <a:pathLst>
                    <a:path w="182" h="430">
                      <a:moveTo>
                        <a:pt x="182" y="0"/>
                      </a:moveTo>
                      <a:lnTo>
                        <a:pt x="120" y="16"/>
                      </a:lnTo>
                      <a:lnTo>
                        <a:pt x="54" y="54"/>
                      </a:lnTo>
                      <a:lnTo>
                        <a:pt x="27" y="89"/>
                      </a:lnTo>
                      <a:lnTo>
                        <a:pt x="12" y="125"/>
                      </a:lnTo>
                      <a:lnTo>
                        <a:pt x="2" y="178"/>
                      </a:lnTo>
                      <a:lnTo>
                        <a:pt x="0" y="220"/>
                      </a:lnTo>
                      <a:lnTo>
                        <a:pt x="0" y="254"/>
                      </a:lnTo>
                      <a:lnTo>
                        <a:pt x="12" y="345"/>
                      </a:lnTo>
                      <a:lnTo>
                        <a:pt x="33" y="430"/>
                      </a:lnTo>
                      <a:lnTo>
                        <a:pt x="27" y="273"/>
                      </a:lnTo>
                      <a:lnTo>
                        <a:pt x="36" y="213"/>
                      </a:lnTo>
                      <a:lnTo>
                        <a:pt x="54" y="154"/>
                      </a:lnTo>
                      <a:lnTo>
                        <a:pt x="82" y="101"/>
                      </a:lnTo>
                      <a:lnTo>
                        <a:pt x="101" y="70"/>
                      </a:lnTo>
                      <a:lnTo>
                        <a:pt x="129" y="42"/>
                      </a:lnTo>
                      <a:lnTo>
                        <a:pt x="182" y="0"/>
                      </a:lnTo>
                      <a:close/>
                    </a:path>
                  </a:pathLst>
                </a:custGeom>
                <a:solidFill>
                  <a:srgbClr val="c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21" name=""/>
                <p:cNvSpPr/>
                <p:nvPr/>
              </p:nvSpPr>
              <p:spPr>
                <a:xfrm>
                  <a:off x="4040640" y="5483520"/>
                  <a:ext cx="122760" cy="111600"/>
                </a:xfrm>
                <a:custGeom>
                  <a:avLst/>
                  <a:gdLst/>
                  <a:ahLst/>
                  <a:rect l="l" t="t" r="r" b="b"/>
                  <a:pathLst>
                    <a:path w="356" h="268">
                      <a:moveTo>
                        <a:pt x="356" y="0"/>
                      </a:moveTo>
                      <a:lnTo>
                        <a:pt x="295" y="5"/>
                      </a:lnTo>
                      <a:lnTo>
                        <a:pt x="256" y="15"/>
                      </a:lnTo>
                      <a:lnTo>
                        <a:pt x="225" y="31"/>
                      </a:lnTo>
                      <a:lnTo>
                        <a:pt x="203" y="47"/>
                      </a:lnTo>
                      <a:lnTo>
                        <a:pt x="175" y="70"/>
                      </a:lnTo>
                      <a:lnTo>
                        <a:pt x="149" y="115"/>
                      </a:lnTo>
                      <a:lnTo>
                        <a:pt x="149" y="74"/>
                      </a:lnTo>
                      <a:lnTo>
                        <a:pt x="156" y="50"/>
                      </a:lnTo>
                      <a:lnTo>
                        <a:pt x="165" y="38"/>
                      </a:lnTo>
                      <a:lnTo>
                        <a:pt x="140" y="53"/>
                      </a:lnTo>
                      <a:lnTo>
                        <a:pt x="121" y="77"/>
                      </a:lnTo>
                      <a:lnTo>
                        <a:pt x="118" y="112"/>
                      </a:lnTo>
                      <a:lnTo>
                        <a:pt x="115" y="134"/>
                      </a:lnTo>
                      <a:lnTo>
                        <a:pt x="102" y="178"/>
                      </a:lnTo>
                      <a:lnTo>
                        <a:pt x="90" y="208"/>
                      </a:lnTo>
                      <a:lnTo>
                        <a:pt x="67" y="239"/>
                      </a:lnTo>
                      <a:lnTo>
                        <a:pt x="19" y="258"/>
                      </a:lnTo>
                      <a:lnTo>
                        <a:pt x="0" y="265"/>
                      </a:lnTo>
                      <a:lnTo>
                        <a:pt x="72" y="268"/>
                      </a:lnTo>
                      <a:lnTo>
                        <a:pt x="106" y="268"/>
                      </a:lnTo>
                      <a:lnTo>
                        <a:pt x="140" y="249"/>
                      </a:lnTo>
                      <a:lnTo>
                        <a:pt x="165" y="220"/>
                      </a:lnTo>
                      <a:lnTo>
                        <a:pt x="177" y="184"/>
                      </a:lnTo>
                      <a:lnTo>
                        <a:pt x="187" y="146"/>
                      </a:lnTo>
                      <a:lnTo>
                        <a:pt x="208" y="115"/>
                      </a:lnTo>
                      <a:lnTo>
                        <a:pt x="270" y="89"/>
                      </a:lnTo>
                      <a:lnTo>
                        <a:pt x="227" y="89"/>
                      </a:lnTo>
                      <a:lnTo>
                        <a:pt x="225" y="70"/>
                      </a:lnTo>
                      <a:lnTo>
                        <a:pt x="243" y="53"/>
                      </a:lnTo>
                      <a:lnTo>
                        <a:pt x="270" y="34"/>
                      </a:lnTo>
                      <a:lnTo>
                        <a:pt x="295" y="22"/>
                      </a:lnTo>
                      <a:lnTo>
                        <a:pt x="356" y="0"/>
                      </a:lnTo>
                      <a:close/>
                    </a:path>
                  </a:pathLst>
                </a:custGeom>
                <a:solidFill>
                  <a:srgbClr val="c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22" name=""/>
                <p:cNvSpPr/>
                <p:nvPr/>
              </p:nvSpPr>
              <p:spPr>
                <a:xfrm>
                  <a:off x="3914640" y="5626800"/>
                  <a:ext cx="149400" cy="239400"/>
                </a:xfrm>
                <a:custGeom>
                  <a:avLst/>
                  <a:gdLst/>
                  <a:ahLst/>
                  <a:rect l="l" t="t" r="r" b="b"/>
                  <a:pathLst>
                    <a:path w="434" h="572">
                      <a:moveTo>
                        <a:pt x="297" y="0"/>
                      </a:moveTo>
                      <a:lnTo>
                        <a:pt x="209" y="19"/>
                      </a:lnTo>
                      <a:lnTo>
                        <a:pt x="139" y="41"/>
                      </a:lnTo>
                      <a:lnTo>
                        <a:pt x="85" y="79"/>
                      </a:lnTo>
                      <a:lnTo>
                        <a:pt x="41" y="133"/>
                      </a:lnTo>
                      <a:lnTo>
                        <a:pt x="10" y="207"/>
                      </a:lnTo>
                      <a:lnTo>
                        <a:pt x="0" y="267"/>
                      </a:lnTo>
                      <a:lnTo>
                        <a:pt x="0" y="352"/>
                      </a:lnTo>
                      <a:lnTo>
                        <a:pt x="7" y="425"/>
                      </a:lnTo>
                      <a:lnTo>
                        <a:pt x="22" y="483"/>
                      </a:lnTo>
                      <a:lnTo>
                        <a:pt x="43" y="535"/>
                      </a:lnTo>
                      <a:lnTo>
                        <a:pt x="155" y="572"/>
                      </a:lnTo>
                      <a:lnTo>
                        <a:pt x="246" y="541"/>
                      </a:lnTo>
                      <a:lnTo>
                        <a:pt x="297" y="513"/>
                      </a:lnTo>
                      <a:lnTo>
                        <a:pt x="322" y="483"/>
                      </a:lnTo>
                      <a:lnTo>
                        <a:pt x="346" y="425"/>
                      </a:lnTo>
                      <a:lnTo>
                        <a:pt x="361" y="366"/>
                      </a:lnTo>
                      <a:lnTo>
                        <a:pt x="365" y="311"/>
                      </a:lnTo>
                      <a:lnTo>
                        <a:pt x="358" y="274"/>
                      </a:lnTo>
                      <a:lnTo>
                        <a:pt x="346" y="349"/>
                      </a:lnTo>
                      <a:lnTo>
                        <a:pt x="326" y="394"/>
                      </a:lnTo>
                      <a:lnTo>
                        <a:pt x="290" y="430"/>
                      </a:lnTo>
                      <a:lnTo>
                        <a:pt x="246" y="455"/>
                      </a:lnTo>
                      <a:lnTo>
                        <a:pt x="281" y="390"/>
                      </a:lnTo>
                      <a:lnTo>
                        <a:pt x="290" y="359"/>
                      </a:lnTo>
                      <a:lnTo>
                        <a:pt x="290" y="318"/>
                      </a:lnTo>
                      <a:lnTo>
                        <a:pt x="290" y="264"/>
                      </a:lnTo>
                      <a:lnTo>
                        <a:pt x="300" y="198"/>
                      </a:lnTo>
                      <a:lnTo>
                        <a:pt x="312" y="163"/>
                      </a:lnTo>
                      <a:lnTo>
                        <a:pt x="327" y="121"/>
                      </a:lnTo>
                      <a:lnTo>
                        <a:pt x="339" y="98"/>
                      </a:lnTo>
                      <a:lnTo>
                        <a:pt x="312" y="117"/>
                      </a:lnTo>
                      <a:lnTo>
                        <a:pt x="288" y="148"/>
                      </a:lnTo>
                      <a:lnTo>
                        <a:pt x="255" y="217"/>
                      </a:lnTo>
                      <a:lnTo>
                        <a:pt x="231" y="283"/>
                      </a:lnTo>
                      <a:lnTo>
                        <a:pt x="222" y="226"/>
                      </a:lnTo>
                      <a:lnTo>
                        <a:pt x="224" y="160"/>
                      </a:lnTo>
                      <a:lnTo>
                        <a:pt x="240" y="107"/>
                      </a:lnTo>
                      <a:lnTo>
                        <a:pt x="272" y="76"/>
                      </a:lnTo>
                      <a:lnTo>
                        <a:pt x="297" y="60"/>
                      </a:lnTo>
                      <a:lnTo>
                        <a:pt x="349" y="50"/>
                      </a:lnTo>
                      <a:lnTo>
                        <a:pt x="380" y="50"/>
                      </a:lnTo>
                      <a:lnTo>
                        <a:pt x="434" y="38"/>
                      </a:lnTo>
                      <a:lnTo>
                        <a:pt x="355" y="38"/>
                      </a:lnTo>
                      <a:lnTo>
                        <a:pt x="303" y="41"/>
                      </a:lnTo>
                      <a:lnTo>
                        <a:pt x="222" y="67"/>
                      </a:lnTo>
                      <a:lnTo>
                        <a:pt x="181" y="86"/>
                      </a:lnTo>
                      <a:lnTo>
                        <a:pt x="146" y="123"/>
                      </a:lnTo>
                      <a:lnTo>
                        <a:pt x="155" y="86"/>
                      </a:lnTo>
                      <a:lnTo>
                        <a:pt x="174" y="57"/>
                      </a:lnTo>
                      <a:lnTo>
                        <a:pt x="205" y="41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c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0523" name=""/>
            <p:cNvSpPr/>
            <p:nvPr/>
          </p:nvSpPr>
          <p:spPr>
            <a:xfrm>
              <a:off x="3554280" y="3398760"/>
              <a:ext cx="716040" cy="3240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4" name=""/>
            <p:cNvSpPr/>
            <p:nvPr/>
          </p:nvSpPr>
          <p:spPr>
            <a:xfrm>
              <a:off x="6232680" y="5597640"/>
              <a:ext cx="725400" cy="50616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5" name=""/>
            <p:cNvSpPr/>
            <p:nvPr/>
          </p:nvSpPr>
          <p:spPr>
            <a:xfrm>
              <a:off x="6603840" y="6429240"/>
              <a:ext cx="935280" cy="42876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526" name=""/>
            <p:cNvGraphicFramePr/>
            <p:nvPr/>
          </p:nvGraphicFramePr>
          <p:xfrm>
            <a:off x="6211800" y="3260880"/>
            <a:ext cx="1666800" cy="12049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052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211800" y="3260880"/>
                      <a:ext cx="1666800" cy="1204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528" name=""/>
            <p:cNvSpPr/>
            <p:nvPr/>
          </p:nvSpPr>
          <p:spPr>
            <a:xfrm>
              <a:off x="6851520" y="5103720"/>
              <a:ext cx="1408320" cy="40176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9" name=""/>
            <p:cNvSpPr/>
            <p:nvPr/>
          </p:nvSpPr>
          <p:spPr>
            <a:xfrm>
              <a:off x="6735600" y="974880"/>
              <a:ext cx="1565280" cy="50616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0" name=""/>
            <p:cNvSpPr/>
            <p:nvPr/>
          </p:nvSpPr>
          <p:spPr>
            <a:xfrm>
              <a:off x="6550200" y="3514680"/>
              <a:ext cx="934920" cy="50652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531" name=""/>
            <p:cNvGraphicFramePr/>
            <p:nvPr/>
          </p:nvGraphicFramePr>
          <p:xfrm>
            <a:off x="125280" y="2021040"/>
            <a:ext cx="1214640" cy="21114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053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25280" y="2021040"/>
                      <a:ext cx="1214640" cy="2111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533" name=""/>
            <p:cNvGraphicFramePr/>
            <p:nvPr/>
          </p:nvGraphicFramePr>
          <p:xfrm>
            <a:off x="6950160" y="5513400"/>
            <a:ext cx="731880" cy="8650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534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950160" y="5513400"/>
                      <a:ext cx="731880" cy="865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cxnSp>
          <p:nvCxnSpPr>
            <p:cNvPr id="10535" name=""/>
            <p:cNvCxnSpPr/>
            <p:nvPr/>
          </p:nvCxnSpPr>
          <p:spPr>
            <a:xfrm>
              <a:off x="4633560" y="5349600"/>
              <a:ext cx="10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0536" name=""/>
            <p:cNvCxnSpPr/>
            <p:nvPr/>
          </p:nvCxnSpPr>
          <p:spPr>
            <a:xfrm>
              <a:off x="5733720" y="2742840"/>
              <a:ext cx="10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0537" name=""/>
            <p:cNvSpPr/>
            <p:nvPr/>
          </p:nvSpPr>
          <p:spPr>
            <a:xfrm>
              <a:off x="0" y="802800"/>
              <a:ext cx="2795760" cy="56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800" spc="-1" strike="noStrike">
                  <a:solidFill>
                    <a:srgbClr val="000000"/>
                  </a:solidFill>
                  <a:latin typeface="Times New Roman"/>
                </a:rPr>
                <a:t>Dibazické aminokyselin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800" spc="-1" strike="noStrike">
                  <a:solidFill>
                    <a:srgbClr val="000000"/>
                  </a:solidFill>
                  <a:latin typeface="Times New Roman"/>
                </a:rPr>
                <a:t>(lysin, arginin, histidin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8" name=""/>
            <p:cNvSpPr/>
            <p:nvPr/>
          </p:nvSpPr>
          <p:spPr>
            <a:xfrm>
              <a:off x="6622920" y="1038960"/>
              <a:ext cx="171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1800" spc="-1" strike="noStrike">
                  <a:solidFill>
                    <a:srgbClr val="000000"/>
                  </a:solidFill>
                  <a:latin typeface="Times New Roman"/>
                </a:rPr>
                <a:t>Močovin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9" name=""/>
            <p:cNvSpPr/>
            <p:nvPr/>
          </p:nvSpPr>
          <p:spPr>
            <a:xfrm>
              <a:off x="3449520" y="3344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8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1" lang="cs-CZ" sz="1800" spc="-1" strike="noStrike" baseline="30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0" name=""/>
            <p:cNvSpPr/>
            <p:nvPr/>
          </p:nvSpPr>
          <p:spPr>
            <a:xfrm>
              <a:off x="3243240" y="3048840"/>
              <a:ext cx="1695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1 125 mmol/d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1" name=""/>
            <p:cNvSpPr/>
            <p:nvPr/>
          </p:nvSpPr>
          <p:spPr>
            <a:xfrm>
              <a:off x="6526080" y="3569760"/>
              <a:ext cx="9385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800" spc="-1" strike="noStrike">
                  <a:solidFill>
                    <a:srgbClr val="000000"/>
                  </a:solidFill>
                  <a:latin typeface="Times New Roman"/>
                </a:rPr>
                <a:t>NH</a:t>
              </a:r>
              <a:r>
                <a:rPr b="1" lang="cs-CZ" sz="18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1" lang="cs-CZ" sz="1800" spc="-1" strike="noStrike" baseline="30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2" name=""/>
            <p:cNvSpPr/>
            <p:nvPr/>
          </p:nvSpPr>
          <p:spPr>
            <a:xfrm>
              <a:off x="1080" y="266040"/>
              <a:ext cx="2169720" cy="56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800" spc="-1" strike="noStrike">
                  <a:solidFill>
                    <a:srgbClr val="000000"/>
                  </a:solidFill>
                  <a:latin typeface="Times New Roman"/>
                </a:rPr>
                <a:t>Sirné aminokyselin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800" spc="-1" strike="noStrike">
                  <a:solidFill>
                    <a:srgbClr val="000000"/>
                  </a:solidFill>
                  <a:latin typeface="Times New Roman"/>
                </a:rPr>
                <a:t>(cystein, methionin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3" name=""/>
            <p:cNvSpPr/>
            <p:nvPr/>
          </p:nvSpPr>
          <p:spPr>
            <a:xfrm>
              <a:off x="117360" y="5682600"/>
              <a:ext cx="308952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800" spc="-1" strike="noStrike">
                  <a:solidFill>
                    <a:srgbClr val="000000"/>
                  </a:solidFill>
                  <a:latin typeface="Times New Roman"/>
                </a:rPr>
                <a:t>Dikarboxylové aminokyselin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800" spc="-1" strike="noStrike">
                  <a:solidFill>
                    <a:srgbClr val="000000"/>
                  </a:solidFill>
                  <a:latin typeface="Times New Roman"/>
                </a:rPr>
                <a:t>(glutamát, asparagá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544" name=""/>
            <p:cNvGrpSpPr/>
            <p:nvPr/>
          </p:nvGrpSpPr>
          <p:grpSpPr>
            <a:xfrm>
              <a:off x="3713040" y="2239920"/>
              <a:ext cx="560520" cy="917640"/>
              <a:chOff x="3713040" y="2239920"/>
              <a:chExt cx="560520" cy="917640"/>
            </a:xfrm>
          </p:grpSpPr>
          <p:sp>
            <p:nvSpPr>
              <p:cNvPr id="10545" name=""/>
              <p:cNvSpPr/>
              <p:nvPr/>
            </p:nvSpPr>
            <p:spPr>
              <a:xfrm>
                <a:off x="3717720" y="2309760"/>
                <a:ext cx="551160" cy="630360"/>
              </a:xfrm>
              <a:custGeom>
                <a:avLst/>
                <a:gdLst/>
                <a:ahLst/>
                <a:rect l="l" t="t" r="r" b="b"/>
                <a:pathLst>
                  <a:path w="2256" h="2295">
                    <a:moveTo>
                      <a:pt x="0" y="0"/>
                    </a:moveTo>
                    <a:lnTo>
                      <a:pt x="939" y="1180"/>
                    </a:lnTo>
                    <a:lnTo>
                      <a:pt x="980" y="2175"/>
                    </a:lnTo>
                    <a:lnTo>
                      <a:pt x="983" y="2202"/>
                    </a:lnTo>
                    <a:lnTo>
                      <a:pt x="991" y="2221"/>
                    </a:lnTo>
                    <a:lnTo>
                      <a:pt x="1000" y="2235"/>
                    </a:lnTo>
                    <a:lnTo>
                      <a:pt x="1010" y="2246"/>
                    </a:lnTo>
                    <a:lnTo>
                      <a:pt x="1024" y="2260"/>
                    </a:lnTo>
                    <a:lnTo>
                      <a:pt x="1038" y="2268"/>
                    </a:lnTo>
                    <a:lnTo>
                      <a:pt x="1060" y="2281"/>
                    </a:lnTo>
                    <a:lnTo>
                      <a:pt x="1083" y="2287"/>
                    </a:lnTo>
                    <a:lnTo>
                      <a:pt x="1111" y="2293"/>
                    </a:lnTo>
                    <a:lnTo>
                      <a:pt x="1128" y="2295"/>
                    </a:lnTo>
                    <a:lnTo>
                      <a:pt x="1145" y="2295"/>
                    </a:lnTo>
                    <a:lnTo>
                      <a:pt x="1163" y="2292"/>
                    </a:lnTo>
                    <a:lnTo>
                      <a:pt x="1183" y="2286"/>
                    </a:lnTo>
                    <a:lnTo>
                      <a:pt x="1202" y="2279"/>
                    </a:lnTo>
                    <a:lnTo>
                      <a:pt x="1221" y="2268"/>
                    </a:lnTo>
                    <a:lnTo>
                      <a:pt x="1235" y="2259"/>
                    </a:lnTo>
                    <a:lnTo>
                      <a:pt x="1251" y="2243"/>
                    </a:lnTo>
                    <a:lnTo>
                      <a:pt x="1262" y="2227"/>
                    </a:lnTo>
                    <a:lnTo>
                      <a:pt x="1273" y="2203"/>
                    </a:lnTo>
                    <a:lnTo>
                      <a:pt x="1276" y="2181"/>
                    </a:lnTo>
                    <a:lnTo>
                      <a:pt x="1336" y="1161"/>
                    </a:lnTo>
                    <a:lnTo>
                      <a:pt x="225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6" name=""/>
              <p:cNvSpPr/>
              <p:nvPr/>
            </p:nvSpPr>
            <p:spPr>
              <a:xfrm>
                <a:off x="3713040" y="2239920"/>
                <a:ext cx="560520" cy="119160"/>
              </a:xfrm>
              <a:prstGeom prst="ellipse">
                <a:avLst/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7" name=""/>
              <p:cNvSpPr/>
              <p:nvPr/>
            </p:nvSpPr>
            <p:spPr>
              <a:xfrm>
                <a:off x="3757680" y="2327400"/>
                <a:ext cx="476280" cy="593640"/>
              </a:xfrm>
              <a:custGeom>
                <a:avLst/>
                <a:gdLst/>
                <a:ahLst/>
                <a:rect l="l" t="t" r="r" b="b"/>
                <a:pathLst>
                  <a:path w="1956" h="2159">
                    <a:moveTo>
                      <a:pt x="0" y="19"/>
                    </a:moveTo>
                    <a:lnTo>
                      <a:pt x="857" y="1063"/>
                    </a:lnTo>
                    <a:lnTo>
                      <a:pt x="879" y="2090"/>
                    </a:lnTo>
                    <a:lnTo>
                      <a:pt x="887" y="2107"/>
                    </a:lnTo>
                    <a:lnTo>
                      <a:pt x="897" y="2123"/>
                    </a:lnTo>
                    <a:lnTo>
                      <a:pt x="906" y="2137"/>
                    </a:lnTo>
                    <a:lnTo>
                      <a:pt x="922" y="2147"/>
                    </a:lnTo>
                    <a:lnTo>
                      <a:pt x="939" y="2156"/>
                    </a:lnTo>
                    <a:lnTo>
                      <a:pt x="962" y="2159"/>
                    </a:lnTo>
                    <a:lnTo>
                      <a:pt x="983" y="2157"/>
                    </a:lnTo>
                    <a:lnTo>
                      <a:pt x="1005" y="2153"/>
                    </a:lnTo>
                    <a:lnTo>
                      <a:pt x="1026" y="2140"/>
                    </a:lnTo>
                    <a:lnTo>
                      <a:pt x="1040" y="2123"/>
                    </a:lnTo>
                    <a:lnTo>
                      <a:pt x="1048" y="2109"/>
                    </a:lnTo>
                    <a:lnTo>
                      <a:pt x="1056" y="2088"/>
                    </a:lnTo>
                    <a:lnTo>
                      <a:pt x="1100" y="1045"/>
                    </a:lnTo>
                    <a:lnTo>
                      <a:pt x="1956" y="0"/>
                    </a:lnTo>
                    <a:lnTo>
                      <a:pt x="1790" y="41"/>
                    </a:lnTo>
                    <a:lnTo>
                      <a:pt x="1531" y="77"/>
                    </a:lnTo>
                    <a:lnTo>
                      <a:pt x="1247" y="98"/>
                    </a:lnTo>
                    <a:lnTo>
                      <a:pt x="962" y="109"/>
                    </a:lnTo>
                    <a:lnTo>
                      <a:pt x="662" y="98"/>
                    </a:lnTo>
                    <a:lnTo>
                      <a:pt x="398" y="77"/>
                    </a:lnTo>
                    <a:lnTo>
                      <a:pt x="178" y="52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8" name=""/>
              <p:cNvSpPr/>
              <p:nvPr/>
            </p:nvSpPr>
            <p:spPr>
              <a:xfrm>
                <a:off x="3838320" y="2448000"/>
                <a:ext cx="308160" cy="474840"/>
              </a:xfrm>
              <a:custGeom>
                <a:avLst/>
                <a:gdLst/>
                <a:ahLst/>
                <a:rect l="l" t="t" r="r" b="b"/>
                <a:pathLst>
                  <a:path w="1264" h="1728">
                    <a:moveTo>
                      <a:pt x="0" y="0"/>
                    </a:moveTo>
                    <a:lnTo>
                      <a:pt x="520" y="624"/>
                    </a:lnTo>
                    <a:lnTo>
                      <a:pt x="531" y="1657"/>
                    </a:lnTo>
                    <a:lnTo>
                      <a:pt x="541" y="1674"/>
                    </a:lnTo>
                    <a:lnTo>
                      <a:pt x="553" y="1688"/>
                    </a:lnTo>
                    <a:lnTo>
                      <a:pt x="564" y="1701"/>
                    </a:lnTo>
                    <a:lnTo>
                      <a:pt x="580" y="1715"/>
                    </a:lnTo>
                    <a:lnTo>
                      <a:pt x="608" y="1723"/>
                    </a:lnTo>
                    <a:lnTo>
                      <a:pt x="632" y="1728"/>
                    </a:lnTo>
                    <a:lnTo>
                      <a:pt x="651" y="1725"/>
                    </a:lnTo>
                    <a:lnTo>
                      <a:pt x="673" y="1720"/>
                    </a:lnTo>
                    <a:lnTo>
                      <a:pt x="694" y="1709"/>
                    </a:lnTo>
                    <a:lnTo>
                      <a:pt x="711" y="1692"/>
                    </a:lnTo>
                    <a:lnTo>
                      <a:pt x="723" y="1669"/>
                    </a:lnTo>
                    <a:lnTo>
                      <a:pt x="730" y="1657"/>
                    </a:lnTo>
                    <a:lnTo>
                      <a:pt x="761" y="605"/>
                    </a:lnTo>
                    <a:lnTo>
                      <a:pt x="126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9" name=""/>
              <p:cNvSpPr/>
              <p:nvPr/>
            </p:nvSpPr>
            <p:spPr>
              <a:xfrm>
                <a:off x="3968640" y="2948040"/>
                <a:ext cx="49320" cy="101520"/>
              </a:xfrm>
              <a:custGeom>
                <a:avLst/>
                <a:gdLst/>
                <a:ahLst/>
                <a:rect l="l" t="t" r="r" b="b"/>
                <a:pathLst>
                  <a:path w="196" h="370">
                    <a:moveTo>
                      <a:pt x="95" y="0"/>
                    </a:moveTo>
                    <a:lnTo>
                      <a:pt x="105" y="58"/>
                    </a:lnTo>
                    <a:lnTo>
                      <a:pt x="111" y="87"/>
                    </a:lnTo>
                    <a:lnTo>
                      <a:pt x="121" y="121"/>
                    </a:lnTo>
                    <a:lnTo>
                      <a:pt x="132" y="141"/>
                    </a:lnTo>
                    <a:lnTo>
                      <a:pt x="147" y="166"/>
                    </a:lnTo>
                    <a:lnTo>
                      <a:pt x="167" y="193"/>
                    </a:lnTo>
                    <a:lnTo>
                      <a:pt x="184" y="220"/>
                    </a:lnTo>
                    <a:lnTo>
                      <a:pt x="192" y="245"/>
                    </a:lnTo>
                    <a:lnTo>
                      <a:pt x="196" y="278"/>
                    </a:lnTo>
                    <a:lnTo>
                      <a:pt x="189" y="307"/>
                    </a:lnTo>
                    <a:lnTo>
                      <a:pt x="178" y="328"/>
                    </a:lnTo>
                    <a:lnTo>
                      <a:pt x="162" y="345"/>
                    </a:lnTo>
                    <a:lnTo>
                      <a:pt x="141" y="361"/>
                    </a:lnTo>
                    <a:lnTo>
                      <a:pt x="121" y="367"/>
                    </a:lnTo>
                    <a:lnTo>
                      <a:pt x="99" y="370"/>
                    </a:lnTo>
                    <a:lnTo>
                      <a:pt x="76" y="367"/>
                    </a:lnTo>
                    <a:lnTo>
                      <a:pt x="54" y="362"/>
                    </a:lnTo>
                    <a:lnTo>
                      <a:pt x="34" y="350"/>
                    </a:lnTo>
                    <a:lnTo>
                      <a:pt x="19" y="334"/>
                    </a:lnTo>
                    <a:lnTo>
                      <a:pt x="8" y="315"/>
                    </a:lnTo>
                    <a:lnTo>
                      <a:pt x="3" y="296"/>
                    </a:lnTo>
                    <a:lnTo>
                      <a:pt x="0" y="272"/>
                    </a:lnTo>
                    <a:lnTo>
                      <a:pt x="5" y="240"/>
                    </a:lnTo>
                    <a:lnTo>
                      <a:pt x="13" y="218"/>
                    </a:lnTo>
                    <a:lnTo>
                      <a:pt x="30" y="190"/>
                    </a:lnTo>
                    <a:lnTo>
                      <a:pt x="49" y="166"/>
                    </a:lnTo>
                    <a:lnTo>
                      <a:pt x="62" y="140"/>
                    </a:lnTo>
                    <a:lnTo>
                      <a:pt x="72" y="119"/>
                    </a:lnTo>
                    <a:lnTo>
                      <a:pt x="81" y="90"/>
                    </a:lnTo>
                    <a:lnTo>
                      <a:pt x="86" y="58"/>
                    </a:lnTo>
                    <a:lnTo>
                      <a:pt x="95" y="0"/>
                    </a:lnTo>
                    <a:close/>
                  </a:path>
                </a:pathLst>
              </a:cu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0" name=""/>
              <p:cNvSpPr/>
              <p:nvPr/>
            </p:nvSpPr>
            <p:spPr>
              <a:xfrm>
                <a:off x="3741840" y="2251080"/>
                <a:ext cx="502920" cy="96840"/>
              </a:xfrm>
              <a:prstGeom prst="ellips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1" name=""/>
              <p:cNvSpPr/>
              <p:nvPr/>
            </p:nvSpPr>
            <p:spPr>
              <a:xfrm>
                <a:off x="3968640" y="3056040"/>
                <a:ext cx="49320" cy="101520"/>
              </a:xfrm>
              <a:custGeom>
                <a:avLst/>
                <a:gdLst/>
                <a:ahLst/>
                <a:rect l="l" t="t" r="r" b="b"/>
                <a:pathLst>
                  <a:path w="196" h="372">
                    <a:moveTo>
                      <a:pt x="95" y="0"/>
                    </a:moveTo>
                    <a:lnTo>
                      <a:pt x="105" y="60"/>
                    </a:lnTo>
                    <a:lnTo>
                      <a:pt x="111" y="88"/>
                    </a:lnTo>
                    <a:lnTo>
                      <a:pt x="121" y="122"/>
                    </a:lnTo>
                    <a:lnTo>
                      <a:pt x="132" y="143"/>
                    </a:lnTo>
                    <a:lnTo>
                      <a:pt x="147" y="168"/>
                    </a:lnTo>
                    <a:lnTo>
                      <a:pt x="167" y="195"/>
                    </a:lnTo>
                    <a:lnTo>
                      <a:pt x="184" y="221"/>
                    </a:lnTo>
                    <a:lnTo>
                      <a:pt x="192" y="247"/>
                    </a:lnTo>
                    <a:lnTo>
                      <a:pt x="196" y="279"/>
                    </a:lnTo>
                    <a:lnTo>
                      <a:pt x="189" y="308"/>
                    </a:lnTo>
                    <a:lnTo>
                      <a:pt x="178" y="328"/>
                    </a:lnTo>
                    <a:lnTo>
                      <a:pt x="162" y="345"/>
                    </a:lnTo>
                    <a:lnTo>
                      <a:pt x="141" y="361"/>
                    </a:lnTo>
                    <a:lnTo>
                      <a:pt x="121" y="369"/>
                    </a:lnTo>
                    <a:lnTo>
                      <a:pt x="99" y="372"/>
                    </a:lnTo>
                    <a:lnTo>
                      <a:pt x="76" y="369"/>
                    </a:lnTo>
                    <a:lnTo>
                      <a:pt x="54" y="363"/>
                    </a:lnTo>
                    <a:lnTo>
                      <a:pt x="34" y="351"/>
                    </a:lnTo>
                    <a:lnTo>
                      <a:pt x="19" y="336"/>
                    </a:lnTo>
                    <a:lnTo>
                      <a:pt x="8" y="317"/>
                    </a:lnTo>
                    <a:lnTo>
                      <a:pt x="3" y="298"/>
                    </a:lnTo>
                    <a:lnTo>
                      <a:pt x="0" y="272"/>
                    </a:lnTo>
                    <a:lnTo>
                      <a:pt x="5" y="242"/>
                    </a:lnTo>
                    <a:lnTo>
                      <a:pt x="13" y="219"/>
                    </a:lnTo>
                    <a:lnTo>
                      <a:pt x="30" y="191"/>
                    </a:lnTo>
                    <a:lnTo>
                      <a:pt x="49" y="168"/>
                    </a:lnTo>
                    <a:lnTo>
                      <a:pt x="62" y="141"/>
                    </a:lnTo>
                    <a:lnTo>
                      <a:pt x="72" y="120"/>
                    </a:lnTo>
                    <a:lnTo>
                      <a:pt x="81" y="90"/>
                    </a:lnTo>
                    <a:lnTo>
                      <a:pt x="86" y="60"/>
                    </a:lnTo>
                    <a:lnTo>
                      <a:pt x="95" y="0"/>
                    </a:lnTo>
                    <a:close/>
                  </a:path>
                </a:pathLst>
              </a:cu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2" name=""/>
              <p:cNvSpPr/>
              <p:nvPr/>
            </p:nvSpPr>
            <p:spPr>
              <a:xfrm>
                <a:off x="3835440" y="2409840"/>
                <a:ext cx="315720" cy="61920"/>
              </a:xfrm>
              <a:prstGeom prst="ellipse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3" name=""/>
              <p:cNvSpPr/>
              <p:nvPr/>
            </p:nvSpPr>
            <p:spPr>
              <a:xfrm>
                <a:off x="3971880" y="2882880"/>
                <a:ext cx="41400" cy="47880"/>
              </a:xfrm>
              <a:prstGeom prst="ellipse">
                <a:avLst/>
              </a:prstGeom>
              <a:solidFill>
                <a:srgbClr val="009999"/>
              </a:solidFill>
              <a:ln w="1764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54" name=""/>
            <p:cNvGrpSpPr/>
            <p:nvPr/>
          </p:nvGrpSpPr>
          <p:grpSpPr>
            <a:xfrm>
              <a:off x="3633840" y="3965400"/>
              <a:ext cx="560160" cy="917640"/>
              <a:chOff x="3633840" y="3965400"/>
              <a:chExt cx="560160" cy="917640"/>
            </a:xfrm>
          </p:grpSpPr>
          <p:sp>
            <p:nvSpPr>
              <p:cNvPr id="10555" name=""/>
              <p:cNvSpPr/>
              <p:nvPr/>
            </p:nvSpPr>
            <p:spPr>
              <a:xfrm>
                <a:off x="3638160" y="4035240"/>
                <a:ext cx="550800" cy="630360"/>
              </a:xfrm>
              <a:custGeom>
                <a:avLst/>
                <a:gdLst/>
                <a:ahLst/>
                <a:rect l="l" t="t" r="r" b="b"/>
                <a:pathLst>
                  <a:path w="2256" h="2295">
                    <a:moveTo>
                      <a:pt x="0" y="0"/>
                    </a:moveTo>
                    <a:lnTo>
                      <a:pt x="939" y="1180"/>
                    </a:lnTo>
                    <a:lnTo>
                      <a:pt x="980" y="2175"/>
                    </a:lnTo>
                    <a:lnTo>
                      <a:pt x="983" y="2202"/>
                    </a:lnTo>
                    <a:lnTo>
                      <a:pt x="991" y="2221"/>
                    </a:lnTo>
                    <a:lnTo>
                      <a:pt x="1000" y="2235"/>
                    </a:lnTo>
                    <a:lnTo>
                      <a:pt x="1010" y="2246"/>
                    </a:lnTo>
                    <a:lnTo>
                      <a:pt x="1024" y="2260"/>
                    </a:lnTo>
                    <a:lnTo>
                      <a:pt x="1038" y="2268"/>
                    </a:lnTo>
                    <a:lnTo>
                      <a:pt x="1060" y="2281"/>
                    </a:lnTo>
                    <a:lnTo>
                      <a:pt x="1083" y="2287"/>
                    </a:lnTo>
                    <a:lnTo>
                      <a:pt x="1111" y="2293"/>
                    </a:lnTo>
                    <a:lnTo>
                      <a:pt x="1128" y="2295"/>
                    </a:lnTo>
                    <a:lnTo>
                      <a:pt x="1145" y="2295"/>
                    </a:lnTo>
                    <a:lnTo>
                      <a:pt x="1163" y="2292"/>
                    </a:lnTo>
                    <a:lnTo>
                      <a:pt x="1183" y="2286"/>
                    </a:lnTo>
                    <a:lnTo>
                      <a:pt x="1202" y="2279"/>
                    </a:lnTo>
                    <a:lnTo>
                      <a:pt x="1221" y="2268"/>
                    </a:lnTo>
                    <a:lnTo>
                      <a:pt x="1235" y="2259"/>
                    </a:lnTo>
                    <a:lnTo>
                      <a:pt x="1251" y="2243"/>
                    </a:lnTo>
                    <a:lnTo>
                      <a:pt x="1262" y="2227"/>
                    </a:lnTo>
                    <a:lnTo>
                      <a:pt x="1273" y="2203"/>
                    </a:lnTo>
                    <a:lnTo>
                      <a:pt x="1276" y="2181"/>
                    </a:lnTo>
                    <a:lnTo>
                      <a:pt x="1336" y="1161"/>
                    </a:lnTo>
                    <a:lnTo>
                      <a:pt x="225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6" name=""/>
              <p:cNvSpPr/>
              <p:nvPr/>
            </p:nvSpPr>
            <p:spPr>
              <a:xfrm>
                <a:off x="3633840" y="3965400"/>
                <a:ext cx="560160" cy="119160"/>
              </a:xfrm>
              <a:prstGeom prst="ellipse">
                <a:avLst/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7" name=""/>
              <p:cNvSpPr/>
              <p:nvPr/>
            </p:nvSpPr>
            <p:spPr>
              <a:xfrm>
                <a:off x="3678120" y="4052880"/>
                <a:ext cx="475920" cy="593640"/>
              </a:xfrm>
              <a:custGeom>
                <a:avLst/>
                <a:gdLst/>
                <a:ahLst/>
                <a:rect l="l" t="t" r="r" b="b"/>
                <a:pathLst>
                  <a:path w="1956" h="2159">
                    <a:moveTo>
                      <a:pt x="0" y="19"/>
                    </a:moveTo>
                    <a:lnTo>
                      <a:pt x="857" y="1063"/>
                    </a:lnTo>
                    <a:lnTo>
                      <a:pt x="879" y="2090"/>
                    </a:lnTo>
                    <a:lnTo>
                      <a:pt x="887" y="2107"/>
                    </a:lnTo>
                    <a:lnTo>
                      <a:pt x="897" y="2123"/>
                    </a:lnTo>
                    <a:lnTo>
                      <a:pt x="906" y="2137"/>
                    </a:lnTo>
                    <a:lnTo>
                      <a:pt x="922" y="2147"/>
                    </a:lnTo>
                    <a:lnTo>
                      <a:pt x="939" y="2156"/>
                    </a:lnTo>
                    <a:lnTo>
                      <a:pt x="962" y="2159"/>
                    </a:lnTo>
                    <a:lnTo>
                      <a:pt x="983" y="2157"/>
                    </a:lnTo>
                    <a:lnTo>
                      <a:pt x="1005" y="2153"/>
                    </a:lnTo>
                    <a:lnTo>
                      <a:pt x="1026" y="2140"/>
                    </a:lnTo>
                    <a:lnTo>
                      <a:pt x="1040" y="2123"/>
                    </a:lnTo>
                    <a:lnTo>
                      <a:pt x="1048" y="2109"/>
                    </a:lnTo>
                    <a:lnTo>
                      <a:pt x="1056" y="2088"/>
                    </a:lnTo>
                    <a:lnTo>
                      <a:pt x="1100" y="1045"/>
                    </a:lnTo>
                    <a:lnTo>
                      <a:pt x="1956" y="0"/>
                    </a:lnTo>
                    <a:lnTo>
                      <a:pt x="1790" y="41"/>
                    </a:lnTo>
                    <a:lnTo>
                      <a:pt x="1531" y="77"/>
                    </a:lnTo>
                    <a:lnTo>
                      <a:pt x="1247" y="98"/>
                    </a:lnTo>
                    <a:lnTo>
                      <a:pt x="962" y="109"/>
                    </a:lnTo>
                    <a:lnTo>
                      <a:pt x="662" y="98"/>
                    </a:lnTo>
                    <a:lnTo>
                      <a:pt x="398" y="77"/>
                    </a:lnTo>
                    <a:lnTo>
                      <a:pt x="178" y="52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8" name=""/>
              <p:cNvSpPr/>
              <p:nvPr/>
            </p:nvSpPr>
            <p:spPr>
              <a:xfrm>
                <a:off x="3758760" y="4173480"/>
                <a:ext cx="307800" cy="474840"/>
              </a:xfrm>
              <a:custGeom>
                <a:avLst/>
                <a:gdLst/>
                <a:ahLst/>
                <a:rect l="l" t="t" r="r" b="b"/>
                <a:pathLst>
                  <a:path w="1264" h="1728">
                    <a:moveTo>
                      <a:pt x="0" y="0"/>
                    </a:moveTo>
                    <a:lnTo>
                      <a:pt x="520" y="624"/>
                    </a:lnTo>
                    <a:lnTo>
                      <a:pt x="531" y="1657"/>
                    </a:lnTo>
                    <a:lnTo>
                      <a:pt x="541" y="1674"/>
                    </a:lnTo>
                    <a:lnTo>
                      <a:pt x="553" y="1688"/>
                    </a:lnTo>
                    <a:lnTo>
                      <a:pt x="564" y="1701"/>
                    </a:lnTo>
                    <a:lnTo>
                      <a:pt x="580" y="1715"/>
                    </a:lnTo>
                    <a:lnTo>
                      <a:pt x="608" y="1723"/>
                    </a:lnTo>
                    <a:lnTo>
                      <a:pt x="632" y="1728"/>
                    </a:lnTo>
                    <a:lnTo>
                      <a:pt x="651" y="1725"/>
                    </a:lnTo>
                    <a:lnTo>
                      <a:pt x="673" y="1720"/>
                    </a:lnTo>
                    <a:lnTo>
                      <a:pt x="694" y="1709"/>
                    </a:lnTo>
                    <a:lnTo>
                      <a:pt x="711" y="1692"/>
                    </a:lnTo>
                    <a:lnTo>
                      <a:pt x="723" y="1669"/>
                    </a:lnTo>
                    <a:lnTo>
                      <a:pt x="730" y="1657"/>
                    </a:lnTo>
                    <a:lnTo>
                      <a:pt x="761" y="605"/>
                    </a:lnTo>
                    <a:lnTo>
                      <a:pt x="126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9" name=""/>
              <p:cNvSpPr/>
              <p:nvPr/>
            </p:nvSpPr>
            <p:spPr>
              <a:xfrm>
                <a:off x="3889080" y="4673520"/>
                <a:ext cx="48960" cy="101520"/>
              </a:xfrm>
              <a:custGeom>
                <a:avLst/>
                <a:gdLst/>
                <a:ahLst/>
                <a:rect l="l" t="t" r="r" b="b"/>
                <a:pathLst>
                  <a:path w="196" h="370">
                    <a:moveTo>
                      <a:pt x="95" y="0"/>
                    </a:moveTo>
                    <a:lnTo>
                      <a:pt x="105" y="58"/>
                    </a:lnTo>
                    <a:lnTo>
                      <a:pt x="111" y="87"/>
                    </a:lnTo>
                    <a:lnTo>
                      <a:pt x="121" y="121"/>
                    </a:lnTo>
                    <a:lnTo>
                      <a:pt x="132" y="141"/>
                    </a:lnTo>
                    <a:lnTo>
                      <a:pt x="147" y="166"/>
                    </a:lnTo>
                    <a:lnTo>
                      <a:pt x="167" y="193"/>
                    </a:lnTo>
                    <a:lnTo>
                      <a:pt x="184" y="220"/>
                    </a:lnTo>
                    <a:lnTo>
                      <a:pt x="192" y="245"/>
                    </a:lnTo>
                    <a:lnTo>
                      <a:pt x="196" y="278"/>
                    </a:lnTo>
                    <a:lnTo>
                      <a:pt x="189" y="307"/>
                    </a:lnTo>
                    <a:lnTo>
                      <a:pt x="178" y="328"/>
                    </a:lnTo>
                    <a:lnTo>
                      <a:pt x="162" y="345"/>
                    </a:lnTo>
                    <a:lnTo>
                      <a:pt x="141" y="361"/>
                    </a:lnTo>
                    <a:lnTo>
                      <a:pt x="121" y="367"/>
                    </a:lnTo>
                    <a:lnTo>
                      <a:pt x="99" y="370"/>
                    </a:lnTo>
                    <a:lnTo>
                      <a:pt x="76" y="367"/>
                    </a:lnTo>
                    <a:lnTo>
                      <a:pt x="54" y="362"/>
                    </a:lnTo>
                    <a:lnTo>
                      <a:pt x="34" y="350"/>
                    </a:lnTo>
                    <a:lnTo>
                      <a:pt x="19" y="334"/>
                    </a:lnTo>
                    <a:lnTo>
                      <a:pt x="8" y="315"/>
                    </a:lnTo>
                    <a:lnTo>
                      <a:pt x="3" y="296"/>
                    </a:lnTo>
                    <a:lnTo>
                      <a:pt x="0" y="272"/>
                    </a:lnTo>
                    <a:lnTo>
                      <a:pt x="5" y="240"/>
                    </a:lnTo>
                    <a:lnTo>
                      <a:pt x="13" y="218"/>
                    </a:lnTo>
                    <a:lnTo>
                      <a:pt x="30" y="190"/>
                    </a:lnTo>
                    <a:lnTo>
                      <a:pt x="49" y="166"/>
                    </a:lnTo>
                    <a:lnTo>
                      <a:pt x="62" y="140"/>
                    </a:lnTo>
                    <a:lnTo>
                      <a:pt x="72" y="119"/>
                    </a:lnTo>
                    <a:lnTo>
                      <a:pt x="81" y="90"/>
                    </a:lnTo>
                    <a:lnTo>
                      <a:pt x="86" y="58"/>
                    </a:lnTo>
                    <a:lnTo>
                      <a:pt x="95" y="0"/>
                    </a:lnTo>
                    <a:close/>
                  </a:path>
                </a:pathLst>
              </a:cu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0" name=""/>
              <p:cNvSpPr/>
              <p:nvPr/>
            </p:nvSpPr>
            <p:spPr>
              <a:xfrm>
                <a:off x="3662280" y="3976560"/>
                <a:ext cx="502560" cy="96840"/>
              </a:xfrm>
              <a:prstGeom prst="ellips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1" name=""/>
              <p:cNvSpPr/>
              <p:nvPr/>
            </p:nvSpPr>
            <p:spPr>
              <a:xfrm>
                <a:off x="3889080" y="4781520"/>
                <a:ext cx="48960" cy="101520"/>
              </a:xfrm>
              <a:custGeom>
                <a:avLst/>
                <a:gdLst/>
                <a:ahLst/>
                <a:rect l="l" t="t" r="r" b="b"/>
                <a:pathLst>
                  <a:path w="196" h="372">
                    <a:moveTo>
                      <a:pt x="95" y="0"/>
                    </a:moveTo>
                    <a:lnTo>
                      <a:pt x="105" y="60"/>
                    </a:lnTo>
                    <a:lnTo>
                      <a:pt x="111" y="88"/>
                    </a:lnTo>
                    <a:lnTo>
                      <a:pt x="121" y="122"/>
                    </a:lnTo>
                    <a:lnTo>
                      <a:pt x="132" y="143"/>
                    </a:lnTo>
                    <a:lnTo>
                      <a:pt x="147" y="168"/>
                    </a:lnTo>
                    <a:lnTo>
                      <a:pt x="167" y="195"/>
                    </a:lnTo>
                    <a:lnTo>
                      <a:pt x="184" y="221"/>
                    </a:lnTo>
                    <a:lnTo>
                      <a:pt x="192" y="247"/>
                    </a:lnTo>
                    <a:lnTo>
                      <a:pt x="196" y="279"/>
                    </a:lnTo>
                    <a:lnTo>
                      <a:pt x="189" y="308"/>
                    </a:lnTo>
                    <a:lnTo>
                      <a:pt x="178" y="328"/>
                    </a:lnTo>
                    <a:lnTo>
                      <a:pt x="162" y="345"/>
                    </a:lnTo>
                    <a:lnTo>
                      <a:pt x="141" y="361"/>
                    </a:lnTo>
                    <a:lnTo>
                      <a:pt x="121" y="369"/>
                    </a:lnTo>
                    <a:lnTo>
                      <a:pt x="99" y="372"/>
                    </a:lnTo>
                    <a:lnTo>
                      <a:pt x="76" y="369"/>
                    </a:lnTo>
                    <a:lnTo>
                      <a:pt x="54" y="363"/>
                    </a:lnTo>
                    <a:lnTo>
                      <a:pt x="34" y="351"/>
                    </a:lnTo>
                    <a:lnTo>
                      <a:pt x="19" y="336"/>
                    </a:lnTo>
                    <a:lnTo>
                      <a:pt x="8" y="317"/>
                    </a:lnTo>
                    <a:lnTo>
                      <a:pt x="3" y="298"/>
                    </a:lnTo>
                    <a:lnTo>
                      <a:pt x="0" y="272"/>
                    </a:lnTo>
                    <a:lnTo>
                      <a:pt x="5" y="242"/>
                    </a:lnTo>
                    <a:lnTo>
                      <a:pt x="13" y="219"/>
                    </a:lnTo>
                    <a:lnTo>
                      <a:pt x="30" y="191"/>
                    </a:lnTo>
                    <a:lnTo>
                      <a:pt x="49" y="168"/>
                    </a:lnTo>
                    <a:lnTo>
                      <a:pt x="62" y="141"/>
                    </a:lnTo>
                    <a:lnTo>
                      <a:pt x="72" y="120"/>
                    </a:lnTo>
                    <a:lnTo>
                      <a:pt x="81" y="90"/>
                    </a:lnTo>
                    <a:lnTo>
                      <a:pt x="86" y="60"/>
                    </a:lnTo>
                    <a:lnTo>
                      <a:pt x="95" y="0"/>
                    </a:lnTo>
                    <a:close/>
                  </a:path>
                </a:pathLst>
              </a:cu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2" name=""/>
              <p:cNvSpPr/>
              <p:nvPr/>
            </p:nvSpPr>
            <p:spPr>
              <a:xfrm>
                <a:off x="3755880" y="4135320"/>
                <a:ext cx="315360" cy="61920"/>
              </a:xfrm>
              <a:prstGeom prst="ellipse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3" name=""/>
              <p:cNvSpPr/>
              <p:nvPr/>
            </p:nvSpPr>
            <p:spPr>
              <a:xfrm>
                <a:off x="3892320" y="4608360"/>
                <a:ext cx="41040" cy="47880"/>
              </a:xfrm>
              <a:prstGeom prst="ellipse">
                <a:avLst/>
              </a:prstGeom>
              <a:solidFill>
                <a:srgbClr val="009999"/>
              </a:solidFill>
              <a:ln w="1764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564" name=""/>
            <p:cNvSpPr/>
            <p:nvPr/>
          </p:nvSpPr>
          <p:spPr>
            <a:xfrm>
              <a:off x="3211560" y="3642480"/>
              <a:ext cx="1695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1 100 mmol/d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5" name=""/>
            <p:cNvSpPr/>
            <p:nvPr/>
          </p:nvSpPr>
          <p:spPr>
            <a:xfrm>
              <a:off x="3076560" y="-15480"/>
              <a:ext cx="10429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400" spc="-1" strike="noStrike">
                  <a:solidFill>
                    <a:srgbClr val="000000"/>
                  </a:solidFill>
                  <a:latin typeface="Times New Roman"/>
                </a:rPr>
                <a:t>SO</a:t>
              </a:r>
              <a:r>
                <a:rPr b="1" lang="cs-CZ" sz="1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1" lang="cs-CZ" sz="14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cs-CZ" sz="1400" spc="-1" strike="noStrike" baseline="40000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6" name=""/>
            <p:cNvSpPr/>
            <p:nvPr/>
          </p:nvSpPr>
          <p:spPr>
            <a:xfrm>
              <a:off x="2600280" y="1062000"/>
              <a:ext cx="107964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567" name=""/>
            <p:cNvGrpSpPr/>
            <p:nvPr/>
          </p:nvGrpSpPr>
          <p:grpSpPr>
            <a:xfrm>
              <a:off x="3795840" y="839880"/>
              <a:ext cx="523440" cy="561240"/>
              <a:chOff x="3795840" y="839880"/>
              <a:chExt cx="523440" cy="561240"/>
            </a:xfrm>
          </p:grpSpPr>
          <p:grpSp>
            <p:nvGrpSpPr>
              <p:cNvPr id="10568" name=""/>
              <p:cNvGrpSpPr/>
              <p:nvPr/>
            </p:nvGrpSpPr>
            <p:grpSpPr>
              <a:xfrm>
                <a:off x="3795840" y="1220040"/>
                <a:ext cx="407520" cy="181080"/>
                <a:chOff x="3795840" y="1220040"/>
                <a:chExt cx="407520" cy="181080"/>
              </a:xfrm>
            </p:grpSpPr>
            <p:grpSp>
              <p:nvGrpSpPr>
                <p:cNvPr id="10569" name=""/>
                <p:cNvGrpSpPr/>
                <p:nvPr/>
              </p:nvGrpSpPr>
              <p:grpSpPr>
                <a:xfrm>
                  <a:off x="3795840" y="1264680"/>
                  <a:ext cx="407520" cy="136440"/>
                  <a:chOff x="3795840" y="1264680"/>
                  <a:chExt cx="407520" cy="136440"/>
                </a:xfrm>
              </p:grpSpPr>
              <p:grpSp>
                <p:nvGrpSpPr>
                  <p:cNvPr id="10570" name=""/>
                  <p:cNvGrpSpPr/>
                  <p:nvPr/>
                </p:nvGrpSpPr>
                <p:grpSpPr>
                  <a:xfrm>
                    <a:off x="3796920" y="1264680"/>
                    <a:ext cx="403560" cy="136440"/>
                    <a:chOff x="3796920" y="1264680"/>
                    <a:chExt cx="403560" cy="136440"/>
                  </a:xfrm>
                </p:grpSpPr>
                <p:sp>
                  <p:nvSpPr>
                    <p:cNvPr id="10571" name=""/>
                    <p:cNvSpPr/>
                    <p:nvPr/>
                  </p:nvSpPr>
                  <p:spPr>
                    <a:xfrm>
                      <a:off x="3796920" y="1308600"/>
                      <a:ext cx="403560" cy="92520"/>
                    </a:xfrm>
                    <a:prstGeom prst="ellipse">
                      <a:avLst/>
                    </a:prstGeom>
                    <a:solidFill>
                      <a:srgbClr val="e0e0e0"/>
                    </a:solidFill>
                    <a:ln w="64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9080" bIns="19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572" name=""/>
                    <p:cNvSpPr/>
                    <p:nvPr/>
                  </p:nvSpPr>
                  <p:spPr>
                    <a:xfrm>
                      <a:off x="3796920" y="1264680"/>
                      <a:ext cx="403560" cy="90360"/>
                    </a:xfrm>
                    <a:prstGeom prst="rect">
                      <a:avLst/>
                    </a:prstGeom>
                    <a:solidFill>
                      <a:srgbClr val="e0e0e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3560" bIns="43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0573" name=""/>
                  <p:cNvSpPr/>
                  <p:nvPr/>
                </p:nvSpPr>
                <p:spPr>
                  <a:xfrm flipV="1">
                    <a:off x="3795840" y="1265760"/>
                    <a:ext cx="1080" cy="9504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74" name=""/>
                  <p:cNvSpPr/>
                  <p:nvPr/>
                </p:nvSpPr>
                <p:spPr>
                  <a:xfrm>
                    <a:off x="4202640" y="1268640"/>
                    <a:ext cx="720" cy="9144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4640" bIns="44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575" name=""/>
                <p:cNvGrpSpPr/>
                <p:nvPr/>
              </p:nvGrpSpPr>
              <p:grpSpPr>
                <a:xfrm>
                  <a:off x="3796920" y="1220040"/>
                  <a:ext cx="403560" cy="91440"/>
                  <a:chOff x="3796920" y="1220040"/>
                  <a:chExt cx="403560" cy="91440"/>
                </a:xfrm>
              </p:grpSpPr>
              <p:sp>
                <p:nvSpPr>
                  <p:cNvPr id="10576" name=""/>
                  <p:cNvSpPr/>
                  <p:nvPr/>
                </p:nvSpPr>
                <p:spPr>
                  <a:xfrm>
                    <a:off x="3796920" y="1220040"/>
                    <a:ext cx="403560" cy="91440"/>
                  </a:xfrm>
                  <a:prstGeom prst="ellipse">
                    <a:avLst/>
                  </a:prstGeom>
                  <a:solidFill>
                    <a:srgbClr val="e0e0e0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77" name=""/>
                  <p:cNvSpPr/>
                  <p:nvPr/>
                </p:nvSpPr>
                <p:spPr>
                  <a:xfrm>
                    <a:off x="3809160" y="1233360"/>
                    <a:ext cx="378720" cy="7128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0" bIns="3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578" name=""/>
              <p:cNvGrpSpPr/>
              <p:nvPr/>
            </p:nvGrpSpPr>
            <p:grpSpPr>
              <a:xfrm>
                <a:off x="3844440" y="839880"/>
                <a:ext cx="474840" cy="466560"/>
                <a:chOff x="3844440" y="839880"/>
                <a:chExt cx="474840" cy="466560"/>
              </a:xfrm>
            </p:grpSpPr>
            <p:sp>
              <p:nvSpPr>
                <p:cNvPr id="10579" name=""/>
                <p:cNvSpPr/>
                <p:nvPr/>
              </p:nvSpPr>
              <p:spPr>
                <a:xfrm>
                  <a:off x="3862800" y="1188360"/>
                  <a:ext cx="278640" cy="118080"/>
                </a:xfrm>
                <a:prstGeom prst="ellipse">
                  <a:avLst/>
                </a:prstGeom>
                <a:solidFill>
                  <a:srgbClr val="c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80" name=""/>
                <p:cNvSpPr/>
                <p:nvPr/>
              </p:nvSpPr>
              <p:spPr>
                <a:xfrm>
                  <a:off x="3844440" y="839880"/>
                  <a:ext cx="474840" cy="424800"/>
                </a:xfrm>
                <a:custGeom>
                  <a:avLst/>
                  <a:gdLst/>
                  <a:ahLst/>
                  <a:rect l="l" t="t" r="r" b="b"/>
                  <a:pathLst>
                    <a:path w="1381" h="1018">
                      <a:moveTo>
                        <a:pt x="54" y="976"/>
                      </a:moveTo>
                      <a:lnTo>
                        <a:pt x="31" y="898"/>
                      </a:lnTo>
                      <a:lnTo>
                        <a:pt x="18" y="832"/>
                      </a:lnTo>
                      <a:lnTo>
                        <a:pt x="9" y="772"/>
                      </a:lnTo>
                      <a:lnTo>
                        <a:pt x="6" y="738"/>
                      </a:lnTo>
                      <a:lnTo>
                        <a:pt x="1" y="688"/>
                      </a:lnTo>
                      <a:lnTo>
                        <a:pt x="0" y="607"/>
                      </a:lnTo>
                      <a:lnTo>
                        <a:pt x="10" y="542"/>
                      </a:lnTo>
                      <a:lnTo>
                        <a:pt x="21" y="491"/>
                      </a:lnTo>
                      <a:lnTo>
                        <a:pt x="47" y="444"/>
                      </a:lnTo>
                      <a:lnTo>
                        <a:pt x="82" y="396"/>
                      </a:lnTo>
                      <a:lnTo>
                        <a:pt x="143" y="353"/>
                      </a:lnTo>
                      <a:lnTo>
                        <a:pt x="189" y="333"/>
                      </a:lnTo>
                      <a:lnTo>
                        <a:pt x="240" y="322"/>
                      </a:lnTo>
                      <a:lnTo>
                        <a:pt x="279" y="299"/>
                      </a:lnTo>
                      <a:lnTo>
                        <a:pt x="345" y="257"/>
                      </a:lnTo>
                      <a:lnTo>
                        <a:pt x="305" y="304"/>
                      </a:lnTo>
                      <a:lnTo>
                        <a:pt x="353" y="292"/>
                      </a:lnTo>
                      <a:lnTo>
                        <a:pt x="387" y="283"/>
                      </a:lnTo>
                      <a:lnTo>
                        <a:pt x="436" y="280"/>
                      </a:lnTo>
                      <a:lnTo>
                        <a:pt x="426" y="222"/>
                      </a:lnTo>
                      <a:lnTo>
                        <a:pt x="432" y="170"/>
                      </a:lnTo>
                      <a:lnTo>
                        <a:pt x="445" y="130"/>
                      </a:lnTo>
                      <a:lnTo>
                        <a:pt x="483" y="82"/>
                      </a:lnTo>
                      <a:lnTo>
                        <a:pt x="529" y="45"/>
                      </a:lnTo>
                      <a:lnTo>
                        <a:pt x="617" y="0"/>
                      </a:lnTo>
                      <a:lnTo>
                        <a:pt x="548" y="88"/>
                      </a:lnTo>
                      <a:lnTo>
                        <a:pt x="610" y="69"/>
                      </a:lnTo>
                      <a:lnTo>
                        <a:pt x="659" y="64"/>
                      </a:lnTo>
                      <a:lnTo>
                        <a:pt x="726" y="64"/>
                      </a:lnTo>
                      <a:lnTo>
                        <a:pt x="629" y="104"/>
                      </a:lnTo>
                      <a:lnTo>
                        <a:pt x="702" y="104"/>
                      </a:lnTo>
                      <a:lnTo>
                        <a:pt x="799" y="69"/>
                      </a:lnTo>
                      <a:lnTo>
                        <a:pt x="856" y="54"/>
                      </a:lnTo>
                      <a:lnTo>
                        <a:pt x="949" y="45"/>
                      </a:lnTo>
                      <a:lnTo>
                        <a:pt x="1018" y="38"/>
                      </a:lnTo>
                      <a:lnTo>
                        <a:pt x="1087" y="45"/>
                      </a:lnTo>
                      <a:lnTo>
                        <a:pt x="1199" y="57"/>
                      </a:lnTo>
                      <a:lnTo>
                        <a:pt x="1080" y="73"/>
                      </a:lnTo>
                      <a:lnTo>
                        <a:pt x="1039" y="101"/>
                      </a:lnTo>
                      <a:lnTo>
                        <a:pt x="1015" y="135"/>
                      </a:lnTo>
                      <a:lnTo>
                        <a:pt x="1083" y="114"/>
                      </a:lnTo>
                      <a:lnTo>
                        <a:pt x="1168" y="88"/>
                      </a:lnTo>
                      <a:lnTo>
                        <a:pt x="1253" y="78"/>
                      </a:lnTo>
                      <a:lnTo>
                        <a:pt x="1312" y="76"/>
                      </a:lnTo>
                      <a:lnTo>
                        <a:pt x="1381" y="92"/>
                      </a:lnTo>
                      <a:lnTo>
                        <a:pt x="1309" y="107"/>
                      </a:lnTo>
                      <a:lnTo>
                        <a:pt x="1246" y="126"/>
                      </a:lnTo>
                      <a:lnTo>
                        <a:pt x="1184" y="151"/>
                      </a:lnTo>
                      <a:lnTo>
                        <a:pt x="1139" y="173"/>
                      </a:lnTo>
                      <a:lnTo>
                        <a:pt x="1077" y="230"/>
                      </a:lnTo>
                      <a:lnTo>
                        <a:pt x="1031" y="283"/>
                      </a:lnTo>
                      <a:lnTo>
                        <a:pt x="1000" y="348"/>
                      </a:lnTo>
                      <a:lnTo>
                        <a:pt x="1007" y="423"/>
                      </a:lnTo>
                      <a:lnTo>
                        <a:pt x="1014" y="495"/>
                      </a:lnTo>
                      <a:lnTo>
                        <a:pt x="1015" y="550"/>
                      </a:lnTo>
                      <a:lnTo>
                        <a:pt x="1006" y="621"/>
                      </a:lnTo>
                      <a:lnTo>
                        <a:pt x="984" y="671"/>
                      </a:lnTo>
                      <a:lnTo>
                        <a:pt x="946" y="696"/>
                      </a:lnTo>
                      <a:lnTo>
                        <a:pt x="906" y="709"/>
                      </a:lnTo>
                      <a:lnTo>
                        <a:pt x="850" y="713"/>
                      </a:lnTo>
                      <a:lnTo>
                        <a:pt x="868" y="744"/>
                      </a:lnTo>
                      <a:lnTo>
                        <a:pt x="887" y="773"/>
                      </a:lnTo>
                      <a:lnTo>
                        <a:pt x="903" y="819"/>
                      </a:lnTo>
                      <a:lnTo>
                        <a:pt x="906" y="859"/>
                      </a:lnTo>
                      <a:lnTo>
                        <a:pt x="896" y="903"/>
                      </a:lnTo>
                      <a:lnTo>
                        <a:pt x="861" y="990"/>
                      </a:lnTo>
                      <a:lnTo>
                        <a:pt x="795" y="1018"/>
                      </a:lnTo>
                      <a:lnTo>
                        <a:pt x="54" y="976"/>
                      </a:lnTo>
                      <a:close/>
                    </a:path>
                  </a:pathLst>
                </a:custGeom>
                <a:solidFill>
                  <a:srgbClr val="c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81" name=""/>
                <p:cNvSpPr/>
                <p:nvPr/>
              </p:nvSpPr>
              <p:spPr>
                <a:xfrm>
                  <a:off x="3885480" y="1130760"/>
                  <a:ext cx="252000" cy="170280"/>
                </a:xfrm>
                <a:prstGeom prst="ellipse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82" name=""/>
                <p:cNvSpPr/>
                <p:nvPr/>
              </p:nvSpPr>
              <p:spPr>
                <a:xfrm>
                  <a:off x="3870000" y="863280"/>
                  <a:ext cx="400680" cy="422640"/>
                </a:xfrm>
                <a:custGeom>
                  <a:avLst/>
                  <a:gdLst/>
                  <a:ahLst/>
                  <a:rect l="l" t="t" r="r" b="b"/>
                  <a:pathLst>
                    <a:path w="1164" h="1010">
                      <a:moveTo>
                        <a:pt x="50" y="869"/>
                      </a:moveTo>
                      <a:lnTo>
                        <a:pt x="31" y="802"/>
                      </a:lnTo>
                      <a:lnTo>
                        <a:pt x="12" y="730"/>
                      </a:lnTo>
                      <a:lnTo>
                        <a:pt x="0" y="668"/>
                      </a:lnTo>
                      <a:lnTo>
                        <a:pt x="0" y="579"/>
                      </a:lnTo>
                      <a:lnTo>
                        <a:pt x="7" y="535"/>
                      </a:lnTo>
                      <a:lnTo>
                        <a:pt x="16" y="491"/>
                      </a:lnTo>
                      <a:lnTo>
                        <a:pt x="41" y="441"/>
                      </a:lnTo>
                      <a:lnTo>
                        <a:pt x="72" y="393"/>
                      </a:lnTo>
                      <a:lnTo>
                        <a:pt x="110" y="361"/>
                      </a:lnTo>
                      <a:lnTo>
                        <a:pt x="147" y="332"/>
                      </a:lnTo>
                      <a:lnTo>
                        <a:pt x="197" y="318"/>
                      </a:lnTo>
                      <a:lnTo>
                        <a:pt x="261" y="311"/>
                      </a:lnTo>
                      <a:lnTo>
                        <a:pt x="312" y="304"/>
                      </a:lnTo>
                      <a:lnTo>
                        <a:pt x="381" y="299"/>
                      </a:lnTo>
                      <a:lnTo>
                        <a:pt x="423" y="292"/>
                      </a:lnTo>
                      <a:lnTo>
                        <a:pt x="404" y="249"/>
                      </a:lnTo>
                      <a:lnTo>
                        <a:pt x="385" y="205"/>
                      </a:lnTo>
                      <a:lnTo>
                        <a:pt x="378" y="158"/>
                      </a:lnTo>
                      <a:lnTo>
                        <a:pt x="381" y="113"/>
                      </a:lnTo>
                      <a:lnTo>
                        <a:pt x="397" y="69"/>
                      </a:lnTo>
                      <a:lnTo>
                        <a:pt x="419" y="40"/>
                      </a:lnTo>
                      <a:lnTo>
                        <a:pt x="463" y="0"/>
                      </a:lnTo>
                      <a:lnTo>
                        <a:pt x="438" y="40"/>
                      </a:lnTo>
                      <a:lnTo>
                        <a:pt x="428" y="73"/>
                      </a:lnTo>
                      <a:lnTo>
                        <a:pt x="457" y="50"/>
                      </a:lnTo>
                      <a:lnTo>
                        <a:pt x="494" y="40"/>
                      </a:lnTo>
                      <a:lnTo>
                        <a:pt x="542" y="35"/>
                      </a:lnTo>
                      <a:lnTo>
                        <a:pt x="497" y="47"/>
                      </a:lnTo>
                      <a:lnTo>
                        <a:pt x="480" y="66"/>
                      </a:lnTo>
                      <a:lnTo>
                        <a:pt x="470" y="97"/>
                      </a:lnTo>
                      <a:lnTo>
                        <a:pt x="473" y="126"/>
                      </a:lnTo>
                      <a:lnTo>
                        <a:pt x="497" y="85"/>
                      </a:lnTo>
                      <a:lnTo>
                        <a:pt x="525" y="69"/>
                      </a:lnTo>
                      <a:lnTo>
                        <a:pt x="563" y="59"/>
                      </a:lnTo>
                      <a:lnTo>
                        <a:pt x="627" y="59"/>
                      </a:lnTo>
                      <a:lnTo>
                        <a:pt x="696" y="44"/>
                      </a:lnTo>
                      <a:lnTo>
                        <a:pt x="736" y="35"/>
                      </a:lnTo>
                      <a:lnTo>
                        <a:pt x="802" y="19"/>
                      </a:lnTo>
                      <a:lnTo>
                        <a:pt x="868" y="9"/>
                      </a:lnTo>
                      <a:lnTo>
                        <a:pt x="945" y="9"/>
                      </a:lnTo>
                      <a:lnTo>
                        <a:pt x="977" y="16"/>
                      </a:lnTo>
                      <a:lnTo>
                        <a:pt x="948" y="35"/>
                      </a:lnTo>
                      <a:lnTo>
                        <a:pt x="910" y="73"/>
                      </a:lnTo>
                      <a:lnTo>
                        <a:pt x="889" y="107"/>
                      </a:lnTo>
                      <a:lnTo>
                        <a:pt x="874" y="126"/>
                      </a:lnTo>
                      <a:lnTo>
                        <a:pt x="852" y="170"/>
                      </a:lnTo>
                      <a:lnTo>
                        <a:pt x="917" y="120"/>
                      </a:lnTo>
                      <a:lnTo>
                        <a:pt x="970" y="92"/>
                      </a:lnTo>
                      <a:lnTo>
                        <a:pt x="1045" y="66"/>
                      </a:lnTo>
                      <a:lnTo>
                        <a:pt x="1124" y="54"/>
                      </a:lnTo>
                      <a:lnTo>
                        <a:pt x="1164" y="50"/>
                      </a:lnTo>
                      <a:lnTo>
                        <a:pt x="1095" y="73"/>
                      </a:lnTo>
                      <a:lnTo>
                        <a:pt x="1026" y="101"/>
                      </a:lnTo>
                      <a:lnTo>
                        <a:pt x="974" y="151"/>
                      </a:lnTo>
                      <a:lnTo>
                        <a:pt x="905" y="239"/>
                      </a:lnTo>
                      <a:lnTo>
                        <a:pt x="868" y="323"/>
                      </a:lnTo>
                      <a:lnTo>
                        <a:pt x="850" y="393"/>
                      </a:lnTo>
                      <a:lnTo>
                        <a:pt x="874" y="374"/>
                      </a:lnTo>
                      <a:lnTo>
                        <a:pt x="889" y="349"/>
                      </a:lnTo>
                      <a:lnTo>
                        <a:pt x="901" y="318"/>
                      </a:lnTo>
                      <a:lnTo>
                        <a:pt x="905" y="368"/>
                      </a:lnTo>
                      <a:lnTo>
                        <a:pt x="914" y="427"/>
                      </a:lnTo>
                      <a:lnTo>
                        <a:pt x="914" y="472"/>
                      </a:lnTo>
                      <a:lnTo>
                        <a:pt x="905" y="531"/>
                      </a:lnTo>
                      <a:lnTo>
                        <a:pt x="882" y="585"/>
                      </a:lnTo>
                      <a:lnTo>
                        <a:pt x="850" y="611"/>
                      </a:lnTo>
                      <a:lnTo>
                        <a:pt x="805" y="620"/>
                      </a:lnTo>
                      <a:lnTo>
                        <a:pt x="762" y="620"/>
                      </a:lnTo>
                      <a:lnTo>
                        <a:pt x="686" y="620"/>
                      </a:lnTo>
                      <a:lnTo>
                        <a:pt x="743" y="670"/>
                      </a:lnTo>
                      <a:lnTo>
                        <a:pt x="771" y="711"/>
                      </a:lnTo>
                      <a:lnTo>
                        <a:pt x="793" y="776"/>
                      </a:lnTo>
                      <a:lnTo>
                        <a:pt x="796" y="810"/>
                      </a:lnTo>
                      <a:lnTo>
                        <a:pt x="790" y="838"/>
                      </a:lnTo>
                      <a:lnTo>
                        <a:pt x="783" y="865"/>
                      </a:lnTo>
                      <a:lnTo>
                        <a:pt x="752" y="914"/>
                      </a:lnTo>
                      <a:lnTo>
                        <a:pt x="670" y="923"/>
                      </a:lnTo>
                      <a:lnTo>
                        <a:pt x="620" y="967"/>
                      </a:lnTo>
                      <a:lnTo>
                        <a:pt x="535" y="983"/>
                      </a:lnTo>
                      <a:lnTo>
                        <a:pt x="419" y="1010"/>
                      </a:lnTo>
                      <a:lnTo>
                        <a:pt x="50" y="869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83" name=""/>
                <p:cNvSpPr/>
                <p:nvPr/>
              </p:nvSpPr>
              <p:spPr>
                <a:xfrm>
                  <a:off x="3850200" y="973800"/>
                  <a:ext cx="81720" cy="220680"/>
                </a:xfrm>
                <a:custGeom>
                  <a:avLst/>
                  <a:gdLst/>
                  <a:ahLst/>
                  <a:rect l="l" t="t" r="r" b="b"/>
                  <a:pathLst>
                    <a:path w="239" h="527">
                      <a:moveTo>
                        <a:pt x="239" y="0"/>
                      </a:moveTo>
                      <a:lnTo>
                        <a:pt x="183" y="26"/>
                      </a:lnTo>
                      <a:lnTo>
                        <a:pt x="127" y="50"/>
                      </a:lnTo>
                      <a:lnTo>
                        <a:pt x="75" y="94"/>
                      </a:lnTo>
                      <a:lnTo>
                        <a:pt x="38" y="147"/>
                      </a:lnTo>
                      <a:lnTo>
                        <a:pt x="22" y="190"/>
                      </a:lnTo>
                      <a:lnTo>
                        <a:pt x="7" y="242"/>
                      </a:lnTo>
                      <a:lnTo>
                        <a:pt x="0" y="308"/>
                      </a:lnTo>
                      <a:lnTo>
                        <a:pt x="3" y="387"/>
                      </a:lnTo>
                      <a:lnTo>
                        <a:pt x="19" y="426"/>
                      </a:lnTo>
                      <a:lnTo>
                        <a:pt x="38" y="473"/>
                      </a:lnTo>
                      <a:lnTo>
                        <a:pt x="60" y="527"/>
                      </a:lnTo>
                      <a:lnTo>
                        <a:pt x="41" y="449"/>
                      </a:lnTo>
                      <a:lnTo>
                        <a:pt x="26" y="380"/>
                      </a:lnTo>
                      <a:lnTo>
                        <a:pt x="29" y="304"/>
                      </a:lnTo>
                      <a:lnTo>
                        <a:pt x="48" y="213"/>
                      </a:lnTo>
                      <a:lnTo>
                        <a:pt x="84" y="130"/>
                      </a:lnTo>
                      <a:lnTo>
                        <a:pt x="113" y="94"/>
                      </a:lnTo>
                      <a:lnTo>
                        <a:pt x="144" y="66"/>
                      </a:lnTo>
                      <a:lnTo>
                        <a:pt x="169" y="44"/>
                      </a:lnTo>
                      <a:lnTo>
                        <a:pt x="239" y="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84" name=""/>
                <p:cNvSpPr/>
                <p:nvPr/>
              </p:nvSpPr>
              <p:spPr>
                <a:xfrm>
                  <a:off x="4036320" y="896040"/>
                  <a:ext cx="43200" cy="66240"/>
                </a:xfrm>
                <a:custGeom>
                  <a:avLst/>
                  <a:gdLst/>
                  <a:ahLst/>
                  <a:rect l="l" t="t" r="r" b="b"/>
                  <a:pathLst>
                    <a:path w="125" h="158">
                      <a:moveTo>
                        <a:pt x="125" y="0"/>
                      </a:moveTo>
                      <a:lnTo>
                        <a:pt x="64" y="10"/>
                      </a:lnTo>
                      <a:lnTo>
                        <a:pt x="28" y="23"/>
                      </a:lnTo>
                      <a:lnTo>
                        <a:pt x="12" y="41"/>
                      </a:lnTo>
                      <a:lnTo>
                        <a:pt x="5" y="56"/>
                      </a:lnTo>
                      <a:lnTo>
                        <a:pt x="0" y="88"/>
                      </a:lnTo>
                      <a:lnTo>
                        <a:pt x="0" y="121"/>
                      </a:lnTo>
                      <a:lnTo>
                        <a:pt x="2" y="158"/>
                      </a:lnTo>
                      <a:lnTo>
                        <a:pt x="12" y="79"/>
                      </a:lnTo>
                      <a:lnTo>
                        <a:pt x="32" y="46"/>
                      </a:lnTo>
                      <a:lnTo>
                        <a:pt x="51" y="33"/>
                      </a:lnTo>
                      <a:lnTo>
                        <a:pt x="125" y="0"/>
                      </a:lnTo>
                      <a:close/>
                    </a:path>
                  </a:pathLst>
                </a:custGeom>
                <a:solidFill>
                  <a:srgbClr val="c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440" bIns="19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85" name=""/>
                <p:cNvSpPr/>
                <p:nvPr/>
              </p:nvSpPr>
              <p:spPr>
                <a:xfrm>
                  <a:off x="4105440" y="1026720"/>
                  <a:ext cx="71280" cy="86400"/>
                </a:xfrm>
                <a:custGeom>
                  <a:avLst/>
                  <a:gdLst/>
                  <a:ahLst/>
                  <a:rect l="l" t="t" r="r" b="b"/>
                  <a:pathLst>
                    <a:path w="206" h="205">
                      <a:moveTo>
                        <a:pt x="204" y="0"/>
                      </a:moveTo>
                      <a:lnTo>
                        <a:pt x="206" y="52"/>
                      </a:lnTo>
                      <a:lnTo>
                        <a:pt x="204" y="106"/>
                      </a:lnTo>
                      <a:lnTo>
                        <a:pt x="185" y="158"/>
                      </a:lnTo>
                      <a:lnTo>
                        <a:pt x="163" y="186"/>
                      </a:lnTo>
                      <a:lnTo>
                        <a:pt x="136" y="200"/>
                      </a:lnTo>
                      <a:lnTo>
                        <a:pt x="82" y="202"/>
                      </a:lnTo>
                      <a:lnTo>
                        <a:pt x="34" y="205"/>
                      </a:lnTo>
                      <a:lnTo>
                        <a:pt x="0" y="202"/>
                      </a:lnTo>
                      <a:lnTo>
                        <a:pt x="24" y="196"/>
                      </a:lnTo>
                      <a:lnTo>
                        <a:pt x="63" y="186"/>
                      </a:lnTo>
                      <a:lnTo>
                        <a:pt x="108" y="165"/>
                      </a:lnTo>
                      <a:lnTo>
                        <a:pt x="146" y="128"/>
                      </a:lnTo>
                      <a:lnTo>
                        <a:pt x="173" y="81"/>
                      </a:lnTo>
                      <a:lnTo>
                        <a:pt x="185" y="52"/>
                      </a:lnTo>
                      <a:lnTo>
                        <a:pt x="204" y="0"/>
                      </a:lnTo>
                      <a:close/>
                    </a:path>
                  </a:pathLst>
                </a:custGeom>
                <a:solidFill>
                  <a:srgbClr val="c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0" bIns="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86" name=""/>
                <p:cNvSpPr/>
                <p:nvPr/>
              </p:nvSpPr>
              <p:spPr>
                <a:xfrm>
                  <a:off x="3885480" y="1011600"/>
                  <a:ext cx="61920" cy="178920"/>
                </a:xfrm>
                <a:custGeom>
                  <a:avLst/>
                  <a:gdLst/>
                  <a:ahLst/>
                  <a:rect l="l" t="t" r="r" b="b"/>
                  <a:pathLst>
                    <a:path w="182" h="430">
                      <a:moveTo>
                        <a:pt x="182" y="0"/>
                      </a:moveTo>
                      <a:lnTo>
                        <a:pt x="120" y="16"/>
                      </a:lnTo>
                      <a:lnTo>
                        <a:pt x="54" y="54"/>
                      </a:lnTo>
                      <a:lnTo>
                        <a:pt x="27" y="89"/>
                      </a:lnTo>
                      <a:lnTo>
                        <a:pt x="12" y="125"/>
                      </a:lnTo>
                      <a:lnTo>
                        <a:pt x="2" y="178"/>
                      </a:lnTo>
                      <a:lnTo>
                        <a:pt x="0" y="220"/>
                      </a:lnTo>
                      <a:lnTo>
                        <a:pt x="0" y="254"/>
                      </a:lnTo>
                      <a:lnTo>
                        <a:pt x="12" y="345"/>
                      </a:lnTo>
                      <a:lnTo>
                        <a:pt x="33" y="430"/>
                      </a:lnTo>
                      <a:lnTo>
                        <a:pt x="27" y="273"/>
                      </a:lnTo>
                      <a:lnTo>
                        <a:pt x="36" y="213"/>
                      </a:lnTo>
                      <a:lnTo>
                        <a:pt x="54" y="154"/>
                      </a:lnTo>
                      <a:lnTo>
                        <a:pt x="82" y="101"/>
                      </a:lnTo>
                      <a:lnTo>
                        <a:pt x="101" y="70"/>
                      </a:lnTo>
                      <a:lnTo>
                        <a:pt x="129" y="42"/>
                      </a:lnTo>
                      <a:lnTo>
                        <a:pt x="182" y="0"/>
                      </a:lnTo>
                      <a:close/>
                    </a:path>
                  </a:pathLst>
                </a:custGeom>
                <a:solidFill>
                  <a:srgbClr val="c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87" name=""/>
                <p:cNvSpPr/>
                <p:nvPr/>
              </p:nvSpPr>
              <p:spPr>
                <a:xfrm>
                  <a:off x="4048560" y="878400"/>
                  <a:ext cx="122760" cy="111600"/>
                </a:xfrm>
                <a:custGeom>
                  <a:avLst/>
                  <a:gdLst/>
                  <a:ahLst/>
                  <a:rect l="l" t="t" r="r" b="b"/>
                  <a:pathLst>
                    <a:path w="356" h="268">
                      <a:moveTo>
                        <a:pt x="356" y="0"/>
                      </a:moveTo>
                      <a:lnTo>
                        <a:pt x="295" y="5"/>
                      </a:lnTo>
                      <a:lnTo>
                        <a:pt x="256" y="15"/>
                      </a:lnTo>
                      <a:lnTo>
                        <a:pt x="225" y="31"/>
                      </a:lnTo>
                      <a:lnTo>
                        <a:pt x="203" y="47"/>
                      </a:lnTo>
                      <a:lnTo>
                        <a:pt x="175" y="70"/>
                      </a:lnTo>
                      <a:lnTo>
                        <a:pt x="149" y="115"/>
                      </a:lnTo>
                      <a:lnTo>
                        <a:pt x="149" y="74"/>
                      </a:lnTo>
                      <a:lnTo>
                        <a:pt x="156" y="50"/>
                      </a:lnTo>
                      <a:lnTo>
                        <a:pt x="165" y="38"/>
                      </a:lnTo>
                      <a:lnTo>
                        <a:pt x="140" y="53"/>
                      </a:lnTo>
                      <a:lnTo>
                        <a:pt x="121" y="77"/>
                      </a:lnTo>
                      <a:lnTo>
                        <a:pt x="118" y="112"/>
                      </a:lnTo>
                      <a:lnTo>
                        <a:pt x="115" y="134"/>
                      </a:lnTo>
                      <a:lnTo>
                        <a:pt x="102" y="178"/>
                      </a:lnTo>
                      <a:lnTo>
                        <a:pt x="90" y="208"/>
                      </a:lnTo>
                      <a:lnTo>
                        <a:pt x="67" y="239"/>
                      </a:lnTo>
                      <a:lnTo>
                        <a:pt x="19" y="258"/>
                      </a:lnTo>
                      <a:lnTo>
                        <a:pt x="0" y="265"/>
                      </a:lnTo>
                      <a:lnTo>
                        <a:pt x="72" y="268"/>
                      </a:lnTo>
                      <a:lnTo>
                        <a:pt x="106" y="268"/>
                      </a:lnTo>
                      <a:lnTo>
                        <a:pt x="140" y="249"/>
                      </a:lnTo>
                      <a:lnTo>
                        <a:pt x="165" y="220"/>
                      </a:lnTo>
                      <a:lnTo>
                        <a:pt x="177" y="184"/>
                      </a:lnTo>
                      <a:lnTo>
                        <a:pt x="187" y="146"/>
                      </a:lnTo>
                      <a:lnTo>
                        <a:pt x="208" y="115"/>
                      </a:lnTo>
                      <a:lnTo>
                        <a:pt x="270" y="89"/>
                      </a:lnTo>
                      <a:lnTo>
                        <a:pt x="227" y="89"/>
                      </a:lnTo>
                      <a:lnTo>
                        <a:pt x="225" y="70"/>
                      </a:lnTo>
                      <a:lnTo>
                        <a:pt x="243" y="53"/>
                      </a:lnTo>
                      <a:lnTo>
                        <a:pt x="270" y="34"/>
                      </a:lnTo>
                      <a:lnTo>
                        <a:pt x="295" y="22"/>
                      </a:lnTo>
                      <a:lnTo>
                        <a:pt x="356" y="0"/>
                      </a:lnTo>
                      <a:close/>
                    </a:path>
                  </a:pathLst>
                </a:custGeom>
                <a:solidFill>
                  <a:srgbClr val="c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88" name=""/>
                <p:cNvSpPr/>
                <p:nvPr/>
              </p:nvSpPr>
              <p:spPr>
                <a:xfrm>
                  <a:off x="3922560" y="1021680"/>
                  <a:ext cx="149400" cy="239400"/>
                </a:xfrm>
                <a:custGeom>
                  <a:avLst/>
                  <a:gdLst/>
                  <a:ahLst/>
                  <a:rect l="l" t="t" r="r" b="b"/>
                  <a:pathLst>
                    <a:path w="434" h="572">
                      <a:moveTo>
                        <a:pt x="297" y="0"/>
                      </a:moveTo>
                      <a:lnTo>
                        <a:pt x="209" y="19"/>
                      </a:lnTo>
                      <a:lnTo>
                        <a:pt x="139" y="41"/>
                      </a:lnTo>
                      <a:lnTo>
                        <a:pt x="85" y="79"/>
                      </a:lnTo>
                      <a:lnTo>
                        <a:pt x="41" y="133"/>
                      </a:lnTo>
                      <a:lnTo>
                        <a:pt x="10" y="207"/>
                      </a:lnTo>
                      <a:lnTo>
                        <a:pt x="0" y="267"/>
                      </a:lnTo>
                      <a:lnTo>
                        <a:pt x="0" y="352"/>
                      </a:lnTo>
                      <a:lnTo>
                        <a:pt x="7" y="425"/>
                      </a:lnTo>
                      <a:lnTo>
                        <a:pt x="22" y="483"/>
                      </a:lnTo>
                      <a:lnTo>
                        <a:pt x="43" y="535"/>
                      </a:lnTo>
                      <a:lnTo>
                        <a:pt x="155" y="572"/>
                      </a:lnTo>
                      <a:lnTo>
                        <a:pt x="246" y="541"/>
                      </a:lnTo>
                      <a:lnTo>
                        <a:pt x="297" y="513"/>
                      </a:lnTo>
                      <a:lnTo>
                        <a:pt x="322" y="483"/>
                      </a:lnTo>
                      <a:lnTo>
                        <a:pt x="346" y="425"/>
                      </a:lnTo>
                      <a:lnTo>
                        <a:pt x="361" y="366"/>
                      </a:lnTo>
                      <a:lnTo>
                        <a:pt x="365" y="311"/>
                      </a:lnTo>
                      <a:lnTo>
                        <a:pt x="358" y="274"/>
                      </a:lnTo>
                      <a:lnTo>
                        <a:pt x="346" y="349"/>
                      </a:lnTo>
                      <a:lnTo>
                        <a:pt x="326" y="394"/>
                      </a:lnTo>
                      <a:lnTo>
                        <a:pt x="290" y="430"/>
                      </a:lnTo>
                      <a:lnTo>
                        <a:pt x="246" y="455"/>
                      </a:lnTo>
                      <a:lnTo>
                        <a:pt x="281" y="390"/>
                      </a:lnTo>
                      <a:lnTo>
                        <a:pt x="290" y="359"/>
                      </a:lnTo>
                      <a:lnTo>
                        <a:pt x="290" y="318"/>
                      </a:lnTo>
                      <a:lnTo>
                        <a:pt x="290" y="264"/>
                      </a:lnTo>
                      <a:lnTo>
                        <a:pt x="300" y="198"/>
                      </a:lnTo>
                      <a:lnTo>
                        <a:pt x="312" y="163"/>
                      </a:lnTo>
                      <a:lnTo>
                        <a:pt x="327" y="121"/>
                      </a:lnTo>
                      <a:lnTo>
                        <a:pt x="339" y="98"/>
                      </a:lnTo>
                      <a:lnTo>
                        <a:pt x="312" y="117"/>
                      </a:lnTo>
                      <a:lnTo>
                        <a:pt x="288" y="148"/>
                      </a:lnTo>
                      <a:lnTo>
                        <a:pt x="255" y="217"/>
                      </a:lnTo>
                      <a:lnTo>
                        <a:pt x="231" y="283"/>
                      </a:lnTo>
                      <a:lnTo>
                        <a:pt x="222" y="226"/>
                      </a:lnTo>
                      <a:lnTo>
                        <a:pt x="224" y="160"/>
                      </a:lnTo>
                      <a:lnTo>
                        <a:pt x="240" y="107"/>
                      </a:lnTo>
                      <a:lnTo>
                        <a:pt x="272" y="76"/>
                      </a:lnTo>
                      <a:lnTo>
                        <a:pt x="297" y="60"/>
                      </a:lnTo>
                      <a:lnTo>
                        <a:pt x="349" y="50"/>
                      </a:lnTo>
                      <a:lnTo>
                        <a:pt x="380" y="50"/>
                      </a:lnTo>
                      <a:lnTo>
                        <a:pt x="434" y="38"/>
                      </a:lnTo>
                      <a:lnTo>
                        <a:pt x="355" y="38"/>
                      </a:lnTo>
                      <a:lnTo>
                        <a:pt x="303" y="41"/>
                      </a:lnTo>
                      <a:lnTo>
                        <a:pt x="222" y="67"/>
                      </a:lnTo>
                      <a:lnTo>
                        <a:pt x="181" y="86"/>
                      </a:lnTo>
                      <a:lnTo>
                        <a:pt x="146" y="123"/>
                      </a:lnTo>
                      <a:lnTo>
                        <a:pt x="155" y="86"/>
                      </a:lnTo>
                      <a:lnTo>
                        <a:pt x="174" y="57"/>
                      </a:lnTo>
                      <a:lnTo>
                        <a:pt x="205" y="41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c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0589" name=""/>
            <p:cNvSpPr/>
            <p:nvPr/>
          </p:nvSpPr>
          <p:spPr>
            <a:xfrm>
              <a:off x="4338720" y="279720"/>
              <a:ext cx="10126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1400" spc="-1" strike="noStrike">
                  <a:solidFill>
                    <a:srgbClr val="000000"/>
                  </a:solidFill>
                  <a:latin typeface="Times New Roman"/>
                </a:rPr>
                <a:t>CO</a:t>
              </a:r>
              <a:r>
                <a:rPr b="1" lang="cs-CZ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cs-CZ" sz="1400" spc="-1" strike="noStrike">
                  <a:solidFill>
                    <a:srgbClr val="000000"/>
                  </a:solidFill>
                  <a:latin typeface="Times New Roman"/>
                </a:rPr>
                <a:t>+H</a:t>
              </a:r>
              <a:r>
                <a:rPr b="1" lang="cs-CZ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cs-CZ" sz="1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0" name=""/>
            <p:cNvSpPr/>
            <p:nvPr/>
          </p:nvSpPr>
          <p:spPr>
            <a:xfrm>
              <a:off x="2335320" y="528480"/>
              <a:ext cx="1385640" cy="554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1" name=""/>
            <p:cNvSpPr/>
            <p:nvPr/>
          </p:nvSpPr>
          <p:spPr>
            <a:xfrm>
              <a:off x="4518000" y="1166760"/>
              <a:ext cx="2192400" cy="12600"/>
            </a:xfrm>
            <a:custGeom>
              <a:avLst/>
              <a:gdLst/>
              <a:ahLst/>
              <a:rect l="l" t="t" r="r" b="b"/>
              <a:pathLst>
                <a:path w="1381" h="8">
                  <a:moveTo>
                    <a:pt x="0" y="8"/>
                  </a:moveTo>
                  <a:lnTo>
                    <a:pt x="1381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2" name=""/>
            <p:cNvSpPr/>
            <p:nvPr/>
          </p:nvSpPr>
          <p:spPr>
            <a:xfrm>
              <a:off x="3965400" y="1504800"/>
              <a:ext cx="0" cy="663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3" name=""/>
            <p:cNvSpPr/>
            <p:nvPr/>
          </p:nvSpPr>
          <p:spPr>
            <a:xfrm>
              <a:off x="2844720" y="5969160"/>
              <a:ext cx="947880" cy="1440"/>
            </a:xfrm>
            <a:custGeom>
              <a:avLst/>
              <a:gdLst/>
              <a:ahLst/>
              <a:rect l="l" t="t" r="r" b="b"/>
              <a:pathLst>
                <a:path w="597" h="1">
                  <a:moveTo>
                    <a:pt x="0" y="1"/>
                  </a:moveTo>
                  <a:lnTo>
                    <a:pt x="597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4" name=""/>
            <p:cNvSpPr/>
            <p:nvPr/>
          </p:nvSpPr>
          <p:spPr>
            <a:xfrm>
              <a:off x="2690640" y="3665520"/>
              <a:ext cx="3822840" cy="3171960"/>
            </a:xfrm>
            <a:custGeom>
              <a:avLst/>
              <a:gdLst/>
              <a:ahLst/>
              <a:rect l="l" t="t" r="r" b="b"/>
              <a:pathLst>
                <a:path w="2408" h="1998">
                  <a:moveTo>
                    <a:pt x="59" y="1788"/>
                  </a:moveTo>
                  <a:cubicBezTo>
                    <a:pt x="85" y="1815"/>
                    <a:pt x="0" y="1921"/>
                    <a:pt x="214" y="1954"/>
                  </a:cubicBezTo>
                  <a:cubicBezTo>
                    <a:pt x="428" y="1987"/>
                    <a:pt x="1084" y="1998"/>
                    <a:pt x="1345" y="1988"/>
                  </a:cubicBezTo>
                  <a:cubicBezTo>
                    <a:pt x="1606" y="1978"/>
                    <a:pt x="1691" y="1997"/>
                    <a:pt x="1780" y="1891"/>
                  </a:cubicBezTo>
                  <a:cubicBezTo>
                    <a:pt x="1869" y="1785"/>
                    <a:pt x="1880" y="1478"/>
                    <a:pt x="1877" y="1354"/>
                  </a:cubicBezTo>
                  <a:cubicBezTo>
                    <a:pt x="1874" y="1230"/>
                    <a:pt x="1800" y="1230"/>
                    <a:pt x="1762" y="1146"/>
                  </a:cubicBezTo>
                  <a:cubicBezTo>
                    <a:pt x="1724" y="1062"/>
                    <a:pt x="1663" y="1021"/>
                    <a:pt x="1648" y="851"/>
                  </a:cubicBezTo>
                  <a:cubicBezTo>
                    <a:pt x="1633" y="681"/>
                    <a:pt x="1544" y="256"/>
                    <a:pt x="1671" y="128"/>
                  </a:cubicBezTo>
                  <a:cubicBezTo>
                    <a:pt x="1798" y="0"/>
                    <a:pt x="2255" y="92"/>
                    <a:pt x="2408" y="83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5" name=""/>
            <p:cNvSpPr/>
            <p:nvPr/>
          </p:nvSpPr>
          <p:spPr>
            <a:xfrm>
              <a:off x="6921360" y="1643040"/>
              <a:ext cx="993960" cy="1381320"/>
            </a:xfrm>
            <a:custGeom>
              <a:avLst/>
              <a:gdLst/>
              <a:ahLst/>
              <a:rect l="l" t="t" r="r" b="b"/>
              <a:pathLst>
                <a:path w="626" h="870">
                  <a:moveTo>
                    <a:pt x="0" y="870"/>
                  </a:moveTo>
                  <a:cubicBezTo>
                    <a:pt x="88" y="781"/>
                    <a:pt x="430" y="481"/>
                    <a:pt x="528" y="336"/>
                  </a:cubicBezTo>
                  <a:cubicBezTo>
                    <a:pt x="626" y="191"/>
                    <a:pt x="585" y="69"/>
                    <a:pt x="585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6" name=""/>
            <p:cNvSpPr/>
            <p:nvPr/>
          </p:nvSpPr>
          <p:spPr>
            <a:xfrm>
              <a:off x="6912000" y="2997360"/>
              <a:ext cx="1440" cy="515880"/>
            </a:xfrm>
            <a:custGeom>
              <a:avLst/>
              <a:gdLst/>
              <a:ahLst/>
              <a:rect l="l" t="t" r="r" b="b"/>
              <a:pathLst>
                <a:path w="1" h="325">
                  <a:moveTo>
                    <a:pt x="0" y="325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7" name=""/>
            <p:cNvSpPr/>
            <p:nvPr/>
          </p:nvSpPr>
          <p:spPr>
            <a:xfrm>
              <a:off x="4071960" y="1762200"/>
              <a:ext cx="2857320" cy="1262160"/>
            </a:xfrm>
            <a:custGeom>
              <a:avLst/>
              <a:gdLst/>
              <a:ahLst/>
              <a:rect l="l" t="t" r="r" b="b"/>
              <a:pathLst>
                <a:path w="1800" h="795">
                  <a:moveTo>
                    <a:pt x="1800" y="795"/>
                  </a:moveTo>
                  <a:cubicBezTo>
                    <a:pt x="1548" y="672"/>
                    <a:pt x="581" y="144"/>
                    <a:pt x="285" y="57"/>
                  </a:cubicBezTo>
                  <a:cubicBezTo>
                    <a:pt x="0" y="0"/>
                    <a:pt x="76" y="227"/>
                    <a:pt x="22" y="27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8" name=""/>
            <p:cNvSpPr/>
            <p:nvPr/>
          </p:nvSpPr>
          <p:spPr>
            <a:xfrm>
              <a:off x="4046400" y="1251000"/>
              <a:ext cx="2748240" cy="4417920"/>
            </a:xfrm>
            <a:custGeom>
              <a:avLst/>
              <a:gdLst/>
              <a:ahLst/>
              <a:rect l="l" t="t" r="r" b="b"/>
              <a:pathLst>
                <a:path w="1731" h="2783">
                  <a:moveTo>
                    <a:pt x="0" y="2783"/>
                  </a:moveTo>
                  <a:cubicBezTo>
                    <a:pt x="208" y="2385"/>
                    <a:pt x="963" y="851"/>
                    <a:pt x="1251" y="395"/>
                  </a:cubicBezTo>
                  <a:cubicBezTo>
                    <a:pt x="1508" y="0"/>
                    <a:pt x="1633" y="107"/>
                    <a:pt x="1731" y="46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9" name=""/>
            <p:cNvSpPr/>
            <p:nvPr/>
          </p:nvSpPr>
          <p:spPr>
            <a:xfrm>
              <a:off x="2857680" y="314280"/>
              <a:ext cx="647640" cy="398520"/>
            </a:xfrm>
            <a:custGeom>
              <a:avLst/>
              <a:gdLst/>
              <a:ahLst/>
              <a:rect l="l" t="t" r="r" b="b"/>
              <a:pathLst>
                <a:path w="408" h="457">
                  <a:moveTo>
                    <a:pt x="0" y="457"/>
                  </a:moveTo>
                  <a:cubicBezTo>
                    <a:pt x="39" y="444"/>
                    <a:pt x="174" y="422"/>
                    <a:pt x="237" y="380"/>
                  </a:cubicBezTo>
                  <a:cubicBezTo>
                    <a:pt x="314" y="330"/>
                    <a:pt x="352" y="267"/>
                    <a:pt x="380" y="204"/>
                  </a:cubicBezTo>
                  <a:cubicBezTo>
                    <a:pt x="408" y="141"/>
                    <a:pt x="402" y="42"/>
                    <a:pt x="407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0" name=""/>
            <p:cNvSpPr/>
            <p:nvPr/>
          </p:nvSpPr>
          <p:spPr>
            <a:xfrm flipH="1">
              <a:off x="3144960" y="4930920"/>
              <a:ext cx="714240" cy="404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1" name=""/>
            <p:cNvSpPr/>
            <p:nvPr/>
          </p:nvSpPr>
          <p:spPr>
            <a:xfrm>
              <a:off x="1080" y="5198400"/>
              <a:ext cx="228996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800" spc="-1" strike="noStrike">
                  <a:solidFill>
                    <a:srgbClr val="000000"/>
                  </a:solidFill>
                  <a:latin typeface="Times New Roman"/>
                </a:rPr>
                <a:t>Anionty organických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800" spc="-1" strike="noStrike">
                  <a:solidFill>
                    <a:srgbClr val="000000"/>
                  </a:solidFill>
                  <a:latin typeface="Times New Roman"/>
                </a:rPr>
                <a:t>kyselin (např. citrá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2" name=""/>
            <p:cNvSpPr/>
            <p:nvPr/>
          </p:nvSpPr>
          <p:spPr>
            <a:xfrm flipV="1">
              <a:off x="2265480" y="5427360"/>
              <a:ext cx="314280" cy="6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3" name=""/>
            <p:cNvSpPr/>
            <p:nvPr/>
          </p:nvSpPr>
          <p:spPr>
            <a:xfrm>
              <a:off x="7041960" y="5074560"/>
              <a:ext cx="1121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800" spc="-1" strike="noStrike">
                  <a:solidFill>
                    <a:srgbClr val="000000"/>
                  </a:solidFill>
                  <a:latin typeface="Times New Roman"/>
                </a:rPr>
                <a:t>Glutami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4" name=""/>
            <p:cNvSpPr/>
            <p:nvPr/>
          </p:nvSpPr>
          <p:spPr>
            <a:xfrm>
              <a:off x="7488000" y="3482280"/>
              <a:ext cx="1654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800" spc="-1" strike="noStrike">
                  <a:solidFill>
                    <a:srgbClr val="000000"/>
                  </a:solidFill>
                  <a:latin typeface="Times New Roman"/>
                </a:rPr>
                <a:t>Glutamá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800" spc="-1" strike="noStrike">
                  <a:solidFill>
                    <a:srgbClr val="000000"/>
                  </a:solidFill>
                  <a:latin typeface="Times New Roman"/>
                </a:rPr>
                <a:t>(2-oxoglutará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5" name=""/>
            <p:cNvSpPr/>
            <p:nvPr/>
          </p:nvSpPr>
          <p:spPr>
            <a:xfrm>
              <a:off x="7299360" y="5767560"/>
              <a:ext cx="365040" cy="150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6" name=""/>
            <p:cNvSpPr/>
            <p:nvPr/>
          </p:nvSpPr>
          <p:spPr>
            <a:xfrm>
              <a:off x="7454880" y="5744520"/>
              <a:ext cx="1689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800" spc="-1" strike="noStrike">
                  <a:solidFill>
                    <a:srgbClr val="000000"/>
                  </a:solidFill>
                  <a:latin typeface="Times New Roman"/>
                </a:rPr>
                <a:t>Glutamá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800" spc="-1" strike="noStrike">
                  <a:solidFill>
                    <a:srgbClr val="000000"/>
                  </a:solidFill>
                  <a:latin typeface="Times New Roman"/>
                </a:rPr>
                <a:t>(2-oxoglutará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7" name=""/>
            <p:cNvSpPr/>
            <p:nvPr/>
          </p:nvSpPr>
          <p:spPr>
            <a:xfrm>
              <a:off x="6615000" y="6471720"/>
              <a:ext cx="9907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800" spc="-1" strike="noStrike">
                  <a:solidFill>
                    <a:srgbClr val="000000"/>
                  </a:solidFill>
                  <a:latin typeface="Times New Roman"/>
                </a:rPr>
                <a:t>NH</a:t>
              </a:r>
              <a:r>
                <a:rPr b="1" lang="cs-CZ" sz="18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1" lang="cs-CZ" sz="1800" spc="-1" strike="noStrike" baseline="30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8" name=""/>
            <p:cNvSpPr/>
            <p:nvPr/>
          </p:nvSpPr>
          <p:spPr>
            <a:xfrm flipH="1">
              <a:off x="6913080" y="5772240"/>
              <a:ext cx="390600" cy="117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9" name=""/>
            <p:cNvSpPr/>
            <p:nvPr/>
          </p:nvSpPr>
          <p:spPr>
            <a:xfrm flipH="1" flipV="1">
              <a:off x="7296120" y="5450040"/>
              <a:ext cx="1440" cy="325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0" name=""/>
            <p:cNvSpPr/>
            <p:nvPr/>
          </p:nvSpPr>
          <p:spPr>
            <a:xfrm>
              <a:off x="7517160" y="6490440"/>
              <a:ext cx="140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35 mmol/d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1" name=""/>
            <p:cNvSpPr/>
            <p:nvPr/>
          </p:nvSpPr>
          <p:spPr>
            <a:xfrm>
              <a:off x="6969600" y="2889720"/>
              <a:ext cx="12931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1400" spc="-1" strike="noStrike">
                  <a:solidFill>
                    <a:srgbClr val="000000"/>
                  </a:solidFill>
                  <a:latin typeface="Times New Roman"/>
                </a:rPr>
                <a:t>upřednostněno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1400" spc="-1" strike="noStrike">
                  <a:solidFill>
                    <a:srgbClr val="000000"/>
                  </a:solidFill>
                  <a:latin typeface="Times New Roman"/>
                </a:rPr>
                <a:t>při alkalémi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2" name=""/>
            <p:cNvSpPr/>
            <p:nvPr/>
          </p:nvSpPr>
          <p:spPr>
            <a:xfrm>
              <a:off x="6916680" y="4056120"/>
              <a:ext cx="541440" cy="806400"/>
            </a:xfrm>
            <a:custGeom>
              <a:avLst/>
              <a:gdLst/>
              <a:ahLst/>
              <a:rect l="l" t="t" r="r" b="b"/>
              <a:pathLst>
                <a:path w="341" h="508">
                  <a:moveTo>
                    <a:pt x="14" y="0"/>
                  </a:moveTo>
                  <a:cubicBezTo>
                    <a:pt x="18" y="59"/>
                    <a:pt x="0" y="281"/>
                    <a:pt x="44" y="354"/>
                  </a:cubicBezTo>
                  <a:cubicBezTo>
                    <a:pt x="88" y="427"/>
                    <a:pt x="229" y="413"/>
                    <a:pt x="278" y="439"/>
                  </a:cubicBezTo>
                  <a:cubicBezTo>
                    <a:pt x="327" y="465"/>
                    <a:pt x="328" y="494"/>
                    <a:pt x="341" y="508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3" name=""/>
            <p:cNvSpPr/>
            <p:nvPr/>
          </p:nvSpPr>
          <p:spPr>
            <a:xfrm>
              <a:off x="7435800" y="4116240"/>
              <a:ext cx="1066680" cy="719280"/>
            </a:xfrm>
            <a:custGeom>
              <a:avLst/>
              <a:gdLst/>
              <a:ahLst/>
              <a:rect l="l" t="t" r="r" b="b"/>
              <a:pathLst>
                <a:path w="672" h="453">
                  <a:moveTo>
                    <a:pt x="672" y="0"/>
                  </a:moveTo>
                  <a:cubicBezTo>
                    <a:pt x="667" y="30"/>
                    <a:pt x="664" y="117"/>
                    <a:pt x="634" y="181"/>
                  </a:cubicBezTo>
                  <a:cubicBezTo>
                    <a:pt x="604" y="245"/>
                    <a:pt x="584" y="350"/>
                    <a:pt x="491" y="385"/>
                  </a:cubicBezTo>
                  <a:cubicBezTo>
                    <a:pt x="395" y="426"/>
                    <a:pt x="168" y="382"/>
                    <a:pt x="78" y="390"/>
                  </a:cubicBezTo>
                  <a:cubicBezTo>
                    <a:pt x="0" y="401"/>
                    <a:pt x="36" y="440"/>
                    <a:pt x="25" y="453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4" name=""/>
            <p:cNvSpPr/>
            <p:nvPr/>
          </p:nvSpPr>
          <p:spPr>
            <a:xfrm flipH="1" flipV="1">
              <a:off x="7461360" y="4825800"/>
              <a:ext cx="1440" cy="253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5" name=""/>
            <p:cNvSpPr/>
            <p:nvPr/>
          </p:nvSpPr>
          <p:spPr>
            <a:xfrm>
              <a:off x="729000" y="1613880"/>
              <a:ext cx="1269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800" spc="-1" strike="noStrike">
                  <a:solidFill>
                    <a:srgbClr val="000000"/>
                  </a:solidFill>
                  <a:latin typeface="Times New Roman"/>
                </a:rPr>
                <a:t>Organické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800" spc="-1" strike="noStrike">
                  <a:solidFill>
                    <a:srgbClr val="000000"/>
                  </a:solidFill>
                  <a:latin typeface="Times New Roman"/>
                </a:rPr>
                <a:t>fosfát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6" name=""/>
            <p:cNvSpPr/>
            <p:nvPr/>
          </p:nvSpPr>
          <p:spPr>
            <a:xfrm>
              <a:off x="2943360" y="2806920"/>
              <a:ext cx="10429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400" spc="-1" strike="noStrike">
                  <a:solidFill>
                    <a:srgbClr val="000000"/>
                  </a:solidFill>
                  <a:latin typeface="Times New Roman"/>
                </a:rPr>
                <a:t>HPO</a:t>
              </a:r>
              <a:r>
                <a:rPr b="1" lang="cs-CZ" sz="1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1" lang="cs-CZ" sz="14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cs-CZ" sz="1400" spc="-1" strike="noStrike" baseline="40000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7" name=""/>
            <p:cNvSpPr/>
            <p:nvPr/>
          </p:nvSpPr>
          <p:spPr>
            <a:xfrm>
              <a:off x="2921040" y="1968480"/>
              <a:ext cx="587160" cy="915840"/>
            </a:xfrm>
            <a:custGeom>
              <a:avLst/>
              <a:gdLst/>
              <a:ahLst/>
              <a:rect l="l" t="t" r="r" b="b"/>
              <a:pathLst>
                <a:path w="370" h="577">
                  <a:moveTo>
                    <a:pt x="0" y="0"/>
                  </a:moveTo>
                  <a:cubicBezTo>
                    <a:pt x="56" y="52"/>
                    <a:pt x="288" y="222"/>
                    <a:pt x="345" y="318"/>
                  </a:cubicBezTo>
                  <a:cubicBezTo>
                    <a:pt x="370" y="384"/>
                    <a:pt x="345" y="523"/>
                    <a:pt x="345" y="5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618" name=""/>
            <p:cNvGraphicFramePr/>
            <p:nvPr/>
          </p:nvGraphicFramePr>
          <p:xfrm>
            <a:off x="2046240" y="3024360"/>
            <a:ext cx="790560" cy="9349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619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046240" y="3024360"/>
                      <a:ext cx="790560" cy="934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620" name=""/>
            <p:cNvSpPr/>
            <p:nvPr/>
          </p:nvSpPr>
          <p:spPr>
            <a:xfrm>
              <a:off x="1189800" y="4122360"/>
              <a:ext cx="2109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25 mmol/d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(titrovatelná acidita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1" name=""/>
            <p:cNvSpPr/>
            <p:nvPr/>
          </p:nvSpPr>
          <p:spPr>
            <a:xfrm>
              <a:off x="2550960" y="3460680"/>
              <a:ext cx="1005120" cy="85680"/>
            </a:xfrm>
            <a:custGeom>
              <a:avLst/>
              <a:gdLst/>
              <a:ahLst/>
              <a:rect l="l" t="t" r="r" b="b"/>
              <a:pathLst>
                <a:path w="633" h="54">
                  <a:moveTo>
                    <a:pt x="0" y="0"/>
                  </a:moveTo>
                  <a:lnTo>
                    <a:pt x="633" y="5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2" name=""/>
            <p:cNvSpPr/>
            <p:nvPr/>
          </p:nvSpPr>
          <p:spPr>
            <a:xfrm>
              <a:off x="2533680" y="3094200"/>
              <a:ext cx="760320" cy="314280"/>
            </a:xfrm>
            <a:custGeom>
              <a:avLst/>
              <a:gdLst/>
              <a:ahLst/>
              <a:rect l="l" t="t" r="r" b="b"/>
              <a:pathLst>
                <a:path w="479" h="198">
                  <a:moveTo>
                    <a:pt x="0" y="198"/>
                  </a:moveTo>
                  <a:lnTo>
                    <a:pt x="479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3" name=""/>
            <p:cNvSpPr/>
            <p:nvPr/>
          </p:nvSpPr>
          <p:spPr>
            <a:xfrm>
              <a:off x="2035080" y="3414600"/>
              <a:ext cx="465120" cy="587520"/>
            </a:xfrm>
            <a:custGeom>
              <a:avLst/>
              <a:gdLst/>
              <a:ahLst/>
              <a:rect l="l" t="t" r="r" b="b"/>
              <a:pathLst>
                <a:path w="293" h="370">
                  <a:moveTo>
                    <a:pt x="293" y="0"/>
                  </a:moveTo>
                  <a:cubicBezTo>
                    <a:pt x="252" y="14"/>
                    <a:pt x="82" y="15"/>
                    <a:pt x="43" y="77"/>
                  </a:cubicBezTo>
                  <a:cubicBezTo>
                    <a:pt x="0" y="136"/>
                    <a:pt x="58" y="309"/>
                    <a:pt x="62" y="37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4" name=""/>
            <p:cNvSpPr/>
            <p:nvPr/>
          </p:nvSpPr>
          <p:spPr>
            <a:xfrm>
              <a:off x="1673280" y="3911760"/>
              <a:ext cx="10429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4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1" lang="cs-CZ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cs-CZ" sz="1400" spc="-1" strike="noStrike">
                  <a:solidFill>
                    <a:srgbClr val="000000"/>
                  </a:solidFill>
                  <a:latin typeface="Times New Roman"/>
                </a:rPr>
                <a:t>PO</a:t>
              </a:r>
              <a:r>
                <a:rPr b="1" lang="cs-CZ" sz="1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1" lang="cs-CZ" sz="1400" spc="-1" strike="noStrike" baseline="40000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5" name=""/>
            <p:cNvSpPr/>
            <p:nvPr/>
          </p:nvSpPr>
          <p:spPr>
            <a:xfrm>
              <a:off x="5773680" y="3042720"/>
              <a:ext cx="9381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800" spc="-1" strike="noStrike">
                  <a:solidFill>
                    <a:srgbClr val="000000"/>
                  </a:solidFill>
                  <a:latin typeface="Times New Roman"/>
                </a:rPr>
                <a:t>CO</a:t>
              </a:r>
              <a:r>
                <a:rPr b="1" lang="cs-CZ" sz="1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6" name=""/>
            <p:cNvSpPr/>
            <p:nvPr/>
          </p:nvSpPr>
          <p:spPr>
            <a:xfrm>
              <a:off x="6485040" y="3059280"/>
              <a:ext cx="428400" cy="209520"/>
            </a:xfrm>
            <a:custGeom>
              <a:avLst/>
              <a:gdLst/>
              <a:ahLst/>
              <a:rect l="l" t="t" r="r" b="b"/>
              <a:pathLst>
                <a:path w="275" h="159">
                  <a:moveTo>
                    <a:pt x="0" y="154"/>
                  </a:moveTo>
                  <a:cubicBezTo>
                    <a:pt x="20" y="154"/>
                    <a:pt x="83" y="159"/>
                    <a:pt x="121" y="154"/>
                  </a:cubicBezTo>
                  <a:cubicBezTo>
                    <a:pt x="159" y="149"/>
                    <a:pt x="201" y="148"/>
                    <a:pt x="227" y="122"/>
                  </a:cubicBezTo>
                  <a:cubicBezTo>
                    <a:pt x="271" y="91"/>
                    <a:pt x="265" y="25"/>
                    <a:pt x="275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7" name=""/>
            <p:cNvSpPr/>
            <p:nvPr/>
          </p:nvSpPr>
          <p:spPr>
            <a:xfrm>
              <a:off x="6159600" y="5630400"/>
              <a:ext cx="990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800" spc="-1" strike="noStrike">
                  <a:solidFill>
                    <a:srgbClr val="000000"/>
                  </a:solidFill>
                  <a:latin typeface="Times New Roman"/>
                </a:rPr>
                <a:t>NH</a:t>
              </a:r>
              <a:r>
                <a:rPr b="1" lang="cs-CZ" sz="18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1" lang="cs-CZ" sz="1800" spc="-1" strike="noStrike" baseline="30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8" name=""/>
            <p:cNvSpPr/>
            <p:nvPr/>
          </p:nvSpPr>
          <p:spPr>
            <a:xfrm>
              <a:off x="6694560" y="6019920"/>
              <a:ext cx="264960" cy="509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9" name=""/>
            <p:cNvSpPr/>
            <p:nvPr/>
          </p:nvSpPr>
          <p:spPr>
            <a:xfrm>
              <a:off x="6667560" y="4057560"/>
              <a:ext cx="125280" cy="1638360"/>
            </a:xfrm>
            <a:custGeom>
              <a:avLst/>
              <a:gdLst/>
              <a:ahLst/>
              <a:rect l="l" t="t" r="r" b="b"/>
              <a:pathLst>
                <a:path w="79" h="1032">
                  <a:moveTo>
                    <a:pt x="0" y="1032"/>
                  </a:moveTo>
                  <a:lnTo>
                    <a:pt x="79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630" name=""/>
            <p:cNvGrpSpPr/>
            <p:nvPr/>
          </p:nvGrpSpPr>
          <p:grpSpPr>
            <a:xfrm>
              <a:off x="2306520" y="1181520"/>
              <a:ext cx="1257120" cy="913320"/>
              <a:chOff x="2306520" y="1181520"/>
              <a:chExt cx="1257120" cy="913320"/>
            </a:xfrm>
          </p:grpSpPr>
          <p:grpSp>
            <p:nvGrpSpPr>
              <p:cNvPr id="10631" name=""/>
              <p:cNvGrpSpPr/>
              <p:nvPr/>
            </p:nvGrpSpPr>
            <p:grpSpPr>
              <a:xfrm>
                <a:off x="2306520" y="1533600"/>
                <a:ext cx="523440" cy="561240"/>
                <a:chOff x="2306520" y="1533600"/>
                <a:chExt cx="523440" cy="561240"/>
              </a:xfrm>
            </p:grpSpPr>
            <p:grpSp>
              <p:nvGrpSpPr>
                <p:cNvPr id="10632" name=""/>
                <p:cNvGrpSpPr/>
                <p:nvPr/>
              </p:nvGrpSpPr>
              <p:grpSpPr>
                <a:xfrm>
                  <a:off x="2306520" y="1913760"/>
                  <a:ext cx="407520" cy="181080"/>
                  <a:chOff x="2306520" y="1913760"/>
                  <a:chExt cx="407520" cy="181080"/>
                </a:xfrm>
              </p:grpSpPr>
              <p:grpSp>
                <p:nvGrpSpPr>
                  <p:cNvPr id="10633" name=""/>
                  <p:cNvGrpSpPr/>
                  <p:nvPr/>
                </p:nvGrpSpPr>
                <p:grpSpPr>
                  <a:xfrm>
                    <a:off x="2306520" y="1958400"/>
                    <a:ext cx="407520" cy="136440"/>
                    <a:chOff x="2306520" y="1958400"/>
                    <a:chExt cx="407520" cy="136440"/>
                  </a:xfrm>
                </p:grpSpPr>
                <p:grpSp>
                  <p:nvGrpSpPr>
                    <p:cNvPr id="10634" name=""/>
                    <p:cNvGrpSpPr/>
                    <p:nvPr/>
                  </p:nvGrpSpPr>
                  <p:grpSpPr>
                    <a:xfrm>
                      <a:off x="2307600" y="1958400"/>
                      <a:ext cx="403560" cy="136440"/>
                      <a:chOff x="2307600" y="1958400"/>
                      <a:chExt cx="403560" cy="136440"/>
                    </a:xfrm>
                  </p:grpSpPr>
                  <p:sp>
                    <p:nvSpPr>
                      <p:cNvPr id="10635" name=""/>
                      <p:cNvSpPr/>
                      <p:nvPr/>
                    </p:nvSpPr>
                    <p:spPr>
                      <a:xfrm>
                        <a:off x="2307600" y="2002320"/>
                        <a:ext cx="403560" cy="92520"/>
                      </a:xfrm>
                      <a:prstGeom prst="ellipse">
                        <a:avLst/>
                      </a:prstGeom>
                      <a:solidFill>
                        <a:srgbClr val="e0e0e0"/>
                      </a:solidFill>
                      <a:ln w="64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9080" bIns="190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636" name=""/>
                      <p:cNvSpPr/>
                      <p:nvPr/>
                    </p:nvSpPr>
                    <p:spPr>
                      <a:xfrm>
                        <a:off x="2307600" y="1958400"/>
                        <a:ext cx="403560" cy="90360"/>
                      </a:xfrm>
                      <a:prstGeom prst="rect">
                        <a:avLst/>
                      </a:prstGeom>
                      <a:solidFill>
                        <a:srgbClr val="e0e0e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3560" bIns="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0637" name=""/>
                    <p:cNvSpPr/>
                    <p:nvPr/>
                  </p:nvSpPr>
                  <p:spPr>
                    <a:xfrm flipV="1">
                      <a:off x="2306520" y="1959480"/>
                      <a:ext cx="1080" cy="95040"/>
                    </a:xfrm>
                    <a:prstGeom prst="line">
                      <a:avLst/>
                    </a:prstGeom>
                    <a:ln w="64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638" name=""/>
                    <p:cNvSpPr/>
                    <p:nvPr/>
                  </p:nvSpPr>
                  <p:spPr>
                    <a:xfrm>
                      <a:off x="2713320" y="1962360"/>
                      <a:ext cx="720" cy="91440"/>
                    </a:xfrm>
                    <a:prstGeom prst="line">
                      <a:avLst/>
                    </a:prstGeom>
                    <a:ln w="64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4640" bIns="44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0639" name=""/>
                  <p:cNvGrpSpPr/>
                  <p:nvPr/>
                </p:nvGrpSpPr>
                <p:grpSpPr>
                  <a:xfrm>
                    <a:off x="2307600" y="1913760"/>
                    <a:ext cx="403560" cy="91440"/>
                    <a:chOff x="2307600" y="1913760"/>
                    <a:chExt cx="403560" cy="91440"/>
                  </a:xfrm>
                </p:grpSpPr>
                <p:sp>
                  <p:nvSpPr>
                    <p:cNvPr id="10640" name=""/>
                    <p:cNvSpPr/>
                    <p:nvPr/>
                  </p:nvSpPr>
                  <p:spPr>
                    <a:xfrm>
                      <a:off x="2307600" y="1913760"/>
                      <a:ext cx="403560" cy="91440"/>
                    </a:xfrm>
                    <a:prstGeom prst="ellipse">
                      <a:avLst/>
                    </a:prstGeom>
                    <a:solidFill>
                      <a:srgbClr val="e0e0e0"/>
                    </a:solidFill>
                    <a:ln w="64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8000" bIns="18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641" name=""/>
                    <p:cNvSpPr/>
                    <p:nvPr/>
                  </p:nvSpPr>
                  <p:spPr>
                    <a:xfrm>
                      <a:off x="2319840" y="1927080"/>
                      <a:ext cx="378720" cy="7128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600" bIns="3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0642" name=""/>
                <p:cNvGrpSpPr/>
                <p:nvPr/>
              </p:nvGrpSpPr>
              <p:grpSpPr>
                <a:xfrm>
                  <a:off x="2355120" y="1533600"/>
                  <a:ext cx="474840" cy="466560"/>
                  <a:chOff x="2355120" y="1533600"/>
                  <a:chExt cx="474840" cy="466560"/>
                </a:xfrm>
              </p:grpSpPr>
              <p:sp>
                <p:nvSpPr>
                  <p:cNvPr id="10643" name=""/>
                  <p:cNvSpPr/>
                  <p:nvPr/>
                </p:nvSpPr>
                <p:spPr>
                  <a:xfrm>
                    <a:off x="2373480" y="1882080"/>
                    <a:ext cx="278640" cy="118080"/>
                  </a:xfrm>
                  <a:prstGeom prst="ellipse">
                    <a:avLst/>
                  </a:prstGeom>
                  <a:solidFill>
                    <a:srgbClr val="c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720" bIns="36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44" name=""/>
                  <p:cNvSpPr/>
                  <p:nvPr/>
                </p:nvSpPr>
                <p:spPr>
                  <a:xfrm>
                    <a:off x="2355120" y="1533600"/>
                    <a:ext cx="474840" cy="424800"/>
                  </a:xfrm>
                  <a:custGeom>
                    <a:avLst/>
                    <a:gdLst/>
                    <a:ahLst/>
                    <a:rect l="l" t="t" r="r" b="b"/>
                    <a:pathLst>
                      <a:path w="1381" h="1018">
                        <a:moveTo>
                          <a:pt x="54" y="976"/>
                        </a:moveTo>
                        <a:lnTo>
                          <a:pt x="31" y="898"/>
                        </a:lnTo>
                        <a:lnTo>
                          <a:pt x="18" y="832"/>
                        </a:lnTo>
                        <a:lnTo>
                          <a:pt x="9" y="772"/>
                        </a:lnTo>
                        <a:lnTo>
                          <a:pt x="6" y="738"/>
                        </a:lnTo>
                        <a:lnTo>
                          <a:pt x="1" y="688"/>
                        </a:lnTo>
                        <a:lnTo>
                          <a:pt x="0" y="607"/>
                        </a:lnTo>
                        <a:lnTo>
                          <a:pt x="10" y="542"/>
                        </a:lnTo>
                        <a:lnTo>
                          <a:pt x="21" y="491"/>
                        </a:lnTo>
                        <a:lnTo>
                          <a:pt x="47" y="444"/>
                        </a:lnTo>
                        <a:lnTo>
                          <a:pt x="82" y="396"/>
                        </a:lnTo>
                        <a:lnTo>
                          <a:pt x="143" y="353"/>
                        </a:lnTo>
                        <a:lnTo>
                          <a:pt x="189" y="333"/>
                        </a:lnTo>
                        <a:lnTo>
                          <a:pt x="240" y="322"/>
                        </a:lnTo>
                        <a:lnTo>
                          <a:pt x="279" y="299"/>
                        </a:lnTo>
                        <a:lnTo>
                          <a:pt x="345" y="257"/>
                        </a:lnTo>
                        <a:lnTo>
                          <a:pt x="305" y="304"/>
                        </a:lnTo>
                        <a:lnTo>
                          <a:pt x="353" y="292"/>
                        </a:lnTo>
                        <a:lnTo>
                          <a:pt x="387" y="283"/>
                        </a:lnTo>
                        <a:lnTo>
                          <a:pt x="436" y="280"/>
                        </a:lnTo>
                        <a:lnTo>
                          <a:pt x="426" y="222"/>
                        </a:lnTo>
                        <a:lnTo>
                          <a:pt x="432" y="170"/>
                        </a:lnTo>
                        <a:lnTo>
                          <a:pt x="445" y="130"/>
                        </a:lnTo>
                        <a:lnTo>
                          <a:pt x="483" y="82"/>
                        </a:lnTo>
                        <a:lnTo>
                          <a:pt x="529" y="45"/>
                        </a:lnTo>
                        <a:lnTo>
                          <a:pt x="617" y="0"/>
                        </a:lnTo>
                        <a:lnTo>
                          <a:pt x="548" y="88"/>
                        </a:lnTo>
                        <a:lnTo>
                          <a:pt x="610" y="69"/>
                        </a:lnTo>
                        <a:lnTo>
                          <a:pt x="659" y="64"/>
                        </a:lnTo>
                        <a:lnTo>
                          <a:pt x="726" y="64"/>
                        </a:lnTo>
                        <a:lnTo>
                          <a:pt x="629" y="104"/>
                        </a:lnTo>
                        <a:lnTo>
                          <a:pt x="702" y="104"/>
                        </a:lnTo>
                        <a:lnTo>
                          <a:pt x="799" y="69"/>
                        </a:lnTo>
                        <a:lnTo>
                          <a:pt x="856" y="54"/>
                        </a:lnTo>
                        <a:lnTo>
                          <a:pt x="949" y="45"/>
                        </a:lnTo>
                        <a:lnTo>
                          <a:pt x="1018" y="38"/>
                        </a:lnTo>
                        <a:lnTo>
                          <a:pt x="1087" y="45"/>
                        </a:lnTo>
                        <a:lnTo>
                          <a:pt x="1199" y="57"/>
                        </a:lnTo>
                        <a:lnTo>
                          <a:pt x="1080" y="73"/>
                        </a:lnTo>
                        <a:lnTo>
                          <a:pt x="1039" y="101"/>
                        </a:lnTo>
                        <a:lnTo>
                          <a:pt x="1015" y="135"/>
                        </a:lnTo>
                        <a:lnTo>
                          <a:pt x="1083" y="114"/>
                        </a:lnTo>
                        <a:lnTo>
                          <a:pt x="1168" y="88"/>
                        </a:lnTo>
                        <a:lnTo>
                          <a:pt x="1253" y="78"/>
                        </a:lnTo>
                        <a:lnTo>
                          <a:pt x="1312" y="76"/>
                        </a:lnTo>
                        <a:lnTo>
                          <a:pt x="1381" y="92"/>
                        </a:lnTo>
                        <a:lnTo>
                          <a:pt x="1309" y="107"/>
                        </a:lnTo>
                        <a:lnTo>
                          <a:pt x="1246" y="126"/>
                        </a:lnTo>
                        <a:lnTo>
                          <a:pt x="1184" y="151"/>
                        </a:lnTo>
                        <a:lnTo>
                          <a:pt x="1139" y="173"/>
                        </a:lnTo>
                        <a:lnTo>
                          <a:pt x="1077" y="230"/>
                        </a:lnTo>
                        <a:lnTo>
                          <a:pt x="1031" y="283"/>
                        </a:lnTo>
                        <a:lnTo>
                          <a:pt x="1000" y="348"/>
                        </a:lnTo>
                        <a:lnTo>
                          <a:pt x="1007" y="423"/>
                        </a:lnTo>
                        <a:lnTo>
                          <a:pt x="1014" y="495"/>
                        </a:lnTo>
                        <a:lnTo>
                          <a:pt x="1015" y="550"/>
                        </a:lnTo>
                        <a:lnTo>
                          <a:pt x="1006" y="621"/>
                        </a:lnTo>
                        <a:lnTo>
                          <a:pt x="984" y="671"/>
                        </a:lnTo>
                        <a:lnTo>
                          <a:pt x="946" y="696"/>
                        </a:lnTo>
                        <a:lnTo>
                          <a:pt x="906" y="709"/>
                        </a:lnTo>
                        <a:lnTo>
                          <a:pt x="850" y="713"/>
                        </a:lnTo>
                        <a:lnTo>
                          <a:pt x="868" y="744"/>
                        </a:lnTo>
                        <a:lnTo>
                          <a:pt x="887" y="773"/>
                        </a:lnTo>
                        <a:lnTo>
                          <a:pt x="903" y="819"/>
                        </a:lnTo>
                        <a:lnTo>
                          <a:pt x="906" y="859"/>
                        </a:lnTo>
                        <a:lnTo>
                          <a:pt x="896" y="903"/>
                        </a:lnTo>
                        <a:lnTo>
                          <a:pt x="861" y="990"/>
                        </a:lnTo>
                        <a:lnTo>
                          <a:pt x="795" y="1018"/>
                        </a:lnTo>
                        <a:lnTo>
                          <a:pt x="54" y="976"/>
                        </a:lnTo>
                        <a:close/>
                      </a:path>
                    </a:pathLst>
                  </a:custGeom>
                  <a:solidFill>
                    <a:srgbClr val="c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45" name=""/>
                  <p:cNvSpPr/>
                  <p:nvPr/>
                </p:nvSpPr>
                <p:spPr>
                  <a:xfrm>
                    <a:off x="2396160" y="1824480"/>
                    <a:ext cx="252000" cy="170280"/>
                  </a:xfrm>
                  <a:prstGeom prst="ellipse">
                    <a:avLst/>
                  </a:prstGeom>
                  <a:solidFill>
                    <a:srgbClr val="ff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46" name=""/>
                  <p:cNvSpPr/>
                  <p:nvPr/>
                </p:nvSpPr>
                <p:spPr>
                  <a:xfrm>
                    <a:off x="2380680" y="1557000"/>
                    <a:ext cx="400680" cy="422640"/>
                  </a:xfrm>
                  <a:custGeom>
                    <a:avLst/>
                    <a:gdLst/>
                    <a:ahLst/>
                    <a:rect l="l" t="t" r="r" b="b"/>
                    <a:pathLst>
                      <a:path w="1164" h="1010">
                        <a:moveTo>
                          <a:pt x="50" y="869"/>
                        </a:moveTo>
                        <a:lnTo>
                          <a:pt x="31" y="802"/>
                        </a:lnTo>
                        <a:lnTo>
                          <a:pt x="12" y="730"/>
                        </a:lnTo>
                        <a:lnTo>
                          <a:pt x="0" y="668"/>
                        </a:lnTo>
                        <a:lnTo>
                          <a:pt x="0" y="579"/>
                        </a:lnTo>
                        <a:lnTo>
                          <a:pt x="7" y="535"/>
                        </a:lnTo>
                        <a:lnTo>
                          <a:pt x="16" y="491"/>
                        </a:lnTo>
                        <a:lnTo>
                          <a:pt x="41" y="441"/>
                        </a:lnTo>
                        <a:lnTo>
                          <a:pt x="72" y="393"/>
                        </a:lnTo>
                        <a:lnTo>
                          <a:pt x="110" y="361"/>
                        </a:lnTo>
                        <a:lnTo>
                          <a:pt x="147" y="332"/>
                        </a:lnTo>
                        <a:lnTo>
                          <a:pt x="197" y="318"/>
                        </a:lnTo>
                        <a:lnTo>
                          <a:pt x="261" y="311"/>
                        </a:lnTo>
                        <a:lnTo>
                          <a:pt x="312" y="304"/>
                        </a:lnTo>
                        <a:lnTo>
                          <a:pt x="381" y="299"/>
                        </a:lnTo>
                        <a:lnTo>
                          <a:pt x="423" y="292"/>
                        </a:lnTo>
                        <a:lnTo>
                          <a:pt x="404" y="249"/>
                        </a:lnTo>
                        <a:lnTo>
                          <a:pt x="385" y="205"/>
                        </a:lnTo>
                        <a:lnTo>
                          <a:pt x="378" y="158"/>
                        </a:lnTo>
                        <a:lnTo>
                          <a:pt x="381" y="113"/>
                        </a:lnTo>
                        <a:lnTo>
                          <a:pt x="397" y="69"/>
                        </a:lnTo>
                        <a:lnTo>
                          <a:pt x="419" y="40"/>
                        </a:lnTo>
                        <a:lnTo>
                          <a:pt x="463" y="0"/>
                        </a:lnTo>
                        <a:lnTo>
                          <a:pt x="438" y="40"/>
                        </a:lnTo>
                        <a:lnTo>
                          <a:pt x="428" y="73"/>
                        </a:lnTo>
                        <a:lnTo>
                          <a:pt x="457" y="50"/>
                        </a:lnTo>
                        <a:lnTo>
                          <a:pt x="494" y="40"/>
                        </a:lnTo>
                        <a:lnTo>
                          <a:pt x="542" y="35"/>
                        </a:lnTo>
                        <a:lnTo>
                          <a:pt x="497" y="47"/>
                        </a:lnTo>
                        <a:lnTo>
                          <a:pt x="480" y="66"/>
                        </a:lnTo>
                        <a:lnTo>
                          <a:pt x="470" y="97"/>
                        </a:lnTo>
                        <a:lnTo>
                          <a:pt x="473" y="126"/>
                        </a:lnTo>
                        <a:lnTo>
                          <a:pt x="497" y="85"/>
                        </a:lnTo>
                        <a:lnTo>
                          <a:pt x="525" y="69"/>
                        </a:lnTo>
                        <a:lnTo>
                          <a:pt x="563" y="59"/>
                        </a:lnTo>
                        <a:lnTo>
                          <a:pt x="627" y="59"/>
                        </a:lnTo>
                        <a:lnTo>
                          <a:pt x="696" y="44"/>
                        </a:lnTo>
                        <a:lnTo>
                          <a:pt x="736" y="35"/>
                        </a:lnTo>
                        <a:lnTo>
                          <a:pt x="802" y="19"/>
                        </a:lnTo>
                        <a:lnTo>
                          <a:pt x="868" y="9"/>
                        </a:lnTo>
                        <a:lnTo>
                          <a:pt x="945" y="9"/>
                        </a:lnTo>
                        <a:lnTo>
                          <a:pt x="977" y="16"/>
                        </a:lnTo>
                        <a:lnTo>
                          <a:pt x="948" y="35"/>
                        </a:lnTo>
                        <a:lnTo>
                          <a:pt x="910" y="73"/>
                        </a:lnTo>
                        <a:lnTo>
                          <a:pt x="889" y="107"/>
                        </a:lnTo>
                        <a:lnTo>
                          <a:pt x="874" y="126"/>
                        </a:lnTo>
                        <a:lnTo>
                          <a:pt x="852" y="170"/>
                        </a:lnTo>
                        <a:lnTo>
                          <a:pt x="917" y="120"/>
                        </a:lnTo>
                        <a:lnTo>
                          <a:pt x="970" y="92"/>
                        </a:lnTo>
                        <a:lnTo>
                          <a:pt x="1045" y="66"/>
                        </a:lnTo>
                        <a:lnTo>
                          <a:pt x="1124" y="54"/>
                        </a:lnTo>
                        <a:lnTo>
                          <a:pt x="1164" y="50"/>
                        </a:lnTo>
                        <a:lnTo>
                          <a:pt x="1095" y="73"/>
                        </a:lnTo>
                        <a:lnTo>
                          <a:pt x="1026" y="101"/>
                        </a:lnTo>
                        <a:lnTo>
                          <a:pt x="974" y="151"/>
                        </a:lnTo>
                        <a:lnTo>
                          <a:pt x="905" y="239"/>
                        </a:lnTo>
                        <a:lnTo>
                          <a:pt x="868" y="323"/>
                        </a:lnTo>
                        <a:lnTo>
                          <a:pt x="850" y="393"/>
                        </a:lnTo>
                        <a:lnTo>
                          <a:pt x="874" y="374"/>
                        </a:lnTo>
                        <a:lnTo>
                          <a:pt x="889" y="349"/>
                        </a:lnTo>
                        <a:lnTo>
                          <a:pt x="901" y="318"/>
                        </a:lnTo>
                        <a:lnTo>
                          <a:pt x="905" y="368"/>
                        </a:lnTo>
                        <a:lnTo>
                          <a:pt x="914" y="427"/>
                        </a:lnTo>
                        <a:lnTo>
                          <a:pt x="914" y="472"/>
                        </a:lnTo>
                        <a:lnTo>
                          <a:pt x="905" y="531"/>
                        </a:lnTo>
                        <a:lnTo>
                          <a:pt x="882" y="585"/>
                        </a:lnTo>
                        <a:lnTo>
                          <a:pt x="850" y="611"/>
                        </a:lnTo>
                        <a:lnTo>
                          <a:pt x="805" y="620"/>
                        </a:lnTo>
                        <a:lnTo>
                          <a:pt x="762" y="620"/>
                        </a:lnTo>
                        <a:lnTo>
                          <a:pt x="686" y="620"/>
                        </a:lnTo>
                        <a:lnTo>
                          <a:pt x="743" y="670"/>
                        </a:lnTo>
                        <a:lnTo>
                          <a:pt x="771" y="711"/>
                        </a:lnTo>
                        <a:lnTo>
                          <a:pt x="793" y="776"/>
                        </a:lnTo>
                        <a:lnTo>
                          <a:pt x="796" y="810"/>
                        </a:lnTo>
                        <a:lnTo>
                          <a:pt x="790" y="838"/>
                        </a:lnTo>
                        <a:lnTo>
                          <a:pt x="783" y="865"/>
                        </a:lnTo>
                        <a:lnTo>
                          <a:pt x="752" y="914"/>
                        </a:lnTo>
                        <a:lnTo>
                          <a:pt x="670" y="923"/>
                        </a:lnTo>
                        <a:lnTo>
                          <a:pt x="620" y="967"/>
                        </a:lnTo>
                        <a:lnTo>
                          <a:pt x="535" y="983"/>
                        </a:lnTo>
                        <a:lnTo>
                          <a:pt x="419" y="1010"/>
                        </a:lnTo>
                        <a:lnTo>
                          <a:pt x="50" y="869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47" name=""/>
                  <p:cNvSpPr/>
                  <p:nvPr/>
                </p:nvSpPr>
                <p:spPr>
                  <a:xfrm>
                    <a:off x="2360880" y="1667520"/>
                    <a:ext cx="81720" cy="220680"/>
                  </a:xfrm>
                  <a:custGeom>
                    <a:avLst/>
                    <a:gdLst/>
                    <a:ahLst/>
                    <a:rect l="l" t="t" r="r" b="b"/>
                    <a:pathLst>
                      <a:path w="239" h="527">
                        <a:moveTo>
                          <a:pt x="239" y="0"/>
                        </a:moveTo>
                        <a:lnTo>
                          <a:pt x="183" y="26"/>
                        </a:lnTo>
                        <a:lnTo>
                          <a:pt x="127" y="50"/>
                        </a:lnTo>
                        <a:lnTo>
                          <a:pt x="75" y="94"/>
                        </a:lnTo>
                        <a:lnTo>
                          <a:pt x="38" y="147"/>
                        </a:lnTo>
                        <a:lnTo>
                          <a:pt x="22" y="190"/>
                        </a:lnTo>
                        <a:lnTo>
                          <a:pt x="7" y="242"/>
                        </a:lnTo>
                        <a:lnTo>
                          <a:pt x="0" y="308"/>
                        </a:lnTo>
                        <a:lnTo>
                          <a:pt x="3" y="387"/>
                        </a:lnTo>
                        <a:lnTo>
                          <a:pt x="19" y="426"/>
                        </a:lnTo>
                        <a:lnTo>
                          <a:pt x="38" y="473"/>
                        </a:lnTo>
                        <a:lnTo>
                          <a:pt x="60" y="527"/>
                        </a:lnTo>
                        <a:lnTo>
                          <a:pt x="41" y="449"/>
                        </a:lnTo>
                        <a:lnTo>
                          <a:pt x="26" y="380"/>
                        </a:lnTo>
                        <a:lnTo>
                          <a:pt x="29" y="304"/>
                        </a:lnTo>
                        <a:lnTo>
                          <a:pt x="48" y="213"/>
                        </a:lnTo>
                        <a:lnTo>
                          <a:pt x="84" y="130"/>
                        </a:lnTo>
                        <a:lnTo>
                          <a:pt x="113" y="94"/>
                        </a:lnTo>
                        <a:lnTo>
                          <a:pt x="144" y="66"/>
                        </a:lnTo>
                        <a:lnTo>
                          <a:pt x="169" y="44"/>
                        </a:lnTo>
                        <a:lnTo>
                          <a:pt x="239" y="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48" name=""/>
                  <p:cNvSpPr/>
                  <p:nvPr/>
                </p:nvSpPr>
                <p:spPr>
                  <a:xfrm>
                    <a:off x="2547000" y="1589760"/>
                    <a:ext cx="43200" cy="66240"/>
                  </a:xfrm>
                  <a:custGeom>
                    <a:avLst/>
                    <a:gdLst/>
                    <a:ahLst/>
                    <a:rect l="l" t="t" r="r" b="b"/>
                    <a:pathLst>
                      <a:path w="125" h="158">
                        <a:moveTo>
                          <a:pt x="125" y="0"/>
                        </a:moveTo>
                        <a:lnTo>
                          <a:pt x="64" y="10"/>
                        </a:lnTo>
                        <a:lnTo>
                          <a:pt x="28" y="23"/>
                        </a:lnTo>
                        <a:lnTo>
                          <a:pt x="12" y="41"/>
                        </a:lnTo>
                        <a:lnTo>
                          <a:pt x="5" y="56"/>
                        </a:lnTo>
                        <a:lnTo>
                          <a:pt x="0" y="88"/>
                        </a:lnTo>
                        <a:lnTo>
                          <a:pt x="0" y="121"/>
                        </a:lnTo>
                        <a:lnTo>
                          <a:pt x="2" y="158"/>
                        </a:lnTo>
                        <a:lnTo>
                          <a:pt x="12" y="79"/>
                        </a:lnTo>
                        <a:lnTo>
                          <a:pt x="32" y="46"/>
                        </a:lnTo>
                        <a:lnTo>
                          <a:pt x="51" y="33"/>
                        </a:lnTo>
                        <a:lnTo>
                          <a:pt x="125" y="0"/>
                        </a:lnTo>
                        <a:close/>
                      </a:path>
                    </a:pathLst>
                  </a:custGeom>
                  <a:solidFill>
                    <a:srgbClr val="c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440" bIns="19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49" name=""/>
                  <p:cNvSpPr/>
                  <p:nvPr/>
                </p:nvSpPr>
                <p:spPr>
                  <a:xfrm>
                    <a:off x="2616120" y="1720440"/>
                    <a:ext cx="71280" cy="86400"/>
                  </a:xfrm>
                  <a:custGeom>
                    <a:avLst/>
                    <a:gdLst/>
                    <a:ahLst/>
                    <a:rect l="l" t="t" r="r" b="b"/>
                    <a:pathLst>
                      <a:path w="206" h="205">
                        <a:moveTo>
                          <a:pt x="204" y="0"/>
                        </a:moveTo>
                        <a:lnTo>
                          <a:pt x="206" y="52"/>
                        </a:lnTo>
                        <a:lnTo>
                          <a:pt x="204" y="106"/>
                        </a:lnTo>
                        <a:lnTo>
                          <a:pt x="185" y="158"/>
                        </a:lnTo>
                        <a:lnTo>
                          <a:pt x="163" y="186"/>
                        </a:lnTo>
                        <a:lnTo>
                          <a:pt x="136" y="200"/>
                        </a:lnTo>
                        <a:lnTo>
                          <a:pt x="82" y="202"/>
                        </a:lnTo>
                        <a:lnTo>
                          <a:pt x="34" y="205"/>
                        </a:lnTo>
                        <a:lnTo>
                          <a:pt x="0" y="202"/>
                        </a:lnTo>
                        <a:lnTo>
                          <a:pt x="24" y="196"/>
                        </a:lnTo>
                        <a:lnTo>
                          <a:pt x="63" y="186"/>
                        </a:lnTo>
                        <a:lnTo>
                          <a:pt x="108" y="165"/>
                        </a:lnTo>
                        <a:lnTo>
                          <a:pt x="146" y="128"/>
                        </a:lnTo>
                        <a:lnTo>
                          <a:pt x="173" y="81"/>
                        </a:lnTo>
                        <a:lnTo>
                          <a:pt x="185" y="52"/>
                        </a:lnTo>
                        <a:lnTo>
                          <a:pt x="204" y="0"/>
                        </a:lnTo>
                        <a:close/>
                      </a:path>
                    </a:pathLst>
                  </a:custGeom>
                  <a:solidFill>
                    <a:srgbClr val="c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0" bIns="39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50" name=""/>
                  <p:cNvSpPr/>
                  <p:nvPr/>
                </p:nvSpPr>
                <p:spPr>
                  <a:xfrm>
                    <a:off x="2396160" y="1705320"/>
                    <a:ext cx="61920" cy="178920"/>
                  </a:xfrm>
                  <a:custGeom>
                    <a:avLst/>
                    <a:gdLst/>
                    <a:ahLst/>
                    <a:rect l="l" t="t" r="r" b="b"/>
                    <a:pathLst>
                      <a:path w="182" h="430">
                        <a:moveTo>
                          <a:pt x="182" y="0"/>
                        </a:moveTo>
                        <a:lnTo>
                          <a:pt x="120" y="16"/>
                        </a:lnTo>
                        <a:lnTo>
                          <a:pt x="54" y="54"/>
                        </a:lnTo>
                        <a:lnTo>
                          <a:pt x="27" y="89"/>
                        </a:lnTo>
                        <a:lnTo>
                          <a:pt x="12" y="125"/>
                        </a:lnTo>
                        <a:lnTo>
                          <a:pt x="2" y="178"/>
                        </a:lnTo>
                        <a:lnTo>
                          <a:pt x="0" y="220"/>
                        </a:lnTo>
                        <a:lnTo>
                          <a:pt x="0" y="254"/>
                        </a:lnTo>
                        <a:lnTo>
                          <a:pt x="12" y="345"/>
                        </a:lnTo>
                        <a:lnTo>
                          <a:pt x="33" y="430"/>
                        </a:lnTo>
                        <a:lnTo>
                          <a:pt x="27" y="273"/>
                        </a:lnTo>
                        <a:lnTo>
                          <a:pt x="36" y="213"/>
                        </a:lnTo>
                        <a:lnTo>
                          <a:pt x="54" y="154"/>
                        </a:lnTo>
                        <a:lnTo>
                          <a:pt x="82" y="101"/>
                        </a:lnTo>
                        <a:lnTo>
                          <a:pt x="101" y="70"/>
                        </a:lnTo>
                        <a:lnTo>
                          <a:pt x="129" y="42"/>
                        </a:lnTo>
                        <a:lnTo>
                          <a:pt x="182" y="0"/>
                        </a:lnTo>
                        <a:close/>
                      </a:path>
                    </a:pathLst>
                  </a:custGeom>
                  <a:solidFill>
                    <a:srgbClr val="c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51" name=""/>
                  <p:cNvSpPr/>
                  <p:nvPr/>
                </p:nvSpPr>
                <p:spPr>
                  <a:xfrm>
                    <a:off x="2559240" y="1572120"/>
                    <a:ext cx="1227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68">
                        <a:moveTo>
                          <a:pt x="356" y="0"/>
                        </a:moveTo>
                        <a:lnTo>
                          <a:pt x="295" y="5"/>
                        </a:lnTo>
                        <a:lnTo>
                          <a:pt x="256" y="15"/>
                        </a:lnTo>
                        <a:lnTo>
                          <a:pt x="225" y="31"/>
                        </a:lnTo>
                        <a:lnTo>
                          <a:pt x="203" y="47"/>
                        </a:lnTo>
                        <a:lnTo>
                          <a:pt x="175" y="70"/>
                        </a:lnTo>
                        <a:lnTo>
                          <a:pt x="149" y="115"/>
                        </a:lnTo>
                        <a:lnTo>
                          <a:pt x="149" y="74"/>
                        </a:lnTo>
                        <a:lnTo>
                          <a:pt x="156" y="50"/>
                        </a:lnTo>
                        <a:lnTo>
                          <a:pt x="165" y="38"/>
                        </a:lnTo>
                        <a:lnTo>
                          <a:pt x="140" y="53"/>
                        </a:lnTo>
                        <a:lnTo>
                          <a:pt x="121" y="77"/>
                        </a:lnTo>
                        <a:lnTo>
                          <a:pt x="118" y="112"/>
                        </a:lnTo>
                        <a:lnTo>
                          <a:pt x="115" y="134"/>
                        </a:lnTo>
                        <a:lnTo>
                          <a:pt x="102" y="178"/>
                        </a:lnTo>
                        <a:lnTo>
                          <a:pt x="90" y="208"/>
                        </a:lnTo>
                        <a:lnTo>
                          <a:pt x="67" y="239"/>
                        </a:lnTo>
                        <a:lnTo>
                          <a:pt x="19" y="258"/>
                        </a:lnTo>
                        <a:lnTo>
                          <a:pt x="0" y="265"/>
                        </a:lnTo>
                        <a:lnTo>
                          <a:pt x="72" y="268"/>
                        </a:lnTo>
                        <a:lnTo>
                          <a:pt x="106" y="268"/>
                        </a:lnTo>
                        <a:lnTo>
                          <a:pt x="140" y="249"/>
                        </a:lnTo>
                        <a:lnTo>
                          <a:pt x="165" y="220"/>
                        </a:lnTo>
                        <a:lnTo>
                          <a:pt x="177" y="184"/>
                        </a:lnTo>
                        <a:lnTo>
                          <a:pt x="187" y="146"/>
                        </a:lnTo>
                        <a:lnTo>
                          <a:pt x="208" y="115"/>
                        </a:lnTo>
                        <a:lnTo>
                          <a:pt x="270" y="89"/>
                        </a:lnTo>
                        <a:lnTo>
                          <a:pt x="227" y="89"/>
                        </a:lnTo>
                        <a:lnTo>
                          <a:pt x="225" y="70"/>
                        </a:lnTo>
                        <a:lnTo>
                          <a:pt x="243" y="53"/>
                        </a:lnTo>
                        <a:lnTo>
                          <a:pt x="270" y="34"/>
                        </a:lnTo>
                        <a:lnTo>
                          <a:pt x="295" y="22"/>
                        </a:lnTo>
                        <a:lnTo>
                          <a:pt x="356" y="0"/>
                        </a:lnTo>
                        <a:close/>
                      </a:path>
                    </a:pathLst>
                  </a:custGeom>
                  <a:solidFill>
                    <a:srgbClr val="c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52" name=""/>
                  <p:cNvSpPr/>
                  <p:nvPr/>
                </p:nvSpPr>
                <p:spPr>
                  <a:xfrm>
                    <a:off x="2433240" y="1715400"/>
                    <a:ext cx="149400" cy="239400"/>
                  </a:xfrm>
                  <a:custGeom>
                    <a:avLst/>
                    <a:gdLst/>
                    <a:ahLst/>
                    <a:rect l="l" t="t" r="r" b="b"/>
                    <a:pathLst>
                      <a:path w="434" h="572">
                        <a:moveTo>
                          <a:pt x="297" y="0"/>
                        </a:moveTo>
                        <a:lnTo>
                          <a:pt x="209" y="19"/>
                        </a:lnTo>
                        <a:lnTo>
                          <a:pt x="139" y="41"/>
                        </a:lnTo>
                        <a:lnTo>
                          <a:pt x="85" y="79"/>
                        </a:lnTo>
                        <a:lnTo>
                          <a:pt x="41" y="133"/>
                        </a:lnTo>
                        <a:lnTo>
                          <a:pt x="10" y="207"/>
                        </a:lnTo>
                        <a:lnTo>
                          <a:pt x="0" y="267"/>
                        </a:lnTo>
                        <a:lnTo>
                          <a:pt x="0" y="352"/>
                        </a:lnTo>
                        <a:lnTo>
                          <a:pt x="7" y="425"/>
                        </a:lnTo>
                        <a:lnTo>
                          <a:pt x="22" y="483"/>
                        </a:lnTo>
                        <a:lnTo>
                          <a:pt x="43" y="535"/>
                        </a:lnTo>
                        <a:lnTo>
                          <a:pt x="155" y="572"/>
                        </a:lnTo>
                        <a:lnTo>
                          <a:pt x="246" y="541"/>
                        </a:lnTo>
                        <a:lnTo>
                          <a:pt x="297" y="513"/>
                        </a:lnTo>
                        <a:lnTo>
                          <a:pt x="322" y="483"/>
                        </a:lnTo>
                        <a:lnTo>
                          <a:pt x="346" y="425"/>
                        </a:lnTo>
                        <a:lnTo>
                          <a:pt x="361" y="366"/>
                        </a:lnTo>
                        <a:lnTo>
                          <a:pt x="365" y="311"/>
                        </a:lnTo>
                        <a:lnTo>
                          <a:pt x="358" y="274"/>
                        </a:lnTo>
                        <a:lnTo>
                          <a:pt x="346" y="349"/>
                        </a:lnTo>
                        <a:lnTo>
                          <a:pt x="326" y="394"/>
                        </a:lnTo>
                        <a:lnTo>
                          <a:pt x="290" y="430"/>
                        </a:lnTo>
                        <a:lnTo>
                          <a:pt x="246" y="455"/>
                        </a:lnTo>
                        <a:lnTo>
                          <a:pt x="281" y="390"/>
                        </a:lnTo>
                        <a:lnTo>
                          <a:pt x="290" y="359"/>
                        </a:lnTo>
                        <a:lnTo>
                          <a:pt x="290" y="318"/>
                        </a:lnTo>
                        <a:lnTo>
                          <a:pt x="290" y="264"/>
                        </a:lnTo>
                        <a:lnTo>
                          <a:pt x="300" y="198"/>
                        </a:lnTo>
                        <a:lnTo>
                          <a:pt x="312" y="163"/>
                        </a:lnTo>
                        <a:lnTo>
                          <a:pt x="327" y="121"/>
                        </a:lnTo>
                        <a:lnTo>
                          <a:pt x="339" y="98"/>
                        </a:lnTo>
                        <a:lnTo>
                          <a:pt x="312" y="117"/>
                        </a:lnTo>
                        <a:lnTo>
                          <a:pt x="288" y="148"/>
                        </a:lnTo>
                        <a:lnTo>
                          <a:pt x="255" y="217"/>
                        </a:lnTo>
                        <a:lnTo>
                          <a:pt x="231" y="283"/>
                        </a:lnTo>
                        <a:lnTo>
                          <a:pt x="222" y="226"/>
                        </a:lnTo>
                        <a:lnTo>
                          <a:pt x="224" y="160"/>
                        </a:lnTo>
                        <a:lnTo>
                          <a:pt x="240" y="107"/>
                        </a:lnTo>
                        <a:lnTo>
                          <a:pt x="272" y="76"/>
                        </a:lnTo>
                        <a:lnTo>
                          <a:pt x="297" y="60"/>
                        </a:lnTo>
                        <a:lnTo>
                          <a:pt x="349" y="50"/>
                        </a:lnTo>
                        <a:lnTo>
                          <a:pt x="380" y="50"/>
                        </a:lnTo>
                        <a:lnTo>
                          <a:pt x="434" y="38"/>
                        </a:lnTo>
                        <a:lnTo>
                          <a:pt x="355" y="38"/>
                        </a:lnTo>
                        <a:lnTo>
                          <a:pt x="303" y="41"/>
                        </a:lnTo>
                        <a:lnTo>
                          <a:pt x="222" y="67"/>
                        </a:lnTo>
                        <a:lnTo>
                          <a:pt x="181" y="86"/>
                        </a:lnTo>
                        <a:lnTo>
                          <a:pt x="146" y="123"/>
                        </a:lnTo>
                        <a:lnTo>
                          <a:pt x="155" y="86"/>
                        </a:lnTo>
                        <a:lnTo>
                          <a:pt x="174" y="57"/>
                        </a:lnTo>
                        <a:lnTo>
                          <a:pt x="205" y="41"/>
                        </a:lnTo>
                        <a:lnTo>
                          <a:pt x="297" y="0"/>
                        </a:lnTo>
                        <a:close/>
                      </a:path>
                    </a:pathLst>
                  </a:custGeom>
                  <a:solidFill>
                    <a:srgbClr val="c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0653" name=""/>
              <p:cNvSpPr/>
              <p:nvPr/>
            </p:nvSpPr>
            <p:spPr>
              <a:xfrm>
                <a:off x="2550960" y="1181520"/>
                <a:ext cx="10126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1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cs-CZ" sz="1400" spc="-1" strike="noStrike">
                    <a:solidFill>
                      <a:srgbClr val="000000"/>
                    </a:solidFill>
                    <a:latin typeface="Times New Roman"/>
                  </a:rPr>
                  <a:t>CO</a:t>
                </a:r>
                <a:r>
                  <a:rPr b="1" lang="cs-CZ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1" lang="cs-CZ" sz="1400" spc="-1" strike="noStrike">
                    <a:solidFill>
                      <a:srgbClr val="000000"/>
                    </a:solidFill>
                    <a:latin typeface="Times New Roman"/>
                  </a:rPr>
                  <a:t>+H</a:t>
                </a:r>
                <a:r>
                  <a:rPr b="1" lang="cs-CZ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1" lang="cs-CZ" sz="1400" spc="-1" strike="noStrike">
                    <a:solidFill>
                      <a:srgbClr val="000000"/>
                    </a:solidFill>
                    <a:latin typeface="Times New Roman"/>
                  </a:rPr>
                  <a:t>O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54" name=""/>
            <p:cNvGrpSpPr/>
            <p:nvPr/>
          </p:nvGrpSpPr>
          <p:grpSpPr>
            <a:xfrm>
              <a:off x="2700360" y="4986360"/>
              <a:ext cx="523440" cy="561240"/>
              <a:chOff x="2700360" y="4986360"/>
              <a:chExt cx="523440" cy="561240"/>
            </a:xfrm>
          </p:grpSpPr>
          <p:grpSp>
            <p:nvGrpSpPr>
              <p:cNvPr id="10655" name=""/>
              <p:cNvGrpSpPr/>
              <p:nvPr/>
            </p:nvGrpSpPr>
            <p:grpSpPr>
              <a:xfrm>
                <a:off x="2700360" y="5366520"/>
                <a:ext cx="407520" cy="181080"/>
                <a:chOff x="2700360" y="5366520"/>
                <a:chExt cx="407520" cy="181080"/>
              </a:xfrm>
            </p:grpSpPr>
            <p:grpSp>
              <p:nvGrpSpPr>
                <p:cNvPr id="10656" name=""/>
                <p:cNvGrpSpPr/>
                <p:nvPr/>
              </p:nvGrpSpPr>
              <p:grpSpPr>
                <a:xfrm>
                  <a:off x="2700360" y="5411160"/>
                  <a:ext cx="407520" cy="136440"/>
                  <a:chOff x="2700360" y="5411160"/>
                  <a:chExt cx="407520" cy="136440"/>
                </a:xfrm>
              </p:grpSpPr>
              <p:grpSp>
                <p:nvGrpSpPr>
                  <p:cNvPr id="10657" name=""/>
                  <p:cNvGrpSpPr/>
                  <p:nvPr/>
                </p:nvGrpSpPr>
                <p:grpSpPr>
                  <a:xfrm>
                    <a:off x="2701440" y="5411160"/>
                    <a:ext cx="403560" cy="136440"/>
                    <a:chOff x="2701440" y="5411160"/>
                    <a:chExt cx="403560" cy="136440"/>
                  </a:xfrm>
                </p:grpSpPr>
                <p:sp>
                  <p:nvSpPr>
                    <p:cNvPr id="10658" name=""/>
                    <p:cNvSpPr/>
                    <p:nvPr/>
                  </p:nvSpPr>
                  <p:spPr>
                    <a:xfrm>
                      <a:off x="2701440" y="5455080"/>
                      <a:ext cx="403560" cy="92520"/>
                    </a:xfrm>
                    <a:prstGeom prst="ellipse">
                      <a:avLst/>
                    </a:prstGeom>
                    <a:solidFill>
                      <a:srgbClr val="e0e0e0"/>
                    </a:solidFill>
                    <a:ln w="64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9080" bIns="19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659" name=""/>
                    <p:cNvSpPr/>
                    <p:nvPr/>
                  </p:nvSpPr>
                  <p:spPr>
                    <a:xfrm>
                      <a:off x="2701440" y="5411160"/>
                      <a:ext cx="403560" cy="90360"/>
                    </a:xfrm>
                    <a:prstGeom prst="rect">
                      <a:avLst/>
                    </a:prstGeom>
                    <a:solidFill>
                      <a:srgbClr val="e0e0e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3560" bIns="43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0660" name=""/>
                  <p:cNvSpPr/>
                  <p:nvPr/>
                </p:nvSpPr>
                <p:spPr>
                  <a:xfrm flipV="1">
                    <a:off x="2700360" y="5412240"/>
                    <a:ext cx="1080" cy="9504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61" name=""/>
                  <p:cNvSpPr/>
                  <p:nvPr/>
                </p:nvSpPr>
                <p:spPr>
                  <a:xfrm>
                    <a:off x="3107160" y="5415120"/>
                    <a:ext cx="720" cy="9144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4640" bIns="44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662" name=""/>
                <p:cNvGrpSpPr/>
                <p:nvPr/>
              </p:nvGrpSpPr>
              <p:grpSpPr>
                <a:xfrm>
                  <a:off x="2701440" y="5366520"/>
                  <a:ext cx="403560" cy="91440"/>
                  <a:chOff x="2701440" y="5366520"/>
                  <a:chExt cx="403560" cy="91440"/>
                </a:xfrm>
              </p:grpSpPr>
              <p:sp>
                <p:nvSpPr>
                  <p:cNvPr id="10663" name=""/>
                  <p:cNvSpPr/>
                  <p:nvPr/>
                </p:nvSpPr>
                <p:spPr>
                  <a:xfrm>
                    <a:off x="2701440" y="5366520"/>
                    <a:ext cx="403560" cy="91440"/>
                  </a:xfrm>
                  <a:prstGeom prst="ellipse">
                    <a:avLst/>
                  </a:prstGeom>
                  <a:solidFill>
                    <a:srgbClr val="e0e0e0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64" name=""/>
                  <p:cNvSpPr/>
                  <p:nvPr/>
                </p:nvSpPr>
                <p:spPr>
                  <a:xfrm>
                    <a:off x="2713680" y="5379840"/>
                    <a:ext cx="378720" cy="7128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0" bIns="3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665" name=""/>
              <p:cNvGrpSpPr/>
              <p:nvPr/>
            </p:nvGrpSpPr>
            <p:grpSpPr>
              <a:xfrm>
                <a:off x="2748960" y="4986360"/>
                <a:ext cx="474840" cy="466560"/>
                <a:chOff x="2748960" y="4986360"/>
                <a:chExt cx="474840" cy="466560"/>
              </a:xfrm>
            </p:grpSpPr>
            <p:sp>
              <p:nvSpPr>
                <p:cNvPr id="10666" name=""/>
                <p:cNvSpPr/>
                <p:nvPr/>
              </p:nvSpPr>
              <p:spPr>
                <a:xfrm>
                  <a:off x="2767320" y="5334840"/>
                  <a:ext cx="278640" cy="118080"/>
                </a:xfrm>
                <a:prstGeom prst="ellipse">
                  <a:avLst/>
                </a:prstGeom>
                <a:solidFill>
                  <a:srgbClr val="c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67" name=""/>
                <p:cNvSpPr/>
                <p:nvPr/>
              </p:nvSpPr>
              <p:spPr>
                <a:xfrm>
                  <a:off x="2748960" y="4986360"/>
                  <a:ext cx="474840" cy="424800"/>
                </a:xfrm>
                <a:custGeom>
                  <a:avLst/>
                  <a:gdLst/>
                  <a:ahLst/>
                  <a:rect l="l" t="t" r="r" b="b"/>
                  <a:pathLst>
                    <a:path w="1381" h="1018">
                      <a:moveTo>
                        <a:pt x="54" y="976"/>
                      </a:moveTo>
                      <a:lnTo>
                        <a:pt x="31" y="898"/>
                      </a:lnTo>
                      <a:lnTo>
                        <a:pt x="18" y="832"/>
                      </a:lnTo>
                      <a:lnTo>
                        <a:pt x="9" y="772"/>
                      </a:lnTo>
                      <a:lnTo>
                        <a:pt x="6" y="738"/>
                      </a:lnTo>
                      <a:lnTo>
                        <a:pt x="1" y="688"/>
                      </a:lnTo>
                      <a:lnTo>
                        <a:pt x="0" y="607"/>
                      </a:lnTo>
                      <a:lnTo>
                        <a:pt x="10" y="542"/>
                      </a:lnTo>
                      <a:lnTo>
                        <a:pt x="21" y="491"/>
                      </a:lnTo>
                      <a:lnTo>
                        <a:pt x="47" y="444"/>
                      </a:lnTo>
                      <a:lnTo>
                        <a:pt x="82" y="396"/>
                      </a:lnTo>
                      <a:lnTo>
                        <a:pt x="143" y="353"/>
                      </a:lnTo>
                      <a:lnTo>
                        <a:pt x="189" y="333"/>
                      </a:lnTo>
                      <a:lnTo>
                        <a:pt x="240" y="322"/>
                      </a:lnTo>
                      <a:lnTo>
                        <a:pt x="279" y="299"/>
                      </a:lnTo>
                      <a:lnTo>
                        <a:pt x="345" y="257"/>
                      </a:lnTo>
                      <a:lnTo>
                        <a:pt x="305" y="304"/>
                      </a:lnTo>
                      <a:lnTo>
                        <a:pt x="353" y="292"/>
                      </a:lnTo>
                      <a:lnTo>
                        <a:pt x="387" y="283"/>
                      </a:lnTo>
                      <a:lnTo>
                        <a:pt x="436" y="280"/>
                      </a:lnTo>
                      <a:lnTo>
                        <a:pt x="426" y="222"/>
                      </a:lnTo>
                      <a:lnTo>
                        <a:pt x="432" y="170"/>
                      </a:lnTo>
                      <a:lnTo>
                        <a:pt x="445" y="130"/>
                      </a:lnTo>
                      <a:lnTo>
                        <a:pt x="483" y="82"/>
                      </a:lnTo>
                      <a:lnTo>
                        <a:pt x="529" y="45"/>
                      </a:lnTo>
                      <a:lnTo>
                        <a:pt x="617" y="0"/>
                      </a:lnTo>
                      <a:lnTo>
                        <a:pt x="548" y="88"/>
                      </a:lnTo>
                      <a:lnTo>
                        <a:pt x="610" y="69"/>
                      </a:lnTo>
                      <a:lnTo>
                        <a:pt x="659" y="64"/>
                      </a:lnTo>
                      <a:lnTo>
                        <a:pt x="726" y="64"/>
                      </a:lnTo>
                      <a:lnTo>
                        <a:pt x="629" y="104"/>
                      </a:lnTo>
                      <a:lnTo>
                        <a:pt x="702" y="104"/>
                      </a:lnTo>
                      <a:lnTo>
                        <a:pt x="799" y="69"/>
                      </a:lnTo>
                      <a:lnTo>
                        <a:pt x="856" y="54"/>
                      </a:lnTo>
                      <a:lnTo>
                        <a:pt x="949" y="45"/>
                      </a:lnTo>
                      <a:lnTo>
                        <a:pt x="1018" y="38"/>
                      </a:lnTo>
                      <a:lnTo>
                        <a:pt x="1087" y="45"/>
                      </a:lnTo>
                      <a:lnTo>
                        <a:pt x="1199" y="57"/>
                      </a:lnTo>
                      <a:lnTo>
                        <a:pt x="1080" y="73"/>
                      </a:lnTo>
                      <a:lnTo>
                        <a:pt x="1039" y="101"/>
                      </a:lnTo>
                      <a:lnTo>
                        <a:pt x="1015" y="135"/>
                      </a:lnTo>
                      <a:lnTo>
                        <a:pt x="1083" y="114"/>
                      </a:lnTo>
                      <a:lnTo>
                        <a:pt x="1168" y="88"/>
                      </a:lnTo>
                      <a:lnTo>
                        <a:pt x="1253" y="78"/>
                      </a:lnTo>
                      <a:lnTo>
                        <a:pt x="1312" y="76"/>
                      </a:lnTo>
                      <a:lnTo>
                        <a:pt x="1381" y="92"/>
                      </a:lnTo>
                      <a:lnTo>
                        <a:pt x="1309" y="107"/>
                      </a:lnTo>
                      <a:lnTo>
                        <a:pt x="1246" y="126"/>
                      </a:lnTo>
                      <a:lnTo>
                        <a:pt x="1184" y="151"/>
                      </a:lnTo>
                      <a:lnTo>
                        <a:pt x="1139" y="173"/>
                      </a:lnTo>
                      <a:lnTo>
                        <a:pt x="1077" y="230"/>
                      </a:lnTo>
                      <a:lnTo>
                        <a:pt x="1031" y="283"/>
                      </a:lnTo>
                      <a:lnTo>
                        <a:pt x="1000" y="348"/>
                      </a:lnTo>
                      <a:lnTo>
                        <a:pt x="1007" y="423"/>
                      </a:lnTo>
                      <a:lnTo>
                        <a:pt x="1014" y="495"/>
                      </a:lnTo>
                      <a:lnTo>
                        <a:pt x="1015" y="550"/>
                      </a:lnTo>
                      <a:lnTo>
                        <a:pt x="1006" y="621"/>
                      </a:lnTo>
                      <a:lnTo>
                        <a:pt x="984" y="671"/>
                      </a:lnTo>
                      <a:lnTo>
                        <a:pt x="946" y="696"/>
                      </a:lnTo>
                      <a:lnTo>
                        <a:pt x="906" y="709"/>
                      </a:lnTo>
                      <a:lnTo>
                        <a:pt x="850" y="713"/>
                      </a:lnTo>
                      <a:lnTo>
                        <a:pt x="868" y="744"/>
                      </a:lnTo>
                      <a:lnTo>
                        <a:pt x="887" y="773"/>
                      </a:lnTo>
                      <a:lnTo>
                        <a:pt x="903" y="819"/>
                      </a:lnTo>
                      <a:lnTo>
                        <a:pt x="906" y="859"/>
                      </a:lnTo>
                      <a:lnTo>
                        <a:pt x="896" y="903"/>
                      </a:lnTo>
                      <a:lnTo>
                        <a:pt x="861" y="990"/>
                      </a:lnTo>
                      <a:lnTo>
                        <a:pt x="795" y="1018"/>
                      </a:lnTo>
                      <a:lnTo>
                        <a:pt x="54" y="976"/>
                      </a:lnTo>
                      <a:close/>
                    </a:path>
                  </a:pathLst>
                </a:custGeom>
                <a:solidFill>
                  <a:srgbClr val="c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68" name=""/>
                <p:cNvSpPr/>
                <p:nvPr/>
              </p:nvSpPr>
              <p:spPr>
                <a:xfrm>
                  <a:off x="2790000" y="5277240"/>
                  <a:ext cx="252000" cy="170280"/>
                </a:xfrm>
                <a:prstGeom prst="ellipse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69" name=""/>
                <p:cNvSpPr/>
                <p:nvPr/>
              </p:nvSpPr>
              <p:spPr>
                <a:xfrm>
                  <a:off x="2774520" y="5009760"/>
                  <a:ext cx="400680" cy="422640"/>
                </a:xfrm>
                <a:custGeom>
                  <a:avLst/>
                  <a:gdLst/>
                  <a:ahLst/>
                  <a:rect l="l" t="t" r="r" b="b"/>
                  <a:pathLst>
                    <a:path w="1164" h="1010">
                      <a:moveTo>
                        <a:pt x="50" y="869"/>
                      </a:moveTo>
                      <a:lnTo>
                        <a:pt x="31" y="802"/>
                      </a:lnTo>
                      <a:lnTo>
                        <a:pt x="12" y="730"/>
                      </a:lnTo>
                      <a:lnTo>
                        <a:pt x="0" y="668"/>
                      </a:lnTo>
                      <a:lnTo>
                        <a:pt x="0" y="579"/>
                      </a:lnTo>
                      <a:lnTo>
                        <a:pt x="7" y="535"/>
                      </a:lnTo>
                      <a:lnTo>
                        <a:pt x="16" y="491"/>
                      </a:lnTo>
                      <a:lnTo>
                        <a:pt x="41" y="441"/>
                      </a:lnTo>
                      <a:lnTo>
                        <a:pt x="72" y="393"/>
                      </a:lnTo>
                      <a:lnTo>
                        <a:pt x="110" y="361"/>
                      </a:lnTo>
                      <a:lnTo>
                        <a:pt x="147" y="332"/>
                      </a:lnTo>
                      <a:lnTo>
                        <a:pt x="197" y="318"/>
                      </a:lnTo>
                      <a:lnTo>
                        <a:pt x="261" y="311"/>
                      </a:lnTo>
                      <a:lnTo>
                        <a:pt x="312" y="304"/>
                      </a:lnTo>
                      <a:lnTo>
                        <a:pt x="381" y="299"/>
                      </a:lnTo>
                      <a:lnTo>
                        <a:pt x="423" y="292"/>
                      </a:lnTo>
                      <a:lnTo>
                        <a:pt x="404" y="249"/>
                      </a:lnTo>
                      <a:lnTo>
                        <a:pt x="385" y="205"/>
                      </a:lnTo>
                      <a:lnTo>
                        <a:pt x="378" y="158"/>
                      </a:lnTo>
                      <a:lnTo>
                        <a:pt x="381" y="113"/>
                      </a:lnTo>
                      <a:lnTo>
                        <a:pt x="397" y="69"/>
                      </a:lnTo>
                      <a:lnTo>
                        <a:pt x="419" y="40"/>
                      </a:lnTo>
                      <a:lnTo>
                        <a:pt x="463" y="0"/>
                      </a:lnTo>
                      <a:lnTo>
                        <a:pt x="438" y="40"/>
                      </a:lnTo>
                      <a:lnTo>
                        <a:pt x="428" y="73"/>
                      </a:lnTo>
                      <a:lnTo>
                        <a:pt x="457" y="50"/>
                      </a:lnTo>
                      <a:lnTo>
                        <a:pt x="494" y="40"/>
                      </a:lnTo>
                      <a:lnTo>
                        <a:pt x="542" y="35"/>
                      </a:lnTo>
                      <a:lnTo>
                        <a:pt x="497" y="47"/>
                      </a:lnTo>
                      <a:lnTo>
                        <a:pt x="480" y="66"/>
                      </a:lnTo>
                      <a:lnTo>
                        <a:pt x="470" y="97"/>
                      </a:lnTo>
                      <a:lnTo>
                        <a:pt x="473" y="126"/>
                      </a:lnTo>
                      <a:lnTo>
                        <a:pt x="497" y="85"/>
                      </a:lnTo>
                      <a:lnTo>
                        <a:pt x="525" y="69"/>
                      </a:lnTo>
                      <a:lnTo>
                        <a:pt x="563" y="59"/>
                      </a:lnTo>
                      <a:lnTo>
                        <a:pt x="627" y="59"/>
                      </a:lnTo>
                      <a:lnTo>
                        <a:pt x="696" y="44"/>
                      </a:lnTo>
                      <a:lnTo>
                        <a:pt x="736" y="35"/>
                      </a:lnTo>
                      <a:lnTo>
                        <a:pt x="802" y="19"/>
                      </a:lnTo>
                      <a:lnTo>
                        <a:pt x="868" y="9"/>
                      </a:lnTo>
                      <a:lnTo>
                        <a:pt x="945" y="9"/>
                      </a:lnTo>
                      <a:lnTo>
                        <a:pt x="977" y="16"/>
                      </a:lnTo>
                      <a:lnTo>
                        <a:pt x="948" y="35"/>
                      </a:lnTo>
                      <a:lnTo>
                        <a:pt x="910" y="73"/>
                      </a:lnTo>
                      <a:lnTo>
                        <a:pt x="889" y="107"/>
                      </a:lnTo>
                      <a:lnTo>
                        <a:pt x="874" y="126"/>
                      </a:lnTo>
                      <a:lnTo>
                        <a:pt x="852" y="170"/>
                      </a:lnTo>
                      <a:lnTo>
                        <a:pt x="917" y="120"/>
                      </a:lnTo>
                      <a:lnTo>
                        <a:pt x="970" y="92"/>
                      </a:lnTo>
                      <a:lnTo>
                        <a:pt x="1045" y="66"/>
                      </a:lnTo>
                      <a:lnTo>
                        <a:pt x="1124" y="54"/>
                      </a:lnTo>
                      <a:lnTo>
                        <a:pt x="1164" y="50"/>
                      </a:lnTo>
                      <a:lnTo>
                        <a:pt x="1095" y="73"/>
                      </a:lnTo>
                      <a:lnTo>
                        <a:pt x="1026" y="101"/>
                      </a:lnTo>
                      <a:lnTo>
                        <a:pt x="974" y="151"/>
                      </a:lnTo>
                      <a:lnTo>
                        <a:pt x="905" y="239"/>
                      </a:lnTo>
                      <a:lnTo>
                        <a:pt x="868" y="323"/>
                      </a:lnTo>
                      <a:lnTo>
                        <a:pt x="850" y="393"/>
                      </a:lnTo>
                      <a:lnTo>
                        <a:pt x="874" y="374"/>
                      </a:lnTo>
                      <a:lnTo>
                        <a:pt x="889" y="349"/>
                      </a:lnTo>
                      <a:lnTo>
                        <a:pt x="901" y="318"/>
                      </a:lnTo>
                      <a:lnTo>
                        <a:pt x="905" y="368"/>
                      </a:lnTo>
                      <a:lnTo>
                        <a:pt x="914" y="427"/>
                      </a:lnTo>
                      <a:lnTo>
                        <a:pt x="914" y="472"/>
                      </a:lnTo>
                      <a:lnTo>
                        <a:pt x="905" y="531"/>
                      </a:lnTo>
                      <a:lnTo>
                        <a:pt x="882" y="585"/>
                      </a:lnTo>
                      <a:lnTo>
                        <a:pt x="850" y="611"/>
                      </a:lnTo>
                      <a:lnTo>
                        <a:pt x="805" y="620"/>
                      </a:lnTo>
                      <a:lnTo>
                        <a:pt x="762" y="620"/>
                      </a:lnTo>
                      <a:lnTo>
                        <a:pt x="686" y="620"/>
                      </a:lnTo>
                      <a:lnTo>
                        <a:pt x="743" y="670"/>
                      </a:lnTo>
                      <a:lnTo>
                        <a:pt x="771" y="711"/>
                      </a:lnTo>
                      <a:lnTo>
                        <a:pt x="793" y="776"/>
                      </a:lnTo>
                      <a:lnTo>
                        <a:pt x="796" y="810"/>
                      </a:lnTo>
                      <a:lnTo>
                        <a:pt x="790" y="838"/>
                      </a:lnTo>
                      <a:lnTo>
                        <a:pt x="783" y="865"/>
                      </a:lnTo>
                      <a:lnTo>
                        <a:pt x="752" y="914"/>
                      </a:lnTo>
                      <a:lnTo>
                        <a:pt x="670" y="923"/>
                      </a:lnTo>
                      <a:lnTo>
                        <a:pt x="620" y="967"/>
                      </a:lnTo>
                      <a:lnTo>
                        <a:pt x="535" y="983"/>
                      </a:lnTo>
                      <a:lnTo>
                        <a:pt x="419" y="1010"/>
                      </a:lnTo>
                      <a:lnTo>
                        <a:pt x="50" y="869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70" name=""/>
                <p:cNvSpPr/>
                <p:nvPr/>
              </p:nvSpPr>
              <p:spPr>
                <a:xfrm>
                  <a:off x="2754720" y="5120280"/>
                  <a:ext cx="81720" cy="220680"/>
                </a:xfrm>
                <a:custGeom>
                  <a:avLst/>
                  <a:gdLst/>
                  <a:ahLst/>
                  <a:rect l="l" t="t" r="r" b="b"/>
                  <a:pathLst>
                    <a:path w="239" h="527">
                      <a:moveTo>
                        <a:pt x="239" y="0"/>
                      </a:moveTo>
                      <a:lnTo>
                        <a:pt x="183" y="26"/>
                      </a:lnTo>
                      <a:lnTo>
                        <a:pt x="127" y="50"/>
                      </a:lnTo>
                      <a:lnTo>
                        <a:pt x="75" y="94"/>
                      </a:lnTo>
                      <a:lnTo>
                        <a:pt x="38" y="147"/>
                      </a:lnTo>
                      <a:lnTo>
                        <a:pt x="22" y="190"/>
                      </a:lnTo>
                      <a:lnTo>
                        <a:pt x="7" y="242"/>
                      </a:lnTo>
                      <a:lnTo>
                        <a:pt x="0" y="308"/>
                      </a:lnTo>
                      <a:lnTo>
                        <a:pt x="3" y="387"/>
                      </a:lnTo>
                      <a:lnTo>
                        <a:pt x="19" y="426"/>
                      </a:lnTo>
                      <a:lnTo>
                        <a:pt x="38" y="473"/>
                      </a:lnTo>
                      <a:lnTo>
                        <a:pt x="60" y="527"/>
                      </a:lnTo>
                      <a:lnTo>
                        <a:pt x="41" y="449"/>
                      </a:lnTo>
                      <a:lnTo>
                        <a:pt x="26" y="380"/>
                      </a:lnTo>
                      <a:lnTo>
                        <a:pt x="29" y="304"/>
                      </a:lnTo>
                      <a:lnTo>
                        <a:pt x="48" y="213"/>
                      </a:lnTo>
                      <a:lnTo>
                        <a:pt x="84" y="130"/>
                      </a:lnTo>
                      <a:lnTo>
                        <a:pt x="113" y="94"/>
                      </a:lnTo>
                      <a:lnTo>
                        <a:pt x="144" y="66"/>
                      </a:lnTo>
                      <a:lnTo>
                        <a:pt x="169" y="44"/>
                      </a:lnTo>
                      <a:lnTo>
                        <a:pt x="239" y="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71" name=""/>
                <p:cNvSpPr/>
                <p:nvPr/>
              </p:nvSpPr>
              <p:spPr>
                <a:xfrm>
                  <a:off x="2940840" y="5042520"/>
                  <a:ext cx="43200" cy="66240"/>
                </a:xfrm>
                <a:custGeom>
                  <a:avLst/>
                  <a:gdLst/>
                  <a:ahLst/>
                  <a:rect l="l" t="t" r="r" b="b"/>
                  <a:pathLst>
                    <a:path w="125" h="158">
                      <a:moveTo>
                        <a:pt x="125" y="0"/>
                      </a:moveTo>
                      <a:lnTo>
                        <a:pt x="64" y="10"/>
                      </a:lnTo>
                      <a:lnTo>
                        <a:pt x="28" y="23"/>
                      </a:lnTo>
                      <a:lnTo>
                        <a:pt x="12" y="41"/>
                      </a:lnTo>
                      <a:lnTo>
                        <a:pt x="5" y="56"/>
                      </a:lnTo>
                      <a:lnTo>
                        <a:pt x="0" y="88"/>
                      </a:lnTo>
                      <a:lnTo>
                        <a:pt x="0" y="121"/>
                      </a:lnTo>
                      <a:lnTo>
                        <a:pt x="2" y="158"/>
                      </a:lnTo>
                      <a:lnTo>
                        <a:pt x="12" y="79"/>
                      </a:lnTo>
                      <a:lnTo>
                        <a:pt x="32" y="46"/>
                      </a:lnTo>
                      <a:lnTo>
                        <a:pt x="51" y="33"/>
                      </a:lnTo>
                      <a:lnTo>
                        <a:pt x="125" y="0"/>
                      </a:lnTo>
                      <a:close/>
                    </a:path>
                  </a:pathLst>
                </a:custGeom>
                <a:solidFill>
                  <a:srgbClr val="c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440" bIns="19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72" name=""/>
                <p:cNvSpPr/>
                <p:nvPr/>
              </p:nvSpPr>
              <p:spPr>
                <a:xfrm>
                  <a:off x="3009960" y="5173200"/>
                  <a:ext cx="71280" cy="86400"/>
                </a:xfrm>
                <a:custGeom>
                  <a:avLst/>
                  <a:gdLst/>
                  <a:ahLst/>
                  <a:rect l="l" t="t" r="r" b="b"/>
                  <a:pathLst>
                    <a:path w="206" h="205">
                      <a:moveTo>
                        <a:pt x="204" y="0"/>
                      </a:moveTo>
                      <a:lnTo>
                        <a:pt x="206" y="52"/>
                      </a:lnTo>
                      <a:lnTo>
                        <a:pt x="204" y="106"/>
                      </a:lnTo>
                      <a:lnTo>
                        <a:pt x="185" y="158"/>
                      </a:lnTo>
                      <a:lnTo>
                        <a:pt x="163" y="186"/>
                      </a:lnTo>
                      <a:lnTo>
                        <a:pt x="136" y="200"/>
                      </a:lnTo>
                      <a:lnTo>
                        <a:pt x="82" y="202"/>
                      </a:lnTo>
                      <a:lnTo>
                        <a:pt x="34" y="205"/>
                      </a:lnTo>
                      <a:lnTo>
                        <a:pt x="0" y="202"/>
                      </a:lnTo>
                      <a:lnTo>
                        <a:pt x="24" y="196"/>
                      </a:lnTo>
                      <a:lnTo>
                        <a:pt x="63" y="186"/>
                      </a:lnTo>
                      <a:lnTo>
                        <a:pt x="108" y="165"/>
                      </a:lnTo>
                      <a:lnTo>
                        <a:pt x="146" y="128"/>
                      </a:lnTo>
                      <a:lnTo>
                        <a:pt x="173" y="81"/>
                      </a:lnTo>
                      <a:lnTo>
                        <a:pt x="185" y="52"/>
                      </a:lnTo>
                      <a:lnTo>
                        <a:pt x="204" y="0"/>
                      </a:lnTo>
                      <a:close/>
                    </a:path>
                  </a:pathLst>
                </a:custGeom>
                <a:solidFill>
                  <a:srgbClr val="c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0" bIns="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73" name=""/>
                <p:cNvSpPr/>
                <p:nvPr/>
              </p:nvSpPr>
              <p:spPr>
                <a:xfrm>
                  <a:off x="2790000" y="5158080"/>
                  <a:ext cx="61920" cy="178920"/>
                </a:xfrm>
                <a:custGeom>
                  <a:avLst/>
                  <a:gdLst/>
                  <a:ahLst/>
                  <a:rect l="l" t="t" r="r" b="b"/>
                  <a:pathLst>
                    <a:path w="182" h="430">
                      <a:moveTo>
                        <a:pt x="182" y="0"/>
                      </a:moveTo>
                      <a:lnTo>
                        <a:pt x="120" y="16"/>
                      </a:lnTo>
                      <a:lnTo>
                        <a:pt x="54" y="54"/>
                      </a:lnTo>
                      <a:lnTo>
                        <a:pt x="27" y="89"/>
                      </a:lnTo>
                      <a:lnTo>
                        <a:pt x="12" y="125"/>
                      </a:lnTo>
                      <a:lnTo>
                        <a:pt x="2" y="178"/>
                      </a:lnTo>
                      <a:lnTo>
                        <a:pt x="0" y="220"/>
                      </a:lnTo>
                      <a:lnTo>
                        <a:pt x="0" y="254"/>
                      </a:lnTo>
                      <a:lnTo>
                        <a:pt x="12" y="345"/>
                      </a:lnTo>
                      <a:lnTo>
                        <a:pt x="33" y="430"/>
                      </a:lnTo>
                      <a:lnTo>
                        <a:pt x="27" y="273"/>
                      </a:lnTo>
                      <a:lnTo>
                        <a:pt x="36" y="213"/>
                      </a:lnTo>
                      <a:lnTo>
                        <a:pt x="54" y="154"/>
                      </a:lnTo>
                      <a:lnTo>
                        <a:pt x="82" y="101"/>
                      </a:lnTo>
                      <a:lnTo>
                        <a:pt x="101" y="70"/>
                      </a:lnTo>
                      <a:lnTo>
                        <a:pt x="129" y="42"/>
                      </a:lnTo>
                      <a:lnTo>
                        <a:pt x="182" y="0"/>
                      </a:lnTo>
                      <a:close/>
                    </a:path>
                  </a:pathLst>
                </a:custGeom>
                <a:solidFill>
                  <a:srgbClr val="c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74" name=""/>
                <p:cNvSpPr/>
                <p:nvPr/>
              </p:nvSpPr>
              <p:spPr>
                <a:xfrm>
                  <a:off x="2953080" y="5024880"/>
                  <a:ext cx="122760" cy="111600"/>
                </a:xfrm>
                <a:custGeom>
                  <a:avLst/>
                  <a:gdLst/>
                  <a:ahLst/>
                  <a:rect l="l" t="t" r="r" b="b"/>
                  <a:pathLst>
                    <a:path w="356" h="268">
                      <a:moveTo>
                        <a:pt x="356" y="0"/>
                      </a:moveTo>
                      <a:lnTo>
                        <a:pt x="295" y="5"/>
                      </a:lnTo>
                      <a:lnTo>
                        <a:pt x="256" y="15"/>
                      </a:lnTo>
                      <a:lnTo>
                        <a:pt x="225" y="31"/>
                      </a:lnTo>
                      <a:lnTo>
                        <a:pt x="203" y="47"/>
                      </a:lnTo>
                      <a:lnTo>
                        <a:pt x="175" y="70"/>
                      </a:lnTo>
                      <a:lnTo>
                        <a:pt x="149" y="115"/>
                      </a:lnTo>
                      <a:lnTo>
                        <a:pt x="149" y="74"/>
                      </a:lnTo>
                      <a:lnTo>
                        <a:pt x="156" y="50"/>
                      </a:lnTo>
                      <a:lnTo>
                        <a:pt x="165" y="38"/>
                      </a:lnTo>
                      <a:lnTo>
                        <a:pt x="140" y="53"/>
                      </a:lnTo>
                      <a:lnTo>
                        <a:pt x="121" y="77"/>
                      </a:lnTo>
                      <a:lnTo>
                        <a:pt x="118" y="112"/>
                      </a:lnTo>
                      <a:lnTo>
                        <a:pt x="115" y="134"/>
                      </a:lnTo>
                      <a:lnTo>
                        <a:pt x="102" y="178"/>
                      </a:lnTo>
                      <a:lnTo>
                        <a:pt x="90" y="208"/>
                      </a:lnTo>
                      <a:lnTo>
                        <a:pt x="67" y="239"/>
                      </a:lnTo>
                      <a:lnTo>
                        <a:pt x="19" y="258"/>
                      </a:lnTo>
                      <a:lnTo>
                        <a:pt x="0" y="265"/>
                      </a:lnTo>
                      <a:lnTo>
                        <a:pt x="72" y="268"/>
                      </a:lnTo>
                      <a:lnTo>
                        <a:pt x="106" y="268"/>
                      </a:lnTo>
                      <a:lnTo>
                        <a:pt x="140" y="249"/>
                      </a:lnTo>
                      <a:lnTo>
                        <a:pt x="165" y="220"/>
                      </a:lnTo>
                      <a:lnTo>
                        <a:pt x="177" y="184"/>
                      </a:lnTo>
                      <a:lnTo>
                        <a:pt x="187" y="146"/>
                      </a:lnTo>
                      <a:lnTo>
                        <a:pt x="208" y="115"/>
                      </a:lnTo>
                      <a:lnTo>
                        <a:pt x="270" y="89"/>
                      </a:lnTo>
                      <a:lnTo>
                        <a:pt x="227" y="89"/>
                      </a:lnTo>
                      <a:lnTo>
                        <a:pt x="225" y="70"/>
                      </a:lnTo>
                      <a:lnTo>
                        <a:pt x="243" y="53"/>
                      </a:lnTo>
                      <a:lnTo>
                        <a:pt x="270" y="34"/>
                      </a:lnTo>
                      <a:lnTo>
                        <a:pt x="295" y="22"/>
                      </a:lnTo>
                      <a:lnTo>
                        <a:pt x="356" y="0"/>
                      </a:lnTo>
                      <a:close/>
                    </a:path>
                  </a:pathLst>
                </a:custGeom>
                <a:solidFill>
                  <a:srgbClr val="c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75" name=""/>
                <p:cNvSpPr/>
                <p:nvPr/>
              </p:nvSpPr>
              <p:spPr>
                <a:xfrm>
                  <a:off x="2827080" y="5168160"/>
                  <a:ext cx="149400" cy="239400"/>
                </a:xfrm>
                <a:custGeom>
                  <a:avLst/>
                  <a:gdLst/>
                  <a:ahLst/>
                  <a:rect l="l" t="t" r="r" b="b"/>
                  <a:pathLst>
                    <a:path w="434" h="572">
                      <a:moveTo>
                        <a:pt x="297" y="0"/>
                      </a:moveTo>
                      <a:lnTo>
                        <a:pt x="209" y="19"/>
                      </a:lnTo>
                      <a:lnTo>
                        <a:pt x="139" y="41"/>
                      </a:lnTo>
                      <a:lnTo>
                        <a:pt x="85" y="79"/>
                      </a:lnTo>
                      <a:lnTo>
                        <a:pt x="41" y="133"/>
                      </a:lnTo>
                      <a:lnTo>
                        <a:pt x="10" y="207"/>
                      </a:lnTo>
                      <a:lnTo>
                        <a:pt x="0" y="267"/>
                      </a:lnTo>
                      <a:lnTo>
                        <a:pt x="0" y="352"/>
                      </a:lnTo>
                      <a:lnTo>
                        <a:pt x="7" y="425"/>
                      </a:lnTo>
                      <a:lnTo>
                        <a:pt x="22" y="483"/>
                      </a:lnTo>
                      <a:lnTo>
                        <a:pt x="43" y="535"/>
                      </a:lnTo>
                      <a:lnTo>
                        <a:pt x="155" y="572"/>
                      </a:lnTo>
                      <a:lnTo>
                        <a:pt x="246" y="541"/>
                      </a:lnTo>
                      <a:lnTo>
                        <a:pt x="297" y="513"/>
                      </a:lnTo>
                      <a:lnTo>
                        <a:pt x="322" y="483"/>
                      </a:lnTo>
                      <a:lnTo>
                        <a:pt x="346" y="425"/>
                      </a:lnTo>
                      <a:lnTo>
                        <a:pt x="361" y="366"/>
                      </a:lnTo>
                      <a:lnTo>
                        <a:pt x="365" y="311"/>
                      </a:lnTo>
                      <a:lnTo>
                        <a:pt x="358" y="274"/>
                      </a:lnTo>
                      <a:lnTo>
                        <a:pt x="346" y="349"/>
                      </a:lnTo>
                      <a:lnTo>
                        <a:pt x="326" y="394"/>
                      </a:lnTo>
                      <a:lnTo>
                        <a:pt x="290" y="430"/>
                      </a:lnTo>
                      <a:lnTo>
                        <a:pt x="246" y="455"/>
                      </a:lnTo>
                      <a:lnTo>
                        <a:pt x="281" y="390"/>
                      </a:lnTo>
                      <a:lnTo>
                        <a:pt x="290" y="359"/>
                      </a:lnTo>
                      <a:lnTo>
                        <a:pt x="290" y="318"/>
                      </a:lnTo>
                      <a:lnTo>
                        <a:pt x="290" y="264"/>
                      </a:lnTo>
                      <a:lnTo>
                        <a:pt x="300" y="198"/>
                      </a:lnTo>
                      <a:lnTo>
                        <a:pt x="312" y="163"/>
                      </a:lnTo>
                      <a:lnTo>
                        <a:pt x="327" y="121"/>
                      </a:lnTo>
                      <a:lnTo>
                        <a:pt x="339" y="98"/>
                      </a:lnTo>
                      <a:lnTo>
                        <a:pt x="312" y="117"/>
                      </a:lnTo>
                      <a:lnTo>
                        <a:pt x="288" y="148"/>
                      </a:lnTo>
                      <a:lnTo>
                        <a:pt x="255" y="217"/>
                      </a:lnTo>
                      <a:lnTo>
                        <a:pt x="231" y="283"/>
                      </a:lnTo>
                      <a:lnTo>
                        <a:pt x="222" y="226"/>
                      </a:lnTo>
                      <a:lnTo>
                        <a:pt x="224" y="160"/>
                      </a:lnTo>
                      <a:lnTo>
                        <a:pt x="240" y="107"/>
                      </a:lnTo>
                      <a:lnTo>
                        <a:pt x="272" y="76"/>
                      </a:lnTo>
                      <a:lnTo>
                        <a:pt x="297" y="60"/>
                      </a:lnTo>
                      <a:lnTo>
                        <a:pt x="349" y="50"/>
                      </a:lnTo>
                      <a:lnTo>
                        <a:pt x="380" y="50"/>
                      </a:lnTo>
                      <a:lnTo>
                        <a:pt x="434" y="38"/>
                      </a:lnTo>
                      <a:lnTo>
                        <a:pt x="355" y="38"/>
                      </a:lnTo>
                      <a:lnTo>
                        <a:pt x="303" y="41"/>
                      </a:lnTo>
                      <a:lnTo>
                        <a:pt x="222" y="67"/>
                      </a:lnTo>
                      <a:lnTo>
                        <a:pt x="181" y="86"/>
                      </a:lnTo>
                      <a:lnTo>
                        <a:pt x="146" y="123"/>
                      </a:lnTo>
                      <a:lnTo>
                        <a:pt x="155" y="86"/>
                      </a:lnTo>
                      <a:lnTo>
                        <a:pt x="174" y="57"/>
                      </a:lnTo>
                      <a:lnTo>
                        <a:pt x="205" y="41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c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0676" name=""/>
            <p:cNvSpPr/>
            <p:nvPr/>
          </p:nvSpPr>
          <p:spPr>
            <a:xfrm>
              <a:off x="2819520" y="4642200"/>
              <a:ext cx="10126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1400" spc="-1" strike="noStrike">
                  <a:solidFill>
                    <a:srgbClr val="000000"/>
                  </a:solidFill>
                  <a:latin typeface="Times New Roman"/>
                </a:rPr>
                <a:t>CO</a:t>
              </a:r>
              <a:r>
                <a:rPr b="1" lang="cs-CZ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cs-CZ" sz="1400" spc="-1" strike="noStrike">
                  <a:solidFill>
                    <a:srgbClr val="000000"/>
                  </a:solidFill>
                  <a:latin typeface="Times New Roman"/>
                </a:rPr>
                <a:t>+H</a:t>
              </a:r>
              <a:r>
                <a:rPr b="1" lang="cs-CZ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cs-CZ" sz="1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677" name=""/>
            <p:cNvGrpSpPr/>
            <p:nvPr/>
          </p:nvGrpSpPr>
          <p:grpSpPr>
            <a:xfrm>
              <a:off x="4525920" y="5987880"/>
              <a:ext cx="523440" cy="561240"/>
              <a:chOff x="4525920" y="5987880"/>
              <a:chExt cx="523440" cy="561240"/>
            </a:xfrm>
          </p:grpSpPr>
          <p:grpSp>
            <p:nvGrpSpPr>
              <p:cNvPr id="10678" name=""/>
              <p:cNvGrpSpPr/>
              <p:nvPr/>
            </p:nvGrpSpPr>
            <p:grpSpPr>
              <a:xfrm>
                <a:off x="4525920" y="6368040"/>
                <a:ext cx="407520" cy="181080"/>
                <a:chOff x="4525920" y="6368040"/>
                <a:chExt cx="407520" cy="181080"/>
              </a:xfrm>
            </p:grpSpPr>
            <p:grpSp>
              <p:nvGrpSpPr>
                <p:cNvPr id="10679" name=""/>
                <p:cNvGrpSpPr/>
                <p:nvPr/>
              </p:nvGrpSpPr>
              <p:grpSpPr>
                <a:xfrm>
                  <a:off x="4525920" y="6412680"/>
                  <a:ext cx="407520" cy="136440"/>
                  <a:chOff x="4525920" y="6412680"/>
                  <a:chExt cx="407520" cy="136440"/>
                </a:xfrm>
              </p:grpSpPr>
              <p:grpSp>
                <p:nvGrpSpPr>
                  <p:cNvPr id="10680" name=""/>
                  <p:cNvGrpSpPr/>
                  <p:nvPr/>
                </p:nvGrpSpPr>
                <p:grpSpPr>
                  <a:xfrm>
                    <a:off x="4527000" y="6412680"/>
                    <a:ext cx="403560" cy="136440"/>
                    <a:chOff x="4527000" y="6412680"/>
                    <a:chExt cx="403560" cy="136440"/>
                  </a:xfrm>
                </p:grpSpPr>
                <p:sp>
                  <p:nvSpPr>
                    <p:cNvPr id="10681" name=""/>
                    <p:cNvSpPr/>
                    <p:nvPr/>
                  </p:nvSpPr>
                  <p:spPr>
                    <a:xfrm>
                      <a:off x="4527000" y="6456600"/>
                      <a:ext cx="403560" cy="92520"/>
                    </a:xfrm>
                    <a:prstGeom prst="ellipse">
                      <a:avLst/>
                    </a:prstGeom>
                    <a:solidFill>
                      <a:srgbClr val="e0e0e0"/>
                    </a:solidFill>
                    <a:ln w="64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9080" bIns="19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682" name=""/>
                    <p:cNvSpPr/>
                    <p:nvPr/>
                  </p:nvSpPr>
                  <p:spPr>
                    <a:xfrm>
                      <a:off x="4527000" y="6412680"/>
                      <a:ext cx="403560" cy="90360"/>
                    </a:xfrm>
                    <a:prstGeom prst="rect">
                      <a:avLst/>
                    </a:prstGeom>
                    <a:solidFill>
                      <a:srgbClr val="e0e0e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3560" bIns="43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0683" name=""/>
                  <p:cNvSpPr/>
                  <p:nvPr/>
                </p:nvSpPr>
                <p:spPr>
                  <a:xfrm flipV="1">
                    <a:off x="4525920" y="6413760"/>
                    <a:ext cx="1080" cy="9504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84" name=""/>
                  <p:cNvSpPr/>
                  <p:nvPr/>
                </p:nvSpPr>
                <p:spPr>
                  <a:xfrm>
                    <a:off x="4932720" y="6416640"/>
                    <a:ext cx="720" cy="9144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4640" bIns="44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685" name=""/>
                <p:cNvGrpSpPr/>
                <p:nvPr/>
              </p:nvGrpSpPr>
              <p:grpSpPr>
                <a:xfrm>
                  <a:off x="4527000" y="6368040"/>
                  <a:ext cx="403560" cy="91440"/>
                  <a:chOff x="4527000" y="6368040"/>
                  <a:chExt cx="403560" cy="91440"/>
                </a:xfrm>
              </p:grpSpPr>
              <p:sp>
                <p:nvSpPr>
                  <p:cNvPr id="10686" name=""/>
                  <p:cNvSpPr/>
                  <p:nvPr/>
                </p:nvSpPr>
                <p:spPr>
                  <a:xfrm>
                    <a:off x="4527000" y="6368040"/>
                    <a:ext cx="403560" cy="91440"/>
                  </a:xfrm>
                  <a:prstGeom prst="ellipse">
                    <a:avLst/>
                  </a:prstGeom>
                  <a:solidFill>
                    <a:srgbClr val="e0e0e0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87" name=""/>
                  <p:cNvSpPr/>
                  <p:nvPr/>
                </p:nvSpPr>
                <p:spPr>
                  <a:xfrm>
                    <a:off x="4539240" y="6381360"/>
                    <a:ext cx="378720" cy="7128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0" bIns="3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688" name=""/>
              <p:cNvGrpSpPr/>
              <p:nvPr/>
            </p:nvGrpSpPr>
            <p:grpSpPr>
              <a:xfrm>
                <a:off x="4574520" y="5987880"/>
                <a:ext cx="474840" cy="466560"/>
                <a:chOff x="4574520" y="5987880"/>
                <a:chExt cx="474840" cy="466560"/>
              </a:xfrm>
            </p:grpSpPr>
            <p:sp>
              <p:nvSpPr>
                <p:cNvPr id="10689" name=""/>
                <p:cNvSpPr/>
                <p:nvPr/>
              </p:nvSpPr>
              <p:spPr>
                <a:xfrm>
                  <a:off x="4592880" y="6336360"/>
                  <a:ext cx="278640" cy="118080"/>
                </a:xfrm>
                <a:prstGeom prst="ellipse">
                  <a:avLst/>
                </a:prstGeom>
                <a:solidFill>
                  <a:srgbClr val="c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90" name=""/>
                <p:cNvSpPr/>
                <p:nvPr/>
              </p:nvSpPr>
              <p:spPr>
                <a:xfrm>
                  <a:off x="4574520" y="5987880"/>
                  <a:ext cx="474840" cy="425160"/>
                </a:xfrm>
                <a:custGeom>
                  <a:avLst/>
                  <a:gdLst/>
                  <a:ahLst/>
                  <a:rect l="l" t="t" r="r" b="b"/>
                  <a:pathLst>
                    <a:path w="1381" h="1018">
                      <a:moveTo>
                        <a:pt x="54" y="976"/>
                      </a:moveTo>
                      <a:lnTo>
                        <a:pt x="31" y="898"/>
                      </a:lnTo>
                      <a:lnTo>
                        <a:pt x="18" y="832"/>
                      </a:lnTo>
                      <a:lnTo>
                        <a:pt x="9" y="772"/>
                      </a:lnTo>
                      <a:lnTo>
                        <a:pt x="6" y="738"/>
                      </a:lnTo>
                      <a:lnTo>
                        <a:pt x="1" y="688"/>
                      </a:lnTo>
                      <a:lnTo>
                        <a:pt x="0" y="607"/>
                      </a:lnTo>
                      <a:lnTo>
                        <a:pt x="10" y="542"/>
                      </a:lnTo>
                      <a:lnTo>
                        <a:pt x="21" y="491"/>
                      </a:lnTo>
                      <a:lnTo>
                        <a:pt x="47" y="444"/>
                      </a:lnTo>
                      <a:lnTo>
                        <a:pt x="82" y="396"/>
                      </a:lnTo>
                      <a:lnTo>
                        <a:pt x="143" y="353"/>
                      </a:lnTo>
                      <a:lnTo>
                        <a:pt x="189" y="333"/>
                      </a:lnTo>
                      <a:lnTo>
                        <a:pt x="240" y="322"/>
                      </a:lnTo>
                      <a:lnTo>
                        <a:pt x="279" y="299"/>
                      </a:lnTo>
                      <a:lnTo>
                        <a:pt x="345" y="257"/>
                      </a:lnTo>
                      <a:lnTo>
                        <a:pt x="305" y="304"/>
                      </a:lnTo>
                      <a:lnTo>
                        <a:pt x="353" y="292"/>
                      </a:lnTo>
                      <a:lnTo>
                        <a:pt x="387" y="283"/>
                      </a:lnTo>
                      <a:lnTo>
                        <a:pt x="436" y="280"/>
                      </a:lnTo>
                      <a:lnTo>
                        <a:pt x="426" y="222"/>
                      </a:lnTo>
                      <a:lnTo>
                        <a:pt x="432" y="170"/>
                      </a:lnTo>
                      <a:lnTo>
                        <a:pt x="445" y="130"/>
                      </a:lnTo>
                      <a:lnTo>
                        <a:pt x="483" y="82"/>
                      </a:lnTo>
                      <a:lnTo>
                        <a:pt x="529" y="45"/>
                      </a:lnTo>
                      <a:lnTo>
                        <a:pt x="617" y="0"/>
                      </a:lnTo>
                      <a:lnTo>
                        <a:pt x="548" y="88"/>
                      </a:lnTo>
                      <a:lnTo>
                        <a:pt x="610" y="69"/>
                      </a:lnTo>
                      <a:lnTo>
                        <a:pt x="659" y="64"/>
                      </a:lnTo>
                      <a:lnTo>
                        <a:pt x="726" y="64"/>
                      </a:lnTo>
                      <a:lnTo>
                        <a:pt x="629" y="104"/>
                      </a:lnTo>
                      <a:lnTo>
                        <a:pt x="702" y="104"/>
                      </a:lnTo>
                      <a:lnTo>
                        <a:pt x="799" y="69"/>
                      </a:lnTo>
                      <a:lnTo>
                        <a:pt x="856" y="54"/>
                      </a:lnTo>
                      <a:lnTo>
                        <a:pt x="949" y="45"/>
                      </a:lnTo>
                      <a:lnTo>
                        <a:pt x="1018" y="38"/>
                      </a:lnTo>
                      <a:lnTo>
                        <a:pt x="1087" y="45"/>
                      </a:lnTo>
                      <a:lnTo>
                        <a:pt x="1199" y="57"/>
                      </a:lnTo>
                      <a:lnTo>
                        <a:pt x="1080" y="73"/>
                      </a:lnTo>
                      <a:lnTo>
                        <a:pt x="1039" y="101"/>
                      </a:lnTo>
                      <a:lnTo>
                        <a:pt x="1015" y="135"/>
                      </a:lnTo>
                      <a:lnTo>
                        <a:pt x="1083" y="114"/>
                      </a:lnTo>
                      <a:lnTo>
                        <a:pt x="1168" y="88"/>
                      </a:lnTo>
                      <a:lnTo>
                        <a:pt x="1253" y="78"/>
                      </a:lnTo>
                      <a:lnTo>
                        <a:pt x="1312" y="76"/>
                      </a:lnTo>
                      <a:lnTo>
                        <a:pt x="1381" y="92"/>
                      </a:lnTo>
                      <a:lnTo>
                        <a:pt x="1309" y="107"/>
                      </a:lnTo>
                      <a:lnTo>
                        <a:pt x="1246" y="126"/>
                      </a:lnTo>
                      <a:lnTo>
                        <a:pt x="1184" y="151"/>
                      </a:lnTo>
                      <a:lnTo>
                        <a:pt x="1139" y="173"/>
                      </a:lnTo>
                      <a:lnTo>
                        <a:pt x="1077" y="230"/>
                      </a:lnTo>
                      <a:lnTo>
                        <a:pt x="1031" y="283"/>
                      </a:lnTo>
                      <a:lnTo>
                        <a:pt x="1000" y="348"/>
                      </a:lnTo>
                      <a:lnTo>
                        <a:pt x="1007" y="423"/>
                      </a:lnTo>
                      <a:lnTo>
                        <a:pt x="1014" y="495"/>
                      </a:lnTo>
                      <a:lnTo>
                        <a:pt x="1015" y="550"/>
                      </a:lnTo>
                      <a:lnTo>
                        <a:pt x="1006" y="621"/>
                      </a:lnTo>
                      <a:lnTo>
                        <a:pt x="984" y="671"/>
                      </a:lnTo>
                      <a:lnTo>
                        <a:pt x="946" y="696"/>
                      </a:lnTo>
                      <a:lnTo>
                        <a:pt x="906" y="709"/>
                      </a:lnTo>
                      <a:lnTo>
                        <a:pt x="850" y="713"/>
                      </a:lnTo>
                      <a:lnTo>
                        <a:pt x="868" y="744"/>
                      </a:lnTo>
                      <a:lnTo>
                        <a:pt x="887" y="773"/>
                      </a:lnTo>
                      <a:lnTo>
                        <a:pt x="903" y="819"/>
                      </a:lnTo>
                      <a:lnTo>
                        <a:pt x="906" y="859"/>
                      </a:lnTo>
                      <a:lnTo>
                        <a:pt x="896" y="903"/>
                      </a:lnTo>
                      <a:lnTo>
                        <a:pt x="861" y="990"/>
                      </a:lnTo>
                      <a:lnTo>
                        <a:pt x="795" y="1018"/>
                      </a:lnTo>
                      <a:lnTo>
                        <a:pt x="54" y="976"/>
                      </a:lnTo>
                      <a:close/>
                    </a:path>
                  </a:pathLst>
                </a:custGeom>
                <a:solidFill>
                  <a:srgbClr val="c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91" name=""/>
                <p:cNvSpPr/>
                <p:nvPr/>
              </p:nvSpPr>
              <p:spPr>
                <a:xfrm>
                  <a:off x="4615560" y="6279120"/>
                  <a:ext cx="252000" cy="170280"/>
                </a:xfrm>
                <a:prstGeom prst="ellipse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92" name=""/>
                <p:cNvSpPr/>
                <p:nvPr/>
              </p:nvSpPr>
              <p:spPr>
                <a:xfrm>
                  <a:off x="4600080" y="6011280"/>
                  <a:ext cx="400680" cy="423000"/>
                </a:xfrm>
                <a:custGeom>
                  <a:avLst/>
                  <a:gdLst/>
                  <a:ahLst/>
                  <a:rect l="l" t="t" r="r" b="b"/>
                  <a:pathLst>
                    <a:path w="1164" h="1010">
                      <a:moveTo>
                        <a:pt x="50" y="869"/>
                      </a:moveTo>
                      <a:lnTo>
                        <a:pt x="31" y="802"/>
                      </a:lnTo>
                      <a:lnTo>
                        <a:pt x="12" y="730"/>
                      </a:lnTo>
                      <a:lnTo>
                        <a:pt x="0" y="668"/>
                      </a:lnTo>
                      <a:lnTo>
                        <a:pt x="0" y="579"/>
                      </a:lnTo>
                      <a:lnTo>
                        <a:pt x="7" y="535"/>
                      </a:lnTo>
                      <a:lnTo>
                        <a:pt x="16" y="491"/>
                      </a:lnTo>
                      <a:lnTo>
                        <a:pt x="41" y="441"/>
                      </a:lnTo>
                      <a:lnTo>
                        <a:pt x="72" y="393"/>
                      </a:lnTo>
                      <a:lnTo>
                        <a:pt x="110" y="361"/>
                      </a:lnTo>
                      <a:lnTo>
                        <a:pt x="147" y="332"/>
                      </a:lnTo>
                      <a:lnTo>
                        <a:pt x="197" y="318"/>
                      </a:lnTo>
                      <a:lnTo>
                        <a:pt x="261" y="311"/>
                      </a:lnTo>
                      <a:lnTo>
                        <a:pt x="312" y="304"/>
                      </a:lnTo>
                      <a:lnTo>
                        <a:pt x="381" y="299"/>
                      </a:lnTo>
                      <a:lnTo>
                        <a:pt x="423" y="292"/>
                      </a:lnTo>
                      <a:lnTo>
                        <a:pt x="404" y="249"/>
                      </a:lnTo>
                      <a:lnTo>
                        <a:pt x="385" y="205"/>
                      </a:lnTo>
                      <a:lnTo>
                        <a:pt x="378" y="158"/>
                      </a:lnTo>
                      <a:lnTo>
                        <a:pt x="381" y="113"/>
                      </a:lnTo>
                      <a:lnTo>
                        <a:pt x="397" y="69"/>
                      </a:lnTo>
                      <a:lnTo>
                        <a:pt x="419" y="40"/>
                      </a:lnTo>
                      <a:lnTo>
                        <a:pt x="463" y="0"/>
                      </a:lnTo>
                      <a:lnTo>
                        <a:pt x="438" y="40"/>
                      </a:lnTo>
                      <a:lnTo>
                        <a:pt x="428" y="73"/>
                      </a:lnTo>
                      <a:lnTo>
                        <a:pt x="457" y="50"/>
                      </a:lnTo>
                      <a:lnTo>
                        <a:pt x="494" y="40"/>
                      </a:lnTo>
                      <a:lnTo>
                        <a:pt x="542" y="35"/>
                      </a:lnTo>
                      <a:lnTo>
                        <a:pt x="497" y="47"/>
                      </a:lnTo>
                      <a:lnTo>
                        <a:pt x="480" y="66"/>
                      </a:lnTo>
                      <a:lnTo>
                        <a:pt x="470" y="97"/>
                      </a:lnTo>
                      <a:lnTo>
                        <a:pt x="473" y="126"/>
                      </a:lnTo>
                      <a:lnTo>
                        <a:pt x="497" y="85"/>
                      </a:lnTo>
                      <a:lnTo>
                        <a:pt x="525" y="69"/>
                      </a:lnTo>
                      <a:lnTo>
                        <a:pt x="563" y="59"/>
                      </a:lnTo>
                      <a:lnTo>
                        <a:pt x="627" y="59"/>
                      </a:lnTo>
                      <a:lnTo>
                        <a:pt x="696" y="44"/>
                      </a:lnTo>
                      <a:lnTo>
                        <a:pt x="736" y="35"/>
                      </a:lnTo>
                      <a:lnTo>
                        <a:pt x="802" y="19"/>
                      </a:lnTo>
                      <a:lnTo>
                        <a:pt x="868" y="9"/>
                      </a:lnTo>
                      <a:lnTo>
                        <a:pt x="945" y="9"/>
                      </a:lnTo>
                      <a:lnTo>
                        <a:pt x="977" y="16"/>
                      </a:lnTo>
                      <a:lnTo>
                        <a:pt x="948" y="35"/>
                      </a:lnTo>
                      <a:lnTo>
                        <a:pt x="910" y="73"/>
                      </a:lnTo>
                      <a:lnTo>
                        <a:pt x="889" y="107"/>
                      </a:lnTo>
                      <a:lnTo>
                        <a:pt x="874" y="126"/>
                      </a:lnTo>
                      <a:lnTo>
                        <a:pt x="852" y="170"/>
                      </a:lnTo>
                      <a:lnTo>
                        <a:pt x="917" y="120"/>
                      </a:lnTo>
                      <a:lnTo>
                        <a:pt x="970" y="92"/>
                      </a:lnTo>
                      <a:lnTo>
                        <a:pt x="1045" y="66"/>
                      </a:lnTo>
                      <a:lnTo>
                        <a:pt x="1124" y="54"/>
                      </a:lnTo>
                      <a:lnTo>
                        <a:pt x="1164" y="50"/>
                      </a:lnTo>
                      <a:lnTo>
                        <a:pt x="1095" y="73"/>
                      </a:lnTo>
                      <a:lnTo>
                        <a:pt x="1026" y="101"/>
                      </a:lnTo>
                      <a:lnTo>
                        <a:pt x="974" y="151"/>
                      </a:lnTo>
                      <a:lnTo>
                        <a:pt x="905" y="239"/>
                      </a:lnTo>
                      <a:lnTo>
                        <a:pt x="868" y="323"/>
                      </a:lnTo>
                      <a:lnTo>
                        <a:pt x="850" y="393"/>
                      </a:lnTo>
                      <a:lnTo>
                        <a:pt x="874" y="374"/>
                      </a:lnTo>
                      <a:lnTo>
                        <a:pt x="889" y="349"/>
                      </a:lnTo>
                      <a:lnTo>
                        <a:pt x="901" y="318"/>
                      </a:lnTo>
                      <a:lnTo>
                        <a:pt x="905" y="368"/>
                      </a:lnTo>
                      <a:lnTo>
                        <a:pt x="914" y="427"/>
                      </a:lnTo>
                      <a:lnTo>
                        <a:pt x="914" y="472"/>
                      </a:lnTo>
                      <a:lnTo>
                        <a:pt x="905" y="531"/>
                      </a:lnTo>
                      <a:lnTo>
                        <a:pt x="882" y="585"/>
                      </a:lnTo>
                      <a:lnTo>
                        <a:pt x="850" y="611"/>
                      </a:lnTo>
                      <a:lnTo>
                        <a:pt x="805" y="620"/>
                      </a:lnTo>
                      <a:lnTo>
                        <a:pt x="762" y="620"/>
                      </a:lnTo>
                      <a:lnTo>
                        <a:pt x="686" y="620"/>
                      </a:lnTo>
                      <a:lnTo>
                        <a:pt x="743" y="670"/>
                      </a:lnTo>
                      <a:lnTo>
                        <a:pt x="771" y="711"/>
                      </a:lnTo>
                      <a:lnTo>
                        <a:pt x="793" y="776"/>
                      </a:lnTo>
                      <a:lnTo>
                        <a:pt x="796" y="810"/>
                      </a:lnTo>
                      <a:lnTo>
                        <a:pt x="790" y="838"/>
                      </a:lnTo>
                      <a:lnTo>
                        <a:pt x="783" y="865"/>
                      </a:lnTo>
                      <a:lnTo>
                        <a:pt x="752" y="914"/>
                      </a:lnTo>
                      <a:lnTo>
                        <a:pt x="670" y="923"/>
                      </a:lnTo>
                      <a:lnTo>
                        <a:pt x="620" y="967"/>
                      </a:lnTo>
                      <a:lnTo>
                        <a:pt x="535" y="983"/>
                      </a:lnTo>
                      <a:lnTo>
                        <a:pt x="419" y="1010"/>
                      </a:lnTo>
                      <a:lnTo>
                        <a:pt x="50" y="869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93" name=""/>
                <p:cNvSpPr/>
                <p:nvPr/>
              </p:nvSpPr>
              <p:spPr>
                <a:xfrm>
                  <a:off x="4580280" y="6121800"/>
                  <a:ext cx="81720" cy="220680"/>
                </a:xfrm>
                <a:custGeom>
                  <a:avLst/>
                  <a:gdLst/>
                  <a:ahLst/>
                  <a:rect l="l" t="t" r="r" b="b"/>
                  <a:pathLst>
                    <a:path w="239" h="527">
                      <a:moveTo>
                        <a:pt x="239" y="0"/>
                      </a:moveTo>
                      <a:lnTo>
                        <a:pt x="183" y="26"/>
                      </a:lnTo>
                      <a:lnTo>
                        <a:pt x="127" y="50"/>
                      </a:lnTo>
                      <a:lnTo>
                        <a:pt x="75" y="94"/>
                      </a:lnTo>
                      <a:lnTo>
                        <a:pt x="38" y="147"/>
                      </a:lnTo>
                      <a:lnTo>
                        <a:pt x="22" y="190"/>
                      </a:lnTo>
                      <a:lnTo>
                        <a:pt x="7" y="242"/>
                      </a:lnTo>
                      <a:lnTo>
                        <a:pt x="0" y="308"/>
                      </a:lnTo>
                      <a:lnTo>
                        <a:pt x="3" y="387"/>
                      </a:lnTo>
                      <a:lnTo>
                        <a:pt x="19" y="426"/>
                      </a:lnTo>
                      <a:lnTo>
                        <a:pt x="38" y="473"/>
                      </a:lnTo>
                      <a:lnTo>
                        <a:pt x="60" y="527"/>
                      </a:lnTo>
                      <a:lnTo>
                        <a:pt x="41" y="449"/>
                      </a:lnTo>
                      <a:lnTo>
                        <a:pt x="26" y="380"/>
                      </a:lnTo>
                      <a:lnTo>
                        <a:pt x="29" y="304"/>
                      </a:lnTo>
                      <a:lnTo>
                        <a:pt x="48" y="213"/>
                      </a:lnTo>
                      <a:lnTo>
                        <a:pt x="84" y="130"/>
                      </a:lnTo>
                      <a:lnTo>
                        <a:pt x="113" y="94"/>
                      </a:lnTo>
                      <a:lnTo>
                        <a:pt x="144" y="66"/>
                      </a:lnTo>
                      <a:lnTo>
                        <a:pt x="169" y="44"/>
                      </a:lnTo>
                      <a:lnTo>
                        <a:pt x="239" y="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94" name=""/>
                <p:cNvSpPr/>
                <p:nvPr/>
              </p:nvSpPr>
              <p:spPr>
                <a:xfrm>
                  <a:off x="4766400" y="6044040"/>
                  <a:ext cx="43200" cy="66600"/>
                </a:xfrm>
                <a:custGeom>
                  <a:avLst/>
                  <a:gdLst/>
                  <a:ahLst/>
                  <a:rect l="l" t="t" r="r" b="b"/>
                  <a:pathLst>
                    <a:path w="125" h="158">
                      <a:moveTo>
                        <a:pt x="125" y="0"/>
                      </a:moveTo>
                      <a:lnTo>
                        <a:pt x="64" y="10"/>
                      </a:lnTo>
                      <a:lnTo>
                        <a:pt x="28" y="23"/>
                      </a:lnTo>
                      <a:lnTo>
                        <a:pt x="12" y="41"/>
                      </a:lnTo>
                      <a:lnTo>
                        <a:pt x="5" y="56"/>
                      </a:lnTo>
                      <a:lnTo>
                        <a:pt x="0" y="88"/>
                      </a:lnTo>
                      <a:lnTo>
                        <a:pt x="0" y="121"/>
                      </a:lnTo>
                      <a:lnTo>
                        <a:pt x="2" y="158"/>
                      </a:lnTo>
                      <a:lnTo>
                        <a:pt x="12" y="79"/>
                      </a:lnTo>
                      <a:lnTo>
                        <a:pt x="32" y="46"/>
                      </a:lnTo>
                      <a:lnTo>
                        <a:pt x="51" y="33"/>
                      </a:lnTo>
                      <a:lnTo>
                        <a:pt x="125" y="0"/>
                      </a:lnTo>
                      <a:close/>
                    </a:path>
                  </a:pathLst>
                </a:custGeom>
                <a:solidFill>
                  <a:srgbClr val="c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95" name=""/>
                <p:cNvSpPr/>
                <p:nvPr/>
              </p:nvSpPr>
              <p:spPr>
                <a:xfrm>
                  <a:off x="4835520" y="6174720"/>
                  <a:ext cx="71280" cy="86400"/>
                </a:xfrm>
                <a:custGeom>
                  <a:avLst/>
                  <a:gdLst/>
                  <a:ahLst/>
                  <a:rect l="l" t="t" r="r" b="b"/>
                  <a:pathLst>
                    <a:path w="206" h="205">
                      <a:moveTo>
                        <a:pt x="204" y="0"/>
                      </a:moveTo>
                      <a:lnTo>
                        <a:pt x="206" y="52"/>
                      </a:lnTo>
                      <a:lnTo>
                        <a:pt x="204" y="106"/>
                      </a:lnTo>
                      <a:lnTo>
                        <a:pt x="185" y="158"/>
                      </a:lnTo>
                      <a:lnTo>
                        <a:pt x="163" y="186"/>
                      </a:lnTo>
                      <a:lnTo>
                        <a:pt x="136" y="200"/>
                      </a:lnTo>
                      <a:lnTo>
                        <a:pt x="82" y="202"/>
                      </a:lnTo>
                      <a:lnTo>
                        <a:pt x="34" y="205"/>
                      </a:lnTo>
                      <a:lnTo>
                        <a:pt x="0" y="202"/>
                      </a:lnTo>
                      <a:lnTo>
                        <a:pt x="24" y="196"/>
                      </a:lnTo>
                      <a:lnTo>
                        <a:pt x="63" y="186"/>
                      </a:lnTo>
                      <a:lnTo>
                        <a:pt x="108" y="165"/>
                      </a:lnTo>
                      <a:lnTo>
                        <a:pt x="146" y="128"/>
                      </a:lnTo>
                      <a:lnTo>
                        <a:pt x="173" y="81"/>
                      </a:lnTo>
                      <a:lnTo>
                        <a:pt x="185" y="52"/>
                      </a:lnTo>
                      <a:lnTo>
                        <a:pt x="204" y="0"/>
                      </a:lnTo>
                      <a:close/>
                    </a:path>
                  </a:pathLst>
                </a:custGeom>
                <a:solidFill>
                  <a:srgbClr val="c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0" bIns="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96" name=""/>
                <p:cNvSpPr/>
                <p:nvPr/>
              </p:nvSpPr>
              <p:spPr>
                <a:xfrm>
                  <a:off x="4615560" y="6159600"/>
                  <a:ext cx="61920" cy="179280"/>
                </a:xfrm>
                <a:custGeom>
                  <a:avLst/>
                  <a:gdLst/>
                  <a:ahLst/>
                  <a:rect l="l" t="t" r="r" b="b"/>
                  <a:pathLst>
                    <a:path w="182" h="430">
                      <a:moveTo>
                        <a:pt x="182" y="0"/>
                      </a:moveTo>
                      <a:lnTo>
                        <a:pt x="120" y="16"/>
                      </a:lnTo>
                      <a:lnTo>
                        <a:pt x="54" y="54"/>
                      </a:lnTo>
                      <a:lnTo>
                        <a:pt x="27" y="89"/>
                      </a:lnTo>
                      <a:lnTo>
                        <a:pt x="12" y="125"/>
                      </a:lnTo>
                      <a:lnTo>
                        <a:pt x="2" y="178"/>
                      </a:lnTo>
                      <a:lnTo>
                        <a:pt x="0" y="220"/>
                      </a:lnTo>
                      <a:lnTo>
                        <a:pt x="0" y="254"/>
                      </a:lnTo>
                      <a:lnTo>
                        <a:pt x="12" y="345"/>
                      </a:lnTo>
                      <a:lnTo>
                        <a:pt x="33" y="430"/>
                      </a:lnTo>
                      <a:lnTo>
                        <a:pt x="27" y="273"/>
                      </a:lnTo>
                      <a:lnTo>
                        <a:pt x="36" y="213"/>
                      </a:lnTo>
                      <a:lnTo>
                        <a:pt x="54" y="154"/>
                      </a:lnTo>
                      <a:lnTo>
                        <a:pt x="82" y="101"/>
                      </a:lnTo>
                      <a:lnTo>
                        <a:pt x="101" y="70"/>
                      </a:lnTo>
                      <a:lnTo>
                        <a:pt x="129" y="42"/>
                      </a:lnTo>
                      <a:lnTo>
                        <a:pt x="182" y="0"/>
                      </a:lnTo>
                      <a:close/>
                    </a:path>
                  </a:pathLst>
                </a:custGeom>
                <a:solidFill>
                  <a:srgbClr val="c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97" name=""/>
                <p:cNvSpPr/>
                <p:nvPr/>
              </p:nvSpPr>
              <p:spPr>
                <a:xfrm>
                  <a:off x="4778640" y="6026400"/>
                  <a:ext cx="122760" cy="111600"/>
                </a:xfrm>
                <a:custGeom>
                  <a:avLst/>
                  <a:gdLst/>
                  <a:ahLst/>
                  <a:rect l="l" t="t" r="r" b="b"/>
                  <a:pathLst>
                    <a:path w="356" h="268">
                      <a:moveTo>
                        <a:pt x="356" y="0"/>
                      </a:moveTo>
                      <a:lnTo>
                        <a:pt x="295" y="5"/>
                      </a:lnTo>
                      <a:lnTo>
                        <a:pt x="256" y="15"/>
                      </a:lnTo>
                      <a:lnTo>
                        <a:pt x="225" y="31"/>
                      </a:lnTo>
                      <a:lnTo>
                        <a:pt x="203" y="47"/>
                      </a:lnTo>
                      <a:lnTo>
                        <a:pt x="175" y="70"/>
                      </a:lnTo>
                      <a:lnTo>
                        <a:pt x="149" y="115"/>
                      </a:lnTo>
                      <a:lnTo>
                        <a:pt x="149" y="74"/>
                      </a:lnTo>
                      <a:lnTo>
                        <a:pt x="156" y="50"/>
                      </a:lnTo>
                      <a:lnTo>
                        <a:pt x="165" y="38"/>
                      </a:lnTo>
                      <a:lnTo>
                        <a:pt x="140" y="53"/>
                      </a:lnTo>
                      <a:lnTo>
                        <a:pt x="121" y="77"/>
                      </a:lnTo>
                      <a:lnTo>
                        <a:pt x="118" y="112"/>
                      </a:lnTo>
                      <a:lnTo>
                        <a:pt x="115" y="134"/>
                      </a:lnTo>
                      <a:lnTo>
                        <a:pt x="102" y="178"/>
                      </a:lnTo>
                      <a:lnTo>
                        <a:pt x="90" y="208"/>
                      </a:lnTo>
                      <a:lnTo>
                        <a:pt x="67" y="239"/>
                      </a:lnTo>
                      <a:lnTo>
                        <a:pt x="19" y="258"/>
                      </a:lnTo>
                      <a:lnTo>
                        <a:pt x="0" y="265"/>
                      </a:lnTo>
                      <a:lnTo>
                        <a:pt x="72" y="268"/>
                      </a:lnTo>
                      <a:lnTo>
                        <a:pt x="106" y="268"/>
                      </a:lnTo>
                      <a:lnTo>
                        <a:pt x="140" y="249"/>
                      </a:lnTo>
                      <a:lnTo>
                        <a:pt x="165" y="220"/>
                      </a:lnTo>
                      <a:lnTo>
                        <a:pt x="177" y="184"/>
                      </a:lnTo>
                      <a:lnTo>
                        <a:pt x="187" y="146"/>
                      </a:lnTo>
                      <a:lnTo>
                        <a:pt x="208" y="115"/>
                      </a:lnTo>
                      <a:lnTo>
                        <a:pt x="270" y="89"/>
                      </a:lnTo>
                      <a:lnTo>
                        <a:pt x="227" y="89"/>
                      </a:lnTo>
                      <a:lnTo>
                        <a:pt x="225" y="70"/>
                      </a:lnTo>
                      <a:lnTo>
                        <a:pt x="243" y="53"/>
                      </a:lnTo>
                      <a:lnTo>
                        <a:pt x="270" y="34"/>
                      </a:lnTo>
                      <a:lnTo>
                        <a:pt x="295" y="22"/>
                      </a:lnTo>
                      <a:lnTo>
                        <a:pt x="356" y="0"/>
                      </a:lnTo>
                      <a:close/>
                    </a:path>
                  </a:pathLst>
                </a:custGeom>
                <a:solidFill>
                  <a:srgbClr val="c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98" name=""/>
                <p:cNvSpPr/>
                <p:nvPr/>
              </p:nvSpPr>
              <p:spPr>
                <a:xfrm>
                  <a:off x="4652640" y="6169680"/>
                  <a:ext cx="149400" cy="239760"/>
                </a:xfrm>
                <a:custGeom>
                  <a:avLst/>
                  <a:gdLst/>
                  <a:ahLst/>
                  <a:rect l="l" t="t" r="r" b="b"/>
                  <a:pathLst>
                    <a:path w="434" h="572">
                      <a:moveTo>
                        <a:pt x="297" y="0"/>
                      </a:moveTo>
                      <a:lnTo>
                        <a:pt x="209" y="19"/>
                      </a:lnTo>
                      <a:lnTo>
                        <a:pt x="139" y="41"/>
                      </a:lnTo>
                      <a:lnTo>
                        <a:pt x="85" y="79"/>
                      </a:lnTo>
                      <a:lnTo>
                        <a:pt x="41" y="133"/>
                      </a:lnTo>
                      <a:lnTo>
                        <a:pt x="10" y="207"/>
                      </a:lnTo>
                      <a:lnTo>
                        <a:pt x="0" y="267"/>
                      </a:lnTo>
                      <a:lnTo>
                        <a:pt x="0" y="352"/>
                      </a:lnTo>
                      <a:lnTo>
                        <a:pt x="7" y="425"/>
                      </a:lnTo>
                      <a:lnTo>
                        <a:pt x="22" y="483"/>
                      </a:lnTo>
                      <a:lnTo>
                        <a:pt x="43" y="535"/>
                      </a:lnTo>
                      <a:lnTo>
                        <a:pt x="155" y="572"/>
                      </a:lnTo>
                      <a:lnTo>
                        <a:pt x="246" y="541"/>
                      </a:lnTo>
                      <a:lnTo>
                        <a:pt x="297" y="513"/>
                      </a:lnTo>
                      <a:lnTo>
                        <a:pt x="322" y="483"/>
                      </a:lnTo>
                      <a:lnTo>
                        <a:pt x="346" y="425"/>
                      </a:lnTo>
                      <a:lnTo>
                        <a:pt x="361" y="366"/>
                      </a:lnTo>
                      <a:lnTo>
                        <a:pt x="365" y="311"/>
                      </a:lnTo>
                      <a:lnTo>
                        <a:pt x="358" y="274"/>
                      </a:lnTo>
                      <a:lnTo>
                        <a:pt x="346" y="349"/>
                      </a:lnTo>
                      <a:lnTo>
                        <a:pt x="326" y="394"/>
                      </a:lnTo>
                      <a:lnTo>
                        <a:pt x="290" y="430"/>
                      </a:lnTo>
                      <a:lnTo>
                        <a:pt x="246" y="455"/>
                      </a:lnTo>
                      <a:lnTo>
                        <a:pt x="281" y="390"/>
                      </a:lnTo>
                      <a:lnTo>
                        <a:pt x="290" y="359"/>
                      </a:lnTo>
                      <a:lnTo>
                        <a:pt x="290" y="318"/>
                      </a:lnTo>
                      <a:lnTo>
                        <a:pt x="290" y="264"/>
                      </a:lnTo>
                      <a:lnTo>
                        <a:pt x="300" y="198"/>
                      </a:lnTo>
                      <a:lnTo>
                        <a:pt x="312" y="163"/>
                      </a:lnTo>
                      <a:lnTo>
                        <a:pt x="327" y="121"/>
                      </a:lnTo>
                      <a:lnTo>
                        <a:pt x="339" y="98"/>
                      </a:lnTo>
                      <a:lnTo>
                        <a:pt x="312" y="117"/>
                      </a:lnTo>
                      <a:lnTo>
                        <a:pt x="288" y="148"/>
                      </a:lnTo>
                      <a:lnTo>
                        <a:pt x="255" y="217"/>
                      </a:lnTo>
                      <a:lnTo>
                        <a:pt x="231" y="283"/>
                      </a:lnTo>
                      <a:lnTo>
                        <a:pt x="222" y="226"/>
                      </a:lnTo>
                      <a:lnTo>
                        <a:pt x="224" y="160"/>
                      </a:lnTo>
                      <a:lnTo>
                        <a:pt x="240" y="107"/>
                      </a:lnTo>
                      <a:lnTo>
                        <a:pt x="272" y="76"/>
                      </a:lnTo>
                      <a:lnTo>
                        <a:pt x="297" y="60"/>
                      </a:lnTo>
                      <a:lnTo>
                        <a:pt x="349" y="50"/>
                      </a:lnTo>
                      <a:lnTo>
                        <a:pt x="380" y="50"/>
                      </a:lnTo>
                      <a:lnTo>
                        <a:pt x="434" y="38"/>
                      </a:lnTo>
                      <a:lnTo>
                        <a:pt x="355" y="38"/>
                      </a:lnTo>
                      <a:lnTo>
                        <a:pt x="303" y="41"/>
                      </a:lnTo>
                      <a:lnTo>
                        <a:pt x="222" y="67"/>
                      </a:lnTo>
                      <a:lnTo>
                        <a:pt x="181" y="86"/>
                      </a:lnTo>
                      <a:lnTo>
                        <a:pt x="146" y="123"/>
                      </a:lnTo>
                      <a:lnTo>
                        <a:pt x="155" y="86"/>
                      </a:lnTo>
                      <a:lnTo>
                        <a:pt x="174" y="57"/>
                      </a:lnTo>
                      <a:lnTo>
                        <a:pt x="205" y="41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c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0699" name=""/>
            <p:cNvSpPr/>
            <p:nvPr/>
          </p:nvSpPr>
          <p:spPr>
            <a:xfrm>
              <a:off x="4660920" y="5645520"/>
              <a:ext cx="10126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1400" spc="-1" strike="noStrike">
                  <a:solidFill>
                    <a:srgbClr val="000000"/>
                  </a:solidFill>
                  <a:latin typeface="Times New Roman"/>
                </a:rPr>
                <a:t>CO</a:t>
              </a:r>
              <a:r>
                <a:rPr b="1" lang="cs-CZ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cs-CZ" sz="1400" spc="-1" strike="noStrike">
                  <a:solidFill>
                    <a:srgbClr val="000000"/>
                  </a:solidFill>
                  <a:latin typeface="Times New Roman"/>
                </a:rPr>
                <a:t>+H</a:t>
              </a:r>
              <a:r>
                <a:rPr b="1" lang="cs-CZ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cs-CZ" sz="1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0" name=""/>
            <p:cNvSpPr/>
            <p:nvPr/>
          </p:nvSpPr>
          <p:spPr>
            <a:xfrm>
              <a:off x="5538960" y="4510440"/>
              <a:ext cx="12492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1400" spc="-1" strike="noStrike">
                  <a:solidFill>
                    <a:srgbClr val="000000"/>
                  </a:solidFill>
                  <a:latin typeface="Times New Roman"/>
                </a:rPr>
                <a:t>upřednostněn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1400" spc="-1" strike="noStrike">
                  <a:solidFill>
                    <a:srgbClr val="000000"/>
                  </a:solidFill>
                  <a:latin typeface="Times New Roman"/>
                </a:rPr>
                <a:t>při alkalémi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1" name=""/>
            <p:cNvSpPr/>
            <p:nvPr/>
          </p:nvSpPr>
          <p:spPr>
            <a:xfrm>
              <a:off x="5607360" y="6040800"/>
              <a:ext cx="12492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1400" spc="-1" strike="noStrike">
                  <a:solidFill>
                    <a:srgbClr val="000000"/>
                  </a:solidFill>
                  <a:latin typeface="Times New Roman"/>
                </a:rPr>
                <a:t>upřednostněn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1400" spc="-1" strike="noStrike">
                  <a:solidFill>
                    <a:srgbClr val="000000"/>
                  </a:solidFill>
                  <a:latin typeface="Times New Roman"/>
                </a:rPr>
                <a:t>při acidémi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2" name=""/>
            <p:cNvSpPr/>
            <p:nvPr/>
          </p:nvSpPr>
          <p:spPr>
            <a:xfrm>
              <a:off x="7047000" y="4175640"/>
              <a:ext cx="12492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1400" spc="-1" strike="noStrike">
                  <a:solidFill>
                    <a:srgbClr val="000000"/>
                  </a:solidFill>
                  <a:latin typeface="Times New Roman"/>
                </a:rPr>
                <a:t>upřednostněn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1400" spc="-1" strike="noStrike">
                  <a:solidFill>
                    <a:srgbClr val="000000"/>
                  </a:solidFill>
                  <a:latin typeface="Times New Roman"/>
                </a:rPr>
                <a:t>při acidémi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3" name=""/>
            <p:cNvSpPr/>
            <p:nvPr/>
          </p:nvSpPr>
          <p:spPr>
            <a:xfrm>
              <a:off x="1800360" y="1949400"/>
              <a:ext cx="488880" cy="11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4" name=""/>
            <p:cNvSpPr/>
            <p:nvPr/>
          </p:nvSpPr>
          <p:spPr>
            <a:xfrm>
              <a:off x="2784600" y="1836720"/>
              <a:ext cx="1062000" cy="339840"/>
            </a:xfrm>
            <a:custGeom>
              <a:avLst/>
              <a:gdLst/>
              <a:ahLst/>
              <a:rect l="l" t="t" r="r" b="b"/>
              <a:pathLst>
                <a:path w="669" h="214">
                  <a:moveTo>
                    <a:pt x="0" y="94"/>
                  </a:moveTo>
                  <a:cubicBezTo>
                    <a:pt x="86" y="81"/>
                    <a:pt x="404" y="0"/>
                    <a:pt x="515" y="20"/>
                  </a:cubicBezTo>
                  <a:cubicBezTo>
                    <a:pt x="626" y="40"/>
                    <a:pt x="637" y="174"/>
                    <a:pt x="669" y="214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5" name=""/>
            <p:cNvSpPr/>
            <p:nvPr/>
          </p:nvSpPr>
          <p:spPr>
            <a:xfrm>
              <a:off x="299880" y="-360"/>
              <a:ext cx="3027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16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proton-produkční reakce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706" name=""/>
            <p:cNvGrpSpPr/>
            <p:nvPr/>
          </p:nvGrpSpPr>
          <p:grpSpPr>
            <a:xfrm>
              <a:off x="3710160" y="1605960"/>
              <a:ext cx="617400" cy="368280"/>
              <a:chOff x="3710160" y="1605960"/>
              <a:chExt cx="617400" cy="368280"/>
            </a:xfrm>
          </p:grpSpPr>
          <p:sp>
            <p:nvSpPr>
              <p:cNvPr id="10707" name=""/>
              <p:cNvSpPr/>
              <p:nvPr/>
            </p:nvSpPr>
            <p:spPr>
              <a:xfrm>
                <a:off x="3777120" y="1685880"/>
                <a:ext cx="446040" cy="225360"/>
              </a:xfrm>
              <a:prstGeom prst="ellipse">
                <a:avLst/>
              </a:pr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8" name=""/>
              <p:cNvSpPr/>
              <p:nvPr/>
            </p:nvSpPr>
            <p:spPr>
              <a:xfrm>
                <a:off x="3710160" y="1605960"/>
                <a:ext cx="617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18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r>
                  <a:rPr b="1" lang="cs-CZ" sz="1800" spc="-1" strike="noStrike" baseline="30000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09" name=""/>
            <p:cNvGrpSpPr/>
            <p:nvPr/>
          </p:nvGrpSpPr>
          <p:grpSpPr>
            <a:xfrm>
              <a:off x="4260960" y="1639080"/>
              <a:ext cx="617400" cy="368280"/>
              <a:chOff x="4260960" y="1639080"/>
              <a:chExt cx="617400" cy="368280"/>
            </a:xfrm>
          </p:grpSpPr>
          <p:sp>
            <p:nvSpPr>
              <p:cNvPr id="10710" name=""/>
              <p:cNvSpPr/>
              <p:nvPr/>
            </p:nvSpPr>
            <p:spPr>
              <a:xfrm>
                <a:off x="4327920" y="1719000"/>
                <a:ext cx="446040" cy="225360"/>
              </a:xfrm>
              <a:prstGeom prst="ellipse">
                <a:avLst/>
              </a:pr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1" name=""/>
              <p:cNvSpPr/>
              <p:nvPr/>
            </p:nvSpPr>
            <p:spPr>
              <a:xfrm>
                <a:off x="4260960" y="1639080"/>
                <a:ext cx="617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18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r>
                  <a:rPr b="1" lang="cs-CZ" sz="1800" spc="-1" strike="noStrike" baseline="30000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12" name=""/>
            <p:cNvGrpSpPr/>
            <p:nvPr/>
          </p:nvGrpSpPr>
          <p:grpSpPr>
            <a:xfrm>
              <a:off x="3179880" y="1683720"/>
              <a:ext cx="617400" cy="368280"/>
              <a:chOff x="3179880" y="1683720"/>
              <a:chExt cx="617400" cy="368280"/>
            </a:xfrm>
          </p:grpSpPr>
          <p:sp>
            <p:nvSpPr>
              <p:cNvPr id="10713" name=""/>
              <p:cNvSpPr/>
              <p:nvPr/>
            </p:nvSpPr>
            <p:spPr>
              <a:xfrm>
                <a:off x="3246840" y="1763640"/>
                <a:ext cx="446040" cy="225360"/>
              </a:xfrm>
              <a:prstGeom prst="ellipse">
                <a:avLst/>
              </a:pr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4" name=""/>
              <p:cNvSpPr/>
              <p:nvPr/>
            </p:nvSpPr>
            <p:spPr>
              <a:xfrm>
                <a:off x="3179880" y="1683720"/>
                <a:ext cx="617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18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r>
                  <a:rPr b="1" lang="cs-CZ" sz="1800" spc="-1" strike="noStrike" baseline="30000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15" name=""/>
            <p:cNvGrpSpPr/>
            <p:nvPr/>
          </p:nvGrpSpPr>
          <p:grpSpPr>
            <a:xfrm>
              <a:off x="3224160" y="4957200"/>
              <a:ext cx="617760" cy="368280"/>
              <a:chOff x="3224160" y="4957200"/>
              <a:chExt cx="617760" cy="368280"/>
            </a:xfrm>
          </p:grpSpPr>
          <p:sp>
            <p:nvSpPr>
              <p:cNvPr id="10716" name=""/>
              <p:cNvSpPr/>
              <p:nvPr/>
            </p:nvSpPr>
            <p:spPr>
              <a:xfrm>
                <a:off x="3291480" y="5037120"/>
                <a:ext cx="446400" cy="225360"/>
              </a:xfrm>
              <a:prstGeom prst="ellipse">
                <a:avLst/>
              </a:pr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7" name=""/>
              <p:cNvSpPr/>
              <p:nvPr/>
            </p:nvSpPr>
            <p:spPr>
              <a:xfrm>
                <a:off x="3224160" y="4957200"/>
                <a:ext cx="617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18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r>
                  <a:rPr b="1" lang="cs-CZ" sz="1800" spc="-1" strike="noStrike" baseline="30000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18" name=""/>
            <p:cNvSpPr/>
            <p:nvPr/>
          </p:nvSpPr>
          <p:spPr>
            <a:xfrm>
              <a:off x="3909960" y="4970520"/>
              <a:ext cx="1800" cy="654120"/>
            </a:xfrm>
            <a:custGeom>
              <a:avLst/>
              <a:gdLst/>
              <a:ahLst/>
              <a:rect l="l" t="t" r="r" b="b"/>
              <a:pathLst>
                <a:path w="1" h="412">
                  <a:moveTo>
                    <a:pt x="0" y="0"/>
                  </a:moveTo>
                  <a:lnTo>
                    <a:pt x="0" y="41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719" name=""/>
            <p:cNvGrpSpPr/>
            <p:nvPr/>
          </p:nvGrpSpPr>
          <p:grpSpPr>
            <a:xfrm>
              <a:off x="3613320" y="5150880"/>
              <a:ext cx="653760" cy="368280"/>
              <a:chOff x="3613320" y="5150880"/>
              <a:chExt cx="653760" cy="368280"/>
            </a:xfrm>
          </p:grpSpPr>
          <p:sp>
            <p:nvSpPr>
              <p:cNvPr id="10720" name=""/>
              <p:cNvSpPr/>
              <p:nvPr/>
            </p:nvSpPr>
            <p:spPr>
              <a:xfrm>
                <a:off x="3684600" y="5218560"/>
                <a:ext cx="472320" cy="253440"/>
              </a:xfrm>
              <a:prstGeom prst="ellipse">
                <a:avLst/>
              </a:pr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1" name=""/>
              <p:cNvSpPr/>
              <p:nvPr/>
            </p:nvSpPr>
            <p:spPr>
              <a:xfrm>
                <a:off x="3613320" y="5150880"/>
                <a:ext cx="653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18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r>
                  <a:rPr b="1" lang="cs-CZ" sz="1800" spc="-1" strike="noStrike" baseline="30000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22" name=""/>
            <p:cNvSpPr/>
            <p:nvPr/>
          </p:nvSpPr>
          <p:spPr>
            <a:xfrm>
              <a:off x="110160" y="6290640"/>
              <a:ext cx="264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800" spc="-1" strike="noStrike">
                  <a:solidFill>
                    <a:srgbClr val="000000"/>
                  </a:solidFill>
                  <a:latin typeface="Times New Roman"/>
                </a:rPr>
                <a:t>Neutrální  aminokyselin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3" name=""/>
            <p:cNvSpPr/>
            <p:nvPr/>
          </p:nvSpPr>
          <p:spPr>
            <a:xfrm>
              <a:off x="3946680" y="4943520"/>
              <a:ext cx="707760" cy="1225440"/>
            </a:xfrm>
            <a:custGeom>
              <a:avLst/>
              <a:gdLst/>
              <a:ahLst/>
              <a:rect l="l" t="t" r="r" b="b"/>
              <a:pathLst>
                <a:path w="446" h="772">
                  <a:moveTo>
                    <a:pt x="0" y="0"/>
                  </a:moveTo>
                  <a:lnTo>
                    <a:pt x="446" y="772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724" name=""/>
            <p:cNvGrpSpPr/>
            <p:nvPr/>
          </p:nvGrpSpPr>
          <p:grpSpPr>
            <a:xfrm>
              <a:off x="4165560" y="5581080"/>
              <a:ext cx="617400" cy="368280"/>
              <a:chOff x="4165560" y="5581080"/>
              <a:chExt cx="617400" cy="368280"/>
            </a:xfrm>
          </p:grpSpPr>
          <p:sp>
            <p:nvSpPr>
              <p:cNvPr id="10725" name=""/>
              <p:cNvSpPr/>
              <p:nvPr/>
            </p:nvSpPr>
            <p:spPr>
              <a:xfrm>
                <a:off x="4232520" y="5661000"/>
                <a:ext cx="446040" cy="225360"/>
              </a:xfrm>
              <a:prstGeom prst="ellipse">
                <a:avLst/>
              </a:pr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6" name=""/>
              <p:cNvSpPr/>
              <p:nvPr/>
            </p:nvSpPr>
            <p:spPr>
              <a:xfrm>
                <a:off x="4165560" y="5581080"/>
                <a:ext cx="617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18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r>
                  <a:rPr b="1" lang="cs-CZ" sz="1800" spc="-1" strike="noStrike" baseline="30000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27" name=""/>
            <p:cNvSpPr/>
            <p:nvPr/>
          </p:nvSpPr>
          <p:spPr>
            <a:xfrm>
              <a:off x="4253040" y="4999320"/>
              <a:ext cx="10126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1400" spc="-1" strike="noStrike">
                  <a:solidFill>
                    <a:srgbClr val="000000"/>
                  </a:solidFill>
                  <a:latin typeface="Times New Roman"/>
                </a:rPr>
                <a:t>CO</a:t>
              </a:r>
              <a:r>
                <a:rPr b="1" lang="cs-CZ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cs-CZ" sz="1400" spc="-1" strike="noStrike">
                  <a:solidFill>
                    <a:srgbClr val="000000"/>
                  </a:solidFill>
                  <a:latin typeface="Times New Roman"/>
                </a:rPr>
                <a:t>+H</a:t>
              </a:r>
              <a:r>
                <a:rPr b="1" lang="cs-CZ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cs-CZ" sz="1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8" name=""/>
            <p:cNvSpPr/>
            <p:nvPr/>
          </p:nvSpPr>
          <p:spPr>
            <a:xfrm>
              <a:off x="2712960" y="6494400"/>
              <a:ext cx="1551240" cy="9720"/>
            </a:xfrm>
            <a:custGeom>
              <a:avLst/>
              <a:gdLst/>
              <a:ahLst/>
              <a:rect l="l" t="t" r="r" b="b"/>
              <a:pathLst>
                <a:path w="977" h="6">
                  <a:moveTo>
                    <a:pt x="0" y="0"/>
                  </a:moveTo>
                  <a:lnTo>
                    <a:pt x="977" y="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36000" bIns="-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9" name=""/>
            <p:cNvSpPr/>
            <p:nvPr/>
          </p:nvSpPr>
          <p:spPr>
            <a:xfrm>
              <a:off x="227880" y="4785840"/>
              <a:ext cx="250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16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proton-konsumpční reakce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0" name=""/>
            <p:cNvSpPr/>
            <p:nvPr/>
          </p:nvSpPr>
          <p:spPr>
            <a:xfrm>
              <a:off x="3134520" y="6521040"/>
              <a:ext cx="1323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1600" spc="-1" strike="noStrike">
                  <a:solidFill>
                    <a:srgbClr val="000000"/>
                  </a:solidFill>
                  <a:latin typeface="Times New Roman"/>
                </a:rPr>
                <a:t>aminoskupin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1" name=""/>
            <p:cNvSpPr/>
            <p:nvPr/>
          </p:nvSpPr>
          <p:spPr>
            <a:xfrm>
              <a:off x="2771280" y="6210000"/>
              <a:ext cx="1381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1600" spc="-1" strike="noStrike">
                  <a:solidFill>
                    <a:srgbClr val="000000"/>
                  </a:solidFill>
                  <a:latin typeface="Times New Roman"/>
                </a:rPr>
                <a:t>uhlíkový skel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2" name=""/>
            <p:cNvSpPr/>
            <p:nvPr/>
          </p:nvSpPr>
          <p:spPr>
            <a:xfrm flipV="1">
              <a:off x="4827600" y="5932080"/>
              <a:ext cx="352440" cy="236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3" name=""/>
            <p:cNvSpPr/>
            <p:nvPr/>
          </p:nvSpPr>
          <p:spPr>
            <a:xfrm flipV="1">
              <a:off x="4081320" y="5305320"/>
              <a:ext cx="433440" cy="26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4" name=""/>
            <p:cNvSpPr/>
            <p:nvPr/>
          </p:nvSpPr>
          <p:spPr>
            <a:xfrm flipV="1">
              <a:off x="2973240" y="4915080"/>
              <a:ext cx="187560" cy="280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5" name=""/>
            <p:cNvSpPr/>
            <p:nvPr/>
          </p:nvSpPr>
          <p:spPr>
            <a:xfrm flipV="1">
              <a:off x="4195800" y="568440"/>
              <a:ext cx="331920" cy="325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6" name=""/>
            <p:cNvSpPr/>
            <p:nvPr/>
          </p:nvSpPr>
          <p:spPr>
            <a:xfrm>
              <a:off x="2622600" y="1436760"/>
              <a:ext cx="235080" cy="295200"/>
            </a:xfrm>
            <a:custGeom>
              <a:avLst/>
              <a:gdLst/>
              <a:ahLst/>
              <a:rect l="l" t="t" r="r" b="b"/>
              <a:pathLst>
                <a:path w="148" h="186">
                  <a:moveTo>
                    <a:pt x="0" y="186"/>
                  </a:moveTo>
                  <a:lnTo>
                    <a:pt x="148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"/>
          <p:cNvSpPr/>
          <p:nvPr/>
        </p:nvSpPr>
        <p:spPr>
          <a:xfrm>
            <a:off x="905040" y="2692440"/>
            <a:ext cx="5168880" cy="2830320"/>
          </a:xfrm>
          <a:prstGeom prst="can">
            <a:avLst>
              <a:gd name="adj" fmla="val 25000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662040" y="3371760"/>
            <a:ext cx="5648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enní bilance chlorid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867040" y="1716120"/>
            <a:ext cx="863640" cy="965160"/>
          </a:xfrm>
          <a:custGeom>
            <a:avLst/>
            <a:gdLst/>
            <a:ahLst/>
            <a:rect l="l" t="t" r="r" b="b"/>
            <a:pathLst>
              <a:path w="2256" h="2295">
                <a:moveTo>
                  <a:pt x="0" y="0"/>
                </a:moveTo>
                <a:lnTo>
                  <a:pt x="939" y="1180"/>
                </a:lnTo>
                <a:lnTo>
                  <a:pt x="980" y="2175"/>
                </a:lnTo>
                <a:lnTo>
                  <a:pt x="983" y="2202"/>
                </a:lnTo>
                <a:lnTo>
                  <a:pt x="991" y="2221"/>
                </a:lnTo>
                <a:lnTo>
                  <a:pt x="1000" y="2235"/>
                </a:lnTo>
                <a:lnTo>
                  <a:pt x="1010" y="2246"/>
                </a:lnTo>
                <a:lnTo>
                  <a:pt x="1024" y="2260"/>
                </a:lnTo>
                <a:lnTo>
                  <a:pt x="1038" y="2268"/>
                </a:lnTo>
                <a:lnTo>
                  <a:pt x="1060" y="2281"/>
                </a:lnTo>
                <a:lnTo>
                  <a:pt x="1083" y="2287"/>
                </a:lnTo>
                <a:lnTo>
                  <a:pt x="1111" y="2293"/>
                </a:lnTo>
                <a:lnTo>
                  <a:pt x="1128" y="2295"/>
                </a:lnTo>
                <a:lnTo>
                  <a:pt x="1145" y="2295"/>
                </a:lnTo>
                <a:lnTo>
                  <a:pt x="1163" y="2292"/>
                </a:lnTo>
                <a:lnTo>
                  <a:pt x="1183" y="2286"/>
                </a:lnTo>
                <a:lnTo>
                  <a:pt x="1202" y="2279"/>
                </a:lnTo>
                <a:lnTo>
                  <a:pt x="1221" y="2268"/>
                </a:lnTo>
                <a:lnTo>
                  <a:pt x="1235" y="2259"/>
                </a:lnTo>
                <a:lnTo>
                  <a:pt x="1251" y="2243"/>
                </a:lnTo>
                <a:lnTo>
                  <a:pt x="1262" y="2227"/>
                </a:lnTo>
                <a:lnTo>
                  <a:pt x="1273" y="2203"/>
                </a:lnTo>
                <a:lnTo>
                  <a:pt x="1276" y="2181"/>
                </a:lnTo>
                <a:lnTo>
                  <a:pt x="1336" y="1161"/>
                </a:lnTo>
                <a:lnTo>
                  <a:pt x="2256" y="0"/>
                </a:lnTo>
                <a:lnTo>
                  <a:pt x="0" y="0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859120" y="1609560"/>
            <a:ext cx="879480" cy="182880"/>
          </a:xfrm>
          <a:prstGeom prst="ellipse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927520" y="1744560"/>
            <a:ext cx="749160" cy="906480"/>
          </a:xfrm>
          <a:custGeom>
            <a:avLst/>
            <a:gdLst/>
            <a:ahLst/>
            <a:rect l="l" t="t" r="r" b="b"/>
            <a:pathLst>
              <a:path w="1956" h="2159">
                <a:moveTo>
                  <a:pt x="0" y="19"/>
                </a:moveTo>
                <a:lnTo>
                  <a:pt x="857" y="1063"/>
                </a:lnTo>
                <a:lnTo>
                  <a:pt x="879" y="2090"/>
                </a:lnTo>
                <a:lnTo>
                  <a:pt x="887" y="2107"/>
                </a:lnTo>
                <a:lnTo>
                  <a:pt x="897" y="2123"/>
                </a:lnTo>
                <a:lnTo>
                  <a:pt x="906" y="2137"/>
                </a:lnTo>
                <a:lnTo>
                  <a:pt x="922" y="2147"/>
                </a:lnTo>
                <a:lnTo>
                  <a:pt x="939" y="2156"/>
                </a:lnTo>
                <a:lnTo>
                  <a:pt x="962" y="2159"/>
                </a:lnTo>
                <a:lnTo>
                  <a:pt x="983" y="2157"/>
                </a:lnTo>
                <a:lnTo>
                  <a:pt x="1005" y="2153"/>
                </a:lnTo>
                <a:lnTo>
                  <a:pt x="1026" y="2140"/>
                </a:lnTo>
                <a:lnTo>
                  <a:pt x="1040" y="2123"/>
                </a:lnTo>
                <a:lnTo>
                  <a:pt x="1048" y="2109"/>
                </a:lnTo>
                <a:lnTo>
                  <a:pt x="1056" y="2088"/>
                </a:lnTo>
                <a:lnTo>
                  <a:pt x="1100" y="1045"/>
                </a:lnTo>
                <a:lnTo>
                  <a:pt x="1956" y="0"/>
                </a:lnTo>
                <a:lnTo>
                  <a:pt x="1790" y="41"/>
                </a:lnTo>
                <a:lnTo>
                  <a:pt x="1531" y="77"/>
                </a:lnTo>
                <a:lnTo>
                  <a:pt x="1247" y="98"/>
                </a:lnTo>
                <a:lnTo>
                  <a:pt x="962" y="109"/>
                </a:lnTo>
                <a:lnTo>
                  <a:pt x="662" y="98"/>
                </a:lnTo>
                <a:lnTo>
                  <a:pt x="398" y="77"/>
                </a:lnTo>
                <a:lnTo>
                  <a:pt x="178" y="52"/>
                </a:lnTo>
                <a:lnTo>
                  <a:pt x="0" y="19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3056040" y="1928880"/>
            <a:ext cx="484200" cy="725400"/>
          </a:xfrm>
          <a:custGeom>
            <a:avLst/>
            <a:gdLst/>
            <a:ahLst/>
            <a:rect l="l" t="t" r="r" b="b"/>
            <a:pathLst>
              <a:path w="1264" h="1728">
                <a:moveTo>
                  <a:pt x="0" y="0"/>
                </a:moveTo>
                <a:lnTo>
                  <a:pt x="520" y="624"/>
                </a:lnTo>
                <a:lnTo>
                  <a:pt x="531" y="1657"/>
                </a:lnTo>
                <a:lnTo>
                  <a:pt x="541" y="1674"/>
                </a:lnTo>
                <a:lnTo>
                  <a:pt x="553" y="1688"/>
                </a:lnTo>
                <a:lnTo>
                  <a:pt x="564" y="1701"/>
                </a:lnTo>
                <a:lnTo>
                  <a:pt x="580" y="1715"/>
                </a:lnTo>
                <a:lnTo>
                  <a:pt x="608" y="1723"/>
                </a:lnTo>
                <a:lnTo>
                  <a:pt x="632" y="1728"/>
                </a:lnTo>
                <a:lnTo>
                  <a:pt x="651" y="1725"/>
                </a:lnTo>
                <a:lnTo>
                  <a:pt x="673" y="1720"/>
                </a:lnTo>
                <a:lnTo>
                  <a:pt x="694" y="1709"/>
                </a:lnTo>
                <a:lnTo>
                  <a:pt x="711" y="1692"/>
                </a:lnTo>
                <a:lnTo>
                  <a:pt x="723" y="1669"/>
                </a:lnTo>
                <a:lnTo>
                  <a:pt x="730" y="1657"/>
                </a:lnTo>
                <a:lnTo>
                  <a:pt x="761" y="605"/>
                </a:lnTo>
                <a:lnTo>
                  <a:pt x="1264" y="0"/>
                </a:lnTo>
                <a:lnTo>
                  <a:pt x="0" y="0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3260880" y="2693880"/>
            <a:ext cx="75960" cy="155520"/>
          </a:xfrm>
          <a:custGeom>
            <a:avLst/>
            <a:gdLst/>
            <a:ahLst/>
            <a:rect l="l" t="t" r="r" b="b"/>
            <a:pathLst>
              <a:path w="196" h="370">
                <a:moveTo>
                  <a:pt x="95" y="0"/>
                </a:moveTo>
                <a:lnTo>
                  <a:pt x="105" y="58"/>
                </a:lnTo>
                <a:lnTo>
                  <a:pt x="111" y="87"/>
                </a:lnTo>
                <a:lnTo>
                  <a:pt x="121" y="121"/>
                </a:lnTo>
                <a:lnTo>
                  <a:pt x="132" y="141"/>
                </a:lnTo>
                <a:lnTo>
                  <a:pt x="147" y="166"/>
                </a:lnTo>
                <a:lnTo>
                  <a:pt x="167" y="193"/>
                </a:lnTo>
                <a:lnTo>
                  <a:pt x="184" y="220"/>
                </a:lnTo>
                <a:lnTo>
                  <a:pt x="192" y="245"/>
                </a:lnTo>
                <a:lnTo>
                  <a:pt x="196" y="278"/>
                </a:lnTo>
                <a:lnTo>
                  <a:pt x="189" y="307"/>
                </a:lnTo>
                <a:lnTo>
                  <a:pt x="178" y="328"/>
                </a:lnTo>
                <a:lnTo>
                  <a:pt x="162" y="345"/>
                </a:lnTo>
                <a:lnTo>
                  <a:pt x="141" y="361"/>
                </a:lnTo>
                <a:lnTo>
                  <a:pt x="121" y="367"/>
                </a:lnTo>
                <a:lnTo>
                  <a:pt x="99" y="370"/>
                </a:lnTo>
                <a:lnTo>
                  <a:pt x="76" y="367"/>
                </a:lnTo>
                <a:lnTo>
                  <a:pt x="54" y="362"/>
                </a:lnTo>
                <a:lnTo>
                  <a:pt x="34" y="350"/>
                </a:lnTo>
                <a:lnTo>
                  <a:pt x="19" y="334"/>
                </a:lnTo>
                <a:lnTo>
                  <a:pt x="8" y="315"/>
                </a:lnTo>
                <a:lnTo>
                  <a:pt x="3" y="296"/>
                </a:lnTo>
                <a:lnTo>
                  <a:pt x="0" y="272"/>
                </a:lnTo>
                <a:lnTo>
                  <a:pt x="5" y="240"/>
                </a:lnTo>
                <a:lnTo>
                  <a:pt x="13" y="218"/>
                </a:lnTo>
                <a:lnTo>
                  <a:pt x="30" y="190"/>
                </a:lnTo>
                <a:lnTo>
                  <a:pt x="49" y="166"/>
                </a:lnTo>
                <a:lnTo>
                  <a:pt x="62" y="140"/>
                </a:lnTo>
                <a:lnTo>
                  <a:pt x="72" y="119"/>
                </a:lnTo>
                <a:lnTo>
                  <a:pt x="81" y="90"/>
                </a:lnTo>
                <a:lnTo>
                  <a:pt x="86" y="58"/>
                </a:lnTo>
                <a:lnTo>
                  <a:pt x="95" y="0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901960" y="1627200"/>
            <a:ext cx="793800" cy="147600"/>
          </a:xfrm>
          <a:prstGeom prst="ellipse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3260880" y="2859120"/>
            <a:ext cx="75960" cy="155520"/>
          </a:xfrm>
          <a:custGeom>
            <a:avLst/>
            <a:gdLst/>
            <a:ahLst/>
            <a:rect l="l" t="t" r="r" b="b"/>
            <a:pathLst>
              <a:path w="196" h="372">
                <a:moveTo>
                  <a:pt x="95" y="0"/>
                </a:moveTo>
                <a:lnTo>
                  <a:pt x="105" y="60"/>
                </a:lnTo>
                <a:lnTo>
                  <a:pt x="111" y="88"/>
                </a:lnTo>
                <a:lnTo>
                  <a:pt x="121" y="122"/>
                </a:lnTo>
                <a:lnTo>
                  <a:pt x="132" y="143"/>
                </a:lnTo>
                <a:lnTo>
                  <a:pt x="147" y="168"/>
                </a:lnTo>
                <a:lnTo>
                  <a:pt x="167" y="195"/>
                </a:lnTo>
                <a:lnTo>
                  <a:pt x="184" y="221"/>
                </a:lnTo>
                <a:lnTo>
                  <a:pt x="192" y="247"/>
                </a:lnTo>
                <a:lnTo>
                  <a:pt x="196" y="279"/>
                </a:lnTo>
                <a:lnTo>
                  <a:pt x="189" y="308"/>
                </a:lnTo>
                <a:lnTo>
                  <a:pt x="178" y="328"/>
                </a:lnTo>
                <a:lnTo>
                  <a:pt x="162" y="345"/>
                </a:lnTo>
                <a:lnTo>
                  <a:pt x="141" y="361"/>
                </a:lnTo>
                <a:lnTo>
                  <a:pt x="121" y="369"/>
                </a:lnTo>
                <a:lnTo>
                  <a:pt x="99" y="372"/>
                </a:lnTo>
                <a:lnTo>
                  <a:pt x="76" y="369"/>
                </a:lnTo>
                <a:lnTo>
                  <a:pt x="54" y="363"/>
                </a:lnTo>
                <a:lnTo>
                  <a:pt x="34" y="351"/>
                </a:lnTo>
                <a:lnTo>
                  <a:pt x="19" y="336"/>
                </a:lnTo>
                <a:lnTo>
                  <a:pt x="8" y="317"/>
                </a:lnTo>
                <a:lnTo>
                  <a:pt x="3" y="298"/>
                </a:lnTo>
                <a:lnTo>
                  <a:pt x="0" y="272"/>
                </a:lnTo>
                <a:lnTo>
                  <a:pt x="5" y="242"/>
                </a:lnTo>
                <a:lnTo>
                  <a:pt x="13" y="219"/>
                </a:lnTo>
                <a:lnTo>
                  <a:pt x="30" y="191"/>
                </a:lnTo>
                <a:lnTo>
                  <a:pt x="49" y="168"/>
                </a:lnTo>
                <a:lnTo>
                  <a:pt x="62" y="141"/>
                </a:lnTo>
                <a:lnTo>
                  <a:pt x="72" y="120"/>
                </a:lnTo>
                <a:lnTo>
                  <a:pt x="81" y="90"/>
                </a:lnTo>
                <a:lnTo>
                  <a:pt x="86" y="60"/>
                </a:lnTo>
                <a:lnTo>
                  <a:pt x="95" y="0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3052800" y="1870200"/>
            <a:ext cx="492120" cy="95040"/>
          </a:xfrm>
          <a:prstGeom prst="ellipse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880" bIns="20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3265560" y="2595600"/>
            <a:ext cx="65160" cy="73080"/>
          </a:xfrm>
          <a:prstGeom prst="ellipse">
            <a:avLst/>
          </a:prstGeom>
          <a:solidFill>
            <a:srgbClr val="009999"/>
          </a:solidFill>
          <a:ln w="1764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4" name=""/>
          <p:cNvGrpSpPr/>
          <p:nvPr/>
        </p:nvGrpSpPr>
        <p:grpSpPr>
          <a:xfrm>
            <a:off x="4919760" y="4600440"/>
            <a:ext cx="822240" cy="961560"/>
            <a:chOff x="4919760" y="4600440"/>
            <a:chExt cx="822240" cy="961560"/>
          </a:xfrm>
        </p:grpSpPr>
        <p:graphicFrame>
          <p:nvGraphicFramePr>
            <p:cNvPr id="715" name=""/>
            <p:cNvGraphicFramePr/>
            <p:nvPr/>
          </p:nvGraphicFramePr>
          <p:xfrm>
            <a:off x="4919760" y="4600440"/>
            <a:ext cx="822240" cy="7160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1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919760" y="4600440"/>
                      <a:ext cx="822240" cy="716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717" name=""/>
            <p:cNvGrpSpPr/>
            <p:nvPr/>
          </p:nvGrpSpPr>
          <p:grpSpPr>
            <a:xfrm>
              <a:off x="5545080" y="5241960"/>
              <a:ext cx="74160" cy="320040"/>
              <a:chOff x="5545080" y="5241960"/>
              <a:chExt cx="74160" cy="320040"/>
            </a:xfrm>
          </p:grpSpPr>
          <p:sp>
            <p:nvSpPr>
              <p:cNvPr id="718" name=""/>
              <p:cNvSpPr/>
              <p:nvPr/>
            </p:nvSpPr>
            <p:spPr>
              <a:xfrm>
                <a:off x="5545080" y="5241960"/>
                <a:ext cx="74160" cy="155520"/>
              </a:xfrm>
              <a:custGeom>
                <a:avLst/>
                <a:gdLst/>
                <a:ahLst/>
                <a:rect l="l" t="t" r="r" b="b"/>
                <a:pathLst>
                  <a:path w="196" h="371">
                    <a:moveTo>
                      <a:pt x="95" y="0"/>
                    </a:moveTo>
                    <a:lnTo>
                      <a:pt x="105" y="58"/>
                    </a:lnTo>
                    <a:lnTo>
                      <a:pt x="111" y="88"/>
                    </a:lnTo>
                    <a:lnTo>
                      <a:pt x="121" y="122"/>
                    </a:lnTo>
                    <a:lnTo>
                      <a:pt x="132" y="142"/>
                    </a:lnTo>
                    <a:lnTo>
                      <a:pt x="147" y="166"/>
                    </a:lnTo>
                    <a:lnTo>
                      <a:pt x="167" y="194"/>
                    </a:lnTo>
                    <a:lnTo>
                      <a:pt x="184" y="220"/>
                    </a:lnTo>
                    <a:lnTo>
                      <a:pt x="192" y="246"/>
                    </a:lnTo>
                    <a:lnTo>
                      <a:pt x="196" y="279"/>
                    </a:lnTo>
                    <a:lnTo>
                      <a:pt x="189" y="307"/>
                    </a:lnTo>
                    <a:lnTo>
                      <a:pt x="178" y="328"/>
                    </a:lnTo>
                    <a:lnTo>
                      <a:pt x="162" y="345"/>
                    </a:lnTo>
                    <a:lnTo>
                      <a:pt x="141" y="361"/>
                    </a:lnTo>
                    <a:lnTo>
                      <a:pt x="121" y="368"/>
                    </a:lnTo>
                    <a:lnTo>
                      <a:pt x="99" y="371"/>
                    </a:lnTo>
                    <a:lnTo>
                      <a:pt x="76" y="368"/>
                    </a:lnTo>
                    <a:lnTo>
                      <a:pt x="54" y="362"/>
                    </a:lnTo>
                    <a:lnTo>
                      <a:pt x="34" y="351"/>
                    </a:lnTo>
                    <a:lnTo>
                      <a:pt x="19" y="335"/>
                    </a:lnTo>
                    <a:lnTo>
                      <a:pt x="8" y="316"/>
                    </a:lnTo>
                    <a:lnTo>
                      <a:pt x="3" y="297"/>
                    </a:lnTo>
                    <a:lnTo>
                      <a:pt x="0" y="272"/>
                    </a:lnTo>
                    <a:lnTo>
                      <a:pt x="5" y="240"/>
                    </a:lnTo>
                    <a:lnTo>
                      <a:pt x="13" y="218"/>
                    </a:lnTo>
                    <a:lnTo>
                      <a:pt x="30" y="191"/>
                    </a:lnTo>
                    <a:lnTo>
                      <a:pt x="49" y="166"/>
                    </a:lnTo>
                    <a:lnTo>
                      <a:pt x="62" y="141"/>
                    </a:lnTo>
                    <a:lnTo>
                      <a:pt x="72" y="120"/>
                    </a:lnTo>
                    <a:lnTo>
                      <a:pt x="81" y="90"/>
                    </a:lnTo>
                    <a:lnTo>
                      <a:pt x="86" y="58"/>
                    </a:lnTo>
                    <a:lnTo>
                      <a:pt x="95" y="0"/>
                    </a:lnTo>
                    <a:close/>
                  </a:path>
                </a:pathLst>
              </a:cu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5545080" y="5406480"/>
                <a:ext cx="74160" cy="155520"/>
              </a:xfrm>
              <a:custGeom>
                <a:avLst/>
                <a:gdLst/>
                <a:ahLst/>
                <a:rect l="l" t="t" r="r" b="b"/>
                <a:pathLst>
                  <a:path w="196" h="372">
                    <a:moveTo>
                      <a:pt x="95" y="0"/>
                    </a:moveTo>
                    <a:lnTo>
                      <a:pt x="105" y="59"/>
                    </a:lnTo>
                    <a:lnTo>
                      <a:pt x="111" y="88"/>
                    </a:lnTo>
                    <a:lnTo>
                      <a:pt x="121" y="122"/>
                    </a:lnTo>
                    <a:lnTo>
                      <a:pt x="132" y="143"/>
                    </a:lnTo>
                    <a:lnTo>
                      <a:pt x="147" y="167"/>
                    </a:lnTo>
                    <a:lnTo>
                      <a:pt x="167" y="195"/>
                    </a:lnTo>
                    <a:lnTo>
                      <a:pt x="184" y="220"/>
                    </a:lnTo>
                    <a:lnTo>
                      <a:pt x="192" y="247"/>
                    </a:lnTo>
                    <a:lnTo>
                      <a:pt x="196" y="279"/>
                    </a:lnTo>
                    <a:lnTo>
                      <a:pt x="189" y="308"/>
                    </a:lnTo>
                    <a:lnTo>
                      <a:pt x="178" y="328"/>
                    </a:lnTo>
                    <a:lnTo>
                      <a:pt x="162" y="345"/>
                    </a:lnTo>
                    <a:lnTo>
                      <a:pt x="141" y="361"/>
                    </a:lnTo>
                    <a:lnTo>
                      <a:pt x="121" y="369"/>
                    </a:lnTo>
                    <a:lnTo>
                      <a:pt x="99" y="372"/>
                    </a:lnTo>
                    <a:lnTo>
                      <a:pt x="76" y="369"/>
                    </a:lnTo>
                    <a:lnTo>
                      <a:pt x="54" y="363"/>
                    </a:lnTo>
                    <a:lnTo>
                      <a:pt x="34" y="351"/>
                    </a:lnTo>
                    <a:lnTo>
                      <a:pt x="19" y="336"/>
                    </a:lnTo>
                    <a:lnTo>
                      <a:pt x="8" y="317"/>
                    </a:lnTo>
                    <a:lnTo>
                      <a:pt x="3" y="298"/>
                    </a:lnTo>
                    <a:lnTo>
                      <a:pt x="0" y="272"/>
                    </a:lnTo>
                    <a:lnTo>
                      <a:pt x="5" y="242"/>
                    </a:lnTo>
                    <a:lnTo>
                      <a:pt x="13" y="219"/>
                    </a:lnTo>
                    <a:lnTo>
                      <a:pt x="30" y="191"/>
                    </a:lnTo>
                    <a:lnTo>
                      <a:pt x="49" y="167"/>
                    </a:lnTo>
                    <a:lnTo>
                      <a:pt x="62" y="141"/>
                    </a:lnTo>
                    <a:lnTo>
                      <a:pt x="72" y="120"/>
                    </a:lnTo>
                    <a:lnTo>
                      <a:pt x="81" y="90"/>
                    </a:lnTo>
                    <a:lnTo>
                      <a:pt x="86" y="59"/>
                    </a:lnTo>
                    <a:lnTo>
                      <a:pt x="95" y="0"/>
                    </a:lnTo>
                    <a:close/>
                  </a:path>
                </a:pathLst>
              </a:cu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20" name=""/>
          <p:cNvSpPr/>
          <p:nvPr/>
        </p:nvSpPr>
        <p:spPr>
          <a:xfrm>
            <a:off x="2361960" y="714600"/>
            <a:ext cx="1834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otra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50-350 mm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1" name=""/>
          <p:cNvGrpSpPr/>
          <p:nvPr/>
        </p:nvGrpSpPr>
        <p:grpSpPr>
          <a:xfrm>
            <a:off x="1265400" y="4638600"/>
            <a:ext cx="822240" cy="1022040"/>
            <a:chOff x="1265400" y="4638600"/>
            <a:chExt cx="822240" cy="1022040"/>
          </a:xfrm>
        </p:grpSpPr>
        <p:graphicFrame>
          <p:nvGraphicFramePr>
            <p:cNvPr id="722" name=""/>
            <p:cNvGraphicFramePr/>
            <p:nvPr/>
          </p:nvGraphicFramePr>
          <p:xfrm>
            <a:off x="1265400" y="4638600"/>
            <a:ext cx="822240" cy="7160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2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265400" y="4638600"/>
                      <a:ext cx="822240" cy="716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724" name=""/>
            <p:cNvGrpSpPr/>
            <p:nvPr/>
          </p:nvGrpSpPr>
          <p:grpSpPr>
            <a:xfrm>
              <a:off x="1906560" y="5340240"/>
              <a:ext cx="74880" cy="320400"/>
              <a:chOff x="1906560" y="5340240"/>
              <a:chExt cx="74880" cy="320400"/>
            </a:xfrm>
          </p:grpSpPr>
          <p:sp>
            <p:nvSpPr>
              <p:cNvPr id="725" name=""/>
              <p:cNvSpPr/>
              <p:nvPr/>
            </p:nvSpPr>
            <p:spPr>
              <a:xfrm>
                <a:off x="1906560" y="5340240"/>
                <a:ext cx="74880" cy="155880"/>
              </a:xfrm>
              <a:custGeom>
                <a:avLst/>
                <a:gdLst/>
                <a:ahLst/>
                <a:rect l="l" t="t" r="r" b="b"/>
                <a:pathLst>
                  <a:path w="196" h="371">
                    <a:moveTo>
                      <a:pt x="95" y="0"/>
                    </a:moveTo>
                    <a:lnTo>
                      <a:pt x="105" y="58"/>
                    </a:lnTo>
                    <a:lnTo>
                      <a:pt x="111" y="88"/>
                    </a:lnTo>
                    <a:lnTo>
                      <a:pt x="121" y="122"/>
                    </a:lnTo>
                    <a:lnTo>
                      <a:pt x="132" y="142"/>
                    </a:lnTo>
                    <a:lnTo>
                      <a:pt x="147" y="166"/>
                    </a:lnTo>
                    <a:lnTo>
                      <a:pt x="167" y="194"/>
                    </a:lnTo>
                    <a:lnTo>
                      <a:pt x="184" y="220"/>
                    </a:lnTo>
                    <a:lnTo>
                      <a:pt x="192" y="246"/>
                    </a:lnTo>
                    <a:lnTo>
                      <a:pt x="196" y="279"/>
                    </a:lnTo>
                    <a:lnTo>
                      <a:pt x="189" y="307"/>
                    </a:lnTo>
                    <a:lnTo>
                      <a:pt x="178" y="328"/>
                    </a:lnTo>
                    <a:lnTo>
                      <a:pt x="162" y="345"/>
                    </a:lnTo>
                    <a:lnTo>
                      <a:pt x="141" y="361"/>
                    </a:lnTo>
                    <a:lnTo>
                      <a:pt x="121" y="368"/>
                    </a:lnTo>
                    <a:lnTo>
                      <a:pt x="99" y="371"/>
                    </a:lnTo>
                    <a:lnTo>
                      <a:pt x="76" y="368"/>
                    </a:lnTo>
                    <a:lnTo>
                      <a:pt x="54" y="362"/>
                    </a:lnTo>
                    <a:lnTo>
                      <a:pt x="34" y="351"/>
                    </a:lnTo>
                    <a:lnTo>
                      <a:pt x="19" y="335"/>
                    </a:lnTo>
                    <a:lnTo>
                      <a:pt x="8" y="316"/>
                    </a:lnTo>
                    <a:lnTo>
                      <a:pt x="3" y="297"/>
                    </a:lnTo>
                    <a:lnTo>
                      <a:pt x="0" y="272"/>
                    </a:lnTo>
                    <a:lnTo>
                      <a:pt x="5" y="240"/>
                    </a:lnTo>
                    <a:lnTo>
                      <a:pt x="13" y="218"/>
                    </a:lnTo>
                    <a:lnTo>
                      <a:pt x="30" y="191"/>
                    </a:lnTo>
                    <a:lnTo>
                      <a:pt x="49" y="166"/>
                    </a:lnTo>
                    <a:lnTo>
                      <a:pt x="62" y="141"/>
                    </a:lnTo>
                    <a:lnTo>
                      <a:pt x="72" y="120"/>
                    </a:lnTo>
                    <a:lnTo>
                      <a:pt x="81" y="90"/>
                    </a:lnTo>
                    <a:lnTo>
                      <a:pt x="86" y="58"/>
                    </a:lnTo>
                    <a:lnTo>
                      <a:pt x="95" y="0"/>
                    </a:lnTo>
                    <a:close/>
                  </a:path>
                </a:pathLst>
              </a:cu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1906560" y="5504760"/>
                <a:ext cx="74880" cy="155880"/>
              </a:xfrm>
              <a:custGeom>
                <a:avLst/>
                <a:gdLst/>
                <a:ahLst/>
                <a:rect l="l" t="t" r="r" b="b"/>
                <a:pathLst>
                  <a:path w="196" h="372">
                    <a:moveTo>
                      <a:pt x="95" y="0"/>
                    </a:moveTo>
                    <a:lnTo>
                      <a:pt x="105" y="59"/>
                    </a:lnTo>
                    <a:lnTo>
                      <a:pt x="111" y="88"/>
                    </a:lnTo>
                    <a:lnTo>
                      <a:pt x="121" y="122"/>
                    </a:lnTo>
                    <a:lnTo>
                      <a:pt x="132" y="143"/>
                    </a:lnTo>
                    <a:lnTo>
                      <a:pt x="147" y="167"/>
                    </a:lnTo>
                    <a:lnTo>
                      <a:pt x="167" y="195"/>
                    </a:lnTo>
                    <a:lnTo>
                      <a:pt x="184" y="220"/>
                    </a:lnTo>
                    <a:lnTo>
                      <a:pt x="192" y="247"/>
                    </a:lnTo>
                    <a:lnTo>
                      <a:pt x="196" y="279"/>
                    </a:lnTo>
                    <a:lnTo>
                      <a:pt x="189" y="308"/>
                    </a:lnTo>
                    <a:lnTo>
                      <a:pt x="178" y="328"/>
                    </a:lnTo>
                    <a:lnTo>
                      <a:pt x="162" y="345"/>
                    </a:lnTo>
                    <a:lnTo>
                      <a:pt x="141" y="361"/>
                    </a:lnTo>
                    <a:lnTo>
                      <a:pt x="121" y="369"/>
                    </a:lnTo>
                    <a:lnTo>
                      <a:pt x="99" y="372"/>
                    </a:lnTo>
                    <a:lnTo>
                      <a:pt x="76" y="369"/>
                    </a:lnTo>
                    <a:lnTo>
                      <a:pt x="54" y="363"/>
                    </a:lnTo>
                    <a:lnTo>
                      <a:pt x="34" y="351"/>
                    </a:lnTo>
                    <a:lnTo>
                      <a:pt x="19" y="336"/>
                    </a:lnTo>
                    <a:lnTo>
                      <a:pt x="8" y="317"/>
                    </a:lnTo>
                    <a:lnTo>
                      <a:pt x="3" y="298"/>
                    </a:lnTo>
                    <a:lnTo>
                      <a:pt x="0" y="272"/>
                    </a:lnTo>
                    <a:lnTo>
                      <a:pt x="5" y="242"/>
                    </a:lnTo>
                    <a:lnTo>
                      <a:pt x="13" y="219"/>
                    </a:lnTo>
                    <a:lnTo>
                      <a:pt x="30" y="191"/>
                    </a:lnTo>
                    <a:lnTo>
                      <a:pt x="49" y="167"/>
                    </a:lnTo>
                    <a:lnTo>
                      <a:pt x="62" y="141"/>
                    </a:lnTo>
                    <a:lnTo>
                      <a:pt x="72" y="120"/>
                    </a:lnTo>
                    <a:lnTo>
                      <a:pt x="81" y="90"/>
                    </a:lnTo>
                    <a:lnTo>
                      <a:pt x="86" y="59"/>
                    </a:lnTo>
                    <a:lnTo>
                      <a:pt x="95" y="0"/>
                    </a:lnTo>
                    <a:close/>
                  </a:path>
                </a:pathLst>
              </a:cu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7" name=""/>
          <p:cNvGrpSpPr/>
          <p:nvPr/>
        </p:nvGrpSpPr>
        <p:grpSpPr>
          <a:xfrm>
            <a:off x="3201840" y="4761000"/>
            <a:ext cx="822240" cy="1022040"/>
            <a:chOff x="3201840" y="4761000"/>
            <a:chExt cx="822240" cy="1022040"/>
          </a:xfrm>
        </p:grpSpPr>
        <p:graphicFrame>
          <p:nvGraphicFramePr>
            <p:cNvPr id="728" name=""/>
            <p:cNvGraphicFramePr/>
            <p:nvPr/>
          </p:nvGraphicFramePr>
          <p:xfrm>
            <a:off x="3201840" y="4761000"/>
            <a:ext cx="822240" cy="7160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729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201840" y="4761000"/>
                      <a:ext cx="822240" cy="716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730" name=""/>
            <p:cNvGrpSpPr/>
            <p:nvPr/>
          </p:nvGrpSpPr>
          <p:grpSpPr>
            <a:xfrm>
              <a:off x="3843000" y="5462640"/>
              <a:ext cx="74880" cy="320400"/>
              <a:chOff x="3843000" y="5462640"/>
              <a:chExt cx="74880" cy="320400"/>
            </a:xfrm>
          </p:grpSpPr>
          <p:sp>
            <p:nvSpPr>
              <p:cNvPr id="731" name=""/>
              <p:cNvSpPr/>
              <p:nvPr/>
            </p:nvSpPr>
            <p:spPr>
              <a:xfrm>
                <a:off x="3843000" y="5462640"/>
                <a:ext cx="74880" cy="155880"/>
              </a:xfrm>
              <a:custGeom>
                <a:avLst/>
                <a:gdLst/>
                <a:ahLst/>
                <a:rect l="l" t="t" r="r" b="b"/>
                <a:pathLst>
                  <a:path w="196" h="371">
                    <a:moveTo>
                      <a:pt x="95" y="0"/>
                    </a:moveTo>
                    <a:lnTo>
                      <a:pt x="105" y="58"/>
                    </a:lnTo>
                    <a:lnTo>
                      <a:pt x="111" y="88"/>
                    </a:lnTo>
                    <a:lnTo>
                      <a:pt x="121" y="122"/>
                    </a:lnTo>
                    <a:lnTo>
                      <a:pt x="132" y="142"/>
                    </a:lnTo>
                    <a:lnTo>
                      <a:pt x="147" y="166"/>
                    </a:lnTo>
                    <a:lnTo>
                      <a:pt x="167" y="194"/>
                    </a:lnTo>
                    <a:lnTo>
                      <a:pt x="184" y="220"/>
                    </a:lnTo>
                    <a:lnTo>
                      <a:pt x="192" y="246"/>
                    </a:lnTo>
                    <a:lnTo>
                      <a:pt x="196" y="279"/>
                    </a:lnTo>
                    <a:lnTo>
                      <a:pt x="189" y="307"/>
                    </a:lnTo>
                    <a:lnTo>
                      <a:pt x="178" y="328"/>
                    </a:lnTo>
                    <a:lnTo>
                      <a:pt x="162" y="345"/>
                    </a:lnTo>
                    <a:lnTo>
                      <a:pt x="141" y="361"/>
                    </a:lnTo>
                    <a:lnTo>
                      <a:pt x="121" y="368"/>
                    </a:lnTo>
                    <a:lnTo>
                      <a:pt x="99" y="371"/>
                    </a:lnTo>
                    <a:lnTo>
                      <a:pt x="76" y="368"/>
                    </a:lnTo>
                    <a:lnTo>
                      <a:pt x="54" y="362"/>
                    </a:lnTo>
                    <a:lnTo>
                      <a:pt x="34" y="351"/>
                    </a:lnTo>
                    <a:lnTo>
                      <a:pt x="19" y="335"/>
                    </a:lnTo>
                    <a:lnTo>
                      <a:pt x="8" y="316"/>
                    </a:lnTo>
                    <a:lnTo>
                      <a:pt x="3" y="297"/>
                    </a:lnTo>
                    <a:lnTo>
                      <a:pt x="0" y="272"/>
                    </a:lnTo>
                    <a:lnTo>
                      <a:pt x="5" y="240"/>
                    </a:lnTo>
                    <a:lnTo>
                      <a:pt x="13" y="218"/>
                    </a:lnTo>
                    <a:lnTo>
                      <a:pt x="30" y="191"/>
                    </a:lnTo>
                    <a:lnTo>
                      <a:pt x="49" y="166"/>
                    </a:lnTo>
                    <a:lnTo>
                      <a:pt x="62" y="141"/>
                    </a:lnTo>
                    <a:lnTo>
                      <a:pt x="72" y="120"/>
                    </a:lnTo>
                    <a:lnTo>
                      <a:pt x="81" y="90"/>
                    </a:lnTo>
                    <a:lnTo>
                      <a:pt x="86" y="58"/>
                    </a:lnTo>
                    <a:lnTo>
                      <a:pt x="95" y="0"/>
                    </a:lnTo>
                    <a:close/>
                  </a:path>
                </a:pathLst>
              </a:cu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3843000" y="5627160"/>
                <a:ext cx="74880" cy="155880"/>
              </a:xfrm>
              <a:custGeom>
                <a:avLst/>
                <a:gdLst/>
                <a:ahLst/>
                <a:rect l="l" t="t" r="r" b="b"/>
                <a:pathLst>
                  <a:path w="196" h="372">
                    <a:moveTo>
                      <a:pt x="95" y="0"/>
                    </a:moveTo>
                    <a:lnTo>
                      <a:pt x="105" y="59"/>
                    </a:lnTo>
                    <a:lnTo>
                      <a:pt x="111" y="88"/>
                    </a:lnTo>
                    <a:lnTo>
                      <a:pt x="121" y="122"/>
                    </a:lnTo>
                    <a:lnTo>
                      <a:pt x="132" y="143"/>
                    </a:lnTo>
                    <a:lnTo>
                      <a:pt x="147" y="167"/>
                    </a:lnTo>
                    <a:lnTo>
                      <a:pt x="167" y="195"/>
                    </a:lnTo>
                    <a:lnTo>
                      <a:pt x="184" y="220"/>
                    </a:lnTo>
                    <a:lnTo>
                      <a:pt x="192" y="247"/>
                    </a:lnTo>
                    <a:lnTo>
                      <a:pt x="196" y="279"/>
                    </a:lnTo>
                    <a:lnTo>
                      <a:pt x="189" y="308"/>
                    </a:lnTo>
                    <a:lnTo>
                      <a:pt x="178" y="328"/>
                    </a:lnTo>
                    <a:lnTo>
                      <a:pt x="162" y="345"/>
                    </a:lnTo>
                    <a:lnTo>
                      <a:pt x="141" y="361"/>
                    </a:lnTo>
                    <a:lnTo>
                      <a:pt x="121" y="369"/>
                    </a:lnTo>
                    <a:lnTo>
                      <a:pt x="99" y="372"/>
                    </a:lnTo>
                    <a:lnTo>
                      <a:pt x="76" y="369"/>
                    </a:lnTo>
                    <a:lnTo>
                      <a:pt x="54" y="363"/>
                    </a:lnTo>
                    <a:lnTo>
                      <a:pt x="34" y="351"/>
                    </a:lnTo>
                    <a:lnTo>
                      <a:pt x="19" y="336"/>
                    </a:lnTo>
                    <a:lnTo>
                      <a:pt x="8" y="317"/>
                    </a:lnTo>
                    <a:lnTo>
                      <a:pt x="3" y="298"/>
                    </a:lnTo>
                    <a:lnTo>
                      <a:pt x="0" y="272"/>
                    </a:lnTo>
                    <a:lnTo>
                      <a:pt x="5" y="242"/>
                    </a:lnTo>
                    <a:lnTo>
                      <a:pt x="13" y="219"/>
                    </a:lnTo>
                    <a:lnTo>
                      <a:pt x="30" y="191"/>
                    </a:lnTo>
                    <a:lnTo>
                      <a:pt x="49" y="167"/>
                    </a:lnTo>
                    <a:lnTo>
                      <a:pt x="62" y="141"/>
                    </a:lnTo>
                    <a:lnTo>
                      <a:pt x="72" y="120"/>
                    </a:lnTo>
                    <a:lnTo>
                      <a:pt x="81" y="90"/>
                    </a:lnTo>
                    <a:lnTo>
                      <a:pt x="86" y="59"/>
                    </a:lnTo>
                    <a:lnTo>
                      <a:pt x="95" y="0"/>
                    </a:lnTo>
                    <a:close/>
                  </a:path>
                </a:pathLst>
              </a:cu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33" name=""/>
          <p:cNvSpPr/>
          <p:nvPr/>
        </p:nvSpPr>
        <p:spPr>
          <a:xfrm>
            <a:off x="980640" y="5667480"/>
            <a:ext cx="1834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Mo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50-350 mm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3240000" y="5828040"/>
            <a:ext cx="127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tol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0 mm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5025960" y="5626080"/>
            <a:ext cx="127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0 mm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6" name=""/>
          <p:cNvGraphicFramePr/>
          <p:nvPr/>
        </p:nvGraphicFramePr>
        <p:xfrm>
          <a:off x="6558120" y="260280"/>
          <a:ext cx="2155680" cy="1928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3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558120" y="260280"/>
                    <a:ext cx="2155680" cy="192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37" name=""/>
          <p:cNvGrpSpPr/>
          <p:nvPr/>
        </p:nvGrpSpPr>
        <p:grpSpPr>
          <a:xfrm>
            <a:off x="0" y="147600"/>
            <a:ext cx="9144000" cy="6710400"/>
            <a:chOff x="0" y="147600"/>
            <a:chExt cx="9144000" cy="6710400"/>
          </a:xfrm>
        </p:grpSpPr>
        <p:graphicFrame>
          <p:nvGraphicFramePr>
            <p:cNvPr id="10738" name=""/>
            <p:cNvGraphicFramePr/>
            <p:nvPr/>
          </p:nvGraphicFramePr>
          <p:xfrm>
            <a:off x="0" y="249120"/>
            <a:ext cx="6861240" cy="58485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073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249120"/>
                      <a:ext cx="6861240" cy="5848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740" name=""/>
            <p:cNvSpPr/>
            <p:nvPr/>
          </p:nvSpPr>
          <p:spPr>
            <a:xfrm>
              <a:off x="3922560" y="3610080"/>
              <a:ext cx="1273320" cy="468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741" name=""/>
            <p:cNvGraphicFramePr/>
            <p:nvPr/>
          </p:nvGraphicFramePr>
          <p:xfrm>
            <a:off x="5418000" y="3495600"/>
            <a:ext cx="2841840" cy="33624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074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418000" y="3495600"/>
                      <a:ext cx="2841840" cy="3362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743" name=""/>
            <p:cNvSpPr/>
            <p:nvPr/>
          </p:nvSpPr>
          <p:spPr>
            <a:xfrm>
              <a:off x="5962680" y="5415120"/>
              <a:ext cx="2079720" cy="715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4" name=""/>
            <p:cNvSpPr/>
            <p:nvPr/>
          </p:nvSpPr>
          <p:spPr>
            <a:xfrm>
              <a:off x="2811600" y="2516040"/>
              <a:ext cx="645840" cy="40176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5" name=""/>
            <p:cNvSpPr/>
            <p:nvPr/>
          </p:nvSpPr>
          <p:spPr>
            <a:xfrm>
              <a:off x="7885080" y="4668840"/>
              <a:ext cx="1152720" cy="1967040"/>
            </a:xfrm>
            <a:prstGeom prst="can">
              <a:avLst>
                <a:gd name="adj" fmla="val 31268"/>
              </a:avLst>
            </a:prstGeom>
            <a:solidFill>
              <a:srgbClr val="ffff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6" name=""/>
            <p:cNvSpPr/>
            <p:nvPr/>
          </p:nvSpPr>
          <p:spPr>
            <a:xfrm>
              <a:off x="5092560" y="4116240"/>
              <a:ext cx="1141560" cy="2062440"/>
            </a:xfrm>
            <a:prstGeom prst="can">
              <a:avLst>
                <a:gd name="adj" fmla="val 28990"/>
              </a:avLst>
            </a:prstGeom>
            <a:solidFill>
              <a:srgbClr val="ffff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7" name=""/>
            <p:cNvSpPr/>
            <p:nvPr/>
          </p:nvSpPr>
          <p:spPr>
            <a:xfrm>
              <a:off x="596880" y="2643120"/>
              <a:ext cx="716040" cy="3240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8" name=""/>
            <p:cNvSpPr/>
            <p:nvPr/>
          </p:nvSpPr>
          <p:spPr>
            <a:xfrm>
              <a:off x="3524400" y="4545000"/>
              <a:ext cx="1407960" cy="40176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9" name=""/>
            <p:cNvSpPr/>
            <p:nvPr/>
          </p:nvSpPr>
          <p:spPr>
            <a:xfrm>
              <a:off x="4000680" y="147600"/>
              <a:ext cx="1564920" cy="50652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0" name=""/>
            <p:cNvSpPr/>
            <p:nvPr/>
          </p:nvSpPr>
          <p:spPr>
            <a:xfrm>
              <a:off x="3395520" y="2963880"/>
              <a:ext cx="935280" cy="50652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1" name=""/>
            <p:cNvSpPr/>
            <p:nvPr/>
          </p:nvSpPr>
          <p:spPr>
            <a:xfrm>
              <a:off x="514440" y="1214280"/>
              <a:ext cx="716040" cy="3240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752" name=""/>
            <p:cNvCxnSpPr/>
            <p:nvPr/>
          </p:nvCxnSpPr>
          <p:spPr>
            <a:xfrm>
              <a:off x="1479240" y="4798800"/>
              <a:ext cx="10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0753" name=""/>
            <p:cNvCxnSpPr/>
            <p:nvPr/>
          </p:nvCxnSpPr>
          <p:spPr>
            <a:xfrm>
              <a:off x="2579400" y="2192040"/>
              <a:ext cx="10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0754" name=""/>
            <p:cNvSpPr/>
            <p:nvPr/>
          </p:nvSpPr>
          <p:spPr>
            <a:xfrm>
              <a:off x="3914640" y="221400"/>
              <a:ext cx="171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1800" spc="-1" strike="noStrike">
                  <a:solidFill>
                    <a:srgbClr val="000000"/>
                  </a:solidFill>
                  <a:latin typeface="Times New Roman"/>
                </a:rPr>
                <a:t>Močovin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5" name=""/>
            <p:cNvSpPr/>
            <p:nvPr/>
          </p:nvSpPr>
          <p:spPr>
            <a:xfrm>
              <a:off x="390600" y="12027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8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1" lang="cs-CZ" sz="1800" spc="-1" strike="noStrike" baseline="30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6" name=""/>
            <p:cNvSpPr/>
            <p:nvPr/>
          </p:nvSpPr>
          <p:spPr>
            <a:xfrm>
              <a:off x="3371760" y="3018960"/>
              <a:ext cx="9381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800" spc="-1" strike="noStrike">
                  <a:solidFill>
                    <a:srgbClr val="000000"/>
                  </a:solidFill>
                  <a:latin typeface="Times New Roman"/>
                </a:rPr>
                <a:t>NH</a:t>
              </a:r>
              <a:r>
                <a:rPr b="1" lang="cs-CZ" sz="18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1" lang="cs-CZ" sz="1800" spc="-1" strike="noStrike" baseline="30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7" name=""/>
            <p:cNvSpPr/>
            <p:nvPr/>
          </p:nvSpPr>
          <p:spPr>
            <a:xfrm>
              <a:off x="360" y="6280920"/>
              <a:ext cx="264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800" spc="-1" strike="noStrike">
                  <a:solidFill>
                    <a:srgbClr val="000000"/>
                  </a:solidFill>
                  <a:latin typeface="Times New Roman"/>
                </a:rPr>
                <a:t>Neutrální  aminokyselin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758" name=""/>
            <p:cNvGrpSpPr/>
            <p:nvPr/>
          </p:nvGrpSpPr>
          <p:grpSpPr>
            <a:xfrm>
              <a:off x="619200" y="1697040"/>
              <a:ext cx="560160" cy="917640"/>
              <a:chOff x="619200" y="1697040"/>
              <a:chExt cx="560160" cy="917640"/>
            </a:xfrm>
          </p:grpSpPr>
          <p:sp>
            <p:nvSpPr>
              <p:cNvPr id="10759" name=""/>
              <p:cNvSpPr/>
              <p:nvPr/>
            </p:nvSpPr>
            <p:spPr>
              <a:xfrm>
                <a:off x="623520" y="1766880"/>
                <a:ext cx="550800" cy="630360"/>
              </a:xfrm>
              <a:custGeom>
                <a:avLst/>
                <a:gdLst/>
                <a:ahLst/>
                <a:rect l="l" t="t" r="r" b="b"/>
                <a:pathLst>
                  <a:path w="2256" h="2295">
                    <a:moveTo>
                      <a:pt x="0" y="0"/>
                    </a:moveTo>
                    <a:lnTo>
                      <a:pt x="939" y="1180"/>
                    </a:lnTo>
                    <a:lnTo>
                      <a:pt x="980" y="2175"/>
                    </a:lnTo>
                    <a:lnTo>
                      <a:pt x="983" y="2202"/>
                    </a:lnTo>
                    <a:lnTo>
                      <a:pt x="991" y="2221"/>
                    </a:lnTo>
                    <a:lnTo>
                      <a:pt x="1000" y="2235"/>
                    </a:lnTo>
                    <a:lnTo>
                      <a:pt x="1010" y="2246"/>
                    </a:lnTo>
                    <a:lnTo>
                      <a:pt x="1024" y="2260"/>
                    </a:lnTo>
                    <a:lnTo>
                      <a:pt x="1038" y="2268"/>
                    </a:lnTo>
                    <a:lnTo>
                      <a:pt x="1060" y="2281"/>
                    </a:lnTo>
                    <a:lnTo>
                      <a:pt x="1083" y="2287"/>
                    </a:lnTo>
                    <a:lnTo>
                      <a:pt x="1111" y="2293"/>
                    </a:lnTo>
                    <a:lnTo>
                      <a:pt x="1128" y="2295"/>
                    </a:lnTo>
                    <a:lnTo>
                      <a:pt x="1145" y="2295"/>
                    </a:lnTo>
                    <a:lnTo>
                      <a:pt x="1163" y="2292"/>
                    </a:lnTo>
                    <a:lnTo>
                      <a:pt x="1183" y="2286"/>
                    </a:lnTo>
                    <a:lnTo>
                      <a:pt x="1202" y="2279"/>
                    </a:lnTo>
                    <a:lnTo>
                      <a:pt x="1221" y="2268"/>
                    </a:lnTo>
                    <a:lnTo>
                      <a:pt x="1235" y="2259"/>
                    </a:lnTo>
                    <a:lnTo>
                      <a:pt x="1251" y="2243"/>
                    </a:lnTo>
                    <a:lnTo>
                      <a:pt x="1262" y="2227"/>
                    </a:lnTo>
                    <a:lnTo>
                      <a:pt x="1273" y="2203"/>
                    </a:lnTo>
                    <a:lnTo>
                      <a:pt x="1276" y="2181"/>
                    </a:lnTo>
                    <a:lnTo>
                      <a:pt x="1336" y="1161"/>
                    </a:lnTo>
                    <a:lnTo>
                      <a:pt x="225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0" name=""/>
              <p:cNvSpPr/>
              <p:nvPr/>
            </p:nvSpPr>
            <p:spPr>
              <a:xfrm>
                <a:off x="619200" y="1697040"/>
                <a:ext cx="560160" cy="119160"/>
              </a:xfrm>
              <a:prstGeom prst="ellipse">
                <a:avLst/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1" name=""/>
              <p:cNvSpPr/>
              <p:nvPr/>
            </p:nvSpPr>
            <p:spPr>
              <a:xfrm>
                <a:off x="663480" y="1784520"/>
                <a:ext cx="475920" cy="593640"/>
              </a:xfrm>
              <a:custGeom>
                <a:avLst/>
                <a:gdLst/>
                <a:ahLst/>
                <a:rect l="l" t="t" r="r" b="b"/>
                <a:pathLst>
                  <a:path w="1956" h="2159">
                    <a:moveTo>
                      <a:pt x="0" y="19"/>
                    </a:moveTo>
                    <a:lnTo>
                      <a:pt x="857" y="1063"/>
                    </a:lnTo>
                    <a:lnTo>
                      <a:pt x="879" y="2090"/>
                    </a:lnTo>
                    <a:lnTo>
                      <a:pt x="887" y="2107"/>
                    </a:lnTo>
                    <a:lnTo>
                      <a:pt x="897" y="2123"/>
                    </a:lnTo>
                    <a:lnTo>
                      <a:pt x="906" y="2137"/>
                    </a:lnTo>
                    <a:lnTo>
                      <a:pt x="922" y="2147"/>
                    </a:lnTo>
                    <a:lnTo>
                      <a:pt x="939" y="2156"/>
                    </a:lnTo>
                    <a:lnTo>
                      <a:pt x="962" y="2159"/>
                    </a:lnTo>
                    <a:lnTo>
                      <a:pt x="983" y="2157"/>
                    </a:lnTo>
                    <a:lnTo>
                      <a:pt x="1005" y="2153"/>
                    </a:lnTo>
                    <a:lnTo>
                      <a:pt x="1026" y="2140"/>
                    </a:lnTo>
                    <a:lnTo>
                      <a:pt x="1040" y="2123"/>
                    </a:lnTo>
                    <a:lnTo>
                      <a:pt x="1048" y="2109"/>
                    </a:lnTo>
                    <a:lnTo>
                      <a:pt x="1056" y="2088"/>
                    </a:lnTo>
                    <a:lnTo>
                      <a:pt x="1100" y="1045"/>
                    </a:lnTo>
                    <a:lnTo>
                      <a:pt x="1956" y="0"/>
                    </a:lnTo>
                    <a:lnTo>
                      <a:pt x="1790" y="41"/>
                    </a:lnTo>
                    <a:lnTo>
                      <a:pt x="1531" y="77"/>
                    </a:lnTo>
                    <a:lnTo>
                      <a:pt x="1247" y="98"/>
                    </a:lnTo>
                    <a:lnTo>
                      <a:pt x="962" y="109"/>
                    </a:lnTo>
                    <a:lnTo>
                      <a:pt x="662" y="98"/>
                    </a:lnTo>
                    <a:lnTo>
                      <a:pt x="398" y="77"/>
                    </a:lnTo>
                    <a:lnTo>
                      <a:pt x="178" y="52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2" name=""/>
              <p:cNvSpPr/>
              <p:nvPr/>
            </p:nvSpPr>
            <p:spPr>
              <a:xfrm>
                <a:off x="744120" y="1905120"/>
                <a:ext cx="307800" cy="474840"/>
              </a:xfrm>
              <a:custGeom>
                <a:avLst/>
                <a:gdLst/>
                <a:ahLst/>
                <a:rect l="l" t="t" r="r" b="b"/>
                <a:pathLst>
                  <a:path w="1264" h="1728">
                    <a:moveTo>
                      <a:pt x="0" y="0"/>
                    </a:moveTo>
                    <a:lnTo>
                      <a:pt x="520" y="624"/>
                    </a:lnTo>
                    <a:lnTo>
                      <a:pt x="531" y="1657"/>
                    </a:lnTo>
                    <a:lnTo>
                      <a:pt x="541" y="1674"/>
                    </a:lnTo>
                    <a:lnTo>
                      <a:pt x="553" y="1688"/>
                    </a:lnTo>
                    <a:lnTo>
                      <a:pt x="564" y="1701"/>
                    </a:lnTo>
                    <a:lnTo>
                      <a:pt x="580" y="1715"/>
                    </a:lnTo>
                    <a:lnTo>
                      <a:pt x="608" y="1723"/>
                    </a:lnTo>
                    <a:lnTo>
                      <a:pt x="632" y="1728"/>
                    </a:lnTo>
                    <a:lnTo>
                      <a:pt x="651" y="1725"/>
                    </a:lnTo>
                    <a:lnTo>
                      <a:pt x="673" y="1720"/>
                    </a:lnTo>
                    <a:lnTo>
                      <a:pt x="694" y="1709"/>
                    </a:lnTo>
                    <a:lnTo>
                      <a:pt x="711" y="1692"/>
                    </a:lnTo>
                    <a:lnTo>
                      <a:pt x="723" y="1669"/>
                    </a:lnTo>
                    <a:lnTo>
                      <a:pt x="730" y="1657"/>
                    </a:lnTo>
                    <a:lnTo>
                      <a:pt x="761" y="605"/>
                    </a:lnTo>
                    <a:lnTo>
                      <a:pt x="126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3" name=""/>
              <p:cNvSpPr/>
              <p:nvPr/>
            </p:nvSpPr>
            <p:spPr>
              <a:xfrm>
                <a:off x="874440" y="2405160"/>
                <a:ext cx="48960" cy="101520"/>
              </a:xfrm>
              <a:custGeom>
                <a:avLst/>
                <a:gdLst/>
                <a:ahLst/>
                <a:rect l="l" t="t" r="r" b="b"/>
                <a:pathLst>
                  <a:path w="196" h="370">
                    <a:moveTo>
                      <a:pt x="95" y="0"/>
                    </a:moveTo>
                    <a:lnTo>
                      <a:pt x="105" y="58"/>
                    </a:lnTo>
                    <a:lnTo>
                      <a:pt x="111" y="87"/>
                    </a:lnTo>
                    <a:lnTo>
                      <a:pt x="121" y="121"/>
                    </a:lnTo>
                    <a:lnTo>
                      <a:pt x="132" y="141"/>
                    </a:lnTo>
                    <a:lnTo>
                      <a:pt x="147" y="166"/>
                    </a:lnTo>
                    <a:lnTo>
                      <a:pt x="167" y="193"/>
                    </a:lnTo>
                    <a:lnTo>
                      <a:pt x="184" y="220"/>
                    </a:lnTo>
                    <a:lnTo>
                      <a:pt x="192" y="245"/>
                    </a:lnTo>
                    <a:lnTo>
                      <a:pt x="196" y="278"/>
                    </a:lnTo>
                    <a:lnTo>
                      <a:pt x="189" y="307"/>
                    </a:lnTo>
                    <a:lnTo>
                      <a:pt x="178" y="328"/>
                    </a:lnTo>
                    <a:lnTo>
                      <a:pt x="162" y="345"/>
                    </a:lnTo>
                    <a:lnTo>
                      <a:pt x="141" y="361"/>
                    </a:lnTo>
                    <a:lnTo>
                      <a:pt x="121" y="367"/>
                    </a:lnTo>
                    <a:lnTo>
                      <a:pt x="99" y="370"/>
                    </a:lnTo>
                    <a:lnTo>
                      <a:pt x="76" y="367"/>
                    </a:lnTo>
                    <a:lnTo>
                      <a:pt x="54" y="362"/>
                    </a:lnTo>
                    <a:lnTo>
                      <a:pt x="34" y="350"/>
                    </a:lnTo>
                    <a:lnTo>
                      <a:pt x="19" y="334"/>
                    </a:lnTo>
                    <a:lnTo>
                      <a:pt x="8" y="315"/>
                    </a:lnTo>
                    <a:lnTo>
                      <a:pt x="3" y="296"/>
                    </a:lnTo>
                    <a:lnTo>
                      <a:pt x="0" y="272"/>
                    </a:lnTo>
                    <a:lnTo>
                      <a:pt x="5" y="240"/>
                    </a:lnTo>
                    <a:lnTo>
                      <a:pt x="13" y="218"/>
                    </a:lnTo>
                    <a:lnTo>
                      <a:pt x="30" y="190"/>
                    </a:lnTo>
                    <a:lnTo>
                      <a:pt x="49" y="166"/>
                    </a:lnTo>
                    <a:lnTo>
                      <a:pt x="62" y="140"/>
                    </a:lnTo>
                    <a:lnTo>
                      <a:pt x="72" y="119"/>
                    </a:lnTo>
                    <a:lnTo>
                      <a:pt x="81" y="90"/>
                    </a:lnTo>
                    <a:lnTo>
                      <a:pt x="86" y="58"/>
                    </a:lnTo>
                    <a:lnTo>
                      <a:pt x="95" y="0"/>
                    </a:lnTo>
                    <a:close/>
                  </a:path>
                </a:pathLst>
              </a:cu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4" name=""/>
              <p:cNvSpPr/>
              <p:nvPr/>
            </p:nvSpPr>
            <p:spPr>
              <a:xfrm>
                <a:off x="647640" y="1708200"/>
                <a:ext cx="502560" cy="96840"/>
              </a:xfrm>
              <a:prstGeom prst="ellips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5" name=""/>
              <p:cNvSpPr/>
              <p:nvPr/>
            </p:nvSpPr>
            <p:spPr>
              <a:xfrm>
                <a:off x="874440" y="2513160"/>
                <a:ext cx="48960" cy="101520"/>
              </a:xfrm>
              <a:custGeom>
                <a:avLst/>
                <a:gdLst/>
                <a:ahLst/>
                <a:rect l="l" t="t" r="r" b="b"/>
                <a:pathLst>
                  <a:path w="196" h="372">
                    <a:moveTo>
                      <a:pt x="95" y="0"/>
                    </a:moveTo>
                    <a:lnTo>
                      <a:pt x="105" y="60"/>
                    </a:lnTo>
                    <a:lnTo>
                      <a:pt x="111" y="88"/>
                    </a:lnTo>
                    <a:lnTo>
                      <a:pt x="121" y="122"/>
                    </a:lnTo>
                    <a:lnTo>
                      <a:pt x="132" y="143"/>
                    </a:lnTo>
                    <a:lnTo>
                      <a:pt x="147" y="168"/>
                    </a:lnTo>
                    <a:lnTo>
                      <a:pt x="167" y="195"/>
                    </a:lnTo>
                    <a:lnTo>
                      <a:pt x="184" y="221"/>
                    </a:lnTo>
                    <a:lnTo>
                      <a:pt x="192" y="247"/>
                    </a:lnTo>
                    <a:lnTo>
                      <a:pt x="196" y="279"/>
                    </a:lnTo>
                    <a:lnTo>
                      <a:pt x="189" y="308"/>
                    </a:lnTo>
                    <a:lnTo>
                      <a:pt x="178" y="328"/>
                    </a:lnTo>
                    <a:lnTo>
                      <a:pt x="162" y="345"/>
                    </a:lnTo>
                    <a:lnTo>
                      <a:pt x="141" y="361"/>
                    </a:lnTo>
                    <a:lnTo>
                      <a:pt x="121" y="369"/>
                    </a:lnTo>
                    <a:lnTo>
                      <a:pt x="99" y="372"/>
                    </a:lnTo>
                    <a:lnTo>
                      <a:pt x="76" y="369"/>
                    </a:lnTo>
                    <a:lnTo>
                      <a:pt x="54" y="363"/>
                    </a:lnTo>
                    <a:lnTo>
                      <a:pt x="34" y="351"/>
                    </a:lnTo>
                    <a:lnTo>
                      <a:pt x="19" y="336"/>
                    </a:lnTo>
                    <a:lnTo>
                      <a:pt x="8" y="317"/>
                    </a:lnTo>
                    <a:lnTo>
                      <a:pt x="3" y="298"/>
                    </a:lnTo>
                    <a:lnTo>
                      <a:pt x="0" y="272"/>
                    </a:lnTo>
                    <a:lnTo>
                      <a:pt x="5" y="242"/>
                    </a:lnTo>
                    <a:lnTo>
                      <a:pt x="13" y="219"/>
                    </a:lnTo>
                    <a:lnTo>
                      <a:pt x="30" y="191"/>
                    </a:lnTo>
                    <a:lnTo>
                      <a:pt x="49" y="168"/>
                    </a:lnTo>
                    <a:lnTo>
                      <a:pt x="62" y="141"/>
                    </a:lnTo>
                    <a:lnTo>
                      <a:pt x="72" y="120"/>
                    </a:lnTo>
                    <a:lnTo>
                      <a:pt x="81" y="90"/>
                    </a:lnTo>
                    <a:lnTo>
                      <a:pt x="86" y="60"/>
                    </a:lnTo>
                    <a:lnTo>
                      <a:pt x="95" y="0"/>
                    </a:lnTo>
                    <a:close/>
                  </a:path>
                </a:pathLst>
              </a:cu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6" name=""/>
              <p:cNvSpPr/>
              <p:nvPr/>
            </p:nvSpPr>
            <p:spPr>
              <a:xfrm>
                <a:off x="741240" y="1866960"/>
                <a:ext cx="315360" cy="61920"/>
              </a:xfrm>
              <a:prstGeom prst="ellipse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7" name=""/>
              <p:cNvSpPr/>
              <p:nvPr/>
            </p:nvSpPr>
            <p:spPr>
              <a:xfrm>
                <a:off x="877680" y="2340000"/>
                <a:ext cx="41040" cy="47880"/>
              </a:xfrm>
              <a:prstGeom prst="ellipse">
                <a:avLst/>
              </a:prstGeom>
              <a:solidFill>
                <a:srgbClr val="009999"/>
              </a:solidFill>
              <a:ln w="1764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68" name=""/>
            <p:cNvSpPr/>
            <p:nvPr/>
          </p:nvSpPr>
          <p:spPr>
            <a:xfrm>
              <a:off x="909720" y="3355920"/>
              <a:ext cx="2498760" cy="2979720"/>
            </a:xfrm>
            <a:custGeom>
              <a:avLst/>
              <a:gdLst/>
              <a:ahLst/>
              <a:rect l="l" t="t" r="r" b="b"/>
              <a:pathLst>
                <a:path w="1574" h="1877">
                  <a:moveTo>
                    <a:pt x="0" y="1877"/>
                  </a:moveTo>
                  <a:cubicBezTo>
                    <a:pt x="264" y="1557"/>
                    <a:pt x="1278" y="394"/>
                    <a:pt x="1574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9" name=""/>
            <p:cNvSpPr/>
            <p:nvPr/>
          </p:nvSpPr>
          <p:spPr>
            <a:xfrm>
              <a:off x="3767040" y="703440"/>
              <a:ext cx="993960" cy="1769760"/>
            </a:xfrm>
            <a:custGeom>
              <a:avLst/>
              <a:gdLst/>
              <a:ahLst/>
              <a:rect l="l" t="t" r="r" b="b"/>
              <a:pathLst>
                <a:path w="599" h="881">
                  <a:moveTo>
                    <a:pt x="0" y="881"/>
                  </a:moveTo>
                  <a:cubicBezTo>
                    <a:pt x="15" y="838"/>
                    <a:pt x="9" y="710"/>
                    <a:pt x="93" y="622"/>
                  </a:cubicBezTo>
                  <a:cubicBezTo>
                    <a:pt x="177" y="534"/>
                    <a:pt x="421" y="456"/>
                    <a:pt x="501" y="352"/>
                  </a:cubicBezTo>
                  <a:cubicBezTo>
                    <a:pt x="599" y="207"/>
                    <a:pt x="557" y="72"/>
                    <a:pt x="572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0" name=""/>
            <p:cNvSpPr/>
            <p:nvPr/>
          </p:nvSpPr>
          <p:spPr>
            <a:xfrm>
              <a:off x="3757680" y="2446200"/>
              <a:ext cx="1440" cy="516240"/>
            </a:xfrm>
            <a:custGeom>
              <a:avLst/>
              <a:gdLst/>
              <a:ahLst/>
              <a:rect l="l" t="t" r="r" b="b"/>
              <a:pathLst>
                <a:path w="1" h="325">
                  <a:moveTo>
                    <a:pt x="0" y="325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1" name=""/>
            <p:cNvSpPr/>
            <p:nvPr/>
          </p:nvSpPr>
          <p:spPr>
            <a:xfrm>
              <a:off x="944640" y="612720"/>
              <a:ext cx="2843280" cy="1844640"/>
            </a:xfrm>
            <a:custGeom>
              <a:avLst/>
              <a:gdLst/>
              <a:ahLst/>
              <a:rect l="l" t="t" r="r" b="b"/>
              <a:pathLst>
                <a:path w="1791" h="1162">
                  <a:moveTo>
                    <a:pt x="1766" y="1162"/>
                  </a:moveTo>
                  <a:cubicBezTo>
                    <a:pt x="1748" y="1111"/>
                    <a:pt x="1791" y="1013"/>
                    <a:pt x="1657" y="858"/>
                  </a:cubicBezTo>
                  <a:cubicBezTo>
                    <a:pt x="1523" y="703"/>
                    <a:pt x="1187" y="368"/>
                    <a:pt x="963" y="230"/>
                  </a:cubicBezTo>
                  <a:cubicBezTo>
                    <a:pt x="739" y="92"/>
                    <a:pt x="626" y="0"/>
                    <a:pt x="313" y="27"/>
                  </a:cubicBezTo>
                  <a:cubicBezTo>
                    <a:pt x="0" y="54"/>
                    <a:pt x="84" y="350"/>
                    <a:pt x="31" y="414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2" name=""/>
            <p:cNvSpPr/>
            <p:nvPr/>
          </p:nvSpPr>
          <p:spPr>
            <a:xfrm>
              <a:off x="3614760" y="4515840"/>
              <a:ext cx="1121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800" spc="-1" strike="noStrike">
                  <a:solidFill>
                    <a:srgbClr val="000000"/>
                  </a:solidFill>
                  <a:latin typeface="Times New Roman"/>
                </a:rPr>
                <a:t>Glutami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3" name=""/>
            <p:cNvSpPr/>
            <p:nvPr/>
          </p:nvSpPr>
          <p:spPr>
            <a:xfrm>
              <a:off x="5144760" y="2896560"/>
              <a:ext cx="1654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800" spc="-1" strike="noStrike">
                  <a:solidFill>
                    <a:srgbClr val="000000"/>
                  </a:solidFill>
                  <a:latin typeface="Times New Roman"/>
                </a:rPr>
                <a:t>Glutamá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800" spc="-1" strike="noStrike">
                  <a:solidFill>
                    <a:srgbClr val="000000"/>
                  </a:solidFill>
                  <a:latin typeface="Times New Roman"/>
                </a:rPr>
                <a:t>(2-oxoglutará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4" name=""/>
            <p:cNvSpPr/>
            <p:nvPr/>
          </p:nvSpPr>
          <p:spPr>
            <a:xfrm>
              <a:off x="3767040" y="3505320"/>
              <a:ext cx="401760" cy="749160"/>
            </a:xfrm>
            <a:custGeom>
              <a:avLst/>
              <a:gdLst/>
              <a:ahLst/>
              <a:rect l="l" t="t" r="r" b="b"/>
              <a:pathLst>
                <a:path w="231" h="522">
                  <a:moveTo>
                    <a:pt x="10" y="0"/>
                  </a:moveTo>
                  <a:cubicBezTo>
                    <a:pt x="14" y="65"/>
                    <a:pt x="0" y="304"/>
                    <a:pt x="37" y="391"/>
                  </a:cubicBezTo>
                  <a:cubicBezTo>
                    <a:pt x="74" y="478"/>
                    <a:pt x="191" y="495"/>
                    <a:pt x="231" y="52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5" name=""/>
            <p:cNvSpPr/>
            <p:nvPr/>
          </p:nvSpPr>
          <p:spPr>
            <a:xfrm>
              <a:off x="4160880" y="3565440"/>
              <a:ext cx="1187280" cy="698760"/>
            </a:xfrm>
            <a:custGeom>
              <a:avLst/>
              <a:gdLst/>
              <a:ahLst/>
              <a:rect l="l" t="t" r="r" b="b"/>
              <a:pathLst>
                <a:path w="748" h="440">
                  <a:moveTo>
                    <a:pt x="748" y="0"/>
                  </a:moveTo>
                  <a:cubicBezTo>
                    <a:pt x="743" y="30"/>
                    <a:pt x="740" y="117"/>
                    <a:pt x="710" y="181"/>
                  </a:cubicBezTo>
                  <a:cubicBezTo>
                    <a:pt x="680" y="245"/>
                    <a:pt x="660" y="350"/>
                    <a:pt x="567" y="385"/>
                  </a:cubicBezTo>
                  <a:cubicBezTo>
                    <a:pt x="471" y="426"/>
                    <a:pt x="244" y="382"/>
                    <a:pt x="154" y="390"/>
                  </a:cubicBezTo>
                  <a:cubicBezTo>
                    <a:pt x="60" y="399"/>
                    <a:pt x="32" y="430"/>
                    <a:pt x="0" y="44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6" name=""/>
            <p:cNvSpPr/>
            <p:nvPr/>
          </p:nvSpPr>
          <p:spPr>
            <a:xfrm flipH="1" flipV="1">
              <a:off x="4161960" y="4267080"/>
              <a:ext cx="1800" cy="254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7" name=""/>
            <p:cNvSpPr/>
            <p:nvPr/>
          </p:nvSpPr>
          <p:spPr>
            <a:xfrm>
              <a:off x="2664000" y="2499840"/>
              <a:ext cx="9381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800" spc="-1" strike="noStrike">
                  <a:solidFill>
                    <a:srgbClr val="000000"/>
                  </a:solidFill>
                  <a:latin typeface="Times New Roman"/>
                </a:rPr>
                <a:t>CO</a:t>
              </a:r>
              <a:r>
                <a:rPr b="1" lang="cs-CZ" sz="1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8" name=""/>
            <p:cNvSpPr/>
            <p:nvPr/>
          </p:nvSpPr>
          <p:spPr>
            <a:xfrm>
              <a:off x="3330720" y="2508120"/>
              <a:ext cx="428400" cy="209520"/>
            </a:xfrm>
            <a:custGeom>
              <a:avLst/>
              <a:gdLst/>
              <a:ahLst/>
              <a:rect l="l" t="t" r="r" b="b"/>
              <a:pathLst>
                <a:path w="275" h="159">
                  <a:moveTo>
                    <a:pt x="0" y="154"/>
                  </a:moveTo>
                  <a:cubicBezTo>
                    <a:pt x="20" y="154"/>
                    <a:pt x="83" y="159"/>
                    <a:pt x="121" y="154"/>
                  </a:cubicBezTo>
                  <a:cubicBezTo>
                    <a:pt x="159" y="149"/>
                    <a:pt x="201" y="148"/>
                    <a:pt x="227" y="122"/>
                  </a:cubicBezTo>
                  <a:cubicBezTo>
                    <a:pt x="271" y="91"/>
                    <a:pt x="265" y="25"/>
                    <a:pt x="275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9" name=""/>
            <p:cNvSpPr/>
            <p:nvPr/>
          </p:nvSpPr>
          <p:spPr>
            <a:xfrm>
              <a:off x="919080" y="3021120"/>
              <a:ext cx="0" cy="730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780" name=""/>
            <p:cNvGrpSpPr/>
            <p:nvPr/>
          </p:nvGrpSpPr>
          <p:grpSpPr>
            <a:xfrm>
              <a:off x="766800" y="3447000"/>
              <a:ext cx="1257120" cy="913320"/>
              <a:chOff x="766800" y="3447000"/>
              <a:chExt cx="1257120" cy="913320"/>
            </a:xfrm>
          </p:grpSpPr>
          <p:grpSp>
            <p:nvGrpSpPr>
              <p:cNvPr id="10781" name=""/>
              <p:cNvGrpSpPr/>
              <p:nvPr/>
            </p:nvGrpSpPr>
            <p:grpSpPr>
              <a:xfrm>
                <a:off x="766800" y="3799080"/>
                <a:ext cx="523440" cy="561240"/>
                <a:chOff x="766800" y="3799080"/>
                <a:chExt cx="523440" cy="561240"/>
              </a:xfrm>
            </p:grpSpPr>
            <p:grpSp>
              <p:nvGrpSpPr>
                <p:cNvPr id="10782" name=""/>
                <p:cNvGrpSpPr/>
                <p:nvPr/>
              </p:nvGrpSpPr>
              <p:grpSpPr>
                <a:xfrm>
                  <a:off x="766800" y="4179240"/>
                  <a:ext cx="407520" cy="181080"/>
                  <a:chOff x="766800" y="4179240"/>
                  <a:chExt cx="407520" cy="181080"/>
                </a:xfrm>
              </p:grpSpPr>
              <p:grpSp>
                <p:nvGrpSpPr>
                  <p:cNvPr id="10783" name=""/>
                  <p:cNvGrpSpPr/>
                  <p:nvPr/>
                </p:nvGrpSpPr>
                <p:grpSpPr>
                  <a:xfrm>
                    <a:off x="766800" y="4223880"/>
                    <a:ext cx="407520" cy="136440"/>
                    <a:chOff x="766800" y="4223880"/>
                    <a:chExt cx="407520" cy="136440"/>
                  </a:xfrm>
                </p:grpSpPr>
                <p:grpSp>
                  <p:nvGrpSpPr>
                    <p:cNvPr id="10784" name=""/>
                    <p:cNvGrpSpPr/>
                    <p:nvPr/>
                  </p:nvGrpSpPr>
                  <p:grpSpPr>
                    <a:xfrm>
                      <a:off x="767880" y="4223880"/>
                      <a:ext cx="403560" cy="136440"/>
                      <a:chOff x="767880" y="4223880"/>
                      <a:chExt cx="403560" cy="136440"/>
                    </a:xfrm>
                  </p:grpSpPr>
                  <p:sp>
                    <p:nvSpPr>
                      <p:cNvPr id="10785" name=""/>
                      <p:cNvSpPr/>
                      <p:nvPr/>
                    </p:nvSpPr>
                    <p:spPr>
                      <a:xfrm>
                        <a:off x="767880" y="4267800"/>
                        <a:ext cx="403560" cy="92520"/>
                      </a:xfrm>
                      <a:prstGeom prst="ellipse">
                        <a:avLst/>
                      </a:prstGeom>
                      <a:solidFill>
                        <a:srgbClr val="e0e0e0"/>
                      </a:solidFill>
                      <a:ln w="64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9080" bIns="190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786" name=""/>
                      <p:cNvSpPr/>
                      <p:nvPr/>
                    </p:nvSpPr>
                    <p:spPr>
                      <a:xfrm>
                        <a:off x="767880" y="4223880"/>
                        <a:ext cx="403560" cy="90360"/>
                      </a:xfrm>
                      <a:prstGeom prst="rect">
                        <a:avLst/>
                      </a:prstGeom>
                      <a:solidFill>
                        <a:srgbClr val="e0e0e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3560" bIns="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0787" name=""/>
                    <p:cNvSpPr/>
                    <p:nvPr/>
                  </p:nvSpPr>
                  <p:spPr>
                    <a:xfrm flipV="1">
                      <a:off x="766800" y="4224960"/>
                      <a:ext cx="1080" cy="95040"/>
                    </a:xfrm>
                    <a:prstGeom prst="line">
                      <a:avLst/>
                    </a:prstGeom>
                    <a:ln w="64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788" name=""/>
                    <p:cNvSpPr/>
                    <p:nvPr/>
                  </p:nvSpPr>
                  <p:spPr>
                    <a:xfrm>
                      <a:off x="1173600" y="4227840"/>
                      <a:ext cx="720" cy="91440"/>
                    </a:xfrm>
                    <a:prstGeom prst="line">
                      <a:avLst/>
                    </a:prstGeom>
                    <a:ln w="64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4640" bIns="44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0789" name=""/>
                  <p:cNvGrpSpPr/>
                  <p:nvPr/>
                </p:nvGrpSpPr>
                <p:grpSpPr>
                  <a:xfrm>
                    <a:off x="767880" y="4179240"/>
                    <a:ext cx="403560" cy="91440"/>
                    <a:chOff x="767880" y="4179240"/>
                    <a:chExt cx="403560" cy="91440"/>
                  </a:xfrm>
                </p:grpSpPr>
                <p:sp>
                  <p:nvSpPr>
                    <p:cNvPr id="10790" name=""/>
                    <p:cNvSpPr/>
                    <p:nvPr/>
                  </p:nvSpPr>
                  <p:spPr>
                    <a:xfrm>
                      <a:off x="767880" y="4179240"/>
                      <a:ext cx="403560" cy="91440"/>
                    </a:xfrm>
                    <a:prstGeom prst="ellipse">
                      <a:avLst/>
                    </a:prstGeom>
                    <a:solidFill>
                      <a:srgbClr val="e0e0e0"/>
                    </a:solidFill>
                    <a:ln w="64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8000" bIns="18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791" name=""/>
                    <p:cNvSpPr/>
                    <p:nvPr/>
                  </p:nvSpPr>
                  <p:spPr>
                    <a:xfrm>
                      <a:off x="780120" y="4192560"/>
                      <a:ext cx="378720" cy="7128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600" bIns="3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0792" name=""/>
                <p:cNvGrpSpPr/>
                <p:nvPr/>
              </p:nvGrpSpPr>
              <p:grpSpPr>
                <a:xfrm>
                  <a:off x="815400" y="3799080"/>
                  <a:ext cx="474840" cy="466560"/>
                  <a:chOff x="815400" y="3799080"/>
                  <a:chExt cx="474840" cy="466560"/>
                </a:xfrm>
              </p:grpSpPr>
              <p:sp>
                <p:nvSpPr>
                  <p:cNvPr id="10793" name=""/>
                  <p:cNvSpPr/>
                  <p:nvPr/>
                </p:nvSpPr>
                <p:spPr>
                  <a:xfrm>
                    <a:off x="833760" y="4147560"/>
                    <a:ext cx="278640" cy="118080"/>
                  </a:xfrm>
                  <a:prstGeom prst="ellipse">
                    <a:avLst/>
                  </a:prstGeom>
                  <a:solidFill>
                    <a:srgbClr val="c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720" bIns="36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94" name=""/>
                  <p:cNvSpPr/>
                  <p:nvPr/>
                </p:nvSpPr>
                <p:spPr>
                  <a:xfrm>
                    <a:off x="815400" y="3799080"/>
                    <a:ext cx="474840" cy="424800"/>
                  </a:xfrm>
                  <a:custGeom>
                    <a:avLst/>
                    <a:gdLst/>
                    <a:ahLst/>
                    <a:rect l="l" t="t" r="r" b="b"/>
                    <a:pathLst>
                      <a:path w="1381" h="1018">
                        <a:moveTo>
                          <a:pt x="54" y="976"/>
                        </a:moveTo>
                        <a:lnTo>
                          <a:pt x="31" y="898"/>
                        </a:lnTo>
                        <a:lnTo>
                          <a:pt x="18" y="832"/>
                        </a:lnTo>
                        <a:lnTo>
                          <a:pt x="9" y="772"/>
                        </a:lnTo>
                        <a:lnTo>
                          <a:pt x="6" y="738"/>
                        </a:lnTo>
                        <a:lnTo>
                          <a:pt x="1" y="688"/>
                        </a:lnTo>
                        <a:lnTo>
                          <a:pt x="0" y="607"/>
                        </a:lnTo>
                        <a:lnTo>
                          <a:pt x="10" y="542"/>
                        </a:lnTo>
                        <a:lnTo>
                          <a:pt x="21" y="491"/>
                        </a:lnTo>
                        <a:lnTo>
                          <a:pt x="47" y="444"/>
                        </a:lnTo>
                        <a:lnTo>
                          <a:pt x="82" y="396"/>
                        </a:lnTo>
                        <a:lnTo>
                          <a:pt x="143" y="353"/>
                        </a:lnTo>
                        <a:lnTo>
                          <a:pt x="189" y="333"/>
                        </a:lnTo>
                        <a:lnTo>
                          <a:pt x="240" y="322"/>
                        </a:lnTo>
                        <a:lnTo>
                          <a:pt x="279" y="299"/>
                        </a:lnTo>
                        <a:lnTo>
                          <a:pt x="345" y="257"/>
                        </a:lnTo>
                        <a:lnTo>
                          <a:pt x="305" y="304"/>
                        </a:lnTo>
                        <a:lnTo>
                          <a:pt x="353" y="292"/>
                        </a:lnTo>
                        <a:lnTo>
                          <a:pt x="387" y="283"/>
                        </a:lnTo>
                        <a:lnTo>
                          <a:pt x="436" y="280"/>
                        </a:lnTo>
                        <a:lnTo>
                          <a:pt x="426" y="222"/>
                        </a:lnTo>
                        <a:lnTo>
                          <a:pt x="432" y="170"/>
                        </a:lnTo>
                        <a:lnTo>
                          <a:pt x="445" y="130"/>
                        </a:lnTo>
                        <a:lnTo>
                          <a:pt x="483" y="82"/>
                        </a:lnTo>
                        <a:lnTo>
                          <a:pt x="529" y="45"/>
                        </a:lnTo>
                        <a:lnTo>
                          <a:pt x="617" y="0"/>
                        </a:lnTo>
                        <a:lnTo>
                          <a:pt x="548" y="88"/>
                        </a:lnTo>
                        <a:lnTo>
                          <a:pt x="610" y="69"/>
                        </a:lnTo>
                        <a:lnTo>
                          <a:pt x="659" y="64"/>
                        </a:lnTo>
                        <a:lnTo>
                          <a:pt x="726" y="64"/>
                        </a:lnTo>
                        <a:lnTo>
                          <a:pt x="629" y="104"/>
                        </a:lnTo>
                        <a:lnTo>
                          <a:pt x="702" y="104"/>
                        </a:lnTo>
                        <a:lnTo>
                          <a:pt x="799" y="69"/>
                        </a:lnTo>
                        <a:lnTo>
                          <a:pt x="856" y="54"/>
                        </a:lnTo>
                        <a:lnTo>
                          <a:pt x="949" y="45"/>
                        </a:lnTo>
                        <a:lnTo>
                          <a:pt x="1018" y="38"/>
                        </a:lnTo>
                        <a:lnTo>
                          <a:pt x="1087" y="45"/>
                        </a:lnTo>
                        <a:lnTo>
                          <a:pt x="1199" y="57"/>
                        </a:lnTo>
                        <a:lnTo>
                          <a:pt x="1080" y="73"/>
                        </a:lnTo>
                        <a:lnTo>
                          <a:pt x="1039" y="101"/>
                        </a:lnTo>
                        <a:lnTo>
                          <a:pt x="1015" y="135"/>
                        </a:lnTo>
                        <a:lnTo>
                          <a:pt x="1083" y="114"/>
                        </a:lnTo>
                        <a:lnTo>
                          <a:pt x="1168" y="88"/>
                        </a:lnTo>
                        <a:lnTo>
                          <a:pt x="1253" y="78"/>
                        </a:lnTo>
                        <a:lnTo>
                          <a:pt x="1312" y="76"/>
                        </a:lnTo>
                        <a:lnTo>
                          <a:pt x="1381" y="92"/>
                        </a:lnTo>
                        <a:lnTo>
                          <a:pt x="1309" y="107"/>
                        </a:lnTo>
                        <a:lnTo>
                          <a:pt x="1246" y="126"/>
                        </a:lnTo>
                        <a:lnTo>
                          <a:pt x="1184" y="151"/>
                        </a:lnTo>
                        <a:lnTo>
                          <a:pt x="1139" y="173"/>
                        </a:lnTo>
                        <a:lnTo>
                          <a:pt x="1077" y="230"/>
                        </a:lnTo>
                        <a:lnTo>
                          <a:pt x="1031" y="283"/>
                        </a:lnTo>
                        <a:lnTo>
                          <a:pt x="1000" y="348"/>
                        </a:lnTo>
                        <a:lnTo>
                          <a:pt x="1007" y="423"/>
                        </a:lnTo>
                        <a:lnTo>
                          <a:pt x="1014" y="495"/>
                        </a:lnTo>
                        <a:lnTo>
                          <a:pt x="1015" y="550"/>
                        </a:lnTo>
                        <a:lnTo>
                          <a:pt x="1006" y="621"/>
                        </a:lnTo>
                        <a:lnTo>
                          <a:pt x="984" y="671"/>
                        </a:lnTo>
                        <a:lnTo>
                          <a:pt x="946" y="696"/>
                        </a:lnTo>
                        <a:lnTo>
                          <a:pt x="906" y="709"/>
                        </a:lnTo>
                        <a:lnTo>
                          <a:pt x="850" y="713"/>
                        </a:lnTo>
                        <a:lnTo>
                          <a:pt x="868" y="744"/>
                        </a:lnTo>
                        <a:lnTo>
                          <a:pt x="887" y="773"/>
                        </a:lnTo>
                        <a:lnTo>
                          <a:pt x="903" y="819"/>
                        </a:lnTo>
                        <a:lnTo>
                          <a:pt x="906" y="859"/>
                        </a:lnTo>
                        <a:lnTo>
                          <a:pt x="896" y="903"/>
                        </a:lnTo>
                        <a:lnTo>
                          <a:pt x="861" y="990"/>
                        </a:lnTo>
                        <a:lnTo>
                          <a:pt x="795" y="1018"/>
                        </a:lnTo>
                        <a:lnTo>
                          <a:pt x="54" y="976"/>
                        </a:lnTo>
                        <a:close/>
                      </a:path>
                    </a:pathLst>
                  </a:custGeom>
                  <a:solidFill>
                    <a:srgbClr val="c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95" name=""/>
                  <p:cNvSpPr/>
                  <p:nvPr/>
                </p:nvSpPr>
                <p:spPr>
                  <a:xfrm>
                    <a:off x="856440" y="4089960"/>
                    <a:ext cx="252000" cy="170280"/>
                  </a:xfrm>
                  <a:prstGeom prst="ellipse">
                    <a:avLst/>
                  </a:prstGeom>
                  <a:solidFill>
                    <a:srgbClr val="ff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96" name=""/>
                  <p:cNvSpPr/>
                  <p:nvPr/>
                </p:nvSpPr>
                <p:spPr>
                  <a:xfrm>
                    <a:off x="840960" y="3822480"/>
                    <a:ext cx="400680" cy="422640"/>
                  </a:xfrm>
                  <a:custGeom>
                    <a:avLst/>
                    <a:gdLst/>
                    <a:ahLst/>
                    <a:rect l="l" t="t" r="r" b="b"/>
                    <a:pathLst>
                      <a:path w="1164" h="1010">
                        <a:moveTo>
                          <a:pt x="50" y="869"/>
                        </a:moveTo>
                        <a:lnTo>
                          <a:pt x="31" y="802"/>
                        </a:lnTo>
                        <a:lnTo>
                          <a:pt x="12" y="730"/>
                        </a:lnTo>
                        <a:lnTo>
                          <a:pt x="0" y="668"/>
                        </a:lnTo>
                        <a:lnTo>
                          <a:pt x="0" y="579"/>
                        </a:lnTo>
                        <a:lnTo>
                          <a:pt x="7" y="535"/>
                        </a:lnTo>
                        <a:lnTo>
                          <a:pt x="16" y="491"/>
                        </a:lnTo>
                        <a:lnTo>
                          <a:pt x="41" y="441"/>
                        </a:lnTo>
                        <a:lnTo>
                          <a:pt x="72" y="393"/>
                        </a:lnTo>
                        <a:lnTo>
                          <a:pt x="110" y="361"/>
                        </a:lnTo>
                        <a:lnTo>
                          <a:pt x="147" y="332"/>
                        </a:lnTo>
                        <a:lnTo>
                          <a:pt x="197" y="318"/>
                        </a:lnTo>
                        <a:lnTo>
                          <a:pt x="261" y="311"/>
                        </a:lnTo>
                        <a:lnTo>
                          <a:pt x="312" y="304"/>
                        </a:lnTo>
                        <a:lnTo>
                          <a:pt x="381" y="299"/>
                        </a:lnTo>
                        <a:lnTo>
                          <a:pt x="423" y="292"/>
                        </a:lnTo>
                        <a:lnTo>
                          <a:pt x="404" y="249"/>
                        </a:lnTo>
                        <a:lnTo>
                          <a:pt x="385" y="205"/>
                        </a:lnTo>
                        <a:lnTo>
                          <a:pt x="378" y="158"/>
                        </a:lnTo>
                        <a:lnTo>
                          <a:pt x="381" y="113"/>
                        </a:lnTo>
                        <a:lnTo>
                          <a:pt x="397" y="69"/>
                        </a:lnTo>
                        <a:lnTo>
                          <a:pt x="419" y="40"/>
                        </a:lnTo>
                        <a:lnTo>
                          <a:pt x="463" y="0"/>
                        </a:lnTo>
                        <a:lnTo>
                          <a:pt x="438" y="40"/>
                        </a:lnTo>
                        <a:lnTo>
                          <a:pt x="428" y="73"/>
                        </a:lnTo>
                        <a:lnTo>
                          <a:pt x="457" y="50"/>
                        </a:lnTo>
                        <a:lnTo>
                          <a:pt x="494" y="40"/>
                        </a:lnTo>
                        <a:lnTo>
                          <a:pt x="542" y="35"/>
                        </a:lnTo>
                        <a:lnTo>
                          <a:pt x="497" y="47"/>
                        </a:lnTo>
                        <a:lnTo>
                          <a:pt x="480" y="66"/>
                        </a:lnTo>
                        <a:lnTo>
                          <a:pt x="470" y="97"/>
                        </a:lnTo>
                        <a:lnTo>
                          <a:pt x="473" y="126"/>
                        </a:lnTo>
                        <a:lnTo>
                          <a:pt x="497" y="85"/>
                        </a:lnTo>
                        <a:lnTo>
                          <a:pt x="525" y="69"/>
                        </a:lnTo>
                        <a:lnTo>
                          <a:pt x="563" y="59"/>
                        </a:lnTo>
                        <a:lnTo>
                          <a:pt x="627" y="59"/>
                        </a:lnTo>
                        <a:lnTo>
                          <a:pt x="696" y="44"/>
                        </a:lnTo>
                        <a:lnTo>
                          <a:pt x="736" y="35"/>
                        </a:lnTo>
                        <a:lnTo>
                          <a:pt x="802" y="19"/>
                        </a:lnTo>
                        <a:lnTo>
                          <a:pt x="868" y="9"/>
                        </a:lnTo>
                        <a:lnTo>
                          <a:pt x="945" y="9"/>
                        </a:lnTo>
                        <a:lnTo>
                          <a:pt x="977" y="16"/>
                        </a:lnTo>
                        <a:lnTo>
                          <a:pt x="948" y="35"/>
                        </a:lnTo>
                        <a:lnTo>
                          <a:pt x="910" y="73"/>
                        </a:lnTo>
                        <a:lnTo>
                          <a:pt x="889" y="107"/>
                        </a:lnTo>
                        <a:lnTo>
                          <a:pt x="874" y="126"/>
                        </a:lnTo>
                        <a:lnTo>
                          <a:pt x="852" y="170"/>
                        </a:lnTo>
                        <a:lnTo>
                          <a:pt x="917" y="120"/>
                        </a:lnTo>
                        <a:lnTo>
                          <a:pt x="970" y="92"/>
                        </a:lnTo>
                        <a:lnTo>
                          <a:pt x="1045" y="66"/>
                        </a:lnTo>
                        <a:lnTo>
                          <a:pt x="1124" y="54"/>
                        </a:lnTo>
                        <a:lnTo>
                          <a:pt x="1164" y="50"/>
                        </a:lnTo>
                        <a:lnTo>
                          <a:pt x="1095" y="73"/>
                        </a:lnTo>
                        <a:lnTo>
                          <a:pt x="1026" y="101"/>
                        </a:lnTo>
                        <a:lnTo>
                          <a:pt x="974" y="151"/>
                        </a:lnTo>
                        <a:lnTo>
                          <a:pt x="905" y="239"/>
                        </a:lnTo>
                        <a:lnTo>
                          <a:pt x="868" y="323"/>
                        </a:lnTo>
                        <a:lnTo>
                          <a:pt x="850" y="393"/>
                        </a:lnTo>
                        <a:lnTo>
                          <a:pt x="874" y="374"/>
                        </a:lnTo>
                        <a:lnTo>
                          <a:pt x="889" y="349"/>
                        </a:lnTo>
                        <a:lnTo>
                          <a:pt x="901" y="318"/>
                        </a:lnTo>
                        <a:lnTo>
                          <a:pt x="905" y="368"/>
                        </a:lnTo>
                        <a:lnTo>
                          <a:pt x="914" y="427"/>
                        </a:lnTo>
                        <a:lnTo>
                          <a:pt x="914" y="472"/>
                        </a:lnTo>
                        <a:lnTo>
                          <a:pt x="905" y="531"/>
                        </a:lnTo>
                        <a:lnTo>
                          <a:pt x="882" y="585"/>
                        </a:lnTo>
                        <a:lnTo>
                          <a:pt x="850" y="611"/>
                        </a:lnTo>
                        <a:lnTo>
                          <a:pt x="805" y="620"/>
                        </a:lnTo>
                        <a:lnTo>
                          <a:pt x="762" y="620"/>
                        </a:lnTo>
                        <a:lnTo>
                          <a:pt x="686" y="620"/>
                        </a:lnTo>
                        <a:lnTo>
                          <a:pt x="743" y="670"/>
                        </a:lnTo>
                        <a:lnTo>
                          <a:pt x="771" y="711"/>
                        </a:lnTo>
                        <a:lnTo>
                          <a:pt x="793" y="776"/>
                        </a:lnTo>
                        <a:lnTo>
                          <a:pt x="796" y="810"/>
                        </a:lnTo>
                        <a:lnTo>
                          <a:pt x="790" y="838"/>
                        </a:lnTo>
                        <a:lnTo>
                          <a:pt x="783" y="865"/>
                        </a:lnTo>
                        <a:lnTo>
                          <a:pt x="752" y="914"/>
                        </a:lnTo>
                        <a:lnTo>
                          <a:pt x="670" y="923"/>
                        </a:lnTo>
                        <a:lnTo>
                          <a:pt x="620" y="967"/>
                        </a:lnTo>
                        <a:lnTo>
                          <a:pt x="535" y="983"/>
                        </a:lnTo>
                        <a:lnTo>
                          <a:pt x="419" y="1010"/>
                        </a:lnTo>
                        <a:lnTo>
                          <a:pt x="50" y="869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97" name=""/>
                  <p:cNvSpPr/>
                  <p:nvPr/>
                </p:nvSpPr>
                <p:spPr>
                  <a:xfrm>
                    <a:off x="821160" y="3933000"/>
                    <a:ext cx="81720" cy="220680"/>
                  </a:xfrm>
                  <a:custGeom>
                    <a:avLst/>
                    <a:gdLst/>
                    <a:ahLst/>
                    <a:rect l="l" t="t" r="r" b="b"/>
                    <a:pathLst>
                      <a:path w="239" h="527">
                        <a:moveTo>
                          <a:pt x="239" y="0"/>
                        </a:moveTo>
                        <a:lnTo>
                          <a:pt x="183" y="26"/>
                        </a:lnTo>
                        <a:lnTo>
                          <a:pt x="127" y="50"/>
                        </a:lnTo>
                        <a:lnTo>
                          <a:pt x="75" y="94"/>
                        </a:lnTo>
                        <a:lnTo>
                          <a:pt x="38" y="147"/>
                        </a:lnTo>
                        <a:lnTo>
                          <a:pt x="22" y="190"/>
                        </a:lnTo>
                        <a:lnTo>
                          <a:pt x="7" y="242"/>
                        </a:lnTo>
                        <a:lnTo>
                          <a:pt x="0" y="308"/>
                        </a:lnTo>
                        <a:lnTo>
                          <a:pt x="3" y="387"/>
                        </a:lnTo>
                        <a:lnTo>
                          <a:pt x="19" y="426"/>
                        </a:lnTo>
                        <a:lnTo>
                          <a:pt x="38" y="473"/>
                        </a:lnTo>
                        <a:lnTo>
                          <a:pt x="60" y="527"/>
                        </a:lnTo>
                        <a:lnTo>
                          <a:pt x="41" y="449"/>
                        </a:lnTo>
                        <a:lnTo>
                          <a:pt x="26" y="380"/>
                        </a:lnTo>
                        <a:lnTo>
                          <a:pt x="29" y="304"/>
                        </a:lnTo>
                        <a:lnTo>
                          <a:pt x="48" y="213"/>
                        </a:lnTo>
                        <a:lnTo>
                          <a:pt x="84" y="130"/>
                        </a:lnTo>
                        <a:lnTo>
                          <a:pt x="113" y="94"/>
                        </a:lnTo>
                        <a:lnTo>
                          <a:pt x="144" y="66"/>
                        </a:lnTo>
                        <a:lnTo>
                          <a:pt x="169" y="44"/>
                        </a:lnTo>
                        <a:lnTo>
                          <a:pt x="239" y="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98" name=""/>
                  <p:cNvSpPr/>
                  <p:nvPr/>
                </p:nvSpPr>
                <p:spPr>
                  <a:xfrm>
                    <a:off x="1007280" y="3855240"/>
                    <a:ext cx="43200" cy="66240"/>
                  </a:xfrm>
                  <a:custGeom>
                    <a:avLst/>
                    <a:gdLst/>
                    <a:ahLst/>
                    <a:rect l="l" t="t" r="r" b="b"/>
                    <a:pathLst>
                      <a:path w="125" h="158">
                        <a:moveTo>
                          <a:pt x="125" y="0"/>
                        </a:moveTo>
                        <a:lnTo>
                          <a:pt x="64" y="10"/>
                        </a:lnTo>
                        <a:lnTo>
                          <a:pt x="28" y="23"/>
                        </a:lnTo>
                        <a:lnTo>
                          <a:pt x="12" y="41"/>
                        </a:lnTo>
                        <a:lnTo>
                          <a:pt x="5" y="56"/>
                        </a:lnTo>
                        <a:lnTo>
                          <a:pt x="0" y="88"/>
                        </a:lnTo>
                        <a:lnTo>
                          <a:pt x="0" y="121"/>
                        </a:lnTo>
                        <a:lnTo>
                          <a:pt x="2" y="158"/>
                        </a:lnTo>
                        <a:lnTo>
                          <a:pt x="12" y="79"/>
                        </a:lnTo>
                        <a:lnTo>
                          <a:pt x="32" y="46"/>
                        </a:lnTo>
                        <a:lnTo>
                          <a:pt x="51" y="33"/>
                        </a:lnTo>
                        <a:lnTo>
                          <a:pt x="125" y="0"/>
                        </a:lnTo>
                        <a:close/>
                      </a:path>
                    </a:pathLst>
                  </a:custGeom>
                  <a:solidFill>
                    <a:srgbClr val="c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440" bIns="19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99" name=""/>
                  <p:cNvSpPr/>
                  <p:nvPr/>
                </p:nvSpPr>
                <p:spPr>
                  <a:xfrm>
                    <a:off x="1076400" y="3985920"/>
                    <a:ext cx="71280" cy="86400"/>
                  </a:xfrm>
                  <a:custGeom>
                    <a:avLst/>
                    <a:gdLst/>
                    <a:ahLst/>
                    <a:rect l="l" t="t" r="r" b="b"/>
                    <a:pathLst>
                      <a:path w="206" h="205">
                        <a:moveTo>
                          <a:pt x="204" y="0"/>
                        </a:moveTo>
                        <a:lnTo>
                          <a:pt x="206" y="52"/>
                        </a:lnTo>
                        <a:lnTo>
                          <a:pt x="204" y="106"/>
                        </a:lnTo>
                        <a:lnTo>
                          <a:pt x="185" y="158"/>
                        </a:lnTo>
                        <a:lnTo>
                          <a:pt x="163" y="186"/>
                        </a:lnTo>
                        <a:lnTo>
                          <a:pt x="136" y="200"/>
                        </a:lnTo>
                        <a:lnTo>
                          <a:pt x="82" y="202"/>
                        </a:lnTo>
                        <a:lnTo>
                          <a:pt x="34" y="205"/>
                        </a:lnTo>
                        <a:lnTo>
                          <a:pt x="0" y="202"/>
                        </a:lnTo>
                        <a:lnTo>
                          <a:pt x="24" y="196"/>
                        </a:lnTo>
                        <a:lnTo>
                          <a:pt x="63" y="186"/>
                        </a:lnTo>
                        <a:lnTo>
                          <a:pt x="108" y="165"/>
                        </a:lnTo>
                        <a:lnTo>
                          <a:pt x="146" y="128"/>
                        </a:lnTo>
                        <a:lnTo>
                          <a:pt x="173" y="81"/>
                        </a:lnTo>
                        <a:lnTo>
                          <a:pt x="185" y="52"/>
                        </a:lnTo>
                        <a:lnTo>
                          <a:pt x="204" y="0"/>
                        </a:lnTo>
                        <a:close/>
                      </a:path>
                    </a:pathLst>
                  </a:custGeom>
                  <a:solidFill>
                    <a:srgbClr val="c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0" bIns="39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00" name=""/>
                  <p:cNvSpPr/>
                  <p:nvPr/>
                </p:nvSpPr>
                <p:spPr>
                  <a:xfrm>
                    <a:off x="856440" y="3970800"/>
                    <a:ext cx="61920" cy="178920"/>
                  </a:xfrm>
                  <a:custGeom>
                    <a:avLst/>
                    <a:gdLst/>
                    <a:ahLst/>
                    <a:rect l="l" t="t" r="r" b="b"/>
                    <a:pathLst>
                      <a:path w="182" h="430">
                        <a:moveTo>
                          <a:pt x="182" y="0"/>
                        </a:moveTo>
                        <a:lnTo>
                          <a:pt x="120" y="16"/>
                        </a:lnTo>
                        <a:lnTo>
                          <a:pt x="54" y="54"/>
                        </a:lnTo>
                        <a:lnTo>
                          <a:pt x="27" y="89"/>
                        </a:lnTo>
                        <a:lnTo>
                          <a:pt x="12" y="125"/>
                        </a:lnTo>
                        <a:lnTo>
                          <a:pt x="2" y="178"/>
                        </a:lnTo>
                        <a:lnTo>
                          <a:pt x="0" y="220"/>
                        </a:lnTo>
                        <a:lnTo>
                          <a:pt x="0" y="254"/>
                        </a:lnTo>
                        <a:lnTo>
                          <a:pt x="12" y="345"/>
                        </a:lnTo>
                        <a:lnTo>
                          <a:pt x="33" y="430"/>
                        </a:lnTo>
                        <a:lnTo>
                          <a:pt x="27" y="273"/>
                        </a:lnTo>
                        <a:lnTo>
                          <a:pt x="36" y="213"/>
                        </a:lnTo>
                        <a:lnTo>
                          <a:pt x="54" y="154"/>
                        </a:lnTo>
                        <a:lnTo>
                          <a:pt x="82" y="101"/>
                        </a:lnTo>
                        <a:lnTo>
                          <a:pt x="101" y="70"/>
                        </a:lnTo>
                        <a:lnTo>
                          <a:pt x="129" y="42"/>
                        </a:lnTo>
                        <a:lnTo>
                          <a:pt x="182" y="0"/>
                        </a:lnTo>
                        <a:close/>
                      </a:path>
                    </a:pathLst>
                  </a:custGeom>
                  <a:solidFill>
                    <a:srgbClr val="c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01" name=""/>
                  <p:cNvSpPr/>
                  <p:nvPr/>
                </p:nvSpPr>
                <p:spPr>
                  <a:xfrm>
                    <a:off x="1019520" y="3837600"/>
                    <a:ext cx="1227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268">
                        <a:moveTo>
                          <a:pt x="356" y="0"/>
                        </a:moveTo>
                        <a:lnTo>
                          <a:pt x="295" y="5"/>
                        </a:lnTo>
                        <a:lnTo>
                          <a:pt x="256" y="15"/>
                        </a:lnTo>
                        <a:lnTo>
                          <a:pt x="225" y="31"/>
                        </a:lnTo>
                        <a:lnTo>
                          <a:pt x="203" y="47"/>
                        </a:lnTo>
                        <a:lnTo>
                          <a:pt x="175" y="70"/>
                        </a:lnTo>
                        <a:lnTo>
                          <a:pt x="149" y="115"/>
                        </a:lnTo>
                        <a:lnTo>
                          <a:pt x="149" y="74"/>
                        </a:lnTo>
                        <a:lnTo>
                          <a:pt x="156" y="50"/>
                        </a:lnTo>
                        <a:lnTo>
                          <a:pt x="165" y="38"/>
                        </a:lnTo>
                        <a:lnTo>
                          <a:pt x="140" y="53"/>
                        </a:lnTo>
                        <a:lnTo>
                          <a:pt x="121" y="77"/>
                        </a:lnTo>
                        <a:lnTo>
                          <a:pt x="118" y="112"/>
                        </a:lnTo>
                        <a:lnTo>
                          <a:pt x="115" y="134"/>
                        </a:lnTo>
                        <a:lnTo>
                          <a:pt x="102" y="178"/>
                        </a:lnTo>
                        <a:lnTo>
                          <a:pt x="90" y="208"/>
                        </a:lnTo>
                        <a:lnTo>
                          <a:pt x="67" y="239"/>
                        </a:lnTo>
                        <a:lnTo>
                          <a:pt x="19" y="258"/>
                        </a:lnTo>
                        <a:lnTo>
                          <a:pt x="0" y="265"/>
                        </a:lnTo>
                        <a:lnTo>
                          <a:pt x="72" y="268"/>
                        </a:lnTo>
                        <a:lnTo>
                          <a:pt x="106" y="268"/>
                        </a:lnTo>
                        <a:lnTo>
                          <a:pt x="140" y="249"/>
                        </a:lnTo>
                        <a:lnTo>
                          <a:pt x="165" y="220"/>
                        </a:lnTo>
                        <a:lnTo>
                          <a:pt x="177" y="184"/>
                        </a:lnTo>
                        <a:lnTo>
                          <a:pt x="187" y="146"/>
                        </a:lnTo>
                        <a:lnTo>
                          <a:pt x="208" y="115"/>
                        </a:lnTo>
                        <a:lnTo>
                          <a:pt x="270" y="89"/>
                        </a:lnTo>
                        <a:lnTo>
                          <a:pt x="227" y="89"/>
                        </a:lnTo>
                        <a:lnTo>
                          <a:pt x="225" y="70"/>
                        </a:lnTo>
                        <a:lnTo>
                          <a:pt x="243" y="53"/>
                        </a:lnTo>
                        <a:lnTo>
                          <a:pt x="270" y="34"/>
                        </a:lnTo>
                        <a:lnTo>
                          <a:pt x="295" y="22"/>
                        </a:lnTo>
                        <a:lnTo>
                          <a:pt x="356" y="0"/>
                        </a:lnTo>
                        <a:close/>
                      </a:path>
                    </a:pathLst>
                  </a:custGeom>
                  <a:solidFill>
                    <a:srgbClr val="c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02" name=""/>
                  <p:cNvSpPr/>
                  <p:nvPr/>
                </p:nvSpPr>
                <p:spPr>
                  <a:xfrm>
                    <a:off x="893520" y="3980880"/>
                    <a:ext cx="149400" cy="239400"/>
                  </a:xfrm>
                  <a:custGeom>
                    <a:avLst/>
                    <a:gdLst/>
                    <a:ahLst/>
                    <a:rect l="l" t="t" r="r" b="b"/>
                    <a:pathLst>
                      <a:path w="434" h="572">
                        <a:moveTo>
                          <a:pt x="297" y="0"/>
                        </a:moveTo>
                        <a:lnTo>
                          <a:pt x="209" y="19"/>
                        </a:lnTo>
                        <a:lnTo>
                          <a:pt x="139" y="41"/>
                        </a:lnTo>
                        <a:lnTo>
                          <a:pt x="85" y="79"/>
                        </a:lnTo>
                        <a:lnTo>
                          <a:pt x="41" y="133"/>
                        </a:lnTo>
                        <a:lnTo>
                          <a:pt x="10" y="207"/>
                        </a:lnTo>
                        <a:lnTo>
                          <a:pt x="0" y="267"/>
                        </a:lnTo>
                        <a:lnTo>
                          <a:pt x="0" y="352"/>
                        </a:lnTo>
                        <a:lnTo>
                          <a:pt x="7" y="425"/>
                        </a:lnTo>
                        <a:lnTo>
                          <a:pt x="22" y="483"/>
                        </a:lnTo>
                        <a:lnTo>
                          <a:pt x="43" y="535"/>
                        </a:lnTo>
                        <a:lnTo>
                          <a:pt x="155" y="572"/>
                        </a:lnTo>
                        <a:lnTo>
                          <a:pt x="246" y="541"/>
                        </a:lnTo>
                        <a:lnTo>
                          <a:pt x="297" y="513"/>
                        </a:lnTo>
                        <a:lnTo>
                          <a:pt x="322" y="483"/>
                        </a:lnTo>
                        <a:lnTo>
                          <a:pt x="346" y="425"/>
                        </a:lnTo>
                        <a:lnTo>
                          <a:pt x="361" y="366"/>
                        </a:lnTo>
                        <a:lnTo>
                          <a:pt x="365" y="311"/>
                        </a:lnTo>
                        <a:lnTo>
                          <a:pt x="358" y="274"/>
                        </a:lnTo>
                        <a:lnTo>
                          <a:pt x="346" y="349"/>
                        </a:lnTo>
                        <a:lnTo>
                          <a:pt x="326" y="394"/>
                        </a:lnTo>
                        <a:lnTo>
                          <a:pt x="290" y="430"/>
                        </a:lnTo>
                        <a:lnTo>
                          <a:pt x="246" y="455"/>
                        </a:lnTo>
                        <a:lnTo>
                          <a:pt x="281" y="390"/>
                        </a:lnTo>
                        <a:lnTo>
                          <a:pt x="290" y="359"/>
                        </a:lnTo>
                        <a:lnTo>
                          <a:pt x="290" y="318"/>
                        </a:lnTo>
                        <a:lnTo>
                          <a:pt x="290" y="264"/>
                        </a:lnTo>
                        <a:lnTo>
                          <a:pt x="300" y="198"/>
                        </a:lnTo>
                        <a:lnTo>
                          <a:pt x="312" y="163"/>
                        </a:lnTo>
                        <a:lnTo>
                          <a:pt x="327" y="121"/>
                        </a:lnTo>
                        <a:lnTo>
                          <a:pt x="339" y="98"/>
                        </a:lnTo>
                        <a:lnTo>
                          <a:pt x="312" y="117"/>
                        </a:lnTo>
                        <a:lnTo>
                          <a:pt x="288" y="148"/>
                        </a:lnTo>
                        <a:lnTo>
                          <a:pt x="255" y="217"/>
                        </a:lnTo>
                        <a:lnTo>
                          <a:pt x="231" y="283"/>
                        </a:lnTo>
                        <a:lnTo>
                          <a:pt x="222" y="226"/>
                        </a:lnTo>
                        <a:lnTo>
                          <a:pt x="224" y="160"/>
                        </a:lnTo>
                        <a:lnTo>
                          <a:pt x="240" y="107"/>
                        </a:lnTo>
                        <a:lnTo>
                          <a:pt x="272" y="76"/>
                        </a:lnTo>
                        <a:lnTo>
                          <a:pt x="297" y="60"/>
                        </a:lnTo>
                        <a:lnTo>
                          <a:pt x="349" y="50"/>
                        </a:lnTo>
                        <a:lnTo>
                          <a:pt x="380" y="50"/>
                        </a:lnTo>
                        <a:lnTo>
                          <a:pt x="434" y="38"/>
                        </a:lnTo>
                        <a:lnTo>
                          <a:pt x="355" y="38"/>
                        </a:lnTo>
                        <a:lnTo>
                          <a:pt x="303" y="41"/>
                        </a:lnTo>
                        <a:lnTo>
                          <a:pt x="222" y="67"/>
                        </a:lnTo>
                        <a:lnTo>
                          <a:pt x="181" y="86"/>
                        </a:lnTo>
                        <a:lnTo>
                          <a:pt x="146" y="123"/>
                        </a:lnTo>
                        <a:lnTo>
                          <a:pt x="155" y="86"/>
                        </a:lnTo>
                        <a:lnTo>
                          <a:pt x="174" y="57"/>
                        </a:lnTo>
                        <a:lnTo>
                          <a:pt x="205" y="41"/>
                        </a:lnTo>
                        <a:lnTo>
                          <a:pt x="297" y="0"/>
                        </a:lnTo>
                        <a:close/>
                      </a:path>
                    </a:pathLst>
                  </a:custGeom>
                  <a:solidFill>
                    <a:srgbClr val="c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0803" name=""/>
              <p:cNvSpPr/>
              <p:nvPr/>
            </p:nvSpPr>
            <p:spPr>
              <a:xfrm>
                <a:off x="1011240" y="3447000"/>
                <a:ext cx="10126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1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cs-CZ" sz="1400" spc="-1" strike="noStrike">
                    <a:solidFill>
                      <a:srgbClr val="000000"/>
                    </a:solidFill>
                    <a:latin typeface="Times New Roman"/>
                  </a:rPr>
                  <a:t>CO</a:t>
                </a:r>
                <a:r>
                  <a:rPr b="1" lang="cs-CZ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1" lang="cs-CZ" sz="1400" spc="-1" strike="noStrike">
                    <a:solidFill>
                      <a:srgbClr val="000000"/>
                    </a:solidFill>
                    <a:latin typeface="Times New Roman"/>
                  </a:rPr>
                  <a:t>+H</a:t>
                </a:r>
                <a:r>
                  <a:rPr b="1" lang="cs-CZ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1" lang="cs-CZ" sz="1400" spc="-1" strike="noStrike">
                    <a:solidFill>
                      <a:srgbClr val="000000"/>
                    </a:solidFill>
                    <a:latin typeface="Times New Roman"/>
                  </a:rPr>
                  <a:t>O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804" name=""/>
            <p:cNvSpPr/>
            <p:nvPr/>
          </p:nvSpPr>
          <p:spPr>
            <a:xfrm>
              <a:off x="298800" y="5306400"/>
              <a:ext cx="1069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800" spc="-1" strike="noStrike">
                  <a:solidFill>
                    <a:srgbClr val="000000"/>
                  </a:solidFill>
                  <a:latin typeface="Times New Roman"/>
                </a:rPr>
                <a:t>Uhlíkový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800" spc="-1" strike="noStrike">
                  <a:solidFill>
                    <a:srgbClr val="000000"/>
                  </a:solidFill>
                  <a:latin typeface="Times New Roman"/>
                </a:rPr>
                <a:t>skele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5" name=""/>
            <p:cNvSpPr/>
            <p:nvPr/>
          </p:nvSpPr>
          <p:spPr>
            <a:xfrm>
              <a:off x="905040" y="5845320"/>
              <a:ext cx="4680" cy="507960"/>
            </a:xfrm>
            <a:custGeom>
              <a:avLst/>
              <a:gdLst/>
              <a:ahLst/>
              <a:rect l="l" t="t" r="r" b="b"/>
              <a:pathLst>
                <a:path w="3" h="320">
                  <a:moveTo>
                    <a:pt x="3" y="32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6" name=""/>
            <p:cNvSpPr/>
            <p:nvPr/>
          </p:nvSpPr>
          <p:spPr>
            <a:xfrm>
              <a:off x="474840" y="257904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8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1" lang="cs-CZ" sz="1800" spc="-1" strike="noStrike" baseline="30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7" name=""/>
            <p:cNvSpPr/>
            <p:nvPr/>
          </p:nvSpPr>
          <p:spPr>
            <a:xfrm>
              <a:off x="5475240" y="3638520"/>
              <a:ext cx="1408320" cy="40176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8" name=""/>
            <p:cNvSpPr/>
            <p:nvPr/>
          </p:nvSpPr>
          <p:spPr>
            <a:xfrm>
              <a:off x="5565600" y="3609360"/>
              <a:ext cx="1121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800" spc="-1" strike="noStrike">
                  <a:solidFill>
                    <a:srgbClr val="000000"/>
                  </a:solidFill>
                  <a:latin typeface="Times New Roman"/>
                </a:rPr>
                <a:t>Glutami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9" name=""/>
            <p:cNvSpPr/>
            <p:nvPr/>
          </p:nvSpPr>
          <p:spPr>
            <a:xfrm>
              <a:off x="6351480" y="3487680"/>
              <a:ext cx="1013040" cy="1260360"/>
            </a:xfrm>
            <a:custGeom>
              <a:avLst/>
              <a:gdLst/>
              <a:ahLst/>
              <a:rect l="l" t="t" r="r" b="b"/>
              <a:pathLst>
                <a:path w="638" h="794">
                  <a:moveTo>
                    <a:pt x="0" y="706"/>
                  </a:moveTo>
                  <a:cubicBezTo>
                    <a:pt x="54" y="717"/>
                    <a:pt x="225" y="794"/>
                    <a:pt x="326" y="775"/>
                  </a:cubicBezTo>
                  <a:cubicBezTo>
                    <a:pt x="427" y="756"/>
                    <a:pt x="576" y="688"/>
                    <a:pt x="607" y="593"/>
                  </a:cubicBezTo>
                  <a:cubicBezTo>
                    <a:pt x="638" y="498"/>
                    <a:pt x="580" y="302"/>
                    <a:pt x="510" y="203"/>
                  </a:cubicBezTo>
                  <a:cubicBezTo>
                    <a:pt x="440" y="104"/>
                    <a:pt x="253" y="42"/>
                    <a:pt x="185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0" name=""/>
            <p:cNvSpPr/>
            <p:nvPr/>
          </p:nvSpPr>
          <p:spPr>
            <a:xfrm flipH="1" flipV="1">
              <a:off x="6314760" y="4065120"/>
              <a:ext cx="19080" cy="552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1" name=""/>
            <p:cNvSpPr/>
            <p:nvPr/>
          </p:nvSpPr>
          <p:spPr>
            <a:xfrm>
              <a:off x="5140440" y="4603320"/>
              <a:ext cx="990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800" spc="-1" strike="noStrike">
                  <a:solidFill>
                    <a:srgbClr val="000000"/>
                  </a:solidFill>
                  <a:latin typeface="Times New Roman"/>
                </a:rPr>
                <a:t>NH</a:t>
              </a:r>
              <a:r>
                <a:rPr b="1" lang="cs-CZ" sz="18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1" lang="cs-CZ" sz="1800" spc="-1" strike="noStrike" baseline="30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2" name=""/>
            <p:cNvSpPr/>
            <p:nvPr/>
          </p:nvSpPr>
          <p:spPr>
            <a:xfrm>
              <a:off x="5907240" y="4605480"/>
              <a:ext cx="425160" cy="182520"/>
            </a:xfrm>
            <a:custGeom>
              <a:avLst/>
              <a:gdLst/>
              <a:ahLst/>
              <a:rect l="l" t="t" r="r" b="b"/>
              <a:pathLst>
                <a:path w="268" h="115">
                  <a:moveTo>
                    <a:pt x="268" y="0"/>
                  </a:moveTo>
                  <a:lnTo>
                    <a:pt x="0" y="115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3" name=""/>
            <p:cNvSpPr/>
            <p:nvPr/>
          </p:nvSpPr>
          <p:spPr>
            <a:xfrm>
              <a:off x="5043600" y="5428800"/>
              <a:ext cx="12348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2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1" lang="cs-CZ" sz="1200" spc="-1" strike="noStrike" baseline="30000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lang="cs-CZ" sz="1200" spc="-1" strike="noStrike">
                  <a:solidFill>
                    <a:srgbClr val="000000"/>
                  </a:solidFill>
                  <a:latin typeface="Times New Roman"/>
                </a:rPr>
                <a:t> +NH</a:t>
              </a:r>
              <a:r>
                <a:rPr b="1" lang="cs-CZ" sz="12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4" name=""/>
            <p:cNvSpPr/>
            <p:nvPr/>
          </p:nvSpPr>
          <p:spPr>
            <a:xfrm>
              <a:off x="7859880" y="5387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8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1" lang="cs-CZ" sz="1800" spc="-1" strike="noStrike" baseline="30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5" name=""/>
            <p:cNvSpPr/>
            <p:nvPr/>
          </p:nvSpPr>
          <p:spPr>
            <a:xfrm flipH="1">
              <a:off x="5627160" y="4911840"/>
              <a:ext cx="1800" cy="504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6" name=""/>
            <p:cNvSpPr/>
            <p:nvPr/>
          </p:nvSpPr>
          <p:spPr>
            <a:xfrm>
              <a:off x="6121440" y="5380920"/>
              <a:ext cx="1235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200" spc="-1" strike="noStrike">
                  <a:solidFill>
                    <a:srgbClr val="000000"/>
                  </a:solidFill>
                  <a:latin typeface="Times New Roman"/>
                </a:rPr>
                <a:t>NH</a:t>
              </a:r>
              <a:r>
                <a:rPr b="1" lang="cs-CZ" sz="12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1" lang="cs-CZ" sz="1200" spc="-1" strike="noStrike">
                  <a:solidFill>
                    <a:srgbClr val="000000"/>
                  </a:solidFill>
                  <a:latin typeface="Times New Roman"/>
                </a:rPr>
                <a:t> + H</a:t>
              </a:r>
              <a:r>
                <a:rPr b="1" lang="cs-CZ" sz="1200" spc="-1" strike="noStrike" baseline="30000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lang="cs-CZ" sz="12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7" name=""/>
            <p:cNvSpPr/>
            <p:nvPr/>
          </p:nvSpPr>
          <p:spPr>
            <a:xfrm>
              <a:off x="6900840" y="2769840"/>
              <a:ext cx="9907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800" spc="-1" strike="noStrike">
                  <a:solidFill>
                    <a:srgbClr val="000000"/>
                  </a:solidFill>
                  <a:latin typeface="Times New Roman"/>
                </a:rPr>
                <a:t>NH</a:t>
              </a:r>
              <a:r>
                <a:rPr b="1" lang="cs-CZ" sz="18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1" lang="cs-CZ" sz="1800" spc="-1" strike="noStrike" baseline="30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8" name=""/>
            <p:cNvSpPr/>
            <p:nvPr/>
          </p:nvSpPr>
          <p:spPr>
            <a:xfrm>
              <a:off x="7959600" y="5865120"/>
              <a:ext cx="6843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200" spc="-1" strike="noStrike">
                  <a:solidFill>
                    <a:srgbClr val="000000"/>
                  </a:solidFill>
                  <a:latin typeface="Times New Roman"/>
                </a:rPr>
                <a:t>NH</a:t>
              </a:r>
              <a:r>
                <a:rPr b="1" lang="cs-CZ" sz="1200" spc="-1" strike="noStrike" baseline="-25000">
                  <a:solidFill>
                    <a:srgbClr val="000000"/>
                  </a:solidFill>
                  <a:latin typeface="Times New Roman"/>
                </a:rPr>
                <a:t>3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9" name=""/>
            <p:cNvSpPr/>
            <p:nvPr/>
          </p:nvSpPr>
          <p:spPr>
            <a:xfrm>
              <a:off x="5977080" y="5557680"/>
              <a:ext cx="385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0" name=""/>
            <p:cNvSpPr/>
            <p:nvPr/>
          </p:nvSpPr>
          <p:spPr>
            <a:xfrm>
              <a:off x="6523200" y="5707080"/>
              <a:ext cx="1665000" cy="414360"/>
            </a:xfrm>
            <a:custGeom>
              <a:avLst/>
              <a:gdLst/>
              <a:ahLst/>
              <a:rect l="l" t="t" r="r" b="b"/>
              <a:pathLst>
                <a:path w="1049" h="234">
                  <a:moveTo>
                    <a:pt x="17" y="0"/>
                  </a:moveTo>
                  <a:cubicBezTo>
                    <a:pt x="26" y="33"/>
                    <a:pt x="0" y="168"/>
                    <a:pt x="74" y="201"/>
                  </a:cubicBezTo>
                  <a:cubicBezTo>
                    <a:pt x="148" y="234"/>
                    <a:pt x="315" y="200"/>
                    <a:pt x="462" y="201"/>
                  </a:cubicBezTo>
                  <a:cubicBezTo>
                    <a:pt x="615" y="203"/>
                    <a:pt x="862" y="204"/>
                    <a:pt x="958" y="206"/>
                  </a:cubicBezTo>
                  <a:cubicBezTo>
                    <a:pt x="1049" y="208"/>
                    <a:pt x="997" y="211"/>
                    <a:pt x="1007" y="21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1" name=""/>
            <p:cNvSpPr/>
            <p:nvPr/>
          </p:nvSpPr>
          <p:spPr>
            <a:xfrm>
              <a:off x="6605640" y="3127320"/>
              <a:ext cx="1076400" cy="2211480"/>
            </a:xfrm>
            <a:custGeom>
              <a:avLst/>
              <a:gdLst/>
              <a:ahLst/>
              <a:rect l="l" t="t" r="r" b="b"/>
              <a:pathLst>
                <a:path w="678" h="1393">
                  <a:moveTo>
                    <a:pt x="0" y="1393"/>
                  </a:moveTo>
                  <a:cubicBezTo>
                    <a:pt x="24" y="1366"/>
                    <a:pt x="55" y="1289"/>
                    <a:pt x="144" y="1233"/>
                  </a:cubicBezTo>
                  <a:cubicBezTo>
                    <a:pt x="233" y="1177"/>
                    <a:pt x="472" y="1263"/>
                    <a:pt x="535" y="1057"/>
                  </a:cubicBezTo>
                  <a:cubicBezTo>
                    <a:pt x="678" y="716"/>
                    <a:pt x="557" y="205"/>
                    <a:pt x="524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2" name=""/>
            <p:cNvSpPr/>
            <p:nvPr/>
          </p:nvSpPr>
          <p:spPr>
            <a:xfrm>
              <a:off x="4334040" y="2717640"/>
              <a:ext cx="2744640" cy="419400"/>
            </a:xfrm>
            <a:custGeom>
              <a:avLst/>
              <a:gdLst/>
              <a:ahLst/>
              <a:rect l="l" t="t" r="r" b="b"/>
              <a:pathLst>
                <a:path w="1729" h="264">
                  <a:moveTo>
                    <a:pt x="1729" y="82"/>
                  </a:moveTo>
                  <a:cubicBezTo>
                    <a:pt x="1664" y="69"/>
                    <a:pt x="1489" y="10"/>
                    <a:pt x="1338" y="5"/>
                  </a:cubicBezTo>
                  <a:cubicBezTo>
                    <a:pt x="1187" y="0"/>
                    <a:pt x="1044" y="6"/>
                    <a:pt x="821" y="49"/>
                  </a:cubicBezTo>
                  <a:cubicBezTo>
                    <a:pt x="598" y="92"/>
                    <a:pt x="171" y="219"/>
                    <a:pt x="0" y="264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3" name=""/>
            <p:cNvSpPr/>
            <p:nvPr/>
          </p:nvSpPr>
          <p:spPr>
            <a:xfrm flipV="1">
              <a:off x="7588080" y="5552640"/>
              <a:ext cx="516240" cy="27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4" name=""/>
            <p:cNvSpPr/>
            <p:nvPr/>
          </p:nvSpPr>
          <p:spPr>
            <a:xfrm>
              <a:off x="8153280" y="6179760"/>
              <a:ext cx="9907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800" spc="-1" strike="noStrike">
                  <a:solidFill>
                    <a:srgbClr val="000000"/>
                  </a:solidFill>
                  <a:latin typeface="Times New Roman"/>
                </a:rPr>
                <a:t>NH</a:t>
              </a:r>
              <a:r>
                <a:rPr b="1" lang="cs-CZ" sz="18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1" lang="cs-CZ" sz="1800" spc="-1" strike="noStrike" baseline="30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5" name=""/>
            <p:cNvSpPr/>
            <p:nvPr/>
          </p:nvSpPr>
          <p:spPr>
            <a:xfrm>
              <a:off x="8510760" y="5627520"/>
              <a:ext cx="218880" cy="671760"/>
            </a:xfrm>
            <a:custGeom>
              <a:avLst/>
              <a:gdLst/>
              <a:ahLst/>
              <a:rect l="l" t="t" r="r" b="b"/>
              <a:pathLst>
                <a:path w="214" h="270">
                  <a:moveTo>
                    <a:pt x="0" y="0"/>
                  </a:moveTo>
                  <a:cubicBezTo>
                    <a:pt x="28" y="8"/>
                    <a:pt x="135" y="5"/>
                    <a:pt x="171" y="50"/>
                  </a:cubicBezTo>
                  <a:cubicBezTo>
                    <a:pt x="207" y="95"/>
                    <a:pt x="205" y="224"/>
                    <a:pt x="214" y="27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6" name=""/>
            <p:cNvSpPr/>
            <p:nvPr/>
          </p:nvSpPr>
          <p:spPr>
            <a:xfrm>
              <a:off x="8491680" y="6006960"/>
              <a:ext cx="236520" cy="95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7" name=""/>
            <p:cNvSpPr/>
            <p:nvPr/>
          </p:nvSpPr>
          <p:spPr>
            <a:xfrm>
              <a:off x="4465800" y="3933720"/>
              <a:ext cx="1161720" cy="658800"/>
            </a:xfrm>
            <a:custGeom>
              <a:avLst/>
              <a:gdLst/>
              <a:ahLst/>
              <a:rect l="l" t="t" r="r" b="b"/>
              <a:pathLst>
                <a:path w="749" h="383">
                  <a:moveTo>
                    <a:pt x="0" y="383"/>
                  </a:moveTo>
                  <a:lnTo>
                    <a:pt x="749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8" name=""/>
            <p:cNvSpPr/>
            <p:nvPr/>
          </p:nvSpPr>
          <p:spPr>
            <a:xfrm>
              <a:off x="5145840" y="4130640"/>
              <a:ext cx="10828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600" spc="-1" strike="noStrike">
                  <a:solidFill>
                    <a:srgbClr val="000000"/>
                  </a:solidFill>
                  <a:latin typeface="Times New Roman"/>
                </a:rPr>
                <a:t>Proximální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600" spc="-1" strike="noStrike">
                  <a:solidFill>
                    <a:srgbClr val="000000"/>
                  </a:solidFill>
                  <a:latin typeface="Times New Roman"/>
                </a:rPr>
                <a:t>tubulu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9" name=""/>
            <p:cNvSpPr/>
            <p:nvPr/>
          </p:nvSpPr>
          <p:spPr>
            <a:xfrm>
              <a:off x="8061480" y="4668840"/>
              <a:ext cx="8236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600" spc="-1" strike="noStrike">
                  <a:solidFill>
                    <a:srgbClr val="000000"/>
                  </a:solidFill>
                  <a:latin typeface="Times New Roman"/>
                </a:rPr>
                <a:t>Distální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600" spc="-1" strike="noStrike">
                  <a:solidFill>
                    <a:srgbClr val="000000"/>
                  </a:solidFill>
                  <a:latin typeface="Times New Roman"/>
                </a:rPr>
                <a:t>nefr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0" name=""/>
            <p:cNvSpPr/>
            <p:nvPr/>
          </p:nvSpPr>
          <p:spPr>
            <a:xfrm>
              <a:off x="6525360" y="5511960"/>
              <a:ext cx="1392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1600" spc="-1" strike="noStrike">
                  <a:solidFill>
                    <a:srgbClr val="000000"/>
                  </a:solidFill>
                  <a:latin typeface="Times New Roman"/>
                </a:rPr>
                <a:t>upřednostně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1600" spc="-1" strike="noStrike">
                  <a:solidFill>
                    <a:srgbClr val="000000"/>
                  </a:solidFill>
                  <a:latin typeface="Times New Roman"/>
                </a:rPr>
                <a:t>při acidémi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1" name=""/>
            <p:cNvSpPr/>
            <p:nvPr/>
          </p:nvSpPr>
          <p:spPr>
            <a:xfrm>
              <a:off x="3867840" y="3533760"/>
              <a:ext cx="1392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1600" spc="-1" strike="noStrike">
                  <a:solidFill>
                    <a:srgbClr val="000000"/>
                  </a:solidFill>
                  <a:latin typeface="Times New Roman"/>
                </a:rPr>
                <a:t>upřednostně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1600" spc="-1" strike="noStrike">
                  <a:solidFill>
                    <a:srgbClr val="000000"/>
                  </a:solidFill>
                  <a:latin typeface="Times New Roman"/>
                </a:rPr>
                <a:t>při acidémi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2" name=""/>
            <p:cNvSpPr/>
            <p:nvPr/>
          </p:nvSpPr>
          <p:spPr>
            <a:xfrm>
              <a:off x="7511400" y="3422520"/>
              <a:ext cx="1442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1600" spc="-1" strike="noStrike">
                  <a:solidFill>
                    <a:srgbClr val="000000"/>
                  </a:solidFill>
                  <a:latin typeface="Times New Roman"/>
                </a:rPr>
                <a:t>upřednostněno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1600" spc="-1" strike="noStrike">
                  <a:solidFill>
                    <a:srgbClr val="000000"/>
                  </a:solidFill>
                  <a:latin typeface="Times New Roman"/>
                </a:rPr>
                <a:t>při alkalémi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3" name=""/>
            <p:cNvSpPr/>
            <p:nvPr/>
          </p:nvSpPr>
          <p:spPr>
            <a:xfrm>
              <a:off x="3852720" y="2268360"/>
              <a:ext cx="1273320" cy="433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4" name=""/>
            <p:cNvSpPr/>
            <p:nvPr/>
          </p:nvSpPr>
          <p:spPr>
            <a:xfrm>
              <a:off x="3796560" y="2174760"/>
              <a:ext cx="1442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1600" spc="-1" strike="noStrike">
                  <a:solidFill>
                    <a:srgbClr val="000000"/>
                  </a:solidFill>
                  <a:latin typeface="Times New Roman"/>
                </a:rPr>
                <a:t>upřednostněno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1600" spc="-1" strike="noStrike">
                  <a:solidFill>
                    <a:srgbClr val="000000"/>
                  </a:solidFill>
                  <a:latin typeface="Times New Roman"/>
                </a:rPr>
                <a:t>při alkalémi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5" name=""/>
            <p:cNvSpPr/>
            <p:nvPr/>
          </p:nvSpPr>
          <p:spPr>
            <a:xfrm>
              <a:off x="880920" y="4437000"/>
              <a:ext cx="0" cy="89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6" name=""/>
            <p:cNvSpPr/>
            <p:nvPr/>
          </p:nvSpPr>
          <p:spPr>
            <a:xfrm rot="18565800">
              <a:off x="1427760" y="4300200"/>
              <a:ext cx="1613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800" spc="-1" strike="noStrike">
                  <a:solidFill>
                    <a:srgbClr val="000000"/>
                  </a:solidFill>
                  <a:latin typeface="Times New Roman"/>
                </a:rPr>
                <a:t>Aminoskupin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37" name=""/>
          <p:cNvGrpSpPr/>
          <p:nvPr/>
        </p:nvGrpSpPr>
        <p:grpSpPr>
          <a:xfrm>
            <a:off x="-384120" y="-1080"/>
            <a:ext cx="10609200" cy="6849720"/>
            <a:chOff x="-384120" y="-1080"/>
            <a:chExt cx="10609200" cy="6849720"/>
          </a:xfrm>
        </p:grpSpPr>
        <p:sp>
          <p:nvSpPr>
            <p:cNvPr id="10838" name=""/>
            <p:cNvSpPr/>
            <p:nvPr/>
          </p:nvSpPr>
          <p:spPr>
            <a:xfrm>
              <a:off x="0" y="190440"/>
              <a:ext cx="2744640" cy="6658200"/>
            </a:xfrm>
            <a:prstGeom prst="can">
              <a:avLst>
                <a:gd name="adj" fmla="val 20791"/>
              </a:avLst>
            </a:prstGeom>
            <a:solidFill>
              <a:srgbClr val="ffff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9" name=""/>
            <p:cNvSpPr/>
            <p:nvPr/>
          </p:nvSpPr>
          <p:spPr>
            <a:xfrm>
              <a:off x="2736720" y="407880"/>
              <a:ext cx="4635720" cy="6334200"/>
            </a:xfrm>
            <a:custGeom>
              <a:avLst/>
              <a:gdLst>
                <a:gd name="textAreaLeft" fmla="*/ 226080 w 4635720"/>
                <a:gd name="textAreaRight" fmla="*/ 4409640 w 4635720"/>
                <a:gd name="textAreaTop" fmla="*/ 226080 h 6334200"/>
                <a:gd name="textAreaBottom" fmla="*/ 6108120 h 6334200"/>
              </a:gdLst>
              <a:ahLst/>
              <a:rect l="textAreaLeft" t="textAreaTop" r="textAreaRight" b="textAreaBottom"/>
              <a:pathLst>
                <a:path w="21600" h="29513">
                  <a:moveTo>
                    <a:pt x="3600" y="0"/>
                  </a:moveTo>
                  <a:arcTo wR="3600" hR="3600" stAng="16200000" swAng="-5400000"/>
                  <a:lnTo>
                    <a:pt x="0" y="25913"/>
                  </a:lnTo>
                  <a:arcTo wR="3600" hR="3600" stAng="10800000" swAng="-5400000"/>
                  <a:lnTo>
                    <a:pt x="18000" y="2951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66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0" name=""/>
            <p:cNvSpPr/>
            <p:nvPr/>
          </p:nvSpPr>
          <p:spPr>
            <a:xfrm>
              <a:off x="7846920" y="5006880"/>
              <a:ext cx="968400" cy="598680"/>
            </a:xfrm>
            <a:prstGeom prst="rightArrow">
              <a:avLst>
                <a:gd name="adj1" fmla="val 50000"/>
                <a:gd name="adj2" fmla="val 40439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1" name=""/>
            <p:cNvSpPr/>
            <p:nvPr/>
          </p:nvSpPr>
          <p:spPr>
            <a:xfrm flipH="1">
              <a:off x="8813880" y="3351240"/>
              <a:ext cx="1411200" cy="3046320"/>
            </a:xfrm>
            <a:custGeom>
              <a:avLst/>
              <a:gdLst/>
              <a:ahLst/>
              <a:rect l="l" t="t" r="r" b="b"/>
              <a:pathLst>
                <a:path w="1222" h="1919">
                  <a:moveTo>
                    <a:pt x="0" y="0"/>
                  </a:moveTo>
                  <a:cubicBezTo>
                    <a:pt x="86" y="56"/>
                    <a:pt x="172" y="113"/>
                    <a:pt x="209" y="261"/>
                  </a:cubicBezTo>
                  <a:cubicBezTo>
                    <a:pt x="246" y="409"/>
                    <a:pt x="216" y="721"/>
                    <a:pt x="221" y="889"/>
                  </a:cubicBezTo>
                  <a:cubicBezTo>
                    <a:pt x="226" y="1057"/>
                    <a:pt x="243" y="1126"/>
                    <a:pt x="238" y="1268"/>
                  </a:cubicBezTo>
                  <a:cubicBezTo>
                    <a:pt x="233" y="1410"/>
                    <a:pt x="197" y="1643"/>
                    <a:pt x="192" y="1744"/>
                  </a:cubicBezTo>
                  <a:cubicBezTo>
                    <a:pt x="187" y="1845"/>
                    <a:pt x="205" y="1846"/>
                    <a:pt x="209" y="1874"/>
                  </a:cubicBezTo>
                  <a:cubicBezTo>
                    <a:pt x="213" y="1902"/>
                    <a:pt x="46" y="1909"/>
                    <a:pt x="215" y="1914"/>
                  </a:cubicBezTo>
                  <a:cubicBezTo>
                    <a:pt x="384" y="1919"/>
                    <a:pt x="1051" y="1903"/>
                    <a:pt x="1222" y="1902"/>
                  </a:cubicBez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2" name=""/>
            <p:cNvSpPr/>
            <p:nvPr/>
          </p:nvSpPr>
          <p:spPr>
            <a:xfrm>
              <a:off x="2441520" y="2771640"/>
              <a:ext cx="530280" cy="56520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3" name=""/>
            <p:cNvSpPr/>
            <p:nvPr/>
          </p:nvSpPr>
          <p:spPr>
            <a:xfrm>
              <a:off x="6838920" y="5300640"/>
              <a:ext cx="977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4" name=""/>
            <p:cNvSpPr/>
            <p:nvPr/>
          </p:nvSpPr>
          <p:spPr>
            <a:xfrm>
              <a:off x="6823080" y="4680000"/>
              <a:ext cx="968400" cy="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5" name=""/>
            <p:cNvSpPr/>
            <p:nvPr/>
          </p:nvSpPr>
          <p:spPr>
            <a:xfrm>
              <a:off x="2408400" y="3352680"/>
              <a:ext cx="1176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6" name=""/>
            <p:cNvSpPr/>
            <p:nvPr/>
          </p:nvSpPr>
          <p:spPr>
            <a:xfrm>
              <a:off x="1058400" y="1824120"/>
              <a:ext cx="577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000000"/>
                  </a:solidFill>
                  <a:latin typeface="Times New Roman"/>
                </a:rPr>
                <a:t>Na</a:t>
              </a:r>
              <a:r>
                <a:rPr b="1" lang="cs-CZ" sz="2000" spc="-1" strike="noStrike" baseline="40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7" name=""/>
            <p:cNvSpPr/>
            <p:nvPr/>
          </p:nvSpPr>
          <p:spPr>
            <a:xfrm>
              <a:off x="6254640" y="4487760"/>
              <a:ext cx="59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000000"/>
                  </a:solidFill>
                  <a:latin typeface="Times New Roman"/>
                </a:rPr>
                <a:t>Na</a:t>
              </a:r>
              <a:r>
                <a:rPr b="1" lang="cs-CZ" sz="2000" spc="-1" strike="noStrike" baseline="40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8" name=""/>
            <p:cNvSpPr/>
            <p:nvPr/>
          </p:nvSpPr>
          <p:spPr>
            <a:xfrm rot="16077000">
              <a:off x="7265880" y="1872720"/>
              <a:ext cx="247680" cy="689040"/>
            </a:xfrm>
            <a:prstGeom prst="can">
              <a:avLst>
                <a:gd name="adj" fmla="val 25000"/>
              </a:avLst>
            </a:prstGeom>
            <a:solidFill>
              <a:srgbClr val="66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9" name=""/>
            <p:cNvSpPr/>
            <p:nvPr/>
          </p:nvSpPr>
          <p:spPr>
            <a:xfrm>
              <a:off x="5501880" y="1709640"/>
              <a:ext cx="462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1" lang="cs-CZ" sz="2000" spc="-1" strike="noStrike" baseline="40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0" name=""/>
            <p:cNvSpPr/>
            <p:nvPr/>
          </p:nvSpPr>
          <p:spPr>
            <a:xfrm>
              <a:off x="6897600" y="1338120"/>
              <a:ext cx="506520" cy="53028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1" name=""/>
            <p:cNvSpPr/>
            <p:nvPr/>
          </p:nvSpPr>
          <p:spPr>
            <a:xfrm>
              <a:off x="6980400" y="1430280"/>
              <a:ext cx="338040" cy="3366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2" name=""/>
            <p:cNvSpPr/>
            <p:nvPr/>
          </p:nvSpPr>
          <p:spPr>
            <a:xfrm>
              <a:off x="6384960" y="1454040"/>
              <a:ext cx="209520" cy="20808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3" name=""/>
            <p:cNvSpPr/>
            <p:nvPr/>
          </p:nvSpPr>
          <p:spPr>
            <a:xfrm flipV="1">
              <a:off x="6448320" y="1407600"/>
              <a:ext cx="719280" cy="4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4" name=""/>
            <p:cNvSpPr/>
            <p:nvPr/>
          </p:nvSpPr>
          <p:spPr>
            <a:xfrm>
              <a:off x="6537240" y="1665360"/>
              <a:ext cx="604800" cy="112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5" name=""/>
            <p:cNvSpPr/>
            <p:nvPr/>
          </p:nvSpPr>
          <p:spPr>
            <a:xfrm>
              <a:off x="5418000" y="1335240"/>
              <a:ext cx="1317600" cy="51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200" spc="-1" strike="noStrike">
                  <a:solidFill>
                    <a:srgbClr val="000000"/>
                  </a:solidFill>
                  <a:latin typeface="Times New Roman"/>
                </a:rPr>
                <a:t>Na</a:t>
              </a:r>
              <a:r>
                <a:rPr b="1" lang="cs-CZ" sz="1200" spc="-1" strike="noStrike" baseline="60000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lang="cs-CZ" sz="1200" spc="-1" strike="noStrike">
                  <a:solidFill>
                    <a:srgbClr val="000000"/>
                  </a:solidFill>
                  <a:latin typeface="Times New Roman"/>
                </a:rPr>
                <a:t>-K</a:t>
              </a:r>
              <a:r>
                <a:rPr b="1" lang="cs-CZ" sz="1200" spc="-1" strike="noStrike" baseline="60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200" spc="-1" strike="noStrike" baseline="60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1200" spc="-1" strike="noStrike">
                  <a:solidFill>
                    <a:srgbClr val="000000"/>
                  </a:solidFill>
                  <a:latin typeface="Times New Roman"/>
                </a:rPr>
                <a:t>ATPáz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6" name=""/>
            <p:cNvSpPr/>
            <p:nvPr/>
          </p:nvSpPr>
          <p:spPr>
            <a:xfrm>
              <a:off x="6086520" y="1330200"/>
              <a:ext cx="1749240" cy="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7" name=""/>
            <p:cNvSpPr/>
            <p:nvPr/>
          </p:nvSpPr>
          <p:spPr>
            <a:xfrm>
              <a:off x="5923080" y="1878120"/>
              <a:ext cx="1863720" cy="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8" name=""/>
            <p:cNvSpPr/>
            <p:nvPr/>
          </p:nvSpPr>
          <p:spPr>
            <a:xfrm>
              <a:off x="5560560" y="1087560"/>
              <a:ext cx="577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000000"/>
                  </a:solidFill>
                  <a:latin typeface="Times New Roman"/>
                </a:rPr>
                <a:t>Na</a:t>
              </a:r>
              <a:r>
                <a:rPr b="1" lang="cs-CZ" sz="2000" spc="-1" strike="noStrike" baseline="40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9" name=""/>
            <p:cNvSpPr/>
            <p:nvPr/>
          </p:nvSpPr>
          <p:spPr>
            <a:xfrm>
              <a:off x="7849800" y="1685880"/>
              <a:ext cx="462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1" lang="cs-CZ" sz="2000" spc="-1" strike="noStrike" baseline="40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0" name=""/>
            <p:cNvSpPr/>
            <p:nvPr/>
          </p:nvSpPr>
          <p:spPr>
            <a:xfrm>
              <a:off x="3619080" y="3065400"/>
              <a:ext cx="462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1" lang="cs-CZ" sz="2000" spc="-1" strike="noStrike" baseline="40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1" name=""/>
            <p:cNvSpPr/>
            <p:nvPr/>
          </p:nvSpPr>
          <p:spPr>
            <a:xfrm>
              <a:off x="3621240" y="4527720"/>
              <a:ext cx="633240" cy="4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000000"/>
                  </a:solidFill>
                  <a:latin typeface="Times New Roman"/>
                </a:rPr>
                <a:t>OH</a:t>
              </a:r>
              <a:r>
                <a:rPr b="0" lang="cs-CZ" sz="2000" spc="-1" strike="noStrike" baseline="50000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2" name=""/>
            <p:cNvSpPr/>
            <p:nvPr/>
          </p:nvSpPr>
          <p:spPr>
            <a:xfrm>
              <a:off x="3689280" y="5653080"/>
              <a:ext cx="7304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000000"/>
                  </a:solidFill>
                  <a:latin typeface="Times New Roman"/>
                </a:rPr>
                <a:t>CO</a:t>
              </a:r>
              <a:r>
                <a:rPr b="1" lang="cs-CZ" sz="2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3" name=""/>
            <p:cNvSpPr/>
            <p:nvPr/>
          </p:nvSpPr>
          <p:spPr>
            <a:xfrm>
              <a:off x="4519440" y="3693960"/>
              <a:ext cx="7416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1" lang="cs-CZ" sz="2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cs-CZ" sz="20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4" name=""/>
            <p:cNvSpPr/>
            <p:nvPr/>
          </p:nvSpPr>
          <p:spPr>
            <a:xfrm>
              <a:off x="1870200" y="5568840"/>
              <a:ext cx="9745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000000"/>
                  </a:solidFill>
                  <a:latin typeface="Times New Roman"/>
                </a:rPr>
                <a:t>CO</a:t>
              </a:r>
              <a:r>
                <a:rPr b="1" lang="cs-CZ" sz="2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5" name=""/>
            <p:cNvSpPr/>
            <p:nvPr/>
          </p:nvSpPr>
          <p:spPr>
            <a:xfrm>
              <a:off x="2076480" y="4019400"/>
              <a:ext cx="6825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1" lang="cs-CZ" sz="2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cs-CZ" sz="20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6" name=""/>
            <p:cNvSpPr/>
            <p:nvPr/>
          </p:nvSpPr>
          <p:spPr>
            <a:xfrm>
              <a:off x="673200" y="4765680"/>
              <a:ext cx="11761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1" lang="cs-CZ" sz="2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cs-CZ" sz="2000" spc="-1" strike="noStrike">
                  <a:solidFill>
                    <a:srgbClr val="000000"/>
                  </a:solidFill>
                  <a:latin typeface="Times New Roman"/>
                </a:rPr>
                <a:t>CO</a:t>
              </a:r>
              <a:r>
                <a:rPr b="1" lang="cs-CZ" sz="20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7" name=""/>
            <p:cNvSpPr/>
            <p:nvPr/>
          </p:nvSpPr>
          <p:spPr>
            <a:xfrm>
              <a:off x="119160" y="1851120"/>
              <a:ext cx="1146240" cy="46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000000"/>
                  </a:solidFill>
                  <a:latin typeface="Times New Roman"/>
                </a:rPr>
                <a:t>HCO</a:t>
              </a:r>
              <a:r>
                <a:rPr b="1" lang="cs-CZ" sz="20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0" lang="cs-CZ" sz="2000" spc="-1" strike="noStrike" baseline="50000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8" name=""/>
            <p:cNvSpPr/>
            <p:nvPr/>
          </p:nvSpPr>
          <p:spPr>
            <a:xfrm>
              <a:off x="2039400" y="3143160"/>
              <a:ext cx="462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1" lang="cs-CZ" sz="2000" spc="-1" strike="noStrike" baseline="40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69" name=""/>
            <p:cNvGrpSpPr/>
            <p:nvPr/>
          </p:nvGrpSpPr>
          <p:grpSpPr>
            <a:xfrm>
              <a:off x="3960360" y="4876920"/>
              <a:ext cx="884160" cy="831240"/>
              <a:chOff x="3960360" y="4876920"/>
              <a:chExt cx="884160" cy="831240"/>
            </a:xfrm>
          </p:grpSpPr>
          <p:sp>
            <p:nvSpPr>
              <p:cNvPr id="10870" name=""/>
              <p:cNvSpPr/>
              <p:nvPr/>
            </p:nvSpPr>
            <p:spPr>
              <a:xfrm flipH="1">
                <a:off x="3994920" y="5286960"/>
                <a:ext cx="849240" cy="421200"/>
              </a:xfrm>
              <a:custGeom>
                <a:avLst/>
                <a:gdLst/>
                <a:ahLst/>
                <a:rect l="l" t="t" r="r" b="b"/>
                <a:pathLst>
                  <a:path w="265" h="338">
                    <a:moveTo>
                      <a:pt x="0" y="3"/>
                    </a:moveTo>
                    <a:cubicBezTo>
                      <a:pt x="37" y="13"/>
                      <a:pt x="180" y="0"/>
                      <a:pt x="223" y="56"/>
                    </a:cubicBezTo>
                    <a:cubicBezTo>
                      <a:pt x="265" y="115"/>
                      <a:pt x="258" y="278"/>
                      <a:pt x="260" y="338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1" name=""/>
              <p:cNvSpPr/>
              <p:nvPr/>
            </p:nvSpPr>
            <p:spPr>
              <a:xfrm flipH="1" flipV="1">
                <a:off x="3960000" y="4876920"/>
                <a:ext cx="849240" cy="421200"/>
              </a:xfrm>
              <a:custGeom>
                <a:avLst/>
                <a:gdLst/>
                <a:ahLst/>
                <a:rect l="l" t="t" r="r" b="b"/>
                <a:pathLst>
                  <a:path w="265" h="338">
                    <a:moveTo>
                      <a:pt x="0" y="3"/>
                    </a:moveTo>
                    <a:cubicBezTo>
                      <a:pt x="37" y="13"/>
                      <a:pt x="180" y="0"/>
                      <a:pt x="223" y="56"/>
                    </a:cubicBezTo>
                    <a:cubicBezTo>
                      <a:pt x="265" y="115"/>
                      <a:pt x="258" y="278"/>
                      <a:pt x="260" y="338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72" name=""/>
            <p:cNvGrpSpPr/>
            <p:nvPr/>
          </p:nvGrpSpPr>
          <p:grpSpPr>
            <a:xfrm>
              <a:off x="3866040" y="3443400"/>
              <a:ext cx="669240" cy="1034640"/>
              <a:chOff x="3866040" y="3443400"/>
              <a:chExt cx="669240" cy="1034640"/>
            </a:xfrm>
          </p:grpSpPr>
          <p:sp>
            <p:nvSpPr>
              <p:cNvPr id="10873" name=""/>
              <p:cNvSpPr/>
              <p:nvPr/>
            </p:nvSpPr>
            <p:spPr>
              <a:xfrm flipH="1">
                <a:off x="3891600" y="3953520"/>
                <a:ext cx="643320" cy="524520"/>
              </a:xfrm>
              <a:custGeom>
                <a:avLst/>
                <a:gdLst/>
                <a:ahLst/>
                <a:rect l="l" t="t" r="r" b="b"/>
                <a:pathLst>
                  <a:path w="265" h="338">
                    <a:moveTo>
                      <a:pt x="0" y="3"/>
                    </a:moveTo>
                    <a:cubicBezTo>
                      <a:pt x="37" y="13"/>
                      <a:pt x="180" y="0"/>
                      <a:pt x="223" y="56"/>
                    </a:cubicBezTo>
                    <a:cubicBezTo>
                      <a:pt x="265" y="115"/>
                      <a:pt x="258" y="278"/>
                      <a:pt x="260" y="338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4" name=""/>
              <p:cNvSpPr/>
              <p:nvPr/>
            </p:nvSpPr>
            <p:spPr>
              <a:xfrm flipH="1" flipV="1">
                <a:off x="3865680" y="3443400"/>
                <a:ext cx="642600" cy="524160"/>
              </a:xfrm>
              <a:custGeom>
                <a:avLst/>
                <a:gdLst/>
                <a:ahLst/>
                <a:rect l="l" t="t" r="r" b="b"/>
                <a:pathLst>
                  <a:path w="265" h="338">
                    <a:moveTo>
                      <a:pt x="0" y="3"/>
                    </a:moveTo>
                    <a:cubicBezTo>
                      <a:pt x="37" y="13"/>
                      <a:pt x="180" y="0"/>
                      <a:pt x="223" y="56"/>
                    </a:cubicBezTo>
                    <a:cubicBezTo>
                      <a:pt x="265" y="115"/>
                      <a:pt x="258" y="278"/>
                      <a:pt x="260" y="338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875" name=""/>
            <p:cNvSpPr/>
            <p:nvPr/>
          </p:nvSpPr>
          <p:spPr>
            <a:xfrm>
              <a:off x="7643880" y="5073480"/>
              <a:ext cx="1146240" cy="46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000000"/>
                  </a:solidFill>
                  <a:latin typeface="Times New Roman"/>
                </a:rPr>
                <a:t>HCO</a:t>
              </a:r>
              <a:r>
                <a:rPr b="1" lang="cs-CZ" sz="20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0" lang="cs-CZ" sz="2000" spc="-1" strike="noStrike" baseline="50000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6" name=""/>
            <p:cNvSpPr/>
            <p:nvPr/>
          </p:nvSpPr>
          <p:spPr>
            <a:xfrm>
              <a:off x="333360" y="920880"/>
              <a:ext cx="547560" cy="944280"/>
            </a:xfrm>
            <a:prstGeom prst="downArrow">
              <a:avLst>
                <a:gd name="adj1" fmla="val 50000"/>
                <a:gd name="adj2" fmla="val 43113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7" name=""/>
            <p:cNvSpPr/>
            <p:nvPr/>
          </p:nvSpPr>
          <p:spPr>
            <a:xfrm rot="16200">
              <a:off x="4836960" y="4962240"/>
              <a:ext cx="1941840" cy="603000"/>
            </a:xfrm>
            <a:prstGeom prst="rightArrow">
              <a:avLst>
                <a:gd name="adj1" fmla="val 50000"/>
                <a:gd name="adj2" fmla="val 80507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8" name=""/>
            <p:cNvSpPr/>
            <p:nvPr/>
          </p:nvSpPr>
          <p:spPr>
            <a:xfrm>
              <a:off x="7091280" y="4680000"/>
              <a:ext cx="530280" cy="60012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9" name=""/>
            <p:cNvSpPr/>
            <p:nvPr/>
          </p:nvSpPr>
          <p:spPr>
            <a:xfrm rot="5400000">
              <a:off x="4188240" y="5128560"/>
              <a:ext cx="438120" cy="338040"/>
            </a:xfrm>
            <a:prstGeom prst="can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0" name=""/>
            <p:cNvSpPr/>
            <p:nvPr/>
          </p:nvSpPr>
          <p:spPr>
            <a:xfrm>
              <a:off x="3946680" y="4784760"/>
              <a:ext cx="155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1600" spc="-1" strike="noStrike">
                  <a:solidFill>
                    <a:srgbClr val="000000"/>
                  </a:solidFill>
                  <a:latin typeface="Times New Roman"/>
                </a:rPr>
                <a:t>karboanhydráz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1" name=""/>
            <p:cNvSpPr/>
            <p:nvPr/>
          </p:nvSpPr>
          <p:spPr>
            <a:xfrm>
              <a:off x="641520" y="5311800"/>
              <a:ext cx="155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1600" spc="-1" strike="noStrike">
                  <a:solidFill>
                    <a:srgbClr val="000000"/>
                  </a:solidFill>
                  <a:latin typeface="Times New Roman"/>
                </a:rPr>
                <a:t>karboanhydráz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2" name=""/>
            <p:cNvSpPr/>
            <p:nvPr/>
          </p:nvSpPr>
          <p:spPr>
            <a:xfrm>
              <a:off x="442800" y="2409840"/>
              <a:ext cx="128880" cy="3460680"/>
            </a:xfrm>
            <a:prstGeom prst="downArrow">
              <a:avLst>
                <a:gd name="adj1" fmla="val 50000"/>
                <a:gd name="adj2" fmla="val 671299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3" name=""/>
            <p:cNvSpPr/>
            <p:nvPr/>
          </p:nvSpPr>
          <p:spPr>
            <a:xfrm>
              <a:off x="-384120" y="5846760"/>
              <a:ext cx="2238480" cy="56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400" spc="-1" strike="noStrike">
                  <a:solidFill>
                    <a:srgbClr val="000000"/>
                  </a:solidFill>
                  <a:latin typeface="Times New Roman"/>
                </a:rPr>
                <a:t>675 mmol HCO</a:t>
              </a:r>
              <a:r>
                <a:rPr b="1" lang="cs-CZ" sz="1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1" lang="cs-CZ" sz="1400" spc="-1" strike="noStrike" baseline="50000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400" spc="-1" strike="noStrike">
                  <a:solidFill>
                    <a:srgbClr val="000000"/>
                  </a:solidFill>
                  <a:latin typeface="Times New Roman"/>
                </a:rPr>
                <a:t>/24ho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4" name=""/>
            <p:cNvSpPr/>
            <p:nvPr/>
          </p:nvSpPr>
          <p:spPr>
            <a:xfrm>
              <a:off x="3290040" y="6152040"/>
              <a:ext cx="3722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Buňka proximálního tubul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5" name=""/>
            <p:cNvSpPr/>
            <p:nvPr/>
          </p:nvSpPr>
          <p:spPr>
            <a:xfrm>
              <a:off x="3498120" y="2550960"/>
              <a:ext cx="577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000000"/>
                  </a:solidFill>
                  <a:latin typeface="Times New Roman"/>
                </a:rPr>
                <a:t>Na</a:t>
              </a:r>
              <a:r>
                <a:rPr b="1" lang="cs-CZ" sz="2000" spc="-1" strike="noStrike" baseline="40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6" name=""/>
            <p:cNvSpPr/>
            <p:nvPr/>
          </p:nvSpPr>
          <p:spPr>
            <a:xfrm>
              <a:off x="4519440" y="1306440"/>
              <a:ext cx="982800" cy="1478160"/>
            </a:xfrm>
            <a:custGeom>
              <a:avLst/>
              <a:gdLst/>
              <a:ahLst/>
              <a:rect l="l" t="t" r="r" b="b"/>
              <a:pathLst>
                <a:path w="1073" h="997">
                  <a:moveTo>
                    <a:pt x="0" y="977"/>
                  </a:moveTo>
                  <a:cubicBezTo>
                    <a:pt x="82" y="958"/>
                    <a:pt x="373" y="997"/>
                    <a:pt x="497" y="860"/>
                  </a:cubicBezTo>
                  <a:cubicBezTo>
                    <a:pt x="621" y="723"/>
                    <a:pt x="679" y="297"/>
                    <a:pt x="744" y="158"/>
                  </a:cubicBezTo>
                  <a:cubicBezTo>
                    <a:pt x="809" y="18"/>
                    <a:pt x="833" y="49"/>
                    <a:pt x="888" y="24"/>
                  </a:cubicBezTo>
                  <a:cubicBezTo>
                    <a:pt x="942" y="0"/>
                    <a:pt x="1034" y="15"/>
                    <a:pt x="1073" y="13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7" name=""/>
            <p:cNvSpPr/>
            <p:nvPr/>
          </p:nvSpPr>
          <p:spPr>
            <a:xfrm flipV="1">
              <a:off x="3247920" y="2921040"/>
              <a:ext cx="2371680" cy="92160"/>
            </a:xfrm>
            <a:custGeom>
              <a:avLst/>
              <a:gdLst/>
              <a:ahLst/>
              <a:rect l="l" t="t" r="r" b="b"/>
              <a:pathLst>
                <a:path w="1593" h="16">
                  <a:moveTo>
                    <a:pt x="1593" y="0"/>
                  </a:moveTo>
                  <a:cubicBezTo>
                    <a:pt x="1328" y="2"/>
                    <a:pt x="332" y="13"/>
                    <a:pt x="0" y="16"/>
                  </a:cubicBezTo>
                </a:path>
              </a:pathLst>
            </a:custGeom>
            <a:noFill/>
            <a:ln cap="rnd" w="28440">
              <a:solidFill>
                <a:srgbClr val="000000"/>
              </a:solidFill>
              <a:custDash>
                <a:ds d="100000" sp="1000"/>
              </a:custDash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8" name=""/>
            <p:cNvSpPr/>
            <p:nvPr/>
          </p:nvSpPr>
          <p:spPr>
            <a:xfrm>
              <a:off x="5689440" y="2043000"/>
              <a:ext cx="1541520" cy="206640"/>
            </a:xfrm>
            <a:custGeom>
              <a:avLst/>
              <a:gdLst/>
              <a:ahLst/>
              <a:rect l="l" t="t" r="r" b="b"/>
              <a:pathLst>
                <a:path w="1155" h="130">
                  <a:moveTo>
                    <a:pt x="4" y="0"/>
                  </a:moveTo>
                  <a:cubicBezTo>
                    <a:pt x="10" y="18"/>
                    <a:pt x="0" y="88"/>
                    <a:pt x="42" y="109"/>
                  </a:cubicBezTo>
                  <a:cubicBezTo>
                    <a:pt x="84" y="130"/>
                    <a:pt x="70" y="123"/>
                    <a:pt x="255" y="126"/>
                  </a:cubicBezTo>
                  <a:cubicBezTo>
                    <a:pt x="440" y="129"/>
                    <a:pt x="968" y="126"/>
                    <a:pt x="1155" y="126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9" name=""/>
            <p:cNvSpPr/>
            <p:nvPr/>
          </p:nvSpPr>
          <p:spPr>
            <a:xfrm>
              <a:off x="5430960" y="2798640"/>
              <a:ext cx="120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000000"/>
                  </a:solidFill>
                  <a:latin typeface="Times New Roman"/>
                </a:rPr>
                <a:t>CAM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0" name=""/>
            <p:cNvSpPr/>
            <p:nvPr/>
          </p:nvSpPr>
          <p:spPr>
            <a:xfrm>
              <a:off x="5443560" y="3367080"/>
              <a:ext cx="1203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000000"/>
                  </a:solidFill>
                  <a:latin typeface="Times New Roman"/>
                </a:rPr>
                <a:t>AT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91" name=""/>
            <p:cNvGrpSpPr/>
            <p:nvPr/>
          </p:nvGrpSpPr>
          <p:grpSpPr>
            <a:xfrm>
              <a:off x="6715080" y="3094200"/>
              <a:ext cx="812880" cy="398880"/>
              <a:chOff x="6715080" y="3094200"/>
              <a:chExt cx="812880" cy="398880"/>
            </a:xfrm>
          </p:grpSpPr>
          <p:sp>
            <p:nvSpPr>
              <p:cNvPr id="10892" name=""/>
              <p:cNvSpPr/>
              <p:nvPr/>
            </p:nvSpPr>
            <p:spPr>
              <a:xfrm>
                <a:off x="6840720" y="3127680"/>
                <a:ext cx="561960" cy="336600"/>
              </a:xfrm>
              <a:prstGeom prst="rect">
                <a:avLst/>
              </a:prstGeom>
              <a:solidFill>
                <a:srgbClr val="66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3" name=""/>
              <p:cNvSpPr/>
              <p:nvPr/>
            </p:nvSpPr>
            <p:spPr>
              <a:xfrm>
                <a:off x="6715080" y="3094200"/>
                <a:ext cx="812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000" spc="-1" strike="noStrike">
                    <a:solidFill>
                      <a:srgbClr val="000000"/>
                    </a:solidFill>
                    <a:latin typeface="Times New Roman"/>
                  </a:rPr>
                  <a:t>A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94" name=""/>
            <p:cNvGrpSpPr/>
            <p:nvPr/>
          </p:nvGrpSpPr>
          <p:grpSpPr>
            <a:xfrm>
              <a:off x="6678720" y="3589200"/>
              <a:ext cx="573120" cy="398880"/>
              <a:chOff x="6678720" y="3589200"/>
              <a:chExt cx="573120" cy="398880"/>
            </a:xfrm>
          </p:grpSpPr>
          <p:sp>
            <p:nvSpPr>
              <p:cNvPr id="10895" name=""/>
              <p:cNvSpPr/>
              <p:nvPr/>
            </p:nvSpPr>
            <p:spPr>
              <a:xfrm>
                <a:off x="6716880" y="3646080"/>
                <a:ext cx="529920" cy="306720"/>
              </a:xfrm>
              <a:prstGeom prst="ellipse">
                <a:avLst/>
              </a:prstGeom>
              <a:solidFill>
                <a:srgbClr val="ff99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6" name=""/>
              <p:cNvSpPr/>
              <p:nvPr/>
            </p:nvSpPr>
            <p:spPr>
              <a:xfrm>
                <a:off x="6678720" y="3589200"/>
                <a:ext cx="573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000" spc="-1" strike="noStrike">
                    <a:solidFill>
                      <a:srgbClr val="000000"/>
                    </a:solidFill>
                    <a:latin typeface="Times New Roman"/>
                  </a:rPr>
                  <a:t>G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897" name=""/>
            <p:cNvSpPr/>
            <p:nvPr/>
          </p:nvSpPr>
          <p:spPr>
            <a:xfrm>
              <a:off x="6713640" y="2630520"/>
              <a:ext cx="530280" cy="306360"/>
            </a:xfrm>
            <a:prstGeom prst="ellipse">
              <a:avLst/>
            </a:prstGeom>
            <a:solidFill>
              <a:srgbClr val="ff99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8" name=""/>
            <p:cNvSpPr/>
            <p:nvPr/>
          </p:nvSpPr>
          <p:spPr>
            <a:xfrm>
              <a:off x="6719760" y="2583000"/>
              <a:ext cx="57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000000"/>
                  </a:solidFill>
                  <a:latin typeface="Times New Roman"/>
                </a:rPr>
                <a:t>G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99" name=""/>
            <p:cNvGrpSpPr/>
            <p:nvPr/>
          </p:nvGrpSpPr>
          <p:grpSpPr>
            <a:xfrm>
              <a:off x="6757920" y="2722680"/>
              <a:ext cx="596880" cy="581400"/>
              <a:chOff x="6757920" y="2722680"/>
              <a:chExt cx="596880" cy="581400"/>
            </a:xfrm>
          </p:grpSpPr>
          <p:sp>
            <p:nvSpPr>
              <p:cNvPr id="10900" name=""/>
              <p:cNvSpPr/>
              <p:nvPr/>
            </p:nvSpPr>
            <p:spPr>
              <a:xfrm>
                <a:off x="6905520" y="2909880"/>
                <a:ext cx="285840" cy="2887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1" name=""/>
              <p:cNvSpPr/>
              <p:nvPr/>
            </p:nvSpPr>
            <p:spPr>
              <a:xfrm>
                <a:off x="6757920" y="2722680"/>
                <a:ext cx="596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32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902" name=""/>
            <p:cNvSpPr/>
            <p:nvPr/>
          </p:nvSpPr>
          <p:spPr>
            <a:xfrm flipH="1" rot="16200000">
              <a:off x="7256520" y="3506760"/>
              <a:ext cx="665280" cy="58896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66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3" name=""/>
            <p:cNvSpPr/>
            <p:nvPr/>
          </p:nvSpPr>
          <p:spPr>
            <a:xfrm flipH="1" rot="16200000">
              <a:off x="7463880" y="2434320"/>
              <a:ext cx="317520" cy="718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66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4" name=""/>
            <p:cNvSpPr/>
            <p:nvPr/>
          </p:nvSpPr>
          <p:spPr>
            <a:xfrm>
              <a:off x="7342200" y="2397240"/>
              <a:ext cx="2171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00000"/>
                  </a:solidFill>
                  <a:latin typeface="Times New Roman"/>
                </a:rPr>
                <a:t>Angiotensin I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5" name=""/>
            <p:cNvSpPr/>
            <p:nvPr/>
          </p:nvSpPr>
          <p:spPr>
            <a:xfrm>
              <a:off x="7327800" y="3313080"/>
              <a:ext cx="2171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00000"/>
                  </a:solidFill>
                  <a:latin typeface="Times New Roman"/>
                </a:rPr>
                <a:t>Parathorm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6" name=""/>
            <p:cNvSpPr/>
            <p:nvPr/>
          </p:nvSpPr>
          <p:spPr>
            <a:xfrm>
              <a:off x="8319960" y="3638520"/>
              <a:ext cx="381240" cy="382680"/>
            </a:xfrm>
            <a:prstGeom prst="ellipse">
              <a:avLst/>
            </a:prstGeom>
            <a:solidFill>
              <a:srgbClr val="ff33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7" name=""/>
            <p:cNvSpPr/>
            <p:nvPr/>
          </p:nvSpPr>
          <p:spPr>
            <a:xfrm>
              <a:off x="7818480" y="4519440"/>
              <a:ext cx="59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000000"/>
                  </a:solidFill>
                  <a:latin typeface="Times New Roman"/>
                </a:rPr>
                <a:t>Na</a:t>
              </a:r>
              <a:r>
                <a:rPr b="1" lang="cs-CZ" sz="2000" spc="-1" strike="noStrike" baseline="40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8" name=""/>
            <p:cNvSpPr/>
            <p:nvPr/>
          </p:nvSpPr>
          <p:spPr>
            <a:xfrm flipH="1">
              <a:off x="4511160" y="5289480"/>
              <a:ext cx="86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9" name=""/>
            <p:cNvSpPr/>
            <p:nvPr/>
          </p:nvSpPr>
          <p:spPr>
            <a:xfrm>
              <a:off x="4694400" y="5065560"/>
              <a:ext cx="1145880" cy="46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000000"/>
                  </a:solidFill>
                  <a:latin typeface="Times New Roman"/>
                </a:rPr>
                <a:t>HCO</a:t>
              </a:r>
              <a:r>
                <a:rPr b="1" lang="cs-CZ" sz="20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0" lang="cs-CZ" sz="2000" spc="-1" strike="noStrike" baseline="50000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0" name=""/>
            <p:cNvSpPr/>
            <p:nvPr/>
          </p:nvSpPr>
          <p:spPr>
            <a:xfrm>
              <a:off x="8345520" y="2754360"/>
              <a:ext cx="380880" cy="112680"/>
            </a:xfrm>
            <a:prstGeom prst="ellipse">
              <a:avLst/>
            </a:prstGeom>
            <a:solidFill>
              <a:srgbClr val="ff33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1" name=""/>
            <p:cNvSpPr/>
            <p:nvPr/>
          </p:nvSpPr>
          <p:spPr>
            <a:xfrm>
              <a:off x="7608960" y="3767040"/>
              <a:ext cx="638280" cy="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2" name=""/>
            <p:cNvSpPr/>
            <p:nvPr/>
          </p:nvSpPr>
          <p:spPr>
            <a:xfrm>
              <a:off x="7709040" y="2803680"/>
              <a:ext cx="525240" cy="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3" name=""/>
            <p:cNvSpPr/>
            <p:nvPr/>
          </p:nvSpPr>
          <p:spPr>
            <a:xfrm>
              <a:off x="6450120" y="3048120"/>
              <a:ext cx="403200" cy="527040"/>
            </a:xfrm>
            <a:custGeom>
              <a:avLst/>
              <a:gdLst/>
              <a:ahLst/>
              <a:rect l="l" t="t" r="r" b="b"/>
              <a:pathLst>
                <a:path w="254" h="332">
                  <a:moveTo>
                    <a:pt x="0" y="332"/>
                  </a:moveTo>
                  <a:cubicBezTo>
                    <a:pt x="29" y="326"/>
                    <a:pt x="133" y="319"/>
                    <a:pt x="175" y="294"/>
                  </a:cubicBezTo>
                  <a:cubicBezTo>
                    <a:pt x="217" y="269"/>
                    <a:pt x="248" y="220"/>
                    <a:pt x="251" y="180"/>
                  </a:cubicBezTo>
                  <a:cubicBezTo>
                    <a:pt x="254" y="140"/>
                    <a:pt x="230" y="84"/>
                    <a:pt x="191" y="54"/>
                  </a:cubicBezTo>
                  <a:cubicBezTo>
                    <a:pt x="113" y="11"/>
                    <a:pt x="52" y="12"/>
                    <a:pt x="17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4" name=""/>
            <p:cNvSpPr/>
            <p:nvPr/>
          </p:nvSpPr>
          <p:spPr>
            <a:xfrm>
              <a:off x="7731000" y="2220840"/>
              <a:ext cx="300240" cy="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5" name=""/>
            <p:cNvSpPr/>
            <p:nvPr/>
          </p:nvSpPr>
          <p:spPr>
            <a:xfrm rot="20690400">
              <a:off x="504720" y="2324160"/>
              <a:ext cx="505080" cy="877680"/>
            </a:xfrm>
            <a:prstGeom prst="downArrow">
              <a:avLst>
                <a:gd name="adj1" fmla="val 50000"/>
                <a:gd name="adj2" fmla="val 43443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6" name=""/>
            <p:cNvSpPr/>
            <p:nvPr/>
          </p:nvSpPr>
          <p:spPr>
            <a:xfrm>
              <a:off x="984240" y="4133880"/>
              <a:ext cx="504720" cy="608040"/>
            </a:xfrm>
            <a:prstGeom prst="downArrow">
              <a:avLst>
                <a:gd name="adj1" fmla="val 50000"/>
                <a:gd name="adj2" fmla="val 30118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7" name=""/>
            <p:cNvSpPr/>
            <p:nvPr/>
          </p:nvSpPr>
          <p:spPr>
            <a:xfrm>
              <a:off x="658800" y="2416320"/>
              <a:ext cx="619200" cy="2119320"/>
            </a:xfrm>
            <a:custGeom>
              <a:avLst/>
              <a:gdLst/>
              <a:ahLst/>
              <a:rect l="l" t="t" r="r" b="b"/>
              <a:pathLst>
                <a:path w="385" h="1477">
                  <a:moveTo>
                    <a:pt x="0" y="0"/>
                  </a:moveTo>
                  <a:cubicBezTo>
                    <a:pt x="20" y="66"/>
                    <a:pt x="63" y="279"/>
                    <a:pt x="120" y="398"/>
                  </a:cubicBezTo>
                  <a:cubicBezTo>
                    <a:pt x="162" y="545"/>
                    <a:pt x="301" y="535"/>
                    <a:pt x="343" y="715"/>
                  </a:cubicBezTo>
                  <a:cubicBezTo>
                    <a:pt x="385" y="895"/>
                    <a:pt x="366" y="1317"/>
                    <a:pt x="372" y="1477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8" name=""/>
            <p:cNvSpPr/>
            <p:nvPr/>
          </p:nvSpPr>
          <p:spPr>
            <a:xfrm>
              <a:off x="4103640" y="2660760"/>
              <a:ext cx="2217960" cy="2136600"/>
            </a:xfrm>
            <a:custGeom>
              <a:avLst/>
              <a:gdLst/>
              <a:ahLst/>
              <a:rect l="l" t="t" r="r" b="b"/>
              <a:pathLst>
                <a:path w="1397" h="1346">
                  <a:moveTo>
                    <a:pt x="0" y="53"/>
                  </a:moveTo>
                  <a:cubicBezTo>
                    <a:pt x="53" y="58"/>
                    <a:pt x="194" y="0"/>
                    <a:pt x="317" y="86"/>
                  </a:cubicBezTo>
                  <a:cubicBezTo>
                    <a:pt x="440" y="172"/>
                    <a:pt x="631" y="376"/>
                    <a:pt x="737" y="566"/>
                  </a:cubicBezTo>
                  <a:cubicBezTo>
                    <a:pt x="843" y="756"/>
                    <a:pt x="845" y="1106"/>
                    <a:pt x="955" y="1226"/>
                  </a:cubicBezTo>
                  <a:cubicBezTo>
                    <a:pt x="1065" y="1346"/>
                    <a:pt x="1305" y="1274"/>
                    <a:pt x="1397" y="1286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9" name=""/>
            <p:cNvSpPr/>
            <p:nvPr/>
          </p:nvSpPr>
          <p:spPr>
            <a:xfrm>
              <a:off x="2432160" y="1789200"/>
              <a:ext cx="530280" cy="56520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0" name=""/>
            <p:cNvSpPr/>
            <p:nvPr/>
          </p:nvSpPr>
          <p:spPr>
            <a:xfrm>
              <a:off x="2155680" y="987480"/>
              <a:ext cx="1168560" cy="860400"/>
            </a:xfrm>
            <a:custGeom>
              <a:avLst/>
              <a:gdLst/>
              <a:ahLst/>
              <a:rect l="l" t="t" r="r" b="b"/>
              <a:pathLst>
                <a:path w="736" h="542">
                  <a:moveTo>
                    <a:pt x="0" y="516"/>
                  </a:moveTo>
                  <a:cubicBezTo>
                    <a:pt x="83" y="508"/>
                    <a:pt x="408" y="542"/>
                    <a:pt x="503" y="469"/>
                  </a:cubicBezTo>
                  <a:cubicBezTo>
                    <a:pt x="598" y="396"/>
                    <a:pt x="534" y="152"/>
                    <a:pt x="573" y="76"/>
                  </a:cubicBezTo>
                  <a:cubicBezTo>
                    <a:pt x="612" y="0"/>
                    <a:pt x="702" y="25"/>
                    <a:pt x="736" y="11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1" name=""/>
            <p:cNvSpPr/>
            <p:nvPr/>
          </p:nvSpPr>
          <p:spPr>
            <a:xfrm>
              <a:off x="3283200" y="811080"/>
              <a:ext cx="7218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000000"/>
                  </a:solidFill>
                  <a:latin typeface="Times New Roman"/>
                </a:rPr>
                <a:t>NH</a:t>
              </a:r>
              <a:r>
                <a:rPr b="1" lang="cs-CZ" sz="20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1" lang="cs-CZ" sz="2000" spc="-1" strike="noStrike" baseline="40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2" name=""/>
            <p:cNvSpPr/>
            <p:nvPr/>
          </p:nvSpPr>
          <p:spPr>
            <a:xfrm>
              <a:off x="5734800" y="820800"/>
              <a:ext cx="1227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000000"/>
                  </a:solidFill>
                  <a:latin typeface="Times New Roman"/>
                </a:rPr>
                <a:t>Glutami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3" name=""/>
            <p:cNvSpPr/>
            <p:nvPr/>
          </p:nvSpPr>
          <p:spPr>
            <a:xfrm rot="5400000">
              <a:off x="4780440" y="344880"/>
              <a:ext cx="274680" cy="1282680"/>
            </a:xfrm>
            <a:prstGeom prst="can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4" name=""/>
            <p:cNvSpPr/>
            <p:nvPr/>
          </p:nvSpPr>
          <p:spPr>
            <a:xfrm>
              <a:off x="4210920" y="411120"/>
              <a:ext cx="1220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1600" spc="-1" strike="noStrike">
                  <a:solidFill>
                    <a:srgbClr val="000000"/>
                  </a:solidFill>
                  <a:latin typeface="Times New Roman"/>
                </a:rPr>
                <a:t>glutamináz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5" name=""/>
            <p:cNvSpPr/>
            <p:nvPr/>
          </p:nvSpPr>
          <p:spPr>
            <a:xfrm>
              <a:off x="4035600" y="1360440"/>
              <a:ext cx="485640" cy="1970280"/>
            </a:xfrm>
            <a:custGeom>
              <a:avLst/>
              <a:gdLst/>
              <a:ahLst/>
              <a:rect l="l" t="t" r="r" b="b"/>
              <a:pathLst>
                <a:path w="463" h="1274">
                  <a:moveTo>
                    <a:pt x="0" y="1238"/>
                  </a:moveTo>
                  <a:cubicBezTo>
                    <a:pt x="49" y="1223"/>
                    <a:pt x="228" y="1274"/>
                    <a:pt x="294" y="1151"/>
                  </a:cubicBezTo>
                  <a:cubicBezTo>
                    <a:pt x="360" y="1028"/>
                    <a:pt x="370" y="693"/>
                    <a:pt x="398" y="501"/>
                  </a:cubicBezTo>
                  <a:cubicBezTo>
                    <a:pt x="426" y="309"/>
                    <a:pt x="450" y="104"/>
                    <a:pt x="463" y="0"/>
                  </a:cubicBezTo>
                </a:path>
              </a:pathLst>
            </a:custGeom>
            <a:noFill/>
            <a:ln cap="rnd" w="28440">
              <a:solidFill>
                <a:srgbClr val="000000"/>
              </a:solidFill>
              <a:custDash>
                <a:ds d="100000" sp="1000"/>
              </a:custDash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926" name=""/>
            <p:cNvGrpSpPr/>
            <p:nvPr/>
          </p:nvGrpSpPr>
          <p:grpSpPr>
            <a:xfrm>
              <a:off x="6757920" y="3254400"/>
              <a:ext cx="596880" cy="520560"/>
              <a:chOff x="6757920" y="3254400"/>
              <a:chExt cx="596880" cy="520560"/>
            </a:xfrm>
          </p:grpSpPr>
          <p:sp>
            <p:nvSpPr>
              <p:cNvPr id="10927" name=""/>
              <p:cNvSpPr/>
              <p:nvPr/>
            </p:nvSpPr>
            <p:spPr>
              <a:xfrm>
                <a:off x="6915240" y="3397320"/>
                <a:ext cx="285840" cy="2887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8" name=""/>
              <p:cNvSpPr/>
              <p:nvPr/>
            </p:nvSpPr>
            <p:spPr>
              <a:xfrm>
                <a:off x="6757920" y="3254400"/>
                <a:ext cx="596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929" name=""/>
            <p:cNvGrpSpPr/>
            <p:nvPr/>
          </p:nvGrpSpPr>
          <p:grpSpPr>
            <a:xfrm>
              <a:off x="4286160" y="900000"/>
              <a:ext cx="596880" cy="520560"/>
              <a:chOff x="4286160" y="900000"/>
              <a:chExt cx="596880" cy="520560"/>
            </a:xfrm>
          </p:grpSpPr>
          <p:sp>
            <p:nvSpPr>
              <p:cNvPr id="10930" name=""/>
              <p:cNvSpPr/>
              <p:nvPr/>
            </p:nvSpPr>
            <p:spPr>
              <a:xfrm>
                <a:off x="4417920" y="1025280"/>
                <a:ext cx="285480" cy="28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1" name=""/>
              <p:cNvSpPr/>
              <p:nvPr/>
            </p:nvSpPr>
            <p:spPr>
              <a:xfrm>
                <a:off x="4286160" y="900000"/>
                <a:ext cx="596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932" name=""/>
            <p:cNvSpPr/>
            <p:nvPr/>
          </p:nvSpPr>
          <p:spPr>
            <a:xfrm>
              <a:off x="4826160" y="1324080"/>
              <a:ext cx="712800" cy="635040"/>
            </a:xfrm>
            <a:custGeom>
              <a:avLst/>
              <a:gdLst/>
              <a:ahLst/>
              <a:rect l="l" t="t" r="r" b="b"/>
              <a:pathLst>
                <a:path w="357" h="389">
                  <a:moveTo>
                    <a:pt x="357" y="379"/>
                  </a:moveTo>
                  <a:cubicBezTo>
                    <a:pt x="315" y="374"/>
                    <a:pt x="161" y="389"/>
                    <a:pt x="104" y="353"/>
                  </a:cubicBezTo>
                  <a:cubicBezTo>
                    <a:pt x="48" y="318"/>
                    <a:pt x="30" y="224"/>
                    <a:pt x="15" y="165"/>
                  </a:cubicBezTo>
                  <a:cubicBezTo>
                    <a:pt x="0" y="106"/>
                    <a:pt x="15" y="34"/>
                    <a:pt x="15" y="0"/>
                  </a:cubicBezTo>
                </a:path>
              </a:pathLst>
            </a:custGeom>
            <a:noFill/>
            <a:ln cap="rnd" w="28440">
              <a:solidFill>
                <a:srgbClr val="000000"/>
              </a:solidFill>
              <a:custDash>
                <a:ds d="100000" sp="1000"/>
              </a:custDash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3" name=""/>
            <p:cNvSpPr/>
            <p:nvPr/>
          </p:nvSpPr>
          <p:spPr>
            <a:xfrm>
              <a:off x="6953400" y="1065240"/>
              <a:ext cx="909360" cy="7920"/>
            </a:xfrm>
            <a:custGeom>
              <a:avLst/>
              <a:gdLst/>
              <a:ahLst/>
              <a:rect l="l" t="t" r="r" b="b"/>
              <a:pathLst>
                <a:path w="573" h="5">
                  <a:moveTo>
                    <a:pt x="0" y="0"/>
                  </a:moveTo>
                  <a:lnTo>
                    <a:pt x="573" y="5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4" name=""/>
            <p:cNvSpPr/>
            <p:nvPr/>
          </p:nvSpPr>
          <p:spPr>
            <a:xfrm>
              <a:off x="7814160" y="833400"/>
              <a:ext cx="1227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000000"/>
                  </a:solidFill>
                  <a:latin typeface="Times New Roman"/>
                </a:rPr>
                <a:t>Glutami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5" name=""/>
            <p:cNvSpPr/>
            <p:nvPr/>
          </p:nvSpPr>
          <p:spPr>
            <a:xfrm>
              <a:off x="3922560" y="1015920"/>
              <a:ext cx="368280" cy="6480"/>
            </a:xfrm>
            <a:custGeom>
              <a:avLst/>
              <a:gdLst/>
              <a:ahLst/>
              <a:rect l="l" t="t" r="r" b="b"/>
              <a:pathLst>
                <a:path w="232" h="4">
                  <a:moveTo>
                    <a:pt x="0" y="4"/>
                  </a:moveTo>
                  <a:lnTo>
                    <a:pt x="232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6" name=""/>
            <p:cNvSpPr/>
            <p:nvPr/>
          </p:nvSpPr>
          <p:spPr>
            <a:xfrm>
              <a:off x="5281560" y="1012680"/>
              <a:ext cx="501840" cy="1800"/>
            </a:xfrm>
            <a:custGeom>
              <a:avLst/>
              <a:gdLst/>
              <a:ahLst/>
              <a:rect l="l" t="t" r="r" b="b"/>
              <a:pathLst>
                <a:path w="316" h="1">
                  <a:moveTo>
                    <a:pt x="0" y="0"/>
                  </a:moveTo>
                  <a:lnTo>
                    <a:pt x="316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7" name=""/>
            <p:cNvSpPr/>
            <p:nvPr/>
          </p:nvSpPr>
          <p:spPr>
            <a:xfrm>
              <a:off x="1584360" y="1612800"/>
              <a:ext cx="7218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000000"/>
                  </a:solidFill>
                  <a:latin typeface="Times New Roman"/>
                </a:rPr>
                <a:t>NH</a:t>
              </a:r>
              <a:r>
                <a:rPr b="1" lang="cs-CZ" sz="20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1" lang="cs-CZ" sz="2000" spc="-1" strike="noStrike" baseline="40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8" name=""/>
            <p:cNvSpPr/>
            <p:nvPr/>
          </p:nvSpPr>
          <p:spPr>
            <a:xfrm>
              <a:off x="1230480" y="3506760"/>
              <a:ext cx="995040" cy="735120"/>
            </a:xfrm>
            <a:custGeom>
              <a:avLst/>
              <a:gdLst/>
              <a:ahLst/>
              <a:rect l="l" t="t" r="r" b="b"/>
              <a:pathLst>
                <a:path w="627" h="463">
                  <a:moveTo>
                    <a:pt x="627" y="0"/>
                  </a:moveTo>
                  <a:cubicBezTo>
                    <a:pt x="612" y="38"/>
                    <a:pt x="621" y="183"/>
                    <a:pt x="539" y="229"/>
                  </a:cubicBezTo>
                  <a:cubicBezTo>
                    <a:pt x="457" y="275"/>
                    <a:pt x="226" y="239"/>
                    <a:pt x="136" y="278"/>
                  </a:cubicBezTo>
                  <a:cubicBezTo>
                    <a:pt x="45" y="362"/>
                    <a:pt x="20" y="434"/>
                    <a:pt x="0" y="463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939" name=""/>
            <p:cNvGrpSpPr/>
            <p:nvPr/>
          </p:nvGrpSpPr>
          <p:grpSpPr>
            <a:xfrm>
              <a:off x="1617840" y="4410000"/>
              <a:ext cx="806040" cy="1180800"/>
              <a:chOff x="1617840" y="4410000"/>
              <a:chExt cx="806040" cy="1180800"/>
            </a:xfrm>
          </p:grpSpPr>
          <p:sp>
            <p:nvSpPr>
              <p:cNvPr id="10940" name=""/>
              <p:cNvSpPr/>
              <p:nvPr/>
            </p:nvSpPr>
            <p:spPr>
              <a:xfrm>
                <a:off x="1617840" y="4992120"/>
                <a:ext cx="774000" cy="598680"/>
              </a:xfrm>
              <a:custGeom>
                <a:avLst/>
                <a:gdLst/>
                <a:ahLst/>
                <a:rect l="l" t="t" r="r" b="b"/>
                <a:pathLst>
                  <a:path w="265" h="338">
                    <a:moveTo>
                      <a:pt x="0" y="3"/>
                    </a:moveTo>
                    <a:cubicBezTo>
                      <a:pt x="37" y="13"/>
                      <a:pt x="180" y="0"/>
                      <a:pt x="223" y="56"/>
                    </a:cubicBezTo>
                    <a:cubicBezTo>
                      <a:pt x="265" y="115"/>
                      <a:pt x="258" y="278"/>
                      <a:pt x="260" y="338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1" name=""/>
              <p:cNvSpPr/>
              <p:nvPr/>
            </p:nvSpPr>
            <p:spPr>
              <a:xfrm flipV="1">
                <a:off x="1650240" y="4410000"/>
                <a:ext cx="773640" cy="598320"/>
              </a:xfrm>
              <a:custGeom>
                <a:avLst/>
                <a:gdLst/>
                <a:ahLst/>
                <a:rect l="l" t="t" r="r" b="b"/>
                <a:pathLst>
                  <a:path w="265" h="338">
                    <a:moveTo>
                      <a:pt x="0" y="3"/>
                    </a:moveTo>
                    <a:cubicBezTo>
                      <a:pt x="37" y="13"/>
                      <a:pt x="180" y="0"/>
                      <a:pt x="223" y="56"/>
                    </a:cubicBezTo>
                    <a:cubicBezTo>
                      <a:pt x="265" y="115"/>
                      <a:pt x="258" y="278"/>
                      <a:pt x="260" y="338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942" name=""/>
            <p:cNvSpPr/>
            <p:nvPr/>
          </p:nvSpPr>
          <p:spPr>
            <a:xfrm>
              <a:off x="1176480" y="2147760"/>
              <a:ext cx="2330280" cy="689040"/>
            </a:xfrm>
            <a:custGeom>
              <a:avLst/>
              <a:gdLst/>
              <a:ahLst/>
              <a:rect l="l" t="t" r="r" b="b"/>
              <a:pathLst>
                <a:path w="1141" h="434">
                  <a:moveTo>
                    <a:pt x="28" y="0"/>
                  </a:moveTo>
                  <a:cubicBezTo>
                    <a:pt x="35" y="62"/>
                    <a:pt x="0" y="306"/>
                    <a:pt x="72" y="370"/>
                  </a:cubicBezTo>
                  <a:cubicBezTo>
                    <a:pt x="144" y="434"/>
                    <a:pt x="281" y="385"/>
                    <a:pt x="459" y="387"/>
                  </a:cubicBezTo>
                  <a:lnTo>
                    <a:pt x="1141" y="381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3" name=""/>
            <p:cNvSpPr/>
            <p:nvPr/>
          </p:nvSpPr>
          <p:spPr>
            <a:xfrm>
              <a:off x="1182600" y="2138400"/>
              <a:ext cx="2506680" cy="519120"/>
            </a:xfrm>
            <a:custGeom>
              <a:avLst/>
              <a:gdLst/>
              <a:ahLst/>
              <a:rect l="l" t="t" r="r" b="b"/>
              <a:pathLst>
                <a:path w="1579" h="327">
                  <a:moveTo>
                    <a:pt x="24" y="0"/>
                  </a:moveTo>
                  <a:cubicBezTo>
                    <a:pt x="52" y="23"/>
                    <a:pt x="0" y="118"/>
                    <a:pt x="204" y="142"/>
                  </a:cubicBezTo>
                  <a:lnTo>
                    <a:pt x="1251" y="147"/>
                  </a:lnTo>
                  <a:cubicBezTo>
                    <a:pt x="1463" y="153"/>
                    <a:pt x="1420" y="150"/>
                    <a:pt x="1475" y="180"/>
                  </a:cubicBezTo>
                  <a:cubicBezTo>
                    <a:pt x="1530" y="210"/>
                    <a:pt x="1557" y="296"/>
                    <a:pt x="1579" y="327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4" name=""/>
            <p:cNvSpPr/>
            <p:nvPr/>
          </p:nvSpPr>
          <p:spPr>
            <a:xfrm>
              <a:off x="-382680" y="412920"/>
              <a:ext cx="2238480" cy="56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400" spc="-1" strike="noStrike">
                  <a:solidFill>
                    <a:srgbClr val="000000"/>
                  </a:solidFill>
                  <a:latin typeface="Times New Roman"/>
                </a:rPr>
                <a:t>4500 mmol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400" spc="-1" strike="noStrike">
                  <a:solidFill>
                    <a:srgbClr val="000000"/>
                  </a:solidFill>
                  <a:latin typeface="Times New Roman"/>
                </a:rPr>
                <a:t>HCO</a:t>
              </a:r>
              <a:r>
                <a:rPr b="1" lang="cs-CZ" sz="1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1" lang="cs-CZ" sz="1400" spc="-1" strike="noStrike" baseline="50000">
                  <a:solidFill>
                    <a:srgbClr val="000000"/>
                  </a:solidFill>
                  <a:latin typeface="Times New Roman"/>
                </a:rPr>
                <a:t>-</a:t>
              </a:r>
              <a:r>
                <a:rPr b="1" lang="cs-CZ" sz="1400" spc="-1" strike="noStrike">
                  <a:solidFill>
                    <a:srgbClr val="000000"/>
                  </a:solidFill>
                  <a:latin typeface="Times New Roman"/>
                </a:rPr>
                <a:t>/24ho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5" name=""/>
            <p:cNvSpPr/>
            <p:nvPr/>
          </p:nvSpPr>
          <p:spPr>
            <a:xfrm>
              <a:off x="7201080" y="5553000"/>
              <a:ext cx="2238120" cy="56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400" spc="-1" strike="noStrike">
                  <a:solidFill>
                    <a:srgbClr val="000000"/>
                  </a:solidFill>
                  <a:latin typeface="Times New Roman"/>
                </a:rPr>
                <a:t>3825 mmol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400" spc="-1" strike="noStrike">
                  <a:solidFill>
                    <a:srgbClr val="000000"/>
                  </a:solidFill>
                  <a:latin typeface="Times New Roman"/>
                </a:rPr>
                <a:t>HCO</a:t>
              </a:r>
              <a:r>
                <a:rPr b="1" lang="cs-CZ" sz="1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1" lang="cs-CZ" sz="1400" spc="-1" strike="noStrike" baseline="50000">
                  <a:solidFill>
                    <a:srgbClr val="000000"/>
                  </a:solidFill>
                  <a:latin typeface="Times New Roman"/>
                </a:rPr>
                <a:t>-</a:t>
              </a:r>
              <a:r>
                <a:rPr b="1" lang="cs-CZ" sz="1400" spc="-1" strike="noStrike">
                  <a:solidFill>
                    <a:srgbClr val="000000"/>
                  </a:solidFill>
                  <a:latin typeface="Times New Roman"/>
                </a:rPr>
                <a:t>/24ho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6" name=""/>
            <p:cNvSpPr/>
            <p:nvPr/>
          </p:nvSpPr>
          <p:spPr>
            <a:xfrm rot="16200">
              <a:off x="2604960" y="5562360"/>
              <a:ext cx="1182960" cy="603000"/>
            </a:xfrm>
            <a:prstGeom prst="rightArrow">
              <a:avLst>
                <a:gd name="adj1" fmla="val 50000"/>
                <a:gd name="adj2" fmla="val 49045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7" name=""/>
            <p:cNvSpPr/>
            <p:nvPr/>
          </p:nvSpPr>
          <p:spPr>
            <a:xfrm>
              <a:off x="2695680" y="5854680"/>
              <a:ext cx="1041120" cy="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8" name=""/>
            <p:cNvSpPr/>
            <p:nvPr/>
          </p:nvSpPr>
          <p:spPr>
            <a:xfrm rot="5400000">
              <a:off x="1843560" y="4772880"/>
              <a:ext cx="438120" cy="338040"/>
            </a:xfrm>
            <a:prstGeom prst="can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9" name=""/>
            <p:cNvSpPr/>
            <p:nvPr/>
          </p:nvSpPr>
          <p:spPr>
            <a:xfrm flipH="1" flipV="1">
              <a:off x="2157480" y="5014440"/>
              <a:ext cx="85680" cy="41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0" name=""/>
            <p:cNvSpPr/>
            <p:nvPr/>
          </p:nvSpPr>
          <p:spPr>
            <a:xfrm flipH="1">
              <a:off x="2158560" y="4919760"/>
              <a:ext cx="103320" cy="25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1" name=""/>
            <p:cNvSpPr/>
            <p:nvPr/>
          </p:nvSpPr>
          <p:spPr>
            <a:xfrm>
              <a:off x="2867040" y="3078000"/>
              <a:ext cx="216000" cy="220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2" name=""/>
            <p:cNvSpPr/>
            <p:nvPr/>
          </p:nvSpPr>
          <p:spPr>
            <a:xfrm>
              <a:off x="2760840" y="3000240"/>
              <a:ext cx="44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953" name=""/>
            <p:cNvGrpSpPr/>
            <p:nvPr/>
          </p:nvGrpSpPr>
          <p:grpSpPr>
            <a:xfrm>
              <a:off x="2779560" y="2608200"/>
              <a:ext cx="596880" cy="581400"/>
              <a:chOff x="2779560" y="2608200"/>
              <a:chExt cx="596880" cy="581400"/>
            </a:xfrm>
          </p:grpSpPr>
          <p:sp>
            <p:nvSpPr>
              <p:cNvPr id="10954" name=""/>
              <p:cNvSpPr/>
              <p:nvPr/>
            </p:nvSpPr>
            <p:spPr>
              <a:xfrm>
                <a:off x="2927160" y="2795400"/>
                <a:ext cx="285840" cy="28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5" name=""/>
              <p:cNvSpPr/>
              <p:nvPr/>
            </p:nvSpPr>
            <p:spPr>
              <a:xfrm>
                <a:off x="2779560" y="2608200"/>
                <a:ext cx="596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32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956" name=""/>
            <p:cNvSpPr/>
            <p:nvPr/>
          </p:nvSpPr>
          <p:spPr>
            <a:xfrm>
              <a:off x="3100320" y="3195720"/>
              <a:ext cx="466920" cy="42840"/>
            </a:xfrm>
            <a:custGeom>
              <a:avLst/>
              <a:gdLst/>
              <a:ahLst/>
              <a:rect l="l" t="t" r="r" b="b"/>
              <a:pathLst>
                <a:path w="294" h="27">
                  <a:moveTo>
                    <a:pt x="294" y="27"/>
                  </a:moveTo>
                  <a:cubicBezTo>
                    <a:pt x="245" y="23"/>
                    <a:pt x="61" y="6"/>
                    <a:pt x="0" y="0"/>
                  </a:cubicBezTo>
                </a:path>
              </a:pathLst>
            </a:custGeom>
            <a:noFill/>
            <a:ln cap="rnd" w="28440">
              <a:solidFill>
                <a:srgbClr val="000000"/>
              </a:solidFill>
              <a:custDash>
                <a:ds d="100000" sp="1000"/>
              </a:custDash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2880" bIns="-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957" name=""/>
            <p:cNvGrpSpPr/>
            <p:nvPr/>
          </p:nvGrpSpPr>
          <p:grpSpPr>
            <a:xfrm>
              <a:off x="1564920" y="-1080"/>
              <a:ext cx="7129800" cy="901080"/>
              <a:chOff x="1564920" y="-1080"/>
              <a:chExt cx="7129800" cy="901080"/>
            </a:xfrm>
          </p:grpSpPr>
          <p:sp>
            <p:nvSpPr>
              <p:cNvPr id="10958" name=""/>
              <p:cNvSpPr/>
              <p:nvPr/>
            </p:nvSpPr>
            <p:spPr>
              <a:xfrm>
                <a:off x="2486880" y="29160"/>
                <a:ext cx="904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000000"/>
                    </a:solidFill>
                    <a:latin typeface="Times New Roman"/>
                  </a:rPr>
                  <a:t>-68mV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9" name=""/>
              <p:cNvSpPr/>
              <p:nvPr/>
            </p:nvSpPr>
            <p:spPr>
              <a:xfrm flipV="1">
                <a:off x="3716280" y="254160"/>
                <a:ext cx="9720" cy="266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0" name=""/>
              <p:cNvSpPr/>
              <p:nvPr/>
            </p:nvSpPr>
            <p:spPr>
              <a:xfrm flipV="1">
                <a:off x="1960560" y="256680"/>
                <a:ext cx="0" cy="290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1" name=""/>
              <p:cNvSpPr/>
              <p:nvPr/>
            </p:nvSpPr>
            <p:spPr>
              <a:xfrm>
                <a:off x="1968480" y="254160"/>
                <a:ext cx="477720" cy="18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2" name=""/>
              <p:cNvSpPr/>
              <p:nvPr/>
            </p:nvSpPr>
            <p:spPr>
              <a:xfrm>
                <a:off x="3362400" y="254160"/>
                <a:ext cx="3636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3" name=""/>
              <p:cNvSpPr/>
              <p:nvPr/>
            </p:nvSpPr>
            <p:spPr>
              <a:xfrm>
                <a:off x="1775880" y="42444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4" name=""/>
              <p:cNvSpPr/>
              <p:nvPr/>
            </p:nvSpPr>
            <p:spPr>
              <a:xfrm>
                <a:off x="3573360" y="440280"/>
                <a:ext cx="282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5" name=""/>
              <p:cNvSpPr/>
              <p:nvPr/>
            </p:nvSpPr>
            <p:spPr>
              <a:xfrm>
                <a:off x="6577920" y="29160"/>
                <a:ext cx="904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000000"/>
                    </a:solidFill>
                    <a:latin typeface="Times New Roman"/>
                  </a:rPr>
                  <a:t>-70mV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6" name=""/>
              <p:cNvSpPr/>
              <p:nvPr/>
            </p:nvSpPr>
            <p:spPr>
              <a:xfrm flipV="1">
                <a:off x="8012160" y="253800"/>
                <a:ext cx="0" cy="169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7" name=""/>
              <p:cNvSpPr/>
              <p:nvPr/>
            </p:nvSpPr>
            <p:spPr>
              <a:xfrm flipV="1">
                <a:off x="6246720" y="239400"/>
                <a:ext cx="0" cy="290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8" name=""/>
              <p:cNvSpPr/>
              <p:nvPr/>
            </p:nvSpPr>
            <p:spPr>
              <a:xfrm>
                <a:off x="6246720" y="254160"/>
                <a:ext cx="2588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9" name=""/>
              <p:cNvSpPr/>
              <p:nvPr/>
            </p:nvSpPr>
            <p:spPr>
              <a:xfrm>
                <a:off x="7613640" y="246240"/>
                <a:ext cx="398520" cy="7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0" name=""/>
              <p:cNvSpPr/>
              <p:nvPr/>
            </p:nvSpPr>
            <p:spPr>
              <a:xfrm>
                <a:off x="6086520" y="357840"/>
                <a:ext cx="285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1" name=""/>
              <p:cNvSpPr/>
              <p:nvPr/>
            </p:nvSpPr>
            <p:spPr>
              <a:xfrm>
                <a:off x="7843320" y="34200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2" name=""/>
              <p:cNvSpPr/>
              <p:nvPr/>
            </p:nvSpPr>
            <p:spPr>
              <a:xfrm flipV="1">
                <a:off x="1714680" y="112680"/>
                <a:ext cx="0" cy="355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3" name=""/>
              <p:cNvSpPr/>
              <p:nvPr/>
            </p:nvSpPr>
            <p:spPr>
              <a:xfrm flipV="1">
                <a:off x="8499600" y="125280"/>
                <a:ext cx="0" cy="355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4" name=""/>
              <p:cNvSpPr/>
              <p:nvPr/>
            </p:nvSpPr>
            <p:spPr>
              <a:xfrm>
                <a:off x="5576760" y="115920"/>
                <a:ext cx="2917800" cy="4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5" name=""/>
              <p:cNvSpPr/>
              <p:nvPr/>
            </p:nvSpPr>
            <p:spPr>
              <a:xfrm>
                <a:off x="4713120" y="-1080"/>
                <a:ext cx="7765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000000"/>
                    </a:solidFill>
                    <a:latin typeface="Times New Roman"/>
                  </a:rPr>
                  <a:t>-2mV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6" name=""/>
              <p:cNvSpPr/>
              <p:nvPr/>
            </p:nvSpPr>
            <p:spPr>
              <a:xfrm>
                <a:off x="1703520" y="111240"/>
                <a:ext cx="2917800" cy="4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7" name=""/>
              <p:cNvSpPr/>
              <p:nvPr/>
            </p:nvSpPr>
            <p:spPr>
              <a:xfrm>
                <a:off x="8340120" y="36720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8" name=""/>
              <p:cNvSpPr/>
              <p:nvPr/>
            </p:nvSpPr>
            <p:spPr>
              <a:xfrm>
                <a:off x="1564920" y="282960"/>
                <a:ext cx="282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979" name=""/>
            <p:cNvGrpSpPr/>
            <p:nvPr/>
          </p:nvGrpSpPr>
          <p:grpSpPr>
            <a:xfrm>
              <a:off x="2178000" y="2793960"/>
              <a:ext cx="406440" cy="703440"/>
              <a:chOff x="2178000" y="2793960"/>
              <a:chExt cx="406440" cy="703440"/>
            </a:xfrm>
          </p:grpSpPr>
          <p:sp>
            <p:nvSpPr>
              <p:cNvPr id="10980" name=""/>
              <p:cNvSpPr/>
              <p:nvPr/>
            </p:nvSpPr>
            <p:spPr>
              <a:xfrm>
                <a:off x="2278440" y="2927160"/>
                <a:ext cx="194400" cy="205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1" name=""/>
              <p:cNvSpPr/>
              <p:nvPr/>
            </p:nvSpPr>
            <p:spPr>
              <a:xfrm>
                <a:off x="2178000" y="2793960"/>
                <a:ext cx="4064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4000" spc="-1" strike="noStrike" baseline="10000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982" name=""/>
            <p:cNvSpPr/>
            <p:nvPr/>
          </p:nvSpPr>
          <p:spPr>
            <a:xfrm>
              <a:off x="1841400" y="3030480"/>
              <a:ext cx="392040" cy="354240"/>
            </a:xfrm>
            <a:custGeom>
              <a:avLst/>
              <a:gdLst/>
              <a:ahLst/>
              <a:rect l="l" t="t" r="r" b="b"/>
              <a:pathLst>
                <a:path w="247" h="223">
                  <a:moveTo>
                    <a:pt x="160" y="213"/>
                  </a:moveTo>
                  <a:cubicBezTo>
                    <a:pt x="145" y="211"/>
                    <a:pt x="95" y="223"/>
                    <a:pt x="73" y="202"/>
                  </a:cubicBezTo>
                  <a:cubicBezTo>
                    <a:pt x="51" y="181"/>
                    <a:pt x="0" y="120"/>
                    <a:pt x="29" y="87"/>
                  </a:cubicBezTo>
                  <a:cubicBezTo>
                    <a:pt x="58" y="54"/>
                    <a:pt x="202" y="18"/>
                    <a:pt x="247" y="0"/>
                  </a:cubicBezTo>
                </a:path>
              </a:pathLst>
            </a:custGeom>
            <a:noFill/>
            <a:ln cap="rnd" w="28440">
              <a:solidFill>
                <a:srgbClr val="000000"/>
              </a:solidFill>
              <a:custDash>
                <a:ds d="100000" sp="1000"/>
              </a:custDash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983" name=""/>
            <p:cNvGrpSpPr/>
            <p:nvPr/>
          </p:nvGrpSpPr>
          <p:grpSpPr>
            <a:xfrm>
              <a:off x="4576680" y="828720"/>
              <a:ext cx="596880" cy="581400"/>
              <a:chOff x="4576680" y="828720"/>
              <a:chExt cx="596880" cy="581400"/>
            </a:xfrm>
          </p:grpSpPr>
          <p:sp>
            <p:nvSpPr>
              <p:cNvPr id="10984" name=""/>
              <p:cNvSpPr/>
              <p:nvPr/>
            </p:nvSpPr>
            <p:spPr>
              <a:xfrm>
                <a:off x="4724280" y="1015920"/>
                <a:ext cx="285840" cy="2887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5" name=""/>
              <p:cNvSpPr/>
              <p:nvPr/>
            </p:nvSpPr>
            <p:spPr>
              <a:xfrm>
                <a:off x="4576680" y="828720"/>
                <a:ext cx="596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32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6" name=""/>
          <p:cNvSpPr/>
          <p:nvPr/>
        </p:nvSpPr>
        <p:spPr>
          <a:xfrm rot="16200000">
            <a:off x="-1907280" y="3104640"/>
            <a:ext cx="4844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Rychlost reabsorbce a exkrece HCO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cs-CZ" sz="24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87" name=""/>
          <p:cNvGrpSpPr/>
          <p:nvPr/>
        </p:nvGrpSpPr>
        <p:grpSpPr>
          <a:xfrm>
            <a:off x="574560" y="790920"/>
            <a:ext cx="7743600" cy="5826960"/>
            <a:chOff x="574560" y="790920"/>
            <a:chExt cx="7743600" cy="5826960"/>
          </a:xfrm>
        </p:grpSpPr>
        <p:sp>
          <p:nvSpPr>
            <p:cNvPr id="10988" name=""/>
            <p:cNvSpPr/>
            <p:nvPr/>
          </p:nvSpPr>
          <p:spPr>
            <a:xfrm>
              <a:off x="880920" y="861840"/>
              <a:ext cx="7275600" cy="493236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9" name=""/>
            <p:cNvSpPr/>
            <p:nvPr/>
          </p:nvSpPr>
          <p:spPr>
            <a:xfrm>
              <a:off x="887400" y="5794200"/>
              <a:ext cx="731376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0" name=""/>
            <p:cNvSpPr/>
            <p:nvPr/>
          </p:nvSpPr>
          <p:spPr>
            <a:xfrm flipV="1">
              <a:off x="1595520" y="5608440"/>
              <a:ext cx="0" cy="18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1" name=""/>
            <p:cNvSpPr/>
            <p:nvPr/>
          </p:nvSpPr>
          <p:spPr>
            <a:xfrm flipV="1">
              <a:off x="2263680" y="5608440"/>
              <a:ext cx="0" cy="18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2" name=""/>
            <p:cNvSpPr/>
            <p:nvPr/>
          </p:nvSpPr>
          <p:spPr>
            <a:xfrm flipV="1">
              <a:off x="2932200" y="5608440"/>
              <a:ext cx="0" cy="18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3" name=""/>
            <p:cNvSpPr/>
            <p:nvPr/>
          </p:nvSpPr>
          <p:spPr>
            <a:xfrm flipV="1">
              <a:off x="3600360" y="5608440"/>
              <a:ext cx="0" cy="18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4" name=""/>
            <p:cNvSpPr/>
            <p:nvPr/>
          </p:nvSpPr>
          <p:spPr>
            <a:xfrm flipV="1">
              <a:off x="4270320" y="5608440"/>
              <a:ext cx="0" cy="18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5" name=""/>
            <p:cNvSpPr/>
            <p:nvPr/>
          </p:nvSpPr>
          <p:spPr>
            <a:xfrm flipV="1">
              <a:off x="4938840" y="5608440"/>
              <a:ext cx="0" cy="18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6" name=""/>
            <p:cNvSpPr/>
            <p:nvPr/>
          </p:nvSpPr>
          <p:spPr>
            <a:xfrm flipV="1">
              <a:off x="5607000" y="5608440"/>
              <a:ext cx="0" cy="18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7" name=""/>
            <p:cNvSpPr/>
            <p:nvPr/>
          </p:nvSpPr>
          <p:spPr>
            <a:xfrm flipV="1">
              <a:off x="6275520" y="5608440"/>
              <a:ext cx="0" cy="18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8" name=""/>
            <p:cNvSpPr/>
            <p:nvPr/>
          </p:nvSpPr>
          <p:spPr>
            <a:xfrm>
              <a:off x="2060640" y="57582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9" name=""/>
            <p:cNvSpPr/>
            <p:nvPr/>
          </p:nvSpPr>
          <p:spPr>
            <a:xfrm>
              <a:off x="2738520" y="576648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1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0" name=""/>
            <p:cNvSpPr/>
            <p:nvPr/>
          </p:nvSpPr>
          <p:spPr>
            <a:xfrm>
              <a:off x="3483000" y="576648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1" name=""/>
            <p:cNvSpPr/>
            <p:nvPr/>
          </p:nvSpPr>
          <p:spPr>
            <a:xfrm>
              <a:off x="4116240" y="576648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2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2" name=""/>
            <p:cNvSpPr/>
            <p:nvPr/>
          </p:nvSpPr>
          <p:spPr>
            <a:xfrm>
              <a:off x="4819680" y="576648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2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3" name=""/>
            <p:cNvSpPr/>
            <p:nvPr/>
          </p:nvSpPr>
          <p:spPr>
            <a:xfrm>
              <a:off x="5467320" y="576648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3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4" name=""/>
            <p:cNvSpPr/>
            <p:nvPr/>
          </p:nvSpPr>
          <p:spPr>
            <a:xfrm>
              <a:off x="6086520" y="576648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3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5" name=""/>
            <p:cNvSpPr/>
            <p:nvPr/>
          </p:nvSpPr>
          <p:spPr>
            <a:xfrm>
              <a:off x="6742080" y="576648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4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6" name=""/>
            <p:cNvSpPr/>
            <p:nvPr/>
          </p:nvSpPr>
          <p:spPr>
            <a:xfrm>
              <a:off x="7253640" y="5774400"/>
              <a:ext cx="1064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mmol/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007" name=""/>
            <p:cNvGrpSpPr/>
            <p:nvPr/>
          </p:nvGrpSpPr>
          <p:grpSpPr>
            <a:xfrm>
              <a:off x="574560" y="887400"/>
              <a:ext cx="314280" cy="4906800"/>
              <a:chOff x="574560" y="887400"/>
              <a:chExt cx="314280" cy="4906800"/>
            </a:xfrm>
          </p:grpSpPr>
          <p:sp>
            <p:nvSpPr>
              <p:cNvPr id="11008" name=""/>
              <p:cNvSpPr/>
              <p:nvPr/>
            </p:nvSpPr>
            <p:spPr>
              <a:xfrm>
                <a:off x="888840" y="887400"/>
                <a:ext cx="0" cy="4906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09" name=""/>
              <p:cNvSpPr/>
              <p:nvPr/>
            </p:nvSpPr>
            <p:spPr>
              <a:xfrm>
                <a:off x="644400" y="4792680"/>
                <a:ext cx="1843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10" name=""/>
              <p:cNvSpPr/>
              <p:nvPr/>
            </p:nvSpPr>
            <p:spPr>
              <a:xfrm>
                <a:off x="574560" y="3193920"/>
                <a:ext cx="1843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11" name=""/>
              <p:cNvSpPr/>
              <p:nvPr/>
            </p:nvSpPr>
            <p:spPr>
              <a:xfrm>
                <a:off x="574560" y="2394000"/>
                <a:ext cx="1843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12" name=""/>
              <p:cNvSpPr/>
              <p:nvPr/>
            </p:nvSpPr>
            <p:spPr>
              <a:xfrm>
                <a:off x="574560" y="1601640"/>
                <a:ext cx="1843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013" name=""/>
            <p:cNvSpPr/>
            <p:nvPr/>
          </p:nvSpPr>
          <p:spPr>
            <a:xfrm>
              <a:off x="901800" y="885960"/>
              <a:ext cx="6646680" cy="4906800"/>
            </a:xfrm>
            <a:custGeom>
              <a:avLst/>
              <a:gdLst/>
              <a:ahLst/>
              <a:rect l="l" t="t" r="r" b="b"/>
              <a:pathLst>
                <a:path w="3726" h="2278">
                  <a:moveTo>
                    <a:pt x="3726" y="0"/>
                  </a:moveTo>
                  <a:lnTo>
                    <a:pt x="0" y="227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4" name=""/>
            <p:cNvSpPr/>
            <p:nvPr/>
          </p:nvSpPr>
          <p:spPr>
            <a:xfrm>
              <a:off x="1218240" y="6107760"/>
              <a:ext cx="6647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Hladina HCO</a:t>
              </a:r>
              <a:r>
                <a:rPr b="0" lang="cs-CZ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0" lang="cs-CZ" sz="2400" spc="-1" strike="noStrike" baseline="30000">
                  <a:solidFill>
                    <a:srgbClr val="000000"/>
                  </a:solidFill>
                  <a:latin typeface="Times New Roman"/>
                </a:rPr>
                <a:t>-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v plazmě (a v glomerulárním filtrátu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5" name=""/>
            <p:cNvSpPr/>
            <p:nvPr/>
          </p:nvSpPr>
          <p:spPr>
            <a:xfrm>
              <a:off x="1395720" y="57632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6" name=""/>
            <p:cNvSpPr/>
            <p:nvPr/>
          </p:nvSpPr>
          <p:spPr>
            <a:xfrm flipV="1">
              <a:off x="6973920" y="5638680"/>
              <a:ext cx="0" cy="185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7" name=""/>
            <p:cNvSpPr/>
            <p:nvPr/>
          </p:nvSpPr>
          <p:spPr>
            <a:xfrm>
              <a:off x="917640" y="2935440"/>
              <a:ext cx="7262640" cy="2865240"/>
            </a:xfrm>
            <a:custGeom>
              <a:avLst/>
              <a:gdLst/>
              <a:ahLst/>
              <a:rect l="l" t="t" r="r" b="b"/>
              <a:pathLst>
                <a:path w="4575" h="1805">
                  <a:moveTo>
                    <a:pt x="0" y="1805"/>
                  </a:moveTo>
                  <a:lnTo>
                    <a:pt x="17" y="1772"/>
                  </a:lnTo>
                  <a:lnTo>
                    <a:pt x="1069" y="1003"/>
                  </a:lnTo>
                  <a:cubicBezTo>
                    <a:pt x="1362" y="788"/>
                    <a:pt x="1598" y="606"/>
                    <a:pt x="1778" y="480"/>
                  </a:cubicBezTo>
                  <a:cubicBezTo>
                    <a:pt x="1958" y="354"/>
                    <a:pt x="2032" y="312"/>
                    <a:pt x="2149" y="245"/>
                  </a:cubicBezTo>
                  <a:cubicBezTo>
                    <a:pt x="2266" y="178"/>
                    <a:pt x="2364" y="114"/>
                    <a:pt x="2482" y="76"/>
                  </a:cubicBezTo>
                  <a:cubicBezTo>
                    <a:pt x="2600" y="38"/>
                    <a:pt x="2509" y="29"/>
                    <a:pt x="2858" y="16"/>
                  </a:cubicBezTo>
                  <a:cubicBezTo>
                    <a:pt x="3207" y="3"/>
                    <a:pt x="4217" y="3"/>
                    <a:pt x="4575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8" name=""/>
            <p:cNvSpPr/>
            <p:nvPr/>
          </p:nvSpPr>
          <p:spPr>
            <a:xfrm>
              <a:off x="4216320" y="1932120"/>
              <a:ext cx="3924360" cy="1444320"/>
            </a:xfrm>
            <a:custGeom>
              <a:avLst/>
              <a:gdLst/>
              <a:ahLst/>
              <a:rect l="l" t="t" r="r" b="b"/>
              <a:pathLst>
                <a:path w="2472" h="910">
                  <a:moveTo>
                    <a:pt x="0" y="910"/>
                  </a:moveTo>
                  <a:cubicBezTo>
                    <a:pt x="115" y="827"/>
                    <a:pt x="508" y="537"/>
                    <a:pt x="688" y="414"/>
                  </a:cubicBezTo>
                  <a:cubicBezTo>
                    <a:pt x="868" y="291"/>
                    <a:pt x="947" y="237"/>
                    <a:pt x="1080" y="174"/>
                  </a:cubicBezTo>
                  <a:cubicBezTo>
                    <a:pt x="1213" y="111"/>
                    <a:pt x="1372" y="61"/>
                    <a:pt x="1484" y="33"/>
                  </a:cubicBezTo>
                  <a:cubicBezTo>
                    <a:pt x="1596" y="5"/>
                    <a:pt x="1590" y="10"/>
                    <a:pt x="1755" y="5"/>
                  </a:cubicBezTo>
                  <a:cubicBezTo>
                    <a:pt x="1920" y="0"/>
                    <a:pt x="2323" y="5"/>
                    <a:pt x="2472" y="5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9" name=""/>
            <p:cNvSpPr/>
            <p:nvPr/>
          </p:nvSpPr>
          <p:spPr>
            <a:xfrm>
              <a:off x="947880" y="3602160"/>
              <a:ext cx="7191360" cy="2182680"/>
            </a:xfrm>
            <a:custGeom>
              <a:avLst/>
              <a:gdLst/>
              <a:ahLst/>
              <a:rect l="l" t="t" r="r" b="b"/>
              <a:pathLst>
                <a:path w="4530" h="1375">
                  <a:moveTo>
                    <a:pt x="0" y="1375"/>
                  </a:moveTo>
                  <a:lnTo>
                    <a:pt x="2383" y="1364"/>
                  </a:lnTo>
                  <a:cubicBezTo>
                    <a:pt x="3138" y="1135"/>
                    <a:pt x="4083" y="284"/>
                    <a:pt x="4530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0" name=""/>
            <p:cNvSpPr/>
            <p:nvPr/>
          </p:nvSpPr>
          <p:spPr>
            <a:xfrm>
              <a:off x="4762440" y="4494240"/>
              <a:ext cx="3376800" cy="1298520"/>
            </a:xfrm>
            <a:custGeom>
              <a:avLst/>
              <a:gdLst/>
              <a:ahLst/>
              <a:rect l="l" t="t" r="r" b="b"/>
              <a:pathLst>
                <a:path w="2127" h="818">
                  <a:moveTo>
                    <a:pt x="0" y="818"/>
                  </a:moveTo>
                  <a:cubicBezTo>
                    <a:pt x="104" y="815"/>
                    <a:pt x="490" y="805"/>
                    <a:pt x="622" y="801"/>
                  </a:cubicBezTo>
                  <a:cubicBezTo>
                    <a:pt x="754" y="797"/>
                    <a:pt x="713" y="808"/>
                    <a:pt x="791" y="796"/>
                  </a:cubicBezTo>
                  <a:cubicBezTo>
                    <a:pt x="869" y="784"/>
                    <a:pt x="1013" y="754"/>
                    <a:pt x="1091" y="730"/>
                  </a:cubicBezTo>
                  <a:cubicBezTo>
                    <a:pt x="1169" y="706"/>
                    <a:pt x="1197" y="693"/>
                    <a:pt x="1260" y="654"/>
                  </a:cubicBezTo>
                  <a:cubicBezTo>
                    <a:pt x="1323" y="615"/>
                    <a:pt x="1326" y="603"/>
                    <a:pt x="1470" y="494"/>
                  </a:cubicBezTo>
                  <a:cubicBezTo>
                    <a:pt x="1614" y="385"/>
                    <a:pt x="1990" y="103"/>
                    <a:pt x="2127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1" name=""/>
            <p:cNvSpPr/>
            <p:nvPr/>
          </p:nvSpPr>
          <p:spPr>
            <a:xfrm rot="19360200">
              <a:off x="5828400" y="1163880"/>
              <a:ext cx="138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filtrován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22" name=""/>
          <p:cNvSpPr/>
          <p:nvPr/>
        </p:nvSpPr>
        <p:spPr>
          <a:xfrm>
            <a:off x="5661000" y="2298240"/>
            <a:ext cx="2469960" cy="5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Readsorbce HCO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cs-CZ" sz="2400" spc="-1" strike="noStrike" baseline="50000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3" name=""/>
          <p:cNvSpPr/>
          <p:nvPr/>
        </p:nvSpPr>
        <p:spPr>
          <a:xfrm rot="19464600">
            <a:off x="6099120" y="4566960"/>
            <a:ext cx="2122560" cy="5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Exkrece HCO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cs-CZ" sz="2400" spc="-1" strike="noStrike" baseline="5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4" name=""/>
          <p:cNvSpPr/>
          <p:nvPr/>
        </p:nvSpPr>
        <p:spPr>
          <a:xfrm rot="19497600">
            <a:off x="6785280" y="4965480"/>
            <a:ext cx="14853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při pCO</a:t>
            </a:r>
            <a:r>
              <a:rPr b="0" lang="cs-CZ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 = 60 tor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5" name=""/>
          <p:cNvSpPr/>
          <p:nvPr/>
        </p:nvSpPr>
        <p:spPr>
          <a:xfrm>
            <a:off x="6502680" y="2938680"/>
            <a:ext cx="14853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při pCO</a:t>
            </a:r>
            <a:r>
              <a:rPr b="0" lang="cs-CZ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 = 40 tor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6" name=""/>
          <p:cNvSpPr/>
          <p:nvPr/>
        </p:nvSpPr>
        <p:spPr>
          <a:xfrm>
            <a:off x="6667560" y="1951200"/>
            <a:ext cx="14853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při pCO</a:t>
            </a:r>
            <a:r>
              <a:rPr b="0" lang="cs-CZ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 = 60 tor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7" name=""/>
          <p:cNvSpPr/>
          <p:nvPr/>
        </p:nvSpPr>
        <p:spPr>
          <a:xfrm rot="19444800">
            <a:off x="6583320" y="4182840"/>
            <a:ext cx="14853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při pCO</a:t>
            </a:r>
            <a:r>
              <a:rPr b="0" lang="cs-CZ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 = 40 tor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29" name=""/>
          <p:cNvGrpSpPr/>
          <p:nvPr/>
        </p:nvGrpSpPr>
        <p:grpSpPr>
          <a:xfrm>
            <a:off x="243000" y="-30240"/>
            <a:ext cx="8793000" cy="6550200"/>
            <a:chOff x="243000" y="-30240"/>
            <a:chExt cx="8793000" cy="6550200"/>
          </a:xfrm>
        </p:grpSpPr>
        <p:sp>
          <p:nvSpPr>
            <p:cNvPr id="11030" name=""/>
            <p:cNvSpPr/>
            <p:nvPr/>
          </p:nvSpPr>
          <p:spPr>
            <a:xfrm>
              <a:off x="271440" y="15840"/>
              <a:ext cx="6362640" cy="6504120"/>
            </a:xfrm>
            <a:custGeom>
              <a:avLst/>
              <a:gdLst/>
              <a:ahLst/>
              <a:rect l="l" t="t" r="r" b="b"/>
              <a:pathLst>
                <a:path w="4008" h="4097">
                  <a:moveTo>
                    <a:pt x="10" y="1283"/>
                  </a:moveTo>
                  <a:lnTo>
                    <a:pt x="0" y="828"/>
                  </a:lnTo>
                  <a:lnTo>
                    <a:pt x="936" y="818"/>
                  </a:lnTo>
                  <a:lnTo>
                    <a:pt x="1117" y="838"/>
                  </a:lnTo>
                  <a:lnTo>
                    <a:pt x="1163" y="895"/>
                  </a:lnTo>
                  <a:lnTo>
                    <a:pt x="1184" y="1056"/>
                  </a:lnTo>
                  <a:lnTo>
                    <a:pt x="1200" y="3088"/>
                  </a:lnTo>
                  <a:lnTo>
                    <a:pt x="1225" y="3347"/>
                  </a:lnTo>
                  <a:lnTo>
                    <a:pt x="1251" y="3450"/>
                  </a:lnTo>
                  <a:lnTo>
                    <a:pt x="1329" y="3569"/>
                  </a:lnTo>
                  <a:lnTo>
                    <a:pt x="1381" y="3554"/>
                  </a:lnTo>
                  <a:lnTo>
                    <a:pt x="1453" y="3487"/>
                  </a:lnTo>
                  <a:lnTo>
                    <a:pt x="1494" y="3347"/>
                  </a:lnTo>
                  <a:lnTo>
                    <a:pt x="1531" y="2664"/>
                  </a:lnTo>
                  <a:lnTo>
                    <a:pt x="1520" y="1252"/>
                  </a:lnTo>
                  <a:lnTo>
                    <a:pt x="1536" y="192"/>
                  </a:lnTo>
                  <a:lnTo>
                    <a:pt x="1624" y="73"/>
                  </a:lnTo>
                  <a:lnTo>
                    <a:pt x="1815" y="11"/>
                  </a:lnTo>
                  <a:lnTo>
                    <a:pt x="2032" y="11"/>
                  </a:lnTo>
                  <a:lnTo>
                    <a:pt x="3729" y="0"/>
                  </a:lnTo>
                  <a:lnTo>
                    <a:pt x="3868" y="26"/>
                  </a:lnTo>
                  <a:lnTo>
                    <a:pt x="3951" y="57"/>
                  </a:lnTo>
                  <a:lnTo>
                    <a:pt x="4008" y="233"/>
                  </a:lnTo>
                  <a:lnTo>
                    <a:pt x="3998" y="4097"/>
                  </a:lnTo>
                  <a:lnTo>
                    <a:pt x="3553" y="4097"/>
                  </a:lnTo>
                  <a:lnTo>
                    <a:pt x="3548" y="812"/>
                  </a:lnTo>
                  <a:lnTo>
                    <a:pt x="3553" y="564"/>
                  </a:lnTo>
                  <a:lnTo>
                    <a:pt x="3501" y="414"/>
                  </a:lnTo>
                  <a:lnTo>
                    <a:pt x="3460" y="362"/>
                  </a:lnTo>
                  <a:lnTo>
                    <a:pt x="3289" y="300"/>
                  </a:lnTo>
                  <a:lnTo>
                    <a:pt x="3046" y="269"/>
                  </a:lnTo>
                  <a:lnTo>
                    <a:pt x="2999" y="274"/>
                  </a:lnTo>
                  <a:lnTo>
                    <a:pt x="2787" y="285"/>
                  </a:lnTo>
                  <a:lnTo>
                    <a:pt x="2493" y="306"/>
                  </a:lnTo>
                  <a:lnTo>
                    <a:pt x="2353" y="383"/>
                  </a:lnTo>
                  <a:lnTo>
                    <a:pt x="2306" y="487"/>
                  </a:lnTo>
                  <a:lnTo>
                    <a:pt x="2306" y="2980"/>
                  </a:lnTo>
                  <a:lnTo>
                    <a:pt x="2281" y="3497"/>
                  </a:lnTo>
                  <a:lnTo>
                    <a:pt x="2229" y="3756"/>
                  </a:lnTo>
                  <a:lnTo>
                    <a:pt x="2151" y="3895"/>
                  </a:lnTo>
                  <a:lnTo>
                    <a:pt x="2048" y="3952"/>
                  </a:lnTo>
                  <a:lnTo>
                    <a:pt x="1887" y="4004"/>
                  </a:lnTo>
                  <a:lnTo>
                    <a:pt x="1531" y="4030"/>
                  </a:lnTo>
                  <a:lnTo>
                    <a:pt x="1282" y="4014"/>
                  </a:lnTo>
                  <a:lnTo>
                    <a:pt x="1081" y="3957"/>
                  </a:lnTo>
                  <a:lnTo>
                    <a:pt x="920" y="3869"/>
                  </a:lnTo>
                  <a:lnTo>
                    <a:pt x="843" y="3735"/>
                  </a:lnTo>
                  <a:lnTo>
                    <a:pt x="781" y="3430"/>
                  </a:lnTo>
                  <a:lnTo>
                    <a:pt x="734" y="2633"/>
                  </a:lnTo>
                  <a:lnTo>
                    <a:pt x="760" y="1945"/>
                  </a:lnTo>
                  <a:cubicBezTo>
                    <a:pt x="760" y="1790"/>
                    <a:pt x="760" y="1635"/>
                    <a:pt x="760" y="1480"/>
                  </a:cubicBezTo>
                  <a:lnTo>
                    <a:pt x="734" y="1361"/>
                  </a:lnTo>
                  <a:lnTo>
                    <a:pt x="677" y="1314"/>
                  </a:lnTo>
                  <a:lnTo>
                    <a:pt x="507" y="1283"/>
                  </a:lnTo>
                  <a:lnTo>
                    <a:pt x="10" y="1283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1" name=""/>
            <p:cNvSpPr/>
            <p:nvPr/>
          </p:nvSpPr>
          <p:spPr>
            <a:xfrm>
              <a:off x="303120" y="406440"/>
              <a:ext cx="5639040" cy="6095880"/>
            </a:xfrm>
            <a:custGeom>
              <a:avLst/>
              <a:gdLst/>
              <a:ahLst/>
              <a:rect l="l" t="t" r="r" b="b"/>
              <a:pathLst>
                <a:path w="3552" h="3840">
                  <a:moveTo>
                    <a:pt x="0" y="1037"/>
                  </a:moveTo>
                  <a:cubicBezTo>
                    <a:pt x="74" y="1037"/>
                    <a:pt x="330" y="1032"/>
                    <a:pt x="447" y="1043"/>
                  </a:cubicBezTo>
                  <a:cubicBezTo>
                    <a:pt x="564" y="1054"/>
                    <a:pt x="655" y="1021"/>
                    <a:pt x="704" y="1103"/>
                  </a:cubicBezTo>
                  <a:cubicBezTo>
                    <a:pt x="753" y="1185"/>
                    <a:pt x="736" y="1256"/>
                    <a:pt x="742" y="1533"/>
                  </a:cubicBezTo>
                  <a:cubicBezTo>
                    <a:pt x="748" y="1810"/>
                    <a:pt x="711" y="2415"/>
                    <a:pt x="742" y="2766"/>
                  </a:cubicBezTo>
                  <a:cubicBezTo>
                    <a:pt x="773" y="3117"/>
                    <a:pt x="746" y="3474"/>
                    <a:pt x="927" y="3639"/>
                  </a:cubicBezTo>
                  <a:cubicBezTo>
                    <a:pt x="1108" y="3804"/>
                    <a:pt x="1608" y="3804"/>
                    <a:pt x="1827" y="3759"/>
                  </a:cubicBezTo>
                  <a:cubicBezTo>
                    <a:pt x="2046" y="3714"/>
                    <a:pt x="2165" y="3725"/>
                    <a:pt x="2242" y="3371"/>
                  </a:cubicBezTo>
                  <a:cubicBezTo>
                    <a:pt x="2319" y="3017"/>
                    <a:pt x="2278" y="2168"/>
                    <a:pt x="2291" y="1637"/>
                  </a:cubicBezTo>
                  <a:cubicBezTo>
                    <a:pt x="2304" y="1106"/>
                    <a:pt x="2235" y="372"/>
                    <a:pt x="2323" y="186"/>
                  </a:cubicBezTo>
                  <a:cubicBezTo>
                    <a:pt x="2411" y="0"/>
                    <a:pt x="2724" y="60"/>
                    <a:pt x="2891" y="44"/>
                  </a:cubicBezTo>
                  <a:cubicBezTo>
                    <a:pt x="3059" y="27"/>
                    <a:pt x="3228" y="41"/>
                    <a:pt x="3332" y="82"/>
                  </a:cubicBezTo>
                  <a:cubicBezTo>
                    <a:pt x="3436" y="123"/>
                    <a:pt x="3484" y="103"/>
                    <a:pt x="3518" y="289"/>
                  </a:cubicBezTo>
                  <a:cubicBezTo>
                    <a:pt x="3552" y="475"/>
                    <a:pt x="3531" y="608"/>
                    <a:pt x="3534" y="1200"/>
                  </a:cubicBezTo>
                  <a:cubicBezTo>
                    <a:pt x="3537" y="1792"/>
                    <a:pt x="3534" y="3290"/>
                    <a:pt x="3534" y="384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2" name=""/>
            <p:cNvSpPr/>
            <p:nvPr/>
          </p:nvSpPr>
          <p:spPr>
            <a:xfrm>
              <a:off x="1471680" y="-30240"/>
              <a:ext cx="5162400" cy="6550200"/>
            </a:xfrm>
            <a:custGeom>
              <a:avLst/>
              <a:gdLst/>
              <a:ahLst/>
              <a:rect l="l" t="t" r="r" b="b"/>
              <a:pathLst>
                <a:path w="3252" h="4126">
                  <a:moveTo>
                    <a:pt x="0" y="848"/>
                  </a:moveTo>
                  <a:cubicBezTo>
                    <a:pt x="6" y="848"/>
                    <a:pt x="18" y="841"/>
                    <a:pt x="82" y="848"/>
                  </a:cubicBezTo>
                  <a:cubicBezTo>
                    <a:pt x="146" y="855"/>
                    <a:pt x="329" y="819"/>
                    <a:pt x="387" y="892"/>
                  </a:cubicBezTo>
                  <a:cubicBezTo>
                    <a:pt x="445" y="965"/>
                    <a:pt x="418" y="879"/>
                    <a:pt x="431" y="1284"/>
                  </a:cubicBezTo>
                  <a:cubicBezTo>
                    <a:pt x="444" y="1689"/>
                    <a:pt x="411" y="2990"/>
                    <a:pt x="464" y="3324"/>
                  </a:cubicBezTo>
                  <a:cubicBezTo>
                    <a:pt x="517" y="3658"/>
                    <a:pt x="695" y="3730"/>
                    <a:pt x="747" y="3291"/>
                  </a:cubicBezTo>
                  <a:cubicBezTo>
                    <a:pt x="799" y="2852"/>
                    <a:pt x="751" y="1221"/>
                    <a:pt x="775" y="690"/>
                  </a:cubicBezTo>
                  <a:cubicBezTo>
                    <a:pt x="799" y="159"/>
                    <a:pt x="742" y="215"/>
                    <a:pt x="889" y="106"/>
                  </a:cubicBezTo>
                  <a:cubicBezTo>
                    <a:pt x="1041" y="0"/>
                    <a:pt x="1416" y="48"/>
                    <a:pt x="1658" y="35"/>
                  </a:cubicBezTo>
                  <a:cubicBezTo>
                    <a:pt x="1900" y="22"/>
                    <a:pt x="2109" y="29"/>
                    <a:pt x="2340" y="30"/>
                  </a:cubicBezTo>
                  <a:cubicBezTo>
                    <a:pt x="2571" y="31"/>
                    <a:pt x="2898" y="20"/>
                    <a:pt x="3044" y="41"/>
                  </a:cubicBezTo>
                  <a:cubicBezTo>
                    <a:pt x="3190" y="62"/>
                    <a:pt x="3184" y="87"/>
                    <a:pt x="3218" y="155"/>
                  </a:cubicBezTo>
                  <a:cubicBezTo>
                    <a:pt x="3252" y="223"/>
                    <a:pt x="3241" y="317"/>
                    <a:pt x="3246" y="450"/>
                  </a:cubicBezTo>
                  <a:cubicBezTo>
                    <a:pt x="3251" y="583"/>
                    <a:pt x="3246" y="772"/>
                    <a:pt x="3246" y="952"/>
                  </a:cubicBezTo>
                  <a:cubicBezTo>
                    <a:pt x="3246" y="1132"/>
                    <a:pt x="3247" y="1243"/>
                    <a:pt x="3246" y="1530"/>
                  </a:cubicBezTo>
                  <a:cubicBezTo>
                    <a:pt x="3245" y="1817"/>
                    <a:pt x="3241" y="2242"/>
                    <a:pt x="3240" y="2675"/>
                  </a:cubicBezTo>
                  <a:cubicBezTo>
                    <a:pt x="3239" y="3108"/>
                    <a:pt x="3240" y="3824"/>
                    <a:pt x="3240" y="4126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3" name=""/>
            <p:cNvSpPr/>
            <p:nvPr/>
          </p:nvSpPr>
          <p:spPr>
            <a:xfrm>
              <a:off x="246240" y="388800"/>
              <a:ext cx="1325520" cy="938520"/>
            </a:xfrm>
            <a:prstGeom prst="roundRect">
              <a:avLst>
                <a:gd name="adj" fmla="val 16667"/>
              </a:avLst>
            </a:prstGeom>
            <a:solidFill>
              <a:srgbClr val="66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4" name=""/>
            <p:cNvSpPr/>
            <p:nvPr/>
          </p:nvSpPr>
          <p:spPr>
            <a:xfrm>
              <a:off x="3936960" y="811080"/>
              <a:ext cx="1255680" cy="2311560"/>
            </a:xfrm>
            <a:custGeom>
              <a:avLst/>
              <a:gdLst>
                <a:gd name="textAreaLeft" fmla="*/ 61200 w 1255680"/>
                <a:gd name="textAreaRight" fmla="*/ 1194480 w 1255680"/>
                <a:gd name="textAreaTop" fmla="*/ 61200 h 2311560"/>
                <a:gd name="textAreaBottom" fmla="*/ 2250360 h 2311560"/>
              </a:gdLst>
              <a:ahLst/>
              <a:rect l="textAreaLeft" t="textAreaTop" r="textAreaRight" b="textAreaBottom"/>
              <a:pathLst>
                <a:path w="21600" h="39758">
                  <a:moveTo>
                    <a:pt x="3600" y="0"/>
                  </a:moveTo>
                  <a:arcTo wR="3600" hR="3600" stAng="16200000" swAng="-5400000"/>
                  <a:lnTo>
                    <a:pt x="0" y="36158"/>
                  </a:lnTo>
                  <a:arcTo wR="3600" hR="3600" stAng="10800000" swAng="-5400000"/>
                  <a:lnTo>
                    <a:pt x="18000" y="3975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66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5" name=""/>
            <p:cNvSpPr/>
            <p:nvPr/>
          </p:nvSpPr>
          <p:spPr>
            <a:xfrm>
              <a:off x="6615000" y="4189320"/>
              <a:ext cx="1463760" cy="1697040"/>
            </a:xfrm>
            <a:custGeom>
              <a:avLst/>
              <a:gdLst>
                <a:gd name="textAreaLeft" fmla="*/ 71280 w 1463760"/>
                <a:gd name="textAreaRight" fmla="*/ 1392480 w 1463760"/>
                <a:gd name="textAreaTop" fmla="*/ 71280 h 1697040"/>
                <a:gd name="textAreaBottom" fmla="*/ 1625760 h 1697040"/>
              </a:gdLst>
              <a:ahLst/>
              <a:rect l="textAreaLeft" t="textAreaTop" r="textAreaRight" b="textAreaBottom"/>
              <a:pathLst>
                <a:path w="21600" h="25042">
                  <a:moveTo>
                    <a:pt x="3600" y="0"/>
                  </a:moveTo>
                  <a:arcTo wR="3600" hR="3600" stAng="16200000" swAng="-5400000"/>
                  <a:lnTo>
                    <a:pt x="0" y="21442"/>
                  </a:lnTo>
                  <a:arcTo wR="3600" hR="3600" stAng="10800000" swAng="-5400000"/>
                  <a:lnTo>
                    <a:pt x="18000" y="2504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66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6" name=""/>
            <p:cNvSpPr/>
            <p:nvPr/>
          </p:nvSpPr>
          <p:spPr>
            <a:xfrm>
              <a:off x="779400" y="328680"/>
              <a:ext cx="52560" cy="623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7" name=""/>
            <p:cNvSpPr/>
            <p:nvPr/>
          </p:nvSpPr>
          <p:spPr>
            <a:xfrm>
              <a:off x="602280" y="854280"/>
              <a:ext cx="598320" cy="38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600" spc="-1" strike="noStrike">
                  <a:solidFill>
                    <a:srgbClr val="000000"/>
                  </a:solidFill>
                  <a:latin typeface="Times New Roman"/>
                </a:rPr>
                <a:t>NH</a:t>
              </a:r>
              <a:r>
                <a:rPr b="0" lang="cs-CZ" sz="16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0" lang="cs-CZ" sz="1600" spc="-1" strike="noStrike" baseline="50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8" name=""/>
            <p:cNvSpPr/>
            <p:nvPr/>
          </p:nvSpPr>
          <p:spPr>
            <a:xfrm>
              <a:off x="1099440" y="861480"/>
              <a:ext cx="482400" cy="35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600" spc="-1" strike="noStrike">
                  <a:solidFill>
                    <a:srgbClr val="000000"/>
                  </a:solidFill>
                  <a:latin typeface="Times New Roman"/>
                </a:rPr>
                <a:t>Na</a:t>
              </a:r>
              <a:r>
                <a:rPr b="0" lang="cs-CZ" sz="1600" spc="-1" strike="noStrike" baseline="50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9" name=""/>
            <p:cNvSpPr/>
            <p:nvPr/>
          </p:nvSpPr>
          <p:spPr>
            <a:xfrm>
              <a:off x="648360" y="1536840"/>
              <a:ext cx="598320" cy="38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600" spc="-1" strike="noStrike">
                  <a:solidFill>
                    <a:srgbClr val="000000"/>
                  </a:solidFill>
                  <a:latin typeface="Times New Roman"/>
                </a:rPr>
                <a:t>NH</a:t>
              </a:r>
              <a:r>
                <a:rPr b="0" lang="cs-CZ" sz="16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0" lang="cs-CZ" sz="1600" spc="-1" strike="noStrike" baseline="50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0" name=""/>
            <p:cNvSpPr/>
            <p:nvPr/>
          </p:nvSpPr>
          <p:spPr>
            <a:xfrm>
              <a:off x="950760" y="1192320"/>
              <a:ext cx="277920" cy="260280"/>
            </a:xfrm>
            <a:prstGeom prst="ellipse">
              <a:avLst/>
            </a:prstGeom>
            <a:solidFill>
              <a:srgbClr val="ff33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1" name=""/>
            <p:cNvSpPr/>
            <p:nvPr/>
          </p:nvSpPr>
          <p:spPr>
            <a:xfrm>
              <a:off x="936720" y="1185840"/>
              <a:ext cx="7920" cy="398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2" name=""/>
            <p:cNvSpPr/>
            <p:nvPr/>
          </p:nvSpPr>
          <p:spPr>
            <a:xfrm flipV="1">
              <a:off x="1233360" y="1141200"/>
              <a:ext cx="0" cy="407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3" name=""/>
            <p:cNvSpPr/>
            <p:nvPr/>
          </p:nvSpPr>
          <p:spPr>
            <a:xfrm>
              <a:off x="254160" y="-360"/>
              <a:ext cx="947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600" spc="-1" strike="noStrike">
                  <a:solidFill>
                    <a:srgbClr val="000000"/>
                  </a:solidFill>
                  <a:latin typeface="Times New Roman"/>
                </a:rPr>
                <a:t>Glutam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4" name=""/>
            <p:cNvSpPr/>
            <p:nvPr/>
          </p:nvSpPr>
          <p:spPr>
            <a:xfrm flipH="1" flipV="1">
              <a:off x="1203120" y="510840"/>
              <a:ext cx="52200" cy="428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045" name=""/>
            <p:cNvGrpSpPr/>
            <p:nvPr/>
          </p:nvGrpSpPr>
          <p:grpSpPr>
            <a:xfrm>
              <a:off x="255240" y="447480"/>
              <a:ext cx="1188000" cy="337320"/>
              <a:chOff x="255240" y="447480"/>
              <a:chExt cx="1188000" cy="337320"/>
            </a:xfrm>
          </p:grpSpPr>
          <p:sp>
            <p:nvSpPr>
              <p:cNvPr id="11046" name=""/>
              <p:cNvSpPr/>
              <p:nvPr/>
            </p:nvSpPr>
            <p:spPr>
              <a:xfrm>
                <a:off x="303120" y="512640"/>
                <a:ext cx="1090800" cy="258480"/>
              </a:xfrm>
              <a:prstGeom prst="rect">
                <a:avLst/>
              </a:prstGeom>
              <a:solidFill>
                <a:srgbClr val="66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7" name=""/>
              <p:cNvSpPr/>
              <p:nvPr/>
            </p:nvSpPr>
            <p:spPr>
              <a:xfrm>
                <a:off x="255240" y="447480"/>
                <a:ext cx="1188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cs-CZ" sz="1600" spc="-1" strike="noStrike">
                    <a:solidFill>
                      <a:srgbClr val="000000"/>
                    </a:solidFill>
                    <a:latin typeface="Times New Roman"/>
                  </a:rPr>
                  <a:t>glutamináz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048" name=""/>
            <p:cNvSpPr/>
            <p:nvPr/>
          </p:nvSpPr>
          <p:spPr>
            <a:xfrm>
              <a:off x="2550240" y="5856480"/>
              <a:ext cx="598320" cy="38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600" spc="-1" strike="noStrike">
                  <a:solidFill>
                    <a:srgbClr val="000000"/>
                  </a:solidFill>
                  <a:latin typeface="Times New Roman"/>
                </a:rPr>
                <a:t>NH</a:t>
              </a:r>
              <a:r>
                <a:rPr b="0" lang="cs-CZ" sz="16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0" lang="cs-CZ" sz="1600" spc="-1" strike="noStrike" baseline="50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9" name=""/>
            <p:cNvSpPr/>
            <p:nvPr/>
          </p:nvSpPr>
          <p:spPr>
            <a:xfrm>
              <a:off x="4218120" y="5877360"/>
              <a:ext cx="5461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600" spc="-1" strike="noStrike">
                  <a:solidFill>
                    <a:srgbClr val="000000"/>
                  </a:solidFill>
                  <a:latin typeface="Times New Roman"/>
                </a:rPr>
                <a:t>NH</a:t>
              </a:r>
              <a:r>
                <a:rPr b="0" lang="cs-CZ" sz="16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0" name=""/>
            <p:cNvSpPr/>
            <p:nvPr/>
          </p:nvSpPr>
          <p:spPr>
            <a:xfrm>
              <a:off x="3375720" y="5230440"/>
              <a:ext cx="392400" cy="35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6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0" lang="cs-CZ" sz="1600" spc="-1" strike="noStrike" baseline="50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1" name=""/>
            <p:cNvSpPr/>
            <p:nvPr/>
          </p:nvSpPr>
          <p:spPr>
            <a:xfrm>
              <a:off x="2771640" y="5177160"/>
              <a:ext cx="727200" cy="38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600" spc="-1" strike="noStrike">
                  <a:solidFill>
                    <a:srgbClr val="000000"/>
                  </a:solidFill>
                  <a:latin typeface="Times New Roman"/>
                </a:rPr>
                <a:t>HCO</a:t>
              </a:r>
              <a:r>
                <a:rPr b="0" lang="cs-CZ" sz="16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0" lang="cs-CZ" sz="1600" spc="-1" strike="noStrike" baseline="50000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2" name=""/>
            <p:cNvSpPr/>
            <p:nvPr/>
          </p:nvSpPr>
          <p:spPr>
            <a:xfrm>
              <a:off x="3090960" y="6078600"/>
              <a:ext cx="12031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3" name=""/>
            <p:cNvSpPr/>
            <p:nvPr/>
          </p:nvSpPr>
          <p:spPr>
            <a:xfrm>
              <a:off x="3254400" y="5551560"/>
              <a:ext cx="270000" cy="528480"/>
            </a:xfrm>
            <a:custGeom>
              <a:avLst/>
              <a:gdLst/>
              <a:ahLst/>
              <a:rect l="l" t="t" r="r" b="b"/>
              <a:pathLst>
                <a:path w="170" h="333">
                  <a:moveTo>
                    <a:pt x="0" y="330"/>
                  </a:moveTo>
                  <a:cubicBezTo>
                    <a:pt x="24" y="321"/>
                    <a:pt x="116" y="333"/>
                    <a:pt x="143" y="278"/>
                  </a:cubicBezTo>
                  <a:cubicBezTo>
                    <a:pt x="170" y="223"/>
                    <a:pt x="161" y="58"/>
                    <a:pt x="165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4" name=""/>
            <p:cNvSpPr/>
            <p:nvPr/>
          </p:nvSpPr>
          <p:spPr>
            <a:xfrm>
              <a:off x="3182760" y="4366080"/>
              <a:ext cx="7272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600" spc="-1" strike="noStrike">
                  <a:solidFill>
                    <a:srgbClr val="000000"/>
                  </a:solidFill>
                  <a:latin typeface="Times New Roman"/>
                </a:rPr>
                <a:t>CO</a:t>
              </a:r>
              <a:r>
                <a:rPr b="0" lang="cs-CZ" sz="1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5" name=""/>
            <p:cNvSpPr/>
            <p:nvPr/>
          </p:nvSpPr>
          <p:spPr>
            <a:xfrm flipH="1" flipV="1">
              <a:off x="3540240" y="4763880"/>
              <a:ext cx="1440" cy="441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6" name=""/>
            <p:cNvSpPr/>
            <p:nvPr/>
          </p:nvSpPr>
          <p:spPr>
            <a:xfrm>
              <a:off x="3265560" y="4890960"/>
              <a:ext cx="277920" cy="346320"/>
            </a:xfrm>
            <a:custGeom>
              <a:avLst/>
              <a:gdLst/>
              <a:ahLst/>
              <a:rect l="l" t="t" r="r" b="b"/>
              <a:pathLst>
                <a:path w="175" h="218">
                  <a:moveTo>
                    <a:pt x="0" y="218"/>
                  </a:moveTo>
                  <a:cubicBezTo>
                    <a:pt x="24" y="201"/>
                    <a:pt x="119" y="152"/>
                    <a:pt x="147" y="116"/>
                  </a:cubicBezTo>
                  <a:cubicBezTo>
                    <a:pt x="175" y="80"/>
                    <a:pt x="165" y="24"/>
                    <a:pt x="169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7" name=""/>
            <p:cNvSpPr/>
            <p:nvPr/>
          </p:nvSpPr>
          <p:spPr>
            <a:xfrm>
              <a:off x="3527280" y="4103640"/>
              <a:ext cx="611280" cy="314280"/>
            </a:xfrm>
            <a:custGeom>
              <a:avLst/>
              <a:gdLst/>
              <a:ahLst/>
              <a:rect l="l" t="t" r="r" b="b"/>
              <a:pathLst>
                <a:path w="385" h="198">
                  <a:moveTo>
                    <a:pt x="9" y="198"/>
                  </a:moveTo>
                  <a:cubicBezTo>
                    <a:pt x="18" y="170"/>
                    <a:pt x="0" y="58"/>
                    <a:pt x="63" y="29"/>
                  </a:cubicBezTo>
                  <a:cubicBezTo>
                    <a:pt x="126" y="0"/>
                    <a:pt x="318" y="24"/>
                    <a:pt x="385" y="23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8" name=""/>
            <p:cNvSpPr/>
            <p:nvPr/>
          </p:nvSpPr>
          <p:spPr>
            <a:xfrm>
              <a:off x="4011480" y="3937320"/>
              <a:ext cx="7272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600" spc="-1" strike="noStrike">
                  <a:solidFill>
                    <a:srgbClr val="000000"/>
                  </a:solidFill>
                  <a:latin typeface="Times New Roman"/>
                </a:rPr>
                <a:t>CO</a:t>
              </a:r>
              <a:r>
                <a:rPr b="0" lang="cs-CZ" sz="1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9" name=""/>
            <p:cNvSpPr/>
            <p:nvPr/>
          </p:nvSpPr>
          <p:spPr>
            <a:xfrm>
              <a:off x="4163040" y="1882800"/>
              <a:ext cx="598320" cy="38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600" spc="-1" strike="noStrike">
                  <a:solidFill>
                    <a:srgbClr val="000000"/>
                  </a:solidFill>
                  <a:latin typeface="Times New Roman"/>
                </a:rPr>
                <a:t>NH</a:t>
              </a:r>
              <a:r>
                <a:rPr b="0" lang="cs-CZ" sz="16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0" lang="cs-CZ" sz="1600" spc="-1" strike="noStrike" baseline="50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0" name=""/>
            <p:cNvSpPr/>
            <p:nvPr/>
          </p:nvSpPr>
          <p:spPr>
            <a:xfrm>
              <a:off x="4707360" y="1499760"/>
              <a:ext cx="392400" cy="35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6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0" lang="cs-CZ" sz="1600" spc="-1" strike="noStrike" baseline="50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1" name=""/>
            <p:cNvSpPr/>
            <p:nvPr/>
          </p:nvSpPr>
          <p:spPr>
            <a:xfrm>
              <a:off x="2743200" y="1281240"/>
              <a:ext cx="727200" cy="38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600" spc="-1" strike="noStrike">
                  <a:solidFill>
                    <a:srgbClr val="000000"/>
                  </a:solidFill>
                  <a:latin typeface="Times New Roman"/>
                </a:rPr>
                <a:t>HCO</a:t>
              </a:r>
              <a:r>
                <a:rPr b="0" lang="cs-CZ" sz="16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0" lang="cs-CZ" sz="1600" spc="-1" strike="noStrike" baseline="50000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2" name=""/>
            <p:cNvSpPr/>
            <p:nvPr/>
          </p:nvSpPr>
          <p:spPr>
            <a:xfrm flipV="1">
              <a:off x="4632480" y="2066760"/>
              <a:ext cx="771480" cy="6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3" name=""/>
            <p:cNvSpPr/>
            <p:nvPr/>
          </p:nvSpPr>
          <p:spPr>
            <a:xfrm>
              <a:off x="4648320" y="1830240"/>
              <a:ext cx="225360" cy="241560"/>
            </a:xfrm>
            <a:custGeom>
              <a:avLst/>
              <a:gdLst/>
              <a:ahLst/>
              <a:rect l="l" t="t" r="r" b="b"/>
              <a:pathLst>
                <a:path w="170" h="333">
                  <a:moveTo>
                    <a:pt x="0" y="330"/>
                  </a:moveTo>
                  <a:cubicBezTo>
                    <a:pt x="24" y="321"/>
                    <a:pt x="116" y="333"/>
                    <a:pt x="143" y="278"/>
                  </a:cubicBezTo>
                  <a:cubicBezTo>
                    <a:pt x="170" y="223"/>
                    <a:pt x="161" y="58"/>
                    <a:pt x="165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4" name=""/>
            <p:cNvSpPr/>
            <p:nvPr/>
          </p:nvSpPr>
          <p:spPr>
            <a:xfrm>
              <a:off x="4629240" y="754560"/>
              <a:ext cx="7268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600" spc="-1" strike="noStrike">
                  <a:solidFill>
                    <a:srgbClr val="000000"/>
                  </a:solidFill>
                  <a:latin typeface="Times New Roman"/>
                </a:rPr>
                <a:t>CO</a:t>
              </a:r>
              <a:r>
                <a:rPr b="0" lang="cs-CZ" sz="1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5" name=""/>
            <p:cNvSpPr/>
            <p:nvPr/>
          </p:nvSpPr>
          <p:spPr>
            <a:xfrm>
              <a:off x="3486240" y="1077840"/>
              <a:ext cx="1334880" cy="473040"/>
            </a:xfrm>
            <a:custGeom>
              <a:avLst/>
              <a:gdLst/>
              <a:ahLst/>
              <a:rect l="l" t="t" r="r" b="b"/>
              <a:pathLst>
                <a:path w="841" h="298">
                  <a:moveTo>
                    <a:pt x="841" y="298"/>
                  </a:moveTo>
                  <a:cubicBezTo>
                    <a:pt x="833" y="282"/>
                    <a:pt x="827" y="218"/>
                    <a:pt x="787" y="200"/>
                  </a:cubicBezTo>
                  <a:cubicBezTo>
                    <a:pt x="747" y="182"/>
                    <a:pt x="717" y="192"/>
                    <a:pt x="601" y="189"/>
                  </a:cubicBezTo>
                  <a:cubicBezTo>
                    <a:pt x="485" y="186"/>
                    <a:pt x="186" y="212"/>
                    <a:pt x="93" y="180"/>
                  </a:cubicBezTo>
                  <a:cubicBezTo>
                    <a:pt x="0" y="148"/>
                    <a:pt x="53" y="37"/>
                    <a:pt x="43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6" name=""/>
            <p:cNvSpPr/>
            <p:nvPr/>
          </p:nvSpPr>
          <p:spPr>
            <a:xfrm>
              <a:off x="3311640" y="1190520"/>
              <a:ext cx="217440" cy="290520"/>
            </a:xfrm>
            <a:custGeom>
              <a:avLst/>
              <a:gdLst/>
              <a:ahLst/>
              <a:rect l="l" t="t" r="r" b="b"/>
              <a:pathLst>
                <a:path w="137" h="183">
                  <a:moveTo>
                    <a:pt x="0" y="176"/>
                  </a:moveTo>
                  <a:cubicBezTo>
                    <a:pt x="18" y="171"/>
                    <a:pt x="88" y="183"/>
                    <a:pt x="111" y="154"/>
                  </a:cubicBezTo>
                  <a:cubicBezTo>
                    <a:pt x="134" y="125"/>
                    <a:pt x="132" y="32"/>
                    <a:pt x="137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7" name=""/>
            <p:cNvSpPr/>
            <p:nvPr/>
          </p:nvSpPr>
          <p:spPr>
            <a:xfrm>
              <a:off x="3129120" y="751320"/>
              <a:ext cx="7268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600" spc="-1" strike="noStrike">
                  <a:solidFill>
                    <a:srgbClr val="000000"/>
                  </a:solidFill>
                  <a:latin typeface="Times New Roman"/>
                </a:rPr>
                <a:t>CO</a:t>
              </a:r>
              <a:r>
                <a:rPr b="0" lang="cs-CZ" sz="1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8" name=""/>
            <p:cNvSpPr/>
            <p:nvPr/>
          </p:nvSpPr>
          <p:spPr>
            <a:xfrm>
              <a:off x="3701880" y="941400"/>
              <a:ext cx="1047960" cy="11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9" name=""/>
            <p:cNvSpPr/>
            <p:nvPr/>
          </p:nvSpPr>
          <p:spPr>
            <a:xfrm>
              <a:off x="5396040" y="1888200"/>
              <a:ext cx="5461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600" spc="-1" strike="noStrike">
                  <a:solidFill>
                    <a:srgbClr val="000000"/>
                  </a:solidFill>
                  <a:latin typeface="Times New Roman"/>
                </a:rPr>
                <a:t>NH</a:t>
              </a:r>
              <a:r>
                <a:rPr b="0" lang="cs-CZ" sz="16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0" name=""/>
            <p:cNvSpPr/>
            <p:nvPr/>
          </p:nvSpPr>
          <p:spPr>
            <a:xfrm>
              <a:off x="2925000" y="1851120"/>
              <a:ext cx="598320" cy="38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600" spc="-1" strike="noStrike">
                  <a:solidFill>
                    <a:srgbClr val="000000"/>
                  </a:solidFill>
                  <a:latin typeface="Times New Roman"/>
                </a:rPr>
                <a:t>NH</a:t>
              </a:r>
              <a:r>
                <a:rPr b="0" lang="cs-CZ" sz="16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0" lang="cs-CZ" sz="1600" spc="-1" strike="noStrike" baseline="50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1" name=""/>
            <p:cNvSpPr/>
            <p:nvPr/>
          </p:nvSpPr>
          <p:spPr>
            <a:xfrm>
              <a:off x="3825720" y="2424240"/>
              <a:ext cx="277920" cy="326880"/>
            </a:xfrm>
            <a:prstGeom prst="ellipse">
              <a:avLst/>
            </a:prstGeom>
            <a:solidFill>
              <a:srgbClr val="ff33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2" name=""/>
            <p:cNvSpPr/>
            <p:nvPr/>
          </p:nvSpPr>
          <p:spPr>
            <a:xfrm>
              <a:off x="3525840" y="2668680"/>
              <a:ext cx="849240" cy="392040"/>
            </a:xfrm>
            <a:custGeom>
              <a:avLst/>
              <a:gdLst/>
              <a:ahLst/>
              <a:rect l="l" t="t" r="r" b="b"/>
              <a:pathLst>
                <a:path w="535" h="247">
                  <a:moveTo>
                    <a:pt x="0" y="160"/>
                  </a:moveTo>
                  <a:cubicBezTo>
                    <a:pt x="17" y="143"/>
                    <a:pt x="67" y="81"/>
                    <a:pt x="104" y="56"/>
                  </a:cubicBezTo>
                  <a:cubicBezTo>
                    <a:pt x="141" y="31"/>
                    <a:pt x="185" y="14"/>
                    <a:pt x="224" y="7"/>
                  </a:cubicBezTo>
                  <a:cubicBezTo>
                    <a:pt x="263" y="0"/>
                    <a:pt x="304" y="0"/>
                    <a:pt x="339" y="13"/>
                  </a:cubicBezTo>
                  <a:cubicBezTo>
                    <a:pt x="374" y="26"/>
                    <a:pt x="404" y="45"/>
                    <a:pt x="437" y="84"/>
                  </a:cubicBezTo>
                  <a:cubicBezTo>
                    <a:pt x="470" y="123"/>
                    <a:pt x="515" y="213"/>
                    <a:pt x="535" y="24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3" name=""/>
            <p:cNvSpPr/>
            <p:nvPr/>
          </p:nvSpPr>
          <p:spPr>
            <a:xfrm>
              <a:off x="3595680" y="2619360"/>
              <a:ext cx="817560" cy="11160"/>
            </a:xfrm>
            <a:custGeom>
              <a:avLst/>
              <a:gdLst/>
              <a:ahLst/>
              <a:rect l="l" t="t" r="r" b="b"/>
              <a:pathLst>
                <a:path w="515" h="7">
                  <a:moveTo>
                    <a:pt x="0" y="0"/>
                  </a:moveTo>
                  <a:lnTo>
                    <a:pt x="515" y="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34560" bIns="-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4" name=""/>
            <p:cNvSpPr/>
            <p:nvPr/>
          </p:nvSpPr>
          <p:spPr>
            <a:xfrm>
              <a:off x="3294720" y="2885760"/>
              <a:ext cx="482400" cy="35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600" spc="-1" strike="noStrike">
                  <a:solidFill>
                    <a:srgbClr val="000000"/>
                  </a:solidFill>
                  <a:latin typeface="Times New Roman"/>
                </a:rPr>
                <a:t>Na</a:t>
              </a:r>
              <a:r>
                <a:rPr b="0" lang="cs-CZ" sz="1600" spc="-1" strike="noStrike" baseline="50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5" name=""/>
            <p:cNvSpPr/>
            <p:nvPr/>
          </p:nvSpPr>
          <p:spPr>
            <a:xfrm>
              <a:off x="3243600" y="2444400"/>
              <a:ext cx="412200" cy="35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600" spc="-1" strike="noStrike">
                  <a:solidFill>
                    <a:srgbClr val="000000"/>
                  </a:solidFill>
                  <a:latin typeface="Times New Roman"/>
                </a:rPr>
                <a:t>Cl</a:t>
              </a:r>
              <a:r>
                <a:rPr b="0" lang="cs-CZ" sz="1600" spc="-1" strike="noStrike" baseline="50000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6" name=""/>
            <p:cNvSpPr/>
            <p:nvPr/>
          </p:nvSpPr>
          <p:spPr>
            <a:xfrm>
              <a:off x="3603600" y="2394000"/>
              <a:ext cx="831960" cy="198360"/>
            </a:xfrm>
            <a:custGeom>
              <a:avLst/>
              <a:gdLst/>
              <a:ahLst/>
              <a:rect l="l" t="t" r="r" b="b"/>
              <a:pathLst>
                <a:path w="578" h="136">
                  <a:moveTo>
                    <a:pt x="0" y="0"/>
                  </a:moveTo>
                  <a:cubicBezTo>
                    <a:pt x="18" y="13"/>
                    <a:pt x="63" y="50"/>
                    <a:pt x="109" y="71"/>
                  </a:cubicBezTo>
                  <a:cubicBezTo>
                    <a:pt x="155" y="92"/>
                    <a:pt x="200" y="136"/>
                    <a:pt x="278" y="126"/>
                  </a:cubicBezTo>
                  <a:cubicBezTo>
                    <a:pt x="356" y="116"/>
                    <a:pt x="516" y="35"/>
                    <a:pt x="578" y="11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7" name=""/>
            <p:cNvSpPr/>
            <p:nvPr/>
          </p:nvSpPr>
          <p:spPr>
            <a:xfrm>
              <a:off x="3386160" y="2085840"/>
              <a:ext cx="1023840" cy="471600"/>
            </a:xfrm>
            <a:custGeom>
              <a:avLst/>
              <a:gdLst/>
              <a:ahLst/>
              <a:rect l="l" t="t" r="r" b="b"/>
              <a:pathLst>
                <a:path w="645" h="297">
                  <a:moveTo>
                    <a:pt x="0" y="0"/>
                  </a:moveTo>
                  <a:cubicBezTo>
                    <a:pt x="25" y="10"/>
                    <a:pt x="93" y="15"/>
                    <a:pt x="152" y="60"/>
                  </a:cubicBezTo>
                  <a:cubicBezTo>
                    <a:pt x="211" y="105"/>
                    <a:pt x="301" y="245"/>
                    <a:pt x="356" y="271"/>
                  </a:cubicBezTo>
                  <a:cubicBezTo>
                    <a:pt x="411" y="297"/>
                    <a:pt x="433" y="251"/>
                    <a:pt x="481" y="216"/>
                  </a:cubicBezTo>
                  <a:cubicBezTo>
                    <a:pt x="529" y="181"/>
                    <a:pt x="611" y="95"/>
                    <a:pt x="645" y="63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8" name=""/>
            <p:cNvSpPr/>
            <p:nvPr/>
          </p:nvSpPr>
          <p:spPr>
            <a:xfrm>
              <a:off x="3273840" y="2172960"/>
              <a:ext cx="412200" cy="35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600" spc="-1" strike="noStrike">
                  <a:solidFill>
                    <a:srgbClr val="000000"/>
                  </a:solidFill>
                  <a:latin typeface="Times New Roman"/>
                </a:rPr>
                <a:t>Cl</a:t>
              </a:r>
              <a:r>
                <a:rPr b="0" lang="cs-CZ" sz="1600" spc="-1" strike="noStrike" baseline="50000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9" name=""/>
            <p:cNvSpPr/>
            <p:nvPr/>
          </p:nvSpPr>
          <p:spPr>
            <a:xfrm>
              <a:off x="3811680" y="1379520"/>
              <a:ext cx="277560" cy="260280"/>
            </a:xfrm>
            <a:prstGeom prst="ellipse">
              <a:avLst/>
            </a:prstGeom>
            <a:solidFill>
              <a:srgbClr val="ff33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0" name=""/>
            <p:cNvSpPr/>
            <p:nvPr/>
          </p:nvSpPr>
          <p:spPr>
            <a:xfrm>
              <a:off x="4151880" y="1490400"/>
              <a:ext cx="482400" cy="35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600" spc="-1" strike="noStrike">
                  <a:solidFill>
                    <a:srgbClr val="000000"/>
                  </a:solidFill>
                  <a:latin typeface="Times New Roman"/>
                </a:rPr>
                <a:t>Na</a:t>
              </a:r>
              <a:r>
                <a:rPr b="0" lang="cs-CZ" sz="1600" spc="-1" strike="noStrike" baseline="50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1" name=""/>
            <p:cNvSpPr/>
            <p:nvPr/>
          </p:nvSpPr>
          <p:spPr>
            <a:xfrm>
              <a:off x="3722760" y="1633680"/>
              <a:ext cx="485640" cy="7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2" name=""/>
            <p:cNvSpPr/>
            <p:nvPr/>
          </p:nvSpPr>
          <p:spPr>
            <a:xfrm>
              <a:off x="1739880" y="2293920"/>
              <a:ext cx="3835440" cy="1523880"/>
            </a:xfrm>
            <a:custGeom>
              <a:avLst/>
              <a:gdLst/>
              <a:ahLst/>
              <a:rect l="l" t="t" r="r" b="b"/>
              <a:pathLst>
                <a:path w="2416" h="960">
                  <a:moveTo>
                    <a:pt x="2416" y="0"/>
                  </a:moveTo>
                  <a:cubicBezTo>
                    <a:pt x="2395" y="95"/>
                    <a:pt x="2411" y="465"/>
                    <a:pt x="2291" y="573"/>
                  </a:cubicBezTo>
                  <a:cubicBezTo>
                    <a:pt x="2171" y="681"/>
                    <a:pt x="2017" y="645"/>
                    <a:pt x="1696" y="649"/>
                  </a:cubicBezTo>
                  <a:cubicBezTo>
                    <a:pt x="1375" y="653"/>
                    <a:pt x="638" y="597"/>
                    <a:pt x="365" y="600"/>
                  </a:cubicBezTo>
                  <a:cubicBezTo>
                    <a:pt x="92" y="603"/>
                    <a:pt x="120" y="606"/>
                    <a:pt x="60" y="666"/>
                  </a:cubicBezTo>
                  <a:cubicBezTo>
                    <a:pt x="0" y="726"/>
                    <a:pt x="17" y="899"/>
                    <a:pt x="6" y="96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3" name=""/>
            <p:cNvSpPr/>
            <p:nvPr/>
          </p:nvSpPr>
          <p:spPr>
            <a:xfrm>
              <a:off x="1578600" y="3803760"/>
              <a:ext cx="598320" cy="38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600" spc="-1" strike="noStrike">
                  <a:solidFill>
                    <a:srgbClr val="000000"/>
                  </a:solidFill>
                  <a:latin typeface="Times New Roman"/>
                </a:rPr>
                <a:t>NH</a:t>
              </a:r>
              <a:r>
                <a:rPr b="0" lang="cs-CZ" sz="16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0" lang="cs-CZ" sz="1600" spc="-1" strike="noStrike" baseline="50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4" name=""/>
            <p:cNvSpPr/>
            <p:nvPr/>
          </p:nvSpPr>
          <p:spPr>
            <a:xfrm>
              <a:off x="1640520" y="2856960"/>
              <a:ext cx="392400" cy="35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6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0" lang="cs-CZ" sz="1600" spc="-1" strike="noStrike" baseline="50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5" name=""/>
            <p:cNvSpPr/>
            <p:nvPr/>
          </p:nvSpPr>
          <p:spPr>
            <a:xfrm>
              <a:off x="1757520" y="3211560"/>
              <a:ext cx="0" cy="538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6" name=""/>
            <p:cNvSpPr/>
            <p:nvPr/>
          </p:nvSpPr>
          <p:spPr>
            <a:xfrm>
              <a:off x="6128280" y="4903560"/>
              <a:ext cx="392400" cy="35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6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0" lang="cs-CZ" sz="1600" spc="-1" strike="noStrike" baseline="50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7" name=""/>
            <p:cNvSpPr/>
            <p:nvPr/>
          </p:nvSpPr>
          <p:spPr>
            <a:xfrm>
              <a:off x="6743880" y="4888080"/>
              <a:ext cx="1315800" cy="38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6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0" lang="cs-CZ" sz="1600" spc="-1" strike="noStrike" baseline="50000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0" lang="cs-CZ" sz="1600" spc="-1" strike="noStrike">
                  <a:solidFill>
                    <a:srgbClr val="000000"/>
                  </a:solidFill>
                  <a:latin typeface="Times New Roman"/>
                </a:rPr>
                <a:t>+ HCO</a:t>
              </a:r>
              <a:r>
                <a:rPr b="0" lang="cs-CZ" sz="16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0" lang="cs-CZ" sz="1600" spc="-1" strike="noStrike" baseline="50000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8" name=""/>
            <p:cNvSpPr/>
            <p:nvPr/>
          </p:nvSpPr>
          <p:spPr>
            <a:xfrm>
              <a:off x="7886880" y="4813200"/>
              <a:ext cx="268200" cy="235080"/>
            </a:xfrm>
            <a:prstGeom prst="ellipse">
              <a:avLst/>
            </a:prstGeom>
            <a:solidFill>
              <a:srgbClr val="ff33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9" name=""/>
            <p:cNvSpPr/>
            <p:nvPr/>
          </p:nvSpPr>
          <p:spPr>
            <a:xfrm>
              <a:off x="7869240" y="5049720"/>
              <a:ext cx="485640" cy="7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0" name=""/>
            <p:cNvSpPr/>
            <p:nvPr/>
          </p:nvSpPr>
          <p:spPr>
            <a:xfrm>
              <a:off x="7788240" y="4813200"/>
              <a:ext cx="485640" cy="7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1" name=""/>
            <p:cNvSpPr/>
            <p:nvPr/>
          </p:nvSpPr>
          <p:spPr>
            <a:xfrm>
              <a:off x="7461360" y="4623840"/>
              <a:ext cx="412200" cy="35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600" spc="-1" strike="noStrike">
                  <a:solidFill>
                    <a:srgbClr val="000000"/>
                  </a:solidFill>
                  <a:latin typeface="Times New Roman"/>
                </a:rPr>
                <a:t>Cl</a:t>
              </a:r>
              <a:r>
                <a:rPr b="0" lang="cs-CZ" sz="1600" spc="-1" strike="noStrike" baseline="50000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2" name=""/>
            <p:cNvSpPr/>
            <p:nvPr/>
          </p:nvSpPr>
          <p:spPr>
            <a:xfrm>
              <a:off x="7674120" y="4464000"/>
              <a:ext cx="690480" cy="162000"/>
            </a:xfrm>
            <a:custGeom>
              <a:avLst/>
              <a:gdLst/>
              <a:ahLst/>
              <a:rect l="l" t="t" r="r" b="b"/>
              <a:pathLst>
                <a:path w="435" h="102">
                  <a:moveTo>
                    <a:pt x="20" y="102"/>
                  </a:moveTo>
                  <a:cubicBezTo>
                    <a:pt x="28" y="87"/>
                    <a:pt x="0" y="30"/>
                    <a:pt x="69" y="15"/>
                  </a:cubicBezTo>
                  <a:cubicBezTo>
                    <a:pt x="138" y="0"/>
                    <a:pt x="359" y="13"/>
                    <a:pt x="435" y="13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3" name=""/>
            <p:cNvSpPr/>
            <p:nvPr/>
          </p:nvSpPr>
          <p:spPr>
            <a:xfrm>
              <a:off x="6008760" y="4582080"/>
              <a:ext cx="5461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600" spc="-1" strike="noStrike">
                  <a:solidFill>
                    <a:srgbClr val="000000"/>
                  </a:solidFill>
                  <a:latin typeface="Times New Roman"/>
                </a:rPr>
                <a:t>NH</a:t>
              </a:r>
              <a:r>
                <a:rPr b="0" lang="cs-CZ" sz="16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4" name=""/>
            <p:cNvSpPr/>
            <p:nvPr/>
          </p:nvSpPr>
          <p:spPr>
            <a:xfrm>
              <a:off x="6055560" y="6046920"/>
              <a:ext cx="598320" cy="38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600" spc="-1" strike="noStrike">
                  <a:solidFill>
                    <a:srgbClr val="000000"/>
                  </a:solidFill>
                  <a:latin typeface="Times New Roman"/>
                </a:rPr>
                <a:t>NH</a:t>
              </a:r>
              <a:r>
                <a:rPr b="0" lang="cs-CZ" sz="16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0" lang="cs-CZ" sz="1600" spc="-1" strike="noStrike" baseline="50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5" name=""/>
            <p:cNvSpPr/>
            <p:nvPr/>
          </p:nvSpPr>
          <p:spPr>
            <a:xfrm>
              <a:off x="8308800" y="4862880"/>
              <a:ext cx="727200" cy="38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600" spc="-1" strike="noStrike">
                  <a:solidFill>
                    <a:srgbClr val="000000"/>
                  </a:solidFill>
                  <a:latin typeface="Times New Roman"/>
                </a:rPr>
                <a:t>HCO</a:t>
              </a:r>
              <a:r>
                <a:rPr b="0" lang="cs-CZ" sz="16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0" lang="cs-CZ" sz="1600" spc="-1" strike="noStrike" baseline="50000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6" name=""/>
            <p:cNvSpPr/>
            <p:nvPr/>
          </p:nvSpPr>
          <p:spPr>
            <a:xfrm>
              <a:off x="5502240" y="2311560"/>
              <a:ext cx="611280" cy="2590560"/>
            </a:xfrm>
            <a:custGeom>
              <a:avLst/>
              <a:gdLst/>
              <a:ahLst/>
              <a:rect l="l" t="t" r="r" b="b"/>
              <a:pathLst>
                <a:path w="385" h="1632">
                  <a:moveTo>
                    <a:pt x="41" y="0"/>
                  </a:moveTo>
                  <a:cubicBezTo>
                    <a:pt x="44" y="229"/>
                    <a:pt x="0" y="1118"/>
                    <a:pt x="57" y="1375"/>
                  </a:cubicBezTo>
                  <a:cubicBezTo>
                    <a:pt x="114" y="1632"/>
                    <a:pt x="317" y="1509"/>
                    <a:pt x="385" y="1544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7" name=""/>
            <p:cNvSpPr/>
            <p:nvPr/>
          </p:nvSpPr>
          <p:spPr>
            <a:xfrm>
              <a:off x="4719600" y="4729320"/>
              <a:ext cx="1203480" cy="1355400"/>
            </a:xfrm>
            <a:custGeom>
              <a:avLst/>
              <a:gdLst/>
              <a:ahLst/>
              <a:rect l="l" t="t" r="r" b="b"/>
              <a:pathLst>
                <a:path w="758" h="854">
                  <a:moveTo>
                    <a:pt x="0" y="833"/>
                  </a:moveTo>
                  <a:cubicBezTo>
                    <a:pt x="66" y="818"/>
                    <a:pt x="308" y="854"/>
                    <a:pt x="398" y="735"/>
                  </a:cubicBezTo>
                  <a:cubicBezTo>
                    <a:pt x="488" y="616"/>
                    <a:pt x="480" y="238"/>
                    <a:pt x="540" y="119"/>
                  </a:cubicBezTo>
                  <a:cubicBezTo>
                    <a:pt x="600" y="0"/>
                    <a:pt x="713" y="41"/>
                    <a:pt x="758" y="21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8" name=""/>
            <p:cNvSpPr/>
            <p:nvPr/>
          </p:nvSpPr>
          <p:spPr>
            <a:xfrm>
              <a:off x="6168960" y="4917960"/>
              <a:ext cx="108000" cy="1116000"/>
            </a:xfrm>
            <a:custGeom>
              <a:avLst/>
              <a:gdLst/>
              <a:ahLst/>
              <a:rect l="l" t="t" r="r" b="b"/>
              <a:pathLst>
                <a:path w="68" h="703">
                  <a:moveTo>
                    <a:pt x="8" y="0"/>
                  </a:moveTo>
                  <a:cubicBezTo>
                    <a:pt x="8" y="44"/>
                    <a:pt x="0" y="190"/>
                    <a:pt x="8" y="267"/>
                  </a:cubicBezTo>
                  <a:cubicBezTo>
                    <a:pt x="16" y="344"/>
                    <a:pt x="47" y="390"/>
                    <a:pt x="57" y="463"/>
                  </a:cubicBezTo>
                  <a:cubicBezTo>
                    <a:pt x="67" y="536"/>
                    <a:pt x="66" y="653"/>
                    <a:pt x="68" y="703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9" name=""/>
            <p:cNvSpPr/>
            <p:nvPr/>
          </p:nvSpPr>
          <p:spPr>
            <a:xfrm>
              <a:off x="6265800" y="5221440"/>
              <a:ext cx="23760" cy="415800"/>
            </a:xfrm>
            <a:custGeom>
              <a:avLst/>
              <a:gdLst/>
              <a:ahLst/>
              <a:rect l="l" t="t" r="r" b="b"/>
              <a:pathLst>
                <a:path w="15" h="262">
                  <a:moveTo>
                    <a:pt x="13" y="0"/>
                  </a:moveTo>
                  <a:cubicBezTo>
                    <a:pt x="13" y="17"/>
                    <a:pt x="15" y="72"/>
                    <a:pt x="13" y="103"/>
                  </a:cubicBezTo>
                  <a:cubicBezTo>
                    <a:pt x="11" y="134"/>
                    <a:pt x="4" y="159"/>
                    <a:pt x="2" y="185"/>
                  </a:cubicBezTo>
                  <a:cubicBezTo>
                    <a:pt x="0" y="211"/>
                    <a:pt x="2" y="246"/>
                    <a:pt x="2" y="262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0" name=""/>
            <p:cNvSpPr/>
            <p:nvPr/>
          </p:nvSpPr>
          <p:spPr>
            <a:xfrm>
              <a:off x="1211400" y="1719360"/>
              <a:ext cx="1299960" cy="4370400"/>
            </a:xfrm>
            <a:custGeom>
              <a:avLst/>
              <a:gdLst/>
              <a:ahLst/>
              <a:rect l="l" t="t" r="r" b="b"/>
              <a:pathLst>
                <a:path w="819" h="2753">
                  <a:moveTo>
                    <a:pt x="0" y="35"/>
                  </a:moveTo>
                  <a:cubicBezTo>
                    <a:pt x="29" y="43"/>
                    <a:pt x="134" y="0"/>
                    <a:pt x="175" y="84"/>
                  </a:cubicBezTo>
                  <a:cubicBezTo>
                    <a:pt x="216" y="168"/>
                    <a:pt x="233" y="232"/>
                    <a:pt x="246" y="537"/>
                  </a:cubicBezTo>
                  <a:cubicBezTo>
                    <a:pt x="259" y="842"/>
                    <a:pt x="238" y="1584"/>
                    <a:pt x="252" y="1917"/>
                  </a:cubicBezTo>
                  <a:cubicBezTo>
                    <a:pt x="266" y="2250"/>
                    <a:pt x="285" y="2405"/>
                    <a:pt x="328" y="2538"/>
                  </a:cubicBezTo>
                  <a:cubicBezTo>
                    <a:pt x="371" y="2671"/>
                    <a:pt x="426" y="2683"/>
                    <a:pt x="508" y="2718"/>
                  </a:cubicBezTo>
                  <a:cubicBezTo>
                    <a:pt x="590" y="2753"/>
                    <a:pt x="754" y="2740"/>
                    <a:pt x="819" y="2746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1" name=""/>
            <p:cNvSpPr/>
            <p:nvPr/>
          </p:nvSpPr>
          <p:spPr>
            <a:xfrm>
              <a:off x="2779560" y="2035080"/>
              <a:ext cx="225720" cy="3870360"/>
            </a:xfrm>
            <a:custGeom>
              <a:avLst/>
              <a:gdLst/>
              <a:ahLst/>
              <a:rect l="l" t="t" r="r" b="b"/>
              <a:pathLst>
                <a:path w="142" h="2438">
                  <a:moveTo>
                    <a:pt x="16" y="2438"/>
                  </a:moveTo>
                  <a:cubicBezTo>
                    <a:pt x="15" y="2097"/>
                    <a:pt x="10" y="784"/>
                    <a:pt x="11" y="392"/>
                  </a:cubicBezTo>
                  <a:cubicBezTo>
                    <a:pt x="12" y="0"/>
                    <a:pt x="0" y="145"/>
                    <a:pt x="22" y="87"/>
                  </a:cubicBezTo>
                  <a:cubicBezTo>
                    <a:pt x="44" y="29"/>
                    <a:pt x="117" y="52"/>
                    <a:pt x="142" y="43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2" name=""/>
            <p:cNvSpPr/>
            <p:nvPr/>
          </p:nvSpPr>
          <p:spPr>
            <a:xfrm>
              <a:off x="1768320" y="4173480"/>
              <a:ext cx="743040" cy="1774800"/>
            </a:xfrm>
            <a:custGeom>
              <a:avLst/>
              <a:gdLst/>
              <a:ahLst/>
              <a:rect l="l" t="t" r="r" b="b"/>
              <a:pathLst>
                <a:path w="468" h="1118">
                  <a:moveTo>
                    <a:pt x="10" y="0"/>
                  </a:moveTo>
                  <a:cubicBezTo>
                    <a:pt x="11" y="84"/>
                    <a:pt x="0" y="336"/>
                    <a:pt x="15" y="502"/>
                  </a:cubicBezTo>
                  <a:cubicBezTo>
                    <a:pt x="30" y="668"/>
                    <a:pt x="27" y="895"/>
                    <a:pt x="102" y="998"/>
                  </a:cubicBezTo>
                  <a:cubicBezTo>
                    <a:pt x="177" y="1101"/>
                    <a:pt x="392" y="1093"/>
                    <a:pt x="468" y="1118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3" name=""/>
            <p:cNvSpPr/>
            <p:nvPr/>
          </p:nvSpPr>
          <p:spPr>
            <a:xfrm>
              <a:off x="243000" y="1400040"/>
              <a:ext cx="311040" cy="293760"/>
            </a:xfrm>
            <a:prstGeom prst="ellipse">
              <a:avLst/>
            </a:prstGeom>
            <a:solidFill>
              <a:srgbClr val="ccff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4" name=""/>
            <p:cNvSpPr/>
            <p:nvPr/>
          </p:nvSpPr>
          <p:spPr>
            <a:xfrm>
              <a:off x="3105000" y="5716440"/>
              <a:ext cx="311400" cy="293760"/>
            </a:xfrm>
            <a:prstGeom prst="ellipse">
              <a:avLst/>
            </a:prstGeom>
            <a:solidFill>
              <a:srgbClr val="ccff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5" name=""/>
            <p:cNvSpPr/>
            <p:nvPr/>
          </p:nvSpPr>
          <p:spPr>
            <a:xfrm>
              <a:off x="7292880" y="349200"/>
              <a:ext cx="727200" cy="2154240"/>
            </a:xfrm>
            <a:prstGeom prst="can">
              <a:avLst>
                <a:gd name="adj" fmla="val 11824"/>
              </a:avLst>
            </a:prstGeom>
            <a:solidFill>
              <a:srgbClr val="ff99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6" name=""/>
            <p:cNvSpPr/>
            <p:nvPr/>
          </p:nvSpPr>
          <p:spPr>
            <a:xfrm>
              <a:off x="7457040" y="1980720"/>
              <a:ext cx="392400" cy="35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6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0" lang="cs-CZ" sz="1600" spc="-1" strike="noStrike" baseline="50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7" name=""/>
            <p:cNvSpPr/>
            <p:nvPr/>
          </p:nvSpPr>
          <p:spPr>
            <a:xfrm>
              <a:off x="7325640" y="1178280"/>
              <a:ext cx="598320" cy="38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600" spc="-1" strike="noStrike">
                  <a:solidFill>
                    <a:srgbClr val="000000"/>
                  </a:solidFill>
                  <a:latin typeface="Times New Roman"/>
                </a:rPr>
                <a:t>NH</a:t>
              </a:r>
              <a:r>
                <a:rPr b="0" lang="cs-CZ" sz="16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0" lang="cs-CZ" sz="1600" spc="-1" strike="noStrike" baseline="50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8" name=""/>
            <p:cNvSpPr/>
            <p:nvPr/>
          </p:nvSpPr>
          <p:spPr>
            <a:xfrm>
              <a:off x="5870520" y="1523880"/>
              <a:ext cx="1724040" cy="551160"/>
            </a:xfrm>
            <a:custGeom>
              <a:avLst/>
              <a:gdLst/>
              <a:ahLst/>
              <a:rect l="l" t="t" r="r" b="b"/>
              <a:pathLst>
                <a:path w="1086" h="347">
                  <a:moveTo>
                    <a:pt x="0" y="333"/>
                  </a:moveTo>
                  <a:cubicBezTo>
                    <a:pt x="108" y="333"/>
                    <a:pt x="485" y="347"/>
                    <a:pt x="649" y="338"/>
                  </a:cubicBezTo>
                  <a:cubicBezTo>
                    <a:pt x="813" y="329"/>
                    <a:pt x="912" y="310"/>
                    <a:pt x="982" y="278"/>
                  </a:cubicBezTo>
                  <a:cubicBezTo>
                    <a:pt x="1052" y="246"/>
                    <a:pt x="1052" y="193"/>
                    <a:pt x="1069" y="147"/>
                  </a:cubicBezTo>
                  <a:cubicBezTo>
                    <a:pt x="1086" y="101"/>
                    <a:pt x="1082" y="31"/>
                    <a:pt x="1085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9" name=""/>
            <p:cNvSpPr/>
            <p:nvPr/>
          </p:nvSpPr>
          <p:spPr>
            <a:xfrm>
              <a:off x="7593120" y="1671480"/>
              <a:ext cx="1440" cy="363600"/>
            </a:xfrm>
            <a:custGeom>
              <a:avLst/>
              <a:gdLst/>
              <a:ahLst/>
              <a:rect l="l" t="t" r="r" b="b"/>
              <a:pathLst>
                <a:path w="1" h="229">
                  <a:moveTo>
                    <a:pt x="0" y="229"/>
                  </a:move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0" name=""/>
            <p:cNvSpPr/>
            <p:nvPr/>
          </p:nvSpPr>
          <p:spPr>
            <a:xfrm>
              <a:off x="7564320" y="797040"/>
              <a:ext cx="3240" cy="420480"/>
            </a:xfrm>
            <a:custGeom>
              <a:avLst/>
              <a:gdLst/>
              <a:ahLst/>
              <a:rect l="l" t="t" r="r" b="b"/>
              <a:pathLst>
                <a:path w="2" h="265">
                  <a:moveTo>
                    <a:pt x="0" y="265"/>
                  </a:moveTo>
                  <a:lnTo>
                    <a:pt x="2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1" name=""/>
            <p:cNvSpPr/>
            <p:nvPr/>
          </p:nvSpPr>
          <p:spPr>
            <a:xfrm>
              <a:off x="2944800" y="2424240"/>
              <a:ext cx="311040" cy="293400"/>
            </a:xfrm>
            <a:prstGeom prst="ellipse">
              <a:avLst/>
            </a:prstGeom>
            <a:solidFill>
              <a:srgbClr val="ccff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2" name=""/>
            <p:cNvSpPr/>
            <p:nvPr/>
          </p:nvSpPr>
          <p:spPr>
            <a:xfrm>
              <a:off x="2257560" y="3303720"/>
              <a:ext cx="311040" cy="293400"/>
            </a:xfrm>
            <a:prstGeom prst="ellipse">
              <a:avLst/>
            </a:prstGeom>
            <a:solidFill>
              <a:srgbClr val="ccff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3" name=""/>
            <p:cNvSpPr/>
            <p:nvPr/>
          </p:nvSpPr>
          <p:spPr>
            <a:xfrm>
              <a:off x="7648560" y="884160"/>
              <a:ext cx="311040" cy="293760"/>
            </a:xfrm>
            <a:prstGeom prst="ellipse">
              <a:avLst/>
            </a:prstGeom>
            <a:solidFill>
              <a:srgbClr val="ccff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4" name=""/>
            <p:cNvSpPr/>
            <p:nvPr/>
          </p:nvSpPr>
          <p:spPr>
            <a:xfrm>
              <a:off x="6016680" y="4240080"/>
              <a:ext cx="311040" cy="293760"/>
            </a:xfrm>
            <a:prstGeom prst="ellipse">
              <a:avLst/>
            </a:prstGeom>
            <a:solidFill>
              <a:srgbClr val="ccff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5" name=""/>
            <p:cNvSpPr/>
            <p:nvPr/>
          </p:nvSpPr>
          <p:spPr>
            <a:xfrm>
              <a:off x="6491160" y="4935600"/>
              <a:ext cx="277920" cy="268200"/>
            </a:xfrm>
            <a:prstGeom prst="ellipse">
              <a:avLst/>
            </a:prstGeom>
            <a:solidFill>
              <a:srgbClr val="ff33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6" name=""/>
            <p:cNvSpPr/>
            <p:nvPr/>
          </p:nvSpPr>
          <p:spPr>
            <a:xfrm flipV="1">
              <a:off x="6354720" y="5072040"/>
              <a:ext cx="474840" cy="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7" name=""/>
          <p:cNvSpPr/>
          <p:nvPr/>
        </p:nvSpPr>
        <p:spPr>
          <a:xfrm>
            <a:off x="328680" y="4788000"/>
            <a:ext cx="8604360" cy="2070000"/>
          </a:xfrm>
          <a:prstGeom prst="rect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8" name=""/>
          <p:cNvSpPr/>
          <p:nvPr/>
        </p:nvSpPr>
        <p:spPr>
          <a:xfrm>
            <a:off x="3732120" y="1376280"/>
            <a:ext cx="2556000" cy="3402000"/>
          </a:xfrm>
          <a:custGeom>
            <a:avLst/>
            <a:gdLst>
              <a:gd name="textAreaLeft" fmla="*/ 124560 w 2556000"/>
              <a:gd name="textAreaRight" fmla="*/ 2431440 w 2556000"/>
              <a:gd name="textAreaTop" fmla="*/ 124560 h 3402000"/>
              <a:gd name="textAreaBottom" fmla="*/ 3277440 h 3402000"/>
            </a:gdLst>
            <a:ahLst/>
            <a:rect l="textAreaLeft" t="textAreaTop" r="textAreaRight" b="textAreaBottom"/>
            <a:pathLst>
              <a:path w="21600" h="28748">
                <a:moveTo>
                  <a:pt x="3600" y="0"/>
                </a:moveTo>
                <a:arcTo wR="3600" hR="3600" stAng="16200000" swAng="-5400000"/>
                <a:lnTo>
                  <a:pt x="0" y="25148"/>
                </a:lnTo>
                <a:arcTo wR="3600" hR="3600" stAng="10800000" swAng="-5400000"/>
                <a:lnTo>
                  <a:pt x="18000" y="2874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9" name=""/>
          <p:cNvSpPr/>
          <p:nvPr/>
        </p:nvSpPr>
        <p:spPr>
          <a:xfrm>
            <a:off x="6386400" y="1378080"/>
            <a:ext cx="2556000" cy="3402000"/>
          </a:xfrm>
          <a:custGeom>
            <a:avLst/>
            <a:gdLst>
              <a:gd name="textAreaLeft" fmla="*/ 124560 w 2556000"/>
              <a:gd name="textAreaRight" fmla="*/ 2431440 w 2556000"/>
              <a:gd name="textAreaTop" fmla="*/ 124560 h 3402000"/>
              <a:gd name="textAreaBottom" fmla="*/ 3277440 h 3402000"/>
            </a:gdLst>
            <a:ahLst/>
            <a:rect l="textAreaLeft" t="textAreaTop" r="textAreaRight" b="textAreaBottom"/>
            <a:pathLst>
              <a:path w="21600" h="28748">
                <a:moveTo>
                  <a:pt x="3600" y="0"/>
                </a:moveTo>
                <a:arcTo wR="3600" hR="3600" stAng="16200000" swAng="-5400000"/>
                <a:lnTo>
                  <a:pt x="0" y="25148"/>
                </a:lnTo>
                <a:arcTo wR="3600" hR="3600" stAng="10800000" swAng="-5400000"/>
                <a:lnTo>
                  <a:pt x="18000" y="2874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0" name=""/>
          <p:cNvSpPr/>
          <p:nvPr/>
        </p:nvSpPr>
        <p:spPr>
          <a:xfrm>
            <a:off x="981000" y="1387440"/>
            <a:ext cx="2556000" cy="3402000"/>
          </a:xfrm>
          <a:custGeom>
            <a:avLst/>
            <a:gdLst>
              <a:gd name="textAreaLeft" fmla="*/ 124560 w 2556000"/>
              <a:gd name="textAreaRight" fmla="*/ 2431440 w 2556000"/>
              <a:gd name="textAreaTop" fmla="*/ 124560 h 3402000"/>
              <a:gd name="textAreaBottom" fmla="*/ 3277440 h 3402000"/>
            </a:gdLst>
            <a:ahLst/>
            <a:rect l="textAreaLeft" t="textAreaTop" r="textAreaRight" b="textAreaBottom"/>
            <a:pathLst>
              <a:path w="21600" h="28748">
                <a:moveTo>
                  <a:pt x="3600" y="0"/>
                </a:moveTo>
                <a:arcTo wR="3600" hR="3600" stAng="16200000" swAng="-5400000"/>
                <a:lnTo>
                  <a:pt x="0" y="25148"/>
                </a:lnTo>
                <a:arcTo wR="3600" hR="3600" stAng="10800000" swAng="-5400000"/>
                <a:lnTo>
                  <a:pt x="18000" y="2874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1" name=""/>
          <p:cNvSpPr/>
          <p:nvPr/>
        </p:nvSpPr>
        <p:spPr>
          <a:xfrm>
            <a:off x="1753200" y="3033360"/>
            <a:ext cx="482400" cy="35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Na</a:t>
            </a:r>
            <a:r>
              <a:rPr b="0" lang="cs-CZ" sz="1600" spc="-1" strike="noStrike" baseline="5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2" name=""/>
          <p:cNvSpPr/>
          <p:nvPr/>
        </p:nvSpPr>
        <p:spPr>
          <a:xfrm>
            <a:off x="2435760" y="3045960"/>
            <a:ext cx="392400" cy="35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cs-CZ" sz="1600" spc="-1" strike="noStrike" baseline="5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3" name=""/>
          <p:cNvSpPr/>
          <p:nvPr/>
        </p:nvSpPr>
        <p:spPr>
          <a:xfrm>
            <a:off x="2038320" y="1155600"/>
            <a:ext cx="531720" cy="5479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4" name=""/>
          <p:cNvSpPr/>
          <p:nvPr/>
        </p:nvSpPr>
        <p:spPr>
          <a:xfrm>
            <a:off x="2127240" y="1257480"/>
            <a:ext cx="338040" cy="33624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5" name=""/>
          <p:cNvSpPr/>
          <p:nvPr/>
        </p:nvSpPr>
        <p:spPr>
          <a:xfrm>
            <a:off x="2124000" y="2008080"/>
            <a:ext cx="209520" cy="2080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6" name=""/>
          <p:cNvSpPr/>
          <p:nvPr/>
        </p:nvSpPr>
        <p:spPr>
          <a:xfrm flipV="1">
            <a:off x="2325600" y="1501920"/>
            <a:ext cx="114480" cy="645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7" name=""/>
          <p:cNvSpPr/>
          <p:nvPr/>
        </p:nvSpPr>
        <p:spPr>
          <a:xfrm flipH="1">
            <a:off x="2118960" y="1378080"/>
            <a:ext cx="11160" cy="76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8" name=""/>
          <p:cNvSpPr/>
          <p:nvPr/>
        </p:nvSpPr>
        <p:spPr>
          <a:xfrm>
            <a:off x="1633680" y="2206800"/>
            <a:ext cx="131760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Times New Roman"/>
              </a:rPr>
              <a:t>Na</a:t>
            </a:r>
            <a:r>
              <a:rPr b="1" lang="cs-CZ" sz="1200" spc="-1" strike="noStrike" baseline="6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cs-CZ" sz="1200" spc="-1" strike="noStrike">
                <a:solidFill>
                  <a:srgbClr val="000000"/>
                </a:solidFill>
                <a:latin typeface="Times New Roman"/>
              </a:rPr>
              <a:t>-K</a:t>
            </a:r>
            <a:r>
              <a:rPr b="1" lang="cs-CZ" sz="1200" spc="-1" strike="noStrike" baseline="6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 baseline="6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1200" spc="-1" strike="noStrike">
                <a:solidFill>
                  <a:srgbClr val="000000"/>
                </a:solidFill>
                <a:latin typeface="Times New Roman"/>
              </a:rPr>
              <a:t>ATPáz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9" name=""/>
          <p:cNvSpPr/>
          <p:nvPr/>
        </p:nvSpPr>
        <p:spPr>
          <a:xfrm>
            <a:off x="2033640" y="917640"/>
            <a:ext cx="0" cy="2070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0" name=""/>
          <p:cNvSpPr/>
          <p:nvPr/>
        </p:nvSpPr>
        <p:spPr>
          <a:xfrm>
            <a:off x="2592360" y="905040"/>
            <a:ext cx="0" cy="21729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1" name=""/>
          <p:cNvSpPr/>
          <p:nvPr/>
        </p:nvSpPr>
        <p:spPr>
          <a:xfrm>
            <a:off x="2577960" y="3551400"/>
            <a:ext cx="554040" cy="1960560"/>
          </a:xfrm>
          <a:custGeom>
            <a:avLst/>
            <a:gdLst/>
            <a:ahLst/>
            <a:rect l="l" t="t" r="r" b="b"/>
            <a:pathLst>
              <a:path w="349" h="1147">
                <a:moveTo>
                  <a:pt x="11" y="0"/>
                </a:moveTo>
                <a:lnTo>
                  <a:pt x="6" y="600"/>
                </a:lnTo>
                <a:cubicBezTo>
                  <a:pt x="8" y="725"/>
                  <a:pt x="22" y="697"/>
                  <a:pt x="22" y="753"/>
                </a:cubicBezTo>
                <a:cubicBezTo>
                  <a:pt x="22" y="809"/>
                  <a:pt x="0" y="878"/>
                  <a:pt x="6" y="938"/>
                </a:cubicBezTo>
                <a:cubicBezTo>
                  <a:pt x="12" y="998"/>
                  <a:pt x="3" y="1079"/>
                  <a:pt x="60" y="1113"/>
                </a:cubicBezTo>
                <a:cubicBezTo>
                  <a:pt x="117" y="1147"/>
                  <a:pt x="289" y="1135"/>
                  <a:pt x="349" y="114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2" name=""/>
          <p:cNvSpPr/>
          <p:nvPr/>
        </p:nvSpPr>
        <p:spPr>
          <a:xfrm>
            <a:off x="1273320" y="3430440"/>
            <a:ext cx="717480" cy="2102040"/>
          </a:xfrm>
          <a:custGeom>
            <a:avLst/>
            <a:gdLst/>
            <a:ahLst/>
            <a:rect l="l" t="t" r="r" b="b"/>
            <a:pathLst>
              <a:path w="452" h="1183">
                <a:moveTo>
                  <a:pt x="436" y="0"/>
                </a:moveTo>
                <a:cubicBezTo>
                  <a:pt x="436" y="156"/>
                  <a:pt x="452" y="741"/>
                  <a:pt x="436" y="932"/>
                </a:cubicBezTo>
                <a:cubicBezTo>
                  <a:pt x="420" y="1123"/>
                  <a:pt x="411" y="1107"/>
                  <a:pt x="338" y="1145"/>
                </a:cubicBezTo>
                <a:cubicBezTo>
                  <a:pt x="265" y="1183"/>
                  <a:pt x="70" y="1158"/>
                  <a:pt x="0" y="1161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3" name=""/>
          <p:cNvSpPr/>
          <p:nvPr/>
        </p:nvSpPr>
        <p:spPr>
          <a:xfrm>
            <a:off x="2516040" y="4525920"/>
            <a:ext cx="208080" cy="44136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4" name=""/>
          <p:cNvSpPr/>
          <p:nvPr/>
        </p:nvSpPr>
        <p:spPr>
          <a:xfrm>
            <a:off x="1873080" y="4527720"/>
            <a:ext cx="208080" cy="44100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5" name=""/>
          <p:cNvSpPr/>
          <p:nvPr/>
        </p:nvSpPr>
        <p:spPr>
          <a:xfrm>
            <a:off x="1965240" y="4537080"/>
            <a:ext cx="0" cy="120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6" name=""/>
          <p:cNvSpPr/>
          <p:nvPr/>
        </p:nvSpPr>
        <p:spPr>
          <a:xfrm>
            <a:off x="2610000" y="4524480"/>
            <a:ext cx="0" cy="120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7" name=""/>
          <p:cNvSpPr/>
          <p:nvPr/>
        </p:nvSpPr>
        <p:spPr>
          <a:xfrm>
            <a:off x="3147120" y="5366880"/>
            <a:ext cx="392400" cy="35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cs-CZ" sz="1600" spc="-1" strike="noStrike" baseline="5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8" name=""/>
          <p:cNvSpPr/>
          <p:nvPr/>
        </p:nvSpPr>
        <p:spPr>
          <a:xfrm>
            <a:off x="685080" y="5308200"/>
            <a:ext cx="482400" cy="35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Na</a:t>
            </a:r>
            <a:r>
              <a:rPr b="0" lang="cs-CZ" sz="1600" spc="-1" strike="noStrike" baseline="5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9" name=""/>
          <p:cNvSpPr/>
          <p:nvPr/>
        </p:nvSpPr>
        <p:spPr>
          <a:xfrm>
            <a:off x="3138480" y="996840"/>
            <a:ext cx="536760" cy="5688000"/>
          </a:xfrm>
          <a:custGeom>
            <a:avLst/>
            <a:gdLst/>
            <a:ahLst/>
            <a:rect l="l" t="t" r="r" b="b"/>
            <a:pathLst>
              <a:path w="338" h="3583">
                <a:moveTo>
                  <a:pt x="314" y="0"/>
                </a:moveTo>
                <a:cubicBezTo>
                  <a:pt x="309" y="483"/>
                  <a:pt x="338" y="2301"/>
                  <a:pt x="286" y="2898"/>
                </a:cubicBezTo>
                <a:cubicBezTo>
                  <a:pt x="234" y="3495"/>
                  <a:pt x="263" y="3486"/>
                  <a:pt x="0" y="3583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0" name=""/>
          <p:cNvSpPr/>
          <p:nvPr/>
        </p:nvSpPr>
        <p:spPr>
          <a:xfrm>
            <a:off x="2752920" y="6513120"/>
            <a:ext cx="412200" cy="35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Cl</a:t>
            </a:r>
            <a:r>
              <a:rPr b="0" lang="cs-CZ" sz="1600" spc="-1" strike="noStrike" baseline="50000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1" name=""/>
          <p:cNvSpPr/>
          <p:nvPr/>
        </p:nvSpPr>
        <p:spPr>
          <a:xfrm>
            <a:off x="3472200" y="595080"/>
            <a:ext cx="412200" cy="35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Cl</a:t>
            </a:r>
            <a:r>
              <a:rPr b="0" lang="cs-CZ" sz="1600" spc="-1" strike="noStrike" baseline="50000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2" name=""/>
          <p:cNvSpPr/>
          <p:nvPr/>
        </p:nvSpPr>
        <p:spPr>
          <a:xfrm>
            <a:off x="1740600" y="553680"/>
            <a:ext cx="482400" cy="35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Na</a:t>
            </a:r>
            <a:r>
              <a:rPr b="0" lang="cs-CZ" sz="1600" spc="-1" strike="noStrike" baseline="5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3" name=""/>
          <p:cNvSpPr/>
          <p:nvPr/>
        </p:nvSpPr>
        <p:spPr>
          <a:xfrm>
            <a:off x="2412000" y="542520"/>
            <a:ext cx="392400" cy="35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cs-CZ" sz="1600" spc="-1" strike="noStrike" baseline="5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4" name=""/>
          <p:cNvSpPr/>
          <p:nvPr/>
        </p:nvSpPr>
        <p:spPr>
          <a:xfrm>
            <a:off x="206280" y="973080"/>
            <a:ext cx="105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imes New Roman"/>
              </a:rPr>
              <a:t>Aldoster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5" name=""/>
          <p:cNvSpPr/>
          <p:nvPr/>
        </p:nvSpPr>
        <p:spPr>
          <a:xfrm>
            <a:off x="620640" y="1644480"/>
            <a:ext cx="635040" cy="1130400"/>
          </a:xfrm>
          <a:custGeom>
            <a:avLst/>
            <a:gdLst/>
            <a:ahLst/>
            <a:rect l="l" t="t" r="r" b="b"/>
            <a:pathLst>
              <a:path w="400" h="712">
                <a:moveTo>
                  <a:pt x="29" y="0"/>
                </a:moveTo>
                <a:cubicBezTo>
                  <a:pt x="34" y="100"/>
                  <a:pt x="0" y="488"/>
                  <a:pt x="62" y="600"/>
                </a:cubicBezTo>
                <a:cubicBezTo>
                  <a:pt x="124" y="712"/>
                  <a:pt x="330" y="656"/>
                  <a:pt x="400" y="671"/>
                </a:cubicBez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6" name=""/>
          <p:cNvSpPr/>
          <p:nvPr/>
        </p:nvSpPr>
        <p:spPr>
          <a:xfrm flipV="1">
            <a:off x="1589040" y="1913040"/>
            <a:ext cx="546120" cy="63792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7" name=""/>
          <p:cNvSpPr/>
          <p:nvPr/>
        </p:nvSpPr>
        <p:spPr>
          <a:xfrm>
            <a:off x="1508040" y="2963880"/>
            <a:ext cx="303120" cy="137484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8" name=""/>
          <p:cNvSpPr/>
          <p:nvPr/>
        </p:nvSpPr>
        <p:spPr>
          <a:xfrm>
            <a:off x="3994200" y="3263760"/>
            <a:ext cx="252360" cy="1098720"/>
          </a:xfrm>
          <a:custGeom>
            <a:avLst/>
            <a:gdLst/>
            <a:ahLst/>
            <a:rect l="l" t="t" r="r" b="b"/>
            <a:pathLst>
              <a:path w="159" h="692">
                <a:moveTo>
                  <a:pt x="34" y="0"/>
                </a:moveTo>
                <a:cubicBezTo>
                  <a:pt x="32" y="61"/>
                  <a:pt x="0" y="252"/>
                  <a:pt x="21" y="367"/>
                </a:cubicBezTo>
                <a:cubicBezTo>
                  <a:pt x="45" y="488"/>
                  <a:pt x="130" y="624"/>
                  <a:pt x="159" y="692"/>
                </a:cubicBez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9" name=""/>
          <p:cNvSpPr/>
          <p:nvPr/>
        </p:nvSpPr>
        <p:spPr>
          <a:xfrm>
            <a:off x="4381560" y="4384800"/>
            <a:ext cx="531720" cy="5475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0" name=""/>
          <p:cNvSpPr/>
          <p:nvPr/>
        </p:nvSpPr>
        <p:spPr>
          <a:xfrm>
            <a:off x="4470480" y="4510080"/>
            <a:ext cx="338040" cy="3366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1" name=""/>
          <p:cNvSpPr/>
          <p:nvPr/>
        </p:nvSpPr>
        <p:spPr>
          <a:xfrm>
            <a:off x="4560840" y="3797280"/>
            <a:ext cx="209520" cy="2080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2" name=""/>
          <p:cNvSpPr/>
          <p:nvPr/>
        </p:nvSpPr>
        <p:spPr>
          <a:xfrm flipH="1" flipV="1">
            <a:off x="4773600" y="3914640"/>
            <a:ext cx="23760" cy="82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3" name=""/>
          <p:cNvSpPr/>
          <p:nvPr/>
        </p:nvSpPr>
        <p:spPr>
          <a:xfrm flipH="1">
            <a:off x="4458960" y="3902040"/>
            <a:ext cx="98280" cy="79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4" name=""/>
          <p:cNvSpPr/>
          <p:nvPr/>
        </p:nvSpPr>
        <p:spPr>
          <a:xfrm>
            <a:off x="760320" y="1384200"/>
            <a:ext cx="3211560" cy="1666800"/>
          </a:xfrm>
          <a:custGeom>
            <a:avLst/>
            <a:gdLst/>
            <a:ahLst/>
            <a:rect l="l" t="t" r="r" b="b"/>
            <a:pathLst>
              <a:path w="1973" h="1023">
                <a:moveTo>
                  <a:pt x="0" y="0"/>
                </a:moveTo>
                <a:cubicBezTo>
                  <a:pt x="99" y="112"/>
                  <a:pt x="360" y="509"/>
                  <a:pt x="596" y="671"/>
                </a:cubicBezTo>
                <a:cubicBezTo>
                  <a:pt x="832" y="833"/>
                  <a:pt x="1190" y="919"/>
                  <a:pt x="1419" y="971"/>
                </a:cubicBezTo>
                <a:cubicBezTo>
                  <a:pt x="1648" y="1023"/>
                  <a:pt x="1858" y="981"/>
                  <a:pt x="1973" y="984"/>
                </a:cubicBez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5" name=""/>
          <p:cNvSpPr/>
          <p:nvPr/>
        </p:nvSpPr>
        <p:spPr>
          <a:xfrm>
            <a:off x="3819600" y="3468600"/>
            <a:ext cx="131760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cs-CZ" sz="1200" spc="-1" strike="noStrike" baseline="60000">
                <a:solidFill>
                  <a:srgbClr val="000000"/>
                </a:solidFill>
                <a:latin typeface="Times New Roman"/>
              </a:rPr>
              <a:t>+ </a:t>
            </a:r>
            <a:r>
              <a:rPr b="1" lang="cs-CZ" sz="1200" spc="-1" strike="noStrike">
                <a:solidFill>
                  <a:srgbClr val="000000"/>
                </a:solidFill>
                <a:latin typeface="Times New Roman"/>
              </a:rPr>
              <a:t>-ATPáz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6" name=""/>
          <p:cNvSpPr/>
          <p:nvPr/>
        </p:nvSpPr>
        <p:spPr>
          <a:xfrm>
            <a:off x="4929120" y="3537000"/>
            <a:ext cx="6480" cy="1859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7" name=""/>
          <p:cNvSpPr/>
          <p:nvPr/>
        </p:nvSpPr>
        <p:spPr>
          <a:xfrm>
            <a:off x="4736160" y="3157200"/>
            <a:ext cx="392400" cy="35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cs-CZ" sz="1600" spc="-1" strike="noStrike" baseline="5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8" name=""/>
          <p:cNvSpPr/>
          <p:nvPr/>
        </p:nvSpPr>
        <p:spPr>
          <a:xfrm>
            <a:off x="4656240" y="2098800"/>
            <a:ext cx="138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400" spc="-1" strike="noStrike">
                <a:solidFill>
                  <a:srgbClr val="000000"/>
                </a:solidFill>
                <a:latin typeface="Times New Roman"/>
              </a:rPr>
              <a:t>karboanhydráz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9" name=""/>
          <p:cNvSpPr/>
          <p:nvPr/>
        </p:nvSpPr>
        <p:spPr>
          <a:xfrm>
            <a:off x="4643280" y="1754640"/>
            <a:ext cx="7272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0" lang="cs-CZ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0" name=""/>
          <p:cNvSpPr/>
          <p:nvPr/>
        </p:nvSpPr>
        <p:spPr>
          <a:xfrm>
            <a:off x="5254560" y="2730960"/>
            <a:ext cx="7272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cs-CZ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1" name=""/>
          <p:cNvSpPr/>
          <p:nvPr/>
        </p:nvSpPr>
        <p:spPr>
          <a:xfrm>
            <a:off x="4740840" y="5341680"/>
            <a:ext cx="392400" cy="35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cs-CZ" sz="1600" spc="-1" strike="noStrike" baseline="5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2" name=""/>
          <p:cNvSpPr/>
          <p:nvPr/>
        </p:nvSpPr>
        <p:spPr>
          <a:xfrm>
            <a:off x="4665600" y="2414160"/>
            <a:ext cx="513000" cy="35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OH</a:t>
            </a:r>
            <a:r>
              <a:rPr b="0" lang="cs-CZ" sz="1600" spc="-1" strike="noStrike" baseline="50000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3" name=""/>
          <p:cNvSpPr/>
          <p:nvPr/>
        </p:nvSpPr>
        <p:spPr>
          <a:xfrm>
            <a:off x="3787920" y="2082960"/>
            <a:ext cx="726840" cy="38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HCO</a:t>
            </a:r>
            <a:r>
              <a:rPr b="0" lang="cs-CZ" sz="1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cs-CZ" sz="1600" spc="-1" strike="noStrike" baseline="50000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4" name=""/>
          <p:cNvSpPr/>
          <p:nvPr/>
        </p:nvSpPr>
        <p:spPr>
          <a:xfrm>
            <a:off x="4160880" y="1106640"/>
            <a:ext cx="531720" cy="5475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5" name=""/>
          <p:cNvSpPr/>
          <p:nvPr/>
        </p:nvSpPr>
        <p:spPr>
          <a:xfrm>
            <a:off x="4507200" y="626760"/>
            <a:ext cx="412200" cy="35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Cl</a:t>
            </a:r>
            <a:r>
              <a:rPr b="0" lang="cs-CZ" sz="1600" spc="-1" strike="noStrike" baseline="50000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6" name=""/>
          <p:cNvSpPr/>
          <p:nvPr/>
        </p:nvSpPr>
        <p:spPr>
          <a:xfrm>
            <a:off x="5508720" y="1574280"/>
            <a:ext cx="412200" cy="35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Cl</a:t>
            </a:r>
            <a:r>
              <a:rPr b="0" lang="cs-CZ" sz="1600" spc="-1" strike="noStrike" baseline="50000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7" name=""/>
          <p:cNvSpPr/>
          <p:nvPr/>
        </p:nvSpPr>
        <p:spPr>
          <a:xfrm>
            <a:off x="3879720" y="598680"/>
            <a:ext cx="727200" cy="38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HCO</a:t>
            </a:r>
            <a:r>
              <a:rPr b="0" lang="cs-CZ" sz="1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cs-CZ" sz="1600" spc="-1" strike="noStrike" baseline="50000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8" name=""/>
          <p:cNvSpPr/>
          <p:nvPr/>
        </p:nvSpPr>
        <p:spPr>
          <a:xfrm flipH="1">
            <a:off x="4149720" y="992160"/>
            <a:ext cx="9360" cy="11001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9" name=""/>
          <p:cNvSpPr/>
          <p:nvPr/>
        </p:nvSpPr>
        <p:spPr>
          <a:xfrm>
            <a:off x="4692600" y="952560"/>
            <a:ext cx="754200" cy="903240"/>
          </a:xfrm>
          <a:custGeom>
            <a:avLst/>
            <a:gdLst/>
            <a:ahLst/>
            <a:rect l="l" t="t" r="r" b="b"/>
            <a:pathLst>
              <a:path w="475" h="569">
                <a:moveTo>
                  <a:pt x="2" y="0"/>
                </a:moveTo>
                <a:lnTo>
                  <a:pt x="0" y="480"/>
                </a:lnTo>
                <a:cubicBezTo>
                  <a:pt x="31" y="569"/>
                  <a:pt x="107" y="525"/>
                  <a:pt x="186" y="534"/>
                </a:cubicBezTo>
                <a:cubicBezTo>
                  <a:pt x="265" y="543"/>
                  <a:pt x="415" y="534"/>
                  <a:pt x="475" y="534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0" name=""/>
          <p:cNvSpPr/>
          <p:nvPr/>
        </p:nvSpPr>
        <p:spPr>
          <a:xfrm>
            <a:off x="4919760" y="743040"/>
            <a:ext cx="804600" cy="853920"/>
          </a:xfrm>
          <a:custGeom>
            <a:avLst/>
            <a:gdLst/>
            <a:ahLst/>
            <a:rect l="l" t="t" r="r" b="b"/>
            <a:pathLst>
              <a:path w="507" h="538">
                <a:moveTo>
                  <a:pt x="0" y="35"/>
                </a:moveTo>
                <a:cubicBezTo>
                  <a:pt x="72" y="43"/>
                  <a:pt x="353" y="0"/>
                  <a:pt x="430" y="84"/>
                </a:cubicBezTo>
                <a:cubicBezTo>
                  <a:pt x="507" y="168"/>
                  <a:pt x="455" y="444"/>
                  <a:pt x="461" y="538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71" name=""/>
          <p:cNvGrpSpPr/>
          <p:nvPr/>
        </p:nvGrpSpPr>
        <p:grpSpPr>
          <a:xfrm>
            <a:off x="5559480" y="1057320"/>
            <a:ext cx="208080" cy="442800"/>
            <a:chOff x="5559480" y="1057320"/>
            <a:chExt cx="208080" cy="442800"/>
          </a:xfrm>
        </p:grpSpPr>
        <p:sp>
          <p:nvSpPr>
            <p:cNvPr id="11172" name=""/>
            <p:cNvSpPr/>
            <p:nvPr/>
          </p:nvSpPr>
          <p:spPr>
            <a:xfrm>
              <a:off x="5559480" y="1058760"/>
              <a:ext cx="208080" cy="441360"/>
            </a:xfrm>
            <a:prstGeom prst="can">
              <a:avLst>
                <a:gd name="adj" fmla="val 25000"/>
              </a:avLst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3" name=""/>
            <p:cNvSpPr/>
            <p:nvPr/>
          </p:nvSpPr>
          <p:spPr>
            <a:xfrm>
              <a:off x="5661360" y="1057320"/>
              <a:ext cx="0" cy="120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74" name=""/>
          <p:cNvSpPr/>
          <p:nvPr/>
        </p:nvSpPr>
        <p:spPr>
          <a:xfrm flipH="1" flipV="1">
            <a:off x="5100120" y="2624040"/>
            <a:ext cx="249480" cy="3016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5" name=""/>
          <p:cNvSpPr/>
          <p:nvPr/>
        </p:nvSpPr>
        <p:spPr>
          <a:xfrm flipH="1">
            <a:off x="5062320" y="2922480"/>
            <a:ext cx="299880" cy="373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6" name=""/>
          <p:cNvSpPr/>
          <p:nvPr/>
        </p:nvSpPr>
        <p:spPr>
          <a:xfrm flipH="1" flipV="1">
            <a:off x="4655880" y="2257200"/>
            <a:ext cx="128520" cy="214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7" name=""/>
          <p:cNvSpPr/>
          <p:nvPr/>
        </p:nvSpPr>
        <p:spPr>
          <a:xfrm flipH="1">
            <a:off x="4668480" y="2077920"/>
            <a:ext cx="128520" cy="187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8" name=""/>
          <p:cNvSpPr/>
          <p:nvPr/>
        </p:nvSpPr>
        <p:spPr>
          <a:xfrm flipH="1">
            <a:off x="4417920" y="2286000"/>
            <a:ext cx="231840" cy="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9" name=""/>
          <p:cNvSpPr/>
          <p:nvPr/>
        </p:nvSpPr>
        <p:spPr>
          <a:xfrm>
            <a:off x="3774960" y="6226560"/>
            <a:ext cx="5461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NH</a:t>
            </a:r>
            <a:r>
              <a:rPr b="0" lang="cs-CZ" sz="1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0" name=""/>
          <p:cNvSpPr/>
          <p:nvPr/>
        </p:nvSpPr>
        <p:spPr>
          <a:xfrm>
            <a:off x="5579280" y="6220080"/>
            <a:ext cx="598320" cy="38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NH</a:t>
            </a:r>
            <a:r>
              <a:rPr b="0" lang="cs-CZ" sz="16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cs-CZ" sz="1600" spc="-1" strike="noStrike" baseline="5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1" name=""/>
          <p:cNvSpPr/>
          <p:nvPr/>
        </p:nvSpPr>
        <p:spPr>
          <a:xfrm>
            <a:off x="3613320" y="5581800"/>
            <a:ext cx="726840" cy="38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HCO</a:t>
            </a:r>
            <a:r>
              <a:rPr b="0" lang="cs-CZ" sz="1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cs-CZ" sz="1600" spc="-1" strike="noStrike" baseline="50000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2" name=""/>
          <p:cNvSpPr/>
          <p:nvPr/>
        </p:nvSpPr>
        <p:spPr>
          <a:xfrm>
            <a:off x="5462640" y="5559840"/>
            <a:ext cx="7272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0" lang="cs-CZ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3" name=""/>
          <p:cNvSpPr/>
          <p:nvPr/>
        </p:nvSpPr>
        <p:spPr>
          <a:xfrm>
            <a:off x="3489480" y="5891400"/>
            <a:ext cx="942840" cy="38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HPO</a:t>
            </a:r>
            <a:r>
              <a:rPr b="0" lang="cs-CZ" sz="16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cs-CZ" sz="1600" spc="-1" strike="noStrike" baseline="50000">
                <a:solidFill>
                  <a:srgbClr val="000000"/>
                </a:solidFill>
                <a:latin typeface="Times New Roman"/>
              </a:rPr>
              <a:t>2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4" name=""/>
          <p:cNvSpPr/>
          <p:nvPr/>
        </p:nvSpPr>
        <p:spPr>
          <a:xfrm>
            <a:off x="5460840" y="5880240"/>
            <a:ext cx="943200" cy="38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cs-CZ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PO</a:t>
            </a:r>
            <a:r>
              <a:rPr b="0" lang="cs-CZ" sz="16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cs-CZ" sz="1600" spc="-1" strike="noStrike" baseline="50000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5" name=""/>
          <p:cNvSpPr/>
          <p:nvPr/>
        </p:nvSpPr>
        <p:spPr>
          <a:xfrm>
            <a:off x="6148080" y="5923080"/>
            <a:ext cx="168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400" spc="-1" strike="noStrike">
                <a:solidFill>
                  <a:srgbClr val="000000"/>
                </a:solidFill>
                <a:latin typeface="Times New Roman"/>
              </a:rPr>
              <a:t>(titrovatelná acidita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6" name=""/>
          <p:cNvSpPr/>
          <p:nvPr/>
        </p:nvSpPr>
        <p:spPr>
          <a:xfrm>
            <a:off x="4856040" y="5688000"/>
            <a:ext cx="692280" cy="441360"/>
          </a:xfrm>
          <a:custGeom>
            <a:avLst/>
            <a:gdLst/>
            <a:ahLst/>
            <a:rect l="l" t="t" r="r" b="b"/>
            <a:pathLst>
              <a:path w="386" h="278">
                <a:moveTo>
                  <a:pt x="7" y="0"/>
                </a:moveTo>
                <a:cubicBezTo>
                  <a:pt x="11" y="38"/>
                  <a:pt x="0" y="192"/>
                  <a:pt x="29" y="235"/>
                </a:cubicBezTo>
                <a:cubicBezTo>
                  <a:pt x="58" y="278"/>
                  <a:pt x="122" y="252"/>
                  <a:pt x="181" y="256"/>
                </a:cubicBezTo>
                <a:cubicBezTo>
                  <a:pt x="240" y="260"/>
                  <a:pt x="343" y="258"/>
                  <a:pt x="386" y="259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7" name=""/>
          <p:cNvSpPr/>
          <p:nvPr/>
        </p:nvSpPr>
        <p:spPr>
          <a:xfrm>
            <a:off x="4862520" y="5979960"/>
            <a:ext cx="665280" cy="484200"/>
          </a:xfrm>
          <a:custGeom>
            <a:avLst/>
            <a:gdLst/>
            <a:ahLst/>
            <a:rect l="l" t="t" r="r" b="b"/>
            <a:pathLst>
              <a:path w="386" h="278">
                <a:moveTo>
                  <a:pt x="7" y="0"/>
                </a:moveTo>
                <a:cubicBezTo>
                  <a:pt x="11" y="38"/>
                  <a:pt x="0" y="192"/>
                  <a:pt x="29" y="235"/>
                </a:cubicBezTo>
                <a:cubicBezTo>
                  <a:pt x="58" y="278"/>
                  <a:pt x="122" y="252"/>
                  <a:pt x="181" y="256"/>
                </a:cubicBezTo>
                <a:cubicBezTo>
                  <a:pt x="240" y="260"/>
                  <a:pt x="343" y="258"/>
                  <a:pt x="386" y="259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8" name=""/>
          <p:cNvSpPr/>
          <p:nvPr/>
        </p:nvSpPr>
        <p:spPr>
          <a:xfrm>
            <a:off x="4853160" y="5607000"/>
            <a:ext cx="674640" cy="190440"/>
          </a:xfrm>
          <a:custGeom>
            <a:avLst/>
            <a:gdLst/>
            <a:ahLst/>
            <a:rect l="l" t="t" r="r" b="b"/>
            <a:pathLst>
              <a:path w="386" h="278">
                <a:moveTo>
                  <a:pt x="7" y="0"/>
                </a:moveTo>
                <a:cubicBezTo>
                  <a:pt x="11" y="38"/>
                  <a:pt x="0" y="192"/>
                  <a:pt x="29" y="235"/>
                </a:cubicBezTo>
                <a:cubicBezTo>
                  <a:pt x="58" y="278"/>
                  <a:pt x="122" y="252"/>
                  <a:pt x="181" y="256"/>
                </a:cubicBezTo>
                <a:cubicBezTo>
                  <a:pt x="240" y="260"/>
                  <a:pt x="343" y="258"/>
                  <a:pt x="386" y="259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9" name=""/>
          <p:cNvSpPr/>
          <p:nvPr/>
        </p:nvSpPr>
        <p:spPr>
          <a:xfrm flipH="1" flipV="1">
            <a:off x="4255560" y="5776920"/>
            <a:ext cx="785880" cy="7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0" name=""/>
          <p:cNvSpPr/>
          <p:nvPr/>
        </p:nvSpPr>
        <p:spPr>
          <a:xfrm flipH="1" flipV="1">
            <a:off x="4227480" y="6084360"/>
            <a:ext cx="776160" cy="8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1" name=""/>
          <p:cNvSpPr/>
          <p:nvPr/>
        </p:nvSpPr>
        <p:spPr>
          <a:xfrm flipH="1">
            <a:off x="4216320" y="6427800"/>
            <a:ext cx="74952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2" name=""/>
          <p:cNvSpPr/>
          <p:nvPr/>
        </p:nvSpPr>
        <p:spPr>
          <a:xfrm>
            <a:off x="7358040" y="1028880"/>
            <a:ext cx="531720" cy="5475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3" name=""/>
          <p:cNvSpPr/>
          <p:nvPr/>
        </p:nvSpPr>
        <p:spPr>
          <a:xfrm>
            <a:off x="7446960" y="1130400"/>
            <a:ext cx="338040" cy="3366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4" name=""/>
          <p:cNvSpPr/>
          <p:nvPr/>
        </p:nvSpPr>
        <p:spPr>
          <a:xfrm>
            <a:off x="7615080" y="1984320"/>
            <a:ext cx="209880" cy="2080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5" name=""/>
          <p:cNvSpPr/>
          <p:nvPr/>
        </p:nvSpPr>
        <p:spPr>
          <a:xfrm>
            <a:off x="7773840" y="1257480"/>
            <a:ext cx="36720" cy="81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6" name=""/>
          <p:cNvSpPr/>
          <p:nvPr/>
        </p:nvSpPr>
        <p:spPr>
          <a:xfrm flipH="1" flipV="1">
            <a:off x="7443720" y="1311120"/>
            <a:ext cx="168480" cy="78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7" name=""/>
          <p:cNvSpPr/>
          <p:nvPr/>
        </p:nvSpPr>
        <p:spPr>
          <a:xfrm>
            <a:off x="7262640" y="2192400"/>
            <a:ext cx="131796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cs-CZ" sz="1200" spc="-1" strike="noStrike" baseline="60000">
                <a:solidFill>
                  <a:srgbClr val="000000"/>
                </a:solidFill>
                <a:latin typeface="Times New Roman"/>
              </a:rPr>
              <a:t>+ </a:t>
            </a:r>
            <a:r>
              <a:rPr b="1" lang="cs-CZ" sz="1200" spc="-1" strike="noStrike">
                <a:solidFill>
                  <a:srgbClr val="000000"/>
                </a:solidFill>
                <a:latin typeface="Times New Roman"/>
              </a:rPr>
              <a:t>-ATPáz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8" name=""/>
          <p:cNvSpPr/>
          <p:nvPr/>
        </p:nvSpPr>
        <p:spPr>
          <a:xfrm>
            <a:off x="8086680" y="4440240"/>
            <a:ext cx="531720" cy="5475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9" name=""/>
          <p:cNvSpPr/>
          <p:nvPr/>
        </p:nvSpPr>
        <p:spPr>
          <a:xfrm>
            <a:off x="10539360" y="4595760"/>
            <a:ext cx="36720" cy="8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0" name=""/>
          <p:cNvSpPr/>
          <p:nvPr/>
        </p:nvSpPr>
        <p:spPr>
          <a:xfrm>
            <a:off x="7338960" y="803160"/>
            <a:ext cx="7920" cy="17035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1" name=""/>
          <p:cNvSpPr/>
          <p:nvPr/>
        </p:nvSpPr>
        <p:spPr>
          <a:xfrm>
            <a:off x="6205680" y="2789640"/>
            <a:ext cx="863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cs-CZ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2" name=""/>
          <p:cNvSpPr/>
          <p:nvPr/>
        </p:nvSpPr>
        <p:spPr>
          <a:xfrm>
            <a:off x="7160400" y="2545920"/>
            <a:ext cx="392400" cy="35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cs-CZ" sz="1600" spc="-1" strike="noStrike" baseline="5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3" name=""/>
          <p:cNvSpPr/>
          <p:nvPr/>
        </p:nvSpPr>
        <p:spPr>
          <a:xfrm>
            <a:off x="7100640" y="3130200"/>
            <a:ext cx="513000" cy="35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OH</a:t>
            </a:r>
            <a:r>
              <a:rPr b="0" lang="cs-CZ" sz="1600" spc="-1" strike="noStrike" baseline="50000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4" name=""/>
          <p:cNvSpPr/>
          <p:nvPr/>
        </p:nvSpPr>
        <p:spPr>
          <a:xfrm flipH="1" flipV="1">
            <a:off x="6872400" y="2984400"/>
            <a:ext cx="317520" cy="2844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5" name=""/>
          <p:cNvSpPr/>
          <p:nvPr/>
        </p:nvSpPr>
        <p:spPr>
          <a:xfrm flipH="1">
            <a:off x="6875640" y="2762280"/>
            <a:ext cx="336240" cy="21744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6" name=""/>
          <p:cNvSpPr/>
          <p:nvPr/>
        </p:nvSpPr>
        <p:spPr>
          <a:xfrm>
            <a:off x="6980400" y="3750120"/>
            <a:ext cx="863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0" lang="cs-CZ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7" name=""/>
          <p:cNvSpPr/>
          <p:nvPr/>
        </p:nvSpPr>
        <p:spPr>
          <a:xfrm>
            <a:off x="7804080" y="3395880"/>
            <a:ext cx="863640" cy="38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HCO</a:t>
            </a:r>
            <a:r>
              <a:rPr b="0" lang="cs-CZ" sz="1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cs-CZ" sz="1600" spc="-1" strike="noStrike" baseline="50000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8" name=""/>
          <p:cNvSpPr/>
          <p:nvPr/>
        </p:nvSpPr>
        <p:spPr>
          <a:xfrm>
            <a:off x="6350040" y="3444840"/>
            <a:ext cx="138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400" spc="-1" strike="noStrike">
                <a:solidFill>
                  <a:srgbClr val="000000"/>
                </a:solidFill>
                <a:latin typeface="Times New Roman"/>
              </a:rPr>
              <a:t>karboanhydráz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9" name=""/>
          <p:cNvSpPr/>
          <p:nvPr/>
        </p:nvSpPr>
        <p:spPr>
          <a:xfrm flipH="1" flipV="1">
            <a:off x="7561440" y="3327120"/>
            <a:ext cx="179280" cy="258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0" name=""/>
          <p:cNvSpPr/>
          <p:nvPr/>
        </p:nvSpPr>
        <p:spPr>
          <a:xfrm flipV="1">
            <a:off x="7478640" y="3592440"/>
            <a:ext cx="258840" cy="231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1" name=""/>
          <p:cNvSpPr/>
          <p:nvPr/>
        </p:nvSpPr>
        <p:spPr>
          <a:xfrm flipH="1">
            <a:off x="7725960" y="3597120"/>
            <a:ext cx="228600" cy="324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2" name=""/>
          <p:cNvSpPr/>
          <p:nvPr/>
        </p:nvSpPr>
        <p:spPr>
          <a:xfrm>
            <a:off x="8602560" y="774720"/>
            <a:ext cx="6480" cy="30798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13" name=""/>
          <p:cNvGrpSpPr/>
          <p:nvPr/>
        </p:nvGrpSpPr>
        <p:grpSpPr>
          <a:xfrm>
            <a:off x="8507520" y="1096920"/>
            <a:ext cx="207720" cy="442800"/>
            <a:chOff x="8507520" y="1096920"/>
            <a:chExt cx="207720" cy="442800"/>
          </a:xfrm>
        </p:grpSpPr>
        <p:sp>
          <p:nvSpPr>
            <p:cNvPr id="11214" name=""/>
            <p:cNvSpPr/>
            <p:nvPr/>
          </p:nvSpPr>
          <p:spPr>
            <a:xfrm>
              <a:off x="8507520" y="1098360"/>
              <a:ext cx="207720" cy="441360"/>
            </a:xfrm>
            <a:prstGeom prst="can">
              <a:avLst>
                <a:gd name="adj" fmla="val 25000"/>
              </a:avLst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5" name=""/>
            <p:cNvSpPr/>
            <p:nvPr/>
          </p:nvSpPr>
          <p:spPr>
            <a:xfrm>
              <a:off x="8609040" y="1096920"/>
              <a:ext cx="0" cy="120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16" name=""/>
          <p:cNvSpPr/>
          <p:nvPr/>
        </p:nvSpPr>
        <p:spPr>
          <a:xfrm flipH="1">
            <a:off x="8604000" y="4140360"/>
            <a:ext cx="3240" cy="132048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7" name=""/>
          <p:cNvSpPr/>
          <p:nvPr/>
        </p:nvSpPr>
        <p:spPr>
          <a:xfrm>
            <a:off x="8456760" y="3823920"/>
            <a:ext cx="412200" cy="35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Cl</a:t>
            </a:r>
            <a:r>
              <a:rPr b="0" lang="cs-CZ" sz="1600" spc="-1" strike="noStrike" baseline="50000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8" name=""/>
          <p:cNvSpPr/>
          <p:nvPr/>
        </p:nvSpPr>
        <p:spPr>
          <a:xfrm>
            <a:off x="8074080" y="3789360"/>
            <a:ext cx="6120" cy="170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9" name=""/>
          <p:cNvSpPr/>
          <p:nvPr/>
        </p:nvSpPr>
        <p:spPr>
          <a:xfrm>
            <a:off x="8393400" y="461520"/>
            <a:ext cx="412200" cy="35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Cl</a:t>
            </a:r>
            <a:r>
              <a:rPr b="0" lang="cs-CZ" sz="1600" spc="-1" strike="noStrike" baseline="50000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0" name=""/>
          <p:cNvSpPr/>
          <p:nvPr/>
        </p:nvSpPr>
        <p:spPr>
          <a:xfrm>
            <a:off x="7190280" y="472680"/>
            <a:ext cx="392400" cy="35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cs-CZ" sz="1600" spc="-1" strike="noStrike" baseline="5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1" name=""/>
          <p:cNvSpPr/>
          <p:nvPr/>
        </p:nvSpPr>
        <p:spPr>
          <a:xfrm>
            <a:off x="7661160" y="5427720"/>
            <a:ext cx="863640" cy="38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HCO</a:t>
            </a:r>
            <a:r>
              <a:rPr b="0" lang="cs-CZ" sz="1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cs-CZ" sz="1600" spc="-1" strike="noStrike" baseline="50000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2" name=""/>
          <p:cNvSpPr/>
          <p:nvPr/>
        </p:nvSpPr>
        <p:spPr>
          <a:xfrm>
            <a:off x="8426880" y="5439960"/>
            <a:ext cx="412200" cy="35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Cl</a:t>
            </a:r>
            <a:r>
              <a:rPr b="0" lang="cs-CZ" sz="1600" spc="-1" strike="noStrike" baseline="50000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3" name=""/>
          <p:cNvSpPr/>
          <p:nvPr/>
        </p:nvSpPr>
        <p:spPr>
          <a:xfrm>
            <a:off x="3701880" y="202320"/>
            <a:ext cx="263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i="1" lang="cs-CZ" sz="2000" spc="-1" strike="noStrike">
                <a:solidFill>
                  <a:srgbClr val="000000"/>
                </a:solidFill>
                <a:latin typeface="Times New Roman"/>
              </a:rPr>
              <a:t>-interkalární buňk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4" name=""/>
          <p:cNvSpPr/>
          <p:nvPr/>
        </p:nvSpPr>
        <p:spPr>
          <a:xfrm>
            <a:off x="6404040" y="172080"/>
            <a:ext cx="252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i="1" lang="cs-CZ" sz="2000" spc="-1" strike="noStrike">
                <a:solidFill>
                  <a:srgbClr val="000000"/>
                </a:solidFill>
                <a:latin typeface="Times New Roman"/>
              </a:rPr>
              <a:t>-interkalární buňk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5" name=""/>
          <p:cNvSpPr/>
          <p:nvPr/>
        </p:nvSpPr>
        <p:spPr>
          <a:xfrm>
            <a:off x="1381680" y="184680"/>
            <a:ext cx="156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Times New Roman"/>
              </a:rPr>
              <a:t>hlavní buňk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6" name=""/>
          <p:cNvSpPr/>
          <p:nvPr/>
        </p:nvSpPr>
        <p:spPr>
          <a:xfrm>
            <a:off x="942120" y="5889960"/>
            <a:ext cx="97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lu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7" name=""/>
          <p:cNvSpPr/>
          <p:nvPr/>
        </p:nvSpPr>
        <p:spPr>
          <a:xfrm flipH="1">
            <a:off x="1281240" y="2473200"/>
            <a:ext cx="279360" cy="427320"/>
          </a:xfrm>
          <a:custGeom>
            <a:avLst/>
            <a:gdLst/>
            <a:ahLst/>
            <a:rect l="l" t="t" r="r" b="b"/>
            <a:pathLst>
              <a:path w="291" h="269">
                <a:moveTo>
                  <a:pt x="44" y="5"/>
                </a:moveTo>
                <a:lnTo>
                  <a:pt x="284" y="5"/>
                </a:lnTo>
                <a:lnTo>
                  <a:pt x="280" y="46"/>
                </a:lnTo>
                <a:lnTo>
                  <a:pt x="73" y="51"/>
                </a:lnTo>
                <a:lnTo>
                  <a:pt x="215" y="160"/>
                </a:lnTo>
                <a:lnTo>
                  <a:pt x="68" y="242"/>
                </a:lnTo>
                <a:lnTo>
                  <a:pt x="286" y="242"/>
                </a:lnTo>
                <a:lnTo>
                  <a:pt x="291" y="269"/>
                </a:lnTo>
                <a:lnTo>
                  <a:pt x="0" y="262"/>
                </a:lnTo>
                <a:lnTo>
                  <a:pt x="0" y="0"/>
                </a:lnTo>
                <a:lnTo>
                  <a:pt x="44" y="5"/>
                </a:lnTo>
                <a:close/>
              </a:path>
            </a:pathLst>
          </a:custGeom>
          <a:solidFill>
            <a:srgbClr val="ff3300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8" name=""/>
          <p:cNvSpPr/>
          <p:nvPr/>
        </p:nvSpPr>
        <p:spPr>
          <a:xfrm flipH="1">
            <a:off x="513720" y="1228680"/>
            <a:ext cx="228600" cy="303120"/>
          </a:xfrm>
          <a:custGeom>
            <a:avLst/>
            <a:gdLst/>
            <a:ahLst/>
            <a:rect l="l" t="t" r="r" b="b"/>
            <a:pathLst>
              <a:path w="269" h="191">
                <a:moveTo>
                  <a:pt x="269" y="9"/>
                </a:moveTo>
                <a:lnTo>
                  <a:pt x="5" y="0"/>
                </a:lnTo>
                <a:lnTo>
                  <a:pt x="147" y="109"/>
                </a:lnTo>
                <a:lnTo>
                  <a:pt x="0" y="191"/>
                </a:lnTo>
                <a:lnTo>
                  <a:pt x="253" y="188"/>
                </a:lnTo>
                <a:lnTo>
                  <a:pt x="269" y="9"/>
                </a:lnTo>
                <a:close/>
              </a:path>
            </a:pathLst>
          </a:custGeom>
          <a:solidFill>
            <a:srgbClr val="ff3300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9" name=""/>
          <p:cNvSpPr/>
          <p:nvPr/>
        </p:nvSpPr>
        <p:spPr>
          <a:xfrm flipH="1">
            <a:off x="3944880" y="2773440"/>
            <a:ext cx="279360" cy="426960"/>
          </a:xfrm>
          <a:custGeom>
            <a:avLst/>
            <a:gdLst/>
            <a:ahLst/>
            <a:rect l="l" t="t" r="r" b="b"/>
            <a:pathLst>
              <a:path w="291" h="269">
                <a:moveTo>
                  <a:pt x="44" y="5"/>
                </a:moveTo>
                <a:lnTo>
                  <a:pt x="284" y="5"/>
                </a:lnTo>
                <a:lnTo>
                  <a:pt x="280" y="46"/>
                </a:lnTo>
                <a:lnTo>
                  <a:pt x="73" y="51"/>
                </a:lnTo>
                <a:lnTo>
                  <a:pt x="215" y="160"/>
                </a:lnTo>
                <a:lnTo>
                  <a:pt x="68" y="242"/>
                </a:lnTo>
                <a:lnTo>
                  <a:pt x="286" y="242"/>
                </a:lnTo>
                <a:lnTo>
                  <a:pt x="291" y="269"/>
                </a:lnTo>
                <a:lnTo>
                  <a:pt x="0" y="262"/>
                </a:lnTo>
                <a:lnTo>
                  <a:pt x="0" y="0"/>
                </a:lnTo>
                <a:lnTo>
                  <a:pt x="44" y="5"/>
                </a:lnTo>
                <a:close/>
              </a:path>
            </a:pathLst>
          </a:custGeom>
          <a:solidFill>
            <a:srgbClr val="ff3300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0" name=""/>
          <p:cNvSpPr/>
          <p:nvPr/>
        </p:nvSpPr>
        <p:spPr>
          <a:xfrm>
            <a:off x="1525680" y="2975040"/>
            <a:ext cx="838080" cy="148428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1" name=""/>
          <p:cNvSpPr/>
          <p:nvPr/>
        </p:nvSpPr>
        <p:spPr>
          <a:xfrm>
            <a:off x="4202280" y="4327560"/>
            <a:ext cx="225360" cy="235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2" name=""/>
          <p:cNvSpPr/>
          <p:nvPr/>
        </p:nvSpPr>
        <p:spPr>
          <a:xfrm>
            <a:off x="1709640" y="4341960"/>
            <a:ext cx="225360" cy="2347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3" name=""/>
          <p:cNvSpPr/>
          <p:nvPr/>
        </p:nvSpPr>
        <p:spPr>
          <a:xfrm>
            <a:off x="2279520" y="4457880"/>
            <a:ext cx="225720" cy="2347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4" name=""/>
          <p:cNvSpPr/>
          <p:nvPr/>
        </p:nvSpPr>
        <p:spPr>
          <a:xfrm>
            <a:off x="2151000" y="1716120"/>
            <a:ext cx="225360" cy="235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5" name=""/>
          <p:cNvSpPr/>
          <p:nvPr/>
        </p:nvSpPr>
        <p:spPr>
          <a:xfrm>
            <a:off x="3102120" y="6694560"/>
            <a:ext cx="2395440" cy="1440"/>
          </a:xfrm>
          <a:custGeom>
            <a:avLst/>
            <a:gdLst/>
            <a:ahLst/>
            <a:rect l="l" t="t" r="r" b="b"/>
            <a:pathLst>
              <a:path w="1509" h="1">
                <a:moveTo>
                  <a:pt x="104" y="0"/>
                </a:moveTo>
                <a:lnTo>
                  <a:pt x="0" y="0"/>
                </a:lnTo>
                <a:lnTo>
                  <a:pt x="1509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6" name=""/>
          <p:cNvSpPr/>
          <p:nvPr/>
        </p:nvSpPr>
        <p:spPr>
          <a:xfrm>
            <a:off x="5662800" y="6513120"/>
            <a:ext cx="412200" cy="35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Cl</a:t>
            </a:r>
            <a:r>
              <a:rPr b="0" lang="cs-CZ" sz="1600" spc="-1" strike="noStrike" baseline="50000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7" name=""/>
          <p:cNvSpPr/>
          <p:nvPr/>
        </p:nvSpPr>
        <p:spPr>
          <a:xfrm>
            <a:off x="2886120" y="1249200"/>
            <a:ext cx="208080" cy="44136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8" name=""/>
          <p:cNvSpPr/>
          <p:nvPr/>
        </p:nvSpPr>
        <p:spPr>
          <a:xfrm>
            <a:off x="2679840" y="1722600"/>
            <a:ext cx="323640" cy="1346040"/>
          </a:xfrm>
          <a:custGeom>
            <a:avLst/>
            <a:gdLst/>
            <a:ahLst/>
            <a:rect l="l" t="t" r="r" b="b"/>
            <a:pathLst>
              <a:path w="204" h="848">
                <a:moveTo>
                  <a:pt x="182" y="0"/>
                </a:moveTo>
                <a:cubicBezTo>
                  <a:pt x="181" y="85"/>
                  <a:pt x="204" y="372"/>
                  <a:pt x="174" y="513"/>
                </a:cubicBezTo>
                <a:cubicBezTo>
                  <a:pt x="144" y="654"/>
                  <a:pt x="36" y="778"/>
                  <a:pt x="0" y="848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9" name=""/>
          <p:cNvSpPr/>
          <p:nvPr/>
        </p:nvSpPr>
        <p:spPr>
          <a:xfrm>
            <a:off x="2741760" y="763560"/>
            <a:ext cx="290520" cy="582480"/>
          </a:xfrm>
          <a:custGeom>
            <a:avLst/>
            <a:gdLst/>
            <a:ahLst/>
            <a:rect l="l" t="t" r="r" b="b"/>
            <a:pathLst>
              <a:path w="183" h="367">
                <a:moveTo>
                  <a:pt x="0" y="0"/>
                </a:moveTo>
                <a:cubicBezTo>
                  <a:pt x="26" y="18"/>
                  <a:pt x="129" y="48"/>
                  <a:pt x="156" y="109"/>
                </a:cubicBezTo>
                <a:cubicBezTo>
                  <a:pt x="183" y="170"/>
                  <a:pt x="161" y="313"/>
                  <a:pt x="162" y="367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0" name=""/>
          <p:cNvSpPr/>
          <p:nvPr/>
        </p:nvSpPr>
        <p:spPr>
          <a:xfrm>
            <a:off x="2759040" y="1486080"/>
            <a:ext cx="225360" cy="2347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1" name=""/>
          <p:cNvSpPr/>
          <p:nvPr/>
        </p:nvSpPr>
        <p:spPr>
          <a:xfrm>
            <a:off x="1614600" y="1716120"/>
            <a:ext cx="1331640" cy="1128600"/>
          </a:xfrm>
          <a:custGeom>
            <a:avLst/>
            <a:gdLst/>
            <a:ahLst/>
            <a:rect l="l" t="t" r="r" b="b"/>
            <a:pathLst>
              <a:path w="839" h="711">
                <a:moveTo>
                  <a:pt x="0" y="604"/>
                </a:moveTo>
                <a:cubicBezTo>
                  <a:pt x="118" y="605"/>
                  <a:pt x="581" y="711"/>
                  <a:pt x="710" y="610"/>
                </a:cubicBezTo>
                <a:cubicBezTo>
                  <a:pt x="839" y="509"/>
                  <a:pt x="761" y="127"/>
                  <a:pt x="774" y="0"/>
                </a:cubicBez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2" name=""/>
          <p:cNvSpPr/>
          <p:nvPr/>
        </p:nvSpPr>
        <p:spPr>
          <a:xfrm>
            <a:off x="157320" y="4788000"/>
            <a:ext cx="328320" cy="2070000"/>
          </a:xfrm>
          <a:prstGeom prst="ellipse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3" name=""/>
          <p:cNvSpPr/>
          <p:nvPr/>
        </p:nvSpPr>
        <p:spPr>
          <a:xfrm>
            <a:off x="8815320" y="4788000"/>
            <a:ext cx="328680" cy="2070000"/>
          </a:xfrm>
          <a:prstGeom prst="ellipse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4" name=""/>
          <p:cNvSpPr/>
          <p:nvPr/>
        </p:nvSpPr>
        <p:spPr>
          <a:xfrm>
            <a:off x="309600" y="4794120"/>
            <a:ext cx="182520" cy="205596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45" name=""/>
          <p:cNvGrpSpPr/>
          <p:nvPr/>
        </p:nvGrpSpPr>
        <p:grpSpPr>
          <a:xfrm>
            <a:off x="157320" y="184680"/>
            <a:ext cx="10418760" cy="6681960"/>
            <a:chOff x="157320" y="184680"/>
            <a:chExt cx="10418760" cy="6681960"/>
          </a:xfrm>
        </p:grpSpPr>
        <p:grpSp>
          <p:nvGrpSpPr>
            <p:cNvPr id="11246" name=""/>
            <p:cNvGrpSpPr/>
            <p:nvPr/>
          </p:nvGrpSpPr>
          <p:grpSpPr>
            <a:xfrm>
              <a:off x="157320" y="4786200"/>
              <a:ext cx="8986680" cy="2070360"/>
              <a:chOff x="157320" y="4786200"/>
              <a:chExt cx="8986680" cy="2070360"/>
            </a:xfrm>
          </p:grpSpPr>
          <p:sp>
            <p:nvSpPr>
              <p:cNvPr id="11247" name=""/>
              <p:cNvSpPr/>
              <p:nvPr/>
            </p:nvSpPr>
            <p:spPr>
              <a:xfrm>
                <a:off x="328680" y="4786200"/>
                <a:ext cx="8604360" cy="2070360"/>
              </a:xfrm>
              <a:prstGeom prst="rect">
                <a:avLst/>
              </a:prstGeom>
              <a:solidFill>
                <a:srgbClr val="ffff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48" name=""/>
              <p:cNvSpPr/>
              <p:nvPr/>
            </p:nvSpPr>
            <p:spPr>
              <a:xfrm>
                <a:off x="157320" y="4786200"/>
                <a:ext cx="328320" cy="2070360"/>
              </a:xfrm>
              <a:prstGeom prst="ellipse">
                <a:avLst/>
              </a:prstGeom>
              <a:solidFill>
                <a:srgbClr val="ffff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49" name=""/>
              <p:cNvSpPr/>
              <p:nvPr/>
            </p:nvSpPr>
            <p:spPr>
              <a:xfrm>
                <a:off x="8815320" y="4786200"/>
                <a:ext cx="328680" cy="2070360"/>
              </a:xfrm>
              <a:prstGeom prst="ellipse">
                <a:avLst/>
              </a:prstGeom>
              <a:solidFill>
                <a:srgbClr val="ffff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50" name=""/>
              <p:cNvSpPr/>
              <p:nvPr/>
            </p:nvSpPr>
            <p:spPr>
              <a:xfrm>
                <a:off x="309600" y="4792680"/>
                <a:ext cx="182520" cy="2055960"/>
              </a:xfrm>
              <a:prstGeom prst="rect">
                <a:avLst/>
              </a:pr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251" name=""/>
            <p:cNvSpPr/>
            <p:nvPr/>
          </p:nvSpPr>
          <p:spPr>
            <a:xfrm>
              <a:off x="3740040" y="1351080"/>
              <a:ext cx="2556000" cy="3402000"/>
            </a:xfrm>
            <a:custGeom>
              <a:avLst/>
              <a:gdLst>
                <a:gd name="textAreaLeft" fmla="*/ 124560 w 2556000"/>
                <a:gd name="textAreaRight" fmla="*/ 2431440 w 2556000"/>
                <a:gd name="textAreaTop" fmla="*/ 124560 h 3402000"/>
                <a:gd name="textAreaBottom" fmla="*/ 3277440 h 3402000"/>
              </a:gdLst>
              <a:ahLst/>
              <a:rect l="textAreaLeft" t="textAreaTop" r="textAreaRight" b="textAreaBottom"/>
              <a:pathLst>
                <a:path w="21600" h="28748">
                  <a:moveTo>
                    <a:pt x="3600" y="0"/>
                  </a:moveTo>
                  <a:arcTo wR="3600" hR="3600" stAng="16200000" swAng="-5400000"/>
                  <a:lnTo>
                    <a:pt x="0" y="25148"/>
                  </a:lnTo>
                  <a:arcTo wR="3600" hR="3600" stAng="10800000" swAng="-5400000"/>
                  <a:lnTo>
                    <a:pt x="18000" y="2874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2" name=""/>
            <p:cNvSpPr/>
            <p:nvPr/>
          </p:nvSpPr>
          <p:spPr>
            <a:xfrm>
              <a:off x="981000" y="1387440"/>
              <a:ext cx="2556000" cy="3402000"/>
            </a:xfrm>
            <a:custGeom>
              <a:avLst/>
              <a:gdLst>
                <a:gd name="textAreaLeft" fmla="*/ 124560 w 2556000"/>
                <a:gd name="textAreaRight" fmla="*/ 2431440 w 2556000"/>
                <a:gd name="textAreaTop" fmla="*/ 124560 h 3402000"/>
                <a:gd name="textAreaBottom" fmla="*/ 3277440 h 3402000"/>
              </a:gdLst>
              <a:ahLst/>
              <a:rect l="textAreaLeft" t="textAreaTop" r="textAreaRight" b="textAreaBottom"/>
              <a:pathLst>
                <a:path w="21600" h="28748">
                  <a:moveTo>
                    <a:pt x="3600" y="0"/>
                  </a:moveTo>
                  <a:arcTo wR="3600" hR="3600" stAng="16200000" swAng="-5400000"/>
                  <a:lnTo>
                    <a:pt x="0" y="25148"/>
                  </a:lnTo>
                  <a:arcTo wR="3600" hR="3600" stAng="10800000" swAng="-5400000"/>
                  <a:lnTo>
                    <a:pt x="18000" y="2874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3" name=""/>
            <p:cNvSpPr/>
            <p:nvPr/>
          </p:nvSpPr>
          <p:spPr>
            <a:xfrm>
              <a:off x="1753200" y="3033360"/>
              <a:ext cx="482400" cy="35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600" spc="-1" strike="noStrike">
                  <a:solidFill>
                    <a:srgbClr val="000000"/>
                  </a:solidFill>
                  <a:latin typeface="Times New Roman"/>
                </a:rPr>
                <a:t>Na</a:t>
              </a:r>
              <a:r>
                <a:rPr b="0" lang="cs-CZ" sz="1600" spc="-1" strike="noStrike" baseline="50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4" name=""/>
            <p:cNvSpPr/>
            <p:nvPr/>
          </p:nvSpPr>
          <p:spPr>
            <a:xfrm>
              <a:off x="2435760" y="3045960"/>
              <a:ext cx="392400" cy="35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6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cs-CZ" sz="1600" spc="-1" strike="noStrike" baseline="50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5" name=""/>
            <p:cNvSpPr/>
            <p:nvPr/>
          </p:nvSpPr>
          <p:spPr>
            <a:xfrm>
              <a:off x="2038320" y="1155600"/>
              <a:ext cx="531720" cy="54792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6" name=""/>
            <p:cNvSpPr/>
            <p:nvPr/>
          </p:nvSpPr>
          <p:spPr>
            <a:xfrm>
              <a:off x="2127240" y="1257480"/>
              <a:ext cx="338040" cy="3362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7" name=""/>
            <p:cNvSpPr/>
            <p:nvPr/>
          </p:nvSpPr>
          <p:spPr>
            <a:xfrm>
              <a:off x="2124000" y="2008080"/>
              <a:ext cx="209520" cy="20808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8" name=""/>
            <p:cNvSpPr/>
            <p:nvPr/>
          </p:nvSpPr>
          <p:spPr>
            <a:xfrm flipV="1">
              <a:off x="2325600" y="1501920"/>
              <a:ext cx="114480" cy="64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9" name=""/>
            <p:cNvSpPr/>
            <p:nvPr/>
          </p:nvSpPr>
          <p:spPr>
            <a:xfrm flipH="1">
              <a:off x="2118960" y="1378080"/>
              <a:ext cx="11160" cy="76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0" name=""/>
            <p:cNvSpPr/>
            <p:nvPr/>
          </p:nvSpPr>
          <p:spPr>
            <a:xfrm>
              <a:off x="1633680" y="2206800"/>
              <a:ext cx="1317600" cy="51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200" spc="-1" strike="noStrike">
                  <a:solidFill>
                    <a:srgbClr val="000000"/>
                  </a:solidFill>
                  <a:latin typeface="Times New Roman"/>
                </a:rPr>
                <a:t>Na</a:t>
              </a:r>
              <a:r>
                <a:rPr b="1" lang="cs-CZ" sz="1200" spc="-1" strike="noStrike" baseline="60000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lang="cs-CZ" sz="1200" spc="-1" strike="noStrike">
                  <a:solidFill>
                    <a:srgbClr val="000000"/>
                  </a:solidFill>
                  <a:latin typeface="Times New Roman"/>
                </a:rPr>
                <a:t>-K</a:t>
              </a:r>
              <a:r>
                <a:rPr b="1" lang="cs-CZ" sz="1200" spc="-1" strike="noStrike" baseline="60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200" spc="-1" strike="noStrike" baseline="60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1200" spc="-1" strike="noStrike">
                  <a:solidFill>
                    <a:srgbClr val="000000"/>
                  </a:solidFill>
                  <a:latin typeface="Times New Roman"/>
                </a:rPr>
                <a:t>ATPáz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1" name=""/>
            <p:cNvSpPr/>
            <p:nvPr/>
          </p:nvSpPr>
          <p:spPr>
            <a:xfrm>
              <a:off x="2033640" y="917640"/>
              <a:ext cx="0" cy="207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2" name=""/>
            <p:cNvSpPr/>
            <p:nvPr/>
          </p:nvSpPr>
          <p:spPr>
            <a:xfrm>
              <a:off x="2592360" y="905040"/>
              <a:ext cx="0" cy="2172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3" name=""/>
            <p:cNvSpPr/>
            <p:nvPr/>
          </p:nvSpPr>
          <p:spPr>
            <a:xfrm>
              <a:off x="2577960" y="3551400"/>
              <a:ext cx="554040" cy="1960560"/>
            </a:xfrm>
            <a:custGeom>
              <a:avLst/>
              <a:gdLst/>
              <a:ahLst/>
              <a:rect l="l" t="t" r="r" b="b"/>
              <a:pathLst>
                <a:path w="349" h="1147">
                  <a:moveTo>
                    <a:pt x="11" y="0"/>
                  </a:moveTo>
                  <a:lnTo>
                    <a:pt x="6" y="600"/>
                  </a:lnTo>
                  <a:cubicBezTo>
                    <a:pt x="8" y="725"/>
                    <a:pt x="22" y="697"/>
                    <a:pt x="22" y="753"/>
                  </a:cubicBezTo>
                  <a:cubicBezTo>
                    <a:pt x="22" y="809"/>
                    <a:pt x="0" y="878"/>
                    <a:pt x="6" y="938"/>
                  </a:cubicBezTo>
                  <a:cubicBezTo>
                    <a:pt x="12" y="998"/>
                    <a:pt x="3" y="1079"/>
                    <a:pt x="60" y="1113"/>
                  </a:cubicBezTo>
                  <a:cubicBezTo>
                    <a:pt x="117" y="1147"/>
                    <a:pt x="289" y="1135"/>
                    <a:pt x="349" y="114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4" name=""/>
            <p:cNvSpPr/>
            <p:nvPr/>
          </p:nvSpPr>
          <p:spPr>
            <a:xfrm>
              <a:off x="1273320" y="3430440"/>
              <a:ext cx="717480" cy="2102040"/>
            </a:xfrm>
            <a:custGeom>
              <a:avLst/>
              <a:gdLst/>
              <a:ahLst/>
              <a:rect l="l" t="t" r="r" b="b"/>
              <a:pathLst>
                <a:path w="452" h="1183">
                  <a:moveTo>
                    <a:pt x="436" y="0"/>
                  </a:moveTo>
                  <a:cubicBezTo>
                    <a:pt x="436" y="156"/>
                    <a:pt x="452" y="741"/>
                    <a:pt x="436" y="932"/>
                  </a:cubicBezTo>
                  <a:cubicBezTo>
                    <a:pt x="420" y="1123"/>
                    <a:pt x="411" y="1107"/>
                    <a:pt x="338" y="1145"/>
                  </a:cubicBezTo>
                  <a:cubicBezTo>
                    <a:pt x="265" y="1183"/>
                    <a:pt x="70" y="1158"/>
                    <a:pt x="0" y="1161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5" name=""/>
            <p:cNvSpPr/>
            <p:nvPr/>
          </p:nvSpPr>
          <p:spPr>
            <a:xfrm>
              <a:off x="2516040" y="4525920"/>
              <a:ext cx="208080" cy="441360"/>
            </a:xfrm>
            <a:prstGeom prst="can">
              <a:avLst>
                <a:gd name="adj" fmla="val 25000"/>
              </a:avLst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6" name=""/>
            <p:cNvSpPr/>
            <p:nvPr/>
          </p:nvSpPr>
          <p:spPr>
            <a:xfrm>
              <a:off x="1873080" y="4527720"/>
              <a:ext cx="208080" cy="441000"/>
            </a:xfrm>
            <a:prstGeom prst="can">
              <a:avLst>
                <a:gd name="adj" fmla="val 25000"/>
              </a:avLst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7" name=""/>
            <p:cNvSpPr/>
            <p:nvPr/>
          </p:nvSpPr>
          <p:spPr>
            <a:xfrm>
              <a:off x="1965240" y="4537080"/>
              <a:ext cx="0" cy="120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8" name=""/>
            <p:cNvSpPr/>
            <p:nvPr/>
          </p:nvSpPr>
          <p:spPr>
            <a:xfrm>
              <a:off x="2610000" y="4524480"/>
              <a:ext cx="0" cy="120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9" name=""/>
            <p:cNvSpPr/>
            <p:nvPr/>
          </p:nvSpPr>
          <p:spPr>
            <a:xfrm>
              <a:off x="3147120" y="5366880"/>
              <a:ext cx="392400" cy="35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6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cs-CZ" sz="1600" spc="-1" strike="noStrike" baseline="50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0" name=""/>
            <p:cNvSpPr/>
            <p:nvPr/>
          </p:nvSpPr>
          <p:spPr>
            <a:xfrm>
              <a:off x="685080" y="5308200"/>
              <a:ext cx="482400" cy="35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600" spc="-1" strike="noStrike">
                  <a:solidFill>
                    <a:srgbClr val="000000"/>
                  </a:solidFill>
                  <a:latin typeface="Times New Roman"/>
                </a:rPr>
                <a:t>Na</a:t>
              </a:r>
              <a:r>
                <a:rPr b="0" lang="cs-CZ" sz="1600" spc="-1" strike="noStrike" baseline="50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1" name=""/>
            <p:cNvSpPr/>
            <p:nvPr/>
          </p:nvSpPr>
          <p:spPr>
            <a:xfrm>
              <a:off x="3138480" y="996840"/>
              <a:ext cx="536760" cy="5688000"/>
            </a:xfrm>
            <a:custGeom>
              <a:avLst/>
              <a:gdLst/>
              <a:ahLst/>
              <a:rect l="l" t="t" r="r" b="b"/>
              <a:pathLst>
                <a:path w="338" h="3583">
                  <a:moveTo>
                    <a:pt x="314" y="0"/>
                  </a:moveTo>
                  <a:cubicBezTo>
                    <a:pt x="309" y="483"/>
                    <a:pt x="338" y="2301"/>
                    <a:pt x="286" y="2898"/>
                  </a:cubicBezTo>
                  <a:cubicBezTo>
                    <a:pt x="234" y="3495"/>
                    <a:pt x="263" y="3486"/>
                    <a:pt x="0" y="3583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2" name=""/>
            <p:cNvSpPr/>
            <p:nvPr/>
          </p:nvSpPr>
          <p:spPr>
            <a:xfrm>
              <a:off x="2752920" y="6513120"/>
              <a:ext cx="412200" cy="35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600" spc="-1" strike="noStrike">
                  <a:solidFill>
                    <a:srgbClr val="000000"/>
                  </a:solidFill>
                  <a:latin typeface="Times New Roman"/>
                </a:rPr>
                <a:t>Cl</a:t>
              </a:r>
              <a:r>
                <a:rPr b="0" lang="cs-CZ" sz="1600" spc="-1" strike="noStrike" baseline="50000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3" name=""/>
            <p:cNvSpPr/>
            <p:nvPr/>
          </p:nvSpPr>
          <p:spPr>
            <a:xfrm>
              <a:off x="3472200" y="595080"/>
              <a:ext cx="412200" cy="35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600" spc="-1" strike="noStrike">
                  <a:solidFill>
                    <a:srgbClr val="000000"/>
                  </a:solidFill>
                  <a:latin typeface="Times New Roman"/>
                </a:rPr>
                <a:t>Cl</a:t>
              </a:r>
              <a:r>
                <a:rPr b="0" lang="cs-CZ" sz="1600" spc="-1" strike="noStrike" baseline="50000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4" name=""/>
            <p:cNvSpPr/>
            <p:nvPr/>
          </p:nvSpPr>
          <p:spPr>
            <a:xfrm>
              <a:off x="1740600" y="553680"/>
              <a:ext cx="482400" cy="35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600" spc="-1" strike="noStrike">
                  <a:solidFill>
                    <a:srgbClr val="000000"/>
                  </a:solidFill>
                  <a:latin typeface="Times New Roman"/>
                </a:rPr>
                <a:t>Na</a:t>
              </a:r>
              <a:r>
                <a:rPr b="0" lang="cs-CZ" sz="1600" spc="-1" strike="noStrike" baseline="50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5" name=""/>
            <p:cNvSpPr/>
            <p:nvPr/>
          </p:nvSpPr>
          <p:spPr>
            <a:xfrm>
              <a:off x="2412000" y="542520"/>
              <a:ext cx="392400" cy="35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6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cs-CZ" sz="1600" spc="-1" strike="noStrike" baseline="50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6" name=""/>
            <p:cNvSpPr/>
            <p:nvPr/>
          </p:nvSpPr>
          <p:spPr>
            <a:xfrm>
              <a:off x="206280" y="973080"/>
              <a:ext cx="105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400" spc="-1" strike="noStrike">
                  <a:solidFill>
                    <a:srgbClr val="000000"/>
                  </a:solidFill>
                  <a:latin typeface="Times New Roman"/>
                </a:rPr>
                <a:t>Aldoster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7" name=""/>
            <p:cNvSpPr/>
            <p:nvPr/>
          </p:nvSpPr>
          <p:spPr>
            <a:xfrm>
              <a:off x="620640" y="1644480"/>
              <a:ext cx="635040" cy="1130400"/>
            </a:xfrm>
            <a:custGeom>
              <a:avLst/>
              <a:gdLst/>
              <a:ahLst/>
              <a:rect l="l" t="t" r="r" b="b"/>
              <a:pathLst>
                <a:path w="400" h="712">
                  <a:moveTo>
                    <a:pt x="29" y="0"/>
                  </a:moveTo>
                  <a:cubicBezTo>
                    <a:pt x="34" y="100"/>
                    <a:pt x="0" y="488"/>
                    <a:pt x="62" y="600"/>
                  </a:cubicBezTo>
                  <a:cubicBezTo>
                    <a:pt x="124" y="712"/>
                    <a:pt x="330" y="656"/>
                    <a:pt x="400" y="671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8" name=""/>
            <p:cNvSpPr/>
            <p:nvPr/>
          </p:nvSpPr>
          <p:spPr>
            <a:xfrm flipV="1">
              <a:off x="1589040" y="1913040"/>
              <a:ext cx="546120" cy="63792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9" name=""/>
            <p:cNvSpPr/>
            <p:nvPr/>
          </p:nvSpPr>
          <p:spPr>
            <a:xfrm>
              <a:off x="1508040" y="2963880"/>
              <a:ext cx="303120" cy="137484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0" name=""/>
            <p:cNvSpPr/>
            <p:nvPr/>
          </p:nvSpPr>
          <p:spPr>
            <a:xfrm>
              <a:off x="3994200" y="3263760"/>
              <a:ext cx="252360" cy="1098720"/>
            </a:xfrm>
            <a:custGeom>
              <a:avLst/>
              <a:gdLst/>
              <a:ahLst/>
              <a:rect l="l" t="t" r="r" b="b"/>
              <a:pathLst>
                <a:path w="159" h="692">
                  <a:moveTo>
                    <a:pt x="34" y="0"/>
                  </a:moveTo>
                  <a:cubicBezTo>
                    <a:pt x="32" y="61"/>
                    <a:pt x="0" y="252"/>
                    <a:pt x="21" y="367"/>
                  </a:cubicBezTo>
                  <a:cubicBezTo>
                    <a:pt x="45" y="488"/>
                    <a:pt x="130" y="624"/>
                    <a:pt x="159" y="692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1" name=""/>
            <p:cNvSpPr/>
            <p:nvPr/>
          </p:nvSpPr>
          <p:spPr>
            <a:xfrm>
              <a:off x="4381560" y="4408560"/>
              <a:ext cx="531720" cy="54756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2" name=""/>
            <p:cNvSpPr/>
            <p:nvPr/>
          </p:nvSpPr>
          <p:spPr>
            <a:xfrm>
              <a:off x="4470480" y="4510080"/>
              <a:ext cx="338040" cy="3366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3" name=""/>
            <p:cNvSpPr/>
            <p:nvPr/>
          </p:nvSpPr>
          <p:spPr>
            <a:xfrm>
              <a:off x="4560840" y="3797280"/>
              <a:ext cx="209520" cy="20808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4" name=""/>
            <p:cNvSpPr/>
            <p:nvPr/>
          </p:nvSpPr>
          <p:spPr>
            <a:xfrm flipH="1" flipV="1">
              <a:off x="4773600" y="3914640"/>
              <a:ext cx="23760" cy="82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5" name=""/>
            <p:cNvSpPr/>
            <p:nvPr/>
          </p:nvSpPr>
          <p:spPr>
            <a:xfrm flipH="1">
              <a:off x="4458960" y="3902040"/>
              <a:ext cx="98280" cy="79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6" name=""/>
            <p:cNvSpPr/>
            <p:nvPr/>
          </p:nvSpPr>
          <p:spPr>
            <a:xfrm>
              <a:off x="760320" y="1384200"/>
              <a:ext cx="3211560" cy="1666800"/>
            </a:xfrm>
            <a:custGeom>
              <a:avLst/>
              <a:gdLst/>
              <a:ahLst/>
              <a:rect l="l" t="t" r="r" b="b"/>
              <a:pathLst>
                <a:path w="1973" h="1023">
                  <a:moveTo>
                    <a:pt x="0" y="0"/>
                  </a:moveTo>
                  <a:cubicBezTo>
                    <a:pt x="99" y="112"/>
                    <a:pt x="360" y="509"/>
                    <a:pt x="596" y="671"/>
                  </a:cubicBezTo>
                  <a:cubicBezTo>
                    <a:pt x="832" y="833"/>
                    <a:pt x="1190" y="919"/>
                    <a:pt x="1419" y="971"/>
                  </a:cubicBezTo>
                  <a:cubicBezTo>
                    <a:pt x="1648" y="1023"/>
                    <a:pt x="1858" y="981"/>
                    <a:pt x="1973" y="984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7" name=""/>
            <p:cNvSpPr/>
            <p:nvPr/>
          </p:nvSpPr>
          <p:spPr>
            <a:xfrm>
              <a:off x="3819600" y="3468600"/>
              <a:ext cx="131760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2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1" lang="cs-CZ" sz="1200" spc="-1" strike="noStrike" baseline="60000">
                  <a:solidFill>
                    <a:srgbClr val="000000"/>
                  </a:solidFill>
                  <a:latin typeface="Times New Roman"/>
                </a:rPr>
                <a:t>+ </a:t>
              </a:r>
              <a:r>
                <a:rPr b="1" lang="cs-CZ" sz="1200" spc="-1" strike="noStrike">
                  <a:solidFill>
                    <a:srgbClr val="000000"/>
                  </a:solidFill>
                  <a:latin typeface="Times New Roman"/>
                </a:rPr>
                <a:t>-ATPáz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8" name=""/>
            <p:cNvSpPr/>
            <p:nvPr/>
          </p:nvSpPr>
          <p:spPr>
            <a:xfrm>
              <a:off x="4929120" y="3537000"/>
              <a:ext cx="6480" cy="185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9" name=""/>
            <p:cNvSpPr/>
            <p:nvPr/>
          </p:nvSpPr>
          <p:spPr>
            <a:xfrm>
              <a:off x="4736160" y="3157200"/>
              <a:ext cx="392400" cy="35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6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0" lang="cs-CZ" sz="1600" spc="-1" strike="noStrike" baseline="50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0" name=""/>
            <p:cNvSpPr/>
            <p:nvPr/>
          </p:nvSpPr>
          <p:spPr>
            <a:xfrm>
              <a:off x="4656240" y="2098800"/>
              <a:ext cx="1387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1400" spc="-1" strike="noStrike">
                  <a:solidFill>
                    <a:srgbClr val="000000"/>
                  </a:solidFill>
                  <a:latin typeface="Times New Roman"/>
                </a:rPr>
                <a:t>karboanhydráz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1" name=""/>
            <p:cNvSpPr/>
            <p:nvPr/>
          </p:nvSpPr>
          <p:spPr>
            <a:xfrm>
              <a:off x="4643280" y="1754640"/>
              <a:ext cx="7272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600" spc="-1" strike="noStrike">
                  <a:solidFill>
                    <a:srgbClr val="000000"/>
                  </a:solidFill>
                  <a:latin typeface="Times New Roman"/>
                </a:rPr>
                <a:t>CO</a:t>
              </a:r>
              <a:r>
                <a:rPr b="0" lang="cs-CZ" sz="1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2" name=""/>
            <p:cNvSpPr/>
            <p:nvPr/>
          </p:nvSpPr>
          <p:spPr>
            <a:xfrm>
              <a:off x="5254560" y="2730960"/>
              <a:ext cx="7272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6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0" lang="cs-CZ" sz="1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cs-CZ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3" name=""/>
            <p:cNvSpPr/>
            <p:nvPr/>
          </p:nvSpPr>
          <p:spPr>
            <a:xfrm>
              <a:off x="4740840" y="5341680"/>
              <a:ext cx="392400" cy="35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6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0" lang="cs-CZ" sz="1600" spc="-1" strike="noStrike" baseline="50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4" name=""/>
            <p:cNvSpPr/>
            <p:nvPr/>
          </p:nvSpPr>
          <p:spPr>
            <a:xfrm>
              <a:off x="4665600" y="2414160"/>
              <a:ext cx="513000" cy="35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600" spc="-1" strike="noStrike">
                  <a:solidFill>
                    <a:srgbClr val="000000"/>
                  </a:solidFill>
                  <a:latin typeface="Times New Roman"/>
                </a:rPr>
                <a:t>OH</a:t>
              </a:r>
              <a:r>
                <a:rPr b="0" lang="cs-CZ" sz="1600" spc="-1" strike="noStrike" baseline="50000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5" name=""/>
            <p:cNvSpPr/>
            <p:nvPr/>
          </p:nvSpPr>
          <p:spPr>
            <a:xfrm>
              <a:off x="3787920" y="2082960"/>
              <a:ext cx="726840" cy="38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600" spc="-1" strike="noStrike">
                  <a:solidFill>
                    <a:srgbClr val="000000"/>
                  </a:solidFill>
                  <a:latin typeface="Times New Roman"/>
                </a:rPr>
                <a:t>HCO</a:t>
              </a:r>
              <a:r>
                <a:rPr b="0" lang="cs-CZ" sz="16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0" lang="cs-CZ" sz="1600" spc="-1" strike="noStrike" baseline="50000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6" name=""/>
            <p:cNvSpPr/>
            <p:nvPr/>
          </p:nvSpPr>
          <p:spPr>
            <a:xfrm>
              <a:off x="4160880" y="1106640"/>
              <a:ext cx="531720" cy="54756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7" name=""/>
            <p:cNvSpPr/>
            <p:nvPr/>
          </p:nvSpPr>
          <p:spPr>
            <a:xfrm>
              <a:off x="4507200" y="626760"/>
              <a:ext cx="412200" cy="35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600" spc="-1" strike="noStrike">
                  <a:solidFill>
                    <a:srgbClr val="000000"/>
                  </a:solidFill>
                  <a:latin typeface="Times New Roman"/>
                </a:rPr>
                <a:t>Cl</a:t>
              </a:r>
              <a:r>
                <a:rPr b="0" lang="cs-CZ" sz="1600" spc="-1" strike="noStrike" baseline="50000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8" name=""/>
            <p:cNvSpPr/>
            <p:nvPr/>
          </p:nvSpPr>
          <p:spPr>
            <a:xfrm>
              <a:off x="5508720" y="1574280"/>
              <a:ext cx="412200" cy="35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600" spc="-1" strike="noStrike">
                  <a:solidFill>
                    <a:srgbClr val="000000"/>
                  </a:solidFill>
                  <a:latin typeface="Times New Roman"/>
                </a:rPr>
                <a:t>Cl</a:t>
              </a:r>
              <a:r>
                <a:rPr b="0" lang="cs-CZ" sz="1600" spc="-1" strike="noStrike" baseline="50000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9" name=""/>
            <p:cNvSpPr/>
            <p:nvPr/>
          </p:nvSpPr>
          <p:spPr>
            <a:xfrm>
              <a:off x="3879720" y="598680"/>
              <a:ext cx="727200" cy="38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600" spc="-1" strike="noStrike">
                  <a:solidFill>
                    <a:srgbClr val="000000"/>
                  </a:solidFill>
                  <a:latin typeface="Times New Roman"/>
                </a:rPr>
                <a:t>HCO</a:t>
              </a:r>
              <a:r>
                <a:rPr b="0" lang="cs-CZ" sz="16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0" lang="cs-CZ" sz="1600" spc="-1" strike="noStrike" baseline="50000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0" name=""/>
            <p:cNvSpPr/>
            <p:nvPr/>
          </p:nvSpPr>
          <p:spPr>
            <a:xfrm flipH="1">
              <a:off x="4149720" y="992160"/>
              <a:ext cx="9360" cy="1100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1" name=""/>
            <p:cNvSpPr/>
            <p:nvPr/>
          </p:nvSpPr>
          <p:spPr>
            <a:xfrm>
              <a:off x="4692600" y="952560"/>
              <a:ext cx="754200" cy="903240"/>
            </a:xfrm>
            <a:custGeom>
              <a:avLst/>
              <a:gdLst/>
              <a:ahLst/>
              <a:rect l="l" t="t" r="r" b="b"/>
              <a:pathLst>
                <a:path w="475" h="569">
                  <a:moveTo>
                    <a:pt x="2" y="0"/>
                  </a:moveTo>
                  <a:lnTo>
                    <a:pt x="0" y="480"/>
                  </a:lnTo>
                  <a:cubicBezTo>
                    <a:pt x="31" y="569"/>
                    <a:pt x="107" y="525"/>
                    <a:pt x="186" y="534"/>
                  </a:cubicBezTo>
                  <a:cubicBezTo>
                    <a:pt x="265" y="543"/>
                    <a:pt x="415" y="534"/>
                    <a:pt x="475" y="534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2" name=""/>
            <p:cNvSpPr/>
            <p:nvPr/>
          </p:nvSpPr>
          <p:spPr>
            <a:xfrm>
              <a:off x="4919760" y="743040"/>
              <a:ext cx="804600" cy="853920"/>
            </a:xfrm>
            <a:custGeom>
              <a:avLst/>
              <a:gdLst/>
              <a:ahLst/>
              <a:rect l="l" t="t" r="r" b="b"/>
              <a:pathLst>
                <a:path w="507" h="538">
                  <a:moveTo>
                    <a:pt x="0" y="35"/>
                  </a:moveTo>
                  <a:cubicBezTo>
                    <a:pt x="72" y="43"/>
                    <a:pt x="353" y="0"/>
                    <a:pt x="430" y="84"/>
                  </a:cubicBezTo>
                  <a:cubicBezTo>
                    <a:pt x="507" y="168"/>
                    <a:pt x="455" y="444"/>
                    <a:pt x="461" y="538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303" name=""/>
            <p:cNvGrpSpPr/>
            <p:nvPr/>
          </p:nvGrpSpPr>
          <p:grpSpPr>
            <a:xfrm>
              <a:off x="5559480" y="1057320"/>
              <a:ext cx="208080" cy="442800"/>
              <a:chOff x="5559480" y="1057320"/>
              <a:chExt cx="208080" cy="442800"/>
            </a:xfrm>
          </p:grpSpPr>
          <p:sp>
            <p:nvSpPr>
              <p:cNvPr id="11304" name=""/>
              <p:cNvSpPr/>
              <p:nvPr/>
            </p:nvSpPr>
            <p:spPr>
              <a:xfrm>
                <a:off x="5559480" y="1058760"/>
                <a:ext cx="208080" cy="441360"/>
              </a:xfrm>
              <a:prstGeom prst="can">
                <a:avLst>
                  <a:gd name="adj" fmla="val 25000"/>
                </a:avLst>
              </a:prstGeom>
              <a:solidFill>
                <a:srgbClr val="00cc99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05" name=""/>
              <p:cNvSpPr/>
              <p:nvPr/>
            </p:nvSpPr>
            <p:spPr>
              <a:xfrm>
                <a:off x="5661360" y="1057320"/>
                <a:ext cx="0" cy="120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306" name=""/>
            <p:cNvSpPr/>
            <p:nvPr/>
          </p:nvSpPr>
          <p:spPr>
            <a:xfrm flipH="1" flipV="1">
              <a:off x="5100120" y="2624040"/>
              <a:ext cx="249480" cy="301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7" name=""/>
            <p:cNvSpPr/>
            <p:nvPr/>
          </p:nvSpPr>
          <p:spPr>
            <a:xfrm flipH="1">
              <a:off x="5062320" y="2922480"/>
              <a:ext cx="299880" cy="373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8" name=""/>
            <p:cNvSpPr/>
            <p:nvPr/>
          </p:nvSpPr>
          <p:spPr>
            <a:xfrm flipH="1" flipV="1">
              <a:off x="4655880" y="2257200"/>
              <a:ext cx="128520" cy="214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9" name=""/>
            <p:cNvSpPr/>
            <p:nvPr/>
          </p:nvSpPr>
          <p:spPr>
            <a:xfrm flipH="1">
              <a:off x="4668480" y="2077920"/>
              <a:ext cx="128520" cy="187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0" name=""/>
            <p:cNvSpPr/>
            <p:nvPr/>
          </p:nvSpPr>
          <p:spPr>
            <a:xfrm flipH="1">
              <a:off x="4417920" y="2286000"/>
              <a:ext cx="2318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1" name=""/>
            <p:cNvSpPr/>
            <p:nvPr/>
          </p:nvSpPr>
          <p:spPr>
            <a:xfrm>
              <a:off x="3774960" y="6226560"/>
              <a:ext cx="5461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600" spc="-1" strike="noStrike">
                  <a:solidFill>
                    <a:srgbClr val="000000"/>
                  </a:solidFill>
                  <a:latin typeface="Times New Roman"/>
                </a:rPr>
                <a:t>NH</a:t>
              </a:r>
              <a:r>
                <a:rPr b="0" lang="cs-CZ" sz="16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2" name=""/>
            <p:cNvSpPr/>
            <p:nvPr/>
          </p:nvSpPr>
          <p:spPr>
            <a:xfrm>
              <a:off x="5579280" y="6220080"/>
              <a:ext cx="598320" cy="38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600" spc="-1" strike="noStrike">
                  <a:solidFill>
                    <a:srgbClr val="000000"/>
                  </a:solidFill>
                  <a:latin typeface="Times New Roman"/>
                </a:rPr>
                <a:t>NH</a:t>
              </a:r>
              <a:r>
                <a:rPr b="0" lang="cs-CZ" sz="16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0" lang="cs-CZ" sz="1600" spc="-1" strike="noStrike" baseline="50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3" name=""/>
            <p:cNvSpPr/>
            <p:nvPr/>
          </p:nvSpPr>
          <p:spPr>
            <a:xfrm>
              <a:off x="3613320" y="5581800"/>
              <a:ext cx="726840" cy="38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600" spc="-1" strike="noStrike">
                  <a:solidFill>
                    <a:srgbClr val="000000"/>
                  </a:solidFill>
                  <a:latin typeface="Times New Roman"/>
                </a:rPr>
                <a:t>HCO</a:t>
              </a:r>
              <a:r>
                <a:rPr b="0" lang="cs-CZ" sz="16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0" lang="cs-CZ" sz="1600" spc="-1" strike="noStrike" baseline="50000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4" name=""/>
            <p:cNvSpPr/>
            <p:nvPr/>
          </p:nvSpPr>
          <p:spPr>
            <a:xfrm>
              <a:off x="5462640" y="5559840"/>
              <a:ext cx="7272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600" spc="-1" strike="noStrike">
                  <a:solidFill>
                    <a:srgbClr val="000000"/>
                  </a:solidFill>
                  <a:latin typeface="Times New Roman"/>
                </a:rPr>
                <a:t>CO</a:t>
              </a:r>
              <a:r>
                <a:rPr b="0" lang="cs-CZ" sz="1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5" name=""/>
            <p:cNvSpPr/>
            <p:nvPr/>
          </p:nvSpPr>
          <p:spPr>
            <a:xfrm>
              <a:off x="3489480" y="5891400"/>
              <a:ext cx="942840" cy="38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600" spc="-1" strike="noStrike">
                  <a:solidFill>
                    <a:srgbClr val="000000"/>
                  </a:solidFill>
                  <a:latin typeface="Times New Roman"/>
                </a:rPr>
                <a:t>HPO</a:t>
              </a:r>
              <a:r>
                <a:rPr b="0" lang="cs-CZ" sz="16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0" lang="cs-CZ" sz="1600" spc="-1" strike="noStrike" baseline="50000">
                  <a:solidFill>
                    <a:srgbClr val="000000"/>
                  </a:solidFill>
                  <a:latin typeface="Times New Roman"/>
                </a:rPr>
                <a:t>2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6" name=""/>
            <p:cNvSpPr/>
            <p:nvPr/>
          </p:nvSpPr>
          <p:spPr>
            <a:xfrm>
              <a:off x="5460840" y="5880240"/>
              <a:ext cx="943200" cy="38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6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0" lang="cs-CZ" sz="1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cs-CZ" sz="1600" spc="-1" strike="noStrike">
                  <a:solidFill>
                    <a:srgbClr val="000000"/>
                  </a:solidFill>
                  <a:latin typeface="Times New Roman"/>
                </a:rPr>
                <a:t>PO</a:t>
              </a:r>
              <a:r>
                <a:rPr b="0" lang="cs-CZ" sz="16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0" lang="cs-CZ" sz="1600" spc="-1" strike="noStrike" baseline="50000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7" name=""/>
            <p:cNvSpPr/>
            <p:nvPr/>
          </p:nvSpPr>
          <p:spPr>
            <a:xfrm>
              <a:off x="6148080" y="5923080"/>
              <a:ext cx="168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1400" spc="-1" strike="noStrike">
                  <a:solidFill>
                    <a:srgbClr val="000000"/>
                  </a:solidFill>
                  <a:latin typeface="Times New Roman"/>
                </a:rPr>
                <a:t>(titrovatelná acidita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8" name=""/>
            <p:cNvSpPr/>
            <p:nvPr/>
          </p:nvSpPr>
          <p:spPr>
            <a:xfrm>
              <a:off x="4856040" y="5688000"/>
              <a:ext cx="692280" cy="441360"/>
            </a:xfrm>
            <a:custGeom>
              <a:avLst/>
              <a:gdLst/>
              <a:ahLst/>
              <a:rect l="l" t="t" r="r" b="b"/>
              <a:pathLst>
                <a:path w="386" h="278">
                  <a:moveTo>
                    <a:pt x="7" y="0"/>
                  </a:moveTo>
                  <a:cubicBezTo>
                    <a:pt x="11" y="38"/>
                    <a:pt x="0" y="192"/>
                    <a:pt x="29" y="235"/>
                  </a:cubicBezTo>
                  <a:cubicBezTo>
                    <a:pt x="58" y="278"/>
                    <a:pt x="122" y="252"/>
                    <a:pt x="181" y="256"/>
                  </a:cubicBezTo>
                  <a:cubicBezTo>
                    <a:pt x="240" y="260"/>
                    <a:pt x="343" y="258"/>
                    <a:pt x="386" y="259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9" name=""/>
            <p:cNvSpPr/>
            <p:nvPr/>
          </p:nvSpPr>
          <p:spPr>
            <a:xfrm>
              <a:off x="4862520" y="5979960"/>
              <a:ext cx="665280" cy="484200"/>
            </a:xfrm>
            <a:custGeom>
              <a:avLst/>
              <a:gdLst/>
              <a:ahLst/>
              <a:rect l="l" t="t" r="r" b="b"/>
              <a:pathLst>
                <a:path w="386" h="278">
                  <a:moveTo>
                    <a:pt x="7" y="0"/>
                  </a:moveTo>
                  <a:cubicBezTo>
                    <a:pt x="11" y="38"/>
                    <a:pt x="0" y="192"/>
                    <a:pt x="29" y="235"/>
                  </a:cubicBezTo>
                  <a:cubicBezTo>
                    <a:pt x="58" y="278"/>
                    <a:pt x="122" y="252"/>
                    <a:pt x="181" y="256"/>
                  </a:cubicBezTo>
                  <a:cubicBezTo>
                    <a:pt x="240" y="260"/>
                    <a:pt x="343" y="258"/>
                    <a:pt x="386" y="259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0" name=""/>
            <p:cNvSpPr/>
            <p:nvPr/>
          </p:nvSpPr>
          <p:spPr>
            <a:xfrm>
              <a:off x="4853160" y="5607000"/>
              <a:ext cx="674640" cy="190440"/>
            </a:xfrm>
            <a:custGeom>
              <a:avLst/>
              <a:gdLst/>
              <a:ahLst/>
              <a:rect l="l" t="t" r="r" b="b"/>
              <a:pathLst>
                <a:path w="386" h="278">
                  <a:moveTo>
                    <a:pt x="7" y="0"/>
                  </a:moveTo>
                  <a:cubicBezTo>
                    <a:pt x="11" y="38"/>
                    <a:pt x="0" y="192"/>
                    <a:pt x="29" y="235"/>
                  </a:cubicBezTo>
                  <a:cubicBezTo>
                    <a:pt x="58" y="278"/>
                    <a:pt x="122" y="252"/>
                    <a:pt x="181" y="256"/>
                  </a:cubicBezTo>
                  <a:cubicBezTo>
                    <a:pt x="240" y="260"/>
                    <a:pt x="343" y="258"/>
                    <a:pt x="386" y="259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1" name=""/>
            <p:cNvSpPr/>
            <p:nvPr/>
          </p:nvSpPr>
          <p:spPr>
            <a:xfrm flipH="1" flipV="1">
              <a:off x="4255560" y="5776920"/>
              <a:ext cx="785880" cy="7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2" name=""/>
            <p:cNvSpPr/>
            <p:nvPr/>
          </p:nvSpPr>
          <p:spPr>
            <a:xfrm flipH="1" flipV="1">
              <a:off x="4227480" y="6084360"/>
              <a:ext cx="776160" cy="8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3" name=""/>
            <p:cNvSpPr/>
            <p:nvPr/>
          </p:nvSpPr>
          <p:spPr>
            <a:xfrm flipH="1">
              <a:off x="4216320" y="6427800"/>
              <a:ext cx="74952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4" name=""/>
            <p:cNvSpPr/>
            <p:nvPr/>
          </p:nvSpPr>
          <p:spPr>
            <a:xfrm>
              <a:off x="10539360" y="4595760"/>
              <a:ext cx="36720" cy="81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5" name=""/>
            <p:cNvSpPr/>
            <p:nvPr/>
          </p:nvSpPr>
          <p:spPr>
            <a:xfrm>
              <a:off x="3701880" y="202320"/>
              <a:ext cx="263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1" i="1" lang="cs-CZ" sz="2000" spc="-1" strike="noStrike">
                  <a:solidFill>
                    <a:srgbClr val="000000"/>
                  </a:solidFill>
                  <a:latin typeface="Times New Roman"/>
                </a:rPr>
                <a:t>-interkalární buňk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6" name=""/>
            <p:cNvSpPr/>
            <p:nvPr/>
          </p:nvSpPr>
          <p:spPr>
            <a:xfrm>
              <a:off x="1381680" y="184680"/>
              <a:ext cx="1561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000" spc="-1" strike="noStrike">
                  <a:solidFill>
                    <a:srgbClr val="000000"/>
                  </a:solidFill>
                  <a:latin typeface="Times New Roman"/>
                </a:rPr>
                <a:t>hlavní buňk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7" name=""/>
            <p:cNvSpPr/>
            <p:nvPr/>
          </p:nvSpPr>
          <p:spPr>
            <a:xfrm>
              <a:off x="497520" y="6158520"/>
              <a:ext cx="977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lume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8" name=""/>
            <p:cNvSpPr/>
            <p:nvPr/>
          </p:nvSpPr>
          <p:spPr>
            <a:xfrm flipH="1">
              <a:off x="1281240" y="2473200"/>
              <a:ext cx="279360" cy="427320"/>
            </a:xfrm>
            <a:custGeom>
              <a:avLst/>
              <a:gdLst/>
              <a:ahLst/>
              <a:rect l="l" t="t" r="r" b="b"/>
              <a:pathLst>
                <a:path w="291" h="269">
                  <a:moveTo>
                    <a:pt x="44" y="5"/>
                  </a:moveTo>
                  <a:lnTo>
                    <a:pt x="284" y="5"/>
                  </a:lnTo>
                  <a:lnTo>
                    <a:pt x="280" y="46"/>
                  </a:lnTo>
                  <a:lnTo>
                    <a:pt x="73" y="51"/>
                  </a:lnTo>
                  <a:lnTo>
                    <a:pt x="215" y="160"/>
                  </a:lnTo>
                  <a:lnTo>
                    <a:pt x="68" y="242"/>
                  </a:lnTo>
                  <a:lnTo>
                    <a:pt x="286" y="242"/>
                  </a:lnTo>
                  <a:lnTo>
                    <a:pt x="291" y="269"/>
                  </a:lnTo>
                  <a:lnTo>
                    <a:pt x="0" y="262"/>
                  </a:lnTo>
                  <a:lnTo>
                    <a:pt x="0" y="0"/>
                  </a:lnTo>
                  <a:lnTo>
                    <a:pt x="44" y="5"/>
                  </a:lnTo>
                  <a:close/>
                </a:path>
              </a:pathLst>
            </a:custGeom>
            <a:solidFill>
              <a:srgbClr val="ff33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9" name=""/>
            <p:cNvSpPr/>
            <p:nvPr/>
          </p:nvSpPr>
          <p:spPr>
            <a:xfrm flipH="1">
              <a:off x="513720" y="1228680"/>
              <a:ext cx="228600" cy="303120"/>
            </a:xfrm>
            <a:custGeom>
              <a:avLst/>
              <a:gdLst/>
              <a:ahLst/>
              <a:rect l="l" t="t" r="r" b="b"/>
              <a:pathLst>
                <a:path w="269" h="191">
                  <a:moveTo>
                    <a:pt x="269" y="9"/>
                  </a:moveTo>
                  <a:lnTo>
                    <a:pt x="5" y="0"/>
                  </a:lnTo>
                  <a:lnTo>
                    <a:pt x="147" y="109"/>
                  </a:lnTo>
                  <a:lnTo>
                    <a:pt x="0" y="191"/>
                  </a:lnTo>
                  <a:lnTo>
                    <a:pt x="253" y="188"/>
                  </a:lnTo>
                  <a:lnTo>
                    <a:pt x="269" y="9"/>
                  </a:lnTo>
                  <a:close/>
                </a:path>
              </a:pathLst>
            </a:custGeom>
            <a:solidFill>
              <a:srgbClr val="ff33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0" name=""/>
            <p:cNvSpPr/>
            <p:nvPr/>
          </p:nvSpPr>
          <p:spPr>
            <a:xfrm flipH="1">
              <a:off x="3944880" y="2773440"/>
              <a:ext cx="279360" cy="426960"/>
            </a:xfrm>
            <a:custGeom>
              <a:avLst/>
              <a:gdLst/>
              <a:ahLst/>
              <a:rect l="l" t="t" r="r" b="b"/>
              <a:pathLst>
                <a:path w="291" h="269">
                  <a:moveTo>
                    <a:pt x="44" y="5"/>
                  </a:moveTo>
                  <a:lnTo>
                    <a:pt x="284" y="5"/>
                  </a:lnTo>
                  <a:lnTo>
                    <a:pt x="280" y="46"/>
                  </a:lnTo>
                  <a:lnTo>
                    <a:pt x="73" y="51"/>
                  </a:lnTo>
                  <a:lnTo>
                    <a:pt x="215" y="160"/>
                  </a:lnTo>
                  <a:lnTo>
                    <a:pt x="68" y="242"/>
                  </a:lnTo>
                  <a:lnTo>
                    <a:pt x="286" y="242"/>
                  </a:lnTo>
                  <a:lnTo>
                    <a:pt x="291" y="269"/>
                  </a:lnTo>
                  <a:lnTo>
                    <a:pt x="0" y="262"/>
                  </a:lnTo>
                  <a:lnTo>
                    <a:pt x="0" y="0"/>
                  </a:lnTo>
                  <a:lnTo>
                    <a:pt x="44" y="5"/>
                  </a:lnTo>
                  <a:close/>
                </a:path>
              </a:pathLst>
            </a:custGeom>
            <a:solidFill>
              <a:srgbClr val="ff33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1" name=""/>
            <p:cNvSpPr/>
            <p:nvPr/>
          </p:nvSpPr>
          <p:spPr>
            <a:xfrm>
              <a:off x="1525680" y="2975040"/>
              <a:ext cx="838080" cy="148428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2" name=""/>
            <p:cNvSpPr/>
            <p:nvPr/>
          </p:nvSpPr>
          <p:spPr>
            <a:xfrm>
              <a:off x="3492360" y="5116680"/>
              <a:ext cx="1316160" cy="371160"/>
            </a:xfrm>
            <a:custGeom>
              <a:avLst/>
              <a:gdLst/>
              <a:ahLst/>
              <a:rect l="l" t="t" r="r" b="b"/>
              <a:pathLst>
                <a:path w="829" h="234">
                  <a:moveTo>
                    <a:pt x="0" y="234"/>
                  </a:moveTo>
                  <a:lnTo>
                    <a:pt x="829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3" name=""/>
            <p:cNvSpPr/>
            <p:nvPr/>
          </p:nvSpPr>
          <p:spPr>
            <a:xfrm>
              <a:off x="4202280" y="4327560"/>
              <a:ext cx="225360" cy="2350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4" name=""/>
            <p:cNvSpPr/>
            <p:nvPr/>
          </p:nvSpPr>
          <p:spPr>
            <a:xfrm>
              <a:off x="4818240" y="4986360"/>
              <a:ext cx="225360" cy="2350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4000" spc="-1" strike="noStrike" baseline="6000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5" name=""/>
            <p:cNvSpPr/>
            <p:nvPr/>
          </p:nvSpPr>
          <p:spPr>
            <a:xfrm>
              <a:off x="2784600" y="5297400"/>
              <a:ext cx="2023920" cy="200160"/>
            </a:xfrm>
            <a:custGeom>
              <a:avLst/>
              <a:gdLst/>
              <a:ahLst/>
              <a:rect l="l" t="t" r="r" b="b"/>
              <a:pathLst>
                <a:path w="1275" h="126">
                  <a:moveTo>
                    <a:pt x="1275" y="126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6" name=""/>
            <p:cNvSpPr/>
            <p:nvPr/>
          </p:nvSpPr>
          <p:spPr>
            <a:xfrm>
              <a:off x="2509920" y="5160960"/>
              <a:ext cx="225360" cy="2350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4000" spc="-1" strike="noStrike" baseline="6000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7" name=""/>
            <p:cNvSpPr/>
            <p:nvPr/>
          </p:nvSpPr>
          <p:spPr>
            <a:xfrm>
              <a:off x="1914480" y="5016600"/>
              <a:ext cx="606600" cy="371520"/>
            </a:xfrm>
            <a:custGeom>
              <a:avLst/>
              <a:gdLst/>
              <a:ahLst/>
              <a:rect l="l" t="t" r="r" b="b"/>
              <a:pathLst>
                <a:path w="411" h="234">
                  <a:moveTo>
                    <a:pt x="0" y="234"/>
                  </a:moveTo>
                  <a:cubicBezTo>
                    <a:pt x="17" y="200"/>
                    <a:pt x="40" y="61"/>
                    <a:pt x="108" y="28"/>
                  </a:cubicBezTo>
                  <a:cubicBezTo>
                    <a:pt x="171" y="0"/>
                    <a:pt x="348" y="33"/>
                    <a:pt x="411" y="34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8" name=""/>
            <p:cNvSpPr/>
            <p:nvPr/>
          </p:nvSpPr>
          <p:spPr>
            <a:xfrm>
              <a:off x="2503440" y="4950000"/>
              <a:ext cx="225360" cy="2347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9" name=""/>
            <p:cNvSpPr/>
            <p:nvPr/>
          </p:nvSpPr>
          <p:spPr>
            <a:xfrm>
              <a:off x="5016600" y="4906800"/>
              <a:ext cx="504720" cy="627120"/>
            </a:xfrm>
            <a:custGeom>
              <a:avLst/>
              <a:gdLst/>
              <a:ahLst/>
              <a:rect l="l" t="t" r="r" b="b"/>
              <a:pathLst>
                <a:path w="318" h="395">
                  <a:moveTo>
                    <a:pt x="17" y="395"/>
                  </a:moveTo>
                  <a:cubicBezTo>
                    <a:pt x="66" y="356"/>
                    <a:pt x="318" y="209"/>
                    <a:pt x="315" y="160"/>
                  </a:cubicBezTo>
                  <a:cubicBezTo>
                    <a:pt x="315" y="0"/>
                    <a:pt x="66" y="115"/>
                    <a:pt x="0" y="103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0" name=""/>
            <p:cNvSpPr/>
            <p:nvPr/>
          </p:nvSpPr>
          <p:spPr>
            <a:xfrm>
              <a:off x="1709640" y="4341960"/>
              <a:ext cx="225360" cy="2347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1" name=""/>
            <p:cNvSpPr/>
            <p:nvPr/>
          </p:nvSpPr>
          <p:spPr>
            <a:xfrm>
              <a:off x="2279520" y="4457880"/>
              <a:ext cx="225720" cy="2347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2" name=""/>
            <p:cNvSpPr/>
            <p:nvPr/>
          </p:nvSpPr>
          <p:spPr>
            <a:xfrm>
              <a:off x="2151000" y="1716120"/>
              <a:ext cx="225360" cy="2350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3" name=""/>
            <p:cNvSpPr/>
            <p:nvPr/>
          </p:nvSpPr>
          <p:spPr>
            <a:xfrm>
              <a:off x="1940040" y="4849920"/>
              <a:ext cx="2876400" cy="457200"/>
            </a:xfrm>
            <a:custGeom>
              <a:avLst/>
              <a:gdLst/>
              <a:ahLst/>
              <a:rect l="l" t="t" r="r" b="b"/>
              <a:pathLst>
                <a:path w="1812" h="288">
                  <a:moveTo>
                    <a:pt x="0" y="288"/>
                  </a:moveTo>
                  <a:cubicBezTo>
                    <a:pt x="11" y="258"/>
                    <a:pt x="21" y="152"/>
                    <a:pt x="69" y="106"/>
                  </a:cubicBezTo>
                  <a:cubicBezTo>
                    <a:pt x="117" y="60"/>
                    <a:pt x="147" y="28"/>
                    <a:pt x="286" y="14"/>
                  </a:cubicBezTo>
                  <a:cubicBezTo>
                    <a:pt x="425" y="0"/>
                    <a:pt x="649" y="22"/>
                    <a:pt x="903" y="20"/>
                  </a:cubicBezTo>
                  <a:cubicBezTo>
                    <a:pt x="1157" y="18"/>
                    <a:pt x="1623" y="7"/>
                    <a:pt x="1812" y="3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4" name=""/>
            <p:cNvSpPr/>
            <p:nvPr/>
          </p:nvSpPr>
          <p:spPr>
            <a:xfrm>
              <a:off x="4827600" y="4727520"/>
              <a:ext cx="225360" cy="2350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5" name=""/>
            <p:cNvSpPr/>
            <p:nvPr/>
          </p:nvSpPr>
          <p:spPr>
            <a:xfrm>
              <a:off x="3102120" y="6694560"/>
              <a:ext cx="2395440" cy="1440"/>
            </a:xfrm>
            <a:custGeom>
              <a:avLst/>
              <a:gdLst/>
              <a:ahLst/>
              <a:rect l="l" t="t" r="r" b="b"/>
              <a:pathLst>
                <a:path w="1509" h="1">
                  <a:moveTo>
                    <a:pt x="104" y="0"/>
                  </a:moveTo>
                  <a:lnTo>
                    <a:pt x="0" y="0"/>
                  </a:lnTo>
                  <a:lnTo>
                    <a:pt x="1509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6" name=""/>
            <p:cNvSpPr/>
            <p:nvPr/>
          </p:nvSpPr>
          <p:spPr>
            <a:xfrm>
              <a:off x="5662800" y="6513120"/>
              <a:ext cx="412200" cy="35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600" spc="-1" strike="noStrike">
                  <a:solidFill>
                    <a:srgbClr val="000000"/>
                  </a:solidFill>
                  <a:latin typeface="Times New Roman"/>
                </a:rPr>
                <a:t>Cl</a:t>
              </a:r>
              <a:r>
                <a:rPr b="0" lang="cs-CZ" sz="1600" spc="-1" strike="noStrike" baseline="50000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7" name=""/>
            <p:cNvSpPr/>
            <p:nvPr/>
          </p:nvSpPr>
          <p:spPr>
            <a:xfrm>
              <a:off x="3481560" y="4919760"/>
              <a:ext cx="225360" cy="2347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4000" spc="-1" strike="noStrike" baseline="6000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8" name=""/>
            <p:cNvSpPr/>
            <p:nvPr/>
          </p:nvSpPr>
          <p:spPr>
            <a:xfrm>
              <a:off x="3701880" y="5089680"/>
              <a:ext cx="1087560" cy="415800"/>
            </a:xfrm>
            <a:custGeom>
              <a:avLst/>
              <a:gdLst/>
              <a:ahLst/>
              <a:rect l="l" t="t" r="r" b="b"/>
              <a:pathLst>
                <a:path w="685" h="262">
                  <a:moveTo>
                    <a:pt x="685" y="262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9" name=""/>
            <p:cNvSpPr/>
            <p:nvPr/>
          </p:nvSpPr>
          <p:spPr>
            <a:xfrm>
              <a:off x="2749680" y="3782880"/>
              <a:ext cx="882360" cy="516240"/>
            </a:xfrm>
            <a:custGeom>
              <a:avLst/>
              <a:gdLst/>
              <a:ahLst/>
              <a:rect l="l" t="t" r="r" b="b"/>
              <a:pathLst>
                <a:path w="556" h="325">
                  <a:moveTo>
                    <a:pt x="548" y="325"/>
                  </a:moveTo>
                  <a:cubicBezTo>
                    <a:pt x="540" y="279"/>
                    <a:pt x="556" y="102"/>
                    <a:pt x="502" y="51"/>
                  </a:cubicBezTo>
                  <a:cubicBezTo>
                    <a:pt x="448" y="0"/>
                    <a:pt x="306" y="20"/>
                    <a:pt x="222" y="17"/>
                  </a:cubicBezTo>
                  <a:cubicBezTo>
                    <a:pt x="62" y="34"/>
                    <a:pt x="48" y="19"/>
                    <a:pt x="0" y="34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0" name=""/>
            <p:cNvSpPr/>
            <p:nvPr/>
          </p:nvSpPr>
          <p:spPr>
            <a:xfrm>
              <a:off x="2482920" y="3730680"/>
              <a:ext cx="225360" cy="2347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4000" spc="-1" strike="noStrike" baseline="6000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1" name=""/>
            <p:cNvSpPr/>
            <p:nvPr/>
          </p:nvSpPr>
          <p:spPr>
            <a:xfrm>
              <a:off x="1957320" y="4714920"/>
              <a:ext cx="1544760" cy="480960"/>
            </a:xfrm>
            <a:custGeom>
              <a:avLst/>
              <a:gdLst/>
              <a:ahLst/>
              <a:rect l="l" t="t" r="r" b="b"/>
              <a:pathLst>
                <a:path w="973" h="303">
                  <a:moveTo>
                    <a:pt x="0" y="303"/>
                  </a:moveTo>
                  <a:cubicBezTo>
                    <a:pt x="11" y="273"/>
                    <a:pt x="21" y="167"/>
                    <a:pt x="69" y="121"/>
                  </a:cubicBezTo>
                  <a:cubicBezTo>
                    <a:pt x="117" y="75"/>
                    <a:pt x="135" y="49"/>
                    <a:pt x="286" y="29"/>
                  </a:cubicBezTo>
                  <a:cubicBezTo>
                    <a:pt x="437" y="9"/>
                    <a:pt x="861" y="0"/>
                    <a:pt x="973" y="1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2" name=""/>
            <p:cNvSpPr/>
            <p:nvPr/>
          </p:nvSpPr>
          <p:spPr>
            <a:xfrm>
              <a:off x="3502080" y="4579920"/>
              <a:ext cx="225360" cy="2350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3" name=""/>
            <p:cNvSpPr/>
            <p:nvPr/>
          </p:nvSpPr>
          <p:spPr>
            <a:xfrm>
              <a:off x="1488960" y="3021120"/>
              <a:ext cx="243000" cy="226800"/>
            </a:xfrm>
            <a:prstGeom prst="ellipse">
              <a:avLst/>
            </a:prstGeom>
            <a:solidFill>
              <a:srgbClr val="ffff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4" name=""/>
            <p:cNvSpPr/>
            <p:nvPr/>
          </p:nvSpPr>
          <p:spPr>
            <a:xfrm>
              <a:off x="1695600" y="2120760"/>
              <a:ext cx="242640" cy="227160"/>
            </a:xfrm>
            <a:prstGeom prst="ellipse">
              <a:avLst/>
            </a:prstGeom>
            <a:solidFill>
              <a:srgbClr val="ffff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5" name=""/>
            <p:cNvSpPr/>
            <p:nvPr/>
          </p:nvSpPr>
          <p:spPr>
            <a:xfrm>
              <a:off x="3960720" y="3843360"/>
              <a:ext cx="243000" cy="227160"/>
            </a:xfrm>
            <a:prstGeom prst="ellipse">
              <a:avLst/>
            </a:prstGeom>
            <a:solidFill>
              <a:srgbClr val="ffff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6" name=""/>
            <p:cNvSpPr/>
            <p:nvPr/>
          </p:nvSpPr>
          <p:spPr>
            <a:xfrm>
              <a:off x="2089080" y="5030640"/>
              <a:ext cx="243000" cy="227160"/>
            </a:xfrm>
            <a:prstGeom prst="ellipse">
              <a:avLst/>
            </a:prstGeom>
            <a:solidFill>
              <a:srgbClr val="ffff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7" name=""/>
            <p:cNvSpPr/>
            <p:nvPr/>
          </p:nvSpPr>
          <p:spPr>
            <a:xfrm>
              <a:off x="3068640" y="4594320"/>
              <a:ext cx="243000" cy="226800"/>
            </a:xfrm>
            <a:prstGeom prst="ellipse">
              <a:avLst/>
            </a:prstGeom>
            <a:solidFill>
              <a:srgbClr val="ffff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8" name=""/>
            <p:cNvSpPr/>
            <p:nvPr/>
          </p:nvSpPr>
          <p:spPr>
            <a:xfrm>
              <a:off x="2946240" y="3692520"/>
              <a:ext cx="243000" cy="227160"/>
            </a:xfrm>
            <a:prstGeom prst="ellipse">
              <a:avLst/>
            </a:prstGeom>
            <a:solidFill>
              <a:srgbClr val="ffff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9" name=""/>
            <p:cNvSpPr/>
            <p:nvPr/>
          </p:nvSpPr>
          <p:spPr>
            <a:xfrm>
              <a:off x="4127400" y="4765680"/>
              <a:ext cx="243000" cy="227160"/>
            </a:xfrm>
            <a:prstGeom prst="ellipse">
              <a:avLst/>
            </a:prstGeom>
            <a:solidFill>
              <a:srgbClr val="ffff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0" name=""/>
            <p:cNvSpPr/>
            <p:nvPr/>
          </p:nvSpPr>
          <p:spPr>
            <a:xfrm>
              <a:off x="5322960" y="4944960"/>
              <a:ext cx="242640" cy="227160"/>
            </a:xfrm>
            <a:prstGeom prst="ellipse">
              <a:avLst/>
            </a:prstGeom>
            <a:solidFill>
              <a:srgbClr val="ffff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1" name=""/>
            <p:cNvSpPr/>
            <p:nvPr/>
          </p:nvSpPr>
          <p:spPr>
            <a:xfrm>
              <a:off x="4367160" y="5043600"/>
              <a:ext cx="270000" cy="244440"/>
            </a:xfrm>
            <a:prstGeom prst="ellipse">
              <a:avLst/>
            </a:prstGeom>
            <a:solidFill>
              <a:srgbClr val="ffff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2" name=""/>
            <p:cNvSpPr/>
            <p:nvPr/>
          </p:nvSpPr>
          <p:spPr>
            <a:xfrm>
              <a:off x="3881520" y="5046840"/>
              <a:ext cx="252360" cy="253800"/>
            </a:xfrm>
            <a:prstGeom prst="ellipse">
              <a:avLst/>
            </a:prstGeom>
            <a:solidFill>
              <a:srgbClr val="ffff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3" name=""/>
            <p:cNvSpPr/>
            <p:nvPr/>
          </p:nvSpPr>
          <p:spPr>
            <a:xfrm flipH="1">
              <a:off x="3741840" y="949320"/>
              <a:ext cx="304560" cy="50328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4" name=""/>
            <p:cNvSpPr/>
            <p:nvPr/>
          </p:nvSpPr>
          <p:spPr>
            <a:xfrm>
              <a:off x="3780000" y="1054080"/>
              <a:ext cx="252360" cy="254160"/>
            </a:xfrm>
            <a:prstGeom prst="ellipse">
              <a:avLst/>
            </a:prstGeom>
            <a:solidFill>
              <a:srgbClr val="ffff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5" name=""/>
            <p:cNvSpPr/>
            <p:nvPr/>
          </p:nvSpPr>
          <p:spPr>
            <a:xfrm>
              <a:off x="3525840" y="1434960"/>
              <a:ext cx="225360" cy="2350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4000" spc="-1" strike="noStrike" baseline="6000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6" name=""/>
            <p:cNvSpPr/>
            <p:nvPr/>
          </p:nvSpPr>
          <p:spPr>
            <a:xfrm>
              <a:off x="6445080" y="5416200"/>
              <a:ext cx="366480" cy="35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cs-CZ" sz="1600" spc="-1" strike="noStrike" baseline="50000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7" name=""/>
            <p:cNvSpPr/>
            <p:nvPr/>
          </p:nvSpPr>
          <p:spPr>
            <a:xfrm>
              <a:off x="5334120" y="4869000"/>
              <a:ext cx="1162080" cy="757080"/>
            </a:xfrm>
            <a:custGeom>
              <a:avLst/>
              <a:gdLst/>
              <a:ahLst/>
              <a:rect l="l" t="t" r="r" b="b"/>
              <a:pathLst>
                <a:path w="732" h="477">
                  <a:moveTo>
                    <a:pt x="0" y="447"/>
                  </a:moveTo>
                  <a:cubicBezTo>
                    <a:pt x="40" y="442"/>
                    <a:pt x="196" y="477"/>
                    <a:pt x="240" y="419"/>
                  </a:cubicBezTo>
                  <a:cubicBezTo>
                    <a:pt x="284" y="361"/>
                    <a:pt x="245" y="169"/>
                    <a:pt x="263" y="99"/>
                  </a:cubicBezTo>
                  <a:cubicBezTo>
                    <a:pt x="281" y="29"/>
                    <a:pt x="320" y="2"/>
                    <a:pt x="349" y="1"/>
                  </a:cubicBezTo>
                  <a:cubicBezTo>
                    <a:pt x="378" y="0"/>
                    <a:pt x="422" y="42"/>
                    <a:pt x="435" y="93"/>
                  </a:cubicBezTo>
                  <a:cubicBezTo>
                    <a:pt x="448" y="144"/>
                    <a:pt x="422" y="254"/>
                    <a:pt x="429" y="310"/>
                  </a:cubicBezTo>
                  <a:cubicBezTo>
                    <a:pt x="436" y="366"/>
                    <a:pt x="425" y="406"/>
                    <a:pt x="475" y="430"/>
                  </a:cubicBezTo>
                  <a:cubicBezTo>
                    <a:pt x="525" y="454"/>
                    <a:pt x="679" y="448"/>
                    <a:pt x="732" y="453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8" name=""/>
            <p:cNvSpPr/>
            <p:nvPr/>
          </p:nvSpPr>
          <p:spPr>
            <a:xfrm>
              <a:off x="5083200" y="5405040"/>
              <a:ext cx="366480" cy="35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cs-CZ" sz="1600" spc="-1" strike="noStrike" baseline="50000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9" name=""/>
            <p:cNvSpPr/>
            <p:nvPr/>
          </p:nvSpPr>
          <p:spPr>
            <a:xfrm>
              <a:off x="5072040" y="4826160"/>
              <a:ext cx="1565280" cy="671400"/>
            </a:xfrm>
            <a:custGeom>
              <a:avLst/>
              <a:gdLst/>
              <a:ahLst/>
              <a:rect l="l" t="t" r="r" b="b"/>
              <a:pathLst>
                <a:path w="986" h="423">
                  <a:moveTo>
                    <a:pt x="954" y="423"/>
                  </a:moveTo>
                  <a:cubicBezTo>
                    <a:pt x="950" y="394"/>
                    <a:pt x="986" y="320"/>
                    <a:pt x="931" y="251"/>
                  </a:cubicBezTo>
                  <a:cubicBezTo>
                    <a:pt x="876" y="182"/>
                    <a:pt x="777" y="48"/>
                    <a:pt x="622" y="6"/>
                  </a:cubicBez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0" name=""/>
            <p:cNvSpPr/>
            <p:nvPr/>
          </p:nvSpPr>
          <p:spPr>
            <a:xfrm>
              <a:off x="5332320" y="4719600"/>
              <a:ext cx="243000" cy="227160"/>
            </a:xfrm>
            <a:prstGeom prst="ellipse">
              <a:avLst/>
            </a:prstGeom>
            <a:solidFill>
              <a:srgbClr val="ffff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1" name=""/>
            <p:cNvSpPr/>
            <p:nvPr/>
          </p:nvSpPr>
          <p:spPr>
            <a:xfrm>
              <a:off x="3032280" y="5159520"/>
              <a:ext cx="269640" cy="244440"/>
            </a:xfrm>
            <a:prstGeom prst="ellipse">
              <a:avLst/>
            </a:prstGeom>
            <a:solidFill>
              <a:srgbClr val="ffff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2" name=""/>
            <p:cNvSpPr/>
            <p:nvPr/>
          </p:nvSpPr>
          <p:spPr>
            <a:xfrm>
              <a:off x="6696360" y="5432400"/>
              <a:ext cx="2050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1400" spc="-1" strike="noStrike">
                  <a:solidFill>
                    <a:srgbClr val="000000"/>
                  </a:solidFill>
                  <a:latin typeface="Times New Roman"/>
                </a:rPr>
                <a:t>(nerezorbovatelný anio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3" name=""/>
            <p:cNvSpPr/>
            <p:nvPr/>
          </p:nvSpPr>
          <p:spPr>
            <a:xfrm>
              <a:off x="2886120" y="1249200"/>
              <a:ext cx="208080" cy="441360"/>
            </a:xfrm>
            <a:prstGeom prst="can">
              <a:avLst>
                <a:gd name="adj" fmla="val 25000"/>
              </a:avLst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4" name=""/>
            <p:cNvSpPr/>
            <p:nvPr/>
          </p:nvSpPr>
          <p:spPr>
            <a:xfrm>
              <a:off x="2679840" y="1722600"/>
              <a:ext cx="323640" cy="1346040"/>
            </a:xfrm>
            <a:custGeom>
              <a:avLst/>
              <a:gdLst/>
              <a:ahLst/>
              <a:rect l="l" t="t" r="r" b="b"/>
              <a:pathLst>
                <a:path w="204" h="848">
                  <a:moveTo>
                    <a:pt x="182" y="0"/>
                  </a:moveTo>
                  <a:cubicBezTo>
                    <a:pt x="181" y="85"/>
                    <a:pt x="204" y="372"/>
                    <a:pt x="174" y="513"/>
                  </a:cubicBezTo>
                  <a:cubicBezTo>
                    <a:pt x="144" y="654"/>
                    <a:pt x="36" y="778"/>
                    <a:pt x="0" y="848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5" name=""/>
            <p:cNvSpPr/>
            <p:nvPr/>
          </p:nvSpPr>
          <p:spPr>
            <a:xfrm>
              <a:off x="2741760" y="763560"/>
              <a:ext cx="290520" cy="582480"/>
            </a:xfrm>
            <a:custGeom>
              <a:avLst/>
              <a:gdLst/>
              <a:ahLst/>
              <a:rect l="l" t="t" r="r" b="b"/>
              <a:pathLst>
                <a:path w="183" h="367">
                  <a:moveTo>
                    <a:pt x="0" y="0"/>
                  </a:moveTo>
                  <a:cubicBezTo>
                    <a:pt x="26" y="18"/>
                    <a:pt x="129" y="48"/>
                    <a:pt x="156" y="109"/>
                  </a:cubicBezTo>
                  <a:cubicBezTo>
                    <a:pt x="183" y="170"/>
                    <a:pt x="161" y="313"/>
                    <a:pt x="162" y="367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6" name=""/>
            <p:cNvSpPr/>
            <p:nvPr/>
          </p:nvSpPr>
          <p:spPr>
            <a:xfrm>
              <a:off x="2759040" y="1486080"/>
              <a:ext cx="225360" cy="2347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7" name=""/>
            <p:cNvSpPr/>
            <p:nvPr/>
          </p:nvSpPr>
          <p:spPr>
            <a:xfrm>
              <a:off x="1614600" y="1716120"/>
              <a:ext cx="1331640" cy="1128600"/>
            </a:xfrm>
            <a:custGeom>
              <a:avLst/>
              <a:gdLst/>
              <a:ahLst/>
              <a:rect l="l" t="t" r="r" b="b"/>
              <a:pathLst>
                <a:path w="839" h="711">
                  <a:moveTo>
                    <a:pt x="0" y="604"/>
                  </a:moveTo>
                  <a:cubicBezTo>
                    <a:pt x="118" y="605"/>
                    <a:pt x="581" y="711"/>
                    <a:pt x="710" y="610"/>
                  </a:cubicBezTo>
                  <a:cubicBezTo>
                    <a:pt x="839" y="509"/>
                    <a:pt x="761" y="127"/>
                    <a:pt x="774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78" name=""/>
          <p:cNvGrpSpPr/>
          <p:nvPr/>
        </p:nvGrpSpPr>
        <p:grpSpPr>
          <a:xfrm>
            <a:off x="-115560" y="-360"/>
            <a:ext cx="9288720" cy="6930720"/>
            <a:chOff x="-115560" y="-360"/>
            <a:chExt cx="9288720" cy="6930720"/>
          </a:xfrm>
        </p:grpSpPr>
        <p:sp>
          <p:nvSpPr>
            <p:cNvPr id="11379" name=""/>
            <p:cNvSpPr/>
            <p:nvPr/>
          </p:nvSpPr>
          <p:spPr>
            <a:xfrm>
              <a:off x="977760" y="360360"/>
              <a:ext cx="7756560" cy="171468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0" name=""/>
            <p:cNvSpPr/>
            <p:nvPr/>
          </p:nvSpPr>
          <p:spPr>
            <a:xfrm>
              <a:off x="960480" y="2392200"/>
              <a:ext cx="7756560" cy="187812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1" name=""/>
            <p:cNvSpPr/>
            <p:nvPr/>
          </p:nvSpPr>
          <p:spPr>
            <a:xfrm>
              <a:off x="934920" y="4525920"/>
              <a:ext cx="7747200" cy="2068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2" name=""/>
            <p:cNvSpPr/>
            <p:nvPr/>
          </p:nvSpPr>
          <p:spPr>
            <a:xfrm>
              <a:off x="979560" y="0"/>
              <a:ext cx="0" cy="208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3" name=""/>
            <p:cNvSpPr/>
            <p:nvPr/>
          </p:nvSpPr>
          <p:spPr>
            <a:xfrm>
              <a:off x="969840" y="1533600"/>
              <a:ext cx="136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4" name=""/>
            <p:cNvSpPr/>
            <p:nvPr/>
          </p:nvSpPr>
          <p:spPr>
            <a:xfrm>
              <a:off x="966960" y="950760"/>
              <a:ext cx="136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5" name=""/>
            <p:cNvSpPr/>
            <p:nvPr/>
          </p:nvSpPr>
          <p:spPr>
            <a:xfrm>
              <a:off x="966960" y="395280"/>
              <a:ext cx="136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6" name=""/>
            <p:cNvSpPr/>
            <p:nvPr/>
          </p:nvSpPr>
          <p:spPr>
            <a:xfrm>
              <a:off x="998640" y="407880"/>
              <a:ext cx="7729560" cy="1312920"/>
            </a:xfrm>
            <a:custGeom>
              <a:avLst/>
              <a:gdLst/>
              <a:ahLst/>
              <a:rect l="l" t="t" r="r" b="b"/>
              <a:pathLst>
                <a:path w="4869" h="827">
                  <a:moveTo>
                    <a:pt x="0" y="0"/>
                  </a:moveTo>
                  <a:cubicBezTo>
                    <a:pt x="0" y="0"/>
                    <a:pt x="468" y="0"/>
                    <a:pt x="937" y="0"/>
                  </a:cubicBezTo>
                  <a:cubicBezTo>
                    <a:pt x="1028" y="286"/>
                    <a:pt x="1209" y="681"/>
                    <a:pt x="1577" y="743"/>
                  </a:cubicBezTo>
                  <a:cubicBezTo>
                    <a:pt x="1947" y="827"/>
                    <a:pt x="2611" y="577"/>
                    <a:pt x="3160" y="503"/>
                  </a:cubicBezTo>
                  <a:cubicBezTo>
                    <a:pt x="3709" y="429"/>
                    <a:pt x="4513" y="340"/>
                    <a:pt x="4869" y="29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7" name=""/>
            <p:cNvSpPr/>
            <p:nvPr/>
          </p:nvSpPr>
          <p:spPr>
            <a:xfrm>
              <a:off x="958680" y="2139840"/>
              <a:ext cx="0" cy="2140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8" name=""/>
            <p:cNvSpPr/>
            <p:nvPr/>
          </p:nvSpPr>
          <p:spPr>
            <a:xfrm>
              <a:off x="958680" y="4280040"/>
              <a:ext cx="7761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9" name=""/>
            <p:cNvSpPr/>
            <p:nvPr/>
          </p:nvSpPr>
          <p:spPr>
            <a:xfrm flipV="1">
              <a:off x="2479680" y="4168440"/>
              <a:ext cx="0" cy="112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0" name=""/>
            <p:cNvSpPr/>
            <p:nvPr/>
          </p:nvSpPr>
          <p:spPr>
            <a:xfrm flipV="1">
              <a:off x="5533920" y="4157280"/>
              <a:ext cx="0" cy="112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1" name=""/>
            <p:cNvSpPr/>
            <p:nvPr/>
          </p:nvSpPr>
          <p:spPr>
            <a:xfrm flipV="1">
              <a:off x="4006800" y="4163760"/>
              <a:ext cx="0" cy="112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2" name=""/>
            <p:cNvSpPr/>
            <p:nvPr/>
          </p:nvSpPr>
          <p:spPr>
            <a:xfrm flipV="1">
              <a:off x="8561520" y="4171680"/>
              <a:ext cx="0" cy="112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3" name=""/>
            <p:cNvSpPr/>
            <p:nvPr/>
          </p:nvSpPr>
          <p:spPr>
            <a:xfrm flipV="1">
              <a:off x="7059600" y="4159080"/>
              <a:ext cx="0" cy="113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4" name=""/>
            <p:cNvSpPr/>
            <p:nvPr/>
          </p:nvSpPr>
          <p:spPr>
            <a:xfrm>
              <a:off x="984240" y="4116240"/>
              <a:ext cx="136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5" name=""/>
            <p:cNvSpPr/>
            <p:nvPr/>
          </p:nvSpPr>
          <p:spPr>
            <a:xfrm>
              <a:off x="946080" y="3144960"/>
              <a:ext cx="136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6" name=""/>
            <p:cNvSpPr/>
            <p:nvPr/>
          </p:nvSpPr>
          <p:spPr>
            <a:xfrm>
              <a:off x="1004760" y="2957400"/>
              <a:ext cx="7704360" cy="1170000"/>
            </a:xfrm>
            <a:custGeom>
              <a:avLst/>
              <a:gdLst/>
              <a:ahLst/>
              <a:rect l="l" t="t" r="r" b="b"/>
              <a:pathLst>
                <a:path w="4853" h="737">
                  <a:moveTo>
                    <a:pt x="0" y="113"/>
                  </a:moveTo>
                  <a:lnTo>
                    <a:pt x="937" y="113"/>
                  </a:lnTo>
                  <a:cubicBezTo>
                    <a:pt x="927" y="674"/>
                    <a:pt x="951" y="725"/>
                    <a:pt x="1219" y="731"/>
                  </a:cubicBezTo>
                  <a:cubicBezTo>
                    <a:pt x="1487" y="737"/>
                    <a:pt x="1886" y="704"/>
                    <a:pt x="2310" y="605"/>
                  </a:cubicBezTo>
                  <a:cubicBezTo>
                    <a:pt x="2734" y="506"/>
                    <a:pt x="3338" y="238"/>
                    <a:pt x="3762" y="137"/>
                  </a:cubicBezTo>
                  <a:cubicBezTo>
                    <a:pt x="4186" y="36"/>
                    <a:pt x="4626" y="29"/>
                    <a:pt x="4853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7" name=""/>
            <p:cNvSpPr/>
            <p:nvPr/>
          </p:nvSpPr>
          <p:spPr>
            <a:xfrm>
              <a:off x="963720" y="3616200"/>
              <a:ext cx="136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8" name=""/>
            <p:cNvSpPr/>
            <p:nvPr/>
          </p:nvSpPr>
          <p:spPr>
            <a:xfrm>
              <a:off x="958680" y="2625840"/>
              <a:ext cx="136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9" name=""/>
            <p:cNvSpPr/>
            <p:nvPr/>
          </p:nvSpPr>
          <p:spPr>
            <a:xfrm>
              <a:off x="428040" y="2999520"/>
              <a:ext cx="46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000000"/>
                  </a:solidFill>
                  <a:latin typeface="Times New Roman"/>
                </a:rPr>
                <a:t>5,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0" name=""/>
            <p:cNvSpPr/>
            <p:nvPr/>
          </p:nvSpPr>
          <p:spPr>
            <a:xfrm>
              <a:off x="463320" y="2471040"/>
              <a:ext cx="46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000000"/>
                  </a:solidFill>
                  <a:latin typeface="Times New Roman"/>
                </a:rPr>
                <a:t>6,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1" name=""/>
            <p:cNvSpPr/>
            <p:nvPr/>
          </p:nvSpPr>
          <p:spPr>
            <a:xfrm>
              <a:off x="426600" y="3469680"/>
              <a:ext cx="46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000000"/>
                  </a:solidFill>
                  <a:latin typeface="Times New Roman"/>
                </a:rPr>
                <a:t>5,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2" name=""/>
            <p:cNvSpPr/>
            <p:nvPr/>
          </p:nvSpPr>
          <p:spPr>
            <a:xfrm>
              <a:off x="415440" y="3894840"/>
              <a:ext cx="46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000000"/>
                  </a:solidFill>
                  <a:latin typeface="Times New Roman"/>
                </a:rPr>
                <a:t>4,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3" name=""/>
            <p:cNvSpPr/>
            <p:nvPr/>
          </p:nvSpPr>
          <p:spPr>
            <a:xfrm>
              <a:off x="541440" y="17388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000000"/>
                  </a:solidFill>
                  <a:latin typeface="Times New Roman"/>
                </a:rPr>
                <a:t>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4" name=""/>
            <p:cNvSpPr/>
            <p:nvPr/>
          </p:nvSpPr>
          <p:spPr>
            <a:xfrm>
              <a:off x="504720" y="77076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000000"/>
                  </a:solidFill>
                  <a:latin typeface="Times New Roman"/>
                </a:rPr>
                <a:t>1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5" name=""/>
            <p:cNvSpPr/>
            <p:nvPr/>
          </p:nvSpPr>
          <p:spPr>
            <a:xfrm>
              <a:off x="520920" y="136764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6" name=""/>
            <p:cNvSpPr/>
            <p:nvPr/>
          </p:nvSpPr>
          <p:spPr>
            <a:xfrm>
              <a:off x="944640" y="4457880"/>
              <a:ext cx="0" cy="21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7" name=""/>
            <p:cNvSpPr/>
            <p:nvPr/>
          </p:nvSpPr>
          <p:spPr>
            <a:xfrm>
              <a:off x="955800" y="6589800"/>
              <a:ext cx="7724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8" name=""/>
            <p:cNvSpPr/>
            <p:nvPr/>
          </p:nvSpPr>
          <p:spPr>
            <a:xfrm flipV="1">
              <a:off x="2475000" y="6494040"/>
              <a:ext cx="0" cy="112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9" name=""/>
            <p:cNvSpPr/>
            <p:nvPr/>
          </p:nvSpPr>
          <p:spPr>
            <a:xfrm flipV="1">
              <a:off x="5527800" y="6484680"/>
              <a:ext cx="0" cy="112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0" name=""/>
            <p:cNvSpPr/>
            <p:nvPr/>
          </p:nvSpPr>
          <p:spPr>
            <a:xfrm flipV="1">
              <a:off x="3992400" y="6481440"/>
              <a:ext cx="0" cy="112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1" name=""/>
            <p:cNvSpPr/>
            <p:nvPr/>
          </p:nvSpPr>
          <p:spPr>
            <a:xfrm flipV="1">
              <a:off x="8547120" y="6489360"/>
              <a:ext cx="0" cy="112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2" name=""/>
            <p:cNvSpPr/>
            <p:nvPr/>
          </p:nvSpPr>
          <p:spPr>
            <a:xfrm flipV="1">
              <a:off x="7045200" y="6476760"/>
              <a:ext cx="0" cy="112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3" name=""/>
            <p:cNvSpPr/>
            <p:nvPr/>
          </p:nvSpPr>
          <p:spPr>
            <a:xfrm>
              <a:off x="949320" y="6234120"/>
              <a:ext cx="136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4" name=""/>
            <p:cNvSpPr/>
            <p:nvPr/>
          </p:nvSpPr>
          <p:spPr>
            <a:xfrm>
              <a:off x="957240" y="4581360"/>
              <a:ext cx="7724880" cy="1784520"/>
            </a:xfrm>
            <a:custGeom>
              <a:avLst/>
              <a:gdLst/>
              <a:ahLst/>
              <a:rect l="l" t="t" r="r" b="b"/>
              <a:pathLst>
                <a:path w="4866" h="1124">
                  <a:moveTo>
                    <a:pt x="0" y="1124"/>
                  </a:moveTo>
                  <a:lnTo>
                    <a:pt x="966" y="1118"/>
                  </a:lnTo>
                  <a:cubicBezTo>
                    <a:pt x="1178" y="1118"/>
                    <a:pt x="1629" y="1010"/>
                    <a:pt x="1949" y="924"/>
                  </a:cubicBezTo>
                  <a:cubicBezTo>
                    <a:pt x="2267" y="837"/>
                    <a:pt x="2550" y="725"/>
                    <a:pt x="2875" y="599"/>
                  </a:cubicBezTo>
                  <a:cubicBezTo>
                    <a:pt x="3200" y="473"/>
                    <a:pt x="3620" y="257"/>
                    <a:pt x="3900" y="165"/>
                  </a:cubicBezTo>
                  <a:cubicBezTo>
                    <a:pt x="4180" y="73"/>
                    <a:pt x="4374" y="56"/>
                    <a:pt x="4535" y="28"/>
                  </a:cubicBezTo>
                  <a:cubicBezTo>
                    <a:pt x="4696" y="0"/>
                    <a:pt x="4797" y="6"/>
                    <a:pt x="4866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5" name=""/>
            <p:cNvSpPr/>
            <p:nvPr/>
          </p:nvSpPr>
          <p:spPr>
            <a:xfrm>
              <a:off x="949320" y="5842080"/>
              <a:ext cx="136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6" name=""/>
            <p:cNvSpPr/>
            <p:nvPr/>
          </p:nvSpPr>
          <p:spPr>
            <a:xfrm>
              <a:off x="385560" y="5317560"/>
              <a:ext cx="52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000000"/>
                  </a:solidFill>
                  <a:latin typeface="Times New Roman"/>
                </a:rPr>
                <a:t>15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7" name=""/>
            <p:cNvSpPr/>
            <p:nvPr/>
          </p:nvSpPr>
          <p:spPr>
            <a:xfrm>
              <a:off x="412560" y="4915800"/>
              <a:ext cx="52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000000"/>
                  </a:solidFill>
                  <a:latin typeface="Times New Roman"/>
                </a:rPr>
                <a:t>2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8" name=""/>
            <p:cNvSpPr/>
            <p:nvPr/>
          </p:nvSpPr>
          <p:spPr>
            <a:xfrm>
              <a:off x="420480" y="5650920"/>
              <a:ext cx="52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000000"/>
                  </a:solidFill>
                  <a:latin typeface="Times New Roman"/>
                </a:rPr>
                <a:t>1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9" name=""/>
            <p:cNvSpPr/>
            <p:nvPr/>
          </p:nvSpPr>
          <p:spPr>
            <a:xfrm>
              <a:off x="503280" y="603972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000000"/>
                  </a:solidFill>
                  <a:latin typeface="Times New Roman"/>
                </a:rPr>
                <a:t>5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0" name=""/>
            <p:cNvSpPr/>
            <p:nvPr/>
          </p:nvSpPr>
          <p:spPr>
            <a:xfrm>
              <a:off x="974880" y="5467320"/>
              <a:ext cx="136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1" name=""/>
            <p:cNvSpPr/>
            <p:nvPr/>
          </p:nvSpPr>
          <p:spPr>
            <a:xfrm>
              <a:off x="944640" y="5102280"/>
              <a:ext cx="136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2" name=""/>
            <p:cNvSpPr/>
            <p:nvPr/>
          </p:nvSpPr>
          <p:spPr>
            <a:xfrm>
              <a:off x="961920" y="4727520"/>
              <a:ext cx="136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3" name=""/>
            <p:cNvSpPr/>
            <p:nvPr/>
          </p:nvSpPr>
          <p:spPr>
            <a:xfrm>
              <a:off x="393480" y="4587120"/>
              <a:ext cx="52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000000"/>
                  </a:solidFill>
                  <a:latin typeface="Times New Roman"/>
                </a:rPr>
                <a:t>25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4" name=""/>
            <p:cNvSpPr/>
            <p:nvPr/>
          </p:nvSpPr>
          <p:spPr>
            <a:xfrm>
              <a:off x="957240" y="5848200"/>
              <a:ext cx="7724880" cy="581040"/>
            </a:xfrm>
            <a:custGeom>
              <a:avLst/>
              <a:gdLst/>
              <a:ahLst/>
              <a:rect l="l" t="t" r="r" b="b"/>
              <a:pathLst>
                <a:path w="4866" h="366">
                  <a:moveTo>
                    <a:pt x="0" y="366"/>
                  </a:moveTo>
                  <a:lnTo>
                    <a:pt x="966" y="360"/>
                  </a:lnTo>
                  <a:cubicBezTo>
                    <a:pt x="1178" y="360"/>
                    <a:pt x="1629" y="252"/>
                    <a:pt x="1949" y="166"/>
                  </a:cubicBezTo>
                  <a:cubicBezTo>
                    <a:pt x="2227" y="112"/>
                    <a:pt x="2302" y="60"/>
                    <a:pt x="2635" y="35"/>
                  </a:cubicBezTo>
                  <a:cubicBezTo>
                    <a:pt x="2968" y="10"/>
                    <a:pt x="3577" y="15"/>
                    <a:pt x="3949" y="18"/>
                  </a:cubicBezTo>
                  <a:cubicBezTo>
                    <a:pt x="4287" y="0"/>
                    <a:pt x="4675" y="46"/>
                    <a:pt x="4866" y="53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5" name=""/>
            <p:cNvSpPr/>
            <p:nvPr/>
          </p:nvSpPr>
          <p:spPr>
            <a:xfrm>
              <a:off x="5703120" y="5579640"/>
              <a:ext cx="1746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1600" spc="-1" strike="noStrike">
                  <a:solidFill>
                    <a:srgbClr val="000000"/>
                  </a:solidFill>
                  <a:latin typeface="Times New Roman"/>
                </a:rPr>
                <a:t>titrovatelná acidit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6" name=""/>
            <p:cNvSpPr/>
            <p:nvPr/>
          </p:nvSpPr>
          <p:spPr>
            <a:xfrm>
              <a:off x="7248240" y="4718520"/>
              <a:ext cx="12704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1600" spc="-1" strike="noStrike">
                  <a:solidFill>
                    <a:srgbClr val="000000"/>
                  </a:solidFill>
                  <a:latin typeface="Times New Roman"/>
                </a:rPr>
                <a:t>exkrece NH</a:t>
              </a:r>
              <a:r>
                <a:rPr b="0" i="1" lang="cs-CZ" sz="16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0" i="1" lang="cs-CZ" sz="1600" spc="-1" strike="noStrike" baseline="30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7" name=""/>
            <p:cNvSpPr/>
            <p:nvPr/>
          </p:nvSpPr>
          <p:spPr>
            <a:xfrm>
              <a:off x="-115560" y="4344480"/>
              <a:ext cx="1032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1600" spc="-1" strike="noStrike">
                  <a:solidFill>
                    <a:srgbClr val="000000"/>
                  </a:solidFill>
                  <a:latin typeface="Times New Roman"/>
                </a:rPr>
                <a:t>mmol/de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8" name=""/>
            <p:cNvSpPr/>
            <p:nvPr/>
          </p:nvSpPr>
          <p:spPr>
            <a:xfrm>
              <a:off x="322200" y="2265120"/>
              <a:ext cx="479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1600" spc="-1" strike="noStrike">
                  <a:solidFill>
                    <a:srgbClr val="000000"/>
                  </a:solidFill>
                  <a:latin typeface="Times New Roman"/>
                </a:rPr>
                <a:t>p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9" name=""/>
            <p:cNvSpPr/>
            <p:nvPr/>
          </p:nvSpPr>
          <p:spPr>
            <a:xfrm>
              <a:off x="2995560" y="858600"/>
              <a:ext cx="4040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1600" spc="-1" strike="noStrike">
                  <a:solidFill>
                    <a:srgbClr val="000000"/>
                  </a:solidFill>
                  <a:latin typeface="Times New Roman"/>
                </a:rPr>
                <a:t>plazmatická hladina bikarbonátů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0" name=""/>
            <p:cNvSpPr/>
            <p:nvPr/>
          </p:nvSpPr>
          <p:spPr>
            <a:xfrm>
              <a:off x="163440" y="-360"/>
              <a:ext cx="749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1600" spc="-1" strike="noStrike">
                  <a:solidFill>
                    <a:srgbClr val="000000"/>
                  </a:solidFill>
                  <a:latin typeface="Times New Roman"/>
                </a:rPr>
                <a:t>mmol/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1" name=""/>
            <p:cNvSpPr/>
            <p:nvPr/>
          </p:nvSpPr>
          <p:spPr>
            <a:xfrm>
              <a:off x="4302720" y="3387240"/>
              <a:ext cx="924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1600" spc="-1" strike="noStrike">
                  <a:solidFill>
                    <a:srgbClr val="000000"/>
                  </a:solidFill>
                  <a:latin typeface="Times New Roman"/>
                </a:rPr>
                <a:t>pH moč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2" name=""/>
            <p:cNvSpPr/>
            <p:nvPr/>
          </p:nvSpPr>
          <p:spPr>
            <a:xfrm flipV="1">
              <a:off x="2486160" y="109440"/>
              <a:ext cx="0" cy="649440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3" name=""/>
            <p:cNvSpPr/>
            <p:nvPr/>
          </p:nvSpPr>
          <p:spPr>
            <a:xfrm>
              <a:off x="2484360" y="0"/>
              <a:ext cx="5886360" cy="388800"/>
            </a:xfrm>
            <a:prstGeom prst="rightArrow">
              <a:avLst>
                <a:gd name="adj1" fmla="val 68167"/>
                <a:gd name="adj2" fmla="val 240835"/>
              </a:avLst>
            </a:prstGeom>
            <a:noFill/>
            <a:ln cap="rnd" w="284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000000"/>
                  </a:solidFill>
                  <a:latin typeface="Times New Roman"/>
                </a:rPr>
                <a:t>retence</a:t>
              </a:r>
              <a:r>
                <a:rPr b="0" lang="cs-CZ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1800" spc="-1" strike="noStrike">
                  <a:solidFill>
                    <a:srgbClr val="000000"/>
                  </a:solidFill>
                  <a:latin typeface="Times New Roman"/>
                </a:rPr>
                <a:t>silných</a:t>
              </a:r>
              <a:r>
                <a:rPr b="0" lang="cs-CZ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1800" spc="-1" strike="noStrike">
                  <a:solidFill>
                    <a:srgbClr val="000000"/>
                  </a:solidFill>
                  <a:latin typeface="Times New Roman"/>
                </a:rPr>
                <a:t>kyseli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4" name=""/>
            <p:cNvSpPr/>
            <p:nvPr/>
          </p:nvSpPr>
          <p:spPr>
            <a:xfrm>
              <a:off x="2500200" y="420156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5" name=""/>
            <p:cNvSpPr/>
            <p:nvPr/>
          </p:nvSpPr>
          <p:spPr>
            <a:xfrm>
              <a:off x="2492280" y="6504840"/>
              <a:ext cx="29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6" name=""/>
            <p:cNvSpPr/>
            <p:nvPr/>
          </p:nvSpPr>
          <p:spPr>
            <a:xfrm>
              <a:off x="3849480" y="42346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7" name=""/>
            <p:cNvSpPr/>
            <p:nvPr/>
          </p:nvSpPr>
          <p:spPr>
            <a:xfrm>
              <a:off x="5370480" y="42202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8" name=""/>
            <p:cNvSpPr/>
            <p:nvPr/>
          </p:nvSpPr>
          <p:spPr>
            <a:xfrm>
              <a:off x="6904080" y="42076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9" name=""/>
            <p:cNvSpPr/>
            <p:nvPr/>
          </p:nvSpPr>
          <p:spPr>
            <a:xfrm>
              <a:off x="8399160" y="42346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0" name=""/>
            <p:cNvSpPr/>
            <p:nvPr/>
          </p:nvSpPr>
          <p:spPr>
            <a:xfrm>
              <a:off x="3836880" y="65620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1" name=""/>
            <p:cNvSpPr/>
            <p:nvPr/>
          </p:nvSpPr>
          <p:spPr>
            <a:xfrm>
              <a:off x="5357520" y="65476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2" name=""/>
            <p:cNvSpPr/>
            <p:nvPr/>
          </p:nvSpPr>
          <p:spPr>
            <a:xfrm>
              <a:off x="6891120" y="65350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3" name=""/>
            <p:cNvSpPr/>
            <p:nvPr/>
          </p:nvSpPr>
          <p:spPr>
            <a:xfrm>
              <a:off x="8386560" y="65620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4" name=""/>
            <p:cNvSpPr/>
            <p:nvPr/>
          </p:nvSpPr>
          <p:spPr>
            <a:xfrm>
              <a:off x="8564040" y="6321600"/>
              <a:ext cx="6091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1600" spc="-1" strike="noStrike">
                  <a:solidFill>
                    <a:srgbClr val="000000"/>
                  </a:solidFill>
                  <a:latin typeface="Times New Roman"/>
                </a:rPr>
                <a:t>ča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1600" spc="-1" strike="noStrike">
                  <a:solidFill>
                    <a:srgbClr val="000000"/>
                  </a:solidFill>
                  <a:latin typeface="Times New Roman"/>
                </a:rPr>
                <a:t>(dny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5" name=""/>
            <p:cNvSpPr/>
            <p:nvPr/>
          </p:nvSpPr>
          <p:spPr>
            <a:xfrm>
              <a:off x="8532000" y="3994200"/>
              <a:ext cx="6091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1600" spc="-1" strike="noStrike">
                  <a:solidFill>
                    <a:srgbClr val="000000"/>
                  </a:solidFill>
                  <a:latin typeface="Times New Roman"/>
                </a:rPr>
                <a:t>ča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1600" spc="-1" strike="noStrike">
                  <a:solidFill>
                    <a:srgbClr val="000000"/>
                  </a:solidFill>
                  <a:latin typeface="Times New Roman"/>
                </a:rPr>
                <a:t>(dny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6" name=""/>
            <p:cNvSpPr/>
            <p:nvPr/>
          </p:nvSpPr>
          <p:spPr>
            <a:xfrm flipV="1">
              <a:off x="958680" y="2072880"/>
              <a:ext cx="7769520" cy="9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7" name=""/>
            <p:cNvSpPr/>
            <p:nvPr/>
          </p:nvSpPr>
          <p:spPr>
            <a:xfrm flipV="1">
              <a:off x="2479680" y="1971360"/>
              <a:ext cx="0" cy="112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8" name=""/>
            <p:cNvSpPr/>
            <p:nvPr/>
          </p:nvSpPr>
          <p:spPr>
            <a:xfrm flipV="1">
              <a:off x="5533920" y="1960200"/>
              <a:ext cx="0" cy="112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9" name=""/>
            <p:cNvSpPr/>
            <p:nvPr/>
          </p:nvSpPr>
          <p:spPr>
            <a:xfrm flipV="1">
              <a:off x="4006800" y="1966680"/>
              <a:ext cx="0" cy="112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0" name=""/>
            <p:cNvSpPr/>
            <p:nvPr/>
          </p:nvSpPr>
          <p:spPr>
            <a:xfrm flipV="1">
              <a:off x="8561520" y="1974600"/>
              <a:ext cx="0" cy="112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1" name=""/>
            <p:cNvSpPr/>
            <p:nvPr/>
          </p:nvSpPr>
          <p:spPr>
            <a:xfrm flipV="1">
              <a:off x="7059600" y="1962000"/>
              <a:ext cx="0" cy="113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2" name=""/>
            <p:cNvSpPr/>
            <p:nvPr/>
          </p:nvSpPr>
          <p:spPr>
            <a:xfrm flipV="1">
              <a:off x="2486160" y="-360"/>
              <a:ext cx="0" cy="440676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3" name=""/>
            <p:cNvSpPr/>
            <p:nvPr/>
          </p:nvSpPr>
          <p:spPr>
            <a:xfrm>
              <a:off x="2500200" y="20041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4" name=""/>
            <p:cNvSpPr/>
            <p:nvPr/>
          </p:nvSpPr>
          <p:spPr>
            <a:xfrm>
              <a:off x="3849480" y="20376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5" name=""/>
            <p:cNvSpPr/>
            <p:nvPr/>
          </p:nvSpPr>
          <p:spPr>
            <a:xfrm>
              <a:off x="5370480" y="20232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6" name=""/>
            <p:cNvSpPr/>
            <p:nvPr/>
          </p:nvSpPr>
          <p:spPr>
            <a:xfrm>
              <a:off x="6904080" y="20106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7" name=""/>
            <p:cNvSpPr/>
            <p:nvPr/>
          </p:nvSpPr>
          <p:spPr>
            <a:xfrm>
              <a:off x="8532000" y="1797120"/>
              <a:ext cx="6091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1600" spc="-1" strike="noStrike">
                  <a:solidFill>
                    <a:srgbClr val="000000"/>
                  </a:solidFill>
                  <a:latin typeface="Times New Roman"/>
                </a:rPr>
                <a:t>ča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1600" spc="-1" strike="noStrike">
                  <a:solidFill>
                    <a:srgbClr val="000000"/>
                  </a:solidFill>
                  <a:latin typeface="Times New Roman"/>
                </a:rPr>
                <a:t>(dny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58" name=""/>
          <p:cNvGrpSpPr/>
          <p:nvPr/>
        </p:nvGrpSpPr>
        <p:grpSpPr>
          <a:xfrm>
            <a:off x="-115560" y="-7920"/>
            <a:ext cx="9288720" cy="6938280"/>
            <a:chOff x="-115560" y="-7920"/>
            <a:chExt cx="9288720" cy="6938280"/>
          </a:xfrm>
        </p:grpSpPr>
        <p:sp>
          <p:nvSpPr>
            <p:cNvPr id="11459" name=""/>
            <p:cNvSpPr/>
            <p:nvPr/>
          </p:nvSpPr>
          <p:spPr>
            <a:xfrm>
              <a:off x="977760" y="360360"/>
              <a:ext cx="7756560" cy="171468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0" name=""/>
            <p:cNvSpPr/>
            <p:nvPr/>
          </p:nvSpPr>
          <p:spPr>
            <a:xfrm>
              <a:off x="960480" y="2392200"/>
              <a:ext cx="7756560" cy="187812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1" name=""/>
            <p:cNvSpPr/>
            <p:nvPr/>
          </p:nvSpPr>
          <p:spPr>
            <a:xfrm>
              <a:off x="944640" y="4525920"/>
              <a:ext cx="7746840" cy="2068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2" name=""/>
            <p:cNvSpPr/>
            <p:nvPr/>
          </p:nvSpPr>
          <p:spPr>
            <a:xfrm>
              <a:off x="979560" y="0"/>
              <a:ext cx="0" cy="208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3" name=""/>
            <p:cNvSpPr/>
            <p:nvPr/>
          </p:nvSpPr>
          <p:spPr>
            <a:xfrm>
              <a:off x="966960" y="950760"/>
              <a:ext cx="136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4" name=""/>
            <p:cNvSpPr/>
            <p:nvPr/>
          </p:nvSpPr>
          <p:spPr>
            <a:xfrm>
              <a:off x="966960" y="395280"/>
              <a:ext cx="136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5" name=""/>
            <p:cNvSpPr/>
            <p:nvPr/>
          </p:nvSpPr>
          <p:spPr>
            <a:xfrm>
              <a:off x="952560" y="507960"/>
              <a:ext cx="7775640" cy="652680"/>
            </a:xfrm>
            <a:custGeom>
              <a:avLst/>
              <a:gdLst/>
              <a:ahLst/>
              <a:rect l="l" t="t" r="r" b="b"/>
              <a:pathLst>
                <a:path w="4898" h="411">
                  <a:moveTo>
                    <a:pt x="0" y="411"/>
                  </a:moveTo>
                  <a:lnTo>
                    <a:pt x="972" y="411"/>
                  </a:lnTo>
                  <a:lnTo>
                    <a:pt x="972" y="309"/>
                  </a:lnTo>
                  <a:cubicBezTo>
                    <a:pt x="1172" y="284"/>
                    <a:pt x="1684" y="305"/>
                    <a:pt x="2172" y="263"/>
                  </a:cubicBezTo>
                  <a:cubicBezTo>
                    <a:pt x="2660" y="221"/>
                    <a:pt x="3449" y="101"/>
                    <a:pt x="3903" y="57"/>
                  </a:cubicBezTo>
                  <a:cubicBezTo>
                    <a:pt x="4357" y="13"/>
                    <a:pt x="4691" y="12"/>
                    <a:pt x="4898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6" name=""/>
            <p:cNvSpPr/>
            <p:nvPr/>
          </p:nvSpPr>
          <p:spPr>
            <a:xfrm>
              <a:off x="958680" y="2139840"/>
              <a:ext cx="0" cy="2140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7" name=""/>
            <p:cNvSpPr/>
            <p:nvPr/>
          </p:nvSpPr>
          <p:spPr>
            <a:xfrm>
              <a:off x="958680" y="4280040"/>
              <a:ext cx="7761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8" name=""/>
            <p:cNvSpPr/>
            <p:nvPr/>
          </p:nvSpPr>
          <p:spPr>
            <a:xfrm flipV="1">
              <a:off x="2479680" y="4168440"/>
              <a:ext cx="0" cy="112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9" name=""/>
            <p:cNvSpPr/>
            <p:nvPr/>
          </p:nvSpPr>
          <p:spPr>
            <a:xfrm flipV="1">
              <a:off x="5533920" y="4157280"/>
              <a:ext cx="0" cy="112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0" name=""/>
            <p:cNvSpPr/>
            <p:nvPr/>
          </p:nvSpPr>
          <p:spPr>
            <a:xfrm flipV="1">
              <a:off x="4006800" y="4163760"/>
              <a:ext cx="0" cy="112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1" name=""/>
            <p:cNvSpPr/>
            <p:nvPr/>
          </p:nvSpPr>
          <p:spPr>
            <a:xfrm flipV="1">
              <a:off x="8561520" y="4171680"/>
              <a:ext cx="0" cy="112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2" name=""/>
            <p:cNvSpPr/>
            <p:nvPr/>
          </p:nvSpPr>
          <p:spPr>
            <a:xfrm flipV="1">
              <a:off x="7059600" y="4159080"/>
              <a:ext cx="0" cy="113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3" name=""/>
            <p:cNvSpPr/>
            <p:nvPr/>
          </p:nvSpPr>
          <p:spPr>
            <a:xfrm>
              <a:off x="984240" y="4116240"/>
              <a:ext cx="136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4" name=""/>
            <p:cNvSpPr/>
            <p:nvPr/>
          </p:nvSpPr>
          <p:spPr>
            <a:xfrm>
              <a:off x="946080" y="3144960"/>
              <a:ext cx="136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5" name=""/>
            <p:cNvSpPr/>
            <p:nvPr/>
          </p:nvSpPr>
          <p:spPr>
            <a:xfrm>
              <a:off x="968400" y="3060720"/>
              <a:ext cx="7740720" cy="892080"/>
            </a:xfrm>
            <a:custGeom>
              <a:avLst/>
              <a:gdLst/>
              <a:ahLst/>
              <a:rect l="l" t="t" r="r" b="b"/>
              <a:pathLst>
                <a:path w="4876" h="562">
                  <a:moveTo>
                    <a:pt x="0" y="54"/>
                  </a:moveTo>
                  <a:lnTo>
                    <a:pt x="962" y="55"/>
                  </a:lnTo>
                  <a:cubicBezTo>
                    <a:pt x="1264" y="186"/>
                    <a:pt x="1498" y="381"/>
                    <a:pt x="1824" y="455"/>
                  </a:cubicBezTo>
                  <a:cubicBezTo>
                    <a:pt x="2150" y="529"/>
                    <a:pt x="2632" y="562"/>
                    <a:pt x="2916" y="500"/>
                  </a:cubicBezTo>
                  <a:cubicBezTo>
                    <a:pt x="3200" y="438"/>
                    <a:pt x="3200" y="166"/>
                    <a:pt x="3527" y="83"/>
                  </a:cubicBezTo>
                  <a:cubicBezTo>
                    <a:pt x="3854" y="0"/>
                    <a:pt x="4595" y="20"/>
                    <a:pt x="4876" y="3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6" name=""/>
            <p:cNvSpPr/>
            <p:nvPr/>
          </p:nvSpPr>
          <p:spPr>
            <a:xfrm>
              <a:off x="963720" y="3616200"/>
              <a:ext cx="136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7" name=""/>
            <p:cNvSpPr/>
            <p:nvPr/>
          </p:nvSpPr>
          <p:spPr>
            <a:xfrm>
              <a:off x="958680" y="2625840"/>
              <a:ext cx="136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8" name=""/>
            <p:cNvSpPr/>
            <p:nvPr/>
          </p:nvSpPr>
          <p:spPr>
            <a:xfrm>
              <a:off x="428040" y="2999520"/>
              <a:ext cx="46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000000"/>
                  </a:solidFill>
                  <a:latin typeface="Times New Roman"/>
                </a:rPr>
                <a:t>6,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9" name=""/>
            <p:cNvSpPr/>
            <p:nvPr/>
          </p:nvSpPr>
          <p:spPr>
            <a:xfrm>
              <a:off x="463320" y="2471040"/>
              <a:ext cx="46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000000"/>
                  </a:solidFill>
                  <a:latin typeface="Times New Roman"/>
                </a:rPr>
                <a:t>6,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0" name=""/>
            <p:cNvSpPr/>
            <p:nvPr/>
          </p:nvSpPr>
          <p:spPr>
            <a:xfrm>
              <a:off x="426600" y="3469680"/>
              <a:ext cx="46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000000"/>
                  </a:solidFill>
                  <a:latin typeface="Times New Roman"/>
                </a:rPr>
                <a:t>5,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1" name=""/>
            <p:cNvSpPr/>
            <p:nvPr/>
          </p:nvSpPr>
          <p:spPr>
            <a:xfrm>
              <a:off x="501480" y="38948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2" name=""/>
            <p:cNvSpPr/>
            <p:nvPr/>
          </p:nvSpPr>
          <p:spPr>
            <a:xfrm>
              <a:off x="568440" y="79128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000000"/>
                  </a:solidFill>
                  <a:latin typeface="Times New Roman"/>
                </a:rPr>
                <a:t>3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3" name=""/>
            <p:cNvSpPr/>
            <p:nvPr/>
          </p:nvSpPr>
          <p:spPr>
            <a:xfrm>
              <a:off x="558720" y="114228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4" name=""/>
            <p:cNvSpPr/>
            <p:nvPr/>
          </p:nvSpPr>
          <p:spPr>
            <a:xfrm>
              <a:off x="557280" y="153108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5" name=""/>
            <p:cNvSpPr/>
            <p:nvPr/>
          </p:nvSpPr>
          <p:spPr>
            <a:xfrm>
              <a:off x="944640" y="4457880"/>
              <a:ext cx="0" cy="21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6" name=""/>
            <p:cNvSpPr/>
            <p:nvPr/>
          </p:nvSpPr>
          <p:spPr>
            <a:xfrm>
              <a:off x="955800" y="6589800"/>
              <a:ext cx="7724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7" name=""/>
            <p:cNvSpPr/>
            <p:nvPr/>
          </p:nvSpPr>
          <p:spPr>
            <a:xfrm flipV="1">
              <a:off x="2475000" y="6494040"/>
              <a:ext cx="0" cy="112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8" name=""/>
            <p:cNvSpPr/>
            <p:nvPr/>
          </p:nvSpPr>
          <p:spPr>
            <a:xfrm flipV="1">
              <a:off x="5527800" y="6484680"/>
              <a:ext cx="0" cy="112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9" name=""/>
            <p:cNvSpPr/>
            <p:nvPr/>
          </p:nvSpPr>
          <p:spPr>
            <a:xfrm flipV="1">
              <a:off x="3992400" y="6481440"/>
              <a:ext cx="0" cy="112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0" name=""/>
            <p:cNvSpPr/>
            <p:nvPr/>
          </p:nvSpPr>
          <p:spPr>
            <a:xfrm flipV="1">
              <a:off x="8547120" y="6489360"/>
              <a:ext cx="0" cy="112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1" name=""/>
            <p:cNvSpPr/>
            <p:nvPr/>
          </p:nvSpPr>
          <p:spPr>
            <a:xfrm flipV="1">
              <a:off x="7045200" y="6476760"/>
              <a:ext cx="0" cy="112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2" name=""/>
            <p:cNvSpPr/>
            <p:nvPr/>
          </p:nvSpPr>
          <p:spPr>
            <a:xfrm>
              <a:off x="949320" y="6234120"/>
              <a:ext cx="136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3" name=""/>
            <p:cNvSpPr/>
            <p:nvPr/>
          </p:nvSpPr>
          <p:spPr>
            <a:xfrm>
              <a:off x="961920" y="4968720"/>
              <a:ext cx="7702560" cy="1017720"/>
            </a:xfrm>
            <a:custGeom>
              <a:avLst/>
              <a:gdLst/>
              <a:ahLst/>
              <a:rect l="l" t="t" r="r" b="b"/>
              <a:pathLst>
                <a:path w="4852" h="641">
                  <a:moveTo>
                    <a:pt x="0" y="641"/>
                  </a:moveTo>
                  <a:lnTo>
                    <a:pt x="960" y="641"/>
                  </a:lnTo>
                  <a:cubicBezTo>
                    <a:pt x="1103" y="504"/>
                    <a:pt x="1525" y="55"/>
                    <a:pt x="1931" y="30"/>
                  </a:cubicBezTo>
                  <a:cubicBezTo>
                    <a:pt x="2338" y="0"/>
                    <a:pt x="2913" y="378"/>
                    <a:pt x="3400" y="458"/>
                  </a:cubicBezTo>
                  <a:cubicBezTo>
                    <a:pt x="3887" y="538"/>
                    <a:pt x="4550" y="499"/>
                    <a:pt x="4852" y="51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4" name=""/>
            <p:cNvSpPr/>
            <p:nvPr/>
          </p:nvSpPr>
          <p:spPr>
            <a:xfrm>
              <a:off x="949320" y="5842080"/>
              <a:ext cx="136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5" name=""/>
            <p:cNvSpPr/>
            <p:nvPr/>
          </p:nvSpPr>
          <p:spPr>
            <a:xfrm>
              <a:off x="442800" y="531756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000000"/>
                  </a:solidFill>
                  <a:latin typeface="Times New Roman"/>
                </a:rPr>
                <a:t>7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6" name=""/>
            <p:cNvSpPr/>
            <p:nvPr/>
          </p:nvSpPr>
          <p:spPr>
            <a:xfrm>
              <a:off x="412560" y="4915800"/>
              <a:ext cx="52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000000"/>
                  </a:solidFill>
                  <a:latin typeface="Times New Roman"/>
                </a:rPr>
                <a:t>1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7" name=""/>
            <p:cNvSpPr/>
            <p:nvPr/>
          </p:nvSpPr>
          <p:spPr>
            <a:xfrm>
              <a:off x="477720" y="565092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000000"/>
                  </a:solidFill>
                  <a:latin typeface="Times New Roman"/>
                </a:rPr>
                <a:t>5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8" name=""/>
            <p:cNvSpPr/>
            <p:nvPr/>
          </p:nvSpPr>
          <p:spPr>
            <a:xfrm>
              <a:off x="503280" y="603972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000000"/>
                  </a:solidFill>
                  <a:latin typeface="Times New Roman"/>
                </a:rPr>
                <a:t>2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9" name=""/>
            <p:cNvSpPr/>
            <p:nvPr/>
          </p:nvSpPr>
          <p:spPr>
            <a:xfrm>
              <a:off x="974880" y="5467320"/>
              <a:ext cx="136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0" name=""/>
            <p:cNvSpPr/>
            <p:nvPr/>
          </p:nvSpPr>
          <p:spPr>
            <a:xfrm>
              <a:off x="944640" y="5102280"/>
              <a:ext cx="136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1" name=""/>
            <p:cNvSpPr/>
            <p:nvPr/>
          </p:nvSpPr>
          <p:spPr>
            <a:xfrm>
              <a:off x="961920" y="4727520"/>
              <a:ext cx="136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2" name=""/>
            <p:cNvSpPr/>
            <p:nvPr/>
          </p:nvSpPr>
          <p:spPr>
            <a:xfrm>
              <a:off x="957240" y="5848200"/>
              <a:ext cx="7715160" cy="581040"/>
            </a:xfrm>
            <a:custGeom>
              <a:avLst/>
              <a:gdLst/>
              <a:ahLst/>
              <a:rect l="l" t="t" r="r" b="b"/>
              <a:pathLst>
                <a:path w="4860" h="366">
                  <a:moveTo>
                    <a:pt x="0" y="366"/>
                  </a:moveTo>
                  <a:lnTo>
                    <a:pt x="966" y="360"/>
                  </a:lnTo>
                  <a:cubicBezTo>
                    <a:pt x="1174" y="247"/>
                    <a:pt x="1217" y="192"/>
                    <a:pt x="1380" y="133"/>
                  </a:cubicBezTo>
                  <a:cubicBezTo>
                    <a:pt x="1543" y="74"/>
                    <a:pt x="1779" y="14"/>
                    <a:pt x="1946" y="7"/>
                  </a:cubicBezTo>
                  <a:cubicBezTo>
                    <a:pt x="2113" y="0"/>
                    <a:pt x="2196" y="58"/>
                    <a:pt x="2380" y="93"/>
                  </a:cubicBezTo>
                  <a:cubicBezTo>
                    <a:pt x="2564" y="128"/>
                    <a:pt x="2636" y="198"/>
                    <a:pt x="3049" y="219"/>
                  </a:cubicBezTo>
                  <a:cubicBezTo>
                    <a:pt x="3387" y="201"/>
                    <a:pt x="4483" y="219"/>
                    <a:pt x="4860" y="219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3" name=""/>
            <p:cNvSpPr/>
            <p:nvPr/>
          </p:nvSpPr>
          <p:spPr>
            <a:xfrm>
              <a:off x="5776200" y="6151320"/>
              <a:ext cx="1746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1600" spc="-1" strike="noStrike">
                  <a:solidFill>
                    <a:srgbClr val="000000"/>
                  </a:solidFill>
                  <a:latin typeface="Times New Roman"/>
                </a:rPr>
                <a:t>titrovatelná acidit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4" name=""/>
            <p:cNvSpPr/>
            <p:nvPr/>
          </p:nvSpPr>
          <p:spPr>
            <a:xfrm>
              <a:off x="7048080" y="5380560"/>
              <a:ext cx="12704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1600" spc="-1" strike="noStrike">
                  <a:solidFill>
                    <a:srgbClr val="000000"/>
                  </a:solidFill>
                  <a:latin typeface="Times New Roman"/>
                </a:rPr>
                <a:t>exkrece NH</a:t>
              </a:r>
              <a:r>
                <a:rPr b="0" i="1" lang="cs-CZ" sz="16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0" i="1" lang="cs-CZ" sz="1600" spc="-1" strike="noStrike" baseline="30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5" name=""/>
            <p:cNvSpPr/>
            <p:nvPr/>
          </p:nvSpPr>
          <p:spPr>
            <a:xfrm>
              <a:off x="-115560" y="4344480"/>
              <a:ext cx="1032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1600" spc="-1" strike="noStrike">
                  <a:solidFill>
                    <a:srgbClr val="000000"/>
                  </a:solidFill>
                  <a:latin typeface="Times New Roman"/>
                </a:rPr>
                <a:t>mmol/de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6" name=""/>
            <p:cNvSpPr/>
            <p:nvPr/>
          </p:nvSpPr>
          <p:spPr>
            <a:xfrm>
              <a:off x="322200" y="2265120"/>
              <a:ext cx="479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1600" spc="-1" strike="noStrike">
                  <a:solidFill>
                    <a:srgbClr val="000000"/>
                  </a:solidFill>
                  <a:latin typeface="Times New Roman"/>
                </a:rPr>
                <a:t>p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7" name=""/>
            <p:cNvSpPr/>
            <p:nvPr/>
          </p:nvSpPr>
          <p:spPr>
            <a:xfrm>
              <a:off x="3603600" y="1231560"/>
              <a:ext cx="4040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1600" spc="-1" strike="noStrike">
                  <a:solidFill>
                    <a:srgbClr val="000000"/>
                  </a:solidFill>
                  <a:latin typeface="Times New Roman"/>
                </a:rPr>
                <a:t>plazmatická hladina bikarbonátů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8" name=""/>
            <p:cNvSpPr/>
            <p:nvPr/>
          </p:nvSpPr>
          <p:spPr>
            <a:xfrm>
              <a:off x="163440" y="-360"/>
              <a:ext cx="749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1600" spc="-1" strike="noStrike">
                  <a:solidFill>
                    <a:srgbClr val="000000"/>
                  </a:solidFill>
                  <a:latin typeface="Times New Roman"/>
                </a:rPr>
                <a:t>mmol/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9" name=""/>
            <p:cNvSpPr/>
            <p:nvPr/>
          </p:nvSpPr>
          <p:spPr>
            <a:xfrm>
              <a:off x="4683600" y="3069720"/>
              <a:ext cx="924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1600" spc="-1" strike="noStrike">
                  <a:solidFill>
                    <a:srgbClr val="000000"/>
                  </a:solidFill>
                  <a:latin typeface="Times New Roman"/>
                </a:rPr>
                <a:t>pH moč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0" name=""/>
            <p:cNvSpPr/>
            <p:nvPr/>
          </p:nvSpPr>
          <p:spPr>
            <a:xfrm flipV="1">
              <a:off x="2486160" y="109440"/>
              <a:ext cx="0" cy="649440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1" name=""/>
            <p:cNvSpPr/>
            <p:nvPr/>
          </p:nvSpPr>
          <p:spPr>
            <a:xfrm>
              <a:off x="2484360" y="0"/>
              <a:ext cx="5886360" cy="388800"/>
            </a:xfrm>
            <a:prstGeom prst="rightArrow">
              <a:avLst>
                <a:gd name="adj1" fmla="val 68167"/>
                <a:gd name="adj2" fmla="val 240835"/>
              </a:avLst>
            </a:prstGeom>
            <a:noFill/>
            <a:ln cap="rnd" w="284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000000"/>
                  </a:solidFill>
                  <a:latin typeface="Times New Roman"/>
                </a:rPr>
                <a:t>hyperkapni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2" name=""/>
            <p:cNvSpPr/>
            <p:nvPr/>
          </p:nvSpPr>
          <p:spPr>
            <a:xfrm>
              <a:off x="2500200" y="420156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3" name=""/>
            <p:cNvSpPr/>
            <p:nvPr/>
          </p:nvSpPr>
          <p:spPr>
            <a:xfrm>
              <a:off x="2492280" y="6504840"/>
              <a:ext cx="29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4" name=""/>
            <p:cNvSpPr/>
            <p:nvPr/>
          </p:nvSpPr>
          <p:spPr>
            <a:xfrm>
              <a:off x="3849480" y="42346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5" name=""/>
            <p:cNvSpPr/>
            <p:nvPr/>
          </p:nvSpPr>
          <p:spPr>
            <a:xfrm>
              <a:off x="5370480" y="42202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6" name=""/>
            <p:cNvSpPr/>
            <p:nvPr/>
          </p:nvSpPr>
          <p:spPr>
            <a:xfrm>
              <a:off x="6904080" y="42076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7" name=""/>
            <p:cNvSpPr/>
            <p:nvPr/>
          </p:nvSpPr>
          <p:spPr>
            <a:xfrm>
              <a:off x="8399160" y="42346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8" name=""/>
            <p:cNvSpPr/>
            <p:nvPr/>
          </p:nvSpPr>
          <p:spPr>
            <a:xfrm>
              <a:off x="3836880" y="65620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9" name=""/>
            <p:cNvSpPr/>
            <p:nvPr/>
          </p:nvSpPr>
          <p:spPr>
            <a:xfrm>
              <a:off x="5357520" y="65476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0" name=""/>
            <p:cNvSpPr/>
            <p:nvPr/>
          </p:nvSpPr>
          <p:spPr>
            <a:xfrm>
              <a:off x="6891120" y="65350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1" name=""/>
            <p:cNvSpPr/>
            <p:nvPr/>
          </p:nvSpPr>
          <p:spPr>
            <a:xfrm>
              <a:off x="8386560" y="65620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2" name=""/>
            <p:cNvSpPr/>
            <p:nvPr/>
          </p:nvSpPr>
          <p:spPr>
            <a:xfrm>
              <a:off x="8564040" y="6321600"/>
              <a:ext cx="6091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1600" spc="-1" strike="noStrike">
                  <a:solidFill>
                    <a:srgbClr val="000000"/>
                  </a:solidFill>
                  <a:latin typeface="Times New Roman"/>
                </a:rPr>
                <a:t>ča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1600" spc="-1" strike="noStrike">
                  <a:solidFill>
                    <a:srgbClr val="000000"/>
                  </a:solidFill>
                  <a:latin typeface="Times New Roman"/>
                </a:rPr>
                <a:t>(dny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3" name=""/>
            <p:cNvSpPr/>
            <p:nvPr/>
          </p:nvSpPr>
          <p:spPr>
            <a:xfrm>
              <a:off x="8532000" y="3994200"/>
              <a:ext cx="6091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1600" spc="-1" strike="noStrike">
                  <a:solidFill>
                    <a:srgbClr val="000000"/>
                  </a:solidFill>
                  <a:latin typeface="Times New Roman"/>
                </a:rPr>
                <a:t>ča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1600" spc="-1" strike="noStrike">
                  <a:solidFill>
                    <a:srgbClr val="000000"/>
                  </a:solidFill>
                  <a:latin typeface="Times New Roman"/>
                </a:rPr>
                <a:t>(dny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4" name=""/>
            <p:cNvSpPr/>
            <p:nvPr/>
          </p:nvSpPr>
          <p:spPr>
            <a:xfrm flipV="1">
              <a:off x="958680" y="2072880"/>
              <a:ext cx="7769520" cy="9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5" name=""/>
            <p:cNvSpPr/>
            <p:nvPr/>
          </p:nvSpPr>
          <p:spPr>
            <a:xfrm flipV="1">
              <a:off x="2479680" y="1971360"/>
              <a:ext cx="0" cy="112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6" name=""/>
            <p:cNvSpPr/>
            <p:nvPr/>
          </p:nvSpPr>
          <p:spPr>
            <a:xfrm flipV="1">
              <a:off x="5533920" y="1960200"/>
              <a:ext cx="0" cy="112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7" name=""/>
            <p:cNvSpPr/>
            <p:nvPr/>
          </p:nvSpPr>
          <p:spPr>
            <a:xfrm flipV="1">
              <a:off x="4006800" y="1966680"/>
              <a:ext cx="0" cy="112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8" name=""/>
            <p:cNvSpPr/>
            <p:nvPr/>
          </p:nvSpPr>
          <p:spPr>
            <a:xfrm flipV="1">
              <a:off x="8561520" y="1974600"/>
              <a:ext cx="0" cy="112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9" name=""/>
            <p:cNvSpPr/>
            <p:nvPr/>
          </p:nvSpPr>
          <p:spPr>
            <a:xfrm flipV="1">
              <a:off x="7059600" y="1962000"/>
              <a:ext cx="0" cy="113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0" name=""/>
            <p:cNvSpPr/>
            <p:nvPr/>
          </p:nvSpPr>
          <p:spPr>
            <a:xfrm>
              <a:off x="2479680" y="-7920"/>
              <a:ext cx="6480" cy="4416480"/>
            </a:xfrm>
            <a:custGeom>
              <a:avLst/>
              <a:gdLst/>
              <a:ahLst/>
              <a:rect l="l" t="t" r="r" b="b"/>
              <a:pathLst>
                <a:path w="4" h="2782">
                  <a:moveTo>
                    <a:pt x="4" y="2782"/>
                  </a:move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1" name=""/>
            <p:cNvSpPr/>
            <p:nvPr/>
          </p:nvSpPr>
          <p:spPr>
            <a:xfrm>
              <a:off x="2500200" y="20041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2" name=""/>
            <p:cNvSpPr/>
            <p:nvPr/>
          </p:nvSpPr>
          <p:spPr>
            <a:xfrm>
              <a:off x="3849480" y="20376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3" name=""/>
            <p:cNvSpPr/>
            <p:nvPr/>
          </p:nvSpPr>
          <p:spPr>
            <a:xfrm>
              <a:off x="5370480" y="20232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4" name=""/>
            <p:cNvSpPr/>
            <p:nvPr/>
          </p:nvSpPr>
          <p:spPr>
            <a:xfrm>
              <a:off x="6904080" y="20106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5" name=""/>
            <p:cNvSpPr/>
            <p:nvPr/>
          </p:nvSpPr>
          <p:spPr>
            <a:xfrm>
              <a:off x="8532000" y="1797120"/>
              <a:ext cx="6091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1600" spc="-1" strike="noStrike">
                  <a:solidFill>
                    <a:srgbClr val="000000"/>
                  </a:solidFill>
                  <a:latin typeface="Times New Roman"/>
                </a:rPr>
                <a:t>ča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1600" spc="-1" strike="noStrike">
                  <a:solidFill>
                    <a:srgbClr val="000000"/>
                  </a:solidFill>
                  <a:latin typeface="Times New Roman"/>
                </a:rPr>
                <a:t>(dny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6" name=""/>
            <p:cNvSpPr/>
            <p:nvPr/>
          </p:nvSpPr>
          <p:spPr>
            <a:xfrm>
              <a:off x="977760" y="1711440"/>
              <a:ext cx="136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7" name=""/>
            <p:cNvSpPr/>
            <p:nvPr/>
          </p:nvSpPr>
          <p:spPr>
            <a:xfrm>
              <a:off x="958680" y="1343160"/>
              <a:ext cx="136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8" name=""/>
            <p:cNvSpPr/>
            <p:nvPr/>
          </p:nvSpPr>
          <p:spPr>
            <a:xfrm>
              <a:off x="976320" y="606600"/>
              <a:ext cx="136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9" name=""/>
            <p:cNvSpPr/>
            <p:nvPr/>
          </p:nvSpPr>
          <p:spPr>
            <a:xfrm>
              <a:off x="566640" y="44532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000000"/>
                  </a:solidFill>
                  <a:latin typeface="Times New Roman"/>
                </a:rPr>
                <a:t>4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0" name=""/>
            <p:cNvSpPr/>
            <p:nvPr/>
          </p:nvSpPr>
          <p:spPr>
            <a:xfrm>
              <a:off x="438120" y="4539600"/>
              <a:ext cx="52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000000"/>
                  </a:solidFill>
                  <a:latin typeface="Times New Roman"/>
                </a:rPr>
                <a:t>12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41" name=""/>
          <p:cNvGrpSpPr/>
          <p:nvPr/>
        </p:nvGrpSpPr>
        <p:grpSpPr>
          <a:xfrm>
            <a:off x="0" y="0"/>
            <a:ext cx="9144000" cy="6945480"/>
            <a:chOff x="0" y="0"/>
            <a:chExt cx="9144000" cy="6945480"/>
          </a:xfrm>
        </p:grpSpPr>
        <p:sp>
          <p:nvSpPr>
            <p:cNvPr id="11542" name=""/>
            <p:cNvSpPr/>
            <p:nvPr/>
          </p:nvSpPr>
          <p:spPr>
            <a:xfrm>
              <a:off x="0" y="682560"/>
              <a:ext cx="9144000" cy="394200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3" name=""/>
            <p:cNvSpPr/>
            <p:nvPr/>
          </p:nvSpPr>
          <p:spPr>
            <a:xfrm>
              <a:off x="0" y="3816360"/>
              <a:ext cx="9144000" cy="30416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4" name=""/>
            <p:cNvSpPr/>
            <p:nvPr/>
          </p:nvSpPr>
          <p:spPr>
            <a:xfrm flipH="1">
              <a:off x="167400" y="1484280"/>
              <a:ext cx="72396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5" name=""/>
            <p:cNvSpPr/>
            <p:nvPr/>
          </p:nvSpPr>
          <p:spPr>
            <a:xfrm>
              <a:off x="7369200" y="5388120"/>
              <a:ext cx="1111320" cy="1008000"/>
            </a:xfrm>
            <a:prstGeom prst="rect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6" name=""/>
            <p:cNvSpPr/>
            <p:nvPr/>
          </p:nvSpPr>
          <p:spPr>
            <a:xfrm>
              <a:off x="5006880" y="2305080"/>
              <a:ext cx="1111320" cy="69516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7" name=""/>
            <p:cNvSpPr/>
            <p:nvPr/>
          </p:nvSpPr>
          <p:spPr>
            <a:xfrm>
              <a:off x="2619360" y="1787400"/>
              <a:ext cx="1144440" cy="70812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8" name=""/>
            <p:cNvSpPr/>
            <p:nvPr/>
          </p:nvSpPr>
          <p:spPr>
            <a:xfrm>
              <a:off x="480960" y="1193760"/>
              <a:ext cx="927000" cy="74304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9" name=""/>
            <p:cNvSpPr/>
            <p:nvPr/>
          </p:nvSpPr>
          <p:spPr>
            <a:xfrm>
              <a:off x="699120" y="1395360"/>
              <a:ext cx="736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Arial"/>
                </a:rPr>
                <a:t>CO</a:t>
              </a:r>
              <a:r>
                <a:rPr b="1" lang="cs-CZ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0" name=""/>
            <p:cNvSpPr/>
            <p:nvPr/>
          </p:nvSpPr>
          <p:spPr>
            <a:xfrm>
              <a:off x="749880" y="2227320"/>
              <a:ext cx="736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cs-CZ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cs-CZ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1" name=""/>
            <p:cNvSpPr/>
            <p:nvPr/>
          </p:nvSpPr>
          <p:spPr>
            <a:xfrm>
              <a:off x="2778120" y="1955880"/>
              <a:ext cx="1055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cs-CZ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cs-CZ" sz="2400" spc="-1" strike="noStrike">
                  <a:solidFill>
                    <a:srgbClr val="000000"/>
                  </a:solidFill>
                  <a:latin typeface="Arial"/>
                </a:rPr>
                <a:t>CO</a:t>
              </a:r>
              <a:r>
                <a:rPr b="1" lang="cs-CZ" sz="2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2" name=""/>
            <p:cNvSpPr/>
            <p:nvPr/>
          </p:nvSpPr>
          <p:spPr>
            <a:xfrm>
              <a:off x="5096880" y="2476440"/>
              <a:ext cx="956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Arial"/>
                </a:rPr>
                <a:t>HCO</a:t>
              </a:r>
              <a:r>
                <a:rPr b="1" lang="cs-CZ" sz="2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553" name=""/>
            <p:cNvGrpSpPr/>
            <p:nvPr/>
          </p:nvGrpSpPr>
          <p:grpSpPr>
            <a:xfrm>
              <a:off x="3765600" y="1635120"/>
              <a:ext cx="1249200" cy="910800"/>
              <a:chOff x="3765600" y="1635120"/>
              <a:chExt cx="1249200" cy="910800"/>
            </a:xfrm>
          </p:grpSpPr>
          <p:sp>
            <p:nvSpPr>
              <p:cNvPr id="11554" name=""/>
              <p:cNvSpPr/>
              <p:nvPr/>
            </p:nvSpPr>
            <p:spPr>
              <a:xfrm>
                <a:off x="3859200" y="1635120"/>
                <a:ext cx="1155600" cy="457200"/>
              </a:xfrm>
              <a:custGeom>
                <a:avLst/>
                <a:gdLst/>
                <a:ahLst/>
                <a:rect l="l" t="t" r="r" b="b"/>
                <a:pathLst>
                  <a:path w="728" h="645">
                    <a:moveTo>
                      <a:pt x="0" y="642"/>
                    </a:moveTo>
                    <a:lnTo>
                      <a:pt x="351" y="645"/>
                    </a:lnTo>
                    <a:cubicBezTo>
                      <a:pt x="420" y="628"/>
                      <a:pt x="405" y="630"/>
                      <a:pt x="416" y="538"/>
                    </a:cubicBezTo>
                    <a:lnTo>
                      <a:pt x="416" y="91"/>
                    </a:lnTo>
                    <a:cubicBezTo>
                      <a:pt x="429" y="1"/>
                      <a:pt x="445" y="15"/>
                      <a:pt x="497" y="0"/>
                    </a:cubicBezTo>
                    <a:lnTo>
                      <a:pt x="728" y="0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55" name=""/>
              <p:cNvSpPr/>
              <p:nvPr/>
            </p:nvSpPr>
            <p:spPr>
              <a:xfrm>
                <a:off x="3765600" y="2088720"/>
                <a:ext cx="1249200" cy="457200"/>
              </a:xfrm>
              <a:custGeom>
                <a:avLst/>
                <a:gdLst/>
                <a:ahLst/>
                <a:rect l="l" t="t" r="r" b="b"/>
                <a:pathLst>
                  <a:path w="787" h="645">
                    <a:moveTo>
                      <a:pt x="0" y="2"/>
                    </a:moveTo>
                    <a:lnTo>
                      <a:pt x="410" y="0"/>
                    </a:lnTo>
                    <a:cubicBezTo>
                      <a:pt x="489" y="17"/>
                      <a:pt x="464" y="15"/>
                      <a:pt x="475" y="107"/>
                    </a:cubicBezTo>
                    <a:lnTo>
                      <a:pt x="475" y="554"/>
                    </a:lnTo>
                    <a:cubicBezTo>
                      <a:pt x="488" y="644"/>
                      <a:pt x="504" y="630"/>
                      <a:pt x="556" y="645"/>
                    </a:cubicBezTo>
                    <a:lnTo>
                      <a:pt x="787" y="645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56" name=""/>
            <p:cNvGrpSpPr/>
            <p:nvPr/>
          </p:nvGrpSpPr>
          <p:grpSpPr>
            <a:xfrm>
              <a:off x="1425600" y="1617840"/>
              <a:ext cx="1193760" cy="848880"/>
              <a:chOff x="1425600" y="1617840"/>
              <a:chExt cx="1193760" cy="848880"/>
            </a:xfrm>
          </p:grpSpPr>
          <p:sp>
            <p:nvSpPr>
              <p:cNvPr id="11557" name=""/>
              <p:cNvSpPr/>
              <p:nvPr/>
            </p:nvSpPr>
            <p:spPr>
              <a:xfrm flipH="1">
                <a:off x="1425600" y="1617840"/>
                <a:ext cx="1193760" cy="426600"/>
              </a:xfrm>
              <a:custGeom>
                <a:avLst/>
                <a:gdLst/>
                <a:ahLst/>
                <a:rect l="l" t="t" r="r" b="b"/>
                <a:pathLst>
                  <a:path w="866" h="645">
                    <a:moveTo>
                      <a:pt x="0" y="645"/>
                    </a:moveTo>
                    <a:lnTo>
                      <a:pt x="442" y="645"/>
                    </a:lnTo>
                    <a:cubicBezTo>
                      <a:pt x="528" y="627"/>
                      <a:pt x="503" y="630"/>
                      <a:pt x="515" y="538"/>
                    </a:cubicBezTo>
                    <a:lnTo>
                      <a:pt x="515" y="91"/>
                    </a:lnTo>
                    <a:cubicBezTo>
                      <a:pt x="530" y="1"/>
                      <a:pt x="548" y="15"/>
                      <a:pt x="606" y="0"/>
                    </a:cubicBezTo>
                    <a:lnTo>
                      <a:pt x="866" y="0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58" name=""/>
              <p:cNvSpPr/>
              <p:nvPr/>
            </p:nvSpPr>
            <p:spPr>
              <a:xfrm flipH="1" flipV="1">
                <a:off x="1425600" y="2039760"/>
                <a:ext cx="1193760" cy="426600"/>
              </a:xfrm>
              <a:custGeom>
                <a:avLst/>
                <a:gdLst/>
                <a:ahLst/>
                <a:rect l="l" t="t" r="r" b="b"/>
                <a:pathLst>
                  <a:path w="866" h="645">
                    <a:moveTo>
                      <a:pt x="0" y="645"/>
                    </a:moveTo>
                    <a:lnTo>
                      <a:pt x="442" y="645"/>
                    </a:lnTo>
                    <a:cubicBezTo>
                      <a:pt x="528" y="627"/>
                      <a:pt x="503" y="630"/>
                      <a:pt x="515" y="538"/>
                    </a:cubicBezTo>
                    <a:lnTo>
                      <a:pt x="515" y="91"/>
                    </a:lnTo>
                    <a:cubicBezTo>
                      <a:pt x="530" y="1"/>
                      <a:pt x="548" y="15"/>
                      <a:pt x="606" y="0"/>
                    </a:cubicBezTo>
                    <a:lnTo>
                      <a:pt x="866" y="0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559" name=""/>
            <p:cNvSpPr/>
            <p:nvPr/>
          </p:nvSpPr>
          <p:spPr>
            <a:xfrm>
              <a:off x="5759280" y="225576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0" name=""/>
            <p:cNvSpPr/>
            <p:nvPr/>
          </p:nvSpPr>
          <p:spPr>
            <a:xfrm>
              <a:off x="7377120" y="5640480"/>
              <a:ext cx="1111320" cy="78264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1" name=""/>
            <p:cNvSpPr/>
            <p:nvPr/>
          </p:nvSpPr>
          <p:spPr>
            <a:xfrm>
              <a:off x="5605560" y="3911760"/>
              <a:ext cx="1111320" cy="9237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2" name=""/>
            <p:cNvSpPr/>
            <p:nvPr/>
          </p:nvSpPr>
          <p:spPr>
            <a:xfrm>
              <a:off x="5067360" y="6396120"/>
              <a:ext cx="1111320" cy="39996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3" name=""/>
            <p:cNvSpPr/>
            <p:nvPr/>
          </p:nvSpPr>
          <p:spPr>
            <a:xfrm>
              <a:off x="5217480" y="6400800"/>
              <a:ext cx="83304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Arial"/>
                </a:rPr>
                <a:t>Buf </a:t>
              </a:r>
              <a:r>
                <a:rPr b="1" lang="cs-CZ" sz="2400" spc="-1" strike="noStrike" baseline="70000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4" name=""/>
            <p:cNvSpPr/>
            <p:nvPr/>
          </p:nvSpPr>
          <p:spPr>
            <a:xfrm>
              <a:off x="5600880" y="5641920"/>
              <a:ext cx="1768320" cy="486000"/>
            </a:xfrm>
            <a:custGeom>
              <a:avLst/>
              <a:gdLst/>
              <a:ahLst/>
              <a:rect l="l" t="t" r="r" b="b"/>
              <a:pathLst>
                <a:path w="1114" h="306">
                  <a:moveTo>
                    <a:pt x="1114" y="304"/>
                  </a:moveTo>
                  <a:lnTo>
                    <a:pt x="660" y="306"/>
                  </a:lnTo>
                  <a:cubicBezTo>
                    <a:pt x="570" y="298"/>
                    <a:pt x="583" y="296"/>
                    <a:pt x="568" y="252"/>
                  </a:cubicBezTo>
                  <a:lnTo>
                    <a:pt x="568" y="42"/>
                  </a:lnTo>
                  <a:cubicBezTo>
                    <a:pt x="552" y="0"/>
                    <a:pt x="568" y="8"/>
                    <a:pt x="473" y="1"/>
                  </a:cubicBezTo>
                  <a:lnTo>
                    <a:pt x="0" y="1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5" name=""/>
            <p:cNvSpPr/>
            <p:nvPr/>
          </p:nvSpPr>
          <p:spPr>
            <a:xfrm>
              <a:off x="6178680" y="6124680"/>
              <a:ext cx="1203120" cy="487080"/>
            </a:xfrm>
            <a:custGeom>
              <a:avLst/>
              <a:gdLst/>
              <a:ahLst/>
              <a:rect l="l" t="t" r="r" b="b"/>
              <a:pathLst>
                <a:path w="758" h="307">
                  <a:moveTo>
                    <a:pt x="758" y="0"/>
                  </a:moveTo>
                  <a:lnTo>
                    <a:pt x="545" y="2"/>
                  </a:lnTo>
                  <a:lnTo>
                    <a:pt x="296" y="0"/>
                  </a:lnTo>
                  <a:cubicBezTo>
                    <a:pt x="239" y="10"/>
                    <a:pt x="219" y="22"/>
                    <a:pt x="204" y="65"/>
                  </a:cubicBezTo>
                  <a:lnTo>
                    <a:pt x="204" y="257"/>
                  </a:lnTo>
                  <a:cubicBezTo>
                    <a:pt x="193" y="296"/>
                    <a:pt x="177" y="292"/>
                    <a:pt x="143" y="300"/>
                  </a:cubicBezTo>
                  <a:lnTo>
                    <a:pt x="0" y="307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6" name=""/>
            <p:cNvSpPr/>
            <p:nvPr/>
          </p:nvSpPr>
          <p:spPr>
            <a:xfrm>
              <a:off x="7570080" y="5927760"/>
              <a:ext cx="90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Arial"/>
                </a:rPr>
                <a:t>HBu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7" name=""/>
            <p:cNvSpPr/>
            <p:nvPr/>
          </p:nvSpPr>
          <p:spPr>
            <a:xfrm>
              <a:off x="7504200" y="6019920"/>
              <a:ext cx="1440" cy="303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8" name=""/>
            <p:cNvSpPr/>
            <p:nvPr/>
          </p:nvSpPr>
          <p:spPr>
            <a:xfrm>
              <a:off x="5019840" y="5442120"/>
              <a:ext cx="587160" cy="628560"/>
            </a:xfrm>
            <a:prstGeom prst="rect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9" name=""/>
            <p:cNvSpPr/>
            <p:nvPr/>
          </p:nvSpPr>
          <p:spPr>
            <a:xfrm>
              <a:off x="5594400" y="4317840"/>
              <a:ext cx="1111320" cy="53208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0" name=""/>
            <p:cNvSpPr/>
            <p:nvPr/>
          </p:nvSpPr>
          <p:spPr>
            <a:xfrm>
              <a:off x="2604960" y="5103720"/>
              <a:ext cx="1144800" cy="78912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1" name=""/>
            <p:cNvSpPr/>
            <p:nvPr/>
          </p:nvSpPr>
          <p:spPr>
            <a:xfrm>
              <a:off x="558720" y="4819680"/>
              <a:ext cx="927360" cy="77004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2" name=""/>
            <p:cNvSpPr/>
            <p:nvPr/>
          </p:nvSpPr>
          <p:spPr>
            <a:xfrm>
              <a:off x="713520" y="5027760"/>
              <a:ext cx="736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Arial"/>
                </a:rPr>
                <a:t>CO</a:t>
              </a:r>
              <a:r>
                <a:rPr b="1" lang="cs-CZ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3" name=""/>
            <p:cNvSpPr/>
            <p:nvPr/>
          </p:nvSpPr>
          <p:spPr>
            <a:xfrm>
              <a:off x="754560" y="5788080"/>
              <a:ext cx="736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cs-CZ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cs-CZ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4" name=""/>
            <p:cNvSpPr/>
            <p:nvPr/>
          </p:nvSpPr>
          <p:spPr>
            <a:xfrm>
              <a:off x="2617920" y="5307120"/>
              <a:ext cx="1055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cs-CZ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cs-CZ" sz="2400" spc="-1" strike="noStrike">
                  <a:solidFill>
                    <a:srgbClr val="000000"/>
                  </a:solidFill>
                  <a:latin typeface="Arial"/>
                </a:rPr>
                <a:t>CO</a:t>
              </a:r>
              <a:r>
                <a:rPr b="1" lang="cs-CZ" sz="2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5" name=""/>
            <p:cNvSpPr/>
            <p:nvPr/>
          </p:nvSpPr>
          <p:spPr>
            <a:xfrm>
              <a:off x="5773320" y="4367160"/>
              <a:ext cx="956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Arial"/>
                </a:rPr>
                <a:t>HCO</a:t>
              </a:r>
              <a:r>
                <a:rPr b="1" lang="cs-CZ" sz="2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6" name=""/>
            <p:cNvSpPr/>
            <p:nvPr/>
          </p:nvSpPr>
          <p:spPr>
            <a:xfrm>
              <a:off x="3800520" y="4730760"/>
              <a:ext cx="1805040" cy="711360"/>
            </a:xfrm>
            <a:custGeom>
              <a:avLst/>
              <a:gdLst/>
              <a:ahLst/>
              <a:rect l="l" t="t" r="r" b="b"/>
              <a:pathLst>
                <a:path w="1137" h="448">
                  <a:moveTo>
                    <a:pt x="0" y="446"/>
                  </a:moveTo>
                  <a:lnTo>
                    <a:pt x="388" y="448"/>
                  </a:lnTo>
                  <a:cubicBezTo>
                    <a:pt x="463" y="435"/>
                    <a:pt x="438" y="422"/>
                    <a:pt x="450" y="368"/>
                  </a:cubicBezTo>
                  <a:lnTo>
                    <a:pt x="463" y="124"/>
                  </a:lnTo>
                  <a:cubicBezTo>
                    <a:pt x="482" y="63"/>
                    <a:pt x="454" y="19"/>
                    <a:pt x="566" y="0"/>
                  </a:cubicBezTo>
                  <a:lnTo>
                    <a:pt x="1137" y="12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7" name=""/>
            <p:cNvSpPr/>
            <p:nvPr/>
          </p:nvSpPr>
          <p:spPr>
            <a:xfrm>
              <a:off x="3743280" y="5438880"/>
              <a:ext cx="1284480" cy="471240"/>
            </a:xfrm>
            <a:custGeom>
              <a:avLst/>
              <a:gdLst/>
              <a:ahLst/>
              <a:rect l="l" t="t" r="r" b="b"/>
              <a:pathLst>
                <a:path w="787" h="645">
                  <a:moveTo>
                    <a:pt x="0" y="2"/>
                  </a:moveTo>
                  <a:lnTo>
                    <a:pt x="410" y="0"/>
                  </a:lnTo>
                  <a:cubicBezTo>
                    <a:pt x="489" y="17"/>
                    <a:pt x="464" y="15"/>
                    <a:pt x="475" y="107"/>
                  </a:cubicBezTo>
                  <a:lnTo>
                    <a:pt x="475" y="554"/>
                  </a:lnTo>
                  <a:cubicBezTo>
                    <a:pt x="488" y="644"/>
                    <a:pt x="504" y="630"/>
                    <a:pt x="556" y="645"/>
                  </a:cubicBezTo>
                  <a:lnTo>
                    <a:pt x="787" y="645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578" name=""/>
            <p:cNvGrpSpPr/>
            <p:nvPr/>
          </p:nvGrpSpPr>
          <p:grpSpPr>
            <a:xfrm>
              <a:off x="1474560" y="5141880"/>
              <a:ext cx="1130040" cy="848880"/>
              <a:chOff x="1474560" y="5141880"/>
              <a:chExt cx="1130040" cy="848880"/>
            </a:xfrm>
          </p:grpSpPr>
          <p:sp>
            <p:nvSpPr>
              <p:cNvPr id="11579" name=""/>
              <p:cNvSpPr/>
              <p:nvPr/>
            </p:nvSpPr>
            <p:spPr>
              <a:xfrm flipH="1">
                <a:off x="1474200" y="5141880"/>
                <a:ext cx="1130040" cy="426600"/>
              </a:xfrm>
              <a:custGeom>
                <a:avLst/>
                <a:gdLst/>
                <a:ahLst/>
                <a:rect l="l" t="t" r="r" b="b"/>
                <a:pathLst>
                  <a:path w="866" h="645">
                    <a:moveTo>
                      <a:pt x="0" y="645"/>
                    </a:moveTo>
                    <a:lnTo>
                      <a:pt x="442" y="645"/>
                    </a:lnTo>
                    <a:cubicBezTo>
                      <a:pt x="528" y="627"/>
                      <a:pt x="503" y="630"/>
                      <a:pt x="515" y="538"/>
                    </a:cubicBezTo>
                    <a:lnTo>
                      <a:pt x="515" y="91"/>
                    </a:lnTo>
                    <a:cubicBezTo>
                      <a:pt x="530" y="1"/>
                      <a:pt x="548" y="15"/>
                      <a:pt x="606" y="0"/>
                    </a:cubicBezTo>
                    <a:lnTo>
                      <a:pt x="866" y="0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80" name=""/>
              <p:cNvSpPr/>
              <p:nvPr/>
            </p:nvSpPr>
            <p:spPr>
              <a:xfrm flipH="1" flipV="1">
                <a:off x="1474200" y="5563800"/>
                <a:ext cx="1130040" cy="426600"/>
              </a:xfrm>
              <a:custGeom>
                <a:avLst/>
                <a:gdLst/>
                <a:ahLst/>
                <a:rect l="l" t="t" r="r" b="b"/>
                <a:pathLst>
                  <a:path w="866" h="645">
                    <a:moveTo>
                      <a:pt x="0" y="645"/>
                    </a:moveTo>
                    <a:lnTo>
                      <a:pt x="442" y="645"/>
                    </a:lnTo>
                    <a:cubicBezTo>
                      <a:pt x="528" y="627"/>
                      <a:pt x="503" y="630"/>
                      <a:pt x="515" y="538"/>
                    </a:cubicBezTo>
                    <a:lnTo>
                      <a:pt x="515" y="91"/>
                    </a:lnTo>
                    <a:cubicBezTo>
                      <a:pt x="530" y="1"/>
                      <a:pt x="548" y="15"/>
                      <a:pt x="606" y="0"/>
                    </a:cubicBezTo>
                    <a:lnTo>
                      <a:pt x="866" y="0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581" name=""/>
            <p:cNvSpPr/>
            <p:nvPr/>
          </p:nvSpPr>
          <p:spPr>
            <a:xfrm>
              <a:off x="5737320" y="4459320"/>
              <a:ext cx="9360" cy="293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2" name=""/>
            <p:cNvSpPr/>
            <p:nvPr/>
          </p:nvSpPr>
          <p:spPr>
            <a:xfrm>
              <a:off x="6435360" y="414828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3" name=""/>
            <p:cNvSpPr/>
            <p:nvPr/>
          </p:nvSpPr>
          <p:spPr>
            <a:xfrm>
              <a:off x="5024520" y="5540400"/>
              <a:ext cx="579240" cy="55548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4" name=""/>
            <p:cNvSpPr/>
            <p:nvPr/>
          </p:nvSpPr>
          <p:spPr>
            <a:xfrm>
              <a:off x="5173560" y="5645160"/>
              <a:ext cx="52380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cs-CZ" sz="2400" spc="-1" strike="noStrike" baseline="7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5" name=""/>
            <p:cNvSpPr/>
            <p:nvPr/>
          </p:nvSpPr>
          <p:spPr>
            <a:xfrm>
              <a:off x="5165640" y="5637240"/>
              <a:ext cx="9720" cy="293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6" name=""/>
            <p:cNvSpPr/>
            <p:nvPr/>
          </p:nvSpPr>
          <p:spPr>
            <a:xfrm>
              <a:off x="6119640" y="2378160"/>
              <a:ext cx="2713320" cy="2457360"/>
            </a:xfrm>
            <a:custGeom>
              <a:avLst/>
              <a:gdLst/>
              <a:ahLst/>
              <a:rect l="l" t="t" r="r" b="b"/>
              <a:pathLst>
                <a:path w="1709" h="1548">
                  <a:moveTo>
                    <a:pt x="362" y="1548"/>
                  </a:moveTo>
                  <a:cubicBezTo>
                    <a:pt x="467" y="1542"/>
                    <a:pt x="792" y="1545"/>
                    <a:pt x="998" y="1515"/>
                  </a:cubicBezTo>
                  <a:cubicBezTo>
                    <a:pt x="1204" y="1485"/>
                    <a:pt x="1487" y="1508"/>
                    <a:pt x="1598" y="1366"/>
                  </a:cubicBezTo>
                  <a:cubicBezTo>
                    <a:pt x="1709" y="1223"/>
                    <a:pt x="1683" y="877"/>
                    <a:pt x="1667" y="661"/>
                  </a:cubicBezTo>
                  <a:cubicBezTo>
                    <a:pt x="1656" y="433"/>
                    <a:pt x="1690" y="209"/>
                    <a:pt x="1412" y="105"/>
                  </a:cubicBezTo>
                  <a:cubicBezTo>
                    <a:pt x="1134" y="0"/>
                    <a:pt x="294" y="48"/>
                    <a:pt x="0" y="33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7" name=""/>
            <p:cNvSpPr/>
            <p:nvPr/>
          </p:nvSpPr>
          <p:spPr>
            <a:xfrm>
              <a:off x="6256440" y="2489040"/>
              <a:ext cx="2357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400" spc="-1" strike="noStrike">
                  <a:solidFill>
                    <a:srgbClr val="000000"/>
                  </a:solidFill>
                  <a:latin typeface="Times New Roman"/>
                </a:rPr>
                <a:t>Pomalá difúze podle koncentračního gradient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588" name=""/>
            <p:cNvGrpSpPr/>
            <p:nvPr/>
          </p:nvGrpSpPr>
          <p:grpSpPr>
            <a:xfrm>
              <a:off x="4678200" y="4282920"/>
              <a:ext cx="868320" cy="1109520"/>
              <a:chOff x="4678200" y="4282920"/>
              <a:chExt cx="868320" cy="1109520"/>
            </a:xfrm>
          </p:grpSpPr>
          <p:sp>
            <p:nvSpPr>
              <p:cNvPr id="11589" name=""/>
              <p:cNvSpPr/>
              <p:nvPr/>
            </p:nvSpPr>
            <p:spPr>
              <a:xfrm>
                <a:off x="4685400" y="4367160"/>
                <a:ext cx="853920" cy="762120"/>
              </a:xfrm>
              <a:custGeom>
                <a:avLst/>
                <a:gdLst/>
                <a:ahLst/>
                <a:rect l="l" t="t" r="r" b="b"/>
                <a:pathLst>
                  <a:path w="2256" h="2295">
                    <a:moveTo>
                      <a:pt x="0" y="0"/>
                    </a:moveTo>
                    <a:lnTo>
                      <a:pt x="939" y="1180"/>
                    </a:lnTo>
                    <a:lnTo>
                      <a:pt x="980" y="2175"/>
                    </a:lnTo>
                    <a:lnTo>
                      <a:pt x="983" y="2202"/>
                    </a:lnTo>
                    <a:lnTo>
                      <a:pt x="991" y="2221"/>
                    </a:lnTo>
                    <a:lnTo>
                      <a:pt x="1000" y="2235"/>
                    </a:lnTo>
                    <a:lnTo>
                      <a:pt x="1010" y="2246"/>
                    </a:lnTo>
                    <a:lnTo>
                      <a:pt x="1024" y="2260"/>
                    </a:lnTo>
                    <a:lnTo>
                      <a:pt x="1038" y="2268"/>
                    </a:lnTo>
                    <a:lnTo>
                      <a:pt x="1060" y="2281"/>
                    </a:lnTo>
                    <a:lnTo>
                      <a:pt x="1083" y="2287"/>
                    </a:lnTo>
                    <a:lnTo>
                      <a:pt x="1111" y="2293"/>
                    </a:lnTo>
                    <a:lnTo>
                      <a:pt x="1128" y="2295"/>
                    </a:lnTo>
                    <a:lnTo>
                      <a:pt x="1145" y="2295"/>
                    </a:lnTo>
                    <a:lnTo>
                      <a:pt x="1163" y="2292"/>
                    </a:lnTo>
                    <a:lnTo>
                      <a:pt x="1183" y="2286"/>
                    </a:lnTo>
                    <a:lnTo>
                      <a:pt x="1202" y="2279"/>
                    </a:lnTo>
                    <a:lnTo>
                      <a:pt x="1221" y="2268"/>
                    </a:lnTo>
                    <a:lnTo>
                      <a:pt x="1235" y="2259"/>
                    </a:lnTo>
                    <a:lnTo>
                      <a:pt x="1251" y="2243"/>
                    </a:lnTo>
                    <a:lnTo>
                      <a:pt x="1262" y="2227"/>
                    </a:lnTo>
                    <a:lnTo>
                      <a:pt x="1273" y="2203"/>
                    </a:lnTo>
                    <a:lnTo>
                      <a:pt x="1276" y="2181"/>
                    </a:lnTo>
                    <a:lnTo>
                      <a:pt x="1336" y="1161"/>
                    </a:lnTo>
                    <a:lnTo>
                      <a:pt x="225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90" name=""/>
              <p:cNvSpPr/>
              <p:nvPr/>
            </p:nvSpPr>
            <p:spPr>
              <a:xfrm>
                <a:off x="4678200" y="4282920"/>
                <a:ext cx="868320" cy="144000"/>
              </a:xfrm>
              <a:prstGeom prst="ellipse">
                <a:avLst/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91" name=""/>
              <p:cNvSpPr/>
              <p:nvPr/>
            </p:nvSpPr>
            <p:spPr>
              <a:xfrm>
                <a:off x="4747320" y="4388400"/>
                <a:ext cx="737640" cy="717840"/>
              </a:xfrm>
              <a:custGeom>
                <a:avLst/>
                <a:gdLst/>
                <a:ahLst/>
                <a:rect l="l" t="t" r="r" b="b"/>
                <a:pathLst>
                  <a:path w="1956" h="2159">
                    <a:moveTo>
                      <a:pt x="0" y="19"/>
                    </a:moveTo>
                    <a:lnTo>
                      <a:pt x="857" y="1063"/>
                    </a:lnTo>
                    <a:lnTo>
                      <a:pt x="879" y="2090"/>
                    </a:lnTo>
                    <a:lnTo>
                      <a:pt x="887" y="2107"/>
                    </a:lnTo>
                    <a:lnTo>
                      <a:pt x="897" y="2123"/>
                    </a:lnTo>
                    <a:lnTo>
                      <a:pt x="906" y="2137"/>
                    </a:lnTo>
                    <a:lnTo>
                      <a:pt x="922" y="2147"/>
                    </a:lnTo>
                    <a:lnTo>
                      <a:pt x="939" y="2156"/>
                    </a:lnTo>
                    <a:lnTo>
                      <a:pt x="962" y="2159"/>
                    </a:lnTo>
                    <a:lnTo>
                      <a:pt x="983" y="2157"/>
                    </a:lnTo>
                    <a:lnTo>
                      <a:pt x="1005" y="2153"/>
                    </a:lnTo>
                    <a:lnTo>
                      <a:pt x="1026" y="2140"/>
                    </a:lnTo>
                    <a:lnTo>
                      <a:pt x="1040" y="2123"/>
                    </a:lnTo>
                    <a:lnTo>
                      <a:pt x="1048" y="2109"/>
                    </a:lnTo>
                    <a:lnTo>
                      <a:pt x="1056" y="2088"/>
                    </a:lnTo>
                    <a:lnTo>
                      <a:pt x="1100" y="1045"/>
                    </a:lnTo>
                    <a:lnTo>
                      <a:pt x="1956" y="0"/>
                    </a:lnTo>
                    <a:lnTo>
                      <a:pt x="1790" y="41"/>
                    </a:lnTo>
                    <a:lnTo>
                      <a:pt x="1531" y="77"/>
                    </a:lnTo>
                    <a:lnTo>
                      <a:pt x="1247" y="98"/>
                    </a:lnTo>
                    <a:lnTo>
                      <a:pt x="962" y="109"/>
                    </a:lnTo>
                    <a:lnTo>
                      <a:pt x="662" y="98"/>
                    </a:lnTo>
                    <a:lnTo>
                      <a:pt x="398" y="77"/>
                    </a:lnTo>
                    <a:lnTo>
                      <a:pt x="178" y="52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92" name=""/>
              <p:cNvSpPr/>
              <p:nvPr/>
            </p:nvSpPr>
            <p:spPr>
              <a:xfrm>
                <a:off x="4872240" y="4534560"/>
                <a:ext cx="477360" cy="574200"/>
              </a:xfrm>
              <a:custGeom>
                <a:avLst/>
                <a:gdLst/>
                <a:ahLst/>
                <a:rect l="l" t="t" r="r" b="b"/>
                <a:pathLst>
                  <a:path w="1264" h="1728">
                    <a:moveTo>
                      <a:pt x="0" y="0"/>
                    </a:moveTo>
                    <a:lnTo>
                      <a:pt x="520" y="624"/>
                    </a:lnTo>
                    <a:lnTo>
                      <a:pt x="531" y="1657"/>
                    </a:lnTo>
                    <a:lnTo>
                      <a:pt x="541" y="1674"/>
                    </a:lnTo>
                    <a:lnTo>
                      <a:pt x="553" y="1688"/>
                    </a:lnTo>
                    <a:lnTo>
                      <a:pt x="564" y="1701"/>
                    </a:lnTo>
                    <a:lnTo>
                      <a:pt x="580" y="1715"/>
                    </a:lnTo>
                    <a:lnTo>
                      <a:pt x="608" y="1723"/>
                    </a:lnTo>
                    <a:lnTo>
                      <a:pt x="632" y="1728"/>
                    </a:lnTo>
                    <a:lnTo>
                      <a:pt x="651" y="1725"/>
                    </a:lnTo>
                    <a:lnTo>
                      <a:pt x="673" y="1720"/>
                    </a:lnTo>
                    <a:lnTo>
                      <a:pt x="694" y="1709"/>
                    </a:lnTo>
                    <a:lnTo>
                      <a:pt x="711" y="1692"/>
                    </a:lnTo>
                    <a:lnTo>
                      <a:pt x="723" y="1669"/>
                    </a:lnTo>
                    <a:lnTo>
                      <a:pt x="730" y="1657"/>
                    </a:lnTo>
                    <a:lnTo>
                      <a:pt x="761" y="605"/>
                    </a:lnTo>
                    <a:lnTo>
                      <a:pt x="126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93" name=""/>
              <p:cNvSpPr/>
              <p:nvPr/>
            </p:nvSpPr>
            <p:spPr>
              <a:xfrm>
                <a:off x="5074200" y="5139000"/>
                <a:ext cx="76320" cy="122760"/>
              </a:xfrm>
              <a:custGeom>
                <a:avLst/>
                <a:gdLst/>
                <a:ahLst/>
                <a:rect l="l" t="t" r="r" b="b"/>
                <a:pathLst>
                  <a:path w="196" h="370">
                    <a:moveTo>
                      <a:pt x="95" y="0"/>
                    </a:moveTo>
                    <a:lnTo>
                      <a:pt x="105" y="58"/>
                    </a:lnTo>
                    <a:lnTo>
                      <a:pt x="111" y="87"/>
                    </a:lnTo>
                    <a:lnTo>
                      <a:pt x="121" y="121"/>
                    </a:lnTo>
                    <a:lnTo>
                      <a:pt x="132" y="141"/>
                    </a:lnTo>
                    <a:lnTo>
                      <a:pt x="147" y="166"/>
                    </a:lnTo>
                    <a:lnTo>
                      <a:pt x="167" y="193"/>
                    </a:lnTo>
                    <a:lnTo>
                      <a:pt x="184" y="220"/>
                    </a:lnTo>
                    <a:lnTo>
                      <a:pt x="192" y="245"/>
                    </a:lnTo>
                    <a:lnTo>
                      <a:pt x="196" y="278"/>
                    </a:lnTo>
                    <a:lnTo>
                      <a:pt x="189" y="307"/>
                    </a:lnTo>
                    <a:lnTo>
                      <a:pt x="178" y="328"/>
                    </a:lnTo>
                    <a:lnTo>
                      <a:pt x="162" y="345"/>
                    </a:lnTo>
                    <a:lnTo>
                      <a:pt x="141" y="361"/>
                    </a:lnTo>
                    <a:lnTo>
                      <a:pt x="121" y="367"/>
                    </a:lnTo>
                    <a:lnTo>
                      <a:pt x="99" y="370"/>
                    </a:lnTo>
                    <a:lnTo>
                      <a:pt x="76" y="367"/>
                    </a:lnTo>
                    <a:lnTo>
                      <a:pt x="54" y="362"/>
                    </a:lnTo>
                    <a:lnTo>
                      <a:pt x="34" y="350"/>
                    </a:lnTo>
                    <a:lnTo>
                      <a:pt x="19" y="334"/>
                    </a:lnTo>
                    <a:lnTo>
                      <a:pt x="8" y="315"/>
                    </a:lnTo>
                    <a:lnTo>
                      <a:pt x="3" y="296"/>
                    </a:lnTo>
                    <a:lnTo>
                      <a:pt x="0" y="272"/>
                    </a:lnTo>
                    <a:lnTo>
                      <a:pt x="5" y="240"/>
                    </a:lnTo>
                    <a:lnTo>
                      <a:pt x="13" y="218"/>
                    </a:lnTo>
                    <a:lnTo>
                      <a:pt x="30" y="190"/>
                    </a:lnTo>
                    <a:lnTo>
                      <a:pt x="49" y="166"/>
                    </a:lnTo>
                    <a:lnTo>
                      <a:pt x="62" y="140"/>
                    </a:lnTo>
                    <a:lnTo>
                      <a:pt x="72" y="119"/>
                    </a:lnTo>
                    <a:lnTo>
                      <a:pt x="81" y="90"/>
                    </a:lnTo>
                    <a:lnTo>
                      <a:pt x="86" y="58"/>
                    </a:lnTo>
                    <a:lnTo>
                      <a:pt x="95" y="0"/>
                    </a:lnTo>
                    <a:close/>
                  </a:path>
                </a:pathLst>
              </a:cu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94" name=""/>
              <p:cNvSpPr/>
              <p:nvPr/>
            </p:nvSpPr>
            <p:spPr>
              <a:xfrm>
                <a:off x="4722480" y="4296240"/>
                <a:ext cx="779040" cy="117000"/>
              </a:xfrm>
              <a:prstGeom prst="ellips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95" name=""/>
              <p:cNvSpPr/>
              <p:nvPr/>
            </p:nvSpPr>
            <p:spPr>
              <a:xfrm>
                <a:off x="5074200" y="5269680"/>
                <a:ext cx="76320" cy="122760"/>
              </a:xfrm>
              <a:custGeom>
                <a:avLst/>
                <a:gdLst/>
                <a:ahLst/>
                <a:rect l="l" t="t" r="r" b="b"/>
                <a:pathLst>
                  <a:path w="196" h="372">
                    <a:moveTo>
                      <a:pt x="95" y="0"/>
                    </a:moveTo>
                    <a:lnTo>
                      <a:pt x="105" y="60"/>
                    </a:lnTo>
                    <a:lnTo>
                      <a:pt x="111" y="88"/>
                    </a:lnTo>
                    <a:lnTo>
                      <a:pt x="121" y="122"/>
                    </a:lnTo>
                    <a:lnTo>
                      <a:pt x="132" y="143"/>
                    </a:lnTo>
                    <a:lnTo>
                      <a:pt x="147" y="168"/>
                    </a:lnTo>
                    <a:lnTo>
                      <a:pt x="167" y="195"/>
                    </a:lnTo>
                    <a:lnTo>
                      <a:pt x="184" y="221"/>
                    </a:lnTo>
                    <a:lnTo>
                      <a:pt x="192" y="247"/>
                    </a:lnTo>
                    <a:lnTo>
                      <a:pt x="196" y="279"/>
                    </a:lnTo>
                    <a:lnTo>
                      <a:pt x="189" y="308"/>
                    </a:lnTo>
                    <a:lnTo>
                      <a:pt x="178" y="328"/>
                    </a:lnTo>
                    <a:lnTo>
                      <a:pt x="162" y="345"/>
                    </a:lnTo>
                    <a:lnTo>
                      <a:pt x="141" y="361"/>
                    </a:lnTo>
                    <a:lnTo>
                      <a:pt x="121" y="369"/>
                    </a:lnTo>
                    <a:lnTo>
                      <a:pt x="99" y="372"/>
                    </a:lnTo>
                    <a:lnTo>
                      <a:pt x="76" y="369"/>
                    </a:lnTo>
                    <a:lnTo>
                      <a:pt x="54" y="363"/>
                    </a:lnTo>
                    <a:lnTo>
                      <a:pt x="34" y="351"/>
                    </a:lnTo>
                    <a:lnTo>
                      <a:pt x="19" y="336"/>
                    </a:lnTo>
                    <a:lnTo>
                      <a:pt x="8" y="317"/>
                    </a:lnTo>
                    <a:lnTo>
                      <a:pt x="3" y="298"/>
                    </a:lnTo>
                    <a:lnTo>
                      <a:pt x="0" y="272"/>
                    </a:lnTo>
                    <a:lnTo>
                      <a:pt x="5" y="242"/>
                    </a:lnTo>
                    <a:lnTo>
                      <a:pt x="13" y="219"/>
                    </a:lnTo>
                    <a:lnTo>
                      <a:pt x="30" y="191"/>
                    </a:lnTo>
                    <a:lnTo>
                      <a:pt x="49" y="168"/>
                    </a:lnTo>
                    <a:lnTo>
                      <a:pt x="62" y="141"/>
                    </a:lnTo>
                    <a:lnTo>
                      <a:pt x="72" y="120"/>
                    </a:lnTo>
                    <a:lnTo>
                      <a:pt x="81" y="90"/>
                    </a:lnTo>
                    <a:lnTo>
                      <a:pt x="86" y="60"/>
                    </a:lnTo>
                    <a:lnTo>
                      <a:pt x="95" y="0"/>
                    </a:lnTo>
                    <a:close/>
                  </a:path>
                </a:pathLst>
              </a:cu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96" name=""/>
              <p:cNvSpPr/>
              <p:nvPr/>
            </p:nvSpPr>
            <p:spPr>
              <a:xfrm>
                <a:off x="4867560" y="4488120"/>
                <a:ext cx="488880" cy="74880"/>
              </a:xfrm>
              <a:prstGeom prst="ellipse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97" name=""/>
              <p:cNvSpPr/>
              <p:nvPr/>
            </p:nvSpPr>
            <p:spPr>
              <a:xfrm>
                <a:off x="5079240" y="5060520"/>
                <a:ext cx="64080" cy="57600"/>
              </a:xfrm>
              <a:prstGeom prst="ellipse">
                <a:avLst/>
              </a:prstGeom>
              <a:solidFill>
                <a:srgbClr val="009999"/>
              </a:solidFill>
              <a:ln w="1764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598" name=""/>
            <p:cNvSpPr txBox="1"/>
            <p:nvPr/>
          </p:nvSpPr>
          <p:spPr>
            <a:xfrm>
              <a:off x="2589120" y="3112920"/>
              <a:ext cx="3624480" cy="659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25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atin typeface="Times New Roman"/>
                </a:rPr>
                <a:t>Mozkomíšní mok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  <a:ea typeface="Times New Roman"/>
              </a:endParaRPr>
            </a:p>
          </p:txBody>
        </p:sp>
        <p:sp>
          <p:nvSpPr>
            <p:cNvPr id="11599" name=""/>
            <p:cNvSpPr/>
            <p:nvPr/>
          </p:nvSpPr>
          <p:spPr>
            <a:xfrm>
              <a:off x="2232360" y="117360"/>
              <a:ext cx="449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Arial"/>
                </a:rPr>
                <a:t>Ustálená metabolická acidóz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0" name=""/>
            <p:cNvSpPr/>
            <p:nvPr/>
          </p:nvSpPr>
          <p:spPr>
            <a:xfrm>
              <a:off x="642960" y="2019240"/>
              <a:ext cx="150840" cy="623880"/>
            </a:xfrm>
            <a:prstGeom prst="upArrow">
              <a:avLst>
                <a:gd name="adj1" fmla="val 50000"/>
                <a:gd name="adj2" fmla="val 103401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1" name=""/>
            <p:cNvSpPr/>
            <p:nvPr/>
          </p:nvSpPr>
          <p:spPr>
            <a:xfrm>
              <a:off x="650880" y="3835440"/>
              <a:ext cx="135000" cy="947520"/>
            </a:xfrm>
            <a:prstGeom prst="downArrow">
              <a:avLst>
                <a:gd name="adj1" fmla="val 50000"/>
                <a:gd name="adj2" fmla="val 175467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2" name=""/>
            <p:cNvSpPr/>
            <p:nvPr/>
          </p:nvSpPr>
          <p:spPr>
            <a:xfrm>
              <a:off x="681120" y="2614680"/>
              <a:ext cx="74520" cy="1503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3" name=""/>
            <p:cNvSpPr/>
            <p:nvPr/>
          </p:nvSpPr>
          <p:spPr>
            <a:xfrm flipV="1">
              <a:off x="885960" y="3828960"/>
              <a:ext cx="7834320" cy="79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4" name=""/>
            <p:cNvSpPr/>
            <p:nvPr/>
          </p:nvSpPr>
          <p:spPr>
            <a:xfrm flipV="1">
              <a:off x="0" y="3813120"/>
              <a:ext cx="576360" cy="64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5" name=""/>
            <p:cNvSpPr/>
            <p:nvPr/>
          </p:nvSpPr>
          <p:spPr>
            <a:xfrm flipV="1">
              <a:off x="8840880" y="3817800"/>
              <a:ext cx="303120" cy="64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6" name=""/>
            <p:cNvSpPr/>
            <p:nvPr/>
          </p:nvSpPr>
          <p:spPr>
            <a:xfrm>
              <a:off x="789120" y="3832200"/>
              <a:ext cx="1269720" cy="97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400" spc="-1" strike="noStrike">
                  <a:solidFill>
                    <a:srgbClr val="000000"/>
                  </a:solidFill>
                  <a:latin typeface="Times New Roman"/>
                </a:rPr>
                <a:t>Koncentrace CO</a:t>
              </a:r>
              <a:r>
                <a:rPr b="1" lang="cs-CZ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cs-CZ" sz="1400" spc="-1" strike="noStrike">
                  <a:solidFill>
                    <a:srgbClr val="000000"/>
                  </a:solidFill>
                  <a:latin typeface="Times New Roman"/>
                </a:rPr>
                <a:t> v krvi a v moku jsou v ekvilibri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7" name=""/>
            <p:cNvSpPr/>
            <p:nvPr/>
          </p:nvSpPr>
          <p:spPr>
            <a:xfrm>
              <a:off x="5076720" y="6132600"/>
              <a:ext cx="1111320" cy="7063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8" name=""/>
            <p:cNvSpPr txBox="1"/>
            <p:nvPr/>
          </p:nvSpPr>
          <p:spPr>
            <a:xfrm>
              <a:off x="2749680" y="3957480"/>
              <a:ext cx="904680" cy="524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atin typeface="Times New Roman"/>
                </a:rPr>
                <a:t>Krev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  <a:ea typeface="Times New Roman"/>
              </a:endParaRPr>
            </a:p>
          </p:txBody>
        </p:sp>
        <p:sp>
          <p:nvSpPr>
            <p:cNvPr id="11609" name=""/>
            <p:cNvSpPr/>
            <p:nvPr/>
          </p:nvSpPr>
          <p:spPr>
            <a:xfrm>
              <a:off x="6326280" y="3086280"/>
              <a:ext cx="23572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400" spc="-1" strike="noStrike">
                  <a:solidFill>
                    <a:srgbClr val="000000"/>
                  </a:solidFill>
                  <a:latin typeface="Times New Roman"/>
                </a:rPr>
                <a:t>Bikarbonát špatně prochází hematoencefalickou bariéro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0" name=""/>
            <p:cNvSpPr/>
            <p:nvPr/>
          </p:nvSpPr>
          <p:spPr>
            <a:xfrm>
              <a:off x="6904080" y="0"/>
              <a:ext cx="1779480" cy="1433520"/>
            </a:xfrm>
            <a:prstGeom prst="ellips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1611" name=""/>
            <p:cNvGraphicFramePr/>
            <p:nvPr/>
          </p:nvGraphicFramePr>
          <p:xfrm>
            <a:off x="7324560" y="250920"/>
            <a:ext cx="893880" cy="6634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1612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7324560" y="250920"/>
                      <a:ext cx="893880" cy="663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613" name=""/>
            <p:cNvSpPr/>
            <p:nvPr/>
          </p:nvSpPr>
          <p:spPr>
            <a:xfrm>
              <a:off x="7078680" y="878040"/>
              <a:ext cx="1749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400" spc="-1" strike="noStrike">
                  <a:solidFill>
                    <a:srgbClr val="000000"/>
                  </a:solidFill>
                  <a:latin typeface="Times New Roman"/>
                </a:rPr>
                <a:t>Dechové centru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4" name=""/>
            <p:cNvSpPr/>
            <p:nvPr/>
          </p:nvSpPr>
          <p:spPr>
            <a:xfrm>
              <a:off x="4165560" y="3922560"/>
              <a:ext cx="1428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000000"/>
                  </a:solidFill>
                  <a:latin typeface="Arial"/>
                </a:rPr>
                <a:t>retence H</a:t>
              </a:r>
              <a:r>
                <a:rPr b="1" lang="cs-CZ" sz="2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5" name=""/>
            <p:cNvSpPr/>
            <p:nvPr/>
          </p:nvSpPr>
          <p:spPr>
            <a:xfrm>
              <a:off x="5199120" y="6480000"/>
              <a:ext cx="9360" cy="293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6" name=""/>
            <p:cNvSpPr/>
            <p:nvPr/>
          </p:nvSpPr>
          <p:spPr>
            <a:xfrm>
              <a:off x="755640" y="2992320"/>
              <a:ext cx="1704960" cy="76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400" spc="-1" strike="noStrike">
                  <a:solidFill>
                    <a:srgbClr val="000000"/>
                  </a:solidFill>
                  <a:latin typeface="Times New Roman"/>
                </a:rPr>
                <a:t>CO</a:t>
              </a:r>
              <a:r>
                <a:rPr b="1" lang="cs-CZ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cs-CZ" sz="1400" spc="-1" strike="noStrike">
                  <a:solidFill>
                    <a:srgbClr val="000000"/>
                  </a:solidFill>
                  <a:latin typeface="Times New Roman"/>
                </a:rPr>
                <a:t> dobře prochází hematoencefalickou bariéro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7" name=""/>
            <p:cNvSpPr/>
            <p:nvPr/>
          </p:nvSpPr>
          <p:spPr>
            <a:xfrm>
              <a:off x="5013360" y="2089080"/>
              <a:ext cx="1111320" cy="924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8" name=""/>
            <p:cNvSpPr/>
            <p:nvPr/>
          </p:nvSpPr>
          <p:spPr>
            <a:xfrm>
              <a:off x="5118120" y="2600280"/>
              <a:ext cx="9360" cy="293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9" name=""/>
            <p:cNvSpPr/>
            <p:nvPr/>
          </p:nvSpPr>
          <p:spPr>
            <a:xfrm>
              <a:off x="4848120" y="617400"/>
              <a:ext cx="23576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400" spc="-1" strike="noStrike">
                  <a:solidFill>
                    <a:srgbClr val="000000"/>
                  </a:solidFill>
                  <a:latin typeface="Times New Roman"/>
                </a:rPr>
                <a:t>pokles pH - stimulace dechového centr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0" name=""/>
            <p:cNvSpPr/>
            <p:nvPr/>
          </p:nvSpPr>
          <p:spPr>
            <a:xfrm rot="19083000">
              <a:off x="5040000" y="1014120"/>
              <a:ext cx="1888920" cy="774720"/>
            </a:xfrm>
            <a:prstGeom prst="lightningBolt">
              <a:avLst/>
            </a:prstGeom>
            <a:solidFill>
              <a:srgbClr val="ff33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1" name=""/>
            <p:cNvSpPr/>
            <p:nvPr/>
          </p:nvSpPr>
          <p:spPr>
            <a:xfrm>
              <a:off x="5037120" y="1225440"/>
              <a:ext cx="560520" cy="655920"/>
            </a:xfrm>
            <a:prstGeom prst="rect">
              <a:avLst/>
            </a:prstGeom>
            <a:solidFill>
              <a:srgbClr val="ff33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2" name=""/>
            <p:cNvSpPr/>
            <p:nvPr/>
          </p:nvSpPr>
          <p:spPr>
            <a:xfrm>
              <a:off x="5030640" y="1344600"/>
              <a:ext cx="579600" cy="55548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3" name=""/>
            <p:cNvSpPr/>
            <p:nvPr/>
          </p:nvSpPr>
          <p:spPr>
            <a:xfrm>
              <a:off x="5079960" y="1449360"/>
              <a:ext cx="52380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cs-CZ" sz="2400" spc="-1" strike="noStrike" baseline="7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24" name=""/>
          <p:cNvGrpSpPr/>
          <p:nvPr/>
        </p:nvGrpSpPr>
        <p:grpSpPr>
          <a:xfrm>
            <a:off x="135000" y="171360"/>
            <a:ext cx="8802720" cy="5792760"/>
            <a:chOff x="135000" y="171360"/>
            <a:chExt cx="8802720" cy="5792760"/>
          </a:xfrm>
        </p:grpSpPr>
        <p:sp>
          <p:nvSpPr>
            <p:cNvPr id="11625" name=""/>
            <p:cNvSpPr/>
            <p:nvPr/>
          </p:nvSpPr>
          <p:spPr>
            <a:xfrm>
              <a:off x="3611520" y="1368360"/>
              <a:ext cx="4154400" cy="4164120"/>
            </a:xfrm>
            <a:custGeom>
              <a:avLst/>
              <a:gdLst/>
              <a:ahLst/>
              <a:rect l="l" t="t" r="r" b="b"/>
              <a:pathLst>
                <a:path w="2617" h="2623">
                  <a:moveTo>
                    <a:pt x="0" y="2623"/>
                  </a:moveTo>
                  <a:cubicBezTo>
                    <a:pt x="31" y="2595"/>
                    <a:pt x="122" y="2553"/>
                    <a:pt x="184" y="2458"/>
                  </a:cubicBezTo>
                  <a:cubicBezTo>
                    <a:pt x="246" y="2363"/>
                    <a:pt x="294" y="2227"/>
                    <a:pt x="374" y="2055"/>
                  </a:cubicBezTo>
                  <a:cubicBezTo>
                    <a:pt x="453" y="1882"/>
                    <a:pt x="572" y="1602"/>
                    <a:pt x="660" y="1422"/>
                  </a:cubicBezTo>
                  <a:cubicBezTo>
                    <a:pt x="748" y="1242"/>
                    <a:pt x="816" y="1106"/>
                    <a:pt x="903" y="977"/>
                  </a:cubicBezTo>
                  <a:cubicBezTo>
                    <a:pt x="990" y="848"/>
                    <a:pt x="1062" y="757"/>
                    <a:pt x="1183" y="646"/>
                  </a:cubicBezTo>
                  <a:cubicBezTo>
                    <a:pt x="1304" y="535"/>
                    <a:pt x="1452" y="410"/>
                    <a:pt x="1630" y="313"/>
                  </a:cubicBezTo>
                  <a:cubicBezTo>
                    <a:pt x="1808" y="216"/>
                    <a:pt x="2088" y="115"/>
                    <a:pt x="2252" y="63"/>
                  </a:cubicBezTo>
                  <a:cubicBezTo>
                    <a:pt x="2416" y="11"/>
                    <a:pt x="2556" y="10"/>
                    <a:pt x="2617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6" name=""/>
            <p:cNvSpPr/>
            <p:nvPr/>
          </p:nvSpPr>
          <p:spPr>
            <a:xfrm>
              <a:off x="3611520" y="1577880"/>
              <a:ext cx="3949920" cy="3963960"/>
            </a:xfrm>
            <a:custGeom>
              <a:avLst/>
              <a:gdLst/>
              <a:ahLst/>
              <a:rect l="l" t="t" r="r" b="b"/>
              <a:pathLst>
                <a:path w="2488" h="2497">
                  <a:moveTo>
                    <a:pt x="0" y="2497"/>
                  </a:moveTo>
                  <a:cubicBezTo>
                    <a:pt x="33" y="2478"/>
                    <a:pt x="138" y="2432"/>
                    <a:pt x="200" y="2382"/>
                  </a:cubicBezTo>
                  <a:cubicBezTo>
                    <a:pt x="262" y="2332"/>
                    <a:pt x="288" y="2328"/>
                    <a:pt x="372" y="2194"/>
                  </a:cubicBezTo>
                  <a:cubicBezTo>
                    <a:pt x="456" y="2060"/>
                    <a:pt x="616" y="1736"/>
                    <a:pt x="706" y="1576"/>
                  </a:cubicBezTo>
                  <a:cubicBezTo>
                    <a:pt x="796" y="1416"/>
                    <a:pt x="825" y="1363"/>
                    <a:pt x="909" y="1234"/>
                  </a:cubicBezTo>
                  <a:cubicBezTo>
                    <a:pt x="993" y="1105"/>
                    <a:pt x="1089" y="935"/>
                    <a:pt x="1211" y="803"/>
                  </a:cubicBezTo>
                  <a:cubicBezTo>
                    <a:pt x="1333" y="671"/>
                    <a:pt x="1505" y="542"/>
                    <a:pt x="1643" y="442"/>
                  </a:cubicBezTo>
                  <a:cubicBezTo>
                    <a:pt x="1781" y="342"/>
                    <a:pt x="1913" y="269"/>
                    <a:pt x="2038" y="202"/>
                  </a:cubicBezTo>
                  <a:cubicBezTo>
                    <a:pt x="2163" y="135"/>
                    <a:pt x="2318" y="72"/>
                    <a:pt x="2393" y="38"/>
                  </a:cubicBezTo>
                  <a:cubicBezTo>
                    <a:pt x="2468" y="4"/>
                    <a:pt x="2468" y="8"/>
                    <a:pt x="2488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7" name=""/>
            <p:cNvSpPr/>
            <p:nvPr/>
          </p:nvSpPr>
          <p:spPr>
            <a:xfrm flipV="1">
              <a:off x="7738920" y="1370160"/>
              <a:ext cx="1800" cy="4179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8" name=""/>
            <p:cNvSpPr/>
            <p:nvPr/>
          </p:nvSpPr>
          <p:spPr>
            <a:xfrm flipH="1">
              <a:off x="2750760" y="1378080"/>
              <a:ext cx="4979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9" name=""/>
            <p:cNvSpPr/>
            <p:nvPr/>
          </p:nvSpPr>
          <p:spPr>
            <a:xfrm flipV="1">
              <a:off x="4737240" y="3482640"/>
              <a:ext cx="1440" cy="2058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0" name=""/>
            <p:cNvSpPr/>
            <p:nvPr/>
          </p:nvSpPr>
          <p:spPr>
            <a:xfrm flipH="1">
              <a:off x="2760840" y="3483000"/>
              <a:ext cx="19764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1" name=""/>
            <p:cNvSpPr/>
            <p:nvPr/>
          </p:nvSpPr>
          <p:spPr>
            <a:xfrm>
              <a:off x="2774880" y="4081320"/>
              <a:ext cx="1952640" cy="1800"/>
            </a:xfrm>
            <a:custGeom>
              <a:avLst/>
              <a:gdLst/>
              <a:ahLst/>
              <a:rect l="l" t="t" r="r" b="b"/>
              <a:pathLst>
                <a:path w="1230" h="1">
                  <a:moveTo>
                    <a:pt x="1230" y="0"/>
                  </a:move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2" name=""/>
            <p:cNvSpPr/>
            <p:nvPr/>
          </p:nvSpPr>
          <p:spPr>
            <a:xfrm>
              <a:off x="2948040" y="3483000"/>
              <a:ext cx="1440" cy="615960"/>
            </a:xfrm>
            <a:custGeom>
              <a:avLst/>
              <a:gdLst/>
              <a:ahLst/>
              <a:rect l="l" t="t" r="r" b="b"/>
              <a:pathLst>
                <a:path w="1" h="388">
                  <a:moveTo>
                    <a:pt x="0" y="0"/>
                  </a:moveTo>
                  <a:lnTo>
                    <a:pt x="1" y="38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3" name=""/>
            <p:cNvSpPr/>
            <p:nvPr/>
          </p:nvSpPr>
          <p:spPr>
            <a:xfrm flipV="1">
              <a:off x="2960640" y="1360080"/>
              <a:ext cx="1800" cy="2112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4" name=""/>
            <p:cNvSpPr/>
            <p:nvPr/>
          </p:nvSpPr>
          <p:spPr>
            <a:xfrm flipV="1">
              <a:off x="4737240" y="4088880"/>
              <a:ext cx="1440" cy="1452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5" name=""/>
            <p:cNvSpPr/>
            <p:nvPr/>
          </p:nvSpPr>
          <p:spPr>
            <a:xfrm>
              <a:off x="3602160" y="1204920"/>
              <a:ext cx="0" cy="4336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6" name=""/>
            <p:cNvSpPr/>
            <p:nvPr/>
          </p:nvSpPr>
          <p:spPr>
            <a:xfrm>
              <a:off x="3602160" y="5549760"/>
              <a:ext cx="47368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7" name=""/>
            <p:cNvSpPr/>
            <p:nvPr/>
          </p:nvSpPr>
          <p:spPr>
            <a:xfrm>
              <a:off x="8380440" y="5366160"/>
              <a:ext cx="5572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600" spc="-1" strike="noStrike">
                  <a:solidFill>
                    <a:srgbClr val="000000"/>
                  </a:solidFill>
                  <a:latin typeface="Times New Roman"/>
                </a:rPr>
                <a:t>PO</a:t>
              </a:r>
              <a:r>
                <a:rPr b="0" lang="cs-CZ" sz="1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8" name=""/>
            <p:cNvSpPr/>
            <p:nvPr/>
          </p:nvSpPr>
          <p:spPr>
            <a:xfrm>
              <a:off x="2244600" y="746640"/>
              <a:ext cx="22258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600" spc="-1" strike="noStrike">
                  <a:solidFill>
                    <a:srgbClr val="000000"/>
                  </a:solidFill>
                  <a:latin typeface="Times New Roman"/>
                </a:rPr>
                <a:t>Celková koncentrace O</a:t>
              </a:r>
              <a:r>
                <a:rPr b="0" lang="cs-CZ" sz="1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9" name=""/>
            <p:cNvSpPr/>
            <p:nvPr/>
          </p:nvSpPr>
          <p:spPr>
            <a:xfrm>
              <a:off x="7305840" y="5582160"/>
              <a:ext cx="8935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600" spc="-1" strike="noStrike">
                  <a:solidFill>
                    <a:srgbClr val="000000"/>
                  </a:solidFill>
                  <a:latin typeface="Times New Roman"/>
                </a:rPr>
                <a:t>PaO</a:t>
              </a:r>
              <a:r>
                <a:rPr b="0" lang="cs-CZ" sz="1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0" name=""/>
            <p:cNvSpPr/>
            <p:nvPr/>
          </p:nvSpPr>
          <p:spPr>
            <a:xfrm>
              <a:off x="4338720" y="5593320"/>
              <a:ext cx="8935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600" spc="-1" strike="noStrike">
                  <a:solidFill>
                    <a:srgbClr val="000000"/>
                  </a:solidFill>
                  <a:latin typeface="Times New Roman"/>
                </a:rPr>
                <a:t>PvO</a:t>
              </a:r>
              <a:r>
                <a:rPr b="0" lang="cs-CZ" sz="1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1" name=""/>
            <p:cNvSpPr/>
            <p:nvPr/>
          </p:nvSpPr>
          <p:spPr>
            <a:xfrm>
              <a:off x="5985000" y="171360"/>
              <a:ext cx="2439720" cy="816120"/>
            </a:xfrm>
            <a:prstGeom prst="wedgeEllipseCallout">
              <a:avLst>
                <a:gd name="adj1" fmla="val -8814"/>
                <a:gd name="adj2" fmla="val 116148"/>
              </a:avLst>
            </a:prstGeom>
            <a:solidFill>
              <a:srgbClr val="cc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600" spc="-1" strike="noStrike">
                  <a:solidFill>
                    <a:srgbClr val="000000"/>
                  </a:solidFill>
                  <a:latin typeface="Times New Roman"/>
                </a:rPr>
                <a:t>Arteriální krev při pH=7,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2" name=""/>
            <p:cNvSpPr/>
            <p:nvPr/>
          </p:nvSpPr>
          <p:spPr>
            <a:xfrm>
              <a:off x="5205240" y="3525840"/>
              <a:ext cx="2440080" cy="816120"/>
            </a:xfrm>
            <a:prstGeom prst="wedgeEllipseCallout">
              <a:avLst>
                <a:gd name="adj1" fmla="val -60930"/>
                <a:gd name="adj2" fmla="val -29574"/>
              </a:avLst>
            </a:prstGeom>
            <a:solidFill>
              <a:srgbClr val="cc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600" spc="-1" strike="noStrike">
                  <a:solidFill>
                    <a:srgbClr val="000000"/>
                  </a:solidFill>
                  <a:latin typeface="Times New Roman"/>
                </a:rPr>
                <a:t>Venózní krev při pH=7,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3" name=""/>
            <p:cNvSpPr/>
            <p:nvPr/>
          </p:nvSpPr>
          <p:spPr>
            <a:xfrm>
              <a:off x="135000" y="2703600"/>
              <a:ext cx="2386080" cy="1060200"/>
            </a:xfrm>
            <a:prstGeom prst="wedgeRoundRectCallout">
              <a:avLst>
                <a:gd name="adj1" fmla="val 68430"/>
                <a:gd name="adj2" fmla="val 57333"/>
                <a:gd name="adj3" fmla="val 16667"/>
              </a:avLst>
            </a:prstGeom>
            <a:solidFill>
              <a:srgbClr val="cc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000000"/>
                  </a:solidFill>
                  <a:latin typeface="Times New Roman"/>
                </a:rPr>
                <a:t>Kyslík uvolněný naví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000000"/>
                  </a:solidFill>
                  <a:latin typeface="Times New Roman"/>
                </a:rPr>
                <a:t>díky posunu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000000"/>
                  </a:solidFill>
                  <a:latin typeface="Times New Roman"/>
                </a:rPr>
                <a:t>disociační křivk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4" name=""/>
            <p:cNvSpPr/>
            <p:nvPr/>
          </p:nvSpPr>
          <p:spPr>
            <a:xfrm>
              <a:off x="392040" y="1170000"/>
              <a:ext cx="2067120" cy="915840"/>
            </a:xfrm>
            <a:prstGeom prst="wedgeRoundRectCallout">
              <a:avLst>
                <a:gd name="adj1" fmla="val 72657"/>
                <a:gd name="adj2" fmla="val 91768"/>
                <a:gd name="adj3" fmla="val 16667"/>
              </a:avLst>
            </a:prstGeom>
            <a:solidFill>
              <a:srgbClr val="cc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000000"/>
                  </a:solidFill>
                  <a:latin typeface="Times New Roman"/>
                </a:rPr>
                <a:t>Kyslík uvolněný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000000"/>
                  </a:solidFill>
                  <a:latin typeface="Times New Roman"/>
                </a:rPr>
                <a:t>díky poklesu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000000"/>
                  </a:solidFill>
                  <a:latin typeface="Times New Roman"/>
                </a:rPr>
                <a:t>PO</a:t>
              </a:r>
              <a:r>
                <a:rPr b="0" lang="cs-CZ" sz="1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8" name=""/>
          <p:cNvGrpSpPr/>
          <p:nvPr/>
        </p:nvGrpSpPr>
        <p:grpSpPr>
          <a:xfrm>
            <a:off x="-357120" y="-70560"/>
            <a:ext cx="9879120" cy="7246080"/>
            <a:chOff x="-357120" y="-70560"/>
            <a:chExt cx="9879120" cy="7246080"/>
          </a:xfrm>
        </p:grpSpPr>
        <p:sp>
          <p:nvSpPr>
            <p:cNvPr id="739" name=""/>
            <p:cNvSpPr/>
            <p:nvPr/>
          </p:nvSpPr>
          <p:spPr>
            <a:xfrm flipH="1" rot="13944000">
              <a:off x="8776440" y="-138240"/>
              <a:ext cx="336600" cy="1197360"/>
            </a:xfrm>
            <a:prstGeom prst="can">
              <a:avLst>
                <a:gd name="adj" fmla="val 25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40" name=""/>
            <p:cNvGrpSpPr/>
            <p:nvPr/>
          </p:nvGrpSpPr>
          <p:grpSpPr>
            <a:xfrm>
              <a:off x="-167760" y="2797200"/>
              <a:ext cx="9533880" cy="3701880"/>
              <a:chOff x="-167760" y="2797200"/>
              <a:chExt cx="9533880" cy="3701880"/>
            </a:xfrm>
          </p:grpSpPr>
          <p:grpSp>
            <p:nvGrpSpPr>
              <p:cNvPr id="741" name=""/>
              <p:cNvGrpSpPr/>
              <p:nvPr/>
            </p:nvGrpSpPr>
            <p:grpSpPr>
              <a:xfrm>
                <a:off x="-167760" y="2797200"/>
                <a:ext cx="9524160" cy="1690560"/>
                <a:chOff x="-167760" y="2797200"/>
                <a:chExt cx="9524160" cy="1690560"/>
              </a:xfrm>
            </p:grpSpPr>
            <p:sp>
              <p:nvSpPr>
                <p:cNvPr id="742" name=""/>
                <p:cNvSpPr/>
                <p:nvPr/>
              </p:nvSpPr>
              <p:spPr>
                <a:xfrm flipH="1">
                  <a:off x="-167760" y="3095640"/>
                  <a:ext cx="4021200" cy="1392120"/>
                </a:xfrm>
                <a:custGeom>
                  <a:avLst/>
                  <a:gdLst/>
                  <a:ahLst/>
                  <a:rect l="l" t="t" r="r" b="b"/>
                  <a:pathLst>
                    <a:path w="2486" h="877">
                      <a:moveTo>
                        <a:pt x="216" y="507"/>
                      </a:moveTo>
                      <a:cubicBezTo>
                        <a:pt x="623" y="421"/>
                        <a:pt x="2094" y="41"/>
                        <a:pt x="2470" y="0"/>
                      </a:cubicBezTo>
                      <a:cubicBezTo>
                        <a:pt x="2486" y="207"/>
                        <a:pt x="2449" y="123"/>
                        <a:pt x="2475" y="261"/>
                      </a:cubicBezTo>
                      <a:cubicBezTo>
                        <a:pt x="2241" y="287"/>
                        <a:pt x="1526" y="407"/>
                        <a:pt x="1254" y="457"/>
                      </a:cubicBezTo>
                      <a:cubicBezTo>
                        <a:pt x="982" y="507"/>
                        <a:pt x="936" y="500"/>
                        <a:pt x="845" y="563"/>
                      </a:cubicBezTo>
                      <a:cubicBezTo>
                        <a:pt x="749" y="584"/>
                        <a:pt x="775" y="796"/>
                        <a:pt x="707" y="834"/>
                      </a:cubicBezTo>
                      <a:cubicBezTo>
                        <a:pt x="644" y="877"/>
                        <a:pt x="531" y="845"/>
                        <a:pt x="468" y="818"/>
                      </a:cubicBezTo>
                      <a:cubicBezTo>
                        <a:pt x="369" y="761"/>
                        <a:pt x="375" y="719"/>
                        <a:pt x="330" y="675"/>
                      </a:cubicBezTo>
                      <a:cubicBezTo>
                        <a:pt x="285" y="631"/>
                        <a:pt x="249" y="577"/>
                        <a:pt x="200" y="555"/>
                      </a:cubicBezTo>
                      <a:cubicBezTo>
                        <a:pt x="151" y="533"/>
                        <a:pt x="63" y="550"/>
                        <a:pt x="35" y="544"/>
                      </a:cubicBezTo>
                      <a:cubicBezTo>
                        <a:pt x="7" y="538"/>
                        <a:pt x="0" y="524"/>
                        <a:pt x="30" y="518"/>
                      </a:cubicBezTo>
                      <a:cubicBezTo>
                        <a:pt x="60" y="512"/>
                        <a:pt x="177" y="509"/>
                        <a:pt x="216" y="507"/>
                      </a:cubicBezTo>
                      <a:close/>
                    </a:path>
                  </a:pathLst>
                </a:custGeom>
                <a:solidFill>
                  <a:srgbClr val="ff33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3" name=""/>
                <p:cNvSpPr/>
                <p:nvPr/>
              </p:nvSpPr>
              <p:spPr>
                <a:xfrm flipH="1">
                  <a:off x="3892320" y="3894120"/>
                  <a:ext cx="349200" cy="60120"/>
                </a:xfrm>
                <a:custGeom>
                  <a:avLst/>
                  <a:gdLst/>
                  <a:ahLst/>
                  <a:rect l="l" t="t" r="r" b="b"/>
                  <a:pathLst>
                    <a:path w="216" h="38">
                      <a:moveTo>
                        <a:pt x="195" y="3"/>
                      </a:moveTo>
                      <a:cubicBezTo>
                        <a:pt x="216" y="9"/>
                        <a:pt x="169" y="31"/>
                        <a:pt x="148" y="35"/>
                      </a:cubicBezTo>
                      <a:cubicBezTo>
                        <a:pt x="123" y="38"/>
                        <a:pt x="89" y="35"/>
                        <a:pt x="68" y="29"/>
                      </a:cubicBezTo>
                      <a:cubicBezTo>
                        <a:pt x="47" y="23"/>
                        <a:pt x="0" y="4"/>
                        <a:pt x="21" y="0"/>
                      </a:cubicBezTo>
                      <a:lnTo>
                        <a:pt x="195" y="3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4" name=""/>
                <p:cNvSpPr/>
                <p:nvPr/>
              </p:nvSpPr>
              <p:spPr>
                <a:xfrm flipH="1">
                  <a:off x="4280040" y="3894120"/>
                  <a:ext cx="349560" cy="60120"/>
                </a:xfrm>
                <a:custGeom>
                  <a:avLst/>
                  <a:gdLst/>
                  <a:ahLst/>
                  <a:rect l="l" t="t" r="r" b="b"/>
                  <a:pathLst>
                    <a:path w="216" h="38">
                      <a:moveTo>
                        <a:pt x="195" y="3"/>
                      </a:moveTo>
                      <a:cubicBezTo>
                        <a:pt x="216" y="9"/>
                        <a:pt x="169" y="31"/>
                        <a:pt x="148" y="35"/>
                      </a:cubicBezTo>
                      <a:cubicBezTo>
                        <a:pt x="123" y="38"/>
                        <a:pt x="89" y="35"/>
                        <a:pt x="68" y="29"/>
                      </a:cubicBezTo>
                      <a:cubicBezTo>
                        <a:pt x="47" y="23"/>
                        <a:pt x="0" y="4"/>
                        <a:pt x="21" y="0"/>
                      </a:cubicBezTo>
                      <a:lnTo>
                        <a:pt x="195" y="3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5" name=""/>
                <p:cNvSpPr/>
                <p:nvPr/>
              </p:nvSpPr>
              <p:spPr>
                <a:xfrm flipH="1">
                  <a:off x="4668120" y="3894120"/>
                  <a:ext cx="349560" cy="60120"/>
                </a:xfrm>
                <a:custGeom>
                  <a:avLst/>
                  <a:gdLst/>
                  <a:ahLst/>
                  <a:rect l="l" t="t" r="r" b="b"/>
                  <a:pathLst>
                    <a:path w="216" h="38">
                      <a:moveTo>
                        <a:pt x="195" y="3"/>
                      </a:moveTo>
                      <a:cubicBezTo>
                        <a:pt x="216" y="9"/>
                        <a:pt x="169" y="31"/>
                        <a:pt x="148" y="35"/>
                      </a:cubicBezTo>
                      <a:cubicBezTo>
                        <a:pt x="123" y="38"/>
                        <a:pt x="89" y="35"/>
                        <a:pt x="68" y="29"/>
                      </a:cubicBezTo>
                      <a:cubicBezTo>
                        <a:pt x="47" y="23"/>
                        <a:pt x="0" y="4"/>
                        <a:pt x="21" y="0"/>
                      </a:cubicBezTo>
                      <a:lnTo>
                        <a:pt x="195" y="3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6" name=""/>
                <p:cNvSpPr/>
                <p:nvPr/>
              </p:nvSpPr>
              <p:spPr>
                <a:xfrm flipH="1">
                  <a:off x="5056920" y="3894120"/>
                  <a:ext cx="349200" cy="60120"/>
                </a:xfrm>
                <a:custGeom>
                  <a:avLst/>
                  <a:gdLst/>
                  <a:ahLst/>
                  <a:rect l="l" t="t" r="r" b="b"/>
                  <a:pathLst>
                    <a:path w="216" h="38">
                      <a:moveTo>
                        <a:pt x="195" y="3"/>
                      </a:moveTo>
                      <a:cubicBezTo>
                        <a:pt x="216" y="9"/>
                        <a:pt x="169" y="31"/>
                        <a:pt x="148" y="35"/>
                      </a:cubicBezTo>
                      <a:cubicBezTo>
                        <a:pt x="123" y="38"/>
                        <a:pt x="89" y="35"/>
                        <a:pt x="68" y="29"/>
                      </a:cubicBezTo>
                      <a:cubicBezTo>
                        <a:pt x="47" y="23"/>
                        <a:pt x="0" y="4"/>
                        <a:pt x="21" y="0"/>
                      </a:cubicBezTo>
                      <a:lnTo>
                        <a:pt x="195" y="3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7" name=""/>
                <p:cNvSpPr/>
                <p:nvPr/>
              </p:nvSpPr>
              <p:spPr>
                <a:xfrm flipH="1">
                  <a:off x="5445000" y="3894120"/>
                  <a:ext cx="349560" cy="60120"/>
                </a:xfrm>
                <a:custGeom>
                  <a:avLst/>
                  <a:gdLst/>
                  <a:ahLst/>
                  <a:rect l="l" t="t" r="r" b="b"/>
                  <a:pathLst>
                    <a:path w="216" h="38">
                      <a:moveTo>
                        <a:pt x="195" y="3"/>
                      </a:moveTo>
                      <a:cubicBezTo>
                        <a:pt x="216" y="9"/>
                        <a:pt x="169" y="31"/>
                        <a:pt x="148" y="35"/>
                      </a:cubicBezTo>
                      <a:cubicBezTo>
                        <a:pt x="123" y="38"/>
                        <a:pt x="89" y="35"/>
                        <a:pt x="68" y="29"/>
                      </a:cubicBezTo>
                      <a:cubicBezTo>
                        <a:pt x="47" y="23"/>
                        <a:pt x="0" y="4"/>
                        <a:pt x="21" y="0"/>
                      </a:cubicBezTo>
                      <a:lnTo>
                        <a:pt x="195" y="3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8" name=""/>
                <p:cNvSpPr/>
                <p:nvPr/>
              </p:nvSpPr>
              <p:spPr>
                <a:xfrm flipH="1">
                  <a:off x="5833080" y="3894120"/>
                  <a:ext cx="349560" cy="60120"/>
                </a:xfrm>
                <a:custGeom>
                  <a:avLst/>
                  <a:gdLst/>
                  <a:ahLst/>
                  <a:rect l="l" t="t" r="r" b="b"/>
                  <a:pathLst>
                    <a:path w="216" h="38">
                      <a:moveTo>
                        <a:pt x="195" y="3"/>
                      </a:moveTo>
                      <a:cubicBezTo>
                        <a:pt x="216" y="9"/>
                        <a:pt x="169" y="31"/>
                        <a:pt x="148" y="35"/>
                      </a:cubicBezTo>
                      <a:cubicBezTo>
                        <a:pt x="123" y="38"/>
                        <a:pt x="89" y="35"/>
                        <a:pt x="68" y="29"/>
                      </a:cubicBezTo>
                      <a:cubicBezTo>
                        <a:pt x="47" y="23"/>
                        <a:pt x="0" y="4"/>
                        <a:pt x="21" y="0"/>
                      </a:cubicBezTo>
                      <a:lnTo>
                        <a:pt x="195" y="3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9" name=""/>
                <p:cNvSpPr/>
                <p:nvPr/>
              </p:nvSpPr>
              <p:spPr>
                <a:xfrm flipH="1">
                  <a:off x="6221880" y="3894120"/>
                  <a:ext cx="349200" cy="60120"/>
                </a:xfrm>
                <a:custGeom>
                  <a:avLst/>
                  <a:gdLst/>
                  <a:ahLst/>
                  <a:rect l="l" t="t" r="r" b="b"/>
                  <a:pathLst>
                    <a:path w="216" h="38">
                      <a:moveTo>
                        <a:pt x="195" y="3"/>
                      </a:moveTo>
                      <a:cubicBezTo>
                        <a:pt x="216" y="9"/>
                        <a:pt x="169" y="31"/>
                        <a:pt x="148" y="35"/>
                      </a:cubicBezTo>
                      <a:cubicBezTo>
                        <a:pt x="123" y="38"/>
                        <a:pt x="89" y="35"/>
                        <a:pt x="68" y="29"/>
                      </a:cubicBezTo>
                      <a:cubicBezTo>
                        <a:pt x="47" y="23"/>
                        <a:pt x="0" y="4"/>
                        <a:pt x="21" y="0"/>
                      </a:cubicBezTo>
                      <a:lnTo>
                        <a:pt x="195" y="3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0" name=""/>
                <p:cNvSpPr/>
                <p:nvPr/>
              </p:nvSpPr>
              <p:spPr>
                <a:xfrm flipH="1">
                  <a:off x="6609600" y="3894120"/>
                  <a:ext cx="349560" cy="60120"/>
                </a:xfrm>
                <a:custGeom>
                  <a:avLst/>
                  <a:gdLst/>
                  <a:ahLst/>
                  <a:rect l="l" t="t" r="r" b="b"/>
                  <a:pathLst>
                    <a:path w="216" h="38">
                      <a:moveTo>
                        <a:pt x="195" y="3"/>
                      </a:moveTo>
                      <a:cubicBezTo>
                        <a:pt x="216" y="9"/>
                        <a:pt x="169" y="31"/>
                        <a:pt x="148" y="35"/>
                      </a:cubicBezTo>
                      <a:cubicBezTo>
                        <a:pt x="123" y="38"/>
                        <a:pt x="89" y="35"/>
                        <a:pt x="68" y="29"/>
                      </a:cubicBezTo>
                      <a:cubicBezTo>
                        <a:pt x="47" y="23"/>
                        <a:pt x="0" y="4"/>
                        <a:pt x="21" y="0"/>
                      </a:cubicBezTo>
                      <a:lnTo>
                        <a:pt x="195" y="3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1" name=""/>
                <p:cNvSpPr/>
                <p:nvPr/>
              </p:nvSpPr>
              <p:spPr>
                <a:xfrm flipH="1">
                  <a:off x="6976800" y="2797200"/>
                  <a:ext cx="2379240" cy="1130040"/>
                </a:xfrm>
                <a:custGeom>
                  <a:avLst/>
                  <a:gdLst/>
                  <a:ahLst/>
                  <a:rect l="l" t="t" r="r" b="b"/>
                  <a:pathLst>
                    <a:path w="1471" h="712">
                      <a:moveTo>
                        <a:pt x="1337" y="647"/>
                      </a:moveTo>
                      <a:cubicBezTo>
                        <a:pt x="1239" y="603"/>
                        <a:pt x="1013" y="461"/>
                        <a:pt x="871" y="396"/>
                      </a:cubicBezTo>
                      <a:cubicBezTo>
                        <a:pt x="729" y="331"/>
                        <a:pt x="596" y="304"/>
                        <a:pt x="483" y="257"/>
                      </a:cubicBezTo>
                      <a:cubicBezTo>
                        <a:pt x="370" y="210"/>
                        <a:pt x="262" y="150"/>
                        <a:pt x="191" y="114"/>
                      </a:cubicBezTo>
                      <a:cubicBezTo>
                        <a:pt x="120" y="78"/>
                        <a:pt x="90" y="0"/>
                        <a:pt x="58" y="40"/>
                      </a:cubicBezTo>
                      <a:cubicBezTo>
                        <a:pt x="47" y="247"/>
                        <a:pt x="17" y="215"/>
                        <a:pt x="0" y="353"/>
                      </a:cubicBezTo>
                      <a:cubicBezTo>
                        <a:pt x="157" y="379"/>
                        <a:pt x="319" y="428"/>
                        <a:pt x="488" y="475"/>
                      </a:cubicBezTo>
                      <a:cubicBezTo>
                        <a:pt x="657" y="522"/>
                        <a:pt x="871" y="597"/>
                        <a:pt x="1014" y="634"/>
                      </a:cubicBezTo>
                      <a:cubicBezTo>
                        <a:pt x="1157" y="671"/>
                        <a:pt x="1275" y="683"/>
                        <a:pt x="1348" y="695"/>
                      </a:cubicBezTo>
                      <a:cubicBezTo>
                        <a:pt x="1421" y="707"/>
                        <a:pt x="1439" y="712"/>
                        <a:pt x="1455" y="709"/>
                      </a:cubicBezTo>
                      <a:cubicBezTo>
                        <a:pt x="1471" y="706"/>
                        <a:pt x="1464" y="687"/>
                        <a:pt x="1444" y="677"/>
                      </a:cubicBezTo>
                      <a:cubicBezTo>
                        <a:pt x="1424" y="667"/>
                        <a:pt x="1359" y="653"/>
                        <a:pt x="1337" y="647"/>
                      </a:cubicBezTo>
                      <a:close/>
                    </a:path>
                  </a:pathLst>
                </a:custGeom>
                <a:solidFill>
                  <a:srgbClr val="ff33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2" name=""/>
              <p:cNvGrpSpPr/>
              <p:nvPr/>
            </p:nvGrpSpPr>
            <p:grpSpPr>
              <a:xfrm>
                <a:off x="-157680" y="4808520"/>
                <a:ext cx="9523800" cy="1690560"/>
                <a:chOff x="-157680" y="4808520"/>
                <a:chExt cx="9523800" cy="1690560"/>
              </a:xfrm>
            </p:grpSpPr>
            <p:sp>
              <p:nvSpPr>
                <p:cNvPr id="753" name=""/>
                <p:cNvSpPr/>
                <p:nvPr/>
              </p:nvSpPr>
              <p:spPr>
                <a:xfrm flipH="1" flipV="1">
                  <a:off x="-157680" y="4808160"/>
                  <a:ext cx="4021200" cy="1392120"/>
                </a:xfrm>
                <a:custGeom>
                  <a:avLst/>
                  <a:gdLst/>
                  <a:ahLst/>
                  <a:rect l="l" t="t" r="r" b="b"/>
                  <a:pathLst>
                    <a:path w="2486" h="877">
                      <a:moveTo>
                        <a:pt x="216" y="507"/>
                      </a:moveTo>
                      <a:cubicBezTo>
                        <a:pt x="623" y="421"/>
                        <a:pt x="2094" y="41"/>
                        <a:pt x="2470" y="0"/>
                      </a:cubicBezTo>
                      <a:cubicBezTo>
                        <a:pt x="2486" y="207"/>
                        <a:pt x="2449" y="123"/>
                        <a:pt x="2475" y="261"/>
                      </a:cubicBezTo>
                      <a:cubicBezTo>
                        <a:pt x="2241" y="287"/>
                        <a:pt x="1526" y="407"/>
                        <a:pt x="1254" y="457"/>
                      </a:cubicBezTo>
                      <a:cubicBezTo>
                        <a:pt x="982" y="507"/>
                        <a:pt x="936" y="500"/>
                        <a:pt x="845" y="563"/>
                      </a:cubicBezTo>
                      <a:cubicBezTo>
                        <a:pt x="749" y="584"/>
                        <a:pt x="775" y="796"/>
                        <a:pt x="707" y="834"/>
                      </a:cubicBezTo>
                      <a:cubicBezTo>
                        <a:pt x="644" y="877"/>
                        <a:pt x="531" y="845"/>
                        <a:pt x="468" y="818"/>
                      </a:cubicBezTo>
                      <a:cubicBezTo>
                        <a:pt x="369" y="761"/>
                        <a:pt x="375" y="719"/>
                        <a:pt x="330" y="675"/>
                      </a:cubicBezTo>
                      <a:cubicBezTo>
                        <a:pt x="285" y="631"/>
                        <a:pt x="249" y="577"/>
                        <a:pt x="200" y="555"/>
                      </a:cubicBezTo>
                      <a:cubicBezTo>
                        <a:pt x="151" y="533"/>
                        <a:pt x="63" y="550"/>
                        <a:pt x="35" y="544"/>
                      </a:cubicBezTo>
                      <a:cubicBezTo>
                        <a:pt x="7" y="538"/>
                        <a:pt x="0" y="524"/>
                        <a:pt x="30" y="518"/>
                      </a:cubicBezTo>
                      <a:cubicBezTo>
                        <a:pt x="60" y="512"/>
                        <a:pt x="177" y="509"/>
                        <a:pt x="216" y="507"/>
                      </a:cubicBezTo>
                      <a:close/>
                    </a:path>
                  </a:pathLst>
                </a:custGeom>
                <a:solidFill>
                  <a:srgbClr val="ff33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4" name=""/>
                <p:cNvSpPr/>
                <p:nvPr/>
              </p:nvSpPr>
              <p:spPr>
                <a:xfrm flipH="1" flipV="1">
                  <a:off x="3902400" y="5341680"/>
                  <a:ext cx="349200" cy="60120"/>
                </a:xfrm>
                <a:custGeom>
                  <a:avLst/>
                  <a:gdLst/>
                  <a:ahLst/>
                  <a:rect l="l" t="t" r="r" b="b"/>
                  <a:pathLst>
                    <a:path w="216" h="38">
                      <a:moveTo>
                        <a:pt x="195" y="3"/>
                      </a:moveTo>
                      <a:cubicBezTo>
                        <a:pt x="216" y="9"/>
                        <a:pt x="169" y="31"/>
                        <a:pt x="148" y="35"/>
                      </a:cubicBezTo>
                      <a:cubicBezTo>
                        <a:pt x="123" y="38"/>
                        <a:pt x="89" y="35"/>
                        <a:pt x="68" y="29"/>
                      </a:cubicBezTo>
                      <a:cubicBezTo>
                        <a:pt x="47" y="23"/>
                        <a:pt x="0" y="4"/>
                        <a:pt x="21" y="0"/>
                      </a:cubicBezTo>
                      <a:lnTo>
                        <a:pt x="195" y="3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5" name=""/>
                <p:cNvSpPr/>
                <p:nvPr/>
              </p:nvSpPr>
              <p:spPr>
                <a:xfrm flipH="1" flipV="1">
                  <a:off x="4290120" y="5341680"/>
                  <a:ext cx="349560" cy="60120"/>
                </a:xfrm>
                <a:custGeom>
                  <a:avLst/>
                  <a:gdLst/>
                  <a:ahLst/>
                  <a:rect l="l" t="t" r="r" b="b"/>
                  <a:pathLst>
                    <a:path w="216" h="38">
                      <a:moveTo>
                        <a:pt x="195" y="3"/>
                      </a:moveTo>
                      <a:cubicBezTo>
                        <a:pt x="216" y="9"/>
                        <a:pt x="169" y="31"/>
                        <a:pt x="148" y="35"/>
                      </a:cubicBezTo>
                      <a:cubicBezTo>
                        <a:pt x="123" y="38"/>
                        <a:pt x="89" y="35"/>
                        <a:pt x="68" y="29"/>
                      </a:cubicBezTo>
                      <a:cubicBezTo>
                        <a:pt x="47" y="23"/>
                        <a:pt x="0" y="4"/>
                        <a:pt x="21" y="0"/>
                      </a:cubicBezTo>
                      <a:lnTo>
                        <a:pt x="195" y="3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6" name=""/>
                <p:cNvSpPr/>
                <p:nvPr/>
              </p:nvSpPr>
              <p:spPr>
                <a:xfrm flipH="1" flipV="1">
                  <a:off x="4678200" y="5341680"/>
                  <a:ext cx="349560" cy="60120"/>
                </a:xfrm>
                <a:custGeom>
                  <a:avLst/>
                  <a:gdLst/>
                  <a:ahLst/>
                  <a:rect l="l" t="t" r="r" b="b"/>
                  <a:pathLst>
                    <a:path w="216" h="38">
                      <a:moveTo>
                        <a:pt x="195" y="3"/>
                      </a:moveTo>
                      <a:cubicBezTo>
                        <a:pt x="216" y="9"/>
                        <a:pt x="169" y="31"/>
                        <a:pt x="148" y="35"/>
                      </a:cubicBezTo>
                      <a:cubicBezTo>
                        <a:pt x="123" y="38"/>
                        <a:pt x="89" y="35"/>
                        <a:pt x="68" y="29"/>
                      </a:cubicBezTo>
                      <a:cubicBezTo>
                        <a:pt x="47" y="23"/>
                        <a:pt x="0" y="4"/>
                        <a:pt x="21" y="0"/>
                      </a:cubicBezTo>
                      <a:lnTo>
                        <a:pt x="195" y="3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7" name=""/>
                <p:cNvSpPr/>
                <p:nvPr/>
              </p:nvSpPr>
              <p:spPr>
                <a:xfrm flipH="1" flipV="1">
                  <a:off x="5067000" y="5341680"/>
                  <a:ext cx="349200" cy="60120"/>
                </a:xfrm>
                <a:custGeom>
                  <a:avLst/>
                  <a:gdLst/>
                  <a:ahLst/>
                  <a:rect l="l" t="t" r="r" b="b"/>
                  <a:pathLst>
                    <a:path w="216" h="38">
                      <a:moveTo>
                        <a:pt x="195" y="3"/>
                      </a:moveTo>
                      <a:cubicBezTo>
                        <a:pt x="216" y="9"/>
                        <a:pt x="169" y="31"/>
                        <a:pt x="148" y="35"/>
                      </a:cubicBezTo>
                      <a:cubicBezTo>
                        <a:pt x="123" y="38"/>
                        <a:pt x="89" y="35"/>
                        <a:pt x="68" y="29"/>
                      </a:cubicBezTo>
                      <a:cubicBezTo>
                        <a:pt x="47" y="23"/>
                        <a:pt x="0" y="4"/>
                        <a:pt x="21" y="0"/>
                      </a:cubicBezTo>
                      <a:lnTo>
                        <a:pt x="195" y="3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8" name=""/>
                <p:cNvSpPr/>
                <p:nvPr/>
              </p:nvSpPr>
              <p:spPr>
                <a:xfrm flipH="1" flipV="1">
                  <a:off x="5454720" y="5341680"/>
                  <a:ext cx="349560" cy="60120"/>
                </a:xfrm>
                <a:custGeom>
                  <a:avLst/>
                  <a:gdLst/>
                  <a:ahLst/>
                  <a:rect l="l" t="t" r="r" b="b"/>
                  <a:pathLst>
                    <a:path w="216" h="38">
                      <a:moveTo>
                        <a:pt x="195" y="3"/>
                      </a:moveTo>
                      <a:cubicBezTo>
                        <a:pt x="216" y="9"/>
                        <a:pt x="169" y="31"/>
                        <a:pt x="148" y="35"/>
                      </a:cubicBezTo>
                      <a:cubicBezTo>
                        <a:pt x="123" y="38"/>
                        <a:pt x="89" y="35"/>
                        <a:pt x="68" y="29"/>
                      </a:cubicBezTo>
                      <a:cubicBezTo>
                        <a:pt x="47" y="23"/>
                        <a:pt x="0" y="4"/>
                        <a:pt x="21" y="0"/>
                      </a:cubicBezTo>
                      <a:lnTo>
                        <a:pt x="195" y="3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9" name=""/>
                <p:cNvSpPr/>
                <p:nvPr/>
              </p:nvSpPr>
              <p:spPr>
                <a:xfrm flipH="1" flipV="1">
                  <a:off x="5842800" y="5341680"/>
                  <a:ext cx="349560" cy="60120"/>
                </a:xfrm>
                <a:custGeom>
                  <a:avLst/>
                  <a:gdLst/>
                  <a:ahLst/>
                  <a:rect l="l" t="t" r="r" b="b"/>
                  <a:pathLst>
                    <a:path w="216" h="38">
                      <a:moveTo>
                        <a:pt x="195" y="3"/>
                      </a:moveTo>
                      <a:cubicBezTo>
                        <a:pt x="216" y="9"/>
                        <a:pt x="169" y="31"/>
                        <a:pt x="148" y="35"/>
                      </a:cubicBezTo>
                      <a:cubicBezTo>
                        <a:pt x="123" y="38"/>
                        <a:pt x="89" y="35"/>
                        <a:pt x="68" y="29"/>
                      </a:cubicBezTo>
                      <a:cubicBezTo>
                        <a:pt x="47" y="23"/>
                        <a:pt x="0" y="4"/>
                        <a:pt x="21" y="0"/>
                      </a:cubicBezTo>
                      <a:lnTo>
                        <a:pt x="195" y="3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0" name=""/>
                <p:cNvSpPr/>
                <p:nvPr/>
              </p:nvSpPr>
              <p:spPr>
                <a:xfrm flipH="1" flipV="1">
                  <a:off x="6231600" y="5341680"/>
                  <a:ext cx="349200" cy="60120"/>
                </a:xfrm>
                <a:custGeom>
                  <a:avLst/>
                  <a:gdLst/>
                  <a:ahLst/>
                  <a:rect l="l" t="t" r="r" b="b"/>
                  <a:pathLst>
                    <a:path w="216" h="38">
                      <a:moveTo>
                        <a:pt x="195" y="3"/>
                      </a:moveTo>
                      <a:cubicBezTo>
                        <a:pt x="216" y="9"/>
                        <a:pt x="169" y="31"/>
                        <a:pt x="148" y="35"/>
                      </a:cubicBezTo>
                      <a:cubicBezTo>
                        <a:pt x="123" y="38"/>
                        <a:pt x="89" y="35"/>
                        <a:pt x="68" y="29"/>
                      </a:cubicBezTo>
                      <a:cubicBezTo>
                        <a:pt x="47" y="23"/>
                        <a:pt x="0" y="4"/>
                        <a:pt x="21" y="0"/>
                      </a:cubicBezTo>
                      <a:lnTo>
                        <a:pt x="195" y="3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1" name=""/>
                <p:cNvSpPr/>
                <p:nvPr/>
              </p:nvSpPr>
              <p:spPr>
                <a:xfrm flipH="1" flipV="1">
                  <a:off x="6619320" y="5341680"/>
                  <a:ext cx="349560" cy="60120"/>
                </a:xfrm>
                <a:custGeom>
                  <a:avLst/>
                  <a:gdLst/>
                  <a:ahLst/>
                  <a:rect l="l" t="t" r="r" b="b"/>
                  <a:pathLst>
                    <a:path w="216" h="38">
                      <a:moveTo>
                        <a:pt x="195" y="3"/>
                      </a:moveTo>
                      <a:cubicBezTo>
                        <a:pt x="216" y="9"/>
                        <a:pt x="169" y="31"/>
                        <a:pt x="148" y="35"/>
                      </a:cubicBezTo>
                      <a:cubicBezTo>
                        <a:pt x="123" y="38"/>
                        <a:pt x="89" y="35"/>
                        <a:pt x="68" y="29"/>
                      </a:cubicBezTo>
                      <a:cubicBezTo>
                        <a:pt x="47" y="23"/>
                        <a:pt x="0" y="4"/>
                        <a:pt x="21" y="0"/>
                      </a:cubicBezTo>
                      <a:lnTo>
                        <a:pt x="195" y="3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2" name=""/>
                <p:cNvSpPr/>
                <p:nvPr/>
              </p:nvSpPr>
              <p:spPr>
                <a:xfrm flipH="1" flipV="1">
                  <a:off x="6986520" y="5368680"/>
                  <a:ext cx="2379240" cy="1130040"/>
                </a:xfrm>
                <a:custGeom>
                  <a:avLst/>
                  <a:gdLst/>
                  <a:ahLst/>
                  <a:rect l="l" t="t" r="r" b="b"/>
                  <a:pathLst>
                    <a:path w="1471" h="712">
                      <a:moveTo>
                        <a:pt x="1337" y="647"/>
                      </a:moveTo>
                      <a:cubicBezTo>
                        <a:pt x="1239" y="603"/>
                        <a:pt x="1013" y="461"/>
                        <a:pt x="871" y="396"/>
                      </a:cubicBezTo>
                      <a:cubicBezTo>
                        <a:pt x="729" y="331"/>
                        <a:pt x="596" y="304"/>
                        <a:pt x="483" y="257"/>
                      </a:cubicBezTo>
                      <a:cubicBezTo>
                        <a:pt x="370" y="210"/>
                        <a:pt x="262" y="150"/>
                        <a:pt x="191" y="114"/>
                      </a:cubicBezTo>
                      <a:cubicBezTo>
                        <a:pt x="120" y="78"/>
                        <a:pt x="90" y="0"/>
                        <a:pt x="58" y="40"/>
                      </a:cubicBezTo>
                      <a:cubicBezTo>
                        <a:pt x="47" y="247"/>
                        <a:pt x="17" y="215"/>
                        <a:pt x="0" y="353"/>
                      </a:cubicBezTo>
                      <a:cubicBezTo>
                        <a:pt x="157" y="379"/>
                        <a:pt x="319" y="428"/>
                        <a:pt x="488" y="475"/>
                      </a:cubicBezTo>
                      <a:cubicBezTo>
                        <a:pt x="657" y="522"/>
                        <a:pt x="871" y="597"/>
                        <a:pt x="1014" y="634"/>
                      </a:cubicBezTo>
                      <a:cubicBezTo>
                        <a:pt x="1157" y="671"/>
                        <a:pt x="1275" y="683"/>
                        <a:pt x="1348" y="695"/>
                      </a:cubicBezTo>
                      <a:cubicBezTo>
                        <a:pt x="1421" y="707"/>
                        <a:pt x="1439" y="712"/>
                        <a:pt x="1455" y="709"/>
                      </a:cubicBezTo>
                      <a:cubicBezTo>
                        <a:pt x="1471" y="706"/>
                        <a:pt x="1464" y="687"/>
                        <a:pt x="1444" y="677"/>
                      </a:cubicBezTo>
                      <a:cubicBezTo>
                        <a:pt x="1424" y="667"/>
                        <a:pt x="1359" y="653"/>
                        <a:pt x="1337" y="647"/>
                      </a:cubicBezTo>
                      <a:close/>
                    </a:path>
                  </a:pathLst>
                </a:custGeom>
                <a:solidFill>
                  <a:srgbClr val="ff33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63" name=""/>
            <p:cNvSpPr/>
            <p:nvPr/>
          </p:nvSpPr>
          <p:spPr>
            <a:xfrm flipH="1">
              <a:off x="220320" y="4286160"/>
              <a:ext cx="1200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arteriol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 flipH="1">
              <a:off x="7773480" y="4397400"/>
              <a:ext cx="994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venul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 flipH="1">
              <a:off x="4551840" y="4387680"/>
              <a:ext cx="1165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kapilár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 flipV="1">
              <a:off x="3776760" y="2139480"/>
              <a:ext cx="0" cy="1500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 flipV="1">
              <a:off x="4064040" y="2224080"/>
              <a:ext cx="0" cy="1409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 flipV="1">
              <a:off x="4351320" y="2350800"/>
              <a:ext cx="0" cy="1282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V="1">
              <a:off x="4638600" y="2427120"/>
              <a:ext cx="0" cy="1214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 flipV="1">
              <a:off x="4925880" y="2544840"/>
              <a:ext cx="0" cy="107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 flipV="1">
              <a:off x="5213520" y="2655360"/>
              <a:ext cx="0" cy="96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 flipV="1">
              <a:off x="5500800" y="2747520"/>
              <a:ext cx="0" cy="878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 flipV="1">
              <a:off x="5788080" y="2831760"/>
              <a:ext cx="0" cy="785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 flipV="1">
              <a:off x="6075360" y="2950920"/>
              <a:ext cx="0" cy="69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 flipV="1">
              <a:off x="6362640" y="3085920"/>
              <a:ext cx="0" cy="55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 flipV="1">
              <a:off x="6649920" y="3154320"/>
              <a:ext cx="0" cy="47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 flipV="1">
              <a:off x="6937200" y="3265200"/>
              <a:ext cx="0" cy="32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V="1">
              <a:off x="5594400" y="2749680"/>
              <a:ext cx="0" cy="877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V="1">
              <a:off x="5899320" y="2742840"/>
              <a:ext cx="0" cy="878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6145200" y="2769840"/>
              <a:ext cx="0" cy="878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 flipV="1">
              <a:off x="6443640" y="2755440"/>
              <a:ext cx="0" cy="878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flipV="1">
              <a:off x="6723000" y="2731680"/>
              <a:ext cx="0" cy="878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 flipV="1">
              <a:off x="7018200" y="2727360"/>
              <a:ext cx="0" cy="877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5300640" y="2760840"/>
              <a:ext cx="0" cy="877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 flipV="1">
              <a:off x="4998960" y="2742840"/>
              <a:ext cx="0" cy="878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flipV="1">
              <a:off x="4722840" y="2742840"/>
              <a:ext cx="0" cy="878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 flipV="1">
              <a:off x="4421160" y="2766600"/>
              <a:ext cx="0" cy="878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 flipV="1">
              <a:off x="4152960" y="2749680"/>
              <a:ext cx="0" cy="877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 flipV="1">
              <a:off x="3868560" y="2747520"/>
              <a:ext cx="0" cy="878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 flipV="1">
              <a:off x="3524400" y="1606680"/>
              <a:ext cx="0" cy="2039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 flipV="1">
              <a:off x="3271680" y="1073160"/>
              <a:ext cx="0" cy="257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flipV="1">
              <a:off x="3019320" y="539640"/>
              <a:ext cx="0" cy="3106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V="1">
              <a:off x="2766960" y="-360"/>
              <a:ext cx="0" cy="3639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flipH="1" flipV="1">
              <a:off x="3774960" y="2131560"/>
              <a:ext cx="3354480" cy="1197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 flipH="1" flipV="1">
              <a:off x="2824200" y="-360"/>
              <a:ext cx="952560" cy="214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flipV="1">
              <a:off x="3700440" y="2712600"/>
              <a:ext cx="5159520" cy="50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 flipV="1">
              <a:off x="4199040" y="1846440"/>
              <a:ext cx="0" cy="7840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 flipV="1">
              <a:off x="6559560" y="2184480"/>
              <a:ext cx="0" cy="7840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68880" y="396720"/>
              <a:ext cx="2357280" cy="1549440"/>
            </a:xfrm>
            <a:custGeom>
              <a:avLst/>
              <a:gdLst/>
              <a:ahLst/>
              <a:rect l="l" t="t" r="r" b="b"/>
              <a:pathLst>
                <a:path w="1485" h="976">
                  <a:moveTo>
                    <a:pt x="1437" y="976"/>
                  </a:moveTo>
                  <a:cubicBezTo>
                    <a:pt x="1411" y="839"/>
                    <a:pt x="1485" y="296"/>
                    <a:pt x="1283" y="154"/>
                  </a:cubicBezTo>
                  <a:cubicBezTo>
                    <a:pt x="1081" y="12"/>
                    <a:pt x="440" y="0"/>
                    <a:pt x="226" y="122"/>
                  </a:cubicBezTo>
                  <a:cubicBezTo>
                    <a:pt x="12" y="244"/>
                    <a:pt x="47" y="728"/>
                    <a:pt x="0" y="888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7007040" y="2463840"/>
              <a:ext cx="2143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400" spc="-1" strike="noStrike">
                  <a:solidFill>
                    <a:srgbClr val="000000"/>
                  </a:solidFill>
                  <a:latin typeface="Times New Roman"/>
                </a:rPr>
                <a:t>Gradient onkotických tlaků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 rot="3949800">
              <a:off x="2307240" y="934560"/>
              <a:ext cx="2402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400" spc="-1" strike="noStrike">
                  <a:solidFill>
                    <a:srgbClr val="000000"/>
                  </a:solidFill>
                  <a:latin typeface="Times New Roman"/>
                </a:rPr>
                <a:t>Gradient hydrostatických tlaků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 flipH="1">
              <a:off x="4529160" y="622440"/>
              <a:ext cx="1852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pohyb filtrát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1497960" y="3932280"/>
              <a:ext cx="10569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400" spc="-1" strike="noStrike">
                  <a:solidFill>
                    <a:srgbClr val="000000"/>
                  </a:solidFill>
                  <a:latin typeface="Times New Roman"/>
                </a:rPr>
                <a:t>Prekapilární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400" spc="-1" strike="noStrike">
                  <a:solidFill>
                    <a:srgbClr val="000000"/>
                  </a:solidFill>
                  <a:latin typeface="Times New Roman"/>
                </a:rPr>
                <a:t>sfinkt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3960720" y="4964040"/>
              <a:ext cx="7488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113360" y="511668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265640" y="526896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410000" y="558972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189320" y="5006880"/>
              <a:ext cx="74880" cy="74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3886200" y="457668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3878280" y="410544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089240" y="4340160"/>
              <a:ext cx="7488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494240" y="456876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570560" y="445932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46520" y="4349880"/>
              <a:ext cx="7488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722840" y="4240080"/>
              <a:ext cx="74520" cy="74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908600" y="429912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094360" y="435780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5313240" y="4197240"/>
              <a:ext cx="74880" cy="74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532480" y="403704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751360" y="3876840"/>
              <a:ext cx="7488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851440" y="433080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5951520" y="478476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6078600" y="473544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6164280" y="460224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6332400" y="4695840"/>
              <a:ext cx="7488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6240600" y="424188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586560" y="4538520"/>
              <a:ext cx="74520" cy="74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724360" y="4727520"/>
              <a:ext cx="7488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370480" y="471960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083200" y="484668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4662360" y="4846680"/>
              <a:ext cx="7488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818320" y="491976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962680" y="4910040"/>
              <a:ext cx="74520" cy="74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551560" y="5189400"/>
              <a:ext cx="74520" cy="74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878440" y="502128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929200" y="5165640"/>
              <a:ext cx="7488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6064200" y="508176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6199200" y="499752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6334200" y="491328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6469200" y="4829040"/>
              <a:ext cx="74520" cy="74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6662880" y="484668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6216480" y="5234040"/>
              <a:ext cx="7488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6181560" y="4854600"/>
              <a:ext cx="7488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6392880" y="439416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877000" y="4627440"/>
              <a:ext cx="74520" cy="74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6459480" y="459432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961240" y="444492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734080" y="449748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624640" y="4221000"/>
              <a:ext cx="74520" cy="74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6205680" y="4433760"/>
              <a:ext cx="74520" cy="74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7429680" y="477360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6392880" y="439416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6738840" y="4691160"/>
              <a:ext cx="7488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486480" y="5065560"/>
              <a:ext cx="74520" cy="74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6621480" y="498168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6637320" y="4302000"/>
              <a:ext cx="74520" cy="74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7689960" y="441000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7294680" y="4941720"/>
              <a:ext cx="74520" cy="74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773760" y="4116240"/>
              <a:ext cx="74880" cy="74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891480" y="484344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638760" y="5218200"/>
              <a:ext cx="7488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773760" y="5133960"/>
              <a:ext cx="7488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891480" y="450540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7142040" y="4764240"/>
              <a:ext cx="7488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7321680" y="511812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7010280" y="4243320"/>
              <a:ext cx="7488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043760" y="4995720"/>
              <a:ext cx="74520" cy="74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791400" y="537048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926400" y="5286240"/>
              <a:ext cx="74520" cy="74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7364520" y="427032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7362720" y="4562640"/>
              <a:ext cx="7488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4241880" y="449280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394160" y="464508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4038480" y="4729320"/>
              <a:ext cx="7488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3895560" y="4433760"/>
              <a:ext cx="74880" cy="74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4048200" y="458640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4200480" y="473868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4352760" y="4890960"/>
              <a:ext cx="74880" cy="74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4505400" y="504360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4259160" y="4156200"/>
              <a:ext cx="7488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395960" y="4259160"/>
              <a:ext cx="74520" cy="74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4583160" y="408456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4657680" y="519588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4815000" y="499896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967280" y="515160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126120" y="5754600"/>
              <a:ext cx="74520" cy="74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5119560" y="5303880"/>
              <a:ext cx="7488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5235480" y="4998960"/>
              <a:ext cx="7488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5549760" y="4991040"/>
              <a:ext cx="7488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2673360" y="453564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1603440" y="478944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533520" y="504360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1216080" y="491976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1754280" y="483876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1704960" y="451008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1957320" y="460224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2109960" y="475452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2262240" y="4906800"/>
              <a:ext cx="74520" cy="74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1906560" y="499104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1763640" y="469584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1916280" y="4848120"/>
              <a:ext cx="74520" cy="74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2068560" y="500076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2220840" y="515304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2127240" y="4417920"/>
              <a:ext cx="74520" cy="74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2263680" y="4521240"/>
              <a:ext cx="7488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8319960" y="5319720"/>
              <a:ext cx="7488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8177040" y="5024520"/>
              <a:ext cx="7488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8523360" y="508320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8675640" y="5235480"/>
              <a:ext cx="74520" cy="74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8827920" y="5388120"/>
              <a:ext cx="7488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8472600" y="5472000"/>
              <a:ext cx="74520" cy="74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8329680" y="517680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8481960" y="5329080"/>
              <a:ext cx="74520" cy="74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8634240" y="5481720"/>
              <a:ext cx="7488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8786880" y="563400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8693280" y="4898880"/>
              <a:ext cx="74520" cy="74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8829720" y="500220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8439120" y="418140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8296200" y="388620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8642520" y="394488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8794800" y="4097160"/>
              <a:ext cx="74520" cy="74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8947080" y="424980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8591400" y="4334040"/>
              <a:ext cx="7488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8448840" y="4038480"/>
              <a:ext cx="74520" cy="74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8601120" y="419112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8753400" y="434340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8906040" y="4495680"/>
              <a:ext cx="74520" cy="74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8812080" y="3760920"/>
              <a:ext cx="7488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8948880" y="3863880"/>
              <a:ext cx="74520" cy="74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1081080" y="4240080"/>
              <a:ext cx="74520" cy="74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938160" y="394488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1284120" y="4003560"/>
              <a:ext cx="74880" cy="74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1436760" y="415620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1589040" y="430848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1233360" y="4392720"/>
              <a:ext cx="7488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1090440" y="4097160"/>
              <a:ext cx="74880" cy="74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1243080" y="424980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1395360" y="440208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1547640" y="4554360"/>
              <a:ext cx="74880" cy="74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1454040" y="3819600"/>
              <a:ext cx="7488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1590840" y="3922560"/>
              <a:ext cx="74520" cy="74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1908000" y="5094360"/>
              <a:ext cx="7488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2058840" y="5143680"/>
              <a:ext cx="7488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2414520" y="505944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1790640" y="520380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2211480" y="529596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2220840" y="515304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2500200" y="4791240"/>
              <a:ext cx="7488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2695680" y="471492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3137040" y="469260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3263760" y="4643280"/>
              <a:ext cx="74880" cy="74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3349800" y="451008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3517920" y="460368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3425760" y="414972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3772080" y="444672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3147840" y="4818240"/>
              <a:ext cx="7488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3519360" y="4821120"/>
              <a:ext cx="74880" cy="74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3654360" y="473724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3789360" y="465300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3367080" y="476244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3578400" y="4302000"/>
              <a:ext cx="74520" cy="74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3645000" y="450216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3146400" y="4352760"/>
              <a:ext cx="74520" cy="74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3390840" y="434196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3578400" y="4302000"/>
              <a:ext cx="74520" cy="74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3822840" y="421020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642960" y="526572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70040" y="5216400"/>
              <a:ext cx="74520" cy="74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855720" y="508320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1023840" y="5176800"/>
              <a:ext cx="7488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932040" y="472284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1278000" y="501984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654120" y="5391000"/>
              <a:ext cx="74520" cy="74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1025640" y="539424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1160640" y="531036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1295280" y="5226120"/>
              <a:ext cx="7488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873000" y="5335560"/>
              <a:ext cx="7488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1084320" y="4875120"/>
              <a:ext cx="74520" cy="74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1150920" y="507528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652320" y="4925880"/>
              <a:ext cx="74880" cy="74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896760" y="4915080"/>
              <a:ext cx="7488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1084320" y="4875120"/>
              <a:ext cx="74520" cy="74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1328760" y="4782960"/>
              <a:ext cx="74520" cy="74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152280" y="4321080"/>
              <a:ext cx="74880" cy="74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279360" y="427212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365040" y="413856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533520" y="4232160"/>
              <a:ext cx="74520" cy="74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441360" y="377820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787320" y="407520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163440" y="444672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527040" y="435780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669960" y="436572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804960" y="428148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382680" y="4390920"/>
              <a:ext cx="74520" cy="74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593640" y="3930480"/>
              <a:ext cx="74520" cy="74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660240" y="4130640"/>
              <a:ext cx="7488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162000" y="398160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406440" y="397044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593640" y="3930480"/>
              <a:ext cx="74520" cy="74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838080" y="3838680"/>
              <a:ext cx="7488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1089000" y="469584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1251000" y="4705200"/>
              <a:ext cx="74520" cy="74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1090440" y="4799160"/>
              <a:ext cx="7488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460440" y="4724280"/>
              <a:ext cx="74520" cy="74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628560" y="5057640"/>
              <a:ext cx="74880" cy="74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790560" y="506736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630360" y="516096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0" y="508644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2252520" y="4621320"/>
              <a:ext cx="7488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2414520" y="463068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2254320" y="4724280"/>
              <a:ext cx="74520" cy="74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1623960" y="464976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1906560" y="499104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1368360" y="507204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1521000" y="5224320"/>
              <a:ext cx="74520" cy="74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1481040" y="4935600"/>
              <a:ext cx="7488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1633680" y="508788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155520" y="5297400"/>
              <a:ext cx="74520" cy="74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7902720" y="490068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7734240" y="507852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7886880" y="523080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8039160" y="5383080"/>
              <a:ext cx="74520" cy="74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8448840" y="4038480"/>
              <a:ext cx="74520" cy="74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7513560" y="435132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7767720" y="4194000"/>
              <a:ext cx="74520" cy="74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7785000" y="4400640"/>
              <a:ext cx="7488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7574040" y="404964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7640640" y="424980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7574040" y="404964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7920000" y="434664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7818480" y="3957480"/>
              <a:ext cx="74520" cy="74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8072280" y="4160880"/>
              <a:ext cx="7488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8323200" y="441972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8191440" y="3898800"/>
              <a:ext cx="74520" cy="74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8350200" y="421020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6369120" y="538632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5956200" y="6381720"/>
              <a:ext cx="7488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8207280" y="1562040"/>
              <a:ext cx="7488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5386320" y="586908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6978600" y="599616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6535800" y="409104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6831000" y="394020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7194600" y="342756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7558200" y="2914560"/>
              <a:ext cx="74520" cy="74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7104240" y="186228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8567640" y="811080"/>
              <a:ext cx="74880" cy="74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7391520" y="598320"/>
              <a:ext cx="74520" cy="74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8543880" y="69696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8167680" y="75420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 flipH="1" rot="17793600">
              <a:off x="7828920" y="6084720"/>
              <a:ext cx="299880" cy="1277640"/>
            </a:xfrm>
            <a:prstGeom prst="can">
              <a:avLst>
                <a:gd name="adj" fmla="val 25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7469280" y="646740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6939000" y="6289560"/>
              <a:ext cx="74520" cy="74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7404120" y="6375240"/>
              <a:ext cx="74520" cy="74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7238880" y="0"/>
              <a:ext cx="152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400" spc="-1" strike="noStrike">
                  <a:solidFill>
                    <a:srgbClr val="000000"/>
                  </a:solidFill>
                  <a:latin typeface="Times New Roman"/>
                </a:rPr>
                <a:t>Lymfatická drenáž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5941800" y="6553080"/>
              <a:ext cx="152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400" spc="-1" strike="noStrike">
                  <a:solidFill>
                    <a:srgbClr val="000000"/>
                  </a:solidFill>
                  <a:latin typeface="Times New Roman"/>
                </a:rPr>
                <a:t>Lymfatická drenáž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4853160" y="5442120"/>
              <a:ext cx="871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400" spc="-1" strike="noStrike">
                  <a:solidFill>
                    <a:srgbClr val="000000"/>
                  </a:solidFill>
                  <a:latin typeface="Times New Roman"/>
                </a:rPr>
                <a:t>bílkovin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8276040" y="1143000"/>
              <a:ext cx="871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400" spc="-1" strike="noStrike">
                  <a:solidFill>
                    <a:srgbClr val="000000"/>
                  </a:solidFill>
                  <a:latin typeface="Times New Roman"/>
                </a:rPr>
                <a:t>bílkovin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 flipH="1" flipV="1">
              <a:off x="8259480" y="860400"/>
              <a:ext cx="261720" cy="30960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 flipH="1">
              <a:off x="8319600" y="1400040"/>
              <a:ext cx="227160" cy="15264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 flipV="1">
              <a:off x="5419800" y="4992840"/>
              <a:ext cx="17280" cy="51264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5618160" y="490068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 flipH="1" flipV="1">
              <a:off x="5311800" y="5118120"/>
              <a:ext cx="100080" cy="30312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 flipV="1">
              <a:off x="5430960" y="5091120"/>
              <a:ext cx="134640" cy="2872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5408640" y="488628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5641920" y="5614920"/>
              <a:ext cx="471600" cy="1684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 flipH="1">
              <a:off x="891720" y="928800"/>
              <a:ext cx="17276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Intersticiální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tekutin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3672000" y="497376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3824280" y="512604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3807000" y="488952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3484440" y="5041800"/>
              <a:ext cx="74880" cy="74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7221600" y="405144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8055000" y="505296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7566120" y="482436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7550280" y="509436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7534440" y="5364000"/>
              <a:ext cx="74520" cy="74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7473960" y="4933800"/>
              <a:ext cx="74520" cy="74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7802640" y="4925880"/>
              <a:ext cx="74520" cy="74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7667640" y="463068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7128000" y="457992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0" name=""/>
            <p:cNvGrpSpPr/>
            <p:nvPr/>
          </p:nvGrpSpPr>
          <p:grpSpPr>
            <a:xfrm>
              <a:off x="-357120" y="0"/>
              <a:ext cx="9866160" cy="7175520"/>
              <a:chOff x="-357120" y="0"/>
              <a:chExt cx="9866160" cy="7175520"/>
            </a:xfrm>
          </p:grpSpPr>
          <p:sp>
            <p:nvSpPr>
              <p:cNvPr id="1081" name=""/>
              <p:cNvSpPr/>
              <p:nvPr/>
            </p:nvSpPr>
            <p:spPr>
              <a:xfrm>
                <a:off x="9144000" y="0"/>
                <a:ext cx="357120" cy="6858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-357120" y="0"/>
                <a:ext cx="357120" cy="6980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-357120" y="6858000"/>
                <a:ext cx="9866160" cy="317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84" name=""/>
            <p:cNvSpPr/>
            <p:nvPr/>
          </p:nvSpPr>
          <p:spPr>
            <a:xfrm>
              <a:off x="8282160" y="68112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45" name=""/>
          <p:cNvGrpSpPr/>
          <p:nvPr/>
        </p:nvGrpSpPr>
        <p:grpSpPr>
          <a:xfrm>
            <a:off x="0" y="0"/>
            <a:ext cx="9144000" cy="6378480"/>
            <a:chOff x="0" y="0"/>
            <a:chExt cx="9144000" cy="6378480"/>
          </a:xfrm>
        </p:grpSpPr>
        <p:sp>
          <p:nvSpPr>
            <p:cNvPr id="11646" name=""/>
            <p:cNvSpPr/>
            <p:nvPr/>
          </p:nvSpPr>
          <p:spPr>
            <a:xfrm>
              <a:off x="2851200" y="1324080"/>
              <a:ext cx="4154400" cy="4163760"/>
            </a:xfrm>
            <a:custGeom>
              <a:avLst/>
              <a:gdLst/>
              <a:ahLst/>
              <a:rect l="l" t="t" r="r" b="b"/>
              <a:pathLst>
                <a:path w="2617" h="2623">
                  <a:moveTo>
                    <a:pt x="0" y="2623"/>
                  </a:moveTo>
                  <a:cubicBezTo>
                    <a:pt x="31" y="2595"/>
                    <a:pt x="122" y="2553"/>
                    <a:pt x="184" y="2458"/>
                  </a:cubicBezTo>
                  <a:cubicBezTo>
                    <a:pt x="246" y="2363"/>
                    <a:pt x="294" y="2227"/>
                    <a:pt x="374" y="2055"/>
                  </a:cubicBezTo>
                  <a:cubicBezTo>
                    <a:pt x="453" y="1882"/>
                    <a:pt x="572" y="1602"/>
                    <a:pt x="660" y="1422"/>
                  </a:cubicBezTo>
                  <a:cubicBezTo>
                    <a:pt x="748" y="1242"/>
                    <a:pt x="816" y="1106"/>
                    <a:pt x="903" y="977"/>
                  </a:cubicBezTo>
                  <a:cubicBezTo>
                    <a:pt x="990" y="848"/>
                    <a:pt x="1062" y="757"/>
                    <a:pt x="1183" y="646"/>
                  </a:cubicBezTo>
                  <a:cubicBezTo>
                    <a:pt x="1304" y="535"/>
                    <a:pt x="1452" y="410"/>
                    <a:pt x="1630" y="313"/>
                  </a:cubicBezTo>
                  <a:cubicBezTo>
                    <a:pt x="1808" y="216"/>
                    <a:pt x="2088" y="115"/>
                    <a:pt x="2252" y="63"/>
                  </a:cubicBezTo>
                  <a:cubicBezTo>
                    <a:pt x="2416" y="11"/>
                    <a:pt x="2556" y="10"/>
                    <a:pt x="2617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7" name=""/>
            <p:cNvSpPr/>
            <p:nvPr/>
          </p:nvSpPr>
          <p:spPr>
            <a:xfrm>
              <a:off x="2851200" y="1854360"/>
              <a:ext cx="3235320" cy="3643200"/>
            </a:xfrm>
            <a:custGeom>
              <a:avLst/>
              <a:gdLst/>
              <a:ahLst/>
              <a:rect l="l" t="t" r="r" b="b"/>
              <a:pathLst>
                <a:path w="2038" h="2295">
                  <a:moveTo>
                    <a:pt x="0" y="2295"/>
                  </a:moveTo>
                  <a:cubicBezTo>
                    <a:pt x="35" y="2274"/>
                    <a:pt x="149" y="2222"/>
                    <a:pt x="211" y="2172"/>
                  </a:cubicBezTo>
                  <a:cubicBezTo>
                    <a:pt x="273" y="2122"/>
                    <a:pt x="289" y="2131"/>
                    <a:pt x="372" y="1998"/>
                  </a:cubicBezTo>
                  <a:cubicBezTo>
                    <a:pt x="455" y="1865"/>
                    <a:pt x="617" y="1535"/>
                    <a:pt x="706" y="1374"/>
                  </a:cubicBezTo>
                  <a:cubicBezTo>
                    <a:pt x="795" y="1213"/>
                    <a:pt x="825" y="1161"/>
                    <a:pt x="909" y="1032"/>
                  </a:cubicBezTo>
                  <a:cubicBezTo>
                    <a:pt x="993" y="903"/>
                    <a:pt x="1089" y="733"/>
                    <a:pt x="1211" y="601"/>
                  </a:cubicBezTo>
                  <a:cubicBezTo>
                    <a:pt x="1333" y="469"/>
                    <a:pt x="1505" y="340"/>
                    <a:pt x="1643" y="240"/>
                  </a:cubicBezTo>
                  <a:cubicBezTo>
                    <a:pt x="1781" y="140"/>
                    <a:pt x="1972" y="40"/>
                    <a:pt x="2038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8" name=""/>
            <p:cNvSpPr/>
            <p:nvPr/>
          </p:nvSpPr>
          <p:spPr>
            <a:xfrm flipV="1">
              <a:off x="6978600" y="1325160"/>
              <a:ext cx="1800" cy="4179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9" name=""/>
            <p:cNvSpPr/>
            <p:nvPr/>
          </p:nvSpPr>
          <p:spPr>
            <a:xfrm flipH="1">
              <a:off x="1990440" y="1333440"/>
              <a:ext cx="49798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0" name=""/>
            <p:cNvSpPr/>
            <p:nvPr/>
          </p:nvSpPr>
          <p:spPr>
            <a:xfrm>
              <a:off x="2014560" y="4037040"/>
              <a:ext cx="1952640" cy="1440"/>
            </a:xfrm>
            <a:custGeom>
              <a:avLst/>
              <a:gdLst/>
              <a:ahLst/>
              <a:rect l="l" t="t" r="r" b="b"/>
              <a:pathLst>
                <a:path w="1230" h="1">
                  <a:moveTo>
                    <a:pt x="1230" y="0"/>
                  </a:move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1" name=""/>
            <p:cNvSpPr/>
            <p:nvPr/>
          </p:nvSpPr>
          <p:spPr>
            <a:xfrm flipV="1">
              <a:off x="2008080" y="1333080"/>
              <a:ext cx="1800" cy="2693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2" name=""/>
            <p:cNvSpPr/>
            <p:nvPr/>
          </p:nvSpPr>
          <p:spPr>
            <a:xfrm flipV="1">
              <a:off x="3976560" y="4044600"/>
              <a:ext cx="1800" cy="1452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3" name=""/>
            <p:cNvSpPr/>
            <p:nvPr/>
          </p:nvSpPr>
          <p:spPr>
            <a:xfrm>
              <a:off x="2860560" y="1243080"/>
              <a:ext cx="6142320" cy="4244760"/>
            </a:xfrm>
            <a:custGeom>
              <a:avLst/>
              <a:gdLst/>
              <a:ahLst/>
              <a:rect l="l" t="t" r="r" b="b"/>
              <a:pathLst>
                <a:path w="3869" h="2674">
                  <a:moveTo>
                    <a:pt x="0" y="2674"/>
                  </a:moveTo>
                  <a:cubicBezTo>
                    <a:pt x="18" y="2641"/>
                    <a:pt x="72" y="2581"/>
                    <a:pt x="114" y="2474"/>
                  </a:cubicBezTo>
                  <a:cubicBezTo>
                    <a:pt x="156" y="2367"/>
                    <a:pt x="193" y="2204"/>
                    <a:pt x="251" y="2034"/>
                  </a:cubicBezTo>
                  <a:cubicBezTo>
                    <a:pt x="309" y="1864"/>
                    <a:pt x="369" y="1651"/>
                    <a:pt x="463" y="1451"/>
                  </a:cubicBezTo>
                  <a:cubicBezTo>
                    <a:pt x="557" y="1251"/>
                    <a:pt x="705" y="994"/>
                    <a:pt x="817" y="834"/>
                  </a:cubicBezTo>
                  <a:cubicBezTo>
                    <a:pt x="929" y="674"/>
                    <a:pt x="1036" y="581"/>
                    <a:pt x="1137" y="491"/>
                  </a:cubicBezTo>
                  <a:cubicBezTo>
                    <a:pt x="1238" y="401"/>
                    <a:pt x="1330" y="352"/>
                    <a:pt x="1423" y="297"/>
                  </a:cubicBezTo>
                  <a:cubicBezTo>
                    <a:pt x="1516" y="242"/>
                    <a:pt x="1565" y="204"/>
                    <a:pt x="1697" y="160"/>
                  </a:cubicBezTo>
                  <a:cubicBezTo>
                    <a:pt x="1829" y="116"/>
                    <a:pt x="1933" y="59"/>
                    <a:pt x="2217" y="34"/>
                  </a:cubicBezTo>
                  <a:cubicBezTo>
                    <a:pt x="2501" y="9"/>
                    <a:pt x="3125" y="17"/>
                    <a:pt x="3400" y="11"/>
                  </a:cubicBezTo>
                  <a:cubicBezTo>
                    <a:pt x="3675" y="5"/>
                    <a:pt x="3771" y="2"/>
                    <a:pt x="3869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4" name=""/>
            <p:cNvSpPr/>
            <p:nvPr/>
          </p:nvSpPr>
          <p:spPr>
            <a:xfrm>
              <a:off x="8240760" y="1233360"/>
              <a:ext cx="1440" cy="4264200"/>
            </a:xfrm>
            <a:custGeom>
              <a:avLst/>
              <a:gdLst/>
              <a:ahLst/>
              <a:rect l="l" t="t" r="r" b="b"/>
              <a:pathLst>
                <a:path w="1" h="2686">
                  <a:moveTo>
                    <a:pt x="0" y="2686"/>
                  </a:move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5" name=""/>
            <p:cNvSpPr/>
            <p:nvPr/>
          </p:nvSpPr>
          <p:spPr>
            <a:xfrm flipH="1">
              <a:off x="1634760" y="1252440"/>
              <a:ext cx="66135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6" name=""/>
            <p:cNvSpPr/>
            <p:nvPr/>
          </p:nvSpPr>
          <p:spPr>
            <a:xfrm>
              <a:off x="2867040" y="1496880"/>
              <a:ext cx="3495600" cy="3981600"/>
            </a:xfrm>
            <a:custGeom>
              <a:avLst/>
              <a:gdLst/>
              <a:ahLst/>
              <a:rect l="l" t="t" r="r" b="b"/>
              <a:pathLst>
                <a:path w="2202" h="2508">
                  <a:moveTo>
                    <a:pt x="0" y="2508"/>
                  </a:moveTo>
                  <a:cubicBezTo>
                    <a:pt x="25" y="2492"/>
                    <a:pt x="104" y="2450"/>
                    <a:pt x="148" y="2410"/>
                  </a:cubicBezTo>
                  <a:cubicBezTo>
                    <a:pt x="192" y="2370"/>
                    <a:pt x="221" y="2338"/>
                    <a:pt x="264" y="2265"/>
                  </a:cubicBezTo>
                  <a:cubicBezTo>
                    <a:pt x="307" y="2192"/>
                    <a:pt x="335" y="2129"/>
                    <a:pt x="407" y="1971"/>
                  </a:cubicBezTo>
                  <a:cubicBezTo>
                    <a:pt x="479" y="1813"/>
                    <a:pt x="610" y="1499"/>
                    <a:pt x="699" y="1314"/>
                  </a:cubicBezTo>
                  <a:cubicBezTo>
                    <a:pt x="788" y="1129"/>
                    <a:pt x="856" y="991"/>
                    <a:pt x="944" y="863"/>
                  </a:cubicBezTo>
                  <a:cubicBezTo>
                    <a:pt x="1032" y="735"/>
                    <a:pt x="1101" y="655"/>
                    <a:pt x="1225" y="548"/>
                  </a:cubicBezTo>
                  <a:cubicBezTo>
                    <a:pt x="1349" y="441"/>
                    <a:pt x="1552" y="303"/>
                    <a:pt x="1687" y="223"/>
                  </a:cubicBezTo>
                  <a:cubicBezTo>
                    <a:pt x="1822" y="143"/>
                    <a:pt x="1950" y="105"/>
                    <a:pt x="2036" y="68"/>
                  </a:cubicBezTo>
                  <a:cubicBezTo>
                    <a:pt x="2122" y="31"/>
                    <a:pt x="2174" y="11"/>
                    <a:pt x="2202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7" name=""/>
            <p:cNvSpPr/>
            <p:nvPr/>
          </p:nvSpPr>
          <p:spPr>
            <a:xfrm flipH="1">
              <a:off x="1627200" y="3573360"/>
              <a:ext cx="23400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8" name=""/>
            <p:cNvSpPr/>
            <p:nvPr/>
          </p:nvSpPr>
          <p:spPr>
            <a:xfrm flipV="1">
              <a:off x="3976560" y="3582720"/>
              <a:ext cx="1800" cy="1904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9" name=""/>
            <p:cNvSpPr/>
            <p:nvPr/>
          </p:nvSpPr>
          <p:spPr>
            <a:xfrm flipV="1">
              <a:off x="1627200" y="1260360"/>
              <a:ext cx="1440" cy="2332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0" name=""/>
            <p:cNvSpPr/>
            <p:nvPr/>
          </p:nvSpPr>
          <p:spPr>
            <a:xfrm>
              <a:off x="2841480" y="1160640"/>
              <a:ext cx="0" cy="4336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1" name=""/>
            <p:cNvSpPr/>
            <p:nvPr/>
          </p:nvSpPr>
          <p:spPr>
            <a:xfrm flipV="1">
              <a:off x="2841480" y="5497560"/>
              <a:ext cx="5807160" cy="7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2" name=""/>
            <p:cNvSpPr/>
            <p:nvPr/>
          </p:nvSpPr>
          <p:spPr>
            <a:xfrm>
              <a:off x="8586720" y="5258160"/>
              <a:ext cx="5572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600" spc="-1" strike="noStrike">
                  <a:solidFill>
                    <a:srgbClr val="000000"/>
                  </a:solidFill>
                  <a:latin typeface="Times New Roman"/>
                </a:rPr>
                <a:t>PO</a:t>
              </a:r>
              <a:r>
                <a:rPr b="0" lang="cs-CZ" sz="1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3" name=""/>
            <p:cNvSpPr/>
            <p:nvPr/>
          </p:nvSpPr>
          <p:spPr>
            <a:xfrm>
              <a:off x="1676520" y="756000"/>
              <a:ext cx="22255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600" spc="-1" strike="noStrike">
                  <a:solidFill>
                    <a:srgbClr val="000000"/>
                  </a:solidFill>
                  <a:latin typeface="Times New Roman"/>
                </a:rPr>
                <a:t>Celková koncentrace O</a:t>
              </a:r>
              <a:r>
                <a:rPr b="0" lang="cs-CZ" sz="1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4" name=""/>
            <p:cNvSpPr/>
            <p:nvPr/>
          </p:nvSpPr>
          <p:spPr>
            <a:xfrm>
              <a:off x="7451640" y="5535000"/>
              <a:ext cx="1692360" cy="61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600" spc="-1" strike="noStrike">
                  <a:solidFill>
                    <a:srgbClr val="000000"/>
                  </a:solidFill>
                  <a:latin typeface="Times New Roman"/>
                </a:rPr>
                <a:t>Vysoké PaO</a:t>
              </a:r>
              <a:r>
                <a:rPr b="0" lang="cs-CZ" sz="1600" spc="-1" strike="noStrike" baseline="-25000">
                  <a:solidFill>
                    <a:srgbClr val="000000"/>
                  </a:solidFill>
                  <a:latin typeface="Times New Roman"/>
                </a:rPr>
                <a:t>2 </a:t>
              </a:r>
              <a:r>
                <a:rPr b="0" lang="cs-CZ" sz="1600" spc="-1" strike="noStrike">
                  <a:solidFill>
                    <a:srgbClr val="000000"/>
                  </a:solidFill>
                  <a:latin typeface="Times New Roman"/>
                </a:rPr>
                <a:t>při hyperventilac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5" name=""/>
            <p:cNvSpPr/>
            <p:nvPr/>
          </p:nvSpPr>
          <p:spPr>
            <a:xfrm>
              <a:off x="3914640" y="5575680"/>
              <a:ext cx="8938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600" spc="-1" strike="noStrike">
                  <a:solidFill>
                    <a:srgbClr val="000000"/>
                  </a:solidFill>
                  <a:latin typeface="Times New Roman"/>
                </a:rPr>
                <a:t>PvO</a:t>
              </a:r>
              <a:r>
                <a:rPr b="0" lang="cs-CZ" sz="1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6" name=""/>
            <p:cNvSpPr/>
            <p:nvPr/>
          </p:nvSpPr>
          <p:spPr>
            <a:xfrm>
              <a:off x="4724280" y="236520"/>
              <a:ext cx="2141640" cy="816120"/>
            </a:xfrm>
            <a:prstGeom prst="wedgeEllipseCallout">
              <a:avLst>
                <a:gd name="adj1" fmla="val 54967"/>
                <a:gd name="adj2" fmla="val 83657"/>
              </a:avLst>
            </a:prstGeom>
            <a:solidFill>
              <a:srgbClr val="cc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600" spc="-1" strike="noStrike">
                  <a:solidFill>
                    <a:srgbClr val="000000"/>
                  </a:solidFill>
                  <a:latin typeface="Times New Roman"/>
                </a:rPr>
                <a:t>Arteriální krev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600" spc="-1" strike="noStrike">
                  <a:solidFill>
                    <a:srgbClr val="000000"/>
                  </a:solidFill>
                  <a:latin typeface="Times New Roman"/>
                </a:rPr>
                <a:t>při pH=7,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7" name=""/>
            <p:cNvSpPr/>
            <p:nvPr/>
          </p:nvSpPr>
          <p:spPr>
            <a:xfrm>
              <a:off x="4791240" y="4043520"/>
              <a:ext cx="1823760" cy="680760"/>
            </a:xfrm>
            <a:prstGeom prst="wedgeEllipseCallout">
              <a:avLst>
                <a:gd name="adj1" fmla="val -94560"/>
                <a:gd name="adj2" fmla="val -50930"/>
              </a:avLst>
            </a:prstGeom>
            <a:solidFill>
              <a:srgbClr val="cc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600" spc="-1" strike="noStrike">
                  <a:solidFill>
                    <a:srgbClr val="000000"/>
                  </a:solidFill>
                  <a:latin typeface="Times New Roman"/>
                </a:rPr>
                <a:t>Venózní krev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600" spc="-1" strike="noStrike">
                  <a:solidFill>
                    <a:srgbClr val="000000"/>
                  </a:solidFill>
                  <a:latin typeface="Times New Roman"/>
                </a:rPr>
                <a:t>při pH=7,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8" name=""/>
            <p:cNvSpPr/>
            <p:nvPr/>
          </p:nvSpPr>
          <p:spPr>
            <a:xfrm>
              <a:off x="5716440" y="5509080"/>
              <a:ext cx="16923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600" spc="-1" strike="noStrike">
                  <a:solidFill>
                    <a:srgbClr val="000000"/>
                  </a:solidFill>
                  <a:latin typeface="Times New Roman"/>
                </a:rPr>
                <a:t>normální PaO</a:t>
              </a:r>
              <a:r>
                <a:rPr b="0" lang="cs-CZ" sz="1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9" name=""/>
            <p:cNvSpPr/>
            <p:nvPr/>
          </p:nvSpPr>
          <p:spPr>
            <a:xfrm>
              <a:off x="5005440" y="2382840"/>
              <a:ext cx="1778040" cy="1052640"/>
            </a:xfrm>
            <a:prstGeom prst="wedgeEllipseCallout">
              <a:avLst>
                <a:gd name="adj1" fmla="val -105268"/>
                <a:gd name="adj2" fmla="val 62365"/>
              </a:avLst>
            </a:prstGeom>
            <a:solidFill>
              <a:srgbClr val="cc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600" spc="-1" strike="noStrike">
                  <a:solidFill>
                    <a:srgbClr val="000000"/>
                  </a:solidFill>
                  <a:latin typeface="Times New Roman"/>
                </a:rPr>
                <a:t>Venózní krev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600" spc="-1" strike="noStrike">
                  <a:solidFill>
                    <a:srgbClr val="000000"/>
                  </a:solidFill>
                  <a:latin typeface="Times New Roman"/>
                </a:rPr>
                <a:t>při pH=7,3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600" spc="-1" strike="noStrike">
                  <a:solidFill>
                    <a:srgbClr val="000000"/>
                  </a:solidFill>
                  <a:latin typeface="Times New Roman"/>
                </a:rPr>
                <a:t>(resp. alkalóza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0" name=""/>
            <p:cNvSpPr/>
            <p:nvPr/>
          </p:nvSpPr>
          <p:spPr>
            <a:xfrm>
              <a:off x="6819840" y="0"/>
              <a:ext cx="2311560" cy="852480"/>
            </a:xfrm>
            <a:prstGeom prst="wedgeEllipseCallout">
              <a:avLst>
                <a:gd name="adj1" fmla="val 11124"/>
                <a:gd name="adj2" fmla="val 95810"/>
              </a:avLst>
            </a:prstGeom>
            <a:solidFill>
              <a:srgbClr val="cc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600" spc="-1" strike="noStrike">
                  <a:solidFill>
                    <a:srgbClr val="000000"/>
                  </a:solidFill>
                  <a:latin typeface="Times New Roman"/>
                </a:rPr>
                <a:t>Arteriální krev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600" spc="-1" strike="noStrike">
                  <a:solidFill>
                    <a:srgbClr val="000000"/>
                  </a:solidFill>
                  <a:latin typeface="Times New Roman"/>
                </a:rPr>
                <a:t>při pH=7,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600" spc="-1" strike="noStrike">
                  <a:solidFill>
                    <a:srgbClr val="000000"/>
                  </a:solidFill>
                  <a:latin typeface="Times New Roman"/>
                </a:rPr>
                <a:t>(resp. alkalóza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1" name=""/>
            <p:cNvSpPr/>
            <p:nvPr/>
          </p:nvSpPr>
          <p:spPr>
            <a:xfrm>
              <a:off x="2289240" y="1477800"/>
              <a:ext cx="2058840" cy="925560"/>
            </a:xfrm>
            <a:prstGeom prst="wedgeRoundRectCallout">
              <a:avLst>
                <a:gd name="adj1" fmla="val -64032"/>
                <a:gd name="adj2" fmla="val 129930"/>
                <a:gd name="adj3" fmla="val 16667"/>
              </a:avLst>
            </a:prstGeom>
            <a:solidFill>
              <a:srgbClr val="cc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600" spc="-1" strike="noStrike">
                  <a:solidFill>
                    <a:srgbClr val="000000"/>
                  </a:solidFill>
                  <a:latin typeface="Times New Roman"/>
                </a:rPr>
                <a:t>Uvolňování kyslík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1600" spc="-1" strike="noStrike">
                  <a:solidFill>
                    <a:srgbClr val="000000"/>
                  </a:solidFill>
                  <a:latin typeface="Times New Roman"/>
                </a:rPr>
                <a:t>za normálního stav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2" name=""/>
            <p:cNvSpPr/>
            <p:nvPr/>
          </p:nvSpPr>
          <p:spPr>
            <a:xfrm>
              <a:off x="0" y="138240"/>
              <a:ext cx="1778040" cy="925560"/>
            </a:xfrm>
            <a:prstGeom prst="wedgeRoundRectCallout">
              <a:avLst>
                <a:gd name="adj1" fmla="val 41962"/>
                <a:gd name="adj2" fmla="val 194254"/>
                <a:gd name="adj3" fmla="val 16667"/>
              </a:avLst>
            </a:prstGeom>
            <a:solidFill>
              <a:srgbClr val="cc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600" spc="-1" strike="noStrike">
                  <a:solidFill>
                    <a:srgbClr val="000000"/>
                  </a:solidFill>
                  <a:latin typeface="Times New Roman"/>
                </a:rPr>
                <a:t>Uvolňování kyslík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1600" spc="-1" strike="noStrike">
                  <a:solidFill>
                    <a:srgbClr val="000000"/>
                  </a:solidFill>
                  <a:latin typeface="Times New Roman"/>
                </a:rPr>
                <a:t>při akutní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600" spc="-1" strike="noStrike">
                  <a:solidFill>
                    <a:srgbClr val="000000"/>
                  </a:solidFill>
                  <a:latin typeface="Times New Roman"/>
                </a:rPr>
                <a:t>respirační alkalóz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3" name=""/>
            <p:cNvSpPr/>
            <p:nvPr/>
          </p:nvSpPr>
          <p:spPr>
            <a:xfrm>
              <a:off x="2313000" y="3473280"/>
              <a:ext cx="162000" cy="635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4" name=""/>
            <p:cNvSpPr/>
            <p:nvPr/>
          </p:nvSpPr>
          <p:spPr>
            <a:xfrm>
              <a:off x="423720" y="5226120"/>
              <a:ext cx="1778040" cy="1152360"/>
            </a:xfrm>
            <a:prstGeom prst="wedgeRoundRectCallout">
              <a:avLst>
                <a:gd name="adj1" fmla="val 60356"/>
                <a:gd name="adj2" fmla="val -146004"/>
                <a:gd name="adj3" fmla="val 16667"/>
              </a:avLst>
            </a:prstGeom>
            <a:solidFill>
              <a:srgbClr val="cc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600" spc="-1" strike="noStrike">
                  <a:solidFill>
                    <a:srgbClr val="000000"/>
                  </a:solidFill>
                  <a:latin typeface="Times New Roman"/>
                </a:rPr>
                <a:t>Snížení dodávk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1600" spc="-1" strike="noStrike">
                  <a:solidFill>
                    <a:srgbClr val="000000"/>
                  </a:solidFill>
                  <a:latin typeface="Times New Roman"/>
                </a:rPr>
                <a:t>kyslíku tkání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1600" spc="-1" strike="noStrike">
                  <a:solidFill>
                    <a:srgbClr val="000000"/>
                  </a:solidFill>
                  <a:latin typeface="Times New Roman"/>
                </a:rPr>
                <a:t>při akutní respirační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600" spc="-1" strike="noStrike">
                  <a:solidFill>
                    <a:srgbClr val="000000"/>
                  </a:solidFill>
                  <a:latin typeface="Times New Roman"/>
                </a:rPr>
                <a:t>alkalóz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75" name=""/>
          <p:cNvGrpSpPr/>
          <p:nvPr/>
        </p:nvGrpSpPr>
        <p:grpSpPr>
          <a:xfrm>
            <a:off x="142200" y="196200"/>
            <a:ext cx="8355600" cy="6108480"/>
            <a:chOff x="142200" y="196200"/>
            <a:chExt cx="8355600" cy="6108480"/>
          </a:xfrm>
        </p:grpSpPr>
        <p:sp>
          <p:nvSpPr>
            <p:cNvPr id="11676" name=""/>
            <p:cNvSpPr/>
            <p:nvPr/>
          </p:nvSpPr>
          <p:spPr>
            <a:xfrm>
              <a:off x="2163600" y="3489480"/>
              <a:ext cx="2163960" cy="1618920"/>
            </a:xfrm>
            <a:custGeom>
              <a:avLst/>
              <a:gdLst/>
              <a:ahLst/>
              <a:rect l="l" t="t" r="r" b="b"/>
              <a:pathLst>
                <a:path w="1363" h="1020">
                  <a:moveTo>
                    <a:pt x="1030" y="0"/>
                  </a:moveTo>
                  <a:cubicBezTo>
                    <a:pt x="931" y="41"/>
                    <a:pt x="847" y="229"/>
                    <a:pt x="768" y="317"/>
                  </a:cubicBezTo>
                  <a:cubicBezTo>
                    <a:pt x="689" y="405"/>
                    <a:pt x="641" y="450"/>
                    <a:pt x="557" y="528"/>
                  </a:cubicBezTo>
                  <a:cubicBezTo>
                    <a:pt x="473" y="606"/>
                    <a:pt x="360" y="706"/>
                    <a:pt x="267" y="788"/>
                  </a:cubicBezTo>
                  <a:cubicBezTo>
                    <a:pt x="174" y="870"/>
                    <a:pt x="118" y="922"/>
                    <a:pt x="0" y="1020"/>
                  </a:cubicBezTo>
                  <a:cubicBezTo>
                    <a:pt x="111" y="1018"/>
                    <a:pt x="195" y="1018"/>
                    <a:pt x="267" y="1016"/>
                  </a:cubicBezTo>
                  <a:cubicBezTo>
                    <a:pt x="379" y="932"/>
                    <a:pt x="586" y="755"/>
                    <a:pt x="694" y="665"/>
                  </a:cubicBezTo>
                  <a:cubicBezTo>
                    <a:pt x="802" y="575"/>
                    <a:pt x="853" y="531"/>
                    <a:pt x="917" y="476"/>
                  </a:cubicBezTo>
                  <a:cubicBezTo>
                    <a:pt x="981" y="421"/>
                    <a:pt x="1027" y="381"/>
                    <a:pt x="1078" y="334"/>
                  </a:cubicBezTo>
                  <a:cubicBezTo>
                    <a:pt x="1129" y="287"/>
                    <a:pt x="1176" y="241"/>
                    <a:pt x="1224" y="197"/>
                  </a:cubicBezTo>
                  <a:lnTo>
                    <a:pt x="1363" y="70"/>
                  </a:lnTo>
                  <a:lnTo>
                    <a:pt x="1030" y="0"/>
                  </a:lnTo>
                  <a:close/>
                </a:path>
              </a:pathLst>
            </a:custGeom>
            <a:solidFill>
              <a:srgbClr val="b2b2b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7" name=""/>
            <p:cNvSpPr/>
            <p:nvPr/>
          </p:nvSpPr>
          <p:spPr>
            <a:xfrm>
              <a:off x="4530600" y="1343160"/>
              <a:ext cx="3189240" cy="1822320"/>
            </a:xfrm>
            <a:custGeom>
              <a:avLst/>
              <a:gdLst/>
              <a:ahLst/>
              <a:rect l="l" t="t" r="r" b="b"/>
              <a:pathLst>
                <a:path w="2009" h="1148">
                  <a:moveTo>
                    <a:pt x="38" y="811"/>
                  </a:moveTo>
                  <a:cubicBezTo>
                    <a:pt x="30" y="770"/>
                    <a:pt x="0" y="826"/>
                    <a:pt x="329" y="691"/>
                  </a:cubicBezTo>
                  <a:lnTo>
                    <a:pt x="2009" y="0"/>
                  </a:lnTo>
                  <a:lnTo>
                    <a:pt x="2009" y="742"/>
                  </a:lnTo>
                  <a:lnTo>
                    <a:pt x="941" y="1148"/>
                  </a:lnTo>
                  <a:lnTo>
                    <a:pt x="38" y="1137"/>
                  </a:lnTo>
                  <a:lnTo>
                    <a:pt x="38" y="811"/>
                  </a:lnTo>
                  <a:close/>
                </a:path>
              </a:pathLst>
            </a:custGeom>
            <a:solidFill>
              <a:srgbClr val="b2b2b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8" name=""/>
            <p:cNvSpPr/>
            <p:nvPr/>
          </p:nvSpPr>
          <p:spPr>
            <a:xfrm>
              <a:off x="4154400" y="465120"/>
              <a:ext cx="2028960" cy="2836800"/>
            </a:xfrm>
            <a:custGeom>
              <a:avLst/>
              <a:gdLst/>
              <a:ahLst/>
              <a:rect l="l" t="t" r="r" b="b"/>
              <a:pathLst>
                <a:path w="1278" h="1787">
                  <a:moveTo>
                    <a:pt x="0" y="1673"/>
                  </a:moveTo>
                  <a:lnTo>
                    <a:pt x="189" y="1341"/>
                  </a:lnTo>
                  <a:cubicBezTo>
                    <a:pt x="283" y="1169"/>
                    <a:pt x="458" y="843"/>
                    <a:pt x="566" y="638"/>
                  </a:cubicBezTo>
                  <a:cubicBezTo>
                    <a:pt x="674" y="433"/>
                    <a:pt x="781" y="213"/>
                    <a:pt x="835" y="107"/>
                  </a:cubicBezTo>
                  <a:lnTo>
                    <a:pt x="892" y="0"/>
                  </a:lnTo>
                  <a:lnTo>
                    <a:pt x="1278" y="2"/>
                  </a:lnTo>
                  <a:lnTo>
                    <a:pt x="1052" y="433"/>
                  </a:lnTo>
                  <a:cubicBezTo>
                    <a:pt x="925" y="674"/>
                    <a:pt x="635" y="1224"/>
                    <a:pt x="515" y="1450"/>
                  </a:cubicBezTo>
                  <a:lnTo>
                    <a:pt x="332" y="1787"/>
                  </a:lnTo>
                  <a:lnTo>
                    <a:pt x="0" y="1673"/>
                  </a:lnTo>
                  <a:close/>
                </a:path>
              </a:pathLst>
            </a:custGeom>
            <a:solidFill>
              <a:srgbClr val="b2b2b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9" name=""/>
            <p:cNvSpPr/>
            <p:nvPr/>
          </p:nvSpPr>
          <p:spPr>
            <a:xfrm>
              <a:off x="1397160" y="3546360"/>
              <a:ext cx="2576520" cy="1451160"/>
            </a:xfrm>
            <a:custGeom>
              <a:avLst/>
              <a:gdLst/>
              <a:ahLst/>
              <a:rect l="l" t="t" r="r" b="b"/>
              <a:pathLst>
                <a:path w="1623" h="914">
                  <a:moveTo>
                    <a:pt x="1206" y="23"/>
                  </a:moveTo>
                  <a:lnTo>
                    <a:pt x="0" y="680"/>
                  </a:lnTo>
                  <a:lnTo>
                    <a:pt x="0" y="914"/>
                  </a:lnTo>
                  <a:lnTo>
                    <a:pt x="1623" y="0"/>
                  </a:lnTo>
                </a:path>
              </a:pathLst>
            </a:custGeom>
            <a:solidFill>
              <a:srgbClr val="b2b2b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0" name=""/>
            <p:cNvSpPr/>
            <p:nvPr/>
          </p:nvSpPr>
          <p:spPr>
            <a:xfrm>
              <a:off x="1442880" y="453960"/>
              <a:ext cx="6604200" cy="4648320"/>
            </a:xfrm>
            <a:custGeom>
              <a:avLst/>
              <a:gdLst/>
              <a:ahLst/>
              <a:rect l="l" t="t" r="r" b="b"/>
              <a:pathLst>
                <a:path w="4160" h="2928">
                  <a:moveTo>
                    <a:pt x="0" y="1645"/>
                  </a:moveTo>
                  <a:lnTo>
                    <a:pt x="1611" y="1645"/>
                  </a:lnTo>
                  <a:lnTo>
                    <a:pt x="1617" y="1451"/>
                  </a:lnTo>
                  <a:cubicBezTo>
                    <a:pt x="1600" y="1366"/>
                    <a:pt x="1537" y="1273"/>
                    <a:pt x="1508" y="1137"/>
                  </a:cubicBezTo>
                  <a:cubicBezTo>
                    <a:pt x="1479" y="1001"/>
                    <a:pt x="1466" y="783"/>
                    <a:pt x="1440" y="634"/>
                  </a:cubicBezTo>
                  <a:cubicBezTo>
                    <a:pt x="1414" y="485"/>
                    <a:pt x="1388" y="345"/>
                    <a:pt x="1354" y="240"/>
                  </a:cubicBezTo>
                  <a:lnTo>
                    <a:pt x="1234" y="2"/>
                  </a:lnTo>
                  <a:lnTo>
                    <a:pt x="1472" y="0"/>
                  </a:lnTo>
                  <a:cubicBezTo>
                    <a:pt x="1534" y="62"/>
                    <a:pt x="1570" y="242"/>
                    <a:pt x="1605" y="377"/>
                  </a:cubicBezTo>
                  <a:cubicBezTo>
                    <a:pt x="1640" y="512"/>
                    <a:pt x="1657" y="692"/>
                    <a:pt x="1680" y="811"/>
                  </a:cubicBezTo>
                  <a:cubicBezTo>
                    <a:pt x="1703" y="930"/>
                    <a:pt x="1712" y="982"/>
                    <a:pt x="1743" y="1091"/>
                  </a:cubicBezTo>
                  <a:cubicBezTo>
                    <a:pt x="1774" y="1200"/>
                    <a:pt x="1829" y="1376"/>
                    <a:pt x="1868" y="1468"/>
                  </a:cubicBezTo>
                  <a:lnTo>
                    <a:pt x="1977" y="1645"/>
                  </a:lnTo>
                  <a:lnTo>
                    <a:pt x="2926" y="1651"/>
                  </a:lnTo>
                  <a:lnTo>
                    <a:pt x="4160" y="1657"/>
                  </a:lnTo>
                  <a:lnTo>
                    <a:pt x="4160" y="2000"/>
                  </a:lnTo>
                  <a:lnTo>
                    <a:pt x="1926" y="2000"/>
                  </a:lnTo>
                  <a:lnTo>
                    <a:pt x="1914" y="2422"/>
                  </a:lnTo>
                  <a:lnTo>
                    <a:pt x="1913" y="2928"/>
                  </a:lnTo>
                  <a:lnTo>
                    <a:pt x="1611" y="2925"/>
                  </a:lnTo>
                  <a:lnTo>
                    <a:pt x="1605" y="2005"/>
                  </a:lnTo>
                  <a:lnTo>
                    <a:pt x="0" y="2005"/>
                  </a:lnTo>
                  <a:lnTo>
                    <a:pt x="0" y="1645"/>
                  </a:lnTo>
                  <a:close/>
                </a:path>
              </a:pathLst>
            </a:custGeom>
            <a:solidFill>
              <a:srgbClr val="ffff6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1" name=""/>
            <p:cNvSpPr/>
            <p:nvPr/>
          </p:nvSpPr>
          <p:spPr>
            <a:xfrm>
              <a:off x="1274760" y="5678640"/>
              <a:ext cx="6989760" cy="6120"/>
            </a:xfrm>
            <a:custGeom>
              <a:avLst/>
              <a:gdLst/>
              <a:ahLst/>
              <a:rect l="l" t="t" r="r" b="b"/>
              <a:pathLst>
                <a:path w="4403" h="4">
                  <a:moveTo>
                    <a:pt x="0" y="4"/>
                  </a:moveTo>
                  <a:lnTo>
                    <a:pt x="4403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2" name=""/>
            <p:cNvSpPr/>
            <p:nvPr/>
          </p:nvSpPr>
          <p:spPr>
            <a:xfrm flipV="1">
              <a:off x="1274760" y="5092200"/>
              <a:ext cx="6985080" cy="17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3" name=""/>
            <p:cNvSpPr/>
            <p:nvPr/>
          </p:nvSpPr>
          <p:spPr>
            <a:xfrm>
              <a:off x="1290600" y="4521240"/>
              <a:ext cx="69771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4" name=""/>
            <p:cNvSpPr/>
            <p:nvPr/>
          </p:nvSpPr>
          <p:spPr>
            <a:xfrm>
              <a:off x="1281240" y="3927600"/>
              <a:ext cx="698796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5" name=""/>
            <p:cNvSpPr/>
            <p:nvPr/>
          </p:nvSpPr>
          <p:spPr>
            <a:xfrm>
              <a:off x="1290600" y="3373560"/>
              <a:ext cx="69645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6" name=""/>
            <p:cNvSpPr/>
            <p:nvPr/>
          </p:nvSpPr>
          <p:spPr>
            <a:xfrm>
              <a:off x="1295280" y="2790720"/>
              <a:ext cx="69613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7" name=""/>
            <p:cNvSpPr/>
            <p:nvPr/>
          </p:nvSpPr>
          <p:spPr>
            <a:xfrm flipV="1">
              <a:off x="1268280" y="2198160"/>
              <a:ext cx="7004160" cy="9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8" name=""/>
            <p:cNvSpPr/>
            <p:nvPr/>
          </p:nvSpPr>
          <p:spPr>
            <a:xfrm flipV="1">
              <a:off x="1292400" y="1607760"/>
              <a:ext cx="6968880" cy="9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9" name=""/>
            <p:cNvSpPr/>
            <p:nvPr/>
          </p:nvSpPr>
          <p:spPr>
            <a:xfrm flipV="1">
              <a:off x="1274760" y="1014480"/>
              <a:ext cx="6975360" cy="9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0" name=""/>
            <p:cNvSpPr/>
            <p:nvPr/>
          </p:nvSpPr>
          <p:spPr>
            <a:xfrm>
              <a:off x="1287360" y="457200"/>
              <a:ext cx="6970680" cy="11160"/>
            </a:xfrm>
            <a:custGeom>
              <a:avLst/>
              <a:gdLst/>
              <a:ahLst/>
              <a:rect l="l" t="t" r="r" b="b"/>
              <a:pathLst>
                <a:path w="4391" h="7">
                  <a:moveTo>
                    <a:pt x="0" y="0"/>
                  </a:moveTo>
                  <a:lnTo>
                    <a:pt x="4391" y="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1" name=""/>
            <p:cNvSpPr/>
            <p:nvPr/>
          </p:nvSpPr>
          <p:spPr>
            <a:xfrm>
              <a:off x="1284120" y="460440"/>
              <a:ext cx="1800" cy="5232240"/>
            </a:xfrm>
            <a:custGeom>
              <a:avLst/>
              <a:gdLst/>
              <a:ahLst/>
              <a:rect l="l" t="t" r="r" b="b"/>
              <a:pathLst>
                <a:path w="1" h="3296">
                  <a:moveTo>
                    <a:pt x="0" y="0"/>
                  </a:moveTo>
                  <a:lnTo>
                    <a:pt x="0" y="329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2" name=""/>
            <p:cNvSpPr/>
            <p:nvPr/>
          </p:nvSpPr>
          <p:spPr>
            <a:xfrm>
              <a:off x="1874880" y="460440"/>
              <a:ext cx="3240" cy="5222880"/>
            </a:xfrm>
            <a:custGeom>
              <a:avLst/>
              <a:gdLst/>
              <a:ahLst/>
              <a:rect l="l" t="t" r="r" b="b"/>
              <a:pathLst>
                <a:path w="2" h="3290">
                  <a:moveTo>
                    <a:pt x="0" y="0"/>
                  </a:moveTo>
                  <a:lnTo>
                    <a:pt x="2" y="329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3" name=""/>
            <p:cNvSpPr/>
            <p:nvPr/>
          </p:nvSpPr>
          <p:spPr>
            <a:xfrm>
              <a:off x="2457360" y="457200"/>
              <a:ext cx="0" cy="5243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4" name=""/>
            <p:cNvSpPr/>
            <p:nvPr/>
          </p:nvSpPr>
          <p:spPr>
            <a:xfrm>
              <a:off x="3027240" y="460440"/>
              <a:ext cx="9720" cy="5230800"/>
            </a:xfrm>
            <a:custGeom>
              <a:avLst/>
              <a:gdLst/>
              <a:ahLst/>
              <a:rect l="l" t="t" r="r" b="b"/>
              <a:pathLst>
                <a:path w="6" h="3295">
                  <a:moveTo>
                    <a:pt x="6" y="0"/>
                  </a:moveTo>
                  <a:lnTo>
                    <a:pt x="0" y="3295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5" name=""/>
            <p:cNvSpPr/>
            <p:nvPr/>
          </p:nvSpPr>
          <p:spPr>
            <a:xfrm>
              <a:off x="3622680" y="460440"/>
              <a:ext cx="1440" cy="5229000"/>
            </a:xfrm>
            <a:custGeom>
              <a:avLst/>
              <a:gdLst/>
              <a:ahLst/>
              <a:rect l="l" t="t" r="r" b="b"/>
              <a:pathLst>
                <a:path w="1" h="3294">
                  <a:moveTo>
                    <a:pt x="0" y="0"/>
                  </a:moveTo>
                  <a:lnTo>
                    <a:pt x="1" y="3294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6" name=""/>
            <p:cNvSpPr/>
            <p:nvPr/>
          </p:nvSpPr>
          <p:spPr>
            <a:xfrm>
              <a:off x="4179960" y="460440"/>
              <a:ext cx="11160" cy="5236920"/>
            </a:xfrm>
            <a:custGeom>
              <a:avLst/>
              <a:gdLst/>
              <a:ahLst/>
              <a:rect l="l" t="t" r="r" b="b"/>
              <a:pathLst>
                <a:path w="7" h="3299">
                  <a:moveTo>
                    <a:pt x="7" y="0"/>
                  </a:moveTo>
                  <a:lnTo>
                    <a:pt x="0" y="3299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7" name=""/>
            <p:cNvSpPr/>
            <p:nvPr/>
          </p:nvSpPr>
          <p:spPr>
            <a:xfrm>
              <a:off x="4781520" y="465120"/>
              <a:ext cx="3240" cy="5221440"/>
            </a:xfrm>
            <a:custGeom>
              <a:avLst/>
              <a:gdLst/>
              <a:ahLst/>
              <a:rect l="l" t="t" r="r" b="b"/>
              <a:pathLst>
                <a:path w="2" h="3289">
                  <a:moveTo>
                    <a:pt x="0" y="0"/>
                  </a:moveTo>
                  <a:lnTo>
                    <a:pt x="2" y="3289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8" name=""/>
            <p:cNvSpPr/>
            <p:nvPr/>
          </p:nvSpPr>
          <p:spPr>
            <a:xfrm>
              <a:off x="5372280" y="465120"/>
              <a:ext cx="1440" cy="5219640"/>
            </a:xfrm>
            <a:custGeom>
              <a:avLst/>
              <a:gdLst/>
              <a:ahLst/>
              <a:rect l="l" t="t" r="r" b="b"/>
              <a:pathLst>
                <a:path w="1" h="3288">
                  <a:moveTo>
                    <a:pt x="0" y="0"/>
                  </a:moveTo>
                  <a:lnTo>
                    <a:pt x="1" y="3288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9" name=""/>
            <p:cNvSpPr/>
            <p:nvPr/>
          </p:nvSpPr>
          <p:spPr>
            <a:xfrm>
              <a:off x="5924520" y="453960"/>
              <a:ext cx="1440" cy="5235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0" name=""/>
            <p:cNvSpPr/>
            <p:nvPr/>
          </p:nvSpPr>
          <p:spPr>
            <a:xfrm>
              <a:off x="6513480" y="453960"/>
              <a:ext cx="0" cy="5235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1" name=""/>
            <p:cNvSpPr/>
            <p:nvPr/>
          </p:nvSpPr>
          <p:spPr>
            <a:xfrm>
              <a:off x="7094520" y="453960"/>
              <a:ext cx="0" cy="5243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2" name=""/>
            <p:cNvSpPr/>
            <p:nvPr/>
          </p:nvSpPr>
          <p:spPr>
            <a:xfrm>
              <a:off x="7674120" y="466560"/>
              <a:ext cx="1440" cy="5229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3" name=""/>
            <p:cNvSpPr/>
            <p:nvPr/>
          </p:nvSpPr>
          <p:spPr>
            <a:xfrm>
              <a:off x="8264520" y="461880"/>
              <a:ext cx="1440" cy="5226120"/>
            </a:xfrm>
            <a:custGeom>
              <a:avLst/>
              <a:gdLst/>
              <a:ahLst/>
              <a:rect l="l" t="t" r="r" b="b"/>
              <a:pathLst>
                <a:path w="1" h="3292">
                  <a:moveTo>
                    <a:pt x="1" y="0"/>
                  </a:moveTo>
                  <a:lnTo>
                    <a:pt x="0" y="329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4" name=""/>
            <p:cNvSpPr/>
            <p:nvPr/>
          </p:nvSpPr>
          <p:spPr>
            <a:xfrm>
              <a:off x="924120" y="5740920"/>
              <a:ext cx="420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400" spc="-1" strike="noStrike">
                  <a:solidFill>
                    <a:srgbClr val="000000"/>
                  </a:solidFill>
                  <a:latin typeface="Times New Roman"/>
                </a:rPr>
                <a:t>-2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5" name=""/>
            <p:cNvSpPr/>
            <p:nvPr/>
          </p:nvSpPr>
          <p:spPr>
            <a:xfrm>
              <a:off x="1494000" y="5720400"/>
              <a:ext cx="420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400" spc="-1" strike="noStrike">
                  <a:solidFill>
                    <a:srgbClr val="000000"/>
                  </a:solidFill>
                  <a:latin typeface="Times New Roman"/>
                </a:rPr>
                <a:t>-2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6" name=""/>
            <p:cNvSpPr/>
            <p:nvPr/>
          </p:nvSpPr>
          <p:spPr>
            <a:xfrm>
              <a:off x="2082960" y="5726520"/>
              <a:ext cx="420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400" spc="-1" strike="noStrike">
                  <a:solidFill>
                    <a:srgbClr val="000000"/>
                  </a:solidFill>
                  <a:latin typeface="Times New Roman"/>
                </a:rPr>
                <a:t>-1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7" name=""/>
            <p:cNvSpPr/>
            <p:nvPr/>
          </p:nvSpPr>
          <p:spPr>
            <a:xfrm>
              <a:off x="2671920" y="5733000"/>
              <a:ext cx="420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400" spc="-1" strike="noStrike">
                  <a:solidFill>
                    <a:srgbClr val="000000"/>
                  </a:solidFill>
                  <a:latin typeface="Times New Roman"/>
                </a:rPr>
                <a:t>-1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8" name=""/>
            <p:cNvSpPr/>
            <p:nvPr/>
          </p:nvSpPr>
          <p:spPr>
            <a:xfrm>
              <a:off x="3305880" y="5739480"/>
              <a:ext cx="330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400" spc="-1" strike="noStrike">
                  <a:solidFill>
                    <a:srgbClr val="000000"/>
                  </a:solidFill>
                  <a:latin typeface="Times New Roman"/>
                </a:rPr>
                <a:t>-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9" name=""/>
            <p:cNvSpPr/>
            <p:nvPr/>
          </p:nvSpPr>
          <p:spPr>
            <a:xfrm>
              <a:off x="3933360" y="574560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0" name=""/>
            <p:cNvSpPr/>
            <p:nvPr/>
          </p:nvSpPr>
          <p:spPr>
            <a:xfrm>
              <a:off x="4512600" y="575208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1" name=""/>
            <p:cNvSpPr/>
            <p:nvPr/>
          </p:nvSpPr>
          <p:spPr>
            <a:xfrm>
              <a:off x="5056560" y="5748840"/>
              <a:ext cx="3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4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2" name=""/>
            <p:cNvSpPr/>
            <p:nvPr/>
          </p:nvSpPr>
          <p:spPr>
            <a:xfrm>
              <a:off x="5618520" y="5736240"/>
              <a:ext cx="3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4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3" name=""/>
            <p:cNvSpPr/>
            <p:nvPr/>
          </p:nvSpPr>
          <p:spPr>
            <a:xfrm>
              <a:off x="6207480" y="5761440"/>
              <a:ext cx="3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4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4" name=""/>
            <p:cNvSpPr/>
            <p:nvPr/>
          </p:nvSpPr>
          <p:spPr>
            <a:xfrm>
              <a:off x="6768000" y="5740920"/>
              <a:ext cx="3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400" spc="-1" strike="noStrike">
                  <a:solidFill>
                    <a:srgbClr val="000000"/>
                  </a:solidFill>
                  <a:latin typeface="Times New Roman"/>
                </a:rPr>
                <a:t>2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5" name=""/>
            <p:cNvSpPr/>
            <p:nvPr/>
          </p:nvSpPr>
          <p:spPr>
            <a:xfrm>
              <a:off x="7339680" y="5747400"/>
              <a:ext cx="3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400" spc="-1" strike="noStrike">
                  <a:solidFill>
                    <a:srgbClr val="000000"/>
                  </a:solidFill>
                  <a:latin typeface="Times New Roman"/>
                </a:rPr>
                <a:t>3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6" name=""/>
            <p:cNvSpPr/>
            <p:nvPr/>
          </p:nvSpPr>
          <p:spPr>
            <a:xfrm>
              <a:off x="949680" y="4929840"/>
              <a:ext cx="3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4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7" name=""/>
            <p:cNvSpPr/>
            <p:nvPr/>
          </p:nvSpPr>
          <p:spPr>
            <a:xfrm>
              <a:off x="948240" y="4356720"/>
              <a:ext cx="3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4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8" name=""/>
            <p:cNvSpPr/>
            <p:nvPr/>
          </p:nvSpPr>
          <p:spPr>
            <a:xfrm>
              <a:off x="945000" y="3783600"/>
              <a:ext cx="3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400" spc="-1" strike="noStrike">
                  <a:solidFill>
                    <a:srgbClr val="000000"/>
                  </a:solidFill>
                  <a:latin typeface="Times New Roman"/>
                </a:rPr>
                <a:t>3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9" name=""/>
            <p:cNvSpPr/>
            <p:nvPr/>
          </p:nvSpPr>
          <p:spPr>
            <a:xfrm>
              <a:off x="943560" y="3181680"/>
              <a:ext cx="3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400" spc="-1" strike="noStrike">
                  <a:solidFill>
                    <a:srgbClr val="000000"/>
                  </a:solidFill>
                  <a:latin typeface="Times New Roman"/>
                </a:rPr>
                <a:t>4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0" name=""/>
            <p:cNvSpPr/>
            <p:nvPr/>
          </p:nvSpPr>
          <p:spPr>
            <a:xfrm>
              <a:off x="951480" y="2608920"/>
              <a:ext cx="3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400" spc="-1" strike="noStrike">
                  <a:solidFill>
                    <a:srgbClr val="000000"/>
                  </a:solidFill>
                  <a:latin typeface="Times New Roman"/>
                </a:rPr>
                <a:t>5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1" name=""/>
            <p:cNvSpPr/>
            <p:nvPr/>
          </p:nvSpPr>
          <p:spPr>
            <a:xfrm>
              <a:off x="959400" y="2035800"/>
              <a:ext cx="3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400" spc="-1" strike="noStrike">
                  <a:solidFill>
                    <a:srgbClr val="000000"/>
                  </a:solidFill>
                  <a:latin typeface="Times New Roman"/>
                </a:rPr>
                <a:t>6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2" name=""/>
            <p:cNvSpPr/>
            <p:nvPr/>
          </p:nvSpPr>
          <p:spPr>
            <a:xfrm>
              <a:off x="967320" y="1462680"/>
              <a:ext cx="3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400" spc="-1" strike="noStrike">
                  <a:solidFill>
                    <a:srgbClr val="000000"/>
                  </a:solidFill>
                  <a:latin typeface="Times New Roman"/>
                </a:rPr>
                <a:t>7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3" name=""/>
            <p:cNvSpPr/>
            <p:nvPr/>
          </p:nvSpPr>
          <p:spPr>
            <a:xfrm>
              <a:off x="975240" y="871920"/>
              <a:ext cx="3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400" spc="-1" strike="noStrike">
                  <a:solidFill>
                    <a:srgbClr val="000000"/>
                  </a:solidFill>
                  <a:latin typeface="Times New Roman"/>
                </a:rPr>
                <a:t>8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4" name=""/>
            <p:cNvSpPr/>
            <p:nvPr/>
          </p:nvSpPr>
          <p:spPr>
            <a:xfrm>
              <a:off x="983160" y="280080"/>
              <a:ext cx="3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400" spc="-1" strike="noStrike">
                  <a:solidFill>
                    <a:srgbClr val="000000"/>
                  </a:solidFill>
                  <a:latin typeface="Times New Roman"/>
                </a:rPr>
                <a:t>9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5" name=""/>
            <p:cNvSpPr/>
            <p:nvPr/>
          </p:nvSpPr>
          <p:spPr>
            <a:xfrm>
              <a:off x="142200" y="196200"/>
              <a:ext cx="869760" cy="38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cs-CZ" sz="1400" spc="-1" strike="noStrike">
                  <a:solidFill>
                    <a:srgbClr val="000000"/>
                  </a:solidFill>
                  <a:latin typeface="Times New Roman"/>
                </a:rPr>
                <a:t>CO</a:t>
              </a:r>
              <a:r>
                <a:rPr b="0" lang="cs-CZ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cs-CZ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1200" spc="-1" strike="noStrike">
                  <a:solidFill>
                    <a:srgbClr val="000000"/>
                  </a:solidFill>
                  <a:latin typeface="Times New Roman"/>
                </a:rPr>
                <a:t>tor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6" name=""/>
            <p:cNvSpPr/>
            <p:nvPr/>
          </p:nvSpPr>
          <p:spPr>
            <a:xfrm>
              <a:off x="6808320" y="5936400"/>
              <a:ext cx="168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600" spc="-1" strike="noStrike">
                  <a:solidFill>
                    <a:srgbClr val="000000"/>
                  </a:solidFill>
                  <a:latin typeface="Times New Roman"/>
                </a:rPr>
                <a:t>Base Excess</a:t>
              </a:r>
              <a:r>
                <a:rPr b="0" lang="cs-CZ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1200" spc="-1" strike="noStrike">
                  <a:solidFill>
                    <a:srgbClr val="000000"/>
                  </a:solidFill>
                  <a:latin typeface="Times New Roman"/>
                </a:rPr>
                <a:t>mmol/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7" name=""/>
            <p:cNvSpPr/>
            <p:nvPr/>
          </p:nvSpPr>
          <p:spPr>
            <a:xfrm>
              <a:off x="1300320" y="461880"/>
              <a:ext cx="2174760" cy="4226040"/>
            </a:xfrm>
            <a:custGeom>
              <a:avLst/>
              <a:gdLst/>
              <a:ahLst/>
              <a:rect l="l" t="t" r="r" b="b"/>
              <a:pathLst>
                <a:path w="1368" h="2659">
                  <a:moveTo>
                    <a:pt x="0" y="2659"/>
                  </a:moveTo>
                  <a:cubicBezTo>
                    <a:pt x="31" y="2616"/>
                    <a:pt x="130" y="2487"/>
                    <a:pt x="191" y="2400"/>
                  </a:cubicBezTo>
                  <a:cubicBezTo>
                    <a:pt x="252" y="2313"/>
                    <a:pt x="286" y="2283"/>
                    <a:pt x="368" y="2137"/>
                  </a:cubicBezTo>
                  <a:cubicBezTo>
                    <a:pt x="450" y="1991"/>
                    <a:pt x="595" y="1701"/>
                    <a:pt x="682" y="1520"/>
                  </a:cubicBezTo>
                  <a:cubicBezTo>
                    <a:pt x="769" y="1339"/>
                    <a:pt x="774" y="1305"/>
                    <a:pt x="888" y="1052"/>
                  </a:cubicBezTo>
                  <a:cubicBezTo>
                    <a:pt x="1002" y="799"/>
                    <a:pt x="1268" y="219"/>
                    <a:pt x="1368" y="0"/>
                  </a:cubicBez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8" name=""/>
            <p:cNvSpPr/>
            <p:nvPr/>
          </p:nvSpPr>
          <p:spPr>
            <a:xfrm>
              <a:off x="1487520" y="461880"/>
              <a:ext cx="2894040" cy="4645080"/>
            </a:xfrm>
            <a:custGeom>
              <a:avLst/>
              <a:gdLst/>
              <a:ahLst/>
              <a:rect l="l" t="t" r="r" b="b"/>
              <a:pathLst>
                <a:path w="1823" h="2926">
                  <a:moveTo>
                    <a:pt x="0" y="2926"/>
                  </a:moveTo>
                  <a:cubicBezTo>
                    <a:pt x="56" y="2863"/>
                    <a:pt x="246" y="2655"/>
                    <a:pt x="331" y="2548"/>
                  </a:cubicBezTo>
                  <a:cubicBezTo>
                    <a:pt x="416" y="2441"/>
                    <a:pt x="456" y="2370"/>
                    <a:pt x="508" y="2285"/>
                  </a:cubicBezTo>
                  <a:cubicBezTo>
                    <a:pt x="560" y="2200"/>
                    <a:pt x="587" y="2139"/>
                    <a:pt x="646" y="2035"/>
                  </a:cubicBezTo>
                  <a:cubicBezTo>
                    <a:pt x="705" y="1931"/>
                    <a:pt x="775" y="1815"/>
                    <a:pt x="863" y="1663"/>
                  </a:cubicBezTo>
                  <a:cubicBezTo>
                    <a:pt x="951" y="1511"/>
                    <a:pt x="1067" y="1311"/>
                    <a:pt x="1177" y="1120"/>
                  </a:cubicBezTo>
                  <a:cubicBezTo>
                    <a:pt x="1287" y="929"/>
                    <a:pt x="1418" y="702"/>
                    <a:pt x="1526" y="515"/>
                  </a:cubicBezTo>
                  <a:cubicBezTo>
                    <a:pt x="1634" y="328"/>
                    <a:pt x="1761" y="107"/>
                    <a:pt x="1823" y="0"/>
                  </a:cubicBez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9" name=""/>
            <p:cNvSpPr/>
            <p:nvPr/>
          </p:nvSpPr>
          <p:spPr>
            <a:xfrm>
              <a:off x="1836720" y="457200"/>
              <a:ext cx="3683160" cy="4659480"/>
            </a:xfrm>
            <a:custGeom>
              <a:avLst/>
              <a:gdLst/>
              <a:ahLst/>
              <a:rect l="l" t="t" r="r" b="b"/>
              <a:pathLst>
                <a:path w="2320" h="2935">
                  <a:moveTo>
                    <a:pt x="0" y="2935"/>
                  </a:moveTo>
                  <a:cubicBezTo>
                    <a:pt x="95" y="2843"/>
                    <a:pt x="419" y="2544"/>
                    <a:pt x="569" y="2383"/>
                  </a:cubicBezTo>
                  <a:cubicBezTo>
                    <a:pt x="719" y="2222"/>
                    <a:pt x="805" y="2094"/>
                    <a:pt x="900" y="1966"/>
                  </a:cubicBezTo>
                  <a:cubicBezTo>
                    <a:pt x="995" y="1840"/>
                    <a:pt x="1056" y="1742"/>
                    <a:pt x="1139" y="1623"/>
                  </a:cubicBezTo>
                  <a:cubicBezTo>
                    <a:pt x="1223" y="1506"/>
                    <a:pt x="1305" y="1387"/>
                    <a:pt x="1396" y="1258"/>
                  </a:cubicBezTo>
                  <a:cubicBezTo>
                    <a:pt x="1488" y="1129"/>
                    <a:pt x="1592" y="992"/>
                    <a:pt x="1693" y="852"/>
                  </a:cubicBezTo>
                  <a:cubicBezTo>
                    <a:pt x="1794" y="714"/>
                    <a:pt x="1896" y="567"/>
                    <a:pt x="2001" y="425"/>
                  </a:cubicBezTo>
                  <a:cubicBezTo>
                    <a:pt x="2107" y="283"/>
                    <a:pt x="2254" y="89"/>
                    <a:pt x="2320" y="0"/>
                  </a:cubicBez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0" name=""/>
            <p:cNvSpPr/>
            <p:nvPr/>
          </p:nvSpPr>
          <p:spPr>
            <a:xfrm>
              <a:off x="2205000" y="466560"/>
              <a:ext cx="4224240" cy="4640400"/>
            </a:xfrm>
            <a:custGeom>
              <a:avLst/>
              <a:gdLst/>
              <a:ahLst/>
              <a:rect l="l" t="t" r="r" b="b"/>
              <a:pathLst>
                <a:path w="2661" h="2923">
                  <a:moveTo>
                    <a:pt x="0" y="2923"/>
                  </a:moveTo>
                  <a:cubicBezTo>
                    <a:pt x="102" y="2831"/>
                    <a:pt x="450" y="2526"/>
                    <a:pt x="617" y="2369"/>
                  </a:cubicBezTo>
                  <a:cubicBezTo>
                    <a:pt x="784" y="2212"/>
                    <a:pt x="898" y="2097"/>
                    <a:pt x="1005" y="1980"/>
                  </a:cubicBezTo>
                  <a:cubicBezTo>
                    <a:pt x="1112" y="1863"/>
                    <a:pt x="1165" y="1777"/>
                    <a:pt x="1257" y="1666"/>
                  </a:cubicBezTo>
                  <a:cubicBezTo>
                    <a:pt x="1349" y="1555"/>
                    <a:pt x="1452" y="1442"/>
                    <a:pt x="1560" y="1312"/>
                  </a:cubicBezTo>
                  <a:cubicBezTo>
                    <a:pt x="1668" y="1182"/>
                    <a:pt x="1787" y="1030"/>
                    <a:pt x="1908" y="883"/>
                  </a:cubicBezTo>
                  <a:cubicBezTo>
                    <a:pt x="2029" y="736"/>
                    <a:pt x="2161" y="579"/>
                    <a:pt x="2286" y="432"/>
                  </a:cubicBezTo>
                  <a:cubicBezTo>
                    <a:pt x="2411" y="285"/>
                    <a:pt x="2583" y="90"/>
                    <a:pt x="2661" y="0"/>
                  </a:cubicBez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1" name=""/>
            <p:cNvSpPr/>
            <p:nvPr/>
          </p:nvSpPr>
          <p:spPr>
            <a:xfrm>
              <a:off x="2540160" y="461880"/>
              <a:ext cx="4771800" cy="4635720"/>
            </a:xfrm>
            <a:custGeom>
              <a:avLst/>
              <a:gdLst/>
              <a:ahLst/>
              <a:rect l="l" t="t" r="r" b="b"/>
              <a:pathLst>
                <a:path w="3006" h="2920">
                  <a:moveTo>
                    <a:pt x="0" y="2920"/>
                  </a:moveTo>
                  <a:cubicBezTo>
                    <a:pt x="91" y="2844"/>
                    <a:pt x="381" y="2613"/>
                    <a:pt x="549" y="2463"/>
                  </a:cubicBezTo>
                  <a:cubicBezTo>
                    <a:pt x="717" y="2313"/>
                    <a:pt x="872" y="2152"/>
                    <a:pt x="1006" y="2017"/>
                  </a:cubicBezTo>
                  <a:cubicBezTo>
                    <a:pt x="1140" y="1882"/>
                    <a:pt x="1223" y="1787"/>
                    <a:pt x="1355" y="1652"/>
                  </a:cubicBezTo>
                  <a:cubicBezTo>
                    <a:pt x="1487" y="1517"/>
                    <a:pt x="1670" y="1338"/>
                    <a:pt x="1800" y="1206"/>
                  </a:cubicBezTo>
                  <a:cubicBezTo>
                    <a:pt x="1930" y="1074"/>
                    <a:pt x="2035" y="961"/>
                    <a:pt x="2137" y="858"/>
                  </a:cubicBezTo>
                  <a:cubicBezTo>
                    <a:pt x="2239" y="755"/>
                    <a:pt x="2320" y="681"/>
                    <a:pt x="2412" y="589"/>
                  </a:cubicBezTo>
                  <a:cubicBezTo>
                    <a:pt x="2504" y="497"/>
                    <a:pt x="2592" y="402"/>
                    <a:pt x="2691" y="304"/>
                  </a:cubicBezTo>
                  <a:cubicBezTo>
                    <a:pt x="2790" y="206"/>
                    <a:pt x="2941" y="63"/>
                    <a:pt x="3006" y="0"/>
                  </a:cubicBez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2" name=""/>
            <p:cNvSpPr/>
            <p:nvPr/>
          </p:nvSpPr>
          <p:spPr>
            <a:xfrm>
              <a:off x="2739960" y="471600"/>
              <a:ext cx="5510160" cy="4635360"/>
            </a:xfrm>
            <a:custGeom>
              <a:avLst/>
              <a:gdLst/>
              <a:ahLst/>
              <a:rect l="l" t="t" r="r" b="b"/>
              <a:pathLst>
                <a:path w="3463" h="2908">
                  <a:moveTo>
                    <a:pt x="0" y="2908"/>
                  </a:moveTo>
                  <a:cubicBezTo>
                    <a:pt x="66" y="2869"/>
                    <a:pt x="231" y="2795"/>
                    <a:pt x="394" y="2674"/>
                  </a:cubicBezTo>
                  <a:cubicBezTo>
                    <a:pt x="557" y="2553"/>
                    <a:pt x="827" y="2312"/>
                    <a:pt x="977" y="2182"/>
                  </a:cubicBezTo>
                  <a:cubicBezTo>
                    <a:pt x="1127" y="2052"/>
                    <a:pt x="1179" y="1992"/>
                    <a:pt x="1297" y="1891"/>
                  </a:cubicBezTo>
                  <a:cubicBezTo>
                    <a:pt x="1415" y="1790"/>
                    <a:pt x="1561" y="1683"/>
                    <a:pt x="1686" y="1577"/>
                  </a:cubicBezTo>
                  <a:cubicBezTo>
                    <a:pt x="1811" y="1471"/>
                    <a:pt x="1941" y="1350"/>
                    <a:pt x="2046" y="1257"/>
                  </a:cubicBezTo>
                  <a:cubicBezTo>
                    <a:pt x="2151" y="1164"/>
                    <a:pt x="2208" y="1110"/>
                    <a:pt x="2314" y="1017"/>
                  </a:cubicBezTo>
                  <a:cubicBezTo>
                    <a:pt x="2420" y="924"/>
                    <a:pt x="2570" y="793"/>
                    <a:pt x="2680" y="697"/>
                  </a:cubicBezTo>
                  <a:cubicBezTo>
                    <a:pt x="2790" y="601"/>
                    <a:pt x="2847" y="556"/>
                    <a:pt x="2977" y="440"/>
                  </a:cubicBezTo>
                  <a:cubicBezTo>
                    <a:pt x="3107" y="324"/>
                    <a:pt x="3382" y="73"/>
                    <a:pt x="3463" y="0"/>
                  </a:cubicBez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3" name=""/>
            <p:cNvSpPr/>
            <p:nvPr/>
          </p:nvSpPr>
          <p:spPr>
            <a:xfrm>
              <a:off x="3311640" y="1704960"/>
              <a:ext cx="4956120" cy="3402000"/>
            </a:xfrm>
            <a:custGeom>
              <a:avLst/>
              <a:gdLst/>
              <a:ahLst/>
              <a:rect l="l" t="t" r="r" b="b"/>
              <a:pathLst>
                <a:path w="3132" h="2148">
                  <a:moveTo>
                    <a:pt x="0" y="2148"/>
                  </a:moveTo>
                  <a:cubicBezTo>
                    <a:pt x="59" y="2119"/>
                    <a:pt x="208" y="2058"/>
                    <a:pt x="354" y="1971"/>
                  </a:cubicBezTo>
                  <a:cubicBezTo>
                    <a:pt x="500" y="1884"/>
                    <a:pt x="707" y="1741"/>
                    <a:pt x="874" y="1628"/>
                  </a:cubicBezTo>
                  <a:cubicBezTo>
                    <a:pt x="1041" y="1515"/>
                    <a:pt x="1200" y="1400"/>
                    <a:pt x="1354" y="1291"/>
                  </a:cubicBezTo>
                  <a:cubicBezTo>
                    <a:pt x="1508" y="1182"/>
                    <a:pt x="1596" y="1120"/>
                    <a:pt x="1800" y="971"/>
                  </a:cubicBezTo>
                  <a:cubicBezTo>
                    <a:pt x="2004" y="822"/>
                    <a:pt x="2355" y="561"/>
                    <a:pt x="2577" y="399"/>
                  </a:cubicBezTo>
                  <a:cubicBezTo>
                    <a:pt x="2799" y="237"/>
                    <a:pt x="3017" y="83"/>
                    <a:pt x="3132" y="0"/>
                  </a:cubicBez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4" name=""/>
            <p:cNvSpPr/>
            <p:nvPr/>
          </p:nvSpPr>
          <p:spPr>
            <a:xfrm rot="17899800">
              <a:off x="2849760" y="575280"/>
              <a:ext cx="723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400" spc="-1" strike="noStrike">
                  <a:solidFill>
                    <a:srgbClr val="000000"/>
                  </a:solidFill>
                  <a:latin typeface="Times New Roman"/>
                </a:rPr>
                <a:t>pH=7,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5" name=""/>
            <p:cNvSpPr/>
            <p:nvPr/>
          </p:nvSpPr>
          <p:spPr>
            <a:xfrm rot="17961600">
              <a:off x="4020120" y="592560"/>
              <a:ext cx="723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400" spc="-1" strike="noStrike">
                  <a:solidFill>
                    <a:srgbClr val="000000"/>
                  </a:solidFill>
                  <a:latin typeface="Times New Roman"/>
                </a:rPr>
                <a:t>pH=7,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6" name=""/>
            <p:cNvSpPr/>
            <p:nvPr/>
          </p:nvSpPr>
          <p:spPr>
            <a:xfrm rot="17961600">
              <a:off x="4748760" y="618120"/>
              <a:ext cx="723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400" spc="-1" strike="noStrike">
                  <a:solidFill>
                    <a:srgbClr val="000000"/>
                  </a:solidFill>
                  <a:latin typeface="Times New Roman"/>
                </a:rPr>
                <a:t>pH=7,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7" name=""/>
            <p:cNvSpPr/>
            <p:nvPr/>
          </p:nvSpPr>
          <p:spPr>
            <a:xfrm rot="18711600">
              <a:off x="5886360" y="609840"/>
              <a:ext cx="813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400" spc="-1" strike="noStrike">
                  <a:solidFill>
                    <a:srgbClr val="000000"/>
                  </a:solidFill>
                  <a:latin typeface="Times New Roman"/>
                </a:rPr>
                <a:t>pH=7,3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8" name=""/>
            <p:cNvSpPr/>
            <p:nvPr/>
          </p:nvSpPr>
          <p:spPr>
            <a:xfrm rot="19005600">
              <a:off x="6398640" y="631800"/>
              <a:ext cx="813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400" spc="-1" strike="noStrike">
                  <a:solidFill>
                    <a:srgbClr val="000000"/>
                  </a:solidFill>
                  <a:latin typeface="Times New Roman"/>
                </a:rPr>
                <a:t>pH=7,4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9" name=""/>
            <p:cNvSpPr/>
            <p:nvPr/>
          </p:nvSpPr>
          <p:spPr>
            <a:xfrm rot="19261800">
              <a:off x="6936120" y="954360"/>
              <a:ext cx="723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400" spc="-1" strike="noStrike">
                  <a:solidFill>
                    <a:srgbClr val="000000"/>
                  </a:solidFill>
                  <a:latin typeface="Times New Roman"/>
                </a:rPr>
                <a:t>pH=7,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0" name=""/>
            <p:cNvSpPr/>
            <p:nvPr/>
          </p:nvSpPr>
          <p:spPr>
            <a:xfrm rot="19628400">
              <a:off x="7593120" y="1602000"/>
              <a:ext cx="723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400" spc="-1" strike="noStrike">
                  <a:solidFill>
                    <a:srgbClr val="000000"/>
                  </a:solidFill>
                  <a:latin typeface="Times New Roman"/>
                </a:rPr>
                <a:t>pH=7,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1" name=""/>
            <p:cNvSpPr/>
            <p:nvPr/>
          </p:nvSpPr>
          <p:spPr>
            <a:xfrm>
              <a:off x="1540800" y="3116880"/>
              <a:ext cx="2315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400" spc="-1" strike="noStrike">
                  <a:solidFill>
                    <a:srgbClr val="000000"/>
                  </a:solidFill>
                  <a:latin typeface="Times New Roman"/>
                </a:rPr>
                <a:t>Akutní metabolická acidóz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2" name=""/>
            <p:cNvSpPr/>
            <p:nvPr/>
          </p:nvSpPr>
          <p:spPr>
            <a:xfrm>
              <a:off x="5681520" y="3105720"/>
              <a:ext cx="237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400" spc="-1" strike="noStrike">
                  <a:solidFill>
                    <a:srgbClr val="000000"/>
                  </a:solidFill>
                  <a:latin typeface="Times New Roman"/>
                </a:rPr>
                <a:t>Akutní metabolická alkalóz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3" name=""/>
            <p:cNvSpPr/>
            <p:nvPr/>
          </p:nvSpPr>
          <p:spPr>
            <a:xfrm rot="16164000">
              <a:off x="3334680" y="4112640"/>
              <a:ext cx="1683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400" spc="-1" strike="noStrike">
                  <a:solidFill>
                    <a:srgbClr val="000000"/>
                  </a:solidFill>
                  <a:latin typeface="Times New Roman"/>
                </a:rPr>
                <a:t>Akutní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1400" spc="-1" strike="noStrike">
                  <a:solidFill>
                    <a:srgbClr val="000000"/>
                  </a:solidFill>
                  <a:latin typeface="Times New Roman"/>
                </a:rPr>
                <a:t>respirační alkalóz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4" name=""/>
            <p:cNvSpPr/>
            <p:nvPr/>
          </p:nvSpPr>
          <p:spPr>
            <a:xfrm flipH="1" rot="4640400">
              <a:off x="2853000" y="1440000"/>
              <a:ext cx="2157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400" spc="-1" strike="noStrike">
                  <a:solidFill>
                    <a:srgbClr val="000000"/>
                  </a:solidFill>
                  <a:latin typeface="Times New Roman"/>
                </a:rPr>
                <a:t>Akutní respirační acidóz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5" name=""/>
            <p:cNvSpPr/>
            <p:nvPr/>
          </p:nvSpPr>
          <p:spPr>
            <a:xfrm rot="19850400">
              <a:off x="5346360" y="2266920"/>
              <a:ext cx="2552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400" spc="-1" strike="noStrike">
                  <a:solidFill>
                    <a:srgbClr val="000000"/>
                  </a:solidFill>
                  <a:latin typeface="Times New Roman"/>
                </a:rPr>
                <a:t>Ustálená metabolická alkalóza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6" name=""/>
            <p:cNvSpPr/>
            <p:nvPr/>
          </p:nvSpPr>
          <p:spPr>
            <a:xfrm rot="19901400">
              <a:off x="1190880" y="4101120"/>
              <a:ext cx="2491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400" spc="-1" strike="noStrike">
                  <a:solidFill>
                    <a:srgbClr val="000000"/>
                  </a:solidFill>
                  <a:latin typeface="Times New Roman"/>
                </a:rPr>
                <a:t>Ustálená metabolická acidóza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7" name=""/>
            <p:cNvSpPr/>
            <p:nvPr/>
          </p:nvSpPr>
          <p:spPr>
            <a:xfrm rot="19009200">
              <a:off x="1988640" y="4179960"/>
              <a:ext cx="2393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400" spc="-1" strike="noStrike">
                  <a:solidFill>
                    <a:srgbClr val="000000"/>
                  </a:solidFill>
                  <a:latin typeface="Times New Roman"/>
                </a:rPr>
                <a:t>Ustálená respirační alkalóza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8" name=""/>
            <p:cNvSpPr/>
            <p:nvPr/>
          </p:nvSpPr>
          <p:spPr>
            <a:xfrm rot="17846400">
              <a:off x="4143600" y="1294200"/>
              <a:ext cx="2332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400" spc="-1" strike="noStrike">
                  <a:solidFill>
                    <a:srgbClr val="000000"/>
                  </a:solidFill>
                  <a:latin typeface="Times New Roman"/>
                </a:rPr>
                <a:t>Ustálená respirační acidóza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9" name=""/>
            <p:cNvSpPr/>
            <p:nvPr/>
          </p:nvSpPr>
          <p:spPr>
            <a:xfrm>
              <a:off x="1687680" y="3510000"/>
              <a:ext cx="7920" cy="99864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0" name=""/>
            <p:cNvSpPr/>
            <p:nvPr/>
          </p:nvSpPr>
          <p:spPr>
            <a:xfrm>
              <a:off x="4006800" y="1349280"/>
              <a:ext cx="121464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1" name=""/>
            <p:cNvSpPr/>
            <p:nvPr/>
          </p:nvSpPr>
          <p:spPr>
            <a:xfrm flipH="1">
              <a:off x="6744960" y="2525760"/>
              <a:ext cx="3240" cy="5731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2" name=""/>
            <p:cNvSpPr/>
            <p:nvPr/>
          </p:nvSpPr>
          <p:spPr>
            <a:xfrm>
              <a:off x="2944800" y="4714920"/>
              <a:ext cx="1195560" cy="6480"/>
            </a:xfrm>
            <a:custGeom>
              <a:avLst/>
              <a:gdLst/>
              <a:ahLst/>
              <a:rect l="l" t="t" r="r" b="b"/>
              <a:pathLst>
                <a:path w="753" h="4">
                  <a:moveTo>
                    <a:pt x="3" y="4"/>
                  </a:moveTo>
                  <a:lnTo>
                    <a:pt x="0" y="1"/>
                  </a:lnTo>
                  <a:lnTo>
                    <a:pt x="753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prstDash val="sysDot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753" name=""/>
          <p:cNvGraphicFramePr/>
          <p:nvPr/>
        </p:nvGraphicFramePr>
        <p:xfrm>
          <a:off x="7331040" y="0"/>
          <a:ext cx="1511280" cy="178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31040" y="0"/>
                    <a:ext cx="1511280" cy="178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55" name=""/>
          <p:cNvSpPr/>
          <p:nvPr/>
        </p:nvSpPr>
        <p:spPr>
          <a:xfrm>
            <a:off x="911880" y="1521000"/>
            <a:ext cx="736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6" name=""/>
          <p:cNvSpPr/>
          <p:nvPr/>
        </p:nvSpPr>
        <p:spPr>
          <a:xfrm>
            <a:off x="1029240" y="3576600"/>
            <a:ext cx="736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7" name=""/>
          <p:cNvSpPr/>
          <p:nvPr/>
        </p:nvSpPr>
        <p:spPr>
          <a:xfrm>
            <a:off x="3083040" y="2571840"/>
            <a:ext cx="1055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8" name=""/>
          <p:cNvSpPr/>
          <p:nvPr/>
        </p:nvSpPr>
        <p:spPr>
          <a:xfrm>
            <a:off x="6358680" y="1557360"/>
            <a:ext cx="1015920" cy="5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HCO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cs-CZ" sz="2400" spc="-1" strike="noStrike" baseline="70000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9" name=""/>
          <p:cNvSpPr/>
          <p:nvPr/>
        </p:nvSpPr>
        <p:spPr>
          <a:xfrm>
            <a:off x="5277960" y="5583240"/>
            <a:ext cx="83304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Buf </a:t>
            </a:r>
            <a:r>
              <a:rPr b="1" lang="cs-CZ" sz="2400" spc="-1" strike="noStrike" baseline="70000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0" name=""/>
          <p:cNvSpPr/>
          <p:nvPr/>
        </p:nvSpPr>
        <p:spPr>
          <a:xfrm>
            <a:off x="7476480" y="4557600"/>
            <a:ext cx="90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HBu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1" name=""/>
          <p:cNvSpPr/>
          <p:nvPr/>
        </p:nvSpPr>
        <p:spPr>
          <a:xfrm>
            <a:off x="5456160" y="3575160"/>
            <a:ext cx="52380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cs-CZ" sz="2400" spc="-1" strike="noStrike" baseline="70000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2" name=""/>
          <p:cNvSpPr/>
          <p:nvPr/>
        </p:nvSpPr>
        <p:spPr>
          <a:xfrm>
            <a:off x="4173480" y="1770120"/>
            <a:ext cx="2173320" cy="1033560"/>
          </a:xfrm>
          <a:custGeom>
            <a:avLst/>
            <a:gdLst/>
            <a:ahLst/>
            <a:rect l="l" t="t" r="r" b="b"/>
            <a:pathLst>
              <a:path w="1369" h="651">
                <a:moveTo>
                  <a:pt x="0" y="651"/>
                </a:moveTo>
                <a:lnTo>
                  <a:pt x="393" y="651"/>
                </a:lnTo>
                <a:cubicBezTo>
                  <a:pt x="469" y="633"/>
                  <a:pt x="447" y="636"/>
                  <a:pt x="458" y="544"/>
                </a:cubicBezTo>
                <a:lnTo>
                  <a:pt x="458" y="97"/>
                </a:lnTo>
                <a:cubicBezTo>
                  <a:pt x="482" y="7"/>
                  <a:pt x="447" y="21"/>
                  <a:pt x="599" y="5"/>
                </a:cubicBezTo>
                <a:lnTo>
                  <a:pt x="1369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3" name=""/>
          <p:cNvSpPr/>
          <p:nvPr/>
        </p:nvSpPr>
        <p:spPr>
          <a:xfrm flipV="1">
            <a:off x="4173480" y="2793960"/>
            <a:ext cx="1222560" cy="1023840"/>
          </a:xfrm>
          <a:custGeom>
            <a:avLst/>
            <a:gdLst/>
            <a:ahLst/>
            <a:rect l="l" t="t" r="r" b="b"/>
            <a:pathLst>
              <a:path w="866" h="645">
                <a:moveTo>
                  <a:pt x="0" y="645"/>
                </a:moveTo>
                <a:lnTo>
                  <a:pt x="442" y="645"/>
                </a:lnTo>
                <a:cubicBezTo>
                  <a:pt x="528" y="627"/>
                  <a:pt x="503" y="630"/>
                  <a:pt x="515" y="538"/>
                </a:cubicBezTo>
                <a:lnTo>
                  <a:pt x="515" y="91"/>
                </a:lnTo>
                <a:cubicBezTo>
                  <a:pt x="530" y="1"/>
                  <a:pt x="548" y="15"/>
                  <a:pt x="606" y="0"/>
                </a:cubicBezTo>
                <a:lnTo>
                  <a:pt x="866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64" name=""/>
          <p:cNvGrpSpPr/>
          <p:nvPr/>
        </p:nvGrpSpPr>
        <p:grpSpPr>
          <a:xfrm>
            <a:off x="1836720" y="1778040"/>
            <a:ext cx="1222560" cy="2038320"/>
            <a:chOff x="1836720" y="1778040"/>
            <a:chExt cx="1222560" cy="2038320"/>
          </a:xfrm>
        </p:grpSpPr>
        <p:sp>
          <p:nvSpPr>
            <p:cNvPr id="11765" name=""/>
            <p:cNvSpPr/>
            <p:nvPr/>
          </p:nvSpPr>
          <p:spPr>
            <a:xfrm flipH="1">
              <a:off x="1836720" y="1778040"/>
              <a:ext cx="1222560" cy="1023840"/>
            </a:xfrm>
            <a:custGeom>
              <a:avLst/>
              <a:gdLst/>
              <a:ahLst/>
              <a:rect l="l" t="t" r="r" b="b"/>
              <a:pathLst>
                <a:path w="866" h="645">
                  <a:moveTo>
                    <a:pt x="0" y="645"/>
                  </a:moveTo>
                  <a:lnTo>
                    <a:pt x="442" y="645"/>
                  </a:lnTo>
                  <a:cubicBezTo>
                    <a:pt x="528" y="627"/>
                    <a:pt x="503" y="630"/>
                    <a:pt x="515" y="538"/>
                  </a:cubicBezTo>
                  <a:lnTo>
                    <a:pt x="515" y="91"/>
                  </a:lnTo>
                  <a:cubicBezTo>
                    <a:pt x="530" y="1"/>
                    <a:pt x="548" y="15"/>
                    <a:pt x="606" y="0"/>
                  </a:cubicBezTo>
                  <a:lnTo>
                    <a:pt x="866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6" name=""/>
            <p:cNvSpPr/>
            <p:nvPr/>
          </p:nvSpPr>
          <p:spPr>
            <a:xfrm flipH="1" flipV="1">
              <a:off x="1836720" y="2792520"/>
              <a:ext cx="1222560" cy="1023840"/>
            </a:xfrm>
            <a:custGeom>
              <a:avLst/>
              <a:gdLst/>
              <a:ahLst/>
              <a:rect l="l" t="t" r="r" b="b"/>
              <a:pathLst>
                <a:path w="866" h="645">
                  <a:moveTo>
                    <a:pt x="0" y="645"/>
                  </a:moveTo>
                  <a:lnTo>
                    <a:pt x="442" y="645"/>
                  </a:lnTo>
                  <a:cubicBezTo>
                    <a:pt x="528" y="627"/>
                    <a:pt x="503" y="630"/>
                    <a:pt x="515" y="538"/>
                  </a:cubicBezTo>
                  <a:lnTo>
                    <a:pt x="515" y="91"/>
                  </a:lnTo>
                  <a:cubicBezTo>
                    <a:pt x="530" y="1"/>
                    <a:pt x="548" y="15"/>
                    <a:pt x="606" y="0"/>
                  </a:cubicBezTo>
                  <a:lnTo>
                    <a:pt x="866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67" name=""/>
          <p:cNvGrpSpPr/>
          <p:nvPr/>
        </p:nvGrpSpPr>
        <p:grpSpPr>
          <a:xfrm>
            <a:off x="6184800" y="3773520"/>
            <a:ext cx="1222560" cy="2038320"/>
            <a:chOff x="6184800" y="3773520"/>
            <a:chExt cx="1222560" cy="2038320"/>
          </a:xfrm>
        </p:grpSpPr>
        <p:sp>
          <p:nvSpPr>
            <p:cNvPr id="11768" name=""/>
            <p:cNvSpPr/>
            <p:nvPr/>
          </p:nvSpPr>
          <p:spPr>
            <a:xfrm flipH="1">
              <a:off x="6184800" y="3773520"/>
              <a:ext cx="1222560" cy="1023840"/>
            </a:xfrm>
            <a:custGeom>
              <a:avLst/>
              <a:gdLst/>
              <a:ahLst/>
              <a:rect l="l" t="t" r="r" b="b"/>
              <a:pathLst>
                <a:path w="866" h="645">
                  <a:moveTo>
                    <a:pt x="0" y="645"/>
                  </a:moveTo>
                  <a:lnTo>
                    <a:pt x="442" y="645"/>
                  </a:lnTo>
                  <a:cubicBezTo>
                    <a:pt x="528" y="627"/>
                    <a:pt x="503" y="630"/>
                    <a:pt x="515" y="538"/>
                  </a:cubicBezTo>
                  <a:lnTo>
                    <a:pt x="515" y="91"/>
                  </a:lnTo>
                  <a:cubicBezTo>
                    <a:pt x="530" y="1"/>
                    <a:pt x="548" y="15"/>
                    <a:pt x="606" y="0"/>
                  </a:cubicBezTo>
                  <a:lnTo>
                    <a:pt x="866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9" name=""/>
            <p:cNvSpPr/>
            <p:nvPr/>
          </p:nvSpPr>
          <p:spPr>
            <a:xfrm flipH="1" flipV="1">
              <a:off x="6184800" y="4788000"/>
              <a:ext cx="1222560" cy="1023840"/>
            </a:xfrm>
            <a:custGeom>
              <a:avLst/>
              <a:gdLst/>
              <a:ahLst/>
              <a:rect l="l" t="t" r="r" b="b"/>
              <a:pathLst>
                <a:path w="866" h="645">
                  <a:moveTo>
                    <a:pt x="0" y="645"/>
                  </a:moveTo>
                  <a:lnTo>
                    <a:pt x="442" y="645"/>
                  </a:lnTo>
                  <a:cubicBezTo>
                    <a:pt x="528" y="627"/>
                    <a:pt x="503" y="630"/>
                    <a:pt x="515" y="538"/>
                  </a:cubicBezTo>
                  <a:lnTo>
                    <a:pt x="515" y="91"/>
                  </a:lnTo>
                  <a:cubicBezTo>
                    <a:pt x="530" y="1"/>
                    <a:pt x="548" y="15"/>
                    <a:pt x="606" y="0"/>
                  </a:cubicBezTo>
                  <a:lnTo>
                    <a:pt x="866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70" name=""/>
          <p:cNvSpPr/>
          <p:nvPr/>
        </p:nvSpPr>
        <p:spPr>
          <a:xfrm flipH="1">
            <a:off x="2433600" y="4657680"/>
            <a:ext cx="866880" cy="1025640"/>
          </a:xfrm>
          <a:custGeom>
            <a:avLst/>
            <a:gdLst>
              <a:gd name="textAreaLeft" fmla="*/ 360 w 866880"/>
              <a:gd name="textAreaRight" fmla="*/ 867600 w 866880"/>
              <a:gd name="textAreaTop" fmla="*/ 0 h 1025640"/>
              <a:gd name="textAreaBottom" fmla="*/ 1026000 h 1025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1" name=""/>
          <p:cNvSpPr/>
          <p:nvPr/>
        </p:nvSpPr>
        <p:spPr>
          <a:xfrm>
            <a:off x="3043080" y="5667480"/>
            <a:ext cx="247680" cy="11905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2" name=""/>
          <p:cNvSpPr/>
          <p:nvPr/>
        </p:nvSpPr>
        <p:spPr>
          <a:xfrm>
            <a:off x="2014560" y="4784760"/>
            <a:ext cx="45972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cs-CZ" sz="2400" spc="-1" strike="noStrike" baseline="70000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73" name=""/>
          <p:cNvGrpSpPr/>
          <p:nvPr/>
        </p:nvGrpSpPr>
        <p:grpSpPr>
          <a:xfrm>
            <a:off x="351000" y="1960560"/>
            <a:ext cx="1206000" cy="4897080"/>
            <a:chOff x="351000" y="1960560"/>
            <a:chExt cx="1206000" cy="4897080"/>
          </a:xfrm>
        </p:grpSpPr>
        <p:sp>
          <p:nvSpPr>
            <p:cNvPr id="11774" name=""/>
            <p:cNvSpPr/>
            <p:nvPr/>
          </p:nvSpPr>
          <p:spPr>
            <a:xfrm flipH="1" rot="5269800">
              <a:off x="722160" y="1929600"/>
              <a:ext cx="773280" cy="866880"/>
            </a:xfrm>
            <a:custGeom>
              <a:avLst/>
              <a:gdLst>
                <a:gd name="textAreaLeft" fmla="*/ 360 w 773280"/>
                <a:gd name="textAreaRight" fmla="*/ 774000 w 773280"/>
                <a:gd name="textAreaTop" fmla="*/ 0 h 866880"/>
                <a:gd name="textAreaBottom" fmla="*/ 867240 h 866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260" stAng="10800000" swAng="5400000"/>
                  <a:lnTo>
                    <a:pt x="15100" y="2900"/>
                  </a:lnTo>
                  <a:lnTo>
                    <a:pt x="15100" y="0"/>
                  </a:lnTo>
                  <a:lnTo>
                    <a:pt x="21600" y="6079"/>
                  </a:lnTo>
                  <a:lnTo>
                    <a:pt x="15100" y="12158"/>
                  </a:lnTo>
                  <a:lnTo>
                    <a:pt x="15100" y="9258"/>
                  </a:lnTo>
                  <a:lnTo>
                    <a:pt x="12427" y="9258"/>
                  </a:lnTo>
                  <a:arcTo wR="6069" hR="2902" stAng="16200000" swAng="-5400000"/>
                  <a:lnTo>
                    <a:pt x="6358" y="2160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5" name=""/>
            <p:cNvSpPr/>
            <p:nvPr/>
          </p:nvSpPr>
          <p:spPr>
            <a:xfrm>
              <a:off x="372960" y="2968200"/>
              <a:ext cx="228600" cy="388944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6" name=""/>
            <p:cNvSpPr/>
            <p:nvPr/>
          </p:nvSpPr>
          <p:spPr>
            <a:xfrm>
              <a:off x="351000" y="2518920"/>
              <a:ext cx="458640" cy="580320"/>
            </a:xfrm>
            <a:custGeom>
              <a:avLst/>
              <a:gdLst/>
              <a:ahLst/>
              <a:rect l="l" t="t" r="r" b="b"/>
              <a:pathLst>
                <a:path w="289" h="385">
                  <a:moveTo>
                    <a:pt x="18" y="347"/>
                  </a:moveTo>
                  <a:cubicBezTo>
                    <a:pt x="0" y="316"/>
                    <a:pt x="26" y="215"/>
                    <a:pt x="40" y="166"/>
                  </a:cubicBezTo>
                  <a:cubicBezTo>
                    <a:pt x="54" y="117"/>
                    <a:pt x="72" y="80"/>
                    <a:pt x="103" y="55"/>
                  </a:cubicBezTo>
                  <a:cubicBezTo>
                    <a:pt x="134" y="30"/>
                    <a:pt x="196" y="0"/>
                    <a:pt x="225" y="17"/>
                  </a:cubicBezTo>
                  <a:cubicBezTo>
                    <a:pt x="254" y="34"/>
                    <a:pt x="289" y="122"/>
                    <a:pt x="279" y="155"/>
                  </a:cubicBezTo>
                  <a:cubicBezTo>
                    <a:pt x="204" y="155"/>
                    <a:pt x="188" y="181"/>
                    <a:pt x="167" y="214"/>
                  </a:cubicBezTo>
                  <a:cubicBezTo>
                    <a:pt x="153" y="248"/>
                    <a:pt x="176" y="330"/>
                    <a:pt x="151" y="352"/>
                  </a:cubicBezTo>
                  <a:cubicBezTo>
                    <a:pt x="126" y="374"/>
                    <a:pt x="34" y="385"/>
                    <a:pt x="18" y="347"/>
                  </a:cubicBez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1777" name=""/>
          <p:cNvGraphicFramePr/>
          <p:nvPr/>
        </p:nvGraphicFramePr>
        <p:xfrm>
          <a:off x="1471680" y="436680"/>
          <a:ext cx="1412640" cy="1050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77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71680" y="436680"/>
                    <a:ext cx="1412640" cy="105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79" name=""/>
          <p:cNvSpPr/>
          <p:nvPr/>
        </p:nvSpPr>
        <p:spPr>
          <a:xfrm>
            <a:off x="1036800" y="243000"/>
            <a:ext cx="479160" cy="1314360"/>
          </a:xfrm>
          <a:prstGeom prst="upArrow">
            <a:avLst>
              <a:gd name="adj1" fmla="val 50000"/>
              <a:gd name="adj2" fmla="val 68576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0" name=""/>
          <p:cNvSpPr/>
          <p:nvPr/>
        </p:nvSpPr>
        <p:spPr>
          <a:xfrm flipV="1">
            <a:off x="7520040" y="1850400"/>
            <a:ext cx="482400" cy="725400"/>
          </a:xfrm>
          <a:prstGeom prst="upArrow">
            <a:avLst>
              <a:gd name="adj1" fmla="val 50000"/>
              <a:gd name="adj2" fmla="val 37593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781" name=""/>
          <p:cNvGraphicFramePr/>
          <p:nvPr/>
        </p:nvGraphicFramePr>
        <p:xfrm>
          <a:off x="5389560" y="1959120"/>
          <a:ext cx="1708200" cy="1309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78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89560" y="1959120"/>
                    <a:ext cx="1708200" cy="13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83" name=""/>
          <p:cNvSpPr/>
          <p:nvPr/>
        </p:nvSpPr>
        <p:spPr>
          <a:xfrm>
            <a:off x="4984920" y="2774880"/>
            <a:ext cx="129204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Retence H</a:t>
            </a:r>
            <a:r>
              <a:rPr b="1" lang="cs-CZ" sz="1600" spc="-1" strike="noStrike" baseline="52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4" name=""/>
          <p:cNvSpPr/>
          <p:nvPr/>
        </p:nvSpPr>
        <p:spPr>
          <a:xfrm>
            <a:off x="6521400" y="2928960"/>
            <a:ext cx="129240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Deplece H</a:t>
            </a:r>
            <a:r>
              <a:rPr b="1" lang="cs-CZ" sz="1600" spc="-1" strike="noStrike" baseline="52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85" name=""/>
          <p:cNvGrpSpPr/>
          <p:nvPr/>
        </p:nvGrpSpPr>
        <p:grpSpPr>
          <a:xfrm>
            <a:off x="7319880" y="2597040"/>
            <a:ext cx="950760" cy="336240"/>
            <a:chOff x="7319880" y="2597040"/>
            <a:chExt cx="950760" cy="336240"/>
          </a:xfrm>
        </p:grpSpPr>
        <p:sp>
          <p:nvSpPr>
            <p:cNvPr id="11786" name=""/>
            <p:cNvSpPr/>
            <p:nvPr/>
          </p:nvSpPr>
          <p:spPr>
            <a:xfrm>
              <a:off x="7319880" y="2597040"/>
              <a:ext cx="9507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400" spc="-1" strike="noStrike">
                  <a:solidFill>
                    <a:srgbClr val="000000"/>
                  </a:solidFill>
                  <a:latin typeface="Arial"/>
                </a:rPr>
                <a:t>TA+NH</a:t>
              </a:r>
              <a:r>
                <a:rPr b="1" lang="cs-CZ" sz="14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7" name=""/>
            <p:cNvSpPr/>
            <p:nvPr/>
          </p:nvSpPr>
          <p:spPr>
            <a:xfrm>
              <a:off x="8003880" y="2606400"/>
              <a:ext cx="189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400" spc="-1" strike="noStrike" baseline="30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88" name=""/>
          <p:cNvSpPr/>
          <p:nvPr/>
        </p:nvSpPr>
        <p:spPr>
          <a:xfrm>
            <a:off x="6181560" y="0"/>
            <a:ext cx="225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imes New Roman"/>
              </a:rPr>
              <a:t>Reabsorbce bikarbonátů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89" name=""/>
          <p:cNvGrpSpPr/>
          <p:nvPr/>
        </p:nvGrpSpPr>
        <p:grpSpPr>
          <a:xfrm>
            <a:off x="7769160" y="479520"/>
            <a:ext cx="978120" cy="2062440"/>
            <a:chOff x="7769160" y="479520"/>
            <a:chExt cx="978120" cy="2062440"/>
          </a:xfrm>
        </p:grpSpPr>
        <p:sp>
          <p:nvSpPr>
            <p:cNvPr id="11790" name=""/>
            <p:cNvSpPr/>
            <p:nvPr/>
          </p:nvSpPr>
          <p:spPr>
            <a:xfrm>
              <a:off x="8120160" y="479520"/>
              <a:ext cx="19080" cy="153828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1" name=""/>
            <p:cNvSpPr/>
            <p:nvPr/>
          </p:nvSpPr>
          <p:spPr>
            <a:xfrm>
              <a:off x="7769160" y="1943280"/>
              <a:ext cx="978120" cy="59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400" spc="-1" strike="noStrike">
                  <a:solidFill>
                    <a:srgbClr val="000000"/>
                  </a:solidFill>
                  <a:latin typeface="Arial"/>
                </a:rPr>
                <a:t>(3) ztráty HCO</a:t>
              </a:r>
              <a:r>
                <a:rPr b="1" lang="cs-CZ" sz="1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cs-CZ" sz="1400" spc="-1" strike="noStrike" baseline="70000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92" name=""/>
          <p:cNvGrpSpPr/>
          <p:nvPr/>
        </p:nvGrpSpPr>
        <p:grpSpPr>
          <a:xfrm>
            <a:off x="5113440" y="144360"/>
            <a:ext cx="1790640" cy="1014480"/>
            <a:chOff x="5113440" y="144360"/>
            <a:chExt cx="1790640" cy="1014480"/>
          </a:xfrm>
        </p:grpSpPr>
        <p:sp>
          <p:nvSpPr>
            <p:cNvPr id="11793" name=""/>
            <p:cNvSpPr/>
            <p:nvPr/>
          </p:nvSpPr>
          <p:spPr>
            <a:xfrm>
              <a:off x="5643720" y="795240"/>
              <a:ext cx="1133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400" spc="-1" strike="noStrike">
                  <a:solidFill>
                    <a:srgbClr val="000000"/>
                  </a:solidFill>
                  <a:latin typeface="Times New Roman"/>
                </a:rPr>
                <a:t>(4) průje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794" name=""/>
            <p:cNvGrpSpPr/>
            <p:nvPr/>
          </p:nvGrpSpPr>
          <p:grpSpPr>
            <a:xfrm>
              <a:off x="5113440" y="144360"/>
              <a:ext cx="1790640" cy="1014480"/>
              <a:chOff x="5113440" y="144360"/>
              <a:chExt cx="1790640" cy="1014480"/>
            </a:xfrm>
          </p:grpSpPr>
          <p:grpSp>
            <p:nvGrpSpPr>
              <p:cNvPr id="11795" name=""/>
              <p:cNvGrpSpPr/>
              <p:nvPr/>
            </p:nvGrpSpPr>
            <p:grpSpPr>
              <a:xfrm>
                <a:off x="5113440" y="144360"/>
                <a:ext cx="850680" cy="1014480"/>
                <a:chOff x="5113440" y="144360"/>
                <a:chExt cx="850680" cy="1014480"/>
              </a:xfrm>
            </p:grpSpPr>
            <p:grpSp>
              <p:nvGrpSpPr>
                <p:cNvPr id="11796" name=""/>
                <p:cNvGrpSpPr/>
                <p:nvPr/>
              </p:nvGrpSpPr>
              <p:grpSpPr>
                <a:xfrm>
                  <a:off x="5264280" y="374400"/>
                  <a:ext cx="575640" cy="472680"/>
                  <a:chOff x="5264280" y="374400"/>
                  <a:chExt cx="575640" cy="472680"/>
                </a:xfrm>
              </p:grpSpPr>
              <p:sp>
                <p:nvSpPr>
                  <p:cNvPr id="11797" name=""/>
                  <p:cNvSpPr/>
                  <p:nvPr/>
                </p:nvSpPr>
                <p:spPr>
                  <a:xfrm>
                    <a:off x="5398560" y="502200"/>
                    <a:ext cx="385920" cy="344880"/>
                  </a:xfrm>
                  <a:custGeom>
                    <a:avLst/>
                    <a:gdLst/>
                    <a:ahLst/>
                    <a:rect l="l" t="t" r="r" b="b"/>
                    <a:pathLst>
                      <a:path w="975" h="912">
                        <a:moveTo>
                          <a:pt x="443" y="801"/>
                        </a:moveTo>
                        <a:lnTo>
                          <a:pt x="401" y="808"/>
                        </a:lnTo>
                        <a:lnTo>
                          <a:pt x="358" y="834"/>
                        </a:lnTo>
                        <a:lnTo>
                          <a:pt x="329" y="870"/>
                        </a:lnTo>
                        <a:lnTo>
                          <a:pt x="318" y="893"/>
                        </a:lnTo>
                        <a:lnTo>
                          <a:pt x="250" y="902"/>
                        </a:lnTo>
                        <a:lnTo>
                          <a:pt x="210" y="909"/>
                        </a:lnTo>
                        <a:lnTo>
                          <a:pt x="176" y="912"/>
                        </a:lnTo>
                        <a:lnTo>
                          <a:pt x="137" y="909"/>
                        </a:lnTo>
                        <a:lnTo>
                          <a:pt x="95" y="896"/>
                        </a:lnTo>
                        <a:lnTo>
                          <a:pt x="63" y="873"/>
                        </a:lnTo>
                        <a:lnTo>
                          <a:pt x="39" y="840"/>
                        </a:lnTo>
                        <a:lnTo>
                          <a:pt x="25" y="792"/>
                        </a:lnTo>
                        <a:lnTo>
                          <a:pt x="17" y="765"/>
                        </a:lnTo>
                        <a:lnTo>
                          <a:pt x="22" y="732"/>
                        </a:lnTo>
                        <a:lnTo>
                          <a:pt x="36" y="709"/>
                        </a:lnTo>
                        <a:lnTo>
                          <a:pt x="71" y="705"/>
                        </a:lnTo>
                        <a:lnTo>
                          <a:pt x="105" y="707"/>
                        </a:lnTo>
                        <a:lnTo>
                          <a:pt x="134" y="716"/>
                        </a:lnTo>
                        <a:lnTo>
                          <a:pt x="161" y="739"/>
                        </a:lnTo>
                        <a:lnTo>
                          <a:pt x="200" y="755"/>
                        </a:lnTo>
                        <a:lnTo>
                          <a:pt x="272" y="769"/>
                        </a:lnTo>
                        <a:lnTo>
                          <a:pt x="318" y="771"/>
                        </a:lnTo>
                        <a:lnTo>
                          <a:pt x="361" y="765"/>
                        </a:lnTo>
                        <a:lnTo>
                          <a:pt x="396" y="746"/>
                        </a:lnTo>
                        <a:lnTo>
                          <a:pt x="416" y="728"/>
                        </a:lnTo>
                        <a:lnTo>
                          <a:pt x="446" y="696"/>
                        </a:lnTo>
                        <a:lnTo>
                          <a:pt x="477" y="686"/>
                        </a:lnTo>
                        <a:lnTo>
                          <a:pt x="532" y="686"/>
                        </a:lnTo>
                        <a:lnTo>
                          <a:pt x="578" y="680"/>
                        </a:lnTo>
                        <a:lnTo>
                          <a:pt x="617" y="669"/>
                        </a:lnTo>
                        <a:lnTo>
                          <a:pt x="644" y="647"/>
                        </a:lnTo>
                        <a:lnTo>
                          <a:pt x="690" y="608"/>
                        </a:lnTo>
                        <a:lnTo>
                          <a:pt x="607" y="661"/>
                        </a:lnTo>
                        <a:lnTo>
                          <a:pt x="574" y="670"/>
                        </a:lnTo>
                        <a:lnTo>
                          <a:pt x="525" y="680"/>
                        </a:lnTo>
                        <a:lnTo>
                          <a:pt x="475" y="680"/>
                        </a:lnTo>
                        <a:lnTo>
                          <a:pt x="447" y="680"/>
                        </a:lnTo>
                        <a:lnTo>
                          <a:pt x="423" y="654"/>
                        </a:lnTo>
                        <a:lnTo>
                          <a:pt x="396" y="613"/>
                        </a:lnTo>
                        <a:lnTo>
                          <a:pt x="334" y="558"/>
                        </a:lnTo>
                        <a:lnTo>
                          <a:pt x="223" y="475"/>
                        </a:lnTo>
                        <a:lnTo>
                          <a:pt x="167" y="452"/>
                        </a:lnTo>
                        <a:lnTo>
                          <a:pt x="118" y="431"/>
                        </a:lnTo>
                        <a:lnTo>
                          <a:pt x="63" y="404"/>
                        </a:lnTo>
                        <a:lnTo>
                          <a:pt x="36" y="385"/>
                        </a:lnTo>
                        <a:lnTo>
                          <a:pt x="12" y="365"/>
                        </a:lnTo>
                        <a:lnTo>
                          <a:pt x="2" y="328"/>
                        </a:lnTo>
                        <a:lnTo>
                          <a:pt x="0" y="292"/>
                        </a:lnTo>
                        <a:lnTo>
                          <a:pt x="5" y="255"/>
                        </a:lnTo>
                        <a:lnTo>
                          <a:pt x="17" y="220"/>
                        </a:lnTo>
                        <a:lnTo>
                          <a:pt x="43" y="184"/>
                        </a:lnTo>
                        <a:lnTo>
                          <a:pt x="82" y="158"/>
                        </a:lnTo>
                        <a:lnTo>
                          <a:pt x="128" y="140"/>
                        </a:lnTo>
                        <a:lnTo>
                          <a:pt x="173" y="132"/>
                        </a:lnTo>
                        <a:lnTo>
                          <a:pt x="245" y="131"/>
                        </a:lnTo>
                        <a:lnTo>
                          <a:pt x="345" y="138"/>
                        </a:lnTo>
                        <a:lnTo>
                          <a:pt x="429" y="138"/>
                        </a:lnTo>
                        <a:lnTo>
                          <a:pt x="475" y="155"/>
                        </a:lnTo>
                        <a:lnTo>
                          <a:pt x="489" y="190"/>
                        </a:lnTo>
                        <a:lnTo>
                          <a:pt x="489" y="240"/>
                        </a:lnTo>
                        <a:lnTo>
                          <a:pt x="490" y="304"/>
                        </a:lnTo>
                        <a:lnTo>
                          <a:pt x="502" y="240"/>
                        </a:lnTo>
                        <a:lnTo>
                          <a:pt x="493" y="177"/>
                        </a:lnTo>
                        <a:lnTo>
                          <a:pt x="496" y="147"/>
                        </a:lnTo>
                        <a:lnTo>
                          <a:pt x="523" y="127"/>
                        </a:lnTo>
                        <a:lnTo>
                          <a:pt x="544" y="104"/>
                        </a:lnTo>
                        <a:lnTo>
                          <a:pt x="564" y="66"/>
                        </a:lnTo>
                        <a:lnTo>
                          <a:pt x="587" y="20"/>
                        </a:lnTo>
                        <a:lnTo>
                          <a:pt x="614" y="0"/>
                        </a:lnTo>
                        <a:lnTo>
                          <a:pt x="653" y="0"/>
                        </a:lnTo>
                        <a:lnTo>
                          <a:pt x="695" y="12"/>
                        </a:lnTo>
                        <a:lnTo>
                          <a:pt x="722" y="35"/>
                        </a:lnTo>
                        <a:lnTo>
                          <a:pt x="791" y="42"/>
                        </a:lnTo>
                        <a:lnTo>
                          <a:pt x="841" y="48"/>
                        </a:lnTo>
                        <a:lnTo>
                          <a:pt x="889" y="71"/>
                        </a:lnTo>
                        <a:lnTo>
                          <a:pt x="932" y="117"/>
                        </a:lnTo>
                        <a:lnTo>
                          <a:pt x="965" y="196"/>
                        </a:lnTo>
                        <a:lnTo>
                          <a:pt x="973" y="243"/>
                        </a:lnTo>
                        <a:lnTo>
                          <a:pt x="969" y="292"/>
                        </a:lnTo>
                        <a:lnTo>
                          <a:pt x="975" y="342"/>
                        </a:lnTo>
                        <a:lnTo>
                          <a:pt x="965" y="381"/>
                        </a:lnTo>
                        <a:lnTo>
                          <a:pt x="939" y="397"/>
                        </a:lnTo>
                        <a:lnTo>
                          <a:pt x="903" y="420"/>
                        </a:lnTo>
                        <a:lnTo>
                          <a:pt x="877" y="446"/>
                        </a:lnTo>
                        <a:lnTo>
                          <a:pt x="845" y="457"/>
                        </a:lnTo>
                        <a:lnTo>
                          <a:pt x="807" y="452"/>
                        </a:lnTo>
                        <a:lnTo>
                          <a:pt x="791" y="446"/>
                        </a:lnTo>
                        <a:lnTo>
                          <a:pt x="787" y="373"/>
                        </a:lnTo>
                        <a:lnTo>
                          <a:pt x="787" y="308"/>
                        </a:lnTo>
                        <a:lnTo>
                          <a:pt x="769" y="266"/>
                        </a:lnTo>
                        <a:lnTo>
                          <a:pt x="729" y="227"/>
                        </a:lnTo>
                        <a:lnTo>
                          <a:pt x="680" y="184"/>
                        </a:lnTo>
                        <a:lnTo>
                          <a:pt x="667" y="173"/>
                        </a:lnTo>
                        <a:lnTo>
                          <a:pt x="695" y="204"/>
                        </a:lnTo>
                        <a:lnTo>
                          <a:pt x="753" y="259"/>
                        </a:lnTo>
                        <a:lnTo>
                          <a:pt x="775" y="304"/>
                        </a:lnTo>
                        <a:lnTo>
                          <a:pt x="779" y="344"/>
                        </a:lnTo>
                        <a:lnTo>
                          <a:pt x="784" y="443"/>
                        </a:lnTo>
                        <a:lnTo>
                          <a:pt x="710" y="452"/>
                        </a:lnTo>
                        <a:lnTo>
                          <a:pt x="653" y="475"/>
                        </a:lnTo>
                        <a:lnTo>
                          <a:pt x="601" y="492"/>
                        </a:lnTo>
                        <a:lnTo>
                          <a:pt x="564" y="492"/>
                        </a:lnTo>
                        <a:lnTo>
                          <a:pt x="528" y="475"/>
                        </a:lnTo>
                        <a:lnTo>
                          <a:pt x="502" y="447"/>
                        </a:lnTo>
                        <a:lnTo>
                          <a:pt x="457" y="404"/>
                        </a:lnTo>
                        <a:lnTo>
                          <a:pt x="408" y="370"/>
                        </a:lnTo>
                        <a:lnTo>
                          <a:pt x="347" y="344"/>
                        </a:lnTo>
                        <a:lnTo>
                          <a:pt x="283" y="324"/>
                        </a:lnTo>
                        <a:lnTo>
                          <a:pt x="176" y="296"/>
                        </a:lnTo>
                        <a:lnTo>
                          <a:pt x="272" y="335"/>
                        </a:lnTo>
                        <a:lnTo>
                          <a:pt x="347" y="355"/>
                        </a:lnTo>
                        <a:lnTo>
                          <a:pt x="452" y="411"/>
                        </a:lnTo>
                        <a:lnTo>
                          <a:pt x="500" y="462"/>
                        </a:lnTo>
                        <a:lnTo>
                          <a:pt x="548" y="498"/>
                        </a:lnTo>
                        <a:lnTo>
                          <a:pt x="594" y="503"/>
                        </a:lnTo>
                        <a:lnTo>
                          <a:pt x="636" y="493"/>
                        </a:lnTo>
                        <a:lnTo>
                          <a:pt x="679" y="477"/>
                        </a:lnTo>
                        <a:lnTo>
                          <a:pt x="726" y="459"/>
                        </a:lnTo>
                        <a:lnTo>
                          <a:pt x="776" y="452"/>
                        </a:lnTo>
                        <a:lnTo>
                          <a:pt x="835" y="462"/>
                        </a:lnTo>
                        <a:lnTo>
                          <a:pt x="847" y="477"/>
                        </a:lnTo>
                        <a:lnTo>
                          <a:pt x="830" y="528"/>
                        </a:lnTo>
                        <a:lnTo>
                          <a:pt x="827" y="597"/>
                        </a:lnTo>
                        <a:lnTo>
                          <a:pt x="825" y="657"/>
                        </a:lnTo>
                        <a:lnTo>
                          <a:pt x="811" y="707"/>
                        </a:lnTo>
                        <a:lnTo>
                          <a:pt x="792" y="759"/>
                        </a:lnTo>
                        <a:lnTo>
                          <a:pt x="779" y="792"/>
                        </a:lnTo>
                        <a:lnTo>
                          <a:pt x="758" y="817"/>
                        </a:lnTo>
                        <a:lnTo>
                          <a:pt x="726" y="834"/>
                        </a:lnTo>
                        <a:lnTo>
                          <a:pt x="690" y="845"/>
                        </a:lnTo>
                        <a:lnTo>
                          <a:pt x="630" y="858"/>
                        </a:lnTo>
                        <a:lnTo>
                          <a:pt x="591" y="858"/>
                        </a:lnTo>
                        <a:lnTo>
                          <a:pt x="541" y="835"/>
                        </a:lnTo>
                        <a:lnTo>
                          <a:pt x="498" y="812"/>
                        </a:lnTo>
                        <a:lnTo>
                          <a:pt x="443" y="801"/>
                        </a:lnTo>
                        <a:close/>
                      </a:path>
                    </a:pathLst>
                  </a:custGeom>
                  <a:solidFill>
                    <a:srgbClr val="ff808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98" name=""/>
                  <p:cNvSpPr/>
                  <p:nvPr/>
                </p:nvSpPr>
                <p:spPr>
                  <a:xfrm>
                    <a:off x="5264280" y="417600"/>
                    <a:ext cx="361080" cy="375120"/>
                  </a:xfrm>
                  <a:custGeom>
                    <a:avLst/>
                    <a:gdLst/>
                    <a:ahLst/>
                    <a:rect l="l" t="t" r="r" b="b"/>
                    <a:pathLst>
                      <a:path w="913" h="995">
                        <a:moveTo>
                          <a:pt x="546" y="803"/>
                        </a:moveTo>
                        <a:lnTo>
                          <a:pt x="546" y="826"/>
                        </a:lnTo>
                        <a:lnTo>
                          <a:pt x="542" y="841"/>
                        </a:lnTo>
                        <a:lnTo>
                          <a:pt x="526" y="839"/>
                        </a:lnTo>
                        <a:lnTo>
                          <a:pt x="517" y="831"/>
                        </a:lnTo>
                        <a:lnTo>
                          <a:pt x="473" y="942"/>
                        </a:lnTo>
                        <a:lnTo>
                          <a:pt x="507" y="965"/>
                        </a:lnTo>
                        <a:lnTo>
                          <a:pt x="539" y="979"/>
                        </a:lnTo>
                        <a:lnTo>
                          <a:pt x="589" y="991"/>
                        </a:lnTo>
                        <a:lnTo>
                          <a:pt x="634" y="995"/>
                        </a:lnTo>
                        <a:lnTo>
                          <a:pt x="686" y="991"/>
                        </a:lnTo>
                        <a:lnTo>
                          <a:pt x="713" y="981"/>
                        </a:lnTo>
                        <a:lnTo>
                          <a:pt x="739" y="968"/>
                        </a:lnTo>
                        <a:lnTo>
                          <a:pt x="758" y="949"/>
                        </a:lnTo>
                        <a:lnTo>
                          <a:pt x="768" y="929"/>
                        </a:lnTo>
                        <a:lnTo>
                          <a:pt x="768" y="895"/>
                        </a:lnTo>
                        <a:lnTo>
                          <a:pt x="739" y="843"/>
                        </a:lnTo>
                        <a:lnTo>
                          <a:pt x="704" y="811"/>
                        </a:lnTo>
                        <a:lnTo>
                          <a:pt x="657" y="770"/>
                        </a:lnTo>
                        <a:lnTo>
                          <a:pt x="584" y="715"/>
                        </a:lnTo>
                        <a:lnTo>
                          <a:pt x="535" y="689"/>
                        </a:lnTo>
                        <a:lnTo>
                          <a:pt x="430" y="643"/>
                        </a:lnTo>
                        <a:lnTo>
                          <a:pt x="368" y="630"/>
                        </a:lnTo>
                        <a:lnTo>
                          <a:pt x="333" y="630"/>
                        </a:lnTo>
                        <a:lnTo>
                          <a:pt x="283" y="639"/>
                        </a:lnTo>
                        <a:lnTo>
                          <a:pt x="213" y="669"/>
                        </a:lnTo>
                        <a:lnTo>
                          <a:pt x="279" y="623"/>
                        </a:lnTo>
                        <a:lnTo>
                          <a:pt x="306" y="587"/>
                        </a:lnTo>
                        <a:lnTo>
                          <a:pt x="325" y="535"/>
                        </a:lnTo>
                        <a:lnTo>
                          <a:pt x="341" y="478"/>
                        </a:lnTo>
                        <a:lnTo>
                          <a:pt x="344" y="412"/>
                        </a:lnTo>
                        <a:lnTo>
                          <a:pt x="329" y="341"/>
                        </a:lnTo>
                        <a:lnTo>
                          <a:pt x="309" y="312"/>
                        </a:lnTo>
                        <a:lnTo>
                          <a:pt x="279" y="285"/>
                        </a:lnTo>
                        <a:lnTo>
                          <a:pt x="239" y="246"/>
                        </a:lnTo>
                        <a:lnTo>
                          <a:pt x="300" y="288"/>
                        </a:lnTo>
                        <a:lnTo>
                          <a:pt x="341" y="312"/>
                        </a:lnTo>
                        <a:lnTo>
                          <a:pt x="355" y="320"/>
                        </a:lnTo>
                        <a:lnTo>
                          <a:pt x="395" y="338"/>
                        </a:lnTo>
                        <a:lnTo>
                          <a:pt x="457" y="354"/>
                        </a:lnTo>
                        <a:lnTo>
                          <a:pt x="529" y="354"/>
                        </a:lnTo>
                        <a:lnTo>
                          <a:pt x="624" y="357"/>
                        </a:lnTo>
                        <a:lnTo>
                          <a:pt x="700" y="361"/>
                        </a:lnTo>
                        <a:lnTo>
                          <a:pt x="768" y="358"/>
                        </a:lnTo>
                        <a:lnTo>
                          <a:pt x="802" y="370"/>
                        </a:lnTo>
                        <a:lnTo>
                          <a:pt x="835" y="370"/>
                        </a:lnTo>
                        <a:lnTo>
                          <a:pt x="868" y="346"/>
                        </a:lnTo>
                        <a:lnTo>
                          <a:pt x="894" y="308"/>
                        </a:lnTo>
                        <a:lnTo>
                          <a:pt x="910" y="272"/>
                        </a:lnTo>
                        <a:lnTo>
                          <a:pt x="913" y="238"/>
                        </a:lnTo>
                        <a:lnTo>
                          <a:pt x="898" y="216"/>
                        </a:lnTo>
                        <a:lnTo>
                          <a:pt x="868" y="205"/>
                        </a:lnTo>
                        <a:lnTo>
                          <a:pt x="847" y="184"/>
                        </a:lnTo>
                        <a:lnTo>
                          <a:pt x="847" y="157"/>
                        </a:lnTo>
                        <a:lnTo>
                          <a:pt x="835" y="137"/>
                        </a:lnTo>
                        <a:lnTo>
                          <a:pt x="821" y="120"/>
                        </a:lnTo>
                        <a:lnTo>
                          <a:pt x="802" y="107"/>
                        </a:lnTo>
                        <a:lnTo>
                          <a:pt x="766" y="95"/>
                        </a:lnTo>
                        <a:lnTo>
                          <a:pt x="709" y="120"/>
                        </a:lnTo>
                        <a:lnTo>
                          <a:pt x="658" y="127"/>
                        </a:lnTo>
                        <a:lnTo>
                          <a:pt x="601" y="130"/>
                        </a:lnTo>
                        <a:lnTo>
                          <a:pt x="556" y="123"/>
                        </a:lnTo>
                        <a:lnTo>
                          <a:pt x="500" y="107"/>
                        </a:lnTo>
                        <a:lnTo>
                          <a:pt x="448" y="81"/>
                        </a:lnTo>
                        <a:lnTo>
                          <a:pt x="417" y="62"/>
                        </a:lnTo>
                        <a:lnTo>
                          <a:pt x="390" y="68"/>
                        </a:lnTo>
                        <a:lnTo>
                          <a:pt x="368" y="80"/>
                        </a:lnTo>
                        <a:lnTo>
                          <a:pt x="375" y="123"/>
                        </a:lnTo>
                        <a:lnTo>
                          <a:pt x="430" y="154"/>
                        </a:lnTo>
                        <a:lnTo>
                          <a:pt x="487" y="189"/>
                        </a:lnTo>
                        <a:lnTo>
                          <a:pt x="558" y="223"/>
                        </a:lnTo>
                        <a:lnTo>
                          <a:pt x="638" y="251"/>
                        </a:lnTo>
                        <a:lnTo>
                          <a:pt x="697" y="261"/>
                        </a:lnTo>
                        <a:lnTo>
                          <a:pt x="628" y="256"/>
                        </a:lnTo>
                        <a:lnTo>
                          <a:pt x="542" y="226"/>
                        </a:lnTo>
                        <a:lnTo>
                          <a:pt x="492" y="200"/>
                        </a:lnTo>
                        <a:lnTo>
                          <a:pt x="390" y="134"/>
                        </a:lnTo>
                        <a:lnTo>
                          <a:pt x="341" y="92"/>
                        </a:lnTo>
                        <a:lnTo>
                          <a:pt x="310" y="92"/>
                        </a:lnTo>
                        <a:lnTo>
                          <a:pt x="277" y="88"/>
                        </a:lnTo>
                        <a:lnTo>
                          <a:pt x="247" y="77"/>
                        </a:lnTo>
                        <a:lnTo>
                          <a:pt x="204" y="46"/>
                        </a:lnTo>
                        <a:lnTo>
                          <a:pt x="149" y="0"/>
                        </a:lnTo>
                        <a:lnTo>
                          <a:pt x="99" y="5"/>
                        </a:lnTo>
                        <a:lnTo>
                          <a:pt x="89" y="61"/>
                        </a:lnTo>
                        <a:lnTo>
                          <a:pt x="73" y="111"/>
                        </a:lnTo>
                        <a:lnTo>
                          <a:pt x="49" y="153"/>
                        </a:lnTo>
                        <a:lnTo>
                          <a:pt x="19" y="189"/>
                        </a:lnTo>
                        <a:lnTo>
                          <a:pt x="10" y="216"/>
                        </a:lnTo>
                        <a:lnTo>
                          <a:pt x="11" y="249"/>
                        </a:lnTo>
                        <a:lnTo>
                          <a:pt x="23" y="288"/>
                        </a:lnTo>
                        <a:lnTo>
                          <a:pt x="50" y="323"/>
                        </a:lnTo>
                        <a:lnTo>
                          <a:pt x="42" y="350"/>
                        </a:lnTo>
                        <a:lnTo>
                          <a:pt x="46" y="384"/>
                        </a:lnTo>
                        <a:lnTo>
                          <a:pt x="60" y="419"/>
                        </a:lnTo>
                        <a:lnTo>
                          <a:pt x="82" y="445"/>
                        </a:lnTo>
                        <a:lnTo>
                          <a:pt x="49" y="462"/>
                        </a:lnTo>
                        <a:lnTo>
                          <a:pt x="27" y="481"/>
                        </a:lnTo>
                        <a:lnTo>
                          <a:pt x="7" y="512"/>
                        </a:lnTo>
                        <a:lnTo>
                          <a:pt x="0" y="561"/>
                        </a:lnTo>
                        <a:lnTo>
                          <a:pt x="42" y="616"/>
                        </a:lnTo>
                        <a:lnTo>
                          <a:pt x="66" y="665"/>
                        </a:lnTo>
                        <a:lnTo>
                          <a:pt x="82" y="712"/>
                        </a:lnTo>
                        <a:lnTo>
                          <a:pt x="80" y="772"/>
                        </a:lnTo>
                        <a:lnTo>
                          <a:pt x="69" y="814"/>
                        </a:lnTo>
                        <a:lnTo>
                          <a:pt x="69" y="843"/>
                        </a:lnTo>
                        <a:lnTo>
                          <a:pt x="88" y="862"/>
                        </a:lnTo>
                        <a:lnTo>
                          <a:pt x="115" y="866"/>
                        </a:lnTo>
                        <a:lnTo>
                          <a:pt x="149" y="857"/>
                        </a:lnTo>
                        <a:lnTo>
                          <a:pt x="216" y="827"/>
                        </a:lnTo>
                        <a:lnTo>
                          <a:pt x="282" y="804"/>
                        </a:lnTo>
                        <a:lnTo>
                          <a:pt x="328" y="795"/>
                        </a:lnTo>
                        <a:lnTo>
                          <a:pt x="372" y="791"/>
                        </a:lnTo>
                        <a:lnTo>
                          <a:pt x="414" y="795"/>
                        </a:lnTo>
                        <a:lnTo>
                          <a:pt x="446" y="804"/>
                        </a:lnTo>
                        <a:lnTo>
                          <a:pt x="489" y="816"/>
                        </a:lnTo>
                        <a:lnTo>
                          <a:pt x="535" y="830"/>
                        </a:lnTo>
                        <a:lnTo>
                          <a:pt x="546" y="803"/>
                        </a:lnTo>
                        <a:close/>
                      </a:path>
                    </a:pathLst>
                  </a:custGeom>
                  <a:solidFill>
                    <a:srgbClr val="ff808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99" name=""/>
                  <p:cNvSpPr/>
                  <p:nvPr/>
                </p:nvSpPr>
                <p:spPr>
                  <a:xfrm>
                    <a:off x="5602680" y="374400"/>
                    <a:ext cx="237240" cy="218880"/>
                  </a:xfrm>
                  <a:custGeom>
                    <a:avLst/>
                    <a:gdLst/>
                    <a:ahLst/>
                    <a:rect l="l" t="t" r="r" b="b"/>
                    <a:pathLst>
                      <a:path w="601" h="578">
                        <a:moveTo>
                          <a:pt x="509" y="0"/>
                        </a:moveTo>
                        <a:lnTo>
                          <a:pt x="476" y="3"/>
                        </a:lnTo>
                        <a:lnTo>
                          <a:pt x="442" y="15"/>
                        </a:lnTo>
                        <a:lnTo>
                          <a:pt x="407" y="39"/>
                        </a:lnTo>
                        <a:lnTo>
                          <a:pt x="391" y="55"/>
                        </a:lnTo>
                        <a:lnTo>
                          <a:pt x="365" y="88"/>
                        </a:lnTo>
                        <a:lnTo>
                          <a:pt x="329" y="124"/>
                        </a:lnTo>
                        <a:lnTo>
                          <a:pt x="283" y="157"/>
                        </a:lnTo>
                        <a:lnTo>
                          <a:pt x="233" y="181"/>
                        </a:lnTo>
                        <a:lnTo>
                          <a:pt x="160" y="193"/>
                        </a:lnTo>
                        <a:lnTo>
                          <a:pt x="91" y="200"/>
                        </a:lnTo>
                        <a:lnTo>
                          <a:pt x="51" y="207"/>
                        </a:lnTo>
                        <a:lnTo>
                          <a:pt x="13" y="235"/>
                        </a:lnTo>
                        <a:lnTo>
                          <a:pt x="0" y="273"/>
                        </a:lnTo>
                        <a:lnTo>
                          <a:pt x="0" y="296"/>
                        </a:lnTo>
                        <a:lnTo>
                          <a:pt x="28" y="317"/>
                        </a:lnTo>
                        <a:lnTo>
                          <a:pt x="59" y="334"/>
                        </a:lnTo>
                        <a:lnTo>
                          <a:pt x="101" y="340"/>
                        </a:lnTo>
                        <a:lnTo>
                          <a:pt x="128" y="335"/>
                        </a:lnTo>
                        <a:lnTo>
                          <a:pt x="153" y="338"/>
                        </a:lnTo>
                        <a:lnTo>
                          <a:pt x="179" y="347"/>
                        </a:lnTo>
                        <a:lnTo>
                          <a:pt x="197" y="370"/>
                        </a:lnTo>
                        <a:lnTo>
                          <a:pt x="226" y="377"/>
                        </a:lnTo>
                        <a:lnTo>
                          <a:pt x="263" y="381"/>
                        </a:lnTo>
                        <a:lnTo>
                          <a:pt x="304" y="384"/>
                        </a:lnTo>
                        <a:lnTo>
                          <a:pt x="345" y="393"/>
                        </a:lnTo>
                        <a:lnTo>
                          <a:pt x="377" y="414"/>
                        </a:lnTo>
                        <a:lnTo>
                          <a:pt x="403" y="436"/>
                        </a:lnTo>
                        <a:lnTo>
                          <a:pt x="427" y="473"/>
                        </a:lnTo>
                        <a:lnTo>
                          <a:pt x="443" y="524"/>
                        </a:lnTo>
                        <a:lnTo>
                          <a:pt x="462" y="578"/>
                        </a:lnTo>
                        <a:lnTo>
                          <a:pt x="492" y="531"/>
                        </a:lnTo>
                        <a:lnTo>
                          <a:pt x="516" y="493"/>
                        </a:lnTo>
                        <a:lnTo>
                          <a:pt x="551" y="453"/>
                        </a:lnTo>
                        <a:lnTo>
                          <a:pt x="558" y="427"/>
                        </a:lnTo>
                        <a:lnTo>
                          <a:pt x="578" y="389"/>
                        </a:lnTo>
                        <a:lnTo>
                          <a:pt x="601" y="338"/>
                        </a:lnTo>
                        <a:lnTo>
                          <a:pt x="578" y="327"/>
                        </a:lnTo>
                        <a:lnTo>
                          <a:pt x="551" y="305"/>
                        </a:lnTo>
                        <a:lnTo>
                          <a:pt x="512" y="273"/>
                        </a:lnTo>
                        <a:lnTo>
                          <a:pt x="493" y="239"/>
                        </a:lnTo>
                        <a:lnTo>
                          <a:pt x="482" y="207"/>
                        </a:lnTo>
                        <a:lnTo>
                          <a:pt x="404" y="207"/>
                        </a:lnTo>
                        <a:lnTo>
                          <a:pt x="352" y="212"/>
                        </a:lnTo>
                        <a:lnTo>
                          <a:pt x="281" y="227"/>
                        </a:lnTo>
                        <a:lnTo>
                          <a:pt x="348" y="203"/>
                        </a:lnTo>
                        <a:lnTo>
                          <a:pt x="403" y="193"/>
                        </a:lnTo>
                        <a:lnTo>
                          <a:pt x="482" y="203"/>
                        </a:lnTo>
                        <a:lnTo>
                          <a:pt x="480" y="143"/>
                        </a:lnTo>
                        <a:lnTo>
                          <a:pt x="485" y="78"/>
                        </a:lnTo>
                        <a:lnTo>
                          <a:pt x="509" y="0"/>
                        </a:lnTo>
                        <a:close/>
                      </a:path>
                    </a:pathLst>
                  </a:custGeom>
                  <a:solidFill>
                    <a:srgbClr val="ff808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800" name=""/>
                <p:cNvGrpSpPr/>
                <p:nvPr/>
              </p:nvGrpSpPr>
              <p:grpSpPr>
                <a:xfrm>
                  <a:off x="5113440" y="144360"/>
                  <a:ext cx="850680" cy="1014480"/>
                  <a:chOff x="5113440" y="144360"/>
                  <a:chExt cx="850680" cy="1014480"/>
                </a:xfrm>
              </p:grpSpPr>
              <p:sp>
                <p:nvSpPr>
                  <p:cNvPr id="11801" name=""/>
                  <p:cNvSpPr/>
                  <p:nvPr/>
                </p:nvSpPr>
                <p:spPr>
                  <a:xfrm>
                    <a:off x="5113440" y="144360"/>
                    <a:ext cx="850680" cy="1014480"/>
                  </a:xfrm>
                  <a:custGeom>
                    <a:avLst/>
                    <a:gdLst/>
                    <a:ahLst/>
                    <a:rect l="l" t="t" r="r" b="b"/>
                    <a:pathLst>
                      <a:path w="2148" h="2684">
                        <a:moveTo>
                          <a:pt x="1147" y="2684"/>
                        </a:moveTo>
                        <a:lnTo>
                          <a:pt x="1170" y="2669"/>
                        </a:lnTo>
                        <a:lnTo>
                          <a:pt x="1183" y="2558"/>
                        </a:lnTo>
                        <a:lnTo>
                          <a:pt x="1197" y="2441"/>
                        </a:lnTo>
                        <a:lnTo>
                          <a:pt x="1210" y="2365"/>
                        </a:lnTo>
                        <a:lnTo>
                          <a:pt x="1249" y="2303"/>
                        </a:lnTo>
                        <a:lnTo>
                          <a:pt x="1287" y="2221"/>
                        </a:lnTo>
                        <a:lnTo>
                          <a:pt x="1305" y="2145"/>
                        </a:lnTo>
                        <a:lnTo>
                          <a:pt x="1307" y="2076"/>
                        </a:lnTo>
                        <a:lnTo>
                          <a:pt x="1305" y="2042"/>
                        </a:lnTo>
                        <a:lnTo>
                          <a:pt x="1367" y="2056"/>
                        </a:lnTo>
                        <a:lnTo>
                          <a:pt x="1435" y="2058"/>
                        </a:lnTo>
                        <a:lnTo>
                          <a:pt x="1512" y="2049"/>
                        </a:lnTo>
                        <a:lnTo>
                          <a:pt x="1574" y="2027"/>
                        </a:lnTo>
                        <a:lnTo>
                          <a:pt x="1601" y="2014"/>
                        </a:lnTo>
                        <a:lnTo>
                          <a:pt x="1655" y="1960"/>
                        </a:lnTo>
                        <a:lnTo>
                          <a:pt x="1668" y="1925"/>
                        </a:lnTo>
                        <a:lnTo>
                          <a:pt x="1725" y="1897"/>
                        </a:lnTo>
                        <a:lnTo>
                          <a:pt x="1767" y="1856"/>
                        </a:lnTo>
                        <a:lnTo>
                          <a:pt x="1801" y="1794"/>
                        </a:lnTo>
                        <a:lnTo>
                          <a:pt x="1821" y="1718"/>
                        </a:lnTo>
                        <a:lnTo>
                          <a:pt x="1813" y="1600"/>
                        </a:lnTo>
                        <a:lnTo>
                          <a:pt x="1863" y="1573"/>
                        </a:lnTo>
                        <a:lnTo>
                          <a:pt x="1918" y="1500"/>
                        </a:lnTo>
                        <a:lnTo>
                          <a:pt x="1956" y="1429"/>
                        </a:lnTo>
                        <a:lnTo>
                          <a:pt x="1977" y="1299"/>
                        </a:lnTo>
                        <a:lnTo>
                          <a:pt x="2020" y="1280"/>
                        </a:lnTo>
                        <a:lnTo>
                          <a:pt x="2061" y="1250"/>
                        </a:lnTo>
                        <a:lnTo>
                          <a:pt x="2105" y="1189"/>
                        </a:lnTo>
                        <a:lnTo>
                          <a:pt x="2120" y="1156"/>
                        </a:lnTo>
                        <a:lnTo>
                          <a:pt x="2143" y="1050"/>
                        </a:lnTo>
                        <a:lnTo>
                          <a:pt x="2148" y="981"/>
                        </a:lnTo>
                        <a:lnTo>
                          <a:pt x="2143" y="946"/>
                        </a:lnTo>
                        <a:lnTo>
                          <a:pt x="2123" y="893"/>
                        </a:lnTo>
                        <a:lnTo>
                          <a:pt x="2089" y="877"/>
                        </a:lnTo>
                        <a:lnTo>
                          <a:pt x="2116" y="784"/>
                        </a:lnTo>
                        <a:lnTo>
                          <a:pt x="2113" y="726"/>
                        </a:lnTo>
                        <a:lnTo>
                          <a:pt x="2096" y="695"/>
                        </a:lnTo>
                        <a:lnTo>
                          <a:pt x="2100" y="616"/>
                        </a:lnTo>
                        <a:lnTo>
                          <a:pt x="2080" y="557"/>
                        </a:lnTo>
                        <a:lnTo>
                          <a:pt x="2074" y="492"/>
                        </a:lnTo>
                        <a:lnTo>
                          <a:pt x="2130" y="341"/>
                        </a:lnTo>
                        <a:lnTo>
                          <a:pt x="2143" y="276"/>
                        </a:lnTo>
                        <a:lnTo>
                          <a:pt x="2142" y="207"/>
                        </a:lnTo>
                        <a:lnTo>
                          <a:pt x="2130" y="134"/>
                        </a:lnTo>
                        <a:lnTo>
                          <a:pt x="2102" y="77"/>
                        </a:lnTo>
                        <a:lnTo>
                          <a:pt x="2054" y="19"/>
                        </a:lnTo>
                        <a:lnTo>
                          <a:pt x="1985" y="0"/>
                        </a:lnTo>
                        <a:lnTo>
                          <a:pt x="1896" y="118"/>
                        </a:lnTo>
                        <a:lnTo>
                          <a:pt x="1846" y="184"/>
                        </a:lnTo>
                        <a:lnTo>
                          <a:pt x="1780" y="253"/>
                        </a:lnTo>
                        <a:lnTo>
                          <a:pt x="1709" y="311"/>
                        </a:lnTo>
                        <a:lnTo>
                          <a:pt x="1668" y="343"/>
                        </a:lnTo>
                        <a:lnTo>
                          <a:pt x="1636" y="381"/>
                        </a:lnTo>
                        <a:lnTo>
                          <a:pt x="1558" y="391"/>
                        </a:lnTo>
                        <a:lnTo>
                          <a:pt x="1496" y="432"/>
                        </a:lnTo>
                        <a:lnTo>
                          <a:pt x="1449" y="501"/>
                        </a:lnTo>
                        <a:lnTo>
                          <a:pt x="1334" y="485"/>
                        </a:lnTo>
                        <a:lnTo>
                          <a:pt x="1279" y="492"/>
                        </a:lnTo>
                        <a:lnTo>
                          <a:pt x="1202" y="515"/>
                        </a:lnTo>
                        <a:lnTo>
                          <a:pt x="1101" y="561"/>
                        </a:lnTo>
                        <a:lnTo>
                          <a:pt x="1032" y="534"/>
                        </a:lnTo>
                        <a:lnTo>
                          <a:pt x="854" y="519"/>
                        </a:lnTo>
                        <a:lnTo>
                          <a:pt x="791" y="522"/>
                        </a:lnTo>
                        <a:lnTo>
                          <a:pt x="736" y="524"/>
                        </a:lnTo>
                        <a:lnTo>
                          <a:pt x="679" y="481"/>
                        </a:lnTo>
                        <a:lnTo>
                          <a:pt x="582" y="446"/>
                        </a:lnTo>
                        <a:lnTo>
                          <a:pt x="516" y="439"/>
                        </a:lnTo>
                        <a:lnTo>
                          <a:pt x="480" y="449"/>
                        </a:lnTo>
                        <a:lnTo>
                          <a:pt x="446" y="414"/>
                        </a:lnTo>
                        <a:lnTo>
                          <a:pt x="420" y="366"/>
                        </a:lnTo>
                        <a:lnTo>
                          <a:pt x="372" y="380"/>
                        </a:lnTo>
                        <a:lnTo>
                          <a:pt x="315" y="384"/>
                        </a:lnTo>
                        <a:lnTo>
                          <a:pt x="269" y="377"/>
                        </a:lnTo>
                        <a:lnTo>
                          <a:pt x="240" y="364"/>
                        </a:lnTo>
                        <a:lnTo>
                          <a:pt x="171" y="419"/>
                        </a:lnTo>
                        <a:lnTo>
                          <a:pt x="152" y="449"/>
                        </a:lnTo>
                        <a:lnTo>
                          <a:pt x="112" y="462"/>
                        </a:lnTo>
                        <a:lnTo>
                          <a:pt x="66" y="501"/>
                        </a:lnTo>
                        <a:lnTo>
                          <a:pt x="36" y="565"/>
                        </a:lnTo>
                        <a:lnTo>
                          <a:pt x="23" y="614"/>
                        </a:lnTo>
                        <a:lnTo>
                          <a:pt x="23" y="660"/>
                        </a:lnTo>
                        <a:lnTo>
                          <a:pt x="29" y="716"/>
                        </a:lnTo>
                        <a:lnTo>
                          <a:pt x="52" y="772"/>
                        </a:lnTo>
                        <a:lnTo>
                          <a:pt x="85" y="811"/>
                        </a:lnTo>
                        <a:lnTo>
                          <a:pt x="86" y="837"/>
                        </a:lnTo>
                        <a:lnTo>
                          <a:pt x="56" y="903"/>
                        </a:lnTo>
                        <a:lnTo>
                          <a:pt x="23" y="965"/>
                        </a:lnTo>
                        <a:lnTo>
                          <a:pt x="4" y="1023"/>
                        </a:lnTo>
                        <a:lnTo>
                          <a:pt x="0" y="1066"/>
                        </a:lnTo>
                        <a:lnTo>
                          <a:pt x="4" y="1116"/>
                        </a:lnTo>
                        <a:lnTo>
                          <a:pt x="16" y="1158"/>
                        </a:lnTo>
                        <a:lnTo>
                          <a:pt x="39" y="1192"/>
                        </a:lnTo>
                        <a:lnTo>
                          <a:pt x="86" y="1222"/>
                        </a:lnTo>
                        <a:lnTo>
                          <a:pt x="66" y="1264"/>
                        </a:lnTo>
                        <a:lnTo>
                          <a:pt x="55" y="1293"/>
                        </a:lnTo>
                        <a:lnTo>
                          <a:pt x="50" y="1339"/>
                        </a:lnTo>
                        <a:lnTo>
                          <a:pt x="52" y="1454"/>
                        </a:lnTo>
                        <a:lnTo>
                          <a:pt x="56" y="1539"/>
                        </a:lnTo>
                        <a:lnTo>
                          <a:pt x="79" y="1622"/>
                        </a:lnTo>
                        <a:lnTo>
                          <a:pt x="128" y="1718"/>
                        </a:lnTo>
                        <a:lnTo>
                          <a:pt x="114" y="1741"/>
                        </a:lnTo>
                        <a:lnTo>
                          <a:pt x="106" y="1777"/>
                        </a:lnTo>
                        <a:lnTo>
                          <a:pt x="118" y="1830"/>
                        </a:lnTo>
                        <a:lnTo>
                          <a:pt x="145" y="1874"/>
                        </a:lnTo>
                        <a:lnTo>
                          <a:pt x="187" y="1914"/>
                        </a:lnTo>
                        <a:lnTo>
                          <a:pt x="234" y="1943"/>
                        </a:lnTo>
                        <a:lnTo>
                          <a:pt x="292" y="1953"/>
                        </a:lnTo>
                        <a:lnTo>
                          <a:pt x="374" y="1945"/>
                        </a:lnTo>
                        <a:lnTo>
                          <a:pt x="447" y="1922"/>
                        </a:lnTo>
                        <a:lnTo>
                          <a:pt x="505" y="1879"/>
                        </a:lnTo>
                        <a:lnTo>
                          <a:pt x="558" y="1861"/>
                        </a:lnTo>
                        <a:lnTo>
                          <a:pt x="608" y="1856"/>
                        </a:lnTo>
                        <a:lnTo>
                          <a:pt x="648" y="1851"/>
                        </a:lnTo>
                        <a:lnTo>
                          <a:pt x="702" y="1838"/>
                        </a:lnTo>
                        <a:lnTo>
                          <a:pt x="732" y="1806"/>
                        </a:lnTo>
                        <a:lnTo>
                          <a:pt x="740" y="1769"/>
                        </a:lnTo>
                        <a:lnTo>
                          <a:pt x="736" y="1720"/>
                        </a:lnTo>
                        <a:lnTo>
                          <a:pt x="733" y="1688"/>
                        </a:lnTo>
                        <a:lnTo>
                          <a:pt x="749" y="1664"/>
                        </a:lnTo>
                        <a:lnTo>
                          <a:pt x="772" y="1652"/>
                        </a:lnTo>
                        <a:lnTo>
                          <a:pt x="804" y="1652"/>
                        </a:lnTo>
                        <a:lnTo>
                          <a:pt x="854" y="1668"/>
                        </a:lnTo>
                        <a:lnTo>
                          <a:pt x="900" y="1554"/>
                        </a:lnTo>
                        <a:lnTo>
                          <a:pt x="783" y="1516"/>
                        </a:lnTo>
                        <a:lnTo>
                          <a:pt x="702" y="1520"/>
                        </a:lnTo>
                        <a:lnTo>
                          <a:pt x="625" y="1541"/>
                        </a:lnTo>
                        <a:lnTo>
                          <a:pt x="546" y="1576"/>
                        </a:lnTo>
                        <a:lnTo>
                          <a:pt x="463" y="1610"/>
                        </a:lnTo>
                        <a:lnTo>
                          <a:pt x="427" y="1623"/>
                        </a:lnTo>
                        <a:lnTo>
                          <a:pt x="430" y="1577"/>
                        </a:lnTo>
                        <a:lnTo>
                          <a:pt x="457" y="1508"/>
                        </a:lnTo>
                        <a:lnTo>
                          <a:pt x="461" y="1435"/>
                        </a:lnTo>
                        <a:lnTo>
                          <a:pt x="427" y="1345"/>
                        </a:lnTo>
                        <a:lnTo>
                          <a:pt x="395" y="1300"/>
                        </a:lnTo>
                        <a:lnTo>
                          <a:pt x="388" y="1277"/>
                        </a:lnTo>
                        <a:lnTo>
                          <a:pt x="385" y="1254"/>
                        </a:lnTo>
                        <a:lnTo>
                          <a:pt x="415" y="1181"/>
                        </a:lnTo>
                        <a:lnTo>
                          <a:pt x="423" y="1126"/>
                        </a:lnTo>
                        <a:lnTo>
                          <a:pt x="423" y="1058"/>
                        </a:lnTo>
                        <a:lnTo>
                          <a:pt x="400" y="1002"/>
                        </a:lnTo>
                        <a:lnTo>
                          <a:pt x="361" y="933"/>
                        </a:lnTo>
                        <a:lnTo>
                          <a:pt x="407" y="905"/>
                        </a:lnTo>
                        <a:lnTo>
                          <a:pt x="450" y="843"/>
                        </a:lnTo>
                        <a:lnTo>
                          <a:pt x="474" y="769"/>
                        </a:lnTo>
                        <a:lnTo>
                          <a:pt x="484" y="726"/>
                        </a:lnTo>
                        <a:lnTo>
                          <a:pt x="542" y="722"/>
                        </a:lnTo>
                        <a:lnTo>
                          <a:pt x="589" y="769"/>
                        </a:lnTo>
                        <a:lnTo>
                          <a:pt x="658" y="811"/>
                        </a:lnTo>
                        <a:lnTo>
                          <a:pt x="710" y="815"/>
                        </a:lnTo>
                        <a:lnTo>
                          <a:pt x="753" y="800"/>
                        </a:lnTo>
                        <a:lnTo>
                          <a:pt x="792" y="777"/>
                        </a:lnTo>
                        <a:lnTo>
                          <a:pt x="831" y="808"/>
                        </a:lnTo>
                        <a:lnTo>
                          <a:pt x="896" y="838"/>
                        </a:lnTo>
                        <a:lnTo>
                          <a:pt x="982" y="853"/>
                        </a:lnTo>
                        <a:lnTo>
                          <a:pt x="1051" y="850"/>
                        </a:lnTo>
                        <a:lnTo>
                          <a:pt x="1098" y="843"/>
                        </a:lnTo>
                        <a:lnTo>
                          <a:pt x="1154" y="818"/>
                        </a:lnTo>
                        <a:lnTo>
                          <a:pt x="1209" y="784"/>
                        </a:lnTo>
                        <a:lnTo>
                          <a:pt x="1278" y="815"/>
                        </a:lnTo>
                        <a:lnTo>
                          <a:pt x="1353" y="808"/>
                        </a:lnTo>
                        <a:lnTo>
                          <a:pt x="1458" y="795"/>
                        </a:lnTo>
                        <a:lnTo>
                          <a:pt x="1519" y="762"/>
                        </a:lnTo>
                        <a:lnTo>
                          <a:pt x="1567" y="726"/>
                        </a:lnTo>
                        <a:lnTo>
                          <a:pt x="1609" y="677"/>
                        </a:lnTo>
                        <a:lnTo>
                          <a:pt x="1623" y="657"/>
                        </a:lnTo>
                        <a:lnTo>
                          <a:pt x="1663" y="603"/>
                        </a:lnTo>
                        <a:lnTo>
                          <a:pt x="1698" y="596"/>
                        </a:lnTo>
                        <a:lnTo>
                          <a:pt x="1752" y="581"/>
                        </a:lnTo>
                        <a:lnTo>
                          <a:pt x="1724" y="689"/>
                        </a:lnTo>
                        <a:lnTo>
                          <a:pt x="1718" y="795"/>
                        </a:lnTo>
                        <a:lnTo>
                          <a:pt x="1732" y="854"/>
                        </a:lnTo>
                        <a:lnTo>
                          <a:pt x="1764" y="900"/>
                        </a:lnTo>
                        <a:lnTo>
                          <a:pt x="1841" y="949"/>
                        </a:lnTo>
                        <a:lnTo>
                          <a:pt x="1814" y="1002"/>
                        </a:lnTo>
                        <a:lnTo>
                          <a:pt x="1787" y="1066"/>
                        </a:lnTo>
                        <a:lnTo>
                          <a:pt x="1752" y="1104"/>
                        </a:lnTo>
                        <a:lnTo>
                          <a:pt x="1716" y="1161"/>
                        </a:lnTo>
                        <a:lnTo>
                          <a:pt x="1691" y="1230"/>
                        </a:lnTo>
                        <a:lnTo>
                          <a:pt x="1695" y="1307"/>
                        </a:lnTo>
                        <a:lnTo>
                          <a:pt x="1679" y="1333"/>
                        </a:lnTo>
                        <a:lnTo>
                          <a:pt x="1634" y="1360"/>
                        </a:lnTo>
                        <a:lnTo>
                          <a:pt x="1593" y="1396"/>
                        </a:lnTo>
                        <a:lnTo>
                          <a:pt x="1570" y="1429"/>
                        </a:lnTo>
                        <a:lnTo>
                          <a:pt x="1554" y="1470"/>
                        </a:lnTo>
                        <a:lnTo>
                          <a:pt x="1551" y="1527"/>
                        </a:lnTo>
                        <a:lnTo>
                          <a:pt x="1547" y="1608"/>
                        </a:lnTo>
                        <a:lnTo>
                          <a:pt x="1527" y="1677"/>
                        </a:lnTo>
                        <a:lnTo>
                          <a:pt x="1504" y="1766"/>
                        </a:lnTo>
                        <a:lnTo>
                          <a:pt x="1476" y="1803"/>
                        </a:lnTo>
                        <a:lnTo>
                          <a:pt x="1449" y="1823"/>
                        </a:lnTo>
                        <a:lnTo>
                          <a:pt x="1407" y="1835"/>
                        </a:lnTo>
                        <a:lnTo>
                          <a:pt x="1377" y="1838"/>
                        </a:lnTo>
                        <a:lnTo>
                          <a:pt x="1350" y="1830"/>
                        </a:lnTo>
                        <a:lnTo>
                          <a:pt x="1321" y="1822"/>
                        </a:lnTo>
                        <a:lnTo>
                          <a:pt x="1287" y="1800"/>
                        </a:lnTo>
                        <a:lnTo>
                          <a:pt x="1256" y="1783"/>
                        </a:lnTo>
                        <a:lnTo>
                          <a:pt x="1222" y="1766"/>
                        </a:lnTo>
                        <a:lnTo>
                          <a:pt x="1186" y="1757"/>
                        </a:lnTo>
                        <a:lnTo>
                          <a:pt x="1159" y="1753"/>
                        </a:lnTo>
                        <a:lnTo>
                          <a:pt x="1128" y="1757"/>
                        </a:lnTo>
                        <a:lnTo>
                          <a:pt x="1090" y="1783"/>
                        </a:lnTo>
                        <a:lnTo>
                          <a:pt x="1059" y="1817"/>
                        </a:lnTo>
                        <a:lnTo>
                          <a:pt x="1039" y="1861"/>
                        </a:lnTo>
                        <a:lnTo>
                          <a:pt x="1028" y="1934"/>
                        </a:lnTo>
                        <a:lnTo>
                          <a:pt x="1032" y="2022"/>
                        </a:lnTo>
                        <a:lnTo>
                          <a:pt x="1058" y="2045"/>
                        </a:lnTo>
                        <a:lnTo>
                          <a:pt x="1038" y="2096"/>
                        </a:lnTo>
                        <a:lnTo>
                          <a:pt x="1044" y="2207"/>
                        </a:lnTo>
                        <a:lnTo>
                          <a:pt x="1116" y="2407"/>
                        </a:lnTo>
                        <a:lnTo>
                          <a:pt x="1116" y="2472"/>
                        </a:lnTo>
                        <a:lnTo>
                          <a:pt x="1127" y="2661"/>
                        </a:lnTo>
                        <a:lnTo>
                          <a:pt x="1147" y="2684"/>
                        </a:lnTo>
                        <a:close/>
                      </a:path>
                    </a:pathLst>
                  </a:custGeom>
                  <a:solidFill>
                    <a:srgbClr val="ffc08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1802" name=""/>
                  <p:cNvGrpSpPr/>
                  <p:nvPr/>
                </p:nvGrpSpPr>
                <p:grpSpPr>
                  <a:xfrm>
                    <a:off x="5164560" y="265680"/>
                    <a:ext cx="745560" cy="592920"/>
                    <a:chOff x="5164560" y="265680"/>
                    <a:chExt cx="745560" cy="592920"/>
                  </a:xfrm>
                </p:grpSpPr>
                <p:sp>
                  <p:nvSpPr>
                    <p:cNvPr id="11803" name=""/>
                    <p:cNvSpPr/>
                    <p:nvPr/>
                  </p:nvSpPr>
                  <p:spPr>
                    <a:xfrm>
                      <a:off x="5848560" y="325440"/>
                      <a:ext cx="10440" cy="5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145">
                          <a:moveTo>
                            <a:pt x="28" y="145"/>
                          </a:moveTo>
                          <a:lnTo>
                            <a:pt x="0" y="81"/>
                          </a:lnTo>
                          <a:lnTo>
                            <a:pt x="0" y="14"/>
                          </a:lnTo>
                          <a:lnTo>
                            <a:pt x="15" y="0"/>
                          </a:lnTo>
                        </a:path>
                      </a:pathLst>
                    </a:custGeom>
                    <a:noFill/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560" bIns="7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804" name=""/>
                    <p:cNvSpPr/>
                    <p:nvPr/>
                  </p:nvSpPr>
                  <p:spPr>
                    <a:xfrm>
                      <a:off x="5799960" y="265680"/>
                      <a:ext cx="83160" cy="101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2" h="269">
                          <a:moveTo>
                            <a:pt x="212" y="0"/>
                          </a:moveTo>
                          <a:lnTo>
                            <a:pt x="185" y="62"/>
                          </a:lnTo>
                          <a:lnTo>
                            <a:pt x="158" y="124"/>
                          </a:lnTo>
                          <a:lnTo>
                            <a:pt x="145" y="173"/>
                          </a:lnTo>
                          <a:lnTo>
                            <a:pt x="96" y="200"/>
                          </a:lnTo>
                          <a:lnTo>
                            <a:pt x="49" y="248"/>
                          </a:lnTo>
                          <a:lnTo>
                            <a:pt x="0" y="255"/>
                          </a:lnTo>
                          <a:lnTo>
                            <a:pt x="21" y="269"/>
                          </a:lnTo>
                        </a:path>
                      </a:pathLst>
                    </a:custGeom>
                    <a:noFill/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805" name=""/>
                    <p:cNvSpPr/>
                    <p:nvPr/>
                  </p:nvSpPr>
                  <p:spPr>
                    <a:xfrm>
                      <a:off x="5546880" y="362160"/>
                      <a:ext cx="16560" cy="23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" h="62">
                          <a:moveTo>
                            <a:pt x="0" y="0"/>
                          </a:moveTo>
                          <a:lnTo>
                            <a:pt x="42" y="54"/>
                          </a:lnTo>
                          <a:lnTo>
                            <a:pt x="42" y="62"/>
                          </a:lnTo>
                        </a:path>
                      </a:pathLst>
                    </a:custGeom>
                    <a:noFill/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400" bIns="-23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806" name=""/>
                    <p:cNvSpPr/>
                    <p:nvPr/>
                  </p:nvSpPr>
                  <p:spPr>
                    <a:xfrm>
                      <a:off x="5394960" y="333360"/>
                      <a:ext cx="23400" cy="2952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7280" bIns="-17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807" name=""/>
                    <p:cNvSpPr/>
                    <p:nvPr/>
                  </p:nvSpPr>
                  <p:spPr>
                    <a:xfrm>
                      <a:off x="5164560" y="309600"/>
                      <a:ext cx="138960" cy="21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51" h="56">
                          <a:moveTo>
                            <a:pt x="351" y="0"/>
                          </a:moveTo>
                          <a:lnTo>
                            <a:pt x="302" y="49"/>
                          </a:lnTo>
                          <a:lnTo>
                            <a:pt x="255" y="56"/>
                          </a:lnTo>
                          <a:lnTo>
                            <a:pt x="220" y="21"/>
                          </a:lnTo>
                          <a:lnTo>
                            <a:pt x="166" y="7"/>
                          </a:lnTo>
                          <a:lnTo>
                            <a:pt x="104" y="7"/>
                          </a:lnTo>
                          <a:lnTo>
                            <a:pt x="22" y="7"/>
                          </a:lnTo>
                          <a:lnTo>
                            <a:pt x="0" y="7"/>
                          </a:lnTo>
                          <a:lnTo>
                            <a:pt x="8" y="14"/>
                          </a:lnTo>
                        </a:path>
                      </a:pathLst>
                    </a:custGeom>
                    <a:noFill/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200" bIns="-25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808" name=""/>
                    <p:cNvSpPr/>
                    <p:nvPr/>
                  </p:nvSpPr>
                  <p:spPr>
                    <a:xfrm>
                      <a:off x="5183640" y="390240"/>
                      <a:ext cx="116280" cy="75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5" h="200">
                          <a:moveTo>
                            <a:pt x="295" y="82"/>
                          </a:moveTo>
                          <a:lnTo>
                            <a:pt x="219" y="82"/>
                          </a:lnTo>
                          <a:lnTo>
                            <a:pt x="157" y="82"/>
                          </a:lnTo>
                          <a:lnTo>
                            <a:pt x="102" y="82"/>
                          </a:lnTo>
                          <a:lnTo>
                            <a:pt x="48" y="47"/>
                          </a:lnTo>
                          <a:lnTo>
                            <a:pt x="7" y="0"/>
                          </a:lnTo>
                          <a:lnTo>
                            <a:pt x="41" y="55"/>
                          </a:lnTo>
                          <a:lnTo>
                            <a:pt x="48" y="109"/>
                          </a:lnTo>
                          <a:lnTo>
                            <a:pt x="41" y="158"/>
                          </a:lnTo>
                          <a:lnTo>
                            <a:pt x="20" y="178"/>
                          </a:lnTo>
                          <a:lnTo>
                            <a:pt x="0" y="200"/>
                          </a:lnTo>
                        </a:path>
                      </a:pathLst>
                    </a:custGeom>
                    <a:noFill/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8800" bIns="28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809" name=""/>
                    <p:cNvSpPr/>
                    <p:nvPr/>
                  </p:nvSpPr>
                  <p:spPr>
                    <a:xfrm>
                      <a:off x="5191560" y="520920"/>
                      <a:ext cx="67680" cy="301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1" h="799">
                          <a:moveTo>
                            <a:pt x="0" y="0"/>
                          </a:moveTo>
                          <a:lnTo>
                            <a:pt x="8" y="56"/>
                          </a:lnTo>
                          <a:lnTo>
                            <a:pt x="21" y="110"/>
                          </a:lnTo>
                          <a:lnTo>
                            <a:pt x="77" y="145"/>
                          </a:lnTo>
                          <a:lnTo>
                            <a:pt x="35" y="187"/>
                          </a:lnTo>
                          <a:lnTo>
                            <a:pt x="28" y="234"/>
                          </a:lnTo>
                          <a:lnTo>
                            <a:pt x="48" y="290"/>
                          </a:lnTo>
                          <a:lnTo>
                            <a:pt x="82" y="345"/>
                          </a:lnTo>
                          <a:lnTo>
                            <a:pt x="90" y="379"/>
                          </a:lnTo>
                          <a:lnTo>
                            <a:pt x="97" y="441"/>
                          </a:lnTo>
                          <a:lnTo>
                            <a:pt x="69" y="490"/>
                          </a:lnTo>
                          <a:lnTo>
                            <a:pt x="42" y="537"/>
                          </a:lnTo>
                          <a:lnTo>
                            <a:pt x="90" y="552"/>
                          </a:lnTo>
                          <a:lnTo>
                            <a:pt x="104" y="586"/>
                          </a:lnTo>
                          <a:lnTo>
                            <a:pt x="124" y="655"/>
                          </a:lnTo>
                          <a:lnTo>
                            <a:pt x="124" y="675"/>
                          </a:lnTo>
                          <a:lnTo>
                            <a:pt x="110" y="695"/>
                          </a:lnTo>
                          <a:lnTo>
                            <a:pt x="104" y="737"/>
                          </a:lnTo>
                          <a:lnTo>
                            <a:pt x="110" y="764"/>
                          </a:lnTo>
                          <a:lnTo>
                            <a:pt x="151" y="786"/>
                          </a:lnTo>
                          <a:lnTo>
                            <a:pt x="159" y="799"/>
                          </a:lnTo>
                          <a:lnTo>
                            <a:pt x="171" y="792"/>
                          </a:lnTo>
                        </a:path>
                      </a:pathLst>
                    </a:custGeom>
                    <a:noFill/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810" name=""/>
                    <p:cNvSpPr/>
                    <p:nvPr/>
                  </p:nvSpPr>
                  <p:spPr>
                    <a:xfrm>
                      <a:off x="5865480" y="444960"/>
                      <a:ext cx="44640" cy="61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6" h="165">
                          <a:moveTo>
                            <a:pt x="14" y="0"/>
                          </a:moveTo>
                          <a:lnTo>
                            <a:pt x="0" y="29"/>
                          </a:lnTo>
                          <a:lnTo>
                            <a:pt x="0" y="76"/>
                          </a:lnTo>
                          <a:lnTo>
                            <a:pt x="14" y="103"/>
                          </a:lnTo>
                          <a:lnTo>
                            <a:pt x="27" y="145"/>
                          </a:lnTo>
                          <a:lnTo>
                            <a:pt x="42" y="165"/>
                          </a:lnTo>
                          <a:lnTo>
                            <a:pt x="75" y="125"/>
                          </a:lnTo>
                          <a:lnTo>
                            <a:pt x="116" y="125"/>
                          </a:lnTo>
                        </a:path>
                      </a:pathLst>
                    </a:custGeom>
                    <a:noFill/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5120" bIns="15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811" name=""/>
                    <p:cNvSpPr/>
                    <p:nvPr/>
                  </p:nvSpPr>
                  <p:spPr>
                    <a:xfrm>
                      <a:off x="5846400" y="552240"/>
                      <a:ext cx="36720" cy="8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4" h="227">
                          <a:moveTo>
                            <a:pt x="94" y="0"/>
                          </a:moveTo>
                          <a:lnTo>
                            <a:pt x="40" y="42"/>
                          </a:lnTo>
                          <a:lnTo>
                            <a:pt x="20" y="76"/>
                          </a:lnTo>
                          <a:lnTo>
                            <a:pt x="5" y="138"/>
                          </a:lnTo>
                          <a:lnTo>
                            <a:pt x="20" y="193"/>
                          </a:lnTo>
                          <a:lnTo>
                            <a:pt x="0" y="227"/>
                          </a:lnTo>
                        </a:path>
                      </a:pathLst>
                    </a:custGeom>
                    <a:noFill/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8160" bIns="38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812" name=""/>
                    <p:cNvSpPr/>
                    <p:nvPr/>
                  </p:nvSpPr>
                  <p:spPr>
                    <a:xfrm>
                      <a:off x="5772600" y="681840"/>
                      <a:ext cx="37800" cy="91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6" h="241">
                          <a:moveTo>
                            <a:pt x="96" y="0"/>
                          </a:moveTo>
                          <a:lnTo>
                            <a:pt x="40" y="48"/>
                          </a:lnTo>
                          <a:lnTo>
                            <a:pt x="20" y="117"/>
                          </a:lnTo>
                          <a:lnTo>
                            <a:pt x="0" y="186"/>
                          </a:lnTo>
                          <a:lnTo>
                            <a:pt x="0" y="234"/>
                          </a:lnTo>
                          <a:lnTo>
                            <a:pt x="0" y="241"/>
                          </a:lnTo>
                        </a:path>
                      </a:pathLst>
                    </a:custGeom>
                    <a:noFill/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813" name=""/>
                    <p:cNvSpPr/>
                    <p:nvPr/>
                  </p:nvSpPr>
                  <p:spPr>
                    <a:xfrm>
                      <a:off x="5688360" y="792000"/>
                      <a:ext cx="65160" cy="66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4" h="178">
                          <a:moveTo>
                            <a:pt x="164" y="0"/>
                          </a:moveTo>
                          <a:lnTo>
                            <a:pt x="131" y="47"/>
                          </a:lnTo>
                          <a:lnTo>
                            <a:pt x="117" y="96"/>
                          </a:lnTo>
                          <a:lnTo>
                            <a:pt x="69" y="116"/>
                          </a:lnTo>
                          <a:lnTo>
                            <a:pt x="48" y="158"/>
                          </a:lnTo>
                          <a:lnTo>
                            <a:pt x="0" y="178"/>
                          </a:lnTo>
                        </a:path>
                      </a:pathLst>
                    </a:custGeom>
                    <a:noFill/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9800" bIns="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sp>
            <p:nvSpPr>
              <p:cNvPr id="11814" name=""/>
              <p:cNvSpPr/>
              <p:nvPr/>
            </p:nvSpPr>
            <p:spPr>
              <a:xfrm>
                <a:off x="5770440" y="744480"/>
                <a:ext cx="1133640" cy="27000"/>
              </a:xfrm>
              <a:custGeom>
                <a:avLst/>
                <a:gdLst/>
                <a:ahLst/>
                <a:rect l="l" t="t" r="r" b="b"/>
                <a:pathLst>
                  <a:path w="714" h="17">
                    <a:moveTo>
                      <a:pt x="714" y="17"/>
                    </a:moveTo>
                    <a:lnTo>
                      <a:pt x="0" y="0"/>
                    </a:lnTo>
                  </a:path>
                </a:pathLst>
              </a:custGeom>
              <a:solidFill>
                <a:srgbClr val="808080"/>
              </a:solidFill>
              <a:ln w="76320">
                <a:solidFill>
                  <a:srgbClr val="000000"/>
                </a:solidFill>
                <a:prstDash val="sysDot"/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-18720" bIns="-18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815" name=""/>
          <p:cNvSpPr/>
          <p:nvPr/>
        </p:nvSpPr>
        <p:spPr>
          <a:xfrm>
            <a:off x="6891480" y="469800"/>
            <a:ext cx="1155600" cy="185760"/>
          </a:xfrm>
          <a:prstGeom prst="leftArrow">
            <a:avLst>
              <a:gd name="adj1" fmla="val 50000"/>
              <a:gd name="adj2" fmla="val 155523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080" bIns="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6" name=""/>
          <p:cNvSpPr/>
          <p:nvPr/>
        </p:nvSpPr>
        <p:spPr>
          <a:xfrm flipH="1">
            <a:off x="6927120" y="282600"/>
            <a:ext cx="1158840" cy="187200"/>
          </a:xfrm>
          <a:prstGeom prst="leftArrow">
            <a:avLst>
              <a:gd name="adj1" fmla="val 50000"/>
              <a:gd name="adj2" fmla="val 154760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7" name=""/>
          <p:cNvSpPr/>
          <p:nvPr/>
        </p:nvSpPr>
        <p:spPr>
          <a:xfrm rot="5400000">
            <a:off x="7866720" y="362520"/>
            <a:ext cx="307800" cy="255600"/>
          </a:xfrm>
          <a:prstGeom prst="uturnArrow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8" name=""/>
          <p:cNvSpPr/>
          <p:nvPr/>
        </p:nvSpPr>
        <p:spPr>
          <a:xfrm flipV="1" rot="5400000">
            <a:off x="6547320" y="678960"/>
            <a:ext cx="814680" cy="866880"/>
          </a:xfrm>
          <a:custGeom>
            <a:avLst/>
            <a:gdLst>
              <a:gd name="textAreaLeft" fmla="*/ 0 w 814680"/>
              <a:gd name="textAreaRight" fmla="*/ 815040 w 814680"/>
              <a:gd name="textAreaTop" fmla="*/ 360 h 866880"/>
              <a:gd name="textAreaBottom" fmla="*/ 867600 h 866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19" name=""/>
          <p:cNvGrpSpPr/>
          <p:nvPr/>
        </p:nvGrpSpPr>
        <p:grpSpPr>
          <a:xfrm>
            <a:off x="3765600" y="5092560"/>
            <a:ext cx="1515960" cy="1407240"/>
            <a:chOff x="3765600" y="5092560"/>
            <a:chExt cx="1515960" cy="1407240"/>
          </a:xfrm>
        </p:grpSpPr>
        <p:grpSp>
          <p:nvGrpSpPr>
            <p:cNvPr id="11820" name=""/>
            <p:cNvGrpSpPr/>
            <p:nvPr/>
          </p:nvGrpSpPr>
          <p:grpSpPr>
            <a:xfrm>
              <a:off x="4371840" y="5378400"/>
              <a:ext cx="768600" cy="780840"/>
              <a:chOff x="4371840" y="5378400"/>
              <a:chExt cx="768600" cy="780840"/>
            </a:xfrm>
          </p:grpSpPr>
          <p:sp>
            <p:nvSpPr>
              <p:cNvPr id="11821" name=""/>
              <p:cNvSpPr/>
              <p:nvPr/>
            </p:nvSpPr>
            <p:spPr>
              <a:xfrm>
                <a:off x="4371840" y="5398200"/>
                <a:ext cx="768600" cy="761040"/>
              </a:xfrm>
              <a:custGeom>
                <a:avLst/>
                <a:gdLst/>
                <a:ahLst/>
                <a:rect l="l" t="t" r="r" b="b"/>
                <a:pathLst>
                  <a:path w="1845" h="2066">
                    <a:moveTo>
                      <a:pt x="13" y="1900"/>
                    </a:moveTo>
                    <a:lnTo>
                      <a:pt x="0" y="1824"/>
                    </a:lnTo>
                    <a:lnTo>
                      <a:pt x="0" y="1721"/>
                    </a:lnTo>
                    <a:lnTo>
                      <a:pt x="9" y="1669"/>
                    </a:lnTo>
                    <a:lnTo>
                      <a:pt x="21" y="1624"/>
                    </a:lnTo>
                    <a:lnTo>
                      <a:pt x="58" y="1581"/>
                    </a:lnTo>
                    <a:lnTo>
                      <a:pt x="90" y="1549"/>
                    </a:lnTo>
                    <a:lnTo>
                      <a:pt x="144" y="1521"/>
                    </a:lnTo>
                    <a:lnTo>
                      <a:pt x="193" y="1515"/>
                    </a:lnTo>
                    <a:lnTo>
                      <a:pt x="240" y="1515"/>
                    </a:lnTo>
                    <a:lnTo>
                      <a:pt x="295" y="1535"/>
                    </a:lnTo>
                    <a:lnTo>
                      <a:pt x="391" y="1570"/>
                    </a:lnTo>
                    <a:lnTo>
                      <a:pt x="446" y="1535"/>
                    </a:lnTo>
                    <a:lnTo>
                      <a:pt x="508" y="1501"/>
                    </a:lnTo>
                    <a:lnTo>
                      <a:pt x="590" y="1480"/>
                    </a:lnTo>
                    <a:lnTo>
                      <a:pt x="686" y="1473"/>
                    </a:lnTo>
                    <a:lnTo>
                      <a:pt x="755" y="1466"/>
                    </a:lnTo>
                    <a:lnTo>
                      <a:pt x="817" y="1424"/>
                    </a:lnTo>
                    <a:lnTo>
                      <a:pt x="877" y="1342"/>
                    </a:lnTo>
                    <a:lnTo>
                      <a:pt x="906" y="1259"/>
                    </a:lnTo>
                    <a:lnTo>
                      <a:pt x="912" y="1173"/>
                    </a:lnTo>
                    <a:lnTo>
                      <a:pt x="903" y="1131"/>
                    </a:lnTo>
                    <a:lnTo>
                      <a:pt x="892" y="1089"/>
                    </a:lnTo>
                    <a:lnTo>
                      <a:pt x="846" y="959"/>
                    </a:lnTo>
                    <a:lnTo>
                      <a:pt x="803" y="796"/>
                    </a:lnTo>
                    <a:lnTo>
                      <a:pt x="768" y="605"/>
                    </a:lnTo>
                    <a:lnTo>
                      <a:pt x="748" y="371"/>
                    </a:lnTo>
                    <a:lnTo>
                      <a:pt x="744" y="146"/>
                    </a:lnTo>
                    <a:lnTo>
                      <a:pt x="741" y="0"/>
                    </a:lnTo>
                    <a:lnTo>
                      <a:pt x="749" y="17"/>
                    </a:lnTo>
                    <a:lnTo>
                      <a:pt x="772" y="31"/>
                    </a:lnTo>
                    <a:lnTo>
                      <a:pt x="803" y="40"/>
                    </a:lnTo>
                    <a:lnTo>
                      <a:pt x="837" y="44"/>
                    </a:lnTo>
                    <a:lnTo>
                      <a:pt x="880" y="47"/>
                    </a:lnTo>
                    <a:lnTo>
                      <a:pt x="926" y="43"/>
                    </a:lnTo>
                    <a:lnTo>
                      <a:pt x="961" y="36"/>
                    </a:lnTo>
                    <a:lnTo>
                      <a:pt x="989" y="20"/>
                    </a:lnTo>
                    <a:lnTo>
                      <a:pt x="1008" y="1"/>
                    </a:lnTo>
                    <a:lnTo>
                      <a:pt x="1001" y="139"/>
                    </a:lnTo>
                    <a:lnTo>
                      <a:pt x="1004" y="350"/>
                    </a:lnTo>
                    <a:lnTo>
                      <a:pt x="1022" y="592"/>
                    </a:lnTo>
                    <a:lnTo>
                      <a:pt x="1051" y="786"/>
                    </a:lnTo>
                    <a:lnTo>
                      <a:pt x="1104" y="1053"/>
                    </a:lnTo>
                    <a:lnTo>
                      <a:pt x="1185" y="951"/>
                    </a:lnTo>
                    <a:lnTo>
                      <a:pt x="1241" y="894"/>
                    </a:lnTo>
                    <a:lnTo>
                      <a:pt x="1307" y="842"/>
                    </a:lnTo>
                    <a:lnTo>
                      <a:pt x="1392" y="793"/>
                    </a:lnTo>
                    <a:lnTo>
                      <a:pt x="1438" y="777"/>
                    </a:lnTo>
                    <a:lnTo>
                      <a:pt x="1477" y="770"/>
                    </a:lnTo>
                    <a:lnTo>
                      <a:pt x="1524" y="763"/>
                    </a:lnTo>
                    <a:lnTo>
                      <a:pt x="1574" y="766"/>
                    </a:lnTo>
                    <a:lnTo>
                      <a:pt x="1628" y="780"/>
                    </a:lnTo>
                    <a:lnTo>
                      <a:pt x="1678" y="812"/>
                    </a:lnTo>
                    <a:lnTo>
                      <a:pt x="1720" y="848"/>
                    </a:lnTo>
                    <a:lnTo>
                      <a:pt x="1748" y="888"/>
                    </a:lnTo>
                    <a:lnTo>
                      <a:pt x="1779" y="947"/>
                    </a:lnTo>
                    <a:lnTo>
                      <a:pt x="1803" y="1025"/>
                    </a:lnTo>
                    <a:lnTo>
                      <a:pt x="1826" y="1122"/>
                    </a:lnTo>
                    <a:lnTo>
                      <a:pt x="1845" y="1266"/>
                    </a:lnTo>
                    <a:lnTo>
                      <a:pt x="1838" y="1361"/>
                    </a:lnTo>
                    <a:lnTo>
                      <a:pt x="1803" y="1462"/>
                    </a:lnTo>
                    <a:lnTo>
                      <a:pt x="1760" y="1532"/>
                    </a:lnTo>
                    <a:lnTo>
                      <a:pt x="1717" y="1608"/>
                    </a:lnTo>
                    <a:lnTo>
                      <a:pt x="1659" y="1677"/>
                    </a:lnTo>
                    <a:lnTo>
                      <a:pt x="1619" y="1732"/>
                    </a:lnTo>
                    <a:lnTo>
                      <a:pt x="1562" y="1788"/>
                    </a:lnTo>
                    <a:lnTo>
                      <a:pt x="1503" y="1834"/>
                    </a:lnTo>
                    <a:lnTo>
                      <a:pt x="1419" y="1886"/>
                    </a:lnTo>
                    <a:lnTo>
                      <a:pt x="1329" y="1930"/>
                    </a:lnTo>
                    <a:lnTo>
                      <a:pt x="1275" y="1948"/>
                    </a:lnTo>
                    <a:lnTo>
                      <a:pt x="1178" y="1985"/>
                    </a:lnTo>
                    <a:lnTo>
                      <a:pt x="1077" y="2012"/>
                    </a:lnTo>
                    <a:lnTo>
                      <a:pt x="918" y="2047"/>
                    </a:lnTo>
                    <a:lnTo>
                      <a:pt x="741" y="2066"/>
                    </a:lnTo>
                    <a:lnTo>
                      <a:pt x="583" y="2051"/>
                    </a:lnTo>
                    <a:lnTo>
                      <a:pt x="511" y="2043"/>
                    </a:lnTo>
                    <a:lnTo>
                      <a:pt x="453" y="2024"/>
                    </a:lnTo>
                    <a:lnTo>
                      <a:pt x="364" y="1955"/>
                    </a:lnTo>
                    <a:lnTo>
                      <a:pt x="288" y="1851"/>
                    </a:lnTo>
                    <a:lnTo>
                      <a:pt x="261" y="1817"/>
                    </a:lnTo>
                    <a:lnTo>
                      <a:pt x="229" y="1815"/>
                    </a:lnTo>
                    <a:lnTo>
                      <a:pt x="199" y="1831"/>
                    </a:lnTo>
                    <a:lnTo>
                      <a:pt x="179" y="1907"/>
                    </a:lnTo>
                    <a:lnTo>
                      <a:pt x="117" y="1920"/>
                    </a:lnTo>
                    <a:lnTo>
                      <a:pt x="54" y="1916"/>
                    </a:lnTo>
                    <a:lnTo>
                      <a:pt x="13" y="1900"/>
                    </a:lnTo>
                    <a:close/>
                  </a:path>
                </a:pathLst>
              </a:custGeom>
              <a:solidFill>
                <a:srgbClr val="40ff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22" name=""/>
              <p:cNvSpPr/>
              <p:nvPr/>
            </p:nvSpPr>
            <p:spPr>
              <a:xfrm>
                <a:off x="4680720" y="5378400"/>
                <a:ext cx="110880" cy="36360"/>
              </a:xfrm>
              <a:prstGeom prst="ellipse">
                <a:avLst/>
              </a:prstGeom>
              <a:solidFill>
                <a:srgbClr val="00a0a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823" name=""/>
            <p:cNvSpPr/>
            <p:nvPr/>
          </p:nvSpPr>
          <p:spPr>
            <a:xfrm>
              <a:off x="4148280" y="6192720"/>
              <a:ext cx="1133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400" spc="-1" strike="noStrike">
                  <a:solidFill>
                    <a:srgbClr val="000000"/>
                  </a:solidFill>
                  <a:latin typeface="Times New Roman"/>
                </a:rPr>
                <a:t>(6) zvracení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4" name=""/>
            <p:cNvSpPr/>
            <p:nvPr/>
          </p:nvSpPr>
          <p:spPr>
            <a:xfrm>
              <a:off x="3765600" y="5092560"/>
              <a:ext cx="865080" cy="824040"/>
            </a:xfrm>
            <a:custGeom>
              <a:avLst/>
              <a:gdLst/>
              <a:ahLst/>
              <a:rect l="l" t="t" r="r" b="b"/>
              <a:pathLst>
                <a:path w="507" h="541">
                  <a:moveTo>
                    <a:pt x="0" y="0"/>
                  </a:moveTo>
                  <a:cubicBezTo>
                    <a:pt x="70" y="12"/>
                    <a:pt x="337" y="12"/>
                    <a:pt x="419" y="74"/>
                  </a:cubicBezTo>
                  <a:cubicBezTo>
                    <a:pt x="501" y="136"/>
                    <a:pt x="481" y="293"/>
                    <a:pt x="494" y="371"/>
                  </a:cubicBezTo>
                  <a:cubicBezTo>
                    <a:pt x="507" y="449"/>
                    <a:pt x="498" y="506"/>
                    <a:pt x="499" y="541"/>
                  </a:cubicBezTo>
                </a:path>
              </a:pathLst>
            </a:custGeom>
            <a:noFill/>
            <a:ln w="76320">
              <a:solidFill>
                <a:srgbClr val="00000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25" name=""/>
          <p:cNvGrpSpPr/>
          <p:nvPr/>
        </p:nvGrpSpPr>
        <p:grpSpPr>
          <a:xfrm>
            <a:off x="3203640" y="4054320"/>
            <a:ext cx="2766600" cy="2803320"/>
            <a:chOff x="3203640" y="4054320"/>
            <a:chExt cx="2766600" cy="2803320"/>
          </a:xfrm>
        </p:grpSpPr>
        <p:sp>
          <p:nvSpPr>
            <p:cNvPr id="11826" name=""/>
            <p:cNvSpPr/>
            <p:nvPr/>
          </p:nvSpPr>
          <p:spPr>
            <a:xfrm flipV="1" rot="16200000">
              <a:off x="4887720" y="3955320"/>
              <a:ext cx="983520" cy="1181160"/>
            </a:xfrm>
            <a:custGeom>
              <a:avLst/>
              <a:gdLst>
                <a:gd name="textAreaLeft" fmla="*/ 0 w 983520"/>
                <a:gd name="textAreaRight" fmla="*/ 983520 w 983520"/>
                <a:gd name="textAreaTop" fmla="*/ -360 h 1181160"/>
                <a:gd name="textAreaBottom" fmla="*/ 1181160 h 1181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260" stAng="10800000" swAng="5400000"/>
                  <a:lnTo>
                    <a:pt x="15100" y="2900"/>
                  </a:lnTo>
                  <a:lnTo>
                    <a:pt x="15100" y="0"/>
                  </a:lnTo>
                  <a:lnTo>
                    <a:pt x="21600" y="6079"/>
                  </a:lnTo>
                  <a:lnTo>
                    <a:pt x="15100" y="12158"/>
                  </a:lnTo>
                  <a:lnTo>
                    <a:pt x="15100" y="9258"/>
                  </a:lnTo>
                  <a:lnTo>
                    <a:pt x="12427" y="9258"/>
                  </a:lnTo>
                  <a:arcTo wR="6069" hR="2902" stAng="16200000" swAng="-5400000"/>
                  <a:lnTo>
                    <a:pt x="6358" y="21600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7" name=""/>
            <p:cNvSpPr/>
            <p:nvPr/>
          </p:nvSpPr>
          <p:spPr>
            <a:xfrm>
              <a:off x="3203640" y="4741200"/>
              <a:ext cx="1643040" cy="2116440"/>
            </a:xfrm>
            <a:custGeom>
              <a:avLst/>
              <a:gdLst/>
              <a:ahLst/>
              <a:rect l="l" t="t" r="r" b="b"/>
              <a:pathLst>
                <a:path w="1035" h="1349">
                  <a:moveTo>
                    <a:pt x="1025" y="0"/>
                  </a:moveTo>
                  <a:lnTo>
                    <a:pt x="494" y="11"/>
                  </a:lnTo>
                  <a:cubicBezTo>
                    <a:pt x="353" y="27"/>
                    <a:pt x="263" y="24"/>
                    <a:pt x="181" y="96"/>
                  </a:cubicBezTo>
                  <a:cubicBezTo>
                    <a:pt x="70" y="165"/>
                    <a:pt x="30" y="232"/>
                    <a:pt x="0" y="441"/>
                  </a:cubicBezTo>
                  <a:lnTo>
                    <a:pt x="0" y="1349"/>
                  </a:lnTo>
                  <a:lnTo>
                    <a:pt x="186" y="1349"/>
                  </a:lnTo>
                  <a:lnTo>
                    <a:pt x="186" y="563"/>
                  </a:lnTo>
                  <a:cubicBezTo>
                    <a:pt x="214" y="375"/>
                    <a:pt x="255" y="287"/>
                    <a:pt x="351" y="223"/>
                  </a:cubicBezTo>
                  <a:lnTo>
                    <a:pt x="765" y="181"/>
                  </a:lnTo>
                  <a:lnTo>
                    <a:pt x="1035" y="191"/>
                  </a:lnTo>
                  <a:lnTo>
                    <a:pt x="1025" y="0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28" name=""/>
          <p:cNvSpPr/>
          <p:nvPr/>
        </p:nvSpPr>
        <p:spPr>
          <a:xfrm>
            <a:off x="7640640" y="925560"/>
            <a:ext cx="243000" cy="9507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9" name=""/>
          <p:cNvSpPr/>
          <p:nvPr/>
        </p:nvSpPr>
        <p:spPr>
          <a:xfrm rot="16200000">
            <a:off x="7335000" y="393120"/>
            <a:ext cx="239760" cy="8697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0" name=""/>
          <p:cNvSpPr/>
          <p:nvPr/>
        </p:nvSpPr>
        <p:spPr>
          <a:xfrm>
            <a:off x="6850080" y="669960"/>
            <a:ext cx="1143000" cy="3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imes New Roman"/>
              </a:rPr>
              <a:t>Exkrece H</a:t>
            </a:r>
            <a:r>
              <a:rPr b="1" lang="cs-CZ" sz="1400" spc="-1" strike="noStrike" baseline="5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31" name=""/>
          <p:cNvGrpSpPr/>
          <p:nvPr/>
        </p:nvGrpSpPr>
        <p:grpSpPr>
          <a:xfrm>
            <a:off x="619200" y="5979960"/>
            <a:ext cx="2658960" cy="880560"/>
            <a:chOff x="619200" y="5979960"/>
            <a:chExt cx="2658960" cy="880560"/>
          </a:xfrm>
        </p:grpSpPr>
        <p:sp>
          <p:nvSpPr>
            <p:cNvPr id="11832" name=""/>
            <p:cNvSpPr/>
            <p:nvPr/>
          </p:nvSpPr>
          <p:spPr>
            <a:xfrm rot="16200000">
              <a:off x="2620080" y="6009480"/>
              <a:ext cx="687600" cy="628560"/>
            </a:xfrm>
            <a:custGeom>
              <a:avLst/>
              <a:gdLst/>
              <a:ahLst/>
              <a:rect l="l" t="t" r="r" b="b"/>
              <a:pathLst>
                <a:path w="433" h="574">
                  <a:moveTo>
                    <a:pt x="433" y="546"/>
                  </a:moveTo>
                  <a:cubicBezTo>
                    <a:pt x="372" y="536"/>
                    <a:pt x="134" y="574"/>
                    <a:pt x="67" y="483"/>
                  </a:cubicBezTo>
                  <a:cubicBezTo>
                    <a:pt x="0" y="392"/>
                    <a:pt x="39" y="101"/>
                    <a:pt x="32" y="0"/>
                  </a:cubicBezTo>
                </a:path>
              </a:pathLst>
            </a:custGeom>
            <a:noFill/>
            <a:ln w="76320">
              <a:solidFill>
                <a:srgbClr val="000000"/>
              </a:solidFill>
              <a:prstDash val="sysDot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3" name=""/>
            <p:cNvSpPr/>
            <p:nvPr/>
          </p:nvSpPr>
          <p:spPr>
            <a:xfrm>
              <a:off x="619200" y="6340320"/>
              <a:ext cx="22114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400" spc="-1" strike="noStrike">
                  <a:solidFill>
                    <a:srgbClr val="000000"/>
                  </a:solidFill>
                  <a:latin typeface="Times New Roman"/>
                </a:rPr>
                <a:t>(1) zvýšená metabolická tvorba silných kysel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34" name=""/>
          <p:cNvSpPr/>
          <p:nvPr/>
        </p:nvSpPr>
        <p:spPr>
          <a:xfrm>
            <a:off x="8155080" y="171360"/>
            <a:ext cx="988920" cy="852480"/>
          </a:xfrm>
          <a:prstGeom prst="wedgeEllipseCallout">
            <a:avLst>
              <a:gd name="adj1" fmla="val -84509"/>
              <a:gd name="adj2" fmla="val 65828"/>
            </a:avLst>
          </a:prstGeom>
          <a:solidFill>
            <a:srgbClr val="ffff99"/>
          </a:solidFill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5" name=""/>
          <p:cNvSpPr/>
          <p:nvPr/>
        </p:nvSpPr>
        <p:spPr>
          <a:xfrm>
            <a:off x="7994520" y="336600"/>
            <a:ext cx="1292400" cy="53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imes New Roman"/>
              </a:rPr>
              <a:t>(2) porucha exkrece H</a:t>
            </a:r>
            <a:r>
              <a:rPr b="1" lang="cs-CZ" sz="1400" spc="-1" strike="noStrike" baseline="52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36" name=""/>
          <p:cNvGrpSpPr/>
          <p:nvPr/>
        </p:nvGrpSpPr>
        <p:grpSpPr>
          <a:xfrm>
            <a:off x="4425840" y="4968720"/>
            <a:ext cx="5025960" cy="1954440"/>
            <a:chOff x="4425840" y="4968720"/>
            <a:chExt cx="5025960" cy="1954440"/>
          </a:xfrm>
        </p:grpSpPr>
        <p:grpSp>
          <p:nvGrpSpPr>
            <p:cNvPr id="11837" name=""/>
            <p:cNvGrpSpPr/>
            <p:nvPr/>
          </p:nvGrpSpPr>
          <p:grpSpPr>
            <a:xfrm>
              <a:off x="4425840" y="4968720"/>
              <a:ext cx="5025960" cy="1889280"/>
              <a:chOff x="4425840" y="4968720"/>
              <a:chExt cx="5025960" cy="1889280"/>
            </a:xfrm>
          </p:grpSpPr>
          <p:sp>
            <p:nvSpPr>
              <p:cNvPr id="11838" name=""/>
              <p:cNvSpPr/>
              <p:nvPr/>
            </p:nvSpPr>
            <p:spPr>
              <a:xfrm>
                <a:off x="6567480" y="6215040"/>
                <a:ext cx="933480" cy="642960"/>
              </a:xfrm>
              <a:prstGeom prst="roundRect">
                <a:avLst>
                  <a:gd name="adj" fmla="val 16667"/>
                </a:avLst>
              </a:prstGeom>
              <a:solidFill>
                <a:srgbClr val="ffff66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839" name=""/>
              <p:cNvGrpSpPr/>
              <p:nvPr/>
            </p:nvGrpSpPr>
            <p:grpSpPr>
              <a:xfrm>
                <a:off x="4425840" y="4968720"/>
                <a:ext cx="5025960" cy="1889280"/>
                <a:chOff x="4425840" y="4968720"/>
                <a:chExt cx="5025960" cy="1889280"/>
              </a:xfrm>
            </p:grpSpPr>
            <p:sp>
              <p:nvSpPr>
                <p:cNvPr id="11840" name=""/>
                <p:cNvSpPr/>
                <p:nvPr/>
              </p:nvSpPr>
              <p:spPr>
                <a:xfrm>
                  <a:off x="4425840" y="5008680"/>
                  <a:ext cx="2494080" cy="1568160"/>
                </a:xfrm>
                <a:custGeom>
                  <a:avLst/>
                  <a:gdLst/>
                  <a:ahLst/>
                  <a:rect l="l" t="t" r="r" b="b"/>
                  <a:pathLst>
                    <a:path w="1571" h="988">
                      <a:moveTo>
                        <a:pt x="0" y="0"/>
                      </a:moveTo>
                      <a:cubicBezTo>
                        <a:pt x="75" y="18"/>
                        <a:pt x="347" y="5"/>
                        <a:pt x="450" y="110"/>
                      </a:cubicBezTo>
                      <a:cubicBezTo>
                        <a:pt x="553" y="215"/>
                        <a:pt x="456" y="537"/>
                        <a:pt x="618" y="628"/>
                      </a:cubicBezTo>
                      <a:cubicBezTo>
                        <a:pt x="780" y="719"/>
                        <a:pt x="1277" y="596"/>
                        <a:pt x="1424" y="656"/>
                      </a:cubicBezTo>
                      <a:cubicBezTo>
                        <a:pt x="1571" y="716"/>
                        <a:pt x="1483" y="919"/>
                        <a:pt x="1498" y="988"/>
                      </a:cubicBezTo>
                    </a:path>
                  </a:pathLst>
                </a:custGeom>
                <a:noFill/>
                <a:ln w="76320">
                  <a:solidFill>
                    <a:srgbClr val="000000"/>
                  </a:solidFill>
                  <a:prstDash val="sysDot"/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11841" name=""/>
                <p:cNvGraphicFramePr/>
                <p:nvPr/>
              </p:nvGraphicFramePr>
              <p:xfrm>
                <a:off x="8352000" y="5683320"/>
                <a:ext cx="792000" cy="938160"/>
              </p:xfrm>
              <a:graphic>
                <a:graphicData uri="http://schemas.openxmlformats.org/presentationml/2006/ole">
                  <p:oleObj r:id="rId7" spid="">
                    <p:embed/>
                    <p:pic>
                      <p:nvPicPr>
                        <p:cNvPr id="11842" name="" descr=""/>
                        <p:cNvPicPr/>
                        <p:nvPr/>
                      </p:nvPicPr>
                      <p:blipFill>
                        <a:blip r:embed="rId8"/>
                        <a:stretch/>
                      </p:blipFill>
                      <p:spPr>
                        <a:xfrm>
                          <a:off x="8352000" y="5683320"/>
                          <a:ext cx="792000" cy="9381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sp>
              <p:nvSpPr>
                <p:cNvPr id="11843" name=""/>
                <p:cNvSpPr/>
                <p:nvPr/>
              </p:nvSpPr>
              <p:spPr>
                <a:xfrm>
                  <a:off x="7159680" y="5578560"/>
                  <a:ext cx="1689120" cy="1279440"/>
                </a:xfrm>
                <a:custGeom>
                  <a:avLst/>
                  <a:gdLst/>
                  <a:ahLst/>
                  <a:rect l="l" t="t" r="r" b="b"/>
                  <a:pathLst>
                    <a:path w="1064" h="806">
                      <a:moveTo>
                        <a:pt x="10" y="566"/>
                      </a:moveTo>
                      <a:cubicBezTo>
                        <a:pt x="15" y="516"/>
                        <a:pt x="0" y="349"/>
                        <a:pt x="39" y="263"/>
                      </a:cubicBezTo>
                      <a:cubicBezTo>
                        <a:pt x="78" y="177"/>
                        <a:pt x="95" y="75"/>
                        <a:pt x="245" y="52"/>
                      </a:cubicBezTo>
                      <a:cubicBezTo>
                        <a:pt x="395" y="29"/>
                        <a:pt x="820" y="0"/>
                        <a:pt x="942" y="126"/>
                      </a:cubicBezTo>
                      <a:cubicBezTo>
                        <a:pt x="1064" y="252"/>
                        <a:pt x="969" y="664"/>
                        <a:pt x="976" y="806"/>
                      </a:cubicBezTo>
                    </a:path>
                  </a:pathLst>
                </a:custGeom>
                <a:noFill/>
                <a:ln w="76320">
                  <a:solidFill>
                    <a:srgbClr val="000000"/>
                  </a:solidFill>
                  <a:prstDash val="sysDot"/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44" name=""/>
                <p:cNvSpPr/>
                <p:nvPr/>
              </p:nvSpPr>
              <p:spPr>
                <a:xfrm>
                  <a:off x="7316640" y="5680080"/>
                  <a:ext cx="1292400" cy="32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cs-CZ" sz="1400" spc="-1" strike="noStrike">
                      <a:solidFill>
                        <a:srgbClr val="000000"/>
                      </a:solidFill>
                      <a:latin typeface="Times New Roman"/>
                    </a:rPr>
                    <a:t>(7) deplece K</a:t>
                  </a:r>
                  <a:r>
                    <a:rPr b="1" lang="cs-CZ" sz="1400" spc="-1" strike="noStrike" baseline="52000">
                      <a:solidFill>
                        <a:srgbClr val="000000"/>
                      </a:solidFill>
                      <a:latin typeface="Times New Roman"/>
                    </a:rPr>
                    <a:t>+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45" name=""/>
                <p:cNvSpPr/>
                <p:nvPr/>
              </p:nvSpPr>
              <p:spPr>
                <a:xfrm rot="1782000">
                  <a:off x="8227800" y="5259240"/>
                  <a:ext cx="671400" cy="498600"/>
                </a:xfrm>
                <a:prstGeom prst="lightningBolt">
                  <a:avLst/>
                </a:pr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46" name=""/>
                <p:cNvSpPr/>
                <p:nvPr/>
              </p:nvSpPr>
              <p:spPr>
                <a:xfrm>
                  <a:off x="7024680" y="4968720"/>
                  <a:ext cx="24271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cs-CZ" sz="1400" spc="-1" strike="noStrike">
                      <a:solidFill>
                        <a:srgbClr val="000000"/>
                      </a:solidFill>
                      <a:latin typeface="Times New Roman"/>
                    </a:rPr>
                    <a:t>hyperaldosteronismu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47" name=""/>
                <p:cNvSpPr/>
                <p:nvPr/>
              </p:nvSpPr>
              <p:spPr>
                <a:xfrm>
                  <a:off x="6022800" y="5248440"/>
                  <a:ext cx="2427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cs-CZ" sz="14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1" lang="cs-CZ" sz="1400" spc="-1" strike="noStrike">
                      <a:solidFill>
                        <a:srgbClr val="000000"/>
                      </a:solidFill>
                      <a:latin typeface="Times New Roman"/>
                    </a:rPr>
                    <a:t>katabolismu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48" name=""/>
                <p:cNvSpPr/>
                <p:nvPr/>
              </p:nvSpPr>
              <p:spPr>
                <a:xfrm rot="1782000">
                  <a:off x="6648120" y="5565600"/>
                  <a:ext cx="671400" cy="498600"/>
                </a:xfrm>
                <a:prstGeom prst="lightningBolt">
                  <a:avLst/>
                </a:pr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1849" name=""/>
            <p:cNvSpPr/>
            <p:nvPr/>
          </p:nvSpPr>
          <p:spPr>
            <a:xfrm>
              <a:off x="6985080" y="6491160"/>
              <a:ext cx="49680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8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1" lang="cs-CZ" sz="1800" spc="-1" strike="noStrike" baseline="7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0" name=""/>
            <p:cNvSpPr/>
            <p:nvPr/>
          </p:nvSpPr>
          <p:spPr>
            <a:xfrm>
              <a:off x="6594480" y="6491160"/>
              <a:ext cx="49680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cs-CZ" sz="1800" spc="-1" strike="noStrike" baseline="7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51" name=""/>
          <p:cNvGrpSpPr/>
          <p:nvPr/>
        </p:nvGrpSpPr>
        <p:grpSpPr>
          <a:xfrm>
            <a:off x="3681360" y="117360"/>
            <a:ext cx="3013200" cy="1596240"/>
            <a:chOff x="3681360" y="117360"/>
            <a:chExt cx="3013200" cy="1596240"/>
          </a:xfrm>
        </p:grpSpPr>
        <p:pic>
          <p:nvPicPr>
            <p:cNvPr id="11852" name="" descr=""/>
            <p:cNvPicPr/>
            <p:nvPr/>
          </p:nvPicPr>
          <p:blipFill>
            <a:blip r:embed="rId9"/>
            <a:stretch/>
          </p:blipFill>
          <p:spPr>
            <a:xfrm>
              <a:off x="3681360" y="117360"/>
              <a:ext cx="781200" cy="72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53" name=""/>
            <p:cNvSpPr/>
            <p:nvPr/>
          </p:nvSpPr>
          <p:spPr>
            <a:xfrm>
              <a:off x="4092480" y="725400"/>
              <a:ext cx="2521080" cy="871560"/>
            </a:xfrm>
            <a:custGeom>
              <a:avLst/>
              <a:gdLst/>
              <a:ahLst/>
              <a:rect l="l" t="t" r="r" b="b"/>
              <a:pathLst>
                <a:path w="1588" h="549">
                  <a:moveTo>
                    <a:pt x="45" y="0"/>
                  </a:moveTo>
                  <a:cubicBezTo>
                    <a:pt x="43" y="47"/>
                    <a:pt x="0" y="211"/>
                    <a:pt x="34" y="280"/>
                  </a:cubicBezTo>
                  <a:cubicBezTo>
                    <a:pt x="68" y="349"/>
                    <a:pt x="49" y="396"/>
                    <a:pt x="251" y="417"/>
                  </a:cubicBezTo>
                  <a:cubicBezTo>
                    <a:pt x="453" y="438"/>
                    <a:pt x="1057" y="407"/>
                    <a:pt x="1245" y="406"/>
                  </a:cubicBezTo>
                  <a:cubicBezTo>
                    <a:pt x="1433" y="405"/>
                    <a:pt x="1325" y="388"/>
                    <a:pt x="1382" y="412"/>
                  </a:cubicBezTo>
                  <a:cubicBezTo>
                    <a:pt x="1439" y="436"/>
                    <a:pt x="1545" y="521"/>
                    <a:pt x="1588" y="549"/>
                  </a:cubicBezTo>
                </a:path>
              </a:pathLst>
            </a:custGeom>
            <a:noFill/>
            <a:ln w="76320">
              <a:solidFill>
                <a:srgbClr val="00000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4" name=""/>
            <p:cNvSpPr/>
            <p:nvPr/>
          </p:nvSpPr>
          <p:spPr>
            <a:xfrm>
              <a:off x="3692520" y="1366920"/>
              <a:ext cx="3002040" cy="34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400" spc="-1" strike="noStrike">
                  <a:solidFill>
                    <a:srgbClr val="000000"/>
                  </a:solidFill>
                  <a:latin typeface="Times New Roman"/>
                </a:rPr>
                <a:t>(5) nadměrný přívod HCO</a:t>
              </a:r>
              <a:r>
                <a:rPr b="1" lang="cs-CZ" sz="1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1" lang="cs-CZ" sz="1400" spc="-1" strike="noStrike" baseline="48000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8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8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8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18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17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17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17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17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18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18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18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18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18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18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55" name=""/>
          <p:cNvGrpSpPr/>
          <p:nvPr/>
        </p:nvGrpSpPr>
        <p:grpSpPr>
          <a:xfrm>
            <a:off x="326880" y="-19440"/>
            <a:ext cx="9007560" cy="6877080"/>
            <a:chOff x="326880" y="-19440"/>
            <a:chExt cx="9007560" cy="6877080"/>
          </a:xfrm>
        </p:grpSpPr>
        <p:sp>
          <p:nvSpPr>
            <p:cNvPr id="11856" name=""/>
            <p:cNvSpPr/>
            <p:nvPr/>
          </p:nvSpPr>
          <p:spPr>
            <a:xfrm>
              <a:off x="326880" y="2476440"/>
              <a:ext cx="671760" cy="4235400"/>
            </a:xfrm>
            <a:prstGeom prst="rect">
              <a:avLst/>
            </a:prstGeom>
            <a:solidFill>
              <a:srgbClr val="ff33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800" spc="-1" strike="noStrike">
                  <a:solidFill>
                    <a:srgbClr val="000000"/>
                  </a:solidFill>
                  <a:latin typeface="Times New Roman"/>
                </a:rPr>
                <a:t>Na</a:t>
              </a:r>
              <a:r>
                <a:rPr b="1" lang="cs-CZ" sz="1800" spc="-1" strike="noStrike" baseline="30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7" name=""/>
            <p:cNvSpPr/>
            <p:nvPr/>
          </p:nvSpPr>
          <p:spPr>
            <a:xfrm>
              <a:off x="1096920" y="3627360"/>
              <a:ext cx="736560" cy="3081240"/>
            </a:xfrm>
            <a:prstGeom prst="rect">
              <a:avLst/>
            </a:prstGeom>
            <a:solidFill>
              <a:srgbClr val="00cc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800" spc="-1" strike="noStrike">
                  <a:solidFill>
                    <a:srgbClr val="000000"/>
                  </a:solidFill>
                  <a:latin typeface="Times New Roman"/>
                </a:rPr>
                <a:t>Cl</a:t>
              </a:r>
              <a:r>
                <a:rPr b="1" lang="cs-CZ" sz="1800" spc="-1" strike="noStrike" baseline="50000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8" name=""/>
            <p:cNvSpPr/>
            <p:nvPr/>
          </p:nvSpPr>
          <p:spPr>
            <a:xfrm>
              <a:off x="1111320" y="2814480"/>
              <a:ext cx="717480" cy="80676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800" spc="-1" strike="noStrike">
                  <a:solidFill>
                    <a:srgbClr val="000000"/>
                  </a:solidFill>
                  <a:latin typeface="Times New Roman"/>
                </a:rPr>
                <a:t>HCO</a:t>
              </a:r>
              <a:r>
                <a:rPr b="1" lang="cs-CZ" sz="18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1" lang="cs-CZ" sz="1800" spc="-1" strike="noStrike" baseline="50000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9" name=""/>
            <p:cNvSpPr/>
            <p:nvPr/>
          </p:nvSpPr>
          <p:spPr>
            <a:xfrm>
              <a:off x="326880" y="2185920"/>
              <a:ext cx="671760" cy="2732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0" name=""/>
            <p:cNvSpPr/>
            <p:nvPr/>
          </p:nvSpPr>
          <p:spPr>
            <a:xfrm>
              <a:off x="1104840" y="2192400"/>
              <a:ext cx="727200" cy="6094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1" name=""/>
            <p:cNvSpPr/>
            <p:nvPr/>
          </p:nvSpPr>
          <p:spPr>
            <a:xfrm>
              <a:off x="968400" y="2465280"/>
              <a:ext cx="123336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2" name=""/>
            <p:cNvSpPr/>
            <p:nvPr/>
          </p:nvSpPr>
          <p:spPr>
            <a:xfrm>
              <a:off x="2104920" y="2463840"/>
              <a:ext cx="0" cy="34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3" name=""/>
            <p:cNvSpPr/>
            <p:nvPr/>
          </p:nvSpPr>
          <p:spPr>
            <a:xfrm>
              <a:off x="2957400" y="2465280"/>
              <a:ext cx="671760" cy="4235400"/>
            </a:xfrm>
            <a:prstGeom prst="rect">
              <a:avLst/>
            </a:prstGeom>
            <a:solidFill>
              <a:srgbClr val="ff33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800" spc="-1" strike="noStrike">
                  <a:solidFill>
                    <a:srgbClr val="000000"/>
                  </a:solidFill>
                  <a:latin typeface="Times New Roman"/>
                </a:rPr>
                <a:t>Na</a:t>
              </a:r>
              <a:r>
                <a:rPr b="1" lang="cs-CZ" sz="1800" spc="-1" strike="noStrike" baseline="30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4" name=""/>
            <p:cNvSpPr/>
            <p:nvPr/>
          </p:nvSpPr>
          <p:spPr>
            <a:xfrm>
              <a:off x="3745080" y="3616200"/>
              <a:ext cx="717480" cy="3081600"/>
            </a:xfrm>
            <a:prstGeom prst="rect">
              <a:avLst/>
            </a:prstGeom>
            <a:solidFill>
              <a:srgbClr val="00cc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800" spc="-1" strike="noStrike">
                  <a:solidFill>
                    <a:srgbClr val="000000"/>
                  </a:solidFill>
                  <a:latin typeface="Times New Roman"/>
                </a:rPr>
                <a:t>Cl</a:t>
              </a:r>
              <a:r>
                <a:rPr b="1" lang="cs-CZ" sz="1800" spc="-1" strike="noStrike" baseline="50000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5" name=""/>
            <p:cNvSpPr/>
            <p:nvPr/>
          </p:nvSpPr>
          <p:spPr>
            <a:xfrm>
              <a:off x="3749760" y="3201840"/>
              <a:ext cx="711000" cy="40824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800" spc="-1" strike="noStrike">
                  <a:solidFill>
                    <a:srgbClr val="000000"/>
                  </a:solidFill>
                  <a:latin typeface="Times New Roman"/>
                </a:rPr>
                <a:t>HCO</a:t>
              </a:r>
              <a:r>
                <a:rPr b="1" lang="cs-CZ" sz="18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1" lang="cs-CZ" sz="1800" spc="-1" strike="noStrike" baseline="50000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6" name=""/>
            <p:cNvSpPr/>
            <p:nvPr/>
          </p:nvSpPr>
          <p:spPr>
            <a:xfrm>
              <a:off x="2957400" y="2173320"/>
              <a:ext cx="674640" cy="2728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7" name=""/>
            <p:cNvSpPr/>
            <p:nvPr/>
          </p:nvSpPr>
          <p:spPr>
            <a:xfrm>
              <a:off x="3745080" y="2181240"/>
              <a:ext cx="717480" cy="10080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8" name=""/>
            <p:cNvSpPr/>
            <p:nvPr/>
          </p:nvSpPr>
          <p:spPr>
            <a:xfrm>
              <a:off x="3652920" y="3187800"/>
              <a:ext cx="1125360" cy="936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9" name=""/>
            <p:cNvSpPr/>
            <p:nvPr/>
          </p:nvSpPr>
          <p:spPr>
            <a:xfrm>
              <a:off x="3635280" y="2460600"/>
              <a:ext cx="1198800" cy="144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0" name=""/>
            <p:cNvSpPr/>
            <p:nvPr/>
          </p:nvSpPr>
          <p:spPr>
            <a:xfrm>
              <a:off x="4726080" y="2455920"/>
              <a:ext cx="0" cy="743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1" name=""/>
            <p:cNvSpPr/>
            <p:nvPr/>
          </p:nvSpPr>
          <p:spPr>
            <a:xfrm>
              <a:off x="4960800" y="2455920"/>
              <a:ext cx="671760" cy="4235400"/>
            </a:xfrm>
            <a:prstGeom prst="rect">
              <a:avLst/>
            </a:prstGeom>
            <a:solidFill>
              <a:srgbClr val="ff33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800" spc="-1" strike="noStrike">
                  <a:solidFill>
                    <a:srgbClr val="000000"/>
                  </a:solidFill>
                  <a:latin typeface="Times New Roman"/>
                </a:rPr>
                <a:t>Na</a:t>
              </a:r>
              <a:r>
                <a:rPr b="1" lang="cs-CZ" sz="1800" spc="-1" strike="noStrike" baseline="30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2" name=""/>
            <p:cNvSpPr/>
            <p:nvPr/>
          </p:nvSpPr>
          <p:spPr>
            <a:xfrm>
              <a:off x="5730840" y="3225960"/>
              <a:ext cx="733320" cy="3462120"/>
            </a:xfrm>
            <a:prstGeom prst="rect">
              <a:avLst/>
            </a:prstGeom>
            <a:solidFill>
              <a:srgbClr val="00cc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800" spc="-1" strike="noStrike">
                  <a:solidFill>
                    <a:srgbClr val="000000"/>
                  </a:solidFill>
                  <a:latin typeface="Times New Roman"/>
                </a:rPr>
                <a:t>Cl</a:t>
              </a:r>
              <a:r>
                <a:rPr b="1" lang="cs-CZ" sz="1800" spc="-1" strike="noStrike" baseline="50000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3" name=""/>
            <p:cNvSpPr/>
            <p:nvPr/>
          </p:nvSpPr>
          <p:spPr>
            <a:xfrm>
              <a:off x="4960800" y="2165400"/>
              <a:ext cx="671760" cy="2728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4" name=""/>
            <p:cNvSpPr/>
            <p:nvPr/>
          </p:nvSpPr>
          <p:spPr>
            <a:xfrm>
              <a:off x="5730840" y="2171880"/>
              <a:ext cx="735120" cy="6094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5" name=""/>
            <p:cNvSpPr/>
            <p:nvPr/>
          </p:nvSpPr>
          <p:spPr>
            <a:xfrm>
              <a:off x="5654520" y="2782800"/>
              <a:ext cx="116712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6" name=""/>
            <p:cNvSpPr/>
            <p:nvPr/>
          </p:nvSpPr>
          <p:spPr>
            <a:xfrm>
              <a:off x="5602320" y="2444760"/>
              <a:ext cx="123336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7" name=""/>
            <p:cNvSpPr/>
            <p:nvPr/>
          </p:nvSpPr>
          <p:spPr>
            <a:xfrm>
              <a:off x="6729480" y="2446200"/>
              <a:ext cx="0" cy="336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8" name=""/>
            <p:cNvSpPr/>
            <p:nvPr/>
          </p:nvSpPr>
          <p:spPr>
            <a:xfrm>
              <a:off x="2136600" y="2376360"/>
              <a:ext cx="879480" cy="49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400" spc="-1" strike="noStrike">
                  <a:solidFill>
                    <a:srgbClr val="000000"/>
                  </a:solidFill>
                  <a:latin typeface="Times New Roman"/>
                </a:rPr>
                <a:t>Deficit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400" spc="-1" strike="noStrike">
                  <a:solidFill>
                    <a:srgbClr val="000000"/>
                  </a:solidFill>
                  <a:latin typeface="Times New Roman"/>
                </a:rPr>
                <a:t>aniontů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9" name=""/>
            <p:cNvSpPr/>
            <p:nvPr/>
          </p:nvSpPr>
          <p:spPr>
            <a:xfrm>
              <a:off x="5729400" y="2782800"/>
              <a:ext cx="734760" cy="44604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800" spc="-1" strike="noStrike">
                  <a:solidFill>
                    <a:srgbClr val="000000"/>
                  </a:solidFill>
                  <a:latin typeface="Times New Roman"/>
                </a:rPr>
                <a:t>HCO</a:t>
              </a:r>
              <a:r>
                <a:rPr b="1" lang="cs-CZ" sz="18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1" lang="cs-CZ" sz="1800" spc="-1" strike="noStrike" baseline="50000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0" name=""/>
            <p:cNvSpPr/>
            <p:nvPr/>
          </p:nvSpPr>
          <p:spPr>
            <a:xfrm>
              <a:off x="1008000" y="1166760"/>
              <a:ext cx="3057480" cy="86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Hromadění aniontů silných kysel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400" spc="-1" strike="noStrike">
                  <a:solidFill>
                    <a:srgbClr val="000000"/>
                  </a:solidFill>
                  <a:latin typeface="Times New Roman"/>
                </a:rPr>
                <a:t>(laktátová acidóza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400" spc="-1" strike="noStrike">
                  <a:solidFill>
                    <a:srgbClr val="000000"/>
                  </a:solidFill>
                  <a:latin typeface="Times New Roman"/>
                </a:rPr>
                <a:t>ketoacidóz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400" spc="-1" strike="noStrike">
                  <a:solidFill>
                    <a:srgbClr val="000000"/>
                  </a:solidFill>
                  <a:latin typeface="Times New Roman"/>
                </a:rPr>
                <a:t>uremická acidóza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1" name=""/>
            <p:cNvSpPr/>
            <p:nvPr/>
          </p:nvSpPr>
          <p:spPr>
            <a:xfrm>
              <a:off x="2319480" y="414720"/>
              <a:ext cx="459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cs-CZ" sz="2400" spc="-1" strike="noStrike" baseline="40000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2" name=""/>
            <p:cNvSpPr/>
            <p:nvPr/>
          </p:nvSpPr>
          <p:spPr>
            <a:xfrm>
              <a:off x="2841480" y="655560"/>
              <a:ext cx="1292400" cy="1784520"/>
            </a:xfrm>
            <a:custGeom>
              <a:avLst/>
              <a:gdLst/>
              <a:ahLst/>
              <a:rect l="l" t="t" r="r" b="b"/>
              <a:pathLst>
                <a:path w="814" h="1124">
                  <a:moveTo>
                    <a:pt x="0" y="38"/>
                  </a:moveTo>
                  <a:cubicBezTo>
                    <a:pt x="114" y="62"/>
                    <a:pt x="556" y="0"/>
                    <a:pt x="685" y="181"/>
                  </a:cubicBezTo>
                  <a:cubicBezTo>
                    <a:pt x="814" y="362"/>
                    <a:pt x="757" y="928"/>
                    <a:pt x="776" y="1124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1883" name=""/>
            <p:cNvGraphicFramePr/>
            <p:nvPr/>
          </p:nvGraphicFramePr>
          <p:xfrm>
            <a:off x="7134120" y="0"/>
            <a:ext cx="1014480" cy="12016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188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7134120" y="0"/>
                      <a:ext cx="1014480" cy="1201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1885" name=""/>
            <p:cNvGrpSpPr/>
            <p:nvPr/>
          </p:nvGrpSpPr>
          <p:grpSpPr>
            <a:xfrm>
              <a:off x="4276800" y="709560"/>
              <a:ext cx="750600" cy="938160"/>
              <a:chOff x="4276800" y="709560"/>
              <a:chExt cx="750600" cy="938160"/>
            </a:xfrm>
          </p:grpSpPr>
          <p:grpSp>
            <p:nvGrpSpPr>
              <p:cNvPr id="11886" name=""/>
              <p:cNvGrpSpPr/>
              <p:nvPr/>
            </p:nvGrpSpPr>
            <p:grpSpPr>
              <a:xfrm>
                <a:off x="4410000" y="924120"/>
                <a:ext cx="507960" cy="436320"/>
                <a:chOff x="4410000" y="924120"/>
                <a:chExt cx="507960" cy="436320"/>
              </a:xfrm>
            </p:grpSpPr>
            <p:sp>
              <p:nvSpPr>
                <p:cNvPr id="11887" name=""/>
                <p:cNvSpPr/>
                <p:nvPr/>
              </p:nvSpPr>
              <p:spPr>
                <a:xfrm>
                  <a:off x="4529160" y="1041480"/>
                  <a:ext cx="339480" cy="318960"/>
                </a:xfrm>
                <a:custGeom>
                  <a:avLst/>
                  <a:gdLst/>
                  <a:ahLst/>
                  <a:rect l="l" t="t" r="r" b="b"/>
                  <a:pathLst>
                    <a:path w="858" h="803">
                      <a:moveTo>
                        <a:pt x="390" y="705"/>
                      </a:moveTo>
                      <a:lnTo>
                        <a:pt x="353" y="712"/>
                      </a:lnTo>
                      <a:lnTo>
                        <a:pt x="315" y="734"/>
                      </a:lnTo>
                      <a:lnTo>
                        <a:pt x="290" y="766"/>
                      </a:lnTo>
                      <a:lnTo>
                        <a:pt x="280" y="786"/>
                      </a:lnTo>
                      <a:lnTo>
                        <a:pt x="221" y="794"/>
                      </a:lnTo>
                      <a:lnTo>
                        <a:pt x="185" y="800"/>
                      </a:lnTo>
                      <a:lnTo>
                        <a:pt x="155" y="803"/>
                      </a:lnTo>
                      <a:lnTo>
                        <a:pt x="121" y="800"/>
                      </a:lnTo>
                      <a:lnTo>
                        <a:pt x="84" y="789"/>
                      </a:lnTo>
                      <a:lnTo>
                        <a:pt x="56" y="769"/>
                      </a:lnTo>
                      <a:lnTo>
                        <a:pt x="35" y="740"/>
                      </a:lnTo>
                      <a:lnTo>
                        <a:pt x="22" y="698"/>
                      </a:lnTo>
                      <a:lnTo>
                        <a:pt x="16" y="674"/>
                      </a:lnTo>
                      <a:lnTo>
                        <a:pt x="19" y="645"/>
                      </a:lnTo>
                      <a:lnTo>
                        <a:pt x="32" y="624"/>
                      </a:lnTo>
                      <a:lnTo>
                        <a:pt x="62" y="621"/>
                      </a:lnTo>
                      <a:lnTo>
                        <a:pt x="93" y="623"/>
                      </a:lnTo>
                      <a:lnTo>
                        <a:pt x="118" y="631"/>
                      </a:lnTo>
                      <a:lnTo>
                        <a:pt x="142" y="651"/>
                      </a:lnTo>
                      <a:lnTo>
                        <a:pt x="176" y="665"/>
                      </a:lnTo>
                      <a:lnTo>
                        <a:pt x="240" y="677"/>
                      </a:lnTo>
                      <a:lnTo>
                        <a:pt x="280" y="679"/>
                      </a:lnTo>
                      <a:lnTo>
                        <a:pt x="318" y="674"/>
                      </a:lnTo>
                      <a:lnTo>
                        <a:pt x="348" y="657"/>
                      </a:lnTo>
                      <a:lnTo>
                        <a:pt x="366" y="641"/>
                      </a:lnTo>
                      <a:lnTo>
                        <a:pt x="393" y="613"/>
                      </a:lnTo>
                      <a:lnTo>
                        <a:pt x="421" y="604"/>
                      </a:lnTo>
                      <a:lnTo>
                        <a:pt x="469" y="604"/>
                      </a:lnTo>
                      <a:lnTo>
                        <a:pt x="509" y="599"/>
                      </a:lnTo>
                      <a:lnTo>
                        <a:pt x="543" y="589"/>
                      </a:lnTo>
                      <a:lnTo>
                        <a:pt x="567" y="570"/>
                      </a:lnTo>
                      <a:lnTo>
                        <a:pt x="608" y="536"/>
                      </a:lnTo>
                      <a:lnTo>
                        <a:pt x="534" y="583"/>
                      </a:lnTo>
                      <a:lnTo>
                        <a:pt x="505" y="590"/>
                      </a:lnTo>
                      <a:lnTo>
                        <a:pt x="462" y="599"/>
                      </a:lnTo>
                      <a:lnTo>
                        <a:pt x="418" y="599"/>
                      </a:lnTo>
                      <a:lnTo>
                        <a:pt x="394" y="599"/>
                      </a:lnTo>
                      <a:lnTo>
                        <a:pt x="372" y="576"/>
                      </a:lnTo>
                      <a:lnTo>
                        <a:pt x="348" y="539"/>
                      </a:lnTo>
                      <a:lnTo>
                        <a:pt x="294" y="491"/>
                      </a:lnTo>
                      <a:lnTo>
                        <a:pt x="197" y="418"/>
                      </a:lnTo>
                      <a:lnTo>
                        <a:pt x="147" y="398"/>
                      </a:lnTo>
                      <a:lnTo>
                        <a:pt x="104" y="380"/>
                      </a:lnTo>
                      <a:lnTo>
                        <a:pt x="56" y="356"/>
                      </a:lnTo>
                      <a:lnTo>
                        <a:pt x="32" y="339"/>
                      </a:lnTo>
                      <a:lnTo>
                        <a:pt x="10" y="322"/>
                      </a:lnTo>
                      <a:lnTo>
                        <a:pt x="2" y="289"/>
                      </a:lnTo>
                      <a:lnTo>
                        <a:pt x="0" y="257"/>
                      </a:lnTo>
                      <a:lnTo>
                        <a:pt x="4" y="224"/>
                      </a:lnTo>
                      <a:lnTo>
                        <a:pt x="16" y="194"/>
                      </a:lnTo>
                      <a:lnTo>
                        <a:pt x="38" y="162"/>
                      </a:lnTo>
                      <a:lnTo>
                        <a:pt x="72" y="139"/>
                      </a:lnTo>
                      <a:lnTo>
                        <a:pt x="113" y="123"/>
                      </a:lnTo>
                      <a:lnTo>
                        <a:pt x="152" y="117"/>
                      </a:lnTo>
                      <a:lnTo>
                        <a:pt x="215" y="115"/>
                      </a:lnTo>
                      <a:lnTo>
                        <a:pt x="304" y="122"/>
                      </a:lnTo>
                      <a:lnTo>
                        <a:pt x="377" y="122"/>
                      </a:lnTo>
                      <a:lnTo>
                        <a:pt x="418" y="137"/>
                      </a:lnTo>
                      <a:lnTo>
                        <a:pt x="431" y="167"/>
                      </a:lnTo>
                      <a:lnTo>
                        <a:pt x="431" y="212"/>
                      </a:lnTo>
                      <a:lnTo>
                        <a:pt x="432" y="267"/>
                      </a:lnTo>
                      <a:lnTo>
                        <a:pt x="442" y="212"/>
                      </a:lnTo>
                      <a:lnTo>
                        <a:pt x="434" y="156"/>
                      </a:lnTo>
                      <a:lnTo>
                        <a:pt x="437" y="129"/>
                      </a:lnTo>
                      <a:lnTo>
                        <a:pt x="461" y="112"/>
                      </a:lnTo>
                      <a:lnTo>
                        <a:pt x="479" y="91"/>
                      </a:lnTo>
                      <a:lnTo>
                        <a:pt x="496" y="58"/>
                      </a:lnTo>
                      <a:lnTo>
                        <a:pt x="517" y="18"/>
                      </a:lnTo>
                      <a:lnTo>
                        <a:pt x="541" y="0"/>
                      </a:lnTo>
                      <a:lnTo>
                        <a:pt x="575" y="0"/>
                      </a:lnTo>
                      <a:lnTo>
                        <a:pt x="612" y="10"/>
                      </a:lnTo>
                      <a:lnTo>
                        <a:pt x="636" y="31"/>
                      </a:lnTo>
                      <a:lnTo>
                        <a:pt x="696" y="37"/>
                      </a:lnTo>
                      <a:lnTo>
                        <a:pt x="741" y="42"/>
                      </a:lnTo>
                      <a:lnTo>
                        <a:pt x="782" y="62"/>
                      </a:lnTo>
                      <a:lnTo>
                        <a:pt x="820" y="103"/>
                      </a:lnTo>
                      <a:lnTo>
                        <a:pt x="850" y="172"/>
                      </a:lnTo>
                      <a:lnTo>
                        <a:pt x="857" y="214"/>
                      </a:lnTo>
                      <a:lnTo>
                        <a:pt x="853" y="257"/>
                      </a:lnTo>
                      <a:lnTo>
                        <a:pt x="858" y="302"/>
                      </a:lnTo>
                      <a:lnTo>
                        <a:pt x="850" y="336"/>
                      </a:lnTo>
                      <a:lnTo>
                        <a:pt x="827" y="350"/>
                      </a:lnTo>
                      <a:lnTo>
                        <a:pt x="795" y="370"/>
                      </a:lnTo>
                      <a:lnTo>
                        <a:pt x="772" y="393"/>
                      </a:lnTo>
                      <a:lnTo>
                        <a:pt x="745" y="403"/>
                      </a:lnTo>
                      <a:lnTo>
                        <a:pt x="710" y="398"/>
                      </a:lnTo>
                      <a:lnTo>
                        <a:pt x="696" y="393"/>
                      </a:lnTo>
                      <a:lnTo>
                        <a:pt x="693" y="328"/>
                      </a:lnTo>
                      <a:lnTo>
                        <a:pt x="693" y="271"/>
                      </a:lnTo>
                      <a:lnTo>
                        <a:pt x="677" y="234"/>
                      </a:lnTo>
                      <a:lnTo>
                        <a:pt x="642" y="200"/>
                      </a:lnTo>
                      <a:lnTo>
                        <a:pt x="599" y="162"/>
                      </a:lnTo>
                      <a:lnTo>
                        <a:pt x="588" y="152"/>
                      </a:lnTo>
                      <a:lnTo>
                        <a:pt x="612" y="180"/>
                      </a:lnTo>
                      <a:lnTo>
                        <a:pt x="664" y="228"/>
                      </a:lnTo>
                      <a:lnTo>
                        <a:pt x="683" y="267"/>
                      </a:lnTo>
                      <a:lnTo>
                        <a:pt x="686" y="303"/>
                      </a:lnTo>
                      <a:lnTo>
                        <a:pt x="690" y="390"/>
                      </a:lnTo>
                      <a:lnTo>
                        <a:pt x="626" y="398"/>
                      </a:lnTo>
                      <a:lnTo>
                        <a:pt x="575" y="418"/>
                      </a:lnTo>
                      <a:lnTo>
                        <a:pt x="529" y="433"/>
                      </a:lnTo>
                      <a:lnTo>
                        <a:pt x="496" y="433"/>
                      </a:lnTo>
                      <a:lnTo>
                        <a:pt x="465" y="418"/>
                      </a:lnTo>
                      <a:lnTo>
                        <a:pt x="442" y="394"/>
                      </a:lnTo>
                      <a:lnTo>
                        <a:pt x="403" y="356"/>
                      </a:lnTo>
                      <a:lnTo>
                        <a:pt x="360" y="326"/>
                      </a:lnTo>
                      <a:lnTo>
                        <a:pt x="305" y="303"/>
                      </a:lnTo>
                      <a:lnTo>
                        <a:pt x="250" y="285"/>
                      </a:lnTo>
                      <a:lnTo>
                        <a:pt x="155" y="261"/>
                      </a:lnTo>
                      <a:lnTo>
                        <a:pt x="240" y="295"/>
                      </a:lnTo>
                      <a:lnTo>
                        <a:pt x="305" y="313"/>
                      </a:lnTo>
                      <a:lnTo>
                        <a:pt x="398" y="362"/>
                      </a:lnTo>
                      <a:lnTo>
                        <a:pt x="441" y="407"/>
                      </a:lnTo>
                      <a:lnTo>
                        <a:pt x="483" y="438"/>
                      </a:lnTo>
                      <a:lnTo>
                        <a:pt x="523" y="443"/>
                      </a:lnTo>
                      <a:lnTo>
                        <a:pt x="560" y="434"/>
                      </a:lnTo>
                      <a:lnTo>
                        <a:pt x="598" y="420"/>
                      </a:lnTo>
                      <a:lnTo>
                        <a:pt x="639" y="404"/>
                      </a:lnTo>
                      <a:lnTo>
                        <a:pt x="684" y="398"/>
                      </a:lnTo>
                      <a:lnTo>
                        <a:pt x="736" y="407"/>
                      </a:lnTo>
                      <a:lnTo>
                        <a:pt x="746" y="420"/>
                      </a:lnTo>
                      <a:lnTo>
                        <a:pt x="731" y="465"/>
                      </a:lnTo>
                      <a:lnTo>
                        <a:pt x="728" y="526"/>
                      </a:lnTo>
                      <a:lnTo>
                        <a:pt x="727" y="579"/>
                      </a:lnTo>
                      <a:lnTo>
                        <a:pt x="714" y="623"/>
                      </a:lnTo>
                      <a:lnTo>
                        <a:pt x="698" y="669"/>
                      </a:lnTo>
                      <a:lnTo>
                        <a:pt x="686" y="698"/>
                      </a:lnTo>
                      <a:lnTo>
                        <a:pt x="667" y="719"/>
                      </a:lnTo>
                      <a:lnTo>
                        <a:pt x="639" y="734"/>
                      </a:lnTo>
                      <a:lnTo>
                        <a:pt x="608" y="745"/>
                      </a:lnTo>
                      <a:lnTo>
                        <a:pt x="555" y="756"/>
                      </a:lnTo>
                      <a:lnTo>
                        <a:pt x="521" y="756"/>
                      </a:lnTo>
                      <a:lnTo>
                        <a:pt x="476" y="736"/>
                      </a:lnTo>
                      <a:lnTo>
                        <a:pt x="438" y="715"/>
                      </a:lnTo>
                      <a:lnTo>
                        <a:pt x="390" y="705"/>
                      </a:lnTo>
                      <a:close/>
                    </a:path>
                  </a:pathLst>
                </a:custGeom>
                <a:solidFill>
                  <a:srgbClr val="ff8080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88" name=""/>
                <p:cNvSpPr/>
                <p:nvPr/>
              </p:nvSpPr>
              <p:spPr>
                <a:xfrm>
                  <a:off x="4410000" y="961920"/>
                  <a:ext cx="318960" cy="347760"/>
                </a:xfrm>
                <a:custGeom>
                  <a:avLst/>
                  <a:gdLst/>
                  <a:ahLst/>
                  <a:rect l="l" t="t" r="r" b="b"/>
                  <a:pathLst>
                    <a:path w="803" h="876">
                      <a:moveTo>
                        <a:pt x="481" y="707"/>
                      </a:moveTo>
                      <a:lnTo>
                        <a:pt x="481" y="727"/>
                      </a:lnTo>
                      <a:lnTo>
                        <a:pt x="477" y="741"/>
                      </a:lnTo>
                      <a:lnTo>
                        <a:pt x="463" y="738"/>
                      </a:lnTo>
                      <a:lnTo>
                        <a:pt x="455" y="732"/>
                      </a:lnTo>
                      <a:lnTo>
                        <a:pt x="416" y="830"/>
                      </a:lnTo>
                      <a:lnTo>
                        <a:pt x="446" y="850"/>
                      </a:lnTo>
                      <a:lnTo>
                        <a:pt x="474" y="863"/>
                      </a:lnTo>
                      <a:lnTo>
                        <a:pt x="519" y="873"/>
                      </a:lnTo>
                      <a:lnTo>
                        <a:pt x="558" y="876"/>
                      </a:lnTo>
                      <a:lnTo>
                        <a:pt x="603" y="873"/>
                      </a:lnTo>
                      <a:lnTo>
                        <a:pt x="627" y="864"/>
                      </a:lnTo>
                      <a:lnTo>
                        <a:pt x="650" y="852"/>
                      </a:lnTo>
                      <a:lnTo>
                        <a:pt x="667" y="836"/>
                      </a:lnTo>
                      <a:lnTo>
                        <a:pt x="675" y="818"/>
                      </a:lnTo>
                      <a:lnTo>
                        <a:pt x="675" y="788"/>
                      </a:lnTo>
                      <a:lnTo>
                        <a:pt x="650" y="742"/>
                      </a:lnTo>
                      <a:lnTo>
                        <a:pt x="620" y="714"/>
                      </a:lnTo>
                      <a:lnTo>
                        <a:pt x="578" y="678"/>
                      </a:lnTo>
                      <a:lnTo>
                        <a:pt x="513" y="630"/>
                      </a:lnTo>
                      <a:lnTo>
                        <a:pt x="470" y="607"/>
                      </a:lnTo>
                      <a:lnTo>
                        <a:pt x="378" y="566"/>
                      </a:lnTo>
                      <a:lnTo>
                        <a:pt x="324" y="555"/>
                      </a:lnTo>
                      <a:lnTo>
                        <a:pt x="293" y="555"/>
                      </a:lnTo>
                      <a:lnTo>
                        <a:pt x="249" y="563"/>
                      </a:lnTo>
                      <a:lnTo>
                        <a:pt x="187" y="589"/>
                      </a:lnTo>
                      <a:lnTo>
                        <a:pt x="245" y="549"/>
                      </a:lnTo>
                      <a:lnTo>
                        <a:pt x="269" y="517"/>
                      </a:lnTo>
                      <a:lnTo>
                        <a:pt x="286" y="471"/>
                      </a:lnTo>
                      <a:lnTo>
                        <a:pt x="300" y="421"/>
                      </a:lnTo>
                      <a:lnTo>
                        <a:pt x="302" y="363"/>
                      </a:lnTo>
                      <a:lnTo>
                        <a:pt x="289" y="300"/>
                      </a:lnTo>
                      <a:lnTo>
                        <a:pt x="272" y="275"/>
                      </a:lnTo>
                      <a:lnTo>
                        <a:pt x="245" y="251"/>
                      </a:lnTo>
                      <a:lnTo>
                        <a:pt x="210" y="217"/>
                      </a:lnTo>
                      <a:lnTo>
                        <a:pt x="264" y="254"/>
                      </a:lnTo>
                      <a:lnTo>
                        <a:pt x="300" y="275"/>
                      </a:lnTo>
                      <a:lnTo>
                        <a:pt x="312" y="282"/>
                      </a:lnTo>
                      <a:lnTo>
                        <a:pt x="348" y="298"/>
                      </a:lnTo>
                      <a:lnTo>
                        <a:pt x="402" y="312"/>
                      </a:lnTo>
                      <a:lnTo>
                        <a:pt x="465" y="312"/>
                      </a:lnTo>
                      <a:lnTo>
                        <a:pt x="549" y="314"/>
                      </a:lnTo>
                      <a:lnTo>
                        <a:pt x="616" y="318"/>
                      </a:lnTo>
                      <a:lnTo>
                        <a:pt x="675" y="316"/>
                      </a:lnTo>
                      <a:lnTo>
                        <a:pt x="706" y="326"/>
                      </a:lnTo>
                      <a:lnTo>
                        <a:pt x="735" y="326"/>
                      </a:lnTo>
                      <a:lnTo>
                        <a:pt x="764" y="304"/>
                      </a:lnTo>
                      <a:lnTo>
                        <a:pt x="787" y="271"/>
                      </a:lnTo>
                      <a:lnTo>
                        <a:pt x="801" y="240"/>
                      </a:lnTo>
                      <a:lnTo>
                        <a:pt x="803" y="209"/>
                      </a:lnTo>
                      <a:lnTo>
                        <a:pt x="791" y="190"/>
                      </a:lnTo>
                      <a:lnTo>
                        <a:pt x="764" y="180"/>
                      </a:lnTo>
                      <a:lnTo>
                        <a:pt x="745" y="163"/>
                      </a:lnTo>
                      <a:lnTo>
                        <a:pt x="745" y="138"/>
                      </a:lnTo>
                      <a:lnTo>
                        <a:pt x="735" y="121"/>
                      </a:lnTo>
                      <a:lnTo>
                        <a:pt x="722" y="106"/>
                      </a:lnTo>
                      <a:lnTo>
                        <a:pt x="706" y="94"/>
                      </a:lnTo>
                      <a:lnTo>
                        <a:pt x="674" y="84"/>
                      </a:lnTo>
                      <a:lnTo>
                        <a:pt x="624" y="106"/>
                      </a:lnTo>
                      <a:lnTo>
                        <a:pt x="579" y="112"/>
                      </a:lnTo>
                      <a:lnTo>
                        <a:pt x="529" y="114"/>
                      </a:lnTo>
                      <a:lnTo>
                        <a:pt x="489" y="108"/>
                      </a:lnTo>
                      <a:lnTo>
                        <a:pt x="440" y="94"/>
                      </a:lnTo>
                      <a:lnTo>
                        <a:pt x="395" y="71"/>
                      </a:lnTo>
                      <a:lnTo>
                        <a:pt x="367" y="55"/>
                      </a:lnTo>
                      <a:lnTo>
                        <a:pt x="343" y="60"/>
                      </a:lnTo>
                      <a:lnTo>
                        <a:pt x="324" y="70"/>
                      </a:lnTo>
                      <a:lnTo>
                        <a:pt x="330" y="108"/>
                      </a:lnTo>
                      <a:lnTo>
                        <a:pt x="378" y="136"/>
                      </a:lnTo>
                      <a:lnTo>
                        <a:pt x="429" y="166"/>
                      </a:lnTo>
                      <a:lnTo>
                        <a:pt x="491" y="197"/>
                      </a:lnTo>
                      <a:lnTo>
                        <a:pt x="562" y="221"/>
                      </a:lnTo>
                      <a:lnTo>
                        <a:pt x="613" y="230"/>
                      </a:lnTo>
                      <a:lnTo>
                        <a:pt x="553" y="226"/>
                      </a:lnTo>
                      <a:lnTo>
                        <a:pt x="477" y="199"/>
                      </a:lnTo>
                      <a:lnTo>
                        <a:pt x="432" y="176"/>
                      </a:lnTo>
                      <a:lnTo>
                        <a:pt x="343" y="118"/>
                      </a:lnTo>
                      <a:lnTo>
                        <a:pt x="300" y="81"/>
                      </a:lnTo>
                      <a:lnTo>
                        <a:pt x="273" y="81"/>
                      </a:lnTo>
                      <a:lnTo>
                        <a:pt x="244" y="78"/>
                      </a:lnTo>
                      <a:lnTo>
                        <a:pt x="217" y="68"/>
                      </a:lnTo>
                      <a:lnTo>
                        <a:pt x="179" y="41"/>
                      </a:lnTo>
                      <a:lnTo>
                        <a:pt x="131" y="0"/>
                      </a:lnTo>
                      <a:lnTo>
                        <a:pt x="87" y="4"/>
                      </a:lnTo>
                      <a:lnTo>
                        <a:pt x="78" y="54"/>
                      </a:lnTo>
                      <a:lnTo>
                        <a:pt x="64" y="98"/>
                      </a:lnTo>
                      <a:lnTo>
                        <a:pt x="43" y="135"/>
                      </a:lnTo>
                      <a:lnTo>
                        <a:pt x="16" y="166"/>
                      </a:lnTo>
                      <a:lnTo>
                        <a:pt x="9" y="190"/>
                      </a:lnTo>
                      <a:lnTo>
                        <a:pt x="10" y="219"/>
                      </a:lnTo>
                      <a:lnTo>
                        <a:pt x="20" y="254"/>
                      </a:lnTo>
                      <a:lnTo>
                        <a:pt x="44" y="284"/>
                      </a:lnTo>
                      <a:lnTo>
                        <a:pt x="36" y="308"/>
                      </a:lnTo>
                      <a:lnTo>
                        <a:pt x="40" y="338"/>
                      </a:lnTo>
                      <a:lnTo>
                        <a:pt x="53" y="369"/>
                      </a:lnTo>
                      <a:lnTo>
                        <a:pt x="72" y="392"/>
                      </a:lnTo>
                      <a:lnTo>
                        <a:pt x="43" y="407"/>
                      </a:lnTo>
                      <a:lnTo>
                        <a:pt x="24" y="423"/>
                      </a:lnTo>
                      <a:lnTo>
                        <a:pt x="6" y="451"/>
                      </a:lnTo>
                      <a:lnTo>
                        <a:pt x="0" y="494"/>
                      </a:lnTo>
                      <a:lnTo>
                        <a:pt x="36" y="542"/>
                      </a:lnTo>
                      <a:lnTo>
                        <a:pt x="58" y="585"/>
                      </a:lnTo>
                      <a:lnTo>
                        <a:pt x="72" y="627"/>
                      </a:lnTo>
                      <a:lnTo>
                        <a:pt x="71" y="680"/>
                      </a:lnTo>
                      <a:lnTo>
                        <a:pt x="60" y="717"/>
                      </a:lnTo>
                      <a:lnTo>
                        <a:pt x="60" y="742"/>
                      </a:lnTo>
                      <a:lnTo>
                        <a:pt x="77" y="759"/>
                      </a:lnTo>
                      <a:lnTo>
                        <a:pt x="101" y="763"/>
                      </a:lnTo>
                      <a:lnTo>
                        <a:pt x="131" y="755"/>
                      </a:lnTo>
                      <a:lnTo>
                        <a:pt x="189" y="728"/>
                      </a:lnTo>
                      <a:lnTo>
                        <a:pt x="248" y="708"/>
                      </a:lnTo>
                      <a:lnTo>
                        <a:pt x="288" y="701"/>
                      </a:lnTo>
                      <a:lnTo>
                        <a:pt x="327" y="697"/>
                      </a:lnTo>
                      <a:lnTo>
                        <a:pt x="364" y="701"/>
                      </a:lnTo>
                      <a:lnTo>
                        <a:pt x="392" y="708"/>
                      </a:lnTo>
                      <a:lnTo>
                        <a:pt x="430" y="718"/>
                      </a:lnTo>
                      <a:lnTo>
                        <a:pt x="470" y="731"/>
                      </a:lnTo>
                      <a:lnTo>
                        <a:pt x="481" y="707"/>
                      </a:lnTo>
                      <a:close/>
                    </a:path>
                  </a:pathLst>
                </a:custGeom>
                <a:solidFill>
                  <a:srgbClr val="ff8080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89" name=""/>
                <p:cNvSpPr/>
                <p:nvPr/>
              </p:nvSpPr>
              <p:spPr>
                <a:xfrm>
                  <a:off x="4708440" y="924120"/>
                  <a:ext cx="209520" cy="201600"/>
                </a:xfrm>
                <a:custGeom>
                  <a:avLst/>
                  <a:gdLst/>
                  <a:ahLst/>
                  <a:rect l="l" t="t" r="r" b="b"/>
                  <a:pathLst>
                    <a:path w="529" h="509">
                      <a:moveTo>
                        <a:pt x="448" y="0"/>
                      </a:moveTo>
                      <a:lnTo>
                        <a:pt x="419" y="2"/>
                      </a:lnTo>
                      <a:lnTo>
                        <a:pt x="388" y="12"/>
                      </a:lnTo>
                      <a:lnTo>
                        <a:pt x="358" y="34"/>
                      </a:lnTo>
                      <a:lnTo>
                        <a:pt x="344" y="48"/>
                      </a:lnTo>
                      <a:lnTo>
                        <a:pt x="321" y="77"/>
                      </a:lnTo>
                      <a:lnTo>
                        <a:pt x="290" y="109"/>
                      </a:lnTo>
                      <a:lnTo>
                        <a:pt x="249" y="138"/>
                      </a:lnTo>
                      <a:lnTo>
                        <a:pt x="205" y="159"/>
                      </a:lnTo>
                      <a:lnTo>
                        <a:pt x="140" y="169"/>
                      </a:lnTo>
                      <a:lnTo>
                        <a:pt x="79" y="176"/>
                      </a:lnTo>
                      <a:lnTo>
                        <a:pt x="44" y="182"/>
                      </a:lnTo>
                      <a:lnTo>
                        <a:pt x="11" y="206"/>
                      </a:lnTo>
                      <a:lnTo>
                        <a:pt x="0" y="240"/>
                      </a:lnTo>
                      <a:lnTo>
                        <a:pt x="0" y="261"/>
                      </a:lnTo>
                      <a:lnTo>
                        <a:pt x="24" y="278"/>
                      </a:lnTo>
                      <a:lnTo>
                        <a:pt x="52" y="293"/>
                      </a:lnTo>
                      <a:lnTo>
                        <a:pt x="88" y="298"/>
                      </a:lnTo>
                      <a:lnTo>
                        <a:pt x="112" y="295"/>
                      </a:lnTo>
                      <a:lnTo>
                        <a:pt x="134" y="297"/>
                      </a:lnTo>
                      <a:lnTo>
                        <a:pt x="157" y="305"/>
                      </a:lnTo>
                      <a:lnTo>
                        <a:pt x="173" y="325"/>
                      </a:lnTo>
                      <a:lnTo>
                        <a:pt x="198" y="331"/>
                      </a:lnTo>
                      <a:lnTo>
                        <a:pt x="231" y="335"/>
                      </a:lnTo>
                      <a:lnTo>
                        <a:pt x="267" y="338"/>
                      </a:lnTo>
                      <a:lnTo>
                        <a:pt x="303" y="345"/>
                      </a:lnTo>
                      <a:lnTo>
                        <a:pt x="331" y="364"/>
                      </a:lnTo>
                      <a:lnTo>
                        <a:pt x="354" y="383"/>
                      </a:lnTo>
                      <a:lnTo>
                        <a:pt x="376" y="416"/>
                      </a:lnTo>
                      <a:lnTo>
                        <a:pt x="390" y="461"/>
                      </a:lnTo>
                      <a:lnTo>
                        <a:pt x="406" y="509"/>
                      </a:lnTo>
                      <a:lnTo>
                        <a:pt x="433" y="467"/>
                      </a:lnTo>
                      <a:lnTo>
                        <a:pt x="454" y="434"/>
                      </a:lnTo>
                      <a:lnTo>
                        <a:pt x="484" y="398"/>
                      </a:lnTo>
                      <a:lnTo>
                        <a:pt x="491" y="376"/>
                      </a:lnTo>
                      <a:lnTo>
                        <a:pt x="508" y="342"/>
                      </a:lnTo>
                      <a:lnTo>
                        <a:pt x="529" y="297"/>
                      </a:lnTo>
                      <a:lnTo>
                        <a:pt x="508" y="287"/>
                      </a:lnTo>
                      <a:lnTo>
                        <a:pt x="484" y="268"/>
                      </a:lnTo>
                      <a:lnTo>
                        <a:pt x="450" y="240"/>
                      </a:lnTo>
                      <a:lnTo>
                        <a:pt x="434" y="210"/>
                      </a:lnTo>
                      <a:lnTo>
                        <a:pt x="424" y="182"/>
                      </a:lnTo>
                      <a:lnTo>
                        <a:pt x="355" y="182"/>
                      </a:lnTo>
                      <a:lnTo>
                        <a:pt x="310" y="186"/>
                      </a:lnTo>
                      <a:lnTo>
                        <a:pt x="246" y="200"/>
                      </a:lnTo>
                      <a:lnTo>
                        <a:pt x="306" y="178"/>
                      </a:lnTo>
                      <a:lnTo>
                        <a:pt x="354" y="169"/>
                      </a:lnTo>
                      <a:lnTo>
                        <a:pt x="424" y="178"/>
                      </a:lnTo>
                      <a:lnTo>
                        <a:pt x="422" y="125"/>
                      </a:lnTo>
                      <a:lnTo>
                        <a:pt x="426" y="68"/>
                      </a:lnTo>
                      <a:lnTo>
                        <a:pt x="448" y="0"/>
                      </a:lnTo>
                      <a:close/>
                    </a:path>
                  </a:pathLst>
                </a:custGeom>
                <a:solidFill>
                  <a:srgbClr val="ff8080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890" name=""/>
              <p:cNvGrpSpPr/>
              <p:nvPr/>
            </p:nvGrpSpPr>
            <p:grpSpPr>
              <a:xfrm>
                <a:off x="4276800" y="709560"/>
                <a:ext cx="750600" cy="938160"/>
                <a:chOff x="4276800" y="709560"/>
                <a:chExt cx="750600" cy="938160"/>
              </a:xfrm>
            </p:grpSpPr>
            <p:sp>
              <p:nvSpPr>
                <p:cNvPr id="11891" name=""/>
                <p:cNvSpPr/>
                <p:nvPr/>
              </p:nvSpPr>
              <p:spPr>
                <a:xfrm>
                  <a:off x="4276800" y="709560"/>
                  <a:ext cx="750600" cy="938160"/>
                </a:xfrm>
                <a:custGeom>
                  <a:avLst/>
                  <a:gdLst/>
                  <a:ahLst/>
                  <a:rect l="l" t="t" r="r" b="b"/>
                  <a:pathLst>
                    <a:path w="1891" h="2363">
                      <a:moveTo>
                        <a:pt x="1010" y="2363"/>
                      </a:moveTo>
                      <a:lnTo>
                        <a:pt x="1030" y="2349"/>
                      </a:lnTo>
                      <a:lnTo>
                        <a:pt x="1042" y="2252"/>
                      </a:lnTo>
                      <a:lnTo>
                        <a:pt x="1055" y="2149"/>
                      </a:lnTo>
                      <a:lnTo>
                        <a:pt x="1066" y="2082"/>
                      </a:lnTo>
                      <a:lnTo>
                        <a:pt x="1100" y="2028"/>
                      </a:lnTo>
                      <a:lnTo>
                        <a:pt x="1133" y="1956"/>
                      </a:lnTo>
                      <a:lnTo>
                        <a:pt x="1149" y="1888"/>
                      </a:lnTo>
                      <a:lnTo>
                        <a:pt x="1151" y="1828"/>
                      </a:lnTo>
                      <a:lnTo>
                        <a:pt x="1149" y="1797"/>
                      </a:lnTo>
                      <a:lnTo>
                        <a:pt x="1204" y="1810"/>
                      </a:lnTo>
                      <a:lnTo>
                        <a:pt x="1263" y="1811"/>
                      </a:lnTo>
                      <a:lnTo>
                        <a:pt x="1332" y="1804"/>
                      </a:lnTo>
                      <a:lnTo>
                        <a:pt x="1386" y="1785"/>
                      </a:lnTo>
                      <a:lnTo>
                        <a:pt x="1410" y="1773"/>
                      </a:lnTo>
                      <a:lnTo>
                        <a:pt x="1457" y="1725"/>
                      </a:lnTo>
                      <a:lnTo>
                        <a:pt x="1468" y="1695"/>
                      </a:lnTo>
                      <a:lnTo>
                        <a:pt x="1519" y="1669"/>
                      </a:lnTo>
                      <a:lnTo>
                        <a:pt x="1556" y="1634"/>
                      </a:lnTo>
                      <a:lnTo>
                        <a:pt x="1586" y="1580"/>
                      </a:lnTo>
                      <a:lnTo>
                        <a:pt x="1604" y="1512"/>
                      </a:lnTo>
                      <a:lnTo>
                        <a:pt x="1596" y="1409"/>
                      </a:lnTo>
                      <a:lnTo>
                        <a:pt x="1641" y="1385"/>
                      </a:lnTo>
                      <a:lnTo>
                        <a:pt x="1689" y="1320"/>
                      </a:lnTo>
                      <a:lnTo>
                        <a:pt x="1723" y="1258"/>
                      </a:lnTo>
                      <a:lnTo>
                        <a:pt x="1740" y="1143"/>
                      </a:lnTo>
                      <a:lnTo>
                        <a:pt x="1778" y="1126"/>
                      </a:lnTo>
                      <a:lnTo>
                        <a:pt x="1815" y="1100"/>
                      </a:lnTo>
                      <a:lnTo>
                        <a:pt x="1853" y="1047"/>
                      </a:lnTo>
                      <a:lnTo>
                        <a:pt x="1867" y="1018"/>
                      </a:lnTo>
                      <a:lnTo>
                        <a:pt x="1887" y="924"/>
                      </a:lnTo>
                      <a:lnTo>
                        <a:pt x="1891" y="863"/>
                      </a:lnTo>
                      <a:lnTo>
                        <a:pt x="1887" y="833"/>
                      </a:lnTo>
                      <a:lnTo>
                        <a:pt x="1870" y="786"/>
                      </a:lnTo>
                      <a:lnTo>
                        <a:pt x="1839" y="772"/>
                      </a:lnTo>
                      <a:lnTo>
                        <a:pt x="1863" y="690"/>
                      </a:lnTo>
                      <a:lnTo>
                        <a:pt x="1861" y="639"/>
                      </a:lnTo>
                      <a:lnTo>
                        <a:pt x="1846" y="611"/>
                      </a:lnTo>
                      <a:lnTo>
                        <a:pt x="1849" y="542"/>
                      </a:lnTo>
                      <a:lnTo>
                        <a:pt x="1832" y="490"/>
                      </a:lnTo>
                      <a:lnTo>
                        <a:pt x="1827" y="433"/>
                      </a:lnTo>
                      <a:lnTo>
                        <a:pt x="1876" y="300"/>
                      </a:lnTo>
                      <a:lnTo>
                        <a:pt x="1887" y="243"/>
                      </a:lnTo>
                      <a:lnTo>
                        <a:pt x="1886" y="182"/>
                      </a:lnTo>
                      <a:lnTo>
                        <a:pt x="1876" y="117"/>
                      </a:lnTo>
                      <a:lnTo>
                        <a:pt x="1851" y="67"/>
                      </a:lnTo>
                      <a:lnTo>
                        <a:pt x="1809" y="16"/>
                      </a:lnTo>
                      <a:lnTo>
                        <a:pt x="1748" y="0"/>
                      </a:lnTo>
                      <a:lnTo>
                        <a:pt x="1670" y="104"/>
                      </a:lnTo>
                      <a:lnTo>
                        <a:pt x="1625" y="162"/>
                      </a:lnTo>
                      <a:lnTo>
                        <a:pt x="1567" y="223"/>
                      </a:lnTo>
                      <a:lnTo>
                        <a:pt x="1505" y="273"/>
                      </a:lnTo>
                      <a:lnTo>
                        <a:pt x="1468" y="301"/>
                      </a:lnTo>
                      <a:lnTo>
                        <a:pt x="1441" y="335"/>
                      </a:lnTo>
                      <a:lnTo>
                        <a:pt x="1372" y="344"/>
                      </a:lnTo>
                      <a:lnTo>
                        <a:pt x="1318" y="380"/>
                      </a:lnTo>
                      <a:lnTo>
                        <a:pt x="1276" y="440"/>
                      </a:lnTo>
                      <a:lnTo>
                        <a:pt x="1175" y="426"/>
                      </a:lnTo>
                      <a:lnTo>
                        <a:pt x="1127" y="433"/>
                      </a:lnTo>
                      <a:lnTo>
                        <a:pt x="1058" y="453"/>
                      </a:lnTo>
                      <a:lnTo>
                        <a:pt x="970" y="493"/>
                      </a:lnTo>
                      <a:lnTo>
                        <a:pt x="909" y="469"/>
                      </a:lnTo>
                      <a:lnTo>
                        <a:pt x="752" y="457"/>
                      </a:lnTo>
                      <a:lnTo>
                        <a:pt x="696" y="459"/>
                      </a:lnTo>
                      <a:lnTo>
                        <a:pt x="648" y="461"/>
                      </a:lnTo>
                      <a:lnTo>
                        <a:pt x="598" y="423"/>
                      </a:lnTo>
                      <a:lnTo>
                        <a:pt x="513" y="392"/>
                      </a:lnTo>
                      <a:lnTo>
                        <a:pt x="455" y="386"/>
                      </a:lnTo>
                      <a:lnTo>
                        <a:pt x="423" y="395"/>
                      </a:lnTo>
                      <a:lnTo>
                        <a:pt x="393" y="364"/>
                      </a:lnTo>
                      <a:lnTo>
                        <a:pt x="370" y="321"/>
                      </a:lnTo>
                      <a:lnTo>
                        <a:pt x="328" y="334"/>
                      </a:lnTo>
                      <a:lnTo>
                        <a:pt x="277" y="338"/>
                      </a:lnTo>
                      <a:lnTo>
                        <a:pt x="237" y="331"/>
                      </a:lnTo>
                      <a:lnTo>
                        <a:pt x="212" y="320"/>
                      </a:lnTo>
                      <a:lnTo>
                        <a:pt x="151" y="368"/>
                      </a:lnTo>
                      <a:lnTo>
                        <a:pt x="134" y="395"/>
                      </a:lnTo>
                      <a:lnTo>
                        <a:pt x="99" y="406"/>
                      </a:lnTo>
                      <a:lnTo>
                        <a:pt x="58" y="440"/>
                      </a:lnTo>
                      <a:lnTo>
                        <a:pt x="32" y="497"/>
                      </a:lnTo>
                      <a:lnTo>
                        <a:pt x="21" y="540"/>
                      </a:lnTo>
                      <a:lnTo>
                        <a:pt x="21" y="581"/>
                      </a:lnTo>
                      <a:lnTo>
                        <a:pt x="26" y="630"/>
                      </a:lnTo>
                      <a:lnTo>
                        <a:pt x="46" y="680"/>
                      </a:lnTo>
                      <a:lnTo>
                        <a:pt x="75" y="714"/>
                      </a:lnTo>
                      <a:lnTo>
                        <a:pt x="76" y="736"/>
                      </a:lnTo>
                      <a:lnTo>
                        <a:pt x="50" y="795"/>
                      </a:lnTo>
                      <a:lnTo>
                        <a:pt x="21" y="849"/>
                      </a:lnTo>
                      <a:lnTo>
                        <a:pt x="4" y="900"/>
                      </a:lnTo>
                      <a:lnTo>
                        <a:pt x="0" y="938"/>
                      </a:lnTo>
                      <a:lnTo>
                        <a:pt x="4" y="982"/>
                      </a:lnTo>
                      <a:lnTo>
                        <a:pt x="14" y="1019"/>
                      </a:lnTo>
                      <a:lnTo>
                        <a:pt x="34" y="1049"/>
                      </a:lnTo>
                      <a:lnTo>
                        <a:pt x="76" y="1076"/>
                      </a:lnTo>
                      <a:lnTo>
                        <a:pt x="58" y="1112"/>
                      </a:lnTo>
                      <a:lnTo>
                        <a:pt x="48" y="1138"/>
                      </a:lnTo>
                      <a:lnTo>
                        <a:pt x="45" y="1178"/>
                      </a:lnTo>
                      <a:lnTo>
                        <a:pt x="46" y="1280"/>
                      </a:lnTo>
                      <a:lnTo>
                        <a:pt x="50" y="1354"/>
                      </a:lnTo>
                      <a:lnTo>
                        <a:pt x="70" y="1428"/>
                      </a:lnTo>
                      <a:lnTo>
                        <a:pt x="113" y="1512"/>
                      </a:lnTo>
                      <a:lnTo>
                        <a:pt x="100" y="1533"/>
                      </a:lnTo>
                      <a:lnTo>
                        <a:pt x="94" y="1564"/>
                      </a:lnTo>
                      <a:lnTo>
                        <a:pt x="104" y="1611"/>
                      </a:lnTo>
                      <a:lnTo>
                        <a:pt x="128" y="1649"/>
                      </a:lnTo>
                      <a:lnTo>
                        <a:pt x="165" y="1685"/>
                      </a:lnTo>
                      <a:lnTo>
                        <a:pt x="207" y="1710"/>
                      </a:lnTo>
                      <a:lnTo>
                        <a:pt x="257" y="1719"/>
                      </a:lnTo>
                      <a:lnTo>
                        <a:pt x="329" y="1712"/>
                      </a:lnTo>
                      <a:lnTo>
                        <a:pt x="394" y="1692"/>
                      </a:lnTo>
                      <a:lnTo>
                        <a:pt x="444" y="1654"/>
                      </a:lnTo>
                      <a:lnTo>
                        <a:pt x="491" y="1638"/>
                      </a:lnTo>
                      <a:lnTo>
                        <a:pt x="536" y="1634"/>
                      </a:lnTo>
                      <a:lnTo>
                        <a:pt x="571" y="1629"/>
                      </a:lnTo>
                      <a:lnTo>
                        <a:pt x="618" y="1618"/>
                      </a:lnTo>
                      <a:lnTo>
                        <a:pt x="644" y="1590"/>
                      </a:lnTo>
                      <a:lnTo>
                        <a:pt x="652" y="1557"/>
                      </a:lnTo>
                      <a:lnTo>
                        <a:pt x="648" y="1514"/>
                      </a:lnTo>
                      <a:lnTo>
                        <a:pt x="646" y="1486"/>
                      </a:lnTo>
                      <a:lnTo>
                        <a:pt x="660" y="1464"/>
                      </a:lnTo>
                      <a:lnTo>
                        <a:pt x="680" y="1454"/>
                      </a:lnTo>
                      <a:lnTo>
                        <a:pt x="708" y="1454"/>
                      </a:lnTo>
                      <a:lnTo>
                        <a:pt x="752" y="1468"/>
                      </a:lnTo>
                      <a:lnTo>
                        <a:pt x="793" y="1368"/>
                      </a:lnTo>
                      <a:lnTo>
                        <a:pt x="690" y="1334"/>
                      </a:lnTo>
                      <a:lnTo>
                        <a:pt x="618" y="1338"/>
                      </a:lnTo>
                      <a:lnTo>
                        <a:pt x="551" y="1357"/>
                      </a:lnTo>
                      <a:lnTo>
                        <a:pt x="481" y="1387"/>
                      </a:lnTo>
                      <a:lnTo>
                        <a:pt x="408" y="1418"/>
                      </a:lnTo>
                      <a:lnTo>
                        <a:pt x="376" y="1429"/>
                      </a:lnTo>
                      <a:lnTo>
                        <a:pt x="379" y="1388"/>
                      </a:lnTo>
                      <a:lnTo>
                        <a:pt x="403" y="1328"/>
                      </a:lnTo>
                      <a:lnTo>
                        <a:pt x="407" y="1263"/>
                      </a:lnTo>
                      <a:lnTo>
                        <a:pt x="376" y="1183"/>
                      </a:lnTo>
                      <a:lnTo>
                        <a:pt x="348" y="1144"/>
                      </a:lnTo>
                      <a:lnTo>
                        <a:pt x="342" y="1124"/>
                      </a:lnTo>
                      <a:lnTo>
                        <a:pt x="339" y="1104"/>
                      </a:lnTo>
                      <a:lnTo>
                        <a:pt x="366" y="1039"/>
                      </a:lnTo>
                      <a:lnTo>
                        <a:pt x="372" y="991"/>
                      </a:lnTo>
                      <a:lnTo>
                        <a:pt x="372" y="931"/>
                      </a:lnTo>
                      <a:lnTo>
                        <a:pt x="352" y="882"/>
                      </a:lnTo>
                      <a:lnTo>
                        <a:pt x="318" y="821"/>
                      </a:lnTo>
                      <a:lnTo>
                        <a:pt x="358" y="796"/>
                      </a:lnTo>
                      <a:lnTo>
                        <a:pt x="396" y="742"/>
                      </a:lnTo>
                      <a:lnTo>
                        <a:pt x="418" y="677"/>
                      </a:lnTo>
                      <a:lnTo>
                        <a:pt x="427" y="639"/>
                      </a:lnTo>
                      <a:lnTo>
                        <a:pt x="477" y="635"/>
                      </a:lnTo>
                      <a:lnTo>
                        <a:pt x="519" y="677"/>
                      </a:lnTo>
                      <a:lnTo>
                        <a:pt x="580" y="714"/>
                      </a:lnTo>
                      <a:lnTo>
                        <a:pt x="625" y="717"/>
                      </a:lnTo>
                      <a:lnTo>
                        <a:pt x="663" y="704"/>
                      </a:lnTo>
                      <a:lnTo>
                        <a:pt x="698" y="683"/>
                      </a:lnTo>
                      <a:lnTo>
                        <a:pt x="732" y="711"/>
                      </a:lnTo>
                      <a:lnTo>
                        <a:pt x="789" y="738"/>
                      </a:lnTo>
                      <a:lnTo>
                        <a:pt x="865" y="750"/>
                      </a:lnTo>
                      <a:lnTo>
                        <a:pt x="925" y="748"/>
                      </a:lnTo>
                      <a:lnTo>
                        <a:pt x="967" y="742"/>
                      </a:lnTo>
                      <a:lnTo>
                        <a:pt x="1017" y="720"/>
                      </a:lnTo>
                      <a:lnTo>
                        <a:pt x="1065" y="690"/>
                      </a:lnTo>
                      <a:lnTo>
                        <a:pt x="1125" y="717"/>
                      </a:lnTo>
                      <a:lnTo>
                        <a:pt x="1191" y="711"/>
                      </a:lnTo>
                      <a:lnTo>
                        <a:pt x="1284" y="700"/>
                      </a:lnTo>
                      <a:lnTo>
                        <a:pt x="1338" y="671"/>
                      </a:lnTo>
                      <a:lnTo>
                        <a:pt x="1380" y="639"/>
                      </a:lnTo>
                      <a:lnTo>
                        <a:pt x="1416" y="596"/>
                      </a:lnTo>
                      <a:lnTo>
                        <a:pt x="1429" y="578"/>
                      </a:lnTo>
                      <a:lnTo>
                        <a:pt x="1465" y="530"/>
                      </a:lnTo>
                      <a:lnTo>
                        <a:pt x="1495" y="524"/>
                      </a:lnTo>
                      <a:lnTo>
                        <a:pt x="1543" y="511"/>
                      </a:lnTo>
                      <a:lnTo>
                        <a:pt x="1518" y="606"/>
                      </a:lnTo>
                      <a:lnTo>
                        <a:pt x="1513" y="700"/>
                      </a:lnTo>
                      <a:lnTo>
                        <a:pt x="1525" y="752"/>
                      </a:lnTo>
                      <a:lnTo>
                        <a:pt x="1553" y="792"/>
                      </a:lnTo>
                      <a:lnTo>
                        <a:pt x="1622" y="835"/>
                      </a:lnTo>
                      <a:lnTo>
                        <a:pt x="1597" y="882"/>
                      </a:lnTo>
                      <a:lnTo>
                        <a:pt x="1573" y="938"/>
                      </a:lnTo>
                      <a:lnTo>
                        <a:pt x="1543" y="972"/>
                      </a:lnTo>
                      <a:lnTo>
                        <a:pt x="1511" y="1021"/>
                      </a:lnTo>
                      <a:lnTo>
                        <a:pt x="1489" y="1082"/>
                      </a:lnTo>
                      <a:lnTo>
                        <a:pt x="1492" y="1150"/>
                      </a:lnTo>
                      <a:lnTo>
                        <a:pt x="1479" y="1173"/>
                      </a:lnTo>
                      <a:lnTo>
                        <a:pt x="1439" y="1197"/>
                      </a:lnTo>
                      <a:lnTo>
                        <a:pt x="1403" y="1229"/>
                      </a:lnTo>
                      <a:lnTo>
                        <a:pt x="1382" y="1258"/>
                      </a:lnTo>
                      <a:lnTo>
                        <a:pt x="1368" y="1293"/>
                      </a:lnTo>
                      <a:lnTo>
                        <a:pt x="1366" y="1344"/>
                      </a:lnTo>
                      <a:lnTo>
                        <a:pt x="1362" y="1415"/>
                      </a:lnTo>
                      <a:lnTo>
                        <a:pt x="1344" y="1476"/>
                      </a:lnTo>
                      <a:lnTo>
                        <a:pt x="1324" y="1554"/>
                      </a:lnTo>
                      <a:lnTo>
                        <a:pt x="1300" y="1587"/>
                      </a:lnTo>
                      <a:lnTo>
                        <a:pt x="1276" y="1605"/>
                      </a:lnTo>
                      <a:lnTo>
                        <a:pt x="1239" y="1615"/>
                      </a:lnTo>
                      <a:lnTo>
                        <a:pt x="1213" y="1618"/>
                      </a:lnTo>
                      <a:lnTo>
                        <a:pt x="1189" y="1611"/>
                      </a:lnTo>
                      <a:lnTo>
                        <a:pt x="1163" y="1604"/>
                      </a:lnTo>
                      <a:lnTo>
                        <a:pt x="1133" y="1585"/>
                      </a:lnTo>
                      <a:lnTo>
                        <a:pt x="1106" y="1569"/>
                      </a:lnTo>
                      <a:lnTo>
                        <a:pt x="1076" y="1554"/>
                      </a:lnTo>
                      <a:lnTo>
                        <a:pt x="1044" y="1547"/>
                      </a:lnTo>
                      <a:lnTo>
                        <a:pt x="1020" y="1543"/>
                      </a:lnTo>
                      <a:lnTo>
                        <a:pt x="994" y="1547"/>
                      </a:lnTo>
                      <a:lnTo>
                        <a:pt x="960" y="1569"/>
                      </a:lnTo>
                      <a:lnTo>
                        <a:pt x="933" y="1600"/>
                      </a:lnTo>
                      <a:lnTo>
                        <a:pt x="915" y="1638"/>
                      </a:lnTo>
                      <a:lnTo>
                        <a:pt x="905" y="1702"/>
                      </a:lnTo>
                      <a:lnTo>
                        <a:pt x="909" y="1780"/>
                      </a:lnTo>
                      <a:lnTo>
                        <a:pt x="932" y="1800"/>
                      </a:lnTo>
                      <a:lnTo>
                        <a:pt x="914" y="1845"/>
                      </a:lnTo>
                      <a:lnTo>
                        <a:pt x="919" y="1943"/>
                      </a:lnTo>
                      <a:lnTo>
                        <a:pt x="982" y="2119"/>
                      </a:lnTo>
                      <a:lnTo>
                        <a:pt x="982" y="2176"/>
                      </a:lnTo>
                      <a:lnTo>
                        <a:pt x="993" y="2343"/>
                      </a:lnTo>
                      <a:lnTo>
                        <a:pt x="1010" y="2363"/>
                      </a:lnTo>
                      <a:close/>
                    </a:path>
                  </a:pathLst>
                </a:custGeom>
                <a:solidFill>
                  <a:srgbClr val="ffc080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892" name=""/>
                <p:cNvGrpSpPr/>
                <p:nvPr/>
              </p:nvGrpSpPr>
              <p:grpSpPr>
                <a:xfrm>
                  <a:off x="4322520" y="822240"/>
                  <a:ext cx="658800" cy="549360"/>
                  <a:chOff x="4322520" y="822240"/>
                  <a:chExt cx="658800" cy="549360"/>
                </a:xfrm>
              </p:grpSpPr>
              <p:sp>
                <p:nvSpPr>
                  <p:cNvPr id="11893" name=""/>
                  <p:cNvSpPr/>
                  <p:nvPr/>
                </p:nvSpPr>
                <p:spPr>
                  <a:xfrm>
                    <a:off x="4925880" y="878040"/>
                    <a:ext cx="9720" cy="5076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127">
                        <a:moveTo>
                          <a:pt x="24" y="127"/>
                        </a:moveTo>
                        <a:lnTo>
                          <a:pt x="0" y="72"/>
                        </a:lnTo>
                        <a:lnTo>
                          <a:pt x="0" y="12"/>
                        </a:lnTo>
                        <a:lnTo>
                          <a:pt x="13" y="0"/>
                        </a:lnTo>
                      </a:path>
                    </a:pathLst>
                  </a:custGeom>
                  <a:noFill/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" bIns="3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94" name=""/>
                  <p:cNvSpPr/>
                  <p:nvPr/>
                </p:nvSpPr>
                <p:spPr>
                  <a:xfrm>
                    <a:off x="4883040" y="822240"/>
                    <a:ext cx="73080" cy="93600"/>
                  </a:xfrm>
                  <a:custGeom>
                    <a:avLst/>
                    <a:gdLst/>
                    <a:ahLst/>
                    <a:rect l="l" t="t" r="r" b="b"/>
                    <a:pathLst>
                      <a:path w="187" h="237">
                        <a:moveTo>
                          <a:pt x="187" y="0"/>
                        </a:moveTo>
                        <a:lnTo>
                          <a:pt x="163" y="55"/>
                        </a:lnTo>
                        <a:lnTo>
                          <a:pt x="139" y="109"/>
                        </a:lnTo>
                        <a:lnTo>
                          <a:pt x="127" y="152"/>
                        </a:lnTo>
                        <a:lnTo>
                          <a:pt x="84" y="176"/>
                        </a:lnTo>
                        <a:lnTo>
                          <a:pt x="43" y="218"/>
                        </a:lnTo>
                        <a:lnTo>
                          <a:pt x="0" y="224"/>
                        </a:lnTo>
                        <a:lnTo>
                          <a:pt x="19" y="237"/>
                        </a:lnTo>
                      </a:path>
                    </a:pathLst>
                  </a:custGeom>
                  <a:noFill/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95" name=""/>
                  <p:cNvSpPr/>
                  <p:nvPr/>
                </p:nvSpPr>
                <p:spPr>
                  <a:xfrm>
                    <a:off x="4659120" y="911160"/>
                    <a:ext cx="15840" cy="2232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55">
                        <a:moveTo>
                          <a:pt x="0" y="0"/>
                        </a:moveTo>
                        <a:lnTo>
                          <a:pt x="37" y="48"/>
                        </a:lnTo>
                        <a:lnTo>
                          <a:pt x="37" y="55"/>
                        </a:lnTo>
                      </a:path>
                    </a:pathLst>
                  </a:custGeom>
                  <a:noFill/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96" name=""/>
                  <p:cNvSpPr/>
                  <p:nvPr/>
                </p:nvSpPr>
                <p:spPr>
                  <a:xfrm>
                    <a:off x="4525920" y="884160"/>
                    <a:ext cx="22320" cy="2880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000" bIns="-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97" name=""/>
                  <p:cNvSpPr/>
                  <p:nvPr/>
                </p:nvSpPr>
                <p:spPr>
                  <a:xfrm>
                    <a:off x="4322520" y="863640"/>
                    <a:ext cx="122400" cy="19080"/>
                  </a:xfrm>
                  <a:custGeom>
                    <a:avLst/>
                    <a:gdLst/>
                    <a:ahLst/>
                    <a:rect l="l" t="t" r="r" b="b"/>
                    <a:pathLst>
                      <a:path w="309" h="49">
                        <a:moveTo>
                          <a:pt x="309" y="0"/>
                        </a:moveTo>
                        <a:lnTo>
                          <a:pt x="266" y="43"/>
                        </a:lnTo>
                        <a:lnTo>
                          <a:pt x="224" y="49"/>
                        </a:lnTo>
                        <a:lnTo>
                          <a:pt x="194" y="19"/>
                        </a:lnTo>
                        <a:lnTo>
                          <a:pt x="146" y="6"/>
                        </a:lnTo>
                        <a:lnTo>
                          <a:pt x="91" y="6"/>
                        </a:lnTo>
                        <a:lnTo>
                          <a:pt x="19" y="6"/>
                        </a:lnTo>
                        <a:lnTo>
                          <a:pt x="0" y="6"/>
                        </a:lnTo>
                        <a:lnTo>
                          <a:pt x="6" y="12"/>
                        </a:lnTo>
                      </a:path>
                    </a:pathLst>
                  </a:custGeom>
                  <a:noFill/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98" name=""/>
                  <p:cNvSpPr/>
                  <p:nvPr/>
                </p:nvSpPr>
                <p:spPr>
                  <a:xfrm>
                    <a:off x="4338720" y="938160"/>
                    <a:ext cx="10296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60" h="176">
                        <a:moveTo>
                          <a:pt x="260" y="73"/>
                        </a:moveTo>
                        <a:lnTo>
                          <a:pt x="193" y="73"/>
                        </a:lnTo>
                        <a:lnTo>
                          <a:pt x="138" y="73"/>
                        </a:lnTo>
                        <a:lnTo>
                          <a:pt x="90" y="73"/>
                        </a:lnTo>
                        <a:lnTo>
                          <a:pt x="42" y="42"/>
                        </a:lnTo>
                        <a:lnTo>
                          <a:pt x="7" y="0"/>
                        </a:lnTo>
                        <a:lnTo>
                          <a:pt x="36" y="49"/>
                        </a:lnTo>
                        <a:lnTo>
                          <a:pt x="42" y="97"/>
                        </a:lnTo>
                        <a:lnTo>
                          <a:pt x="36" y="140"/>
                        </a:lnTo>
                        <a:lnTo>
                          <a:pt x="18" y="157"/>
                        </a:lnTo>
                        <a:lnTo>
                          <a:pt x="0" y="176"/>
                        </a:lnTo>
                      </a:path>
                    </a:pathLst>
                  </a:custGeom>
                  <a:noFill/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99" name=""/>
                  <p:cNvSpPr/>
                  <p:nvPr/>
                </p:nvSpPr>
                <p:spPr>
                  <a:xfrm>
                    <a:off x="4346640" y="1057320"/>
                    <a:ext cx="58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704">
                        <a:moveTo>
                          <a:pt x="0" y="0"/>
                        </a:moveTo>
                        <a:lnTo>
                          <a:pt x="6" y="49"/>
                        </a:lnTo>
                        <a:lnTo>
                          <a:pt x="18" y="97"/>
                        </a:lnTo>
                        <a:lnTo>
                          <a:pt x="67" y="128"/>
                        </a:lnTo>
                        <a:lnTo>
                          <a:pt x="30" y="165"/>
                        </a:lnTo>
                        <a:lnTo>
                          <a:pt x="24" y="206"/>
                        </a:lnTo>
                        <a:lnTo>
                          <a:pt x="42" y="256"/>
                        </a:lnTo>
                        <a:lnTo>
                          <a:pt x="72" y="304"/>
                        </a:lnTo>
                        <a:lnTo>
                          <a:pt x="78" y="334"/>
                        </a:lnTo>
                        <a:lnTo>
                          <a:pt x="85" y="389"/>
                        </a:lnTo>
                        <a:lnTo>
                          <a:pt x="61" y="432"/>
                        </a:lnTo>
                        <a:lnTo>
                          <a:pt x="37" y="473"/>
                        </a:lnTo>
                        <a:lnTo>
                          <a:pt x="78" y="486"/>
                        </a:lnTo>
                        <a:lnTo>
                          <a:pt x="91" y="516"/>
                        </a:lnTo>
                        <a:lnTo>
                          <a:pt x="109" y="577"/>
                        </a:lnTo>
                        <a:lnTo>
                          <a:pt x="109" y="595"/>
                        </a:lnTo>
                        <a:lnTo>
                          <a:pt x="96" y="613"/>
                        </a:lnTo>
                        <a:lnTo>
                          <a:pt x="91" y="649"/>
                        </a:lnTo>
                        <a:lnTo>
                          <a:pt x="96" y="673"/>
                        </a:lnTo>
                        <a:lnTo>
                          <a:pt x="133" y="692"/>
                        </a:lnTo>
                        <a:lnTo>
                          <a:pt x="139" y="704"/>
                        </a:lnTo>
                        <a:lnTo>
                          <a:pt x="151" y="698"/>
                        </a:lnTo>
                      </a:path>
                    </a:pathLst>
                  </a:custGeom>
                  <a:noFill/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00" name=""/>
                  <p:cNvSpPr/>
                  <p:nvPr/>
                </p:nvSpPr>
                <p:spPr>
                  <a:xfrm>
                    <a:off x="4940280" y="988920"/>
                    <a:ext cx="4104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103" h="146">
                        <a:moveTo>
                          <a:pt x="13" y="0"/>
                        </a:moveTo>
                        <a:lnTo>
                          <a:pt x="0" y="25"/>
                        </a:lnTo>
                        <a:lnTo>
                          <a:pt x="0" y="67"/>
                        </a:lnTo>
                        <a:lnTo>
                          <a:pt x="13" y="91"/>
                        </a:lnTo>
                        <a:lnTo>
                          <a:pt x="24" y="128"/>
                        </a:lnTo>
                        <a:lnTo>
                          <a:pt x="37" y="146"/>
                        </a:lnTo>
                        <a:lnTo>
                          <a:pt x="66" y="110"/>
                        </a:lnTo>
                        <a:lnTo>
                          <a:pt x="103" y="110"/>
                        </a:lnTo>
                      </a:path>
                    </a:pathLst>
                  </a:custGeom>
                  <a:noFill/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440" bIns="10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01" name=""/>
                  <p:cNvSpPr/>
                  <p:nvPr/>
                </p:nvSpPr>
                <p:spPr>
                  <a:xfrm>
                    <a:off x="4924440" y="1087560"/>
                    <a:ext cx="31680" cy="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84" h="200">
                        <a:moveTo>
                          <a:pt x="84" y="0"/>
                        </a:moveTo>
                        <a:lnTo>
                          <a:pt x="36" y="37"/>
                        </a:lnTo>
                        <a:lnTo>
                          <a:pt x="18" y="68"/>
                        </a:lnTo>
                        <a:lnTo>
                          <a:pt x="5" y="122"/>
                        </a:lnTo>
                        <a:lnTo>
                          <a:pt x="18" y="170"/>
                        </a:lnTo>
                        <a:lnTo>
                          <a:pt x="0" y="200"/>
                        </a:lnTo>
                      </a:path>
                    </a:pathLst>
                  </a:custGeom>
                  <a:noFill/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400" bIns="32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02" name=""/>
                  <p:cNvSpPr/>
                  <p:nvPr/>
                </p:nvSpPr>
                <p:spPr>
                  <a:xfrm>
                    <a:off x="4859280" y="1206360"/>
                    <a:ext cx="33480" cy="86040"/>
                  </a:xfrm>
                  <a:custGeom>
                    <a:avLst/>
                    <a:gdLst/>
                    <a:ahLst/>
                    <a:rect l="l" t="t" r="r" b="b"/>
                    <a:pathLst>
                      <a:path w="85" h="213">
                        <a:moveTo>
                          <a:pt x="85" y="0"/>
                        </a:moveTo>
                        <a:lnTo>
                          <a:pt x="36" y="43"/>
                        </a:lnTo>
                        <a:lnTo>
                          <a:pt x="18" y="104"/>
                        </a:lnTo>
                        <a:lnTo>
                          <a:pt x="0" y="165"/>
                        </a:lnTo>
                        <a:lnTo>
                          <a:pt x="0" y="206"/>
                        </a:lnTo>
                        <a:lnTo>
                          <a:pt x="0" y="213"/>
                        </a:lnTo>
                      </a:path>
                    </a:pathLst>
                  </a:custGeom>
                  <a:noFill/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240" bIns="39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03" name=""/>
                  <p:cNvSpPr/>
                  <p:nvPr/>
                </p:nvSpPr>
                <p:spPr>
                  <a:xfrm>
                    <a:off x="4784760" y="1308240"/>
                    <a:ext cx="5688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144" h="157">
                        <a:moveTo>
                          <a:pt x="144" y="0"/>
                        </a:moveTo>
                        <a:lnTo>
                          <a:pt x="115" y="41"/>
                        </a:lnTo>
                        <a:lnTo>
                          <a:pt x="102" y="84"/>
                        </a:lnTo>
                        <a:lnTo>
                          <a:pt x="61" y="102"/>
                        </a:lnTo>
                        <a:lnTo>
                          <a:pt x="42" y="139"/>
                        </a:lnTo>
                        <a:lnTo>
                          <a:pt x="0" y="157"/>
                        </a:lnTo>
                      </a:path>
                    </a:pathLst>
                  </a:custGeom>
                  <a:noFill/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11904" name=""/>
            <p:cNvSpPr/>
            <p:nvPr/>
          </p:nvSpPr>
          <p:spPr>
            <a:xfrm>
              <a:off x="5113080" y="452520"/>
              <a:ext cx="813240" cy="42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800" spc="-1" strike="noStrike">
                  <a:solidFill>
                    <a:srgbClr val="000000"/>
                  </a:solidFill>
                  <a:latin typeface="Times New Roman"/>
                </a:rPr>
                <a:t>HCO</a:t>
              </a:r>
              <a:r>
                <a:rPr b="1" lang="cs-CZ" sz="18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1" lang="cs-CZ" sz="1800" spc="-1" strike="noStrike" baseline="50000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5" name=""/>
            <p:cNvSpPr/>
            <p:nvPr/>
          </p:nvSpPr>
          <p:spPr>
            <a:xfrm>
              <a:off x="5342040" y="769680"/>
              <a:ext cx="45360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800" spc="-1" strike="noStrike">
                  <a:solidFill>
                    <a:srgbClr val="000000"/>
                  </a:solidFill>
                  <a:latin typeface="Times New Roman"/>
                </a:rPr>
                <a:t>Cl</a:t>
              </a:r>
              <a:r>
                <a:rPr b="1" lang="cs-CZ" sz="1800" spc="-1" strike="noStrike" baseline="50000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6" name=""/>
            <p:cNvSpPr/>
            <p:nvPr/>
          </p:nvSpPr>
          <p:spPr>
            <a:xfrm flipH="1">
              <a:off x="4819320" y="835200"/>
              <a:ext cx="490680" cy="1443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7" name=""/>
            <p:cNvSpPr/>
            <p:nvPr/>
          </p:nvSpPr>
          <p:spPr>
            <a:xfrm flipH="1">
              <a:off x="4917960" y="1087560"/>
              <a:ext cx="454320" cy="134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8" name=""/>
            <p:cNvSpPr/>
            <p:nvPr/>
          </p:nvSpPr>
          <p:spPr>
            <a:xfrm>
              <a:off x="8020440" y="368280"/>
              <a:ext cx="43524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8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1" lang="cs-CZ" sz="1800" spc="-1" strike="noStrike" baseline="50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9" name=""/>
            <p:cNvSpPr/>
            <p:nvPr/>
          </p:nvSpPr>
          <p:spPr>
            <a:xfrm>
              <a:off x="7714080" y="1335240"/>
              <a:ext cx="667080" cy="42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800" spc="-1" strike="noStrike">
                  <a:solidFill>
                    <a:srgbClr val="000000"/>
                  </a:solidFill>
                  <a:latin typeface="Times New Roman"/>
                </a:rPr>
                <a:t>NH</a:t>
              </a:r>
              <a:r>
                <a:rPr b="1" lang="cs-CZ" sz="18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1" lang="cs-CZ" sz="1800" spc="-1" strike="noStrike" baseline="50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0" name=""/>
            <p:cNvSpPr/>
            <p:nvPr/>
          </p:nvSpPr>
          <p:spPr>
            <a:xfrm>
              <a:off x="6130800" y="34920"/>
              <a:ext cx="1584360" cy="1352520"/>
            </a:xfrm>
            <a:custGeom>
              <a:avLst/>
              <a:gdLst/>
              <a:ahLst/>
              <a:rect l="l" t="t" r="r" b="b"/>
              <a:pathLst>
                <a:path w="998" h="852">
                  <a:moveTo>
                    <a:pt x="944" y="852"/>
                  </a:moveTo>
                  <a:cubicBezTo>
                    <a:pt x="927" y="722"/>
                    <a:pt x="998" y="138"/>
                    <a:pt x="841" y="69"/>
                  </a:cubicBezTo>
                  <a:cubicBezTo>
                    <a:pt x="684" y="0"/>
                    <a:pt x="175" y="361"/>
                    <a:pt x="0" y="438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1" name=""/>
            <p:cNvSpPr/>
            <p:nvPr/>
          </p:nvSpPr>
          <p:spPr>
            <a:xfrm>
              <a:off x="7371000" y="1347480"/>
              <a:ext cx="45360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800" spc="-1" strike="noStrike">
                  <a:solidFill>
                    <a:srgbClr val="000000"/>
                  </a:solidFill>
                  <a:latin typeface="Times New Roman"/>
                </a:rPr>
                <a:t>Cl</a:t>
              </a:r>
              <a:r>
                <a:rPr b="1" lang="cs-CZ" sz="1800" spc="-1" strike="noStrike" baseline="50000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2" name=""/>
            <p:cNvSpPr/>
            <p:nvPr/>
          </p:nvSpPr>
          <p:spPr>
            <a:xfrm>
              <a:off x="7756560" y="514440"/>
              <a:ext cx="280800" cy="836640"/>
            </a:xfrm>
            <a:custGeom>
              <a:avLst/>
              <a:gdLst/>
              <a:ahLst/>
              <a:rect l="l" t="t" r="r" b="b"/>
              <a:pathLst>
                <a:path w="177" h="527">
                  <a:moveTo>
                    <a:pt x="40" y="527"/>
                  </a:moveTo>
                  <a:cubicBezTo>
                    <a:pt x="37" y="453"/>
                    <a:pt x="0" y="164"/>
                    <a:pt x="23" y="82"/>
                  </a:cubicBezTo>
                  <a:cubicBezTo>
                    <a:pt x="46" y="0"/>
                    <a:pt x="145" y="46"/>
                    <a:pt x="177" y="36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3" name=""/>
            <p:cNvSpPr/>
            <p:nvPr/>
          </p:nvSpPr>
          <p:spPr>
            <a:xfrm>
              <a:off x="7613280" y="-19440"/>
              <a:ext cx="5907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800" spc="-1" strike="noStrike">
                  <a:solidFill>
                    <a:srgbClr val="000000"/>
                  </a:solidFill>
                  <a:latin typeface="Times New Roman"/>
                </a:rPr>
                <a:t>NH</a:t>
              </a:r>
              <a:r>
                <a:rPr b="1" lang="cs-CZ" sz="18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4" name=""/>
            <p:cNvSpPr/>
            <p:nvPr/>
          </p:nvSpPr>
          <p:spPr>
            <a:xfrm>
              <a:off x="7756560" y="363600"/>
              <a:ext cx="27000" cy="334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5" name=""/>
            <p:cNvSpPr/>
            <p:nvPr/>
          </p:nvSpPr>
          <p:spPr>
            <a:xfrm>
              <a:off x="6014880" y="665280"/>
              <a:ext cx="1592280" cy="2763720"/>
            </a:xfrm>
            <a:custGeom>
              <a:avLst/>
              <a:gdLst/>
              <a:ahLst/>
              <a:rect l="l" t="t" r="r" b="b"/>
              <a:pathLst>
                <a:path w="1003" h="1741">
                  <a:moveTo>
                    <a:pt x="0" y="72"/>
                  </a:moveTo>
                  <a:cubicBezTo>
                    <a:pt x="62" y="82"/>
                    <a:pt x="221" y="0"/>
                    <a:pt x="371" y="130"/>
                  </a:cubicBezTo>
                  <a:cubicBezTo>
                    <a:pt x="521" y="260"/>
                    <a:pt x="803" y="660"/>
                    <a:pt x="903" y="855"/>
                  </a:cubicBezTo>
                  <a:cubicBezTo>
                    <a:pt x="1003" y="1050"/>
                    <a:pt x="996" y="1172"/>
                    <a:pt x="971" y="1301"/>
                  </a:cubicBezTo>
                  <a:cubicBezTo>
                    <a:pt x="946" y="1430"/>
                    <a:pt x="903" y="1559"/>
                    <a:pt x="754" y="1632"/>
                  </a:cubicBezTo>
                  <a:cubicBezTo>
                    <a:pt x="605" y="1705"/>
                    <a:pt x="220" y="1718"/>
                    <a:pt x="80" y="1741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1916" name=""/>
            <p:cNvGraphicFramePr/>
            <p:nvPr/>
          </p:nvGraphicFramePr>
          <p:xfrm>
            <a:off x="7877160" y="3776760"/>
            <a:ext cx="1111320" cy="12016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191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877160" y="3776760"/>
                      <a:ext cx="1111320" cy="1201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918" name=""/>
            <p:cNvSpPr/>
            <p:nvPr/>
          </p:nvSpPr>
          <p:spPr>
            <a:xfrm>
              <a:off x="7436160" y="4325400"/>
              <a:ext cx="3499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2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1" lang="cs-CZ" sz="1200" spc="-1" strike="noStrike" baseline="50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9" name=""/>
            <p:cNvSpPr/>
            <p:nvPr/>
          </p:nvSpPr>
          <p:spPr>
            <a:xfrm>
              <a:off x="8432280" y="5256000"/>
              <a:ext cx="448920" cy="27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000" spc="-1" strike="noStrike">
                  <a:solidFill>
                    <a:srgbClr val="000000"/>
                  </a:solidFill>
                  <a:latin typeface="Times New Roman"/>
                </a:rPr>
                <a:t>NH</a:t>
              </a:r>
              <a:r>
                <a:rPr b="1" lang="cs-CZ" sz="10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1" lang="cs-CZ" sz="1000" spc="-1" strike="noStrike" baseline="50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0" name=""/>
            <p:cNvSpPr/>
            <p:nvPr/>
          </p:nvSpPr>
          <p:spPr>
            <a:xfrm>
              <a:off x="7746840" y="4446720"/>
              <a:ext cx="858960" cy="833400"/>
            </a:xfrm>
            <a:custGeom>
              <a:avLst/>
              <a:gdLst/>
              <a:ahLst/>
              <a:rect l="l" t="t" r="r" b="b"/>
              <a:pathLst>
                <a:path w="541" h="525">
                  <a:moveTo>
                    <a:pt x="532" y="525"/>
                  </a:moveTo>
                  <a:cubicBezTo>
                    <a:pt x="530" y="463"/>
                    <a:pt x="541" y="221"/>
                    <a:pt x="509" y="143"/>
                  </a:cubicBezTo>
                  <a:cubicBezTo>
                    <a:pt x="477" y="65"/>
                    <a:pt x="422" y="81"/>
                    <a:pt x="337" y="57"/>
                  </a:cubicBezTo>
                  <a:cubicBezTo>
                    <a:pt x="252" y="33"/>
                    <a:pt x="70" y="12"/>
                    <a:pt x="0" y="0"/>
                  </a:cubicBezTo>
                </a:path>
              </a:pathLst>
            </a:custGeom>
            <a:noFill/>
            <a:ln w="648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1" name=""/>
            <p:cNvSpPr/>
            <p:nvPr/>
          </p:nvSpPr>
          <p:spPr>
            <a:xfrm>
              <a:off x="8494200" y="3538800"/>
              <a:ext cx="4993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400" spc="-1" strike="noStrike">
                  <a:solidFill>
                    <a:srgbClr val="000000"/>
                  </a:solidFill>
                  <a:latin typeface="Times New Roman"/>
                </a:rPr>
                <a:t>NH</a:t>
              </a:r>
              <a:r>
                <a:rPr b="1" lang="cs-CZ" sz="1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2" name=""/>
            <p:cNvSpPr/>
            <p:nvPr/>
          </p:nvSpPr>
          <p:spPr>
            <a:xfrm>
              <a:off x="8572680" y="3929040"/>
              <a:ext cx="9360" cy="771480"/>
            </a:xfrm>
            <a:custGeom>
              <a:avLst/>
              <a:gdLst/>
              <a:ahLst/>
              <a:rect l="l" t="t" r="r" b="b"/>
              <a:pathLst>
                <a:path w="6" h="486">
                  <a:moveTo>
                    <a:pt x="6" y="0"/>
                  </a:moveTo>
                  <a:lnTo>
                    <a:pt x="0" y="486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3" name=""/>
            <p:cNvSpPr/>
            <p:nvPr/>
          </p:nvSpPr>
          <p:spPr>
            <a:xfrm>
              <a:off x="8087040" y="3290760"/>
              <a:ext cx="45360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800" spc="-1" strike="noStrike">
                  <a:solidFill>
                    <a:srgbClr val="000000"/>
                  </a:solidFill>
                  <a:latin typeface="Times New Roman"/>
                </a:rPr>
                <a:t>Cl</a:t>
              </a:r>
              <a:r>
                <a:rPr b="1" lang="cs-CZ" sz="1800" spc="-1" strike="noStrike" baseline="50000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4" name=""/>
            <p:cNvSpPr/>
            <p:nvPr/>
          </p:nvSpPr>
          <p:spPr>
            <a:xfrm>
              <a:off x="6105600" y="3871800"/>
              <a:ext cx="2284200" cy="955800"/>
            </a:xfrm>
            <a:custGeom>
              <a:avLst/>
              <a:gdLst/>
              <a:ahLst/>
              <a:rect l="l" t="t" r="r" b="b"/>
              <a:pathLst>
                <a:path w="1439" h="602">
                  <a:moveTo>
                    <a:pt x="1437" y="0"/>
                  </a:moveTo>
                  <a:cubicBezTo>
                    <a:pt x="1435" y="87"/>
                    <a:pt x="1439" y="441"/>
                    <a:pt x="1423" y="522"/>
                  </a:cubicBezTo>
                  <a:cubicBezTo>
                    <a:pt x="1406" y="602"/>
                    <a:pt x="1381" y="539"/>
                    <a:pt x="1341" y="481"/>
                  </a:cubicBezTo>
                  <a:cubicBezTo>
                    <a:pt x="1301" y="424"/>
                    <a:pt x="1405" y="230"/>
                    <a:pt x="1182" y="175"/>
                  </a:cubicBezTo>
                  <a:cubicBezTo>
                    <a:pt x="959" y="120"/>
                    <a:pt x="246" y="155"/>
                    <a:pt x="0" y="149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5" name=""/>
            <p:cNvSpPr/>
            <p:nvPr/>
          </p:nvSpPr>
          <p:spPr>
            <a:xfrm>
              <a:off x="6411960" y="3379680"/>
              <a:ext cx="1514520" cy="6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Relativní hromadění chloridů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6" name=""/>
            <p:cNvSpPr/>
            <p:nvPr/>
          </p:nvSpPr>
          <p:spPr>
            <a:xfrm>
              <a:off x="6429240" y="4686480"/>
              <a:ext cx="2413080" cy="105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Snížená acidifik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400" spc="-1" strike="noStrike">
                  <a:solidFill>
                    <a:srgbClr val="000000"/>
                  </a:solidFill>
                  <a:latin typeface="Times New Roman"/>
                </a:rPr>
                <a:t>(tubulární acidózy, nízkoreninový hypoaldosteronismus, snížená glomer. filtrace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7" name=""/>
            <p:cNvSpPr/>
            <p:nvPr/>
          </p:nvSpPr>
          <p:spPr>
            <a:xfrm>
              <a:off x="6713640" y="2282760"/>
              <a:ext cx="1141200" cy="6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400" spc="-1" strike="noStrike">
                  <a:solidFill>
                    <a:srgbClr val="000000"/>
                  </a:solidFill>
                  <a:latin typeface="Times New Roman"/>
                </a:rPr>
                <a:t>Normální deficit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400" spc="-1" strike="noStrike">
                  <a:solidFill>
                    <a:srgbClr val="000000"/>
                  </a:solidFill>
                  <a:latin typeface="Times New Roman"/>
                </a:rPr>
                <a:t>aniontů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8" name=""/>
            <p:cNvSpPr/>
            <p:nvPr/>
          </p:nvSpPr>
          <p:spPr>
            <a:xfrm>
              <a:off x="3718080" y="2462040"/>
              <a:ext cx="1141200" cy="6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400" spc="-1" strike="noStrike">
                  <a:solidFill>
                    <a:srgbClr val="000000"/>
                  </a:solidFill>
                  <a:latin typeface="Times New Roman"/>
                </a:rPr>
                <a:t>Zvýšený deficit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400" spc="-1" strike="noStrike">
                  <a:solidFill>
                    <a:srgbClr val="000000"/>
                  </a:solidFill>
                  <a:latin typeface="Times New Roman"/>
                </a:rPr>
                <a:t>aniontů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9" name=""/>
            <p:cNvSpPr/>
            <p:nvPr/>
          </p:nvSpPr>
          <p:spPr>
            <a:xfrm flipV="1">
              <a:off x="5753160" y="725040"/>
              <a:ext cx="406440" cy="1904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0" name=""/>
            <p:cNvSpPr/>
            <p:nvPr/>
          </p:nvSpPr>
          <p:spPr>
            <a:xfrm>
              <a:off x="3916440" y="0"/>
              <a:ext cx="17874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Gastrointestinální ztráty bikarbonátů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1" name=""/>
            <p:cNvSpPr/>
            <p:nvPr/>
          </p:nvSpPr>
          <p:spPr>
            <a:xfrm>
              <a:off x="1011240" y="2798640"/>
              <a:ext cx="123336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2" name=""/>
            <p:cNvSpPr/>
            <p:nvPr/>
          </p:nvSpPr>
          <p:spPr>
            <a:xfrm>
              <a:off x="7165080" y="4093920"/>
              <a:ext cx="601200" cy="31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200" spc="-1" strike="noStrike">
                  <a:solidFill>
                    <a:srgbClr val="000000"/>
                  </a:solidFill>
                  <a:latin typeface="Times New Roman"/>
                </a:rPr>
                <a:t>HCO</a:t>
              </a:r>
              <a:r>
                <a:rPr b="1" lang="cs-CZ" sz="12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1" lang="cs-CZ" sz="1200" spc="-1" strike="noStrike" baseline="50000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3" name=""/>
            <p:cNvSpPr/>
            <p:nvPr/>
          </p:nvSpPr>
          <p:spPr>
            <a:xfrm>
              <a:off x="7683480" y="4246560"/>
              <a:ext cx="939960" cy="198360"/>
            </a:xfrm>
            <a:custGeom>
              <a:avLst/>
              <a:gdLst/>
              <a:ahLst/>
              <a:rect l="l" t="t" r="r" b="b"/>
              <a:pathLst>
                <a:path w="592" h="125">
                  <a:moveTo>
                    <a:pt x="0" y="29"/>
                  </a:moveTo>
                  <a:cubicBezTo>
                    <a:pt x="83" y="44"/>
                    <a:pt x="402" y="125"/>
                    <a:pt x="497" y="120"/>
                  </a:cubicBezTo>
                  <a:cubicBezTo>
                    <a:pt x="592" y="115"/>
                    <a:pt x="556" y="25"/>
                    <a:pt x="572" y="0"/>
                  </a:cubicBezTo>
                </a:path>
              </a:pathLst>
            </a:custGeom>
            <a:noFill/>
            <a:ln w="648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4" name=""/>
            <p:cNvSpPr/>
            <p:nvPr/>
          </p:nvSpPr>
          <p:spPr>
            <a:xfrm>
              <a:off x="8373960" y="4672080"/>
              <a:ext cx="7920" cy="573120"/>
            </a:xfrm>
            <a:custGeom>
              <a:avLst/>
              <a:gdLst/>
              <a:ahLst/>
              <a:rect l="l" t="t" r="r" b="b"/>
              <a:pathLst>
                <a:path w="5" h="361">
                  <a:moveTo>
                    <a:pt x="5" y="0"/>
                  </a:moveTo>
                  <a:lnTo>
                    <a:pt x="0" y="36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5" name=""/>
            <p:cNvSpPr/>
            <p:nvPr/>
          </p:nvSpPr>
          <p:spPr>
            <a:xfrm>
              <a:off x="8170920" y="5256720"/>
              <a:ext cx="331560" cy="25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000" spc="-1" strike="noStrike">
                  <a:solidFill>
                    <a:srgbClr val="000000"/>
                  </a:solidFill>
                  <a:latin typeface="Times New Roman"/>
                </a:rPr>
                <a:t>Cl</a:t>
              </a:r>
              <a:r>
                <a:rPr b="1" lang="cs-CZ" sz="1000" spc="-1" strike="noStrike" baseline="50000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6" name=""/>
            <p:cNvSpPr/>
            <p:nvPr/>
          </p:nvSpPr>
          <p:spPr>
            <a:xfrm>
              <a:off x="7862760" y="2243160"/>
              <a:ext cx="463680" cy="415800"/>
            </a:xfrm>
            <a:prstGeom prst="rect">
              <a:avLst/>
            </a:prstGeom>
            <a:solidFill>
              <a:srgbClr val="ff33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800" spc="-1" strike="noStrike">
                  <a:solidFill>
                    <a:srgbClr val="000000"/>
                  </a:solidFill>
                  <a:latin typeface="Times New Roman"/>
                </a:rPr>
                <a:t>Na</a:t>
              </a:r>
              <a:r>
                <a:rPr b="1" lang="cs-CZ" sz="1800" spc="-1" strike="noStrike" baseline="30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7" name=""/>
            <p:cNvSpPr/>
            <p:nvPr/>
          </p:nvSpPr>
          <p:spPr>
            <a:xfrm>
              <a:off x="7870680" y="1805040"/>
              <a:ext cx="462240" cy="415800"/>
            </a:xfrm>
            <a:prstGeom prst="rect">
              <a:avLst/>
            </a:prstGeom>
            <a:solidFill>
              <a:srgbClr val="cc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8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1" lang="cs-CZ" sz="1800" spc="-1" strike="noStrike" baseline="30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8" name=""/>
            <p:cNvSpPr/>
            <p:nvPr/>
          </p:nvSpPr>
          <p:spPr>
            <a:xfrm>
              <a:off x="8334360" y="1373040"/>
              <a:ext cx="446040" cy="1276560"/>
            </a:xfrm>
            <a:prstGeom prst="rect">
              <a:avLst/>
            </a:prstGeom>
            <a:solidFill>
              <a:srgbClr val="00cc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800" spc="-1" strike="noStrike">
                  <a:solidFill>
                    <a:srgbClr val="000000"/>
                  </a:solidFill>
                  <a:latin typeface="Times New Roman"/>
                </a:rPr>
                <a:t>Cl</a:t>
              </a:r>
              <a:r>
                <a:rPr b="1" lang="cs-CZ" sz="1800" spc="-1" strike="noStrike" baseline="50000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9" name=""/>
            <p:cNvSpPr/>
            <p:nvPr/>
          </p:nvSpPr>
          <p:spPr>
            <a:xfrm>
              <a:off x="8107200" y="6176880"/>
              <a:ext cx="463680" cy="416160"/>
            </a:xfrm>
            <a:prstGeom prst="rect">
              <a:avLst/>
            </a:prstGeom>
            <a:solidFill>
              <a:srgbClr val="ff33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800" spc="-1" strike="noStrike">
                  <a:solidFill>
                    <a:srgbClr val="000000"/>
                  </a:solidFill>
                  <a:latin typeface="Times New Roman"/>
                </a:rPr>
                <a:t>Na</a:t>
              </a:r>
              <a:r>
                <a:rPr b="1" lang="cs-CZ" sz="1800" spc="-1" strike="noStrike" baseline="30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0" name=""/>
            <p:cNvSpPr/>
            <p:nvPr/>
          </p:nvSpPr>
          <p:spPr>
            <a:xfrm>
              <a:off x="8105760" y="5738760"/>
              <a:ext cx="461880" cy="415800"/>
            </a:xfrm>
            <a:prstGeom prst="rect">
              <a:avLst/>
            </a:prstGeom>
            <a:solidFill>
              <a:srgbClr val="cc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8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1" lang="cs-CZ" sz="1800" spc="-1" strike="noStrike" baseline="30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1" name=""/>
            <p:cNvSpPr/>
            <p:nvPr/>
          </p:nvSpPr>
          <p:spPr>
            <a:xfrm>
              <a:off x="8578800" y="6024600"/>
              <a:ext cx="446040" cy="568440"/>
            </a:xfrm>
            <a:prstGeom prst="rect">
              <a:avLst/>
            </a:prstGeom>
            <a:solidFill>
              <a:srgbClr val="00cc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800" spc="-1" strike="noStrike">
                  <a:solidFill>
                    <a:srgbClr val="000000"/>
                  </a:solidFill>
                  <a:latin typeface="Times New Roman"/>
                </a:rPr>
                <a:t>Cl</a:t>
              </a:r>
              <a:r>
                <a:rPr b="1" lang="cs-CZ" sz="1800" spc="-1" strike="noStrike" baseline="50000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2" name=""/>
            <p:cNvSpPr/>
            <p:nvPr/>
          </p:nvSpPr>
          <p:spPr>
            <a:xfrm>
              <a:off x="7523280" y="2625840"/>
              <a:ext cx="1778040" cy="50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v moči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cs-CZ" sz="1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1" lang="cs-CZ" sz="1400" spc="-1" strike="noStrike" baseline="40000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lang="cs-CZ" sz="1400" spc="-1" strike="noStrike">
                  <a:solidFill>
                    <a:srgbClr val="000000"/>
                  </a:solidFill>
                  <a:latin typeface="Times New Roman"/>
                </a:rPr>
                <a:t>]+[Na</a:t>
              </a:r>
              <a:r>
                <a:rPr b="1" lang="cs-CZ" sz="1400" spc="-1" strike="noStrike" baseline="40000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lang="cs-CZ" sz="1400" spc="-1" strike="noStrike">
                  <a:solidFill>
                    <a:srgbClr val="000000"/>
                  </a:solidFill>
                  <a:latin typeface="Times New Roman"/>
                </a:rPr>
                <a:t>]-[Cl</a:t>
              </a:r>
              <a:r>
                <a:rPr b="1" lang="cs-CZ" sz="1400" spc="-1" strike="noStrike" baseline="40000">
                  <a:solidFill>
                    <a:srgbClr val="000000"/>
                  </a:solidFill>
                  <a:latin typeface="Times New Roman"/>
                </a:rPr>
                <a:t>-</a:t>
              </a:r>
              <a:r>
                <a:rPr b="1" lang="cs-CZ" sz="1400" spc="-1" strike="noStrike">
                  <a:solidFill>
                    <a:srgbClr val="000000"/>
                  </a:solidFill>
                  <a:latin typeface="Times New Roman"/>
                </a:rPr>
                <a:t>] 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&lt; 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3" name=""/>
            <p:cNvSpPr/>
            <p:nvPr/>
          </p:nvSpPr>
          <p:spPr>
            <a:xfrm>
              <a:off x="7329600" y="6353280"/>
              <a:ext cx="2004840" cy="50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v moči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cs-CZ" sz="1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1" lang="cs-CZ" sz="1400" spc="-1" strike="noStrike" baseline="40000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lang="cs-CZ" sz="1400" spc="-1" strike="noStrike">
                  <a:solidFill>
                    <a:srgbClr val="000000"/>
                  </a:solidFill>
                  <a:latin typeface="Times New Roman"/>
                </a:rPr>
                <a:t>]+[Na</a:t>
              </a:r>
              <a:r>
                <a:rPr b="1" lang="cs-CZ" sz="1400" spc="-1" strike="noStrike" baseline="40000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lang="cs-CZ" sz="1400" spc="-1" strike="noStrike">
                  <a:solidFill>
                    <a:srgbClr val="000000"/>
                  </a:solidFill>
                  <a:latin typeface="Times New Roman"/>
                </a:rPr>
                <a:t>]-[Cl</a:t>
              </a:r>
              <a:r>
                <a:rPr b="1" lang="cs-CZ" sz="1400" spc="-1" strike="noStrike" baseline="40000">
                  <a:solidFill>
                    <a:srgbClr val="000000"/>
                  </a:solidFill>
                  <a:latin typeface="Times New Roman"/>
                </a:rPr>
                <a:t>-</a:t>
              </a:r>
              <a:r>
                <a:rPr b="1" lang="cs-CZ" sz="1400" spc="-1" strike="noStrike">
                  <a:solidFill>
                    <a:srgbClr val="000000"/>
                  </a:solidFill>
                  <a:latin typeface="Times New Roman"/>
                </a:rPr>
                <a:t>]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&gt;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= 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1944" name=""/>
            <p:cNvGraphicFramePr/>
            <p:nvPr/>
          </p:nvGraphicFramePr>
          <p:xfrm>
            <a:off x="5597640" y="1201680"/>
            <a:ext cx="933480" cy="6746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1945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597640" y="1201680"/>
                      <a:ext cx="933480" cy="674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946" name=""/>
            <p:cNvSpPr/>
            <p:nvPr/>
          </p:nvSpPr>
          <p:spPr>
            <a:xfrm>
              <a:off x="3605040" y="1670040"/>
              <a:ext cx="2214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Předávkování N</a:t>
              </a:r>
              <a:r>
                <a:rPr b="1" lang="cs-CZ" sz="14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1" lang="cs-CZ" sz="1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1" lang="cs-CZ" sz="1400" spc="-1" strike="noStrike">
                  <a:solidFill>
                    <a:srgbClr val="000000"/>
                  </a:solidFill>
                  <a:latin typeface="Times New Roman"/>
                </a:rPr>
                <a:t>Cl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7" name=""/>
            <p:cNvSpPr/>
            <p:nvPr/>
          </p:nvSpPr>
          <p:spPr>
            <a:xfrm>
              <a:off x="6359400" y="1012320"/>
              <a:ext cx="449280" cy="35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1" lang="cs-CZ" sz="1600" spc="-1" strike="noStrike" baseline="50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8" name=""/>
            <p:cNvSpPr/>
            <p:nvPr/>
          </p:nvSpPr>
          <p:spPr>
            <a:xfrm>
              <a:off x="6165720" y="1511640"/>
              <a:ext cx="838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400" spc="-1" strike="noStrike">
                  <a:solidFill>
                    <a:srgbClr val="000000"/>
                  </a:solidFill>
                  <a:latin typeface="Times New Roman"/>
                </a:rPr>
                <a:t>Ure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9" name=""/>
            <p:cNvSpPr/>
            <p:nvPr/>
          </p:nvSpPr>
          <p:spPr>
            <a:xfrm>
              <a:off x="5240160" y="1836720"/>
              <a:ext cx="801720" cy="2036880"/>
            </a:xfrm>
            <a:custGeom>
              <a:avLst/>
              <a:gdLst/>
              <a:ahLst/>
              <a:rect l="l" t="t" r="r" b="b"/>
              <a:pathLst>
                <a:path w="505" h="1283">
                  <a:moveTo>
                    <a:pt x="225" y="72"/>
                  </a:moveTo>
                  <a:cubicBezTo>
                    <a:pt x="224" y="89"/>
                    <a:pt x="248" y="0"/>
                    <a:pt x="219" y="174"/>
                  </a:cubicBezTo>
                  <a:cubicBezTo>
                    <a:pt x="190" y="348"/>
                    <a:pt x="0" y="951"/>
                    <a:pt x="48" y="1117"/>
                  </a:cubicBezTo>
                  <a:cubicBezTo>
                    <a:pt x="96" y="1283"/>
                    <a:pt x="410" y="1158"/>
                    <a:pt x="505" y="1169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0" name=""/>
            <p:cNvSpPr/>
            <p:nvPr/>
          </p:nvSpPr>
          <p:spPr>
            <a:xfrm>
              <a:off x="5330880" y="1224000"/>
              <a:ext cx="1109520" cy="527040"/>
            </a:xfrm>
            <a:custGeom>
              <a:avLst/>
              <a:gdLst/>
              <a:ahLst/>
              <a:rect l="l" t="t" r="r" b="b"/>
              <a:pathLst>
                <a:path w="699" h="332">
                  <a:moveTo>
                    <a:pt x="19" y="332"/>
                  </a:moveTo>
                  <a:cubicBezTo>
                    <a:pt x="23" y="311"/>
                    <a:pt x="0" y="248"/>
                    <a:pt x="41" y="211"/>
                  </a:cubicBezTo>
                  <a:cubicBezTo>
                    <a:pt x="82" y="174"/>
                    <a:pt x="184" y="139"/>
                    <a:pt x="265" y="109"/>
                  </a:cubicBezTo>
                  <a:cubicBezTo>
                    <a:pt x="346" y="79"/>
                    <a:pt x="455" y="52"/>
                    <a:pt x="527" y="34"/>
                  </a:cubicBezTo>
                  <a:cubicBezTo>
                    <a:pt x="599" y="16"/>
                    <a:pt x="663" y="7"/>
                    <a:pt x="699" y="0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1" name=""/>
            <p:cNvSpPr/>
            <p:nvPr/>
          </p:nvSpPr>
          <p:spPr>
            <a:xfrm>
              <a:off x="5670720" y="1414440"/>
              <a:ext cx="715680" cy="236520"/>
            </a:xfrm>
            <a:custGeom>
              <a:avLst/>
              <a:gdLst/>
              <a:ahLst/>
              <a:rect l="l" t="t" r="r" b="b"/>
              <a:pathLst>
                <a:path w="451" h="149">
                  <a:moveTo>
                    <a:pt x="0" y="0"/>
                  </a:moveTo>
                  <a:cubicBezTo>
                    <a:pt x="34" y="10"/>
                    <a:pt x="130" y="38"/>
                    <a:pt x="205" y="63"/>
                  </a:cubicBezTo>
                  <a:cubicBezTo>
                    <a:pt x="280" y="88"/>
                    <a:pt x="400" y="131"/>
                    <a:pt x="451" y="149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52" name=""/>
          <p:cNvGrpSpPr/>
          <p:nvPr/>
        </p:nvGrpSpPr>
        <p:grpSpPr>
          <a:xfrm>
            <a:off x="821520" y="75600"/>
            <a:ext cx="7327080" cy="6782760"/>
            <a:chOff x="821520" y="75600"/>
            <a:chExt cx="7327080" cy="6782760"/>
          </a:xfrm>
        </p:grpSpPr>
        <p:grpSp>
          <p:nvGrpSpPr>
            <p:cNvPr id="11953" name=""/>
            <p:cNvGrpSpPr/>
            <p:nvPr/>
          </p:nvGrpSpPr>
          <p:grpSpPr>
            <a:xfrm>
              <a:off x="3205080" y="4038480"/>
              <a:ext cx="466920" cy="2072880"/>
              <a:chOff x="3205080" y="4038480"/>
              <a:chExt cx="466920" cy="2072880"/>
            </a:xfrm>
          </p:grpSpPr>
          <p:sp>
            <p:nvSpPr>
              <p:cNvPr id="11954" name=""/>
              <p:cNvSpPr/>
              <p:nvPr/>
            </p:nvSpPr>
            <p:spPr>
              <a:xfrm>
                <a:off x="3332160" y="4445280"/>
                <a:ext cx="67680" cy="1662120"/>
              </a:xfrm>
              <a:custGeom>
                <a:avLst/>
                <a:gdLst/>
                <a:ahLst/>
                <a:rect l="l" t="t" r="r" b="b"/>
                <a:pathLst>
                  <a:path w="75" h="2051">
                    <a:moveTo>
                      <a:pt x="0" y="0"/>
                    </a:moveTo>
                    <a:lnTo>
                      <a:pt x="0" y="428"/>
                    </a:lnTo>
                    <a:lnTo>
                      <a:pt x="75" y="491"/>
                    </a:lnTo>
                    <a:lnTo>
                      <a:pt x="75" y="1046"/>
                    </a:lnTo>
                    <a:lnTo>
                      <a:pt x="18" y="1166"/>
                    </a:lnTo>
                    <a:lnTo>
                      <a:pt x="18" y="1977"/>
                    </a:lnTo>
                    <a:lnTo>
                      <a:pt x="75" y="2051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55" name=""/>
              <p:cNvSpPr/>
              <p:nvPr/>
            </p:nvSpPr>
            <p:spPr>
              <a:xfrm flipH="1">
                <a:off x="3479760" y="4449240"/>
                <a:ext cx="67320" cy="1662120"/>
              </a:xfrm>
              <a:custGeom>
                <a:avLst/>
                <a:gdLst/>
                <a:ahLst/>
                <a:rect l="l" t="t" r="r" b="b"/>
                <a:pathLst>
                  <a:path w="75" h="2051">
                    <a:moveTo>
                      <a:pt x="0" y="0"/>
                    </a:moveTo>
                    <a:lnTo>
                      <a:pt x="0" y="428"/>
                    </a:lnTo>
                    <a:lnTo>
                      <a:pt x="75" y="491"/>
                    </a:lnTo>
                    <a:lnTo>
                      <a:pt x="75" y="1046"/>
                    </a:lnTo>
                    <a:lnTo>
                      <a:pt x="18" y="1166"/>
                    </a:lnTo>
                    <a:lnTo>
                      <a:pt x="18" y="1977"/>
                    </a:lnTo>
                    <a:lnTo>
                      <a:pt x="75" y="2051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56" name=""/>
              <p:cNvSpPr/>
              <p:nvPr/>
            </p:nvSpPr>
            <p:spPr>
              <a:xfrm>
                <a:off x="3205080" y="4038480"/>
                <a:ext cx="466920" cy="411480"/>
              </a:xfrm>
              <a:custGeom>
                <a:avLst/>
                <a:gdLst/>
                <a:ahLst/>
                <a:rect l="l" t="t" r="r" b="b"/>
                <a:pathLst>
                  <a:path w="517" h="508">
                    <a:moveTo>
                      <a:pt x="141" y="502"/>
                    </a:moveTo>
                    <a:cubicBezTo>
                      <a:pt x="121" y="478"/>
                      <a:pt x="40" y="418"/>
                      <a:pt x="21" y="359"/>
                    </a:cubicBezTo>
                    <a:cubicBezTo>
                      <a:pt x="2" y="300"/>
                      <a:pt x="0" y="205"/>
                      <a:pt x="27" y="148"/>
                    </a:cubicBezTo>
                    <a:cubicBezTo>
                      <a:pt x="54" y="91"/>
                      <a:pt x="118" y="32"/>
                      <a:pt x="182" y="16"/>
                    </a:cubicBezTo>
                    <a:cubicBezTo>
                      <a:pt x="246" y="0"/>
                      <a:pt x="356" y="15"/>
                      <a:pt x="410" y="51"/>
                    </a:cubicBezTo>
                    <a:cubicBezTo>
                      <a:pt x="464" y="87"/>
                      <a:pt x="497" y="174"/>
                      <a:pt x="507" y="233"/>
                    </a:cubicBezTo>
                    <a:cubicBezTo>
                      <a:pt x="517" y="292"/>
                      <a:pt x="488" y="359"/>
                      <a:pt x="467" y="405"/>
                    </a:cubicBezTo>
                    <a:cubicBezTo>
                      <a:pt x="446" y="451"/>
                      <a:pt x="400" y="487"/>
                      <a:pt x="382" y="508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957" name=""/>
            <p:cNvSpPr/>
            <p:nvPr/>
          </p:nvSpPr>
          <p:spPr>
            <a:xfrm>
              <a:off x="1189080" y="3438360"/>
              <a:ext cx="5145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8" name=""/>
            <p:cNvSpPr/>
            <p:nvPr/>
          </p:nvSpPr>
          <p:spPr>
            <a:xfrm flipV="1">
              <a:off x="1181160" y="236520"/>
              <a:ext cx="0" cy="3201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9" name=""/>
            <p:cNvSpPr/>
            <p:nvPr/>
          </p:nvSpPr>
          <p:spPr>
            <a:xfrm>
              <a:off x="2665440" y="3176640"/>
              <a:ext cx="1440" cy="25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0" name=""/>
            <p:cNvSpPr/>
            <p:nvPr/>
          </p:nvSpPr>
          <p:spPr>
            <a:xfrm>
              <a:off x="2425680" y="345204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1" name=""/>
            <p:cNvSpPr/>
            <p:nvPr/>
          </p:nvSpPr>
          <p:spPr>
            <a:xfrm>
              <a:off x="3228840" y="345996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2" name=""/>
            <p:cNvSpPr/>
            <p:nvPr/>
          </p:nvSpPr>
          <p:spPr>
            <a:xfrm>
              <a:off x="4017960" y="344880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3" name=""/>
            <p:cNvSpPr/>
            <p:nvPr/>
          </p:nvSpPr>
          <p:spPr>
            <a:xfrm>
              <a:off x="4786200" y="345672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000000"/>
                  </a:solidFill>
                  <a:latin typeface="Times New Roman"/>
                </a:rPr>
                <a:t>2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4" name=""/>
            <p:cNvSpPr/>
            <p:nvPr/>
          </p:nvSpPr>
          <p:spPr>
            <a:xfrm rot="16200000">
              <a:off x="-592560" y="1696320"/>
              <a:ext cx="3196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000000"/>
                  </a:solidFill>
                  <a:latin typeface="Times New Roman"/>
                </a:rPr>
                <a:t>Rychlost reabsorbce bikarbonátů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5" name=""/>
            <p:cNvSpPr/>
            <p:nvPr/>
          </p:nvSpPr>
          <p:spPr>
            <a:xfrm>
              <a:off x="3443400" y="3192480"/>
              <a:ext cx="1440" cy="25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6" name=""/>
            <p:cNvSpPr/>
            <p:nvPr/>
          </p:nvSpPr>
          <p:spPr>
            <a:xfrm>
              <a:off x="4229280" y="3198960"/>
              <a:ext cx="1440" cy="25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7" name=""/>
            <p:cNvSpPr/>
            <p:nvPr/>
          </p:nvSpPr>
          <p:spPr>
            <a:xfrm>
              <a:off x="4998960" y="3189240"/>
              <a:ext cx="1800" cy="25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8" name=""/>
            <p:cNvSpPr/>
            <p:nvPr/>
          </p:nvSpPr>
          <p:spPr>
            <a:xfrm>
              <a:off x="5462280" y="3390480"/>
              <a:ext cx="26863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000000"/>
                  </a:solidFill>
                  <a:latin typeface="Times New Roman"/>
                </a:rPr>
                <a:t>Plazmatická hladina HCO</a:t>
              </a:r>
              <a:r>
                <a:rPr b="0" lang="cs-CZ" sz="18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0" lang="cs-CZ" sz="1800" spc="-1" strike="noStrike" baseline="40000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9" name=""/>
            <p:cNvSpPr/>
            <p:nvPr/>
          </p:nvSpPr>
          <p:spPr>
            <a:xfrm>
              <a:off x="1189080" y="852480"/>
              <a:ext cx="5324400" cy="2567160"/>
            </a:xfrm>
            <a:custGeom>
              <a:avLst/>
              <a:gdLst/>
              <a:ahLst/>
              <a:rect l="l" t="t" r="r" b="b"/>
              <a:pathLst>
                <a:path w="3354" h="1617">
                  <a:moveTo>
                    <a:pt x="0" y="1617"/>
                  </a:moveTo>
                  <a:cubicBezTo>
                    <a:pt x="412" y="1371"/>
                    <a:pt x="1915" y="405"/>
                    <a:pt x="2474" y="143"/>
                  </a:cubicBezTo>
                  <a:cubicBezTo>
                    <a:pt x="2845" y="0"/>
                    <a:pt x="3171" y="66"/>
                    <a:pt x="3354" y="46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0" name=""/>
            <p:cNvSpPr/>
            <p:nvPr/>
          </p:nvSpPr>
          <p:spPr>
            <a:xfrm>
              <a:off x="3456000" y="1906560"/>
              <a:ext cx="3003480" cy="125280"/>
            </a:xfrm>
            <a:custGeom>
              <a:avLst/>
              <a:gdLst/>
              <a:ahLst/>
              <a:rect l="l" t="t" r="r" b="b"/>
              <a:pathLst>
                <a:path w="1892" h="79">
                  <a:moveTo>
                    <a:pt x="0" y="79"/>
                  </a:moveTo>
                  <a:cubicBezTo>
                    <a:pt x="23" y="71"/>
                    <a:pt x="42" y="45"/>
                    <a:pt x="126" y="33"/>
                  </a:cubicBezTo>
                  <a:cubicBezTo>
                    <a:pt x="210" y="21"/>
                    <a:pt x="209" y="10"/>
                    <a:pt x="503" y="5"/>
                  </a:cubicBezTo>
                  <a:cubicBezTo>
                    <a:pt x="797" y="0"/>
                    <a:pt x="1603" y="5"/>
                    <a:pt x="1892" y="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1" name=""/>
            <p:cNvSpPr/>
            <p:nvPr/>
          </p:nvSpPr>
          <p:spPr>
            <a:xfrm>
              <a:off x="3020400" y="6521040"/>
              <a:ext cx="798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600" spc="-1" strike="noStrike">
                  <a:solidFill>
                    <a:srgbClr val="000000"/>
                  </a:solidFill>
                  <a:latin typeface="Times New Roman"/>
                </a:rPr>
                <a:t>pH=5,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2" name=""/>
            <p:cNvSpPr/>
            <p:nvPr/>
          </p:nvSpPr>
          <p:spPr>
            <a:xfrm>
              <a:off x="3809160" y="6521040"/>
              <a:ext cx="798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600" spc="-1" strike="noStrike">
                  <a:solidFill>
                    <a:srgbClr val="000000"/>
                  </a:solidFill>
                  <a:latin typeface="Times New Roman"/>
                </a:rPr>
                <a:t>pH=6,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3" name=""/>
            <p:cNvSpPr/>
            <p:nvPr/>
          </p:nvSpPr>
          <p:spPr>
            <a:xfrm>
              <a:off x="4650840" y="6521040"/>
              <a:ext cx="798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600" spc="-1" strike="noStrike">
                  <a:solidFill>
                    <a:srgbClr val="000000"/>
                  </a:solidFill>
                  <a:latin typeface="Times New Roman"/>
                </a:rPr>
                <a:t>pH=7,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974" name=""/>
            <p:cNvGrpSpPr/>
            <p:nvPr/>
          </p:nvGrpSpPr>
          <p:grpSpPr>
            <a:xfrm>
              <a:off x="3973680" y="4065480"/>
              <a:ext cx="475920" cy="2072880"/>
              <a:chOff x="3973680" y="4065480"/>
              <a:chExt cx="475920" cy="2072880"/>
            </a:xfrm>
          </p:grpSpPr>
          <p:sp>
            <p:nvSpPr>
              <p:cNvPr id="11975" name=""/>
              <p:cNvSpPr/>
              <p:nvPr/>
            </p:nvSpPr>
            <p:spPr>
              <a:xfrm>
                <a:off x="4103280" y="4472280"/>
                <a:ext cx="69120" cy="1662120"/>
              </a:xfrm>
              <a:custGeom>
                <a:avLst/>
                <a:gdLst/>
                <a:ahLst/>
                <a:rect l="l" t="t" r="r" b="b"/>
                <a:pathLst>
                  <a:path w="75" h="2051">
                    <a:moveTo>
                      <a:pt x="0" y="0"/>
                    </a:moveTo>
                    <a:lnTo>
                      <a:pt x="0" y="428"/>
                    </a:lnTo>
                    <a:lnTo>
                      <a:pt x="75" y="491"/>
                    </a:lnTo>
                    <a:lnTo>
                      <a:pt x="75" y="1046"/>
                    </a:lnTo>
                    <a:lnTo>
                      <a:pt x="18" y="1166"/>
                    </a:lnTo>
                    <a:lnTo>
                      <a:pt x="18" y="1977"/>
                    </a:lnTo>
                    <a:lnTo>
                      <a:pt x="75" y="2051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76" name=""/>
              <p:cNvSpPr/>
              <p:nvPr/>
            </p:nvSpPr>
            <p:spPr>
              <a:xfrm flipH="1">
                <a:off x="4253760" y="4476240"/>
                <a:ext cx="68760" cy="1662120"/>
              </a:xfrm>
              <a:custGeom>
                <a:avLst/>
                <a:gdLst/>
                <a:ahLst/>
                <a:rect l="l" t="t" r="r" b="b"/>
                <a:pathLst>
                  <a:path w="75" h="2051">
                    <a:moveTo>
                      <a:pt x="0" y="0"/>
                    </a:moveTo>
                    <a:lnTo>
                      <a:pt x="0" y="428"/>
                    </a:lnTo>
                    <a:lnTo>
                      <a:pt x="75" y="491"/>
                    </a:lnTo>
                    <a:lnTo>
                      <a:pt x="75" y="1046"/>
                    </a:lnTo>
                    <a:lnTo>
                      <a:pt x="18" y="1166"/>
                    </a:lnTo>
                    <a:lnTo>
                      <a:pt x="18" y="1977"/>
                    </a:lnTo>
                    <a:lnTo>
                      <a:pt x="75" y="2051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77" name=""/>
              <p:cNvSpPr/>
              <p:nvPr/>
            </p:nvSpPr>
            <p:spPr>
              <a:xfrm>
                <a:off x="3973680" y="4065480"/>
                <a:ext cx="475920" cy="411480"/>
              </a:xfrm>
              <a:custGeom>
                <a:avLst/>
                <a:gdLst/>
                <a:ahLst/>
                <a:rect l="l" t="t" r="r" b="b"/>
                <a:pathLst>
                  <a:path w="517" h="508">
                    <a:moveTo>
                      <a:pt x="141" y="502"/>
                    </a:moveTo>
                    <a:cubicBezTo>
                      <a:pt x="121" y="478"/>
                      <a:pt x="40" y="418"/>
                      <a:pt x="21" y="359"/>
                    </a:cubicBezTo>
                    <a:cubicBezTo>
                      <a:pt x="2" y="300"/>
                      <a:pt x="0" y="205"/>
                      <a:pt x="27" y="148"/>
                    </a:cubicBezTo>
                    <a:cubicBezTo>
                      <a:pt x="54" y="91"/>
                      <a:pt x="118" y="32"/>
                      <a:pt x="182" y="16"/>
                    </a:cubicBezTo>
                    <a:cubicBezTo>
                      <a:pt x="246" y="0"/>
                      <a:pt x="356" y="15"/>
                      <a:pt x="410" y="51"/>
                    </a:cubicBezTo>
                    <a:cubicBezTo>
                      <a:pt x="464" y="87"/>
                      <a:pt x="497" y="174"/>
                      <a:pt x="507" y="233"/>
                    </a:cubicBezTo>
                    <a:cubicBezTo>
                      <a:pt x="517" y="292"/>
                      <a:pt x="488" y="359"/>
                      <a:pt x="467" y="405"/>
                    </a:cubicBezTo>
                    <a:cubicBezTo>
                      <a:pt x="446" y="451"/>
                      <a:pt x="400" y="487"/>
                      <a:pt x="382" y="508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78" name=""/>
            <p:cNvGrpSpPr/>
            <p:nvPr/>
          </p:nvGrpSpPr>
          <p:grpSpPr>
            <a:xfrm>
              <a:off x="4700520" y="4054320"/>
              <a:ext cx="507960" cy="2073240"/>
              <a:chOff x="4700520" y="4054320"/>
              <a:chExt cx="507960" cy="2073240"/>
            </a:xfrm>
          </p:grpSpPr>
          <p:sp>
            <p:nvSpPr>
              <p:cNvPr id="11979" name=""/>
              <p:cNvSpPr/>
              <p:nvPr/>
            </p:nvSpPr>
            <p:spPr>
              <a:xfrm>
                <a:off x="4838760" y="4461120"/>
                <a:ext cx="73440" cy="1662480"/>
              </a:xfrm>
              <a:custGeom>
                <a:avLst/>
                <a:gdLst/>
                <a:ahLst/>
                <a:rect l="l" t="t" r="r" b="b"/>
                <a:pathLst>
                  <a:path w="75" h="2051">
                    <a:moveTo>
                      <a:pt x="0" y="0"/>
                    </a:moveTo>
                    <a:lnTo>
                      <a:pt x="0" y="428"/>
                    </a:lnTo>
                    <a:lnTo>
                      <a:pt x="75" y="491"/>
                    </a:lnTo>
                    <a:lnTo>
                      <a:pt x="75" y="1046"/>
                    </a:lnTo>
                    <a:lnTo>
                      <a:pt x="18" y="1166"/>
                    </a:lnTo>
                    <a:lnTo>
                      <a:pt x="18" y="1977"/>
                    </a:lnTo>
                    <a:lnTo>
                      <a:pt x="75" y="2051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80" name=""/>
              <p:cNvSpPr/>
              <p:nvPr/>
            </p:nvSpPr>
            <p:spPr>
              <a:xfrm flipH="1">
                <a:off x="5000040" y="4465080"/>
                <a:ext cx="73440" cy="1662480"/>
              </a:xfrm>
              <a:custGeom>
                <a:avLst/>
                <a:gdLst/>
                <a:ahLst/>
                <a:rect l="l" t="t" r="r" b="b"/>
                <a:pathLst>
                  <a:path w="75" h="2051">
                    <a:moveTo>
                      <a:pt x="0" y="0"/>
                    </a:moveTo>
                    <a:lnTo>
                      <a:pt x="0" y="428"/>
                    </a:lnTo>
                    <a:lnTo>
                      <a:pt x="75" y="491"/>
                    </a:lnTo>
                    <a:lnTo>
                      <a:pt x="75" y="1046"/>
                    </a:lnTo>
                    <a:lnTo>
                      <a:pt x="18" y="1166"/>
                    </a:lnTo>
                    <a:lnTo>
                      <a:pt x="18" y="1977"/>
                    </a:lnTo>
                    <a:lnTo>
                      <a:pt x="75" y="2051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81" name=""/>
              <p:cNvSpPr/>
              <p:nvPr/>
            </p:nvSpPr>
            <p:spPr>
              <a:xfrm>
                <a:off x="4700520" y="4054320"/>
                <a:ext cx="507960" cy="411480"/>
              </a:xfrm>
              <a:custGeom>
                <a:avLst/>
                <a:gdLst/>
                <a:ahLst/>
                <a:rect l="l" t="t" r="r" b="b"/>
                <a:pathLst>
                  <a:path w="517" h="508">
                    <a:moveTo>
                      <a:pt x="141" y="502"/>
                    </a:moveTo>
                    <a:cubicBezTo>
                      <a:pt x="121" y="478"/>
                      <a:pt x="40" y="418"/>
                      <a:pt x="21" y="359"/>
                    </a:cubicBezTo>
                    <a:cubicBezTo>
                      <a:pt x="2" y="300"/>
                      <a:pt x="0" y="205"/>
                      <a:pt x="27" y="148"/>
                    </a:cubicBezTo>
                    <a:cubicBezTo>
                      <a:pt x="54" y="91"/>
                      <a:pt x="118" y="32"/>
                      <a:pt x="182" y="16"/>
                    </a:cubicBezTo>
                    <a:cubicBezTo>
                      <a:pt x="246" y="0"/>
                      <a:pt x="356" y="15"/>
                      <a:pt x="410" y="51"/>
                    </a:cubicBezTo>
                    <a:cubicBezTo>
                      <a:pt x="464" y="87"/>
                      <a:pt x="497" y="174"/>
                      <a:pt x="507" y="233"/>
                    </a:cubicBezTo>
                    <a:cubicBezTo>
                      <a:pt x="517" y="292"/>
                      <a:pt x="488" y="359"/>
                      <a:pt x="467" y="405"/>
                    </a:cubicBezTo>
                    <a:cubicBezTo>
                      <a:pt x="446" y="451"/>
                      <a:pt x="400" y="487"/>
                      <a:pt x="382" y="508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982" name=""/>
            <p:cNvSpPr/>
            <p:nvPr/>
          </p:nvSpPr>
          <p:spPr>
            <a:xfrm>
              <a:off x="3429000" y="2041560"/>
              <a:ext cx="27000" cy="1859040"/>
            </a:xfrm>
            <a:custGeom>
              <a:avLst/>
              <a:gdLst/>
              <a:ahLst/>
              <a:rect l="l" t="t" r="r" b="b"/>
              <a:pathLst>
                <a:path w="17" h="1171">
                  <a:moveTo>
                    <a:pt x="17" y="0"/>
                  </a:moveTo>
                  <a:lnTo>
                    <a:pt x="0" y="117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3" name=""/>
            <p:cNvSpPr/>
            <p:nvPr/>
          </p:nvSpPr>
          <p:spPr>
            <a:xfrm>
              <a:off x="4218120" y="1951200"/>
              <a:ext cx="19080" cy="1973160"/>
            </a:xfrm>
            <a:custGeom>
              <a:avLst/>
              <a:gdLst/>
              <a:ahLst/>
              <a:rect l="l" t="t" r="r" b="b"/>
              <a:pathLst>
                <a:path w="12" h="1243">
                  <a:moveTo>
                    <a:pt x="12" y="0"/>
                  </a:moveTo>
                  <a:lnTo>
                    <a:pt x="0" y="1243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4" name=""/>
            <p:cNvSpPr/>
            <p:nvPr/>
          </p:nvSpPr>
          <p:spPr>
            <a:xfrm>
              <a:off x="4986360" y="1951200"/>
              <a:ext cx="30240" cy="1952640"/>
            </a:xfrm>
            <a:custGeom>
              <a:avLst/>
              <a:gdLst/>
              <a:ahLst/>
              <a:rect l="l" t="t" r="r" b="b"/>
              <a:pathLst>
                <a:path w="19" h="1230">
                  <a:moveTo>
                    <a:pt x="19" y="0"/>
                  </a:moveTo>
                  <a:lnTo>
                    <a:pt x="0" y="123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5" name=""/>
            <p:cNvSpPr/>
            <p:nvPr/>
          </p:nvSpPr>
          <p:spPr>
            <a:xfrm>
              <a:off x="4699080" y="334800"/>
              <a:ext cx="1587600" cy="971640"/>
            </a:xfrm>
            <a:custGeom>
              <a:avLst/>
              <a:gdLst/>
              <a:ahLst/>
              <a:rect l="l" t="t" r="r" b="b"/>
              <a:pathLst>
                <a:path w="1000" h="612">
                  <a:moveTo>
                    <a:pt x="0" y="612"/>
                  </a:moveTo>
                  <a:lnTo>
                    <a:pt x="100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6" name=""/>
            <p:cNvSpPr/>
            <p:nvPr/>
          </p:nvSpPr>
          <p:spPr>
            <a:xfrm rot="19721400">
              <a:off x="4072680" y="622800"/>
              <a:ext cx="221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000000"/>
                  </a:solidFill>
                  <a:latin typeface="Times New Roman"/>
                </a:rPr>
                <a:t>Kompletní reabsorb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7" name=""/>
            <p:cNvSpPr/>
            <p:nvPr/>
          </p:nvSpPr>
          <p:spPr>
            <a:xfrm>
              <a:off x="5878080" y="623160"/>
              <a:ext cx="76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000000"/>
                  </a:solidFill>
                  <a:latin typeface="Times New Roman"/>
                </a:rPr>
                <a:t>norm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8" name=""/>
            <p:cNvSpPr/>
            <p:nvPr/>
          </p:nvSpPr>
          <p:spPr>
            <a:xfrm>
              <a:off x="3890160" y="1546920"/>
              <a:ext cx="3525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000000"/>
                  </a:solidFill>
                  <a:latin typeface="Times New Roman"/>
                </a:rPr>
                <a:t>proximální tubulární renální acidóz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9" name=""/>
            <p:cNvSpPr/>
            <p:nvPr/>
          </p:nvSpPr>
          <p:spPr>
            <a:xfrm>
              <a:off x="3130560" y="4253040"/>
              <a:ext cx="662040" cy="1552320"/>
            </a:xfrm>
            <a:custGeom>
              <a:avLst/>
              <a:gdLst/>
              <a:ahLst/>
              <a:rect l="l" t="t" r="r" b="b"/>
              <a:pathLst>
                <a:path w="417" h="978">
                  <a:moveTo>
                    <a:pt x="0" y="0"/>
                  </a:moveTo>
                  <a:lnTo>
                    <a:pt x="195" y="0"/>
                  </a:lnTo>
                  <a:lnTo>
                    <a:pt x="195" y="972"/>
                  </a:lnTo>
                  <a:lnTo>
                    <a:pt x="417" y="978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0" name=""/>
            <p:cNvSpPr/>
            <p:nvPr/>
          </p:nvSpPr>
          <p:spPr>
            <a:xfrm>
              <a:off x="3909960" y="4249800"/>
              <a:ext cx="662040" cy="1552680"/>
            </a:xfrm>
            <a:custGeom>
              <a:avLst/>
              <a:gdLst/>
              <a:ahLst/>
              <a:rect l="l" t="t" r="r" b="b"/>
              <a:pathLst>
                <a:path w="417" h="978">
                  <a:moveTo>
                    <a:pt x="0" y="0"/>
                  </a:moveTo>
                  <a:lnTo>
                    <a:pt x="195" y="0"/>
                  </a:lnTo>
                  <a:lnTo>
                    <a:pt x="195" y="972"/>
                  </a:lnTo>
                  <a:lnTo>
                    <a:pt x="417" y="978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1" name=""/>
            <p:cNvSpPr/>
            <p:nvPr/>
          </p:nvSpPr>
          <p:spPr>
            <a:xfrm>
              <a:off x="4662360" y="4264200"/>
              <a:ext cx="662040" cy="1552320"/>
            </a:xfrm>
            <a:custGeom>
              <a:avLst/>
              <a:gdLst/>
              <a:ahLst/>
              <a:rect l="l" t="t" r="r" b="b"/>
              <a:pathLst>
                <a:path w="417" h="978">
                  <a:moveTo>
                    <a:pt x="0" y="0"/>
                  </a:moveTo>
                  <a:lnTo>
                    <a:pt x="195" y="0"/>
                  </a:lnTo>
                  <a:lnTo>
                    <a:pt x="195" y="972"/>
                  </a:lnTo>
                  <a:lnTo>
                    <a:pt x="417" y="978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2" name=""/>
            <p:cNvSpPr/>
            <p:nvPr/>
          </p:nvSpPr>
          <p:spPr>
            <a:xfrm>
              <a:off x="4653000" y="4232160"/>
              <a:ext cx="770040" cy="382680"/>
            </a:xfrm>
            <a:custGeom>
              <a:avLst/>
              <a:gdLst/>
              <a:ahLst/>
              <a:rect l="l" t="t" r="r" b="b"/>
              <a:pathLst>
                <a:path w="417" h="978">
                  <a:moveTo>
                    <a:pt x="0" y="0"/>
                  </a:moveTo>
                  <a:lnTo>
                    <a:pt x="195" y="0"/>
                  </a:lnTo>
                  <a:lnTo>
                    <a:pt x="195" y="972"/>
                  </a:lnTo>
                  <a:lnTo>
                    <a:pt x="417" y="978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3" name=""/>
            <p:cNvSpPr/>
            <p:nvPr/>
          </p:nvSpPr>
          <p:spPr>
            <a:xfrm>
              <a:off x="3913200" y="4219560"/>
              <a:ext cx="658800" cy="382680"/>
            </a:xfrm>
            <a:custGeom>
              <a:avLst/>
              <a:gdLst/>
              <a:ahLst/>
              <a:rect l="l" t="t" r="r" b="b"/>
              <a:pathLst>
                <a:path w="417" h="978">
                  <a:moveTo>
                    <a:pt x="0" y="0"/>
                  </a:moveTo>
                  <a:lnTo>
                    <a:pt x="195" y="0"/>
                  </a:lnTo>
                  <a:lnTo>
                    <a:pt x="195" y="972"/>
                  </a:lnTo>
                  <a:lnTo>
                    <a:pt x="417" y="978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4" name=""/>
            <p:cNvSpPr/>
            <p:nvPr/>
          </p:nvSpPr>
          <p:spPr>
            <a:xfrm>
              <a:off x="3112920" y="4226040"/>
              <a:ext cx="762120" cy="382320"/>
            </a:xfrm>
            <a:custGeom>
              <a:avLst/>
              <a:gdLst/>
              <a:ahLst/>
              <a:rect l="l" t="t" r="r" b="b"/>
              <a:pathLst>
                <a:path w="417" h="978">
                  <a:moveTo>
                    <a:pt x="0" y="0"/>
                  </a:moveTo>
                  <a:lnTo>
                    <a:pt x="195" y="0"/>
                  </a:lnTo>
                  <a:lnTo>
                    <a:pt x="195" y="972"/>
                  </a:lnTo>
                  <a:lnTo>
                    <a:pt x="417" y="978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5" name=""/>
            <p:cNvSpPr/>
            <p:nvPr/>
          </p:nvSpPr>
          <p:spPr>
            <a:xfrm>
              <a:off x="4200480" y="4599000"/>
              <a:ext cx="7920" cy="1886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6" name=""/>
            <p:cNvSpPr/>
            <p:nvPr/>
          </p:nvSpPr>
          <p:spPr>
            <a:xfrm>
              <a:off x="4952880" y="4543560"/>
              <a:ext cx="7920" cy="19508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7" name=""/>
            <p:cNvSpPr/>
            <p:nvPr/>
          </p:nvSpPr>
          <p:spPr>
            <a:xfrm>
              <a:off x="4695840" y="4265640"/>
              <a:ext cx="571320" cy="382680"/>
            </a:xfrm>
            <a:custGeom>
              <a:avLst/>
              <a:gdLst/>
              <a:ahLst/>
              <a:rect l="l" t="t" r="r" b="b"/>
              <a:pathLst>
                <a:path w="417" h="978">
                  <a:moveTo>
                    <a:pt x="0" y="0"/>
                  </a:moveTo>
                  <a:lnTo>
                    <a:pt x="195" y="0"/>
                  </a:lnTo>
                  <a:lnTo>
                    <a:pt x="195" y="972"/>
                  </a:lnTo>
                  <a:lnTo>
                    <a:pt x="417" y="978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8" name=""/>
            <p:cNvSpPr/>
            <p:nvPr/>
          </p:nvSpPr>
          <p:spPr>
            <a:xfrm>
              <a:off x="5051520" y="6151680"/>
              <a:ext cx="263520" cy="29052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9" name=""/>
            <p:cNvSpPr/>
            <p:nvPr/>
          </p:nvSpPr>
          <p:spPr>
            <a:xfrm>
              <a:off x="4253040" y="6140520"/>
              <a:ext cx="263520" cy="29052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0" name=""/>
            <p:cNvSpPr/>
            <p:nvPr/>
          </p:nvSpPr>
          <p:spPr>
            <a:xfrm>
              <a:off x="3406680" y="6138720"/>
              <a:ext cx="263520" cy="29052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01" name=""/>
            <p:cNvGrpSpPr/>
            <p:nvPr/>
          </p:nvGrpSpPr>
          <p:grpSpPr>
            <a:xfrm>
              <a:off x="5680080" y="4081320"/>
              <a:ext cx="466560" cy="2072880"/>
              <a:chOff x="5680080" y="4081320"/>
              <a:chExt cx="466560" cy="2072880"/>
            </a:xfrm>
          </p:grpSpPr>
          <p:sp>
            <p:nvSpPr>
              <p:cNvPr id="12002" name=""/>
              <p:cNvSpPr/>
              <p:nvPr/>
            </p:nvSpPr>
            <p:spPr>
              <a:xfrm>
                <a:off x="5807160" y="4488120"/>
                <a:ext cx="67680" cy="1662120"/>
              </a:xfrm>
              <a:custGeom>
                <a:avLst/>
                <a:gdLst/>
                <a:ahLst/>
                <a:rect l="l" t="t" r="r" b="b"/>
                <a:pathLst>
                  <a:path w="75" h="2051">
                    <a:moveTo>
                      <a:pt x="0" y="0"/>
                    </a:moveTo>
                    <a:lnTo>
                      <a:pt x="0" y="428"/>
                    </a:lnTo>
                    <a:lnTo>
                      <a:pt x="75" y="491"/>
                    </a:lnTo>
                    <a:lnTo>
                      <a:pt x="75" y="1046"/>
                    </a:lnTo>
                    <a:lnTo>
                      <a:pt x="18" y="1166"/>
                    </a:lnTo>
                    <a:lnTo>
                      <a:pt x="18" y="1977"/>
                    </a:lnTo>
                    <a:lnTo>
                      <a:pt x="75" y="2051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03" name=""/>
              <p:cNvSpPr/>
              <p:nvPr/>
            </p:nvSpPr>
            <p:spPr>
              <a:xfrm flipH="1">
                <a:off x="5954760" y="4492080"/>
                <a:ext cx="67320" cy="1662120"/>
              </a:xfrm>
              <a:custGeom>
                <a:avLst/>
                <a:gdLst/>
                <a:ahLst/>
                <a:rect l="l" t="t" r="r" b="b"/>
                <a:pathLst>
                  <a:path w="75" h="2051">
                    <a:moveTo>
                      <a:pt x="0" y="0"/>
                    </a:moveTo>
                    <a:lnTo>
                      <a:pt x="0" y="428"/>
                    </a:lnTo>
                    <a:lnTo>
                      <a:pt x="75" y="491"/>
                    </a:lnTo>
                    <a:lnTo>
                      <a:pt x="75" y="1046"/>
                    </a:lnTo>
                    <a:lnTo>
                      <a:pt x="18" y="1166"/>
                    </a:lnTo>
                    <a:lnTo>
                      <a:pt x="18" y="1977"/>
                    </a:lnTo>
                    <a:lnTo>
                      <a:pt x="75" y="2051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04" name=""/>
              <p:cNvSpPr/>
              <p:nvPr/>
            </p:nvSpPr>
            <p:spPr>
              <a:xfrm>
                <a:off x="5680080" y="4081320"/>
                <a:ext cx="466560" cy="411480"/>
              </a:xfrm>
              <a:custGeom>
                <a:avLst/>
                <a:gdLst/>
                <a:ahLst/>
                <a:rect l="l" t="t" r="r" b="b"/>
                <a:pathLst>
                  <a:path w="517" h="508">
                    <a:moveTo>
                      <a:pt x="141" y="502"/>
                    </a:moveTo>
                    <a:cubicBezTo>
                      <a:pt x="121" y="478"/>
                      <a:pt x="40" y="418"/>
                      <a:pt x="21" y="359"/>
                    </a:cubicBezTo>
                    <a:cubicBezTo>
                      <a:pt x="2" y="300"/>
                      <a:pt x="0" y="205"/>
                      <a:pt x="27" y="148"/>
                    </a:cubicBezTo>
                    <a:cubicBezTo>
                      <a:pt x="54" y="91"/>
                      <a:pt x="118" y="32"/>
                      <a:pt x="182" y="16"/>
                    </a:cubicBezTo>
                    <a:cubicBezTo>
                      <a:pt x="246" y="0"/>
                      <a:pt x="356" y="15"/>
                      <a:pt x="410" y="51"/>
                    </a:cubicBezTo>
                    <a:cubicBezTo>
                      <a:pt x="464" y="87"/>
                      <a:pt x="497" y="174"/>
                      <a:pt x="507" y="233"/>
                    </a:cubicBezTo>
                    <a:cubicBezTo>
                      <a:pt x="517" y="292"/>
                      <a:pt x="488" y="359"/>
                      <a:pt x="467" y="405"/>
                    </a:cubicBezTo>
                    <a:cubicBezTo>
                      <a:pt x="446" y="451"/>
                      <a:pt x="400" y="487"/>
                      <a:pt x="382" y="508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005" name=""/>
            <p:cNvSpPr/>
            <p:nvPr/>
          </p:nvSpPr>
          <p:spPr>
            <a:xfrm>
              <a:off x="5605560" y="4295880"/>
              <a:ext cx="662040" cy="1552320"/>
            </a:xfrm>
            <a:custGeom>
              <a:avLst/>
              <a:gdLst/>
              <a:ahLst/>
              <a:rect l="l" t="t" r="r" b="b"/>
              <a:pathLst>
                <a:path w="417" h="978">
                  <a:moveTo>
                    <a:pt x="0" y="0"/>
                  </a:moveTo>
                  <a:lnTo>
                    <a:pt x="195" y="0"/>
                  </a:lnTo>
                  <a:lnTo>
                    <a:pt x="195" y="972"/>
                  </a:lnTo>
                  <a:lnTo>
                    <a:pt x="417" y="978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6" name=""/>
            <p:cNvSpPr/>
            <p:nvPr/>
          </p:nvSpPr>
          <p:spPr>
            <a:xfrm>
              <a:off x="5608800" y="6227640"/>
              <a:ext cx="834840" cy="30816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norm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7" name=""/>
            <p:cNvSpPr/>
            <p:nvPr/>
          </p:nvSpPr>
          <p:spPr>
            <a:xfrm>
              <a:off x="5896080" y="4417920"/>
              <a:ext cx="617400" cy="371520"/>
            </a:xfrm>
            <a:prstGeom prst="rightArrow">
              <a:avLst>
                <a:gd name="adj1" fmla="val 50000"/>
                <a:gd name="adj2" fmla="val 41546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8" name=""/>
            <p:cNvSpPr/>
            <p:nvPr/>
          </p:nvSpPr>
          <p:spPr>
            <a:xfrm>
              <a:off x="5570640" y="4164120"/>
              <a:ext cx="363600" cy="153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9" name=""/>
            <p:cNvSpPr/>
            <p:nvPr/>
          </p:nvSpPr>
          <p:spPr>
            <a:xfrm rot="5374200">
              <a:off x="5653440" y="4372560"/>
              <a:ext cx="527040" cy="128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0" name=""/>
            <p:cNvSpPr/>
            <p:nvPr/>
          </p:nvSpPr>
          <p:spPr>
            <a:xfrm>
              <a:off x="5048280" y="1949400"/>
              <a:ext cx="263520" cy="29844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1" name=""/>
            <p:cNvSpPr/>
            <p:nvPr/>
          </p:nvSpPr>
          <p:spPr>
            <a:xfrm>
              <a:off x="4270320" y="1946160"/>
              <a:ext cx="263520" cy="29052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2" name=""/>
            <p:cNvSpPr/>
            <p:nvPr/>
          </p:nvSpPr>
          <p:spPr>
            <a:xfrm>
              <a:off x="3497400" y="1981080"/>
              <a:ext cx="263520" cy="29052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3" name=""/>
            <p:cNvSpPr/>
            <p:nvPr/>
          </p:nvSpPr>
          <p:spPr>
            <a:xfrm>
              <a:off x="5099040" y="1000080"/>
              <a:ext cx="835200" cy="30816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norm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4" name=""/>
            <p:cNvSpPr/>
            <p:nvPr/>
          </p:nvSpPr>
          <p:spPr>
            <a:xfrm>
              <a:off x="5558760" y="6521040"/>
              <a:ext cx="798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600" spc="-1" strike="noStrike">
                  <a:solidFill>
                    <a:srgbClr val="000000"/>
                  </a:solidFill>
                  <a:latin typeface="Times New Roman"/>
                </a:rPr>
                <a:t>pH=5,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15" name=""/>
          <p:cNvGrpSpPr/>
          <p:nvPr/>
        </p:nvGrpSpPr>
        <p:grpSpPr>
          <a:xfrm>
            <a:off x="0" y="-52560"/>
            <a:ext cx="9080640" cy="6732360"/>
            <a:chOff x="0" y="-52560"/>
            <a:chExt cx="9080640" cy="6732360"/>
          </a:xfrm>
        </p:grpSpPr>
        <p:sp>
          <p:nvSpPr>
            <p:cNvPr id="12016" name=""/>
            <p:cNvSpPr/>
            <p:nvPr/>
          </p:nvSpPr>
          <p:spPr>
            <a:xfrm>
              <a:off x="5403960" y="3157560"/>
              <a:ext cx="568080" cy="72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7" name=""/>
            <p:cNvSpPr/>
            <p:nvPr/>
          </p:nvSpPr>
          <p:spPr>
            <a:xfrm>
              <a:off x="5400720" y="3365640"/>
              <a:ext cx="587160" cy="699840"/>
            </a:xfrm>
            <a:prstGeom prst="rect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8" name=""/>
            <p:cNvSpPr/>
            <p:nvPr/>
          </p:nvSpPr>
          <p:spPr>
            <a:xfrm>
              <a:off x="5398920" y="3449520"/>
              <a:ext cx="588960" cy="63972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9" name=""/>
            <p:cNvSpPr/>
            <p:nvPr/>
          </p:nvSpPr>
          <p:spPr>
            <a:xfrm>
              <a:off x="7724880" y="4129200"/>
              <a:ext cx="1104840" cy="857160"/>
            </a:xfrm>
            <a:prstGeom prst="rect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0" name=""/>
            <p:cNvSpPr/>
            <p:nvPr/>
          </p:nvSpPr>
          <p:spPr>
            <a:xfrm>
              <a:off x="7723080" y="4322880"/>
              <a:ext cx="1111320" cy="78264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1" name=""/>
            <p:cNvSpPr/>
            <p:nvPr/>
          </p:nvSpPr>
          <p:spPr>
            <a:xfrm>
              <a:off x="5389560" y="5322960"/>
              <a:ext cx="1111320" cy="766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2" name=""/>
            <p:cNvSpPr/>
            <p:nvPr/>
          </p:nvSpPr>
          <p:spPr>
            <a:xfrm>
              <a:off x="5388120" y="5473800"/>
              <a:ext cx="1110960" cy="62388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3" name=""/>
            <p:cNvSpPr/>
            <p:nvPr/>
          </p:nvSpPr>
          <p:spPr>
            <a:xfrm>
              <a:off x="5415120" y="1317600"/>
              <a:ext cx="1110960" cy="766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4" name=""/>
            <p:cNvSpPr/>
            <p:nvPr/>
          </p:nvSpPr>
          <p:spPr>
            <a:xfrm>
              <a:off x="5413320" y="1468440"/>
              <a:ext cx="1111320" cy="62388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5" name=""/>
            <p:cNvSpPr/>
            <p:nvPr/>
          </p:nvSpPr>
          <p:spPr>
            <a:xfrm>
              <a:off x="2984400" y="2428920"/>
              <a:ext cx="1144800" cy="70812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6" name=""/>
            <p:cNvSpPr/>
            <p:nvPr/>
          </p:nvSpPr>
          <p:spPr>
            <a:xfrm>
              <a:off x="884160" y="1409760"/>
              <a:ext cx="927000" cy="70632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7" name=""/>
            <p:cNvSpPr/>
            <p:nvPr/>
          </p:nvSpPr>
          <p:spPr>
            <a:xfrm>
              <a:off x="5526000" y="3592440"/>
              <a:ext cx="9720" cy="293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8" name=""/>
            <p:cNvSpPr/>
            <p:nvPr/>
          </p:nvSpPr>
          <p:spPr>
            <a:xfrm>
              <a:off x="987840" y="1530360"/>
              <a:ext cx="736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Arial"/>
                </a:rPr>
                <a:t>CO</a:t>
              </a:r>
              <a:r>
                <a:rPr b="1" lang="cs-CZ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9" name=""/>
            <p:cNvSpPr/>
            <p:nvPr/>
          </p:nvSpPr>
          <p:spPr>
            <a:xfrm>
              <a:off x="1029240" y="3576600"/>
              <a:ext cx="736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cs-CZ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cs-CZ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0" name=""/>
            <p:cNvSpPr/>
            <p:nvPr/>
          </p:nvSpPr>
          <p:spPr>
            <a:xfrm>
              <a:off x="3041640" y="2571840"/>
              <a:ext cx="1055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cs-CZ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cs-CZ" sz="2400" spc="-1" strike="noStrike">
                  <a:solidFill>
                    <a:srgbClr val="000000"/>
                  </a:solidFill>
                  <a:latin typeface="Arial"/>
                </a:rPr>
                <a:t>CO</a:t>
              </a:r>
              <a:r>
                <a:rPr b="1" lang="cs-CZ" sz="2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1" name=""/>
            <p:cNvSpPr/>
            <p:nvPr/>
          </p:nvSpPr>
          <p:spPr>
            <a:xfrm>
              <a:off x="5581080" y="1530360"/>
              <a:ext cx="956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Arial"/>
                </a:rPr>
                <a:t>HCO</a:t>
              </a:r>
              <a:r>
                <a:rPr b="1" lang="cs-CZ" sz="2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2" name=""/>
            <p:cNvSpPr/>
            <p:nvPr/>
          </p:nvSpPr>
          <p:spPr>
            <a:xfrm>
              <a:off x="5540400" y="3516480"/>
              <a:ext cx="52380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cs-CZ" sz="2400" spc="-1" strike="noStrike" baseline="7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3" name=""/>
            <p:cNvSpPr/>
            <p:nvPr/>
          </p:nvSpPr>
          <p:spPr>
            <a:xfrm>
              <a:off x="4240080" y="1779480"/>
              <a:ext cx="1155960" cy="1024200"/>
            </a:xfrm>
            <a:custGeom>
              <a:avLst/>
              <a:gdLst/>
              <a:ahLst/>
              <a:rect l="l" t="t" r="r" b="b"/>
              <a:pathLst>
                <a:path w="728" h="645">
                  <a:moveTo>
                    <a:pt x="0" y="642"/>
                  </a:moveTo>
                  <a:lnTo>
                    <a:pt x="351" y="645"/>
                  </a:lnTo>
                  <a:cubicBezTo>
                    <a:pt x="420" y="628"/>
                    <a:pt x="405" y="630"/>
                    <a:pt x="416" y="538"/>
                  </a:cubicBezTo>
                  <a:lnTo>
                    <a:pt x="416" y="91"/>
                  </a:lnTo>
                  <a:cubicBezTo>
                    <a:pt x="429" y="1"/>
                    <a:pt x="445" y="15"/>
                    <a:pt x="497" y="0"/>
                  </a:cubicBezTo>
                  <a:lnTo>
                    <a:pt x="728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4" name=""/>
            <p:cNvSpPr/>
            <p:nvPr/>
          </p:nvSpPr>
          <p:spPr>
            <a:xfrm>
              <a:off x="4146480" y="2795760"/>
              <a:ext cx="1249560" cy="1023840"/>
            </a:xfrm>
            <a:custGeom>
              <a:avLst/>
              <a:gdLst/>
              <a:ahLst/>
              <a:rect l="l" t="t" r="r" b="b"/>
              <a:pathLst>
                <a:path w="787" h="645">
                  <a:moveTo>
                    <a:pt x="0" y="2"/>
                  </a:moveTo>
                  <a:lnTo>
                    <a:pt x="410" y="0"/>
                  </a:lnTo>
                  <a:cubicBezTo>
                    <a:pt x="489" y="17"/>
                    <a:pt x="464" y="15"/>
                    <a:pt x="475" y="107"/>
                  </a:cubicBezTo>
                  <a:lnTo>
                    <a:pt x="475" y="554"/>
                  </a:lnTo>
                  <a:cubicBezTo>
                    <a:pt x="488" y="644"/>
                    <a:pt x="504" y="630"/>
                    <a:pt x="556" y="645"/>
                  </a:cubicBezTo>
                  <a:lnTo>
                    <a:pt x="787" y="645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35" name=""/>
            <p:cNvGrpSpPr/>
            <p:nvPr/>
          </p:nvGrpSpPr>
          <p:grpSpPr>
            <a:xfrm>
              <a:off x="1836720" y="1778040"/>
              <a:ext cx="1130400" cy="2038320"/>
              <a:chOff x="1836720" y="1778040"/>
              <a:chExt cx="1130400" cy="2038320"/>
            </a:xfrm>
          </p:grpSpPr>
          <p:sp>
            <p:nvSpPr>
              <p:cNvPr id="12036" name=""/>
              <p:cNvSpPr/>
              <p:nvPr/>
            </p:nvSpPr>
            <p:spPr>
              <a:xfrm flipH="1">
                <a:off x="1836720" y="1778040"/>
                <a:ext cx="1130400" cy="1023840"/>
              </a:xfrm>
              <a:custGeom>
                <a:avLst/>
                <a:gdLst/>
                <a:ahLst/>
                <a:rect l="l" t="t" r="r" b="b"/>
                <a:pathLst>
                  <a:path w="866" h="645">
                    <a:moveTo>
                      <a:pt x="0" y="645"/>
                    </a:moveTo>
                    <a:lnTo>
                      <a:pt x="442" y="645"/>
                    </a:lnTo>
                    <a:cubicBezTo>
                      <a:pt x="528" y="627"/>
                      <a:pt x="503" y="630"/>
                      <a:pt x="515" y="538"/>
                    </a:cubicBezTo>
                    <a:lnTo>
                      <a:pt x="515" y="91"/>
                    </a:lnTo>
                    <a:cubicBezTo>
                      <a:pt x="530" y="1"/>
                      <a:pt x="548" y="15"/>
                      <a:pt x="606" y="0"/>
                    </a:cubicBezTo>
                    <a:lnTo>
                      <a:pt x="866" y="0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37" name=""/>
              <p:cNvSpPr/>
              <p:nvPr/>
            </p:nvSpPr>
            <p:spPr>
              <a:xfrm flipH="1" flipV="1">
                <a:off x="1836720" y="2792520"/>
                <a:ext cx="1130400" cy="1023840"/>
              </a:xfrm>
              <a:custGeom>
                <a:avLst/>
                <a:gdLst/>
                <a:ahLst/>
                <a:rect l="l" t="t" r="r" b="b"/>
                <a:pathLst>
                  <a:path w="866" h="645">
                    <a:moveTo>
                      <a:pt x="0" y="645"/>
                    </a:moveTo>
                    <a:lnTo>
                      <a:pt x="442" y="645"/>
                    </a:lnTo>
                    <a:cubicBezTo>
                      <a:pt x="528" y="627"/>
                      <a:pt x="503" y="630"/>
                      <a:pt x="515" y="538"/>
                    </a:cubicBezTo>
                    <a:lnTo>
                      <a:pt x="515" y="91"/>
                    </a:lnTo>
                    <a:cubicBezTo>
                      <a:pt x="530" y="1"/>
                      <a:pt x="548" y="15"/>
                      <a:pt x="606" y="0"/>
                    </a:cubicBezTo>
                    <a:lnTo>
                      <a:pt x="866" y="0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aphicFrame>
          <p:nvGraphicFramePr>
            <p:cNvPr id="12038" name=""/>
            <p:cNvGraphicFramePr/>
            <p:nvPr/>
          </p:nvGraphicFramePr>
          <p:xfrm>
            <a:off x="223920" y="393840"/>
            <a:ext cx="1039680" cy="7729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203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3920" y="393840"/>
                      <a:ext cx="1039680" cy="772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040" name=""/>
            <p:cNvSpPr/>
            <p:nvPr/>
          </p:nvSpPr>
          <p:spPr>
            <a:xfrm flipH="1">
              <a:off x="167400" y="1484280"/>
              <a:ext cx="72396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1" name=""/>
            <p:cNvSpPr/>
            <p:nvPr/>
          </p:nvSpPr>
          <p:spPr>
            <a:xfrm>
              <a:off x="1789200" y="757080"/>
              <a:ext cx="3652920" cy="76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400" spc="-1" strike="noStrike">
                  <a:solidFill>
                    <a:srgbClr val="000000"/>
                  </a:solidFill>
                  <a:latin typeface="Times New Roman"/>
                </a:rPr>
                <a:t>3. Respirace udržuje neměnnou hladinu CO</a:t>
              </a:r>
              <a:r>
                <a:rPr b="1" lang="cs-CZ" sz="1400" spc="-1" strike="noStrike" baseline="-25000">
                  <a:solidFill>
                    <a:srgbClr val="000000"/>
                  </a:solidFill>
                  <a:latin typeface="Times New Roman"/>
                </a:rPr>
                <a:t>2 </a:t>
              </a:r>
              <a:r>
                <a:rPr b="1" lang="cs-CZ" sz="1400" spc="-1" strike="noStrike">
                  <a:solidFill>
                    <a:srgbClr val="000000"/>
                  </a:solidFill>
                  <a:latin typeface="Times New Roman"/>
                </a:rPr>
                <a:t>a kyseliny uhličité  - tím zvyšuje pufrační sílu bikarbonátového systém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2" name=""/>
            <p:cNvSpPr/>
            <p:nvPr/>
          </p:nvSpPr>
          <p:spPr>
            <a:xfrm>
              <a:off x="6195240" y="3079800"/>
              <a:ext cx="1846800" cy="52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400" spc="-1" strike="noStrike">
                  <a:solidFill>
                    <a:srgbClr val="000000"/>
                  </a:solidFill>
                  <a:latin typeface="Times New Roman"/>
                </a:rPr>
                <a:t>1.</a:t>
              </a:r>
              <a:r>
                <a:rPr b="1" lang="cs-CZ" sz="1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 Primární porucha: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400" spc="-1" strike="noStrike">
                  <a:solidFill>
                    <a:srgbClr val="000000"/>
                  </a:solidFill>
                  <a:latin typeface="Times New Roman"/>
                </a:rPr>
                <a:t>retence H</a:t>
              </a:r>
              <a:r>
                <a:rPr b="1" lang="cs-CZ" sz="1400" spc="-1" strike="noStrike" baseline="46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43" name=""/>
            <p:cNvGrpSpPr/>
            <p:nvPr/>
          </p:nvGrpSpPr>
          <p:grpSpPr>
            <a:xfrm>
              <a:off x="5402160" y="2220840"/>
              <a:ext cx="560520" cy="917640"/>
              <a:chOff x="5402160" y="2220840"/>
              <a:chExt cx="560520" cy="917640"/>
            </a:xfrm>
          </p:grpSpPr>
          <p:sp>
            <p:nvSpPr>
              <p:cNvPr id="12044" name=""/>
              <p:cNvSpPr/>
              <p:nvPr/>
            </p:nvSpPr>
            <p:spPr>
              <a:xfrm>
                <a:off x="5406840" y="2290680"/>
                <a:ext cx="551160" cy="630360"/>
              </a:xfrm>
              <a:custGeom>
                <a:avLst/>
                <a:gdLst/>
                <a:ahLst/>
                <a:rect l="l" t="t" r="r" b="b"/>
                <a:pathLst>
                  <a:path w="2256" h="2295">
                    <a:moveTo>
                      <a:pt x="0" y="0"/>
                    </a:moveTo>
                    <a:lnTo>
                      <a:pt x="939" y="1180"/>
                    </a:lnTo>
                    <a:lnTo>
                      <a:pt x="980" y="2175"/>
                    </a:lnTo>
                    <a:lnTo>
                      <a:pt x="983" y="2202"/>
                    </a:lnTo>
                    <a:lnTo>
                      <a:pt x="991" y="2221"/>
                    </a:lnTo>
                    <a:lnTo>
                      <a:pt x="1000" y="2235"/>
                    </a:lnTo>
                    <a:lnTo>
                      <a:pt x="1010" y="2246"/>
                    </a:lnTo>
                    <a:lnTo>
                      <a:pt x="1024" y="2260"/>
                    </a:lnTo>
                    <a:lnTo>
                      <a:pt x="1038" y="2268"/>
                    </a:lnTo>
                    <a:lnTo>
                      <a:pt x="1060" y="2281"/>
                    </a:lnTo>
                    <a:lnTo>
                      <a:pt x="1083" y="2287"/>
                    </a:lnTo>
                    <a:lnTo>
                      <a:pt x="1111" y="2293"/>
                    </a:lnTo>
                    <a:lnTo>
                      <a:pt x="1128" y="2295"/>
                    </a:lnTo>
                    <a:lnTo>
                      <a:pt x="1145" y="2295"/>
                    </a:lnTo>
                    <a:lnTo>
                      <a:pt x="1163" y="2292"/>
                    </a:lnTo>
                    <a:lnTo>
                      <a:pt x="1183" y="2286"/>
                    </a:lnTo>
                    <a:lnTo>
                      <a:pt x="1202" y="2279"/>
                    </a:lnTo>
                    <a:lnTo>
                      <a:pt x="1221" y="2268"/>
                    </a:lnTo>
                    <a:lnTo>
                      <a:pt x="1235" y="2259"/>
                    </a:lnTo>
                    <a:lnTo>
                      <a:pt x="1251" y="2243"/>
                    </a:lnTo>
                    <a:lnTo>
                      <a:pt x="1262" y="2227"/>
                    </a:lnTo>
                    <a:lnTo>
                      <a:pt x="1273" y="2203"/>
                    </a:lnTo>
                    <a:lnTo>
                      <a:pt x="1276" y="2181"/>
                    </a:lnTo>
                    <a:lnTo>
                      <a:pt x="1336" y="1161"/>
                    </a:lnTo>
                    <a:lnTo>
                      <a:pt x="225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45" name=""/>
              <p:cNvSpPr/>
              <p:nvPr/>
            </p:nvSpPr>
            <p:spPr>
              <a:xfrm>
                <a:off x="5402160" y="2220840"/>
                <a:ext cx="560520" cy="119160"/>
              </a:xfrm>
              <a:prstGeom prst="ellipse">
                <a:avLst/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46" name=""/>
              <p:cNvSpPr/>
              <p:nvPr/>
            </p:nvSpPr>
            <p:spPr>
              <a:xfrm>
                <a:off x="5446800" y="2308320"/>
                <a:ext cx="476280" cy="593640"/>
              </a:xfrm>
              <a:custGeom>
                <a:avLst/>
                <a:gdLst/>
                <a:ahLst/>
                <a:rect l="l" t="t" r="r" b="b"/>
                <a:pathLst>
                  <a:path w="1956" h="2159">
                    <a:moveTo>
                      <a:pt x="0" y="19"/>
                    </a:moveTo>
                    <a:lnTo>
                      <a:pt x="857" y="1063"/>
                    </a:lnTo>
                    <a:lnTo>
                      <a:pt x="879" y="2090"/>
                    </a:lnTo>
                    <a:lnTo>
                      <a:pt x="887" y="2107"/>
                    </a:lnTo>
                    <a:lnTo>
                      <a:pt x="897" y="2123"/>
                    </a:lnTo>
                    <a:lnTo>
                      <a:pt x="906" y="2137"/>
                    </a:lnTo>
                    <a:lnTo>
                      <a:pt x="922" y="2147"/>
                    </a:lnTo>
                    <a:lnTo>
                      <a:pt x="939" y="2156"/>
                    </a:lnTo>
                    <a:lnTo>
                      <a:pt x="962" y="2159"/>
                    </a:lnTo>
                    <a:lnTo>
                      <a:pt x="983" y="2157"/>
                    </a:lnTo>
                    <a:lnTo>
                      <a:pt x="1005" y="2153"/>
                    </a:lnTo>
                    <a:lnTo>
                      <a:pt x="1026" y="2140"/>
                    </a:lnTo>
                    <a:lnTo>
                      <a:pt x="1040" y="2123"/>
                    </a:lnTo>
                    <a:lnTo>
                      <a:pt x="1048" y="2109"/>
                    </a:lnTo>
                    <a:lnTo>
                      <a:pt x="1056" y="2088"/>
                    </a:lnTo>
                    <a:lnTo>
                      <a:pt x="1100" y="1045"/>
                    </a:lnTo>
                    <a:lnTo>
                      <a:pt x="1956" y="0"/>
                    </a:lnTo>
                    <a:lnTo>
                      <a:pt x="1790" y="41"/>
                    </a:lnTo>
                    <a:lnTo>
                      <a:pt x="1531" y="77"/>
                    </a:lnTo>
                    <a:lnTo>
                      <a:pt x="1247" y="98"/>
                    </a:lnTo>
                    <a:lnTo>
                      <a:pt x="962" y="109"/>
                    </a:lnTo>
                    <a:lnTo>
                      <a:pt x="662" y="98"/>
                    </a:lnTo>
                    <a:lnTo>
                      <a:pt x="398" y="77"/>
                    </a:lnTo>
                    <a:lnTo>
                      <a:pt x="178" y="52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47" name=""/>
              <p:cNvSpPr/>
              <p:nvPr/>
            </p:nvSpPr>
            <p:spPr>
              <a:xfrm>
                <a:off x="5527440" y="2428920"/>
                <a:ext cx="308160" cy="474840"/>
              </a:xfrm>
              <a:custGeom>
                <a:avLst/>
                <a:gdLst/>
                <a:ahLst/>
                <a:rect l="l" t="t" r="r" b="b"/>
                <a:pathLst>
                  <a:path w="1264" h="1728">
                    <a:moveTo>
                      <a:pt x="0" y="0"/>
                    </a:moveTo>
                    <a:lnTo>
                      <a:pt x="520" y="624"/>
                    </a:lnTo>
                    <a:lnTo>
                      <a:pt x="531" y="1657"/>
                    </a:lnTo>
                    <a:lnTo>
                      <a:pt x="541" y="1674"/>
                    </a:lnTo>
                    <a:lnTo>
                      <a:pt x="553" y="1688"/>
                    </a:lnTo>
                    <a:lnTo>
                      <a:pt x="564" y="1701"/>
                    </a:lnTo>
                    <a:lnTo>
                      <a:pt x="580" y="1715"/>
                    </a:lnTo>
                    <a:lnTo>
                      <a:pt x="608" y="1723"/>
                    </a:lnTo>
                    <a:lnTo>
                      <a:pt x="632" y="1728"/>
                    </a:lnTo>
                    <a:lnTo>
                      <a:pt x="651" y="1725"/>
                    </a:lnTo>
                    <a:lnTo>
                      <a:pt x="673" y="1720"/>
                    </a:lnTo>
                    <a:lnTo>
                      <a:pt x="694" y="1709"/>
                    </a:lnTo>
                    <a:lnTo>
                      <a:pt x="711" y="1692"/>
                    </a:lnTo>
                    <a:lnTo>
                      <a:pt x="723" y="1669"/>
                    </a:lnTo>
                    <a:lnTo>
                      <a:pt x="730" y="1657"/>
                    </a:lnTo>
                    <a:lnTo>
                      <a:pt x="761" y="605"/>
                    </a:lnTo>
                    <a:lnTo>
                      <a:pt x="126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48" name=""/>
              <p:cNvSpPr/>
              <p:nvPr/>
            </p:nvSpPr>
            <p:spPr>
              <a:xfrm>
                <a:off x="5657760" y="2928960"/>
                <a:ext cx="49320" cy="101520"/>
              </a:xfrm>
              <a:custGeom>
                <a:avLst/>
                <a:gdLst/>
                <a:ahLst/>
                <a:rect l="l" t="t" r="r" b="b"/>
                <a:pathLst>
                  <a:path w="196" h="370">
                    <a:moveTo>
                      <a:pt x="95" y="0"/>
                    </a:moveTo>
                    <a:lnTo>
                      <a:pt x="105" y="58"/>
                    </a:lnTo>
                    <a:lnTo>
                      <a:pt x="111" y="87"/>
                    </a:lnTo>
                    <a:lnTo>
                      <a:pt x="121" y="121"/>
                    </a:lnTo>
                    <a:lnTo>
                      <a:pt x="132" y="141"/>
                    </a:lnTo>
                    <a:lnTo>
                      <a:pt x="147" y="166"/>
                    </a:lnTo>
                    <a:lnTo>
                      <a:pt x="167" y="193"/>
                    </a:lnTo>
                    <a:lnTo>
                      <a:pt x="184" y="220"/>
                    </a:lnTo>
                    <a:lnTo>
                      <a:pt x="192" y="245"/>
                    </a:lnTo>
                    <a:lnTo>
                      <a:pt x="196" y="278"/>
                    </a:lnTo>
                    <a:lnTo>
                      <a:pt x="189" y="307"/>
                    </a:lnTo>
                    <a:lnTo>
                      <a:pt x="178" y="328"/>
                    </a:lnTo>
                    <a:lnTo>
                      <a:pt x="162" y="345"/>
                    </a:lnTo>
                    <a:lnTo>
                      <a:pt x="141" y="361"/>
                    </a:lnTo>
                    <a:lnTo>
                      <a:pt x="121" y="367"/>
                    </a:lnTo>
                    <a:lnTo>
                      <a:pt x="99" y="370"/>
                    </a:lnTo>
                    <a:lnTo>
                      <a:pt x="76" y="367"/>
                    </a:lnTo>
                    <a:lnTo>
                      <a:pt x="54" y="362"/>
                    </a:lnTo>
                    <a:lnTo>
                      <a:pt x="34" y="350"/>
                    </a:lnTo>
                    <a:lnTo>
                      <a:pt x="19" y="334"/>
                    </a:lnTo>
                    <a:lnTo>
                      <a:pt x="8" y="315"/>
                    </a:lnTo>
                    <a:lnTo>
                      <a:pt x="3" y="296"/>
                    </a:lnTo>
                    <a:lnTo>
                      <a:pt x="0" y="272"/>
                    </a:lnTo>
                    <a:lnTo>
                      <a:pt x="5" y="240"/>
                    </a:lnTo>
                    <a:lnTo>
                      <a:pt x="13" y="218"/>
                    </a:lnTo>
                    <a:lnTo>
                      <a:pt x="30" y="190"/>
                    </a:lnTo>
                    <a:lnTo>
                      <a:pt x="49" y="166"/>
                    </a:lnTo>
                    <a:lnTo>
                      <a:pt x="62" y="140"/>
                    </a:lnTo>
                    <a:lnTo>
                      <a:pt x="72" y="119"/>
                    </a:lnTo>
                    <a:lnTo>
                      <a:pt x="81" y="90"/>
                    </a:lnTo>
                    <a:lnTo>
                      <a:pt x="86" y="58"/>
                    </a:lnTo>
                    <a:lnTo>
                      <a:pt x="95" y="0"/>
                    </a:lnTo>
                    <a:close/>
                  </a:path>
                </a:pathLst>
              </a:cu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49" name=""/>
              <p:cNvSpPr/>
              <p:nvPr/>
            </p:nvSpPr>
            <p:spPr>
              <a:xfrm>
                <a:off x="5430960" y="2232000"/>
                <a:ext cx="502920" cy="96840"/>
              </a:xfrm>
              <a:prstGeom prst="ellips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50" name=""/>
              <p:cNvSpPr/>
              <p:nvPr/>
            </p:nvSpPr>
            <p:spPr>
              <a:xfrm>
                <a:off x="5657760" y="3036960"/>
                <a:ext cx="49320" cy="101520"/>
              </a:xfrm>
              <a:custGeom>
                <a:avLst/>
                <a:gdLst/>
                <a:ahLst/>
                <a:rect l="l" t="t" r="r" b="b"/>
                <a:pathLst>
                  <a:path w="196" h="372">
                    <a:moveTo>
                      <a:pt x="95" y="0"/>
                    </a:moveTo>
                    <a:lnTo>
                      <a:pt x="105" y="60"/>
                    </a:lnTo>
                    <a:lnTo>
                      <a:pt x="111" y="88"/>
                    </a:lnTo>
                    <a:lnTo>
                      <a:pt x="121" y="122"/>
                    </a:lnTo>
                    <a:lnTo>
                      <a:pt x="132" y="143"/>
                    </a:lnTo>
                    <a:lnTo>
                      <a:pt x="147" y="168"/>
                    </a:lnTo>
                    <a:lnTo>
                      <a:pt x="167" y="195"/>
                    </a:lnTo>
                    <a:lnTo>
                      <a:pt x="184" y="221"/>
                    </a:lnTo>
                    <a:lnTo>
                      <a:pt x="192" y="247"/>
                    </a:lnTo>
                    <a:lnTo>
                      <a:pt x="196" y="279"/>
                    </a:lnTo>
                    <a:lnTo>
                      <a:pt x="189" y="308"/>
                    </a:lnTo>
                    <a:lnTo>
                      <a:pt x="178" y="328"/>
                    </a:lnTo>
                    <a:lnTo>
                      <a:pt x="162" y="345"/>
                    </a:lnTo>
                    <a:lnTo>
                      <a:pt x="141" y="361"/>
                    </a:lnTo>
                    <a:lnTo>
                      <a:pt x="121" y="369"/>
                    </a:lnTo>
                    <a:lnTo>
                      <a:pt x="99" y="372"/>
                    </a:lnTo>
                    <a:lnTo>
                      <a:pt x="76" y="369"/>
                    </a:lnTo>
                    <a:lnTo>
                      <a:pt x="54" y="363"/>
                    </a:lnTo>
                    <a:lnTo>
                      <a:pt x="34" y="351"/>
                    </a:lnTo>
                    <a:lnTo>
                      <a:pt x="19" y="336"/>
                    </a:lnTo>
                    <a:lnTo>
                      <a:pt x="8" y="317"/>
                    </a:lnTo>
                    <a:lnTo>
                      <a:pt x="3" y="298"/>
                    </a:lnTo>
                    <a:lnTo>
                      <a:pt x="0" y="272"/>
                    </a:lnTo>
                    <a:lnTo>
                      <a:pt x="5" y="242"/>
                    </a:lnTo>
                    <a:lnTo>
                      <a:pt x="13" y="219"/>
                    </a:lnTo>
                    <a:lnTo>
                      <a:pt x="30" y="191"/>
                    </a:lnTo>
                    <a:lnTo>
                      <a:pt x="49" y="168"/>
                    </a:lnTo>
                    <a:lnTo>
                      <a:pt x="62" y="141"/>
                    </a:lnTo>
                    <a:lnTo>
                      <a:pt x="72" y="120"/>
                    </a:lnTo>
                    <a:lnTo>
                      <a:pt x="81" y="90"/>
                    </a:lnTo>
                    <a:lnTo>
                      <a:pt x="86" y="60"/>
                    </a:lnTo>
                    <a:lnTo>
                      <a:pt x="95" y="0"/>
                    </a:lnTo>
                    <a:close/>
                  </a:path>
                </a:pathLst>
              </a:cu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51" name=""/>
              <p:cNvSpPr/>
              <p:nvPr/>
            </p:nvSpPr>
            <p:spPr>
              <a:xfrm>
                <a:off x="5524560" y="2390760"/>
                <a:ext cx="315720" cy="61920"/>
              </a:xfrm>
              <a:prstGeom prst="ellipse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52" name=""/>
              <p:cNvSpPr/>
              <p:nvPr/>
            </p:nvSpPr>
            <p:spPr>
              <a:xfrm>
                <a:off x="5661000" y="2863800"/>
                <a:ext cx="41400" cy="47880"/>
              </a:xfrm>
              <a:prstGeom prst="ellipse">
                <a:avLst/>
              </a:prstGeom>
              <a:solidFill>
                <a:srgbClr val="009999"/>
              </a:solidFill>
              <a:ln w="1764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053" name=""/>
            <p:cNvSpPr/>
            <p:nvPr/>
          </p:nvSpPr>
          <p:spPr>
            <a:xfrm>
              <a:off x="3876120" y="4110120"/>
              <a:ext cx="2403000" cy="95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400" spc="-1" strike="noStrike">
                  <a:solidFill>
                    <a:srgbClr val="000000"/>
                  </a:solidFill>
                  <a:latin typeface="Times New Roman"/>
                </a:rPr>
                <a:t>4.</a:t>
              </a:r>
              <a:r>
                <a:rPr b="1" lang="cs-CZ" sz="1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 Patofyziologický důsledek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400" spc="-1" strike="noStrike">
                  <a:solidFill>
                    <a:srgbClr val="000000"/>
                  </a:solidFill>
                  <a:latin typeface="Times New Roman"/>
                </a:rPr>
                <a:t>Hladina H</a:t>
              </a:r>
              <a:r>
                <a:rPr b="0" lang="cs-CZ" sz="1400" spc="-1" strike="noStrike" baseline="46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400" spc="-1" strike="noStrike">
                  <a:solidFill>
                    <a:srgbClr val="000000"/>
                  </a:solidFill>
                  <a:latin typeface="Times New Roman"/>
                </a:rPr>
                <a:t>díky pufrování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400" spc="-1" strike="noStrike">
                  <a:solidFill>
                    <a:srgbClr val="000000"/>
                  </a:solidFill>
                  <a:latin typeface="Times New Roman"/>
                </a:rPr>
                <a:t>stoupne jen mál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4" name=""/>
            <p:cNvSpPr/>
            <p:nvPr/>
          </p:nvSpPr>
          <p:spPr>
            <a:xfrm>
              <a:off x="5518080" y="1595520"/>
              <a:ext cx="9720" cy="293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5" name=""/>
            <p:cNvSpPr/>
            <p:nvPr/>
          </p:nvSpPr>
          <p:spPr>
            <a:xfrm>
              <a:off x="6083280" y="3079800"/>
              <a:ext cx="1440" cy="352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6" name=""/>
            <p:cNvSpPr/>
            <p:nvPr/>
          </p:nvSpPr>
          <p:spPr>
            <a:xfrm>
              <a:off x="5581080" y="5592600"/>
              <a:ext cx="83304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Arial"/>
                </a:rPr>
                <a:t>Buf </a:t>
              </a:r>
              <a:r>
                <a:rPr b="1" lang="cs-CZ" sz="2400" spc="-1" strike="noStrike" baseline="70000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7" name=""/>
            <p:cNvSpPr/>
            <p:nvPr/>
          </p:nvSpPr>
          <p:spPr>
            <a:xfrm>
              <a:off x="7855920" y="4541760"/>
              <a:ext cx="90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Arial"/>
                </a:rPr>
                <a:t>HBu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8" name=""/>
            <p:cNvSpPr/>
            <p:nvPr/>
          </p:nvSpPr>
          <p:spPr>
            <a:xfrm>
              <a:off x="5975280" y="3782880"/>
              <a:ext cx="1735200" cy="1024200"/>
            </a:xfrm>
            <a:custGeom>
              <a:avLst/>
              <a:gdLst/>
              <a:ahLst/>
              <a:rect l="l" t="t" r="r" b="b"/>
              <a:pathLst>
                <a:path w="1093" h="645">
                  <a:moveTo>
                    <a:pt x="1093" y="645"/>
                  </a:moveTo>
                  <a:lnTo>
                    <a:pt x="700" y="645"/>
                  </a:lnTo>
                  <a:cubicBezTo>
                    <a:pt x="624" y="627"/>
                    <a:pt x="646" y="630"/>
                    <a:pt x="635" y="538"/>
                  </a:cubicBezTo>
                  <a:lnTo>
                    <a:pt x="635" y="91"/>
                  </a:lnTo>
                  <a:cubicBezTo>
                    <a:pt x="622" y="1"/>
                    <a:pt x="660" y="15"/>
                    <a:pt x="554" y="0"/>
                  </a:cubicBezTo>
                  <a:lnTo>
                    <a:pt x="0" y="1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9" name=""/>
            <p:cNvSpPr/>
            <p:nvPr/>
          </p:nvSpPr>
          <p:spPr>
            <a:xfrm flipH="1" flipV="1">
              <a:off x="6487560" y="4797360"/>
              <a:ext cx="1222200" cy="1023840"/>
            </a:xfrm>
            <a:custGeom>
              <a:avLst/>
              <a:gdLst/>
              <a:ahLst/>
              <a:rect l="l" t="t" r="r" b="b"/>
              <a:pathLst>
                <a:path w="866" h="645">
                  <a:moveTo>
                    <a:pt x="0" y="645"/>
                  </a:moveTo>
                  <a:lnTo>
                    <a:pt x="442" y="645"/>
                  </a:lnTo>
                  <a:cubicBezTo>
                    <a:pt x="528" y="627"/>
                    <a:pt x="503" y="630"/>
                    <a:pt x="515" y="538"/>
                  </a:cubicBezTo>
                  <a:lnTo>
                    <a:pt x="515" y="91"/>
                  </a:lnTo>
                  <a:cubicBezTo>
                    <a:pt x="530" y="1"/>
                    <a:pt x="548" y="15"/>
                    <a:pt x="606" y="0"/>
                  </a:cubicBezTo>
                  <a:lnTo>
                    <a:pt x="866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0" name=""/>
            <p:cNvSpPr/>
            <p:nvPr/>
          </p:nvSpPr>
          <p:spPr>
            <a:xfrm>
              <a:off x="6262560" y="136368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1" name=""/>
            <p:cNvSpPr/>
            <p:nvPr/>
          </p:nvSpPr>
          <p:spPr>
            <a:xfrm>
              <a:off x="595440" y="1273320"/>
              <a:ext cx="272880" cy="482400"/>
            </a:xfrm>
            <a:custGeom>
              <a:avLst/>
              <a:gdLst/>
              <a:ahLst/>
              <a:rect l="l" t="t" r="r" b="b"/>
              <a:pathLst>
                <a:path w="156" h="304">
                  <a:moveTo>
                    <a:pt x="156" y="292"/>
                  </a:moveTo>
                  <a:cubicBezTo>
                    <a:pt x="133" y="286"/>
                    <a:pt x="46" y="304"/>
                    <a:pt x="23" y="255"/>
                  </a:cubicBezTo>
                  <a:cubicBezTo>
                    <a:pt x="0" y="206"/>
                    <a:pt x="19" y="53"/>
                    <a:pt x="18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2" name=""/>
            <p:cNvSpPr/>
            <p:nvPr/>
          </p:nvSpPr>
          <p:spPr>
            <a:xfrm>
              <a:off x="6882120" y="1244520"/>
              <a:ext cx="2052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400" spc="-1" strike="noStrike">
                  <a:solidFill>
                    <a:srgbClr val="000000"/>
                  </a:solidFill>
                  <a:latin typeface="Times New Roman"/>
                </a:rPr>
                <a:t>2. Spotřeba bikarbonátů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1400" spc="-1" strike="noStrike">
                  <a:solidFill>
                    <a:srgbClr val="000000"/>
                  </a:solidFill>
                  <a:latin typeface="Times New Roman"/>
                </a:rPr>
                <a:t>v pufrační reakc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3" name=""/>
            <p:cNvSpPr/>
            <p:nvPr/>
          </p:nvSpPr>
          <p:spPr>
            <a:xfrm>
              <a:off x="4416840" y="6159600"/>
              <a:ext cx="2942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400" spc="-1" strike="noStrike">
                  <a:solidFill>
                    <a:srgbClr val="000000"/>
                  </a:solidFill>
                  <a:latin typeface="Times New Roman"/>
                </a:rPr>
                <a:t>2. Spotřeba nebikarbonátových bazí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400" spc="-1" strike="noStrike">
                  <a:solidFill>
                    <a:srgbClr val="000000"/>
                  </a:solidFill>
                  <a:latin typeface="Times New Roman"/>
                </a:rPr>
                <a:t>v pufrační reakc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4" name=""/>
            <p:cNvSpPr/>
            <p:nvPr/>
          </p:nvSpPr>
          <p:spPr>
            <a:xfrm>
              <a:off x="7827840" y="4606920"/>
              <a:ext cx="9720" cy="293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5" name=""/>
            <p:cNvSpPr/>
            <p:nvPr/>
          </p:nvSpPr>
          <p:spPr>
            <a:xfrm>
              <a:off x="5537160" y="5661000"/>
              <a:ext cx="9720" cy="293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6" name=""/>
            <p:cNvSpPr/>
            <p:nvPr/>
          </p:nvSpPr>
          <p:spPr>
            <a:xfrm>
              <a:off x="8244000" y="1760400"/>
              <a:ext cx="668160" cy="1568520"/>
            </a:xfrm>
            <a:custGeom>
              <a:avLst/>
              <a:gdLst/>
              <a:ahLst/>
              <a:rect l="l" t="t" r="r" b="b"/>
              <a:pathLst>
                <a:path w="421" h="988">
                  <a:moveTo>
                    <a:pt x="0" y="967"/>
                  </a:moveTo>
                  <a:cubicBezTo>
                    <a:pt x="79" y="967"/>
                    <a:pt x="298" y="988"/>
                    <a:pt x="366" y="882"/>
                  </a:cubicBezTo>
                  <a:cubicBezTo>
                    <a:pt x="415" y="767"/>
                    <a:pt x="421" y="458"/>
                    <a:pt x="409" y="329"/>
                  </a:cubicBezTo>
                  <a:cubicBezTo>
                    <a:pt x="397" y="200"/>
                    <a:pt x="329" y="161"/>
                    <a:pt x="292" y="106"/>
                  </a:cubicBezTo>
                  <a:cubicBezTo>
                    <a:pt x="255" y="51"/>
                    <a:pt x="208" y="22"/>
                    <a:pt x="186" y="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7" name=""/>
            <p:cNvSpPr/>
            <p:nvPr/>
          </p:nvSpPr>
          <p:spPr>
            <a:xfrm>
              <a:off x="5487840" y="914400"/>
              <a:ext cx="2460600" cy="358920"/>
            </a:xfrm>
            <a:custGeom>
              <a:avLst/>
              <a:gdLst/>
              <a:ahLst/>
              <a:rect l="l" t="t" r="r" b="b"/>
              <a:pathLst>
                <a:path w="1550" h="226">
                  <a:moveTo>
                    <a:pt x="1550" y="226"/>
                  </a:moveTo>
                  <a:cubicBezTo>
                    <a:pt x="1493" y="194"/>
                    <a:pt x="1463" y="70"/>
                    <a:pt x="1205" y="35"/>
                  </a:cubicBezTo>
                  <a:cubicBezTo>
                    <a:pt x="947" y="0"/>
                    <a:pt x="484" y="12"/>
                    <a:pt x="0" y="19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8" name=""/>
            <p:cNvSpPr/>
            <p:nvPr/>
          </p:nvSpPr>
          <p:spPr>
            <a:xfrm>
              <a:off x="71280" y="-52560"/>
              <a:ext cx="4294440" cy="5026320"/>
            </a:xfrm>
            <a:custGeom>
              <a:avLst/>
              <a:gdLst/>
              <a:ahLst/>
              <a:rect l="l" t="t" r="r" b="b"/>
              <a:pathLst>
                <a:path w="2705" h="3166">
                  <a:moveTo>
                    <a:pt x="1999" y="526"/>
                  </a:moveTo>
                  <a:cubicBezTo>
                    <a:pt x="1940" y="473"/>
                    <a:pt x="1920" y="270"/>
                    <a:pt x="1638" y="208"/>
                  </a:cubicBezTo>
                  <a:cubicBezTo>
                    <a:pt x="1356" y="146"/>
                    <a:pt x="570" y="0"/>
                    <a:pt x="306" y="154"/>
                  </a:cubicBezTo>
                  <a:cubicBezTo>
                    <a:pt x="42" y="308"/>
                    <a:pt x="0" y="678"/>
                    <a:pt x="56" y="1132"/>
                  </a:cubicBezTo>
                  <a:cubicBezTo>
                    <a:pt x="112" y="1586"/>
                    <a:pt x="199" y="2590"/>
                    <a:pt x="640" y="2878"/>
                  </a:cubicBezTo>
                  <a:cubicBezTo>
                    <a:pt x="1081" y="3166"/>
                    <a:pt x="2275" y="2862"/>
                    <a:pt x="2705" y="2858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9" name=""/>
            <p:cNvSpPr/>
            <p:nvPr/>
          </p:nvSpPr>
          <p:spPr>
            <a:xfrm>
              <a:off x="7434360" y="3195720"/>
              <a:ext cx="1646280" cy="3287520"/>
            </a:xfrm>
            <a:custGeom>
              <a:avLst/>
              <a:gdLst/>
              <a:ahLst/>
              <a:rect l="l" t="t" r="r" b="b"/>
              <a:pathLst>
                <a:path w="1037" h="2071">
                  <a:moveTo>
                    <a:pt x="717" y="63"/>
                  </a:moveTo>
                  <a:cubicBezTo>
                    <a:pt x="750" y="75"/>
                    <a:pt x="867" y="0"/>
                    <a:pt x="913" y="132"/>
                  </a:cubicBezTo>
                  <a:cubicBezTo>
                    <a:pt x="959" y="264"/>
                    <a:pt x="1000" y="562"/>
                    <a:pt x="993" y="854"/>
                  </a:cubicBezTo>
                  <a:cubicBezTo>
                    <a:pt x="986" y="1146"/>
                    <a:pt x="1037" y="1697"/>
                    <a:pt x="871" y="1884"/>
                  </a:cubicBezTo>
                  <a:cubicBezTo>
                    <a:pt x="705" y="2071"/>
                    <a:pt x="181" y="1955"/>
                    <a:pt x="0" y="1974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0" name=""/>
            <p:cNvSpPr/>
            <p:nvPr/>
          </p:nvSpPr>
          <p:spPr>
            <a:xfrm>
              <a:off x="2681280" y="4492800"/>
              <a:ext cx="1744560" cy="2023920"/>
            </a:xfrm>
            <a:custGeom>
              <a:avLst/>
              <a:gdLst/>
              <a:ahLst/>
              <a:rect l="l" t="t" r="r" b="b"/>
              <a:pathLst>
                <a:path w="1099" h="1275">
                  <a:moveTo>
                    <a:pt x="1099" y="1184"/>
                  </a:moveTo>
                  <a:cubicBezTo>
                    <a:pt x="946" y="1173"/>
                    <a:pt x="342" y="1275"/>
                    <a:pt x="180" y="1120"/>
                  </a:cubicBezTo>
                  <a:cubicBezTo>
                    <a:pt x="18" y="965"/>
                    <a:pt x="0" y="442"/>
                    <a:pt x="127" y="255"/>
                  </a:cubicBezTo>
                  <a:cubicBezTo>
                    <a:pt x="254" y="68"/>
                    <a:pt x="775" y="53"/>
                    <a:pt x="945" y="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1" name=""/>
            <p:cNvSpPr/>
            <p:nvPr/>
          </p:nvSpPr>
          <p:spPr>
            <a:xfrm>
              <a:off x="3036960" y="0"/>
              <a:ext cx="3824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Akutní metabolická acidóz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72" name=""/>
            <p:cNvGrpSpPr/>
            <p:nvPr/>
          </p:nvGrpSpPr>
          <p:grpSpPr>
            <a:xfrm>
              <a:off x="0" y="4673520"/>
              <a:ext cx="2573280" cy="1969200"/>
              <a:chOff x="0" y="4673520"/>
              <a:chExt cx="2573280" cy="1969200"/>
            </a:xfrm>
          </p:grpSpPr>
          <p:grpSp>
            <p:nvGrpSpPr>
              <p:cNvPr id="12073" name=""/>
              <p:cNvGrpSpPr/>
              <p:nvPr/>
            </p:nvGrpSpPr>
            <p:grpSpPr>
              <a:xfrm>
                <a:off x="244440" y="4772160"/>
                <a:ext cx="2260440" cy="1868040"/>
                <a:chOff x="244440" y="4772160"/>
                <a:chExt cx="2260440" cy="1868040"/>
              </a:xfrm>
            </p:grpSpPr>
            <p:sp>
              <p:nvSpPr>
                <p:cNvPr id="12074" name=""/>
                <p:cNvSpPr/>
                <p:nvPr/>
              </p:nvSpPr>
              <p:spPr>
                <a:xfrm>
                  <a:off x="244440" y="4772160"/>
                  <a:ext cx="2248560" cy="18615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075" name=""/>
                <p:cNvGrpSpPr/>
                <p:nvPr/>
              </p:nvGrpSpPr>
              <p:grpSpPr>
                <a:xfrm>
                  <a:off x="268560" y="4775760"/>
                  <a:ext cx="2206440" cy="1833120"/>
                  <a:chOff x="268560" y="4775760"/>
                  <a:chExt cx="2206440" cy="1833120"/>
                </a:xfrm>
              </p:grpSpPr>
              <p:sp>
                <p:nvSpPr>
                  <p:cNvPr id="12076" name=""/>
                  <p:cNvSpPr/>
                  <p:nvPr/>
                </p:nvSpPr>
                <p:spPr>
                  <a:xfrm>
                    <a:off x="522720" y="5971320"/>
                    <a:ext cx="717840" cy="637560"/>
                  </a:xfrm>
                  <a:custGeom>
                    <a:avLst/>
                    <a:gdLst/>
                    <a:ahLst/>
                    <a:rect l="l" t="t" r="r" b="b"/>
                    <a:pathLst>
                      <a:path w="1363" h="1020">
                        <a:moveTo>
                          <a:pt x="1030" y="0"/>
                        </a:moveTo>
                        <a:cubicBezTo>
                          <a:pt x="931" y="41"/>
                          <a:pt x="847" y="229"/>
                          <a:pt x="768" y="317"/>
                        </a:cubicBezTo>
                        <a:cubicBezTo>
                          <a:pt x="689" y="405"/>
                          <a:pt x="641" y="450"/>
                          <a:pt x="557" y="528"/>
                        </a:cubicBezTo>
                        <a:cubicBezTo>
                          <a:pt x="473" y="606"/>
                          <a:pt x="360" y="706"/>
                          <a:pt x="267" y="788"/>
                        </a:cubicBezTo>
                        <a:cubicBezTo>
                          <a:pt x="174" y="870"/>
                          <a:pt x="118" y="922"/>
                          <a:pt x="0" y="1020"/>
                        </a:cubicBezTo>
                        <a:cubicBezTo>
                          <a:pt x="111" y="1018"/>
                          <a:pt x="195" y="1018"/>
                          <a:pt x="267" y="1016"/>
                        </a:cubicBezTo>
                        <a:cubicBezTo>
                          <a:pt x="379" y="932"/>
                          <a:pt x="586" y="755"/>
                          <a:pt x="694" y="665"/>
                        </a:cubicBezTo>
                        <a:cubicBezTo>
                          <a:pt x="802" y="575"/>
                          <a:pt x="853" y="531"/>
                          <a:pt x="917" y="476"/>
                        </a:cubicBezTo>
                        <a:cubicBezTo>
                          <a:pt x="981" y="421"/>
                          <a:pt x="1027" y="381"/>
                          <a:pt x="1078" y="334"/>
                        </a:cubicBezTo>
                        <a:cubicBezTo>
                          <a:pt x="1129" y="287"/>
                          <a:pt x="1176" y="241"/>
                          <a:pt x="1224" y="197"/>
                        </a:cubicBezTo>
                        <a:lnTo>
                          <a:pt x="1363" y="70"/>
                        </a:lnTo>
                        <a:lnTo>
                          <a:pt x="1030" y="0"/>
                        </a:lnTo>
                        <a:close/>
                      </a:path>
                    </a:pathLst>
                  </a:custGeom>
                  <a:solidFill>
                    <a:srgbClr val="b2b2b2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77" name=""/>
                  <p:cNvSpPr/>
                  <p:nvPr/>
                </p:nvSpPr>
                <p:spPr>
                  <a:xfrm>
                    <a:off x="1308240" y="5126040"/>
                    <a:ext cx="1058040" cy="71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009" h="1148">
                        <a:moveTo>
                          <a:pt x="38" y="811"/>
                        </a:moveTo>
                        <a:cubicBezTo>
                          <a:pt x="30" y="770"/>
                          <a:pt x="0" y="826"/>
                          <a:pt x="329" y="691"/>
                        </a:cubicBezTo>
                        <a:lnTo>
                          <a:pt x="2009" y="0"/>
                        </a:lnTo>
                        <a:lnTo>
                          <a:pt x="2009" y="742"/>
                        </a:lnTo>
                        <a:lnTo>
                          <a:pt x="941" y="1148"/>
                        </a:lnTo>
                        <a:lnTo>
                          <a:pt x="38" y="1137"/>
                        </a:lnTo>
                        <a:lnTo>
                          <a:pt x="38" y="811"/>
                        </a:lnTo>
                        <a:close/>
                      </a:path>
                    </a:pathLst>
                  </a:custGeom>
                  <a:solidFill>
                    <a:srgbClr val="b2b2b2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78" name=""/>
                  <p:cNvSpPr/>
                  <p:nvPr/>
                </p:nvSpPr>
                <p:spPr>
                  <a:xfrm>
                    <a:off x="1183320" y="4780080"/>
                    <a:ext cx="673200" cy="11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278" h="1787">
                        <a:moveTo>
                          <a:pt x="0" y="1673"/>
                        </a:moveTo>
                        <a:lnTo>
                          <a:pt x="189" y="1341"/>
                        </a:lnTo>
                        <a:cubicBezTo>
                          <a:pt x="283" y="1169"/>
                          <a:pt x="458" y="843"/>
                          <a:pt x="566" y="638"/>
                        </a:cubicBezTo>
                        <a:cubicBezTo>
                          <a:pt x="674" y="433"/>
                          <a:pt x="781" y="213"/>
                          <a:pt x="835" y="107"/>
                        </a:cubicBezTo>
                        <a:lnTo>
                          <a:pt x="892" y="0"/>
                        </a:lnTo>
                        <a:lnTo>
                          <a:pt x="1278" y="2"/>
                        </a:lnTo>
                        <a:lnTo>
                          <a:pt x="1052" y="433"/>
                        </a:lnTo>
                        <a:cubicBezTo>
                          <a:pt x="925" y="674"/>
                          <a:pt x="635" y="1224"/>
                          <a:pt x="515" y="1450"/>
                        </a:cubicBezTo>
                        <a:lnTo>
                          <a:pt x="332" y="1787"/>
                        </a:lnTo>
                        <a:lnTo>
                          <a:pt x="0" y="1673"/>
                        </a:lnTo>
                        <a:close/>
                      </a:path>
                    </a:pathLst>
                  </a:custGeom>
                  <a:solidFill>
                    <a:srgbClr val="b2b2b2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79" name=""/>
                  <p:cNvSpPr/>
                  <p:nvPr/>
                </p:nvSpPr>
                <p:spPr>
                  <a:xfrm>
                    <a:off x="268560" y="5994000"/>
                    <a:ext cx="854640" cy="571680"/>
                  </a:xfrm>
                  <a:custGeom>
                    <a:avLst/>
                    <a:gdLst/>
                    <a:ahLst/>
                    <a:rect l="l" t="t" r="r" b="b"/>
                    <a:pathLst>
                      <a:path w="1623" h="914">
                        <a:moveTo>
                          <a:pt x="1206" y="23"/>
                        </a:moveTo>
                        <a:lnTo>
                          <a:pt x="0" y="680"/>
                        </a:lnTo>
                        <a:lnTo>
                          <a:pt x="0" y="914"/>
                        </a:lnTo>
                        <a:lnTo>
                          <a:pt x="1623" y="0"/>
                        </a:lnTo>
                      </a:path>
                    </a:pathLst>
                  </a:custGeom>
                  <a:solidFill>
                    <a:srgbClr val="b2b2b2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80" name=""/>
                  <p:cNvSpPr/>
                  <p:nvPr/>
                </p:nvSpPr>
                <p:spPr>
                  <a:xfrm>
                    <a:off x="283680" y="4775760"/>
                    <a:ext cx="2191320" cy="1830960"/>
                  </a:xfrm>
                  <a:custGeom>
                    <a:avLst/>
                    <a:gdLst/>
                    <a:ahLst/>
                    <a:rect l="l" t="t" r="r" b="b"/>
                    <a:pathLst>
                      <a:path w="4160" h="2928">
                        <a:moveTo>
                          <a:pt x="0" y="1645"/>
                        </a:moveTo>
                        <a:lnTo>
                          <a:pt x="1611" y="1645"/>
                        </a:lnTo>
                        <a:lnTo>
                          <a:pt x="1617" y="1451"/>
                        </a:lnTo>
                        <a:cubicBezTo>
                          <a:pt x="1600" y="1366"/>
                          <a:pt x="1537" y="1273"/>
                          <a:pt x="1508" y="1137"/>
                        </a:cubicBezTo>
                        <a:cubicBezTo>
                          <a:pt x="1479" y="1001"/>
                          <a:pt x="1466" y="783"/>
                          <a:pt x="1440" y="634"/>
                        </a:cubicBezTo>
                        <a:cubicBezTo>
                          <a:pt x="1414" y="485"/>
                          <a:pt x="1388" y="345"/>
                          <a:pt x="1354" y="240"/>
                        </a:cubicBezTo>
                        <a:lnTo>
                          <a:pt x="1234" y="2"/>
                        </a:lnTo>
                        <a:lnTo>
                          <a:pt x="1472" y="0"/>
                        </a:lnTo>
                        <a:cubicBezTo>
                          <a:pt x="1534" y="62"/>
                          <a:pt x="1570" y="242"/>
                          <a:pt x="1605" y="377"/>
                        </a:cubicBezTo>
                        <a:cubicBezTo>
                          <a:pt x="1640" y="512"/>
                          <a:pt x="1657" y="692"/>
                          <a:pt x="1680" y="811"/>
                        </a:cubicBezTo>
                        <a:cubicBezTo>
                          <a:pt x="1703" y="930"/>
                          <a:pt x="1712" y="982"/>
                          <a:pt x="1743" y="1091"/>
                        </a:cubicBezTo>
                        <a:cubicBezTo>
                          <a:pt x="1774" y="1200"/>
                          <a:pt x="1829" y="1376"/>
                          <a:pt x="1868" y="1468"/>
                        </a:cubicBezTo>
                        <a:lnTo>
                          <a:pt x="1977" y="1645"/>
                        </a:lnTo>
                        <a:lnTo>
                          <a:pt x="2926" y="1651"/>
                        </a:lnTo>
                        <a:lnTo>
                          <a:pt x="4160" y="1657"/>
                        </a:lnTo>
                        <a:lnTo>
                          <a:pt x="4160" y="2000"/>
                        </a:lnTo>
                        <a:lnTo>
                          <a:pt x="1926" y="2000"/>
                        </a:lnTo>
                        <a:lnTo>
                          <a:pt x="1914" y="2422"/>
                        </a:lnTo>
                        <a:lnTo>
                          <a:pt x="1913" y="2928"/>
                        </a:lnTo>
                        <a:lnTo>
                          <a:pt x="1611" y="2925"/>
                        </a:lnTo>
                        <a:lnTo>
                          <a:pt x="1605" y="2005"/>
                        </a:lnTo>
                        <a:lnTo>
                          <a:pt x="0" y="2005"/>
                        </a:lnTo>
                        <a:lnTo>
                          <a:pt x="0" y="1645"/>
                        </a:lnTo>
                        <a:close/>
                      </a:path>
                    </a:pathLst>
                  </a:custGeom>
                  <a:solidFill>
                    <a:srgbClr val="ffff66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2081" name=""/>
                <p:cNvSpPr/>
                <p:nvPr/>
              </p:nvSpPr>
              <p:spPr>
                <a:xfrm>
                  <a:off x="250560" y="4778640"/>
                  <a:ext cx="0" cy="18615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82" name=""/>
                <p:cNvSpPr/>
                <p:nvPr/>
              </p:nvSpPr>
              <p:spPr>
                <a:xfrm>
                  <a:off x="247320" y="6633720"/>
                  <a:ext cx="22575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083" name=""/>
              <p:cNvSpPr/>
              <p:nvPr/>
            </p:nvSpPr>
            <p:spPr>
              <a:xfrm>
                <a:off x="0" y="4673520"/>
                <a:ext cx="851040" cy="38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1800" spc="-1" strike="noStrike">
                    <a:solidFill>
                      <a:srgbClr val="000000"/>
                    </a:solidFill>
                    <a:latin typeface="Times New Roman"/>
                  </a:rPr>
                  <a:t>P</a:t>
                </a:r>
                <a:r>
                  <a:rPr b="1" lang="cs-CZ" sz="1400" spc="-1" strike="noStrike">
                    <a:solidFill>
                      <a:srgbClr val="000000"/>
                    </a:solidFill>
                    <a:latin typeface="Times New Roman"/>
                  </a:rPr>
                  <a:t>CO</a:t>
                </a:r>
                <a:r>
                  <a:rPr b="1" lang="cs-CZ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84" name=""/>
              <p:cNvSpPr/>
              <p:nvPr/>
            </p:nvSpPr>
            <p:spPr>
              <a:xfrm>
                <a:off x="2139840" y="6335640"/>
                <a:ext cx="433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1400" spc="-1" strike="noStrike">
                    <a:solidFill>
                      <a:srgbClr val="000000"/>
                    </a:solidFill>
                    <a:latin typeface="Times New Roman"/>
                  </a:rPr>
                  <a:t>B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085" name=""/>
            <p:cNvSpPr/>
            <p:nvPr/>
          </p:nvSpPr>
          <p:spPr>
            <a:xfrm flipH="1">
              <a:off x="517680" y="5923080"/>
              <a:ext cx="698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86" name=""/>
          <p:cNvGrpSpPr/>
          <p:nvPr/>
        </p:nvGrpSpPr>
        <p:grpSpPr>
          <a:xfrm>
            <a:off x="0" y="0"/>
            <a:ext cx="9043920" cy="6642720"/>
            <a:chOff x="0" y="0"/>
            <a:chExt cx="9043920" cy="6642720"/>
          </a:xfrm>
        </p:grpSpPr>
        <p:sp>
          <p:nvSpPr>
            <p:cNvPr id="12087" name=""/>
            <p:cNvSpPr/>
            <p:nvPr/>
          </p:nvSpPr>
          <p:spPr>
            <a:xfrm>
              <a:off x="7932600" y="4022640"/>
              <a:ext cx="1111320" cy="1036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8" name=""/>
            <p:cNvSpPr/>
            <p:nvPr/>
          </p:nvSpPr>
          <p:spPr>
            <a:xfrm>
              <a:off x="7924680" y="4202280"/>
              <a:ext cx="1111320" cy="84276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9" name=""/>
            <p:cNvSpPr/>
            <p:nvPr/>
          </p:nvSpPr>
          <p:spPr>
            <a:xfrm>
              <a:off x="5400720" y="3314880"/>
              <a:ext cx="579240" cy="766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0" name=""/>
            <p:cNvSpPr/>
            <p:nvPr/>
          </p:nvSpPr>
          <p:spPr>
            <a:xfrm>
              <a:off x="5398920" y="3465360"/>
              <a:ext cx="579600" cy="62388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1" name=""/>
            <p:cNvSpPr/>
            <p:nvPr/>
          </p:nvSpPr>
          <p:spPr>
            <a:xfrm>
              <a:off x="5415120" y="1477800"/>
              <a:ext cx="1110960" cy="606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2" name=""/>
            <p:cNvSpPr/>
            <p:nvPr/>
          </p:nvSpPr>
          <p:spPr>
            <a:xfrm>
              <a:off x="5413320" y="1627200"/>
              <a:ext cx="1111320" cy="51588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3" name=""/>
            <p:cNvSpPr/>
            <p:nvPr/>
          </p:nvSpPr>
          <p:spPr>
            <a:xfrm>
              <a:off x="3011400" y="2360520"/>
              <a:ext cx="1135080" cy="766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4" name=""/>
            <p:cNvSpPr/>
            <p:nvPr/>
          </p:nvSpPr>
          <p:spPr>
            <a:xfrm>
              <a:off x="3002040" y="2513160"/>
              <a:ext cx="1144440" cy="62388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5" name=""/>
            <p:cNvSpPr/>
            <p:nvPr/>
          </p:nvSpPr>
          <p:spPr>
            <a:xfrm>
              <a:off x="882720" y="1332000"/>
              <a:ext cx="927000" cy="766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6" name=""/>
            <p:cNvSpPr/>
            <p:nvPr/>
          </p:nvSpPr>
          <p:spPr>
            <a:xfrm>
              <a:off x="884160" y="1492200"/>
              <a:ext cx="927000" cy="62388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7" name=""/>
            <p:cNvSpPr/>
            <p:nvPr/>
          </p:nvSpPr>
          <p:spPr>
            <a:xfrm>
              <a:off x="5526000" y="3592440"/>
              <a:ext cx="9720" cy="293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8" name=""/>
            <p:cNvSpPr/>
            <p:nvPr/>
          </p:nvSpPr>
          <p:spPr>
            <a:xfrm>
              <a:off x="1021320" y="1530360"/>
              <a:ext cx="736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Arial"/>
                </a:rPr>
                <a:t>CO</a:t>
              </a:r>
              <a:r>
                <a:rPr b="1" lang="cs-CZ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9" name=""/>
            <p:cNvSpPr/>
            <p:nvPr/>
          </p:nvSpPr>
          <p:spPr>
            <a:xfrm>
              <a:off x="1029240" y="3576600"/>
              <a:ext cx="736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cs-CZ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cs-CZ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0" name=""/>
            <p:cNvSpPr/>
            <p:nvPr/>
          </p:nvSpPr>
          <p:spPr>
            <a:xfrm>
              <a:off x="3116160" y="2579760"/>
              <a:ext cx="1055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cs-CZ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cs-CZ" sz="2400" spc="-1" strike="noStrike">
                  <a:solidFill>
                    <a:srgbClr val="000000"/>
                  </a:solidFill>
                  <a:latin typeface="Arial"/>
                </a:rPr>
                <a:t>CO</a:t>
              </a:r>
              <a:r>
                <a:rPr b="1" lang="cs-CZ" sz="2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1" name=""/>
            <p:cNvSpPr/>
            <p:nvPr/>
          </p:nvSpPr>
          <p:spPr>
            <a:xfrm>
              <a:off x="5571720" y="1623960"/>
              <a:ext cx="956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Arial"/>
                </a:rPr>
                <a:t>HCO</a:t>
              </a:r>
              <a:r>
                <a:rPr b="1" lang="cs-CZ" sz="2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2" name=""/>
            <p:cNvSpPr/>
            <p:nvPr/>
          </p:nvSpPr>
          <p:spPr>
            <a:xfrm>
              <a:off x="5540400" y="3516480"/>
              <a:ext cx="52380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cs-CZ" sz="2400" spc="-1" strike="noStrike" baseline="7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103" name=""/>
            <p:cNvGrpSpPr/>
            <p:nvPr/>
          </p:nvGrpSpPr>
          <p:grpSpPr>
            <a:xfrm>
              <a:off x="4173480" y="1779480"/>
              <a:ext cx="1222560" cy="2038320"/>
              <a:chOff x="4173480" y="1779480"/>
              <a:chExt cx="1222560" cy="2038320"/>
            </a:xfrm>
          </p:grpSpPr>
          <p:sp>
            <p:nvSpPr>
              <p:cNvPr id="12104" name=""/>
              <p:cNvSpPr/>
              <p:nvPr/>
            </p:nvSpPr>
            <p:spPr>
              <a:xfrm>
                <a:off x="4173480" y="1779480"/>
                <a:ext cx="1222560" cy="1023840"/>
              </a:xfrm>
              <a:custGeom>
                <a:avLst/>
                <a:gdLst/>
                <a:ahLst/>
                <a:rect l="l" t="t" r="r" b="b"/>
                <a:pathLst>
                  <a:path w="866" h="645">
                    <a:moveTo>
                      <a:pt x="0" y="645"/>
                    </a:moveTo>
                    <a:lnTo>
                      <a:pt x="442" y="645"/>
                    </a:lnTo>
                    <a:cubicBezTo>
                      <a:pt x="528" y="627"/>
                      <a:pt x="503" y="630"/>
                      <a:pt x="515" y="538"/>
                    </a:cubicBezTo>
                    <a:lnTo>
                      <a:pt x="515" y="91"/>
                    </a:lnTo>
                    <a:cubicBezTo>
                      <a:pt x="530" y="1"/>
                      <a:pt x="548" y="15"/>
                      <a:pt x="606" y="0"/>
                    </a:cubicBezTo>
                    <a:lnTo>
                      <a:pt x="866" y="0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05" name=""/>
              <p:cNvSpPr/>
              <p:nvPr/>
            </p:nvSpPr>
            <p:spPr>
              <a:xfrm flipV="1">
                <a:off x="4173480" y="2793960"/>
                <a:ext cx="1222560" cy="1023840"/>
              </a:xfrm>
              <a:custGeom>
                <a:avLst/>
                <a:gdLst/>
                <a:ahLst/>
                <a:rect l="l" t="t" r="r" b="b"/>
                <a:pathLst>
                  <a:path w="866" h="645">
                    <a:moveTo>
                      <a:pt x="0" y="645"/>
                    </a:moveTo>
                    <a:lnTo>
                      <a:pt x="442" y="645"/>
                    </a:lnTo>
                    <a:cubicBezTo>
                      <a:pt x="528" y="627"/>
                      <a:pt x="503" y="630"/>
                      <a:pt x="515" y="538"/>
                    </a:cubicBezTo>
                    <a:lnTo>
                      <a:pt x="515" y="91"/>
                    </a:lnTo>
                    <a:cubicBezTo>
                      <a:pt x="530" y="1"/>
                      <a:pt x="548" y="15"/>
                      <a:pt x="606" y="0"/>
                    </a:cubicBezTo>
                    <a:lnTo>
                      <a:pt x="866" y="0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106" name=""/>
            <p:cNvGrpSpPr/>
            <p:nvPr/>
          </p:nvGrpSpPr>
          <p:grpSpPr>
            <a:xfrm>
              <a:off x="1836720" y="1778040"/>
              <a:ext cx="1130400" cy="2038320"/>
              <a:chOff x="1836720" y="1778040"/>
              <a:chExt cx="1130400" cy="2038320"/>
            </a:xfrm>
          </p:grpSpPr>
          <p:sp>
            <p:nvSpPr>
              <p:cNvPr id="12107" name=""/>
              <p:cNvSpPr/>
              <p:nvPr/>
            </p:nvSpPr>
            <p:spPr>
              <a:xfrm flipH="1">
                <a:off x="1836720" y="1778040"/>
                <a:ext cx="1130400" cy="1023840"/>
              </a:xfrm>
              <a:custGeom>
                <a:avLst/>
                <a:gdLst/>
                <a:ahLst/>
                <a:rect l="l" t="t" r="r" b="b"/>
                <a:pathLst>
                  <a:path w="866" h="645">
                    <a:moveTo>
                      <a:pt x="0" y="645"/>
                    </a:moveTo>
                    <a:lnTo>
                      <a:pt x="442" y="645"/>
                    </a:lnTo>
                    <a:cubicBezTo>
                      <a:pt x="528" y="627"/>
                      <a:pt x="503" y="630"/>
                      <a:pt x="515" y="538"/>
                    </a:cubicBezTo>
                    <a:lnTo>
                      <a:pt x="515" y="91"/>
                    </a:lnTo>
                    <a:cubicBezTo>
                      <a:pt x="530" y="1"/>
                      <a:pt x="548" y="15"/>
                      <a:pt x="606" y="0"/>
                    </a:cubicBezTo>
                    <a:lnTo>
                      <a:pt x="866" y="0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08" name=""/>
              <p:cNvSpPr/>
              <p:nvPr/>
            </p:nvSpPr>
            <p:spPr>
              <a:xfrm flipH="1" flipV="1">
                <a:off x="1836720" y="2792520"/>
                <a:ext cx="1130400" cy="1023840"/>
              </a:xfrm>
              <a:custGeom>
                <a:avLst/>
                <a:gdLst/>
                <a:ahLst/>
                <a:rect l="l" t="t" r="r" b="b"/>
                <a:pathLst>
                  <a:path w="866" h="645">
                    <a:moveTo>
                      <a:pt x="0" y="645"/>
                    </a:moveTo>
                    <a:lnTo>
                      <a:pt x="442" y="645"/>
                    </a:lnTo>
                    <a:cubicBezTo>
                      <a:pt x="528" y="627"/>
                      <a:pt x="503" y="630"/>
                      <a:pt x="515" y="538"/>
                    </a:cubicBezTo>
                    <a:lnTo>
                      <a:pt x="515" y="91"/>
                    </a:lnTo>
                    <a:cubicBezTo>
                      <a:pt x="530" y="1"/>
                      <a:pt x="548" y="15"/>
                      <a:pt x="606" y="0"/>
                    </a:cubicBezTo>
                    <a:lnTo>
                      <a:pt x="866" y="0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aphicFrame>
          <p:nvGraphicFramePr>
            <p:cNvPr id="12109" name=""/>
            <p:cNvGraphicFramePr/>
            <p:nvPr/>
          </p:nvGraphicFramePr>
          <p:xfrm>
            <a:off x="669960" y="74520"/>
            <a:ext cx="1039680" cy="7732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211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69960" y="74520"/>
                      <a:ext cx="1039680" cy="773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111" name=""/>
            <p:cNvSpPr/>
            <p:nvPr/>
          </p:nvSpPr>
          <p:spPr>
            <a:xfrm flipH="1">
              <a:off x="167400" y="1484280"/>
              <a:ext cx="72396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2" name=""/>
            <p:cNvSpPr/>
            <p:nvPr/>
          </p:nvSpPr>
          <p:spPr>
            <a:xfrm flipH="1">
              <a:off x="502560" y="1441440"/>
              <a:ext cx="36360" cy="17640"/>
            </a:xfrm>
            <a:prstGeom prst="ellipse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3" name=""/>
            <p:cNvSpPr/>
            <p:nvPr/>
          </p:nvSpPr>
          <p:spPr>
            <a:xfrm>
              <a:off x="122400" y="801720"/>
              <a:ext cx="243036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400" spc="-1" strike="noStrike">
                  <a:solidFill>
                    <a:srgbClr val="000000"/>
                  </a:solidFill>
                  <a:latin typeface="Times New Roman"/>
                </a:rPr>
                <a:t>2.</a:t>
              </a:r>
              <a:r>
                <a:rPr b="1" lang="cs-CZ" sz="1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 Regulační zásah respirace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cs-CZ" sz="1400" spc="-1" strike="noStrike">
                  <a:solidFill>
                    <a:srgbClr val="000000"/>
                  </a:solidFill>
                  <a:latin typeface="Times New Roman"/>
                </a:rPr>
                <a:t>snížení hladiny CO</a:t>
              </a:r>
              <a:r>
                <a:rPr b="1" lang="cs-CZ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4" name=""/>
            <p:cNvSpPr/>
            <p:nvPr/>
          </p:nvSpPr>
          <p:spPr>
            <a:xfrm>
              <a:off x="6044400" y="2911320"/>
              <a:ext cx="1846800" cy="52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400" spc="-1" strike="noStrike">
                  <a:solidFill>
                    <a:srgbClr val="000000"/>
                  </a:solidFill>
                  <a:latin typeface="Times New Roman"/>
                </a:rPr>
                <a:t>1.</a:t>
              </a:r>
              <a:r>
                <a:rPr b="1" lang="cs-CZ" sz="1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 Primární porucha: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400" spc="-1" strike="noStrike">
                  <a:solidFill>
                    <a:srgbClr val="000000"/>
                  </a:solidFill>
                  <a:latin typeface="Times New Roman"/>
                </a:rPr>
                <a:t>retence H</a:t>
              </a:r>
              <a:r>
                <a:rPr b="1" lang="cs-CZ" sz="1400" spc="-1" strike="noStrike" baseline="46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115" name=""/>
            <p:cNvGrpSpPr/>
            <p:nvPr/>
          </p:nvGrpSpPr>
          <p:grpSpPr>
            <a:xfrm>
              <a:off x="5418000" y="2340000"/>
              <a:ext cx="560520" cy="917640"/>
              <a:chOff x="5418000" y="2340000"/>
              <a:chExt cx="560520" cy="917640"/>
            </a:xfrm>
          </p:grpSpPr>
          <p:sp>
            <p:nvSpPr>
              <p:cNvPr id="12116" name=""/>
              <p:cNvSpPr/>
              <p:nvPr/>
            </p:nvSpPr>
            <p:spPr>
              <a:xfrm>
                <a:off x="5422680" y="2409840"/>
                <a:ext cx="551160" cy="630360"/>
              </a:xfrm>
              <a:custGeom>
                <a:avLst/>
                <a:gdLst/>
                <a:ahLst/>
                <a:rect l="l" t="t" r="r" b="b"/>
                <a:pathLst>
                  <a:path w="2256" h="2295">
                    <a:moveTo>
                      <a:pt x="0" y="0"/>
                    </a:moveTo>
                    <a:lnTo>
                      <a:pt x="939" y="1180"/>
                    </a:lnTo>
                    <a:lnTo>
                      <a:pt x="980" y="2175"/>
                    </a:lnTo>
                    <a:lnTo>
                      <a:pt x="983" y="2202"/>
                    </a:lnTo>
                    <a:lnTo>
                      <a:pt x="991" y="2221"/>
                    </a:lnTo>
                    <a:lnTo>
                      <a:pt x="1000" y="2235"/>
                    </a:lnTo>
                    <a:lnTo>
                      <a:pt x="1010" y="2246"/>
                    </a:lnTo>
                    <a:lnTo>
                      <a:pt x="1024" y="2260"/>
                    </a:lnTo>
                    <a:lnTo>
                      <a:pt x="1038" y="2268"/>
                    </a:lnTo>
                    <a:lnTo>
                      <a:pt x="1060" y="2281"/>
                    </a:lnTo>
                    <a:lnTo>
                      <a:pt x="1083" y="2287"/>
                    </a:lnTo>
                    <a:lnTo>
                      <a:pt x="1111" y="2293"/>
                    </a:lnTo>
                    <a:lnTo>
                      <a:pt x="1128" y="2295"/>
                    </a:lnTo>
                    <a:lnTo>
                      <a:pt x="1145" y="2295"/>
                    </a:lnTo>
                    <a:lnTo>
                      <a:pt x="1163" y="2292"/>
                    </a:lnTo>
                    <a:lnTo>
                      <a:pt x="1183" y="2286"/>
                    </a:lnTo>
                    <a:lnTo>
                      <a:pt x="1202" y="2279"/>
                    </a:lnTo>
                    <a:lnTo>
                      <a:pt x="1221" y="2268"/>
                    </a:lnTo>
                    <a:lnTo>
                      <a:pt x="1235" y="2259"/>
                    </a:lnTo>
                    <a:lnTo>
                      <a:pt x="1251" y="2243"/>
                    </a:lnTo>
                    <a:lnTo>
                      <a:pt x="1262" y="2227"/>
                    </a:lnTo>
                    <a:lnTo>
                      <a:pt x="1273" y="2203"/>
                    </a:lnTo>
                    <a:lnTo>
                      <a:pt x="1276" y="2181"/>
                    </a:lnTo>
                    <a:lnTo>
                      <a:pt x="1336" y="1161"/>
                    </a:lnTo>
                    <a:lnTo>
                      <a:pt x="225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17" name=""/>
              <p:cNvSpPr/>
              <p:nvPr/>
            </p:nvSpPr>
            <p:spPr>
              <a:xfrm>
                <a:off x="5418000" y="2340000"/>
                <a:ext cx="560520" cy="119160"/>
              </a:xfrm>
              <a:prstGeom prst="ellipse">
                <a:avLst/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18" name=""/>
              <p:cNvSpPr/>
              <p:nvPr/>
            </p:nvSpPr>
            <p:spPr>
              <a:xfrm>
                <a:off x="5462640" y="2427480"/>
                <a:ext cx="476280" cy="593640"/>
              </a:xfrm>
              <a:custGeom>
                <a:avLst/>
                <a:gdLst/>
                <a:ahLst/>
                <a:rect l="l" t="t" r="r" b="b"/>
                <a:pathLst>
                  <a:path w="1956" h="2159">
                    <a:moveTo>
                      <a:pt x="0" y="19"/>
                    </a:moveTo>
                    <a:lnTo>
                      <a:pt x="857" y="1063"/>
                    </a:lnTo>
                    <a:lnTo>
                      <a:pt x="879" y="2090"/>
                    </a:lnTo>
                    <a:lnTo>
                      <a:pt x="887" y="2107"/>
                    </a:lnTo>
                    <a:lnTo>
                      <a:pt x="897" y="2123"/>
                    </a:lnTo>
                    <a:lnTo>
                      <a:pt x="906" y="2137"/>
                    </a:lnTo>
                    <a:lnTo>
                      <a:pt x="922" y="2147"/>
                    </a:lnTo>
                    <a:lnTo>
                      <a:pt x="939" y="2156"/>
                    </a:lnTo>
                    <a:lnTo>
                      <a:pt x="962" y="2159"/>
                    </a:lnTo>
                    <a:lnTo>
                      <a:pt x="983" y="2157"/>
                    </a:lnTo>
                    <a:lnTo>
                      <a:pt x="1005" y="2153"/>
                    </a:lnTo>
                    <a:lnTo>
                      <a:pt x="1026" y="2140"/>
                    </a:lnTo>
                    <a:lnTo>
                      <a:pt x="1040" y="2123"/>
                    </a:lnTo>
                    <a:lnTo>
                      <a:pt x="1048" y="2109"/>
                    </a:lnTo>
                    <a:lnTo>
                      <a:pt x="1056" y="2088"/>
                    </a:lnTo>
                    <a:lnTo>
                      <a:pt x="1100" y="1045"/>
                    </a:lnTo>
                    <a:lnTo>
                      <a:pt x="1956" y="0"/>
                    </a:lnTo>
                    <a:lnTo>
                      <a:pt x="1790" y="41"/>
                    </a:lnTo>
                    <a:lnTo>
                      <a:pt x="1531" y="77"/>
                    </a:lnTo>
                    <a:lnTo>
                      <a:pt x="1247" y="98"/>
                    </a:lnTo>
                    <a:lnTo>
                      <a:pt x="962" y="109"/>
                    </a:lnTo>
                    <a:lnTo>
                      <a:pt x="662" y="98"/>
                    </a:lnTo>
                    <a:lnTo>
                      <a:pt x="398" y="77"/>
                    </a:lnTo>
                    <a:lnTo>
                      <a:pt x="178" y="52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19" name=""/>
              <p:cNvSpPr/>
              <p:nvPr/>
            </p:nvSpPr>
            <p:spPr>
              <a:xfrm>
                <a:off x="5543280" y="2548080"/>
                <a:ext cx="308160" cy="474840"/>
              </a:xfrm>
              <a:custGeom>
                <a:avLst/>
                <a:gdLst/>
                <a:ahLst/>
                <a:rect l="l" t="t" r="r" b="b"/>
                <a:pathLst>
                  <a:path w="1264" h="1728">
                    <a:moveTo>
                      <a:pt x="0" y="0"/>
                    </a:moveTo>
                    <a:lnTo>
                      <a:pt x="520" y="624"/>
                    </a:lnTo>
                    <a:lnTo>
                      <a:pt x="531" y="1657"/>
                    </a:lnTo>
                    <a:lnTo>
                      <a:pt x="541" y="1674"/>
                    </a:lnTo>
                    <a:lnTo>
                      <a:pt x="553" y="1688"/>
                    </a:lnTo>
                    <a:lnTo>
                      <a:pt x="564" y="1701"/>
                    </a:lnTo>
                    <a:lnTo>
                      <a:pt x="580" y="1715"/>
                    </a:lnTo>
                    <a:lnTo>
                      <a:pt x="608" y="1723"/>
                    </a:lnTo>
                    <a:lnTo>
                      <a:pt x="632" y="1728"/>
                    </a:lnTo>
                    <a:lnTo>
                      <a:pt x="651" y="1725"/>
                    </a:lnTo>
                    <a:lnTo>
                      <a:pt x="673" y="1720"/>
                    </a:lnTo>
                    <a:lnTo>
                      <a:pt x="694" y="1709"/>
                    </a:lnTo>
                    <a:lnTo>
                      <a:pt x="711" y="1692"/>
                    </a:lnTo>
                    <a:lnTo>
                      <a:pt x="723" y="1669"/>
                    </a:lnTo>
                    <a:lnTo>
                      <a:pt x="730" y="1657"/>
                    </a:lnTo>
                    <a:lnTo>
                      <a:pt x="761" y="605"/>
                    </a:lnTo>
                    <a:lnTo>
                      <a:pt x="126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20" name=""/>
              <p:cNvSpPr/>
              <p:nvPr/>
            </p:nvSpPr>
            <p:spPr>
              <a:xfrm>
                <a:off x="5673600" y="3048120"/>
                <a:ext cx="49320" cy="101520"/>
              </a:xfrm>
              <a:custGeom>
                <a:avLst/>
                <a:gdLst/>
                <a:ahLst/>
                <a:rect l="l" t="t" r="r" b="b"/>
                <a:pathLst>
                  <a:path w="196" h="370">
                    <a:moveTo>
                      <a:pt x="95" y="0"/>
                    </a:moveTo>
                    <a:lnTo>
                      <a:pt x="105" y="58"/>
                    </a:lnTo>
                    <a:lnTo>
                      <a:pt x="111" y="87"/>
                    </a:lnTo>
                    <a:lnTo>
                      <a:pt x="121" y="121"/>
                    </a:lnTo>
                    <a:lnTo>
                      <a:pt x="132" y="141"/>
                    </a:lnTo>
                    <a:lnTo>
                      <a:pt x="147" y="166"/>
                    </a:lnTo>
                    <a:lnTo>
                      <a:pt x="167" y="193"/>
                    </a:lnTo>
                    <a:lnTo>
                      <a:pt x="184" y="220"/>
                    </a:lnTo>
                    <a:lnTo>
                      <a:pt x="192" y="245"/>
                    </a:lnTo>
                    <a:lnTo>
                      <a:pt x="196" y="278"/>
                    </a:lnTo>
                    <a:lnTo>
                      <a:pt x="189" y="307"/>
                    </a:lnTo>
                    <a:lnTo>
                      <a:pt x="178" y="328"/>
                    </a:lnTo>
                    <a:lnTo>
                      <a:pt x="162" y="345"/>
                    </a:lnTo>
                    <a:lnTo>
                      <a:pt x="141" y="361"/>
                    </a:lnTo>
                    <a:lnTo>
                      <a:pt x="121" y="367"/>
                    </a:lnTo>
                    <a:lnTo>
                      <a:pt x="99" y="370"/>
                    </a:lnTo>
                    <a:lnTo>
                      <a:pt x="76" y="367"/>
                    </a:lnTo>
                    <a:lnTo>
                      <a:pt x="54" y="362"/>
                    </a:lnTo>
                    <a:lnTo>
                      <a:pt x="34" y="350"/>
                    </a:lnTo>
                    <a:lnTo>
                      <a:pt x="19" y="334"/>
                    </a:lnTo>
                    <a:lnTo>
                      <a:pt x="8" y="315"/>
                    </a:lnTo>
                    <a:lnTo>
                      <a:pt x="3" y="296"/>
                    </a:lnTo>
                    <a:lnTo>
                      <a:pt x="0" y="272"/>
                    </a:lnTo>
                    <a:lnTo>
                      <a:pt x="5" y="240"/>
                    </a:lnTo>
                    <a:lnTo>
                      <a:pt x="13" y="218"/>
                    </a:lnTo>
                    <a:lnTo>
                      <a:pt x="30" y="190"/>
                    </a:lnTo>
                    <a:lnTo>
                      <a:pt x="49" y="166"/>
                    </a:lnTo>
                    <a:lnTo>
                      <a:pt x="62" y="140"/>
                    </a:lnTo>
                    <a:lnTo>
                      <a:pt x="72" y="119"/>
                    </a:lnTo>
                    <a:lnTo>
                      <a:pt x="81" y="90"/>
                    </a:lnTo>
                    <a:lnTo>
                      <a:pt x="86" y="58"/>
                    </a:lnTo>
                    <a:lnTo>
                      <a:pt x="95" y="0"/>
                    </a:lnTo>
                    <a:close/>
                  </a:path>
                </a:pathLst>
              </a:cu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21" name=""/>
              <p:cNvSpPr/>
              <p:nvPr/>
            </p:nvSpPr>
            <p:spPr>
              <a:xfrm>
                <a:off x="5446800" y="2351160"/>
                <a:ext cx="502920" cy="96840"/>
              </a:xfrm>
              <a:prstGeom prst="ellips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22" name=""/>
              <p:cNvSpPr/>
              <p:nvPr/>
            </p:nvSpPr>
            <p:spPr>
              <a:xfrm>
                <a:off x="5673600" y="3156120"/>
                <a:ext cx="49320" cy="101520"/>
              </a:xfrm>
              <a:custGeom>
                <a:avLst/>
                <a:gdLst/>
                <a:ahLst/>
                <a:rect l="l" t="t" r="r" b="b"/>
                <a:pathLst>
                  <a:path w="196" h="372">
                    <a:moveTo>
                      <a:pt x="95" y="0"/>
                    </a:moveTo>
                    <a:lnTo>
                      <a:pt x="105" y="60"/>
                    </a:lnTo>
                    <a:lnTo>
                      <a:pt x="111" y="88"/>
                    </a:lnTo>
                    <a:lnTo>
                      <a:pt x="121" y="122"/>
                    </a:lnTo>
                    <a:lnTo>
                      <a:pt x="132" y="143"/>
                    </a:lnTo>
                    <a:lnTo>
                      <a:pt x="147" y="168"/>
                    </a:lnTo>
                    <a:lnTo>
                      <a:pt x="167" y="195"/>
                    </a:lnTo>
                    <a:lnTo>
                      <a:pt x="184" y="221"/>
                    </a:lnTo>
                    <a:lnTo>
                      <a:pt x="192" y="247"/>
                    </a:lnTo>
                    <a:lnTo>
                      <a:pt x="196" y="279"/>
                    </a:lnTo>
                    <a:lnTo>
                      <a:pt x="189" y="308"/>
                    </a:lnTo>
                    <a:lnTo>
                      <a:pt x="178" y="328"/>
                    </a:lnTo>
                    <a:lnTo>
                      <a:pt x="162" y="345"/>
                    </a:lnTo>
                    <a:lnTo>
                      <a:pt x="141" y="361"/>
                    </a:lnTo>
                    <a:lnTo>
                      <a:pt x="121" y="369"/>
                    </a:lnTo>
                    <a:lnTo>
                      <a:pt x="99" y="372"/>
                    </a:lnTo>
                    <a:lnTo>
                      <a:pt x="76" y="369"/>
                    </a:lnTo>
                    <a:lnTo>
                      <a:pt x="54" y="363"/>
                    </a:lnTo>
                    <a:lnTo>
                      <a:pt x="34" y="351"/>
                    </a:lnTo>
                    <a:lnTo>
                      <a:pt x="19" y="336"/>
                    </a:lnTo>
                    <a:lnTo>
                      <a:pt x="8" y="317"/>
                    </a:lnTo>
                    <a:lnTo>
                      <a:pt x="3" y="298"/>
                    </a:lnTo>
                    <a:lnTo>
                      <a:pt x="0" y="272"/>
                    </a:lnTo>
                    <a:lnTo>
                      <a:pt x="5" y="242"/>
                    </a:lnTo>
                    <a:lnTo>
                      <a:pt x="13" y="219"/>
                    </a:lnTo>
                    <a:lnTo>
                      <a:pt x="30" y="191"/>
                    </a:lnTo>
                    <a:lnTo>
                      <a:pt x="49" y="168"/>
                    </a:lnTo>
                    <a:lnTo>
                      <a:pt x="62" y="141"/>
                    </a:lnTo>
                    <a:lnTo>
                      <a:pt x="72" y="120"/>
                    </a:lnTo>
                    <a:lnTo>
                      <a:pt x="81" y="90"/>
                    </a:lnTo>
                    <a:lnTo>
                      <a:pt x="86" y="60"/>
                    </a:lnTo>
                    <a:lnTo>
                      <a:pt x="95" y="0"/>
                    </a:lnTo>
                    <a:close/>
                  </a:path>
                </a:pathLst>
              </a:cu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23" name=""/>
              <p:cNvSpPr/>
              <p:nvPr/>
            </p:nvSpPr>
            <p:spPr>
              <a:xfrm>
                <a:off x="5540400" y="2509920"/>
                <a:ext cx="315720" cy="61920"/>
              </a:xfrm>
              <a:prstGeom prst="ellipse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24" name=""/>
              <p:cNvSpPr/>
              <p:nvPr/>
            </p:nvSpPr>
            <p:spPr>
              <a:xfrm>
                <a:off x="5676840" y="2982960"/>
                <a:ext cx="41400" cy="47880"/>
              </a:xfrm>
              <a:prstGeom prst="ellipse">
                <a:avLst/>
              </a:prstGeom>
              <a:solidFill>
                <a:srgbClr val="009999"/>
              </a:solidFill>
              <a:ln w="1764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125" name=""/>
            <p:cNvSpPr/>
            <p:nvPr/>
          </p:nvSpPr>
          <p:spPr>
            <a:xfrm>
              <a:off x="857880" y="4483080"/>
              <a:ext cx="4159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400" spc="-1" strike="noStrike">
                  <a:solidFill>
                    <a:srgbClr val="000000"/>
                  </a:solidFill>
                  <a:latin typeface="Times New Roman"/>
                </a:rPr>
                <a:t>3. Posun rovnováhy v nárazníkovém systému dolev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6" name=""/>
            <p:cNvSpPr/>
            <p:nvPr/>
          </p:nvSpPr>
          <p:spPr>
            <a:xfrm>
              <a:off x="4116240" y="4064040"/>
              <a:ext cx="2402640" cy="52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400" spc="-1" strike="noStrike">
                  <a:solidFill>
                    <a:srgbClr val="000000"/>
                  </a:solidFill>
                  <a:latin typeface="Times New Roman"/>
                </a:rPr>
                <a:t>4. </a:t>
              </a:r>
              <a:r>
                <a:rPr b="1" lang="cs-CZ" sz="1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Patofyziologický důsledek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1400" spc="-1" strike="noStrike">
                  <a:solidFill>
                    <a:srgbClr val="000000"/>
                  </a:solidFill>
                  <a:latin typeface="Times New Roman"/>
                </a:rPr>
                <a:t>Snížení zvýšené hladiny H</a:t>
              </a:r>
              <a:r>
                <a:rPr b="0" lang="cs-CZ" sz="1400" spc="-1" strike="noStrike" baseline="46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7" name=""/>
            <p:cNvSpPr/>
            <p:nvPr/>
          </p:nvSpPr>
          <p:spPr>
            <a:xfrm>
              <a:off x="5526000" y="1697040"/>
              <a:ext cx="9720" cy="293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8" name=""/>
            <p:cNvSpPr/>
            <p:nvPr/>
          </p:nvSpPr>
          <p:spPr>
            <a:xfrm>
              <a:off x="3098880" y="2657520"/>
              <a:ext cx="9360" cy="293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9" name=""/>
            <p:cNvSpPr/>
            <p:nvPr/>
          </p:nvSpPr>
          <p:spPr>
            <a:xfrm>
              <a:off x="993600" y="1619280"/>
              <a:ext cx="9720" cy="293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0" name=""/>
            <p:cNvSpPr/>
            <p:nvPr/>
          </p:nvSpPr>
          <p:spPr>
            <a:xfrm>
              <a:off x="5905440" y="2909880"/>
              <a:ext cx="1800" cy="352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1" name=""/>
            <p:cNvSpPr/>
            <p:nvPr/>
          </p:nvSpPr>
          <p:spPr>
            <a:xfrm>
              <a:off x="2647800" y="874800"/>
              <a:ext cx="4380120" cy="2076480"/>
            </a:xfrm>
            <a:custGeom>
              <a:avLst/>
              <a:gdLst/>
              <a:ahLst/>
              <a:rect l="l" t="t" r="r" b="b"/>
              <a:pathLst>
                <a:path w="2759" h="1308">
                  <a:moveTo>
                    <a:pt x="2718" y="1308"/>
                  </a:moveTo>
                  <a:cubicBezTo>
                    <a:pt x="2722" y="1220"/>
                    <a:pt x="2759" y="922"/>
                    <a:pt x="2681" y="724"/>
                  </a:cubicBezTo>
                  <a:cubicBezTo>
                    <a:pt x="2578" y="525"/>
                    <a:pt x="2545" y="224"/>
                    <a:pt x="2098" y="112"/>
                  </a:cubicBezTo>
                  <a:cubicBezTo>
                    <a:pt x="1651" y="0"/>
                    <a:pt x="437" y="63"/>
                    <a:pt x="0" y="5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2" name=""/>
            <p:cNvSpPr/>
            <p:nvPr/>
          </p:nvSpPr>
          <p:spPr>
            <a:xfrm>
              <a:off x="353880" y="2098800"/>
              <a:ext cx="525600" cy="2536560"/>
            </a:xfrm>
            <a:custGeom>
              <a:avLst/>
              <a:gdLst/>
              <a:ahLst/>
              <a:rect l="l" t="t" r="r" b="b"/>
              <a:pathLst>
                <a:path w="331" h="1661">
                  <a:moveTo>
                    <a:pt x="127" y="0"/>
                  </a:moveTo>
                  <a:cubicBezTo>
                    <a:pt x="115" y="98"/>
                    <a:pt x="71" y="352"/>
                    <a:pt x="58" y="592"/>
                  </a:cubicBezTo>
                  <a:cubicBezTo>
                    <a:pt x="45" y="832"/>
                    <a:pt x="0" y="1260"/>
                    <a:pt x="46" y="1438"/>
                  </a:cubicBezTo>
                  <a:cubicBezTo>
                    <a:pt x="92" y="1616"/>
                    <a:pt x="272" y="1615"/>
                    <a:pt x="331" y="1661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3" name=""/>
            <p:cNvSpPr/>
            <p:nvPr/>
          </p:nvSpPr>
          <p:spPr>
            <a:xfrm>
              <a:off x="5072040" y="4524480"/>
              <a:ext cx="631800" cy="193680"/>
            </a:xfrm>
            <a:custGeom>
              <a:avLst/>
              <a:gdLst/>
              <a:ahLst/>
              <a:rect l="l" t="t" r="r" b="b"/>
              <a:pathLst>
                <a:path w="398" h="122">
                  <a:moveTo>
                    <a:pt x="0" y="110"/>
                  </a:moveTo>
                  <a:cubicBezTo>
                    <a:pt x="51" y="109"/>
                    <a:pt x="243" y="122"/>
                    <a:pt x="309" y="104"/>
                  </a:cubicBezTo>
                  <a:cubicBezTo>
                    <a:pt x="375" y="86"/>
                    <a:pt x="380" y="22"/>
                    <a:pt x="398" y="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134" name=""/>
            <p:cNvGrpSpPr/>
            <p:nvPr/>
          </p:nvGrpSpPr>
          <p:grpSpPr>
            <a:xfrm>
              <a:off x="189000" y="1308240"/>
              <a:ext cx="674280" cy="1344600"/>
              <a:chOff x="189000" y="1308240"/>
              <a:chExt cx="674280" cy="1344600"/>
            </a:xfrm>
          </p:grpSpPr>
          <p:grpSp>
            <p:nvGrpSpPr>
              <p:cNvPr id="12135" name=""/>
              <p:cNvGrpSpPr/>
              <p:nvPr/>
            </p:nvGrpSpPr>
            <p:grpSpPr>
              <a:xfrm>
                <a:off x="690120" y="1549440"/>
                <a:ext cx="173160" cy="492120"/>
                <a:chOff x="690120" y="1549440"/>
                <a:chExt cx="173160" cy="492120"/>
              </a:xfrm>
            </p:grpSpPr>
            <p:grpSp>
              <p:nvGrpSpPr>
                <p:cNvPr id="12136" name=""/>
                <p:cNvGrpSpPr/>
                <p:nvPr/>
              </p:nvGrpSpPr>
              <p:grpSpPr>
                <a:xfrm>
                  <a:off x="690120" y="1549440"/>
                  <a:ext cx="173160" cy="492120"/>
                  <a:chOff x="690120" y="1549440"/>
                  <a:chExt cx="173160" cy="492120"/>
                </a:xfrm>
              </p:grpSpPr>
              <p:sp>
                <p:nvSpPr>
                  <p:cNvPr id="12137" name=""/>
                  <p:cNvSpPr/>
                  <p:nvPr/>
                </p:nvSpPr>
                <p:spPr>
                  <a:xfrm flipH="1">
                    <a:off x="689760" y="1549440"/>
                    <a:ext cx="173160" cy="492120"/>
                  </a:xfrm>
                  <a:prstGeom prst="ellipse">
                    <a:avLst/>
                  </a:prstGeom>
                  <a:solidFill>
                    <a:srgbClr val="3b3b3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38" name=""/>
                  <p:cNvSpPr/>
                  <p:nvPr/>
                </p:nvSpPr>
                <p:spPr>
                  <a:xfrm flipH="1">
                    <a:off x="691920" y="1553760"/>
                    <a:ext cx="169920" cy="482760"/>
                  </a:xfrm>
                  <a:prstGeom prst="ellipse">
                    <a:avLst/>
                  </a:prstGeom>
                  <a:solidFill>
                    <a:srgbClr val="3b3b3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39" name=""/>
                  <p:cNvSpPr/>
                  <p:nvPr/>
                </p:nvSpPr>
                <p:spPr>
                  <a:xfrm flipH="1">
                    <a:off x="693720" y="1558440"/>
                    <a:ext cx="166320" cy="473400"/>
                  </a:xfrm>
                  <a:prstGeom prst="ellipse">
                    <a:avLst/>
                  </a:prstGeom>
                  <a:solidFill>
                    <a:srgbClr val="3c3c3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40" name=""/>
                  <p:cNvSpPr/>
                  <p:nvPr/>
                </p:nvSpPr>
                <p:spPr>
                  <a:xfrm flipH="1">
                    <a:off x="695160" y="1563120"/>
                    <a:ext cx="163440" cy="462600"/>
                  </a:xfrm>
                  <a:prstGeom prst="ellipse">
                    <a:avLst/>
                  </a:prstGeom>
                  <a:solidFill>
                    <a:srgbClr val="3c3c3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41" name=""/>
                  <p:cNvSpPr/>
                  <p:nvPr/>
                </p:nvSpPr>
                <p:spPr>
                  <a:xfrm flipH="1">
                    <a:off x="696960" y="1569240"/>
                    <a:ext cx="159840" cy="452520"/>
                  </a:xfrm>
                  <a:prstGeom prst="ellipse">
                    <a:avLst/>
                  </a:prstGeom>
                  <a:solidFill>
                    <a:srgbClr val="3d3d3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42" name=""/>
                  <p:cNvSpPr/>
                  <p:nvPr/>
                </p:nvSpPr>
                <p:spPr>
                  <a:xfrm flipH="1">
                    <a:off x="698760" y="1573560"/>
                    <a:ext cx="155160" cy="442080"/>
                  </a:xfrm>
                  <a:prstGeom prst="ellipse">
                    <a:avLst/>
                  </a:prstGeom>
                  <a:solidFill>
                    <a:srgbClr val="3e3e3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43" name=""/>
                  <p:cNvSpPr/>
                  <p:nvPr/>
                </p:nvSpPr>
                <p:spPr>
                  <a:xfrm flipH="1">
                    <a:off x="700920" y="1579320"/>
                    <a:ext cx="151560" cy="431640"/>
                  </a:xfrm>
                  <a:prstGeom prst="ellipse">
                    <a:avLst/>
                  </a:prstGeom>
                  <a:solidFill>
                    <a:srgbClr val="3f3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44" name=""/>
                  <p:cNvSpPr/>
                  <p:nvPr/>
                </p:nvSpPr>
                <p:spPr>
                  <a:xfrm flipH="1">
                    <a:off x="702720" y="1584000"/>
                    <a:ext cx="148320" cy="420840"/>
                  </a:xfrm>
                  <a:prstGeom prst="ellipse">
                    <a:avLst/>
                  </a:prstGeom>
                  <a:solidFill>
                    <a:srgbClr val="41414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45" name=""/>
                  <p:cNvSpPr/>
                  <p:nvPr/>
                </p:nvSpPr>
                <p:spPr>
                  <a:xfrm flipH="1">
                    <a:off x="704520" y="1589040"/>
                    <a:ext cx="144720" cy="411480"/>
                  </a:xfrm>
                  <a:prstGeom prst="ellipse">
                    <a:avLst/>
                  </a:prstGeom>
                  <a:solidFill>
                    <a:srgbClr val="42424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46" name=""/>
                  <p:cNvSpPr/>
                  <p:nvPr/>
                </p:nvSpPr>
                <p:spPr>
                  <a:xfrm flipH="1">
                    <a:off x="705600" y="1594800"/>
                    <a:ext cx="141480" cy="401040"/>
                  </a:xfrm>
                  <a:prstGeom prst="ellipse">
                    <a:avLst/>
                  </a:prstGeom>
                  <a:solidFill>
                    <a:srgbClr val="43434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47" name=""/>
                  <p:cNvSpPr/>
                  <p:nvPr/>
                </p:nvSpPr>
                <p:spPr>
                  <a:xfrm flipH="1">
                    <a:off x="708480" y="1599120"/>
                    <a:ext cx="137160" cy="390600"/>
                  </a:xfrm>
                  <a:prstGeom prst="ellipse">
                    <a:avLst/>
                  </a:prstGeom>
                  <a:solidFill>
                    <a:srgbClr val="4545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48" name=""/>
                  <p:cNvSpPr/>
                  <p:nvPr/>
                </p:nvSpPr>
                <p:spPr>
                  <a:xfrm flipH="1">
                    <a:off x="710280" y="1605240"/>
                    <a:ext cx="133200" cy="380160"/>
                  </a:xfrm>
                  <a:prstGeom prst="ellipse">
                    <a:avLst/>
                  </a:prstGeom>
                  <a:solidFill>
                    <a:srgbClr val="46464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49" name=""/>
                  <p:cNvSpPr/>
                  <p:nvPr/>
                </p:nvSpPr>
                <p:spPr>
                  <a:xfrm flipH="1">
                    <a:off x="712080" y="1609920"/>
                    <a:ext cx="129600" cy="369720"/>
                  </a:xfrm>
                  <a:prstGeom prst="ellipse">
                    <a:avLst/>
                  </a:prstGeom>
                  <a:solidFill>
                    <a:srgbClr val="48484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50" name=""/>
                  <p:cNvSpPr/>
                  <p:nvPr/>
                </p:nvSpPr>
                <p:spPr>
                  <a:xfrm flipH="1">
                    <a:off x="713520" y="1614600"/>
                    <a:ext cx="126720" cy="360000"/>
                  </a:xfrm>
                  <a:prstGeom prst="ellipse">
                    <a:avLst/>
                  </a:prstGeom>
                  <a:solidFill>
                    <a:srgbClr val="4a4a4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51" name=""/>
                  <p:cNvSpPr/>
                  <p:nvPr/>
                </p:nvSpPr>
                <p:spPr>
                  <a:xfrm flipH="1">
                    <a:off x="715320" y="1620360"/>
                    <a:ext cx="123120" cy="349920"/>
                  </a:xfrm>
                  <a:prstGeom prst="ellipse">
                    <a:avLst/>
                  </a:prstGeom>
                  <a:solidFill>
                    <a:srgbClr val="4c4c4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52" name=""/>
                  <p:cNvSpPr/>
                  <p:nvPr/>
                </p:nvSpPr>
                <p:spPr>
                  <a:xfrm flipH="1">
                    <a:off x="716400" y="1625040"/>
                    <a:ext cx="119880" cy="339480"/>
                  </a:xfrm>
                  <a:prstGeom prst="ellipse">
                    <a:avLst/>
                  </a:prstGeom>
                  <a:solidFill>
                    <a:srgbClr val="4e4e4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53" name=""/>
                  <p:cNvSpPr/>
                  <p:nvPr/>
                </p:nvSpPr>
                <p:spPr>
                  <a:xfrm flipH="1">
                    <a:off x="719280" y="1630800"/>
                    <a:ext cx="115560" cy="328680"/>
                  </a:xfrm>
                  <a:prstGeom prst="ellipse">
                    <a:avLst/>
                  </a:prstGeom>
                  <a:solidFill>
                    <a:srgbClr val="51515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54" name=""/>
                  <p:cNvSpPr/>
                  <p:nvPr/>
                </p:nvSpPr>
                <p:spPr>
                  <a:xfrm flipH="1">
                    <a:off x="721080" y="1635480"/>
                    <a:ext cx="111600" cy="318240"/>
                  </a:xfrm>
                  <a:prstGeom prst="ellipse">
                    <a:avLst/>
                  </a:prstGeom>
                  <a:solidFill>
                    <a:srgbClr val="53535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55" name=""/>
                  <p:cNvSpPr/>
                  <p:nvPr/>
                </p:nvSpPr>
                <p:spPr>
                  <a:xfrm flipH="1">
                    <a:off x="722880" y="1641240"/>
                    <a:ext cx="108000" cy="307800"/>
                  </a:xfrm>
                  <a:prstGeom prst="ellipse">
                    <a:avLst/>
                  </a:prstGeom>
                  <a:solidFill>
                    <a:srgbClr val="55555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56" name=""/>
                  <p:cNvSpPr/>
                  <p:nvPr/>
                </p:nvSpPr>
                <p:spPr>
                  <a:xfrm flipH="1">
                    <a:off x="723960" y="1645920"/>
                    <a:ext cx="104760" cy="298440"/>
                  </a:xfrm>
                  <a:prstGeom prst="ellipse">
                    <a:avLst/>
                  </a:prstGeom>
                  <a:solidFill>
                    <a:srgbClr val="58585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57" name=""/>
                  <p:cNvSpPr/>
                  <p:nvPr/>
                </p:nvSpPr>
                <p:spPr>
                  <a:xfrm flipH="1">
                    <a:off x="726120" y="1650600"/>
                    <a:ext cx="101520" cy="288000"/>
                  </a:xfrm>
                  <a:prstGeom prst="ellipse">
                    <a:avLst/>
                  </a:prstGeom>
                  <a:solidFill>
                    <a:srgbClr val="5a5a5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58" name=""/>
                  <p:cNvSpPr/>
                  <p:nvPr/>
                </p:nvSpPr>
                <p:spPr>
                  <a:xfrm flipH="1">
                    <a:off x="729000" y="1656360"/>
                    <a:ext cx="97200" cy="277560"/>
                  </a:xfrm>
                  <a:prstGeom prst="ellipse">
                    <a:avLst/>
                  </a:prstGeom>
                  <a:solidFill>
                    <a:srgbClr val="5c5c5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59" name=""/>
                  <p:cNvSpPr/>
                  <p:nvPr/>
                </p:nvSpPr>
                <p:spPr>
                  <a:xfrm flipH="1">
                    <a:off x="730080" y="1661040"/>
                    <a:ext cx="93960" cy="267120"/>
                  </a:xfrm>
                  <a:prstGeom prst="ellipse">
                    <a:avLst/>
                  </a:prstGeom>
                  <a:solidFill>
                    <a:srgbClr val="5f5f5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60" name=""/>
                  <p:cNvSpPr/>
                  <p:nvPr/>
                </p:nvSpPr>
                <p:spPr>
                  <a:xfrm flipH="1">
                    <a:off x="731880" y="1666800"/>
                    <a:ext cx="90000" cy="256320"/>
                  </a:xfrm>
                  <a:prstGeom prst="ellipse">
                    <a:avLst/>
                  </a:prstGeom>
                  <a:solidFill>
                    <a:srgbClr val="61616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61" name=""/>
                  <p:cNvSpPr/>
                  <p:nvPr/>
                </p:nvSpPr>
                <p:spPr>
                  <a:xfrm flipH="1">
                    <a:off x="733680" y="1671840"/>
                    <a:ext cx="86400" cy="246960"/>
                  </a:xfrm>
                  <a:prstGeom prst="ellipse">
                    <a:avLst/>
                  </a:prstGeom>
                  <a:solidFill>
                    <a:srgbClr val="63636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62" name=""/>
                  <p:cNvSpPr/>
                  <p:nvPr/>
                </p:nvSpPr>
                <p:spPr>
                  <a:xfrm flipH="1">
                    <a:off x="735120" y="1676160"/>
                    <a:ext cx="83160" cy="236880"/>
                  </a:xfrm>
                  <a:prstGeom prst="ellipse">
                    <a:avLst/>
                  </a:prstGeom>
                  <a:solidFill>
                    <a:srgbClr val="65656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63" name=""/>
                  <p:cNvSpPr/>
                  <p:nvPr/>
                </p:nvSpPr>
                <p:spPr>
                  <a:xfrm flipH="1">
                    <a:off x="736920" y="1681920"/>
                    <a:ext cx="79920" cy="226080"/>
                  </a:xfrm>
                  <a:prstGeom prst="ellipse">
                    <a:avLst/>
                  </a:prstGeom>
                  <a:solidFill>
                    <a:srgbClr val="68686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64" name=""/>
                  <p:cNvSpPr/>
                  <p:nvPr/>
                </p:nvSpPr>
                <p:spPr>
                  <a:xfrm flipH="1">
                    <a:off x="738720" y="1686960"/>
                    <a:ext cx="76320" cy="215640"/>
                  </a:xfrm>
                  <a:prstGeom prst="ellipse">
                    <a:avLst/>
                  </a:prstGeom>
                  <a:solidFill>
                    <a:srgbClr val="69696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65" name=""/>
                  <p:cNvSpPr/>
                  <p:nvPr/>
                </p:nvSpPr>
                <p:spPr>
                  <a:xfrm flipH="1">
                    <a:off x="739800" y="1692720"/>
                    <a:ext cx="72360" cy="205200"/>
                  </a:xfrm>
                  <a:prstGeom prst="ellipse">
                    <a:avLst/>
                  </a:prstGeom>
                  <a:solidFill>
                    <a:srgbClr val="6c6c6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66" name=""/>
                  <p:cNvSpPr/>
                  <p:nvPr/>
                </p:nvSpPr>
                <p:spPr>
                  <a:xfrm flipH="1">
                    <a:off x="742680" y="1697400"/>
                    <a:ext cx="68040" cy="195840"/>
                  </a:xfrm>
                  <a:prstGeom prst="ellipse">
                    <a:avLst/>
                  </a:prstGeom>
                  <a:solidFill>
                    <a:srgbClr val="6e6e6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67" name=""/>
                  <p:cNvSpPr/>
                  <p:nvPr/>
                </p:nvSpPr>
                <p:spPr>
                  <a:xfrm flipH="1">
                    <a:off x="744480" y="1701720"/>
                    <a:ext cx="64800" cy="185400"/>
                  </a:xfrm>
                  <a:prstGeom prst="ellipse">
                    <a:avLst/>
                  </a:prstGeom>
                  <a:solidFill>
                    <a:srgbClr val="6f6f6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68" name=""/>
                  <p:cNvSpPr/>
                  <p:nvPr/>
                </p:nvSpPr>
                <p:spPr>
                  <a:xfrm flipH="1">
                    <a:off x="745920" y="1707840"/>
                    <a:ext cx="61560" cy="174960"/>
                  </a:xfrm>
                  <a:prstGeom prst="ellipse">
                    <a:avLst/>
                  </a:prstGeom>
                  <a:solidFill>
                    <a:srgbClr val="71717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69" name=""/>
                  <p:cNvSpPr/>
                  <p:nvPr/>
                </p:nvSpPr>
                <p:spPr>
                  <a:xfrm flipH="1">
                    <a:off x="747720" y="1712520"/>
                    <a:ext cx="58320" cy="164160"/>
                  </a:xfrm>
                  <a:prstGeom prst="ellipse">
                    <a:avLst/>
                  </a:prstGeom>
                  <a:solidFill>
                    <a:srgbClr val="7373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70" name=""/>
                  <p:cNvSpPr/>
                  <p:nvPr/>
                </p:nvSpPr>
                <p:spPr>
                  <a:xfrm flipH="1">
                    <a:off x="749520" y="1718280"/>
                    <a:ext cx="54720" cy="153720"/>
                  </a:xfrm>
                  <a:prstGeom prst="ellipse">
                    <a:avLst/>
                  </a:prstGeom>
                  <a:solidFill>
                    <a:srgbClr val="7474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71" name=""/>
                  <p:cNvSpPr/>
                  <p:nvPr/>
                </p:nvSpPr>
                <p:spPr>
                  <a:xfrm flipH="1">
                    <a:off x="751320" y="1722960"/>
                    <a:ext cx="50760" cy="144360"/>
                  </a:xfrm>
                  <a:prstGeom prst="ellipse">
                    <a:avLst/>
                  </a:prstGeom>
                  <a:solidFill>
                    <a:srgbClr val="76767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72" name=""/>
                  <p:cNvSpPr/>
                  <p:nvPr/>
                </p:nvSpPr>
                <p:spPr>
                  <a:xfrm flipH="1">
                    <a:off x="753480" y="1727640"/>
                    <a:ext cx="46440" cy="134280"/>
                  </a:xfrm>
                  <a:prstGeom prst="ellipse">
                    <a:avLst/>
                  </a:prstGeom>
                  <a:solidFill>
                    <a:srgbClr val="77777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73" name=""/>
                  <p:cNvSpPr/>
                  <p:nvPr/>
                </p:nvSpPr>
                <p:spPr>
                  <a:xfrm flipH="1">
                    <a:off x="755280" y="1733400"/>
                    <a:ext cx="43200" cy="123480"/>
                  </a:xfrm>
                  <a:prstGeom prst="ellipse">
                    <a:avLst/>
                  </a:prstGeom>
                  <a:solidFill>
                    <a:srgbClr val="78787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680" bIns="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74" name=""/>
                  <p:cNvSpPr/>
                  <p:nvPr/>
                </p:nvSpPr>
                <p:spPr>
                  <a:xfrm flipH="1">
                    <a:off x="757080" y="1738080"/>
                    <a:ext cx="39600" cy="113040"/>
                  </a:xfrm>
                  <a:prstGeom prst="ellipse">
                    <a:avLst/>
                  </a:prstGeom>
                  <a:solidFill>
                    <a:srgbClr val="79797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3120" bIns="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75" name=""/>
                  <p:cNvSpPr/>
                  <p:nvPr/>
                </p:nvSpPr>
                <p:spPr>
                  <a:xfrm flipH="1">
                    <a:off x="758520" y="1743840"/>
                    <a:ext cx="36720" cy="102600"/>
                  </a:xfrm>
                  <a:prstGeom prst="ellipse">
                    <a:avLst/>
                  </a:prstGeom>
                  <a:solidFill>
                    <a:srgbClr val="7a7a7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6280" bIns="26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76" name=""/>
                  <p:cNvSpPr/>
                  <p:nvPr/>
                </p:nvSpPr>
                <p:spPr>
                  <a:xfrm flipH="1">
                    <a:off x="760320" y="1748520"/>
                    <a:ext cx="33120" cy="93240"/>
                  </a:xfrm>
                  <a:prstGeom prst="ellipse">
                    <a:avLst/>
                  </a:prstGeom>
                  <a:solidFill>
                    <a:srgbClr val="7b7b7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080" bIns="19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77" name=""/>
                  <p:cNvSpPr/>
                  <p:nvPr/>
                </p:nvSpPr>
                <p:spPr>
                  <a:xfrm flipH="1">
                    <a:off x="762840" y="1753200"/>
                    <a:ext cx="28080" cy="82800"/>
                  </a:xfrm>
                  <a:prstGeom prst="ellipse">
                    <a:avLst/>
                  </a:prstGeom>
                  <a:solidFill>
                    <a:srgbClr val="7c7c7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240" bIns="12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78" name=""/>
                  <p:cNvSpPr/>
                  <p:nvPr/>
                </p:nvSpPr>
                <p:spPr>
                  <a:xfrm flipH="1">
                    <a:off x="764280" y="1758960"/>
                    <a:ext cx="24840" cy="72360"/>
                  </a:xfrm>
                  <a:prstGeom prst="ellipse">
                    <a:avLst/>
                  </a:prstGeom>
                  <a:solidFill>
                    <a:srgbClr val="7d7d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" bIns="4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79" name=""/>
                  <p:cNvSpPr/>
                  <p:nvPr/>
                </p:nvSpPr>
                <p:spPr>
                  <a:xfrm flipH="1">
                    <a:off x="766080" y="1763640"/>
                    <a:ext cx="21600" cy="61560"/>
                  </a:xfrm>
                  <a:prstGeom prst="ellipse">
                    <a:avLst/>
                  </a:prstGeom>
                  <a:solidFill>
                    <a:srgbClr val="7d7d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" bIns="-3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80" name=""/>
                  <p:cNvSpPr/>
                  <p:nvPr/>
                </p:nvSpPr>
                <p:spPr>
                  <a:xfrm flipH="1">
                    <a:off x="767880" y="1769760"/>
                    <a:ext cx="18000" cy="51120"/>
                  </a:xfrm>
                  <a:prstGeom prst="ellipse">
                    <a:avLst/>
                  </a:prstGeom>
                  <a:solidFill>
                    <a:srgbClr val="7e7e7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080" bIns="-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81" name=""/>
                  <p:cNvSpPr/>
                  <p:nvPr/>
                </p:nvSpPr>
                <p:spPr>
                  <a:xfrm flipH="1">
                    <a:off x="769320" y="1774440"/>
                    <a:ext cx="14760" cy="40680"/>
                  </a:xfrm>
                  <a:prstGeom prst="ellipse">
                    <a:avLst/>
                  </a:prstGeom>
                  <a:solidFill>
                    <a:srgbClr val="7e7e7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640" bIns="-17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82" name=""/>
                  <p:cNvSpPr/>
                  <p:nvPr/>
                </p:nvSpPr>
                <p:spPr>
                  <a:xfrm flipH="1">
                    <a:off x="771120" y="1780200"/>
                    <a:ext cx="11520" cy="30240"/>
                  </a:xfrm>
                  <a:prstGeom prst="ellipse">
                    <a:avLst/>
                  </a:prstGeom>
                  <a:solidFill>
                    <a:srgbClr val="7f7f7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83" name=""/>
                  <p:cNvSpPr/>
                  <p:nvPr/>
                </p:nvSpPr>
                <p:spPr>
                  <a:xfrm flipH="1">
                    <a:off x="773640" y="1784520"/>
                    <a:ext cx="6480" cy="20880"/>
                  </a:xfrm>
                  <a:prstGeom prst="ellipse">
                    <a:avLst/>
                  </a:prstGeom>
                  <a:solidFill>
                    <a:srgbClr val="7f7f7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84" name=""/>
                  <p:cNvSpPr/>
                  <p:nvPr/>
                </p:nvSpPr>
                <p:spPr>
                  <a:xfrm flipH="1">
                    <a:off x="775440" y="1789560"/>
                    <a:ext cx="2880" cy="10440"/>
                  </a:xfrm>
                  <a:prstGeom prst="ellipse">
                    <a:avLst/>
                  </a:prstGeom>
                  <a:solidFill>
                    <a:srgbClr val="7f7f7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2185" name=""/>
                <p:cNvSpPr/>
                <p:nvPr/>
              </p:nvSpPr>
              <p:spPr>
                <a:xfrm flipH="1">
                  <a:off x="689760" y="1549440"/>
                  <a:ext cx="173160" cy="492120"/>
                </a:xfrm>
                <a:prstGeom prst="ellipse">
                  <a:avLst/>
                </a:prstGeom>
                <a:noFill/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186" name=""/>
              <p:cNvSpPr/>
              <p:nvPr/>
            </p:nvSpPr>
            <p:spPr>
              <a:xfrm>
                <a:off x="189000" y="1730520"/>
                <a:ext cx="600120" cy="439560"/>
              </a:xfrm>
              <a:custGeom>
                <a:avLst/>
                <a:gdLst/>
                <a:ahLst/>
                <a:rect l="l" t="t" r="r" b="b"/>
                <a:pathLst>
                  <a:path w="721" h="376">
                    <a:moveTo>
                      <a:pt x="703" y="102"/>
                    </a:moveTo>
                    <a:cubicBezTo>
                      <a:pt x="465" y="103"/>
                      <a:pt x="315" y="110"/>
                      <a:pt x="228" y="120"/>
                    </a:cubicBezTo>
                    <a:cubicBezTo>
                      <a:pt x="138" y="139"/>
                      <a:pt x="170" y="205"/>
                      <a:pt x="174" y="240"/>
                    </a:cubicBezTo>
                    <a:cubicBezTo>
                      <a:pt x="178" y="275"/>
                      <a:pt x="205" y="313"/>
                      <a:pt x="193" y="335"/>
                    </a:cubicBezTo>
                    <a:cubicBezTo>
                      <a:pt x="181" y="357"/>
                      <a:pt x="132" y="374"/>
                      <a:pt x="102" y="375"/>
                    </a:cubicBezTo>
                    <a:cubicBezTo>
                      <a:pt x="72" y="376"/>
                      <a:pt x="24" y="364"/>
                      <a:pt x="12" y="341"/>
                    </a:cubicBezTo>
                    <a:cubicBezTo>
                      <a:pt x="0" y="318"/>
                      <a:pt x="13" y="283"/>
                      <a:pt x="28" y="236"/>
                    </a:cubicBezTo>
                    <a:cubicBezTo>
                      <a:pt x="43" y="189"/>
                      <a:pt x="67" y="96"/>
                      <a:pt x="103" y="57"/>
                    </a:cubicBezTo>
                    <a:cubicBezTo>
                      <a:pt x="139" y="18"/>
                      <a:pt x="150" y="13"/>
                      <a:pt x="247" y="3"/>
                    </a:cubicBezTo>
                    <a:lnTo>
                      <a:pt x="685" y="0"/>
                    </a:lnTo>
                    <a:cubicBezTo>
                      <a:pt x="715" y="33"/>
                      <a:pt x="721" y="41"/>
                      <a:pt x="703" y="102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6699ff"/>
                  </a:gs>
                  <a:gs pos="100000">
                    <a:srgbClr val="2f4675"/>
                  </a:gs>
                </a:gsLst>
                <a:lin ang="54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187" name=""/>
              <p:cNvGrpSpPr/>
              <p:nvPr/>
            </p:nvGrpSpPr>
            <p:grpSpPr>
              <a:xfrm>
                <a:off x="276120" y="2206800"/>
                <a:ext cx="58680" cy="446040"/>
                <a:chOff x="276120" y="2206800"/>
                <a:chExt cx="58680" cy="446040"/>
              </a:xfrm>
            </p:grpSpPr>
            <p:sp>
              <p:nvSpPr>
                <p:cNvPr id="12188" name=""/>
                <p:cNvSpPr/>
                <p:nvPr/>
              </p:nvSpPr>
              <p:spPr>
                <a:xfrm>
                  <a:off x="276120" y="2206800"/>
                  <a:ext cx="49320" cy="101520"/>
                </a:xfrm>
                <a:custGeom>
                  <a:avLst/>
                  <a:gdLst/>
                  <a:ahLst/>
                  <a:rect l="l" t="t" r="r" b="b"/>
                  <a:pathLst>
                    <a:path w="196" h="370">
                      <a:moveTo>
                        <a:pt x="95" y="0"/>
                      </a:moveTo>
                      <a:lnTo>
                        <a:pt x="105" y="58"/>
                      </a:lnTo>
                      <a:lnTo>
                        <a:pt x="111" y="87"/>
                      </a:lnTo>
                      <a:lnTo>
                        <a:pt x="121" y="121"/>
                      </a:lnTo>
                      <a:lnTo>
                        <a:pt x="132" y="141"/>
                      </a:lnTo>
                      <a:lnTo>
                        <a:pt x="147" y="166"/>
                      </a:lnTo>
                      <a:lnTo>
                        <a:pt x="167" y="193"/>
                      </a:lnTo>
                      <a:lnTo>
                        <a:pt x="184" y="220"/>
                      </a:lnTo>
                      <a:lnTo>
                        <a:pt x="192" y="245"/>
                      </a:lnTo>
                      <a:lnTo>
                        <a:pt x="196" y="278"/>
                      </a:lnTo>
                      <a:lnTo>
                        <a:pt x="189" y="307"/>
                      </a:lnTo>
                      <a:lnTo>
                        <a:pt x="178" y="328"/>
                      </a:lnTo>
                      <a:lnTo>
                        <a:pt x="162" y="345"/>
                      </a:lnTo>
                      <a:lnTo>
                        <a:pt x="141" y="361"/>
                      </a:lnTo>
                      <a:lnTo>
                        <a:pt x="121" y="367"/>
                      </a:lnTo>
                      <a:lnTo>
                        <a:pt x="99" y="370"/>
                      </a:lnTo>
                      <a:lnTo>
                        <a:pt x="76" y="367"/>
                      </a:lnTo>
                      <a:lnTo>
                        <a:pt x="54" y="362"/>
                      </a:lnTo>
                      <a:lnTo>
                        <a:pt x="34" y="350"/>
                      </a:lnTo>
                      <a:lnTo>
                        <a:pt x="19" y="334"/>
                      </a:lnTo>
                      <a:lnTo>
                        <a:pt x="8" y="315"/>
                      </a:lnTo>
                      <a:lnTo>
                        <a:pt x="3" y="296"/>
                      </a:lnTo>
                      <a:lnTo>
                        <a:pt x="0" y="272"/>
                      </a:lnTo>
                      <a:lnTo>
                        <a:pt x="5" y="240"/>
                      </a:lnTo>
                      <a:lnTo>
                        <a:pt x="13" y="218"/>
                      </a:lnTo>
                      <a:lnTo>
                        <a:pt x="30" y="190"/>
                      </a:lnTo>
                      <a:lnTo>
                        <a:pt x="49" y="166"/>
                      </a:lnTo>
                      <a:lnTo>
                        <a:pt x="62" y="140"/>
                      </a:lnTo>
                      <a:lnTo>
                        <a:pt x="72" y="119"/>
                      </a:lnTo>
                      <a:lnTo>
                        <a:pt x="81" y="90"/>
                      </a:lnTo>
                      <a:lnTo>
                        <a:pt x="86" y="58"/>
                      </a:lnTo>
                      <a:lnTo>
                        <a:pt x="95" y="0"/>
                      </a:lnTo>
                      <a:close/>
                    </a:path>
                  </a:pathLst>
                </a:custGeom>
                <a:solidFill>
                  <a:srgbClr val="00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89" name=""/>
                <p:cNvSpPr/>
                <p:nvPr/>
              </p:nvSpPr>
              <p:spPr>
                <a:xfrm>
                  <a:off x="276120" y="2314800"/>
                  <a:ext cx="49320" cy="101520"/>
                </a:xfrm>
                <a:custGeom>
                  <a:avLst/>
                  <a:gdLst/>
                  <a:ahLst/>
                  <a:rect l="l" t="t" r="r" b="b"/>
                  <a:pathLst>
                    <a:path w="196" h="372">
                      <a:moveTo>
                        <a:pt x="95" y="0"/>
                      </a:moveTo>
                      <a:lnTo>
                        <a:pt x="105" y="60"/>
                      </a:lnTo>
                      <a:lnTo>
                        <a:pt x="111" y="88"/>
                      </a:lnTo>
                      <a:lnTo>
                        <a:pt x="121" y="122"/>
                      </a:lnTo>
                      <a:lnTo>
                        <a:pt x="132" y="143"/>
                      </a:lnTo>
                      <a:lnTo>
                        <a:pt x="147" y="168"/>
                      </a:lnTo>
                      <a:lnTo>
                        <a:pt x="167" y="195"/>
                      </a:lnTo>
                      <a:lnTo>
                        <a:pt x="184" y="221"/>
                      </a:lnTo>
                      <a:lnTo>
                        <a:pt x="192" y="247"/>
                      </a:lnTo>
                      <a:lnTo>
                        <a:pt x="196" y="279"/>
                      </a:lnTo>
                      <a:lnTo>
                        <a:pt x="189" y="308"/>
                      </a:lnTo>
                      <a:lnTo>
                        <a:pt x="178" y="328"/>
                      </a:lnTo>
                      <a:lnTo>
                        <a:pt x="162" y="345"/>
                      </a:lnTo>
                      <a:lnTo>
                        <a:pt x="141" y="361"/>
                      </a:lnTo>
                      <a:lnTo>
                        <a:pt x="121" y="369"/>
                      </a:lnTo>
                      <a:lnTo>
                        <a:pt x="99" y="372"/>
                      </a:lnTo>
                      <a:lnTo>
                        <a:pt x="76" y="369"/>
                      </a:lnTo>
                      <a:lnTo>
                        <a:pt x="54" y="363"/>
                      </a:lnTo>
                      <a:lnTo>
                        <a:pt x="34" y="351"/>
                      </a:lnTo>
                      <a:lnTo>
                        <a:pt x="19" y="336"/>
                      </a:lnTo>
                      <a:lnTo>
                        <a:pt x="8" y="317"/>
                      </a:lnTo>
                      <a:lnTo>
                        <a:pt x="3" y="298"/>
                      </a:lnTo>
                      <a:lnTo>
                        <a:pt x="0" y="272"/>
                      </a:lnTo>
                      <a:lnTo>
                        <a:pt x="5" y="242"/>
                      </a:lnTo>
                      <a:lnTo>
                        <a:pt x="13" y="219"/>
                      </a:lnTo>
                      <a:lnTo>
                        <a:pt x="30" y="191"/>
                      </a:lnTo>
                      <a:lnTo>
                        <a:pt x="49" y="168"/>
                      </a:lnTo>
                      <a:lnTo>
                        <a:pt x="62" y="141"/>
                      </a:lnTo>
                      <a:lnTo>
                        <a:pt x="72" y="120"/>
                      </a:lnTo>
                      <a:lnTo>
                        <a:pt x="81" y="90"/>
                      </a:lnTo>
                      <a:lnTo>
                        <a:pt x="86" y="60"/>
                      </a:lnTo>
                      <a:lnTo>
                        <a:pt x="95" y="0"/>
                      </a:lnTo>
                      <a:close/>
                    </a:path>
                  </a:pathLst>
                </a:custGeom>
                <a:solidFill>
                  <a:srgbClr val="00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90" name=""/>
                <p:cNvSpPr/>
                <p:nvPr/>
              </p:nvSpPr>
              <p:spPr>
                <a:xfrm>
                  <a:off x="285840" y="2443320"/>
                  <a:ext cx="48960" cy="101520"/>
                </a:xfrm>
                <a:custGeom>
                  <a:avLst/>
                  <a:gdLst/>
                  <a:ahLst/>
                  <a:rect l="l" t="t" r="r" b="b"/>
                  <a:pathLst>
                    <a:path w="196" h="370">
                      <a:moveTo>
                        <a:pt x="95" y="0"/>
                      </a:moveTo>
                      <a:lnTo>
                        <a:pt x="105" y="58"/>
                      </a:lnTo>
                      <a:lnTo>
                        <a:pt x="111" y="87"/>
                      </a:lnTo>
                      <a:lnTo>
                        <a:pt x="121" y="121"/>
                      </a:lnTo>
                      <a:lnTo>
                        <a:pt x="132" y="141"/>
                      </a:lnTo>
                      <a:lnTo>
                        <a:pt x="147" y="166"/>
                      </a:lnTo>
                      <a:lnTo>
                        <a:pt x="167" y="193"/>
                      </a:lnTo>
                      <a:lnTo>
                        <a:pt x="184" y="220"/>
                      </a:lnTo>
                      <a:lnTo>
                        <a:pt x="192" y="245"/>
                      </a:lnTo>
                      <a:lnTo>
                        <a:pt x="196" y="278"/>
                      </a:lnTo>
                      <a:lnTo>
                        <a:pt x="189" y="307"/>
                      </a:lnTo>
                      <a:lnTo>
                        <a:pt x="178" y="328"/>
                      </a:lnTo>
                      <a:lnTo>
                        <a:pt x="162" y="345"/>
                      </a:lnTo>
                      <a:lnTo>
                        <a:pt x="141" y="361"/>
                      </a:lnTo>
                      <a:lnTo>
                        <a:pt x="121" y="367"/>
                      </a:lnTo>
                      <a:lnTo>
                        <a:pt x="99" y="370"/>
                      </a:lnTo>
                      <a:lnTo>
                        <a:pt x="76" y="367"/>
                      </a:lnTo>
                      <a:lnTo>
                        <a:pt x="54" y="362"/>
                      </a:lnTo>
                      <a:lnTo>
                        <a:pt x="34" y="350"/>
                      </a:lnTo>
                      <a:lnTo>
                        <a:pt x="19" y="334"/>
                      </a:lnTo>
                      <a:lnTo>
                        <a:pt x="8" y="315"/>
                      </a:lnTo>
                      <a:lnTo>
                        <a:pt x="3" y="296"/>
                      </a:lnTo>
                      <a:lnTo>
                        <a:pt x="0" y="272"/>
                      </a:lnTo>
                      <a:lnTo>
                        <a:pt x="5" y="240"/>
                      </a:lnTo>
                      <a:lnTo>
                        <a:pt x="13" y="218"/>
                      </a:lnTo>
                      <a:lnTo>
                        <a:pt x="30" y="190"/>
                      </a:lnTo>
                      <a:lnTo>
                        <a:pt x="49" y="166"/>
                      </a:lnTo>
                      <a:lnTo>
                        <a:pt x="62" y="140"/>
                      </a:lnTo>
                      <a:lnTo>
                        <a:pt x="72" y="119"/>
                      </a:lnTo>
                      <a:lnTo>
                        <a:pt x="81" y="90"/>
                      </a:lnTo>
                      <a:lnTo>
                        <a:pt x="86" y="58"/>
                      </a:lnTo>
                      <a:lnTo>
                        <a:pt x="95" y="0"/>
                      </a:lnTo>
                      <a:close/>
                    </a:path>
                  </a:pathLst>
                </a:custGeom>
                <a:solidFill>
                  <a:srgbClr val="00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91" name=""/>
                <p:cNvSpPr/>
                <p:nvPr/>
              </p:nvSpPr>
              <p:spPr>
                <a:xfrm>
                  <a:off x="285840" y="2551320"/>
                  <a:ext cx="48960" cy="101520"/>
                </a:xfrm>
                <a:custGeom>
                  <a:avLst/>
                  <a:gdLst/>
                  <a:ahLst/>
                  <a:rect l="l" t="t" r="r" b="b"/>
                  <a:pathLst>
                    <a:path w="196" h="372">
                      <a:moveTo>
                        <a:pt x="95" y="0"/>
                      </a:moveTo>
                      <a:lnTo>
                        <a:pt x="105" y="60"/>
                      </a:lnTo>
                      <a:lnTo>
                        <a:pt x="111" y="88"/>
                      </a:lnTo>
                      <a:lnTo>
                        <a:pt x="121" y="122"/>
                      </a:lnTo>
                      <a:lnTo>
                        <a:pt x="132" y="143"/>
                      </a:lnTo>
                      <a:lnTo>
                        <a:pt x="147" y="168"/>
                      </a:lnTo>
                      <a:lnTo>
                        <a:pt x="167" y="195"/>
                      </a:lnTo>
                      <a:lnTo>
                        <a:pt x="184" y="221"/>
                      </a:lnTo>
                      <a:lnTo>
                        <a:pt x="192" y="247"/>
                      </a:lnTo>
                      <a:lnTo>
                        <a:pt x="196" y="279"/>
                      </a:lnTo>
                      <a:lnTo>
                        <a:pt x="189" y="308"/>
                      </a:lnTo>
                      <a:lnTo>
                        <a:pt x="178" y="328"/>
                      </a:lnTo>
                      <a:lnTo>
                        <a:pt x="162" y="345"/>
                      </a:lnTo>
                      <a:lnTo>
                        <a:pt x="141" y="361"/>
                      </a:lnTo>
                      <a:lnTo>
                        <a:pt x="121" y="369"/>
                      </a:lnTo>
                      <a:lnTo>
                        <a:pt x="99" y="372"/>
                      </a:lnTo>
                      <a:lnTo>
                        <a:pt x="76" y="369"/>
                      </a:lnTo>
                      <a:lnTo>
                        <a:pt x="54" y="363"/>
                      </a:lnTo>
                      <a:lnTo>
                        <a:pt x="34" y="351"/>
                      </a:lnTo>
                      <a:lnTo>
                        <a:pt x="19" y="336"/>
                      </a:lnTo>
                      <a:lnTo>
                        <a:pt x="8" y="317"/>
                      </a:lnTo>
                      <a:lnTo>
                        <a:pt x="3" y="298"/>
                      </a:lnTo>
                      <a:lnTo>
                        <a:pt x="0" y="272"/>
                      </a:lnTo>
                      <a:lnTo>
                        <a:pt x="5" y="242"/>
                      </a:lnTo>
                      <a:lnTo>
                        <a:pt x="13" y="219"/>
                      </a:lnTo>
                      <a:lnTo>
                        <a:pt x="30" y="191"/>
                      </a:lnTo>
                      <a:lnTo>
                        <a:pt x="49" y="168"/>
                      </a:lnTo>
                      <a:lnTo>
                        <a:pt x="62" y="141"/>
                      </a:lnTo>
                      <a:lnTo>
                        <a:pt x="72" y="120"/>
                      </a:lnTo>
                      <a:lnTo>
                        <a:pt x="81" y="90"/>
                      </a:lnTo>
                      <a:lnTo>
                        <a:pt x="86" y="60"/>
                      </a:lnTo>
                      <a:lnTo>
                        <a:pt x="95" y="0"/>
                      </a:lnTo>
                      <a:close/>
                    </a:path>
                  </a:pathLst>
                </a:custGeom>
                <a:solidFill>
                  <a:srgbClr val="00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192" name=""/>
              <p:cNvSpPr/>
              <p:nvPr/>
            </p:nvSpPr>
            <p:spPr>
              <a:xfrm>
                <a:off x="446040" y="1546200"/>
                <a:ext cx="147600" cy="235080"/>
              </a:xfrm>
              <a:custGeom>
                <a:avLst/>
                <a:gdLst/>
                <a:ahLst/>
                <a:rect l="l" t="t" r="r" b="b"/>
                <a:pathLst>
                  <a:path w="178" h="201">
                    <a:moveTo>
                      <a:pt x="1" y="160"/>
                    </a:moveTo>
                    <a:cubicBezTo>
                      <a:pt x="2" y="152"/>
                      <a:pt x="5" y="136"/>
                      <a:pt x="9" y="121"/>
                    </a:cubicBezTo>
                    <a:cubicBezTo>
                      <a:pt x="13" y="106"/>
                      <a:pt x="21" y="82"/>
                      <a:pt x="27" y="67"/>
                    </a:cubicBezTo>
                    <a:cubicBezTo>
                      <a:pt x="33" y="52"/>
                      <a:pt x="40" y="39"/>
                      <a:pt x="46" y="31"/>
                    </a:cubicBezTo>
                    <a:cubicBezTo>
                      <a:pt x="52" y="23"/>
                      <a:pt x="56" y="21"/>
                      <a:pt x="60" y="16"/>
                    </a:cubicBezTo>
                    <a:cubicBezTo>
                      <a:pt x="64" y="11"/>
                      <a:pt x="69" y="2"/>
                      <a:pt x="73" y="1"/>
                    </a:cubicBezTo>
                    <a:cubicBezTo>
                      <a:pt x="77" y="0"/>
                      <a:pt x="82" y="6"/>
                      <a:pt x="87" y="7"/>
                    </a:cubicBezTo>
                    <a:cubicBezTo>
                      <a:pt x="92" y="8"/>
                      <a:pt x="100" y="5"/>
                      <a:pt x="105" y="5"/>
                    </a:cubicBezTo>
                    <a:cubicBezTo>
                      <a:pt x="110" y="5"/>
                      <a:pt x="112" y="5"/>
                      <a:pt x="117" y="8"/>
                    </a:cubicBezTo>
                    <a:cubicBezTo>
                      <a:pt x="122" y="11"/>
                      <a:pt x="130" y="17"/>
                      <a:pt x="136" y="26"/>
                    </a:cubicBezTo>
                    <a:cubicBezTo>
                      <a:pt x="142" y="35"/>
                      <a:pt x="149" y="47"/>
                      <a:pt x="154" y="61"/>
                    </a:cubicBezTo>
                    <a:cubicBezTo>
                      <a:pt x="159" y="75"/>
                      <a:pt x="164" y="95"/>
                      <a:pt x="168" y="112"/>
                    </a:cubicBezTo>
                    <a:cubicBezTo>
                      <a:pt x="172" y="129"/>
                      <a:pt x="178" y="151"/>
                      <a:pt x="178" y="161"/>
                    </a:cubicBezTo>
                    <a:cubicBezTo>
                      <a:pt x="178" y="171"/>
                      <a:pt x="178" y="170"/>
                      <a:pt x="171" y="175"/>
                    </a:cubicBezTo>
                    <a:cubicBezTo>
                      <a:pt x="164" y="180"/>
                      <a:pt x="151" y="189"/>
                      <a:pt x="138" y="193"/>
                    </a:cubicBezTo>
                    <a:cubicBezTo>
                      <a:pt x="125" y="197"/>
                      <a:pt x="106" y="199"/>
                      <a:pt x="93" y="200"/>
                    </a:cubicBezTo>
                    <a:cubicBezTo>
                      <a:pt x="80" y="201"/>
                      <a:pt x="68" y="198"/>
                      <a:pt x="58" y="196"/>
                    </a:cubicBezTo>
                    <a:cubicBezTo>
                      <a:pt x="48" y="194"/>
                      <a:pt x="39" y="192"/>
                      <a:pt x="30" y="188"/>
                    </a:cubicBezTo>
                    <a:cubicBezTo>
                      <a:pt x="21" y="184"/>
                      <a:pt x="11" y="175"/>
                      <a:pt x="6" y="169"/>
                    </a:cubicBezTo>
                    <a:cubicBezTo>
                      <a:pt x="1" y="163"/>
                      <a:pt x="0" y="168"/>
                      <a:pt x="1" y="16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6699ff"/>
                  </a:gs>
                  <a:gs pos="100000">
                    <a:srgbClr val="2f4675"/>
                  </a:gs>
                </a:gsLst>
                <a:lin ang="54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93" name=""/>
              <p:cNvSpPr/>
              <p:nvPr/>
            </p:nvSpPr>
            <p:spPr>
              <a:xfrm>
                <a:off x="498600" y="1461960"/>
                <a:ext cx="42840" cy="1080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2f4675"/>
                  </a:gs>
                  <a:gs pos="100000">
                    <a:srgbClr val="6699ff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94" name=""/>
              <p:cNvSpPr/>
              <p:nvPr/>
            </p:nvSpPr>
            <p:spPr>
              <a:xfrm>
                <a:off x="379440" y="1308240"/>
                <a:ext cx="284040" cy="201600"/>
              </a:xfrm>
              <a:custGeom>
                <a:avLst/>
                <a:gdLst/>
                <a:ahLst/>
                <a:rect l="l" t="t" r="r" b="b"/>
                <a:pathLst>
                  <a:path w="342" h="172">
                    <a:moveTo>
                      <a:pt x="170" y="172"/>
                    </a:moveTo>
                    <a:cubicBezTo>
                      <a:pt x="143" y="167"/>
                      <a:pt x="116" y="163"/>
                      <a:pt x="90" y="154"/>
                    </a:cubicBezTo>
                    <a:cubicBezTo>
                      <a:pt x="64" y="145"/>
                      <a:pt x="28" y="126"/>
                      <a:pt x="14" y="118"/>
                    </a:cubicBezTo>
                    <a:cubicBezTo>
                      <a:pt x="0" y="110"/>
                      <a:pt x="3" y="111"/>
                      <a:pt x="3" y="106"/>
                    </a:cubicBezTo>
                    <a:cubicBezTo>
                      <a:pt x="3" y="101"/>
                      <a:pt x="9" y="92"/>
                      <a:pt x="12" y="88"/>
                    </a:cubicBezTo>
                    <a:cubicBezTo>
                      <a:pt x="15" y="84"/>
                      <a:pt x="17" y="85"/>
                      <a:pt x="20" y="80"/>
                    </a:cubicBezTo>
                    <a:cubicBezTo>
                      <a:pt x="23" y="75"/>
                      <a:pt x="26" y="64"/>
                      <a:pt x="29" y="56"/>
                    </a:cubicBezTo>
                    <a:cubicBezTo>
                      <a:pt x="32" y="48"/>
                      <a:pt x="31" y="36"/>
                      <a:pt x="38" y="29"/>
                    </a:cubicBezTo>
                    <a:cubicBezTo>
                      <a:pt x="45" y="22"/>
                      <a:pt x="53" y="18"/>
                      <a:pt x="69" y="14"/>
                    </a:cubicBezTo>
                    <a:cubicBezTo>
                      <a:pt x="85" y="10"/>
                      <a:pt x="113" y="4"/>
                      <a:pt x="137" y="2"/>
                    </a:cubicBezTo>
                    <a:cubicBezTo>
                      <a:pt x="161" y="0"/>
                      <a:pt x="194" y="1"/>
                      <a:pt x="213" y="2"/>
                    </a:cubicBezTo>
                    <a:cubicBezTo>
                      <a:pt x="232" y="3"/>
                      <a:pt x="237" y="4"/>
                      <a:pt x="251" y="7"/>
                    </a:cubicBezTo>
                    <a:cubicBezTo>
                      <a:pt x="265" y="10"/>
                      <a:pt x="287" y="11"/>
                      <a:pt x="297" y="19"/>
                    </a:cubicBezTo>
                    <a:cubicBezTo>
                      <a:pt x="307" y="27"/>
                      <a:pt x="307" y="44"/>
                      <a:pt x="311" y="53"/>
                    </a:cubicBezTo>
                    <a:cubicBezTo>
                      <a:pt x="315" y="62"/>
                      <a:pt x="318" y="70"/>
                      <a:pt x="321" y="74"/>
                    </a:cubicBezTo>
                    <a:cubicBezTo>
                      <a:pt x="324" y="78"/>
                      <a:pt x="327" y="75"/>
                      <a:pt x="330" y="80"/>
                    </a:cubicBezTo>
                    <a:cubicBezTo>
                      <a:pt x="333" y="85"/>
                      <a:pt x="342" y="99"/>
                      <a:pt x="338" y="107"/>
                    </a:cubicBezTo>
                    <a:cubicBezTo>
                      <a:pt x="334" y="115"/>
                      <a:pt x="327" y="121"/>
                      <a:pt x="309" y="130"/>
                    </a:cubicBezTo>
                    <a:cubicBezTo>
                      <a:pt x="291" y="139"/>
                      <a:pt x="247" y="153"/>
                      <a:pt x="227" y="160"/>
                    </a:cubicBezTo>
                    <a:cubicBezTo>
                      <a:pt x="207" y="167"/>
                      <a:pt x="201" y="167"/>
                      <a:pt x="189" y="169"/>
                    </a:cubicBezTo>
                    <a:cubicBezTo>
                      <a:pt x="177" y="171"/>
                      <a:pt x="160" y="170"/>
                      <a:pt x="152" y="170"/>
                    </a:cubicBezTo>
                  </a:path>
                </a:pathLst>
              </a:custGeom>
              <a:gradFill rotWithShape="0">
                <a:gsLst>
                  <a:gs pos="0">
                    <a:srgbClr val="6699ff"/>
                  </a:gs>
                  <a:gs pos="100000">
                    <a:srgbClr val="2f4675"/>
                  </a:gs>
                </a:gsLst>
                <a:lin ang="54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195" name=""/>
            <p:cNvSpPr/>
            <p:nvPr/>
          </p:nvSpPr>
          <p:spPr>
            <a:xfrm>
              <a:off x="6271920" y="142236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6" name=""/>
            <p:cNvSpPr/>
            <p:nvPr/>
          </p:nvSpPr>
          <p:spPr>
            <a:xfrm>
              <a:off x="5389560" y="5403960"/>
              <a:ext cx="1112760" cy="662040"/>
            </a:xfrm>
            <a:prstGeom prst="rect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7" name=""/>
            <p:cNvSpPr/>
            <p:nvPr/>
          </p:nvSpPr>
          <p:spPr>
            <a:xfrm>
              <a:off x="5388120" y="5573880"/>
              <a:ext cx="1110960" cy="54756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8" name=""/>
            <p:cNvSpPr/>
            <p:nvPr/>
          </p:nvSpPr>
          <p:spPr>
            <a:xfrm>
              <a:off x="5590440" y="5600880"/>
              <a:ext cx="83304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Arial"/>
                </a:rPr>
                <a:t>Buf </a:t>
              </a:r>
              <a:r>
                <a:rPr b="1" lang="cs-CZ" sz="2400" spc="-1" strike="noStrike" baseline="70000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9" name=""/>
            <p:cNvSpPr/>
            <p:nvPr/>
          </p:nvSpPr>
          <p:spPr>
            <a:xfrm>
              <a:off x="8074800" y="4371840"/>
              <a:ext cx="90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Arial"/>
                </a:rPr>
                <a:t>HBu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0" name=""/>
            <p:cNvSpPr/>
            <p:nvPr/>
          </p:nvSpPr>
          <p:spPr>
            <a:xfrm>
              <a:off x="5975280" y="3751200"/>
              <a:ext cx="1936800" cy="995400"/>
            </a:xfrm>
            <a:custGeom>
              <a:avLst/>
              <a:gdLst/>
              <a:ahLst/>
              <a:rect l="l" t="t" r="r" b="b"/>
              <a:pathLst>
                <a:path w="1220" h="627">
                  <a:moveTo>
                    <a:pt x="1220" y="627"/>
                  </a:moveTo>
                  <a:lnTo>
                    <a:pt x="827" y="627"/>
                  </a:lnTo>
                  <a:cubicBezTo>
                    <a:pt x="751" y="609"/>
                    <a:pt x="773" y="606"/>
                    <a:pt x="762" y="520"/>
                  </a:cubicBezTo>
                  <a:lnTo>
                    <a:pt x="760" y="111"/>
                  </a:lnTo>
                  <a:cubicBezTo>
                    <a:pt x="742" y="24"/>
                    <a:pt x="781" y="19"/>
                    <a:pt x="654" y="0"/>
                  </a:cubicBez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1" name=""/>
            <p:cNvSpPr/>
            <p:nvPr/>
          </p:nvSpPr>
          <p:spPr>
            <a:xfrm>
              <a:off x="6499080" y="4738680"/>
              <a:ext cx="1413000" cy="1027080"/>
            </a:xfrm>
            <a:custGeom>
              <a:avLst/>
              <a:gdLst/>
              <a:ahLst/>
              <a:rect l="l" t="t" r="r" b="b"/>
              <a:pathLst>
                <a:path w="890" h="647">
                  <a:moveTo>
                    <a:pt x="890" y="0"/>
                  </a:moveTo>
                  <a:lnTo>
                    <a:pt x="497" y="0"/>
                  </a:lnTo>
                  <a:cubicBezTo>
                    <a:pt x="421" y="18"/>
                    <a:pt x="443" y="15"/>
                    <a:pt x="432" y="107"/>
                  </a:cubicBezTo>
                  <a:lnTo>
                    <a:pt x="432" y="554"/>
                  </a:lnTo>
                  <a:cubicBezTo>
                    <a:pt x="419" y="644"/>
                    <a:pt x="423" y="629"/>
                    <a:pt x="351" y="645"/>
                  </a:cubicBezTo>
                  <a:lnTo>
                    <a:pt x="0" y="647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2" name=""/>
            <p:cNvSpPr/>
            <p:nvPr/>
          </p:nvSpPr>
          <p:spPr>
            <a:xfrm>
              <a:off x="8048520" y="4476600"/>
              <a:ext cx="9720" cy="293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3" name=""/>
            <p:cNvSpPr/>
            <p:nvPr/>
          </p:nvSpPr>
          <p:spPr>
            <a:xfrm>
              <a:off x="5538960" y="5667480"/>
              <a:ext cx="9360" cy="293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4" name=""/>
            <p:cNvSpPr/>
            <p:nvPr/>
          </p:nvSpPr>
          <p:spPr>
            <a:xfrm>
              <a:off x="2835360" y="0"/>
              <a:ext cx="38718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Respirační kompenza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metabolické acidóz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205" name=""/>
            <p:cNvGrpSpPr/>
            <p:nvPr/>
          </p:nvGrpSpPr>
          <p:grpSpPr>
            <a:xfrm>
              <a:off x="0" y="4673520"/>
              <a:ext cx="2573280" cy="1969200"/>
              <a:chOff x="0" y="4673520"/>
              <a:chExt cx="2573280" cy="1969200"/>
            </a:xfrm>
          </p:grpSpPr>
          <p:grpSp>
            <p:nvGrpSpPr>
              <p:cNvPr id="12206" name=""/>
              <p:cNvGrpSpPr/>
              <p:nvPr/>
            </p:nvGrpSpPr>
            <p:grpSpPr>
              <a:xfrm>
                <a:off x="244440" y="4772160"/>
                <a:ext cx="2260440" cy="1868040"/>
                <a:chOff x="244440" y="4772160"/>
                <a:chExt cx="2260440" cy="1868040"/>
              </a:xfrm>
            </p:grpSpPr>
            <p:sp>
              <p:nvSpPr>
                <p:cNvPr id="12207" name=""/>
                <p:cNvSpPr/>
                <p:nvPr/>
              </p:nvSpPr>
              <p:spPr>
                <a:xfrm>
                  <a:off x="244440" y="4772160"/>
                  <a:ext cx="2248560" cy="18615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208" name=""/>
                <p:cNvGrpSpPr/>
                <p:nvPr/>
              </p:nvGrpSpPr>
              <p:grpSpPr>
                <a:xfrm>
                  <a:off x="268560" y="4775760"/>
                  <a:ext cx="2206440" cy="1833120"/>
                  <a:chOff x="268560" y="4775760"/>
                  <a:chExt cx="2206440" cy="1833120"/>
                </a:xfrm>
              </p:grpSpPr>
              <p:sp>
                <p:nvSpPr>
                  <p:cNvPr id="12209" name=""/>
                  <p:cNvSpPr/>
                  <p:nvPr/>
                </p:nvSpPr>
                <p:spPr>
                  <a:xfrm>
                    <a:off x="522720" y="5971320"/>
                    <a:ext cx="717840" cy="637560"/>
                  </a:xfrm>
                  <a:custGeom>
                    <a:avLst/>
                    <a:gdLst/>
                    <a:ahLst/>
                    <a:rect l="l" t="t" r="r" b="b"/>
                    <a:pathLst>
                      <a:path w="1363" h="1020">
                        <a:moveTo>
                          <a:pt x="1030" y="0"/>
                        </a:moveTo>
                        <a:cubicBezTo>
                          <a:pt x="931" y="41"/>
                          <a:pt x="847" y="229"/>
                          <a:pt x="768" y="317"/>
                        </a:cubicBezTo>
                        <a:cubicBezTo>
                          <a:pt x="689" y="405"/>
                          <a:pt x="641" y="450"/>
                          <a:pt x="557" y="528"/>
                        </a:cubicBezTo>
                        <a:cubicBezTo>
                          <a:pt x="473" y="606"/>
                          <a:pt x="360" y="706"/>
                          <a:pt x="267" y="788"/>
                        </a:cubicBezTo>
                        <a:cubicBezTo>
                          <a:pt x="174" y="870"/>
                          <a:pt x="118" y="922"/>
                          <a:pt x="0" y="1020"/>
                        </a:cubicBezTo>
                        <a:cubicBezTo>
                          <a:pt x="111" y="1018"/>
                          <a:pt x="195" y="1018"/>
                          <a:pt x="267" y="1016"/>
                        </a:cubicBezTo>
                        <a:cubicBezTo>
                          <a:pt x="379" y="932"/>
                          <a:pt x="586" y="755"/>
                          <a:pt x="694" y="665"/>
                        </a:cubicBezTo>
                        <a:cubicBezTo>
                          <a:pt x="802" y="575"/>
                          <a:pt x="853" y="531"/>
                          <a:pt x="917" y="476"/>
                        </a:cubicBezTo>
                        <a:cubicBezTo>
                          <a:pt x="981" y="421"/>
                          <a:pt x="1027" y="381"/>
                          <a:pt x="1078" y="334"/>
                        </a:cubicBezTo>
                        <a:cubicBezTo>
                          <a:pt x="1129" y="287"/>
                          <a:pt x="1176" y="241"/>
                          <a:pt x="1224" y="197"/>
                        </a:cubicBezTo>
                        <a:lnTo>
                          <a:pt x="1363" y="70"/>
                        </a:lnTo>
                        <a:lnTo>
                          <a:pt x="1030" y="0"/>
                        </a:lnTo>
                        <a:close/>
                      </a:path>
                    </a:pathLst>
                  </a:custGeom>
                  <a:solidFill>
                    <a:srgbClr val="b2b2b2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10" name=""/>
                  <p:cNvSpPr/>
                  <p:nvPr/>
                </p:nvSpPr>
                <p:spPr>
                  <a:xfrm>
                    <a:off x="1308240" y="5126040"/>
                    <a:ext cx="1058040" cy="71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009" h="1148">
                        <a:moveTo>
                          <a:pt x="38" y="811"/>
                        </a:moveTo>
                        <a:cubicBezTo>
                          <a:pt x="30" y="770"/>
                          <a:pt x="0" y="826"/>
                          <a:pt x="329" y="691"/>
                        </a:cubicBezTo>
                        <a:lnTo>
                          <a:pt x="2009" y="0"/>
                        </a:lnTo>
                        <a:lnTo>
                          <a:pt x="2009" y="742"/>
                        </a:lnTo>
                        <a:lnTo>
                          <a:pt x="941" y="1148"/>
                        </a:lnTo>
                        <a:lnTo>
                          <a:pt x="38" y="1137"/>
                        </a:lnTo>
                        <a:lnTo>
                          <a:pt x="38" y="811"/>
                        </a:lnTo>
                        <a:close/>
                      </a:path>
                    </a:pathLst>
                  </a:custGeom>
                  <a:solidFill>
                    <a:srgbClr val="b2b2b2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11" name=""/>
                  <p:cNvSpPr/>
                  <p:nvPr/>
                </p:nvSpPr>
                <p:spPr>
                  <a:xfrm>
                    <a:off x="1183320" y="4780080"/>
                    <a:ext cx="673200" cy="11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278" h="1787">
                        <a:moveTo>
                          <a:pt x="0" y="1673"/>
                        </a:moveTo>
                        <a:lnTo>
                          <a:pt x="189" y="1341"/>
                        </a:lnTo>
                        <a:cubicBezTo>
                          <a:pt x="283" y="1169"/>
                          <a:pt x="458" y="843"/>
                          <a:pt x="566" y="638"/>
                        </a:cubicBezTo>
                        <a:cubicBezTo>
                          <a:pt x="674" y="433"/>
                          <a:pt x="781" y="213"/>
                          <a:pt x="835" y="107"/>
                        </a:cubicBezTo>
                        <a:lnTo>
                          <a:pt x="892" y="0"/>
                        </a:lnTo>
                        <a:lnTo>
                          <a:pt x="1278" y="2"/>
                        </a:lnTo>
                        <a:lnTo>
                          <a:pt x="1052" y="433"/>
                        </a:lnTo>
                        <a:cubicBezTo>
                          <a:pt x="925" y="674"/>
                          <a:pt x="635" y="1224"/>
                          <a:pt x="515" y="1450"/>
                        </a:cubicBezTo>
                        <a:lnTo>
                          <a:pt x="332" y="1787"/>
                        </a:lnTo>
                        <a:lnTo>
                          <a:pt x="0" y="1673"/>
                        </a:lnTo>
                        <a:close/>
                      </a:path>
                    </a:pathLst>
                  </a:custGeom>
                  <a:solidFill>
                    <a:srgbClr val="b2b2b2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12" name=""/>
                  <p:cNvSpPr/>
                  <p:nvPr/>
                </p:nvSpPr>
                <p:spPr>
                  <a:xfrm>
                    <a:off x="268560" y="5994000"/>
                    <a:ext cx="854640" cy="571680"/>
                  </a:xfrm>
                  <a:custGeom>
                    <a:avLst/>
                    <a:gdLst/>
                    <a:ahLst/>
                    <a:rect l="l" t="t" r="r" b="b"/>
                    <a:pathLst>
                      <a:path w="1623" h="914">
                        <a:moveTo>
                          <a:pt x="1206" y="23"/>
                        </a:moveTo>
                        <a:lnTo>
                          <a:pt x="0" y="680"/>
                        </a:lnTo>
                        <a:lnTo>
                          <a:pt x="0" y="914"/>
                        </a:lnTo>
                        <a:lnTo>
                          <a:pt x="1623" y="0"/>
                        </a:lnTo>
                      </a:path>
                    </a:pathLst>
                  </a:custGeom>
                  <a:solidFill>
                    <a:srgbClr val="b2b2b2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13" name=""/>
                  <p:cNvSpPr/>
                  <p:nvPr/>
                </p:nvSpPr>
                <p:spPr>
                  <a:xfrm>
                    <a:off x="283680" y="4775760"/>
                    <a:ext cx="2191320" cy="1830960"/>
                  </a:xfrm>
                  <a:custGeom>
                    <a:avLst/>
                    <a:gdLst/>
                    <a:ahLst/>
                    <a:rect l="l" t="t" r="r" b="b"/>
                    <a:pathLst>
                      <a:path w="4160" h="2928">
                        <a:moveTo>
                          <a:pt x="0" y="1645"/>
                        </a:moveTo>
                        <a:lnTo>
                          <a:pt x="1611" y="1645"/>
                        </a:lnTo>
                        <a:lnTo>
                          <a:pt x="1617" y="1451"/>
                        </a:lnTo>
                        <a:cubicBezTo>
                          <a:pt x="1600" y="1366"/>
                          <a:pt x="1537" y="1273"/>
                          <a:pt x="1508" y="1137"/>
                        </a:cubicBezTo>
                        <a:cubicBezTo>
                          <a:pt x="1479" y="1001"/>
                          <a:pt x="1466" y="783"/>
                          <a:pt x="1440" y="634"/>
                        </a:cubicBezTo>
                        <a:cubicBezTo>
                          <a:pt x="1414" y="485"/>
                          <a:pt x="1388" y="345"/>
                          <a:pt x="1354" y="240"/>
                        </a:cubicBezTo>
                        <a:lnTo>
                          <a:pt x="1234" y="2"/>
                        </a:lnTo>
                        <a:lnTo>
                          <a:pt x="1472" y="0"/>
                        </a:lnTo>
                        <a:cubicBezTo>
                          <a:pt x="1534" y="62"/>
                          <a:pt x="1570" y="242"/>
                          <a:pt x="1605" y="377"/>
                        </a:cubicBezTo>
                        <a:cubicBezTo>
                          <a:pt x="1640" y="512"/>
                          <a:pt x="1657" y="692"/>
                          <a:pt x="1680" y="811"/>
                        </a:cubicBezTo>
                        <a:cubicBezTo>
                          <a:pt x="1703" y="930"/>
                          <a:pt x="1712" y="982"/>
                          <a:pt x="1743" y="1091"/>
                        </a:cubicBezTo>
                        <a:cubicBezTo>
                          <a:pt x="1774" y="1200"/>
                          <a:pt x="1829" y="1376"/>
                          <a:pt x="1868" y="1468"/>
                        </a:cubicBezTo>
                        <a:lnTo>
                          <a:pt x="1977" y="1645"/>
                        </a:lnTo>
                        <a:lnTo>
                          <a:pt x="2926" y="1651"/>
                        </a:lnTo>
                        <a:lnTo>
                          <a:pt x="4160" y="1657"/>
                        </a:lnTo>
                        <a:lnTo>
                          <a:pt x="4160" y="2000"/>
                        </a:lnTo>
                        <a:lnTo>
                          <a:pt x="1926" y="2000"/>
                        </a:lnTo>
                        <a:lnTo>
                          <a:pt x="1914" y="2422"/>
                        </a:lnTo>
                        <a:lnTo>
                          <a:pt x="1913" y="2928"/>
                        </a:lnTo>
                        <a:lnTo>
                          <a:pt x="1611" y="2925"/>
                        </a:lnTo>
                        <a:lnTo>
                          <a:pt x="1605" y="2005"/>
                        </a:lnTo>
                        <a:lnTo>
                          <a:pt x="0" y="2005"/>
                        </a:lnTo>
                        <a:lnTo>
                          <a:pt x="0" y="1645"/>
                        </a:lnTo>
                        <a:close/>
                      </a:path>
                    </a:pathLst>
                  </a:custGeom>
                  <a:solidFill>
                    <a:srgbClr val="ffff66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2214" name=""/>
                <p:cNvSpPr/>
                <p:nvPr/>
              </p:nvSpPr>
              <p:spPr>
                <a:xfrm>
                  <a:off x="250560" y="4778640"/>
                  <a:ext cx="0" cy="18615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15" name=""/>
                <p:cNvSpPr/>
                <p:nvPr/>
              </p:nvSpPr>
              <p:spPr>
                <a:xfrm>
                  <a:off x="247320" y="6633720"/>
                  <a:ext cx="22575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16" name=""/>
              <p:cNvSpPr/>
              <p:nvPr/>
            </p:nvSpPr>
            <p:spPr>
              <a:xfrm>
                <a:off x="0" y="4673520"/>
                <a:ext cx="851040" cy="38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1800" spc="-1" strike="noStrike">
                    <a:solidFill>
                      <a:srgbClr val="000000"/>
                    </a:solidFill>
                    <a:latin typeface="Times New Roman"/>
                  </a:rPr>
                  <a:t>P</a:t>
                </a:r>
                <a:r>
                  <a:rPr b="1" lang="cs-CZ" sz="1400" spc="-1" strike="noStrike">
                    <a:solidFill>
                      <a:srgbClr val="000000"/>
                    </a:solidFill>
                    <a:latin typeface="Times New Roman"/>
                  </a:rPr>
                  <a:t>CO</a:t>
                </a:r>
                <a:r>
                  <a:rPr b="1" lang="cs-CZ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17" name=""/>
              <p:cNvSpPr/>
              <p:nvPr/>
            </p:nvSpPr>
            <p:spPr>
              <a:xfrm>
                <a:off x="2139840" y="6335640"/>
                <a:ext cx="433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1400" spc="-1" strike="noStrike">
                    <a:solidFill>
                      <a:srgbClr val="000000"/>
                    </a:solidFill>
                    <a:latin typeface="Times New Roman"/>
                  </a:rPr>
                  <a:t>B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18" name=""/>
            <p:cNvSpPr/>
            <p:nvPr/>
          </p:nvSpPr>
          <p:spPr>
            <a:xfrm flipH="1">
              <a:off x="517680" y="5923080"/>
              <a:ext cx="698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9" name=""/>
            <p:cNvSpPr/>
            <p:nvPr/>
          </p:nvSpPr>
          <p:spPr>
            <a:xfrm>
              <a:off x="507960" y="5911920"/>
              <a:ext cx="0" cy="417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20" name=""/>
          <p:cNvGrpSpPr/>
          <p:nvPr/>
        </p:nvGrpSpPr>
        <p:grpSpPr>
          <a:xfrm>
            <a:off x="-106200" y="27000"/>
            <a:ext cx="9388440" cy="6865200"/>
            <a:chOff x="-106200" y="27000"/>
            <a:chExt cx="9388440" cy="6865200"/>
          </a:xfrm>
        </p:grpSpPr>
        <p:sp>
          <p:nvSpPr>
            <p:cNvPr id="12221" name=""/>
            <p:cNvSpPr/>
            <p:nvPr/>
          </p:nvSpPr>
          <p:spPr>
            <a:xfrm>
              <a:off x="6872400" y="6032520"/>
              <a:ext cx="52380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cs-CZ" sz="2400" spc="-1" strike="noStrike" baseline="7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2222" name=""/>
            <p:cNvGraphicFramePr/>
            <p:nvPr/>
          </p:nvGraphicFramePr>
          <p:xfrm>
            <a:off x="3948120" y="3998880"/>
            <a:ext cx="1312920" cy="15541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222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948120" y="3998880"/>
                      <a:ext cx="1312920" cy="1554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224" name=""/>
            <p:cNvSpPr/>
            <p:nvPr/>
          </p:nvSpPr>
          <p:spPr>
            <a:xfrm rot="5400000">
              <a:off x="6119280" y="858600"/>
              <a:ext cx="504720" cy="584280"/>
            </a:xfrm>
            <a:custGeom>
              <a:avLst/>
              <a:gdLst>
                <a:gd name="textAreaLeft" fmla="*/ 0 w 504720"/>
                <a:gd name="textAreaRight" fmla="*/ 505080 w 504720"/>
                <a:gd name="textAreaTop" fmla="*/ 0 h 584280"/>
                <a:gd name="textAreaBottom" fmla="*/ 584640 h 584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260" stAng="10800000" swAng="5400000"/>
                  <a:lnTo>
                    <a:pt x="15100" y="2900"/>
                  </a:lnTo>
                  <a:lnTo>
                    <a:pt x="15100" y="0"/>
                  </a:lnTo>
                  <a:lnTo>
                    <a:pt x="21600" y="6079"/>
                  </a:lnTo>
                  <a:lnTo>
                    <a:pt x="15100" y="12158"/>
                  </a:lnTo>
                  <a:lnTo>
                    <a:pt x="15100" y="9258"/>
                  </a:lnTo>
                  <a:lnTo>
                    <a:pt x="12427" y="9258"/>
                  </a:lnTo>
                  <a:arcTo wR="6069" hR="2902" stAng="16200000" swAng="-5400000"/>
                  <a:lnTo>
                    <a:pt x="6358" y="21600"/>
                  </a:lnTo>
                  <a:close/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5" name=""/>
            <p:cNvSpPr/>
            <p:nvPr/>
          </p:nvSpPr>
          <p:spPr>
            <a:xfrm flipV="1">
              <a:off x="7115040" y="2253600"/>
              <a:ext cx="543240" cy="517320"/>
            </a:xfrm>
            <a:custGeom>
              <a:avLst/>
              <a:gdLst>
                <a:gd name="textAreaLeft" fmla="*/ 0 w 543240"/>
                <a:gd name="textAreaRight" fmla="*/ 543600 w 543240"/>
                <a:gd name="textAreaTop" fmla="*/ -360 h 517320"/>
                <a:gd name="textAreaBottom" fmla="*/ 517320 h 517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260" stAng="10800000" swAng="5400000"/>
                  <a:lnTo>
                    <a:pt x="15100" y="2900"/>
                  </a:lnTo>
                  <a:lnTo>
                    <a:pt x="15100" y="0"/>
                  </a:lnTo>
                  <a:lnTo>
                    <a:pt x="21600" y="6079"/>
                  </a:lnTo>
                  <a:lnTo>
                    <a:pt x="15100" y="12158"/>
                  </a:lnTo>
                  <a:lnTo>
                    <a:pt x="15100" y="9258"/>
                  </a:lnTo>
                  <a:lnTo>
                    <a:pt x="12427" y="9258"/>
                  </a:lnTo>
                  <a:arcTo wR="6069" hR="2902" stAng="16200000" swAng="-5400000"/>
                  <a:lnTo>
                    <a:pt x="6358" y="2160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6" name=""/>
            <p:cNvSpPr/>
            <p:nvPr/>
          </p:nvSpPr>
          <p:spPr>
            <a:xfrm>
              <a:off x="6861240" y="2427120"/>
              <a:ext cx="263520" cy="171324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7" name=""/>
            <p:cNvSpPr/>
            <p:nvPr/>
          </p:nvSpPr>
          <p:spPr>
            <a:xfrm flipV="1">
              <a:off x="6865920" y="3792600"/>
              <a:ext cx="863640" cy="828720"/>
            </a:xfrm>
            <a:custGeom>
              <a:avLst/>
              <a:gdLst>
                <a:gd name="textAreaLeft" fmla="*/ 0 w 863640"/>
                <a:gd name="textAreaRight" fmla="*/ 864000 w 863640"/>
                <a:gd name="textAreaTop" fmla="*/ 360 h 828720"/>
                <a:gd name="textAreaBottom" fmla="*/ 829440 h 828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260" stAng="10800000" swAng="5400000"/>
                  <a:lnTo>
                    <a:pt x="15100" y="2900"/>
                  </a:lnTo>
                  <a:lnTo>
                    <a:pt x="15100" y="0"/>
                  </a:lnTo>
                  <a:lnTo>
                    <a:pt x="21600" y="6079"/>
                  </a:lnTo>
                  <a:lnTo>
                    <a:pt x="15100" y="12158"/>
                  </a:lnTo>
                  <a:lnTo>
                    <a:pt x="15100" y="9258"/>
                  </a:lnTo>
                  <a:lnTo>
                    <a:pt x="12427" y="9258"/>
                  </a:lnTo>
                  <a:arcTo wR="6069" hR="2902" stAng="16200000" swAng="-5400000"/>
                  <a:lnTo>
                    <a:pt x="6358" y="2160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8" name=""/>
            <p:cNvSpPr/>
            <p:nvPr/>
          </p:nvSpPr>
          <p:spPr>
            <a:xfrm>
              <a:off x="7488360" y="4146480"/>
              <a:ext cx="1069920" cy="460440"/>
            </a:xfrm>
            <a:prstGeom prst="rightArrow">
              <a:avLst>
                <a:gd name="adj1" fmla="val 50000"/>
                <a:gd name="adj2" fmla="val 58092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9" name=""/>
            <p:cNvSpPr/>
            <p:nvPr/>
          </p:nvSpPr>
          <p:spPr>
            <a:xfrm flipH="1" rot="16200000">
              <a:off x="6598800" y="3980520"/>
              <a:ext cx="582480" cy="428760"/>
            </a:xfrm>
            <a:custGeom>
              <a:avLst/>
              <a:gdLst>
                <a:gd name="textAreaLeft" fmla="*/ 360 w 582480"/>
                <a:gd name="textAreaRight" fmla="*/ 583200 w 582480"/>
                <a:gd name="textAreaTop" fmla="*/ 0 h 428760"/>
                <a:gd name="textAreaBottom" fmla="*/ 429120 h 428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260" stAng="10800000" swAng="5400000"/>
                  <a:lnTo>
                    <a:pt x="15100" y="2900"/>
                  </a:lnTo>
                  <a:lnTo>
                    <a:pt x="15100" y="0"/>
                  </a:lnTo>
                  <a:lnTo>
                    <a:pt x="21600" y="6079"/>
                  </a:lnTo>
                  <a:lnTo>
                    <a:pt x="15100" y="12158"/>
                  </a:lnTo>
                  <a:lnTo>
                    <a:pt x="15100" y="9258"/>
                  </a:lnTo>
                  <a:lnTo>
                    <a:pt x="12427" y="9258"/>
                  </a:lnTo>
                  <a:arcTo wR="6069" hR="2902" stAng="16200000" swAng="-5400000"/>
                  <a:lnTo>
                    <a:pt x="6358" y="21600"/>
                  </a:lnTo>
                  <a:close/>
                </a:path>
              </a:pathLst>
            </a:cu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0" name=""/>
            <p:cNvSpPr/>
            <p:nvPr/>
          </p:nvSpPr>
          <p:spPr>
            <a:xfrm>
              <a:off x="7075440" y="3902040"/>
              <a:ext cx="1222560" cy="176400"/>
            </a:xfrm>
            <a:prstGeom prst="rect">
              <a:avLst/>
            </a:pr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1" name=""/>
            <p:cNvSpPr/>
            <p:nvPr/>
          </p:nvSpPr>
          <p:spPr>
            <a:xfrm>
              <a:off x="7273800" y="4633920"/>
              <a:ext cx="852480" cy="176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2" name=""/>
            <p:cNvSpPr/>
            <p:nvPr/>
          </p:nvSpPr>
          <p:spPr>
            <a:xfrm flipH="1" rot="16200000">
              <a:off x="6906240" y="4645080"/>
              <a:ext cx="593640" cy="571320"/>
            </a:xfrm>
            <a:custGeom>
              <a:avLst/>
              <a:gdLst>
                <a:gd name="textAreaLeft" fmla="*/ -360 w 593640"/>
                <a:gd name="textAreaRight" fmla="*/ 593640 w 593640"/>
                <a:gd name="textAreaTop" fmla="*/ 0 h 571320"/>
                <a:gd name="textAreaBottom" fmla="*/ 571680 h 571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260" stAng="10800000" swAng="5400000"/>
                  <a:lnTo>
                    <a:pt x="15100" y="2900"/>
                  </a:lnTo>
                  <a:lnTo>
                    <a:pt x="15100" y="0"/>
                  </a:lnTo>
                  <a:lnTo>
                    <a:pt x="21600" y="6079"/>
                  </a:lnTo>
                  <a:lnTo>
                    <a:pt x="15100" y="12158"/>
                  </a:lnTo>
                  <a:lnTo>
                    <a:pt x="15100" y="9258"/>
                  </a:lnTo>
                  <a:lnTo>
                    <a:pt x="12427" y="9258"/>
                  </a:lnTo>
                  <a:arcTo wR="6069" hR="2902" stAng="16200000" swAng="-5400000"/>
                  <a:lnTo>
                    <a:pt x="6358" y="216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3" name=""/>
            <p:cNvSpPr/>
            <p:nvPr/>
          </p:nvSpPr>
          <p:spPr>
            <a:xfrm>
              <a:off x="6996240" y="4968720"/>
              <a:ext cx="160200" cy="887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4" name=""/>
            <p:cNvSpPr/>
            <p:nvPr/>
          </p:nvSpPr>
          <p:spPr>
            <a:xfrm>
              <a:off x="6750000" y="4344840"/>
              <a:ext cx="117360" cy="1214640"/>
            </a:xfrm>
            <a:prstGeom prst="rect">
              <a:avLst/>
            </a:pr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5" name=""/>
            <p:cNvSpPr/>
            <p:nvPr/>
          </p:nvSpPr>
          <p:spPr>
            <a:xfrm>
              <a:off x="6692760" y="5407200"/>
              <a:ext cx="230400" cy="368280"/>
            </a:xfrm>
            <a:prstGeom prst="downArrow">
              <a:avLst>
                <a:gd name="adj1" fmla="val 50000"/>
                <a:gd name="adj2" fmla="val 39961"/>
              </a:avLst>
            </a:pr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6" name=""/>
            <p:cNvSpPr/>
            <p:nvPr/>
          </p:nvSpPr>
          <p:spPr>
            <a:xfrm>
              <a:off x="6916680" y="5622840"/>
              <a:ext cx="316080" cy="376200"/>
            </a:xfrm>
            <a:prstGeom prst="downArrow">
              <a:avLst>
                <a:gd name="adj1" fmla="val 50000"/>
                <a:gd name="adj2" fmla="val 29755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7" name=""/>
            <p:cNvSpPr/>
            <p:nvPr/>
          </p:nvSpPr>
          <p:spPr>
            <a:xfrm flipV="1">
              <a:off x="6432480" y="2550240"/>
              <a:ext cx="517680" cy="489240"/>
            </a:xfrm>
            <a:custGeom>
              <a:avLst/>
              <a:gdLst>
                <a:gd name="textAreaLeft" fmla="*/ 0 w 517680"/>
                <a:gd name="textAreaRight" fmla="*/ 518040 w 517680"/>
                <a:gd name="textAreaTop" fmla="*/ 0 h 489240"/>
                <a:gd name="textAreaBottom" fmla="*/ 489240 h 489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260" stAng="10800000" swAng="5400000"/>
                  <a:lnTo>
                    <a:pt x="15100" y="2900"/>
                  </a:lnTo>
                  <a:lnTo>
                    <a:pt x="15100" y="0"/>
                  </a:lnTo>
                  <a:lnTo>
                    <a:pt x="21600" y="6079"/>
                  </a:lnTo>
                  <a:lnTo>
                    <a:pt x="15100" y="12158"/>
                  </a:lnTo>
                  <a:lnTo>
                    <a:pt x="15100" y="9258"/>
                  </a:lnTo>
                  <a:lnTo>
                    <a:pt x="12427" y="9258"/>
                  </a:lnTo>
                  <a:arcTo wR="6069" hR="2902" stAng="16200000" swAng="-5400000"/>
                  <a:lnTo>
                    <a:pt x="6358" y="21600"/>
                  </a:lnTo>
                  <a:close/>
                </a:path>
              </a:pathLst>
            </a:cu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8" name=""/>
            <p:cNvSpPr/>
            <p:nvPr/>
          </p:nvSpPr>
          <p:spPr>
            <a:xfrm>
              <a:off x="6759720" y="2770200"/>
              <a:ext cx="976320" cy="270000"/>
            </a:xfrm>
            <a:prstGeom prst="rightArrow">
              <a:avLst>
                <a:gd name="adj1" fmla="val 50000"/>
                <a:gd name="adj2" fmla="val 90400"/>
              </a:avLst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9" name=""/>
            <p:cNvSpPr/>
            <p:nvPr/>
          </p:nvSpPr>
          <p:spPr>
            <a:xfrm>
              <a:off x="6431040" y="1160640"/>
              <a:ext cx="158760" cy="14079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0" name=""/>
            <p:cNvSpPr/>
            <p:nvPr/>
          </p:nvSpPr>
          <p:spPr>
            <a:xfrm>
              <a:off x="7710120" y="2697120"/>
              <a:ext cx="54504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Arial"/>
                </a:rPr>
                <a:t>Cl</a:t>
              </a:r>
              <a:r>
                <a:rPr b="1" lang="cs-CZ" sz="2400" spc="-1" strike="noStrike" baseline="70000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1" name=""/>
            <p:cNvSpPr/>
            <p:nvPr/>
          </p:nvSpPr>
          <p:spPr>
            <a:xfrm>
              <a:off x="5544720" y="773280"/>
              <a:ext cx="54504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Arial"/>
                </a:rPr>
                <a:t>Cl</a:t>
              </a:r>
              <a:r>
                <a:rPr b="1" lang="cs-CZ" sz="2400" spc="-1" strike="noStrike" baseline="70000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2" name=""/>
            <p:cNvSpPr/>
            <p:nvPr/>
          </p:nvSpPr>
          <p:spPr>
            <a:xfrm>
              <a:off x="8298000" y="3753000"/>
              <a:ext cx="52380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1" lang="cs-CZ" sz="2400" spc="-1" strike="noStrike" baseline="7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3" name=""/>
            <p:cNvSpPr/>
            <p:nvPr/>
          </p:nvSpPr>
          <p:spPr>
            <a:xfrm>
              <a:off x="6505560" y="5769000"/>
              <a:ext cx="52380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1" lang="cs-CZ" sz="2400" spc="-1" strike="noStrike" baseline="7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4" name=""/>
            <p:cNvSpPr/>
            <p:nvPr/>
          </p:nvSpPr>
          <p:spPr>
            <a:xfrm>
              <a:off x="8050320" y="4603680"/>
              <a:ext cx="52380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cs-CZ" sz="2400" spc="-1" strike="noStrike" baseline="7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5" name=""/>
            <p:cNvSpPr/>
            <p:nvPr/>
          </p:nvSpPr>
          <p:spPr>
            <a:xfrm>
              <a:off x="7624800" y="2249640"/>
              <a:ext cx="80964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Arial"/>
                </a:rPr>
                <a:t>Na</a:t>
              </a:r>
              <a:r>
                <a:rPr b="1" lang="cs-CZ" sz="2400" spc="-1" strike="noStrike" baseline="7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6" name=""/>
            <p:cNvSpPr/>
            <p:nvPr/>
          </p:nvSpPr>
          <p:spPr>
            <a:xfrm>
              <a:off x="5327640" y="360360"/>
              <a:ext cx="80964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Arial"/>
                </a:rPr>
                <a:t>Na</a:t>
              </a:r>
              <a:r>
                <a:rPr b="1" lang="cs-CZ" sz="2400" spc="-1" strike="noStrike" baseline="7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7" name=""/>
            <p:cNvSpPr/>
            <p:nvPr/>
          </p:nvSpPr>
          <p:spPr>
            <a:xfrm>
              <a:off x="6862680" y="1149480"/>
              <a:ext cx="414360" cy="132228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8" name=""/>
            <p:cNvSpPr/>
            <p:nvPr/>
          </p:nvSpPr>
          <p:spPr>
            <a:xfrm rot="5400000">
              <a:off x="6114240" y="371880"/>
              <a:ext cx="1298880" cy="1401840"/>
            </a:xfrm>
            <a:custGeom>
              <a:avLst/>
              <a:gdLst>
                <a:gd name="textAreaLeft" fmla="*/ 0 w 1298880"/>
                <a:gd name="textAreaRight" fmla="*/ 1299240 w 1298880"/>
                <a:gd name="textAreaTop" fmla="*/ 0 h 1401840"/>
                <a:gd name="textAreaBottom" fmla="*/ 1402200 h 1401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260" stAng="10800000" swAng="5400000"/>
                  <a:lnTo>
                    <a:pt x="15100" y="2900"/>
                  </a:lnTo>
                  <a:lnTo>
                    <a:pt x="15100" y="0"/>
                  </a:lnTo>
                  <a:lnTo>
                    <a:pt x="21600" y="6079"/>
                  </a:lnTo>
                  <a:lnTo>
                    <a:pt x="15100" y="12158"/>
                  </a:lnTo>
                  <a:lnTo>
                    <a:pt x="15100" y="9258"/>
                  </a:lnTo>
                  <a:lnTo>
                    <a:pt x="12427" y="9258"/>
                  </a:lnTo>
                  <a:arcTo wR="6069" hR="2902" stAng="16200000" swAng="-5400000"/>
                  <a:lnTo>
                    <a:pt x="6358" y="2160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9" name=""/>
            <p:cNvSpPr/>
            <p:nvPr/>
          </p:nvSpPr>
          <p:spPr>
            <a:xfrm>
              <a:off x="8472600" y="4119480"/>
              <a:ext cx="80964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Arial"/>
                </a:rPr>
                <a:t>Na</a:t>
              </a:r>
              <a:r>
                <a:rPr b="1" lang="cs-CZ" sz="2400" spc="-1" strike="noStrike" baseline="7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250" name=""/>
            <p:cNvGrpSpPr/>
            <p:nvPr/>
          </p:nvGrpSpPr>
          <p:grpSpPr>
            <a:xfrm>
              <a:off x="3595680" y="539640"/>
              <a:ext cx="1372680" cy="1718640"/>
              <a:chOff x="3595680" y="539640"/>
              <a:chExt cx="1372680" cy="1718640"/>
            </a:xfrm>
          </p:grpSpPr>
          <p:sp>
            <p:nvSpPr>
              <p:cNvPr id="12251" name=""/>
              <p:cNvSpPr/>
              <p:nvPr/>
            </p:nvSpPr>
            <p:spPr>
              <a:xfrm>
                <a:off x="3595680" y="583560"/>
                <a:ext cx="1372680" cy="1674720"/>
              </a:xfrm>
              <a:custGeom>
                <a:avLst/>
                <a:gdLst/>
                <a:ahLst/>
                <a:rect l="l" t="t" r="r" b="b"/>
                <a:pathLst>
                  <a:path w="1845" h="2066">
                    <a:moveTo>
                      <a:pt x="13" y="1900"/>
                    </a:moveTo>
                    <a:lnTo>
                      <a:pt x="0" y="1824"/>
                    </a:lnTo>
                    <a:lnTo>
                      <a:pt x="0" y="1721"/>
                    </a:lnTo>
                    <a:lnTo>
                      <a:pt x="9" y="1669"/>
                    </a:lnTo>
                    <a:lnTo>
                      <a:pt x="21" y="1624"/>
                    </a:lnTo>
                    <a:lnTo>
                      <a:pt x="58" y="1581"/>
                    </a:lnTo>
                    <a:lnTo>
                      <a:pt x="90" y="1549"/>
                    </a:lnTo>
                    <a:lnTo>
                      <a:pt x="144" y="1521"/>
                    </a:lnTo>
                    <a:lnTo>
                      <a:pt x="193" y="1515"/>
                    </a:lnTo>
                    <a:lnTo>
                      <a:pt x="240" y="1515"/>
                    </a:lnTo>
                    <a:lnTo>
                      <a:pt x="295" y="1535"/>
                    </a:lnTo>
                    <a:lnTo>
                      <a:pt x="391" y="1570"/>
                    </a:lnTo>
                    <a:lnTo>
                      <a:pt x="446" y="1535"/>
                    </a:lnTo>
                    <a:lnTo>
                      <a:pt x="508" y="1501"/>
                    </a:lnTo>
                    <a:lnTo>
                      <a:pt x="590" y="1480"/>
                    </a:lnTo>
                    <a:lnTo>
                      <a:pt x="686" y="1473"/>
                    </a:lnTo>
                    <a:lnTo>
                      <a:pt x="755" y="1466"/>
                    </a:lnTo>
                    <a:lnTo>
                      <a:pt x="817" y="1424"/>
                    </a:lnTo>
                    <a:lnTo>
                      <a:pt x="877" y="1342"/>
                    </a:lnTo>
                    <a:lnTo>
                      <a:pt x="906" y="1259"/>
                    </a:lnTo>
                    <a:lnTo>
                      <a:pt x="912" y="1173"/>
                    </a:lnTo>
                    <a:lnTo>
                      <a:pt x="903" y="1131"/>
                    </a:lnTo>
                    <a:lnTo>
                      <a:pt x="892" y="1089"/>
                    </a:lnTo>
                    <a:lnTo>
                      <a:pt x="846" y="959"/>
                    </a:lnTo>
                    <a:lnTo>
                      <a:pt x="803" y="796"/>
                    </a:lnTo>
                    <a:lnTo>
                      <a:pt x="768" y="605"/>
                    </a:lnTo>
                    <a:lnTo>
                      <a:pt x="748" y="371"/>
                    </a:lnTo>
                    <a:lnTo>
                      <a:pt x="744" y="146"/>
                    </a:lnTo>
                    <a:lnTo>
                      <a:pt x="741" y="0"/>
                    </a:lnTo>
                    <a:lnTo>
                      <a:pt x="749" y="17"/>
                    </a:lnTo>
                    <a:lnTo>
                      <a:pt x="772" y="31"/>
                    </a:lnTo>
                    <a:lnTo>
                      <a:pt x="803" y="40"/>
                    </a:lnTo>
                    <a:lnTo>
                      <a:pt x="837" y="44"/>
                    </a:lnTo>
                    <a:lnTo>
                      <a:pt x="880" y="47"/>
                    </a:lnTo>
                    <a:lnTo>
                      <a:pt x="926" y="43"/>
                    </a:lnTo>
                    <a:lnTo>
                      <a:pt x="961" y="36"/>
                    </a:lnTo>
                    <a:lnTo>
                      <a:pt x="989" y="20"/>
                    </a:lnTo>
                    <a:lnTo>
                      <a:pt x="1008" y="1"/>
                    </a:lnTo>
                    <a:lnTo>
                      <a:pt x="1001" y="139"/>
                    </a:lnTo>
                    <a:lnTo>
                      <a:pt x="1004" y="350"/>
                    </a:lnTo>
                    <a:lnTo>
                      <a:pt x="1022" y="592"/>
                    </a:lnTo>
                    <a:lnTo>
                      <a:pt x="1051" y="786"/>
                    </a:lnTo>
                    <a:lnTo>
                      <a:pt x="1104" y="1053"/>
                    </a:lnTo>
                    <a:lnTo>
                      <a:pt x="1185" y="951"/>
                    </a:lnTo>
                    <a:lnTo>
                      <a:pt x="1241" y="894"/>
                    </a:lnTo>
                    <a:lnTo>
                      <a:pt x="1307" y="842"/>
                    </a:lnTo>
                    <a:lnTo>
                      <a:pt x="1392" y="793"/>
                    </a:lnTo>
                    <a:lnTo>
                      <a:pt x="1438" y="777"/>
                    </a:lnTo>
                    <a:lnTo>
                      <a:pt x="1477" y="770"/>
                    </a:lnTo>
                    <a:lnTo>
                      <a:pt x="1524" y="763"/>
                    </a:lnTo>
                    <a:lnTo>
                      <a:pt x="1574" y="766"/>
                    </a:lnTo>
                    <a:lnTo>
                      <a:pt x="1628" y="780"/>
                    </a:lnTo>
                    <a:lnTo>
                      <a:pt x="1678" y="812"/>
                    </a:lnTo>
                    <a:lnTo>
                      <a:pt x="1720" y="848"/>
                    </a:lnTo>
                    <a:lnTo>
                      <a:pt x="1748" y="888"/>
                    </a:lnTo>
                    <a:lnTo>
                      <a:pt x="1779" y="947"/>
                    </a:lnTo>
                    <a:lnTo>
                      <a:pt x="1803" y="1025"/>
                    </a:lnTo>
                    <a:lnTo>
                      <a:pt x="1826" y="1122"/>
                    </a:lnTo>
                    <a:lnTo>
                      <a:pt x="1845" y="1266"/>
                    </a:lnTo>
                    <a:lnTo>
                      <a:pt x="1838" y="1361"/>
                    </a:lnTo>
                    <a:lnTo>
                      <a:pt x="1803" y="1462"/>
                    </a:lnTo>
                    <a:lnTo>
                      <a:pt x="1760" y="1532"/>
                    </a:lnTo>
                    <a:lnTo>
                      <a:pt x="1717" y="1608"/>
                    </a:lnTo>
                    <a:lnTo>
                      <a:pt x="1659" y="1677"/>
                    </a:lnTo>
                    <a:lnTo>
                      <a:pt x="1619" y="1732"/>
                    </a:lnTo>
                    <a:lnTo>
                      <a:pt x="1562" y="1788"/>
                    </a:lnTo>
                    <a:lnTo>
                      <a:pt x="1503" y="1834"/>
                    </a:lnTo>
                    <a:lnTo>
                      <a:pt x="1419" y="1886"/>
                    </a:lnTo>
                    <a:lnTo>
                      <a:pt x="1329" y="1930"/>
                    </a:lnTo>
                    <a:lnTo>
                      <a:pt x="1275" y="1948"/>
                    </a:lnTo>
                    <a:lnTo>
                      <a:pt x="1178" y="1985"/>
                    </a:lnTo>
                    <a:lnTo>
                      <a:pt x="1077" y="2012"/>
                    </a:lnTo>
                    <a:lnTo>
                      <a:pt x="918" y="2047"/>
                    </a:lnTo>
                    <a:lnTo>
                      <a:pt x="741" y="2066"/>
                    </a:lnTo>
                    <a:lnTo>
                      <a:pt x="583" y="2051"/>
                    </a:lnTo>
                    <a:lnTo>
                      <a:pt x="511" y="2043"/>
                    </a:lnTo>
                    <a:lnTo>
                      <a:pt x="453" y="2024"/>
                    </a:lnTo>
                    <a:lnTo>
                      <a:pt x="364" y="1955"/>
                    </a:lnTo>
                    <a:lnTo>
                      <a:pt x="288" y="1851"/>
                    </a:lnTo>
                    <a:lnTo>
                      <a:pt x="261" y="1817"/>
                    </a:lnTo>
                    <a:lnTo>
                      <a:pt x="229" y="1815"/>
                    </a:lnTo>
                    <a:lnTo>
                      <a:pt x="199" y="1831"/>
                    </a:lnTo>
                    <a:lnTo>
                      <a:pt x="179" y="1907"/>
                    </a:lnTo>
                    <a:lnTo>
                      <a:pt x="117" y="1920"/>
                    </a:lnTo>
                    <a:lnTo>
                      <a:pt x="54" y="1916"/>
                    </a:lnTo>
                    <a:lnTo>
                      <a:pt x="13" y="1900"/>
                    </a:lnTo>
                    <a:close/>
                  </a:path>
                </a:pathLst>
              </a:custGeom>
              <a:solidFill>
                <a:srgbClr val="40ff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52" name=""/>
              <p:cNvSpPr/>
              <p:nvPr/>
            </p:nvSpPr>
            <p:spPr>
              <a:xfrm>
                <a:off x="4147200" y="539640"/>
                <a:ext cx="198360" cy="80280"/>
              </a:xfrm>
              <a:prstGeom prst="ellipse">
                <a:avLst/>
              </a:prstGeom>
              <a:solidFill>
                <a:srgbClr val="00a0a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53" name=""/>
            <p:cNvSpPr/>
            <p:nvPr/>
          </p:nvSpPr>
          <p:spPr>
            <a:xfrm>
              <a:off x="4114800" y="1697040"/>
              <a:ext cx="52380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cs-CZ" sz="2400" spc="-1" strike="noStrike" baseline="7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4" name=""/>
            <p:cNvSpPr/>
            <p:nvPr/>
          </p:nvSpPr>
          <p:spPr>
            <a:xfrm>
              <a:off x="4366800" y="1343160"/>
              <a:ext cx="54504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Arial"/>
                </a:rPr>
                <a:t>Cl</a:t>
              </a:r>
              <a:r>
                <a:rPr b="1" lang="cs-CZ" sz="2400" spc="-1" strike="noStrike" baseline="70000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5" name=""/>
            <p:cNvSpPr/>
            <p:nvPr/>
          </p:nvSpPr>
          <p:spPr>
            <a:xfrm>
              <a:off x="4946760" y="1206360"/>
              <a:ext cx="898560" cy="511200"/>
            </a:xfrm>
            <a:custGeom>
              <a:avLst/>
              <a:gdLst/>
              <a:ahLst/>
              <a:rect l="l" t="t" r="r" b="b"/>
              <a:pathLst>
                <a:path w="566" h="322">
                  <a:moveTo>
                    <a:pt x="531" y="0"/>
                  </a:moveTo>
                  <a:cubicBezTo>
                    <a:pt x="522" y="45"/>
                    <a:pt x="566" y="220"/>
                    <a:pt x="478" y="271"/>
                  </a:cubicBezTo>
                  <a:cubicBezTo>
                    <a:pt x="390" y="322"/>
                    <a:pt x="100" y="300"/>
                    <a:pt x="0" y="308"/>
                  </a:cubicBezTo>
                </a:path>
              </a:pathLst>
            </a:custGeom>
            <a:noFill/>
            <a:ln w="76320">
              <a:solidFill>
                <a:srgbClr val="0099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6" name=""/>
            <p:cNvSpPr/>
            <p:nvPr/>
          </p:nvSpPr>
          <p:spPr>
            <a:xfrm>
              <a:off x="4032360" y="5965920"/>
              <a:ext cx="52380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cs-CZ" sz="2400" spc="-1" strike="noStrike" baseline="7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7" name=""/>
            <p:cNvSpPr/>
            <p:nvPr/>
          </p:nvSpPr>
          <p:spPr>
            <a:xfrm>
              <a:off x="5168880" y="2568600"/>
              <a:ext cx="1231920" cy="1509840"/>
            </a:xfrm>
            <a:prstGeom prst="rect">
              <a:avLst/>
            </a:prstGeom>
            <a:solidFill>
              <a:srgbClr val="ffff66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8" name=""/>
            <p:cNvSpPr/>
            <p:nvPr/>
          </p:nvSpPr>
          <p:spPr>
            <a:xfrm>
              <a:off x="4443480" y="5985000"/>
              <a:ext cx="52380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1" lang="cs-CZ" sz="2400" spc="-1" strike="noStrike" baseline="7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9" name=""/>
            <p:cNvSpPr/>
            <p:nvPr/>
          </p:nvSpPr>
          <p:spPr>
            <a:xfrm>
              <a:off x="5491080" y="3127320"/>
              <a:ext cx="52380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1" lang="cs-CZ" sz="2400" spc="-1" strike="noStrike" baseline="7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0" name=""/>
            <p:cNvSpPr/>
            <p:nvPr/>
          </p:nvSpPr>
          <p:spPr>
            <a:xfrm>
              <a:off x="5491080" y="2671920"/>
              <a:ext cx="52380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cs-CZ" sz="2400" spc="-1" strike="noStrike" baseline="7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1" name=""/>
            <p:cNvSpPr/>
            <p:nvPr/>
          </p:nvSpPr>
          <p:spPr>
            <a:xfrm>
              <a:off x="4486320" y="3156120"/>
              <a:ext cx="52380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1" lang="cs-CZ" sz="2400" spc="-1" strike="noStrike" baseline="7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2" name=""/>
            <p:cNvSpPr/>
            <p:nvPr/>
          </p:nvSpPr>
          <p:spPr>
            <a:xfrm>
              <a:off x="4470480" y="2705040"/>
              <a:ext cx="52380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cs-CZ" sz="2400" spc="-1" strike="noStrike" baseline="7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3" name=""/>
            <p:cNvSpPr/>
            <p:nvPr/>
          </p:nvSpPr>
          <p:spPr>
            <a:xfrm flipH="1" flipV="1">
              <a:off x="4884840" y="3358800"/>
              <a:ext cx="642960" cy="12600"/>
            </a:xfrm>
            <a:prstGeom prst="line">
              <a:avLst/>
            </a:prstGeom>
            <a:ln w="57240">
              <a:solidFill>
                <a:srgbClr val="66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4" name=""/>
            <p:cNvSpPr/>
            <p:nvPr/>
          </p:nvSpPr>
          <p:spPr>
            <a:xfrm>
              <a:off x="4651200" y="3584520"/>
              <a:ext cx="9720" cy="2422440"/>
            </a:xfrm>
            <a:prstGeom prst="line">
              <a:avLst/>
            </a:prstGeom>
            <a:ln w="57240">
              <a:solidFill>
                <a:srgbClr val="66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5" name=""/>
            <p:cNvSpPr/>
            <p:nvPr/>
          </p:nvSpPr>
          <p:spPr>
            <a:xfrm>
              <a:off x="4896000" y="2935440"/>
              <a:ext cx="6159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6" name=""/>
            <p:cNvSpPr/>
            <p:nvPr/>
          </p:nvSpPr>
          <p:spPr>
            <a:xfrm>
              <a:off x="4324320" y="2168640"/>
              <a:ext cx="225360" cy="757080"/>
            </a:xfrm>
            <a:custGeom>
              <a:avLst/>
              <a:gdLst/>
              <a:ahLst/>
              <a:rect l="l" t="t" r="r" b="b"/>
              <a:pathLst>
                <a:path w="142" h="477">
                  <a:moveTo>
                    <a:pt x="142" y="477"/>
                  </a:moveTo>
                  <a:cubicBezTo>
                    <a:pt x="124" y="469"/>
                    <a:pt x="54" y="467"/>
                    <a:pt x="31" y="424"/>
                  </a:cubicBezTo>
                  <a:cubicBezTo>
                    <a:pt x="8" y="381"/>
                    <a:pt x="8" y="289"/>
                    <a:pt x="4" y="218"/>
                  </a:cubicBezTo>
                  <a:cubicBezTo>
                    <a:pt x="0" y="147"/>
                    <a:pt x="9" y="45"/>
                    <a:pt x="10" y="0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7" name=""/>
            <p:cNvSpPr/>
            <p:nvPr/>
          </p:nvSpPr>
          <p:spPr>
            <a:xfrm>
              <a:off x="4181400" y="2876400"/>
              <a:ext cx="343080" cy="3117960"/>
            </a:xfrm>
            <a:custGeom>
              <a:avLst/>
              <a:gdLst/>
              <a:ahLst/>
              <a:rect l="l" t="t" r="r" b="b"/>
              <a:pathLst>
                <a:path w="216" h="1964">
                  <a:moveTo>
                    <a:pt x="216" y="20"/>
                  </a:moveTo>
                  <a:cubicBezTo>
                    <a:pt x="185" y="71"/>
                    <a:pt x="60" y="0"/>
                    <a:pt x="30" y="324"/>
                  </a:cubicBezTo>
                  <a:cubicBezTo>
                    <a:pt x="0" y="648"/>
                    <a:pt x="35" y="1622"/>
                    <a:pt x="36" y="1964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8" name=""/>
            <p:cNvSpPr/>
            <p:nvPr/>
          </p:nvSpPr>
          <p:spPr>
            <a:xfrm>
              <a:off x="2654280" y="6340320"/>
              <a:ext cx="1739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400" spc="-1" strike="noStrike">
                  <a:solidFill>
                    <a:srgbClr val="000000"/>
                  </a:solidFill>
                  <a:latin typeface="Times New Roman"/>
                </a:rPr>
                <a:t>Paradoxní acidifikace moč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9" name=""/>
            <p:cNvSpPr/>
            <p:nvPr/>
          </p:nvSpPr>
          <p:spPr>
            <a:xfrm>
              <a:off x="4897440" y="4052880"/>
              <a:ext cx="1739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400" spc="-1" strike="noStrike">
                  <a:solidFill>
                    <a:srgbClr val="000000"/>
                  </a:solidFill>
                  <a:latin typeface="Times New Roman"/>
                </a:rPr>
                <a:t>Deplece draslík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0" name=""/>
            <p:cNvSpPr/>
            <p:nvPr/>
          </p:nvSpPr>
          <p:spPr>
            <a:xfrm>
              <a:off x="4827600" y="1071720"/>
              <a:ext cx="1065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400" spc="-1" strike="noStrike">
                  <a:solidFill>
                    <a:srgbClr val="000000"/>
                  </a:solidFill>
                  <a:latin typeface="Times New Roman"/>
                </a:rPr>
                <a:t>Deplece chloridů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1" name=""/>
            <p:cNvSpPr/>
            <p:nvPr/>
          </p:nvSpPr>
          <p:spPr>
            <a:xfrm>
              <a:off x="6802560" y="112680"/>
              <a:ext cx="18763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400" spc="-1" strike="noStrike">
                  <a:solidFill>
                    <a:srgbClr val="000000"/>
                  </a:solidFill>
                  <a:latin typeface="Times New Roman"/>
                </a:rPr>
                <a:t>Glomerulární filtrát (hypochloremická alkalóza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2" name=""/>
            <p:cNvSpPr/>
            <p:nvPr/>
          </p:nvSpPr>
          <p:spPr>
            <a:xfrm>
              <a:off x="2987640" y="4210200"/>
              <a:ext cx="80964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Arial"/>
                </a:rPr>
                <a:t>Na</a:t>
              </a:r>
              <a:r>
                <a:rPr b="1" lang="cs-CZ" sz="2400" spc="-1" strike="noStrike" baseline="7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3" name=""/>
            <p:cNvSpPr/>
            <p:nvPr/>
          </p:nvSpPr>
          <p:spPr>
            <a:xfrm rot="5400000">
              <a:off x="643680" y="980280"/>
              <a:ext cx="814320" cy="822240"/>
            </a:xfrm>
            <a:custGeom>
              <a:avLst/>
              <a:gdLst>
                <a:gd name="textAreaLeft" fmla="*/ 0 w 814320"/>
                <a:gd name="textAreaRight" fmla="*/ 814680 w 814320"/>
                <a:gd name="textAreaTop" fmla="*/ 0 h 822240"/>
                <a:gd name="textAreaBottom" fmla="*/ 822600 h 82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260" stAng="10800000" swAng="5400000"/>
                  <a:lnTo>
                    <a:pt x="15100" y="2900"/>
                  </a:lnTo>
                  <a:lnTo>
                    <a:pt x="15100" y="0"/>
                  </a:lnTo>
                  <a:lnTo>
                    <a:pt x="21600" y="6079"/>
                  </a:lnTo>
                  <a:lnTo>
                    <a:pt x="15100" y="12158"/>
                  </a:lnTo>
                  <a:lnTo>
                    <a:pt x="15100" y="9258"/>
                  </a:lnTo>
                  <a:lnTo>
                    <a:pt x="12427" y="9258"/>
                  </a:lnTo>
                  <a:arcTo wR="6069" hR="2902" stAng="16200000" swAng="-5400000"/>
                  <a:lnTo>
                    <a:pt x="6358" y="21600"/>
                  </a:lnTo>
                  <a:close/>
                </a:path>
              </a:pathLst>
            </a:custGeom>
            <a:blipFill rotWithShape="0">
              <a:blip r:embed="rId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4" name=""/>
            <p:cNvSpPr/>
            <p:nvPr/>
          </p:nvSpPr>
          <p:spPr>
            <a:xfrm flipV="1">
              <a:off x="1569960" y="2109240"/>
              <a:ext cx="846360" cy="904680"/>
            </a:xfrm>
            <a:custGeom>
              <a:avLst/>
              <a:gdLst>
                <a:gd name="textAreaLeft" fmla="*/ 0 w 846360"/>
                <a:gd name="textAreaRight" fmla="*/ 846720 w 846360"/>
                <a:gd name="textAreaTop" fmla="*/ -360 h 904680"/>
                <a:gd name="textAreaBottom" fmla="*/ 904680 h 904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260" stAng="10800000" swAng="5400000"/>
                  <a:lnTo>
                    <a:pt x="15100" y="2900"/>
                  </a:lnTo>
                  <a:lnTo>
                    <a:pt x="15100" y="0"/>
                  </a:lnTo>
                  <a:lnTo>
                    <a:pt x="21600" y="6079"/>
                  </a:lnTo>
                  <a:lnTo>
                    <a:pt x="15100" y="12158"/>
                  </a:lnTo>
                  <a:lnTo>
                    <a:pt x="15100" y="9258"/>
                  </a:lnTo>
                  <a:lnTo>
                    <a:pt x="12427" y="9258"/>
                  </a:lnTo>
                  <a:arcTo wR="6069" hR="2902" stAng="16200000" swAng="-5400000"/>
                  <a:lnTo>
                    <a:pt x="6358" y="2160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5" name=""/>
            <p:cNvSpPr/>
            <p:nvPr/>
          </p:nvSpPr>
          <p:spPr>
            <a:xfrm>
              <a:off x="1411200" y="2471760"/>
              <a:ext cx="152640" cy="171288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6" name=""/>
            <p:cNvSpPr/>
            <p:nvPr/>
          </p:nvSpPr>
          <p:spPr>
            <a:xfrm flipV="1">
              <a:off x="1411200" y="4153680"/>
              <a:ext cx="513000" cy="435240"/>
            </a:xfrm>
            <a:custGeom>
              <a:avLst/>
              <a:gdLst>
                <a:gd name="textAreaLeft" fmla="*/ 0 w 513000"/>
                <a:gd name="textAreaRight" fmla="*/ 513360 w 513000"/>
                <a:gd name="textAreaTop" fmla="*/ -360 h 435240"/>
                <a:gd name="textAreaBottom" fmla="*/ 435240 h 435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260" stAng="10800000" swAng="5400000"/>
                  <a:lnTo>
                    <a:pt x="15100" y="2900"/>
                  </a:lnTo>
                  <a:lnTo>
                    <a:pt x="15100" y="0"/>
                  </a:lnTo>
                  <a:lnTo>
                    <a:pt x="21600" y="6079"/>
                  </a:lnTo>
                  <a:lnTo>
                    <a:pt x="15100" y="12158"/>
                  </a:lnTo>
                  <a:lnTo>
                    <a:pt x="15100" y="9258"/>
                  </a:lnTo>
                  <a:lnTo>
                    <a:pt x="12427" y="9258"/>
                  </a:lnTo>
                  <a:arcTo wR="6069" hR="2902" stAng="16200000" swAng="-5400000"/>
                  <a:lnTo>
                    <a:pt x="6358" y="2160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7" name=""/>
            <p:cNvSpPr/>
            <p:nvPr/>
          </p:nvSpPr>
          <p:spPr>
            <a:xfrm>
              <a:off x="2041560" y="4346640"/>
              <a:ext cx="1069920" cy="245880"/>
            </a:xfrm>
            <a:prstGeom prst="rightArrow">
              <a:avLst>
                <a:gd name="adj1" fmla="val 50000"/>
                <a:gd name="adj2" fmla="val 108785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8" name=""/>
            <p:cNvSpPr/>
            <p:nvPr/>
          </p:nvSpPr>
          <p:spPr>
            <a:xfrm>
              <a:off x="1817640" y="4406760"/>
              <a:ext cx="709560" cy="12384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9" name=""/>
            <p:cNvSpPr/>
            <p:nvPr/>
          </p:nvSpPr>
          <p:spPr>
            <a:xfrm flipH="1" rot="16200000">
              <a:off x="1294200" y="4216320"/>
              <a:ext cx="265320" cy="303480"/>
            </a:xfrm>
            <a:custGeom>
              <a:avLst/>
              <a:gdLst>
                <a:gd name="textAreaLeft" fmla="*/ -360 w 265320"/>
                <a:gd name="textAreaRight" fmla="*/ 265320 w 265320"/>
                <a:gd name="textAreaTop" fmla="*/ 0 h 303480"/>
                <a:gd name="textAreaBottom" fmla="*/ 303840 h 303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260" stAng="10800000" swAng="5400000"/>
                  <a:lnTo>
                    <a:pt x="15100" y="2900"/>
                  </a:lnTo>
                  <a:lnTo>
                    <a:pt x="15100" y="0"/>
                  </a:lnTo>
                  <a:lnTo>
                    <a:pt x="21600" y="6079"/>
                  </a:lnTo>
                  <a:lnTo>
                    <a:pt x="15100" y="12158"/>
                  </a:lnTo>
                  <a:lnTo>
                    <a:pt x="15100" y="9258"/>
                  </a:lnTo>
                  <a:lnTo>
                    <a:pt x="12427" y="9258"/>
                  </a:lnTo>
                  <a:arcTo wR="6069" hR="2902" stAng="16200000" swAng="-5400000"/>
                  <a:lnTo>
                    <a:pt x="6358" y="21600"/>
                  </a:lnTo>
                  <a:close/>
                </a:path>
              </a:pathLst>
            </a:cu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0" name=""/>
            <p:cNvSpPr/>
            <p:nvPr/>
          </p:nvSpPr>
          <p:spPr>
            <a:xfrm>
              <a:off x="1565280" y="4238640"/>
              <a:ext cx="1079640" cy="79200"/>
            </a:xfrm>
            <a:prstGeom prst="rect">
              <a:avLst/>
            </a:pr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1" name=""/>
            <p:cNvSpPr/>
            <p:nvPr/>
          </p:nvSpPr>
          <p:spPr>
            <a:xfrm>
              <a:off x="1722600" y="4721400"/>
              <a:ext cx="852480" cy="80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2" name=""/>
            <p:cNvSpPr/>
            <p:nvPr/>
          </p:nvSpPr>
          <p:spPr>
            <a:xfrm flipH="1" rot="16200000">
              <a:off x="1441440" y="4703760"/>
              <a:ext cx="264960" cy="303120"/>
            </a:xfrm>
            <a:custGeom>
              <a:avLst/>
              <a:gdLst>
                <a:gd name="textAreaLeft" fmla="*/ 360 w 264960"/>
                <a:gd name="textAreaRight" fmla="*/ 265680 w 26496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260" stAng="10800000" swAng="5400000"/>
                  <a:lnTo>
                    <a:pt x="15100" y="2900"/>
                  </a:lnTo>
                  <a:lnTo>
                    <a:pt x="15100" y="0"/>
                  </a:lnTo>
                  <a:lnTo>
                    <a:pt x="21600" y="6079"/>
                  </a:lnTo>
                  <a:lnTo>
                    <a:pt x="15100" y="12158"/>
                  </a:lnTo>
                  <a:lnTo>
                    <a:pt x="15100" y="9258"/>
                  </a:lnTo>
                  <a:lnTo>
                    <a:pt x="12427" y="9258"/>
                  </a:lnTo>
                  <a:arcTo wR="6069" hR="2902" stAng="16200000" swAng="-5400000"/>
                  <a:lnTo>
                    <a:pt x="6358" y="216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3" name=""/>
            <p:cNvSpPr/>
            <p:nvPr/>
          </p:nvSpPr>
          <p:spPr>
            <a:xfrm>
              <a:off x="1465200" y="4924440"/>
              <a:ext cx="74520" cy="826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4" name=""/>
            <p:cNvSpPr/>
            <p:nvPr/>
          </p:nvSpPr>
          <p:spPr>
            <a:xfrm>
              <a:off x="1328760" y="4430880"/>
              <a:ext cx="74520" cy="1288800"/>
            </a:xfrm>
            <a:prstGeom prst="rect">
              <a:avLst/>
            </a:pr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5" name=""/>
            <p:cNvSpPr/>
            <p:nvPr/>
          </p:nvSpPr>
          <p:spPr>
            <a:xfrm>
              <a:off x="1293840" y="5522760"/>
              <a:ext cx="142920" cy="338400"/>
            </a:xfrm>
            <a:prstGeom prst="downArrow">
              <a:avLst>
                <a:gd name="adj1" fmla="val 50000"/>
                <a:gd name="adj2" fmla="val 59194"/>
              </a:avLst>
            </a:pr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6" name=""/>
            <p:cNvSpPr/>
            <p:nvPr/>
          </p:nvSpPr>
          <p:spPr>
            <a:xfrm>
              <a:off x="1442880" y="5446800"/>
              <a:ext cx="122400" cy="588960"/>
            </a:xfrm>
            <a:prstGeom prst="downArrow">
              <a:avLst>
                <a:gd name="adj1" fmla="val 28000"/>
                <a:gd name="adj2" fmla="val 40450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7" name=""/>
            <p:cNvSpPr/>
            <p:nvPr/>
          </p:nvSpPr>
          <p:spPr>
            <a:xfrm flipV="1">
              <a:off x="1120680" y="2613960"/>
              <a:ext cx="800280" cy="858600"/>
            </a:xfrm>
            <a:custGeom>
              <a:avLst/>
              <a:gdLst>
                <a:gd name="textAreaLeft" fmla="*/ 0 w 800280"/>
                <a:gd name="textAreaRight" fmla="*/ 800640 w 800280"/>
                <a:gd name="textAreaTop" fmla="*/ -360 h 858600"/>
                <a:gd name="textAreaBottom" fmla="*/ 858600 h 85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260" stAng="10800000" swAng="5400000"/>
                  <a:lnTo>
                    <a:pt x="15100" y="2900"/>
                  </a:lnTo>
                  <a:lnTo>
                    <a:pt x="15100" y="0"/>
                  </a:lnTo>
                  <a:lnTo>
                    <a:pt x="21600" y="6079"/>
                  </a:lnTo>
                  <a:lnTo>
                    <a:pt x="15100" y="12158"/>
                  </a:lnTo>
                  <a:lnTo>
                    <a:pt x="15100" y="9258"/>
                  </a:lnTo>
                  <a:lnTo>
                    <a:pt x="12427" y="9258"/>
                  </a:lnTo>
                  <a:arcTo wR="6069" hR="2902" stAng="16200000" swAng="-5400000"/>
                  <a:lnTo>
                    <a:pt x="6358" y="21600"/>
                  </a:lnTo>
                  <a:close/>
                </a:path>
              </a:pathLst>
            </a:custGeom>
            <a:blipFill rotWithShape="0">
              <a:blip r:embed="rId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8" name=""/>
            <p:cNvSpPr/>
            <p:nvPr/>
          </p:nvSpPr>
          <p:spPr>
            <a:xfrm>
              <a:off x="1430280" y="2997360"/>
              <a:ext cx="976320" cy="444240"/>
            </a:xfrm>
            <a:prstGeom prst="rightArrow">
              <a:avLst>
                <a:gd name="adj1" fmla="val 50000"/>
                <a:gd name="adj2" fmla="val 54943"/>
              </a:avLst>
            </a:prstGeom>
            <a:blipFill rotWithShape="0">
              <a:blip r:embed="rId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9" name=""/>
            <p:cNvSpPr/>
            <p:nvPr/>
          </p:nvSpPr>
          <p:spPr>
            <a:xfrm>
              <a:off x="1122480" y="1393920"/>
              <a:ext cx="237960" cy="1225440"/>
            </a:xfrm>
            <a:prstGeom prst="rect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0" name=""/>
            <p:cNvSpPr/>
            <p:nvPr/>
          </p:nvSpPr>
          <p:spPr>
            <a:xfrm>
              <a:off x="2355480" y="2986200"/>
              <a:ext cx="54504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Arial"/>
                </a:rPr>
                <a:t>Cl</a:t>
              </a:r>
              <a:r>
                <a:rPr b="1" lang="cs-CZ" sz="2400" spc="-1" strike="noStrike" baseline="70000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1" name=""/>
            <p:cNvSpPr/>
            <p:nvPr/>
          </p:nvSpPr>
          <p:spPr>
            <a:xfrm>
              <a:off x="-25560" y="801720"/>
              <a:ext cx="54504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Arial"/>
                </a:rPr>
                <a:t>Cl</a:t>
              </a:r>
              <a:r>
                <a:rPr b="1" lang="cs-CZ" sz="2400" spc="-1" strike="noStrike" baseline="70000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2" name=""/>
            <p:cNvSpPr/>
            <p:nvPr/>
          </p:nvSpPr>
          <p:spPr>
            <a:xfrm>
              <a:off x="2685960" y="3943440"/>
              <a:ext cx="52380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8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1" lang="cs-CZ" sz="1800" spc="-1" strike="noStrike" baseline="7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3" name=""/>
            <p:cNvSpPr/>
            <p:nvPr/>
          </p:nvSpPr>
          <p:spPr>
            <a:xfrm>
              <a:off x="1049400" y="5823000"/>
              <a:ext cx="523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8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1" lang="cs-CZ" sz="2400" spc="-1" strike="noStrike" baseline="4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4" name=""/>
            <p:cNvSpPr/>
            <p:nvPr/>
          </p:nvSpPr>
          <p:spPr>
            <a:xfrm>
              <a:off x="2641680" y="4584600"/>
              <a:ext cx="52380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cs-CZ" sz="2400" spc="-1" strike="noStrike" baseline="7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5" name=""/>
            <p:cNvSpPr/>
            <p:nvPr/>
          </p:nvSpPr>
          <p:spPr>
            <a:xfrm>
              <a:off x="1300320" y="6006960"/>
              <a:ext cx="52380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cs-CZ" sz="1800" spc="-1" strike="noStrike" baseline="7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6" name=""/>
            <p:cNvSpPr/>
            <p:nvPr/>
          </p:nvSpPr>
          <p:spPr>
            <a:xfrm>
              <a:off x="2282760" y="2533680"/>
              <a:ext cx="80964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Arial"/>
                </a:rPr>
                <a:t>Na</a:t>
              </a:r>
              <a:r>
                <a:rPr b="1" lang="cs-CZ" sz="2400" spc="-1" strike="noStrike" baseline="7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7" name=""/>
            <p:cNvSpPr/>
            <p:nvPr/>
          </p:nvSpPr>
          <p:spPr>
            <a:xfrm>
              <a:off x="-106200" y="341280"/>
              <a:ext cx="80964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Arial"/>
                </a:rPr>
                <a:t>Na</a:t>
              </a:r>
              <a:r>
                <a:rPr b="1" lang="cs-CZ" sz="2400" spc="-1" strike="noStrike" baseline="7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8" name=""/>
            <p:cNvSpPr/>
            <p:nvPr/>
          </p:nvSpPr>
          <p:spPr>
            <a:xfrm>
              <a:off x="1411200" y="1197000"/>
              <a:ext cx="414360" cy="132228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9" name=""/>
            <p:cNvSpPr/>
            <p:nvPr/>
          </p:nvSpPr>
          <p:spPr>
            <a:xfrm>
              <a:off x="1041480" y="150840"/>
              <a:ext cx="21114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400" spc="-1" strike="noStrike">
                  <a:solidFill>
                    <a:srgbClr val="000000"/>
                  </a:solidFill>
                  <a:latin typeface="Times New Roman"/>
                </a:rPr>
                <a:t>Glomerulární filtrát (norma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0" name=""/>
            <p:cNvSpPr/>
            <p:nvPr/>
          </p:nvSpPr>
          <p:spPr>
            <a:xfrm>
              <a:off x="1833480" y="1832040"/>
              <a:ext cx="15890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400" spc="-1" strike="noStrike">
                  <a:solidFill>
                    <a:srgbClr val="000000"/>
                  </a:solidFill>
                  <a:latin typeface="Times New Roman"/>
                </a:rPr>
                <a:t>Readsorbce sodíku s chlorid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1" name=""/>
            <p:cNvSpPr/>
            <p:nvPr/>
          </p:nvSpPr>
          <p:spPr>
            <a:xfrm>
              <a:off x="7236000" y="1573200"/>
              <a:ext cx="15890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400" spc="-1" strike="noStrike">
                  <a:solidFill>
                    <a:srgbClr val="000000"/>
                  </a:solidFill>
                  <a:latin typeface="Times New Roman"/>
                </a:rPr>
                <a:t>Reabsorbce sodíku s chloridy je snížen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2" name=""/>
            <p:cNvSpPr/>
            <p:nvPr/>
          </p:nvSpPr>
          <p:spPr>
            <a:xfrm>
              <a:off x="1536840" y="3556080"/>
              <a:ext cx="13953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400" spc="-1" strike="noStrike">
                  <a:solidFill>
                    <a:srgbClr val="000000"/>
                  </a:solidFill>
                  <a:latin typeface="Times New Roman"/>
                </a:rPr>
                <a:t>Zbytek sodíku směňován za draslík a H</a:t>
              </a:r>
              <a:r>
                <a:rPr b="1" lang="cs-CZ" sz="1400" spc="-1" strike="noStrike" baseline="42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3" name=""/>
            <p:cNvSpPr/>
            <p:nvPr/>
          </p:nvSpPr>
          <p:spPr>
            <a:xfrm>
              <a:off x="7064280" y="3187800"/>
              <a:ext cx="19386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400" spc="-1" strike="noStrike">
                  <a:solidFill>
                    <a:srgbClr val="000000"/>
                  </a:solidFill>
                  <a:latin typeface="Times New Roman"/>
                </a:rPr>
                <a:t>Zvyšuje se nabídka sodíku pro směnu za draslík a H</a:t>
              </a:r>
              <a:r>
                <a:rPr b="1" lang="cs-CZ" sz="1400" spc="-1" strike="noStrike" baseline="42000">
                  <a:solidFill>
                    <a:srgbClr val="000000"/>
                  </a:solidFill>
                  <a:latin typeface="Times New Roman"/>
                </a:rPr>
                <a:t>+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4" name=""/>
            <p:cNvSpPr/>
            <p:nvPr/>
          </p:nvSpPr>
          <p:spPr>
            <a:xfrm>
              <a:off x="4537080" y="6340320"/>
              <a:ext cx="1739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400" spc="-1" strike="noStrike">
                  <a:solidFill>
                    <a:srgbClr val="000000"/>
                  </a:solidFill>
                  <a:latin typeface="Times New Roman"/>
                </a:rPr>
                <a:t>Zvýšený odpad draslík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5" name=""/>
            <p:cNvSpPr/>
            <p:nvPr/>
          </p:nvSpPr>
          <p:spPr>
            <a:xfrm>
              <a:off x="5127480" y="3529080"/>
              <a:ext cx="12621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400" spc="-1" strike="noStrike">
                  <a:solidFill>
                    <a:srgbClr val="000000"/>
                  </a:solidFill>
                  <a:latin typeface="Times New Roman"/>
                </a:rPr>
                <a:t>Intracelulární tekutin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6" name=""/>
            <p:cNvSpPr/>
            <p:nvPr/>
          </p:nvSpPr>
          <p:spPr>
            <a:xfrm>
              <a:off x="3618000" y="27000"/>
              <a:ext cx="1739880" cy="79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Primární příčina:</a:t>
              </a:r>
              <a:r>
                <a:rPr b="1" lang="cs-CZ" sz="1400" spc="-1" strike="noStrike">
                  <a:solidFill>
                    <a:srgbClr val="000000"/>
                  </a:solidFill>
                  <a:latin typeface="Times New Roman"/>
                </a:rPr>
                <a:t> Ztráty Cl</a:t>
              </a:r>
              <a:r>
                <a:rPr b="1" lang="cs-CZ" sz="1800" spc="-1" strike="noStrike" baseline="36000">
                  <a:solidFill>
                    <a:srgbClr val="000000"/>
                  </a:solidFill>
                  <a:latin typeface="Times New Roman"/>
                </a:rPr>
                <a:t>-</a:t>
              </a:r>
              <a:r>
                <a:rPr b="1" lang="cs-CZ" sz="1400" spc="-1" strike="noStrike">
                  <a:solidFill>
                    <a:srgbClr val="000000"/>
                  </a:solidFill>
                  <a:latin typeface="Times New Roman"/>
                </a:rPr>
                <a:t> a H</a:t>
              </a:r>
              <a:r>
                <a:rPr b="1" lang="cs-CZ" sz="1600" spc="-1" strike="noStrike" baseline="38000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lang="cs-CZ" sz="1400" spc="-1" strike="noStrike">
                  <a:solidFill>
                    <a:srgbClr val="000000"/>
                  </a:solidFill>
                  <a:latin typeface="Times New Roman"/>
                </a:rPr>
                <a:t> zvracení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7" name=""/>
            <p:cNvSpPr/>
            <p:nvPr/>
          </p:nvSpPr>
          <p:spPr>
            <a:xfrm rot="5400000">
              <a:off x="663480" y="356760"/>
              <a:ext cx="1298520" cy="1400400"/>
            </a:xfrm>
            <a:custGeom>
              <a:avLst/>
              <a:gdLst>
                <a:gd name="textAreaLeft" fmla="*/ 0 w 1298520"/>
                <a:gd name="textAreaRight" fmla="*/ 1298880 w 1298520"/>
                <a:gd name="textAreaTop" fmla="*/ 0 h 1400400"/>
                <a:gd name="textAreaBottom" fmla="*/ 1400400 h 1400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260" stAng="10800000" swAng="5400000"/>
                  <a:lnTo>
                    <a:pt x="15100" y="2900"/>
                  </a:lnTo>
                  <a:lnTo>
                    <a:pt x="15100" y="0"/>
                  </a:lnTo>
                  <a:lnTo>
                    <a:pt x="21600" y="6079"/>
                  </a:lnTo>
                  <a:lnTo>
                    <a:pt x="15100" y="12158"/>
                  </a:lnTo>
                  <a:lnTo>
                    <a:pt x="15100" y="9258"/>
                  </a:lnTo>
                  <a:lnTo>
                    <a:pt x="12427" y="9258"/>
                  </a:lnTo>
                  <a:arcTo wR="6069" hR="2902" stAng="16200000" swAng="-5400000"/>
                  <a:lnTo>
                    <a:pt x="6358" y="2160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8" name=""/>
            <p:cNvSpPr/>
            <p:nvPr/>
          </p:nvSpPr>
          <p:spPr>
            <a:xfrm>
              <a:off x="7308720" y="5126040"/>
              <a:ext cx="1521000" cy="15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400" spc="-1" strike="noStrike">
                  <a:solidFill>
                    <a:srgbClr val="000000"/>
                  </a:solidFill>
                  <a:latin typeface="Times New Roman"/>
                </a:rPr>
                <a:t>Stoupá exkrece draslíku a bez ohledu na metabolickou alkalózu se acidifikace moči zvyšuj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9" name=""/>
            <p:cNvSpPr/>
            <p:nvPr/>
          </p:nvSpPr>
          <p:spPr>
            <a:xfrm>
              <a:off x="4384800" y="2178000"/>
              <a:ext cx="12049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400" spc="-1" strike="noStrike">
                  <a:solidFill>
                    <a:srgbClr val="000000"/>
                  </a:solidFill>
                  <a:latin typeface="Times New Roman"/>
                </a:rPr>
                <a:t>Metabolická alkalóz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0" name=""/>
            <p:cNvSpPr/>
            <p:nvPr/>
          </p:nvSpPr>
          <p:spPr>
            <a:xfrm>
              <a:off x="1316880" y="6521400"/>
              <a:ext cx="6076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00000"/>
                  </a:solidFill>
                  <a:latin typeface="Arial"/>
                </a:rPr>
                <a:t>NH</a:t>
              </a:r>
              <a:r>
                <a:rPr b="1" lang="cs-CZ" sz="16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1" lang="cs-CZ" sz="16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1" name=""/>
            <p:cNvSpPr/>
            <p:nvPr/>
          </p:nvSpPr>
          <p:spPr>
            <a:xfrm flipH="1">
              <a:off x="1535040" y="6323040"/>
              <a:ext cx="7920" cy="262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12" name=""/>
          <p:cNvGrpSpPr/>
          <p:nvPr/>
        </p:nvGrpSpPr>
        <p:grpSpPr>
          <a:xfrm>
            <a:off x="0" y="98280"/>
            <a:ext cx="9155160" cy="6775560"/>
            <a:chOff x="0" y="98280"/>
            <a:chExt cx="9155160" cy="6775560"/>
          </a:xfrm>
        </p:grpSpPr>
        <p:grpSp>
          <p:nvGrpSpPr>
            <p:cNvPr id="12313" name=""/>
            <p:cNvGrpSpPr/>
            <p:nvPr/>
          </p:nvGrpSpPr>
          <p:grpSpPr>
            <a:xfrm>
              <a:off x="1805040" y="1643040"/>
              <a:ext cx="1171440" cy="2038320"/>
              <a:chOff x="1805040" y="1643040"/>
              <a:chExt cx="1171440" cy="2038320"/>
            </a:xfrm>
          </p:grpSpPr>
          <p:sp>
            <p:nvSpPr>
              <p:cNvPr id="12314" name=""/>
              <p:cNvSpPr/>
              <p:nvPr/>
            </p:nvSpPr>
            <p:spPr>
              <a:xfrm flipH="1">
                <a:off x="1805040" y="1643040"/>
                <a:ext cx="1171440" cy="1023840"/>
              </a:xfrm>
              <a:custGeom>
                <a:avLst/>
                <a:gdLst/>
                <a:ahLst/>
                <a:rect l="l" t="t" r="r" b="b"/>
                <a:pathLst>
                  <a:path w="866" h="645">
                    <a:moveTo>
                      <a:pt x="0" y="645"/>
                    </a:moveTo>
                    <a:lnTo>
                      <a:pt x="442" y="645"/>
                    </a:lnTo>
                    <a:cubicBezTo>
                      <a:pt x="528" y="627"/>
                      <a:pt x="503" y="630"/>
                      <a:pt x="515" y="538"/>
                    </a:cubicBezTo>
                    <a:lnTo>
                      <a:pt x="515" y="91"/>
                    </a:lnTo>
                    <a:cubicBezTo>
                      <a:pt x="530" y="1"/>
                      <a:pt x="548" y="15"/>
                      <a:pt x="606" y="0"/>
                    </a:cubicBezTo>
                    <a:lnTo>
                      <a:pt x="866" y="0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15" name=""/>
              <p:cNvSpPr/>
              <p:nvPr/>
            </p:nvSpPr>
            <p:spPr>
              <a:xfrm flipH="1" flipV="1">
                <a:off x="1805040" y="2657520"/>
                <a:ext cx="1171440" cy="1023840"/>
              </a:xfrm>
              <a:custGeom>
                <a:avLst/>
                <a:gdLst/>
                <a:ahLst/>
                <a:rect l="l" t="t" r="r" b="b"/>
                <a:pathLst>
                  <a:path w="866" h="645">
                    <a:moveTo>
                      <a:pt x="0" y="645"/>
                    </a:moveTo>
                    <a:lnTo>
                      <a:pt x="442" y="645"/>
                    </a:lnTo>
                    <a:cubicBezTo>
                      <a:pt x="528" y="627"/>
                      <a:pt x="503" y="630"/>
                      <a:pt x="515" y="538"/>
                    </a:cubicBezTo>
                    <a:lnTo>
                      <a:pt x="515" y="91"/>
                    </a:lnTo>
                    <a:cubicBezTo>
                      <a:pt x="530" y="1"/>
                      <a:pt x="548" y="15"/>
                      <a:pt x="606" y="0"/>
                    </a:cubicBezTo>
                    <a:lnTo>
                      <a:pt x="866" y="0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316" name=""/>
            <p:cNvSpPr/>
            <p:nvPr/>
          </p:nvSpPr>
          <p:spPr>
            <a:xfrm>
              <a:off x="893880" y="1274760"/>
              <a:ext cx="927000" cy="70632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7" name=""/>
            <p:cNvSpPr/>
            <p:nvPr/>
          </p:nvSpPr>
          <p:spPr>
            <a:xfrm>
              <a:off x="5967360" y="3691080"/>
              <a:ext cx="1846440" cy="1039680"/>
            </a:xfrm>
            <a:custGeom>
              <a:avLst/>
              <a:gdLst/>
              <a:ahLst/>
              <a:rect l="l" t="t" r="r" b="b"/>
              <a:pathLst>
                <a:path w="1163" h="655">
                  <a:moveTo>
                    <a:pt x="1163" y="655"/>
                  </a:moveTo>
                  <a:lnTo>
                    <a:pt x="767" y="655"/>
                  </a:lnTo>
                  <a:cubicBezTo>
                    <a:pt x="691" y="637"/>
                    <a:pt x="713" y="640"/>
                    <a:pt x="702" y="548"/>
                  </a:cubicBezTo>
                  <a:lnTo>
                    <a:pt x="702" y="101"/>
                  </a:lnTo>
                  <a:cubicBezTo>
                    <a:pt x="683" y="10"/>
                    <a:pt x="707" y="17"/>
                    <a:pt x="590" y="0"/>
                  </a:cubicBez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8" name=""/>
            <p:cNvSpPr/>
            <p:nvPr/>
          </p:nvSpPr>
          <p:spPr>
            <a:xfrm flipH="1" flipV="1">
              <a:off x="6591240" y="4721400"/>
              <a:ext cx="1222560" cy="1023840"/>
            </a:xfrm>
            <a:custGeom>
              <a:avLst/>
              <a:gdLst/>
              <a:ahLst/>
              <a:rect l="l" t="t" r="r" b="b"/>
              <a:pathLst>
                <a:path w="866" h="645">
                  <a:moveTo>
                    <a:pt x="0" y="645"/>
                  </a:moveTo>
                  <a:lnTo>
                    <a:pt x="442" y="645"/>
                  </a:lnTo>
                  <a:cubicBezTo>
                    <a:pt x="528" y="627"/>
                    <a:pt x="503" y="630"/>
                    <a:pt x="515" y="538"/>
                  </a:cubicBezTo>
                  <a:lnTo>
                    <a:pt x="515" y="91"/>
                  </a:lnTo>
                  <a:cubicBezTo>
                    <a:pt x="530" y="1"/>
                    <a:pt x="548" y="15"/>
                    <a:pt x="606" y="0"/>
                  </a:cubicBezTo>
                  <a:lnTo>
                    <a:pt x="866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9" name=""/>
            <p:cNvSpPr/>
            <p:nvPr/>
          </p:nvSpPr>
          <p:spPr>
            <a:xfrm>
              <a:off x="7812000" y="4336920"/>
              <a:ext cx="1111320" cy="741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0" name=""/>
            <p:cNvSpPr/>
            <p:nvPr/>
          </p:nvSpPr>
          <p:spPr>
            <a:xfrm>
              <a:off x="5405400" y="3349800"/>
              <a:ext cx="558720" cy="6746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1" name=""/>
            <p:cNvSpPr/>
            <p:nvPr/>
          </p:nvSpPr>
          <p:spPr>
            <a:xfrm>
              <a:off x="5403960" y="1168560"/>
              <a:ext cx="1116000" cy="715680"/>
            </a:xfrm>
            <a:prstGeom prst="rect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2" name=""/>
            <p:cNvSpPr/>
            <p:nvPr/>
          </p:nvSpPr>
          <p:spPr>
            <a:xfrm>
              <a:off x="5391000" y="3440160"/>
              <a:ext cx="579600" cy="58104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3" name=""/>
            <p:cNvSpPr/>
            <p:nvPr/>
          </p:nvSpPr>
          <p:spPr>
            <a:xfrm>
              <a:off x="5430960" y="5167440"/>
              <a:ext cx="1106280" cy="857160"/>
            </a:xfrm>
            <a:prstGeom prst="rect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4" name=""/>
            <p:cNvSpPr/>
            <p:nvPr/>
          </p:nvSpPr>
          <p:spPr>
            <a:xfrm>
              <a:off x="7816680" y="4457880"/>
              <a:ext cx="1111320" cy="63000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5" name=""/>
            <p:cNvSpPr/>
            <p:nvPr/>
          </p:nvSpPr>
          <p:spPr>
            <a:xfrm>
              <a:off x="5430960" y="5319720"/>
              <a:ext cx="1110960" cy="71604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6" name=""/>
            <p:cNvSpPr/>
            <p:nvPr/>
          </p:nvSpPr>
          <p:spPr>
            <a:xfrm>
              <a:off x="5405400" y="1306440"/>
              <a:ext cx="1120680" cy="77652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7" name=""/>
            <p:cNvSpPr/>
            <p:nvPr/>
          </p:nvSpPr>
          <p:spPr>
            <a:xfrm>
              <a:off x="2994120" y="2293920"/>
              <a:ext cx="1144440" cy="70812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8" name=""/>
            <p:cNvSpPr/>
            <p:nvPr/>
          </p:nvSpPr>
          <p:spPr>
            <a:xfrm>
              <a:off x="5526000" y="3592440"/>
              <a:ext cx="9720" cy="293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9" name=""/>
            <p:cNvSpPr/>
            <p:nvPr/>
          </p:nvSpPr>
          <p:spPr>
            <a:xfrm>
              <a:off x="997560" y="1395360"/>
              <a:ext cx="736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Arial"/>
                </a:rPr>
                <a:t>CO</a:t>
              </a:r>
              <a:r>
                <a:rPr b="1" lang="cs-CZ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0" name=""/>
            <p:cNvSpPr/>
            <p:nvPr/>
          </p:nvSpPr>
          <p:spPr>
            <a:xfrm>
              <a:off x="1038960" y="3441600"/>
              <a:ext cx="736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cs-CZ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cs-CZ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1" name=""/>
            <p:cNvSpPr/>
            <p:nvPr/>
          </p:nvSpPr>
          <p:spPr>
            <a:xfrm>
              <a:off x="3051000" y="2436840"/>
              <a:ext cx="1055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cs-CZ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cs-CZ" sz="2400" spc="-1" strike="noStrike">
                  <a:solidFill>
                    <a:srgbClr val="000000"/>
                  </a:solidFill>
                  <a:latin typeface="Arial"/>
                </a:rPr>
                <a:t>CO</a:t>
              </a:r>
              <a:r>
                <a:rPr b="1" lang="cs-CZ" sz="2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2" name=""/>
            <p:cNvSpPr/>
            <p:nvPr/>
          </p:nvSpPr>
          <p:spPr>
            <a:xfrm>
              <a:off x="5581080" y="1461960"/>
              <a:ext cx="956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Arial"/>
                </a:rPr>
                <a:t>HCO</a:t>
              </a:r>
              <a:r>
                <a:rPr b="1" lang="cs-CZ" sz="2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3" name=""/>
            <p:cNvSpPr/>
            <p:nvPr/>
          </p:nvSpPr>
          <p:spPr>
            <a:xfrm>
              <a:off x="5540400" y="3516480"/>
              <a:ext cx="52380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cs-CZ" sz="2400" spc="-1" strike="noStrike" baseline="7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334" name=""/>
            <p:cNvGrpSpPr/>
            <p:nvPr/>
          </p:nvGrpSpPr>
          <p:grpSpPr>
            <a:xfrm>
              <a:off x="4132440" y="1644480"/>
              <a:ext cx="1272960" cy="2038320"/>
              <a:chOff x="4132440" y="1644480"/>
              <a:chExt cx="1272960" cy="2038320"/>
            </a:xfrm>
          </p:grpSpPr>
          <p:sp>
            <p:nvSpPr>
              <p:cNvPr id="12335" name=""/>
              <p:cNvSpPr/>
              <p:nvPr/>
            </p:nvSpPr>
            <p:spPr>
              <a:xfrm>
                <a:off x="4132440" y="1644480"/>
                <a:ext cx="1272960" cy="1023840"/>
              </a:xfrm>
              <a:custGeom>
                <a:avLst/>
                <a:gdLst/>
                <a:ahLst/>
                <a:rect l="l" t="t" r="r" b="b"/>
                <a:pathLst>
                  <a:path w="866" h="645">
                    <a:moveTo>
                      <a:pt x="0" y="645"/>
                    </a:moveTo>
                    <a:lnTo>
                      <a:pt x="442" y="645"/>
                    </a:lnTo>
                    <a:cubicBezTo>
                      <a:pt x="528" y="627"/>
                      <a:pt x="503" y="630"/>
                      <a:pt x="515" y="538"/>
                    </a:cubicBezTo>
                    <a:lnTo>
                      <a:pt x="515" y="91"/>
                    </a:lnTo>
                    <a:cubicBezTo>
                      <a:pt x="530" y="1"/>
                      <a:pt x="548" y="15"/>
                      <a:pt x="606" y="0"/>
                    </a:cubicBezTo>
                    <a:lnTo>
                      <a:pt x="866" y="0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36" name=""/>
              <p:cNvSpPr/>
              <p:nvPr/>
            </p:nvSpPr>
            <p:spPr>
              <a:xfrm flipV="1">
                <a:off x="4132440" y="2658960"/>
                <a:ext cx="1272960" cy="1023840"/>
              </a:xfrm>
              <a:custGeom>
                <a:avLst/>
                <a:gdLst/>
                <a:ahLst/>
                <a:rect l="l" t="t" r="r" b="b"/>
                <a:pathLst>
                  <a:path w="866" h="645">
                    <a:moveTo>
                      <a:pt x="0" y="645"/>
                    </a:moveTo>
                    <a:lnTo>
                      <a:pt x="442" y="645"/>
                    </a:lnTo>
                    <a:cubicBezTo>
                      <a:pt x="528" y="627"/>
                      <a:pt x="503" y="630"/>
                      <a:pt x="515" y="538"/>
                    </a:cubicBezTo>
                    <a:lnTo>
                      <a:pt x="515" y="91"/>
                    </a:lnTo>
                    <a:cubicBezTo>
                      <a:pt x="530" y="1"/>
                      <a:pt x="548" y="15"/>
                      <a:pt x="606" y="0"/>
                    </a:cubicBezTo>
                    <a:lnTo>
                      <a:pt x="866" y="0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aphicFrame>
          <p:nvGraphicFramePr>
            <p:cNvPr id="12337" name=""/>
            <p:cNvGraphicFramePr/>
            <p:nvPr/>
          </p:nvGraphicFramePr>
          <p:xfrm>
            <a:off x="673200" y="393840"/>
            <a:ext cx="1039680" cy="7729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233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73200" y="393840"/>
                      <a:ext cx="1039680" cy="772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339" name=""/>
            <p:cNvSpPr/>
            <p:nvPr/>
          </p:nvSpPr>
          <p:spPr>
            <a:xfrm flipH="1">
              <a:off x="167400" y="1484280"/>
              <a:ext cx="72396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0" name=""/>
            <p:cNvSpPr/>
            <p:nvPr/>
          </p:nvSpPr>
          <p:spPr>
            <a:xfrm>
              <a:off x="1789200" y="757080"/>
              <a:ext cx="3652920" cy="76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400" spc="-1" strike="noStrike">
                  <a:solidFill>
                    <a:srgbClr val="000000"/>
                  </a:solidFill>
                  <a:latin typeface="Times New Roman"/>
                </a:rPr>
                <a:t>3. Respirace udržuje neměnnou hladinu CO</a:t>
              </a:r>
              <a:r>
                <a:rPr b="1" lang="cs-CZ" sz="1400" spc="-1" strike="noStrike" baseline="-25000">
                  <a:solidFill>
                    <a:srgbClr val="000000"/>
                  </a:solidFill>
                  <a:latin typeface="Times New Roman"/>
                </a:rPr>
                <a:t>2 </a:t>
              </a:r>
              <a:r>
                <a:rPr b="1" lang="cs-CZ" sz="1400" spc="-1" strike="noStrike">
                  <a:solidFill>
                    <a:srgbClr val="000000"/>
                  </a:solidFill>
                  <a:latin typeface="Times New Roman"/>
                </a:rPr>
                <a:t>a kyseliny uhličité  - tím zvyšuje pufrační sílu bikarbonátového systém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1" name=""/>
            <p:cNvSpPr/>
            <p:nvPr/>
          </p:nvSpPr>
          <p:spPr>
            <a:xfrm>
              <a:off x="2147760" y="3492360"/>
              <a:ext cx="2819520" cy="74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400" spc="-1" strike="noStrike">
                  <a:solidFill>
                    <a:srgbClr val="000000"/>
                  </a:solidFill>
                  <a:latin typeface="Times New Roman"/>
                </a:rPr>
                <a:t>4. </a:t>
              </a:r>
              <a:r>
                <a:rPr b="1" lang="cs-CZ" sz="1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Patofyziologický důsledek:</a:t>
              </a:r>
              <a:r>
                <a:rPr b="1" lang="cs-CZ" sz="1400" spc="-1" strike="noStrike">
                  <a:solidFill>
                    <a:srgbClr val="000000"/>
                  </a:solidFill>
                  <a:latin typeface="Times New Roman"/>
                </a:rPr>
                <a:t> Hladina H</a:t>
              </a:r>
              <a:r>
                <a:rPr b="0" lang="cs-CZ" sz="1400" spc="-1" strike="noStrike" baseline="46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400" spc="-1" strike="noStrike">
                  <a:solidFill>
                    <a:srgbClr val="000000"/>
                  </a:solidFill>
                  <a:latin typeface="Times New Roman"/>
                </a:rPr>
                <a:t>díky pufrování klesne jen mál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2" name=""/>
            <p:cNvSpPr/>
            <p:nvPr/>
          </p:nvSpPr>
          <p:spPr>
            <a:xfrm>
              <a:off x="5535720" y="1517760"/>
              <a:ext cx="9360" cy="293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3" name=""/>
            <p:cNvSpPr/>
            <p:nvPr/>
          </p:nvSpPr>
          <p:spPr>
            <a:xfrm>
              <a:off x="5606280" y="5464080"/>
              <a:ext cx="83304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Arial"/>
                </a:rPr>
                <a:t>Buf </a:t>
              </a:r>
              <a:r>
                <a:rPr b="1" lang="cs-CZ" sz="2400" spc="-1" strike="noStrike" baseline="70000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4" name=""/>
            <p:cNvSpPr/>
            <p:nvPr/>
          </p:nvSpPr>
          <p:spPr>
            <a:xfrm>
              <a:off x="7973280" y="4549680"/>
              <a:ext cx="90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Arial"/>
                </a:rPr>
                <a:t>HBu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5" name=""/>
            <p:cNvSpPr/>
            <p:nvPr/>
          </p:nvSpPr>
          <p:spPr>
            <a:xfrm>
              <a:off x="6262560" y="136368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6" name=""/>
            <p:cNvSpPr/>
            <p:nvPr/>
          </p:nvSpPr>
          <p:spPr>
            <a:xfrm>
              <a:off x="4862160" y="2482920"/>
              <a:ext cx="2358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400" spc="-1" strike="noStrike">
                  <a:solidFill>
                    <a:srgbClr val="000000"/>
                  </a:solidFill>
                  <a:latin typeface="Times New Roman"/>
                </a:rPr>
                <a:t>2. Disociace kyseliny uhličité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1400" spc="-1" strike="noStrike">
                  <a:solidFill>
                    <a:srgbClr val="000000"/>
                  </a:solidFill>
                  <a:latin typeface="Times New Roman"/>
                </a:rPr>
                <a:t>v pufrační reakc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7" name=""/>
            <p:cNvSpPr/>
            <p:nvPr/>
          </p:nvSpPr>
          <p:spPr>
            <a:xfrm>
              <a:off x="7054920" y="3540240"/>
              <a:ext cx="21002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400" spc="-1" strike="noStrike">
                  <a:solidFill>
                    <a:srgbClr val="000000"/>
                  </a:solidFill>
                  <a:latin typeface="Times New Roman"/>
                </a:rPr>
                <a:t>2. Disociace nebikarbonátových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400" spc="-1" strike="noStrike">
                  <a:solidFill>
                    <a:srgbClr val="000000"/>
                  </a:solidFill>
                  <a:latin typeface="Times New Roman"/>
                </a:rPr>
                <a:t>kyselin v pufrační reakc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8" name=""/>
            <p:cNvSpPr/>
            <p:nvPr/>
          </p:nvSpPr>
          <p:spPr>
            <a:xfrm>
              <a:off x="7945560" y="4614840"/>
              <a:ext cx="9360" cy="293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9" name=""/>
            <p:cNvSpPr/>
            <p:nvPr/>
          </p:nvSpPr>
          <p:spPr>
            <a:xfrm>
              <a:off x="5576760" y="5526000"/>
              <a:ext cx="9720" cy="293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0" name=""/>
            <p:cNvSpPr/>
            <p:nvPr/>
          </p:nvSpPr>
          <p:spPr>
            <a:xfrm>
              <a:off x="7197840" y="2620800"/>
              <a:ext cx="1290600" cy="9720"/>
            </a:xfrm>
            <a:custGeom>
              <a:avLst/>
              <a:gdLst/>
              <a:ahLst/>
              <a:rect l="l" t="t" r="r" b="b"/>
              <a:pathLst>
                <a:path w="813" h="6">
                  <a:moveTo>
                    <a:pt x="813" y="0"/>
                  </a:moveTo>
                  <a:cubicBezTo>
                    <a:pt x="678" y="0"/>
                    <a:pt x="169" y="5"/>
                    <a:pt x="0" y="6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36000" bIns="-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1" name=""/>
            <p:cNvSpPr/>
            <p:nvPr/>
          </p:nvSpPr>
          <p:spPr>
            <a:xfrm>
              <a:off x="5487840" y="733320"/>
              <a:ext cx="1552680" cy="1778040"/>
            </a:xfrm>
            <a:custGeom>
              <a:avLst/>
              <a:gdLst/>
              <a:ahLst/>
              <a:rect l="l" t="t" r="r" b="b"/>
              <a:pathLst>
                <a:path w="978" h="1120">
                  <a:moveTo>
                    <a:pt x="743" y="1120"/>
                  </a:moveTo>
                  <a:cubicBezTo>
                    <a:pt x="761" y="961"/>
                    <a:pt x="978" y="328"/>
                    <a:pt x="854" y="164"/>
                  </a:cubicBezTo>
                  <a:cubicBezTo>
                    <a:pt x="730" y="0"/>
                    <a:pt x="178" y="140"/>
                    <a:pt x="0" y="133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2" name=""/>
            <p:cNvSpPr/>
            <p:nvPr/>
          </p:nvSpPr>
          <p:spPr>
            <a:xfrm>
              <a:off x="101520" y="131760"/>
              <a:ext cx="2975040" cy="4040280"/>
            </a:xfrm>
            <a:custGeom>
              <a:avLst/>
              <a:gdLst/>
              <a:ahLst/>
              <a:rect l="l" t="t" r="r" b="b"/>
              <a:pathLst>
                <a:path w="1874" h="2545">
                  <a:moveTo>
                    <a:pt x="1874" y="395"/>
                  </a:moveTo>
                  <a:cubicBezTo>
                    <a:pt x="1815" y="342"/>
                    <a:pt x="1777" y="117"/>
                    <a:pt x="1513" y="77"/>
                  </a:cubicBezTo>
                  <a:cubicBezTo>
                    <a:pt x="1249" y="37"/>
                    <a:pt x="541" y="0"/>
                    <a:pt x="292" y="156"/>
                  </a:cubicBezTo>
                  <a:cubicBezTo>
                    <a:pt x="43" y="312"/>
                    <a:pt x="42" y="670"/>
                    <a:pt x="21" y="1011"/>
                  </a:cubicBezTo>
                  <a:cubicBezTo>
                    <a:pt x="0" y="1352"/>
                    <a:pt x="80" y="1948"/>
                    <a:pt x="164" y="2200"/>
                  </a:cubicBezTo>
                  <a:cubicBezTo>
                    <a:pt x="248" y="2452"/>
                    <a:pt x="258" y="2503"/>
                    <a:pt x="525" y="2524"/>
                  </a:cubicBezTo>
                  <a:cubicBezTo>
                    <a:pt x="792" y="2545"/>
                    <a:pt x="1509" y="2368"/>
                    <a:pt x="1768" y="2327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3" name=""/>
            <p:cNvSpPr/>
            <p:nvPr/>
          </p:nvSpPr>
          <p:spPr>
            <a:xfrm>
              <a:off x="4788000" y="2530440"/>
              <a:ext cx="4359240" cy="4343400"/>
            </a:xfrm>
            <a:custGeom>
              <a:avLst/>
              <a:gdLst/>
              <a:ahLst/>
              <a:rect l="l" t="t" r="r" b="b"/>
              <a:pathLst>
                <a:path w="2746" h="2736">
                  <a:moveTo>
                    <a:pt x="159" y="1257"/>
                  </a:moveTo>
                  <a:cubicBezTo>
                    <a:pt x="143" y="1496"/>
                    <a:pt x="0" y="2284"/>
                    <a:pt x="308" y="2510"/>
                  </a:cubicBezTo>
                  <a:cubicBezTo>
                    <a:pt x="616" y="2736"/>
                    <a:pt x="1619" y="2670"/>
                    <a:pt x="2007" y="2616"/>
                  </a:cubicBezTo>
                  <a:cubicBezTo>
                    <a:pt x="2395" y="2562"/>
                    <a:pt x="2532" y="2564"/>
                    <a:pt x="2639" y="2186"/>
                  </a:cubicBezTo>
                  <a:cubicBezTo>
                    <a:pt x="2746" y="1808"/>
                    <a:pt x="2729" y="698"/>
                    <a:pt x="2649" y="349"/>
                  </a:cubicBezTo>
                  <a:cubicBezTo>
                    <a:pt x="2569" y="0"/>
                    <a:pt x="2252" y="45"/>
                    <a:pt x="2156" y="94"/>
                  </a:cubicBezTo>
                  <a:cubicBezTo>
                    <a:pt x="2060" y="143"/>
                    <a:pt x="2093" y="527"/>
                    <a:pt x="2076" y="641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354" name=""/>
            <p:cNvGrpSpPr/>
            <p:nvPr/>
          </p:nvGrpSpPr>
          <p:grpSpPr>
            <a:xfrm>
              <a:off x="5947560" y="3745080"/>
              <a:ext cx="573840" cy="1081800"/>
              <a:chOff x="5947560" y="3745080"/>
              <a:chExt cx="573840" cy="1081800"/>
            </a:xfrm>
          </p:grpSpPr>
          <p:grpSp>
            <p:nvGrpSpPr>
              <p:cNvPr id="12355" name=""/>
              <p:cNvGrpSpPr/>
              <p:nvPr/>
            </p:nvGrpSpPr>
            <p:grpSpPr>
              <a:xfrm>
                <a:off x="5947560" y="3939120"/>
                <a:ext cx="147240" cy="396000"/>
                <a:chOff x="5947560" y="3939120"/>
                <a:chExt cx="147240" cy="396000"/>
              </a:xfrm>
            </p:grpSpPr>
            <p:grpSp>
              <p:nvGrpSpPr>
                <p:cNvPr id="12356" name=""/>
                <p:cNvGrpSpPr/>
                <p:nvPr/>
              </p:nvGrpSpPr>
              <p:grpSpPr>
                <a:xfrm>
                  <a:off x="5947560" y="3939120"/>
                  <a:ext cx="147240" cy="396000"/>
                  <a:chOff x="5947560" y="3939120"/>
                  <a:chExt cx="147240" cy="396000"/>
                </a:xfrm>
              </p:grpSpPr>
              <p:sp>
                <p:nvSpPr>
                  <p:cNvPr id="12357" name=""/>
                  <p:cNvSpPr/>
                  <p:nvPr/>
                </p:nvSpPr>
                <p:spPr>
                  <a:xfrm>
                    <a:off x="5947560" y="3939120"/>
                    <a:ext cx="147240" cy="396000"/>
                  </a:xfrm>
                  <a:prstGeom prst="ellipse">
                    <a:avLst/>
                  </a:prstGeom>
                  <a:solidFill>
                    <a:srgbClr val="3b3b3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58" name=""/>
                  <p:cNvSpPr/>
                  <p:nvPr/>
                </p:nvSpPr>
                <p:spPr>
                  <a:xfrm>
                    <a:off x="5949000" y="3942720"/>
                    <a:ext cx="144360" cy="388440"/>
                  </a:xfrm>
                  <a:prstGeom prst="ellipse">
                    <a:avLst/>
                  </a:prstGeom>
                  <a:solidFill>
                    <a:srgbClr val="3b3b3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59" name=""/>
                  <p:cNvSpPr/>
                  <p:nvPr/>
                </p:nvSpPr>
                <p:spPr>
                  <a:xfrm>
                    <a:off x="5950440" y="3946320"/>
                    <a:ext cx="141480" cy="380880"/>
                  </a:xfrm>
                  <a:prstGeom prst="ellipse">
                    <a:avLst/>
                  </a:prstGeom>
                  <a:solidFill>
                    <a:srgbClr val="3c3c3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60" name=""/>
                  <p:cNvSpPr/>
                  <p:nvPr/>
                </p:nvSpPr>
                <p:spPr>
                  <a:xfrm>
                    <a:off x="5951520" y="3950280"/>
                    <a:ext cx="138960" cy="372240"/>
                  </a:xfrm>
                  <a:prstGeom prst="ellipse">
                    <a:avLst/>
                  </a:prstGeom>
                  <a:solidFill>
                    <a:srgbClr val="3c3c3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61" name=""/>
                  <p:cNvSpPr/>
                  <p:nvPr/>
                </p:nvSpPr>
                <p:spPr>
                  <a:xfrm>
                    <a:off x="5952960" y="3954960"/>
                    <a:ext cx="136080" cy="363960"/>
                  </a:xfrm>
                  <a:prstGeom prst="ellipse">
                    <a:avLst/>
                  </a:prstGeom>
                  <a:solidFill>
                    <a:srgbClr val="3d3d3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62" name=""/>
                  <p:cNvSpPr/>
                  <p:nvPr/>
                </p:nvSpPr>
                <p:spPr>
                  <a:xfrm>
                    <a:off x="5955120" y="3958560"/>
                    <a:ext cx="131760" cy="355680"/>
                  </a:xfrm>
                  <a:prstGeom prst="ellipse">
                    <a:avLst/>
                  </a:prstGeom>
                  <a:solidFill>
                    <a:srgbClr val="3e3e3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63" name=""/>
                  <p:cNvSpPr/>
                  <p:nvPr/>
                </p:nvSpPr>
                <p:spPr>
                  <a:xfrm>
                    <a:off x="5956560" y="3963240"/>
                    <a:ext cx="128880" cy="347400"/>
                  </a:xfrm>
                  <a:prstGeom prst="ellipse">
                    <a:avLst/>
                  </a:prstGeom>
                  <a:solidFill>
                    <a:srgbClr val="3f3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64" name=""/>
                  <p:cNvSpPr/>
                  <p:nvPr/>
                </p:nvSpPr>
                <p:spPr>
                  <a:xfrm>
                    <a:off x="5958000" y="3967200"/>
                    <a:ext cx="126000" cy="338760"/>
                  </a:xfrm>
                  <a:prstGeom prst="ellipse">
                    <a:avLst/>
                  </a:prstGeom>
                  <a:solidFill>
                    <a:srgbClr val="41414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65" name=""/>
                  <p:cNvSpPr/>
                  <p:nvPr/>
                </p:nvSpPr>
                <p:spPr>
                  <a:xfrm>
                    <a:off x="5959440" y="3970800"/>
                    <a:ext cx="123120" cy="331200"/>
                  </a:xfrm>
                  <a:prstGeom prst="ellipse">
                    <a:avLst/>
                  </a:prstGeom>
                  <a:solidFill>
                    <a:srgbClr val="42424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66" name=""/>
                  <p:cNvSpPr/>
                  <p:nvPr/>
                </p:nvSpPr>
                <p:spPr>
                  <a:xfrm>
                    <a:off x="5960880" y="3975480"/>
                    <a:ext cx="120240" cy="322920"/>
                  </a:xfrm>
                  <a:prstGeom prst="ellipse">
                    <a:avLst/>
                  </a:prstGeom>
                  <a:solidFill>
                    <a:srgbClr val="43434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67" name=""/>
                  <p:cNvSpPr/>
                  <p:nvPr/>
                </p:nvSpPr>
                <p:spPr>
                  <a:xfrm>
                    <a:off x="5962320" y="3979080"/>
                    <a:ext cx="116640" cy="314280"/>
                  </a:xfrm>
                  <a:prstGeom prst="ellipse">
                    <a:avLst/>
                  </a:prstGeom>
                  <a:solidFill>
                    <a:srgbClr val="4545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68" name=""/>
                  <p:cNvSpPr/>
                  <p:nvPr/>
                </p:nvSpPr>
                <p:spPr>
                  <a:xfrm>
                    <a:off x="5964480" y="3983760"/>
                    <a:ext cx="113040" cy="306000"/>
                  </a:xfrm>
                  <a:prstGeom prst="ellipse">
                    <a:avLst/>
                  </a:prstGeom>
                  <a:solidFill>
                    <a:srgbClr val="46464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69" name=""/>
                  <p:cNvSpPr/>
                  <p:nvPr/>
                </p:nvSpPr>
                <p:spPr>
                  <a:xfrm>
                    <a:off x="5965920" y="3987720"/>
                    <a:ext cx="110160" cy="297360"/>
                  </a:xfrm>
                  <a:prstGeom prst="ellipse">
                    <a:avLst/>
                  </a:prstGeom>
                  <a:solidFill>
                    <a:srgbClr val="48484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70" name=""/>
                  <p:cNvSpPr/>
                  <p:nvPr/>
                </p:nvSpPr>
                <p:spPr>
                  <a:xfrm>
                    <a:off x="5967000" y="3991680"/>
                    <a:ext cx="107640" cy="289800"/>
                  </a:xfrm>
                  <a:prstGeom prst="ellipse">
                    <a:avLst/>
                  </a:prstGeom>
                  <a:solidFill>
                    <a:srgbClr val="4a4a4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71" name=""/>
                  <p:cNvSpPr/>
                  <p:nvPr/>
                </p:nvSpPr>
                <p:spPr>
                  <a:xfrm>
                    <a:off x="5968440" y="3996360"/>
                    <a:ext cx="104760" cy="281520"/>
                  </a:xfrm>
                  <a:prstGeom prst="ellipse">
                    <a:avLst/>
                  </a:prstGeom>
                  <a:solidFill>
                    <a:srgbClr val="4c4c4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72" name=""/>
                  <p:cNvSpPr/>
                  <p:nvPr/>
                </p:nvSpPr>
                <p:spPr>
                  <a:xfrm>
                    <a:off x="5969880" y="3999960"/>
                    <a:ext cx="101880" cy="273240"/>
                  </a:xfrm>
                  <a:prstGeom prst="ellipse">
                    <a:avLst/>
                  </a:prstGeom>
                  <a:solidFill>
                    <a:srgbClr val="4e4e4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73" name=""/>
                  <p:cNvSpPr/>
                  <p:nvPr/>
                </p:nvSpPr>
                <p:spPr>
                  <a:xfrm>
                    <a:off x="5971320" y="4004640"/>
                    <a:ext cx="98280" cy="264600"/>
                  </a:xfrm>
                  <a:prstGeom prst="ellipse">
                    <a:avLst/>
                  </a:prstGeom>
                  <a:solidFill>
                    <a:srgbClr val="51515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74" name=""/>
                  <p:cNvSpPr/>
                  <p:nvPr/>
                </p:nvSpPr>
                <p:spPr>
                  <a:xfrm>
                    <a:off x="5973480" y="4008240"/>
                    <a:ext cx="94680" cy="255960"/>
                  </a:xfrm>
                  <a:prstGeom prst="ellipse">
                    <a:avLst/>
                  </a:prstGeom>
                  <a:solidFill>
                    <a:srgbClr val="53535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75" name=""/>
                  <p:cNvSpPr/>
                  <p:nvPr/>
                </p:nvSpPr>
                <p:spPr>
                  <a:xfrm>
                    <a:off x="5974920" y="4012920"/>
                    <a:ext cx="91800" cy="247680"/>
                  </a:xfrm>
                  <a:prstGeom prst="ellipse">
                    <a:avLst/>
                  </a:prstGeom>
                  <a:solidFill>
                    <a:srgbClr val="55555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76" name=""/>
                  <p:cNvSpPr/>
                  <p:nvPr/>
                </p:nvSpPr>
                <p:spPr>
                  <a:xfrm>
                    <a:off x="5976360" y="4016880"/>
                    <a:ext cx="88920" cy="240120"/>
                  </a:xfrm>
                  <a:prstGeom prst="ellipse">
                    <a:avLst/>
                  </a:prstGeom>
                  <a:solidFill>
                    <a:srgbClr val="58585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77" name=""/>
                  <p:cNvSpPr/>
                  <p:nvPr/>
                </p:nvSpPr>
                <p:spPr>
                  <a:xfrm>
                    <a:off x="5977800" y="4020480"/>
                    <a:ext cx="86400" cy="231840"/>
                  </a:xfrm>
                  <a:prstGeom prst="ellipse">
                    <a:avLst/>
                  </a:prstGeom>
                  <a:solidFill>
                    <a:srgbClr val="5a5a5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78" name=""/>
                  <p:cNvSpPr/>
                  <p:nvPr/>
                </p:nvSpPr>
                <p:spPr>
                  <a:xfrm>
                    <a:off x="5979240" y="4025160"/>
                    <a:ext cx="82800" cy="223200"/>
                  </a:xfrm>
                  <a:prstGeom prst="ellipse">
                    <a:avLst/>
                  </a:prstGeom>
                  <a:solidFill>
                    <a:srgbClr val="5c5c5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79" name=""/>
                  <p:cNvSpPr/>
                  <p:nvPr/>
                </p:nvSpPr>
                <p:spPr>
                  <a:xfrm>
                    <a:off x="5980680" y="4029120"/>
                    <a:ext cx="79920" cy="214920"/>
                  </a:xfrm>
                  <a:prstGeom prst="ellipse">
                    <a:avLst/>
                  </a:prstGeom>
                  <a:solidFill>
                    <a:srgbClr val="5f5f5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80" name=""/>
                  <p:cNvSpPr/>
                  <p:nvPr/>
                </p:nvSpPr>
                <p:spPr>
                  <a:xfrm>
                    <a:off x="5982840" y="4033800"/>
                    <a:ext cx="76680" cy="206280"/>
                  </a:xfrm>
                  <a:prstGeom prst="ellipse">
                    <a:avLst/>
                  </a:prstGeom>
                  <a:solidFill>
                    <a:srgbClr val="61616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81" name=""/>
                  <p:cNvSpPr/>
                  <p:nvPr/>
                </p:nvSpPr>
                <p:spPr>
                  <a:xfrm>
                    <a:off x="5984280" y="4037400"/>
                    <a:ext cx="73800" cy="198720"/>
                  </a:xfrm>
                  <a:prstGeom prst="ellipse">
                    <a:avLst/>
                  </a:prstGeom>
                  <a:solidFill>
                    <a:srgbClr val="63636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82" name=""/>
                  <p:cNvSpPr/>
                  <p:nvPr/>
                </p:nvSpPr>
                <p:spPr>
                  <a:xfrm>
                    <a:off x="5985720" y="4041000"/>
                    <a:ext cx="70560" cy="190440"/>
                  </a:xfrm>
                  <a:prstGeom prst="ellipse">
                    <a:avLst/>
                  </a:prstGeom>
                  <a:solidFill>
                    <a:srgbClr val="65656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83" name=""/>
                  <p:cNvSpPr/>
                  <p:nvPr/>
                </p:nvSpPr>
                <p:spPr>
                  <a:xfrm>
                    <a:off x="5987160" y="4045680"/>
                    <a:ext cx="67680" cy="182160"/>
                  </a:xfrm>
                  <a:prstGeom prst="ellipse">
                    <a:avLst/>
                  </a:prstGeom>
                  <a:solidFill>
                    <a:srgbClr val="68686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84" name=""/>
                  <p:cNvSpPr/>
                  <p:nvPr/>
                </p:nvSpPr>
                <p:spPr>
                  <a:xfrm>
                    <a:off x="5988600" y="4049640"/>
                    <a:ext cx="64800" cy="173520"/>
                  </a:xfrm>
                  <a:prstGeom prst="ellipse">
                    <a:avLst/>
                  </a:prstGeom>
                  <a:solidFill>
                    <a:srgbClr val="69696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85" name=""/>
                  <p:cNvSpPr/>
                  <p:nvPr/>
                </p:nvSpPr>
                <p:spPr>
                  <a:xfrm>
                    <a:off x="5990760" y="4054320"/>
                    <a:ext cx="61560" cy="164880"/>
                  </a:xfrm>
                  <a:prstGeom prst="ellipse">
                    <a:avLst/>
                  </a:prstGeom>
                  <a:solidFill>
                    <a:srgbClr val="6c6c6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86" name=""/>
                  <p:cNvSpPr/>
                  <p:nvPr/>
                </p:nvSpPr>
                <p:spPr>
                  <a:xfrm>
                    <a:off x="5992200" y="4058280"/>
                    <a:ext cx="57960" cy="157680"/>
                  </a:xfrm>
                  <a:prstGeom prst="ellipse">
                    <a:avLst/>
                  </a:prstGeom>
                  <a:solidFill>
                    <a:srgbClr val="6e6e6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87" name=""/>
                  <p:cNvSpPr/>
                  <p:nvPr/>
                </p:nvSpPr>
                <p:spPr>
                  <a:xfrm>
                    <a:off x="5993640" y="4061880"/>
                    <a:ext cx="55080" cy="149400"/>
                  </a:xfrm>
                  <a:prstGeom prst="ellipse">
                    <a:avLst/>
                  </a:prstGeom>
                  <a:solidFill>
                    <a:srgbClr val="6f6f6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88" name=""/>
                  <p:cNvSpPr/>
                  <p:nvPr/>
                </p:nvSpPr>
                <p:spPr>
                  <a:xfrm>
                    <a:off x="5994720" y="4066560"/>
                    <a:ext cx="52560" cy="140760"/>
                  </a:xfrm>
                  <a:prstGeom prst="ellipse">
                    <a:avLst/>
                  </a:prstGeom>
                  <a:solidFill>
                    <a:srgbClr val="71717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89" name=""/>
                  <p:cNvSpPr/>
                  <p:nvPr/>
                </p:nvSpPr>
                <p:spPr>
                  <a:xfrm>
                    <a:off x="5996160" y="4070160"/>
                    <a:ext cx="49680" cy="132120"/>
                  </a:xfrm>
                  <a:prstGeom prst="ellipse">
                    <a:avLst/>
                  </a:prstGeom>
                  <a:solidFill>
                    <a:srgbClr val="7373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90" name=""/>
                  <p:cNvSpPr/>
                  <p:nvPr/>
                </p:nvSpPr>
                <p:spPr>
                  <a:xfrm>
                    <a:off x="5997600" y="4074840"/>
                    <a:ext cx="46440" cy="123840"/>
                  </a:xfrm>
                  <a:prstGeom prst="ellipse">
                    <a:avLst/>
                  </a:prstGeom>
                  <a:solidFill>
                    <a:srgbClr val="7474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1040" bIns="41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91" name=""/>
                  <p:cNvSpPr/>
                  <p:nvPr/>
                </p:nvSpPr>
                <p:spPr>
                  <a:xfrm>
                    <a:off x="5999040" y="4078800"/>
                    <a:ext cx="43200" cy="116280"/>
                  </a:xfrm>
                  <a:prstGeom prst="ellipse">
                    <a:avLst/>
                  </a:prstGeom>
                  <a:solidFill>
                    <a:srgbClr val="76767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5640" bIns="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92" name=""/>
                  <p:cNvSpPr/>
                  <p:nvPr/>
                </p:nvSpPr>
                <p:spPr>
                  <a:xfrm>
                    <a:off x="6001200" y="4082400"/>
                    <a:ext cx="39600" cy="108000"/>
                  </a:xfrm>
                  <a:prstGeom prst="ellipse">
                    <a:avLst/>
                  </a:prstGeom>
                  <a:solidFill>
                    <a:srgbClr val="77777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520" bIns="29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93" name=""/>
                  <p:cNvSpPr/>
                  <p:nvPr/>
                </p:nvSpPr>
                <p:spPr>
                  <a:xfrm>
                    <a:off x="6002640" y="4087080"/>
                    <a:ext cx="36720" cy="99360"/>
                  </a:xfrm>
                  <a:prstGeom prst="ellipse">
                    <a:avLst/>
                  </a:prstGeom>
                  <a:solidFill>
                    <a:srgbClr val="78787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760" bIns="23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94" name=""/>
                  <p:cNvSpPr/>
                  <p:nvPr/>
                </p:nvSpPr>
                <p:spPr>
                  <a:xfrm>
                    <a:off x="6004080" y="4091040"/>
                    <a:ext cx="33840" cy="91080"/>
                  </a:xfrm>
                  <a:prstGeom prst="ellipse">
                    <a:avLst/>
                  </a:prstGeom>
                  <a:solidFill>
                    <a:srgbClr val="79797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7640" bIns="17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95" name=""/>
                  <p:cNvSpPr/>
                  <p:nvPr/>
                </p:nvSpPr>
                <p:spPr>
                  <a:xfrm>
                    <a:off x="6005520" y="4095720"/>
                    <a:ext cx="31320" cy="82440"/>
                  </a:xfrm>
                  <a:prstGeom prst="ellipse">
                    <a:avLst/>
                  </a:prstGeom>
                  <a:solidFill>
                    <a:srgbClr val="7a7a7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1880" bIns="11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96" name=""/>
                  <p:cNvSpPr/>
                  <p:nvPr/>
                </p:nvSpPr>
                <p:spPr>
                  <a:xfrm>
                    <a:off x="6006960" y="4099320"/>
                    <a:ext cx="28440" cy="74880"/>
                  </a:xfrm>
                  <a:prstGeom prst="ellipse">
                    <a:avLst/>
                  </a:prstGeom>
                  <a:solidFill>
                    <a:srgbClr val="7b7b7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480" bIns="6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97" name=""/>
                  <p:cNvSpPr/>
                  <p:nvPr/>
                </p:nvSpPr>
                <p:spPr>
                  <a:xfrm>
                    <a:off x="6009120" y="4102920"/>
                    <a:ext cx="23760" cy="66600"/>
                  </a:xfrm>
                  <a:prstGeom prst="ellipse">
                    <a:avLst/>
                  </a:prstGeom>
                  <a:solidFill>
                    <a:srgbClr val="7c7c7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" bIns="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98" name=""/>
                  <p:cNvSpPr/>
                  <p:nvPr/>
                </p:nvSpPr>
                <p:spPr>
                  <a:xfrm>
                    <a:off x="6010560" y="4107600"/>
                    <a:ext cx="21240" cy="58320"/>
                  </a:xfrm>
                  <a:prstGeom prst="ellipse">
                    <a:avLst/>
                  </a:prstGeom>
                  <a:solidFill>
                    <a:srgbClr val="7d7d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040" bIns="-5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99" name=""/>
                  <p:cNvSpPr/>
                  <p:nvPr/>
                </p:nvSpPr>
                <p:spPr>
                  <a:xfrm>
                    <a:off x="6012000" y="4111560"/>
                    <a:ext cx="18360" cy="49680"/>
                  </a:xfrm>
                  <a:prstGeom prst="ellipse">
                    <a:avLst/>
                  </a:prstGeom>
                  <a:solidFill>
                    <a:srgbClr val="7d7d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00" name=""/>
                  <p:cNvSpPr/>
                  <p:nvPr/>
                </p:nvSpPr>
                <p:spPr>
                  <a:xfrm>
                    <a:off x="6013440" y="4116240"/>
                    <a:ext cx="15480" cy="41040"/>
                  </a:xfrm>
                  <a:prstGeom prst="ellipse">
                    <a:avLst/>
                  </a:prstGeom>
                  <a:solidFill>
                    <a:srgbClr val="7e7e7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280" bIns="-17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01" name=""/>
                  <p:cNvSpPr/>
                  <p:nvPr/>
                </p:nvSpPr>
                <p:spPr>
                  <a:xfrm>
                    <a:off x="6014880" y="4120200"/>
                    <a:ext cx="12600" cy="32760"/>
                  </a:xfrm>
                  <a:prstGeom prst="ellipse">
                    <a:avLst/>
                  </a:prstGeom>
                  <a:solidFill>
                    <a:srgbClr val="7e7e7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02" name=""/>
                  <p:cNvSpPr/>
                  <p:nvPr/>
                </p:nvSpPr>
                <p:spPr>
                  <a:xfrm>
                    <a:off x="6016320" y="4124880"/>
                    <a:ext cx="9720" cy="24120"/>
                  </a:xfrm>
                  <a:prstGeom prst="ellipse">
                    <a:avLst/>
                  </a:prstGeom>
                  <a:solidFill>
                    <a:srgbClr val="7f7f7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03" name=""/>
                  <p:cNvSpPr/>
                  <p:nvPr/>
                </p:nvSpPr>
                <p:spPr>
                  <a:xfrm>
                    <a:off x="6018120" y="4128480"/>
                    <a:ext cx="5400" cy="16920"/>
                  </a:xfrm>
                  <a:prstGeom prst="ellipse">
                    <a:avLst/>
                  </a:prstGeom>
                  <a:solidFill>
                    <a:srgbClr val="7f7f7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04" name=""/>
                  <p:cNvSpPr/>
                  <p:nvPr/>
                </p:nvSpPr>
                <p:spPr>
                  <a:xfrm>
                    <a:off x="6019560" y="4132080"/>
                    <a:ext cx="2520" cy="8280"/>
                  </a:xfrm>
                  <a:prstGeom prst="ellipse">
                    <a:avLst/>
                  </a:prstGeom>
                  <a:solidFill>
                    <a:srgbClr val="7f7f7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2405" name=""/>
                <p:cNvSpPr/>
                <p:nvPr/>
              </p:nvSpPr>
              <p:spPr>
                <a:xfrm>
                  <a:off x="5947560" y="3939120"/>
                  <a:ext cx="147240" cy="396000"/>
                </a:xfrm>
                <a:prstGeom prst="ellipse">
                  <a:avLst/>
                </a:prstGeom>
                <a:noFill/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406" name=""/>
              <p:cNvSpPr/>
              <p:nvPr/>
            </p:nvSpPr>
            <p:spPr>
              <a:xfrm flipH="1">
                <a:off x="6010200" y="4084920"/>
                <a:ext cx="510840" cy="353880"/>
              </a:xfrm>
              <a:custGeom>
                <a:avLst/>
                <a:gdLst/>
                <a:ahLst/>
                <a:rect l="l" t="t" r="r" b="b"/>
                <a:pathLst>
                  <a:path w="721" h="376">
                    <a:moveTo>
                      <a:pt x="703" y="102"/>
                    </a:moveTo>
                    <a:cubicBezTo>
                      <a:pt x="465" y="103"/>
                      <a:pt x="315" y="110"/>
                      <a:pt x="228" y="120"/>
                    </a:cubicBezTo>
                    <a:cubicBezTo>
                      <a:pt x="138" y="139"/>
                      <a:pt x="170" y="205"/>
                      <a:pt x="174" y="240"/>
                    </a:cubicBezTo>
                    <a:cubicBezTo>
                      <a:pt x="178" y="275"/>
                      <a:pt x="205" y="313"/>
                      <a:pt x="193" y="335"/>
                    </a:cubicBezTo>
                    <a:cubicBezTo>
                      <a:pt x="181" y="357"/>
                      <a:pt x="132" y="374"/>
                      <a:pt x="102" y="375"/>
                    </a:cubicBezTo>
                    <a:cubicBezTo>
                      <a:pt x="72" y="376"/>
                      <a:pt x="24" y="364"/>
                      <a:pt x="12" y="341"/>
                    </a:cubicBezTo>
                    <a:cubicBezTo>
                      <a:pt x="0" y="318"/>
                      <a:pt x="13" y="283"/>
                      <a:pt x="28" y="236"/>
                    </a:cubicBezTo>
                    <a:cubicBezTo>
                      <a:pt x="43" y="189"/>
                      <a:pt x="67" y="96"/>
                      <a:pt x="103" y="57"/>
                    </a:cubicBezTo>
                    <a:cubicBezTo>
                      <a:pt x="139" y="18"/>
                      <a:pt x="150" y="13"/>
                      <a:pt x="247" y="3"/>
                    </a:cubicBezTo>
                    <a:lnTo>
                      <a:pt x="685" y="0"/>
                    </a:lnTo>
                    <a:cubicBezTo>
                      <a:pt x="715" y="33"/>
                      <a:pt x="721" y="41"/>
                      <a:pt x="703" y="102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6699ff"/>
                  </a:gs>
                  <a:gs pos="100000">
                    <a:srgbClr val="2f4675"/>
                  </a:gs>
                </a:gsLst>
                <a:lin ang="54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407" name=""/>
              <p:cNvGrpSpPr/>
              <p:nvPr/>
            </p:nvGrpSpPr>
            <p:grpSpPr>
              <a:xfrm>
                <a:off x="6397920" y="4468320"/>
                <a:ext cx="49320" cy="358560"/>
                <a:chOff x="6397920" y="4468320"/>
                <a:chExt cx="49320" cy="358560"/>
              </a:xfrm>
            </p:grpSpPr>
            <p:sp>
              <p:nvSpPr>
                <p:cNvPr id="12408" name=""/>
                <p:cNvSpPr/>
                <p:nvPr/>
              </p:nvSpPr>
              <p:spPr>
                <a:xfrm flipH="1">
                  <a:off x="6405480" y="4468320"/>
                  <a:ext cx="41760" cy="81360"/>
                </a:xfrm>
                <a:custGeom>
                  <a:avLst/>
                  <a:gdLst/>
                  <a:ahLst/>
                  <a:rect l="l" t="t" r="r" b="b"/>
                  <a:pathLst>
                    <a:path w="196" h="370">
                      <a:moveTo>
                        <a:pt x="95" y="0"/>
                      </a:moveTo>
                      <a:lnTo>
                        <a:pt x="105" y="58"/>
                      </a:lnTo>
                      <a:lnTo>
                        <a:pt x="111" y="87"/>
                      </a:lnTo>
                      <a:lnTo>
                        <a:pt x="121" y="121"/>
                      </a:lnTo>
                      <a:lnTo>
                        <a:pt x="132" y="141"/>
                      </a:lnTo>
                      <a:lnTo>
                        <a:pt x="147" y="166"/>
                      </a:lnTo>
                      <a:lnTo>
                        <a:pt x="167" y="193"/>
                      </a:lnTo>
                      <a:lnTo>
                        <a:pt x="184" y="220"/>
                      </a:lnTo>
                      <a:lnTo>
                        <a:pt x="192" y="245"/>
                      </a:lnTo>
                      <a:lnTo>
                        <a:pt x="196" y="278"/>
                      </a:lnTo>
                      <a:lnTo>
                        <a:pt x="189" y="307"/>
                      </a:lnTo>
                      <a:lnTo>
                        <a:pt x="178" y="328"/>
                      </a:lnTo>
                      <a:lnTo>
                        <a:pt x="162" y="345"/>
                      </a:lnTo>
                      <a:lnTo>
                        <a:pt x="141" y="361"/>
                      </a:lnTo>
                      <a:lnTo>
                        <a:pt x="121" y="367"/>
                      </a:lnTo>
                      <a:lnTo>
                        <a:pt x="99" y="370"/>
                      </a:lnTo>
                      <a:lnTo>
                        <a:pt x="76" y="367"/>
                      </a:lnTo>
                      <a:lnTo>
                        <a:pt x="54" y="362"/>
                      </a:lnTo>
                      <a:lnTo>
                        <a:pt x="34" y="350"/>
                      </a:lnTo>
                      <a:lnTo>
                        <a:pt x="19" y="334"/>
                      </a:lnTo>
                      <a:lnTo>
                        <a:pt x="8" y="315"/>
                      </a:lnTo>
                      <a:lnTo>
                        <a:pt x="3" y="296"/>
                      </a:lnTo>
                      <a:lnTo>
                        <a:pt x="0" y="272"/>
                      </a:lnTo>
                      <a:lnTo>
                        <a:pt x="5" y="240"/>
                      </a:lnTo>
                      <a:lnTo>
                        <a:pt x="13" y="218"/>
                      </a:lnTo>
                      <a:lnTo>
                        <a:pt x="30" y="190"/>
                      </a:lnTo>
                      <a:lnTo>
                        <a:pt x="49" y="166"/>
                      </a:lnTo>
                      <a:lnTo>
                        <a:pt x="62" y="140"/>
                      </a:lnTo>
                      <a:lnTo>
                        <a:pt x="72" y="119"/>
                      </a:lnTo>
                      <a:lnTo>
                        <a:pt x="81" y="90"/>
                      </a:lnTo>
                      <a:lnTo>
                        <a:pt x="86" y="58"/>
                      </a:lnTo>
                      <a:lnTo>
                        <a:pt x="95" y="0"/>
                      </a:lnTo>
                      <a:close/>
                    </a:path>
                  </a:pathLst>
                </a:custGeom>
                <a:solidFill>
                  <a:srgbClr val="00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09" name=""/>
                <p:cNvSpPr/>
                <p:nvPr/>
              </p:nvSpPr>
              <p:spPr>
                <a:xfrm flipH="1">
                  <a:off x="6405480" y="4555080"/>
                  <a:ext cx="41760" cy="81360"/>
                </a:xfrm>
                <a:custGeom>
                  <a:avLst/>
                  <a:gdLst/>
                  <a:ahLst/>
                  <a:rect l="l" t="t" r="r" b="b"/>
                  <a:pathLst>
                    <a:path w="196" h="372">
                      <a:moveTo>
                        <a:pt x="95" y="0"/>
                      </a:moveTo>
                      <a:lnTo>
                        <a:pt x="105" y="60"/>
                      </a:lnTo>
                      <a:lnTo>
                        <a:pt x="111" y="88"/>
                      </a:lnTo>
                      <a:lnTo>
                        <a:pt x="121" y="122"/>
                      </a:lnTo>
                      <a:lnTo>
                        <a:pt x="132" y="143"/>
                      </a:lnTo>
                      <a:lnTo>
                        <a:pt x="147" y="168"/>
                      </a:lnTo>
                      <a:lnTo>
                        <a:pt x="167" y="195"/>
                      </a:lnTo>
                      <a:lnTo>
                        <a:pt x="184" y="221"/>
                      </a:lnTo>
                      <a:lnTo>
                        <a:pt x="192" y="247"/>
                      </a:lnTo>
                      <a:lnTo>
                        <a:pt x="196" y="279"/>
                      </a:lnTo>
                      <a:lnTo>
                        <a:pt x="189" y="308"/>
                      </a:lnTo>
                      <a:lnTo>
                        <a:pt x="178" y="328"/>
                      </a:lnTo>
                      <a:lnTo>
                        <a:pt x="162" y="345"/>
                      </a:lnTo>
                      <a:lnTo>
                        <a:pt x="141" y="361"/>
                      </a:lnTo>
                      <a:lnTo>
                        <a:pt x="121" y="369"/>
                      </a:lnTo>
                      <a:lnTo>
                        <a:pt x="99" y="372"/>
                      </a:lnTo>
                      <a:lnTo>
                        <a:pt x="76" y="369"/>
                      </a:lnTo>
                      <a:lnTo>
                        <a:pt x="54" y="363"/>
                      </a:lnTo>
                      <a:lnTo>
                        <a:pt x="34" y="351"/>
                      </a:lnTo>
                      <a:lnTo>
                        <a:pt x="19" y="336"/>
                      </a:lnTo>
                      <a:lnTo>
                        <a:pt x="8" y="317"/>
                      </a:lnTo>
                      <a:lnTo>
                        <a:pt x="3" y="298"/>
                      </a:lnTo>
                      <a:lnTo>
                        <a:pt x="0" y="272"/>
                      </a:lnTo>
                      <a:lnTo>
                        <a:pt x="5" y="242"/>
                      </a:lnTo>
                      <a:lnTo>
                        <a:pt x="13" y="219"/>
                      </a:lnTo>
                      <a:lnTo>
                        <a:pt x="30" y="191"/>
                      </a:lnTo>
                      <a:lnTo>
                        <a:pt x="49" y="168"/>
                      </a:lnTo>
                      <a:lnTo>
                        <a:pt x="62" y="141"/>
                      </a:lnTo>
                      <a:lnTo>
                        <a:pt x="72" y="120"/>
                      </a:lnTo>
                      <a:lnTo>
                        <a:pt x="81" y="90"/>
                      </a:lnTo>
                      <a:lnTo>
                        <a:pt x="86" y="60"/>
                      </a:lnTo>
                      <a:lnTo>
                        <a:pt x="95" y="0"/>
                      </a:lnTo>
                      <a:close/>
                    </a:path>
                  </a:pathLst>
                </a:custGeom>
                <a:solidFill>
                  <a:srgbClr val="00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10" name=""/>
                <p:cNvSpPr/>
                <p:nvPr/>
              </p:nvSpPr>
              <p:spPr>
                <a:xfrm flipH="1">
                  <a:off x="6397560" y="4658400"/>
                  <a:ext cx="41400" cy="81360"/>
                </a:xfrm>
                <a:custGeom>
                  <a:avLst/>
                  <a:gdLst/>
                  <a:ahLst/>
                  <a:rect l="l" t="t" r="r" b="b"/>
                  <a:pathLst>
                    <a:path w="196" h="370">
                      <a:moveTo>
                        <a:pt x="95" y="0"/>
                      </a:moveTo>
                      <a:lnTo>
                        <a:pt x="105" y="58"/>
                      </a:lnTo>
                      <a:lnTo>
                        <a:pt x="111" y="87"/>
                      </a:lnTo>
                      <a:lnTo>
                        <a:pt x="121" y="121"/>
                      </a:lnTo>
                      <a:lnTo>
                        <a:pt x="132" y="141"/>
                      </a:lnTo>
                      <a:lnTo>
                        <a:pt x="147" y="166"/>
                      </a:lnTo>
                      <a:lnTo>
                        <a:pt x="167" y="193"/>
                      </a:lnTo>
                      <a:lnTo>
                        <a:pt x="184" y="220"/>
                      </a:lnTo>
                      <a:lnTo>
                        <a:pt x="192" y="245"/>
                      </a:lnTo>
                      <a:lnTo>
                        <a:pt x="196" y="278"/>
                      </a:lnTo>
                      <a:lnTo>
                        <a:pt x="189" y="307"/>
                      </a:lnTo>
                      <a:lnTo>
                        <a:pt x="178" y="328"/>
                      </a:lnTo>
                      <a:lnTo>
                        <a:pt x="162" y="345"/>
                      </a:lnTo>
                      <a:lnTo>
                        <a:pt x="141" y="361"/>
                      </a:lnTo>
                      <a:lnTo>
                        <a:pt x="121" y="367"/>
                      </a:lnTo>
                      <a:lnTo>
                        <a:pt x="99" y="370"/>
                      </a:lnTo>
                      <a:lnTo>
                        <a:pt x="76" y="367"/>
                      </a:lnTo>
                      <a:lnTo>
                        <a:pt x="54" y="362"/>
                      </a:lnTo>
                      <a:lnTo>
                        <a:pt x="34" y="350"/>
                      </a:lnTo>
                      <a:lnTo>
                        <a:pt x="19" y="334"/>
                      </a:lnTo>
                      <a:lnTo>
                        <a:pt x="8" y="315"/>
                      </a:lnTo>
                      <a:lnTo>
                        <a:pt x="3" y="296"/>
                      </a:lnTo>
                      <a:lnTo>
                        <a:pt x="0" y="272"/>
                      </a:lnTo>
                      <a:lnTo>
                        <a:pt x="5" y="240"/>
                      </a:lnTo>
                      <a:lnTo>
                        <a:pt x="13" y="218"/>
                      </a:lnTo>
                      <a:lnTo>
                        <a:pt x="30" y="190"/>
                      </a:lnTo>
                      <a:lnTo>
                        <a:pt x="49" y="166"/>
                      </a:lnTo>
                      <a:lnTo>
                        <a:pt x="62" y="140"/>
                      </a:lnTo>
                      <a:lnTo>
                        <a:pt x="72" y="119"/>
                      </a:lnTo>
                      <a:lnTo>
                        <a:pt x="81" y="90"/>
                      </a:lnTo>
                      <a:lnTo>
                        <a:pt x="86" y="58"/>
                      </a:lnTo>
                      <a:lnTo>
                        <a:pt x="95" y="0"/>
                      </a:lnTo>
                      <a:close/>
                    </a:path>
                  </a:pathLst>
                </a:custGeom>
                <a:solidFill>
                  <a:srgbClr val="00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11" name=""/>
                <p:cNvSpPr/>
                <p:nvPr/>
              </p:nvSpPr>
              <p:spPr>
                <a:xfrm flipH="1">
                  <a:off x="6397560" y="4745520"/>
                  <a:ext cx="41400" cy="81360"/>
                </a:xfrm>
                <a:custGeom>
                  <a:avLst/>
                  <a:gdLst/>
                  <a:ahLst/>
                  <a:rect l="l" t="t" r="r" b="b"/>
                  <a:pathLst>
                    <a:path w="196" h="372">
                      <a:moveTo>
                        <a:pt x="95" y="0"/>
                      </a:moveTo>
                      <a:lnTo>
                        <a:pt x="105" y="60"/>
                      </a:lnTo>
                      <a:lnTo>
                        <a:pt x="111" y="88"/>
                      </a:lnTo>
                      <a:lnTo>
                        <a:pt x="121" y="122"/>
                      </a:lnTo>
                      <a:lnTo>
                        <a:pt x="132" y="143"/>
                      </a:lnTo>
                      <a:lnTo>
                        <a:pt x="147" y="168"/>
                      </a:lnTo>
                      <a:lnTo>
                        <a:pt x="167" y="195"/>
                      </a:lnTo>
                      <a:lnTo>
                        <a:pt x="184" y="221"/>
                      </a:lnTo>
                      <a:lnTo>
                        <a:pt x="192" y="247"/>
                      </a:lnTo>
                      <a:lnTo>
                        <a:pt x="196" y="279"/>
                      </a:lnTo>
                      <a:lnTo>
                        <a:pt x="189" y="308"/>
                      </a:lnTo>
                      <a:lnTo>
                        <a:pt x="178" y="328"/>
                      </a:lnTo>
                      <a:lnTo>
                        <a:pt x="162" y="345"/>
                      </a:lnTo>
                      <a:lnTo>
                        <a:pt x="141" y="361"/>
                      </a:lnTo>
                      <a:lnTo>
                        <a:pt x="121" y="369"/>
                      </a:lnTo>
                      <a:lnTo>
                        <a:pt x="99" y="372"/>
                      </a:lnTo>
                      <a:lnTo>
                        <a:pt x="76" y="369"/>
                      </a:lnTo>
                      <a:lnTo>
                        <a:pt x="54" y="363"/>
                      </a:lnTo>
                      <a:lnTo>
                        <a:pt x="34" y="351"/>
                      </a:lnTo>
                      <a:lnTo>
                        <a:pt x="19" y="336"/>
                      </a:lnTo>
                      <a:lnTo>
                        <a:pt x="8" y="317"/>
                      </a:lnTo>
                      <a:lnTo>
                        <a:pt x="3" y="298"/>
                      </a:lnTo>
                      <a:lnTo>
                        <a:pt x="0" y="272"/>
                      </a:lnTo>
                      <a:lnTo>
                        <a:pt x="5" y="242"/>
                      </a:lnTo>
                      <a:lnTo>
                        <a:pt x="13" y="219"/>
                      </a:lnTo>
                      <a:lnTo>
                        <a:pt x="30" y="191"/>
                      </a:lnTo>
                      <a:lnTo>
                        <a:pt x="49" y="168"/>
                      </a:lnTo>
                      <a:lnTo>
                        <a:pt x="62" y="141"/>
                      </a:lnTo>
                      <a:lnTo>
                        <a:pt x="72" y="120"/>
                      </a:lnTo>
                      <a:lnTo>
                        <a:pt x="81" y="90"/>
                      </a:lnTo>
                      <a:lnTo>
                        <a:pt x="86" y="60"/>
                      </a:lnTo>
                      <a:lnTo>
                        <a:pt x="95" y="0"/>
                      </a:lnTo>
                      <a:close/>
                    </a:path>
                  </a:pathLst>
                </a:custGeom>
                <a:solidFill>
                  <a:srgbClr val="00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412" name=""/>
              <p:cNvSpPr/>
              <p:nvPr/>
            </p:nvSpPr>
            <p:spPr>
              <a:xfrm flipH="1">
                <a:off x="6176520" y="3936600"/>
                <a:ext cx="125640" cy="189000"/>
              </a:xfrm>
              <a:custGeom>
                <a:avLst/>
                <a:gdLst/>
                <a:ahLst/>
                <a:rect l="l" t="t" r="r" b="b"/>
                <a:pathLst>
                  <a:path w="178" h="201">
                    <a:moveTo>
                      <a:pt x="1" y="160"/>
                    </a:moveTo>
                    <a:cubicBezTo>
                      <a:pt x="2" y="152"/>
                      <a:pt x="5" y="136"/>
                      <a:pt x="9" y="121"/>
                    </a:cubicBezTo>
                    <a:cubicBezTo>
                      <a:pt x="13" y="106"/>
                      <a:pt x="21" y="82"/>
                      <a:pt x="27" y="67"/>
                    </a:cubicBezTo>
                    <a:cubicBezTo>
                      <a:pt x="33" y="52"/>
                      <a:pt x="40" y="39"/>
                      <a:pt x="46" y="31"/>
                    </a:cubicBezTo>
                    <a:cubicBezTo>
                      <a:pt x="52" y="23"/>
                      <a:pt x="56" y="21"/>
                      <a:pt x="60" y="16"/>
                    </a:cubicBezTo>
                    <a:cubicBezTo>
                      <a:pt x="64" y="11"/>
                      <a:pt x="69" y="2"/>
                      <a:pt x="73" y="1"/>
                    </a:cubicBezTo>
                    <a:cubicBezTo>
                      <a:pt x="77" y="0"/>
                      <a:pt x="82" y="6"/>
                      <a:pt x="87" y="7"/>
                    </a:cubicBezTo>
                    <a:cubicBezTo>
                      <a:pt x="92" y="8"/>
                      <a:pt x="100" y="5"/>
                      <a:pt x="105" y="5"/>
                    </a:cubicBezTo>
                    <a:cubicBezTo>
                      <a:pt x="110" y="5"/>
                      <a:pt x="112" y="5"/>
                      <a:pt x="117" y="8"/>
                    </a:cubicBezTo>
                    <a:cubicBezTo>
                      <a:pt x="122" y="11"/>
                      <a:pt x="130" y="17"/>
                      <a:pt x="136" y="26"/>
                    </a:cubicBezTo>
                    <a:cubicBezTo>
                      <a:pt x="142" y="35"/>
                      <a:pt x="149" y="47"/>
                      <a:pt x="154" y="61"/>
                    </a:cubicBezTo>
                    <a:cubicBezTo>
                      <a:pt x="159" y="75"/>
                      <a:pt x="164" y="95"/>
                      <a:pt x="168" y="112"/>
                    </a:cubicBezTo>
                    <a:cubicBezTo>
                      <a:pt x="172" y="129"/>
                      <a:pt x="178" y="151"/>
                      <a:pt x="178" y="161"/>
                    </a:cubicBezTo>
                    <a:cubicBezTo>
                      <a:pt x="178" y="171"/>
                      <a:pt x="178" y="170"/>
                      <a:pt x="171" y="175"/>
                    </a:cubicBezTo>
                    <a:cubicBezTo>
                      <a:pt x="164" y="180"/>
                      <a:pt x="151" y="189"/>
                      <a:pt x="138" y="193"/>
                    </a:cubicBezTo>
                    <a:cubicBezTo>
                      <a:pt x="125" y="197"/>
                      <a:pt x="106" y="199"/>
                      <a:pt x="93" y="200"/>
                    </a:cubicBezTo>
                    <a:cubicBezTo>
                      <a:pt x="80" y="201"/>
                      <a:pt x="68" y="198"/>
                      <a:pt x="58" y="196"/>
                    </a:cubicBezTo>
                    <a:cubicBezTo>
                      <a:pt x="48" y="194"/>
                      <a:pt x="39" y="192"/>
                      <a:pt x="30" y="188"/>
                    </a:cubicBezTo>
                    <a:cubicBezTo>
                      <a:pt x="21" y="184"/>
                      <a:pt x="11" y="175"/>
                      <a:pt x="6" y="169"/>
                    </a:cubicBezTo>
                    <a:cubicBezTo>
                      <a:pt x="1" y="163"/>
                      <a:pt x="0" y="168"/>
                      <a:pt x="1" y="16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6699ff"/>
                  </a:gs>
                  <a:gs pos="100000">
                    <a:srgbClr val="2f4675"/>
                  </a:gs>
                </a:gsLst>
                <a:lin ang="54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13" name=""/>
              <p:cNvSpPr/>
              <p:nvPr/>
            </p:nvSpPr>
            <p:spPr>
              <a:xfrm flipH="1">
                <a:off x="6221160" y="3868560"/>
                <a:ext cx="36360" cy="8676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2f4675"/>
                  </a:gs>
                  <a:gs pos="100000">
                    <a:srgbClr val="6699ff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14" name=""/>
              <p:cNvSpPr/>
              <p:nvPr/>
            </p:nvSpPr>
            <p:spPr>
              <a:xfrm flipH="1">
                <a:off x="6117480" y="3745080"/>
                <a:ext cx="241920" cy="162000"/>
              </a:xfrm>
              <a:custGeom>
                <a:avLst/>
                <a:gdLst/>
                <a:ahLst/>
                <a:rect l="l" t="t" r="r" b="b"/>
                <a:pathLst>
                  <a:path w="342" h="172">
                    <a:moveTo>
                      <a:pt x="170" y="172"/>
                    </a:moveTo>
                    <a:cubicBezTo>
                      <a:pt x="143" y="167"/>
                      <a:pt x="116" y="163"/>
                      <a:pt x="90" y="154"/>
                    </a:cubicBezTo>
                    <a:cubicBezTo>
                      <a:pt x="64" y="145"/>
                      <a:pt x="28" y="126"/>
                      <a:pt x="14" y="118"/>
                    </a:cubicBezTo>
                    <a:cubicBezTo>
                      <a:pt x="0" y="110"/>
                      <a:pt x="3" y="111"/>
                      <a:pt x="3" y="106"/>
                    </a:cubicBezTo>
                    <a:cubicBezTo>
                      <a:pt x="3" y="101"/>
                      <a:pt x="9" y="92"/>
                      <a:pt x="12" y="88"/>
                    </a:cubicBezTo>
                    <a:cubicBezTo>
                      <a:pt x="15" y="84"/>
                      <a:pt x="17" y="85"/>
                      <a:pt x="20" y="80"/>
                    </a:cubicBezTo>
                    <a:cubicBezTo>
                      <a:pt x="23" y="75"/>
                      <a:pt x="26" y="64"/>
                      <a:pt x="29" y="56"/>
                    </a:cubicBezTo>
                    <a:cubicBezTo>
                      <a:pt x="32" y="48"/>
                      <a:pt x="31" y="36"/>
                      <a:pt x="38" y="29"/>
                    </a:cubicBezTo>
                    <a:cubicBezTo>
                      <a:pt x="45" y="22"/>
                      <a:pt x="53" y="18"/>
                      <a:pt x="69" y="14"/>
                    </a:cubicBezTo>
                    <a:cubicBezTo>
                      <a:pt x="85" y="10"/>
                      <a:pt x="113" y="4"/>
                      <a:pt x="137" y="2"/>
                    </a:cubicBezTo>
                    <a:cubicBezTo>
                      <a:pt x="161" y="0"/>
                      <a:pt x="194" y="1"/>
                      <a:pt x="213" y="2"/>
                    </a:cubicBezTo>
                    <a:cubicBezTo>
                      <a:pt x="232" y="3"/>
                      <a:pt x="237" y="4"/>
                      <a:pt x="251" y="7"/>
                    </a:cubicBezTo>
                    <a:cubicBezTo>
                      <a:pt x="265" y="10"/>
                      <a:pt x="287" y="11"/>
                      <a:pt x="297" y="19"/>
                    </a:cubicBezTo>
                    <a:cubicBezTo>
                      <a:pt x="307" y="27"/>
                      <a:pt x="307" y="44"/>
                      <a:pt x="311" y="53"/>
                    </a:cubicBezTo>
                    <a:cubicBezTo>
                      <a:pt x="315" y="62"/>
                      <a:pt x="318" y="70"/>
                      <a:pt x="321" y="74"/>
                    </a:cubicBezTo>
                    <a:cubicBezTo>
                      <a:pt x="324" y="78"/>
                      <a:pt x="327" y="75"/>
                      <a:pt x="330" y="80"/>
                    </a:cubicBezTo>
                    <a:cubicBezTo>
                      <a:pt x="333" y="85"/>
                      <a:pt x="342" y="99"/>
                      <a:pt x="338" y="107"/>
                    </a:cubicBezTo>
                    <a:cubicBezTo>
                      <a:pt x="334" y="115"/>
                      <a:pt x="327" y="121"/>
                      <a:pt x="309" y="130"/>
                    </a:cubicBezTo>
                    <a:cubicBezTo>
                      <a:pt x="291" y="139"/>
                      <a:pt x="247" y="153"/>
                      <a:pt x="227" y="160"/>
                    </a:cubicBezTo>
                    <a:cubicBezTo>
                      <a:pt x="207" y="167"/>
                      <a:pt x="201" y="167"/>
                      <a:pt x="189" y="169"/>
                    </a:cubicBezTo>
                    <a:cubicBezTo>
                      <a:pt x="177" y="171"/>
                      <a:pt x="160" y="170"/>
                      <a:pt x="152" y="170"/>
                    </a:cubicBezTo>
                  </a:path>
                </a:pathLst>
              </a:custGeom>
              <a:gradFill rotWithShape="0">
                <a:gsLst>
                  <a:gs pos="0">
                    <a:srgbClr val="6699ff"/>
                  </a:gs>
                  <a:gs pos="100000">
                    <a:srgbClr val="2f4675"/>
                  </a:gs>
                </a:gsLst>
                <a:lin ang="54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415" name=""/>
            <p:cNvSpPr/>
            <p:nvPr/>
          </p:nvSpPr>
          <p:spPr>
            <a:xfrm>
              <a:off x="5154120" y="98280"/>
              <a:ext cx="392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Akutní metabolická alkalóz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6" name=""/>
            <p:cNvSpPr/>
            <p:nvPr/>
          </p:nvSpPr>
          <p:spPr>
            <a:xfrm>
              <a:off x="4159080" y="4167360"/>
              <a:ext cx="1818000" cy="52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400" spc="-1" strike="noStrike">
                  <a:solidFill>
                    <a:srgbClr val="000000"/>
                  </a:solidFill>
                  <a:latin typeface="Times New Roman"/>
                </a:rPr>
                <a:t>1.</a:t>
              </a:r>
              <a:r>
                <a:rPr b="1" lang="cs-CZ" sz="1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 Primární porucha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400" spc="-1" strike="noStrike">
                  <a:solidFill>
                    <a:srgbClr val="000000"/>
                  </a:solidFill>
                  <a:latin typeface="Times New Roman"/>
                </a:rPr>
                <a:t>ztráty H</a:t>
              </a:r>
              <a:r>
                <a:rPr b="1" lang="cs-CZ" sz="1400" spc="-1" strike="noStrike" baseline="46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7" name=""/>
            <p:cNvSpPr/>
            <p:nvPr/>
          </p:nvSpPr>
          <p:spPr>
            <a:xfrm>
              <a:off x="4076640" y="4259160"/>
              <a:ext cx="9720" cy="293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418" name=""/>
            <p:cNvGrpSpPr/>
            <p:nvPr/>
          </p:nvGrpSpPr>
          <p:grpSpPr>
            <a:xfrm>
              <a:off x="0" y="4673520"/>
              <a:ext cx="2573280" cy="1969200"/>
              <a:chOff x="0" y="4673520"/>
              <a:chExt cx="2573280" cy="1969200"/>
            </a:xfrm>
          </p:grpSpPr>
          <p:grpSp>
            <p:nvGrpSpPr>
              <p:cNvPr id="12419" name=""/>
              <p:cNvGrpSpPr/>
              <p:nvPr/>
            </p:nvGrpSpPr>
            <p:grpSpPr>
              <a:xfrm>
                <a:off x="244440" y="4772160"/>
                <a:ext cx="2260440" cy="1868040"/>
                <a:chOff x="244440" y="4772160"/>
                <a:chExt cx="2260440" cy="1868040"/>
              </a:xfrm>
            </p:grpSpPr>
            <p:sp>
              <p:nvSpPr>
                <p:cNvPr id="12420" name=""/>
                <p:cNvSpPr/>
                <p:nvPr/>
              </p:nvSpPr>
              <p:spPr>
                <a:xfrm>
                  <a:off x="244440" y="4772160"/>
                  <a:ext cx="2248560" cy="18615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421" name=""/>
                <p:cNvGrpSpPr/>
                <p:nvPr/>
              </p:nvGrpSpPr>
              <p:grpSpPr>
                <a:xfrm>
                  <a:off x="268560" y="4775760"/>
                  <a:ext cx="2206440" cy="1833120"/>
                  <a:chOff x="268560" y="4775760"/>
                  <a:chExt cx="2206440" cy="1833120"/>
                </a:xfrm>
              </p:grpSpPr>
              <p:sp>
                <p:nvSpPr>
                  <p:cNvPr id="12422" name=""/>
                  <p:cNvSpPr/>
                  <p:nvPr/>
                </p:nvSpPr>
                <p:spPr>
                  <a:xfrm>
                    <a:off x="522720" y="5971320"/>
                    <a:ext cx="717840" cy="637560"/>
                  </a:xfrm>
                  <a:custGeom>
                    <a:avLst/>
                    <a:gdLst/>
                    <a:ahLst/>
                    <a:rect l="l" t="t" r="r" b="b"/>
                    <a:pathLst>
                      <a:path w="1363" h="1020">
                        <a:moveTo>
                          <a:pt x="1030" y="0"/>
                        </a:moveTo>
                        <a:cubicBezTo>
                          <a:pt x="931" y="41"/>
                          <a:pt x="847" y="229"/>
                          <a:pt x="768" y="317"/>
                        </a:cubicBezTo>
                        <a:cubicBezTo>
                          <a:pt x="689" y="405"/>
                          <a:pt x="641" y="450"/>
                          <a:pt x="557" y="528"/>
                        </a:cubicBezTo>
                        <a:cubicBezTo>
                          <a:pt x="473" y="606"/>
                          <a:pt x="360" y="706"/>
                          <a:pt x="267" y="788"/>
                        </a:cubicBezTo>
                        <a:cubicBezTo>
                          <a:pt x="174" y="870"/>
                          <a:pt x="118" y="922"/>
                          <a:pt x="0" y="1020"/>
                        </a:cubicBezTo>
                        <a:cubicBezTo>
                          <a:pt x="111" y="1018"/>
                          <a:pt x="195" y="1018"/>
                          <a:pt x="267" y="1016"/>
                        </a:cubicBezTo>
                        <a:cubicBezTo>
                          <a:pt x="379" y="932"/>
                          <a:pt x="586" y="755"/>
                          <a:pt x="694" y="665"/>
                        </a:cubicBezTo>
                        <a:cubicBezTo>
                          <a:pt x="802" y="575"/>
                          <a:pt x="853" y="531"/>
                          <a:pt x="917" y="476"/>
                        </a:cubicBezTo>
                        <a:cubicBezTo>
                          <a:pt x="981" y="421"/>
                          <a:pt x="1027" y="381"/>
                          <a:pt x="1078" y="334"/>
                        </a:cubicBezTo>
                        <a:cubicBezTo>
                          <a:pt x="1129" y="287"/>
                          <a:pt x="1176" y="241"/>
                          <a:pt x="1224" y="197"/>
                        </a:cubicBezTo>
                        <a:lnTo>
                          <a:pt x="1363" y="70"/>
                        </a:lnTo>
                        <a:lnTo>
                          <a:pt x="1030" y="0"/>
                        </a:lnTo>
                        <a:close/>
                      </a:path>
                    </a:pathLst>
                  </a:custGeom>
                  <a:solidFill>
                    <a:srgbClr val="b2b2b2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23" name=""/>
                  <p:cNvSpPr/>
                  <p:nvPr/>
                </p:nvSpPr>
                <p:spPr>
                  <a:xfrm>
                    <a:off x="1308240" y="5126040"/>
                    <a:ext cx="1058040" cy="71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009" h="1148">
                        <a:moveTo>
                          <a:pt x="38" y="811"/>
                        </a:moveTo>
                        <a:cubicBezTo>
                          <a:pt x="30" y="770"/>
                          <a:pt x="0" y="826"/>
                          <a:pt x="329" y="691"/>
                        </a:cubicBezTo>
                        <a:lnTo>
                          <a:pt x="2009" y="0"/>
                        </a:lnTo>
                        <a:lnTo>
                          <a:pt x="2009" y="742"/>
                        </a:lnTo>
                        <a:lnTo>
                          <a:pt x="941" y="1148"/>
                        </a:lnTo>
                        <a:lnTo>
                          <a:pt x="38" y="1137"/>
                        </a:lnTo>
                        <a:lnTo>
                          <a:pt x="38" y="811"/>
                        </a:lnTo>
                        <a:close/>
                      </a:path>
                    </a:pathLst>
                  </a:custGeom>
                  <a:solidFill>
                    <a:srgbClr val="b2b2b2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24" name=""/>
                  <p:cNvSpPr/>
                  <p:nvPr/>
                </p:nvSpPr>
                <p:spPr>
                  <a:xfrm>
                    <a:off x="1183320" y="4780080"/>
                    <a:ext cx="673200" cy="11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278" h="1787">
                        <a:moveTo>
                          <a:pt x="0" y="1673"/>
                        </a:moveTo>
                        <a:lnTo>
                          <a:pt x="189" y="1341"/>
                        </a:lnTo>
                        <a:cubicBezTo>
                          <a:pt x="283" y="1169"/>
                          <a:pt x="458" y="843"/>
                          <a:pt x="566" y="638"/>
                        </a:cubicBezTo>
                        <a:cubicBezTo>
                          <a:pt x="674" y="433"/>
                          <a:pt x="781" y="213"/>
                          <a:pt x="835" y="107"/>
                        </a:cubicBezTo>
                        <a:lnTo>
                          <a:pt x="892" y="0"/>
                        </a:lnTo>
                        <a:lnTo>
                          <a:pt x="1278" y="2"/>
                        </a:lnTo>
                        <a:lnTo>
                          <a:pt x="1052" y="433"/>
                        </a:lnTo>
                        <a:cubicBezTo>
                          <a:pt x="925" y="674"/>
                          <a:pt x="635" y="1224"/>
                          <a:pt x="515" y="1450"/>
                        </a:cubicBezTo>
                        <a:lnTo>
                          <a:pt x="332" y="1787"/>
                        </a:lnTo>
                        <a:lnTo>
                          <a:pt x="0" y="1673"/>
                        </a:lnTo>
                        <a:close/>
                      </a:path>
                    </a:pathLst>
                  </a:custGeom>
                  <a:solidFill>
                    <a:srgbClr val="b2b2b2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25" name=""/>
                  <p:cNvSpPr/>
                  <p:nvPr/>
                </p:nvSpPr>
                <p:spPr>
                  <a:xfrm>
                    <a:off x="268560" y="5994000"/>
                    <a:ext cx="854640" cy="571680"/>
                  </a:xfrm>
                  <a:custGeom>
                    <a:avLst/>
                    <a:gdLst/>
                    <a:ahLst/>
                    <a:rect l="l" t="t" r="r" b="b"/>
                    <a:pathLst>
                      <a:path w="1623" h="914">
                        <a:moveTo>
                          <a:pt x="1206" y="23"/>
                        </a:moveTo>
                        <a:lnTo>
                          <a:pt x="0" y="680"/>
                        </a:lnTo>
                        <a:lnTo>
                          <a:pt x="0" y="914"/>
                        </a:lnTo>
                        <a:lnTo>
                          <a:pt x="1623" y="0"/>
                        </a:lnTo>
                      </a:path>
                    </a:pathLst>
                  </a:custGeom>
                  <a:solidFill>
                    <a:srgbClr val="b2b2b2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26" name=""/>
                  <p:cNvSpPr/>
                  <p:nvPr/>
                </p:nvSpPr>
                <p:spPr>
                  <a:xfrm>
                    <a:off x="283680" y="4775760"/>
                    <a:ext cx="2191320" cy="1830960"/>
                  </a:xfrm>
                  <a:custGeom>
                    <a:avLst/>
                    <a:gdLst/>
                    <a:ahLst/>
                    <a:rect l="l" t="t" r="r" b="b"/>
                    <a:pathLst>
                      <a:path w="4160" h="2928">
                        <a:moveTo>
                          <a:pt x="0" y="1645"/>
                        </a:moveTo>
                        <a:lnTo>
                          <a:pt x="1611" y="1645"/>
                        </a:lnTo>
                        <a:lnTo>
                          <a:pt x="1617" y="1451"/>
                        </a:lnTo>
                        <a:cubicBezTo>
                          <a:pt x="1600" y="1366"/>
                          <a:pt x="1537" y="1273"/>
                          <a:pt x="1508" y="1137"/>
                        </a:cubicBezTo>
                        <a:cubicBezTo>
                          <a:pt x="1479" y="1001"/>
                          <a:pt x="1466" y="783"/>
                          <a:pt x="1440" y="634"/>
                        </a:cubicBezTo>
                        <a:cubicBezTo>
                          <a:pt x="1414" y="485"/>
                          <a:pt x="1388" y="345"/>
                          <a:pt x="1354" y="240"/>
                        </a:cubicBezTo>
                        <a:lnTo>
                          <a:pt x="1234" y="2"/>
                        </a:lnTo>
                        <a:lnTo>
                          <a:pt x="1472" y="0"/>
                        </a:lnTo>
                        <a:cubicBezTo>
                          <a:pt x="1534" y="62"/>
                          <a:pt x="1570" y="242"/>
                          <a:pt x="1605" y="377"/>
                        </a:cubicBezTo>
                        <a:cubicBezTo>
                          <a:pt x="1640" y="512"/>
                          <a:pt x="1657" y="692"/>
                          <a:pt x="1680" y="811"/>
                        </a:cubicBezTo>
                        <a:cubicBezTo>
                          <a:pt x="1703" y="930"/>
                          <a:pt x="1712" y="982"/>
                          <a:pt x="1743" y="1091"/>
                        </a:cubicBezTo>
                        <a:cubicBezTo>
                          <a:pt x="1774" y="1200"/>
                          <a:pt x="1829" y="1376"/>
                          <a:pt x="1868" y="1468"/>
                        </a:cubicBezTo>
                        <a:lnTo>
                          <a:pt x="1977" y="1645"/>
                        </a:lnTo>
                        <a:lnTo>
                          <a:pt x="2926" y="1651"/>
                        </a:lnTo>
                        <a:lnTo>
                          <a:pt x="4160" y="1657"/>
                        </a:lnTo>
                        <a:lnTo>
                          <a:pt x="4160" y="2000"/>
                        </a:lnTo>
                        <a:lnTo>
                          <a:pt x="1926" y="2000"/>
                        </a:lnTo>
                        <a:lnTo>
                          <a:pt x="1914" y="2422"/>
                        </a:lnTo>
                        <a:lnTo>
                          <a:pt x="1913" y="2928"/>
                        </a:lnTo>
                        <a:lnTo>
                          <a:pt x="1611" y="2925"/>
                        </a:lnTo>
                        <a:lnTo>
                          <a:pt x="1605" y="2005"/>
                        </a:lnTo>
                        <a:lnTo>
                          <a:pt x="0" y="2005"/>
                        </a:lnTo>
                        <a:lnTo>
                          <a:pt x="0" y="1645"/>
                        </a:lnTo>
                        <a:close/>
                      </a:path>
                    </a:pathLst>
                  </a:custGeom>
                  <a:solidFill>
                    <a:srgbClr val="ffff66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2427" name=""/>
                <p:cNvSpPr/>
                <p:nvPr/>
              </p:nvSpPr>
              <p:spPr>
                <a:xfrm>
                  <a:off x="250560" y="4778640"/>
                  <a:ext cx="0" cy="18615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28" name=""/>
                <p:cNvSpPr/>
                <p:nvPr/>
              </p:nvSpPr>
              <p:spPr>
                <a:xfrm>
                  <a:off x="247320" y="6633720"/>
                  <a:ext cx="22575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429" name=""/>
              <p:cNvSpPr/>
              <p:nvPr/>
            </p:nvSpPr>
            <p:spPr>
              <a:xfrm>
                <a:off x="0" y="4673520"/>
                <a:ext cx="851040" cy="38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1800" spc="-1" strike="noStrike">
                    <a:solidFill>
                      <a:srgbClr val="000000"/>
                    </a:solidFill>
                    <a:latin typeface="Times New Roman"/>
                  </a:rPr>
                  <a:t>P</a:t>
                </a:r>
                <a:r>
                  <a:rPr b="1" lang="cs-CZ" sz="1400" spc="-1" strike="noStrike">
                    <a:solidFill>
                      <a:srgbClr val="000000"/>
                    </a:solidFill>
                    <a:latin typeface="Times New Roman"/>
                  </a:rPr>
                  <a:t>CO</a:t>
                </a:r>
                <a:r>
                  <a:rPr b="1" lang="cs-CZ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30" name=""/>
              <p:cNvSpPr/>
              <p:nvPr/>
            </p:nvSpPr>
            <p:spPr>
              <a:xfrm>
                <a:off x="2139840" y="6335640"/>
                <a:ext cx="433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1400" spc="-1" strike="noStrike">
                    <a:solidFill>
                      <a:srgbClr val="000000"/>
                    </a:solidFill>
                    <a:latin typeface="Times New Roman"/>
                  </a:rPr>
                  <a:t>B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431" name=""/>
            <p:cNvSpPr/>
            <p:nvPr/>
          </p:nvSpPr>
          <p:spPr>
            <a:xfrm>
              <a:off x="1216080" y="5905440"/>
              <a:ext cx="64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32" name=""/>
          <p:cNvGrpSpPr/>
          <p:nvPr/>
        </p:nvGrpSpPr>
        <p:grpSpPr>
          <a:xfrm>
            <a:off x="0" y="38160"/>
            <a:ext cx="9143640" cy="6604560"/>
            <a:chOff x="0" y="38160"/>
            <a:chExt cx="9143640" cy="6604560"/>
          </a:xfrm>
        </p:grpSpPr>
        <p:sp>
          <p:nvSpPr>
            <p:cNvPr id="12433" name=""/>
            <p:cNvSpPr/>
            <p:nvPr/>
          </p:nvSpPr>
          <p:spPr>
            <a:xfrm>
              <a:off x="5468760" y="5342040"/>
              <a:ext cx="1111320" cy="741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4" name=""/>
            <p:cNvSpPr/>
            <p:nvPr/>
          </p:nvSpPr>
          <p:spPr>
            <a:xfrm>
              <a:off x="5433840" y="3548160"/>
              <a:ext cx="574920" cy="614160"/>
            </a:xfrm>
            <a:prstGeom prst="rect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5" name=""/>
            <p:cNvSpPr/>
            <p:nvPr/>
          </p:nvSpPr>
          <p:spPr>
            <a:xfrm>
              <a:off x="3038400" y="2316240"/>
              <a:ext cx="1141560" cy="716040"/>
            </a:xfrm>
            <a:prstGeom prst="rect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6" name=""/>
            <p:cNvSpPr/>
            <p:nvPr/>
          </p:nvSpPr>
          <p:spPr>
            <a:xfrm>
              <a:off x="933480" y="1314360"/>
              <a:ext cx="928800" cy="698760"/>
            </a:xfrm>
            <a:prstGeom prst="rect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7" name=""/>
            <p:cNvSpPr/>
            <p:nvPr/>
          </p:nvSpPr>
          <p:spPr>
            <a:xfrm>
              <a:off x="6010200" y="3860640"/>
              <a:ext cx="1846440" cy="1040040"/>
            </a:xfrm>
            <a:custGeom>
              <a:avLst/>
              <a:gdLst/>
              <a:ahLst/>
              <a:rect l="l" t="t" r="r" b="b"/>
              <a:pathLst>
                <a:path w="1163" h="655">
                  <a:moveTo>
                    <a:pt x="1163" y="655"/>
                  </a:moveTo>
                  <a:lnTo>
                    <a:pt x="767" y="655"/>
                  </a:lnTo>
                  <a:cubicBezTo>
                    <a:pt x="691" y="637"/>
                    <a:pt x="713" y="640"/>
                    <a:pt x="702" y="548"/>
                  </a:cubicBezTo>
                  <a:lnTo>
                    <a:pt x="702" y="101"/>
                  </a:lnTo>
                  <a:cubicBezTo>
                    <a:pt x="683" y="10"/>
                    <a:pt x="707" y="17"/>
                    <a:pt x="590" y="0"/>
                  </a:cubicBez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8" name=""/>
            <p:cNvSpPr/>
            <p:nvPr/>
          </p:nvSpPr>
          <p:spPr>
            <a:xfrm>
              <a:off x="6591240" y="4892760"/>
              <a:ext cx="1265400" cy="1031760"/>
            </a:xfrm>
            <a:custGeom>
              <a:avLst/>
              <a:gdLst/>
              <a:ahLst/>
              <a:rect l="l" t="t" r="r" b="b"/>
              <a:pathLst>
                <a:path w="797" h="650">
                  <a:moveTo>
                    <a:pt x="797" y="0"/>
                  </a:moveTo>
                  <a:lnTo>
                    <a:pt x="404" y="0"/>
                  </a:lnTo>
                  <a:cubicBezTo>
                    <a:pt x="328" y="18"/>
                    <a:pt x="350" y="15"/>
                    <a:pt x="339" y="107"/>
                  </a:cubicBezTo>
                  <a:lnTo>
                    <a:pt x="339" y="554"/>
                  </a:lnTo>
                  <a:cubicBezTo>
                    <a:pt x="326" y="644"/>
                    <a:pt x="314" y="629"/>
                    <a:pt x="258" y="645"/>
                  </a:cubicBezTo>
                  <a:lnTo>
                    <a:pt x="0" y="65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9" name=""/>
            <p:cNvSpPr/>
            <p:nvPr/>
          </p:nvSpPr>
          <p:spPr>
            <a:xfrm>
              <a:off x="5440320" y="3460680"/>
              <a:ext cx="566640" cy="7095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0" name=""/>
            <p:cNvSpPr/>
            <p:nvPr/>
          </p:nvSpPr>
          <p:spPr>
            <a:xfrm>
              <a:off x="5446800" y="1322280"/>
              <a:ext cx="1116000" cy="665280"/>
            </a:xfrm>
            <a:prstGeom prst="rect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1" name=""/>
            <p:cNvSpPr/>
            <p:nvPr/>
          </p:nvSpPr>
          <p:spPr>
            <a:xfrm>
              <a:off x="5433840" y="3610080"/>
              <a:ext cx="579600" cy="58104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2" name=""/>
            <p:cNvSpPr/>
            <p:nvPr/>
          </p:nvSpPr>
          <p:spPr>
            <a:xfrm>
              <a:off x="7859880" y="4486320"/>
              <a:ext cx="1106280" cy="780840"/>
            </a:xfrm>
            <a:prstGeom prst="rect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3" name=""/>
            <p:cNvSpPr/>
            <p:nvPr/>
          </p:nvSpPr>
          <p:spPr>
            <a:xfrm>
              <a:off x="7859880" y="4627440"/>
              <a:ext cx="1110960" cy="63036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4" name=""/>
            <p:cNvSpPr/>
            <p:nvPr/>
          </p:nvSpPr>
          <p:spPr>
            <a:xfrm>
              <a:off x="5473800" y="5489640"/>
              <a:ext cx="1111320" cy="71604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5" name=""/>
            <p:cNvSpPr/>
            <p:nvPr/>
          </p:nvSpPr>
          <p:spPr>
            <a:xfrm>
              <a:off x="5448240" y="1476360"/>
              <a:ext cx="1120680" cy="77616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6" name=""/>
            <p:cNvSpPr/>
            <p:nvPr/>
          </p:nvSpPr>
          <p:spPr>
            <a:xfrm>
              <a:off x="3036960" y="2463840"/>
              <a:ext cx="1144440" cy="70812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7" name=""/>
            <p:cNvSpPr/>
            <p:nvPr/>
          </p:nvSpPr>
          <p:spPr>
            <a:xfrm>
              <a:off x="936720" y="1444680"/>
              <a:ext cx="927000" cy="70632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8" name=""/>
            <p:cNvSpPr/>
            <p:nvPr/>
          </p:nvSpPr>
          <p:spPr>
            <a:xfrm>
              <a:off x="5568840" y="3762360"/>
              <a:ext cx="9720" cy="293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9" name=""/>
            <p:cNvSpPr/>
            <p:nvPr/>
          </p:nvSpPr>
          <p:spPr>
            <a:xfrm>
              <a:off x="1124640" y="1582560"/>
              <a:ext cx="736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Arial"/>
                </a:rPr>
                <a:t>CO</a:t>
              </a:r>
              <a:r>
                <a:rPr b="1" lang="cs-CZ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0" name=""/>
            <p:cNvSpPr/>
            <p:nvPr/>
          </p:nvSpPr>
          <p:spPr>
            <a:xfrm>
              <a:off x="1081800" y="3611520"/>
              <a:ext cx="736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cs-CZ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cs-CZ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1" name=""/>
            <p:cNvSpPr/>
            <p:nvPr/>
          </p:nvSpPr>
          <p:spPr>
            <a:xfrm>
              <a:off x="3178080" y="2606760"/>
              <a:ext cx="1055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cs-CZ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cs-CZ" sz="2400" spc="-1" strike="noStrike">
                  <a:solidFill>
                    <a:srgbClr val="000000"/>
                  </a:solidFill>
                  <a:latin typeface="Arial"/>
                </a:rPr>
                <a:t>CO</a:t>
              </a:r>
              <a:r>
                <a:rPr b="1" lang="cs-CZ" sz="2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2" name=""/>
            <p:cNvSpPr/>
            <p:nvPr/>
          </p:nvSpPr>
          <p:spPr>
            <a:xfrm>
              <a:off x="5623920" y="1631880"/>
              <a:ext cx="956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Arial"/>
                </a:rPr>
                <a:t>HCO</a:t>
              </a:r>
              <a:r>
                <a:rPr b="1" lang="cs-CZ" sz="2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3" name=""/>
            <p:cNvSpPr/>
            <p:nvPr/>
          </p:nvSpPr>
          <p:spPr>
            <a:xfrm>
              <a:off x="5583240" y="3686040"/>
              <a:ext cx="52380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cs-CZ" sz="2400" spc="-1" strike="noStrike" baseline="7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454" name=""/>
            <p:cNvGrpSpPr/>
            <p:nvPr/>
          </p:nvGrpSpPr>
          <p:grpSpPr>
            <a:xfrm>
              <a:off x="4175280" y="1814400"/>
              <a:ext cx="1272960" cy="2038320"/>
              <a:chOff x="4175280" y="1814400"/>
              <a:chExt cx="1272960" cy="2038320"/>
            </a:xfrm>
          </p:grpSpPr>
          <p:sp>
            <p:nvSpPr>
              <p:cNvPr id="12455" name=""/>
              <p:cNvSpPr/>
              <p:nvPr/>
            </p:nvSpPr>
            <p:spPr>
              <a:xfrm>
                <a:off x="4175280" y="1814400"/>
                <a:ext cx="1272960" cy="1023840"/>
              </a:xfrm>
              <a:custGeom>
                <a:avLst/>
                <a:gdLst/>
                <a:ahLst/>
                <a:rect l="l" t="t" r="r" b="b"/>
                <a:pathLst>
                  <a:path w="866" h="645">
                    <a:moveTo>
                      <a:pt x="0" y="645"/>
                    </a:moveTo>
                    <a:lnTo>
                      <a:pt x="442" y="645"/>
                    </a:lnTo>
                    <a:cubicBezTo>
                      <a:pt x="528" y="627"/>
                      <a:pt x="503" y="630"/>
                      <a:pt x="515" y="538"/>
                    </a:cubicBezTo>
                    <a:lnTo>
                      <a:pt x="515" y="91"/>
                    </a:lnTo>
                    <a:cubicBezTo>
                      <a:pt x="530" y="1"/>
                      <a:pt x="548" y="15"/>
                      <a:pt x="606" y="0"/>
                    </a:cubicBezTo>
                    <a:lnTo>
                      <a:pt x="866" y="0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56" name=""/>
              <p:cNvSpPr/>
              <p:nvPr/>
            </p:nvSpPr>
            <p:spPr>
              <a:xfrm flipV="1">
                <a:off x="4175280" y="2828880"/>
                <a:ext cx="1272960" cy="1023840"/>
              </a:xfrm>
              <a:custGeom>
                <a:avLst/>
                <a:gdLst/>
                <a:ahLst/>
                <a:rect l="l" t="t" r="r" b="b"/>
                <a:pathLst>
                  <a:path w="866" h="645">
                    <a:moveTo>
                      <a:pt x="0" y="645"/>
                    </a:moveTo>
                    <a:lnTo>
                      <a:pt x="442" y="645"/>
                    </a:lnTo>
                    <a:cubicBezTo>
                      <a:pt x="528" y="627"/>
                      <a:pt x="503" y="630"/>
                      <a:pt x="515" y="538"/>
                    </a:cubicBezTo>
                    <a:lnTo>
                      <a:pt x="515" y="91"/>
                    </a:lnTo>
                    <a:cubicBezTo>
                      <a:pt x="530" y="1"/>
                      <a:pt x="548" y="15"/>
                      <a:pt x="606" y="0"/>
                    </a:cubicBezTo>
                    <a:lnTo>
                      <a:pt x="866" y="0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57" name=""/>
            <p:cNvGrpSpPr/>
            <p:nvPr/>
          </p:nvGrpSpPr>
          <p:grpSpPr>
            <a:xfrm>
              <a:off x="1863720" y="1812960"/>
              <a:ext cx="1155600" cy="2038320"/>
              <a:chOff x="1863720" y="1812960"/>
              <a:chExt cx="1155600" cy="2038320"/>
            </a:xfrm>
          </p:grpSpPr>
          <p:sp>
            <p:nvSpPr>
              <p:cNvPr id="12458" name=""/>
              <p:cNvSpPr/>
              <p:nvPr/>
            </p:nvSpPr>
            <p:spPr>
              <a:xfrm flipH="1">
                <a:off x="1863720" y="1812960"/>
                <a:ext cx="1155600" cy="1023840"/>
              </a:xfrm>
              <a:custGeom>
                <a:avLst/>
                <a:gdLst/>
                <a:ahLst/>
                <a:rect l="l" t="t" r="r" b="b"/>
                <a:pathLst>
                  <a:path w="866" h="645">
                    <a:moveTo>
                      <a:pt x="0" y="645"/>
                    </a:moveTo>
                    <a:lnTo>
                      <a:pt x="442" y="645"/>
                    </a:lnTo>
                    <a:cubicBezTo>
                      <a:pt x="528" y="627"/>
                      <a:pt x="503" y="630"/>
                      <a:pt x="515" y="538"/>
                    </a:cubicBezTo>
                    <a:lnTo>
                      <a:pt x="515" y="91"/>
                    </a:lnTo>
                    <a:cubicBezTo>
                      <a:pt x="530" y="1"/>
                      <a:pt x="548" y="15"/>
                      <a:pt x="606" y="0"/>
                    </a:cubicBezTo>
                    <a:lnTo>
                      <a:pt x="866" y="0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59" name=""/>
              <p:cNvSpPr/>
              <p:nvPr/>
            </p:nvSpPr>
            <p:spPr>
              <a:xfrm flipH="1" flipV="1">
                <a:off x="1863720" y="2827440"/>
                <a:ext cx="1155600" cy="1023840"/>
              </a:xfrm>
              <a:custGeom>
                <a:avLst/>
                <a:gdLst/>
                <a:ahLst/>
                <a:rect l="l" t="t" r="r" b="b"/>
                <a:pathLst>
                  <a:path w="866" h="645">
                    <a:moveTo>
                      <a:pt x="0" y="645"/>
                    </a:moveTo>
                    <a:lnTo>
                      <a:pt x="442" y="645"/>
                    </a:lnTo>
                    <a:cubicBezTo>
                      <a:pt x="528" y="627"/>
                      <a:pt x="503" y="630"/>
                      <a:pt x="515" y="538"/>
                    </a:cubicBezTo>
                    <a:lnTo>
                      <a:pt x="515" y="91"/>
                    </a:lnTo>
                    <a:cubicBezTo>
                      <a:pt x="530" y="1"/>
                      <a:pt x="548" y="15"/>
                      <a:pt x="606" y="0"/>
                    </a:cubicBezTo>
                    <a:lnTo>
                      <a:pt x="866" y="0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aphicFrame>
          <p:nvGraphicFramePr>
            <p:cNvPr id="12460" name=""/>
            <p:cNvGraphicFramePr/>
            <p:nvPr/>
          </p:nvGraphicFramePr>
          <p:xfrm>
            <a:off x="439560" y="428760"/>
            <a:ext cx="1040040" cy="7729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246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9560" y="428760"/>
                      <a:ext cx="1040040" cy="772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462" name=""/>
            <p:cNvSpPr/>
            <p:nvPr/>
          </p:nvSpPr>
          <p:spPr>
            <a:xfrm flipH="1">
              <a:off x="210240" y="1654200"/>
              <a:ext cx="72396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3" name=""/>
            <p:cNvSpPr/>
            <p:nvPr/>
          </p:nvSpPr>
          <p:spPr>
            <a:xfrm>
              <a:off x="1736640" y="360360"/>
              <a:ext cx="252252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400" spc="-1" strike="noStrike">
                  <a:solidFill>
                    <a:srgbClr val="000000"/>
                  </a:solidFill>
                  <a:latin typeface="Times New Roman"/>
                </a:rPr>
                <a:t>2. </a:t>
              </a:r>
              <a:r>
                <a:rPr b="1" lang="cs-CZ" sz="1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Regulační zásah respirace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400" spc="-1" strike="noStrike">
                  <a:solidFill>
                    <a:srgbClr val="000000"/>
                  </a:solidFill>
                  <a:latin typeface="Times New Roman"/>
                </a:rPr>
                <a:t>zvýšení hladiny CO</a:t>
              </a:r>
              <a:r>
                <a:rPr b="1" lang="cs-CZ" sz="1400" spc="-1" strike="noStrike" baseline="-25000">
                  <a:solidFill>
                    <a:srgbClr val="000000"/>
                  </a:solidFill>
                  <a:latin typeface="Times New Roman"/>
                </a:rPr>
                <a:t>2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4" name=""/>
            <p:cNvSpPr/>
            <p:nvPr/>
          </p:nvSpPr>
          <p:spPr>
            <a:xfrm>
              <a:off x="4168800" y="4344840"/>
              <a:ext cx="1817640" cy="52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400" spc="-1" strike="noStrike">
                  <a:solidFill>
                    <a:srgbClr val="000000"/>
                  </a:solidFill>
                  <a:latin typeface="Times New Roman"/>
                </a:rPr>
                <a:t>1.</a:t>
              </a:r>
              <a:r>
                <a:rPr b="1" lang="cs-CZ" sz="1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 Primární porucha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400" spc="-1" strike="noStrike">
                  <a:solidFill>
                    <a:srgbClr val="000000"/>
                  </a:solidFill>
                  <a:latin typeface="Times New Roman"/>
                </a:rPr>
                <a:t>ztráty H</a:t>
              </a:r>
              <a:r>
                <a:rPr b="1" lang="cs-CZ" sz="1400" spc="-1" strike="noStrike" baseline="46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5" name=""/>
            <p:cNvSpPr/>
            <p:nvPr/>
          </p:nvSpPr>
          <p:spPr>
            <a:xfrm>
              <a:off x="5025960" y="3073320"/>
              <a:ext cx="2819520" cy="74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400" spc="-1" strike="noStrike">
                  <a:solidFill>
                    <a:srgbClr val="000000"/>
                  </a:solidFill>
                  <a:latin typeface="Times New Roman"/>
                </a:rPr>
                <a:t>4. </a:t>
              </a:r>
              <a:r>
                <a:rPr b="1" lang="cs-CZ" sz="1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Patofyziologický důsledek:</a:t>
              </a:r>
              <a:r>
                <a:rPr b="1" lang="cs-CZ" sz="1400" spc="-1" strike="noStrike">
                  <a:solidFill>
                    <a:srgbClr val="000000"/>
                  </a:solidFill>
                  <a:latin typeface="Times New Roman"/>
                </a:rPr>
                <a:t> Zvýšení snížené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1400" spc="-1" strike="noStrike">
                  <a:solidFill>
                    <a:srgbClr val="000000"/>
                  </a:solidFill>
                  <a:latin typeface="Times New Roman"/>
                </a:rPr>
                <a:t>hladiny H</a:t>
              </a:r>
              <a:r>
                <a:rPr b="0" lang="cs-CZ" sz="1400" spc="-1" strike="noStrike" baseline="46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6" name=""/>
            <p:cNvSpPr/>
            <p:nvPr/>
          </p:nvSpPr>
          <p:spPr>
            <a:xfrm>
              <a:off x="5586480" y="1704960"/>
              <a:ext cx="9360" cy="293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7" name=""/>
            <p:cNvSpPr/>
            <p:nvPr/>
          </p:nvSpPr>
          <p:spPr>
            <a:xfrm>
              <a:off x="5354640" y="4041720"/>
              <a:ext cx="1440" cy="352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8" name=""/>
            <p:cNvSpPr/>
            <p:nvPr/>
          </p:nvSpPr>
          <p:spPr>
            <a:xfrm>
              <a:off x="5657400" y="5624640"/>
              <a:ext cx="83304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Arial"/>
                </a:rPr>
                <a:t>Buf </a:t>
              </a:r>
              <a:r>
                <a:rPr b="1" lang="cs-CZ" sz="2400" spc="-1" strike="noStrike" baseline="70000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9" name=""/>
            <p:cNvSpPr/>
            <p:nvPr/>
          </p:nvSpPr>
          <p:spPr>
            <a:xfrm>
              <a:off x="8016120" y="4719600"/>
              <a:ext cx="90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Arial"/>
                </a:rPr>
                <a:t>HBu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0" name=""/>
            <p:cNvSpPr/>
            <p:nvPr/>
          </p:nvSpPr>
          <p:spPr>
            <a:xfrm>
              <a:off x="6305400" y="153360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1" name=""/>
            <p:cNvSpPr/>
            <p:nvPr/>
          </p:nvSpPr>
          <p:spPr>
            <a:xfrm>
              <a:off x="2517840" y="1106640"/>
              <a:ext cx="2919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400" spc="-1" strike="noStrike">
                  <a:solidFill>
                    <a:srgbClr val="000000"/>
                  </a:solidFill>
                  <a:latin typeface="Times New Roman"/>
                </a:rPr>
                <a:t>3. Posun rovnováhy v nárazníkovém systému doprav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2" name=""/>
            <p:cNvSpPr/>
            <p:nvPr/>
          </p:nvSpPr>
          <p:spPr>
            <a:xfrm>
              <a:off x="7988400" y="4784760"/>
              <a:ext cx="9360" cy="293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3" name=""/>
            <p:cNvSpPr/>
            <p:nvPr/>
          </p:nvSpPr>
          <p:spPr>
            <a:xfrm>
              <a:off x="5619600" y="5695920"/>
              <a:ext cx="9720" cy="293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4" name=""/>
            <p:cNvSpPr/>
            <p:nvPr/>
          </p:nvSpPr>
          <p:spPr>
            <a:xfrm>
              <a:off x="4164120" y="606600"/>
              <a:ext cx="285480" cy="498240"/>
            </a:xfrm>
            <a:custGeom>
              <a:avLst/>
              <a:gdLst/>
              <a:ahLst/>
              <a:rect l="l" t="t" r="r" b="b"/>
              <a:pathLst>
                <a:path w="180" h="314">
                  <a:moveTo>
                    <a:pt x="0" y="0"/>
                  </a:moveTo>
                  <a:cubicBezTo>
                    <a:pt x="24" y="14"/>
                    <a:pt x="113" y="33"/>
                    <a:pt x="143" y="85"/>
                  </a:cubicBezTo>
                  <a:cubicBezTo>
                    <a:pt x="173" y="137"/>
                    <a:pt x="172" y="266"/>
                    <a:pt x="180" y="314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5" name=""/>
            <p:cNvSpPr/>
            <p:nvPr/>
          </p:nvSpPr>
          <p:spPr>
            <a:xfrm>
              <a:off x="4889520" y="874800"/>
              <a:ext cx="2076480" cy="2243160"/>
            </a:xfrm>
            <a:custGeom>
              <a:avLst/>
              <a:gdLst/>
              <a:ahLst/>
              <a:rect l="l" t="t" r="r" b="b"/>
              <a:pathLst>
                <a:path w="1308" h="1413">
                  <a:moveTo>
                    <a:pt x="1269" y="1413"/>
                  </a:moveTo>
                  <a:cubicBezTo>
                    <a:pt x="1265" y="1223"/>
                    <a:pt x="1308" y="502"/>
                    <a:pt x="1237" y="272"/>
                  </a:cubicBezTo>
                  <a:cubicBezTo>
                    <a:pt x="1166" y="42"/>
                    <a:pt x="1007" y="66"/>
                    <a:pt x="844" y="33"/>
                  </a:cubicBezTo>
                  <a:cubicBezTo>
                    <a:pt x="681" y="0"/>
                    <a:pt x="401" y="37"/>
                    <a:pt x="260" y="75"/>
                  </a:cubicBezTo>
                  <a:cubicBezTo>
                    <a:pt x="119" y="113"/>
                    <a:pt x="54" y="222"/>
                    <a:pt x="0" y="261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prstDash val="sysDot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6" name=""/>
            <p:cNvSpPr/>
            <p:nvPr/>
          </p:nvSpPr>
          <p:spPr>
            <a:xfrm>
              <a:off x="55440" y="39600"/>
              <a:ext cx="4149720" cy="4578480"/>
            </a:xfrm>
            <a:custGeom>
              <a:avLst/>
              <a:gdLst/>
              <a:ahLst/>
              <a:rect l="l" t="t" r="r" b="b"/>
              <a:pathLst>
                <a:path w="2614" h="2884">
                  <a:moveTo>
                    <a:pt x="1176" y="161"/>
                  </a:moveTo>
                  <a:cubicBezTo>
                    <a:pt x="1132" y="137"/>
                    <a:pt x="1043" y="21"/>
                    <a:pt x="910" y="12"/>
                  </a:cubicBezTo>
                  <a:cubicBezTo>
                    <a:pt x="777" y="3"/>
                    <a:pt x="505" y="0"/>
                    <a:pt x="379" y="107"/>
                  </a:cubicBezTo>
                  <a:cubicBezTo>
                    <a:pt x="253" y="214"/>
                    <a:pt x="193" y="292"/>
                    <a:pt x="151" y="655"/>
                  </a:cubicBezTo>
                  <a:cubicBezTo>
                    <a:pt x="109" y="1018"/>
                    <a:pt x="0" y="1929"/>
                    <a:pt x="124" y="2285"/>
                  </a:cubicBezTo>
                  <a:cubicBezTo>
                    <a:pt x="248" y="2641"/>
                    <a:pt x="479" y="2704"/>
                    <a:pt x="894" y="2794"/>
                  </a:cubicBezTo>
                  <a:cubicBezTo>
                    <a:pt x="1309" y="2884"/>
                    <a:pt x="2256" y="2819"/>
                    <a:pt x="2614" y="2826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prstDash val="sysDot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477" name=""/>
            <p:cNvGrpSpPr/>
            <p:nvPr/>
          </p:nvGrpSpPr>
          <p:grpSpPr>
            <a:xfrm>
              <a:off x="5983560" y="3932280"/>
              <a:ext cx="574200" cy="1081800"/>
              <a:chOff x="5983560" y="3932280"/>
              <a:chExt cx="574200" cy="1081800"/>
            </a:xfrm>
          </p:grpSpPr>
          <p:grpSp>
            <p:nvGrpSpPr>
              <p:cNvPr id="12478" name=""/>
              <p:cNvGrpSpPr/>
              <p:nvPr/>
            </p:nvGrpSpPr>
            <p:grpSpPr>
              <a:xfrm>
                <a:off x="5983560" y="4126320"/>
                <a:ext cx="147240" cy="396000"/>
                <a:chOff x="5983560" y="4126320"/>
                <a:chExt cx="147240" cy="396000"/>
              </a:xfrm>
            </p:grpSpPr>
            <p:grpSp>
              <p:nvGrpSpPr>
                <p:cNvPr id="12479" name=""/>
                <p:cNvGrpSpPr/>
                <p:nvPr/>
              </p:nvGrpSpPr>
              <p:grpSpPr>
                <a:xfrm>
                  <a:off x="5983560" y="4126320"/>
                  <a:ext cx="147240" cy="396000"/>
                  <a:chOff x="5983560" y="4126320"/>
                  <a:chExt cx="147240" cy="396000"/>
                </a:xfrm>
              </p:grpSpPr>
              <p:sp>
                <p:nvSpPr>
                  <p:cNvPr id="12480" name=""/>
                  <p:cNvSpPr/>
                  <p:nvPr/>
                </p:nvSpPr>
                <p:spPr>
                  <a:xfrm>
                    <a:off x="5983560" y="4126320"/>
                    <a:ext cx="147240" cy="396000"/>
                  </a:xfrm>
                  <a:prstGeom prst="ellipse">
                    <a:avLst/>
                  </a:prstGeom>
                  <a:solidFill>
                    <a:srgbClr val="3b3b3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81" name=""/>
                  <p:cNvSpPr/>
                  <p:nvPr/>
                </p:nvSpPr>
                <p:spPr>
                  <a:xfrm>
                    <a:off x="5985000" y="4129920"/>
                    <a:ext cx="144360" cy="388440"/>
                  </a:xfrm>
                  <a:prstGeom prst="ellipse">
                    <a:avLst/>
                  </a:prstGeom>
                  <a:solidFill>
                    <a:srgbClr val="3b3b3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82" name=""/>
                  <p:cNvSpPr/>
                  <p:nvPr/>
                </p:nvSpPr>
                <p:spPr>
                  <a:xfrm>
                    <a:off x="5986440" y="4133520"/>
                    <a:ext cx="141480" cy="380880"/>
                  </a:xfrm>
                  <a:prstGeom prst="ellipse">
                    <a:avLst/>
                  </a:prstGeom>
                  <a:solidFill>
                    <a:srgbClr val="3c3c3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83" name=""/>
                  <p:cNvSpPr/>
                  <p:nvPr/>
                </p:nvSpPr>
                <p:spPr>
                  <a:xfrm>
                    <a:off x="5987520" y="4137480"/>
                    <a:ext cx="138960" cy="372240"/>
                  </a:xfrm>
                  <a:prstGeom prst="ellipse">
                    <a:avLst/>
                  </a:prstGeom>
                  <a:solidFill>
                    <a:srgbClr val="3c3c3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84" name=""/>
                  <p:cNvSpPr/>
                  <p:nvPr/>
                </p:nvSpPr>
                <p:spPr>
                  <a:xfrm>
                    <a:off x="5988960" y="4142160"/>
                    <a:ext cx="136080" cy="363960"/>
                  </a:xfrm>
                  <a:prstGeom prst="ellipse">
                    <a:avLst/>
                  </a:prstGeom>
                  <a:solidFill>
                    <a:srgbClr val="3d3d3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85" name=""/>
                  <p:cNvSpPr/>
                  <p:nvPr/>
                </p:nvSpPr>
                <p:spPr>
                  <a:xfrm>
                    <a:off x="5991120" y="4145760"/>
                    <a:ext cx="131760" cy="355680"/>
                  </a:xfrm>
                  <a:prstGeom prst="ellipse">
                    <a:avLst/>
                  </a:prstGeom>
                  <a:solidFill>
                    <a:srgbClr val="3e3e3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86" name=""/>
                  <p:cNvSpPr/>
                  <p:nvPr/>
                </p:nvSpPr>
                <p:spPr>
                  <a:xfrm>
                    <a:off x="5992560" y="4150440"/>
                    <a:ext cx="128880" cy="347400"/>
                  </a:xfrm>
                  <a:prstGeom prst="ellipse">
                    <a:avLst/>
                  </a:prstGeom>
                  <a:solidFill>
                    <a:srgbClr val="3f3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87" name=""/>
                  <p:cNvSpPr/>
                  <p:nvPr/>
                </p:nvSpPr>
                <p:spPr>
                  <a:xfrm>
                    <a:off x="5994000" y="4154400"/>
                    <a:ext cx="126000" cy="338760"/>
                  </a:xfrm>
                  <a:prstGeom prst="ellipse">
                    <a:avLst/>
                  </a:prstGeom>
                  <a:solidFill>
                    <a:srgbClr val="41414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88" name=""/>
                  <p:cNvSpPr/>
                  <p:nvPr/>
                </p:nvSpPr>
                <p:spPr>
                  <a:xfrm>
                    <a:off x="5995440" y="4158000"/>
                    <a:ext cx="123120" cy="331200"/>
                  </a:xfrm>
                  <a:prstGeom prst="ellipse">
                    <a:avLst/>
                  </a:prstGeom>
                  <a:solidFill>
                    <a:srgbClr val="42424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89" name=""/>
                  <p:cNvSpPr/>
                  <p:nvPr/>
                </p:nvSpPr>
                <p:spPr>
                  <a:xfrm>
                    <a:off x="5996880" y="4162680"/>
                    <a:ext cx="120240" cy="322920"/>
                  </a:xfrm>
                  <a:prstGeom prst="ellipse">
                    <a:avLst/>
                  </a:prstGeom>
                  <a:solidFill>
                    <a:srgbClr val="43434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90" name=""/>
                  <p:cNvSpPr/>
                  <p:nvPr/>
                </p:nvSpPr>
                <p:spPr>
                  <a:xfrm>
                    <a:off x="5998320" y="4166280"/>
                    <a:ext cx="116640" cy="314280"/>
                  </a:xfrm>
                  <a:prstGeom prst="ellipse">
                    <a:avLst/>
                  </a:prstGeom>
                  <a:solidFill>
                    <a:srgbClr val="4545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91" name=""/>
                  <p:cNvSpPr/>
                  <p:nvPr/>
                </p:nvSpPr>
                <p:spPr>
                  <a:xfrm>
                    <a:off x="6000480" y="4170960"/>
                    <a:ext cx="113040" cy="306000"/>
                  </a:xfrm>
                  <a:prstGeom prst="ellipse">
                    <a:avLst/>
                  </a:prstGeom>
                  <a:solidFill>
                    <a:srgbClr val="46464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92" name=""/>
                  <p:cNvSpPr/>
                  <p:nvPr/>
                </p:nvSpPr>
                <p:spPr>
                  <a:xfrm>
                    <a:off x="6001920" y="4174920"/>
                    <a:ext cx="110160" cy="297360"/>
                  </a:xfrm>
                  <a:prstGeom prst="ellipse">
                    <a:avLst/>
                  </a:prstGeom>
                  <a:solidFill>
                    <a:srgbClr val="48484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93" name=""/>
                  <p:cNvSpPr/>
                  <p:nvPr/>
                </p:nvSpPr>
                <p:spPr>
                  <a:xfrm>
                    <a:off x="6003000" y="4178880"/>
                    <a:ext cx="107640" cy="289800"/>
                  </a:xfrm>
                  <a:prstGeom prst="ellipse">
                    <a:avLst/>
                  </a:prstGeom>
                  <a:solidFill>
                    <a:srgbClr val="4a4a4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94" name=""/>
                  <p:cNvSpPr/>
                  <p:nvPr/>
                </p:nvSpPr>
                <p:spPr>
                  <a:xfrm>
                    <a:off x="6004440" y="4183560"/>
                    <a:ext cx="104760" cy="281520"/>
                  </a:xfrm>
                  <a:prstGeom prst="ellipse">
                    <a:avLst/>
                  </a:prstGeom>
                  <a:solidFill>
                    <a:srgbClr val="4c4c4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95" name=""/>
                  <p:cNvSpPr/>
                  <p:nvPr/>
                </p:nvSpPr>
                <p:spPr>
                  <a:xfrm>
                    <a:off x="6005880" y="4187160"/>
                    <a:ext cx="101880" cy="273240"/>
                  </a:xfrm>
                  <a:prstGeom prst="ellipse">
                    <a:avLst/>
                  </a:prstGeom>
                  <a:solidFill>
                    <a:srgbClr val="4e4e4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96" name=""/>
                  <p:cNvSpPr/>
                  <p:nvPr/>
                </p:nvSpPr>
                <p:spPr>
                  <a:xfrm>
                    <a:off x="6007320" y="4191840"/>
                    <a:ext cx="98280" cy="264600"/>
                  </a:xfrm>
                  <a:prstGeom prst="ellipse">
                    <a:avLst/>
                  </a:prstGeom>
                  <a:solidFill>
                    <a:srgbClr val="51515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97" name=""/>
                  <p:cNvSpPr/>
                  <p:nvPr/>
                </p:nvSpPr>
                <p:spPr>
                  <a:xfrm>
                    <a:off x="6009480" y="4195440"/>
                    <a:ext cx="94680" cy="255960"/>
                  </a:xfrm>
                  <a:prstGeom prst="ellipse">
                    <a:avLst/>
                  </a:prstGeom>
                  <a:solidFill>
                    <a:srgbClr val="53535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98" name=""/>
                  <p:cNvSpPr/>
                  <p:nvPr/>
                </p:nvSpPr>
                <p:spPr>
                  <a:xfrm>
                    <a:off x="6010920" y="4200120"/>
                    <a:ext cx="91800" cy="247680"/>
                  </a:xfrm>
                  <a:prstGeom prst="ellipse">
                    <a:avLst/>
                  </a:prstGeom>
                  <a:solidFill>
                    <a:srgbClr val="55555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99" name=""/>
                  <p:cNvSpPr/>
                  <p:nvPr/>
                </p:nvSpPr>
                <p:spPr>
                  <a:xfrm>
                    <a:off x="6012360" y="4204080"/>
                    <a:ext cx="88920" cy="240120"/>
                  </a:xfrm>
                  <a:prstGeom prst="ellipse">
                    <a:avLst/>
                  </a:prstGeom>
                  <a:solidFill>
                    <a:srgbClr val="58585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00" name=""/>
                  <p:cNvSpPr/>
                  <p:nvPr/>
                </p:nvSpPr>
                <p:spPr>
                  <a:xfrm>
                    <a:off x="6013800" y="4207680"/>
                    <a:ext cx="86400" cy="231840"/>
                  </a:xfrm>
                  <a:prstGeom prst="ellipse">
                    <a:avLst/>
                  </a:prstGeom>
                  <a:solidFill>
                    <a:srgbClr val="5a5a5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01" name=""/>
                  <p:cNvSpPr/>
                  <p:nvPr/>
                </p:nvSpPr>
                <p:spPr>
                  <a:xfrm>
                    <a:off x="6015240" y="4212360"/>
                    <a:ext cx="82800" cy="223200"/>
                  </a:xfrm>
                  <a:prstGeom prst="ellipse">
                    <a:avLst/>
                  </a:prstGeom>
                  <a:solidFill>
                    <a:srgbClr val="5c5c5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02" name=""/>
                  <p:cNvSpPr/>
                  <p:nvPr/>
                </p:nvSpPr>
                <p:spPr>
                  <a:xfrm>
                    <a:off x="6016680" y="4216320"/>
                    <a:ext cx="79920" cy="214920"/>
                  </a:xfrm>
                  <a:prstGeom prst="ellipse">
                    <a:avLst/>
                  </a:prstGeom>
                  <a:solidFill>
                    <a:srgbClr val="5f5f5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03" name=""/>
                  <p:cNvSpPr/>
                  <p:nvPr/>
                </p:nvSpPr>
                <p:spPr>
                  <a:xfrm>
                    <a:off x="6018840" y="4221000"/>
                    <a:ext cx="76680" cy="206280"/>
                  </a:xfrm>
                  <a:prstGeom prst="ellipse">
                    <a:avLst/>
                  </a:prstGeom>
                  <a:solidFill>
                    <a:srgbClr val="61616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04" name=""/>
                  <p:cNvSpPr/>
                  <p:nvPr/>
                </p:nvSpPr>
                <p:spPr>
                  <a:xfrm>
                    <a:off x="6020280" y="4224600"/>
                    <a:ext cx="73800" cy="198720"/>
                  </a:xfrm>
                  <a:prstGeom prst="ellipse">
                    <a:avLst/>
                  </a:prstGeom>
                  <a:solidFill>
                    <a:srgbClr val="63636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05" name=""/>
                  <p:cNvSpPr/>
                  <p:nvPr/>
                </p:nvSpPr>
                <p:spPr>
                  <a:xfrm>
                    <a:off x="6021720" y="4228200"/>
                    <a:ext cx="70560" cy="190440"/>
                  </a:xfrm>
                  <a:prstGeom prst="ellipse">
                    <a:avLst/>
                  </a:prstGeom>
                  <a:solidFill>
                    <a:srgbClr val="65656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06" name=""/>
                  <p:cNvSpPr/>
                  <p:nvPr/>
                </p:nvSpPr>
                <p:spPr>
                  <a:xfrm>
                    <a:off x="6023160" y="4232880"/>
                    <a:ext cx="67680" cy="182160"/>
                  </a:xfrm>
                  <a:prstGeom prst="ellipse">
                    <a:avLst/>
                  </a:prstGeom>
                  <a:solidFill>
                    <a:srgbClr val="68686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07" name=""/>
                  <p:cNvSpPr/>
                  <p:nvPr/>
                </p:nvSpPr>
                <p:spPr>
                  <a:xfrm>
                    <a:off x="6024600" y="4236840"/>
                    <a:ext cx="64800" cy="173520"/>
                  </a:xfrm>
                  <a:prstGeom prst="ellipse">
                    <a:avLst/>
                  </a:prstGeom>
                  <a:solidFill>
                    <a:srgbClr val="69696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08" name=""/>
                  <p:cNvSpPr/>
                  <p:nvPr/>
                </p:nvSpPr>
                <p:spPr>
                  <a:xfrm>
                    <a:off x="6026760" y="4241520"/>
                    <a:ext cx="61560" cy="164880"/>
                  </a:xfrm>
                  <a:prstGeom prst="ellipse">
                    <a:avLst/>
                  </a:prstGeom>
                  <a:solidFill>
                    <a:srgbClr val="6c6c6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09" name=""/>
                  <p:cNvSpPr/>
                  <p:nvPr/>
                </p:nvSpPr>
                <p:spPr>
                  <a:xfrm>
                    <a:off x="6028200" y="4245480"/>
                    <a:ext cx="57960" cy="157680"/>
                  </a:xfrm>
                  <a:prstGeom prst="ellipse">
                    <a:avLst/>
                  </a:prstGeom>
                  <a:solidFill>
                    <a:srgbClr val="6e6e6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10" name=""/>
                  <p:cNvSpPr/>
                  <p:nvPr/>
                </p:nvSpPr>
                <p:spPr>
                  <a:xfrm>
                    <a:off x="6029640" y="4249080"/>
                    <a:ext cx="55080" cy="149400"/>
                  </a:xfrm>
                  <a:prstGeom prst="ellipse">
                    <a:avLst/>
                  </a:prstGeom>
                  <a:solidFill>
                    <a:srgbClr val="6f6f6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11" name=""/>
                  <p:cNvSpPr/>
                  <p:nvPr/>
                </p:nvSpPr>
                <p:spPr>
                  <a:xfrm>
                    <a:off x="6030720" y="4253760"/>
                    <a:ext cx="52560" cy="140760"/>
                  </a:xfrm>
                  <a:prstGeom prst="ellipse">
                    <a:avLst/>
                  </a:prstGeom>
                  <a:solidFill>
                    <a:srgbClr val="71717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12" name=""/>
                  <p:cNvSpPr/>
                  <p:nvPr/>
                </p:nvSpPr>
                <p:spPr>
                  <a:xfrm>
                    <a:off x="6032160" y="4257360"/>
                    <a:ext cx="49680" cy="132120"/>
                  </a:xfrm>
                  <a:prstGeom prst="ellipse">
                    <a:avLst/>
                  </a:prstGeom>
                  <a:solidFill>
                    <a:srgbClr val="7373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13" name=""/>
                  <p:cNvSpPr/>
                  <p:nvPr/>
                </p:nvSpPr>
                <p:spPr>
                  <a:xfrm>
                    <a:off x="6033600" y="4262040"/>
                    <a:ext cx="46440" cy="123840"/>
                  </a:xfrm>
                  <a:prstGeom prst="ellipse">
                    <a:avLst/>
                  </a:prstGeom>
                  <a:solidFill>
                    <a:srgbClr val="7474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1040" bIns="41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14" name=""/>
                  <p:cNvSpPr/>
                  <p:nvPr/>
                </p:nvSpPr>
                <p:spPr>
                  <a:xfrm>
                    <a:off x="6035040" y="4266000"/>
                    <a:ext cx="43200" cy="116280"/>
                  </a:xfrm>
                  <a:prstGeom prst="ellipse">
                    <a:avLst/>
                  </a:prstGeom>
                  <a:solidFill>
                    <a:srgbClr val="76767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5640" bIns="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15" name=""/>
                  <p:cNvSpPr/>
                  <p:nvPr/>
                </p:nvSpPr>
                <p:spPr>
                  <a:xfrm>
                    <a:off x="6037200" y="4269600"/>
                    <a:ext cx="39600" cy="108000"/>
                  </a:xfrm>
                  <a:prstGeom prst="ellipse">
                    <a:avLst/>
                  </a:prstGeom>
                  <a:solidFill>
                    <a:srgbClr val="77777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520" bIns="29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16" name=""/>
                  <p:cNvSpPr/>
                  <p:nvPr/>
                </p:nvSpPr>
                <p:spPr>
                  <a:xfrm>
                    <a:off x="6038640" y="4274280"/>
                    <a:ext cx="36720" cy="99360"/>
                  </a:xfrm>
                  <a:prstGeom prst="ellipse">
                    <a:avLst/>
                  </a:prstGeom>
                  <a:solidFill>
                    <a:srgbClr val="78787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760" bIns="23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17" name=""/>
                  <p:cNvSpPr/>
                  <p:nvPr/>
                </p:nvSpPr>
                <p:spPr>
                  <a:xfrm>
                    <a:off x="6040080" y="4278240"/>
                    <a:ext cx="33840" cy="91080"/>
                  </a:xfrm>
                  <a:prstGeom prst="ellipse">
                    <a:avLst/>
                  </a:prstGeom>
                  <a:solidFill>
                    <a:srgbClr val="79797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7640" bIns="17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18" name=""/>
                  <p:cNvSpPr/>
                  <p:nvPr/>
                </p:nvSpPr>
                <p:spPr>
                  <a:xfrm>
                    <a:off x="6041520" y="4282920"/>
                    <a:ext cx="31320" cy="82440"/>
                  </a:xfrm>
                  <a:prstGeom prst="ellipse">
                    <a:avLst/>
                  </a:prstGeom>
                  <a:solidFill>
                    <a:srgbClr val="7a7a7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1880" bIns="11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19" name=""/>
                  <p:cNvSpPr/>
                  <p:nvPr/>
                </p:nvSpPr>
                <p:spPr>
                  <a:xfrm>
                    <a:off x="6042960" y="4286520"/>
                    <a:ext cx="28440" cy="74880"/>
                  </a:xfrm>
                  <a:prstGeom prst="ellipse">
                    <a:avLst/>
                  </a:prstGeom>
                  <a:solidFill>
                    <a:srgbClr val="7b7b7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480" bIns="6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20" name=""/>
                  <p:cNvSpPr/>
                  <p:nvPr/>
                </p:nvSpPr>
                <p:spPr>
                  <a:xfrm>
                    <a:off x="6045120" y="4290120"/>
                    <a:ext cx="23760" cy="66600"/>
                  </a:xfrm>
                  <a:prstGeom prst="ellipse">
                    <a:avLst/>
                  </a:prstGeom>
                  <a:solidFill>
                    <a:srgbClr val="7c7c7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" bIns="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21" name=""/>
                  <p:cNvSpPr/>
                  <p:nvPr/>
                </p:nvSpPr>
                <p:spPr>
                  <a:xfrm>
                    <a:off x="6046560" y="4294800"/>
                    <a:ext cx="21240" cy="58320"/>
                  </a:xfrm>
                  <a:prstGeom prst="ellipse">
                    <a:avLst/>
                  </a:prstGeom>
                  <a:solidFill>
                    <a:srgbClr val="7d7d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040" bIns="-5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22" name=""/>
                  <p:cNvSpPr/>
                  <p:nvPr/>
                </p:nvSpPr>
                <p:spPr>
                  <a:xfrm>
                    <a:off x="6048000" y="4298760"/>
                    <a:ext cx="18360" cy="49680"/>
                  </a:xfrm>
                  <a:prstGeom prst="ellipse">
                    <a:avLst/>
                  </a:prstGeom>
                  <a:solidFill>
                    <a:srgbClr val="7d7d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23" name=""/>
                  <p:cNvSpPr/>
                  <p:nvPr/>
                </p:nvSpPr>
                <p:spPr>
                  <a:xfrm>
                    <a:off x="6049440" y="4303440"/>
                    <a:ext cx="15480" cy="41040"/>
                  </a:xfrm>
                  <a:prstGeom prst="ellipse">
                    <a:avLst/>
                  </a:prstGeom>
                  <a:solidFill>
                    <a:srgbClr val="7e7e7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280" bIns="-17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24" name=""/>
                  <p:cNvSpPr/>
                  <p:nvPr/>
                </p:nvSpPr>
                <p:spPr>
                  <a:xfrm>
                    <a:off x="6050880" y="4307400"/>
                    <a:ext cx="12600" cy="32760"/>
                  </a:xfrm>
                  <a:prstGeom prst="ellipse">
                    <a:avLst/>
                  </a:prstGeom>
                  <a:solidFill>
                    <a:srgbClr val="7e7e7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25" name=""/>
                  <p:cNvSpPr/>
                  <p:nvPr/>
                </p:nvSpPr>
                <p:spPr>
                  <a:xfrm>
                    <a:off x="6052320" y="4312080"/>
                    <a:ext cx="9720" cy="24120"/>
                  </a:xfrm>
                  <a:prstGeom prst="ellipse">
                    <a:avLst/>
                  </a:prstGeom>
                  <a:solidFill>
                    <a:srgbClr val="7f7f7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26" name=""/>
                  <p:cNvSpPr/>
                  <p:nvPr/>
                </p:nvSpPr>
                <p:spPr>
                  <a:xfrm>
                    <a:off x="6054120" y="4315680"/>
                    <a:ext cx="5400" cy="16920"/>
                  </a:xfrm>
                  <a:prstGeom prst="ellipse">
                    <a:avLst/>
                  </a:prstGeom>
                  <a:solidFill>
                    <a:srgbClr val="7f7f7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27" name=""/>
                  <p:cNvSpPr/>
                  <p:nvPr/>
                </p:nvSpPr>
                <p:spPr>
                  <a:xfrm>
                    <a:off x="6055560" y="4319280"/>
                    <a:ext cx="2520" cy="8280"/>
                  </a:xfrm>
                  <a:prstGeom prst="ellipse">
                    <a:avLst/>
                  </a:prstGeom>
                  <a:solidFill>
                    <a:srgbClr val="7f7f7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2528" name=""/>
                <p:cNvSpPr/>
                <p:nvPr/>
              </p:nvSpPr>
              <p:spPr>
                <a:xfrm>
                  <a:off x="5983560" y="4126320"/>
                  <a:ext cx="147240" cy="396000"/>
                </a:xfrm>
                <a:prstGeom prst="ellipse">
                  <a:avLst/>
                </a:prstGeom>
                <a:noFill/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529" name=""/>
              <p:cNvSpPr/>
              <p:nvPr/>
            </p:nvSpPr>
            <p:spPr>
              <a:xfrm flipH="1">
                <a:off x="6046560" y="4272120"/>
                <a:ext cx="511200" cy="353880"/>
              </a:xfrm>
              <a:custGeom>
                <a:avLst/>
                <a:gdLst/>
                <a:ahLst/>
                <a:rect l="l" t="t" r="r" b="b"/>
                <a:pathLst>
                  <a:path w="721" h="376">
                    <a:moveTo>
                      <a:pt x="703" y="102"/>
                    </a:moveTo>
                    <a:cubicBezTo>
                      <a:pt x="465" y="103"/>
                      <a:pt x="315" y="110"/>
                      <a:pt x="228" y="120"/>
                    </a:cubicBezTo>
                    <a:cubicBezTo>
                      <a:pt x="138" y="139"/>
                      <a:pt x="170" y="205"/>
                      <a:pt x="174" y="240"/>
                    </a:cubicBezTo>
                    <a:cubicBezTo>
                      <a:pt x="178" y="275"/>
                      <a:pt x="205" y="313"/>
                      <a:pt x="193" y="335"/>
                    </a:cubicBezTo>
                    <a:cubicBezTo>
                      <a:pt x="181" y="357"/>
                      <a:pt x="132" y="374"/>
                      <a:pt x="102" y="375"/>
                    </a:cubicBezTo>
                    <a:cubicBezTo>
                      <a:pt x="72" y="376"/>
                      <a:pt x="24" y="364"/>
                      <a:pt x="12" y="341"/>
                    </a:cubicBezTo>
                    <a:cubicBezTo>
                      <a:pt x="0" y="318"/>
                      <a:pt x="13" y="283"/>
                      <a:pt x="28" y="236"/>
                    </a:cubicBezTo>
                    <a:cubicBezTo>
                      <a:pt x="43" y="189"/>
                      <a:pt x="67" y="96"/>
                      <a:pt x="103" y="57"/>
                    </a:cubicBezTo>
                    <a:cubicBezTo>
                      <a:pt x="139" y="18"/>
                      <a:pt x="150" y="13"/>
                      <a:pt x="247" y="3"/>
                    </a:cubicBezTo>
                    <a:lnTo>
                      <a:pt x="685" y="0"/>
                    </a:lnTo>
                    <a:cubicBezTo>
                      <a:pt x="715" y="33"/>
                      <a:pt x="721" y="41"/>
                      <a:pt x="703" y="102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6699ff"/>
                  </a:gs>
                  <a:gs pos="100000">
                    <a:srgbClr val="2f4675"/>
                  </a:gs>
                </a:gsLst>
                <a:lin ang="54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530" name=""/>
              <p:cNvGrpSpPr/>
              <p:nvPr/>
            </p:nvGrpSpPr>
            <p:grpSpPr>
              <a:xfrm>
                <a:off x="6434280" y="4655520"/>
                <a:ext cx="49320" cy="358560"/>
                <a:chOff x="6434280" y="4655520"/>
                <a:chExt cx="49320" cy="358560"/>
              </a:xfrm>
            </p:grpSpPr>
            <p:sp>
              <p:nvSpPr>
                <p:cNvPr id="12531" name=""/>
                <p:cNvSpPr/>
                <p:nvPr/>
              </p:nvSpPr>
              <p:spPr>
                <a:xfrm flipH="1">
                  <a:off x="6441840" y="4655520"/>
                  <a:ext cx="41760" cy="81360"/>
                </a:xfrm>
                <a:custGeom>
                  <a:avLst/>
                  <a:gdLst/>
                  <a:ahLst/>
                  <a:rect l="l" t="t" r="r" b="b"/>
                  <a:pathLst>
                    <a:path w="196" h="370">
                      <a:moveTo>
                        <a:pt x="95" y="0"/>
                      </a:moveTo>
                      <a:lnTo>
                        <a:pt x="105" y="58"/>
                      </a:lnTo>
                      <a:lnTo>
                        <a:pt x="111" y="87"/>
                      </a:lnTo>
                      <a:lnTo>
                        <a:pt x="121" y="121"/>
                      </a:lnTo>
                      <a:lnTo>
                        <a:pt x="132" y="141"/>
                      </a:lnTo>
                      <a:lnTo>
                        <a:pt x="147" y="166"/>
                      </a:lnTo>
                      <a:lnTo>
                        <a:pt x="167" y="193"/>
                      </a:lnTo>
                      <a:lnTo>
                        <a:pt x="184" y="220"/>
                      </a:lnTo>
                      <a:lnTo>
                        <a:pt x="192" y="245"/>
                      </a:lnTo>
                      <a:lnTo>
                        <a:pt x="196" y="278"/>
                      </a:lnTo>
                      <a:lnTo>
                        <a:pt x="189" y="307"/>
                      </a:lnTo>
                      <a:lnTo>
                        <a:pt x="178" y="328"/>
                      </a:lnTo>
                      <a:lnTo>
                        <a:pt x="162" y="345"/>
                      </a:lnTo>
                      <a:lnTo>
                        <a:pt x="141" y="361"/>
                      </a:lnTo>
                      <a:lnTo>
                        <a:pt x="121" y="367"/>
                      </a:lnTo>
                      <a:lnTo>
                        <a:pt x="99" y="370"/>
                      </a:lnTo>
                      <a:lnTo>
                        <a:pt x="76" y="367"/>
                      </a:lnTo>
                      <a:lnTo>
                        <a:pt x="54" y="362"/>
                      </a:lnTo>
                      <a:lnTo>
                        <a:pt x="34" y="350"/>
                      </a:lnTo>
                      <a:lnTo>
                        <a:pt x="19" y="334"/>
                      </a:lnTo>
                      <a:lnTo>
                        <a:pt x="8" y="315"/>
                      </a:lnTo>
                      <a:lnTo>
                        <a:pt x="3" y="296"/>
                      </a:lnTo>
                      <a:lnTo>
                        <a:pt x="0" y="272"/>
                      </a:lnTo>
                      <a:lnTo>
                        <a:pt x="5" y="240"/>
                      </a:lnTo>
                      <a:lnTo>
                        <a:pt x="13" y="218"/>
                      </a:lnTo>
                      <a:lnTo>
                        <a:pt x="30" y="190"/>
                      </a:lnTo>
                      <a:lnTo>
                        <a:pt x="49" y="166"/>
                      </a:lnTo>
                      <a:lnTo>
                        <a:pt x="62" y="140"/>
                      </a:lnTo>
                      <a:lnTo>
                        <a:pt x="72" y="119"/>
                      </a:lnTo>
                      <a:lnTo>
                        <a:pt x="81" y="90"/>
                      </a:lnTo>
                      <a:lnTo>
                        <a:pt x="86" y="58"/>
                      </a:lnTo>
                      <a:lnTo>
                        <a:pt x="95" y="0"/>
                      </a:lnTo>
                      <a:close/>
                    </a:path>
                  </a:pathLst>
                </a:custGeom>
                <a:solidFill>
                  <a:srgbClr val="00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32" name=""/>
                <p:cNvSpPr/>
                <p:nvPr/>
              </p:nvSpPr>
              <p:spPr>
                <a:xfrm flipH="1">
                  <a:off x="6441840" y="4742280"/>
                  <a:ext cx="41760" cy="81360"/>
                </a:xfrm>
                <a:custGeom>
                  <a:avLst/>
                  <a:gdLst/>
                  <a:ahLst/>
                  <a:rect l="l" t="t" r="r" b="b"/>
                  <a:pathLst>
                    <a:path w="196" h="372">
                      <a:moveTo>
                        <a:pt x="95" y="0"/>
                      </a:moveTo>
                      <a:lnTo>
                        <a:pt x="105" y="60"/>
                      </a:lnTo>
                      <a:lnTo>
                        <a:pt x="111" y="88"/>
                      </a:lnTo>
                      <a:lnTo>
                        <a:pt x="121" y="122"/>
                      </a:lnTo>
                      <a:lnTo>
                        <a:pt x="132" y="143"/>
                      </a:lnTo>
                      <a:lnTo>
                        <a:pt x="147" y="168"/>
                      </a:lnTo>
                      <a:lnTo>
                        <a:pt x="167" y="195"/>
                      </a:lnTo>
                      <a:lnTo>
                        <a:pt x="184" y="221"/>
                      </a:lnTo>
                      <a:lnTo>
                        <a:pt x="192" y="247"/>
                      </a:lnTo>
                      <a:lnTo>
                        <a:pt x="196" y="279"/>
                      </a:lnTo>
                      <a:lnTo>
                        <a:pt x="189" y="308"/>
                      </a:lnTo>
                      <a:lnTo>
                        <a:pt x="178" y="328"/>
                      </a:lnTo>
                      <a:lnTo>
                        <a:pt x="162" y="345"/>
                      </a:lnTo>
                      <a:lnTo>
                        <a:pt x="141" y="361"/>
                      </a:lnTo>
                      <a:lnTo>
                        <a:pt x="121" y="369"/>
                      </a:lnTo>
                      <a:lnTo>
                        <a:pt x="99" y="372"/>
                      </a:lnTo>
                      <a:lnTo>
                        <a:pt x="76" y="369"/>
                      </a:lnTo>
                      <a:lnTo>
                        <a:pt x="54" y="363"/>
                      </a:lnTo>
                      <a:lnTo>
                        <a:pt x="34" y="351"/>
                      </a:lnTo>
                      <a:lnTo>
                        <a:pt x="19" y="336"/>
                      </a:lnTo>
                      <a:lnTo>
                        <a:pt x="8" y="317"/>
                      </a:lnTo>
                      <a:lnTo>
                        <a:pt x="3" y="298"/>
                      </a:lnTo>
                      <a:lnTo>
                        <a:pt x="0" y="272"/>
                      </a:lnTo>
                      <a:lnTo>
                        <a:pt x="5" y="242"/>
                      </a:lnTo>
                      <a:lnTo>
                        <a:pt x="13" y="219"/>
                      </a:lnTo>
                      <a:lnTo>
                        <a:pt x="30" y="191"/>
                      </a:lnTo>
                      <a:lnTo>
                        <a:pt x="49" y="168"/>
                      </a:lnTo>
                      <a:lnTo>
                        <a:pt x="62" y="141"/>
                      </a:lnTo>
                      <a:lnTo>
                        <a:pt x="72" y="120"/>
                      </a:lnTo>
                      <a:lnTo>
                        <a:pt x="81" y="90"/>
                      </a:lnTo>
                      <a:lnTo>
                        <a:pt x="86" y="60"/>
                      </a:lnTo>
                      <a:lnTo>
                        <a:pt x="95" y="0"/>
                      </a:lnTo>
                      <a:close/>
                    </a:path>
                  </a:pathLst>
                </a:custGeom>
                <a:solidFill>
                  <a:srgbClr val="00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33" name=""/>
                <p:cNvSpPr/>
                <p:nvPr/>
              </p:nvSpPr>
              <p:spPr>
                <a:xfrm flipH="1">
                  <a:off x="6433920" y="4845600"/>
                  <a:ext cx="41400" cy="81360"/>
                </a:xfrm>
                <a:custGeom>
                  <a:avLst/>
                  <a:gdLst/>
                  <a:ahLst/>
                  <a:rect l="l" t="t" r="r" b="b"/>
                  <a:pathLst>
                    <a:path w="196" h="370">
                      <a:moveTo>
                        <a:pt x="95" y="0"/>
                      </a:moveTo>
                      <a:lnTo>
                        <a:pt x="105" y="58"/>
                      </a:lnTo>
                      <a:lnTo>
                        <a:pt x="111" y="87"/>
                      </a:lnTo>
                      <a:lnTo>
                        <a:pt x="121" y="121"/>
                      </a:lnTo>
                      <a:lnTo>
                        <a:pt x="132" y="141"/>
                      </a:lnTo>
                      <a:lnTo>
                        <a:pt x="147" y="166"/>
                      </a:lnTo>
                      <a:lnTo>
                        <a:pt x="167" y="193"/>
                      </a:lnTo>
                      <a:lnTo>
                        <a:pt x="184" y="220"/>
                      </a:lnTo>
                      <a:lnTo>
                        <a:pt x="192" y="245"/>
                      </a:lnTo>
                      <a:lnTo>
                        <a:pt x="196" y="278"/>
                      </a:lnTo>
                      <a:lnTo>
                        <a:pt x="189" y="307"/>
                      </a:lnTo>
                      <a:lnTo>
                        <a:pt x="178" y="328"/>
                      </a:lnTo>
                      <a:lnTo>
                        <a:pt x="162" y="345"/>
                      </a:lnTo>
                      <a:lnTo>
                        <a:pt x="141" y="361"/>
                      </a:lnTo>
                      <a:lnTo>
                        <a:pt x="121" y="367"/>
                      </a:lnTo>
                      <a:lnTo>
                        <a:pt x="99" y="370"/>
                      </a:lnTo>
                      <a:lnTo>
                        <a:pt x="76" y="367"/>
                      </a:lnTo>
                      <a:lnTo>
                        <a:pt x="54" y="362"/>
                      </a:lnTo>
                      <a:lnTo>
                        <a:pt x="34" y="350"/>
                      </a:lnTo>
                      <a:lnTo>
                        <a:pt x="19" y="334"/>
                      </a:lnTo>
                      <a:lnTo>
                        <a:pt x="8" y="315"/>
                      </a:lnTo>
                      <a:lnTo>
                        <a:pt x="3" y="296"/>
                      </a:lnTo>
                      <a:lnTo>
                        <a:pt x="0" y="272"/>
                      </a:lnTo>
                      <a:lnTo>
                        <a:pt x="5" y="240"/>
                      </a:lnTo>
                      <a:lnTo>
                        <a:pt x="13" y="218"/>
                      </a:lnTo>
                      <a:lnTo>
                        <a:pt x="30" y="190"/>
                      </a:lnTo>
                      <a:lnTo>
                        <a:pt x="49" y="166"/>
                      </a:lnTo>
                      <a:lnTo>
                        <a:pt x="62" y="140"/>
                      </a:lnTo>
                      <a:lnTo>
                        <a:pt x="72" y="119"/>
                      </a:lnTo>
                      <a:lnTo>
                        <a:pt x="81" y="90"/>
                      </a:lnTo>
                      <a:lnTo>
                        <a:pt x="86" y="58"/>
                      </a:lnTo>
                      <a:lnTo>
                        <a:pt x="95" y="0"/>
                      </a:lnTo>
                      <a:close/>
                    </a:path>
                  </a:pathLst>
                </a:custGeom>
                <a:solidFill>
                  <a:srgbClr val="00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34" name=""/>
                <p:cNvSpPr/>
                <p:nvPr/>
              </p:nvSpPr>
              <p:spPr>
                <a:xfrm flipH="1">
                  <a:off x="6433920" y="4932720"/>
                  <a:ext cx="41400" cy="81360"/>
                </a:xfrm>
                <a:custGeom>
                  <a:avLst/>
                  <a:gdLst/>
                  <a:ahLst/>
                  <a:rect l="l" t="t" r="r" b="b"/>
                  <a:pathLst>
                    <a:path w="196" h="372">
                      <a:moveTo>
                        <a:pt x="95" y="0"/>
                      </a:moveTo>
                      <a:lnTo>
                        <a:pt x="105" y="60"/>
                      </a:lnTo>
                      <a:lnTo>
                        <a:pt x="111" y="88"/>
                      </a:lnTo>
                      <a:lnTo>
                        <a:pt x="121" y="122"/>
                      </a:lnTo>
                      <a:lnTo>
                        <a:pt x="132" y="143"/>
                      </a:lnTo>
                      <a:lnTo>
                        <a:pt x="147" y="168"/>
                      </a:lnTo>
                      <a:lnTo>
                        <a:pt x="167" y="195"/>
                      </a:lnTo>
                      <a:lnTo>
                        <a:pt x="184" y="221"/>
                      </a:lnTo>
                      <a:lnTo>
                        <a:pt x="192" y="247"/>
                      </a:lnTo>
                      <a:lnTo>
                        <a:pt x="196" y="279"/>
                      </a:lnTo>
                      <a:lnTo>
                        <a:pt x="189" y="308"/>
                      </a:lnTo>
                      <a:lnTo>
                        <a:pt x="178" y="328"/>
                      </a:lnTo>
                      <a:lnTo>
                        <a:pt x="162" y="345"/>
                      </a:lnTo>
                      <a:lnTo>
                        <a:pt x="141" y="361"/>
                      </a:lnTo>
                      <a:lnTo>
                        <a:pt x="121" y="369"/>
                      </a:lnTo>
                      <a:lnTo>
                        <a:pt x="99" y="372"/>
                      </a:lnTo>
                      <a:lnTo>
                        <a:pt x="76" y="369"/>
                      </a:lnTo>
                      <a:lnTo>
                        <a:pt x="54" y="363"/>
                      </a:lnTo>
                      <a:lnTo>
                        <a:pt x="34" y="351"/>
                      </a:lnTo>
                      <a:lnTo>
                        <a:pt x="19" y="336"/>
                      </a:lnTo>
                      <a:lnTo>
                        <a:pt x="8" y="317"/>
                      </a:lnTo>
                      <a:lnTo>
                        <a:pt x="3" y="298"/>
                      </a:lnTo>
                      <a:lnTo>
                        <a:pt x="0" y="272"/>
                      </a:lnTo>
                      <a:lnTo>
                        <a:pt x="5" y="242"/>
                      </a:lnTo>
                      <a:lnTo>
                        <a:pt x="13" y="219"/>
                      </a:lnTo>
                      <a:lnTo>
                        <a:pt x="30" y="191"/>
                      </a:lnTo>
                      <a:lnTo>
                        <a:pt x="49" y="168"/>
                      </a:lnTo>
                      <a:lnTo>
                        <a:pt x="62" y="141"/>
                      </a:lnTo>
                      <a:lnTo>
                        <a:pt x="72" y="120"/>
                      </a:lnTo>
                      <a:lnTo>
                        <a:pt x="81" y="90"/>
                      </a:lnTo>
                      <a:lnTo>
                        <a:pt x="86" y="60"/>
                      </a:lnTo>
                      <a:lnTo>
                        <a:pt x="95" y="0"/>
                      </a:lnTo>
                      <a:close/>
                    </a:path>
                  </a:pathLst>
                </a:custGeom>
                <a:solidFill>
                  <a:srgbClr val="00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535" name=""/>
              <p:cNvSpPr/>
              <p:nvPr/>
            </p:nvSpPr>
            <p:spPr>
              <a:xfrm flipH="1">
                <a:off x="6212880" y="4123800"/>
                <a:ext cx="125640" cy="189000"/>
              </a:xfrm>
              <a:custGeom>
                <a:avLst/>
                <a:gdLst/>
                <a:ahLst/>
                <a:rect l="l" t="t" r="r" b="b"/>
                <a:pathLst>
                  <a:path w="178" h="201">
                    <a:moveTo>
                      <a:pt x="1" y="160"/>
                    </a:moveTo>
                    <a:cubicBezTo>
                      <a:pt x="2" y="152"/>
                      <a:pt x="5" y="136"/>
                      <a:pt x="9" y="121"/>
                    </a:cubicBezTo>
                    <a:cubicBezTo>
                      <a:pt x="13" y="106"/>
                      <a:pt x="21" y="82"/>
                      <a:pt x="27" y="67"/>
                    </a:cubicBezTo>
                    <a:cubicBezTo>
                      <a:pt x="33" y="52"/>
                      <a:pt x="40" y="39"/>
                      <a:pt x="46" y="31"/>
                    </a:cubicBezTo>
                    <a:cubicBezTo>
                      <a:pt x="52" y="23"/>
                      <a:pt x="56" y="21"/>
                      <a:pt x="60" y="16"/>
                    </a:cubicBezTo>
                    <a:cubicBezTo>
                      <a:pt x="64" y="11"/>
                      <a:pt x="69" y="2"/>
                      <a:pt x="73" y="1"/>
                    </a:cubicBezTo>
                    <a:cubicBezTo>
                      <a:pt x="77" y="0"/>
                      <a:pt x="82" y="6"/>
                      <a:pt x="87" y="7"/>
                    </a:cubicBezTo>
                    <a:cubicBezTo>
                      <a:pt x="92" y="8"/>
                      <a:pt x="100" y="5"/>
                      <a:pt x="105" y="5"/>
                    </a:cubicBezTo>
                    <a:cubicBezTo>
                      <a:pt x="110" y="5"/>
                      <a:pt x="112" y="5"/>
                      <a:pt x="117" y="8"/>
                    </a:cubicBezTo>
                    <a:cubicBezTo>
                      <a:pt x="122" y="11"/>
                      <a:pt x="130" y="17"/>
                      <a:pt x="136" y="26"/>
                    </a:cubicBezTo>
                    <a:cubicBezTo>
                      <a:pt x="142" y="35"/>
                      <a:pt x="149" y="47"/>
                      <a:pt x="154" y="61"/>
                    </a:cubicBezTo>
                    <a:cubicBezTo>
                      <a:pt x="159" y="75"/>
                      <a:pt x="164" y="95"/>
                      <a:pt x="168" y="112"/>
                    </a:cubicBezTo>
                    <a:cubicBezTo>
                      <a:pt x="172" y="129"/>
                      <a:pt x="178" y="151"/>
                      <a:pt x="178" y="161"/>
                    </a:cubicBezTo>
                    <a:cubicBezTo>
                      <a:pt x="178" y="171"/>
                      <a:pt x="178" y="170"/>
                      <a:pt x="171" y="175"/>
                    </a:cubicBezTo>
                    <a:cubicBezTo>
                      <a:pt x="164" y="180"/>
                      <a:pt x="151" y="189"/>
                      <a:pt x="138" y="193"/>
                    </a:cubicBezTo>
                    <a:cubicBezTo>
                      <a:pt x="125" y="197"/>
                      <a:pt x="106" y="199"/>
                      <a:pt x="93" y="200"/>
                    </a:cubicBezTo>
                    <a:cubicBezTo>
                      <a:pt x="80" y="201"/>
                      <a:pt x="68" y="198"/>
                      <a:pt x="58" y="196"/>
                    </a:cubicBezTo>
                    <a:cubicBezTo>
                      <a:pt x="48" y="194"/>
                      <a:pt x="39" y="192"/>
                      <a:pt x="30" y="188"/>
                    </a:cubicBezTo>
                    <a:cubicBezTo>
                      <a:pt x="21" y="184"/>
                      <a:pt x="11" y="175"/>
                      <a:pt x="6" y="169"/>
                    </a:cubicBezTo>
                    <a:cubicBezTo>
                      <a:pt x="1" y="163"/>
                      <a:pt x="0" y="168"/>
                      <a:pt x="1" y="16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6699ff"/>
                  </a:gs>
                  <a:gs pos="100000">
                    <a:srgbClr val="2f4675"/>
                  </a:gs>
                </a:gsLst>
                <a:lin ang="54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36" name=""/>
              <p:cNvSpPr/>
              <p:nvPr/>
            </p:nvSpPr>
            <p:spPr>
              <a:xfrm flipH="1">
                <a:off x="6257520" y="4055760"/>
                <a:ext cx="36360" cy="8676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2f4675"/>
                  </a:gs>
                  <a:gs pos="100000">
                    <a:srgbClr val="6699ff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37" name=""/>
              <p:cNvSpPr/>
              <p:nvPr/>
            </p:nvSpPr>
            <p:spPr>
              <a:xfrm flipH="1">
                <a:off x="6153840" y="3932280"/>
                <a:ext cx="241920" cy="162000"/>
              </a:xfrm>
              <a:custGeom>
                <a:avLst/>
                <a:gdLst/>
                <a:ahLst/>
                <a:rect l="l" t="t" r="r" b="b"/>
                <a:pathLst>
                  <a:path w="342" h="172">
                    <a:moveTo>
                      <a:pt x="170" y="172"/>
                    </a:moveTo>
                    <a:cubicBezTo>
                      <a:pt x="143" y="167"/>
                      <a:pt x="116" y="163"/>
                      <a:pt x="90" y="154"/>
                    </a:cubicBezTo>
                    <a:cubicBezTo>
                      <a:pt x="64" y="145"/>
                      <a:pt x="28" y="126"/>
                      <a:pt x="14" y="118"/>
                    </a:cubicBezTo>
                    <a:cubicBezTo>
                      <a:pt x="0" y="110"/>
                      <a:pt x="3" y="111"/>
                      <a:pt x="3" y="106"/>
                    </a:cubicBezTo>
                    <a:cubicBezTo>
                      <a:pt x="3" y="101"/>
                      <a:pt x="9" y="92"/>
                      <a:pt x="12" y="88"/>
                    </a:cubicBezTo>
                    <a:cubicBezTo>
                      <a:pt x="15" y="84"/>
                      <a:pt x="17" y="85"/>
                      <a:pt x="20" y="80"/>
                    </a:cubicBezTo>
                    <a:cubicBezTo>
                      <a:pt x="23" y="75"/>
                      <a:pt x="26" y="64"/>
                      <a:pt x="29" y="56"/>
                    </a:cubicBezTo>
                    <a:cubicBezTo>
                      <a:pt x="32" y="48"/>
                      <a:pt x="31" y="36"/>
                      <a:pt x="38" y="29"/>
                    </a:cubicBezTo>
                    <a:cubicBezTo>
                      <a:pt x="45" y="22"/>
                      <a:pt x="53" y="18"/>
                      <a:pt x="69" y="14"/>
                    </a:cubicBezTo>
                    <a:cubicBezTo>
                      <a:pt x="85" y="10"/>
                      <a:pt x="113" y="4"/>
                      <a:pt x="137" y="2"/>
                    </a:cubicBezTo>
                    <a:cubicBezTo>
                      <a:pt x="161" y="0"/>
                      <a:pt x="194" y="1"/>
                      <a:pt x="213" y="2"/>
                    </a:cubicBezTo>
                    <a:cubicBezTo>
                      <a:pt x="232" y="3"/>
                      <a:pt x="237" y="4"/>
                      <a:pt x="251" y="7"/>
                    </a:cubicBezTo>
                    <a:cubicBezTo>
                      <a:pt x="265" y="10"/>
                      <a:pt x="287" y="11"/>
                      <a:pt x="297" y="19"/>
                    </a:cubicBezTo>
                    <a:cubicBezTo>
                      <a:pt x="307" y="27"/>
                      <a:pt x="307" y="44"/>
                      <a:pt x="311" y="53"/>
                    </a:cubicBezTo>
                    <a:cubicBezTo>
                      <a:pt x="315" y="62"/>
                      <a:pt x="318" y="70"/>
                      <a:pt x="321" y="74"/>
                    </a:cubicBezTo>
                    <a:cubicBezTo>
                      <a:pt x="324" y="78"/>
                      <a:pt x="327" y="75"/>
                      <a:pt x="330" y="80"/>
                    </a:cubicBezTo>
                    <a:cubicBezTo>
                      <a:pt x="333" y="85"/>
                      <a:pt x="342" y="99"/>
                      <a:pt x="338" y="107"/>
                    </a:cubicBezTo>
                    <a:cubicBezTo>
                      <a:pt x="334" y="115"/>
                      <a:pt x="327" y="121"/>
                      <a:pt x="309" y="130"/>
                    </a:cubicBezTo>
                    <a:cubicBezTo>
                      <a:pt x="291" y="139"/>
                      <a:pt x="247" y="153"/>
                      <a:pt x="227" y="160"/>
                    </a:cubicBezTo>
                    <a:cubicBezTo>
                      <a:pt x="207" y="167"/>
                      <a:pt x="201" y="167"/>
                      <a:pt x="189" y="169"/>
                    </a:cubicBezTo>
                    <a:cubicBezTo>
                      <a:pt x="177" y="171"/>
                      <a:pt x="160" y="170"/>
                      <a:pt x="152" y="170"/>
                    </a:cubicBezTo>
                  </a:path>
                </a:pathLst>
              </a:custGeom>
              <a:gradFill rotWithShape="0">
                <a:gsLst>
                  <a:gs pos="0">
                    <a:srgbClr val="6699ff"/>
                  </a:gs>
                  <a:gs pos="100000">
                    <a:srgbClr val="2f4675"/>
                  </a:gs>
                </a:gsLst>
                <a:lin ang="54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538" name=""/>
            <p:cNvGrpSpPr/>
            <p:nvPr/>
          </p:nvGrpSpPr>
          <p:grpSpPr>
            <a:xfrm>
              <a:off x="1324080" y="282600"/>
              <a:ext cx="560160" cy="917640"/>
              <a:chOff x="1324080" y="282600"/>
              <a:chExt cx="560160" cy="917640"/>
            </a:xfrm>
          </p:grpSpPr>
          <p:sp>
            <p:nvSpPr>
              <p:cNvPr id="12539" name=""/>
              <p:cNvSpPr/>
              <p:nvPr/>
            </p:nvSpPr>
            <p:spPr>
              <a:xfrm>
                <a:off x="1328400" y="352440"/>
                <a:ext cx="550800" cy="630360"/>
              </a:xfrm>
              <a:custGeom>
                <a:avLst/>
                <a:gdLst/>
                <a:ahLst/>
                <a:rect l="l" t="t" r="r" b="b"/>
                <a:pathLst>
                  <a:path w="2256" h="2295">
                    <a:moveTo>
                      <a:pt x="0" y="0"/>
                    </a:moveTo>
                    <a:lnTo>
                      <a:pt x="939" y="1180"/>
                    </a:lnTo>
                    <a:lnTo>
                      <a:pt x="980" y="2175"/>
                    </a:lnTo>
                    <a:lnTo>
                      <a:pt x="983" y="2202"/>
                    </a:lnTo>
                    <a:lnTo>
                      <a:pt x="991" y="2221"/>
                    </a:lnTo>
                    <a:lnTo>
                      <a:pt x="1000" y="2235"/>
                    </a:lnTo>
                    <a:lnTo>
                      <a:pt x="1010" y="2246"/>
                    </a:lnTo>
                    <a:lnTo>
                      <a:pt x="1024" y="2260"/>
                    </a:lnTo>
                    <a:lnTo>
                      <a:pt x="1038" y="2268"/>
                    </a:lnTo>
                    <a:lnTo>
                      <a:pt x="1060" y="2281"/>
                    </a:lnTo>
                    <a:lnTo>
                      <a:pt x="1083" y="2287"/>
                    </a:lnTo>
                    <a:lnTo>
                      <a:pt x="1111" y="2293"/>
                    </a:lnTo>
                    <a:lnTo>
                      <a:pt x="1128" y="2295"/>
                    </a:lnTo>
                    <a:lnTo>
                      <a:pt x="1145" y="2295"/>
                    </a:lnTo>
                    <a:lnTo>
                      <a:pt x="1163" y="2292"/>
                    </a:lnTo>
                    <a:lnTo>
                      <a:pt x="1183" y="2286"/>
                    </a:lnTo>
                    <a:lnTo>
                      <a:pt x="1202" y="2279"/>
                    </a:lnTo>
                    <a:lnTo>
                      <a:pt x="1221" y="2268"/>
                    </a:lnTo>
                    <a:lnTo>
                      <a:pt x="1235" y="2259"/>
                    </a:lnTo>
                    <a:lnTo>
                      <a:pt x="1251" y="2243"/>
                    </a:lnTo>
                    <a:lnTo>
                      <a:pt x="1262" y="2227"/>
                    </a:lnTo>
                    <a:lnTo>
                      <a:pt x="1273" y="2203"/>
                    </a:lnTo>
                    <a:lnTo>
                      <a:pt x="1276" y="2181"/>
                    </a:lnTo>
                    <a:lnTo>
                      <a:pt x="1336" y="1161"/>
                    </a:lnTo>
                    <a:lnTo>
                      <a:pt x="225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40" name=""/>
              <p:cNvSpPr/>
              <p:nvPr/>
            </p:nvSpPr>
            <p:spPr>
              <a:xfrm>
                <a:off x="1324080" y="282600"/>
                <a:ext cx="560160" cy="119160"/>
              </a:xfrm>
              <a:prstGeom prst="ellipse">
                <a:avLst/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41" name=""/>
              <p:cNvSpPr/>
              <p:nvPr/>
            </p:nvSpPr>
            <p:spPr>
              <a:xfrm>
                <a:off x="1368360" y="370080"/>
                <a:ext cx="475920" cy="593640"/>
              </a:xfrm>
              <a:custGeom>
                <a:avLst/>
                <a:gdLst/>
                <a:ahLst/>
                <a:rect l="l" t="t" r="r" b="b"/>
                <a:pathLst>
                  <a:path w="1956" h="2159">
                    <a:moveTo>
                      <a:pt x="0" y="19"/>
                    </a:moveTo>
                    <a:lnTo>
                      <a:pt x="857" y="1063"/>
                    </a:lnTo>
                    <a:lnTo>
                      <a:pt x="879" y="2090"/>
                    </a:lnTo>
                    <a:lnTo>
                      <a:pt x="887" y="2107"/>
                    </a:lnTo>
                    <a:lnTo>
                      <a:pt x="897" y="2123"/>
                    </a:lnTo>
                    <a:lnTo>
                      <a:pt x="906" y="2137"/>
                    </a:lnTo>
                    <a:lnTo>
                      <a:pt x="922" y="2147"/>
                    </a:lnTo>
                    <a:lnTo>
                      <a:pt x="939" y="2156"/>
                    </a:lnTo>
                    <a:lnTo>
                      <a:pt x="962" y="2159"/>
                    </a:lnTo>
                    <a:lnTo>
                      <a:pt x="983" y="2157"/>
                    </a:lnTo>
                    <a:lnTo>
                      <a:pt x="1005" y="2153"/>
                    </a:lnTo>
                    <a:lnTo>
                      <a:pt x="1026" y="2140"/>
                    </a:lnTo>
                    <a:lnTo>
                      <a:pt x="1040" y="2123"/>
                    </a:lnTo>
                    <a:lnTo>
                      <a:pt x="1048" y="2109"/>
                    </a:lnTo>
                    <a:lnTo>
                      <a:pt x="1056" y="2088"/>
                    </a:lnTo>
                    <a:lnTo>
                      <a:pt x="1100" y="1045"/>
                    </a:lnTo>
                    <a:lnTo>
                      <a:pt x="1956" y="0"/>
                    </a:lnTo>
                    <a:lnTo>
                      <a:pt x="1790" y="41"/>
                    </a:lnTo>
                    <a:lnTo>
                      <a:pt x="1531" y="77"/>
                    </a:lnTo>
                    <a:lnTo>
                      <a:pt x="1247" y="98"/>
                    </a:lnTo>
                    <a:lnTo>
                      <a:pt x="962" y="109"/>
                    </a:lnTo>
                    <a:lnTo>
                      <a:pt x="662" y="98"/>
                    </a:lnTo>
                    <a:lnTo>
                      <a:pt x="398" y="77"/>
                    </a:lnTo>
                    <a:lnTo>
                      <a:pt x="178" y="52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42" name=""/>
              <p:cNvSpPr/>
              <p:nvPr/>
            </p:nvSpPr>
            <p:spPr>
              <a:xfrm>
                <a:off x="1449000" y="490680"/>
                <a:ext cx="307800" cy="474840"/>
              </a:xfrm>
              <a:custGeom>
                <a:avLst/>
                <a:gdLst/>
                <a:ahLst/>
                <a:rect l="l" t="t" r="r" b="b"/>
                <a:pathLst>
                  <a:path w="1264" h="1728">
                    <a:moveTo>
                      <a:pt x="0" y="0"/>
                    </a:moveTo>
                    <a:lnTo>
                      <a:pt x="520" y="624"/>
                    </a:lnTo>
                    <a:lnTo>
                      <a:pt x="531" y="1657"/>
                    </a:lnTo>
                    <a:lnTo>
                      <a:pt x="541" y="1674"/>
                    </a:lnTo>
                    <a:lnTo>
                      <a:pt x="553" y="1688"/>
                    </a:lnTo>
                    <a:lnTo>
                      <a:pt x="564" y="1701"/>
                    </a:lnTo>
                    <a:lnTo>
                      <a:pt x="580" y="1715"/>
                    </a:lnTo>
                    <a:lnTo>
                      <a:pt x="608" y="1723"/>
                    </a:lnTo>
                    <a:lnTo>
                      <a:pt x="632" y="1728"/>
                    </a:lnTo>
                    <a:lnTo>
                      <a:pt x="651" y="1725"/>
                    </a:lnTo>
                    <a:lnTo>
                      <a:pt x="673" y="1720"/>
                    </a:lnTo>
                    <a:lnTo>
                      <a:pt x="694" y="1709"/>
                    </a:lnTo>
                    <a:lnTo>
                      <a:pt x="711" y="1692"/>
                    </a:lnTo>
                    <a:lnTo>
                      <a:pt x="723" y="1669"/>
                    </a:lnTo>
                    <a:lnTo>
                      <a:pt x="730" y="1657"/>
                    </a:lnTo>
                    <a:lnTo>
                      <a:pt x="761" y="605"/>
                    </a:lnTo>
                    <a:lnTo>
                      <a:pt x="126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43" name=""/>
              <p:cNvSpPr/>
              <p:nvPr/>
            </p:nvSpPr>
            <p:spPr>
              <a:xfrm>
                <a:off x="1579320" y="990720"/>
                <a:ext cx="48960" cy="101520"/>
              </a:xfrm>
              <a:custGeom>
                <a:avLst/>
                <a:gdLst/>
                <a:ahLst/>
                <a:rect l="l" t="t" r="r" b="b"/>
                <a:pathLst>
                  <a:path w="196" h="370">
                    <a:moveTo>
                      <a:pt x="95" y="0"/>
                    </a:moveTo>
                    <a:lnTo>
                      <a:pt x="105" y="58"/>
                    </a:lnTo>
                    <a:lnTo>
                      <a:pt x="111" y="87"/>
                    </a:lnTo>
                    <a:lnTo>
                      <a:pt x="121" y="121"/>
                    </a:lnTo>
                    <a:lnTo>
                      <a:pt x="132" y="141"/>
                    </a:lnTo>
                    <a:lnTo>
                      <a:pt x="147" y="166"/>
                    </a:lnTo>
                    <a:lnTo>
                      <a:pt x="167" y="193"/>
                    </a:lnTo>
                    <a:lnTo>
                      <a:pt x="184" y="220"/>
                    </a:lnTo>
                    <a:lnTo>
                      <a:pt x="192" y="245"/>
                    </a:lnTo>
                    <a:lnTo>
                      <a:pt x="196" y="278"/>
                    </a:lnTo>
                    <a:lnTo>
                      <a:pt x="189" y="307"/>
                    </a:lnTo>
                    <a:lnTo>
                      <a:pt x="178" y="328"/>
                    </a:lnTo>
                    <a:lnTo>
                      <a:pt x="162" y="345"/>
                    </a:lnTo>
                    <a:lnTo>
                      <a:pt x="141" y="361"/>
                    </a:lnTo>
                    <a:lnTo>
                      <a:pt x="121" y="367"/>
                    </a:lnTo>
                    <a:lnTo>
                      <a:pt x="99" y="370"/>
                    </a:lnTo>
                    <a:lnTo>
                      <a:pt x="76" y="367"/>
                    </a:lnTo>
                    <a:lnTo>
                      <a:pt x="54" y="362"/>
                    </a:lnTo>
                    <a:lnTo>
                      <a:pt x="34" y="350"/>
                    </a:lnTo>
                    <a:lnTo>
                      <a:pt x="19" y="334"/>
                    </a:lnTo>
                    <a:lnTo>
                      <a:pt x="8" y="315"/>
                    </a:lnTo>
                    <a:lnTo>
                      <a:pt x="3" y="296"/>
                    </a:lnTo>
                    <a:lnTo>
                      <a:pt x="0" y="272"/>
                    </a:lnTo>
                    <a:lnTo>
                      <a:pt x="5" y="240"/>
                    </a:lnTo>
                    <a:lnTo>
                      <a:pt x="13" y="218"/>
                    </a:lnTo>
                    <a:lnTo>
                      <a:pt x="30" y="190"/>
                    </a:lnTo>
                    <a:lnTo>
                      <a:pt x="49" y="166"/>
                    </a:lnTo>
                    <a:lnTo>
                      <a:pt x="62" y="140"/>
                    </a:lnTo>
                    <a:lnTo>
                      <a:pt x="72" y="119"/>
                    </a:lnTo>
                    <a:lnTo>
                      <a:pt x="81" y="90"/>
                    </a:lnTo>
                    <a:lnTo>
                      <a:pt x="86" y="58"/>
                    </a:lnTo>
                    <a:lnTo>
                      <a:pt x="95" y="0"/>
                    </a:lnTo>
                    <a:close/>
                  </a:path>
                </a:pathLst>
              </a:cu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44" name=""/>
              <p:cNvSpPr/>
              <p:nvPr/>
            </p:nvSpPr>
            <p:spPr>
              <a:xfrm>
                <a:off x="1352520" y="293760"/>
                <a:ext cx="502560" cy="96840"/>
              </a:xfrm>
              <a:prstGeom prst="ellips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45" name=""/>
              <p:cNvSpPr/>
              <p:nvPr/>
            </p:nvSpPr>
            <p:spPr>
              <a:xfrm>
                <a:off x="1579320" y="1098720"/>
                <a:ext cx="48960" cy="101520"/>
              </a:xfrm>
              <a:custGeom>
                <a:avLst/>
                <a:gdLst/>
                <a:ahLst/>
                <a:rect l="l" t="t" r="r" b="b"/>
                <a:pathLst>
                  <a:path w="196" h="372">
                    <a:moveTo>
                      <a:pt x="95" y="0"/>
                    </a:moveTo>
                    <a:lnTo>
                      <a:pt x="105" y="60"/>
                    </a:lnTo>
                    <a:lnTo>
                      <a:pt x="111" y="88"/>
                    </a:lnTo>
                    <a:lnTo>
                      <a:pt x="121" y="122"/>
                    </a:lnTo>
                    <a:lnTo>
                      <a:pt x="132" y="143"/>
                    </a:lnTo>
                    <a:lnTo>
                      <a:pt x="147" y="168"/>
                    </a:lnTo>
                    <a:lnTo>
                      <a:pt x="167" y="195"/>
                    </a:lnTo>
                    <a:lnTo>
                      <a:pt x="184" y="221"/>
                    </a:lnTo>
                    <a:lnTo>
                      <a:pt x="192" y="247"/>
                    </a:lnTo>
                    <a:lnTo>
                      <a:pt x="196" y="279"/>
                    </a:lnTo>
                    <a:lnTo>
                      <a:pt x="189" y="308"/>
                    </a:lnTo>
                    <a:lnTo>
                      <a:pt x="178" y="328"/>
                    </a:lnTo>
                    <a:lnTo>
                      <a:pt x="162" y="345"/>
                    </a:lnTo>
                    <a:lnTo>
                      <a:pt x="141" y="361"/>
                    </a:lnTo>
                    <a:lnTo>
                      <a:pt x="121" y="369"/>
                    </a:lnTo>
                    <a:lnTo>
                      <a:pt x="99" y="372"/>
                    </a:lnTo>
                    <a:lnTo>
                      <a:pt x="76" y="369"/>
                    </a:lnTo>
                    <a:lnTo>
                      <a:pt x="54" y="363"/>
                    </a:lnTo>
                    <a:lnTo>
                      <a:pt x="34" y="351"/>
                    </a:lnTo>
                    <a:lnTo>
                      <a:pt x="19" y="336"/>
                    </a:lnTo>
                    <a:lnTo>
                      <a:pt x="8" y="317"/>
                    </a:lnTo>
                    <a:lnTo>
                      <a:pt x="3" y="298"/>
                    </a:lnTo>
                    <a:lnTo>
                      <a:pt x="0" y="272"/>
                    </a:lnTo>
                    <a:lnTo>
                      <a:pt x="5" y="242"/>
                    </a:lnTo>
                    <a:lnTo>
                      <a:pt x="13" y="219"/>
                    </a:lnTo>
                    <a:lnTo>
                      <a:pt x="30" y="191"/>
                    </a:lnTo>
                    <a:lnTo>
                      <a:pt x="49" y="168"/>
                    </a:lnTo>
                    <a:lnTo>
                      <a:pt x="62" y="141"/>
                    </a:lnTo>
                    <a:lnTo>
                      <a:pt x="72" y="120"/>
                    </a:lnTo>
                    <a:lnTo>
                      <a:pt x="81" y="90"/>
                    </a:lnTo>
                    <a:lnTo>
                      <a:pt x="86" y="60"/>
                    </a:lnTo>
                    <a:lnTo>
                      <a:pt x="95" y="0"/>
                    </a:lnTo>
                    <a:close/>
                  </a:path>
                </a:pathLst>
              </a:cu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46" name=""/>
              <p:cNvSpPr/>
              <p:nvPr/>
            </p:nvSpPr>
            <p:spPr>
              <a:xfrm>
                <a:off x="1446120" y="452520"/>
                <a:ext cx="315360" cy="61920"/>
              </a:xfrm>
              <a:prstGeom prst="ellipse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47" name=""/>
              <p:cNvSpPr/>
              <p:nvPr/>
            </p:nvSpPr>
            <p:spPr>
              <a:xfrm>
                <a:off x="1582560" y="925560"/>
                <a:ext cx="41040" cy="47880"/>
              </a:xfrm>
              <a:prstGeom prst="ellipse">
                <a:avLst/>
              </a:prstGeom>
              <a:solidFill>
                <a:srgbClr val="009999"/>
              </a:solidFill>
              <a:ln w="1764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548" name=""/>
            <p:cNvSpPr/>
            <p:nvPr/>
          </p:nvSpPr>
          <p:spPr>
            <a:xfrm>
              <a:off x="3151080" y="2692440"/>
              <a:ext cx="9720" cy="293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49" name=""/>
            <p:cNvSpPr/>
            <p:nvPr/>
          </p:nvSpPr>
          <p:spPr>
            <a:xfrm>
              <a:off x="1076400" y="1646280"/>
              <a:ext cx="9360" cy="293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0" name=""/>
            <p:cNvSpPr/>
            <p:nvPr/>
          </p:nvSpPr>
          <p:spPr>
            <a:xfrm>
              <a:off x="5870880" y="38160"/>
              <a:ext cx="32727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Respirační kompenza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metabolické alkalóz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551" name=""/>
            <p:cNvGrpSpPr/>
            <p:nvPr/>
          </p:nvGrpSpPr>
          <p:grpSpPr>
            <a:xfrm>
              <a:off x="0" y="4673520"/>
              <a:ext cx="2573280" cy="1969200"/>
              <a:chOff x="0" y="4673520"/>
              <a:chExt cx="2573280" cy="1969200"/>
            </a:xfrm>
          </p:grpSpPr>
          <p:grpSp>
            <p:nvGrpSpPr>
              <p:cNvPr id="12552" name=""/>
              <p:cNvGrpSpPr/>
              <p:nvPr/>
            </p:nvGrpSpPr>
            <p:grpSpPr>
              <a:xfrm>
                <a:off x="244440" y="4772160"/>
                <a:ext cx="2260440" cy="1868040"/>
                <a:chOff x="244440" y="4772160"/>
                <a:chExt cx="2260440" cy="1868040"/>
              </a:xfrm>
            </p:grpSpPr>
            <p:sp>
              <p:nvSpPr>
                <p:cNvPr id="12553" name=""/>
                <p:cNvSpPr/>
                <p:nvPr/>
              </p:nvSpPr>
              <p:spPr>
                <a:xfrm>
                  <a:off x="244440" y="4772160"/>
                  <a:ext cx="2248560" cy="18615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554" name=""/>
                <p:cNvGrpSpPr/>
                <p:nvPr/>
              </p:nvGrpSpPr>
              <p:grpSpPr>
                <a:xfrm>
                  <a:off x="268560" y="4775760"/>
                  <a:ext cx="2206440" cy="1833120"/>
                  <a:chOff x="268560" y="4775760"/>
                  <a:chExt cx="2206440" cy="1833120"/>
                </a:xfrm>
              </p:grpSpPr>
              <p:sp>
                <p:nvSpPr>
                  <p:cNvPr id="12555" name=""/>
                  <p:cNvSpPr/>
                  <p:nvPr/>
                </p:nvSpPr>
                <p:spPr>
                  <a:xfrm>
                    <a:off x="522720" y="5971320"/>
                    <a:ext cx="717840" cy="637560"/>
                  </a:xfrm>
                  <a:custGeom>
                    <a:avLst/>
                    <a:gdLst/>
                    <a:ahLst/>
                    <a:rect l="l" t="t" r="r" b="b"/>
                    <a:pathLst>
                      <a:path w="1363" h="1020">
                        <a:moveTo>
                          <a:pt x="1030" y="0"/>
                        </a:moveTo>
                        <a:cubicBezTo>
                          <a:pt x="931" y="41"/>
                          <a:pt x="847" y="229"/>
                          <a:pt x="768" y="317"/>
                        </a:cubicBezTo>
                        <a:cubicBezTo>
                          <a:pt x="689" y="405"/>
                          <a:pt x="641" y="450"/>
                          <a:pt x="557" y="528"/>
                        </a:cubicBezTo>
                        <a:cubicBezTo>
                          <a:pt x="473" y="606"/>
                          <a:pt x="360" y="706"/>
                          <a:pt x="267" y="788"/>
                        </a:cubicBezTo>
                        <a:cubicBezTo>
                          <a:pt x="174" y="870"/>
                          <a:pt x="118" y="922"/>
                          <a:pt x="0" y="1020"/>
                        </a:cubicBezTo>
                        <a:cubicBezTo>
                          <a:pt x="111" y="1018"/>
                          <a:pt x="195" y="1018"/>
                          <a:pt x="267" y="1016"/>
                        </a:cubicBezTo>
                        <a:cubicBezTo>
                          <a:pt x="379" y="932"/>
                          <a:pt x="586" y="755"/>
                          <a:pt x="694" y="665"/>
                        </a:cubicBezTo>
                        <a:cubicBezTo>
                          <a:pt x="802" y="575"/>
                          <a:pt x="853" y="531"/>
                          <a:pt x="917" y="476"/>
                        </a:cubicBezTo>
                        <a:cubicBezTo>
                          <a:pt x="981" y="421"/>
                          <a:pt x="1027" y="381"/>
                          <a:pt x="1078" y="334"/>
                        </a:cubicBezTo>
                        <a:cubicBezTo>
                          <a:pt x="1129" y="287"/>
                          <a:pt x="1176" y="241"/>
                          <a:pt x="1224" y="197"/>
                        </a:cubicBezTo>
                        <a:lnTo>
                          <a:pt x="1363" y="70"/>
                        </a:lnTo>
                        <a:lnTo>
                          <a:pt x="1030" y="0"/>
                        </a:lnTo>
                        <a:close/>
                      </a:path>
                    </a:pathLst>
                  </a:custGeom>
                  <a:solidFill>
                    <a:srgbClr val="b2b2b2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56" name=""/>
                  <p:cNvSpPr/>
                  <p:nvPr/>
                </p:nvSpPr>
                <p:spPr>
                  <a:xfrm>
                    <a:off x="1308240" y="5126040"/>
                    <a:ext cx="1058040" cy="71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009" h="1148">
                        <a:moveTo>
                          <a:pt x="38" y="811"/>
                        </a:moveTo>
                        <a:cubicBezTo>
                          <a:pt x="30" y="770"/>
                          <a:pt x="0" y="826"/>
                          <a:pt x="329" y="691"/>
                        </a:cubicBezTo>
                        <a:lnTo>
                          <a:pt x="2009" y="0"/>
                        </a:lnTo>
                        <a:lnTo>
                          <a:pt x="2009" y="742"/>
                        </a:lnTo>
                        <a:lnTo>
                          <a:pt x="941" y="1148"/>
                        </a:lnTo>
                        <a:lnTo>
                          <a:pt x="38" y="1137"/>
                        </a:lnTo>
                        <a:lnTo>
                          <a:pt x="38" y="811"/>
                        </a:lnTo>
                        <a:close/>
                      </a:path>
                    </a:pathLst>
                  </a:custGeom>
                  <a:solidFill>
                    <a:srgbClr val="b2b2b2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57" name=""/>
                  <p:cNvSpPr/>
                  <p:nvPr/>
                </p:nvSpPr>
                <p:spPr>
                  <a:xfrm>
                    <a:off x="1183320" y="4780080"/>
                    <a:ext cx="673200" cy="11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278" h="1787">
                        <a:moveTo>
                          <a:pt x="0" y="1673"/>
                        </a:moveTo>
                        <a:lnTo>
                          <a:pt x="189" y="1341"/>
                        </a:lnTo>
                        <a:cubicBezTo>
                          <a:pt x="283" y="1169"/>
                          <a:pt x="458" y="843"/>
                          <a:pt x="566" y="638"/>
                        </a:cubicBezTo>
                        <a:cubicBezTo>
                          <a:pt x="674" y="433"/>
                          <a:pt x="781" y="213"/>
                          <a:pt x="835" y="107"/>
                        </a:cubicBezTo>
                        <a:lnTo>
                          <a:pt x="892" y="0"/>
                        </a:lnTo>
                        <a:lnTo>
                          <a:pt x="1278" y="2"/>
                        </a:lnTo>
                        <a:lnTo>
                          <a:pt x="1052" y="433"/>
                        </a:lnTo>
                        <a:cubicBezTo>
                          <a:pt x="925" y="674"/>
                          <a:pt x="635" y="1224"/>
                          <a:pt x="515" y="1450"/>
                        </a:cubicBezTo>
                        <a:lnTo>
                          <a:pt x="332" y="1787"/>
                        </a:lnTo>
                        <a:lnTo>
                          <a:pt x="0" y="1673"/>
                        </a:lnTo>
                        <a:close/>
                      </a:path>
                    </a:pathLst>
                  </a:custGeom>
                  <a:solidFill>
                    <a:srgbClr val="b2b2b2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58" name=""/>
                  <p:cNvSpPr/>
                  <p:nvPr/>
                </p:nvSpPr>
                <p:spPr>
                  <a:xfrm>
                    <a:off x="268560" y="5994000"/>
                    <a:ext cx="854640" cy="571680"/>
                  </a:xfrm>
                  <a:custGeom>
                    <a:avLst/>
                    <a:gdLst/>
                    <a:ahLst/>
                    <a:rect l="l" t="t" r="r" b="b"/>
                    <a:pathLst>
                      <a:path w="1623" h="914">
                        <a:moveTo>
                          <a:pt x="1206" y="23"/>
                        </a:moveTo>
                        <a:lnTo>
                          <a:pt x="0" y="680"/>
                        </a:lnTo>
                        <a:lnTo>
                          <a:pt x="0" y="914"/>
                        </a:lnTo>
                        <a:lnTo>
                          <a:pt x="1623" y="0"/>
                        </a:lnTo>
                      </a:path>
                    </a:pathLst>
                  </a:custGeom>
                  <a:solidFill>
                    <a:srgbClr val="b2b2b2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59" name=""/>
                  <p:cNvSpPr/>
                  <p:nvPr/>
                </p:nvSpPr>
                <p:spPr>
                  <a:xfrm>
                    <a:off x="283680" y="4775760"/>
                    <a:ext cx="2191320" cy="1830960"/>
                  </a:xfrm>
                  <a:custGeom>
                    <a:avLst/>
                    <a:gdLst/>
                    <a:ahLst/>
                    <a:rect l="l" t="t" r="r" b="b"/>
                    <a:pathLst>
                      <a:path w="4160" h="2928">
                        <a:moveTo>
                          <a:pt x="0" y="1645"/>
                        </a:moveTo>
                        <a:lnTo>
                          <a:pt x="1611" y="1645"/>
                        </a:lnTo>
                        <a:lnTo>
                          <a:pt x="1617" y="1451"/>
                        </a:lnTo>
                        <a:cubicBezTo>
                          <a:pt x="1600" y="1366"/>
                          <a:pt x="1537" y="1273"/>
                          <a:pt x="1508" y="1137"/>
                        </a:cubicBezTo>
                        <a:cubicBezTo>
                          <a:pt x="1479" y="1001"/>
                          <a:pt x="1466" y="783"/>
                          <a:pt x="1440" y="634"/>
                        </a:cubicBezTo>
                        <a:cubicBezTo>
                          <a:pt x="1414" y="485"/>
                          <a:pt x="1388" y="345"/>
                          <a:pt x="1354" y="240"/>
                        </a:cubicBezTo>
                        <a:lnTo>
                          <a:pt x="1234" y="2"/>
                        </a:lnTo>
                        <a:lnTo>
                          <a:pt x="1472" y="0"/>
                        </a:lnTo>
                        <a:cubicBezTo>
                          <a:pt x="1534" y="62"/>
                          <a:pt x="1570" y="242"/>
                          <a:pt x="1605" y="377"/>
                        </a:cubicBezTo>
                        <a:cubicBezTo>
                          <a:pt x="1640" y="512"/>
                          <a:pt x="1657" y="692"/>
                          <a:pt x="1680" y="811"/>
                        </a:cubicBezTo>
                        <a:cubicBezTo>
                          <a:pt x="1703" y="930"/>
                          <a:pt x="1712" y="982"/>
                          <a:pt x="1743" y="1091"/>
                        </a:cubicBezTo>
                        <a:cubicBezTo>
                          <a:pt x="1774" y="1200"/>
                          <a:pt x="1829" y="1376"/>
                          <a:pt x="1868" y="1468"/>
                        </a:cubicBezTo>
                        <a:lnTo>
                          <a:pt x="1977" y="1645"/>
                        </a:lnTo>
                        <a:lnTo>
                          <a:pt x="2926" y="1651"/>
                        </a:lnTo>
                        <a:lnTo>
                          <a:pt x="4160" y="1657"/>
                        </a:lnTo>
                        <a:lnTo>
                          <a:pt x="4160" y="2000"/>
                        </a:lnTo>
                        <a:lnTo>
                          <a:pt x="1926" y="2000"/>
                        </a:lnTo>
                        <a:lnTo>
                          <a:pt x="1914" y="2422"/>
                        </a:lnTo>
                        <a:lnTo>
                          <a:pt x="1913" y="2928"/>
                        </a:lnTo>
                        <a:lnTo>
                          <a:pt x="1611" y="2925"/>
                        </a:lnTo>
                        <a:lnTo>
                          <a:pt x="1605" y="2005"/>
                        </a:lnTo>
                        <a:lnTo>
                          <a:pt x="0" y="2005"/>
                        </a:lnTo>
                        <a:lnTo>
                          <a:pt x="0" y="1645"/>
                        </a:lnTo>
                        <a:close/>
                      </a:path>
                    </a:pathLst>
                  </a:custGeom>
                  <a:solidFill>
                    <a:srgbClr val="ffff66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2560" name=""/>
                <p:cNvSpPr/>
                <p:nvPr/>
              </p:nvSpPr>
              <p:spPr>
                <a:xfrm>
                  <a:off x="250560" y="4778640"/>
                  <a:ext cx="0" cy="18615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61" name=""/>
                <p:cNvSpPr/>
                <p:nvPr/>
              </p:nvSpPr>
              <p:spPr>
                <a:xfrm>
                  <a:off x="247320" y="6633720"/>
                  <a:ext cx="22575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562" name=""/>
              <p:cNvSpPr/>
              <p:nvPr/>
            </p:nvSpPr>
            <p:spPr>
              <a:xfrm>
                <a:off x="0" y="4673520"/>
                <a:ext cx="851040" cy="38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1800" spc="-1" strike="noStrike">
                    <a:solidFill>
                      <a:srgbClr val="000000"/>
                    </a:solidFill>
                    <a:latin typeface="Times New Roman"/>
                  </a:rPr>
                  <a:t>P</a:t>
                </a:r>
                <a:r>
                  <a:rPr b="1" lang="cs-CZ" sz="1400" spc="-1" strike="noStrike">
                    <a:solidFill>
                      <a:srgbClr val="000000"/>
                    </a:solidFill>
                    <a:latin typeface="Times New Roman"/>
                  </a:rPr>
                  <a:t>CO</a:t>
                </a:r>
                <a:r>
                  <a:rPr b="1" lang="cs-CZ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63" name=""/>
              <p:cNvSpPr/>
              <p:nvPr/>
            </p:nvSpPr>
            <p:spPr>
              <a:xfrm>
                <a:off x="2139840" y="6335640"/>
                <a:ext cx="433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1400" spc="-1" strike="noStrike">
                    <a:solidFill>
                      <a:srgbClr val="000000"/>
                    </a:solidFill>
                    <a:latin typeface="Times New Roman"/>
                  </a:rPr>
                  <a:t>B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564" name=""/>
            <p:cNvSpPr/>
            <p:nvPr/>
          </p:nvSpPr>
          <p:spPr>
            <a:xfrm>
              <a:off x="1216080" y="5905440"/>
              <a:ext cx="64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5" name=""/>
            <p:cNvSpPr/>
            <p:nvPr/>
          </p:nvSpPr>
          <p:spPr>
            <a:xfrm flipV="1">
              <a:off x="1852560" y="5614920"/>
              <a:ext cx="0" cy="300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5" name=""/>
          <p:cNvGrpSpPr/>
          <p:nvPr/>
        </p:nvGrpSpPr>
        <p:grpSpPr>
          <a:xfrm>
            <a:off x="-358920" y="-70560"/>
            <a:ext cx="9866160" cy="7246080"/>
            <a:chOff x="-358920" y="-70560"/>
            <a:chExt cx="9866160" cy="7246080"/>
          </a:xfrm>
        </p:grpSpPr>
        <p:sp>
          <p:nvSpPr>
            <p:cNvPr id="1086" name=""/>
            <p:cNvSpPr/>
            <p:nvPr/>
          </p:nvSpPr>
          <p:spPr>
            <a:xfrm flipH="1" rot="13944000">
              <a:off x="8741520" y="-104760"/>
              <a:ext cx="336600" cy="1197360"/>
            </a:xfrm>
            <a:prstGeom prst="can">
              <a:avLst>
                <a:gd name="adj" fmla="val 25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7" name=""/>
            <p:cNvGrpSpPr/>
            <p:nvPr/>
          </p:nvGrpSpPr>
          <p:grpSpPr>
            <a:xfrm>
              <a:off x="-167760" y="2797200"/>
              <a:ext cx="9533880" cy="3701880"/>
              <a:chOff x="-167760" y="2797200"/>
              <a:chExt cx="9533880" cy="3701880"/>
            </a:xfrm>
          </p:grpSpPr>
          <p:grpSp>
            <p:nvGrpSpPr>
              <p:cNvPr id="1088" name=""/>
              <p:cNvGrpSpPr/>
              <p:nvPr/>
            </p:nvGrpSpPr>
            <p:grpSpPr>
              <a:xfrm>
                <a:off x="-167760" y="2797200"/>
                <a:ext cx="9524160" cy="1690560"/>
                <a:chOff x="-167760" y="2797200"/>
                <a:chExt cx="9524160" cy="1690560"/>
              </a:xfrm>
            </p:grpSpPr>
            <p:sp>
              <p:nvSpPr>
                <p:cNvPr id="1089" name=""/>
                <p:cNvSpPr/>
                <p:nvPr/>
              </p:nvSpPr>
              <p:spPr>
                <a:xfrm flipH="1">
                  <a:off x="-167760" y="3095640"/>
                  <a:ext cx="4021200" cy="1392120"/>
                </a:xfrm>
                <a:custGeom>
                  <a:avLst/>
                  <a:gdLst/>
                  <a:ahLst/>
                  <a:rect l="l" t="t" r="r" b="b"/>
                  <a:pathLst>
                    <a:path w="2486" h="877">
                      <a:moveTo>
                        <a:pt x="216" y="507"/>
                      </a:moveTo>
                      <a:cubicBezTo>
                        <a:pt x="623" y="421"/>
                        <a:pt x="2094" y="41"/>
                        <a:pt x="2470" y="0"/>
                      </a:cubicBezTo>
                      <a:cubicBezTo>
                        <a:pt x="2486" y="207"/>
                        <a:pt x="2449" y="123"/>
                        <a:pt x="2475" y="261"/>
                      </a:cubicBezTo>
                      <a:cubicBezTo>
                        <a:pt x="2241" y="287"/>
                        <a:pt x="1526" y="407"/>
                        <a:pt x="1254" y="457"/>
                      </a:cubicBezTo>
                      <a:cubicBezTo>
                        <a:pt x="982" y="507"/>
                        <a:pt x="936" y="500"/>
                        <a:pt x="845" y="563"/>
                      </a:cubicBezTo>
                      <a:cubicBezTo>
                        <a:pt x="749" y="584"/>
                        <a:pt x="775" y="796"/>
                        <a:pt x="707" y="834"/>
                      </a:cubicBezTo>
                      <a:cubicBezTo>
                        <a:pt x="644" y="877"/>
                        <a:pt x="531" y="845"/>
                        <a:pt x="468" y="818"/>
                      </a:cubicBezTo>
                      <a:cubicBezTo>
                        <a:pt x="369" y="761"/>
                        <a:pt x="375" y="719"/>
                        <a:pt x="330" y="675"/>
                      </a:cubicBezTo>
                      <a:cubicBezTo>
                        <a:pt x="285" y="631"/>
                        <a:pt x="249" y="577"/>
                        <a:pt x="200" y="555"/>
                      </a:cubicBezTo>
                      <a:cubicBezTo>
                        <a:pt x="151" y="533"/>
                        <a:pt x="63" y="550"/>
                        <a:pt x="35" y="544"/>
                      </a:cubicBezTo>
                      <a:cubicBezTo>
                        <a:pt x="7" y="538"/>
                        <a:pt x="0" y="524"/>
                        <a:pt x="30" y="518"/>
                      </a:cubicBezTo>
                      <a:cubicBezTo>
                        <a:pt x="60" y="512"/>
                        <a:pt x="177" y="509"/>
                        <a:pt x="216" y="507"/>
                      </a:cubicBezTo>
                      <a:close/>
                    </a:path>
                  </a:pathLst>
                </a:custGeom>
                <a:solidFill>
                  <a:srgbClr val="ff33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0" name=""/>
                <p:cNvSpPr/>
                <p:nvPr/>
              </p:nvSpPr>
              <p:spPr>
                <a:xfrm flipH="1">
                  <a:off x="3892320" y="3894120"/>
                  <a:ext cx="349200" cy="60120"/>
                </a:xfrm>
                <a:custGeom>
                  <a:avLst/>
                  <a:gdLst/>
                  <a:ahLst/>
                  <a:rect l="l" t="t" r="r" b="b"/>
                  <a:pathLst>
                    <a:path w="216" h="38">
                      <a:moveTo>
                        <a:pt x="195" y="3"/>
                      </a:moveTo>
                      <a:cubicBezTo>
                        <a:pt x="216" y="9"/>
                        <a:pt x="169" y="31"/>
                        <a:pt x="148" y="35"/>
                      </a:cubicBezTo>
                      <a:cubicBezTo>
                        <a:pt x="123" y="38"/>
                        <a:pt x="89" y="35"/>
                        <a:pt x="68" y="29"/>
                      </a:cubicBezTo>
                      <a:cubicBezTo>
                        <a:pt x="47" y="23"/>
                        <a:pt x="0" y="4"/>
                        <a:pt x="21" y="0"/>
                      </a:cubicBezTo>
                      <a:lnTo>
                        <a:pt x="195" y="3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1" name=""/>
                <p:cNvSpPr/>
                <p:nvPr/>
              </p:nvSpPr>
              <p:spPr>
                <a:xfrm flipH="1">
                  <a:off x="4280040" y="3894120"/>
                  <a:ext cx="349560" cy="60120"/>
                </a:xfrm>
                <a:custGeom>
                  <a:avLst/>
                  <a:gdLst/>
                  <a:ahLst/>
                  <a:rect l="l" t="t" r="r" b="b"/>
                  <a:pathLst>
                    <a:path w="216" h="38">
                      <a:moveTo>
                        <a:pt x="195" y="3"/>
                      </a:moveTo>
                      <a:cubicBezTo>
                        <a:pt x="216" y="9"/>
                        <a:pt x="169" y="31"/>
                        <a:pt x="148" y="35"/>
                      </a:cubicBezTo>
                      <a:cubicBezTo>
                        <a:pt x="123" y="38"/>
                        <a:pt x="89" y="35"/>
                        <a:pt x="68" y="29"/>
                      </a:cubicBezTo>
                      <a:cubicBezTo>
                        <a:pt x="47" y="23"/>
                        <a:pt x="0" y="4"/>
                        <a:pt x="21" y="0"/>
                      </a:cubicBezTo>
                      <a:lnTo>
                        <a:pt x="195" y="3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2" name=""/>
                <p:cNvSpPr/>
                <p:nvPr/>
              </p:nvSpPr>
              <p:spPr>
                <a:xfrm flipH="1">
                  <a:off x="4668120" y="3894120"/>
                  <a:ext cx="349560" cy="60120"/>
                </a:xfrm>
                <a:custGeom>
                  <a:avLst/>
                  <a:gdLst/>
                  <a:ahLst/>
                  <a:rect l="l" t="t" r="r" b="b"/>
                  <a:pathLst>
                    <a:path w="216" h="38">
                      <a:moveTo>
                        <a:pt x="195" y="3"/>
                      </a:moveTo>
                      <a:cubicBezTo>
                        <a:pt x="216" y="9"/>
                        <a:pt x="169" y="31"/>
                        <a:pt x="148" y="35"/>
                      </a:cubicBezTo>
                      <a:cubicBezTo>
                        <a:pt x="123" y="38"/>
                        <a:pt x="89" y="35"/>
                        <a:pt x="68" y="29"/>
                      </a:cubicBezTo>
                      <a:cubicBezTo>
                        <a:pt x="47" y="23"/>
                        <a:pt x="0" y="4"/>
                        <a:pt x="21" y="0"/>
                      </a:cubicBezTo>
                      <a:lnTo>
                        <a:pt x="195" y="3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3" name=""/>
                <p:cNvSpPr/>
                <p:nvPr/>
              </p:nvSpPr>
              <p:spPr>
                <a:xfrm flipH="1">
                  <a:off x="5056920" y="3894120"/>
                  <a:ext cx="349200" cy="60120"/>
                </a:xfrm>
                <a:custGeom>
                  <a:avLst/>
                  <a:gdLst/>
                  <a:ahLst/>
                  <a:rect l="l" t="t" r="r" b="b"/>
                  <a:pathLst>
                    <a:path w="216" h="38">
                      <a:moveTo>
                        <a:pt x="195" y="3"/>
                      </a:moveTo>
                      <a:cubicBezTo>
                        <a:pt x="216" y="9"/>
                        <a:pt x="169" y="31"/>
                        <a:pt x="148" y="35"/>
                      </a:cubicBezTo>
                      <a:cubicBezTo>
                        <a:pt x="123" y="38"/>
                        <a:pt x="89" y="35"/>
                        <a:pt x="68" y="29"/>
                      </a:cubicBezTo>
                      <a:cubicBezTo>
                        <a:pt x="47" y="23"/>
                        <a:pt x="0" y="4"/>
                        <a:pt x="21" y="0"/>
                      </a:cubicBezTo>
                      <a:lnTo>
                        <a:pt x="195" y="3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4" name=""/>
                <p:cNvSpPr/>
                <p:nvPr/>
              </p:nvSpPr>
              <p:spPr>
                <a:xfrm flipH="1">
                  <a:off x="5445000" y="3894120"/>
                  <a:ext cx="349560" cy="60120"/>
                </a:xfrm>
                <a:custGeom>
                  <a:avLst/>
                  <a:gdLst/>
                  <a:ahLst/>
                  <a:rect l="l" t="t" r="r" b="b"/>
                  <a:pathLst>
                    <a:path w="216" h="38">
                      <a:moveTo>
                        <a:pt x="195" y="3"/>
                      </a:moveTo>
                      <a:cubicBezTo>
                        <a:pt x="216" y="9"/>
                        <a:pt x="169" y="31"/>
                        <a:pt x="148" y="35"/>
                      </a:cubicBezTo>
                      <a:cubicBezTo>
                        <a:pt x="123" y="38"/>
                        <a:pt x="89" y="35"/>
                        <a:pt x="68" y="29"/>
                      </a:cubicBezTo>
                      <a:cubicBezTo>
                        <a:pt x="47" y="23"/>
                        <a:pt x="0" y="4"/>
                        <a:pt x="21" y="0"/>
                      </a:cubicBezTo>
                      <a:lnTo>
                        <a:pt x="195" y="3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5" name=""/>
                <p:cNvSpPr/>
                <p:nvPr/>
              </p:nvSpPr>
              <p:spPr>
                <a:xfrm flipH="1">
                  <a:off x="5833080" y="3894120"/>
                  <a:ext cx="349560" cy="60120"/>
                </a:xfrm>
                <a:custGeom>
                  <a:avLst/>
                  <a:gdLst/>
                  <a:ahLst/>
                  <a:rect l="l" t="t" r="r" b="b"/>
                  <a:pathLst>
                    <a:path w="216" h="38">
                      <a:moveTo>
                        <a:pt x="195" y="3"/>
                      </a:moveTo>
                      <a:cubicBezTo>
                        <a:pt x="216" y="9"/>
                        <a:pt x="169" y="31"/>
                        <a:pt x="148" y="35"/>
                      </a:cubicBezTo>
                      <a:cubicBezTo>
                        <a:pt x="123" y="38"/>
                        <a:pt x="89" y="35"/>
                        <a:pt x="68" y="29"/>
                      </a:cubicBezTo>
                      <a:cubicBezTo>
                        <a:pt x="47" y="23"/>
                        <a:pt x="0" y="4"/>
                        <a:pt x="21" y="0"/>
                      </a:cubicBezTo>
                      <a:lnTo>
                        <a:pt x="195" y="3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6" name=""/>
                <p:cNvSpPr/>
                <p:nvPr/>
              </p:nvSpPr>
              <p:spPr>
                <a:xfrm flipH="1">
                  <a:off x="6221880" y="3894120"/>
                  <a:ext cx="349200" cy="60120"/>
                </a:xfrm>
                <a:custGeom>
                  <a:avLst/>
                  <a:gdLst/>
                  <a:ahLst/>
                  <a:rect l="l" t="t" r="r" b="b"/>
                  <a:pathLst>
                    <a:path w="216" h="38">
                      <a:moveTo>
                        <a:pt x="195" y="3"/>
                      </a:moveTo>
                      <a:cubicBezTo>
                        <a:pt x="216" y="9"/>
                        <a:pt x="169" y="31"/>
                        <a:pt x="148" y="35"/>
                      </a:cubicBezTo>
                      <a:cubicBezTo>
                        <a:pt x="123" y="38"/>
                        <a:pt x="89" y="35"/>
                        <a:pt x="68" y="29"/>
                      </a:cubicBezTo>
                      <a:cubicBezTo>
                        <a:pt x="47" y="23"/>
                        <a:pt x="0" y="4"/>
                        <a:pt x="21" y="0"/>
                      </a:cubicBezTo>
                      <a:lnTo>
                        <a:pt x="195" y="3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7" name=""/>
                <p:cNvSpPr/>
                <p:nvPr/>
              </p:nvSpPr>
              <p:spPr>
                <a:xfrm flipH="1">
                  <a:off x="6609600" y="3894120"/>
                  <a:ext cx="349560" cy="60120"/>
                </a:xfrm>
                <a:custGeom>
                  <a:avLst/>
                  <a:gdLst/>
                  <a:ahLst/>
                  <a:rect l="l" t="t" r="r" b="b"/>
                  <a:pathLst>
                    <a:path w="216" h="38">
                      <a:moveTo>
                        <a:pt x="195" y="3"/>
                      </a:moveTo>
                      <a:cubicBezTo>
                        <a:pt x="216" y="9"/>
                        <a:pt x="169" y="31"/>
                        <a:pt x="148" y="35"/>
                      </a:cubicBezTo>
                      <a:cubicBezTo>
                        <a:pt x="123" y="38"/>
                        <a:pt x="89" y="35"/>
                        <a:pt x="68" y="29"/>
                      </a:cubicBezTo>
                      <a:cubicBezTo>
                        <a:pt x="47" y="23"/>
                        <a:pt x="0" y="4"/>
                        <a:pt x="21" y="0"/>
                      </a:cubicBezTo>
                      <a:lnTo>
                        <a:pt x="195" y="3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8" name=""/>
                <p:cNvSpPr/>
                <p:nvPr/>
              </p:nvSpPr>
              <p:spPr>
                <a:xfrm flipH="1">
                  <a:off x="6976800" y="2797200"/>
                  <a:ext cx="2379240" cy="1130040"/>
                </a:xfrm>
                <a:custGeom>
                  <a:avLst/>
                  <a:gdLst/>
                  <a:ahLst/>
                  <a:rect l="l" t="t" r="r" b="b"/>
                  <a:pathLst>
                    <a:path w="1471" h="712">
                      <a:moveTo>
                        <a:pt x="1337" y="647"/>
                      </a:moveTo>
                      <a:cubicBezTo>
                        <a:pt x="1239" y="603"/>
                        <a:pt x="1013" y="461"/>
                        <a:pt x="871" y="396"/>
                      </a:cubicBezTo>
                      <a:cubicBezTo>
                        <a:pt x="729" y="331"/>
                        <a:pt x="596" y="304"/>
                        <a:pt x="483" y="257"/>
                      </a:cubicBezTo>
                      <a:cubicBezTo>
                        <a:pt x="370" y="210"/>
                        <a:pt x="262" y="150"/>
                        <a:pt x="191" y="114"/>
                      </a:cubicBezTo>
                      <a:cubicBezTo>
                        <a:pt x="120" y="78"/>
                        <a:pt x="90" y="0"/>
                        <a:pt x="58" y="40"/>
                      </a:cubicBezTo>
                      <a:cubicBezTo>
                        <a:pt x="47" y="247"/>
                        <a:pt x="17" y="215"/>
                        <a:pt x="0" y="353"/>
                      </a:cubicBezTo>
                      <a:cubicBezTo>
                        <a:pt x="157" y="379"/>
                        <a:pt x="319" y="428"/>
                        <a:pt x="488" y="475"/>
                      </a:cubicBezTo>
                      <a:cubicBezTo>
                        <a:pt x="657" y="522"/>
                        <a:pt x="871" y="597"/>
                        <a:pt x="1014" y="634"/>
                      </a:cubicBezTo>
                      <a:cubicBezTo>
                        <a:pt x="1157" y="671"/>
                        <a:pt x="1275" y="683"/>
                        <a:pt x="1348" y="695"/>
                      </a:cubicBezTo>
                      <a:cubicBezTo>
                        <a:pt x="1421" y="707"/>
                        <a:pt x="1439" y="712"/>
                        <a:pt x="1455" y="709"/>
                      </a:cubicBezTo>
                      <a:cubicBezTo>
                        <a:pt x="1471" y="706"/>
                        <a:pt x="1464" y="687"/>
                        <a:pt x="1444" y="677"/>
                      </a:cubicBezTo>
                      <a:cubicBezTo>
                        <a:pt x="1424" y="667"/>
                        <a:pt x="1359" y="653"/>
                        <a:pt x="1337" y="647"/>
                      </a:cubicBezTo>
                      <a:close/>
                    </a:path>
                  </a:pathLst>
                </a:custGeom>
                <a:solidFill>
                  <a:srgbClr val="ff33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9" name=""/>
              <p:cNvGrpSpPr/>
              <p:nvPr/>
            </p:nvGrpSpPr>
            <p:grpSpPr>
              <a:xfrm>
                <a:off x="-157680" y="4808520"/>
                <a:ext cx="9523800" cy="1690560"/>
                <a:chOff x="-157680" y="4808520"/>
                <a:chExt cx="9523800" cy="1690560"/>
              </a:xfrm>
            </p:grpSpPr>
            <p:sp>
              <p:nvSpPr>
                <p:cNvPr id="1100" name=""/>
                <p:cNvSpPr/>
                <p:nvPr/>
              </p:nvSpPr>
              <p:spPr>
                <a:xfrm flipH="1" flipV="1">
                  <a:off x="-157680" y="4808160"/>
                  <a:ext cx="4021200" cy="1392120"/>
                </a:xfrm>
                <a:custGeom>
                  <a:avLst/>
                  <a:gdLst/>
                  <a:ahLst/>
                  <a:rect l="l" t="t" r="r" b="b"/>
                  <a:pathLst>
                    <a:path w="2486" h="877">
                      <a:moveTo>
                        <a:pt x="216" y="507"/>
                      </a:moveTo>
                      <a:cubicBezTo>
                        <a:pt x="623" y="421"/>
                        <a:pt x="2094" y="41"/>
                        <a:pt x="2470" y="0"/>
                      </a:cubicBezTo>
                      <a:cubicBezTo>
                        <a:pt x="2486" y="207"/>
                        <a:pt x="2449" y="123"/>
                        <a:pt x="2475" y="261"/>
                      </a:cubicBezTo>
                      <a:cubicBezTo>
                        <a:pt x="2241" y="287"/>
                        <a:pt x="1526" y="407"/>
                        <a:pt x="1254" y="457"/>
                      </a:cubicBezTo>
                      <a:cubicBezTo>
                        <a:pt x="982" y="507"/>
                        <a:pt x="936" y="500"/>
                        <a:pt x="845" y="563"/>
                      </a:cubicBezTo>
                      <a:cubicBezTo>
                        <a:pt x="749" y="584"/>
                        <a:pt x="775" y="796"/>
                        <a:pt x="707" y="834"/>
                      </a:cubicBezTo>
                      <a:cubicBezTo>
                        <a:pt x="644" y="877"/>
                        <a:pt x="531" y="845"/>
                        <a:pt x="468" y="818"/>
                      </a:cubicBezTo>
                      <a:cubicBezTo>
                        <a:pt x="369" y="761"/>
                        <a:pt x="375" y="719"/>
                        <a:pt x="330" y="675"/>
                      </a:cubicBezTo>
                      <a:cubicBezTo>
                        <a:pt x="285" y="631"/>
                        <a:pt x="249" y="577"/>
                        <a:pt x="200" y="555"/>
                      </a:cubicBezTo>
                      <a:cubicBezTo>
                        <a:pt x="151" y="533"/>
                        <a:pt x="63" y="550"/>
                        <a:pt x="35" y="544"/>
                      </a:cubicBezTo>
                      <a:cubicBezTo>
                        <a:pt x="7" y="538"/>
                        <a:pt x="0" y="524"/>
                        <a:pt x="30" y="518"/>
                      </a:cubicBezTo>
                      <a:cubicBezTo>
                        <a:pt x="60" y="512"/>
                        <a:pt x="177" y="509"/>
                        <a:pt x="216" y="507"/>
                      </a:cubicBezTo>
                      <a:close/>
                    </a:path>
                  </a:pathLst>
                </a:custGeom>
                <a:solidFill>
                  <a:srgbClr val="ff33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1" name=""/>
                <p:cNvSpPr/>
                <p:nvPr/>
              </p:nvSpPr>
              <p:spPr>
                <a:xfrm flipH="1" flipV="1">
                  <a:off x="3902400" y="5341680"/>
                  <a:ext cx="349200" cy="60120"/>
                </a:xfrm>
                <a:custGeom>
                  <a:avLst/>
                  <a:gdLst/>
                  <a:ahLst/>
                  <a:rect l="l" t="t" r="r" b="b"/>
                  <a:pathLst>
                    <a:path w="216" h="38">
                      <a:moveTo>
                        <a:pt x="195" y="3"/>
                      </a:moveTo>
                      <a:cubicBezTo>
                        <a:pt x="216" y="9"/>
                        <a:pt x="169" y="31"/>
                        <a:pt x="148" y="35"/>
                      </a:cubicBezTo>
                      <a:cubicBezTo>
                        <a:pt x="123" y="38"/>
                        <a:pt x="89" y="35"/>
                        <a:pt x="68" y="29"/>
                      </a:cubicBezTo>
                      <a:cubicBezTo>
                        <a:pt x="47" y="23"/>
                        <a:pt x="0" y="4"/>
                        <a:pt x="21" y="0"/>
                      </a:cubicBezTo>
                      <a:lnTo>
                        <a:pt x="195" y="3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2" name=""/>
                <p:cNvSpPr/>
                <p:nvPr/>
              </p:nvSpPr>
              <p:spPr>
                <a:xfrm flipH="1" flipV="1">
                  <a:off x="4290120" y="5341680"/>
                  <a:ext cx="349560" cy="60120"/>
                </a:xfrm>
                <a:custGeom>
                  <a:avLst/>
                  <a:gdLst/>
                  <a:ahLst/>
                  <a:rect l="l" t="t" r="r" b="b"/>
                  <a:pathLst>
                    <a:path w="216" h="38">
                      <a:moveTo>
                        <a:pt x="195" y="3"/>
                      </a:moveTo>
                      <a:cubicBezTo>
                        <a:pt x="216" y="9"/>
                        <a:pt x="169" y="31"/>
                        <a:pt x="148" y="35"/>
                      </a:cubicBezTo>
                      <a:cubicBezTo>
                        <a:pt x="123" y="38"/>
                        <a:pt x="89" y="35"/>
                        <a:pt x="68" y="29"/>
                      </a:cubicBezTo>
                      <a:cubicBezTo>
                        <a:pt x="47" y="23"/>
                        <a:pt x="0" y="4"/>
                        <a:pt x="21" y="0"/>
                      </a:cubicBezTo>
                      <a:lnTo>
                        <a:pt x="195" y="3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3" name=""/>
                <p:cNvSpPr/>
                <p:nvPr/>
              </p:nvSpPr>
              <p:spPr>
                <a:xfrm flipH="1" flipV="1">
                  <a:off x="4678200" y="5341680"/>
                  <a:ext cx="349560" cy="60120"/>
                </a:xfrm>
                <a:custGeom>
                  <a:avLst/>
                  <a:gdLst/>
                  <a:ahLst/>
                  <a:rect l="l" t="t" r="r" b="b"/>
                  <a:pathLst>
                    <a:path w="216" h="38">
                      <a:moveTo>
                        <a:pt x="195" y="3"/>
                      </a:moveTo>
                      <a:cubicBezTo>
                        <a:pt x="216" y="9"/>
                        <a:pt x="169" y="31"/>
                        <a:pt x="148" y="35"/>
                      </a:cubicBezTo>
                      <a:cubicBezTo>
                        <a:pt x="123" y="38"/>
                        <a:pt x="89" y="35"/>
                        <a:pt x="68" y="29"/>
                      </a:cubicBezTo>
                      <a:cubicBezTo>
                        <a:pt x="47" y="23"/>
                        <a:pt x="0" y="4"/>
                        <a:pt x="21" y="0"/>
                      </a:cubicBezTo>
                      <a:lnTo>
                        <a:pt x="195" y="3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4" name=""/>
                <p:cNvSpPr/>
                <p:nvPr/>
              </p:nvSpPr>
              <p:spPr>
                <a:xfrm flipH="1" flipV="1">
                  <a:off x="5067000" y="5341680"/>
                  <a:ext cx="349200" cy="60120"/>
                </a:xfrm>
                <a:custGeom>
                  <a:avLst/>
                  <a:gdLst/>
                  <a:ahLst/>
                  <a:rect l="l" t="t" r="r" b="b"/>
                  <a:pathLst>
                    <a:path w="216" h="38">
                      <a:moveTo>
                        <a:pt x="195" y="3"/>
                      </a:moveTo>
                      <a:cubicBezTo>
                        <a:pt x="216" y="9"/>
                        <a:pt x="169" y="31"/>
                        <a:pt x="148" y="35"/>
                      </a:cubicBezTo>
                      <a:cubicBezTo>
                        <a:pt x="123" y="38"/>
                        <a:pt x="89" y="35"/>
                        <a:pt x="68" y="29"/>
                      </a:cubicBezTo>
                      <a:cubicBezTo>
                        <a:pt x="47" y="23"/>
                        <a:pt x="0" y="4"/>
                        <a:pt x="21" y="0"/>
                      </a:cubicBezTo>
                      <a:lnTo>
                        <a:pt x="195" y="3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5" name=""/>
                <p:cNvSpPr/>
                <p:nvPr/>
              </p:nvSpPr>
              <p:spPr>
                <a:xfrm flipH="1" flipV="1">
                  <a:off x="5454720" y="5341680"/>
                  <a:ext cx="349560" cy="60120"/>
                </a:xfrm>
                <a:custGeom>
                  <a:avLst/>
                  <a:gdLst/>
                  <a:ahLst/>
                  <a:rect l="l" t="t" r="r" b="b"/>
                  <a:pathLst>
                    <a:path w="216" h="38">
                      <a:moveTo>
                        <a:pt x="195" y="3"/>
                      </a:moveTo>
                      <a:cubicBezTo>
                        <a:pt x="216" y="9"/>
                        <a:pt x="169" y="31"/>
                        <a:pt x="148" y="35"/>
                      </a:cubicBezTo>
                      <a:cubicBezTo>
                        <a:pt x="123" y="38"/>
                        <a:pt x="89" y="35"/>
                        <a:pt x="68" y="29"/>
                      </a:cubicBezTo>
                      <a:cubicBezTo>
                        <a:pt x="47" y="23"/>
                        <a:pt x="0" y="4"/>
                        <a:pt x="21" y="0"/>
                      </a:cubicBezTo>
                      <a:lnTo>
                        <a:pt x="195" y="3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6" name=""/>
                <p:cNvSpPr/>
                <p:nvPr/>
              </p:nvSpPr>
              <p:spPr>
                <a:xfrm flipH="1" flipV="1">
                  <a:off x="5842800" y="5341680"/>
                  <a:ext cx="349560" cy="60120"/>
                </a:xfrm>
                <a:custGeom>
                  <a:avLst/>
                  <a:gdLst/>
                  <a:ahLst/>
                  <a:rect l="l" t="t" r="r" b="b"/>
                  <a:pathLst>
                    <a:path w="216" h="38">
                      <a:moveTo>
                        <a:pt x="195" y="3"/>
                      </a:moveTo>
                      <a:cubicBezTo>
                        <a:pt x="216" y="9"/>
                        <a:pt x="169" y="31"/>
                        <a:pt x="148" y="35"/>
                      </a:cubicBezTo>
                      <a:cubicBezTo>
                        <a:pt x="123" y="38"/>
                        <a:pt x="89" y="35"/>
                        <a:pt x="68" y="29"/>
                      </a:cubicBezTo>
                      <a:cubicBezTo>
                        <a:pt x="47" y="23"/>
                        <a:pt x="0" y="4"/>
                        <a:pt x="21" y="0"/>
                      </a:cubicBezTo>
                      <a:lnTo>
                        <a:pt x="195" y="3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7" name=""/>
                <p:cNvSpPr/>
                <p:nvPr/>
              </p:nvSpPr>
              <p:spPr>
                <a:xfrm flipH="1" flipV="1">
                  <a:off x="6231600" y="5341680"/>
                  <a:ext cx="349200" cy="60120"/>
                </a:xfrm>
                <a:custGeom>
                  <a:avLst/>
                  <a:gdLst/>
                  <a:ahLst/>
                  <a:rect l="l" t="t" r="r" b="b"/>
                  <a:pathLst>
                    <a:path w="216" h="38">
                      <a:moveTo>
                        <a:pt x="195" y="3"/>
                      </a:moveTo>
                      <a:cubicBezTo>
                        <a:pt x="216" y="9"/>
                        <a:pt x="169" y="31"/>
                        <a:pt x="148" y="35"/>
                      </a:cubicBezTo>
                      <a:cubicBezTo>
                        <a:pt x="123" y="38"/>
                        <a:pt x="89" y="35"/>
                        <a:pt x="68" y="29"/>
                      </a:cubicBezTo>
                      <a:cubicBezTo>
                        <a:pt x="47" y="23"/>
                        <a:pt x="0" y="4"/>
                        <a:pt x="21" y="0"/>
                      </a:cubicBezTo>
                      <a:lnTo>
                        <a:pt x="195" y="3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8" name=""/>
                <p:cNvSpPr/>
                <p:nvPr/>
              </p:nvSpPr>
              <p:spPr>
                <a:xfrm flipH="1" flipV="1">
                  <a:off x="6619320" y="5341680"/>
                  <a:ext cx="349560" cy="60120"/>
                </a:xfrm>
                <a:custGeom>
                  <a:avLst/>
                  <a:gdLst/>
                  <a:ahLst/>
                  <a:rect l="l" t="t" r="r" b="b"/>
                  <a:pathLst>
                    <a:path w="216" h="38">
                      <a:moveTo>
                        <a:pt x="195" y="3"/>
                      </a:moveTo>
                      <a:cubicBezTo>
                        <a:pt x="216" y="9"/>
                        <a:pt x="169" y="31"/>
                        <a:pt x="148" y="35"/>
                      </a:cubicBezTo>
                      <a:cubicBezTo>
                        <a:pt x="123" y="38"/>
                        <a:pt x="89" y="35"/>
                        <a:pt x="68" y="29"/>
                      </a:cubicBezTo>
                      <a:cubicBezTo>
                        <a:pt x="47" y="23"/>
                        <a:pt x="0" y="4"/>
                        <a:pt x="21" y="0"/>
                      </a:cubicBezTo>
                      <a:lnTo>
                        <a:pt x="195" y="3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9" name=""/>
                <p:cNvSpPr/>
                <p:nvPr/>
              </p:nvSpPr>
              <p:spPr>
                <a:xfrm flipH="1" flipV="1">
                  <a:off x="6986520" y="5368680"/>
                  <a:ext cx="2379240" cy="1130040"/>
                </a:xfrm>
                <a:custGeom>
                  <a:avLst/>
                  <a:gdLst/>
                  <a:ahLst/>
                  <a:rect l="l" t="t" r="r" b="b"/>
                  <a:pathLst>
                    <a:path w="1471" h="712">
                      <a:moveTo>
                        <a:pt x="1337" y="647"/>
                      </a:moveTo>
                      <a:cubicBezTo>
                        <a:pt x="1239" y="603"/>
                        <a:pt x="1013" y="461"/>
                        <a:pt x="871" y="396"/>
                      </a:cubicBezTo>
                      <a:cubicBezTo>
                        <a:pt x="729" y="331"/>
                        <a:pt x="596" y="304"/>
                        <a:pt x="483" y="257"/>
                      </a:cubicBezTo>
                      <a:cubicBezTo>
                        <a:pt x="370" y="210"/>
                        <a:pt x="262" y="150"/>
                        <a:pt x="191" y="114"/>
                      </a:cubicBezTo>
                      <a:cubicBezTo>
                        <a:pt x="120" y="78"/>
                        <a:pt x="90" y="0"/>
                        <a:pt x="58" y="40"/>
                      </a:cubicBezTo>
                      <a:cubicBezTo>
                        <a:pt x="47" y="247"/>
                        <a:pt x="17" y="215"/>
                        <a:pt x="0" y="353"/>
                      </a:cubicBezTo>
                      <a:cubicBezTo>
                        <a:pt x="157" y="379"/>
                        <a:pt x="319" y="428"/>
                        <a:pt x="488" y="475"/>
                      </a:cubicBezTo>
                      <a:cubicBezTo>
                        <a:pt x="657" y="522"/>
                        <a:pt x="871" y="597"/>
                        <a:pt x="1014" y="634"/>
                      </a:cubicBezTo>
                      <a:cubicBezTo>
                        <a:pt x="1157" y="671"/>
                        <a:pt x="1275" y="683"/>
                        <a:pt x="1348" y="695"/>
                      </a:cubicBezTo>
                      <a:cubicBezTo>
                        <a:pt x="1421" y="707"/>
                        <a:pt x="1439" y="712"/>
                        <a:pt x="1455" y="709"/>
                      </a:cubicBezTo>
                      <a:cubicBezTo>
                        <a:pt x="1471" y="706"/>
                        <a:pt x="1464" y="687"/>
                        <a:pt x="1444" y="677"/>
                      </a:cubicBezTo>
                      <a:cubicBezTo>
                        <a:pt x="1424" y="667"/>
                        <a:pt x="1359" y="653"/>
                        <a:pt x="1337" y="647"/>
                      </a:cubicBezTo>
                      <a:close/>
                    </a:path>
                  </a:pathLst>
                </a:custGeom>
                <a:solidFill>
                  <a:srgbClr val="ff33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110" name=""/>
            <p:cNvSpPr/>
            <p:nvPr/>
          </p:nvSpPr>
          <p:spPr>
            <a:xfrm flipH="1">
              <a:off x="220320" y="4286160"/>
              <a:ext cx="1200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arteriol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 flipH="1">
              <a:off x="7773480" y="4397400"/>
              <a:ext cx="994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venul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 flipH="1">
              <a:off x="4551840" y="4387680"/>
              <a:ext cx="1165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kapilár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 flipV="1">
              <a:off x="3776760" y="2139480"/>
              <a:ext cx="0" cy="1500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 flipV="1">
              <a:off x="4064040" y="2224080"/>
              <a:ext cx="0" cy="1409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 flipV="1">
              <a:off x="4351320" y="2292480"/>
              <a:ext cx="0" cy="134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 flipV="1">
              <a:off x="4638600" y="2376000"/>
              <a:ext cx="0" cy="126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 flipV="1">
              <a:off x="4925880" y="2435400"/>
              <a:ext cx="0" cy="118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 flipV="1">
              <a:off x="5213520" y="2512800"/>
              <a:ext cx="0" cy="1104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 flipV="1">
              <a:off x="5500800" y="2553840"/>
              <a:ext cx="0" cy="1071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 flipV="1">
              <a:off x="5788080" y="2612880"/>
              <a:ext cx="0" cy="100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 flipV="1">
              <a:off x="6075360" y="2680920"/>
              <a:ext cx="0" cy="96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 flipV="1">
              <a:off x="6362640" y="2765520"/>
              <a:ext cx="0" cy="877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 flipV="1">
              <a:off x="6649920" y="2833200"/>
              <a:ext cx="0" cy="79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 flipV="1">
              <a:off x="6937200" y="2952360"/>
              <a:ext cx="0" cy="69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 flipV="1">
              <a:off x="5594400" y="2749680"/>
              <a:ext cx="0" cy="877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 flipV="1">
              <a:off x="5899320" y="2742840"/>
              <a:ext cx="0" cy="878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 flipV="1">
              <a:off x="6145200" y="2769840"/>
              <a:ext cx="0" cy="878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 flipV="1">
              <a:off x="6443640" y="2755440"/>
              <a:ext cx="0" cy="878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 flipV="1">
              <a:off x="6723000" y="2731680"/>
              <a:ext cx="0" cy="878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 flipV="1">
              <a:off x="7018200" y="2727360"/>
              <a:ext cx="0" cy="877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 flipV="1">
              <a:off x="5300640" y="2760840"/>
              <a:ext cx="0" cy="877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 flipV="1">
              <a:off x="4998960" y="2742840"/>
              <a:ext cx="0" cy="878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 flipV="1">
              <a:off x="4722840" y="2742840"/>
              <a:ext cx="0" cy="878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 flipV="1">
              <a:off x="4421160" y="2766600"/>
              <a:ext cx="0" cy="878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 flipV="1">
              <a:off x="4152960" y="2749680"/>
              <a:ext cx="0" cy="877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 flipV="1">
              <a:off x="3868560" y="2747520"/>
              <a:ext cx="0" cy="878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 flipV="1">
              <a:off x="3524400" y="1606680"/>
              <a:ext cx="0" cy="2039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 flipV="1">
              <a:off x="3271680" y="1073160"/>
              <a:ext cx="0" cy="257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 flipV="1">
              <a:off x="3019320" y="539640"/>
              <a:ext cx="0" cy="3106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 flipV="1">
              <a:off x="2766960" y="-360"/>
              <a:ext cx="0" cy="3639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 flipH="1" flipV="1">
              <a:off x="3774600" y="2131920"/>
              <a:ext cx="3489480" cy="868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 flipH="1" flipV="1">
              <a:off x="2824200" y="-360"/>
              <a:ext cx="952560" cy="214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 flipV="1">
              <a:off x="3700440" y="2712600"/>
              <a:ext cx="5159520" cy="50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 flipV="1">
              <a:off x="4199040" y="1846440"/>
              <a:ext cx="0" cy="7840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 flipH="1" flipV="1">
              <a:off x="6886080" y="2538000"/>
              <a:ext cx="1800" cy="328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7007040" y="2463840"/>
              <a:ext cx="2143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400" spc="-1" strike="noStrike">
                  <a:solidFill>
                    <a:srgbClr val="000000"/>
                  </a:solidFill>
                  <a:latin typeface="Times New Roman"/>
                </a:rPr>
                <a:t>Gradient onkotických tlaků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 rot="3949800">
              <a:off x="2307240" y="934560"/>
              <a:ext cx="2402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400" spc="-1" strike="noStrike">
                  <a:solidFill>
                    <a:srgbClr val="000000"/>
                  </a:solidFill>
                  <a:latin typeface="Times New Roman"/>
                </a:rPr>
                <a:t>Gradient hydrostatických tlaků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1497960" y="3932280"/>
              <a:ext cx="10569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400" spc="-1" strike="noStrike">
                  <a:solidFill>
                    <a:srgbClr val="000000"/>
                  </a:solidFill>
                  <a:latin typeface="Times New Roman"/>
                </a:rPr>
                <a:t>Prekapilární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400" spc="-1" strike="noStrike">
                  <a:solidFill>
                    <a:srgbClr val="000000"/>
                  </a:solidFill>
                  <a:latin typeface="Times New Roman"/>
                </a:rPr>
                <a:t>sfinkt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3960720" y="4964040"/>
              <a:ext cx="7488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4113360" y="511668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4265640" y="526896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4410000" y="558972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4189320" y="5006880"/>
              <a:ext cx="74880" cy="74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3886200" y="457668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3878280" y="410544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4089240" y="4340160"/>
              <a:ext cx="7488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4494240" y="456876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4570560" y="445932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4646520" y="4349880"/>
              <a:ext cx="7488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4722840" y="4240080"/>
              <a:ext cx="74520" cy="74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4908600" y="429912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5094360" y="435780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5313240" y="4197240"/>
              <a:ext cx="74880" cy="74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5532480" y="403704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5751360" y="3876840"/>
              <a:ext cx="7488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5851440" y="433080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5951520" y="478476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6078600" y="473544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6164280" y="460224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6332400" y="4695840"/>
              <a:ext cx="7488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6240600" y="424188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6586560" y="4538520"/>
              <a:ext cx="74520" cy="74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5724360" y="4727520"/>
              <a:ext cx="7488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5370480" y="471960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5083200" y="484668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4662360" y="4846680"/>
              <a:ext cx="7488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5818320" y="491976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5962680" y="4910040"/>
              <a:ext cx="74520" cy="74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5551560" y="5189400"/>
              <a:ext cx="74520" cy="74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5878440" y="502128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5929200" y="5165640"/>
              <a:ext cx="7488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6064200" y="508176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6199200" y="499752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6334200" y="491328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6469200" y="4829040"/>
              <a:ext cx="74520" cy="74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6662880" y="484668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6216480" y="5234040"/>
              <a:ext cx="7488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6181560" y="4854600"/>
              <a:ext cx="7488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6392880" y="439416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5877000" y="4627440"/>
              <a:ext cx="74520" cy="74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6459480" y="459432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5961240" y="444492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5734080" y="449748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5624640" y="4221000"/>
              <a:ext cx="74520" cy="74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6205680" y="4433760"/>
              <a:ext cx="74520" cy="74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7429680" y="477360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6392880" y="439416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6738840" y="4691160"/>
              <a:ext cx="7488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6486480" y="5065560"/>
              <a:ext cx="74520" cy="74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6621480" y="498168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6637320" y="4302000"/>
              <a:ext cx="74520" cy="74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7689960" y="441000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7294680" y="4941720"/>
              <a:ext cx="74520" cy="74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6773760" y="4116240"/>
              <a:ext cx="74880" cy="74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6891480" y="484344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6638760" y="5218200"/>
              <a:ext cx="7488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6773760" y="5133960"/>
              <a:ext cx="7488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6891480" y="450540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7142040" y="4764240"/>
              <a:ext cx="7488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7321680" y="511812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7010280" y="4243320"/>
              <a:ext cx="7488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7043760" y="4995720"/>
              <a:ext cx="74520" cy="74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6791400" y="537048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6926400" y="5286240"/>
              <a:ext cx="74520" cy="74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7364520" y="427032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7362720" y="4562640"/>
              <a:ext cx="7488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4241880" y="449280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4394160" y="464508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4038480" y="4729320"/>
              <a:ext cx="7488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3895560" y="4433760"/>
              <a:ext cx="74880" cy="74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4048200" y="458640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4200480" y="473868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4352760" y="4890960"/>
              <a:ext cx="74880" cy="74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4505400" y="504360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4259160" y="4156200"/>
              <a:ext cx="7488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4395960" y="4259160"/>
              <a:ext cx="74520" cy="74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4583160" y="408456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4657680" y="519588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4815000" y="499896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4967280" y="515160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6126120" y="5754600"/>
              <a:ext cx="74520" cy="74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5119560" y="5303880"/>
              <a:ext cx="7488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5235480" y="4998960"/>
              <a:ext cx="7488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5549760" y="4991040"/>
              <a:ext cx="7488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2673360" y="453564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1603440" y="478944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533520" y="504360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1216080" y="491976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1754280" y="483876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1704960" y="451008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1957320" y="460224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2109960" y="475452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2262240" y="4906800"/>
              <a:ext cx="74520" cy="74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1906560" y="499104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1763640" y="469584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1916280" y="4848120"/>
              <a:ext cx="74520" cy="74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2068560" y="500076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2220840" y="515304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2127240" y="4417920"/>
              <a:ext cx="74520" cy="74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2263680" y="4521240"/>
              <a:ext cx="7488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8319960" y="5319720"/>
              <a:ext cx="7488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8177040" y="5024520"/>
              <a:ext cx="7488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8523360" y="508320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8675640" y="5235480"/>
              <a:ext cx="74520" cy="74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8827920" y="5388120"/>
              <a:ext cx="7488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8472600" y="5472000"/>
              <a:ext cx="74520" cy="74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8329680" y="517680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8481960" y="5329080"/>
              <a:ext cx="74520" cy="74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8634240" y="5481720"/>
              <a:ext cx="7488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8786880" y="563400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8693280" y="4898880"/>
              <a:ext cx="74520" cy="74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8829720" y="500220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7613640" y="431640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7656480" y="523404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7183440" y="514980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8947080" y="424980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8591400" y="4334040"/>
              <a:ext cx="7488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8877240" y="4713120"/>
              <a:ext cx="74520" cy="74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8753400" y="434340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8906040" y="4495680"/>
              <a:ext cx="74520" cy="74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8812080" y="3760920"/>
              <a:ext cx="7488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8948880" y="3863880"/>
              <a:ext cx="74520" cy="74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1081080" y="4240080"/>
              <a:ext cx="74520" cy="74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938160" y="394488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1284120" y="4003560"/>
              <a:ext cx="74880" cy="74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1436760" y="415620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1589040" y="430848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1233360" y="4392720"/>
              <a:ext cx="7488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1090440" y="4097160"/>
              <a:ext cx="74880" cy="74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1243080" y="424980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1395360" y="440208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1547640" y="4554360"/>
              <a:ext cx="74880" cy="74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1454040" y="3819600"/>
              <a:ext cx="7488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1590840" y="3922560"/>
              <a:ext cx="74520" cy="74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1908000" y="5094360"/>
              <a:ext cx="7488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2058840" y="5143680"/>
              <a:ext cx="7488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2414520" y="505944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1790640" y="520380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2211480" y="529596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2220840" y="515304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2500200" y="4791240"/>
              <a:ext cx="7488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2695680" y="471492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3137040" y="469260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3263760" y="4643280"/>
              <a:ext cx="74880" cy="74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3349800" y="451008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3517920" y="460368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3425760" y="414972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3772080" y="444672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3147840" y="4818240"/>
              <a:ext cx="7488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3519360" y="4821120"/>
              <a:ext cx="74880" cy="74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3654360" y="473724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3789360" y="465300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3367080" y="476244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3578400" y="4302000"/>
              <a:ext cx="74520" cy="74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3645000" y="450216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3146400" y="4352760"/>
              <a:ext cx="74520" cy="74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3390840" y="434196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3578400" y="4302000"/>
              <a:ext cx="74520" cy="74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3822840" y="421020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642960" y="526572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770040" y="5216400"/>
              <a:ext cx="74520" cy="74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855720" y="508320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1023840" y="5176800"/>
              <a:ext cx="7488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932040" y="472284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1278000" y="501984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654120" y="5391000"/>
              <a:ext cx="74520" cy="74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1025640" y="539424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1160640" y="531036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1295280" y="5226120"/>
              <a:ext cx="7488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873000" y="5335560"/>
              <a:ext cx="7488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1084320" y="4875120"/>
              <a:ext cx="74520" cy="74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1150920" y="507528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652320" y="4925880"/>
              <a:ext cx="74880" cy="74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896760" y="4915080"/>
              <a:ext cx="7488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1084320" y="4875120"/>
              <a:ext cx="74520" cy="74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1328760" y="4782960"/>
              <a:ext cx="74520" cy="74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152280" y="4321080"/>
              <a:ext cx="74880" cy="74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279360" y="427212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365040" y="413856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533520" y="4232160"/>
              <a:ext cx="74520" cy="74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441360" y="377820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787320" y="407520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163440" y="444672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527040" y="435780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669960" y="436572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804960" y="428148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382680" y="4390920"/>
              <a:ext cx="74520" cy="74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593640" y="3930480"/>
              <a:ext cx="74520" cy="74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660240" y="4130640"/>
              <a:ext cx="7488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162000" y="398160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406440" y="397044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593640" y="3930480"/>
              <a:ext cx="74520" cy="74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838080" y="3838680"/>
              <a:ext cx="7488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1089000" y="469584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1251000" y="4705200"/>
              <a:ext cx="74520" cy="74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1090440" y="4799160"/>
              <a:ext cx="7488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460440" y="4724280"/>
              <a:ext cx="74520" cy="74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628560" y="5057640"/>
              <a:ext cx="74880" cy="74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790560" y="506736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630360" y="516096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0" y="508644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2252520" y="4621320"/>
              <a:ext cx="7488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2414520" y="463068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2254320" y="4724280"/>
              <a:ext cx="74520" cy="74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1623960" y="464976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1906560" y="499104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1368360" y="507204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1521000" y="5224320"/>
              <a:ext cx="74520" cy="74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1481040" y="4935600"/>
              <a:ext cx="7488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1633680" y="508788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155520" y="5297400"/>
              <a:ext cx="74520" cy="74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7902720" y="490068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7734240" y="507852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7886880" y="523080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8039160" y="5383080"/>
              <a:ext cx="74520" cy="74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7343640" y="3962520"/>
              <a:ext cx="7488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7513560" y="435132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7785000" y="4400640"/>
              <a:ext cx="7488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7574040" y="404964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7640640" y="424980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7574040" y="404964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7920000" y="434664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8323200" y="441972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7197840" y="4329000"/>
              <a:ext cx="74520" cy="74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6369120" y="538632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5956200" y="6381720"/>
              <a:ext cx="7488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8207280" y="1562040"/>
              <a:ext cx="7488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5386320" y="586908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6978600" y="599616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6535800" y="409104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6831000" y="394020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7194600" y="342756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7143840" y="218916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7104240" y="186228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8469360" y="80964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7773840" y="590400"/>
              <a:ext cx="74880" cy="74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8389800" y="665280"/>
              <a:ext cx="7488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8167680" y="75420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 flipH="1" rot="17793600">
              <a:off x="7784640" y="6091200"/>
              <a:ext cx="336600" cy="1197000"/>
            </a:xfrm>
            <a:prstGeom prst="can">
              <a:avLst>
                <a:gd name="adj" fmla="val 25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7469280" y="646740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6939000" y="6289560"/>
              <a:ext cx="74520" cy="74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7404120" y="6375240"/>
              <a:ext cx="74520" cy="74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7238880" y="0"/>
              <a:ext cx="152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400" spc="-1" strike="noStrike">
                  <a:solidFill>
                    <a:srgbClr val="000000"/>
                  </a:solidFill>
                  <a:latin typeface="Times New Roman"/>
                </a:rPr>
                <a:t>Lymfatická drenáž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5941800" y="6553080"/>
              <a:ext cx="152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400" spc="-1" strike="noStrike">
                  <a:solidFill>
                    <a:srgbClr val="000000"/>
                  </a:solidFill>
                  <a:latin typeface="Times New Roman"/>
                </a:rPr>
                <a:t>Lymfatická drenáž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4853160" y="5442120"/>
              <a:ext cx="871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400" spc="-1" strike="noStrike">
                  <a:solidFill>
                    <a:srgbClr val="000000"/>
                  </a:solidFill>
                  <a:latin typeface="Times New Roman"/>
                </a:rPr>
                <a:t>bílkovin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8276040" y="1143000"/>
              <a:ext cx="871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400" spc="-1" strike="noStrike">
                  <a:solidFill>
                    <a:srgbClr val="000000"/>
                  </a:solidFill>
                  <a:latin typeface="Times New Roman"/>
                </a:rPr>
                <a:t>bílkovin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 flipH="1" flipV="1">
              <a:off x="8259480" y="860400"/>
              <a:ext cx="261720" cy="30960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 flipH="1">
              <a:off x="8319600" y="1400040"/>
              <a:ext cx="227160" cy="15264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 flipV="1">
              <a:off x="5419800" y="4992840"/>
              <a:ext cx="17280" cy="51264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5618160" y="490068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 flipH="1" flipV="1">
              <a:off x="5311800" y="5118120"/>
              <a:ext cx="100080" cy="30312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 flipV="1">
              <a:off x="5430960" y="5091120"/>
              <a:ext cx="134640" cy="2872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5408640" y="488628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5641920" y="5614920"/>
              <a:ext cx="471600" cy="1684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 flipH="1">
              <a:off x="891720" y="928800"/>
              <a:ext cx="17276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Intersticiální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tekutin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3672000" y="497376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3824280" y="512604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3807000" y="488952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3484440" y="5041800"/>
              <a:ext cx="74880" cy="74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7221600" y="405144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8055000" y="505296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7566120" y="482436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7550280" y="509436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7534440" y="5364000"/>
              <a:ext cx="74520" cy="74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7473960" y="4933800"/>
              <a:ext cx="74520" cy="74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7802640" y="4925880"/>
              <a:ext cx="74520" cy="74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7667640" y="463068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7128000" y="457992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 flipH="1">
              <a:off x="4530240" y="622440"/>
              <a:ext cx="16329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Hromadění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filtrát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v interstici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4181400" y="1189080"/>
              <a:ext cx="463680" cy="431640"/>
            </a:xfrm>
            <a:custGeom>
              <a:avLst/>
              <a:gdLst/>
              <a:ahLst/>
              <a:rect l="l" t="t" r="r" b="b"/>
              <a:pathLst>
                <a:path w="292" h="350">
                  <a:moveTo>
                    <a:pt x="0" y="350"/>
                  </a:moveTo>
                  <a:cubicBezTo>
                    <a:pt x="11" y="302"/>
                    <a:pt x="9" y="121"/>
                    <a:pt x="58" y="63"/>
                  </a:cubicBezTo>
                  <a:cubicBezTo>
                    <a:pt x="107" y="5"/>
                    <a:pt x="243" y="13"/>
                    <a:pt x="292" y="0"/>
                  </a:cubicBezTo>
                </a:path>
              </a:pathLst>
            </a:custGeom>
            <a:noFill/>
            <a:ln w="7632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6010200" y="1077840"/>
              <a:ext cx="916200" cy="1308240"/>
            </a:xfrm>
            <a:custGeom>
              <a:avLst/>
              <a:gdLst/>
              <a:ahLst/>
              <a:rect l="l" t="t" r="r" b="b"/>
              <a:pathLst>
                <a:path w="577" h="946">
                  <a:moveTo>
                    <a:pt x="0" y="54"/>
                  </a:moveTo>
                  <a:cubicBezTo>
                    <a:pt x="80" y="70"/>
                    <a:pt x="389" y="0"/>
                    <a:pt x="483" y="149"/>
                  </a:cubicBezTo>
                  <a:cubicBezTo>
                    <a:pt x="577" y="298"/>
                    <a:pt x="546" y="780"/>
                    <a:pt x="563" y="946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7219080" y="2674800"/>
              <a:ext cx="15022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Zvýšení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 </a:t>
              </a:r>
              <a:r>
                <a:rPr b="1" lang="cs-CZ" sz="1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hydrostatického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gradient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7941600" y="3646440"/>
              <a:ext cx="12049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400" spc="-1" strike="noStrike">
                  <a:solidFill>
                    <a:srgbClr val="000000"/>
                  </a:solidFill>
                  <a:latin typeface="Times New Roman"/>
                </a:rPr>
                <a:t>Městnání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400" spc="-1" strike="noStrike">
                  <a:solidFill>
                    <a:srgbClr val="000000"/>
                  </a:solidFill>
                  <a:latin typeface="Times New Roman"/>
                </a:rPr>
                <a:t>při kardiální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400" spc="-1" strike="noStrike">
                  <a:solidFill>
                    <a:srgbClr val="000000"/>
                  </a:solidFill>
                  <a:latin typeface="Times New Roman"/>
                </a:rPr>
                <a:t>insuficienc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 flipH="1" flipV="1">
              <a:off x="7635960" y="3411000"/>
              <a:ext cx="317520" cy="61596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25" name=""/>
            <p:cNvGrpSpPr/>
            <p:nvPr/>
          </p:nvGrpSpPr>
          <p:grpSpPr>
            <a:xfrm>
              <a:off x="-358920" y="0"/>
              <a:ext cx="9866160" cy="7175520"/>
              <a:chOff x="-358920" y="0"/>
              <a:chExt cx="9866160" cy="7175520"/>
            </a:xfrm>
          </p:grpSpPr>
          <p:sp>
            <p:nvSpPr>
              <p:cNvPr id="1426" name=""/>
              <p:cNvSpPr/>
              <p:nvPr/>
            </p:nvSpPr>
            <p:spPr>
              <a:xfrm>
                <a:off x="9142200" y="0"/>
                <a:ext cx="357120" cy="6858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7" name=""/>
              <p:cNvSpPr/>
              <p:nvPr/>
            </p:nvSpPr>
            <p:spPr>
              <a:xfrm>
                <a:off x="-358920" y="0"/>
                <a:ext cx="357120" cy="6980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8" name=""/>
              <p:cNvSpPr/>
              <p:nvPr/>
            </p:nvSpPr>
            <p:spPr>
              <a:xfrm>
                <a:off x="-358920" y="6858000"/>
                <a:ext cx="9866160" cy="317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66" name=""/>
          <p:cNvGrpSpPr/>
          <p:nvPr/>
        </p:nvGrpSpPr>
        <p:grpSpPr>
          <a:xfrm>
            <a:off x="0" y="98280"/>
            <a:ext cx="9217080" cy="6772320"/>
            <a:chOff x="0" y="98280"/>
            <a:chExt cx="9217080" cy="6772320"/>
          </a:xfrm>
        </p:grpSpPr>
        <p:sp>
          <p:nvSpPr>
            <p:cNvPr id="12567" name=""/>
            <p:cNvSpPr/>
            <p:nvPr/>
          </p:nvSpPr>
          <p:spPr>
            <a:xfrm>
              <a:off x="5410080" y="1173240"/>
              <a:ext cx="1114560" cy="865080"/>
            </a:xfrm>
            <a:prstGeom prst="rect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8" name=""/>
            <p:cNvSpPr/>
            <p:nvPr/>
          </p:nvSpPr>
          <p:spPr>
            <a:xfrm>
              <a:off x="2981160" y="2251080"/>
              <a:ext cx="1149480" cy="857160"/>
            </a:xfrm>
            <a:prstGeom prst="rect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9" name=""/>
            <p:cNvSpPr/>
            <p:nvPr/>
          </p:nvSpPr>
          <p:spPr>
            <a:xfrm>
              <a:off x="880920" y="1247760"/>
              <a:ext cx="930240" cy="857160"/>
            </a:xfrm>
            <a:prstGeom prst="rect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0" name=""/>
            <p:cNvSpPr/>
            <p:nvPr/>
          </p:nvSpPr>
          <p:spPr>
            <a:xfrm>
              <a:off x="5403960" y="3157560"/>
              <a:ext cx="568080" cy="72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1" name=""/>
            <p:cNvSpPr/>
            <p:nvPr/>
          </p:nvSpPr>
          <p:spPr>
            <a:xfrm>
              <a:off x="5400720" y="3365640"/>
              <a:ext cx="587160" cy="699840"/>
            </a:xfrm>
            <a:prstGeom prst="rect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2" name=""/>
            <p:cNvSpPr/>
            <p:nvPr/>
          </p:nvSpPr>
          <p:spPr>
            <a:xfrm>
              <a:off x="5398920" y="3449520"/>
              <a:ext cx="579600" cy="63972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3" name=""/>
            <p:cNvSpPr/>
            <p:nvPr/>
          </p:nvSpPr>
          <p:spPr>
            <a:xfrm>
              <a:off x="7724880" y="4129200"/>
              <a:ext cx="1104840" cy="857160"/>
            </a:xfrm>
            <a:prstGeom prst="rect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4" name=""/>
            <p:cNvSpPr/>
            <p:nvPr/>
          </p:nvSpPr>
          <p:spPr>
            <a:xfrm>
              <a:off x="7723080" y="4322880"/>
              <a:ext cx="1111320" cy="78264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5" name=""/>
            <p:cNvSpPr/>
            <p:nvPr/>
          </p:nvSpPr>
          <p:spPr>
            <a:xfrm>
              <a:off x="5389560" y="5322960"/>
              <a:ext cx="1111320" cy="766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6" name=""/>
            <p:cNvSpPr/>
            <p:nvPr/>
          </p:nvSpPr>
          <p:spPr>
            <a:xfrm>
              <a:off x="5388120" y="5473800"/>
              <a:ext cx="1110960" cy="62388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7" name=""/>
            <p:cNvSpPr/>
            <p:nvPr/>
          </p:nvSpPr>
          <p:spPr>
            <a:xfrm>
              <a:off x="5413320" y="1333440"/>
              <a:ext cx="1111320" cy="75888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8" name=""/>
            <p:cNvSpPr/>
            <p:nvPr/>
          </p:nvSpPr>
          <p:spPr>
            <a:xfrm>
              <a:off x="2984400" y="2428920"/>
              <a:ext cx="1144800" cy="70812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9" name=""/>
            <p:cNvSpPr/>
            <p:nvPr/>
          </p:nvSpPr>
          <p:spPr>
            <a:xfrm>
              <a:off x="884160" y="1409760"/>
              <a:ext cx="927000" cy="70632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0" name=""/>
            <p:cNvSpPr/>
            <p:nvPr/>
          </p:nvSpPr>
          <p:spPr>
            <a:xfrm>
              <a:off x="5526000" y="3592440"/>
              <a:ext cx="9720" cy="293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1" name=""/>
            <p:cNvSpPr/>
            <p:nvPr/>
          </p:nvSpPr>
          <p:spPr>
            <a:xfrm>
              <a:off x="1046880" y="1555920"/>
              <a:ext cx="736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Arial"/>
                </a:rPr>
                <a:t>CO</a:t>
              </a:r>
              <a:r>
                <a:rPr b="1" lang="cs-CZ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2" name=""/>
            <p:cNvSpPr/>
            <p:nvPr/>
          </p:nvSpPr>
          <p:spPr>
            <a:xfrm>
              <a:off x="1029240" y="3576600"/>
              <a:ext cx="736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cs-CZ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cs-CZ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3" name=""/>
            <p:cNvSpPr/>
            <p:nvPr/>
          </p:nvSpPr>
          <p:spPr>
            <a:xfrm>
              <a:off x="3143160" y="2589120"/>
              <a:ext cx="1055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cs-CZ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cs-CZ" sz="2400" spc="-1" strike="noStrike">
                  <a:solidFill>
                    <a:srgbClr val="000000"/>
                  </a:solidFill>
                  <a:latin typeface="Arial"/>
                </a:rPr>
                <a:t>CO</a:t>
              </a:r>
              <a:r>
                <a:rPr b="1" lang="cs-CZ" sz="2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4" name=""/>
            <p:cNvSpPr/>
            <p:nvPr/>
          </p:nvSpPr>
          <p:spPr>
            <a:xfrm>
              <a:off x="5581080" y="1530360"/>
              <a:ext cx="956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Arial"/>
                </a:rPr>
                <a:t>HCO</a:t>
              </a:r>
              <a:r>
                <a:rPr b="1" lang="cs-CZ" sz="2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5" name=""/>
            <p:cNvSpPr/>
            <p:nvPr/>
          </p:nvSpPr>
          <p:spPr>
            <a:xfrm>
              <a:off x="5540400" y="3516480"/>
              <a:ext cx="52380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cs-CZ" sz="2400" spc="-1" strike="noStrike" baseline="7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6" name=""/>
            <p:cNvSpPr/>
            <p:nvPr/>
          </p:nvSpPr>
          <p:spPr>
            <a:xfrm>
              <a:off x="4240080" y="1779480"/>
              <a:ext cx="1155960" cy="1024200"/>
            </a:xfrm>
            <a:custGeom>
              <a:avLst/>
              <a:gdLst/>
              <a:ahLst/>
              <a:rect l="l" t="t" r="r" b="b"/>
              <a:pathLst>
                <a:path w="728" h="645">
                  <a:moveTo>
                    <a:pt x="0" y="642"/>
                  </a:moveTo>
                  <a:lnTo>
                    <a:pt x="351" y="645"/>
                  </a:lnTo>
                  <a:cubicBezTo>
                    <a:pt x="420" y="628"/>
                    <a:pt x="405" y="630"/>
                    <a:pt x="416" y="538"/>
                  </a:cubicBezTo>
                  <a:lnTo>
                    <a:pt x="416" y="91"/>
                  </a:lnTo>
                  <a:cubicBezTo>
                    <a:pt x="429" y="1"/>
                    <a:pt x="445" y="15"/>
                    <a:pt x="497" y="0"/>
                  </a:cubicBezTo>
                  <a:lnTo>
                    <a:pt x="728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7" name=""/>
            <p:cNvSpPr/>
            <p:nvPr/>
          </p:nvSpPr>
          <p:spPr>
            <a:xfrm>
              <a:off x="4146480" y="2795760"/>
              <a:ext cx="1249560" cy="1023840"/>
            </a:xfrm>
            <a:custGeom>
              <a:avLst/>
              <a:gdLst/>
              <a:ahLst/>
              <a:rect l="l" t="t" r="r" b="b"/>
              <a:pathLst>
                <a:path w="787" h="645">
                  <a:moveTo>
                    <a:pt x="0" y="2"/>
                  </a:moveTo>
                  <a:lnTo>
                    <a:pt x="410" y="0"/>
                  </a:lnTo>
                  <a:cubicBezTo>
                    <a:pt x="489" y="17"/>
                    <a:pt x="464" y="15"/>
                    <a:pt x="475" y="107"/>
                  </a:cubicBezTo>
                  <a:lnTo>
                    <a:pt x="475" y="554"/>
                  </a:lnTo>
                  <a:cubicBezTo>
                    <a:pt x="488" y="644"/>
                    <a:pt x="504" y="630"/>
                    <a:pt x="556" y="645"/>
                  </a:cubicBezTo>
                  <a:lnTo>
                    <a:pt x="787" y="645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588" name=""/>
            <p:cNvGrpSpPr/>
            <p:nvPr/>
          </p:nvGrpSpPr>
          <p:grpSpPr>
            <a:xfrm>
              <a:off x="1836720" y="1778040"/>
              <a:ext cx="1130400" cy="2038320"/>
              <a:chOff x="1836720" y="1778040"/>
              <a:chExt cx="1130400" cy="2038320"/>
            </a:xfrm>
          </p:grpSpPr>
          <p:sp>
            <p:nvSpPr>
              <p:cNvPr id="12589" name=""/>
              <p:cNvSpPr/>
              <p:nvPr/>
            </p:nvSpPr>
            <p:spPr>
              <a:xfrm flipH="1">
                <a:off x="1836720" y="1778040"/>
                <a:ext cx="1130400" cy="1023840"/>
              </a:xfrm>
              <a:custGeom>
                <a:avLst/>
                <a:gdLst/>
                <a:ahLst/>
                <a:rect l="l" t="t" r="r" b="b"/>
                <a:pathLst>
                  <a:path w="866" h="645">
                    <a:moveTo>
                      <a:pt x="0" y="645"/>
                    </a:moveTo>
                    <a:lnTo>
                      <a:pt x="442" y="645"/>
                    </a:lnTo>
                    <a:cubicBezTo>
                      <a:pt x="528" y="627"/>
                      <a:pt x="503" y="630"/>
                      <a:pt x="515" y="538"/>
                    </a:cubicBezTo>
                    <a:lnTo>
                      <a:pt x="515" y="91"/>
                    </a:lnTo>
                    <a:cubicBezTo>
                      <a:pt x="530" y="1"/>
                      <a:pt x="548" y="15"/>
                      <a:pt x="606" y="0"/>
                    </a:cubicBezTo>
                    <a:lnTo>
                      <a:pt x="866" y="0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90" name=""/>
              <p:cNvSpPr/>
              <p:nvPr/>
            </p:nvSpPr>
            <p:spPr>
              <a:xfrm flipH="1" flipV="1">
                <a:off x="1836720" y="2792520"/>
                <a:ext cx="1130400" cy="1023840"/>
              </a:xfrm>
              <a:custGeom>
                <a:avLst/>
                <a:gdLst/>
                <a:ahLst/>
                <a:rect l="l" t="t" r="r" b="b"/>
                <a:pathLst>
                  <a:path w="866" h="645">
                    <a:moveTo>
                      <a:pt x="0" y="645"/>
                    </a:moveTo>
                    <a:lnTo>
                      <a:pt x="442" y="645"/>
                    </a:lnTo>
                    <a:cubicBezTo>
                      <a:pt x="528" y="627"/>
                      <a:pt x="503" y="630"/>
                      <a:pt x="515" y="538"/>
                    </a:cubicBezTo>
                    <a:lnTo>
                      <a:pt x="515" y="91"/>
                    </a:lnTo>
                    <a:cubicBezTo>
                      <a:pt x="530" y="1"/>
                      <a:pt x="548" y="15"/>
                      <a:pt x="606" y="0"/>
                    </a:cubicBezTo>
                    <a:lnTo>
                      <a:pt x="866" y="0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aphicFrame>
          <p:nvGraphicFramePr>
            <p:cNvPr id="12591" name=""/>
            <p:cNvGraphicFramePr/>
            <p:nvPr/>
          </p:nvGraphicFramePr>
          <p:xfrm>
            <a:off x="325440" y="290520"/>
            <a:ext cx="1039680" cy="7732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259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25440" y="290520"/>
                      <a:ext cx="1039680" cy="773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93" name=""/>
            <p:cNvSpPr/>
            <p:nvPr/>
          </p:nvSpPr>
          <p:spPr>
            <a:xfrm flipH="1">
              <a:off x="167400" y="1484280"/>
              <a:ext cx="72396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4" name=""/>
            <p:cNvSpPr/>
            <p:nvPr/>
          </p:nvSpPr>
          <p:spPr>
            <a:xfrm>
              <a:off x="1751760" y="558720"/>
              <a:ext cx="184680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400" spc="-1" strike="noStrike">
                  <a:solidFill>
                    <a:srgbClr val="000000"/>
                  </a:solidFill>
                  <a:latin typeface="Times New Roman"/>
                </a:rPr>
                <a:t>1.</a:t>
              </a:r>
              <a:r>
                <a:rPr b="1" lang="cs-CZ" sz="1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 Primární porucha: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400" spc="-1" strike="noStrike">
                  <a:solidFill>
                    <a:srgbClr val="000000"/>
                  </a:solidFill>
                  <a:latin typeface="Times New Roman"/>
                </a:rPr>
                <a:t>retence CO</a:t>
              </a:r>
              <a:r>
                <a:rPr b="1" lang="cs-CZ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595" name=""/>
            <p:cNvGrpSpPr/>
            <p:nvPr/>
          </p:nvGrpSpPr>
          <p:grpSpPr>
            <a:xfrm>
              <a:off x="1346040" y="263520"/>
              <a:ext cx="560520" cy="917640"/>
              <a:chOff x="1346040" y="263520"/>
              <a:chExt cx="560520" cy="917640"/>
            </a:xfrm>
          </p:grpSpPr>
          <p:sp>
            <p:nvSpPr>
              <p:cNvPr id="12596" name=""/>
              <p:cNvSpPr/>
              <p:nvPr/>
            </p:nvSpPr>
            <p:spPr>
              <a:xfrm>
                <a:off x="1350720" y="333360"/>
                <a:ext cx="551160" cy="630360"/>
              </a:xfrm>
              <a:custGeom>
                <a:avLst/>
                <a:gdLst/>
                <a:ahLst/>
                <a:rect l="l" t="t" r="r" b="b"/>
                <a:pathLst>
                  <a:path w="2256" h="2295">
                    <a:moveTo>
                      <a:pt x="0" y="0"/>
                    </a:moveTo>
                    <a:lnTo>
                      <a:pt x="939" y="1180"/>
                    </a:lnTo>
                    <a:lnTo>
                      <a:pt x="980" y="2175"/>
                    </a:lnTo>
                    <a:lnTo>
                      <a:pt x="983" y="2202"/>
                    </a:lnTo>
                    <a:lnTo>
                      <a:pt x="991" y="2221"/>
                    </a:lnTo>
                    <a:lnTo>
                      <a:pt x="1000" y="2235"/>
                    </a:lnTo>
                    <a:lnTo>
                      <a:pt x="1010" y="2246"/>
                    </a:lnTo>
                    <a:lnTo>
                      <a:pt x="1024" y="2260"/>
                    </a:lnTo>
                    <a:lnTo>
                      <a:pt x="1038" y="2268"/>
                    </a:lnTo>
                    <a:lnTo>
                      <a:pt x="1060" y="2281"/>
                    </a:lnTo>
                    <a:lnTo>
                      <a:pt x="1083" y="2287"/>
                    </a:lnTo>
                    <a:lnTo>
                      <a:pt x="1111" y="2293"/>
                    </a:lnTo>
                    <a:lnTo>
                      <a:pt x="1128" y="2295"/>
                    </a:lnTo>
                    <a:lnTo>
                      <a:pt x="1145" y="2295"/>
                    </a:lnTo>
                    <a:lnTo>
                      <a:pt x="1163" y="2292"/>
                    </a:lnTo>
                    <a:lnTo>
                      <a:pt x="1183" y="2286"/>
                    </a:lnTo>
                    <a:lnTo>
                      <a:pt x="1202" y="2279"/>
                    </a:lnTo>
                    <a:lnTo>
                      <a:pt x="1221" y="2268"/>
                    </a:lnTo>
                    <a:lnTo>
                      <a:pt x="1235" y="2259"/>
                    </a:lnTo>
                    <a:lnTo>
                      <a:pt x="1251" y="2243"/>
                    </a:lnTo>
                    <a:lnTo>
                      <a:pt x="1262" y="2227"/>
                    </a:lnTo>
                    <a:lnTo>
                      <a:pt x="1273" y="2203"/>
                    </a:lnTo>
                    <a:lnTo>
                      <a:pt x="1276" y="2181"/>
                    </a:lnTo>
                    <a:lnTo>
                      <a:pt x="1336" y="1161"/>
                    </a:lnTo>
                    <a:lnTo>
                      <a:pt x="225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97" name=""/>
              <p:cNvSpPr/>
              <p:nvPr/>
            </p:nvSpPr>
            <p:spPr>
              <a:xfrm>
                <a:off x="1346040" y="263520"/>
                <a:ext cx="560520" cy="119160"/>
              </a:xfrm>
              <a:prstGeom prst="ellipse">
                <a:avLst/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98" name=""/>
              <p:cNvSpPr/>
              <p:nvPr/>
            </p:nvSpPr>
            <p:spPr>
              <a:xfrm>
                <a:off x="1390680" y="351000"/>
                <a:ext cx="476280" cy="593640"/>
              </a:xfrm>
              <a:custGeom>
                <a:avLst/>
                <a:gdLst/>
                <a:ahLst/>
                <a:rect l="l" t="t" r="r" b="b"/>
                <a:pathLst>
                  <a:path w="1956" h="2159">
                    <a:moveTo>
                      <a:pt x="0" y="19"/>
                    </a:moveTo>
                    <a:lnTo>
                      <a:pt x="857" y="1063"/>
                    </a:lnTo>
                    <a:lnTo>
                      <a:pt x="879" y="2090"/>
                    </a:lnTo>
                    <a:lnTo>
                      <a:pt x="887" y="2107"/>
                    </a:lnTo>
                    <a:lnTo>
                      <a:pt x="897" y="2123"/>
                    </a:lnTo>
                    <a:lnTo>
                      <a:pt x="906" y="2137"/>
                    </a:lnTo>
                    <a:lnTo>
                      <a:pt x="922" y="2147"/>
                    </a:lnTo>
                    <a:lnTo>
                      <a:pt x="939" y="2156"/>
                    </a:lnTo>
                    <a:lnTo>
                      <a:pt x="962" y="2159"/>
                    </a:lnTo>
                    <a:lnTo>
                      <a:pt x="983" y="2157"/>
                    </a:lnTo>
                    <a:lnTo>
                      <a:pt x="1005" y="2153"/>
                    </a:lnTo>
                    <a:lnTo>
                      <a:pt x="1026" y="2140"/>
                    </a:lnTo>
                    <a:lnTo>
                      <a:pt x="1040" y="2123"/>
                    </a:lnTo>
                    <a:lnTo>
                      <a:pt x="1048" y="2109"/>
                    </a:lnTo>
                    <a:lnTo>
                      <a:pt x="1056" y="2088"/>
                    </a:lnTo>
                    <a:lnTo>
                      <a:pt x="1100" y="1045"/>
                    </a:lnTo>
                    <a:lnTo>
                      <a:pt x="1956" y="0"/>
                    </a:lnTo>
                    <a:lnTo>
                      <a:pt x="1790" y="41"/>
                    </a:lnTo>
                    <a:lnTo>
                      <a:pt x="1531" y="77"/>
                    </a:lnTo>
                    <a:lnTo>
                      <a:pt x="1247" y="98"/>
                    </a:lnTo>
                    <a:lnTo>
                      <a:pt x="962" y="109"/>
                    </a:lnTo>
                    <a:lnTo>
                      <a:pt x="662" y="98"/>
                    </a:lnTo>
                    <a:lnTo>
                      <a:pt x="398" y="77"/>
                    </a:lnTo>
                    <a:lnTo>
                      <a:pt x="178" y="52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99" name=""/>
              <p:cNvSpPr/>
              <p:nvPr/>
            </p:nvSpPr>
            <p:spPr>
              <a:xfrm>
                <a:off x="1471320" y="471600"/>
                <a:ext cx="308160" cy="474840"/>
              </a:xfrm>
              <a:custGeom>
                <a:avLst/>
                <a:gdLst/>
                <a:ahLst/>
                <a:rect l="l" t="t" r="r" b="b"/>
                <a:pathLst>
                  <a:path w="1264" h="1728">
                    <a:moveTo>
                      <a:pt x="0" y="0"/>
                    </a:moveTo>
                    <a:lnTo>
                      <a:pt x="520" y="624"/>
                    </a:lnTo>
                    <a:lnTo>
                      <a:pt x="531" y="1657"/>
                    </a:lnTo>
                    <a:lnTo>
                      <a:pt x="541" y="1674"/>
                    </a:lnTo>
                    <a:lnTo>
                      <a:pt x="553" y="1688"/>
                    </a:lnTo>
                    <a:lnTo>
                      <a:pt x="564" y="1701"/>
                    </a:lnTo>
                    <a:lnTo>
                      <a:pt x="580" y="1715"/>
                    </a:lnTo>
                    <a:lnTo>
                      <a:pt x="608" y="1723"/>
                    </a:lnTo>
                    <a:lnTo>
                      <a:pt x="632" y="1728"/>
                    </a:lnTo>
                    <a:lnTo>
                      <a:pt x="651" y="1725"/>
                    </a:lnTo>
                    <a:lnTo>
                      <a:pt x="673" y="1720"/>
                    </a:lnTo>
                    <a:lnTo>
                      <a:pt x="694" y="1709"/>
                    </a:lnTo>
                    <a:lnTo>
                      <a:pt x="711" y="1692"/>
                    </a:lnTo>
                    <a:lnTo>
                      <a:pt x="723" y="1669"/>
                    </a:lnTo>
                    <a:lnTo>
                      <a:pt x="730" y="1657"/>
                    </a:lnTo>
                    <a:lnTo>
                      <a:pt x="761" y="605"/>
                    </a:lnTo>
                    <a:lnTo>
                      <a:pt x="126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00" name=""/>
              <p:cNvSpPr/>
              <p:nvPr/>
            </p:nvSpPr>
            <p:spPr>
              <a:xfrm>
                <a:off x="1601640" y="971640"/>
                <a:ext cx="49320" cy="101520"/>
              </a:xfrm>
              <a:custGeom>
                <a:avLst/>
                <a:gdLst/>
                <a:ahLst/>
                <a:rect l="l" t="t" r="r" b="b"/>
                <a:pathLst>
                  <a:path w="196" h="370">
                    <a:moveTo>
                      <a:pt x="95" y="0"/>
                    </a:moveTo>
                    <a:lnTo>
                      <a:pt x="105" y="58"/>
                    </a:lnTo>
                    <a:lnTo>
                      <a:pt x="111" y="87"/>
                    </a:lnTo>
                    <a:lnTo>
                      <a:pt x="121" y="121"/>
                    </a:lnTo>
                    <a:lnTo>
                      <a:pt x="132" y="141"/>
                    </a:lnTo>
                    <a:lnTo>
                      <a:pt x="147" y="166"/>
                    </a:lnTo>
                    <a:lnTo>
                      <a:pt x="167" y="193"/>
                    </a:lnTo>
                    <a:lnTo>
                      <a:pt x="184" y="220"/>
                    </a:lnTo>
                    <a:lnTo>
                      <a:pt x="192" y="245"/>
                    </a:lnTo>
                    <a:lnTo>
                      <a:pt x="196" y="278"/>
                    </a:lnTo>
                    <a:lnTo>
                      <a:pt x="189" y="307"/>
                    </a:lnTo>
                    <a:lnTo>
                      <a:pt x="178" y="328"/>
                    </a:lnTo>
                    <a:lnTo>
                      <a:pt x="162" y="345"/>
                    </a:lnTo>
                    <a:lnTo>
                      <a:pt x="141" y="361"/>
                    </a:lnTo>
                    <a:lnTo>
                      <a:pt x="121" y="367"/>
                    </a:lnTo>
                    <a:lnTo>
                      <a:pt x="99" y="370"/>
                    </a:lnTo>
                    <a:lnTo>
                      <a:pt x="76" y="367"/>
                    </a:lnTo>
                    <a:lnTo>
                      <a:pt x="54" y="362"/>
                    </a:lnTo>
                    <a:lnTo>
                      <a:pt x="34" y="350"/>
                    </a:lnTo>
                    <a:lnTo>
                      <a:pt x="19" y="334"/>
                    </a:lnTo>
                    <a:lnTo>
                      <a:pt x="8" y="315"/>
                    </a:lnTo>
                    <a:lnTo>
                      <a:pt x="3" y="296"/>
                    </a:lnTo>
                    <a:lnTo>
                      <a:pt x="0" y="272"/>
                    </a:lnTo>
                    <a:lnTo>
                      <a:pt x="5" y="240"/>
                    </a:lnTo>
                    <a:lnTo>
                      <a:pt x="13" y="218"/>
                    </a:lnTo>
                    <a:lnTo>
                      <a:pt x="30" y="190"/>
                    </a:lnTo>
                    <a:lnTo>
                      <a:pt x="49" y="166"/>
                    </a:lnTo>
                    <a:lnTo>
                      <a:pt x="62" y="140"/>
                    </a:lnTo>
                    <a:lnTo>
                      <a:pt x="72" y="119"/>
                    </a:lnTo>
                    <a:lnTo>
                      <a:pt x="81" y="90"/>
                    </a:lnTo>
                    <a:lnTo>
                      <a:pt x="86" y="58"/>
                    </a:lnTo>
                    <a:lnTo>
                      <a:pt x="95" y="0"/>
                    </a:lnTo>
                    <a:close/>
                  </a:path>
                </a:pathLst>
              </a:cu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01" name=""/>
              <p:cNvSpPr/>
              <p:nvPr/>
            </p:nvSpPr>
            <p:spPr>
              <a:xfrm>
                <a:off x="1374840" y="274680"/>
                <a:ext cx="502920" cy="96840"/>
              </a:xfrm>
              <a:prstGeom prst="ellips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02" name=""/>
              <p:cNvSpPr/>
              <p:nvPr/>
            </p:nvSpPr>
            <p:spPr>
              <a:xfrm>
                <a:off x="1601640" y="1079640"/>
                <a:ext cx="49320" cy="101520"/>
              </a:xfrm>
              <a:custGeom>
                <a:avLst/>
                <a:gdLst/>
                <a:ahLst/>
                <a:rect l="l" t="t" r="r" b="b"/>
                <a:pathLst>
                  <a:path w="196" h="372">
                    <a:moveTo>
                      <a:pt x="95" y="0"/>
                    </a:moveTo>
                    <a:lnTo>
                      <a:pt x="105" y="60"/>
                    </a:lnTo>
                    <a:lnTo>
                      <a:pt x="111" y="88"/>
                    </a:lnTo>
                    <a:lnTo>
                      <a:pt x="121" y="122"/>
                    </a:lnTo>
                    <a:lnTo>
                      <a:pt x="132" y="143"/>
                    </a:lnTo>
                    <a:lnTo>
                      <a:pt x="147" y="168"/>
                    </a:lnTo>
                    <a:lnTo>
                      <a:pt x="167" y="195"/>
                    </a:lnTo>
                    <a:lnTo>
                      <a:pt x="184" y="221"/>
                    </a:lnTo>
                    <a:lnTo>
                      <a:pt x="192" y="247"/>
                    </a:lnTo>
                    <a:lnTo>
                      <a:pt x="196" y="279"/>
                    </a:lnTo>
                    <a:lnTo>
                      <a:pt x="189" y="308"/>
                    </a:lnTo>
                    <a:lnTo>
                      <a:pt x="178" y="328"/>
                    </a:lnTo>
                    <a:lnTo>
                      <a:pt x="162" y="345"/>
                    </a:lnTo>
                    <a:lnTo>
                      <a:pt x="141" y="361"/>
                    </a:lnTo>
                    <a:lnTo>
                      <a:pt x="121" y="369"/>
                    </a:lnTo>
                    <a:lnTo>
                      <a:pt x="99" y="372"/>
                    </a:lnTo>
                    <a:lnTo>
                      <a:pt x="76" y="369"/>
                    </a:lnTo>
                    <a:lnTo>
                      <a:pt x="54" y="363"/>
                    </a:lnTo>
                    <a:lnTo>
                      <a:pt x="34" y="351"/>
                    </a:lnTo>
                    <a:lnTo>
                      <a:pt x="19" y="336"/>
                    </a:lnTo>
                    <a:lnTo>
                      <a:pt x="8" y="317"/>
                    </a:lnTo>
                    <a:lnTo>
                      <a:pt x="3" y="298"/>
                    </a:lnTo>
                    <a:lnTo>
                      <a:pt x="0" y="272"/>
                    </a:lnTo>
                    <a:lnTo>
                      <a:pt x="5" y="242"/>
                    </a:lnTo>
                    <a:lnTo>
                      <a:pt x="13" y="219"/>
                    </a:lnTo>
                    <a:lnTo>
                      <a:pt x="30" y="191"/>
                    </a:lnTo>
                    <a:lnTo>
                      <a:pt x="49" y="168"/>
                    </a:lnTo>
                    <a:lnTo>
                      <a:pt x="62" y="141"/>
                    </a:lnTo>
                    <a:lnTo>
                      <a:pt x="72" y="120"/>
                    </a:lnTo>
                    <a:lnTo>
                      <a:pt x="81" y="90"/>
                    </a:lnTo>
                    <a:lnTo>
                      <a:pt x="86" y="60"/>
                    </a:lnTo>
                    <a:lnTo>
                      <a:pt x="95" y="0"/>
                    </a:lnTo>
                    <a:close/>
                  </a:path>
                </a:pathLst>
              </a:cu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03" name=""/>
              <p:cNvSpPr/>
              <p:nvPr/>
            </p:nvSpPr>
            <p:spPr>
              <a:xfrm>
                <a:off x="1468440" y="433440"/>
                <a:ext cx="315720" cy="61920"/>
              </a:xfrm>
              <a:prstGeom prst="ellipse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04" name=""/>
              <p:cNvSpPr/>
              <p:nvPr/>
            </p:nvSpPr>
            <p:spPr>
              <a:xfrm>
                <a:off x="1604880" y="906480"/>
                <a:ext cx="41400" cy="47880"/>
              </a:xfrm>
              <a:prstGeom prst="ellipse">
                <a:avLst/>
              </a:prstGeom>
              <a:solidFill>
                <a:srgbClr val="009999"/>
              </a:solidFill>
              <a:ln w="1764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605" name=""/>
            <p:cNvSpPr/>
            <p:nvPr/>
          </p:nvSpPr>
          <p:spPr>
            <a:xfrm>
              <a:off x="3645360" y="4110120"/>
              <a:ext cx="2864520" cy="95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400" spc="-1" strike="noStrike">
                  <a:solidFill>
                    <a:srgbClr val="000000"/>
                  </a:solidFill>
                  <a:latin typeface="Times New Roman"/>
                </a:rPr>
                <a:t>4. </a:t>
              </a:r>
              <a:r>
                <a:rPr b="1" lang="cs-CZ" sz="1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Patofyziologický důsledek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1400" spc="-1" strike="noStrike">
                  <a:solidFill>
                    <a:srgbClr val="000000"/>
                  </a:solidFill>
                  <a:latin typeface="Times New Roman"/>
                </a:rPr>
                <a:t>Hladina H</a:t>
              </a:r>
              <a:r>
                <a:rPr b="0" lang="cs-CZ" sz="1400" spc="-1" strike="noStrike" baseline="46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400" spc="-1" strike="noStrike">
                  <a:solidFill>
                    <a:srgbClr val="000000"/>
                  </a:solidFill>
                  <a:latin typeface="Times New Roman"/>
                </a:rPr>
                <a:t>díky pufrování nebikarbonátovým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400" spc="-1" strike="noStrike">
                  <a:solidFill>
                    <a:srgbClr val="000000"/>
                  </a:solidFill>
                  <a:latin typeface="Times New Roman"/>
                </a:rPr>
                <a:t>nárazníky stoupne jen mál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6" name=""/>
            <p:cNvSpPr/>
            <p:nvPr/>
          </p:nvSpPr>
          <p:spPr>
            <a:xfrm>
              <a:off x="5518080" y="1595520"/>
              <a:ext cx="9720" cy="293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7" name=""/>
            <p:cNvSpPr/>
            <p:nvPr/>
          </p:nvSpPr>
          <p:spPr>
            <a:xfrm>
              <a:off x="5299200" y="3079800"/>
              <a:ext cx="1440" cy="352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8" name=""/>
            <p:cNvSpPr/>
            <p:nvPr/>
          </p:nvSpPr>
          <p:spPr>
            <a:xfrm>
              <a:off x="5581080" y="5592600"/>
              <a:ext cx="83304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Arial"/>
                </a:rPr>
                <a:t>Buf </a:t>
              </a:r>
              <a:r>
                <a:rPr b="1" lang="cs-CZ" sz="2400" spc="-1" strike="noStrike" baseline="70000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9" name=""/>
            <p:cNvSpPr/>
            <p:nvPr/>
          </p:nvSpPr>
          <p:spPr>
            <a:xfrm>
              <a:off x="7855920" y="4541760"/>
              <a:ext cx="90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Arial"/>
                </a:rPr>
                <a:t>HBu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0" name=""/>
            <p:cNvSpPr/>
            <p:nvPr/>
          </p:nvSpPr>
          <p:spPr>
            <a:xfrm>
              <a:off x="5975280" y="3782880"/>
              <a:ext cx="1735200" cy="1024200"/>
            </a:xfrm>
            <a:custGeom>
              <a:avLst/>
              <a:gdLst/>
              <a:ahLst/>
              <a:rect l="l" t="t" r="r" b="b"/>
              <a:pathLst>
                <a:path w="1093" h="645">
                  <a:moveTo>
                    <a:pt x="1093" y="645"/>
                  </a:moveTo>
                  <a:lnTo>
                    <a:pt x="700" y="645"/>
                  </a:lnTo>
                  <a:cubicBezTo>
                    <a:pt x="624" y="627"/>
                    <a:pt x="646" y="630"/>
                    <a:pt x="635" y="538"/>
                  </a:cubicBezTo>
                  <a:lnTo>
                    <a:pt x="635" y="91"/>
                  </a:lnTo>
                  <a:cubicBezTo>
                    <a:pt x="622" y="1"/>
                    <a:pt x="660" y="15"/>
                    <a:pt x="554" y="0"/>
                  </a:cubicBezTo>
                  <a:lnTo>
                    <a:pt x="0" y="1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1" name=""/>
            <p:cNvSpPr/>
            <p:nvPr/>
          </p:nvSpPr>
          <p:spPr>
            <a:xfrm flipH="1" flipV="1">
              <a:off x="6487560" y="4797360"/>
              <a:ext cx="1222200" cy="1023840"/>
            </a:xfrm>
            <a:custGeom>
              <a:avLst/>
              <a:gdLst/>
              <a:ahLst/>
              <a:rect l="l" t="t" r="r" b="b"/>
              <a:pathLst>
                <a:path w="866" h="645">
                  <a:moveTo>
                    <a:pt x="0" y="645"/>
                  </a:moveTo>
                  <a:lnTo>
                    <a:pt x="442" y="645"/>
                  </a:lnTo>
                  <a:cubicBezTo>
                    <a:pt x="528" y="627"/>
                    <a:pt x="503" y="630"/>
                    <a:pt x="515" y="538"/>
                  </a:cubicBezTo>
                  <a:lnTo>
                    <a:pt x="515" y="91"/>
                  </a:lnTo>
                  <a:cubicBezTo>
                    <a:pt x="530" y="1"/>
                    <a:pt x="548" y="15"/>
                    <a:pt x="606" y="0"/>
                  </a:cubicBezTo>
                  <a:lnTo>
                    <a:pt x="866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2" name=""/>
            <p:cNvSpPr/>
            <p:nvPr/>
          </p:nvSpPr>
          <p:spPr>
            <a:xfrm>
              <a:off x="6262560" y="136368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3" name=""/>
            <p:cNvSpPr/>
            <p:nvPr/>
          </p:nvSpPr>
          <p:spPr>
            <a:xfrm>
              <a:off x="5012280" y="2416320"/>
              <a:ext cx="2712240" cy="52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400" spc="-1" strike="noStrike">
                  <a:solidFill>
                    <a:srgbClr val="000000"/>
                  </a:solidFill>
                  <a:latin typeface="Times New Roman"/>
                </a:rPr>
                <a:t>3. Díky disociaci kyseliny uhličité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400" spc="-1" strike="noStrike">
                  <a:solidFill>
                    <a:srgbClr val="000000"/>
                  </a:solidFill>
                  <a:latin typeface="Times New Roman"/>
                </a:rPr>
                <a:t>se tvoří velké množství H</a:t>
              </a:r>
              <a:r>
                <a:rPr b="0" lang="cs-CZ" sz="1400" spc="-1" strike="noStrike" baseline="46000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lang="cs-CZ" sz="1400" spc="-1" strike="noStrike">
                  <a:solidFill>
                    <a:srgbClr val="000000"/>
                  </a:solidFill>
                  <a:latin typeface="Times New Roman"/>
                </a:rPr>
                <a:t> iontů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4" name=""/>
            <p:cNvSpPr/>
            <p:nvPr/>
          </p:nvSpPr>
          <p:spPr>
            <a:xfrm>
              <a:off x="7827840" y="4606920"/>
              <a:ext cx="9720" cy="293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5" name=""/>
            <p:cNvSpPr/>
            <p:nvPr/>
          </p:nvSpPr>
          <p:spPr>
            <a:xfrm>
              <a:off x="5537160" y="5661000"/>
              <a:ext cx="9720" cy="293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6" name=""/>
            <p:cNvSpPr/>
            <p:nvPr/>
          </p:nvSpPr>
          <p:spPr>
            <a:xfrm>
              <a:off x="4402080" y="415800"/>
              <a:ext cx="2914560" cy="2070360"/>
            </a:xfrm>
            <a:custGeom>
              <a:avLst/>
              <a:gdLst/>
              <a:ahLst/>
              <a:rect l="l" t="t" r="r" b="b"/>
              <a:pathLst>
                <a:path w="1836" h="1304">
                  <a:moveTo>
                    <a:pt x="1379" y="1304"/>
                  </a:moveTo>
                  <a:cubicBezTo>
                    <a:pt x="1423" y="1119"/>
                    <a:pt x="1836" y="390"/>
                    <a:pt x="1650" y="195"/>
                  </a:cubicBezTo>
                  <a:cubicBezTo>
                    <a:pt x="1464" y="0"/>
                    <a:pt x="528" y="68"/>
                    <a:pt x="264" y="131"/>
                  </a:cubicBezTo>
                  <a:cubicBezTo>
                    <a:pt x="0" y="194"/>
                    <a:pt x="73" y="471"/>
                    <a:pt x="68" y="572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prstDash val="sysDot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7" name=""/>
            <p:cNvSpPr/>
            <p:nvPr/>
          </p:nvSpPr>
          <p:spPr>
            <a:xfrm>
              <a:off x="3649680" y="770040"/>
              <a:ext cx="531720" cy="544320"/>
            </a:xfrm>
            <a:custGeom>
              <a:avLst/>
              <a:gdLst/>
              <a:ahLst/>
              <a:rect l="l" t="t" r="r" b="b"/>
              <a:pathLst>
                <a:path w="335" h="343">
                  <a:moveTo>
                    <a:pt x="0" y="3"/>
                  </a:moveTo>
                  <a:cubicBezTo>
                    <a:pt x="46" y="12"/>
                    <a:pt x="220" y="0"/>
                    <a:pt x="276" y="57"/>
                  </a:cubicBezTo>
                  <a:cubicBezTo>
                    <a:pt x="332" y="114"/>
                    <a:pt x="323" y="284"/>
                    <a:pt x="335" y="343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8" name=""/>
            <p:cNvSpPr/>
            <p:nvPr/>
          </p:nvSpPr>
          <p:spPr>
            <a:xfrm>
              <a:off x="6053040" y="2932200"/>
              <a:ext cx="3164040" cy="3740040"/>
            </a:xfrm>
            <a:custGeom>
              <a:avLst/>
              <a:gdLst/>
              <a:ahLst/>
              <a:rect l="l" t="t" r="r" b="b"/>
              <a:pathLst>
                <a:path w="1993" h="2356">
                  <a:moveTo>
                    <a:pt x="179" y="0"/>
                  </a:moveTo>
                  <a:cubicBezTo>
                    <a:pt x="192" y="64"/>
                    <a:pt x="0" y="288"/>
                    <a:pt x="259" y="383"/>
                  </a:cubicBezTo>
                  <a:cubicBezTo>
                    <a:pt x="518" y="478"/>
                    <a:pt x="1479" y="303"/>
                    <a:pt x="1736" y="569"/>
                  </a:cubicBezTo>
                  <a:cubicBezTo>
                    <a:pt x="1993" y="835"/>
                    <a:pt x="1857" y="1692"/>
                    <a:pt x="1799" y="1981"/>
                  </a:cubicBezTo>
                  <a:cubicBezTo>
                    <a:pt x="1741" y="2270"/>
                    <a:pt x="1587" y="2254"/>
                    <a:pt x="1390" y="2305"/>
                  </a:cubicBezTo>
                  <a:cubicBezTo>
                    <a:pt x="1193" y="2356"/>
                    <a:pt x="776" y="2292"/>
                    <a:pt x="615" y="2289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9" name=""/>
            <p:cNvSpPr/>
            <p:nvPr/>
          </p:nvSpPr>
          <p:spPr>
            <a:xfrm>
              <a:off x="2459160" y="4313160"/>
              <a:ext cx="2176200" cy="2222640"/>
            </a:xfrm>
            <a:custGeom>
              <a:avLst/>
              <a:gdLst/>
              <a:ahLst/>
              <a:rect l="l" t="t" r="r" b="b"/>
              <a:pathLst>
                <a:path w="1657" h="1372">
                  <a:moveTo>
                    <a:pt x="1657" y="1311"/>
                  </a:moveTo>
                  <a:cubicBezTo>
                    <a:pt x="1422" y="1293"/>
                    <a:pt x="480" y="1372"/>
                    <a:pt x="240" y="1200"/>
                  </a:cubicBezTo>
                  <a:cubicBezTo>
                    <a:pt x="0" y="1028"/>
                    <a:pt x="34" y="481"/>
                    <a:pt x="218" y="281"/>
                  </a:cubicBezTo>
                  <a:cubicBezTo>
                    <a:pt x="402" y="81"/>
                    <a:pt x="1110" y="59"/>
                    <a:pt x="1344" y="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0" name=""/>
            <p:cNvSpPr/>
            <p:nvPr/>
          </p:nvSpPr>
          <p:spPr>
            <a:xfrm>
              <a:off x="5343480" y="98280"/>
              <a:ext cx="355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Akutní respirační acidóz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1" name=""/>
            <p:cNvSpPr/>
            <p:nvPr/>
          </p:nvSpPr>
          <p:spPr>
            <a:xfrm>
              <a:off x="4511520" y="6137280"/>
              <a:ext cx="27054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400" spc="-1" strike="noStrike">
                  <a:solidFill>
                    <a:srgbClr val="000000"/>
                  </a:solidFill>
                  <a:latin typeface="Times New Roman"/>
                </a:rPr>
                <a:t>3. Tyto ionty jsou odstraňován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400" spc="-1" strike="noStrike">
                  <a:solidFill>
                    <a:srgbClr val="000000"/>
                  </a:solidFill>
                  <a:latin typeface="Times New Roman"/>
                </a:rPr>
                <a:t>vazbou na nebikarbonátové pufrační baz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2" name=""/>
            <p:cNvSpPr/>
            <p:nvPr/>
          </p:nvSpPr>
          <p:spPr>
            <a:xfrm>
              <a:off x="2305080" y="1254240"/>
              <a:ext cx="29131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400" spc="-1" strike="noStrike">
                  <a:solidFill>
                    <a:srgbClr val="000000"/>
                  </a:solidFill>
                  <a:latin typeface="Times New Roman"/>
                </a:rPr>
                <a:t>2. Posun rovnováhy doprava,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400" spc="-1" strike="noStrike">
                  <a:solidFill>
                    <a:srgbClr val="000000"/>
                  </a:solidFill>
                  <a:latin typeface="Times New Roman"/>
                </a:rPr>
                <a:t>směrem k disociaci kyseliny uhličité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3" name=""/>
            <p:cNvSpPr/>
            <p:nvPr/>
          </p:nvSpPr>
          <p:spPr>
            <a:xfrm>
              <a:off x="3108240" y="2673360"/>
              <a:ext cx="9720" cy="293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4" name=""/>
            <p:cNvSpPr/>
            <p:nvPr/>
          </p:nvSpPr>
          <p:spPr>
            <a:xfrm>
              <a:off x="1000080" y="1628640"/>
              <a:ext cx="9720" cy="293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625" name=""/>
            <p:cNvGrpSpPr/>
            <p:nvPr/>
          </p:nvGrpSpPr>
          <p:grpSpPr>
            <a:xfrm>
              <a:off x="0" y="4673520"/>
              <a:ext cx="2573280" cy="1969200"/>
              <a:chOff x="0" y="4673520"/>
              <a:chExt cx="2573280" cy="1969200"/>
            </a:xfrm>
          </p:grpSpPr>
          <p:grpSp>
            <p:nvGrpSpPr>
              <p:cNvPr id="12626" name=""/>
              <p:cNvGrpSpPr/>
              <p:nvPr/>
            </p:nvGrpSpPr>
            <p:grpSpPr>
              <a:xfrm>
                <a:off x="244440" y="4772160"/>
                <a:ext cx="2260440" cy="1868040"/>
                <a:chOff x="244440" y="4772160"/>
                <a:chExt cx="2260440" cy="1868040"/>
              </a:xfrm>
            </p:grpSpPr>
            <p:sp>
              <p:nvSpPr>
                <p:cNvPr id="12627" name=""/>
                <p:cNvSpPr/>
                <p:nvPr/>
              </p:nvSpPr>
              <p:spPr>
                <a:xfrm>
                  <a:off x="244440" y="4772160"/>
                  <a:ext cx="2248560" cy="18615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628" name=""/>
                <p:cNvGrpSpPr/>
                <p:nvPr/>
              </p:nvGrpSpPr>
              <p:grpSpPr>
                <a:xfrm>
                  <a:off x="268560" y="4775760"/>
                  <a:ext cx="2206440" cy="1833120"/>
                  <a:chOff x="268560" y="4775760"/>
                  <a:chExt cx="2206440" cy="1833120"/>
                </a:xfrm>
              </p:grpSpPr>
              <p:sp>
                <p:nvSpPr>
                  <p:cNvPr id="12629" name=""/>
                  <p:cNvSpPr/>
                  <p:nvPr/>
                </p:nvSpPr>
                <p:spPr>
                  <a:xfrm>
                    <a:off x="522720" y="5971320"/>
                    <a:ext cx="717840" cy="637560"/>
                  </a:xfrm>
                  <a:custGeom>
                    <a:avLst/>
                    <a:gdLst/>
                    <a:ahLst/>
                    <a:rect l="l" t="t" r="r" b="b"/>
                    <a:pathLst>
                      <a:path w="1363" h="1020">
                        <a:moveTo>
                          <a:pt x="1030" y="0"/>
                        </a:moveTo>
                        <a:cubicBezTo>
                          <a:pt x="931" y="41"/>
                          <a:pt x="847" y="229"/>
                          <a:pt x="768" y="317"/>
                        </a:cubicBezTo>
                        <a:cubicBezTo>
                          <a:pt x="689" y="405"/>
                          <a:pt x="641" y="450"/>
                          <a:pt x="557" y="528"/>
                        </a:cubicBezTo>
                        <a:cubicBezTo>
                          <a:pt x="473" y="606"/>
                          <a:pt x="360" y="706"/>
                          <a:pt x="267" y="788"/>
                        </a:cubicBezTo>
                        <a:cubicBezTo>
                          <a:pt x="174" y="870"/>
                          <a:pt x="118" y="922"/>
                          <a:pt x="0" y="1020"/>
                        </a:cubicBezTo>
                        <a:cubicBezTo>
                          <a:pt x="111" y="1018"/>
                          <a:pt x="195" y="1018"/>
                          <a:pt x="267" y="1016"/>
                        </a:cubicBezTo>
                        <a:cubicBezTo>
                          <a:pt x="379" y="932"/>
                          <a:pt x="586" y="755"/>
                          <a:pt x="694" y="665"/>
                        </a:cubicBezTo>
                        <a:cubicBezTo>
                          <a:pt x="802" y="575"/>
                          <a:pt x="853" y="531"/>
                          <a:pt x="917" y="476"/>
                        </a:cubicBezTo>
                        <a:cubicBezTo>
                          <a:pt x="981" y="421"/>
                          <a:pt x="1027" y="381"/>
                          <a:pt x="1078" y="334"/>
                        </a:cubicBezTo>
                        <a:cubicBezTo>
                          <a:pt x="1129" y="287"/>
                          <a:pt x="1176" y="241"/>
                          <a:pt x="1224" y="197"/>
                        </a:cubicBezTo>
                        <a:lnTo>
                          <a:pt x="1363" y="70"/>
                        </a:lnTo>
                        <a:lnTo>
                          <a:pt x="1030" y="0"/>
                        </a:lnTo>
                        <a:close/>
                      </a:path>
                    </a:pathLst>
                  </a:custGeom>
                  <a:solidFill>
                    <a:srgbClr val="b2b2b2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30" name=""/>
                  <p:cNvSpPr/>
                  <p:nvPr/>
                </p:nvSpPr>
                <p:spPr>
                  <a:xfrm>
                    <a:off x="1308240" y="5126040"/>
                    <a:ext cx="1058040" cy="71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009" h="1148">
                        <a:moveTo>
                          <a:pt x="38" y="811"/>
                        </a:moveTo>
                        <a:cubicBezTo>
                          <a:pt x="30" y="770"/>
                          <a:pt x="0" y="826"/>
                          <a:pt x="329" y="691"/>
                        </a:cubicBezTo>
                        <a:lnTo>
                          <a:pt x="2009" y="0"/>
                        </a:lnTo>
                        <a:lnTo>
                          <a:pt x="2009" y="742"/>
                        </a:lnTo>
                        <a:lnTo>
                          <a:pt x="941" y="1148"/>
                        </a:lnTo>
                        <a:lnTo>
                          <a:pt x="38" y="1137"/>
                        </a:lnTo>
                        <a:lnTo>
                          <a:pt x="38" y="811"/>
                        </a:lnTo>
                        <a:close/>
                      </a:path>
                    </a:pathLst>
                  </a:custGeom>
                  <a:solidFill>
                    <a:srgbClr val="b2b2b2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31" name=""/>
                  <p:cNvSpPr/>
                  <p:nvPr/>
                </p:nvSpPr>
                <p:spPr>
                  <a:xfrm>
                    <a:off x="1183320" y="4780080"/>
                    <a:ext cx="673200" cy="11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278" h="1787">
                        <a:moveTo>
                          <a:pt x="0" y="1673"/>
                        </a:moveTo>
                        <a:lnTo>
                          <a:pt x="189" y="1341"/>
                        </a:lnTo>
                        <a:cubicBezTo>
                          <a:pt x="283" y="1169"/>
                          <a:pt x="458" y="843"/>
                          <a:pt x="566" y="638"/>
                        </a:cubicBezTo>
                        <a:cubicBezTo>
                          <a:pt x="674" y="433"/>
                          <a:pt x="781" y="213"/>
                          <a:pt x="835" y="107"/>
                        </a:cubicBezTo>
                        <a:lnTo>
                          <a:pt x="892" y="0"/>
                        </a:lnTo>
                        <a:lnTo>
                          <a:pt x="1278" y="2"/>
                        </a:lnTo>
                        <a:lnTo>
                          <a:pt x="1052" y="433"/>
                        </a:lnTo>
                        <a:cubicBezTo>
                          <a:pt x="925" y="674"/>
                          <a:pt x="635" y="1224"/>
                          <a:pt x="515" y="1450"/>
                        </a:cubicBezTo>
                        <a:lnTo>
                          <a:pt x="332" y="1787"/>
                        </a:lnTo>
                        <a:lnTo>
                          <a:pt x="0" y="1673"/>
                        </a:lnTo>
                        <a:close/>
                      </a:path>
                    </a:pathLst>
                  </a:custGeom>
                  <a:solidFill>
                    <a:srgbClr val="b2b2b2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32" name=""/>
                  <p:cNvSpPr/>
                  <p:nvPr/>
                </p:nvSpPr>
                <p:spPr>
                  <a:xfrm>
                    <a:off x="268560" y="5994000"/>
                    <a:ext cx="854640" cy="571680"/>
                  </a:xfrm>
                  <a:custGeom>
                    <a:avLst/>
                    <a:gdLst/>
                    <a:ahLst/>
                    <a:rect l="l" t="t" r="r" b="b"/>
                    <a:pathLst>
                      <a:path w="1623" h="914">
                        <a:moveTo>
                          <a:pt x="1206" y="23"/>
                        </a:moveTo>
                        <a:lnTo>
                          <a:pt x="0" y="680"/>
                        </a:lnTo>
                        <a:lnTo>
                          <a:pt x="0" y="914"/>
                        </a:lnTo>
                        <a:lnTo>
                          <a:pt x="1623" y="0"/>
                        </a:lnTo>
                      </a:path>
                    </a:pathLst>
                  </a:custGeom>
                  <a:solidFill>
                    <a:srgbClr val="b2b2b2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33" name=""/>
                  <p:cNvSpPr/>
                  <p:nvPr/>
                </p:nvSpPr>
                <p:spPr>
                  <a:xfrm>
                    <a:off x="283680" y="4775760"/>
                    <a:ext cx="2191320" cy="1830960"/>
                  </a:xfrm>
                  <a:custGeom>
                    <a:avLst/>
                    <a:gdLst/>
                    <a:ahLst/>
                    <a:rect l="l" t="t" r="r" b="b"/>
                    <a:pathLst>
                      <a:path w="4160" h="2928">
                        <a:moveTo>
                          <a:pt x="0" y="1645"/>
                        </a:moveTo>
                        <a:lnTo>
                          <a:pt x="1611" y="1645"/>
                        </a:lnTo>
                        <a:lnTo>
                          <a:pt x="1617" y="1451"/>
                        </a:lnTo>
                        <a:cubicBezTo>
                          <a:pt x="1600" y="1366"/>
                          <a:pt x="1537" y="1273"/>
                          <a:pt x="1508" y="1137"/>
                        </a:cubicBezTo>
                        <a:cubicBezTo>
                          <a:pt x="1479" y="1001"/>
                          <a:pt x="1466" y="783"/>
                          <a:pt x="1440" y="634"/>
                        </a:cubicBezTo>
                        <a:cubicBezTo>
                          <a:pt x="1414" y="485"/>
                          <a:pt x="1388" y="345"/>
                          <a:pt x="1354" y="240"/>
                        </a:cubicBezTo>
                        <a:lnTo>
                          <a:pt x="1234" y="2"/>
                        </a:lnTo>
                        <a:lnTo>
                          <a:pt x="1472" y="0"/>
                        </a:lnTo>
                        <a:cubicBezTo>
                          <a:pt x="1534" y="62"/>
                          <a:pt x="1570" y="242"/>
                          <a:pt x="1605" y="377"/>
                        </a:cubicBezTo>
                        <a:cubicBezTo>
                          <a:pt x="1640" y="512"/>
                          <a:pt x="1657" y="692"/>
                          <a:pt x="1680" y="811"/>
                        </a:cubicBezTo>
                        <a:cubicBezTo>
                          <a:pt x="1703" y="930"/>
                          <a:pt x="1712" y="982"/>
                          <a:pt x="1743" y="1091"/>
                        </a:cubicBezTo>
                        <a:cubicBezTo>
                          <a:pt x="1774" y="1200"/>
                          <a:pt x="1829" y="1376"/>
                          <a:pt x="1868" y="1468"/>
                        </a:cubicBezTo>
                        <a:lnTo>
                          <a:pt x="1977" y="1645"/>
                        </a:lnTo>
                        <a:lnTo>
                          <a:pt x="2926" y="1651"/>
                        </a:lnTo>
                        <a:lnTo>
                          <a:pt x="4160" y="1657"/>
                        </a:lnTo>
                        <a:lnTo>
                          <a:pt x="4160" y="2000"/>
                        </a:lnTo>
                        <a:lnTo>
                          <a:pt x="1926" y="2000"/>
                        </a:lnTo>
                        <a:lnTo>
                          <a:pt x="1914" y="2422"/>
                        </a:lnTo>
                        <a:lnTo>
                          <a:pt x="1913" y="2928"/>
                        </a:lnTo>
                        <a:lnTo>
                          <a:pt x="1611" y="2925"/>
                        </a:lnTo>
                        <a:lnTo>
                          <a:pt x="1605" y="2005"/>
                        </a:lnTo>
                        <a:lnTo>
                          <a:pt x="0" y="2005"/>
                        </a:lnTo>
                        <a:lnTo>
                          <a:pt x="0" y="1645"/>
                        </a:lnTo>
                        <a:close/>
                      </a:path>
                    </a:pathLst>
                  </a:custGeom>
                  <a:solidFill>
                    <a:srgbClr val="ffff66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2634" name=""/>
                <p:cNvSpPr/>
                <p:nvPr/>
              </p:nvSpPr>
              <p:spPr>
                <a:xfrm>
                  <a:off x="250560" y="4778640"/>
                  <a:ext cx="0" cy="18615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35" name=""/>
                <p:cNvSpPr/>
                <p:nvPr/>
              </p:nvSpPr>
              <p:spPr>
                <a:xfrm>
                  <a:off x="247320" y="6633720"/>
                  <a:ext cx="22575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636" name=""/>
              <p:cNvSpPr/>
              <p:nvPr/>
            </p:nvSpPr>
            <p:spPr>
              <a:xfrm>
                <a:off x="0" y="4673520"/>
                <a:ext cx="851040" cy="38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1800" spc="-1" strike="noStrike">
                    <a:solidFill>
                      <a:srgbClr val="000000"/>
                    </a:solidFill>
                    <a:latin typeface="Times New Roman"/>
                  </a:rPr>
                  <a:t>P</a:t>
                </a:r>
                <a:r>
                  <a:rPr b="1" lang="cs-CZ" sz="1400" spc="-1" strike="noStrike">
                    <a:solidFill>
                      <a:srgbClr val="000000"/>
                    </a:solidFill>
                    <a:latin typeface="Times New Roman"/>
                  </a:rPr>
                  <a:t>CO</a:t>
                </a:r>
                <a:r>
                  <a:rPr b="1" lang="cs-CZ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37" name=""/>
              <p:cNvSpPr/>
              <p:nvPr/>
            </p:nvSpPr>
            <p:spPr>
              <a:xfrm>
                <a:off x="2139840" y="6335640"/>
                <a:ext cx="433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1400" spc="-1" strike="noStrike">
                    <a:solidFill>
                      <a:srgbClr val="000000"/>
                    </a:solidFill>
                    <a:latin typeface="Times New Roman"/>
                  </a:rPr>
                  <a:t>B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638" name=""/>
            <p:cNvSpPr/>
            <p:nvPr/>
          </p:nvSpPr>
          <p:spPr>
            <a:xfrm flipH="1" flipV="1">
              <a:off x="1069920" y="5092200"/>
              <a:ext cx="154080" cy="776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39" name=""/>
          <p:cNvGrpSpPr/>
          <p:nvPr/>
        </p:nvGrpSpPr>
        <p:grpSpPr>
          <a:xfrm>
            <a:off x="0" y="-11160"/>
            <a:ext cx="9221760" cy="6846840"/>
            <a:chOff x="0" y="-11160"/>
            <a:chExt cx="9221760" cy="6846840"/>
          </a:xfrm>
        </p:grpSpPr>
        <p:sp>
          <p:nvSpPr>
            <p:cNvPr id="12640" name=""/>
            <p:cNvSpPr/>
            <p:nvPr/>
          </p:nvSpPr>
          <p:spPr>
            <a:xfrm flipV="1">
              <a:off x="6657840" y="1415160"/>
              <a:ext cx="142920" cy="909720"/>
            </a:xfrm>
            <a:prstGeom prst="upArrow">
              <a:avLst>
                <a:gd name="adj1" fmla="val 50000"/>
                <a:gd name="adj2" fmla="val 159131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2641" name=""/>
            <p:cNvGraphicFramePr/>
            <p:nvPr/>
          </p:nvGraphicFramePr>
          <p:xfrm>
            <a:off x="6269040" y="503280"/>
            <a:ext cx="879480" cy="1041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264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269040" y="503280"/>
                      <a:ext cx="879480" cy="1041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643" name=""/>
            <p:cNvSpPr/>
            <p:nvPr/>
          </p:nvSpPr>
          <p:spPr>
            <a:xfrm>
              <a:off x="5275440" y="1468440"/>
              <a:ext cx="1114200" cy="992160"/>
            </a:xfrm>
            <a:prstGeom prst="rect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4" name=""/>
            <p:cNvSpPr/>
            <p:nvPr/>
          </p:nvSpPr>
          <p:spPr>
            <a:xfrm>
              <a:off x="5268960" y="3765600"/>
              <a:ext cx="568440" cy="72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5" name=""/>
            <p:cNvSpPr/>
            <p:nvPr/>
          </p:nvSpPr>
          <p:spPr>
            <a:xfrm>
              <a:off x="5264280" y="3871800"/>
              <a:ext cx="579240" cy="63972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6" name=""/>
            <p:cNvSpPr/>
            <p:nvPr/>
          </p:nvSpPr>
          <p:spPr>
            <a:xfrm>
              <a:off x="7589880" y="4551480"/>
              <a:ext cx="1104840" cy="8571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7" name=""/>
            <p:cNvSpPr/>
            <p:nvPr/>
          </p:nvSpPr>
          <p:spPr>
            <a:xfrm>
              <a:off x="7588080" y="4745160"/>
              <a:ext cx="1111320" cy="78264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8" name=""/>
            <p:cNvSpPr/>
            <p:nvPr/>
          </p:nvSpPr>
          <p:spPr>
            <a:xfrm>
              <a:off x="5254560" y="5745240"/>
              <a:ext cx="1111320" cy="766800"/>
            </a:xfrm>
            <a:prstGeom prst="rect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9" name=""/>
            <p:cNvSpPr/>
            <p:nvPr/>
          </p:nvSpPr>
          <p:spPr>
            <a:xfrm>
              <a:off x="5253120" y="5896080"/>
              <a:ext cx="1111320" cy="62388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0" name=""/>
            <p:cNvSpPr/>
            <p:nvPr/>
          </p:nvSpPr>
          <p:spPr>
            <a:xfrm>
              <a:off x="5278320" y="1755720"/>
              <a:ext cx="1111320" cy="75888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1" name=""/>
            <p:cNvSpPr/>
            <p:nvPr/>
          </p:nvSpPr>
          <p:spPr>
            <a:xfrm>
              <a:off x="2849400" y="2557440"/>
              <a:ext cx="1144800" cy="100188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2" name=""/>
            <p:cNvSpPr/>
            <p:nvPr/>
          </p:nvSpPr>
          <p:spPr>
            <a:xfrm>
              <a:off x="749160" y="1655640"/>
              <a:ext cx="927360" cy="88272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3" name=""/>
            <p:cNvSpPr/>
            <p:nvPr/>
          </p:nvSpPr>
          <p:spPr>
            <a:xfrm>
              <a:off x="5391000" y="4014720"/>
              <a:ext cx="9720" cy="293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4" name=""/>
            <p:cNvSpPr/>
            <p:nvPr/>
          </p:nvSpPr>
          <p:spPr>
            <a:xfrm>
              <a:off x="843480" y="1969920"/>
              <a:ext cx="736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Arial"/>
                </a:rPr>
                <a:t>CO</a:t>
              </a:r>
              <a:r>
                <a:rPr b="1" lang="cs-CZ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5" name=""/>
            <p:cNvSpPr/>
            <p:nvPr/>
          </p:nvSpPr>
          <p:spPr>
            <a:xfrm>
              <a:off x="894240" y="3998880"/>
              <a:ext cx="736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cs-CZ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cs-CZ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6" name=""/>
            <p:cNvSpPr/>
            <p:nvPr/>
          </p:nvSpPr>
          <p:spPr>
            <a:xfrm>
              <a:off x="2924280" y="2995560"/>
              <a:ext cx="1055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cs-CZ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cs-CZ" sz="2400" spc="-1" strike="noStrike">
                  <a:solidFill>
                    <a:srgbClr val="000000"/>
                  </a:solidFill>
                  <a:latin typeface="Arial"/>
                </a:rPr>
                <a:t>CO</a:t>
              </a:r>
              <a:r>
                <a:rPr b="1" lang="cs-CZ" sz="2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7" name=""/>
            <p:cNvSpPr/>
            <p:nvPr/>
          </p:nvSpPr>
          <p:spPr>
            <a:xfrm>
              <a:off x="5446080" y="1952640"/>
              <a:ext cx="956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Arial"/>
                </a:rPr>
                <a:t>HCO</a:t>
              </a:r>
              <a:r>
                <a:rPr b="1" lang="cs-CZ" sz="2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8" name=""/>
            <p:cNvSpPr/>
            <p:nvPr/>
          </p:nvSpPr>
          <p:spPr>
            <a:xfrm>
              <a:off x="5405400" y="3938760"/>
              <a:ext cx="52380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cs-CZ" sz="2400" spc="-1" strike="noStrike" baseline="7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9" name=""/>
            <p:cNvSpPr/>
            <p:nvPr/>
          </p:nvSpPr>
          <p:spPr>
            <a:xfrm>
              <a:off x="4105440" y="2201760"/>
              <a:ext cx="1155600" cy="1024200"/>
            </a:xfrm>
            <a:custGeom>
              <a:avLst/>
              <a:gdLst/>
              <a:ahLst/>
              <a:rect l="l" t="t" r="r" b="b"/>
              <a:pathLst>
                <a:path w="728" h="645">
                  <a:moveTo>
                    <a:pt x="0" y="642"/>
                  </a:moveTo>
                  <a:lnTo>
                    <a:pt x="351" y="645"/>
                  </a:lnTo>
                  <a:cubicBezTo>
                    <a:pt x="420" y="628"/>
                    <a:pt x="405" y="630"/>
                    <a:pt x="416" y="538"/>
                  </a:cubicBezTo>
                  <a:lnTo>
                    <a:pt x="416" y="91"/>
                  </a:lnTo>
                  <a:cubicBezTo>
                    <a:pt x="429" y="1"/>
                    <a:pt x="445" y="15"/>
                    <a:pt x="497" y="0"/>
                  </a:cubicBezTo>
                  <a:lnTo>
                    <a:pt x="728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0" name=""/>
            <p:cNvSpPr/>
            <p:nvPr/>
          </p:nvSpPr>
          <p:spPr>
            <a:xfrm>
              <a:off x="4011480" y="3218040"/>
              <a:ext cx="1249560" cy="1023840"/>
            </a:xfrm>
            <a:custGeom>
              <a:avLst/>
              <a:gdLst/>
              <a:ahLst/>
              <a:rect l="l" t="t" r="r" b="b"/>
              <a:pathLst>
                <a:path w="787" h="645">
                  <a:moveTo>
                    <a:pt x="0" y="2"/>
                  </a:moveTo>
                  <a:lnTo>
                    <a:pt x="410" y="0"/>
                  </a:lnTo>
                  <a:cubicBezTo>
                    <a:pt x="489" y="17"/>
                    <a:pt x="464" y="15"/>
                    <a:pt x="475" y="107"/>
                  </a:cubicBezTo>
                  <a:lnTo>
                    <a:pt x="475" y="554"/>
                  </a:lnTo>
                  <a:cubicBezTo>
                    <a:pt x="488" y="644"/>
                    <a:pt x="504" y="630"/>
                    <a:pt x="556" y="645"/>
                  </a:cubicBezTo>
                  <a:lnTo>
                    <a:pt x="787" y="645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661" name=""/>
            <p:cNvGrpSpPr/>
            <p:nvPr/>
          </p:nvGrpSpPr>
          <p:grpSpPr>
            <a:xfrm>
              <a:off x="1701720" y="2200320"/>
              <a:ext cx="1130400" cy="2038320"/>
              <a:chOff x="1701720" y="2200320"/>
              <a:chExt cx="1130400" cy="2038320"/>
            </a:xfrm>
          </p:grpSpPr>
          <p:sp>
            <p:nvSpPr>
              <p:cNvPr id="12662" name=""/>
              <p:cNvSpPr/>
              <p:nvPr/>
            </p:nvSpPr>
            <p:spPr>
              <a:xfrm flipH="1">
                <a:off x="1701720" y="2200320"/>
                <a:ext cx="1130400" cy="1023840"/>
              </a:xfrm>
              <a:custGeom>
                <a:avLst/>
                <a:gdLst/>
                <a:ahLst/>
                <a:rect l="l" t="t" r="r" b="b"/>
                <a:pathLst>
                  <a:path w="866" h="645">
                    <a:moveTo>
                      <a:pt x="0" y="645"/>
                    </a:moveTo>
                    <a:lnTo>
                      <a:pt x="442" y="645"/>
                    </a:lnTo>
                    <a:cubicBezTo>
                      <a:pt x="528" y="627"/>
                      <a:pt x="503" y="630"/>
                      <a:pt x="515" y="538"/>
                    </a:cubicBezTo>
                    <a:lnTo>
                      <a:pt x="515" y="91"/>
                    </a:lnTo>
                    <a:cubicBezTo>
                      <a:pt x="530" y="1"/>
                      <a:pt x="548" y="15"/>
                      <a:pt x="606" y="0"/>
                    </a:cubicBezTo>
                    <a:lnTo>
                      <a:pt x="866" y="0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63" name=""/>
              <p:cNvSpPr/>
              <p:nvPr/>
            </p:nvSpPr>
            <p:spPr>
              <a:xfrm flipH="1" flipV="1">
                <a:off x="1701720" y="3214800"/>
                <a:ext cx="1130400" cy="1023840"/>
              </a:xfrm>
              <a:custGeom>
                <a:avLst/>
                <a:gdLst/>
                <a:ahLst/>
                <a:rect l="l" t="t" r="r" b="b"/>
                <a:pathLst>
                  <a:path w="866" h="645">
                    <a:moveTo>
                      <a:pt x="0" y="645"/>
                    </a:moveTo>
                    <a:lnTo>
                      <a:pt x="442" y="645"/>
                    </a:lnTo>
                    <a:cubicBezTo>
                      <a:pt x="528" y="627"/>
                      <a:pt x="503" y="630"/>
                      <a:pt x="515" y="538"/>
                    </a:cubicBezTo>
                    <a:lnTo>
                      <a:pt x="515" y="91"/>
                    </a:lnTo>
                    <a:cubicBezTo>
                      <a:pt x="530" y="1"/>
                      <a:pt x="548" y="15"/>
                      <a:pt x="606" y="0"/>
                    </a:cubicBezTo>
                    <a:lnTo>
                      <a:pt x="866" y="0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aphicFrame>
          <p:nvGraphicFramePr>
            <p:cNvPr id="12664" name=""/>
            <p:cNvGraphicFramePr/>
            <p:nvPr/>
          </p:nvGraphicFramePr>
          <p:xfrm>
            <a:off x="190440" y="712800"/>
            <a:ext cx="1040040" cy="7732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2665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90440" y="712800"/>
                      <a:ext cx="1040040" cy="773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666" name=""/>
            <p:cNvSpPr/>
            <p:nvPr/>
          </p:nvSpPr>
          <p:spPr>
            <a:xfrm flipH="1">
              <a:off x="167400" y="1484280"/>
              <a:ext cx="72396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7" name=""/>
            <p:cNvSpPr/>
            <p:nvPr/>
          </p:nvSpPr>
          <p:spPr>
            <a:xfrm>
              <a:off x="1724040" y="679320"/>
              <a:ext cx="1801800" cy="76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400" spc="-1" strike="noStrike">
                  <a:solidFill>
                    <a:srgbClr val="000000"/>
                  </a:solidFill>
                  <a:latin typeface="Times New Roman"/>
                </a:rPr>
                <a:t>1.</a:t>
              </a:r>
              <a:r>
                <a:rPr b="1" lang="cs-CZ" sz="1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 Primární porucha: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400" spc="-1" strike="noStrike">
                  <a:solidFill>
                    <a:srgbClr val="000000"/>
                  </a:solidFill>
                  <a:latin typeface="Times New Roman"/>
                </a:rPr>
                <a:t>retence CO</a:t>
              </a:r>
              <a:r>
                <a:rPr b="1" lang="cs-CZ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668" name=""/>
            <p:cNvGrpSpPr/>
            <p:nvPr/>
          </p:nvGrpSpPr>
          <p:grpSpPr>
            <a:xfrm>
              <a:off x="1211400" y="685800"/>
              <a:ext cx="560160" cy="917640"/>
              <a:chOff x="1211400" y="685800"/>
              <a:chExt cx="560160" cy="917640"/>
            </a:xfrm>
          </p:grpSpPr>
          <p:sp>
            <p:nvSpPr>
              <p:cNvPr id="12669" name=""/>
              <p:cNvSpPr/>
              <p:nvPr/>
            </p:nvSpPr>
            <p:spPr>
              <a:xfrm>
                <a:off x="1215720" y="755640"/>
                <a:ext cx="550800" cy="630360"/>
              </a:xfrm>
              <a:custGeom>
                <a:avLst/>
                <a:gdLst/>
                <a:ahLst/>
                <a:rect l="l" t="t" r="r" b="b"/>
                <a:pathLst>
                  <a:path w="2256" h="2295">
                    <a:moveTo>
                      <a:pt x="0" y="0"/>
                    </a:moveTo>
                    <a:lnTo>
                      <a:pt x="939" y="1180"/>
                    </a:lnTo>
                    <a:lnTo>
                      <a:pt x="980" y="2175"/>
                    </a:lnTo>
                    <a:lnTo>
                      <a:pt x="983" y="2202"/>
                    </a:lnTo>
                    <a:lnTo>
                      <a:pt x="991" y="2221"/>
                    </a:lnTo>
                    <a:lnTo>
                      <a:pt x="1000" y="2235"/>
                    </a:lnTo>
                    <a:lnTo>
                      <a:pt x="1010" y="2246"/>
                    </a:lnTo>
                    <a:lnTo>
                      <a:pt x="1024" y="2260"/>
                    </a:lnTo>
                    <a:lnTo>
                      <a:pt x="1038" y="2268"/>
                    </a:lnTo>
                    <a:lnTo>
                      <a:pt x="1060" y="2281"/>
                    </a:lnTo>
                    <a:lnTo>
                      <a:pt x="1083" y="2287"/>
                    </a:lnTo>
                    <a:lnTo>
                      <a:pt x="1111" y="2293"/>
                    </a:lnTo>
                    <a:lnTo>
                      <a:pt x="1128" y="2295"/>
                    </a:lnTo>
                    <a:lnTo>
                      <a:pt x="1145" y="2295"/>
                    </a:lnTo>
                    <a:lnTo>
                      <a:pt x="1163" y="2292"/>
                    </a:lnTo>
                    <a:lnTo>
                      <a:pt x="1183" y="2286"/>
                    </a:lnTo>
                    <a:lnTo>
                      <a:pt x="1202" y="2279"/>
                    </a:lnTo>
                    <a:lnTo>
                      <a:pt x="1221" y="2268"/>
                    </a:lnTo>
                    <a:lnTo>
                      <a:pt x="1235" y="2259"/>
                    </a:lnTo>
                    <a:lnTo>
                      <a:pt x="1251" y="2243"/>
                    </a:lnTo>
                    <a:lnTo>
                      <a:pt x="1262" y="2227"/>
                    </a:lnTo>
                    <a:lnTo>
                      <a:pt x="1273" y="2203"/>
                    </a:lnTo>
                    <a:lnTo>
                      <a:pt x="1276" y="2181"/>
                    </a:lnTo>
                    <a:lnTo>
                      <a:pt x="1336" y="1161"/>
                    </a:lnTo>
                    <a:lnTo>
                      <a:pt x="225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70" name=""/>
              <p:cNvSpPr/>
              <p:nvPr/>
            </p:nvSpPr>
            <p:spPr>
              <a:xfrm>
                <a:off x="1211400" y="685800"/>
                <a:ext cx="560160" cy="119160"/>
              </a:xfrm>
              <a:prstGeom prst="ellipse">
                <a:avLst/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71" name=""/>
              <p:cNvSpPr/>
              <p:nvPr/>
            </p:nvSpPr>
            <p:spPr>
              <a:xfrm>
                <a:off x="1255680" y="773280"/>
                <a:ext cx="475920" cy="593640"/>
              </a:xfrm>
              <a:custGeom>
                <a:avLst/>
                <a:gdLst/>
                <a:ahLst/>
                <a:rect l="l" t="t" r="r" b="b"/>
                <a:pathLst>
                  <a:path w="1956" h="2159">
                    <a:moveTo>
                      <a:pt x="0" y="19"/>
                    </a:moveTo>
                    <a:lnTo>
                      <a:pt x="857" y="1063"/>
                    </a:lnTo>
                    <a:lnTo>
                      <a:pt x="879" y="2090"/>
                    </a:lnTo>
                    <a:lnTo>
                      <a:pt x="887" y="2107"/>
                    </a:lnTo>
                    <a:lnTo>
                      <a:pt x="897" y="2123"/>
                    </a:lnTo>
                    <a:lnTo>
                      <a:pt x="906" y="2137"/>
                    </a:lnTo>
                    <a:lnTo>
                      <a:pt x="922" y="2147"/>
                    </a:lnTo>
                    <a:lnTo>
                      <a:pt x="939" y="2156"/>
                    </a:lnTo>
                    <a:lnTo>
                      <a:pt x="962" y="2159"/>
                    </a:lnTo>
                    <a:lnTo>
                      <a:pt x="983" y="2157"/>
                    </a:lnTo>
                    <a:lnTo>
                      <a:pt x="1005" y="2153"/>
                    </a:lnTo>
                    <a:lnTo>
                      <a:pt x="1026" y="2140"/>
                    </a:lnTo>
                    <a:lnTo>
                      <a:pt x="1040" y="2123"/>
                    </a:lnTo>
                    <a:lnTo>
                      <a:pt x="1048" y="2109"/>
                    </a:lnTo>
                    <a:lnTo>
                      <a:pt x="1056" y="2088"/>
                    </a:lnTo>
                    <a:lnTo>
                      <a:pt x="1100" y="1045"/>
                    </a:lnTo>
                    <a:lnTo>
                      <a:pt x="1956" y="0"/>
                    </a:lnTo>
                    <a:lnTo>
                      <a:pt x="1790" y="41"/>
                    </a:lnTo>
                    <a:lnTo>
                      <a:pt x="1531" y="77"/>
                    </a:lnTo>
                    <a:lnTo>
                      <a:pt x="1247" y="98"/>
                    </a:lnTo>
                    <a:lnTo>
                      <a:pt x="962" y="109"/>
                    </a:lnTo>
                    <a:lnTo>
                      <a:pt x="662" y="98"/>
                    </a:lnTo>
                    <a:lnTo>
                      <a:pt x="398" y="77"/>
                    </a:lnTo>
                    <a:lnTo>
                      <a:pt x="178" y="52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72" name=""/>
              <p:cNvSpPr/>
              <p:nvPr/>
            </p:nvSpPr>
            <p:spPr>
              <a:xfrm>
                <a:off x="1336320" y="893880"/>
                <a:ext cx="307800" cy="474840"/>
              </a:xfrm>
              <a:custGeom>
                <a:avLst/>
                <a:gdLst/>
                <a:ahLst/>
                <a:rect l="l" t="t" r="r" b="b"/>
                <a:pathLst>
                  <a:path w="1264" h="1728">
                    <a:moveTo>
                      <a:pt x="0" y="0"/>
                    </a:moveTo>
                    <a:lnTo>
                      <a:pt x="520" y="624"/>
                    </a:lnTo>
                    <a:lnTo>
                      <a:pt x="531" y="1657"/>
                    </a:lnTo>
                    <a:lnTo>
                      <a:pt x="541" y="1674"/>
                    </a:lnTo>
                    <a:lnTo>
                      <a:pt x="553" y="1688"/>
                    </a:lnTo>
                    <a:lnTo>
                      <a:pt x="564" y="1701"/>
                    </a:lnTo>
                    <a:lnTo>
                      <a:pt x="580" y="1715"/>
                    </a:lnTo>
                    <a:lnTo>
                      <a:pt x="608" y="1723"/>
                    </a:lnTo>
                    <a:lnTo>
                      <a:pt x="632" y="1728"/>
                    </a:lnTo>
                    <a:lnTo>
                      <a:pt x="651" y="1725"/>
                    </a:lnTo>
                    <a:lnTo>
                      <a:pt x="673" y="1720"/>
                    </a:lnTo>
                    <a:lnTo>
                      <a:pt x="694" y="1709"/>
                    </a:lnTo>
                    <a:lnTo>
                      <a:pt x="711" y="1692"/>
                    </a:lnTo>
                    <a:lnTo>
                      <a:pt x="723" y="1669"/>
                    </a:lnTo>
                    <a:lnTo>
                      <a:pt x="730" y="1657"/>
                    </a:lnTo>
                    <a:lnTo>
                      <a:pt x="761" y="605"/>
                    </a:lnTo>
                    <a:lnTo>
                      <a:pt x="126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73" name=""/>
              <p:cNvSpPr/>
              <p:nvPr/>
            </p:nvSpPr>
            <p:spPr>
              <a:xfrm>
                <a:off x="1466640" y="1393920"/>
                <a:ext cx="48960" cy="101520"/>
              </a:xfrm>
              <a:custGeom>
                <a:avLst/>
                <a:gdLst/>
                <a:ahLst/>
                <a:rect l="l" t="t" r="r" b="b"/>
                <a:pathLst>
                  <a:path w="196" h="370">
                    <a:moveTo>
                      <a:pt x="95" y="0"/>
                    </a:moveTo>
                    <a:lnTo>
                      <a:pt x="105" y="58"/>
                    </a:lnTo>
                    <a:lnTo>
                      <a:pt x="111" y="87"/>
                    </a:lnTo>
                    <a:lnTo>
                      <a:pt x="121" y="121"/>
                    </a:lnTo>
                    <a:lnTo>
                      <a:pt x="132" y="141"/>
                    </a:lnTo>
                    <a:lnTo>
                      <a:pt x="147" y="166"/>
                    </a:lnTo>
                    <a:lnTo>
                      <a:pt x="167" y="193"/>
                    </a:lnTo>
                    <a:lnTo>
                      <a:pt x="184" y="220"/>
                    </a:lnTo>
                    <a:lnTo>
                      <a:pt x="192" y="245"/>
                    </a:lnTo>
                    <a:lnTo>
                      <a:pt x="196" y="278"/>
                    </a:lnTo>
                    <a:lnTo>
                      <a:pt x="189" y="307"/>
                    </a:lnTo>
                    <a:lnTo>
                      <a:pt x="178" y="328"/>
                    </a:lnTo>
                    <a:lnTo>
                      <a:pt x="162" y="345"/>
                    </a:lnTo>
                    <a:lnTo>
                      <a:pt x="141" y="361"/>
                    </a:lnTo>
                    <a:lnTo>
                      <a:pt x="121" y="367"/>
                    </a:lnTo>
                    <a:lnTo>
                      <a:pt x="99" y="370"/>
                    </a:lnTo>
                    <a:lnTo>
                      <a:pt x="76" y="367"/>
                    </a:lnTo>
                    <a:lnTo>
                      <a:pt x="54" y="362"/>
                    </a:lnTo>
                    <a:lnTo>
                      <a:pt x="34" y="350"/>
                    </a:lnTo>
                    <a:lnTo>
                      <a:pt x="19" y="334"/>
                    </a:lnTo>
                    <a:lnTo>
                      <a:pt x="8" y="315"/>
                    </a:lnTo>
                    <a:lnTo>
                      <a:pt x="3" y="296"/>
                    </a:lnTo>
                    <a:lnTo>
                      <a:pt x="0" y="272"/>
                    </a:lnTo>
                    <a:lnTo>
                      <a:pt x="5" y="240"/>
                    </a:lnTo>
                    <a:lnTo>
                      <a:pt x="13" y="218"/>
                    </a:lnTo>
                    <a:lnTo>
                      <a:pt x="30" y="190"/>
                    </a:lnTo>
                    <a:lnTo>
                      <a:pt x="49" y="166"/>
                    </a:lnTo>
                    <a:lnTo>
                      <a:pt x="62" y="140"/>
                    </a:lnTo>
                    <a:lnTo>
                      <a:pt x="72" y="119"/>
                    </a:lnTo>
                    <a:lnTo>
                      <a:pt x="81" y="90"/>
                    </a:lnTo>
                    <a:lnTo>
                      <a:pt x="86" y="58"/>
                    </a:lnTo>
                    <a:lnTo>
                      <a:pt x="95" y="0"/>
                    </a:lnTo>
                    <a:close/>
                  </a:path>
                </a:pathLst>
              </a:cu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74" name=""/>
              <p:cNvSpPr/>
              <p:nvPr/>
            </p:nvSpPr>
            <p:spPr>
              <a:xfrm>
                <a:off x="1239840" y="696960"/>
                <a:ext cx="502560" cy="96840"/>
              </a:xfrm>
              <a:prstGeom prst="ellips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75" name=""/>
              <p:cNvSpPr/>
              <p:nvPr/>
            </p:nvSpPr>
            <p:spPr>
              <a:xfrm>
                <a:off x="1466640" y="1501920"/>
                <a:ext cx="48960" cy="101520"/>
              </a:xfrm>
              <a:custGeom>
                <a:avLst/>
                <a:gdLst/>
                <a:ahLst/>
                <a:rect l="l" t="t" r="r" b="b"/>
                <a:pathLst>
                  <a:path w="196" h="372">
                    <a:moveTo>
                      <a:pt x="95" y="0"/>
                    </a:moveTo>
                    <a:lnTo>
                      <a:pt x="105" y="60"/>
                    </a:lnTo>
                    <a:lnTo>
                      <a:pt x="111" y="88"/>
                    </a:lnTo>
                    <a:lnTo>
                      <a:pt x="121" y="122"/>
                    </a:lnTo>
                    <a:lnTo>
                      <a:pt x="132" y="143"/>
                    </a:lnTo>
                    <a:lnTo>
                      <a:pt x="147" y="168"/>
                    </a:lnTo>
                    <a:lnTo>
                      <a:pt x="167" y="195"/>
                    </a:lnTo>
                    <a:lnTo>
                      <a:pt x="184" y="221"/>
                    </a:lnTo>
                    <a:lnTo>
                      <a:pt x="192" y="247"/>
                    </a:lnTo>
                    <a:lnTo>
                      <a:pt x="196" y="279"/>
                    </a:lnTo>
                    <a:lnTo>
                      <a:pt x="189" y="308"/>
                    </a:lnTo>
                    <a:lnTo>
                      <a:pt x="178" y="328"/>
                    </a:lnTo>
                    <a:lnTo>
                      <a:pt x="162" y="345"/>
                    </a:lnTo>
                    <a:lnTo>
                      <a:pt x="141" y="361"/>
                    </a:lnTo>
                    <a:lnTo>
                      <a:pt x="121" y="369"/>
                    </a:lnTo>
                    <a:lnTo>
                      <a:pt x="99" y="372"/>
                    </a:lnTo>
                    <a:lnTo>
                      <a:pt x="76" y="369"/>
                    </a:lnTo>
                    <a:lnTo>
                      <a:pt x="54" y="363"/>
                    </a:lnTo>
                    <a:lnTo>
                      <a:pt x="34" y="351"/>
                    </a:lnTo>
                    <a:lnTo>
                      <a:pt x="19" y="336"/>
                    </a:lnTo>
                    <a:lnTo>
                      <a:pt x="8" y="317"/>
                    </a:lnTo>
                    <a:lnTo>
                      <a:pt x="3" y="298"/>
                    </a:lnTo>
                    <a:lnTo>
                      <a:pt x="0" y="272"/>
                    </a:lnTo>
                    <a:lnTo>
                      <a:pt x="5" y="242"/>
                    </a:lnTo>
                    <a:lnTo>
                      <a:pt x="13" y="219"/>
                    </a:lnTo>
                    <a:lnTo>
                      <a:pt x="30" y="191"/>
                    </a:lnTo>
                    <a:lnTo>
                      <a:pt x="49" y="168"/>
                    </a:lnTo>
                    <a:lnTo>
                      <a:pt x="62" y="141"/>
                    </a:lnTo>
                    <a:lnTo>
                      <a:pt x="72" y="120"/>
                    </a:lnTo>
                    <a:lnTo>
                      <a:pt x="81" y="90"/>
                    </a:lnTo>
                    <a:lnTo>
                      <a:pt x="86" y="60"/>
                    </a:lnTo>
                    <a:lnTo>
                      <a:pt x="95" y="0"/>
                    </a:lnTo>
                    <a:close/>
                  </a:path>
                </a:pathLst>
              </a:cu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76" name=""/>
              <p:cNvSpPr/>
              <p:nvPr/>
            </p:nvSpPr>
            <p:spPr>
              <a:xfrm>
                <a:off x="1333440" y="855720"/>
                <a:ext cx="315360" cy="61920"/>
              </a:xfrm>
              <a:prstGeom prst="ellipse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77" name=""/>
              <p:cNvSpPr/>
              <p:nvPr/>
            </p:nvSpPr>
            <p:spPr>
              <a:xfrm>
                <a:off x="1469880" y="1328760"/>
                <a:ext cx="41040" cy="47880"/>
              </a:xfrm>
              <a:prstGeom prst="ellipse">
                <a:avLst/>
              </a:prstGeom>
              <a:solidFill>
                <a:srgbClr val="009999"/>
              </a:solidFill>
              <a:ln w="1764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678" name=""/>
            <p:cNvSpPr/>
            <p:nvPr/>
          </p:nvSpPr>
          <p:spPr>
            <a:xfrm>
              <a:off x="3281400" y="4692600"/>
              <a:ext cx="2714760" cy="52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400" spc="-1" strike="noStrike">
                  <a:solidFill>
                    <a:srgbClr val="000000"/>
                  </a:solidFill>
                  <a:latin typeface="Times New Roman"/>
                </a:rPr>
                <a:t>4. </a:t>
              </a:r>
              <a:r>
                <a:rPr b="1" lang="cs-CZ" sz="1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Patofyziologický důsledek:</a:t>
              </a:r>
              <a:r>
                <a:rPr b="1" lang="cs-CZ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400" spc="-1" strike="noStrike">
                  <a:solidFill>
                    <a:srgbClr val="000000"/>
                  </a:solidFill>
                  <a:latin typeface="Times New Roman"/>
                </a:rPr>
                <a:t>Zvýšená hladina H</a:t>
              </a:r>
              <a:r>
                <a:rPr b="0" lang="cs-CZ" sz="1400" spc="-1" strike="noStrike" baseline="46000">
                  <a:solidFill>
                    <a:srgbClr val="000000"/>
                  </a:solidFill>
                  <a:latin typeface="Times New Roman"/>
                </a:rPr>
                <a:t>+ </a:t>
              </a:r>
              <a:r>
                <a:rPr b="1" lang="cs-CZ" sz="1400" spc="-1" strike="noStrike">
                  <a:solidFill>
                    <a:srgbClr val="000000"/>
                  </a:solidFill>
                  <a:latin typeface="Times New Roman"/>
                </a:rPr>
                <a:t>se sníží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9" name=""/>
            <p:cNvSpPr/>
            <p:nvPr/>
          </p:nvSpPr>
          <p:spPr>
            <a:xfrm>
              <a:off x="5383080" y="2017800"/>
              <a:ext cx="9720" cy="293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0" name=""/>
            <p:cNvSpPr/>
            <p:nvPr/>
          </p:nvSpPr>
          <p:spPr>
            <a:xfrm>
              <a:off x="5129280" y="3840120"/>
              <a:ext cx="1440" cy="352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1" name=""/>
            <p:cNvSpPr/>
            <p:nvPr/>
          </p:nvSpPr>
          <p:spPr>
            <a:xfrm>
              <a:off x="5446080" y="6014880"/>
              <a:ext cx="83304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Arial"/>
                </a:rPr>
                <a:t>Buf </a:t>
              </a:r>
              <a:r>
                <a:rPr b="1" lang="cs-CZ" sz="2400" spc="-1" strike="noStrike" baseline="70000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2" name=""/>
            <p:cNvSpPr/>
            <p:nvPr/>
          </p:nvSpPr>
          <p:spPr>
            <a:xfrm>
              <a:off x="7720920" y="4964040"/>
              <a:ext cx="90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Arial"/>
                </a:rPr>
                <a:t>HBu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3" name=""/>
            <p:cNvSpPr/>
            <p:nvPr/>
          </p:nvSpPr>
          <p:spPr>
            <a:xfrm>
              <a:off x="5840280" y="4205160"/>
              <a:ext cx="1735200" cy="1024200"/>
            </a:xfrm>
            <a:custGeom>
              <a:avLst/>
              <a:gdLst/>
              <a:ahLst/>
              <a:rect l="l" t="t" r="r" b="b"/>
              <a:pathLst>
                <a:path w="1093" h="645">
                  <a:moveTo>
                    <a:pt x="1093" y="645"/>
                  </a:moveTo>
                  <a:lnTo>
                    <a:pt x="700" y="645"/>
                  </a:lnTo>
                  <a:cubicBezTo>
                    <a:pt x="624" y="627"/>
                    <a:pt x="646" y="630"/>
                    <a:pt x="635" y="538"/>
                  </a:cubicBezTo>
                  <a:lnTo>
                    <a:pt x="635" y="91"/>
                  </a:lnTo>
                  <a:cubicBezTo>
                    <a:pt x="622" y="1"/>
                    <a:pt x="660" y="15"/>
                    <a:pt x="554" y="0"/>
                  </a:cubicBezTo>
                  <a:lnTo>
                    <a:pt x="0" y="1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4" name=""/>
            <p:cNvSpPr/>
            <p:nvPr/>
          </p:nvSpPr>
          <p:spPr>
            <a:xfrm flipH="1" flipV="1">
              <a:off x="6352560" y="5219640"/>
              <a:ext cx="1222200" cy="1023840"/>
            </a:xfrm>
            <a:custGeom>
              <a:avLst/>
              <a:gdLst/>
              <a:ahLst/>
              <a:rect l="l" t="t" r="r" b="b"/>
              <a:pathLst>
                <a:path w="866" h="645">
                  <a:moveTo>
                    <a:pt x="0" y="645"/>
                  </a:moveTo>
                  <a:lnTo>
                    <a:pt x="442" y="645"/>
                  </a:lnTo>
                  <a:cubicBezTo>
                    <a:pt x="528" y="627"/>
                    <a:pt x="503" y="630"/>
                    <a:pt x="515" y="538"/>
                  </a:cubicBezTo>
                  <a:lnTo>
                    <a:pt x="515" y="91"/>
                  </a:lnTo>
                  <a:cubicBezTo>
                    <a:pt x="530" y="1"/>
                    <a:pt x="548" y="15"/>
                    <a:pt x="606" y="0"/>
                  </a:cubicBezTo>
                  <a:lnTo>
                    <a:pt x="866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5" name=""/>
            <p:cNvSpPr/>
            <p:nvPr/>
          </p:nvSpPr>
          <p:spPr>
            <a:xfrm>
              <a:off x="6127560" y="178596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6" name=""/>
            <p:cNvSpPr/>
            <p:nvPr/>
          </p:nvSpPr>
          <p:spPr>
            <a:xfrm>
              <a:off x="4726080" y="2629080"/>
              <a:ext cx="2841480" cy="74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400" spc="-1" strike="noStrike">
                  <a:solidFill>
                    <a:srgbClr val="000000"/>
                  </a:solidFill>
                  <a:latin typeface="Times New Roman"/>
                </a:rPr>
                <a:t>3. Přísun bikarbonátů posune rovnováhu doprava, bikarbonáty vyvazují H</a:t>
              </a:r>
              <a:r>
                <a:rPr b="0" lang="cs-CZ" sz="1400" spc="-1" strike="noStrike" baseline="46000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lang="cs-CZ" sz="1400" spc="-1" strike="noStrike">
                  <a:solidFill>
                    <a:srgbClr val="000000"/>
                  </a:solidFill>
                  <a:latin typeface="Times New Roman"/>
                </a:rPr>
                <a:t> iont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7" name=""/>
            <p:cNvSpPr/>
            <p:nvPr/>
          </p:nvSpPr>
          <p:spPr>
            <a:xfrm>
              <a:off x="7693200" y="5029200"/>
              <a:ext cx="9360" cy="293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8" name=""/>
            <p:cNvSpPr/>
            <p:nvPr/>
          </p:nvSpPr>
          <p:spPr>
            <a:xfrm>
              <a:off x="5402160" y="6083280"/>
              <a:ext cx="9720" cy="293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9" name=""/>
            <p:cNvSpPr/>
            <p:nvPr/>
          </p:nvSpPr>
          <p:spPr>
            <a:xfrm>
              <a:off x="7543800" y="2284560"/>
              <a:ext cx="969840" cy="825480"/>
            </a:xfrm>
            <a:custGeom>
              <a:avLst/>
              <a:gdLst/>
              <a:ahLst/>
              <a:rect l="l" t="t" r="r" b="b"/>
              <a:pathLst>
                <a:path w="611" h="520">
                  <a:moveTo>
                    <a:pt x="0" y="520"/>
                  </a:moveTo>
                  <a:cubicBezTo>
                    <a:pt x="86" y="504"/>
                    <a:pt x="429" y="511"/>
                    <a:pt x="520" y="425"/>
                  </a:cubicBezTo>
                  <a:cubicBezTo>
                    <a:pt x="611" y="339"/>
                    <a:pt x="542" y="89"/>
                    <a:pt x="547" y="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prstDash val="sysDot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0" name=""/>
            <p:cNvSpPr/>
            <p:nvPr/>
          </p:nvSpPr>
          <p:spPr>
            <a:xfrm>
              <a:off x="33480" y="27000"/>
              <a:ext cx="3151080" cy="4510080"/>
            </a:xfrm>
            <a:custGeom>
              <a:avLst/>
              <a:gdLst/>
              <a:ahLst/>
              <a:rect l="l" t="t" r="r" b="b"/>
              <a:pathLst>
                <a:path w="1985" h="2841">
                  <a:moveTo>
                    <a:pt x="1487" y="419"/>
                  </a:moveTo>
                  <a:cubicBezTo>
                    <a:pt x="1482" y="347"/>
                    <a:pt x="1509" y="111"/>
                    <a:pt x="1296" y="87"/>
                  </a:cubicBezTo>
                  <a:cubicBezTo>
                    <a:pt x="1083" y="63"/>
                    <a:pt x="414" y="0"/>
                    <a:pt x="207" y="274"/>
                  </a:cubicBezTo>
                  <a:cubicBezTo>
                    <a:pt x="0" y="547"/>
                    <a:pt x="48" y="1334"/>
                    <a:pt x="53" y="1726"/>
                  </a:cubicBezTo>
                  <a:cubicBezTo>
                    <a:pt x="58" y="2118"/>
                    <a:pt x="76" y="2443"/>
                    <a:pt x="236" y="2629"/>
                  </a:cubicBezTo>
                  <a:cubicBezTo>
                    <a:pt x="396" y="2815"/>
                    <a:pt x="793" y="2841"/>
                    <a:pt x="1013" y="2840"/>
                  </a:cubicBezTo>
                  <a:cubicBezTo>
                    <a:pt x="1233" y="2839"/>
                    <a:pt x="1394" y="2666"/>
                    <a:pt x="1556" y="2623"/>
                  </a:cubicBezTo>
                  <a:cubicBezTo>
                    <a:pt x="1718" y="2580"/>
                    <a:pt x="1896" y="2591"/>
                    <a:pt x="1985" y="2583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1" name=""/>
            <p:cNvSpPr/>
            <p:nvPr/>
          </p:nvSpPr>
          <p:spPr>
            <a:xfrm>
              <a:off x="4392720" y="3270240"/>
              <a:ext cx="4627440" cy="3565440"/>
            </a:xfrm>
            <a:custGeom>
              <a:avLst/>
              <a:gdLst/>
              <a:ahLst/>
              <a:rect l="l" t="t" r="r" b="b"/>
              <a:pathLst>
                <a:path w="2915" h="2246">
                  <a:moveTo>
                    <a:pt x="1916" y="0"/>
                  </a:moveTo>
                  <a:cubicBezTo>
                    <a:pt x="2032" y="45"/>
                    <a:pt x="2456" y="109"/>
                    <a:pt x="2618" y="270"/>
                  </a:cubicBezTo>
                  <a:cubicBezTo>
                    <a:pt x="2780" y="431"/>
                    <a:pt x="2915" y="669"/>
                    <a:pt x="2888" y="966"/>
                  </a:cubicBezTo>
                  <a:cubicBezTo>
                    <a:pt x="2861" y="1263"/>
                    <a:pt x="2870" y="1864"/>
                    <a:pt x="2453" y="2054"/>
                  </a:cubicBezTo>
                  <a:cubicBezTo>
                    <a:pt x="2036" y="2244"/>
                    <a:pt x="776" y="2246"/>
                    <a:pt x="388" y="2107"/>
                  </a:cubicBezTo>
                  <a:cubicBezTo>
                    <a:pt x="0" y="1968"/>
                    <a:pt x="117" y="1454"/>
                    <a:pt x="127" y="122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2" name=""/>
            <p:cNvSpPr/>
            <p:nvPr/>
          </p:nvSpPr>
          <p:spPr>
            <a:xfrm>
              <a:off x="3784680" y="934920"/>
              <a:ext cx="1727280" cy="1800"/>
            </a:xfrm>
            <a:custGeom>
              <a:avLst/>
              <a:gdLst/>
              <a:ahLst/>
              <a:rect l="l" t="t" r="r" b="b"/>
              <a:pathLst>
                <a:path w="1088" h="1">
                  <a:moveTo>
                    <a:pt x="1088" y="0"/>
                  </a:moveTo>
                  <a:cubicBezTo>
                    <a:pt x="907" y="0"/>
                    <a:pt x="227" y="0"/>
                    <a:pt x="0" y="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prstDash val="sysDot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3" name=""/>
            <p:cNvSpPr/>
            <p:nvPr/>
          </p:nvSpPr>
          <p:spPr>
            <a:xfrm>
              <a:off x="3478320" y="-11160"/>
              <a:ext cx="5743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Renální kompenzace respirační acidóz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4" name=""/>
            <p:cNvSpPr/>
            <p:nvPr/>
          </p:nvSpPr>
          <p:spPr>
            <a:xfrm>
              <a:off x="6939000" y="492120"/>
              <a:ext cx="2198520" cy="179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400" spc="-1" strike="noStrike">
                  <a:solidFill>
                    <a:srgbClr val="000000"/>
                  </a:solidFill>
                  <a:latin typeface="Times New Roman"/>
                </a:rPr>
                <a:t>2.</a:t>
              </a:r>
              <a:r>
                <a:rPr b="1" lang="cs-CZ" sz="1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 Regulační zásah ledvin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400" spc="-1" strike="noStrike">
                  <a:solidFill>
                    <a:srgbClr val="000000"/>
                  </a:solidFill>
                  <a:latin typeface="Times New Roman"/>
                </a:rPr>
                <a:t>zvýšení vylučování vodíkových iontů ve formě titrovatelné acidity (TA) a amonných iontů, provázené ekvimolárním přísunem bikarbonátů do vnitřního prostředí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695" name=""/>
            <p:cNvGrpSpPr/>
            <p:nvPr/>
          </p:nvGrpSpPr>
          <p:grpSpPr>
            <a:xfrm>
              <a:off x="5535720" y="534960"/>
              <a:ext cx="560160" cy="917640"/>
              <a:chOff x="5535720" y="534960"/>
              <a:chExt cx="560160" cy="917640"/>
            </a:xfrm>
          </p:grpSpPr>
          <p:sp>
            <p:nvSpPr>
              <p:cNvPr id="12696" name=""/>
              <p:cNvSpPr/>
              <p:nvPr/>
            </p:nvSpPr>
            <p:spPr>
              <a:xfrm>
                <a:off x="5540040" y="604800"/>
                <a:ext cx="550800" cy="630360"/>
              </a:xfrm>
              <a:custGeom>
                <a:avLst/>
                <a:gdLst/>
                <a:ahLst/>
                <a:rect l="l" t="t" r="r" b="b"/>
                <a:pathLst>
                  <a:path w="2256" h="2295">
                    <a:moveTo>
                      <a:pt x="0" y="0"/>
                    </a:moveTo>
                    <a:lnTo>
                      <a:pt x="939" y="1180"/>
                    </a:lnTo>
                    <a:lnTo>
                      <a:pt x="980" y="2175"/>
                    </a:lnTo>
                    <a:lnTo>
                      <a:pt x="983" y="2202"/>
                    </a:lnTo>
                    <a:lnTo>
                      <a:pt x="991" y="2221"/>
                    </a:lnTo>
                    <a:lnTo>
                      <a:pt x="1000" y="2235"/>
                    </a:lnTo>
                    <a:lnTo>
                      <a:pt x="1010" y="2246"/>
                    </a:lnTo>
                    <a:lnTo>
                      <a:pt x="1024" y="2260"/>
                    </a:lnTo>
                    <a:lnTo>
                      <a:pt x="1038" y="2268"/>
                    </a:lnTo>
                    <a:lnTo>
                      <a:pt x="1060" y="2281"/>
                    </a:lnTo>
                    <a:lnTo>
                      <a:pt x="1083" y="2287"/>
                    </a:lnTo>
                    <a:lnTo>
                      <a:pt x="1111" y="2293"/>
                    </a:lnTo>
                    <a:lnTo>
                      <a:pt x="1128" y="2295"/>
                    </a:lnTo>
                    <a:lnTo>
                      <a:pt x="1145" y="2295"/>
                    </a:lnTo>
                    <a:lnTo>
                      <a:pt x="1163" y="2292"/>
                    </a:lnTo>
                    <a:lnTo>
                      <a:pt x="1183" y="2286"/>
                    </a:lnTo>
                    <a:lnTo>
                      <a:pt x="1202" y="2279"/>
                    </a:lnTo>
                    <a:lnTo>
                      <a:pt x="1221" y="2268"/>
                    </a:lnTo>
                    <a:lnTo>
                      <a:pt x="1235" y="2259"/>
                    </a:lnTo>
                    <a:lnTo>
                      <a:pt x="1251" y="2243"/>
                    </a:lnTo>
                    <a:lnTo>
                      <a:pt x="1262" y="2227"/>
                    </a:lnTo>
                    <a:lnTo>
                      <a:pt x="1273" y="2203"/>
                    </a:lnTo>
                    <a:lnTo>
                      <a:pt x="1276" y="2181"/>
                    </a:lnTo>
                    <a:lnTo>
                      <a:pt x="1336" y="1161"/>
                    </a:lnTo>
                    <a:lnTo>
                      <a:pt x="225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97" name=""/>
              <p:cNvSpPr/>
              <p:nvPr/>
            </p:nvSpPr>
            <p:spPr>
              <a:xfrm>
                <a:off x="5535720" y="534960"/>
                <a:ext cx="560160" cy="119160"/>
              </a:xfrm>
              <a:prstGeom prst="ellipse">
                <a:avLst/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98" name=""/>
              <p:cNvSpPr/>
              <p:nvPr/>
            </p:nvSpPr>
            <p:spPr>
              <a:xfrm>
                <a:off x="5580000" y="622440"/>
                <a:ext cx="475920" cy="593640"/>
              </a:xfrm>
              <a:custGeom>
                <a:avLst/>
                <a:gdLst/>
                <a:ahLst/>
                <a:rect l="l" t="t" r="r" b="b"/>
                <a:pathLst>
                  <a:path w="1956" h="2159">
                    <a:moveTo>
                      <a:pt x="0" y="19"/>
                    </a:moveTo>
                    <a:lnTo>
                      <a:pt x="857" y="1063"/>
                    </a:lnTo>
                    <a:lnTo>
                      <a:pt x="879" y="2090"/>
                    </a:lnTo>
                    <a:lnTo>
                      <a:pt x="887" y="2107"/>
                    </a:lnTo>
                    <a:lnTo>
                      <a:pt x="897" y="2123"/>
                    </a:lnTo>
                    <a:lnTo>
                      <a:pt x="906" y="2137"/>
                    </a:lnTo>
                    <a:lnTo>
                      <a:pt x="922" y="2147"/>
                    </a:lnTo>
                    <a:lnTo>
                      <a:pt x="939" y="2156"/>
                    </a:lnTo>
                    <a:lnTo>
                      <a:pt x="962" y="2159"/>
                    </a:lnTo>
                    <a:lnTo>
                      <a:pt x="983" y="2157"/>
                    </a:lnTo>
                    <a:lnTo>
                      <a:pt x="1005" y="2153"/>
                    </a:lnTo>
                    <a:lnTo>
                      <a:pt x="1026" y="2140"/>
                    </a:lnTo>
                    <a:lnTo>
                      <a:pt x="1040" y="2123"/>
                    </a:lnTo>
                    <a:lnTo>
                      <a:pt x="1048" y="2109"/>
                    </a:lnTo>
                    <a:lnTo>
                      <a:pt x="1056" y="2088"/>
                    </a:lnTo>
                    <a:lnTo>
                      <a:pt x="1100" y="1045"/>
                    </a:lnTo>
                    <a:lnTo>
                      <a:pt x="1956" y="0"/>
                    </a:lnTo>
                    <a:lnTo>
                      <a:pt x="1790" y="41"/>
                    </a:lnTo>
                    <a:lnTo>
                      <a:pt x="1531" y="77"/>
                    </a:lnTo>
                    <a:lnTo>
                      <a:pt x="1247" y="98"/>
                    </a:lnTo>
                    <a:lnTo>
                      <a:pt x="962" y="109"/>
                    </a:lnTo>
                    <a:lnTo>
                      <a:pt x="662" y="98"/>
                    </a:lnTo>
                    <a:lnTo>
                      <a:pt x="398" y="77"/>
                    </a:lnTo>
                    <a:lnTo>
                      <a:pt x="178" y="52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99" name=""/>
              <p:cNvSpPr/>
              <p:nvPr/>
            </p:nvSpPr>
            <p:spPr>
              <a:xfrm>
                <a:off x="5660640" y="743040"/>
                <a:ext cx="307800" cy="474840"/>
              </a:xfrm>
              <a:custGeom>
                <a:avLst/>
                <a:gdLst/>
                <a:ahLst/>
                <a:rect l="l" t="t" r="r" b="b"/>
                <a:pathLst>
                  <a:path w="1264" h="1728">
                    <a:moveTo>
                      <a:pt x="0" y="0"/>
                    </a:moveTo>
                    <a:lnTo>
                      <a:pt x="520" y="624"/>
                    </a:lnTo>
                    <a:lnTo>
                      <a:pt x="531" y="1657"/>
                    </a:lnTo>
                    <a:lnTo>
                      <a:pt x="541" y="1674"/>
                    </a:lnTo>
                    <a:lnTo>
                      <a:pt x="553" y="1688"/>
                    </a:lnTo>
                    <a:lnTo>
                      <a:pt x="564" y="1701"/>
                    </a:lnTo>
                    <a:lnTo>
                      <a:pt x="580" y="1715"/>
                    </a:lnTo>
                    <a:lnTo>
                      <a:pt x="608" y="1723"/>
                    </a:lnTo>
                    <a:lnTo>
                      <a:pt x="632" y="1728"/>
                    </a:lnTo>
                    <a:lnTo>
                      <a:pt x="651" y="1725"/>
                    </a:lnTo>
                    <a:lnTo>
                      <a:pt x="673" y="1720"/>
                    </a:lnTo>
                    <a:lnTo>
                      <a:pt x="694" y="1709"/>
                    </a:lnTo>
                    <a:lnTo>
                      <a:pt x="711" y="1692"/>
                    </a:lnTo>
                    <a:lnTo>
                      <a:pt x="723" y="1669"/>
                    </a:lnTo>
                    <a:lnTo>
                      <a:pt x="730" y="1657"/>
                    </a:lnTo>
                    <a:lnTo>
                      <a:pt x="761" y="605"/>
                    </a:lnTo>
                    <a:lnTo>
                      <a:pt x="126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00" name=""/>
              <p:cNvSpPr/>
              <p:nvPr/>
            </p:nvSpPr>
            <p:spPr>
              <a:xfrm>
                <a:off x="5790960" y="1243080"/>
                <a:ext cx="48960" cy="101520"/>
              </a:xfrm>
              <a:custGeom>
                <a:avLst/>
                <a:gdLst/>
                <a:ahLst/>
                <a:rect l="l" t="t" r="r" b="b"/>
                <a:pathLst>
                  <a:path w="196" h="370">
                    <a:moveTo>
                      <a:pt x="95" y="0"/>
                    </a:moveTo>
                    <a:lnTo>
                      <a:pt x="105" y="58"/>
                    </a:lnTo>
                    <a:lnTo>
                      <a:pt x="111" y="87"/>
                    </a:lnTo>
                    <a:lnTo>
                      <a:pt x="121" y="121"/>
                    </a:lnTo>
                    <a:lnTo>
                      <a:pt x="132" y="141"/>
                    </a:lnTo>
                    <a:lnTo>
                      <a:pt x="147" y="166"/>
                    </a:lnTo>
                    <a:lnTo>
                      <a:pt x="167" y="193"/>
                    </a:lnTo>
                    <a:lnTo>
                      <a:pt x="184" y="220"/>
                    </a:lnTo>
                    <a:lnTo>
                      <a:pt x="192" y="245"/>
                    </a:lnTo>
                    <a:lnTo>
                      <a:pt x="196" y="278"/>
                    </a:lnTo>
                    <a:lnTo>
                      <a:pt x="189" y="307"/>
                    </a:lnTo>
                    <a:lnTo>
                      <a:pt x="178" y="328"/>
                    </a:lnTo>
                    <a:lnTo>
                      <a:pt x="162" y="345"/>
                    </a:lnTo>
                    <a:lnTo>
                      <a:pt x="141" y="361"/>
                    </a:lnTo>
                    <a:lnTo>
                      <a:pt x="121" y="367"/>
                    </a:lnTo>
                    <a:lnTo>
                      <a:pt x="99" y="370"/>
                    </a:lnTo>
                    <a:lnTo>
                      <a:pt x="76" y="367"/>
                    </a:lnTo>
                    <a:lnTo>
                      <a:pt x="54" y="362"/>
                    </a:lnTo>
                    <a:lnTo>
                      <a:pt x="34" y="350"/>
                    </a:lnTo>
                    <a:lnTo>
                      <a:pt x="19" y="334"/>
                    </a:lnTo>
                    <a:lnTo>
                      <a:pt x="8" y="315"/>
                    </a:lnTo>
                    <a:lnTo>
                      <a:pt x="3" y="296"/>
                    </a:lnTo>
                    <a:lnTo>
                      <a:pt x="0" y="272"/>
                    </a:lnTo>
                    <a:lnTo>
                      <a:pt x="5" y="240"/>
                    </a:lnTo>
                    <a:lnTo>
                      <a:pt x="13" y="218"/>
                    </a:lnTo>
                    <a:lnTo>
                      <a:pt x="30" y="190"/>
                    </a:lnTo>
                    <a:lnTo>
                      <a:pt x="49" y="166"/>
                    </a:lnTo>
                    <a:lnTo>
                      <a:pt x="62" y="140"/>
                    </a:lnTo>
                    <a:lnTo>
                      <a:pt x="72" y="119"/>
                    </a:lnTo>
                    <a:lnTo>
                      <a:pt x="81" y="90"/>
                    </a:lnTo>
                    <a:lnTo>
                      <a:pt x="86" y="58"/>
                    </a:lnTo>
                    <a:lnTo>
                      <a:pt x="95" y="0"/>
                    </a:lnTo>
                    <a:close/>
                  </a:path>
                </a:pathLst>
              </a:cu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01" name=""/>
              <p:cNvSpPr/>
              <p:nvPr/>
            </p:nvSpPr>
            <p:spPr>
              <a:xfrm>
                <a:off x="5564160" y="546120"/>
                <a:ext cx="502560" cy="96840"/>
              </a:xfrm>
              <a:prstGeom prst="ellips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02" name=""/>
              <p:cNvSpPr/>
              <p:nvPr/>
            </p:nvSpPr>
            <p:spPr>
              <a:xfrm>
                <a:off x="5790960" y="1351080"/>
                <a:ext cx="48960" cy="101520"/>
              </a:xfrm>
              <a:custGeom>
                <a:avLst/>
                <a:gdLst/>
                <a:ahLst/>
                <a:rect l="l" t="t" r="r" b="b"/>
                <a:pathLst>
                  <a:path w="196" h="372">
                    <a:moveTo>
                      <a:pt x="95" y="0"/>
                    </a:moveTo>
                    <a:lnTo>
                      <a:pt x="105" y="60"/>
                    </a:lnTo>
                    <a:lnTo>
                      <a:pt x="111" y="88"/>
                    </a:lnTo>
                    <a:lnTo>
                      <a:pt x="121" y="122"/>
                    </a:lnTo>
                    <a:lnTo>
                      <a:pt x="132" y="143"/>
                    </a:lnTo>
                    <a:lnTo>
                      <a:pt x="147" y="168"/>
                    </a:lnTo>
                    <a:lnTo>
                      <a:pt x="167" y="195"/>
                    </a:lnTo>
                    <a:lnTo>
                      <a:pt x="184" y="221"/>
                    </a:lnTo>
                    <a:lnTo>
                      <a:pt x="192" y="247"/>
                    </a:lnTo>
                    <a:lnTo>
                      <a:pt x="196" y="279"/>
                    </a:lnTo>
                    <a:lnTo>
                      <a:pt x="189" y="308"/>
                    </a:lnTo>
                    <a:lnTo>
                      <a:pt x="178" y="328"/>
                    </a:lnTo>
                    <a:lnTo>
                      <a:pt x="162" y="345"/>
                    </a:lnTo>
                    <a:lnTo>
                      <a:pt x="141" y="361"/>
                    </a:lnTo>
                    <a:lnTo>
                      <a:pt x="121" y="369"/>
                    </a:lnTo>
                    <a:lnTo>
                      <a:pt x="99" y="372"/>
                    </a:lnTo>
                    <a:lnTo>
                      <a:pt x="76" y="369"/>
                    </a:lnTo>
                    <a:lnTo>
                      <a:pt x="54" y="363"/>
                    </a:lnTo>
                    <a:lnTo>
                      <a:pt x="34" y="351"/>
                    </a:lnTo>
                    <a:lnTo>
                      <a:pt x="19" y="336"/>
                    </a:lnTo>
                    <a:lnTo>
                      <a:pt x="8" y="317"/>
                    </a:lnTo>
                    <a:lnTo>
                      <a:pt x="3" y="298"/>
                    </a:lnTo>
                    <a:lnTo>
                      <a:pt x="0" y="272"/>
                    </a:lnTo>
                    <a:lnTo>
                      <a:pt x="5" y="242"/>
                    </a:lnTo>
                    <a:lnTo>
                      <a:pt x="13" y="219"/>
                    </a:lnTo>
                    <a:lnTo>
                      <a:pt x="30" y="191"/>
                    </a:lnTo>
                    <a:lnTo>
                      <a:pt x="49" y="168"/>
                    </a:lnTo>
                    <a:lnTo>
                      <a:pt x="62" y="141"/>
                    </a:lnTo>
                    <a:lnTo>
                      <a:pt x="72" y="120"/>
                    </a:lnTo>
                    <a:lnTo>
                      <a:pt x="81" y="90"/>
                    </a:lnTo>
                    <a:lnTo>
                      <a:pt x="86" y="60"/>
                    </a:lnTo>
                    <a:lnTo>
                      <a:pt x="95" y="0"/>
                    </a:lnTo>
                    <a:close/>
                  </a:path>
                </a:pathLst>
              </a:cu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03" name=""/>
              <p:cNvSpPr/>
              <p:nvPr/>
            </p:nvSpPr>
            <p:spPr>
              <a:xfrm>
                <a:off x="5657760" y="704880"/>
                <a:ext cx="315360" cy="61920"/>
              </a:xfrm>
              <a:prstGeom prst="ellipse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04" name=""/>
              <p:cNvSpPr/>
              <p:nvPr/>
            </p:nvSpPr>
            <p:spPr>
              <a:xfrm>
                <a:off x="5794200" y="1177920"/>
                <a:ext cx="41040" cy="47880"/>
              </a:xfrm>
              <a:prstGeom prst="ellipse">
                <a:avLst/>
              </a:prstGeom>
              <a:solidFill>
                <a:srgbClr val="009999"/>
              </a:solidFill>
              <a:ln w="1764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05" name=""/>
            <p:cNvGrpSpPr/>
            <p:nvPr/>
          </p:nvGrpSpPr>
          <p:grpSpPr>
            <a:xfrm>
              <a:off x="6350040" y="2316240"/>
              <a:ext cx="950760" cy="336240"/>
              <a:chOff x="6350040" y="2316240"/>
              <a:chExt cx="950760" cy="336240"/>
            </a:xfrm>
          </p:grpSpPr>
          <p:sp>
            <p:nvSpPr>
              <p:cNvPr id="12706" name=""/>
              <p:cNvSpPr/>
              <p:nvPr/>
            </p:nvSpPr>
            <p:spPr>
              <a:xfrm>
                <a:off x="6350040" y="2316240"/>
                <a:ext cx="95076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1400" spc="-1" strike="noStrike">
                    <a:solidFill>
                      <a:srgbClr val="000000"/>
                    </a:solidFill>
                    <a:latin typeface="Arial"/>
                  </a:rPr>
                  <a:t>TA+NH</a:t>
                </a:r>
                <a:r>
                  <a:rPr b="1" lang="cs-CZ" sz="1400" spc="-1" strike="noStrike" baseline="-25000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07" name=""/>
              <p:cNvSpPr/>
              <p:nvPr/>
            </p:nvSpPr>
            <p:spPr>
              <a:xfrm>
                <a:off x="7034040" y="2327040"/>
                <a:ext cx="189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1400" spc="-1" strike="noStrike" baseline="30000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708" name=""/>
            <p:cNvSpPr/>
            <p:nvPr/>
          </p:nvSpPr>
          <p:spPr>
            <a:xfrm>
              <a:off x="3163680" y="3984480"/>
              <a:ext cx="1657440" cy="31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400" spc="-1" strike="noStrike">
                  <a:solidFill>
                    <a:srgbClr val="000000"/>
                  </a:solidFill>
                  <a:latin typeface="Times New Roman"/>
                </a:rPr>
                <a:t>Vzestup hladiny H</a:t>
              </a:r>
              <a:r>
                <a:rPr b="0" lang="cs-CZ" sz="1400" spc="-1" strike="noStrike" baseline="46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9" name=""/>
            <p:cNvSpPr/>
            <p:nvPr/>
          </p:nvSpPr>
          <p:spPr>
            <a:xfrm>
              <a:off x="1650960" y="941400"/>
              <a:ext cx="2862360" cy="124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400" spc="-1" strike="noStrike">
                  <a:solidFill>
                    <a:srgbClr val="000000"/>
                  </a:solidFill>
                  <a:latin typeface="Times New Roman"/>
                </a:rPr>
                <a:t>(zvýšená hladina CO</a:t>
              </a:r>
              <a:r>
                <a:rPr b="1" lang="cs-CZ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cs-CZ" sz="1400" spc="-1" strike="noStrike">
                  <a:solidFill>
                    <a:srgbClr val="000000"/>
                  </a:solidFill>
                  <a:latin typeface="Times New Roman"/>
                </a:rPr>
                <a:t> a H</a:t>
              </a:r>
              <a:r>
                <a:rPr b="1" lang="cs-CZ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cs-CZ" sz="1400" spc="-1" strike="noStrike">
                  <a:solidFill>
                    <a:srgbClr val="000000"/>
                  </a:solidFill>
                  <a:latin typeface="Times New Roman"/>
                </a:rPr>
                <a:t>CO</a:t>
              </a:r>
              <a:r>
                <a:rPr b="1" lang="cs-CZ" sz="1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1" lang="cs-CZ" sz="1400" spc="-1" strike="noStrike">
                  <a:solidFill>
                    <a:srgbClr val="000000"/>
                  </a:solidFill>
                  <a:latin typeface="Times New Roman"/>
                </a:rPr>
                <a:t> je respirací udržována na neměnné úrovni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710" name=""/>
            <p:cNvGrpSpPr/>
            <p:nvPr/>
          </p:nvGrpSpPr>
          <p:grpSpPr>
            <a:xfrm>
              <a:off x="0" y="4673520"/>
              <a:ext cx="2573280" cy="1969200"/>
              <a:chOff x="0" y="4673520"/>
              <a:chExt cx="2573280" cy="1969200"/>
            </a:xfrm>
          </p:grpSpPr>
          <p:grpSp>
            <p:nvGrpSpPr>
              <p:cNvPr id="12711" name=""/>
              <p:cNvGrpSpPr/>
              <p:nvPr/>
            </p:nvGrpSpPr>
            <p:grpSpPr>
              <a:xfrm>
                <a:off x="244440" y="4772160"/>
                <a:ext cx="2260440" cy="1868040"/>
                <a:chOff x="244440" y="4772160"/>
                <a:chExt cx="2260440" cy="1868040"/>
              </a:xfrm>
            </p:grpSpPr>
            <p:sp>
              <p:nvSpPr>
                <p:cNvPr id="12712" name=""/>
                <p:cNvSpPr/>
                <p:nvPr/>
              </p:nvSpPr>
              <p:spPr>
                <a:xfrm>
                  <a:off x="244440" y="4772160"/>
                  <a:ext cx="2248560" cy="18615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713" name=""/>
                <p:cNvGrpSpPr/>
                <p:nvPr/>
              </p:nvGrpSpPr>
              <p:grpSpPr>
                <a:xfrm>
                  <a:off x="268560" y="4775760"/>
                  <a:ext cx="2206440" cy="1833120"/>
                  <a:chOff x="268560" y="4775760"/>
                  <a:chExt cx="2206440" cy="1833120"/>
                </a:xfrm>
              </p:grpSpPr>
              <p:sp>
                <p:nvSpPr>
                  <p:cNvPr id="12714" name=""/>
                  <p:cNvSpPr/>
                  <p:nvPr/>
                </p:nvSpPr>
                <p:spPr>
                  <a:xfrm>
                    <a:off x="522720" y="5971320"/>
                    <a:ext cx="717840" cy="637560"/>
                  </a:xfrm>
                  <a:custGeom>
                    <a:avLst/>
                    <a:gdLst/>
                    <a:ahLst/>
                    <a:rect l="l" t="t" r="r" b="b"/>
                    <a:pathLst>
                      <a:path w="1363" h="1020">
                        <a:moveTo>
                          <a:pt x="1030" y="0"/>
                        </a:moveTo>
                        <a:cubicBezTo>
                          <a:pt x="931" y="41"/>
                          <a:pt x="847" y="229"/>
                          <a:pt x="768" y="317"/>
                        </a:cubicBezTo>
                        <a:cubicBezTo>
                          <a:pt x="689" y="405"/>
                          <a:pt x="641" y="450"/>
                          <a:pt x="557" y="528"/>
                        </a:cubicBezTo>
                        <a:cubicBezTo>
                          <a:pt x="473" y="606"/>
                          <a:pt x="360" y="706"/>
                          <a:pt x="267" y="788"/>
                        </a:cubicBezTo>
                        <a:cubicBezTo>
                          <a:pt x="174" y="870"/>
                          <a:pt x="118" y="922"/>
                          <a:pt x="0" y="1020"/>
                        </a:cubicBezTo>
                        <a:cubicBezTo>
                          <a:pt x="111" y="1018"/>
                          <a:pt x="195" y="1018"/>
                          <a:pt x="267" y="1016"/>
                        </a:cubicBezTo>
                        <a:cubicBezTo>
                          <a:pt x="379" y="932"/>
                          <a:pt x="586" y="755"/>
                          <a:pt x="694" y="665"/>
                        </a:cubicBezTo>
                        <a:cubicBezTo>
                          <a:pt x="802" y="575"/>
                          <a:pt x="853" y="531"/>
                          <a:pt x="917" y="476"/>
                        </a:cubicBezTo>
                        <a:cubicBezTo>
                          <a:pt x="981" y="421"/>
                          <a:pt x="1027" y="381"/>
                          <a:pt x="1078" y="334"/>
                        </a:cubicBezTo>
                        <a:cubicBezTo>
                          <a:pt x="1129" y="287"/>
                          <a:pt x="1176" y="241"/>
                          <a:pt x="1224" y="197"/>
                        </a:cubicBezTo>
                        <a:lnTo>
                          <a:pt x="1363" y="70"/>
                        </a:lnTo>
                        <a:lnTo>
                          <a:pt x="1030" y="0"/>
                        </a:lnTo>
                        <a:close/>
                      </a:path>
                    </a:pathLst>
                  </a:custGeom>
                  <a:solidFill>
                    <a:srgbClr val="b2b2b2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15" name=""/>
                  <p:cNvSpPr/>
                  <p:nvPr/>
                </p:nvSpPr>
                <p:spPr>
                  <a:xfrm>
                    <a:off x="1308240" y="5126040"/>
                    <a:ext cx="1058040" cy="71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009" h="1148">
                        <a:moveTo>
                          <a:pt x="38" y="811"/>
                        </a:moveTo>
                        <a:cubicBezTo>
                          <a:pt x="30" y="770"/>
                          <a:pt x="0" y="826"/>
                          <a:pt x="329" y="691"/>
                        </a:cubicBezTo>
                        <a:lnTo>
                          <a:pt x="2009" y="0"/>
                        </a:lnTo>
                        <a:lnTo>
                          <a:pt x="2009" y="742"/>
                        </a:lnTo>
                        <a:lnTo>
                          <a:pt x="941" y="1148"/>
                        </a:lnTo>
                        <a:lnTo>
                          <a:pt x="38" y="1137"/>
                        </a:lnTo>
                        <a:lnTo>
                          <a:pt x="38" y="811"/>
                        </a:lnTo>
                        <a:close/>
                      </a:path>
                    </a:pathLst>
                  </a:custGeom>
                  <a:solidFill>
                    <a:srgbClr val="b2b2b2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16" name=""/>
                  <p:cNvSpPr/>
                  <p:nvPr/>
                </p:nvSpPr>
                <p:spPr>
                  <a:xfrm>
                    <a:off x="1183320" y="4780080"/>
                    <a:ext cx="673200" cy="11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278" h="1787">
                        <a:moveTo>
                          <a:pt x="0" y="1673"/>
                        </a:moveTo>
                        <a:lnTo>
                          <a:pt x="189" y="1341"/>
                        </a:lnTo>
                        <a:cubicBezTo>
                          <a:pt x="283" y="1169"/>
                          <a:pt x="458" y="843"/>
                          <a:pt x="566" y="638"/>
                        </a:cubicBezTo>
                        <a:cubicBezTo>
                          <a:pt x="674" y="433"/>
                          <a:pt x="781" y="213"/>
                          <a:pt x="835" y="107"/>
                        </a:cubicBezTo>
                        <a:lnTo>
                          <a:pt x="892" y="0"/>
                        </a:lnTo>
                        <a:lnTo>
                          <a:pt x="1278" y="2"/>
                        </a:lnTo>
                        <a:lnTo>
                          <a:pt x="1052" y="433"/>
                        </a:lnTo>
                        <a:cubicBezTo>
                          <a:pt x="925" y="674"/>
                          <a:pt x="635" y="1224"/>
                          <a:pt x="515" y="1450"/>
                        </a:cubicBezTo>
                        <a:lnTo>
                          <a:pt x="332" y="1787"/>
                        </a:lnTo>
                        <a:lnTo>
                          <a:pt x="0" y="1673"/>
                        </a:lnTo>
                        <a:close/>
                      </a:path>
                    </a:pathLst>
                  </a:custGeom>
                  <a:solidFill>
                    <a:srgbClr val="b2b2b2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17" name=""/>
                  <p:cNvSpPr/>
                  <p:nvPr/>
                </p:nvSpPr>
                <p:spPr>
                  <a:xfrm>
                    <a:off x="268560" y="5994000"/>
                    <a:ext cx="854640" cy="571680"/>
                  </a:xfrm>
                  <a:custGeom>
                    <a:avLst/>
                    <a:gdLst/>
                    <a:ahLst/>
                    <a:rect l="l" t="t" r="r" b="b"/>
                    <a:pathLst>
                      <a:path w="1623" h="914">
                        <a:moveTo>
                          <a:pt x="1206" y="23"/>
                        </a:moveTo>
                        <a:lnTo>
                          <a:pt x="0" y="680"/>
                        </a:lnTo>
                        <a:lnTo>
                          <a:pt x="0" y="914"/>
                        </a:lnTo>
                        <a:lnTo>
                          <a:pt x="1623" y="0"/>
                        </a:lnTo>
                      </a:path>
                    </a:pathLst>
                  </a:custGeom>
                  <a:solidFill>
                    <a:srgbClr val="b2b2b2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18" name=""/>
                  <p:cNvSpPr/>
                  <p:nvPr/>
                </p:nvSpPr>
                <p:spPr>
                  <a:xfrm>
                    <a:off x="283680" y="4775760"/>
                    <a:ext cx="2191320" cy="1830960"/>
                  </a:xfrm>
                  <a:custGeom>
                    <a:avLst/>
                    <a:gdLst/>
                    <a:ahLst/>
                    <a:rect l="l" t="t" r="r" b="b"/>
                    <a:pathLst>
                      <a:path w="4160" h="2928">
                        <a:moveTo>
                          <a:pt x="0" y="1645"/>
                        </a:moveTo>
                        <a:lnTo>
                          <a:pt x="1611" y="1645"/>
                        </a:lnTo>
                        <a:lnTo>
                          <a:pt x="1617" y="1451"/>
                        </a:lnTo>
                        <a:cubicBezTo>
                          <a:pt x="1600" y="1366"/>
                          <a:pt x="1537" y="1273"/>
                          <a:pt x="1508" y="1137"/>
                        </a:cubicBezTo>
                        <a:cubicBezTo>
                          <a:pt x="1479" y="1001"/>
                          <a:pt x="1466" y="783"/>
                          <a:pt x="1440" y="634"/>
                        </a:cubicBezTo>
                        <a:cubicBezTo>
                          <a:pt x="1414" y="485"/>
                          <a:pt x="1388" y="345"/>
                          <a:pt x="1354" y="240"/>
                        </a:cubicBezTo>
                        <a:lnTo>
                          <a:pt x="1234" y="2"/>
                        </a:lnTo>
                        <a:lnTo>
                          <a:pt x="1472" y="0"/>
                        </a:lnTo>
                        <a:cubicBezTo>
                          <a:pt x="1534" y="62"/>
                          <a:pt x="1570" y="242"/>
                          <a:pt x="1605" y="377"/>
                        </a:cubicBezTo>
                        <a:cubicBezTo>
                          <a:pt x="1640" y="512"/>
                          <a:pt x="1657" y="692"/>
                          <a:pt x="1680" y="811"/>
                        </a:cubicBezTo>
                        <a:cubicBezTo>
                          <a:pt x="1703" y="930"/>
                          <a:pt x="1712" y="982"/>
                          <a:pt x="1743" y="1091"/>
                        </a:cubicBezTo>
                        <a:cubicBezTo>
                          <a:pt x="1774" y="1200"/>
                          <a:pt x="1829" y="1376"/>
                          <a:pt x="1868" y="1468"/>
                        </a:cubicBezTo>
                        <a:lnTo>
                          <a:pt x="1977" y="1645"/>
                        </a:lnTo>
                        <a:lnTo>
                          <a:pt x="2926" y="1651"/>
                        </a:lnTo>
                        <a:lnTo>
                          <a:pt x="4160" y="1657"/>
                        </a:lnTo>
                        <a:lnTo>
                          <a:pt x="4160" y="2000"/>
                        </a:lnTo>
                        <a:lnTo>
                          <a:pt x="1926" y="2000"/>
                        </a:lnTo>
                        <a:lnTo>
                          <a:pt x="1914" y="2422"/>
                        </a:lnTo>
                        <a:lnTo>
                          <a:pt x="1913" y="2928"/>
                        </a:lnTo>
                        <a:lnTo>
                          <a:pt x="1611" y="2925"/>
                        </a:lnTo>
                        <a:lnTo>
                          <a:pt x="1605" y="2005"/>
                        </a:lnTo>
                        <a:lnTo>
                          <a:pt x="0" y="2005"/>
                        </a:lnTo>
                        <a:lnTo>
                          <a:pt x="0" y="1645"/>
                        </a:lnTo>
                        <a:close/>
                      </a:path>
                    </a:pathLst>
                  </a:custGeom>
                  <a:solidFill>
                    <a:srgbClr val="ffff66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2719" name=""/>
                <p:cNvSpPr/>
                <p:nvPr/>
              </p:nvSpPr>
              <p:spPr>
                <a:xfrm>
                  <a:off x="250560" y="4778640"/>
                  <a:ext cx="0" cy="18615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20" name=""/>
                <p:cNvSpPr/>
                <p:nvPr/>
              </p:nvSpPr>
              <p:spPr>
                <a:xfrm>
                  <a:off x="247320" y="6633720"/>
                  <a:ext cx="22575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21" name=""/>
              <p:cNvSpPr/>
              <p:nvPr/>
            </p:nvSpPr>
            <p:spPr>
              <a:xfrm>
                <a:off x="0" y="4673520"/>
                <a:ext cx="851040" cy="38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1800" spc="-1" strike="noStrike">
                    <a:solidFill>
                      <a:srgbClr val="000000"/>
                    </a:solidFill>
                    <a:latin typeface="Times New Roman"/>
                  </a:rPr>
                  <a:t>P</a:t>
                </a:r>
                <a:r>
                  <a:rPr b="1" lang="cs-CZ" sz="1400" spc="-1" strike="noStrike">
                    <a:solidFill>
                      <a:srgbClr val="000000"/>
                    </a:solidFill>
                    <a:latin typeface="Times New Roman"/>
                  </a:rPr>
                  <a:t>CO</a:t>
                </a:r>
                <a:r>
                  <a:rPr b="1" lang="cs-CZ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22" name=""/>
              <p:cNvSpPr/>
              <p:nvPr/>
            </p:nvSpPr>
            <p:spPr>
              <a:xfrm>
                <a:off x="2139840" y="6335640"/>
                <a:ext cx="433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1400" spc="-1" strike="noStrike">
                    <a:solidFill>
                      <a:srgbClr val="000000"/>
                    </a:solidFill>
                    <a:latin typeface="Times New Roman"/>
                  </a:rPr>
                  <a:t>B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723" name=""/>
            <p:cNvSpPr/>
            <p:nvPr/>
          </p:nvSpPr>
          <p:spPr>
            <a:xfrm flipH="1" flipV="1">
              <a:off x="1069920" y="5092200"/>
              <a:ext cx="154080" cy="776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4" name=""/>
            <p:cNvSpPr/>
            <p:nvPr/>
          </p:nvSpPr>
          <p:spPr>
            <a:xfrm>
              <a:off x="1079640" y="5108400"/>
              <a:ext cx="5349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25" name=""/>
          <p:cNvGrpSpPr/>
          <p:nvPr/>
        </p:nvGrpSpPr>
        <p:grpSpPr>
          <a:xfrm>
            <a:off x="0" y="98280"/>
            <a:ext cx="9180360" cy="6594480"/>
            <a:chOff x="0" y="98280"/>
            <a:chExt cx="9180360" cy="6594480"/>
          </a:xfrm>
        </p:grpSpPr>
        <p:sp>
          <p:nvSpPr>
            <p:cNvPr id="12726" name=""/>
            <p:cNvSpPr/>
            <p:nvPr/>
          </p:nvSpPr>
          <p:spPr>
            <a:xfrm>
              <a:off x="5418000" y="1239840"/>
              <a:ext cx="1114560" cy="781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7" name=""/>
            <p:cNvSpPr/>
            <p:nvPr/>
          </p:nvSpPr>
          <p:spPr>
            <a:xfrm>
              <a:off x="2973240" y="2343240"/>
              <a:ext cx="1149480" cy="731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8" name=""/>
            <p:cNvSpPr/>
            <p:nvPr/>
          </p:nvSpPr>
          <p:spPr>
            <a:xfrm>
              <a:off x="880920" y="1308240"/>
              <a:ext cx="930240" cy="796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9" name=""/>
            <p:cNvSpPr/>
            <p:nvPr/>
          </p:nvSpPr>
          <p:spPr>
            <a:xfrm>
              <a:off x="5400720" y="3406680"/>
              <a:ext cx="587160" cy="658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0" name=""/>
            <p:cNvSpPr/>
            <p:nvPr/>
          </p:nvSpPr>
          <p:spPr>
            <a:xfrm>
              <a:off x="5407200" y="3502080"/>
              <a:ext cx="579240" cy="60480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1" name=""/>
            <p:cNvSpPr/>
            <p:nvPr/>
          </p:nvSpPr>
          <p:spPr>
            <a:xfrm>
              <a:off x="7724880" y="4240080"/>
              <a:ext cx="1104840" cy="746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2" name=""/>
            <p:cNvSpPr/>
            <p:nvPr/>
          </p:nvSpPr>
          <p:spPr>
            <a:xfrm>
              <a:off x="7723080" y="4541760"/>
              <a:ext cx="1111320" cy="56376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3" name=""/>
            <p:cNvSpPr/>
            <p:nvPr/>
          </p:nvSpPr>
          <p:spPr>
            <a:xfrm>
              <a:off x="5389560" y="5079960"/>
              <a:ext cx="1111320" cy="1009800"/>
            </a:xfrm>
            <a:prstGeom prst="rect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4" name=""/>
            <p:cNvSpPr/>
            <p:nvPr/>
          </p:nvSpPr>
          <p:spPr>
            <a:xfrm>
              <a:off x="5388120" y="5380200"/>
              <a:ext cx="1110960" cy="71748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5" name=""/>
            <p:cNvSpPr/>
            <p:nvPr/>
          </p:nvSpPr>
          <p:spPr>
            <a:xfrm>
              <a:off x="5413320" y="1562040"/>
              <a:ext cx="1111320" cy="53028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6" name=""/>
            <p:cNvSpPr/>
            <p:nvPr/>
          </p:nvSpPr>
          <p:spPr>
            <a:xfrm>
              <a:off x="2984400" y="2606760"/>
              <a:ext cx="1144800" cy="53028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7" name=""/>
            <p:cNvSpPr/>
            <p:nvPr/>
          </p:nvSpPr>
          <p:spPr>
            <a:xfrm>
              <a:off x="884160" y="1552680"/>
              <a:ext cx="927000" cy="56340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8" name=""/>
            <p:cNvSpPr/>
            <p:nvPr/>
          </p:nvSpPr>
          <p:spPr>
            <a:xfrm>
              <a:off x="5551560" y="3649680"/>
              <a:ext cx="9360" cy="293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9" name=""/>
            <p:cNvSpPr/>
            <p:nvPr/>
          </p:nvSpPr>
          <p:spPr>
            <a:xfrm>
              <a:off x="1046880" y="1555920"/>
              <a:ext cx="736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Arial"/>
                </a:rPr>
                <a:t>CO</a:t>
              </a:r>
              <a:r>
                <a:rPr b="1" lang="cs-CZ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0" name=""/>
            <p:cNvSpPr/>
            <p:nvPr/>
          </p:nvSpPr>
          <p:spPr>
            <a:xfrm>
              <a:off x="1029240" y="3576600"/>
              <a:ext cx="736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cs-CZ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cs-CZ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1" name=""/>
            <p:cNvSpPr/>
            <p:nvPr/>
          </p:nvSpPr>
          <p:spPr>
            <a:xfrm>
              <a:off x="3143160" y="2589120"/>
              <a:ext cx="1055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cs-CZ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cs-CZ" sz="2400" spc="-1" strike="noStrike">
                  <a:solidFill>
                    <a:srgbClr val="000000"/>
                  </a:solidFill>
                  <a:latin typeface="Arial"/>
                </a:rPr>
                <a:t>CO</a:t>
              </a:r>
              <a:r>
                <a:rPr b="1" lang="cs-CZ" sz="2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2" name=""/>
            <p:cNvSpPr/>
            <p:nvPr/>
          </p:nvSpPr>
          <p:spPr>
            <a:xfrm>
              <a:off x="5581080" y="1530360"/>
              <a:ext cx="956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Arial"/>
                </a:rPr>
                <a:t>HCO</a:t>
              </a:r>
              <a:r>
                <a:rPr b="1" lang="cs-CZ" sz="2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3" name=""/>
            <p:cNvSpPr/>
            <p:nvPr/>
          </p:nvSpPr>
          <p:spPr>
            <a:xfrm>
              <a:off x="5565600" y="3584520"/>
              <a:ext cx="52416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cs-CZ" sz="2400" spc="-1" strike="noStrike" baseline="7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4" name=""/>
            <p:cNvSpPr/>
            <p:nvPr/>
          </p:nvSpPr>
          <p:spPr>
            <a:xfrm>
              <a:off x="4240080" y="1779480"/>
              <a:ext cx="1155960" cy="1024200"/>
            </a:xfrm>
            <a:custGeom>
              <a:avLst/>
              <a:gdLst/>
              <a:ahLst/>
              <a:rect l="l" t="t" r="r" b="b"/>
              <a:pathLst>
                <a:path w="728" h="645">
                  <a:moveTo>
                    <a:pt x="0" y="642"/>
                  </a:moveTo>
                  <a:lnTo>
                    <a:pt x="351" y="645"/>
                  </a:lnTo>
                  <a:cubicBezTo>
                    <a:pt x="420" y="628"/>
                    <a:pt x="405" y="630"/>
                    <a:pt x="416" y="538"/>
                  </a:cubicBezTo>
                  <a:lnTo>
                    <a:pt x="416" y="91"/>
                  </a:lnTo>
                  <a:cubicBezTo>
                    <a:pt x="429" y="1"/>
                    <a:pt x="445" y="15"/>
                    <a:pt x="497" y="0"/>
                  </a:cubicBezTo>
                  <a:lnTo>
                    <a:pt x="728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5" name=""/>
            <p:cNvSpPr/>
            <p:nvPr/>
          </p:nvSpPr>
          <p:spPr>
            <a:xfrm>
              <a:off x="4146480" y="2795760"/>
              <a:ext cx="1249560" cy="1023840"/>
            </a:xfrm>
            <a:custGeom>
              <a:avLst/>
              <a:gdLst/>
              <a:ahLst/>
              <a:rect l="l" t="t" r="r" b="b"/>
              <a:pathLst>
                <a:path w="787" h="645">
                  <a:moveTo>
                    <a:pt x="0" y="2"/>
                  </a:moveTo>
                  <a:lnTo>
                    <a:pt x="410" y="0"/>
                  </a:lnTo>
                  <a:cubicBezTo>
                    <a:pt x="489" y="17"/>
                    <a:pt x="464" y="15"/>
                    <a:pt x="475" y="107"/>
                  </a:cubicBezTo>
                  <a:lnTo>
                    <a:pt x="475" y="554"/>
                  </a:lnTo>
                  <a:cubicBezTo>
                    <a:pt x="488" y="644"/>
                    <a:pt x="504" y="630"/>
                    <a:pt x="556" y="645"/>
                  </a:cubicBezTo>
                  <a:lnTo>
                    <a:pt x="787" y="645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746" name=""/>
            <p:cNvGrpSpPr/>
            <p:nvPr/>
          </p:nvGrpSpPr>
          <p:grpSpPr>
            <a:xfrm>
              <a:off x="1836720" y="1778040"/>
              <a:ext cx="1130400" cy="2038320"/>
              <a:chOff x="1836720" y="1778040"/>
              <a:chExt cx="1130400" cy="2038320"/>
            </a:xfrm>
          </p:grpSpPr>
          <p:sp>
            <p:nvSpPr>
              <p:cNvPr id="12747" name=""/>
              <p:cNvSpPr/>
              <p:nvPr/>
            </p:nvSpPr>
            <p:spPr>
              <a:xfrm flipH="1">
                <a:off x="1836720" y="1778040"/>
                <a:ext cx="1130400" cy="1023840"/>
              </a:xfrm>
              <a:custGeom>
                <a:avLst/>
                <a:gdLst/>
                <a:ahLst/>
                <a:rect l="l" t="t" r="r" b="b"/>
                <a:pathLst>
                  <a:path w="866" h="645">
                    <a:moveTo>
                      <a:pt x="0" y="645"/>
                    </a:moveTo>
                    <a:lnTo>
                      <a:pt x="442" y="645"/>
                    </a:lnTo>
                    <a:cubicBezTo>
                      <a:pt x="528" y="627"/>
                      <a:pt x="503" y="630"/>
                      <a:pt x="515" y="538"/>
                    </a:cubicBezTo>
                    <a:lnTo>
                      <a:pt x="515" y="91"/>
                    </a:lnTo>
                    <a:cubicBezTo>
                      <a:pt x="530" y="1"/>
                      <a:pt x="548" y="15"/>
                      <a:pt x="606" y="0"/>
                    </a:cubicBezTo>
                    <a:lnTo>
                      <a:pt x="866" y="0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48" name=""/>
              <p:cNvSpPr/>
              <p:nvPr/>
            </p:nvSpPr>
            <p:spPr>
              <a:xfrm flipH="1" flipV="1">
                <a:off x="1836720" y="2792520"/>
                <a:ext cx="1130400" cy="1023840"/>
              </a:xfrm>
              <a:custGeom>
                <a:avLst/>
                <a:gdLst/>
                <a:ahLst/>
                <a:rect l="l" t="t" r="r" b="b"/>
                <a:pathLst>
                  <a:path w="866" h="645">
                    <a:moveTo>
                      <a:pt x="0" y="645"/>
                    </a:moveTo>
                    <a:lnTo>
                      <a:pt x="442" y="645"/>
                    </a:lnTo>
                    <a:cubicBezTo>
                      <a:pt x="528" y="627"/>
                      <a:pt x="503" y="630"/>
                      <a:pt x="515" y="538"/>
                    </a:cubicBezTo>
                    <a:lnTo>
                      <a:pt x="515" y="91"/>
                    </a:lnTo>
                    <a:cubicBezTo>
                      <a:pt x="530" y="1"/>
                      <a:pt x="548" y="15"/>
                      <a:pt x="606" y="0"/>
                    </a:cubicBezTo>
                    <a:lnTo>
                      <a:pt x="866" y="0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aphicFrame>
          <p:nvGraphicFramePr>
            <p:cNvPr id="12749" name=""/>
            <p:cNvGraphicFramePr/>
            <p:nvPr/>
          </p:nvGraphicFramePr>
          <p:xfrm>
            <a:off x="351000" y="376200"/>
            <a:ext cx="1039680" cy="7732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275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51000" y="376200"/>
                      <a:ext cx="1039680" cy="773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751" name=""/>
            <p:cNvSpPr/>
            <p:nvPr/>
          </p:nvSpPr>
          <p:spPr>
            <a:xfrm flipH="1">
              <a:off x="167400" y="1484280"/>
              <a:ext cx="72396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2" name=""/>
            <p:cNvSpPr/>
            <p:nvPr/>
          </p:nvSpPr>
          <p:spPr>
            <a:xfrm>
              <a:off x="1278720" y="533520"/>
              <a:ext cx="184680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400" spc="-1" strike="noStrike">
                  <a:solidFill>
                    <a:srgbClr val="000000"/>
                  </a:solidFill>
                  <a:latin typeface="Times New Roman"/>
                </a:rPr>
                <a:t>1.</a:t>
              </a:r>
              <a:r>
                <a:rPr b="1" lang="cs-CZ" sz="1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 Primární porucha: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400" spc="-1" strike="noStrike">
                  <a:solidFill>
                    <a:srgbClr val="000000"/>
                  </a:solidFill>
                  <a:latin typeface="Times New Roman"/>
                </a:rPr>
                <a:t>deplece CO</a:t>
              </a:r>
              <a:r>
                <a:rPr b="1" lang="cs-CZ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3" name=""/>
            <p:cNvSpPr/>
            <p:nvPr/>
          </p:nvSpPr>
          <p:spPr>
            <a:xfrm>
              <a:off x="3645360" y="4110120"/>
              <a:ext cx="2864520" cy="95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400" spc="-1" strike="noStrike">
                  <a:solidFill>
                    <a:srgbClr val="000000"/>
                  </a:solidFill>
                  <a:latin typeface="Times New Roman"/>
                </a:rPr>
                <a:t>4. </a:t>
              </a:r>
              <a:r>
                <a:rPr b="1" lang="cs-CZ" sz="1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Patofyziologický důsledek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1400" spc="-1" strike="noStrike">
                  <a:solidFill>
                    <a:srgbClr val="000000"/>
                  </a:solidFill>
                  <a:latin typeface="Times New Roman"/>
                </a:rPr>
                <a:t>Hladina H</a:t>
              </a:r>
              <a:r>
                <a:rPr b="0" lang="cs-CZ" sz="1400" spc="-1" strike="noStrike" baseline="46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400" spc="-1" strike="noStrike">
                  <a:solidFill>
                    <a:srgbClr val="000000"/>
                  </a:solidFill>
                  <a:latin typeface="Times New Roman"/>
                </a:rPr>
                <a:t>díky pufrování nebikarbonátovým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400" spc="-1" strike="noStrike">
                  <a:solidFill>
                    <a:srgbClr val="000000"/>
                  </a:solidFill>
                  <a:latin typeface="Times New Roman"/>
                </a:rPr>
                <a:t>nárazníky klesne jen mál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4" name=""/>
            <p:cNvSpPr/>
            <p:nvPr/>
          </p:nvSpPr>
          <p:spPr>
            <a:xfrm>
              <a:off x="5518080" y="1595520"/>
              <a:ext cx="9720" cy="293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5" name=""/>
            <p:cNvSpPr/>
            <p:nvPr/>
          </p:nvSpPr>
          <p:spPr>
            <a:xfrm>
              <a:off x="5240160" y="3392640"/>
              <a:ext cx="1800" cy="352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6" name=""/>
            <p:cNvSpPr/>
            <p:nvPr/>
          </p:nvSpPr>
          <p:spPr>
            <a:xfrm>
              <a:off x="5581080" y="5592600"/>
              <a:ext cx="83304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Arial"/>
                </a:rPr>
                <a:t>Buf </a:t>
              </a:r>
              <a:r>
                <a:rPr b="1" lang="cs-CZ" sz="2400" spc="-1" strike="noStrike" baseline="70000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7" name=""/>
            <p:cNvSpPr/>
            <p:nvPr/>
          </p:nvSpPr>
          <p:spPr>
            <a:xfrm>
              <a:off x="7855920" y="4541760"/>
              <a:ext cx="90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Arial"/>
                </a:rPr>
                <a:t>HBu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8" name=""/>
            <p:cNvSpPr/>
            <p:nvPr/>
          </p:nvSpPr>
          <p:spPr>
            <a:xfrm>
              <a:off x="5975280" y="3782880"/>
              <a:ext cx="1735200" cy="1024200"/>
            </a:xfrm>
            <a:custGeom>
              <a:avLst/>
              <a:gdLst/>
              <a:ahLst/>
              <a:rect l="l" t="t" r="r" b="b"/>
              <a:pathLst>
                <a:path w="1093" h="645">
                  <a:moveTo>
                    <a:pt x="1093" y="645"/>
                  </a:moveTo>
                  <a:lnTo>
                    <a:pt x="700" y="645"/>
                  </a:lnTo>
                  <a:cubicBezTo>
                    <a:pt x="624" y="627"/>
                    <a:pt x="646" y="630"/>
                    <a:pt x="635" y="538"/>
                  </a:cubicBezTo>
                  <a:lnTo>
                    <a:pt x="635" y="91"/>
                  </a:lnTo>
                  <a:cubicBezTo>
                    <a:pt x="622" y="1"/>
                    <a:pt x="660" y="15"/>
                    <a:pt x="554" y="0"/>
                  </a:cubicBezTo>
                  <a:lnTo>
                    <a:pt x="0" y="1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9" name=""/>
            <p:cNvSpPr/>
            <p:nvPr/>
          </p:nvSpPr>
          <p:spPr>
            <a:xfrm flipH="1" flipV="1">
              <a:off x="6487560" y="4797360"/>
              <a:ext cx="1222200" cy="1023840"/>
            </a:xfrm>
            <a:custGeom>
              <a:avLst/>
              <a:gdLst/>
              <a:ahLst/>
              <a:rect l="l" t="t" r="r" b="b"/>
              <a:pathLst>
                <a:path w="866" h="645">
                  <a:moveTo>
                    <a:pt x="0" y="645"/>
                  </a:moveTo>
                  <a:lnTo>
                    <a:pt x="442" y="645"/>
                  </a:lnTo>
                  <a:cubicBezTo>
                    <a:pt x="528" y="627"/>
                    <a:pt x="503" y="630"/>
                    <a:pt x="515" y="538"/>
                  </a:cubicBezTo>
                  <a:lnTo>
                    <a:pt x="515" y="91"/>
                  </a:lnTo>
                  <a:cubicBezTo>
                    <a:pt x="530" y="1"/>
                    <a:pt x="548" y="15"/>
                    <a:pt x="606" y="0"/>
                  </a:cubicBezTo>
                  <a:lnTo>
                    <a:pt x="866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0" name=""/>
            <p:cNvSpPr/>
            <p:nvPr/>
          </p:nvSpPr>
          <p:spPr>
            <a:xfrm>
              <a:off x="6262560" y="136368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1" name=""/>
            <p:cNvSpPr/>
            <p:nvPr/>
          </p:nvSpPr>
          <p:spPr>
            <a:xfrm>
              <a:off x="4907160" y="2416320"/>
              <a:ext cx="2919240" cy="74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400" spc="-1" strike="noStrike">
                  <a:solidFill>
                    <a:srgbClr val="000000"/>
                  </a:solidFill>
                  <a:latin typeface="Times New Roman"/>
                </a:rPr>
                <a:t>3. Díky novotvorbě kyseliny uhličité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400" spc="-1" strike="noStrike">
                  <a:solidFill>
                    <a:srgbClr val="000000"/>
                  </a:solidFill>
                  <a:latin typeface="Times New Roman"/>
                </a:rPr>
                <a:t>je ale spotřebováváno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400" spc="-1" strike="noStrike">
                  <a:solidFill>
                    <a:srgbClr val="000000"/>
                  </a:solidFill>
                  <a:latin typeface="Times New Roman"/>
                </a:rPr>
                <a:t>velké množství H</a:t>
              </a:r>
              <a:r>
                <a:rPr b="0" lang="cs-CZ" sz="1400" spc="-1" strike="noStrike" baseline="46000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lang="cs-CZ" sz="1400" spc="-1" strike="noStrike">
                  <a:solidFill>
                    <a:srgbClr val="000000"/>
                  </a:solidFill>
                  <a:latin typeface="Times New Roman"/>
                </a:rPr>
                <a:t> iontů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2" name=""/>
            <p:cNvSpPr/>
            <p:nvPr/>
          </p:nvSpPr>
          <p:spPr>
            <a:xfrm>
              <a:off x="7835760" y="4665600"/>
              <a:ext cx="9720" cy="293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3" name=""/>
            <p:cNvSpPr/>
            <p:nvPr/>
          </p:nvSpPr>
          <p:spPr>
            <a:xfrm>
              <a:off x="5537160" y="5661000"/>
              <a:ext cx="9720" cy="293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4" name=""/>
            <p:cNvSpPr/>
            <p:nvPr/>
          </p:nvSpPr>
          <p:spPr>
            <a:xfrm>
              <a:off x="4402080" y="415800"/>
              <a:ext cx="2914560" cy="2070360"/>
            </a:xfrm>
            <a:custGeom>
              <a:avLst/>
              <a:gdLst/>
              <a:ahLst/>
              <a:rect l="l" t="t" r="r" b="b"/>
              <a:pathLst>
                <a:path w="1836" h="1304">
                  <a:moveTo>
                    <a:pt x="1379" y="1304"/>
                  </a:moveTo>
                  <a:cubicBezTo>
                    <a:pt x="1423" y="1119"/>
                    <a:pt x="1836" y="390"/>
                    <a:pt x="1650" y="195"/>
                  </a:cubicBezTo>
                  <a:cubicBezTo>
                    <a:pt x="1464" y="0"/>
                    <a:pt x="528" y="68"/>
                    <a:pt x="264" y="131"/>
                  </a:cubicBezTo>
                  <a:cubicBezTo>
                    <a:pt x="0" y="194"/>
                    <a:pt x="73" y="471"/>
                    <a:pt x="68" y="572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prstDash val="sysDot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5" name=""/>
            <p:cNvSpPr/>
            <p:nvPr/>
          </p:nvSpPr>
          <p:spPr>
            <a:xfrm>
              <a:off x="3119400" y="755640"/>
              <a:ext cx="1125720" cy="542880"/>
            </a:xfrm>
            <a:custGeom>
              <a:avLst/>
              <a:gdLst/>
              <a:ahLst/>
              <a:rect l="l" t="t" r="r" b="b"/>
              <a:pathLst>
                <a:path w="709" h="342">
                  <a:moveTo>
                    <a:pt x="0" y="7"/>
                  </a:moveTo>
                  <a:cubicBezTo>
                    <a:pt x="98" y="15"/>
                    <a:pt x="489" y="0"/>
                    <a:pt x="599" y="56"/>
                  </a:cubicBezTo>
                  <a:cubicBezTo>
                    <a:pt x="709" y="112"/>
                    <a:pt x="646" y="283"/>
                    <a:pt x="658" y="342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6" name=""/>
            <p:cNvSpPr/>
            <p:nvPr/>
          </p:nvSpPr>
          <p:spPr>
            <a:xfrm>
              <a:off x="6145200" y="3160800"/>
              <a:ext cx="698400" cy="379440"/>
            </a:xfrm>
            <a:custGeom>
              <a:avLst/>
              <a:gdLst/>
              <a:ahLst/>
              <a:rect l="l" t="t" r="r" b="b"/>
              <a:pathLst>
                <a:path w="440" h="239">
                  <a:moveTo>
                    <a:pt x="95" y="0"/>
                  </a:moveTo>
                  <a:cubicBezTo>
                    <a:pt x="89" y="34"/>
                    <a:pt x="0" y="165"/>
                    <a:pt x="58" y="202"/>
                  </a:cubicBezTo>
                  <a:cubicBezTo>
                    <a:pt x="116" y="239"/>
                    <a:pt x="361" y="219"/>
                    <a:pt x="440" y="223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7" name=""/>
            <p:cNvSpPr/>
            <p:nvPr/>
          </p:nvSpPr>
          <p:spPr>
            <a:xfrm>
              <a:off x="2556000" y="3792600"/>
              <a:ext cx="6519600" cy="2900160"/>
            </a:xfrm>
            <a:custGeom>
              <a:avLst/>
              <a:gdLst/>
              <a:ahLst/>
              <a:rect l="l" t="t" r="r" b="b"/>
              <a:pathLst>
                <a:path w="4107" h="1827">
                  <a:moveTo>
                    <a:pt x="3960" y="53"/>
                  </a:moveTo>
                  <a:cubicBezTo>
                    <a:pt x="4029" y="69"/>
                    <a:pt x="4099" y="0"/>
                    <a:pt x="4103" y="197"/>
                  </a:cubicBezTo>
                  <a:cubicBezTo>
                    <a:pt x="4107" y="394"/>
                    <a:pt x="4087" y="1000"/>
                    <a:pt x="3986" y="1237"/>
                  </a:cubicBezTo>
                  <a:cubicBezTo>
                    <a:pt x="3885" y="1474"/>
                    <a:pt x="3858" y="1530"/>
                    <a:pt x="3497" y="1620"/>
                  </a:cubicBezTo>
                  <a:cubicBezTo>
                    <a:pt x="3137" y="1710"/>
                    <a:pt x="2359" y="1781"/>
                    <a:pt x="1823" y="1779"/>
                  </a:cubicBezTo>
                  <a:cubicBezTo>
                    <a:pt x="1287" y="1777"/>
                    <a:pt x="564" y="1827"/>
                    <a:pt x="282" y="1605"/>
                  </a:cubicBezTo>
                  <a:cubicBezTo>
                    <a:pt x="0" y="1383"/>
                    <a:pt x="26" y="661"/>
                    <a:pt x="133" y="445"/>
                  </a:cubicBezTo>
                  <a:cubicBezTo>
                    <a:pt x="240" y="229"/>
                    <a:pt x="760" y="337"/>
                    <a:pt x="925" y="308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8" name=""/>
            <p:cNvSpPr/>
            <p:nvPr/>
          </p:nvSpPr>
          <p:spPr>
            <a:xfrm>
              <a:off x="5290920" y="98280"/>
              <a:ext cx="3655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Akutní respirační alkalóz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9" name=""/>
            <p:cNvSpPr/>
            <p:nvPr/>
          </p:nvSpPr>
          <p:spPr>
            <a:xfrm>
              <a:off x="6821640" y="3144960"/>
              <a:ext cx="2358720" cy="95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400" spc="-1" strike="noStrike">
                  <a:solidFill>
                    <a:srgbClr val="000000"/>
                  </a:solidFill>
                  <a:latin typeface="Times New Roman"/>
                </a:rPr>
                <a:t>3. Spotřebovávané ionty H</a:t>
              </a:r>
              <a:r>
                <a:rPr b="0" lang="cs-CZ" sz="1400" spc="-1" strike="noStrike" baseline="46000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lang="cs-CZ" sz="1400" spc="-1" strike="noStrike">
                  <a:solidFill>
                    <a:srgbClr val="000000"/>
                  </a:solidFill>
                  <a:latin typeface="Times New Roman"/>
                </a:rPr>
                <a:t> jsou doplňovávány z  nebikarbonátových pufračních kysel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0" name=""/>
            <p:cNvSpPr/>
            <p:nvPr/>
          </p:nvSpPr>
          <p:spPr>
            <a:xfrm>
              <a:off x="2385720" y="1254240"/>
              <a:ext cx="2751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400" spc="-1" strike="noStrike">
                  <a:solidFill>
                    <a:srgbClr val="000000"/>
                  </a:solidFill>
                  <a:latin typeface="Times New Roman"/>
                </a:rPr>
                <a:t>2. Posun rovnováhy doleva,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400" spc="-1" strike="noStrike">
                  <a:solidFill>
                    <a:srgbClr val="000000"/>
                  </a:solidFill>
                  <a:latin typeface="Times New Roman"/>
                </a:rPr>
                <a:t>směrem k tvorbě kyseliny uhličité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1" name=""/>
            <p:cNvSpPr/>
            <p:nvPr/>
          </p:nvSpPr>
          <p:spPr>
            <a:xfrm>
              <a:off x="3108240" y="2673360"/>
              <a:ext cx="9720" cy="293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2" name=""/>
            <p:cNvSpPr/>
            <p:nvPr/>
          </p:nvSpPr>
          <p:spPr>
            <a:xfrm>
              <a:off x="1000080" y="1628640"/>
              <a:ext cx="9720" cy="293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773" name=""/>
            <p:cNvGrpSpPr/>
            <p:nvPr/>
          </p:nvGrpSpPr>
          <p:grpSpPr>
            <a:xfrm>
              <a:off x="189000" y="1308240"/>
              <a:ext cx="674280" cy="1344600"/>
              <a:chOff x="189000" y="1308240"/>
              <a:chExt cx="674280" cy="1344600"/>
            </a:xfrm>
          </p:grpSpPr>
          <p:grpSp>
            <p:nvGrpSpPr>
              <p:cNvPr id="12774" name=""/>
              <p:cNvGrpSpPr/>
              <p:nvPr/>
            </p:nvGrpSpPr>
            <p:grpSpPr>
              <a:xfrm>
                <a:off x="690120" y="1549440"/>
                <a:ext cx="173160" cy="492120"/>
                <a:chOff x="690120" y="1549440"/>
                <a:chExt cx="173160" cy="492120"/>
              </a:xfrm>
            </p:grpSpPr>
            <p:grpSp>
              <p:nvGrpSpPr>
                <p:cNvPr id="12775" name=""/>
                <p:cNvGrpSpPr/>
                <p:nvPr/>
              </p:nvGrpSpPr>
              <p:grpSpPr>
                <a:xfrm>
                  <a:off x="690120" y="1549440"/>
                  <a:ext cx="173160" cy="492120"/>
                  <a:chOff x="690120" y="1549440"/>
                  <a:chExt cx="173160" cy="492120"/>
                </a:xfrm>
              </p:grpSpPr>
              <p:sp>
                <p:nvSpPr>
                  <p:cNvPr id="12776" name=""/>
                  <p:cNvSpPr/>
                  <p:nvPr/>
                </p:nvSpPr>
                <p:spPr>
                  <a:xfrm flipH="1">
                    <a:off x="689760" y="1549440"/>
                    <a:ext cx="173160" cy="492120"/>
                  </a:xfrm>
                  <a:prstGeom prst="ellipse">
                    <a:avLst/>
                  </a:prstGeom>
                  <a:solidFill>
                    <a:srgbClr val="3b3b3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77" name=""/>
                  <p:cNvSpPr/>
                  <p:nvPr/>
                </p:nvSpPr>
                <p:spPr>
                  <a:xfrm flipH="1">
                    <a:off x="691920" y="1553760"/>
                    <a:ext cx="169920" cy="482760"/>
                  </a:xfrm>
                  <a:prstGeom prst="ellipse">
                    <a:avLst/>
                  </a:prstGeom>
                  <a:solidFill>
                    <a:srgbClr val="3b3b3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78" name=""/>
                  <p:cNvSpPr/>
                  <p:nvPr/>
                </p:nvSpPr>
                <p:spPr>
                  <a:xfrm flipH="1">
                    <a:off x="693720" y="1558440"/>
                    <a:ext cx="166320" cy="473400"/>
                  </a:xfrm>
                  <a:prstGeom prst="ellipse">
                    <a:avLst/>
                  </a:prstGeom>
                  <a:solidFill>
                    <a:srgbClr val="3c3c3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79" name=""/>
                  <p:cNvSpPr/>
                  <p:nvPr/>
                </p:nvSpPr>
                <p:spPr>
                  <a:xfrm flipH="1">
                    <a:off x="695160" y="1563120"/>
                    <a:ext cx="163440" cy="462600"/>
                  </a:xfrm>
                  <a:prstGeom prst="ellipse">
                    <a:avLst/>
                  </a:prstGeom>
                  <a:solidFill>
                    <a:srgbClr val="3c3c3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80" name=""/>
                  <p:cNvSpPr/>
                  <p:nvPr/>
                </p:nvSpPr>
                <p:spPr>
                  <a:xfrm flipH="1">
                    <a:off x="696960" y="1569240"/>
                    <a:ext cx="159840" cy="452520"/>
                  </a:xfrm>
                  <a:prstGeom prst="ellipse">
                    <a:avLst/>
                  </a:prstGeom>
                  <a:solidFill>
                    <a:srgbClr val="3d3d3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81" name=""/>
                  <p:cNvSpPr/>
                  <p:nvPr/>
                </p:nvSpPr>
                <p:spPr>
                  <a:xfrm flipH="1">
                    <a:off x="698760" y="1573560"/>
                    <a:ext cx="155160" cy="442080"/>
                  </a:xfrm>
                  <a:prstGeom prst="ellipse">
                    <a:avLst/>
                  </a:prstGeom>
                  <a:solidFill>
                    <a:srgbClr val="3e3e3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82" name=""/>
                  <p:cNvSpPr/>
                  <p:nvPr/>
                </p:nvSpPr>
                <p:spPr>
                  <a:xfrm flipH="1">
                    <a:off x="700920" y="1579320"/>
                    <a:ext cx="151560" cy="431640"/>
                  </a:xfrm>
                  <a:prstGeom prst="ellipse">
                    <a:avLst/>
                  </a:prstGeom>
                  <a:solidFill>
                    <a:srgbClr val="3f3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83" name=""/>
                  <p:cNvSpPr/>
                  <p:nvPr/>
                </p:nvSpPr>
                <p:spPr>
                  <a:xfrm flipH="1">
                    <a:off x="702720" y="1584000"/>
                    <a:ext cx="148320" cy="420840"/>
                  </a:xfrm>
                  <a:prstGeom prst="ellipse">
                    <a:avLst/>
                  </a:prstGeom>
                  <a:solidFill>
                    <a:srgbClr val="41414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84" name=""/>
                  <p:cNvSpPr/>
                  <p:nvPr/>
                </p:nvSpPr>
                <p:spPr>
                  <a:xfrm flipH="1">
                    <a:off x="704520" y="1589040"/>
                    <a:ext cx="144720" cy="411480"/>
                  </a:xfrm>
                  <a:prstGeom prst="ellipse">
                    <a:avLst/>
                  </a:prstGeom>
                  <a:solidFill>
                    <a:srgbClr val="42424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85" name=""/>
                  <p:cNvSpPr/>
                  <p:nvPr/>
                </p:nvSpPr>
                <p:spPr>
                  <a:xfrm flipH="1">
                    <a:off x="705600" y="1594800"/>
                    <a:ext cx="141480" cy="401040"/>
                  </a:xfrm>
                  <a:prstGeom prst="ellipse">
                    <a:avLst/>
                  </a:prstGeom>
                  <a:solidFill>
                    <a:srgbClr val="43434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86" name=""/>
                  <p:cNvSpPr/>
                  <p:nvPr/>
                </p:nvSpPr>
                <p:spPr>
                  <a:xfrm flipH="1">
                    <a:off x="708480" y="1599120"/>
                    <a:ext cx="137160" cy="390600"/>
                  </a:xfrm>
                  <a:prstGeom prst="ellipse">
                    <a:avLst/>
                  </a:prstGeom>
                  <a:solidFill>
                    <a:srgbClr val="4545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87" name=""/>
                  <p:cNvSpPr/>
                  <p:nvPr/>
                </p:nvSpPr>
                <p:spPr>
                  <a:xfrm flipH="1">
                    <a:off x="710280" y="1605240"/>
                    <a:ext cx="133200" cy="380160"/>
                  </a:xfrm>
                  <a:prstGeom prst="ellipse">
                    <a:avLst/>
                  </a:prstGeom>
                  <a:solidFill>
                    <a:srgbClr val="46464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88" name=""/>
                  <p:cNvSpPr/>
                  <p:nvPr/>
                </p:nvSpPr>
                <p:spPr>
                  <a:xfrm flipH="1">
                    <a:off x="712080" y="1609920"/>
                    <a:ext cx="129600" cy="369720"/>
                  </a:xfrm>
                  <a:prstGeom prst="ellipse">
                    <a:avLst/>
                  </a:prstGeom>
                  <a:solidFill>
                    <a:srgbClr val="48484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89" name=""/>
                  <p:cNvSpPr/>
                  <p:nvPr/>
                </p:nvSpPr>
                <p:spPr>
                  <a:xfrm flipH="1">
                    <a:off x="713520" y="1614600"/>
                    <a:ext cx="126720" cy="360000"/>
                  </a:xfrm>
                  <a:prstGeom prst="ellipse">
                    <a:avLst/>
                  </a:prstGeom>
                  <a:solidFill>
                    <a:srgbClr val="4a4a4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90" name=""/>
                  <p:cNvSpPr/>
                  <p:nvPr/>
                </p:nvSpPr>
                <p:spPr>
                  <a:xfrm flipH="1">
                    <a:off x="715320" y="1620360"/>
                    <a:ext cx="123120" cy="349920"/>
                  </a:xfrm>
                  <a:prstGeom prst="ellipse">
                    <a:avLst/>
                  </a:prstGeom>
                  <a:solidFill>
                    <a:srgbClr val="4c4c4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91" name=""/>
                  <p:cNvSpPr/>
                  <p:nvPr/>
                </p:nvSpPr>
                <p:spPr>
                  <a:xfrm flipH="1">
                    <a:off x="716400" y="1625040"/>
                    <a:ext cx="119880" cy="339480"/>
                  </a:xfrm>
                  <a:prstGeom prst="ellipse">
                    <a:avLst/>
                  </a:prstGeom>
                  <a:solidFill>
                    <a:srgbClr val="4e4e4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92" name=""/>
                  <p:cNvSpPr/>
                  <p:nvPr/>
                </p:nvSpPr>
                <p:spPr>
                  <a:xfrm flipH="1">
                    <a:off x="719280" y="1630800"/>
                    <a:ext cx="115560" cy="328680"/>
                  </a:xfrm>
                  <a:prstGeom prst="ellipse">
                    <a:avLst/>
                  </a:prstGeom>
                  <a:solidFill>
                    <a:srgbClr val="51515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93" name=""/>
                  <p:cNvSpPr/>
                  <p:nvPr/>
                </p:nvSpPr>
                <p:spPr>
                  <a:xfrm flipH="1">
                    <a:off x="721080" y="1635480"/>
                    <a:ext cx="111600" cy="318240"/>
                  </a:xfrm>
                  <a:prstGeom prst="ellipse">
                    <a:avLst/>
                  </a:prstGeom>
                  <a:solidFill>
                    <a:srgbClr val="53535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94" name=""/>
                  <p:cNvSpPr/>
                  <p:nvPr/>
                </p:nvSpPr>
                <p:spPr>
                  <a:xfrm flipH="1">
                    <a:off x="722880" y="1641240"/>
                    <a:ext cx="108000" cy="307800"/>
                  </a:xfrm>
                  <a:prstGeom prst="ellipse">
                    <a:avLst/>
                  </a:prstGeom>
                  <a:solidFill>
                    <a:srgbClr val="55555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95" name=""/>
                  <p:cNvSpPr/>
                  <p:nvPr/>
                </p:nvSpPr>
                <p:spPr>
                  <a:xfrm flipH="1">
                    <a:off x="723960" y="1645920"/>
                    <a:ext cx="104760" cy="298440"/>
                  </a:xfrm>
                  <a:prstGeom prst="ellipse">
                    <a:avLst/>
                  </a:prstGeom>
                  <a:solidFill>
                    <a:srgbClr val="58585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96" name=""/>
                  <p:cNvSpPr/>
                  <p:nvPr/>
                </p:nvSpPr>
                <p:spPr>
                  <a:xfrm flipH="1">
                    <a:off x="726120" y="1650600"/>
                    <a:ext cx="101520" cy="288000"/>
                  </a:xfrm>
                  <a:prstGeom prst="ellipse">
                    <a:avLst/>
                  </a:prstGeom>
                  <a:solidFill>
                    <a:srgbClr val="5a5a5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97" name=""/>
                  <p:cNvSpPr/>
                  <p:nvPr/>
                </p:nvSpPr>
                <p:spPr>
                  <a:xfrm flipH="1">
                    <a:off x="729000" y="1656360"/>
                    <a:ext cx="97200" cy="277560"/>
                  </a:xfrm>
                  <a:prstGeom prst="ellipse">
                    <a:avLst/>
                  </a:prstGeom>
                  <a:solidFill>
                    <a:srgbClr val="5c5c5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98" name=""/>
                  <p:cNvSpPr/>
                  <p:nvPr/>
                </p:nvSpPr>
                <p:spPr>
                  <a:xfrm flipH="1">
                    <a:off x="730080" y="1661040"/>
                    <a:ext cx="93960" cy="267120"/>
                  </a:xfrm>
                  <a:prstGeom prst="ellipse">
                    <a:avLst/>
                  </a:prstGeom>
                  <a:solidFill>
                    <a:srgbClr val="5f5f5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99" name=""/>
                  <p:cNvSpPr/>
                  <p:nvPr/>
                </p:nvSpPr>
                <p:spPr>
                  <a:xfrm flipH="1">
                    <a:off x="731880" y="1666800"/>
                    <a:ext cx="90000" cy="256320"/>
                  </a:xfrm>
                  <a:prstGeom prst="ellipse">
                    <a:avLst/>
                  </a:prstGeom>
                  <a:solidFill>
                    <a:srgbClr val="61616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00" name=""/>
                  <p:cNvSpPr/>
                  <p:nvPr/>
                </p:nvSpPr>
                <p:spPr>
                  <a:xfrm flipH="1">
                    <a:off x="733680" y="1671840"/>
                    <a:ext cx="86400" cy="246960"/>
                  </a:xfrm>
                  <a:prstGeom prst="ellipse">
                    <a:avLst/>
                  </a:prstGeom>
                  <a:solidFill>
                    <a:srgbClr val="63636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01" name=""/>
                  <p:cNvSpPr/>
                  <p:nvPr/>
                </p:nvSpPr>
                <p:spPr>
                  <a:xfrm flipH="1">
                    <a:off x="735120" y="1676160"/>
                    <a:ext cx="83160" cy="236880"/>
                  </a:xfrm>
                  <a:prstGeom prst="ellipse">
                    <a:avLst/>
                  </a:prstGeom>
                  <a:solidFill>
                    <a:srgbClr val="65656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02" name=""/>
                  <p:cNvSpPr/>
                  <p:nvPr/>
                </p:nvSpPr>
                <p:spPr>
                  <a:xfrm flipH="1">
                    <a:off x="736920" y="1681920"/>
                    <a:ext cx="79920" cy="226080"/>
                  </a:xfrm>
                  <a:prstGeom prst="ellipse">
                    <a:avLst/>
                  </a:prstGeom>
                  <a:solidFill>
                    <a:srgbClr val="68686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03" name=""/>
                  <p:cNvSpPr/>
                  <p:nvPr/>
                </p:nvSpPr>
                <p:spPr>
                  <a:xfrm flipH="1">
                    <a:off x="738720" y="1686960"/>
                    <a:ext cx="76320" cy="215640"/>
                  </a:xfrm>
                  <a:prstGeom prst="ellipse">
                    <a:avLst/>
                  </a:prstGeom>
                  <a:solidFill>
                    <a:srgbClr val="69696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04" name=""/>
                  <p:cNvSpPr/>
                  <p:nvPr/>
                </p:nvSpPr>
                <p:spPr>
                  <a:xfrm flipH="1">
                    <a:off x="739800" y="1692720"/>
                    <a:ext cx="72360" cy="205200"/>
                  </a:xfrm>
                  <a:prstGeom prst="ellipse">
                    <a:avLst/>
                  </a:prstGeom>
                  <a:solidFill>
                    <a:srgbClr val="6c6c6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05" name=""/>
                  <p:cNvSpPr/>
                  <p:nvPr/>
                </p:nvSpPr>
                <p:spPr>
                  <a:xfrm flipH="1">
                    <a:off x="742680" y="1697400"/>
                    <a:ext cx="68040" cy="195840"/>
                  </a:xfrm>
                  <a:prstGeom prst="ellipse">
                    <a:avLst/>
                  </a:prstGeom>
                  <a:solidFill>
                    <a:srgbClr val="6e6e6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06" name=""/>
                  <p:cNvSpPr/>
                  <p:nvPr/>
                </p:nvSpPr>
                <p:spPr>
                  <a:xfrm flipH="1">
                    <a:off x="744480" y="1701720"/>
                    <a:ext cx="64800" cy="185400"/>
                  </a:xfrm>
                  <a:prstGeom prst="ellipse">
                    <a:avLst/>
                  </a:prstGeom>
                  <a:solidFill>
                    <a:srgbClr val="6f6f6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07" name=""/>
                  <p:cNvSpPr/>
                  <p:nvPr/>
                </p:nvSpPr>
                <p:spPr>
                  <a:xfrm flipH="1">
                    <a:off x="745920" y="1707840"/>
                    <a:ext cx="61560" cy="174960"/>
                  </a:xfrm>
                  <a:prstGeom prst="ellipse">
                    <a:avLst/>
                  </a:prstGeom>
                  <a:solidFill>
                    <a:srgbClr val="71717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08" name=""/>
                  <p:cNvSpPr/>
                  <p:nvPr/>
                </p:nvSpPr>
                <p:spPr>
                  <a:xfrm flipH="1">
                    <a:off x="747720" y="1712520"/>
                    <a:ext cx="58320" cy="164160"/>
                  </a:xfrm>
                  <a:prstGeom prst="ellipse">
                    <a:avLst/>
                  </a:prstGeom>
                  <a:solidFill>
                    <a:srgbClr val="7373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09" name=""/>
                  <p:cNvSpPr/>
                  <p:nvPr/>
                </p:nvSpPr>
                <p:spPr>
                  <a:xfrm flipH="1">
                    <a:off x="749520" y="1718280"/>
                    <a:ext cx="54720" cy="153720"/>
                  </a:xfrm>
                  <a:prstGeom prst="ellipse">
                    <a:avLst/>
                  </a:prstGeom>
                  <a:solidFill>
                    <a:srgbClr val="7474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10" name=""/>
                  <p:cNvSpPr/>
                  <p:nvPr/>
                </p:nvSpPr>
                <p:spPr>
                  <a:xfrm flipH="1">
                    <a:off x="751320" y="1722960"/>
                    <a:ext cx="50760" cy="144360"/>
                  </a:xfrm>
                  <a:prstGeom prst="ellipse">
                    <a:avLst/>
                  </a:prstGeom>
                  <a:solidFill>
                    <a:srgbClr val="76767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11" name=""/>
                  <p:cNvSpPr/>
                  <p:nvPr/>
                </p:nvSpPr>
                <p:spPr>
                  <a:xfrm flipH="1">
                    <a:off x="753480" y="1727640"/>
                    <a:ext cx="46440" cy="134280"/>
                  </a:xfrm>
                  <a:prstGeom prst="ellipse">
                    <a:avLst/>
                  </a:prstGeom>
                  <a:solidFill>
                    <a:srgbClr val="77777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12" name=""/>
                  <p:cNvSpPr/>
                  <p:nvPr/>
                </p:nvSpPr>
                <p:spPr>
                  <a:xfrm flipH="1">
                    <a:off x="755280" y="1733400"/>
                    <a:ext cx="43200" cy="123480"/>
                  </a:xfrm>
                  <a:prstGeom prst="ellipse">
                    <a:avLst/>
                  </a:prstGeom>
                  <a:solidFill>
                    <a:srgbClr val="78787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680" bIns="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13" name=""/>
                  <p:cNvSpPr/>
                  <p:nvPr/>
                </p:nvSpPr>
                <p:spPr>
                  <a:xfrm flipH="1">
                    <a:off x="757080" y="1738080"/>
                    <a:ext cx="39600" cy="113040"/>
                  </a:xfrm>
                  <a:prstGeom prst="ellipse">
                    <a:avLst/>
                  </a:prstGeom>
                  <a:solidFill>
                    <a:srgbClr val="79797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3120" bIns="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14" name=""/>
                  <p:cNvSpPr/>
                  <p:nvPr/>
                </p:nvSpPr>
                <p:spPr>
                  <a:xfrm flipH="1">
                    <a:off x="758520" y="1743840"/>
                    <a:ext cx="36720" cy="102600"/>
                  </a:xfrm>
                  <a:prstGeom prst="ellipse">
                    <a:avLst/>
                  </a:prstGeom>
                  <a:solidFill>
                    <a:srgbClr val="7a7a7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6280" bIns="26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15" name=""/>
                  <p:cNvSpPr/>
                  <p:nvPr/>
                </p:nvSpPr>
                <p:spPr>
                  <a:xfrm flipH="1">
                    <a:off x="760320" y="1748520"/>
                    <a:ext cx="33120" cy="93240"/>
                  </a:xfrm>
                  <a:prstGeom prst="ellipse">
                    <a:avLst/>
                  </a:prstGeom>
                  <a:solidFill>
                    <a:srgbClr val="7b7b7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080" bIns="19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16" name=""/>
                  <p:cNvSpPr/>
                  <p:nvPr/>
                </p:nvSpPr>
                <p:spPr>
                  <a:xfrm flipH="1">
                    <a:off x="762840" y="1753200"/>
                    <a:ext cx="28080" cy="82800"/>
                  </a:xfrm>
                  <a:prstGeom prst="ellipse">
                    <a:avLst/>
                  </a:prstGeom>
                  <a:solidFill>
                    <a:srgbClr val="7c7c7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240" bIns="12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17" name=""/>
                  <p:cNvSpPr/>
                  <p:nvPr/>
                </p:nvSpPr>
                <p:spPr>
                  <a:xfrm flipH="1">
                    <a:off x="764280" y="1758960"/>
                    <a:ext cx="24840" cy="72360"/>
                  </a:xfrm>
                  <a:prstGeom prst="ellipse">
                    <a:avLst/>
                  </a:prstGeom>
                  <a:solidFill>
                    <a:srgbClr val="7d7d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" bIns="4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18" name=""/>
                  <p:cNvSpPr/>
                  <p:nvPr/>
                </p:nvSpPr>
                <p:spPr>
                  <a:xfrm flipH="1">
                    <a:off x="766080" y="1763640"/>
                    <a:ext cx="21600" cy="61560"/>
                  </a:xfrm>
                  <a:prstGeom prst="ellipse">
                    <a:avLst/>
                  </a:prstGeom>
                  <a:solidFill>
                    <a:srgbClr val="7d7d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" bIns="-3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19" name=""/>
                  <p:cNvSpPr/>
                  <p:nvPr/>
                </p:nvSpPr>
                <p:spPr>
                  <a:xfrm flipH="1">
                    <a:off x="767880" y="1769760"/>
                    <a:ext cx="18000" cy="51120"/>
                  </a:xfrm>
                  <a:prstGeom prst="ellipse">
                    <a:avLst/>
                  </a:prstGeom>
                  <a:solidFill>
                    <a:srgbClr val="7e7e7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080" bIns="-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20" name=""/>
                  <p:cNvSpPr/>
                  <p:nvPr/>
                </p:nvSpPr>
                <p:spPr>
                  <a:xfrm flipH="1">
                    <a:off x="769320" y="1774440"/>
                    <a:ext cx="14760" cy="40680"/>
                  </a:xfrm>
                  <a:prstGeom prst="ellipse">
                    <a:avLst/>
                  </a:prstGeom>
                  <a:solidFill>
                    <a:srgbClr val="7e7e7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640" bIns="-17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21" name=""/>
                  <p:cNvSpPr/>
                  <p:nvPr/>
                </p:nvSpPr>
                <p:spPr>
                  <a:xfrm flipH="1">
                    <a:off x="771120" y="1780200"/>
                    <a:ext cx="11520" cy="30240"/>
                  </a:xfrm>
                  <a:prstGeom prst="ellipse">
                    <a:avLst/>
                  </a:prstGeom>
                  <a:solidFill>
                    <a:srgbClr val="7f7f7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22" name=""/>
                  <p:cNvSpPr/>
                  <p:nvPr/>
                </p:nvSpPr>
                <p:spPr>
                  <a:xfrm flipH="1">
                    <a:off x="773640" y="1784520"/>
                    <a:ext cx="6480" cy="20880"/>
                  </a:xfrm>
                  <a:prstGeom prst="ellipse">
                    <a:avLst/>
                  </a:prstGeom>
                  <a:solidFill>
                    <a:srgbClr val="7f7f7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23" name=""/>
                  <p:cNvSpPr/>
                  <p:nvPr/>
                </p:nvSpPr>
                <p:spPr>
                  <a:xfrm flipH="1">
                    <a:off x="775440" y="1789560"/>
                    <a:ext cx="2880" cy="10440"/>
                  </a:xfrm>
                  <a:prstGeom prst="ellipse">
                    <a:avLst/>
                  </a:prstGeom>
                  <a:solidFill>
                    <a:srgbClr val="7f7f7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2824" name=""/>
                <p:cNvSpPr/>
                <p:nvPr/>
              </p:nvSpPr>
              <p:spPr>
                <a:xfrm flipH="1">
                  <a:off x="689760" y="1549440"/>
                  <a:ext cx="173160" cy="492120"/>
                </a:xfrm>
                <a:prstGeom prst="ellipse">
                  <a:avLst/>
                </a:prstGeom>
                <a:noFill/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825" name=""/>
              <p:cNvSpPr/>
              <p:nvPr/>
            </p:nvSpPr>
            <p:spPr>
              <a:xfrm>
                <a:off x="189000" y="1730520"/>
                <a:ext cx="600120" cy="439560"/>
              </a:xfrm>
              <a:custGeom>
                <a:avLst/>
                <a:gdLst/>
                <a:ahLst/>
                <a:rect l="l" t="t" r="r" b="b"/>
                <a:pathLst>
                  <a:path w="721" h="376">
                    <a:moveTo>
                      <a:pt x="703" y="102"/>
                    </a:moveTo>
                    <a:cubicBezTo>
                      <a:pt x="465" y="103"/>
                      <a:pt x="315" y="110"/>
                      <a:pt x="228" y="120"/>
                    </a:cubicBezTo>
                    <a:cubicBezTo>
                      <a:pt x="138" y="139"/>
                      <a:pt x="170" y="205"/>
                      <a:pt x="174" y="240"/>
                    </a:cubicBezTo>
                    <a:cubicBezTo>
                      <a:pt x="178" y="275"/>
                      <a:pt x="205" y="313"/>
                      <a:pt x="193" y="335"/>
                    </a:cubicBezTo>
                    <a:cubicBezTo>
                      <a:pt x="181" y="357"/>
                      <a:pt x="132" y="374"/>
                      <a:pt x="102" y="375"/>
                    </a:cubicBezTo>
                    <a:cubicBezTo>
                      <a:pt x="72" y="376"/>
                      <a:pt x="24" y="364"/>
                      <a:pt x="12" y="341"/>
                    </a:cubicBezTo>
                    <a:cubicBezTo>
                      <a:pt x="0" y="318"/>
                      <a:pt x="13" y="283"/>
                      <a:pt x="28" y="236"/>
                    </a:cubicBezTo>
                    <a:cubicBezTo>
                      <a:pt x="43" y="189"/>
                      <a:pt x="67" y="96"/>
                      <a:pt x="103" y="57"/>
                    </a:cubicBezTo>
                    <a:cubicBezTo>
                      <a:pt x="139" y="18"/>
                      <a:pt x="150" y="13"/>
                      <a:pt x="247" y="3"/>
                    </a:cubicBezTo>
                    <a:lnTo>
                      <a:pt x="685" y="0"/>
                    </a:lnTo>
                    <a:cubicBezTo>
                      <a:pt x="715" y="33"/>
                      <a:pt x="721" y="41"/>
                      <a:pt x="703" y="102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6699ff"/>
                  </a:gs>
                  <a:gs pos="100000">
                    <a:srgbClr val="2f4675"/>
                  </a:gs>
                </a:gsLst>
                <a:lin ang="54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826" name=""/>
              <p:cNvGrpSpPr/>
              <p:nvPr/>
            </p:nvGrpSpPr>
            <p:grpSpPr>
              <a:xfrm>
                <a:off x="276120" y="2206800"/>
                <a:ext cx="58680" cy="446040"/>
                <a:chOff x="276120" y="2206800"/>
                <a:chExt cx="58680" cy="446040"/>
              </a:xfrm>
            </p:grpSpPr>
            <p:sp>
              <p:nvSpPr>
                <p:cNvPr id="12827" name=""/>
                <p:cNvSpPr/>
                <p:nvPr/>
              </p:nvSpPr>
              <p:spPr>
                <a:xfrm>
                  <a:off x="276120" y="2206800"/>
                  <a:ext cx="49320" cy="101520"/>
                </a:xfrm>
                <a:custGeom>
                  <a:avLst/>
                  <a:gdLst/>
                  <a:ahLst/>
                  <a:rect l="l" t="t" r="r" b="b"/>
                  <a:pathLst>
                    <a:path w="196" h="370">
                      <a:moveTo>
                        <a:pt x="95" y="0"/>
                      </a:moveTo>
                      <a:lnTo>
                        <a:pt x="105" y="58"/>
                      </a:lnTo>
                      <a:lnTo>
                        <a:pt x="111" y="87"/>
                      </a:lnTo>
                      <a:lnTo>
                        <a:pt x="121" y="121"/>
                      </a:lnTo>
                      <a:lnTo>
                        <a:pt x="132" y="141"/>
                      </a:lnTo>
                      <a:lnTo>
                        <a:pt x="147" y="166"/>
                      </a:lnTo>
                      <a:lnTo>
                        <a:pt x="167" y="193"/>
                      </a:lnTo>
                      <a:lnTo>
                        <a:pt x="184" y="220"/>
                      </a:lnTo>
                      <a:lnTo>
                        <a:pt x="192" y="245"/>
                      </a:lnTo>
                      <a:lnTo>
                        <a:pt x="196" y="278"/>
                      </a:lnTo>
                      <a:lnTo>
                        <a:pt x="189" y="307"/>
                      </a:lnTo>
                      <a:lnTo>
                        <a:pt x="178" y="328"/>
                      </a:lnTo>
                      <a:lnTo>
                        <a:pt x="162" y="345"/>
                      </a:lnTo>
                      <a:lnTo>
                        <a:pt x="141" y="361"/>
                      </a:lnTo>
                      <a:lnTo>
                        <a:pt x="121" y="367"/>
                      </a:lnTo>
                      <a:lnTo>
                        <a:pt x="99" y="370"/>
                      </a:lnTo>
                      <a:lnTo>
                        <a:pt x="76" y="367"/>
                      </a:lnTo>
                      <a:lnTo>
                        <a:pt x="54" y="362"/>
                      </a:lnTo>
                      <a:lnTo>
                        <a:pt x="34" y="350"/>
                      </a:lnTo>
                      <a:lnTo>
                        <a:pt x="19" y="334"/>
                      </a:lnTo>
                      <a:lnTo>
                        <a:pt x="8" y="315"/>
                      </a:lnTo>
                      <a:lnTo>
                        <a:pt x="3" y="296"/>
                      </a:lnTo>
                      <a:lnTo>
                        <a:pt x="0" y="272"/>
                      </a:lnTo>
                      <a:lnTo>
                        <a:pt x="5" y="240"/>
                      </a:lnTo>
                      <a:lnTo>
                        <a:pt x="13" y="218"/>
                      </a:lnTo>
                      <a:lnTo>
                        <a:pt x="30" y="190"/>
                      </a:lnTo>
                      <a:lnTo>
                        <a:pt x="49" y="166"/>
                      </a:lnTo>
                      <a:lnTo>
                        <a:pt x="62" y="140"/>
                      </a:lnTo>
                      <a:lnTo>
                        <a:pt x="72" y="119"/>
                      </a:lnTo>
                      <a:lnTo>
                        <a:pt x="81" y="90"/>
                      </a:lnTo>
                      <a:lnTo>
                        <a:pt x="86" y="58"/>
                      </a:lnTo>
                      <a:lnTo>
                        <a:pt x="95" y="0"/>
                      </a:lnTo>
                      <a:close/>
                    </a:path>
                  </a:pathLst>
                </a:custGeom>
                <a:solidFill>
                  <a:srgbClr val="00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28" name=""/>
                <p:cNvSpPr/>
                <p:nvPr/>
              </p:nvSpPr>
              <p:spPr>
                <a:xfrm>
                  <a:off x="276120" y="2314800"/>
                  <a:ext cx="49320" cy="101520"/>
                </a:xfrm>
                <a:custGeom>
                  <a:avLst/>
                  <a:gdLst/>
                  <a:ahLst/>
                  <a:rect l="l" t="t" r="r" b="b"/>
                  <a:pathLst>
                    <a:path w="196" h="372">
                      <a:moveTo>
                        <a:pt x="95" y="0"/>
                      </a:moveTo>
                      <a:lnTo>
                        <a:pt x="105" y="60"/>
                      </a:lnTo>
                      <a:lnTo>
                        <a:pt x="111" y="88"/>
                      </a:lnTo>
                      <a:lnTo>
                        <a:pt x="121" y="122"/>
                      </a:lnTo>
                      <a:lnTo>
                        <a:pt x="132" y="143"/>
                      </a:lnTo>
                      <a:lnTo>
                        <a:pt x="147" y="168"/>
                      </a:lnTo>
                      <a:lnTo>
                        <a:pt x="167" y="195"/>
                      </a:lnTo>
                      <a:lnTo>
                        <a:pt x="184" y="221"/>
                      </a:lnTo>
                      <a:lnTo>
                        <a:pt x="192" y="247"/>
                      </a:lnTo>
                      <a:lnTo>
                        <a:pt x="196" y="279"/>
                      </a:lnTo>
                      <a:lnTo>
                        <a:pt x="189" y="308"/>
                      </a:lnTo>
                      <a:lnTo>
                        <a:pt x="178" y="328"/>
                      </a:lnTo>
                      <a:lnTo>
                        <a:pt x="162" y="345"/>
                      </a:lnTo>
                      <a:lnTo>
                        <a:pt x="141" y="361"/>
                      </a:lnTo>
                      <a:lnTo>
                        <a:pt x="121" y="369"/>
                      </a:lnTo>
                      <a:lnTo>
                        <a:pt x="99" y="372"/>
                      </a:lnTo>
                      <a:lnTo>
                        <a:pt x="76" y="369"/>
                      </a:lnTo>
                      <a:lnTo>
                        <a:pt x="54" y="363"/>
                      </a:lnTo>
                      <a:lnTo>
                        <a:pt x="34" y="351"/>
                      </a:lnTo>
                      <a:lnTo>
                        <a:pt x="19" y="336"/>
                      </a:lnTo>
                      <a:lnTo>
                        <a:pt x="8" y="317"/>
                      </a:lnTo>
                      <a:lnTo>
                        <a:pt x="3" y="298"/>
                      </a:lnTo>
                      <a:lnTo>
                        <a:pt x="0" y="272"/>
                      </a:lnTo>
                      <a:lnTo>
                        <a:pt x="5" y="242"/>
                      </a:lnTo>
                      <a:lnTo>
                        <a:pt x="13" y="219"/>
                      </a:lnTo>
                      <a:lnTo>
                        <a:pt x="30" y="191"/>
                      </a:lnTo>
                      <a:lnTo>
                        <a:pt x="49" y="168"/>
                      </a:lnTo>
                      <a:lnTo>
                        <a:pt x="62" y="141"/>
                      </a:lnTo>
                      <a:lnTo>
                        <a:pt x="72" y="120"/>
                      </a:lnTo>
                      <a:lnTo>
                        <a:pt x="81" y="90"/>
                      </a:lnTo>
                      <a:lnTo>
                        <a:pt x="86" y="60"/>
                      </a:lnTo>
                      <a:lnTo>
                        <a:pt x="95" y="0"/>
                      </a:lnTo>
                      <a:close/>
                    </a:path>
                  </a:pathLst>
                </a:custGeom>
                <a:solidFill>
                  <a:srgbClr val="00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29" name=""/>
                <p:cNvSpPr/>
                <p:nvPr/>
              </p:nvSpPr>
              <p:spPr>
                <a:xfrm>
                  <a:off x="285840" y="2443320"/>
                  <a:ext cx="48960" cy="101520"/>
                </a:xfrm>
                <a:custGeom>
                  <a:avLst/>
                  <a:gdLst/>
                  <a:ahLst/>
                  <a:rect l="l" t="t" r="r" b="b"/>
                  <a:pathLst>
                    <a:path w="196" h="370">
                      <a:moveTo>
                        <a:pt x="95" y="0"/>
                      </a:moveTo>
                      <a:lnTo>
                        <a:pt x="105" y="58"/>
                      </a:lnTo>
                      <a:lnTo>
                        <a:pt x="111" y="87"/>
                      </a:lnTo>
                      <a:lnTo>
                        <a:pt x="121" y="121"/>
                      </a:lnTo>
                      <a:lnTo>
                        <a:pt x="132" y="141"/>
                      </a:lnTo>
                      <a:lnTo>
                        <a:pt x="147" y="166"/>
                      </a:lnTo>
                      <a:lnTo>
                        <a:pt x="167" y="193"/>
                      </a:lnTo>
                      <a:lnTo>
                        <a:pt x="184" y="220"/>
                      </a:lnTo>
                      <a:lnTo>
                        <a:pt x="192" y="245"/>
                      </a:lnTo>
                      <a:lnTo>
                        <a:pt x="196" y="278"/>
                      </a:lnTo>
                      <a:lnTo>
                        <a:pt x="189" y="307"/>
                      </a:lnTo>
                      <a:lnTo>
                        <a:pt x="178" y="328"/>
                      </a:lnTo>
                      <a:lnTo>
                        <a:pt x="162" y="345"/>
                      </a:lnTo>
                      <a:lnTo>
                        <a:pt x="141" y="361"/>
                      </a:lnTo>
                      <a:lnTo>
                        <a:pt x="121" y="367"/>
                      </a:lnTo>
                      <a:lnTo>
                        <a:pt x="99" y="370"/>
                      </a:lnTo>
                      <a:lnTo>
                        <a:pt x="76" y="367"/>
                      </a:lnTo>
                      <a:lnTo>
                        <a:pt x="54" y="362"/>
                      </a:lnTo>
                      <a:lnTo>
                        <a:pt x="34" y="350"/>
                      </a:lnTo>
                      <a:lnTo>
                        <a:pt x="19" y="334"/>
                      </a:lnTo>
                      <a:lnTo>
                        <a:pt x="8" y="315"/>
                      </a:lnTo>
                      <a:lnTo>
                        <a:pt x="3" y="296"/>
                      </a:lnTo>
                      <a:lnTo>
                        <a:pt x="0" y="272"/>
                      </a:lnTo>
                      <a:lnTo>
                        <a:pt x="5" y="240"/>
                      </a:lnTo>
                      <a:lnTo>
                        <a:pt x="13" y="218"/>
                      </a:lnTo>
                      <a:lnTo>
                        <a:pt x="30" y="190"/>
                      </a:lnTo>
                      <a:lnTo>
                        <a:pt x="49" y="166"/>
                      </a:lnTo>
                      <a:lnTo>
                        <a:pt x="62" y="140"/>
                      </a:lnTo>
                      <a:lnTo>
                        <a:pt x="72" y="119"/>
                      </a:lnTo>
                      <a:lnTo>
                        <a:pt x="81" y="90"/>
                      </a:lnTo>
                      <a:lnTo>
                        <a:pt x="86" y="58"/>
                      </a:lnTo>
                      <a:lnTo>
                        <a:pt x="95" y="0"/>
                      </a:lnTo>
                      <a:close/>
                    </a:path>
                  </a:pathLst>
                </a:custGeom>
                <a:solidFill>
                  <a:srgbClr val="00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30" name=""/>
                <p:cNvSpPr/>
                <p:nvPr/>
              </p:nvSpPr>
              <p:spPr>
                <a:xfrm>
                  <a:off x="285840" y="2551320"/>
                  <a:ext cx="48960" cy="101520"/>
                </a:xfrm>
                <a:custGeom>
                  <a:avLst/>
                  <a:gdLst/>
                  <a:ahLst/>
                  <a:rect l="l" t="t" r="r" b="b"/>
                  <a:pathLst>
                    <a:path w="196" h="372">
                      <a:moveTo>
                        <a:pt x="95" y="0"/>
                      </a:moveTo>
                      <a:lnTo>
                        <a:pt x="105" y="60"/>
                      </a:lnTo>
                      <a:lnTo>
                        <a:pt x="111" y="88"/>
                      </a:lnTo>
                      <a:lnTo>
                        <a:pt x="121" y="122"/>
                      </a:lnTo>
                      <a:lnTo>
                        <a:pt x="132" y="143"/>
                      </a:lnTo>
                      <a:lnTo>
                        <a:pt x="147" y="168"/>
                      </a:lnTo>
                      <a:lnTo>
                        <a:pt x="167" y="195"/>
                      </a:lnTo>
                      <a:lnTo>
                        <a:pt x="184" y="221"/>
                      </a:lnTo>
                      <a:lnTo>
                        <a:pt x="192" y="247"/>
                      </a:lnTo>
                      <a:lnTo>
                        <a:pt x="196" y="279"/>
                      </a:lnTo>
                      <a:lnTo>
                        <a:pt x="189" y="308"/>
                      </a:lnTo>
                      <a:lnTo>
                        <a:pt x="178" y="328"/>
                      </a:lnTo>
                      <a:lnTo>
                        <a:pt x="162" y="345"/>
                      </a:lnTo>
                      <a:lnTo>
                        <a:pt x="141" y="361"/>
                      </a:lnTo>
                      <a:lnTo>
                        <a:pt x="121" y="369"/>
                      </a:lnTo>
                      <a:lnTo>
                        <a:pt x="99" y="372"/>
                      </a:lnTo>
                      <a:lnTo>
                        <a:pt x="76" y="369"/>
                      </a:lnTo>
                      <a:lnTo>
                        <a:pt x="54" y="363"/>
                      </a:lnTo>
                      <a:lnTo>
                        <a:pt x="34" y="351"/>
                      </a:lnTo>
                      <a:lnTo>
                        <a:pt x="19" y="336"/>
                      </a:lnTo>
                      <a:lnTo>
                        <a:pt x="8" y="317"/>
                      </a:lnTo>
                      <a:lnTo>
                        <a:pt x="3" y="298"/>
                      </a:lnTo>
                      <a:lnTo>
                        <a:pt x="0" y="272"/>
                      </a:lnTo>
                      <a:lnTo>
                        <a:pt x="5" y="242"/>
                      </a:lnTo>
                      <a:lnTo>
                        <a:pt x="13" y="219"/>
                      </a:lnTo>
                      <a:lnTo>
                        <a:pt x="30" y="191"/>
                      </a:lnTo>
                      <a:lnTo>
                        <a:pt x="49" y="168"/>
                      </a:lnTo>
                      <a:lnTo>
                        <a:pt x="62" y="141"/>
                      </a:lnTo>
                      <a:lnTo>
                        <a:pt x="72" y="120"/>
                      </a:lnTo>
                      <a:lnTo>
                        <a:pt x="81" y="90"/>
                      </a:lnTo>
                      <a:lnTo>
                        <a:pt x="86" y="60"/>
                      </a:lnTo>
                      <a:lnTo>
                        <a:pt x="95" y="0"/>
                      </a:lnTo>
                      <a:close/>
                    </a:path>
                  </a:pathLst>
                </a:custGeom>
                <a:solidFill>
                  <a:srgbClr val="00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831" name=""/>
              <p:cNvSpPr/>
              <p:nvPr/>
            </p:nvSpPr>
            <p:spPr>
              <a:xfrm>
                <a:off x="446040" y="1546200"/>
                <a:ext cx="147600" cy="235080"/>
              </a:xfrm>
              <a:custGeom>
                <a:avLst/>
                <a:gdLst/>
                <a:ahLst/>
                <a:rect l="l" t="t" r="r" b="b"/>
                <a:pathLst>
                  <a:path w="178" h="201">
                    <a:moveTo>
                      <a:pt x="1" y="160"/>
                    </a:moveTo>
                    <a:cubicBezTo>
                      <a:pt x="2" y="152"/>
                      <a:pt x="5" y="136"/>
                      <a:pt x="9" y="121"/>
                    </a:cubicBezTo>
                    <a:cubicBezTo>
                      <a:pt x="13" y="106"/>
                      <a:pt x="21" y="82"/>
                      <a:pt x="27" y="67"/>
                    </a:cubicBezTo>
                    <a:cubicBezTo>
                      <a:pt x="33" y="52"/>
                      <a:pt x="40" y="39"/>
                      <a:pt x="46" y="31"/>
                    </a:cubicBezTo>
                    <a:cubicBezTo>
                      <a:pt x="52" y="23"/>
                      <a:pt x="56" y="21"/>
                      <a:pt x="60" y="16"/>
                    </a:cubicBezTo>
                    <a:cubicBezTo>
                      <a:pt x="64" y="11"/>
                      <a:pt x="69" y="2"/>
                      <a:pt x="73" y="1"/>
                    </a:cubicBezTo>
                    <a:cubicBezTo>
                      <a:pt x="77" y="0"/>
                      <a:pt x="82" y="6"/>
                      <a:pt x="87" y="7"/>
                    </a:cubicBezTo>
                    <a:cubicBezTo>
                      <a:pt x="92" y="8"/>
                      <a:pt x="100" y="5"/>
                      <a:pt x="105" y="5"/>
                    </a:cubicBezTo>
                    <a:cubicBezTo>
                      <a:pt x="110" y="5"/>
                      <a:pt x="112" y="5"/>
                      <a:pt x="117" y="8"/>
                    </a:cubicBezTo>
                    <a:cubicBezTo>
                      <a:pt x="122" y="11"/>
                      <a:pt x="130" y="17"/>
                      <a:pt x="136" y="26"/>
                    </a:cubicBezTo>
                    <a:cubicBezTo>
                      <a:pt x="142" y="35"/>
                      <a:pt x="149" y="47"/>
                      <a:pt x="154" y="61"/>
                    </a:cubicBezTo>
                    <a:cubicBezTo>
                      <a:pt x="159" y="75"/>
                      <a:pt x="164" y="95"/>
                      <a:pt x="168" y="112"/>
                    </a:cubicBezTo>
                    <a:cubicBezTo>
                      <a:pt x="172" y="129"/>
                      <a:pt x="178" y="151"/>
                      <a:pt x="178" y="161"/>
                    </a:cubicBezTo>
                    <a:cubicBezTo>
                      <a:pt x="178" y="171"/>
                      <a:pt x="178" y="170"/>
                      <a:pt x="171" y="175"/>
                    </a:cubicBezTo>
                    <a:cubicBezTo>
                      <a:pt x="164" y="180"/>
                      <a:pt x="151" y="189"/>
                      <a:pt x="138" y="193"/>
                    </a:cubicBezTo>
                    <a:cubicBezTo>
                      <a:pt x="125" y="197"/>
                      <a:pt x="106" y="199"/>
                      <a:pt x="93" y="200"/>
                    </a:cubicBezTo>
                    <a:cubicBezTo>
                      <a:pt x="80" y="201"/>
                      <a:pt x="68" y="198"/>
                      <a:pt x="58" y="196"/>
                    </a:cubicBezTo>
                    <a:cubicBezTo>
                      <a:pt x="48" y="194"/>
                      <a:pt x="39" y="192"/>
                      <a:pt x="30" y="188"/>
                    </a:cubicBezTo>
                    <a:cubicBezTo>
                      <a:pt x="21" y="184"/>
                      <a:pt x="11" y="175"/>
                      <a:pt x="6" y="169"/>
                    </a:cubicBezTo>
                    <a:cubicBezTo>
                      <a:pt x="1" y="163"/>
                      <a:pt x="0" y="168"/>
                      <a:pt x="1" y="16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6699ff"/>
                  </a:gs>
                  <a:gs pos="100000">
                    <a:srgbClr val="2f4675"/>
                  </a:gs>
                </a:gsLst>
                <a:lin ang="54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32" name=""/>
              <p:cNvSpPr/>
              <p:nvPr/>
            </p:nvSpPr>
            <p:spPr>
              <a:xfrm>
                <a:off x="498600" y="1461960"/>
                <a:ext cx="42840" cy="1080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2f4675"/>
                  </a:gs>
                  <a:gs pos="100000">
                    <a:srgbClr val="6699ff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33" name=""/>
              <p:cNvSpPr/>
              <p:nvPr/>
            </p:nvSpPr>
            <p:spPr>
              <a:xfrm>
                <a:off x="379440" y="1308240"/>
                <a:ext cx="284040" cy="201600"/>
              </a:xfrm>
              <a:custGeom>
                <a:avLst/>
                <a:gdLst/>
                <a:ahLst/>
                <a:rect l="l" t="t" r="r" b="b"/>
                <a:pathLst>
                  <a:path w="342" h="172">
                    <a:moveTo>
                      <a:pt x="170" y="172"/>
                    </a:moveTo>
                    <a:cubicBezTo>
                      <a:pt x="143" y="167"/>
                      <a:pt x="116" y="163"/>
                      <a:pt x="90" y="154"/>
                    </a:cubicBezTo>
                    <a:cubicBezTo>
                      <a:pt x="64" y="145"/>
                      <a:pt x="28" y="126"/>
                      <a:pt x="14" y="118"/>
                    </a:cubicBezTo>
                    <a:cubicBezTo>
                      <a:pt x="0" y="110"/>
                      <a:pt x="3" y="111"/>
                      <a:pt x="3" y="106"/>
                    </a:cubicBezTo>
                    <a:cubicBezTo>
                      <a:pt x="3" y="101"/>
                      <a:pt x="9" y="92"/>
                      <a:pt x="12" y="88"/>
                    </a:cubicBezTo>
                    <a:cubicBezTo>
                      <a:pt x="15" y="84"/>
                      <a:pt x="17" y="85"/>
                      <a:pt x="20" y="80"/>
                    </a:cubicBezTo>
                    <a:cubicBezTo>
                      <a:pt x="23" y="75"/>
                      <a:pt x="26" y="64"/>
                      <a:pt x="29" y="56"/>
                    </a:cubicBezTo>
                    <a:cubicBezTo>
                      <a:pt x="32" y="48"/>
                      <a:pt x="31" y="36"/>
                      <a:pt x="38" y="29"/>
                    </a:cubicBezTo>
                    <a:cubicBezTo>
                      <a:pt x="45" y="22"/>
                      <a:pt x="53" y="18"/>
                      <a:pt x="69" y="14"/>
                    </a:cubicBezTo>
                    <a:cubicBezTo>
                      <a:pt x="85" y="10"/>
                      <a:pt x="113" y="4"/>
                      <a:pt x="137" y="2"/>
                    </a:cubicBezTo>
                    <a:cubicBezTo>
                      <a:pt x="161" y="0"/>
                      <a:pt x="194" y="1"/>
                      <a:pt x="213" y="2"/>
                    </a:cubicBezTo>
                    <a:cubicBezTo>
                      <a:pt x="232" y="3"/>
                      <a:pt x="237" y="4"/>
                      <a:pt x="251" y="7"/>
                    </a:cubicBezTo>
                    <a:cubicBezTo>
                      <a:pt x="265" y="10"/>
                      <a:pt x="287" y="11"/>
                      <a:pt x="297" y="19"/>
                    </a:cubicBezTo>
                    <a:cubicBezTo>
                      <a:pt x="307" y="27"/>
                      <a:pt x="307" y="44"/>
                      <a:pt x="311" y="53"/>
                    </a:cubicBezTo>
                    <a:cubicBezTo>
                      <a:pt x="315" y="62"/>
                      <a:pt x="318" y="70"/>
                      <a:pt x="321" y="74"/>
                    </a:cubicBezTo>
                    <a:cubicBezTo>
                      <a:pt x="324" y="78"/>
                      <a:pt x="327" y="75"/>
                      <a:pt x="330" y="80"/>
                    </a:cubicBezTo>
                    <a:cubicBezTo>
                      <a:pt x="333" y="85"/>
                      <a:pt x="342" y="99"/>
                      <a:pt x="338" y="107"/>
                    </a:cubicBezTo>
                    <a:cubicBezTo>
                      <a:pt x="334" y="115"/>
                      <a:pt x="327" y="121"/>
                      <a:pt x="309" y="130"/>
                    </a:cubicBezTo>
                    <a:cubicBezTo>
                      <a:pt x="291" y="139"/>
                      <a:pt x="247" y="153"/>
                      <a:pt x="227" y="160"/>
                    </a:cubicBezTo>
                    <a:cubicBezTo>
                      <a:pt x="207" y="167"/>
                      <a:pt x="201" y="167"/>
                      <a:pt x="189" y="169"/>
                    </a:cubicBezTo>
                    <a:cubicBezTo>
                      <a:pt x="177" y="171"/>
                      <a:pt x="160" y="170"/>
                      <a:pt x="152" y="170"/>
                    </a:cubicBezTo>
                  </a:path>
                </a:pathLst>
              </a:custGeom>
              <a:gradFill rotWithShape="0">
                <a:gsLst>
                  <a:gs pos="0">
                    <a:srgbClr val="6699ff"/>
                  </a:gs>
                  <a:gs pos="100000">
                    <a:srgbClr val="2f4675"/>
                  </a:gs>
                </a:gsLst>
                <a:lin ang="54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34" name=""/>
            <p:cNvGrpSpPr/>
            <p:nvPr/>
          </p:nvGrpSpPr>
          <p:grpSpPr>
            <a:xfrm>
              <a:off x="0" y="4673520"/>
              <a:ext cx="2573280" cy="1969200"/>
              <a:chOff x="0" y="4673520"/>
              <a:chExt cx="2573280" cy="1969200"/>
            </a:xfrm>
          </p:grpSpPr>
          <p:grpSp>
            <p:nvGrpSpPr>
              <p:cNvPr id="12835" name=""/>
              <p:cNvGrpSpPr/>
              <p:nvPr/>
            </p:nvGrpSpPr>
            <p:grpSpPr>
              <a:xfrm>
                <a:off x="244440" y="4772160"/>
                <a:ext cx="2260440" cy="1868040"/>
                <a:chOff x="244440" y="4772160"/>
                <a:chExt cx="2260440" cy="1868040"/>
              </a:xfrm>
            </p:grpSpPr>
            <p:sp>
              <p:nvSpPr>
                <p:cNvPr id="12836" name=""/>
                <p:cNvSpPr/>
                <p:nvPr/>
              </p:nvSpPr>
              <p:spPr>
                <a:xfrm>
                  <a:off x="244440" y="4772160"/>
                  <a:ext cx="2248560" cy="18615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837" name=""/>
                <p:cNvGrpSpPr/>
                <p:nvPr/>
              </p:nvGrpSpPr>
              <p:grpSpPr>
                <a:xfrm>
                  <a:off x="268560" y="4775760"/>
                  <a:ext cx="2206440" cy="1833120"/>
                  <a:chOff x="268560" y="4775760"/>
                  <a:chExt cx="2206440" cy="1833120"/>
                </a:xfrm>
              </p:grpSpPr>
              <p:sp>
                <p:nvSpPr>
                  <p:cNvPr id="12838" name=""/>
                  <p:cNvSpPr/>
                  <p:nvPr/>
                </p:nvSpPr>
                <p:spPr>
                  <a:xfrm>
                    <a:off x="522720" y="5971320"/>
                    <a:ext cx="717840" cy="637560"/>
                  </a:xfrm>
                  <a:custGeom>
                    <a:avLst/>
                    <a:gdLst/>
                    <a:ahLst/>
                    <a:rect l="l" t="t" r="r" b="b"/>
                    <a:pathLst>
                      <a:path w="1363" h="1020">
                        <a:moveTo>
                          <a:pt x="1030" y="0"/>
                        </a:moveTo>
                        <a:cubicBezTo>
                          <a:pt x="931" y="41"/>
                          <a:pt x="847" y="229"/>
                          <a:pt x="768" y="317"/>
                        </a:cubicBezTo>
                        <a:cubicBezTo>
                          <a:pt x="689" y="405"/>
                          <a:pt x="641" y="450"/>
                          <a:pt x="557" y="528"/>
                        </a:cubicBezTo>
                        <a:cubicBezTo>
                          <a:pt x="473" y="606"/>
                          <a:pt x="360" y="706"/>
                          <a:pt x="267" y="788"/>
                        </a:cubicBezTo>
                        <a:cubicBezTo>
                          <a:pt x="174" y="870"/>
                          <a:pt x="118" y="922"/>
                          <a:pt x="0" y="1020"/>
                        </a:cubicBezTo>
                        <a:cubicBezTo>
                          <a:pt x="111" y="1018"/>
                          <a:pt x="195" y="1018"/>
                          <a:pt x="267" y="1016"/>
                        </a:cubicBezTo>
                        <a:cubicBezTo>
                          <a:pt x="379" y="932"/>
                          <a:pt x="586" y="755"/>
                          <a:pt x="694" y="665"/>
                        </a:cubicBezTo>
                        <a:cubicBezTo>
                          <a:pt x="802" y="575"/>
                          <a:pt x="853" y="531"/>
                          <a:pt x="917" y="476"/>
                        </a:cubicBezTo>
                        <a:cubicBezTo>
                          <a:pt x="981" y="421"/>
                          <a:pt x="1027" y="381"/>
                          <a:pt x="1078" y="334"/>
                        </a:cubicBezTo>
                        <a:cubicBezTo>
                          <a:pt x="1129" y="287"/>
                          <a:pt x="1176" y="241"/>
                          <a:pt x="1224" y="197"/>
                        </a:cubicBezTo>
                        <a:lnTo>
                          <a:pt x="1363" y="70"/>
                        </a:lnTo>
                        <a:lnTo>
                          <a:pt x="1030" y="0"/>
                        </a:lnTo>
                        <a:close/>
                      </a:path>
                    </a:pathLst>
                  </a:custGeom>
                  <a:solidFill>
                    <a:srgbClr val="b2b2b2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39" name=""/>
                  <p:cNvSpPr/>
                  <p:nvPr/>
                </p:nvSpPr>
                <p:spPr>
                  <a:xfrm>
                    <a:off x="1308240" y="5126040"/>
                    <a:ext cx="1058040" cy="71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009" h="1148">
                        <a:moveTo>
                          <a:pt x="38" y="811"/>
                        </a:moveTo>
                        <a:cubicBezTo>
                          <a:pt x="30" y="770"/>
                          <a:pt x="0" y="826"/>
                          <a:pt x="329" y="691"/>
                        </a:cubicBezTo>
                        <a:lnTo>
                          <a:pt x="2009" y="0"/>
                        </a:lnTo>
                        <a:lnTo>
                          <a:pt x="2009" y="742"/>
                        </a:lnTo>
                        <a:lnTo>
                          <a:pt x="941" y="1148"/>
                        </a:lnTo>
                        <a:lnTo>
                          <a:pt x="38" y="1137"/>
                        </a:lnTo>
                        <a:lnTo>
                          <a:pt x="38" y="811"/>
                        </a:lnTo>
                        <a:close/>
                      </a:path>
                    </a:pathLst>
                  </a:custGeom>
                  <a:solidFill>
                    <a:srgbClr val="b2b2b2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40" name=""/>
                  <p:cNvSpPr/>
                  <p:nvPr/>
                </p:nvSpPr>
                <p:spPr>
                  <a:xfrm>
                    <a:off x="1183320" y="4780080"/>
                    <a:ext cx="673200" cy="11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278" h="1787">
                        <a:moveTo>
                          <a:pt x="0" y="1673"/>
                        </a:moveTo>
                        <a:lnTo>
                          <a:pt x="189" y="1341"/>
                        </a:lnTo>
                        <a:cubicBezTo>
                          <a:pt x="283" y="1169"/>
                          <a:pt x="458" y="843"/>
                          <a:pt x="566" y="638"/>
                        </a:cubicBezTo>
                        <a:cubicBezTo>
                          <a:pt x="674" y="433"/>
                          <a:pt x="781" y="213"/>
                          <a:pt x="835" y="107"/>
                        </a:cubicBezTo>
                        <a:lnTo>
                          <a:pt x="892" y="0"/>
                        </a:lnTo>
                        <a:lnTo>
                          <a:pt x="1278" y="2"/>
                        </a:lnTo>
                        <a:lnTo>
                          <a:pt x="1052" y="433"/>
                        </a:lnTo>
                        <a:cubicBezTo>
                          <a:pt x="925" y="674"/>
                          <a:pt x="635" y="1224"/>
                          <a:pt x="515" y="1450"/>
                        </a:cubicBezTo>
                        <a:lnTo>
                          <a:pt x="332" y="1787"/>
                        </a:lnTo>
                        <a:lnTo>
                          <a:pt x="0" y="1673"/>
                        </a:lnTo>
                        <a:close/>
                      </a:path>
                    </a:pathLst>
                  </a:custGeom>
                  <a:solidFill>
                    <a:srgbClr val="b2b2b2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41" name=""/>
                  <p:cNvSpPr/>
                  <p:nvPr/>
                </p:nvSpPr>
                <p:spPr>
                  <a:xfrm>
                    <a:off x="268560" y="5994000"/>
                    <a:ext cx="854640" cy="571680"/>
                  </a:xfrm>
                  <a:custGeom>
                    <a:avLst/>
                    <a:gdLst/>
                    <a:ahLst/>
                    <a:rect l="l" t="t" r="r" b="b"/>
                    <a:pathLst>
                      <a:path w="1623" h="914">
                        <a:moveTo>
                          <a:pt x="1206" y="23"/>
                        </a:moveTo>
                        <a:lnTo>
                          <a:pt x="0" y="680"/>
                        </a:lnTo>
                        <a:lnTo>
                          <a:pt x="0" y="914"/>
                        </a:lnTo>
                        <a:lnTo>
                          <a:pt x="1623" y="0"/>
                        </a:lnTo>
                      </a:path>
                    </a:pathLst>
                  </a:custGeom>
                  <a:solidFill>
                    <a:srgbClr val="b2b2b2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42" name=""/>
                  <p:cNvSpPr/>
                  <p:nvPr/>
                </p:nvSpPr>
                <p:spPr>
                  <a:xfrm>
                    <a:off x="283680" y="4775760"/>
                    <a:ext cx="2191320" cy="1830960"/>
                  </a:xfrm>
                  <a:custGeom>
                    <a:avLst/>
                    <a:gdLst/>
                    <a:ahLst/>
                    <a:rect l="l" t="t" r="r" b="b"/>
                    <a:pathLst>
                      <a:path w="4160" h="2928">
                        <a:moveTo>
                          <a:pt x="0" y="1645"/>
                        </a:moveTo>
                        <a:lnTo>
                          <a:pt x="1611" y="1645"/>
                        </a:lnTo>
                        <a:lnTo>
                          <a:pt x="1617" y="1451"/>
                        </a:lnTo>
                        <a:cubicBezTo>
                          <a:pt x="1600" y="1366"/>
                          <a:pt x="1537" y="1273"/>
                          <a:pt x="1508" y="1137"/>
                        </a:cubicBezTo>
                        <a:cubicBezTo>
                          <a:pt x="1479" y="1001"/>
                          <a:pt x="1466" y="783"/>
                          <a:pt x="1440" y="634"/>
                        </a:cubicBezTo>
                        <a:cubicBezTo>
                          <a:pt x="1414" y="485"/>
                          <a:pt x="1388" y="345"/>
                          <a:pt x="1354" y="240"/>
                        </a:cubicBezTo>
                        <a:lnTo>
                          <a:pt x="1234" y="2"/>
                        </a:lnTo>
                        <a:lnTo>
                          <a:pt x="1472" y="0"/>
                        </a:lnTo>
                        <a:cubicBezTo>
                          <a:pt x="1534" y="62"/>
                          <a:pt x="1570" y="242"/>
                          <a:pt x="1605" y="377"/>
                        </a:cubicBezTo>
                        <a:cubicBezTo>
                          <a:pt x="1640" y="512"/>
                          <a:pt x="1657" y="692"/>
                          <a:pt x="1680" y="811"/>
                        </a:cubicBezTo>
                        <a:cubicBezTo>
                          <a:pt x="1703" y="930"/>
                          <a:pt x="1712" y="982"/>
                          <a:pt x="1743" y="1091"/>
                        </a:cubicBezTo>
                        <a:cubicBezTo>
                          <a:pt x="1774" y="1200"/>
                          <a:pt x="1829" y="1376"/>
                          <a:pt x="1868" y="1468"/>
                        </a:cubicBezTo>
                        <a:lnTo>
                          <a:pt x="1977" y="1645"/>
                        </a:lnTo>
                        <a:lnTo>
                          <a:pt x="2926" y="1651"/>
                        </a:lnTo>
                        <a:lnTo>
                          <a:pt x="4160" y="1657"/>
                        </a:lnTo>
                        <a:lnTo>
                          <a:pt x="4160" y="2000"/>
                        </a:lnTo>
                        <a:lnTo>
                          <a:pt x="1926" y="2000"/>
                        </a:lnTo>
                        <a:lnTo>
                          <a:pt x="1914" y="2422"/>
                        </a:lnTo>
                        <a:lnTo>
                          <a:pt x="1913" y="2928"/>
                        </a:lnTo>
                        <a:lnTo>
                          <a:pt x="1611" y="2925"/>
                        </a:lnTo>
                        <a:lnTo>
                          <a:pt x="1605" y="2005"/>
                        </a:lnTo>
                        <a:lnTo>
                          <a:pt x="0" y="2005"/>
                        </a:lnTo>
                        <a:lnTo>
                          <a:pt x="0" y="1645"/>
                        </a:lnTo>
                        <a:close/>
                      </a:path>
                    </a:pathLst>
                  </a:custGeom>
                  <a:solidFill>
                    <a:srgbClr val="ffff66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2843" name=""/>
                <p:cNvSpPr/>
                <p:nvPr/>
              </p:nvSpPr>
              <p:spPr>
                <a:xfrm>
                  <a:off x="250560" y="4778640"/>
                  <a:ext cx="0" cy="18615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44" name=""/>
                <p:cNvSpPr/>
                <p:nvPr/>
              </p:nvSpPr>
              <p:spPr>
                <a:xfrm>
                  <a:off x="247320" y="6633720"/>
                  <a:ext cx="22575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845" name=""/>
              <p:cNvSpPr/>
              <p:nvPr/>
            </p:nvSpPr>
            <p:spPr>
              <a:xfrm>
                <a:off x="0" y="4673520"/>
                <a:ext cx="851040" cy="38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1800" spc="-1" strike="noStrike">
                    <a:solidFill>
                      <a:srgbClr val="000000"/>
                    </a:solidFill>
                    <a:latin typeface="Times New Roman"/>
                  </a:rPr>
                  <a:t>P</a:t>
                </a:r>
                <a:r>
                  <a:rPr b="1" lang="cs-CZ" sz="1400" spc="-1" strike="noStrike">
                    <a:solidFill>
                      <a:srgbClr val="000000"/>
                    </a:solidFill>
                    <a:latin typeface="Times New Roman"/>
                  </a:rPr>
                  <a:t>CO</a:t>
                </a:r>
                <a:r>
                  <a:rPr b="1" lang="cs-CZ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46" name=""/>
              <p:cNvSpPr/>
              <p:nvPr/>
            </p:nvSpPr>
            <p:spPr>
              <a:xfrm>
                <a:off x="2139840" y="6335640"/>
                <a:ext cx="433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1400" spc="-1" strike="noStrike">
                    <a:solidFill>
                      <a:srgbClr val="000000"/>
                    </a:solidFill>
                    <a:latin typeface="Times New Roman"/>
                  </a:rPr>
                  <a:t>B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847" name=""/>
            <p:cNvSpPr/>
            <p:nvPr/>
          </p:nvSpPr>
          <p:spPr>
            <a:xfrm>
              <a:off x="1216080" y="5923080"/>
              <a:ext cx="0" cy="534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48" name=""/>
          <p:cNvGrpSpPr/>
          <p:nvPr/>
        </p:nvGrpSpPr>
        <p:grpSpPr>
          <a:xfrm>
            <a:off x="0" y="4680"/>
            <a:ext cx="9161640" cy="6858000"/>
            <a:chOff x="0" y="4680"/>
            <a:chExt cx="9161640" cy="6858000"/>
          </a:xfrm>
        </p:grpSpPr>
        <p:graphicFrame>
          <p:nvGraphicFramePr>
            <p:cNvPr id="12849" name=""/>
            <p:cNvGraphicFramePr/>
            <p:nvPr/>
          </p:nvGraphicFramePr>
          <p:xfrm>
            <a:off x="6218280" y="393840"/>
            <a:ext cx="879480" cy="10411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285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218280" y="393840"/>
                      <a:ext cx="879480" cy="1041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2851" name=""/>
            <p:cNvGrpSpPr/>
            <p:nvPr/>
          </p:nvGrpSpPr>
          <p:grpSpPr>
            <a:xfrm>
              <a:off x="5367240" y="2416320"/>
              <a:ext cx="560520" cy="916920"/>
              <a:chOff x="5367240" y="2416320"/>
              <a:chExt cx="560520" cy="916920"/>
            </a:xfrm>
          </p:grpSpPr>
          <p:sp>
            <p:nvSpPr>
              <p:cNvPr id="12852" name=""/>
              <p:cNvSpPr/>
              <p:nvPr/>
            </p:nvSpPr>
            <p:spPr>
              <a:xfrm>
                <a:off x="5371920" y="2485800"/>
                <a:ext cx="551160" cy="630000"/>
              </a:xfrm>
              <a:custGeom>
                <a:avLst/>
                <a:gdLst/>
                <a:ahLst/>
                <a:rect l="l" t="t" r="r" b="b"/>
                <a:pathLst>
                  <a:path w="2256" h="2295">
                    <a:moveTo>
                      <a:pt x="0" y="0"/>
                    </a:moveTo>
                    <a:lnTo>
                      <a:pt x="939" y="1180"/>
                    </a:lnTo>
                    <a:lnTo>
                      <a:pt x="980" y="2175"/>
                    </a:lnTo>
                    <a:lnTo>
                      <a:pt x="983" y="2202"/>
                    </a:lnTo>
                    <a:lnTo>
                      <a:pt x="991" y="2221"/>
                    </a:lnTo>
                    <a:lnTo>
                      <a:pt x="1000" y="2235"/>
                    </a:lnTo>
                    <a:lnTo>
                      <a:pt x="1010" y="2246"/>
                    </a:lnTo>
                    <a:lnTo>
                      <a:pt x="1024" y="2260"/>
                    </a:lnTo>
                    <a:lnTo>
                      <a:pt x="1038" y="2268"/>
                    </a:lnTo>
                    <a:lnTo>
                      <a:pt x="1060" y="2281"/>
                    </a:lnTo>
                    <a:lnTo>
                      <a:pt x="1083" y="2287"/>
                    </a:lnTo>
                    <a:lnTo>
                      <a:pt x="1111" y="2293"/>
                    </a:lnTo>
                    <a:lnTo>
                      <a:pt x="1128" y="2295"/>
                    </a:lnTo>
                    <a:lnTo>
                      <a:pt x="1145" y="2295"/>
                    </a:lnTo>
                    <a:lnTo>
                      <a:pt x="1163" y="2292"/>
                    </a:lnTo>
                    <a:lnTo>
                      <a:pt x="1183" y="2286"/>
                    </a:lnTo>
                    <a:lnTo>
                      <a:pt x="1202" y="2279"/>
                    </a:lnTo>
                    <a:lnTo>
                      <a:pt x="1221" y="2268"/>
                    </a:lnTo>
                    <a:lnTo>
                      <a:pt x="1235" y="2259"/>
                    </a:lnTo>
                    <a:lnTo>
                      <a:pt x="1251" y="2243"/>
                    </a:lnTo>
                    <a:lnTo>
                      <a:pt x="1262" y="2227"/>
                    </a:lnTo>
                    <a:lnTo>
                      <a:pt x="1273" y="2203"/>
                    </a:lnTo>
                    <a:lnTo>
                      <a:pt x="1276" y="2181"/>
                    </a:lnTo>
                    <a:lnTo>
                      <a:pt x="1336" y="1161"/>
                    </a:lnTo>
                    <a:lnTo>
                      <a:pt x="225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53" name=""/>
              <p:cNvSpPr/>
              <p:nvPr/>
            </p:nvSpPr>
            <p:spPr>
              <a:xfrm>
                <a:off x="5367240" y="2416320"/>
                <a:ext cx="560520" cy="118800"/>
              </a:xfrm>
              <a:prstGeom prst="ellipse">
                <a:avLst/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54" name=""/>
              <p:cNvSpPr/>
              <p:nvPr/>
            </p:nvSpPr>
            <p:spPr>
              <a:xfrm>
                <a:off x="5411880" y="2503440"/>
                <a:ext cx="476280" cy="593280"/>
              </a:xfrm>
              <a:custGeom>
                <a:avLst/>
                <a:gdLst/>
                <a:ahLst/>
                <a:rect l="l" t="t" r="r" b="b"/>
                <a:pathLst>
                  <a:path w="1956" h="2159">
                    <a:moveTo>
                      <a:pt x="0" y="19"/>
                    </a:moveTo>
                    <a:lnTo>
                      <a:pt x="857" y="1063"/>
                    </a:lnTo>
                    <a:lnTo>
                      <a:pt x="879" y="2090"/>
                    </a:lnTo>
                    <a:lnTo>
                      <a:pt x="887" y="2107"/>
                    </a:lnTo>
                    <a:lnTo>
                      <a:pt x="897" y="2123"/>
                    </a:lnTo>
                    <a:lnTo>
                      <a:pt x="906" y="2137"/>
                    </a:lnTo>
                    <a:lnTo>
                      <a:pt x="922" y="2147"/>
                    </a:lnTo>
                    <a:lnTo>
                      <a:pt x="939" y="2156"/>
                    </a:lnTo>
                    <a:lnTo>
                      <a:pt x="962" y="2159"/>
                    </a:lnTo>
                    <a:lnTo>
                      <a:pt x="983" y="2157"/>
                    </a:lnTo>
                    <a:lnTo>
                      <a:pt x="1005" y="2153"/>
                    </a:lnTo>
                    <a:lnTo>
                      <a:pt x="1026" y="2140"/>
                    </a:lnTo>
                    <a:lnTo>
                      <a:pt x="1040" y="2123"/>
                    </a:lnTo>
                    <a:lnTo>
                      <a:pt x="1048" y="2109"/>
                    </a:lnTo>
                    <a:lnTo>
                      <a:pt x="1056" y="2088"/>
                    </a:lnTo>
                    <a:lnTo>
                      <a:pt x="1100" y="1045"/>
                    </a:lnTo>
                    <a:lnTo>
                      <a:pt x="1956" y="0"/>
                    </a:lnTo>
                    <a:lnTo>
                      <a:pt x="1790" y="41"/>
                    </a:lnTo>
                    <a:lnTo>
                      <a:pt x="1531" y="77"/>
                    </a:lnTo>
                    <a:lnTo>
                      <a:pt x="1247" y="98"/>
                    </a:lnTo>
                    <a:lnTo>
                      <a:pt x="962" y="109"/>
                    </a:lnTo>
                    <a:lnTo>
                      <a:pt x="662" y="98"/>
                    </a:lnTo>
                    <a:lnTo>
                      <a:pt x="398" y="77"/>
                    </a:lnTo>
                    <a:lnTo>
                      <a:pt x="178" y="52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55" name=""/>
              <p:cNvSpPr/>
              <p:nvPr/>
            </p:nvSpPr>
            <p:spPr>
              <a:xfrm>
                <a:off x="5492520" y="2624040"/>
                <a:ext cx="308160" cy="474480"/>
              </a:xfrm>
              <a:custGeom>
                <a:avLst/>
                <a:gdLst/>
                <a:ahLst/>
                <a:rect l="l" t="t" r="r" b="b"/>
                <a:pathLst>
                  <a:path w="1264" h="1728">
                    <a:moveTo>
                      <a:pt x="0" y="0"/>
                    </a:moveTo>
                    <a:lnTo>
                      <a:pt x="520" y="624"/>
                    </a:lnTo>
                    <a:lnTo>
                      <a:pt x="531" y="1657"/>
                    </a:lnTo>
                    <a:lnTo>
                      <a:pt x="541" y="1674"/>
                    </a:lnTo>
                    <a:lnTo>
                      <a:pt x="553" y="1688"/>
                    </a:lnTo>
                    <a:lnTo>
                      <a:pt x="564" y="1701"/>
                    </a:lnTo>
                    <a:lnTo>
                      <a:pt x="580" y="1715"/>
                    </a:lnTo>
                    <a:lnTo>
                      <a:pt x="608" y="1723"/>
                    </a:lnTo>
                    <a:lnTo>
                      <a:pt x="632" y="1728"/>
                    </a:lnTo>
                    <a:lnTo>
                      <a:pt x="651" y="1725"/>
                    </a:lnTo>
                    <a:lnTo>
                      <a:pt x="673" y="1720"/>
                    </a:lnTo>
                    <a:lnTo>
                      <a:pt x="694" y="1709"/>
                    </a:lnTo>
                    <a:lnTo>
                      <a:pt x="711" y="1692"/>
                    </a:lnTo>
                    <a:lnTo>
                      <a:pt x="723" y="1669"/>
                    </a:lnTo>
                    <a:lnTo>
                      <a:pt x="730" y="1657"/>
                    </a:lnTo>
                    <a:lnTo>
                      <a:pt x="761" y="605"/>
                    </a:lnTo>
                    <a:lnTo>
                      <a:pt x="126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56" name=""/>
              <p:cNvSpPr/>
              <p:nvPr/>
            </p:nvSpPr>
            <p:spPr>
              <a:xfrm>
                <a:off x="5622840" y="3124080"/>
                <a:ext cx="49320" cy="101160"/>
              </a:xfrm>
              <a:custGeom>
                <a:avLst/>
                <a:gdLst/>
                <a:ahLst/>
                <a:rect l="l" t="t" r="r" b="b"/>
                <a:pathLst>
                  <a:path w="196" h="370">
                    <a:moveTo>
                      <a:pt x="95" y="0"/>
                    </a:moveTo>
                    <a:lnTo>
                      <a:pt x="105" y="58"/>
                    </a:lnTo>
                    <a:lnTo>
                      <a:pt x="111" y="87"/>
                    </a:lnTo>
                    <a:lnTo>
                      <a:pt x="121" y="121"/>
                    </a:lnTo>
                    <a:lnTo>
                      <a:pt x="132" y="141"/>
                    </a:lnTo>
                    <a:lnTo>
                      <a:pt x="147" y="166"/>
                    </a:lnTo>
                    <a:lnTo>
                      <a:pt x="167" y="193"/>
                    </a:lnTo>
                    <a:lnTo>
                      <a:pt x="184" y="220"/>
                    </a:lnTo>
                    <a:lnTo>
                      <a:pt x="192" y="245"/>
                    </a:lnTo>
                    <a:lnTo>
                      <a:pt x="196" y="278"/>
                    </a:lnTo>
                    <a:lnTo>
                      <a:pt x="189" y="307"/>
                    </a:lnTo>
                    <a:lnTo>
                      <a:pt x="178" y="328"/>
                    </a:lnTo>
                    <a:lnTo>
                      <a:pt x="162" y="345"/>
                    </a:lnTo>
                    <a:lnTo>
                      <a:pt x="141" y="361"/>
                    </a:lnTo>
                    <a:lnTo>
                      <a:pt x="121" y="367"/>
                    </a:lnTo>
                    <a:lnTo>
                      <a:pt x="99" y="370"/>
                    </a:lnTo>
                    <a:lnTo>
                      <a:pt x="76" y="367"/>
                    </a:lnTo>
                    <a:lnTo>
                      <a:pt x="54" y="362"/>
                    </a:lnTo>
                    <a:lnTo>
                      <a:pt x="34" y="350"/>
                    </a:lnTo>
                    <a:lnTo>
                      <a:pt x="19" y="334"/>
                    </a:lnTo>
                    <a:lnTo>
                      <a:pt x="8" y="315"/>
                    </a:lnTo>
                    <a:lnTo>
                      <a:pt x="3" y="296"/>
                    </a:lnTo>
                    <a:lnTo>
                      <a:pt x="0" y="272"/>
                    </a:lnTo>
                    <a:lnTo>
                      <a:pt x="5" y="240"/>
                    </a:lnTo>
                    <a:lnTo>
                      <a:pt x="13" y="218"/>
                    </a:lnTo>
                    <a:lnTo>
                      <a:pt x="30" y="190"/>
                    </a:lnTo>
                    <a:lnTo>
                      <a:pt x="49" y="166"/>
                    </a:lnTo>
                    <a:lnTo>
                      <a:pt x="62" y="140"/>
                    </a:lnTo>
                    <a:lnTo>
                      <a:pt x="72" y="119"/>
                    </a:lnTo>
                    <a:lnTo>
                      <a:pt x="81" y="90"/>
                    </a:lnTo>
                    <a:lnTo>
                      <a:pt x="86" y="58"/>
                    </a:lnTo>
                    <a:lnTo>
                      <a:pt x="95" y="0"/>
                    </a:lnTo>
                    <a:close/>
                  </a:path>
                </a:pathLst>
              </a:cu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57" name=""/>
              <p:cNvSpPr/>
              <p:nvPr/>
            </p:nvSpPr>
            <p:spPr>
              <a:xfrm>
                <a:off x="5396040" y="2427120"/>
                <a:ext cx="502920" cy="96480"/>
              </a:xfrm>
              <a:prstGeom prst="ellips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58" name=""/>
              <p:cNvSpPr/>
              <p:nvPr/>
            </p:nvSpPr>
            <p:spPr>
              <a:xfrm>
                <a:off x="5622840" y="3232080"/>
                <a:ext cx="49320" cy="101160"/>
              </a:xfrm>
              <a:custGeom>
                <a:avLst/>
                <a:gdLst/>
                <a:ahLst/>
                <a:rect l="l" t="t" r="r" b="b"/>
                <a:pathLst>
                  <a:path w="196" h="372">
                    <a:moveTo>
                      <a:pt x="95" y="0"/>
                    </a:moveTo>
                    <a:lnTo>
                      <a:pt x="105" y="60"/>
                    </a:lnTo>
                    <a:lnTo>
                      <a:pt x="111" y="88"/>
                    </a:lnTo>
                    <a:lnTo>
                      <a:pt x="121" y="122"/>
                    </a:lnTo>
                    <a:lnTo>
                      <a:pt x="132" y="143"/>
                    </a:lnTo>
                    <a:lnTo>
                      <a:pt x="147" y="168"/>
                    </a:lnTo>
                    <a:lnTo>
                      <a:pt x="167" y="195"/>
                    </a:lnTo>
                    <a:lnTo>
                      <a:pt x="184" y="221"/>
                    </a:lnTo>
                    <a:lnTo>
                      <a:pt x="192" y="247"/>
                    </a:lnTo>
                    <a:lnTo>
                      <a:pt x="196" y="279"/>
                    </a:lnTo>
                    <a:lnTo>
                      <a:pt x="189" y="308"/>
                    </a:lnTo>
                    <a:lnTo>
                      <a:pt x="178" y="328"/>
                    </a:lnTo>
                    <a:lnTo>
                      <a:pt x="162" y="345"/>
                    </a:lnTo>
                    <a:lnTo>
                      <a:pt x="141" y="361"/>
                    </a:lnTo>
                    <a:lnTo>
                      <a:pt x="121" y="369"/>
                    </a:lnTo>
                    <a:lnTo>
                      <a:pt x="99" y="372"/>
                    </a:lnTo>
                    <a:lnTo>
                      <a:pt x="76" y="369"/>
                    </a:lnTo>
                    <a:lnTo>
                      <a:pt x="54" y="363"/>
                    </a:lnTo>
                    <a:lnTo>
                      <a:pt x="34" y="351"/>
                    </a:lnTo>
                    <a:lnTo>
                      <a:pt x="19" y="336"/>
                    </a:lnTo>
                    <a:lnTo>
                      <a:pt x="8" y="317"/>
                    </a:lnTo>
                    <a:lnTo>
                      <a:pt x="3" y="298"/>
                    </a:lnTo>
                    <a:lnTo>
                      <a:pt x="0" y="272"/>
                    </a:lnTo>
                    <a:lnTo>
                      <a:pt x="5" y="242"/>
                    </a:lnTo>
                    <a:lnTo>
                      <a:pt x="13" y="219"/>
                    </a:lnTo>
                    <a:lnTo>
                      <a:pt x="30" y="191"/>
                    </a:lnTo>
                    <a:lnTo>
                      <a:pt x="49" y="168"/>
                    </a:lnTo>
                    <a:lnTo>
                      <a:pt x="62" y="141"/>
                    </a:lnTo>
                    <a:lnTo>
                      <a:pt x="72" y="120"/>
                    </a:lnTo>
                    <a:lnTo>
                      <a:pt x="81" y="90"/>
                    </a:lnTo>
                    <a:lnTo>
                      <a:pt x="86" y="60"/>
                    </a:lnTo>
                    <a:lnTo>
                      <a:pt x="95" y="0"/>
                    </a:lnTo>
                    <a:close/>
                  </a:path>
                </a:pathLst>
              </a:cu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59" name=""/>
              <p:cNvSpPr/>
              <p:nvPr/>
            </p:nvSpPr>
            <p:spPr>
              <a:xfrm>
                <a:off x="5489640" y="2585880"/>
                <a:ext cx="315720" cy="61560"/>
              </a:xfrm>
              <a:prstGeom prst="ellipse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60" name=""/>
              <p:cNvSpPr/>
              <p:nvPr/>
            </p:nvSpPr>
            <p:spPr>
              <a:xfrm>
                <a:off x="5626080" y="3058920"/>
                <a:ext cx="41400" cy="47520"/>
              </a:xfrm>
              <a:prstGeom prst="ellipse">
                <a:avLst/>
              </a:prstGeom>
              <a:solidFill>
                <a:srgbClr val="009999"/>
              </a:solidFill>
              <a:ln w="1764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861" name=""/>
            <p:cNvSpPr/>
            <p:nvPr/>
          </p:nvSpPr>
          <p:spPr>
            <a:xfrm>
              <a:off x="5410080" y="1442880"/>
              <a:ext cx="1114560" cy="586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2" name=""/>
            <p:cNvSpPr/>
            <p:nvPr/>
          </p:nvSpPr>
          <p:spPr>
            <a:xfrm>
              <a:off x="5400720" y="3406680"/>
              <a:ext cx="587160" cy="658800"/>
            </a:xfrm>
            <a:prstGeom prst="rect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3" name=""/>
            <p:cNvSpPr/>
            <p:nvPr/>
          </p:nvSpPr>
          <p:spPr>
            <a:xfrm>
              <a:off x="5407200" y="3502080"/>
              <a:ext cx="579240" cy="60480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4" name=""/>
            <p:cNvSpPr/>
            <p:nvPr/>
          </p:nvSpPr>
          <p:spPr>
            <a:xfrm>
              <a:off x="7724880" y="4240080"/>
              <a:ext cx="1104840" cy="746280"/>
            </a:xfrm>
            <a:prstGeom prst="rect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5" name=""/>
            <p:cNvSpPr/>
            <p:nvPr/>
          </p:nvSpPr>
          <p:spPr>
            <a:xfrm>
              <a:off x="7723080" y="4541760"/>
              <a:ext cx="1111320" cy="56376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6" name=""/>
            <p:cNvSpPr/>
            <p:nvPr/>
          </p:nvSpPr>
          <p:spPr>
            <a:xfrm>
              <a:off x="5389560" y="5079960"/>
              <a:ext cx="1111320" cy="1009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7" name=""/>
            <p:cNvSpPr/>
            <p:nvPr/>
          </p:nvSpPr>
          <p:spPr>
            <a:xfrm>
              <a:off x="5388120" y="5380200"/>
              <a:ext cx="1110960" cy="71748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8" name=""/>
            <p:cNvSpPr/>
            <p:nvPr/>
          </p:nvSpPr>
          <p:spPr>
            <a:xfrm>
              <a:off x="5413320" y="1647720"/>
              <a:ext cx="1111320" cy="45396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9" name=""/>
            <p:cNvSpPr/>
            <p:nvPr/>
          </p:nvSpPr>
          <p:spPr>
            <a:xfrm>
              <a:off x="2984400" y="2606760"/>
              <a:ext cx="1144800" cy="53028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0" name=""/>
            <p:cNvSpPr/>
            <p:nvPr/>
          </p:nvSpPr>
          <p:spPr>
            <a:xfrm>
              <a:off x="884160" y="1593720"/>
              <a:ext cx="927000" cy="56376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1" name=""/>
            <p:cNvSpPr/>
            <p:nvPr/>
          </p:nvSpPr>
          <p:spPr>
            <a:xfrm>
              <a:off x="5551560" y="3649680"/>
              <a:ext cx="9360" cy="293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2" name=""/>
            <p:cNvSpPr/>
            <p:nvPr/>
          </p:nvSpPr>
          <p:spPr>
            <a:xfrm>
              <a:off x="1021320" y="1616040"/>
              <a:ext cx="736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Arial"/>
                </a:rPr>
                <a:t>CO</a:t>
              </a:r>
              <a:r>
                <a:rPr b="1" lang="cs-CZ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3" name=""/>
            <p:cNvSpPr/>
            <p:nvPr/>
          </p:nvSpPr>
          <p:spPr>
            <a:xfrm>
              <a:off x="1029240" y="3576600"/>
              <a:ext cx="736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cs-CZ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cs-CZ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4" name=""/>
            <p:cNvSpPr/>
            <p:nvPr/>
          </p:nvSpPr>
          <p:spPr>
            <a:xfrm>
              <a:off x="2992320" y="2606760"/>
              <a:ext cx="1055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cs-CZ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cs-CZ" sz="2400" spc="-1" strike="noStrike">
                  <a:solidFill>
                    <a:srgbClr val="000000"/>
                  </a:solidFill>
                  <a:latin typeface="Arial"/>
                </a:rPr>
                <a:t>CO</a:t>
              </a:r>
              <a:r>
                <a:rPr b="1" lang="cs-CZ" sz="2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5" name=""/>
            <p:cNvSpPr/>
            <p:nvPr/>
          </p:nvSpPr>
          <p:spPr>
            <a:xfrm>
              <a:off x="5581080" y="1639800"/>
              <a:ext cx="956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Arial"/>
                </a:rPr>
                <a:t>HCO</a:t>
              </a:r>
              <a:r>
                <a:rPr b="1" lang="cs-CZ" sz="2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6" name=""/>
            <p:cNvSpPr/>
            <p:nvPr/>
          </p:nvSpPr>
          <p:spPr>
            <a:xfrm>
              <a:off x="5565600" y="3584520"/>
              <a:ext cx="52416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cs-CZ" sz="2400" spc="-1" strike="noStrike" baseline="7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7" name=""/>
            <p:cNvSpPr/>
            <p:nvPr/>
          </p:nvSpPr>
          <p:spPr>
            <a:xfrm>
              <a:off x="4240080" y="1779480"/>
              <a:ext cx="1155960" cy="1024200"/>
            </a:xfrm>
            <a:custGeom>
              <a:avLst/>
              <a:gdLst/>
              <a:ahLst/>
              <a:rect l="l" t="t" r="r" b="b"/>
              <a:pathLst>
                <a:path w="728" h="645">
                  <a:moveTo>
                    <a:pt x="0" y="642"/>
                  </a:moveTo>
                  <a:lnTo>
                    <a:pt x="351" y="645"/>
                  </a:lnTo>
                  <a:cubicBezTo>
                    <a:pt x="420" y="628"/>
                    <a:pt x="405" y="630"/>
                    <a:pt x="416" y="538"/>
                  </a:cubicBezTo>
                  <a:lnTo>
                    <a:pt x="416" y="91"/>
                  </a:lnTo>
                  <a:cubicBezTo>
                    <a:pt x="429" y="1"/>
                    <a:pt x="445" y="15"/>
                    <a:pt x="497" y="0"/>
                  </a:cubicBezTo>
                  <a:lnTo>
                    <a:pt x="728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8" name=""/>
            <p:cNvSpPr/>
            <p:nvPr/>
          </p:nvSpPr>
          <p:spPr>
            <a:xfrm>
              <a:off x="4146480" y="2795760"/>
              <a:ext cx="1249560" cy="1023840"/>
            </a:xfrm>
            <a:custGeom>
              <a:avLst/>
              <a:gdLst/>
              <a:ahLst/>
              <a:rect l="l" t="t" r="r" b="b"/>
              <a:pathLst>
                <a:path w="787" h="645">
                  <a:moveTo>
                    <a:pt x="0" y="2"/>
                  </a:moveTo>
                  <a:lnTo>
                    <a:pt x="410" y="0"/>
                  </a:lnTo>
                  <a:cubicBezTo>
                    <a:pt x="489" y="17"/>
                    <a:pt x="464" y="15"/>
                    <a:pt x="475" y="107"/>
                  </a:cubicBezTo>
                  <a:lnTo>
                    <a:pt x="475" y="554"/>
                  </a:lnTo>
                  <a:cubicBezTo>
                    <a:pt x="488" y="644"/>
                    <a:pt x="504" y="630"/>
                    <a:pt x="556" y="645"/>
                  </a:cubicBezTo>
                  <a:lnTo>
                    <a:pt x="787" y="645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879" name=""/>
            <p:cNvGrpSpPr/>
            <p:nvPr/>
          </p:nvGrpSpPr>
          <p:grpSpPr>
            <a:xfrm>
              <a:off x="1836720" y="1778040"/>
              <a:ext cx="1130400" cy="2038320"/>
              <a:chOff x="1836720" y="1778040"/>
              <a:chExt cx="1130400" cy="2038320"/>
            </a:xfrm>
          </p:grpSpPr>
          <p:sp>
            <p:nvSpPr>
              <p:cNvPr id="12880" name=""/>
              <p:cNvSpPr/>
              <p:nvPr/>
            </p:nvSpPr>
            <p:spPr>
              <a:xfrm flipH="1">
                <a:off x="1836720" y="1778040"/>
                <a:ext cx="1130400" cy="1023840"/>
              </a:xfrm>
              <a:custGeom>
                <a:avLst/>
                <a:gdLst/>
                <a:ahLst/>
                <a:rect l="l" t="t" r="r" b="b"/>
                <a:pathLst>
                  <a:path w="866" h="645">
                    <a:moveTo>
                      <a:pt x="0" y="645"/>
                    </a:moveTo>
                    <a:lnTo>
                      <a:pt x="442" y="645"/>
                    </a:lnTo>
                    <a:cubicBezTo>
                      <a:pt x="528" y="627"/>
                      <a:pt x="503" y="630"/>
                      <a:pt x="515" y="538"/>
                    </a:cubicBezTo>
                    <a:lnTo>
                      <a:pt x="515" y="91"/>
                    </a:lnTo>
                    <a:cubicBezTo>
                      <a:pt x="530" y="1"/>
                      <a:pt x="548" y="15"/>
                      <a:pt x="606" y="0"/>
                    </a:cubicBezTo>
                    <a:lnTo>
                      <a:pt x="866" y="0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81" name=""/>
              <p:cNvSpPr/>
              <p:nvPr/>
            </p:nvSpPr>
            <p:spPr>
              <a:xfrm flipH="1" flipV="1">
                <a:off x="1836720" y="2792520"/>
                <a:ext cx="1130400" cy="1023840"/>
              </a:xfrm>
              <a:custGeom>
                <a:avLst/>
                <a:gdLst/>
                <a:ahLst/>
                <a:rect l="l" t="t" r="r" b="b"/>
                <a:pathLst>
                  <a:path w="866" h="645">
                    <a:moveTo>
                      <a:pt x="0" y="645"/>
                    </a:moveTo>
                    <a:lnTo>
                      <a:pt x="442" y="645"/>
                    </a:lnTo>
                    <a:cubicBezTo>
                      <a:pt x="528" y="627"/>
                      <a:pt x="503" y="630"/>
                      <a:pt x="515" y="538"/>
                    </a:cubicBezTo>
                    <a:lnTo>
                      <a:pt x="515" y="91"/>
                    </a:lnTo>
                    <a:cubicBezTo>
                      <a:pt x="530" y="1"/>
                      <a:pt x="548" y="15"/>
                      <a:pt x="606" y="0"/>
                    </a:cubicBezTo>
                    <a:lnTo>
                      <a:pt x="866" y="0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aphicFrame>
          <p:nvGraphicFramePr>
            <p:cNvPr id="12882" name=""/>
            <p:cNvGraphicFramePr/>
            <p:nvPr/>
          </p:nvGraphicFramePr>
          <p:xfrm>
            <a:off x="351000" y="376200"/>
            <a:ext cx="1039680" cy="7732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288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51000" y="376200"/>
                      <a:ext cx="1039680" cy="773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884" name=""/>
            <p:cNvSpPr/>
            <p:nvPr/>
          </p:nvSpPr>
          <p:spPr>
            <a:xfrm flipH="1">
              <a:off x="167400" y="1484280"/>
              <a:ext cx="72396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5" name=""/>
            <p:cNvSpPr/>
            <p:nvPr/>
          </p:nvSpPr>
          <p:spPr>
            <a:xfrm>
              <a:off x="1438920" y="576360"/>
              <a:ext cx="184680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400" spc="-1" strike="noStrike">
                  <a:solidFill>
                    <a:srgbClr val="000000"/>
                  </a:solidFill>
                  <a:latin typeface="Times New Roman"/>
                </a:rPr>
                <a:t>1.</a:t>
              </a:r>
              <a:r>
                <a:rPr b="1" lang="cs-CZ" sz="1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 Primární porucha: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400" spc="-1" strike="noStrike">
                  <a:solidFill>
                    <a:srgbClr val="000000"/>
                  </a:solidFill>
                  <a:latin typeface="Times New Roman"/>
                </a:rPr>
                <a:t>deplece CO</a:t>
              </a:r>
              <a:r>
                <a:rPr b="1" lang="cs-CZ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6" name=""/>
            <p:cNvSpPr/>
            <p:nvPr/>
          </p:nvSpPr>
          <p:spPr>
            <a:xfrm>
              <a:off x="2976480" y="3867120"/>
              <a:ext cx="2402640" cy="52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400" spc="-1" strike="noStrike">
                  <a:solidFill>
                    <a:srgbClr val="000000"/>
                  </a:solidFill>
                  <a:latin typeface="Times New Roman"/>
                </a:rPr>
                <a:t>4. </a:t>
              </a:r>
              <a:r>
                <a:rPr b="1" lang="cs-CZ" sz="1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Patofyziologický důsledek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1400" spc="-1" strike="noStrike">
                  <a:solidFill>
                    <a:srgbClr val="000000"/>
                  </a:solidFill>
                  <a:latin typeface="Times New Roman"/>
                </a:rPr>
                <a:t>Snížená hladina H</a:t>
              </a:r>
              <a:r>
                <a:rPr b="0" lang="cs-CZ" sz="1400" spc="-1" strike="noStrike" baseline="46000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lang="cs-CZ" sz="1400" spc="-1" strike="noStrike">
                  <a:solidFill>
                    <a:srgbClr val="000000"/>
                  </a:solidFill>
                  <a:latin typeface="Times New Roman"/>
                </a:rPr>
                <a:t> se zvýší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7" name=""/>
            <p:cNvSpPr/>
            <p:nvPr/>
          </p:nvSpPr>
          <p:spPr>
            <a:xfrm>
              <a:off x="5527800" y="1722600"/>
              <a:ext cx="9360" cy="293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8" name=""/>
            <p:cNvSpPr/>
            <p:nvPr/>
          </p:nvSpPr>
          <p:spPr>
            <a:xfrm>
              <a:off x="5240160" y="3392640"/>
              <a:ext cx="1800" cy="352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9" name=""/>
            <p:cNvSpPr/>
            <p:nvPr/>
          </p:nvSpPr>
          <p:spPr>
            <a:xfrm>
              <a:off x="5581080" y="5592600"/>
              <a:ext cx="83304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Arial"/>
                </a:rPr>
                <a:t>Buf </a:t>
              </a:r>
              <a:r>
                <a:rPr b="1" lang="cs-CZ" sz="2400" spc="-1" strike="noStrike" baseline="70000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0" name=""/>
            <p:cNvSpPr/>
            <p:nvPr/>
          </p:nvSpPr>
          <p:spPr>
            <a:xfrm>
              <a:off x="7855920" y="4541760"/>
              <a:ext cx="90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Arial"/>
                </a:rPr>
                <a:t>HBu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1" name=""/>
            <p:cNvSpPr/>
            <p:nvPr/>
          </p:nvSpPr>
          <p:spPr>
            <a:xfrm>
              <a:off x="5975280" y="3782880"/>
              <a:ext cx="1735200" cy="1024200"/>
            </a:xfrm>
            <a:custGeom>
              <a:avLst/>
              <a:gdLst/>
              <a:ahLst/>
              <a:rect l="l" t="t" r="r" b="b"/>
              <a:pathLst>
                <a:path w="1093" h="645">
                  <a:moveTo>
                    <a:pt x="1093" y="645"/>
                  </a:moveTo>
                  <a:lnTo>
                    <a:pt x="700" y="645"/>
                  </a:lnTo>
                  <a:cubicBezTo>
                    <a:pt x="624" y="627"/>
                    <a:pt x="646" y="630"/>
                    <a:pt x="635" y="538"/>
                  </a:cubicBezTo>
                  <a:lnTo>
                    <a:pt x="635" y="91"/>
                  </a:lnTo>
                  <a:cubicBezTo>
                    <a:pt x="622" y="1"/>
                    <a:pt x="660" y="15"/>
                    <a:pt x="554" y="0"/>
                  </a:cubicBezTo>
                  <a:lnTo>
                    <a:pt x="0" y="1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2" name=""/>
            <p:cNvSpPr/>
            <p:nvPr/>
          </p:nvSpPr>
          <p:spPr>
            <a:xfrm flipH="1" flipV="1">
              <a:off x="6487560" y="4797360"/>
              <a:ext cx="1222200" cy="1023840"/>
            </a:xfrm>
            <a:custGeom>
              <a:avLst/>
              <a:gdLst/>
              <a:ahLst/>
              <a:rect l="l" t="t" r="r" b="b"/>
              <a:pathLst>
                <a:path w="866" h="645">
                  <a:moveTo>
                    <a:pt x="0" y="645"/>
                  </a:moveTo>
                  <a:lnTo>
                    <a:pt x="442" y="645"/>
                  </a:lnTo>
                  <a:cubicBezTo>
                    <a:pt x="528" y="627"/>
                    <a:pt x="503" y="630"/>
                    <a:pt x="515" y="538"/>
                  </a:cubicBezTo>
                  <a:lnTo>
                    <a:pt x="515" y="91"/>
                  </a:lnTo>
                  <a:cubicBezTo>
                    <a:pt x="530" y="1"/>
                    <a:pt x="548" y="15"/>
                    <a:pt x="606" y="0"/>
                  </a:cubicBezTo>
                  <a:lnTo>
                    <a:pt x="866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3" name=""/>
            <p:cNvSpPr/>
            <p:nvPr/>
          </p:nvSpPr>
          <p:spPr>
            <a:xfrm>
              <a:off x="6262560" y="144792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4" name=""/>
            <p:cNvSpPr/>
            <p:nvPr/>
          </p:nvSpPr>
          <p:spPr>
            <a:xfrm>
              <a:off x="7835760" y="4665600"/>
              <a:ext cx="9720" cy="293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5" name=""/>
            <p:cNvSpPr/>
            <p:nvPr/>
          </p:nvSpPr>
          <p:spPr>
            <a:xfrm>
              <a:off x="5537160" y="5661000"/>
              <a:ext cx="9720" cy="293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6" name=""/>
            <p:cNvSpPr/>
            <p:nvPr/>
          </p:nvSpPr>
          <p:spPr>
            <a:xfrm>
              <a:off x="3598920" y="765000"/>
              <a:ext cx="2620800" cy="1800"/>
            </a:xfrm>
            <a:custGeom>
              <a:avLst/>
              <a:gdLst/>
              <a:ahLst/>
              <a:rect l="l" t="t" r="r" b="b"/>
              <a:pathLst>
                <a:path w="1651" h="1">
                  <a:moveTo>
                    <a:pt x="0" y="1"/>
                  </a:moveTo>
                  <a:cubicBezTo>
                    <a:pt x="275" y="0"/>
                    <a:pt x="1307" y="1"/>
                    <a:pt x="1651" y="1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7" name=""/>
            <p:cNvSpPr/>
            <p:nvPr/>
          </p:nvSpPr>
          <p:spPr>
            <a:xfrm>
              <a:off x="7299360" y="2806560"/>
              <a:ext cx="636480" cy="244440"/>
            </a:xfrm>
            <a:custGeom>
              <a:avLst/>
              <a:gdLst/>
              <a:ahLst/>
              <a:rect l="l" t="t" r="r" b="b"/>
              <a:pathLst>
                <a:path w="401" h="154">
                  <a:moveTo>
                    <a:pt x="398" y="0"/>
                  </a:moveTo>
                  <a:cubicBezTo>
                    <a:pt x="388" y="20"/>
                    <a:pt x="401" y="96"/>
                    <a:pt x="335" y="122"/>
                  </a:cubicBezTo>
                  <a:cubicBezTo>
                    <a:pt x="269" y="148"/>
                    <a:pt x="70" y="147"/>
                    <a:pt x="0" y="154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8" name=""/>
            <p:cNvSpPr/>
            <p:nvPr/>
          </p:nvSpPr>
          <p:spPr>
            <a:xfrm>
              <a:off x="20520" y="42840"/>
              <a:ext cx="3351240" cy="4408560"/>
            </a:xfrm>
            <a:custGeom>
              <a:avLst/>
              <a:gdLst/>
              <a:ahLst/>
              <a:rect l="l" t="t" r="r" b="b"/>
              <a:pathLst>
                <a:path w="2111" h="2777">
                  <a:moveTo>
                    <a:pt x="2111" y="2251"/>
                  </a:moveTo>
                  <a:cubicBezTo>
                    <a:pt x="2038" y="2255"/>
                    <a:pt x="1799" y="2203"/>
                    <a:pt x="1675" y="2272"/>
                  </a:cubicBezTo>
                  <a:cubicBezTo>
                    <a:pt x="1551" y="2341"/>
                    <a:pt x="1589" y="2613"/>
                    <a:pt x="1367" y="2665"/>
                  </a:cubicBezTo>
                  <a:cubicBezTo>
                    <a:pt x="1145" y="2717"/>
                    <a:pt x="558" y="2777"/>
                    <a:pt x="343" y="2585"/>
                  </a:cubicBezTo>
                  <a:cubicBezTo>
                    <a:pt x="128" y="2393"/>
                    <a:pt x="96" y="1904"/>
                    <a:pt x="77" y="1513"/>
                  </a:cubicBezTo>
                  <a:cubicBezTo>
                    <a:pt x="58" y="1122"/>
                    <a:pt x="0" y="476"/>
                    <a:pt x="231" y="238"/>
                  </a:cubicBezTo>
                  <a:cubicBezTo>
                    <a:pt x="462" y="0"/>
                    <a:pt x="1232" y="66"/>
                    <a:pt x="1463" y="84"/>
                  </a:cubicBezTo>
                  <a:cubicBezTo>
                    <a:pt x="1694" y="102"/>
                    <a:pt x="1606" y="265"/>
                    <a:pt x="1617" y="345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prstDash val="sysDot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9" name=""/>
            <p:cNvSpPr/>
            <p:nvPr/>
          </p:nvSpPr>
          <p:spPr>
            <a:xfrm>
              <a:off x="3695040" y="4680"/>
              <a:ext cx="544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Renální kompenzace respirační alkalóz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900" name=""/>
            <p:cNvGrpSpPr/>
            <p:nvPr/>
          </p:nvGrpSpPr>
          <p:grpSpPr>
            <a:xfrm>
              <a:off x="189000" y="1308240"/>
              <a:ext cx="674280" cy="1344600"/>
              <a:chOff x="189000" y="1308240"/>
              <a:chExt cx="674280" cy="1344600"/>
            </a:xfrm>
          </p:grpSpPr>
          <p:grpSp>
            <p:nvGrpSpPr>
              <p:cNvPr id="12901" name=""/>
              <p:cNvGrpSpPr/>
              <p:nvPr/>
            </p:nvGrpSpPr>
            <p:grpSpPr>
              <a:xfrm>
                <a:off x="690120" y="1549440"/>
                <a:ext cx="173160" cy="492120"/>
                <a:chOff x="690120" y="1549440"/>
                <a:chExt cx="173160" cy="492120"/>
              </a:xfrm>
            </p:grpSpPr>
            <p:grpSp>
              <p:nvGrpSpPr>
                <p:cNvPr id="12902" name=""/>
                <p:cNvGrpSpPr/>
                <p:nvPr/>
              </p:nvGrpSpPr>
              <p:grpSpPr>
                <a:xfrm>
                  <a:off x="690120" y="1549440"/>
                  <a:ext cx="173160" cy="492120"/>
                  <a:chOff x="690120" y="1549440"/>
                  <a:chExt cx="173160" cy="492120"/>
                </a:xfrm>
              </p:grpSpPr>
              <p:sp>
                <p:nvSpPr>
                  <p:cNvPr id="12903" name=""/>
                  <p:cNvSpPr/>
                  <p:nvPr/>
                </p:nvSpPr>
                <p:spPr>
                  <a:xfrm flipH="1">
                    <a:off x="689760" y="1549440"/>
                    <a:ext cx="173160" cy="492120"/>
                  </a:xfrm>
                  <a:prstGeom prst="ellipse">
                    <a:avLst/>
                  </a:prstGeom>
                  <a:solidFill>
                    <a:srgbClr val="3b3b3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04" name=""/>
                  <p:cNvSpPr/>
                  <p:nvPr/>
                </p:nvSpPr>
                <p:spPr>
                  <a:xfrm flipH="1">
                    <a:off x="691920" y="1553760"/>
                    <a:ext cx="169920" cy="482760"/>
                  </a:xfrm>
                  <a:prstGeom prst="ellipse">
                    <a:avLst/>
                  </a:prstGeom>
                  <a:solidFill>
                    <a:srgbClr val="3b3b3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05" name=""/>
                  <p:cNvSpPr/>
                  <p:nvPr/>
                </p:nvSpPr>
                <p:spPr>
                  <a:xfrm flipH="1">
                    <a:off x="693720" y="1558440"/>
                    <a:ext cx="166320" cy="473400"/>
                  </a:xfrm>
                  <a:prstGeom prst="ellipse">
                    <a:avLst/>
                  </a:prstGeom>
                  <a:solidFill>
                    <a:srgbClr val="3c3c3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06" name=""/>
                  <p:cNvSpPr/>
                  <p:nvPr/>
                </p:nvSpPr>
                <p:spPr>
                  <a:xfrm flipH="1">
                    <a:off x="695160" y="1563120"/>
                    <a:ext cx="163440" cy="462600"/>
                  </a:xfrm>
                  <a:prstGeom prst="ellipse">
                    <a:avLst/>
                  </a:prstGeom>
                  <a:solidFill>
                    <a:srgbClr val="3c3c3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07" name=""/>
                  <p:cNvSpPr/>
                  <p:nvPr/>
                </p:nvSpPr>
                <p:spPr>
                  <a:xfrm flipH="1">
                    <a:off x="696960" y="1569240"/>
                    <a:ext cx="159840" cy="452520"/>
                  </a:xfrm>
                  <a:prstGeom prst="ellipse">
                    <a:avLst/>
                  </a:prstGeom>
                  <a:solidFill>
                    <a:srgbClr val="3d3d3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08" name=""/>
                  <p:cNvSpPr/>
                  <p:nvPr/>
                </p:nvSpPr>
                <p:spPr>
                  <a:xfrm flipH="1">
                    <a:off x="698760" y="1573560"/>
                    <a:ext cx="155160" cy="442080"/>
                  </a:xfrm>
                  <a:prstGeom prst="ellipse">
                    <a:avLst/>
                  </a:prstGeom>
                  <a:solidFill>
                    <a:srgbClr val="3e3e3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09" name=""/>
                  <p:cNvSpPr/>
                  <p:nvPr/>
                </p:nvSpPr>
                <p:spPr>
                  <a:xfrm flipH="1">
                    <a:off x="700920" y="1579320"/>
                    <a:ext cx="151560" cy="431640"/>
                  </a:xfrm>
                  <a:prstGeom prst="ellipse">
                    <a:avLst/>
                  </a:prstGeom>
                  <a:solidFill>
                    <a:srgbClr val="3f3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10" name=""/>
                  <p:cNvSpPr/>
                  <p:nvPr/>
                </p:nvSpPr>
                <p:spPr>
                  <a:xfrm flipH="1">
                    <a:off x="702720" y="1584000"/>
                    <a:ext cx="148320" cy="420840"/>
                  </a:xfrm>
                  <a:prstGeom prst="ellipse">
                    <a:avLst/>
                  </a:prstGeom>
                  <a:solidFill>
                    <a:srgbClr val="41414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11" name=""/>
                  <p:cNvSpPr/>
                  <p:nvPr/>
                </p:nvSpPr>
                <p:spPr>
                  <a:xfrm flipH="1">
                    <a:off x="704520" y="1589040"/>
                    <a:ext cx="144720" cy="411480"/>
                  </a:xfrm>
                  <a:prstGeom prst="ellipse">
                    <a:avLst/>
                  </a:prstGeom>
                  <a:solidFill>
                    <a:srgbClr val="42424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12" name=""/>
                  <p:cNvSpPr/>
                  <p:nvPr/>
                </p:nvSpPr>
                <p:spPr>
                  <a:xfrm flipH="1">
                    <a:off x="705600" y="1594800"/>
                    <a:ext cx="141480" cy="401040"/>
                  </a:xfrm>
                  <a:prstGeom prst="ellipse">
                    <a:avLst/>
                  </a:prstGeom>
                  <a:solidFill>
                    <a:srgbClr val="43434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13" name=""/>
                  <p:cNvSpPr/>
                  <p:nvPr/>
                </p:nvSpPr>
                <p:spPr>
                  <a:xfrm flipH="1">
                    <a:off x="708480" y="1599120"/>
                    <a:ext cx="137160" cy="390600"/>
                  </a:xfrm>
                  <a:prstGeom prst="ellipse">
                    <a:avLst/>
                  </a:prstGeom>
                  <a:solidFill>
                    <a:srgbClr val="4545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14" name=""/>
                  <p:cNvSpPr/>
                  <p:nvPr/>
                </p:nvSpPr>
                <p:spPr>
                  <a:xfrm flipH="1">
                    <a:off x="710280" y="1605240"/>
                    <a:ext cx="133200" cy="380160"/>
                  </a:xfrm>
                  <a:prstGeom prst="ellipse">
                    <a:avLst/>
                  </a:prstGeom>
                  <a:solidFill>
                    <a:srgbClr val="46464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15" name=""/>
                  <p:cNvSpPr/>
                  <p:nvPr/>
                </p:nvSpPr>
                <p:spPr>
                  <a:xfrm flipH="1">
                    <a:off x="712080" y="1609920"/>
                    <a:ext cx="129600" cy="369720"/>
                  </a:xfrm>
                  <a:prstGeom prst="ellipse">
                    <a:avLst/>
                  </a:prstGeom>
                  <a:solidFill>
                    <a:srgbClr val="48484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16" name=""/>
                  <p:cNvSpPr/>
                  <p:nvPr/>
                </p:nvSpPr>
                <p:spPr>
                  <a:xfrm flipH="1">
                    <a:off x="713520" y="1614600"/>
                    <a:ext cx="126720" cy="360000"/>
                  </a:xfrm>
                  <a:prstGeom prst="ellipse">
                    <a:avLst/>
                  </a:prstGeom>
                  <a:solidFill>
                    <a:srgbClr val="4a4a4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17" name=""/>
                  <p:cNvSpPr/>
                  <p:nvPr/>
                </p:nvSpPr>
                <p:spPr>
                  <a:xfrm flipH="1">
                    <a:off x="715320" y="1620360"/>
                    <a:ext cx="123120" cy="349920"/>
                  </a:xfrm>
                  <a:prstGeom prst="ellipse">
                    <a:avLst/>
                  </a:prstGeom>
                  <a:solidFill>
                    <a:srgbClr val="4c4c4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18" name=""/>
                  <p:cNvSpPr/>
                  <p:nvPr/>
                </p:nvSpPr>
                <p:spPr>
                  <a:xfrm flipH="1">
                    <a:off x="716400" y="1625040"/>
                    <a:ext cx="119880" cy="339480"/>
                  </a:xfrm>
                  <a:prstGeom prst="ellipse">
                    <a:avLst/>
                  </a:prstGeom>
                  <a:solidFill>
                    <a:srgbClr val="4e4e4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19" name=""/>
                  <p:cNvSpPr/>
                  <p:nvPr/>
                </p:nvSpPr>
                <p:spPr>
                  <a:xfrm flipH="1">
                    <a:off x="719280" y="1630800"/>
                    <a:ext cx="115560" cy="328680"/>
                  </a:xfrm>
                  <a:prstGeom prst="ellipse">
                    <a:avLst/>
                  </a:prstGeom>
                  <a:solidFill>
                    <a:srgbClr val="51515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20" name=""/>
                  <p:cNvSpPr/>
                  <p:nvPr/>
                </p:nvSpPr>
                <p:spPr>
                  <a:xfrm flipH="1">
                    <a:off x="721080" y="1635480"/>
                    <a:ext cx="111600" cy="318240"/>
                  </a:xfrm>
                  <a:prstGeom prst="ellipse">
                    <a:avLst/>
                  </a:prstGeom>
                  <a:solidFill>
                    <a:srgbClr val="53535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21" name=""/>
                  <p:cNvSpPr/>
                  <p:nvPr/>
                </p:nvSpPr>
                <p:spPr>
                  <a:xfrm flipH="1">
                    <a:off x="722880" y="1641240"/>
                    <a:ext cx="108000" cy="307800"/>
                  </a:xfrm>
                  <a:prstGeom prst="ellipse">
                    <a:avLst/>
                  </a:prstGeom>
                  <a:solidFill>
                    <a:srgbClr val="55555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22" name=""/>
                  <p:cNvSpPr/>
                  <p:nvPr/>
                </p:nvSpPr>
                <p:spPr>
                  <a:xfrm flipH="1">
                    <a:off x="723960" y="1645920"/>
                    <a:ext cx="104760" cy="298440"/>
                  </a:xfrm>
                  <a:prstGeom prst="ellipse">
                    <a:avLst/>
                  </a:prstGeom>
                  <a:solidFill>
                    <a:srgbClr val="58585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23" name=""/>
                  <p:cNvSpPr/>
                  <p:nvPr/>
                </p:nvSpPr>
                <p:spPr>
                  <a:xfrm flipH="1">
                    <a:off x="726120" y="1650600"/>
                    <a:ext cx="101520" cy="288000"/>
                  </a:xfrm>
                  <a:prstGeom prst="ellipse">
                    <a:avLst/>
                  </a:prstGeom>
                  <a:solidFill>
                    <a:srgbClr val="5a5a5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24" name=""/>
                  <p:cNvSpPr/>
                  <p:nvPr/>
                </p:nvSpPr>
                <p:spPr>
                  <a:xfrm flipH="1">
                    <a:off x="729000" y="1656360"/>
                    <a:ext cx="97200" cy="277560"/>
                  </a:xfrm>
                  <a:prstGeom prst="ellipse">
                    <a:avLst/>
                  </a:prstGeom>
                  <a:solidFill>
                    <a:srgbClr val="5c5c5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25" name=""/>
                  <p:cNvSpPr/>
                  <p:nvPr/>
                </p:nvSpPr>
                <p:spPr>
                  <a:xfrm flipH="1">
                    <a:off x="730080" y="1661040"/>
                    <a:ext cx="93960" cy="267120"/>
                  </a:xfrm>
                  <a:prstGeom prst="ellipse">
                    <a:avLst/>
                  </a:prstGeom>
                  <a:solidFill>
                    <a:srgbClr val="5f5f5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26" name=""/>
                  <p:cNvSpPr/>
                  <p:nvPr/>
                </p:nvSpPr>
                <p:spPr>
                  <a:xfrm flipH="1">
                    <a:off x="731880" y="1666800"/>
                    <a:ext cx="90000" cy="256320"/>
                  </a:xfrm>
                  <a:prstGeom prst="ellipse">
                    <a:avLst/>
                  </a:prstGeom>
                  <a:solidFill>
                    <a:srgbClr val="61616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27" name=""/>
                  <p:cNvSpPr/>
                  <p:nvPr/>
                </p:nvSpPr>
                <p:spPr>
                  <a:xfrm flipH="1">
                    <a:off x="733680" y="1671840"/>
                    <a:ext cx="86400" cy="246960"/>
                  </a:xfrm>
                  <a:prstGeom prst="ellipse">
                    <a:avLst/>
                  </a:prstGeom>
                  <a:solidFill>
                    <a:srgbClr val="63636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28" name=""/>
                  <p:cNvSpPr/>
                  <p:nvPr/>
                </p:nvSpPr>
                <p:spPr>
                  <a:xfrm flipH="1">
                    <a:off x="735120" y="1676160"/>
                    <a:ext cx="83160" cy="236880"/>
                  </a:xfrm>
                  <a:prstGeom prst="ellipse">
                    <a:avLst/>
                  </a:prstGeom>
                  <a:solidFill>
                    <a:srgbClr val="65656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29" name=""/>
                  <p:cNvSpPr/>
                  <p:nvPr/>
                </p:nvSpPr>
                <p:spPr>
                  <a:xfrm flipH="1">
                    <a:off x="736920" y="1681920"/>
                    <a:ext cx="79920" cy="226080"/>
                  </a:xfrm>
                  <a:prstGeom prst="ellipse">
                    <a:avLst/>
                  </a:prstGeom>
                  <a:solidFill>
                    <a:srgbClr val="68686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30" name=""/>
                  <p:cNvSpPr/>
                  <p:nvPr/>
                </p:nvSpPr>
                <p:spPr>
                  <a:xfrm flipH="1">
                    <a:off x="738720" y="1686960"/>
                    <a:ext cx="76320" cy="215640"/>
                  </a:xfrm>
                  <a:prstGeom prst="ellipse">
                    <a:avLst/>
                  </a:prstGeom>
                  <a:solidFill>
                    <a:srgbClr val="69696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31" name=""/>
                  <p:cNvSpPr/>
                  <p:nvPr/>
                </p:nvSpPr>
                <p:spPr>
                  <a:xfrm flipH="1">
                    <a:off x="739800" y="1692720"/>
                    <a:ext cx="72360" cy="205200"/>
                  </a:xfrm>
                  <a:prstGeom prst="ellipse">
                    <a:avLst/>
                  </a:prstGeom>
                  <a:solidFill>
                    <a:srgbClr val="6c6c6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32" name=""/>
                  <p:cNvSpPr/>
                  <p:nvPr/>
                </p:nvSpPr>
                <p:spPr>
                  <a:xfrm flipH="1">
                    <a:off x="742680" y="1697400"/>
                    <a:ext cx="68040" cy="195840"/>
                  </a:xfrm>
                  <a:prstGeom prst="ellipse">
                    <a:avLst/>
                  </a:prstGeom>
                  <a:solidFill>
                    <a:srgbClr val="6e6e6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33" name=""/>
                  <p:cNvSpPr/>
                  <p:nvPr/>
                </p:nvSpPr>
                <p:spPr>
                  <a:xfrm flipH="1">
                    <a:off x="744480" y="1701720"/>
                    <a:ext cx="64800" cy="185400"/>
                  </a:xfrm>
                  <a:prstGeom prst="ellipse">
                    <a:avLst/>
                  </a:prstGeom>
                  <a:solidFill>
                    <a:srgbClr val="6f6f6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34" name=""/>
                  <p:cNvSpPr/>
                  <p:nvPr/>
                </p:nvSpPr>
                <p:spPr>
                  <a:xfrm flipH="1">
                    <a:off x="745920" y="1707840"/>
                    <a:ext cx="61560" cy="174960"/>
                  </a:xfrm>
                  <a:prstGeom prst="ellipse">
                    <a:avLst/>
                  </a:prstGeom>
                  <a:solidFill>
                    <a:srgbClr val="71717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35" name=""/>
                  <p:cNvSpPr/>
                  <p:nvPr/>
                </p:nvSpPr>
                <p:spPr>
                  <a:xfrm flipH="1">
                    <a:off x="747720" y="1712520"/>
                    <a:ext cx="58320" cy="164160"/>
                  </a:xfrm>
                  <a:prstGeom prst="ellipse">
                    <a:avLst/>
                  </a:prstGeom>
                  <a:solidFill>
                    <a:srgbClr val="7373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36" name=""/>
                  <p:cNvSpPr/>
                  <p:nvPr/>
                </p:nvSpPr>
                <p:spPr>
                  <a:xfrm flipH="1">
                    <a:off x="749520" y="1718280"/>
                    <a:ext cx="54720" cy="153720"/>
                  </a:xfrm>
                  <a:prstGeom prst="ellipse">
                    <a:avLst/>
                  </a:prstGeom>
                  <a:solidFill>
                    <a:srgbClr val="7474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37" name=""/>
                  <p:cNvSpPr/>
                  <p:nvPr/>
                </p:nvSpPr>
                <p:spPr>
                  <a:xfrm flipH="1">
                    <a:off x="751320" y="1722960"/>
                    <a:ext cx="50760" cy="144360"/>
                  </a:xfrm>
                  <a:prstGeom prst="ellipse">
                    <a:avLst/>
                  </a:prstGeom>
                  <a:solidFill>
                    <a:srgbClr val="76767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38" name=""/>
                  <p:cNvSpPr/>
                  <p:nvPr/>
                </p:nvSpPr>
                <p:spPr>
                  <a:xfrm flipH="1">
                    <a:off x="753480" y="1727640"/>
                    <a:ext cx="46440" cy="134280"/>
                  </a:xfrm>
                  <a:prstGeom prst="ellipse">
                    <a:avLst/>
                  </a:prstGeom>
                  <a:solidFill>
                    <a:srgbClr val="77777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39" name=""/>
                  <p:cNvSpPr/>
                  <p:nvPr/>
                </p:nvSpPr>
                <p:spPr>
                  <a:xfrm flipH="1">
                    <a:off x="755280" y="1733400"/>
                    <a:ext cx="43200" cy="123480"/>
                  </a:xfrm>
                  <a:prstGeom prst="ellipse">
                    <a:avLst/>
                  </a:prstGeom>
                  <a:solidFill>
                    <a:srgbClr val="78787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680" bIns="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40" name=""/>
                  <p:cNvSpPr/>
                  <p:nvPr/>
                </p:nvSpPr>
                <p:spPr>
                  <a:xfrm flipH="1">
                    <a:off x="757080" y="1738080"/>
                    <a:ext cx="39600" cy="113040"/>
                  </a:xfrm>
                  <a:prstGeom prst="ellipse">
                    <a:avLst/>
                  </a:prstGeom>
                  <a:solidFill>
                    <a:srgbClr val="79797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3120" bIns="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41" name=""/>
                  <p:cNvSpPr/>
                  <p:nvPr/>
                </p:nvSpPr>
                <p:spPr>
                  <a:xfrm flipH="1">
                    <a:off x="758520" y="1743840"/>
                    <a:ext cx="36720" cy="102600"/>
                  </a:xfrm>
                  <a:prstGeom prst="ellipse">
                    <a:avLst/>
                  </a:prstGeom>
                  <a:solidFill>
                    <a:srgbClr val="7a7a7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6280" bIns="26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42" name=""/>
                  <p:cNvSpPr/>
                  <p:nvPr/>
                </p:nvSpPr>
                <p:spPr>
                  <a:xfrm flipH="1">
                    <a:off x="760320" y="1748520"/>
                    <a:ext cx="33120" cy="93240"/>
                  </a:xfrm>
                  <a:prstGeom prst="ellipse">
                    <a:avLst/>
                  </a:prstGeom>
                  <a:solidFill>
                    <a:srgbClr val="7b7b7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080" bIns="19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43" name=""/>
                  <p:cNvSpPr/>
                  <p:nvPr/>
                </p:nvSpPr>
                <p:spPr>
                  <a:xfrm flipH="1">
                    <a:off x="762840" y="1753200"/>
                    <a:ext cx="28080" cy="82800"/>
                  </a:xfrm>
                  <a:prstGeom prst="ellipse">
                    <a:avLst/>
                  </a:prstGeom>
                  <a:solidFill>
                    <a:srgbClr val="7c7c7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240" bIns="12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44" name=""/>
                  <p:cNvSpPr/>
                  <p:nvPr/>
                </p:nvSpPr>
                <p:spPr>
                  <a:xfrm flipH="1">
                    <a:off x="764280" y="1758960"/>
                    <a:ext cx="24840" cy="72360"/>
                  </a:xfrm>
                  <a:prstGeom prst="ellipse">
                    <a:avLst/>
                  </a:prstGeom>
                  <a:solidFill>
                    <a:srgbClr val="7d7d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" bIns="4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45" name=""/>
                  <p:cNvSpPr/>
                  <p:nvPr/>
                </p:nvSpPr>
                <p:spPr>
                  <a:xfrm flipH="1">
                    <a:off x="766080" y="1763640"/>
                    <a:ext cx="21600" cy="61560"/>
                  </a:xfrm>
                  <a:prstGeom prst="ellipse">
                    <a:avLst/>
                  </a:prstGeom>
                  <a:solidFill>
                    <a:srgbClr val="7d7d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" bIns="-3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46" name=""/>
                  <p:cNvSpPr/>
                  <p:nvPr/>
                </p:nvSpPr>
                <p:spPr>
                  <a:xfrm flipH="1">
                    <a:off x="767880" y="1769760"/>
                    <a:ext cx="18000" cy="51120"/>
                  </a:xfrm>
                  <a:prstGeom prst="ellipse">
                    <a:avLst/>
                  </a:prstGeom>
                  <a:solidFill>
                    <a:srgbClr val="7e7e7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080" bIns="-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47" name=""/>
                  <p:cNvSpPr/>
                  <p:nvPr/>
                </p:nvSpPr>
                <p:spPr>
                  <a:xfrm flipH="1">
                    <a:off x="769320" y="1774440"/>
                    <a:ext cx="14760" cy="40680"/>
                  </a:xfrm>
                  <a:prstGeom prst="ellipse">
                    <a:avLst/>
                  </a:prstGeom>
                  <a:solidFill>
                    <a:srgbClr val="7e7e7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640" bIns="-17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48" name=""/>
                  <p:cNvSpPr/>
                  <p:nvPr/>
                </p:nvSpPr>
                <p:spPr>
                  <a:xfrm flipH="1">
                    <a:off x="771120" y="1780200"/>
                    <a:ext cx="11520" cy="30240"/>
                  </a:xfrm>
                  <a:prstGeom prst="ellipse">
                    <a:avLst/>
                  </a:prstGeom>
                  <a:solidFill>
                    <a:srgbClr val="7f7f7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49" name=""/>
                  <p:cNvSpPr/>
                  <p:nvPr/>
                </p:nvSpPr>
                <p:spPr>
                  <a:xfrm flipH="1">
                    <a:off x="773640" y="1784520"/>
                    <a:ext cx="6480" cy="20880"/>
                  </a:xfrm>
                  <a:prstGeom prst="ellipse">
                    <a:avLst/>
                  </a:prstGeom>
                  <a:solidFill>
                    <a:srgbClr val="7f7f7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50" name=""/>
                  <p:cNvSpPr/>
                  <p:nvPr/>
                </p:nvSpPr>
                <p:spPr>
                  <a:xfrm flipH="1">
                    <a:off x="775440" y="1789560"/>
                    <a:ext cx="2880" cy="10440"/>
                  </a:xfrm>
                  <a:prstGeom prst="ellipse">
                    <a:avLst/>
                  </a:prstGeom>
                  <a:solidFill>
                    <a:srgbClr val="7f7f7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2951" name=""/>
                <p:cNvSpPr/>
                <p:nvPr/>
              </p:nvSpPr>
              <p:spPr>
                <a:xfrm flipH="1">
                  <a:off x="689760" y="1549440"/>
                  <a:ext cx="173160" cy="492120"/>
                </a:xfrm>
                <a:prstGeom prst="ellipse">
                  <a:avLst/>
                </a:prstGeom>
                <a:noFill/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952" name=""/>
              <p:cNvSpPr/>
              <p:nvPr/>
            </p:nvSpPr>
            <p:spPr>
              <a:xfrm>
                <a:off x="189000" y="1730520"/>
                <a:ext cx="600120" cy="439560"/>
              </a:xfrm>
              <a:custGeom>
                <a:avLst/>
                <a:gdLst/>
                <a:ahLst/>
                <a:rect l="l" t="t" r="r" b="b"/>
                <a:pathLst>
                  <a:path w="721" h="376">
                    <a:moveTo>
                      <a:pt x="703" y="102"/>
                    </a:moveTo>
                    <a:cubicBezTo>
                      <a:pt x="465" y="103"/>
                      <a:pt x="315" y="110"/>
                      <a:pt x="228" y="120"/>
                    </a:cubicBezTo>
                    <a:cubicBezTo>
                      <a:pt x="138" y="139"/>
                      <a:pt x="170" y="205"/>
                      <a:pt x="174" y="240"/>
                    </a:cubicBezTo>
                    <a:cubicBezTo>
                      <a:pt x="178" y="275"/>
                      <a:pt x="205" y="313"/>
                      <a:pt x="193" y="335"/>
                    </a:cubicBezTo>
                    <a:cubicBezTo>
                      <a:pt x="181" y="357"/>
                      <a:pt x="132" y="374"/>
                      <a:pt x="102" y="375"/>
                    </a:cubicBezTo>
                    <a:cubicBezTo>
                      <a:pt x="72" y="376"/>
                      <a:pt x="24" y="364"/>
                      <a:pt x="12" y="341"/>
                    </a:cubicBezTo>
                    <a:cubicBezTo>
                      <a:pt x="0" y="318"/>
                      <a:pt x="13" y="283"/>
                      <a:pt x="28" y="236"/>
                    </a:cubicBezTo>
                    <a:cubicBezTo>
                      <a:pt x="43" y="189"/>
                      <a:pt x="67" y="96"/>
                      <a:pt x="103" y="57"/>
                    </a:cubicBezTo>
                    <a:cubicBezTo>
                      <a:pt x="139" y="18"/>
                      <a:pt x="150" y="13"/>
                      <a:pt x="247" y="3"/>
                    </a:cubicBezTo>
                    <a:lnTo>
                      <a:pt x="685" y="0"/>
                    </a:lnTo>
                    <a:cubicBezTo>
                      <a:pt x="715" y="33"/>
                      <a:pt x="721" y="41"/>
                      <a:pt x="703" y="102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6699ff"/>
                  </a:gs>
                  <a:gs pos="100000">
                    <a:srgbClr val="2f4675"/>
                  </a:gs>
                </a:gsLst>
                <a:lin ang="54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953" name=""/>
              <p:cNvGrpSpPr/>
              <p:nvPr/>
            </p:nvGrpSpPr>
            <p:grpSpPr>
              <a:xfrm>
                <a:off x="276120" y="2206800"/>
                <a:ext cx="58680" cy="446040"/>
                <a:chOff x="276120" y="2206800"/>
                <a:chExt cx="58680" cy="446040"/>
              </a:xfrm>
            </p:grpSpPr>
            <p:sp>
              <p:nvSpPr>
                <p:cNvPr id="12954" name=""/>
                <p:cNvSpPr/>
                <p:nvPr/>
              </p:nvSpPr>
              <p:spPr>
                <a:xfrm>
                  <a:off x="276120" y="2206800"/>
                  <a:ext cx="49320" cy="101520"/>
                </a:xfrm>
                <a:custGeom>
                  <a:avLst/>
                  <a:gdLst/>
                  <a:ahLst/>
                  <a:rect l="l" t="t" r="r" b="b"/>
                  <a:pathLst>
                    <a:path w="196" h="370">
                      <a:moveTo>
                        <a:pt x="95" y="0"/>
                      </a:moveTo>
                      <a:lnTo>
                        <a:pt x="105" y="58"/>
                      </a:lnTo>
                      <a:lnTo>
                        <a:pt x="111" y="87"/>
                      </a:lnTo>
                      <a:lnTo>
                        <a:pt x="121" y="121"/>
                      </a:lnTo>
                      <a:lnTo>
                        <a:pt x="132" y="141"/>
                      </a:lnTo>
                      <a:lnTo>
                        <a:pt x="147" y="166"/>
                      </a:lnTo>
                      <a:lnTo>
                        <a:pt x="167" y="193"/>
                      </a:lnTo>
                      <a:lnTo>
                        <a:pt x="184" y="220"/>
                      </a:lnTo>
                      <a:lnTo>
                        <a:pt x="192" y="245"/>
                      </a:lnTo>
                      <a:lnTo>
                        <a:pt x="196" y="278"/>
                      </a:lnTo>
                      <a:lnTo>
                        <a:pt x="189" y="307"/>
                      </a:lnTo>
                      <a:lnTo>
                        <a:pt x="178" y="328"/>
                      </a:lnTo>
                      <a:lnTo>
                        <a:pt x="162" y="345"/>
                      </a:lnTo>
                      <a:lnTo>
                        <a:pt x="141" y="361"/>
                      </a:lnTo>
                      <a:lnTo>
                        <a:pt x="121" y="367"/>
                      </a:lnTo>
                      <a:lnTo>
                        <a:pt x="99" y="370"/>
                      </a:lnTo>
                      <a:lnTo>
                        <a:pt x="76" y="367"/>
                      </a:lnTo>
                      <a:lnTo>
                        <a:pt x="54" y="362"/>
                      </a:lnTo>
                      <a:lnTo>
                        <a:pt x="34" y="350"/>
                      </a:lnTo>
                      <a:lnTo>
                        <a:pt x="19" y="334"/>
                      </a:lnTo>
                      <a:lnTo>
                        <a:pt x="8" y="315"/>
                      </a:lnTo>
                      <a:lnTo>
                        <a:pt x="3" y="296"/>
                      </a:lnTo>
                      <a:lnTo>
                        <a:pt x="0" y="272"/>
                      </a:lnTo>
                      <a:lnTo>
                        <a:pt x="5" y="240"/>
                      </a:lnTo>
                      <a:lnTo>
                        <a:pt x="13" y="218"/>
                      </a:lnTo>
                      <a:lnTo>
                        <a:pt x="30" y="190"/>
                      </a:lnTo>
                      <a:lnTo>
                        <a:pt x="49" y="166"/>
                      </a:lnTo>
                      <a:lnTo>
                        <a:pt x="62" y="140"/>
                      </a:lnTo>
                      <a:lnTo>
                        <a:pt x="72" y="119"/>
                      </a:lnTo>
                      <a:lnTo>
                        <a:pt x="81" y="90"/>
                      </a:lnTo>
                      <a:lnTo>
                        <a:pt x="86" y="58"/>
                      </a:lnTo>
                      <a:lnTo>
                        <a:pt x="95" y="0"/>
                      </a:lnTo>
                      <a:close/>
                    </a:path>
                  </a:pathLst>
                </a:custGeom>
                <a:solidFill>
                  <a:srgbClr val="00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55" name=""/>
                <p:cNvSpPr/>
                <p:nvPr/>
              </p:nvSpPr>
              <p:spPr>
                <a:xfrm>
                  <a:off x="276120" y="2314800"/>
                  <a:ext cx="49320" cy="101520"/>
                </a:xfrm>
                <a:custGeom>
                  <a:avLst/>
                  <a:gdLst/>
                  <a:ahLst/>
                  <a:rect l="l" t="t" r="r" b="b"/>
                  <a:pathLst>
                    <a:path w="196" h="372">
                      <a:moveTo>
                        <a:pt x="95" y="0"/>
                      </a:moveTo>
                      <a:lnTo>
                        <a:pt x="105" y="60"/>
                      </a:lnTo>
                      <a:lnTo>
                        <a:pt x="111" y="88"/>
                      </a:lnTo>
                      <a:lnTo>
                        <a:pt x="121" y="122"/>
                      </a:lnTo>
                      <a:lnTo>
                        <a:pt x="132" y="143"/>
                      </a:lnTo>
                      <a:lnTo>
                        <a:pt x="147" y="168"/>
                      </a:lnTo>
                      <a:lnTo>
                        <a:pt x="167" y="195"/>
                      </a:lnTo>
                      <a:lnTo>
                        <a:pt x="184" y="221"/>
                      </a:lnTo>
                      <a:lnTo>
                        <a:pt x="192" y="247"/>
                      </a:lnTo>
                      <a:lnTo>
                        <a:pt x="196" y="279"/>
                      </a:lnTo>
                      <a:lnTo>
                        <a:pt x="189" y="308"/>
                      </a:lnTo>
                      <a:lnTo>
                        <a:pt x="178" y="328"/>
                      </a:lnTo>
                      <a:lnTo>
                        <a:pt x="162" y="345"/>
                      </a:lnTo>
                      <a:lnTo>
                        <a:pt x="141" y="361"/>
                      </a:lnTo>
                      <a:lnTo>
                        <a:pt x="121" y="369"/>
                      </a:lnTo>
                      <a:lnTo>
                        <a:pt x="99" y="372"/>
                      </a:lnTo>
                      <a:lnTo>
                        <a:pt x="76" y="369"/>
                      </a:lnTo>
                      <a:lnTo>
                        <a:pt x="54" y="363"/>
                      </a:lnTo>
                      <a:lnTo>
                        <a:pt x="34" y="351"/>
                      </a:lnTo>
                      <a:lnTo>
                        <a:pt x="19" y="336"/>
                      </a:lnTo>
                      <a:lnTo>
                        <a:pt x="8" y="317"/>
                      </a:lnTo>
                      <a:lnTo>
                        <a:pt x="3" y="298"/>
                      </a:lnTo>
                      <a:lnTo>
                        <a:pt x="0" y="272"/>
                      </a:lnTo>
                      <a:lnTo>
                        <a:pt x="5" y="242"/>
                      </a:lnTo>
                      <a:lnTo>
                        <a:pt x="13" y="219"/>
                      </a:lnTo>
                      <a:lnTo>
                        <a:pt x="30" y="191"/>
                      </a:lnTo>
                      <a:lnTo>
                        <a:pt x="49" y="168"/>
                      </a:lnTo>
                      <a:lnTo>
                        <a:pt x="62" y="141"/>
                      </a:lnTo>
                      <a:lnTo>
                        <a:pt x="72" y="120"/>
                      </a:lnTo>
                      <a:lnTo>
                        <a:pt x="81" y="90"/>
                      </a:lnTo>
                      <a:lnTo>
                        <a:pt x="86" y="60"/>
                      </a:lnTo>
                      <a:lnTo>
                        <a:pt x="95" y="0"/>
                      </a:lnTo>
                      <a:close/>
                    </a:path>
                  </a:pathLst>
                </a:custGeom>
                <a:solidFill>
                  <a:srgbClr val="00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56" name=""/>
                <p:cNvSpPr/>
                <p:nvPr/>
              </p:nvSpPr>
              <p:spPr>
                <a:xfrm>
                  <a:off x="285840" y="2443320"/>
                  <a:ext cx="48960" cy="101520"/>
                </a:xfrm>
                <a:custGeom>
                  <a:avLst/>
                  <a:gdLst/>
                  <a:ahLst/>
                  <a:rect l="l" t="t" r="r" b="b"/>
                  <a:pathLst>
                    <a:path w="196" h="370">
                      <a:moveTo>
                        <a:pt x="95" y="0"/>
                      </a:moveTo>
                      <a:lnTo>
                        <a:pt x="105" y="58"/>
                      </a:lnTo>
                      <a:lnTo>
                        <a:pt x="111" y="87"/>
                      </a:lnTo>
                      <a:lnTo>
                        <a:pt x="121" y="121"/>
                      </a:lnTo>
                      <a:lnTo>
                        <a:pt x="132" y="141"/>
                      </a:lnTo>
                      <a:lnTo>
                        <a:pt x="147" y="166"/>
                      </a:lnTo>
                      <a:lnTo>
                        <a:pt x="167" y="193"/>
                      </a:lnTo>
                      <a:lnTo>
                        <a:pt x="184" y="220"/>
                      </a:lnTo>
                      <a:lnTo>
                        <a:pt x="192" y="245"/>
                      </a:lnTo>
                      <a:lnTo>
                        <a:pt x="196" y="278"/>
                      </a:lnTo>
                      <a:lnTo>
                        <a:pt x="189" y="307"/>
                      </a:lnTo>
                      <a:lnTo>
                        <a:pt x="178" y="328"/>
                      </a:lnTo>
                      <a:lnTo>
                        <a:pt x="162" y="345"/>
                      </a:lnTo>
                      <a:lnTo>
                        <a:pt x="141" y="361"/>
                      </a:lnTo>
                      <a:lnTo>
                        <a:pt x="121" y="367"/>
                      </a:lnTo>
                      <a:lnTo>
                        <a:pt x="99" y="370"/>
                      </a:lnTo>
                      <a:lnTo>
                        <a:pt x="76" y="367"/>
                      </a:lnTo>
                      <a:lnTo>
                        <a:pt x="54" y="362"/>
                      </a:lnTo>
                      <a:lnTo>
                        <a:pt x="34" y="350"/>
                      </a:lnTo>
                      <a:lnTo>
                        <a:pt x="19" y="334"/>
                      </a:lnTo>
                      <a:lnTo>
                        <a:pt x="8" y="315"/>
                      </a:lnTo>
                      <a:lnTo>
                        <a:pt x="3" y="296"/>
                      </a:lnTo>
                      <a:lnTo>
                        <a:pt x="0" y="272"/>
                      </a:lnTo>
                      <a:lnTo>
                        <a:pt x="5" y="240"/>
                      </a:lnTo>
                      <a:lnTo>
                        <a:pt x="13" y="218"/>
                      </a:lnTo>
                      <a:lnTo>
                        <a:pt x="30" y="190"/>
                      </a:lnTo>
                      <a:lnTo>
                        <a:pt x="49" y="166"/>
                      </a:lnTo>
                      <a:lnTo>
                        <a:pt x="62" y="140"/>
                      </a:lnTo>
                      <a:lnTo>
                        <a:pt x="72" y="119"/>
                      </a:lnTo>
                      <a:lnTo>
                        <a:pt x="81" y="90"/>
                      </a:lnTo>
                      <a:lnTo>
                        <a:pt x="86" y="58"/>
                      </a:lnTo>
                      <a:lnTo>
                        <a:pt x="95" y="0"/>
                      </a:lnTo>
                      <a:close/>
                    </a:path>
                  </a:pathLst>
                </a:custGeom>
                <a:solidFill>
                  <a:srgbClr val="00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57" name=""/>
                <p:cNvSpPr/>
                <p:nvPr/>
              </p:nvSpPr>
              <p:spPr>
                <a:xfrm>
                  <a:off x="285840" y="2551320"/>
                  <a:ext cx="48960" cy="101520"/>
                </a:xfrm>
                <a:custGeom>
                  <a:avLst/>
                  <a:gdLst/>
                  <a:ahLst/>
                  <a:rect l="l" t="t" r="r" b="b"/>
                  <a:pathLst>
                    <a:path w="196" h="372">
                      <a:moveTo>
                        <a:pt x="95" y="0"/>
                      </a:moveTo>
                      <a:lnTo>
                        <a:pt x="105" y="60"/>
                      </a:lnTo>
                      <a:lnTo>
                        <a:pt x="111" y="88"/>
                      </a:lnTo>
                      <a:lnTo>
                        <a:pt x="121" y="122"/>
                      </a:lnTo>
                      <a:lnTo>
                        <a:pt x="132" y="143"/>
                      </a:lnTo>
                      <a:lnTo>
                        <a:pt x="147" y="168"/>
                      </a:lnTo>
                      <a:lnTo>
                        <a:pt x="167" y="195"/>
                      </a:lnTo>
                      <a:lnTo>
                        <a:pt x="184" y="221"/>
                      </a:lnTo>
                      <a:lnTo>
                        <a:pt x="192" y="247"/>
                      </a:lnTo>
                      <a:lnTo>
                        <a:pt x="196" y="279"/>
                      </a:lnTo>
                      <a:lnTo>
                        <a:pt x="189" y="308"/>
                      </a:lnTo>
                      <a:lnTo>
                        <a:pt x="178" y="328"/>
                      </a:lnTo>
                      <a:lnTo>
                        <a:pt x="162" y="345"/>
                      </a:lnTo>
                      <a:lnTo>
                        <a:pt x="141" y="361"/>
                      </a:lnTo>
                      <a:lnTo>
                        <a:pt x="121" y="369"/>
                      </a:lnTo>
                      <a:lnTo>
                        <a:pt x="99" y="372"/>
                      </a:lnTo>
                      <a:lnTo>
                        <a:pt x="76" y="369"/>
                      </a:lnTo>
                      <a:lnTo>
                        <a:pt x="54" y="363"/>
                      </a:lnTo>
                      <a:lnTo>
                        <a:pt x="34" y="351"/>
                      </a:lnTo>
                      <a:lnTo>
                        <a:pt x="19" y="336"/>
                      </a:lnTo>
                      <a:lnTo>
                        <a:pt x="8" y="317"/>
                      </a:lnTo>
                      <a:lnTo>
                        <a:pt x="3" y="298"/>
                      </a:lnTo>
                      <a:lnTo>
                        <a:pt x="0" y="272"/>
                      </a:lnTo>
                      <a:lnTo>
                        <a:pt x="5" y="242"/>
                      </a:lnTo>
                      <a:lnTo>
                        <a:pt x="13" y="219"/>
                      </a:lnTo>
                      <a:lnTo>
                        <a:pt x="30" y="191"/>
                      </a:lnTo>
                      <a:lnTo>
                        <a:pt x="49" y="168"/>
                      </a:lnTo>
                      <a:lnTo>
                        <a:pt x="62" y="141"/>
                      </a:lnTo>
                      <a:lnTo>
                        <a:pt x="72" y="120"/>
                      </a:lnTo>
                      <a:lnTo>
                        <a:pt x="81" y="90"/>
                      </a:lnTo>
                      <a:lnTo>
                        <a:pt x="86" y="60"/>
                      </a:lnTo>
                      <a:lnTo>
                        <a:pt x="95" y="0"/>
                      </a:lnTo>
                      <a:close/>
                    </a:path>
                  </a:pathLst>
                </a:custGeom>
                <a:solidFill>
                  <a:srgbClr val="00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958" name=""/>
              <p:cNvSpPr/>
              <p:nvPr/>
            </p:nvSpPr>
            <p:spPr>
              <a:xfrm>
                <a:off x="446040" y="1546200"/>
                <a:ext cx="147600" cy="235080"/>
              </a:xfrm>
              <a:custGeom>
                <a:avLst/>
                <a:gdLst/>
                <a:ahLst/>
                <a:rect l="l" t="t" r="r" b="b"/>
                <a:pathLst>
                  <a:path w="178" h="201">
                    <a:moveTo>
                      <a:pt x="1" y="160"/>
                    </a:moveTo>
                    <a:cubicBezTo>
                      <a:pt x="2" y="152"/>
                      <a:pt x="5" y="136"/>
                      <a:pt x="9" y="121"/>
                    </a:cubicBezTo>
                    <a:cubicBezTo>
                      <a:pt x="13" y="106"/>
                      <a:pt x="21" y="82"/>
                      <a:pt x="27" y="67"/>
                    </a:cubicBezTo>
                    <a:cubicBezTo>
                      <a:pt x="33" y="52"/>
                      <a:pt x="40" y="39"/>
                      <a:pt x="46" y="31"/>
                    </a:cubicBezTo>
                    <a:cubicBezTo>
                      <a:pt x="52" y="23"/>
                      <a:pt x="56" y="21"/>
                      <a:pt x="60" y="16"/>
                    </a:cubicBezTo>
                    <a:cubicBezTo>
                      <a:pt x="64" y="11"/>
                      <a:pt x="69" y="2"/>
                      <a:pt x="73" y="1"/>
                    </a:cubicBezTo>
                    <a:cubicBezTo>
                      <a:pt x="77" y="0"/>
                      <a:pt x="82" y="6"/>
                      <a:pt x="87" y="7"/>
                    </a:cubicBezTo>
                    <a:cubicBezTo>
                      <a:pt x="92" y="8"/>
                      <a:pt x="100" y="5"/>
                      <a:pt x="105" y="5"/>
                    </a:cubicBezTo>
                    <a:cubicBezTo>
                      <a:pt x="110" y="5"/>
                      <a:pt x="112" y="5"/>
                      <a:pt x="117" y="8"/>
                    </a:cubicBezTo>
                    <a:cubicBezTo>
                      <a:pt x="122" y="11"/>
                      <a:pt x="130" y="17"/>
                      <a:pt x="136" y="26"/>
                    </a:cubicBezTo>
                    <a:cubicBezTo>
                      <a:pt x="142" y="35"/>
                      <a:pt x="149" y="47"/>
                      <a:pt x="154" y="61"/>
                    </a:cubicBezTo>
                    <a:cubicBezTo>
                      <a:pt x="159" y="75"/>
                      <a:pt x="164" y="95"/>
                      <a:pt x="168" y="112"/>
                    </a:cubicBezTo>
                    <a:cubicBezTo>
                      <a:pt x="172" y="129"/>
                      <a:pt x="178" y="151"/>
                      <a:pt x="178" y="161"/>
                    </a:cubicBezTo>
                    <a:cubicBezTo>
                      <a:pt x="178" y="171"/>
                      <a:pt x="178" y="170"/>
                      <a:pt x="171" y="175"/>
                    </a:cubicBezTo>
                    <a:cubicBezTo>
                      <a:pt x="164" y="180"/>
                      <a:pt x="151" y="189"/>
                      <a:pt x="138" y="193"/>
                    </a:cubicBezTo>
                    <a:cubicBezTo>
                      <a:pt x="125" y="197"/>
                      <a:pt x="106" y="199"/>
                      <a:pt x="93" y="200"/>
                    </a:cubicBezTo>
                    <a:cubicBezTo>
                      <a:pt x="80" y="201"/>
                      <a:pt x="68" y="198"/>
                      <a:pt x="58" y="196"/>
                    </a:cubicBezTo>
                    <a:cubicBezTo>
                      <a:pt x="48" y="194"/>
                      <a:pt x="39" y="192"/>
                      <a:pt x="30" y="188"/>
                    </a:cubicBezTo>
                    <a:cubicBezTo>
                      <a:pt x="21" y="184"/>
                      <a:pt x="11" y="175"/>
                      <a:pt x="6" y="169"/>
                    </a:cubicBezTo>
                    <a:cubicBezTo>
                      <a:pt x="1" y="163"/>
                      <a:pt x="0" y="168"/>
                      <a:pt x="1" y="16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6699ff"/>
                  </a:gs>
                  <a:gs pos="100000">
                    <a:srgbClr val="2f4675"/>
                  </a:gs>
                </a:gsLst>
                <a:lin ang="54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59" name=""/>
              <p:cNvSpPr/>
              <p:nvPr/>
            </p:nvSpPr>
            <p:spPr>
              <a:xfrm>
                <a:off x="498600" y="1461960"/>
                <a:ext cx="42840" cy="1080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2f4675"/>
                  </a:gs>
                  <a:gs pos="100000">
                    <a:srgbClr val="6699ff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60" name=""/>
              <p:cNvSpPr/>
              <p:nvPr/>
            </p:nvSpPr>
            <p:spPr>
              <a:xfrm>
                <a:off x="379440" y="1308240"/>
                <a:ext cx="284040" cy="201600"/>
              </a:xfrm>
              <a:custGeom>
                <a:avLst/>
                <a:gdLst/>
                <a:ahLst/>
                <a:rect l="l" t="t" r="r" b="b"/>
                <a:pathLst>
                  <a:path w="342" h="172">
                    <a:moveTo>
                      <a:pt x="170" y="172"/>
                    </a:moveTo>
                    <a:cubicBezTo>
                      <a:pt x="143" y="167"/>
                      <a:pt x="116" y="163"/>
                      <a:pt x="90" y="154"/>
                    </a:cubicBezTo>
                    <a:cubicBezTo>
                      <a:pt x="64" y="145"/>
                      <a:pt x="28" y="126"/>
                      <a:pt x="14" y="118"/>
                    </a:cubicBezTo>
                    <a:cubicBezTo>
                      <a:pt x="0" y="110"/>
                      <a:pt x="3" y="111"/>
                      <a:pt x="3" y="106"/>
                    </a:cubicBezTo>
                    <a:cubicBezTo>
                      <a:pt x="3" y="101"/>
                      <a:pt x="9" y="92"/>
                      <a:pt x="12" y="88"/>
                    </a:cubicBezTo>
                    <a:cubicBezTo>
                      <a:pt x="15" y="84"/>
                      <a:pt x="17" y="85"/>
                      <a:pt x="20" y="80"/>
                    </a:cubicBezTo>
                    <a:cubicBezTo>
                      <a:pt x="23" y="75"/>
                      <a:pt x="26" y="64"/>
                      <a:pt x="29" y="56"/>
                    </a:cubicBezTo>
                    <a:cubicBezTo>
                      <a:pt x="32" y="48"/>
                      <a:pt x="31" y="36"/>
                      <a:pt x="38" y="29"/>
                    </a:cubicBezTo>
                    <a:cubicBezTo>
                      <a:pt x="45" y="22"/>
                      <a:pt x="53" y="18"/>
                      <a:pt x="69" y="14"/>
                    </a:cubicBezTo>
                    <a:cubicBezTo>
                      <a:pt x="85" y="10"/>
                      <a:pt x="113" y="4"/>
                      <a:pt x="137" y="2"/>
                    </a:cubicBezTo>
                    <a:cubicBezTo>
                      <a:pt x="161" y="0"/>
                      <a:pt x="194" y="1"/>
                      <a:pt x="213" y="2"/>
                    </a:cubicBezTo>
                    <a:cubicBezTo>
                      <a:pt x="232" y="3"/>
                      <a:pt x="237" y="4"/>
                      <a:pt x="251" y="7"/>
                    </a:cubicBezTo>
                    <a:cubicBezTo>
                      <a:pt x="265" y="10"/>
                      <a:pt x="287" y="11"/>
                      <a:pt x="297" y="19"/>
                    </a:cubicBezTo>
                    <a:cubicBezTo>
                      <a:pt x="307" y="27"/>
                      <a:pt x="307" y="44"/>
                      <a:pt x="311" y="53"/>
                    </a:cubicBezTo>
                    <a:cubicBezTo>
                      <a:pt x="315" y="62"/>
                      <a:pt x="318" y="70"/>
                      <a:pt x="321" y="74"/>
                    </a:cubicBezTo>
                    <a:cubicBezTo>
                      <a:pt x="324" y="78"/>
                      <a:pt x="327" y="75"/>
                      <a:pt x="330" y="80"/>
                    </a:cubicBezTo>
                    <a:cubicBezTo>
                      <a:pt x="333" y="85"/>
                      <a:pt x="342" y="99"/>
                      <a:pt x="338" y="107"/>
                    </a:cubicBezTo>
                    <a:cubicBezTo>
                      <a:pt x="334" y="115"/>
                      <a:pt x="327" y="121"/>
                      <a:pt x="309" y="130"/>
                    </a:cubicBezTo>
                    <a:cubicBezTo>
                      <a:pt x="291" y="139"/>
                      <a:pt x="247" y="153"/>
                      <a:pt x="227" y="160"/>
                    </a:cubicBezTo>
                    <a:cubicBezTo>
                      <a:pt x="207" y="167"/>
                      <a:pt x="201" y="167"/>
                      <a:pt x="189" y="169"/>
                    </a:cubicBezTo>
                    <a:cubicBezTo>
                      <a:pt x="177" y="171"/>
                      <a:pt x="160" y="170"/>
                      <a:pt x="152" y="170"/>
                    </a:cubicBezTo>
                  </a:path>
                </a:pathLst>
              </a:custGeom>
              <a:gradFill rotWithShape="0">
                <a:gsLst>
                  <a:gs pos="0">
                    <a:srgbClr val="6699ff"/>
                  </a:gs>
                  <a:gs pos="100000">
                    <a:srgbClr val="2f4675"/>
                  </a:gs>
                </a:gsLst>
                <a:lin ang="54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961" name=""/>
            <p:cNvSpPr/>
            <p:nvPr/>
          </p:nvSpPr>
          <p:spPr>
            <a:xfrm>
              <a:off x="6962760" y="601560"/>
              <a:ext cx="2198880" cy="244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400" spc="-1" strike="noStrike">
                  <a:solidFill>
                    <a:srgbClr val="000000"/>
                  </a:solidFill>
                  <a:latin typeface="Times New Roman"/>
                </a:rPr>
                <a:t>2.</a:t>
              </a:r>
              <a:r>
                <a:rPr b="1" lang="cs-CZ" sz="1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 Regulační zásah ledvin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400" spc="-1" strike="noStrike">
                  <a:solidFill>
                    <a:srgbClr val="000000"/>
                  </a:solidFill>
                  <a:latin typeface="Times New Roman"/>
                </a:rPr>
                <a:t>snížení vylučování vodíkových iontů ve formě titrovatelné acidity (TA) a amonných iontů, poklesne pod hodnotu metabolické tvorby silných kyselin. Ve vnitřním prostředí se proto začínají H</a:t>
              </a:r>
              <a:r>
                <a:rPr b="1" lang="cs-CZ" sz="1400" spc="-1" strike="noStrike" baseline="46000">
                  <a:solidFill>
                    <a:srgbClr val="000000"/>
                  </a:solidFill>
                  <a:latin typeface="Times New Roman"/>
                </a:rPr>
                <a:t>+ </a:t>
              </a:r>
              <a:r>
                <a:rPr b="1" lang="cs-CZ" sz="1400" spc="-1" strike="noStrike">
                  <a:solidFill>
                    <a:srgbClr val="000000"/>
                  </a:solidFill>
                  <a:latin typeface="Times New Roman"/>
                </a:rPr>
                <a:t>ionty retinovat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2" name=""/>
            <p:cNvSpPr/>
            <p:nvPr/>
          </p:nvSpPr>
          <p:spPr>
            <a:xfrm>
              <a:off x="5726160" y="2457360"/>
              <a:ext cx="1500120" cy="95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400" spc="-1" strike="noStrike">
                  <a:solidFill>
                    <a:srgbClr val="000000"/>
                  </a:solidFill>
                  <a:latin typeface="Times New Roman"/>
                </a:rPr>
                <a:t>3. Metabolická tvorba H</a:t>
              </a:r>
              <a:r>
                <a:rPr b="0" lang="cs-CZ" sz="1400" spc="-1" strike="noStrike" baseline="46000">
                  <a:solidFill>
                    <a:srgbClr val="000000"/>
                  </a:solidFill>
                  <a:latin typeface="Times New Roman"/>
                </a:rPr>
                <a:t>+ </a:t>
              </a:r>
              <a:r>
                <a:rPr b="1" lang="cs-CZ" sz="1400" spc="-1" strike="noStrike">
                  <a:solidFill>
                    <a:srgbClr val="000000"/>
                  </a:solidFill>
                  <a:latin typeface="Times New Roman"/>
                </a:rPr>
                <a:t>je větší než jejich renální exkre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3" name=""/>
            <p:cNvSpPr/>
            <p:nvPr/>
          </p:nvSpPr>
          <p:spPr>
            <a:xfrm>
              <a:off x="1920960" y="874800"/>
              <a:ext cx="2862000" cy="124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400" spc="-1" strike="noStrike">
                  <a:solidFill>
                    <a:srgbClr val="000000"/>
                  </a:solidFill>
                  <a:latin typeface="Times New Roman"/>
                </a:rPr>
                <a:t>(snížená hladina CO</a:t>
              </a:r>
              <a:r>
                <a:rPr b="1" lang="cs-CZ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cs-CZ" sz="1400" spc="-1" strike="noStrike">
                  <a:solidFill>
                    <a:srgbClr val="000000"/>
                  </a:solidFill>
                  <a:latin typeface="Times New Roman"/>
                </a:rPr>
                <a:t> a H</a:t>
              </a:r>
              <a:r>
                <a:rPr b="1" lang="cs-CZ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cs-CZ" sz="1400" spc="-1" strike="noStrike">
                  <a:solidFill>
                    <a:srgbClr val="000000"/>
                  </a:solidFill>
                  <a:latin typeface="Times New Roman"/>
                </a:rPr>
                <a:t>CO</a:t>
              </a:r>
              <a:r>
                <a:rPr b="1" lang="cs-CZ" sz="1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1" lang="cs-CZ" sz="1400" spc="-1" strike="noStrike">
                  <a:solidFill>
                    <a:srgbClr val="000000"/>
                  </a:solidFill>
                  <a:latin typeface="Times New Roman"/>
                </a:rPr>
                <a:t> je respirací udržována na neměnné úrovni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4" name=""/>
            <p:cNvSpPr/>
            <p:nvPr/>
          </p:nvSpPr>
          <p:spPr>
            <a:xfrm>
              <a:off x="3355200" y="3452760"/>
              <a:ext cx="1540080" cy="31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400" spc="-1" strike="noStrike">
                  <a:solidFill>
                    <a:srgbClr val="000000"/>
                  </a:solidFill>
                  <a:latin typeface="Times New Roman"/>
                </a:rPr>
                <a:t>Pokles hladiny H</a:t>
              </a:r>
              <a:r>
                <a:rPr b="0" lang="cs-CZ" sz="1400" spc="-1" strike="noStrike" baseline="46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5" name=""/>
            <p:cNvSpPr/>
            <p:nvPr/>
          </p:nvSpPr>
          <p:spPr>
            <a:xfrm>
              <a:off x="3662280" y="3344760"/>
              <a:ext cx="5483160" cy="3517920"/>
            </a:xfrm>
            <a:custGeom>
              <a:avLst/>
              <a:gdLst/>
              <a:ahLst/>
              <a:rect l="l" t="t" r="r" b="b"/>
              <a:pathLst>
                <a:path w="3454" h="2216">
                  <a:moveTo>
                    <a:pt x="1940" y="17"/>
                  </a:moveTo>
                  <a:cubicBezTo>
                    <a:pt x="1956" y="102"/>
                    <a:pt x="2047" y="167"/>
                    <a:pt x="2264" y="182"/>
                  </a:cubicBezTo>
                  <a:cubicBezTo>
                    <a:pt x="2484" y="227"/>
                    <a:pt x="3114" y="0"/>
                    <a:pt x="3262" y="288"/>
                  </a:cubicBezTo>
                  <a:cubicBezTo>
                    <a:pt x="3410" y="576"/>
                    <a:pt x="3454" y="1610"/>
                    <a:pt x="3151" y="1913"/>
                  </a:cubicBezTo>
                  <a:cubicBezTo>
                    <a:pt x="2848" y="2216"/>
                    <a:pt x="1931" y="2112"/>
                    <a:pt x="1442" y="2109"/>
                  </a:cubicBezTo>
                  <a:cubicBezTo>
                    <a:pt x="953" y="2106"/>
                    <a:pt x="430" y="2130"/>
                    <a:pt x="215" y="1896"/>
                  </a:cubicBezTo>
                  <a:cubicBezTo>
                    <a:pt x="0" y="1662"/>
                    <a:pt x="164" y="955"/>
                    <a:pt x="151" y="707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966" name=""/>
            <p:cNvGrpSpPr/>
            <p:nvPr/>
          </p:nvGrpSpPr>
          <p:grpSpPr>
            <a:xfrm>
              <a:off x="0" y="4673520"/>
              <a:ext cx="2573280" cy="1969200"/>
              <a:chOff x="0" y="4673520"/>
              <a:chExt cx="2573280" cy="1969200"/>
            </a:xfrm>
          </p:grpSpPr>
          <p:grpSp>
            <p:nvGrpSpPr>
              <p:cNvPr id="12967" name=""/>
              <p:cNvGrpSpPr/>
              <p:nvPr/>
            </p:nvGrpSpPr>
            <p:grpSpPr>
              <a:xfrm>
                <a:off x="244440" y="4772160"/>
                <a:ext cx="2260440" cy="1868040"/>
                <a:chOff x="244440" y="4772160"/>
                <a:chExt cx="2260440" cy="1868040"/>
              </a:xfrm>
            </p:grpSpPr>
            <p:sp>
              <p:nvSpPr>
                <p:cNvPr id="12968" name=""/>
                <p:cNvSpPr/>
                <p:nvPr/>
              </p:nvSpPr>
              <p:spPr>
                <a:xfrm>
                  <a:off x="244440" y="4772160"/>
                  <a:ext cx="2248560" cy="18615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69" name=""/>
                <p:cNvGrpSpPr/>
                <p:nvPr/>
              </p:nvGrpSpPr>
              <p:grpSpPr>
                <a:xfrm>
                  <a:off x="268560" y="4775760"/>
                  <a:ext cx="2206440" cy="1833120"/>
                  <a:chOff x="268560" y="4775760"/>
                  <a:chExt cx="2206440" cy="1833120"/>
                </a:xfrm>
              </p:grpSpPr>
              <p:sp>
                <p:nvSpPr>
                  <p:cNvPr id="12970" name=""/>
                  <p:cNvSpPr/>
                  <p:nvPr/>
                </p:nvSpPr>
                <p:spPr>
                  <a:xfrm>
                    <a:off x="522720" y="5971320"/>
                    <a:ext cx="717840" cy="637560"/>
                  </a:xfrm>
                  <a:custGeom>
                    <a:avLst/>
                    <a:gdLst/>
                    <a:ahLst/>
                    <a:rect l="l" t="t" r="r" b="b"/>
                    <a:pathLst>
                      <a:path w="1363" h="1020">
                        <a:moveTo>
                          <a:pt x="1030" y="0"/>
                        </a:moveTo>
                        <a:cubicBezTo>
                          <a:pt x="931" y="41"/>
                          <a:pt x="847" y="229"/>
                          <a:pt x="768" y="317"/>
                        </a:cubicBezTo>
                        <a:cubicBezTo>
                          <a:pt x="689" y="405"/>
                          <a:pt x="641" y="450"/>
                          <a:pt x="557" y="528"/>
                        </a:cubicBezTo>
                        <a:cubicBezTo>
                          <a:pt x="473" y="606"/>
                          <a:pt x="360" y="706"/>
                          <a:pt x="267" y="788"/>
                        </a:cubicBezTo>
                        <a:cubicBezTo>
                          <a:pt x="174" y="870"/>
                          <a:pt x="118" y="922"/>
                          <a:pt x="0" y="1020"/>
                        </a:cubicBezTo>
                        <a:cubicBezTo>
                          <a:pt x="111" y="1018"/>
                          <a:pt x="195" y="1018"/>
                          <a:pt x="267" y="1016"/>
                        </a:cubicBezTo>
                        <a:cubicBezTo>
                          <a:pt x="379" y="932"/>
                          <a:pt x="586" y="755"/>
                          <a:pt x="694" y="665"/>
                        </a:cubicBezTo>
                        <a:cubicBezTo>
                          <a:pt x="802" y="575"/>
                          <a:pt x="853" y="531"/>
                          <a:pt x="917" y="476"/>
                        </a:cubicBezTo>
                        <a:cubicBezTo>
                          <a:pt x="981" y="421"/>
                          <a:pt x="1027" y="381"/>
                          <a:pt x="1078" y="334"/>
                        </a:cubicBezTo>
                        <a:cubicBezTo>
                          <a:pt x="1129" y="287"/>
                          <a:pt x="1176" y="241"/>
                          <a:pt x="1224" y="197"/>
                        </a:cubicBezTo>
                        <a:lnTo>
                          <a:pt x="1363" y="70"/>
                        </a:lnTo>
                        <a:lnTo>
                          <a:pt x="1030" y="0"/>
                        </a:lnTo>
                        <a:close/>
                      </a:path>
                    </a:pathLst>
                  </a:custGeom>
                  <a:solidFill>
                    <a:srgbClr val="b2b2b2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71" name=""/>
                  <p:cNvSpPr/>
                  <p:nvPr/>
                </p:nvSpPr>
                <p:spPr>
                  <a:xfrm>
                    <a:off x="1308240" y="5126040"/>
                    <a:ext cx="1058040" cy="71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009" h="1148">
                        <a:moveTo>
                          <a:pt x="38" y="811"/>
                        </a:moveTo>
                        <a:cubicBezTo>
                          <a:pt x="30" y="770"/>
                          <a:pt x="0" y="826"/>
                          <a:pt x="329" y="691"/>
                        </a:cubicBezTo>
                        <a:lnTo>
                          <a:pt x="2009" y="0"/>
                        </a:lnTo>
                        <a:lnTo>
                          <a:pt x="2009" y="742"/>
                        </a:lnTo>
                        <a:lnTo>
                          <a:pt x="941" y="1148"/>
                        </a:lnTo>
                        <a:lnTo>
                          <a:pt x="38" y="1137"/>
                        </a:lnTo>
                        <a:lnTo>
                          <a:pt x="38" y="811"/>
                        </a:lnTo>
                        <a:close/>
                      </a:path>
                    </a:pathLst>
                  </a:custGeom>
                  <a:solidFill>
                    <a:srgbClr val="b2b2b2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72" name=""/>
                  <p:cNvSpPr/>
                  <p:nvPr/>
                </p:nvSpPr>
                <p:spPr>
                  <a:xfrm>
                    <a:off x="1183320" y="4780080"/>
                    <a:ext cx="673200" cy="11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278" h="1787">
                        <a:moveTo>
                          <a:pt x="0" y="1673"/>
                        </a:moveTo>
                        <a:lnTo>
                          <a:pt x="189" y="1341"/>
                        </a:lnTo>
                        <a:cubicBezTo>
                          <a:pt x="283" y="1169"/>
                          <a:pt x="458" y="843"/>
                          <a:pt x="566" y="638"/>
                        </a:cubicBezTo>
                        <a:cubicBezTo>
                          <a:pt x="674" y="433"/>
                          <a:pt x="781" y="213"/>
                          <a:pt x="835" y="107"/>
                        </a:cubicBezTo>
                        <a:lnTo>
                          <a:pt x="892" y="0"/>
                        </a:lnTo>
                        <a:lnTo>
                          <a:pt x="1278" y="2"/>
                        </a:lnTo>
                        <a:lnTo>
                          <a:pt x="1052" y="433"/>
                        </a:lnTo>
                        <a:cubicBezTo>
                          <a:pt x="925" y="674"/>
                          <a:pt x="635" y="1224"/>
                          <a:pt x="515" y="1450"/>
                        </a:cubicBezTo>
                        <a:lnTo>
                          <a:pt x="332" y="1787"/>
                        </a:lnTo>
                        <a:lnTo>
                          <a:pt x="0" y="1673"/>
                        </a:lnTo>
                        <a:close/>
                      </a:path>
                    </a:pathLst>
                  </a:custGeom>
                  <a:solidFill>
                    <a:srgbClr val="b2b2b2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73" name=""/>
                  <p:cNvSpPr/>
                  <p:nvPr/>
                </p:nvSpPr>
                <p:spPr>
                  <a:xfrm>
                    <a:off x="268560" y="5994000"/>
                    <a:ext cx="854640" cy="571680"/>
                  </a:xfrm>
                  <a:custGeom>
                    <a:avLst/>
                    <a:gdLst/>
                    <a:ahLst/>
                    <a:rect l="l" t="t" r="r" b="b"/>
                    <a:pathLst>
                      <a:path w="1623" h="914">
                        <a:moveTo>
                          <a:pt x="1206" y="23"/>
                        </a:moveTo>
                        <a:lnTo>
                          <a:pt x="0" y="680"/>
                        </a:lnTo>
                        <a:lnTo>
                          <a:pt x="0" y="914"/>
                        </a:lnTo>
                        <a:lnTo>
                          <a:pt x="1623" y="0"/>
                        </a:lnTo>
                      </a:path>
                    </a:pathLst>
                  </a:custGeom>
                  <a:solidFill>
                    <a:srgbClr val="b2b2b2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74" name=""/>
                  <p:cNvSpPr/>
                  <p:nvPr/>
                </p:nvSpPr>
                <p:spPr>
                  <a:xfrm>
                    <a:off x="283680" y="4775760"/>
                    <a:ext cx="2191320" cy="1830960"/>
                  </a:xfrm>
                  <a:custGeom>
                    <a:avLst/>
                    <a:gdLst/>
                    <a:ahLst/>
                    <a:rect l="l" t="t" r="r" b="b"/>
                    <a:pathLst>
                      <a:path w="4160" h="2928">
                        <a:moveTo>
                          <a:pt x="0" y="1645"/>
                        </a:moveTo>
                        <a:lnTo>
                          <a:pt x="1611" y="1645"/>
                        </a:lnTo>
                        <a:lnTo>
                          <a:pt x="1617" y="1451"/>
                        </a:lnTo>
                        <a:cubicBezTo>
                          <a:pt x="1600" y="1366"/>
                          <a:pt x="1537" y="1273"/>
                          <a:pt x="1508" y="1137"/>
                        </a:cubicBezTo>
                        <a:cubicBezTo>
                          <a:pt x="1479" y="1001"/>
                          <a:pt x="1466" y="783"/>
                          <a:pt x="1440" y="634"/>
                        </a:cubicBezTo>
                        <a:cubicBezTo>
                          <a:pt x="1414" y="485"/>
                          <a:pt x="1388" y="345"/>
                          <a:pt x="1354" y="240"/>
                        </a:cubicBezTo>
                        <a:lnTo>
                          <a:pt x="1234" y="2"/>
                        </a:lnTo>
                        <a:lnTo>
                          <a:pt x="1472" y="0"/>
                        </a:lnTo>
                        <a:cubicBezTo>
                          <a:pt x="1534" y="62"/>
                          <a:pt x="1570" y="242"/>
                          <a:pt x="1605" y="377"/>
                        </a:cubicBezTo>
                        <a:cubicBezTo>
                          <a:pt x="1640" y="512"/>
                          <a:pt x="1657" y="692"/>
                          <a:pt x="1680" y="811"/>
                        </a:cubicBezTo>
                        <a:cubicBezTo>
                          <a:pt x="1703" y="930"/>
                          <a:pt x="1712" y="982"/>
                          <a:pt x="1743" y="1091"/>
                        </a:cubicBezTo>
                        <a:cubicBezTo>
                          <a:pt x="1774" y="1200"/>
                          <a:pt x="1829" y="1376"/>
                          <a:pt x="1868" y="1468"/>
                        </a:cubicBezTo>
                        <a:lnTo>
                          <a:pt x="1977" y="1645"/>
                        </a:lnTo>
                        <a:lnTo>
                          <a:pt x="2926" y="1651"/>
                        </a:lnTo>
                        <a:lnTo>
                          <a:pt x="4160" y="1657"/>
                        </a:lnTo>
                        <a:lnTo>
                          <a:pt x="4160" y="2000"/>
                        </a:lnTo>
                        <a:lnTo>
                          <a:pt x="1926" y="2000"/>
                        </a:lnTo>
                        <a:lnTo>
                          <a:pt x="1914" y="2422"/>
                        </a:lnTo>
                        <a:lnTo>
                          <a:pt x="1913" y="2928"/>
                        </a:lnTo>
                        <a:lnTo>
                          <a:pt x="1611" y="2925"/>
                        </a:lnTo>
                        <a:lnTo>
                          <a:pt x="1605" y="2005"/>
                        </a:lnTo>
                        <a:lnTo>
                          <a:pt x="0" y="2005"/>
                        </a:lnTo>
                        <a:lnTo>
                          <a:pt x="0" y="1645"/>
                        </a:lnTo>
                        <a:close/>
                      </a:path>
                    </a:pathLst>
                  </a:custGeom>
                  <a:solidFill>
                    <a:srgbClr val="ffff66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2975" name=""/>
                <p:cNvSpPr/>
                <p:nvPr/>
              </p:nvSpPr>
              <p:spPr>
                <a:xfrm>
                  <a:off x="250560" y="4778640"/>
                  <a:ext cx="0" cy="18615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76" name=""/>
                <p:cNvSpPr/>
                <p:nvPr/>
              </p:nvSpPr>
              <p:spPr>
                <a:xfrm>
                  <a:off x="247320" y="6633720"/>
                  <a:ext cx="22575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977" name=""/>
              <p:cNvSpPr/>
              <p:nvPr/>
            </p:nvSpPr>
            <p:spPr>
              <a:xfrm>
                <a:off x="0" y="4673520"/>
                <a:ext cx="851040" cy="38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1800" spc="-1" strike="noStrike">
                    <a:solidFill>
                      <a:srgbClr val="000000"/>
                    </a:solidFill>
                    <a:latin typeface="Times New Roman"/>
                  </a:rPr>
                  <a:t>P</a:t>
                </a:r>
                <a:r>
                  <a:rPr b="1" lang="cs-CZ" sz="1400" spc="-1" strike="noStrike">
                    <a:solidFill>
                      <a:srgbClr val="000000"/>
                    </a:solidFill>
                    <a:latin typeface="Times New Roman"/>
                  </a:rPr>
                  <a:t>CO</a:t>
                </a:r>
                <a:r>
                  <a:rPr b="1" lang="cs-CZ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78" name=""/>
              <p:cNvSpPr/>
              <p:nvPr/>
            </p:nvSpPr>
            <p:spPr>
              <a:xfrm>
                <a:off x="2139840" y="6335640"/>
                <a:ext cx="433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1400" spc="-1" strike="noStrike">
                    <a:solidFill>
                      <a:srgbClr val="000000"/>
                    </a:solidFill>
                    <a:latin typeface="Times New Roman"/>
                  </a:rPr>
                  <a:t>B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979" name=""/>
            <p:cNvSpPr/>
            <p:nvPr/>
          </p:nvSpPr>
          <p:spPr>
            <a:xfrm>
              <a:off x="1216080" y="5923080"/>
              <a:ext cx="0" cy="534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0" name=""/>
            <p:cNvSpPr/>
            <p:nvPr/>
          </p:nvSpPr>
          <p:spPr>
            <a:xfrm flipH="1">
              <a:off x="753840" y="6450120"/>
              <a:ext cx="463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9" name=""/>
          <p:cNvGrpSpPr/>
          <p:nvPr/>
        </p:nvGrpSpPr>
        <p:grpSpPr>
          <a:xfrm>
            <a:off x="-358920" y="-70560"/>
            <a:ext cx="9866160" cy="7246080"/>
            <a:chOff x="-358920" y="-70560"/>
            <a:chExt cx="9866160" cy="7246080"/>
          </a:xfrm>
        </p:grpSpPr>
        <p:grpSp>
          <p:nvGrpSpPr>
            <p:cNvPr id="1430" name=""/>
            <p:cNvGrpSpPr/>
            <p:nvPr/>
          </p:nvGrpSpPr>
          <p:grpSpPr>
            <a:xfrm>
              <a:off x="-119160" y="2797200"/>
              <a:ext cx="9534240" cy="3701880"/>
              <a:chOff x="-119160" y="2797200"/>
              <a:chExt cx="9534240" cy="3701880"/>
            </a:xfrm>
          </p:grpSpPr>
          <p:grpSp>
            <p:nvGrpSpPr>
              <p:cNvPr id="1431" name=""/>
              <p:cNvGrpSpPr/>
              <p:nvPr/>
            </p:nvGrpSpPr>
            <p:grpSpPr>
              <a:xfrm>
                <a:off x="-119160" y="2797200"/>
                <a:ext cx="9524520" cy="1690560"/>
                <a:chOff x="-119160" y="2797200"/>
                <a:chExt cx="9524520" cy="1690560"/>
              </a:xfrm>
            </p:grpSpPr>
            <p:sp>
              <p:nvSpPr>
                <p:cNvPr id="1432" name=""/>
                <p:cNvSpPr/>
                <p:nvPr/>
              </p:nvSpPr>
              <p:spPr>
                <a:xfrm flipH="1">
                  <a:off x="-119520" y="3095640"/>
                  <a:ext cx="4021560" cy="1392120"/>
                </a:xfrm>
                <a:custGeom>
                  <a:avLst/>
                  <a:gdLst/>
                  <a:ahLst/>
                  <a:rect l="l" t="t" r="r" b="b"/>
                  <a:pathLst>
                    <a:path w="2486" h="877">
                      <a:moveTo>
                        <a:pt x="216" y="507"/>
                      </a:moveTo>
                      <a:cubicBezTo>
                        <a:pt x="623" y="421"/>
                        <a:pt x="2094" y="41"/>
                        <a:pt x="2470" y="0"/>
                      </a:cubicBezTo>
                      <a:cubicBezTo>
                        <a:pt x="2486" y="207"/>
                        <a:pt x="2449" y="123"/>
                        <a:pt x="2475" y="261"/>
                      </a:cubicBezTo>
                      <a:cubicBezTo>
                        <a:pt x="2241" y="287"/>
                        <a:pt x="1526" y="407"/>
                        <a:pt x="1254" y="457"/>
                      </a:cubicBezTo>
                      <a:cubicBezTo>
                        <a:pt x="982" y="507"/>
                        <a:pt x="936" y="500"/>
                        <a:pt x="845" y="563"/>
                      </a:cubicBezTo>
                      <a:cubicBezTo>
                        <a:pt x="749" y="584"/>
                        <a:pt x="775" y="796"/>
                        <a:pt x="707" y="834"/>
                      </a:cubicBezTo>
                      <a:cubicBezTo>
                        <a:pt x="644" y="877"/>
                        <a:pt x="531" y="845"/>
                        <a:pt x="468" y="818"/>
                      </a:cubicBezTo>
                      <a:cubicBezTo>
                        <a:pt x="369" y="761"/>
                        <a:pt x="375" y="719"/>
                        <a:pt x="330" y="675"/>
                      </a:cubicBezTo>
                      <a:cubicBezTo>
                        <a:pt x="285" y="631"/>
                        <a:pt x="249" y="577"/>
                        <a:pt x="200" y="555"/>
                      </a:cubicBezTo>
                      <a:cubicBezTo>
                        <a:pt x="151" y="533"/>
                        <a:pt x="63" y="550"/>
                        <a:pt x="35" y="544"/>
                      </a:cubicBezTo>
                      <a:cubicBezTo>
                        <a:pt x="7" y="538"/>
                        <a:pt x="0" y="524"/>
                        <a:pt x="30" y="518"/>
                      </a:cubicBezTo>
                      <a:cubicBezTo>
                        <a:pt x="60" y="512"/>
                        <a:pt x="177" y="509"/>
                        <a:pt x="216" y="507"/>
                      </a:cubicBezTo>
                      <a:close/>
                    </a:path>
                  </a:pathLst>
                </a:custGeom>
                <a:solidFill>
                  <a:srgbClr val="ff33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3" name=""/>
                <p:cNvSpPr/>
                <p:nvPr/>
              </p:nvSpPr>
              <p:spPr>
                <a:xfrm flipH="1">
                  <a:off x="3941280" y="3894120"/>
                  <a:ext cx="349200" cy="60120"/>
                </a:xfrm>
                <a:custGeom>
                  <a:avLst/>
                  <a:gdLst/>
                  <a:ahLst/>
                  <a:rect l="l" t="t" r="r" b="b"/>
                  <a:pathLst>
                    <a:path w="216" h="38">
                      <a:moveTo>
                        <a:pt x="195" y="3"/>
                      </a:moveTo>
                      <a:cubicBezTo>
                        <a:pt x="216" y="9"/>
                        <a:pt x="169" y="31"/>
                        <a:pt x="148" y="35"/>
                      </a:cubicBezTo>
                      <a:cubicBezTo>
                        <a:pt x="123" y="38"/>
                        <a:pt x="89" y="35"/>
                        <a:pt x="68" y="29"/>
                      </a:cubicBezTo>
                      <a:cubicBezTo>
                        <a:pt x="47" y="23"/>
                        <a:pt x="0" y="4"/>
                        <a:pt x="21" y="0"/>
                      </a:cubicBezTo>
                      <a:lnTo>
                        <a:pt x="195" y="3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4" name=""/>
                <p:cNvSpPr/>
                <p:nvPr/>
              </p:nvSpPr>
              <p:spPr>
                <a:xfrm flipH="1">
                  <a:off x="4329000" y="3894120"/>
                  <a:ext cx="349560" cy="60120"/>
                </a:xfrm>
                <a:custGeom>
                  <a:avLst/>
                  <a:gdLst/>
                  <a:ahLst/>
                  <a:rect l="l" t="t" r="r" b="b"/>
                  <a:pathLst>
                    <a:path w="216" h="38">
                      <a:moveTo>
                        <a:pt x="195" y="3"/>
                      </a:moveTo>
                      <a:cubicBezTo>
                        <a:pt x="216" y="9"/>
                        <a:pt x="169" y="31"/>
                        <a:pt x="148" y="35"/>
                      </a:cubicBezTo>
                      <a:cubicBezTo>
                        <a:pt x="123" y="38"/>
                        <a:pt x="89" y="35"/>
                        <a:pt x="68" y="29"/>
                      </a:cubicBezTo>
                      <a:cubicBezTo>
                        <a:pt x="47" y="23"/>
                        <a:pt x="0" y="4"/>
                        <a:pt x="21" y="0"/>
                      </a:cubicBezTo>
                      <a:lnTo>
                        <a:pt x="195" y="3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5" name=""/>
                <p:cNvSpPr/>
                <p:nvPr/>
              </p:nvSpPr>
              <p:spPr>
                <a:xfrm flipH="1">
                  <a:off x="4717080" y="3894120"/>
                  <a:ext cx="349560" cy="60120"/>
                </a:xfrm>
                <a:custGeom>
                  <a:avLst/>
                  <a:gdLst/>
                  <a:ahLst/>
                  <a:rect l="l" t="t" r="r" b="b"/>
                  <a:pathLst>
                    <a:path w="216" h="38">
                      <a:moveTo>
                        <a:pt x="195" y="3"/>
                      </a:moveTo>
                      <a:cubicBezTo>
                        <a:pt x="216" y="9"/>
                        <a:pt x="169" y="31"/>
                        <a:pt x="148" y="35"/>
                      </a:cubicBezTo>
                      <a:cubicBezTo>
                        <a:pt x="123" y="38"/>
                        <a:pt x="89" y="35"/>
                        <a:pt x="68" y="29"/>
                      </a:cubicBezTo>
                      <a:cubicBezTo>
                        <a:pt x="47" y="23"/>
                        <a:pt x="0" y="4"/>
                        <a:pt x="21" y="0"/>
                      </a:cubicBezTo>
                      <a:lnTo>
                        <a:pt x="195" y="3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6" name=""/>
                <p:cNvSpPr/>
                <p:nvPr/>
              </p:nvSpPr>
              <p:spPr>
                <a:xfrm flipH="1">
                  <a:off x="5105880" y="3894120"/>
                  <a:ext cx="349200" cy="60120"/>
                </a:xfrm>
                <a:custGeom>
                  <a:avLst/>
                  <a:gdLst/>
                  <a:ahLst/>
                  <a:rect l="l" t="t" r="r" b="b"/>
                  <a:pathLst>
                    <a:path w="216" h="38">
                      <a:moveTo>
                        <a:pt x="195" y="3"/>
                      </a:moveTo>
                      <a:cubicBezTo>
                        <a:pt x="216" y="9"/>
                        <a:pt x="169" y="31"/>
                        <a:pt x="148" y="35"/>
                      </a:cubicBezTo>
                      <a:cubicBezTo>
                        <a:pt x="123" y="38"/>
                        <a:pt x="89" y="35"/>
                        <a:pt x="68" y="29"/>
                      </a:cubicBezTo>
                      <a:cubicBezTo>
                        <a:pt x="47" y="23"/>
                        <a:pt x="0" y="4"/>
                        <a:pt x="21" y="0"/>
                      </a:cubicBezTo>
                      <a:lnTo>
                        <a:pt x="195" y="3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7" name=""/>
                <p:cNvSpPr/>
                <p:nvPr/>
              </p:nvSpPr>
              <p:spPr>
                <a:xfrm flipH="1">
                  <a:off x="5493600" y="3894120"/>
                  <a:ext cx="349560" cy="60120"/>
                </a:xfrm>
                <a:custGeom>
                  <a:avLst/>
                  <a:gdLst/>
                  <a:ahLst/>
                  <a:rect l="l" t="t" r="r" b="b"/>
                  <a:pathLst>
                    <a:path w="216" h="38">
                      <a:moveTo>
                        <a:pt x="195" y="3"/>
                      </a:moveTo>
                      <a:cubicBezTo>
                        <a:pt x="216" y="9"/>
                        <a:pt x="169" y="31"/>
                        <a:pt x="148" y="35"/>
                      </a:cubicBezTo>
                      <a:cubicBezTo>
                        <a:pt x="123" y="38"/>
                        <a:pt x="89" y="35"/>
                        <a:pt x="68" y="29"/>
                      </a:cubicBezTo>
                      <a:cubicBezTo>
                        <a:pt x="47" y="23"/>
                        <a:pt x="0" y="4"/>
                        <a:pt x="21" y="0"/>
                      </a:cubicBezTo>
                      <a:lnTo>
                        <a:pt x="195" y="3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8" name=""/>
                <p:cNvSpPr/>
                <p:nvPr/>
              </p:nvSpPr>
              <p:spPr>
                <a:xfrm flipH="1">
                  <a:off x="5881680" y="3894120"/>
                  <a:ext cx="349560" cy="60120"/>
                </a:xfrm>
                <a:custGeom>
                  <a:avLst/>
                  <a:gdLst/>
                  <a:ahLst/>
                  <a:rect l="l" t="t" r="r" b="b"/>
                  <a:pathLst>
                    <a:path w="216" h="38">
                      <a:moveTo>
                        <a:pt x="195" y="3"/>
                      </a:moveTo>
                      <a:cubicBezTo>
                        <a:pt x="216" y="9"/>
                        <a:pt x="169" y="31"/>
                        <a:pt x="148" y="35"/>
                      </a:cubicBezTo>
                      <a:cubicBezTo>
                        <a:pt x="123" y="38"/>
                        <a:pt x="89" y="35"/>
                        <a:pt x="68" y="29"/>
                      </a:cubicBezTo>
                      <a:cubicBezTo>
                        <a:pt x="47" y="23"/>
                        <a:pt x="0" y="4"/>
                        <a:pt x="21" y="0"/>
                      </a:cubicBezTo>
                      <a:lnTo>
                        <a:pt x="195" y="3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9" name=""/>
                <p:cNvSpPr/>
                <p:nvPr/>
              </p:nvSpPr>
              <p:spPr>
                <a:xfrm flipH="1">
                  <a:off x="6270480" y="3894120"/>
                  <a:ext cx="349200" cy="60120"/>
                </a:xfrm>
                <a:custGeom>
                  <a:avLst/>
                  <a:gdLst/>
                  <a:ahLst/>
                  <a:rect l="l" t="t" r="r" b="b"/>
                  <a:pathLst>
                    <a:path w="216" h="38">
                      <a:moveTo>
                        <a:pt x="195" y="3"/>
                      </a:moveTo>
                      <a:cubicBezTo>
                        <a:pt x="216" y="9"/>
                        <a:pt x="169" y="31"/>
                        <a:pt x="148" y="35"/>
                      </a:cubicBezTo>
                      <a:cubicBezTo>
                        <a:pt x="123" y="38"/>
                        <a:pt x="89" y="35"/>
                        <a:pt x="68" y="29"/>
                      </a:cubicBezTo>
                      <a:cubicBezTo>
                        <a:pt x="47" y="23"/>
                        <a:pt x="0" y="4"/>
                        <a:pt x="21" y="0"/>
                      </a:cubicBezTo>
                      <a:lnTo>
                        <a:pt x="195" y="3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0" name=""/>
                <p:cNvSpPr/>
                <p:nvPr/>
              </p:nvSpPr>
              <p:spPr>
                <a:xfrm flipH="1">
                  <a:off x="6658200" y="3894120"/>
                  <a:ext cx="349560" cy="60120"/>
                </a:xfrm>
                <a:custGeom>
                  <a:avLst/>
                  <a:gdLst/>
                  <a:ahLst/>
                  <a:rect l="l" t="t" r="r" b="b"/>
                  <a:pathLst>
                    <a:path w="216" h="38">
                      <a:moveTo>
                        <a:pt x="195" y="3"/>
                      </a:moveTo>
                      <a:cubicBezTo>
                        <a:pt x="216" y="9"/>
                        <a:pt x="169" y="31"/>
                        <a:pt x="148" y="35"/>
                      </a:cubicBezTo>
                      <a:cubicBezTo>
                        <a:pt x="123" y="38"/>
                        <a:pt x="89" y="35"/>
                        <a:pt x="68" y="29"/>
                      </a:cubicBezTo>
                      <a:cubicBezTo>
                        <a:pt x="47" y="23"/>
                        <a:pt x="0" y="4"/>
                        <a:pt x="21" y="0"/>
                      </a:cubicBezTo>
                      <a:lnTo>
                        <a:pt x="195" y="3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1" name=""/>
                <p:cNvSpPr/>
                <p:nvPr/>
              </p:nvSpPr>
              <p:spPr>
                <a:xfrm flipH="1">
                  <a:off x="7025760" y="2797200"/>
                  <a:ext cx="2379600" cy="1130040"/>
                </a:xfrm>
                <a:custGeom>
                  <a:avLst/>
                  <a:gdLst/>
                  <a:ahLst/>
                  <a:rect l="l" t="t" r="r" b="b"/>
                  <a:pathLst>
                    <a:path w="1471" h="712">
                      <a:moveTo>
                        <a:pt x="1337" y="647"/>
                      </a:moveTo>
                      <a:cubicBezTo>
                        <a:pt x="1239" y="603"/>
                        <a:pt x="1013" y="461"/>
                        <a:pt x="871" y="396"/>
                      </a:cubicBezTo>
                      <a:cubicBezTo>
                        <a:pt x="729" y="331"/>
                        <a:pt x="596" y="304"/>
                        <a:pt x="483" y="257"/>
                      </a:cubicBezTo>
                      <a:cubicBezTo>
                        <a:pt x="370" y="210"/>
                        <a:pt x="262" y="150"/>
                        <a:pt x="191" y="114"/>
                      </a:cubicBezTo>
                      <a:cubicBezTo>
                        <a:pt x="120" y="78"/>
                        <a:pt x="90" y="0"/>
                        <a:pt x="58" y="40"/>
                      </a:cubicBezTo>
                      <a:cubicBezTo>
                        <a:pt x="47" y="247"/>
                        <a:pt x="17" y="215"/>
                        <a:pt x="0" y="353"/>
                      </a:cubicBezTo>
                      <a:cubicBezTo>
                        <a:pt x="157" y="379"/>
                        <a:pt x="319" y="428"/>
                        <a:pt x="488" y="475"/>
                      </a:cubicBezTo>
                      <a:cubicBezTo>
                        <a:pt x="657" y="522"/>
                        <a:pt x="871" y="597"/>
                        <a:pt x="1014" y="634"/>
                      </a:cubicBezTo>
                      <a:cubicBezTo>
                        <a:pt x="1157" y="671"/>
                        <a:pt x="1275" y="683"/>
                        <a:pt x="1348" y="695"/>
                      </a:cubicBezTo>
                      <a:cubicBezTo>
                        <a:pt x="1421" y="707"/>
                        <a:pt x="1439" y="712"/>
                        <a:pt x="1455" y="709"/>
                      </a:cubicBezTo>
                      <a:cubicBezTo>
                        <a:pt x="1471" y="706"/>
                        <a:pt x="1464" y="687"/>
                        <a:pt x="1444" y="677"/>
                      </a:cubicBezTo>
                      <a:cubicBezTo>
                        <a:pt x="1424" y="667"/>
                        <a:pt x="1359" y="653"/>
                        <a:pt x="1337" y="647"/>
                      </a:cubicBezTo>
                      <a:close/>
                    </a:path>
                  </a:pathLst>
                </a:custGeom>
                <a:solidFill>
                  <a:srgbClr val="ff33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2" name=""/>
              <p:cNvGrpSpPr/>
              <p:nvPr/>
            </p:nvGrpSpPr>
            <p:grpSpPr>
              <a:xfrm>
                <a:off x="-109080" y="4808520"/>
                <a:ext cx="9524160" cy="1690560"/>
                <a:chOff x="-109080" y="4808520"/>
                <a:chExt cx="9524160" cy="1690560"/>
              </a:xfrm>
            </p:grpSpPr>
            <p:sp>
              <p:nvSpPr>
                <p:cNvPr id="1443" name=""/>
                <p:cNvSpPr/>
                <p:nvPr/>
              </p:nvSpPr>
              <p:spPr>
                <a:xfrm flipH="1" flipV="1">
                  <a:off x="-109080" y="4808160"/>
                  <a:ext cx="4021200" cy="1392120"/>
                </a:xfrm>
                <a:custGeom>
                  <a:avLst/>
                  <a:gdLst/>
                  <a:ahLst/>
                  <a:rect l="l" t="t" r="r" b="b"/>
                  <a:pathLst>
                    <a:path w="2486" h="877">
                      <a:moveTo>
                        <a:pt x="216" y="507"/>
                      </a:moveTo>
                      <a:cubicBezTo>
                        <a:pt x="623" y="421"/>
                        <a:pt x="2094" y="41"/>
                        <a:pt x="2470" y="0"/>
                      </a:cubicBezTo>
                      <a:cubicBezTo>
                        <a:pt x="2486" y="207"/>
                        <a:pt x="2449" y="123"/>
                        <a:pt x="2475" y="261"/>
                      </a:cubicBezTo>
                      <a:cubicBezTo>
                        <a:pt x="2241" y="287"/>
                        <a:pt x="1526" y="407"/>
                        <a:pt x="1254" y="457"/>
                      </a:cubicBezTo>
                      <a:cubicBezTo>
                        <a:pt x="982" y="507"/>
                        <a:pt x="936" y="500"/>
                        <a:pt x="845" y="563"/>
                      </a:cubicBezTo>
                      <a:cubicBezTo>
                        <a:pt x="749" y="584"/>
                        <a:pt x="775" y="796"/>
                        <a:pt x="707" y="834"/>
                      </a:cubicBezTo>
                      <a:cubicBezTo>
                        <a:pt x="644" y="877"/>
                        <a:pt x="531" y="845"/>
                        <a:pt x="468" y="818"/>
                      </a:cubicBezTo>
                      <a:cubicBezTo>
                        <a:pt x="369" y="761"/>
                        <a:pt x="375" y="719"/>
                        <a:pt x="330" y="675"/>
                      </a:cubicBezTo>
                      <a:cubicBezTo>
                        <a:pt x="285" y="631"/>
                        <a:pt x="249" y="577"/>
                        <a:pt x="200" y="555"/>
                      </a:cubicBezTo>
                      <a:cubicBezTo>
                        <a:pt x="151" y="533"/>
                        <a:pt x="63" y="550"/>
                        <a:pt x="35" y="544"/>
                      </a:cubicBezTo>
                      <a:cubicBezTo>
                        <a:pt x="7" y="538"/>
                        <a:pt x="0" y="524"/>
                        <a:pt x="30" y="518"/>
                      </a:cubicBezTo>
                      <a:cubicBezTo>
                        <a:pt x="60" y="512"/>
                        <a:pt x="177" y="509"/>
                        <a:pt x="216" y="507"/>
                      </a:cubicBezTo>
                      <a:close/>
                    </a:path>
                  </a:pathLst>
                </a:custGeom>
                <a:solidFill>
                  <a:srgbClr val="ff33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4" name=""/>
                <p:cNvSpPr/>
                <p:nvPr/>
              </p:nvSpPr>
              <p:spPr>
                <a:xfrm flipH="1" flipV="1">
                  <a:off x="3951000" y="5341680"/>
                  <a:ext cx="349200" cy="60120"/>
                </a:xfrm>
                <a:custGeom>
                  <a:avLst/>
                  <a:gdLst/>
                  <a:ahLst/>
                  <a:rect l="l" t="t" r="r" b="b"/>
                  <a:pathLst>
                    <a:path w="216" h="38">
                      <a:moveTo>
                        <a:pt x="195" y="3"/>
                      </a:moveTo>
                      <a:cubicBezTo>
                        <a:pt x="216" y="9"/>
                        <a:pt x="169" y="31"/>
                        <a:pt x="148" y="35"/>
                      </a:cubicBezTo>
                      <a:cubicBezTo>
                        <a:pt x="123" y="38"/>
                        <a:pt x="89" y="35"/>
                        <a:pt x="68" y="29"/>
                      </a:cubicBezTo>
                      <a:cubicBezTo>
                        <a:pt x="47" y="23"/>
                        <a:pt x="0" y="4"/>
                        <a:pt x="21" y="0"/>
                      </a:cubicBezTo>
                      <a:lnTo>
                        <a:pt x="195" y="3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5" name=""/>
                <p:cNvSpPr/>
                <p:nvPr/>
              </p:nvSpPr>
              <p:spPr>
                <a:xfrm flipH="1" flipV="1">
                  <a:off x="4338720" y="5341680"/>
                  <a:ext cx="349560" cy="60120"/>
                </a:xfrm>
                <a:custGeom>
                  <a:avLst/>
                  <a:gdLst/>
                  <a:ahLst/>
                  <a:rect l="l" t="t" r="r" b="b"/>
                  <a:pathLst>
                    <a:path w="216" h="38">
                      <a:moveTo>
                        <a:pt x="195" y="3"/>
                      </a:moveTo>
                      <a:cubicBezTo>
                        <a:pt x="216" y="9"/>
                        <a:pt x="169" y="31"/>
                        <a:pt x="148" y="35"/>
                      </a:cubicBezTo>
                      <a:cubicBezTo>
                        <a:pt x="123" y="38"/>
                        <a:pt x="89" y="35"/>
                        <a:pt x="68" y="29"/>
                      </a:cubicBezTo>
                      <a:cubicBezTo>
                        <a:pt x="47" y="23"/>
                        <a:pt x="0" y="4"/>
                        <a:pt x="21" y="0"/>
                      </a:cubicBezTo>
                      <a:lnTo>
                        <a:pt x="195" y="3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6" name=""/>
                <p:cNvSpPr/>
                <p:nvPr/>
              </p:nvSpPr>
              <p:spPr>
                <a:xfrm flipH="1" flipV="1">
                  <a:off x="4726800" y="5341680"/>
                  <a:ext cx="349560" cy="60120"/>
                </a:xfrm>
                <a:custGeom>
                  <a:avLst/>
                  <a:gdLst/>
                  <a:ahLst/>
                  <a:rect l="l" t="t" r="r" b="b"/>
                  <a:pathLst>
                    <a:path w="216" h="38">
                      <a:moveTo>
                        <a:pt x="195" y="3"/>
                      </a:moveTo>
                      <a:cubicBezTo>
                        <a:pt x="216" y="9"/>
                        <a:pt x="169" y="31"/>
                        <a:pt x="148" y="35"/>
                      </a:cubicBezTo>
                      <a:cubicBezTo>
                        <a:pt x="123" y="38"/>
                        <a:pt x="89" y="35"/>
                        <a:pt x="68" y="29"/>
                      </a:cubicBezTo>
                      <a:cubicBezTo>
                        <a:pt x="47" y="23"/>
                        <a:pt x="0" y="4"/>
                        <a:pt x="21" y="0"/>
                      </a:cubicBezTo>
                      <a:lnTo>
                        <a:pt x="195" y="3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7" name=""/>
                <p:cNvSpPr/>
                <p:nvPr/>
              </p:nvSpPr>
              <p:spPr>
                <a:xfrm flipH="1" flipV="1">
                  <a:off x="5115600" y="5341680"/>
                  <a:ext cx="349200" cy="60120"/>
                </a:xfrm>
                <a:custGeom>
                  <a:avLst/>
                  <a:gdLst/>
                  <a:ahLst/>
                  <a:rect l="l" t="t" r="r" b="b"/>
                  <a:pathLst>
                    <a:path w="216" h="38">
                      <a:moveTo>
                        <a:pt x="195" y="3"/>
                      </a:moveTo>
                      <a:cubicBezTo>
                        <a:pt x="216" y="9"/>
                        <a:pt x="169" y="31"/>
                        <a:pt x="148" y="35"/>
                      </a:cubicBezTo>
                      <a:cubicBezTo>
                        <a:pt x="123" y="38"/>
                        <a:pt x="89" y="35"/>
                        <a:pt x="68" y="29"/>
                      </a:cubicBezTo>
                      <a:cubicBezTo>
                        <a:pt x="47" y="23"/>
                        <a:pt x="0" y="4"/>
                        <a:pt x="21" y="0"/>
                      </a:cubicBezTo>
                      <a:lnTo>
                        <a:pt x="195" y="3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8" name=""/>
                <p:cNvSpPr/>
                <p:nvPr/>
              </p:nvSpPr>
              <p:spPr>
                <a:xfrm flipH="1" flipV="1">
                  <a:off x="5503680" y="5341680"/>
                  <a:ext cx="349560" cy="60120"/>
                </a:xfrm>
                <a:custGeom>
                  <a:avLst/>
                  <a:gdLst/>
                  <a:ahLst/>
                  <a:rect l="l" t="t" r="r" b="b"/>
                  <a:pathLst>
                    <a:path w="216" h="38">
                      <a:moveTo>
                        <a:pt x="195" y="3"/>
                      </a:moveTo>
                      <a:cubicBezTo>
                        <a:pt x="216" y="9"/>
                        <a:pt x="169" y="31"/>
                        <a:pt x="148" y="35"/>
                      </a:cubicBezTo>
                      <a:cubicBezTo>
                        <a:pt x="123" y="38"/>
                        <a:pt x="89" y="35"/>
                        <a:pt x="68" y="29"/>
                      </a:cubicBezTo>
                      <a:cubicBezTo>
                        <a:pt x="47" y="23"/>
                        <a:pt x="0" y="4"/>
                        <a:pt x="21" y="0"/>
                      </a:cubicBezTo>
                      <a:lnTo>
                        <a:pt x="195" y="3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9" name=""/>
                <p:cNvSpPr/>
                <p:nvPr/>
              </p:nvSpPr>
              <p:spPr>
                <a:xfrm flipH="1" flipV="1">
                  <a:off x="5891760" y="5341680"/>
                  <a:ext cx="349560" cy="60120"/>
                </a:xfrm>
                <a:custGeom>
                  <a:avLst/>
                  <a:gdLst/>
                  <a:ahLst/>
                  <a:rect l="l" t="t" r="r" b="b"/>
                  <a:pathLst>
                    <a:path w="216" h="38">
                      <a:moveTo>
                        <a:pt x="195" y="3"/>
                      </a:moveTo>
                      <a:cubicBezTo>
                        <a:pt x="216" y="9"/>
                        <a:pt x="169" y="31"/>
                        <a:pt x="148" y="35"/>
                      </a:cubicBezTo>
                      <a:cubicBezTo>
                        <a:pt x="123" y="38"/>
                        <a:pt x="89" y="35"/>
                        <a:pt x="68" y="29"/>
                      </a:cubicBezTo>
                      <a:cubicBezTo>
                        <a:pt x="47" y="23"/>
                        <a:pt x="0" y="4"/>
                        <a:pt x="21" y="0"/>
                      </a:cubicBezTo>
                      <a:lnTo>
                        <a:pt x="195" y="3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0" name=""/>
                <p:cNvSpPr/>
                <p:nvPr/>
              </p:nvSpPr>
              <p:spPr>
                <a:xfrm flipH="1" flipV="1">
                  <a:off x="6280560" y="5341680"/>
                  <a:ext cx="349200" cy="60120"/>
                </a:xfrm>
                <a:custGeom>
                  <a:avLst/>
                  <a:gdLst/>
                  <a:ahLst/>
                  <a:rect l="l" t="t" r="r" b="b"/>
                  <a:pathLst>
                    <a:path w="216" h="38">
                      <a:moveTo>
                        <a:pt x="195" y="3"/>
                      </a:moveTo>
                      <a:cubicBezTo>
                        <a:pt x="216" y="9"/>
                        <a:pt x="169" y="31"/>
                        <a:pt x="148" y="35"/>
                      </a:cubicBezTo>
                      <a:cubicBezTo>
                        <a:pt x="123" y="38"/>
                        <a:pt x="89" y="35"/>
                        <a:pt x="68" y="29"/>
                      </a:cubicBezTo>
                      <a:cubicBezTo>
                        <a:pt x="47" y="23"/>
                        <a:pt x="0" y="4"/>
                        <a:pt x="21" y="0"/>
                      </a:cubicBezTo>
                      <a:lnTo>
                        <a:pt x="195" y="3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1" name=""/>
                <p:cNvSpPr/>
                <p:nvPr/>
              </p:nvSpPr>
              <p:spPr>
                <a:xfrm flipH="1" flipV="1">
                  <a:off x="6668280" y="5341680"/>
                  <a:ext cx="349560" cy="60120"/>
                </a:xfrm>
                <a:custGeom>
                  <a:avLst/>
                  <a:gdLst/>
                  <a:ahLst/>
                  <a:rect l="l" t="t" r="r" b="b"/>
                  <a:pathLst>
                    <a:path w="216" h="38">
                      <a:moveTo>
                        <a:pt x="195" y="3"/>
                      </a:moveTo>
                      <a:cubicBezTo>
                        <a:pt x="216" y="9"/>
                        <a:pt x="169" y="31"/>
                        <a:pt x="148" y="35"/>
                      </a:cubicBezTo>
                      <a:cubicBezTo>
                        <a:pt x="123" y="38"/>
                        <a:pt x="89" y="35"/>
                        <a:pt x="68" y="29"/>
                      </a:cubicBezTo>
                      <a:cubicBezTo>
                        <a:pt x="47" y="23"/>
                        <a:pt x="0" y="4"/>
                        <a:pt x="21" y="0"/>
                      </a:cubicBezTo>
                      <a:lnTo>
                        <a:pt x="195" y="3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2" name=""/>
                <p:cNvSpPr/>
                <p:nvPr/>
              </p:nvSpPr>
              <p:spPr>
                <a:xfrm flipH="1" flipV="1">
                  <a:off x="7035480" y="5368680"/>
                  <a:ext cx="2379240" cy="1130040"/>
                </a:xfrm>
                <a:custGeom>
                  <a:avLst/>
                  <a:gdLst/>
                  <a:ahLst/>
                  <a:rect l="l" t="t" r="r" b="b"/>
                  <a:pathLst>
                    <a:path w="1471" h="712">
                      <a:moveTo>
                        <a:pt x="1337" y="647"/>
                      </a:moveTo>
                      <a:cubicBezTo>
                        <a:pt x="1239" y="603"/>
                        <a:pt x="1013" y="461"/>
                        <a:pt x="871" y="396"/>
                      </a:cubicBezTo>
                      <a:cubicBezTo>
                        <a:pt x="729" y="331"/>
                        <a:pt x="596" y="304"/>
                        <a:pt x="483" y="257"/>
                      </a:cubicBezTo>
                      <a:cubicBezTo>
                        <a:pt x="370" y="210"/>
                        <a:pt x="262" y="150"/>
                        <a:pt x="191" y="114"/>
                      </a:cubicBezTo>
                      <a:cubicBezTo>
                        <a:pt x="120" y="78"/>
                        <a:pt x="90" y="0"/>
                        <a:pt x="58" y="40"/>
                      </a:cubicBezTo>
                      <a:cubicBezTo>
                        <a:pt x="47" y="247"/>
                        <a:pt x="17" y="215"/>
                        <a:pt x="0" y="353"/>
                      </a:cubicBezTo>
                      <a:cubicBezTo>
                        <a:pt x="157" y="379"/>
                        <a:pt x="319" y="428"/>
                        <a:pt x="488" y="475"/>
                      </a:cubicBezTo>
                      <a:cubicBezTo>
                        <a:pt x="657" y="522"/>
                        <a:pt x="871" y="597"/>
                        <a:pt x="1014" y="634"/>
                      </a:cubicBezTo>
                      <a:cubicBezTo>
                        <a:pt x="1157" y="671"/>
                        <a:pt x="1275" y="683"/>
                        <a:pt x="1348" y="695"/>
                      </a:cubicBezTo>
                      <a:cubicBezTo>
                        <a:pt x="1421" y="707"/>
                        <a:pt x="1439" y="712"/>
                        <a:pt x="1455" y="709"/>
                      </a:cubicBezTo>
                      <a:cubicBezTo>
                        <a:pt x="1471" y="706"/>
                        <a:pt x="1464" y="687"/>
                        <a:pt x="1444" y="677"/>
                      </a:cubicBezTo>
                      <a:cubicBezTo>
                        <a:pt x="1424" y="667"/>
                        <a:pt x="1359" y="653"/>
                        <a:pt x="1337" y="647"/>
                      </a:cubicBezTo>
                      <a:close/>
                    </a:path>
                  </a:pathLst>
                </a:custGeom>
                <a:solidFill>
                  <a:srgbClr val="ff33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453" name=""/>
            <p:cNvSpPr/>
            <p:nvPr/>
          </p:nvSpPr>
          <p:spPr>
            <a:xfrm flipH="1">
              <a:off x="220320" y="4286160"/>
              <a:ext cx="1200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arteriol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 flipH="1">
              <a:off x="7773480" y="4397400"/>
              <a:ext cx="994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venul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 flipH="1">
              <a:off x="4551840" y="4387680"/>
              <a:ext cx="1165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kapilár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 flipV="1">
              <a:off x="3776760" y="2139480"/>
              <a:ext cx="0" cy="1500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 flipV="1">
              <a:off x="4064040" y="2224080"/>
              <a:ext cx="0" cy="1409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 flipV="1">
              <a:off x="4351320" y="2350800"/>
              <a:ext cx="0" cy="1282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 flipV="1">
              <a:off x="4638600" y="2427120"/>
              <a:ext cx="0" cy="1214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 flipV="1">
              <a:off x="4925880" y="2544840"/>
              <a:ext cx="0" cy="107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 flipV="1">
              <a:off x="5213520" y="2655360"/>
              <a:ext cx="0" cy="96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 flipV="1">
              <a:off x="5500800" y="2747520"/>
              <a:ext cx="0" cy="878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 flipV="1">
              <a:off x="5788080" y="2831760"/>
              <a:ext cx="0" cy="785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 flipV="1">
              <a:off x="6075360" y="2950920"/>
              <a:ext cx="0" cy="69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 flipV="1">
              <a:off x="6362640" y="3085920"/>
              <a:ext cx="0" cy="55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 flipV="1">
              <a:off x="6649920" y="3154320"/>
              <a:ext cx="0" cy="47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7" name=""/>
            <p:cNvSpPr/>
            <p:nvPr/>
          </p:nvSpPr>
          <p:spPr>
            <a:xfrm flipV="1">
              <a:off x="6937200" y="3265200"/>
              <a:ext cx="0" cy="32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8" name=""/>
            <p:cNvSpPr/>
            <p:nvPr/>
          </p:nvSpPr>
          <p:spPr>
            <a:xfrm flipV="1">
              <a:off x="5594400" y="3078000"/>
              <a:ext cx="0" cy="54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9" name=""/>
            <p:cNvSpPr/>
            <p:nvPr/>
          </p:nvSpPr>
          <p:spPr>
            <a:xfrm flipV="1">
              <a:off x="5899320" y="3063960"/>
              <a:ext cx="0" cy="55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 flipV="1">
              <a:off x="6145200" y="3055680"/>
              <a:ext cx="0" cy="592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 flipV="1">
              <a:off x="6443640" y="3068640"/>
              <a:ext cx="0" cy="565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 flipV="1">
              <a:off x="6723000" y="3068640"/>
              <a:ext cx="0" cy="54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 flipV="1">
              <a:off x="7018200" y="3038400"/>
              <a:ext cx="0" cy="566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4" name=""/>
            <p:cNvSpPr/>
            <p:nvPr/>
          </p:nvSpPr>
          <p:spPr>
            <a:xfrm flipV="1">
              <a:off x="5300640" y="3056040"/>
              <a:ext cx="0" cy="58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5" name=""/>
            <p:cNvSpPr/>
            <p:nvPr/>
          </p:nvSpPr>
          <p:spPr>
            <a:xfrm flipV="1">
              <a:off x="4998960" y="3071880"/>
              <a:ext cx="0" cy="54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 flipV="1">
              <a:off x="4722840" y="3071880"/>
              <a:ext cx="0" cy="54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7" name=""/>
            <p:cNvSpPr/>
            <p:nvPr/>
          </p:nvSpPr>
          <p:spPr>
            <a:xfrm flipV="1">
              <a:off x="4421160" y="3087720"/>
              <a:ext cx="0" cy="55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 flipV="1">
              <a:off x="4152960" y="3087360"/>
              <a:ext cx="0" cy="53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 flipV="1">
              <a:off x="3868560" y="3085920"/>
              <a:ext cx="0" cy="53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" name=""/>
            <p:cNvSpPr/>
            <p:nvPr/>
          </p:nvSpPr>
          <p:spPr>
            <a:xfrm flipV="1">
              <a:off x="3524400" y="1606680"/>
              <a:ext cx="0" cy="2039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1" name=""/>
            <p:cNvSpPr/>
            <p:nvPr/>
          </p:nvSpPr>
          <p:spPr>
            <a:xfrm flipV="1">
              <a:off x="3271680" y="1073160"/>
              <a:ext cx="0" cy="257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2" name=""/>
            <p:cNvSpPr/>
            <p:nvPr/>
          </p:nvSpPr>
          <p:spPr>
            <a:xfrm flipV="1">
              <a:off x="3019320" y="539640"/>
              <a:ext cx="0" cy="3106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 flipV="1">
              <a:off x="2766960" y="-360"/>
              <a:ext cx="0" cy="3639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4" name=""/>
            <p:cNvSpPr/>
            <p:nvPr/>
          </p:nvSpPr>
          <p:spPr>
            <a:xfrm flipH="1" flipV="1">
              <a:off x="3774960" y="2131560"/>
              <a:ext cx="3354480" cy="1197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" name=""/>
            <p:cNvSpPr/>
            <p:nvPr/>
          </p:nvSpPr>
          <p:spPr>
            <a:xfrm flipH="1" flipV="1">
              <a:off x="2824200" y="-360"/>
              <a:ext cx="952560" cy="214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6" name=""/>
            <p:cNvSpPr/>
            <p:nvPr/>
          </p:nvSpPr>
          <p:spPr>
            <a:xfrm flipV="1">
              <a:off x="3751200" y="3033360"/>
              <a:ext cx="5159520" cy="50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7" name=""/>
            <p:cNvSpPr/>
            <p:nvPr/>
          </p:nvSpPr>
          <p:spPr>
            <a:xfrm flipV="1">
              <a:off x="4197240" y="1846080"/>
              <a:ext cx="1800" cy="10443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6906240" y="2530440"/>
              <a:ext cx="1570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Snížení gradientu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onkotických tlaků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 rot="3949800">
              <a:off x="2307240" y="934560"/>
              <a:ext cx="2402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400" spc="-1" strike="noStrike">
                  <a:solidFill>
                    <a:srgbClr val="000000"/>
                  </a:solidFill>
                  <a:latin typeface="Times New Roman"/>
                </a:rPr>
                <a:t>Gradient hydrostatických tlaků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0" name=""/>
            <p:cNvSpPr/>
            <p:nvPr/>
          </p:nvSpPr>
          <p:spPr>
            <a:xfrm flipH="1">
              <a:off x="4598280" y="892080"/>
              <a:ext cx="16329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Hromadění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filtrát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v interstici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1497960" y="3932280"/>
              <a:ext cx="10569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400" spc="-1" strike="noStrike">
                  <a:solidFill>
                    <a:srgbClr val="000000"/>
                  </a:solidFill>
                  <a:latin typeface="Times New Roman"/>
                </a:rPr>
                <a:t>Prekapilární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400" spc="-1" strike="noStrike">
                  <a:solidFill>
                    <a:srgbClr val="000000"/>
                  </a:solidFill>
                  <a:latin typeface="Times New Roman"/>
                </a:rPr>
                <a:t>sfinkt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3960720" y="4964040"/>
              <a:ext cx="7488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4113360" y="511668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4265640" y="526896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4410000" y="558972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3886200" y="457668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3878280" y="410544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4570560" y="445932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4722840" y="4240080"/>
              <a:ext cx="74520" cy="74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4908600" y="429912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5094360" y="435780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5313240" y="4197240"/>
              <a:ext cx="74880" cy="74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5532480" y="403704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5751360" y="3876840"/>
              <a:ext cx="7488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5851440" y="433080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6078600" y="473544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5724360" y="4727520"/>
              <a:ext cx="7488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5370480" y="471960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5083200" y="484668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4662360" y="4846680"/>
              <a:ext cx="7488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5929200" y="5165640"/>
              <a:ext cx="7488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6199200" y="499752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6469200" y="4829040"/>
              <a:ext cx="74520" cy="74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6216480" y="5234040"/>
              <a:ext cx="7488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5877000" y="4627440"/>
              <a:ext cx="74520" cy="74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6459480" y="459432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5624640" y="4221000"/>
              <a:ext cx="74520" cy="74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6738840" y="4691160"/>
              <a:ext cx="7488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6486480" y="5065560"/>
              <a:ext cx="74520" cy="74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7294680" y="4941720"/>
              <a:ext cx="74520" cy="74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6638760" y="5218200"/>
              <a:ext cx="7488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6773760" y="5133960"/>
              <a:ext cx="7488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7142040" y="4764240"/>
              <a:ext cx="7488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7321680" y="511812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7043760" y="4995720"/>
              <a:ext cx="74520" cy="74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6791400" y="537048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6926400" y="5286240"/>
              <a:ext cx="74520" cy="74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7169040" y="4554360"/>
              <a:ext cx="74880" cy="74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4241880" y="449280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4038480" y="4729320"/>
              <a:ext cx="7488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4352760" y="4890960"/>
              <a:ext cx="74880" cy="74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4505400" y="504360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4259160" y="4156200"/>
              <a:ext cx="7488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4583160" y="408456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4657680" y="519588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4967280" y="515160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6126120" y="5754600"/>
              <a:ext cx="74520" cy="74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5119560" y="5303880"/>
              <a:ext cx="7488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5235480" y="4998960"/>
              <a:ext cx="7488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5811840" y="494820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2673360" y="453564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533520" y="504360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1216080" y="491976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1957320" y="460224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2109960" y="475452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1916280" y="4848120"/>
              <a:ext cx="74520" cy="74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2068560" y="500076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2220840" y="515304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2127240" y="4417920"/>
              <a:ext cx="74520" cy="74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2263680" y="4521240"/>
              <a:ext cx="7488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8319960" y="5319720"/>
              <a:ext cx="7488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8177040" y="5024520"/>
              <a:ext cx="7488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8523360" y="508320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8827920" y="5388120"/>
              <a:ext cx="7488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8472600" y="5472000"/>
              <a:ext cx="74520" cy="74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8786880" y="563400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8693280" y="4898880"/>
              <a:ext cx="74520" cy="74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8829720" y="500220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8947080" y="424980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8717040" y="436716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8906040" y="4495680"/>
              <a:ext cx="74520" cy="74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8812080" y="3760920"/>
              <a:ext cx="7488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1081080" y="4240080"/>
              <a:ext cx="74520" cy="74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1436760" y="415620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1233360" y="4392720"/>
              <a:ext cx="7488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1090440" y="4097160"/>
              <a:ext cx="74880" cy="74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1395360" y="440208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1547640" y="4554360"/>
              <a:ext cx="74880" cy="74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1454040" y="3819600"/>
              <a:ext cx="7488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1590840" y="3922560"/>
              <a:ext cx="74520" cy="74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1908000" y="5094360"/>
              <a:ext cx="7488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2414520" y="505944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1790640" y="520380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2211480" y="529596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2220840" y="515304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2500200" y="4791240"/>
              <a:ext cx="7488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2695680" y="471492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3137040" y="469260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3517920" y="460368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3425760" y="414972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3772080" y="444672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3147840" y="4818240"/>
              <a:ext cx="7488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3519360" y="4821120"/>
              <a:ext cx="74880" cy="74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3367080" y="476244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3578400" y="4302000"/>
              <a:ext cx="74520" cy="74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3146400" y="4352760"/>
              <a:ext cx="74520" cy="74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3390840" y="434196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3578400" y="4302000"/>
              <a:ext cx="74520" cy="74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770040" y="5216400"/>
              <a:ext cx="74520" cy="74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932040" y="472284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654120" y="5391000"/>
              <a:ext cx="74520" cy="74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1025640" y="539424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1084320" y="4875120"/>
              <a:ext cx="74520" cy="74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1150920" y="507528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652320" y="4925880"/>
              <a:ext cx="74880" cy="74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152280" y="4321080"/>
              <a:ext cx="74880" cy="74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533520" y="4232160"/>
              <a:ext cx="74520" cy="74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441360" y="377820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163440" y="444672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804960" y="428148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382680" y="4390920"/>
              <a:ext cx="74520" cy="74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593640" y="3930480"/>
              <a:ext cx="74520" cy="74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162000" y="398160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406440" y="397044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593640" y="3930480"/>
              <a:ext cx="74520" cy="74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838080" y="3838680"/>
              <a:ext cx="7488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1089000" y="469584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460440" y="4724280"/>
              <a:ext cx="74520" cy="74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630360" y="516096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0" y="508644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2414520" y="463068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1623960" y="464976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1521000" y="5224320"/>
              <a:ext cx="74520" cy="74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1481040" y="4935600"/>
              <a:ext cx="7488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1633680" y="508788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155520" y="5297400"/>
              <a:ext cx="74520" cy="74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7581960" y="4925880"/>
              <a:ext cx="74520" cy="74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7886880" y="523080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8039160" y="5383080"/>
              <a:ext cx="74520" cy="74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7726320" y="454356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7818480" y="3957480"/>
              <a:ext cx="74520" cy="74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8323200" y="441972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8191440" y="3898800"/>
              <a:ext cx="74520" cy="74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6369120" y="538632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4110120" y="613728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8207280" y="1562040"/>
              <a:ext cx="7488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5386320" y="586908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7246800" y="5751360"/>
              <a:ext cx="74880" cy="74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6831000" y="394020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7194600" y="342756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7415280" y="219708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7104240" y="186228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7391520" y="598320"/>
              <a:ext cx="74520" cy="74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7932600" y="649440"/>
              <a:ext cx="7488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8167680" y="75420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7469280" y="646740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6939000" y="6289560"/>
              <a:ext cx="74520" cy="74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7597800" y="605484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6818040" y="6553080"/>
              <a:ext cx="152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400" spc="-1" strike="noStrike">
                  <a:solidFill>
                    <a:srgbClr val="000000"/>
                  </a:solidFill>
                  <a:latin typeface="Times New Roman"/>
                </a:rPr>
                <a:t>Lymfatická drenáž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4853160" y="5442120"/>
              <a:ext cx="871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400" spc="-1" strike="noStrike">
                  <a:solidFill>
                    <a:srgbClr val="000000"/>
                  </a:solidFill>
                  <a:latin typeface="Times New Roman"/>
                </a:rPr>
                <a:t>bílkovin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8276040" y="1143000"/>
              <a:ext cx="871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400" spc="-1" strike="noStrike">
                  <a:solidFill>
                    <a:srgbClr val="000000"/>
                  </a:solidFill>
                  <a:latin typeface="Times New Roman"/>
                </a:rPr>
                <a:t>bílkovin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2" name=""/>
            <p:cNvSpPr/>
            <p:nvPr/>
          </p:nvSpPr>
          <p:spPr>
            <a:xfrm flipH="1" flipV="1">
              <a:off x="8259480" y="860400"/>
              <a:ext cx="261720" cy="30960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 flipH="1">
              <a:off x="8319600" y="1400040"/>
              <a:ext cx="227160" cy="15264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 flipV="1">
              <a:off x="5419800" y="4992840"/>
              <a:ext cx="17280" cy="51264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 flipH="1" flipV="1">
              <a:off x="5311800" y="5118120"/>
              <a:ext cx="100080" cy="30312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 flipV="1">
              <a:off x="5430960" y="4846320"/>
              <a:ext cx="277560" cy="53172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5408640" y="488628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5641920" y="5614920"/>
              <a:ext cx="471600" cy="1684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 flipH="1">
              <a:off x="891720" y="928800"/>
              <a:ext cx="17276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Intersticiální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tekutin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4181400" y="1189080"/>
              <a:ext cx="463680" cy="555480"/>
            </a:xfrm>
            <a:custGeom>
              <a:avLst/>
              <a:gdLst/>
              <a:ahLst/>
              <a:rect l="l" t="t" r="r" b="b"/>
              <a:pathLst>
                <a:path w="292" h="350">
                  <a:moveTo>
                    <a:pt x="0" y="350"/>
                  </a:moveTo>
                  <a:cubicBezTo>
                    <a:pt x="11" y="302"/>
                    <a:pt x="9" y="121"/>
                    <a:pt x="58" y="63"/>
                  </a:cubicBezTo>
                  <a:cubicBezTo>
                    <a:pt x="107" y="5"/>
                    <a:pt x="243" y="13"/>
                    <a:pt x="292" y="0"/>
                  </a:cubicBezTo>
                </a:path>
              </a:pathLst>
            </a:custGeom>
            <a:noFill/>
            <a:ln w="7632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6886440" y="2664000"/>
              <a:ext cx="0" cy="504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6010200" y="1077840"/>
              <a:ext cx="916200" cy="1501920"/>
            </a:xfrm>
            <a:custGeom>
              <a:avLst/>
              <a:gdLst/>
              <a:ahLst/>
              <a:rect l="l" t="t" r="r" b="b"/>
              <a:pathLst>
                <a:path w="577" h="946">
                  <a:moveTo>
                    <a:pt x="0" y="54"/>
                  </a:moveTo>
                  <a:cubicBezTo>
                    <a:pt x="80" y="70"/>
                    <a:pt x="389" y="0"/>
                    <a:pt x="483" y="149"/>
                  </a:cubicBezTo>
                  <a:cubicBezTo>
                    <a:pt x="577" y="298"/>
                    <a:pt x="546" y="780"/>
                    <a:pt x="563" y="946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6771600" y="3941640"/>
              <a:ext cx="1965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400" spc="-1" strike="noStrike">
                  <a:solidFill>
                    <a:srgbClr val="000000"/>
                  </a:solidFill>
                  <a:latin typeface="Times New Roman"/>
                </a:rPr>
                <a:t>Pokles hladiny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400" spc="-1" strike="noStrike">
                  <a:solidFill>
                    <a:srgbClr val="000000"/>
                  </a:solidFill>
                  <a:latin typeface="Times New Roman"/>
                </a:rPr>
                <a:t>plazmatických bílkov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4" name=""/>
            <p:cNvSpPr/>
            <p:nvPr/>
          </p:nvSpPr>
          <p:spPr>
            <a:xfrm flipV="1">
              <a:off x="7389720" y="3090600"/>
              <a:ext cx="27000" cy="102852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6519240" y="927000"/>
              <a:ext cx="17701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400" spc="-1" strike="noStrike">
                  <a:solidFill>
                    <a:srgbClr val="000000"/>
                  </a:solidFill>
                  <a:latin typeface="Times New Roman"/>
                </a:rPr>
                <a:t>Hromadění bílkov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400" spc="-1" strike="noStrike">
                  <a:solidFill>
                    <a:srgbClr val="000000"/>
                  </a:solidFill>
                  <a:latin typeface="Times New Roman"/>
                </a:rPr>
                <a:t>v intersticiu</a:t>
              </a:r>
              <a:r>
                <a:rPr b="1" lang="cs-CZ" sz="1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6260040" y="158760"/>
              <a:ext cx="225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400" spc="-1" strike="noStrike">
                  <a:solidFill>
                    <a:srgbClr val="000000"/>
                  </a:solidFill>
                  <a:latin typeface="Times New Roman"/>
                </a:rPr>
                <a:t>Snížená lymfatická drenáž</a:t>
              </a:r>
              <a:r>
                <a:rPr b="1" lang="cs-CZ" sz="1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7188120" y="571680"/>
              <a:ext cx="1800" cy="42192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7307280" y="1490760"/>
              <a:ext cx="1440" cy="105408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7130880" y="6148440"/>
              <a:ext cx="7488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6786720" y="574524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7091280" y="644220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6108840" y="6534000"/>
              <a:ext cx="74520" cy="74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6505560" y="627372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64" name=""/>
            <p:cNvGrpSpPr/>
            <p:nvPr/>
          </p:nvGrpSpPr>
          <p:grpSpPr>
            <a:xfrm>
              <a:off x="8382600" y="45000"/>
              <a:ext cx="1019160" cy="828720"/>
              <a:chOff x="8382600" y="45000"/>
              <a:chExt cx="1019160" cy="828720"/>
            </a:xfrm>
          </p:grpSpPr>
          <p:sp>
            <p:nvSpPr>
              <p:cNvPr id="1665" name=""/>
              <p:cNvSpPr/>
              <p:nvPr/>
            </p:nvSpPr>
            <p:spPr>
              <a:xfrm flipH="1" rot="13944000">
                <a:off x="8832960" y="-141120"/>
                <a:ext cx="117360" cy="1196640"/>
              </a:xfrm>
              <a:prstGeom prst="can">
                <a:avLst>
                  <a:gd name="adj" fmla="val 25000"/>
                </a:avLst>
              </a:prstGeom>
              <a:solidFill>
                <a:srgbClr val="ff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6" name=""/>
              <p:cNvSpPr/>
              <p:nvPr/>
            </p:nvSpPr>
            <p:spPr>
              <a:xfrm rot="19114800">
                <a:off x="8379000" y="674640"/>
                <a:ext cx="316080" cy="108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67" name=""/>
            <p:cNvSpPr/>
            <p:nvPr/>
          </p:nvSpPr>
          <p:spPr>
            <a:xfrm>
              <a:off x="7664400" y="642636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8012160" y="6130800"/>
              <a:ext cx="74520" cy="74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7902720" y="6359400"/>
              <a:ext cx="74520" cy="74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3941640" y="6399360"/>
              <a:ext cx="7488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4853160" y="621504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4567320" y="659448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8359920" y="171468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7753320" y="191772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7813800" y="2271600"/>
              <a:ext cx="74520" cy="74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8050320" y="192564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77" name=""/>
            <p:cNvGrpSpPr/>
            <p:nvPr/>
          </p:nvGrpSpPr>
          <p:grpSpPr>
            <a:xfrm>
              <a:off x="8034840" y="6327000"/>
              <a:ext cx="1019160" cy="828720"/>
              <a:chOff x="8034840" y="6327000"/>
              <a:chExt cx="1019160" cy="828720"/>
            </a:xfrm>
          </p:grpSpPr>
          <p:sp>
            <p:nvSpPr>
              <p:cNvPr id="1678" name=""/>
              <p:cNvSpPr/>
              <p:nvPr/>
            </p:nvSpPr>
            <p:spPr>
              <a:xfrm flipH="1" flipV="1" rot="7656000">
                <a:off x="8485200" y="6145560"/>
                <a:ext cx="117360" cy="1196640"/>
              </a:xfrm>
              <a:prstGeom prst="can">
                <a:avLst>
                  <a:gd name="adj" fmla="val 25000"/>
                </a:avLst>
              </a:prstGeom>
              <a:solidFill>
                <a:srgbClr val="ff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9" name=""/>
              <p:cNvSpPr/>
              <p:nvPr/>
            </p:nvSpPr>
            <p:spPr>
              <a:xfrm flipV="1" rot="2485200">
                <a:off x="8031240" y="6417720"/>
                <a:ext cx="316080" cy="108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80" name=""/>
            <p:cNvSpPr/>
            <p:nvPr/>
          </p:nvSpPr>
          <p:spPr>
            <a:xfrm>
              <a:off x="7818480" y="1608120"/>
              <a:ext cx="7452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6999120" y="1238400"/>
              <a:ext cx="7488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7443720" y="1639800"/>
              <a:ext cx="74520" cy="74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7688160" y="826920"/>
              <a:ext cx="74880" cy="74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84" name=""/>
            <p:cNvGrpSpPr/>
            <p:nvPr/>
          </p:nvGrpSpPr>
          <p:grpSpPr>
            <a:xfrm>
              <a:off x="-358920" y="0"/>
              <a:ext cx="9866160" cy="7175520"/>
              <a:chOff x="-358920" y="0"/>
              <a:chExt cx="9866160" cy="7175520"/>
            </a:xfrm>
          </p:grpSpPr>
          <p:sp>
            <p:nvSpPr>
              <p:cNvPr id="1685" name=""/>
              <p:cNvSpPr/>
              <p:nvPr/>
            </p:nvSpPr>
            <p:spPr>
              <a:xfrm>
                <a:off x="9142200" y="0"/>
                <a:ext cx="357120" cy="6858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6" name=""/>
              <p:cNvSpPr/>
              <p:nvPr/>
            </p:nvSpPr>
            <p:spPr>
              <a:xfrm>
                <a:off x="-358920" y="0"/>
                <a:ext cx="357120" cy="6980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7" name=""/>
              <p:cNvSpPr/>
              <p:nvPr/>
            </p:nvSpPr>
            <p:spPr>
              <a:xfrm>
                <a:off x="-358920" y="6858000"/>
                <a:ext cx="9866160" cy="317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30T11:12:10Z</dcterms:created>
  <dc:creator>Jiří a Radana Kofránkovi</dc:creator>
  <dc:description/>
  <dc:language>en-US</dc:language>
  <cp:lastModifiedBy>Viliam</cp:lastModifiedBy>
  <cp:lastPrinted>1998-10-19T09:48:11Z</cp:lastPrinted>
  <dcterms:modified xsi:type="dcterms:W3CDTF">2006-05-09T12:26:26Z</dcterms:modified>
  <cp:revision>12</cp:revision>
  <dc:subject/>
  <dc:title>Bez nadpisu</dc:title>
</cp:coreProperties>
</file>